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"/>
          <p:cNvSpPr/>
          <p:nvPr/>
        </p:nvSpPr>
        <p:spPr>
          <a:xfrm flipH="1">
            <a:off x="9763920" y="0"/>
            <a:ext cx="2427480" cy="6858000"/>
          </a:xfrm>
          <a:prstGeom prst="rect">
            <a:avLst/>
          </a:pr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7943760" y="666720"/>
            <a:ext cx="3641760" cy="5543640"/>
          </a:xfrm>
          <a:prstGeom prst="rect">
            <a:avLst/>
          </a:prstGeom>
          <a:solidFill>
            <a:srgbClr val="1f4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609480" y="4324320"/>
            <a:ext cx="4629240" cy="2533680"/>
          </a:xfrm>
          <a:prstGeom prst="rect">
            <a:avLst/>
          </a:prstGeom>
          <a:solidFill>
            <a:srgbClr val="1f4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7037280" y="0"/>
            <a:ext cx="5154840" cy="6858000"/>
          </a:xfrm>
          <a:prstGeom prst="rect">
            <a:avLst/>
          </a:prstGeom>
          <a:solidFill>
            <a:srgbClr val="1f4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"/>
          <p:cNvSpPr/>
          <p:nvPr/>
        </p:nvSpPr>
        <p:spPr>
          <a:xfrm flipH="1">
            <a:off x="-720" y="0"/>
            <a:ext cx="5181480" cy="6858000"/>
          </a:xfrm>
          <a:prstGeom prst="rect">
            <a:avLst/>
          </a:pr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7010280" cy="4381560"/>
          </a:xfrm>
          <a:prstGeom prst="rect">
            <a:avLst/>
          </a:prstGeom>
          <a:solidFill>
            <a:srgbClr val="1f4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"/>
          <p:cNvSpPr/>
          <p:nvPr/>
        </p:nvSpPr>
        <p:spPr>
          <a:xfrm flipH="1">
            <a:off x="0" y="0"/>
            <a:ext cx="3378240" cy="6858000"/>
          </a:xfrm>
          <a:prstGeom prst="rect">
            <a:avLst/>
          </a:pr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642960" y="666720"/>
            <a:ext cx="4533840" cy="5524560"/>
            <a:chOff x="642960" y="666720"/>
            <a:chExt cx="4533840" cy="5524560"/>
          </a:xfrm>
        </p:grpSpPr>
        <p:sp>
          <p:nvSpPr>
            <p:cNvPr id="533" name="Rectangle 3"/>
            <p:cNvSpPr/>
            <p:nvPr/>
          </p:nvSpPr>
          <p:spPr>
            <a:xfrm>
              <a:off x="642960" y="666720"/>
              <a:ext cx="4533840" cy="55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 rot="5400000">
              <a:off x="2880360" y="-727920"/>
              <a:ext cx="45720" cy="2835360"/>
            </a:xfrm>
            <a:prstGeom prst="rect">
              <a:avLst/>
            </a:prstGeom>
            <a:solidFill>
              <a:srgbClr val="136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 flipH="1">
            <a:off x="608760" y="0"/>
            <a:ext cx="4286520" cy="6858000"/>
          </a:xfrm>
          <a:prstGeom prst="rect">
            <a:avLst/>
          </a:pr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"/>
          <p:cNvSpPr/>
          <p:nvPr/>
        </p:nvSpPr>
        <p:spPr>
          <a:xfrm>
            <a:off x="6997680" y="5892840"/>
            <a:ext cx="5194440" cy="965160"/>
          </a:xfrm>
          <a:prstGeom prst="rect">
            <a:avLst/>
          </a:prstGeom>
          <a:solidFill>
            <a:srgbClr val="1f4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7029360" y="0"/>
            <a:ext cx="5162760" cy="6858000"/>
          </a:xfrm>
          <a:prstGeom prst="rect">
            <a:avLst/>
          </a:prstGeom>
          <a:solidFill>
            <a:srgbClr val="1f4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 SemiBold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oppi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Poppins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Poppins"/>
              </a:rPr>
              <a:t>Third Outline Level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"/>
              </a:rPr>
              <a:t>Fourth Outline Level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"/>
              </a:rPr>
              <a:t>Fifth Outline Level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  <a:p>
            <a:pPr lvl="5" marL="2057400" indent="-2286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"/>
              </a:rPr>
              <a:t>Sixth Outline Level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  <a:p>
            <a:pPr lvl="6" marL="2057400" indent="-2286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"/>
              </a:rPr>
              <a:t>Seventh Outline Level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 flipH="1">
            <a:off x="-720" y="0"/>
            <a:ext cx="6095880" cy="6858000"/>
          </a:xfrm>
          <a:prstGeom prst="rect">
            <a:avLst/>
          </a:pr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 flipH="1">
            <a:off x="-720" y="3429000"/>
            <a:ext cx="12192120" cy="3429000"/>
          </a:xfrm>
          <a:prstGeom prst="rect">
            <a:avLst/>
          </a:pr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"/>
          <p:cNvGrpSpPr/>
          <p:nvPr/>
        </p:nvGrpSpPr>
        <p:grpSpPr>
          <a:xfrm>
            <a:off x="6080040" y="0"/>
            <a:ext cx="6112080" cy="6858000"/>
            <a:chOff x="6080040" y="0"/>
            <a:chExt cx="6112080" cy="6858000"/>
          </a:xfrm>
        </p:grpSpPr>
        <p:sp>
          <p:nvSpPr>
            <p:cNvPr id="150" name="Rectangle 2"/>
            <p:cNvSpPr/>
            <p:nvPr/>
          </p:nvSpPr>
          <p:spPr>
            <a:xfrm flipH="1">
              <a:off x="6080040" y="0"/>
              <a:ext cx="6112080" cy="6858000"/>
            </a:xfrm>
            <a:prstGeom prst="rect">
              <a:avLst/>
            </a:prstGeom>
            <a:solidFill>
              <a:srgbClr val="dfeaf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51" name="Rectangle 3"/>
            <p:cNvSpPr/>
            <p:nvPr/>
          </p:nvSpPr>
          <p:spPr>
            <a:xfrm>
              <a:off x="6519600" y="793440"/>
              <a:ext cx="255132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9201240" y="793440"/>
              <a:ext cx="2551320" cy="2558880"/>
            </a:xfrm>
            <a:prstGeom prst="rect">
              <a:avLst/>
            </a:prstGeom>
            <a:solidFill>
              <a:srgbClr val="136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6519600" y="3505320"/>
              <a:ext cx="255132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9201240" y="3505320"/>
              <a:ext cx="255132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"/>
          <p:cNvGrpSpPr/>
          <p:nvPr/>
        </p:nvGrpSpPr>
        <p:grpSpPr>
          <a:xfrm>
            <a:off x="595080" y="2286000"/>
            <a:ext cx="11001600" cy="3886200"/>
            <a:chOff x="595080" y="2286000"/>
            <a:chExt cx="11001600" cy="3886200"/>
          </a:xfrm>
        </p:grpSpPr>
        <p:sp>
          <p:nvSpPr>
            <p:cNvPr id="192" name="Rectangle 2"/>
            <p:cNvSpPr/>
            <p:nvPr/>
          </p:nvSpPr>
          <p:spPr>
            <a:xfrm>
              <a:off x="8845560" y="2286000"/>
              <a:ext cx="2751120" cy="3886200"/>
            </a:xfrm>
            <a:prstGeom prst="rect">
              <a:avLst/>
            </a:prstGeom>
            <a:solidFill>
              <a:srgbClr val="5d9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93" name="Freeform: Shape 3"/>
            <p:cNvSpPr/>
            <p:nvPr/>
          </p:nvSpPr>
          <p:spPr>
            <a:xfrm rot="5400000">
              <a:off x="5747760" y="2633400"/>
              <a:ext cx="3886200" cy="3190680"/>
            </a:xfrm>
            <a:custGeom>
              <a:avLst/>
              <a:gdLst/>
              <a:ahLst/>
              <a:rect l="l" t="t" r="r" b="b"/>
              <a:pathLst>
                <a:path w="4116558" h="3827148">
                  <a:moveTo>
                    <a:pt x="0" y="3827148"/>
                  </a:moveTo>
                  <a:lnTo>
                    <a:pt x="0" y="527687"/>
                  </a:lnTo>
                  <a:lnTo>
                    <a:pt x="557159" y="527687"/>
                  </a:lnTo>
                  <a:lnTo>
                    <a:pt x="919735" y="0"/>
                  </a:lnTo>
                  <a:lnTo>
                    <a:pt x="1282311" y="527687"/>
                  </a:lnTo>
                  <a:lnTo>
                    <a:pt x="4116558" y="527687"/>
                  </a:lnTo>
                  <a:lnTo>
                    <a:pt x="4116558" y="3827148"/>
                  </a:lnTo>
                  <a:lnTo>
                    <a:pt x="0" y="3827148"/>
                  </a:lnTo>
                  <a:close/>
                </a:path>
              </a:pathLst>
            </a:custGeom>
            <a:solidFill>
              <a:srgbClr val="3a7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94" name="Freeform: Shape 4"/>
            <p:cNvSpPr/>
            <p:nvPr/>
          </p:nvSpPr>
          <p:spPr>
            <a:xfrm rot="5400000">
              <a:off x="2996640" y="2633400"/>
              <a:ext cx="3886200" cy="3190680"/>
            </a:xfrm>
            <a:custGeom>
              <a:avLst/>
              <a:gdLst/>
              <a:ahLst/>
              <a:rect l="l" t="t" r="r" b="b"/>
              <a:pathLst>
                <a:path w="4116558" h="3827148">
                  <a:moveTo>
                    <a:pt x="0" y="3827148"/>
                  </a:moveTo>
                  <a:lnTo>
                    <a:pt x="0" y="527687"/>
                  </a:lnTo>
                  <a:lnTo>
                    <a:pt x="557159" y="527687"/>
                  </a:lnTo>
                  <a:lnTo>
                    <a:pt x="919735" y="0"/>
                  </a:lnTo>
                  <a:lnTo>
                    <a:pt x="1282311" y="527687"/>
                  </a:lnTo>
                  <a:lnTo>
                    <a:pt x="4116558" y="527687"/>
                  </a:lnTo>
                  <a:lnTo>
                    <a:pt x="4116558" y="3827148"/>
                  </a:lnTo>
                  <a:lnTo>
                    <a:pt x="0" y="3827148"/>
                  </a:lnTo>
                  <a:close/>
                </a:path>
              </a:pathLst>
            </a:custGeom>
            <a:solidFill>
              <a:srgbClr val="136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95" name="Freeform: Shape 5"/>
            <p:cNvSpPr/>
            <p:nvPr/>
          </p:nvSpPr>
          <p:spPr>
            <a:xfrm rot="5400000">
              <a:off x="247320" y="2633400"/>
              <a:ext cx="3886200" cy="3190680"/>
            </a:xfrm>
            <a:custGeom>
              <a:avLst/>
              <a:gdLst/>
              <a:ahLst/>
              <a:rect l="l" t="t" r="r" b="b"/>
              <a:pathLst>
                <a:path w="4116558" h="3827148">
                  <a:moveTo>
                    <a:pt x="0" y="3827148"/>
                  </a:moveTo>
                  <a:lnTo>
                    <a:pt x="0" y="527687"/>
                  </a:lnTo>
                  <a:lnTo>
                    <a:pt x="557159" y="527687"/>
                  </a:lnTo>
                  <a:lnTo>
                    <a:pt x="919735" y="0"/>
                  </a:lnTo>
                  <a:lnTo>
                    <a:pt x="1282311" y="527687"/>
                  </a:lnTo>
                  <a:lnTo>
                    <a:pt x="4116558" y="527687"/>
                  </a:lnTo>
                  <a:lnTo>
                    <a:pt x="4116558" y="3827148"/>
                  </a:lnTo>
                  <a:lnTo>
                    <a:pt x="0" y="3827148"/>
                  </a:lnTo>
                  <a:close/>
                </a:path>
              </a:pathLst>
            </a:custGeom>
            <a:solidFill>
              <a:srgbClr val="1f4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 flipH="1">
            <a:off x="6095880" y="0"/>
            <a:ext cx="6096240" cy="6858000"/>
          </a:xfrm>
          <a:prstGeom prst="rect">
            <a:avLst/>
          </a:prstGeom>
          <a:solidFill>
            <a:srgbClr val="1f4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6796080" y="1515960"/>
            <a:ext cx="4668840" cy="2741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 flipH="1">
            <a:off x="7010280" y="0"/>
            <a:ext cx="5181840" cy="6858000"/>
          </a:xfrm>
          <a:prstGeom prst="rect">
            <a:avLst/>
          </a:pr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7696080" y="933480"/>
            <a:ext cx="3810240" cy="4991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"/>
          <p:cNvSpPr/>
          <p:nvPr/>
        </p:nvSpPr>
        <p:spPr>
          <a:xfrm flipH="1">
            <a:off x="2547720" y="3927600"/>
            <a:ext cx="7273800" cy="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4"/>
          <p:cNvSpPr/>
          <p:nvPr/>
        </p:nvSpPr>
        <p:spPr>
          <a:xfrm flipH="1">
            <a:off x="585720" y="2903400"/>
            <a:ext cx="3262320" cy="3954600"/>
          </a:xfrm>
          <a:prstGeom prst="rect">
            <a:avLst/>
          </a:pr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646" name="Group 23"/>
          <p:cNvGrpSpPr/>
          <p:nvPr/>
        </p:nvGrpSpPr>
        <p:grpSpPr>
          <a:xfrm>
            <a:off x="887400" y="1494000"/>
            <a:ext cx="5570640" cy="3488040"/>
            <a:chOff x="887400" y="1494000"/>
            <a:chExt cx="5570640" cy="3488040"/>
          </a:xfrm>
        </p:grpSpPr>
        <p:sp>
          <p:nvSpPr>
            <p:cNvPr id="647" name="TextBox 5"/>
            <p:cNvSpPr/>
            <p:nvPr/>
          </p:nvSpPr>
          <p:spPr>
            <a:xfrm>
              <a:off x="887400" y="2057400"/>
              <a:ext cx="372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1363df"/>
                  </a:solidFill>
                  <a:latin typeface="Poppins SemiBold"/>
                </a:rPr>
                <a:t>Hi There,</a:t>
              </a:r>
              <a:endParaRPr b="0" lang="en-US" sz="4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48" name="TextBox 8"/>
            <p:cNvSpPr/>
            <p:nvPr/>
          </p:nvSpPr>
          <p:spPr>
            <a:xfrm>
              <a:off x="887400" y="2903760"/>
              <a:ext cx="5570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f3f3f"/>
                  </a:solidFill>
                  <a:latin typeface="Poppins SemiBold"/>
                </a:rPr>
                <a:t>I’m Roman Dune</a:t>
              </a:r>
              <a:endParaRPr b="0" lang="en-US" sz="4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49" name="TextBox 10"/>
            <p:cNvSpPr/>
            <p:nvPr/>
          </p:nvSpPr>
          <p:spPr>
            <a:xfrm>
              <a:off x="948600" y="4583160"/>
              <a:ext cx="202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363df"/>
                  </a:solidFill>
                  <a:latin typeface="Poppins"/>
                </a:rPr>
                <a:t>UI/UX Designer</a:t>
              </a:r>
              <a:endParaRPr b="0" lang="en-US" sz="20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50" name="TextBox 11"/>
            <p:cNvSpPr/>
            <p:nvPr/>
          </p:nvSpPr>
          <p:spPr>
            <a:xfrm>
              <a:off x="909360" y="149400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Poppins"/>
                </a:rPr>
                <a:t>RESUME</a:t>
              </a: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51" name="Straight Connector 14"/>
            <p:cNvSpPr/>
            <p:nvPr/>
          </p:nvSpPr>
          <p:spPr>
            <a:xfrm>
              <a:off x="3135240" y="4843440"/>
              <a:ext cx="1944720" cy="0"/>
            </a:xfrm>
            <a:prstGeom prst="line">
              <a:avLst/>
            </a:prstGeom>
            <a:ln w="6480">
              <a:solidFill>
                <a:srgbClr val="1363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652" name="TextBox 16"/>
          <p:cNvSpPr/>
          <p:nvPr/>
        </p:nvSpPr>
        <p:spPr>
          <a:xfrm>
            <a:off x="7524000" y="620568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www.yourcv.com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3" name="TextBox 17"/>
          <p:cNvSpPr/>
          <p:nvPr/>
        </p:nvSpPr>
        <p:spPr>
          <a:xfrm>
            <a:off x="9948240" y="62056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+123 123 1234 12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4" name="Rectangle 35"/>
          <p:cNvSpPr/>
          <p:nvPr/>
        </p:nvSpPr>
        <p:spPr>
          <a:xfrm>
            <a:off x="585720" y="0"/>
            <a:ext cx="5486400" cy="921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5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6" name="TextBox 14"/>
          <p:cNvSpPr/>
          <p:nvPr/>
        </p:nvSpPr>
        <p:spPr>
          <a:xfrm>
            <a:off x="8008920" y="3828960"/>
            <a:ext cx="3473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Times New Roman"/>
              </a:rPr>
              <a:t>Nam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Times New Roman"/>
              </a:rPr>
              <a:t>: Roman Dun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Birth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24 January 199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Address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Jakarta, Indonesia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Phon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+123 1234 123 1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Email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yourcv@email.com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Freelanc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Availabl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7" name="Freeform 850"/>
          <p:cNvSpPr/>
          <p:nvPr/>
        </p:nvSpPr>
        <p:spPr>
          <a:xfrm>
            <a:off x="8840880" y="6089760"/>
            <a:ext cx="218880" cy="21888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8" name="Freeform 1536"/>
          <p:cNvSpPr/>
          <p:nvPr/>
        </p:nvSpPr>
        <p:spPr>
          <a:xfrm>
            <a:off x="8085240" y="6083280"/>
            <a:ext cx="230040" cy="23328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9" name="Freeform 6"/>
          <p:cNvSpPr/>
          <p:nvPr/>
        </p:nvSpPr>
        <p:spPr>
          <a:xfrm>
            <a:off x="8462880" y="6083280"/>
            <a:ext cx="228600" cy="23184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0" name="TextBox 18"/>
          <p:cNvSpPr/>
          <p:nvPr/>
        </p:nvSpPr>
        <p:spPr>
          <a:xfrm>
            <a:off x="9356760" y="5961240"/>
            <a:ext cx="1687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@romandun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1" name="TextBox 20"/>
          <p:cNvSpPr/>
          <p:nvPr/>
        </p:nvSpPr>
        <p:spPr>
          <a:xfrm>
            <a:off x="488880" y="803160"/>
            <a:ext cx="36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Poppins SemiBold"/>
              </a:rPr>
              <a:t>Sum</a:t>
            </a:r>
            <a:r>
              <a:rPr b="0" lang="en-US" sz="4800" spc="-1" strike="noStrike">
                <a:solidFill>
                  <a:srgbClr val="1363df"/>
                </a:solidFill>
                <a:latin typeface="Poppins SemiBold"/>
              </a:rPr>
              <a:t>mary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2" name="Straight Connector 21"/>
          <p:cNvSpPr/>
          <p:nvPr/>
        </p:nvSpPr>
        <p:spPr>
          <a:xfrm>
            <a:off x="4014720" y="1211400"/>
            <a:ext cx="119556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3" name="TextBox 22"/>
          <p:cNvSpPr/>
          <p:nvPr/>
        </p:nvSpPr>
        <p:spPr>
          <a:xfrm>
            <a:off x="503280" y="1862280"/>
            <a:ext cx="5843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4" name="Oval 23"/>
          <p:cNvSpPr/>
          <p:nvPr/>
        </p:nvSpPr>
        <p:spPr>
          <a:xfrm>
            <a:off x="595440" y="3121200"/>
            <a:ext cx="172800" cy="1746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5" name="TextBox 24"/>
          <p:cNvSpPr/>
          <p:nvPr/>
        </p:nvSpPr>
        <p:spPr>
          <a:xfrm>
            <a:off x="836640" y="296388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Layouts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6" name="Oval 25"/>
          <p:cNvSpPr/>
          <p:nvPr/>
        </p:nvSpPr>
        <p:spPr>
          <a:xfrm>
            <a:off x="2639880" y="3121200"/>
            <a:ext cx="174600" cy="1746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7" name="TextBox 26"/>
          <p:cNvSpPr/>
          <p:nvPr/>
        </p:nvSpPr>
        <p:spPr>
          <a:xfrm>
            <a:off x="2882880" y="296388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UI Analysis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8" name="Oval 27"/>
          <p:cNvSpPr/>
          <p:nvPr/>
        </p:nvSpPr>
        <p:spPr>
          <a:xfrm>
            <a:off x="4675320" y="3121200"/>
            <a:ext cx="174600" cy="1746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9" name="TextBox 28"/>
          <p:cNvSpPr/>
          <p:nvPr/>
        </p:nvSpPr>
        <p:spPr>
          <a:xfrm>
            <a:off x="4917960" y="296388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UX Analysis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0" name="TextBox 29"/>
          <p:cNvSpPr/>
          <p:nvPr/>
        </p:nvSpPr>
        <p:spPr>
          <a:xfrm>
            <a:off x="836640" y="3308400"/>
            <a:ext cx="592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363df"/>
                </a:solidFill>
                <a:latin typeface="Poppins"/>
                <a:ea typeface="Times New Roman"/>
              </a:rPr>
              <a:t>85%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1" name="TextBox 30"/>
          <p:cNvSpPr/>
          <p:nvPr/>
        </p:nvSpPr>
        <p:spPr>
          <a:xfrm>
            <a:off x="2882880" y="3308400"/>
            <a:ext cx="592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363df"/>
                </a:solidFill>
                <a:latin typeface="Poppins"/>
                <a:ea typeface="Times New Roman"/>
              </a:rPr>
              <a:t>90%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2" name="TextBox 31"/>
          <p:cNvSpPr/>
          <p:nvPr/>
        </p:nvSpPr>
        <p:spPr>
          <a:xfrm>
            <a:off x="4917960" y="3308400"/>
            <a:ext cx="592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363df"/>
                </a:solidFill>
                <a:latin typeface="Poppins"/>
                <a:ea typeface="Times New Roman"/>
              </a:rPr>
              <a:t>90%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3" name="Straight Connector 33"/>
          <p:cNvSpPr/>
          <p:nvPr/>
        </p:nvSpPr>
        <p:spPr>
          <a:xfrm>
            <a:off x="579600" y="4092480"/>
            <a:ext cx="604836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4" name="TextBox 34"/>
          <p:cNvSpPr/>
          <p:nvPr/>
        </p:nvSpPr>
        <p:spPr>
          <a:xfrm>
            <a:off x="503280" y="4262400"/>
            <a:ext cx="31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Poppins SemiBold"/>
                <a:ea typeface="Open Sans"/>
              </a:rPr>
              <a:t>Employee History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5" name="TextBox 36"/>
          <p:cNvSpPr/>
          <p:nvPr/>
        </p:nvSpPr>
        <p:spPr>
          <a:xfrm>
            <a:off x="519120" y="55260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Ju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6" name="TextBox 37"/>
          <p:cNvSpPr/>
          <p:nvPr/>
        </p:nvSpPr>
        <p:spPr>
          <a:xfrm>
            <a:off x="519120" y="588636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7" name="TextBox 38"/>
          <p:cNvSpPr/>
          <p:nvPr/>
        </p:nvSpPr>
        <p:spPr>
          <a:xfrm>
            <a:off x="519120" y="516888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2 - 2015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8" name="TextBox 41"/>
          <p:cNvSpPr/>
          <p:nvPr/>
        </p:nvSpPr>
        <p:spPr>
          <a:xfrm>
            <a:off x="2622600" y="552600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9" name="TextBox 42"/>
          <p:cNvSpPr/>
          <p:nvPr/>
        </p:nvSpPr>
        <p:spPr>
          <a:xfrm>
            <a:off x="2622600" y="588636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0" name="TextBox 43"/>
          <p:cNvSpPr/>
          <p:nvPr/>
        </p:nvSpPr>
        <p:spPr>
          <a:xfrm>
            <a:off x="2622600" y="516888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5 - 2018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1" name="TextBox 45"/>
          <p:cNvSpPr/>
          <p:nvPr/>
        </p:nvSpPr>
        <p:spPr>
          <a:xfrm>
            <a:off x="4726080" y="552600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2" name="TextBox 46"/>
          <p:cNvSpPr/>
          <p:nvPr/>
        </p:nvSpPr>
        <p:spPr>
          <a:xfrm>
            <a:off x="4726080" y="588636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3" name="TextBox 47"/>
          <p:cNvSpPr/>
          <p:nvPr/>
        </p:nvSpPr>
        <p:spPr>
          <a:xfrm>
            <a:off x="4726080" y="5168880"/>
            <a:ext cx="175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Box 37"/>
          <p:cNvSpPr/>
          <p:nvPr/>
        </p:nvSpPr>
        <p:spPr>
          <a:xfrm>
            <a:off x="1003320" y="5083200"/>
            <a:ext cx="384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ffffff"/>
                </a:solidFill>
                <a:latin typeface="Poppins SemiBold"/>
              </a:rPr>
              <a:t>Experience slick whiteboard usability whiteboard users, clean users goal.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5" name="Freeform: Shape 80"/>
          <p:cNvSpPr/>
          <p:nvPr/>
        </p:nvSpPr>
        <p:spPr>
          <a:xfrm flipV="1">
            <a:off x="9910800" y="4707000"/>
            <a:ext cx="1155600" cy="11556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6" name="Freeform: Shape 78"/>
          <p:cNvSpPr/>
          <p:nvPr/>
        </p:nvSpPr>
        <p:spPr>
          <a:xfrm flipV="1">
            <a:off x="5745240" y="4695840"/>
            <a:ext cx="118404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7" name="Block Arc 70"/>
          <p:cNvSpPr/>
          <p:nvPr/>
        </p:nvSpPr>
        <p:spPr>
          <a:xfrm rot="16200000">
            <a:off x="5759280" y="4709880"/>
            <a:ext cx="1155600" cy="115596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388997" y="1123968"/>
                </a:moveTo>
                <a:cubicBezTo>
                  <a:pt x="109701" y="1027385"/>
                  <a:pt x="-51712" y="735635"/>
                  <a:pt x="14847" y="447704"/>
                </a:cubicBezTo>
                <a:cubicBezTo>
                  <a:pt x="81406" y="159773"/>
                  <a:pt x="354486" y="-31538"/>
                  <a:pt x="647835" y="4254"/>
                </a:cubicBezTo>
                <a:cubicBezTo>
                  <a:pt x="941183" y="40045"/>
                  <a:pt x="1160254" y="291404"/>
                  <a:pt x="1155630" y="586891"/>
                </a:cubicBezTo>
                <a:lnTo>
                  <a:pt x="1018453" y="584744"/>
                </a:lnTo>
                <a:cubicBezTo>
                  <a:pt x="1021979" y="359411"/>
                  <a:pt x="854920" y="167730"/>
                  <a:pt x="631219" y="140436"/>
                </a:cubicBezTo>
                <a:cubicBezTo>
                  <a:pt x="407517" y="113142"/>
                  <a:pt x="199272" y="259032"/>
                  <a:pt x="148515" y="478603"/>
                </a:cubicBezTo>
                <a:cubicBezTo>
                  <a:pt x="97758" y="698173"/>
                  <a:pt x="220849" y="920656"/>
                  <a:pt x="433835" y="994309"/>
                </a:cubicBezTo>
                <a:lnTo>
                  <a:pt x="388997" y="1123968"/>
                </a:lnTo>
                <a:close/>
              </a:path>
            </a:pathLst>
          </a:custGeom>
          <a:solidFill>
            <a:srgbClr val="5d9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8" name="Freeform: Shape 79"/>
          <p:cNvSpPr/>
          <p:nvPr/>
        </p:nvSpPr>
        <p:spPr>
          <a:xfrm flipV="1">
            <a:off x="7819920" y="4692600"/>
            <a:ext cx="118584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9" name="TextBox 38"/>
          <p:cNvSpPr/>
          <p:nvPr/>
        </p:nvSpPr>
        <p:spPr>
          <a:xfrm>
            <a:off x="5619600" y="803160"/>
            <a:ext cx="36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Poppins SemiBold"/>
              </a:rPr>
              <a:t>Roman </a:t>
            </a:r>
            <a:r>
              <a:rPr b="0" lang="en-US" sz="3600" spc="-1" strike="noStrike">
                <a:solidFill>
                  <a:srgbClr val="1363df"/>
                </a:solidFill>
                <a:latin typeface="Poppins SemiBold"/>
              </a:rPr>
              <a:t>Dune</a:t>
            </a:r>
            <a:endParaRPr b="0" lang="en-US" sz="3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0" name="Straight Connector 39"/>
          <p:cNvSpPr/>
          <p:nvPr/>
        </p:nvSpPr>
        <p:spPr>
          <a:xfrm>
            <a:off x="8958240" y="1116000"/>
            <a:ext cx="119556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1" name="TextBox 40"/>
          <p:cNvSpPr/>
          <p:nvPr/>
        </p:nvSpPr>
        <p:spPr>
          <a:xfrm>
            <a:off x="5629320" y="56340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Poppins"/>
              </a:rPr>
              <a:t>SUMMARY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2" name="TextBox 41"/>
          <p:cNvSpPr/>
          <p:nvPr/>
        </p:nvSpPr>
        <p:spPr>
          <a:xfrm>
            <a:off x="5637240" y="1406520"/>
            <a:ext cx="1195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Poppins SemiBold"/>
                <a:ea typeface="Open Sans"/>
              </a:rPr>
              <a:t>UI/UX Designer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3" name="TextBox 42"/>
          <p:cNvSpPr/>
          <p:nvPr/>
        </p:nvSpPr>
        <p:spPr>
          <a:xfrm>
            <a:off x="6750000" y="1406520"/>
            <a:ext cx="12844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Poppins"/>
                <a:ea typeface="Open Sans"/>
              </a:rPr>
              <a:t>UI/UX Researcher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4" name="TextBox 43"/>
          <p:cNvSpPr/>
          <p:nvPr/>
        </p:nvSpPr>
        <p:spPr>
          <a:xfrm>
            <a:off x="7951680" y="1406520"/>
            <a:ext cx="1195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Poppins"/>
                <a:ea typeface="Open Sans"/>
              </a:rPr>
              <a:t>UI/UX Developer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5" name="TextBox 44"/>
          <p:cNvSpPr/>
          <p:nvPr/>
        </p:nvSpPr>
        <p:spPr>
          <a:xfrm>
            <a:off x="5715720" y="198288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5959"/>
                </a:solidFill>
                <a:latin typeface="Poppins"/>
              </a:rPr>
              <a:t>www.yourcv.com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6" name="TextBox 45"/>
          <p:cNvSpPr/>
          <p:nvPr/>
        </p:nvSpPr>
        <p:spPr>
          <a:xfrm>
            <a:off x="7644240" y="1982880"/>
            <a:ext cx="118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5959"/>
                </a:solidFill>
                <a:latin typeface="Poppins"/>
              </a:rPr>
              <a:t>+123 234 1234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7" name="TextBox 46"/>
          <p:cNvSpPr/>
          <p:nvPr/>
        </p:nvSpPr>
        <p:spPr>
          <a:xfrm>
            <a:off x="9307080" y="198288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5959"/>
                </a:solidFill>
                <a:latin typeface="Poppins"/>
              </a:rPr>
              <a:t>hello@awesomesite.com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8" name="TextBox 48"/>
          <p:cNvSpPr/>
          <p:nvPr/>
        </p:nvSpPr>
        <p:spPr>
          <a:xfrm>
            <a:off x="5632560" y="354024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Ju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9" name="TextBox 49"/>
          <p:cNvSpPr/>
          <p:nvPr/>
        </p:nvSpPr>
        <p:spPr>
          <a:xfrm>
            <a:off x="5632560" y="390204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0" name="TextBox 50"/>
          <p:cNvSpPr/>
          <p:nvPr/>
        </p:nvSpPr>
        <p:spPr>
          <a:xfrm>
            <a:off x="5632560" y="31845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2 - 2015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1" name="TextBox 51"/>
          <p:cNvSpPr/>
          <p:nvPr/>
        </p:nvSpPr>
        <p:spPr>
          <a:xfrm>
            <a:off x="7736040" y="354024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2" name="TextBox 52"/>
          <p:cNvSpPr/>
          <p:nvPr/>
        </p:nvSpPr>
        <p:spPr>
          <a:xfrm>
            <a:off x="7736040" y="390204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3" name="TextBox 53"/>
          <p:cNvSpPr/>
          <p:nvPr/>
        </p:nvSpPr>
        <p:spPr>
          <a:xfrm>
            <a:off x="7736040" y="31845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5 - 2018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4" name="TextBox 54"/>
          <p:cNvSpPr/>
          <p:nvPr/>
        </p:nvSpPr>
        <p:spPr>
          <a:xfrm>
            <a:off x="9839160" y="354024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5" name="TextBox 55"/>
          <p:cNvSpPr/>
          <p:nvPr/>
        </p:nvSpPr>
        <p:spPr>
          <a:xfrm>
            <a:off x="9839160" y="3902040"/>
            <a:ext cx="175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6" name="TextBox 56"/>
          <p:cNvSpPr/>
          <p:nvPr/>
        </p:nvSpPr>
        <p:spPr>
          <a:xfrm>
            <a:off x="9839160" y="3184560"/>
            <a:ext cx="175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7" name="TextBox 57"/>
          <p:cNvSpPr/>
          <p:nvPr/>
        </p:nvSpPr>
        <p:spPr>
          <a:xfrm>
            <a:off x="5632560" y="2579760"/>
            <a:ext cx="2795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Poppins SemiBold"/>
                <a:ea typeface="Open Sans"/>
              </a:rPr>
              <a:t>Experience History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8" name="Straight Connector 47"/>
          <p:cNvSpPr/>
          <p:nvPr/>
        </p:nvSpPr>
        <p:spPr>
          <a:xfrm>
            <a:off x="5732640" y="2467080"/>
            <a:ext cx="586260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9" name="Straight Connector 58"/>
          <p:cNvSpPr/>
          <p:nvPr/>
        </p:nvSpPr>
        <p:spPr>
          <a:xfrm>
            <a:off x="5732640" y="4519440"/>
            <a:ext cx="586260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0" name="Oval 61"/>
          <p:cNvSpPr/>
          <p:nvPr/>
        </p:nvSpPr>
        <p:spPr>
          <a:xfrm>
            <a:off x="5975280" y="4923000"/>
            <a:ext cx="723960" cy="7236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75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1" name="TextBox 62"/>
          <p:cNvSpPr/>
          <p:nvPr/>
        </p:nvSpPr>
        <p:spPr>
          <a:xfrm>
            <a:off x="5322960" y="586728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"/>
                <a:ea typeface="Open Sans"/>
              </a:rPr>
              <a:t>UX Research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2" name="Oval 65"/>
          <p:cNvSpPr/>
          <p:nvPr/>
        </p:nvSpPr>
        <p:spPr>
          <a:xfrm>
            <a:off x="8050320" y="4923000"/>
            <a:ext cx="723960" cy="7236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85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3" name="TextBox 66"/>
          <p:cNvSpPr/>
          <p:nvPr/>
        </p:nvSpPr>
        <p:spPr>
          <a:xfrm>
            <a:off x="7397640" y="586728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"/>
                <a:ea typeface="Open Sans"/>
              </a:rPr>
              <a:t>UI/UX Design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4" name="Oval 68"/>
          <p:cNvSpPr/>
          <p:nvPr/>
        </p:nvSpPr>
        <p:spPr>
          <a:xfrm>
            <a:off x="10126800" y="4923000"/>
            <a:ext cx="723600" cy="7236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60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5" name="TextBox 69"/>
          <p:cNvSpPr/>
          <p:nvPr/>
        </p:nvSpPr>
        <p:spPr>
          <a:xfrm>
            <a:off x="9474120" y="586728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"/>
                <a:ea typeface="Open Sans"/>
              </a:rPr>
              <a:t>Basic Visual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6" name="Block Arc 73"/>
          <p:cNvSpPr/>
          <p:nvPr/>
        </p:nvSpPr>
        <p:spPr>
          <a:xfrm rot="16200000">
            <a:off x="7834320" y="4707000"/>
            <a:ext cx="1155600" cy="115560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854486" y="1085179"/>
                </a:moveTo>
                <a:cubicBezTo>
                  <a:pt x="625278" y="1210161"/>
                  <a:pt x="340738" y="1165936"/>
                  <a:pt x="160278" y="977280"/>
                </a:cubicBezTo>
                <a:cubicBezTo>
                  <a:pt x="-20182" y="788624"/>
                  <a:pt x="-51733" y="502401"/>
                  <a:pt x="83300" y="278967"/>
                </a:cubicBezTo>
                <a:cubicBezTo>
                  <a:pt x="218334" y="55533"/>
                  <a:pt x="486408" y="-49610"/>
                  <a:pt x="737337" y="22446"/>
                </a:cubicBezTo>
                <a:cubicBezTo>
                  <a:pt x="988265" y="94501"/>
                  <a:pt x="1159714" y="325855"/>
                  <a:pt x="1155629" y="586892"/>
                </a:cubicBezTo>
                <a:lnTo>
                  <a:pt x="1018453" y="584744"/>
                </a:lnTo>
                <a:cubicBezTo>
                  <a:pt x="1021568" y="385682"/>
                  <a:pt x="890825" y="209257"/>
                  <a:pt x="699472" y="154309"/>
                </a:cubicBezTo>
                <a:cubicBezTo>
                  <a:pt x="508119" y="99361"/>
                  <a:pt x="303690" y="179541"/>
                  <a:pt x="200717" y="349927"/>
                </a:cubicBezTo>
                <a:cubicBezTo>
                  <a:pt x="97743" y="520314"/>
                  <a:pt x="121804" y="738581"/>
                  <a:pt x="259419" y="882447"/>
                </a:cubicBezTo>
                <a:cubicBezTo>
                  <a:pt x="397034" y="1026313"/>
                  <a:pt x="614019" y="1060038"/>
                  <a:pt x="788808" y="964729"/>
                </a:cubicBezTo>
                <a:lnTo>
                  <a:pt x="854486" y="1085179"/>
                </a:lnTo>
                <a:close/>
              </a:path>
            </a:pathLst>
          </a:custGeom>
          <a:solidFill>
            <a:srgbClr val="5d9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7" name="Block Arc 74"/>
          <p:cNvSpPr/>
          <p:nvPr/>
        </p:nvSpPr>
        <p:spPr>
          <a:xfrm rot="16200000">
            <a:off x="9896400" y="4692600"/>
            <a:ext cx="1184400" cy="1184400"/>
          </a:xfrm>
          <a:custGeom>
            <a:avLst/>
            <a:gdLst/>
            <a:ahLst/>
            <a:rect l="l" t="t" r="r" b="b"/>
            <a:pathLst>
              <a:path w="1184275" h="1184275">
                <a:moveTo>
                  <a:pt x="108372" y="933602"/>
                </a:moveTo>
                <a:cubicBezTo>
                  <a:pt x="-39642" y="723905"/>
                  <a:pt x="-35704" y="442725"/>
                  <a:pt x="118126" y="237256"/>
                </a:cubicBezTo>
                <a:cubicBezTo>
                  <a:pt x="271956" y="31787"/>
                  <a:pt x="540645" y="-51180"/>
                  <a:pt x="783539" y="31786"/>
                </a:cubicBezTo>
                <a:cubicBezTo>
                  <a:pt x="1026433" y="114753"/>
                  <a:pt x="1188219" y="344760"/>
                  <a:pt x="1184203" y="601401"/>
                </a:cubicBezTo>
                <a:lnTo>
                  <a:pt x="1043634" y="599202"/>
                </a:lnTo>
                <a:cubicBezTo>
                  <a:pt x="1046696" y="403493"/>
                  <a:pt x="923322" y="228094"/>
                  <a:pt x="738096" y="164826"/>
                </a:cubicBezTo>
                <a:cubicBezTo>
                  <a:pt x="552870" y="101557"/>
                  <a:pt x="347973" y="164827"/>
                  <a:pt x="230666" y="321513"/>
                </a:cubicBezTo>
                <a:cubicBezTo>
                  <a:pt x="113359" y="478199"/>
                  <a:pt x="110355" y="692621"/>
                  <a:pt x="223228" y="852532"/>
                </a:cubicBezTo>
                <a:lnTo>
                  <a:pt x="108372" y="933602"/>
                </a:lnTo>
                <a:close/>
              </a:path>
            </a:pathLst>
          </a:custGeom>
          <a:solidFill>
            <a:srgbClr val="5d9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39"/>
          <p:cNvSpPr/>
          <p:nvPr/>
        </p:nvSpPr>
        <p:spPr>
          <a:xfrm flipH="1">
            <a:off x="5181480" y="0"/>
            <a:ext cx="7010640" cy="2052720"/>
          </a:xfrm>
          <a:prstGeom prst="rect">
            <a:avLst/>
          </a:pr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9" name="Straight Connector 12"/>
          <p:cNvSpPr/>
          <p:nvPr/>
        </p:nvSpPr>
        <p:spPr>
          <a:xfrm>
            <a:off x="2590920" y="2052720"/>
            <a:ext cx="0" cy="4805280"/>
          </a:xfrm>
          <a:prstGeom prst="line">
            <a:avLst/>
          </a:prstGeom>
          <a:ln w="64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0" name="Rectangle 1"/>
          <p:cNvSpPr/>
          <p:nvPr/>
        </p:nvSpPr>
        <p:spPr>
          <a:xfrm>
            <a:off x="0" y="0"/>
            <a:ext cx="5181480" cy="2052720"/>
          </a:xfrm>
          <a:prstGeom prst="rect">
            <a:avLst/>
          </a:prstGeom>
          <a:solidFill>
            <a:srgbClr val="1f4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1" name="TextBox 2"/>
          <p:cNvSpPr/>
          <p:nvPr/>
        </p:nvSpPr>
        <p:spPr>
          <a:xfrm>
            <a:off x="534960" y="50472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ppins SemiBold"/>
              </a:rPr>
              <a:t>Work Experience</a:t>
            </a:r>
            <a:endParaRPr b="0" lang="en-US" sz="3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2" name="TextBox 3"/>
          <p:cNvSpPr/>
          <p:nvPr/>
        </p:nvSpPr>
        <p:spPr>
          <a:xfrm>
            <a:off x="554400" y="114948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"/>
              </a:rPr>
              <a:t>2012 - 2022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3" name="TextBox 5"/>
          <p:cNvSpPr/>
          <p:nvPr/>
        </p:nvSpPr>
        <p:spPr>
          <a:xfrm>
            <a:off x="5668920" y="611280"/>
            <a:ext cx="60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400" spc="-1" strike="noStrike">
                <a:solidFill>
                  <a:srgbClr val="595959"/>
                </a:solidFill>
                <a:latin typeface="Poppins SemiBold"/>
              </a:rPr>
              <a:t>Experience slick whiteboard usability whiteboard users, clean users goal.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4" name="Oval 10"/>
          <p:cNvSpPr/>
          <p:nvPr/>
        </p:nvSpPr>
        <p:spPr>
          <a:xfrm>
            <a:off x="2487600" y="2627280"/>
            <a:ext cx="206280" cy="20484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5" name="TextBox 13"/>
          <p:cNvSpPr/>
          <p:nvPr/>
        </p:nvSpPr>
        <p:spPr>
          <a:xfrm>
            <a:off x="380880" y="248760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6" name="TextBox 14"/>
          <p:cNvSpPr/>
          <p:nvPr/>
        </p:nvSpPr>
        <p:spPr>
          <a:xfrm>
            <a:off x="2882880" y="245916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7" name="TextBox 15"/>
          <p:cNvSpPr/>
          <p:nvPr/>
        </p:nvSpPr>
        <p:spPr>
          <a:xfrm>
            <a:off x="2882880" y="28051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Jakarta, Indonesi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8" name="TextBox 16"/>
          <p:cNvSpPr/>
          <p:nvPr/>
        </p:nvSpPr>
        <p:spPr>
          <a:xfrm>
            <a:off x="2882880" y="312588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363df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9" name="Oval 19"/>
          <p:cNvSpPr/>
          <p:nvPr/>
        </p:nvSpPr>
        <p:spPr>
          <a:xfrm>
            <a:off x="2487600" y="4092480"/>
            <a:ext cx="206280" cy="20484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0" name="TextBox 20"/>
          <p:cNvSpPr/>
          <p:nvPr/>
        </p:nvSpPr>
        <p:spPr>
          <a:xfrm>
            <a:off x="380880" y="395280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6 - 2018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1" name="TextBox 21"/>
          <p:cNvSpPr/>
          <p:nvPr/>
        </p:nvSpPr>
        <p:spPr>
          <a:xfrm>
            <a:off x="2882880" y="392580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2" name="TextBox 22"/>
          <p:cNvSpPr/>
          <p:nvPr/>
        </p:nvSpPr>
        <p:spPr>
          <a:xfrm>
            <a:off x="2882880" y="42703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w York, US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3" name="TextBox 23"/>
          <p:cNvSpPr/>
          <p:nvPr/>
        </p:nvSpPr>
        <p:spPr>
          <a:xfrm>
            <a:off x="2882880" y="459252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363df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4" name="Oval 25"/>
          <p:cNvSpPr/>
          <p:nvPr/>
        </p:nvSpPr>
        <p:spPr>
          <a:xfrm>
            <a:off x="2487600" y="5557680"/>
            <a:ext cx="206280" cy="20484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5" name="TextBox 26"/>
          <p:cNvSpPr/>
          <p:nvPr/>
        </p:nvSpPr>
        <p:spPr>
          <a:xfrm>
            <a:off x="380880" y="541800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4 - 2016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6" name="TextBox 27"/>
          <p:cNvSpPr/>
          <p:nvPr/>
        </p:nvSpPr>
        <p:spPr>
          <a:xfrm>
            <a:off x="2882880" y="539100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7" name="TextBox 28"/>
          <p:cNvSpPr/>
          <p:nvPr/>
        </p:nvSpPr>
        <p:spPr>
          <a:xfrm>
            <a:off x="2882880" y="57355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London, England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8" name="TextBox 29"/>
          <p:cNvSpPr/>
          <p:nvPr/>
        </p:nvSpPr>
        <p:spPr>
          <a:xfrm>
            <a:off x="2882880" y="605808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363df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9" name="TextBox 30"/>
          <p:cNvSpPr/>
          <p:nvPr/>
        </p:nvSpPr>
        <p:spPr>
          <a:xfrm>
            <a:off x="5668920" y="256068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 SemiBold"/>
              </a:rPr>
              <a:t>Expert 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0" name="TextBox 31"/>
          <p:cNvSpPr/>
          <p:nvPr/>
        </p:nvSpPr>
        <p:spPr>
          <a:xfrm>
            <a:off x="5668920" y="284796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1" name="TextBox 34"/>
          <p:cNvSpPr/>
          <p:nvPr/>
        </p:nvSpPr>
        <p:spPr>
          <a:xfrm>
            <a:off x="5668920" y="402732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 SemiBold"/>
              </a:rPr>
              <a:t>Expert 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2" name="TextBox 35"/>
          <p:cNvSpPr/>
          <p:nvPr/>
        </p:nvSpPr>
        <p:spPr>
          <a:xfrm>
            <a:off x="5668920" y="431316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3" name="TextBox 37"/>
          <p:cNvSpPr/>
          <p:nvPr/>
        </p:nvSpPr>
        <p:spPr>
          <a:xfrm>
            <a:off x="5668920" y="549288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 SemiBold"/>
              </a:rPr>
              <a:t>Leader 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4" name="TextBox 38"/>
          <p:cNvSpPr/>
          <p:nvPr/>
        </p:nvSpPr>
        <p:spPr>
          <a:xfrm>
            <a:off x="5668920" y="577836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traight Connector 1"/>
          <p:cNvSpPr/>
          <p:nvPr/>
        </p:nvSpPr>
        <p:spPr>
          <a:xfrm>
            <a:off x="2590920" y="0"/>
            <a:ext cx="0" cy="6858000"/>
          </a:xfrm>
          <a:prstGeom prst="line">
            <a:avLst/>
          </a:prstGeom>
          <a:ln w="64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6" name="Oval 2"/>
          <p:cNvSpPr/>
          <p:nvPr/>
        </p:nvSpPr>
        <p:spPr>
          <a:xfrm>
            <a:off x="2487600" y="857160"/>
            <a:ext cx="206280" cy="20484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7" name="TextBox 3"/>
          <p:cNvSpPr/>
          <p:nvPr/>
        </p:nvSpPr>
        <p:spPr>
          <a:xfrm>
            <a:off x="380880" y="71748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3 - 2014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8" name="TextBox 4"/>
          <p:cNvSpPr/>
          <p:nvPr/>
        </p:nvSpPr>
        <p:spPr>
          <a:xfrm>
            <a:off x="2882880" y="69048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9" name="TextBox 5"/>
          <p:cNvSpPr/>
          <p:nvPr/>
        </p:nvSpPr>
        <p:spPr>
          <a:xfrm>
            <a:off x="2882880" y="103500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Jakarta, Indonesi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0" name="TextBox 6"/>
          <p:cNvSpPr/>
          <p:nvPr/>
        </p:nvSpPr>
        <p:spPr>
          <a:xfrm>
            <a:off x="2882880" y="135720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363df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1" name="Oval 7"/>
          <p:cNvSpPr/>
          <p:nvPr/>
        </p:nvSpPr>
        <p:spPr>
          <a:xfrm>
            <a:off x="2487600" y="2322360"/>
            <a:ext cx="206280" cy="20484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2" name="TextBox 8"/>
          <p:cNvSpPr/>
          <p:nvPr/>
        </p:nvSpPr>
        <p:spPr>
          <a:xfrm>
            <a:off x="380880" y="218268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2 - 2013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3" name="TextBox 9"/>
          <p:cNvSpPr/>
          <p:nvPr/>
        </p:nvSpPr>
        <p:spPr>
          <a:xfrm>
            <a:off x="2882880" y="215568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4" name="TextBox 10"/>
          <p:cNvSpPr/>
          <p:nvPr/>
        </p:nvSpPr>
        <p:spPr>
          <a:xfrm>
            <a:off x="2882880" y="250020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w York, US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5" name="TextBox 11"/>
          <p:cNvSpPr/>
          <p:nvPr/>
        </p:nvSpPr>
        <p:spPr>
          <a:xfrm>
            <a:off x="2882880" y="282240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363df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6" name="Oval 12"/>
          <p:cNvSpPr/>
          <p:nvPr/>
        </p:nvSpPr>
        <p:spPr>
          <a:xfrm>
            <a:off x="2487600" y="3787920"/>
            <a:ext cx="206280" cy="20448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7" name="TextBox 13"/>
          <p:cNvSpPr/>
          <p:nvPr/>
        </p:nvSpPr>
        <p:spPr>
          <a:xfrm>
            <a:off x="380880" y="364824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1 - 2012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8" name="TextBox 14"/>
          <p:cNvSpPr/>
          <p:nvPr/>
        </p:nvSpPr>
        <p:spPr>
          <a:xfrm>
            <a:off x="2882880" y="362124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9" name="TextBox 15"/>
          <p:cNvSpPr/>
          <p:nvPr/>
        </p:nvSpPr>
        <p:spPr>
          <a:xfrm>
            <a:off x="2882880" y="396540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London, England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0" name="TextBox 16"/>
          <p:cNvSpPr/>
          <p:nvPr/>
        </p:nvSpPr>
        <p:spPr>
          <a:xfrm>
            <a:off x="2882880" y="428796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363df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1" name="TextBox 17"/>
          <p:cNvSpPr/>
          <p:nvPr/>
        </p:nvSpPr>
        <p:spPr>
          <a:xfrm>
            <a:off x="5668920" y="79200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 SemiBold"/>
              </a:rPr>
              <a:t>Junior 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2" name="TextBox 18"/>
          <p:cNvSpPr/>
          <p:nvPr/>
        </p:nvSpPr>
        <p:spPr>
          <a:xfrm>
            <a:off x="5668920" y="107784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3" name="TextBox 19"/>
          <p:cNvSpPr/>
          <p:nvPr/>
        </p:nvSpPr>
        <p:spPr>
          <a:xfrm>
            <a:off x="5668920" y="225756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 SemiBold"/>
              </a:rPr>
              <a:t>Senior Layout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4" name="TextBox 20"/>
          <p:cNvSpPr/>
          <p:nvPr/>
        </p:nvSpPr>
        <p:spPr>
          <a:xfrm>
            <a:off x="5668920" y="254304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5" name="TextBox 21"/>
          <p:cNvSpPr/>
          <p:nvPr/>
        </p:nvSpPr>
        <p:spPr>
          <a:xfrm>
            <a:off x="5668920" y="372276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 SemiBold"/>
              </a:rPr>
              <a:t>Junior Layout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6" name="TextBox 22"/>
          <p:cNvSpPr/>
          <p:nvPr/>
        </p:nvSpPr>
        <p:spPr>
          <a:xfrm>
            <a:off x="5668920" y="400860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997" name="Group 27"/>
          <p:cNvGrpSpPr/>
          <p:nvPr/>
        </p:nvGrpSpPr>
        <p:grpSpPr>
          <a:xfrm>
            <a:off x="0" y="5243400"/>
            <a:ext cx="12192120" cy="1614600"/>
            <a:chOff x="0" y="5243400"/>
            <a:chExt cx="12192120" cy="1614600"/>
          </a:xfrm>
        </p:grpSpPr>
        <p:sp>
          <p:nvSpPr>
            <p:cNvPr id="998" name="Rectangle 25"/>
            <p:cNvSpPr/>
            <p:nvPr/>
          </p:nvSpPr>
          <p:spPr>
            <a:xfrm flipH="1">
              <a:off x="5181480" y="5243400"/>
              <a:ext cx="7010640" cy="1614600"/>
            </a:xfrm>
            <a:prstGeom prst="rect">
              <a:avLst/>
            </a:prstGeom>
            <a:solidFill>
              <a:srgbClr val="dfeaf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999" name="Rectangle 26"/>
            <p:cNvSpPr/>
            <p:nvPr/>
          </p:nvSpPr>
          <p:spPr>
            <a:xfrm>
              <a:off x="0" y="5243400"/>
              <a:ext cx="5181480" cy="1614600"/>
            </a:xfrm>
            <a:prstGeom prst="rect">
              <a:avLst/>
            </a:prstGeom>
            <a:solidFill>
              <a:srgbClr val="1f4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000" name="TextBox 28"/>
          <p:cNvSpPr/>
          <p:nvPr/>
        </p:nvSpPr>
        <p:spPr>
          <a:xfrm>
            <a:off x="982800" y="552924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3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01" name="TextBox 29"/>
          <p:cNvSpPr/>
          <p:nvPr/>
        </p:nvSpPr>
        <p:spPr>
          <a:xfrm>
            <a:off x="1004400" y="617364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"/>
              </a:rPr>
              <a:t>UI/UX Designer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02" name="TextBox 31"/>
          <p:cNvSpPr/>
          <p:nvPr/>
        </p:nvSpPr>
        <p:spPr>
          <a:xfrm>
            <a:off x="5735520" y="5589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Poppins"/>
                <a:ea typeface="Open Sans"/>
              </a:rPr>
              <a:t>Phone</a:t>
            </a:r>
            <a:r>
              <a:rPr b="1" lang="en-US" sz="1800" spc="-1" strike="noStrike">
                <a:solidFill>
                  <a:srgbClr val="595959"/>
                </a:solidFill>
                <a:latin typeface="Poppins"/>
                <a:ea typeface="Open Sans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Poppins"/>
                <a:ea typeface="Open Sans"/>
              </a:rPr>
              <a:t>: +123 1234 123 1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Poppins"/>
                <a:ea typeface="Open Sans"/>
              </a:rPr>
              <a:t>Email</a:t>
            </a:r>
            <a:r>
              <a:rPr b="1" lang="en-US" sz="1800" spc="-1" strike="noStrike">
                <a:solidFill>
                  <a:srgbClr val="595959"/>
                </a:solidFill>
                <a:latin typeface="Poppins"/>
                <a:ea typeface="Open Sans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Poppins"/>
                <a:ea typeface="Open Sans"/>
              </a:rPr>
              <a:t>: yourcv@email.com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traight Connector 33"/>
          <p:cNvSpPr/>
          <p:nvPr/>
        </p:nvSpPr>
        <p:spPr>
          <a:xfrm>
            <a:off x="6243480" y="2490840"/>
            <a:ext cx="0" cy="169848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004" name="Group 1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005" name="Rectangle: Rounded Corners 2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06" name="Rectangle: Rounded Corners 3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3a7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07" name="Rectangle: Rounded Corners 4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08" name="Rectangle: Rounded Corners 5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09" name="Rectangle: Rounded Corners 6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010" name="TextBox 7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98F37503-BB32-44A8-BCCF-4101E3DC4739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11" name="TextBox 10"/>
          <p:cNvSpPr/>
          <p:nvPr/>
        </p:nvSpPr>
        <p:spPr>
          <a:xfrm>
            <a:off x="1282680" y="443880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oppins SemiBold"/>
              </a:rPr>
              <a:t>Roman </a:t>
            </a:r>
            <a:r>
              <a:rPr b="0" lang="en-US" sz="2800" spc="-1" strike="noStrike">
                <a:solidFill>
                  <a:srgbClr val="1363df"/>
                </a:solidFill>
                <a:latin typeface="Poppins SemiBold"/>
              </a:rPr>
              <a:t>Dun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12" name="TextBox 11"/>
          <p:cNvSpPr/>
          <p:nvPr/>
        </p:nvSpPr>
        <p:spPr>
          <a:xfrm>
            <a:off x="1765080" y="497052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013" name="Group 15"/>
          <p:cNvGrpSpPr/>
          <p:nvPr/>
        </p:nvGrpSpPr>
        <p:grpSpPr>
          <a:xfrm>
            <a:off x="1536840" y="5802480"/>
            <a:ext cx="2026080" cy="261360"/>
            <a:chOff x="1536840" y="5802480"/>
            <a:chExt cx="2026080" cy="261360"/>
          </a:xfrm>
        </p:grpSpPr>
        <p:sp>
          <p:nvSpPr>
            <p:cNvPr id="1014" name="Oval 12"/>
            <p:cNvSpPr/>
            <p:nvPr/>
          </p:nvSpPr>
          <p:spPr>
            <a:xfrm>
              <a:off x="1536840" y="5875560"/>
              <a:ext cx="115560" cy="1141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15" name="TextBox 13"/>
            <p:cNvSpPr/>
            <p:nvPr/>
          </p:nvSpPr>
          <p:spPr>
            <a:xfrm>
              <a:off x="1858320" y="580248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016" name="TextBox 17"/>
          <p:cNvSpPr/>
          <p:nvPr/>
        </p:nvSpPr>
        <p:spPr>
          <a:xfrm>
            <a:off x="5985000" y="94140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363df"/>
                </a:solidFill>
                <a:latin typeface="Poppins SemiBold"/>
              </a:rPr>
              <a:t>Edu</a:t>
            </a:r>
            <a:r>
              <a:rPr b="0" lang="en-US" sz="4800" spc="-1" strike="noStrike">
                <a:solidFill>
                  <a:srgbClr val="3f3f3f"/>
                </a:solidFill>
                <a:latin typeface="Poppins SemiBold"/>
              </a:rPr>
              <a:t>cation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17" name="Straight Connector 18"/>
          <p:cNvSpPr/>
          <p:nvPr/>
        </p:nvSpPr>
        <p:spPr>
          <a:xfrm>
            <a:off x="9431280" y="1389240"/>
            <a:ext cx="107964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18" name="Rectangle 20"/>
          <p:cNvSpPr/>
          <p:nvPr/>
        </p:nvSpPr>
        <p:spPr>
          <a:xfrm>
            <a:off x="6665760" y="2198520"/>
            <a:ext cx="4668840" cy="16131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19" name="Rectangle 36"/>
          <p:cNvSpPr/>
          <p:nvPr/>
        </p:nvSpPr>
        <p:spPr>
          <a:xfrm>
            <a:off x="6858000" y="2286000"/>
            <a:ext cx="427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Art And Design </a:t>
            </a: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- New York University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0" name="TextBox 22"/>
          <p:cNvSpPr/>
          <p:nvPr/>
        </p:nvSpPr>
        <p:spPr>
          <a:xfrm>
            <a:off x="6858000" y="3043080"/>
            <a:ext cx="4248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1" name="TextBox 23"/>
          <p:cNvSpPr/>
          <p:nvPr/>
        </p:nvSpPr>
        <p:spPr>
          <a:xfrm>
            <a:off x="6861240" y="2630520"/>
            <a:ext cx="9889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2015-2018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2" name="Oval 24"/>
          <p:cNvSpPr/>
          <p:nvPr/>
        </p:nvSpPr>
        <p:spPr>
          <a:xfrm>
            <a:off x="6095880" y="2195640"/>
            <a:ext cx="295560" cy="2952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3" name="Rectangle 27"/>
          <p:cNvSpPr/>
          <p:nvPr/>
        </p:nvSpPr>
        <p:spPr>
          <a:xfrm>
            <a:off x="6665760" y="4192560"/>
            <a:ext cx="4668840" cy="1611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4" name="Rectangle 36"/>
          <p:cNvSpPr/>
          <p:nvPr/>
        </p:nvSpPr>
        <p:spPr>
          <a:xfrm>
            <a:off x="6858000" y="4278240"/>
            <a:ext cx="427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</a:rPr>
              <a:t>Design Education </a:t>
            </a:r>
            <a:r>
              <a:rPr b="0" lang="en-US" sz="1600" spc="-1" strike="noStrike">
                <a:solidFill>
                  <a:srgbClr val="1363df"/>
                </a:solidFill>
                <a:latin typeface="Poppins"/>
              </a:rPr>
              <a:t>- Chicago University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5" name="TextBox 29"/>
          <p:cNvSpPr/>
          <p:nvPr/>
        </p:nvSpPr>
        <p:spPr>
          <a:xfrm>
            <a:off x="6858000" y="5037120"/>
            <a:ext cx="4248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6" name="TextBox 30"/>
          <p:cNvSpPr/>
          <p:nvPr/>
        </p:nvSpPr>
        <p:spPr>
          <a:xfrm>
            <a:off x="6861240" y="4622760"/>
            <a:ext cx="9889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363df"/>
                </a:solidFill>
                <a:latin typeface="Poppins"/>
                <a:ea typeface="Times New Roman"/>
              </a:rPr>
              <a:t>2018-2020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7" name="Oval 31"/>
          <p:cNvSpPr/>
          <p:nvPr/>
        </p:nvSpPr>
        <p:spPr>
          <a:xfrm>
            <a:off x="6095880" y="4189320"/>
            <a:ext cx="295560" cy="293760"/>
          </a:xfrm>
          <a:prstGeom prst="ellipse">
            <a:avLst/>
          </a:prstGeom>
          <a:solidFill>
            <a:srgbClr val="5d9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029" name="Rectangle: Rounded Corners 3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30" name="Rectangle: Rounded Corners 4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3a7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31" name="Rectangle: Rounded Corners 5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32" name="Rectangle: Rounded Corners 6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33" name="Rectangle: Rounded Corners 7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034" name="TextBox 8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5" name="Straight Connector 9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1f469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6" name="TextBox 10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BDE82135-EDB5-42C5-A683-6377866FD648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7" name="Rectangle 1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8" name="TextBox 12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63df"/>
                </a:solidFill>
                <a:latin typeface="Poppins SemiBold"/>
              </a:rPr>
              <a:t>Detail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Education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9" name="Straight Connector 13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0" name="TextBox 15"/>
          <p:cNvSpPr/>
          <p:nvPr/>
        </p:nvSpPr>
        <p:spPr>
          <a:xfrm>
            <a:off x="68256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</a:rPr>
              <a:t>Vocational High School Of Design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1" name="TextBox 16"/>
          <p:cNvSpPr/>
          <p:nvPr/>
        </p:nvSpPr>
        <p:spPr>
          <a:xfrm>
            <a:off x="12254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363df"/>
                </a:solidFill>
                <a:latin typeface="Poppins"/>
                <a:ea typeface="Times New Roman"/>
              </a:rPr>
              <a:t>2009 - 2011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2" name="TextBox 18"/>
          <p:cNvSpPr/>
          <p:nvPr/>
        </p:nvSpPr>
        <p:spPr>
          <a:xfrm>
            <a:off x="352116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</a:rPr>
              <a:t>Design Bachelor Of New York University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3" name="TextBox 19"/>
          <p:cNvSpPr/>
          <p:nvPr/>
        </p:nvSpPr>
        <p:spPr>
          <a:xfrm>
            <a:off x="4064040" y="2728800"/>
            <a:ext cx="1403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363df"/>
                </a:solidFill>
                <a:latin typeface="Poppins"/>
                <a:ea typeface="Times New Roman"/>
              </a:rPr>
              <a:t>2011 - 2015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4" name="TextBox 21"/>
          <p:cNvSpPr/>
          <p:nvPr/>
        </p:nvSpPr>
        <p:spPr>
          <a:xfrm>
            <a:off x="635940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</a:rPr>
              <a:t>Design Master Of Chicago University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5" name="TextBox 22"/>
          <p:cNvSpPr/>
          <p:nvPr/>
        </p:nvSpPr>
        <p:spPr>
          <a:xfrm>
            <a:off x="69008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363df"/>
                </a:solidFill>
                <a:latin typeface="Poppins"/>
                <a:ea typeface="Times New Roman"/>
              </a:rPr>
              <a:t>2018 - 2020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6" name="TextBox 24"/>
          <p:cNvSpPr/>
          <p:nvPr/>
        </p:nvSpPr>
        <p:spPr>
          <a:xfrm>
            <a:off x="919800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</a:rPr>
              <a:t>Design Expert Of Chicago University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7" name="TextBox 25"/>
          <p:cNvSpPr/>
          <p:nvPr/>
        </p:nvSpPr>
        <p:spPr>
          <a:xfrm>
            <a:off x="9739440" y="2728800"/>
            <a:ext cx="1404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363df"/>
                </a:solidFill>
                <a:latin typeface="Poppins"/>
                <a:ea typeface="Times New Roman"/>
              </a:rPr>
              <a:t>2020 - Current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8" name="TextBox 26"/>
          <p:cNvSpPr/>
          <p:nvPr/>
        </p:nvSpPr>
        <p:spPr>
          <a:xfrm>
            <a:off x="65088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9" name="TextBox 27"/>
          <p:cNvSpPr/>
          <p:nvPr/>
        </p:nvSpPr>
        <p:spPr>
          <a:xfrm>
            <a:off x="3489480" y="4732200"/>
            <a:ext cx="2552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50" name="TextBox 28"/>
          <p:cNvSpPr/>
          <p:nvPr/>
        </p:nvSpPr>
        <p:spPr>
          <a:xfrm>
            <a:off x="637704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51" name="TextBox 29"/>
          <p:cNvSpPr/>
          <p:nvPr/>
        </p:nvSpPr>
        <p:spPr>
          <a:xfrm>
            <a:off x="916632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53" name="TextBox 14"/>
          <p:cNvSpPr/>
          <p:nvPr/>
        </p:nvSpPr>
        <p:spPr>
          <a:xfrm>
            <a:off x="8292960" y="3781440"/>
            <a:ext cx="26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oppins SemiBold"/>
              </a:rPr>
              <a:t>Roman </a:t>
            </a:r>
            <a:r>
              <a:rPr b="0" lang="en-US" sz="2800" spc="-1" strike="noStrike">
                <a:solidFill>
                  <a:srgbClr val="1363df"/>
                </a:solidFill>
                <a:latin typeface="Poppins SemiBold"/>
              </a:rPr>
              <a:t>Dun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54" name="TextBox 15"/>
          <p:cNvSpPr/>
          <p:nvPr/>
        </p:nvSpPr>
        <p:spPr>
          <a:xfrm>
            <a:off x="8775360" y="431496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055" name="Group 16"/>
          <p:cNvGrpSpPr/>
          <p:nvPr/>
        </p:nvGrpSpPr>
        <p:grpSpPr>
          <a:xfrm>
            <a:off x="8547120" y="5145120"/>
            <a:ext cx="2026080" cy="261360"/>
            <a:chOff x="8547120" y="5145120"/>
            <a:chExt cx="2026080" cy="261360"/>
          </a:xfrm>
        </p:grpSpPr>
        <p:sp>
          <p:nvSpPr>
            <p:cNvPr id="1056" name="Oval 17"/>
            <p:cNvSpPr/>
            <p:nvPr/>
          </p:nvSpPr>
          <p:spPr>
            <a:xfrm>
              <a:off x="8547120" y="521820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57" name="TextBox 18"/>
            <p:cNvSpPr/>
            <p:nvPr/>
          </p:nvSpPr>
          <p:spPr>
            <a:xfrm>
              <a:off x="8868600" y="514512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058" name="TextBox 19"/>
          <p:cNvSpPr/>
          <p:nvPr/>
        </p:nvSpPr>
        <p:spPr>
          <a:xfrm>
            <a:off x="488880" y="965160"/>
            <a:ext cx="36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Poppins SemiBold"/>
              </a:rPr>
              <a:t>Professional </a:t>
            </a:r>
            <a:r>
              <a:rPr b="0" lang="en-US" sz="3600" spc="-1" strike="noStrike">
                <a:solidFill>
                  <a:srgbClr val="1363df"/>
                </a:solidFill>
                <a:latin typeface="Poppins SemiBold"/>
              </a:rPr>
              <a:t>Skill Work</a:t>
            </a:r>
            <a:endParaRPr b="0" lang="en-US" sz="3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59" name="Straight Connector 20"/>
          <p:cNvSpPr/>
          <p:nvPr/>
        </p:nvSpPr>
        <p:spPr>
          <a:xfrm>
            <a:off x="3119400" y="1830240"/>
            <a:ext cx="116352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0" name="TextBox 24"/>
          <p:cNvSpPr/>
          <p:nvPr/>
        </p:nvSpPr>
        <p:spPr>
          <a:xfrm>
            <a:off x="517680" y="2517840"/>
            <a:ext cx="6010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1" name="Rectangle 26"/>
          <p:cNvSpPr/>
          <p:nvPr/>
        </p:nvSpPr>
        <p:spPr>
          <a:xfrm flipV="1">
            <a:off x="630360" y="4097880"/>
            <a:ext cx="5395680" cy="6660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2" name="Rectangle 27"/>
          <p:cNvSpPr/>
          <p:nvPr/>
        </p:nvSpPr>
        <p:spPr>
          <a:xfrm flipV="1">
            <a:off x="630360" y="4098240"/>
            <a:ext cx="5029200" cy="666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3" name="TextBox 28"/>
          <p:cNvSpPr/>
          <p:nvPr/>
        </p:nvSpPr>
        <p:spPr>
          <a:xfrm flipH="1">
            <a:off x="6238080" y="398952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4" name="Rectangle 36"/>
          <p:cNvSpPr/>
          <p:nvPr/>
        </p:nvSpPr>
        <p:spPr>
          <a:xfrm>
            <a:off x="530280" y="366084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UI/UX Analysis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5" name="Rectangle 31"/>
          <p:cNvSpPr/>
          <p:nvPr/>
        </p:nvSpPr>
        <p:spPr>
          <a:xfrm flipV="1">
            <a:off x="630360" y="4836600"/>
            <a:ext cx="5395680" cy="6696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6" name="Rectangle 32"/>
          <p:cNvSpPr/>
          <p:nvPr/>
        </p:nvSpPr>
        <p:spPr>
          <a:xfrm flipV="1">
            <a:off x="630360" y="4836960"/>
            <a:ext cx="5029200" cy="669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7" name="TextBox 33"/>
          <p:cNvSpPr/>
          <p:nvPr/>
        </p:nvSpPr>
        <p:spPr>
          <a:xfrm flipH="1">
            <a:off x="6238080" y="472608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8" name="Rectangle 36"/>
          <p:cNvSpPr/>
          <p:nvPr/>
        </p:nvSpPr>
        <p:spPr>
          <a:xfrm>
            <a:off x="530280" y="439740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Visual Brain Storming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9" name="Rectangle 36"/>
          <p:cNvSpPr/>
          <p:nvPr/>
        </p:nvSpPr>
        <p:spPr>
          <a:xfrm flipV="1">
            <a:off x="630360" y="5574240"/>
            <a:ext cx="5395680" cy="6660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0" name="Rectangle 37"/>
          <p:cNvSpPr/>
          <p:nvPr/>
        </p:nvSpPr>
        <p:spPr>
          <a:xfrm flipV="1">
            <a:off x="630360" y="5574600"/>
            <a:ext cx="5029200" cy="666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1" name="TextBox 38"/>
          <p:cNvSpPr/>
          <p:nvPr/>
        </p:nvSpPr>
        <p:spPr>
          <a:xfrm flipH="1">
            <a:off x="6238080" y="546408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2" name="Rectangle 36"/>
          <p:cNvSpPr/>
          <p:nvPr/>
        </p:nvSpPr>
        <p:spPr>
          <a:xfrm>
            <a:off x="530280" y="513540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General Layout Thinking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Box 9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AB2B9C4F-7FBA-43BC-BEE7-B7ED462F25F5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4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5" name="TextBox 11"/>
          <p:cNvSpPr/>
          <p:nvPr/>
        </p:nvSpPr>
        <p:spPr>
          <a:xfrm>
            <a:off x="498600" y="82224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63df"/>
                </a:solidFill>
                <a:latin typeface="Poppins SemiBold"/>
              </a:rPr>
              <a:t>Skill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Expertise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6" name="Straight Connector 12"/>
          <p:cNvSpPr/>
          <p:nvPr/>
        </p:nvSpPr>
        <p:spPr>
          <a:xfrm>
            <a:off x="4395960" y="1155600"/>
            <a:ext cx="108108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7" name="TextBox 13"/>
          <p:cNvSpPr/>
          <p:nvPr/>
        </p:nvSpPr>
        <p:spPr>
          <a:xfrm>
            <a:off x="498600" y="1720800"/>
            <a:ext cx="112204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 R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8" name="Rectangle 14"/>
          <p:cNvSpPr/>
          <p:nvPr/>
        </p:nvSpPr>
        <p:spPr>
          <a:xfrm flipV="1">
            <a:off x="630360" y="3414600"/>
            <a:ext cx="2560680" cy="6696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9" name="Rectangle 15"/>
          <p:cNvSpPr/>
          <p:nvPr/>
        </p:nvSpPr>
        <p:spPr>
          <a:xfrm flipV="1">
            <a:off x="630360" y="3414600"/>
            <a:ext cx="2377800" cy="669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0" name="TextBox 16"/>
          <p:cNvSpPr/>
          <p:nvPr/>
        </p:nvSpPr>
        <p:spPr>
          <a:xfrm flipH="1">
            <a:off x="3351960" y="330516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1" name="Rectangle 36"/>
          <p:cNvSpPr/>
          <p:nvPr/>
        </p:nvSpPr>
        <p:spPr>
          <a:xfrm>
            <a:off x="530280" y="2976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Design Leader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2" name="Rectangle 20"/>
          <p:cNvSpPr/>
          <p:nvPr/>
        </p:nvSpPr>
        <p:spPr>
          <a:xfrm flipV="1">
            <a:off x="4575240" y="3414600"/>
            <a:ext cx="2560680" cy="6696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3" name="Rectangle 21"/>
          <p:cNvSpPr/>
          <p:nvPr/>
        </p:nvSpPr>
        <p:spPr>
          <a:xfrm flipV="1">
            <a:off x="4575240" y="3414600"/>
            <a:ext cx="2376360" cy="669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4" name="TextBox 22"/>
          <p:cNvSpPr/>
          <p:nvPr/>
        </p:nvSpPr>
        <p:spPr>
          <a:xfrm flipH="1">
            <a:off x="7297560" y="330516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5" name="Rectangle 36"/>
          <p:cNvSpPr/>
          <p:nvPr/>
        </p:nvSpPr>
        <p:spPr>
          <a:xfrm>
            <a:off x="4475160" y="297648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Adobe XD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6" name="Rectangle 25"/>
          <p:cNvSpPr/>
          <p:nvPr/>
        </p:nvSpPr>
        <p:spPr>
          <a:xfrm flipV="1">
            <a:off x="8518680" y="3414600"/>
            <a:ext cx="2560320" cy="6696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7" name="Rectangle 26"/>
          <p:cNvSpPr/>
          <p:nvPr/>
        </p:nvSpPr>
        <p:spPr>
          <a:xfrm flipV="1">
            <a:off x="8518680" y="3414600"/>
            <a:ext cx="2012760" cy="669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8" name="TextBox 27"/>
          <p:cNvSpPr/>
          <p:nvPr/>
        </p:nvSpPr>
        <p:spPr>
          <a:xfrm flipH="1">
            <a:off x="11242080" y="330516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9" name="Rectangle 36"/>
          <p:cNvSpPr/>
          <p:nvPr/>
        </p:nvSpPr>
        <p:spPr>
          <a:xfrm>
            <a:off x="8418600" y="2976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Microsoft Offic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0" name="Straight Connector 33"/>
          <p:cNvSpPr/>
          <p:nvPr/>
        </p:nvSpPr>
        <p:spPr>
          <a:xfrm>
            <a:off x="4280040" y="2990880"/>
            <a:ext cx="0" cy="3171960"/>
          </a:xfrm>
          <a:prstGeom prst="line">
            <a:avLst/>
          </a:prstGeom>
          <a:ln w="19080">
            <a:solidFill>
              <a:srgbClr val="5d95f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1" name="Straight Connector 34"/>
          <p:cNvSpPr/>
          <p:nvPr/>
        </p:nvSpPr>
        <p:spPr>
          <a:xfrm>
            <a:off x="7931160" y="2990880"/>
            <a:ext cx="0" cy="3171960"/>
          </a:xfrm>
          <a:prstGeom prst="line">
            <a:avLst/>
          </a:prstGeom>
          <a:ln w="19080">
            <a:solidFill>
              <a:srgbClr val="5d95f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2" name="Rectangle 39"/>
          <p:cNvSpPr/>
          <p:nvPr/>
        </p:nvSpPr>
        <p:spPr>
          <a:xfrm flipV="1">
            <a:off x="630360" y="4240080"/>
            <a:ext cx="2560680" cy="6696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3" name="Rectangle 40"/>
          <p:cNvSpPr/>
          <p:nvPr/>
        </p:nvSpPr>
        <p:spPr>
          <a:xfrm flipV="1">
            <a:off x="630360" y="4240080"/>
            <a:ext cx="2377800" cy="669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4" name="TextBox 41"/>
          <p:cNvSpPr/>
          <p:nvPr/>
        </p:nvSpPr>
        <p:spPr>
          <a:xfrm flipH="1">
            <a:off x="3351960" y="413064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5" name="Rectangle 36"/>
          <p:cNvSpPr/>
          <p:nvPr/>
        </p:nvSpPr>
        <p:spPr>
          <a:xfrm>
            <a:off x="530280" y="380052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Design Mind Mapping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6" name="Rectangle 43"/>
          <p:cNvSpPr/>
          <p:nvPr/>
        </p:nvSpPr>
        <p:spPr>
          <a:xfrm flipV="1">
            <a:off x="4575240" y="4240080"/>
            <a:ext cx="2560680" cy="6696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7" name="Rectangle 44"/>
          <p:cNvSpPr/>
          <p:nvPr/>
        </p:nvSpPr>
        <p:spPr>
          <a:xfrm flipV="1">
            <a:off x="4575240" y="4240080"/>
            <a:ext cx="2011320" cy="669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8" name="TextBox 45"/>
          <p:cNvSpPr/>
          <p:nvPr/>
        </p:nvSpPr>
        <p:spPr>
          <a:xfrm flipH="1">
            <a:off x="7297560" y="413064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9" name="Rectangle 36"/>
          <p:cNvSpPr/>
          <p:nvPr/>
        </p:nvSpPr>
        <p:spPr>
          <a:xfrm>
            <a:off x="4475160" y="380052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Adobe Illustrator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0" name="Rectangle 47"/>
          <p:cNvSpPr/>
          <p:nvPr/>
        </p:nvSpPr>
        <p:spPr>
          <a:xfrm flipV="1">
            <a:off x="8518680" y="4240080"/>
            <a:ext cx="2560320" cy="6696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1" name="Rectangle 48"/>
          <p:cNvSpPr/>
          <p:nvPr/>
        </p:nvSpPr>
        <p:spPr>
          <a:xfrm flipV="1">
            <a:off x="8518680" y="4240080"/>
            <a:ext cx="2377800" cy="669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2" name="TextBox 49"/>
          <p:cNvSpPr/>
          <p:nvPr/>
        </p:nvSpPr>
        <p:spPr>
          <a:xfrm flipH="1">
            <a:off x="11242080" y="413064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3" name="Rectangle 36"/>
          <p:cNvSpPr/>
          <p:nvPr/>
        </p:nvSpPr>
        <p:spPr>
          <a:xfrm>
            <a:off x="8418600" y="380052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Management Skill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4" name="Rectangle 52"/>
          <p:cNvSpPr/>
          <p:nvPr/>
        </p:nvSpPr>
        <p:spPr>
          <a:xfrm flipV="1">
            <a:off x="630360" y="5065560"/>
            <a:ext cx="2560680" cy="6696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5" name="Rectangle 53"/>
          <p:cNvSpPr/>
          <p:nvPr/>
        </p:nvSpPr>
        <p:spPr>
          <a:xfrm flipV="1">
            <a:off x="630360" y="5065560"/>
            <a:ext cx="2011320" cy="669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6" name="TextBox 54"/>
          <p:cNvSpPr/>
          <p:nvPr/>
        </p:nvSpPr>
        <p:spPr>
          <a:xfrm flipH="1">
            <a:off x="3351960" y="495612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7" name="Rectangle 36"/>
          <p:cNvSpPr/>
          <p:nvPr/>
        </p:nvSpPr>
        <p:spPr>
          <a:xfrm>
            <a:off x="530280" y="462600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8" name="Rectangle 56"/>
          <p:cNvSpPr/>
          <p:nvPr/>
        </p:nvSpPr>
        <p:spPr>
          <a:xfrm flipV="1">
            <a:off x="4575240" y="5065560"/>
            <a:ext cx="2560680" cy="6696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9" name="Rectangle 57"/>
          <p:cNvSpPr/>
          <p:nvPr/>
        </p:nvSpPr>
        <p:spPr>
          <a:xfrm flipV="1">
            <a:off x="4575240" y="5065560"/>
            <a:ext cx="2376360" cy="669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0" name="TextBox 58"/>
          <p:cNvSpPr/>
          <p:nvPr/>
        </p:nvSpPr>
        <p:spPr>
          <a:xfrm flipH="1">
            <a:off x="7297560" y="495612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1" name="Rectangle 36"/>
          <p:cNvSpPr/>
          <p:nvPr/>
        </p:nvSpPr>
        <p:spPr>
          <a:xfrm>
            <a:off x="4475160" y="462600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Adobe Photoshop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2" name="Rectangle 65"/>
          <p:cNvSpPr/>
          <p:nvPr/>
        </p:nvSpPr>
        <p:spPr>
          <a:xfrm flipV="1">
            <a:off x="630360" y="5891040"/>
            <a:ext cx="2560680" cy="6696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3" name="Rectangle 66"/>
          <p:cNvSpPr/>
          <p:nvPr/>
        </p:nvSpPr>
        <p:spPr>
          <a:xfrm flipV="1">
            <a:off x="630360" y="5891040"/>
            <a:ext cx="2011320" cy="669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4" name="TextBox 67"/>
          <p:cNvSpPr/>
          <p:nvPr/>
        </p:nvSpPr>
        <p:spPr>
          <a:xfrm flipH="1">
            <a:off x="3351960" y="578016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5" name="Rectangle 36"/>
          <p:cNvSpPr/>
          <p:nvPr/>
        </p:nvSpPr>
        <p:spPr>
          <a:xfrm>
            <a:off x="530280" y="5451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UI/UX Design Sketch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6" name="Rectangle 69"/>
          <p:cNvSpPr/>
          <p:nvPr/>
        </p:nvSpPr>
        <p:spPr>
          <a:xfrm flipV="1">
            <a:off x="4575240" y="5891040"/>
            <a:ext cx="2560680" cy="6696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7" name="Rectangle 70"/>
          <p:cNvSpPr/>
          <p:nvPr/>
        </p:nvSpPr>
        <p:spPr>
          <a:xfrm flipV="1">
            <a:off x="4575240" y="5891040"/>
            <a:ext cx="2376360" cy="6696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8" name="TextBox 71"/>
          <p:cNvSpPr/>
          <p:nvPr/>
        </p:nvSpPr>
        <p:spPr>
          <a:xfrm flipH="1">
            <a:off x="7297560" y="578016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9" name="Rectangle 36"/>
          <p:cNvSpPr/>
          <p:nvPr/>
        </p:nvSpPr>
        <p:spPr>
          <a:xfrm>
            <a:off x="4475160" y="545148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Figma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1" name="TextBox 18"/>
          <p:cNvSpPr/>
          <p:nvPr/>
        </p:nvSpPr>
        <p:spPr>
          <a:xfrm>
            <a:off x="217440" y="36720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"/>
                <a:ea typeface="Open Sans"/>
              </a:rPr>
              <a:t>Figma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2" name="TextBox 11"/>
          <p:cNvSpPr/>
          <p:nvPr/>
        </p:nvSpPr>
        <p:spPr>
          <a:xfrm>
            <a:off x="498600" y="9936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63df"/>
                </a:solidFill>
                <a:latin typeface="Poppins SemiBold"/>
              </a:rPr>
              <a:t>Software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Skill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3" name="Straight Connector 12"/>
          <p:cNvSpPr/>
          <p:nvPr/>
        </p:nvSpPr>
        <p:spPr>
          <a:xfrm>
            <a:off x="4395960" y="1327320"/>
            <a:ext cx="108108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4" name="Freeform: Shape 13"/>
          <p:cNvSpPr/>
          <p:nvPr/>
        </p:nvSpPr>
        <p:spPr>
          <a:xfrm flipV="1">
            <a:off x="4062240" y="2511360"/>
            <a:ext cx="1155960" cy="11556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5" name="Freeform: Shape 14"/>
          <p:cNvSpPr/>
          <p:nvPr/>
        </p:nvSpPr>
        <p:spPr>
          <a:xfrm flipV="1">
            <a:off x="639720" y="2500200"/>
            <a:ext cx="118440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6" name="Block Arc 15"/>
          <p:cNvSpPr/>
          <p:nvPr/>
        </p:nvSpPr>
        <p:spPr>
          <a:xfrm rot="16200000">
            <a:off x="654120" y="2514600"/>
            <a:ext cx="1155600" cy="115560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1053974" y="905289"/>
                </a:moveTo>
                <a:cubicBezTo>
                  <a:pt x="891620" y="1141365"/>
                  <a:pt x="580795" y="1222824"/>
                  <a:pt x="323523" y="1096722"/>
                </a:cubicBezTo>
                <a:cubicBezTo>
                  <a:pt x="66251" y="970620"/>
                  <a:pt x="-59767" y="675040"/>
                  <a:pt x="27375" y="402099"/>
                </a:cubicBezTo>
                <a:cubicBezTo>
                  <a:pt x="114517" y="129158"/>
                  <a:pt x="388502" y="-38712"/>
                  <a:pt x="671249" y="7597"/>
                </a:cubicBezTo>
                <a:cubicBezTo>
                  <a:pt x="953996" y="53907"/>
                  <a:pt x="1160112" y="300411"/>
                  <a:pt x="1155630" y="586890"/>
                </a:cubicBezTo>
                <a:lnTo>
                  <a:pt x="1018453" y="584744"/>
                </a:lnTo>
                <a:cubicBezTo>
                  <a:pt x="1021871" y="366281"/>
                  <a:pt x="864691" y="178302"/>
                  <a:pt x="649074" y="142987"/>
                </a:cubicBezTo>
                <a:cubicBezTo>
                  <a:pt x="433457" y="107672"/>
                  <a:pt x="224521" y="235687"/>
                  <a:pt x="158069" y="443826"/>
                </a:cubicBezTo>
                <a:cubicBezTo>
                  <a:pt x="91616" y="651965"/>
                  <a:pt x="187716" y="877369"/>
                  <a:pt x="383906" y="973532"/>
                </a:cubicBezTo>
                <a:cubicBezTo>
                  <a:pt x="580096" y="1069695"/>
                  <a:pt x="817126" y="1007576"/>
                  <a:pt x="940933" y="827549"/>
                </a:cubicBezTo>
                <a:lnTo>
                  <a:pt x="1053974" y="905289"/>
                </a:lnTo>
                <a:close/>
              </a:path>
            </a:pathLst>
          </a:custGeom>
          <a:solidFill>
            <a:srgbClr val="5d9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7" name="Freeform: Shape 16"/>
          <p:cNvSpPr/>
          <p:nvPr/>
        </p:nvSpPr>
        <p:spPr>
          <a:xfrm flipV="1">
            <a:off x="2333520" y="2496960"/>
            <a:ext cx="118584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8" name="Oval 17"/>
          <p:cNvSpPr/>
          <p:nvPr/>
        </p:nvSpPr>
        <p:spPr>
          <a:xfrm>
            <a:off x="870120" y="2727360"/>
            <a:ext cx="723600" cy="72396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75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9" name="Oval 19"/>
          <p:cNvSpPr/>
          <p:nvPr/>
        </p:nvSpPr>
        <p:spPr>
          <a:xfrm>
            <a:off x="2563920" y="2727360"/>
            <a:ext cx="723960" cy="72396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85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0" name="TextBox 20"/>
          <p:cNvSpPr/>
          <p:nvPr/>
        </p:nvSpPr>
        <p:spPr>
          <a:xfrm>
            <a:off x="1911240" y="36720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"/>
                <a:ea typeface="Open Sans"/>
              </a:rPr>
              <a:t>Adobe XD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1" name="Oval 21"/>
          <p:cNvSpPr/>
          <p:nvPr/>
        </p:nvSpPr>
        <p:spPr>
          <a:xfrm>
            <a:off x="4278240" y="2727360"/>
            <a:ext cx="723960" cy="72396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oppins SemiBold"/>
              </a:rPr>
              <a:t>60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2" name="TextBox 22"/>
          <p:cNvSpPr/>
          <p:nvPr/>
        </p:nvSpPr>
        <p:spPr>
          <a:xfrm>
            <a:off x="3625920" y="367200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"/>
                <a:ea typeface="Open Sans"/>
              </a:rPr>
              <a:t>Microsof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3" name="Block Arc 23"/>
          <p:cNvSpPr/>
          <p:nvPr/>
        </p:nvSpPr>
        <p:spPr>
          <a:xfrm rot="16200000">
            <a:off x="2347920" y="2511360"/>
            <a:ext cx="1155600" cy="115560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854486" y="1085179"/>
                </a:moveTo>
                <a:cubicBezTo>
                  <a:pt x="625278" y="1210161"/>
                  <a:pt x="340738" y="1165936"/>
                  <a:pt x="160278" y="977280"/>
                </a:cubicBezTo>
                <a:cubicBezTo>
                  <a:pt x="-20182" y="788624"/>
                  <a:pt x="-51733" y="502401"/>
                  <a:pt x="83300" y="278967"/>
                </a:cubicBezTo>
                <a:cubicBezTo>
                  <a:pt x="218334" y="55533"/>
                  <a:pt x="486408" y="-49610"/>
                  <a:pt x="737337" y="22446"/>
                </a:cubicBezTo>
                <a:cubicBezTo>
                  <a:pt x="988265" y="94501"/>
                  <a:pt x="1159714" y="325855"/>
                  <a:pt x="1155629" y="586892"/>
                </a:cubicBezTo>
                <a:lnTo>
                  <a:pt x="1018453" y="584744"/>
                </a:lnTo>
                <a:cubicBezTo>
                  <a:pt x="1021568" y="385682"/>
                  <a:pt x="890825" y="209257"/>
                  <a:pt x="699472" y="154309"/>
                </a:cubicBezTo>
                <a:cubicBezTo>
                  <a:pt x="508119" y="99361"/>
                  <a:pt x="303690" y="179541"/>
                  <a:pt x="200717" y="349927"/>
                </a:cubicBezTo>
                <a:cubicBezTo>
                  <a:pt x="97743" y="520314"/>
                  <a:pt x="121804" y="738581"/>
                  <a:pt x="259419" y="882447"/>
                </a:cubicBezTo>
                <a:cubicBezTo>
                  <a:pt x="397034" y="1026313"/>
                  <a:pt x="614019" y="1060038"/>
                  <a:pt x="788808" y="964729"/>
                </a:cubicBezTo>
                <a:lnTo>
                  <a:pt x="854486" y="1085179"/>
                </a:lnTo>
                <a:close/>
              </a:path>
            </a:pathLst>
          </a:custGeom>
          <a:solidFill>
            <a:srgbClr val="5d9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4" name="Block Arc 24"/>
          <p:cNvSpPr/>
          <p:nvPr/>
        </p:nvSpPr>
        <p:spPr>
          <a:xfrm rot="16200000">
            <a:off x="4047840" y="2496960"/>
            <a:ext cx="1184400" cy="1184040"/>
          </a:xfrm>
          <a:custGeom>
            <a:avLst/>
            <a:gdLst/>
            <a:ahLst/>
            <a:rect l="l" t="t" r="r" b="b"/>
            <a:pathLst>
              <a:path w="1184275" h="1184275">
                <a:moveTo>
                  <a:pt x="1072982" y="937703"/>
                </a:moveTo>
                <a:cubicBezTo>
                  <a:pt x="902319" y="1175175"/>
                  <a:pt x="583855" y="1252499"/>
                  <a:pt x="323297" y="1119728"/>
                </a:cubicBezTo>
                <a:cubicBezTo>
                  <a:pt x="62738" y="986957"/>
                  <a:pt x="-61876" y="683857"/>
                  <a:pt x="29947" y="406211"/>
                </a:cubicBezTo>
                <a:cubicBezTo>
                  <a:pt x="121770" y="128565"/>
                  <a:pt x="402528" y="-40471"/>
                  <a:pt x="690870" y="8289"/>
                </a:cubicBezTo>
                <a:cubicBezTo>
                  <a:pt x="979212" y="57049"/>
                  <a:pt x="1188779" y="309002"/>
                  <a:pt x="1184204" y="601402"/>
                </a:cubicBezTo>
                <a:lnTo>
                  <a:pt x="1043634" y="599202"/>
                </a:lnTo>
                <a:cubicBezTo>
                  <a:pt x="1047123" y="376224"/>
                  <a:pt x="887312" y="184090"/>
                  <a:pt x="667428" y="146906"/>
                </a:cubicBezTo>
                <a:cubicBezTo>
                  <a:pt x="447544" y="109722"/>
                  <a:pt x="233444" y="238626"/>
                  <a:pt x="163422" y="450353"/>
                </a:cubicBezTo>
                <a:cubicBezTo>
                  <a:pt x="93400" y="662080"/>
                  <a:pt x="188428" y="893218"/>
                  <a:pt x="387125" y="994466"/>
                </a:cubicBezTo>
                <a:cubicBezTo>
                  <a:pt x="585821" y="1095714"/>
                  <a:pt x="828675" y="1036749"/>
                  <a:pt x="958819" y="855658"/>
                </a:cubicBezTo>
                <a:lnTo>
                  <a:pt x="1072982" y="937703"/>
                </a:lnTo>
                <a:close/>
              </a:path>
            </a:pathLst>
          </a:custGeom>
          <a:solidFill>
            <a:srgbClr val="5d9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5" name="Rectangle 25"/>
          <p:cNvSpPr/>
          <p:nvPr/>
        </p:nvSpPr>
        <p:spPr>
          <a:xfrm flipV="1">
            <a:off x="630360" y="4826880"/>
            <a:ext cx="4024080" cy="6660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6" name="Rectangle 26"/>
          <p:cNvSpPr/>
          <p:nvPr/>
        </p:nvSpPr>
        <p:spPr>
          <a:xfrm flipV="1">
            <a:off x="630360" y="4826880"/>
            <a:ext cx="3313080" cy="666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7" name="TextBox 27"/>
          <p:cNvSpPr/>
          <p:nvPr/>
        </p:nvSpPr>
        <p:spPr>
          <a:xfrm flipH="1">
            <a:off x="4911840" y="4716360"/>
            <a:ext cx="52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8" name="Rectangle 36"/>
          <p:cNvSpPr/>
          <p:nvPr/>
        </p:nvSpPr>
        <p:spPr>
          <a:xfrm>
            <a:off x="530280" y="4416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Adobe Illustrator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9" name="Rectangle 29"/>
          <p:cNvSpPr/>
          <p:nvPr/>
        </p:nvSpPr>
        <p:spPr>
          <a:xfrm flipV="1">
            <a:off x="630360" y="5563440"/>
            <a:ext cx="4024080" cy="66600"/>
          </a:xfrm>
          <a:prstGeom prst="rect">
            <a:avLst/>
          </a:prstGeom>
          <a:solidFill>
            <a:srgbClr val="ce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40" name="Rectangle 30"/>
          <p:cNvSpPr/>
          <p:nvPr/>
        </p:nvSpPr>
        <p:spPr>
          <a:xfrm flipV="1">
            <a:off x="630360" y="5563440"/>
            <a:ext cx="3105000" cy="666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41" name="TextBox 31"/>
          <p:cNvSpPr/>
          <p:nvPr/>
        </p:nvSpPr>
        <p:spPr>
          <a:xfrm flipH="1">
            <a:off x="4911840" y="5454720"/>
            <a:ext cx="52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42" name="Rectangle 36"/>
          <p:cNvSpPr/>
          <p:nvPr/>
        </p:nvSpPr>
        <p:spPr>
          <a:xfrm>
            <a:off x="530280" y="5154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Poppins SemiBold"/>
              </a:rPr>
              <a:t>Adobe Photoshop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43" name="TextBox 37"/>
          <p:cNvSpPr/>
          <p:nvPr/>
        </p:nvSpPr>
        <p:spPr>
          <a:xfrm>
            <a:off x="9066240" y="229392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Poppins SemiBold"/>
              </a:rPr>
              <a:t>Roma</a:t>
            </a:r>
            <a:r>
              <a:rPr b="0" lang="en-US" sz="2400" spc="-1" strike="noStrike">
                <a:solidFill>
                  <a:srgbClr val="1363df"/>
                </a:solidFill>
                <a:latin typeface="Poppins SemiBold"/>
              </a:rPr>
              <a:t>n Dune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44" name="TextBox 38"/>
          <p:cNvSpPr/>
          <p:nvPr/>
        </p:nvSpPr>
        <p:spPr>
          <a:xfrm>
            <a:off x="9086760" y="277020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"/>
              </a:rPr>
              <a:t>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145" name="Group 39"/>
          <p:cNvGrpSpPr/>
          <p:nvPr/>
        </p:nvGrpSpPr>
        <p:grpSpPr>
          <a:xfrm>
            <a:off x="9156600" y="3219480"/>
            <a:ext cx="1892880" cy="261360"/>
            <a:chOff x="9156600" y="3219480"/>
            <a:chExt cx="1892880" cy="261360"/>
          </a:xfrm>
        </p:grpSpPr>
        <p:sp>
          <p:nvSpPr>
            <p:cNvPr id="1146" name="Oval 40"/>
            <p:cNvSpPr/>
            <p:nvPr/>
          </p:nvSpPr>
          <p:spPr>
            <a:xfrm>
              <a:off x="9156600" y="329256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47" name="TextBox 41"/>
            <p:cNvSpPr/>
            <p:nvPr/>
          </p:nvSpPr>
          <p:spPr>
            <a:xfrm>
              <a:off x="9344880" y="321948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148" name="TextBox 44"/>
          <p:cNvSpPr/>
          <p:nvPr/>
        </p:nvSpPr>
        <p:spPr>
          <a:xfrm>
            <a:off x="6751800" y="4511520"/>
            <a:ext cx="4757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 dignisim. Eni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al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mattis 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l sigi diano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0" name="TextBox 8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30B9088A-4C7B-445C-85AA-8FF3B8B4F982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1" name="TextBox 23"/>
          <p:cNvSpPr/>
          <p:nvPr/>
        </p:nvSpPr>
        <p:spPr>
          <a:xfrm>
            <a:off x="1035000" y="4149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Analyze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2" name="TextBox 24"/>
          <p:cNvSpPr/>
          <p:nvPr/>
        </p:nvSpPr>
        <p:spPr>
          <a:xfrm>
            <a:off x="1414800" y="4591080"/>
            <a:ext cx="11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Analyz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3" name="TextBox 25"/>
          <p:cNvSpPr/>
          <p:nvPr/>
        </p:nvSpPr>
        <p:spPr>
          <a:xfrm>
            <a:off x="9286920" y="4149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Delivering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4" name="TextBox 26"/>
          <p:cNvSpPr/>
          <p:nvPr/>
        </p:nvSpPr>
        <p:spPr>
          <a:xfrm>
            <a:off x="9689400" y="4591080"/>
            <a:ext cx="106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Deliver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5" name="TextBox 30"/>
          <p:cNvSpPr/>
          <p:nvPr/>
        </p:nvSpPr>
        <p:spPr>
          <a:xfrm>
            <a:off x="3786120" y="4149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Research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6" name="TextBox 31"/>
          <p:cNvSpPr/>
          <p:nvPr/>
        </p:nvSpPr>
        <p:spPr>
          <a:xfrm>
            <a:off x="4118040" y="4591080"/>
            <a:ext cx="120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Research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7" name="TextBox 33"/>
          <p:cNvSpPr/>
          <p:nvPr/>
        </p:nvSpPr>
        <p:spPr>
          <a:xfrm>
            <a:off x="6535800" y="4149720"/>
            <a:ext cx="18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Designing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8" name="TextBox 34"/>
          <p:cNvSpPr/>
          <p:nvPr/>
        </p:nvSpPr>
        <p:spPr>
          <a:xfrm>
            <a:off x="6836040" y="4591080"/>
            <a:ext cx="127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Designing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9" name="TextBox 35"/>
          <p:cNvSpPr/>
          <p:nvPr/>
        </p:nvSpPr>
        <p:spPr>
          <a:xfrm>
            <a:off x="735120" y="4938840"/>
            <a:ext cx="2469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0" name="TextBox 36"/>
          <p:cNvSpPr/>
          <p:nvPr/>
        </p:nvSpPr>
        <p:spPr>
          <a:xfrm>
            <a:off x="3486240" y="4938840"/>
            <a:ext cx="2469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1" name="TextBox 37"/>
          <p:cNvSpPr/>
          <p:nvPr/>
        </p:nvSpPr>
        <p:spPr>
          <a:xfrm>
            <a:off x="6235560" y="4938840"/>
            <a:ext cx="2470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2" name="TextBox 38"/>
          <p:cNvSpPr/>
          <p:nvPr/>
        </p:nvSpPr>
        <p:spPr>
          <a:xfrm>
            <a:off x="8986680" y="4938840"/>
            <a:ext cx="2470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3" name="TextBox 43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63df"/>
                </a:solidFill>
                <a:latin typeface="Poppins SemiBold"/>
              </a:rPr>
              <a:t>Work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Process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4" name="Straight Connector 44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13"/>
          <p:cNvSpPr/>
          <p:nvPr/>
        </p:nvSpPr>
        <p:spPr>
          <a:xfrm>
            <a:off x="5499000" y="3489480"/>
            <a:ext cx="26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Poppins SemiBold"/>
              </a:rPr>
              <a:t>About </a:t>
            </a:r>
            <a:r>
              <a:rPr b="0" lang="en-US" sz="3600" spc="-1" strike="noStrike">
                <a:solidFill>
                  <a:srgbClr val="1363df"/>
                </a:solidFill>
                <a:latin typeface="Poppins SemiBold"/>
              </a:rPr>
              <a:t>Me</a:t>
            </a:r>
            <a:endParaRPr b="0" lang="en-US" sz="3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6" name="Straight Connector 16"/>
          <p:cNvSpPr/>
          <p:nvPr/>
        </p:nvSpPr>
        <p:spPr>
          <a:xfrm>
            <a:off x="7950240" y="3936960"/>
            <a:ext cx="88596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657" name="Group 18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658" name="Rectangle: Rounded Corners 19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59" name="Rectangle: Rounded Corners 20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3a7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60" name="Rectangle: Rounded Corners 21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61" name="Rectangle: Rounded Corners 22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62" name="Rectangle: Rounded Corners 23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663" name="TextBox 26"/>
          <p:cNvSpPr/>
          <p:nvPr/>
        </p:nvSpPr>
        <p:spPr>
          <a:xfrm>
            <a:off x="5499000" y="4398840"/>
            <a:ext cx="630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ti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4" name="TextBox 39"/>
          <p:cNvSpPr/>
          <p:nvPr/>
        </p:nvSpPr>
        <p:spPr>
          <a:xfrm>
            <a:off x="1130400" y="3828960"/>
            <a:ext cx="3473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Times New Roman"/>
              </a:rPr>
              <a:t>Name</a:t>
            </a: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Times New Roman"/>
              </a:rPr>
              <a:t>: Roman Dun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Open Sans"/>
              </a:rPr>
              <a:t>Birth</a:t>
            </a: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Open Sans"/>
              </a:rPr>
              <a:t>: 24 January 199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Open Sans"/>
              </a:rPr>
              <a:t>Address</a:t>
            </a: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Open Sans"/>
              </a:rPr>
              <a:t>: Jakarta, Indonesia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Open Sans"/>
              </a:rPr>
              <a:t>Phone</a:t>
            </a: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Open Sans"/>
              </a:rPr>
              <a:t>: +123 1234 123 1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Open Sans"/>
              </a:rPr>
              <a:t>Email</a:t>
            </a: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Open Sans"/>
              </a:rPr>
              <a:t>: yourcv@email.com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Open Sans"/>
              </a:rPr>
              <a:t>Freelance</a:t>
            </a:r>
            <a:r>
              <a:rPr b="1" lang="en-US" sz="1400" spc="-1" strike="noStrike">
                <a:solidFill>
                  <a:srgbClr val="595959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Open Sans"/>
              </a:rPr>
              <a:t>: Availabl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5" name="Freeform 850"/>
          <p:cNvSpPr/>
          <p:nvPr/>
        </p:nvSpPr>
        <p:spPr>
          <a:xfrm>
            <a:off x="1962000" y="6089760"/>
            <a:ext cx="219240" cy="21888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6" name="Freeform 1536"/>
          <p:cNvSpPr/>
          <p:nvPr/>
        </p:nvSpPr>
        <p:spPr>
          <a:xfrm>
            <a:off x="1206360" y="6083280"/>
            <a:ext cx="230400" cy="23328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1584360" y="6083280"/>
            <a:ext cx="228600" cy="23184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8" name="TextBox 43"/>
          <p:cNvSpPr/>
          <p:nvPr/>
        </p:nvSpPr>
        <p:spPr>
          <a:xfrm>
            <a:off x="2478240" y="5961240"/>
            <a:ext cx="1687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 SemiBold"/>
                <a:ea typeface="Open Sans"/>
              </a:rPr>
              <a:t>@romandun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6" name="TextBox 2"/>
          <p:cNvSpPr/>
          <p:nvPr/>
        </p:nvSpPr>
        <p:spPr>
          <a:xfrm>
            <a:off x="527040" y="836640"/>
            <a:ext cx="38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63df"/>
                </a:solidFill>
                <a:latin typeface="Poppins SemiBold"/>
              </a:rPr>
              <a:t>UI/UX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Design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7" name="Straight Connector 3"/>
          <p:cNvSpPr/>
          <p:nvPr/>
        </p:nvSpPr>
        <p:spPr>
          <a:xfrm>
            <a:off x="4206960" y="1198440"/>
            <a:ext cx="84132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8" name="TextBox 4"/>
          <p:cNvSpPr/>
          <p:nvPr/>
        </p:nvSpPr>
        <p:spPr>
          <a:xfrm>
            <a:off x="527040" y="2001960"/>
            <a:ext cx="51134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9" name="TextBox 6"/>
          <p:cNvSpPr/>
          <p:nvPr/>
        </p:nvSpPr>
        <p:spPr>
          <a:xfrm>
            <a:off x="2684520" y="446076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Poppins SemiBold"/>
              </a:rPr>
              <a:t>Roma</a:t>
            </a:r>
            <a:r>
              <a:rPr b="0" lang="en-US" sz="2400" spc="-1" strike="noStrike">
                <a:solidFill>
                  <a:srgbClr val="1363df"/>
                </a:solidFill>
                <a:latin typeface="Poppins SemiBold"/>
              </a:rPr>
              <a:t>n Dune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70" name="TextBox 7"/>
          <p:cNvSpPr/>
          <p:nvPr/>
        </p:nvSpPr>
        <p:spPr>
          <a:xfrm>
            <a:off x="2705040" y="493560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"/>
              </a:rPr>
              <a:t>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171" name="Group 8"/>
          <p:cNvGrpSpPr/>
          <p:nvPr/>
        </p:nvGrpSpPr>
        <p:grpSpPr>
          <a:xfrm>
            <a:off x="2774880" y="5384880"/>
            <a:ext cx="1892880" cy="261360"/>
            <a:chOff x="2774880" y="5384880"/>
            <a:chExt cx="1892880" cy="261360"/>
          </a:xfrm>
        </p:grpSpPr>
        <p:sp>
          <p:nvSpPr>
            <p:cNvPr id="1172" name="Oval 9"/>
            <p:cNvSpPr/>
            <p:nvPr/>
          </p:nvSpPr>
          <p:spPr>
            <a:xfrm>
              <a:off x="2774880" y="545760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73" name="TextBox 10"/>
            <p:cNvSpPr/>
            <p:nvPr/>
          </p:nvSpPr>
          <p:spPr>
            <a:xfrm>
              <a:off x="2963160" y="538488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174" name="TextBox 20"/>
          <p:cNvSpPr/>
          <p:nvPr/>
        </p:nvSpPr>
        <p:spPr>
          <a:xfrm>
            <a:off x="6781680" y="2676600"/>
            <a:ext cx="20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Design Thinking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75" name="TextBox 24"/>
          <p:cNvSpPr/>
          <p:nvPr/>
        </p:nvSpPr>
        <p:spPr>
          <a:xfrm>
            <a:off x="9461520" y="26766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  <a:ea typeface="Open Sans"/>
              </a:rPr>
              <a:t>Mood Board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76" name="TextBox 27"/>
          <p:cNvSpPr/>
          <p:nvPr/>
        </p:nvSpPr>
        <p:spPr>
          <a:xfrm>
            <a:off x="6781680" y="5386320"/>
            <a:ext cx="20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Designing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77" name="TextBox 30"/>
          <p:cNvSpPr/>
          <p:nvPr/>
        </p:nvSpPr>
        <p:spPr>
          <a:xfrm>
            <a:off x="9461520" y="538632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Evaluating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Box 9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2BFBB791-4705-4C04-8C7F-837586B5216B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79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0" name="TextBox 11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63df"/>
                </a:solidFill>
                <a:latin typeface="Poppins SemiBold"/>
              </a:rPr>
              <a:t>Project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Portfolio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1" name="Straight Connector 12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2" name="TextBox 24"/>
          <p:cNvSpPr/>
          <p:nvPr/>
        </p:nvSpPr>
        <p:spPr>
          <a:xfrm>
            <a:off x="1798560" y="544356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 SemiBold"/>
                <a:ea typeface="Open Sans"/>
              </a:rPr>
              <a:t>Portfolio, 12 Jan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3" name="TextBox 25"/>
          <p:cNvSpPr/>
          <p:nvPr/>
        </p:nvSpPr>
        <p:spPr>
          <a:xfrm>
            <a:off x="2149560" y="588168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f7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4" name="TextBox 26"/>
          <p:cNvSpPr/>
          <p:nvPr/>
        </p:nvSpPr>
        <p:spPr>
          <a:xfrm>
            <a:off x="7446960" y="5443560"/>
            <a:ext cx="29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 SemiBold"/>
                <a:ea typeface="Open Sans"/>
              </a:rPr>
              <a:t>Portfolio, 20 Mar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5" name="TextBox 27"/>
          <p:cNvSpPr/>
          <p:nvPr/>
        </p:nvSpPr>
        <p:spPr>
          <a:xfrm>
            <a:off x="7797960" y="588168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f7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13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7" name="TextBox 14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E0EFEA63-55EB-436F-96D5-2C8F3BA92F0C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189" name="Rectangle: Rounded Corners 16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90" name="Rectangle: Rounded Corners 17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3a7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91" name="Rectangle: Rounded Corners 18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92" name="Rectangle: Rounded Corners 19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93" name="Rectangle: Rounded Corners 20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194" name="TextBox 21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5" name="Straight Connector 22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1f469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6" name="TextBox 29"/>
          <p:cNvSpPr/>
          <p:nvPr/>
        </p:nvSpPr>
        <p:spPr>
          <a:xfrm>
            <a:off x="922320" y="2387520"/>
            <a:ext cx="29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12 Jan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7" name="TextBox 30"/>
          <p:cNvSpPr/>
          <p:nvPr/>
        </p:nvSpPr>
        <p:spPr>
          <a:xfrm>
            <a:off x="1273320" y="282564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8" name="TextBox 33"/>
          <p:cNvSpPr/>
          <p:nvPr/>
        </p:nvSpPr>
        <p:spPr>
          <a:xfrm>
            <a:off x="4622760" y="238752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20 Mar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9" name="TextBox 34"/>
          <p:cNvSpPr/>
          <p:nvPr/>
        </p:nvSpPr>
        <p:spPr>
          <a:xfrm>
            <a:off x="4973760" y="282564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0" name="TextBox 36"/>
          <p:cNvSpPr/>
          <p:nvPr/>
        </p:nvSpPr>
        <p:spPr>
          <a:xfrm>
            <a:off x="8323200" y="238752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10 Jun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1" name="TextBox 37"/>
          <p:cNvSpPr/>
          <p:nvPr/>
        </p:nvSpPr>
        <p:spPr>
          <a:xfrm>
            <a:off x="8674200" y="282564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2" name="TextBox 39"/>
          <p:cNvSpPr/>
          <p:nvPr/>
        </p:nvSpPr>
        <p:spPr>
          <a:xfrm>
            <a:off x="922320" y="5219640"/>
            <a:ext cx="29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08 Aug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3" name="TextBox 40"/>
          <p:cNvSpPr/>
          <p:nvPr/>
        </p:nvSpPr>
        <p:spPr>
          <a:xfrm>
            <a:off x="1273320" y="565776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4" name="TextBox 42"/>
          <p:cNvSpPr/>
          <p:nvPr/>
        </p:nvSpPr>
        <p:spPr>
          <a:xfrm>
            <a:off x="4622760" y="521964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10 Sep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5" name="TextBox 43"/>
          <p:cNvSpPr/>
          <p:nvPr/>
        </p:nvSpPr>
        <p:spPr>
          <a:xfrm>
            <a:off x="4973760" y="565776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6" name="TextBox 45"/>
          <p:cNvSpPr/>
          <p:nvPr/>
        </p:nvSpPr>
        <p:spPr>
          <a:xfrm>
            <a:off x="8323200" y="521964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02 Oct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7" name="TextBox 46"/>
          <p:cNvSpPr/>
          <p:nvPr/>
        </p:nvSpPr>
        <p:spPr>
          <a:xfrm>
            <a:off x="8674200" y="565776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9" name="TextBox 2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642BD617-2E2E-46C7-92EE-574385952820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210" name="Group 3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211" name="Rectangle: Rounded Corners 4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212" name="Rectangle: Rounded Corners 5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3a7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213" name="Rectangle: Rounded Corners 6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214" name="Rectangle: Rounded Corners 7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215" name="Rectangle: Rounded Corners 8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216" name="TextBox 9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17" name="Straight Connector 10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1f469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pic>
        <p:nvPicPr>
          <p:cNvPr id="1218" name="Group 16" descr=""/>
          <p:cNvPicPr/>
          <p:nvPr/>
        </p:nvPicPr>
        <p:blipFill>
          <a:blip r:embed="rId1"/>
          <a:stretch/>
        </p:blipFill>
        <p:spPr>
          <a:xfrm>
            <a:off x="5791320" y="957240"/>
            <a:ext cx="609480" cy="480960"/>
          </a:xfrm>
          <a:prstGeom prst="rect">
            <a:avLst/>
          </a:prstGeom>
          <a:ln w="0">
            <a:noFill/>
          </a:ln>
        </p:spPr>
      </p:pic>
      <p:sp>
        <p:nvSpPr>
          <p:cNvPr id="1219" name="TextBox 17"/>
          <p:cNvSpPr/>
          <p:nvPr/>
        </p:nvSpPr>
        <p:spPr>
          <a:xfrm>
            <a:off x="3379680" y="1566720"/>
            <a:ext cx="543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363df"/>
                </a:solidFill>
                <a:latin typeface="Poppins SemiBold"/>
              </a:rPr>
              <a:t>Daily </a:t>
            </a:r>
            <a:r>
              <a:rPr b="0" lang="en-US" sz="6600" spc="-1" strike="noStrike">
                <a:solidFill>
                  <a:srgbClr val="3f3f3f"/>
                </a:solidFill>
                <a:latin typeface="Poppins SemiBold"/>
              </a:rPr>
              <a:t>Quote</a:t>
            </a:r>
            <a:endParaRPr b="0" lang="en-US" sz="6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0" name="TextBox 19"/>
          <p:cNvSpPr/>
          <p:nvPr/>
        </p:nvSpPr>
        <p:spPr>
          <a:xfrm>
            <a:off x="1287360" y="3263760"/>
            <a:ext cx="9617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Poppins"/>
              </a:rPr>
              <a:t>Understanding Our Customers Really Think Is Pivotal To Our Success A Company Forever.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TextBox 12"/>
          <p:cNvSpPr/>
          <p:nvPr/>
        </p:nvSpPr>
        <p:spPr>
          <a:xfrm>
            <a:off x="503280" y="3052800"/>
            <a:ext cx="6297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1363df"/>
                </a:solidFill>
                <a:latin typeface="Poppins SemiBold"/>
              </a:rPr>
              <a:t>Tha</a:t>
            </a:r>
            <a:r>
              <a:rPr b="0" lang="en-US" sz="11500" spc="-1" strike="noStrike">
                <a:solidFill>
                  <a:srgbClr val="3f3f3f"/>
                </a:solidFill>
                <a:latin typeface="Poppins SemiBold"/>
              </a:rPr>
              <a:t>nks</a:t>
            </a:r>
            <a:endParaRPr b="0" lang="en-US" sz="115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2" name="TextBox 13"/>
          <p:cNvSpPr/>
          <p:nvPr/>
        </p:nvSpPr>
        <p:spPr>
          <a:xfrm>
            <a:off x="522360" y="4805280"/>
            <a:ext cx="45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oppins"/>
              </a:rPr>
              <a:t>And See You Next Tim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3" name="Rectangle 14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4" name="TextBox 17"/>
          <p:cNvSpPr/>
          <p:nvPr/>
        </p:nvSpPr>
        <p:spPr>
          <a:xfrm>
            <a:off x="7864560" y="3343320"/>
            <a:ext cx="347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Address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Jakarta, Indonesia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Phon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+123 1234 123 1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Email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yourcv@email.com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Freelanc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Availabl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5" name="Freeform 850"/>
          <p:cNvSpPr/>
          <p:nvPr/>
        </p:nvSpPr>
        <p:spPr>
          <a:xfrm>
            <a:off x="8694720" y="5021280"/>
            <a:ext cx="220680" cy="22068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6" name="Freeform 1536"/>
          <p:cNvSpPr/>
          <p:nvPr/>
        </p:nvSpPr>
        <p:spPr>
          <a:xfrm>
            <a:off x="7940520" y="5016600"/>
            <a:ext cx="230400" cy="23184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7" name="Freeform 6"/>
          <p:cNvSpPr/>
          <p:nvPr/>
        </p:nvSpPr>
        <p:spPr>
          <a:xfrm>
            <a:off x="8318520" y="5016600"/>
            <a:ext cx="228600" cy="23184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8" name="TextBox 21"/>
          <p:cNvSpPr/>
          <p:nvPr/>
        </p:nvSpPr>
        <p:spPr>
          <a:xfrm>
            <a:off x="9212400" y="4894200"/>
            <a:ext cx="1687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@romandun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67"/>
          <p:cNvSpPr/>
          <p:nvPr/>
        </p:nvSpPr>
        <p:spPr>
          <a:xfrm flipH="1">
            <a:off x="0" y="0"/>
            <a:ext cx="3371760" cy="6858000"/>
          </a:xfrm>
          <a:prstGeom prst="rect">
            <a:avLst/>
          </a:prstGeom>
          <a:solidFill>
            <a:srgbClr val="dfeaf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609480" y="638280"/>
            <a:ext cx="4610160" cy="5581440"/>
          </a:xfrm>
          <a:prstGeom prst="rect">
            <a:avLst/>
          </a:prstGeom>
          <a:solidFill>
            <a:srgbClr val="1f4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671" name="Group 25"/>
          <p:cNvGrpSpPr/>
          <p:nvPr/>
        </p:nvGrpSpPr>
        <p:grpSpPr>
          <a:xfrm>
            <a:off x="1035000" y="2486160"/>
            <a:ext cx="3227400" cy="459000"/>
            <a:chOff x="1035000" y="2486160"/>
            <a:chExt cx="3227400" cy="459000"/>
          </a:xfrm>
        </p:grpSpPr>
        <p:sp>
          <p:nvSpPr>
            <p:cNvPr id="672" name="Oval 12"/>
            <p:cNvSpPr/>
            <p:nvPr/>
          </p:nvSpPr>
          <p:spPr>
            <a:xfrm>
              <a:off x="1035000" y="2597040"/>
              <a:ext cx="284040" cy="2858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1122120" y="2684520"/>
              <a:ext cx="110880" cy="11088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74" name="Rectangle 36"/>
            <p:cNvSpPr/>
            <p:nvPr/>
          </p:nvSpPr>
          <p:spPr>
            <a:xfrm>
              <a:off x="1454040" y="2486160"/>
              <a:ext cx="280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oppins SemiBold"/>
                </a:rPr>
                <a:t>General Layout Designer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grpSp>
        <p:nvGrpSpPr>
          <p:cNvPr id="675" name="Group 20"/>
          <p:cNvGrpSpPr/>
          <p:nvPr/>
        </p:nvGrpSpPr>
        <p:grpSpPr>
          <a:xfrm>
            <a:off x="1035000" y="3062160"/>
            <a:ext cx="3137040" cy="459000"/>
            <a:chOff x="1035000" y="3062160"/>
            <a:chExt cx="3137040" cy="459000"/>
          </a:xfrm>
        </p:grpSpPr>
        <p:sp>
          <p:nvSpPr>
            <p:cNvPr id="676" name="Oval 17"/>
            <p:cNvSpPr/>
            <p:nvPr/>
          </p:nvSpPr>
          <p:spPr>
            <a:xfrm>
              <a:off x="1035000" y="3173400"/>
              <a:ext cx="284040" cy="2858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1122120" y="3260880"/>
              <a:ext cx="110880" cy="11124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78" name="Rectangle 36"/>
            <p:cNvSpPr/>
            <p:nvPr/>
          </p:nvSpPr>
          <p:spPr>
            <a:xfrm>
              <a:off x="1454040" y="3062160"/>
              <a:ext cx="271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oppins SemiBold"/>
                </a:rPr>
                <a:t>UI/UX Designer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grpSp>
        <p:nvGrpSpPr>
          <p:cNvPr id="679" name="Group 21"/>
          <p:cNvGrpSpPr/>
          <p:nvPr/>
        </p:nvGrpSpPr>
        <p:grpSpPr>
          <a:xfrm>
            <a:off x="1035000" y="3638520"/>
            <a:ext cx="3137040" cy="459000"/>
            <a:chOff x="1035000" y="3638520"/>
            <a:chExt cx="3137040" cy="459000"/>
          </a:xfrm>
        </p:grpSpPr>
        <p:sp>
          <p:nvSpPr>
            <p:cNvPr id="680" name="Oval 22"/>
            <p:cNvSpPr/>
            <p:nvPr/>
          </p:nvSpPr>
          <p:spPr>
            <a:xfrm>
              <a:off x="1035000" y="3749400"/>
              <a:ext cx="284040" cy="2858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81" name="Oval 23"/>
            <p:cNvSpPr/>
            <p:nvPr/>
          </p:nvSpPr>
          <p:spPr>
            <a:xfrm>
              <a:off x="1122120" y="3836880"/>
              <a:ext cx="110880" cy="11088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82" name="Rectangle 36"/>
            <p:cNvSpPr/>
            <p:nvPr/>
          </p:nvSpPr>
          <p:spPr>
            <a:xfrm>
              <a:off x="1454040" y="3638520"/>
              <a:ext cx="271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oppins SemiBold"/>
                </a:rPr>
                <a:t>UI/UX Researcher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683" name="TextBox 26"/>
          <p:cNvSpPr/>
          <p:nvPr/>
        </p:nvSpPr>
        <p:spPr>
          <a:xfrm>
            <a:off x="952560" y="120348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4" name="TextBox 27"/>
          <p:cNvSpPr/>
          <p:nvPr/>
        </p:nvSpPr>
        <p:spPr>
          <a:xfrm>
            <a:off x="995040" y="173664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30 Years Old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5" name="TextBox 28"/>
          <p:cNvSpPr/>
          <p:nvPr/>
        </p:nvSpPr>
        <p:spPr>
          <a:xfrm>
            <a:off x="952560" y="4492800"/>
            <a:ext cx="3997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 digniim ni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mattis eni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u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6" name="TextBox 29"/>
          <p:cNvSpPr/>
          <p:nvPr/>
        </p:nvSpPr>
        <p:spPr>
          <a:xfrm>
            <a:off x="5560920" y="917640"/>
            <a:ext cx="5843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7" name="Straight Connector 39"/>
          <p:cNvSpPr/>
          <p:nvPr/>
        </p:nvSpPr>
        <p:spPr>
          <a:xfrm>
            <a:off x="5637240" y="3741840"/>
            <a:ext cx="595476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8" name="TextBox 41"/>
          <p:cNvSpPr/>
          <p:nvPr/>
        </p:nvSpPr>
        <p:spPr>
          <a:xfrm>
            <a:off x="5560920" y="2859120"/>
            <a:ext cx="202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Ju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9" name="TextBox 42"/>
          <p:cNvSpPr/>
          <p:nvPr/>
        </p:nvSpPr>
        <p:spPr>
          <a:xfrm>
            <a:off x="5560920" y="3220920"/>
            <a:ext cx="175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0" name="TextBox 43"/>
          <p:cNvSpPr/>
          <p:nvPr/>
        </p:nvSpPr>
        <p:spPr>
          <a:xfrm>
            <a:off x="5560920" y="250344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2 - 2015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1" name="TextBox 44"/>
          <p:cNvSpPr/>
          <p:nvPr/>
        </p:nvSpPr>
        <p:spPr>
          <a:xfrm>
            <a:off x="7664400" y="285912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2" name="TextBox 45"/>
          <p:cNvSpPr/>
          <p:nvPr/>
        </p:nvSpPr>
        <p:spPr>
          <a:xfrm>
            <a:off x="7664400" y="3220920"/>
            <a:ext cx="175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3" name="TextBox 46"/>
          <p:cNvSpPr/>
          <p:nvPr/>
        </p:nvSpPr>
        <p:spPr>
          <a:xfrm>
            <a:off x="7664400" y="250344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5 - 2018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4" name="TextBox 47"/>
          <p:cNvSpPr/>
          <p:nvPr/>
        </p:nvSpPr>
        <p:spPr>
          <a:xfrm>
            <a:off x="9767880" y="285912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5" name="TextBox 48"/>
          <p:cNvSpPr/>
          <p:nvPr/>
        </p:nvSpPr>
        <p:spPr>
          <a:xfrm>
            <a:off x="9767880" y="3220920"/>
            <a:ext cx="175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6" name="TextBox 49"/>
          <p:cNvSpPr/>
          <p:nvPr/>
        </p:nvSpPr>
        <p:spPr>
          <a:xfrm>
            <a:off x="9767880" y="2503440"/>
            <a:ext cx="17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3df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7" name="TextBox 50"/>
          <p:cNvSpPr/>
          <p:nvPr/>
        </p:nvSpPr>
        <p:spPr>
          <a:xfrm>
            <a:off x="5560920" y="1855800"/>
            <a:ext cx="2795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Poppins SemiBold"/>
                <a:ea typeface="Open Sans"/>
              </a:rPr>
              <a:t>Experience History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698" name="Group 55"/>
          <p:cNvGrpSpPr/>
          <p:nvPr/>
        </p:nvGrpSpPr>
        <p:grpSpPr>
          <a:xfrm>
            <a:off x="5557680" y="3916440"/>
            <a:ext cx="6238800" cy="557280"/>
            <a:chOff x="5557680" y="3916440"/>
            <a:chExt cx="6238800" cy="557280"/>
          </a:xfrm>
        </p:grpSpPr>
        <p:sp>
          <p:nvSpPr>
            <p:cNvPr id="699" name="Rectangle 51"/>
            <p:cNvSpPr/>
            <p:nvPr/>
          </p:nvSpPr>
          <p:spPr>
            <a:xfrm flipV="1">
              <a:off x="5657400" y="4353480"/>
              <a:ext cx="5396400" cy="66600"/>
            </a:xfrm>
            <a:prstGeom prst="rect">
              <a:avLst/>
            </a:prstGeom>
            <a:solidFill>
              <a:srgbClr val="ced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0" name="Rectangle 52"/>
            <p:cNvSpPr/>
            <p:nvPr/>
          </p:nvSpPr>
          <p:spPr>
            <a:xfrm flipV="1">
              <a:off x="5657400" y="4353840"/>
              <a:ext cx="5029560" cy="66600"/>
            </a:xfrm>
            <a:prstGeom prst="rect">
              <a:avLst/>
            </a:prstGeom>
            <a:solidFill>
              <a:srgbClr val="136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1" name="TextBox 53"/>
            <p:cNvSpPr/>
            <p:nvPr/>
          </p:nvSpPr>
          <p:spPr>
            <a:xfrm flipH="1">
              <a:off x="11265840" y="4245120"/>
              <a:ext cx="53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7f7f7f"/>
                  </a:solidFill>
                  <a:latin typeface="Poppins"/>
                  <a:ea typeface="Lato Medium"/>
                </a:rPr>
                <a:t>95%</a:t>
              </a:r>
              <a:endParaRPr b="0" lang="en-US" sz="10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2" name="Rectangle 36"/>
            <p:cNvSpPr/>
            <p:nvPr/>
          </p:nvSpPr>
          <p:spPr>
            <a:xfrm>
              <a:off x="5557680" y="3916440"/>
              <a:ext cx="2981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Poppins SemiBold"/>
                </a:rPr>
                <a:t>UI/UX Analysis</a:t>
              </a:r>
              <a:endParaRPr b="0" lang="en-US" sz="12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grpSp>
        <p:nvGrpSpPr>
          <p:cNvPr id="703" name="Group 56"/>
          <p:cNvGrpSpPr/>
          <p:nvPr/>
        </p:nvGrpSpPr>
        <p:grpSpPr>
          <a:xfrm>
            <a:off x="5557680" y="4653000"/>
            <a:ext cx="6238800" cy="557280"/>
            <a:chOff x="5557680" y="4653000"/>
            <a:chExt cx="6238800" cy="557280"/>
          </a:xfrm>
        </p:grpSpPr>
        <p:sp>
          <p:nvSpPr>
            <p:cNvPr id="704" name="Rectangle 57"/>
            <p:cNvSpPr/>
            <p:nvPr/>
          </p:nvSpPr>
          <p:spPr>
            <a:xfrm flipV="1">
              <a:off x="5657400" y="5091840"/>
              <a:ext cx="5396400" cy="66600"/>
            </a:xfrm>
            <a:prstGeom prst="rect">
              <a:avLst/>
            </a:prstGeom>
            <a:solidFill>
              <a:srgbClr val="ced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5" name="Rectangle 58"/>
            <p:cNvSpPr/>
            <p:nvPr/>
          </p:nvSpPr>
          <p:spPr>
            <a:xfrm flipV="1">
              <a:off x="5657400" y="5092200"/>
              <a:ext cx="5029560" cy="66600"/>
            </a:xfrm>
            <a:prstGeom prst="rect">
              <a:avLst/>
            </a:prstGeom>
            <a:solidFill>
              <a:srgbClr val="136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6" name="TextBox 59"/>
            <p:cNvSpPr/>
            <p:nvPr/>
          </p:nvSpPr>
          <p:spPr>
            <a:xfrm flipH="1">
              <a:off x="11265840" y="4981680"/>
              <a:ext cx="53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7f7f7f"/>
                  </a:solidFill>
                  <a:latin typeface="Poppins"/>
                  <a:ea typeface="Lato Medium"/>
                </a:rPr>
                <a:t>95%</a:t>
              </a:r>
              <a:endParaRPr b="0" lang="en-US" sz="10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7" name="Rectangle 36"/>
            <p:cNvSpPr/>
            <p:nvPr/>
          </p:nvSpPr>
          <p:spPr>
            <a:xfrm>
              <a:off x="5557680" y="4653000"/>
              <a:ext cx="2981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Poppins SemiBold"/>
                </a:rPr>
                <a:t>Visual Brain Storming</a:t>
              </a:r>
              <a:endParaRPr b="0" lang="en-US" sz="12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grpSp>
        <p:nvGrpSpPr>
          <p:cNvPr id="708" name="Group 61"/>
          <p:cNvGrpSpPr/>
          <p:nvPr/>
        </p:nvGrpSpPr>
        <p:grpSpPr>
          <a:xfrm>
            <a:off x="5557680" y="5391000"/>
            <a:ext cx="6238800" cy="557280"/>
            <a:chOff x="5557680" y="5391000"/>
            <a:chExt cx="6238800" cy="557280"/>
          </a:xfrm>
        </p:grpSpPr>
        <p:sp>
          <p:nvSpPr>
            <p:cNvPr id="709" name="Rectangle 62"/>
            <p:cNvSpPr/>
            <p:nvPr/>
          </p:nvSpPr>
          <p:spPr>
            <a:xfrm flipV="1">
              <a:off x="5657400" y="5829840"/>
              <a:ext cx="5396400" cy="66600"/>
            </a:xfrm>
            <a:prstGeom prst="rect">
              <a:avLst/>
            </a:prstGeom>
            <a:solidFill>
              <a:srgbClr val="ced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0" name="Rectangle 63"/>
            <p:cNvSpPr/>
            <p:nvPr/>
          </p:nvSpPr>
          <p:spPr>
            <a:xfrm flipV="1">
              <a:off x="5657400" y="5830200"/>
              <a:ext cx="5029560" cy="66600"/>
            </a:xfrm>
            <a:prstGeom prst="rect">
              <a:avLst/>
            </a:prstGeom>
            <a:solidFill>
              <a:srgbClr val="136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1" name="TextBox 64"/>
            <p:cNvSpPr/>
            <p:nvPr/>
          </p:nvSpPr>
          <p:spPr>
            <a:xfrm flipH="1">
              <a:off x="11265840" y="5719680"/>
              <a:ext cx="53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7f7f7f"/>
                  </a:solidFill>
                  <a:latin typeface="Poppins"/>
                  <a:ea typeface="Lato Medium"/>
                </a:rPr>
                <a:t>95%</a:t>
              </a:r>
              <a:endParaRPr b="0" lang="en-US" sz="10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2" name="Rectangle 36"/>
            <p:cNvSpPr/>
            <p:nvPr/>
          </p:nvSpPr>
          <p:spPr>
            <a:xfrm>
              <a:off x="5557680" y="5391000"/>
              <a:ext cx="2981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Poppins SemiBold"/>
                </a:rPr>
                <a:t>General Layout Thinking</a:t>
              </a:r>
              <a:endParaRPr b="0" lang="en-US" sz="12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4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714" name="Rectangle: Rounded Corners 5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5" name="Rectangle: Rounded Corners 6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3a7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6" name="Rectangle: Rounded Corners 7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7" name="Rectangle: Rounded Corners 8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8" name="Rectangle: Rounded Corners 9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719" name="TextBox 10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76E463C4-0C9E-4351-A240-C8E87EE6591D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0" name="TextBox 17"/>
          <p:cNvSpPr/>
          <p:nvPr/>
        </p:nvSpPr>
        <p:spPr>
          <a:xfrm>
            <a:off x="1595520" y="293364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oppins SemiBold"/>
              </a:rPr>
              <a:t>Roman </a:t>
            </a:r>
            <a:r>
              <a:rPr b="0" lang="en-US" sz="2800" spc="-1" strike="noStrike">
                <a:solidFill>
                  <a:srgbClr val="1363df"/>
                </a:solidFill>
                <a:latin typeface="Poppins SemiBold"/>
              </a:rPr>
              <a:t>Dun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1" name="TextBox 18"/>
          <p:cNvSpPr/>
          <p:nvPr/>
        </p:nvSpPr>
        <p:spPr>
          <a:xfrm>
            <a:off x="2077920" y="346716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2" name="Oval 19"/>
          <p:cNvSpPr/>
          <p:nvPr/>
        </p:nvSpPr>
        <p:spPr>
          <a:xfrm>
            <a:off x="1162080" y="4013280"/>
            <a:ext cx="484200" cy="4824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3" name="TextBox 20"/>
          <p:cNvSpPr/>
          <p:nvPr/>
        </p:nvSpPr>
        <p:spPr>
          <a:xfrm>
            <a:off x="638280" y="4521240"/>
            <a:ext cx="1531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4" name="Oval 23"/>
          <p:cNvSpPr/>
          <p:nvPr/>
        </p:nvSpPr>
        <p:spPr>
          <a:xfrm>
            <a:off x="2668680" y="4013280"/>
            <a:ext cx="482400" cy="4824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5" name="TextBox 24"/>
          <p:cNvSpPr/>
          <p:nvPr/>
        </p:nvSpPr>
        <p:spPr>
          <a:xfrm>
            <a:off x="2143080" y="452124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6" name="Oval 26"/>
          <p:cNvSpPr/>
          <p:nvPr/>
        </p:nvSpPr>
        <p:spPr>
          <a:xfrm>
            <a:off x="4175280" y="4013280"/>
            <a:ext cx="482400" cy="4824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7" name="TextBox 27"/>
          <p:cNvSpPr/>
          <p:nvPr/>
        </p:nvSpPr>
        <p:spPr>
          <a:xfrm>
            <a:off x="3649680" y="452124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8" name="Oval 37"/>
          <p:cNvSpPr/>
          <p:nvPr/>
        </p:nvSpPr>
        <p:spPr>
          <a:xfrm>
            <a:off x="1162080" y="5064120"/>
            <a:ext cx="484200" cy="48276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9" name="TextBox 38"/>
          <p:cNvSpPr/>
          <p:nvPr/>
        </p:nvSpPr>
        <p:spPr>
          <a:xfrm>
            <a:off x="638280" y="5572080"/>
            <a:ext cx="1531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0" name="Oval 35"/>
          <p:cNvSpPr/>
          <p:nvPr/>
        </p:nvSpPr>
        <p:spPr>
          <a:xfrm>
            <a:off x="2668680" y="5064120"/>
            <a:ext cx="482400" cy="48276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1" name="TextBox 36"/>
          <p:cNvSpPr/>
          <p:nvPr/>
        </p:nvSpPr>
        <p:spPr>
          <a:xfrm>
            <a:off x="2143080" y="557208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2" name="Oval 33"/>
          <p:cNvSpPr/>
          <p:nvPr/>
        </p:nvSpPr>
        <p:spPr>
          <a:xfrm>
            <a:off x="4175280" y="5064120"/>
            <a:ext cx="482400" cy="48276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3" name="TextBox 34"/>
          <p:cNvSpPr/>
          <p:nvPr/>
        </p:nvSpPr>
        <p:spPr>
          <a:xfrm>
            <a:off x="3649680" y="557208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4" name="TextBox 40"/>
          <p:cNvSpPr/>
          <p:nvPr/>
        </p:nvSpPr>
        <p:spPr>
          <a:xfrm>
            <a:off x="5945040" y="1184400"/>
            <a:ext cx="353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Poppins SemiBold"/>
              </a:rPr>
              <a:t>Bio</a:t>
            </a:r>
            <a:r>
              <a:rPr b="0" lang="en-US" sz="4800" spc="-1" strike="noStrike">
                <a:solidFill>
                  <a:srgbClr val="1363df"/>
                </a:solidFill>
                <a:latin typeface="Poppins SemiBold"/>
              </a:rPr>
              <a:t>graphy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5" name="Straight Connector 41"/>
          <p:cNvSpPr/>
          <p:nvPr/>
        </p:nvSpPr>
        <p:spPr>
          <a:xfrm>
            <a:off x="9489960" y="1630440"/>
            <a:ext cx="119700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6" name="TextBox 44"/>
          <p:cNvSpPr/>
          <p:nvPr/>
        </p:nvSpPr>
        <p:spPr>
          <a:xfrm>
            <a:off x="5972040" y="2558880"/>
            <a:ext cx="561996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 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Open Sans"/>
              </a:rPr>
              <a:t>Lorem ipsum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 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consectetur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ignis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7" name="Freeform 850"/>
          <p:cNvSpPr/>
          <p:nvPr/>
        </p:nvSpPr>
        <p:spPr>
          <a:xfrm>
            <a:off x="4324320" y="4162320"/>
            <a:ext cx="184320" cy="18432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8" name="Freeform 1536"/>
          <p:cNvSpPr/>
          <p:nvPr/>
        </p:nvSpPr>
        <p:spPr>
          <a:xfrm>
            <a:off x="1287360" y="4135320"/>
            <a:ext cx="233640" cy="23652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9" name="Freeform 6"/>
          <p:cNvSpPr/>
          <p:nvPr/>
        </p:nvSpPr>
        <p:spPr>
          <a:xfrm>
            <a:off x="2793960" y="4137120"/>
            <a:ext cx="231840" cy="23472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0" name="Graphic 60"/>
          <p:cNvSpPr/>
          <p:nvPr/>
        </p:nvSpPr>
        <p:spPr>
          <a:xfrm>
            <a:off x="2805120" y="5200560"/>
            <a:ext cx="209520" cy="209520"/>
          </a:xfrm>
          <a:custGeom>
            <a:avLst/>
            <a:gdLst/>
            <a:ahLst/>
            <a:rect l="l" t="t" r="r" b="b"/>
            <a:pathLst>
              <a:path w="209550" h="209550">
                <a:moveTo>
                  <a:pt x="19050" y="0"/>
                </a:moveTo>
                <a:cubicBezTo>
                  <a:pt x="8525" y="0"/>
                  <a:pt x="0" y="8525"/>
                  <a:pt x="0" y="19050"/>
                </a:cubicBezTo>
                <a:lnTo>
                  <a:pt x="0" y="190500"/>
                </a:lnTo>
                <a:cubicBezTo>
                  <a:pt x="0" y="201025"/>
                  <a:pt x="8525" y="209550"/>
                  <a:pt x="19050" y="209550"/>
                </a:cubicBezTo>
                <a:lnTo>
                  <a:pt x="190500" y="209550"/>
                </a:lnTo>
                <a:cubicBezTo>
                  <a:pt x="201025" y="209550"/>
                  <a:pt x="209550" y="201025"/>
                  <a:pt x="209550" y="190500"/>
                </a:cubicBezTo>
                <a:lnTo>
                  <a:pt x="209550" y="19050"/>
                </a:lnTo>
                <a:cubicBezTo>
                  <a:pt x="209550" y="8525"/>
                  <a:pt x="201025" y="0"/>
                  <a:pt x="190500" y="0"/>
                </a:cubicBezTo>
                <a:lnTo>
                  <a:pt x="19050" y="0"/>
                </a:lnTo>
                <a:close/>
                <a:moveTo>
                  <a:pt x="128588" y="66675"/>
                </a:moveTo>
                <a:lnTo>
                  <a:pt x="152940" y="66675"/>
                </a:lnTo>
                <a:cubicBezTo>
                  <a:pt x="155568" y="66675"/>
                  <a:pt x="157702" y="68809"/>
                  <a:pt x="157702" y="71438"/>
                </a:cubicBezTo>
                <a:cubicBezTo>
                  <a:pt x="157702" y="74066"/>
                  <a:pt x="155568" y="76200"/>
                  <a:pt x="152940" y="76200"/>
                </a:cubicBezTo>
                <a:lnTo>
                  <a:pt x="128588" y="76200"/>
                </a:lnTo>
                <a:cubicBezTo>
                  <a:pt x="125959" y="76200"/>
                  <a:pt x="123825" y="74066"/>
                  <a:pt x="123825" y="71438"/>
                </a:cubicBezTo>
                <a:cubicBezTo>
                  <a:pt x="123825" y="68809"/>
                  <a:pt x="125959" y="66675"/>
                  <a:pt x="128588" y="66675"/>
                </a:cubicBezTo>
                <a:close/>
                <a:moveTo>
                  <a:pt x="46862" y="70340"/>
                </a:moveTo>
                <a:lnTo>
                  <a:pt x="73391" y="70340"/>
                </a:lnTo>
                <a:cubicBezTo>
                  <a:pt x="89050" y="70340"/>
                  <a:pt x="98394" y="78001"/>
                  <a:pt x="98394" y="90469"/>
                </a:cubicBezTo>
                <a:cubicBezTo>
                  <a:pt x="98394" y="99022"/>
                  <a:pt x="92067" y="106486"/>
                  <a:pt x="83790" y="107714"/>
                </a:cubicBezTo>
                <a:lnTo>
                  <a:pt x="83790" y="108719"/>
                </a:lnTo>
                <a:cubicBezTo>
                  <a:pt x="94477" y="109500"/>
                  <a:pt x="102245" y="117554"/>
                  <a:pt x="102245" y="127955"/>
                </a:cubicBezTo>
                <a:cubicBezTo>
                  <a:pt x="102254" y="142100"/>
                  <a:pt x="91570" y="151061"/>
                  <a:pt x="74340" y="151061"/>
                </a:cubicBezTo>
                <a:lnTo>
                  <a:pt x="46862" y="151061"/>
                </a:lnTo>
                <a:cubicBezTo>
                  <a:pt x="42024" y="151061"/>
                  <a:pt x="38100" y="147137"/>
                  <a:pt x="38100" y="142298"/>
                </a:cubicBezTo>
                <a:lnTo>
                  <a:pt x="38100" y="79102"/>
                </a:lnTo>
                <a:cubicBezTo>
                  <a:pt x="38100" y="74263"/>
                  <a:pt x="42024" y="70340"/>
                  <a:pt x="46862" y="70340"/>
                </a:cubicBezTo>
                <a:close/>
                <a:moveTo>
                  <a:pt x="54992" y="83251"/>
                </a:moveTo>
                <a:lnTo>
                  <a:pt x="54992" y="103789"/>
                </a:lnTo>
                <a:lnTo>
                  <a:pt x="67680" y="103789"/>
                </a:lnTo>
                <a:cubicBezTo>
                  <a:pt x="76805" y="103799"/>
                  <a:pt x="81781" y="100044"/>
                  <a:pt x="81781" y="93557"/>
                </a:cubicBezTo>
                <a:cubicBezTo>
                  <a:pt x="81781" y="87128"/>
                  <a:pt x="77152" y="83251"/>
                  <a:pt x="69093" y="83251"/>
                </a:cubicBezTo>
                <a:lnTo>
                  <a:pt x="54992" y="83251"/>
                </a:lnTo>
                <a:close/>
                <a:moveTo>
                  <a:pt x="142522" y="88013"/>
                </a:moveTo>
                <a:cubicBezTo>
                  <a:pt x="160705" y="88013"/>
                  <a:pt x="171431" y="99600"/>
                  <a:pt x="171431" y="119174"/>
                </a:cubicBezTo>
                <a:lnTo>
                  <a:pt x="171431" y="124141"/>
                </a:lnTo>
                <a:lnTo>
                  <a:pt x="129108" y="124141"/>
                </a:lnTo>
                <a:lnTo>
                  <a:pt x="129108" y="124978"/>
                </a:lnTo>
                <a:cubicBezTo>
                  <a:pt x="129327" y="134151"/>
                  <a:pt x="134704" y="139861"/>
                  <a:pt x="143210" y="139861"/>
                </a:cubicBezTo>
                <a:cubicBezTo>
                  <a:pt x="149639" y="139861"/>
                  <a:pt x="154052" y="137576"/>
                  <a:pt x="155786" y="133499"/>
                </a:cubicBezTo>
                <a:lnTo>
                  <a:pt x="170948" y="133499"/>
                </a:lnTo>
                <a:cubicBezTo>
                  <a:pt x="168490" y="145138"/>
                  <a:pt x="157851" y="152400"/>
                  <a:pt x="142745" y="152400"/>
                </a:cubicBezTo>
                <a:cubicBezTo>
                  <a:pt x="123952" y="152400"/>
                  <a:pt x="112886" y="140535"/>
                  <a:pt x="112886" y="120514"/>
                </a:cubicBezTo>
                <a:cubicBezTo>
                  <a:pt x="112886" y="100435"/>
                  <a:pt x="124176" y="88013"/>
                  <a:pt x="142522" y="88013"/>
                </a:cubicBezTo>
                <a:close/>
                <a:moveTo>
                  <a:pt x="142596" y="100496"/>
                </a:moveTo>
                <a:cubicBezTo>
                  <a:pt x="135043" y="100496"/>
                  <a:pt x="129717" y="105741"/>
                  <a:pt x="129164" y="113742"/>
                </a:cubicBezTo>
                <a:lnTo>
                  <a:pt x="155451" y="113742"/>
                </a:lnTo>
                <a:cubicBezTo>
                  <a:pt x="155108" y="105579"/>
                  <a:pt x="150197" y="100496"/>
                  <a:pt x="142596" y="100496"/>
                </a:cubicBezTo>
                <a:close/>
                <a:moveTo>
                  <a:pt x="54992" y="115212"/>
                </a:moveTo>
                <a:lnTo>
                  <a:pt x="54992" y="138150"/>
                </a:lnTo>
                <a:lnTo>
                  <a:pt x="70042" y="138150"/>
                </a:lnTo>
                <a:cubicBezTo>
                  <a:pt x="79777" y="138150"/>
                  <a:pt x="85037" y="134048"/>
                  <a:pt x="85037" y="126504"/>
                </a:cubicBezTo>
                <a:cubicBezTo>
                  <a:pt x="85037" y="119113"/>
                  <a:pt x="79605" y="115212"/>
                  <a:pt x="69652" y="115212"/>
                </a:cubicBezTo>
                <a:lnTo>
                  <a:pt x="54992" y="115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1" name="Graphic 64"/>
          <p:cNvSpPr/>
          <p:nvPr/>
        </p:nvSpPr>
        <p:spPr>
          <a:xfrm>
            <a:off x="1298520" y="5200560"/>
            <a:ext cx="209520" cy="209520"/>
          </a:xfrm>
          <a:custGeom>
            <a:avLst/>
            <a:gdLst/>
            <a:ahLst/>
            <a:rect l="l" t="t" r="r" b="b"/>
            <a:pathLst>
              <a:path w="209550" h="209550">
                <a:moveTo>
                  <a:pt x="190500" y="0"/>
                </a:moveTo>
                <a:lnTo>
                  <a:pt x="19050" y="0"/>
                </a:lnTo>
                <a:cubicBezTo>
                  <a:pt x="8525" y="0"/>
                  <a:pt x="0" y="8525"/>
                  <a:pt x="0" y="19050"/>
                </a:cubicBezTo>
                <a:lnTo>
                  <a:pt x="0" y="190500"/>
                </a:lnTo>
                <a:cubicBezTo>
                  <a:pt x="0" y="201025"/>
                  <a:pt x="8525" y="209550"/>
                  <a:pt x="19050" y="209550"/>
                </a:cubicBezTo>
                <a:lnTo>
                  <a:pt x="190500" y="209550"/>
                </a:lnTo>
                <a:cubicBezTo>
                  <a:pt x="201025" y="209550"/>
                  <a:pt x="209550" y="201025"/>
                  <a:pt x="209550" y="190500"/>
                </a:cubicBezTo>
                <a:lnTo>
                  <a:pt x="209550" y="19050"/>
                </a:lnTo>
                <a:cubicBezTo>
                  <a:pt x="209550" y="8525"/>
                  <a:pt x="201016" y="0"/>
                  <a:pt x="190500" y="0"/>
                </a:cubicBezTo>
                <a:close/>
                <a:moveTo>
                  <a:pt x="178013" y="90240"/>
                </a:moveTo>
                <a:cubicBezTo>
                  <a:pt x="176774" y="90354"/>
                  <a:pt x="175527" y="90430"/>
                  <a:pt x="174269" y="90430"/>
                </a:cubicBezTo>
                <a:cubicBezTo>
                  <a:pt x="160030" y="90430"/>
                  <a:pt x="147514" y="83115"/>
                  <a:pt x="140227" y="72038"/>
                </a:cubicBezTo>
                <a:cubicBezTo>
                  <a:pt x="140227" y="101079"/>
                  <a:pt x="140227" y="134131"/>
                  <a:pt x="140227" y="134684"/>
                </a:cubicBezTo>
                <a:cubicBezTo>
                  <a:pt x="140227" y="160258"/>
                  <a:pt x="119491" y="180985"/>
                  <a:pt x="93926" y="180985"/>
                </a:cubicBezTo>
                <a:cubicBezTo>
                  <a:pt x="68361" y="180975"/>
                  <a:pt x="47625" y="160239"/>
                  <a:pt x="47625" y="134674"/>
                </a:cubicBezTo>
                <a:cubicBezTo>
                  <a:pt x="47625" y="109099"/>
                  <a:pt x="68361" y="88373"/>
                  <a:pt x="93926" y="88373"/>
                </a:cubicBezTo>
                <a:cubicBezTo>
                  <a:pt x="94898" y="88373"/>
                  <a:pt x="95841" y="88459"/>
                  <a:pt x="96784" y="88516"/>
                </a:cubicBezTo>
                <a:lnTo>
                  <a:pt x="96784" y="111338"/>
                </a:lnTo>
                <a:cubicBezTo>
                  <a:pt x="95831" y="111223"/>
                  <a:pt x="94907" y="111052"/>
                  <a:pt x="93926" y="111052"/>
                </a:cubicBezTo>
                <a:cubicBezTo>
                  <a:pt x="80877" y="111052"/>
                  <a:pt x="70295" y="121634"/>
                  <a:pt x="70295" y="134684"/>
                </a:cubicBezTo>
                <a:cubicBezTo>
                  <a:pt x="70295" y="147733"/>
                  <a:pt x="80867" y="158315"/>
                  <a:pt x="93926" y="158315"/>
                </a:cubicBezTo>
                <a:cubicBezTo>
                  <a:pt x="106985" y="158315"/>
                  <a:pt x="118510" y="148028"/>
                  <a:pt x="118510" y="134979"/>
                </a:cubicBezTo>
                <a:cubicBezTo>
                  <a:pt x="118510" y="134455"/>
                  <a:pt x="118739" y="28585"/>
                  <a:pt x="118739" y="28585"/>
                </a:cubicBezTo>
                <a:lnTo>
                  <a:pt x="140541" y="28585"/>
                </a:lnTo>
                <a:cubicBezTo>
                  <a:pt x="142589" y="48082"/>
                  <a:pt x="158334" y="63475"/>
                  <a:pt x="178013" y="64884"/>
                </a:cubicBezTo>
                <a:lnTo>
                  <a:pt x="178013" y="902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2" name="Graphic 66"/>
          <p:cNvSpPr/>
          <p:nvPr/>
        </p:nvSpPr>
        <p:spPr>
          <a:xfrm>
            <a:off x="4302000" y="51912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14300" y="0"/>
                </a:moveTo>
                <a:cubicBezTo>
                  <a:pt x="51178" y="0"/>
                  <a:pt x="0" y="51178"/>
                  <a:pt x="0" y="114300"/>
                </a:cubicBezTo>
                <a:cubicBezTo>
                  <a:pt x="0" y="177422"/>
                  <a:pt x="51178" y="228600"/>
                  <a:pt x="114300" y="228600"/>
                </a:cubicBezTo>
                <a:cubicBezTo>
                  <a:pt x="177422" y="228600"/>
                  <a:pt x="228600" y="177422"/>
                  <a:pt x="228600" y="114300"/>
                </a:cubicBezTo>
                <a:cubicBezTo>
                  <a:pt x="228600" y="51178"/>
                  <a:pt x="177422" y="0"/>
                  <a:pt x="114300" y="0"/>
                </a:cubicBezTo>
                <a:close/>
                <a:moveTo>
                  <a:pt x="174889" y="152086"/>
                </a:moveTo>
                <a:lnTo>
                  <a:pt x="157096" y="152333"/>
                </a:lnTo>
                <a:cubicBezTo>
                  <a:pt x="157096" y="152333"/>
                  <a:pt x="153257" y="153086"/>
                  <a:pt x="148238" y="149619"/>
                </a:cubicBezTo>
                <a:cubicBezTo>
                  <a:pt x="141580" y="145047"/>
                  <a:pt x="135303" y="133150"/>
                  <a:pt x="130407" y="134693"/>
                </a:cubicBezTo>
                <a:cubicBezTo>
                  <a:pt x="125444" y="136274"/>
                  <a:pt x="125597" y="146980"/>
                  <a:pt x="125597" y="146980"/>
                </a:cubicBezTo>
                <a:cubicBezTo>
                  <a:pt x="125597" y="146980"/>
                  <a:pt x="125635" y="148866"/>
                  <a:pt x="124501" y="150095"/>
                </a:cubicBezTo>
                <a:cubicBezTo>
                  <a:pt x="123273" y="151419"/>
                  <a:pt x="120863" y="151286"/>
                  <a:pt x="120863" y="151286"/>
                </a:cubicBezTo>
                <a:lnTo>
                  <a:pt x="112890" y="151286"/>
                </a:lnTo>
                <a:cubicBezTo>
                  <a:pt x="112890" y="151286"/>
                  <a:pt x="95307" y="152743"/>
                  <a:pt x="79810" y="136589"/>
                </a:cubicBezTo>
                <a:cubicBezTo>
                  <a:pt x="62932" y="118977"/>
                  <a:pt x="48016" y="84220"/>
                  <a:pt x="48016" y="84220"/>
                </a:cubicBezTo>
                <a:cubicBezTo>
                  <a:pt x="48016" y="84220"/>
                  <a:pt x="47139" y="82029"/>
                  <a:pt x="48073" y="80905"/>
                </a:cubicBezTo>
                <a:cubicBezTo>
                  <a:pt x="49130" y="79667"/>
                  <a:pt x="51978" y="79629"/>
                  <a:pt x="51978" y="79629"/>
                </a:cubicBezTo>
                <a:lnTo>
                  <a:pt x="71028" y="79534"/>
                </a:lnTo>
                <a:cubicBezTo>
                  <a:pt x="71028" y="79534"/>
                  <a:pt x="72819" y="79848"/>
                  <a:pt x="74114" y="80801"/>
                </a:cubicBezTo>
                <a:cubicBezTo>
                  <a:pt x="75171" y="81582"/>
                  <a:pt x="75771" y="83048"/>
                  <a:pt x="75771" y="83048"/>
                </a:cubicBezTo>
                <a:cubicBezTo>
                  <a:pt x="75771" y="83048"/>
                  <a:pt x="78848" y="90849"/>
                  <a:pt x="82934" y="97917"/>
                </a:cubicBezTo>
                <a:cubicBezTo>
                  <a:pt x="90897" y="111690"/>
                  <a:pt x="94593" y="114710"/>
                  <a:pt x="97298" y="113233"/>
                </a:cubicBezTo>
                <a:cubicBezTo>
                  <a:pt x="101241" y="111081"/>
                  <a:pt x="100060" y="93764"/>
                  <a:pt x="100060" y="93764"/>
                </a:cubicBezTo>
                <a:cubicBezTo>
                  <a:pt x="100060" y="93764"/>
                  <a:pt x="100136" y="87478"/>
                  <a:pt x="98079" y="84677"/>
                </a:cubicBezTo>
                <a:cubicBezTo>
                  <a:pt x="96479" y="82496"/>
                  <a:pt x="93469" y="81848"/>
                  <a:pt x="92154" y="81686"/>
                </a:cubicBezTo>
                <a:cubicBezTo>
                  <a:pt x="91078" y="81544"/>
                  <a:pt x="92831" y="79048"/>
                  <a:pt x="95117" y="77924"/>
                </a:cubicBezTo>
                <a:cubicBezTo>
                  <a:pt x="98546" y="76248"/>
                  <a:pt x="104604" y="76152"/>
                  <a:pt x="111757" y="76219"/>
                </a:cubicBezTo>
                <a:cubicBezTo>
                  <a:pt x="117329" y="76276"/>
                  <a:pt x="118939" y="76619"/>
                  <a:pt x="121110" y="77153"/>
                </a:cubicBezTo>
                <a:cubicBezTo>
                  <a:pt x="127683" y="78743"/>
                  <a:pt x="125454" y="84877"/>
                  <a:pt x="125454" y="99593"/>
                </a:cubicBezTo>
                <a:cubicBezTo>
                  <a:pt x="125454" y="104308"/>
                  <a:pt x="124606" y="110938"/>
                  <a:pt x="127997" y="113119"/>
                </a:cubicBezTo>
                <a:cubicBezTo>
                  <a:pt x="129464" y="114062"/>
                  <a:pt x="133036" y="113262"/>
                  <a:pt x="141942" y="98079"/>
                </a:cubicBezTo>
                <a:cubicBezTo>
                  <a:pt x="146180" y="90878"/>
                  <a:pt x="149352" y="82420"/>
                  <a:pt x="149352" y="82420"/>
                </a:cubicBezTo>
                <a:cubicBezTo>
                  <a:pt x="149352" y="82420"/>
                  <a:pt x="150047" y="80915"/>
                  <a:pt x="151124" y="80267"/>
                </a:cubicBezTo>
                <a:cubicBezTo>
                  <a:pt x="152229" y="79600"/>
                  <a:pt x="153714" y="79810"/>
                  <a:pt x="153714" y="79810"/>
                </a:cubicBezTo>
                <a:lnTo>
                  <a:pt x="173765" y="79686"/>
                </a:lnTo>
                <a:cubicBezTo>
                  <a:pt x="173765" y="79686"/>
                  <a:pt x="179784" y="78962"/>
                  <a:pt x="180765" y="81696"/>
                </a:cubicBezTo>
                <a:cubicBezTo>
                  <a:pt x="181794" y="84553"/>
                  <a:pt x="178518" y="91230"/>
                  <a:pt x="170326" y="102156"/>
                </a:cubicBezTo>
                <a:cubicBezTo>
                  <a:pt x="156877" y="120101"/>
                  <a:pt x="155381" y="118434"/>
                  <a:pt x="166554" y="128816"/>
                </a:cubicBezTo>
                <a:cubicBezTo>
                  <a:pt x="177222" y="138732"/>
                  <a:pt x="179422" y="143551"/>
                  <a:pt x="179794" y="144161"/>
                </a:cubicBezTo>
                <a:cubicBezTo>
                  <a:pt x="184204" y="151505"/>
                  <a:pt x="174889" y="152086"/>
                  <a:pt x="174889" y="1520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Box 2"/>
          <p:cNvSpPr/>
          <p:nvPr/>
        </p:nvSpPr>
        <p:spPr>
          <a:xfrm>
            <a:off x="3619440" y="115092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oppins SemiBold"/>
              </a:rPr>
              <a:t>Achievement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4" name="Straight Connector 3"/>
          <p:cNvSpPr/>
          <p:nvPr/>
        </p:nvSpPr>
        <p:spPr>
          <a:xfrm>
            <a:off x="5497560" y="947880"/>
            <a:ext cx="1197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5" name="Oval 5"/>
          <p:cNvSpPr/>
          <p:nvPr/>
        </p:nvSpPr>
        <p:spPr>
          <a:xfrm>
            <a:off x="1257480" y="4133880"/>
            <a:ext cx="1218960" cy="121932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6" name="Freeform: Shape 13"/>
          <p:cNvSpPr/>
          <p:nvPr/>
        </p:nvSpPr>
        <p:spPr>
          <a:xfrm>
            <a:off x="167148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7" name="TextBox 14"/>
          <p:cNvSpPr/>
          <p:nvPr/>
        </p:nvSpPr>
        <p:spPr>
          <a:xfrm>
            <a:off x="595440" y="5467320"/>
            <a:ext cx="25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Design Of The Yea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8" name="TextBox 15"/>
          <p:cNvSpPr/>
          <p:nvPr/>
        </p:nvSpPr>
        <p:spPr>
          <a:xfrm>
            <a:off x="1095480" y="58309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I/UX Award 2021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9" name="Oval 18"/>
          <p:cNvSpPr/>
          <p:nvPr/>
        </p:nvSpPr>
        <p:spPr>
          <a:xfrm>
            <a:off x="4076640" y="4133880"/>
            <a:ext cx="1219320" cy="121932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0" name="Freeform: Shape 19"/>
          <p:cNvSpPr/>
          <p:nvPr/>
        </p:nvSpPr>
        <p:spPr>
          <a:xfrm>
            <a:off x="449100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1" name="TextBox 20"/>
          <p:cNvSpPr/>
          <p:nvPr/>
        </p:nvSpPr>
        <p:spPr>
          <a:xfrm>
            <a:off x="3414600" y="5467320"/>
            <a:ext cx="25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Unique UI/UX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2" name="TextBox 21"/>
          <p:cNvSpPr/>
          <p:nvPr/>
        </p:nvSpPr>
        <p:spPr>
          <a:xfrm>
            <a:off x="3738600" y="5830920"/>
            <a:ext cx="18954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Creative Award 2022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3" name="Oval 23"/>
          <p:cNvSpPr/>
          <p:nvPr/>
        </p:nvSpPr>
        <p:spPr>
          <a:xfrm>
            <a:off x="6896160" y="4133880"/>
            <a:ext cx="1219320" cy="121932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4" name="Freeform: Shape 24"/>
          <p:cNvSpPr/>
          <p:nvPr/>
        </p:nvSpPr>
        <p:spPr>
          <a:xfrm>
            <a:off x="731052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5" name="TextBox 25"/>
          <p:cNvSpPr/>
          <p:nvPr/>
        </p:nvSpPr>
        <p:spPr>
          <a:xfrm>
            <a:off x="6234120" y="5467320"/>
            <a:ext cx="25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Creative Lead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6" name="TextBox 26"/>
          <p:cNvSpPr/>
          <p:nvPr/>
        </p:nvSpPr>
        <p:spPr>
          <a:xfrm>
            <a:off x="6593040" y="5830920"/>
            <a:ext cx="18255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Award 2021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7" name="Oval 28"/>
          <p:cNvSpPr/>
          <p:nvPr/>
        </p:nvSpPr>
        <p:spPr>
          <a:xfrm>
            <a:off x="9715680" y="4133880"/>
            <a:ext cx="1218960" cy="121932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8" name="Freeform: Shape 29"/>
          <p:cNvSpPr/>
          <p:nvPr/>
        </p:nvSpPr>
        <p:spPr>
          <a:xfrm>
            <a:off x="1012968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9" name="TextBox 30"/>
          <p:cNvSpPr/>
          <p:nvPr/>
        </p:nvSpPr>
        <p:spPr>
          <a:xfrm>
            <a:off x="9053640" y="5467320"/>
            <a:ext cx="25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Design Of The Yea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0" name="TextBox 31"/>
          <p:cNvSpPr/>
          <p:nvPr/>
        </p:nvSpPr>
        <p:spPr>
          <a:xfrm>
            <a:off x="9553680" y="58309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I/UX Award 2022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57"/>
          <p:cNvSpPr/>
          <p:nvPr/>
        </p:nvSpPr>
        <p:spPr>
          <a:xfrm flipH="1">
            <a:off x="7012800" y="0"/>
            <a:ext cx="5178600" cy="6858000"/>
          </a:xfrm>
          <a:prstGeom prst="rect">
            <a:avLst/>
          </a:prstGeom>
          <a:solidFill>
            <a:srgbClr val="dfeaf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2" name="TextBox 15"/>
          <p:cNvSpPr/>
          <p:nvPr/>
        </p:nvSpPr>
        <p:spPr>
          <a:xfrm>
            <a:off x="3154320" y="1316160"/>
            <a:ext cx="359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 SemiBold"/>
              </a:rPr>
              <a:t>I was experienced for UI/UX Design over 10 years of professional career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3151080" y="2738520"/>
            <a:ext cx="22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4" name="TextBox 17"/>
          <p:cNvSpPr/>
          <p:nvPr/>
        </p:nvSpPr>
        <p:spPr>
          <a:xfrm>
            <a:off x="3151080" y="3005280"/>
            <a:ext cx="14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Poppins"/>
              </a:rPr>
              <a:t>30 Years Old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5" name="TextBox 20"/>
          <p:cNvSpPr/>
          <p:nvPr/>
        </p:nvSpPr>
        <p:spPr>
          <a:xfrm>
            <a:off x="279360" y="4836960"/>
            <a:ext cx="2548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tate digni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6" name="TextBox 21"/>
          <p:cNvSpPr/>
          <p:nvPr/>
        </p:nvSpPr>
        <p:spPr>
          <a:xfrm>
            <a:off x="7508880" y="1073160"/>
            <a:ext cx="383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363df"/>
                </a:solidFill>
                <a:latin typeface="Poppins SemiBold"/>
              </a:rPr>
              <a:t>Exp</a:t>
            </a:r>
            <a:r>
              <a:rPr b="0" lang="en-US" sz="4800" spc="-1" strike="noStrike">
                <a:solidFill>
                  <a:srgbClr val="3f3f3f"/>
                </a:solidFill>
                <a:latin typeface="Poppins SemiBold"/>
              </a:rPr>
              <a:t>erience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7" name="Straight Connector 22"/>
          <p:cNvSpPr/>
          <p:nvPr/>
        </p:nvSpPr>
        <p:spPr>
          <a:xfrm>
            <a:off x="11233080" y="1521000"/>
            <a:ext cx="58284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8" name="TextBox 26"/>
          <p:cNvSpPr/>
          <p:nvPr/>
        </p:nvSpPr>
        <p:spPr>
          <a:xfrm>
            <a:off x="8121600" y="260028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 SemiBold"/>
              </a:rPr>
              <a:t>2012 – 2018 Layout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9" name="TextBox 27"/>
          <p:cNvSpPr/>
          <p:nvPr/>
        </p:nvSpPr>
        <p:spPr>
          <a:xfrm>
            <a:off x="8121600" y="2887560"/>
            <a:ext cx="347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</a:rPr>
              <a:t>magna esit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pretium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0" name="TextBox 28"/>
          <p:cNvSpPr/>
          <p:nvPr/>
        </p:nvSpPr>
        <p:spPr>
          <a:xfrm>
            <a:off x="7553160" y="25812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63df"/>
                </a:solidFill>
                <a:latin typeface="Poppins SemiBold"/>
              </a:rPr>
              <a:t>01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1" name="TextBox 29"/>
          <p:cNvSpPr/>
          <p:nvPr/>
        </p:nvSpPr>
        <p:spPr>
          <a:xfrm>
            <a:off x="8121600" y="37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 SemiBold"/>
              </a:rPr>
              <a:t>2018 – 2020 UI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2" name="TextBox 30"/>
          <p:cNvSpPr/>
          <p:nvPr/>
        </p:nvSpPr>
        <p:spPr>
          <a:xfrm>
            <a:off x="8121600" y="4078440"/>
            <a:ext cx="347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</a:rPr>
              <a:t>magna esit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pretium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3" name="TextBox 31"/>
          <p:cNvSpPr/>
          <p:nvPr/>
        </p:nvSpPr>
        <p:spPr>
          <a:xfrm>
            <a:off x="7553160" y="37720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63df"/>
                </a:solidFill>
                <a:latin typeface="Poppins SemiBold"/>
              </a:rPr>
              <a:t>02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4" name="TextBox 32"/>
          <p:cNvSpPr/>
          <p:nvPr/>
        </p:nvSpPr>
        <p:spPr>
          <a:xfrm>
            <a:off x="8121600" y="498312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Poppins SemiBold"/>
              </a:rPr>
              <a:t>2020 – 2022 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5" name="TextBox 33"/>
          <p:cNvSpPr/>
          <p:nvPr/>
        </p:nvSpPr>
        <p:spPr>
          <a:xfrm>
            <a:off x="8121600" y="5270400"/>
            <a:ext cx="347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</a:rPr>
              <a:t>magna esit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pretium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6" name="TextBox 34"/>
          <p:cNvSpPr/>
          <p:nvPr/>
        </p:nvSpPr>
        <p:spPr>
          <a:xfrm>
            <a:off x="7553160" y="496404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63df"/>
                </a:solidFill>
                <a:latin typeface="Poppins SemiBold"/>
              </a:rPr>
              <a:t>03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7" name="Oval 35"/>
          <p:cNvSpPr/>
          <p:nvPr/>
        </p:nvSpPr>
        <p:spPr>
          <a:xfrm>
            <a:off x="3381480" y="5059440"/>
            <a:ext cx="482400" cy="4824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8" name="TextBox 36"/>
          <p:cNvSpPr/>
          <p:nvPr/>
        </p:nvSpPr>
        <p:spPr>
          <a:xfrm>
            <a:off x="2855880" y="556740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9" name="Oval 39"/>
          <p:cNvSpPr/>
          <p:nvPr/>
        </p:nvSpPr>
        <p:spPr>
          <a:xfrm>
            <a:off x="4702320" y="5059440"/>
            <a:ext cx="482400" cy="4824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0" name="TextBox 40"/>
          <p:cNvSpPr/>
          <p:nvPr/>
        </p:nvSpPr>
        <p:spPr>
          <a:xfrm>
            <a:off x="4176720" y="556740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1" name="Oval 42"/>
          <p:cNvSpPr/>
          <p:nvPr/>
        </p:nvSpPr>
        <p:spPr>
          <a:xfrm>
            <a:off x="6022800" y="5059440"/>
            <a:ext cx="482760" cy="48240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2" name="TextBox 43"/>
          <p:cNvSpPr/>
          <p:nvPr/>
        </p:nvSpPr>
        <p:spPr>
          <a:xfrm>
            <a:off x="5497560" y="556740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3" name="Freeform 850"/>
          <p:cNvSpPr/>
          <p:nvPr/>
        </p:nvSpPr>
        <p:spPr>
          <a:xfrm>
            <a:off x="6172200" y="5208480"/>
            <a:ext cx="184320" cy="18432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4" name="Freeform 1536"/>
          <p:cNvSpPr/>
          <p:nvPr/>
        </p:nvSpPr>
        <p:spPr>
          <a:xfrm>
            <a:off x="3506760" y="5181480"/>
            <a:ext cx="233280" cy="23652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5" name="Freeform 6"/>
          <p:cNvSpPr/>
          <p:nvPr/>
        </p:nvSpPr>
        <p:spPr>
          <a:xfrm>
            <a:off x="4827600" y="5183280"/>
            <a:ext cx="231840" cy="23472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8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1f4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8" name="Rectangle 35"/>
          <p:cNvSpPr/>
          <p:nvPr/>
        </p:nvSpPr>
        <p:spPr>
          <a:xfrm>
            <a:off x="3089160" y="2717640"/>
            <a:ext cx="2344680" cy="484200"/>
          </a:xfrm>
          <a:prstGeom prst="rect">
            <a:avLst/>
          </a:prstGeom>
          <a:solidFill>
            <a:srgbClr val="5d9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9" name="Rectangle 36"/>
          <p:cNvSpPr/>
          <p:nvPr/>
        </p:nvSpPr>
        <p:spPr>
          <a:xfrm>
            <a:off x="3089160" y="3355920"/>
            <a:ext cx="2344680" cy="482760"/>
          </a:xfrm>
          <a:prstGeom prst="rect">
            <a:avLst/>
          </a:prstGeom>
          <a:solidFill>
            <a:srgbClr val="5d9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0" name="Rectangle 34"/>
          <p:cNvSpPr/>
          <p:nvPr/>
        </p:nvSpPr>
        <p:spPr>
          <a:xfrm>
            <a:off x="612720" y="2717640"/>
            <a:ext cx="2344680" cy="4842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1" name="TextBox 12"/>
          <p:cNvSpPr/>
          <p:nvPr/>
        </p:nvSpPr>
        <p:spPr>
          <a:xfrm>
            <a:off x="488880" y="1216080"/>
            <a:ext cx="442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Poppins SemiBold"/>
              </a:rPr>
              <a:t>Emp</a:t>
            </a:r>
            <a:r>
              <a:rPr b="0" lang="en-US" sz="4800" spc="-1" strike="noStrike">
                <a:solidFill>
                  <a:srgbClr val="1363df"/>
                </a:solidFill>
                <a:latin typeface="Poppins SemiBold"/>
              </a:rPr>
              <a:t>loyment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2" name="Straight Connector 13"/>
          <p:cNvSpPr/>
          <p:nvPr/>
        </p:nvSpPr>
        <p:spPr>
          <a:xfrm>
            <a:off x="604800" y="1014480"/>
            <a:ext cx="119556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3" name="Rectangle 15"/>
          <p:cNvSpPr/>
          <p:nvPr/>
        </p:nvSpPr>
        <p:spPr>
          <a:xfrm>
            <a:off x="612720" y="3355920"/>
            <a:ext cx="2344680" cy="482760"/>
          </a:xfrm>
          <a:prstGeom prst="rect">
            <a:avLst/>
          </a:prstGeom>
          <a:solidFill>
            <a:srgbClr val="5d9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4" name="TextBox 14"/>
          <p:cNvSpPr/>
          <p:nvPr/>
        </p:nvSpPr>
        <p:spPr>
          <a:xfrm>
            <a:off x="725400" y="275256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Dec 2022- Current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5" name="TextBox 20"/>
          <p:cNvSpPr/>
          <p:nvPr/>
        </p:nvSpPr>
        <p:spPr>
          <a:xfrm>
            <a:off x="725400" y="338760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Sep 2012 – Sep 2021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6" name="TextBox 26"/>
          <p:cNvSpPr/>
          <p:nvPr/>
        </p:nvSpPr>
        <p:spPr>
          <a:xfrm>
            <a:off x="3208320" y="275256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Aug 2021 – Oct 2021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7" name="TextBox 29"/>
          <p:cNvSpPr/>
          <p:nvPr/>
        </p:nvSpPr>
        <p:spPr>
          <a:xfrm>
            <a:off x="3208320" y="338760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Oct 2021 – Oct 202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8" name="TextBox 30"/>
          <p:cNvSpPr/>
          <p:nvPr/>
        </p:nvSpPr>
        <p:spPr>
          <a:xfrm>
            <a:off x="515880" y="454032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References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9" name="TextBox 31"/>
          <p:cNvSpPr/>
          <p:nvPr/>
        </p:nvSpPr>
        <p:spPr>
          <a:xfrm>
            <a:off x="579960" y="5110200"/>
            <a:ext cx="269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Ronald Dune, Graphic Design Director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0" name="TextBox 32"/>
          <p:cNvSpPr/>
          <p:nvPr/>
        </p:nvSpPr>
        <p:spPr>
          <a:xfrm>
            <a:off x="468720" y="5403960"/>
            <a:ext cx="134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+123 1234 123 12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1" name="TextBox 33"/>
          <p:cNvSpPr/>
          <p:nvPr/>
        </p:nvSpPr>
        <p:spPr>
          <a:xfrm>
            <a:off x="549000" y="5695920"/>
            <a:ext cx="111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@ronald.dun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2" name="Rectangle 38"/>
          <p:cNvSpPr/>
          <p:nvPr/>
        </p:nvSpPr>
        <p:spPr>
          <a:xfrm>
            <a:off x="6929280" y="1444680"/>
            <a:ext cx="1414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Poppins"/>
              </a:rPr>
              <a:t>Office, Jakart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3" name="Rectangle 36"/>
          <p:cNvSpPr/>
          <p:nvPr/>
        </p:nvSpPr>
        <p:spPr>
          <a:xfrm>
            <a:off x="6926400" y="1108080"/>
            <a:ext cx="201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Design Directo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4" name="TextBox 40"/>
          <p:cNvSpPr/>
          <p:nvPr/>
        </p:nvSpPr>
        <p:spPr>
          <a:xfrm>
            <a:off x="6926400" y="1940040"/>
            <a:ext cx="4706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 digniim ni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 consectetur adip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5" name="Oval 41"/>
          <p:cNvSpPr/>
          <p:nvPr/>
        </p:nvSpPr>
        <p:spPr>
          <a:xfrm>
            <a:off x="7004160" y="35416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6" name="Oval 42"/>
          <p:cNvSpPr/>
          <p:nvPr/>
        </p:nvSpPr>
        <p:spPr>
          <a:xfrm>
            <a:off x="7089840" y="3627360"/>
            <a:ext cx="111240" cy="11124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7" name="Rectangle 36"/>
          <p:cNvSpPr/>
          <p:nvPr/>
        </p:nvSpPr>
        <p:spPr>
          <a:xfrm>
            <a:off x="7423200" y="3429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Creative Managem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8" name="Oval 49"/>
          <p:cNvSpPr/>
          <p:nvPr/>
        </p:nvSpPr>
        <p:spPr>
          <a:xfrm>
            <a:off x="7004160" y="40528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9" name="Oval 50"/>
          <p:cNvSpPr/>
          <p:nvPr/>
        </p:nvSpPr>
        <p:spPr>
          <a:xfrm>
            <a:off x="7089840" y="4138560"/>
            <a:ext cx="111240" cy="11268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0" name="Rectangle 36"/>
          <p:cNvSpPr/>
          <p:nvPr/>
        </p:nvSpPr>
        <p:spPr>
          <a:xfrm>
            <a:off x="7423200" y="3941640"/>
            <a:ext cx="30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The Best Graphic Method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1" name="Oval 54"/>
          <p:cNvSpPr/>
          <p:nvPr/>
        </p:nvSpPr>
        <p:spPr>
          <a:xfrm>
            <a:off x="7004160" y="45640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2" name="Oval 55"/>
          <p:cNvSpPr/>
          <p:nvPr/>
        </p:nvSpPr>
        <p:spPr>
          <a:xfrm>
            <a:off x="7089840" y="4649760"/>
            <a:ext cx="111240" cy="11268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3" name="Rectangle 36"/>
          <p:cNvSpPr/>
          <p:nvPr/>
        </p:nvSpPr>
        <p:spPr>
          <a:xfrm>
            <a:off x="7423200" y="445284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Security Design Developm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4" name="Oval 59"/>
          <p:cNvSpPr/>
          <p:nvPr/>
        </p:nvSpPr>
        <p:spPr>
          <a:xfrm>
            <a:off x="7004160" y="50752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5" name="Oval 60"/>
          <p:cNvSpPr/>
          <p:nvPr/>
        </p:nvSpPr>
        <p:spPr>
          <a:xfrm>
            <a:off x="7089840" y="5162400"/>
            <a:ext cx="111240" cy="11124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6" name="Rectangle 36"/>
          <p:cNvSpPr/>
          <p:nvPr/>
        </p:nvSpPr>
        <p:spPr>
          <a:xfrm>
            <a:off x="7423200" y="4964040"/>
            <a:ext cx="31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Leading The Design Team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7" name="Oval 64"/>
          <p:cNvSpPr/>
          <p:nvPr/>
        </p:nvSpPr>
        <p:spPr>
          <a:xfrm>
            <a:off x="7004160" y="5586480"/>
            <a:ext cx="284040" cy="2858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8" name="Oval 65"/>
          <p:cNvSpPr/>
          <p:nvPr/>
        </p:nvSpPr>
        <p:spPr>
          <a:xfrm>
            <a:off x="7089840" y="5673600"/>
            <a:ext cx="111240" cy="11124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7423200" y="5475240"/>
            <a:ext cx="30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Smart Idea For Web Design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21" name="TextBox 4"/>
          <p:cNvSpPr/>
          <p:nvPr/>
        </p:nvSpPr>
        <p:spPr>
          <a:xfrm>
            <a:off x="8456760" y="393048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22" name="TextBox 5"/>
          <p:cNvSpPr/>
          <p:nvPr/>
        </p:nvSpPr>
        <p:spPr>
          <a:xfrm>
            <a:off x="8939160" y="446400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823" name="Group 6"/>
          <p:cNvGrpSpPr/>
          <p:nvPr/>
        </p:nvGrpSpPr>
        <p:grpSpPr>
          <a:xfrm>
            <a:off x="8710560" y="5294160"/>
            <a:ext cx="2026080" cy="261360"/>
            <a:chOff x="8710560" y="5294160"/>
            <a:chExt cx="2026080" cy="261360"/>
          </a:xfrm>
        </p:grpSpPr>
        <p:sp>
          <p:nvSpPr>
            <p:cNvPr id="824" name="Oval 7"/>
            <p:cNvSpPr/>
            <p:nvPr/>
          </p:nvSpPr>
          <p:spPr>
            <a:xfrm>
              <a:off x="8710560" y="536724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25" name="TextBox 8"/>
            <p:cNvSpPr/>
            <p:nvPr/>
          </p:nvSpPr>
          <p:spPr>
            <a:xfrm>
              <a:off x="9032040" y="529416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826" name="TextBox 10"/>
          <p:cNvSpPr/>
          <p:nvPr/>
        </p:nvSpPr>
        <p:spPr>
          <a:xfrm>
            <a:off x="517680" y="857160"/>
            <a:ext cx="43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 SemiBold"/>
              </a:rPr>
              <a:t>Certifi</a:t>
            </a:r>
            <a:r>
              <a:rPr b="0" lang="en-US" sz="4400" spc="-1" strike="noStrike">
                <a:solidFill>
                  <a:srgbClr val="1363df"/>
                </a:solidFill>
                <a:latin typeface="Poppins SemiBold"/>
              </a:rPr>
              <a:t>cations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27" name="Straight Connector 11"/>
          <p:cNvSpPr/>
          <p:nvPr/>
        </p:nvSpPr>
        <p:spPr>
          <a:xfrm>
            <a:off x="4686480" y="1228680"/>
            <a:ext cx="119520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28" name="TextBox 12"/>
          <p:cNvSpPr/>
          <p:nvPr/>
        </p:nvSpPr>
        <p:spPr>
          <a:xfrm>
            <a:off x="527040" y="61740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Poppins"/>
              </a:rPr>
              <a:t>ADVANC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829" name="Group 23"/>
          <p:cNvGrpSpPr/>
          <p:nvPr/>
        </p:nvGrpSpPr>
        <p:grpSpPr>
          <a:xfrm>
            <a:off x="606600" y="2155680"/>
            <a:ext cx="6814800" cy="689400"/>
            <a:chOff x="606600" y="2155680"/>
            <a:chExt cx="6814800" cy="689400"/>
          </a:xfrm>
        </p:grpSpPr>
        <p:sp>
          <p:nvSpPr>
            <p:cNvPr id="830" name="Oval 13"/>
            <p:cNvSpPr/>
            <p:nvPr/>
          </p:nvSpPr>
          <p:spPr>
            <a:xfrm>
              <a:off x="606600" y="2301480"/>
              <a:ext cx="284040" cy="285840"/>
            </a:xfrm>
            <a:prstGeom prst="ellipse">
              <a:avLst/>
            </a:prstGeom>
            <a:solidFill>
              <a:srgbClr val="1363d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1" name="Oval 14"/>
            <p:cNvSpPr/>
            <p:nvPr/>
          </p:nvSpPr>
          <p:spPr>
            <a:xfrm>
              <a:off x="693720" y="2388960"/>
              <a:ext cx="110880" cy="110880"/>
            </a:xfrm>
            <a:prstGeom prst="ellipse">
              <a:avLst/>
            </a:prstGeom>
            <a:solidFill>
              <a:srgbClr val="1363d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2" name="TextBox 15"/>
            <p:cNvSpPr/>
            <p:nvPr/>
          </p:nvSpPr>
          <p:spPr>
            <a:xfrm>
              <a:off x="939960" y="2155680"/>
              <a:ext cx="319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Poppins SemiBold"/>
                  <a:ea typeface="Open Sans"/>
                </a:rPr>
                <a:t>Global Designer Certification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3" name="TextBox 16"/>
            <p:cNvSpPr/>
            <p:nvPr/>
          </p:nvSpPr>
          <p:spPr>
            <a:xfrm>
              <a:off x="939960" y="2500200"/>
              <a:ext cx="25365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Creative Design Journey, </a:t>
              </a:r>
              <a:r>
                <a:rPr b="1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2015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4551480" y="2301480"/>
              <a:ext cx="284040" cy="285840"/>
            </a:xfrm>
            <a:prstGeom prst="ellipse">
              <a:avLst/>
            </a:prstGeom>
            <a:solidFill>
              <a:srgbClr val="1363d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4637160" y="2388960"/>
              <a:ext cx="110880" cy="110880"/>
            </a:xfrm>
            <a:prstGeom prst="ellipse">
              <a:avLst/>
            </a:prstGeom>
            <a:solidFill>
              <a:srgbClr val="1363d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6" name="TextBox 21"/>
            <p:cNvSpPr/>
            <p:nvPr/>
          </p:nvSpPr>
          <p:spPr>
            <a:xfrm>
              <a:off x="4884840" y="2155680"/>
              <a:ext cx="253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Poppins SemiBold"/>
                  <a:ea typeface="Open Sans"/>
                </a:rPr>
                <a:t>Adobe Designer Expert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7" name="TextBox 22"/>
            <p:cNvSpPr/>
            <p:nvPr/>
          </p:nvSpPr>
          <p:spPr>
            <a:xfrm>
              <a:off x="4884840" y="2500200"/>
              <a:ext cx="2296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General Layout Design, </a:t>
              </a:r>
              <a:r>
                <a:rPr b="1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2015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grpSp>
        <p:nvGrpSpPr>
          <p:cNvPr id="838" name="Group 24"/>
          <p:cNvGrpSpPr/>
          <p:nvPr/>
        </p:nvGrpSpPr>
        <p:grpSpPr>
          <a:xfrm>
            <a:off x="606600" y="3222720"/>
            <a:ext cx="6814800" cy="690840"/>
            <a:chOff x="606600" y="3222720"/>
            <a:chExt cx="6814800" cy="690840"/>
          </a:xfrm>
        </p:grpSpPr>
        <p:sp>
          <p:nvSpPr>
            <p:cNvPr id="839" name="Oval 25"/>
            <p:cNvSpPr/>
            <p:nvPr/>
          </p:nvSpPr>
          <p:spPr>
            <a:xfrm>
              <a:off x="606600" y="3370320"/>
              <a:ext cx="284040" cy="284040"/>
            </a:xfrm>
            <a:prstGeom prst="ellipse">
              <a:avLst/>
            </a:prstGeom>
            <a:solidFill>
              <a:srgbClr val="1363d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0" name="Oval 26"/>
            <p:cNvSpPr/>
            <p:nvPr/>
          </p:nvSpPr>
          <p:spPr>
            <a:xfrm>
              <a:off x="693720" y="3456000"/>
              <a:ext cx="110880" cy="112680"/>
            </a:xfrm>
            <a:prstGeom prst="ellipse">
              <a:avLst/>
            </a:prstGeom>
            <a:solidFill>
              <a:srgbClr val="1363d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1" name="TextBox 27"/>
            <p:cNvSpPr/>
            <p:nvPr/>
          </p:nvSpPr>
          <p:spPr>
            <a:xfrm>
              <a:off x="939960" y="3222720"/>
              <a:ext cx="319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Poppins SemiBold"/>
                  <a:ea typeface="Open Sans"/>
                </a:rPr>
                <a:t>Top Figma Designer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2" name="TextBox 28"/>
            <p:cNvSpPr/>
            <p:nvPr/>
          </p:nvSpPr>
          <p:spPr>
            <a:xfrm>
              <a:off x="939960" y="3568680"/>
              <a:ext cx="25365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Creative Design Journey, </a:t>
              </a:r>
              <a:r>
                <a:rPr b="1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2016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3" name="Oval 29"/>
            <p:cNvSpPr/>
            <p:nvPr/>
          </p:nvSpPr>
          <p:spPr>
            <a:xfrm>
              <a:off x="4551480" y="3370320"/>
              <a:ext cx="284040" cy="284040"/>
            </a:xfrm>
            <a:prstGeom prst="ellipse">
              <a:avLst/>
            </a:prstGeom>
            <a:solidFill>
              <a:srgbClr val="1363d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4" name="Oval 30"/>
            <p:cNvSpPr/>
            <p:nvPr/>
          </p:nvSpPr>
          <p:spPr>
            <a:xfrm>
              <a:off x="4637160" y="3456000"/>
              <a:ext cx="110880" cy="112680"/>
            </a:xfrm>
            <a:prstGeom prst="ellipse">
              <a:avLst/>
            </a:prstGeom>
            <a:solidFill>
              <a:srgbClr val="1363d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5" name="TextBox 31"/>
            <p:cNvSpPr/>
            <p:nvPr/>
          </p:nvSpPr>
          <p:spPr>
            <a:xfrm>
              <a:off x="4884840" y="3222720"/>
              <a:ext cx="253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Poppins SemiBold"/>
                  <a:ea typeface="Open Sans"/>
                </a:rPr>
                <a:t>Top UI/UX Designer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6" name="TextBox 32"/>
            <p:cNvSpPr/>
            <p:nvPr/>
          </p:nvSpPr>
          <p:spPr>
            <a:xfrm>
              <a:off x="4884840" y="3568680"/>
              <a:ext cx="2296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General Layout Design, </a:t>
              </a:r>
              <a:r>
                <a:rPr b="1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2016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847" name="Oval 34"/>
          <p:cNvSpPr/>
          <p:nvPr/>
        </p:nvSpPr>
        <p:spPr>
          <a:xfrm>
            <a:off x="606600" y="4437000"/>
            <a:ext cx="284040" cy="285840"/>
          </a:xfrm>
          <a:prstGeom prst="ellipse">
            <a:avLst/>
          </a:prstGeom>
          <a:solidFill>
            <a:srgbClr val="1363d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48" name="Oval 35"/>
          <p:cNvSpPr/>
          <p:nvPr/>
        </p:nvSpPr>
        <p:spPr>
          <a:xfrm>
            <a:off x="692280" y="4524480"/>
            <a:ext cx="110880" cy="110880"/>
          </a:xfrm>
          <a:prstGeom prst="ellipse">
            <a:avLst/>
          </a:prstGeom>
          <a:solidFill>
            <a:srgbClr val="1363d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49" name="TextBox 36"/>
          <p:cNvSpPr/>
          <p:nvPr/>
        </p:nvSpPr>
        <p:spPr>
          <a:xfrm>
            <a:off x="939960" y="4290840"/>
            <a:ext cx="319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Google Design Certification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0" name="TextBox 37"/>
          <p:cNvSpPr/>
          <p:nvPr/>
        </p:nvSpPr>
        <p:spPr>
          <a:xfrm>
            <a:off x="939960" y="4635360"/>
            <a:ext cx="25365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Creative Design Journey, </a:t>
            </a:r>
            <a:r>
              <a:rPr b="1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2019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1" name="Oval 38"/>
          <p:cNvSpPr/>
          <p:nvPr/>
        </p:nvSpPr>
        <p:spPr>
          <a:xfrm>
            <a:off x="4549680" y="4437000"/>
            <a:ext cx="285840" cy="285840"/>
          </a:xfrm>
          <a:prstGeom prst="ellipse">
            <a:avLst/>
          </a:prstGeom>
          <a:solidFill>
            <a:srgbClr val="1363d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2" name="Oval 39"/>
          <p:cNvSpPr/>
          <p:nvPr/>
        </p:nvSpPr>
        <p:spPr>
          <a:xfrm>
            <a:off x="4637160" y="4524480"/>
            <a:ext cx="110880" cy="110880"/>
          </a:xfrm>
          <a:prstGeom prst="ellipse">
            <a:avLst/>
          </a:prstGeom>
          <a:solidFill>
            <a:srgbClr val="1363d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3" name="TextBox 40"/>
          <p:cNvSpPr/>
          <p:nvPr/>
        </p:nvSpPr>
        <p:spPr>
          <a:xfrm>
            <a:off x="4884840" y="429084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  <a:ea typeface="Open Sans"/>
              </a:rPr>
              <a:t>Top Designer Influenc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4" name="TextBox 41"/>
          <p:cNvSpPr/>
          <p:nvPr/>
        </p:nvSpPr>
        <p:spPr>
          <a:xfrm>
            <a:off x="4884840" y="4635360"/>
            <a:ext cx="22953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General Layout Design, </a:t>
            </a:r>
            <a:r>
              <a:rPr b="1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2021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5" name="TextBox 42"/>
          <p:cNvSpPr/>
          <p:nvPr/>
        </p:nvSpPr>
        <p:spPr>
          <a:xfrm>
            <a:off x="517680" y="5394240"/>
            <a:ext cx="6659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Straight Connector 36"/>
          <p:cNvSpPr/>
          <p:nvPr/>
        </p:nvSpPr>
        <p:spPr>
          <a:xfrm flipH="1">
            <a:off x="2547720" y="3927600"/>
            <a:ext cx="7273800" cy="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857" name="Group 2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858" name="Rectangle: Rounded Corners 3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59" name="Rectangle: Rounded Corners 4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3a7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60" name="Rectangle: Rounded Corners 5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61" name="Rectangle: Rounded Corners 6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62" name="Rectangle: Rounded Corners 7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d95f1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863" name="TextBox 8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4" name="Straight Connector 9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1f469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5" name="TextBox 10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8366338B-4798-4C5B-9E31-AADC35FFC00E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6" name="Rectangle 1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7" name="TextBox 12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63df"/>
                </a:solidFill>
                <a:latin typeface="Poppins SemiBold"/>
              </a:rPr>
              <a:t>Detail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Experience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8" name="Straight Connector 13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136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9" name="Oval 15"/>
          <p:cNvSpPr/>
          <p:nvPr/>
        </p:nvSpPr>
        <p:spPr>
          <a:xfrm>
            <a:off x="1306440" y="3306600"/>
            <a:ext cx="1241640" cy="123984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1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0" name="TextBox 16"/>
          <p:cNvSpPr/>
          <p:nvPr/>
        </p:nvSpPr>
        <p:spPr>
          <a:xfrm>
            <a:off x="68256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</a:rPr>
              <a:t>Junior Ware Fr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</a:rPr>
              <a:t>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1" name="TextBox 17"/>
          <p:cNvSpPr/>
          <p:nvPr/>
        </p:nvSpPr>
        <p:spPr>
          <a:xfrm>
            <a:off x="12254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363df"/>
                </a:solidFill>
                <a:latin typeface="Poppins"/>
                <a:ea typeface="Times New Roman"/>
              </a:rPr>
              <a:t>2012 - 2013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2" name="Oval 20"/>
          <p:cNvSpPr/>
          <p:nvPr/>
        </p:nvSpPr>
        <p:spPr>
          <a:xfrm>
            <a:off x="4145040" y="3306600"/>
            <a:ext cx="1241280" cy="123984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2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3" name="TextBox 21"/>
          <p:cNvSpPr/>
          <p:nvPr/>
        </p:nvSpPr>
        <p:spPr>
          <a:xfrm>
            <a:off x="352116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</a:rPr>
              <a:t>General Layout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4" name="TextBox 22"/>
          <p:cNvSpPr/>
          <p:nvPr/>
        </p:nvSpPr>
        <p:spPr>
          <a:xfrm>
            <a:off x="4064040" y="2728800"/>
            <a:ext cx="1403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363df"/>
                </a:solidFill>
                <a:latin typeface="Poppins"/>
                <a:ea typeface="Times New Roman"/>
              </a:rPr>
              <a:t>2013 - 2018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5" name="Oval 24"/>
          <p:cNvSpPr/>
          <p:nvPr/>
        </p:nvSpPr>
        <p:spPr>
          <a:xfrm>
            <a:off x="6983280" y="3306600"/>
            <a:ext cx="1241640" cy="123984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3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6" name="TextBox 25"/>
          <p:cNvSpPr/>
          <p:nvPr/>
        </p:nvSpPr>
        <p:spPr>
          <a:xfrm>
            <a:off x="635940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</a:rPr>
              <a:t>Professional UI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7" name="TextBox 26"/>
          <p:cNvSpPr/>
          <p:nvPr/>
        </p:nvSpPr>
        <p:spPr>
          <a:xfrm>
            <a:off x="69008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363df"/>
                </a:solidFill>
                <a:latin typeface="Poppins"/>
                <a:ea typeface="Times New Roman"/>
              </a:rPr>
              <a:t>2018 - 2020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8" name="Oval 28"/>
          <p:cNvSpPr/>
          <p:nvPr/>
        </p:nvSpPr>
        <p:spPr>
          <a:xfrm>
            <a:off x="9821880" y="3306600"/>
            <a:ext cx="1239840" cy="1239840"/>
          </a:xfrm>
          <a:prstGeom prst="ellipse">
            <a:avLst/>
          </a:prstGeom>
          <a:solidFill>
            <a:srgbClr val="136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4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9" name="TextBox 29"/>
          <p:cNvSpPr/>
          <p:nvPr/>
        </p:nvSpPr>
        <p:spPr>
          <a:xfrm>
            <a:off x="919800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Poppins SemiBold"/>
              </a:rPr>
              <a:t>Professional 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0" name="TextBox 30"/>
          <p:cNvSpPr/>
          <p:nvPr/>
        </p:nvSpPr>
        <p:spPr>
          <a:xfrm>
            <a:off x="9739440" y="2728800"/>
            <a:ext cx="1404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363df"/>
                </a:solidFill>
                <a:latin typeface="Poppins"/>
                <a:ea typeface="Times New Roman"/>
              </a:rPr>
              <a:t>2020 - Current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1" name="TextBox 32"/>
          <p:cNvSpPr/>
          <p:nvPr/>
        </p:nvSpPr>
        <p:spPr>
          <a:xfrm>
            <a:off x="65088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2" name="TextBox 33"/>
          <p:cNvSpPr/>
          <p:nvPr/>
        </p:nvSpPr>
        <p:spPr>
          <a:xfrm>
            <a:off x="3489480" y="4732200"/>
            <a:ext cx="2552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3" name="TextBox 34"/>
          <p:cNvSpPr/>
          <p:nvPr/>
        </p:nvSpPr>
        <p:spPr>
          <a:xfrm>
            <a:off x="637704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4" name="TextBox 35"/>
          <p:cNvSpPr/>
          <p:nvPr/>
        </p:nvSpPr>
        <p:spPr>
          <a:xfrm>
            <a:off x="916632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8T06:02:04Z</dcterms:created>
  <dc:creator>David Ma</dc:creator>
  <dc:description/>
  <dc:language>en-US</dc:language>
  <cp:lastModifiedBy>tita</cp:lastModifiedBy>
  <dcterms:modified xsi:type="dcterms:W3CDTF">2022-07-04T13:54:50Z</dcterms:modified>
  <cp:revision>14980</cp:revision>
  <dc:subject/>
  <dc:title>PowerPoint Presentation</dc:title>
</cp:coreProperties>
</file>