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31.xml" ContentType="application/vnd.openxmlformats-officedocument.theme+xml"/>
  <Override PartName="/ppt/theme/theme43.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3.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507.xml.rels" ContentType="application/vnd.openxmlformats-package.relationships+xml"/>
  <Override PartName="/ppt/slideLayouts/_rels/slideLayout47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469.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1.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65.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505.xml.rels" ContentType="application/vnd.openxmlformats-package.relationships+xml"/>
  <Override PartName="/ppt/slideLayouts/_rels/slideLayout138.xml.rels" ContentType="application/vnd.openxmlformats-package.relationships+xml"/>
  <Override PartName="/ppt/slideLayouts/_rels/slideLayout49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507.xml" ContentType="application/vnd.openxmlformats-officedocument.presentationml.slideLayout+xml"/>
  <Override PartName="/ppt/slideLayouts/slideLayout382.xml" ContentType="application/vnd.openxmlformats-officedocument.presentationml.slideLayout+xml"/>
  <Override PartName="/ppt/slideLayouts/slideLayout373.xml" ContentType="application/vnd.openxmlformats-officedocument.presentationml.slideLayout+xml"/>
  <Override PartName="/ppt/slideLayouts/slideLayout342.xml" ContentType="application/vnd.openxmlformats-officedocument.presentationml.slideLayout+xml"/>
  <Override PartName="/ppt/slideLayouts/slideLayout508.xml" ContentType="application/vnd.openxmlformats-officedocument.presentationml.slideLayout+xml"/>
  <Override PartName="/ppt/slideLayouts/slideLayout38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385.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8.xml" ContentType="application/vnd.openxmlformats-officedocument.presentationml.slideLayout+xml"/>
  <Override PartName="/ppt/slideLayouts/slideLayout460.xml" ContentType="application/vnd.openxmlformats-officedocument.presentationml.slideLayout+xml"/>
  <Override PartName="/ppt/slideLayouts/slideLayout380.xml" ContentType="application/vnd.openxmlformats-officedocument.presentationml.slideLayout+xml"/>
  <Override PartName="/ppt/slideLayouts/slideLayout467.xml" ContentType="application/vnd.openxmlformats-officedocument.presentationml.slideLayout+xml"/>
  <Override PartName="/ppt/slideLayouts/slideLayout505.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496.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81.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506.xml" ContentType="application/vnd.openxmlformats-officedocument.presentationml.slideLayout+xml"/>
  <Override PartName="/ppt/slideLayouts/slideLayout486.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72.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399.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110.xml" ContentType="application/vnd.openxmlformats-officedocument.presentationml.slideLayout+xml"/>
  <Override PartName="/ppt/slideLayouts/slideLayout413.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Lst>
  <p:sldIdLst>
    <p:sldId id="256" r:id="rId45"/>
    <p:sldId id="257" r:id="rId46"/>
    <p:sldId id="258" r:id="rId47"/>
    <p:sldId id="259" r:id="rId48"/>
    <p:sldId id="260" r:id="rId49"/>
    <p:sldId id="261" r:id="rId50"/>
    <p:sldId id="262" r:id="rId51"/>
    <p:sldId id="263" r:id="rId52"/>
    <p:sldId id="264" r:id="rId53"/>
    <p:sldId id="265" r:id="rId54"/>
    <p:sldId id="266" r:id="rId55"/>
    <p:sldId id="267" r:id="rId56"/>
    <p:sldId id="268" r:id="rId57"/>
    <p:sldId id="269" r:id="rId58"/>
    <p:sldId id="270" r:id="rId59"/>
    <p:sldId id="271" r:id="rId60"/>
    <p:sldId id="272" r:id="rId61"/>
    <p:sldId id="273" r:id="rId62"/>
    <p:sldId id="274" r:id="rId63"/>
    <p:sldId id="275" r:id="rId64"/>
    <p:sldId id="276" r:id="rId65"/>
    <p:sldId id="277" r:id="rId66"/>
    <p:sldId id="278" r:id="rId67"/>
    <p:sldId id="279" r:id="rId68"/>
    <p:sldId id="280" r:id="rId69"/>
    <p:sldId id="281" r:id="rId70"/>
    <p:sldId id="282" r:id="rId71"/>
    <p:sldId id="283" r:id="rId72"/>
    <p:sldId id="284" r:id="rId73"/>
    <p:sldId id="285" r:id="rId74"/>
    <p:sldId id="286" r:id="rId75"/>
    <p:sldId id="287" r:id="rId76"/>
    <p:sldId id="288" r:id="rId77"/>
    <p:sldId id="289" r:id="rId78"/>
    <p:sldId id="290" r:id="rId79"/>
    <p:sldId id="291" r:id="rId80"/>
    <p:sldId id="292" r:id="rId81"/>
    <p:sldId id="293" r:id="rId82"/>
    <p:sldId id="294" r:id="rId83"/>
    <p:sldId id="295" r:id="rId84"/>
    <p:sldId id="296" r:id="rId85"/>
    <p:sldId id="297" r:id="rId86"/>
    <p:sldId id="298" r:id="rId87"/>
    <p:sldId id="299" r:id="rId88"/>
    <p:sldId id="300" r:id="rId89"/>
    <p:sldId id="301" r:id="rId90"/>
    <p:sldId id="302" r:id="rId91"/>
    <p:sldId id="303" r:id="rId92"/>
    <p:sldId id="304" r:id="rId93"/>
    <p:sldId id="305" r:id="rId94"/>
    <p:sldId id="306" r:id="rId9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 Target="slides/slide1.xml"/><Relationship Id="rId46" Type="http://schemas.openxmlformats.org/officeDocument/2006/relationships/slide" Target="slides/slide2.xml"/><Relationship Id="rId47" Type="http://schemas.openxmlformats.org/officeDocument/2006/relationships/slide" Target="slides/slide3.xml"/><Relationship Id="rId48" Type="http://schemas.openxmlformats.org/officeDocument/2006/relationships/slide" Target="slides/slide4.xml"/><Relationship Id="rId49" Type="http://schemas.openxmlformats.org/officeDocument/2006/relationships/slide" Target="slides/slide5.xml"/><Relationship Id="rId50" Type="http://schemas.openxmlformats.org/officeDocument/2006/relationships/slide" Target="slides/slide6.xml"/><Relationship Id="rId51" Type="http://schemas.openxmlformats.org/officeDocument/2006/relationships/slide" Target="slides/slide7.xml"/><Relationship Id="rId52" Type="http://schemas.openxmlformats.org/officeDocument/2006/relationships/slide" Target="slides/slide8.xml"/><Relationship Id="rId53" Type="http://schemas.openxmlformats.org/officeDocument/2006/relationships/slide" Target="slides/slide9.xml"/><Relationship Id="rId54" Type="http://schemas.openxmlformats.org/officeDocument/2006/relationships/slide" Target="slides/slide10.xml"/><Relationship Id="rId55" Type="http://schemas.openxmlformats.org/officeDocument/2006/relationships/slide" Target="slides/slide11.xml"/><Relationship Id="rId56" Type="http://schemas.openxmlformats.org/officeDocument/2006/relationships/slide" Target="slides/slide12.xml"/><Relationship Id="rId57" Type="http://schemas.openxmlformats.org/officeDocument/2006/relationships/slide" Target="slides/slide13.xml"/><Relationship Id="rId58" Type="http://schemas.openxmlformats.org/officeDocument/2006/relationships/slide" Target="slides/slide14.xml"/><Relationship Id="rId59" Type="http://schemas.openxmlformats.org/officeDocument/2006/relationships/slide" Target="slides/slide15.xml"/><Relationship Id="rId60" Type="http://schemas.openxmlformats.org/officeDocument/2006/relationships/slide" Target="slides/slide16.xml"/><Relationship Id="rId61" Type="http://schemas.openxmlformats.org/officeDocument/2006/relationships/slide" Target="slides/slide17.xml"/><Relationship Id="rId62" Type="http://schemas.openxmlformats.org/officeDocument/2006/relationships/slide" Target="slides/slide18.xml"/><Relationship Id="rId63" Type="http://schemas.openxmlformats.org/officeDocument/2006/relationships/slide" Target="slides/slide19.xml"/><Relationship Id="rId64" Type="http://schemas.openxmlformats.org/officeDocument/2006/relationships/slide" Target="slides/slide20.xml"/><Relationship Id="rId65" Type="http://schemas.openxmlformats.org/officeDocument/2006/relationships/slide" Target="slides/slide21.xml"/><Relationship Id="rId66" Type="http://schemas.openxmlformats.org/officeDocument/2006/relationships/slide" Target="slides/slide22.xml"/><Relationship Id="rId67" Type="http://schemas.openxmlformats.org/officeDocument/2006/relationships/slide" Target="slides/slide23.xml"/><Relationship Id="rId68" Type="http://schemas.openxmlformats.org/officeDocument/2006/relationships/slide" Target="slides/slide24.xml"/><Relationship Id="rId69" Type="http://schemas.openxmlformats.org/officeDocument/2006/relationships/slide" Target="slides/slide25.xml"/><Relationship Id="rId70" Type="http://schemas.openxmlformats.org/officeDocument/2006/relationships/slide" Target="slides/slide26.xml"/><Relationship Id="rId71" Type="http://schemas.openxmlformats.org/officeDocument/2006/relationships/slide" Target="slides/slide27.xml"/><Relationship Id="rId72" Type="http://schemas.openxmlformats.org/officeDocument/2006/relationships/slide" Target="slides/slide28.xml"/><Relationship Id="rId73" Type="http://schemas.openxmlformats.org/officeDocument/2006/relationships/slide" Target="slides/slide29.xml"/><Relationship Id="rId74" Type="http://schemas.openxmlformats.org/officeDocument/2006/relationships/slide" Target="slides/slide30.xml"/><Relationship Id="rId75" Type="http://schemas.openxmlformats.org/officeDocument/2006/relationships/slide" Target="slides/slide31.xml"/><Relationship Id="rId76" Type="http://schemas.openxmlformats.org/officeDocument/2006/relationships/slide" Target="slides/slide32.xml"/><Relationship Id="rId77" Type="http://schemas.openxmlformats.org/officeDocument/2006/relationships/slide" Target="slides/slide33.xml"/><Relationship Id="rId78" Type="http://schemas.openxmlformats.org/officeDocument/2006/relationships/slide" Target="slides/slide34.xml"/><Relationship Id="rId79" Type="http://schemas.openxmlformats.org/officeDocument/2006/relationships/slide" Target="slides/slide35.xml"/><Relationship Id="rId80" Type="http://schemas.openxmlformats.org/officeDocument/2006/relationships/slide" Target="slides/slide36.xml"/><Relationship Id="rId81" Type="http://schemas.openxmlformats.org/officeDocument/2006/relationships/slide" Target="slides/slide37.xml"/><Relationship Id="rId82" Type="http://schemas.openxmlformats.org/officeDocument/2006/relationships/slide" Target="slides/slide38.xml"/><Relationship Id="rId83" Type="http://schemas.openxmlformats.org/officeDocument/2006/relationships/slide" Target="slides/slide39.xml"/><Relationship Id="rId84" Type="http://schemas.openxmlformats.org/officeDocument/2006/relationships/slide" Target="slides/slide40.xml"/><Relationship Id="rId85" Type="http://schemas.openxmlformats.org/officeDocument/2006/relationships/slide" Target="slides/slide41.xml"/><Relationship Id="rId86" Type="http://schemas.openxmlformats.org/officeDocument/2006/relationships/slide" Target="slides/slide42.xml"/><Relationship Id="rId87" Type="http://schemas.openxmlformats.org/officeDocument/2006/relationships/slide" Target="slides/slide43.xml"/><Relationship Id="rId88" Type="http://schemas.openxmlformats.org/officeDocument/2006/relationships/slide" Target="slides/slide44.xml"/><Relationship Id="rId89" Type="http://schemas.openxmlformats.org/officeDocument/2006/relationships/slide" Target="slides/slide45.xml"/><Relationship Id="rId90" Type="http://schemas.openxmlformats.org/officeDocument/2006/relationships/slide" Target="slides/slide46.xml"/><Relationship Id="rId91" Type="http://schemas.openxmlformats.org/officeDocument/2006/relationships/slide" Target="slides/slide47.xml"/><Relationship Id="rId92" Type="http://schemas.openxmlformats.org/officeDocument/2006/relationships/slide" Target="slides/slide48.xml"/><Relationship Id="rId93" Type="http://schemas.openxmlformats.org/officeDocument/2006/relationships/slide" Target="slides/slide49.xml"/><Relationship Id="rId94" Type="http://schemas.openxmlformats.org/officeDocument/2006/relationships/slide" Target="slides/slide50.xml"/><Relationship Id="rId95" Type="http://schemas.openxmlformats.org/officeDocument/2006/relationships/slide" Target="slides/slide51.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12590-7FE0-4E98-BB05-BEC5776B4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E811E-9EB2-4616-9124-C812CCC3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3C7D1-7BED-4D1D-9AAC-C255A4B9E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18C4B-1779-49E7-BA57-1077686F0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DB689-1FF6-4BE2-9AC9-4194D0AD4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A9CC8E-54FD-4D52-AAD8-15D1501667C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C0AC8A3-C35C-43AB-BFFD-D82511D1057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9000CC5-DAA0-4410-BE80-47842EAA3B0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F37477FF-0919-465B-8061-60F18BFABAE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80D940-A3FB-4CFC-BC18-AF995A6E3C1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6223-8D33-447F-8B57-FA765C164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EF225C57-4421-45A9-8CC8-47B18A2CA04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91B99D3E-B985-462E-9791-69BEBB5696D8}"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86A4C81C-7838-4708-884A-B3B126B5614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E9B43002-245D-4574-9412-6A3E3C5E24F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BF1EBEFC-070C-48EC-9B45-E93A36F608B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90D8B1D0-BC64-4E9C-B8E4-4B74D057AC7E}"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C5EA399B-1C9E-4BAE-812E-2257306E62C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CA785-A2B2-4A82-A3AF-87CB54FC9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4DB70C5-9E34-4781-9817-83A94728821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F5215EED-3892-41C6-BC79-EBCF6550021D}"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970E019C-57FB-47EB-8F12-4C1011534ADB}"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74B82FF0-7683-47C7-A213-C9E011815B14}"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2656E1D9-4E53-48D7-AB43-D1CF66A27CD4}"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30FB91CB-4D82-4864-BA9E-D518D9429D9A}"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981CC623-AAE6-4880-A5BA-23D9FCA54CEC}"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49D4FC13-6DF2-4713-9C2A-4CAD87F630C5}"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89C4B5DE-82B8-42B3-9F9B-673D32BC282B}"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904ABDDE-BAA5-4F8B-8601-041004EC79F1}"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02B733C9-5385-4F88-9E7B-5315020F40B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1176D4B5-8EEC-41DD-B01B-9552D639A01E}"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F9989DB-BF02-4C91-BC01-D36AA1D12A7A}"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6715035-33BE-4A02-8B00-6F09B09529EB}"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DB3A322C-9AF3-42D0-A4F2-19734AAE5B2D}"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06491DAE-5157-4E6B-AC02-3D347DA5B31D}"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4F043120-8A97-44BC-91C0-2ACE0B39118E}"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1FA00B4E-4920-46AB-A5AC-5CE3781ACB1A}"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6C5CC6E8-C002-4D55-BEE1-CAF8BABC6629}"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A1AD0282-6C4D-4B01-A78F-CD3ABB949ED9}"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DFC2F943-7E26-4AC1-97E3-D1AC422FC8D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27FBD3D4-7E10-4B94-A8E6-B9AC71CB81E7}"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47DC096F-C86F-48C2-BE10-196F25A02702}"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55A416CD-ADB9-43E1-BE6C-59BBF679F4EA}"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DCC52BB-A19B-4A65-9201-C39776B47629}"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47E9955D-6FFE-4F58-8FB2-501F7C39E8DB}"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44FE18D9-0C8D-4144-8744-06C7598B48A7}"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852E28E4-1183-4D04-99C8-A5B047528761}"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7"/>
          </p:nvPr>
        </p:nvSpPr>
        <p:spPr/>
        <p:txBody>
          <a:bodyPr/>
          <a:p>
            <a:fld id="{9B33DAD5-39F0-4C18-85B9-216E0760C49E}"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
          </p:nvPr>
        </p:nvSpPr>
        <p:spPr/>
        <p:txBody>
          <a:bodyPr/>
          <a:p>
            <a:fld id="{03101DCC-24BA-4E3E-9BF7-87AB14AF5997}"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B4561ACA-0EF5-4FD7-A4F8-C80F2D5CA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FAA19-C49E-43C6-9C8C-C34AB424A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24CEA099-E56D-4846-AA8F-B17A6B7C05F6}"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1995189F-BF20-4CD1-B611-0D77C150B4A7}"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179B419A-838C-4FFA-BBFF-4447E3A684CA}"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DAEFD611-6982-4F06-8114-93C7F9E63D8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9C156FF9-AFA5-4E58-A0F5-64C61CF455A3}"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4FC89F5-7357-426A-AACD-9F623E95C3F5}"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547F046C-2046-4141-9D26-7BA19FD0BFD7}"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39D7FABD-E049-4168-88F5-9A6ED79120AB}"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99163785-7F6B-4507-B208-1701A2BC1C35}"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0096773F-96C0-49FE-B286-4EB6E3A99B9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94124BDF-32F5-481E-9DC4-9BA99E360DE9}"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6928BA68-E7C1-4B2D-A3A7-AFD3693473E4}"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7C6D0B15-24DD-426A-AB12-C9AA490CFED0}"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6CE0CAF8-4CEE-417C-8141-C1C16F963AED}"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14C481EE-B0C1-4E38-9DA7-C3FA4196DCC7}"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3C8C16BB-294A-4EB8-AA7C-719EEA567E02}"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5AF40EB1-1BE3-4A06-BB40-D92100A6A08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1CBC-629D-4512-ABE1-D1F42B0C6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201BD-7CD7-426B-87C3-8B26A50AF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5BE04-71D7-418D-9B28-F31A93B88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3C3A2-9757-44CA-9951-298D2DEE5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Lato"/>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72E4-25A2-4E01-96DA-64D17D607024}" type="slidenum">
              <a:rPr b="0" lang="en-ID" sz="1200" spc="-1" strike="noStrike">
                <a:solidFill>
                  <a:srgbClr val="898989"/>
                </a:solidFill>
                <a:latin typeface="Lato"/>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9579-C447-45F7-9422-59602E5C5A37}"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359" name="Rectangle 7"/>
          <p:cNvSpPr/>
          <p:nvPr/>
        </p:nvSpPr>
        <p:spPr>
          <a:xfrm>
            <a:off x="9296280" y="0"/>
            <a:ext cx="2895840" cy="51609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5"/>
          <p:cNvSpPr/>
          <p:nvPr/>
        </p:nvSpPr>
        <p:spPr>
          <a:xfrm>
            <a:off x="-84600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497A-9E7F-43AA-B5C7-5CA65EE9C69A}"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25CE-D366-4202-B855-31850AFAB3AC}"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7607-082C-4BFB-9591-C26530365212}"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Rectangle 6"/>
          <p:cNvSpPr/>
          <p:nvPr/>
        </p:nvSpPr>
        <p:spPr>
          <a:xfrm>
            <a:off x="7105680" y="876240"/>
            <a:ext cx="5086440" cy="598176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369D-63CB-41FB-955D-36F297D17D1E}" type="slidenum">
              <a:rPr b="0" lang="en-ID" sz="1600" spc="-1" strike="noStrike">
                <a:solidFill>
                  <a:srgbClr val="ffffff"/>
                </a:solidFill>
                <a:latin typeface="Lato"/>
                <a:ea typeface="Arial"/>
              </a:rPr>
              <a:t>&lt;number&gt;</a:t>
            </a:fld>
            <a:endParaRPr b="0" lang="en-US" sz="1600" spc="-1" strike="noStrike">
              <a:solidFill>
                <a:srgbClr val="000000"/>
              </a:solidFill>
              <a:latin typeface="Calibri"/>
            </a:endParaRPr>
          </a:p>
        </p:txBody>
      </p:sp>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55"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B7B0-BF86-4430-9022-55F05FE01481}"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E333-D9AA-4684-B300-9A955894A535}"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6"/>
          <p:cNvSpPr/>
          <p:nvPr/>
        </p:nvSpPr>
        <p:spPr>
          <a:xfrm>
            <a:off x="8537400" y="0"/>
            <a:ext cx="3654720" cy="68580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Slide Number Placeholder 5"/>
          <p:cNvSpPr/>
          <p:nvPr/>
        </p:nvSpPr>
        <p:spPr>
          <a:xfrm>
            <a:off x="647388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E52F-CF13-4D6A-9D3B-483A25693591}"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6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0DC9-4EB1-4301-90E3-D9EC5513D93D}"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4319A-7DEA-4664-86CB-728AE7925263}"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4BA7-0BC9-4DB4-8E9C-686A74542E9D}"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CE15-E771-4155-84A8-322B65566849}"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752" name="Rectangle 7"/>
          <p:cNvSpPr/>
          <p:nvPr/>
        </p:nvSpPr>
        <p:spPr>
          <a:xfrm>
            <a:off x="0" y="0"/>
            <a:ext cx="5834160" cy="68580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FFD8-03F0-49F8-A619-E6F620807998}"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7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F75A-3F10-4DDB-9217-5A5415DE8D79}"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831" name="Rectangle 7"/>
          <p:cNvSpPr/>
          <p:nvPr/>
        </p:nvSpPr>
        <p:spPr>
          <a:xfrm>
            <a:off x="7524720" y="1508040"/>
            <a:ext cx="3686040" cy="53499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FA72-1CC6-46C3-AC0E-9D782A3D4FF5}"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54EC-D2E5-4576-8198-4F82AB9BA872}"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910" name="Freeform: Shape 7"/>
          <p:cNvSpPr/>
          <p:nvPr/>
        </p:nvSpPr>
        <p:spPr>
          <a:xfrm>
            <a:off x="6194520" y="4124160"/>
            <a:ext cx="5997600" cy="2733840"/>
          </a:xfrm>
          <a:custGeom>
            <a:avLst/>
            <a:gdLst/>
            <a:ahLst/>
            <a:rect l="l" t="t" r="r" b="b"/>
            <a:pathLst>
              <a:path w="5996993" h="2733309">
                <a:moveTo>
                  <a:pt x="0" y="0"/>
                </a:moveTo>
                <a:lnTo>
                  <a:pt x="2733093" y="0"/>
                </a:lnTo>
                <a:lnTo>
                  <a:pt x="2899490" y="0"/>
                </a:lnTo>
                <a:lnTo>
                  <a:pt x="5996993" y="0"/>
                </a:lnTo>
                <a:lnTo>
                  <a:pt x="5996993" y="2733309"/>
                </a:lnTo>
                <a:lnTo>
                  <a:pt x="2899490" y="2733309"/>
                </a:lnTo>
                <a:lnTo>
                  <a:pt x="2733093" y="2733309"/>
                </a:lnTo>
                <a:lnTo>
                  <a:pt x="0" y="2733309"/>
                </a:lnTo>
                <a:lnTo>
                  <a:pt x="0"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4BEA-55B7-41C3-8474-9A3A5B98DC53}"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9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6"/>
          <p:cNvSpPr/>
          <p:nvPr/>
        </p:nvSpPr>
        <p:spPr>
          <a:xfrm>
            <a:off x="6197760" y="0"/>
            <a:ext cx="59943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1CA5-D168-4489-A579-FF3117909AEA}"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9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6"/>
          <p:cNvSpPr/>
          <p:nvPr/>
        </p:nvSpPr>
        <p:spPr>
          <a:xfrm>
            <a:off x="0" y="0"/>
            <a:ext cx="609588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BB42-C02F-4B28-A01F-3B81EF46382D}"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0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AA67-6FD4-4B48-A067-635F57EBDC99}"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Rectangle 6"/>
          <p:cNvSpPr/>
          <p:nvPr/>
        </p:nvSpPr>
        <p:spPr>
          <a:xfrm>
            <a:off x="7672320" y="0"/>
            <a:ext cx="4519800" cy="68580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8" name="Slide Number Placeholder 5"/>
          <p:cNvSpPr/>
          <p:nvPr/>
        </p:nvSpPr>
        <p:spPr>
          <a:xfrm>
            <a:off x="-8445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797B-58B0-4AB3-8103-CEF445FFD971}"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3"/>
          <p:cNvSpPr>
            <a:spLocks noGrp="1"/>
          </p:cNvSpPr>
          <p:nvPr>
            <p:ph type="sldNum" idx="4"/>
          </p:nvPr>
        </p:nvSpPr>
        <p:spPr>
          <a:xfrm>
            <a:off x="10337760" y="6299280"/>
            <a:ext cx="2743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600" spc="-1" strike="noStrike">
                <a:solidFill>
                  <a:srgbClr val="ffffff"/>
                </a:solidFill>
                <a:latin typeface="Lato"/>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B979-5C6D-4244-BFC0-8959D7A882CD}" type="slidenum">
              <a:rPr b="0" lang="en-ID" sz="1600" spc="-1" strike="noStrike">
                <a:solidFill>
                  <a:srgbClr val="ffffff"/>
                </a:solidFill>
                <a:latin typeface="Lato"/>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76D0-520B-44EC-86D8-C4CC5BB9CAEB}"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Rectangle 6"/>
          <p:cNvSpPr/>
          <p:nvPr/>
        </p:nvSpPr>
        <p:spPr>
          <a:xfrm>
            <a:off x="6737400" y="0"/>
            <a:ext cx="545472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7"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E3AB-D7F6-40C9-A607-9010F067FF61}"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Rectangle 6"/>
          <p:cNvSpPr/>
          <p:nvPr/>
        </p:nvSpPr>
        <p:spPr>
          <a:xfrm>
            <a:off x="0" y="2666880"/>
            <a:ext cx="2903400" cy="41911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7"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56C1-302F-4A96-8900-9A00B8396470}"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CE83-DDA2-4135-8820-D1685FD6E230}"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67FF-D6BC-4560-AEDC-32C53D48977F}"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306" name="Rectangle 7"/>
          <p:cNvSpPr/>
          <p:nvPr/>
        </p:nvSpPr>
        <p:spPr>
          <a:xfrm>
            <a:off x="0" y="0"/>
            <a:ext cx="268452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E283-D04F-4C2A-A44A-75ED409846FE}"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Freeform: Shape 6"/>
          <p:cNvSpPr/>
          <p:nvPr/>
        </p:nvSpPr>
        <p:spPr>
          <a:xfrm>
            <a:off x="5956200" y="0"/>
            <a:ext cx="6235920" cy="6858000"/>
          </a:xfrm>
          <a:custGeom>
            <a:avLst/>
            <a:gdLst/>
            <a:ahLst/>
            <a:rect l="l" t="t" r="r" b="b"/>
            <a:pathLst>
              <a:path w="6235987" h="6858000">
                <a:moveTo>
                  <a:pt x="4137796" y="0"/>
                </a:moveTo>
                <a:lnTo>
                  <a:pt x="6235987" y="0"/>
                </a:lnTo>
                <a:lnTo>
                  <a:pt x="6235987" y="6858000"/>
                </a:lnTo>
                <a:lnTo>
                  <a:pt x="0" y="6858000"/>
                </a:lnTo>
                <a:lnTo>
                  <a:pt x="4137796"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5"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469D-8F1C-4ED1-91F1-EFC561E5531E}"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3E0B-FB05-4930-9CB1-DBD5401D6433}"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425" name="Freeform: Shape 7"/>
          <p:cNvSpPr/>
          <p:nvPr/>
        </p:nvSpPr>
        <p:spPr>
          <a:xfrm>
            <a:off x="0" y="0"/>
            <a:ext cx="9580680" cy="6858000"/>
          </a:xfrm>
          <a:custGeom>
            <a:avLst/>
            <a:gdLst/>
            <a:ahLst/>
            <a:rect l="l" t="t" r="r" b="b"/>
            <a:pathLst>
              <a:path w="9580496" h="6858000">
                <a:moveTo>
                  <a:pt x="0" y="0"/>
                </a:moveTo>
                <a:lnTo>
                  <a:pt x="2722496" y="0"/>
                </a:lnTo>
                <a:lnTo>
                  <a:pt x="9580496" y="6858000"/>
                </a:lnTo>
                <a:lnTo>
                  <a:pt x="0" y="6858000"/>
                </a:lnTo>
                <a:lnTo>
                  <a:pt x="0" y="0"/>
                </a:ln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6"/>
          <p:cNvSpPr/>
          <p:nvPr/>
        </p:nvSpPr>
        <p:spPr>
          <a:xfrm>
            <a:off x="8572680" y="0"/>
            <a:ext cx="36194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5"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88998-E4C7-4CDB-9099-5F7C26D833C9}"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ECEB-D1AF-4893-A69E-CC4A8A9B9D2B}"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505" name="Rectangle 7"/>
          <p:cNvSpPr/>
          <p:nvPr/>
        </p:nvSpPr>
        <p:spPr>
          <a:xfrm>
            <a:off x="0" y="0"/>
            <a:ext cx="41036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6"/>
          <p:cNvSpPr/>
          <p:nvPr/>
        </p:nvSpPr>
        <p:spPr>
          <a:xfrm>
            <a:off x="0" y="0"/>
            <a:ext cx="306720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8C12-528A-49D3-8321-53E3BD2A5D97}"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46" name="PlaceHolder 3"/>
          <p:cNvSpPr>
            <a:spLocks noGrp="1"/>
          </p:cNvSpPr>
          <p:nvPr>
            <p:ph type="sldNum" idx="5"/>
          </p:nvPr>
        </p:nvSpPr>
        <p:spPr>
          <a:xfrm>
            <a:off x="-824040" y="6184440"/>
            <a:ext cx="274320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600" spc="-1" strike="noStrike">
                <a:solidFill>
                  <a:srgbClr val="7f7f7f"/>
                </a:solidFill>
                <a:latin typeface="Lato"/>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994B-6EB7-43CE-BB0F-138653307A9D}" type="slidenum">
              <a:rPr b="0" lang="en-ID" sz="1600" spc="-1" strike="noStrike">
                <a:solidFill>
                  <a:srgbClr val="7f7f7f"/>
                </a:solidFill>
                <a:latin typeface="Lato"/>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85" name="PlaceHolder 3"/>
          <p:cNvSpPr>
            <a:spLocks noGrp="1"/>
          </p:cNvSpPr>
          <p:nvPr>
            <p:ph type="sldNum" idx="6"/>
          </p:nvPr>
        </p:nvSpPr>
        <p:spPr>
          <a:xfrm>
            <a:off x="930420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600" spc="-1" strike="noStrike">
                <a:solidFill>
                  <a:srgbClr val="898989"/>
                </a:solidFill>
                <a:latin typeface="Lato"/>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4933-A566-4195-92E5-D703DE3B64CE}" type="slidenum">
              <a:rPr b="0" lang="en-ID" sz="1600" spc="-1" strike="noStrike">
                <a:solidFill>
                  <a:srgbClr val="898989"/>
                </a:solidFill>
                <a:latin typeface="Lato"/>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24" name="PlaceHolder 3"/>
          <p:cNvSpPr>
            <a:spLocks noGrp="1"/>
          </p:cNvSpPr>
          <p:nvPr>
            <p:ph type="sldNum" idx="7"/>
          </p:nvPr>
        </p:nvSpPr>
        <p:spPr>
          <a:xfrm>
            <a:off x="930420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600" spc="-1" strike="noStrike">
                <a:solidFill>
                  <a:srgbClr val="898989"/>
                </a:solidFill>
                <a:latin typeface="Lato"/>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9765-4851-4D3B-9411-CC83E00A4C4F}" type="slidenum">
              <a:rPr b="0" lang="en-ID" sz="1600" spc="-1" strike="noStrike">
                <a:solidFill>
                  <a:srgbClr val="898989"/>
                </a:solidFill>
                <a:latin typeface="Lato"/>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63" name="PlaceHolder 3"/>
          <p:cNvSpPr>
            <a:spLocks noGrp="1"/>
          </p:cNvSpPr>
          <p:nvPr>
            <p:ph type="sldNum" idx="8"/>
          </p:nvPr>
        </p:nvSpPr>
        <p:spPr>
          <a:xfrm>
            <a:off x="10337760" y="6299280"/>
            <a:ext cx="2743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600" spc="-1" strike="noStrike">
                <a:solidFill>
                  <a:srgbClr val="ffffff"/>
                </a:solidFill>
                <a:latin typeface="Lato"/>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C67C-C836-4AED-9CEC-16B1BEA4BDEB}" type="slidenum">
              <a:rPr b="0" lang="en-ID" sz="1600" spc="-1" strike="noStrike">
                <a:solidFill>
                  <a:srgbClr val="ffffff"/>
                </a:solidFill>
                <a:latin typeface="Lato"/>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589284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4AC1-8FFF-4D9B-8342-786B1AC75B2D}"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6"/>
          <p:cNvSpPr/>
          <p:nvPr/>
        </p:nvSpPr>
        <p:spPr>
          <a:xfrm>
            <a:off x="10044000" y="0"/>
            <a:ext cx="214812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Rectangle 7"/>
          <p:cNvSpPr/>
          <p:nvPr/>
        </p:nvSpPr>
        <p:spPr>
          <a:xfrm>
            <a:off x="0" y="0"/>
            <a:ext cx="3048120" cy="68580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BF98-136B-4323-A262-98CEA0790622}"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6"/>
          <p:cNvSpPr/>
          <p:nvPr/>
        </p:nvSpPr>
        <p:spPr>
          <a:xfrm>
            <a:off x="8629560" y="0"/>
            <a:ext cx="3562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6417-3CD1-4047-86C0-C8479E534668}"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5"/>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49CB-410D-43A5-BB20-B6C97B800EF2}"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280" name="Rectangle 7"/>
          <p:cNvSpPr/>
          <p:nvPr/>
        </p:nvSpPr>
        <p:spPr>
          <a:xfrm>
            <a:off x="0" y="0"/>
            <a:ext cx="3149640" cy="68580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84600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B2A8-95A7-42D0-A5B6-BEA49F638E8F}" type="slidenum">
              <a:rPr b="0" lang="en-ID" sz="1600" spc="-1" strike="noStrike">
                <a:solidFill>
                  <a:srgbClr val="595959"/>
                </a:solidFill>
                <a:latin typeface="Lato"/>
                <a:ea typeface="Arial"/>
              </a:rPr>
              <a:t>&lt;number&gt;</a:t>
            </a:fld>
            <a:endParaRPr b="0" lang="en-US" sz="1600" spc="-1" strike="noStrike">
              <a:solidFill>
                <a:srgbClr val="000000"/>
              </a:solidFill>
              <a:latin typeface="Calibri"/>
            </a:endParaRPr>
          </a:p>
        </p:txBody>
      </p:sp>
      <p:sp>
        <p:nvSpPr>
          <p:cNvPr id="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png"/><Relationship Id="rId3" Type="http://schemas.openxmlformats.org/officeDocument/2006/relationships/image" Target="../media/image3.png"/><Relationship Id="rId4" Type="http://schemas.openxmlformats.org/officeDocument/2006/relationships/slideLayout" Target="../slideLayouts/slideLayout30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3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3.png"/><Relationship Id="rId5"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349.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png"/><Relationship Id="rId3" Type="http://schemas.openxmlformats.org/officeDocument/2006/relationships/image" Target="../media/image21.png"/><Relationship Id="rId4" Type="http://schemas.openxmlformats.org/officeDocument/2006/relationships/image" Target="../media/image3.png"/><Relationship Id="rId5" Type="http://schemas.openxmlformats.org/officeDocument/2006/relationships/slideLayout" Target="../slideLayouts/slideLayout36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slideLayout" Target="../slideLayouts/slideLayout37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slideLayout" Target="../slideLayouts/slideLayout38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image" Target="../media/image25.png"/><Relationship Id="rId5" Type="http://schemas.openxmlformats.org/officeDocument/2006/relationships/slideLayout" Target="../slideLayouts/slideLayout397.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slideLayout" Target="../slideLayouts/slideLayout409.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png"/><Relationship Id="rId3" Type="http://schemas.openxmlformats.org/officeDocument/2006/relationships/slideLayout" Target="../slideLayouts/slideLayout42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33.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slideLayout" Target="../slideLayouts/slideLayout433.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png"/><Relationship Id="rId3" Type="http://schemas.openxmlformats.org/officeDocument/2006/relationships/slideLayout" Target="../slideLayouts/slideLayout45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3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png"/><Relationship Id="rId7" Type="http://schemas.openxmlformats.org/officeDocument/2006/relationships/slideLayout" Target="../slideLayouts/slideLayout433.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png"/><Relationship Id="rId3" Type="http://schemas.openxmlformats.org/officeDocument/2006/relationships/slideLayout" Target="../slideLayouts/slideLayout445.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png"/><Relationship Id="rId5"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image" Target="../media/image31.png"/><Relationship Id="rId4" Type="http://schemas.openxmlformats.org/officeDocument/2006/relationships/image" Target="../media/image3.png"/><Relationship Id="rId5" Type="http://schemas.openxmlformats.org/officeDocument/2006/relationships/slideLayout" Target="../slideLayouts/slideLayout433.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png"/><Relationship Id="rId6" Type="http://schemas.openxmlformats.org/officeDocument/2006/relationships/slideLayout" Target="../slideLayouts/slideLayout42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png"/><Relationship Id="rId3" Type="http://schemas.openxmlformats.org/officeDocument/2006/relationships/package" Target="../embeddings/oleObject2.xlsx"/><Relationship Id="rId4" Type="http://schemas.openxmlformats.org/officeDocument/2006/relationships/image" Target="../media/image40.png"/><Relationship Id="rId5" Type="http://schemas.openxmlformats.org/officeDocument/2006/relationships/image" Target="../media/image22.png"/><Relationship Id="rId6" Type="http://schemas.openxmlformats.org/officeDocument/2006/relationships/image" Target="../media/image3.png"/><Relationship Id="rId7" Type="http://schemas.openxmlformats.org/officeDocument/2006/relationships/slideLayout" Target="../slideLayouts/slideLayout445.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png"/><Relationship Id="rId3" Type="http://schemas.openxmlformats.org/officeDocument/2006/relationships/slideLayout" Target="../slideLayouts/slideLayout4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8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0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Slide Number Placeholder 1"/>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8D88-A588-4AC3-9F48-A5ECA2C8D39F}" type="slidenum">
              <a:rPr b="0" lang="en-ID" sz="1600" spc="-1" strike="noStrike">
                <a:solidFill>
                  <a:srgbClr val="ffffff"/>
                </a:solidFill>
                <a:latin typeface="Lato"/>
                <a:ea typeface="Arial"/>
              </a:rPr>
              <a:t>&lt;number&gt;</a:t>
            </a:fld>
            <a:endParaRPr b="0" lang="en-US" sz="1600" spc="-1" strike="noStrike">
              <a:solidFill>
                <a:srgbClr val="000000"/>
              </a:solidFill>
              <a:latin typeface="Calibri"/>
            </a:endParaRPr>
          </a:p>
        </p:txBody>
      </p:sp>
      <p:sp>
        <p:nvSpPr>
          <p:cNvPr id="1701" name="TextBox 11"/>
          <p:cNvSpPr/>
          <p:nvPr/>
        </p:nvSpPr>
        <p:spPr>
          <a:xfrm>
            <a:off x="3131280" y="2592360"/>
            <a:ext cx="5929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ffffff"/>
                </a:solidFill>
                <a:latin typeface="Roboto Black"/>
                <a:ea typeface="Roboto Black"/>
              </a:rPr>
              <a:t>TELE</a:t>
            </a:r>
            <a:r>
              <a:rPr b="0" lang="en-GB" sz="8800" spc="-1" strike="noStrike">
                <a:solidFill>
                  <a:srgbClr val="ffbe42"/>
                </a:solidFill>
                <a:latin typeface="Roboto Black"/>
                <a:ea typeface="Roboto Black"/>
              </a:rPr>
              <a:t>WORK</a:t>
            </a:r>
            <a:endParaRPr b="0" lang="en-US" sz="8800" spc="-1" strike="noStrike">
              <a:solidFill>
                <a:srgbClr val="000000"/>
              </a:solidFill>
              <a:latin typeface="Calibri"/>
            </a:endParaRPr>
          </a:p>
        </p:txBody>
      </p:sp>
      <p:grpSp>
        <p:nvGrpSpPr>
          <p:cNvPr id="1702" name="Group 29"/>
          <p:cNvGrpSpPr/>
          <p:nvPr/>
        </p:nvGrpSpPr>
        <p:grpSpPr>
          <a:xfrm>
            <a:off x="4581000" y="1712880"/>
            <a:ext cx="3296160" cy="3505320"/>
            <a:chOff x="4581000" y="1712880"/>
            <a:chExt cx="3296160" cy="3505320"/>
          </a:xfrm>
        </p:grpSpPr>
        <p:sp>
          <p:nvSpPr>
            <p:cNvPr id="1703" name="Left Bracket 21"/>
            <p:cNvSpPr/>
            <p:nvPr/>
          </p:nvSpPr>
          <p:spPr>
            <a:xfrm rot="16200000">
              <a:off x="5810400" y="3151440"/>
              <a:ext cx="837360" cy="3295800"/>
            </a:xfrm>
            <a:custGeom>
              <a:avLst/>
              <a:gdLst>
                <a:gd name="textAreaLeft" fmla="*/ 246240 w 837360"/>
                <a:gd name="textAreaRight" fmla="*/ 837720 w 837360"/>
                <a:gd name="textAreaTop" fmla="*/ 0 h 3295800"/>
                <a:gd name="textAreaBottom" fmla="*/ 3296160 h 32958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123840">
              <a:solidFill>
                <a:srgbClr val="ffbe4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4" name="Left Bracket 24"/>
            <p:cNvSpPr/>
            <p:nvPr/>
          </p:nvSpPr>
          <p:spPr>
            <a:xfrm rot="5400000">
              <a:off x="5810040" y="483480"/>
              <a:ext cx="837360" cy="3295800"/>
            </a:xfrm>
            <a:custGeom>
              <a:avLst/>
              <a:gdLst>
                <a:gd name="textAreaLeft" fmla="*/ 246240 w 837360"/>
                <a:gd name="textAreaRight" fmla="*/ 837720 w 837360"/>
                <a:gd name="textAreaTop" fmla="*/ 0 h 3295800"/>
                <a:gd name="textAreaBottom" fmla="*/ 3296160 h 32958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123840">
              <a:solidFill>
                <a:srgbClr val="ffbe4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5" name="TextBox 28"/>
          <p:cNvSpPr/>
          <p:nvPr/>
        </p:nvSpPr>
        <p:spPr>
          <a:xfrm>
            <a:off x="752400" y="328680"/>
            <a:ext cx="28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ontserrat"/>
              </a:rPr>
              <a:t>COMPANY NAME</a:t>
            </a:r>
            <a:endParaRPr b="0" lang="en-US" sz="1600" spc="-1" strike="noStrike">
              <a:solidFill>
                <a:srgbClr val="000000"/>
              </a:solidFill>
              <a:latin typeface="Calibri"/>
            </a:endParaRPr>
          </a:p>
        </p:txBody>
      </p:sp>
      <p:grpSp>
        <p:nvGrpSpPr>
          <p:cNvPr id="1706" name="Group 31"/>
          <p:cNvGrpSpPr/>
          <p:nvPr/>
        </p:nvGrpSpPr>
        <p:grpSpPr>
          <a:xfrm>
            <a:off x="11604600" y="2766960"/>
            <a:ext cx="209520" cy="1200240"/>
            <a:chOff x="11604600" y="2766960"/>
            <a:chExt cx="209520" cy="1200240"/>
          </a:xfrm>
        </p:grpSpPr>
        <p:sp>
          <p:nvSpPr>
            <p:cNvPr id="1707" name="Freeform: Shape 34"/>
            <p:cNvSpPr/>
            <p:nvPr/>
          </p:nvSpPr>
          <p:spPr>
            <a:xfrm>
              <a:off x="11604600" y="2766960"/>
              <a:ext cx="209520" cy="168480"/>
            </a:xfrm>
            <a:custGeom>
              <a:avLst/>
              <a:gdLst/>
              <a:ahLst/>
              <a:rect l="l" t="t" r="r" b="b"/>
              <a:pathLst>
                <a:path w="284872" h="228985">
                  <a:moveTo>
                    <a:pt x="238095" y="19069"/>
                  </a:moveTo>
                  <a:cubicBezTo>
                    <a:pt x="207125" y="-16883"/>
                    <a:pt x="130957" y="-3330"/>
                    <a:pt x="136129" y="71103"/>
                  </a:cubicBezTo>
                  <a:cubicBezTo>
                    <a:pt x="136129" y="71103"/>
                    <a:pt x="93556" y="81090"/>
                    <a:pt x="20498" y="16967"/>
                  </a:cubicBezTo>
                  <a:cubicBezTo>
                    <a:pt x="20498" y="16967"/>
                    <a:pt x="8819" y="55654"/>
                    <a:pt x="33522" y="87716"/>
                  </a:cubicBezTo>
                  <a:cubicBezTo>
                    <a:pt x="33522" y="87716"/>
                    <a:pt x="21921" y="89843"/>
                    <a:pt x="9461" y="84243"/>
                  </a:cubicBezTo>
                  <a:cubicBezTo>
                    <a:pt x="9461" y="84243"/>
                    <a:pt x="11037" y="124188"/>
                    <a:pt x="53085" y="137854"/>
                  </a:cubicBezTo>
                  <a:cubicBezTo>
                    <a:pt x="53085" y="137854"/>
                    <a:pt x="41522" y="143109"/>
                    <a:pt x="33113" y="142584"/>
                  </a:cubicBezTo>
                  <a:cubicBezTo>
                    <a:pt x="33113" y="142584"/>
                    <a:pt x="42048" y="173068"/>
                    <a:pt x="79890" y="176222"/>
                  </a:cubicBezTo>
                  <a:cubicBezTo>
                    <a:pt x="79890" y="176222"/>
                    <a:pt x="61495" y="210385"/>
                    <a:pt x="0" y="206706"/>
                  </a:cubicBezTo>
                  <a:cubicBezTo>
                    <a:pt x="77218" y="253969"/>
                    <a:pt x="259204" y="235498"/>
                    <a:pt x="249995" y="58261"/>
                  </a:cubicBezTo>
                  <a:lnTo>
                    <a:pt x="284873" y="29056"/>
                  </a:lnTo>
                  <a:lnTo>
                    <a:pt x="254388" y="35363"/>
                  </a:lnTo>
                  <a:lnTo>
                    <a:pt x="279091" y="6980"/>
                  </a:lnTo>
                  <a:lnTo>
                    <a:pt x="238095" y="190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8" name="Freeform: Shape 35"/>
            <p:cNvSpPr/>
            <p:nvPr/>
          </p:nvSpPr>
          <p:spPr>
            <a:xfrm>
              <a:off x="11657160" y="3256200"/>
              <a:ext cx="104040" cy="218160"/>
            </a:xfrm>
            <a:custGeom>
              <a:avLst/>
              <a:gdLst/>
              <a:ahLst/>
              <a:rect l="l" t="t" r="r" b="b"/>
              <a:pathLst>
                <a:path w="141378" h="296691">
                  <a:moveTo>
                    <a:pt x="84616" y="0"/>
                  </a:moveTo>
                  <a:cubicBezTo>
                    <a:pt x="62843" y="0"/>
                    <a:pt x="33105" y="21479"/>
                    <a:pt x="33105" y="52031"/>
                  </a:cubicBezTo>
                  <a:lnTo>
                    <a:pt x="33105" y="78567"/>
                  </a:lnTo>
                  <a:lnTo>
                    <a:pt x="33105" y="91705"/>
                  </a:lnTo>
                  <a:lnTo>
                    <a:pt x="0" y="91705"/>
                  </a:lnTo>
                  <a:lnTo>
                    <a:pt x="0" y="150061"/>
                  </a:lnTo>
                  <a:lnTo>
                    <a:pt x="33105" y="150061"/>
                  </a:lnTo>
                  <a:lnTo>
                    <a:pt x="33105" y="296692"/>
                  </a:lnTo>
                  <a:lnTo>
                    <a:pt x="88827" y="296692"/>
                  </a:lnTo>
                  <a:lnTo>
                    <a:pt x="88827" y="150061"/>
                  </a:lnTo>
                  <a:lnTo>
                    <a:pt x="139281" y="150061"/>
                  </a:lnTo>
                  <a:lnTo>
                    <a:pt x="139281" y="91705"/>
                  </a:lnTo>
                  <a:lnTo>
                    <a:pt x="88827" y="91705"/>
                  </a:lnTo>
                  <a:lnTo>
                    <a:pt x="88827" y="78567"/>
                  </a:lnTo>
                  <a:lnTo>
                    <a:pt x="88827" y="61495"/>
                  </a:lnTo>
                  <a:cubicBezTo>
                    <a:pt x="88827" y="56187"/>
                    <a:pt x="90423" y="48877"/>
                    <a:pt x="101445" y="48877"/>
                  </a:cubicBezTo>
                  <a:lnTo>
                    <a:pt x="141379" y="48877"/>
                  </a:lnTo>
                  <a:lnTo>
                    <a:pt x="141379" y="0"/>
                  </a:lnTo>
                  <a:lnTo>
                    <a:pt x="8461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9" name="Freeform: Shape 36"/>
            <p:cNvSpPr/>
            <p:nvPr/>
          </p:nvSpPr>
          <p:spPr>
            <a:xfrm>
              <a:off x="11622600" y="3795840"/>
              <a:ext cx="173520" cy="171360"/>
            </a:xfrm>
            <a:custGeom>
              <a:avLst/>
              <a:gdLst/>
              <a:ahLst/>
              <a:rect l="l" t="t" r="r" b="b"/>
              <a:pathLst>
                <a:path w="235575" h="232738">
                  <a:moveTo>
                    <a:pt x="56039" y="0"/>
                  </a:moveTo>
                  <a:cubicBezTo>
                    <a:pt x="25194" y="0"/>
                    <a:pt x="0" y="25193"/>
                    <a:pt x="0" y="56039"/>
                  </a:cubicBezTo>
                  <a:lnTo>
                    <a:pt x="0" y="176685"/>
                  </a:lnTo>
                  <a:cubicBezTo>
                    <a:pt x="0" y="207530"/>
                    <a:pt x="25194" y="232738"/>
                    <a:pt x="56039" y="232738"/>
                  </a:cubicBezTo>
                  <a:lnTo>
                    <a:pt x="179522" y="232738"/>
                  </a:lnTo>
                  <a:cubicBezTo>
                    <a:pt x="210367" y="232738"/>
                    <a:pt x="235575" y="207530"/>
                    <a:pt x="235575" y="176685"/>
                  </a:cubicBezTo>
                  <a:lnTo>
                    <a:pt x="235575" y="56039"/>
                  </a:lnTo>
                  <a:cubicBezTo>
                    <a:pt x="235575" y="25193"/>
                    <a:pt x="210367" y="0"/>
                    <a:pt x="179522" y="0"/>
                  </a:cubicBezTo>
                  <a:lnTo>
                    <a:pt x="56039" y="0"/>
                  </a:lnTo>
                  <a:close/>
                  <a:moveTo>
                    <a:pt x="56039" y="22706"/>
                  </a:moveTo>
                  <a:lnTo>
                    <a:pt x="179522" y="22706"/>
                  </a:lnTo>
                  <a:cubicBezTo>
                    <a:pt x="198156" y="22706"/>
                    <a:pt x="212854" y="37404"/>
                    <a:pt x="212854" y="56039"/>
                  </a:cubicBezTo>
                  <a:lnTo>
                    <a:pt x="212854" y="176685"/>
                  </a:lnTo>
                  <a:cubicBezTo>
                    <a:pt x="212854" y="195319"/>
                    <a:pt x="198156" y="209958"/>
                    <a:pt x="179522" y="209958"/>
                  </a:cubicBezTo>
                  <a:lnTo>
                    <a:pt x="56039" y="209958"/>
                  </a:lnTo>
                  <a:cubicBezTo>
                    <a:pt x="37405" y="209958"/>
                    <a:pt x="22765" y="195319"/>
                    <a:pt x="22765" y="176685"/>
                  </a:cubicBezTo>
                  <a:lnTo>
                    <a:pt x="22765" y="56039"/>
                  </a:lnTo>
                  <a:cubicBezTo>
                    <a:pt x="22765" y="37404"/>
                    <a:pt x="37405" y="22706"/>
                    <a:pt x="56039" y="22706"/>
                  </a:cubicBezTo>
                  <a:close/>
                  <a:moveTo>
                    <a:pt x="180271" y="39902"/>
                  </a:moveTo>
                  <a:cubicBezTo>
                    <a:pt x="171501" y="39898"/>
                    <a:pt x="164388" y="47004"/>
                    <a:pt x="164384" y="55774"/>
                  </a:cubicBezTo>
                  <a:cubicBezTo>
                    <a:pt x="164380" y="64544"/>
                    <a:pt x="171486" y="71657"/>
                    <a:pt x="180257" y="71661"/>
                  </a:cubicBezTo>
                  <a:cubicBezTo>
                    <a:pt x="180262" y="71661"/>
                    <a:pt x="180266" y="71661"/>
                    <a:pt x="180271" y="71661"/>
                  </a:cubicBezTo>
                  <a:cubicBezTo>
                    <a:pt x="189041" y="71657"/>
                    <a:pt x="196147" y="64544"/>
                    <a:pt x="196144" y="55774"/>
                  </a:cubicBezTo>
                  <a:cubicBezTo>
                    <a:pt x="196139" y="47010"/>
                    <a:pt x="189035" y="39906"/>
                    <a:pt x="180271" y="39902"/>
                  </a:cubicBezTo>
                  <a:close/>
                  <a:moveTo>
                    <a:pt x="117810" y="56260"/>
                  </a:moveTo>
                  <a:cubicBezTo>
                    <a:pt x="84731" y="56260"/>
                    <a:pt x="57714" y="83290"/>
                    <a:pt x="57714" y="116369"/>
                  </a:cubicBezTo>
                  <a:cubicBezTo>
                    <a:pt x="57714" y="149448"/>
                    <a:pt x="84731" y="176406"/>
                    <a:pt x="117810" y="176406"/>
                  </a:cubicBezTo>
                  <a:cubicBezTo>
                    <a:pt x="150888" y="176406"/>
                    <a:pt x="177861" y="149448"/>
                    <a:pt x="177861" y="116369"/>
                  </a:cubicBezTo>
                  <a:cubicBezTo>
                    <a:pt x="177861" y="83290"/>
                    <a:pt x="150888" y="56260"/>
                    <a:pt x="117810" y="56260"/>
                  </a:cubicBezTo>
                  <a:close/>
                  <a:moveTo>
                    <a:pt x="117810" y="73322"/>
                  </a:moveTo>
                  <a:cubicBezTo>
                    <a:pt x="141666" y="73322"/>
                    <a:pt x="160812" y="92512"/>
                    <a:pt x="160812" y="116369"/>
                  </a:cubicBezTo>
                  <a:cubicBezTo>
                    <a:pt x="160812" y="140226"/>
                    <a:pt x="141666" y="159358"/>
                    <a:pt x="117810" y="159358"/>
                  </a:cubicBezTo>
                  <a:cubicBezTo>
                    <a:pt x="93953" y="159358"/>
                    <a:pt x="74763" y="140226"/>
                    <a:pt x="74763" y="116369"/>
                  </a:cubicBezTo>
                  <a:cubicBezTo>
                    <a:pt x="74763" y="92512"/>
                    <a:pt x="93953" y="73322"/>
                    <a:pt x="117810" y="733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710" name="TextBox 38"/>
          <p:cNvSpPr/>
          <p:nvPr/>
        </p:nvSpPr>
        <p:spPr>
          <a:xfrm>
            <a:off x="2771640" y="3851280"/>
            <a:ext cx="664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a:rPr>
              <a:t>WORK FROM HOME SOLUTION</a:t>
            </a:r>
            <a:endParaRPr b="0" lang="en-US" sz="1800" spc="-1" strike="noStrike">
              <a:solidFill>
                <a:srgbClr val="000000"/>
              </a:solidFill>
              <a:latin typeface="Calibri"/>
            </a:endParaRPr>
          </a:p>
        </p:txBody>
      </p:sp>
      <p:grpSp>
        <p:nvGrpSpPr>
          <p:cNvPr id="1711" name="Group 39"/>
          <p:cNvGrpSpPr/>
          <p:nvPr/>
        </p:nvGrpSpPr>
        <p:grpSpPr>
          <a:xfrm>
            <a:off x="618120" y="6299280"/>
            <a:ext cx="3865680" cy="261360"/>
            <a:chOff x="618120" y="6299280"/>
            <a:chExt cx="3865680" cy="261360"/>
          </a:xfrm>
        </p:grpSpPr>
        <p:sp>
          <p:nvSpPr>
            <p:cNvPr id="1712" name="Straight Connector 40"/>
            <p:cNvSpPr/>
            <p:nvPr/>
          </p:nvSpPr>
          <p:spPr>
            <a:xfrm>
              <a:off x="1996200" y="6444720"/>
              <a:ext cx="1711440" cy="0"/>
            </a:xfrm>
            <a:prstGeom prst="line">
              <a:avLst/>
            </a:prstGeom>
            <a:ln w="1260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3" name="TextBox 41"/>
            <p:cNvSpPr/>
            <p:nvPr/>
          </p:nvSpPr>
          <p:spPr>
            <a:xfrm>
              <a:off x="618120" y="6299280"/>
              <a:ext cx="968760" cy="261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Montserrat"/>
                  <a:ea typeface="Roboto Black"/>
                </a:rPr>
                <a:t>TELE WORK</a:t>
              </a:r>
              <a:endParaRPr b="0" lang="en-US" sz="1100" spc="-1" strike="noStrike">
                <a:solidFill>
                  <a:srgbClr val="000000"/>
                </a:solidFill>
                <a:latin typeface="Calibri"/>
              </a:endParaRPr>
            </a:p>
          </p:txBody>
        </p:sp>
        <p:sp>
          <p:nvSpPr>
            <p:cNvPr id="1714" name="TextBox 42"/>
            <p:cNvSpPr/>
            <p:nvPr/>
          </p:nvSpPr>
          <p:spPr>
            <a:xfrm>
              <a:off x="3980160" y="6299280"/>
              <a:ext cx="50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ffffff"/>
                  </a:solidFill>
                  <a:latin typeface="Montserrat"/>
                  <a:ea typeface="Roboto Black"/>
                </a:rPr>
                <a:t>2022</a:t>
              </a:r>
              <a:endParaRPr b="0" lang="en-US" sz="1100" spc="-1" strike="noStrike">
                <a:solidFill>
                  <a:srgbClr val="000000"/>
                </a:solidFill>
                <a:latin typeface="Calibri"/>
              </a:endParaRPr>
            </a:p>
          </p:txBody>
        </p:sp>
      </p:grpSp>
      <p:pic>
        <p:nvPicPr>
          <p:cNvPr id="1715" name="Graphic 2" descr=""/>
          <p:cNvPicPr/>
          <p:nvPr/>
        </p:nvPicPr>
        <p:blipFill>
          <a:blip r:embed="rId1"/>
          <a:stretch/>
        </p:blipFill>
        <p:spPr>
          <a:xfrm>
            <a:off x="276120" y="312840"/>
            <a:ext cx="366840" cy="366480"/>
          </a:xfrm>
          <a:prstGeom prst="rect">
            <a:avLst/>
          </a:prstGeom>
          <a:ln w="0">
            <a:noFill/>
          </a:ln>
        </p:spPr>
      </p:pic>
      <p:pic>
        <p:nvPicPr>
          <p:cNvPr id="171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2"/>
          <p:cNvSpPr/>
          <p:nvPr/>
        </p:nvSpPr>
        <p:spPr>
          <a:xfrm>
            <a:off x="4892760" y="1504800"/>
            <a:ext cx="6316560" cy="213372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26" name="Group 6"/>
          <p:cNvGrpSpPr/>
          <p:nvPr/>
        </p:nvGrpSpPr>
        <p:grpSpPr>
          <a:xfrm>
            <a:off x="5475240" y="1936800"/>
            <a:ext cx="5151600" cy="1438920"/>
            <a:chOff x="5475240" y="1936800"/>
            <a:chExt cx="5151600" cy="1438920"/>
          </a:xfrm>
        </p:grpSpPr>
        <p:sp>
          <p:nvSpPr>
            <p:cNvPr id="1827" name="TextBox 3"/>
            <p:cNvSpPr/>
            <p:nvPr/>
          </p:nvSpPr>
          <p:spPr>
            <a:xfrm>
              <a:off x="5475240" y="1936800"/>
              <a:ext cx="5037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Montserrat"/>
                  <a:ea typeface="Roboto"/>
                </a:rPr>
                <a:t>“ </a:t>
              </a:r>
              <a:r>
                <a:rPr b="0" i="1" lang="en-GB" sz="2000" spc="-1" strike="noStrike">
                  <a:solidFill>
                    <a:srgbClr val="ffffff"/>
                  </a:solidFill>
                  <a:latin typeface="Montserrat"/>
                  <a:ea typeface="Roboto"/>
                </a:rPr>
                <a:t>Working In Life Will Provide Happiness To Our Mind. Great Mind Will Provide A Great Experience.”</a:t>
              </a:r>
              <a:endParaRPr b="0" lang="en-US" sz="2000" spc="-1" strike="noStrike">
                <a:solidFill>
                  <a:srgbClr val="000000"/>
                </a:solidFill>
                <a:latin typeface="Calibri"/>
              </a:endParaRPr>
            </a:p>
          </p:txBody>
        </p:sp>
        <p:sp>
          <p:nvSpPr>
            <p:cNvPr id="1828" name="TextBox 4"/>
            <p:cNvSpPr/>
            <p:nvPr/>
          </p:nvSpPr>
          <p:spPr>
            <a:xfrm>
              <a:off x="5589720" y="3068640"/>
              <a:ext cx="5037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Roboto"/>
                  <a:ea typeface="Roboto"/>
                </a:rPr>
                <a:t>- Quoter’s Name -</a:t>
              </a:r>
              <a:endParaRPr b="0" lang="en-US" sz="1400" spc="-1" strike="noStrike">
                <a:solidFill>
                  <a:srgbClr val="000000"/>
                </a:solidFill>
                <a:latin typeface="Calibri"/>
              </a:endParaRPr>
            </a:p>
          </p:txBody>
        </p:sp>
      </p:grpSp>
      <p:sp>
        <p:nvSpPr>
          <p:cNvPr id="1829" name="Freeform: Shape 5"/>
          <p:cNvSpPr/>
          <p:nvPr/>
        </p:nvSpPr>
        <p:spPr>
          <a:xfrm>
            <a:off x="7610400" y="1069920"/>
            <a:ext cx="881280" cy="716040"/>
          </a:xfrm>
          <a:custGeom>
            <a:avLst/>
            <a:gdLst/>
            <a:ahLst/>
            <a:rect l="l" t="t" r="r" b="b"/>
            <a:pathLst>
              <a:path w="941927" h="765696">
                <a:moveTo>
                  <a:pt x="829503" y="0"/>
                </a:moveTo>
                <a:lnTo>
                  <a:pt x="856850" y="54693"/>
                </a:lnTo>
                <a:cubicBezTo>
                  <a:pt x="794054" y="81026"/>
                  <a:pt x="739868" y="122552"/>
                  <a:pt x="694291" y="179270"/>
                </a:cubicBezTo>
                <a:cubicBezTo>
                  <a:pt x="648714" y="235989"/>
                  <a:pt x="625926" y="293720"/>
                  <a:pt x="625926" y="352463"/>
                </a:cubicBezTo>
                <a:cubicBezTo>
                  <a:pt x="625926" y="376771"/>
                  <a:pt x="628964" y="398040"/>
                  <a:pt x="635041" y="416271"/>
                </a:cubicBezTo>
                <a:cubicBezTo>
                  <a:pt x="667451" y="389938"/>
                  <a:pt x="704926" y="376771"/>
                  <a:pt x="747465" y="376771"/>
                </a:cubicBezTo>
                <a:cubicBezTo>
                  <a:pt x="802157" y="376771"/>
                  <a:pt x="848241" y="394496"/>
                  <a:pt x="885715" y="429944"/>
                </a:cubicBezTo>
                <a:cubicBezTo>
                  <a:pt x="923190" y="465393"/>
                  <a:pt x="941927" y="512490"/>
                  <a:pt x="941927" y="571234"/>
                </a:cubicBezTo>
                <a:cubicBezTo>
                  <a:pt x="941927" y="625926"/>
                  <a:pt x="923190" y="672010"/>
                  <a:pt x="885715" y="709484"/>
                </a:cubicBezTo>
                <a:cubicBezTo>
                  <a:pt x="848241" y="746959"/>
                  <a:pt x="802157" y="765696"/>
                  <a:pt x="747465" y="765696"/>
                </a:cubicBezTo>
                <a:cubicBezTo>
                  <a:pt x="668464" y="765696"/>
                  <a:pt x="608708" y="733286"/>
                  <a:pt x="568194" y="668465"/>
                </a:cubicBezTo>
                <a:cubicBezTo>
                  <a:pt x="533758" y="613772"/>
                  <a:pt x="516541" y="546926"/>
                  <a:pt x="516541" y="467925"/>
                </a:cubicBezTo>
                <a:cubicBezTo>
                  <a:pt x="516541" y="366643"/>
                  <a:pt x="542368" y="275489"/>
                  <a:pt x="594022" y="194463"/>
                </a:cubicBezTo>
                <a:cubicBezTo>
                  <a:pt x="645676" y="113437"/>
                  <a:pt x="724170" y="48616"/>
                  <a:pt x="829503" y="0"/>
                </a:cubicBezTo>
                <a:close/>
                <a:moveTo>
                  <a:pt x="312963" y="0"/>
                </a:moveTo>
                <a:lnTo>
                  <a:pt x="340309" y="54693"/>
                </a:lnTo>
                <a:cubicBezTo>
                  <a:pt x="277514" y="81026"/>
                  <a:pt x="223328" y="122552"/>
                  <a:pt x="177751" y="179270"/>
                </a:cubicBezTo>
                <a:cubicBezTo>
                  <a:pt x="132173" y="235989"/>
                  <a:pt x="109385" y="293720"/>
                  <a:pt x="109385" y="352463"/>
                </a:cubicBezTo>
                <a:cubicBezTo>
                  <a:pt x="109385" y="376771"/>
                  <a:pt x="112423" y="398040"/>
                  <a:pt x="118500" y="416271"/>
                </a:cubicBezTo>
                <a:cubicBezTo>
                  <a:pt x="150911" y="389938"/>
                  <a:pt x="188385" y="376771"/>
                  <a:pt x="230924" y="376771"/>
                </a:cubicBezTo>
                <a:cubicBezTo>
                  <a:pt x="285616" y="376771"/>
                  <a:pt x="331700" y="394496"/>
                  <a:pt x="369175" y="429944"/>
                </a:cubicBezTo>
                <a:cubicBezTo>
                  <a:pt x="406649" y="465393"/>
                  <a:pt x="425386" y="512490"/>
                  <a:pt x="425386" y="571234"/>
                </a:cubicBezTo>
                <a:cubicBezTo>
                  <a:pt x="425386" y="625926"/>
                  <a:pt x="406649" y="672010"/>
                  <a:pt x="369175" y="709484"/>
                </a:cubicBezTo>
                <a:cubicBezTo>
                  <a:pt x="331700" y="746959"/>
                  <a:pt x="285616" y="765696"/>
                  <a:pt x="230924" y="765696"/>
                </a:cubicBezTo>
                <a:cubicBezTo>
                  <a:pt x="151924" y="765696"/>
                  <a:pt x="92167" y="733286"/>
                  <a:pt x="51654" y="668465"/>
                </a:cubicBezTo>
                <a:cubicBezTo>
                  <a:pt x="17218" y="613772"/>
                  <a:pt x="0" y="546926"/>
                  <a:pt x="0" y="467925"/>
                </a:cubicBezTo>
                <a:cubicBezTo>
                  <a:pt x="0" y="366643"/>
                  <a:pt x="25827" y="275489"/>
                  <a:pt x="77481" y="194463"/>
                </a:cubicBezTo>
                <a:cubicBezTo>
                  <a:pt x="129135" y="113437"/>
                  <a:pt x="207629" y="48616"/>
                  <a:pt x="312963" y="0"/>
                </a:cubicBez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0" name="TextBox 7"/>
          <p:cNvSpPr/>
          <p:nvPr/>
        </p:nvSpPr>
        <p:spPr>
          <a:xfrm>
            <a:off x="6607080" y="4778280"/>
            <a:ext cx="46022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 quae ab illo inventore veritatis et quasi architect</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831" name="TextBox 8"/>
          <p:cNvSpPr/>
          <p:nvPr/>
        </p:nvSpPr>
        <p:spPr>
          <a:xfrm>
            <a:off x="6607080" y="4332240"/>
            <a:ext cx="30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Roboto"/>
                <a:ea typeface="Roboto"/>
              </a:rPr>
              <a:t>YOUR TEXT HERE</a:t>
            </a:r>
            <a:endParaRPr b="0" lang="en-US" sz="1800" spc="-1" strike="noStrike">
              <a:solidFill>
                <a:srgbClr val="000000"/>
              </a:solidFill>
              <a:latin typeface="Calibri"/>
            </a:endParaRPr>
          </a:p>
        </p:txBody>
      </p:sp>
      <p:sp>
        <p:nvSpPr>
          <p:cNvPr id="1832" name="TextBox 10"/>
          <p:cNvSpPr/>
          <p:nvPr/>
        </p:nvSpPr>
        <p:spPr>
          <a:xfrm>
            <a:off x="8345520" y="385920"/>
            <a:ext cx="2828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pic>
        <p:nvPicPr>
          <p:cNvPr id="1833" name="Group 11" descr=""/>
          <p:cNvPicPr/>
          <p:nvPr/>
        </p:nvPicPr>
        <p:blipFill>
          <a:blip r:embed="rId1"/>
          <a:stretch/>
        </p:blipFill>
        <p:spPr>
          <a:xfrm>
            <a:off x="8296200" y="6278400"/>
            <a:ext cx="1219320" cy="219240"/>
          </a:xfrm>
          <a:prstGeom prst="rect">
            <a:avLst/>
          </a:prstGeom>
          <a:ln w="0">
            <a:noFill/>
          </a:ln>
        </p:spPr>
      </p:pic>
      <p:pic>
        <p:nvPicPr>
          <p:cNvPr id="1834" name="Graphic 15" descr=""/>
          <p:cNvPicPr/>
          <p:nvPr/>
        </p:nvPicPr>
        <p:blipFill>
          <a:blip r:embed="rId2"/>
          <a:stretch/>
        </p:blipFill>
        <p:spPr>
          <a:xfrm>
            <a:off x="11379240" y="334800"/>
            <a:ext cx="366840" cy="36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6"/>
          <p:cNvSpPr/>
          <p:nvPr/>
        </p:nvSpPr>
        <p:spPr>
          <a:xfrm>
            <a:off x="770040" y="660240"/>
            <a:ext cx="5325840" cy="5537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6" name="TextBox 7"/>
          <p:cNvSpPr/>
          <p:nvPr/>
        </p:nvSpPr>
        <p:spPr>
          <a:xfrm>
            <a:off x="1420920" y="1908000"/>
            <a:ext cx="3676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236e96"/>
                </a:solidFill>
                <a:latin typeface="Roboto Black"/>
                <a:ea typeface="Roboto Black"/>
              </a:rPr>
              <a:t>Technology</a:t>
            </a:r>
            <a:r>
              <a:rPr b="0" lang="en-GB" sz="3200" spc="-1" strike="noStrike">
                <a:solidFill>
                  <a:srgbClr val="000000"/>
                </a:solidFill>
                <a:latin typeface="Roboto Black"/>
                <a:ea typeface="Roboto Black"/>
              </a:rPr>
              <a:t> Will Be The Most Used To </a:t>
            </a:r>
            <a:r>
              <a:rPr b="0" i="1" lang="en-GB" sz="3200" spc="-1" strike="noStrike">
                <a:solidFill>
                  <a:srgbClr val="236e96"/>
                </a:solidFill>
                <a:latin typeface="Roboto Black"/>
                <a:ea typeface="Roboto Black"/>
              </a:rPr>
              <a:t>Work At Home </a:t>
            </a:r>
            <a:r>
              <a:rPr b="0" lang="en-GB" sz="3200" spc="-1" strike="noStrike">
                <a:solidFill>
                  <a:srgbClr val="000000"/>
                </a:solidFill>
                <a:latin typeface="Roboto Black"/>
                <a:ea typeface="Roboto Black"/>
              </a:rPr>
              <a:t>Method</a:t>
            </a:r>
            <a:endParaRPr b="0" lang="en-US" sz="3200" spc="-1" strike="noStrike">
              <a:solidFill>
                <a:srgbClr val="000000"/>
              </a:solidFill>
              <a:latin typeface="Calibri"/>
            </a:endParaRPr>
          </a:p>
        </p:txBody>
      </p:sp>
      <p:sp>
        <p:nvSpPr>
          <p:cNvPr id="1837" name="TextBox 8"/>
          <p:cNvSpPr/>
          <p:nvPr/>
        </p:nvSpPr>
        <p:spPr>
          <a:xfrm>
            <a:off x="1420920" y="4762440"/>
            <a:ext cx="38084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
            </a:r>
            <a:r>
              <a:rPr b="0" lang="en-GB" sz="1100" spc="-1" strike="noStrike">
                <a:solidFill>
                  <a:srgbClr val="7f7f7f"/>
                </a:solidFill>
                <a:latin typeface="Lato"/>
              </a:rPr>
              <a:t> </a:t>
            </a:r>
            <a:r>
              <a:rPr b="0" lang="id-ID" sz="1100" spc="-1" strike="noStrike">
                <a:solidFill>
                  <a:srgbClr val="7f7f7f"/>
                </a:solidFill>
                <a:latin typeface="Lato"/>
              </a:rPr>
              <a:t>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um, totam rem aperiam, eaque ipsa</a:t>
            </a:r>
            <a:r>
              <a:rPr b="0" lang="en-GB" sz="1100" spc="-1" strike="noStrike">
                <a:solidFill>
                  <a:srgbClr val="7f7f7f"/>
                </a:solidFill>
                <a:latin typeface="Lato"/>
              </a:rPr>
              <a:t>.</a:t>
            </a:r>
            <a:endParaRPr b="0" lang="en-US" sz="1100" spc="-1" strike="noStrike">
              <a:solidFill>
                <a:srgbClr val="000000"/>
              </a:solidFill>
              <a:latin typeface="Calibri"/>
            </a:endParaRPr>
          </a:p>
        </p:txBody>
      </p:sp>
      <p:grpSp>
        <p:nvGrpSpPr>
          <p:cNvPr id="1838" name="Group 12"/>
          <p:cNvGrpSpPr/>
          <p:nvPr/>
        </p:nvGrpSpPr>
        <p:grpSpPr>
          <a:xfrm>
            <a:off x="2805120" y="1195560"/>
            <a:ext cx="1185840" cy="320400"/>
            <a:chOff x="2805120" y="1195560"/>
            <a:chExt cx="1185840" cy="320400"/>
          </a:xfrm>
        </p:grpSpPr>
        <p:sp>
          <p:nvSpPr>
            <p:cNvPr id="1839" name="Rectangle: Rounded Corners 9"/>
            <p:cNvSpPr/>
            <p:nvPr/>
          </p:nvSpPr>
          <p:spPr>
            <a:xfrm>
              <a:off x="3237840" y="1195560"/>
              <a:ext cx="319680" cy="320400"/>
            </a:xfrm>
            <a:custGeom>
              <a:avLst/>
              <a:gdLst>
                <a:gd name="textAreaLeft" fmla="*/ 15480 w 319680"/>
                <a:gd name="textAreaRight" fmla="*/ 304200 w 319680"/>
                <a:gd name="textAreaTop" fmla="*/ 15480 h 320400"/>
                <a:gd name="textAreaBottom" fmla="*/ 304920 h 32040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0" name="Rectangle: Rounded Corners 10"/>
            <p:cNvSpPr/>
            <p:nvPr/>
          </p:nvSpPr>
          <p:spPr>
            <a:xfrm>
              <a:off x="3671280" y="1195560"/>
              <a:ext cx="319680" cy="320400"/>
            </a:xfrm>
            <a:custGeom>
              <a:avLst/>
              <a:gdLst>
                <a:gd name="textAreaLeft" fmla="*/ 15480 w 319680"/>
                <a:gd name="textAreaRight" fmla="*/ 304200 w 319680"/>
                <a:gd name="textAreaTop" fmla="*/ 15480 h 320400"/>
                <a:gd name="textAreaBottom" fmla="*/ 304920 h 32040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1" name="Rectangle: Rounded Corners 11"/>
            <p:cNvSpPr/>
            <p:nvPr/>
          </p:nvSpPr>
          <p:spPr>
            <a:xfrm>
              <a:off x="2805120" y="1195560"/>
              <a:ext cx="319680" cy="320400"/>
            </a:xfrm>
            <a:custGeom>
              <a:avLst/>
              <a:gdLst>
                <a:gd name="textAreaLeft" fmla="*/ 15480 w 319680"/>
                <a:gd name="textAreaRight" fmla="*/ 304200 w 319680"/>
                <a:gd name="textAreaTop" fmla="*/ 15480 h 320400"/>
                <a:gd name="textAreaBottom" fmla="*/ 304920 h 32040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2" name="TextBox 13"/>
          <p:cNvSpPr/>
          <p:nvPr/>
        </p:nvSpPr>
        <p:spPr>
          <a:xfrm>
            <a:off x="1420920" y="4392720"/>
            <a:ext cx="27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Service Here</a:t>
            </a:r>
            <a:endParaRPr b="0" lang="en-US" sz="1800" spc="-1" strike="noStrike">
              <a:solidFill>
                <a:srgbClr val="000000"/>
              </a:solidFill>
              <a:latin typeface="Calibri"/>
            </a:endParaRPr>
          </a:p>
        </p:txBody>
      </p:sp>
      <p:grpSp>
        <p:nvGrpSpPr>
          <p:cNvPr id="1843" name="Group 1"/>
          <p:cNvGrpSpPr/>
          <p:nvPr/>
        </p:nvGrpSpPr>
        <p:grpSpPr>
          <a:xfrm>
            <a:off x="10686960" y="6289200"/>
            <a:ext cx="1505160" cy="568440"/>
            <a:chOff x="10686960" y="6289200"/>
            <a:chExt cx="1505160" cy="568440"/>
          </a:xfrm>
        </p:grpSpPr>
        <p:sp>
          <p:nvSpPr>
            <p:cNvPr id="1844" name="Rectangle 14"/>
            <p:cNvSpPr/>
            <p:nvPr/>
          </p:nvSpPr>
          <p:spPr>
            <a:xfrm rot="16200000">
              <a:off x="11155320" y="5820840"/>
              <a:ext cx="568440" cy="150516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5" name="Freeform: Shape 16"/>
            <p:cNvSpPr/>
            <p:nvPr/>
          </p:nvSpPr>
          <p:spPr>
            <a:xfrm>
              <a:off x="11013480" y="6516000"/>
              <a:ext cx="144000" cy="115560"/>
            </a:xfrm>
            <a:custGeom>
              <a:avLst/>
              <a:gdLst/>
              <a:ahLst/>
              <a:rect l="l" t="t" r="r" b="b"/>
              <a:pathLst>
                <a:path w="284872" h="228985">
                  <a:moveTo>
                    <a:pt x="238095" y="19069"/>
                  </a:moveTo>
                  <a:cubicBezTo>
                    <a:pt x="207125" y="-16883"/>
                    <a:pt x="130957" y="-3330"/>
                    <a:pt x="136129" y="71103"/>
                  </a:cubicBezTo>
                  <a:cubicBezTo>
                    <a:pt x="136129" y="71103"/>
                    <a:pt x="93556" y="81090"/>
                    <a:pt x="20498" y="16967"/>
                  </a:cubicBezTo>
                  <a:cubicBezTo>
                    <a:pt x="20498" y="16967"/>
                    <a:pt x="8819" y="55654"/>
                    <a:pt x="33522" y="87716"/>
                  </a:cubicBezTo>
                  <a:cubicBezTo>
                    <a:pt x="33522" y="87716"/>
                    <a:pt x="21921" y="89843"/>
                    <a:pt x="9461" y="84243"/>
                  </a:cubicBezTo>
                  <a:cubicBezTo>
                    <a:pt x="9461" y="84243"/>
                    <a:pt x="11037" y="124188"/>
                    <a:pt x="53085" y="137854"/>
                  </a:cubicBezTo>
                  <a:cubicBezTo>
                    <a:pt x="53085" y="137854"/>
                    <a:pt x="41522" y="143109"/>
                    <a:pt x="33113" y="142584"/>
                  </a:cubicBezTo>
                  <a:cubicBezTo>
                    <a:pt x="33113" y="142584"/>
                    <a:pt x="42048" y="173068"/>
                    <a:pt x="79890" y="176222"/>
                  </a:cubicBezTo>
                  <a:cubicBezTo>
                    <a:pt x="79890" y="176222"/>
                    <a:pt x="61495" y="210385"/>
                    <a:pt x="0" y="206706"/>
                  </a:cubicBezTo>
                  <a:cubicBezTo>
                    <a:pt x="77218" y="253969"/>
                    <a:pt x="259204" y="235498"/>
                    <a:pt x="249995" y="58261"/>
                  </a:cubicBezTo>
                  <a:lnTo>
                    <a:pt x="284873" y="29056"/>
                  </a:lnTo>
                  <a:lnTo>
                    <a:pt x="254388" y="35363"/>
                  </a:lnTo>
                  <a:lnTo>
                    <a:pt x="279091" y="6980"/>
                  </a:lnTo>
                  <a:lnTo>
                    <a:pt x="238095" y="190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6" name="Freeform: Shape 17"/>
            <p:cNvSpPr/>
            <p:nvPr/>
          </p:nvSpPr>
          <p:spPr>
            <a:xfrm>
              <a:off x="11402640" y="6498720"/>
              <a:ext cx="71280" cy="149760"/>
            </a:xfrm>
            <a:custGeom>
              <a:avLst/>
              <a:gdLst/>
              <a:ahLst/>
              <a:rect l="l" t="t" r="r" b="b"/>
              <a:pathLst>
                <a:path w="141378" h="296691">
                  <a:moveTo>
                    <a:pt x="84616" y="0"/>
                  </a:moveTo>
                  <a:cubicBezTo>
                    <a:pt x="62843" y="0"/>
                    <a:pt x="33105" y="21479"/>
                    <a:pt x="33105" y="52031"/>
                  </a:cubicBezTo>
                  <a:lnTo>
                    <a:pt x="33105" y="78567"/>
                  </a:lnTo>
                  <a:lnTo>
                    <a:pt x="33105" y="91705"/>
                  </a:lnTo>
                  <a:lnTo>
                    <a:pt x="0" y="91705"/>
                  </a:lnTo>
                  <a:lnTo>
                    <a:pt x="0" y="150061"/>
                  </a:lnTo>
                  <a:lnTo>
                    <a:pt x="33105" y="150061"/>
                  </a:lnTo>
                  <a:lnTo>
                    <a:pt x="33105" y="296692"/>
                  </a:lnTo>
                  <a:lnTo>
                    <a:pt x="88827" y="296692"/>
                  </a:lnTo>
                  <a:lnTo>
                    <a:pt x="88827" y="150061"/>
                  </a:lnTo>
                  <a:lnTo>
                    <a:pt x="139281" y="150061"/>
                  </a:lnTo>
                  <a:lnTo>
                    <a:pt x="139281" y="91705"/>
                  </a:lnTo>
                  <a:lnTo>
                    <a:pt x="88827" y="91705"/>
                  </a:lnTo>
                  <a:lnTo>
                    <a:pt x="88827" y="78567"/>
                  </a:lnTo>
                  <a:lnTo>
                    <a:pt x="88827" y="61495"/>
                  </a:lnTo>
                  <a:cubicBezTo>
                    <a:pt x="88827" y="56187"/>
                    <a:pt x="90423" y="48877"/>
                    <a:pt x="101445" y="48877"/>
                  </a:cubicBezTo>
                  <a:lnTo>
                    <a:pt x="141379" y="48877"/>
                  </a:lnTo>
                  <a:lnTo>
                    <a:pt x="141379" y="0"/>
                  </a:lnTo>
                  <a:lnTo>
                    <a:pt x="8461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7" name="Freeform: Shape 18"/>
            <p:cNvSpPr/>
            <p:nvPr/>
          </p:nvSpPr>
          <p:spPr>
            <a:xfrm>
              <a:off x="11733120" y="6514920"/>
              <a:ext cx="118800" cy="117720"/>
            </a:xfrm>
            <a:custGeom>
              <a:avLst/>
              <a:gdLst/>
              <a:ahLst/>
              <a:rect l="l" t="t" r="r" b="b"/>
              <a:pathLst>
                <a:path w="235575" h="232738">
                  <a:moveTo>
                    <a:pt x="56039" y="0"/>
                  </a:moveTo>
                  <a:cubicBezTo>
                    <a:pt x="25194" y="0"/>
                    <a:pt x="0" y="25193"/>
                    <a:pt x="0" y="56039"/>
                  </a:cubicBezTo>
                  <a:lnTo>
                    <a:pt x="0" y="176685"/>
                  </a:lnTo>
                  <a:cubicBezTo>
                    <a:pt x="0" y="207530"/>
                    <a:pt x="25194" y="232738"/>
                    <a:pt x="56039" y="232738"/>
                  </a:cubicBezTo>
                  <a:lnTo>
                    <a:pt x="179522" y="232738"/>
                  </a:lnTo>
                  <a:cubicBezTo>
                    <a:pt x="210367" y="232738"/>
                    <a:pt x="235575" y="207530"/>
                    <a:pt x="235575" y="176685"/>
                  </a:cubicBezTo>
                  <a:lnTo>
                    <a:pt x="235575" y="56039"/>
                  </a:lnTo>
                  <a:cubicBezTo>
                    <a:pt x="235575" y="25193"/>
                    <a:pt x="210367" y="0"/>
                    <a:pt x="179522" y="0"/>
                  </a:cubicBezTo>
                  <a:lnTo>
                    <a:pt x="56039" y="0"/>
                  </a:lnTo>
                  <a:close/>
                  <a:moveTo>
                    <a:pt x="56039" y="22706"/>
                  </a:moveTo>
                  <a:lnTo>
                    <a:pt x="179522" y="22706"/>
                  </a:lnTo>
                  <a:cubicBezTo>
                    <a:pt x="198156" y="22706"/>
                    <a:pt x="212854" y="37404"/>
                    <a:pt x="212854" y="56039"/>
                  </a:cubicBezTo>
                  <a:lnTo>
                    <a:pt x="212854" y="176685"/>
                  </a:lnTo>
                  <a:cubicBezTo>
                    <a:pt x="212854" y="195319"/>
                    <a:pt x="198156" y="209958"/>
                    <a:pt x="179522" y="209958"/>
                  </a:cubicBezTo>
                  <a:lnTo>
                    <a:pt x="56039" y="209958"/>
                  </a:lnTo>
                  <a:cubicBezTo>
                    <a:pt x="37405" y="209958"/>
                    <a:pt x="22765" y="195319"/>
                    <a:pt x="22765" y="176685"/>
                  </a:cubicBezTo>
                  <a:lnTo>
                    <a:pt x="22765" y="56039"/>
                  </a:lnTo>
                  <a:cubicBezTo>
                    <a:pt x="22765" y="37404"/>
                    <a:pt x="37405" y="22706"/>
                    <a:pt x="56039" y="22706"/>
                  </a:cubicBezTo>
                  <a:close/>
                  <a:moveTo>
                    <a:pt x="180271" y="39902"/>
                  </a:moveTo>
                  <a:cubicBezTo>
                    <a:pt x="171501" y="39898"/>
                    <a:pt x="164388" y="47004"/>
                    <a:pt x="164384" y="55774"/>
                  </a:cubicBezTo>
                  <a:cubicBezTo>
                    <a:pt x="164380" y="64544"/>
                    <a:pt x="171486" y="71657"/>
                    <a:pt x="180257" y="71661"/>
                  </a:cubicBezTo>
                  <a:cubicBezTo>
                    <a:pt x="180262" y="71661"/>
                    <a:pt x="180266" y="71661"/>
                    <a:pt x="180271" y="71661"/>
                  </a:cubicBezTo>
                  <a:cubicBezTo>
                    <a:pt x="189041" y="71657"/>
                    <a:pt x="196147" y="64544"/>
                    <a:pt x="196144" y="55774"/>
                  </a:cubicBezTo>
                  <a:cubicBezTo>
                    <a:pt x="196139" y="47010"/>
                    <a:pt x="189035" y="39906"/>
                    <a:pt x="180271" y="39902"/>
                  </a:cubicBezTo>
                  <a:close/>
                  <a:moveTo>
                    <a:pt x="117810" y="56260"/>
                  </a:moveTo>
                  <a:cubicBezTo>
                    <a:pt x="84731" y="56260"/>
                    <a:pt x="57714" y="83290"/>
                    <a:pt x="57714" y="116369"/>
                  </a:cubicBezTo>
                  <a:cubicBezTo>
                    <a:pt x="57714" y="149448"/>
                    <a:pt x="84731" y="176406"/>
                    <a:pt x="117810" y="176406"/>
                  </a:cubicBezTo>
                  <a:cubicBezTo>
                    <a:pt x="150888" y="176406"/>
                    <a:pt x="177861" y="149448"/>
                    <a:pt x="177861" y="116369"/>
                  </a:cubicBezTo>
                  <a:cubicBezTo>
                    <a:pt x="177861" y="83290"/>
                    <a:pt x="150888" y="56260"/>
                    <a:pt x="117810" y="56260"/>
                  </a:cubicBezTo>
                  <a:close/>
                  <a:moveTo>
                    <a:pt x="117810" y="73322"/>
                  </a:moveTo>
                  <a:cubicBezTo>
                    <a:pt x="141666" y="73322"/>
                    <a:pt x="160812" y="92512"/>
                    <a:pt x="160812" y="116369"/>
                  </a:cubicBezTo>
                  <a:cubicBezTo>
                    <a:pt x="160812" y="140226"/>
                    <a:pt x="141666" y="159358"/>
                    <a:pt x="117810" y="159358"/>
                  </a:cubicBezTo>
                  <a:cubicBezTo>
                    <a:pt x="93953" y="159358"/>
                    <a:pt x="74763" y="140226"/>
                    <a:pt x="74763" y="116369"/>
                  </a:cubicBezTo>
                  <a:cubicBezTo>
                    <a:pt x="74763" y="92512"/>
                    <a:pt x="93953" y="73322"/>
                    <a:pt x="117810" y="733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848" name="Rectangle 20"/>
          <p:cNvSpPr/>
          <p:nvPr/>
        </p:nvSpPr>
        <p:spPr>
          <a:xfrm rot="5400000">
            <a:off x="5071680" y="3132000"/>
            <a:ext cx="2047680" cy="59364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49" name="Group 21"/>
          <p:cNvGrpSpPr/>
          <p:nvPr/>
        </p:nvGrpSpPr>
        <p:grpSpPr>
          <a:xfrm>
            <a:off x="5918760" y="2695680"/>
            <a:ext cx="354600" cy="1466280"/>
            <a:chOff x="5918760" y="2695680"/>
            <a:chExt cx="354600" cy="1466280"/>
          </a:xfrm>
        </p:grpSpPr>
        <p:sp>
          <p:nvSpPr>
            <p:cNvPr id="1850" name="TextBox 22"/>
            <p:cNvSpPr/>
            <p:nvPr/>
          </p:nvSpPr>
          <p:spPr>
            <a:xfrm>
              <a:off x="5918760" y="2695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Montserrat"/>
                </a:rPr>
                <a:t>01</a:t>
              </a:r>
              <a:endParaRPr b="0" lang="en-US" sz="1200" spc="-1" strike="noStrike">
                <a:solidFill>
                  <a:srgbClr val="000000"/>
                </a:solidFill>
                <a:latin typeface="Calibri"/>
              </a:endParaRPr>
            </a:p>
          </p:txBody>
        </p:sp>
        <p:sp>
          <p:nvSpPr>
            <p:cNvPr id="1851" name="TextBox 23"/>
            <p:cNvSpPr/>
            <p:nvPr/>
          </p:nvSpPr>
          <p:spPr>
            <a:xfrm>
              <a:off x="5918760" y="38854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Montserrat"/>
                </a:rPr>
                <a:t>02</a:t>
              </a:r>
              <a:endParaRPr b="0" lang="en-US" sz="1200" spc="-1" strike="noStrike">
                <a:solidFill>
                  <a:srgbClr val="000000"/>
                </a:solidFill>
                <a:latin typeface="Calibri"/>
              </a:endParaRPr>
            </a:p>
          </p:txBody>
        </p:sp>
      </p:grpSp>
      <p:sp>
        <p:nvSpPr>
          <p:cNvPr id="1852" name="Straight Connector 24"/>
          <p:cNvSpPr/>
          <p:nvPr/>
        </p:nvSpPr>
        <p:spPr>
          <a:xfrm>
            <a:off x="6095880" y="3092400"/>
            <a:ext cx="0" cy="673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3"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3"/>
          <p:cNvSpPr/>
          <p:nvPr/>
        </p:nvSpPr>
        <p:spPr>
          <a:xfrm>
            <a:off x="1189080" y="1771560"/>
            <a:ext cx="2658960" cy="4016520"/>
          </a:xfrm>
          <a:prstGeom prst="rect">
            <a:avLst/>
          </a:prstGeom>
          <a:noFill/>
          <a:ln w="73080">
            <a:solidFill>
              <a:srgbClr val="ffbe42">
                <a:alpha val="7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5" name="TextBox 2"/>
          <p:cNvSpPr/>
          <p:nvPr/>
        </p:nvSpPr>
        <p:spPr>
          <a:xfrm>
            <a:off x="1808280" y="4176720"/>
            <a:ext cx="312264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Roboto Black"/>
                <a:ea typeface="Roboto Black"/>
              </a:rPr>
              <a:t>OUR </a:t>
            </a:r>
            <a:r>
              <a:rPr b="0" i="1" lang="en-GB" sz="4000" spc="-1" strike="noStrike">
                <a:solidFill>
                  <a:srgbClr val="236e96"/>
                </a:solidFill>
                <a:latin typeface="Roboto Black"/>
                <a:ea typeface="Roboto Black"/>
              </a:rPr>
              <a:t>VISION</a:t>
            </a:r>
            <a:endParaRPr b="0" lang="en-US" sz="4000" spc="-1" strike="noStrike">
              <a:solidFill>
                <a:srgbClr val="000000"/>
              </a:solidFill>
              <a:latin typeface="Calibri"/>
            </a:endParaRPr>
          </a:p>
        </p:txBody>
      </p:sp>
      <p:sp>
        <p:nvSpPr>
          <p:cNvPr id="1856" name="TextBox 4"/>
          <p:cNvSpPr/>
          <p:nvPr/>
        </p:nvSpPr>
        <p:spPr>
          <a:xfrm>
            <a:off x="7461360" y="476280"/>
            <a:ext cx="4846680" cy="44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700" spc="-1" strike="noStrike">
                <a:solidFill>
                  <a:srgbClr val="ffffff"/>
                </a:solidFill>
                <a:latin typeface="Roboto Black"/>
                <a:ea typeface="Roboto Black"/>
              </a:rPr>
              <a:t>01</a:t>
            </a:r>
            <a:endParaRPr b="0" lang="en-US" sz="28700" spc="-1" strike="noStrike">
              <a:solidFill>
                <a:srgbClr val="000000"/>
              </a:solidFill>
              <a:latin typeface="Calibri"/>
            </a:endParaRPr>
          </a:p>
        </p:txBody>
      </p:sp>
      <p:sp>
        <p:nvSpPr>
          <p:cNvPr id="1857" name="TextBox 6"/>
          <p:cNvSpPr/>
          <p:nvPr/>
        </p:nvSpPr>
        <p:spPr>
          <a:xfrm>
            <a:off x="1058760" y="48096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Montserrat"/>
              </a:rPr>
              <a:t>COMPANY NAME</a:t>
            </a:r>
            <a:endParaRPr b="0" lang="en-US" sz="1400" spc="-1" strike="noStrike">
              <a:solidFill>
                <a:srgbClr val="000000"/>
              </a:solidFill>
              <a:latin typeface="Calibri"/>
            </a:endParaRPr>
          </a:p>
        </p:txBody>
      </p:sp>
      <p:sp>
        <p:nvSpPr>
          <p:cNvPr id="1858" name="TextBox 8"/>
          <p:cNvSpPr/>
          <p:nvPr/>
        </p:nvSpPr>
        <p:spPr>
          <a:xfrm>
            <a:off x="5919840" y="4584600"/>
            <a:ext cx="484812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 quae ab illo inventore veritatis et quasi architecto beatae vitaecal dicta sunt</a:t>
            </a:r>
            <a:r>
              <a:rPr b="0" lang="en-GB" sz="1100" spc="-1" strike="noStrike">
                <a:solidFill>
                  <a:srgbClr val="7f7f7f"/>
                </a:solidFill>
                <a:latin typeface="Lato"/>
              </a:rPr>
              <a:t>. D</a:t>
            </a:r>
            <a:r>
              <a:rPr b="0" lang="id-ID" sz="1100" spc="-1" strike="noStrike">
                <a:solidFill>
                  <a:srgbClr val="7f7f7f"/>
                </a:solidFill>
                <a:latin typeface="Lato"/>
              </a:rPr>
              <a:t>eritatis et quasi architecto beatae vitaecal dicta sunt</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859" name="Rectangle: Rounded Corners 9"/>
          <p:cNvSpPr/>
          <p:nvPr/>
        </p:nvSpPr>
        <p:spPr>
          <a:xfrm>
            <a:off x="6451560" y="4060800"/>
            <a:ext cx="320760" cy="31896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0" name="Rectangle: Rounded Corners 10"/>
          <p:cNvSpPr/>
          <p:nvPr/>
        </p:nvSpPr>
        <p:spPr>
          <a:xfrm>
            <a:off x="6885000" y="4060800"/>
            <a:ext cx="320760" cy="318960"/>
          </a:xfrm>
          <a:prstGeom prst="roundRect">
            <a:avLst>
              <a:gd name="adj" fmla="val 16667"/>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1" name="Rectangle: Rounded Corners 11"/>
          <p:cNvSpPr/>
          <p:nvPr/>
        </p:nvSpPr>
        <p:spPr>
          <a:xfrm>
            <a:off x="6019920" y="4060800"/>
            <a:ext cx="318960" cy="31896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62" name="Group 12" descr=""/>
          <p:cNvPicPr/>
          <p:nvPr/>
        </p:nvPicPr>
        <p:blipFill>
          <a:blip r:embed="rId1"/>
          <a:stretch/>
        </p:blipFill>
        <p:spPr>
          <a:xfrm>
            <a:off x="1908000" y="6224760"/>
            <a:ext cx="1219320" cy="212400"/>
          </a:xfrm>
          <a:prstGeom prst="rect">
            <a:avLst/>
          </a:prstGeom>
          <a:ln w="0">
            <a:noFill/>
          </a:ln>
        </p:spPr>
      </p:pic>
      <p:grpSp>
        <p:nvGrpSpPr>
          <p:cNvPr id="1863" name="Group 16"/>
          <p:cNvGrpSpPr/>
          <p:nvPr/>
        </p:nvGrpSpPr>
        <p:grpSpPr>
          <a:xfrm>
            <a:off x="8049960" y="6245280"/>
            <a:ext cx="587160" cy="76320"/>
            <a:chOff x="8049960" y="6245280"/>
            <a:chExt cx="587160" cy="76320"/>
          </a:xfrm>
        </p:grpSpPr>
        <p:sp>
          <p:nvSpPr>
            <p:cNvPr id="1864" name="Oval 17"/>
            <p:cNvSpPr/>
            <p:nvPr/>
          </p:nvSpPr>
          <p:spPr>
            <a:xfrm rot="10800000">
              <a:off x="8561160" y="62452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5" name="Oval 18"/>
            <p:cNvSpPr/>
            <p:nvPr/>
          </p:nvSpPr>
          <p:spPr>
            <a:xfrm rot="10800000">
              <a:off x="8305560" y="62452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6" name="Oval 19"/>
            <p:cNvSpPr/>
            <p:nvPr/>
          </p:nvSpPr>
          <p:spPr>
            <a:xfrm rot="10800000">
              <a:off x="8049960" y="62452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67" name="Graphic 20" descr=""/>
          <p:cNvPicPr/>
          <p:nvPr/>
        </p:nvPicPr>
        <p:blipFill>
          <a:blip r:embed="rId2"/>
          <a:stretch/>
        </p:blipFill>
        <p:spPr>
          <a:xfrm>
            <a:off x="363600" y="430200"/>
            <a:ext cx="366480" cy="36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TextBox 12"/>
          <p:cNvSpPr/>
          <p:nvPr/>
        </p:nvSpPr>
        <p:spPr>
          <a:xfrm>
            <a:off x="822240" y="1720800"/>
            <a:ext cx="3121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Roboto Black"/>
                <a:ea typeface="Roboto Black"/>
              </a:rPr>
              <a:t>OUR</a:t>
            </a:r>
            <a:r>
              <a:rPr b="0" i="1" lang="en-GB" sz="4800" spc="-1" strike="noStrike">
                <a:solidFill>
                  <a:srgbClr val="236e96"/>
                </a:solidFill>
                <a:latin typeface="Roboto Black"/>
                <a:ea typeface="Roboto Black"/>
              </a:rPr>
              <a:t> MISSION</a:t>
            </a:r>
            <a:endParaRPr b="0" lang="en-US" sz="4800" spc="-1" strike="noStrike">
              <a:solidFill>
                <a:srgbClr val="000000"/>
              </a:solidFill>
              <a:latin typeface="Calibri"/>
            </a:endParaRPr>
          </a:p>
        </p:txBody>
      </p:sp>
      <p:sp>
        <p:nvSpPr>
          <p:cNvPr id="1869" name="TextBox 13"/>
          <p:cNvSpPr/>
          <p:nvPr/>
        </p:nvSpPr>
        <p:spPr>
          <a:xfrm>
            <a:off x="822240" y="4545000"/>
            <a:ext cx="2702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a:t>
            </a:r>
            <a:r>
              <a:rPr b="0" lang="en-GB" sz="1100" spc="-1" strike="noStrike">
                <a:solidFill>
                  <a:srgbClr val="7f7f7f"/>
                </a:solidFill>
                <a:latin typeface="Lato"/>
              </a:rPr>
              <a:t>.</a:t>
            </a:r>
            <a:endParaRPr b="0" lang="en-US" sz="1100" spc="-1" strike="noStrike">
              <a:solidFill>
                <a:srgbClr val="000000"/>
              </a:solidFill>
              <a:latin typeface="Calibri"/>
            </a:endParaRPr>
          </a:p>
        </p:txBody>
      </p:sp>
      <p:pic>
        <p:nvPicPr>
          <p:cNvPr id="1870" name="Group 14" descr=""/>
          <p:cNvPicPr/>
          <p:nvPr/>
        </p:nvPicPr>
        <p:blipFill>
          <a:blip r:embed="rId1"/>
          <a:stretch/>
        </p:blipFill>
        <p:spPr>
          <a:xfrm>
            <a:off x="1560600" y="6119640"/>
            <a:ext cx="1225440" cy="220680"/>
          </a:xfrm>
          <a:prstGeom prst="rect">
            <a:avLst/>
          </a:prstGeom>
          <a:ln w="0">
            <a:noFill/>
          </a:ln>
        </p:spPr>
      </p:pic>
      <p:sp>
        <p:nvSpPr>
          <p:cNvPr id="1871" name="TextBox 19"/>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1872" name="TextBox 20"/>
          <p:cNvSpPr/>
          <p:nvPr/>
        </p:nvSpPr>
        <p:spPr>
          <a:xfrm>
            <a:off x="8604360" y="3233880"/>
            <a:ext cx="27129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
            </a:r>
            <a:r>
              <a:rPr b="0" lang="en-GB" sz="1100" spc="-1" strike="noStrike">
                <a:solidFill>
                  <a:srgbClr val="ffffff"/>
                </a:solidFill>
                <a:latin typeface="Lato"/>
              </a:rPr>
              <a:t> </a:t>
            </a:r>
            <a:r>
              <a:rPr b="0" lang="id-ID" sz="1100" spc="-1" strike="noStrike">
                <a:solidFill>
                  <a:srgbClr val="ffffff"/>
                </a:solidFill>
                <a:latin typeface="Lato"/>
              </a:rPr>
              <a:t>atis unde omnis iste natus error sit great ness accus</a:t>
            </a:r>
            <a:r>
              <a:rPr b="0" lang="en-GB" sz="1100" spc="-1" strike="noStrike">
                <a:solidFill>
                  <a:srgbClr val="ffffff"/>
                </a:solidFill>
                <a:latin typeface="Lato"/>
              </a:rPr>
              <a:t> </a:t>
            </a:r>
            <a:r>
              <a:rPr b="0" lang="id-ID" sz="1100" spc="-1" strike="noStrike">
                <a:solidFill>
                  <a:srgbClr val="ffffff"/>
                </a:solidFill>
                <a:latin typeface="Lato"/>
              </a:rPr>
              <a:t>antium</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1873" name="TextBox 21"/>
          <p:cNvSpPr/>
          <p:nvPr/>
        </p:nvSpPr>
        <p:spPr>
          <a:xfrm>
            <a:off x="8604360" y="2865600"/>
            <a:ext cx="30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ato Black"/>
              </a:rPr>
              <a:t>YOUR TEXT HERE</a:t>
            </a:r>
            <a:endParaRPr b="0" lang="en-US" sz="1800" spc="-1" strike="noStrike">
              <a:solidFill>
                <a:srgbClr val="000000"/>
              </a:solidFill>
              <a:latin typeface="Calibri"/>
            </a:endParaRPr>
          </a:p>
        </p:txBody>
      </p:sp>
      <p:sp>
        <p:nvSpPr>
          <p:cNvPr id="1874" name="TextBox 24"/>
          <p:cNvSpPr/>
          <p:nvPr/>
        </p:nvSpPr>
        <p:spPr>
          <a:xfrm>
            <a:off x="7529400" y="2801880"/>
            <a:ext cx="104148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Montserrat"/>
              </a:rPr>
              <a:t>01.</a:t>
            </a:r>
            <a:endParaRPr b="0" lang="en-US" sz="4000" spc="-1" strike="noStrike">
              <a:solidFill>
                <a:srgbClr val="000000"/>
              </a:solidFill>
              <a:latin typeface="Calibri"/>
            </a:endParaRPr>
          </a:p>
        </p:txBody>
      </p:sp>
      <p:sp>
        <p:nvSpPr>
          <p:cNvPr id="1875" name="TextBox 25"/>
          <p:cNvSpPr/>
          <p:nvPr/>
        </p:nvSpPr>
        <p:spPr>
          <a:xfrm>
            <a:off x="8604360" y="4894200"/>
            <a:ext cx="27129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
            </a:r>
            <a:r>
              <a:rPr b="0" lang="en-GB" sz="1100" spc="-1" strike="noStrike">
                <a:solidFill>
                  <a:srgbClr val="ffffff"/>
                </a:solidFill>
                <a:latin typeface="Lato"/>
              </a:rPr>
              <a:t> </a:t>
            </a:r>
            <a:r>
              <a:rPr b="0" lang="id-ID" sz="1100" spc="-1" strike="noStrike">
                <a:solidFill>
                  <a:srgbClr val="ffffff"/>
                </a:solidFill>
                <a:latin typeface="Lato"/>
              </a:rPr>
              <a:t>atis unde omnis iste natus error sit great ness accus</a:t>
            </a:r>
            <a:r>
              <a:rPr b="0" lang="en-GB" sz="1100" spc="-1" strike="noStrike">
                <a:solidFill>
                  <a:srgbClr val="ffffff"/>
                </a:solidFill>
                <a:latin typeface="Lato"/>
              </a:rPr>
              <a:t> </a:t>
            </a:r>
            <a:r>
              <a:rPr b="0" lang="id-ID" sz="1100" spc="-1" strike="noStrike">
                <a:solidFill>
                  <a:srgbClr val="ffffff"/>
                </a:solidFill>
                <a:latin typeface="Lato"/>
              </a:rPr>
              <a:t>antium</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1876" name="TextBox 26"/>
          <p:cNvSpPr/>
          <p:nvPr/>
        </p:nvSpPr>
        <p:spPr>
          <a:xfrm>
            <a:off x="8604360" y="4525920"/>
            <a:ext cx="303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ato Black"/>
              </a:rPr>
              <a:t>YOUR TEXT HERE</a:t>
            </a:r>
            <a:endParaRPr b="0" lang="en-US" sz="1800" spc="-1" strike="noStrike">
              <a:solidFill>
                <a:srgbClr val="000000"/>
              </a:solidFill>
              <a:latin typeface="Calibri"/>
            </a:endParaRPr>
          </a:p>
        </p:txBody>
      </p:sp>
      <p:sp>
        <p:nvSpPr>
          <p:cNvPr id="1877" name="TextBox 27"/>
          <p:cNvSpPr/>
          <p:nvPr/>
        </p:nvSpPr>
        <p:spPr>
          <a:xfrm>
            <a:off x="7529400" y="4462560"/>
            <a:ext cx="104148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Montserrat"/>
              </a:rPr>
              <a:t>02.</a:t>
            </a:r>
            <a:endParaRPr b="0" lang="en-US" sz="4000" spc="-1" strike="noStrike">
              <a:solidFill>
                <a:srgbClr val="000000"/>
              </a:solidFill>
              <a:latin typeface="Calibri"/>
            </a:endParaRPr>
          </a:p>
        </p:txBody>
      </p:sp>
      <p:grpSp>
        <p:nvGrpSpPr>
          <p:cNvPr id="1878" name="Group 35"/>
          <p:cNvGrpSpPr/>
          <p:nvPr/>
        </p:nvGrpSpPr>
        <p:grpSpPr>
          <a:xfrm>
            <a:off x="8236800" y="1227240"/>
            <a:ext cx="2803320" cy="337320"/>
            <a:chOff x="8236800" y="1227240"/>
            <a:chExt cx="2803320" cy="337320"/>
          </a:xfrm>
        </p:grpSpPr>
        <p:sp>
          <p:nvSpPr>
            <p:cNvPr id="1879" name="TextBox 29"/>
            <p:cNvSpPr/>
            <p:nvPr/>
          </p:nvSpPr>
          <p:spPr>
            <a:xfrm>
              <a:off x="8236800" y="122724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ontserrat"/>
                </a:rPr>
                <a:t>01</a:t>
              </a:r>
              <a:endParaRPr b="0" lang="en-US" sz="1600" spc="-1" strike="noStrike">
                <a:solidFill>
                  <a:srgbClr val="000000"/>
                </a:solidFill>
                <a:latin typeface="Calibri"/>
              </a:endParaRPr>
            </a:p>
          </p:txBody>
        </p:sp>
        <p:sp>
          <p:nvSpPr>
            <p:cNvPr id="1880" name="TextBox 30"/>
            <p:cNvSpPr/>
            <p:nvPr/>
          </p:nvSpPr>
          <p:spPr>
            <a:xfrm>
              <a:off x="10627920" y="122724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ontserrat"/>
                </a:rPr>
                <a:t>02</a:t>
              </a:r>
              <a:endParaRPr b="0" lang="en-US" sz="1600" spc="-1" strike="noStrike">
                <a:solidFill>
                  <a:srgbClr val="000000"/>
                </a:solidFill>
                <a:latin typeface="Calibri"/>
              </a:endParaRPr>
            </a:p>
          </p:txBody>
        </p:sp>
        <p:sp>
          <p:nvSpPr>
            <p:cNvPr id="1881" name="Straight Connector 31"/>
            <p:cNvSpPr/>
            <p:nvPr/>
          </p:nvSpPr>
          <p:spPr>
            <a:xfrm>
              <a:off x="9004680" y="1396440"/>
              <a:ext cx="1267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2" name="Oval 32"/>
            <p:cNvSpPr/>
            <p:nvPr/>
          </p:nvSpPr>
          <p:spPr>
            <a:xfrm rot="16200000">
              <a:off x="9232920" y="132192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83" name="Straight Connector 36"/>
          <p:cNvSpPr/>
          <p:nvPr/>
        </p:nvSpPr>
        <p:spPr>
          <a:xfrm>
            <a:off x="920880" y="3905280"/>
            <a:ext cx="79380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84" name="Graphic 22" descr=""/>
          <p:cNvPicPr/>
          <p:nvPr/>
        </p:nvPicPr>
        <p:blipFill>
          <a:blip r:embed="rId2"/>
          <a:stretch/>
        </p:blipFill>
        <p:spPr>
          <a:xfrm>
            <a:off x="363600" y="347760"/>
            <a:ext cx="366480" cy="36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3"/>
          <p:cNvSpPr/>
          <p:nvPr/>
        </p:nvSpPr>
        <p:spPr>
          <a:xfrm>
            <a:off x="3497400" y="2192400"/>
            <a:ext cx="5500440" cy="335268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6" name="TextBox 6"/>
          <p:cNvSpPr/>
          <p:nvPr/>
        </p:nvSpPr>
        <p:spPr>
          <a:xfrm>
            <a:off x="8345520" y="385920"/>
            <a:ext cx="2828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1887" name="TextBox 7"/>
          <p:cNvSpPr/>
          <p:nvPr/>
        </p:nvSpPr>
        <p:spPr>
          <a:xfrm>
            <a:off x="4113360" y="3187800"/>
            <a:ext cx="21650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888" name="TextBox 8"/>
          <p:cNvSpPr/>
          <p:nvPr/>
        </p:nvSpPr>
        <p:spPr>
          <a:xfrm>
            <a:off x="4113360" y="2838600"/>
            <a:ext cx="319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 Here</a:t>
            </a:r>
            <a:endParaRPr b="0" lang="en-US" sz="1800" spc="-1" strike="noStrike">
              <a:solidFill>
                <a:srgbClr val="000000"/>
              </a:solidFill>
              <a:latin typeface="Calibri"/>
            </a:endParaRPr>
          </a:p>
        </p:txBody>
      </p:sp>
      <p:sp>
        <p:nvSpPr>
          <p:cNvPr id="1889" name="TextBox 9"/>
          <p:cNvSpPr/>
          <p:nvPr/>
        </p:nvSpPr>
        <p:spPr>
          <a:xfrm>
            <a:off x="4113360" y="4071960"/>
            <a:ext cx="3897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890" name="Rectangle 10"/>
          <p:cNvSpPr/>
          <p:nvPr/>
        </p:nvSpPr>
        <p:spPr>
          <a:xfrm rot="5400000">
            <a:off x="7965720" y="3571920"/>
            <a:ext cx="2049480" cy="5922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91" name="Group 18"/>
          <p:cNvGrpSpPr/>
          <p:nvPr/>
        </p:nvGrpSpPr>
        <p:grpSpPr>
          <a:xfrm>
            <a:off x="8812440" y="3133800"/>
            <a:ext cx="354960" cy="1467720"/>
            <a:chOff x="8812440" y="3133800"/>
            <a:chExt cx="354960" cy="1467720"/>
          </a:xfrm>
        </p:grpSpPr>
        <p:sp>
          <p:nvSpPr>
            <p:cNvPr id="1892" name="TextBox 12"/>
            <p:cNvSpPr/>
            <p:nvPr/>
          </p:nvSpPr>
          <p:spPr>
            <a:xfrm>
              <a:off x="8812800" y="313380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Montserrat"/>
                </a:rPr>
                <a:t>01</a:t>
              </a:r>
              <a:endParaRPr b="0" lang="en-US" sz="1200" spc="-1" strike="noStrike">
                <a:solidFill>
                  <a:srgbClr val="000000"/>
                </a:solidFill>
                <a:latin typeface="Calibri"/>
              </a:endParaRPr>
            </a:p>
          </p:txBody>
        </p:sp>
        <p:sp>
          <p:nvSpPr>
            <p:cNvPr id="1893" name="TextBox 13"/>
            <p:cNvSpPr/>
            <p:nvPr/>
          </p:nvSpPr>
          <p:spPr>
            <a:xfrm>
              <a:off x="8812440" y="43250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Montserrat"/>
                </a:rPr>
                <a:t>02</a:t>
              </a:r>
              <a:endParaRPr b="0" lang="en-US" sz="1200" spc="-1" strike="noStrike">
                <a:solidFill>
                  <a:srgbClr val="000000"/>
                </a:solidFill>
                <a:latin typeface="Calibri"/>
              </a:endParaRPr>
            </a:p>
          </p:txBody>
        </p:sp>
      </p:grpSp>
      <p:sp>
        <p:nvSpPr>
          <p:cNvPr id="1894" name="Straight Connector 14"/>
          <p:cNvSpPr/>
          <p:nvPr/>
        </p:nvSpPr>
        <p:spPr>
          <a:xfrm>
            <a:off x="8989920" y="3532320"/>
            <a:ext cx="0" cy="671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95" name="Graphic 15" descr=""/>
          <p:cNvPicPr/>
          <p:nvPr/>
        </p:nvPicPr>
        <p:blipFill>
          <a:blip r:embed="rId1"/>
          <a:stretch/>
        </p:blipFill>
        <p:spPr>
          <a:xfrm>
            <a:off x="11379240" y="366840"/>
            <a:ext cx="366840" cy="36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Rectangle 46"/>
          <p:cNvSpPr/>
          <p:nvPr/>
        </p:nvSpPr>
        <p:spPr>
          <a:xfrm>
            <a:off x="9985320" y="0"/>
            <a:ext cx="2206800" cy="7542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7" name="TextBox 2"/>
          <p:cNvSpPr/>
          <p:nvPr/>
        </p:nvSpPr>
        <p:spPr>
          <a:xfrm>
            <a:off x="4200480" y="5230800"/>
            <a:ext cx="2166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898" name="TextBox 3"/>
          <p:cNvSpPr/>
          <p:nvPr/>
        </p:nvSpPr>
        <p:spPr>
          <a:xfrm>
            <a:off x="4376880" y="4873680"/>
            <a:ext cx="18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a:t>
            </a:r>
            <a:endParaRPr b="0" lang="en-US" sz="1800" spc="-1" strike="noStrike">
              <a:solidFill>
                <a:srgbClr val="000000"/>
              </a:solidFill>
              <a:latin typeface="Calibri"/>
            </a:endParaRPr>
          </a:p>
        </p:txBody>
      </p:sp>
      <p:sp>
        <p:nvSpPr>
          <p:cNvPr id="1899" name="TextBox 24"/>
          <p:cNvSpPr/>
          <p:nvPr/>
        </p:nvSpPr>
        <p:spPr>
          <a:xfrm>
            <a:off x="5810400" y="1193760"/>
            <a:ext cx="417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Roboto Black"/>
                <a:ea typeface="Roboto Black"/>
              </a:rPr>
              <a:t>Our </a:t>
            </a:r>
            <a:r>
              <a:rPr b="0" i="1" lang="en-GB" sz="3600" spc="-1" strike="noStrike">
                <a:solidFill>
                  <a:srgbClr val="236e96"/>
                </a:solidFill>
                <a:latin typeface="Roboto Black"/>
                <a:ea typeface="Roboto Black"/>
              </a:rPr>
              <a:t>Team</a:t>
            </a:r>
            <a:endParaRPr b="0" lang="en-US" sz="3600" spc="-1" strike="noStrike">
              <a:solidFill>
                <a:srgbClr val="000000"/>
              </a:solidFill>
              <a:latin typeface="Calibri"/>
            </a:endParaRPr>
          </a:p>
        </p:txBody>
      </p:sp>
      <p:pic>
        <p:nvPicPr>
          <p:cNvPr id="1900" name="Group 28" descr=""/>
          <p:cNvPicPr/>
          <p:nvPr/>
        </p:nvPicPr>
        <p:blipFill>
          <a:blip r:embed="rId1"/>
          <a:stretch/>
        </p:blipFill>
        <p:spPr>
          <a:xfrm>
            <a:off x="10479240" y="268200"/>
            <a:ext cx="1218960" cy="219240"/>
          </a:xfrm>
          <a:prstGeom prst="rect">
            <a:avLst/>
          </a:prstGeom>
          <a:ln w="0">
            <a:noFill/>
          </a:ln>
        </p:spPr>
      </p:pic>
      <p:sp>
        <p:nvSpPr>
          <p:cNvPr id="1901" name="Oval 47"/>
          <p:cNvSpPr/>
          <p:nvPr/>
        </p:nvSpPr>
        <p:spPr>
          <a:xfrm>
            <a:off x="4297320" y="2500200"/>
            <a:ext cx="647640" cy="646200"/>
          </a:xfrm>
          <a:prstGeom prst="ellipse">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2" name="TextBox 20"/>
          <p:cNvSpPr/>
          <p:nvPr/>
        </p:nvSpPr>
        <p:spPr>
          <a:xfrm>
            <a:off x="4084560" y="2638440"/>
            <a:ext cx="107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ea typeface="Roboto"/>
              </a:rPr>
              <a:t>01</a:t>
            </a:r>
            <a:endParaRPr b="0" lang="en-US" sz="1800" spc="-1" strike="noStrike">
              <a:solidFill>
                <a:srgbClr val="000000"/>
              </a:solidFill>
              <a:latin typeface="Calibri"/>
            </a:endParaRPr>
          </a:p>
        </p:txBody>
      </p:sp>
      <p:sp>
        <p:nvSpPr>
          <p:cNvPr id="1903" name="TextBox 62"/>
          <p:cNvSpPr/>
          <p:nvPr/>
        </p:nvSpPr>
        <p:spPr>
          <a:xfrm>
            <a:off x="6867360" y="5230800"/>
            <a:ext cx="2165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904" name="TextBox 63"/>
          <p:cNvSpPr/>
          <p:nvPr/>
        </p:nvSpPr>
        <p:spPr>
          <a:xfrm>
            <a:off x="7043760" y="4873680"/>
            <a:ext cx="1812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a:t>
            </a:r>
            <a:endParaRPr b="0" lang="en-US" sz="1800" spc="-1" strike="noStrike">
              <a:solidFill>
                <a:srgbClr val="000000"/>
              </a:solidFill>
              <a:latin typeface="Calibri"/>
            </a:endParaRPr>
          </a:p>
        </p:txBody>
      </p:sp>
      <p:sp>
        <p:nvSpPr>
          <p:cNvPr id="1905" name="Oval 65"/>
          <p:cNvSpPr/>
          <p:nvPr/>
        </p:nvSpPr>
        <p:spPr>
          <a:xfrm>
            <a:off x="6964200" y="2500200"/>
            <a:ext cx="646200" cy="646200"/>
          </a:xfrm>
          <a:prstGeom prst="ellipse">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6" name="TextBox 66"/>
          <p:cNvSpPr/>
          <p:nvPr/>
        </p:nvSpPr>
        <p:spPr>
          <a:xfrm>
            <a:off x="6751800" y="2638440"/>
            <a:ext cx="107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ea typeface="Roboto"/>
              </a:rPr>
              <a:t>02</a:t>
            </a:r>
            <a:endParaRPr b="0" lang="en-US" sz="1800" spc="-1" strike="noStrike">
              <a:solidFill>
                <a:srgbClr val="000000"/>
              </a:solidFill>
              <a:latin typeface="Calibri"/>
            </a:endParaRPr>
          </a:p>
        </p:txBody>
      </p:sp>
      <p:sp>
        <p:nvSpPr>
          <p:cNvPr id="1907" name="TextBox 67"/>
          <p:cNvSpPr/>
          <p:nvPr/>
        </p:nvSpPr>
        <p:spPr>
          <a:xfrm>
            <a:off x="9532800" y="5230800"/>
            <a:ext cx="2167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908" name="TextBox 68"/>
          <p:cNvSpPr/>
          <p:nvPr/>
        </p:nvSpPr>
        <p:spPr>
          <a:xfrm>
            <a:off x="9709200" y="4873680"/>
            <a:ext cx="18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a:t>
            </a:r>
            <a:endParaRPr b="0" lang="en-US" sz="1800" spc="-1" strike="noStrike">
              <a:solidFill>
                <a:srgbClr val="000000"/>
              </a:solidFill>
              <a:latin typeface="Calibri"/>
            </a:endParaRPr>
          </a:p>
        </p:txBody>
      </p:sp>
      <p:sp>
        <p:nvSpPr>
          <p:cNvPr id="1909" name="Oval 70"/>
          <p:cNvSpPr/>
          <p:nvPr/>
        </p:nvSpPr>
        <p:spPr>
          <a:xfrm>
            <a:off x="9629640" y="2500200"/>
            <a:ext cx="648000" cy="646200"/>
          </a:xfrm>
          <a:prstGeom prst="ellipse">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0" name="TextBox 71"/>
          <p:cNvSpPr/>
          <p:nvPr/>
        </p:nvSpPr>
        <p:spPr>
          <a:xfrm>
            <a:off x="9416880" y="2638440"/>
            <a:ext cx="107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ea typeface="Roboto"/>
              </a:rPr>
              <a:t>0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TextBox 7"/>
          <p:cNvSpPr/>
          <p:nvPr/>
        </p:nvSpPr>
        <p:spPr>
          <a:xfrm>
            <a:off x="723960" y="5749920"/>
            <a:ext cx="2166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912" name="TextBox 8"/>
          <p:cNvSpPr/>
          <p:nvPr/>
        </p:nvSpPr>
        <p:spPr>
          <a:xfrm>
            <a:off x="900000" y="5392800"/>
            <a:ext cx="181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a:t>
            </a:r>
            <a:endParaRPr b="0" lang="en-US" sz="1800" spc="-1" strike="noStrike">
              <a:solidFill>
                <a:srgbClr val="000000"/>
              </a:solidFill>
              <a:latin typeface="Calibri"/>
            </a:endParaRPr>
          </a:p>
        </p:txBody>
      </p:sp>
      <p:sp>
        <p:nvSpPr>
          <p:cNvPr id="1913" name="TextBox 13"/>
          <p:cNvSpPr/>
          <p:nvPr/>
        </p:nvSpPr>
        <p:spPr>
          <a:xfrm>
            <a:off x="3211560" y="5749920"/>
            <a:ext cx="2165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914" name="TextBox 14"/>
          <p:cNvSpPr/>
          <p:nvPr/>
        </p:nvSpPr>
        <p:spPr>
          <a:xfrm>
            <a:off x="3387600" y="5392800"/>
            <a:ext cx="181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a:t>
            </a:r>
            <a:endParaRPr b="0" lang="en-US" sz="1800" spc="-1" strike="noStrike">
              <a:solidFill>
                <a:srgbClr val="000000"/>
              </a:solidFill>
              <a:latin typeface="Calibri"/>
            </a:endParaRPr>
          </a:p>
        </p:txBody>
      </p:sp>
      <p:sp>
        <p:nvSpPr>
          <p:cNvPr id="1915" name="TextBox 16"/>
          <p:cNvSpPr/>
          <p:nvPr/>
        </p:nvSpPr>
        <p:spPr>
          <a:xfrm>
            <a:off x="5699160" y="5749920"/>
            <a:ext cx="2165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916" name="TextBox 17"/>
          <p:cNvSpPr/>
          <p:nvPr/>
        </p:nvSpPr>
        <p:spPr>
          <a:xfrm>
            <a:off x="5875200" y="5392800"/>
            <a:ext cx="1812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a:t>
            </a:r>
            <a:endParaRPr b="0" lang="en-US" sz="1800" spc="-1" strike="noStrike">
              <a:solidFill>
                <a:srgbClr val="000000"/>
              </a:solidFill>
              <a:latin typeface="Calibri"/>
            </a:endParaRPr>
          </a:p>
        </p:txBody>
      </p:sp>
      <p:sp>
        <p:nvSpPr>
          <p:cNvPr id="1917" name="TextBox 19"/>
          <p:cNvSpPr/>
          <p:nvPr/>
        </p:nvSpPr>
        <p:spPr>
          <a:xfrm>
            <a:off x="1521000" y="590400"/>
            <a:ext cx="5547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Roboto Black"/>
                <a:ea typeface="Roboto Black"/>
              </a:rPr>
              <a:t>Our </a:t>
            </a:r>
            <a:r>
              <a:rPr b="0" i="1" lang="en-GB" sz="3600" spc="-1" strike="noStrike">
                <a:solidFill>
                  <a:srgbClr val="236e96"/>
                </a:solidFill>
                <a:latin typeface="Roboto Black"/>
                <a:ea typeface="Roboto Black"/>
              </a:rPr>
              <a:t>Awesome</a:t>
            </a:r>
            <a:r>
              <a:rPr b="0" lang="en-GB" sz="3600" spc="-1" strike="noStrike">
                <a:solidFill>
                  <a:srgbClr val="000000"/>
                </a:solidFill>
                <a:latin typeface="Roboto Black"/>
                <a:ea typeface="Roboto Black"/>
              </a:rPr>
              <a:t> Team</a:t>
            </a:r>
            <a:endParaRPr b="0" lang="en-US" sz="3600" spc="-1" strike="noStrike">
              <a:solidFill>
                <a:srgbClr val="000000"/>
              </a:solidFill>
              <a:latin typeface="Calibri"/>
            </a:endParaRPr>
          </a:p>
        </p:txBody>
      </p:sp>
      <p:sp>
        <p:nvSpPr>
          <p:cNvPr id="1918" name="TextBox 22"/>
          <p:cNvSpPr/>
          <p:nvPr/>
        </p:nvSpPr>
        <p:spPr>
          <a:xfrm>
            <a:off x="9275760" y="4064040"/>
            <a:ext cx="2178000" cy="159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2f2f2"/>
                </a:solidFill>
                <a:latin typeface="Lato"/>
              </a:rPr>
              <a:t>Sed utera perspiciatis unde omnis iste natus error sit great ness accusantium doloremque trie as laudantium, totam rem aperiam, eaque ipsa</a:t>
            </a:r>
            <a:r>
              <a:rPr b="0" lang="en-GB" sz="1100" spc="-1" strike="noStrike">
                <a:solidFill>
                  <a:srgbClr val="f2f2f2"/>
                </a:solidFill>
                <a:latin typeface="Lato"/>
              </a:rPr>
              <a:t>.</a:t>
            </a:r>
            <a:endParaRPr b="0" lang="en-US" sz="1100" spc="-1" strike="noStrike">
              <a:solidFill>
                <a:srgbClr val="000000"/>
              </a:solidFill>
              <a:latin typeface="Calibri"/>
            </a:endParaRPr>
          </a:p>
        </p:txBody>
      </p:sp>
      <p:sp>
        <p:nvSpPr>
          <p:cNvPr id="1919" name="TextBox 23"/>
          <p:cNvSpPr/>
          <p:nvPr/>
        </p:nvSpPr>
        <p:spPr>
          <a:xfrm>
            <a:off x="8844120" y="3551400"/>
            <a:ext cx="30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Lato Black"/>
              </a:rPr>
              <a:t>YOUR TEXT HERE</a:t>
            </a:r>
            <a:endParaRPr b="0" lang="en-US" sz="1800" spc="-1" strike="noStrike">
              <a:solidFill>
                <a:srgbClr val="000000"/>
              </a:solidFill>
              <a:latin typeface="Calibri"/>
            </a:endParaRPr>
          </a:p>
        </p:txBody>
      </p:sp>
      <p:grpSp>
        <p:nvGrpSpPr>
          <p:cNvPr id="1920" name="Group 24"/>
          <p:cNvGrpSpPr/>
          <p:nvPr/>
        </p:nvGrpSpPr>
        <p:grpSpPr>
          <a:xfrm>
            <a:off x="9976320" y="6123240"/>
            <a:ext cx="776520" cy="191520"/>
            <a:chOff x="9976320" y="6123240"/>
            <a:chExt cx="776520" cy="191520"/>
          </a:xfrm>
        </p:grpSpPr>
        <p:sp>
          <p:nvSpPr>
            <p:cNvPr id="1921" name="L-Shape 25"/>
            <p:cNvSpPr/>
            <p:nvPr/>
          </p:nvSpPr>
          <p:spPr>
            <a:xfrm rot="2700000">
              <a:off x="10004040" y="6151680"/>
              <a:ext cx="135000" cy="135000"/>
            </a:xfrm>
            <a:custGeom>
              <a:avLst/>
              <a:gdLst/>
              <a:ahLst/>
              <a:rect l="l" t="t" r="r" b="b"/>
              <a:pathLst>
                <a:path w="168467" h="168467">
                  <a:moveTo>
                    <a:pt x="0" y="0"/>
                  </a:moveTo>
                  <a:lnTo>
                    <a:pt x="59666" y="0"/>
                  </a:lnTo>
                  <a:lnTo>
                    <a:pt x="59666" y="108801"/>
                  </a:lnTo>
                  <a:lnTo>
                    <a:pt x="168467" y="108801"/>
                  </a:lnTo>
                  <a:lnTo>
                    <a:pt x="168467" y="168467"/>
                  </a:lnTo>
                  <a:lnTo>
                    <a:pt x="0" y="168467"/>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2" name="L-Shape 26"/>
            <p:cNvSpPr/>
            <p:nvPr/>
          </p:nvSpPr>
          <p:spPr>
            <a:xfrm rot="13500000">
              <a:off x="10589760" y="6150960"/>
              <a:ext cx="135000" cy="135000"/>
            </a:xfrm>
            <a:custGeom>
              <a:avLst/>
              <a:gdLst/>
              <a:ahLst/>
              <a:rect l="l" t="t" r="r" b="b"/>
              <a:pathLst>
                <a:path w="168467" h="168467">
                  <a:moveTo>
                    <a:pt x="0" y="0"/>
                  </a:moveTo>
                  <a:lnTo>
                    <a:pt x="59666" y="0"/>
                  </a:lnTo>
                  <a:lnTo>
                    <a:pt x="59666" y="108801"/>
                  </a:lnTo>
                  <a:lnTo>
                    <a:pt x="168467" y="108801"/>
                  </a:lnTo>
                  <a:lnTo>
                    <a:pt x="168467" y="168467"/>
                  </a:lnTo>
                  <a:lnTo>
                    <a:pt x="0" y="168467"/>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923" name="Rectangle 1"/>
          <p:cNvSpPr/>
          <p:nvPr/>
        </p:nvSpPr>
        <p:spPr>
          <a:xfrm>
            <a:off x="733320" y="4773600"/>
            <a:ext cx="1184400" cy="3700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24" name="Group 18" descr=""/>
          <p:cNvPicPr/>
          <p:nvPr/>
        </p:nvPicPr>
        <p:blipFill>
          <a:blip r:embed="rId1"/>
          <a:stretch/>
        </p:blipFill>
        <p:spPr>
          <a:xfrm>
            <a:off x="957240" y="4883040"/>
            <a:ext cx="738360" cy="152640"/>
          </a:xfrm>
          <a:prstGeom prst="rect">
            <a:avLst/>
          </a:prstGeom>
          <a:ln w="0">
            <a:noFill/>
          </a:ln>
        </p:spPr>
      </p:pic>
      <p:sp>
        <p:nvSpPr>
          <p:cNvPr id="1925" name="Rectangle 28"/>
          <p:cNvSpPr/>
          <p:nvPr/>
        </p:nvSpPr>
        <p:spPr>
          <a:xfrm>
            <a:off x="3220920" y="4773600"/>
            <a:ext cx="1184400" cy="3700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26" name="Group 29" descr=""/>
          <p:cNvPicPr/>
          <p:nvPr/>
        </p:nvPicPr>
        <p:blipFill>
          <a:blip r:embed="rId2"/>
          <a:stretch/>
        </p:blipFill>
        <p:spPr>
          <a:xfrm>
            <a:off x="3444840" y="4883040"/>
            <a:ext cx="736560" cy="152640"/>
          </a:xfrm>
          <a:prstGeom prst="rect">
            <a:avLst/>
          </a:prstGeom>
          <a:ln w="0">
            <a:noFill/>
          </a:ln>
        </p:spPr>
      </p:pic>
      <p:sp>
        <p:nvSpPr>
          <p:cNvPr id="1927" name="Rectangle 35"/>
          <p:cNvSpPr/>
          <p:nvPr/>
        </p:nvSpPr>
        <p:spPr>
          <a:xfrm>
            <a:off x="5697360" y="4773600"/>
            <a:ext cx="1184400" cy="3700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28" name="Group 37" descr=""/>
          <p:cNvPicPr/>
          <p:nvPr/>
        </p:nvPicPr>
        <p:blipFill>
          <a:blip r:embed="rId3"/>
          <a:stretch/>
        </p:blipFill>
        <p:spPr>
          <a:xfrm>
            <a:off x="5919840" y="4883040"/>
            <a:ext cx="743040" cy="152640"/>
          </a:xfrm>
          <a:prstGeom prst="rect">
            <a:avLst/>
          </a:prstGeom>
          <a:ln w="0">
            <a:noFill/>
          </a:ln>
        </p:spPr>
      </p:pic>
      <p:pic>
        <p:nvPicPr>
          <p:cNvPr id="1929" name="Graphic 43" descr=""/>
          <p:cNvPicPr/>
          <p:nvPr/>
        </p:nvPicPr>
        <p:blipFill>
          <a:blip r:embed="rId4"/>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TextBox 3"/>
          <p:cNvSpPr/>
          <p:nvPr/>
        </p:nvSpPr>
        <p:spPr>
          <a:xfrm>
            <a:off x="1811160" y="4751280"/>
            <a:ext cx="21672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931" name="TextBox 4"/>
          <p:cNvSpPr/>
          <p:nvPr/>
        </p:nvSpPr>
        <p:spPr>
          <a:xfrm>
            <a:off x="1987560" y="4394160"/>
            <a:ext cx="18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a:t>
            </a:r>
            <a:endParaRPr b="0" lang="en-US" sz="1800" spc="-1" strike="noStrike">
              <a:solidFill>
                <a:srgbClr val="000000"/>
              </a:solidFill>
              <a:latin typeface="Calibri"/>
            </a:endParaRPr>
          </a:p>
        </p:txBody>
      </p:sp>
      <p:sp>
        <p:nvSpPr>
          <p:cNvPr id="1932" name="Rectangle: Rounded Corners 5"/>
          <p:cNvSpPr/>
          <p:nvPr/>
        </p:nvSpPr>
        <p:spPr>
          <a:xfrm>
            <a:off x="1224000" y="2495520"/>
            <a:ext cx="763560" cy="76356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3" name="TextBox 6"/>
          <p:cNvSpPr/>
          <p:nvPr/>
        </p:nvSpPr>
        <p:spPr>
          <a:xfrm>
            <a:off x="1069920" y="2616120"/>
            <a:ext cx="107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Roboto"/>
              </a:rPr>
              <a:t>01</a:t>
            </a:r>
            <a:endParaRPr b="0" lang="en-US" sz="2800" spc="-1" strike="noStrike">
              <a:solidFill>
                <a:srgbClr val="000000"/>
              </a:solidFill>
              <a:latin typeface="Calibri"/>
            </a:endParaRPr>
          </a:p>
        </p:txBody>
      </p:sp>
      <p:sp>
        <p:nvSpPr>
          <p:cNvPr id="1934" name="TextBox 7"/>
          <p:cNvSpPr/>
          <p:nvPr/>
        </p:nvSpPr>
        <p:spPr>
          <a:xfrm>
            <a:off x="1892160" y="5249880"/>
            <a:ext cx="20066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a:t>
            </a:r>
            <a:r>
              <a:rPr b="0" lang="en-GB" sz="1100" spc="-1" strike="noStrike">
                <a:solidFill>
                  <a:srgbClr val="7f7f7f"/>
                </a:solidFill>
                <a:latin typeface="Lato"/>
              </a:rPr>
              <a:t> </a:t>
            </a:r>
            <a:r>
              <a:rPr b="0" lang="id-ID" sz="1100" spc="-1" strike="noStrike">
                <a:solidFill>
                  <a:srgbClr val="7f7f7f"/>
                </a:solidFill>
                <a:latin typeface="Lato"/>
              </a:rPr>
              <a:t>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35" name="TextBox 15"/>
          <p:cNvSpPr/>
          <p:nvPr/>
        </p:nvSpPr>
        <p:spPr>
          <a:xfrm>
            <a:off x="5078520" y="4751280"/>
            <a:ext cx="2166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936" name="TextBox 16"/>
          <p:cNvSpPr/>
          <p:nvPr/>
        </p:nvSpPr>
        <p:spPr>
          <a:xfrm>
            <a:off x="5254560" y="4394160"/>
            <a:ext cx="18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a:t>
            </a:r>
            <a:endParaRPr b="0" lang="en-US" sz="1800" spc="-1" strike="noStrike">
              <a:solidFill>
                <a:srgbClr val="000000"/>
              </a:solidFill>
              <a:latin typeface="Calibri"/>
            </a:endParaRPr>
          </a:p>
        </p:txBody>
      </p:sp>
      <p:sp>
        <p:nvSpPr>
          <p:cNvPr id="1937" name="Rectangle: Rounded Corners 17"/>
          <p:cNvSpPr/>
          <p:nvPr/>
        </p:nvSpPr>
        <p:spPr>
          <a:xfrm>
            <a:off x="4491000" y="2495520"/>
            <a:ext cx="763560" cy="76356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8" name="TextBox 18"/>
          <p:cNvSpPr/>
          <p:nvPr/>
        </p:nvSpPr>
        <p:spPr>
          <a:xfrm>
            <a:off x="4336920" y="2616120"/>
            <a:ext cx="107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Roboto"/>
              </a:rPr>
              <a:t>02</a:t>
            </a:r>
            <a:endParaRPr b="0" lang="en-US" sz="2800" spc="-1" strike="noStrike">
              <a:solidFill>
                <a:srgbClr val="000000"/>
              </a:solidFill>
              <a:latin typeface="Calibri"/>
            </a:endParaRPr>
          </a:p>
        </p:txBody>
      </p:sp>
      <p:sp>
        <p:nvSpPr>
          <p:cNvPr id="1939" name="TextBox 19"/>
          <p:cNvSpPr/>
          <p:nvPr/>
        </p:nvSpPr>
        <p:spPr>
          <a:xfrm>
            <a:off x="5159520" y="5249880"/>
            <a:ext cx="20062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a:t>
            </a:r>
            <a:r>
              <a:rPr b="0" lang="en-GB" sz="1100" spc="-1" strike="noStrike">
                <a:solidFill>
                  <a:srgbClr val="7f7f7f"/>
                </a:solidFill>
                <a:latin typeface="Lato"/>
              </a:rPr>
              <a:t> </a:t>
            </a:r>
            <a:r>
              <a:rPr b="0" lang="id-ID" sz="1100" spc="-1" strike="noStrike">
                <a:solidFill>
                  <a:srgbClr val="7f7f7f"/>
                </a:solidFill>
                <a:latin typeface="Lato"/>
              </a:rPr>
              <a:t>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40" name="TextBox 21"/>
          <p:cNvSpPr/>
          <p:nvPr/>
        </p:nvSpPr>
        <p:spPr>
          <a:xfrm>
            <a:off x="8345520" y="4751280"/>
            <a:ext cx="2166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7f7f7f"/>
                </a:solidFill>
                <a:latin typeface="Lato"/>
              </a:rPr>
              <a:t>At vero </a:t>
            </a:r>
            <a:r>
              <a:rPr b="0" i="1" lang="en-GB" sz="1100" spc="-1" strike="noStrike">
                <a:solidFill>
                  <a:srgbClr val="7f7f7f"/>
                </a:solidFill>
                <a:latin typeface="Lato"/>
              </a:rPr>
              <a:t>d</a:t>
            </a:r>
            <a:r>
              <a:rPr b="0" i="1" lang="id-ID" sz="1100" spc="-1" strike="noStrike">
                <a:solidFill>
                  <a:srgbClr val="7f7f7f"/>
                </a:solidFill>
                <a:latin typeface="Lato"/>
              </a:rPr>
              <a:t>eos et accusamus e</a:t>
            </a:r>
            <a:r>
              <a:rPr b="0" i="1" lang="en-GB" sz="1100" spc="-1" strike="noStrike">
                <a:solidFill>
                  <a:srgbClr val="7f7f7f"/>
                </a:solidFill>
                <a:latin typeface="Lato"/>
              </a:rPr>
              <a:t>ka</a:t>
            </a:r>
            <a:r>
              <a:rPr b="0" i="1" lang="id-ID" sz="1100" spc="-1" strike="noStrike">
                <a:solidFill>
                  <a:srgbClr val="7f7f7f"/>
                </a:solidFill>
                <a:latin typeface="Lato"/>
              </a:rPr>
              <a:t>t</a:t>
            </a:r>
            <a:r>
              <a:rPr b="0" i="1" lang="en-GB" sz="1100" spc="-1" strike="noStrike">
                <a:solidFill>
                  <a:srgbClr val="7f7f7f"/>
                </a:solidFill>
                <a:latin typeface="Lato"/>
              </a:rPr>
              <a:t>.</a:t>
            </a:r>
            <a:endParaRPr b="0" lang="en-US" sz="1100" spc="-1" strike="noStrike">
              <a:solidFill>
                <a:srgbClr val="000000"/>
              </a:solidFill>
              <a:latin typeface="Calibri"/>
            </a:endParaRPr>
          </a:p>
        </p:txBody>
      </p:sp>
      <p:sp>
        <p:nvSpPr>
          <p:cNvPr id="1941" name="TextBox 22"/>
          <p:cNvSpPr/>
          <p:nvPr/>
        </p:nvSpPr>
        <p:spPr>
          <a:xfrm>
            <a:off x="8521560" y="4394160"/>
            <a:ext cx="181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Montserrat"/>
                <a:ea typeface="Roboto"/>
              </a:rPr>
              <a:t>Your Name</a:t>
            </a:r>
            <a:endParaRPr b="0" lang="en-US" sz="1800" spc="-1" strike="noStrike">
              <a:solidFill>
                <a:srgbClr val="000000"/>
              </a:solidFill>
              <a:latin typeface="Calibri"/>
            </a:endParaRPr>
          </a:p>
        </p:txBody>
      </p:sp>
      <p:sp>
        <p:nvSpPr>
          <p:cNvPr id="1942" name="Rectangle: Rounded Corners 23"/>
          <p:cNvSpPr/>
          <p:nvPr/>
        </p:nvSpPr>
        <p:spPr>
          <a:xfrm>
            <a:off x="7758000" y="2495520"/>
            <a:ext cx="763560" cy="76356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3" name="TextBox 24"/>
          <p:cNvSpPr/>
          <p:nvPr/>
        </p:nvSpPr>
        <p:spPr>
          <a:xfrm>
            <a:off x="7604280" y="2616120"/>
            <a:ext cx="107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Roboto"/>
              </a:rPr>
              <a:t>03</a:t>
            </a:r>
            <a:endParaRPr b="0" lang="en-US" sz="2800" spc="-1" strike="noStrike">
              <a:solidFill>
                <a:srgbClr val="000000"/>
              </a:solidFill>
              <a:latin typeface="Calibri"/>
            </a:endParaRPr>
          </a:p>
        </p:txBody>
      </p:sp>
      <p:sp>
        <p:nvSpPr>
          <p:cNvPr id="1944" name="TextBox 25"/>
          <p:cNvSpPr/>
          <p:nvPr/>
        </p:nvSpPr>
        <p:spPr>
          <a:xfrm>
            <a:off x="8426520" y="5249880"/>
            <a:ext cx="20066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a:t>
            </a:r>
            <a:r>
              <a:rPr b="0" lang="en-GB" sz="1100" spc="-1" strike="noStrike">
                <a:solidFill>
                  <a:srgbClr val="7f7f7f"/>
                </a:solidFill>
                <a:latin typeface="Lato"/>
              </a:rPr>
              <a:t> </a:t>
            </a:r>
            <a:r>
              <a:rPr b="0" lang="id-ID" sz="1100" spc="-1" strike="noStrike">
                <a:solidFill>
                  <a:srgbClr val="7f7f7f"/>
                </a:solidFill>
                <a:latin typeface="Lato"/>
              </a:rPr>
              <a:t>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45" name="TextBox 28"/>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pic>
        <p:nvPicPr>
          <p:cNvPr id="1946" name="Group 30" descr=""/>
          <p:cNvPicPr/>
          <p:nvPr/>
        </p:nvPicPr>
        <p:blipFill>
          <a:blip r:embed="rId1"/>
          <a:stretch/>
        </p:blipFill>
        <p:spPr>
          <a:xfrm>
            <a:off x="11619000" y="3035160"/>
            <a:ext cx="195120" cy="787680"/>
          </a:xfrm>
          <a:prstGeom prst="rect">
            <a:avLst/>
          </a:prstGeom>
          <a:ln w="0">
            <a:noFill/>
          </a:ln>
        </p:spPr>
      </p:pic>
      <p:sp>
        <p:nvSpPr>
          <p:cNvPr id="1947" name="Rectangle: Rounded Corners 42"/>
          <p:cNvSpPr/>
          <p:nvPr/>
        </p:nvSpPr>
        <p:spPr>
          <a:xfrm>
            <a:off x="1096344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8" name="Rectangle: Rounded Corners 43"/>
          <p:cNvSpPr/>
          <p:nvPr/>
        </p:nvSpPr>
        <p:spPr>
          <a:xfrm>
            <a:off x="11396520" y="420840"/>
            <a:ext cx="320760" cy="320400"/>
          </a:xfrm>
          <a:prstGeom prst="roundRect">
            <a:avLst>
              <a:gd name="adj" fmla="val 16667"/>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9" name="Rectangle: Rounded Corners 44"/>
          <p:cNvSpPr/>
          <p:nvPr/>
        </p:nvSpPr>
        <p:spPr>
          <a:xfrm>
            <a:off x="1053000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0" name="Graphic 29" descr=""/>
          <p:cNvPicPr/>
          <p:nvPr/>
        </p:nvPicPr>
        <p:blipFill>
          <a:blip r:embed="rId2"/>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1"/>
          <p:cNvSpPr/>
          <p:nvPr/>
        </p:nvSpPr>
        <p:spPr>
          <a:xfrm>
            <a:off x="0" y="0"/>
            <a:ext cx="12192120" cy="3745080"/>
          </a:xfrm>
          <a:prstGeom prst="rect">
            <a:avLst/>
          </a:prstGeom>
          <a:solidFill>
            <a:srgbClr val="15b2d3">
              <a:alpha val="7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2" name="Rectangle 2"/>
          <p:cNvSpPr/>
          <p:nvPr/>
        </p:nvSpPr>
        <p:spPr>
          <a:xfrm>
            <a:off x="914400" y="3309840"/>
            <a:ext cx="10377360" cy="290196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3" name="TextBox 4"/>
          <p:cNvSpPr/>
          <p:nvPr/>
        </p:nvSpPr>
        <p:spPr>
          <a:xfrm>
            <a:off x="3319560" y="1041480"/>
            <a:ext cx="555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Roboto Black"/>
                <a:ea typeface="Roboto Black"/>
              </a:rPr>
              <a:t>Lorem Ipsum Dolour Sit</a:t>
            </a:r>
            <a:endParaRPr b="0" lang="en-US" sz="3200" spc="-1" strike="noStrike">
              <a:solidFill>
                <a:srgbClr val="000000"/>
              </a:solidFill>
              <a:latin typeface="Calibri"/>
            </a:endParaRPr>
          </a:p>
        </p:txBody>
      </p:sp>
      <p:sp>
        <p:nvSpPr>
          <p:cNvPr id="1954" name="TextBox 5"/>
          <p:cNvSpPr/>
          <p:nvPr/>
        </p:nvSpPr>
        <p:spPr>
          <a:xfrm>
            <a:off x="3616200" y="1785960"/>
            <a:ext cx="49593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2f2f2"/>
                </a:solidFill>
                <a:latin typeface="Lato"/>
              </a:rPr>
              <a:t>Sed utera perspiciatis unde omnis iste natus error sit great ness accusantium doloremque trie as laudantium, totam rem aperiam, eaque ipsa</a:t>
            </a:r>
            <a:r>
              <a:rPr b="0" lang="en-GB" sz="1100" spc="-1" strike="noStrike">
                <a:solidFill>
                  <a:srgbClr val="f2f2f2"/>
                </a:solidFill>
                <a:latin typeface="Lato"/>
              </a:rPr>
              <a:t>.</a:t>
            </a:r>
            <a:endParaRPr b="0" lang="en-US" sz="1100" spc="-1" strike="noStrike">
              <a:solidFill>
                <a:srgbClr val="000000"/>
              </a:solidFill>
              <a:latin typeface="Calibri"/>
            </a:endParaRPr>
          </a:p>
        </p:txBody>
      </p:sp>
      <p:sp>
        <p:nvSpPr>
          <p:cNvPr id="1955" name="TextBox 6"/>
          <p:cNvSpPr/>
          <p:nvPr/>
        </p:nvSpPr>
        <p:spPr>
          <a:xfrm>
            <a:off x="4575240" y="592200"/>
            <a:ext cx="304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Lato Black"/>
              </a:rPr>
              <a:t>YOUR TEXT HERE</a:t>
            </a:r>
            <a:endParaRPr b="0" lang="en-US" sz="1400" spc="-1" strike="noStrike">
              <a:solidFill>
                <a:srgbClr val="000000"/>
              </a:solidFill>
              <a:latin typeface="Calibri"/>
            </a:endParaRPr>
          </a:p>
        </p:txBody>
      </p:sp>
      <p:sp>
        <p:nvSpPr>
          <p:cNvPr id="1956" name="Oval 7"/>
          <p:cNvSpPr/>
          <p:nvPr/>
        </p:nvSpPr>
        <p:spPr>
          <a:xfrm>
            <a:off x="2422440" y="2873520"/>
            <a:ext cx="871560" cy="871560"/>
          </a:xfrm>
          <a:prstGeom prst="ellipse">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7" name="TextBox 8"/>
          <p:cNvSpPr/>
          <p:nvPr/>
        </p:nvSpPr>
        <p:spPr>
          <a:xfrm>
            <a:off x="1716120" y="4637160"/>
            <a:ext cx="228456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58" name="TextBox 9"/>
          <p:cNvSpPr/>
          <p:nvPr/>
        </p:nvSpPr>
        <p:spPr>
          <a:xfrm>
            <a:off x="1601640" y="4157640"/>
            <a:ext cx="251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ato Black"/>
              </a:rPr>
              <a:t>Your Text Here</a:t>
            </a:r>
            <a:endParaRPr b="0" lang="en-US" sz="1800" spc="-1" strike="noStrike">
              <a:solidFill>
                <a:srgbClr val="000000"/>
              </a:solidFill>
              <a:latin typeface="Calibri"/>
            </a:endParaRPr>
          </a:p>
        </p:txBody>
      </p:sp>
      <p:sp>
        <p:nvSpPr>
          <p:cNvPr id="1959" name="Oval 16"/>
          <p:cNvSpPr/>
          <p:nvPr/>
        </p:nvSpPr>
        <p:spPr>
          <a:xfrm>
            <a:off x="8912160" y="2873520"/>
            <a:ext cx="871560" cy="871560"/>
          </a:xfrm>
          <a:prstGeom prst="ellipse">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0" name="TextBox 17"/>
          <p:cNvSpPr/>
          <p:nvPr/>
        </p:nvSpPr>
        <p:spPr>
          <a:xfrm>
            <a:off x="8205840" y="4637160"/>
            <a:ext cx="22842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61" name="TextBox 18"/>
          <p:cNvSpPr/>
          <p:nvPr/>
        </p:nvSpPr>
        <p:spPr>
          <a:xfrm>
            <a:off x="8091360" y="4157640"/>
            <a:ext cx="251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ato Black"/>
              </a:rPr>
              <a:t>Your Text Here</a:t>
            </a:r>
            <a:endParaRPr b="0" lang="en-US" sz="1800" spc="-1" strike="noStrike">
              <a:solidFill>
                <a:srgbClr val="000000"/>
              </a:solidFill>
              <a:latin typeface="Calibri"/>
            </a:endParaRPr>
          </a:p>
        </p:txBody>
      </p:sp>
      <p:sp>
        <p:nvSpPr>
          <p:cNvPr id="1962" name="Oval 24"/>
          <p:cNvSpPr/>
          <p:nvPr/>
        </p:nvSpPr>
        <p:spPr>
          <a:xfrm>
            <a:off x="5675400" y="2873520"/>
            <a:ext cx="871560" cy="871560"/>
          </a:xfrm>
          <a:prstGeom prst="ellipse">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3" name="TextBox 25"/>
          <p:cNvSpPr/>
          <p:nvPr/>
        </p:nvSpPr>
        <p:spPr>
          <a:xfrm>
            <a:off x="4968720" y="4637160"/>
            <a:ext cx="228456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64" name="TextBox 26"/>
          <p:cNvSpPr/>
          <p:nvPr/>
        </p:nvSpPr>
        <p:spPr>
          <a:xfrm>
            <a:off x="4854600" y="4157640"/>
            <a:ext cx="251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ato Black"/>
              </a:rPr>
              <a:t>Your Text Here</a:t>
            </a:r>
            <a:endParaRPr b="0" lang="en-US" sz="1800" spc="-1" strike="noStrike">
              <a:solidFill>
                <a:srgbClr val="000000"/>
              </a:solidFill>
              <a:latin typeface="Calibri"/>
            </a:endParaRPr>
          </a:p>
        </p:txBody>
      </p:sp>
      <p:sp>
        <p:nvSpPr>
          <p:cNvPr id="1965" name="TextBox 28"/>
          <p:cNvSpPr/>
          <p:nvPr/>
        </p:nvSpPr>
        <p:spPr>
          <a:xfrm>
            <a:off x="95724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Montserrat"/>
              </a:rPr>
              <a:t>COMPANY NAME</a:t>
            </a:r>
            <a:endParaRPr b="0" lang="en-US" sz="1400" spc="-1" strike="noStrike">
              <a:solidFill>
                <a:srgbClr val="000000"/>
              </a:solidFill>
              <a:latin typeface="Calibri"/>
            </a:endParaRPr>
          </a:p>
        </p:txBody>
      </p:sp>
      <p:pic>
        <p:nvPicPr>
          <p:cNvPr id="1966" name="Graphic 21" descr=""/>
          <p:cNvPicPr/>
          <p:nvPr/>
        </p:nvPicPr>
        <p:blipFill>
          <a:blip r:embed="rId1"/>
          <a:stretch/>
        </p:blipFill>
        <p:spPr>
          <a:xfrm>
            <a:off x="363600" y="369720"/>
            <a:ext cx="366480" cy="366840"/>
          </a:xfrm>
          <a:prstGeom prst="rect">
            <a:avLst/>
          </a:prstGeom>
          <a:ln w="0">
            <a:noFill/>
          </a:ln>
        </p:spPr>
      </p:pic>
      <p:sp>
        <p:nvSpPr>
          <p:cNvPr id="1967" name="Freeform: Shape 11"/>
          <p:cNvSpPr/>
          <p:nvPr/>
        </p:nvSpPr>
        <p:spPr>
          <a:xfrm>
            <a:off x="2658960" y="3110040"/>
            <a:ext cx="398520" cy="398160"/>
          </a:xfrm>
          <a:custGeom>
            <a:avLst/>
            <a:gdLst/>
            <a:ahLst/>
            <a:rect l="l" t="t" r="r" b="b"/>
            <a:pathLst>
              <a:path w="398651" h="398649">
                <a:moveTo>
                  <a:pt x="65213" y="1"/>
                </a:moveTo>
                <a:cubicBezTo>
                  <a:pt x="62577" y="27"/>
                  <a:pt x="60057" y="1086"/>
                  <a:pt x="58192" y="2949"/>
                </a:cubicBezTo>
                <a:lnTo>
                  <a:pt x="2951" y="58190"/>
                </a:lnTo>
                <a:cubicBezTo>
                  <a:pt x="1003" y="60139"/>
                  <a:pt x="-62" y="62800"/>
                  <a:pt x="3" y="65555"/>
                </a:cubicBezTo>
                <a:cubicBezTo>
                  <a:pt x="3" y="65555"/>
                  <a:pt x="771" y="90050"/>
                  <a:pt x="16347" y="127973"/>
                </a:cubicBezTo>
                <a:cubicBezTo>
                  <a:pt x="31923" y="165896"/>
                  <a:pt x="62331" y="218281"/>
                  <a:pt x="121350" y="277300"/>
                </a:cubicBezTo>
                <a:cubicBezTo>
                  <a:pt x="180369" y="336319"/>
                  <a:pt x="232754" y="366727"/>
                  <a:pt x="270677" y="382303"/>
                </a:cubicBezTo>
                <a:cubicBezTo>
                  <a:pt x="308600" y="397879"/>
                  <a:pt x="333095" y="398647"/>
                  <a:pt x="333095" y="398647"/>
                </a:cubicBezTo>
                <a:cubicBezTo>
                  <a:pt x="335850" y="398712"/>
                  <a:pt x="338511" y="397647"/>
                  <a:pt x="340460" y="395699"/>
                </a:cubicBezTo>
                <a:lnTo>
                  <a:pt x="395701" y="340458"/>
                </a:lnTo>
                <a:cubicBezTo>
                  <a:pt x="399634" y="336522"/>
                  <a:pt x="399634" y="330144"/>
                  <a:pt x="395701" y="326208"/>
                </a:cubicBezTo>
                <a:lnTo>
                  <a:pt x="322814" y="253310"/>
                </a:lnTo>
                <a:cubicBezTo>
                  <a:pt x="318878" y="249377"/>
                  <a:pt x="312499" y="249377"/>
                  <a:pt x="308563" y="253310"/>
                </a:cubicBezTo>
                <a:lnTo>
                  <a:pt x="270531" y="291353"/>
                </a:lnTo>
                <a:cubicBezTo>
                  <a:pt x="269613" y="291337"/>
                  <a:pt x="269852" y="291461"/>
                  <a:pt x="267635" y="291196"/>
                </a:cubicBezTo>
                <a:cubicBezTo>
                  <a:pt x="263098" y="290653"/>
                  <a:pt x="256094" y="289283"/>
                  <a:pt x="246905" y="285863"/>
                </a:cubicBezTo>
                <a:cubicBezTo>
                  <a:pt x="228528" y="279022"/>
                  <a:pt x="201357" y="263971"/>
                  <a:pt x="168018" y="230632"/>
                </a:cubicBezTo>
                <a:cubicBezTo>
                  <a:pt x="134679" y="197293"/>
                  <a:pt x="119628" y="170122"/>
                  <a:pt x="112787" y="151744"/>
                </a:cubicBezTo>
                <a:cubicBezTo>
                  <a:pt x="109367" y="142556"/>
                  <a:pt x="107997" y="135552"/>
                  <a:pt x="107454" y="131015"/>
                </a:cubicBezTo>
                <a:cubicBezTo>
                  <a:pt x="107188" y="128798"/>
                  <a:pt x="107314" y="129037"/>
                  <a:pt x="107297" y="128119"/>
                </a:cubicBezTo>
                <a:lnTo>
                  <a:pt x="145340" y="90086"/>
                </a:lnTo>
                <a:cubicBezTo>
                  <a:pt x="149273" y="86151"/>
                  <a:pt x="149273" y="79772"/>
                  <a:pt x="145340" y="75836"/>
                </a:cubicBezTo>
                <a:lnTo>
                  <a:pt x="72442" y="2949"/>
                </a:lnTo>
                <a:cubicBezTo>
                  <a:pt x="70526" y="1035"/>
                  <a:pt x="67921" y="-28"/>
                  <a:pt x="65213" y="1"/>
                </a:cubicBezTo>
                <a:close/>
                <a:moveTo>
                  <a:pt x="65317" y="24324"/>
                </a:moveTo>
                <a:lnTo>
                  <a:pt x="123964" y="82961"/>
                </a:lnTo>
                <a:lnTo>
                  <a:pt x="89974" y="116941"/>
                </a:lnTo>
                <a:cubicBezTo>
                  <a:pt x="88331" y="118581"/>
                  <a:pt x="87305" y="120737"/>
                  <a:pt x="87068" y="123046"/>
                </a:cubicBezTo>
                <a:cubicBezTo>
                  <a:pt x="87068" y="123046"/>
                  <a:pt x="86713" y="127320"/>
                  <a:pt x="87443" y="133411"/>
                </a:cubicBezTo>
                <a:cubicBezTo>
                  <a:pt x="88172" y="139501"/>
                  <a:pt x="89924" y="148093"/>
                  <a:pt x="93901" y="158776"/>
                </a:cubicBezTo>
                <a:cubicBezTo>
                  <a:pt x="101854" y="180141"/>
                  <a:pt x="118696" y="209811"/>
                  <a:pt x="153767" y="244882"/>
                </a:cubicBezTo>
                <a:cubicBezTo>
                  <a:pt x="188839" y="279954"/>
                  <a:pt x="218508" y="296795"/>
                  <a:pt x="239874" y="304749"/>
                </a:cubicBezTo>
                <a:cubicBezTo>
                  <a:pt x="250557" y="308725"/>
                  <a:pt x="259149" y="310478"/>
                  <a:pt x="265239" y="311207"/>
                </a:cubicBezTo>
                <a:cubicBezTo>
                  <a:pt x="271329" y="311936"/>
                  <a:pt x="275604" y="311582"/>
                  <a:pt x="275604" y="311582"/>
                </a:cubicBezTo>
                <a:cubicBezTo>
                  <a:pt x="277913" y="311345"/>
                  <a:pt x="280069" y="310318"/>
                  <a:pt x="281708" y="308676"/>
                </a:cubicBezTo>
                <a:lnTo>
                  <a:pt x="315688" y="274685"/>
                </a:lnTo>
                <a:lnTo>
                  <a:pt x="374325" y="333333"/>
                </a:lnTo>
                <a:lnTo>
                  <a:pt x="329689" y="377969"/>
                </a:lnTo>
                <a:cubicBezTo>
                  <a:pt x="325112" y="377679"/>
                  <a:pt x="308966" y="376238"/>
                  <a:pt x="278333" y="363657"/>
                </a:cubicBezTo>
                <a:cubicBezTo>
                  <a:pt x="242894" y="349101"/>
                  <a:pt x="192853" y="320302"/>
                  <a:pt x="135600" y="263050"/>
                </a:cubicBezTo>
                <a:cubicBezTo>
                  <a:pt x="78347" y="205797"/>
                  <a:pt x="49549" y="155756"/>
                  <a:pt x="34993" y="120316"/>
                </a:cubicBezTo>
                <a:cubicBezTo>
                  <a:pt x="22411" y="89684"/>
                  <a:pt x="20970" y="73537"/>
                  <a:pt x="20680" y="68961"/>
                </a:cubicBezTo>
                <a:lnTo>
                  <a:pt x="65317" y="24324"/>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68" name="Freeform: Shape 12"/>
          <p:cNvSpPr/>
          <p:nvPr/>
        </p:nvSpPr>
        <p:spPr>
          <a:xfrm>
            <a:off x="5911920" y="3102120"/>
            <a:ext cx="398520" cy="414360"/>
          </a:xfrm>
          <a:custGeom>
            <a:avLst/>
            <a:gdLst/>
            <a:ahLst/>
            <a:rect l="l" t="t" r="r" b="b"/>
            <a:pathLst>
              <a:path w="398510" h="413834">
                <a:moveTo>
                  <a:pt x="199849" y="0"/>
                </a:moveTo>
                <a:cubicBezTo>
                  <a:pt x="139943" y="0"/>
                  <a:pt x="89554" y="21475"/>
                  <a:pt x="54533" y="58033"/>
                </a:cubicBezTo>
                <a:cubicBezTo>
                  <a:pt x="19511" y="94591"/>
                  <a:pt x="0" y="145930"/>
                  <a:pt x="0" y="204579"/>
                </a:cubicBezTo>
                <a:cubicBezTo>
                  <a:pt x="0" y="239827"/>
                  <a:pt x="2728" y="291494"/>
                  <a:pt x="29490" y="335405"/>
                </a:cubicBezTo>
                <a:cubicBezTo>
                  <a:pt x="56253" y="379317"/>
                  <a:pt x="107868" y="413835"/>
                  <a:pt x="198672" y="413835"/>
                </a:cubicBezTo>
                <a:cubicBezTo>
                  <a:pt x="204238" y="413831"/>
                  <a:pt x="208748" y="409317"/>
                  <a:pt x="208745" y="403751"/>
                </a:cubicBezTo>
                <a:cubicBezTo>
                  <a:pt x="208742" y="398189"/>
                  <a:pt x="204234" y="393681"/>
                  <a:pt x="198672" y="393678"/>
                </a:cubicBezTo>
                <a:cubicBezTo>
                  <a:pt x="112807" y="393678"/>
                  <a:pt x="70100" y="363280"/>
                  <a:pt x="46730" y="324936"/>
                </a:cubicBezTo>
                <a:cubicBezTo>
                  <a:pt x="23361" y="286592"/>
                  <a:pt x="20157" y="238671"/>
                  <a:pt x="20157" y="204579"/>
                </a:cubicBezTo>
                <a:cubicBezTo>
                  <a:pt x="20157" y="150379"/>
                  <a:pt x="37992" y="104439"/>
                  <a:pt x="69096" y="71971"/>
                </a:cubicBezTo>
                <a:cubicBezTo>
                  <a:pt x="100199" y="39502"/>
                  <a:pt x="144710" y="20157"/>
                  <a:pt x="199849" y="20157"/>
                </a:cubicBezTo>
                <a:cubicBezTo>
                  <a:pt x="267782" y="20157"/>
                  <a:pt x="311565" y="39420"/>
                  <a:pt x="339061" y="69773"/>
                </a:cubicBezTo>
                <a:cubicBezTo>
                  <a:pt x="366558" y="100126"/>
                  <a:pt x="378354" y="142764"/>
                  <a:pt x="378354" y="191620"/>
                </a:cubicBezTo>
                <a:cubicBezTo>
                  <a:pt x="378354" y="258656"/>
                  <a:pt x="351492" y="287168"/>
                  <a:pt x="324769" y="301352"/>
                </a:cubicBezTo>
                <a:cubicBezTo>
                  <a:pt x="305575" y="311541"/>
                  <a:pt x="289975" y="313071"/>
                  <a:pt x="280643" y="313436"/>
                </a:cubicBezTo>
                <a:lnTo>
                  <a:pt x="280643" y="136587"/>
                </a:lnTo>
                <a:cubicBezTo>
                  <a:pt x="280655" y="136309"/>
                  <a:pt x="280655" y="136031"/>
                  <a:pt x="280643" y="135754"/>
                </a:cubicBezTo>
                <a:lnTo>
                  <a:pt x="280643" y="97919"/>
                </a:lnTo>
                <a:cubicBezTo>
                  <a:pt x="280646" y="92353"/>
                  <a:pt x="276135" y="87838"/>
                  <a:pt x="270569" y="87836"/>
                </a:cubicBezTo>
                <a:cubicBezTo>
                  <a:pt x="270566" y="87836"/>
                  <a:pt x="270563" y="87836"/>
                  <a:pt x="270560" y="87836"/>
                </a:cubicBezTo>
                <a:cubicBezTo>
                  <a:pt x="264993" y="87833"/>
                  <a:pt x="260479" y="92344"/>
                  <a:pt x="260476" y="97910"/>
                </a:cubicBezTo>
                <a:cubicBezTo>
                  <a:pt x="260476" y="97913"/>
                  <a:pt x="260476" y="97916"/>
                  <a:pt x="260476" y="97919"/>
                </a:cubicBezTo>
                <a:lnTo>
                  <a:pt x="260476" y="104263"/>
                </a:lnTo>
                <a:cubicBezTo>
                  <a:pt x="247994" y="94373"/>
                  <a:pt x="228255" y="86190"/>
                  <a:pt x="198672" y="86190"/>
                </a:cubicBezTo>
                <a:cubicBezTo>
                  <a:pt x="162910" y="86190"/>
                  <a:pt x="132120" y="105247"/>
                  <a:pt x="112441" y="134295"/>
                </a:cubicBezTo>
                <a:cubicBezTo>
                  <a:pt x="92762" y="163344"/>
                  <a:pt x="83623" y="202385"/>
                  <a:pt x="89221" y="243944"/>
                </a:cubicBezTo>
                <a:cubicBezTo>
                  <a:pt x="94376" y="282215"/>
                  <a:pt x="115604" y="317507"/>
                  <a:pt x="149337" y="334030"/>
                </a:cubicBezTo>
                <a:cubicBezTo>
                  <a:pt x="179289" y="348701"/>
                  <a:pt x="218290" y="347141"/>
                  <a:pt x="260476" y="321394"/>
                </a:cubicBezTo>
                <a:lnTo>
                  <a:pt x="260476" y="324072"/>
                </a:lnTo>
                <a:cubicBezTo>
                  <a:pt x="260469" y="329402"/>
                  <a:pt x="264614" y="333816"/>
                  <a:pt x="269934" y="334145"/>
                </a:cubicBezTo>
                <a:cubicBezTo>
                  <a:pt x="269934" y="334145"/>
                  <a:pt x="302016" y="336243"/>
                  <a:pt x="334228" y="319144"/>
                </a:cubicBezTo>
                <a:cubicBezTo>
                  <a:pt x="366440" y="302046"/>
                  <a:pt x="398511" y="264324"/>
                  <a:pt x="398511" y="191620"/>
                </a:cubicBezTo>
                <a:cubicBezTo>
                  <a:pt x="398511" y="139513"/>
                  <a:pt x="385898" y="91398"/>
                  <a:pt x="354031" y="56220"/>
                </a:cubicBezTo>
                <a:cubicBezTo>
                  <a:pt x="322163" y="21043"/>
                  <a:pt x="271656" y="0"/>
                  <a:pt x="199849" y="0"/>
                </a:cubicBezTo>
                <a:close/>
                <a:moveTo>
                  <a:pt x="198672" y="106347"/>
                </a:moveTo>
                <a:cubicBezTo>
                  <a:pt x="228821" y="106347"/>
                  <a:pt x="243627" y="115274"/>
                  <a:pt x="251621" y="123316"/>
                </a:cubicBezTo>
                <a:cubicBezTo>
                  <a:pt x="258265" y="129999"/>
                  <a:pt x="260039" y="135471"/>
                  <a:pt x="260476" y="137212"/>
                </a:cubicBezTo>
                <a:lnTo>
                  <a:pt x="260476" y="297269"/>
                </a:lnTo>
                <a:cubicBezTo>
                  <a:pt x="218147" y="327346"/>
                  <a:pt x="183804" y="328460"/>
                  <a:pt x="158192" y="315915"/>
                </a:cubicBezTo>
                <a:cubicBezTo>
                  <a:pt x="131760" y="302968"/>
                  <a:pt x="113571" y="273822"/>
                  <a:pt x="109180" y="241226"/>
                </a:cubicBezTo>
                <a:cubicBezTo>
                  <a:pt x="104195" y="204222"/>
                  <a:pt x="112555" y="170078"/>
                  <a:pt x="129139" y="145598"/>
                </a:cubicBezTo>
                <a:cubicBezTo>
                  <a:pt x="145723" y="121117"/>
                  <a:pt x="169975" y="106347"/>
                  <a:pt x="198672" y="10634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69" name="Freeform: Shape 13"/>
          <p:cNvSpPr/>
          <p:nvPr/>
        </p:nvSpPr>
        <p:spPr>
          <a:xfrm>
            <a:off x="9109080" y="3132000"/>
            <a:ext cx="477720" cy="354240"/>
          </a:xfrm>
          <a:custGeom>
            <a:avLst/>
            <a:gdLst/>
            <a:ahLst/>
            <a:rect l="l" t="t" r="r" b="b"/>
            <a:pathLst>
              <a:path w="477336" h="354270">
                <a:moveTo>
                  <a:pt x="194380" y="0"/>
                </a:moveTo>
                <a:cubicBezTo>
                  <a:pt x="191142" y="14"/>
                  <a:pt x="188107" y="1584"/>
                  <a:pt x="186224" y="4219"/>
                </a:cubicBezTo>
                <a:lnTo>
                  <a:pt x="143077" y="64179"/>
                </a:lnTo>
                <a:lnTo>
                  <a:pt x="10084" y="64179"/>
                </a:lnTo>
                <a:cubicBezTo>
                  <a:pt x="4517" y="64177"/>
                  <a:pt x="2" y="68688"/>
                  <a:pt x="0" y="74255"/>
                </a:cubicBezTo>
                <a:cubicBezTo>
                  <a:pt x="0" y="74258"/>
                  <a:pt x="0" y="74260"/>
                  <a:pt x="0" y="74263"/>
                </a:cubicBezTo>
                <a:lnTo>
                  <a:pt x="0" y="344187"/>
                </a:lnTo>
                <a:cubicBezTo>
                  <a:pt x="-2" y="349754"/>
                  <a:pt x="4509" y="354268"/>
                  <a:pt x="10076" y="354270"/>
                </a:cubicBezTo>
                <a:cubicBezTo>
                  <a:pt x="10079" y="354270"/>
                  <a:pt x="10081" y="354270"/>
                  <a:pt x="10084" y="354270"/>
                </a:cubicBezTo>
                <a:lnTo>
                  <a:pt x="467263" y="354270"/>
                </a:lnTo>
                <a:cubicBezTo>
                  <a:pt x="472829" y="354267"/>
                  <a:pt x="477338" y="349753"/>
                  <a:pt x="477336" y="344187"/>
                </a:cubicBezTo>
                <a:lnTo>
                  <a:pt x="477336" y="74263"/>
                </a:lnTo>
                <a:cubicBezTo>
                  <a:pt x="477338" y="68697"/>
                  <a:pt x="472829" y="64183"/>
                  <a:pt x="467263" y="64179"/>
                </a:cubicBezTo>
                <a:lnTo>
                  <a:pt x="334228" y="64179"/>
                </a:lnTo>
                <a:lnTo>
                  <a:pt x="291112" y="4219"/>
                </a:lnTo>
                <a:cubicBezTo>
                  <a:pt x="289223" y="1575"/>
                  <a:pt x="286174" y="4"/>
                  <a:pt x="282925" y="0"/>
                </a:cubicBezTo>
                <a:lnTo>
                  <a:pt x="194380" y="0"/>
                </a:lnTo>
                <a:close/>
                <a:moveTo>
                  <a:pt x="199579" y="20167"/>
                </a:moveTo>
                <a:lnTo>
                  <a:pt x="277768" y="20167"/>
                </a:lnTo>
                <a:lnTo>
                  <a:pt x="320873" y="80127"/>
                </a:lnTo>
                <a:cubicBezTo>
                  <a:pt x="322765" y="82767"/>
                  <a:pt x="325813" y="84334"/>
                  <a:pt x="329061" y="84336"/>
                </a:cubicBezTo>
                <a:lnTo>
                  <a:pt x="457179" y="84336"/>
                </a:lnTo>
                <a:lnTo>
                  <a:pt x="457179" y="334114"/>
                </a:lnTo>
                <a:lnTo>
                  <a:pt x="20157" y="334114"/>
                </a:lnTo>
                <a:lnTo>
                  <a:pt x="20157" y="84336"/>
                </a:lnTo>
                <a:lnTo>
                  <a:pt x="148275" y="84336"/>
                </a:lnTo>
                <a:cubicBezTo>
                  <a:pt x="151508" y="84321"/>
                  <a:pt x="154538" y="82755"/>
                  <a:pt x="156421" y="80127"/>
                </a:cubicBezTo>
                <a:lnTo>
                  <a:pt x="199579" y="20167"/>
                </a:lnTo>
                <a:close/>
                <a:moveTo>
                  <a:pt x="238673" y="81190"/>
                </a:moveTo>
                <a:cubicBezTo>
                  <a:pt x="172118" y="81190"/>
                  <a:pt x="117920" y="135388"/>
                  <a:pt x="117920" y="201943"/>
                </a:cubicBezTo>
                <a:cubicBezTo>
                  <a:pt x="117920" y="268498"/>
                  <a:pt x="172118" y="322655"/>
                  <a:pt x="238673" y="322655"/>
                </a:cubicBezTo>
                <a:cubicBezTo>
                  <a:pt x="303847" y="322655"/>
                  <a:pt x="356408" y="270491"/>
                  <a:pt x="358593" y="205839"/>
                </a:cubicBezTo>
                <a:cubicBezTo>
                  <a:pt x="359113" y="204606"/>
                  <a:pt x="359382" y="203281"/>
                  <a:pt x="359385" y="201943"/>
                </a:cubicBezTo>
                <a:cubicBezTo>
                  <a:pt x="359388" y="200591"/>
                  <a:pt x="359119" y="199252"/>
                  <a:pt x="358593" y="198006"/>
                </a:cubicBezTo>
                <a:cubicBezTo>
                  <a:pt x="356389" y="133370"/>
                  <a:pt x="303834" y="81190"/>
                  <a:pt x="238673" y="81190"/>
                </a:cubicBezTo>
                <a:close/>
                <a:moveTo>
                  <a:pt x="238673" y="101347"/>
                </a:moveTo>
                <a:cubicBezTo>
                  <a:pt x="294334" y="101347"/>
                  <a:pt x="339228" y="146282"/>
                  <a:pt x="339228" y="201943"/>
                </a:cubicBezTo>
                <a:cubicBezTo>
                  <a:pt x="339228" y="257604"/>
                  <a:pt x="294334" y="302498"/>
                  <a:pt x="238673" y="302498"/>
                </a:cubicBezTo>
                <a:cubicBezTo>
                  <a:pt x="183012" y="302498"/>
                  <a:pt x="138077" y="257604"/>
                  <a:pt x="138077" y="201943"/>
                </a:cubicBezTo>
                <a:cubicBezTo>
                  <a:pt x="138077" y="146282"/>
                  <a:pt x="183012" y="101347"/>
                  <a:pt x="238673" y="101347"/>
                </a:cubicBezTo>
                <a:close/>
                <a:moveTo>
                  <a:pt x="238673" y="114889"/>
                </a:moveTo>
                <a:cubicBezTo>
                  <a:pt x="190725" y="114889"/>
                  <a:pt x="151619" y="153994"/>
                  <a:pt x="151619" y="201943"/>
                </a:cubicBezTo>
                <a:cubicBezTo>
                  <a:pt x="151619" y="249892"/>
                  <a:pt x="190725" y="288946"/>
                  <a:pt x="238673" y="288946"/>
                </a:cubicBezTo>
                <a:cubicBezTo>
                  <a:pt x="285241" y="288946"/>
                  <a:pt x="322731" y="251886"/>
                  <a:pt x="324895" y="205839"/>
                </a:cubicBezTo>
                <a:cubicBezTo>
                  <a:pt x="325411" y="204605"/>
                  <a:pt x="325676" y="203281"/>
                  <a:pt x="325675" y="201943"/>
                </a:cubicBezTo>
                <a:cubicBezTo>
                  <a:pt x="325682" y="200592"/>
                  <a:pt x="325416" y="199252"/>
                  <a:pt x="324895" y="198006"/>
                </a:cubicBezTo>
                <a:cubicBezTo>
                  <a:pt x="322714" y="151975"/>
                  <a:pt x="285229" y="114889"/>
                  <a:pt x="238673" y="114889"/>
                </a:cubicBezTo>
                <a:close/>
                <a:moveTo>
                  <a:pt x="74221" y="125326"/>
                </a:moveTo>
                <a:cubicBezTo>
                  <a:pt x="68655" y="125324"/>
                  <a:pt x="64140" y="129833"/>
                  <a:pt x="64137" y="135400"/>
                </a:cubicBezTo>
                <a:lnTo>
                  <a:pt x="64137" y="277695"/>
                </a:lnTo>
                <a:cubicBezTo>
                  <a:pt x="64140" y="283261"/>
                  <a:pt x="68655" y="287771"/>
                  <a:pt x="74221" y="287768"/>
                </a:cubicBezTo>
                <a:cubicBezTo>
                  <a:pt x="79783" y="287765"/>
                  <a:pt x="84291" y="283257"/>
                  <a:pt x="84294" y="277695"/>
                </a:cubicBezTo>
                <a:lnTo>
                  <a:pt x="84294" y="135400"/>
                </a:lnTo>
                <a:cubicBezTo>
                  <a:pt x="84291" y="129838"/>
                  <a:pt x="79783" y="125330"/>
                  <a:pt x="74221" y="125326"/>
                </a:cubicBezTo>
                <a:close/>
                <a:moveTo>
                  <a:pt x="238673" y="135045"/>
                </a:moveTo>
                <a:cubicBezTo>
                  <a:pt x="275728" y="135045"/>
                  <a:pt x="305519" y="164889"/>
                  <a:pt x="305519" y="201943"/>
                </a:cubicBezTo>
                <a:cubicBezTo>
                  <a:pt x="305519" y="238998"/>
                  <a:pt x="275728" y="268789"/>
                  <a:pt x="238673" y="268789"/>
                </a:cubicBezTo>
                <a:cubicBezTo>
                  <a:pt x="201619" y="268789"/>
                  <a:pt x="171776" y="238998"/>
                  <a:pt x="171776" y="201943"/>
                </a:cubicBezTo>
                <a:cubicBezTo>
                  <a:pt x="171776" y="189159"/>
                  <a:pt x="175394" y="177277"/>
                  <a:pt x="181567" y="167140"/>
                </a:cubicBezTo>
                <a:cubicBezTo>
                  <a:pt x="180880" y="169697"/>
                  <a:pt x="180484" y="172370"/>
                  <a:pt x="180484" y="175130"/>
                </a:cubicBezTo>
                <a:cubicBezTo>
                  <a:pt x="180484" y="192243"/>
                  <a:pt x="194591" y="206308"/>
                  <a:pt x="211704" y="206308"/>
                </a:cubicBezTo>
                <a:cubicBezTo>
                  <a:pt x="213277" y="206308"/>
                  <a:pt x="214773" y="206129"/>
                  <a:pt x="216246" y="205881"/>
                </a:cubicBezTo>
                <a:cubicBezTo>
                  <a:pt x="214323" y="210652"/>
                  <a:pt x="213235" y="215834"/>
                  <a:pt x="213235" y="221267"/>
                </a:cubicBezTo>
                <a:cubicBezTo>
                  <a:pt x="213235" y="244135"/>
                  <a:pt x="232024" y="262882"/>
                  <a:pt x="254893" y="262882"/>
                </a:cubicBezTo>
                <a:cubicBezTo>
                  <a:pt x="275005" y="262882"/>
                  <a:pt x="289761" y="247415"/>
                  <a:pt x="293550" y="228360"/>
                </a:cubicBezTo>
                <a:cubicBezTo>
                  <a:pt x="295434" y="226479"/>
                  <a:pt x="296498" y="223929"/>
                  <a:pt x="296508" y="221267"/>
                </a:cubicBezTo>
                <a:cubicBezTo>
                  <a:pt x="296484" y="218622"/>
                  <a:pt x="295422" y="216093"/>
                  <a:pt x="293550" y="214225"/>
                </a:cubicBezTo>
                <a:cubicBezTo>
                  <a:pt x="289773" y="195157"/>
                  <a:pt x="275015" y="179651"/>
                  <a:pt x="254893" y="179651"/>
                </a:cubicBezTo>
                <a:cubicBezTo>
                  <a:pt x="249588" y="179651"/>
                  <a:pt x="244522" y="180702"/>
                  <a:pt x="239840" y="182536"/>
                </a:cubicBezTo>
                <a:cubicBezTo>
                  <a:pt x="239840" y="182440"/>
                  <a:pt x="239909" y="182351"/>
                  <a:pt x="239936" y="182255"/>
                </a:cubicBezTo>
                <a:cubicBezTo>
                  <a:pt x="241824" y="180365"/>
                  <a:pt x="242885" y="177802"/>
                  <a:pt x="242884" y="175130"/>
                </a:cubicBezTo>
                <a:cubicBezTo>
                  <a:pt x="242885" y="172438"/>
                  <a:pt x="241808" y="169857"/>
                  <a:pt x="239894" y="167963"/>
                </a:cubicBezTo>
                <a:cubicBezTo>
                  <a:pt x="236299" y="154707"/>
                  <a:pt x="226032" y="143910"/>
                  <a:pt x="211706" y="143910"/>
                </a:cubicBezTo>
                <a:cubicBezTo>
                  <a:pt x="208883" y="143910"/>
                  <a:pt x="206149" y="144317"/>
                  <a:pt x="203539" y="145035"/>
                </a:cubicBezTo>
                <a:cubicBezTo>
                  <a:pt x="213747" y="138737"/>
                  <a:pt x="225752" y="135046"/>
                  <a:pt x="238675" y="135046"/>
                </a:cubicBezTo>
                <a:lnTo>
                  <a:pt x="238673" y="135045"/>
                </a:lnTo>
                <a:close/>
                <a:moveTo>
                  <a:pt x="211704" y="164067"/>
                </a:moveTo>
                <a:cubicBezTo>
                  <a:pt x="217922" y="164067"/>
                  <a:pt x="222725" y="168911"/>
                  <a:pt x="222725" y="175130"/>
                </a:cubicBezTo>
                <a:cubicBezTo>
                  <a:pt x="222725" y="181348"/>
                  <a:pt x="217922" y="186151"/>
                  <a:pt x="211704" y="186151"/>
                </a:cubicBezTo>
                <a:cubicBezTo>
                  <a:pt x="205485" y="186151"/>
                  <a:pt x="200641" y="181348"/>
                  <a:pt x="200641" y="175130"/>
                </a:cubicBezTo>
                <a:cubicBezTo>
                  <a:pt x="200641" y="168911"/>
                  <a:pt x="205485" y="164067"/>
                  <a:pt x="211704" y="164067"/>
                </a:cubicBezTo>
                <a:close/>
                <a:moveTo>
                  <a:pt x="254893" y="199818"/>
                </a:moveTo>
                <a:cubicBezTo>
                  <a:pt x="266867" y="199818"/>
                  <a:pt x="276352" y="209292"/>
                  <a:pt x="276352" y="221267"/>
                </a:cubicBezTo>
                <a:cubicBezTo>
                  <a:pt x="276352" y="233241"/>
                  <a:pt x="266867" y="242726"/>
                  <a:pt x="254893" y="242726"/>
                </a:cubicBezTo>
                <a:cubicBezTo>
                  <a:pt x="242918" y="242726"/>
                  <a:pt x="233392" y="233241"/>
                  <a:pt x="233392" y="221267"/>
                </a:cubicBezTo>
                <a:cubicBezTo>
                  <a:pt x="233392" y="209292"/>
                  <a:pt x="242918" y="199818"/>
                  <a:pt x="254893" y="199818"/>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TextBox 7"/>
          <p:cNvSpPr/>
          <p:nvPr/>
        </p:nvSpPr>
        <p:spPr>
          <a:xfrm>
            <a:off x="8345520" y="385920"/>
            <a:ext cx="2828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1971" name="TextBox 8"/>
          <p:cNvSpPr/>
          <p:nvPr/>
        </p:nvSpPr>
        <p:spPr>
          <a:xfrm>
            <a:off x="495360" y="603360"/>
            <a:ext cx="3368520" cy="21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800" spc="-1" strike="noStrike">
                <a:solidFill>
                  <a:srgbClr val="ffffff"/>
                </a:solidFill>
                <a:latin typeface="Roboto Thin"/>
                <a:ea typeface="Roboto Thin"/>
              </a:rPr>
              <a:t>.01</a:t>
            </a:r>
            <a:endParaRPr b="0" lang="en-US" sz="13800" spc="-1" strike="noStrike">
              <a:solidFill>
                <a:srgbClr val="000000"/>
              </a:solidFill>
              <a:latin typeface="Calibri"/>
            </a:endParaRPr>
          </a:p>
        </p:txBody>
      </p:sp>
      <p:sp>
        <p:nvSpPr>
          <p:cNvPr id="1972" name="TextBox 9"/>
          <p:cNvSpPr/>
          <p:nvPr/>
        </p:nvSpPr>
        <p:spPr>
          <a:xfrm>
            <a:off x="903240" y="3589200"/>
            <a:ext cx="265752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Roboto Black"/>
                <a:ea typeface="Roboto Black"/>
              </a:rPr>
              <a:t>Lorem Ipsum Dolour Sit</a:t>
            </a:r>
            <a:endParaRPr b="0" lang="en-US" sz="3200" spc="-1" strike="noStrike">
              <a:solidFill>
                <a:srgbClr val="000000"/>
              </a:solidFill>
              <a:latin typeface="Calibri"/>
            </a:endParaRPr>
          </a:p>
        </p:txBody>
      </p:sp>
      <p:sp>
        <p:nvSpPr>
          <p:cNvPr id="1973" name="TextBox 10"/>
          <p:cNvSpPr/>
          <p:nvPr/>
        </p:nvSpPr>
        <p:spPr>
          <a:xfrm>
            <a:off x="8626320" y="4092480"/>
            <a:ext cx="2702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74" name="Rectangle: Rounded Corners 11"/>
          <p:cNvSpPr/>
          <p:nvPr/>
        </p:nvSpPr>
        <p:spPr>
          <a:xfrm>
            <a:off x="8790120" y="2498760"/>
            <a:ext cx="320400" cy="320760"/>
          </a:xfrm>
          <a:custGeom>
            <a:avLst/>
            <a:gdLst>
              <a:gd name="textAreaLeft" fmla="*/ 15480 w 320400"/>
              <a:gd name="textAreaRight" fmla="*/ 304920 w 320400"/>
              <a:gd name="textAreaTop" fmla="*/ 15480 h 320760"/>
              <a:gd name="textAreaBottom" fmla="*/ 305280 h 320760"/>
            </a:gdLst>
            <a:ahLst/>
            <a:rect l="textAreaLeft" t="textAreaTop" r="textAreaRight" b="textAreaBottom"/>
            <a:pathLst>
              <a:path w="21600" h="21624">
                <a:moveTo>
                  <a:pt x="3600" y="0"/>
                </a:moveTo>
                <a:arcTo wR="3600" hR="3600" stAng="16200000" swAng="-5400000"/>
                <a:lnTo>
                  <a:pt x="0" y="18024"/>
                </a:lnTo>
                <a:arcTo wR="3600" hR="3600" stAng="10800000" swAng="-5400000"/>
                <a:lnTo>
                  <a:pt x="18000" y="21624"/>
                </a:lnTo>
                <a:arcTo wR="3600" hR="3600" stAng="5400000" swAng="-5400000"/>
                <a:lnTo>
                  <a:pt x="21600" y="3600"/>
                </a:lnTo>
                <a:arcTo wR="3600" hR="3600" stAng="0" swAng="-5400000"/>
                <a:close/>
              </a:path>
            </a:pathLst>
          </a:cu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5" name="Rectangle: Rounded Corners 12"/>
          <p:cNvSpPr/>
          <p:nvPr/>
        </p:nvSpPr>
        <p:spPr>
          <a:xfrm>
            <a:off x="9223200" y="2498760"/>
            <a:ext cx="320760" cy="320760"/>
          </a:xfrm>
          <a:prstGeom prst="roundRect">
            <a:avLst>
              <a:gd name="adj" fmla="val 16667"/>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6" name="TextBox 13"/>
          <p:cNvSpPr/>
          <p:nvPr/>
        </p:nvSpPr>
        <p:spPr>
          <a:xfrm>
            <a:off x="8626320" y="3646440"/>
            <a:ext cx="30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grpSp>
        <p:nvGrpSpPr>
          <p:cNvPr id="1977" name="Group 16"/>
          <p:cNvGrpSpPr/>
          <p:nvPr/>
        </p:nvGrpSpPr>
        <p:grpSpPr>
          <a:xfrm>
            <a:off x="2529360" y="6226200"/>
            <a:ext cx="776520" cy="191520"/>
            <a:chOff x="2529360" y="6226200"/>
            <a:chExt cx="776520" cy="191520"/>
          </a:xfrm>
        </p:grpSpPr>
        <p:sp>
          <p:nvSpPr>
            <p:cNvPr id="1978" name="L-Shape 17"/>
            <p:cNvSpPr/>
            <p:nvPr/>
          </p:nvSpPr>
          <p:spPr>
            <a:xfrm rot="2700000">
              <a:off x="2557080" y="6254640"/>
              <a:ext cx="135000" cy="135000"/>
            </a:xfrm>
            <a:custGeom>
              <a:avLst/>
              <a:gdLst/>
              <a:ahLst/>
              <a:rect l="l" t="t" r="r" b="b"/>
              <a:pathLst>
                <a:path w="168467" h="168467">
                  <a:moveTo>
                    <a:pt x="0" y="0"/>
                  </a:moveTo>
                  <a:lnTo>
                    <a:pt x="59666" y="0"/>
                  </a:lnTo>
                  <a:lnTo>
                    <a:pt x="59666" y="108801"/>
                  </a:lnTo>
                  <a:lnTo>
                    <a:pt x="168467" y="108801"/>
                  </a:lnTo>
                  <a:lnTo>
                    <a:pt x="168467" y="168467"/>
                  </a:lnTo>
                  <a:lnTo>
                    <a:pt x="0" y="168467"/>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79" name="L-Shape 18"/>
            <p:cNvSpPr/>
            <p:nvPr/>
          </p:nvSpPr>
          <p:spPr>
            <a:xfrm rot="13500000">
              <a:off x="3142800" y="6253920"/>
              <a:ext cx="135000" cy="135000"/>
            </a:xfrm>
            <a:custGeom>
              <a:avLst/>
              <a:gdLst/>
              <a:ahLst/>
              <a:rect l="l" t="t" r="r" b="b"/>
              <a:pathLst>
                <a:path w="168467" h="168467">
                  <a:moveTo>
                    <a:pt x="0" y="0"/>
                  </a:moveTo>
                  <a:lnTo>
                    <a:pt x="59666" y="0"/>
                  </a:lnTo>
                  <a:lnTo>
                    <a:pt x="59666" y="108801"/>
                  </a:lnTo>
                  <a:lnTo>
                    <a:pt x="168467" y="108801"/>
                  </a:lnTo>
                  <a:lnTo>
                    <a:pt x="168467" y="168467"/>
                  </a:lnTo>
                  <a:lnTo>
                    <a:pt x="0" y="168467"/>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980" name="TextBox 23"/>
          <p:cNvSpPr/>
          <p:nvPr/>
        </p:nvSpPr>
        <p:spPr>
          <a:xfrm>
            <a:off x="1276200" y="4686480"/>
            <a:ext cx="228456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 error sit great ness</a:t>
            </a:r>
            <a:r>
              <a:rPr b="0" lang="en-GB" sz="1100" spc="-1" strike="noStrike">
                <a:solidFill>
                  <a:srgbClr val="ffffff"/>
                </a:solidFill>
                <a:latin typeface="Lato"/>
              </a:rPr>
              <a:t>.</a:t>
            </a:r>
            <a:endParaRPr b="0" lang="en-US" sz="1100" spc="-1" strike="noStrike">
              <a:solidFill>
                <a:srgbClr val="000000"/>
              </a:solidFill>
              <a:latin typeface="Calibri"/>
            </a:endParaRPr>
          </a:p>
        </p:txBody>
      </p:sp>
      <p:pic>
        <p:nvPicPr>
          <p:cNvPr id="1981" name="Graphic 14" descr=""/>
          <p:cNvPicPr/>
          <p:nvPr/>
        </p:nvPicPr>
        <p:blipFill>
          <a:blip r:embed="rId1"/>
          <a:stretch/>
        </p:blipFill>
        <p:spPr>
          <a:xfrm>
            <a:off x="11379240" y="355680"/>
            <a:ext cx="366840" cy="36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3"/>
          <p:cNvSpPr/>
          <p:nvPr/>
        </p:nvSpPr>
        <p:spPr>
          <a:xfrm>
            <a:off x="4884840" y="1650960"/>
            <a:ext cx="826920" cy="396864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8" name="Rectangle 4"/>
          <p:cNvSpPr/>
          <p:nvPr/>
        </p:nvSpPr>
        <p:spPr>
          <a:xfrm>
            <a:off x="11364840" y="0"/>
            <a:ext cx="827280" cy="165096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9" name="TextBox 5"/>
          <p:cNvSpPr/>
          <p:nvPr/>
        </p:nvSpPr>
        <p:spPr>
          <a:xfrm>
            <a:off x="6588000" y="1874880"/>
            <a:ext cx="38563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Roboto Black"/>
                <a:ea typeface="Roboto Black"/>
              </a:rPr>
              <a:t>Create A </a:t>
            </a:r>
            <a:r>
              <a:rPr b="0" i="1" lang="en-GB" sz="4800" spc="-1" strike="noStrike">
                <a:solidFill>
                  <a:srgbClr val="236e96"/>
                </a:solidFill>
                <a:latin typeface="Roboto Black"/>
                <a:ea typeface="Roboto Black"/>
              </a:rPr>
              <a:t>Home-Based</a:t>
            </a:r>
            <a:r>
              <a:rPr b="0" lang="en-GB" sz="4800" spc="-1" strike="noStrike">
                <a:solidFill>
                  <a:srgbClr val="000000"/>
                </a:solidFill>
                <a:latin typeface="Roboto Black"/>
                <a:ea typeface="Roboto Black"/>
              </a:rPr>
              <a:t> Office</a:t>
            </a:r>
            <a:endParaRPr b="0" lang="en-US" sz="4800" spc="-1" strike="noStrike">
              <a:solidFill>
                <a:srgbClr val="000000"/>
              </a:solidFill>
              <a:latin typeface="Calibri"/>
            </a:endParaRPr>
          </a:p>
        </p:txBody>
      </p:sp>
      <p:sp>
        <p:nvSpPr>
          <p:cNvPr id="1720" name="TextBox 6"/>
          <p:cNvSpPr/>
          <p:nvPr/>
        </p:nvSpPr>
        <p:spPr>
          <a:xfrm>
            <a:off x="6573960" y="4545000"/>
            <a:ext cx="41018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 quae ab illo inventore veritatis et quasi architecto beatae vitaecal dicta sunt</a:t>
            </a:r>
            <a:r>
              <a:rPr b="0" lang="en-GB" sz="1100" spc="-1" strike="noStrike">
                <a:solidFill>
                  <a:srgbClr val="7f7f7f"/>
                </a:solidFill>
                <a:latin typeface="Lato"/>
              </a:rPr>
              <a:t>.</a:t>
            </a:r>
            <a:endParaRPr b="0" lang="en-US" sz="1100" spc="-1" strike="noStrike">
              <a:solidFill>
                <a:srgbClr val="000000"/>
              </a:solidFill>
              <a:latin typeface="Calibri"/>
            </a:endParaRPr>
          </a:p>
        </p:txBody>
      </p:sp>
      <p:grpSp>
        <p:nvGrpSpPr>
          <p:cNvPr id="1721" name="Group 15"/>
          <p:cNvGrpSpPr/>
          <p:nvPr/>
        </p:nvGrpSpPr>
        <p:grpSpPr>
          <a:xfrm>
            <a:off x="5098680" y="2271600"/>
            <a:ext cx="412200" cy="2726280"/>
            <a:chOff x="5098680" y="2271600"/>
            <a:chExt cx="412200" cy="2726280"/>
          </a:xfrm>
        </p:grpSpPr>
        <p:sp>
          <p:nvSpPr>
            <p:cNvPr id="1722" name="TextBox 10"/>
            <p:cNvSpPr/>
            <p:nvPr/>
          </p:nvSpPr>
          <p:spPr>
            <a:xfrm>
              <a:off x="5098680" y="2271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ontserrat"/>
                </a:rPr>
                <a:t>01</a:t>
              </a:r>
              <a:endParaRPr b="0" lang="en-US" sz="1600" spc="-1" strike="noStrike">
                <a:solidFill>
                  <a:srgbClr val="000000"/>
                </a:solidFill>
                <a:latin typeface="Calibri"/>
              </a:endParaRPr>
            </a:p>
          </p:txBody>
        </p:sp>
        <p:sp>
          <p:nvSpPr>
            <p:cNvPr id="1723" name="TextBox 11"/>
            <p:cNvSpPr/>
            <p:nvPr/>
          </p:nvSpPr>
          <p:spPr>
            <a:xfrm>
              <a:off x="5098680" y="46605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ontserrat"/>
                </a:rPr>
                <a:t>02</a:t>
              </a:r>
              <a:endParaRPr b="0" lang="en-US" sz="1600" spc="-1" strike="noStrike">
                <a:solidFill>
                  <a:srgbClr val="000000"/>
                </a:solidFill>
                <a:latin typeface="Calibri"/>
              </a:endParaRPr>
            </a:p>
          </p:txBody>
        </p:sp>
      </p:grpSp>
      <p:sp>
        <p:nvSpPr>
          <p:cNvPr id="1724" name="Straight Connector 13"/>
          <p:cNvSpPr/>
          <p:nvPr/>
        </p:nvSpPr>
        <p:spPr>
          <a:xfrm>
            <a:off x="5305320" y="3002040"/>
            <a:ext cx="0" cy="12668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5" name="Oval 16"/>
          <p:cNvSpPr/>
          <p:nvPr/>
        </p:nvSpPr>
        <p:spPr>
          <a:xfrm>
            <a:off x="5245200" y="323064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6" name="TextBox 22"/>
          <p:cNvSpPr/>
          <p:nvPr/>
        </p:nvSpPr>
        <p:spPr>
          <a:xfrm>
            <a:off x="6588000" y="1204920"/>
            <a:ext cx="23846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f7f7f"/>
                </a:solidFill>
                <a:latin typeface="Montserrat"/>
              </a:rPr>
              <a:t>ABOUT TELEWORKING</a:t>
            </a:r>
            <a:endParaRPr b="0" lang="en-US" sz="1400" spc="-1" strike="noStrike">
              <a:solidFill>
                <a:srgbClr val="000000"/>
              </a:solidFill>
              <a:latin typeface="Calibri"/>
            </a:endParaRPr>
          </a:p>
        </p:txBody>
      </p:sp>
      <p:sp>
        <p:nvSpPr>
          <p:cNvPr id="1727" name="Straight Connector 23"/>
          <p:cNvSpPr/>
          <p:nvPr/>
        </p:nvSpPr>
        <p:spPr>
          <a:xfrm>
            <a:off x="9113760" y="1357200"/>
            <a:ext cx="79380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28" name="Group 27"/>
          <p:cNvGrpSpPr/>
          <p:nvPr/>
        </p:nvGrpSpPr>
        <p:grpSpPr>
          <a:xfrm>
            <a:off x="11682720" y="437040"/>
            <a:ext cx="191520" cy="776520"/>
            <a:chOff x="11682720" y="437040"/>
            <a:chExt cx="191520" cy="776520"/>
          </a:xfrm>
        </p:grpSpPr>
        <p:sp>
          <p:nvSpPr>
            <p:cNvPr id="1729" name="L-Shape 25"/>
            <p:cNvSpPr/>
            <p:nvPr/>
          </p:nvSpPr>
          <p:spPr>
            <a:xfrm rot="8100000">
              <a:off x="11710800" y="464760"/>
              <a:ext cx="134640" cy="135000"/>
            </a:xfrm>
            <a:custGeom>
              <a:avLst/>
              <a:gdLst/>
              <a:ahLst/>
              <a:rect l="l" t="t" r="r" b="b"/>
              <a:pathLst>
                <a:path w="168467" h="168467">
                  <a:moveTo>
                    <a:pt x="0" y="0"/>
                  </a:moveTo>
                  <a:lnTo>
                    <a:pt x="59666" y="0"/>
                  </a:lnTo>
                  <a:lnTo>
                    <a:pt x="59666" y="108801"/>
                  </a:lnTo>
                  <a:lnTo>
                    <a:pt x="168467" y="108801"/>
                  </a:lnTo>
                  <a:lnTo>
                    <a:pt x="168467" y="168467"/>
                  </a:lnTo>
                  <a:lnTo>
                    <a:pt x="0" y="168467"/>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30" name="L-Shape 26"/>
            <p:cNvSpPr/>
            <p:nvPr/>
          </p:nvSpPr>
          <p:spPr>
            <a:xfrm rot="18900000">
              <a:off x="11711160" y="1050480"/>
              <a:ext cx="134640" cy="135000"/>
            </a:xfrm>
            <a:custGeom>
              <a:avLst/>
              <a:gdLst/>
              <a:ahLst/>
              <a:rect l="l" t="t" r="r" b="b"/>
              <a:pathLst>
                <a:path w="168467" h="168467">
                  <a:moveTo>
                    <a:pt x="0" y="0"/>
                  </a:moveTo>
                  <a:lnTo>
                    <a:pt x="59666" y="0"/>
                  </a:lnTo>
                  <a:lnTo>
                    <a:pt x="59666" y="108801"/>
                  </a:lnTo>
                  <a:lnTo>
                    <a:pt x="168467" y="108801"/>
                  </a:lnTo>
                  <a:lnTo>
                    <a:pt x="168467" y="168467"/>
                  </a:lnTo>
                  <a:lnTo>
                    <a:pt x="0" y="168467"/>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731" name="TextBox 28"/>
          <p:cNvSpPr/>
          <p:nvPr/>
        </p:nvSpPr>
        <p:spPr>
          <a:xfrm rot="16200000">
            <a:off x="-95580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pic>
        <p:nvPicPr>
          <p:cNvPr id="1732" name="Graphic 18" descr=""/>
          <p:cNvPicPr/>
          <p:nvPr/>
        </p:nvPicPr>
        <p:blipFill>
          <a:blip r:embed="rId1"/>
          <a:stretch/>
        </p:blipFill>
        <p:spPr>
          <a:xfrm>
            <a:off x="276120" y="312840"/>
            <a:ext cx="366840" cy="36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TextBox 13"/>
          <p:cNvSpPr/>
          <p:nvPr/>
        </p:nvSpPr>
        <p:spPr>
          <a:xfrm>
            <a:off x="574560" y="4843440"/>
            <a:ext cx="270216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83" name="TextBox 14"/>
          <p:cNvSpPr/>
          <p:nvPr/>
        </p:nvSpPr>
        <p:spPr>
          <a:xfrm>
            <a:off x="574560" y="4425840"/>
            <a:ext cx="270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Service Here</a:t>
            </a:r>
            <a:endParaRPr b="0" lang="en-US" sz="1800" spc="-1" strike="noStrike">
              <a:solidFill>
                <a:srgbClr val="000000"/>
              </a:solidFill>
              <a:latin typeface="Calibri"/>
            </a:endParaRPr>
          </a:p>
        </p:txBody>
      </p:sp>
      <p:sp>
        <p:nvSpPr>
          <p:cNvPr id="1984" name="TextBox 15"/>
          <p:cNvSpPr/>
          <p:nvPr/>
        </p:nvSpPr>
        <p:spPr>
          <a:xfrm>
            <a:off x="8915400" y="4621320"/>
            <a:ext cx="27018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85" name="TextBox 16"/>
          <p:cNvSpPr/>
          <p:nvPr/>
        </p:nvSpPr>
        <p:spPr>
          <a:xfrm>
            <a:off x="8915400" y="4203720"/>
            <a:ext cx="270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Service Here</a:t>
            </a:r>
            <a:endParaRPr b="0" lang="en-US" sz="1800" spc="-1" strike="noStrike">
              <a:solidFill>
                <a:srgbClr val="000000"/>
              </a:solidFill>
              <a:latin typeface="Calibri"/>
            </a:endParaRPr>
          </a:p>
        </p:txBody>
      </p:sp>
      <p:sp>
        <p:nvSpPr>
          <p:cNvPr id="1986" name="TextBox 17"/>
          <p:cNvSpPr/>
          <p:nvPr/>
        </p:nvSpPr>
        <p:spPr>
          <a:xfrm>
            <a:off x="8915400" y="2482920"/>
            <a:ext cx="27018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87" name="TextBox 18"/>
          <p:cNvSpPr/>
          <p:nvPr/>
        </p:nvSpPr>
        <p:spPr>
          <a:xfrm>
            <a:off x="8915400" y="2065320"/>
            <a:ext cx="270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Service Here</a:t>
            </a:r>
            <a:endParaRPr b="0" lang="en-US" sz="1800" spc="-1" strike="noStrike">
              <a:solidFill>
                <a:srgbClr val="000000"/>
              </a:solidFill>
              <a:latin typeface="Calibri"/>
            </a:endParaRPr>
          </a:p>
        </p:txBody>
      </p:sp>
      <p:sp>
        <p:nvSpPr>
          <p:cNvPr id="1988" name="TextBox 28"/>
          <p:cNvSpPr/>
          <p:nvPr/>
        </p:nvSpPr>
        <p:spPr>
          <a:xfrm>
            <a:off x="819000" y="1420920"/>
            <a:ext cx="2657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Roboto Black"/>
                <a:ea typeface="Roboto Black"/>
              </a:rPr>
              <a:t>Lorem </a:t>
            </a:r>
            <a:r>
              <a:rPr b="0" i="1" lang="en-GB" sz="3200" spc="-1" strike="noStrike">
                <a:solidFill>
                  <a:srgbClr val="236e96"/>
                </a:solidFill>
                <a:latin typeface="Roboto Black"/>
                <a:ea typeface="Roboto Black"/>
              </a:rPr>
              <a:t>Ipsum</a:t>
            </a:r>
            <a:r>
              <a:rPr b="0" lang="en-GB" sz="3200" spc="-1" strike="noStrike">
                <a:solidFill>
                  <a:srgbClr val="000000"/>
                </a:solidFill>
                <a:latin typeface="Roboto Black"/>
                <a:ea typeface="Roboto Black"/>
              </a:rPr>
              <a:t> Dolour </a:t>
            </a:r>
            <a:r>
              <a:rPr b="0" i="1" lang="en-GB" sz="3200" spc="-1" strike="noStrike">
                <a:solidFill>
                  <a:srgbClr val="236e96"/>
                </a:solidFill>
                <a:latin typeface="Roboto Black"/>
                <a:ea typeface="Roboto Black"/>
              </a:rPr>
              <a:t>Sit</a:t>
            </a:r>
            <a:endParaRPr b="0" lang="en-US" sz="3200" spc="-1" strike="noStrike">
              <a:solidFill>
                <a:srgbClr val="000000"/>
              </a:solidFill>
              <a:latin typeface="Calibri"/>
            </a:endParaRPr>
          </a:p>
        </p:txBody>
      </p:sp>
      <p:sp>
        <p:nvSpPr>
          <p:cNvPr id="1989" name="TextBox 29"/>
          <p:cNvSpPr/>
          <p:nvPr/>
        </p:nvSpPr>
        <p:spPr>
          <a:xfrm>
            <a:off x="819000" y="2509920"/>
            <a:ext cx="22845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90" name="Rectangle 31"/>
          <p:cNvSpPr/>
          <p:nvPr/>
        </p:nvSpPr>
        <p:spPr>
          <a:xfrm>
            <a:off x="-333360" y="958680"/>
            <a:ext cx="5343480" cy="2718000"/>
          </a:xfrm>
          <a:prstGeom prst="rect">
            <a:avLst/>
          </a:prstGeom>
          <a:noFill/>
          <a:ln w="60480">
            <a:solidFill>
              <a:srgbClr val="ffbe4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91" name="Group 34"/>
          <p:cNvGrpSpPr/>
          <p:nvPr/>
        </p:nvGrpSpPr>
        <p:grpSpPr>
          <a:xfrm>
            <a:off x="9890280" y="846000"/>
            <a:ext cx="753840" cy="320760"/>
            <a:chOff x="9890280" y="846000"/>
            <a:chExt cx="753840" cy="320760"/>
          </a:xfrm>
        </p:grpSpPr>
        <p:sp>
          <p:nvSpPr>
            <p:cNvPr id="1992" name="Rectangle: Rounded Corners 32"/>
            <p:cNvSpPr/>
            <p:nvPr/>
          </p:nvSpPr>
          <p:spPr>
            <a:xfrm>
              <a:off x="9890280" y="846000"/>
              <a:ext cx="320040" cy="320760"/>
            </a:xfrm>
            <a:custGeom>
              <a:avLst/>
              <a:gdLst>
                <a:gd name="textAreaLeft" fmla="*/ 15480 w 320040"/>
                <a:gd name="textAreaRight" fmla="*/ 304560 w 320040"/>
                <a:gd name="textAreaTop" fmla="*/ 15480 h 320760"/>
                <a:gd name="textAreaBottom" fmla="*/ 305280 h 32076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3" name="Rectangle: Rounded Corners 33"/>
            <p:cNvSpPr/>
            <p:nvPr/>
          </p:nvSpPr>
          <p:spPr>
            <a:xfrm>
              <a:off x="10324080" y="846000"/>
              <a:ext cx="320040" cy="320760"/>
            </a:xfrm>
            <a:custGeom>
              <a:avLst/>
              <a:gdLst>
                <a:gd name="textAreaLeft" fmla="*/ 15480 w 320040"/>
                <a:gd name="textAreaRight" fmla="*/ 304560 w 320040"/>
                <a:gd name="textAreaTop" fmla="*/ 15480 h 320760"/>
                <a:gd name="textAreaBottom" fmla="*/ 305280 h 32076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994" name="Group 35" descr=""/>
          <p:cNvPicPr/>
          <p:nvPr/>
        </p:nvPicPr>
        <p:blipFill>
          <a:blip r:embed="rId1"/>
          <a:stretch/>
        </p:blipFill>
        <p:spPr>
          <a:xfrm>
            <a:off x="1316160" y="6278400"/>
            <a:ext cx="1218960" cy="21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TextBox 7"/>
          <p:cNvSpPr/>
          <p:nvPr/>
        </p:nvSpPr>
        <p:spPr>
          <a:xfrm>
            <a:off x="8151840" y="2409840"/>
            <a:ext cx="25351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96" name="TextBox 8"/>
          <p:cNvSpPr/>
          <p:nvPr/>
        </p:nvSpPr>
        <p:spPr>
          <a:xfrm>
            <a:off x="8151840" y="2109960"/>
            <a:ext cx="230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95959"/>
                </a:solidFill>
                <a:latin typeface="Lato Black"/>
              </a:rPr>
              <a:t>Your Text Here</a:t>
            </a:r>
            <a:endParaRPr b="0" lang="en-US" sz="1600" spc="-1" strike="noStrike">
              <a:solidFill>
                <a:srgbClr val="000000"/>
              </a:solidFill>
              <a:latin typeface="Calibri"/>
            </a:endParaRPr>
          </a:p>
        </p:txBody>
      </p:sp>
      <p:sp>
        <p:nvSpPr>
          <p:cNvPr id="1997" name="TextBox 11"/>
          <p:cNvSpPr/>
          <p:nvPr/>
        </p:nvSpPr>
        <p:spPr>
          <a:xfrm>
            <a:off x="8151840" y="3795840"/>
            <a:ext cx="25351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998" name="TextBox 12"/>
          <p:cNvSpPr/>
          <p:nvPr/>
        </p:nvSpPr>
        <p:spPr>
          <a:xfrm>
            <a:off x="8151840" y="3497400"/>
            <a:ext cx="230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95959"/>
                </a:solidFill>
                <a:latin typeface="Lato Black"/>
              </a:rPr>
              <a:t>Your Text Here</a:t>
            </a:r>
            <a:endParaRPr b="0" lang="en-US" sz="1600" spc="-1" strike="noStrike">
              <a:solidFill>
                <a:srgbClr val="000000"/>
              </a:solidFill>
              <a:latin typeface="Calibri"/>
            </a:endParaRPr>
          </a:p>
        </p:txBody>
      </p:sp>
      <p:sp>
        <p:nvSpPr>
          <p:cNvPr id="1999" name="TextBox 13"/>
          <p:cNvSpPr/>
          <p:nvPr/>
        </p:nvSpPr>
        <p:spPr>
          <a:xfrm>
            <a:off x="8151840" y="5181480"/>
            <a:ext cx="25351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000" name="TextBox 14"/>
          <p:cNvSpPr/>
          <p:nvPr/>
        </p:nvSpPr>
        <p:spPr>
          <a:xfrm>
            <a:off x="8151840" y="4883040"/>
            <a:ext cx="230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95959"/>
                </a:solidFill>
                <a:latin typeface="Lato Black"/>
              </a:rPr>
              <a:t>Your Text Here</a:t>
            </a:r>
            <a:endParaRPr b="0" lang="en-US" sz="1600" spc="-1" strike="noStrike">
              <a:solidFill>
                <a:srgbClr val="000000"/>
              </a:solidFill>
              <a:latin typeface="Calibri"/>
            </a:endParaRPr>
          </a:p>
        </p:txBody>
      </p:sp>
      <p:sp>
        <p:nvSpPr>
          <p:cNvPr id="2001" name="TextBox 15"/>
          <p:cNvSpPr/>
          <p:nvPr/>
        </p:nvSpPr>
        <p:spPr>
          <a:xfrm>
            <a:off x="1144440" y="2314440"/>
            <a:ext cx="24955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Roboto Black"/>
                <a:ea typeface="Roboto Black"/>
              </a:rPr>
              <a:t>Your </a:t>
            </a:r>
            <a:r>
              <a:rPr b="0" i="1" lang="en-GB" sz="4000" spc="-1" strike="noStrike">
                <a:solidFill>
                  <a:srgbClr val="236e96"/>
                </a:solidFill>
                <a:latin typeface="Roboto Black"/>
                <a:ea typeface="Roboto Black"/>
              </a:rPr>
              <a:t>Text</a:t>
            </a:r>
            <a:r>
              <a:rPr b="0" lang="en-GB" sz="4000" spc="-1" strike="noStrike">
                <a:solidFill>
                  <a:srgbClr val="000000"/>
                </a:solidFill>
                <a:latin typeface="Roboto Black"/>
                <a:ea typeface="Roboto Black"/>
              </a:rPr>
              <a:t> Here</a:t>
            </a:r>
            <a:endParaRPr b="0" lang="en-US" sz="4000" spc="-1" strike="noStrike">
              <a:solidFill>
                <a:srgbClr val="000000"/>
              </a:solidFill>
              <a:latin typeface="Calibri"/>
            </a:endParaRPr>
          </a:p>
        </p:txBody>
      </p:sp>
      <p:sp>
        <p:nvSpPr>
          <p:cNvPr id="2002" name="TextBox 16"/>
          <p:cNvSpPr/>
          <p:nvPr/>
        </p:nvSpPr>
        <p:spPr>
          <a:xfrm>
            <a:off x="938160" y="4280040"/>
            <a:ext cx="2701800" cy="1097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003" name="Straight Connector 18"/>
          <p:cNvSpPr/>
          <p:nvPr/>
        </p:nvSpPr>
        <p:spPr>
          <a:xfrm>
            <a:off x="2760840" y="3949560"/>
            <a:ext cx="750600" cy="0"/>
          </a:xfrm>
          <a:prstGeom prst="line">
            <a:avLst/>
          </a:prstGeom>
          <a:ln w="507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4" name="Rectangle 20"/>
          <p:cNvSpPr/>
          <p:nvPr/>
        </p:nvSpPr>
        <p:spPr>
          <a:xfrm>
            <a:off x="0" y="6356520"/>
            <a:ext cx="1962000" cy="5014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5" name="TextBox 22"/>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pic>
        <p:nvPicPr>
          <p:cNvPr id="2006" name="Graphic 17" descr=""/>
          <p:cNvPicPr/>
          <p:nvPr/>
        </p:nvPicPr>
        <p:blipFill>
          <a:blip r:embed="rId1"/>
          <a:stretch/>
        </p:blipFill>
        <p:spPr>
          <a:xfrm>
            <a:off x="363600" y="351000"/>
            <a:ext cx="366480" cy="36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Slide Number Placeholder 1"/>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F23D-F7A2-4FFD-9591-CEFB9219FB2F}" type="slidenum">
              <a:rPr b="0" lang="en-ID" sz="1600" spc="-1" strike="noStrike">
                <a:solidFill>
                  <a:srgbClr val="ffffff"/>
                </a:solidFill>
                <a:latin typeface="Lato"/>
                <a:ea typeface="Arial"/>
              </a:rPr>
              <a:t>&lt;number&gt;</a:t>
            </a:fld>
            <a:endParaRPr b="0" lang="en-US" sz="1600" spc="-1" strike="noStrike">
              <a:solidFill>
                <a:srgbClr val="000000"/>
              </a:solidFill>
              <a:latin typeface="Calibri"/>
            </a:endParaRPr>
          </a:p>
        </p:txBody>
      </p:sp>
      <p:grpSp>
        <p:nvGrpSpPr>
          <p:cNvPr id="2008" name="Group 10"/>
          <p:cNvGrpSpPr/>
          <p:nvPr/>
        </p:nvGrpSpPr>
        <p:grpSpPr>
          <a:xfrm>
            <a:off x="5484960" y="6423120"/>
            <a:ext cx="1222200" cy="217440"/>
            <a:chOff x="5484960" y="6423120"/>
            <a:chExt cx="1222200" cy="217440"/>
          </a:xfrm>
        </p:grpSpPr>
        <p:sp>
          <p:nvSpPr>
            <p:cNvPr id="2009" name="Freeform: Shape 34"/>
            <p:cNvSpPr/>
            <p:nvPr/>
          </p:nvSpPr>
          <p:spPr>
            <a:xfrm>
              <a:off x="5484960" y="6447960"/>
              <a:ext cx="209520" cy="167760"/>
            </a:xfrm>
            <a:custGeom>
              <a:avLst/>
              <a:gdLst/>
              <a:ahLst/>
              <a:rect l="l" t="t" r="r" b="b"/>
              <a:pathLst>
                <a:path w="284872" h="228985">
                  <a:moveTo>
                    <a:pt x="238095" y="19069"/>
                  </a:moveTo>
                  <a:cubicBezTo>
                    <a:pt x="207125" y="-16883"/>
                    <a:pt x="130957" y="-3330"/>
                    <a:pt x="136129" y="71103"/>
                  </a:cubicBezTo>
                  <a:cubicBezTo>
                    <a:pt x="136129" y="71103"/>
                    <a:pt x="93556" y="81090"/>
                    <a:pt x="20498" y="16967"/>
                  </a:cubicBezTo>
                  <a:cubicBezTo>
                    <a:pt x="20498" y="16967"/>
                    <a:pt x="8819" y="55654"/>
                    <a:pt x="33522" y="87716"/>
                  </a:cubicBezTo>
                  <a:cubicBezTo>
                    <a:pt x="33522" y="87716"/>
                    <a:pt x="21921" y="89843"/>
                    <a:pt x="9461" y="84243"/>
                  </a:cubicBezTo>
                  <a:cubicBezTo>
                    <a:pt x="9461" y="84243"/>
                    <a:pt x="11037" y="124188"/>
                    <a:pt x="53085" y="137854"/>
                  </a:cubicBezTo>
                  <a:cubicBezTo>
                    <a:pt x="53085" y="137854"/>
                    <a:pt x="41522" y="143109"/>
                    <a:pt x="33113" y="142584"/>
                  </a:cubicBezTo>
                  <a:cubicBezTo>
                    <a:pt x="33113" y="142584"/>
                    <a:pt x="42048" y="173068"/>
                    <a:pt x="79890" y="176222"/>
                  </a:cubicBezTo>
                  <a:cubicBezTo>
                    <a:pt x="79890" y="176222"/>
                    <a:pt x="61495" y="210385"/>
                    <a:pt x="0" y="206706"/>
                  </a:cubicBezTo>
                  <a:cubicBezTo>
                    <a:pt x="77218" y="253969"/>
                    <a:pt x="259204" y="235498"/>
                    <a:pt x="249995" y="58261"/>
                  </a:cubicBezTo>
                  <a:lnTo>
                    <a:pt x="284873" y="29056"/>
                  </a:lnTo>
                  <a:lnTo>
                    <a:pt x="254388" y="35363"/>
                  </a:lnTo>
                  <a:lnTo>
                    <a:pt x="279091" y="6980"/>
                  </a:lnTo>
                  <a:lnTo>
                    <a:pt x="238095" y="190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0" name="Freeform: Shape 35"/>
            <p:cNvSpPr/>
            <p:nvPr/>
          </p:nvSpPr>
          <p:spPr>
            <a:xfrm>
              <a:off x="6051960" y="6423120"/>
              <a:ext cx="104040" cy="217440"/>
            </a:xfrm>
            <a:custGeom>
              <a:avLst/>
              <a:gdLst/>
              <a:ahLst/>
              <a:rect l="l" t="t" r="r" b="b"/>
              <a:pathLst>
                <a:path w="141378" h="296691">
                  <a:moveTo>
                    <a:pt x="84616" y="0"/>
                  </a:moveTo>
                  <a:cubicBezTo>
                    <a:pt x="62843" y="0"/>
                    <a:pt x="33105" y="21479"/>
                    <a:pt x="33105" y="52031"/>
                  </a:cubicBezTo>
                  <a:lnTo>
                    <a:pt x="33105" y="78567"/>
                  </a:lnTo>
                  <a:lnTo>
                    <a:pt x="33105" y="91705"/>
                  </a:lnTo>
                  <a:lnTo>
                    <a:pt x="0" y="91705"/>
                  </a:lnTo>
                  <a:lnTo>
                    <a:pt x="0" y="150061"/>
                  </a:lnTo>
                  <a:lnTo>
                    <a:pt x="33105" y="150061"/>
                  </a:lnTo>
                  <a:lnTo>
                    <a:pt x="33105" y="296692"/>
                  </a:lnTo>
                  <a:lnTo>
                    <a:pt x="88827" y="296692"/>
                  </a:lnTo>
                  <a:lnTo>
                    <a:pt x="88827" y="150061"/>
                  </a:lnTo>
                  <a:lnTo>
                    <a:pt x="139281" y="150061"/>
                  </a:lnTo>
                  <a:lnTo>
                    <a:pt x="139281" y="91705"/>
                  </a:lnTo>
                  <a:lnTo>
                    <a:pt x="88827" y="91705"/>
                  </a:lnTo>
                  <a:lnTo>
                    <a:pt x="88827" y="78567"/>
                  </a:lnTo>
                  <a:lnTo>
                    <a:pt x="88827" y="61495"/>
                  </a:lnTo>
                  <a:cubicBezTo>
                    <a:pt x="88827" y="56187"/>
                    <a:pt x="90423" y="48877"/>
                    <a:pt x="101445" y="48877"/>
                  </a:cubicBezTo>
                  <a:lnTo>
                    <a:pt x="141379" y="48877"/>
                  </a:lnTo>
                  <a:lnTo>
                    <a:pt x="141379" y="0"/>
                  </a:lnTo>
                  <a:lnTo>
                    <a:pt x="8461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1" name="Freeform: Shape 36"/>
            <p:cNvSpPr/>
            <p:nvPr/>
          </p:nvSpPr>
          <p:spPr>
            <a:xfrm>
              <a:off x="6533640" y="6446520"/>
              <a:ext cx="173520" cy="170640"/>
            </a:xfrm>
            <a:custGeom>
              <a:avLst/>
              <a:gdLst/>
              <a:ahLst/>
              <a:rect l="l" t="t" r="r" b="b"/>
              <a:pathLst>
                <a:path w="235575" h="232738">
                  <a:moveTo>
                    <a:pt x="56039" y="0"/>
                  </a:moveTo>
                  <a:cubicBezTo>
                    <a:pt x="25194" y="0"/>
                    <a:pt x="0" y="25193"/>
                    <a:pt x="0" y="56039"/>
                  </a:cubicBezTo>
                  <a:lnTo>
                    <a:pt x="0" y="176685"/>
                  </a:lnTo>
                  <a:cubicBezTo>
                    <a:pt x="0" y="207530"/>
                    <a:pt x="25194" y="232738"/>
                    <a:pt x="56039" y="232738"/>
                  </a:cubicBezTo>
                  <a:lnTo>
                    <a:pt x="179522" y="232738"/>
                  </a:lnTo>
                  <a:cubicBezTo>
                    <a:pt x="210367" y="232738"/>
                    <a:pt x="235575" y="207530"/>
                    <a:pt x="235575" y="176685"/>
                  </a:cubicBezTo>
                  <a:lnTo>
                    <a:pt x="235575" y="56039"/>
                  </a:lnTo>
                  <a:cubicBezTo>
                    <a:pt x="235575" y="25193"/>
                    <a:pt x="210367" y="0"/>
                    <a:pt x="179522" y="0"/>
                  </a:cubicBezTo>
                  <a:lnTo>
                    <a:pt x="56039" y="0"/>
                  </a:lnTo>
                  <a:close/>
                  <a:moveTo>
                    <a:pt x="56039" y="22706"/>
                  </a:moveTo>
                  <a:lnTo>
                    <a:pt x="179522" y="22706"/>
                  </a:lnTo>
                  <a:cubicBezTo>
                    <a:pt x="198156" y="22706"/>
                    <a:pt x="212854" y="37404"/>
                    <a:pt x="212854" y="56039"/>
                  </a:cubicBezTo>
                  <a:lnTo>
                    <a:pt x="212854" y="176685"/>
                  </a:lnTo>
                  <a:cubicBezTo>
                    <a:pt x="212854" y="195319"/>
                    <a:pt x="198156" y="209958"/>
                    <a:pt x="179522" y="209958"/>
                  </a:cubicBezTo>
                  <a:lnTo>
                    <a:pt x="56039" y="209958"/>
                  </a:lnTo>
                  <a:cubicBezTo>
                    <a:pt x="37405" y="209958"/>
                    <a:pt x="22765" y="195319"/>
                    <a:pt x="22765" y="176685"/>
                  </a:cubicBezTo>
                  <a:lnTo>
                    <a:pt x="22765" y="56039"/>
                  </a:lnTo>
                  <a:cubicBezTo>
                    <a:pt x="22765" y="37404"/>
                    <a:pt x="37405" y="22706"/>
                    <a:pt x="56039" y="22706"/>
                  </a:cubicBezTo>
                  <a:close/>
                  <a:moveTo>
                    <a:pt x="180271" y="39902"/>
                  </a:moveTo>
                  <a:cubicBezTo>
                    <a:pt x="171501" y="39898"/>
                    <a:pt x="164388" y="47004"/>
                    <a:pt x="164384" y="55774"/>
                  </a:cubicBezTo>
                  <a:cubicBezTo>
                    <a:pt x="164380" y="64544"/>
                    <a:pt x="171486" y="71657"/>
                    <a:pt x="180257" y="71661"/>
                  </a:cubicBezTo>
                  <a:cubicBezTo>
                    <a:pt x="180262" y="71661"/>
                    <a:pt x="180266" y="71661"/>
                    <a:pt x="180271" y="71661"/>
                  </a:cubicBezTo>
                  <a:cubicBezTo>
                    <a:pt x="189041" y="71657"/>
                    <a:pt x="196147" y="64544"/>
                    <a:pt x="196144" y="55774"/>
                  </a:cubicBezTo>
                  <a:cubicBezTo>
                    <a:pt x="196139" y="47010"/>
                    <a:pt x="189035" y="39906"/>
                    <a:pt x="180271" y="39902"/>
                  </a:cubicBezTo>
                  <a:close/>
                  <a:moveTo>
                    <a:pt x="117810" y="56260"/>
                  </a:moveTo>
                  <a:cubicBezTo>
                    <a:pt x="84731" y="56260"/>
                    <a:pt x="57714" y="83290"/>
                    <a:pt x="57714" y="116369"/>
                  </a:cubicBezTo>
                  <a:cubicBezTo>
                    <a:pt x="57714" y="149448"/>
                    <a:pt x="84731" y="176406"/>
                    <a:pt x="117810" y="176406"/>
                  </a:cubicBezTo>
                  <a:cubicBezTo>
                    <a:pt x="150888" y="176406"/>
                    <a:pt x="177861" y="149448"/>
                    <a:pt x="177861" y="116369"/>
                  </a:cubicBezTo>
                  <a:cubicBezTo>
                    <a:pt x="177861" y="83290"/>
                    <a:pt x="150888" y="56260"/>
                    <a:pt x="117810" y="56260"/>
                  </a:cubicBezTo>
                  <a:close/>
                  <a:moveTo>
                    <a:pt x="117810" y="73322"/>
                  </a:moveTo>
                  <a:cubicBezTo>
                    <a:pt x="141666" y="73322"/>
                    <a:pt x="160812" y="92512"/>
                    <a:pt x="160812" y="116369"/>
                  </a:cubicBezTo>
                  <a:cubicBezTo>
                    <a:pt x="160812" y="140226"/>
                    <a:pt x="141666" y="159358"/>
                    <a:pt x="117810" y="159358"/>
                  </a:cubicBezTo>
                  <a:cubicBezTo>
                    <a:pt x="93953" y="159358"/>
                    <a:pt x="74763" y="140226"/>
                    <a:pt x="74763" y="116369"/>
                  </a:cubicBezTo>
                  <a:cubicBezTo>
                    <a:pt x="74763" y="92512"/>
                    <a:pt x="93953" y="73322"/>
                    <a:pt x="117810" y="733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012" name="Group 39"/>
          <p:cNvGrpSpPr/>
          <p:nvPr/>
        </p:nvGrpSpPr>
        <p:grpSpPr>
          <a:xfrm>
            <a:off x="4480560" y="360360"/>
            <a:ext cx="3865680" cy="261360"/>
            <a:chOff x="4480560" y="360360"/>
            <a:chExt cx="3865680" cy="261360"/>
          </a:xfrm>
        </p:grpSpPr>
        <p:sp>
          <p:nvSpPr>
            <p:cNvPr id="2013" name="Straight Connector 40"/>
            <p:cNvSpPr/>
            <p:nvPr/>
          </p:nvSpPr>
          <p:spPr>
            <a:xfrm>
              <a:off x="5858280" y="505800"/>
              <a:ext cx="1711440" cy="0"/>
            </a:xfrm>
            <a:prstGeom prst="line">
              <a:avLst/>
            </a:prstGeom>
            <a:ln w="1260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4" name="TextBox 41"/>
            <p:cNvSpPr/>
            <p:nvPr/>
          </p:nvSpPr>
          <p:spPr>
            <a:xfrm>
              <a:off x="4480560" y="360360"/>
              <a:ext cx="968760" cy="261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Montserrat"/>
                  <a:ea typeface="Roboto Black"/>
                </a:rPr>
                <a:t>TELE WORK</a:t>
              </a:r>
              <a:endParaRPr b="0" lang="en-US" sz="1100" spc="-1" strike="noStrike">
                <a:solidFill>
                  <a:srgbClr val="000000"/>
                </a:solidFill>
                <a:latin typeface="Calibri"/>
              </a:endParaRPr>
            </a:p>
          </p:txBody>
        </p:sp>
        <p:sp>
          <p:nvSpPr>
            <p:cNvPr id="2015" name="TextBox 42"/>
            <p:cNvSpPr/>
            <p:nvPr/>
          </p:nvSpPr>
          <p:spPr>
            <a:xfrm>
              <a:off x="7842600" y="360360"/>
              <a:ext cx="50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ffffff"/>
                  </a:solidFill>
                  <a:latin typeface="Montserrat"/>
                  <a:ea typeface="Roboto Black"/>
                </a:rPr>
                <a:t>2022</a:t>
              </a:r>
              <a:endParaRPr b="0" lang="en-US" sz="1100" spc="-1" strike="noStrike">
                <a:solidFill>
                  <a:srgbClr val="000000"/>
                </a:solidFill>
                <a:latin typeface="Calibri"/>
              </a:endParaRPr>
            </a:p>
          </p:txBody>
        </p:sp>
      </p:grpSp>
      <p:sp>
        <p:nvSpPr>
          <p:cNvPr id="2016" name="Rectangle 12"/>
          <p:cNvSpPr/>
          <p:nvPr/>
        </p:nvSpPr>
        <p:spPr>
          <a:xfrm>
            <a:off x="4711680" y="1947960"/>
            <a:ext cx="2859120" cy="2962080"/>
          </a:xfrm>
          <a:prstGeom prst="rect">
            <a:avLst/>
          </a:prstGeom>
          <a:noFill/>
          <a:ln w="22320">
            <a:solidFill>
              <a:srgbClr val="ffffff">
                <a:alpha val="6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7" name="TextBox 11"/>
          <p:cNvSpPr/>
          <p:nvPr/>
        </p:nvSpPr>
        <p:spPr>
          <a:xfrm>
            <a:off x="3237840" y="2766960"/>
            <a:ext cx="57157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ffff"/>
                </a:solidFill>
                <a:latin typeface="Roboto Black"/>
                <a:ea typeface="Roboto Black"/>
              </a:rPr>
              <a:t>BREAK</a:t>
            </a:r>
            <a:r>
              <a:rPr b="0" lang="en-GB" sz="8000" spc="-1" strike="noStrike">
                <a:solidFill>
                  <a:srgbClr val="ffbe42"/>
                </a:solidFill>
                <a:latin typeface="Roboto Black"/>
                <a:ea typeface="Roboto Black"/>
              </a:rPr>
              <a:t>TIME</a:t>
            </a:r>
            <a:endParaRPr b="0" lang="en-US" sz="8000" spc="-1" strike="noStrike">
              <a:solidFill>
                <a:srgbClr val="000000"/>
              </a:solidFill>
              <a:latin typeface="Calibri"/>
            </a:endParaRPr>
          </a:p>
        </p:txBody>
      </p:sp>
      <p:pic>
        <p:nvPicPr>
          <p:cNvPr id="2018" name="Graphic 14" descr=""/>
          <p:cNvPicPr/>
          <p:nvPr/>
        </p:nvPicPr>
        <p:blipFill>
          <a:blip r:embed="rId1"/>
          <a:stretch/>
        </p:blipFill>
        <p:spPr>
          <a:xfrm>
            <a:off x="276120" y="322200"/>
            <a:ext cx="366840" cy="368280"/>
          </a:xfrm>
          <a:prstGeom prst="rect">
            <a:avLst/>
          </a:prstGeom>
          <a:ln w="0">
            <a:noFill/>
          </a:ln>
        </p:spPr>
      </p:pic>
      <p:pic>
        <p:nvPicPr>
          <p:cNvPr id="2019"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TextBox 27"/>
          <p:cNvSpPr/>
          <p:nvPr/>
        </p:nvSpPr>
        <p:spPr>
          <a:xfrm rot="16200000">
            <a:off x="-95580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021" name="TextBox 37"/>
          <p:cNvSpPr/>
          <p:nvPr/>
        </p:nvSpPr>
        <p:spPr>
          <a:xfrm>
            <a:off x="8326440" y="1927080"/>
            <a:ext cx="3105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236e96"/>
                </a:solidFill>
                <a:latin typeface="Roboto Black"/>
                <a:ea typeface="Roboto Black"/>
              </a:rPr>
              <a:t>Technology</a:t>
            </a:r>
            <a:r>
              <a:rPr b="0" lang="en-GB" sz="3200" spc="-1" strike="noStrike">
                <a:solidFill>
                  <a:srgbClr val="000000"/>
                </a:solidFill>
                <a:latin typeface="Roboto Black"/>
                <a:ea typeface="Roboto Black"/>
              </a:rPr>
              <a:t> Will Be The </a:t>
            </a:r>
            <a:r>
              <a:rPr b="0" i="1" lang="en-GB" sz="3200" spc="-1" strike="noStrike">
                <a:solidFill>
                  <a:srgbClr val="236e96"/>
                </a:solidFill>
                <a:latin typeface="Roboto Black"/>
                <a:ea typeface="Roboto Black"/>
              </a:rPr>
              <a:t>Most Used Platform</a:t>
            </a:r>
            <a:r>
              <a:rPr b="0" lang="en-GB" sz="3200" spc="-1" strike="noStrike">
                <a:solidFill>
                  <a:srgbClr val="000000"/>
                </a:solidFill>
                <a:latin typeface="Roboto Black"/>
                <a:ea typeface="Roboto Black"/>
              </a:rPr>
              <a:t> At Work</a:t>
            </a:r>
            <a:endParaRPr b="0" lang="en-US" sz="3200" spc="-1" strike="noStrike">
              <a:solidFill>
                <a:srgbClr val="000000"/>
              </a:solidFill>
              <a:latin typeface="Calibri"/>
            </a:endParaRPr>
          </a:p>
        </p:txBody>
      </p:sp>
      <p:sp>
        <p:nvSpPr>
          <p:cNvPr id="2022" name="TextBox 39"/>
          <p:cNvSpPr/>
          <p:nvPr/>
        </p:nvSpPr>
        <p:spPr>
          <a:xfrm>
            <a:off x="8326440" y="4592520"/>
            <a:ext cx="3105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grpSp>
        <p:nvGrpSpPr>
          <p:cNvPr id="2023" name="Group 9"/>
          <p:cNvGrpSpPr/>
          <p:nvPr/>
        </p:nvGrpSpPr>
        <p:grpSpPr>
          <a:xfrm>
            <a:off x="8417160" y="848880"/>
            <a:ext cx="2917080" cy="383040"/>
            <a:chOff x="8417160" y="848880"/>
            <a:chExt cx="2917080" cy="383040"/>
          </a:xfrm>
        </p:grpSpPr>
        <p:sp>
          <p:nvSpPr>
            <p:cNvPr id="2024" name="Straight Connector 10"/>
            <p:cNvSpPr/>
            <p:nvPr/>
          </p:nvSpPr>
          <p:spPr>
            <a:xfrm>
              <a:off x="8417160" y="1231920"/>
              <a:ext cx="2891880" cy="0"/>
            </a:xfrm>
            <a:prstGeom prst="line">
              <a:avLst/>
            </a:prstGeom>
            <a:ln w="2844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5" name="TextBox 11"/>
            <p:cNvSpPr/>
            <p:nvPr/>
          </p:nvSpPr>
          <p:spPr>
            <a:xfrm>
              <a:off x="8552880" y="849240"/>
              <a:ext cx="968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f7f7f"/>
                  </a:solidFill>
                  <a:latin typeface="Montserrat"/>
                  <a:ea typeface="Roboto Black"/>
                </a:rPr>
                <a:t>TELE WORK</a:t>
              </a:r>
              <a:endParaRPr b="0" lang="en-US" sz="1100" spc="-1" strike="noStrike">
                <a:solidFill>
                  <a:srgbClr val="000000"/>
                </a:solidFill>
                <a:latin typeface="Calibri"/>
              </a:endParaRPr>
            </a:p>
          </p:txBody>
        </p:sp>
        <p:sp>
          <p:nvSpPr>
            <p:cNvPr id="2026" name="TextBox 12"/>
            <p:cNvSpPr/>
            <p:nvPr/>
          </p:nvSpPr>
          <p:spPr>
            <a:xfrm>
              <a:off x="10830600" y="848880"/>
              <a:ext cx="503640" cy="261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7f7f7f"/>
                  </a:solidFill>
                  <a:latin typeface="Montserrat"/>
                  <a:ea typeface="Roboto Black"/>
                </a:rPr>
                <a:t>2022</a:t>
              </a:r>
              <a:endParaRPr b="0" lang="en-US" sz="1100" spc="-1" strike="noStrike">
                <a:solidFill>
                  <a:srgbClr val="000000"/>
                </a:solidFill>
                <a:latin typeface="Calibri"/>
              </a:endParaRPr>
            </a:p>
          </p:txBody>
        </p:sp>
      </p:grpSp>
      <p:pic>
        <p:nvPicPr>
          <p:cNvPr id="2027" name="Graphic 13" descr=""/>
          <p:cNvPicPr/>
          <p:nvPr/>
        </p:nvPicPr>
        <p:blipFill>
          <a:blip r:embed="rId1"/>
          <a:stretch/>
        </p:blipFill>
        <p:spPr>
          <a:xfrm>
            <a:off x="284040" y="312840"/>
            <a:ext cx="366840" cy="36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TextBox 9"/>
          <p:cNvSpPr/>
          <p:nvPr/>
        </p:nvSpPr>
        <p:spPr>
          <a:xfrm>
            <a:off x="1154160" y="1174680"/>
            <a:ext cx="410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Roboto Black"/>
                <a:ea typeface="Roboto Black"/>
              </a:rPr>
              <a:t>Lorem </a:t>
            </a:r>
            <a:r>
              <a:rPr b="0" i="1" lang="en-GB" sz="4000" spc="-1" strike="noStrike">
                <a:solidFill>
                  <a:srgbClr val="236e96"/>
                </a:solidFill>
                <a:latin typeface="Roboto Black"/>
                <a:ea typeface="Roboto Black"/>
              </a:rPr>
              <a:t>Ipsum</a:t>
            </a:r>
            <a:r>
              <a:rPr b="0" lang="en-GB" sz="4000" spc="-1" strike="noStrike">
                <a:solidFill>
                  <a:srgbClr val="000000"/>
                </a:solidFill>
                <a:latin typeface="Roboto Black"/>
                <a:ea typeface="Roboto Black"/>
              </a:rPr>
              <a:t> Dolour</a:t>
            </a:r>
            <a:endParaRPr b="0" lang="en-US" sz="4000" spc="-1" strike="noStrike">
              <a:solidFill>
                <a:srgbClr val="000000"/>
              </a:solidFill>
              <a:latin typeface="Calibri"/>
            </a:endParaRPr>
          </a:p>
        </p:txBody>
      </p:sp>
      <p:sp>
        <p:nvSpPr>
          <p:cNvPr id="2029" name="TextBox 10"/>
          <p:cNvSpPr/>
          <p:nvPr/>
        </p:nvSpPr>
        <p:spPr>
          <a:xfrm>
            <a:off x="1154160" y="2608200"/>
            <a:ext cx="3546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 </a:t>
            </a:r>
            <a:r>
              <a:rPr b="0" lang="id-ID" sz="1100" spc="-1" strike="noStrike">
                <a:solidFill>
                  <a:srgbClr val="7f7f7f"/>
                </a:solidFill>
                <a:latin typeface="Lato"/>
              </a:rPr>
              <a:t>um,</a:t>
            </a:r>
            <a:r>
              <a:rPr b="0" lang="en-GB" sz="1100" spc="-1" strike="noStrike">
                <a:solidFill>
                  <a:srgbClr val="7f7f7f"/>
                </a:solidFill>
                <a:latin typeface="Lato"/>
              </a:rPr>
              <a:t> </a:t>
            </a:r>
            <a:r>
              <a:rPr b="0" lang="id-ID" sz="1100" spc="-1" strike="noStrike">
                <a:solidFill>
                  <a:srgbClr val="7f7f7f"/>
                </a:solidFill>
                <a:latin typeface="Lato"/>
              </a:rPr>
              <a:t>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030" name="TextBox 12"/>
          <p:cNvSpPr/>
          <p:nvPr/>
        </p:nvSpPr>
        <p:spPr>
          <a:xfrm>
            <a:off x="4681440" y="35712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pic>
        <p:nvPicPr>
          <p:cNvPr id="2031" name="Group 13" descr=""/>
          <p:cNvPicPr/>
          <p:nvPr/>
        </p:nvPicPr>
        <p:blipFill>
          <a:blip r:embed="rId1"/>
          <a:stretch/>
        </p:blipFill>
        <p:spPr>
          <a:xfrm>
            <a:off x="10522080" y="378000"/>
            <a:ext cx="1218960" cy="218880"/>
          </a:xfrm>
          <a:prstGeom prst="rect">
            <a:avLst/>
          </a:prstGeom>
          <a:ln w="0">
            <a:noFill/>
          </a:ln>
        </p:spPr>
      </p:pic>
      <p:sp>
        <p:nvSpPr>
          <p:cNvPr id="2032" name="TextBox 20"/>
          <p:cNvSpPr/>
          <p:nvPr/>
        </p:nvSpPr>
        <p:spPr>
          <a:xfrm>
            <a:off x="6694560" y="5126040"/>
            <a:ext cx="20034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 error sit gre</a:t>
            </a:r>
            <a:r>
              <a:rPr b="0" lang="en-GB" sz="1100" spc="-1" strike="noStrike">
                <a:solidFill>
                  <a:srgbClr val="ffffff"/>
                </a:solidFill>
                <a:latin typeface="Lato"/>
              </a:rPr>
              <a:t> </a:t>
            </a:r>
            <a:r>
              <a:rPr b="0" lang="id-ID" sz="1100" spc="-1" strike="noStrike">
                <a:solidFill>
                  <a:srgbClr val="ffffff"/>
                </a:solidFill>
                <a:latin typeface="Lato"/>
              </a:rPr>
              <a:t>at ness accus</a:t>
            </a:r>
            <a:r>
              <a:rPr b="0" lang="en-GB" sz="1100" spc="-1" strike="noStrike">
                <a:solidFill>
                  <a:srgbClr val="ffffff"/>
                </a:solidFill>
                <a:latin typeface="Lato"/>
              </a:rPr>
              <a:t> </a:t>
            </a:r>
            <a:r>
              <a:rPr b="0" lang="id-ID" sz="1100" spc="-1" strike="noStrike">
                <a:solidFill>
                  <a:srgbClr val="ffffff"/>
                </a:solidFill>
                <a:latin typeface="Lato"/>
              </a:rPr>
              <a:t>antium dol</a:t>
            </a:r>
            <a:r>
              <a:rPr b="0" lang="en-GB" sz="1100" spc="-1" strike="noStrike">
                <a:solidFill>
                  <a:srgbClr val="ffffff"/>
                </a:solidFill>
                <a:latin typeface="Lato"/>
              </a:rPr>
              <a:t> </a:t>
            </a:r>
            <a:r>
              <a:rPr b="0" lang="id-ID" sz="1100" spc="-1" strike="noStrike">
                <a:solidFill>
                  <a:srgbClr val="ffffff"/>
                </a:solidFill>
                <a:latin typeface="Lato"/>
              </a:rPr>
              <a:t>orem</a:t>
            </a:r>
            <a:r>
              <a:rPr b="0" lang="en-GB" sz="1100" spc="-1" strike="noStrike">
                <a:solidFill>
                  <a:srgbClr val="ffffff"/>
                </a:solidFill>
                <a:latin typeface="Lato"/>
              </a:rPr>
              <a:t> </a:t>
            </a:r>
            <a:r>
              <a:rPr b="0" lang="id-ID" sz="1100" spc="-1" strike="noStrike">
                <a:solidFill>
                  <a:srgbClr val="ffffff"/>
                </a:solidFill>
                <a:latin typeface="Lato"/>
              </a:rPr>
              <a:t>que trie as laudanti</a:t>
            </a:r>
            <a:r>
              <a:rPr b="0" lang="en-GB" sz="1100" spc="-1" strike="noStrike">
                <a:solidFill>
                  <a:srgbClr val="ffffff"/>
                </a:solidFill>
                <a:latin typeface="Lato"/>
              </a:rPr>
              <a:t> </a:t>
            </a:r>
            <a:r>
              <a:rPr b="0" lang="id-ID" sz="1100" spc="-1" strike="noStrike">
                <a:solidFill>
                  <a:srgbClr val="ffffff"/>
                </a:solidFill>
                <a:latin typeface="Lato"/>
              </a:rPr>
              <a:t>um</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2033" name="TextBox 23"/>
          <p:cNvSpPr/>
          <p:nvPr/>
        </p:nvSpPr>
        <p:spPr>
          <a:xfrm>
            <a:off x="6694560" y="4782960"/>
            <a:ext cx="20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ato Black"/>
              </a:rPr>
              <a:t>Your Text Here</a:t>
            </a:r>
            <a:endParaRPr b="0" lang="en-US" sz="1600" spc="-1" strike="noStrike">
              <a:solidFill>
                <a:srgbClr val="000000"/>
              </a:solidFill>
              <a:latin typeface="Calibri"/>
            </a:endParaRPr>
          </a:p>
        </p:txBody>
      </p:sp>
      <p:sp>
        <p:nvSpPr>
          <p:cNvPr id="2034" name="TextBox 24"/>
          <p:cNvSpPr/>
          <p:nvPr/>
        </p:nvSpPr>
        <p:spPr>
          <a:xfrm>
            <a:off x="9085320" y="5126040"/>
            <a:ext cx="20034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 error sit gre</a:t>
            </a:r>
            <a:r>
              <a:rPr b="0" lang="en-GB" sz="1100" spc="-1" strike="noStrike">
                <a:solidFill>
                  <a:srgbClr val="ffffff"/>
                </a:solidFill>
                <a:latin typeface="Lato"/>
              </a:rPr>
              <a:t> </a:t>
            </a:r>
            <a:r>
              <a:rPr b="0" lang="id-ID" sz="1100" spc="-1" strike="noStrike">
                <a:solidFill>
                  <a:srgbClr val="ffffff"/>
                </a:solidFill>
                <a:latin typeface="Lato"/>
              </a:rPr>
              <a:t>at ness accus</a:t>
            </a:r>
            <a:r>
              <a:rPr b="0" lang="en-GB" sz="1100" spc="-1" strike="noStrike">
                <a:solidFill>
                  <a:srgbClr val="ffffff"/>
                </a:solidFill>
                <a:latin typeface="Lato"/>
              </a:rPr>
              <a:t> </a:t>
            </a:r>
            <a:r>
              <a:rPr b="0" lang="id-ID" sz="1100" spc="-1" strike="noStrike">
                <a:solidFill>
                  <a:srgbClr val="ffffff"/>
                </a:solidFill>
                <a:latin typeface="Lato"/>
              </a:rPr>
              <a:t>antium dol</a:t>
            </a:r>
            <a:r>
              <a:rPr b="0" lang="en-GB" sz="1100" spc="-1" strike="noStrike">
                <a:solidFill>
                  <a:srgbClr val="ffffff"/>
                </a:solidFill>
                <a:latin typeface="Lato"/>
              </a:rPr>
              <a:t> </a:t>
            </a:r>
            <a:r>
              <a:rPr b="0" lang="id-ID" sz="1100" spc="-1" strike="noStrike">
                <a:solidFill>
                  <a:srgbClr val="ffffff"/>
                </a:solidFill>
                <a:latin typeface="Lato"/>
              </a:rPr>
              <a:t>orem</a:t>
            </a:r>
            <a:r>
              <a:rPr b="0" lang="en-GB" sz="1100" spc="-1" strike="noStrike">
                <a:solidFill>
                  <a:srgbClr val="ffffff"/>
                </a:solidFill>
                <a:latin typeface="Lato"/>
              </a:rPr>
              <a:t> </a:t>
            </a:r>
            <a:r>
              <a:rPr b="0" lang="id-ID" sz="1100" spc="-1" strike="noStrike">
                <a:solidFill>
                  <a:srgbClr val="ffffff"/>
                </a:solidFill>
                <a:latin typeface="Lato"/>
              </a:rPr>
              <a:t>que trie as laudanti</a:t>
            </a:r>
            <a:r>
              <a:rPr b="0" lang="en-GB" sz="1100" spc="-1" strike="noStrike">
                <a:solidFill>
                  <a:srgbClr val="ffffff"/>
                </a:solidFill>
                <a:latin typeface="Lato"/>
              </a:rPr>
              <a:t> </a:t>
            </a:r>
            <a:r>
              <a:rPr b="0" lang="id-ID" sz="1100" spc="-1" strike="noStrike">
                <a:solidFill>
                  <a:srgbClr val="ffffff"/>
                </a:solidFill>
                <a:latin typeface="Lato"/>
              </a:rPr>
              <a:t>um</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2035" name="TextBox 25"/>
          <p:cNvSpPr/>
          <p:nvPr/>
        </p:nvSpPr>
        <p:spPr>
          <a:xfrm>
            <a:off x="9085320" y="4782960"/>
            <a:ext cx="20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ato Black"/>
              </a:rPr>
              <a:t>Your Text Here</a:t>
            </a:r>
            <a:endParaRPr b="0" lang="en-US" sz="1600" spc="-1" strike="noStrike">
              <a:solidFill>
                <a:srgbClr val="000000"/>
              </a:solidFill>
              <a:latin typeface="Calibri"/>
            </a:endParaRPr>
          </a:p>
        </p:txBody>
      </p:sp>
      <p:grpSp>
        <p:nvGrpSpPr>
          <p:cNvPr id="2036" name="Group 27"/>
          <p:cNvGrpSpPr/>
          <p:nvPr/>
        </p:nvGrpSpPr>
        <p:grpSpPr>
          <a:xfrm>
            <a:off x="11582640" y="5102640"/>
            <a:ext cx="191520" cy="776520"/>
            <a:chOff x="11582640" y="5102640"/>
            <a:chExt cx="191520" cy="776520"/>
          </a:xfrm>
        </p:grpSpPr>
        <p:sp>
          <p:nvSpPr>
            <p:cNvPr id="2037" name="L-Shape 28"/>
            <p:cNvSpPr/>
            <p:nvPr/>
          </p:nvSpPr>
          <p:spPr>
            <a:xfrm rot="8100000">
              <a:off x="11610360" y="5130360"/>
              <a:ext cx="135000" cy="135000"/>
            </a:xfrm>
            <a:custGeom>
              <a:avLst/>
              <a:gdLst/>
              <a:ahLst/>
              <a:rect l="l" t="t" r="r" b="b"/>
              <a:pathLst>
                <a:path w="168467" h="168467">
                  <a:moveTo>
                    <a:pt x="0" y="0"/>
                  </a:moveTo>
                  <a:lnTo>
                    <a:pt x="59666" y="0"/>
                  </a:lnTo>
                  <a:lnTo>
                    <a:pt x="59666" y="108801"/>
                  </a:lnTo>
                  <a:lnTo>
                    <a:pt x="168467" y="108801"/>
                  </a:lnTo>
                  <a:lnTo>
                    <a:pt x="168467" y="168467"/>
                  </a:lnTo>
                  <a:lnTo>
                    <a:pt x="0" y="168467"/>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38" name="L-Shape 29"/>
            <p:cNvSpPr/>
            <p:nvPr/>
          </p:nvSpPr>
          <p:spPr>
            <a:xfrm rot="18900000">
              <a:off x="11611080" y="5716080"/>
              <a:ext cx="135000" cy="135000"/>
            </a:xfrm>
            <a:custGeom>
              <a:avLst/>
              <a:gdLst/>
              <a:ahLst/>
              <a:rect l="l" t="t" r="r" b="b"/>
              <a:pathLst>
                <a:path w="168467" h="168467">
                  <a:moveTo>
                    <a:pt x="0" y="0"/>
                  </a:moveTo>
                  <a:lnTo>
                    <a:pt x="59666" y="0"/>
                  </a:lnTo>
                  <a:lnTo>
                    <a:pt x="59666" y="108801"/>
                  </a:lnTo>
                  <a:lnTo>
                    <a:pt x="168467" y="108801"/>
                  </a:lnTo>
                  <a:lnTo>
                    <a:pt x="168467" y="168467"/>
                  </a:lnTo>
                  <a:lnTo>
                    <a:pt x="0" y="168467"/>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2039" name="Graphic 21" descr=""/>
          <p:cNvPicPr/>
          <p:nvPr/>
        </p:nvPicPr>
        <p:blipFill>
          <a:blip r:embed="rId2"/>
          <a:stretch/>
        </p:blipFill>
        <p:spPr>
          <a:xfrm>
            <a:off x="363600" y="32688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Freeform: Shape 6"/>
          <p:cNvSpPr/>
          <p:nvPr/>
        </p:nvSpPr>
        <p:spPr>
          <a:xfrm>
            <a:off x="3841920" y="4915080"/>
            <a:ext cx="4508280" cy="1225440"/>
          </a:xfrm>
          <a:custGeom>
            <a:avLst/>
            <a:gdLst/>
            <a:ahLst/>
            <a:rect l="l" t="t" r="r" b="b"/>
            <a:pathLst>
              <a:path w="4508500" h="1225550">
                <a:moveTo>
                  <a:pt x="0" y="0"/>
                </a:moveTo>
                <a:lnTo>
                  <a:pt x="4508500" y="0"/>
                </a:lnTo>
                <a:lnTo>
                  <a:pt x="4508500" y="849271"/>
                </a:lnTo>
                <a:cubicBezTo>
                  <a:pt x="4508500" y="1057084"/>
                  <a:pt x="4340034" y="1225550"/>
                  <a:pt x="4132221" y="1225550"/>
                </a:cubicBezTo>
                <a:lnTo>
                  <a:pt x="376279" y="1225550"/>
                </a:lnTo>
                <a:cubicBezTo>
                  <a:pt x="168466" y="1225550"/>
                  <a:pt x="0" y="1057084"/>
                  <a:pt x="0" y="849271"/>
                </a:cubicBezTo>
                <a:lnTo>
                  <a:pt x="0"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41" name="Freeform: Shape 16"/>
          <p:cNvSpPr/>
          <p:nvPr/>
        </p:nvSpPr>
        <p:spPr>
          <a:xfrm>
            <a:off x="0" y="4915080"/>
            <a:ext cx="3492360" cy="1225440"/>
          </a:xfrm>
          <a:custGeom>
            <a:avLst/>
            <a:gdLst/>
            <a:ahLst/>
            <a:rect l="l" t="t" r="r" b="b"/>
            <a:pathLst>
              <a:path w="3492500" h="1225550">
                <a:moveTo>
                  <a:pt x="0" y="0"/>
                </a:moveTo>
                <a:lnTo>
                  <a:pt x="3492500" y="0"/>
                </a:lnTo>
                <a:lnTo>
                  <a:pt x="3492500" y="849271"/>
                </a:lnTo>
                <a:cubicBezTo>
                  <a:pt x="3492500" y="1057084"/>
                  <a:pt x="3324034" y="1225550"/>
                  <a:pt x="3116221" y="1225550"/>
                </a:cubicBezTo>
                <a:lnTo>
                  <a:pt x="0" y="1225550"/>
                </a:lnTo>
                <a:lnTo>
                  <a:pt x="0"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42" name="Freeform: Shape 18"/>
          <p:cNvSpPr/>
          <p:nvPr/>
        </p:nvSpPr>
        <p:spPr>
          <a:xfrm>
            <a:off x="8699400" y="4915080"/>
            <a:ext cx="3492720" cy="1225440"/>
          </a:xfrm>
          <a:custGeom>
            <a:avLst/>
            <a:gdLst/>
            <a:ahLst/>
            <a:rect l="l" t="t" r="r" b="b"/>
            <a:pathLst>
              <a:path w="3492500" h="1225550">
                <a:moveTo>
                  <a:pt x="0" y="0"/>
                </a:moveTo>
                <a:lnTo>
                  <a:pt x="3492500" y="0"/>
                </a:lnTo>
                <a:lnTo>
                  <a:pt x="3492500" y="1225550"/>
                </a:lnTo>
                <a:lnTo>
                  <a:pt x="376279" y="1225550"/>
                </a:lnTo>
                <a:cubicBezTo>
                  <a:pt x="168466" y="1225550"/>
                  <a:pt x="0" y="1057084"/>
                  <a:pt x="0" y="849271"/>
                </a:cubicBezTo>
                <a:lnTo>
                  <a:pt x="0"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43" name="TextBox 40"/>
          <p:cNvSpPr/>
          <p:nvPr/>
        </p:nvSpPr>
        <p:spPr>
          <a:xfrm>
            <a:off x="4405320" y="5380200"/>
            <a:ext cx="33814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 error sit great ness accusantium doloremque</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2044" name="TextBox 41"/>
          <p:cNvSpPr/>
          <p:nvPr/>
        </p:nvSpPr>
        <p:spPr>
          <a:xfrm>
            <a:off x="4405320" y="5073480"/>
            <a:ext cx="338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ato Black"/>
              </a:rPr>
              <a:t>Your Text Here </a:t>
            </a:r>
            <a:endParaRPr b="0" lang="en-US" sz="1600" spc="-1" strike="noStrike">
              <a:solidFill>
                <a:srgbClr val="000000"/>
              </a:solidFill>
              <a:latin typeface="Calibri"/>
            </a:endParaRPr>
          </a:p>
        </p:txBody>
      </p:sp>
      <p:sp>
        <p:nvSpPr>
          <p:cNvPr id="2045" name="TextBox 42"/>
          <p:cNvSpPr/>
          <p:nvPr/>
        </p:nvSpPr>
        <p:spPr>
          <a:xfrm>
            <a:off x="635040" y="5380200"/>
            <a:ext cx="2224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 error sit</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2046" name="TextBox 43"/>
          <p:cNvSpPr/>
          <p:nvPr/>
        </p:nvSpPr>
        <p:spPr>
          <a:xfrm>
            <a:off x="635040" y="5073480"/>
            <a:ext cx="22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ato Black"/>
              </a:rPr>
              <a:t>Your Text Here </a:t>
            </a:r>
            <a:endParaRPr b="0" lang="en-US" sz="1600" spc="-1" strike="noStrike">
              <a:solidFill>
                <a:srgbClr val="000000"/>
              </a:solidFill>
              <a:latin typeface="Calibri"/>
            </a:endParaRPr>
          </a:p>
        </p:txBody>
      </p:sp>
      <p:sp>
        <p:nvSpPr>
          <p:cNvPr id="2047" name="TextBox 44"/>
          <p:cNvSpPr/>
          <p:nvPr/>
        </p:nvSpPr>
        <p:spPr>
          <a:xfrm>
            <a:off x="9333000" y="5380200"/>
            <a:ext cx="2224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 error sit</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2048" name="TextBox 45"/>
          <p:cNvSpPr/>
          <p:nvPr/>
        </p:nvSpPr>
        <p:spPr>
          <a:xfrm>
            <a:off x="9333000" y="5073480"/>
            <a:ext cx="22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ato Black"/>
              </a:rPr>
              <a:t>Your Text Her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TextBox 4"/>
          <p:cNvSpPr/>
          <p:nvPr/>
        </p:nvSpPr>
        <p:spPr>
          <a:xfrm>
            <a:off x="835200" y="1417680"/>
            <a:ext cx="24159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Roboto Black"/>
                <a:ea typeface="Roboto Black"/>
              </a:rPr>
              <a:t>Lorem </a:t>
            </a:r>
            <a:r>
              <a:rPr b="0" i="1" lang="en-GB" sz="4000" spc="-1" strike="noStrike">
                <a:solidFill>
                  <a:srgbClr val="236e96"/>
                </a:solidFill>
                <a:latin typeface="Roboto Black"/>
                <a:ea typeface="Roboto Black"/>
              </a:rPr>
              <a:t>Ips Sum </a:t>
            </a:r>
            <a:r>
              <a:rPr b="0" lang="en-GB" sz="4000" spc="-1" strike="noStrike">
                <a:solidFill>
                  <a:srgbClr val="000000"/>
                </a:solidFill>
                <a:latin typeface="Roboto Black"/>
                <a:ea typeface="Roboto Black"/>
              </a:rPr>
              <a:t>Dour</a:t>
            </a:r>
            <a:endParaRPr b="0" lang="en-US" sz="4000" spc="-1" strike="noStrike">
              <a:solidFill>
                <a:srgbClr val="000000"/>
              </a:solidFill>
              <a:latin typeface="Calibri"/>
            </a:endParaRPr>
          </a:p>
        </p:txBody>
      </p:sp>
      <p:sp>
        <p:nvSpPr>
          <p:cNvPr id="2050" name="TextBox 5"/>
          <p:cNvSpPr/>
          <p:nvPr/>
        </p:nvSpPr>
        <p:spPr>
          <a:xfrm>
            <a:off x="835200" y="4464000"/>
            <a:ext cx="2198520" cy="159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 </a:t>
            </a:r>
            <a:r>
              <a:rPr b="0" lang="id-ID" sz="1100" spc="-1" strike="noStrike">
                <a:solidFill>
                  <a:srgbClr val="7f7f7f"/>
                </a:solidFill>
                <a:latin typeface="Lato"/>
              </a:rPr>
              <a:t>um,</a:t>
            </a:r>
            <a:r>
              <a:rPr b="0" lang="en-GB" sz="1100" spc="-1" strike="noStrike">
                <a:solidFill>
                  <a:srgbClr val="7f7f7f"/>
                </a:solidFill>
                <a:latin typeface="Lato"/>
              </a:rPr>
              <a:t> </a:t>
            </a:r>
            <a:r>
              <a:rPr b="0" lang="id-ID" sz="1100" spc="-1" strike="noStrike">
                <a:solidFill>
                  <a:srgbClr val="7f7f7f"/>
                </a:solidFill>
                <a:latin typeface="Lato"/>
              </a:rPr>
              <a:t>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051" name="TextBox 6"/>
          <p:cNvSpPr/>
          <p:nvPr/>
        </p:nvSpPr>
        <p:spPr>
          <a:xfrm>
            <a:off x="835200" y="4079880"/>
            <a:ext cx="23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95959"/>
                </a:solidFill>
                <a:latin typeface="Lato Black"/>
              </a:rPr>
              <a:t>Your Text Here</a:t>
            </a:r>
            <a:endParaRPr b="0" lang="en-US" sz="1600" spc="-1" strike="noStrike">
              <a:solidFill>
                <a:srgbClr val="000000"/>
              </a:solidFill>
              <a:latin typeface="Calibri"/>
            </a:endParaRPr>
          </a:p>
        </p:txBody>
      </p:sp>
      <p:sp>
        <p:nvSpPr>
          <p:cNvPr id="2052" name="TextBox 8"/>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pic>
        <p:nvPicPr>
          <p:cNvPr id="2053" name="Group 12" descr=""/>
          <p:cNvPicPr/>
          <p:nvPr/>
        </p:nvPicPr>
        <p:blipFill>
          <a:blip r:embed="rId1"/>
          <a:stretch/>
        </p:blipFill>
        <p:spPr>
          <a:xfrm>
            <a:off x="10382400" y="433440"/>
            <a:ext cx="1218960" cy="212760"/>
          </a:xfrm>
          <a:prstGeom prst="rect">
            <a:avLst/>
          </a:prstGeom>
          <a:ln w="0">
            <a:noFill/>
          </a:ln>
        </p:spPr>
      </p:pic>
      <p:pic>
        <p:nvPicPr>
          <p:cNvPr id="2054" name="Group 16" descr=""/>
          <p:cNvPicPr/>
          <p:nvPr/>
        </p:nvPicPr>
        <p:blipFill>
          <a:blip r:embed="rId2"/>
          <a:stretch/>
        </p:blipFill>
        <p:spPr>
          <a:xfrm>
            <a:off x="5803920" y="6327720"/>
            <a:ext cx="785880" cy="195480"/>
          </a:xfrm>
          <a:prstGeom prst="rect">
            <a:avLst/>
          </a:prstGeom>
          <a:ln w="0">
            <a:noFill/>
          </a:ln>
        </p:spPr>
      </p:pic>
      <p:pic>
        <p:nvPicPr>
          <p:cNvPr id="2055" name="Graphic 19" descr=""/>
          <p:cNvPicPr/>
          <p:nvPr/>
        </p:nvPicPr>
        <p:blipFill>
          <a:blip r:embed="rId3"/>
          <a:stretch/>
        </p:blipFill>
        <p:spPr>
          <a:xfrm>
            <a:off x="363600" y="334800"/>
            <a:ext cx="366480" cy="368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TextBox 5"/>
          <p:cNvSpPr/>
          <p:nvPr/>
        </p:nvSpPr>
        <p:spPr>
          <a:xfrm>
            <a:off x="8345520" y="385920"/>
            <a:ext cx="2828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pic>
        <p:nvPicPr>
          <p:cNvPr id="2057" name="Group 10" descr=""/>
          <p:cNvPicPr/>
          <p:nvPr/>
        </p:nvPicPr>
        <p:blipFill>
          <a:blip r:embed="rId1"/>
          <a:stretch/>
        </p:blipFill>
        <p:spPr>
          <a:xfrm>
            <a:off x="5705640" y="6327720"/>
            <a:ext cx="780840" cy="195480"/>
          </a:xfrm>
          <a:prstGeom prst="rect">
            <a:avLst/>
          </a:prstGeom>
          <a:ln w="0">
            <a:noFill/>
          </a:ln>
        </p:spPr>
      </p:pic>
      <p:sp>
        <p:nvSpPr>
          <p:cNvPr id="2058" name="TextBox 15"/>
          <p:cNvSpPr/>
          <p:nvPr/>
        </p:nvSpPr>
        <p:spPr>
          <a:xfrm>
            <a:off x="9078840" y="3863880"/>
            <a:ext cx="230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059" name="TextBox 16"/>
          <p:cNvSpPr/>
          <p:nvPr/>
        </p:nvSpPr>
        <p:spPr>
          <a:xfrm>
            <a:off x="9180360" y="4784760"/>
            <a:ext cx="210348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a:t>
            </a:r>
            <a:r>
              <a:rPr b="0" lang="en-GB" sz="1100" spc="-1" strike="noStrike">
                <a:solidFill>
                  <a:srgbClr val="7f7f7f"/>
                </a:solidFill>
                <a:latin typeface="Lato"/>
              </a:rPr>
              <a:t> </a:t>
            </a:r>
            <a:r>
              <a:rPr b="0" lang="id-ID" sz="1100" spc="-1" strike="noStrike">
                <a:solidFill>
                  <a:srgbClr val="7f7f7f"/>
                </a:solidFill>
                <a:latin typeface="Lato"/>
              </a:rPr>
              <a:t>nis iste natus error sit great ness accus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060" name="TextBox 17"/>
          <p:cNvSpPr/>
          <p:nvPr/>
        </p:nvSpPr>
        <p:spPr>
          <a:xfrm>
            <a:off x="9180360" y="4224240"/>
            <a:ext cx="210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7f7f7f"/>
                </a:solidFill>
                <a:latin typeface="Lato"/>
              </a:rPr>
              <a:t>Manager/Operator</a:t>
            </a:r>
            <a:endParaRPr b="0" lang="en-US" sz="1400" spc="-1" strike="noStrike">
              <a:solidFill>
                <a:srgbClr val="000000"/>
              </a:solidFill>
              <a:latin typeface="Calibri"/>
            </a:endParaRPr>
          </a:p>
        </p:txBody>
      </p:sp>
      <p:sp>
        <p:nvSpPr>
          <p:cNvPr id="2061" name="Rectangle 18"/>
          <p:cNvSpPr/>
          <p:nvPr/>
        </p:nvSpPr>
        <p:spPr>
          <a:xfrm>
            <a:off x="4200480" y="4940280"/>
            <a:ext cx="4029120" cy="8650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2" name="TextBox 20"/>
          <p:cNvSpPr/>
          <p:nvPr/>
        </p:nvSpPr>
        <p:spPr>
          <a:xfrm>
            <a:off x="4518000" y="5372280"/>
            <a:ext cx="33926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2f2f2"/>
                </a:solidFill>
                <a:latin typeface="Lato"/>
              </a:rPr>
              <a:t>Sed utera perspiciatis unde om</a:t>
            </a:r>
            <a:r>
              <a:rPr b="0" lang="en-GB" sz="1100" spc="-1" strike="noStrike">
                <a:solidFill>
                  <a:srgbClr val="f2f2f2"/>
                </a:solidFill>
                <a:latin typeface="Lato"/>
              </a:rPr>
              <a:t> </a:t>
            </a:r>
            <a:r>
              <a:rPr b="0" lang="id-ID" sz="1100" spc="-1" strike="noStrike">
                <a:solidFill>
                  <a:srgbClr val="f2f2f2"/>
                </a:solidFill>
                <a:latin typeface="Lato"/>
              </a:rPr>
              <a:t>nis iste natus error si</a:t>
            </a:r>
            <a:r>
              <a:rPr b="0" lang="en-GB" sz="1100" spc="-1" strike="noStrike">
                <a:solidFill>
                  <a:srgbClr val="f2f2f2"/>
                </a:solidFill>
                <a:latin typeface="Lato"/>
              </a:rPr>
              <a:t>.</a:t>
            </a:r>
            <a:endParaRPr b="0" lang="en-US" sz="1100" spc="-1" strike="noStrike">
              <a:solidFill>
                <a:srgbClr val="000000"/>
              </a:solidFill>
              <a:latin typeface="Calibri"/>
            </a:endParaRPr>
          </a:p>
        </p:txBody>
      </p:sp>
      <p:sp>
        <p:nvSpPr>
          <p:cNvPr id="2063" name="TextBox 21"/>
          <p:cNvSpPr/>
          <p:nvPr/>
        </p:nvSpPr>
        <p:spPr>
          <a:xfrm>
            <a:off x="4524480" y="5075280"/>
            <a:ext cx="338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ato Black"/>
              </a:rPr>
              <a:t>Your Text Here </a:t>
            </a:r>
            <a:endParaRPr b="0" lang="en-US" sz="1600" spc="-1" strike="noStrike">
              <a:solidFill>
                <a:srgbClr val="000000"/>
              </a:solidFill>
              <a:latin typeface="Calibri"/>
            </a:endParaRPr>
          </a:p>
        </p:txBody>
      </p:sp>
      <p:sp>
        <p:nvSpPr>
          <p:cNvPr id="2064" name="Rectangle 22"/>
          <p:cNvSpPr/>
          <p:nvPr/>
        </p:nvSpPr>
        <p:spPr>
          <a:xfrm>
            <a:off x="0" y="4940280"/>
            <a:ext cx="4029120" cy="8650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5" name="TextBox 23"/>
          <p:cNvSpPr/>
          <p:nvPr/>
        </p:nvSpPr>
        <p:spPr>
          <a:xfrm>
            <a:off x="328680" y="5372280"/>
            <a:ext cx="33908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2f2f2"/>
                </a:solidFill>
                <a:latin typeface="Lato"/>
              </a:rPr>
              <a:t>Sed utera perspiciatis unde om</a:t>
            </a:r>
            <a:r>
              <a:rPr b="0" lang="en-GB" sz="1100" spc="-1" strike="noStrike">
                <a:solidFill>
                  <a:srgbClr val="f2f2f2"/>
                </a:solidFill>
                <a:latin typeface="Lato"/>
              </a:rPr>
              <a:t> </a:t>
            </a:r>
            <a:r>
              <a:rPr b="0" lang="id-ID" sz="1100" spc="-1" strike="noStrike">
                <a:solidFill>
                  <a:srgbClr val="f2f2f2"/>
                </a:solidFill>
                <a:latin typeface="Lato"/>
              </a:rPr>
              <a:t>nis iste natus error si</a:t>
            </a:r>
            <a:r>
              <a:rPr b="0" lang="en-GB" sz="1100" spc="-1" strike="noStrike">
                <a:solidFill>
                  <a:srgbClr val="f2f2f2"/>
                </a:solidFill>
                <a:latin typeface="Lato"/>
              </a:rPr>
              <a:t>.</a:t>
            </a:r>
            <a:endParaRPr b="0" lang="en-US" sz="1100" spc="-1" strike="noStrike">
              <a:solidFill>
                <a:srgbClr val="000000"/>
              </a:solidFill>
              <a:latin typeface="Calibri"/>
            </a:endParaRPr>
          </a:p>
        </p:txBody>
      </p:sp>
      <p:sp>
        <p:nvSpPr>
          <p:cNvPr id="2066" name="TextBox 24"/>
          <p:cNvSpPr/>
          <p:nvPr/>
        </p:nvSpPr>
        <p:spPr>
          <a:xfrm>
            <a:off x="333360" y="5075280"/>
            <a:ext cx="338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Lato Black"/>
              </a:rPr>
              <a:t>Your Text Here </a:t>
            </a:r>
            <a:endParaRPr b="0" lang="en-US" sz="1600" spc="-1" strike="noStrike">
              <a:solidFill>
                <a:srgbClr val="000000"/>
              </a:solidFill>
              <a:latin typeface="Calibri"/>
            </a:endParaRPr>
          </a:p>
        </p:txBody>
      </p:sp>
      <p:sp>
        <p:nvSpPr>
          <p:cNvPr id="2067" name="Oval 64"/>
          <p:cNvSpPr/>
          <p:nvPr/>
        </p:nvSpPr>
        <p:spPr>
          <a:xfrm>
            <a:off x="9258480" y="1619280"/>
            <a:ext cx="601560" cy="603360"/>
          </a:xfrm>
          <a:prstGeom prst="ellipse">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8" name="TextBox 70"/>
          <p:cNvSpPr/>
          <p:nvPr/>
        </p:nvSpPr>
        <p:spPr>
          <a:xfrm>
            <a:off x="8970840" y="1716120"/>
            <a:ext cx="1176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Lato Black"/>
              </a:rPr>
              <a:t>01</a:t>
            </a:r>
            <a:endParaRPr b="0" lang="en-US" sz="2000" spc="-1" strike="noStrike">
              <a:solidFill>
                <a:srgbClr val="000000"/>
              </a:solidFill>
              <a:latin typeface="Calibri"/>
            </a:endParaRPr>
          </a:p>
        </p:txBody>
      </p:sp>
      <p:pic>
        <p:nvPicPr>
          <p:cNvPr id="2069" name="Graphic 25" descr=""/>
          <p:cNvPicPr/>
          <p:nvPr/>
        </p:nvPicPr>
        <p:blipFill>
          <a:blip r:embed="rId2"/>
          <a:stretch/>
        </p:blipFill>
        <p:spPr>
          <a:xfrm>
            <a:off x="1140948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TextBox 3"/>
          <p:cNvSpPr/>
          <p:nvPr/>
        </p:nvSpPr>
        <p:spPr>
          <a:xfrm>
            <a:off x="785880" y="2166840"/>
            <a:ext cx="4518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36e96"/>
                </a:solidFill>
                <a:latin typeface="Roboto Black"/>
                <a:ea typeface="Roboto Black"/>
              </a:rPr>
              <a:t>Technology</a:t>
            </a:r>
            <a:r>
              <a:rPr b="0" lang="en-GB" sz="3600" spc="-1" strike="noStrike">
                <a:solidFill>
                  <a:srgbClr val="000000"/>
                </a:solidFill>
                <a:latin typeface="Roboto Black"/>
                <a:ea typeface="Roboto Black"/>
              </a:rPr>
              <a:t> Will Be The </a:t>
            </a:r>
            <a:r>
              <a:rPr b="0" i="1" lang="en-GB" sz="3600" spc="-1" strike="noStrike">
                <a:solidFill>
                  <a:srgbClr val="236e96"/>
                </a:solidFill>
                <a:latin typeface="Roboto Black"/>
                <a:ea typeface="Roboto Black"/>
              </a:rPr>
              <a:t>Most Used Platform</a:t>
            </a:r>
            <a:r>
              <a:rPr b="0" lang="en-GB" sz="3600" spc="-1" strike="noStrike">
                <a:solidFill>
                  <a:srgbClr val="000000"/>
                </a:solidFill>
                <a:latin typeface="Roboto Black"/>
                <a:ea typeface="Roboto Black"/>
              </a:rPr>
              <a:t> At Work</a:t>
            </a:r>
            <a:endParaRPr b="0" lang="en-US" sz="3600" spc="-1" strike="noStrike">
              <a:solidFill>
                <a:srgbClr val="000000"/>
              </a:solidFill>
              <a:latin typeface="Calibri"/>
            </a:endParaRPr>
          </a:p>
        </p:txBody>
      </p:sp>
      <p:sp>
        <p:nvSpPr>
          <p:cNvPr id="2071" name="Rectangle: Rounded Corners 4"/>
          <p:cNvSpPr/>
          <p:nvPr/>
        </p:nvSpPr>
        <p:spPr>
          <a:xfrm>
            <a:off x="893880" y="1066680"/>
            <a:ext cx="320400" cy="320760"/>
          </a:xfrm>
          <a:custGeom>
            <a:avLst/>
            <a:gdLst>
              <a:gd name="textAreaLeft" fmla="*/ 15480 w 320400"/>
              <a:gd name="textAreaRight" fmla="*/ 304920 w 320400"/>
              <a:gd name="textAreaTop" fmla="*/ 15480 h 320760"/>
              <a:gd name="textAreaBottom" fmla="*/ 305280 h 320760"/>
            </a:gdLst>
            <a:ahLst/>
            <a:rect l="textAreaLeft" t="textAreaTop" r="textAreaRight" b="textAreaBottom"/>
            <a:pathLst>
              <a:path w="21600" h="21624">
                <a:moveTo>
                  <a:pt x="3600" y="0"/>
                </a:moveTo>
                <a:arcTo wR="3600" hR="3600" stAng="16200000" swAng="-5400000"/>
                <a:lnTo>
                  <a:pt x="0" y="18024"/>
                </a:lnTo>
                <a:arcTo wR="3600" hR="3600" stAng="10800000" swAng="-5400000"/>
                <a:lnTo>
                  <a:pt x="18000" y="21624"/>
                </a:lnTo>
                <a:arcTo wR="3600" hR="3600" stAng="5400000" swAng="-5400000"/>
                <a:lnTo>
                  <a:pt x="21600" y="3600"/>
                </a:lnTo>
                <a:arcTo wR="3600" hR="3600" stAng="0" swAng="-5400000"/>
                <a:close/>
              </a:path>
            </a:pathLst>
          </a:cu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2" name="Rectangle: Rounded Corners 5"/>
          <p:cNvSpPr/>
          <p:nvPr/>
        </p:nvSpPr>
        <p:spPr>
          <a:xfrm>
            <a:off x="1327320" y="1066680"/>
            <a:ext cx="320400" cy="320760"/>
          </a:xfrm>
          <a:custGeom>
            <a:avLst/>
            <a:gdLst>
              <a:gd name="textAreaLeft" fmla="*/ 15480 w 320400"/>
              <a:gd name="textAreaRight" fmla="*/ 304920 w 320400"/>
              <a:gd name="textAreaTop" fmla="*/ 15480 h 320760"/>
              <a:gd name="textAreaBottom" fmla="*/ 305280 h 320760"/>
            </a:gdLst>
            <a:ahLst/>
            <a:rect l="textAreaLeft" t="textAreaTop" r="textAreaRight" b="textAreaBottom"/>
            <a:pathLst>
              <a:path w="21600" h="21624">
                <a:moveTo>
                  <a:pt x="3600" y="0"/>
                </a:moveTo>
                <a:arcTo wR="3600" hR="3600" stAng="16200000" swAng="-5400000"/>
                <a:lnTo>
                  <a:pt x="0" y="18024"/>
                </a:lnTo>
                <a:arcTo wR="3600" hR="3600" stAng="10800000" swAng="-5400000"/>
                <a:lnTo>
                  <a:pt x="18000" y="21624"/>
                </a:lnTo>
                <a:arcTo wR="3600" hR="3600" stAng="5400000" swAng="-5400000"/>
                <a:lnTo>
                  <a:pt x="21600" y="3600"/>
                </a:lnTo>
                <a:arcTo wR="3600" hR="3600" stAng="0" swAng="-5400000"/>
                <a:close/>
              </a:path>
            </a:pathLst>
          </a:cu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3" name="TextBox 6"/>
          <p:cNvSpPr/>
          <p:nvPr/>
        </p:nvSpPr>
        <p:spPr>
          <a:xfrm>
            <a:off x="785880" y="4984920"/>
            <a:ext cx="22287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074" name="TextBox 8"/>
          <p:cNvSpPr/>
          <p:nvPr/>
        </p:nvSpPr>
        <p:spPr>
          <a:xfrm>
            <a:off x="8345520" y="385920"/>
            <a:ext cx="2828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075" name="Rectangle 13"/>
          <p:cNvSpPr/>
          <p:nvPr/>
        </p:nvSpPr>
        <p:spPr>
          <a:xfrm>
            <a:off x="0" y="6500880"/>
            <a:ext cx="2071800" cy="35712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76" name="Graphic 9" descr=""/>
          <p:cNvPicPr/>
          <p:nvPr/>
        </p:nvPicPr>
        <p:blipFill>
          <a:blip r:embed="rId1"/>
          <a:stretch/>
        </p:blipFill>
        <p:spPr>
          <a:xfrm>
            <a:off x="11379240" y="338040"/>
            <a:ext cx="366840" cy="368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7" name="Picture 2" descr=""/>
          <p:cNvPicPr/>
          <p:nvPr/>
        </p:nvPicPr>
        <p:blipFill>
          <a:blip r:embed="rId1"/>
          <a:stretch/>
        </p:blipFill>
        <p:spPr>
          <a:xfrm>
            <a:off x="6585120" y="942840"/>
            <a:ext cx="2473200" cy="5237280"/>
          </a:xfrm>
          <a:prstGeom prst="rect">
            <a:avLst/>
          </a:prstGeom>
          <a:ln w="0">
            <a:noFill/>
          </a:ln>
        </p:spPr>
      </p:pic>
      <p:pic>
        <p:nvPicPr>
          <p:cNvPr id="2078" name="Picture 7" descr=""/>
          <p:cNvPicPr/>
          <p:nvPr/>
        </p:nvPicPr>
        <p:blipFill>
          <a:blip r:embed="rId2"/>
          <a:stretch/>
        </p:blipFill>
        <p:spPr>
          <a:xfrm>
            <a:off x="9398160" y="1665360"/>
            <a:ext cx="2133360" cy="4514760"/>
          </a:xfrm>
          <a:prstGeom prst="rect">
            <a:avLst/>
          </a:prstGeom>
          <a:ln w="0">
            <a:noFill/>
          </a:ln>
        </p:spPr>
      </p:pic>
      <p:sp>
        <p:nvSpPr>
          <p:cNvPr id="2079" name="TextBox 10"/>
          <p:cNvSpPr/>
          <p:nvPr/>
        </p:nvSpPr>
        <p:spPr>
          <a:xfrm rot="16200000">
            <a:off x="-88776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080" name="TextBox 14"/>
          <p:cNvSpPr/>
          <p:nvPr/>
        </p:nvSpPr>
        <p:spPr>
          <a:xfrm>
            <a:off x="1428840" y="1263600"/>
            <a:ext cx="397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Roboto Black"/>
                <a:ea typeface="Roboto Black"/>
              </a:rPr>
              <a:t>Online </a:t>
            </a:r>
            <a:r>
              <a:rPr b="0" i="1" lang="en-GB" sz="3600" spc="-1" strike="noStrike">
                <a:solidFill>
                  <a:srgbClr val="236e96"/>
                </a:solidFill>
                <a:latin typeface="Roboto Black"/>
                <a:ea typeface="Roboto Black"/>
              </a:rPr>
              <a:t>Work Method</a:t>
            </a:r>
            <a:r>
              <a:rPr b="0" lang="en-GB" sz="3600" spc="-1" strike="noStrike">
                <a:solidFill>
                  <a:srgbClr val="000000"/>
                </a:solidFill>
                <a:latin typeface="Roboto Black"/>
                <a:ea typeface="Roboto Black"/>
              </a:rPr>
              <a:t> Provide Us </a:t>
            </a:r>
            <a:r>
              <a:rPr b="0" i="1" lang="en-GB" sz="3600" spc="-1" strike="noStrike">
                <a:solidFill>
                  <a:srgbClr val="236e96"/>
                </a:solidFill>
                <a:latin typeface="Roboto Black"/>
                <a:ea typeface="Roboto Black"/>
              </a:rPr>
              <a:t>Flexibility</a:t>
            </a:r>
            <a:r>
              <a:rPr b="0" lang="en-GB" sz="3600" spc="-1" strike="noStrike">
                <a:solidFill>
                  <a:srgbClr val="000000"/>
                </a:solidFill>
                <a:latin typeface="Roboto Black"/>
                <a:ea typeface="Roboto Black"/>
              </a:rPr>
              <a:t> Process</a:t>
            </a:r>
            <a:endParaRPr b="0" lang="en-US" sz="3600" spc="-1" strike="noStrike">
              <a:solidFill>
                <a:srgbClr val="000000"/>
              </a:solidFill>
              <a:latin typeface="Calibri"/>
            </a:endParaRPr>
          </a:p>
        </p:txBody>
      </p:sp>
      <p:sp>
        <p:nvSpPr>
          <p:cNvPr id="2081" name="TextBox 15"/>
          <p:cNvSpPr/>
          <p:nvPr/>
        </p:nvSpPr>
        <p:spPr>
          <a:xfrm>
            <a:off x="1428840" y="4714920"/>
            <a:ext cx="185724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082" name="TextBox 16"/>
          <p:cNvSpPr/>
          <p:nvPr/>
        </p:nvSpPr>
        <p:spPr>
          <a:xfrm>
            <a:off x="3403440" y="4714920"/>
            <a:ext cx="18576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grpSp>
        <p:nvGrpSpPr>
          <p:cNvPr id="2083" name="Group 17"/>
          <p:cNvGrpSpPr/>
          <p:nvPr/>
        </p:nvGrpSpPr>
        <p:grpSpPr>
          <a:xfrm>
            <a:off x="1533240" y="4105080"/>
            <a:ext cx="585720" cy="75960"/>
            <a:chOff x="1533240" y="4105080"/>
            <a:chExt cx="585720" cy="75960"/>
          </a:xfrm>
        </p:grpSpPr>
        <p:sp>
          <p:nvSpPr>
            <p:cNvPr id="2084" name="Oval 18"/>
            <p:cNvSpPr/>
            <p:nvPr/>
          </p:nvSpPr>
          <p:spPr>
            <a:xfrm rot="10800000">
              <a:off x="2043000" y="4105080"/>
              <a:ext cx="75960" cy="75960"/>
            </a:xfrm>
            <a:prstGeom prst="ellipse">
              <a:avLst/>
            </a:prstGeom>
            <a:solidFill>
              <a:srgbClr val="ffc000"/>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5" name="Oval 19"/>
            <p:cNvSpPr/>
            <p:nvPr/>
          </p:nvSpPr>
          <p:spPr>
            <a:xfrm rot="10800000">
              <a:off x="1788120" y="4105080"/>
              <a:ext cx="75960" cy="75960"/>
            </a:xfrm>
            <a:prstGeom prst="ellipse">
              <a:avLst/>
            </a:prstGeom>
            <a:solidFill>
              <a:srgbClr val="ffc000"/>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6" name="Oval 20"/>
            <p:cNvSpPr/>
            <p:nvPr/>
          </p:nvSpPr>
          <p:spPr>
            <a:xfrm rot="10800000">
              <a:off x="1533240" y="4105080"/>
              <a:ext cx="75960" cy="75960"/>
            </a:xfrm>
            <a:prstGeom prst="ellipse">
              <a:avLst/>
            </a:prstGeom>
            <a:solidFill>
              <a:srgbClr val="ffc000"/>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087" name="Group 48" descr=""/>
          <p:cNvPicPr/>
          <p:nvPr/>
        </p:nvPicPr>
        <p:blipFill>
          <a:blip r:embed="rId3"/>
          <a:stretch/>
        </p:blipFill>
        <p:spPr>
          <a:xfrm>
            <a:off x="10307520" y="433440"/>
            <a:ext cx="1225800" cy="212760"/>
          </a:xfrm>
          <a:prstGeom prst="rect">
            <a:avLst/>
          </a:prstGeom>
          <a:ln w="0">
            <a:noFill/>
          </a:ln>
        </p:spPr>
      </p:pic>
      <p:pic>
        <p:nvPicPr>
          <p:cNvPr id="2088" name="Graphic 21" descr=""/>
          <p:cNvPicPr/>
          <p:nvPr/>
        </p:nvPicPr>
        <p:blipFill>
          <a:blip r:embed="rId4"/>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TextBox 3"/>
          <p:cNvSpPr/>
          <p:nvPr/>
        </p:nvSpPr>
        <p:spPr>
          <a:xfrm>
            <a:off x="1044720" y="4060800"/>
            <a:ext cx="3368520" cy="159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 quae ab illo inventore veritatis et quasi architecto beatae vitaecal dicta sunt</a:t>
            </a:r>
            <a:r>
              <a:rPr b="0" lang="en-GB" sz="1100" spc="-1" strike="noStrike">
                <a:solidFill>
                  <a:srgbClr val="7f7f7f"/>
                </a:solidFill>
                <a:latin typeface="Lato"/>
              </a:rPr>
              <a:t>. D</a:t>
            </a:r>
            <a:r>
              <a:rPr b="0" lang="id-ID" sz="1100" spc="-1" strike="noStrike">
                <a:solidFill>
                  <a:srgbClr val="7f7f7f"/>
                </a:solidFill>
                <a:latin typeface="Lato"/>
              </a:rPr>
              <a:t>eritatis et quasi architecto beatae vitaecal dicta sunt</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734" name="TextBox 4"/>
          <p:cNvSpPr/>
          <p:nvPr/>
        </p:nvSpPr>
        <p:spPr>
          <a:xfrm>
            <a:off x="1044720" y="1704960"/>
            <a:ext cx="3368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Roboto Black"/>
                <a:ea typeface="Roboto Black"/>
              </a:rPr>
              <a:t>New Solution Of </a:t>
            </a:r>
            <a:r>
              <a:rPr b="0" i="1" lang="en-GB" sz="4000" spc="-1" strike="noStrike">
                <a:solidFill>
                  <a:srgbClr val="236e96"/>
                </a:solidFill>
                <a:latin typeface="Roboto Black"/>
                <a:ea typeface="Roboto Black"/>
              </a:rPr>
              <a:t>Telework.</a:t>
            </a:r>
            <a:endParaRPr b="0" lang="en-US" sz="4000" spc="-1" strike="noStrike">
              <a:solidFill>
                <a:srgbClr val="000000"/>
              </a:solidFill>
              <a:latin typeface="Calibri"/>
            </a:endParaRPr>
          </a:p>
        </p:txBody>
      </p:sp>
      <p:sp>
        <p:nvSpPr>
          <p:cNvPr id="1735" name="TextBox 6"/>
          <p:cNvSpPr/>
          <p:nvPr/>
        </p:nvSpPr>
        <p:spPr>
          <a:xfrm>
            <a:off x="1058760" y="42876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1736" name="Rectangle 7"/>
          <p:cNvSpPr/>
          <p:nvPr/>
        </p:nvSpPr>
        <p:spPr>
          <a:xfrm>
            <a:off x="5427720" y="4781520"/>
            <a:ext cx="3673440" cy="862200"/>
          </a:xfrm>
          <a:prstGeom prst="rect">
            <a:avLst/>
          </a:prstGeom>
          <a:solidFill>
            <a:srgbClr val="15b2d3">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7" name="Rectangle: Rounded Corners 14"/>
          <p:cNvSpPr/>
          <p:nvPr/>
        </p:nvSpPr>
        <p:spPr>
          <a:xfrm>
            <a:off x="1143000" y="3367080"/>
            <a:ext cx="320760" cy="32076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8" name="Rectangle: Rounded Corners 15"/>
          <p:cNvSpPr/>
          <p:nvPr/>
        </p:nvSpPr>
        <p:spPr>
          <a:xfrm>
            <a:off x="1576440" y="3367080"/>
            <a:ext cx="320760" cy="320760"/>
          </a:xfrm>
          <a:prstGeom prst="roundRect">
            <a:avLst>
              <a:gd name="adj" fmla="val 16667"/>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9" name="TextBox 16"/>
          <p:cNvSpPr/>
          <p:nvPr/>
        </p:nvSpPr>
        <p:spPr>
          <a:xfrm>
            <a:off x="5756400" y="5211720"/>
            <a:ext cx="30160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f2f2f2"/>
                </a:solidFill>
                <a:latin typeface="Lato"/>
              </a:rPr>
              <a:t>Sed utera perspiciatis unde omnis iste unde omnis</a:t>
            </a:r>
            <a:r>
              <a:rPr b="0" i="1" lang="en-GB" sz="1100" spc="-1" strike="noStrike">
                <a:solidFill>
                  <a:srgbClr val="f2f2f2"/>
                </a:solidFill>
                <a:latin typeface="Lato"/>
              </a:rPr>
              <a:t>.</a:t>
            </a:r>
            <a:endParaRPr b="0" lang="en-US" sz="1100" spc="-1" strike="noStrike">
              <a:solidFill>
                <a:srgbClr val="000000"/>
              </a:solidFill>
              <a:latin typeface="Calibri"/>
            </a:endParaRPr>
          </a:p>
        </p:txBody>
      </p:sp>
      <p:sp>
        <p:nvSpPr>
          <p:cNvPr id="1740" name="TextBox 17"/>
          <p:cNvSpPr/>
          <p:nvPr/>
        </p:nvSpPr>
        <p:spPr>
          <a:xfrm>
            <a:off x="5770440" y="4941720"/>
            <a:ext cx="26942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Lato"/>
              </a:rPr>
              <a:t>Lorem Ipsum Dolour.</a:t>
            </a:r>
            <a:endParaRPr b="0" lang="en-US" sz="1200" spc="-1" strike="noStrike">
              <a:solidFill>
                <a:srgbClr val="000000"/>
              </a:solidFill>
              <a:latin typeface="Calibri"/>
            </a:endParaRPr>
          </a:p>
        </p:txBody>
      </p:sp>
      <p:pic>
        <p:nvPicPr>
          <p:cNvPr id="1741" name="Graphic 18" descr=""/>
          <p:cNvPicPr/>
          <p:nvPr/>
        </p:nvPicPr>
        <p:blipFill>
          <a:blip r:embed="rId1"/>
          <a:stretch/>
        </p:blipFill>
        <p:spPr>
          <a:xfrm>
            <a:off x="378000" y="378000"/>
            <a:ext cx="366480" cy="368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9" name="Picture 2" descr=""/>
          <p:cNvPicPr/>
          <p:nvPr/>
        </p:nvPicPr>
        <p:blipFill>
          <a:blip r:embed="rId1"/>
          <a:stretch/>
        </p:blipFill>
        <p:spPr>
          <a:xfrm>
            <a:off x="-312840" y="1028880"/>
            <a:ext cx="6908760" cy="5829120"/>
          </a:xfrm>
          <a:prstGeom prst="rect">
            <a:avLst/>
          </a:prstGeom>
          <a:ln w="0">
            <a:noFill/>
          </a:ln>
        </p:spPr>
      </p:pic>
      <p:sp>
        <p:nvSpPr>
          <p:cNvPr id="2090" name="TextBox 10"/>
          <p:cNvSpPr/>
          <p:nvPr/>
        </p:nvSpPr>
        <p:spPr>
          <a:xfrm>
            <a:off x="7450200" y="1182600"/>
            <a:ext cx="376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Roboto Black"/>
                <a:ea typeface="Roboto Black"/>
              </a:rPr>
              <a:t>Online </a:t>
            </a:r>
            <a:r>
              <a:rPr b="0" i="1" lang="en-GB" sz="3200" spc="-1" strike="noStrike">
                <a:solidFill>
                  <a:srgbClr val="236e96"/>
                </a:solidFill>
                <a:latin typeface="Roboto Black"/>
                <a:ea typeface="Roboto Black"/>
              </a:rPr>
              <a:t>Work Method</a:t>
            </a:r>
            <a:r>
              <a:rPr b="0" lang="en-GB" sz="3200" spc="-1" strike="noStrike">
                <a:solidFill>
                  <a:srgbClr val="000000"/>
                </a:solidFill>
                <a:latin typeface="Roboto Black"/>
                <a:ea typeface="Roboto Black"/>
              </a:rPr>
              <a:t> Provide Us </a:t>
            </a:r>
            <a:r>
              <a:rPr b="0" i="1" lang="en-GB" sz="3200" spc="-1" strike="noStrike">
                <a:solidFill>
                  <a:srgbClr val="236e96"/>
                </a:solidFill>
                <a:latin typeface="Roboto Black"/>
                <a:ea typeface="Roboto Black"/>
              </a:rPr>
              <a:t>Flexibility</a:t>
            </a:r>
            <a:r>
              <a:rPr b="0" lang="en-GB" sz="3200" spc="-1" strike="noStrike">
                <a:solidFill>
                  <a:srgbClr val="000000"/>
                </a:solidFill>
                <a:latin typeface="Roboto Black"/>
                <a:ea typeface="Roboto Black"/>
              </a:rPr>
              <a:t> Process</a:t>
            </a:r>
            <a:endParaRPr b="0" lang="en-US" sz="3200" spc="-1" strike="noStrike">
              <a:solidFill>
                <a:srgbClr val="000000"/>
              </a:solidFill>
              <a:latin typeface="Calibri"/>
            </a:endParaRPr>
          </a:p>
        </p:txBody>
      </p:sp>
      <p:sp>
        <p:nvSpPr>
          <p:cNvPr id="2091" name="TextBox 13"/>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092" name="TextBox 14"/>
          <p:cNvSpPr/>
          <p:nvPr/>
        </p:nvSpPr>
        <p:spPr>
          <a:xfrm>
            <a:off x="7450200" y="5006880"/>
            <a:ext cx="37656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 </a:t>
            </a:r>
            <a:r>
              <a:rPr b="0" lang="id-ID" sz="1100" spc="-1" strike="noStrike">
                <a:solidFill>
                  <a:srgbClr val="7f7f7f"/>
                </a:solidFill>
                <a:latin typeface="Lato"/>
              </a:rPr>
              <a:t>um,</a:t>
            </a:r>
            <a:r>
              <a:rPr b="0" lang="en-GB" sz="1100" spc="-1" strike="noStrike">
                <a:solidFill>
                  <a:srgbClr val="7f7f7f"/>
                </a:solidFill>
                <a:latin typeface="Lato"/>
              </a:rPr>
              <a:t> </a:t>
            </a:r>
            <a:r>
              <a:rPr b="0" lang="id-ID" sz="1100" spc="-1" strike="noStrike">
                <a:solidFill>
                  <a:srgbClr val="7f7f7f"/>
                </a:solidFill>
                <a:latin typeface="Lato"/>
              </a:rPr>
              <a:t>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093" name="TextBox 15"/>
          <p:cNvSpPr/>
          <p:nvPr/>
        </p:nvSpPr>
        <p:spPr>
          <a:xfrm>
            <a:off x="7450200" y="4622760"/>
            <a:ext cx="230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95959"/>
                </a:solidFill>
                <a:latin typeface="Lato Black"/>
              </a:rPr>
              <a:t>Your Text Here</a:t>
            </a:r>
            <a:endParaRPr b="0" lang="en-US" sz="1600" spc="-1" strike="noStrike">
              <a:solidFill>
                <a:srgbClr val="000000"/>
              </a:solidFill>
              <a:latin typeface="Calibri"/>
            </a:endParaRPr>
          </a:p>
        </p:txBody>
      </p:sp>
      <p:sp>
        <p:nvSpPr>
          <p:cNvPr id="2094" name="Rectangle: Rounded Corners 16"/>
          <p:cNvSpPr/>
          <p:nvPr/>
        </p:nvSpPr>
        <p:spPr>
          <a:xfrm>
            <a:off x="7566120" y="3765600"/>
            <a:ext cx="320760" cy="32076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5" name="Rectangle: Rounded Corners 17"/>
          <p:cNvSpPr/>
          <p:nvPr/>
        </p:nvSpPr>
        <p:spPr>
          <a:xfrm>
            <a:off x="7999560" y="3765600"/>
            <a:ext cx="320400" cy="320760"/>
          </a:xfrm>
          <a:custGeom>
            <a:avLst/>
            <a:gdLst>
              <a:gd name="textAreaLeft" fmla="*/ 15480 w 320400"/>
              <a:gd name="textAreaRight" fmla="*/ 304920 w 320400"/>
              <a:gd name="textAreaTop" fmla="*/ 15480 h 320760"/>
              <a:gd name="textAreaBottom" fmla="*/ 305280 h 320760"/>
            </a:gdLst>
            <a:ahLst/>
            <a:rect l="textAreaLeft" t="textAreaTop" r="textAreaRight" b="textAreaBottom"/>
            <a:pathLst>
              <a:path w="21600" h="21624">
                <a:moveTo>
                  <a:pt x="3600" y="0"/>
                </a:moveTo>
                <a:arcTo wR="3600" hR="3600" stAng="16200000" swAng="-5400000"/>
                <a:lnTo>
                  <a:pt x="0" y="18024"/>
                </a:lnTo>
                <a:arcTo wR="3600" hR="3600" stAng="10800000" swAng="-5400000"/>
                <a:lnTo>
                  <a:pt x="18000" y="21624"/>
                </a:lnTo>
                <a:arcTo wR="3600" hR="3600" stAng="5400000" swAng="-5400000"/>
                <a:lnTo>
                  <a:pt x="21600" y="3600"/>
                </a:lnTo>
                <a:arcTo wR="3600" hR="3600" stAng="0" swAng="-5400000"/>
                <a:close/>
              </a:path>
            </a:pathLst>
          </a:cu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6" name="Rectangle 20"/>
          <p:cNvSpPr/>
          <p:nvPr/>
        </p:nvSpPr>
        <p:spPr>
          <a:xfrm>
            <a:off x="9987120" y="0"/>
            <a:ext cx="2205000" cy="5014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97" name="Graphic 11" descr=""/>
          <p:cNvPicPr/>
          <p:nvPr/>
        </p:nvPicPr>
        <p:blipFill>
          <a:blip r:embed="rId2"/>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8" name="Picture 2" descr=""/>
          <p:cNvPicPr/>
          <p:nvPr/>
        </p:nvPicPr>
        <p:blipFill>
          <a:blip r:embed="rId1"/>
          <a:stretch/>
        </p:blipFill>
        <p:spPr>
          <a:xfrm>
            <a:off x="4917960" y="787320"/>
            <a:ext cx="3638520" cy="5283360"/>
          </a:xfrm>
          <a:prstGeom prst="rect">
            <a:avLst/>
          </a:prstGeom>
          <a:ln w="0">
            <a:noFill/>
          </a:ln>
        </p:spPr>
      </p:pic>
      <p:sp>
        <p:nvSpPr>
          <p:cNvPr id="2099" name="TextBox 7"/>
          <p:cNvSpPr/>
          <p:nvPr/>
        </p:nvSpPr>
        <p:spPr>
          <a:xfrm>
            <a:off x="797040" y="1314360"/>
            <a:ext cx="33433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236e96"/>
                </a:solidFill>
                <a:latin typeface="Roboto Black"/>
                <a:ea typeface="Roboto Black"/>
              </a:rPr>
              <a:t>Face to Face </a:t>
            </a:r>
            <a:r>
              <a:rPr b="0" lang="en-GB" sz="4000" spc="-1" strike="noStrike">
                <a:solidFill>
                  <a:srgbClr val="000000"/>
                </a:solidFill>
                <a:latin typeface="Roboto Black"/>
                <a:ea typeface="Roboto Black"/>
              </a:rPr>
              <a:t>Method Will Become </a:t>
            </a:r>
            <a:r>
              <a:rPr b="0" i="1" lang="en-GB" sz="4000" spc="-1" strike="noStrike">
                <a:solidFill>
                  <a:srgbClr val="236e96"/>
                </a:solidFill>
                <a:latin typeface="Roboto Black"/>
                <a:ea typeface="Roboto Black"/>
              </a:rPr>
              <a:t>Common</a:t>
            </a:r>
            <a:endParaRPr b="0" lang="en-US" sz="4000" spc="-1" strike="noStrike">
              <a:solidFill>
                <a:srgbClr val="000000"/>
              </a:solidFill>
              <a:latin typeface="Calibri"/>
            </a:endParaRPr>
          </a:p>
        </p:txBody>
      </p:sp>
      <p:sp>
        <p:nvSpPr>
          <p:cNvPr id="2100" name="TextBox 12"/>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101" name="TextBox 14"/>
          <p:cNvSpPr/>
          <p:nvPr/>
        </p:nvSpPr>
        <p:spPr>
          <a:xfrm>
            <a:off x="9171000" y="4381560"/>
            <a:ext cx="21002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02" name="TextBox 15"/>
          <p:cNvSpPr/>
          <p:nvPr/>
        </p:nvSpPr>
        <p:spPr>
          <a:xfrm>
            <a:off x="797040" y="5249880"/>
            <a:ext cx="33433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03" name="TextBox 16"/>
          <p:cNvSpPr/>
          <p:nvPr/>
        </p:nvSpPr>
        <p:spPr>
          <a:xfrm>
            <a:off x="9066240" y="3738600"/>
            <a:ext cx="230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pic>
        <p:nvPicPr>
          <p:cNvPr id="2104" name="Group 18" descr=""/>
          <p:cNvPicPr/>
          <p:nvPr/>
        </p:nvPicPr>
        <p:blipFill>
          <a:blip r:embed="rId2"/>
          <a:stretch/>
        </p:blipFill>
        <p:spPr>
          <a:xfrm>
            <a:off x="9607680" y="1359000"/>
            <a:ext cx="1225440" cy="220680"/>
          </a:xfrm>
          <a:prstGeom prst="rect">
            <a:avLst/>
          </a:prstGeom>
          <a:ln w="0">
            <a:noFill/>
          </a:ln>
        </p:spPr>
      </p:pic>
      <p:sp>
        <p:nvSpPr>
          <p:cNvPr id="2105" name="Straight Connector 29"/>
          <p:cNvSpPr/>
          <p:nvPr/>
        </p:nvSpPr>
        <p:spPr>
          <a:xfrm>
            <a:off x="888840" y="4849920"/>
            <a:ext cx="104148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106" name="Group 32" descr=""/>
          <p:cNvPicPr/>
          <p:nvPr/>
        </p:nvPicPr>
        <p:blipFill>
          <a:blip r:embed="rId3"/>
          <a:stretch/>
        </p:blipFill>
        <p:spPr>
          <a:xfrm>
            <a:off x="6345360" y="6327720"/>
            <a:ext cx="780840" cy="195480"/>
          </a:xfrm>
          <a:prstGeom prst="rect">
            <a:avLst/>
          </a:prstGeom>
          <a:ln w="0">
            <a:noFill/>
          </a:ln>
        </p:spPr>
      </p:pic>
      <p:pic>
        <p:nvPicPr>
          <p:cNvPr id="2107" name="Graphic 22" descr=""/>
          <p:cNvPicPr/>
          <p:nvPr/>
        </p:nvPicPr>
        <p:blipFill>
          <a:blip r:embed="rId4"/>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TextBox 9"/>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109" name="TextBox 10"/>
          <p:cNvSpPr/>
          <p:nvPr/>
        </p:nvSpPr>
        <p:spPr>
          <a:xfrm>
            <a:off x="4219560" y="928800"/>
            <a:ext cx="375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Roboto Black"/>
                <a:ea typeface="Roboto Black"/>
              </a:rPr>
              <a:t>Strengths</a:t>
            </a:r>
            <a:endParaRPr b="0" lang="en-US" sz="3200" spc="-1" strike="noStrike">
              <a:solidFill>
                <a:srgbClr val="000000"/>
              </a:solidFill>
              <a:latin typeface="Calibri"/>
            </a:endParaRPr>
          </a:p>
        </p:txBody>
      </p:sp>
      <p:sp>
        <p:nvSpPr>
          <p:cNvPr id="2110" name="TextBox 11"/>
          <p:cNvSpPr/>
          <p:nvPr/>
        </p:nvSpPr>
        <p:spPr>
          <a:xfrm>
            <a:off x="1687680" y="4387680"/>
            <a:ext cx="23079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11" name="TextBox 12"/>
          <p:cNvSpPr/>
          <p:nvPr/>
        </p:nvSpPr>
        <p:spPr>
          <a:xfrm>
            <a:off x="1687680" y="4003560"/>
            <a:ext cx="230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12" name="TextBox 21"/>
          <p:cNvSpPr/>
          <p:nvPr/>
        </p:nvSpPr>
        <p:spPr>
          <a:xfrm>
            <a:off x="8196120" y="4387680"/>
            <a:ext cx="23083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13" name="TextBox 22"/>
          <p:cNvSpPr/>
          <p:nvPr/>
        </p:nvSpPr>
        <p:spPr>
          <a:xfrm>
            <a:off x="8196120" y="4003560"/>
            <a:ext cx="230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pic>
        <p:nvPicPr>
          <p:cNvPr id="2114" name="Group 24" descr=""/>
          <p:cNvPicPr/>
          <p:nvPr/>
        </p:nvPicPr>
        <p:blipFill>
          <a:blip r:embed="rId1"/>
          <a:stretch/>
        </p:blipFill>
        <p:spPr>
          <a:xfrm>
            <a:off x="11442600" y="3035160"/>
            <a:ext cx="195480" cy="787680"/>
          </a:xfrm>
          <a:prstGeom prst="rect">
            <a:avLst/>
          </a:prstGeom>
          <a:ln w="0">
            <a:noFill/>
          </a:ln>
        </p:spPr>
      </p:pic>
      <p:sp>
        <p:nvSpPr>
          <p:cNvPr id="2115" name="Rectangle 19"/>
          <p:cNvSpPr/>
          <p:nvPr/>
        </p:nvSpPr>
        <p:spPr>
          <a:xfrm>
            <a:off x="10320480" y="0"/>
            <a:ext cx="1871640" cy="5014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16" name="Group 20" descr=""/>
          <p:cNvPicPr/>
          <p:nvPr/>
        </p:nvPicPr>
        <p:blipFill>
          <a:blip r:embed="rId2"/>
          <a:stretch/>
        </p:blipFill>
        <p:spPr>
          <a:xfrm>
            <a:off x="10644120" y="139680"/>
            <a:ext cx="1224000" cy="220680"/>
          </a:xfrm>
          <a:prstGeom prst="rect">
            <a:avLst/>
          </a:prstGeom>
          <a:ln w="0">
            <a:noFill/>
          </a:ln>
        </p:spPr>
      </p:pic>
      <p:pic>
        <p:nvPicPr>
          <p:cNvPr id="2117" name="Graphic 29" descr=""/>
          <p:cNvPicPr/>
          <p:nvPr/>
        </p:nvPicPr>
        <p:blipFill>
          <a:blip r:embed="rId3"/>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TextBox 3"/>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119" name="TextBox 4"/>
          <p:cNvSpPr/>
          <p:nvPr/>
        </p:nvSpPr>
        <p:spPr>
          <a:xfrm>
            <a:off x="4219560" y="928800"/>
            <a:ext cx="375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Roboto Black"/>
                <a:ea typeface="Roboto Black"/>
              </a:rPr>
              <a:t>Weaknesses</a:t>
            </a:r>
            <a:endParaRPr b="0" lang="en-US" sz="3200" spc="-1" strike="noStrike">
              <a:solidFill>
                <a:srgbClr val="000000"/>
              </a:solidFill>
              <a:latin typeface="Calibri"/>
            </a:endParaRPr>
          </a:p>
        </p:txBody>
      </p:sp>
      <p:sp>
        <p:nvSpPr>
          <p:cNvPr id="2120" name="TextBox 7"/>
          <p:cNvSpPr/>
          <p:nvPr/>
        </p:nvSpPr>
        <p:spPr>
          <a:xfrm>
            <a:off x="8767800" y="2717640"/>
            <a:ext cx="23083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21" name="TextBox 8"/>
          <p:cNvSpPr/>
          <p:nvPr/>
        </p:nvSpPr>
        <p:spPr>
          <a:xfrm>
            <a:off x="8767800" y="2333520"/>
            <a:ext cx="2308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22" name="TextBox 9"/>
          <p:cNvSpPr/>
          <p:nvPr/>
        </p:nvSpPr>
        <p:spPr>
          <a:xfrm>
            <a:off x="8767800" y="4525920"/>
            <a:ext cx="23083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23" name="TextBox 10"/>
          <p:cNvSpPr/>
          <p:nvPr/>
        </p:nvSpPr>
        <p:spPr>
          <a:xfrm>
            <a:off x="8767800" y="4141800"/>
            <a:ext cx="2308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24" name="TextBox 11"/>
          <p:cNvSpPr/>
          <p:nvPr/>
        </p:nvSpPr>
        <p:spPr>
          <a:xfrm>
            <a:off x="1546200" y="3763800"/>
            <a:ext cx="188280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 </a:t>
            </a:r>
            <a:r>
              <a:rPr b="0" lang="id-ID" sz="1100" spc="-1" strike="noStrike">
                <a:solidFill>
                  <a:srgbClr val="7f7f7f"/>
                </a:solidFill>
                <a:latin typeface="Lato"/>
              </a:rPr>
              <a:t>um,</a:t>
            </a:r>
            <a:r>
              <a:rPr b="0" lang="en-GB" sz="1100" spc="-1" strike="noStrike">
                <a:solidFill>
                  <a:srgbClr val="7f7f7f"/>
                </a:solidFill>
                <a:latin typeface="Lato"/>
              </a:rPr>
              <a:t> </a:t>
            </a:r>
            <a:r>
              <a:rPr b="0" lang="id-ID" sz="1100" spc="-1" strike="noStrike">
                <a:solidFill>
                  <a:srgbClr val="7f7f7f"/>
                </a:solidFill>
                <a:latin typeface="Lato"/>
              </a:rPr>
              <a:t>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25" name="TextBox 12"/>
          <p:cNvSpPr/>
          <p:nvPr/>
        </p:nvSpPr>
        <p:spPr>
          <a:xfrm>
            <a:off x="1546200" y="2544840"/>
            <a:ext cx="1882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95959"/>
                </a:solidFill>
                <a:latin typeface="Lato Black"/>
              </a:rPr>
              <a:t>Your Text Here</a:t>
            </a:r>
            <a:endParaRPr b="0" lang="en-US" sz="2400" spc="-1" strike="noStrike">
              <a:solidFill>
                <a:srgbClr val="000000"/>
              </a:solidFill>
              <a:latin typeface="Calibri"/>
            </a:endParaRPr>
          </a:p>
        </p:txBody>
      </p:sp>
      <p:pic>
        <p:nvPicPr>
          <p:cNvPr id="2126" name="Group 13" descr=""/>
          <p:cNvPicPr/>
          <p:nvPr/>
        </p:nvPicPr>
        <p:blipFill>
          <a:blip r:embed="rId1"/>
          <a:stretch/>
        </p:blipFill>
        <p:spPr>
          <a:xfrm>
            <a:off x="11490480" y="3035160"/>
            <a:ext cx="201600" cy="787680"/>
          </a:xfrm>
          <a:prstGeom prst="rect">
            <a:avLst/>
          </a:prstGeom>
          <a:ln w="0">
            <a:noFill/>
          </a:ln>
        </p:spPr>
      </p:pic>
      <p:sp>
        <p:nvSpPr>
          <p:cNvPr id="2127" name="Rectangle 21"/>
          <p:cNvSpPr/>
          <p:nvPr/>
        </p:nvSpPr>
        <p:spPr>
          <a:xfrm>
            <a:off x="10320480" y="0"/>
            <a:ext cx="1871640" cy="5014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28" name="Group 22" descr=""/>
          <p:cNvPicPr/>
          <p:nvPr/>
        </p:nvPicPr>
        <p:blipFill>
          <a:blip r:embed="rId2"/>
          <a:stretch/>
        </p:blipFill>
        <p:spPr>
          <a:xfrm>
            <a:off x="10644120" y="139680"/>
            <a:ext cx="1224000" cy="220680"/>
          </a:xfrm>
          <a:prstGeom prst="rect">
            <a:avLst/>
          </a:prstGeom>
          <a:ln w="0">
            <a:noFill/>
          </a:ln>
        </p:spPr>
      </p:pic>
      <p:pic>
        <p:nvPicPr>
          <p:cNvPr id="2129" name="Graphic 19" descr=""/>
          <p:cNvPicPr/>
          <p:nvPr/>
        </p:nvPicPr>
        <p:blipFill>
          <a:blip r:embed="rId3"/>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TextBox 3"/>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131" name="TextBox 4"/>
          <p:cNvSpPr/>
          <p:nvPr/>
        </p:nvSpPr>
        <p:spPr>
          <a:xfrm>
            <a:off x="4219560" y="928800"/>
            <a:ext cx="375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Roboto Black"/>
                <a:ea typeface="Roboto Black"/>
              </a:rPr>
              <a:t>Opportunities</a:t>
            </a:r>
            <a:endParaRPr b="0" lang="en-US" sz="3200" spc="-1" strike="noStrike">
              <a:solidFill>
                <a:srgbClr val="000000"/>
              </a:solidFill>
              <a:latin typeface="Calibri"/>
            </a:endParaRPr>
          </a:p>
        </p:txBody>
      </p:sp>
      <p:pic>
        <p:nvPicPr>
          <p:cNvPr id="2132" name="Group 6" descr=""/>
          <p:cNvPicPr/>
          <p:nvPr/>
        </p:nvPicPr>
        <p:blipFill>
          <a:blip r:embed="rId1"/>
          <a:stretch/>
        </p:blipFill>
        <p:spPr>
          <a:xfrm>
            <a:off x="11442600" y="3035160"/>
            <a:ext cx="195480" cy="787680"/>
          </a:xfrm>
          <a:prstGeom prst="rect">
            <a:avLst/>
          </a:prstGeom>
          <a:ln w="0">
            <a:noFill/>
          </a:ln>
        </p:spPr>
      </p:pic>
      <p:sp>
        <p:nvSpPr>
          <p:cNvPr id="2133" name="TextBox 18"/>
          <p:cNvSpPr/>
          <p:nvPr/>
        </p:nvSpPr>
        <p:spPr>
          <a:xfrm>
            <a:off x="8196120" y="4387680"/>
            <a:ext cx="23083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34" name="TextBox 19"/>
          <p:cNvSpPr/>
          <p:nvPr/>
        </p:nvSpPr>
        <p:spPr>
          <a:xfrm>
            <a:off x="8196120" y="4003560"/>
            <a:ext cx="230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35" name="TextBox 20"/>
          <p:cNvSpPr/>
          <p:nvPr/>
        </p:nvSpPr>
        <p:spPr>
          <a:xfrm>
            <a:off x="8785080" y="2751120"/>
            <a:ext cx="179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5b2d3"/>
                </a:solidFill>
                <a:latin typeface="Lato"/>
              </a:rPr>
              <a:t>56,8%</a:t>
            </a:r>
            <a:endParaRPr b="0" lang="en-US" sz="4400" spc="-1" strike="noStrike">
              <a:solidFill>
                <a:srgbClr val="000000"/>
              </a:solidFill>
              <a:latin typeface="Calibri"/>
            </a:endParaRPr>
          </a:p>
        </p:txBody>
      </p:sp>
      <p:sp>
        <p:nvSpPr>
          <p:cNvPr id="2136" name="TextBox 23"/>
          <p:cNvSpPr/>
          <p:nvPr/>
        </p:nvSpPr>
        <p:spPr>
          <a:xfrm>
            <a:off x="1546200" y="3314880"/>
            <a:ext cx="244944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 </a:t>
            </a:r>
            <a:r>
              <a:rPr b="0" lang="id-ID" sz="1100" spc="-1" strike="noStrike">
                <a:solidFill>
                  <a:srgbClr val="7f7f7f"/>
                </a:solidFill>
                <a:latin typeface="Lato"/>
              </a:rPr>
              <a:t>um,</a:t>
            </a:r>
            <a:r>
              <a:rPr b="0" lang="en-GB" sz="1100" spc="-1" strike="noStrike">
                <a:solidFill>
                  <a:srgbClr val="7f7f7f"/>
                </a:solidFill>
                <a:latin typeface="Lato"/>
              </a:rPr>
              <a:t> </a:t>
            </a:r>
            <a:r>
              <a:rPr b="0" lang="id-ID" sz="1100" spc="-1" strike="noStrike">
                <a:solidFill>
                  <a:srgbClr val="7f7f7f"/>
                </a:solidFill>
                <a:latin typeface="Lato"/>
              </a:rPr>
              <a:t>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37" name="TextBox 24"/>
          <p:cNvSpPr/>
          <p:nvPr/>
        </p:nvSpPr>
        <p:spPr>
          <a:xfrm>
            <a:off x="1546200" y="2495520"/>
            <a:ext cx="24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95959"/>
                </a:solidFill>
                <a:latin typeface="Lato Black"/>
              </a:rPr>
              <a:t>Your Text Here</a:t>
            </a:r>
            <a:endParaRPr b="0" lang="en-US" sz="2400" spc="-1" strike="noStrike">
              <a:solidFill>
                <a:srgbClr val="000000"/>
              </a:solidFill>
              <a:latin typeface="Calibri"/>
            </a:endParaRPr>
          </a:p>
        </p:txBody>
      </p:sp>
      <p:sp>
        <p:nvSpPr>
          <p:cNvPr id="2138" name="TextBox 25"/>
          <p:cNvSpPr/>
          <p:nvPr/>
        </p:nvSpPr>
        <p:spPr>
          <a:xfrm>
            <a:off x="1546200" y="4641840"/>
            <a:ext cx="23097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39" name="Rectangle 21"/>
          <p:cNvSpPr/>
          <p:nvPr/>
        </p:nvSpPr>
        <p:spPr>
          <a:xfrm>
            <a:off x="10320480" y="0"/>
            <a:ext cx="1871640" cy="5014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40" name="Group 26" descr=""/>
          <p:cNvPicPr/>
          <p:nvPr/>
        </p:nvPicPr>
        <p:blipFill>
          <a:blip r:embed="rId2"/>
          <a:stretch/>
        </p:blipFill>
        <p:spPr>
          <a:xfrm>
            <a:off x="10644120" y="139680"/>
            <a:ext cx="1224000" cy="220680"/>
          </a:xfrm>
          <a:prstGeom prst="rect">
            <a:avLst/>
          </a:prstGeom>
          <a:ln w="0">
            <a:noFill/>
          </a:ln>
        </p:spPr>
      </p:pic>
      <p:pic>
        <p:nvPicPr>
          <p:cNvPr id="2141" name="Graphic 31" descr=""/>
          <p:cNvPicPr/>
          <p:nvPr/>
        </p:nvPicPr>
        <p:blipFill>
          <a:blip r:embed="rId3"/>
          <a:stretch/>
        </p:blipFill>
        <p:spPr>
          <a:xfrm>
            <a:off x="363600" y="369720"/>
            <a:ext cx="366480" cy="366840"/>
          </a:xfrm>
          <a:prstGeom prst="rect">
            <a:avLst/>
          </a:prstGeom>
          <a:ln w="0">
            <a:noFill/>
          </a:ln>
        </p:spPr>
      </p:pic>
      <p:pic>
        <p:nvPicPr>
          <p:cNvPr id="2142" name="Graphic 1" descr=""/>
          <p:cNvPicPr/>
          <p:nvPr/>
        </p:nvPicPr>
        <p:blipFill>
          <a:blip r:embed="rId4"/>
          <a:stretch/>
        </p:blipFill>
        <p:spPr>
          <a:xfrm>
            <a:off x="8238960" y="2855880"/>
            <a:ext cx="525600" cy="52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TextBox 3"/>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144" name="TextBox 4"/>
          <p:cNvSpPr/>
          <p:nvPr/>
        </p:nvSpPr>
        <p:spPr>
          <a:xfrm>
            <a:off x="4219560" y="928800"/>
            <a:ext cx="375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Roboto Black"/>
                <a:ea typeface="Roboto Black"/>
              </a:rPr>
              <a:t>Threats</a:t>
            </a:r>
            <a:endParaRPr b="0" lang="en-US" sz="3200" spc="-1" strike="noStrike">
              <a:solidFill>
                <a:srgbClr val="000000"/>
              </a:solidFill>
              <a:latin typeface="Calibri"/>
            </a:endParaRPr>
          </a:p>
        </p:txBody>
      </p:sp>
      <p:pic>
        <p:nvPicPr>
          <p:cNvPr id="2145" name="Group 8" descr=""/>
          <p:cNvPicPr/>
          <p:nvPr/>
        </p:nvPicPr>
        <p:blipFill>
          <a:blip r:embed="rId1"/>
          <a:stretch/>
        </p:blipFill>
        <p:spPr>
          <a:xfrm>
            <a:off x="11442600" y="3035160"/>
            <a:ext cx="195480" cy="787680"/>
          </a:xfrm>
          <a:prstGeom prst="rect">
            <a:avLst/>
          </a:prstGeom>
          <a:ln w="0">
            <a:noFill/>
          </a:ln>
        </p:spPr>
      </p:pic>
      <p:sp>
        <p:nvSpPr>
          <p:cNvPr id="2146" name="TextBox 16"/>
          <p:cNvSpPr/>
          <p:nvPr/>
        </p:nvSpPr>
        <p:spPr>
          <a:xfrm>
            <a:off x="8169120" y="2963880"/>
            <a:ext cx="23101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47" name="TextBox 17"/>
          <p:cNvSpPr/>
          <p:nvPr/>
        </p:nvSpPr>
        <p:spPr>
          <a:xfrm>
            <a:off x="8169120" y="2579760"/>
            <a:ext cx="23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48" name="TextBox 26"/>
          <p:cNvSpPr/>
          <p:nvPr/>
        </p:nvSpPr>
        <p:spPr>
          <a:xfrm>
            <a:off x="8169120" y="4011480"/>
            <a:ext cx="23101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49" name="TextBox 27"/>
          <p:cNvSpPr/>
          <p:nvPr/>
        </p:nvSpPr>
        <p:spPr>
          <a:xfrm>
            <a:off x="8169120" y="3625920"/>
            <a:ext cx="23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50" name="TextBox 28"/>
          <p:cNvSpPr/>
          <p:nvPr/>
        </p:nvSpPr>
        <p:spPr>
          <a:xfrm>
            <a:off x="8169120" y="5057640"/>
            <a:ext cx="23101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51" name="TextBox 29"/>
          <p:cNvSpPr/>
          <p:nvPr/>
        </p:nvSpPr>
        <p:spPr>
          <a:xfrm>
            <a:off x="8169120" y="4673520"/>
            <a:ext cx="23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52" name="TextBox 30"/>
          <p:cNvSpPr/>
          <p:nvPr/>
        </p:nvSpPr>
        <p:spPr>
          <a:xfrm>
            <a:off x="1546200" y="4307040"/>
            <a:ext cx="244944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 </a:t>
            </a:r>
            <a:r>
              <a:rPr b="0" lang="id-ID" sz="1100" spc="-1" strike="noStrike">
                <a:solidFill>
                  <a:srgbClr val="7f7f7f"/>
                </a:solidFill>
                <a:latin typeface="Lato"/>
              </a:rPr>
              <a:t>um,</a:t>
            </a:r>
            <a:r>
              <a:rPr b="0" lang="en-GB" sz="1100" spc="-1" strike="noStrike">
                <a:solidFill>
                  <a:srgbClr val="7f7f7f"/>
                </a:solidFill>
                <a:latin typeface="Lato"/>
              </a:rPr>
              <a:t> </a:t>
            </a:r>
            <a:r>
              <a:rPr b="0" lang="id-ID" sz="1100" spc="-1" strike="noStrike">
                <a:solidFill>
                  <a:srgbClr val="7f7f7f"/>
                </a:solidFill>
                <a:latin typeface="Lato"/>
              </a:rPr>
              <a:t>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53" name="TextBox 31"/>
          <p:cNvSpPr/>
          <p:nvPr/>
        </p:nvSpPr>
        <p:spPr>
          <a:xfrm>
            <a:off x="1546200" y="3768840"/>
            <a:ext cx="2476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Lato Black"/>
              </a:rPr>
              <a:t>Your Text Here</a:t>
            </a:r>
            <a:endParaRPr b="0" lang="en-US" sz="2000" spc="-1" strike="noStrike">
              <a:solidFill>
                <a:srgbClr val="000000"/>
              </a:solidFill>
              <a:latin typeface="Calibri"/>
            </a:endParaRPr>
          </a:p>
        </p:txBody>
      </p:sp>
      <p:sp>
        <p:nvSpPr>
          <p:cNvPr id="2154" name="Rectangle 22"/>
          <p:cNvSpPr/>
          <p:nvPr/>
        </p:nvSpPr>
        <p:spPr>
          <a:xfrm>
            <a:off x="10320480" y="0"/>
            <a:ext cx="1871640" cy="5014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55" name="Group 23" descr=""/>
          <p:cNvPicPr/>
          <p:nvPr/>
        </p:nvPicPr>
        <p:blipFill>
          <a:blip r:embed="rId2"/>
          <a:stretch/>
        </p:blipFill>
        <p:spPr>
          <a:xfrm>
            <a:off x="10644120" y="139680"/>
            <a:ext cx="1224000" cy="220680"/>
          </a:xfrm>
          <a:prstGeom prst="rect">
            <a:avLst/>
          </a:prstGeom>
          <a:ln w="0">
            <a:noFill/>
          </a:ln>
        </p:spPr>
      </p:pic>
      <p:pic>
        <p:nvPicPr>
          <p:cNvPr id="2156" name="Graphic 33" descr=""/>
          <p:cNvPicPr/>
          <p:nvPr/>
        </p:nvPicPr>
        <p:blipFill>
          <a:blip r:embed="rId3"/>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Freeform: Shape 3"/>
          <p:cNvSpPr/>
          <p:nvPr/>
        </p:nvSpPr>
        <p:spPr>
          <a:xfrm>
            <a:off x="8001000" y="1057320"/>
            <a:ext cx="1297080" cy="1069920"/>
          </a:xfrm>
          <a:custGeom>
            <a:avLst/>
            <a:gdLst/>
            <a:ahLst/>
            <a:rect l="l" t="t" r="r" b="b"/>
            <a:pathLst>
              <a:path w="1297225" h="1069214">
                <a:moveTo>
                  <a:pt x="648613" y="0"/>
                </a:moveTo>
                <a:lnTo>
                  <a:pt x="0" y="1069215"/>
                </a:lnTo>
                <a:lnTo>
                  <a:pt x="1297225" y="1069215"/>
                </a:lnTo>
                <a:lnTo>
                  <a:pt x="648613"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58" name="Freeform: Shape 4"/>
          <p:cNvSpPr/>
          <p:nvPr/>
        </p:nvSpPr>
        <p:spPr>
          <a:xfrm>
            <a:off x="7251840" y="2454120"/>
            <a:ext cx="2795400" cy="906480"/>
          </a:xfrm>
          <a:custGeom>
            <a:avLst/>
            <a:gdLst/>
            <a:ahLst/>
            <a:rect l="l" t="t" r="r" b="b"/>
            <a:pathLst>
              <a:path w="2794928" h="905951">
                <a:moveTo>
                  <a:pt x="549575" y="0"/>
                </a:moveTo>
                <a:lnTo>
                  <a:pt x="0" y="905952"/>
                </a:lnTo>
                <a:lnTo>
                  <a:pt x="2794928" y="905952"/>
                </a:lnTo>
                <a:lnTo>
                  <a:pt x="2245354" y="0"/>
                </a:lnTo>
                <a:lnTo>
                  <a:pt x="549575"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59" name="Freeform: Shape 5"/>
          <p:cNvSpPr/>
          <p:nvPr/>
        </p:nvSpPr>
        <p:spPr>
          <a:xfrm>
            <a:off x="6502320" y="3689280"/>
            <a:ext cx="4292640" cy="906480"/>
          </a:xfrm>
          <a:custGeom>
            <a:avLst/>
            <a:gdLst/>
            <a:ahLst/>
            <a:rect l="l" t="t" r="r" b="b"/>
            <a:pathLst>
              <a:path w="4292631" h="905951">
                <a:moveTo>
                  <a:pt x="549575" y="0"/>
                </a:moveTo>
                <a:lnTo>
                  <a:pt x="0" y="905952"/>
                </a:lnTo>
                <a:lnTo>
                  <a:pt x="4292631" y="905952"/>
                </a:lnTo>
                <a:lnTo>
                  <a:pt x="3743056" y="0"/>
                </a:lnTo>
                <a:lnTo>
                  <a:pt x="549575"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0" name="Freeform: Shape 6"/>
          <p:cNvSpPr/>
          <p:nvPr/>
        </p:nvSpPr>
        <p:spPr>
          <a:xfrm>
            <a:off x="5773680" y="4924440"/>
            <a:ext cx="5751720" cy="874800"/>
          </a:xfrm>
          <a:custGeom>
            <a:avLst/>
            <a:gdLst/>
            <a:ahLst/>
            <a:rect l="l" t="t" r="r" b="b"/>
            <a:pathLst>
              <a:path w="5752461" h="874742">
                <a:moveTo>
                  <a:pt x="530638" y="0"/>
                </a:moveTo>
                <a:lnTo>
                  <a:pt x="0" y="874743"/>
                </a:lnTo>
                <a:lnTo>
                  <a:pt x="5752461" y="874743"/>
                </a:lnTo>
                <a:lnTo>
                  <a:pt x="5221823" y="0"/>
                </a:lnTo>
                <a:lnTo>
                  <a:pt x="530638"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1" name="Freeform: Shape 7"/>
          <p:cNvSpPr/>
          <p:nvPr/>
        </p:nvSpPr>
        <p:spPr>
          <a:xfrm>
            <a:off x="6303960" y="2127240"/>
            <a:ext cx="4491000" cy="2797200"/>
          </a:xfrm>
          <a:custGeom>
            <a:avLst/>
            <a:gdLst/>
            <a:ahLst/>
            <a:rect l="l" t="t" r="r" b="b"/>
            <a:pathLst>
              <a:path w="4491907" h="2797403">
                <a:moveTo>
                  <a:pt x="2086530" y="0"/>
                </a:moveTo>
                <a:lnTo>
                  <a:pt x="1497703" y="328500"/>
                </a:lnTo>
                <a:lnTo>
                  <a:pt x="2405378" y="328500"/>
                </a:lnTo>
                <a:lnTo>
                  <a:pt x="2994205" y="0"/>
                </a:lnTo>
                <a:lnTo>
                  <a:pt x="2086530" y="0"/>
                </a:lnTo>
                <a:close/>
                <a:moveTo>
                  <a:pt x="1697063" y="1234452"/>
                </a:moveTo>
                <a:lnTo>
                  <a:pt x="748851" y="1562952"/>
                </a:lnTo>
                <a:lnTo>
                  <a:pt x="2794845" y="1562952"/>
                </a:lnTo>
                <a:lnTo>
                  <a:pt x="3743056" y="1234452"/>
                </a:lnTo>
                <a:lnTo>
                  <a:pt x="1697063" y="1234452"/>
                </a:lnTo>
                <a:close/>
                <a:moveTo>
                  <a:pt x="948212" y="2468904"/>
                </a:moveTo>
                <a:lnTo>
                  <a:pt x="0" y="2797404"/>
                </a:lnTo>
                <a:lnTo>
                  <a:pt x="3543696" y="2797404"/>
                </a:lnTo>
                <a:lnTo>
                  <a:pt x="4491908" y="2468904"/>
                </a:lnTo>
                <a:lnTo>
                  <a:pt x="948212" y="2468904"/>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2" name="TextBox 8"/>
          <p:cNvSpPr/>
          <p:nvPr/>
        </p:nvSpPr>
        <p:spPr>
          <a:xfrm>
            <a:off x="1422360" y="1287360"/>
            <a:ext cx="423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Black"/>
                <a:ea typeface="Roboto Black"/>
              </a:rPr>
              <a:t>Your Title Here</a:t>
            </a:r>
            <a:endParaRPr b="0" lang="en-US" sz="2800" spc="-1" strike="noStrike">
              <a:solidFill>
                <a:srgbClr val="000000"/>
              </a:solidFill>
              <a:latin typeface="Calibri"/>
            </a:endParaRPr>
          </a:p>
        </p:txBody>
      </p:sp>
      <p:sp>
        <p:nvSpPr>
          <p:cNvPr id="2163" name="TextBox 11"/>
          <p:cNvSpPr/>
          <p:nvPr/>
        </p:nvSpPr>
        <p:spPr>
          <a:xfrm>
            <a:off x="2106720" y="2292480"/>
            <a:ext cx="247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a:rPr>
              <a:t>Your Text Here</a:t>
            </a:r>
            <a:endParaRPr b="0" lang="en-US" sz="1800" spc="-1" strike="noStrike">
              <a:solidFill>
                <a:srgbClr val="000000"/>
              </a:solidFill>
              <a:latin typeface="Calibri"/>
            </a:endParaRPr>
          </a:p>
        </p:txBody>
      </p:sp>
      <p:sp>
        <p:nvSpPr>
          <p:cNvPr id="2164" name="TextBox 12"/>
          <p:cNvSpPr/>
          <p:nvPr/>
        </p:nvSpPr>
        <p:spPr>
          <a:xfrm>
            <a:off x="2106720" y="2622600"/>
            <a:ext cx="321624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65" name="TextBox 13"/>
          <p:cNvSpPr/>
          <p:nvPr/>
        </p:nvSpPr>
        <p:spPr>
          <a:xfrm>
            <a:off x="1295280" y="2292480"/>
            <a:ext cx="77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5b2d3"/>
                </a:solidFill>
                <a:latin typeface="Lato"/>
              </a:rPr>
              <a:t>01.</a:t>
            </a:r>
            <a:endParaRPr b="0" lang="en-US" sz="2400" spc="-1" strike="noStrike">
              <a:solidFill>
                <a:srgbClr val="000000"/>
              </a:solidFill>
              <a:latin typeface="Calibri"/>
            </a:endParaRPr>
          </a:p>
        </p:txBody>
      </p:sp>
      <p:sp>
        <p:nvSpPr>
          <p:cNvPr id="2166" name="TextBox 14"/>
          <p:cNvSpPr/>
          <p:nvPr/>
        </p:nvSpPr>
        <p:spPr>
          <a:xfrm>
            <a:off x="2106720" y="3121200"/>
            <a:ext cx="247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a:rPr>
              <a:t>Your Text Here</a:t>
            </a:r>
            <a:endParaRPr b="0" lang="en-US" sz="1800" spc="-1" strike="noStrike">
              <a:solidFill>
                <a:srgbClr val="000000"/>
              </a:solidFill>
              <a:latin typeface="Calibri"/>
            </a:endParaRPr>
          </a:p>
        </p:txBody>
      </p:sp>
      <p:sp>
        <p:nvSpPr>
          <p:cNvPr id="2167" name="TextBox 15"/>
          <p:cNvSpPr/>
          <p:nvPr/>
        </p:nvSpPr>
        <p:spPr>
          <a:xfrm>
            <a:off x="2106720" y="3451320"/>
            <a:ext cx="321624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68" name="TextBox 16"/>
          <p:cNvSpPr/>
          <p:nvPr/>
        </p:nvSpPr>
        <p:spPr>
          <a:xfrm>
            <a:off x="1295280" y="3121200"/>
            <a:ext cx="77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5b2d3"/>
                </a:solidFill>
                <a:latin typeface="Lato"/>
              </a:rPr>
              <a:t>02.</a:t>
            </a:r>
            <a:endParaRPr b="0" lang="en-US" sz="2400" spc="-1" strike="noStrike">
              <a:solidFill>
                <a:srgbClr val="000000"/>
              </a:solidFill>
              <a:latin typeface="Calibri"/>
            </a:endParaRPr>
          </a:p>
        </p:txBody>
      </p:sp>
      <p:sp>
        <p:nvSpPr>
          <p:cNvPr id="2169" name="TextBox 17"/>
          <p:cNvSpPr/>
          <p:nvPr/>
        </p:nvSpPr>
        <p:spPr>
          <a:xfrm>
            <a:off x="2106720" y="3949560"/>
            <a:ext cx="247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a:rPr>
              <a:t>Your Text Here</a:t>
            </a:r>
            <a:endParaRPr b="0" lang="en-US" sz="1800" spc="-1" strike="noStrike">
              <a:solidFill>
                <a:srgbClr val="000000"/>
              </a:solidFill>
              <a:latin typeface="Calibri"/>
            </a:endParaRPr>
          </a:p>
        </p:txBody>
      </p:sp>
      <p:sp>
        <p:nvSpPr>
          <p:cNvPr id="2170" name="TextBox 18"/>
          <p:cNvSpPr/>
          <p:nvPr/>
        </p:nvSpPr>
        <p:spPr>
          <a:xfrm>
            <a:off x="2106720" y="4280040"/>
            <a:ext cx="321624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71" name="TextBox 19"/>
          <p:cNvSpPr/>
          <p:nvPr/>
        </p:nvSpPr>
        <p:spPr>
          <a:xfrm>
            <a:off x="1295280" y="3949560"/>
            <a:ext cx="77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5b2d3"/>
                </a:solidFill>
                <a:latin typeface="Lato"/>
              </a:rPr>
              <a:t>03.</a:t>
            </a:r>
            <a:endParaRPr b="0" lang="en-US" sz="2400" spc="-1" strike="noStrike">
              <a:solidFill>
                <a:srgbClr val="000000"/>
              </a:solidFill>
              <a:latin typeface="Calibri"/>
            </a:endParaRPr>
          </a:p>
        </p:txBody>
      </p:sp>
      <p:sp>
        <p:nvSpPr>
          <p:cNvPr id="2172" name="TextBox 20"/>
          <p:cNvSpPr/>
          <p:nvPr/>
        </p:nvSpPr>
        <p:spPr>
          <a:xfrm>
            <a:off x="2106720" y="4778280"/>
            <a:ext cx="247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a:rPr>
              <a:t>Your Text Here</a:t>
            </a:r>
            <a:endParaRPr b="0" lang="en-US" sz="1800" spc="-1" strike="noStrike">
              <a:solidFill>
                <a:srgbClr val="000000"/>
              </a:solidFill>
              <a:latin typeface="Calibri"/>
            </a:endParaRPr>
          </a:p>
        </p:txBody>
      </p:sp>
      <p:sp>
        <p:nvSpPr>
          <p:cNvPr id="2173" name="TextBox 21"/>
          <p:cNvSpPr/>
          <p:nvPr/>
        </p:nvSpPr>
        <p:spPr>
          <a:xfrm>
            <a:off x="2106720" y="5108400"/>
            <a:ext cx="321624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74" name="TextBox 22"/>
          <p:cNvSpPr/>
          <p:nvPr/>
        </p:nvSpPr>
        <p:spPr>
          <a:xfrm>
            <a:off x="1295280" y="4778280"/>
            <a:ext cx="77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5b2d3"/>
                </a:solidFill>
                <a:latin typeface="Lato"/>
              </a:rPr>
              <a:t>04.</a:t>
            </a:r>
            <a:endParaRPr b="0" lang="en-US" sz="2400" spc="-1" strike="noStrike">
              <a:solidFill>
                <a:srgbClr val="000000"/>
              </a:solidFill>
              <a:latin typeface="Calibri"/>
            </a:endParaRPr>
          </a:p>
        </p:txBody>
      </p:sp>
      <p:sp>
        <p:nvSpPr>
          <p:cNvPr id="2175" name="TextBox 23"/>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176" name="TextBox 24"/>
          <p:cNvSpPr/>
          <p:nvPr/>
        </p:nvSpPr>
        <p:spPr>
          <a:xfrm>
            <a:off x="8134200" y="1438200"/>
            <a:ext cx="103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Lato"/>
              </a:rPr>
              <a:t>01</a:t>
            </a:r>
            <a:endParaRPr b="0" lang="en-US" sz="2800" spc="-1" strike="noStrike">
              <a:solidFill>
                <a:srgbClr val="000000"/>
              </a:solidFill>
              <a:latin typeface="Calibri"/>
            </a:endParaRPr>
          </a:p>
        </p:txBody>
      </p:sp>
      <p:sp>
        <p:nvSpPr>
          <p:cNvPr id="2177" name="TextBox 25"/>
          <p:cNvSpPr/>
          <p:nvPr/>
        </p:nvSpPr>
        <p:spPr>
          <a:xfrm>
            <a:off x="8134200" y="2646360"/>
            <a:ext cx="103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Lato"/>
              </a:rPr>
              <a:t>02</a:t>
            </a:r>
            <a:endParaRPr b="0" lang="en-US" sz="2800" spc="-1" strike="noStrike">
              <a:solidFill>
                <a:srgbClr val="000000"/>
              </a:solidFill>
              <a:latin typeface="Calibri"/>
            </a:endParaRPr>
          </a:p>
        </p:txBody>
      </p:sp>
      <p:sp>
        <p:nvSpPr>
          <p:cNvPr id="2178" name="TextBox 26"/>
          <p:cNvSpPr/>
          <p:nvPr/>
        </p:nvSpPr>
        <p:spPr>
          <a:xfrm>
            <a:off x="8134200" y="3854520"/>
            <a:ext cx="103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Lato"/>
              </a:rPr>
              <a:t>03</a:t>
            </a:r>
            <a:endParaRPr b="0" lang="en-US" sz="2800" spc="-1" strike="noStrike">
              <a:solidFill>
                <a:srgbClr val="000000"/>
              </a:solidFill>
              <a:latin typeface="Calibri"/>
            </a:endParaRPr>
          </a:p>
        </p:txBody>
      </p:sp>
      <p:sp>
        <p:nvSpPr>
          <p:cNvPr id="2179" name="TextBox 27"/>
          <p:cNvSpPr/>
          <p:nvPr/>
        </p:nvSpPr>
        <p:spPr>
          <a:xfrm>
            <a:off x="8134200" y="5060880"/>
            <a:ext cx="103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Lato"/>
              </a:rPr>
              <a:t>04</a:t>
            </a:r>
            <a:endParaRPr b="0" lang="en-US" sz="2800" spc="-1" strike="noStrike">
              <a:solidFill>
                <a:srgbClr val="000000"/>
              </a:solidFill>
              <a:latin typeface="Calibri"/>
            </a:endParaRPr>
          </a:p>
        </p:txBody>
      </p:sp>
      <p:pic>
        <p:nvPicPr>
          <p:cNvPr id="2180" name="Group 34" descr=""/>
          <p:cNvPicPr/>
          <p:nvPr/>
        </p:nvPicPr>
        <p:blipFill>
          <a:blip r:embed="rId1"/>
          <a:stretch/>
        </p:blipFill>
        <p:spPr>
          <a:xfrm>
            <a:off x="10479240" y="298440"/>
            <a:ext cx="1218960" cy="219240"/>
          </a:xfrm>
          <a:prstGeom prst="rect">
            <a:avLst/>
          </a:prstGeom>
          <a:ln w="0">
            <a:noFill/>
          </a:ln>
        </p:spPr>
      </p:pic>
      <p:pic>
        <p:nvPicPr>
          <p:cNvPr id="2181" name="Graphic 29" descr=""/>
          <p:cNvPicPr/>
          <p:nvPr/>
        </p:nvPicPr>
        <p:blipFill>
          <a:blip r:embed="rId2"/>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Freeform: Shape 3"/>
          <p:cNvSpPr/>
          <p:nvPr/>
        </p:nvSpPr>
        <p:spPr>
          <a:xfrm rot="18900000">
            <a:off x="6226200" y="2947680"/>
            <a:ext cx="1677960" cy="2023920"/>
          </a:xfrm>
          <a:custGeom>
            <a:avLst/>
            <a:gdLst/>
            <a:ahLst/>
            <a:rect l="l" t="t" r="r" b="b"/>
            <a:pathLst>
              <a:path w="1660008" h="2002741">
                <a:moveTo>
                  <a:pt x="781489" y="0"/>
                </a:moveTo>
                <a:cubicBezTo>
                  <a:pt x="677140" y="0"/>
                  <a:pt x="592950" y="84180"/>
                  <a:pt x="592944" y="188526"/>
                </a:cubicBezTo>
                <a:cubicBezTo>
                  <a:pt x="592994" y="213659"/>
                  <a:pt x="598101" y="238300"/>
                  <a:pt x="607682" y="261115"/>
                </a:cubicBezTo>
                <a:lnTo>
                  <a:pt x="607682" y="261208"/>
                </a:lnTo>
                <a:cubicBezTo>
                  <a:pt x="607895" y="261715"/>
                  <a:pt x="608134" y="262213"/>
                  <a:pt x="608352" y="262719"/>
                </a:cubicBezTo>
                <a:cubicBezTo>
                  <a:pt x="608859" y="263897"/>
                  <a:pt x="609381" y="265069"/>
                  <a:pt x="609913" y="266237"/>
                </a:cubicBezTo>
                <a:cubicBezTo>
                  <a:pt x="610441" y="267397"/>
                  <a:pt x="610981" y="268552"/>
                  <a:pt x="611533" y="269702"/>
                </a:cubicBezTo>
                <a:cubicBezTo>
                  <a:pt x="612057" y="270794"/>
                  <a:pt x="612588" y="271881"/>
                  <a:pt x="613134" y="272963"/>
                </a:cubicBezTo>
                <a:cubicBezTo>
                  <a:pt x="613741" y="274169"/>
                  <a:pt x="614368" y="275366"/>
                  <a:pt x="615001" y="276560"/>
                </a:cubicBezTo>
                <a:cubicBezTo>
                  <a:pt x="615555" y="277602"/>
                  <a:pt x="616111" y="278643"/>
                  <a:pt x="616685" y="279675"/>
                </a:cubicBezTo>
                <a:cubicBezTo>
                  <a:pt x="617329" y="280835"/>
                  <a:pt x="617992" y="281986"/>
                  <a:pt x="618661" y="283134"/>
                </a:cubicBezTo>
                <a:cubicBezTo>
                  <a:pt x="619281" y="284195"/>
                  <a:pt x="619902" y="285255"/>
                  <a:pt x="620542" y="286305"/>
                </a:cubicBezTo>
                <a:cubicBezTo>
                  <a:pt x="621227" y="287428"/>
                  <a:pt x="621936" y="288538"/>
                  <a:pt x="622645" y="289648"/>
                </a:cubicBezTo>
                <a:cubicBezTo>
                  <a:pt x="623290" y="290658"/>
                  <a:pt x="623930" y="291669"/>
                  <a:pt x="624595" y="292668"/>
                </a:cubicBezTo>
                <a:cubicBezTo>
                  <a:pt x="625367" y="293827"/>
                  <a:pt x="626169" y="294969"/>
                  <a:pt x="626968" y="296113"/>
                </a:cubicBezTo>
                <a:cubicBezTo>
                  <a:pt x="627623" y="297051"/>
                  <a:pt x="628268" y="297994"/>
                  <a:pt x="628941" y="298921"/>
                </a:cubicBezTo>
                <a:cubicBezTo>
                  <a:pt x="629817" y="300127"/>
                  <a:pt x="630725" y="301312"/>
                  <a:pt x="631631" y="302499"/>
                </a:cubicBezTo>
                <a:cubicBezTo>
                  <a:pt x="632150" y="303180"/>
                  <a:pt x="632646" y="303877"/>
                  <a:pt x="633175" y="304551"/>
                </a:cubicBezTo>
                <a:lnTo>
                  <a:pt x="633199" y="304551"/>
                </a:lnTo>
                <a:cubicBezTo>
                  <a:pt x="634981" y="306822"/>
                  <a:pt x="636801" y="309066"/>
                  <a:pt x="638693" y="311260"/>
                </a:cubicBezTo>
                <a:cubicBezTo>
                  <a:pt x="645561" y="319230"/>
                  <a:pt x="644667" y="331258"/>
                  <a:pt x="636698" y="338125"/>
                </a:cubicBezTo>
                <a:cubicBezTo>
                  <a:pt x="633241" y="341104"/>
                  <a:pt x="628829" y="342743"/>
                  <a:pt x="624265" y="342743"/>
                </a:cubicBezTo>
                <a:lnTo>
                  <a:pt x="607682" y="342743"/>
                </a:lnTo>
                <a:lnTo>
                  <a:pt x="302198" y="342743"/>
                </a:lnTo>
                <a:cubicBezTo>
                  <a:pt x="134781" y="342743"/>
                  <a:pt x="0" y="477524"/>
                  <a:pt x="0" y="644941"/>
                </a:cubicBezTo>
                <a:lnTo>
                  <a:pt x="0" y="929747"/>
                </a:lnTo>
                <a:cubicBezTo>
                  <a:pt x="34895" y="908896"/>
                  <a:pt x="74950" y="897598"/>
                  <a:pt x="116072" y="897598"/>
                </a:cubicBezTo>
                <a:cubicBezTo>
                  <a:pt x="241013" y="897598"/>
                  <a:pt x="342703" y="999292"/>
                  <a:pt x="342703" y="1124233"/>
                </a:cubicBezTo>
                <a:cubicBezTo>
                  <a:pt x="342703" y="1249174"/>
                  <a:pt x="241013" y="1350864"/>
                  <a:pt x="116072" y="1350864"/>
                </a:cubicBezTo>
                <a:cubicBezTo>
                  <a:pt x="116050" y="1350864"/>
                  <a:pt x="116028" y="1350864"/>
                  <a:pt x="116006" y="1350864"/>
                </a:cubicBezTo>
                <a:cubicBezTo>
                  <a:pt x="74896" y="1350788"/>
                  <a:pt x="34862" y="1339485"/>
                  <a:pt x="0" y="1318606"/>
                </a:cubicBezTo>
                <a:lnTo>
                  <a:pt x="0" y="1700544"/>
                </a:lnTo>
                <a:cubicBezTo>
                  <a:pt x="0" y="1867961"/>
                  <a:pt x="134781" y="2002742"/>
                  <a:pt x="302198" y="2002742"/>
                </a:cubicBezTo>
                <a:lnTo>
                  <a:pt x="1357811" y="2002742"/>
                </a:lnTo>
                <a:cubicBezTo>
                  <a:pt x="1525228" y="2002742"/>
                  <a:pt x="1660008" y="1867961"/>
                  <a:pt x="1660008" y="1700544"/>
                </a:cubicBezTo>
                <a:lnTo>
                  <a:pt x="1660008" y="644941"/>
                </a:lnTo>
                <a:cubicBezTo>
                  <a:pt x="1660008" y="477960"/>
                  <a:pt x="1525926" y="343459"/>
                  <a:pt x="1359114" y="342760"/>
                </a:cubicBezTo>
                <a:lnTo>
                  <a:pt x="938915" y="342760"/>
                </a:lnTo>
                <a:cubicBezTo>
                  <a:pt x="928395" y="342757"/>
                  <a:pt x="919869" y="334226"/>
                  <a:pt x="919871" y="323706"/>
                </a:cubicBezTo>
                <a:cubicBezTo>
                  <a:pt x="919873" y="319154"/>
                  <a:pt x="921504" y="314753"/>
                  <a:pt x="924470" y="311300"/>
                </a:cubicBezTo>
                <a:cubicBezTo>
                  <a:pt x="926366" y="309094"/>
                  <a:pt x="928186" y="306834"/>
                  <a:pt x="929971" y="304551"/>
                </a:cubicBezTo>
                <a:lnTo>
                  <a:pt x="930002" y="304551"/>
                </a:lnTo>
                <a:cubicBezTo>
                  <a:pt x="930301" y="304168"/>
                  <a:pt x="930580" y="303771"/>
                  <a:pt x="930876" y="303386"/>
                </a:cubicBezTo>
                <a:cubicBezTo>
                  <a:pt x="931897" y="302060"/>
                  <a:pt x="932899" y="300721"/>
                  <a:pt x="933883" y="299370"/>
                </a:cubicBezTo>
                <a:cubicBezTo>
                  <a:pt x="934376" y="298693"/>
                  <a:pt x="934868" y="298017"/>
                  <a:pt x="935351" y="297334"/>
                </a:cubicBezTo>
                <a:cubicBezTo>
                  <a:pt x="936318" y="295968"/>
                  <a:pt x="937261" y="294588"/>
                  <a:pt x="938189" y="293199"/>
                </a:cubicBezTo>
                <a:cubicBezTo>
                  <a:pt x="938613" y="292566"/>
                  <a:pt x="939044" y="291939"/>
                  <a:pt x="939460" y="291301"/>
                </a:cubicBezTo>
                <a:cubicBezTo>
                  <a:pt x="940752" y="289317"/>
                  <a:pt x="942017" y="287316"/>
                  <a:pt x="943232" y="285289"/>
                </a:cubicBezTo>
                <a:cubicBezTo>
                  <a:pt x="943232" y="285289"/>
                  <a:pt x="943249" y="285272"/>
                  <a:pt x="943249" y="285268"/>
                </a:cubicBezTo>
                <a:cubicBezTo>
                  <a:pt x="943456" y="284922"/>
                  <a:pt x="943647" y="284567"/>
                  <a:pt x="943853" y="284219"/>
                </a:cubicBezTo>
                <a:cubicBezTo>
                  <a:pt x="944834" y="282555"/>
                  <a:pt x="945791" y="280880"/>
                  <a:pt x="946720" y="279190"/>
                </a:cubicBezTo>
                <a:cubicBezTo>
                  <a:pt x="947227" y="278268"/>
                  <a:pt x="947711" y="277337"/>
                  <a:pt x="948202" y="276408"/>
                </a:cubicBezTo>
                <a:cubicBezTo>
                  <a:pt x="948826" y="275227"/>
                  <a:pt x="949446" y="274043"/>
                  <a:pt x="950044" y="272850"/>
                </a:cubicBezTo>
                <a:cubicBezTo>
                  <a:pt x="950531" y="271879"/>
                  <a:pt x="951006" y="270902"/>
                  <a:pt x="951476" y="269923"/>
                </a:cubicBezTo>
                <a:cubicBezTo>
                  <a:pt x="951720" y="269415"/>
                  <a:pt x="951979" y="268915"/>
                  <a:pt x="952218" y="268405"/>
                </a:cubicBezTo>
                <a:lnTo>
                  <a:pt x="952218" y="268325"/>
                </a:lnTo>
                <a:cubicBezTo>
                  <a:pt x="963836" y="243527"/>
                  <a:pt x="970036" y="216324"/>
                  <a:pt x="970036" y="188529"/>
                </a:cubicBezTo>
                <a:cubicBezTo>
                  <a:pt x="970036" y="84182"/>
                  <a:pt x="885843" y="0"/>
                  <a:pt x="781494" y="0"/>
                </a:cubicBezTo>
                <a:lnTo>
                  <a:pt x="781489"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83" name="Freeform: Shape 4"/>
          <p:cNvSpPr/>
          <p:nvPr/>
        </p:nvSpPr>
        <p:spPr>
          <a:xfrm rot="18900000">
            <a:off x="5084640" y="4335120"/>
            <a:ext cx="2024280" cy="1676520"/>
          </a:xfrm>
          <a:custGeom>
            <a:avLst/>
            <a:gdLst/>
            <a:ahLst/>
            <a:rect l="l" t="t" r="r" b="b"/>
            <a:pathLst>
              <a:path w="2002751" h="1659998">
                <a:moveTo>
                  <a:pt x="302198" y="0"/>
                </a:moveTo>
                <a:cubicBezTo>
                  <a:pt x="134780" y="0"/>
                  <a:pt x="0" y="134780"/>
                  <a:pt x="0" y="302198"/>
                </a:cubicBezTo>
                <a:lnTo>
                  <a:pt x="0" y="1357801"/>
                </a:lnTo>
                <a:cubicBezTo>
                  <a:pt x="0" y="1525217"/>
                  <a:pt x="134780" y="1659998"/>
                  <a:pt x="302198" y="1659998"/>
                </a:cubicBezTo>
                <a:lnTo>
                  <a:pt x="1357797" y="1659998"/>
                </a:lnTo>
                <a:cubicBezTo>
                  <a:pt x="1525215" y="1659998"/>
                  <a:pt x="1659992" y="1525217"/>
                  <a:pt x="1659992" y="1357801"/>
                </a:cubicBezTo>
                <a:lnTo>
                  <a:pt x="1659992" y="962744"/>
                </a:lnTo>
                <a:lnTo>
                  <a:pt x="1660009" y="962744"/>
                </a:lnTo>
                <a:lnTo>
                  <a:pt x="1660009" y="938710"/>
                </a:lnTo>
                <a:cubicBezTo>
                  <a:pt x="1660012" y="928190"/>
                  <a:pt x="1668542" y="919664"/>
                  <a:pt x="1679062" y="919667"/>
                </a:cubicBezTo>
                <a:cubicBezTo>
                  <a:pt x="1683625" y="919668"/>
                  <a:pt x="1688035" y="921307"/>
                  <a:pt x="1691492" y="924285"/>
                </a:cubicBezTo>
                <a:cubicBezTo>
                  <a:pt x="1693680" y="926172"/>
                  <a:pt x="1695921" y="927983"/>
                  <a:pt x="1698184" y="929760"/>
                </a:cubicBezTo>
                <a:lnTo>
                  <a:pt x="1698184" y="929787"/>
                </a:lnTo>
                <a:cubicBezTo>
                  <a:pt x="1698589" y="930105"/>
                  <a:pt x="1699008" y="930400"/>
                  <a:pt x="1699415" y="930714"/>
                </a:cubicBezTo>
                <a:cubicBezTo>
                  <a:pt x="1700733" y="931731"/>
                  <a:pt x="1702061" y="932731"/>
                  <a:pt x="1703402" y="933711"/>
                </a:cubicBezTo>
                <a:cubicBezTo>
                  <a:pt x="1704127" y="934240"/>
                  <a:pt x="1704855" y="934763"/>
                  <a:pt x="1705587" y="935282"/>
                </a:cubicBezTo>
                <a:cubicBezTo>
                  <a:pt x="1706865" y="936187"/>
                  <a:pt x="1708153" y="937073"/>
                  <a:pt x="1709451" y="937945"/>
                </a:cubicBezTo>
                <a:cubicBezTo>
                  <a:pt x="1710190" y="938442"/>
                  <a:pt x="1710926" y="938944"/>
                  <a:pt x="1711672" y="939430"/>
                </a:cubicBezTo>
                <a:cubicBezTo>
                  <a:pt x="1713116" y="940370"/>
                  <a:pt x="1714577" y="941279"/>
                  <a:pt x="1716044" y="942179"/>
                </a:cubicBezTo>
                <a:cubicBezTo>
                  <a:pt x="1716659" y="942556"/>
                  <a:pt x="1717265" y="942948"/>
                  <a:pt x="1717883" y="943317"/>
                </a:cubicBezTo>
                <a:cubicBezTo>
                  <a:pt x="1719897" y="944521"/>
                  <a:pt x="1721933" y="945690"/>
                  <a:pt x="1723988" y="946815"/>
                </a:cubicBezTo>
                <a:cubicBezTo>
                  <a:pt x="1724746" y="947231"/>
                  <a:pt x="1725518" y="947618"/>
                  <a:pt x="1726282" y="948023"/>
                </a:cubicBezTo>
                <a:cubicBezTo>
                  <a:pt x="1727613" y="948729"/>
                  <a:pt x="1728944" y="949432"/>
                  <a:pt x="1730291" y="950106"/>
                </a:cubicBezTo>
                <a:cubicBezTo>
                  <a:pt x="1731292" y="950606"/>
                  <a:pt x="1732302" y="951085"/>
                  <a:pt x="1733311" y="951568"/>
                </a:cubicBezTo>
                <a:cubicBezTo>
                  <a:pt x="1734021" y="951907"/>
                  <a:pt x="1734722" y="952264"/>
                  <a:pt x="1735436" y="952594"/>
                </a:cubicBezTo>
                <a:lnTo>
                  <a:pt x="1735436" y="952559"/>
                </a:lnTo>
                <a:cubicBezTo>
                  <a:pt x="1759954" y="963908"/>
                  <a:pt x="1786797" y="969978"/>
                  <a:pt x="1814226" y="970033"/>
                </a:cubicBezTo>
                <a:cubicBezTo>
                  <a:pt x="1918572" y="970033"/>
                  <a:pt x="2002752" y="885839"/>
                  <a:pt x="2002752" y="781491"/>
                </a:cubicBezTo>
                <a:cubicBezTo>
                  <a:pt x="2002752" y="677142"/>
                  <a:pt x="1918570" y="592945"/>
                  <a:pt x="1814223" y="592945"/>
                </a:cubicBezTo>
                <a:cubicBezTo>
                  <a:pt x="1780984" y="592993"/>
                  <a:pt x="1748588" y="601816"/>
                  <a:pt x="1720153" y="618214"/>
                </a:cubicBezTo>
                <a:lnTo>
                  <a:pt x="1720098" y="618214"/>
                </a:lnTo>
                <a:cubicBezTo>
                  <a:pt x="1719615" y="618493"/>
                  <a:pt x="1719139" y="618783"/>
                  <a:pt x="1718659" y="619066"/>
                </a:cubicBezTo>
                <a:cubicBezTo>
                  <a:pt x="1718059" y="619419"/>
                  <a:pt x="1717459" y="619769"/>
                  <a:pt x="1716863" y="620128"/>
                </a:cubicBezTo>
                <a:cubicBezTo>
                  <a:pt x="1715107" y="621189"/>
                  <a:pt x="1713370" y="622281"/>
                  <a:pt x="1711646" y="623399"/>
                </a:cubicBezTo>
                <a:cubicBezTo>
                  <a:pt x="1711175" y="623705"/>
                  <a:pt x="1710705" y="624013"/>
                  <a:pt x="1710237" y="624323"/>
                </a:cubicBezTo>
                <a:cubicBezTo>
                  <a:pt x="1708422" y="625523"/>
                  <a:pt x="1706626" y="626754"/>
                  <a:pt x="1704851" y="628019"/>
                </a:cubicBezTo>
                <a:cubicBezTo>
                  <a:pt x="1704515" y="628259"/>
                  <a:pt x="1704182" y="628503"/>
                  <a:pt x="1703848" y="628745"/>
                </a:cubicBezTo>
                <a:cubicBezTo>
                  <a:pt x="1699597" y="631816"/>
                  <a:pt x="1695457" y="635062"/>
                  <a:pt x="1691453" y="638503"/>
                </a:cubicBezTo>
                <a:cubicBezTo>
                  <a:pt x="1683472" y="645358"/>
                  <a:pt x="1671446" y="644446"/>
                  <a:pt x="1664591" y="636465"/>
                </a:cubicBezTo>
                <a:cubicBezTo>
                  <a:pt x="1661626" y="633013"/>
                  <a:pt x="1659995" y="628613"/>
                  <a:pt x="1659993" y="624062"/>
                </a:cubicBezTo>
                <a:lnTo>
                  <a:pt x="1659993" y="618214"/>
                </a:lnTo>
                <a:lnTo>
                  <a:pt x="1659993" y="302199"/>
                </a:lnTo>
                <a:cubicBezTo>
                  <a:pt x="1659993" y="134782"/>
                  <a:pt x="1525215" y="2"/>
                  <a:pt x="1357798" y="2"/>
                </a:cubicBezTo>
                <a:lnTo>
                  <a:pt x="1073018" y="2"/>
                </a:lnTo>
                <a:cubicBezTo>
                  <a:pt x="1093860" y="34892"/>
                  <a:pt x="1105125" y="74939"/>
                  <a:pt x="1105151" y="116053"/>
                </a:cubicBezTo>
                <a:cubicBezTo>
                  <a:pt x="1105151" y="240994"/>
                  <a:pt x="1003460" y="342685"/>
                  <a:pt x="878519" y="342685"/>
                </a:cubicBezTo>
                <a:cubicBezTo>
                  <a:pt x="753578" y="342685"/>
                  <a:pt x="651887" y="240994"/>
                  <a:pt x="651887" y="116053"/>
                </a:cubicBezTo>
                <a:cubicBezTo>
                  <a:pt x="651887" y="116032"/>
                  <a:pt x="651887" y="116012"/>
                  <a:pt x="651887" y="115991"/>
                </a:cubicBezTo>
                <a:cubicBezTo>
                  <a:pt x="651964" y="74887"/>
                  <a:pt x="663263" y="34860"/>
                  <a:pt x="684136" y="2"/>
                </a:cubicBezTo>
                <a:lnTo>
                  <a:pt x="302198"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84" name="Freeform: Shape 5"/>
          <p:cNvSpPr/>
          <p:nvPr/>
        </p:nvSpPr>
        <p:spPr>
          <a:xfrm rot="18900000">
            <a:off x="4044600" y="3192120"/>
            <a:ext cx="1676520" cy="2023920"/>
          </a:xfrm>
          <a:custGeom>
            <a:avLst/>
            <a:gdLst/>
            <a:ahLst/>
            <a:rect l="l" t="t" r="r" b="b"/>
            <a:pathLst>
              <a:path w="1659991" h="2002744">
                <a:moveTo>
                  <a:pt x="302194" y="0"/>
                </a:moveTo>
                <a:cubicBezTo>
                  <a:pt x="134779" y="0"/>
                  <a:pt x="0" y="134778"/>
                  <a:pt x="0" y="302194"/>
                </a:cubicBezTo>
                <a:lnTo>
                  <a:pt x="0" y="1357791"/>
                </a:lnTo>
                <a:cubicBezTo>
                  <a:pt x="0" y="1525207"/>
                  <a:pt x="134779" y="1659985"/>
                  <a:pt x="302194" y="1659985"/>
                </a:cubicBezTo>
                <a:lnTo>
                  <a:pt x="702263" y="1659985"/>
                </a:lnTo>
                <a:lnTo>
                  <a:pt x="702263" y="1660002"/>
                </a:lnTo>
                <a:lnTo>
                  <a:pt x="721299" y="1660002"/>
                </a:lnTo>
                <a:cubicBezTo>
                  <a:pt x="731819" y="1660005"/>
                  <a:pt x="740345" y="1668536"/>
                  <a:pt x="740342" y="1679056"/>
                </a:cubicBezTo>
                <a:cubicBezTo>
                  <a:pt x="740341" y="1683618"/>
                  <a:pt x="738702" y="1688029"/>
                  <a:pt x="735723" y="1691485"/>
                </a:cubicBezTo>
                <a:cubicBezTo>
                  <a:pt x="733832" y="1693679"/>
                  <a:pt x="732016" y="1695925"/>
                  <a:pt x="730235" y="1698194"/>
                </a:cubicBezTo>
                <a:lnTo>
                  <a:pt x="730205" y="1698194"/>
                </a:lnTo>
                <a:cubicBezTo>
                  <a:pt x="729925" y="1698552"/>
                  <a:pt x="729665" y="1698924"/>
                  <a:pt x="729387" y="1699283"/>
                </a:cubicBezTo>
                <a:cubicBezTo>
                  <a:pt x="728405" y="1700554"/>
                  <a:pt x="727440" y="1701835"/>
                  <a:pt x="726493" y="1703128"/>
                </a:cubicBezTo>
                <a:cubicBezTo>
                  <a:pt x="725987" y="1703818"/>
                  <a:pt x="725477" y="1704505"/>
                  <a:pt x="724981" y="1705201"/>
                </a:cubicBezTo>
                <a:cubicBezTo>
                  <a:pt x="723843" y="1706799"/>
                  <a:pt x="722734" y="1708415"/>
                  <a:pt x="721648" y="1710045"/>
                </a:cubicBezTo>
                <a:cubicBezTo>
                  <a:pt x="721180" y="1710748"/>
                  <a:pt x="720721" y="1711455"/>
                  <a:pt x="720262" y="1712164"/>
                </a:cubicBezTo>
                <a:cubicBezTo>
                  <a:pt x="719304" y="1713646"/>
                  <a:pt x="718359" y="1715136"/>
                  <a:pt x="717444" y="1716642"/>
                </a:cubicBezTo>
                <a:cubicBezTo>
                  <a:pt x="716892" y="1717550"/>
                  <a:pt x="716360" y="1718468"/>
                  <a:pt x="715824" y="1719384"/>
                </a:cubicBezTo>
                <a:cubicBezTo>
                  <a:pt x="715181" y="1720483"/>
                  <a:pt x="714546" y="1721587"/>
                  <a:pt x="713926" y="1722698"/>
                </a:cubicBezTo>
                <a:cubicBezTo>
                  <a:pt x="713382" y="1723672"/>
                  <a:pt x="712845" y="1724648"/>
                  <a:pt x="712319" y="1725631"/>
                </a:cubicBezTo>
                <a:cubicBezTo>
                  <a:pt x="711730" y="1726733"/>
                  <a:pt x="711160" y="1727843"/>
                  <a:pt x="710593" y="1728955"/>
                </a:cubicBezTo>
                <a:cubicBezTo>
                  <a:pt x="710098" y="1729924"/>
                  <a:pt x="709592" y="1730888"/>
                  <a:pt x="709114" y="1731865"/>
                </a:cubicBezTo>
                <a:cubicBezTo>
                  <a:pt x="709109" y="1731882"/>
                  <a:pt x="709103" y="1731887"/>
                  <a:pt x="709098" y="1731897"/>
                </a:cubicBezTo>
                <a:cubicBezTo>
                  <a:pt x="696670" y="1757354"/>
                  <a:pt x="690035" y="1785472"/>
                  <a:pt x="689977" y="1814219"/>
                </a:cubicBezTo>
                <a:cubicBezTo>
                  <a:pt x="689984" y="1918564"/>
                  <a:pt x="774170" y="2002744"/>
                  <a:pt x="878519" y="2002744"/>
                </a:cubicBezTo>
                <a:cubicBezTo>
                  <a:pt x="982868" y="2002744"/>
                  <a:pt x="1067054" y="1918563"/>
                  <a:pt x="1067061" y="1814215"/>
                </a:cubicBezTo>
                <a:cubicBezTo>
                  <a:pt x="1067061" y="1784520"/>
                  <a:pt x="1059998" y="1755497"/>
                  <a:pt x="1046795" y="1729366"/>
                </a:cubicBezTo>
                <a:lnTo>
                  <a:pt x="1046795" y="1729297"/>
                </a:lnTo>
                <a:cubicBezTo>
                  <a:pt x="1046023" y="1727772"/>
                  <a:pt x="1045225" y="1726261"/>
                  <a:pt x="1044412" y="1724756"/>
                </a:cubicBezTo>
                <a:cubicBezTo>
                  <a:pt x="1044326" y="1724596"/>
                  <a:pt x="1044245" y="1724434"/>
                  <a:pt x="1044158" y="1724274"/>
                </a:cubicBezTo>
                <a:cubicBezTo>
                  <a:pt x="1044157" y="1724274"/>
                  <a:pt x="1044156" y="1724274"/>
                  <a:pt x="1044154" y="1724274"/>
                </a:cubicBezTo>
                <a:cubicBezTo>
                  <a:pt x="1043043" y="1722231"/>
                  <a:pt x="1041878" y="1720213"/>
                  <a:pt x="1040689" y="1718209"/>
                </a:cubicBezTo>
                <a:cubicBezTo>
                  <a:pt x="1040377" y="1717683"/>
                  <a:pt x="1040059" y="1717161"/>
                  <a:pt x="1039742" y="1716638"/>
                </a:cubicBezTo>
                <a:cubicBezTo>
                  <a:pt x="1038776" y="1715044"/>
                  <a:pt x="1037786" y="1713465"/>
                  <a:pt x="1036772" y="1711899"/>
                </a:cubicBezTo>
                <a:cubicBezTo>
                  <a:pt x="1036472" y="1711435"/>
                  <a:pt x="1036179" y="1710967"/>
                  <a:pt x="1035874" y="1710506"/>
                </a:cubicBezTo>
                <a:cubicBezTo>
                  <a:pt x="1034574" y="1708536"/>
                  <a:pt x="1033238" y="1706586"/>
                  <a:pt x="1031861" y="1704662"/>
                </a:cubicBezTo>
                <a:cubicBezTo>
                  <a:pt x="1031681" y="1704409"/>
                  <a:pt x="1031492" y="1704161"/>
                  <a:pt x="1031310" y="1703909"/>
                </a:cubicBezTo>
                <a:cubicBezTo>
                  <a:pt x="1030090" y="1702222"/>
                  <a:pt x="1028840" y="1700553"/>
                  <a:pt x="1027561" y="1698903"/>
                </a:cubicBezTo>
                <a:cubicBezTo>
                  <a:pt x="1027382" y="1698671"/>
                  <a:pt x="1027214" y="1698431"/>
                  <a:pt x="1027033" y="1698200"/>
                </a:cubicBezTo>
                <a:lnTo>
                  <a:pt x="1027010" y="1698200"/>
                </a:lnTo>
                <a:cubicBezTo>
                  <a:pt x="1025224" y="1695916"/>
                  <a:pt x="1023400" y="1693659"/>
                  <a:pt x="1021502" y="1691451"/>
                </a:cubicBezTo>
                <a:cubicBezTo>
                  <a:pt x="1014648" y="1683471"/>
                  <a:pt x="1015560" y="1671445"/>
                  <a:pt x="1023541" y="1664590"/>
                </a:cubicBezTo>
                <a:cubicBezTo>
                  <a:pt x="1026994" y="1661624"/>
                  <a:pt x="1031395" y="1659993"/>
                  <a:pt x="1035947" y="1659991"/>
                </a:cubicBezTo>
                <a:lnTo>
                  <a:pt x="1046794" y="1659991"/>
                </a:lnTo>
                <a:lnTo>
                  <a:pt x="1357797" y="1659991"/>
                </a:lnTo>
                <a:cubicBezTo>
                  <a:pt x="1525213" y="1659991"/>
                  <a:pt x="1659991" y="1525213"/>
                  <a:pt x="1659991" y="1357797"/>
                </a:cubicBezTo>
                <a:lnTo>
                  <a:pt x="1659991" y="1072898"/>
                </a:lnTo>
                <a:cubicBezTo>
                  <a:pt x="1657812" y="1074203"/>
                  <a:pt x="1655613" y="1075471"/>
                  <a:pt x="1653394" y="1076700"/>
                </a:cubicBezTo>
                <a:cubicBezTo>
                  <a:pt x="1651177" y="1077929"/>
                  <a:pt x="1648940" y="1079121"/>
                  <a:pt x="1646685" y="1080274"/>
                </a:cubicBezTo>
                <a:cubicBezTo>
                  <a:pt x="1644437" y="1081424"/>
                  <a:pt x="1642171" y="1082534"/>
                  <a:pt x="1639887" y="1083607"/>
                </a:cubicBezTo>
                <a:cubicBezTo>
                  <a:pt x="1639879" y="1083607"/>
                  <a:pt x="1639872" y="1083624"/>
                  <a:pt x="1639864" y="1083624"/>
                </a:cubicBezTo>
                <a:cubicBezTo>
                  <a:pt x="1639428" y="1083829"/>
                  <a:pt x="1638984" y="1084013"/>
                  <a:pt x="1638547" y="1084215"/>
                </a:cubicBezTo>
                <a:cubicBezTo>
                  <a:pt x="1636686" y="1085075"/>
                  <a:pt x="1634823" y="1085927"/>
                  <a:pt x="1632940" y="1086736"/>
                </a:cubicBezTo>
                <a:cubicBezTo>
                  <a:pt x="1630616" y="1087735"/>
                  <a:pt x="1628276" y="1088697"/>
                  <a:pt x="1625921" y="1089617"/>
                </a:cubicBezTo>
                <a:cubicBezTo>
                  <a:pt x="1623565" y="1090538"/>
                  <a:pt x="1621194" y="1091419"/>
                  <a:pt x="1618809" y="1092261"/>
                </a:cubicBezTo>
                <a:cubicBezTo>
                  <a:pt x="1614057" y="1093937"/>
                  <a:pt x="1609251" y="1095454"/>
                  <a:pt x="1604394" y="1096811"/>
                </a:cubicBezTo>
                <a:cubicBezTo>
                  <a:pt x="1604375" y="1096811"/>
                  <a:pt x="1604357" y="1096828"/>
                  <a:pt x="1604338" y="1096828"/>
                </a:cubicBezTo>
                <a:cubicBezTo>
                  <a:pt x="1603424" y="1097083"/>
                  <a:pt x="1602500" y="1097304"/>
                  <a:pt x="1601583" y="1097548"/>
                </a:cubicBezTo>
                <a:cubicBezTo>
                  <a:pt x="1600053" y="1097954"/>
                  <a:pt x="1598527" y="1098371"/>
                  <a:pt x="1596989" y="1098746"/>
                </a:cubicBezTo>
                <a:cubicBezTo>
                  <a:pt x="1592078" y="1099940"/>
                  <a:pt x="1587124" y="1100973"/>
                  <a:pt x="1582132" y="1101838"/>
                </a:cubicBezTo>
                <a:lnTo>
                  <a:pt x="1582095" y="1101838"/>
                </a:lnTo>
                <a:cubicBezTo>
                  <a:pt x="1578306" y="1102494"/>
                  <a:pt x="1574489" y="1103022"/>
                  <a:pt x="1570661" y="1103485"/>
                </a:cubicBezTo>
                <a:cubicBezTo>
                  <a:pt x="1568123" y="1103791"/>
                  <a:pt x="1565579" y="1104056"/>
                  <a:pt x="1563027" y="1104277"/>
                </a:cubicBezTo>
                <a:cubicBezTo>
                  <a:pt x="1559717" y="1104563"/>
                  <a:pt x="1556396" y="1104790"/>
                  <a:pt x="1553064" y="1104930"/>
                </a:cubicBezTo>
                <a:cubicBezTo>
                  <a:pt x="1550048" y="1105057"/>
                  <a:pt x="1547028" y="1105142"/>
                  <a:pt x="1543999" y="1105148"/>
                </a:cubicBezTo>
                <a:cubicBezTo>
                  <a:pt x="1543977" y="1105148"/>
                  <a:pt x="1543955" y="1105148"/>
                  <a:pt x="1543933" y="1105148"/>
                </a:cubicBezTo>
                <a:cubicBezTo>
                  <a:pt x="1540030" y="1105148"/>
                  <a:pt x="1536149" y="1105046"/>
                  <a:pt x="1532293" y="1104851"/>
                </a:cubicBezTo>
                <a:lnTo>
                  <a:pt x="1532290" y="1104851"/>
                </a:lnTo>
                <a:cubicBezTo>
                  <a:pt x="1530362" y="1104753"/>
                  <a:pt x="1528440" y="1104631"/>
                  <a:pt x="1526525" y="1104485"/>
                </a:cubicBezTo>
                <a:cubicBezTo>
                  <a:pt x="1520777" y="1104046"/>
                  <a:pt x="1515091" y="1103392"/>
                  <a:pt x="1509470" y="1102531"/>
                </a:cubicBezTo>
                <a:cubicBezTo>
                  <a:pt x="1507597" y="1102244"/>
                  <a:pt x="1505733" y="1101933"/>
                  <a:pt x="1503876" y="1101600"/>
                </a:cubicBezTo>
                <a:cubicBezTo>
                  <a:pt x="1503876" y="1101600"/>
                  <a:pt x="1503873" y="1101600"/>
                  <a:pt x="1503873" y="1101600"/>
                </a:cubicBezTo>
                <a:cubicBezTo>
                  <a:pt x="1502016" y="1101267"/>
                  <a:pt x="1500166" y="1100912"/>
                  <a:pt x="1498325" y="1100534"/>
                </a:cubicBezTo>
                <a:cubicBezTo>
                  <a:pt x="1498325" y="1100534"/>
                  <a:pt x="1498322" y="1100534"/>
                  <a:pt x="1498322" y="1100534"/>
                </a:cubicBezTo>
                <a:cubicBezTo>
                  <a:pt x="1496481" y="1100156"/>
                  <a:pt x="1494649" y="1099755"/>
                  <a:pt x="1492824" y="1099333"/>
                </a:cubicBezTo>
                <a:cubicBezTo>
                  <a:pt x="1492824" y="1099333"/>
                  <a:pt x="1492820" y="1099333"/>
                  <a:pt x="1492820" y="1099333"/>
                </a:cubicBezTo>
                <a:cubicBezTo>
                  <a:pt x="1490995" y="1098910"/>
                  <a:pt x="1489177" y="1098467"/>
                  <a:pt x="1487369" y="1098000"/>
                </a:cubicBezTo>
                <a:cubicBezTo>
                  <a:pt x="1474706" y="1094733"/>
                  <a:pt x="1462470" y="1090397"/>
                  <a:pt x="1450760" y="1085093"/>
                </a:cubicBezTo>
                <a:cubicBezTo>
                  <a:pt x="1449088" y="1084335"/>
                  <a:pt x="1447428" y="1083557"/>
                  <a:pt x="1445777" y="1082760"/>
                </a:cubicBezTo>
                <a:cubicBezTo>
                  <a:pt x="1442475" y="1081166"/>
                  <a:pt x="1439217" y="1079498"/>
                  <a:pt x="1436006" y="1077750"/>
                </a:cubicBezTo>
                <a:cubicBezTo>
                  <a:pt x="1434401" y="1076877"/>
                  <a:pt x="1432808" y="1075984"/>
                  <a:pt x="1431227" y="1075074"/>
                </a:cubicBezTo>
                <a:cubicBezTo>
                  <a:pt x="1431227" y="1075074"/>
                  <a:pt x="1431224" y="1075074"/>
                  <a:pt x="1431224" y="1075074"/>
                </a:cubicBezTo>
                <a:cubicBezTo>
                  <a:pt x="1429643" y="1074163"/>
                  <a:pt x="1428075" y="1073232"/>
                  <a:pt x="1426518" y="1072285"/>
                </a:cubicBezTo>
                <a:cubicBezTo>
                  <a:pt x="1426518" y="1072285"/>
                  <a:pt x="1426514" y="1072285"/>
                  <a:pt x="1426514" y="1072285"/>
                </a:cubicBezTo>
                <a:cubicBezTo>
                  <a:pt x="1424958" y="1071338"/>
                  <a:pt x="1423413" y="1070371"/>
                  <a:pt x="1421881" y="1069388"/>
                </a:cubicBezTo>
                <a:cubicBezTo>
                  <a:pt x="1421881" y="1069388"/>
                  <a:pt x="1421878" y="1069388"/>
                  <a:pt x="1421878" y="1069388"/>
                </a:cubicBezTo>
                <a:cubicBezTo>
                  <a:pt x="1420345" y="1068404"/>
                  <a:pt x="1418828" y="1067404"/>
                  <a:pt x="1417320" y="1066385"/>
                </a:cubicBezTo>
                <a:cubicBezTo>
                  <a:pt x="1415812" y="1065365"/>
                  <a:pt x="1414317" y="1064327"/>
                  <a:pt x="1412835" y="1063273"/>
                </a:cubicBezTo>
                <a:cubicBezTo>
                  <a:pt x="1411355" y="1062219"/>
                  <a:pt x="1409887" y="1061147"/>
                  <a:pt x="1408433" y="1060058"/>
                </a:cubicBezTo>
                <a:cubicBezTo>
                  <a:pt x="1408433" y="1060058"/>
                  <a:pt x="1408430" y="1060058"/>
                  <a:pt x="1408430" y="1060058"/>
                </a:cubicBezTo>
                <a:cubicBezTo>
                  <a:pt x="1406976" y="1058970"/>
                  <a:pt x="1405537" y="1057864"/>
                  <a:pt x="1404110" y="1056742"/>
                </a:cubicBezTo>
                <a:cubicBezTo>
                  <a:pt x="1404110" y="1056742"/>
                  <a:pt x="1404106" y="1056742"/>
                  <a:pt x="1404106" y="1056742"/>
                </a:cubicBezTo>
                <a:cubicBezTo>
                  <a:pt x="1402680" y="1055620"/>
                  <a:pt x="1401268" y="1054478"/>
                  <a:pt x="1399869" y="1053323"/>
                </a:cubicBezTo>
                <a:cubicBezTo>
                  <a:pt x="1399869" y="1053323"/>
                  <a:pt x="1399866" y="1053323"/>
                  <a:pt x="1399866" y="1053323"/>
                </a:cubicBezTo>
                <a:cubicBezTo>
                  <a:pt x="1398466" y="1052167"/>
                  <a:pt x="1397082" y="1050997"/>
                  <a:pt x="1395711" y="1049808"/>
                </a:cubicBezTo>
                <a:cubicBezTo>
                  <a:pt x="1394339" y="1048619"/>
                  <a:pt x="1392981" y="1047415"/>
                  <a:pt x="1391638" y="1046195"/>
                </a:cubicBezTo>
                <a:cubicBezTo>
                  <a:pt x="1390297" y="1044975"/>
                  <a:pt x="1388971" y="1043737"/>
                  <a:pt x="1387659" y="1042485"/>
                </a:cubicBezTo>
                <a:cubicBezTo>
                  <a:pt x="1387659" y="1042485"/>
                  <a:pt x="1387655" y="1042485"/>
                  <a:pt x="1387655" y="1042485"/>
                </a:cubicBezTo>
                <a:cubicBezTo>
                  <a:pt x="1386343" y="1041234"/>
                  <a:pt x="1385047" y="1039966"/>
                  <a:pt x="1383764" y="1038684"/>
                </a:cubicBezTo>
                <a:cubicBezTo>
                  <a:pt x="1382482" y="1037401"/>
                  <a:pt x="1381214" y="1036105"/>
                  <a:pt x="1379963" y="1034793"/>
                </a:cubicBezTo>
                <a:cubicBezTo>
                  <a:pt x="1376207" y="1030855"/>
                  <a:pt x="1372592" y="1026781"/>
                  <a:pt x="1369125" y="1022582"/>
                </a:cubicBezTo>
                <a:cubicBezTo>
                  <a:pt x="1365658" y="1018383"/>
                  <a:pt x="1362338" y="1014057"/>
                  <a:pt x="1359175" y="1009613"/>
                </a:cubicBezTo>
                <a:cubicBezTo>
                  <a:pt x="1357067" y="1006650"/>
                  <a:pt x="1355028" y="1003633"/>
                  <a:pt x="1353060" y="1000567"/>
                </a:cubicBezTo>
                <a:cubicBezTo>
                  <a:pt x="1352076" y="999034"/>
                  <a:pt x="1351110" y="997491"/>
                  <a:pt x="1350163" y="995934"/>
                </a:cubicBezTo>
                <a:cubicBezTo>
                  <a:pt x="1347320" y="991261"/>
                  <a:pt x="1344643" y="986477"/>
                  <a:pt x="1342137" y="981592"/>
                </a:cubicBezTo>
                <a:cubicBezTo>
                  <a:pt x="1340466" y="978335"/>
                  <a:pt x="1338870" y="975032"/>
                  <a:pt x="1337355" y="971688"/>
                </a:cubicBezTo>
                <a:cubicBezTo>
                  <a:pt x="1335083" y="966671"/>
                  <a:pt x="1332987" y="961555"/>
                  <a:pt x="1331078" y="956352"/>
                </a:cubicBezTo>
                <a:cubicBezTo>
                  <a:pt x="1330442" y="954618"/>
                  <a:pt x="1329825" y="952873"/>
                  <a:pt x="1329230" y="951118"/>
                </a:cubicBezTo>
                <a:cubicBezTo>
                  <a:pt x="1326850" y="944102"/>
                  <a:pt x="1324806" y="936935"/>
                  <a:pt x="1323115" y="929631"/>
                </a:cubicBezTo>
                <a:cubicBezTo>
                  <a:pt x="1321424" y="922328"/>
                  <a:pt x="1320088" y="914891"/>
                  <a:pt x="1319125" y="907339"/>
                </a:cubicBezTo>
                <a:cubicBezTo>
                  <a:pt x="1318644" y="903563"/>
                  <a:pt x="1318256" y="899758"/>
                  <a:pt x="1317964" y="895927"/>
                </a:cubicBezTo>
                <a:cubicBezTo>
                  <a:pt x="1317817" y="894012"/>
                  <a:pt x="1317695" y="892090"/>
                  <a:pt x="1317597" y="890162"/>
                </a:cubicBezTo>
                <a:cubicBezTo>
                  <a:pt x="1317401" y="886305"/>
                  <a:pt x="1317300" y="882424"/>
                  <a:pt x="1317300" y="878519"/>
                </a:cubicBezTo>
                <a:cubicBezTo>
                  <a:pt x="1317300" y="874615"/>
                  <a:pt x="1317401" y="870733"/>
                  <a:pt x="1317597" y="866877"/>
                </a:cubicBezTo>
                <a:cubicBezTo>
                  <a:pt x="1317695" y="864948"/>
                  <a:pt x="1317817" y="863027"/>
                  <a:pt x="1317964" y="861111"/>
                </a:cubicBezTo>
                <a:cubicBezTo>
                  <a:pt x="1318256" y="857280"/>
                  <a:pt x="1318644" y="853475"/>
                  <a:pt x="1319125" y="849699"/>
                </a:cubicBezTo>
                <a:cubicBezTo>
                  <a:pt x="1320088" y="842148"/>
                  <a:pt x="1321424" y="834710"/>
                  <a:pt x="1323115" y="827407"/>
                </a:cubicBezTo>
                <a:cubicBezTo>
                  <a:pt x="1324702" y="820552"/>
                  <a:pt x="1326612" y="813821"/>
                  <a:pt x="1328808" y="807217"/>
                </a:cubicBezTo>
                <a:cubicBezTo>
                  <a:pt x="1328951" y="806786"/>
                  <a:pt x="1329084" y="806350"/>
                  <a:pt x="1329230" y="805920"/>
                </a:cubicBezTo>
                <a:cubicBezTo>
                  <a:pt x="1329825" y="804166"/>
                  <a:pt x="1330442" y="802424"/>
                  <a:pt x="1331078" y="800690"/>
                </a:cubicBezTo>
                <a:cubicBezTo>
                  <a:pt x="1332988" y="795486"/>
                  <a:pt x="1335082" y="790369"/>
                  <a:pt x="1337355" y="785351"/>
                </a:cubicBezTo>
                <a:cubicBezTo>
                  <a:pt x="1338112" y="783679"/>
                  <a:pt x="1338892" y="782017"/>
                  <a:pt x="1339688" y="780367"/>
                </a:cubicBezTo>
                <a:cubicBezTo>
                  <a:pt x="1340485" y="778717"/>
                  <a:pt x="1341301" y="777079"/>
                  <a:pt x="1342137" y="775450"/>
                </a:cubicBezTo>
                <a:cubicBezTo>
                  <a:pt x="1344643" y="770565"/>
                  <a:pt x="1347320" y="765781"/>
                  <a:pt x="1350163" y="761108"/>
                </a:cubicBezTo>
                <a:cubicBezTo>
                  <a:pt x="1351110" y="759551"/>
                  <a:pt x="1352077" y="758007"/>
                  <a:pt x="1353060" y="756475"/>
                </a:cubicBezTo>
                <a:cubicBezTo>
                  <a:pt x="1353708" y="755465"/>
                  <a:pt x="1354377" y="754470"/>
                  <a:pt x="1355040" y="753472"/>
                </a:cubicBezTo>
                <a:cubicBezTo>
                  <a:pt x="1355384" y="752954"/>
                  <a:pt x="1355718" y="752429"/>
                  <a:pt x="1356067" y="751914"/>
                </a:cubicBezTo>
                <a:cubicBezTo>
                  <a:pt x="1357086" y="750407"/>
                  <a:pt x="1358121" y="748914"/>
                  <a:pt x="1359175" y="747432"/>
                </a:cubicBezTo>
                <a:cubicBezTo>
                  <a:pt x="1362338" y="742988"/>
                  <a:pt x="1365658" y="738662"/>
                  <a:pt x="1369125" y="734463"/>
                </a:cubicBezTo>
                <a:cubicBezTo>
                  <a:pt x="1370280" y="733064"/>
                  <a:pt x="1371452" y="731678"/>
                  <a:pt x="1372640" y="730308"/>
                </a:cubicBezTo>
                <a:cubicBezTo>
                  <a:pt x="1372640" y="730308"/>
                  <a:pt x="1372643" y="730308"/>
                  <a:pt x="1372643" y="730308"/>
                </a:cubicBezTo>
                <a:cubicBezTo>
                  <a:pt x="1375019" y="727567"/>
                  <a:pt x="1377460" y="724880"/>
                  <a:pt x="1379963" y="722256"/>
                </a:cubicBezTo>
                <a:cubicBezTo>
                  <a:pt x="1381214" y="720944"/>
                  <a:pt x="1382483" y="719647"/>
                  <a:pt x="1383764" y="718365"/>
                </a:cubicBezTo>
                <a:cubicBezTo>
                  <a:pt x="1384414" y="717716"/>
                  <a:pt x="1385078" y="717082"/>
                  <a:pt x="1385735" y="716441"/>
                </a:cubicBezTo>
                <a:cubicBezTo>
                  <a:pt x="1388971" y="713282"/>
                  <a:pt x="1392291" y="710204"/>
                  <a:pt x="1395711" y="707240"/>
                </a:cubicBezTo>
                <a:cubicBezTo>
                  <a:pt x="1397082" y="706053"/>
                  <a:pt x="1398467" y="704881"/>
                  <a:pt x="1399866" y="703726"/>
                </a:cubicBezTo>
                <a:cubicBezTo>
                  <a:pt x="1405465" y="699103"/>
                  <a:pt x="1411290" y="694741"/>
                  <a:pt x="1417320" y="690664"/>
                </a:cubicBezTo>
                <a:cubicBezTo>
                  <a:pt x="1418827" y="689645"/>
                  <a:pt x="1420345" y="688644"/>
                  <a:pt x="1421877" y="687661"/>
                </a:cubicBezTo>
                <a:cubicBezTo>
                  <a:pt x="1427006" y="684369"/>
                  <a:pt x="1432286" y="681292"/>
                  <a:pt x="1437685" y="678414"/>
                </a:cubicBezTo>
                <a:cubicBezTo>
                  <a:pt x="1441453" y="676404"/>
                  <a:pt x="1445282" y="674497"/>
                  <a:pt x="1449173" y="672698"/>
                </a:cubicBezTo>
                <a:cubicBezTo>
                  <a:pt x="1451369" y="671683"/>
                  <a:pt x="1453579" y="670688"/>
                  <a:pt x="1455812" y="669741"/>
                </a:cubicBezTo>
                <a:cubicBezTo>
                  <a:pt x="1467669" y="664716"/>
                  <a:pt x="1480041" y="660674"/>
                  <a:pt x="1492820" y="657716"/>
                </a:cubicBezTo>
                <a:cubicBezTo>
                  <a:pt x="1500123" y="656025"/>
                  <a:pt x="1507560" y="654689"/>
                  <a:pt x="1515112" y="653726"/>
                </a:cubicBezTo>
                <a:cubicBezTo>
                  <a:pt x="1517000" y="653485"/>
                  <a:pt x="1518896" y="653266"/>
                  <a:pt x="1520798" y="653072"/>
                </a:cubicBezTo>
                <a:cubicBezTo>
                  <a:pt x="1526504" y="652491"/>
                  <a:pt x="1532272" y="652122"/>
                  <a:pt x="1538094" y="651973"/>
                </a:cubicBezTo>
                <a:cubicBezTo>
                  <a:pt x="1540035" y="651924"/>
                  <a:pt x="1541980" y="651901"/>
                  <a:pt x="1543932" y="651901"/>
                </a:cubicBezTo>
                <a:cubicBezTo>
                  <a:pt x="1546502" y="651901"/>
                  <a:pt x="1549067" y="651946"/>
                  <a:pt x="1551628" y="652036"/>
                </a:cubicBezTo>
                <a:cubicBezTo>
                  <a:pt x="1551630" y="652036"/>
                  <a:pt x="1551633" y="652036"/>
                  <a:pt x="1551635" y="652036"/>
                </a:cubicBezTo>
                <a:cubicBezTo>
                  <a:pt x="1554193" y="652125"/>
                  <a:pt x="1556747" y="652260"/>
                  <a:pt x="1559294" y="652435"/>
                </a:cubicBezTo>
                <a:cubicBezTo>
                  <a:pt x="1559298" y="652435"/>
                  <a:pt x="1559301" y="652435"/>
                  <a:pt x="1559304" y="652435"/>
                </a:cubicBezTo>
                <a:cubicBezTo>
                  <a:pt x="1560021" y="652484"/>
                  <a:pt x="1560733" y="652564"/>
                  <a:pt x="1561449" y="652620"/>
                </a:cubicBezTo>
                <a:cubicBezTo>
                  <a:pt x="1563280" y="652764"/>
                  <a:pt x="1565110" y="652904"/>
                  <a:pt x="1566934" y="653092"/>
                </a:cubicBezTo>
                <a:cubicBezTo>
                  <a:pt x="1567993" y="653202"/>
                  <a:pt x="1569046" y="653347"/>
                  <a:pt x="1570102" y="653471"/>
                </a:cubicBezTo>
                <a:cubicBezTo>
                  <a:pt x="1574100" y="653941"/>
                  <a:pt x="1578086" y="654487"/>
                  <a:pt x="1582042" y="655168"/>
                </a:cubicBezTo>
                <a:cubicBezTo>
                  <a:pt x="1582051" y="655169"/>
                  <a:pt x="1582057" y="655168"/>
                  <a:pt x="1582065" y="655168"/>
                </a:cubicBezTo>
                <a:cubicBezTo>
                  <a:pt x="1584561" y="655597"/>
                  <a:pt x="1587047" y="656068"/>
                  <a:pt x="1589524" y="656580"/>
                </a:cubicBezTo>
                <a:cubicBezTo>
                  <a:pt x="1591777" y="657046"/>
                  <a:pt x="1594017" y="657557"/>
                  <a:pt x="1596252" y="658091"/>
                </a:cubicBezTo>
                <a:cubicBezTo>
                  <a:pt x="1596482" y="658146"/>
                  <a:pt x="1596713" y="658191"/>
                  <a:pt x="1596942" y="658247"/>
                </a:cubicBezTo>
                <a:lnTo>
                  <a:pt x="1596972" y="658247"/>
                </a:lnTo>
                <a:cubicBezTo>
                  <a:pt x="1599424" y="658841"/>
                  <a:pt x="1601865" y="659476"/>
                  <a:pt x="1604295" y="660151"/>
                </a:cubicBezTo>
                <a:cubicBezTo>
                  <a:pt x="1604597" y="660236"/>
                  <a:pt x="1604894" y="660333"/>
                  <a:pt x="1605196" y="660418"/>
                </a:cubicBezTo>
                <a:cubicBezTo>
                  <a:pt x="1607330" y="661021"/>
                  <a:pt x="1609460" y="661644"/>
                  <a:pt x="1611575" y="662309"/>
                </a:cubicBezTo>
                <a:cubicBezTo>
                  <a:pt x="1611587" y="662309"/>
                  <a:pt x="1611599" y="662309"/>
                  <a:pt x="1611611" y="662330"/>
                </a:cubicBezTo>
                <a:cubicBezTo>
                  <a:pt x="1614013" y="663085"/>
                  <a:pt x="1616404" y="663881"/>
                  <a:pt x="1618779" y="664716"/>
                </a:cubicBezTo>
                <a:cubicBezTo>
                  <a:pt x="1618793" y="664716"/>
                  <a:pt x="1618806" y="664733"/>
                  <a:pt x="1618819" y="664733"/>
                </a:cubicBezTo>
                <a:cubicBezTo>
                  <a:pt x="1621192" y="665567"/>
                  <a:pt x="1623550" y="666443"/>
                  <a:pt x="1625894" y="667356"/>
                </a:cubicBezTo>
                <a:cubicBezTo>
                  <a:pt x="1625908" y="667356"/>
                  <a:pt x="1625923" y="667373"/>
                  <a:pt x="1625937" y="667373"/>
                </a:cubicBezTo>
                <a:cubicBezTo>
                  <a:pt x="1630235" y="669049"/>
                  <a:pt x="1634474" y="670873"/>
                  <a:pt x="1638665" y="672808"/>
                </a:cubicBezTo>
                <a:cubicBezTo>
                  <a:pt x="1639057" y="672989"/>
                  <a:pt x="1639456" y="673153"/>
                  <a:pt x="1639847" y="673336"/>
                </a:cubicBezTo>
                <a:cubicBezTo>
                  <a:pt x="1639864" y="673336"/>
                  <a:pt x="1639880" y="673353"/>
                  <a:pt x="1639896" y="673360"/>
                </a:cubicBezTo>
                <a:cubicBezTo>
                  <a:pt x="1642172" y="674428"/>
                  <a:pt x="1644430" y="675533"/>
                  <a:pt x="1646672" y="676677"/>
                </a:cubicBezTo>
                <a:cubicBezTo>
                  <a:pt x="1646689" y="676694"/>
                  <a:pt x="1646707" y="676694"/>
                  <a:pt x="1646724" y="676704"/>
                </a:cubicBezTo>
                <a:cubicBezTo>
                  <a:pt x="1648964" y="677847"/>
                  <a:pt x="1651188" y="679030"/>
                  <a:pt x="1653390" y="680248"/>
                </a:cubicBezTo>
                <a:cubicBezTo>
                  <a:pt x="1655278" y="681292"/>
                  <a:pt x="1657145" y="682377"/>
                  <a:pt x="1659004" y="683476"/>
                </a:cubicBezTo>
                <a:cubicBezTo>
                  <a:pt x="1659331" y="683669"/>
                  <a:pt x="1659665" y="683848"/>
                  <a:pt x="1659991" y="684043"/>
                </a:cubicBezTo>
                <a:lnTo>
                  <a:pt x="1659991" y="302220"/>
                </a:lnTo>
                <a:cubicBezTo>
                  <a:pt x="1659991" y="134805"/>
                  <a:pt x="1525212" y="26"/>
                  <a:pt x="1357796" y="26"/>
                </a:cubicBezTo>
                <a:lnTo>
                  <a:pt x="302194" y="0"/>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85" name="Freeform: Shape 6"/>
          <p:cNvSpPr/>
          <p:nvPr/>
        </p:nvSpPr>
        <p:spPr>
          <a:xfrm rot="18900000">
            <a:off x="4840200" y="2152440"/>
            <a:ext cx="2024280" cy="1677960"/>
          </a:xfrm>
          <a:custGeom>
            <a:avLst/>
            <a:gdLst/>
            <a:ahLst/>
            <a:rect l="l" t="t" r="r" b="b"/>
            <a:pathLst>
              <a:path w="2002751" h="1660001">
                <a:moveTo>
                  <a:pt x="644941" y="3"/>
                </a:moveTo>
                <a:cubicBezTo>
                  <a:pt x="477959" y="3"/>
                  <a:pt x="343459" y="134086"/>
                  <a:pt x="342759" y="300897"/>
                </a:cubicBezTo>
                <a:lnTo>
                  <a:pt x="342759" y="704936"/>
                </a:lnTo>
                <a:lnTo>
                  <a:pt x="342759" y="721103"/>
                </a:lnTo>
                <a:cubicBezTo>
                  <a:pt x="342756" y="731624"/>
                  <a:pt x="334226" y="740150"/>
                  <a:pt x="323706" y="740147"/>
                </a:cubicBezTo>
                <a:cubicBezTo>
                  <a:pt x="319154" y="740145"/>
                  <a:pt x="314753" y="738514"/>
                  <a:pt x="311300" y="735548"/>
                </a:cubicBezTo>
                <a:cubicBezTo>
                  <a:pt x="309092" y="733651"/>
                  <a:pt x="306834" y="731826"/>
                  <a:pt x="304551" y="730040"/>
                </a:cubicBezTo>
                <a:lnTo>
                  <a:pt x="304551" y="729951"/>
                </a:lnTo>
                <a:cubicBezTo>
                  <a:pt x="300526" y="726802"/>
                  <a:pt x="296383" y="723833"/>
                  <a:pt x="292139" y="721037"/>
                </a:cubicBezTo>
                <a:cubicBezTo>
                  <a:pt x="291967" y="720924"/>
                  <a:pt x="291797" y="720807"/>
                  <a:pt x="291624" y="720694"/>
                </a:cubicBezTo>
                <a:cubicBezTo>
                  <a:pt x="289584" y="719359"/>
                  <a:pt x="287516" y="718069"/>
                  <a:pt x="285430" y="716816"/>
                </a:cubicBezTo>
                <a:cubicBezTo>
                  <a:pt x="285281" y="716727"/>
                  <a:pt x="285133" y="716638"/>
                  <a:pt x="284984" y="716549"/>
                </a:cubicBezTo>
                <a:cubicBezTo>
                  <a:pt x="282947" y="715334"/>
                  <a:pt x="280888" y="714160"/>
                  <a:pt x="278810" y="713024"/>
                </a:cubicBezTo>
                <a:cubicBezTo>
                  <a:pt x="278556" y="712886"/>
                  <a:pt x="278302" y="712746"/>
                  <a:pt x="278048" y="712608"/>
                </a:cubicBezTo>
                <a:cubicBezTo>
                  <a:pt x="275950" y="711474"/>
                  <a:pt x="273832" y="710380"/>
                  <a:pt x="271695" y="709328"/>
                </a:cubicBezTo>
                <a:cubicBezTo>
                  <a:pt x="271538" y="709250"/>
                  <a:pt x="271380" y="709174"/>
                  <a:pt x="271223" y="709097"/>
                </a:cubicBezTo>
                <a:cubicBezTo>
                  <a:pt x="269060" y="708039"/>
                  <a:pt x="266879" y="707021"/>
                  <a:pt x="264679" y="706048"/>
                </a:cubicBezTo>
                <a:cubicBezTo>
                  <a:pt x="264461" y="705952"/>
                  <a:pt x="264241" y="705860"/>
                  <a:pt x="264022" y="705764"/>
                </a:cubicBezTo>
                <a:cubicBezTo>
                  <a:pt x="261800" y="704791"/>
                  <a:pt x="259564" y="703855"/>
                  <a:pt x="257306" y="702969"/>
                </a:cubicBezTo>
                <a:cubicBezTo>
                  <a:pt x="257284" y="702952"/>
                  <a:pt x="257262" y="702952"/>
                  <a:pt x="257240" y="702942"/>
                </a:cubicBezTo>
                <a:cubicBezTo>
                  <a:pt x="257189" y="702921"/>
                  <a:pt x="257136" y="702906"/>
                  <a:pt x="257085" y="702886"/>
                </a:cubicBezTo>
                <a:cubicBezTo>
                  <a:pt x="254722" y="701961"/>
                  <a:pt x="252342" y="701078"/>
                  <a:pt x="249944" y="700249"/>
                </a:cubicBezTo>
                <a:cubicBezTo>
                  <a:pt x="247593" y="699437"/>
                  <a:pt x="245224" y="698678"/>
                  <a:pt x="242842" y="697959"/>
                </a:cubicBezTo>
                <a:cubicBezTo>
                  <a:pt x="242700" y="697917"/>
                  <a:pt x="242559" y="697869"/>
                  <a:pt x="242416" y="697827"/>
                </a:cubicBezTo>
                <a:cubicBezTo>
                  <a:pt x="240069" y="697125"/>
                  <a:pt x="237706" y="696474"/>
                  <a:pt x="235331" y="695864"/>
                </a:cubicBezTo>
                <a:cubicBezTo>
                  <a:pt x="235179" y="695825"/>
                  <a:pt x="235028" y="695784"/>
                  <a:pt x="234875" y="695745"/>
                </a:cubicBezTo>
                <a:cubicBezTo>
                  <a:pt x="232574" y="695160"/>
                  <a:pt x="230260" y="694624"/>
                  <a:pt x="227935" y="694125"/>
                </a:cubicBezTo>
                <a:cubicBezTo>
                  <a:pt x="227649" y="694064"/>
                  <a:pt x="227364" y="694000"/>
                  <a:pt x="227077" y="693940"/>
                </a:cubicBezTo>
                <a:cubicBezTo>
                  <a:pt x="224810" y="693465"/>
                  <a:pt x="222533" y="693032"/>
                  <a:pt x="220246" y="692640"/>
                </a:cubicBezTo>
                <a:cubicBezTo>
                  <a:pt x="219943" y="692587"/>
                  <a:pt x="219639" y="692539"/>
                  <a:pt x="219335" y="692488"/>
                </a:cubicBezTo>
                <a:cubicBezTo>
                  <a:pt x="217080" y="692113"/>
                  <a:pt x="214815" y="691778"/>
                  <a:pt x="212544" y="691485"/>
                </a:cubicBezTo>
                <a:cubicBezTo>
                  <a:pt x="212170" y="691436"/>
                  <a:pt x="211796" y="691392"/>
                  <a:pt x="211422" y="691346"/>
                </a:cubicBezTo>
                <a:cubicBezTo>
                  <a:pt x="209170" y="691069"/>
                  <a:pt x="206912" y="690826"/>
                  <a:pt x="204646" y="690630"/>
                </a:cubicBezTo>
                <a:cubicBezTo>
                  <a:pt x="204298" y="690600"/>
                  <a:pt x="203949" y="690576"/>
                  <a:pt x="203600" y="690547"/>
                </a:cubicBezTo>
                <a:cubicBezTo>
                  <a:pt x="201261" y="690358"/>
                  <a:pt x="198916" y="690207"/>
                  <a:pt x="196564" y="690105"/>
                </a:cubicBezTo>
                <a:cubicBezTo>
                  <a:pt x="196402" y="690105"/>
                  <a:pt x="196239" y="690088"/>
                  <a:pt x="196076" y="690088"/>
                </a:cubicBezTo>
                <a:cubicBezTo>
                  <a:pt x="193566" y="689985"/>
                  <a:pt x="191050" y="689924"/>
                  <a:pt x="188529" y="689923"/>
                </a:cubicBezTo>
                <a:lnTo>
                  <a:pt x="188529" y="689988"/>
                </a:lnTo>
                <a:cubicBezTo>
                  <a:pt x="185330" y="689989"/>
                  <a:pt x="182150" y="690070"/>
                  <a:pt x="178991" y="690226"/>
                </a:cubicBezTo>
                <a:lnTo>
                  <a:pt x="178807" y="690226"/>
                </a:lnTo>
                <a:cubicBezTo>
                  <a:pt x="177198" y="690307"/>
                  <a:pt x="175593" y="690408"/>
                  <a:pt x="173995" y="690530"/>
                </a:cubicBezTo>
                <a:cubicBezTo>
                  <a:pt x="170961" y="690760"/>
                  <a:pt x="167948" y="691066"/>
                  <a:pt x="164956" y="691437"/>
                </a:cubicBezTo>
                <a:cubicBezTo>
                  <a:pt x="164795" y="691457"/>
                  <a:pt x="164632" y="691473"/>
                  <a:pt x="164471" y="691493"/>
                </a:cubicBezTo>
                <a:cubicBezTo>
                  <a:pt x="162897" y="691692"/>
                  <a:pt x="161327" y="691912"/>
                  <a:pt x="159765" y="692150"/>
                </a:cubicBezTo>
                <a:cubicBezTo>
                  <a:pt x="155077" y="692864"/>
                  <a:pt x="150447" y="693749"/>
                  <a:pt x="145881" y="694800"/>
                </a:cubicBezTo>
                <a:cubicBezTo>
                  <a:pt x="144359" y="695150"/>
                  <a:pt x="142845" y="695519"/>
                  <a:pt x="141337" y="695905"/>
                </a:cubicBezTo>
                <a:cubicBezTo>
                  <a:pt x="139383" y="696407"/>
                  <a:pt x="137445" y="696951"/>
                  <a:pt x="135516" y="697512"/>
                </a:cubicBezTo>
                <a:cubicBezTo>
                  <a:pt x="132981" y="698251"/>
                  <a:pt x="130464" y="699028"/>
                  <a:pt x="127975" y="699869"/>
                </a:cubicBezTo>
                <a:cubicBezTo>
                  <a:pt x="126514" y="700362"/>
                  <a:pt x="125060" y="700872"/>
                  <a:pt x="123616" y="701400"/>
                </a:cubicBezTo>
                <a:cubicBezTo>
                  <a:pt x="119281" y="702983"/>
                  <a:pt x="115022" y="704719"/>
                  <a:pt x="110844" y="706604"/>
                </a:cubicBezTo>
                <a:cubicBezTo>
                  <a:pt x="108060" y="707860"/>
                  <a:pt x="105313" y="709182"/>
                  <a:pt x="102604" y="710568"/>
                </a:cubicBezTo>
                <a:lnTo>
                  <a:pt x="102600" y="710568"/>
                </a:lnTo>
                <a:cubicBezTo>
                  <a:pt x="101247" y="711260"/>
                  <a:pt x="99899" y="711969"/>
                  <a:pt x="98564" y="712693"/>
                </a:cubicBezTo>
                <a:cubicBezTo>
                  <a:pt x="95070" y="714588"/>
                  <a:pt x="91650" y="716601"/>
                  <a:pt x="88294" y="718706"/>
                </a:cubicBezTo>
                <a:cubicBezTo>
                  <a:pt x="87293" y="719334"/>
                  <a:pt x="86300" y="719973"/>
                  <a:pt x="85311" y="720620"/>
                </a:cubicBezTo>
                <a:cubicBezTo>
                  <a:pt x="83799" y="721609"/>
                  <a:pt x="82301" y="722619"/>
                  <a:pt x="80820" y="723649"/>
                </a:cubicBezTo>
                <a:cubicBezTo>
                  <a:pt x="80312" y="724003"/>
                  <a:pt x="79796" y="724347"/>
                  <a:pt x="79292" y="724705"/>
                </a:cubicBezTo>
                <a:cubicBezTo>
                  <a:pt x="78061" y="725580"/>
                  <a:pt x="76840" y="726468"/>
                  <a:pt x="75632" y="727372"/>
                </a:cubicBezTo>
                <a:cubicBezTo>
                  <a:pt x="73213" y="729179"/>
                  <a:pt x="70840" y="731043"/>
                  <a:pt x="68514" y="732962"/>
                </a:cubicBezTo>
                <a:cubicBezTo>
                  <a:pt x="67350" y="733922"/>
                  <a:pt x="66198" y="734896"/>
                  <a:pt x="65058" y="735883"/>
                </a:cubicBezTo>
                <a:cubicBezTo>
                  <a:pt x="63370" y="737345"/>
                  <a:pt x="61717" y="738847"/>
                  <a:pt x="60082" y="740368"/>
                </a:cubicBezTo>
                <a:cubicBezTo>
                  <a:pt x="58407" y="741925"/>
                  <a:pt x="56752" y="743502"/>
                  <a:pt x="55135" y="745120"/>
                </a:cubicBezTo>
                <a:cubicBezTo>
                  <a:pt x="50874" y="749381"/>
                  <a:pt x="46815" y="753845"/>
                  <a:pt x="42977" y="758498"/>
                </a:cubicBezTo>
                <a:cubicBezTo>
                  <a:pt x="42550" y="759017"/>
                  <a:pt x="42135" y="759546"/>
                  <a:pt x="41713" y="760069"/>
                </a:cubicBezTo>
                <a:cubicBezTo>
                  <a:pt x="40242" y="761893"/>
                  <a:pt x="38791" y="763737"/>
                  <a:pt x="37387" y="765617"/>
                </a:cubicBezTo>
                <a:cubicBezTo>
                  <a:pt x="36483" y="766826"/>
                  <a:pt x="35595" y="768045"/>
                  <a:pt x="34720" y="769277"/>
                </a:cubicBezTo>
                <a:cubicBezTo>
                  <a:pt x="34363" y="769780"/>
                  <a:pt x="34017" y="770294"/>
                  <a:pt x="33664" y="770801"/>
                </a:cubicBezTo>
                <a:cubicBezTo>
                  <a:pt x="32292" y="772774"/>
                  <a:pt x="30943" y="774767"/>
                  <a:pt x="29645" y="776794"/>
                </a:cubicBezTo>
                <a:cubicBezTo>
                  <a:pt x="28012" y="779344"/>
                  <a:pt x="26440" y="781937"/>
                  <a:pt x="24929" y="784569"/>
                </a:cubicBezTo>
                <a:cubicBezTo>
                  <a:pt x="23679" y="786748"/>
                  <a:pt x="22480" y="788957"/>
                  <a:pt x="21315" y="791189"/>
                </a:cubicBezTo>
                <a:cubicBezTo>
                  <a:pt x="21073" y="791654"/>
                  <a:pt x="20822" y="792115"/>
                  <a:pt x="20583" y="792582"/>
                </a:cubicBezTo>
                <a:cubicBezTo>
                  <a:pt x="19198" y="795292"/>
                  <a:pt x="17875" y="798038"/>
                  <a:pt x="16619" y="800822"/>
                </a:cubicBezTo>
                <a:cubicBezTo>
                  <a:pt x="15992" y="802214"/>
                  <a:pt x="15379" y="803614"/>
                  <a:pt x="14784" y="805023"/>
                </a:cubicBezTo>
                <a:cubicBezTo>
                  <a:pt x="13595" y="807843"/>
                  <a:pt x="12470" y="810699"/>
                  <a:pt x="11415" y="813587"/>
                </a:cubicBezTo>
                <a:cubicBezTo>
                  <a:pt x="10888" y="815031"/>
                  <a:pt x="10377" y="816483"/>
                  <a:pt x="9884" y="817943"/>
                </a:cubicBezTo>
                <a:cubicBezTo>
                  <a:pt x="8898" y="820866"/>
                  <a:pt x="7980" y="823822"/>
                  <a:pt x="7135" y="826807"/>
                </a:cubicBezTo>
                <a:cubicBezTo>
                  <a:pt x="5867" y="831285"/>
                  <a:pt x="4761" y="835832"/>
                  <a:pt x="3822" y="840440"/>
                </a:cubicBezTo>
                <a:cubicBezTo>
                  <a:pt x="2569" y="846584"/>
                  <a:pt x="1612" y="852836"/>
                  <a:pt x="970" y="859185"/>
                </a:cubicBezTo>
                <a:cubicBezTo>
                  <a:pt x="810" y="860771"/>
                  <a:pt x="669" y="862362"/>
                  <a:pt x="548" y="863960"/>
                </a:cubicBezTo>
                <a:cubicBezTo>
                  <a:pt x="185" y="868755"/>
                  <a:pt x="0" y="873604"/>
                  <a:pt x="0" y="878494"/>
                </a:cubicBezTo>
                <a:cubicBezTo>
                  <a:pt x="0" y="880124"/>
                  <a:pt x="22" y="881748"/>
                  <a:pt x="63" y="883368"/>
                </a:cubicBezTo>
                <a:cubicBezTo>
                  <a:pt x="226" y="889848"/>
                  <a:pt x="714" y="896245"/>
                  <a:pt x="1511" y="902545"/>
                </a:cubicBezTo>
                <a:cubicBezTo>
                  <a:pt x="1910" y="905694"/>
                  <a:pt x="2386" y="908819"/>
                  <a:pt x="2937" y="911917"/>
                </a:cubicBezTo>
                <a:cubicBezTo>
                  <a:pt x="3213" y="913466"/>
                  <a:pt x="3508" y="915009"/>
                  <a:pt x="3821" y="916544"/>
                </a:cubicBezTo>
                <a:cubicBezTo>
                  <a:pt x="4761" y="921152"/>
                  <a:pt x="5867" y="925699"/>
                  <a:pt x="7135" y="930177"/>
                </a:cubicBezTo>
                <a:cubicBezTo>
                  <a:pt x="7980" y="933162"/>
                  <a:pt x="8898" y="936115"/>
                  <a:pt x="9884" y="939038"/>
                </a:cubicBezTo>
                <a:cubicBezTo>
                  <a:pt x="12349" y="946344"/>
                  <a:pt x="15249" y="953446"/>
                  <a:pt x="18553" y="960317"/>
                </a:cubicBezTo>
                <a:cubicBezTo>
                  <a:pt x="19874" y="963064"/>
                  <a:pt x="21260" y="965774"/>
                  <a:pt x="22708" y="968445"/>
                </a:cubicBezTo>
                <a:cubicBezTo>
                  <a:pt x="24881" y="972452"/>
                  <a:pt x="27197" y="976369"/>
                  <a:pt x="29645" y="980193"/>
                </a:cubicBezTo>
                <a:cubicBezTo>
                  <a:pt x="31277" y="982743"/>
                  <a:pt x="32970" y="985251"/>
                  <a:pt x="34720" y="987714"/>
                </a:cubicBezTo>
                <a:cubicBezTo>
                  <a:pt x="35595" y="988946"/>
                  <a:pt x="36483" y="990168"/>
                  <a:pt x="37387" y="991377"/>
                </a:cubicBezTo>
                <a:cubicBezTo>
                  <a:pt x="39194" y="993796"/>
                  <a:pt x="41058" y="996169"/>
                  <a:pt x="42977" y="998496"/>
                </a:cubicBezTo>
                <a:cubicBezTo>
                  <a:pt x="44896" y="1000822"/>
                  <a:pt x="46871" y="1003103"/>
                  <a:pt x="48898" y="1005333"/>
                </a:cubicBezTo>
                <a:cubicBezTo>
                  <a:pt x="49911" y="1006449"/>
                  <a:pt x="50937" y="1007550"/>
                  <a:pt x="51977" y="1008640"/>
                </a:cubicBezTo>
                <a:cubicBezTo>
                  <a:pt x="54055" y="1010820"/>
                  <a:pt x="56186" y="1012951"/>
                  <a:pt x="58366" y="1015029"/>
                </a:cubicBezTo>
                <a:lnTo>
                  <a:pt x="58369" y="1015029"/>
                </a:lnTo>
                <a:cubicBezTo>
                  <a:pt x="60550" y="1017109"/>
                  <a:pt x="62779" y="1019138"/>
                  <a:pt x="65058" y="1021111"/>
                </a:cubicBezTo>
                <a:cubicBezTo>
                  <a:pt x="66198" y="1022098"/>
                  <a:pt x="67347" y="1023069"/>
                  <a:pt x="68510" y="1024029"/>
                </a:cubicBezTo>
                <a:cubicBezTo>
                  <a:pt x="69674" y="1024989"/>
                  <a:pt x="70851" y="1025934"/>
                  <a:pt x="72038" y="1026867"/>
                </a:cubicBezTo>
                <a:cubicBezTo>
                  <a:pt x="74411" y="1028730"/>
                  <a:pt x="76829" y="1030539"/>
                  <a:pt x="79292" y="1032289"/>
                </a:cubicBezTo>
                <a:cubicBezTo>
                  <a:pt x="82987" y="1034914"/>
                  <a:pt x="86781" y="1037408"/>
                  <a:pt x="90667" y="1039767"/>
                </a:cubicBezTo>
                <a:cubicBezTo>
                  <a:pt x="91963" y="1040553"/>
                  <a:pt x="93269" y="1041325"/>
                  <a:pt x="94584" y="1042080"/>
                </a:cubicBezTo>
                <a:cubicBezTo>
                  <a:pt x="97217" y="1043592"/>
                  <a:pt x="99889" y="1045040"/>
                  <a:pt x="102600" y="1046426"/>
                </a:cubicBezTo>
                <a:cubicBezTo>
                  <a:pt x="106666" y="1048505"/>
                  <a:pt x="110817" y="1050442"/>
                  <a:pt x="115048" y="1052228"/>
                </a:cubicBezTo>
                <a:cubicBezTo>
                  <a:pt x="117868" y="1053418"/>
                  <a:pt x="120724" y="1054542"/>
                  <a:pt x="123612" y="1055598"/>
                </a:cubicBezTo>
                <a:lnTo>
                  <a:pt x="123616" y="1055598"/>
                </a:lnTo>
                <a:cubicBezTo>
                  <a:pt x="125059" y="1056125"/>
                  <a:pt x="126512" y="1056636"/>
                  <a:pt x="127972" y="1057129"/>
                </a:cubicBezTo>
                <a:cubicBezTo>
                  <a:pt x="130895" y="1058115"/>
                  <a:pt x="133850" y="1059032"/>
                  <a:pt x="136836" y="1059878"/>
                </a:cubicBezTo>
                <a:cubicBezTo>
                  <a:pt x="138328" y="1060300"/>
                  <a:pt x="139826" y="1060705"/>
                  <a:pt x="141334" y="1061092"/>
                </a:cubicBezTo>
                <a:lnTo>
                  <a:pt x="141337" y="1061092"/>
                </a:lnTo>
                <a:cubicBezTo>
                  <a:pt x="142844" y="1061479"/>
                  <a:pt x="144357" y="1061848"/>
                  <a:pt x="145878" y="1062198"/>
                </a:cubicBezTo>
                <a:lnTo>
                  <a:pt x="145882" y="1062198"/>
                </a:lnTo>
                <a:cubicBezTo>
                  <a:pt x="147403" y="1062548"/>
                  <a:pt x="148930" y="1062878"/>
                  <a:pt x="150465" y="1063191"/>
                </a:cubicBezTo>
                <a:cubicBezTo>
                  <a:pt x="152003" y="1063505"/>
                  <a:pt x="153545" y="1063799"/>
                  <a:pt x="155095" y="1064075"/>
                </a:cubicBezTo>
                <a:cubicBezTo>
                  <a:pt x="156645" y="1064351"/>
                  <a:pt x="158199" y="1064610"/>
                  <a:pt x="159762" y="1064848"/>
                </a:cubicBezTo>
                <a:lnTo>
                  <a:pt x="159765" y="1064848"/>
                </a:lnTo>
                <a:cubicBezTo>
                  <a:pt x="162890" y="1065324"/>
                  <a:pt x="166039" y="1065721"/>
                  <a:pt x="169213" y="1066042"/>
                </a:cubicBezTo>
                <a:cubicBezTo>
                  <a:pt x="173974" y="1066524"/>
                  <a:pt x="178788" y="1066830"/>
                  <a:pt x="183648" y="1066953"/>
                </a:cubicBezTo>
                <a:cubicBezTo>
                  <a:pt x="185270" y="1066994"/>
                  <a:pt x="186894" y="1067016"/>
                  <a:pt x="188526" y="1067016"/>
                </a:cubicBezTo>
                <a:cubicBezTo>
                  <a:pt x="190988" y="1067016"/>
                  <a:pt x="193443" y="1066945"/>
                  <a:pt x="195895" y="1066844"/>
                </a:cubicBezTo>
                <a:cubicBezTo>
                  <a:pt x="196145" y="1066827"/>
                  <a:pt x="196397" y="1066825"/>
                  <a:pt x="196647" y="1066814"/>
                </a:cubicBezTo>
                <a:cubicBezTo>
                  <a:pt x="199002" y="1066707"/>
                  <a:pt x="201350" y="1066552"/>
                  <a:pt x="203693" y="1066358"/>
                </a:cubicBezTo>
                <a:cubicBezTo>
                  <a:pt x="203995" y="1066333"/>
                  <a:pt x="204298" y="1066313"/>
                  <a:pt x="204601" y="1066286"/>
                </a:cubicBezTo>
                <a:cubicBezTo>
                  <a:pt x="206864" y="1066087"/>
                  <a:pt x="209120" y="1065842"/>
                  <a:pt x="211369" y="1065563"/>
                </a:cubicBezTo>
                <a:cubicBezTo>
                  <a:pt x="211783" y="1065512"/>
                  <a:pt x="212196" y="1065462"/>
                  <a:pt x="212610" y="1065408"/>
                </a:cubicBezTo>
                <a:cubicBezTo>
                  <a:pt x="214843" y="1065115"/>
                  <a:pt x="217069" y="1064782"/>
                  <a:pt x="219286" y="1064411"/>
                </a:cubicBezTo>
                <a:cubicBezTo>
                  <a:pt x="219635" y="1064352"/>
                  <a:pt x="219983" y="1064293"/>
                  <a:pt x="220332" y="1064233"/>
                </a:cubicBezTo>
                <a:cubicBezTo>
                  <a:pt x="222577" y="1063844"/>
                  <a:pt x="224815" y="1063418"/>
                  <a:pt x="227041" y="1062949"/>
                </a:cubicBezTo>
                <a:cubicBezTo>
                  <a:pt x="227374" y="1062878"/>
                  <a:pt x="227705" y="1062804"/>
                  <a:pt x="228038" y="1062731"/>
                </a:cubicBezTo>
                <a:cubicBezTo>
                  <a:pt x="230275" y="1062247"/>
                  <a:pt x="232501" y="1061729"/>
                  <a:pt x="234717" y="1061164"/>
                </a:cubicBezTo>
                <a:cubicBezTo>
                  <a:pt x="235027" y="1061084"/>
                  <a:pt x="235335" y="1061000"/>
                  <a:pt x="235645" y="1060919"/>
                </a:cubicBezTo>
                <a:cubicBezTo>
                  <a:pt x="237924" y="1060326"/>
                  <a:pt x="240196" y="1059696"/>
                  <a:pt x="242450" y="1059019"/>
                </a:cubicBezTo>
                <a:cubicBezTo>
                  <a:pt x="242578" y="1058980"/>
                  <a:pt x="242707" y="1058939"/>
                  <a:pt x="242836" y="1058900"/>
                </a:cubicBezTo>
                <a:cubicBezTo>
                  <a:pt x="245226" y="1058176"/>
                  <a:pt x="247602" y="1057409"/>
                  <a:pt x="249961" y="1056590"/>
                </a:cubicBezTo>
                <a:cubicBezTo>
                  <a:pt x="252264" y="1055791"/>
                  <a:pt x="254548" y="1054937"/>
                  <a:pt x="256818" y="1054049"/>
                </a:cubicBezTo>
                <a:cubicBezTo>
                  <a:pt x="256904" y="1054016"/>
                  <a:pt x="256990" y="1053983"/>
                  <a:pt x="257076" y="1053950"/>
                </a:cubicBezTo>
                <a:lnTo>
                  <a:pt x="257231" y="1053950"/>
                </a:lnTo>
                <a:cubicBezTo>
                  <a:pt x="276793" y="1046245"/>
                  <a:pt x="295083" y="1035272"/>
                  <a:pt x="311260" y="1021325"/>
                </a:cubicBezTo>
                <a:cubicBezTo>
                  <a:pt x="319230" y="1014457"/>
                  <a:pt x="331257" y="1015351"/>
                  <a:pt x="338125" y="1023320"/>
                </a:cubicBezTo>
                <a:cubicBezTo>
                  <a:pt x="341103" y="1026776"/>
                  <a:pt x="342742" y="1031187"/>
                  <a:pt x="342743" y="1035749"/>
                </a:cubicBezTo>
                <a:lnTo>
                  <a:pt x="342743" y="1053950"/>
                </a:lnTo>
                <a:lnTo>
                  <a:pt x="342743" y="1357804"/>
                </a:lnTo>
                <a:cubicBezTo>
                  <a:pt x="342743" y="1525221"/>
                  <a:pt x="477523" y="1660002"/>
                  <a:pt x="644941" y="1660002"/>
                </a:cubicBezTo>
                <a:lnTo>
                  <a:pt x="929846" y="1660002"/>
                </a:lnTo>
                <a:cubicBezTo>
                  <a:pt x="908973" y="1625143"/>
                  <a:pt x="897674" y="1585116"/>
                  <a:pt x="897597" y="1544013"/>
                </a:cubicBezTo>
                <a:cubicBezTo>
                  <a:pt x="897597" y="1543991"/>
                  <a:pt x="897597" y="1543969"/>
                  <a:pt x="897597" y="1543947"/>
                </a:cubicBezTo>
                <a:cubicBezTo>
                  <a:pt x="897597" y="1419006"/>
                  <a:pt x="999291" y="1317315"/>
                  <a:pt x="1124232" y="1317315"/>
                </a:cubicBezTo>
                <a:cubicBezTo>
                  <a:pt x="1249173" y="1317315"/>
                  <a:pt x="1350864" y="1419006"/>
                  <a:pt x="1350864" y="1543947"/>
                </a:cubicBezTo>
                <a:cubicBezTo>
                  <a:pt x="1350837" y="1585063"/>
                  <a:pt x="1339569" y="1625111"/>
                  <a:pt x="1318724" y="1660002"/>
                </a:cubicBezTo>
                <a:lnTo>
                  <a:pt x="1700554" y="1660002"/>
                </a:lnTo>
                <a:cubicBezTo>
                  <a:pt x="1867971" y="1660002"/>
                  <a:pt x="2002751" y="1525221"/>
                  <a:pt x="2002751" y="1357804"/>
                </a:cubicBezTo>
                <a:lnTo>
                  <a:pt x="2002751" y="302198"/>
                </a:lnTo>
                <a:cubicBezTo>
                  <a:pt x="2002751" y="134780"/>
                  <a:pt x="1867971" y="0"/>
                  <a:pt x="1700554" y="0"/>
                </a:cubicBezTo>
                <a:lnTo>
                  <a:pt x="644941" y="3"/>
                </a:lnTo>
                <a:close/>
              </a:path>
            </a:pathLst>
          </a:custGeom>
          <a:solidFill>
            <a:srgbClr val="ffbe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86" name="TextBox 11"/>
          <p:cNvSpPr/>
          <p:nvPr/>
        </p:nvSpPr>
        <p:spPr>
          <a:xfrm>
            <a:off x="3855960" y="770040"/>
            <a:ext cx="423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Roboto Black"/>
                <a:ea typeface="Roboto Black"/>
              </a:rPr>
              <a:t>Data Infographic</a:t>
            </a:r>
            <a:endParaRPr b="0" lang="en-US" sz="3200" spc="-1" strike="noStrike">
              <a:solidFill>
                <a:srgbClr val="000000"/>
              </a:solidFill>
              <a:latin typeface="Calibri"/>
            </a:endParaRPr>
          </a:p>
        </p:txBody>
      </p:sp>
      <p:sp>
        <p:nvSpPr>
          <p:cNvPr id="2187" name="TextBox 14"/>
          <p:cNvSpPr/>
          <p:nvPr/>
        </p:nvSpPr>
        <p:spPr>
          <a:xfrm>
            <a:off x="1052640" y="2519280"/>
            <a:ext cx="23079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88" name="TextBox 15"/>
          <p:cNvSpPr/>
          <p:nvPr/>
        </p:nvSpPr>
        <p:spPr>
          <a:xfrm>
            <a:off x="1052640" y="2135160"/>
            <a:ext cx="23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89" name="Straight Connector 16"/>
          <p:cNvSpPr/>
          <p:nvPr/>
        </p:nvSpPr>
        <p:spPr>
          <a:xfrm>
            <a:off x="1131840" y="1981080"/>
            <a:ext cx="66672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0" name="TextBox 21"/>
          <p:cNvSpPr/>
          <p:nvPr/>
        </p:nvSpPr>
        <p:spPr>
          <a:xfrm>
            <a:off x="1052640" y="4883040"/>
            <a:ext cx="23079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91" name="TextBox 22"/>
          <p:cNvSpPr/>
          <p:nvPr/>
        </p:nvSpPr>
        <p:spPr>
          <a:xfrm>
            <a:off x="1052640" y="4498920"/>
            <a:ext cx="23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92" name="Straight Connector 23"/>
          <p:cNvSpPr/>
          <p:nvPr/>
        </p:nvSpPr>
        <p:spPr>
          <a:xfrm>
            <a:off x="1131840" y="4344840"/>
            <a:ext cx="66672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3" name="TextBox 30"/>
          <p:cNvSpPr/>
          <p:nvPr/>
        </p:nvSpPr>
        <p:spPr>
          <a:xfrm>
            <a:off x="8918640" y="2519280"/>
            <a:ext cx="23083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94" name="TextBox 31"/>
          <p:cNvSpPr/>
          <p:nvPr/>
        </p:nvSpPr>
        <p:spPr>
          <a:xfrm>
            <a:off x="8918640" y="2135160"/>
            <a:ext cx="23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95" name="Straight Connector 32"/>
          <p:cNvSpPr/>
          <p:nvPr/>
        </p:nvSpPr>
        <p:spPr>
          <a:xfrm>
            <a:off x="8997840" y="1981080"/>
            <a:ext cx="66672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6" name="TextBox 33"/>
          <p:cNvSpPr/>
          <p:nvPr/>
        </p:nvSpPr>
        <p:spPr>
          <a:xfrm>
            <a:off x="8918640" y="4883040"/>
            <a:ext cx="23083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197" name="TextBox 34"/>
          <p:cNvSpPr/>
          <p:nvPr/>
        </p:nvSpPr>
        <p:spPr>
          <a:xfrm>
            <a:off x="8918640" y="4498920"/>
            <a:ext cx="23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198" name="Straight Connector 35"/>
          <p:cNvSpPr/>
          <p:nvPr/>
        </p:nvSpPr>
        <p:spPr>
          <a:xfrm>
            <a:off x="8997840" y="4344840"/>
            <a:ext cx="66672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9" name="TextBox 40"/>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pic>
        <p:nvPicPr>
          <p:cNvPr id="2200" name="Graphic 24" descr=""/>
          <p:cNvPicPr/>
          <p:nvPr/>
        </p:nvPicPr>
        <p:blipFill>
          <a:blip r:embed="rId1"/>
          <a:stretch/>
        </p:blipFill>
        <p:spPr>
          <a:xfrm>
            <a:off x="363600" y="369720"/>
            <a:ext cx="366480" cy="366840"/>
          </a:xfrm>
          <a:prstGeom prst="rect">
            <a:avLst/>
          </a:prstGeom>
          <a:ln w="0">
            <a:noFill/>
          </a:ln>
        </p:spPr>
      </p:pic>
      <p:sp>
        <p:nvSpPr>
          <p:cNvPr id="2201" name="Freeform: Shape 12"/>
          <p:cNvSpPr/>
          <p:nvPr/>
        </p:nvSpPr>
        <p:spPr>
          <a:xfrm>
            <a:off x="4386240" y="3780000"/>
            <a:ext cx="642960" cy="642600"/>
          </a:xfrm>
          <a:custGeom>
            <a:avLst/>
            <a:gdLst/>
            <a:ahLst/>
            <a:rect l="l" t="t" r="r" b="b"/>
            <a:pathLst>
              <a:path w="711946" h="711943">
                <a:moveTo>
                  <a:pt x="116463" y="1"/>
                </a:moveTo>
                <a:cubicBezTo>
                  <a:pt x="111756" y="49"/>
                  <a:pt x="107255" y="1939"/>
                  <a:pt x="103924" y="5266"/>
                </a:cubicBezTo>
                <a:lnTo>
                  <a:pt x="5270" y="103920"/>
                </a:lnTo>
                <a:cubicBezTo>
                  <a:pt x="1791" y="107401"/>
                  <a:pt x="-111" y="112153"/>
                  <a:pt x="5" y="117073"/>
                </a:cubicBezTo>
                <a:cubicBezTo>
                  <a:pt x="5" y="117073"/>
                  <a:pt x="1377" y="160819"/>
                  <a:pt x="29194" y="228545"/>
                </a:cubicBezTo>
                <a:cubicBezTo>
                  <a:pt x="57011" y="296271"/>
                  <a:pt x="111316" y="389825"/>
                  <a:pt x="216717" y="495227"/>
                </a:cubicBezTo>
                <a:cubicBezTo>
                  <a:pt x="322119" y="600628"/>
                  <a:pt x="415673" y="654933"/>
                  <a:pt x="483399" y="682750"/>
                </a:cubicBezTo>
                <a:cubicBezTo>
                  <a:pt x="551125" y="710567"/>
                  <a:pt x="594871" y="711939"/>
                  <a:pt x="594871" y="711939"/>
                </a:cubicBezTo>
                <a:cubicBezTo>
                  <a:pt x="599791" y="712055"/>
                  <a:pt x="604543" y="710153"/>
                  <a:pt x="608024" y="706674"/>
                </a:cubicBezTo>
                <a:lnTo>
                  <a:pt x="706678" y="608020"/>
                </a:lnTo>
                <a:cubicBezTo>
                  <a:pt x="713703" y="600991"/>
                  <a:pt x="713703" y="589599"/>
                  <a:pt x="706678" y="582570"/>
                </a:cubicBezTo>
                <a:lnTo>
                  <a:pt x="576509" y="452383"/>
                </a:lnTo>
                <a:cubicBezTo>
                  <a:pt x="569480" y="445358"/>
                  <a:pt x="558089" y="445358"/>
                  <a:pt x="551060" y="452383"/>
                </a:cubicBezTo>
                <a:lnTo>
                  <a:pt x="483138" y="520323"/>
                </a:lnTo>
                <a:cubicBezTo>
                  <a:pt x="481498" y="520294"/>
                  <a:pt x="481926" y="520517"/>
                  <a:pt x="477967" y="520044"/>
                </a:cubicBezTo>
                <a:cubicBezTo>
                  <a:pt x="469863" y="519074"/>
                  <a:pt x="457355" y="516627"/>
                  <a:pt x="440946" y="510519"/>
                </a:cubicBezTo>
                <a:cubicBezTo>
                  <a:pt x="408126" y="498302"/>
                  <a:pt x="359600" y="471422"/>
                  <a:pt x="300061" y="411883"/>
                </a:cubicBezTo>
                <a:cubicBezTo>
                  <a:pt x="240522" y="352344"/>
                  <a:pt x="213642" y="303818"/>
                  <a:pt x="201425" y="270998"/>
                </a:cubicBezTo>
                <a:cubicBezTo>
                  <a:pt x="195317" y="254589"/>
                  <a:pt x="192870" y="242081"/>
                  <a:pt x="191900" y="233977"/>
                </a:cubicBezTo>
                <a:cubicBezTo>
                  <a:pt x="191426" y="230018"/>
                  <a:pt x="191652" y="230446"/>
                  <a:pt x="191621" y="228806"/>
                </a:cubicBezTo>
                <a:lnTo>
                  <a:pt x="259561" y="160884"/>
                </a:lnTo>
                <a:cubicBezTo>
                  <a:pt x="266586" y="153855"/>
                  <a:pt x="266586" y="142464"/>
                  <a:pt x="259561" y="135435"/>
                </a:cubicBezTo>
                <a:lnTo>
                  <a:pt x="129374" y="5266"/>
                </a:lnTo>
                <a:cubicBezTo>
                  <a:pt x="125952" y="1848"/>
                  <a:pt x="121299" y="-50"/>
                  <a:pt x="116463" y="1"/>
                </a:cubicBezTo>
                <a:close/>
                <a:moveTo>
                  <a:pt x="116649" y="43440"/>
                </a:moveTo>
                <a:lnTo>
                  <a:pt x="221387" y="148159"/>
                </a:lnTo>
                <a:lnTo>
                  <a:pt x="160683" y="208844"/>
                </a:lnTo>
                <a:cubicBezTo>
                  <a:pt x="157750" y="211772"/>
                  <a:pt x="155916" y="215623"/>
                  <a:pt x="155493" y="219746"/>
                </a:cubicBezTo>
                <a:cubicBezTo>
                  <a:pt x="155493" y="219746"/>
                  <a:pt x="154861" y="227379"/>
                  <a:pt x="156163" y="238256"/>
                </a:cubicBezTo>
                <a:cubicBezTo>
                  <a:pt x="157465" y="249133"/>
                  <a:pt x="160595" y="264478"/>
                  <a:pt x="167697" y="283556"/>
                </a:cubicBezTo>
                <a:cubicBezTo>
                  <a:pt x="181900" y="321712"/>
                  <a:pt x="211977" y="374699"/>
                  <a:pt x="274611" y="437333"/>
                </a:cubicBezTo>
                <a:cubicBezTo>
                  <a:pt x="337245" y="499966"/>
                  <a:pt x="390232" y="530043"/>
                  <a:pt x="428388" y="544247"/>
                </a:cubicBezTo>
                <a:cubicBezTo>
                  <a:pt x="447466" y="551349"/>
                  <a:pt x="462811" y="554479"/>
                  <a:pt x="473687" y="555781"/>
                </a:cubicBezTo>
                <a:cubicBezTo>
                  <a:pt x="484564" y="557083"/>
                  <a:pt x="492198" y="556451"/>
                  <a:pt x="492198" y="556451"/>
                </a:cubicBezTo>
                <a:cubicBezTo>
                  <a:pt x="496321" y="556027"/>
                  <a:pt x="500172" y="554194"/>
                  <a:pt x="503100" y="551260"/>
                </a:cubicBezTo>
                <a:lnTo>
                  <a:pt x="563784" y="490557"/>
                </a:lnTo>
                <a:lnTo>
                  <a:pt x="668503" y="595295"/>
                </a:lnTo>
                <a:lnTo>
                  <a:pt x="588787" y="675011"/>
                </a:lnTo>
                <a:cubicBezTo>
                  <a:pt x="580614" y="674493"/>
                  <a:pt x="551779" y="671919"/>
                  <a:pt x="497072" y="649450"/>
                </a:cubicBezTo>
                <a:cubicBezTo>
                  <a:pt x="433781" y="623455"/>
                  <a:pt x="344413" y="572024"/>
                  <a:pt x="242167" y="469777"/>
                </a:cubicBezTo>
                <a:cubicBezTo>
                  <a:pt x="139920" y="367530"/>
                  <a:pt x="88489" y="278162"/>
                  <a:pt x="62494" y="214871"/>
                </a:cubicBezTo>
                <a:cubicBezTo>
                  <a:pt x="40024" y="160165"/>
                  <a:pt x="37451" y="131329"/>
                  <a:pt x="36933" y="123156"/>
                </a:cubicBezTo>
                <a:lnTo>
                  <a:pt x="116649" y="4344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2" name="Freeform: Shape 13"/>
          <p:cNvSpPr/>
          <p:nvPr/>
        </p:nvSpPr>
        <p:spPr>
          <a:xfrm>
            <a:off x="5667480" y="2525760"/>
            <a:ext cx="561960" cy="590400"/>
          </a:xfrm>
          <a:custGeom>
            <a:avLst/>
            <a:gdLst/>
            <a:ahLst/>
            <a:rect l="l" t="t" r="r" b="b"/>
            <a:pathLst>
              <a:path w="623310" h="653914">
                <a:moveTo>
                  <a:pt x="311628" y="1"/>
                </a:moveTo>
                <a:cubicBezTo>
                  <a:pt x="171197" y="1"/>
                  <a:pt x="56945" y="114253"/>
                  <a:pt x="56945" y="254683"/>
                </a:cubicBezTo>
                <a:cubicBezTo>
                  <a:pt x="56945" y="389056"/>
                  <a:pt x="161565" y="499366"/>
                  <a:pt x="293619" y="508640"/>
                </a:cubicBezTo>
                <a:lnTo>
                  <a:pt x="293619" y="551893"/>
                </a:lnTo>
                <a:lnTo>
                  <a:pt x="164809" y="551893"/>
                </a:lnTo>
                <a:cubicBezTo>
                  <a:pt x="154868" y="551889"/>
                  <a:pt x="146806" y="559943"/>
                  <a:pt x="146800" y="569883"/>
                </a:cubicBezTo>
                <a:cubicBezTo>
                  <a:pt x="146796" y="579824"/>
                  <a:pt x="154851" y="587886"/>
                  <a:pt x="164792" y="587891"/>
                </a:cubicBezTo>
                <a:cubicBezTo>
                  <a:pt x="164798" y="587891"/>
                  <a:pt x="164803" y="587891"/>
                  <a:pt x="164809" y="587891"/>
                </a:cubicBezTo>
                <a:lnTo>
                  <a:pt x="293619" y="587891"/>
                </a:lnTo>
                <a:lnTo>
                  <a:pt x="293619" y="617917"/>
                </a:lnTo>
                <a:lnTo>
                  <a:pt x="17990" y="617917"/>
                </a:lnTo>
                <a:cubicBezTo>
                  <a:pt x="8057" y="617923"/>
                  <a:pt x="6" y="625974"/>
                  <a:pt x="0" y="635907"/>
                </a:cubicBezTo>
                <a:cubicBezTo>
                  <a:pt x="-5" y="645847"/>
                  <a:pt x="8049" y="653909"/>
                  <a:pt x="17990" y="653915"/>
                </a:cubicBezTo>
                <a:lnTo>
                  <a:pt x="605321" y="653915"/>
                </a:lnTo>
                <a:cubicBezTo>
                  <a:pt x="615261" y="653909"/>
                  <a:pt x="623315" y="645847"/>
                  <a:pt x="623311" y="635907"/>
                </a:cubicBezTo>
                <a:cubicBezTo>
                  <a:pt x="623305" y="625974"/>
                  <a:pt x="615254" y="617923"/>
                  <a:pt x="605321" y="617917"/>
                </a:cubicBezTo>
                <a:lnTo>
                  <a:pt x="329617" y="617917"/>
                </a:lnTo>
                <a:lnTo>
                  <a:pt x="329617" y="587891"/>
                </a:lnTo>
                <a:lnTo>
                  <a:pt x="458428" y="587891"/>
                </a:lnTo>
                <a:cubicBezTo>
                  <a:pt x="468369" y="587896"/>
                  <a:pt x="476432" y="579840"/>
                  <a:pt x="476436" y="569899"/>
                </a:cubicBezTo>
                <a:cubicBezTo>
                  <a:pt x="476436" y="569894"/>
                  <a:pt x="476436" y="569888"/>
                  <a:pt x="476436" y="569883"/>
                </a:cubicBezTo>
                <a:cubicBezTo>
                  <a:pt x="476430" y="559942"/>
                  <a:pt x="468368" y="551889"/>
                  <a:pt x="458428" y="551893"/>
                </a:cubicBezTo>
                <a:lnTo>
                  <a:pt x="329617" y="551893"/>
                </a:lnTo>
                <a:lnTo>
                  <a:pt x="329617" y="508640"/>
                </a:lnTo>
                <a:cubicBezTo>
                  <a:pt x="459220" y="499496"/>
                  <a:pt x="561321" y="392536"/>
                  <a:pt x="564952" y="261418"/>
                </a:cubicBezTo>
                <a:cubicBezTo>
                  <a:pt x="564952" y="261399"/>
                  <a:pt x="564951" y="261389"/>
                  <a:pt x="564952" y="261361"/>
                </a:cubicBezTo>
                <a:cubicBezTo>
                  <a:pt x="565819" y="259240"/>
                  <a:pt x="566274" y="256973"/>
                  <a:pt x="566291" y="254682"/>
                </a:cubicBezTo>
                <a:cubicBezTo>
                  <a:pt x="566269" y="252336"/>
                  <a:pt x="565789" y="250017"/>
                  <a:pt x="564877" y="247855"/>
                </a:cubicBezTo>
                <a:cubicBezTo>
                  <a:pt x="561033" y="110758"/>
                  <a:pt x="449637" y="0"/>
                  <a:pt x="311628" y="0"/>
                </a:cubicBezTo>
                <a:lnTo>
                  <a:pt x="311628" y="1"/>
                </a:lnTo>
                <a:close/>
                <a:moveTo>
                  <a:pt x="311628" y="35999"/>
                </a:moveTo>
                <a:cubicBezTo>
                  <a:pt x="432602" y="35999"/>
                  <a:pt x="530293" y="133709"/>
                  <a:pt x="530293" y="254683"/>
                </a:cubicBezTo>
                <a:cubicBezTo>
                  <a:pt x="530293" y="375658"/>
                  <a:pt x="432602" y="473349"/>
                  <a:pt x="311628" y="473349"/>
                </a:cubicBezTo>
                <a:cubicBezTo>
                  <a:pt x="190653" y="473349"/>
                  <a:pt x="92943" y="375658"/>
                  <a:pt x="92943" y="254683"/>
                </a:cubicBezTo>
                <a:cubicBezTo>
                  <a:pt x="92943" y="133709"/>
                  <a:pt x="190653" y="35999"/>
                  <a:pt x="311628" y="35999"/>
                </a:cubicBezTo>
                <a:close/>
                <a:moveTo>
                  <a:pt x="311628" y="83178"/>
                </a:moveTo>
                <a:cubicBezTo>
                  <a:pt x="217123" y="83178"/>
                  <a:pt x="140122" y="160179"/>
                  <a:pt x="140122" y="254683"/>
                </a:cubicBezTo>
                <a:cubicBezTo>
                  <a:pt x="140122" y="349188"/>
                  <a:pt x="217123" y="426171"/>
                  <a:pt x="311628" y="426171"/>
                </a:cubicBezTo>
                <a:cubicBezTo>
                  <a:pt x="403641" y="426170"/>
                  <a:pt x="477789" y="352790"/>
                  <a:pt x="481701" y="261716"/>
                </a:cubicBezTo>
                <a:cubicBezTo>
                  <a:pt x="482639" y="259490"/>
                  <a:pt x="483120" y="257099"/>
                  <a:pt x="483115" y="254683"/>
                </a:cubicBezTo>
                <a:cubicBezTo>
                  <a:pt x="483103" y="252312"/>
                  <a:pt x="482622" y="249967"/>
                  <a:pt x="481701" y="247782"/>
                </a:cubicBezTo>
                <a:cubicBezTo>
                  <a:pt x="477862" y="156641"/>
                  <a:pt x="403688" y="83178"/>
                  <a:pt x="311628" y="83178"/>
                </a:cubicBezTo>
                <a:close/>
                <a:moveTo>
                  <a:pt x="311628" y="119175"/>
                </a:moveTo>
                <a:cubicBezTo>
                  <a:pt x="386676" y="119176"/>
                  <a:pt x="447117" y="179635"/>
                  <a:pt x="447117" y="254683"/>
                </a:cubicBezTo>
                <a:cubicBezTo>
                  <a:pt x="447117" y="329732"/>
                  <a:pt x="386676" y="390173"/>
                  <a:pt x="311628" y="390173"/>
                </a:cubicBezTo>
                <a:cubicBezTo>
                  <a:pt x="236579" y="390173"/>
                  <a:pt x="176119" y="329732"/>
                  <a:pt x="176119" y="254683"/>
                </a:cubicBezTo>
                <a:cubicBezTo>
                  <a:pt x="176119" y="220270"/>
                  <a:pt x="188942" y="189015"/>
                  <a:pt x="209941" y="165163"/>
                </a:cubicBezTo>
                <a:cubicBezTo>
                  <a:pt x="202307" y="175245"/>
                  <a:pt x="197718" y="187727"/>
                  <a:pt x="197718" y="201236"/>
                </a:cubicBezTo>
                <a:cubicBezTo>
                  <a:pt x="197718" y="234232"/>
                  <a:pt x="224829" y="261362"/>
                  <a:pt x="257826" y="261362"/>
                </a:cubicBezTo>
                <a:cubicBezTo>
                  <a:pt x="262280" y="261362"/>
                  <a:pt x="266457" y="260656"/>
                  <a:pt x="270495" y="259651"/>
                </a:cubicBezTo>
                <a:cubicBezTo>
                  <a:pt x="265753" y="269918"/>
                  <a:pt x="263035" y="281295"/>
                  <a:pt x="263035" y="293286"/>
                </a:cubicBezTo>
                <a:cubicBezTo>
                  <a:pt x="263035" y="337764"/>
                  <a:pt x="299482" y="374211"/>
                  <a:pt x="343960" y="374211"/>
                </a:cubicBezTo>
                <a:cubicBezTo>
                  <a:pt x="383490" y="374211"/>
                  <a:pt x="412726" y="343638"/>
                  <a:pt x="419621" y="306011"/>
                </a:cubicBezTo>
                <a:cubicBezTo>
                  <a:pt x="422993" y="302634"/>
                  <a:pt x="424887" y="298058"/>
                  <a:pt x="424886" y="293286"/>
                </a:cubicBezTo>
                <a:cubicBezTo>
                  <a:pt x="424852" y="288559"/>
                  <a:pt x="422961" y="284035"/>
                  <a:pt x="419621" y="280691"/>
                </a:cubicBezTo>
                <a:cubicBezTo>
                  <a:pt x="412774" y="243005"/>
                  <a:pt x="383531" y="212342"/>
                  <a:pt x="343960" y="212342"/>
                </a:cubicBezTo>
                <a:cubicBezTo>
                  <a:pt x="332175" y="212342"/>
                  <a:pt x="320994" y="214971"/>
                  <a:pt x="310865" y="219560"/>
                </a:cubicBezTo>
                <a:cubicBezTo>
                  <a:pt x="311489" y="217701"/>
                  <a:pt x="312192" y="215878"/>
                  <a:pt x="312669" y="213960"/>
                </a:cubicBezTo>
                <a:cubicBezTo>
                  <a:pt x="316048" y="210587"/>
                  <a:pt x="317949" y="206010"/>
                  <a:pt x="317953" y="201236"/>
                </a:cubicBezTo>
                <a:cubicBezTo>
                  <a:pt x="317949" y="196461"/>
                  <a:pt x="316048" y="191884"/>
                  <a:pt x="312669" y="188511"/>
                </a:cubicBezTo>
                <a:cubicBezTo>
                  <a:pt x="306164" y="162354"/>
                  <a:pt x="285881" y="141128"/>
                  <a:pt x="257826" y="141128"/>
                </a:cubicBezTo>
                <a:cubicBezTo>
                  <a:pt x="244218" y="141128"/>
                  <a:pt x="231650" y="145782"/>
                  <a:pt x="221531" y="153517"/>
                </a:cubicBezTo>
                <a:cubicBezTo>
                  <a:pt x="245454" y="132212"/>
                  <a:pt x="276934" y="119175"/>
                  <a:pt x="311628" y="119175"/>
                </a:cubicBezTo>
                <a:close/>
                <a:moveTo>
                  <a:pt x="257826" y="177125"/>
                </a:moveTo>
                <a:cubicBezTo>
                  <a:pt x="271367" y="177125"/>
                  <a:pt x="281955" y="187695"/>
                  <a:pt x="281955" y="201236"/>
                </a:cubicBezTo>
                <a:cubicBezTo>
                  <a:pt x="281955" y="214776"/>
                  <a:pt x="271367" y="225364"/>
                  <a:pt x="257826" y="225364"/>
                </a:cubicBezTo>
                <a:cubicBezTo>
                  <a:pt x="244285" y="225364"/>
                  <a:pt x="233716" y="214777"/>
                  <a:pt x="233716" y="201236"/>
                </a:cubicBezTo>
                <a:cubicBezTo>
                  <a:pt x="233716" y="187695"/>
                  <a:pt x="244285" y="177125"/>
                  <a:pt x="257826" y="177125"/>
                </a:cubicBezTo>
                <a:close/>
                <a:moveTo>
                  <a:pt x="343960" y="248340"/>
                </a:moveTo>
                <a:cubicBezTo>
                  <a:pt x="368983" y="248340"/>
                  <a:pt x="388888" y="268263"/>
                  <a:pt x="388888" y="293286"/>
                </a:cubicBezTo>
                <a:cubicBezTo>
                  <a:pt x="388888" y="318308"/>
                  <a:pt x="368983" y="338213"/>
                  <a:pt x="343960" y="338213"/>
                </a:cubicBezTo>
                <a:cubicBezTo>
                  <a:pt x="318938" y="338213"/>
                  <a:pt x="299033" y="318308"/>
                  <a:pt x="299033" y="293286"/>
                </a:cubicBezTo>
                <a:cubicBezTo>
                  <a:pt x="299033" y="268263"/>
                  <a:pt x="318938" y="248340"/>
                  <a:pt x="343960" y="24834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3" name="Freeform: Shape 17"/>
          <p:cNvSpPr/>
          <p:nvPr/>
        </p:nvSpPr>
        <p:spPr>
          <a:xfrm>
            <a:off x="7045200" y="3711600"/>
            <a:ext cx="441360" cy="708120"/>
          </a:xfrm>
          <a:custGeom>
            <a:avLst/>
            <a:gdLst/>
            <a:ahLst/>
            <a:rect l="l" t="t" r="r" b="b"/>
            <a:pathLst>
              <a:path w="488323" h="784901">
                <a:moveTo>
                  <a:pt x="18008" y="0"/>
                </a:moveTo>
                <a:cubicBezTo>
                  <a:pt x="8068" y="-4"/>
                  <a:pt x="7" y="8050"/>
                  <a:pt x="0" y="17990"/>
                </a:cubicBezTo>
                <a:lnTo>
                  <a:pt x="0" y="681744"/>
                </a:lnTo>
                <a:lnTo>
                  <a:pt x="0" y="766893"/>
                </a:lnTo>
                <a:cubicBezTo>
                  <a:pt x="-4" y="776835"/>
                  <a:pt x="8053" y="784897"/>
                  <a:pt x="17995" y="784901"/>
                </a:cubicBezTo>
                <a:cubicBezTo>
                  <a:pt x="18000" y="784901"/>
                  <a:pt x="18004" y="784901"/>
                  <a:pt x="18008" y="784901"/>
                </a:cubicBezTo>
                <a:lnTo>
                  <a:pt x="470315" y="784901"/>
                </a:lnTo>
                <a:cubicBezTo>
                  <a:pt x="480258" y="784905"/>
                  <a:pt x="488320" y="776848"/>
                  <a:pt x="488324" y="766906"/>
                </a:cubicBezTo>
                <a:cubicBezTo>
                  <a:pt x="488324" y="766901"/>
                  <a:pt x="488324" y="766897"/>
                  <a:pt x="488324" y="766893"/>
                </a:cubicBezTo>
                <a:lnTo>
                  <a:pt x="488324" y="681744"/>
                </a:lnTo>
                <a:lnTo>
                  <a:pt x="488324" y="17990"/>
                </a:lnTo>
                <a:cubicBezTo>
                  <a:pt x="488317" y="8050"/>
                  <a:pt x="480255" y="-4"/>
                  <a:pt x="470315" y="0"/>
                </a:cubicBezTo>
                <a:lnTo>
                  <a:pt x="18008" y="0"/>
                </a:lnTo>
                <a:close/>
                <a:moveTo>
                  <a:pt x="35998" y="35998"/>
                </a:moveTo>
                <a:lnTo>
                  <a:pt x="452326" y="35998"/>
                </a:lnTo>
                <a:lnTo>
                  <a:pt x="452326" y="663736"/>
                </a:lnTo>
                <a:lnTo>
                  <a:pt x="35998" y="663736"/>
                </a:lnTo>
                <a:lnTo>
                  <a:pt x="35998" y="35998"/>
                </a:lnTo>
                <a:close/>
                <a:moveTo>
                  <a:pt x="162074" y="76423"/>
                </a:moveTo>
                <a:cubicBezTo>
                  <a:pt x="152133" y="76419"/>
                  <a:pt x="144070" y="84474"/>
                  <a:pt x="144066" y="94415"/>
                </a:cubicBezTo>
                <a:cubicBezTo>
                  <a:pt x="144066" y="94420"/>
                  <a:pt x="144066" y="94426"/>
                  <a:pt x="144066" y="94431"/>
                </a:cubicBezTo>
                <a:cubicBezTo>
                  <a:pt x="144071" y="104372"/>
                  <a:pt x="152134" y="112426"/>
                  <a:pt x="162074" y="112421"/>
                </a:cubicBezTo>
                <a:lnTo>
                  <a:pt x="326250" y="112421"/>
                </a:lnTo>
                <a:cubicBezTo>
                  <a:pt x="336190" y="112426"/>
                  <a:pt x="344252" y="104372"/>
                  <a:pt x="344258" y="94431"/>
                </a:cubicBezTo>
                <a:cubicBezTo>
                  <a:pt x="344263" y="84490"/>
                  <a:pt x="336207" y="76428"/>
                  <a:pt x="326266" y="76423"/>
                </a:cubicBezTo>
                <a:cubicBezTo>
                  <a:pt x="326261" y="76423"/>
                  <a:pt x="326255" y="76423"/>
                  <a:pt x="326250" y="76423"/>
                </a:cubicBezTo>
                <a:lnTo>
                  <a:pt x="162074" y="76423"/>
                </a:lnTo>
                <a:close/>
                <a:moveTo>
                  <a:pt x="35998" y="699753"/>
                </a:moveTo>
                <a:lnTo>
                  <a:pt x="452326" y="699753"/>
                </a:lnTo>
                <a:lnTo>
                  <a:pt x="452326" y="748885"/>
                </a:lnTo>
                <a:lnTo>
                  <a:pt x="35998" y="748885"/>
                </a:lnTo>
                <a:lnTo>
                  <a:pt x="35998" y="6997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4" name="Freeform: Shape 18"/>
          <p:cNvSpPr/>
          <p:nvPr/>
        </p:nvSpPr>
        <p:spPr>
          <a:xfrm>
            <a:off x="5672160" y="4973760"/>
            <a:ext cx="641160" cy="666720"/>
          </a:xfrm>
          <a:custGeom>
            <a:avLst/>
            <a:gdLst/>
            <a:ahLst/>
            <a:rect l="l" t="t" r="r" b="b"/>
            <a:pathLst>
              <a:path w="711696" h="739061">
                <a:moveTo>
                  <a:pt x="356908" y="0"/>
                </a:moveTo>
                <a:cubicBezTo>
                  <a:pt x="249922" y="0"/>
                  <a:pt x="159934" y="38351"/>
                  <a:pt x="97389" y="103640"/>
                </a:cubicBezTo>
                <a:cubicBezTo>
                  <a:pt x="34844" y="168929"/>
                  <a:pt x="0" y="260614"/>
                  <a:pt x="0" y="365354"/>
                </a:cubicBezTo>
                <a:cubicBezTo>
                  <a:pt x="0" y="428304"/>
                  <a:pt x="4872" y="520575"/>
                  <a:pt x="52667" y="598996"/>
                </a:cubicBezTo>
                <a:cubicBezTo>
                  <a:pt x="100461" y="677417"/>
                  <a:pt x="192641" y="739062"/>
                  <a:pt x="354806" y="739062"/>
                </a:cubicBezTo>
                <a:cubicBezTo>
                  <a:pt x="364747" y="739056"/>
                  <a:pt x="372800" y="730994"/>
                  <a:pt x="372796" y="721054"/>
                </a:cubicBezTo>
                <a:cubicBezTo>
                  <a:pt x="372790" y="711121"/>
                  <a:pt x="364739" y="703070"/>
                  <a:pt x="354806" y="703064"/>
                </a:cubicBezTo>
                <a:cubicBezTo>
                  <a:pt x="201460" y="703064"/>
                  <a:pt x="125190" y="648777"/>
                  <a:pt x="83455" y="580300"/>
                </a:cubicBezTo>
                <a:cubicBezTo>
                  <a:pt x="41721" y="511822"/>
                  <a:pt x="35998" y="426239"/>
                  <a:pt x="35998" y="365354"/>
                </a:cubicBezTo>
                <a:cubicBezTo>
                  <a:pt x="35998" y="268560"/>
                  <a:pt x="67849" y="186516"/>
                  <a:pt x="123397" y="128532"/>
                </a:cubicBezTo>
                <a:cubicBezTo>
                  <a:pt x="178945" y="70547"/>
                  <a:pt x="258436" y="35998"/>
                  <a:pt x="356908" y="35998"/>
                </a:cubicBezTo>
                <a:cubicBezTo>
                  <a:pt x="478228" y="35998"/>
                  <a:pt x="556420" y="70400"/>
                  <a:pt x="605526" y="124606"/>
                </a:cubicBezTo>
                <a:cubicBezTo>
                  <a:pt x="654632" y="178813"/>
                  <a:pt x="675698" y="254961"/>
                  <a:pt x="675698" y="342212"/>
                </a:cubicBezTo>
                <a:cubicBezTo>
                  <a:pt x="675698" y="461930"/>
                  <a:pt x="627726" y="512849"/>
                  <a:pt x="580002" y="538181"/>
                </a:cubicBezTo>
                <a:cubicBezTo>
                  <a:pt x="545722" y="556376"/>
                  <a:pt x="517864" y="559110"/>
                  <a:pt x="501197" y="559761"/>
                </a:cubicBezTo>
                <a:lnTo>
                  <a:pt x="501197" y="243929"/>
                </a:lnTo>
                <a:cubicBezTo>
                  <a:pt x="501218" y="243433"/>
                  <a:pt x="501218" y="242937"/>
                  <a:pt x="501197" y="242441"/>
                </a:cubicBezTo>
                <a:lnTo>
                  <a:pt x="501197" y="174873"/>
                </a:lnTo>
                <a:cubicBezTo>
                  <a:pt x="501202" y="164932"/>
                  <a:pt x="493147" y="156869"/>
                  <a:pt x="483205" y="156865"/>
                </a:cubicBezTo>
                <a:cubicBezTo>
                  <a:pt x="483200" y="156865"/>
                  <a:pt x="483195" y="156865"/>
                  <a:pt x="483189" y="156865"/>
                </a:cubicBezTo>
                <a:cubicBezTo>
                  <a:pt x="473248" y="156860"/>
                  <a:pt x="465186" y="164915"/>
                  <a:pt x="465181" y="174857"/>
                </a:cubicBezTo>
                <a:cubicBezTo>
                  <a:pt x="465181" y="174862"/>
                  <a:pt x="465181" y="174868"/>
                  <a:pt x="465181" y="174873"/>
                </a:cubicBezTo>
                <a:lnTo>
                  <a:pt x="465181" y="186203"/>
                </a:lnTo>
                <a:cubicBezTo>
                  <a:pt x="442890" y="168540"/>
                  <a:pt x="407638" y="153925"/>
                  <a:pt x="354806" y="153925"/>
                </a:cubicBezTo>
                <a:cubicBezTo>
                  <a:pt x="290939" y="153925"/>
                  <a:pt x="235951" y="187959"/>
                  <a:pt x="200806" y="239836"/>
                </a:cubicBezTo>
                <a:cubicBezTo>
                  <a:pt x="165662" y="291714"/>
                  <a:pt x="149341" y="361438"/>
                  <a:pt x="159339" y="435657"/>
                </a:cubicBezTo>
                <a:cubicBezTo>
                  <a:pt x="168546" y="504004"/>
                  <a:pt x="206457" y="567032"/>
                  <a:pt x="266700" y="596540"/>
                </a:cubicBezTo>
                <a:cubicBezTo>
                  <a:pt x="320191" y="622741"/>
                  <a:pt x="389841" y="619955"/>
                  <a:pt x="465181" y="573974"/>
                </a:cubicBezTo>
                <a:lnTo>
                  <a:pt x="465181" y="578755"/>
                </a:lnTo>
                <a:cubicBezTo>
                  <a:pt x="465169" y="588275"/>
                  <a:pt x="472571" y="596158"/>
                  <a:pt x="482073" y="596745"/>
                </a:cubicBezTo>
                <a:cubicBezTo>
                  <a:pt x="482073" y="596745"/>
                  <a:pt x="539366" y="600491"/>
                  <a:pt x="596894" y="569956"/>
                </a:cubicBezTo>
                <a:cubicBezTo>
                  <a:pt x="654421" y="539420"/>
                  <a:pt x="711696" y="472052"/>
                  <a:pt x="711696" y="342212"/>
                </a:cubicBezTo>
                <a:cubicBezTo>
                  <a:pt x="711696" y="249154"/>
                  <a:pt x="689171" y="163227"/>
                  <a:pt x="632259" y="100403"/>
                </a:cubicBezTo>
                <a:cubicBezTo>
                  <a:pt x="575347" y="37580"/>
                  <a:pt x="485148" y="0"/>
                  <a:pt x="356908" y="0"/>
                </a:cubicBezTo>
                <a:close/>
                <a:moveTo>
                  <a:pt x="354806" y="189923"/>
                </a:moveTo>
                <a:cubicBezTo>
                  <a:pt x="408649" y="189923"/>
                  <a:pt x="435091" y="205866"/>
                  <a:pt x="449368" y="220228"/>
                </a:cubicBezTo>
                <a:cubicBezTo>
                  <a:pt x="461233" y="232164"/>
                  <a:pt x="464400" y="241936"/>
                  <a:pt x="465181" y="245045"/>
                </a:cubicBezTo>
                <a:lnTo>
                  <a:pt x="465181" y="530889"/>
                </a:lnTo>
                <a:cubicBezTo>
                  <a:pt x="389586" y="584604"/>
                  <a:pt x="328253" y="586593"/>
                  <a:pt x="282513" y="564189"/>
                </a:cubicBezTo>
                <a:cubicBezTo>
                  <a:pt x="235309" y="541068"/>
                  <a:pt x="202825" y="489015"/>
                  <a:pt x="194983" y="430802"/>
                </a:cubicBezTo>
                <a:cubicBezTo>
                  <a:pt x="186081" y="364718"/>
                  <a:pt x="201010" y="303741"/>
                  <a:pt x="230628" y="260021"/>
                </a:cubicBezTo>
                <a:cubicBezTo>
                  <a:pt x="260245" y="216302"/>
                  <a:pt x="303557" y="189923"/>
                  <a:pt x="354806" y="18992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Freeform: Shape 3"/>
          <p:cNvSpPr/>
          <p:nvPr/>
        </p:nvSpPr>
        <p:spPr>
          <a:xfrm>
            <a:off x="8502480" y="1974960"/>
            <a:ext cx="1627200" cy="1625400"/>
          </a:xfrm>
          <a:custGeom>
            <a:avLst/>
            <a:gdLst/>
            <a:ahLst/>
            <a:rect l="l" t="t" r="r" b="b"/>
            <a:pathLst>
              <a:path w="1626227" h="1626228">
                <a:moveTo>
                  <a:pt x="1626228" y="813114"/>
                </a:moveTo>
                <a:cubicBezTo>
                  <a:pt x="1626228" y="364044"/>
                  <a:pt x="1262185" y="0"/>
                  <a:pt x="813114" y="0"/>
                </a:cubicBezTo>
                <a:cubicBezTo>
                  <a:pt x="364044" y="0"/>
                  <a:pt x="0" y="364044"/>
                  <a:pt x="0" y="813114"/>
                </a:cubicBezTo>
                <a:cubicBezTo>
                  <a:pt x="0" y="1262185"/>
                  <a:pt x="364044" y="1626228"/>
                  <a:pt x="813114" y="1626228"/>
                </a:cubicBezTo>
                <a:cubicBezTo>
                  <a:pt x="1262184" y="1626228"/>
                  <a:pt x="1626228" y="1262185"/>
                  <a:pt x="1626228" y="81311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6" name="Freeform: Shape 4"/>
          <p:cNvSpPr/>
          <p:nvPr/>
        </p:nvSpPr>
        <p:spPr>
          <a:xfrm>
            <a:off x="5691240" y="1380960"/>
            <a:ext cx="2811240" cy="1406520"/>
          </a:xfrm>
          <a:custGeom>
            <a:avLst/>
            <a:gdLst/>
            <a:ahLst/>
            <a:rect l="l" t="t" r="r" b="b"/>
            <a:pathLst>
              <a:path w="2811148" h="1405570">
                <a:moveTo>
                  <a:pt x="1405579" y="0"/>
                </a:moveTo>
                <a:cubicBezTo>
                  <a:pt x="629301" y="-2"/>
                  <a:pt x="2" y="629293"/>
                  <a:pt x="0" y="1405571"/>
                </a:cubicBezTo>
                <a:lnTo>
                  <a:pt x="592459" y="1405571"/>
                </a:lnTo>
                <a:cubicBezTo>
                  <a:pt x="592461" y="956500"/>
                  <a:pt x="956506" y="592458"/>
                  <a:pt x="1405577" y="592460"/>
                </a:cubicBezTo>
                <a:cubicBezTo>
                  <a:pt x="1854645" y="592461"/>
                  <a:pt x="2218686" y="956503"/>
                  <a:pt x="2218687" y="1405571"/>
                </a:cubicBezTo>
                <a:lnTo>
                  <a:pt x="2811149" y="1405571"/>
                </a:lnTo>
                <a:cubicBezTo>
                  <a:pt x="2811147" y="629297"/>
                  <a:pt x="2181853" y="3"/>
                  <a:pt x="1405579"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7" name="Freeform: Shape 5"/>
          <p:cNvSpPr/>
          <p:nvPr/>
        </p:nvSpPr>
        <p:spPr>
          <a:xfrm>
            <a:off x="1254240" y="1380960"/>
            <a:ext cx="2811240" cy="1406520"/>
          </a:xfrm>
          <a:custGeom>
            <a:avLst/>
            <a:gdLst/>
            <a:ahLst/>
            <a:rect l="l" t="t" r="r" b="b"/>
            <a:pathLst>
              <a:path w="2811148" h="1405570">
                <a:moveTo>
                  <a:pt x="1405579" y="0"/>
                </a:moveTo>
                <a:cubicBezTo>
                  <a:pt x="629301" y="-2"/>
                  <a:pt x="2" y="629293"/>
                  <a:pt x="0" y="1405571"/>
                </a:cubicBezTo>
                <a:lnTo>
                  <a:pt x="592459" y="1405571"/>
                </a:lnTo>
                <a:cubicBezTo>
                  <a:pt x="592461" y="956500"/>
                  <a:pt x="956506" y="592458"/>
                  <a:pt x="1405577" y="592460"/>
                </a:cubicBezTo>
                <a:cubicBezTo>
                  <a:pt x="1854645" y="592461"/>
                  <a:pt x="2218686" y="956503"/>
                  <a:pt x="2218687" y="1405571"/>
                </a:cubicBezTo>
                <a:lnTo>
                  <a:pt x="2811149" y="1405571"/>
                </a:lnTo>
                <a:cubicBezTo>
                  <a:pt x="2811147" y="629296"/>
                  <a:pt x="2181853" y="2"/>
                  <a:pt x="1405579"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8" name="Freeform: Shape 6"/>
          <p:cNvSpPr/>
          <p:nvPr/>
        </p:nvSpPr>
        <p:spPr>
          <a:xfrm>
            <a:off x="3473280" y="2787480"/>
            <a:ext cx="2811600" cy="1405080"/>
          </a:xfrm>
          <a:custGeom>
            <a:avLst/>
            <a:gdLst/>
            <a:ahLst/>
            <a:rect l="l" t="t" r="r" b="b"/>
            <a:pathLst>
              <a:path w="2811148" h="1405570">
                <a:moveTo>
                  <a:pt x="1405579" y="1405571"/>
                </a:moveTo>
                <a:cubicBezTo>
                  <a:pt x="629301" y="1405573"/>
                  <a:pt x="2" y="776278"/>
                  <a:pt x="0" y="0"/>
                </a:cubicBezTo>
                <a:lnTo>
                  <a:pt x="592459" y="0"/>
                </a:lnTo>
                <a:cubicBezTo>
                  <a:pt x="592461" y="449071"/>
                  <a:pt x="956506" y="813113"/>
                  <a:pt x="1405577" y="813111"/>
                </a:cubicBezTo>
                <a:cubicBezTo>
                  <a:pt x="1854645" y="813109"/>
                  <a:pt x="2218686" y="449068"/>
                  <a:pt x="2218687" y="0"/>
                </a:cubicBezTo>
                <a:lnTo>
                  <a:pt x="2811149" y="0"/>
                </a:lnTo>
                <a:cubicBezTo>
                  <a:pt x="2811147" y="776274"/>
                  <a:pt x="2181853" y="1405568"/>
                  <a:pt x="1405579" y="1405571"/>
                </a:cubicBezTo>
                <a:close/>
              </a:path>
            </a:pathLst>
          </a:custGeom>
          <a:solidFill>
            <a:srgbClr val="ffbe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9" name="Freeform: Shape 7"/>
          <p:cNvSpPr/>
          <p:nvPr/>
        </p:nvSpPr>
        <p:spPr>
          <a:xfrm>
            <a:off x="1846440" y="1974960"/>
            <a:ext cx="1626840" cy="1625400"/>
          </a:xfrm>
          <a:custGeom>
            <a:avLst/>
            <a:gdLst/>
            <a:ahLst/>
            <a:rect l="l" t="t" r="r" b="b"/>
            <a:pathLst>
              <a:path w="1626228" h="1626228">
                <a:moveTo>
                  <a:pt x="1626228" y="813114"/>
                </a:moveTo>
                <a:cubicBezTo>
                  <a:pt x="1626228" y="1262184"/>
                  <a:pt x="1262184" y="1626228"/>
                  <a:pt x="813114" y="1626228"/>
                </a:cubicBezTo>
                <a:cubicBezTo>
                  <a:pt x="364043" y="1626228"/>
                  <a:pt x="0" y="1262185"/>
                  <a:pt x="0" y="813114"/>
                </a:cubicBezTo>
                <a:cubicBezTo>
                  <a:pt x="0" y="364044"/>
                  <a:pt x="364044" y="0"/>
                  <a:pt x="813114" y="0"/>
                </a:cubicBezTo>
                <a:cubicBezTo>
                  <a:pt x="1262184" y="0"/>
                  <a:pt x="1626228" y="364043"/>
                  <a:pt x="1626228" y="81311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10" name="Freeform: Shape 8"/>
          <p:cNvSpPr/>
          <p:nvPr/>
        </p:nvSpPr>
        <p:spPr>
          <a:xfrm>
            <a:off x="4065480" y="1974960"/>
            <a:ext cx="1625760" cy="1625400"/>
          </a:xfrm>
          <a:custGeom>
            <a:avLst/>
            <a:gdLst/>
            <a:ahLst/>
            <a:rect l="l" t="t" r="r" b="b"/>
            <a:pathLst>
              <a:path w="1626227" h="1626228">
                <a:moveTo>
                  <a:pt x="1626228" y="813114"/>
                </a:moveTo>
                <a:cubicBezTo>
                  <a:pt x="1626228" y="364044"/>
                  <a:pt x="1262184" y="0"/>
                  <a:pt x="813114" y="0"/>
                </a:cubicBezTo>
                <a:cubicBezTo>
                  <a:pt x="364043" y="0"/>
                  <a:pt x="0" y="364044"/>
                  <a:pt x="0" y="813114"/>
                </a:cubicBezTo>
                <a:cubicBezTo>
                  <a:pt x="0" y="1262185"/>
                  <a:pt x="364044" y="1626228"/>
                  <a:pt x="813114" y="1626228"/>
                </a:cubicBezTo>
                <a:cubicBezTo>
                  <a:pt x="1262184" y="1626228"/>
                  <a:pt x="1626228" y="1262185"/>
                  <a:pt x="1626228" y="81311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11" name="Freeform: Shape 9"/>
          <p:cNvSpPr/>
          <p:nvPr/>
        </p:nvSpPr>
        <p:spPr>
          <a:xfrm>
            <a:off x="7910640" y="2787480"/>
            <a:ext cx="2811240" cy="1405080"/>
          </a:xfrm>
          <a:custGeom>
            <a:avLst/>
            <a:gdLst/>
            <a:ahLst/>
            <a:rect l="l" t="t" r="r" b="b"/>
            <a:pathLst>
              <a:path w="2811148" h="1405570">
                <a:moveTo>
                  <a:pt x="1405579" y="1405571"/>
                </a:moveTo>
                <a:cubicBezTo>
                  <a:pt x="629301" y="1405573"/>
                  <a:pt x="2" y="776278"/>
                  <a:pt x="0" y="0"/>
                </a:cubicBezTo>
                <a:lnTo>
                  <a:pt x="592459" y="0"/>
                </a:lnTo>
                <a:cubicBezTo>
                  <a:pt x="592461" y="449071"/>
                  <a:pt x="956506" y="813113"/>
                  <a:pt x="1405577" y="813111"/>
                </a:cubicBezTo>
                <a:cubicBezTo>
                  <a:pt x="1854645" y="813109"/>
                  <a:pt x="2218686" y="449068"/>
                  <a:pt x="2218687" y="0"/>
                </a:cubicBezTo>
                <a:lnTo>
                  <a:pt x="2811149" y="0"/>
                </a:lnTo>
                <a:cubicBezTo>
                  <a:pt x="2811147" y="776274"/>
                  <a:pt x="2181853" y="1405568"/>
                  <a:pt x="1405579" y="1405571"/>
                </a:cubicBezTo>
                <a:close/>
              </a:path>
            </a:pathLst>
          </a:custGeom>
          <a:solidFill>
            <a:srgbClr val="ffbe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12" name="Freeform: Shape 10"/>
          <p:cNvSpPr/>
          <p:nvPr/>
        </p:nvSpPr>
        <p:spPr>
          <a:xfrm>
            <a:off x="6284880" y="1974960"/>
            <a:ext cx="1625760" cy="1625400"/>
          </a:xfrm>
          <a:custGeom>
            <a:avLst/>
            <a:gdLst/>
            <a:ahLst/>
            <a:rect l="l" t="t" r="r" b="b"/>
            <a:pathLst>
              <a:path w="1626227" h="1626228">
                <a:moveTo>
                  <a:pt x="1626228" y="813114"/>
                </a:moveTo>
                <a:cubicBezTo>
                  <a:pt x="1626228" y="1262185"/>
                  <a:pt x="1262184" y="1626228"/>
                  <a:pt x="813114" y="1626228"/>
                </a:cubicBezTo>
                <a:cubicBezTo>
                  <a:pt x="364044" y="1626228"/>
                  <a:pt x="0" y="1262185"/>
                  <a:pt x="0" y="813114"/>
                </a:cubicBezTo>
                <a:cubicBezTo>
                  <a:pt x="0" y="364044"/>
                  <a:pt x="364044" y="0"/>
                  <a:pt x="813114" y="0"/>
                </a:cubicBezTo>
                <a:cubicBezTo>
                  <a:pt x="1262184" y="0"/>
                  <a:pt x="1626228" y="364044"/>
                  <a:pt x="1626228" y="81311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13" name="Freeform: Shape 11"/>
          <p:cNvSpPr/>
          <p:nvPr/>
        </p:nvSpPr>
        <p:spPr>
          <a:xfrm>
            <a:off x="7910640" y="1380960"/>
            <a:ext cx="3027240" cy="1920960"/>
          </a:xfrm>
          <a:custGeom>
            <a:avLst/>
            <a:gdLst/>
            <a:ahLst/>
            <a:rect l="l" t="t" r="r" b="b"/>
            <a:pathLst>
              <a:path w="3027243" h="1919744">
                <a:moveTo>
                  <a:pt x="1405579" y="8"/>
                </a:moveTo>
                <a:cubicBezTo>
                  <a:pt x="629301" y="6"/>
                  <a:pt x="2" y="629302"/>
                  <a:pt x="0" y="1405579"/>
                </a:cubicBezTo>
                <a:lnTo>
                  <a:pt x="592459" y="1405579"/>
                </a:lnTo>
                <a:cubicBezTo>
                  <a:pt x="592461" y="956509"/>
                  <a:pt x="956506" y="592466"/>
                  <a:pt x="1405577" y="592468"/>
                </a:cubicBezTo>
                <a:cubicBezTo>
                  <a:pt x="1854645" y="592470"/>
                  <a:pt x="2218686" y="956511"/>
                  <a:pt x="2218687" y="1405579"/>
                </a:cubicBezTo>
                <a:lnTo>
                  <a:pt x="1998906" y="1405579"/>
                </a:lnTo>
                <a:lnTo>
                  <a:pt x="2513070" y="1919744"/>
                </a:lnTo>
                <a:lnTo>
                  <a:pt x="3027244" y="1405571"/>
                </a:lnTo>
                <a:lnTo>
                  <a:pt x="2811150" y="1405571"/>
                </a:lnTo>
                <a:cubicBezTo>
                  <a:pt x="2811147" y="629296"/>
                  <a:pt x="2181853" y="2"/>
                  <a:pt x="1405579" y="0"/>
                </a:cubicBezTo>
                <a:lnTo>
                  <a:pt x="1405579" y="8"/>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14" name="Freeform: Shape 12"/>
          <p:cNvSpPr/>
          <p:nvPr/>
        </p:nvSpPr>
        <p:spPr>
          <a:xfrm>
            <a:off x="5691240" y="2273400"/>
            <a:ext cx="3027240" cy="1919160"/>
          </a:xfrm>
          <a:custGeom>
            <a:avLst/>
            <a:gdLst/>
            <a:ahLst/>
            <a:rect l="l" t="t" r="r" b="b"/>
            <a:pathLst>
              <a:path w="3027244" h="1919744">
                <a:moveTo>
                  <a:pt x="2513071" y="0"/>
                </a:moveTo>
                <a:lnTo>
                  <a:pt x="1998906" y="514174"/>
                </a:lnTo>
                <a:lnTo>
                  <a:pt x="2218690" y="514174"/>
                </a:lnTo>
                <a:cubicBezTo>
                  <a:pt x="2218688" y="963242"/>
                  <a:pt x="1854647" y="1327283"/>
                  <a:pt x="1405579" y="1327285"/>
                </a:cubicBezTo>
                <a:cubicBezTo>
                  <a:pt x="956508" y="1327288"/>
                  <a:pt x="592463" y="963246"/>
                  <a:pt x="592459" y="514176"/>
                </a:cubicBezTo>
                <a:lnTo>
                  <a:pt x="0" y="514174"/>
                </a:lnTo>
                <a:cubicBezTo>
                  <a:pt x="2" y="1290451"/>
                  <a:pt x="629301" y="1919747"/>
                  <a:pt x="1405579" y="1919745"/>
                </a:cubicBezTo>
                <a:cubicBezTo>
                  <a:pt x="2181853" y="1919742"/>
                  <a:pt x="2811147" y="1290448"/>
                  <a:pt x="2811149" y="514174"/>
                </a:cubicBezTo>
                <a:lnTo>
                  <a:pt x="3027244" y="514174"/>
                </a:lnTo>
                <a:lnTo>
                  <a:pt x="2513071" y="0"/>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15" name="Freeform: Shape 13"/>
          <p:cNvSpPr/>
          <p:nvPr/>
        </p:nvSpPr>
        <p:spPr>
          <a:xfrm>
            <a:off x="3473280" y="1380960"/>
            <a:ext cx="3027600" cy="1920960"/>
          </a:xfrm>
          <a:custGeom>
            <a:avLst/>
            <a:gdLst/>
            <a:ahLst/>
            <a:rect l="l" t="t" r="r" b="b"/>
            <a:pathLst>
              <a:path w="3027244" h="1919744">
                <a:moveTo>
                  <a:pt x="1405579" y="8"/>
                </a:moveTo>
                <a:cubicBezTo>
                  <a:pt x="629301" y="6"/>
                  <a:pt x="2" y="629302"/>
                  <a:pt x="0" y="1405579"/>
                </a:cubicBezTo>
                <a:lnTo>
                  <a:pt x="592460" y="1405579"/>
                </a:lnTo>
                <a:cubicBezTo>
                  <a:pt x="592462" y="956509"/>
                  <a:pt x="956506" y="592466"/>
                  <a:pt x="1405577" y="592468"/>
                </a:cubicBezTo>
                <a:cubicBezTo>
                  <a:pt x="1854645" y="592470"/>
                  <a:pt x="2218686" y="956511"/>
                  <a:pt x="2218688" y="1405579"/>
                </a:cubicBezTo>
                <a:lnTo>
                  <a:pt x="1998906" y="1405579"/>
                </a:lnTo>
                <a:lnTo>
                  <a:pt x="2513071" y="1919744"/>
                </a:lnTo>
                <a:lnTo>
                  <a:pt x="3027244" y="1405571"/>
                </a:lnTo>
                <a:lnTo>
                  <a:pt x="2811149" y="1405571"/>
                </a:lnTo>
                <a:cubicBezTo>
                  <a:pt x="2811147" y="629296"/>
                  <a:pt x="2181853" y="2"/>
                  <a:pt x="1405579" y="0"/>
                </a:cubicBezTo>
                <a:lnTo>
                  <a:pt x="1405579" y="8"/>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16" name="Freeform: Shape 14"/>
          <p:cNvSpPr/>
          <p:nvPr/>
        </p:nvSpPr>
        <p:spPr>
          <a:xfrm>
            <a:off x="1254240" y="2273400"/>
            <a:ext cx="3027240" cy="1919160"/>
          </a:xfrm>
          <a:custGeom>
            <a:avLst/>
            <a:gdLst/>
            <a:ahLst/>
            <a:rect l="l" t="t" r="r" b="b"/>
            <a:pathLst>
              <a:path w="3027244" h="1919744">
                <a:moveTo>
                  <a:pt x="2513071" y="0"/>
                </a:moveTo>
                <a:lnTo>
                  <a:pt x="1998906" y="514174"/>
                </a:lnTo>
                <a:lnTo>
                  <a:pt x="2218690" y="514174"/>
                </a:lnTo>
                <a:cubicBezTo>
                  <a:pt x="2218688" y="963242"/>
                  <a:pt x="1854647" y="1327283"/>
                  <a:pt x="1405579" y="1327285"/>
                </a:cubicBezTo>
                <a:cubicBezTo>
                  <a:pt x="956508" y="1327288"/>
                  <a:pt x="592463" y="963246"/>
                  <a:pt x="592460" y="514176"/>
                </a:cubicBezTo>
                <a:lnTo>
                  <a:pt x="0" y="514174"/>
                </a:lnTo>
                <a:cubicBezTo>
                  <a:pt x="2" y="1290452"/>
                  <a:pt x="629301" y="1919747"/>
                  <a:pt x="1405579" y="1919745"/>
                </a:cubicBezTo>
                <a:cubicBezTo>
                  <a:pt x="2181853" y="1919742"/>
                  <a:pt x="2811147" y="1290448"/>
                  <a:pt x="2811149" y="514174"/>
                </a:cubicBezTo>
                <a:lnTo>
                  <a:pt x="3027245" y="514174"/>
                </a:lnTo>
                <a:lnTo>
                  <a:pt x="2513071" y="0"/>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17" name="TextBox 15"/>
          <p:cNvSpPr/>
          <p:nvPr/>
        </p:nvSpPr>
        <p:spPr>
          <a:xfrm>
            <a:off x="2144880" y="2433600"/>
            <a:ext cx="1029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5b2d3"/>
                </a:solidFill>
                <a:latin typeface="Montserrat"/>
              </a:rPr>
              <a:t>01</a:t>
            </a:r>
            <a:endParaRPr b="0" lang="en-US" sz="4000" spc="-1" strike="noStrike">
              <a:solidFill>
                <a:srgbClr val="000000"/>
              </a:solidFill>
              <a:latin typeface="Calibri"/>
            </a:endParaRPr>
          </a:p>
        </p:txBody>
      </p:sp>
      <p:sp>
        <p:nvSpPr>
          <p:cNvPr id="2218" name="TextBox 16"/>
          <p:cNvSpPr/>
          <p:nvPr/>
        </p:nvSpPr>
        <p:spPr>
          <a:xfrm>
            <a:off x="4359240" y="2433600"/>
            <a:ext cx="1030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36e96"/>
                </a:solidFill>
                <a:latin typeface="Montserrat"/>
              </a:rPr>
              <a:t>02</a:t>
            </a:r>
            <a:endParaRPr b="0" lang="en-US" sz="4000" spc="-1" strike="noStrike">
              <a:solidFill>
                <a:srgbClr val="000000"/>
              </a:solidFill>
              <a:latin typeface="Calibri"/>
            </a:endParaRPr>
          </a:p>
        </p:txBody>
      </p:sp>
      <p:sp>
        <p:nvSpPr>
          <p:cNvPr id="2219" name="TextBox 17"/>
          <p:cNvSpPr/>
          <p:nvPr/>
        </p:nvSpPr>
        <p:spPr>
          <a:xfrm>
            <a:off x="6585120" y="2433600"/>
            <a:ext cx="102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5b2d3"/>
                </a:solidFill>
                <a:latin typeface="Montserrat"/>
              </a:rPr>
              <a:t>03</a:t>
            </a:r>
            <a:endParaRPr b="0" lang="en-US" sz="4000" spc="-1" strike="noStrike">
              <a:solidFill>
                <a:srgbClr val="000000"/>
              </a:solidFill>
              <a:latin typeface="Calibri"/>
            </a:endParaRPr>
          </a:p>
        </p:txBody>
      </p:sp>
      <p:sp>
        <p:nvSpPr>
          <p:cNvPr id="2220" name="TextBox 18"/>
          <p:cNvSpPr/>
          <p:nvPr/>
        </p:nvSpPr>
        <p:spPr>
          <a:xfrm>
            <a:off x="8805960" y="2433600"/>
            <a:ext cx="1030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36e96"/>
                </a:solidFill>
                <a:latin typeface="Montserrat"/>
              </a:rPr>
              <a:t>04</a:t>
            </a:r>
            <a:endParaRPr b="0" lang="en-US" sz="4000" spc="-1" strike="noStrike">
              <a:solidFill>
                <a:srgbClr val="000000"/>
              </a:solidFill>
              <a:latin typeface="Calibri"/>
            </a:endParaRPr>
          </a:p>
        </p:txBody>
      </p:sp>
      <p:sp>
        <p:nvSpPr>
          <p:cNvPr id="2221" name="TextBox 20"/>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222" name="TextBox 21"/>
          <p:cNvSpPr/>
          <p:nvPr/>
        </p:nvSpPr>
        <p:spPr>
          <a:xfrm>
            <a:off x="1239840" y="5037120"/>
            <a:ext cx="20685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223" name="TextBox 22"/>
          <p:cNvSpPr/>
          <p:nvPr/>
        </p:nvSpPr>
        <p:spPr>
          <a:xfrm>
            <a:off x="1239840" y="4651200"/>
            <a:ext cx="2068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224" name="TextBox 25"/>
          <p:cNvSpPr/>
          <p:nvPr/>
        </p:nvSpPr>
        <p:spPr>
          <a:xfrm>
            <a:off x="3659040" y="5037120"/>
            <a:ext cx="20685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225" name="TextBox 26"/>
          <p:cNvSpPr/>
          <p:nvPr/>
        </p:nvSpPr>
        <p:spPr>
          <a:xfrm>
            <a:off x="3659040" y="4651200"/>
            <a:ext cx="2068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226" name="TextBox 27"/>
          <p:cNvSpPr/>
          <p:nvPr/>
        </p:nvSpPr>
        <p:spPr>
          <a:xfrm>
            <a:off x="6121440" y="5037120"/>
            <a:ext cx="20685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227" name="TextBox 28"/>
          <p:cNvSpPr/>
          <p:nvPr/>
        </p:nvSpPr>
        <p:spPr>
          <a:xfrm>
            <a:off x="6121440" y="4651200"/>
            <a:ext cx="2068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228" name="TextBox 29"/>
          <p:cNvSpPr/>
          <p:nvPr/>
        </p:nvSpPr>
        <p:spPr>
          <a:xfrm>
            <a:off x="8540640" y="5037120"/>
            <a:ext cx="20685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229" name="TextBox 30"/>
          <p:cNvSpPr/>
          <p:nvPr/>
        </p:nvSpPr>
        <p:spPr>
          <a:xfrm>
            <a:off x="8540640" y="4651200"/>
            <a:ext cx="2068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pic>
        <p:nvPicPr>
          <p:cNvPr id="2230" name="Group 35" descr=""/>
          <p:cNvPicPr/>
          <p:nvPr/>
        </p:nvPicPr>
        <p:blipFill>
          <a:blip r:embed="rId1"/>
          <a:stretch/>
        </p:blipFill>
        <p:spPr>
          <a:xfrm>
            <a:off x="11442600" y="3035160"/>
            <a:ext cx="195480" cy="787680"/>
          </a:xfrm>
          <a:prstGeom prst="rect">
            <a:avLst/>
          </a:prstGeom>
          <a:ln w="0">
            <a:noFill/>
          </a:ln>
        </p:spPr>
      </p:pic>
      <p:sp>
        <p:nvSpPr>
          <p:cNvPr id="2231" name="Rectangle 38"/>
          <p:cNvSpPr/>
          <p:nvPr/>
        </p:nvSpPr>
        <p:spPr>
          <a:xfrm>
            <a:off x="10320480" y="0"/>
            <a:ext cx="1871640" cy="5014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32" name="Group 39" descr=""/>
          <p:cNvPicPr/>
          <p:nvPr/>
        </p:nvPicPr>
        <p:blipFill>
          <a:blip r:embed="rId2"/>
          <a:stretch/>
        </p:blipFill>
        <p:spPr>
          <a:xfrm>
            <a:off x="10644120" y="139680"/>
            <a:ext cx="1224000" cy="220680"/>
          </a:xfrm>
          <a:prstGeom prst="rect">
            <a:avLst/>
          </a:prstGeom>
          <a:ln w="0">
            <a:noFill/>
          </a:ln>
        </p:spPr>
      </p:pic>
      <p:pic>
        <p:nvPicPr>
          <p:cNvPr id="2233" name="Graphic 43" descr=""/>
          <p:cNvPicPr/>
          <p:nvPr/>
        </p:nvPicPr>
        <p:blipFill>
          <a:blip r:embed="rId3"/>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Freeform: Shape 5"/>
          <p:cNvSpPr/>
          <p:nvPr/>
        </p:nvSpPr>
        <p:spPr>
          <a:xfrm>
            <a:off x="863640" y="3511440"/>
            <a:ext cx="1103400" cy="1438560"/>
          </a:xfrm>
          <a:custGeom>
            <a:avLst/>
            <a:gdLst/>
            <a:ahLst/>
            <a:rect l="l" t="t" r="r" b="b"/>
            <a:pathLst>
              <a:path w="1102480" h="1439537">
                <a:moveTo>
                  <a:pt x="1102481" y="1075432"/>
                </a:moveTo>
                <a:lnTo>
                  <a:pt x="0" y="1439537"/>
                </a:lnTo>
                <a:lnTo>
                  <a:pt x="0" y="0"/>
                </a:lnTo>
                <a:lnTo>
                  <a:pt x="1102481" y="0"/>
                </a:lnTo>
                <a:lnTo>
                  <a:pt x="1102481" y="1075432"/>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5" name="Freeform: Shape 6"/>
          <p:cNvSpPr/>
          <p:nvPr/>
        </p:nvSpPr>
        <p:spPr>
          <a:xfrm>
            <a:off x="863640" y="4751280"/>
            <a:ext cx="1103400" cy="1843200"/>
          </a:xfrm>
          <a:custGeom>
            <a:avLst/>
            <a:gdLst/>
            <a:ahLst/>
            <a:rect l="l" t="t" r="r" b="b"/>
            <a:pathLst>
              <a:path w="1102480" h="1843250">
                <a:moveTo>
                  <a:pt x="1102481" y="0"/>
                </a:moveTo>
                <a:lnTo>
                  <a:pt x="0" y="403715"/>
                </a:lnTo>
                <a:lnTo>
                  <a:pt x="0" y="1843251"/>
                </a:lnTo>
                <a:lnTo>
                  <a:pt x="1102481" y="1075432"/>
                </a:lnTo>
                <a:lnTo>
                  <a:pt x="1102481" y="0"/>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6" name="Freeform: Shape 9"/>
          <p:cNvSpPr/>
          <p:nvPr/>
        </p:nvSpPr>
        <p:spPr>
          <a:xfrm>
            <a:off x="863640" y="1908000"/>
            <a:ext cx="1103400" cy="1440000"/>
          </a:xfrm>
          <a:custGeom>
            <a:avLst/>
            <a:gdLst/>
            <a:ahLst/>
            <a:rect l="l" t="t" r="r" b="b"/>
            <a:pathLst>
              <a:path w="1102480" h="1439536">
                <a:moveTo>
                  <a:pt x="1102481" y="364106"/>
                </a:moveTo>
                <a:lnTo>
                  <a:pt x="0" y="0"/>
                </a:lnTo>
                <a:lnTo>
                  <a:pt x="0" y="1439537"/>
                </a:lnTo>
                <a:lnTo>
                  <a:pt x="1102481" y="1439537"/>
                </a:lnTo>
                <a:lnTo>
                  <a:pt x="1102481" y="364106"/>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7" name="Freeform: Shape 10"/>
          <p:cNvSpPr/>
          <p:nvPr/>
        </p:nvSpPr>
        <p:spPr>
          <a:xfrm>
            <a:off x="863640" y="263520"/>
            <a:ext cx="1103400" cy="1843200"/>
          </a:xfrm>
          <a:custGeom>
            <a:avLst/>
            <a:gdLst/>
            <a:ahLst/>
            <a:rect l="l" t="t" r="r" b="b"/>
            <a:pathLst>
              <a:path w="1102480" h="1843250">
                <a:moveTo>
                  <a:pt x="1102481" y="1843251"/>
                </a:moveTo>
                <a:lnTo>
                  <a:pt x="0" y="1439536"/>
                </a:lnTo>
                <a:lnTo>
                  <a:pt x="0" y="0"/>
                </a:lnTo>
                <a:lnTo>
                  <a:pt x="1102481" y="767819"/>
                </a:lnTo>
                <a:lnTo>
                  <a:pt x="1102481" y="1843251"/>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8" name="Freeform: Shape 11"/>
          <p:cNvSpPr/>
          <p:nvPr/>
        </p:nvSpPr>
        <p:spPr>
          <a:xfrm rot="10800000">
            <a:off x="0" y="5162400"/>
            <a:ext cx="863640" cy="1432080"/>
          </a:xfrm>
          <a:custGeom>
            <a:avLst/>
            <a:gdLst/>
            <a:ahLst/>
            <a:rect l="l" t="t" r="r" b="b"/>
            <a:pathLst>
              <a:path w="864378" h="1431910">
                <a:moveTo>
                  <a:pt x="71" y="926"/>
                </a:moveTo>
                <a:lnTo>
                  <a:pt x="864450" y="926"/>
                </a:lnTo>
                <a:lnTo>
                  <a:pt x="864450" y="1432836"/>
                </a:lnTo>
                <a:lnTo>
                  <a:pt x="71" y="1432836"/>
                </a:lnTo>
                <a:lnTo>
                  <a:pt x="71" y="926"/>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9" name="Freeform: Shape 12"/>
          <p:cNvSpPr/>
          <p:nvPr/>
        </p:nvSpPr>
        <p:spPr>
          <a:xfrm rot="10800000">
            <a:off x="0" y="3511440"/>
            <a:ext cx="863640" cy="1432080"/>
          </a:xfrm>
          <a:custGeom>
            <a:avLst/>
            <a:gdLst/>
            <a:ahLst/>
            <a:rect l="l" t="t" r="r" b="b"/>
            <a:pathLst>
              <a:path w="864378" h="1431910">
                <a:moveTo>
                  <a:pt x="71" y="654"/>
                </a:moveTo>
                <a:lnTo>
                  <a:pt x="864450" y="654"/>
                </a:lnTo>
                <a:lnTo>
                  <a:pt x="864450" y="1432564"/>
                </a:lnTo>
                <a:lnTo>
                  <a:pt x="71" y="1432564"/>
                </a:lnTo>
                <a:lnTo>
                  <a:pt x="71" y="654"/>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0" name="Freeform: Shape 13"/>
          <p:cNvSpPr/>
          <p:nvPr/>
        </p:nvSpPr>
        <p:spPr>
          <a:xfrm rot="10800000">
            <a:off x="0" y="1915920"/>
            <a:ext cx="863640" cy="1431720"/>
          </a:xfrm>
          <a:custGeom>
            <a:avLst/>
            <a:gdLst/>
            <a:ahLst/>
            <a:rect l="l" t="t" r="r" b="b"/>
            <a:pathLst>
              <a:path w="864378" h="1431910">
                <a:moveTo>
                  <a:pt x="71" y="390"/>
                </a:moveTo>
                <a:lnTo>
                  <a:pt x="864450" y="390"/>
                </a:lnTo>
                <a:lnTo>
                  <a:pt x="864450" y="1432301"/>
                </a:lnTo>
                <a:lnTo>
                  <a:pt x="71" y="1432301"/>
                </a:lnTo>
                <a:lnTo>
                  <a:pt x="71" y="39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1" name="Freeform: Shape 14"/>
          <p:cNvSpPr/>
          <p:nvPr/>
        </p:nvSpPr>
        <p:spPr>
          <a:xfrm rot="10800000">
            <a:off x="0" y="263520"/>
            <a:ext cx="863640" cy="1432080"/>
          </a:xfrm>
          <a:custGeom>
            <a:avLst/>
            <a:gdLst/>
            <a:ahLst/>
            <a:rect l="l" t="t" r="r" b="b"/>
            <a:pathLst>
              <a:path w="864378" h="1431910">
                <a:moveTo>
                  <a:pt x="71" y="118"/>
                </a:moveTo>
                <a:lnTo>
                  <a:pt x="864450" y="118"/>
                </a:lnTo>
                <a:lnTo>
                  <a:pt x="864450" y="1432028"/>
                </a:lnTo>
                <a:lnTo>
                  <a:pt x="71" y="1432028"/>
                </a:lnTo>
                <a:lnTo>
                  <a:pt x="71" y="118"/>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2" name="Freeform: Shape 22"/>
          <p:cNvSpPr/>
          <p:nvPr/>
        </p:nvSpPr>
        <p:spPr>
          <a:xfrm>
            <a:off x="1967040" y="1030320"/>
            <a:ext cx="4417920" cy="1076400"/>
          </a:xfrm>
          <a:custGeom>
            <a:avLst/>
            <a:gdLst/>
            <a:ahLst/>
            <a:rect l="l" t="t" r="r" b="b"/>
            <a:pathLst>
              <a:path w="4418630" h="1075433">
                <a:moveTo>
                  <a:pt x="3737030" y="0"/>
                </a:moveTo>
                <a:lnTo>
                  <a:pt x="4418630" y="537716"/>
                </a:lnTo>
                <a:lnTo>
                  <a:pt x="3737030" y="1075432"/>
                </a:lnTo>
                <a:lnTo>
                  <a:pt x="3736399" y="1074934"/>
                </a:lnTo>
                <a:lnTo>
                  <a:pt x="3736399" y="1075433"/>
                </a:lnTo>
                <a:lnTo>
                  <a:pt x="0" y="1075433"/>
                </a:lnTo>
                <a:lnTo>
                  <a:pt x="0" y="1"/>
                </a:lnTo>
                <a:lnTo>
                  <a:pt x="3736399" y="1"/>
                </a:lnTo>
                <a:lnTo>
                  <a:pt x="3736399" y="498"/>
                </a:lnTo>
                <a:lnTo>
                  <a:pt x="3737030"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3" name="Freeform: Shape 23"/>
          <p:cNvSpPr/>
          <p:nvPr/>
        </p:nvSpPr>
        <p:spPr>
          <a:xfrm>
            <a:off x="1967040" y="2271600"/>
            <a:ext cx="4417920" cy="1076400"/>
          </a:xfrm>
          <a:custGeom>
            <a:avLst/>
            <a:gdLst/>
            <a:ahLst/>
            <a:rect l="l" t="t" r="r" b="b"/>
            <a:pathLst>
              <a:path w="4418630" h="1075433">
                <a:moveTo>
                  <a:pt x="3737030" y="0"/>
                </a:moveTo>
                <a:lnTo>
                  <a:pt x="4418630" y="537716"/>
                </a:lnTo>
                <a:lnTo>
                  <a:pt x="3737030" y="1075432"/>
                </a:lnTo>
                <a:lnTo>
                  <a:pt x="3736398" y="1074934"/>
                </a:lnTo>
                <a:lnTo>
                  <a:pt x="3736398" y="1075433"/>
                </a:lnTo>
                <a:lnTo>
                  <a:pt x="0" y="1075433"/>
                </a:lnTo>
                <a:lnTo>
                  <a:pt x="0" y="1"/>
                </a:lnTo>
                <a:lnTo>
                  <a:pt x="3736398" y="1"/>
                </a:lnTo>
                <a:lnTo>
                  <a:pt x="3736398" y="499"/>
                </a:lnTo>
                <a:lnTo>
                  <a:pt x="3737030"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4" name="Freeform: Shape 24"/>
          <p:cNvSpPr/>
          <p:nvPr/>
        </p:nvSpPr>
        <p:spPr>
          <a:xfrm>
            <a:off x="1967040" y="3510000"/>
            <a:ext cx="4417920" cy="1076400"/>
          </a:xfrm>
          <a:custGeom>
            <a:avLst/>
            <a:gdLst/>
            <a:ahLst/>
            <a:rect l="l" t="t" r="r" b="b"/>
            <a:pathLst>
              <a:path w="4418630" h="1076058">
                <a:moveTo>
                  <a:pt x="0" y="0"/>
                </a:moveTo>
                <a:lnTo>
                  <a:pt x="3736398" y="0"/>
                </a:lnTo>
                <a:lnTo>
                  <a:pt x="3736398" y="1124"/>
                </a:lnTo>
                <a:lnTo>
                  <a:pt x="3737030" y="625"/>
                </a:lnTo>
                <a:lnTo>
                  <a:pt x="4418630" y="538341"/>
                </a:lnTo>
                <a:lnTo>
                  <a:pt x="3737030" y="1076058"/>
                </a:lnTo>
                <a:lnTo>
                  <a:pt x="3736237" y="1075432"/>
                </a:lnTo>
                <a:lnTo>
                  <a:pt x="0" y="1075432"/>
                </a:lnTo>
                <a:lnTo>
                  <a:pt x="0"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45" name="Freeform: Shape 25"/>
          <p:cNvSpPr/>
          <p:nvPr/>
        </p:nvSpPr>
        <p:spPr>
          <a:xfrm>
            <a:off x="1967040" y="4751280"/>
            <a:ext cx="4417920" cy="1076400"/>
          </a:xfrm>
          <a:custGeom>
            <a:avLst/>
            <a:gdLst/>
            <a:ahLst/>
            <a:rect l="l" t="t" r="r" b="b"/>
            <a:pathLst>
              <a:path w="4418629" h="1076261">
                <a:moveTo>
                  <a:pt x="0" y="0"/>
                </a:moveTo>
                <a:lnTo>
                  <a:pt x="3736398" y="0"/>
                </a:lnTo>
                <a:lnTo>
                  <a:pt x="3736398" y="1327"/>
                </a:lnTo>
                <a:lnTo>
                  <a:pt x="3737029" y="829"/>
                </a:lnTo>
                <a:lnTo>
                  <a:pt x="4418629" y="538545"/>
                </a:lnTo>
                <a:lnTo>
                  <a:pt x="3737029" y="1076261"/>
                </a:lnTo>
                <a:lnTo>
                  <a:pt x="3735978" y="1075432"/>
                </a:lnTo>
                <a:lnTo>
                  <a:pt x="0" y="1075432"/>
                </a:lnTo>
                <a:lnTo>
                  <a:pt x="0"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246" name="Group 26"/>
          <p:cNvGrpSpPr/>
          <p:nvPr/>
        </p:nvGrpSpPr>
        <p:grpSpPr>
          <a:xfrm>
            <a:off x="2095560" y="1257480"/>
            <a:ext cx="4000320" cy="614880"/>
            <a:chOff x="2095560" y="1257480"/>
            <a:chExt cx="4000320" cy="614880"/>
          </a:xfrm>
        </p:grpSpPr>
        <p:sp>
          <p:nvSpPr>
            <p:cNvPr id="2247" name="TextBox 19"/>
            <p:cNvSpPr/>
            <p:nvPr/>
          </p:nvSpPr>
          <p:spPr>
            <a:xfrm>
              <a:off x="2881080" y="1257480"/>
              <a:ext cx="247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ato"/>
                </a:rPr>
                <a:t>Your Text Here</a:t>
              </a:r>
              <a:endParaRPr b="0" lang="en-US" sz="1800" spc="-1" strike="noStrike">
                <a:solidFill>
                  <a:srgbClr val="000000"/>
                </a:solidFill>
                <a:latin typeface="Calibri"/>
              </a:endParaRPr>
            </a:p>
          </p:txBody>
        </p:sp>
        <p:sp>
          <p:nvSpPr>
            <p:cNvPr id="2248" name="TextBox 20"/>
            <p:cNvSpPr/>
            <p:nvPr/>
          </p:nvSpPr>
          <p:spPr>
            <a:xfrm>
              <a:off x="2881080" y="1527480"/>
              <a:ext cx="32148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2249" name="TextBox 21"/>
            <p:cNvSpPr/>
            <p:nvPr/>
          </p:nvSpPr>
          <p:spPr>
            <a:xfrm>
              <a:off x="2095560" y="1273680"/>
              <a:ext cx="7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ato"/>
                </a:rPr>
                <a:t>01</a:t>
              </a:r>
              <a:endParaRPr b="0" lang="en-US" sz="2400" spc="-1" strike="noStrike">
                <a:solidFill>
                  <a:srgbClr val="000000"/>
                </a:solidFill>
                <a:latin typeface="Calibri"/>
              </a:endParaRPr>
            </a:p>
          </p:txBody>
        </p:sp>
      </p:grpSp>
      <p:grpSp>
        <p:nvGrpSpPr>
          <p:cNvPr id="2250" name="Group 32"/>
          <p:cNvGrpSpPr/>
          <p:nvPr/>
        </p:nvGrpSpPr>
        <p:grpSpPr>
          <a:xfrm>
            <a:off x="2095560" y="2517840"/>
            <a:ext cx="4000320" cy="615960"/>
            <a:chOff x="2095560" y="2517840"/>
            <a:chExt cx="4000320" cy="615960"/>
          </a:xfrm>
        </p:grpSpPr>
        <p:sp>
          <p:nvSpPr>
            <p:cNvPr id="2251" name="TextBox 33"/>
            <p:cNvSpPr/>
            <p:nvPr/>
          </p:nvSpPr>
          <p:spPr>
            <a:xfrm>
              <a:off x="2881080" y="2517840"/>
              <a:ext cx="247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ato"/>
                </a:rPr>
                <a:t>Your Text Here</a:t>
              </a:r>
              <a:endParaRPr b="0" lang="en-US" sz="1800" spc="-1" strike="noStrike">
                <a:solidFill>
                  <a:srgbClr val="000000"/>
                </a:solidFill>
                <a:latin typeface="Calibri"/>
              </a:endParaRPr>
            </a:p>
          </p:txBody>
        </p:sp>
        <p:sp>
          <p:nvSpPr>
            <p:cNvPr id="2252" name="TextBox 34"/>
            <p:cNvSpPr/>
            <p:nvPr/>
          </p:nvSpPr>
          <p:spPr>
            <a:xfrm>
              <a:off x="2881080" y="2788920"/>
              <a:ext cx="32148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2253" name="TextBox 35"/>
            <p:cNvSpPr/>
            <p:nvPr/>
          </p:nvSpPr>
          <p:spPr>
            <a:xfrm>
              <a:off x="2095560" y="2534040"/>
              <a:ext cx="7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ato"/>
                </a:rPr>
                <a:t>02</a:t>
              </a:r>
              <a:endParaRPr b="0" lang="en-US" sz="2400" spc="-1" strike="noStrike">
                <a:solidFill>
                  <a:srgbClr val="000000"/>
                </a:solidFill>
                <a:latin typeface="Calibri"/>
              </a:endParaRPr>
            </a:p>
          </p:txBody>
        </p:sp>
      </p:grpSp>
      <p:grpSp>
        <p:nvGrpSpPr>
          <p:cNvPr id="2254" name="Group 36"/>
          <p:cNvGrpSpPr/>
          <p:nvPr/>
        </p:nvGrpSpPr>
        <p:grpSpPr>
          <a:xfrm>
            <a:off x="2095560" y="3755880"/>
            <a:ext cx="4000320" cy="615960"/>
            <a:chOff x="2095560" y="3755880"/>
            <a:chExt cx="4000320" cy="615960"/>
          </a:xfrm>
        </p:grpSpPr>
        <p:sp>
          <p:nvSpPr>
            <p:cNvPr id="2255" name="TextBox 37"/>
            <p:cNvSpPr/>
            <p:nvPr/>
          </p:nvSpPr>
          <p:spPr>
            <a:xfrm>
              <a:off x="2881080" y="3755880"/>
              <a:ext cx="247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ato"/>
                </a:rPr>
                <a:t>Your Text Here</a:t>
              </a:r>
              <a:endParaRPr b="0" lang="en-US" sz="1800" spc="-1" strike="noStrike">
                <a:solidFill>
                  <a:srgbClr val="000000"/>
                </a:solidFill>
                <a:latin typeface="Calibri"/>
              </a:endParaRPr>
            </a:p>
          </p:txBody>
        </p:sp>
        <p:sp>
          <p:nvSpPr>
            <p:cNvPr id="2256" name="TextBox 38"/>
            <p:cNvSpPr/>
            <p:nvPr/>
          </p:nvSpPr>
          <p:spPr>
            <a:xfrm>
              <a:off x="2881080" y="4026960"/>
              <a:ext cx="32148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2257" name="TextBox 39"/>
            <p:cNvSpPr/>
            <p:nvPr/>
          </p:nvSpPr>
          <p:spPr>
            <a:xfrm>
              <a:off x="2095560" y="3772080"/>
              <a:ext cx="7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ato"/>
                </a:rPr>
                <a:t>03</a:t>
              </a:r>
              <a:endParaRPr b="0" lang="en-US" sz="2400" spc="-1" strike="noStrike">
                <a:solidFill>
                  <a:srgbClr val="000000"/>
                </a:solidFill>
                <a:latin typeface="Calibri"/>
              </a:endParaRPr>
            </a:p>
          </p:txBody>
        </p:sp>
      </p:grpSp>
      <p:grpSp>
        <p:nvGrpSpPr>
          <p:cNvPr id="2258" name="Group 40"/>
          <p:cNvGrpSpPr/>
          <p:nvPr/>
        </p:nvGrpSpPr>
        <p:grpSpPr>
          <a:xfrm>
            <a:off x="2095560" y="4979880"/>
            <a:ext cx="4000320" cy="615960"/>
            <a:chOff x="2095560" y="4979880"/>
            <a:chExt cx="4000320" cy="615960"/>
          </a:xfrm>
        </p:grpSpPr>
        <p:sp>
          <p:nvSpPr>
            <p:cNvPr id="2259" name="TextBox 41"/>
            <p:cNvSpPr/>
            <p:nvPr/>
          </p:nvSpPr>
          <p:spPr>
            <a:xfrm>
              <a:off x="2881080" y="4979880"/>
              <a:ext cx="247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ato"/>
                </a:rPr>
                <a:t>Your Text Here</a:t>
              </a:r>
              <a:endParaRPr b="0" lang="en-US" sz="1800" spc="-1" strike="noStrike">
                <a:solidFill>
                  <a:srgbClr val="000000"/>
                </a:solidFill>
                <a:latin typeface="Calibri"/>
              </a:endParaRPr>
            </a:p>
          </p:txBody>
        </p:sp>
        <p:sp>
          <p:nvSpPr>
            <p:cNvPr id="2260" name="TextBox 42"/>
            <p:cNvSpPr/>
            <p:nvPr/>
          </p:nvSpPr>
          <p:spPr>
            <a:xfrm>
              <a:off x="2881080" y="5250960"/>
              <a:ext cx="32148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Lato"/>
                </a:rPr>
                <a:t>Sed utera perspiciatis unde omnis iste natus</a:t>
              </a:r>
              <a:r>
                <a:rPr b="0" lang="en-GB" sz="1100" spc="-1" strike="noStrike">
                  <a:solidFill>
                    <a:srgbClr val="ffffff"/>
                  </a:solidFill>
                  <a:latin typeface="Lato"/>
                </a:rPr>
                <a:t>.</a:t>
              </a:r>
              <a:endParaRPr b="0" lang="en-US" sz="1100" spc="-1" strike="noStrike">
                <a:solidFill>
                  <a:srgbClr val="000000"/>
                </a:solidFill>
                <a:latin typeface="Calibri"/>
              </a:endParaRPr>
            </a:p>
          </p:txBody>
        </p:sp>
        <p:sp>
          <p:nvSpPr>
            <p:cNvPr id="2261" name="TextBox 43"/>
            <p:cNvSpPr/>
            <p:nvPr/>
          </p:nvSpPr>
          <p:spPr>
            <a:xfrm>
              <a:off x="2095560" y="4996080"/>
              <a:ext cx="77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Lato"/>
                </a:rPr>
                <a:t>04</a:t>
              </a:r>
              <a:endParaRPr b="0" lang="en-US" sz="2400" spc="-1" strike="noStrike">
                <a:solidFill>
                  <a:srgbClr val="000000"/>
                </a:solidFill>
                <a:latin typeface="Calibri"/>
              </a:endParaRPr>
            </a:p>
          </p:txBody>
        </p:sp>
      </p:grpSp>
      <p:sp>
        <p:nvSpPr>
          <p:cNvPr id="2262" name="TextBox 48"/>
          <p:cNvSpPr/>
          <p:nvPr/>
        </p:nvSpPr>
        <p:spPr>
          <a:xfrm>
            <a:off x="7250040" y="1185840"/>
            <a:ext cx="4102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Roboto Black"/>
                <a:ea typeface="Roboto Black"/>
              </a:rPr>
              <a:t>Lorem </a:t>
            </a:r>
            <a:r>
              <a:rPr b="0" i="1" lang="en-GB" sz="4000" spc="-1" strike="noStrike">
                <a:solidFill>
                  <a:srgbClr val="236e96"/>
                </a:solidFill>
                <a:latin typeface="Roboto Black"/>
                <a:ea typeface="Roboto Black"/>
              </a:rPr>
              <a:t>Ipsum</a:t>
            </a:r>
            <a:r>
              <a:rPr b="0" lang="en-GB" sz="4000" spc="-1" strike="noStrike">
                <a:solidFill>
                  <a:srgbClr val="000000"/>
                </a:solidFill>
                <a:latin typeface="Roboto Black"/>
                <a:ea typeface="Roboto Black"/>
              </a:rPr>
              <a:t> Dolour</a:t>
            </a:r>
            <a:endParaRPr b="0" lang="en-US" sz="4000" spc="-1" strike="noStrike">
              <a:solidFill>
                <a:srgbClr val="000000"/>
              </a:solidFill>
              <a:latin typeface="Calibri"/>
            </a:endParaRPr>
          </a:p>
        </p:txBody>
      </p:sp>
      <p:sp>
        <p:nvSpPr>
          <p:cNvPr id="2263" name="TextBox 49"/>
          <p:cNvSpPr/>
          <p:nvPr/>
        </p:nvSpPr>
        <p:spPr>
          <a:xfrm>
            <a:off x="7250040" y="4943520"/>
            <a:ext cx="35449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 </a:t>
            </a:r>
            <a:r>
              <a:rPr b="0" lang="id-ID" sz="1100" spc="-1" strike="noStrike">
                <a:solidFill>
                  <a:srgbClr val="7f7f7f"/>
                </a:solidFill>
                <a:latin typeface="Lato"/>
              </a:rPr>
              <a:t>um,</a:t>
            </a:r>
            <a:r>
              <a:rPr b="0" lang="en-GB" sz="1100" spc="-1" strike="noStrike">
                <a:solidFill>
                  <a:srgbClr val="7f7f7f"/>
                </a:solidFill>
                <a:latin typeface="Lato"/>
              </a:rPr>
              <a:t> </a:t>
            </a:r>
            <a:r>
              <a:rPr b="0" lang="id-ID" sz="1100" spc="-1" strike="noStrike">
                <a:solidFill>
                  <a:srgbClr val="7f7f7f"/>
                </a:solidFill>
                <a:latin typeface="Lato"/>
              </a:rPr>
              <a:t>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264" name="Rectangle 52"/>
          <p:cNvSpPr/>
          <p:nvPr/>
        </p:nvSpPr>
        <p:spPr>
          <a:xfrm rot="18900000">
            <a:off x="7354800" y="3043080"/>
            <a:ext cx="541440" cy="54324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5" name="Rectangle 54"/>
          <p:cNvSpPr/>
          <p:nvPr/>
        </p:nvSpPr>
        <p:spPr>
          <a:xfrm rot="18900000">
            <a:off x="9128160" y="3042720"/>
            <a:ext cx="542880" cy="54324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6" name="TextBox 70"/>
          <p:cNvSpPr/>
          <p:nvPr/>
        </p:nvSpPr>
        <p:spPr>
          <a:xfrm>
            <a:off x="7250040" y="3130560"/>
            <a:ext cx="75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ato"/>
              </a:rPr>
              <a:t>01</a:t>
            </a:r>
            <a:endParaRPr b="0" lang="en-US" sz="1800" spc="-1" strike="noStrike">
              <a:solidFill>
                <a:srgbClr val="000000"/>
              </a:solidFill>
              <a:latin typeface="Calibri"/>
            </a:endParaRPr>
          </a:p>
        </p:txBody>
      </p:sp>
      <p:sp>
        <p:nvSpPr>
          <p:cNvPr id="2267" name="TextBox 71"/>
          <p:cNvSpPr/>
          <p:nvPr/>
        </p:nvSpPr>
        <p:spPr>
          <a:xfrm>
            <a:off x="9023400" y="3130560"/>
            <a:ext cx="75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Lato"/>
              </a:rPr>
              <a:t>02</a:t>
            </a:r>
            <a:endParaRPr b="0" lang="en-US" sz="1800" spc="-1" strike="noStrike">
              <a:solidFill>
                <a:srgbClr val="000000"/>
              </a:solidFill>
              <a:latin typeface="Calibri"/>
            </a:endParaRPr>
          </a:p>
        </p:txBody>
      </p:sp>
      <p:pic>
        <p:nvPicPr>
          <p:cNvPr id="2268" name="Group 73" descr=""/>
          <p:cNvPicPr/>
          <p:nvPr/>
        </p:nvPicPr>
        <p:blipFill>
          <a:blip r:embed="rId1"/>
          <a:stretch/>
        </p:blipFill>
        <p:spPr>
          <a:xfrm>
            <a:off x="10479240" y="298440"/>
            <a:ext cx="1218960" cy="219240"/>
          </a:xfrm>
          <a:prstGeom prst="rect">
            <a:avLst/>
          </a:prstGeom>
          <a:ln w="0">
            <a:noFill/>
          </a:ln>
        </p:spPr>
      </p:pic>
      <p:pic>
        <p:nvPicPr>
          <p:cNvPr id="2269" name="Group 77" descr=""/>
          <p:cNvPicPr/>
          <p:nvPr/>
        </p:nvPicPr>
        <p:blipFill>
          <a:blip r:embed="rId2"/>
          <a:stretch/>
        </p:blipFill>
        <p:spPr>
          <a:xfrm>
            <a:off x="11442600" y="3035160"/>
            <a:ext cx="195480" cy="78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TextBox 2"/>
          <p:cNvSpPr/>
          <p:nvPr/>
        </p:nvSpPr>
        <p:spPr>
          <a:xfrm>
            <a:off x="471600" y="2749680"/>
            <a:ext cx="336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ffffff"/>
                </a:solidFill>
                <a:latin typeface="Montserrat"/>
                <a:ea typeface="Roboto"/>
              </a:rPr>
              <a:t>01</a:t>
            </a:r>
            <a:endParaRPr b="0" lang="en-US" sz="8000" spc="-1" strike="noStrike">
              <a:solidFill>
                <a:srgbClr val="000000"/>
              </a:solidFill>
              <a:latin typeface="Calibri"/>
            </a:endParaRPr>
          </a:p>
        </p:txBody>
      </p:sp>
      <p:sp>
        <p:nvSpPr>
          <p:cNvPr id="1743" name="TextBox 4"/>
          <p:cNvSpPr/>
          <p:nvPr/>
        </p:nvSpPr>
        <p:spPr>
          <a:xfrm>
            <a:off x="111240" y="42876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COMPANY NAME</a:t>
            </a:r>
            <a:endParaRPr b="0" lang="en-US" sz="1400" spc="-1" strike="noStrike">
              <a:solidFill>
                <a:srgbClr val="000000"/>
              </a:solidFill>
              <a:latin typeface="Calibri"/>
            </a:endParaRPr>
          </a:p>
        </p:txBody>
      </p:sp>
      <p:sp>
        <p:nvSpPr>
          <p:cNvPr id="1744" name="TextBox 6"/>
          <p:cNvSpPr/>
          <p:nvPr/>
        </p:nvSpPr>
        <p:spPr>
          <a:xfrm>
            <a:off x="3576600" y="4587840"/>
            <a:ext cx="349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Roboto Black"/>
                <a:ea typeface="Roboto Black"/>
              </a:rPr>
              <a:t>Working In </a:t>
            </a:r>
            <a:r>
              <a:rPr b="0" i="1" lang="en-GB" sz="3600" spc="-1" strike="noStrike">
                <a:solidFill>
                  <a:srgbClr val="236e96"/>
                </a:solidFill>
                <a:latin typeface="Roboto Black"/>
                <a:ea typeface="Roboto Black"/>
              </a:rPr>
              <a:t>Smaller Group</a:t>
            </a:r>
            <a:endParaRPr b="0" lang="en-US" sz="3600" spc="-1" strike="noStrike">
              <a:solidFill>
                <a:srgbClr val="000000"/>
              </a:solidFill>
              <a:latin typeface="Calibri"/>
            </a:endParaRPr>
          </a:p>
        </p:txBody>
      </p:sp>
      <p:sp>
        <p:nvSpPr>
          <p:cNvPr id="1745" name="TextBox 7"/>
          <p:cNvSpPr/>
          <p:nvPr/>
        </p:nvSpPr>
        <p:spPr>
          <a:xfrm>
            <a:off x="7829640" y="4603680"/>
            <a:ext cx="323064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 quae ab illo inventore veritatis et quasi architecto beatae vitaecal dicta sunt</a:t>
            </a:r>
            <a:r>
              <a:rPr b="0" lang="en-GB" sz="1100" spc="-1" strike="noStrike">
                <a:solidFill>
                  <a:srgbClr val="7f7f7f"/>
                </a:solidFill>
                <a:latin typeface="Lato"/>
              </a:rPr>
              <a:t>.</a:t>
            </a:r>
            <a:endParaRPr b="0" lang="en-US" sz="1100" spc="-1" strike="noStrike">
              <a:solidFill>
                <a:srgbClr val="000000"/>
              </a:solidFill>
              <a:latin typeface="Calibri"/>
            </a:endParaRPr>
          </a:p>
        </p:txBody>
      </p:sp>
      <p:grpSp>
        <p:nvGrpSpPr>
          <p:cNvPr id="1746" name="Group 8"/>
          <p:cNvGrpSpPr/>
          <p:nvPr/>
        </p:nvGrpSpPr>
        <p:grpSpPr>
          <a:xfrm>
            <a:off x="7310160" y="4946760"/>
            <a:ext cx="74520" cy="585720"/>
            <a:chOff x="7310160" y="4946760"/>
            <a:chExt cx="74520" cy="585720"/>
          </a:xfrm>
        </p:grpSpPr>
        <p:sp>
          <p:nvSpPr>
            <p:cNvPr id="1747" name="Oval 9"/>
            <p:cNvSpPr/>
            <p:nvPr/>
          </p:nvSpPr>
          <p:spPr>
            <a:xfrm rot="5400000">
              <a:off x="7309440" y="4947480"/>
              <a:ext cx="75960" cy="74520"/>
            </a:xfrm>
            <a:prstGeom prst="ellipse">
              <a:avLst/>
            </a:prstGeom>
            <a:solidFill>
              <a:srgbClr val="ffc000"/>
            </a:solidFill>
            <a:ln w="0">
              <a:noFill/>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8" name="Oval 10"/>
            <p:cNvSpPr/>
            <p:nvPr/>
          </p:nvSpPr>
          <p:spPr>
            <a:xfrm rot="5400000">
              <a:off x="7309440" y="5202360"/>
              <a:ext cx="75960" cy="74520"/>
            </a:xfrm>
            <a:prstGeom prst="ellipse">
              <a:avLst/>
            </a:prstGeom>
            <a:solidFill>
              <a:srgbClr val="ffc000"/>
            </a:solidFill>
            <a:ln w="0">
              <a:noFill/>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9" name="Oval 11"/>
            <p:cNvSpPr/>
            <p:nvPr/>
          </p:nvSpPr>
          <p:spPr>
            <a:xfrm rot="5400000">
              <a:off x="7309440" y="5457240"/>
              <a:ext cx="75960" cy="74520"/>
            </a:xfrm>
            <a:prstGeom prst="ellipse">
              <a:avLst/>
            </a:prstGeom>
            <a:solidFill>
              <a:srgbClr val="ffc000"/>
            </a:solidFill>
            <a:ln w="0">
              <a:noFill/>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50" name="Group 13"/>
          <p:cNvGrpSpPr/>
          <p:nvPr/>
        </p:nvGrpSpPr>
        <p:grpSpPr>
          <a:xfrm>
            <a:off x="912960" y="6278400"/>
            <a:ext cx="1222200" cy="217800"/>
            <a:chOff x="912960" y="6278400"/>
            <a:chExt cx="1222200" cy="217800"/>
          </a:xfrm>
        </p:grpSpPr>
        <p:sp>
          <p:nvSpPr>
            <p:cNvPr id="1751" name="Freeform: Shape 14"/>
            <p:cNvSpPr/>
            <p:nvPr/>
          </p:nvSpPr>
          <p:spPr>
            <a:xfrm>
              <a:off x="912960" y="6303240"/>
              <a:ext cx="209520" cy="168120"/>
            </a:xfrm>
            <a:custGeom>
              <a:avLst/>
              <a:gdLst/>
              <a:ahLst/>
              <a:rect l="l" t="t" r="r" b="b"/>
              <a:pathLst>
                <a:path w="284872" h="228985">
                  <a:moveTo>
                    <a:pt x="238095" y="19069"/>
                  </a:moveTo>
                  <a:cubicBezTo>
                    <a:pt x="207125" y="-16883"/>
                    <a:pt x="130957" y="-3330"/>
                    <a:pt x="136129" y="71103"/>
                  </a:cubicBezTo>
                  <a:cubicBezTo>
                    <a:pt x="136129" y="71103"/>
                    <a:pt x="93556" y="81090"/>
                    <a:pt x="20498" y="16967"/>
                  </a:cubicBezTo>
                  <a:cubicBezTo>
                    <a:pt x="20498" y="16967"/>
                    <a:pt x="8819" y="55654"/>
                    <a:pt x="33522" y="87716"/>
                  </a:cubicBezTo>
                  <a:cubicBezTo>
                    <a:pt x="33522" y="87716"/>
                    <a:pt x="21921" y="89843"/>
                    <a:pt x="9461" y="84243"/>
                  </a:cubicBezTo>
                  <a:cubicBezTo>
                    <a:pt x="9461" y="84243"/>
                    <a:pt x="11037" y="124188"/>
                    <a:pt x="53085" y="137854"/>
                  </a:cubicBezTo>
                  <a:cubicBezTo>
                    <a:pt x="53085" y="137854"/>
                    <a:pt x="41522" y="143109"/>
                    <a:pt x="33113" y="142584"/>
                  </a:cubicBezTo>
                  <a:cubicBezTo>
                    <a:pt x="33113" y="142584"/>
                    <a:pt x="42048" y="173068"/>
                    <a:pt x="79890" y="176222"/>
                  </a:cubicBezTo>
                  <a:cubicBezTo>
                    <a:pt x="79890" y="176222"/>
                    <a:pt x="61495" y="210385"/>
                    <a:pt x="0" y="206706"/>
                  </a:cubicBezTo>
                  <a:cubicBezTo>
                    <a:pt x="77218" y="253969"/>
                    <a:pt x="259204" y="235498"/>
                    <a:pt x="249995" y="58261"/>
                  </a:cubicBezTo>
                  <a:lnTo>
                    <a:pt x="284873" y="29056"/>
                  </a:lnTo>
                  <a:lnTo>
                    <a:pt x="254388" y="35363"/>
                  </a:lnTo>
                  <a:lnTo>
                    <a:pt x="279091" y="6980"/>
                  </a:lnTo>
                  <a:lnTo>
                    <a:pt x="238095" y="190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52" name="Freeform: Shape 15"/>
            <p:cNvSpPr/>
            <p:nvPr/>
          </p:nvSpPr>
          <p:spPr>
            <a:xfrm>
              <a:off x="1479960" y="6278400"/>
              <a:ext cx="104040" cy="217800"/>
            </a:xfrm>
            <a:custGeom>
              <a:avLst/>
              <a:gdLst/>
              <a:ahLst/>
              <a:rect l="l" t="t" r="r" b="b"/>
              <a:pathLst>
                <a:path w="141378" h="296691">
                  <a:moveTo>
                    <a:pt x="84616" y="0"/>
                  </a:moveTo>
                  <a:cubicBezTo>
                    <a:pt x="62843" y="0"/>
                    <a:pt x="33105" y="21479"/>
                    <a:pt x="33105" y="52031"/>
                  </a:cubicBezTo>
                  <a:lnTo>
                    <a:pt x="33105" y="78567"/>
                  </a:lnTo>
                  <a:lnTo>
                    <a:pt x="33105" y="91705"/>
                  </a:lnTo>
                  <a:lnTo>
                    <a:pt x="0" y="91705"/>
                  </a:lnTo>
                  <a:lnTo>
                    <a:pt x="0" y="150061"/>
                  </a:lnTo>
                  <a:lnTo>
                    <a:pt x="33105" y="150061"/>
                  </a:lnTo>
                  <a:lnTo>
                    <a:pt x="33105" y="296692"/>
                  </a:lnTo>
                  <a:lnTo>
                    <a:pt x="88827" y="296692"/>
                  </a:lnTo>
                  <a:lnTo>
                    <a:pt x="88827" y="150061"/>
                  </a:lnTo>
                  <a:lnTo>
                    <a:pt x="139281" y="150061"/>
                  </a:lnTo>
                  <a:lnTo>
                    <a:pt x="139281" y="91705"/>
                  </a:lnTo>
                  <a:lnTo>
                    <a:pt x="88827" y="91705"/>
                  </a:lnTo>
                  <a:lnTo>
                    <a:pt x="88827" y="78567"/>
                  </a:lnTo>
                  <a:lnTo>
                    <a:pt x="88827" y="61495"/>
                  </a:lnTo>
                  <a:cubicBezTo>
                    <a:pt x="88827" y="56187"/>
                    <a:pt x="90423" y="48877"/>
                    <a:pt x="101445" y="48877"/>
                  </a:cubicBezTo>
                  <a:lnTo>
                    <a:pt x="141379" y="48877"/>
                  </a:lnTo>
                  <a:lnTo>
                    <a:pt x="141379" y="0"/>
                  </a:lnTo>
                  <a:lnTo>
                    <a:pt x="8461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53" name="Freeform: Shape 16"/>
            <p:cNvSpPr/>
            <p:nvPr/>
          </p:nvSpPr>
          <p:spPr>
            <a:xfrm>
              <a:off x="1961640" y="6301800"/>
              <a:ext cx="173520" cy="171000"/>
            </a:xfrm>
            <a:custGeom>
              <a:avLst/>
              <a:gdLst/>
              <a:ahLst/>
              <a:rect l="l" t="t" r="r" b="b"/>
              <a:pathLst>
                <a:path w="235575" h="232738">
                  <a:moveTo>
                    <a:pt x="56039" y="0"/>
                  </a:moveTo>
                  <a:cubicBezTo>
                    <a:pt x="25194" y="0"/>
                    <a:pt x="0" y="25193"/>
                    <a:pt x="0" y="56039"/>
                  </a:cubicBezTo>
                  <a:lnTo>
                    <a:pt x="0" y="176685"/>
                  </a:lnTo>
                  <a:cubicBezTo>
                    <a:pt x="0" y="207530"/>
                    <a:pt x="25194" y="232738"/>
                    <a:pt x="56039" y="232738"/>
                  </a:cubicBezTo>
                  <a:lnTo>
                    <a:pt x="179522" y="232738"/>
                  </a:lnTo>
                  <a:cubicBezTo>
                    <a:pt x="210367" y="232738"/>
                    <a:pt x="235575" y="207530"/>
                    <a:pt x="235575" y="176685"/>
                  </a:cubicBezTo>
                  <a:lnTo>
                    <a:pt x="235575" y="56039"/>
                  </a:lnTo>
                  <a:cubicBezTo>
                    <a:pt x="235575" y="25193"/>
                    <a:pt x="210367" y="0"/>
                    <a:pt x="179522" y="0"/>
                  </a:cubicBezTo>
                  <a:lnTo>
                    <a:pt x="56039" y="0"/>
                  </a:lnTo>
                  <a:close/>
                  <a:moveTo>
                    <a:pt x="56039" y="22706"/>
                  </a:moveTo>
                  <a:lnTo>
                    <a:pt x="179522" y="22706"/>
                  </a:lnTo>
                  <a:cubicBezTo>
                    <a:pt x="198156" y="22706"/>
                    <a:pt x="212854" y="37404"/>
                    <a:pt x="212854" y="56039"/>
                  </a:cubicBezTo>
                  <a:lnTo>
                    <a:pt x="212854" y="176685"/>
                  </a:lnTo>
                  <a:cubicBezTo>
                    <a:pt x="212854" y="195319"/>
                    <a:pt x="198156" y="209958"/>
                    <a:pt x="179522" y="209958"/>
                  </a:cubicBezTo>
                  <a:lnTo>
                    <a:pt x="56039" y="209958"/>
                  </a:lnTo>
                  <a:cubicBezTo>
                    <a:pt x="37405" y="209958"/>
                    <a:pt x="22765" y="195319"/>
                    <a:pt x="22765" y="176685"/>
                  </a:cubicBezTo>
                  <a:lnTo>
                    <a:pt x="22765" y="56039"/>
                  </a:lnTo>
                  <a:cubicBezTo>
                    <a:pt x="22765" y="37404"/>
                    <a:pt x="37405" y="22706"/>
                    <a:pt x="56039" y="22706"/>
                  </a:cubicBezTo>
                  <a:close/>
                  <a:moveTo>
                    <a:pt x="180271" y="39902"/>
                  </a:moveTo>
                  <a:cubicBezTo>
                    <a:pt x="171501" y="39898"/>
                    <a:pt x="164388" y="47004"/>
                    <a:pt x="164384" y="55774"/>
                  </a:cubicBezTo>
                  <a:cubicBezTo>
                    <a:pt x="164380" y="64544"/>
                    <a:pt x="171486" y="71657"/>
                    <a:pt x="180257" y="71661"/>
                  </a:cubicBezTo>
                  <a:cubicBezTo>
                    <a:pt x="180262" y="71661"/>
                    <a:pt x="180266" y="71661"/>
                    <a:pt x="180271" y="71661"/>
                  </a:cubicBezTo>
                  <a:cubicBezTo>
                    <a:pt x="189041" y="71657"/>
                    <a:pt x="196147" y="64544"/>
                    <a:pt x="196144" y="55774"/>
                  </a:cubicBezTo>
                  <a:cubicBezTo>
                    <a:pt x="196139" y="47010"/>
                    <a:pt x="189035" y="39906"/>
                    <a:pt x="180271" y="39902"/>
                  </a:cubicBezTo>
                  <a:close/>
                  <a:moveTo>
                    <a:pt x="117810" y="56260"/>
                  </a:moveTo>
                  <a:cubicBezTo>
                    <a:pt x="84731" y="56260"/>
                    <a:pt x="57714" y="83290"/>
                    <a:pt x="57714" y="116369"/>
                  </a:cubicBezTo>
                  <a:cubicBezTo>
                    <a:pt x="57714" y="149448"/>
                    <a:pt x="84731" y="176406"/>
                    <a:pt x="117810" y="176406"/>
                  </a:cubicBezTo>
                  <a:cubicBezTo>
                    <a:pt x="150888" y="176406"/>
                    <a:pt x="177861" y="149448"/>
                    <a:pt x="177861" y="116369"/>
                  </a:cubicBezTo>
                  <a:cubicBezTo>
                    <a:pt x="177861" y="83290"/>
                    <a:pt x="150888" y="56260"/>
                    <a:pt x="117810" y="56260"/>
                  </a:cubicBezTo>
                  <a:close/>
                  <a:moveTo>
                    <a:pt x="117810" y="73322"/>
                  </a:moveTo>
                  <a:cubicBezTo>
                    <a:pt x="141666" y="73322"/>
                    <a:pt x="160812" y="92512"/>
                    <a:pt x="160812" y="116369"/>
                  </a:cubicBezTo>
                  <a:cubicBezTo>
                    <a:pt x="160812" y="140226"/>
                    <a:pt x="141666" y="159358"/>
                    <a:pt x="117810" y="159358"/>
                  </a:cubicBezTo>
                  <a:cubicBezTo>
                    <a:pt x="93953" y="159358"/>
                    <a:pt x="74763" y="140226"/>
                    <a:pt x="74763" y="116369"/>
                  </a:cubicBezTo>
                  <a:cubicBezTo>
                    <a:pt x="74763" y="92512"/>
                    <a:pt x="93953" y="73322"/>
                    <a:pt x="117810" y="733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1754" name="Graphic 17" descr=""/>
          <p:cNvPicPr/>
          <p:nvPr/>
        </p:nvPicPr>
        <p:blipFill>
          <a:blip r:embed="rId1"/>
          <a:stretch/>
        </p:blipFill>
        <p:spPr>
          <a:xfrm>
            <a:off x="11471400" y="378000"/>
            <a:ext cx="366480" cy="368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Freeform: Shape 3"/>
          <p:cNvSpPr/>
          <p:nvPr/>
        </p:nvSpPr>
        <p:spPr>
          <a:xfrm>
            <a:off x="3932280" y="1300320"/>
            <a:ext cx="2415960" cy="3444840"/>
          </a:xfrm>
          <a:custGeom>
            <a:avLst/>
            <a:gdLst/>
            <a:ahLst/>
            <a:rect l="l" t="t" r="r" b="b"/>
            <a:pathLst>
              <a:path w="2416223" h="3443566">
                <a:moveTo>
                  <a:pt x="1857338" y="0"/>
                </a:moveTo>
                <a:lnTo>
                  <a:pt x="1857338" y="232098"/>
                </a:lnTo>
                <a:cubicBezTo>
                  <a:pt x="795112" y="375021"/>
                  <a:pt x="1797" y="1280693"/>
                  <a:pt x="0" y="2352489"/>
                </a:cubicBezTo>
                <a:cubicBezTo>
                  <a:pt x="862" y="2736619"/>
                  <a:pt x="104952" y="3113455"/>
                  <a:pt x="301377" y="3443566"/>
                </a:cubicBezTo>
                <a:lnTo>
                  <a:pt x="655736" y="2751218"/>
                </a:lnTo>
                <a:lnTo>
                  <a:pt x="1357331" y="2786677"/>
                </a:lnTo>
                <a:cubicBezTo>
                  <a:pt x="1283820" y="2653764"/>
                  <a:pt x="1245224" y="2504377"/>
                  <a:pt x="1245152" y="2352489"/>
                </a:cubicBezTo>
                <a:cubicBezTo>
                  <a:pt x="1245462" y="1966945"/>
                  <a:pt x="1491842" y="1624625"/>
                  <a:pt x="1857338" y="1501918"/>
                </a:cubicBezTo>
                <a:lnTo>
                  <a:pt x="1857338" y="1728137"/>
                </a:lnTo>
                <a:lnTo>
                  <a:pt x="2416224" y="864059"/>
                </a:lnTo>
                <a:lnTo>
                  <a:pt x="1857338"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1" name="Freeform: Shape 4"/>
          <p:cNvSpPr/>
          <p:nvPr/>
        </p:nvSpPr>
        <p:spPr>
          <a:xfrm>
            <a:off x="6054840" y="1509840"/>
            <a:ext cx="2205000" cy="3124080"/>
          </a:xfrm>
          <a:custGeom>
            <a:avLst/>
            <a:gdLst/>
            <a:ahLst/>
            <a:rect l="l" t="t" r="r" b="b"/>
            <a:pathLst>
              <a:path w="2204795" h="3122917">
                <a:moveTo>
                  <a:pt x="21246" y="0"/>
                </a:moveTo>
                <a:cubicBezTo>
                  <a:pt x="14163" y="213"/>
                  <a:pt x="7081" y="462"/>
                  <a:pt x="0" y="745"/>
                </a:cubicBezTo>
                <a:lnTo>
                  <a:pt x="423006" y="654678"/>
                </a:lnTo>
                <a:lnTo>
                  <a:pt x="40630" y="1245823"/>
                </a:lnTo>
                <a:cubicBezTo>
                  <a:pt x="528724" y="1256360"/>
                  <a:pt x="918978" y="1654919"/>
                  <a:pt x="919237" y="2143127"/>
                </a:cubicBezTo>
                <a:cubicBezTo>
                  <a:pt x="918846" y="2201910"/>
                  <a:pt x="912683" y="2260513"/>
                  <a:pt x="900838" y="2318092"/>
                </a:cubicBezTo>
                <a:lnTo>
                  <a:pt x="708180" y="2206862"/>
                </a:lnTo>
                <a:lnTo>
                  <a:pt x="1177044" y="3122917"/>
                </a:lnTo>
                <a:lnTo>
                  <a:pt x="2204796" y="3070940"/>
                </a:lnTo>
                <a:lnTo>
                  <a:pt x="2003524" y="2954742"/>
                </a:lnTo>
                <a:cubicBezTo>
                  <a:pt x="2109350" y="2697220"/>
                  <a:pt x="2163984" y="2421545"/>
                  <a:pt x="2164371" y="2143127"/>
                </a:cubicBezTo>
                <a:cubicBezTo>
                  <a:pt x="2164371" y="959511"/>
                  <a:pt x="1204861" y="1"/>
                  <a:pt x="21246" y="1"/>
                </a:cubicBezTo>
                <a:lnTo>
                  <a:pt x="21246" y="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2" name="Freeform: Shape 5"/>
          <p:cNvSpPr/>
          <p:nvPr/>
        </p:nvSpPr>
        <p:spPr>
          <a:xfrm>
            <a:off x="4183200" y="4114800"/>
            <a:ext cx="3759120" cy="1681200"/>
          </a:xfrm>
          <a:custGeom>
            <a:avLst/>
            <a:gdLst/>
            <a:ahLst/>
            <a:rect l="l" t="t" r="r" b="b"/>
            <a:pathLst>
              <a:path w="3757630" h="1681627">
                <a:moveTo>
                  <a:pt x="2661158" y="0"/>
                </a:moveTo>
                <a:cubicBezTo>
                  <a:pt x="2499146" y="270432"/>
                  <a:pt x="2207189" y="436104"/>
                  <a:pt x="1891941" y="436493"/>
                </a:cubicBezTo>
                <a:cubicBezTo>
                  <a:pt x="1674510" y="436108"/>
                  <a:pt x="1464603" y="356845"/>
                  <a:pt x="1301186" y="213419"/>
                </a:cubicBezTo>
                <a:lnTo>
                  <a:pt x="1496616" y="100589"/>
                </a:lnTo>
                <a:lnTo>
                  <a:pt x="468864" y="48611"/>
                </a:lnTo>
                <a:lnTo>
                  <a:pt x="0" y="964666"/>
                </a:lnTo>
                <a:lnTo>
                  <a:pt x="199708" y="849361"/>
                </a:lnTo>
                <a:cubicBezTo>
                  <a:pt x="604859" y="1373389"/>
                  <a:pt x="1229557" y="1680625"/>
                  <a:pt x="1891940" y="1681627"/>
                </a:cubicBezTo>
                <a:cubicBezTo>
                  <a:pt x="2665126" y="1681104"/>
                  <a:pt x="3378086" y="1264149"/>
                  <a:pt x="3757631" y="590531"/>
                </a:cubicBezTo>
                <a:lnTo>
                  <a:pt x="2983409" y="629673"/>
                </a:lnTo>
                <a:lnTo>
                  <a:pt x="2661158" y="0"/>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3" name="TextBox 6"/>
          <p:cNvSpPr/>
          <p:nvPr/>
        </p:nvSpPr>
        <p:spPr>
          <a:xfrm>
            <a:off x="1033560" y="4406760"/>
            <a:ext cx="19778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274" name="TextBox 7"/>
          <p:cNvSpPr/>
          <p:nvPr/>
        </p:nvSpPr>
        <p:spPr>
          <a:xfrm>
            <a:off x="1033560" y="396252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275" name="TextBox 13"/>
          <p:cNvSpPr/>
          <p:nvPr/>
        </p:nvSpPr>
        <p:spPr>
          <a:xfrm>
            <a:off x="9074160" y="4616280"/>
            <a:ext cx="19778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276" name="TextBox 14"/>
          <p:cNvSpPr/>
          <p:nvPr/>
        </p:nvSpPr>
        <p:spPr>
          <a:xfrm>
            <a:off x="9074160" y="417204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277" name="TextBox 19"/>
          <p:cNvSpPr/>
          <p:nvPr/>
        </p:nvSpPr>
        <p:spPr>
          <a:xfrm>
            <a:off x="9074160" y="2292480"/>
            <a:ext cx="19778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278" name="TextBox 20"/>
          <p:cNvSpPr/>
          <p:nvPr/>
        </p:nvSpPr>
        <p:spPr>
          <a:xfrm>
            <a:off x="9074160" y="184788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279" name="TextBox 25"/>
          <p:cNvSpPr/>
          <p:nvPr/>
        </p:nvSpPr>
        <p:spPr>
          <a:xfrm>
            <a:off x="1033560" y="1771560"/>
            <a:ext cx="289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Roboto Black"/>
                <a:ea typeface="Roboto Black"/>
              </a:rPr>
              <a:t>Data Infographic</a:t>
            </a:r>
            <a:endParaRPr b="0" lang="en-US" sz="3200" spc="-1" strike="noStrike">
              <a:solidFill>
                <a:srgbClr val="000000"/>
              </a:solidFill>
              <a:latin typeface="Calibri"/>
            </a:endParaRPr>
          </a:p>
        </p:txBody>
      </p:sp>
      <p:sp>
        <p:nvSpPr>
          <p:cNvPr id="2280" name="TextBox 27"/>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281" name="Rectangle 31"/>
          <p:cNvSpPr/>
          <p:nvPr/>
        </p:nvSpPr>
        <p:spPr>
          <a:xfrm>
            <a:off x="0" y="6157800"/>
            <a:ext cx="2135160" cy="7002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82" name="Group 32"/>
          <p:cNvGrpSpPr/>
          <p:nvPr/>
        </p:nvGrpSpPr>
        <p:grpSpPr>
          <a:xfrm>
            <a:off x="457200" y="6399360"/>
            <a:ext cx="1220760" cy="217440"/>
            <a:chOff x="457200" y="6399360"/>
            <a:chExt cx="1220760" cy="217440"/>
          </a:xfrm>
        </p:grpSpPr>
        <p:sp>
          <p:nvSpPr>
            <p:cNvPr id="2283" name="Freeform: Shape 33"/>
            <p:cNvSpPr/>
            <p:nvPr/>
          </p:nvSpPr>
          <p:spPr>
            <a:xfrm>
              <a:off x="457200" y="6424200"/>
              <a:ext cx="209520" cy="167760"/>
            </a:xfrm>
            <a:custGeom>
              <a:avLst/>
              <a:gdLst/>
              <a:ahLst/>
              <a:rect l="l" t="t" r="r" b="b"/>
              <a:pathLst>
                <a:path w="284872" h="228985">
                  <a:moveTo>
                    <a:pt x="238095" y="19069"/>
                  </a:moveTo>
                  <a:cubicBezTo>
                    <a:pt x="207125" y="-16883"/>
                    <a:pt x="130957" y="-3330"/>
                    <a:pt x="136129" y="71103"/>
                  </a:cubicBezTo>
                  <a:cubicBezTo>
                    <a:pt x="136129" y="71103"/>
                    <a:pt x="93556" y="81090"/>
                    <a:pt x="20498" y="16967"/>
                  </a:cubicBezTo>
                  <a:cubicBezTo>
                    <a:pt x="20498" y="16967"/>
                    <a:pt x="8819" y="55654"/>
                    <a:pt x="33522" y="87716"/>
                  </a:cubicBezTo>
                  <a:cubicBezTo>
                    <a:pt x="33522" y="87716"/>
                    <a:pt x="21921" y="89843"/>
                    <a:pt x="9461" y="84243"/>
                  </a:cubicBezTo>
                  <a:cubicBezTo>
                    <a:pt x="9461" y="84243"/>
                    <a:pt x="11037" y="124188"/>
                    <a:pt x="53085" y="137854"/>
                  </a:cubicBezTo>
                  <a:cubicBezTo>
                    <a:pt x="53085" y="137854"/>
                    <a:pt x="41522" y="143109"/>
                    <a:pt x="33113" y="142584"/>
                  </a:cubicBezTo>
                  <a:cubicBezTo>
                    <a:pt x="33113" y="142584"/>
                    <a:pt x="42048" y="173068"/>
                    <a:pt x="79890" y="176222"/>
                  </a:cubicBezTo>
                  <a:cubicBezTo>
                    <a:pt x="79890" y="176222"/>
                    <a:pt x="61495" y="210385"/>
                    <a:pt x="0" y="206706"/>
                  </a:cubicBezTo>
                  <a:cubicBezTo>
                    <a:pt x="77218" y="253969"/>
                    <a:pt x="259204" y="235498"/>
                    <a:pt x="249995" y="58261"/>
                  </a:cubicBezTo>
                  <a:lnTo>
                    <a:pt x="284873" y="29056"/>
                  </a:lnTo>
                  <a:lnTo>
                    <a:pt x="254388" y="35363"/>
                  </a:lnTo>
                  <a:lnTo>
                    <a:pt x="279091" y="6980"/>
                  </a:lnTo>
                  <a:lnTo>
                    <a:pt x="238095" y="190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84" name="Freeform: Shape 34"/>
            <p:cNvSpPr/>
            <p:nvPr/>
          </p:nvSpPr>
          <p:spPr>
            <a:xfrm>
              <a:off x="1023480" y="6399360"/>
              <a:ext cx="103680" cy="217440"/>
            </a:xfrm>
            <a:custGeom>
              <a:avLst/>
              <a:gdLst/>
              <a:ahLst/>
              <a:rect l="l" t="t" r="r" b="b"/>
              <a:pathLst>
                <a:path w="141378" h="296691">
                  <a:moveTo>
                    <a:pt x="84616" y="0"/>
                  </a:moveTo>
                  <a:cubicBezTo>
                    <a:pt x="62843" y="0"/>
                    <a:pt x="33105" y="21479"/>
                    <a:pt x="33105" y="52031"/>
                  </a:cubicBezTo>
                  <a:lnTo>
                    <a:pt x="33105" y="78567"/>
                  </a:lnTo>
                  <a:lnTo>
                    <a:pt x="33105" y="91705"/>
                  </a:lnTo>
                  <a:lnTo>
                    <a:pt x="0" y="91705"/>
                  </a:lnTo>
                  <a:lnTo>
                    <a:pt x="0" y="150061"/>
                  </a:lnTo>
                  <a:lnTo>
                    <a:pt x="33105" y="150061"/>
                  </a:lnTo>
                  <a:lnTo>
                    <a:pt x="33105" y="296692"/>
                  </a:lnTo>
                  <a:lnTo>
                    <a:pt x="88827" y="296692"/>
                  </a:lnTo>
                  <a:lnTo>
                    <a:pt x="88827" y="150061"/>
                  </a:lnTo>
                  <a:lnTo>
                    <a:pt x="139281" y="150061"/>
                  </a:lnTo>
                  <a:lnTo>
                    <a:pt x="139281" y="91705"/>
                  </a:lnTo>
                  <a:lnTo>
                    <a:pt x="88827" y="91705"/>
                  </a:lnTo>
                  <a:lnTo>
                    <a:pt x="88827" y="78567"/>
                  </a:lnTo>
                  <a:lnTo>
                    <a:pt x="88827" y="61495"/>
                  </a:lnTo>
                  <a:cubicBezTo>
                    <a:pt x="88827" y="56187"/>
                    <a:pt x="90423" y="48877"/>
                    <a:pt x="101445" y="48877"/>
                  </a:cubicBezTo>
                  <a:lnTo>
                    <a:pt x="141379" y="48877"/>
                  </a:lnTo>
                  <a:lnTo>
                    <a:pt x="141379" y="0"/>
                  </a:lnTo>
                  <a:lnTo>
                    <a:pt x="8461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85" name="Freeform: Shape 35"/>
            <p:cNvSpPr/>
            <p:nvPr/>
          </p:nvSpPr>
          <p:spPr>
            <a:xfrm>
              <a:off x="1504800" y="6422760"/>
              <a:ext cx="173160" cy="170640"/>
            </a:xfrm>
            <a:custGeom>
              <a:avLst/>
              <a:gdLst/>
              <a:ahLst/>
              <a:rect l="l" t="t" r="r" b="b"/>
              <a:pathLst>
                <a:path w="235575" h="232738">
                  <a:moveTo>
                    <a:pt x="56039" y="0"/>
                  </a:moveTo>
                  <a:cubicBezTo>
                    <a:pt x="25194" y="0"/>
                    <a:pt x="0" y="25193"/>
                    <a:pt x="0" y="56039"/>
                  </a:cubicBezTo>
                  <a:lnTo>
                    <a:pt x="0" y="176685"/>
                  </a:lnTo>
                  <a:cubicBezTo>
                    <a:pt x="0" y="207530"/>
                    <a:pt x="25194" y="232738"/>
                    <a:pt x="56039" y="232738"/>
                  </a:cubicBezTo>
                  <a:lnTo>
                    <a:pt x="179522" y="232738"/>
                  </a:lnTo>
                  <a:cubicBezTo>
                    <a:pt x="210367" y="232738"/>
                    <a:pt x="235575" y="207530"/>
                    <a:pt x="235575" y="176685"/>
                  </a:cubicBezTo>
                  <a:lnTo>
                    <a:pt x="235575" y="56039"/>
                  </a:lnTo>
                  <a:cubicBezTo>
                    <a:pt x="235575" y="25193"/>
                    <a:pt x="210367" y="0"/>
                    <a:pt x="179522" y="0"/>
                  </a:cubicBezTo>
                  <a:lnTo>
                    <a:pt x="56039" y="0"/>
                  </a:lnTo>
                  <a:close/>
                  <a:moveTo>
                    <a:pt x="56039" y="22706"/>
                  </a:moveTo>
                  <a:lnTo>
                    <a:pt x="179522" y="22706"/>
                  </a:lnTo>
                  <a:cubicBezTo>
                    <a:pt x="198156" y="22706"/>
                    <a:pt x="212854" y="37404"/>
                    <a:pt x="212854" y="56039"/>
                  </a:cubicBezTo>
                  <a:lnTo>
                    <a:pt x="212854" y="176685"/>
                  </a:lnTo>
                  <a:cubicBezTo>
                    <a:pt x="212854" y="195319"/>
                    <a:pt x="198156" y="209958"/>
                    <a:pt x="179522" y="209958"/>
                  </a:cubicBezTo>
                  <a:lnTo>
                    <a:pt x="56039" y="209958"/>
                  </a:lnTo>
                  <a:cubicBezTo>
                    <a:pt x="37405" y="209958"/>
                    <a:pt x="22765" y="195319"/>
                    <a:pt x="22765" y="176685"/>
                  </a:cubicBezTo>
                  <a:lnTo>
                    <a:pt x="22765" y="56039"/>
                  </a:lnTo>
                  <a:cubicBezTo>
                    <a:pt x="22765" y="37404"/>
                    <a:pt x="37405" y="22706"/>
                    <a:pt x="56039" y="22706"/>
                  </a:cubicBezTo>
                  <a:close/>
                  <a:moveTo>
                    <a:pt x="180271" y="39902"/>
                  </a:moveTo>
                  <a:cubicBezTo>
                    <a:pt x="171501" y="39898"/>
                    <a:pt x="164388" y="47004"/>
                    <a:pt x="164384" y="55774"/>
                  </a:cubicBezTo>
                  <a:cubicBezTo>
                    <a:pt x="164380" y="64544"/>
                    <a:pt x="171486" y="71657"/>
                    <a:pt x="180257" y="71661"/>
                  </a:cubicBezTo>
                  <a:cubicBezTo>
                    <a:pt x="180262" y="71661"/>
                    <a:pt x="180266" y="71661"/>
                    <a:pt x="180271" y="71661"/>
                  </a:cubicBezTo>
                  <a:cubicBezTo>
                    <a:pt x="189041" y="71657"/>
                    <a:pt x="196147" y="64544"/>
                    <a:pt x="196144" y="55774"/>
                  </a:cubicBezTo>
                  <a:cubicBezTo>
                    <a:pt x="196139" y="47010"/>
                    <a:pt x="189035" y="39906"/>
                    <a:pt x="180271" y="39902"/>
                  </a:cubicBezTo>
                  <a:close/>
                  <a:moveTo>
                    <a:pt x="117810" y="56260"/>
                  </a:moveTo>
                  <a:cubicBezTo>
                    <a:pt x="84731" y="56260"/>
                    <a:pt x="57714" y="83290"/>
                    <a:pt x="57714" y="116369"/>
                  </a:cubicBezTo>
                  <a:cubicBezTo>
                    <a:pt x="57714" y="149448"/>
                    <a:pt x="84731" y="176406"/>
                    <a:pt x="117810" y="176406"/>
                  </a:cubicBezTo>
                  <a:cubicBezTo>
                    <a:pt x="150888" y="176406"/>
                    <a:pt x="177861" y="149448"/>
                    <a:pt x="177861" y="116369"/>
                  </a:cubicBezTo>
                  <a:cubicBezTo>
                    <a:pt x="177861" y="83290"/>
                    <a:pt x="150888" y="56260"/>
                    <a:pt x="117810" y="56260"/>
                  </a:cubicBezTo>
                  <a:close/>
                  <a:moveTo>
                    <a:pt x="117810" y="73322"/>
                  </a:moveTo>
                  <a:cubicBezTo>
                    <a:pt x="141666" y="73322"/>
                    <a:pt x="160812" y="92512"/>
                    <a:pt x="160812" y="116369"/>
                  </a:cubicBezTo>
                  <a:cubicBezTo>
                    <a:pt x="160812" y="140226"/>
                    <a:pt x="141666" y="159358"/>
                    <a:pt x="117810" y="159358"/>
                  </a:cubicBezTo>
                  <a:cubicBezTo>
                    <a:pt x="93953" y="159358"/>
                    <a:pt x="74763" y="140226"/>
                    <a:pt x="74763" y="116369"/>
                  </a:cubicBezTo>
                  <a:cubicBezTo>
                    <a:pt x="74763" y="92512"/>
                    <a:pt x="93953" y="73322"/>
                    <a:pt x="117810" y="733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286" name="Rectangle: Rounded Corners 36"/>
          <p:cNvSpPr/>
          <p:nvPr/>
        </p:nvSpPr>
        <p:spPr>
          <a:xfrm>
            <a:off x="1096344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7" name="Rectangle: Rounded Corners 37"/>
          <p:cNvSpPr/>
          <p:nvPr/>
        </p:nvSpPr>
        <p:spPr>
          <a:xfrm>
            <a:off x="11396520" y="420840"/>
            <a:ext cx="320760" cy="320400"/>
          </a:xfrm>
          <a:prstGeom prst="roundRect">
            <a:avLst>
              <a:gd name="adj" fmla="val 16667"/>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8" name="Rectangle: Rounded Corners 38"/>
          <p:cNvSpPr/>
          <p:nvPr/>
        </p:nvSpPr>
        <p:spPr>
          <a:xfrm>
            <a:off x="1053000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89" name="Graphic 24" descr=""/>
          <p:cNvPicPr/>
          <p:nvPr/>
        </p:nvPicPr>
        <p:blipFill>
          <a:blip r:embed="rId1"/>
          <a:stretch/>
        </p:blipFill>
        <p:spPr>
          <a:xfrm>
            <a:off x="363600" y="369720"/>
            <a:ext cx="366480" cy="366840"/>
          </a:xfrm>
          <a:prstGeom prst="rect">
            <a:avLst/>
          </a:prstGeom>
          <a:ln w="0">
            <a:noFill/>
          </a:ln>
        </p:spPr>
      </p:pic>
      <p:sp>
        <p:nvSpPr>
          <p:cNvPr id="2290" name="Freeform: Shape 8"/>
          <p:cNvSpPr/>
          <p:nvPr/>
        </p:nvSpPr>
        <p:spPr>
          <a:xfrm>
            <a:off x="4522680" y="2654280"/>
            <a:ext cx="596880" cy="388800"/>
          </a:xfrm>
          <a:custGeom>
            <a:avLst/>
            <a:gdLst/>
            <a:ahLst/>
            <a:rect l="l" t="t" r="r" b="b"/>
            <a:pathLst>
              <a:path w="596090" h="388638">
                <a:moveTo>
                  <a:pt x="424141" y="0"/>
                </a:moveTo>
                <a:cubicBezTo>
                  <a:pt x="417190" y="-2"/>
                  <a:pt x="411553" y="5629"/>
                  <a:pt x="411548" y="12580"/>
                </a:cubicBezTo>
                <a:lnTo>
                  <a:pt x="411548" y="372506"/>
                </a:lnTo>
                <a:cubicBezTo>
                  <a:pt x="411546" y="379458"/>
                  <a:pt x="417180" y="385097"/>
                  <a:pt x="424132" y="385099"/>
                </a:cubicBezTo>
                <a:cubicBezTo>
                  <a:pt x="424135" y="385099"/>
                  <a:pt x="424138" y="385099"/>
                  <a:pt x="424141" y="385099"/>
                </a:cubicBezTo>
                <a:lnTo>
                  <a:pt x="583497" y="385099"/>
                </a:lnTo>
                <a:cubicBezTo>
                  <a:pt x="590450" y="385102"/>
                  <a:pt x="596088" y="379467"/>
                  <a:pt x="596090" y="372515"/>
                </a:cubicBezTo>
                <a:cubicBezTo>
                  <a:pt x="596090" y="372512"/>
                  <a:pt x="596090" y="372509"/>
                  <a:pt x="596090" y="372506"/>
                </a:cubicBezTo>
                <a:lnTo>
                  <a:pt x="596090" y="12581"/>
                </a:lnTo>
                <a:cubicBezTo>
                  <a:pt x="596086" y="5630"/>
                  <a:pt x="590448" y="-2"/>
                  <a:pt x="583497" y="0"/>
                </a:cubicBezTo>
                <a:lnTo>
                  <a:pt x="424141" y="0"/>
                </a:lnTo>
                <a:close/>
                <a:moveTo>
                  <a:pt x="12580" y="677"/>
                </a:moveTo>
                <a:cubicBezTo>
                  <a:pt x="5629" y="681"/>
                  <a:pt x="-2" y="6319"/>
                  <a:pt x="0" y="13270"/>
                </a:cubicBezTo>
                <a:lnTo>
                  <a:pt x="0" y="289218"/>
                </a:lnTo>
                <a:cubicBezTo>
                  <a:pt x="5" y="296164"/>
                  <a:pt x="5634" y="301794"/>
                  <a:pt x="12580" y="301799"/>
                </a:cubicBezTo>
                <a:lnTo>
                  <a:pt x="153553" y="301799"/>
                </a:lnTo>
                <a:lnTo>
                  <a:pt x="153553" y="323043"/>
                </a:lnTo>
                <a:lnTo>
                  <a:pt x="77538" y="323043"/>
                </a:lnTo>
                <a:cubicBezTo>
                  <a:pt x="70585" y="323041"/>
                  <a:pt x="64947" y="328675"/>
                  <a:pt x="64944" y="335628"/>
                </a:cubicBezTo>
                <a:cubicBezTo>
                  <a:pt x="64944" y="335631"/>
                  <a:pt x="64944" y="335634"/>
                  <a:pt x="64944" y="335637"/>
                </a:cubicBezTo>
                <a:lnTo>
                  <a:pt x="64944" y="376045"/>
                </a:lnTo>
                <a:cubicBezTo>
                  <a:pt x="64942" y="382997"/>
                  <a:pt x="70576" y="388636"/>
                  <a:pt x="77529" y="388638"/>
                </a:cubicBezTo>
                <a:cubicBezTo>
                  <a:pt x="77532" y="388638"/>
                  <a:pt x="77535" y="388638"/>
                  <a:pt x="77538" y="388638"/>
                </a:cubicBezTo>
                <a:lnTo>
                  <a:pt x="315133" y="388638"/>
                </a:lnTo>
                <a:cubicBezTo>
                  <a:pt x="322084" y="388633"/>
                  <a:pt x="327716" y="382996"/>
                  <a:pt x="327714" y="376045"/>
                </a:cubicBezTo>
                <a:lnTo>
                  <a:pt x="327714" y="335637"/>
                </a:lnTo>
                <a:cubicBezTo>
                  <a:pt x="327716" y="328686"/>
                  <a:pt x="322084" y="323048"/>
                  <a:pt x="315133" y="323043"/>
                </a:cubicBezTo>
                <a:lnTo>
                  <a:pt x="239105" y="323043"/>
                </a:lnTo>
                <a:lnTo>
                  <a:pt x="239105" y="301799"/>
                </a:lnTo>
                <a:lnTo>
                  <a:pt x="380130" y="301799"/>
                </a:lnTo>
                <a:cubicBezTo>
                  <a:pt x="387081" y="301801"/>
                  <a:pt x="392718" y="296169"/>
                  <a:pt x="392723" y="289218"/>
                </a:cubicBezTo>
                <a:lnTo>
                  <a:pt x="392723" y="13270"/>
                </a:lnTo>
                <a:cubicBezTo>
                  <a:pt x="392726" y="6317"/>
                  <a:pt x="387091" y="679"/>
                  <a:pt x="380139" y="677"/>
                </a:cubicBezTo>
                <a:cubicBezTo>
                  <a:pt x="380136" y="677"/>
                  <a:pt x="380133" y="677"/>
                  <a:pt x="380130" y="677"/>
                </a:cubicBezTo>
                <a:lnTo>
                  <a:pt x="12580" y="677"/>
                </a:lnTo>
                <a:close/>
                <a:moveTo>
                  <a:pt x="436722" y="25174"/>
                </a:moveTo>
                <a:lnTo>
                  <a:pt x="570917" y="25174"/>
                </a:lnTo>
                <a:lnTo>
                  <a:pt x="570917" y="359926"/>
                </a:lnTo>
                <a:lnTo>
                  <a:pt x="436722" y="359926"/>
                </a:lnTo>
                <a:lnTo>
                  <a:pt x="436722" y="25174"/>
                </a:lnTo>
                <a:close/>
                <a:moveTo>
                  <a:pt x="25174" y="25863"/>
                </a:moveTo>
                <a:lnTo>
                  <a:pt x="367549" y="25863"/>
                </a:lnTo>
                <a:lnTo>
                  <a:pt x="367549" y="276625"/>
                </a:lnTo>
                <a:lnTo>
                  <a:pt x="25174" y="276625"/>
                </a:lnTo>
                <a:lnTo>
                  <a:pt x="25174" y="25863"/>
                </a:lnTo>
                <a:close/>
                <a:moveTo>
                  <a:pt x="475673" y="78618"/>
                </a:moveTo>
                <a:cubicBezTo>
                  <a:pt x="468721" y="78614"/>
                  <a:pt x="463083" y="84248"/>
                  <a:pt x="463079" y="91199"/>
                </a:cubicBezTo>
                <a:cubicBezTo>
                  <a:pt x="463079" y="91203"/>
                  <a:pt x="463079" y="91207"/>
                  <a:pt x="463079" y="91211"/>
                </a:cubicBezTo>
                <a:cubicBezTo>
                  <a:pt x="463083" y="98162"/>
                  <a:pt x="468721" y="103795"/>
                  <a:pt x="475673" y="103791"/>
                </a:cubicBezTo>
                <a:lnTo>
                  <a:pt x="531966" y="103791"/>
                </a:lnTo>
                <a:cubicBezTo>
                  <a:pt x="538917" y="103794"/>
                  <a:pt x="544555" y="98162"/>
                  <a:pt x="544559" y="91211"/>
                </a:cubicBezTo>
                <a:cubicBezTo>
                  <a:pt x="544562" y="84259"/>
                  <a:pt x="538929" y="78621"/>
                  <a:pt x="531977" y="78618"/>
                </a:cubicBezTo>
                <a:cubicBezTo>
                  <a:pt x="531973" y="78618"/>
                  <a:pt x="531969" y="78618"/>
                  <a:pt x="531966" y="78618"/>
                </a:cubicBezTo>
                <a:lnTo>
                  <a:pt x="475673" y="78618"/>
                </a:lnTo>
                <a:close/>
                <a:moveTo>
                  <a:pt x="475673" y="117321"/>
                </a:moveTo>
                <a:cubicBezTo>
                  <a:pt x="468721" y="117318"/>
                  <a:pt x="463083" y="122950"/>
                  <a:pt x="463079" y="129902"/>
                </a:cubicBezTo>
                <a:cubicBezTo>
                  <a:pt x="463076" y="136854"/>
                  <a:pt x="468709" y="142492"/>
                  <a:pt x="475661" y="142495"/>
                </a:cubicBezTo>
                <a:cubicBezTo>
                  <a:pt x="475665" y="142495"/>
                  <a:pt x="475669" y="142495"/>
                  <a:pt x="475673" y="142495"/>
                </a:cubicBezTo>
                <a:lnTo>
                  <a:pt x="531966" y="142495"/>
                </a:lnTo>
                <a:cubicBezTo>
                  <a:pt x="538918" y="142498"/>
                  <a:pt x="544556" y="136865"/>
                  <a:pt x="544559" y="129913"/>
                </a:cubicBezTo>
                <a:cubicBezTo>
                  <a:pt x="544559" y="129909"/>
                  <a:pt x="544559" y="129906"/>
                  <a:pt x="544559" y="129902"/>
                </a:cubicBezTo>
                <a:cubicBezTo>
                  <a:pt x="544555" y="122950"/>
                  <a:pt x="538917" y="117318"/>
                  <a:pt x="531966" y="117321"/>
                </a:cubicBezTo>
                <a:lnTo>
                  <a:pt x="475673" y="117321"/>
                </a:lnTo>
                <a:close/>
                <a:moveTo>
                  <a:pt x="500261" y="218264"/>
                </a:moveTo>
                <a:cubicBezTo>
                  <a:pt x="493310" y="218260"/>
                  <a:pt x="487672" y="223893"/>
                  <a:pt x="487668" y="230844"/>
                </a:cubicBezTo>
                <a:cubicBezTo>
                  <a:pt x="487665" y="237796"/>
                  <a:pt x="493298" y="243434"/>
                  <a:pt x="500250" y="243437"/>
                </a:cubicBezTo>
                <a:cubicBezTo>
                  <a:pt x="500253" y="243437"/>
                  <a:pt x="500257" y="243437"/>
                  <a:pt x="500261" y="243437"/>
                </a:cubicBezTo>
                <a:lnTo>
                  <a:pt x="514116" y="243437"/>
                </a:lnTo>
                <a:cubicBezTo>
                  <a:pt x="521068" y="243441"/>
                  <a:pt x="526707" y="237807"/>
                  <a:pt x="526710" y="230855"/>
                </a:cubicBezTo>
                <a:cubicBezTo>
                  <a:pt x="526710" y="230852"/>
                  <a:pt x="526710" y="230848"/>
                  <a:pt x="526710" y="230844"/>
                </a:cubicBezTo>
                <a:cubicBezTo>
                  <a:pt x="526706" y="223893"/>
                  <a:pt x="521068" y="218260"/>
                  <a:pt x="514116" y="218264"/>
                </a:cubicBezTo>
                <a:lnTo>
                  <a:pt x="500261" y="218264"/>
                </a:lnTo>
                <a:close/>
                <a:moveTo>
                  <a:pt x="178727" y="306573"/>
                </a:moveTo>
                <a:lnTo>
                  <a:pt x="213931" y="306573"/>
                </a:lnTo>
                <a:lnTo>
                  <a:pt x="213931" y="323043"/>
                </a:lnTo>
                <a:lnTo>
                  <a:pt x="178727" y="323043"/>
                </a:lnTo>
                <a:lnTo>
                  <a:pt x="178727" y="306573"/>
                </a:lnTo>
                <a:close/>
                <a:moveTo>
                  <a:pt x="90118" y="348217"/>
                </a:moveTo>
                <a:lnTo>
                  <a:pt x="302540" y="348217"/>
                </a:lnTo>
                <a:lnTo>
                  <a:pt x="302540" y="363464"/>
                </a:lnTo>
                <a:lnTo>
                  <a:pt x="90118" y="363464"/>
                </a:lnTo>
                <a:lnTo>
                  <a:pt x="90118" y="34821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91" name="Freeform: Shape 9"/>
          <p:cNvSpPr/>
          <p:nvPr/>
        </p:nvSpPr>
        <p:spPr>
          <a:xfrm>
            <a:off x="7007400" y="2654280"/>
            <a:ext cx="596880" cy="385920"/>
          </a:xfrm>
          <a:custGeom>
            <a:avLst/>
            <a:gdLst/>
            <a:ahLst/>
            <a:rect l="l" t="t" r="r" b="b"/>
            <a:pathLst>
              <a:path w="596141" h="385603">
                <a:moveTo>
                  <a:pt x="92713" y="0"/>
                </a:moveTo>
                <a:cubicBezTo>
                  <a:pt x="85762" y="-3"/>
                  <a:pt x="80124" y="5629"/>
                  <a:pt x="80119" y="12580"/>
                </a:cubicBezTo>
                <a:lnTo>
                  <a:pt x="80119" y="242110"/>
                </a:lnTo>
                <a:lnTo>
                  <a:pt x="80119" y="259621"/>
                </a:lnTo>
                <a:lnTo>
                  <a:pt x="3714" y="336027"/>
                </a:lnTo>
                <a:cubicBezTo>
                  <a:pt x="-4218" y="343956"/>
                  <a:pt x="1397" y="357517"/>
                  <a:pt x="12612" y="357519"/>
                </a:cubicBezTo>
                <a:lnTo>
                  <a:pt x="583529" y="357519"/>
                </a:lnTo>
                <a:cubicBezTo>
                  <a:pt x="594744" y="357517"/>
                  <a:pt x="600359" y="343956"/>
                  <a:pt x="592427" y="336027"/>
                </a:cubicBezTo>
                <a:lnTo>
                  <a:pt x="516022" y="259621"/>
                </a:lnTo>
                <a:lnTo>
                  <a:pt x="516022" y="242110"/>
                </a:lnTo>
                <a:lnTo>
                  <a:pt x="516022" y="12580"/>
                </a:lnTo>
                <a:cubicBezTo>
                  <a:pt x="516017" y="5629"/>
                  <a:pt x="510379" y="-3"/>
                  <a:pt x="503428" y="0"/>
                </a:cubicBezTo>
                <a:lnTo>
                  <a:pt x="92713" y="0"/>
                </a:lnTo>
                <a:close/>
                <a:moveTo>
                  <a:pt x="105293" y="25174"/>
                </a:moveTo>
                <a:lnTo>
                  <a:pt x="490848" y="25174"/>
                </a:lnTo>
                <a:lnTo>
                  <a:pt x="490848" y="229517"/>
                </a:lnTo>
                <a:lnTo>
                  <a:pt x="105293" y="229517"/>
                </a:lnTo>
                <a:lnTo>
                  <a:pt x="105293" y="25174"/>
                </a:lnTo>
                <a:close/>
                <a:moveTo>
                  <a:pt x="298097" y="50738"/>
                </a:moveTo>
                <a:cubicBezTo>
                  <a:pt x="254617" y="50738"/>
                  <a:pt x="219068" y="85920"/>
                  <a:pt x="218360" y="129238"/>
                </a:cubicBezTo>
                <a:lnTo>
                  <a:pt x="218360" y="129252"/>
                </a:lnTo>
                <a:cubicBezTo>
                  <a:pt x="218307" y="129679"/>
                  <a:pt x="218285" y="130110"/>
                  <a:pt x="218285" y="130540"/>
                </a:cubicBezTo>
                <a:cubicBezTo>
                  <a:pt x="218289" y="130928"/>
                  <a:pt x="218311" y="131313"/>
                  <a:pt x="218360" y="131699"/>
                </a:cubicBezTo>
                <a:cubicBezTo>
                  <a:pt x="218992" y="175081"/>
                  <a:pt x="254569" y="210303"/>
                  <a:pt x="298097" y="210303"/>
                </a:cubicBezTo>
                <a:cubicBezTo>
                  <a:pt x="340285" y="210303"/>
                  <a:pt x="374197" y="176958"/>
                  <a:pt x="376870" y="135419"/>
                </a:cubicBezTo>
                <a:cubicBezTo>
                  <a:pt x="376871" y="135415"/>
                  <a:pt x="376870" y="135411"/>
                  <a:pt x="376870" y="135406"/>
                </a:cubicBezTo>
                <a:cubicBezTo>
                  <a:pt x="376971" y="135179"/>
                  <a:pt x="377071" y="134933"/>
                  <a:pt x="377142" y="134691"/>
                </a:cubicBezTo>
                <a:cubicBezTo>
                  <a:pt x="377217" y="134489"/>
                  <a:pt x="377268" y="134293"/>
                  <a:pt x="377343" y="134092"/>
                </a:cubicBezTo>
                <a:cubicBezTo>
                  <a:pt x="377356" y="134041"/>
                  <a:pt x="377370" y="134016"/>
                  <a:pt x="377397" y="133966"/>
                </a:cubicBezTo>
                <a:cubicBezTo>
                  <a:pt x="377417" y="133890"/>
                  <a:pt x="377423" y="133815"/>
                  <a:pt x="377450" y="133739"/>
                </a:cubicBezTo>
                <a:cubicBezTo>
                  <a:pt x="377503" y="133563"/>
                  <a:pt x="377550" y="133384"/>
                  <a:pt x="377575" y="133206"/>
                </a:cubicBezTo>
                <a:cubicBezTo>
                  <a:pt x="377629" y="133004"/>
                  <a:pt x="377651" y="132798"/>
                  <a:pt x="377702" y="132594"/>
                </a:cubicBezTo>
                <a:cubicBezTo>
                  <a:pt x="377708" y="132543"/>
                  <a:pt x="377721" y="132493"/>
                  <a:pt x="377728" y="132443"/>
                </a:cubicBezTo>
                <a:cubicBezTo>
                  <a:pt x="377755" y="132241"/>
                  <a:pt x="377782" y="132027"/>
                  <a:pt x="377804" y="131818"/>
                </a:cubicBezTo>
                <a:cubicBezTo>
                  <a:pt x="377808" y="131768"/>
                  <a:pt x="377810" y="131718"/>
                  <a:pt x="377817" y="131667"/>
                </a:cubicBezTo>
                <a:cubicBezTo>
                  <a:pt x="377837" y="131466"/>
                  <a:pt x="377843" y="131252"/>
                  <a:pt x="377870" y="131043"/>
                </a:cubicBezTo>
                <a:cubicBezTo>
                  <a:pt x="377877" y="130867"/>
                  <a:pt x="377883" y="130696"/>
                  <a:pt x="377883" y="130522"/>
                </a:cubicBezTo>
                <a:cubicBezTo>
                  <a:pt x="377884" y="130008"/>
                  <a:pt x="377857" y="129495"/>
                  <a:pt x="377783" y="128986"/>
                </a:cubicBezTo>
                <a:cubicBezTo>
                  <a:pt x="377756" y="128734"/>
                  <a:pt x="377708" y="128483"/>
                  <a:pt x="377657" y="128231"/>
                </a:cubicBezTo>
                <a:cubicBezTo>
                  <a:pt x="377556" y="127725"/>
                  <a:pt x="377430" y="127226"/>
                  <a:pt x="377279" y="126735"/>
                </a:cubicBezTo>
                <a:cubicBezTo>
                  <a:pt x="377153" y="126370"/>
                  <a:pt x="377027" y="126010"/>
                  <a:pt x="376889" y="125655"/>
                </a:cubicBezTo>
                <a:cubicBezTo>
                  <a:pt x="374226" y="84107"/>
                  <a:pt x="340311" y="50720"/>
                  <a:pt x="298116" y="50720"/>
                </a:cubicBezTo>
                <a:lnTo>
                  <a:pt x="298097" y="50738"/>
                </a:lnTo>
                <a:close/>
                <a:moveTo>
                  <a:pt x="298083" y="76107"/>
                </a:moveTo>
                <a:cubicBezTo>
                  <a:pt x="298310" y="76258"/>
                  <a:pt x="298614" y="76489"/>
                  <a:pt x="299319" y="77239"/>
                </a:cubicBezTo>
                <a:cubicBezTo>
                  <a:pt x="300953" y="78974"/>
                  <a:pt x="303316" y="82602"/>
                  <a:pt x="305330" y="87660"/>
                </a:cubicBezTo>
                <a:cubicBezTo>
                  <a:pt x="308347" y="95237"/>
                  <a:pt x="310735" y="105875"/>
                  <a:pt x="311744" y="117960"/>
                </a:cubicBezTo>
                <a:lnTo>
                  <a:pt x="284423" y="117960"/>
                </a:lnTo>
                <a:cubicBezTo>
                  <a:pt x="285445" y="105876"/>
                  <a:pt x="287846" y="95236"/>
                  <a:pt x="290863" y="87660"/>
                </a:cubicBezTo>
                <a:cubicBezTo>
                  <a:pt x="292877" y="82602"/>
                  <a:pt x="295188" y="78974"/>
                  <a:pt x="296822" y="77239"/>
                </a:cubicBezTo>
                <a:cubicBezTo>
                  <a:pt x="297527" y="76489"/>
                  <a:pt x="297856" y="76263"/>
                  <a:pt x="298083" y="76107"/>
                </a:cubicBezTo>
                <a:close/>
                <a:moveTo>
                  <a:pt x="331674" y="87438"/>
                </a:moveTo>
                <a:cubicBezTo>
                  <a:pt x="341307" y="94948"/>
                  <a:pt x="348313" y="105621"/>
                  <a:pt x="351189" y="117959"/>
                </a:cubicBezTo>
                <a:lnTo>
                  <a:pt x="336293" y="117959"/>
                </a:lnTo>
                <a:cubicBezTo>
                  <a:pt x="335613" y="106975"/>
                  <a:pt x="334183" y="96556"/>
                  <a:pt x="331674" y="87438"/>
                </a:cubicBezTo>
                <a:close/>
                <a:moveTo>
                  <a:pt x="264349" y="87539"/>
                </a:moveTo>
                <a:cubicBezTo>
                  <a:pt x="261688" y="96648"/>
                  <a:pt x="259971" y="106932"/>
                  <a:pt x="259211" y="117968"/>
                </a:cubicBezTo>
                <a:lnTo>
                  <a:pt x="244965" y="117968"/>
                </a:lnTo>
                <a:cubicBezTo>
                  <a:pt x="247833" y="105688"/>
                  <a:pt x="254775" y="95044"/>
                  <a:pt x="264349" y="87539"/>
                </a:cubicBezTo>
                <a:close/>
                <a:moveTo>
                  <a:pt x="244965" y="143142"/>
                </a:moveTo>
                <a:lnTo>
                  <a:pt x="259211" y="143142"/>
                </a:lnTo>
                <a:cubicBezTo>
                  <a:pt x="259971" y="154165"/>
                  <a:pt x="261703" y="164423"/>
                  <a:pt x="264362" y="173520"/>
                </a:cubicBezTo>
                <a:cubicBezTo>
                  <a:pt x="254789" y="166027"/>
                  <a:pt x="247835" y="155414"/>
                  <a:pt x="244965" y="143142"/>
                </a:cubicBezTo>
                <a:close/>
                <a:moveTo>
                  <a:pt x="284423" y="143142"/>
                </a:moveTo>
                <a:lnTo>
                  <a:pt x="311731" y="143142"/>
                </a:lnTo>
                <a:cubicBezTo>
                  <a:pt x="310721" y="155207"/>
                  <a:pt x="308346" y="165803"/>
                  <a:pt x="305330" y="173376"/>
                </a:cubicBezTo>
                <a:cubicBezTo>
                  <a:pt x="303316" y="178435"/>
                  <a:pt x="300952" y="182063"/>
                  <a:pt x="299319" y="183797"/>
                </a:cubicBezTo>
                <a:cubicBezTo>
                  <a:pt x="298614" y="184545"/>
                  <a:pt x="298302" y="184774"/>
                  <a:pt x="298083" y="184930"/>
                </a:cubicBezTo>
                <a:cubicBezTo>
                  <a:pt x="297857" y="184779"/>
                  <a:pt x="297527" y="184547"/>
                  <a:pt x="296822" y="183797"/>
                </a:cubicBezTo>
                <a:cubicBezTo>
                  <a:pt x="295188" y="182063"/>
                  <a:pt x="292878" y="178435"/>
                  <a:pt x="290864" y="173376"/>
                </a:cubicBezTo>
                <a:cubicBezTo>
                  <a:pt x="287847" y="165803"/>
                  <a:pt x="285447" y="155207"/>
                  <a:pt x="284424" y="143142"/>
                </a:cubicBezTo>
                <a:lnTo>
                  <a:pt x="284423" y="143142"/>
                </a:lnTo>
                <a:close/>
                <a:moveTo>
                  <a:pt x="336280" y="143142"/>
                </a:moveTo>
                <a:lnTo>
                  <a:pt x="351189" y="143142"/>
                </a:lnTo>
                <a:cubicBezTo>
                  <a:pt x="348309" y="155476"/>
                  <a:pt x="341299" y="166139"/>
                  <a:pt x="331662" y="173637"/>
                </a:cubicBezTo>
                <a:cubicBezTo>
                  <a:pt x="334174" y="164527"/>
                  <a:pt x="335601" y="154125"/>
                  <a:pt x="336280" y="143142"/>
                </a:cubicBezTo>
                <a:close/>
                <a:moveTo>
                  <a:pt x="97916" y="277428"/>
                </a:moveTo>
                <a:lnTo>
                  <a:pt x="498224" y="277428"/>
                </a:lnTo>
                <a:lnTo>
                  <a:pt x="509725" y="288928"/>
                </a:lnTo>
                <a:lnTo>
                  <a:pt x="86416" y="288928"/>
                </a:lnTo>
                <a:lnTo>
                  <a:pt x="97916" y="277428"/>
                </a:lnTo>
                <a:close/>
                <a:moveTo>
                  <a:pt x="61242" y="314102"/>
                </a:moveTo>
                <a:lnTo>
                  <a:pt x="534898" y="314102"/>
                </a:lnTo>
                <a:lnTo>
                  <a:pt x="553138" y="332342"/>
                </a:lnTo>
                <a:lnTo>
                  <a:pt x="43003" y="332342"/>
                </a:lnTo>
                <a:lnTo>
                  <a:pt x="61242" y="314102"/>
                </a:lnTo>
                <a:close/>
                <a:moveTo>
                  <a:pt x="92712" y="360430"/>
                </a:moveTo>
                <a:cubicBezTo>
                  <a:pt x="85761" y="360426"/>
                  <a:pt x="80123" y="366059"/>
                  <a:pt x="80119" y="373010"/>
                </a:cubicBezTo>
                <a:cubicBezTo>
                  <a:pt x="80116" y="379966"/>
                  <a:pt x="85756" y="385606"/>
                  <a:pt x="92712" y="385603"/>
                </a:cubicBezTo>
                <a:lnTo>
                  <a:pt x="503428" y="385603"/>
                </a:lnTo>
                <a:cubicBezTo>
                  <a:pt x="510384" y="385606"/>
                  <a:pt x="516024" y="379966"/>
                  <a:pt x="516021" y="373010"/>
                </a:cubicBezTo>
                <a:cubicBezTo>
                  <a:pt x="516018" y="366059"/>
                  <a:pt x="510379" y="360426"/>
                  <a:pt x="503428" y="360430"/>
                </a:cubicBezTo>
                <a:lnTo>
                  <a:pt x="92712" y="3604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92" name="Freeform: Shape 10"/>
          <p:cNvSpPr/>
          <p:nvPr/>
        </p:nvSpPr>
        <p:spPr>
          <a:xfrm>
            <a:off x="5764320" y="4775040"/>
            <a:ext cx="596880" cy="516240"/>
          </a:xfrm>
          <a:custGeom>
            <a:avLst/>
            <a:gdLst/>
            <a:ahLst/>
            <a:rect l="l" t="t" r="r" b="b"/>
            <a:pathLst>
              <a:path w="596090" h="515989">
                <a:moveTo>
                  <a:pt x="92681" y="0"/>
                </a:moveTo>
                <a:cubicBezTo>
                  <a:pt x="85735" y="4"/>
                  <a:pt x="80105" y="5634"/>
                  <a:pt x="80101" y="12580"/>
                </a:cubicBezTo>
                <a:lnTo>
                  <a:pt x="80101" y="285484"/>
                </a:lnTo>
                <a:lnTo>
                  <a:pt x="12580" y="285484"/>
                </a:lnTo>
                <a:cubicBezTo>
                  <a:pt x="5634" y="285489"/>
                  <a:pt x="5" y="291119"/>
                  <a:pt x="0" y="298065"/>
                </a:cubicBezTo>
                <a:lnTo>
                  <a:pt x="0" y="434809"/>
                </a:lnTo>
                <a:cubicBezTo>
                  <a:pt x="-2" y="441760"/>
                  <a:pt x="5629" y="447398"/>
                  <a:pt x="12580" y="447403"/>
                </a:cubicBezTo>
                <a:lnTo>
                  <a:pt x="80101" y="447403"/>
                </a:lnTo>
                <a:lnTo>
                  <a:pt x="80101" y="503396"/>
                </a:lnTo>
                <a:cubicBezTo>
                  <a:pt x="80098" y="510348"/>
                  <a:pt x="85729" y="515985"/>
                  <a:pt x="92681" y="515990"/>
                </a:cubicBezTo>
                <a:cubicBezTo>
                  <a:pt x="99633" y="515993"/>
                  <a:pt x="105271" y="510360"/>
                  <a:pt x="105274" y="503408"/>
                </a:cubicBezTo>
                <a:cubicBezTo>
                  <a:pt x="105274" y="503404"/>
                  <a:pt x="105274" y="503400"/>
                  <a:pt x="105274" y="503396"/>
                </a:cubicBezTo>
                <a:lnTo>
                  <a:pt x="105274" y="447403"/>
                </a:lnTo>
                <a:lnTo>
                  <a:pt x="490569" y="447403"/>
                </a:lnTo>
                <a:lnTo>
                  <a:pt x="490569" y="503396"/>
                </a:lnTo>
                <a:cubicBezTo>
                  <a:pt x="490565" y="510348"/>
                  <a:pt x="496199" y="515986"/>
                  <a:pt x="503151" y="515990"/>
                </a:cubicBezTo>
                <a:cubicBezTo>
                  <a:pt x="503154" y="515990"/>
                  <a:pt x="503158" y="515990"/>
                  <a:pt x="503162" y="515990"/>
                </a:cubicBezTo>
                <a:cubicBezTo>
                  <a:pt x="510113" y="515986"/>
                  <a:pt x="515746" y="510348"/>
                  <a:pt x="515742" y="503396"/>
                </a:cubicBezTo>
                <a:lnTo>
                  <a:pt x="515742" y="447403"/>
                </a:lnTo>
                <a:lnTo>
                  <a:pt x="583510" y="447403"/>
                </a:lnTo>
                <a:cubicBezTo>
                  <a:pt x="590461" y="447398"/>
                  <a:pt x="596093" y="441760"/>
                  <a:pt x="596090" y="434809"/>
                </a:cubicBezTo>
                <a:lnTo>
                  <a:pt x="596090" y="298064"/>
                </a:lnTo>
                <a:cubicBezTo>
                  <a:pt x="596085" y="291118"/>
                  <a:pt x="590456" y="285489"/>
                  <a:pt x="583510" y="285484"/>
                </a:cubicBezTo>
                <a:lnTo>
                  <a:pt x="105274" y="285484"/>
                </a:lnTo>
                <a:lnTo>
                  <a:pt x="105274" y="12580"/>
                </a:lnTo>
                <a:cubicBezTo>
                  <a:pt x="105270" y="5629"/>
                  <a:pt x="99632" y="-3"/>
                  <a:pt x="92681" y="0"/>
                </a:cubicBezTo>
                <a:close/>
                <a:moveTo>
                  <a:pt x="25174" y="310658"/>
                </a:moveTo>
                <a:lnTo>
                  <a:pt x="92681" y="310658"/>
                </a:lnTo>
                <a:lnTo>
                  <a:pt x="570916" y="310658"/>
                </a:lnTo>
                <a:lnTo>
                  <a:pt x="570916" y="422216"/>
                </a:lnTo>
                <a:lnTo>
                  <a:pt x="25174" y="422216"/>
                </a:lnTo>
                <a:lnTo>
                  <a:pt x="25174" y="310658"/>
                </a:lnTo>
                <a:close/>
                <a:moveTo>
                  <a:pt x="124346" y="322159"/>
                </a:moveTo>
                <a:cubicBezTo>
                  <a:pt x="100052" y="322159"/>
                  <a:pt x="80101" y="342162"/>
                  <a:pt x="80101" y="366457"/>
                </a:cubicBezTo>
                <a:cubicBezTo>
                  <a:pt x="80101" y="390751"/>
                  <a:pt x="100052" y="410715"/>
                  <a:pt x="124346" y="410715"/>
                </a:cubicBezTo>
                <a:cubicBezTo>
                  <a:pt x="145176" y="410715"/>
                  <a:pt x="160261" y="394865"/>
                  <a:pt x="164871" y="375368"/>
                </a:cubicBezTo>
                <a:cubicBezTo>
                  <a:pt x="167252" y="373012"/>
                  <a:pt x="168596" y="369805"/>
                  <a:pt x="168606" y="366456"/>
                </a:cubicBezTo>
                <a:cubicBezTo>
                  <a:pt x="168603" y="363098"/>
                  <a:pt x="167259" y="359881"/>
                  <a:pt x="164871" y="357519"/>
                </a:cubicBezTo>
                <a:cubicBezTo>
                  <a:pt x="160249" y="338038"/>
                  <a:pt x="145164" y="322159"/>
                  <a:pt x="124346" y="322159"/>
                </a:cubicBezTo>
                <a:close/>
                <a:moveTo>
                  <a:pt x="209612" y="329834"/>
                </a:moveTo>
                <a:cubicBezTo>
                  <a:pt x="202660" y="329831"/>
                  <a:pt x="197022" y="335463"/>
                  <a:pt x="197018" y="342415"/>
                </a:cubicBezTo>
                <a:cubicBezTo>
                  <a:pt x="197015" y="349367"/>
                  <a:pt x="202648" y="355005"/>
                  <a:pt x="209600" y="355008"/>
                </a:cubicBezTo>
                <a:cubicBezTo>
                  <a:pt x="209604" y="355008"/>
                  <a:pt x="209608" y="355008"/>
                  <a:pt x="209612" y="355008"/>
                </a:cubicBezTo>
                <a:lnTo>
                  <a:pt x="244920" y="355008"/>
                </a:lnTo>
                <a:cubicBezTo>
                  <a:pt x="251871" y="355004"/>
                  <a:pt x="257504" y="349366"/>
                  <a:pt x="257500" y="342415"/>
                </a:cubicBezTo>
                <a:cubicBezTo>
                  <a:pt x="257496" y="335468"/>
                  <a:pt x="251866" y="329838"/>
                  <a:pt x="244920" y="329834"/>
                </a:cubicBezTo>
                <a:lnTo>
                  <a:pt x="209612" y="329834"/>
                </a:lnTo>
                <a:close/>
                <a:moveTo>
                  <a:pt x="298025" y="329834"/>
                </a:moveTo>
                <a:cubicBezTo>
                  <a:pt x="291074" y="329831"/>
                  <a:pt x="285436" y="335463"/>
                  <a:pt x="285432" y="342415"/>
                </a:cubicBezTo>
                <a:cubicBezTo>
                  <a:pt x="285428" y="349367"/>
                  <a:pt x="291062" y="355005"/>
                  <a:pt x="298014" y="355008"/>
                </a:cubicBezTo>
                <a:cubicBezTo>
                  <a:pt x="298017" y="355008"/>
                  <a:pt x="298021" y="355008"/>
                  <a:pt x="298025" y="355008"/>
                </a:cubicBezTo>
                <a:lnTo>
                  <a:pt x="333321" y="355008"/>
                </a:lnTo>
                <a:cubicBezTo>
                  <a:pt x="340273" y="355011"/>
                  <a:pt x="345911" y="349378"/>
                  <a:pt x="345914" y="342426"/>
                </a:cubicBezTo>
                <a:cubicBezTo>
                  <a:pt x="345914" y="342422"/>
                  <a:pt x="345914" y="342419"/>
                  <a:pt x="345914" y="342415"/>
                </a:cubicBezTo>
                <a:cubicBezTo>
                  <a:pt x="345910" y="335464"/>
                  <a:pt x="340272" y="329831"/>
                  <a:pt x="333321" y="329835"/>
                </a:cubicBezTo>
                <a:lnTo>
                  <a:pt x="298025" y="329834"/>
                </a:lnTo>
                <a:close/>
                <a:moveTo>
                  <a:pt x="379687" y="329834"/>
                </a:moveTo>
                <a:cubicBezTo>
                  <a:pt x="372741" y="329838"/>
                  <a:pt x="367110" y="335468"/>
                  <a:pt x="367107" y="342415"/>
                </a:cubicBezTo>
                <a:cubicBezTo>
                  <a:pt x="367104" y="349366"/>
                  <a:pt x="372736" y="355004"/>
                  <a:pt x="379687" y="355008"/>
                </a:cubicBezTo>
                <a:lnTo>
                  <a:pt x="414995" y="355008"/>
                </a:lnTo>
                <a:cubicBezTo>
                  <a:pt x="421947" y="355011"/>
                  <a:pt x="427586" y="349378"/>
                  <a:pt x="427589" y="342426"/>
                </a:cubicBezTo>
                <a:cubicBezTo>
                  <a:pt x="427589" y="342422"/>
                  <a:pt x="427589" y="342419"/>
                  <a:pt x="427589" y="342415"/>
                </a:cubicBezTo>
                <a:cubicBezTo>
                  <a:pt x="427585" y="335464"/>
                  <a:pt x="421947" y="329831"/>
                  <a:pt x="414995" y="329835"/>
                </a:cubicBezTo>
                <a:lnTo>
                  <a:pt x="379687" y="329834"/>
                </a:lnTo>
                <a:close/>
                <a:moveTo>
                  <a:pt x="468101" y="329834"/>
                </a:moveTo>
                <a:cubicBezTo>
                  <a:pt x="461150" y="329831"/>
                  <a:pt x="455512" y="335463"/>
                  <a:pt x="455508" y="342415"/>
                </a:cubicBezTo>
                <a:cubicBezTo>
                  <a:pt x="455504" y="349367"/>
                  <a:pt x="461138" y="355005"/>
                  <a:pt x="468090" y="355008"/>
                </a:cubicBezTo>
                <a:cubicBezTo>
                  <a:pt x="468094" y="355008"/>
                  <a:pt x="468098" y="355008"/>
                  <a:pt x="468101" y="355008"/>
                </a:cubicBezTo>
                <a:lnTo>
                  <a:pt x="503409" y="355008"/>
                </a:lnTo>
                <a:cubicBezTo>
                  <a:pt x="510360" y="355004"/>
                  <a:pt x="515992" y="349366"/>
                  <a:pt x="515989" y="342415"/>
                </a:cubicBezTo>
                <a:cubicBezTo>
                  <a:pt x="515985" y="335468"/>
                  <a:pt x="510355" y="329838"/>
                  <a:pt x="503409" y="329834"/>
                </a:cubicBezTo>
                <a:lnTo>
                  <a:pt x="468101" y="329834"/>
                </a:lnTo>
                <a:close/>
                <a:moveTo>
                  <a:pt x="124346" y="347332"/>
                </a:moveTo>
                <a:cubicBezTo>
                  <a:pt x="135035" y="347332"/>
                  <a:pt x="143432" y="355767"/>
                  <a:pt x="143432" y="366457"/>
                </a:cubicBezTo>
                <a:cubicBezTo>
                  <a:pt x="143432" y="377146"/>
                  <a:pt x="135035" y="385542"/>
                  <a:pt x="124346" y="385542"/>
                </a:cubicBezTo>
                <a:cubicBezTo>
                  <a:pt x="113657" y="385542"/>
                  <a:pt x="105274" y="377146"/>
                  <a:pt x="105274" y="366457"/>
                </a:cubicBezTo>
                <a:cubicBezTo>
                  <a:pt x="105274" y="355767"/>
                  <a:pt x="113657" y="347332"/>
                  <a:pt x="124346" y="34733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3" name="Graphic 1" descr=""/>
          <p:cNvPicPr/>
          <p:nvPr/>
        </p:nvPicPr>
        <p:blipFill>
          <a:blip r:embed="rId1"/>
          <a:stretch/>
        </p:blipFill>
        <p:spPr>
          <a:xfrm>
            <a:off x="1457280" y="3706920"/>
            <a:ext cx="2139840" cy="2139840"/>
          </a:xfrm>
          <a:prstGeom prst="rect">
            <a:avLst/>
          </a:prstGeom>
          <a:ln w="0">
            <a:noFill/>
          </a:ln>
        </p:spPr>
      </p:pic>
      <p:pic>
        <p:nvPicPr>
          <p:cNvPr id="2294" name="Graphic 1" descr=""/>
          <p:cNvPicPr/>
          <p:nvPr/>
        </p:nvPicPr>
        <p:blipFill>
          <a:blip r:embed="rId2"/>
          <a:stretch/>
        </p:blipFill>
        <p:spPr>
          <a:xfrm>
            <a:off x="3797280" y="1365120"/>
            <a:ext cx="2139840" cy="2133720"/>
          </a:xfrm>
          <a:prstGeom prst="rect">
            <a:avLst/>
          </a:prstGeom>
          <a:ln w="0">
            <a:noFill/>
          </a:ln>
        </p:spPr>
      </p:pic>
      <p:pic>
        <p:nvPicPr>
          <p:cNvPr id="2295" name="Graphic 1" descr=""/>
          <p:cNvPicPr/>
          <p:nvPr/>
        </p:nvPicPr>
        <p:blipFill>
          <a:blip r:embed="rId3"/>
          <a:stretch/>
        </p:blipFill>
        <p:spPr>
          <a:xfrm>
            <a:off x="1457280" y="1365120"/>
            <a:ext cx="2139840" cy="2133720"/>
          </a:xfrm>
          <a:prstGeom prst="rect">
            <a:avLst/>
          </a:prstGeom>
          <a:ln w="0">
            <a:noFill/>
          </a:ln>
        </p:spPr>
      </p:pic>
      <p:pic>
        <p:nvPicPr>
          <p:cNvPr id="2296" name="Graphic 1" descr=""/>
          <p:cNvPicPr/>
          <p:nvPr/>
        </p:nvPicPr>
        <p:blipFill>
          <a:blip r:embed="rId4"/>
          <a:stretch/>
        </p:blipFill>
        <p:spPr>
          <a:xfrm>
            <a:off x="3797280" y="3706920"/>
            <a:ext cx="2139840" cy="2139840"/>
          </a:xfrm>
          <a:prstGeom prst="rect">
            <a:avLst/>
          </a:prstGeom>
          <a:ln w="0">
            <a:noFill/>
          </a:ln>
        </p:spPr>
      </p:pic>
      <p:sp>
        <p:nvSpPr>
          <p:cNvPr id="2297" name="TextBox 20"/>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298" name="TextBox 21"/>
          <p:cNvSpPr/>
          <p:nvPr/>
        </p:nvSpPr>
        <p:spPr>
          <a:xfrm>
            <a:off x="6834240" y="1009800"/>
            <a:ext cx="4103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Roboto Black"/>
                <a:ea typeface="Roboto Black"/>
              </a:rPr>
              <a:t>Lorem </a:t>
            </a:r>
            <a:r>
              <a:rPr b="0" i="1" lang="en-GB" sz="4000" spc="-1" strike="noStrike">
                <a:solidFill>
                  <a:srgbClr val="236e96"/>
                </a:solidFill>
                <a:latin typeface="Roboto Black"/>
                <a:ea typeface="Roboto Black"/>
              </a:rPr>
              <a:t>Ipsum</a:t>
            </a:r>
            <a:r>
              <a:rPr b="0" lang="en-GB" sz="4000" spc="-1" strike="noStrike">
                <a:solidFill>
                  <a:srgbClr val="000000"/>
                </a:solidFill>
                <a:latin typeface="Roboto Black"/>
                <a:ea typeface="Roboto Black"/>
              </a:rPr>
              <a:t> Dolour</a:t>
            </a:r>
            <a:endParaRPr b="0" lang="en-US" sz="4000" spc="-1" strike="noStrike">
              <a:solidFill>
                <a:srgbClr val="000000"/>
              </a:solidFill>
              <a:latin typeface="Calibri"/>
            </a:endParaRPr>
          </a:p>
        </p:txBody>
      </p:sp>
      <p:sp>
        <p:nvSpPr>
          <p:cNvPr id="2299" name="TextBox 23"/>
          <p:cNvSpPr/>
          <p:nvPr/>
        </p:nvSpPr>
        <p:spPr>
          <a:xfrm>
            <a:off x="6834240" y="4181400"/>
            <a:ext cx="19764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00" name="TextBox 24"/>
          <p:cNvSpPr/>
          <p:nvPr/>
        </p:nvSpPr>
        <p:spPr>
          <a:xfrm>
            <a:off x="6834240" y="3865680"/>
            <a:ext cx="197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95959"/>
                </a:solidFill>
                <a:latin typeface="Lato Black"/>
              </a:rPr>
              <a:t>Your Text Here</a:t>
            </a:r>
            <a:endParaRPr b="0" lang="en-US" sz="1600" spc="-1" strike="noStrike">
              <a:solidFill>
                <a:srgbClr val="000000"/>
              </a:solidFill>
              <a:latin typeface="Calibri"/>
            </a:endParaRPr>
          </a:p>
        </p:txBody>
      </p:sp>
      <p:sp>
        <p:nvSpPr>
          <p:cNvPr id="2301" name="TextBox 31"/>
          <p:cNvSpPr/>
          <p:nvPr/>
        </p:nvSpPr>
        <p:spPr>
          <a:xfrm>
            <a:off x="9018720" y="4181400"/>
            <a:ext cx="19778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02" name="TextBox 32"/>
          <p:cNvSpPr/>
          <p:nvPr/>
        </p:nvSpPr>
        <p:spPr>
          <a:xfrm>
            <a:off x="9018720" y="3865680"/>
            <a:ext cx="197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95959"/>
                </a:solidFill>
                <a:latin typeface="Lato Black"/>
              </a:rPr>
              <a:t>Your Text Here</a:t>
            </a:r>
            <a:endParaRPr b="0" lang="en-US" sz="1600" spc="-1" strike="noStrike">
              <a:solidFill>
                <a:srgbClr val="000000"/>
              </a:solidFill>
              <a:latin typeface="Calibri"/>
            </a:endParaRPr>
          </a:p>
        </p:txBody>
      </p:sp>
      <p:sp>
        <p:nvSpPr>
          <p:cNvPr id="2303" name="TextBox 33"/>
          <p:cNvSpPr/>
          <p:nvPr/>
        </p:nvSpPr>
        <p:spPr>
          <a:xfrm>
            <a:off x="6834240" y="5345280"/>
            <a:ext cx="19764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04" name="TextBox 34"/>
          <p:cNvSpPr/>
          <p:nvPr/>
        </p:nvSpPr>
        <p:spPr>
          <a:xfrm>
            <a:off x="6834240" y="5029200"/>
            <a:ext cx="197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95959"/>
                </a:solidFill>
                <a:latin typeface="Lato Black"/>
              </a:rPr>
              <a:t>Your Text Here</a:t>
            </a:r>
            <a:endParaRPr b="0" lang="en-US" sz="1600" spc="-1" strike="noStrike">
              <a:solidFill>
                <a:srgbClr val="000000"/>
              </a:solidFill>
              <a:latin typeface="Calibri"/>
            </a:endParaRPr>
          </a:p>
        </p:txBody>
      </p:sp>
      <p:sp>
        <p:nvSpPr>
          <p:cNvPr id="2305" name="TextBox 35"/>
          <p:cNvSpPr/>
          <p:nvPr/>
        </p:nvSpPr>
        <p:spPr>
          <a:xfrm>
            <a:off x="9018720" y="5345280"/>
            <a:ext cx="19778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06" name="TextBox 36"/>
          <p:cNvSpPr/>
          <p:nvPr/>
        </p:nvSpPr>
        <p:spPr>
          <a:xfrm>
            <a:off x="9018720" y="5029200"/>
            <a:ext cx="197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95959"/>
                </a:solidFill>
                <a:latin typeface="Lato Black"/>
              </a:rPr>
              <a:t>Your Text Here</a:t>
            </a:r>
            <a:endParaRPr b="0" lang="en-US" sz="1600" spc="-1" strike="noStrike">
              <a:solidFill>
                <a:srgbClr val="000000"/>
              </a:solidFill>
              <a:latin typeface="Calibri"/>
            </a:endParaRPr>
          </a:p>
        </p:txBody>
      </p:sp>
      <p:sp>
        <p:nvSpPr>
          <p:cNvPr id="2307" name="Rectangle: Rounded Corners 37"/>
          <p:cNvSpPr/>
          <p:nvPr/>
        </p:nvSpPr>
        <p:spPr>
          <a:xfrm>
            <a:off x="6950160" y="2936880"/>
            <a:ext cx="320760" cy="32076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8" name="Rectangle: Rounded Corners 38"/>
          <p:cNvSpPr/>
          <p:nvPr/>
        </p:nvSpPr>
        <p:spPr>
          <a:xfrm>
            <a:off x="7383600" y="2936880"/>
            <a:ext cx="320400" cy="320760"/>
          </a:xfrm>
          <a:custGeom>
            <a:avLst/>
            <a:gdLst>
              <a:gd name="textAreaLeft" fmla="*/ 15480 w 320400"/>
              <a:gd name="textAreaRight" fmla="*/ 304920 w 320400"/>
              <a:gd name="textAreaTop" fmla="*/ 15480 h 320760"/>
              <a:gd name="textAreaBottom" fmla="*/ 305280 h 320760"/>
            </a:gdLst>
            <a:ahLst/>
            <a:rect l="textAreaLeft" t="textAreaTop" r="textAreaRight" b="textAreaBottom"/>
            <a:pathLst>
              <a:path w="21600" h="21624">
                <a:moveTo>
                  <a:pt x="3600" y="0"/>
                </a:moveTo>
                <a:arcTo wR="3600" hR="3600" stAng="16200000" swAng="-5400000"/>
                <a:lnTo>
                  <a:pt x="0" y="18024"/>
                </a:lnTo>
                <a:arcTo wR="3600" hR="3600" stAng="10800000" swAng="-5400000"/>
                <a:lnTo>
                  <a:pt x="18000" y="21624"/>
                </a:lnTo>
                <a:arcTo wR="3600" hR="3600" stAng="5400000" swAng="-5400000"/>
                <a:lnTo>
                  <a:pt x="21600" y="3600"/>
                </a:lnTo>
                <a:arcTo wR="3600" hR="3600" stAng="0" swAng="-5400000"/>
                <a:close/>
              </a:path>
            </a:pathLst>
          </a:cu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09" name="Group 39" descr=""/>
          <p:cNvPicPr/>
          <p:nvPr/>
        </p:nvPicPr>
        <p:blipFill>
          <a:blip r:embed="rId5"/>
          <a:stretch/>
        </p:blipFill>
        <p:spPr>
          <a:xfrm>
            <a:off x="10515600" y="457200"/>
            <a:ext cx="1219320" cy="212760"/>
          </a:xfrm>
          <a:prstGeom prst="rect">
            <a:avLst/>
          </a:prstGeom>
          <a:ln w="0">
            <a:noFill/>
          </a:ln>
        </p:spPr>
      </p:pic>
      <p:pic>
        <p:nvPicPr>
          <p:cNvPr id="2310" name="Graphic 43" descr=""/>
          <p:cNvPicPr/>
          <p:nvPr/>
        </p:nvPicPr>
        <p:blipFill>
          <a:blip r:embed="rId6"/>
          <a:stretch/>
        </p:blipFill>
        <p:spPr>
          <a:xfrm>
            <a:off x="363600" y="369720"/>
            <a:ext cx="366480" cy="366840"/>
          </a:xfrm>
          <a:prstGeom prst="rect">
            <a:avLst/>
          </a:prstGeom>
          <a:ln w="0">
            <a:noFill/>
          </a:ln>
        </p:spPr>
      </p:pic>
      <p:sp>
        <p:nvSpPr>
          <p:cNvPr id="2311" name="Freeform: Shape 44"/>
          <p:cNvSpPr/>
          <p:nvPr/>
        </p:nvSpPr>
        <p:spPr>
          <a:xfrm>
            <a:off x="2467080" y="4179960"/>
            <a:ext cx="642960" cy="641160"/>
          </a:xfrm>
          <a:custGeom>
            <a:avLst/>
            <a:gdLst/>
            <a:ahLst/>
            <a:rect l="l" t="t" r="r" b="b"/>
            <a:pathLst>
              <a:path w="711946" h="711943">
                <a:moveTo>
                  <a:pt x="116463" y="1"/>
                </a:moveTo>
                <a:cubicBezTo>
                  <a:pt x="111756" y="49"/>
                  <a:pt x="107255" y="1939"/>
                  <a:pt x="103924" y="5266"/>
                </a:cubicBezTo>
                <a:lnTo>
                  <a:pt x="5270" y="103920"/>
                </a:lnTo>
                <a:cubicBezTo>
                  <a:pt x="1791" y="107401"/>
                  <a:pt x="-111" y="112153"/>
                  <a:pt x="5" y="117073"/>
                </a:cubicBezTo>
                <a:cubicBezTo>
                  <a:pt x="5" y="117073"/>
                  <a:pt x="1377" y="160819"/>
                  <a:pt x="29194" y="228545"/>
                </a:cubicBezTo>
                <a:cubicBezTo>
                  <a:pt x="57011" y="296271"/>
                  <a:pt x="111316" y="389825"/>
                  <a:pt x="216717" y="495227"/>
                </a:cubicBezTo>
                <a:cubicBezTo>
                  <a:pt x="322119" y="600628"/>
                  <a:pt x="415673" y="654933"/>
                  <a:pt x="483399" y="682750"/>
                </a:cubicBezTo>
                <a:cubicBezTo>
                  <a:pt x="551125" y="710567"/>
                  <a:pt x="594871" y="711939"/>
                  <a:pt x="594871" y="711939"/>
                </a:cubicBezTo>
                <a:cubicBezTo>
                  <a:pt x="599791" y="712055"/>
                  <a:pt x="604543" y="710153"/>
                  <a:pt x="608024" y="706674"/>
                </a:cubicBezTo>
                <a:lnTo>
                  <a:pt x="706678" y="608020"/>
                </a:lnTo>
                <a:cubicBezTo>
                  <a:pt x="713703" y="600991"/>
                  <a:pt x="713703" y="589599"/>
                  <a:pt x="706678" y="582570"/>
                </a:cubicBezTo>
                <a:lnTo>
                  <a:pt x="576509" y="452383"/>
                </a:lnTo>
                <a:cubicBezTo>
                  <a:pt x="569480" y="445358"/>
                  <a:pt x="558089" y="445358"/>
                  <a:pt x="551060" y="452383"/>
                </a:cubicBezTo>
                <a:lnTo>
                  <a:pt x="483138" y="520323"/>
                </a:lnTo>
                <a:cubicBezTo>
                  <a:pt x="481498" y="520294"/>
                  <a:pt x="481926" y="520517"/>
                  <a:pt x="477967" y="520044"/>
                </a:cubicBezTo>
                <a:cubicBezTo>
                  <a:pt x="469863" y="519074"/>
                  <a:pt x="457355" y="516627"/>
                  <a:pt x="440946" y="510519"/>
                </a:cubicBezTo>
                <a:cubicBezTo>
                  <a:pt x="408126" y="498302"/>
                  <a:pt x="359600" y="471422"/>
                  <a:pt x="300061" y="411883"/>
                </a:cubicBezTo>
                <a:cubicBezTo>
                  <a:pt x="240522" y="352344"/>
                  <a:pt x="213642" y="303818"/>
                  <a:pt x="201425" y="270998"/>
                </a:cubicBezTo>
                <a:cubicBezTo>
                  <a:pt x="195317" y="254589"/>
                  <a:pt x="192870" y="242081"/>
                  <a:pt x="191900" y="233977"/>
                </a:cubicBezTo>
                <a:cubicBezTo>
                  <a:pt x="191426" y="230018"/>
                  <a:pt x="191652" y="230446"/>
                  <a:pt x="191621" y="228806"/>
                </a:cubicBezTo>
                <a:lnTo>
                  <a:pt x="259561" y="160884"/>
                </a:lnTo>
                <a:cubicBezTo>
                  <a:pt x="266586" y="153855"/>
                  <a:pt x="266586" y="142464"/>
                  <a:pt x="259561" y="135435"/>
                </a:cubicBezTo>
                <a:lnTo>
                  <a:pt x="129374" y="5266"/>
                </a:lnTo>
                <a:cubicBezTo>
                  <a:pt x="125952" y="1848"/>
                  <a:pt x="121299" y="-50"/>
                  <a:pt x="116463" y="1"/>
                </a:cubicBezTo>
                <a:close/>
                <a:moveTo>
                  <a:pt x="116649" y="43440"/>
                </a:moveTo>
                <a:lnTo>
                  <a:pt x="221387" y="148159"/>
                </a:lnTo>
                <a:lnTo>
                  <a:pt x="160683" y="208844"/>
                </a:lnTo>
                <a:cubicBezTo>
                  <a:pt x="157750" y="211772"/>
                  <a:pt x="155916" y="215623"/>
                  <a:pt x="155493" y="219746"/>
                </a:cubicBezTo>
                <a:cubicBezTo>
                  <a:pt x="155493" y="219746"/>
                  <a:pt x="154861" y="227379"/>
                  <a:pt x="156163" y="238256"/>
                </a:cubicBezTo>
                <a:cubicBezTo>
                  <a:pt x="157465" y="249133"/>
                  <a:pt x="160595" y="264478"/>
                  <a:pt x="167697" y="283556"/>
                </a:cubicBezTo>
                <a:cubicBezTo>
                  <a:pt x="181900" y="321712"/>
                  <a:pt x="211977" y="374699"/>
                  <a:pt x="274611" y="437333"/>
                </a:cubicBezTo>
                <a:cubicBezTo>
                  <a:pt x="337245" y="499966"/>
                  <a:pt x="390232" y="530043"/>
                  <a:pt x="428388" y="544247"/>
                </a:cubicBezTo>
                <a:cubicBezTo>
                  <a:pt x="447466" y="551349"/>
                  <a:pt x="462811" y="554479"/>
                  <a:pt x="473687" y="555781"/>
                </a:cubicBezTo>
                <a:cubicBezTo>
                  <a:pt x="484564" y="557083"/>
                  <a:pt x="492198" y="556451"/>
                  <a:pt x="492198" y="556451"/>
                </a:cubicBezTo>
                <a:cubicBezTo>
                  <a:pt x="496321" y="556027"/>
                  <a:pt x="500172" y="554194"/>
                  <a:pt x="503100" y="551260"/>
                </a:cubicBezTo>
                <a:lnTo>
                  <a:pt x="563784" y="490557"/>
                </a:lnTo>
                <a:lnTo>
                  <a:pt x="668503" y="595295"/>
                </a:lnTo>
                <a:lnTo>
                  <a:pt x="588787" y="675011"/>
                </a:lnTo>
                <a:cubicBezTo>
                  <a:pt x="580614" y="674493"/>
                  <a:pt x="551779" y="671919"/>
                  <a:pt x="497072" y="649450"/>
                </a:cubicBezTo>
                <a:cubicBezTo>
                  <a:pt x="433781" y="623455"/>
                  <a:pt x="344413" y="572024"/>
                  <a:pt x="242167" y="469777"/>
                </a:cubicBezTo>
                <a:cubicBezTo>
                  <a:pt x="139920" y="367530"/>
                  <a:pt x="88489" y="278162"/>
                  <a:pt x="62494" y="214871"/>
                </a:cubicBezTo>
                <a:cubicBezTo>
                  <a:pt x="40024" y="160165"/>
                  <a:pt x="37451" y="131329"/>
                  <a:pt x="36933" y="123156"/>
                </a:cubicBezTo>
                <a:lnTo>
                  <a:pt x="116649" y="4344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12" name="Freeform: Shape 45"/>
          <p:cNvSpPr/>
          <p:nvPr/>
        </p:nvSpPr>
        <p:spPr>
          <a:xfrm>
            <a:off x="2479680" y="2422440"/>
            <a:ext cx="561960" cy="588960"/>
          </a:xfrm>
          <a:custGeom>
            <a:avLst/>
            <a:gdLst/>
            <a:ahLst/>
            <a:rect l="l" t="t" r="r" b="b"/>
            <a:pathLst>
              <a:path w="623310" h="653914">
                <a:moveTo>
                  <a:pt x="311628" y="1"/>
                </a:moveTo>
                <a:cubicBezTo>
                  <a:pt x="171197" y="1"/>
                  <a:pt x="56945" y="114253"/>
                  <a:pt x="56945" y="254683"/>
                </a:cubicBezTo>
                <a:cubicBezTo>
                  <a:pt x="56945" y="389056"/>
                  <a:pt x="161565" y="499366"/>
                  <a:pt x="293619" y="508640"/>
                </a:cubicBezTo>
                <a:lnTo>
                  <a:pt x="293619" y="551893"/>
                </a:lnTo>
                <a:lnTo>
                  <a:pt x="164809" y="551893"/>
                </a:lnTo>
                <a:cubicBezTo>
                  <a:pt x="154868" y="551889"/>
                  <a:pt x="146806" y="559943"/>
                  <a:pt x="146800" y="569883"/>
                </a:cubicBezTo>
                <a:cubicBezTo>
                  <a:pt x="146796" y="579824"/>
                  <a:pt x="154851" y="587886"/>
                  <a:pt x="164792" y="587891"/>
                </a:cubicBezTo>
                <a:cubicBezTo>
                  <a:pt x="164798" y="587891"/>
                  <a:pt x="164803" y="587891"/>
                  <a:pt x="164809" y="587891"/>
                </a:cubicBezTo>
                <a:lnTo>
                  <a:pt x="293619" y="587891"/>
                </a:lnTo>
                <a:lnTo>
                  <a:pt x="293619" y="617917"/>
                </a:lnTo>
                <a:lnTo>
                  <a:pt x="17990" y="617917"/>
                </a:lnTo>
                <a:cubicBezTo>
                  <a:pt x="8057" y="617923"/>
                  <a:pt x="6" y="625974"/>
                  <a:pt x="0" y="635907"/>
                </a:cubicBezTo>
                <a:cubicBezTo>
                  <a:pt x="-5" y="645847"/>
                  <a:pt x="8049" y="653909"/>
                  <a:pt x="17990" y="653915"/>
                </a:cubicBezTo>
                <a:lnTo>
                  <a:pt x="605321" y="653915"/>
                </a:lnTo>
                <a:cubicBezTo>
                  <a:pt x="615261" y="653909"/>
                  <a:pt x="623315" y="645847"/>
                  <a:pt x="623311" y="635907"/>
                </a:cubicBezTo>
                <a:cubicBezTo>
                  <a:pt x="623305" y="625974"/>
                  <a:pt x="615254" y="617923"/>
                  <a:pt x="605321" y="617917"/>
                </a:cubicBezTo>
                <a:lnTo>
                  <a:pt x="329617" y="617917"/>
                </a:lnTo>
                <a:lnTo>
                  <a:pt x="329617" y="587891"/>
                </a:lnTo>
                <a:lnTo>
                  <a:pt x="458428" y="587891"/>
                </a:lnTo>
                <a:cubicBezTo>
                  <a:pt x="468369" y="587896"/>
                  <a:pt x="476432" y="579840"/>
                  <a:pt x="476436" y="569899"/>
                </a:cubicBezTo>
                <a:cubicBezTo>
                  <a:pt x="476436" y="569894"/>
                  <a:pt x="476436" y="569888"/>
                  <a:pt x="476436" y="569883"/>
                </a:cubicBezTo>
                <a:cubicBezTo>
                  <a:pt x="476430" y="559942"/>
                  <a:pt x="468368" y="551889"/>
                  <a:pt x="458428" y="551893"/>
                </a:cubicBezTo>
                <a:lnTo>
                  <a:pt x="329617" y="551893"/>
                </a:lnTo>
                <a:lnTo>
                  <a:pt x="329617" y="508640"/>
                </a:lnTo>
                <a:cubicBezTo>
                  <a:pt x="459220" y="499496"/>
                  <a:pt x="561321" y="392536"/>
                  <a:pt x="564952" y="261418"/>
                </a:cubicBezTo>
                <a:cubicBezTo>
                  <a:pt x="564952" y="261399"/>
                  <a:pt x="564951" y="261389"/>
                  <a:pt x="564952" y="261361"/>
                </a:cubicBezTo>
                <a:cubicBezTo>
                  <a:pt x="565819" y="259240"/>
                  <a:pt x="566274" y="256973"/>
                  <a:pt x="566291" y="254682"/>
                </a:cubicBezTo>
                <a:cubicBezTo>
                  <a:pt x="566269" y="252336"/>
                  <a:pt x="565789" y="250017"/>
                  <a:pt x="564877" y="247855"/>
                </a:cubicBezTo>
                <a:cubicBezTo>
                  <a:pt x="561033" y="110758"/>
                  <a:pt x="449637" y="0"/>
                  <a:pt x="311628" y="0"/>
                </a:cubicBezTo>
                <a:lnTo>
                  <a:pt x="311628" y="1"/>
                </a:lnTo>
                <a:close/>
                <a:moveTo>
                  <a:pt x="311628" y="35999"/>
                </a:moveTo>
                <a:cubicBezTo>
                  <a:pt x="432602" y="35999"/>
                  <a:pt x="530293" y="133709"/>
                  <a:pt x="530293" y="254683"/>
                </a:cubicBezTo>
                <a:cubicBezTo>
                  <a:pt x="530293" y="375658"/>
                  <a:pt x="432602" y="473349"/>
                  <a:pt x="311628" y="473349"/>
                </a:cubicBezTo>
                <a:cubicBezTo>
                  <a:pt x="190653" y="473349"/>
                  <a:pt x="92943" y="375658"/>
                  <a:pt x="92943" y="254683"/>
                </a:cubicBezTo>
                <a:cubicBezTo>
                  <a:pt x="92943" y="133709"/>
                  <a:pt x="190653" y="35999"/>
                  <a:pt x="311628" y="35999"/>
                </a:cubicBezTo>
                <a:close/>
                <a:moveTo>
                  <a:pt x="311628" y="83178"/>
                </a:moveTo>
                <a:cubicBezTo>
                  <a:pt x="217123" y="83178"/>
                  <a:pt x="140122" y="160179"/>
                  <a:pt x="140122" y="254683"/>
                </a:cubicBezTo>
                <a:cubicBezTo>
                  <a:pt x="140122" y="349188"/>
                  <a:pt x="217123" y="426171"/>
                  <a:pt x="311628" y="426171"/>
                </a:cubicBezTo>
                <a:cubicBezTo>
                  <a:pt x="403641" y="426170"/>
                  <a:pt x="477789" y="352790"/>
                  <a:pt x="481701" y="261716"/>
                </a:cubicBezTo>
                <a:cubicBezTo>
                  <a:pt x="482639" y="259490"/>
                  <a:pt x="483120" y="257099"/>
                  <a:pt x="483115" y="254683"/>
                </a:cubicBezTo>
                <a:cubicBezTo>
                  <a:pt x="483103" y="252312"/>
                  <a:pt x="482622" y="249967"/>
                  <a:pt x="481701" y="247782"/>
                </a:cubicBezTo>
                <a:cubicBezTo>
                  <a:pt x="477862" y="156641"/>
                  <a:pt x="403688" y="83178"/>
                  <a:pt x="311628" y="83178"/>
                </a:cubicBezTo>
                <a:close/>
                <a:moveTo>
                  <a:pt x="311628" y="119175"/>
                </a:moveTo>
                <a:cubicBezTo>
                  <a:pt x="386676" y="119176"/>
                  <a:pt x="447117" y="179635"/>
                  <a:pt x="447117" y="254683"/>
                </a:cubicBezTo>
                <a:cubicBezTo>
                  <a:pt x="447117" y="329732"/>
                  <a:pt x="386676" y="390173"/>
                  <a:pt x="311628" y="390173"/>
                </a:cubicBezTo>
                <a:cubicBezTo>
                  <a:pt x="236579" y="390173"/>
                  <a:pt x="176119" y="329732"/>
                  <a:pt x="176119" y="254683"/>
                </a:cubicBezTo>
                <a:cubicBezTo>
                  <a:pt x="176119" y="220270"/>
                  <a:pt x="188942" y="189015"/>
                  <a:pt x="209941" y="165163"/>
                </a:cubicBezTo>
                <a:cubicBezTo>
                  <a:pt x="202307" y="175245"/>
                  <a:pt x="197718" y="187727"/>
                  <a:pt x="197718" y="201236"/>
                </a:cubicBezTo>
                <a:cubicBezTo>
                  <a:pt x="197718" y="234232"/>
                  <a:pt x="224829" y="261362"/>
                  <a:pt x="257826" y="261362"/>
                </a:cubicBezTo>
                <a:cubicBezTo>
                  <a:pt x="262280" y="261362"/>
                  <a:pt x="266457" y="260656"/>
                  <a:pt x="270495" y="259651"/>
                </a:cubicBezTo>
                <a:cubicBezTo>
                  <a:pt x="265753" y="269918"/>
                  <a:pt x="263035" y="281295"/>
                  <a:pt x="263035" y="293286"/>
                </a:cubicBezTo>
                <a:cubicBezTo>
                  <a:pt x="263035" y="337764"/>
                  <a:pt x="299482" y="374211"/>
                  <a:pt x="343960" y="374211"/>
                </a:cubicBezTo>
                <a:cubicBezTo>
                  <a:pt x="383490" y="374211"/>
                  <a:pt x="412726" y="343638"/>
                  <a:pt x="419621" y="306011"/>
                </a:cubicBezTo>
                <a:cubicBezTo>
                  <a:pt x="422993" y="302634"/>
                  <a:pt x="424887" y="298058"/>
                  <a:pt x="424886" y="293286"/>
                </a:cubicBezTo>
                <a:cubicBezTo>
                  <a:pt x="424852" y="288559"/>
                  <a:pt x="422961" y="284035"/>
                  <a:pt x="419621" y="280691"/>
                </a:cubicBezTo>
                <a:cubicBezTo>
                  <a:pt x="412774" y="243005"/>
                  <a:pt x="383531" y="212342"/>
                  <a:pt x="343960" y="212342"/>
                </a:cubicBezTo>
                <a:cubicBezTo>
                  <a:pt x="332175" y="212342"/>
                  <a:pt x="320994" y="214971"/>
                  <a:pt x="310865" y="219560"/>
                </a:cubicBezTo>
                <a:cubicBezTo>
                  <a:pt x="311489" y="217701"/>
                  <a:pt x="312192" y="215878"/>
                  <a:pt x="312669" y="213960"/>
                </a:cubicBezTo>
                <a:cubicBezTo>
                  <a:pt x="316048" y="210587"/>
                  <a:pt x="317949" y="206010"/>
                  <a:pt x="317953" y="201236"/>
                </a:cubicBezTo>
                <a:cubicBezTo>
                  <a:pt x="317949" y="196461"/>
                  <a:pt x="316048" y="191884"/>
                  <a:pt x="312669" y="188511"/>
                </a:cubicBezTo>
                <a:cubicBezTo>
                  <a:pt x="306164" y="162354"/>
                  <a:pt x="285881" y="141128"/>
                  <a:pt x="257826" y="141128"/>
                </a:cubicBezTo>
                <a:cubicBezTo>
                  <a:pt x="244218" y="141128"/>
                  <a:pt x="231650" y="145782"/>
                  <a:pt x="221531" y="153517"/>
                </a:cubicBezTo>
                <a:cubicBezTo>
                  <a:pt x="245454" y="132212"/>
                  <a:pt x="276934" y="119175"/>
                  <a:pt x="311628" y="119175"/>
                </a:cubicBezTo>
                <a:close/>
                <a:moveTo>
                  <a:pt x="257826" y="177125"/>
                </a:moveTo>
                <a:cubicBezTo>
                  <a:pt x="271367" y="177125"/>
                  <a:pt x="281955" y="187695"/>
                  <a:pt x="281955" y="201236"/>
                </a:cubicBezTo>
                <a:cubicBezTo>
                  <a:pt x="281955" y="214776"/>
                  <a:pt x="271367" y="225364"/>
                  <a:pt x="257826" y="225364"/>
                </a:cubicBezTo>
                <a:cubicBezTo>
                  <a:pt x="244285" y="225364"/>
                  <a:pt x="233716" y="214777"/>
                  <a:pt x="233716" y="201236"/>
                </a:cubicBezTo>
                <a:cubicBezTo>
                  <a:pt x="233716" y="187695"/>
                  <a:pt x="244285" y="177125"/>
                  <a:pt x="257826" y="177125"/>
                </a:cubicBezTo>
                <a:close/>
                <a:moveTo>
                  <a:pt x="343960" y="248340"/>
                </a:moveTo>
                <a:cubicBezTo>
                  <a:pt x="368983" y="248340"/>
                  <a:pt x="388888" y="268263"/>
                  <a:pt x="388888" y="293286"/>
                </a:cubicBezTo>
                <a:cubicBezTo>
                  <a:pt x="388888" y="318308"/>
                  <a:pt x="368983" y="338213"/>
                  <a:pt x="343960" y="338213"/>
                </a:cubicBezTo>
                <a:cubicBezTo>
                  <a:pt x="318938" y="338213"/>
                  <a:pt x="299033" y="318308"/>
                  <a:pt x="299033" y="293286"/>
                </a:cubicBezTo>
                <a:cubicBezTo>
                  <a:pt x="299033" y="268263"/>
                  <a:pt x="318938" y="248340"/>
                  <a:pt x="343960" y="24834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13" name="Freeform: Shape 46"/>
          <p:cNvSpPr/>
          <p:nvPr/>
        </p:nvSpPr>
        <p:spPr>
          <a:xfrm>
            <a:off x="4351320" y="2311560"/>
            <a:ext cx="441360" cy="707760"/>
          </a:xfrm>
          <a:custGeom>
            <a:avLst/>
            <a:gdLst/>
            <a:ahLst/>
            <a:rect l="l" t="t" r="r" b="b"/>
            <a:pathLst>
              <a:path w="488323" h="784901">
                <a:moveTo>
                  <a:pt x="18008" y="0"/>
                </a:moveTo>
                <a:cubicBezTo>
                  <a:pt x="8068" y="-4"/>
                  <a:pt x="7" y="8050"/>
                  <a:pt x="0" y="17990"/>
                </a:cubicBezTo>
                <a:lnTo>
                  <a:pt x="0" y="681744"/>
                </a:lnTo>
                <a:lnTo>
                  <a:pt x="0" y="766893"/>
                </a:lnTo>
                <a:cubicBezTo>
                  <a:pt x="-4" y="776835"/>
                  <a:pt x="8053" y="784897"/>
                  <a:pt x="17995" y="784901"/>
                </a:cubicBezTo>
                <a:cubicBezTo>
                  <a:pt x="18000" y="784901"/>
                  <a:pt x="18004" y="784901"/>
                  <a:pt x="18008" y="784901"/>
                </a:cubicBezTo>
                <a:lnTo>
                  <a:pt x="470315" y="784901"/>
                </a:lnTo>
                <a:cubicBezTo>
                  <a:pt x="480258" y="784905"/>
                  <a:pt x="488320" y="776848"/>
                  <a:pt x="488324" y="766906"/>
                </a:cubicBezTo>
                <a:cubicBezTo>
                  <a:pt x="488324" y="766901"/>
                  <a:pt x="488324" y="766897"/>
                  <a:pt x="488324" y="766893"/>
                </a:cubicBezTo>
                <a:lnTo>
                  <a:pt x="488324" y="681744"/>
                </a:lnTo>
                <a:lnTo>
                  <a:pt x="488324" y="17990"/>
                </a:lnTo>
                <a:cubicBezTo>
                  <a:pt x="488317" y="8050"/>
                  <a:pt x="480255" y="-4"/>
                  <a:pt x="470315" y="0"/>
                </a:cubicBezTo>
                <a:lnTo>
                  <a:pt x="18008" y="0"/>
                </a:lnTo>
                <a:close/>
                <a:moveTo>
                  <a:pt x="35998" y="35998"/>
                </a:moveTo>
                <a:lnTo>
                  <a:pt x="452326" y="35998"/>
                </a:lnTo>
                <a:lnTo>
                  <a:pt x="452326" y="663736"/>
                </a:lnTo>
                <a:lnTo>
                  <a:pt x="35998" y="663736"/>
                </a:lnTo>
                <a:lnTo>
                  <a:pt x="35998" y="35998"/>
                </a:lnTo>
                <a:close/>
                <a:moveTo>
                  <a:pt x="162074" y="76423"/>
                </a:moveTo>
                <a:cubicBezTo>
                  <a:pt x="152133" y="76419"/>
                  <a:pt x="144070" y="84474"/>
                  <a:pt x="144066" y="94415"/>
                </a:cubicBezTo>
                <a:cubicBezTo>
                  <a:pt x="144066" y="94420"/>
                  <a:pt x="144066" y="94426"/>
                  <a:pt x="144066" y="94431"/>
                </a:cubicBezTo>
                <a:cubicBezTo>
                  <a:pt x="144071" y="104372"/>
                  <a:pt x="152134" y="112426"/>
                  <a:pt x="162074" y="112421"/>
                </a:cubicBezTo>
                <a:lnTo>
                  <a:pt x="326250" y="112421"/>
                </a:lnTo>
                <a:cubicBezTo>
                  <a:pt x="336190" y="112426"/>
                  <a:pt x="344252" y="104372"/>
                  <a:pt x="344258" y="94431"/>
                </a:cubicBezTo>
                <a:cubicBezTo>
                  <a:pt x="344263" y="84490"/>
                  <a:pt x="336207" y="76428"/>
                  <a:pt x="326266" y="76423"/>
                </a:cubicBezTo>
                <a:cubicBezTo>
                  <a:pt x="326261" y="76423"/>
                  <a:pt x="326255" y="76423"/>
                  <a:pt x="326250" y="76423"/>
                </a:cubicBezTo>
                <a:lnTo>
                  <a:pt x="162074" y="76423"/>
                </a:lnTo>
                <a:close/>
                <a:moveTo>
                  <a:pt x="35998" y="699753"/>
                </a:moveTo>
                <a:lnTo>
                  <a:pt x="452326" y="699753"/>
                </a:lnTo>
                <a:lnTo>
                  <a:pt x="452326" y="748885"/>
                </a:lnTo>
                <a:lnTo>
                  <a:pt x="35998" y="748885"/>
                </a:lnTo>
                <a:lnTo>
                  <a:pt x="35998" y="6997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14" name="Freeform: Shape 47"/>
          <p:cNvSpPr/>
          <p:nvPr/>
        </p:nvSpPr>
        <p:spPr>
          <a:xfrm>
            <a:off x="4265640" y="4148280"/>
            <a:ext cx="569880" cy="590400"/>
          </a:xfrm>
          <a:custGeom>
            <a:avLst/>
            <a:gdLst/>
            <a:ahLst/>
            <a:rect l="l" t="t" r="r" b="b"/>
            <a:pathLst>
              <a:path w="711696" h="739061">
                <a:moveTo>
                  <a:pt x="356908" y="0"/>
                </a:moveTo>
                <a:cubicBezTo>
                  <a:pt x="249922" y="0"/>
                  <a:pt x="159934" y="38351"/>
                  <a:pt x="97389" y="103640"/>
                </a:cubicBezTo>
                <a:cubicBezTo>
                  <a:pt x="34844" y="168929"/>
                  <a:pt x="0" y="260614"/>
                  <a:pt x="0" y="365354"/>
                </a:cubicBezTo>
                <a:cubicBezTo>
                  <a:pt x="0" y="428304"/>
                  <a:pt x="4872" y="520575"/>
                  <a:pt x="52667" y="598996"/>
                </a:cubicBezTo>
                <a:cubicBezTo>
                  <a:pt x="100461" y="677417"/>
                  <a:pt x="192641" y="739062"/>
                  <a:pt x="354806" y="739062"/>
                </a:cubicBezTo>
                <a:cubicBezTo>
                  <a:pt x="364747" y="739056"/>
                  <a:pt x="372800" y="730994"/>
                  <a:pt x="372796" y="721054"/>
                </a:cubicBezTo>
                <a:cubicBezTo>
                  <a:pt x="372790" y="711121"/>
                  <a:pt x="364739" y="703070"/>
                  <a:pt x="354806" y="703064"/>
                </a:cubicBezTo>
                <a:cubicBezTo>
                  <a:pt x="201460" y="703064"/>
                  <a:pt x="125190" y="648777"/>
                  <a:pt x="83455" y="580300"/>
                </a:cubicBezTo>
                <a:cubicBezTo>
                  <a:pt x="41721" y="511822"/>
                  <a:pt x="35998" y="426239"/>
                  <a:pt x="35998" y="365354"/>
                </a:cubicBezTo>
                <a:cubicBezTo>
                  <a:pt x="35998" y="268560"/>
                  <a:pt x="67849" y="186516"/>
                  <a:pt x="123397" y="128532"/>
                </a:cubicBezTo>
                <a:cubicBezTo>
                  <a:pt x="178945" y="70547"/>
                  <a:pt x="258436" y="35998"/>
                  <a:pt x="356908" y="35998"/>
                </a:cubicBezTo>
                <a:cubicBezTo>
                  <a:pt x="478228" y="35998"/>
                  <a:pt x="556420" y="70400"/>
                  <a:pt x="605526" y="124606"/>
                </a:cubicBezTo>
                <a:cubicBezTo>
                  <a:pt x="654632" y="178813"/>
                  <a:pt x="675698" y="254961"/>
                  <a:pt x="675698" y="342212"/>
                </a:cubicBezTo>
                <a:cubicBezTo>
                  <a:pt x="675698" y="461930"/>
                  <a:pt x="627726" y="512849"/>
                  <a:pt x="580002" y="538181"/>
                </a:cubicBezTo>
                <a:cubicBezTo>
                  <a:pt x="545722" y="556376"/>
                  <a:pt x="517864" y="559110"/>
                  <a:pt x="501197" y="559761"/>
                </a:cubicBezTo>
                <a:lnTo>
                  <a:pt x="501197" y="243929"/>
                </a:lnTo>
                <a:cubicBezTo>
                  <a:pt x="501218" y="243433"/>
                  <a:pt x="501218" y="242937"/>
                  <a:pt x="501197" y="242441"/>
                </a:cubicBezTo>
                <a:lnTo>
                  <a:pt x="501197" y="174873"/>
                </a:lnTo>
                <a:cubicBezTo>
                  <a:pt x="501202" y="164932"/>
                  <a:pt x="493147" y="156869"/>
                  <a:pt x="483205" y="156865"/>
                </a:cubicBezTo>
                <a:cubicBezTo>
                  <a:pt x="483200" y="156865"/>
                  <a:pt x="483195" y="156865"/>
                  <a:pt x="483189" y="156865"/>
                </a:cubicBezTo>
                <a:cubicBezTo>
                  <a:pt x="473248" y="156860"/>
                  <a:pt x="465186" y="164915"/>
                  <a:pt x="465181" y="174857"/>
                </a:cubicBezTo>
                <a:cubicBezTo>
                  <a:pt x="465181" y="174862"/>
                  <a:pt x="465181" y="174868"/>
                  <a:pt x="465181" y="174873"/>
                </a:cubicBezTo>
                <a:lnTo>
                  <a:pt x="465181" y="186203"/>
                </a:lnTo>
                <a:cubicBezTo>
                  <a:pt x="442890" y="168540"/>
                  <a:pt x="407638" y="153925"/>
                  <a:pt x="354806" y="153925"/>
                </a:cubicBezTo>
                <a:cubicBezTo>
                  <a:pt x="290939" y="153925"/>
                  <a:pt x="235951" y="187959"/>
                  <a:pt x="200806" y="239836"/>
                </a:cubicBezTo>
                <a:cubicBezTo>
                  <a:pt x="165662" y="291714"/>
                  <a:pt x="149341" y="361438"/>
                  <a:pt x="159339" y="435657"/>
                </a:cubicBezTo>
                <a:cubicBezTo>
                  <a:pt x="168546" y="504004"/>
                  <a:pt x="206457" y="567032"/>
                  <a:pt x="266700" y="596540"/>
                </a:cubicBezTo>
                <a:cubicBezTo>
                  <a:pt x="320191" y="622741"/>
                  <a:pt x="389841" y="619955"/>
                  <a:pt x="465181" y="573974"/>
                </a:cubicBezTo>
                <a:lnTo>
                  <a:pt x="465181" y="578755"/>
                </a:lnTo>
                <a:cubicBezTo>
                  <a:pt x="465169" y="588275"/>
                  <a:pt x="472571" y="596158"/>
                  <a:pt x="482073" y="596745"/>
                </a:cubicBezTo>
                <a:cubicBezTo>
                  <a:pt x="482073" y="596745"/>
                  <a:pt x="539366" y="600491"/>
                  <a:pt x="596894" y="569956"/>
                </a:cubicBezTo>
                <a:cubicBezTo>
                  <a:pt x="654421" y="539420"/>
                  <a:pt x="711696" y="472052"/>
                  <a:pt x="711696" y="342212"/>
                </a:cubicBezTo>
                <a:cubicBezTo>
                  <a:pt x="711696" y="249154"/>
                  <a:pt x="689171" y="163227"/>
                  <a:pt x="632259" y="100403"/>
                </a:cubicBezTo>
                <a:cubicBezTo>
                  <a:pt x="575347" y="37580"/>
                  <a:pt x="485148" y="0"/>
                  <a:pt x="356908" y="0"/>
                </a:cubicBezTo>
                <a:close/>
                <a:moveTo>
                  <a:pt x="354806" y="189923"/>
                </a:moveTo>
                <a:cubicBezTo>
                  <a:pt x="408649" y="189923"/>
                  <a:pt x="435091" y="205866"/>
                  <a:pt x="449368" y="220228"/>
                </a:cubicBezTo>
                <a:cubicBezTo>
                  <a:pt x="461233" y="232164"/>
                  <a:pt x="464400" y="241936"/>
                  <a:pt x="465181" y="245045"/>
                </a:cubicBezTo>
                <a:lnTo>
                  <a:pt x="465181" y="530889"/>
                </a:lnTo>
                <a:cubicBezTo>
                  <a:pt x="389586" y="584604"/>
                  <a:pt x="328253" y="586593"/>
                  <a:pt x="282513" y="564189"/>
                </a:cubicBezTo>
                <a:cubicBezTo>
                  <a:pt x="235309" y="541068"/>
                  <a:pt x="202825" y="489015"/>
                  <a:pt x="194983" y="430802"/>
                </a:cubicBezTo>
                <a:cubicBezTo>
                  <a:pt x="186081" y="364718"/>
                  <a:pt x="201010" y="303741"/>
                  <a:pt x="230628" y="260021"/>
                </a:cubicBezTo>
                <a:cubicBezTo>
                  <a:pt x="260245" y="216302"/>
                  <a:pt x="303557" y="189923"/>
                  <a:pt x="354806" y="18992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Freeform: Shape 3"/>
          <p:cNvSpPr/>
          <p:nvPr/>
        </p:nvSpPr>
        <p:spPr>
          <a:xfrm>
            <a:off x="3735360" y="1808280"/>
            <a:ext cx="2097000" cy="1298520"/>
          </a:xfrm>
          <a:custGeom>
            <a:avLst/>
            <a:gdLst/>
            <a:ahLst/>
            <a:rect l="l" t="t" r="r" b="b"/>
            <a:pathLst>
              <a:path w="2551817" h="1580254">
                <a:moveTo>
                  <a:pt x="2489638" y="0"/>
                </a:moveTo>
                <a:lnTo>
                  <a:pt x="0" y="1475351"/>
                </a:lnTo>
                <a:lnTo>
                  <a:pt x="62180" y="1580255"/>
                </a:lnTo>
                <a:lnTo>
                  <a:pt x="2551818" y="104943"/>
                </a:lnTo>
                <a:lnTo>
                  <a:pt x="2489638" y="0"/>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16" name="Freeform: Shape 4"/>
          <p:cNvSpPr/>
          <p:nvPr/>
        </p:nvSpPr>
        <p:spPr>
          <a:xfrm>
            <a:off x="5149800" y="1017720"/>
            <a:ext cx="1540080" cy="1539720"/>
          </a:xfrm>
          <a:custGeom>
            <a:avLst/>
            <a:gdLst/>
            <a:ahLst/>
            <a:rect l="l" t="t" r="r" b="b"/>
            <a:pathLst>
              <a:path w="1874903" h="1874904">
                <a:moveTo>
                  <a:pt x="1874904" y="937452"/>
                </a:moveTo>
                <a:cubicBezTo>
                  <a:pt x="1874904" y="1455193"/>
                  <a:pt x="1455192" y="1874904"/>
                  <a:pt x="937452" y="1874904"/>
                </a:cubicBezTo>
                <a:cubicBezTo>
                  <a:pt x="419712" y="1874904"/>
                  <a:pt x="0" y="1455193"/>
                  <a:pt x="0" y="937452"/>
                </a:cubicBezTo>
                <a:cubicBezTo>
                  <a:pt x="0" y="419712"/>
                  <a:pt x="419711" y="0"/>
                  <a:pt x="937452" y="0"/>
                </a:cubicBezTo>
                <a:cubicBezTo>
                  <a:pt x="1455193" y="0"/>
                  <a:pt x="1874904" y="419712"/>
                  <a:pt x="1874904" y="937452"/>
                </a:cubicBez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17" name="Freeform: Shape 5"/>
          <p:cNvSpPr/>
          <p:nvPr/>
        </p:nvSpPr>
        <p:spPr>
          <a:xfrm>
            <a:off x="3443400" y="3497400"/>
            <a:ext cx="2377800" cy="120600"/>
          </a:xfrm>
          <a:custGeom>
            <a:avLst/>
            <a:gdLst/>
            <a:ahLst/>
            <a:rect l="l" t="t" r="r" b="b"/>
            <a:pathLst>
              <a:path w="2894835" h="145681">
                <a:moveTo>
                  <a:pt x="2893804" y="0"/>
                </a:moveTo>
                <a:lnTo>
                  <a:pt x="0" y="23705"/>
                </a:lnTo>
                <a:lnTo>
                  <a:pt x="992" y="145681"/>
                </a:lnTo>
                <a:lnTo>
                  <a:pt x="2894836" y="121977"/>
                </a:lnTo>
                <a:lnTo>
                  <a:pt x="2893804" y="0"/>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18" name="Freeform: Shape 6"/>
          <p:cNvSpPr/>
          <p:nvPr/>
        </p:nvSpPr>
        <p:spPr>
          <a:xfrm>
            <a:off x="5149800" y="2787480"/>
            <a:ext cx="1540080" cy="1540080"/>
          </a:xfrm>
          <a:custGeom>
            <a:avLst/>
            <a:gdLst/>
            <a:ahLst/>
            <a:rect l="l" t="t" r="r" b="b"/>
            <a:pathLst>
              <a:path w="1875211" h="1875211">
                <a:moveTo>
                  <a:pt x="1747974" y="1408901"/>
                </a:moveTo>
                <a:cubicBezTo>
                  <a:pt x="1487684" y="1856455"/>
                  <a:pt x="913864" y="2008263"/>
                  <a:pt x="466310" y="1747974"/>
                </a:cubicBezTo>
                <a:cubicBezTo>
                  <a:pt x="18756" y="1487684"/>
                  <a:pt x="-133052" y="913864"/>
                  <a:pt x="127238" y="466310"/>
                </a:cubicBezTo>
                <a:cubicBezTo>
                  <a:pt x="387527" y="18756"/>
                  <a:pt x="961348" y="-133052"/>
                  <a:pt x="1408902" y="127237"/>
                </a:cubicBezTo>
                <a:cubicBezTo>
                  <a:pt x="1856456" y="387527"/>
                  <a:pt x="2008263" y="961347"/>
                  <a:pt x="1747974" y="1408901"/>
                </a:cubicBez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19" name="Freeform: Shape 7"/>
          <p:cNvSpPr/>
          <p:nvPr/>
        </p:nvSpPr>
        <p:spPr>
          <a:xfrm>
            <a:off x="3710160" y="4010040"/>
            <a:ext cx="2097000" cy="1297080"/>
          </a:xfrm>
          <a:custGeom>
            <a:avLst/>
            <a:gdLst/>
            <a:ahLst/>
            <a:rect l="l" t="t" r="r" b="b"/>
            <a:pathLst>
              <a:path w="2551817" h="1580294">
                <a:moveTo>
                  <a:pt x="62179" y="0"/>
                </a:moveTo>
                <a:lnTo>
                  <a:pt x="0" y="104943"/>
                </a:lnTo>
                <a:lnTo>
                  <a:pt x="2489638" y="1580295"/>
                </a:lnTo>
                <a:lnTo>
                  <a:pt x="2551818" y="1475351"/>
                </a:lnTo>
                <a:lnTo>
                  <a:pt x="62179" y="0"/>
                </a:ln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20" name="Freeform: Shape 8"/>
          <p:cNvSpPr/>
          <p:nvPr/>
        </p:nvSpPr>
        <p:spPr>
          <a:xfrm>
            <a:off x="5149800" y="4557600"/>
            <a:ext cx="1540080" cy="1540080"/>
          </a:xfrm>
          <a:custGeom>
            <a:avLst/>
            <a:gdLst/>
            <a:ahLst/>
            <a:rect l="l" t="t" r="r" b="b"/>
            <a:pathLst>
              <a:path w="1874903" h="1874903">
                <a:moveTo>
                  <a:pt x="1874903" y="937452"/>
                </a:moveTo>
                <a:cubicBezTo>
                  <a:pt x="1874903" y="419712"/>
                  <a:pt x="1455192" y="0"/>
                  <a:pt x="937452" y="0"/>
                </a:cubicBezTo>
                <a:cubicBezTo>
                  <a:pt x="419711" y="0"/>
                  <a:pt x="0" y="419712"/>
                  <a:pt x="0" y="937452"/>
                </a:cubicBezTo>
                <a:cubicBezTo>
                  <a:pt x="0" y="1455193"/>
                  <a:pt x="419711" y="1874904"/>
                  <a:pt x="937452" y="1874904"/>
                </a:cubicBezTo>
                <a:cubicBezTo>
                  <a:pt x="1455192" y="1874904"/>
                  <a:pt x="1874903" y="1455192"/>
                  <a:pt x="1874903" y="937452"/>
                </a:cubicBez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321" name="Group 33"/>
          <p:cNvGrpSpPr/>
          <p:nvPr/>
        </p:nvGrpSpPr>
        <p:grpSpPr>
          <a:xfrm>
            <a:off x="797040" y="1603440"/>
            <a:ext cx="3882960" cy="3882960"/>
            <a:chOff x="797040" y="1603440"/>
            <a:chExt cx="3882960" cy="3882960"/>
          </a:xfrm>
        </p:grpSpPr>
        <p:sp>
          <p:nvSpPr>
            <p:cNvPr id="2322" name="Freeform: Shape 9"/>
            <p:cNvSpPr/>
            <p:nvPr/>
          </p:nvSpPr>
          <p:spPr>
            <a:xfrm>
              <a:off x="797040" y="1603440"/>
              <a:ext cx="3882960" cy="3882960"/>
            </a:xfrm>
            <a:custGeom>
              <a:avLst/>
              <a:gdLst/>
              <a:ahLst/>
              <a:rect l="l" t="t" r="r" b="b"/>
              <a:pathLst>
                <a:path w="4072537" h="4072537">
                  <a:moveTo>
                    <a:pt x="4072537" y="2036269"/>
                  </a:moveTo>
                  <a:cubicBezTo>
                    <a:pt x="4072537" y="3160869"/>
                    <a:pt x="3160869" y="4072538"/>
                    <a:pt x="2036269" y="4072538"/>
                  </a:cubicBezTo>
                  <a:cubicBezTo>
                    <a:pt x="911669" y="4072538"/>
                    <a:pt x="0" y="3160869"/>
                    <a:pt x="0" y="2036269"/>
                  </a:cubicBezTo>
                  <a:cubicBezTo>
                    <a:pt x="0" y="911669"/>
                    <a:pt x="911669" y="0"/>
                    <a:pt x="2036269" y="0"/>
                  </a:cubicBezTo>
                  <a:cubicBezTo>
                    <a:pt x="3160869" y="0"/>
                    <a:pt x="4072537" y="911669"/>
                    <a:pt x="4072537" y="2036269"/>
                  </a:cubicBezTo>
                  <a:close/>
                </a:path>
              </a:pathLst>
            </a:custGeom>
            <a:solidFill>
              <a:srgbClr val="236e9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23" name="Freeform: Shape 10"/>
            <p:cNvSpPr/>
            <p:nvPr/>
          </p:nvSpPr>
          <p:spPr>
            <a:xfrm>
              <a:off x="1001160" y="1807560"/>
              <a:ext cx="3474360" cy="3474360"/>
            </a:xfrm>
            <a:custGeom>
              <a:avLst/>
              <a:gdLst/>
              <a:ahLst/>
              <a:rect l="l" t="t" r="r" b="b"/>
              <a:pathLst>
                <a:path w="3356861" h="3356861">
                  <a:moveTo>
                    <a:pt x="3356862" y="1678431"/>
                  </a:moveTo>
                  <a:cubicBezTo>
                    <a:pt x="3356862" y="2605402"/>
                    <a:pt x="2605402" y="3356861"/>
                    <a:pt x="1678431" y="3356862"/>
                  </a:cubicBezTo>
                  <a:cubicBezTo>
                    <a:pt x="751459" y="3356862"/>
                    <a:pt x="0" y="2605402"/>
                    <a:pt x="0" y="1678431"/>
                  </a:cubicBezTo>
                  <a:cubicBezTo>
                    <a:pt x="0" y="751459"/>
                    <a:pt x="751459" y="0"/>
                    <a:pt x="1678431" y="0"/>
                  </a:cubicBezTo>
                  <a:cubicBezTo>
                    <a:pt x="2605402" y="0"/>
                    <a:pt x="3356862" y="751459"/>
                    <a:pt x="3356862" y="1678431"/>
                  </a:cubicBezTo>
                  <a:close/>
                </a:path>
              </a:pathLst>
            </a:custGeom>
            <a:solidFill>
              <a:srgbClr val="f9f9f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324" name="TextBox 21"/>
          <p:cNvSpPr/>
          <p:nvPr/>
        </p:nvSpPr>
        <p:spPr>
          <a:xfrm>
            <a:off x="7094520" y="1697040"/>
            <a:ext cx="3745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25" name="TextBox 22"/>
          <p:cNvSpPr/>
          <p:nvPr/>
        </p:nvSpPr>
        <p:spPr>
          <a:xfrm>
            <a:off x="7094520" y="1312920"/>
            <a:ext cx="206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326" name="TextBox 26"/>
          <p:cNvSpPr/>
          <p:nvPr/>
        </p:nvSpPr>
        <p:spPr>
          <a:xfrm>
            <a:off x="7094520" y="3467160"/>
            <a:ext cx="3745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27" name="TextBox 27"/>
          <p:cNvSpPr/>
          <p:nvPr/>
        </p:nvSpPr>
        <p:spPr>
          <a:xfrm>
            <a:off x="7094520" y="3081240"/>
            <a:ext cx="206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328" name="TextBox 28"/>
          <p:cNvSpPr/>
          <p:nvPr/>
        </p:nvSpPr>
        <p:spPr>
          <a:xfrm>
            <a:off x="7094520" y="5235480"/>
            <a:ext cx="3745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29" name="TextBox 29"/>
          <p:cNvSpPr/>
          <p:nvPr/>
        </p:nvSpPr>
        <p:spPr>
          <a:xfrm>
            <a:off x="7094520" y="4851360"/>
            <a:ext cx="206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95959"/>
                </a:solidFill>
                <a:latin typeface="Lato Black"/>
              </a:rPr>
              <a:t>Your Text Here</a:t>
            </a:r>
            <a:endParaRPr b="0" lang="en-US" sz="1800" spc="-1" strike="noStrike">
              <a:solidFill>
                <a:srgbClr val="000000"/>
              </a:solidFill>
              <a:latin typeface="Calibri"/>
            </a:endParaRPr>
          </a:p>
        </p:txBody>
      </p:sp>
      <p:sp>
        <p:nvSpPr>
          <p:cNvPr id="2330" name="TextBox 35"/>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331" name="TextBox 36"/>
          <p:cNvSpPr/>
          <p:nvPr/>
        </p:nvSpPr>
        <p:spPr>
          <a:xfrm>
            <a:off x="1641600" y="3895560"/>
            <a:ext cx="21952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a:t>
            </a:r>
            <a:r>
              <a:rPr b="0" lang="en-GB" sz="1100" spc="-1" strike="noStrike">
                <a:solidFill>
                  <a:srgbClr val="7f7f7f"/>
                </a:solidFill>
                <a:latin typeface="Lato"/>
              </a:rPr>
              <a:t>kaka </a:t>
            </a:r>
            <a:r>
              <a:rPr b="0" lang="id-ID" sz="1100" spc="-1" strike="noStrike">
                <a:solidFill>
                  <a:srgbClr val="7f7f7f"/>
                </a:solidFill>
                <a:latin typeface="Lato"/>
              </a:rPr>
              <a:t>itgreat nes</a:t>
            </a:r>
            <a:r>
              <a:rPr b="0" lang="en-GB" sz="1100" spc="-1" strike="noStrike">
                <a:solidFill>
                  <a:srgbClr val="7f7f7f"/>
                </a:solidFill>
                <a:latin typeface="Lato"/>
              </a:rPr>
              <a:t> </a:t>
            </a:r>
            <a:r>
              <a:rPr b="0" lang="id-ID" sz="1100" spc="-1" strike="noStrike">
                <a:solidFill>
                  <a:srgbClr val="7f7f7f"/>
                </a:solidFill>
                <a:latin typeface="Lato"/>
              </a:rPr>
              <a:t>remque trie</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32" name="TextBox 37"/>
          <p:cNvSpPr/>
          <p:nvPr/>
        </p:nvSpPr>
        <p:spPr>
          <a:xfrm>
            <a:off x="1704960" y="2421000"/>
            <a:ext cx="2068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95959"/>
                </a:solidFill>
                <a:latin typeface="Lato Black"/>
              </a:rPr>
              <a:t>Your Text Here</a:t>
            </a:r>
            <a:endParaRPr b="0" lang="en-US" sz="3200" spc="-1" strike="noStrike">
              <a:solidFill>
                <a:srgbClr val="000000"/>
              </a:solidFill>
              <a:latin typeface="Calibri"/>
            </a:endParaRPr>
          </a:p>
        </p:txBody>
      </p:sp>
      <p:sp>
        <p:nvSpPr>
          <p:cNvPr id="2333" name="Straight Connector 38"/>
          <p:cNvSpPr/>
          <p:nvPr/>
        </p:nvSpPr>
        <p:spPr>
          <a:xfrm>
            <a:off x="2405160" y="3713040"/>
            <a:ext cx="66672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334" name="Group 39" descr=""/>
          <p:cNvPicPr/>
          <p:nvPr/>
        </p:nvPicPr>
        <p:blipFill>
          <a:blip r:embed="rId1"/>
          <a:stretch/>
        </p:blipFill>
        <p:spPr>
          <a:xfrm>
            <a:off x="11442600" y="3035160"/>
            <a:ext cx="195480" cy="787680"/>
          </a:xfrm>
          <a:prstGeom prst="rect">
            <a:avLst/>
          </a:prstGeom>
          <a:ln w="0">
            <a:noFill/>
          </a:ln>
        </p:spPr>
      </p:pic>
      <p:pic>
        <p:nvPicPr>
          <p:cNvPr id="2335" name="Graphic 30" descr=""/>
          <p:cNvPicPr/>
          <p:nvPr/>
        </p:nvPicPr>
        <p:blipFill>
          <a:blip r:embed="rId2"/>
          <a:stretch/>
        </p:blipFill>
        <p:spPr>
          <a:xfrm>
            <a:off x="363600" y="369720"/>
            <a:ext cx="366480" cy="366840"/>
          </a:xfrm>
          <a:prstGeom prst="rect">
            <a:avLst/>
          </a:prstGeom>
          <a:ln w="0">
            <a:noFill/>
          </a:ln>
        </p:spPr>
      </p:pic>
      <p:sp>
        <p:nvSpPr>
          <p:cNvPr id="2336" name="Freeform: Shape 31"/>
          <p:cNvSpPr/>
          <p:nvPr/>
        </p:nvSpPr>
        <p:spPr>
          <a:xfrm>
            <a:off x="5621400" y="3351240"/>
            <a:ext cx="596880" cy="388800"/>
          </a:xfrm>
          <a:custGeom>
            <a:avLst/>
            <a:gdLst/>
            <a:ahLst/>
            <a:rect l="l" t="t" r="r" b="b"/>
            <a:pathLst>
              <a:path w="596090" h="388638">
                <a:moveTo>
                  <a:pt x="424141" y="0"/>
                </a:moveTo>
                <a:cubicBezTo>
                  <a:pt x="417190" y="-2"/>
                  <a:pt x="411553" y="5629"/>
                  <a:pt x="411548" y="12580"/>
                </a:cubicBezTo>
                <a:lnTo>
                  <a:pt x="411548" y="372506"/>
                </a:lnTo>
                <a:cubicBezTo>
                  <a:pt x="411546" y="379458"/>
                  <a:pt x="417180" y="385097"/>
                  <a:pt x="424132" y="385099"/>
                </a:cubicBezTo>
                <a:cubicBezTo>
                  <a:pt x="424135" y="385099"/>
                  <a:pt x="424138" y="385099"/>
                  <a:pt x="424141" y="385099"/>
                </a:cubicBezTo>
                <a:lnTo>
                  <a:pt x="583497" y="385099"/>
                </a:lnTo>
                <a:cubicBezTo>
                  <a:pt x="590450" y="385102"/>
                  <a:pt x="596088" y="379467"/>
                  <a:pt x="596090" y="372515"/>
                </a:cubicBezTo>
                <a:cubicBezTo>
                  <a:pt x="596090" y="372512"/>
                  <a:pt x="596090" y="372509"/>
                  <a:pt x="596090" y="372506"/>
                </a:cubicBezTo>
                <a:lnTo>
                  <a:pt x="596090" y="12581"/>
                </a:lnTo>
                <a:cubicBezTo>
                  <a:pt x="596086" y="5630"/>
                  <a:pt x="590448" y="-2"/>
                  <a:pt x="583497" y="0"/>
                </a:cubicBezTo>
                <a:lnTo>
                  <a:pt x="424141" y="0"/>
                </a:lnTo>
                <a:close/>
                <a:moveTo>
                  <a:pt x="12580" y="677"/>
                </a:moveTo>
                <a:cubicBezTo>
                  <a:pt x="5629" y="681"/>
                  <a:pt x="-2" y="6319"/>
                  <a:pt x="0" y="13270"/>
                </a:cubicBezTo>
                <a:lnTo>
                  <a:pt x="0" y="289218"/>
                </a:lnTo>
                <a:cubicBezTo>
                  <a:pt x="5" y="296164"/>
                  <a:pt x="5634" y="301794"/>
                  <a:pt x="12580" y="301799"/>
                </a:cubicBezTo>
                <a:lnTo>
                  <a:pt x="153553" y="301799"/>
                </a:lnTo>
                <a:lnTo>
                  <a:pt x="153553" y="323043"/>
                </a:lnTo>
                <a:lnTo>
                  <a:pt x="77538" y="323043"/>
                </a:lnTo>
                <a:cubicBezTo>
                  <a:pt x="70585" y="323041"/>
                  <a:pt x="64947" y="328675"/>
                  <a:pt x="64944" y="335628"/>
                </a:cubicBezTo>
                <a:cubicBezTo>
                  <a:pt x="64944" y="335631"/>
                  <a:pt x="64944" y="335634"/>
                  <a:pt x="64944" y="335637"/>
                </a:cubicBezTo>
                <a:lnTo>
                  <a:pt x="64944" y="376045"/>
                </a:lnTo>
                <a:cubicBezTo>
                  <a:pt x="64942" y="382997"/>
                  <a:pt x="70576" y="388636"/>
                  <a:pt x="77529" y="388638"/>
                </a:cubicBezTo>
                <a:cubicBezTo>
                  <a:pt x="77532" y="388638"/>
                  <a:pt x="77535" y="388638"/>
                  <a:pt x="77538" y="388638"/>
                </a:cubicBezTo>
                <a:lnTo>
                  <a:pt x="315133" y="388638"/>
                </a:lnTo>
                <a:cubicBezTo>
                  <a:pt x="322084" y="388633"/>
                  <a:pt x="327716" y="382996"/>
                  <a:pt x="327714" y="376045"/>
                </a:cubicBezTo>
                <a:lnTo>
                  <a:pt x="327714" y="335637"/>
                </a:lnTo>
                <a:cubicBezTo>
                  <a:pt x="327716" y="328686"/>
                  <a:pt x="322084" y="323048"/>
                  <a:pt x="315133" y="323043"/>
                </a:cubicBezTo>
                <a:lnTo>
                  <a:pt x="239105" y="323043"/>
                </a:lnTo>
                <a:lnTo>
                  <a:pt x="239105" y="301799"/>
                </a:lnTo>
                <a:lnTo>
                  <a:pt x="380130" y="301799"/>
                </a:lnTo>
                <a:cubicBezTo>
                  <a:pt x="387081" y="301801"/>
                  <a:pt x="392718" y="296169"/>
                  <a:pt x="392723" y="289218"/>
                </a:cubicBezTo>
                <a:lnTo>
                  <a:pt x="392723" y="13270"/>
                </a:lnTo>
                <a:cubicBezTo>
                  <a:pt x="392726" y="6317"/>
                  <a:pt x="387091" y="679"/>
                  <a:pt x="380139" y="677"/>
                </a:cubicBezTo>
                <a:cubicBezTo>
                  <a:pt x="380136" y="677"/>
                  <a:pt x="380133" y="677"/>
                  <a:pt x="380130" y="677"/>
                </a:cubicBezTo>
                <a:lnTo>
                  <a:pt x="12580" y="677"/>
                </a:lnTo>
                <a:close/>
                <a:moveTo>
                  <a:pt x="436722" y="25174"/>
                </a:moveTo>
                <a:lnTo>
                  <a:pt x="570917" y="25174"/>
                </a:lnTo>
                <a:lnTo>
                  <a:pt x="570917" y="359926"/>
                </a:lnTo>
                <a:lnTo>
                  <a:pt x="436722" y="359926"/>
                </a:lnTo>
                <a:lnTo>
                  <a:pt x="436722" y="25174"/>
                </a:lnTo>
                <a:close/>
                <a:moveTo>
                  <a:pt x="25174" y="25863"/>
                </a:moveTo>
                <a:lnTo>
                  <a:pt x="367549" y="25863"/>
                </a:lnTo>
                <a:lnTo>
                  <a:pt x="367549" y="276625"/>
                </a:lnTo>
                <a:lnTo>
                  <a:pt x="25174" y="276625"/>
                </a:lnTo>
                <a:lnTo>
                  <a:pt x="25174" y="25863"/>
                </a:lnTo>
                <a:close/>
                <a:moveTo>
                  <a:pt x="475673" y="78618"/>
                </a:moveTo>
                <a:cubicBezTo>
                  <a:pt x="468721" y="78614"/>
                  <a:pt x="463083" y="84248"/>
                  <a:pt x="463079" y="91199"/>
                </a:cubicBezTo>
                <a:cubicBezTo>
                  <a:pt x="463079" y="91203"/>
                  <a:pt x="463079" y="91207"/>
                  <a:pt x="463079" y="91211"/>
                </a:cubicBezTo>
                <a:cubicBezTo>
                  <a:pt x="463083" y="98162"/>
                  <a:pt x="468721" y="103795"/>
                  <a:pt x="475673" y="103791"/>
                </a:cubicBezTo>
                <a:lnTo>
                  <a:pt x="531966" y="103791"/>
                </a:lnTo>
                <a:cubicBezTo>
                  <a:pt x="538917" y="103794"/>
                  <a:pt x="544555" y="98162"/>
                  <a:pt x="544559" y="91211"/>
                </a:cubicBezTo>
                <a:cubicBezTo>
                  <a:pt x="544562" y="84259"/>
                  <a:pt x="538929" y="78621"/>
                  <a:pt x="531977" y="78618"/>
                </a:cubicBezTo>
                <a:cubicBezTo>
                  <a:pt x="531973" y="78618"/>
                  <a:pt x="531969" y="78618"/>
                  <a:pt x="531966" y="78618"/>
                </a:cubicBezTo>
                <a:lnTo>
                  <a:pt x="475673" y="78618"/>
                </a:lnTo>
                <a:close/>
                <a:moveTo>
                  <a:pt x="475673" y="117321"/>
                </a:moveTo>
                <a:cubicBezTo>
                  <a:pt x="468721" y="117318"/>
                  <a:pt x="463083" y="122950"/>
                  <a:pt x="463079" y="129902"/>
                </a:cubicBezTo>
                <a:cubicBezTo>
                  <a:pt x="463076" y="136854"/>
                  <a:pt x="468709" y="142492"/>
                  <a:pt x="475661" y="142495"/>
                </a:cubicBezTo>
                <a:cubicBezTo>
                  <a:pt x="475665" y="142495"/>
                  <a:pt x="475669" y="142495"/>
                  <a:pt x="475673" y="142495"/>
                </a:cubicBezTo>
                <a:lnTo>
                  <a:pt x="531966" y="142495"/>
                </a:lnTo>
                <a:cubicBezTo>
                  <a:pt x="538918" y="142498"/>
                  <a:pt x="544556" y="136865"/>
                  <a:pt x="544559" y="129913"/>
                </a:cubicBezTo>
                <a:cubicBezTo>
                  <a:pt x="544559" y="129909"/>
                  <a:pt x="544559" y="129906"/>
                  <a:pt x="544559" y="129902"/>
                </a:cubicBezTo>
                <a:cubicBezTo>
                  <a:pt x="544555" y="122950"/>
                  <a:pt x="538917" y="117318"/>
                  <a:pt x="531966" y="117321"/>
                </a:cubicBezTo>
                <a:lnTo>
                  <a:pt x="475673" y="117321"/>
                </a:lnTo>
                <a:close/>
                <a:moveTo>
                  <a:pt x="500261" y="218264"/>
                </a:moveTo>
                <a:cubicBezTo>
                  <a:pt x="493310" y="218260"/>
                  <a:pt x="487672" y="223893"/>
                  <a:pt x="487668" y="230844"/>
                </a:cubicBezTo>
                <a:cubicBezTo>
                  <a:pt x="487665" y="237796"/>
                  <a:pt x="493298" y="243434"/>
                  <a:pt x="500250" y="243437"/>
                </a:cubicBezTo>
                <a:cubicBezTo>
                  <a:pt x="500253" y="243437"/>
                  <a:pt x="500257" y="243437"/>
                  <a:pt x="500261" y="243437"/>
                </a:cubicBezTo>
                <a:lnTo>
                  <a:pt x="514116" y="243437"/>
                </a:lnTo>
                <a:cubicBezTo>
                  <a:pt x="521068" y="243441"/>
                  <a:pt x="526707" y="237807"/>
                  <a:pt x="526710" y="230855"/>
                </a:cubicBezTo>
                <a:cubicBezTo>
                  <a:pt x="526710" y="230852"/>
                  <a:pt x="526710" y="230848"/>
                  <a:pt x="526710" y="230844"/>
                </a:cubicBezTo>
                <a:cubicBezTo>
                  <a:pt x="526706" y="223893"/>
                  <a:pt x="521068" y="218260"/>
                  <a:pt x="514116" y="218264"/>
                </a:cubicBezTo>
                <a:lnTo>
                  <a:pt x="500261" y="218264"/>
                </a:lnTo>
                <a:close/>
                <a:moveTo>
                  <a:pt x="178727" y="306573"/>
                </a:moveTo>
                <a:lnTo>
                  <a:pt x="213931" y="306573"/>
                </a:lnTo>
                <a:lnTo>
                  <a:pt x="213931" y="323043"/>
                </a:lnTo>
                <a:lnTo>
                  <a:pt x="178727" y="323043"/>
                </a:lnTo>
                <a:lnTo>
                  <a:pt x="178727" y="306573"/>
                </a:lnTo>
                <a:close/>
                <a:moveTo>
                  <a:pt x="90118" y="348217"/>
                </a:moveTo>
                <a:lnTo>
                  <a:pt x="302540" y="348217"/>
                </a:lnTo>
                <a:lnTo>
                  <a:pt x="302540" y="363464"/>
                </a:lnTo>
                <a:lnTo>
                  <a:pt x="90118" y="363464"/>
                </a:lnTo>
                <a:lnTo>
                  <a:pt x="90118" y="34821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37" name="Freeform: Shape 32"/>
          <p:cNvSpPr/>
          <p:nvPr/>
        </p:nvSpPr>
        <p:spPr>
          <a:xfrm>
            <a:off x="5621400" y="1595520"/>
            <a:ext cx="596880" cy="385560"/>
          </a:xfrm>
          <a:custGeom>
            <a:avLst/>
            <a:gdLst/>
            <a:ahLst/>
            <a:rect l="l" t="t" r="r" b="b"/>
            <a:pathLst>
              <a:path w="596141" h="385603">
                <a:moveTo>
                  <a:pt x="92713" y="0"/>
                </a:moveTo>
                <a:cubicBezTo>
                  <a:pt x="85762" y="-3"/>
                  <a:pt x="80124" y="5629"/>
                  <a:pt x="80119" y="12580"/>
                </a:cubicBezTo>
                <a:lnTo>
                  <a:pt x="80119" y="242110"/>
                </a:lnTo>
                <a:lnTo>
                  <a:pt x="80119" y="259621"/>
                </a:lnTo>
                <a:lnTo>
                  <a:pt x="3714" y="336027"/>
                </a:lnTo>
                <a:cubicBezTo>
                  <a:pt x="-4218" y="343956"/>
                  <a:pt x="1397" y="357517"/>
                  <a:pt x="12612" y="357519"/>
                </a:cubicBezTo>
                <a:lnTo>
                  <a:pt x="583529" y="357519"/>
                </a:lnTo>
                <a:cubicBezTo>
                  <a:pt x="594744" y="357517"/>
                  <a:pt x="600359" y="343956"/>
                  <a:pt x="592427" y="336027"/>
                </a:cubicBezTo>
                <a:lnTo>
                  <a:pt x="516022" y="259621"/>
                </a:lnTo>
                <a:lnTo>
                  <a:pt x="516022" y="242110"/>
                </a:lnTo>
                <a:lnTo>
                  <a:pt x="516022" y="12580"/>
                </a:lnTo>
                <a:cubicBezTo>
                  <a:pt x="516017" y="5629"/>
                  <a:pt x="510379" y="-3"/>
                  <a:pt x="503428" y="0"/>
                </a:cubicBezTo>
                <a:lnTo>
                  <a:pt x="92713" y="0"/>
                </a:lnTo>
                <a:close/>
                <a:moveTo>
                  <a:pt x="105293" y="25174"/>
                </a:moveTo>
                <a:lnTo>
                  <a:pt x="490848" y="25174"/>
                </a:lnTo>
                <a:lnTo>
                  <a:pt x="490848" y="229517"/>
                </a:lnTo>
                <a:lnTo>
                  <a:pt x="105293" y="229517"/>
                </a:lnTo>
                <a:lnTo>
                  <a:pt x="105293" y="25174"/>
                </a:lnTo>
                <a:close/>
                <a:moveTo>
                  <a:pt x="298097" y="50738"/>
                </a:moveTo>
                <a:cubicBezTo>
                  <a:pt x="254617" y="50738"/>
                  <a:pt x="219068" y="85920"/>
                  <a:pt x="218360" y="129238"/>
                </a:cubicBezTo>
                <a:lnTo>
                  <a:pt x="218360" y="129252"/>
                </a:lnTo>
                <a:cubicBezTo>
                  <a:pt x="218307" y="129679"/>
                  <a:pt x="218285" y="130110"/>
                  <a:pt x="218285" y="130540"/>
                </a:cubicBezTo>
                <a:cubicBezTo>
                  <a:pt x="218289" y="130928"/>
                  <a:pt x="218311" y="131313"/>
                  <a:pt x="218360" y="131699"/>
                </a:cubicBezTo>
                <a:cubicBezTo>
                  <a:pt x="218992" y="175081"/>
                  <a:pt x="254569" y="210303"/>
                  <a:pt x="298097" y="210303"/>
                </a:cubicBezTo>
                <a:cubicBezTo>
                  <a:pt x="340285" y="210303"/>
                  <a:pt x="374197" y="176958"/>
                  <a:pt x="376870" y="135419"/>
                </a:cubicBezTo>
                <a:cubicBezTo>
                  <a:pt x="376871" y="135415"/>
                  <a:pt x="376870" y="135411"/>
                  <a:pt x="376870" y="135406"/>
                </a:cubicBezTo>
                <a:cubicBezTo>
                  <a:pt x="376971" y="135179"/>
                  <a:pt x="377071" y="134933"/>
                  <a:pt x="377142" y="134691"/>
                </a:cubicBezTo>
                <a:cubicBezTo>
                  <a:pt x="377217" y="134489"/>
                  <a:pt x="377268" y="134293"/>
                  <a:pt x="377343" y="134092"/>
                </a:cubicBezTo>
                <a:cubicBezTo>
                  <a:pt x="377356" y="134041"/>
                  <a:pt x="377370" y="134016"/>
                  <a:pt x="377397" y="133966"/>
                </a:cubicBezTo>
                <a:cubicBezTo>
                  <a:pt x="377417" y="133890"/>
                  <a:pt x="377423" y="133815"/>
                  <a:pt x="377450" y="133739"/>
                </a:cubicBezTo>
                <a:cubicBezTo>
                  <a:pt x="377503" y="133563"/>
                  <a:pt x="377550" y="133384"/>
                  <a:pt x="377575" y="133206"/>
                </a:cubicBezTo>
                <a:cubicBezTo>
                  <a:pt x="377629" y="133004"/>
                  <a:pt x="377651" y="132798"/>
                  <a:pt x="377702" y="132594"/>
                </a:cubicBezTo>
                <a:cubicBezTo>
                  <a:pt x="377708" y="132543"/>
                  <a:pt x="377721" y="132493"/>
                  <a:pt x="377728" y="132443"/>
                </a:cubicBezTo>
                <a:cubicBezTo>
                  <a:pt x="377755" y="132241"/>
                  <a:pt x="377782" y="132027"/>
                  <a:pt x="377804" y="131818"/>
                </a:cubicBezTo>
                <a:cubicBezTo>
                  <a:pt x="377808" y="131768"/>
                  <a:pt x="377810" y="131718"/>
                  <a:pt x="377817" y="131667"/>
                </a:cubicBezTo>
                <a:cubicBezTo>
                  <a:pt x="377837" y="131466"/>
                  <a:pt x="377843" y="131252"/>
                  <a:pt x="377870" y="131043"/>
                </a:cubicBezTo>
                <a:cubicBezTo>
                  <a:pt x="377877" y="130867"/>
                  <a:pt x="377883" y="130696"/>
                  <a:pt x="377883" y="130522"/>
                </a:cubicBezTo>
                <a:cubicBezTo>
                  <a:pt x="377884" y="130008"/>
                  <a:pt x="377857" y="129495"/>
                  <a:pt x="377783" y="128986"/>
                </a:cubicBezTo>
                <a:cubicBezTo>
                  <a:pt x="377756" y="128734"/>
                  <a:pt x="377708" y="128483"/>
                  <a:pt x="377657" y="128231"/>
                </a:cubicBezTo>
                <a:cubicBezTo>
                  <a:pt x="377556" y="127725"/>
                  <a:pt x="377430" y="127226"/>
                  <a:pt x="377279" y="126735"/>
                </a:cubicBezTo>
                <a:cubicBezTo>
                  <a:pt x="377153" y="126370"/>
                  <a:pt x="377027" y="126010"/>
                  <a:pt x="376889" y="125655"/>
                </a:cubicBezTo>
                <a:cubicBezTo>
                  <a:pt x="374226" y="84107"/>
                  <a:pt x="340311" y="50720"/>
                  <a:pt x="298116" y="50720"/>
                </a:cubicBezTo>
                <a:lnTo>
                  <a:pt x="298097" y="50738"/>
                </a:lnTo>
                <a:close/>
                <a:moveTo>
                  <a:pt x="298083" y="76107"/>
                </a:moveTo>
                <a:cubicBezTo>
                  <a:pt x="298310" y="76258"/>
                  <a:pt x="298614" y="76489"/>
                  <a:pt x="299319" y="77239"/>
                </a:cubicBezTo>
                <a:cubicBezTo>
                  <a:pt x="300953" y="78974"/>
                  <a:pt x="303316" y="82602"/>
                  <a:pt x="305330" y="87660"/>
                </a:cubicBezTo>
                <a:cubicBezTo>
                  <a:pt x="308347" y="95237"/>
                  <a:pt x="310735" y="105875"/>
                  <a:pt x="311744" y="117960"/>
                </a:cubicBezTo>
                <a:lnTo>
                  <a:pt x="284423" y="117960"/>
                </a:lnTo>
                <a:cubicBezTo>
                  <a:pt x="285445" y="105876"/>
                  <a:pt x="287846" y="95236"/>
                  <a:pt x="290863" y="87660"/>
                </a:cubicBezTo>
                <a:cubicBezTo>
                  <a:pt x="292877" y="82602"/>
                  <a:pt x="295188" y="78974"/>
                  <a:pt x="296822" y="77239"/>
                </a:cubicBezTo>
                <a:cubicBezTo>
                  <a:pt x="297527" y="76489"/>
                  <a:pt x="297856" y="76263"/>
                  <a:pt x="298083" y="76107"/>
                </a:cubicBezTo>
                <a:close/>
                <a:moveTo>
                  <a:pt x="331674" y="87438"/>
                </a:moveTo>
                <a:cubicBezTo>
                  <a:pt x="341307" y="94948"/>
                  <a:pt x="348313" y="105621"/>
                  <a:pt x="351189" y="117959"/>
                </a:cubicBezTo>
                <a:lnTo>
                  <a:pt x="336293" y="117959"/>
                </a:lnTo>
                <a:cubicBezTo>
                  <a:pt x="335613" y="106975"/>
                  <a:pt x="334183" y="96556"/>
                  <a:pt x="331674" y="87438"/>
                </a:cubicBezTo>
                <a:close/>
                <a:moveTo>
                  <a:pt x="264349" y="87539"/>
                </a:moveTo>
                <a:cubicBezTo>
                  <a:pt x="261688" y="96648"/>
                  <a:pt x="259971" y="106932"/>
                  <a:pt x="259211" y="117968"/>
                </a:cubicBezTo>
                <a:lnTo>
                  <a:pt x="244965" y="117968"/>
                </a:lnTo>
                <a:cubicBezTo>
                  <a:pt x="247833" y="105688"/>
                  <a:pt x="254775" y="95044"/>
                  <a:pt x="264349" y="87539"/>
                </a:cubicBezTo>
                <a:close/>
                <a:moveTo>
                  <a:pt x="244965" y="143142"/>
                </a:moveTo>
                <a:lnTo>
                  <a:pt x="259211" y="143142"/>
                </a:lnTo>
                <a:cubicBezTo>
                  <a:pt x="259971" y="154165"/>
                  <a:pt x="261703" y="164423"/>
                  <a:pt x="264362" y="173520"/>
                </a:cubicBezTo>
                <a:cubicBezTo>
                  <a:pt x="254789" y="166027"/>
                  <a:pt x="247835" y="155414"/>
                  <a:pt x="244965" y="143142"/>
                </a:cubicBezTo>
                <a:close/>
                <a:moveTo>
                  <a:pt x="284423" y="143142"/>
                </a:moveTo>
                <a:lnTo>
                  <a:pt x="311731" y="143142"/>
                </a:lnTo>
                <a:cubicBezTo>
                  <a:pt x="310721" y="155207"/>
                  <a:pt x="308346" y="165803"/>
                  <a:pt x="305330" y="173376"/>
                </a:cubicBezTo>
                <a:cubicBezTo>
                  <a:pt x="303316" y="178435"/>
                  <a:pt x="300952" y="182063"/>
                  <a:pt x="299319" y="183797"/>
                </a:cubicBezTo>
                <a:cubicBezTo>
                  <a:pt x="298614" y="184545"/>
                  <a:pt x="298302" y="184774"/>
                  <a:pt x="298083" y="184930"/>
                </a:cubicBezTo>
                <a:cubicBezTo>
                  <a:pt x="297857" y="184779"/>
                  <a:pt x="297527" y="184547"/>
                  <a:pt x="296822" y="183797"/>
                </a:cubicBezTo>
                <a:cubicBezTo>
                  <a:pt x="295188" y="182063"/>
                  <a:pt x="292878" y="178435"/>
                  <a:pt x="290864" y="173376"/>
                </a:cubicBezTo>
                <a:cubicBezTo>
                  <a:pt x="287847" y="165803"/>
                  <a:pt x="285447" y="155207"/>
                  <a:pt x="284424" y="143142"/>
                </a:cubicBezTo>
                <a:lnTo>
                  <a:pt x="284423" y="143142"/>
                </a:lnTo>
                <a:close/>
                <a:moveTo>
                  <a:pt x="336280" y="143142"/>
                </a:moveTo>
                <a:lnTo>
                  <a:pt x="351189" y="143142"/>
                </a:lnTo>
                <a:cubicBezTo>
                  <a:pt x="348309" y="155476"/>
                  <a:pt x="341299" y="166139"/>
                  <a:pt x="331662" y="173637"/>
                </a:cubicBezTo>
                <a:cubicBezTo>
                  <a:pt x="334174" y="164527"/>
                  <a:pt x="335601" y="154125"/>
                  <a:pt x="336280" y="143142"/>
                </a:cubicBezTo>
                <a:close/>
                <a:moveTo>
                  <a:pt x="97916" y="277428"/>
                </a:moveTo>
                <a:lnTo>
                  <a:pt x="498224" y="277428"/>
                </a:lnTo>
                <a:lnTo>
                  <a:pt x="509725" y="288928"/>
                </a:lnTo>
                <a:lnTo>
                  <a:pt x="86416" y="288928"/>
                </a:lnTo>
                <a:lnTo>
                  <a:pt x="97916" y="277428"/>
                </a:lnTo>
                <a:close/>
                <a:moveTo>
                  <a:pt x="61242" y="314102"/>
                </a:moveTo>
                <a:lnTo>
                  <a:pt x="534898" y="314102"/>
                </a:lnTo>
                <a:lnTo>
                  <a:pt x="553138" y="332342"/>
                </a:lnTo>
                <a:lnTo>
                  <a:pt x="43003" y="332342"/>
                </a:lnTo>
                <a:lnTo>
                  <a:pt x="61242" y="314102"/>
                </a:lnTo>
                <a:close/>
                <a:moveTo>
                  <a:pt x="92712" y="360430"/>
                </a:moveTo>
                <a:cubicBezTo>
                  <a:pt x="85761" y="360426"/>
                  <a:pt x="80123" y="366059"/>
                  <a:pt x="80119" y="373010"/>
                </a:cubicBezTo>
                <a:cubicBezTo>
                  <a:pt x="80116" y="379966"/>
                  <a:pt x="85756" y="385606"/>
                  <a:pt x="92712" y="385603"/>
                </a:cubicBezTo>
                <a:lnTo>
                  <a:pt x="503428" y="385603"/>
                </a:lnTo>
                <a:cubicBezTo>
                  <a:pt x="510384" y="385606"/>
                  <a:pt x="516024" y="379966"/>
                  <a:pt x="516021" y="373010"/>
                </a:cubicBezTo>
                <a:cubicBezTo>
                  <a:pt x="516018" y="366059"/>
                  <a:pt x="510379" y="360426"/>
                  <a:pt x="503428" y="360430"/>
                </a:cubicBezTo>
                <a:lnTo>
                  <a:pt x="92712" y="36043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38" name="Freeform: Shape 42"/>
          <p:cNvSpPr/>
          <p:nvPr/>
        </p:nvSpPr>
        <p:spPr>
          <a:xfrm>
            <a:off x="5621400" y="5068800"/>
            <a:ext cx="596880" cy="515880"/>
          </a:xfrm>
          <a:custGeom>
            <a:avLst/>
            <a:gdLst/>
            <a:ahLst/>
            <a:rect l="l" t="t" r="r" b="b"/>
            <a:pathLst>
              <a:path w="596090" h="515989">
                <a:moveTo>
                  <a:pt x="92681" y="0"/>
                </a:moveTo>
                <a:cubicBezTo>
                  <a:pt x="85735" y="4"/>
                  <a:pt x="80105" y="5634"/>
                  <a:pt x="80101" y="12580"/>
                </a:cubicBezTo>
                <a:lnTo>
                  <a:pt x="80101" y="285484"/>
                </a:lnTo>
                <a:lnTo>
                  <a:pt x="12580" y="285484"/>
                </a:lnTo>
                <a:cubicBezTo>
                  <a:pt x="5634" y="285489"/>
                  <a:pt x="5" y="291119"/>
                  <a:pt x="0" y="298065"/>
                </a:cubicBezTo>
                <a:lnTo>
                  <a:pt x="0" y="434809"/>
                </a:lnTo>
                <a:cubicBezTo>
                  <a:pt x="-2" y="441760"/>
                  <a:pt x="5629" y="447398"/>
                  <a:pt x="12580" y="447403"/>
                </a:cubicBezTo>
                <a:lnTo>
                  <a:pt x="80101" y="447403"/>
                </a:lnTo>
                <a:lnTo>
                  <a:pt x="80101" y="503396"/>
                </a:lnTo>
                <a:cubicBezTo>
                  <a:pt x="80098" y="510348"/>
                  <a:pt x="85729" y="515985"/>
                  <a:pt x="92681" y="515990"/>
                </a:cubicBezTo>
                <a:cubicBezTo>
                  <a:pt x="99633" y="515993"/>
                  <a:pt x="105271" y="510360"/>
                  <a:pt x="105274" y="503408"/>
                </a:cubicBezTo>
                <a:cubicBezTo>
                  <a:pt x="105274" y="503404"/>
                  <a:pt x="105274" y="503400"/>
                  <a:pt x="105274" y="503396"/>
                </a:cubicBezTo>
                <a:lnTo>
                  <a:pt x="105274" y="447403"/>
                </a:lnTo>
                <a:lnTo>
                  <a:pt x="490569" y="447403"/>
                </a:lnTo>
                <a:lnTo>
                  <a:pt x="490569" y="503396"/>
                </a:lnTo>
                <a:cubicBezTo>
                  <a:pt x="490565" y="510348"/>
                  <a:pt x="496199" y="515986"/>
                  <a:pt x="503151" y="515990"/>
                </a:cubicBezTo>
                <a:cubicBezTo>
                  <a:pt x="503154" y="515990"/>
                  <a:pt x="503158" y="515990"/>
                  <a:pt x="503162" y="515990"/>
                </a:cubicBezTo>
                <a:cubicBezTo>
                  <a:pt x="510113" y="515986"/>
                  <a:pt x="515746" y="510348"/>
                  <a:pt x="515742" y="503396"/>
                </a:cubicBezTo>
                <a:lnTo>
                  <a:pt x="515742" y="447403"/>
                </a:lnTo>
                <a:lnTo>
                  <a:pt x="583510" y="447403"/>
                </a:lnTo>
                <a:cubicBezTo>
                  <a:pt x="590461" y="447398"/>
                  <a:pt x="596093" y="441760"/>
                  <a:pt x="596090" y="434809"/>
                </a:cubicBezTo>
                <a:lnTo>
                  <a:pt x="596090" y="298064"/>
                </a:lnTo>
                <a:cubicBezTo>
                  <a:pt x="596085" y="291118"/>
                  <a:pt x="590456" y="285489"/>
                  <a:pt x="583510" y="285484"/>
                </a:cubicBezTo>
                <a:lnTo>
                  <a:pt x="105274" y="285484"/>
                </a:lnTo>
                <a:lnTo>
                  <a:pt x="105274" y="12580"/>
                </a:lnTo>
                <a:cubicBezTo>
                  <a:pt x="105270" y="5629"/>
                  <a:pt x="99632" y="-3"/>
                  <a:pt x="92681" y="0"/>
                </a:cubicBezTo>
                <a:close/>
                <a:moveTo>
                  <a:pt x="25174" y="310658"/>
                </a:moveTo>
                <a:lnTo>
                  <a:pt x="92681" y="310658"/>
                </a:lnTo>
                <a:lnTo>
                  <a:pt x="570916" y="310658"/>
                </a:lnTo>
                <a:lnTo>
                  <a:pt x="570916" y="422216"/>
                </a:lnTo>
                <a:lnTo>
                  <a:pt x="25174" y="422216"/>
                </a:lnTo>
                <a:lnTo>
                  <a:pt x="25174" y="310658"/>
                </a:lnTo>
                <a:close/>
                <a:moveTo>
                  <a:pt x="124346" y="322159"/>
                </a:moveTo>
                <a:cubicBezTo>
                  <a:pt x="100052" y="322159"/>
                  <a:pt x="80101" y="342162"/>
                  <a:pt x="80101" y="366457"/>
                </a:cubicBezTo>
                <a:cubicBezTo>
                  <a:pt x="80101" y="390751"/>
                  <a:pt x="100052" y="410715"/>
                  <a:pt x="124346" y="410715"/>
                </a:cubicBezTo>
                <a:cubicBezTo>
                  <a:pt x="145176" y="410715"/>
                  <a:pt x="160261" y="394865"/>
                  <a:pt x="164871" y="375368"/>
                </a:cubicBezTo>
                <a:cubicBezTo>
                  <a:pt x="167252" y="373012"/>
                  <a:pt x="168596" y="369805"/>
                  <a:pt x="168606" y="366456"/>
                </a:cubicBezTo>
                <a:cubicBezTo>
                  <a:pt x="168603" y="363098"/>
                  <a:pt x="167259" y="359881"/>
                  <a:pt x="164871" y="357519"/>
                </a:cubicBezTo>
                <a:cubicBezTo>
                  <a:pt x="160249" y="338038"/>
                  <a:pt x="145164" y="322159"/>
                  <a:pt x="124346" y="322159"/>
                </a:cubicBezTo>
                <a:close/>
                <a:moveTo>
                  <a:pt x="209612" y="329834"/>
                </a:moveTo>
                <a:cubicBezTo>
                  <a:pt x="202660" y="329831"/>
                  <a:pt x="197022" y="335463"/>
                  <a:pt x="197018" y="342415"/>
                </a:cubicBezTo>
                <a:cubicBezTo>
                  <a:pt x="197015" y="349367"/>
                  <a:pt x="202648" y="355005"/>
                  <a:pt x="209600" y="355008"/>
                </a:cubicBezTo>
                <a:cubicBezTo>
                  <a:pt x="209604" y="355008"/>
                  <a:pt x="209608" y="355008"/>
                  <a:pt x="209612" y="355008"/>
                </a:cubicBezTo>
                <a:lnTo>
                  <a:pt x="244920" y="355008"/>
                </a:lnTo>
                <a:cubicBezTo>
                  <a:pt x="251871" y="355004"/>
                  <a:pt x="257504" y="349366"/>
                  <a:pt x="257500" y="342415"/>
                </a:cubicBezTo>
                <a:cubicBezTo>
                  <a:pt x="257496" y="335468"/>
                  <a:pt x="251866" y="329838"/>
                  <a:pt x="244920" y="329834"/>
                </a:cubicBezTo>
                <a:lnTo>
                  <a:pt x="209612" y="329834"/>
                </a:lnTo>
                <a:close/>
                <a:moveTo>
                  <a:pt x="298025" y="329834"/>
                </a:moveTo>
                <a:cubicBezTo>
                  <a:pt x="291074" y="329831"/>
                  <a:pt x="285436" y="335463"/>
                  <a:pt x="285432" y="342415"/>
                </a:cubicBezTo>
                <a:cubicBezTo>
                  <a:pt x="285428" y="349367"/>
                  <a:pt x="291062" y="355005"/>
                  <a:pt x="298014" y="355008"/>
                </a:cubicBezTo>
                <a:cubicBezTo>
                  <a:pt x="298017" y="355008"/>
                  <a:pt x="298021" y="355008"/>
                  <a:pt x="298025" y="355008"/>
                </a:cubicBezTo>
                <a:lnTo>
                  <a:pt x="333321" y="355008"/>
                </a:lnTo>
                <a:cubicBezTo>
                  <a:pt x="340273" y="355011"/>
                  <a:pt x="345911" y="349378"/>
                  <a:pt x="345914" y="342426"/>
                </a:cubicBezTo>
                <a:cubicBezTo>
                  <a:pt x="345914" y="342422"/>
                  <a:pt x="345914" y="342419"/>
                  <a:pt x="345914" y="342415"/>
                </a:cubicBezTo>
                <a:cubicBezTo>
                  <a:pt x="345910" y="335464"/>
                  <a:pt x="340272" y="329831"/>
                  <a:pt x="333321" y="329835"/>
                </a:cubicBezTo>
                <a:lnTo>
                  <a:pt x="298025" y="329834"/>
                </a:lnTo>
                <a:close/>
                <a:moveTo>
                  <a:pt x="379687" y="329834"/>
                </a:moveTo>
                <a:cubicBezTo>
                  <a:pt x="372741" y="329838"/>
                  <a:pt x="367110" y="335468"/>
                  <a:pt x="367107" y="342415"/>
                </a:cubicBezTo>
                <a:cubicBezTo>
                  <a:pt x="367104" y="349366"/>
                  <a:pt x="372736" y="355004"/>
                  <a:pt x="379687" y="355008"/>
                </a:cubicBezTo>
                <a:lnTo>
                  <a:pt x="414995" y="355008"/>
                </a:lnTo>
                <a:cubicBezTo>
                  <a:pt x="421947" y="355011"/>
                  <a:pt x="427586" y="349378"/>
                  <a:pt x="427589" y="342426"/>
                </a:cubicBezTo>
                <a:cubicBezTo>
                  <a:pt x="427589" y="342422"/>
                  <a:pt x="427589" y="342419"/>
                  <a:pt x="427589" y="342415"/>
                </a:cubicBezTo>
                <a:cubicBezTo>
                  <a:pt x="427585" y="335464"/>
                  <a:pt x="421947" y="329831"/>
                  <a:pt x="414995" y="329835"/>
                </a:cubicBezTo>
                <a:lnTo>
                  <a:pt x="379687" y="329834"/>
                </a:lnTo>
                <a:close/>
                <a:moveTo>
                  <a:pt x="468101" y="329834"/>
                </a:moveTo>
                <a:cubicBezTo>
                  <a:pt x="461150" y="329831"/>
                  <a:pt x="455512" y="335463"/>
                  <a:pt x="455508" y="342415"/>
                </a:cubicBezTo>
                <a:cubicBezTo>
                  <a:pt x="455504" y="349367"/>
                  <a:pt x="461138" y="355005"/>
                  <a:pt x="468090" y="355008"/>
                </a:cubicBezTo>
                <a:cubicBezTo>
                  <a:pt x="468094" y="355008"/>
                  <a:pt x="468098" y="355008"/>
                  <a:pt x="468101" y="355008"/>
                </a:cubicBezTo>
                <a:lnTo>
                  <a:pt x="503409" y="355008"/>
                </a:lnTo>
                <a:cubicBezTo>
                  <a:pt x="510360" y="355004"/>
                  <a:pt x="515992" y="349366"/>
                  <a:pt x="515989" y="342415"/>
                </a:cubicBezTo>
                <a:cubicBezTo>
                  <a:pt x="515985" y="335468"/>
                  <a:pt x="510355" y="329838"/>
                  <a:pt x="503409" y="329834"/>
                </a:cubicBezTo>
                <a:lnTo>
                  <a:pt x="468101" y="329834"/>
                </a:lnTo>
                <a:close/>
                <a:moveTo>
                  <a:pt x="124346" y="347332"/>
                </a:moveTo>
                <a:cubicBezTo>
                  <a:pt x="135035" y="347332"/>
                  <a:pt x="143432" y="355767"/>
                  <a:pt x="143432" y="366457"/>
                </a:cubicBezTo>
                <a:cubicBezTo>
                  <a:pt x="143432" y="377146"/>
                  <a:pt x="135035" y="385542"/>
                  <a:pt x="124346" y="385542"/>
                </a:cubicBezTo>
                <a:cubicBezTo>
                  <a:pt x="113657" y="385542"/>
                  <a:pt x="105274" y="377146"/>
                  <a:pt x="105274" y="366457"/>
                </a:cubicBezTo>
                <a:cubicBezTo>
                  <a:pt x="105274" y="355767"/>
                  <a:pt x="113657" y="347332"/>
                  <a:pt x="124346" y="34733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39" name="Chart 1"/>
          <p:cNvGraphicFramePr/>
          <p:nvPr/>
        </p:nvGraphicFramePr>
        <p:xfrm>
          <a:off x="507960" y="1300320"/>
          <a:ext cx="6629400" cy="4751280"/>
        </p:xfrm>
        <a:graphic>
          <a:graphicData uri="http://schemas.openxmlformats.org/presentationml/2006/ole">
            <p:oleObj progId="Excel.Sheet.12" r:id="rId1" spid="">
              <p:embed/>
              <p:pic>
                <p:nvPicPr>
                  <p:cNvPr id="2340" name="Chart 1" descr=""/>
                  <p:cNvPicPr/>
                  <p:nvPr/>
                </p:nvPicPr>
                <p:blipFill>
                  <a:blip r:embed="rId2"/>
                  <a:stretch/>
                </p:blipFill>
                <p:spPr>
                  <a:xfrm>
                    <a:off x="507960" y="1300320"/>
                    <a:ext cx="6629400" cy="4751280"/>
                  </a:xfrm>
                  <a:prstGeom prst="rect">
                    <a:avLst/>
                  </a:prstGeom>
                  <a:ln w="0">
                    <a:noFill/>
                  </a:ln>
                </p:spPr>
              </p:pic>
            </p:oleObj>
          </a:graphicData>
        </a:graphic>
      </p:graphicFrame>
      <p:sp>
        <p:nvSpPr>
          <p:cNvPr id="2341" name="TextBox 2"/>
          <p:cNvSpPr/>
          <p:nvPr/>
        </p:nvSpPr>
        <p:spPr>
          <a:xfrm>
            <a:off x="7453440" y="4187880"/>
            <a:ext cx="1703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Utroska enim ad minim veniarkam, quis del dark nostrude scexe rcitation ullamco. minar</a:t>
            </a:r>
            <a:endParaRPr b="0" lang="en-US" sz="1100" spc="-1" strike="noStrike">
              <a:solidFill>
                <a:srgbClr val="000000"/>
              </a:solidFill>
              <a:latin typeface="Calibri"/>
            </a:endParaRPr>
          </a:p>
        </p:txBody>
      </p:sp>
      <p:sp>
        <p:nvSpPr>
          <p:cNvPr id="2342" name="TextBox 3"/>
          <p:cNvSpPr/>
          <p:nvPr/>
        </p:nvSpPr>
        <p:spPr>
          <a:xfrm>
            <a:off x="9294840" y="4187880"/>
            <a:ext cx="170352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Utroska enim ad minim veniarkam, quis del dark nostrude scexe rcitation ullamco. Minar klop.</a:t>
            </a:r>
            <a:endParaRPr b="0" lang="en-US" sz="1100" spc="-1" strike="noStrike">
              <a:solidFill>
                <a:srgbClr val="000000"/>
              </a:solidFill>
              <a:latin typeface="Calibri"/>
            </a:endParaRPr>
          </a:p>
        </p:txBody>
      </p:sp>
      <p:sp>
        <p:nvSpPr>
          <p:cNvPr id="2343" name="TextBox 4"/>
          <p:cNvSpPr/>
          <p:nvPr/>
        </p:nvSpPr>
        <p:spPr>
          <a:xfrm>
            <a:off x="7453440" y="3768840"/>
            <a:ext cx="1703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1f4e79"/>
                </a:solidFill>
                <a:latin typeface="Montserrat"/>
              </a:rPr>
              <a:t>DATA 1</a:t>
            </a:r>
            <a:endParaRPr b="0" lang="en-US" sz="1600" spc="-1" strike="noStrike">
              <a:solidFill>
                <a:srgbClr val="000000"/>
              </a:solidFill>
              <a:latin typeface="Calibri"/>
            </a:endParaRPr>
          </a:p>
        </p:txBody>
      </p:sp>
      <p:sp>
        <p:nvSpPr>
          <p:cNvPr id="2344" name="TextBox 5"/>
          <p:cNvSpPr/>
          <p:nvPr/>
        </p:nvSpPr>
        <p:spPr>
          <a:xfrm>
            <a:off x="9294840" y="3768840"/>
            <a:ext cx="17035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1f4e79"/>
                </a:solidFill>
                <a:latin typeface="Montserrat"/>
              </a:rPr>
              <a:t>DATA 2</a:t>
            </a:r>
            <a:endParaRPr b="0" lang="en-US" sz="1600" spc="-1" strike="noStrike">
              <a:solidFill>
                <a:srgbClr val="000000"/>
              </a:solidFill>
              <a:latin typeface="Calibri"/>
            </a:endParaRPr>
          </a:p>
        </p:txBody>
      </p:sp>
      <p:sp>
        <p:nvSpPr>
          <p:cNvPr id="2345" name="TextBox 6"/>
          <p:cNvSpPr/>
          <p:nvPr/>
        </p:nvSpPr>
        <p:spPr>
          <a:xfrm>
            <a:off x="7453440" y="1555920"/>
            <a:ext cx="3544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Roboto Black"/>
                <a:ea typeface="Roboto Black"/>
              </a:rPr>
              <a:t>Lorem Ipsum Dolour</a:t>
            </a:r>
            <a:endParaRPr b="0" lang="en-US" sz="4000" spc="-1" strike="noStrike">
              <a:solidFill>
                <a:srgbClr val="000000"/>
              </a:solidFill>
              <a:latin typeface="Calibri"/>
            </a:endParaRPr>
          </a:p>
        </p:txBody>
      </p:sp>
      <p:sp>
        <p:nvSpPr>
          <p:cNvPr id="2346" name="TextBox 7"/>
          <p:cNvSpPr/>
          <p:nvPr/>
        </p:nvSpPr>
        <p:spPr>
          <a:xfrm>
            <a:off x="7453440" y="2936880"/>
            <a:ext cx="354492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47" name="TextBox 9"/>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pic>
        <p:nvPicPr>
          <p:cNvPr id="2348" name="Group 14" descr=""/>
          <p:cNvPicPr/>
          <p:nvPr/>
        </p:nvPicPr>
        <p:blipFill>
          <a:blip r:embed="rId3"/>
          <a:stretch/>
        </p:blipFill>
        <p:spPr>
          <a:xfrm>
            <a:off x="8613720" y="5784840"/>
            <a:ext cx="1225440" cy="214200"/>
          </a:xfrm>
          <a:prstGeom prst="rect">
            <a:avLst/>
          </a:prstGeom>
          <a:ln w="0">
            <a:noFill/>
          </a:ln>
        </p:spPr>
      </p:pic>
      <p:sp>
        <p:nvSpPr>
          <p:cNvPr id="2349" name="Rectangle: Rounded Corners 18"/>
          <p:cNvSpPr/>
          <p:nvPr/>
        </p:nvSpPr>
        <p:spPr>
          <a:xfrm>
            <a:off x="1096344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0" name="Rectangle: Rounded Corners 19"/>
          <p:cNvSpPr/>
          <p:nvPr/>
        </p:nvSpPr>
        <p:spPr>
          <a:xfrm>
            <a:off x="11396520" y="420840"/>
            <a:ext cx="320760" cy="320400"/>
          </a:xfrm>
          <a:prstGeom prst="roundRect">
            <a:avLst>
              <a:gd name="adj" fmla="val 16667"/>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1" name="Rectangle: Rounded Corners 20"/>
          <p:cNvSpPr/>
          <p:nvPr/>
        </p:nvSpPr>
        <p:spPr>
          <a:xfrm>
            <a:off x="1053000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52" name="Graphic 21" descr=""/>
          <p:cNvPicPr/>
          <p:nvPr/>
        </p:nvPicPr>
        <p:blipFill>
          <a:blip r:embed="rId4"/>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3" name="Chart 2"/>
          <p:cNvGraphicFramePr/>
          <p:nvPr/>
        </p:nvGraphicFramePr>
        <p:xfrm>
          <a:off x="1574640" y="939960"/>
          <a:ext cx="9507600" cy="3538440"/>
        </p:xfrm>
        <a:graphic>
          <a:graphicData uri="http://schemas.openxmlformats.org/presentationml/2006/ole">
            <p:oleObj progId="Excel.Sheet.12" r:id="rId1" spid="">
              <p:embed/>
              <p:pic>
                <p:nvPicPr>
                  <p:cNvPr id="2354" name="Chart 2" descr=""/>
                  <p:cNvPicPr/>
                  <p:nvPr/>
                </p:nvPicPr>
                <p:blipFill>
                  <a:blip r:embed="rId2"/>
                  <a:stretch/>
                </p:blipFill>
                <p:spPr>
                  <a:xfrm>
                    <a:off x="1574640" y="939960"/>
                    <a:ext cx="9507600" cy="3538440"/>
                  </a:xfrm>
                  <a:prstGeom prst="rect">
                    <a:avLst/>
                  </a:prstGeom>
                  <a:ln w="0">
                    <a:noFill/>
                  </a:ln>
                </p:spPr>
              </p:pic>
            </p:oleObj>
          </a:graphicData>
        </a:graphic>
      </p:graphicFrame>
      <p:sp>
        <p:nvSpPr>
          <p:cNvPr id="2355" name="TextBox 4"/>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356" name="TextBox 10"/>
          <p:cNvSpPr/>
          <p:nvPr/>
        </p:nvSpPr>
        <p:spPr>
          <a:xfrm>
            <a:off x="1625760" y="5276880"/>
            <a:ext cx="32940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 </a:t>
            </a:r>
            <a:r>
              <a:rPr b="0" lang="id-ID" sz="1100" spc="-1" strike="noStrike">
                <a:solidFill>
                  <a:srgbClr val="7f7f7f"/>
                </a:solidFill>
                <a:latin typeface="Lato"/>
              </a:rPr>
              <a:t>um,</a:t>
            </a:r>
            <a:r>
              <a:rPr b="0" lang="en-GB" sz="1100" spc="-1" strike="noStrike">
                <a:solidFill>
                  <a:srgbClr val="7f7f7f"/>
                </a:solidFill>
                <a:latin typeface="Lato"/>
              </a:rPr>
              <a:t> </a:t>
            </a:r>
            <a:r>
              <a:rPr b="0" lang="id-ID" sz="1100" spc="-1" strike="noStrike">
                <a:solidFill>
                  <a:srgbClr val="7f7f7f"/>
                </a:solidFill>
                <a:latin typeface="Lato"/>
              </a:rPr>
              <a:t>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57" name="TextBox 11"/>
          <p:cNvSpPr/>
          <p:nvPr/>
        </p:nvSpPr>
        <p:spPr>
          <a:xfrm>
            <a:off x="1625760" y="4876920"/>
            <a:ext cx="24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Lato Black"/>
              </a:rPr>
              <a:t>Your Text Here</a:t>
            </a:r>
            <a:endParaRPr b="0" lang="en-US" sz="2000" spc="-1" strike="noStrike">
              <a:solidFill>
                <a:srgbClr val="000000"/>
              </a:solidFill>
              <a:latin typeface="Calibri"/>
            </a:endParaRPr>
          </a:p>
        </p:txBody>
      </p:sp>
      <p:sp>
        <p:nvSpPr>
          <p:cNvPr id="2358" name="TextBox 12"/>
          <p:cNvSpPr/>
          <p:nvPr/>
        </p:nvSpPr>
        <p:spPr>
          <a:xfrm>
            <a:off x="7272360" y="5276880"/>
            <a:ext cx="32940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a:t>
            </a:r>
            <a:r>
              <a:rPr b="0" lang="en-GB" sz="1100" spc="-1" strike="noStrike">
                <a:solidFill>
                  <a:srgbClr val="7f7f7f"/>
                </a:solidFill>
                <a:latin typeface="Lato"/>
              </a:rPr>
              <a:t> </a:t>
            </a:r>
            <a:r>
              <a:rPr b="0" lang="id-ID" sz="1100" spc="-1" strike="noStrike">
                <a:solidFill>
                  <a:srgbClr val="7f7f7f"/>
                </a:solidFill>
                <a:latin typeface="Lato"/>
              </a:rPr>
              <a:t>um,</a:t>
            </a:r>
            <a:r>
              <a:rPr b="0" lang="en-GB" sz="1100" spc="-1" strike="noStrike">
                <a:solidFill>
                  <a:srgbClr val="7f7f7f"/>
                </a:solidFill>
                <a:latin typeface="Lato"/>
              </a:rPr>
              <a:t> </a:t>
            </a:r>
            <a:r>
              <a:rPr b="0" lang="id-ID" sz="1100" spc="-1" strike="noStrike">
                <a:solidFill>
                  <a:srgbClr val="7f7f7f"/>
                </a:solidFill>
                <a:latin typeface="Lato"/>
              </a:rPr>
              <a:t>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59" name="TextBox 13"/>
          <p:cNvSpPr/>
          <p:nvPr/>
        </p:nvSpPr>
        <p:spPr>
          <a:xfrm>
            <a:off x="7272360" y="4876920"/>
            <a:ext cx="247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Lato Black"/>
              </a:rPr>
              <a:t>Your Text Here</a:t>
            </a:r>
            <a:endParaRPr b="0" lang="en-US" sz="2000" spc="-1" strike="noStrike">
              <a:solidFill>
                <a:srgbClr val="000000"/>
              </a:solidFill>
              <a:latin typeface="Calibri"/>
            </a:endParaRPr>
          </a:p>
        </p:txBody>
      </p:sp>
      <p:grpSp>
        <p:nvGrpSpPr>
          <p:cNvPr id="2360" name="Group 16"/>
          <p:cNvGrpSpPr/>
          <p:nvPr/>
        </p:nvGrpSpPr>
        <p:grpSpPr>
          <a:xfrm>
            <a:off x="5935320" y="5178600"/>
            <a:ext cx="320760" cy="753840"/>
            <a:chOff x="5935320" y="5178600"/>
            <a:chExt cx="320760" cy="753840"/>
          </a:xfrm>
        </p:grpSpPr>
        <p:sp>
          <p:nvSpPr>
            <p:cNvPr id="2361" name="Rectangle: Rounded Corners 14"/>
            <p:cNvSpPr/>
            <p:nvPr/>
          </p:nvSpPr>
          <p:spPr>
            <a:xfrm rot="5400000">
              <a:off x="5935680" y="5178240"/>
              <a:ext cx="320040" cy="320760"/>
            </a:xfrm>
            <a:custGeom>
              <a:avLst/>
              <a:gdLst>
                <a:gd name="textAreaLeft" fmla="*/ 15480 w 320040"/>
                <a:gd name="textAreaRight" fmla="*/ 304560 w 320040"/>
                <a:gd name="textAreaTop" fmla="*/ 15480 h 320760"/>
                <a:gd name="textAreaBottom" fmla="*/ 305280 h 32076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2" name="Rectangle: Rounded Corners 15"/>
            <p:cNvSpPr/>
            <p:nvPr/>
          </p:nvSpPr>
          <p:spPr>
            <a:xfrm rot="5400000">
              <a:off x="5935680" y="5612040"/>
              <a:ext cx="320040" cy="320760"/>
            </a:xfrm>
            <a:custGeom>
              <a:avLst/>
              <a:gdLst>
                <a:gd name="textAreaLeft" fmla="*/ 15480 w 320040"/>
                <a:gd name="textAreaRight" fmla="*/ 304560 w 320040"/>
                <a:gd name="textAreaTop" fmla="*/ 15480 h 320760"/>
                <a:gd name="textAreaBottom" fmla="*/ 305280 h 320760"/>
              </a:gdLst>
              <a:ahLst/>
              <a:rect l="textAreaLeft" t="textAreaTop" r="textAreaRight" b="textAreaBottom"/>
              <a:pathLst>
                <a:path w="21600" h="21649">
                  <a:moveTo>
                    <a:pt x="3600" y="0"/>
                  </a:moveTo>
                  <a:arcTo wR="3600" hR="3600" stAng="16200000" swAng="-5400000"/>
                  <a:lnTo>
                    <a:pt x="0" y="18049"/>
                  </a:lnTo>
                  <a:arcTo wR="3600" hR="3600" stAng="10800000" swAng="-5400000"/>
                  <a:lnTo>
                    <a:pt x="18000" y="21649"/>
                  </a:lnTo>
                  <a:arcTo wR="3600" hR="3600" stAng="5400000" swAng="-5400000"/>
                  <a:lnTo>
                    <a:pt x="21600" y="3600"/>
                  </a:lnTo>
                  <a:arcTo wR="3600" hR="3600" stAng="0" swAng="-5400000"/>
                  <a:close/>
                </a:path>
              </a:pathLst>
            </a:cu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63" name="Group 17" descr=""/>
          <p:cNvPicPr/>
          <p:nvPr/>
        </p:nvPicPr>
        <p:blipFill>
          <a:blip r:embed="rId3"/>
          <a:stretch/>
        </p:blipFill>
        <p:spPr>
          <a:xfrm>
            <a:off x="10515600" y="457200"/>
            <a:ext cx="1219320" cy="212760"/>
          </a:xfrm>
          <a:prstGeom prst="rect">
            <a:avLst/>
          </a:prstGeom>
          <a:ln w="0">
            <a:noFill/>
          </a:ln>
        </p:spPr>
      </p:pic>
      <p:pic>
        <p:nvPicPr>
          <p:cNvPr id="2364" name="Graphic 21" descr=""/>
          <p:cNvPicPr/>
          <p:nvPr/>
        </p:nvPicPr>
        <p:blipFill>
          <a:blip r:embed="rId4"/>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5" name="Chart 1" descr=""/>
          <p:cNvPicPr/>
          <p:nvPr/>
        </p:nvPicPr>
        <p:blipFill>
          <a:blip r:embed="rId1"/>
          <a:stretch/>
        </p:blipFill>
        <p:spPr>
          <a:xfrm>
            <a:off x="876240" y="1617840"/>
            <a:ext cx="2546280" cy="2409480"/>
          </a:xfrm>
          <a:prstGeom prst="rect">
            <a:avLst/>
          </a:prstGeom>
          <a:ln w="0">
            <a:noFill/>
          </a:ln>
        </p:spPr>
      </p:pic>
      <p:pic>
        <p:nvPicPr>
          <p:cNvPr id="2366" name="Chart 2" descr=""/>
          <p:cNvPicPr/>
          <p:nvPr/>
        </p:nvPicPr>
        <p:blipFill>
          <a:blip r:embed="rId2"/>
          <a:stretch/>
        </p:blipFill>
        <p:spPr>
          <a:xfrm>
            <a:off x="3549600" y="1617840"/>
            <a:ext cx="2546280" cy="2409480"/>
          </a:xfrm>
          <a:prstGeom prst="rect">
            <a:avLst/>
          </a:prstGeom>
          <a:ln w="0">
            <a:noFill/>
          </a:ln>
        </p:spPr>
      </p:pic>
      <p:pic>
        <p:nvPicPr>
          <p:cNvPr id="2367" name="Chart 8" descr=""/>
          <p:cNvPicPr/>
          <p:nvPr/>
        </p:nvPicPr>
        <p:blipFill>
          <a:blip r:embed="rId3"/>
          <a:stretch/>
        </p:blipFill>
        <p:spPr>
          <a:xfrm>
            <a:off x="6222960" y="1617840"/>
            <a:ext cx="2546280" cy="2409480"/>
          </a:xfrm>
          <a:prstGeom prst="rect">
            <a:avLst/>
          </a:prstGeom>
          <a:ln w="0">
            <a:noFill/>
          </a:ln>
        </p:spPr>
      </p:pic>
      <p:pic>
        <p:nvPicPr>
          <p:cNvPr id="2368" name="Chart 9" descr=""/>
          <p:cNvPicPr/>
          <p:nvPr/>
        </p:nvPicPr>
        <p:blipFill>
          <a:blip r:embed="rId4"/>
          <a:stretch/>
        </p:blipFill>
        <p:spPr>
          <a:xfrm>
            <a:off x="8894880" y="1617840"/>
            <a:ext cx="2547720" cy="2409480"/>
          </a:xfrm>
          <a:prstGeom prst="rect">
            <a:avLst/>
          </a:prstGeom>
          <a:ln w="0">
            <a:noFill/>
          </a:ln>
        </p:spPr>
      </p:pic>
      <p:sp>
        <p:nvSpPr>
          <p:cNvPr id="2369" name="TextBox 11"/>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370" name="TextBox 13"/>
          <p:cNvSpPr/>
          <p:nvPr/>
        </p:nvSpPr>
        <p:spPr>
          <a:xfrm>
            <a:off x="1116000" y="5321160"/>
            <a:ext cx="20685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71" name="TextBox 14"/>
          <p:cNvSpPr/>
          <p:nvPr/>
        </p:nvSpPr>
        <p:spPr>
          <a:xfrm>
            <a:off x="1116000" y="4951440"/>
            <a:ext cx="2068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Montserrat"/>
              </a:rPr>
              <a:t>Your Text Here</a:t>
            </a:r>
            <a:endParaRPr b="0" lang="en-US" sz="1800" spc="-1" strike="noStrike">
              <a:solidFill>
                <a:srgbClr val="000000"/>
              </a:solidFill>
              <a:latin typeface="Calibri"/>
            </a:endParaRPr>
          </a:p>
        </p:txBody>
      </p:sp>
      <p:sp>
        <p:nvSpPr>
          <p:cNvPr id="2372" name="TextBox 15"/>
          <p:cNvSpPr/>
          <p:nvPr/>
        </p:nvSpPr>
        <p:spPr>
          <a:xfrm>
            <a:off x="3787920" y="5321160"/>
            <a:ext cx="20682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73" name="TextBox 16"/>
          <p:cNvSpPr/>
          <p:nvPr/>
        </p:nvSpPr>
        <p:spPr>
          <a:xfrm>
            <a:off x="3787920" y="4951440"/>
            <a:ext cx="206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Montserrat"/>
              </a:rPr>
              <a:t>Your Text Here</a:t>
            </a:r>
            <a:endParaRPr b="0" lang="en-US" sz="1800" spc="-1" strike="noStrike">
              <a:solidFill>
                <a:srgbClr val="000000"/>
              </a:solidFill>
              <a:latin typeface="Calibri"/>
            </a:endParaRPr>
          </a:p>
        </p:txBody>
      </p:sp>
      <p:sp>
        <p:nvSpPr>
          <p:cNvPr id="2374" name="TextBox 17"/>
          <p:cNvSpPr/>
          <p:nvPr/>
        </p:nvSpPr>
        <p:spPr>
          <a:xfrm>
            <a:off x="6461280" y="5321160"/>
            <a:ext cx="20682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75" name="TextBox 18"/>
          <p:cNvSpPr/>
          <p:nvPr/>
        </p:nvSpPr>
        <p:spPr>
          <a:xfrm>
            <a:off x="6461280" y="4951440"/>
            <a:ext cx="206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Montserrat"/>
              </a:rPr>
              <a:t>Your Text Here</a:t>
            </a:r>
            <a:endParaRPr b="0" lang="en-US" sz="1800" spc="-1" strike="noStrike">
              <a:solidFill>
                <a:srgbClr val="000000"/>
              </a:solidFill>
              <a:latin typeface="Calibri"/>
            </a:endParaRPr>
          </a:p>
        </p:txBody>
      </p:sp>
      <p:sp>
        <p:nvSpPr>
          <p:cNvPr id="2376" name="TextBox 19"/>
          <p:cNvSpPr/>
          <p:nvPr/>
        </p:nvSpPr>
        <p:spPr>
          <a:xfrm>
            <a:off x="9134640" y="5321160"/>
            <a:ext cx="20682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77" name="TextBox 20"/>
          <p:cNvSpPr/>
          <p:nvPr/>
        </p:nvSpPr>
        <p:spPr>
          <a:xfrm>
            <a:off x="9134640" y="4951440"/>
            <a:ext cx="206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95959"/>
                </a:solidFill>
                <a:latin typeface="Montserrat"/>
              </a:rPr>
              <a:t>Your Text Here</a:t>
            </a:r>
            <a:endParaRPr b="0" lang="en-US" sz="1800" spc="-1" strike="noStrike">
              <a:solidFill>
                <a:srgbClr val="000000"/>
              </a:solidFill>
              <a:latin typeface="Calibri"/>
            </a:endParaRPr>
          </a:p>
        </p:txBody>
      </p:sp>
      <p:sp>
        <p:nvSpPr>
          <p:cNvPr id="2378" name="Rectangle: Rounded Corners 25"/>
          <p:cNvSpPr/>
          <p:nvPr/>
        </p:nvSpPr>
        <p:spPr>
          <a:xfrm>
            <a:off x="1096344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9" name="Rectangle: Rounded Corners 26"/>
          <p:cNvSpPr/>
          <p:nvPr/>
        </p:nvSpPr>
        <p:spPr>
          <a:xfrm>
            <a:off x="11396520" y="420840"/>
            <a:ext cx="320760" cy="320400"/>
          </a:xfrm>
          <a:prstGeom prst="roundRect">
            <a:avLst>
              <a:gd name="adj" fmla="val 16667"/>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0" name="Rectangle: Rounded Corners 27"/>
          <p:cNvSpPr/>
          <p:nvPr/>
        </p:nvSpPr>
        <p:spPr>
          <a:xfrm>
            <a:off x="1053000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81" name="Graphic 28" descr=""/>
          <p:cNvPicPr/>
          <p:nvPr/>
        </p:nvPicPr>
        <p:blipFill>
          <a:blip r:embed="rId5"/>
          <a:stretch/>
        </p:blipFill>
        <p:spPr>
          <a:xfrm>
            <a:off x="363600" y="369720"/>
            <a:ext cx="366480" cy="366840"/>
          </a:xfrm>
          <a:prstGeom prst="rect">
            <a:avLst/>
          </a:prstGeom>
          <a:ln w="0">
            <a:noFill/>
          </a:ln>
        </p:spPr>
      </p:pic>
      <p:sp>
        <p:nvSpPr>
          <p:cNvPr id="2382" name="Freeform: Shape 32"/>
          <p:cNvSpPr/>
          <p:nvPr/>
        </p:nvSpPr>
        <p:spPr>
          <a:xfrm>
            <a:off x="7243920" y="4178160"/>
            <a:ext cx="502920" cy="503280"/>
          </a:xfrm>
          <a:custGeom>
            <a:avLst/>
            <a:gdLst/>
            <a:ahLst/>
            <a:rect l="l" t="t" r="r" b="b"/>
            <a:pathLst>
              <a:path w="711946" h="711943">
                <a:moveTo>
                  <a:pt x="116463" y="1"/>
                </a:moveTo>
                <a:cubicBezTo>
                  <a:pt x="111756" y="49"/>
                  <a:pt x="107255" y="1939"/>
                  <a:pt x="103924" y="5266"/>
                </a:cubicBezTo>
                <a:lnTo>
                  <a:pt x="5270" y="103920"/>
                </a:lnTo>
                <a:cubicBezTo>
                  <a:pt x="1791" y="107401"/>
                  <a:pt x="-111" y="112153"/>
                  <a:pt x="5" y="117073"/>
                </a:cubicBezTo>
                <a:cubicBezTo>
                  <a:pt x="5" y="117073"/>
                  <a:pt x="1377" y="160819"/>
                  <a:pt x="29194" y="228545"/>
                </a:cubicBezTo>
                <a:cubicBezTo>
                  <a:pt x="57011" y="296271"/>
                  <a:pt x="111316" y="389825"/>
                  <a:pt x="216717" y="495227"/>
                </a:cubicBezTo>
                <a:cubicBezTo>
                  <a:pt x="322119" y="600628"/>
                  <a:pt x="415673" y="654933"/>
                  <a:pt x="483399" y="682750"/>
                </a:cubicBezTo>
                <a:cubicBezTo>
                  <a:pt x="551125" y="710567"/>
                  <a:pt x="594871" y="711939"/>
                  <a:pt x="594871" y="711939"/>
                </a:cubicBezTo>
                <a:cubicBezTo>
                  <a:pt x="599791" y="712055"/>
                  <a:pt x="604543" y="710153"/>
                  <a:pt x="608024" y="706674"/>
                </a:cubicBezTo>
                <a:lnTo>
                  <a:pt x="706678" y="608020"/>
                </a:lnTo>
                <a:cubicBezTo>
                  <a:pt x="713703" y="600991"/>
                  <a:pt x="713703" y="589599"/>
                  <a:pt x="706678" y="582570"/>
                </a:cubicBezTo>
                <a:lnTo>
                  <a:pt x="576509" y="452383"/>
                </a:lnTo>
                <a:cubicBezTo>
                  <a:pt x="569480" y="445358"/>
                  <a:pt x="558089" y="445358"/>
                  <a:pt x="551060" y="452383"/>
                </a:cubicBezTo>
                <a:lnTo>
                  <a:pt x="483138" y="520323"/>
                </a:lnTo>
                <a:cubicBezTo>
                  <a:pt x="481498" y="520294"/>
                  <a:pt x="481926" y="520517"/>
                  <a:pt x="477967" y="520044"/>
                </a:cubicBezTo>
                <a:cubicBezTo>
                  <a:pt x="469863" y="519074"/>
                  <a:pt x="457355" y="516627"/>
                  <a:pt x="440946" y="510519"/>
                </a:cubicBezTo>
                <a:cubicBezTo>
                  <a:pt x="408126" y="498302"/>
                  <a:pt x="359600" y="471422"/>
                  <a:pt x="300061" y="411883"/>
                </a:cubicBezTo>
                <a:cubicBezTo>
                  <a:pt x="240522" y="352344"/>
                  <a:pt x="213642" y="303818"/>
                  <a:pt x="201425" y="270998"/>
                </a:cubicBezTo>
                <a:cubicBezTo>
                  <a:pt x="195317" y="254589"/>
                  <a:pt x="192870" y="242081"/>
                  <a:pt x="191900" y="233977"/>
                </a:cubicBezTo>
                <a:cubicBezTo>
                  <a:pt x="191426" y="230018"/>
                  <a:pt x="191652" y="230446"/>
                  <a:pt x="191621" y="228806"/>
                </a:cubicBezTo>
                <a:lnTo>
                  <a:pt x="259561" y="160884"/>
                </a:lnTo>
                <a:cubicBezTo>
                  <a:pt x="266586" y="153855"/>
                  <a:pt x="266586" y="142464"/>
                  <a:pt x="259561" y="135435"/>
                </a:cubicBezTo>
                <a:lnTo>
                  <a:pt x="129374" y="5266"/>
                </a:lnTo>
                <a:cubicBezTo>
                  <a:pt x="125952" y="1848"/>
                  <a:pt x="121299" y="-50"/>
                  <a:pt x="116463" y="1"/>
                </a:cubicBezTo>
                <a:close/>
                <a:moveTo>
                  <a:pt x="116649" y="43440"/>
                </a:moveTo>
                <a:lnTo>
                  <a:pt x="221387" y="148159"/>
                </a:lnTo>
                <a:lnTo>
                  <a:pt x="160683" y="208844"/>
                </a:lnTo>
                <a:cubicBezTo>
                  <a:pt x="157750" y="211772"/>
                  <a:pt x="155916" y="215623"/>
                  <a:pt x="155493" y="219746"/>
                </a:cubicBezTo>
                <a:cubicBezTo>
                  <a:pt x="155493" y="219746"/>
                  <a:pt x="154861" y="227379"/>
                  <a:pt x="156163" y="238256"/>
                </a:cubicBezTo>
                <a:cubicBezTo>
                  <a:pt x="157465" y="249133"/>
                  <a:pt x="160595" y="264478"/>
                  <a:pt x="167697" y="283556"/>
                </a:cubicBezTo>
                <a:cubicBezTo>
                  <a:pt x="181900" y="321712"/>
                  <a:pt x="211977" y="374699"/>
                  <a:pt x="274611" y="437333"/>
                </a:cubicBezTo>
                <a:cubicBezTo>
                  <a:pt x="337245" y="499966"/>
                  <a:pt x="390232" y="530043"/>
                  <a:pt x="428388" y="544247"/>
                </a:cubicBezTo>
                <a:cubicBezTo>
                  <a:pt x="447466" y="551349"/>
                  <a:pt x="462811" y="554479"/>
                  <a:pt x="473687" y="555781"/>
                </a:cubicBezTo>
                <a:cubicBezTo>
                  <a:pt x="484564" y="557083"/>
                  <a:pt x="492198" y="556451"/>
                  <a:pt x="492198" y="556451"/>
                </a:cubicBezTo>
                <a:cubicBezTo>
                  <a:pt x="496321" y="556027"/>
                  <a:pt x="500172" y="554194"/>
                  <a:pt x="503100" y="551260"/>
                </a:cubicBezTo>
                <a:lnTo>
                  <a:pt x="563784" y="490557"/>
                </a:lnTo>
                <a:lnTo>
                  <a:pt x="668503" y="595295"/>
                </a:lnTo>
                <a:lnTo>
                  <a:pt x="588787" y="675011"/>
                </a:lnTo>
                <a:cubicBezTo>
                  <a:pt x="580614" y="674493"/>
                  <a:pt x="551779" y="671919"/>
                  <a:pt x="497072" y="649450"/>
                </a:cubicBezTo>
                <a:cubicBezTo>
                  <a:pt x="433781" y="623455"/>
                  <a:pt x="344413" y="572024"/>
                  <a:pt x="242167" y="469777"/>
                </a:cubicBezTo>
                <a:cubicBezTo>
                  <a:pt x="139920" y="367530"/>
                  <a:pt x="88489" y="278162"/>
                  <a:pt x="62494" y="214871"/>
                </a:cubicBezTo>
                <a:cubicBezTo>
                  <a:pt x="40024" y="160165"/>
                  <a:pt x="37451" y="131329"/>
                  <a:pt x="36933" y="123156"/>
                </a:cubicBezTo>
                <a:lnTo>
                  <a:pt x="116649" y="43440"/>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83" name="Freeform: Shape 33"/>
          <p:cNvSpPr/>
          <p:nvPr/>
        </p:nvSpPr>
        <p:spPr>
          <a:xfrm>
            <a:off x="1986120" y="4199040"/>
            <a:ext cx="441000" cy="461880"/>
          </a:xfrm>
          <a:custGeom>
            <a:avLst/>
            <a:gdLst/>
            <a:ahLst/>
            <a:rect l="l" t="t" r="r" b="b"/>
            <a:pathLst>
              <a:path w="623310" h="653914">
                <a:moveTo>
                  <a:pt x="311628" y="1"/>
                </a:moveTo>
                <a:cubicBezTo>
                  <a:pt x="171197" y="1"/>
                  <a:pt x="56945" y="114253"/>
                  <a:pt x="56945" y="254683"/>
                </a:cubicBezTo>
                <a:cubicBezTo>
                  <a:pt x="56945" y="389056"/>
                  <a:pt x="161565" y="499366"/>
                  <a:pt x="293619" y="508640"/>
                </a:cubicBezTo>
                <a:lnTo>
                  <a:pt x="293619" y="551893"/>
                </a:lnTo>
                <a:lnTo>
                  <a:pt x="164809" y="551893"/>
                </a:lnTo>
                <a:cubicBezTo>
                  <a:pt x="154868" y="551889"/>
                  <a:pt x="146806" y="559943"/>
                  <a:pt x="146800" y="569883"/>
                </a:cubicBezTo>
                <a:cubicBezTo>
                  <a:pt x="146796" y="579824"/>
                  <a:pt x="154851" y="587886"/>
                  <a:pt x="164792" y="587891"/>
                </a:cubicBezTo>
                <a:cubicBezTo>
                  <a:pt x="164798" y="587891"/>
                  <a:pt x="164803" y="587891"/>
                  <a:pt x="164809" y="587891"/>
                </a:cubicBezTo>
                <a:lnTo>
                  <a:pt x="293619" y="587891"/>
                </a:lnTo>
                <a:lnTo>
                  <a:pt x="293619" y="617917"/>
                </a:lnTo>
                <a:lnTo>
                  <a:pt x="17990" y="617917"/>
                </a:lnTo>
                <a:cubicBezTo>
                  <a:pt x="8057" y="617923"/>
                  <a:pt x="6" y="625974"/>
                  <a:pt x="0" y="635907"/>
                </a:cubicBezTo>
                <a:cubicBezTo>
                  <a:pt x="-5" y="645847"/>
                  <a:pt x="8049" y="653909"/>
                  <a:pt x="17990" y="653915"/>
                </a:cubicBezTo>
                <a:lnTo>
                  <a:pt x="605321" y="653915"/>
                </a:lnTo>
                <a:cubicBezTo>
                  <a:pt x="615261" y="653909"/>
                  <a:pt x="623315" y="645847"/>
                  <a:pt x="623311" y="635907"/>
                </a:cubicBezTo>
                <a:cubicBezTo>
                  <a:pt x="623305" y="625974"/>
                  <a:pt x="615254" y="617923"/>
                  <a:pt x="605321" y="617917"/>
                </a:cubicBezTo>
                <a:lnTo>
                  <a:pt x="329617" y="617917"/>
                </a:lnTo>
                <a:lnTo>
                  <a:pt x="329617" y="587891"/>
                </a:lnTo>
                <a:lnTo>
                  <a:pt x="458428" y="587891"/>
                </a:lnTo>
                <a:cubicBezTo>
                  <a:pt x="468369" y="587896"/>
                  <a:pt x="476432" y="579840"/>
                  <a:pt x="476436" y="569899"/>
                </a:cubicBezTo>
                <a:cubicBezTo>
                  <a:pt x="476436" y="569894"/>
                  <a:pt x="476436" y="569888"/>
                  <a:pt x="476436" y="569883"/>
                </a:cubicBezTo>
                <a:cubicBezTo>
                  <a:pt x="476430" y="559942"/>
                  <a:pt x="468368" y="551889"/>
                  <a:pt x="458428" y="551893"/>
                </a:cubicBezTo>
                <a:lnTo>
                  <a:pt x="329617" y="551893"/>
                </a:lnTo>
                <a:lnTo>
                  <a:pt x="329617" y="508640"/>
                </a:lnTo>
                <a:cubicBezTo>
                  <a:pt x="459220" y="499496"/>
                  <a:pt x="561321" y="392536"/>
                  <a:pt x="564952" y="261418"/>
                </a:cubicBezTo>
                <a:cubicBezTo>
                  <a:pt x="564952" y="261399"/>
                  <a:pt x="564951" y="261389"/>
                  <a:pt x="564952" y="261361"/>
                </a:cubicBezTo>
                <a:cubicBezTo>
                  <a:pt x="565819" y="259240"/>
                  <a:pt x="566274" y="256973"/>
                  <a:pt x="566291" y="254682"/>
                </a:cubicBezTo>
                <a:cubicBezTo>
                  <a:pt x="566269" y="252336"/>
                  <a:pt x="565789" y="250017"/>
                  <a:pt x="564877" y="247855"/>
                </a:cubicBezTo>
                <a:cubicBezTo>
                  <a:pt x="561033" y="110758"/>
                  <a:pt x="449637" y="0"/>
                  <a:pt x="311628" y="0"/>
                </a:cubicBezTo>
                <a:lnTo>
                  <a:pt x="311628" y="1"/>
                </a:lnTo>
                <a:close/>
                <a:moveTo>
                  <a:pt x="311628" y="35999"/>
                </a:moveTo>
                <a:cubicBezTo>
                  <a:pt x="432602" y="35999"/>
                  <a:pt x="530293" y="133709"/>
                  <a:pt x="530293" y="254683"/>
                </a:cubicBezTo>
                <a:cubicBezTo>
                  <a:pt x="530293" y="375658"/>
                  <a:pt x="432602" y="473349"/>
                  <a:pt x="311628" y="473349"/>
                </a:cubicBezTo>
                <a:cubicBezTo>
                  <a:pt x="190653" y="473349"/>
                  <a:pt x="92943" y="375658"/>
                  <a:pt x="92943" y="254683"/>
                </a:cubicBezTo>
                <a:cubicBezTo>
                  <a:pt x="92943" y="133709"/>
                  <a:pt x="190653" y="35999"/>
                  <a:pt x="311628" y="35999"/>
                </a:cubicBezTo>
                <a:close/>
                <a:moveTo>
                  <a:pt x="311628" y="83178"/>
                </a:moveTo>
                <a:cubicBezTo>
                  <a:pt x="217123" y="83178"/>
                  <a:pt x="140122" y="160179"/>
                  <a:pt x="140122" y="254683"/>
                </a:cubicBezTo>
                <a:cubicBezTo>
                  <a:pt x="140122" y="349188"/>
                  <a:pt x="217123" y="426171"/>
                  <a:pt x="311628" y="426171"/>
                </a:cubicBezTo>
                <a:cubicBezTo>
                  <a:pt x="403641" y="426170"/>
                  <a:pt x="477789" y="352790"/>
                  <a:pt x="481701" y="261716"/>
                </a:cubicBezTo>
                <a:cubicBezTo>
                  <a:pt x="482639" y="259490"/>
                  <a:pt x="483120" y="257099"/>
                  <a:pt x="483115" y="254683"/>
                </a:cubicBezTo>
                <a:cubicBezTo>
                  <a:pt x="483103" y="252312"/>
                  <a:pt x="482622" y="249967"/>
                  <a:pt x="481701" y="247782"/>
                </a:cubicBezTo>
                <a:cubicBezTo>
                  <a:pt x="477862" y="156641"/>
                  <a:pt x="403688" y="83178"/>
                  <a:pt x="311628" y="83178"/>
                </a:cubicBezTo>
                <a:close/>
                <a:moveTo>
                  <a:pt x="311628" y="119175"/>
                </a:moveTo>
                <a:cubicBezTo>
                  <a:pt x="386676" y="119176"/>
                  <a:pt x="447117" y="179635"/>
                  <a:pt x="447117" y="254683"/>
                </a:cubicBezTo>
                <a:cubicBezTo>
                  <a:pt x="447117" y="329732"/>
                  <a:pt x="386676" y="390173"/>
                  <a:pt x="311628" y="390173"/>
                </a:cubicBezTo>
                <a:cubicBezTo>
                  <a:pt x="236579" y="390173"/>
                  <a:pt x="176119" y="329732"/>
                  <a:pt x="176119" y="254683"/>
                </a:cubicBezTo>
                <a:cubicBezTo>
                  <a:pt x="176119" y="220270"/>
                  <a:pt x="188942" y="189015"/>
                  <a:pt x="209941" y="165163"/>
                </a:cubicBezTo>
                <a:cubicBezTo>
                  <a:pt x="202307" y="175245"/>
                  <a:pt x="197718" y="187727"/>
                  <a:pt x="197718" y="201236"/>
                </a:cubicBezTo>
                <a:cubicBezTo>
                  <a:pt x="197718" y="234232"/>
                  <a:pt x="224829" y="261362"/>
                  <a:pt x="257826" y="261362"/>
                </a:cubicBezTo>
                <a:cubicBezTo>
                  <a:pt x="262280" y="261362"/>
                  <a:pt x="266457" y="260656"/>
                  <a:pt x="270495" y="259651"/>
                </a:cubicBezTo>
                <a:cubicBezTo>
                  <a:pt x="265753" y="269918"/>
                  <a:pt x="263035" y="281295"/>
                  <a:pt x="263035" y="293286"/>
                </a:cubicBezTo>
                <a:cubicBezTo>
                  <a:pt x="263035" y="337764"/>
                  <a:pt x="299482" y="374211"/>
                  <a:pt x="343960" y="374211"/>
                </a:cubicBezTo>
                <a:cubicBezTo>
                  <a:pt x="383490" y="374211"/>
                  <a:pt x="412726" y="343638"/>
                  <a:pt x="419621" y="306011"/>
                </a:cubicBezTo>
                <a:cubicBezTo>
                  <a:pt x="422993" y="302634"/>
                  <a:pt x="424887" y="298058"/>
                  <a:pt x="424886" y="293286"/>
                </a:cubicBezTo>
                <a:cubicBezTo>
                  <a:pt x="424852" y="288559"/>
                  <a:pt x="422961" y="284035"/>
                  <a:pt x="419621" y="280691"/>
                </a:cubicBezTo>
                <a:cubicBezTo>
                  <a:pt x="412774" y="243005"/>
                  <a:pt x="383531" y="212342"/>
                  <a:pt x="343960" y="212342"/>
                </a:cubicBezTo>
                <a:cubicBezTo>
                  <a:pt x="332175" y="212342"/>
                  <a:pt x="320994" y="214971"/>
                  <a:pt x="310865" y="219560"/>
                </a:cubicBezTo>
                <a:cubicBezTo>
                  <a:pt x="311489" y="217701"/>
                  <a:pt x="312192" y="215878"/>
                  <a:pt x="312669" y="213960"/>
                </a:cubicBezTo>
                <a:cubicBezTo>
                  <a:pt x="316048" y="210587"/>
                  <a:pt x="317949" y="206010"/>
                  <a:pt x="317953" y="201236"/>
                </a:cubicBezTo>
                <a:cubicBezTo>
                  <a:pt x="317949" y="196461"/>
                  <a:pt x="316048" y="191884"/>
                  <a:pt x="312669" y="188511"/>
                </a:cubicBezTo>
                <a:cubicBezTo>
                  <a:pt x="306164" y="162354"/>
                  <a:pt x="285881" y="141128"/>
                  <a:pt x="257826" y="141128"/>
                </a:cubicBezTo>
                <a:cubicBezTo>
                  <a:pt x="244218" y="141128"/>
                  <a:pt x="231650" y="145782"/>
                  <a:pt x="221531" y="153517"/>
                </a:cubicBezTo>
                <a:cubicBezTo>
                  <a:pt x="245454" y="132212"/>
                  <a:pt x="276934" y="119175"/>
                  <a:pt x="311628" y="119175"/>
                </a:cubicBezTo>
                <a:close/>
                <a:moveTo>
                  <a:pt x="257826" y="177125"/>
                </a:moveTo>
                <a:cubicBezTo>
                  <a:pt x="271367" y="177125"/>
                  <a:pt x="281955" y="187695"/>
                  <a:pt x="281955" y="201236"/>
                </a:cubicBezTo>
                <a:cubicBezTo>
                  <a:pt x="281955" y="214776"/>
                  <a:pt x="271367" y="225364"/>
                  <a:pt x="257826" y="225364"/>
                </a:cubicBezTo>
                <a:cubicBezTo>
                  <a:pt x="244285" y="225364"/>
                  <a:pt x="233716" y="214777"/>
                  <a:pt x="233716" y="201236"/>
                </a:cubicBezTo>
                <a:cubicBezTo>
                  <a:pt x="233716" y="187695"/>
                  <a:pt x="244285" y="177125"/>
                  <a:pt x="257826" y="177125"/>
                </a:cubicBezTo>
                <a:close/>
                <a:moveTo>
                  <a:pt x="343960" y="248340"/>
                </a:moveTo>
                <a:cubicBezTo>
                  <a:pt x="368983" y="248340"/>
                  <a:pt x="388888" y="268263"/>
                  <a:pt x="388888" y="293286"/>
                </a:cubicBezTo>
                <a:cubicBezTo>
                  <a:pt x="388888" y="318308"/>
                  <a:pt x="368983" y="338213"/>
                  <a:pt x="343960" y="338213"/>
                </a:cubicBezTo>
                <a:cubicBezTo>
                  <a:pt x="318938" y="338213"/>
                  <a:pt x="299033" y="318308"/>
                  <a:pt x="299033" y="293286"/>
                </a:cubicBezTo>
                <a:cubicBezTo>
                  <a:pt x="299033" y="268263"/>
                  <a:pt x="318938" y="248340"/>
                  <a:pt x="343960" y="248340"/>
                </a:cubicBez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84" name="Freeform: Shape 34"/>
          <p:cNvSpPr/>
          <p:nvPr/>
        </p:nvSpPr>
        <p:spPr>
          <a:xfrm>
            <a:off x="4649760" y="4152960"/>
            <a:ext cx="345960" cy="555480"/>
          </a:xfrm>
          <a:custGeom>
            <a:avLst/>
            <a:gdLst/>
            <a:ahLst/>
            <a:rect l="l" t="t" r="r" b="b"/>
            <a:pathLst>
              <a:path w="488323" h="784901">
                <a:moveTo>
                  <a:pt x="18008" y="0"/>
                </a:moveTo>
                <a:cubicBezTo>
                  <a:pt x="8068" y="-4"/>
                  <a:pt x="7" y="8050"/>
                  <a:pt x="0" y="17990"/>
                </a:cubicBezTo>
                <a:lnTo>
                  <a:pt x="0" y="681744"/>
                </a:lnTo>
                <a:lnTo>
                  <a:pt x="0" y="766893"/>
                </a:lnTo>
                <a:cubicBezTo>
                  <a:pt x="-4" y="776835"/>
                  <a:pt x="8053" y="784897"/>
                  <a:pt x="17995" y="784901"/>
                </a:cubicBezTo>
                <a:cubicBezTo>
                  <a:pt x="18000" y="784901"/>
                  <a:pt x="18004" y="784901"/>
                  <a:pt x="18008" y="784901"/>
                </a:cubicBezTo>
                <a:lnTo>
                  <a:pt x="470315" y="784901"/>
                </a:lnTo>
                <a:cubicBezTo>
                  <a:pt x="480258" y="784905"/>
                  <a:pt x="488320" y="776848"/>
                  <a:pt x="488324" y="766906"/>
                </a:cubicBezTo>
                <a:cubicBezTo>
                  <a:pt x="488324" y="766901"/>
                  <a:pt x="488324" y="766897"/>
                  <a:pt x="488324" y="766893"/>
                </a:cubicBezTo>
                <a:lnTo>
                  <a:pt x="488324" y="681744"/>
                </a:lnTo>
                <a:lnTo>
                  <a:pt x="488324" y="17990"/>
                </a:lnTo>
                <a:cubicBezTo>
                  <a:pt x="488317" y="8050"/>
                  <a:pt x="480255" y="-4"/>
                  <a:pt x="470315" y="0"/>
                </a:cubicBezTo>
                <a:lnTo>
                  <a:pt x="18008" y="0"/>
                </a:lnTo>
                <a:close/>
                <a:moveTo>
                  <a:pt x="35998" y="35998"/>
                </a:moveTo>
                <a:lnTo>
                  <a:pt x="452326" y="35998"/>
                </a:lnTo>
                <a:lnTo>
                  <a:pt x="452326" y="663736"/>
                </a:lnTo>
                <a:lnTo>
                  <a:pt x="35998" y="663736"/>
                </a:lnTo>
                <a:lnTo>
                  <a:pt x="35998" y="35998"/>
                </a:lnTo>
                <a:close/>
                <a:moveTo>
                  <a:pt x="162074" y="76423"/>
                </a:moveTo>
                <a:cubicBezTo>
                  <a:pt x="152133" y="76419"/>
                  <a:pt x="144070" y="84474"/>
                  <a:pt x="144066" y="94415"/>
                </a:cubicBezTo>
                <a:cubicBezTo>
                  <a:pt x="144066" y="94420"/>
                  <a:pt x="144066" y="94426"/>
                  <a:pt x="144066" y="94431"/>
                </a:cubicBezTo>
                <a:cubicBezTo>
                  <a:pt x="144071" y="104372"/>
                  <a:pt x="152134" y="112426"/>
                  <a:pt x="162074" y="112421"/>
                </a:cubicBezTo>
                <a:lnTo>
                  <a:pt x="326250" y="112421"/>
                </a:lnTo>
                <a:cubicBezTo>
                  <a:pt x="336190" y="112426"/>
                  <a:pt x="344252" y="104372"/>
                  <a:pt x="344258" y="94431"/>
                </a:cubicBezTo>
                <a:cubicBezTo>
                  <a:pt x="344263" y="84490"/>
                  <a:pt x="336207" y="76428"/>
                  <a:pt x="326266" y="76423"/>
                </a:cubicBezTo>
                <a:cubicBezTo>
                  <a:pt x="326261" y="76423"/>
                  <a:pt x="326255" y="76423"/>
                  <a:pt x="326250" y="76423"/>
                </a:cubicBezTo>
                <a:lnTo>
                  <a:pt x="162074" y="76423"/>
                </a:lnTo>
                <a:close/>
                <a:moveTo>
                  <a:pt x="35998" y="699753"/>
                </a:moveTo>
                <a:lnTo>
                  <a:pt x="452326" y="699753"/>
                </a:lnTo>
                <a:lnTo>
                  <a:pt x="452326" y="748885"/>
                </a:lnTo>
                <a:lnTo>
                  <a:pt x="35998" y="748885"/>
                </a:lnTo>
                <a:lnTo>
                  <a:pt x="35998" y="699753"/>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85" name="Freeform: Shape 35"/>
          <p:cNvSpPr/>
          <p:nvPr/>
        </p:nvSpPr>
        <p:spPr>
          <a:xfrm>
            <a:off x="9945720" y="4197240"/>
            <a:ext cx="446040" cy="465120"/>
          </a:xfrm>
          <a:custGeom>
            <a:avLst/>
            <a:gdLst/>
            <a:ahLst/>
            <a:rect l="l" t="t" r="r" b="b"/>
            <a:pathLst>
              <a:path w="711696" h="739061">
                <a:moveTo>
                  <a:pt x="356908" y="0"/>
                </a:moveTo>
                <a:cubicBezTo>
                  <a:pt x="249922" y="0"/>
                  <a:pt x="159934" y="38351"/>
                  <a:pt x="97389" y="103640"/>
                </a:cubicBezTo>
                <a:cubicBezTo>
                  <a:pt x="34844" y="168929"/>
                  <a:pt x="0" y="260614"/>
                  <a:pt x="0" y="365354"/>
                </a:cubicBezTo>
                <a:cubicBezTo>
                  <a:pt x="0" y="428304"/>
                  <a:pt x="4872" y="520575"/>
                  <a:pt x="52667" y="598996"/>
                </a:cubicBezTo>
                <a:cubicBezTo>
                  <a:pt x="100461" y="677417"/>
                  <a:pt x="192641" y="739062"/>
                  <a:pt x="354806" y="739062"/>
                </a:cubicBezTo>
                <a:cubicBezTo>
                  <a:pt x="364747" y="739056"/>
                  <a:pt x="372800" y="730994"/>
                  <a:pt x="372796" y="721054"/>
                </a:cubicBezTo>
                <a:cubicBezTo>
                  <a:pt x="372790" y="711121"/>
                  <a:pt x="364739" y="703070"/>
                  <a:pt x="354806" y="703064"/>
                </a:cubicBezTo>
                <a:cubicBezTo>
                  <a:pt x="201460" y="703064"/>
                  <a:pt x="125190" y="648777"/>
                  <a:pt x="83455" y="580300"/>
                </a:cubicBezTo>
                <a:cubicBezTo>
                  <a:pt x="41721" y="511822"/>
                  <a:pt x="35998" y="426239"/>
                  <a:pt x="35998" y="365354"/>
                </a:cubicBezTo>
                <a:cubicBezTo>
                  <a:pt x="35998" y="268560"/>
                  <a:pt x="67849" y="186516"/>
                  <a:pt x="123397" y="128532"/>
                </a:cubicBezTo>
                <a:cubicBezTo>
                  <a:pt x="178945" y="70547"/>
                  <a:pt x="258436" y="35998"/>
                  <a:pt x="356908" y="35998"/>
                </a:cubicBezTo>
                <a:cubicBezTo>
                  <a:pt x="478228" y="35998"/>
                  <a:pt x="556420" y="70400"/>
                  <a:pt x="605526" y="124606"/>
                </a:cubicBezTo>
                <a:cubicBezTo>
                  <a:pt x="654632" y="178813"/>
                  <a:pt x="675698" y="254961"/>
                  <a:pt x="675698" y="342212"/>
                </a:cubicBezTo>
                <a:cubicBezTo>
                  <a:pt x="675698" y="461930"/>
                  <a:pt x="627726" y="512849"/>
                  <a:pt x="580002" y="538181"/>
                </a:cubicBezTo>
                <a:cubicBezTo>
                  <a:pt x="545722" y="556376"/>
                  <a:pt x="517864" y="559110"/>
                  <a:pt x="501197" y="559761"/>
                </a:cubicBezTo>
                <a:lnTo>
                  <a:pt x="501197" y="243929"/>
                </a:lnTo>
                <a:cubicBezTo>
                  <a:pt x="501218" y="243433"/>
                  <a:pt x="501218" y="242937"/>
                  <a:pt x="501197" y="242441"/>
                </a:cubicBezTo>
                <a:lnTo>
                  <a:pt x="501197" y="174873"/>
                </a:lnTo>
                <a:cubicBezTo>
                  <a:pt x="501202" y="164932"/>
                  <a:pt x="493147" y="156869"/>
                  <a:pt x="483205" y="156865"/>
                </a:cubicBezTo>
                <a:cubicBezTo>
                  <a:pt x="483200" y="156865"/>
                  <a:pt x="483195" y="156865"/>
                  <a:pt x="483189" y="156865"/>
                </a:cubicBezTo>
                <a:cubicBezTo>
                  <a:pt x="473248" y="156860"/>
                  <a:pt x="465186" y="164915"/>
                  <a:pt x="465181" y="174857"/>
                </a:cubicBezTo>
                <a:cubicBezTo>
                  <a:pt x="465181" y="174862"/>
                  <a:pt x="465181" y="174868"/>
                  <a:pt x="465181" y="174873"/>
                </a:cubicBezTo>
                <a:lnTo>
                  <a:pt x="465181" y="186203"/>
                </a:lnTo>
                <a:cubicBezTo>
                  <a:pt x="442890" y="168540"/>
                  <a:pt x="407638" y="153925"/>
                  <a:pt x="354806" y="153925"/>
                </a:cubicBezTo>
                <a:cubicBezTo>
                  <a:pt x="290939" y="153925"/>
                  <a:pt x="235951" y="187959"/>
                  <a:pt x="200806" y="239836"/>
                </a:cubicBezTo>
                <a:cubicBezTo>
                  <a:pt x="165662" y="291714"/>
                  <a:pt x="149341" y="361438"/>
                  <a:pt x="159339" y="435657"/>
                </a:cubicBezTo>
                <a:cubicBezTo>
                  <a:pt x="168546" y="504004"/>
                  <a:pt x="206457" y="567032"/>
                  <a:pt x="266700" y="596540"/>
                </a:cubicBezTo>
                <a:cubicBezTo>
                  <a:pt x="320191" y="622741"/>
                  <a:pt x="389841" y="619955"/>
                  <a:pt x="465181" y="573974"/>
                </a:cubicBezTo>
                <a:lnTo>
                  <a:pt x="465181" y="578755"/>
                </a:lnTo>
                <a:cubicBezTo>
                  <a:pt x="465169" y="588275"/>
                  <a:pt x="472571" y="596158"/>
                  <a:pt x="482073" y="596745"/>
                </a:cubicBezTo>
                <a:cubicBezTo>
                  <a:pt x="482073" y="596745"/>
                  <a:pt x="539366" y="600491"/>
                  <a:pt x="596894" y="569956"/>
                </a:cubicBezTo>
                <a:cubicBezTo>
                  <a:pt x="654421" y="539420"/>
                  <a:pt x="711696" y="472052"/>
                  <a:pt x="711696" y="342212"/>
                </a:cubicBezTo>
                <a:cubicBezTo>
                  <a:pt x="711696" y="249154"/>
                  <a:pt x="689171" y="163227"/>
                  <a:pt x="632259" y="100403"/>
                </a:cubicBezTo>
                <a:cubicBezTo>
                  <a:pt x="575347" y="37580"/>
                  <a:pt x="485148" y="0"/>
                  <a:pt x="356908" y="0"/>
                </a:cubicBezTo>
                <a:close/>
                <a:moveTo>
                  <a:pt x="354806" y="189923"/>
                </a:moveTo>
                <a:cubicBezTo>
                  <a:pt x="408649" y="189923"/>
                  <a:pt x="435091" y="205866"/>
                  <a:pt x="449368" y="220228"/>
                </a:cubicBezTo>
                <a:cubicBezTo>
                  <a:pt x="461233" y="232164"/>
                  <a:pt x="464400" y="241936"/>
                  <a:pt x="465181" y="245045"/>
                </a:cubicBezTo>
                <a:lnTo>
                  <a:pt x="465181" y="530889"/>
                </a:lnTo>
                <a:cubicBezTo>
                  <a:pt x="389586" y="584604"/>
                  <a:pt x="328253" y="586593"/>
                  <a:pt x="282513" y="564189"/>
                </a:cubicBezTo>
                <a:cubicBezTo>
                  <a:pt x="235309" y="541068"/>
                  <a:pt x="202825" y="489015"/>
                  <a:pt x="194983" y="430802"/>
                </a:cubicBezTo>
                <a:cubicBezTo>
                  <a:pt x="186081" y="364718"/>
                  <a:pt x="201010" y="303741"/>
                  <a:pt x="230628" y="260021"/>
                </a:cubicBezTo>
                <a:cubicBezTo>
                  <a:pt x="260245" y="216302"/>
                  <a:pt x="303557" y="189923"/>
                  <a:pt x="354806" y="189923"/>
                </a:cubicBez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6" name="Chart 1"/>
          <p:cNvGraphicFramePr/>
          <p:nvPr/>
        </p:nvGraphicFramePr>
        <p:xfrm>
          <a:off x="1477800" y="1057320"/>
          <a:ext cx="3873600" cy="2273400"/>
        </p:xfrm>
        <a:graphic>
          <a:graphicData uri="http://schemas.openxmlformats.org/presentationml/2006/ole">
            <p:oleObj progId="Excel.Sheet.12" r:id="rId1" spid="">
              <p:embed/>
              <p:pic>
                <p:nvPicPr>
                  <p:cNvPr id="2387" name="Chart 1" descr=""/>
                  <p:cNvPicPr/>
                  <p:nvPr/>
                </p:nvPicPr>
                <p:blipFill>
                  <a:blip r:embed="rId2"/>
                  <a:stretch/>
                </p:blipFill>
                <p:spPr>
                  <a:xfrm>
                    <a:off x="1477800" y="1057320"/>
                    <a:ext cx="3873600" cy="2273400"/>
                  </a:xfrm>
                  <a:prstGeom prst="rect">
                    <a:avLst/>
                  </a:prstGeom>
                  <a:ln w="0">
                    <a:noFill/>
                  </a:ln>
                </p:spPr>
              </p:pic>
            </p:oleObj>
          </a:graphicData>
        </a:graphic>
      </p:graphicFrame>
      <p:graphicFrame>
        <p:nvGraphicFramePr>
          <p:cNvPr id="2388" name="Chart 2"/>
          <p:cNvGraphicFramePr/>
          <p:nvPr/>
        </p:nvGraphicFramePr>
        <p:xfrm>
          <a:off x="1477800" y="3602160"/>
          <a:ext cx="3873600" cy="2273040"/>
        </p:xfrm>
        <a:graphic>
          <a:graphicData uri="http://schemas.openxmlformats.org/presentationml/2006/ole">
            <p:oleObj progId="Excel.Sheet.12" r:id="rId3" spid="">
              <p:embed/>
              <p:pic>
                <p:nvPicPr>
                  <p:cNvPr id="2389" name="Chart 2" descr=""/>
                  <p:cNvPicPr/>
                  <p:nvPr/>
                </p:nvPicPr>
                <p:blipFill>
                  <a:blip r:embed="rId4"/>
                  <a:stretch/>
                </p:blipFill>
                <p:spPr>
                  <a:xfrm>
                    <a:off x="1477800" y="3602160"/>
                    <a:ext cx="3873600" cy="2273040"/>
                  </a:xfrm>
                  <a:prstGeom prst="rect">
                    <a:avLst/>
                  </a:prstGeom>
                  <a:ln w="0">
                    <a:noFill/>
                  </a:ln>
                </p:spPr>
              </p:pic>
            </p:oleObj>
          </a:graphicData>
        </a:graphic>
      </p:graphicFrame>
      <p:sp>
        <p:nvSpPr>
          <p:cNvPr id="2390" name="TextBox 4"/>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391" name="TextBox 5"/>
          <p:cNvSpPr/>
          <p:nvPr/>
        </p:nvSpPr>
        <p:spPr>
          <a:xfrm>
            <a:off x="5896080" y="2014560"/>
            <a:ext cx="441468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a:t>
            </a:r>
            <a:r>
              <a:rPr b="0" lang="en-GB" sz="1100" spc="-1" strike="noStrike">
                <a:solidFill>
                  <a:srgbClr val="7f7f7f"/>
                </a:solidFill>
                <a:latin typeface="Lato"/>
              </a:rPr>
              <a:t>. K</a:t>
            </a:r>
            <a:r>
              <a:rPr b="0" lang="id-ID" sz="1100" spc="-1" strike="noStrike">
                <a:solidFill>
                  <a:srgbClr val="7f7f7f"/>
                </a:solidFill>
                <a:latin typeface="Lato"/>
              </a:rPr>
              <a:t>otam rem aperiam, eaque ipsa</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92" name="TextBox 6"/>
          <p:cNvSpPr/>
          <p:nvPr/>
        </p:nvSpPr>
        <p:spPr>
          <a:xfrm>
            <a:off x="5896080" y="1233360"/>
            <a:ext cx="304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Montserrat"/>
              </a:rPr>
              <a:t>Your Text Here</a:t>
            </a:r>
            <a:endParaRPr b="0" lang="en-US" sz="2400" spc="-1" strike="noStrike">
              <a:solidFill>
                <a:srgbClr val="000000"/>
              </a:solidFill>
              <a:latin typeface="Calibri"/>
            </a:endParaRPr>
          </a:p>
        </p:txBody>
      </p:sp>
      <p:sp>
        <p:nvSpPr>
          <p:cNvPr id="2393" name="Straight Connector 7"/>
          <p:cNvSpPr/>
          <p:nvPr/>
        </p:nvSpPr>
        <p:spPr>
          <a:xfrm>
            <a:off x="5989680" y="1866960"/>
            <a:ext cx="76032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4" name="TextBox 9"/>
          <p:cNvSpPr/>
          <p:nvPr/>
        </p:nvSpPr>
        <p:spPr>
          <a:xfrm>
            <a:off x="5896080" y="4732200"/>
            <a:ext cx="441468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a:t>
            </a:r>
            <a:r>
              <a:rPr b="0" lang="en-GB" sz="1100" spc="-1" strike="noStrike">
                <a:solidFill>
                  <a:srgbClr val="7f7f7f"/>
                </a:solidFill>
                <a:latin typeface="Lato"/>
              </a:rPr>
              <a:t>. K</a:t>
            </a:r>
            <a:r>
              <a:rPr b="0" lang="id-ID" sz="1100" spc="-1" strike="noStrike">
                <a:solidFill>
                  <a:srgbClr val="7f7f7f"/>
                </a:solidFill>
                <a:latin typeface="Lato"/>
              </a:rPr>
              <a:t>otam rem aperiam, eaque ipsa</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2395" name="TextBox 10"/>
          <p:cNvSpPr/>
          <p:nvPr/>
        </p:nvSpPr>
        <p:spPr>
          <a:xfrm>
            <a:off x="5896080" y="3951360"/>
            <a:ext cx="304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95959"/>
                </a:solidFill>
                <a:latin typeface="Montserrat"/>
              </a:rPr>
              <a:t>Your Text Here</a:t>
            </a:r>
            <a:endParaRPr b="0" lang="en-US" sz="2400" spc="-1" strike="noStrike">
              <a:solidFill>
                <a:srgbClr val="000000"/>
              </a:solidFill>
              <a:latin typeface="Calibri"/>
            </a:endParaRPr>
          </a:p>
        </p:txBody>
      </p:sp>
      <p:sp>
        <p:nvSpPr>
          <p:cNvPr id="2396" name="Straight Connector 11"/>
          <p:cNvSpPr/>
          <p:nvPr/>
        </p:nvSpPr>
        <p:spPr>
          <a:xfrm>
            <a:off x="5989680" y="4584600"/>
            <a:ext cx="76032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397" name="Group 12" descr=""/>
          <p:cNvPicPr/>
          <p:nvPr/>
        </p:nvPicPr>
        <p:blipFill>
          <a:blip r:embed="rId5"/>
          <a:stretch/>
        </p:blipFill>
        <p:spPr>
          <a:xfrm>
            <a:off x="11442600" y="3035160"/>
            <a:ext cx="195480" cy="787680"/>
          </a:xfrm>
          <a:prstGeom prst="rect">
            <a:avLst/>
          </a:prstGeom>
          <a:ln w="0">
            <a:noFill/>
          </a:ln>
        </p:spPr>
      </p:pic>
      <p:sp>
        <p:nvSpPr>
          <p:cNvPr id="2398" name="Rectangle 15"/>
          <p:cNvSpPr/>
          <p:nvPr/>
        </p:nvSpPr>
        <p:spPr>
          <a:xfrm>
            <a:off x="11220480" y="0"/>
            <a:ext cx="971640" cy="5014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9" name="Rectangle 16"/>
          <p:cNvSpPr/>
          <p:nvPr/>
        </p:nvSpPr>
        <p:spPr>
          <a:xfrm>
            <a:off x="0" y="6375240"/>
            <a:ext cx="2286000" cy="50328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00" name="Graphic 17" descr=""/>
          <p:cNvPicPr/>
          <p:nvPr/>
        </p:nvPicPr>
        <p:blipFill>
          <a:blip r:embed="rId6"/>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Freeform: Shape 34"/>
          <p:cNvSpPr/>
          <p:nvPr/>
        </p:nvSpPr>
        <p:spPr>
          <a:xfrm>
            <a:off x="4078440" y="2130480"/>
            <a:ext cx="6364080" cy="4727520"/>
          </a:xfrm>
          <a:custGeom>
            <a:avLst/>
            <a:gdLst/>
            <a:ahLst/>
            <a:rect l="l" t="t" r="r" b="b"/>
            <a:pathLst>
              <a:path w="6363834" h="4727352">
                <a:moveTo>
                  <a:pt x="624079" y="0"/>
                </a:moveTo>
                <a:lnTo>
                  <a:pt x="5739755" y="0"/>
                </a:lnTo>
                <a:cubicBezTo>
                  <a:pt x="6084424" y="0"/>
                  <a:pt x="6363834" y="279410"/>
                  <a:pt x="6363834" y="624079"/>
                </a:cubicBezTo>
                <a:lnTo>
                  <a:pt x="6363834" y="4727352"/>
                </a:lnTo>
                <a:lnTo>
                  <a:pt x="0" y="4727352"/>
                </a:lnTo>
                <a:lnTo>
                  <a:pt x="0" y="624079"/>
                </a:lnTo>
                <a:cubicBezTo>
                  <a:pt x="0" y="279410"/>
                  <a:pt x="279410" y="0"/>
                  <a:pt x="62407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02" name="Slide Number Placeholder 1"/>
          <p:cNvSpPr/>
          <p:nvPr/>
        </p:nvSpPr>
        <p:spPr>
          <a:xfrm>
            <a:off x="-824040" y="6184800"/>
            <a:ext cx="27432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4023-033E-44DA-BE22-0A0557BB2DCB}" type="slidenum">
              <a:rPr b="0" lang="en-ID" sz="1600" spc="-1" strike="noStrike">
                <a:solidFill>
                  <a:srgbClr val="7f7f7f"/>
                </a:solidFill>
                <a:latin typeface="Lato"/>
                <a:ea typeface="Arial"/>
              </a:rPr>
              <a:t>&lt;number&gt;</a:t>
            </a:fld>
            <a:endParaRPr b="0" lang="en-US" sz="1600" spc="-1" strike="noStrike">
              <a:solidFill>
                <a:srgbClr val="000000"/>
              </a:solidFill>
              <a:latin typeface="Calibri"/>
            </a:endParaRPr>
          </a:p>
        </p:txBody>
      </p:sp>
      <p:sp>
        <p:nvSpPr>
          <p:cNvPr id="2403" name="TextBox 10"/>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2404" name="TextBox 11"/>
          <p:cNvSpPr/>
          <p:nvPr/>
        </p:nvSpPr>
        <p:spPr>
          <a:xfrm>
            <a:off x="4665600" y="2957400"/>
            <a:ext cx="518796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236e96"/>
                </a:solidFill>
                <a:latin typeface="Montserrat"/>
                <a:ea typeface="Roboto"/>
              </a:rPr>
              <a:t>Working In Life </a:t>
            </a:r>
            <a:r>
              <a:rPr b="0" lang="en-GB" sz="3200" spc="-1" strike="noStrike">
                <a:solidFill>
                  <a:srgbClr val="236e96"/>
                </a:solidFill>
                <a:latin typeface="Montserrat"/>
                <a:ea typeface="Roboto"/>
              </a:rPr>
              <a:t>Will Provide </a:t>
            </a:r>
            <a:r>
              <a:rPr b="1" i="1" lang="en-GB" sz="3200" spc="-1" strike="noStrike">
                <a:solidFill>
                  <a:srgbClr val="236e96"/>
                </a:solidFill>
                <a:latin typeface="Montserrat"/>
                <a:ea typeface="Roboto"/>
              </a:rPr>
              <a:t>Happiness</a:t>
            </a:r>
            <a:r>
              <a:rPr b="0" lang="en-GB" sz="3200" spc="-1" strike="noStrike">
                <a:solidFill>
                  <a:srgbClr val="236e96"/>
                </a:solidFill>
                <a:latin typeface="Montserrat"/>
                <a:ea typeface="Roboto"/>
              </a:rPr>
              <a:t> To </a:t>
            </a:r>
            <a:r>
              <a:rPr b="1" i="1" lang="en-GB" sz="3200" spc="-1" strike="noStrike">
                <a:solidFill>
                  <a:srgbClr val="236e96"/>
                </a:solidFill>
                <a:latin typeface="Montserrat"/>
                <a:ea typeface="Roboto"/>
              </a:rPr>
              <a:t>Our Mind</a:t>
            </a:r>
            <a:r>
              <a:rPr b="0" lang="en-GB" sz="3200" spc="-1" strike="noStrike">
                <a:solidFill>
                  <a:srgbClr val="236e96"/>
                </a:solidFill>
                <a:latin typeface="Montserrat"/>
                <a:ea typeface="Roboto"/>
              </a:rPr>
              <a:t>. Great Mind Will Provide A Great </a:t>
            </a:r>
            <a:r>
              <a:rPr b="1" i="1" lang="en-GB" sz="3200" spc="-1" strike="noStrike">
                <a:solidFill>
                  <a:srgbClr val="236e96"/>
                </a:solidFill>
                <a:latin typeface="Montserrat"/>
                <a:ea typeface="Roboto"/>
              </a:rPr>
              <a:t>Experience</a:t>
            </a:r>
            <a:r>
              <a:rPr b="0" lang="en-GB" sz="3200" spc="-1" strike="noStrike">
                <a:solidFill>
                  <a:srgbClr val="236e96"/>
                </a:solidFill>
                <a:latin typeface="Montserrat"/>
                <a:ea typeface="Roboto"/>
              </a:rPr>
              <a:t>.</a:t>
            </a:r>
            <a:endParaRPr b="0" lang="en-US" sz="3200" spc="-1" strike="noStrike">
              <a:solidFill>
                <a:srgbClr val="000000"/>
              </a:solidFill>
              <a:latin typeface="Calibri"/>
            </a:endParaRPr>
          </a:p>
        </p:txBody>
      </p:sp>
      <p:pic>
        <p:nvPicPr>
          <p:cNvPr id="2405" name="Group 12" descr=""/>
          <p:cNvPicPr/>
          <p:nvPr/>
        </p:nvPicPr>
        <p:blipFill>
          <a:blip r:embed="rId1"/>
          <a:stretch/>
        </p:blipFill>
        <p:spPr>
          <a:xfrm>
            <a:off x="1957320" y="6272280"/>
            <a:ext cx="1219320" cy="220680"/>
          </a:xfrm>
          <a:prstGeom prst="rect">
            <a:avLst/>
          </a:prstGeom>
          <a:ln w="0">
            <a:noFill/>
          </a:ln>
        </p:spPr>
      </p:pic>
      <p:grpSp>
        <p:nvGrpSpPr>
          <p:cNvPr id="2406" name="Group 16"/>
          <p:cNvGrpSpPr/>
          <p:nvPr/>
        </p:nvGrpSpPr>
        <p:grpSpPr>
          <a:xfrm>
            <a:off x="6168960" y="5931000"/>
            <a:ext cx="2183760" cy="368280"/>
            <a:chOff x="6168960" y="5931000"/>
            <a:chExt cx="2183760" cy="368280"/>
          </a:xfrm>
        </p:grpSpPr>
        <p:sp>
          <p:nvSpPr>
            <p:cNvPr id="2407" name="TextBox 17"/>
            <p:cNvSpPr/>
            <p:nvPr/>
          </p:nvSpPr>
          <p:spPr>
            <a:xfrm>
              <a:off x="7039440" y="5931000"/>
              <a:ext cx="13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d0d0d"/>
                  </a:solidFill>
                  <a:latin typeface="Roboto"/>
                  <a:ea typeface="Roboto"/>
                </a:rPr>
                <a:t>Your</a:t>
              </a:r>
              <a:r>
                <a:rPr b="0" i="1" lang="id-ID" sz="1800" spc="-1" strike="noStrike">
                  <a:solidFill>
                    <a:srgbClr val="0d0d0d"/>
                  </a:solidFill>
                  <a:latin typeface="Roboto"/>
                  <a:ea typeface="Roboto"/>
                </a:rPr>
                <a:t> Name</a:t>
              </a:r>
              <a:endParaRPr b="0" lang="en-US" sz="1800" spc="-1" strike="noStrike">
                <a:solidFill>
                  <a:srgbClr val="000000"/>
                </a:solidFill>
                <a:latin typeface="Calibri"/>
              </a:endParaRPr>
            </a:p>
          </p:txBody>
        </p:sp>
        <p:sp>
          <p:nvSpPr>
            <p:cNvPr id="2408" name="Straight Connector 18"/>
            <p:cNvSpPr/>
            <p:nvPr/>
          </p:nvSpPr>
          <p:spPr>
            <a:xfrm flipH="1">
              <a:off x="6168960" y="6117480"/>
              <a:ext cx="740880" cy="0"/>
            </a:xfrm>
            <a:prstGeom prst="line">
              <a:avLst/>
            </a:prstGeom>
            <a:ln w="255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09" name="Freeform: Shape 19"/>
          <p:cNvSpPr/>
          <p:nvPr/>
        </p:nvSpPr>
        <p:spPr>
          <a:xfrm>
            <a:off x="6618240" y="1442880"/>
            <a:ext cx="1284480" cy="1044720"/>
          </a:xfrm>
          <a:custGeom>
            <a:avLst/>
            <a:gdLst/>
            <a:ahLst/>
            <a:rect l="l" t="t" r="r" b="b"/>
            <a:pathLst>
              <a:path w="941927" h="765696">
                <a:moveTo>
                  <a:pt x="829503" y="0"/>
                </a:moveTo>
                <a:lnTo>
                  <a:pt x="856850" y="54693"/>
                </a:lnTo>
                <a:cubicBezTo>
                  <a:pt x="794054" y="81026"/>
                  <a:pt x="739868" y="122552"/>
                  <a:pt x="694291" y="179270"/>
                </a:cubicBezTo>
                <a:cubicBezTo>
                  <a:pt x="648714" y="235989"/>
                  <a:pt x="625926" y="293720"/>
                  <a:pt x="625926" y="352463"/>
                </a:cubicBezTo>
                <a:cubicBezTo>
                  <a:pt x="625926" y="376771"/>
                  <a:pt x="628964" y="398040"/>
                  <a:pt x="635041" y="416271"/>
                </a:cubicBezTo>
                <a:cubicBezTo>
                  <a:pt x="667451" y="389938"/>
                  <a:pt x="704926" y="376771"/>
                  <a:pt x="747465" y="376771"/>
                </a:cubicBezTo>
                <a:cubicBezTo>
                  <a:pt x="802157" y="376771"/>
                  <a:pt x="848241" y="394496"/>
                  <a:pt x="885715" y="429944"/>
                </a:cubicBezTo>
                <a:cubicBezTo>
                  <a:pt x="923190" y="465393"/>
                  <a:pt x="941927" y="512490"/>
                  <a:pt x="941927" y="571234"/>
                </a:cubicBezTo>
                <a:cubicBezTo>
                  <a:pt x="941927" y="625926"/>
                  <a:pt x="923190" y="672010"/>
                  <a:pt x="885715" y="709484"/>
                </a:cubicBezTo>
                <a:cubicBezTo>
                  <a:pt x="848241" y="746959"/>
                  <a:pt x="802157" y="765696"/>
                  <a:pt x="747465" y="765696"/>
                </a:cubicBezTo>
                <a:cubicBezTo>
                  <a:pt x="668464" y="765696"/>
                  <a:pt x="608708" y="733286"/>
                  <a:pt x="568194" y="668465"/>
                </a:cubicBezTo>
                <a:cubicBezTo>
                  <a:pt x="533758" y="613772"/>
                  <a:pt x="516541" y="546926"/>
                  <a:pt x="516541" y="467925"/>
                </a:cubicBezTo>
                <a:cubicBezTo>
                  <a:pt x="516541" y="366643"/>
                  <a:pt x="542368" y="275489"/>
                  <a:pt x="594022" y="194463"/>
                </a:cubicBezTo>
                <a:cubicBezTo>
                  <a:pt x="645676" y="113437"/>
                  <a:pt x="724170" y="48616"/>
                  <a:pt x="829503" y="0"/>
                </a:cubicBezTo>
                <a:close/>
                <a:moveTo>
                  <a:pt x="312963" y="0"/>
                </a:moveTo>
                <a:lnTo>
                  <a:pt x="340309" y="54693"/>
                </a:lnTo>
                <a:cubicBezTo>
                  <a:pt x="277514" y="81026"/>
                  <a:pt x="223328" y="122552"/>
                  <a:pt x="177751" y="179270"/>
                </a:cubicBezTo>
                <a:cubicBezTo>
                  <a:pt x="132173" y="235989"/>
                  <a:pt x="109385" y="293720"/>
                  <a:pt x="109385" y="352463"/>
                </a:cubicBezTo>
                <a:cubicBezTo>
                  <a:pt x="109385" y="376771"/>
                  <a:pt x="112423" y="398040"/>
                  <a:pt x="118500" y="416271"/>
                </a:cubicBezTo>
                <a:cubicBezTo>
                  <a:pt x="150911" y="389938"/>
                  <a:pt x="188385" y="376771"/>
                  <a:pt x="230924" y="376771"/>
                </a:cubicBezTo>
                <a:cubicBezTo>
                  <a:pt x="285616" y="376771"/>
                  <a:pt x="331700" y="394496"/>
                  <a:pt x="369175" y="429944"/>
                </a:cubicBezTo>
                <a:cubicBezTo>
                  <a:pt x="406649" y="465393"/>
                  <a:pt x="425386" y="512490"/>
                  <a:pt x="425386" y="571234"/>
                </a:cubicBezTo>
                <a:cubicBezTo>
                  <a:pt x="425386" y="625926"/>
                  <a:pt x="406649" y="672010"/>
                  <a:pt x="369175" y="709484"/>
                </a:cubicBezTo>
                <a:cubicBezTo>
                  <a:pt x="331700" y="746959"/>
                  <a:pt x="285616" y="765696"/>
                  <a:pt x="230924" y="765696"/>
                </a:cubicBezTo>
                <a:cubicBezTo>
                  <a:pt x="151924" y="765696"/>
                  <a:pt x="92167" y="733286"/>
                  <a:pt x="51654" y="668465"/>
                </a:cubicBezTo>
                <a:cubicBezTo>
                  <a:pt x="17218" y="613772"/>
                  <a:pt x="0" y="546926"/>
                  <a:pt x="0" y="467925"/>
                </a:cubicBezTo>
                <a:cubicBezTo>
                  <a:pt x="0" y="366643"/>
                  <a:pt x="25827" y="275489"/>
                  <a:pt x="77481" y="194463"/>
                </a:cubicBezTo>
                <a:cubicBezTo>
                  <a:pt x="129135" y="113437"/>
                  <a:pt x="207629" y="48616"/>
                  <a:pt x="312963" y="0"/>
                </a:cubicBez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0" name="TextBox 32"/>
          <p:cNvSpPr/>
          <p:nvPr/>
        </p:nvSpPr>
        <p:spPr>
          <a:xfrm>
            <a:off x="8204040" y="438120"/>
            <a:ext cx="2829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7f7f7f"/>
                </a:solidFill>
                <a:latin typeface="Montserrat"/>
              </a:rPr>
              <a:t>QUOTES OF THE DAY</a:t>
            </a:r>
            <a:endParaRPr b="0" lang="en-US" sz="1400" spc="-1" strike="noStrike">
              <a:solidFill>
                <a:srgbClr val="000000"/>
              </a:solidFill>
              <a:latin typeface="Calibri"/>
            </a:endParaRPr>
          </a:p>
        </p:txBody>
      </p:sp>
      <p:pic>
        <p:nvPicPr>
          <p:cNvPr id="2411" name="Graphic 20" descr=""/>
          <p:cNvPicPr/>
          <p:nvPr/>
        </p:nvPicPr>
        <p:blipFill>
          <a:blip r:embed="rId2"/>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Slide Number Placeholder 1"/>
          <p:cNvSpPr/>
          <p:nvPr/>
        </p:nvSpPr>
        <p:spPr>
          <a:xfrm>
            <a:off x="930420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E11E-A7F4-4308-B751-873A3D89EB49}" type="slidenum">
              <a:rPr b="0" lang="en-ID" sz="1600" spc="-1" strike="noStrike">
                <a:solidFill>
                  <a:srgbClr val="898989"/>
                </a:solidFill>
                <a:latin typeface="Lato"/>
                <a:ea typeface="Arial"/>
              </a:rPr>
              <a:t>&lt;number&gt;</a:t>
            </a:fld>
            <a:endParaRPr b="0" lang="en-US" sz="1600" spc="-1" strike="noStrike">
              <a:solidFill>
                <a:srgbClr val="000000"/>
              </a:solidFill>
              <a:latin typeface="Calibri"/>
            </a:endParaRPr>
          </a:p>
        </p:txBody>
      </p:sp>
      <p:sp>
        <p:nvSpPr>
          <p:cNvPr id="2413" name="Rectangle 3"/>
          <p:cNvSpPr/>
          <p:nvPr/>
        </p:nvSpPr>
        <p:spPr>
          <a:xfrm>
            <a:off x="3054240" y="3429000"/>
            <a:ext cx="4178520" cy="288612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4" name="TextBox 5"/>
          <p:cNvSpPr/>
          <p:nvPr/>
        </p:nvSpPr>
        <p:spPr>
          <a:xfrm>
            <a:off x="3494160" y="4178160"/>
            <a:ext cx="159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Roboto"/>
                <a:ea typeface="Roboto"/>
              </a:rPr>
              <a:t>$</a:t>
            </a:r>
            <a:r>
              <a:rPr b="1" lang="en-GB" sz="4400" spc="-1" strike="noStrike">
                <a:solidFill>
                  <a:srgbClr val="000000"/>
                </a:solidFill>
                <a:latin typeface="Roboto"/>
                <a:ea typeface="Roboto"/>
              </a:rPr>
              <a:t>399</a:t>
            </a:r>
            <a:r>
              <a:rPr b="1" lang="en-GB" sz="2800" spc="-1" strike="noStrike">
                <a:solidFill>
                  <a:srgbClr val="000000"/>
                </a:solidFill>
                <a:latin typeface="Roboto"/>
                <a:ea typeface="Roboto"/>
              </a:rPr>
              <a:t>,-</a:t>
            </a:r>
            <a:endParaRPr b="0" lang="en-US" sz="2800" spc="-1" strike="noStrike">
              <a:solidFill>
                <a:srgbClr val="000000"/>
              </a:solidFill>
              <a:latin typeface="Calibri"/>
            </a:endParaRPr>
          </a:p>
        </p:txBody>
      </p:sp>
      <p:sp>
        <p:nvSpPr>
          <p:cNvPr id="2415" name="TextBox 6"/>
          <p:cNvSpPr/>
          <p:nvPr/>
        </p:nvSpPr>
        <p:spPr>
          <a:xfrm>
            <a:off x="5315040" y="4016520"/>
            <a:ext cx="160020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f7f7f"/>
                </a:solidFill>
                <a:latin typeface="Lato"/>
                <a:ea typeface="Poppins"/>
              </a:rPr>
              <a:t>There Are Many Variations Of Passages Of Lorem Ipsum Available</a:t>
            </a:r>
            <a:endParaRPr b="0" lang="en-US" sz="1400" spc="-1" strike="noStrike">
              <a:solidFill>
                <a:srgbClr val="000000"/>
              </a:solidFill>
              <a:latin typeface="Calibri"/>
            </a:endParaRPr>
          </a:p>
        </p:txBody>
      </p:sp>
      <p:sp>
        <p:nvSpPr>
          <p:cNvPr id="2416" name="TextBox 7"/>
          <p:cNvSpPr/>
          <p:nvPr/>
        </p:nvSpPr>
        <p:spPr>
          <a:xfrm>
            <a:off x="3797280" y="3846600"/>
            <a:ext cx="98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Roboto"/>
                <a:ea typeface="Roboto"/>
              </a:rPr>
              <a:t>BASIC</a:t>
            </a:r>
            <a:endParaRPr b="0" lang="en-US" sz="1600" spc="-1" strike="noStrike">
              <a:solidFill>
                <a:srgbClr val="000000"/>
              </a:solidFill>
              <a:latin typeface="Calibri"/>
            </a:endParaRPr>
          </a:p>
        </p:txBody>
      </p:sp>
      <p:sp>
        <p:nvSpPr>
          <p:cNvPr id="2417" name="Rectangle: Rounded Corners 8"/>
          <p:cNvSpPr/>
          <p:nvPr/>
        </p:nvSpPr>
        <p:spPr>
          <a:xfrm>
            <a:off x="3797280" y="5456160"/>
            <a:ext cx="946080" cy="381240"/>
          </a:xfrm>
          <a:prstGeom prst="roundRect">
            <a:avLst>
              <a:gd name="adj" fmla="val 28667"/>
            </a:avLst>
          </a:prstGeom>
          <a:gradFill rotWithShape="0">
            <a:gsLst>
              <a:gs pos="0">
                <a:srgbClr val="15b2d3"/>
              </a:gs>
              <a:gs pos="100000">
                <a:srgbClr val="236e96"/>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8" name="TextBox 9"/>
          <p:cNvSpPr/>
          <p:nvPr/>
        </p:nvSpPr>
        <p:spPr>
          <a:xfrm>
            <a:off x="3797280" y="5508720"/>
            <a:ext cx="94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Roboto"/>
                <a:ea typeface="Roboto"/>
              </a:rPr>
              <a:t>Read More</a:t>
            </a:r>
            <a:endParaRPr b="0" lang="en-US" sz="1200" spc="-1" strike="noStrike">
              <a:solidFill>
                <a:srgbClr val="000000"/>
              </a:solidFill>
              <a:latin typeface="Calibri"/>
            </a:endParaRPr>
          </a:p>
        </p:txBody>
      </p:sp>
      <p:grpSp>
        <p:nvGrpSpPr>
          <p:cNvPr id="2419" name="Group 10"/>
          <p:cNvGrpSpPr/>
          <p:nvPr/>
        </p:nvGrpSpPr>
        <p:grpSpPr>
          <a:xfrm>
            <a:off x="3976560" y="5079960"/>
            <a:ext cx="587520" cy="76320"/>
            <a:chOff x="3976560" y="5079960"/>
            <a:chExt cx="587520" cy="76320"/>
          </a:xfrm>
        </p:grpSpPr>
        <p:sp>
          <p:nvSpPr>
            <p:cNvPr id="2420" name="Oval 11"/>
            <p:cNvSpPr/>
            <p:nvPr/>
          </p:nvSpPr>
          <p:spPr>
            <a:xfrm>
              <a:off x="3976560" y="507996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1" name="Oval 12"/>
            <p:cNvSpPr/>
            <p:nvPr/>
          </p:nvSpPr>
          <p:spPr>
            <a:xfrm>
              <a:off x="4232160" y="507996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2" name="Oval 13"/>
            <p:cNvSpPr/>
            <p:nvPr/>
          </p:nvSpPr>
          <p:spPr>
            <a:xfrm>
              <a:off x="4488120" y="507996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3" name="TextBox 24"/>
          <p:cNvSpPr/>
          <p:nvPr/>
        </p:nvSpPr>
        <p:spPr>
          <a:xfrm>
            <a:off x="679320" y="3625920"/>
            <a:ext cx="1932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Roboto"/>
                <a:ea typeface="Roboto"/>
              </a:rPr>
              <a:t>Price List</a:t>
            </a:r>
            <a:endParaRPr b="0" lang="en-US" sz="4000" spc="-1" strike="noStrike">
              <a:solidFill>
                <a:srgbClr val="000000"/>
              </a:solidFill>
              <a:latin typeface="Calibri"/>
            </a:endParaRPr>
          </a:p>
        </p:txBody>
      </p:sp>
      <p:sp>
        <p:nvSpPr>
          <p:cNvPr id="2424" name="Rectangle 25"/>
          <p:cNvSpPr/>
          <p:nvPr/>
        </p:nvSpPr>
        <p:spPr>
          <a:xfrm>
            <a:off x="7432560" y="3429000"/>
            <a:ext cx="4178520" cy="288612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5" name="TextBox 26"/>
          <p:cNvSpPr/>
          <p:nvPr/>
        </p:nvSpPr>
        <p:spPr>
          <a:xfrm>
            <a:off x="7872480" y="4178160"/>
            <a:ext cx="159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Roboto"/>
                <a:ea typeface="Roboto"/>
              </a:rPr>
              <a:t>$</a:t>
            </a:r>
            <a:r>
              <a:rPr b="1" lang="en-GB" sz="4400" spc="-1" strike="noStrike">
                <a:solidFill>
                  <a:srgbClr val="000000"/>
                </a:solidFill>
                <a:latin typeface="Roboto"/>
                <a:ea typeface="Roboto"/>
              </a:rPr>
              <a:t>599</a:t>
            </a:r>
            <a:r>
              <a:rPr b="1" lang="en-GB" sz="2800" spc="-1" strike="noStrike">
                <a:solidFill>
                  <a:srgbClr val="000000"/>
                </a:solidFill>
                <a:latin typeface="Roboto"/>
                <a:ea typeface="Roboto"/>
              </a:rPr>
              <a:t>,-</a:t>
            </a:r>
            <a:endParaRPr b="0" lang="en-US" sz="2800" spc="-1" strike="noStrike">
              <a:solidFill>
                <a:srgbClr val="000000"/>
              </a:solidFill>
              <a:latin typeface="Calibri"/>
            </a:endParaRPr>
          </a:p>
        </p:txBody>
      </p:sp>
      <p:sp>
        <p:nvSpPr>
          <p:cNvPr id="2426" name="TextBox 27"/>
          <p:cNvSpPr/>
          <p:nvPr/>
        </p:nvSpPr>
        <p:spPr>
          <a:xfrm>
            <a:off x="9693360" y="4016520"/>
            <a:ext cx="160020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f7f7f"/>
                </a:solidFill>
                <a:latin typeface="Lato"/>
                <a:ea typeface="Poppins"/>
              </a:rPr>
              <a:t>There Are Many Variations Of Passages Of Lorem Ipsum Available</a:t>
            </a:r>
            <a:endParaRPr b="0" lang="en-US" sz="1400" spc="-1" strike="noStrike">
              <a:solidFill>
                <a:srgbClr val="000000"/>
              </a:solidFill>
              <a:latin typeface="Calibri"/>
            </a:endParaRPr>
          </a:p>
        </p:txBody>
      </p:sp>
      <p:sp>
        <p:nvSpPr>
          <p:cNvPr id="2427" name="TextBox 28"/>
          <p:cNvSpPr/>
          <p:nvPr/>
        </p:nvSpPr>
        <p:spPr>
          <a:xfrm>
            <a:off x="7804080" y="3846600"/>
            <a:ext cx="1725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5b2d3"/>
                </a:solidFill>
                <a:latin typeface="Roboto"/>
                <a:ea typeface="Roboto"/>
              </a:rPr>
              <a:t>PREMIUM</a:t>
            </a:r>
            <a:endParaRPr b="0" lang="en-US" sz="1600" spc="-1" strike="noStrike">
              <a:solidFill>
                <a:srgbClr val="000000"/>
              </a:solidFill>
              <a:latin typeface="Calibri"/>
            </a:endParaRPr>
          </a:p>
        </p:txBody>
      </p:sp>
      <p:sp>
        <p:nvSpPr>
          <p:cNvPr id="2428" name="Rectangle: Rounded Corners 29"/>
          <p:cNvSpPr/>
          <p:nvPr/>
        </p:nvSpPr>
        <p:spPr>
          <a:xfrm>
            <a:off x="8175600" y="5456160"/>
            <a:ext cx="946080" cy="381240"/>
          </a:xfrm>
          <a:prstGeom prst="roundRect">
            <a:avLst>
              <a:gd name="adj" fmla="val 28667"/>
            </a:avLst>
          </a:prstGeom>
          <a:gradFill rotWithShape="0">
            <a:gsLst>
              <a:gs pos="0">
                <a:srgbClr val="15b2d3"/>
              </a:gs>
              <a:gs pos="100000">
                <a:srgbClr val="236e96"/>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9" name="TextBox 30"/>
          <p:cNvSpPr/>
          <p:nvPr/>
        </p:nvSpPr>
        <p:spPr>
          <a:xfrm>
            <a:off x="8175600" y="5508720"/>
            <a:ext cx="94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Roboto"/>
                <a:ea typeface="Roboto"/>
              </a:rPr>
              <a:t>Read More</a:t>
            </a:r>
            <a:endParaRPr b="0" lang="en-US" sz="1200" spc="-1" strike="noStrike">
              <a:solidFill>
                <a:srgbClr val="000000"/>
              </a:solidFill>
              <a:latin typeface="Calibri"/>
            </a:endParaRPr>
          </a:p>
        </p:txBody>
      </p:sp>
      <p:grpSp>
        <p:nvGrpSpPr>
          <p:cNvPr id="2430" name="Group 31"/>
          <p:cNvGrpSpPr/>
          <p:nvPr/>
        </p:nvGrpSpPr>
        <p:grpSpPr>
          <a:xfrm>
            <a:off x="8354880" y="5079960"/>
            <a:ext cx="586080" cy="76320"/>
            <a:chOff x="8354880" y="5079960"/>
            <a:chExt cx="586080" cy="76320"/>
          </a:xfrm>
        </p:grpSpPr>
        <p:sp>
          <p:nvSpPr>
            <p:cNvPr id="2431" name="Oval 32"/>
            <p:cNvSpPr/>
            <p:nvPr/>
          </p:nvSpPr>
          <p:spPr>
            <a:xfrm>
              <a:off x="8354880" y="507996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2" name="Oval 33"/>
            <p:cNvSpPr/>
            <p:nvPr/>
          </p:nvSpPr>
          <p:spPr>
            <a:xfrm>
              <a:off x="8609760" y="507996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3" name="Oval 34"/>
            <p:cNvSpPr/>
            <p:nvPr/>
          </p:nvSpPr>
          <p:spPr>
            <a:xfrm>
              <a:off x="8865000" y="507996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34" name="TextBox 35"/>
          <p:cNvSpPr/>
          <p:nvPr/>
        </p:nvSpPr>
        <p:spPr>
          <a:xfrm>
            <a:off x="716040" y="5110200"/>
            <a:ext cx="17668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Lorem ipsum dolor sit amet, consectetur adipiscing elit</a:t>
            </a:r>
            <a:r>
              <a:rPr b="0" lang="en-GB" sz="1200" spc="-1" strike="noStrike">
                <a:solidFill>
                  <a:srgbClr val="7f7f7f"/>
                </a:solidFill>
                <a:latin typeface="Lato"/>
              </a:rPr>
              <a:t>.</a:t>
            </a:r>
            <a:endParaRPr b="0" lang="en-US" sz="1200" spc="-1" strike="noStrike">
              <a:solidFill>
                <a:srgbClr val="000000"/>
              </a:solidFill>
              <a:latin typeface="Calibri"/>
            </a:endParaRPr>
          </a:p>
        </p:txBody>
      </p:sp>
      <p:sp>
        <p:nvSpPr>
          <p:cNvPr id="2435" name="Rectangle 43"/>
          <p:cNvSpPr/>
          <p:nvPr/>
        </p:nvSpPr>
        <p:spPr>
          <a:xfrm>
            <a:off x="0" y="2757600"/>
            <a:ext cx="2071800" cy="56016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Rectangle 2"/>
          <p:cNvSpPr/>
          <p:nvPr/>
        </p:nvSpPr>
        <p:spPr>
          <a:xfrm>
            <a:off x="2351160" y="2254320"/>
            <a:ext cx="2816280" cy="414504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7" name="Rectangle: Rounded Corners 6"/>
          <p:cNvSpPr/>
          <p:nvPr/>
        </p:nvSpPr>
        <p:spPr>
          <a:xfrm>
            <a:off x="3114720" y="5440320"/>
            <a:ext cx="1289160" cy="496800"/>
          </a:xfrm>
          <a:prstGeom prst="roundRect">
            <a:avLst>
              <a:gd name="adj" fmla="val 28667"/>
            </a:avLst>
          </a:prstGeom>
          <a:gradFill rotWithShape="0">
            <a:gsLst>
              <a:gs pos="0">
                <a:srgbClr val="15b2d3"/>
              </a:gs>
              <a:gs pos="100000">
                <a:srgbClr val="236e96"/>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8" name="Slide Number Placeholder 1"/>
          <p:cNvSpPr/>
          <p:nvPr/>
        </p:nvSpPr>
        <p:spPr>
          <a:xfrm>
            <a:off x="930420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06B9-13E6-4B90-A6D0-F0E547F86277}" type="slidenum">
              <a:rPr b="0" lang="en-ID" sz="1600" spc="-1" strike="noStrike">
                <a:solidFill>
                  <a:srgbClr val="898989"/>
                </a:solidFill>
                <a:latin typeface="Lato"/>
                <a:ea typeface="Arial"/>
              </a:rPr>
              <a:t>&lt;number&gt;</a:t>
            </a:fld>
            <a:endParaRPr b="0" lang="en-US" sz="1600" spc="-1" strike="noStrike">
              <a:solidFill>
                <a:srgbClr val="000000"/>
              </a:solidFill>
              <a:latin typeface="Calibri"/>
            </a:endParaRPr>
          </a:p>
        </p:txBody>
      </p:sp>
      <p:sp>
        <p:nvSpPr>
          <p:cNvPr id="2439" name="TextBox 3"/>
          <p:cNvSpPr/>
          <p:nvPr/>
        </p:nvSpPr>
        <p:spPr>
          <a:xfrm>
            <a:off x="3201840" y="5487840"/>
            <a:ext cx="111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Roboto"/>
                <a:ea typeface="Roboto"/>
              </a:rPr>
              <a:t>$</a:t>
            </a:r>
            <a:r>
              <a:rPr b="1" lang="en-GB" sz="2000" spc="-1" strike="noStrike">
                <a:solidFill>
                  <a:srgbClr val="ffffff"/>
                </a:solidFill>
                <a:latin typeface="Roboto"/>
                <a:ea typeface="Roboto"/>
              </a:rPr>
              <a:t>399</a:t>
            </a:r>
            <a:r>
              <a:rPr b="1" lang="en-GB" sz="1200" spc="-1" strike="noStrike">
                <a:solidFill>
                  <a:srgbClr val="ffffff"/>
                </a:solidFill>
                <a:latin typeface="Roboto"/>
                <a:ea typeface="Roboto"/>
              </a:rPr>
              <a:t>,00</a:t>
            </a:r>
            <a:endParaRPr b="0" lang="en-US" sz="1200" spc="-1" strike="noStrike">
              <a:solidFill>
                <a:srgbClr val="000000"/>
              </a:solidFill>
              <a:latin typeface="Calibri"/>
            </a:endParaRPr>
          </a:p>
        </p:txBody>
      </p:sp>
      <p:sp>
        <p:nvSpPr>
          <p:cNvPr id="2440" name="TextBox 4"/>
          <p:cNvSpPr/>
          <p:nvPr/>
        </p:nvSpPr>
        <p:spPr>
          <a:xfrm>
            <a:off x="2959200" y="3730680"/>
            <a:ext cx="16002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f7f7f"/>
                </a:solidFill>
                <a:latin typeface="Lato"/>
                <a:ea typeface="Poppins"/>
              </a:rPr>
              <a:t>There Are Many Variations Of Passages Of Lorem Ipsum</a:t>
            </a:r>
            <a:endParaRPr b="0" lang="en-US" sz="1400" spc="-1" strike="noStrike">
              <a:solidFill>
                <a:srgbClr val="000000"/>
              </a:solidFill>
              <a:latin typeface="Calibri"/>
            </a:endParaRPr>
          </a:p>
        </p:txBody>
      </p:sp>
      <p:sp>
        <p:nvSpPr>
          <p:cNvPr id="2441" name="TextBox 5"/>
          <p:cNvSpPr/>
          <p:nvPr/>
        </p:nvSpPr>
        <p:spPr>
          <a:xfrm>
            <a:off x="2603520" y="2682720"/>
            <a:ext cx="2311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Montserrat"/>
                <a:ea typeface="Roboto"/>
              </a:rPr>
              <a:t>BASIC</a:t>
            </a:r>
            <a:endParaRPr b="0" lang="en-US" sz="2400" spc="-1" strike="noStrike">
              <a:solidFill>
                <a:srgbClr val="000000"/>
              </a:solidFill>
              <a:latin typeface="Calibri"/>
            </a:endParaRPr>
          </a:p>
        </p:txBody>
      </p:sp>
      <p:grpSp>
        <p:nvGrpSpPr>
          <p:cNvPr id="2442" name="Group 12"/>
          <p:cNvGrpSpPr/>
          <p:nvPr/>
        </p:nvGrpSpPr>
        <p:grpSpPr>
          <a:xfrm>
            <a:off x="3465360" y="3421080"/>
            <a:ext cx="586080" cy="76320"/>
            <a:chOff x="3465360" y="3421080"/>
            <a:chExt cx="586080" cy="76320"/>
          </a:xfrm>
        </p:grpSpPr>
        <p:sp>
          <p:nvSpPr>
            <p:cNvPr id="2443" name="Oval 13"/>
            <p:cNvSpPr/>
            <p:nvPr/>
          </p:nvSpPr>
          <p:spPr>
            <a:xfrm>
              <a:off x="3465360" y="34210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4" name="Oval 14"/>
            <p:cNvSpPr/>
            <p:nvPr/>
          </p:nvSpPr>
          <p:spPr>
            <a:xfrm>
              <a:off x="3720240" y="34210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5" name="Oval 15"/>
            <p:cNvSpPr/>
            <p:nvPr/>
          </p:nvSpPr>
          <p:spPr>
            <a:xfrm>
              <a:off x="3975480" y="34210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46" name="Rectangle 25"/>
          <p:cNvSpPr/>
          <p:nvPr/>
        </p:nvSpPr>
        <p:spPr>
          <a:xfrm>
            <a:off x="5419800" y="2254320"/>
            <a:ext cx="2816280" cy="4145040"/>
          </a:xfrm>
          <a:prstGeom prst="rect">
            <a:avLst/>
          </a:prstGeom>
          <a:solidFill>
            <a:srgbClr val="15b2d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7" name="Rectangle: Rounded Corners 26"/>
          <p:cNvSpPr/>
          <p:nvPr/>
        </p:nvSpPr>
        <p:spPr>
          <a:xfrm>
            <a:off x="6183360" y="5440320"/>
            <a:ext cx="1289160" cy="496800"/>
          </a:xfrm>
          <a:prstGeom prst="roundRect">
            <a:avLst>
              <a:gd name="adj" fmla="val 28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8" name="TextBox 27"/>
          <p:cNvSpPr/>
          <p:nvPr/>
        </p:nvSpPr>
        <p:spPr>
          <a:xfrm>
            <a:off x="6270480" y="5487840"/>
            <a:ext cx="111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5b2d3"/>
                </a:solidFill>
                <a:latin typeface="Roboto"/>
                <a:ea typeface="Roboto"/>
              </a:rPr>
              <a:t>$</a:t>
            </a:r>
            <a:r>
              <a:rPr b="1" lang="en-GB" sz="2000" spc="-1" strike="noStrike">
                <a:solidFill>
                  <a:srgbClr val="15b2d3"/>
                </a:solidFill>
                <a:latin typeface="Roboto"/>
                <a:ea typeface="Roboto"/>
              </a:rPr>
              <a:t>499</a:t>
            </a:r>
            <a:r>
              <a:rPr b="1" lang="en-GB" sz="1200" spc="-1" strike="noStrike">
                <a:solidFill>
                  <a:srgbClr val="15b2d3"/>
                </a:solidFill>
                <a:latin typeface="Roboto"/>
                <a:ea typeface="Roboto"/>
              </a:rPr>
              <a:t>,00</a:t>
            </a:r>
            <a:endParaRPr b="0" lang="en-US" sz="1200" spc="-1" strike="noStrike">
              <a:solidFill>
                <a:srgbClr val="000000"/>
              </a:solidFill>
              <a:latin typeface="Calibri"/>
            </a:endParaRPr>
          </a:p>
        </p:txBody>
      </p:sp>
      <p:sp>
        <p:nvSpPr>
          <p:cNvPr id="2449" name="TextBox 28"/>
          <p:cNvSpPr/>
          <p:nvPr/>
        </p:nvSpPr>
        <p:spPr>
          <a:xfrm>
            <a:off x="6027840" y="3730680"/>
            <a:ext cx="16002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Lato"/>
                <a:ea typeface="Poppins"/>
              </a:rPr>
              <a:t>There Are Many Variations Of Passages Of Lorem Ipsum</a:t>
            </a:r>
            <a:endParaRPr b="0" lang="en-US" sz="1400" spc="-1" strike="noStrike">
              <a:solidFill>
                <a:srgbClr val="000000"/>
              </a:solidFill>
              <a:latin typeface="Calibri"/>
            </a:endParaRPr>
          </a:p>
        </p:txBody>
      </p:sp>
      <p:sp>
        <p:nvSpPr>
          <p:cNvPr id="2450" name="TextBox 29"/>
          <p:cNvSpPr/>
          <p:nvPr/>
        </p:nvSpPr>
        <p:spPr>
          <a:xfrm>
            <a:off x="5672160" y="2682720"/>
            <a:ext cx="2311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Montserrat"/>
                <a:ea typeface="Roboto"/>
              </a:rPr>
              <a:t>PREMIUM</a:t>
            </a:r>
            <a:endParaRPr b="0" lang="en-US" sz="2400" spc="-1" strike="noStrike">
              <a:solidFill>
                <a:srgbClr val="000000"/>
              </a:solidFill>
              <a:latin typeface="Calibri"/>
            </a:endParaRPr>
          </a:p>
        </p:txBody>
      </p:sp>
      <p:grpSp>
        <p:nvGrpSpPr>
          <p:cNvPr id="2451" name="Group 30"/>
          <p:cNvGrpSpPr/>
          <p:nvPr/>
        </p:nvGrpSpPr>
        <p:grpSpPr>
          <a:xfrm>
            <a:off x="6534000" y="3421080"/>
            <a:ext cx="587520" cy="76320"/>
            <a:chOff x="6534000" y="3421080"/>
            <a:chExt cx="587520" cy="76320"/>
          </a:xfrm>
        </p:grpSpPr>
        <p:sp>
          <p:nvSpPr>
            <p:cNvPr id="2452" name="Oval 31"/>
            <p:cNvSpPr/>
            <p:nvPr/>
          </p:nvSpPr>
          <p:spPr>
            <a:xfrm>
              <a:off x="6534000" y="34210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3" name="Oval 32"/>
            <p:cNvSpPr/>
            <p:nvPr/>
          </p:nvSpPr>
          <p:spPr>
            <a:xfrm>
              <a:off x="6789600" y="34210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4" name="Oval 33"/>
            <p:cNvSpPr/>
            <p:nvPr/>
          </p:nvSpPr>
          <p:spPr>
            <a:xfrm>
              <a:off x="7045560" y="34210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55" name="Rectangle 34"/>
          <p:cNvSpPr/>
          <p:nvPr/>
        </p:nvSpPr>
        <p:spPr>
          <a:xfrm>
            <a:off x="8488440" y="2254320"/>
            <a:ext cx="2816280" cy="414504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6" name="Rectangle: Rounded Corners 35"/>
          <p:cNvSpPr/>
          <p:nvPr/>
        </p:nvSpPr>
        <p:spPr>
          <a:xfrm>
            <a:off x="9252000" y="5440320"/>
            <a:ext cx="1289160" cy="496800"/>
          </a:xfrm>
          <a:prstGeom prst="roundRect">
            <a:avLst>
              <a:gd name="adj" fmla="val 28667"/>
            </a:avLst>
          </a:prstGeom>
          <a:gradFill rotWithShape="0">
            <a:gsLst>
              <a:gs pos="0">
                <a:srgbClr val="15b2d3"/>
              </a:gs>
              <a:gs pos="100000">
                <a:srgbClr val="236e96"/>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7" name="TextBox 36"/>
          <p:cNvSpPr/>
          <p:nvPr/>
        </p:nvSpPr>
        <p:spPr>
          <a:xfrm>
            <a:off x="9339120" y="5487840"/>
            <a:ext cx="111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Roboto"/>
                <a:ea typeface="Roboto"/>
              </a:rPr>
              <a:t>$</a:t>
            </a:r>
            <a:r>
              <a:rPr b="1" lang="en-GB" sz="2000" spc="-1" strike="noStrike">
                <a:solidFill>
                  <a:srgbClr val="ffffff"/>
                </a:solidFill>
                <a:latin typeface="Roboto"/>
                <a:ea typeface="Roboto"/>
              </a:rPr>
              <a:t>799</a:t>
            </a:r>
            <a:r>
              <a:rPr b="1" lang="en-GB" sz="1200" spc="-1" strike="noStrike">
                <a:solidFill>
                  <a:srgbClr val="ffffff"/>
                </a:solidFill>
                <a:latin typeface="Roboto"/>
                <a:ea typeface="Roboto"/>
              </a:rPr>
              <a:t>,00</a:t>
            </a:r>
            <a:endParaRPr b="0" lang="en-US" sz="1200" spc="-1" strike="noStrike">
              <a:solidFill>
                <a:srgbClr val="000000"/>
              </a:solidFill>
              <a:latin typeface="Calibri"/>
            </a:endParaRPr>
          </a:p>
        </p:txBody>
      </p:sp>
      <p:sp>
        <p:nvSpPr>
          <p:cNvPr id="2458" name="TextBox 37"/>
          <p:cNvSpPr/>
          <p:nvPr/>
        </p:nvSpPr>
        <p:spPr>
          <a:xfrm>
            <a:off x="9096480" y="3730680"/>
            <a:ext cx="16002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f7f7f"/>
                </a:solidFill>
                <a:latin typeface="Lato"/>
                <a:ea typeface="Poppins"/>
              </a:rPr>
              <a:t>There Are Many Variations Of Passages Of Lorem Ipsum</a:t>
            </a:r>
            <a:endParaRPr b="0" lang="en-US" sz="1400" spc="-1" strike="noStrike">
              <a:solidFill>
                <a:srgbClr val="000000"/>
              </a:solidFill>
              <a:latin typeface="Calibri"/>
            </a:endParaRPr>
          </a:p>
        </p:txBody>
      </p:sp>
      <p:sp>
        <p:nvSpPr>
          <p:cNvPr id="2459" name="TextBox 38"/>
          <p:cNvSpPr/>
          <p:nvPr/>
        </p:nvSpPr>
        <p:spPr>
          <a:xfrm>
            <a:off x="8740800" y="2682720"/>
            <a:ext cx="2311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Montserrat"/>
                <a:ea typeface="Roboto"/>
              </a:rPr>
              <a:t>GOLD</a:t>
            </a:r>
            <a:endParaRPr b="0" lang="en-US" sz="2400" spc="-1" strike="noStrike">
              <a:solidFill>
                <a:srgbClr val="000000"/>
              </a:solidFill>
              <a:latin typeface="Calibri"/>
            </a:endParaRPr>
          </a:p>
        </p:txBody>
      </p:sp>
      <p:grpSp>
        <p:nvGrpSpPr>
          <p:cNvPr id="2460" name="Group 39"/>
          <p:cNvGrpSpPr/>
          <p:nvPr/>
        </p:nvGrpSpPr>
        <p:grpSpPr>
          <a:xfrm>
            <a:off x="9604440" y="3421080"/>
            <a:ext cx="585720" cy="76320"/>
            <a:chOff x="9604440" y="3421080"/>
            <a:chExt cx="585720" cy="76320"/>
          </a:xfrm>
        </p:grpSpPr>
        <p:sp>
          <p:nvSpPr>
            <p:cNvPr id="2461" name="Oval 40"/>
            <p:cNvSpPr/>
            <p:nvPr/>
          </p:nvSpPr>
          <p:spPr>
            <a:xfrm>
              <a:off x="9604440" y="34210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2" name="Oval 41"/>
            <p:cNvSpPr/>
            <p:nvPr/>
          </p:nvSpPr>
          <p:spPr>
            <a:xfrm>
              <a:off x="9859320" y="34210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3" name="Oval 42"/>
            <p:cNvSpPr/>
            <p:nvPr/>
          </p:nvSpPr>
          <p:spPr>
            <a:xfrm>
              <a:off x="10114200" y="3421080"/>
              <a:ext cx="75960" cy="76320"/>
            </a:xfrm>
            <a:prstGeom prst="ellipse">
              <a:avLst/>
            </a:prstGeom>
            <a:solidFill>
              <a:srgbClr val="ffc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64" name="TextBox 44"/>
          <p:cNvSpPr/>
          <p:nvPr/>
        </p:nvSpPr>
        <p:spPr>
          <a:xfrm>
            <a:off x="4721400" y="517680"/>
            <a:ext cx="421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Roboto"/>
                <a:ea typeface="Roboto"/>
              </a:rPr>
              <a:t>Pricing Table</a:t>
            </a:r>
            <a:endParaRPr b="0" lang="en-US" sz="4000" spc="-1" strike="noStrike">
              <a:solidFill>
                <a:srgbClr val="000000"/>
              </a:solidFill>
              <a:latin typeface="Calibri"/>
            </a:endParaRPr>
          </a:p>
        </p:txBody>
      </p:sp>
      <p:grpSp>
        <p:nvGrpSpPr>
          <p:cNvPr id="2465" name="Group 45"/>
          <p:cNvGrpSpPr/>
          <p:nvPr/>
        </p:nvGrpSpPr>
        <p:grpSpPr>
          <a:xfrm>
            <a:off x="11664000" y="595440"/>
            <a:ext cx="261360" cy="4103280"/>
            <a:chOff x="11664000" y="595440"/>
            <a:chExt cx="261360" cy="4103280"/>
          </a:xfrm>
        </p:grpSpPr>
        <p:sp>
          <p:nvSpPr>
            <p:cNvPr id="2466" name="Straight Connector 46"/>
            <p:cNvSpPr/>
            <p:nvPr/>
          </p:nvSpPr>
          <p:spPr>
            <a:xfrm>
              <a:off x="11779920" y="2211120"/>
              <a:ext cx="0" cy="1711440"/>
            </a:xfrm>
            <a:prstGeom prst="line">
              <a:avLst/>
            </a:prstGeom>
            <a:ln w="1260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7" name="TextBox 47"/>
            <p:cNvSpPr/>
            <p:nvPr/>
          </p:nvSpPr>
          <p:spPr>
            <a:xfrm rot="5400000">
              <a:off x="11325600" y="933840"/>
              <a:ext cx="938160" cy="261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7f7f7f"/>
                  </a:solidFill>
                  <a:latin typeface="Montserrat"/>
                  <a:ea typeface="Roboto Black"/>
                </a:rPr>
                <a:t>TELE WORK</a:t>
              </a:r>
              <a:endParaRPr b="0" lang="en-US" sz="1100" spc="-1" strike="noStrike">
                <a:solidFill>
                  <a:srgbClr val="000000"/>
                </a:solidFill>
                <a:latin typeface="Calibri"/>
              </a:endParaRPr>
            </a:p>
          </p:txBody>
        </p:sp>
        <p:sp>
          <p:nvSpPr>
            <p:cNvPr id="2468" name="TextBox 48"/>
            <p:cNvSpPr/>
            <p:nvPr/>
          </p:nvSpPr>
          <p:spPr>
            <a:xfrm rot="5400000">
              <a:off x="11542680" y="4316040"/>
              <a:ext cx="50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Montserrat"/>
                  <a:ea typeface="Roboto Black"/>
                </a:rPr>
                <a:t>2022</a:t>
              </a:r>
              <a:endParaRPr b="0" lang="en-US" sz="1100" spc="-1" strike="noStrike">
                <a:solidFill>
                  <a:srgbClr val="000000"/>
                </a:solidFill>
                <a:latin typeface="Calibri"/>
              </a:endParaRPr>
            </a:p>
          </p:txBody>
        </p:sp>
      </p:grpSp>
      <p:sp>
        <p:nvSpPr>
          <p:cNvPr id="2469" name="TextBox 52"/>
          <p:cNvSpPr/>
          <p:nvPr/>
        </p:nvSpPr>
        <p:spPr>
          <a:xfrm>
            <a:off x="4359240" y="1338120"/>
            <a:ext cx="4937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Lorem ipsum dolor sit amet, consectetur adipiscing elit, sed do eiusmod tempor incididunt ut labore e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TextBox 5"/>
          <p:cNvSpPr/>
          <p:nvPr/>
        </p:nvSpPr>
        <p:spPr>
          <a:xfrm>
            <a:off x="917640" y="1938240"/>
            <a:ext cx="5178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Roboto Black"/>
                <a:ea typeface="Roboto Black"/>
              </a:rPr>
              <a:t>Employees Will Be Able </a:t>
            </a:r>
            <a:r>
              <a:rPr b="0" i="1" lang="en-GB" sz="3600" spc="-1" strike="noStrike">
                <a:solidFill>
                  <a:srgbClr val="236e96"/>
                </a:solidFill>
                <a:latin typeface="Roboto Black"/>
                <a:ea typeface="Roboto Black"/>
              </a:rPr>
              <a:t>To Work Everywhere, </a:t>
            </a:r>
            <a:r>
              <a:rPr b="0" lang="en-GB" sz="3600" spc="-1" strike="noStrike">
                <a:solidFill>
                  <a:srgbClr val="000000"/>
                </a:solidFill>
                <a:latin typeface="Roboto Black"/>
                <a:ea typeface="Roboto Black"/>
              </a:rPr>
              <a:t>Not Only At </a:t>
            </a:r>
            <a:r>
              <a:rPr b="0" i="1" lang="en-GB" sz="3600" spc="-1" strike="noStrike">
                <a:solidFill>
                  <a:srgbClr val="236e96"/>
                </a:solidFill>
                <a:latin typeface="Roboto Black"/>
                <a:ea typeface="Roboto Black"/>
              </a:rPr>
              <a:t>Office.</a:t>
            </a:r>
            <a:endParaRPr b="0" lang="en-US" sz="3600" spc="-1" strike="noStrike">
              <a:solidFill>
                <a:srgbClr val="000000"/>
              </a:solidFill>
              <a:latin typeface="Calibri"/>
            </a:endParaRPr>
          </a:p>
        </p:txBody>
      </p:sp>
      <p:sp>
        <p:nvSpPr>
          <p:cNvPr id="1756" name="TextBox 8"/>
          <p:cNvSpPr/>
          <p:nvPr/>
        </p:nvSpPr>
        <p:spPr>
          <a:xfrm>
            <a:off x="917640" y="4375080"/>
            <a:ext cx="50259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 quae ab illo inventore veritatis et quasi architecto beatae vitaecal dicta sunt</a:t>
            </a:r>
            <a:r>
              <a:rPr b="0" lang="en-GB" sz="1100" spc="-1" strike="noStrike">
                <a:solidFill>
                  <a:srgbClr val="7f7f7f"/>
                </a:solidFill>
                <a:latin typeface="Lato"/>
              </a:rPr>
              <a:t>. D</a:t>
            </a:r>
            <a:r>
              <a:rPr b="0" lang="id-ID" sz="1100" spc="-1" strike="noStrike">
                <a:solidFill>
                  <a:srgbClr val="7f7f7f"/>
                </a:solidFill>
                <a:latin typeface="Lato"/>
              </a:rPr>
              <a:t>eritatis et quasi architecto beatae vitaecal dicta sunt</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757" name="TextBox 10"/>
          <p:cNvSpPr/>
          <p:nvPr/>
        </p:nvSpPr>
        <p:spPr>
          <a:xfrm>
            <a:off x="1058760" y="42876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1758" name="Rectangle 20"/>
          <p:cNvSpPr/>
          <p:nvPr/>
        </p:nvSpPr>
        <p:spPr>
          <a:xfrm>
            <a:off x="0" y="6157800"/>
            <a:ext cx="2135160" cy="7002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59" name="Group 21"/>
          <p:cNvGrpSpPr/>
          <p:nvPr/>
        </p:nvGrpSpPr>
        <p:grpSpPr>
          <a:xfrm>
            <a:off x="457200" y="6399360"/>
            <a:ext cx="1220760" cy="217440"/>
            <a:chOff x="457200" y="6399360"/>
            <a:chExt cx="1220760" cy="217440"/>
          </a:xfrm>
        </p:grpSpPr>
        <p:sp>
          <p:nvSpPr>
            <p:cNvPr id="1760" name="Freeform: Shape 22"/>
            <p:cNvSpPr/>
            <p:nvPr/>
          </p:nvSpPr>
          <p:spPr>
            <a:xfrm>
              <a:off x="457200" y="6424200"/>
              <a:ext cx="209520" cy="167760"/>
            </a:xfrm>
            <a:custGeom>
              <a:avLst/>
              <a:gdLst/>
              <a:ahLst/>
              <a:rect l="l" t="t" r="r" b="b"/>
              <a:pathLst>
                <a:path w="284872" h="228985">
                  <a:moveTo>
                    <a:pt x="238095" y="19069"/>
                  </a:moveTo>
                  <a:cubicBezTo>
                    <a:pt x="207125" y="-16883"/>
                    <a:pt x="130957" y="-3330"/>
                    <a:pt x="136129" y="71103"/>
                  </a:cubicBezTo>
                  <a:cubicBezTo>
                    <a:pt x="136129" y="71103"/>
                    <a:pt x="93556" y="81090"/>
                    <a:pt x="20498" y="16967"/>
                  </a:cubicBezTo>
                  <a:cubicBezTo>
                    <a:pt x="20498" y="16967"/>
                    <a:pt x="8819" y="55654"/>
                    <a:pt x="33522" y="87716"/>
                  </a:cubicBezTo>
                  <a:cubicBezTo>
                    <a:pt x="33522" y="87716"/>
                    <a:pt x="21921" y="89843"/>
                    <a:pt x="9461" y="84243"/>
                  </a:cubicBezTo>
                  <a:cubicBezTo>
                    <a:pt x="9461" y="84243"/>
                    <a:pt x="11037" y="124188"/>
                    <a:pt x="53085" y="137854"/>
                  </a:cubicBezTo>
                  <a:cubicBezTo>
                    <a:pt x="53085" y="137854"/>
                    <a:pt x="41522" y="143109"/>
                    <a:pt x="33113" y="142584"/>
                  </a:cubicBezTo>
                  <a:cubicBezTo>
                    <a:pt x="33113" y="142584"/>
                    <a:pt x="42048" y="173068"/>
                    <a:pt x="79890" y="176222"/>
                  </a:cubicBezTo>
                  <a:cubicBezTo>
                    <a:pt x="79890" y="176222"/>
                    <a:pt x="61495" y="210385"/>
                    <a:pt x="0" y="206706"/>
                  </a:cubicBezTo>
                  <a:cubicBezTo>
                    <a:pt x="77218" y="253969"/>
                    <a:pt x="259204" y="235498"/>
                    <a:pt x="249995" y="58261"/>
                  </a:cubicBezTo>
                  <a:lnTo>
                    <a:pt x="284873" y="29056"/>
                  </a:lnTo>
                  <a:lnTo>
                    <a:pt x="254388" y="35363"/>
                  </a:lnTo>
                  <a:lnTo>
                    <a:pt x="279091" y="6980"/>
                  </a:lnTo>
                  <a:lnTo>
                    <a:pt x="238095" y="190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1" name="Freeform: Shape 23"/>
            <p:cNvSpPr/>
            <p:nvPr/>
          </p:nvSpPr>
          <p:spPr>
            <a:xfrm>
              <a:off x="1023480" y="6399360"/>
              <a:ext cx="103680" cy="217440"/>
            </a:xfrm>
            <a:custGeom>
              <a:avLst/>
              <a:gdLst/>
              <a:ahLst/>
              <a:rect l="l" t="t" r="r" b="b"/>
              <a:pathLst>
                <a:path w="141378" h="296691">
                  <a:moveTo>
                    <a:pt x="84616" y="0"/>
                  </a:moveTo>
                  <a:cubicBezTo>
                    <a:pt x="62843" y="0"/>
                    <a:pt x="33105" y="21479"/>
                    <a:pt x="33105" y="52031"/>
                  </a:cubicBezTo>
                  <a:lnTo>
                    <a:pt x="33105" y="78567"/>
                  </a:lnTo>
                  <a:lnTo>
                    <a:pt x="33105" y="91705"/>
                  </a:lnTo>
                  <a:lnTo>
                    <a:pt x="0" y="91705"/>
                  </a:lnTo>
                  <a:lnTo>
                    <a:pt x="0" y="150061"/>
                  </a:lnTo>
                  <a:lnTo>
                    <a:pt x="33105" y="150061"/>
                  </a:lnTo>
                  <a:lnTo>
                    <a:pt x="33105" y="296692"/>
                  </a:lnTo>
                  <a:lnTo>
                    <a:pt x="88827" y="296692"/>
                  </a:lnTo>
                  <a:lnTo>
                    <a:pt x="88827" y="150061"/>
                  </a:lnTo>
                  <a:lnTo>
                    <a:pt x="139281" y="150061"/>
                  </a:lnTo>
                  <a:lnTo>
                    <a:pt x="139281" y="91705"/>
                  </a:lnTo>
                  <a:lnTo>
                    <a:pt x="88827" y="91705"/>
                  </a:lnTo>
                  <a:lnTo>
                    <a:pt x="88827" y="78567"/>
                  </a:lnTo>
                  <a:lnTo>
                    <a:pt x="88827" y="61495"/>
                  </a:lnTo>
                  <a:cubicBezTo>
                    <a:pt x="88827" y="56187"/>
                    <a:pt x="90423" y="48877"/>
                    <a:pt x="101445" y="48877"/>
                  </a:cubicBezTo>
                  <a:lnTo>
                    <a:pt x="141379" y="48877"/>
                  </a:lnTo>
                  <a:lnTo>
                    <a:pt x="141379" y="0"/>
                  </a:lnTo>
                  <a:lnTo>
                    <a:pt x="8461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2" name="Freeform: Shape 24"/>
            <p:cNvSpPr/>
            <p:nvPr/>
          </p:nvSpPr>
          <p:spPr>
            <a:xfrm>
              <a:off x="1504800" y="6422760"/>
              <a:ext cx="173160" cy="170640"/>
            </a:xfrm>
            <a:custGeom>
              <a:avLst/>
              <a:gdLst/>
              <a:ahLst/>
              <a:rect l="l" t="t" r="r" b="b"/>
              <a:pathLst>
                <a:path w="235575" h="232738">
                  <a:moveTo>
                    <a:pt x="56039" y="0"/>
                  </a:moveTo>
                  <a:cubicBezTo>
                    <a:pt x="25194" y="0"/>
                    <a:pt x="0" y="25193"/>
                    <a:pt x="0" y="56039"/>
                  </a:cubicBezTo>
                  <a:lnTo>
                    <a:pt x="0" y="176685"/>
                  </a:lnTo>
                  <a:cubicBezTo>
                    <a:pt x="0" y="207530"/>
                    <a:pt x="25194" y="232738"/>
                    <a:pt x="56039" y="232738"/>
                  </a:cubicBezTo>
                  <a:lnTo>
                    <a:pt x="179522" y="232738"/>
                  </a:lnTo>
                  <a:cubicBezTo>
                    <a:pt x="210367" y="232738"/>
                    <a:pt x="235575" y="207530"/>
                    <a:pt x="235575" y="176685"/>
                  </a:cubicBezTo>
                  <a:lnTo>
                    <a:pt x="235575" y="56039"/>
                  </a:lnTo>
                  <a:cubicBezTo>
                    <a:pt x="235575" y="25193"/>
                    <a:pt x="210367" y="0"/>
                    <a:pt x="179522" y="0"/>
                  </a:cubicBezTo>
                  <a:lnTo>
                    <a:pt x="56039" y="0"/>
                  </a:lnTo>
                  <a:close/>
                  <a:moveTo>
                    <a:pt x="56039" y="22706"/>
                  </a:moveTo>
                  <a:lnTo>
                    <a:pt x="179522" y="22706"/>
                  </a:lnTo>
                  <a:cubicBezTo>
                    <a:pt x="198156" y="22706"/>
                    <a:pt x="212854" y="37404"/>
                    <a:pt x="212854" y="56039"/>
                  </a:cubicBezTo>
                  <a:lnTo>
                    <a:pt x="212854" y="176685"/>
                  </a:lnTo>
                  <a:cubicBezTo>
                    <a:pt x="212854" y="195319"/>
                    <a:pt x="198156" y="209958"/>
                    <a:pt x="179522" y="209958"/>
                  </a:cubicBezTo>
                  <a:lnTo>
                    <a:pt x="56039" y="209958"/>
                  </a:lnTo>
                  <a:cubicBezTo>
                    <a:pt x="37405" y="209958"/>
                    <a:pt x="22765" y="195319"/>
                    <a:pt x="22765" y="176685"/>
                  </a:cubicBezTo>
                  <a:lnTo>
                    <a:pt x="22765" y="56039"/>
                  </a:lnTo>
                  <a:cubicBezTo>
                    <a:pt x="22765" y="37404"/>
                    <a:pt x="37405" y="22706"/>
                    <a:pt x="56039" y="22706"/>
                  </a:cubicBezTo>
                  <a:close/>
                  <a:moveTo>
                    <a:pt x="180271" y="39902"/>
                  </a:moveTo>
                  <a:cubicBezTo>
                    <a:pt x="171501" y="39898"/>
                    <a:pt x="164388" y="47004"/>
                    <a:pt x="164384" y="55774"/>
                  </a:cubicBezTo>
                  <a:cubicBezTo>
                    <a:pt x="164380" y="64544"/>
                    <a:pt x="171486" y="71657"/>
                    <a:pt x="180257" y="71661"/>
                  </a:cubicBezTo>
                  <a:cubicBezTo>
                    <a:pt x="180262" y="71661"/>
                    <a:pt x="180266" y="71661"/>
                    <a:pt x="180271" y="71661"/>
                  </a:cubicBezTo>
                  <a:cubicBezTo>
                    <a:pt x="189041" y="71657"/>
                    <a:pt x="196147" y="64544"/>
                    <a:pt x="196144" y="55774"/>
                  </a:cubicBezTo>
                  <a:cubicBezTo>
                    <a:pt x="196139" y="47010"/>
                    <a:pt x="189035" y="39906"/>
                    <a:pt x="180271" y="39902"/>
                  </a:cubicBezTo>
                  <a:close/>
                  <a:moveTo>
                    <a:pt x="117810" y="56260"/>
                  </a:moveTo>
                  <a:cubicBezTo>
                    <a:pt x="84731" y="56260"/>
                    <a:pt x="57714" y="83290"/>
                    <a:pt x="57714" y="116369"/>
                  </a:cubicBezTo>
                  <a:cubicBezTo>
                    <a:pt x="57714" y="149448"/>
                    <a:pt x="84731" y="176406"/>
                    <a:pt x="117810" y="176406"/>
                  </a:cubicBezTo>
                  <a:cubicBezTo>
                    <a:pt x="150888" y="176406"/>
                    <a:pt x="177861" y="149448"/>
                    <a:pt x="177861" y="116369"/>
                  </a:cubicBezTo>
                  <a:cubicBezTo>
                    <a:pt x="177861" y="83290"/>
                    <a:pt x="150888" y="56260"/>
                    <a:pt x="117810" y="56260"/>
                  </a:cubicBezTo>
                  <a:close/>
                  <a:moveTo>
                    <a:pt x="117810" y="73322"/>
                  </a:moveTo>
                  <a:cubicBezTo>
                    <a:pt x="141666" y="73322"/>
                    <a:pt x="160812" y="92512"/>
                    <a:pt x="160812" y="116369"/>
                  </a:cubicBezTo>
                  <a:cubicBezTo>
                    <a:pt x="160812" y="140226"/>
                    <a:pt x="141666" y="159358"/>
                    <a:pt x="117810" y="159358"/>
                  </a:cubicBezTo>
                  <a:cubicBezTo>
                    <a:pt x="93953" y="159358"/>
                    <a:pt x="74763" y="140226"/>
                    <a:pt x="74763" y="116369"/>
                  </a:cubicBezTo>
                  <a:cubicBezTo>
                    <a:pt x="74763" y="92512"/>
                    <a:pt x="93953" y="73322"/>
                    <a:pt x="117810" y="733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763" name="Rectangle: Rounded Corners 26"/>
          <p:cNvSpPr/>
          <p:nvPr/>
        </p:nvSpPr>
        <p:spPr>
          <a:xfrm>
            <a:off x="1096344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4" name="Rectangle: Rounded Corners 27"/>
          <p:cNvSpPr/>
          <p:nvPr/>
        </p:nvSpPr>
        <p:spPr>
          <a:xfrm>
            <a:off x="11396520" y="420840"/>
            <a:ext cx="320760" cy="320400"/>
          </a:xfrm>
          <a:prstGeom prst="roundRect">
            <a:avLst>
              <a:gd name="adj" fmla="val 16667"/>
            </a:avLst>
          </a:pr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5" name="Rectangle: Rounded Corners 29"/>
          <p:cNvSpPr/>
          <p:nvPr/>
        </p:nvSpPr>
        <p:spPr>
          <a:xfrm>
            <a:off x="10530000" y="420840"/>
            <a:ext cx="320400" cy="32040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66" name="Graphic 14" descr=""/>
          <p:cNvPicPr/>
          <p:nvPr/>
        </p:nvPicPr>
        <p:blipFill>
          <a:blip r:embed="rId1"/>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Slide Number Placeholder 1"/>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28B04-41C6-4EDC-B800-8D43CDC45C64}" type="slidenum">
              <a:rPr b="0" lang="en-ID" sz="1600" spc="-1" strike="noStrike">
                <a:solidFill>
                  <a:srgbClr val="ffffff"/>
                </a:solidFill>
                <a:latin typeface="Lato"/>
                <a:ea typeface="Arial"/>
              </a:rPr>
              <a:t>&lt;number&gt;</a:t>
            </a:fld>
            <a:endParaRPr b="0" lang="en-US" sz="1600" spc="-1" strike="noStrike">
              <a:solidFill>
                <a:srgbClr val="000000"/>
              </a:solidFill>
              <a:latin typeface="Calibri"/>
            </a:endParaRPr>
          </a:p>
        </p:txBody>
      </p:sp>
      <p:sp>
        <p:nvSpPr>
          <p:cNvPr id="2471" name="TextBox 7"/>
          <p:cNvSpPr/>
          <p:nvPr/>
        </p:nvSpPr>
        <p:spPr>
          <a:xfrm>
            <a:off x="7772400" y="120636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Montserrat"/>
                <a:ea typeface="Noto Serif"/>
              </a:rPr>
              <a:t>Get In Touch</a:t>
            </a:r>
            <a:endParaRPr b="0" lang="en-US" sz="2800" spc="-1" strike="noStrike">
              <a:solidFill>
                <a:srgbClr val="000000"/>
              </a:solidFill>
              <a:latin typeface="Calibri"/>
            </a:endParaRPr>
          </a:p>
        </p:txBody>
      </p:sp>
      <p:sp>
        <p:nvSpPr>
          <p:cNvPr id="2472" name="TextBox 27"/>
          <p:cNvSpPr/>
          <p:nvPr/>
        </p:nvSpPr>
        <p:spPr>
          <a:xfrm>
            <a:off x="6806880" y="295416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ato Black"/>
              </a:rPr>
              <a:t>ADDRESS</a:t>
            </a:r>
            <a:endParaRPr b="0" lang="en-US" sz="1400" spc="-1" strike="noStrike">
              <a:solidFill>
                <a:srgbClr val="000000"/>
              </a:solidFill>
              <a:latin typeface="Calibri"/>
            </a:endParaRPr>
          </a:p>
        </p:txBody>
      </p:sp>
      <p:sp>
        <p:nvSpPr>
          <p:cNvPr id="2473" name="TextBox 28"/>
          <p:cNvSpPr/>
          <p:nvPr/>
        </p:nvSpPr>
        <p:spPr>
          <a:xfrm>
            <a:off x="9029520" y="3324240"/>
            <a:ext cx="1637640" cy="88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15b2d3"/>
                </a:solidFill>
                <a:latin typeface="Lato"/>
              </a:rPr>
              <a:t>OFFICE 2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8087 Ben Stree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Dade City FL, Florid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33526</a:t>
            </a:r>
            <a:endParaRPr b="0" lang="en-US" sz="1200" spc="-1" strike="noStrike">
              <a:solidFill>
                <a:srgbClr val="000000"/>
              </a:solidFill>
              <a:latin typeface="Calibri"/>
            </a:endParaRPr>
          </a:p>
        </p:txBody>
      </p:sp>
      <p:sp>
        <p:nvSpPr>
          <p:cNvPr id="2474" name="TextBox 29"/>
          <p:cNvSpPr/>
          <p:nvPr/>
        </p:nvSpPr>
        <p:spPr>
          <a:xfrm>
            <a:off x="6816240" y="4519440"/>
            <a:ext cx="99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ato Black"/>
              </a:rPr>
              <a:t>CONTACT</a:t>
            </a:r>
            <a:endParaRPr b="0" lang="en-US" sz="1400" spc="-1" strike="noStrike">
              <a:solidFill>
                <a:srgbClr val="000000"/>
              </a:solidFill>
              <a:latin typeface="Calibri"/>
            </a:endParaRPr>
          </a:p>
        </p:txBody>
      </p:sp>
      <p:sp>
        <p:nvSpPr>
          <p:cNvPr id="2475" name="TextBox 30"/>
          <p:cNvSpPr/>
          <p:nvPr/>
        </p:nvSpPr>
        <p:spPr>
          <a:xfrm>
            <a:off x="9070560" y="4836960"/>
            <a:ext cx="1146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352-999-5235</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648-767-8362</a:t>
            </a:r>
            <a:endParaRPr b="0" lang="en-US" sz="1200" spc="-1" strike="noStrike">
              <a:solidFill>
                <a:srgbClr val="000000"/>
              </a:solidFill>
              <a:latin typeface="Calibri"/>
            </a:endParaRPr>
          </a:p>
        </p:txBody>
      </p:sp>
      <p:sp>
        <p:nvSpPr>
          <p:cNvPr id="2476" name="TextBox 31"/>
          <p:cNvSpPr/>
          <p:nvPr/>
        </p:nvSpPr>
        <p:spPr>
          <a:xfrm>
            <a:off x="6587280" y="4836960"/>
            <a:ext cx="1965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www.</a:t>
            </a:r>
            <a:r>
              <a:rPr b="0" lang="en-GB" sz="1200" spc="-1" strike="noStrike">
                <a:solidFill>
                  <a:srgbClr val="7f7f7f"/>
                </a:solidFill>
                <a:latin typeface="Lato"/>
              </a:rPr>
              <a:t>yourcompany</a:t>
            </a:r>
            <a:r>
              <a:rPr b="0" lang="id-ID" sz="1200" spc="-1" strike="noStrike">
                <a:solidFill>
                  <a:srgbClr val="7f7f7f"/>
                </a:solidFill>
                <a:latin typeface="Lato"/>
              </a:rPr>
              <a:t>.co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f7f7f"/>
                </a:solidFill>
                <a:latin typeface="Lato"/>
              </a:rPr>
              <a:t>yourcompany</a:t>
            </a:r>
            <a:r>
              <a:rPr b="0" lang="id-ID" sz="1200" spc="-1" strike="noStrike">
                <a:solidFill>
                  <a:srgbClr val="7f7f7f"/>
                </a:solidFill>
                <a:latin typeface="Lato"/>
              </a:rPr>
              <a:t>@mail.co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a:t>
            </a:r>
            <a:r>
              <a:rPr b="0" lang="en-GB" sz="1200" spc="-1" strike="noStrike">
                <a:solidFill>
                  <a:srgbClr val="7f7f7f"/>
                </a:solidFill>
                <a:latin typeface="Lato"/>
              </a:rPr>
              <a:t>yourcompany</a:t>
            </a:r>
            <a:endParaRPr b="0" lang="en-US" sz="1200" spc="-1" strike="noStrike">
              <a:solidFill>
                <a:srgbClr val="000000"/>
              </a:solidFill>
              <a:latin typeface="Calibri"/>
            </a:endParaRPr>
          </a:p>
        </p:txBody>
      </p:sp>
      <p:sp>
        <p:nvSpPr>
          <p:cNvPr id="2477" name="TextBox 32"/>
          <p:cNvSpPr/>
          <p:nvPr/>
        </p:nvSpPr>
        <p:spPr>
          <a:xfrm>
            <a:off x="6633720" y="3324240"/>
            <a:ext cx="1826640" cy="884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15b2d3"/>
                </a:solidFill>
                <a:latin typeface="Lato"/>
              </a:rPr>
              <a:t>OFFICE </a:t>
            </a:r>
            <a:r>
              <a:rPr b="1" lang="en-GB" sz="1600" spc="-1" strike="noStrike">
                <a:solidFill>
                  <a:srgbClr val="15b2d3"/>
                </a:solidFill>
                <a:latin typeface="Lato"/>
              </a:rPr>
              <a:t>1</a:t>
            </a:r>
            <a:r>
              <a:rPr b="1" lang="id-ID" sz="1600" spc="-1" strike="noStrike">
                <a:solidFill>
                  <a:srgbClr val="15b2d3"/>
                </a:solidFill>
                <a:latin typeface="Lato"/>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80</a:t>
            </a:r>
            <a:r>
              <a:rPr b="0" lang="en-GB" sz="1200" spc="-1" strike="noStrike">
                <a:solidFill>
                  <a:srgbClr val="7f7f7f"/>
                </a:solidFill>
                <a:latin typeface="Lato"/>
              </a:rPr>
              <a:t>83</a:t>
            </a:r>
            <a:r>
              <a:rPr b="0" lang="id-ID" sz="1200" spc="-1" strike="noStrike">
                <a:solidFill>
                  <a:srgbClr val="7f7f7f"/>
                </a:solidFill>
                <a:latin typeface="Lato"/>
              </a:rPr>
              <a:t> </a:t>
            </a:r>
            <a:r>
              <a:rPr b="0" lang="en-GB" sz="1200" spc="-1" strike="noStrike">
                <a:solidFill>
                  <a:srgbClr val="7f7f7f"/>
                </a:solidFill>
                <a:latin typeface="Lato"/>
              </a:rPr>
              <a:t>Long</a:t>
            </a:r>
            <a:r>
              <a:rPr b="0" lang="id-ID" sz="1200" spc="-1" strike="noStrike">
                <a:solidFill>
                  <a:srgbClr val="7f7f7f"/>
                </a:solidFill>
                <a:latin typeface="Lato"/>
              </a:rPr>
              <a:t> Stree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f7f7f"/>
                </a:solidFill>
                <a:latin typeface="Lato"/>
              </a:rPr>
              <a:t>Zuko</a:t>
            </a:r>
            <a:r>
              <a:rPr b="0" lang="id-ID" sz="1200" spc="-1" strike="noStrike">
                <a:solidFill>
                  <a:srgbClr val="7f7f7f"/>
                </a:solidFill>
                <a:latin typeface="Lato"/>
              </a:rPr>
              <a:t> City </a:t>
            </a:r>
            <a:r>
              <a:rPr b="0" lang="en-GB" sz="1200" spc="-1" strike="noStrike">
                <a:solidFill>
                  <a:srgbClr val="7f7f7f"/>
                </a:solidFill>
                <a:latin typeface="Lato"/>
              </a:rPr>
              <a:t>C</a:t>
            </a:r>
            <a:r>
              <a:rPr b="0" lang="id-ID" sz="1200" spc="-1" strike="noStrike">
                <a:solidFill>
                  <a:srgbClr val="7f7f7f"/>
                </a:solidFill>
                <a:latin typeface="Lato"/>
              </a:rPr>
              <a:t>L, </a:t>
            </a:r>
            <a:r>
              <a:rPr b="0" lang="en-GB" sz="1200" spc="-1" strike="noStrike">
                <a:solidFill>
                  <a:srgbClr val="7f7f7f"/>
                </a:solidFill>
                <a:latin typeface="Lato"/>
              </a:rPr>
              <a:t>Californi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7f7f7f"/>
                </a:solidFill>
                <a:latin typeface="Lato"/>
              </a:rPr>
              <a:t>33526</a:t>
            </a:r>
            <a:endParaRPr b="0" lang="en-US" sz="1200" spc="-1" strike="noStrike">
              <a:solidFill>
                <a:srgbClr val="000000"/>
              </a:solidFill>
              <a:latin typeface="Calibri"/>
            </a:endParaRPr>
          </a:p>
        </p:txBody>
      </p:sp>
      <p:sp>
        <p:nvSpPr>
          <p:cNvPr id="2478" name="Straight Connector 34"/>
          <p:cNvSpPr/>
          <p:nvPr/>
        </p:nvSpPr>
        <p:spPr>
          <a:xfrm>
            <a:off x="6784920" y="1467000"/>
            <a:ext cx="793800" cy="0"/>
          </a:xfrm>
          <a:prstGeom prst="line">
            <a:avLst/>
          </a:prstGeom>
          <a:ln w="3816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9" name="TextBox 35"/>
          <p:cNvSpPr/>
          <p:nvPr/>
        </p:nvSpPr>
        <p:spPr>
          <a:xfrm>
            <a:off x="6653160" y="1957320"/>
            <a:ext cx="3799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Lorem ipsum dolor sit amet, consectetur adipiscing elit, sed do eiusmod tempor incididunt ut labore et.</a:t>
            </a:r>
            <a:endParaRPr b="0" lang="en-US" sz="1100" spc="-1" strike="noStrike">
              <a:solidFill>
                <a:srgbClr val="000000"/>
              </a:solidFill>
              <a:latin typeface="Calibri"/>
            </a:endParaRPr>
          </a:p>
        </p:txBody>
      </p:sp>
      <p:sp>
        <p:nvSpPr>
          <p:cNvPr id="2480" name="TextBox 37"/>
          <p:cNvSpPr/>
          <p:nvPr/>
        </p:nvSpPr>
        <p:spPr>
          <a:xfrm rot="16200000">
            <a:off x="-868680" y="3275280"/>
            <a:ext cx="28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a:t>
            </a:r>
            <a:r>
              <a:rPr b="1" lang="en-GB" sz="1400" spc="-1" strike="noStrike">
                <a:solidFill>
                  <a:srgbClr val="000000"/>
                </a:solidFill>
                <a:latin typeface="Montserrat"/>
              </a:rPr>
              <a:t> </a:t>
            </a:r>
            <a:r>
              <a:rPr b="0" lang="en-GB" sz="1400" spc="-1" strike="noStrike">
                <a:solidFill>
                  <a:srgbClr val="000000"/>
                </a:solidFill>
                <a:latin typeface="Montserrat"/>
              </a:rPr>
              <a:t>NAME</a:t>
            </a:r>
            <a:endParaRPr b="0" lang="en-US" sz="1400" spc="-1" strike="noStrike">
              <a:solidFill>
                <a:srgbClr val="000000"/>
              </a:solidFill>
              <a:latin typeface="Calibri"/>
            </a:endParaRPr>
          </a:p>
        </p:txBody>
      </p:sp>
      <p:grpSp>
        <p:nvGrpSpPr>
          <p:cNvPr id="2481" name="Group 42"/>
          <p:cNvGrpSpPr/>
          <p:nvPr/>
        </p:nvGrpSpPr>
        <p:grpSpPr>
          <a:xfrm>
            <a:off x="11604600" y="2766960"/>
            <a:ext cx="209520" cy="1200240"/>
            <a:chOff x="11604600" y="2766960"/>
            <a:chExt cx="209520" cy="1200240"/>
          </a:xfrm>
        </p:grpSpPr>
        <p:sp>
          <p:nvSpPr>
            <p:cNvPr id="2482" name="Freeform: Shape 43"/>
            <p:cNvSpPr/>
            <p:nvPr/>
          </p:nvSpPr>
          <p:spPr>
            <a:xfrm>
              <a:off x="11604600" y="2766960"/>
              <a:ext cx="209520" cy="168480"/>
            </a:xfrm>
            <a:custGeom>
              <a:avLst/>
              <a:gdLst/>
              <a:ahLst/>
              <a:rect l="l" t="t" r="r" b="b"/>
              <a:pathLst>
                <a:path w="284872" h="228985">
                  <a:moveTo>
                    <a:pt x="238095" y="19069"/>
                  </a:moveTo>
                  <a:cubicBezTo>
                    <a:pt x="207125" y="-16883"/>
                    <a:pt x="130957" y="-3330"/>
                    <a:pt x="136129" y="71103"/>
                  </a:cubicBezTo>
                  <a:cubicBezTo>
                    <a:pt x="136129" y="71103"/>
                    <a:pt x="93556" y="81090"/>
                    <a:pt x="20498" y="16967"/>
                  </a:cubicBezTo>
                  <a:cubicBezTo>
                    <a:pt x="20498" y="16967"/>
                    <a:pt x="8819" y="55654"/>
                    <a:pt x="33522" y="87716"/>
                  </a:cubicBezTo>
                  <a:cubicBezTo>
                    <a:pt x="33522" y="87716"/>
                    <a:pt x="21921" y="89843"/>
                    <a:pt x="9461" y="84243"/>
                  </a:cubicBezTo>
                  <a:cubicBezTo>
                    <a:pt x="9461" y="84243"/>
                    <a:pt x="11037" y="124188"/>
                    <a:pt x="53085" y="137854"/>
                  </a:cubicBezTo>
                  <a:cubicBezTo>
                    <a:pt x="53085" y="137854"/>
                    <a:pt x="41522" y="143109"/>
                    <a:pt x="33113" y="142584"/>
                  </a:cubicBezTo>
                  <a:cubicBezTo>
                    <a:pt x="33113" y="142584"/>
                    <a:pt x="42048" y="173068"/>
                    <a:pt x="79890" y="176222"/>
                  </a:cubicBezTo>
                  <a:cubicBezTo>
                    <a:pt x="79890" y="176222"/>
                    <a:pt x="61495" y="210385"/>
                    <a:pt x="0" y="206706"/>
                  </a:cubicBezTo>
                  <a:cubicBezTo>
                    <a:pt x="77218" y="253969"/>
                    <a:pt x="259204" y="235498"/>
                    <a:pt x="249995" y="58261"/>
                  </a:cubicBezTo>
                  <a:lnTo>
                    <a:pt x="284873" y="29056"/>
                  </a:lnTo>
                  <a:lnTo>
                    <a:pt x="254388" y="35363"/>
                  </a:lnTo>
                  <a:lnTo>
                    <a:pt x="279091" y="6980"/>
                  </a:lnTo>
                  <a:lnTo>
                    <a:pt x="238095" y="190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83" name="Freeform: Shape 44"/>
            <p:cNvSpPr/>
            <p:nvPr/>
          </p:nvSpPr>
          <p:spPr>
            <a:xfrm>
              <a:off x="11657160" y="3256200"/>
              <a:ext cx="104040" cy="218160"/>
            </a:xfrm>
            <a:custGeom>
              <a:avLst/>
              <a:gdLst/>
              <a:ahLst/>
              <a:rect l="l" t="t" r="r" b="b"/>
              <a:pathLst>
                <a:path w="141378" h="296691">
                  <a:moveTo>
                    <a:pt x="84616" y="0"/>
                  </a:moveTo>
                  <a:cubicBezTo>
                    <a:pt x="62843" y="0"/>
                    <a:pt x="33105" y="21479"/>
                    <a:pt x="33105" y="52031"/>
                  </a:cubicBezTo>
                  <a:lnTo>
                    <a:pt x="33105" y="78567"/>
                  </a:lnTo>
                  <a:lnTo>
                    <a:pt x="33105" y="91705"/>
                  </a:lnTo>
                  <a:lnTo>
                    <a:pt x="0" y="91705"/>
                  </a:lnTo>
                  <a:lnTo>
                    <a:pt x="0" y="150061"/>
                  </a:lnTo>
                  <a:lnTo>
                    <a:pt x="33105" y="150061"/>
                  </a:lnTo>
                  <a:lnTo>
                    <a:pt x="33105" y="296692"/>
                  </a:lnTo>
                  <a:lnTo>
                    <a:pt x="88827" y="296692"/>
                  </a:lnTo>
                  <a:lnTo>
                    <a:pt x="88827" y="150061"/>
                  </a:lnTo>
                  <a:lnTo>
                    <a:pt x="139281" y="150061"/>
                  </a:lnTo>
                  <a:lnTo>
                    <a:pt x="139281" y="91705"/>
                  </a:lnTo>
                  <a:lnTo>
                    <a:pt x="88827" y="91705"/>
                  </a:lnTo>
                  <a:lnTo>
                    <a:pt x="88827" y="78567"/>
                  </a:lnTo>
                  <a:lnTo>
                    <a:pt x="88827" y="61495"/>
                  </a:lnTo>
                  <a:cubicBezTo>
                    <a:pt x="88827" y="56187"/>
                    <a:pt x="90423" y="48877"/>
                    <a:pt x="101445" y="48877"/>
                  </a:cubicBezTo>
                  <a:lnTo>
                    <a:pt x="141379" y="48877"/>
                  </a:lnTo>
                  <a:lnTo>
                    <a:pt x="141379" y="0"/>
                  </a:lnTo>
                  <a:lnTo>
                    <a:pt x="8461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84" name="Freeform: Shape 45"/>
            <p:cNvSpPr/>
            <p:nvPr/>
          </p:nvSpPr>
          <p:spPr>
            <a:xfrm>
              <a:off x="11622600" y="3795840"/>
              <a:ext cx="173520" cy="171360"/>
            </a:xfrm>
            <a:custGeom>
              <a:avLst/>
              <a:gdLst/>
              <a:ahLst/>
              <a:rect l="l" t="t" r="r" b="b"/>
              <a:pathLst>
                <a:path w="235575" h="232738">
                  <a:moveTo>
                    <a:pt x="56039" y="0"/>
                  </a:moveTo>
                  <a:cubicBezTo>
                    <a:pt x="25194" y="0"/>
                    <a:pt x="0" y="25193"/>
                    <a:pt x="0" y="56039"/>
                  </a:cubicBezTo>
                  <a:lnTo>
                    <a:pt x="0" y="176685"/>
                  </a:lnTo>
                  <a:cubicBezTo>
                    <a:pt x="0" y="207530"/>
                    <a:pt x="25194" y="232738"/>
                    <a:pt x="56039" y="232738"/>
                  </a:cubicBezTo>
                  <a:lnTo>
                    <a:pt x="179522" y="232738"/>
                  </a:lnTo>
                  <a:cubicBezTo>
                    <a:pt x="210367" y="232738"/>
                    <a:pt x="235575" y="207530"/>
                    <a:pt x="235575" y="176685"/>
                  </a:cubicBezTo>
                  <a:lnTo>
                    <a:pt x="235575" y="56039"/>
                  </a:lnTo>
                  <a:cubicBezTo>
                    <a:pt x="235575" y="25193"/>
                    <a:pt x="210367" y="0"/>
                    <a:pt x="179522" y="0"/>
                  </a:cubicBezTo>
                  <a:lnTo>
                    <a:pt x="56039" y="0"/>
                  </a:lnTo>
                  <a:close/>
                  <a:moveTo>
                    <a:pt x="56039" y="22706"/>
                  </a:moveTo>
                  <a:lnTo>
                    <a:pt x="179522" y="22706"/>
                  </a:lnTo>
                  <a:cubicBezTo>
                    <a:pt x="198156" y="22706"/>
                    <a:pt x="212854" y="37404"/>
                    <a:pt x="212854" y="56039"/>
                  </a:cubicBezTo>
                  <a:lnTo>
                    <a:pt x="212854" y="176685"/>
                  </a:lnTo>
                  <a:cubicBezTo>
                    <a:pt x="212854" y="195319"/>
                    <a:pt x="198156" y="209958"/>
                    <a:pt x="179522" y="209958"/>
                  </a:cubicBezTo>
                  <a:lnTo>
                    <a:pt x="56039" y="209958"/>
                  </a:lnTo>
                  <a:cubicBezTo>
                    <a:pt x="37405" y="209958"/>
                    <a:pt x="22765" y="195319"/>
                    <a:pt x="22765" y="176685"/>
                  </a:cubicBezTo>
                  <a:lnTo>
                    <a:pt x="22765" y="56039"/>
                  </a:lnTo>
                  <a:cubicBezTo>
                    <a:pt x="22765" y="37404"/>
                    <a:pt x="37405" y="22706"/>
                    <a:pt x="56039" y="22706"/>
                  </a:cubicBezTo>
                  <a:close/>
                  <a:moveTo>
                    <a:pt x="180271" y="39902"/>
                  </a:moveTo>
                  <a:cubicBezTo>
                    <a:pt x="171501" y="39898"/>
                    <a:pt x="164388" y="47004"/>
                    <a:pt x="164384" y="55774"/>
                  </a:cubicBezTo>
                  <a:cubicBezTo>
                    <a:pt x="164380" y="64544"/>
                    <a:pt x="171486" y="71657"/>
                    <a:pt x="180257" y="71661"/>
                  </a:cubicBezTo>
                  <a:cubicBezTo>
                    <a:pt x="180262" y="71661"/>
                    <a:pt x="180266" y="71661"/>
                    <a:pt x="180271" y="71661"/>
                  </a:cubicBezTo>
                  <a:cubicBezTo>
                    <a:pt x="189041" y="71657"/>
                    <a:pt x="196147" y="64544"/>
                    <a:pt x="196144" y="55774"/>
                  </a:cubicBezTo>
                  <a:cubicBezTo>
                    <a:pt x="196139" y="47010"/>
                    <a:pt x="189035" y="39906"/>
                    <a:pt x="180271" y="39902"/>
                  </a:cubicBezTo>
                  <a:close/>
                  <a:moveTo>
                    <a:pt x="117810" y="56260"/>
                  </a:moveTo>
                  <a:cubicBezTo>
                    <a:pt x="84731" y="56260"/>
                    <a:pt x="57714" y="83290"/>
                    <a:pt x="57714" y="116369"/>
                  </a:cubicBezTo>
                  <a:cubicBezTo>
                    <a:pt x="57714" y="149448"/>
                    <a:pt x="84731" y="176406"/>
                    <a:pt x="117810" y="176406"/>
                  </a:cubicBezTo>
                  <a:cubicBezTo>
                    <a:pt x="150888" y="176406"/>
                    <a:pt x="177861" y="149448"/>
                    <a:pt x="177861" y="116369"/>
                  </a:cubicBezTo>
                  <a:cubicBezTo>
                    <a:pt x="177861" y="83290"/>
                    <a:pt x="150888" y="56260"/>
                    <a:pt x="117810" y="56260"/>
                  </a:cubicBezTo>
                  <a:close/>
                  <a:moveTo>
                    <a:pt x="117810" y="73322"/>
                  </a:moveTo>
                  <a:cubicBezTo>
                    <a:pt x="141666" y="73322"/>
                    <a:pt x="160812" y="92512"/>
                    <a:pt x="160812" y="116369"/>
                  </a:cubicBezTo>
                  <a:cubicBezTo>
                    <a:pt x="160812" y="140226"/>
                    <a:pt x="141666" y="159358"/>
                    <a:pt x="117810" y="159358"/>
                  </a:cubicBezTo>
                  <a:cubicBezTo>
                    <a:pt x="93953" y="159358"/>
                    <a:pt x="74763" y="140226"/>
                    <a:pt x="74763" y="116369"/>
                  </a:cubicBezTo>
                  <a:cubicBezTo>
                    <a:pt x="74763" y="92512"/>
                    <a:pt x="93953" y="73322"/>
                    <a:pt x="117810" y="733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2485" name="Graphic 18" descr=""/>
          <p:cNvPicPr/>
          <p:nvPr/>
        </p:nvPicPr>
        <p:blipFill>
          <a:blip r:embed="rId1"/>
          <a:stretch/>
        </p:blipFill>
        <p:spPr>
          <a:xfrm>
            <a:off x="363600" y="369720"/>
            <a:ext cx="366480" cy="366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Rectangle 2"/>
          <p:cNvSpPr/>
          <p:nvPr/>
        </p:nvSpPr>
        <p:spPr>
          <a:xfrm>
            <a:off x="5726160" y="0"/>
            <a:ext cx="6465960" cy="6858000"/>
          </a:xfrm>
          <a:prstGeom prst="rect">
            <a:avLst/>
          </a:prstGeom>
          <a:solidFill>
            <a:srgbClr val="000000">
              <a:alpha val="2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7" name="Slide Number Placeholder 1"/>
          <p:cNvSpPr/>
          <p:nvPr/>
        </p:nvSpPr>
        <p:spPr>
          <a:xfrm>
            <a:off x="10337760" y="6299280"/>
            <a:ext cx="2743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4705-48F1-4720-8E03-282CD84BC875}" type="slidenum">
              <a:rPr b="0" lang="en-ID" sz="1600" spc="-1" strike="noStrike">
                <a:solidFill>
                  <a:srgbClr val="ffffff"/>
                </a:solidFill>
                <a:latin typeface="Lato"/>
                <a:ea typeface="Arial"/>
              </a:rPr>
              <a:t>&lt;number&gt;</a:t>
            </a:fld>
            <a:endParaRPr b="0" lang="en-US" sz="1600" spc="-1" strike="noStrike">
              <a:solidFill>
                <a:srgbClr val="000000"/>
              </a:solidFill>
              <a:latin typeface="Calibri"/>
            </a:endParaRPr>
          </a:p>
        </p:txBody>
      </p:sp>
      <p:sp>
        <p:nvSpPr>
          <p:cNvPr id="2488" name="TextBox 11"/>
          <p:cNvSpPr/>
          <p:nvPr/>
        </p:nvSpPr>
        <p:spPr>
          <a:xfrm>
            <a:off x="7352640" y="2244600"/>
            <a:ext cx="3114360" cy="2531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ffff"/>
                </a:solidFill>
                <a:latin typeface="Roboto Black"/>
                <a:ea typeface="Roboto Black"/>
              </a:rPr>
              <a:t>Thank</a:t>
            </a:r>
            <a:endParaRPr b="0" lang="en-US" sz="8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ffff"/>
                </a:solidFill>
                <a:latin typeface="Roboto Black"/>
                <a:ea typeface="Roboto Black"/>
              </a:rPr>
              <a:t>You</a:t>
            </a:r>
            <a:endParaRPr b="0" lang="en-US" sz="8000" spc="-1" strike="noStrike">
              <a:solidFill>
                <a:srgbClr val="000000"/>
              </a:solidFill>
              <a:latin typeface="Calibri"/>
            </a:endParaRPr>
          </a:p>
        </p:txBody>
      </p:sp>
      <p:grpSp>
        <p:nvGrpSpPr>
          <p:cNvPr id="2489" name="Group 29"/>
          <p:cNvGrpSpPr/>
          <p:nvPr/>
        </p:nvGrpSpPr>
        <p:grpSpPr>
          <a:xfrm>
            <a:off x="6986160" y="1712880"/>
            <a:ext cx="3846960" cy="3505320"/>
            <a:chOff x="6986160" y="1712880"/>
            <a:chExt cx="3846960" cy="3505320"/>
          </a:xfrm>
        </p:grpSpPr>
        <p:sp>
          <p:nvSpPr>
            <p:cNvPr id="2490" name="Left Bracket 21"/>
            <p:cNvSpPr/>
            <p:nvPr/>
          </p:nvSpPr>
          <p:spPr>
            <a:xfrm rot="16200000">
              <a:off x="8490960" y="2876040"/>
              <a:ext cx="837360" cy="3846600"/>
            </a:xfrm>
            <a:custGeom>
              <a:avLst/>
              <a:gdLst>
                <a:gd name="textAreaLeft" fmla="*/ 246240 w 837360"/>
                <a:gd name="textAreaRight" fmla="*/ 837720 w 837360"/>
                <a:gd name="textAreaTop" fmla="*/ 0 h 3846600"/>
                <a:gd name="textAreaBottom" fmla="*/ 3846960 h 38466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123840">
              <a:solidFill>
                <a:srgbClr val="ffbe4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1" name="Left Bracket 24"/>
            <p:cNvSpPr/>
            <p:nvPr/>
          </p:nvSpPr>
          <p:spPr>
            <a:xfrm rot="5400000">
              <a:off x="8490600" y="208080"/>
              <a:ext cx="837360" cy="3846600"/>
            </a:xfrm>
            <a:custGeom>
              <a:avLst/>
              <a:gdLst>
                <a:gd name="textAreaLeft" fmla="*/ 246240 w 837360"/>
                <a:gd name="textAreaRight" fmla="*/ 837720 w 837360"/>
                <a:gd name="textAreaTop" fmla="*/ 0 h 3846600"/>
                <a:gd name="textAreaBottom" fmla="*/ 3846960 h 38466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123840">
              <a:solidFill>
                <a:srgbClr val="ffbe4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92" name="Group 39"/>
          <p:cNvGrpSpPr/>
          <p:nvPr/>
        </p:nvGrpSpPr>
        <p:grpSpPr>
          <a:xfrm>
            <a:off x="11592000" y="737640"/>
            <a:ext cx="261360" cy="4118760"/>
            <a:chOff x="11592000" y="737640"/>
            <a:chExt cx="261360" cy="4118760"/>
          </a:xfrm>
        </p:grpSpPr>
        <p:sp>
          <p:nvSpPr>
            <p:cNvPr id="2493" name="Straight Connector 40"/>
            <p:cNvSpPr/>
            <p:nvPr/>
          </p:nvSpPr>
          <p:spPr>
            <a:xfrm>
              <a:off x="11707920" y="2368800"/>
              <a:ext cx="0" cy="1711080"/>
            </a:xfrm>
            <a:prstGeom prst="line">
              <a:avLst/>
            </a:prstGeom>
            <a:ln w="1260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4" name="TextBox 41"/>
            <p:cNvSpPr/>
            <p:nvPr/>
          </p:nvSpPr>
          <p:spPr>
            <a:xfrm rot="5400000">
              <a:off x="11238120" y="1091160"/>
              <a:ext cx="968760" cy="261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Montserrat"/>
                  <a:ea typeface="Roboto Black"/>
                </a:rPr>
                <a:t>TELE WORK</a:t>
              </a:r>
              <a:endParaRPr b="0" lang="en-US" sz="1100" spc="-1" strike="noStrike">
                <a:solidFill>
                  <a:srgbClr val="000000"/>
                </a:solidFill>
                <a:latin typeface="Calibri"/>
              </a:endParaRPr>
            </a:p>
          </p:txBody>
        </p:sp>
        <p:sp>
          <p:nvSpPr>
            <p:cNvPr id="2495" name="TextBox 42"/>
            <p:cNvSpPr/>
            <p:nvPr/>
          </p:nvSpPr>
          <p:spPr>
            <a:xfrm rot="5400000">
              <a:off x="11470680" y="4473720"/>
              <a:ext cx="50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ffffff"/>
                  </a:solidFill>
                  <a:latin typeface="Montserrat"/>
                  <a:ea typeface="Roboto Black"/>
                </a:rPr>
                <a:t>2022</a:t>
              </a:r>
              <a:endParaRPr b="0" lang="en-US" sz="1100" spc="-1" strike="noStrike">
                <a:solidFill>
                  <a:srgbClr val="000000"/>
                </a:solidFill>
                <a:latin typeface="Calibri"/>
              </a:endParaRPr>
            </a:p>
          </p:txBody>
        </p:sp>
      </p:grpSp>
      <p:sp>
        <p:nvSpPr>
          <p:cNvPr id="2496" name="TextBox 30"/>
          <p:cNvSpPr/>
          <p:nvPr/>
        </p:nvSpPr>
        <p:spPr>
          <a:xfrm>
            <a:off x="752400" y="328680"/>
            <a:ext cx="282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ontserrat"/>
              </a:rPr>
              <a:t>COMPANY NAME</a:t>
            </a:r>
            <a:endParaRPr b="0" lang="en-US" sz="1600" spc="-1" strike="noStrike">
              <a:solidFill>
                <a:srgbClr val="000000"/>
              </a:solidFill>
              <a:latin typeface="Calibri"/>
            </a:endParaRPr>
          </a:p>
        </p:txBody>
      </p:sp>
      <p:pic>
        <p:nvPicPr>
          <p:cNvPr id="2497" name="Graphic 14" descr=""/>
          <p:cNvPicPr/>
          <p:nvPr/>
        </p:nvPicPr>
        <p:blipFill>
          <a:blip r:embed="rId1"/>
          <a:stretch/>
        </p:blipFill>
        <p:spPr>
          <a:xfrm>
            <a:off x="325440" y="303120"/>
            <a:ext cx="366840" cy="366840"/>
          </a:xfrm>
          <a:prstGeom prst="rect">
            <a:avLst/>
          </a:prstGeom>
          <a:ln w="0">
            <a:noFill/>
          </a:ln>
        </p:spPr>
      </p:pic>
      <p:pic>
        <p:nvPicPr>
          <p:cNvPr id="2498"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7" name="Group 3"/>
          <p:cNvGrpSpPr/>
          <p:nvPr/>
        </p:nvGrpSpPr>
        <p:grpSpPr>
          <a:xfrm>
            <a:off x="963720" y="474840"/>
            <a:ext cx="1222200" cy="218880"/>
            <a:chOff x="963720" y="474840"/>
            <a:chExt cx="1222200" cy="218880"/>
          </a:xfrm>
        </p:grpSpPr>
        <p:sp>
          <p:nvSpPr>
            <p:cNvPr id="1768" name="Freeform: Shape 4"/>
            <p:cNvSpPr/>
            <p:nvPr/>
          </p:nvSpPr>
          <p:spPr>
            <a:xfrm>
              <a:off x="963720" y="499680"/>
              <a:ext cx="209520" cy="169200"/>
            </a:xfrm>
            <a:custGeom>
              <a:avLst/>
              <a:gdLst/>
              <a:ahLst/>
              <a:rect l="l" t="t" r="r" b="b"/>
              <a:pathLst>
                <a:path w="284872" h="228985">
                  <a:moveTo>
                    <a:pt x="238095" y="19069"/>
                  </a:moveTo>
                  <a:cubicBezTo>
                    <a:pt x="207125" y="-16883"/>
                    <a:pt x="130957" y="-3330"/>
                    <a:pt x="136129" y="71103"/>
                  </a:cubicBezTo>
                  <a:cubicBezTo>
                    <a:pt x="136129" y="71103"/>
                    <a:pt x="93556" y="81090"/>
                    <a:pt x="20498" y="16967"/>
                  </a:cubicBezTo>
                  <a:cubicBezTo>
                    <a:pt x="20498" y="16967"/>
                    <a:pt x="8819" y="55654"/>
                    <a:pt x="33522" y="87716"/>
                  </a:cubicBezTo>
                  <a:cubicBezTo>
                    <a:pt x="33522" y="87716"/>
                    <a:pt x="21921" y="89843"/>
                    <a:pt x="9461" y="84243"/>
                  </a:cubicBezTo>
                  <a:cubicBezTo>
                    <a:pt x="9461" y="84243"/>
                    <a:pt x="11037" y="124188"/>
                    <a:pt x="53085" y="137854"/>
                  </a:cubicBezTo>
                  <a:cubicBezTo>
                    <a:pt x="53085" y="137854"/>
                    <a:pt x="41522" y="143109"/>
                    <a:pt x="33113" y="142584"/>
                  </a:cubicBezTo>
                  <a:cubicBezTo>
                    <a:pt x="33113" y="142584"/>
                    <a:pt x="42048" y="173068"/>
                    <a:pt x="79890" y="176222"/>
                  </a:cubicBezTo>
                  <a:cubicBezTo>
                    <a:pt x="79890" y="176222"/>
                    <a:pt x="61495" y="210385"/>
                    <a:pt x="0" y="206706"/>
                  </a:cubicBezTo>
                  <a:cubicBezTo>
                    <a:pt x="77218" y="253969"/>
                    <a:pt x="259204" y="235498"/>
                    <a:pt x="249995" y="58261"/>
                  </a:cubicBezTo>
                  <a:lnTo>
                    <a:pt x="284873" y="29056"/>
                  </a:lnTo>
                  <a:lnTo>
                    <a:pt x="254388" y="35363"/>
                  </a:lnTo>
                  <a:lnTo>
                    <a:pt x="279091" y="6980"/>
                  </a:lnTo>
                  <a:lnTo>
                    <a:pt x="238095" y="190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9" name="Freeform: Shape 5"/>
            <p:cNvSpPr/>
            <p:nvPr/>
          </p:nvSpPr>
          <p:spPr>
            <a:xfrm>
              <a:off x="1530720" y="474840"/>
              <a:ext cx="104040" cy="218880"/>
            </a:xfrm>
            <a:custGeom>
              <a:avLst/>
              <a:gdLst/>
              <a:ahLst/>
              <a:rect l="l" t="t" r="r" b="b"/>
              <a:pathLst>
                <a:path w="141378" h="296691">
                  <a:moveTo>
                    <a:pt x="84616" y="0"/>
                  </a:moveTo>
                  <a:cubicBezTo>
                    <a:pt x="62843" y="0"/>
                    <a:pt x="33105" y="21479"/>
                    <a:pt x="33105" y="52031"/>
                  </a:cubicBezTo>
                  <a:lnTo>
                    <a:pt x="33105" y="78567"/>
                  </a:lnTo>
                  <a:lnTo>
                    <a:pt x="33105" y="91705"/>
                  </a:lnTo>
                  <a:lnTo>
                    <a:pt x="0" y="91705"/>
                  </a:lnTo>
                  <a:lnTo>
                    <a:pt x="0" y="150061"/>
                  </a:lnTo>
                  <a:lnTo>
                    <a:pt x="33105" y="150061"/>
                  </a:lnTo>
                  <a:lnTo>
                    <a:pt x="33105" y="296692"/>
                  </a:lnTo>
                  <a:lnTo>
                    <a:pt x="88827" y="296692"/>
                  </a:lnTo>
                  <a:lnTo>
                    <a:pt x="88827" y="150061"/>
                  </a:lnTo>
                  <a:lnTo>
                    <a:pt x="139281" y="150061"/>
                  </a:lnTo>
                  <a:lnTo>
                    <a:pt x="139281" y="91705"/>
                  </a:lnTo>
                  <a:lnTo>
                    <a:pt x="88827" y="91705"/>
                  </a:lnTo>
                  <a:lnTo>
                    <a:pt x="88827" y="78567"/>
                  </a:lnTo>
                  <a:lnTo>
                    <a:pt x="88827" y="61495"/>
                  </a:lnTo>
                  <a:cubicBezTo>
                    <a:pt x="88827" y="56187"/>
                    <a:pt x="90423" y="48877"/>
                    <a:pt x="101445" y="48877"/>
                  </a:cubicBezTo>
                  <a:lnTo>
                    <a:pt x="141379" y="48877"/>
                  </a:lnTo>
                  <a:lnTo>
                    <a:pt x="141379" y="0"/>
                  </a:lnTo>
                  <a:lnTo>
                    <a:pt x="8461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70" name="Freeform: Shape 6"/>
            <p:cNvSpPr/>
            <p:nvPr/>
          </p:nvSpPr>
          <p:spPr>
            <a:xfrm>
              <a:off x="2012400" y="498240"/>
              <a:ext cx="173520" cy="171720"/>
            </a:xfrm>
            <a:custGeom>
              <a:avLst/>
              <a:gdLst/>
              <a:ahLst/>
              <a:rect l="l" t="t" r="r" b="b"/>
              <a:pathLst>
                <a:path w="235575" h="232738">
                  <a:moveTo>
                    <a:pt x="56039" y="0"/>
                  </a:moveTo>
                  <a:cubicBezTo>
                    <a:pt x="25194" y="0"/>
                    <a:pt x="0" y="25193"/>
                    <a:pt x="0" y="56039"/>
                  </a:cubicBezTo>
                  <a:lnTo>
                    <a:pt x="0" y="176685"/>
                  </a:lnTo>
                  <a:cubicBezTo>
                    <a:pt x="0" y="207530"/>
                    <a:pt x="25194" y="232738"/>
                    <a:pt x="56039" y="232738"/>
                  </a:cubicBezTo>
                  <a:lnTo>
                    <a:pt x="179522" y="232738"/>
                  </a:lnTo>
                  <a:cubicBezTo>
                    <a:pt x="210367" y="232738"/>
                    <a:pt x="235575" y="207530"/>
                    <a:pt x="235575" y="176685"/>
                  </a:cubicBezTo>
                  <a:lnTo>
                    <a:pt x="235575" y="56039"/>
                  </a:lnTo>
                  <a:cubicBezTo>
                    <a:pt x="235575" y="25193"/>
                    <a:pt x="210367" y="0"/>
                    <a:pt x="179522" y="0"/>
                  </a:cubicBezTo>
                  <a:lnTo>
                    <a:pt x="56039" y="0"/>
                  </a:lnTo>
                  <a:close/>
                  <a:moveTo>
                    <a:pt x="56039" y="22706"/>
                  </a:moveTo>
                  <a:lnTo>
                    <a:pt x="179522" y="22706"/>
                  </a:lnTo>
                  <a:cubicBezTo>
                    <a:pt x="198156" y="22706"/>
                    <a:pt x="212854" y="37404"/>
                    <a:pt x="212854" y="56039"/>
                  </a:cubicBezTo>
                  <a:lnTo>
                    <a:pt x="212854" y="176685"/>
                  </a:lnTo>
                  <a:cubicBezTo>
                    <a:pt x="212854" y="195319"/>
                    <a:pt x="198156" y="209958"/>
                    <a:pt x="179522" y="209958"/>
                  </a:cubicBezTo>
                  <a:lnTo>
                    <a:pt x="56039" y="209958"/>
                  </a:lnTo>
                  <a:cubicBezTo>
                    <a:pt x="37405" y="209958"/>
                    <a:pt x="22765" y="195319"/>
                    <a:pt x="22765" y="176685"/>
                  </a:cubicBezTo>
                  <a:lnTo>
                    <a:pt x="22765" y="56039"/>
                  </a:lnTo>
                  <a:cubicBezTo>
                    <a:pt x="22765" y="37404"/>
                    <a:pt x="37405" y="22706"/>
                    <a:pt x="56039" y="22706"/>
                  </a:cubicBezTo>
                  <a:close/>
                  <a:moveTo>
                    <a:pt x="180271" y="39902"/>
                  </a:moveTo>
                  <a:cubicBezTo>
                    <a:pt x="171501" y="39898"/>
                    <a:pt x="164388" y="47004"/>
                    <a:pt x="164384" y="55774"/>
                  </a:cubicBezTo>
                  <a:cubicBezTo>
                    <a:pt x="164380" y="64544"/>
                    <a:pt x="171486" y="71657"/>
                    <a:pt x="180257" y="71661"/>
                  </a:cubicBezTo>
                  <a:cubicBezTo>
                    <a:pt x="180262" y="71661"/>
                    <a:pt x="180266" y="71661"/>
                    <a:pt x="180271" y="71661"/>
                  </a:cubicBezTo>
                  <a:cubicBezTo>
                    <a:pt x="189041" y="71657"/>
                    <a:pt x="196147" y="64544"/>
                    <a:pt x="196144" y="55774"/>
                  </a:cubicBezTo>
                  <a:cubicBezTo>
                    <a:pt x="196139" y="47010"/>
                    <a:pt x="189035" y="39906"/>
                    <a:pt x="180271" y="39902"/>
                  </a:cubicBezTo>
                  <a:close/>
                  <a:moveTo>
                    <a:pt x="117810" y="56260"/>
                  </a:moveTo>
                  <a:cubicBezTo>
                    <a:pt x="84731" y="56260"/>
                    <a:pt x="57714" y="83290"/>
                    <a:pt x="57714" y="116369"/>
                  </a:cubicBezTo>
                  <a:cubicBezTo>
                    <a:pt x="57714" y="149448"/>
                    <a:pt x="84731" y="176406"/>
                    <a:pt x="117810" y="176406"/>
                  </a:cubicBezTo>
                  <a:cubicBezTo>
                    <a:pt x="150888" y="176406"/>
                    <a:pt x="177861" y="149448"/>
                    <a:pt x="177861" y="116369"/>
                  </a:cubicBezTo>
                  <a:cubicBezTo>
                    <a:pt x="177861" y="83290"/>
                    <a:pt x="150888" y="56260"/>
                    <a:pt x="117810" y="56260"/>
                  </a:cubicBezTo>
                  <a:close/>
                  <a:moveTo>
                    <a:pt x="117810" y="73322"/>
                  </a:moveTo>
                  <a:cubicBezTo>
                    <a:pt x="141666" y="73322"/>
                    <a:pt x="160812" y="92512"/>
                    <a:pt x="160812" y="116369"/>
                  </a:cubicBezTo>
                  <a:cubicBezTo>
                    <a:pt x="160812" y="140226"/>
                    <a:pt x="141666" y="159358"/>
                    <a:pt x="117810" y="159358"/>
                  </a:cubicBezTo>
                  <a:cubicBezTo>
                    <a:pt x="93953" y="159358"/>
                    <a:pt x="74763" y="140226"/>
                    <a:pt x="74763" y="116369"/>
                  </a:cubicBezTo>
                  <a:cubicBezTo>
                    <a:pt x="74763" y="92512"/>
                    <a:pt x="93953" y="73322"/>
                    <a:pt x="117810" y="733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771" name="TextBox 7"/>
          <p:cNvSpPr/>
          <p:nvPr/>
        </p:nvSpPr>
        <p:spPr>
          <a:xfrm>
            <a:off x="7178760" y="1712880"/>
            <a:ext cx="40035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Roboto Black"/>
                <a:ea typeface="Roboto Black"/>
              </a:rPr>
              <a:t>Many Range Of </a:t>
            </a:r>
            <a:r>
              <a:rPr b="0" i="1" lang="en-GB" sz="4000" spc="-1" strike="noStrike">
                <a:solidFill>
                  <a:srgbClr val="236e96"/>
                </a:solidFill>
                <a:latin typeface="Roboto Black"/>
                <a:ea typeface="Roboto Black"/>
              </a:rPr>
              <a:t>Business</a:t>
            </a:r>
            <a:r>
              <a:rPr b="0" lang="en-GB" sz="4000" spc="-1" strike="noStrike">
                <a:solidFill>
                  <a:srgbClr val="000000"/>
                </a:solidFill>
                <a:latin typeface="Roboto Black"/>
                <a:ea typeface="Roboto Black"/>
              </a:rPr>
              <a:t> Have Adapted The </a:t>
            </a:r>
            <a:r>
              <a:rPr b="0" i="1" lang="en-GB" sz="4000" spc="-1" strike="noStrike">
                <a:solidFill>
                  <a:srgbClr val="236e96"/>
                </a:solidFill>
                <a:latin typeface="Roboto Black"/>
                <a:ea typeface="Roboto Black"/>
              </a:rPr>
              <a:t>Telework</a:t>
            </a:r>
            <a:endParaRPr b="0" lang="en-US" sz="4000" spc="-1" strike="noStrike">
              <a:solidFill>
                <a:srgbClr val="000000"/>
              </a:solidFill>
              <a:latin typeface="Calibri"/>
            </a:endParaRPr>
          </a:p>
        </p:txBody>
      </p:sp>
      <p:grpSp>
        <p:nvGrpSpPr>
          <p:cNvPr id="1772" name="Group 8"/>
          <p:cNvGrpSpPr/>
          <p:nvPr/>
        </p:nvGrpSpPr>
        <p:grpSpPr>
          <a:xfrm>
            <a:off x="7114680" y="449280"/>
            <a:ext cx="4139280" cy="384120"/>
            <a:chOff x="7114680" y="449280"/>
            <a:chExt cx="4139280" cy="384120"/>
          </a:xfrm>
        </p:grpSpPr>
        <p:sp>
          <p:nvSpPr>
            <p:cNvPr id="1773" name="Straight Connector 9"/>
            <p:cNvSpPr/>
            <p:nvPr/>
          </p:nvSpPr>
          <p:spPr>
            <a:xfrm>
              <a:off x="7114680" y="833400"/>
              <a:ext cx="4113360" cy="0"/>
            </a:xfrm>
            <a:prstGeom prst="line">
              <a:avLst/>
            </a:prstGeom>
            <a:ln w="28440">
              <a:solidFill>
                <a:srgbClr val="ffbe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4" name="TextBox 10"/>
            <p:cNvSpPr/>
            <p:nvPr/>
          </p:nvSpPr>
          <p:spPr>
            <a:xfrm>
              <a:off x="7236720" y="449280"/>
              <a:ext cx="968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f7f7f"/>
                  </a:solidFill>
                  <a:latin typeface="Montserrat"/>
                  <a:ea typeface="Roboto Black"/>
                </a:rPr>
                <a:t>TELE WORK</a:t>
              </a:r>
              <a:endParaRPr b="0" lang="en-US" sz="1100" spc="-1" strike="noStrike">
                <a:solidFill>
                  <a:srgbClr val="000000"/>
                </a:solidFill>
                <a:latin typeface="Calibri"/>
              </a:endParaRPr>
            </a:p>
          </p:txBody>
        </p:sp>
        <p:sp>
          <p:nvSpPr>
            <p:cNvPr id="1775" name="TextBox 11"/>
            <p:cNvSpPr/>
            <p:nvPr/>
          </p:nvSpPr>
          <p:spPr>
            <a:xfrm>
              <a:off x="10750320" y="449280"/>
              <a:ext cx="503640" cy="261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100" spc="-1" strike="noStrike">
                  <a:solidFill>
                    <a:srgbClr val="7f7f7f"/>
                  </a:solidFill>
                  <a:latin typeface="Montserrat"/>
                  <a:ea typeface="Roboto Black"/>
                </a:rPr>
                <a:t>2022</a:t>
              </a:r>
              <a:endParaRPr b="0" lang="en-US" sz="1100" spc="-1" strike="noStrike">
                <a:solidFill>
                  <a:srgbClr val="000000"/>
                </a:solidFill>
                <a:latin typeface="Calibri"/>
              </a:endParaRPr>
            </a:p>
          </p:txBody>
        </p:sp>
      </p:grpSp>
      <p:sp>
        <p:nvSpPr>
          <p:cNvPr id="1776" name="Rectangle 16"/>
          <p:cNvSpPr/>
          <p:nvPr/>
        </p:nvSpPr>
        <p:spPr>
          <a:xfrm>
            <a:off x="4651200" y="4132440"/>
            <a:ext cx="1789200" cy="133956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7" name="TextBox 17"/>
          <p:cNvSpPr/>
          <p:nvPr/>
        </p:nvSpPr>
        <p:spPr>
          <a:xfrm>
            <a:off x="4551480" y="4259160"/>
            <a:ext cx="1989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a:ea typeface="Roboto"/>
              </a:rPr>
              <a:t>01</a:t>
            </a:r>
            <a:endParaRPr b="0" lang="en-US" sz="6600" spc="-1" strike="noStrike">
              <a:solidFill>
                <a:srgbClr val="000000"/>
              </a:solidFill>
              <a:latin typeface="Calibri"/>
            </a:endParaRPr>
          </a:p>
        </p:txBody>
      </p:sp>
      <p:sp>
        <p:nvSpPr>
          <p:cNvPr id="1778" name="TextBox 18"/>
          <p:cNvSpPr/>
          <p:nvPr/>
        </p:nvSpPr>
        <p:spPr>
          <a:xfrm>
            <a:off x="7486560" y="4600440"/>
            <a:ext cx="33879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 quae ab illo inventore veritatis et</a:t>
            </a:r>
            <a:r>
              <a:rPr b="0" lang="en-GB" sz="1100" spc="-1" strike="noStrike">
                <a:solidFill>
                  <a:srgbClr val="7f7f7f"/>
                </a:solidFill>
                <a:latin typeface="Lato"/>
              </a:rPr>
              <a:t>.</a:t>
            </a:r>
            <a:endParaRPr b="0" lang="en-US" sz="1100" spc="-1" strike="noStrike">
              <a:solidFill>
                <a:srgbClr val="000000"/>
              </a:solidFill>
              <a:latin typeface="Calibri"/>
            </a:endParaRPr>
          </a:p>
        </p:txBody>
      </p:sp>
      <p:pic>
        <p:nvPicPr>
          <p:cNvPr id="1779" name="Group 23" descr=""/>
          <p:cNvPicPr/>
          <p:nvPr/>
        </p:nvPicPr>
        <p:blipFill>
          <a:blip r:embed="rId1"/>
          <a:stretch/>
        </p:blipFill>
        <p:spPr>
          <a:xfrm>
            <a:off x="8790120" y="6327720"/>
            <a:ext cx="780840" cy="1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4"/>
          <p:cNvSpPr/>
          <p:nvPr/>
        </p:nvSpPr>
        <p:spPr>
          <a:xfrm>
            <a:off x="6620040" y="3429000"/>
            <a:ext cx="826920" cy="342900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1" name="TextBox 11"/>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1782" name="TextBox 12"/>
          <p:cNvSpPr/>
          <p:nvPr/>
        </p:nvSpPr>
        <p:spPr>
          <a:xfrm>
            <a:off x="1030320" y="1420920"/>
            <a:ext cx="4513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236e96"/>
                </a:solidFill>
                <a:latin typeface="Roboto Black"/>
                <a:ea typeface="Roboto Black"/>
              </a:rPr>
              <a:t>Telework</a:t>
            </a:r>
            <a:r>
              <a:rPr b="0" lang="en-GB" sz="3200" spc="-1" strike="noStrike">
                <a:solidFill>
                  <a:srgbClr val="000000"/>
                </a:solidFill>
                <a:latin typeface="Roboto Black"/>
                <a:ea typeface="Roboto Black"/>
              </a:rPr>
              <a:t> Will Become New </a:t>
            </a:r>
            <a:r>
              <a:rPr b="0" i="1" lang="en-GB" sz="3200" spc="-1" strike="noStrike">
                <a:solidFill>
                  <a:srgbClr val="236e96"/>
                </a:solidFill>
                <a:latin typeface="Roboto Black"/>
                <a:ea typeface="Roboto Black"/>
              </a:rPr>
              <a:t>Pop Culture</a:t>
            </a:r>
            <a:r>
              <a:rPr b="0" lang="en-GB" sz="3200" spc="-1" strike="noStrike">
                <a:solidFill>
                  <a:srgbClr val="000000"/>
                </a:solidFill>
                <a:latin typeface="Roboto Black"/>
                <a:ea typeface="Roboto Black"/>
              </a:rPr>
              <a:t> On The </a:t>
            </a:r>
            <a:r>
              <a:rPr b="0" i="1" lang="en-GB" sz="3200" spc="-1" strike="noStrike">
                <a:solidFill>
                  <a:srgbClr val="236e96"/>
                </a:solidFill>
                <a:latin typeface="Roboto Black"/>
                <a:ea typeface="Roboto Black"/>
              </a:rPr>
              <a:t>Work</a:t>
            </a:r>
            <a:r>
              <a:rPr b="0" lang="en-GB" sz="3200" spc="-1" strike="noStrike">
                <a:solidFill>
                  <a:srgbClr val="000000"/>
                </a:solidFill>
                <a:latin typeface="Roboto Black"/>
                <a:ea typeface="Roboto Black"/>
              </a:rPr>
              <a:t>.</a:t>
            </a:r>
            <a:endParaRPr b="0" lang="en-US" sz="3200" spc="-1" strike="noStrike">
              <a:solidFill>
                <a:srgbClr val="000000"/>
              </a:solidFill>
              <a:latin typeface="Calibri"/>
            </a:endParaRPr>
          </a:p>
        </p:txBody>
      </p:sp>
      <p:sp>
        <p:nvSpPr>
          <p:cNvPr id="1783" name="TextBox 13"/>
          <p:cNvSpPr/>
          <p:nvPr/>
        </p:nvSpPr>
        <p:spPr>
          <a:xfrm>
            <a:off x="1015920" y="4645080"/>
            <a:ext cx="20988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a:t>
            </a:r>
            <a:r>
              <a:rPr b="0" lang="en-GB" sz="1100" spc="-1" strike="noStrike">
                <a:solidFill>
                  <a:srgbClr val="7f7f7f"/>
                </a:solidFill>
                <a:latin typeface="Lato"/>
              </a:rPr>
              <a:t> </a:t>
            </a:r>
            <a:r>
              <a:rPr b="0" lang="id-ID" sz="1100" spc="-1" strike="noStrike">
                <a:solidFill>
                  <a:srgbClr val="7f7f7f"/>
                </a:solidFill>
                <a:latin typeface="Lato"/>
              </a:rPr>
              <a:t>is iste natus error sit great ness accusantium 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pic>
        <p:nvPicPr>
          <p:cNvPr id="1784" name="Group 14" descr=""/>
          <p:cNvPicPr/>
          <p:nvPr/>
        </p:nvPicPr>
        <p:blipFill>
          <a:blip r:embed="rId1"/>
          <a:stretch/>
        </p:blipFill>
        <p:spPr>
          <a:xfrm>
            <a:off x="10387080" y="407880"/>
            <a:ext cx="1218960" cy="220680"/>
          </a:xfrm>
          <a:prstGeom prst="rect">
            <a:avLst/>
          </a:prstGeom>
          <a:ln w="0">
            <a:noFill/>
          </a:ln>
        </p:spPr>
      </p:pic>
      <p:sp>
        <p:nvSpPr>
          <p:cNvPr id="1785" name="TextBox 22"/>
          <p:cNvSpPr/>
          <p:nvPr/>
        </p:nvSpPr>
        <p:spPr>
          <a:xfrm>
            <a:off x="1015920" y="4282920"/>
            <a:ext cx="209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ato Black"/>
              </a:rPr>
              <a:t>TELECONFERENCE</a:t>
            </a:r>
            <a:endParaRPr b="0" lang="en-US" sz="1400" spc="-1" strike="noStrike">
              <a:solidFill>
                <a:srgbClr val="000000"/>
              </a:solidFill>
              <a:latin typeface="Calibri"/>
            </a:endParaRPr>
          </a:p>
        </p:txBody>
      </p:sp>
      <p:sp>
        <p:nvSpPr>
          <p:cNvPr id="1786" name="TextBox 23"/>
          <p:cNvSpPr/>
          <p:nvPr/>
        </p:nvSpPr>
        <p:spPr>
          <a:xfrm>
            <a:off x="3409920" y="4645080"/>
            <a:ext cx="20988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a:t>
            </a:r>
            <a:r>
              <a:rPr b="0" lang="en-GB" sz="1100" spc="-1" strike="noStrike">
                <a:solidFill>
                  <a:srgbClr val="7f7f7f"/>
                </a:solidFill>
                <a:latin typeface="Lato"/>
              </a:rPr>
              <a:t> </a:t>
            </a:r>
            <a:r>
              <a:rPr b="0" lang="id-ID" sz="1100" spc="-1" strike="noStrike">
                <a:solidFill>
                  <a:srgbClr val="7f7f7f"/>
                </a:solidFill>
                <a:latin typeface="Lato"/>
              </a:rPr>
              <a:t>is iste natus error sit great ness accusantium doloremque trie as laudantium</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787" name="TextBox 24"/>
          <p:cNvSpPr/>
          <p:nvPr/>
        </p:nvSpPr>
        <p:spPr>
          <a:xfrm>
            <a:off x="3409920" y="4282920"/>
            <a:ext cx="209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ato Black"/>
              </a:rPr>
              <a:t>PHONE CALL</a:t>
            </a:r>
            <a:endParaRPr b="0" lang="en-US" sz="1400" spc="-1" strike="noStrike">
              <a:solidFill>
                <a:srgbClr val="000000"/>
              </a:solidFill>
              <a:latin typeface="Calibri"/>
            </a:endParaRPr>
          </a:p>
        </p:txBody>
      </p:sp>
      <p:sp>
        <p:nvSpPr>
          <p:cNvPr id="1788" name="TextBox 25"/>
          <p:cNvSpPr/>
          <p:nvPr/>
        </p:nvSpPr>
        <p:spPr>
          <a:xfrm rot="5400000">
            <a:off x="5618880" y="4974840"/>
            <a:ext cx="282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Montserrat"/>
              </a:rPr>
              <a:t>LOREM IPSUM</a:t>
            </a:r>
            <a:endParaRPr b="0" lang="en-US" sz="1600" spc="-1" strike="noStrike">
              <a:solidFill>
                <a:srgbClr val="000000"/>
              </a:solidFill>
              <a:latin typeface="Calibri"/>
            </a:endParaRPr>
          </a:p>
        </p:txBody>
      </p:sp>
      <p:pic>
        <p:nvPicPr>
          <p:cNvPr id="1789" name="Graphic 18" descr=""/>
          <p:cNvPicPr/>
          <p:nvPr/>
        </p:nvPicPr>
        <p:blipFill>
          <a:blip r:embed="rId2"/>
          <a:stretch/>
        </p:blipFill>
        <p:spPr>
          <a:xfrm>
            <a:off x="363600" y="369720"/>
            <a:ext cx="366480" cy="366840"/>
          </a:xfrm>
          <a:prstGeom prst="rect">
            <a:avLst/>
          </a:prstGeom>
          <a:ln w="0">
            <a:noFill/>
          </a:ln>
        </p:spPr>
      </p:pic>
      <p:sp>
        <p:nvSpPr>
          <p:cNvPr id="1790" name="Freeform: Shape 8"/>
          <p:cNvSpPr/>
          <p:nvPr/>
        </p:nvSpPr>
        <p:spPr>
          <a:xfrm>
            <a:off x="1814400" y="3643200"/>
            <a:ext cx="501840" cy="501840"/>
          </a:xfrm>
          <a:custGeom>
            <a:avLst/>
            <a:gdLst/>
            <a:ahLst/>
            <a:rect l="l" t="t" r="r" b="b"/>
            <a:pathLst>
              <a:path w="501047" h="501045">
                <a:moveTo>
                  <a:pt x="81964" y="1"/>
                </a:moveTo>
                <a:cubicBezTo>
                  <a:pt x="78651" y="34"/>
                  <a:pt x="75483" y="1365"/>
                  <a:pt x="73139" y="3706"/>
                </a:cubicBezTo>
                <a:lnTo>
                  <a:pt x="3709" y="73136"/>
                </a:lnTo>
                <a:cubicBezTo>
                  <a:pt x="1260" y="75586"/>
                  <a:pt x="-78" y="78930"/>
                  <a:pt x="4" y="82392"/>
                </a:cubicBezTo>
                <a:cubicBezTo>
                  <a:pt x="4" y="82392"/>
                  <a:pt x="969" y="113180"/>
                  <a:pt x="20546" y="160843"/>
                </a:cubicBezTo>
                <a:cubicBezTo>
                  <a:pt x="40123" y="208507"/>
                  <a:pt x="78341" y="274348"/>
                  <a:pt x="152520" y="348527"/>
                </a:cubicBezTo>
                <a:cubicBezTo>
                  <a:pt x="226698" y="422705"/>
                  <a:pt x="292539" y="460924"/>
                  <a:pt x="340202" y="480500"/>
                </a:cubicBezTo>
                <a:cubicBezTo>
                  <a:pt x="387866" y="500077"/>
                  <a:pt x="418654" y="501042"/>
                  <a:pt x="418654" y="501042"/>
                </a:cubicBezTo>
                <a:cubicBezTo>
                  <a:pt x="422116" y="501125"/>
                  <a:pt x="425461" y="499785"/>
                  <a:pt x="427910" y="497337"/>
                </a:cubicBezTo>
                <a:lnTo>
                  <a:pt x="497340" y="427907"/>
                </a:lnTo>
                <a:cubicBezTo>
                  <a:pt x="502284" y="422960"/>
                  <a:pt x="502284" y="414943"/>
                  <a:pt x="497340" y="409996"/>
                </a:cubicBezTo>
                <a:lnTo>
                  <a:pt x="405731" y="318374"/>
                </a:lnTo>
                <a:cubicBezTo>
                  <a:pt x="400785" y="313431"/>
                  <a:pt x="392767" y="313431"/>
                  <a:pt x="387820" y="318374"/>
                </a:cubicBezTo>
                <a:lnTo>
                  <a:pt x="340019" y="366189"/>
                </a:lnTo>
                <a:cubicBezTo>
                  <a:pt x="338865" y="366169"/>
                  <a:pt x="339166" y="366326"/>
                  <a:pt x="336379" y="365992"/>
                </a:cubicBezTo>
                <a:cubicBezTo>
                  <a:pt x="330677" y="365309"/>
                  <a:pt x="321874" y="363588"/>
                  <a:pt x="310325" y="359289"/>
                </a:cubicBezTo>
                <a:cubicBezTo>
                  <a:pt x="287228" y="350690"/>
                  <a:pt x="253077" y="331773"/>
                  <a:pt x="211175" y="289872"/>
                </a:cubicBezTo>
                <a:cubicBezTo>
                  <a:pt x="169272" y="247970"/>
                  <a:pt x="150355" y="213819"/>
                  <a:pt x="141757" y="190721"/>
                </a:cubicBezTo>
                <a:cubicBezTo>
                  <a:pt x="137459" y="179173"/>
                  <a:pt x="135736" y="170370"/>
                  <a:pt x="135054" y="164667"/>
                </a:cubicBezTo>
                <a:cubicBezTo>
                  <a:pt x="134720" y="161880"/>
                  <a:pt x="134879" y="162181"/>
                  <a:pt x="134858" y="161027"/>
                </a:cubicBezTo>
                <a:lnTo>
                  <a:pt x="182672" y="113226"/>
                </a:lnTo>
                <a:cubicBezTo>
                  <a:pt x="187616" y="108279"/>
                  <a:pt x="187616" y="100262"/>
                  <a:pt x="182672" y="95315"/>
                </a:cubicBezTo>
                <a:lnTo>
                  <a:pt x="91050" y="3706"/>
                </a:lnTo>
                <a:cubicBezTo>
                  <a:pt x="88641" y="1300"/>
                  <a:pt x="85367" y="-35"/>
                  <a:pt x="81964" y="1"/>
                </a:cubicBezTo>
                <a:close/>
                <a:moveTo>
                  <a:pt x="82094" y="30572"/>
                </a:moveTo>
                <a:lnTo>
                  <a:pt x="155806" y="104270"/>
                </a:lnTo>
                <a:lnTo>
                  <a:pt x="113084" y="146979"/>
                </a:lnTo>
                <a:cubicBezTo>
                  <a:pt x="111020" y="149039"/>
                  <a:pt x="109730" y="151750"/>
                  <a:pt x="109431" y="154651"/>
                </a:cubicBezTo>
                <a:cubicBezTo>
                  <a:pt x="109431" y="154651"/>
                  <a:pt x="108986" y="160024"/>
                  <a:pt x="109903" y="167678"/>
                </a:cubicBezTo>
                <a:cubicBezTo>
                  <a:pt x="110819" y="175333"/>
                  <a:pt x="113022" y="186132"/>
                  <a:pt x="118021" y="199558"/>
                </a:cubicBezTo>
                <a:cubicBezTo>
                  <a:pt x="128017" y="226412"/>
                  <a:pt x="149183" y="263702"/>
                  <a:pt x="193264" y="307782"/>
                </a:cubicBezTo>
                <a:cubicBezTo>
                  <a:pt x="237344" y="351862"/>
                  <a:pt x="274634" y="373030"/>
                  <a:pt x="301487" y="383026"/>
                </a:cubicBezTo>
                <a:cubicBezTo>
                  <a:pt x="314914" y="388024"/>
                  <a:pt x="325713" y="390227"/>
                  <a:pt x="333368" y="391143"/>
                </a:cubicBezTo>
                <a:cubicBezTo>
                  <a:pt x="341023" y="392059"/>
                  <a:pt x="346395" y="391614"/>
                  <a:pt x="346395" y="391614"/>
                </a:cubicBezTo>
                <a:cubicBezTo>
                  <a:pt x="349297" y="391316"/>
                  <a:pt x="352006" y="390026"/>
                  <a:pt x="354068" y="387961"/>
                </a:cubicBezTo>
                <a:lnTo>
                  <a:pt x="396775" y="345240"/>
                </a:lnTo>
                <a:lnTo>
                  <a:pt x="470474" y="418951"/>
                </a:lnTo>
                <a:lnTo>
                  <a:pt x="414372" y="475054"/>
                </a:lnTo>
                <a:cubicBezTo>
                  <a:pt x="408620" y="474689"/>
                  <a:pt x="388326" y="472878"/>
                  <a:pt x="349825" y="457064"/>
                </a:cubicBezTo>
                <a:cubicBezTo>
                  <a:pt x="305284" y="438769"/>
                  <a:pt x="242389" y="402574"/>
                  <a:pt x="170430" y="330616"/>
                </a:cubicBezTo>
                <a:cubicBezTo>
                  <a:pt x="98471" y="258657"/>
                  <a:pt x="62276" y="195763"/>
                  <a:pt x="43981" y="151221"/>
                </a:cubicBezTo>
                <a:cubicBezTo>
                  <a:pt x="28168" y="112719"/>
                  <a:pt x="26357" y="92426"/>
                  <a:pt x="25992" y="86674"/>
                </a:cubicBezTo>
                <a:lnTo>
                  <a:pt x="82094" y="30572"/>
                </a:ln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91" name="Freeform: Shape 9"/>
          <p:cNvSpPr/>
          <p:nvPr/>
        </p:nvSpPr>
        <p:spPr>
          <a:xfrm>
            <a:off x="4240080" y="3660840"/>
            <a:ext cx="438120" cy="460440"/>
          </a:xfrm>
          <a:custGeom>
            <a:avLst/>
            <a:gdLst/>
            <a:ahLst/>
            <a:rect l="l" t="t" r="r" b="b"/>
            <a:pathLst>
              <a:path w="438669" h="460206">
                <a:moveTo>
                  <a:pt x="219313" y="1"/>
                </a:moveTo>
                <a:cubicBezTo>
                  <a:pt x="120484" y="1"/>
                  <a:pt x="40077" y="80408"/>
                  <a:pt x="40077" y="179239"/>
                </a:cubicBezTo>
                <a:cubicBezTo>
                  <a:pt x="40077" y="273807"/>
                  <a:pt x="113707" y="351440"/>
                  <a:pt x="206643" y="357966"/>
                </a:cubicBezTo>
                <a:lnTo>
                  <a:pt x="206643" y="388407"/>
                </a:lnTo>
                <a:lnTo>
                  <a:pt x="115986" y="388407"/>
                </a:lnTo>
                <a:cubicBezTo>
                  <a:pt x="108994" y="388404"/>
                  <a:pt x="103317" y="394072"/>
                  <a:pt x="103317" y="401067"/>
                </a:cubicBezTo>
                <a:cubicBezTo>
                  <a:pt x="103310" y="408064"/>
                  <a:pt x="108981" y="413738"/>
                  <a:pt x="115979" y="413741"/>
                </a:cubicBezTo>
                <a:cubicBezTo>
                  <a:pt x="115979" y="413741"/>
                  <a:pt x="115986" y="413741"/>
                  <a:pt x="115986" y="413741"/>
                </a:cubicBezTo>
                <a:lnTo>
                  <a:pt x="206643" y="413741"/>
                </a:lnTo>
                <a:lnTo>
                  <a:pt x="206643" y="434873"/>
                </a:lnTo>
                <a:lnTo>
                  <a:pt x="12661" y="434873"/>
                </a:lnTo>
                <a:cubicBezTo>
                  <a:pt x="5670" y="434877"/>
                  <a:pt x="5" y="440543"/>
                  <a:pt x="0" y="447534"/>
                </a:cubicBezTo>
                <a:cubicBezTo>
                  <a:pt x="-3" y="454529"/>
                  <a:pt x="5665" y="460203"/>
                  <a:pt x="12661" y="460207"/>
                </a:cubicBezTo>
                <a:lnTo>
                  <a:pt x="426006" y="460207"/>
                </a:lnTo>
                <a:cubicBezTo>
                  <a:pt x="433005" y="460203"/>
                  <a:pt x="438669" y="454529"/>
                  <a:pt x="438669" y="447533"/>
                </a:cubicBezTo>
                <a:cubicBezTo>
                  <a:pt x="438662" y="440543"/>
                  <a:pt x="432998" y="434877"/>
                  <a:pt x="426006" y="434873"/>
                </a:cubicBezTo>
                <a:lnTo>
                  <a:pt x="231976" y="434873"/>
                </a:lnTo>
                <a:lnTo>
                  <a:pt x="231976" y="413741"/>
                </a:lnTo>
                <a:lnTo>
                  <a:pt x="322626" y="413741"/>
                </a:lnTo>
                <a:cubicBezTo>
                  <a:pt x="329624" y="413744"/>
                  <a:pt x="335302" y="408075"/>
                  <a:pt x="335302" y="401079"/>
                </a:cubicBezTo>
                <a:cubicBezTo>
                  <a:pt x="335302" y="401075"/>
                  <a:pt x="335302" y="401071"/>
                  <a:pt x="335302" y="401067"/>
                </a:cubicBezTo>
                <a:cubicBezTo>
                  <a:pt x="335295" y="394072"/>
                  <a:pt x="329624" y="388404"/>
                  <a:pt x="322626" y="388407"/>
                </a:cubicBezTo>
                <a:lnTo>
                  <a:pt x="231976" y="388407"/>
                </a:lnTo>
                <a:lnTo>
                  <a:pt x="231976" y="357966"/>
                </a:lnTo>
                <a:cubicBezTo>
                  <a:pt x="323189" y="351532"/>
                  <a:pt x="395043" y="276256"/>
                  <a:pt x="397597" y="183979"/>
                </a:cubicBezTo>
                <a:cubicBezTo>
                  <a:pt x="397597" y="183965"/>
                  <a:pt x="397597" y="183959"/>
                  <a:pt x="397597" y="183939"/>
                </a:cubicBezTo>
                <a:cubicBezTo>
                  <a:pt x="398207" y="182446"/>
                  <a:pt x="398529" y="180850"/>
                  <a:pt x="398542" y="179238"/>
                </a:cubicBezTo>
                <a:cubicBezTo>
                  <a:pt x="398522" y="177587"/>
                  <a:pt x="398187" y="175955"/>
                  <a:pt x="397543" y="174433"/>
                </a:cubicBezTo>
                <a:cubicBezTo>
                  <a:pt x="394842" y="77949"/>
                  <a:pt x="316445" y="0"/>
                  <a:pt x="219313" y="0"/>
                </a:cubicBezTo>
                <a:lnTo>
                  <a:pt x="219313" y="1"/>
                </a:lnTo>
                <a:close/>
                <a:moveTo>
                  <a:pt x="219313" y="25335"/>
                </a:moveTo>
                <a:cubicBezTo>
                  <a:pt x="304453" y="25335"/>
                  <a:pt x="373203" y="94101"/>
                  <a:pt x="373203" y="179239"/>
                </a:cubicBezTo>
                <a:cubicBezTo>
                  <a:pt x="373203" y="264377"/>
                  <a:pt x="304453" y="333129"/>
                  <a:pt x="219313" y="333130"/>
                </a:cubicBezTo>
                <a:cubicBezTo>
                  <a:pt x="134179" y="333130"/>
                  <a:pt x="65411" y="264377"/>
                  <a:pt x="65411" y="179239"/>
                </a:cubicBezTo>
                <a:cubicBezTo>
                  <a:pt x="65411" y="94101"/>
                  <a:pt x="134179" y="25335"/>
                  <a:pt x="219313" y="25335"/>
                </a:cubicBezTo>
                <a:close/>
                <a:moveTo>
                  <a:pt x="219313" y="58538"/>
                </a:moveTo>
                <a:cubicBezTo>
                  <a:pt x="152808" y="58538"/>
                  <a:pt x="98611" y="112730"/>
                  <a:pt x="98611" y="179239"/>
                </a:cubicBezTo>
                <a:cubicBezTo>
                  <a:pt x="98611" y="245748"/>
                  <a:pt x="152808" y="299927"/>
                  <a:pt x="219313" y="299927"/>
                </a:cubicBezTo>
                <a:cubicBezTo>
                  <a:pt x="284075" y="299927"/>
                  <a:pt x="336254" y="248284"/>
                  <a:pt x="339009" y="184188"/>
                </a:cubicBezTo>
                <a:cubicBezTo>
                  <a:pt x="339666" y="182622"/>
                  <a:pt x="340008" y="180939"/>
                  <a:pt x="340001" y="179239"/>
                </a:cubicBezTo>
                <a:cubicBezTo>
                  <a:pt x="339995" y="177570"/>
                  <a:pt x="339659" y="175919"/>
                  <a:pt x="339009" y="174382"/>
                </a:cubicBezTo>
                <a:cubicBezTo>
                  <a:pt x="336308" y="110239"/>
                  <a:pt x="284108" y="58538"/>
                  <a:pt x="219313" y="58538"/>
                </a:cubicBezTo>
                <a:close/>
                <a:moveTo>
                  <a:pt x="219313" y="83873"/>
                </a:moveTo>
                <a:cubicBezTo>
                  <a:pt x="272129" y="83873"/>
                  <a:pt x="314669" y="126422"/>
                  <a:pt x="314669" y="179239"/>
                </a:cubicBezTo>
                <a:cubicBezTo>
                  <a:pt x="314669" y="232056"/>
                  <a:pt x="272129" y="274592"/>
                  <a:pt x="219313" y="274592"/>
                </a:cubicBezTo>
                <a:cubicBezTo>
                  <a:pt x="166496" y="274592"/>
                  <a:pt x="123950" y="232056"/>
                  <a:pt x="123950" y="179239"/>
                </a:cubicBezTo>
                <a:cubicBezTo>
                  <a:pt x="123950" y="155020"/>
                  <a:pt x="132973" y="133023"/>
                  <a:pt x="147754" y="116237"/>
                </a:cubicBezTo>
                <a:cubicBezTo>
                  <a:pt x="142377" y="123332"/>
                  <a:pt x="139146" y="132117"/>
                  <a:pt x="139146" y="141624"/>
                </a:cubicBezTo>
                <a:cubicBezTo>
                  <a:pt x="139146" y="164846"/>
                  <a:pt x="158231" y="183939"/>
                  <a:pt x="181452" y="183939"/>
                </a:cubicBezTo>
                <a:cubicBezTo>
                  <a:pt x="184582" y="183939"/>
                  <a:pt x="187525" y="183443"/>
                  <a:pt x="190367" y="182735"/>
                </a:cubicBezTo>
                <a:cubicBezTo>
                  <a:pt x="187029" y="189960"/>
                  <a:pt x="185119" y="197967"/>
                  <a:pt x="185119" y="206407"/>
                </a:cubicBezTo>
                <a:cubicBezTo>
                  <a:pt x="185119" y="237709"/>
                  <a:pt x="210766" y="263359"/>
                  <a:pt x="242071" y="263359"/>
                </a:cubicBezTo>
                <a:cubicBezTo>
                  <a:pt x="269890" y="263360"/>
                  <a:pt x="290463" y="241843"/>
                  <a:pt x="295316" y="215362"/>
                </a:cubicBezTo>
                <a:cubicBezTo>
                  <a:pt x="297689" y="212986"/>
                  <a:pt x="299023" y="209764"/>
                  <a:pt x="299023" y="206407"/>
                </a:cubicBezTo>
                <a:cubicBezTo>
                  <a:pt x="298996" y="203080"/>
                  <a:pt x="297669" y="199896"/>
                  <a:pt x="295316" y="197543"/>
                </a:cubicBezTo>
                <a:cubicBezTo>
                  <a:pt x="290496" y="171021"/>
                  <a:pt x="269917" y="149440"/>
                  <a:pt x="242071" y="149440"/>
                </a:cubicBezTo>
                <a:cubicBezTo>
                  <a:pt x="233779" y="149440"/>
                  <a:pt x="225909" y="151290"/>
                  <a:pt x="218776" y="154520"/>
                </a:cubicBezTo>
                <a:cubicBezTo>
                  <a:pt x="219219" y="153212"/>
                  <a:pt x="219715" y="151929"/>
                  <a:pt x="220050" y="150579"/>
                </a:cubicBezTo>
                <a:cubicBezTo>
                  <a:pt x="222423" y="148205"/>
                  <a:pt x="223764" y="144984"/>
                  <a:pt x="223764" y="141624"/>
                </a:cubicBezTo>
                <a:cubicBezTo>
                  <a:pt x="223764" y="138264"/>
                  <a:pt x="222423" y="135043"/>
                  <a:pt x="220050" y="132669"/>
                </a:cubicBezTo>
                <a:cubicBezTo>
                  <a:pt x="215472" y="114261"/>
                  <a:pt x="201193" y="99322"/>
                  <a:pt x="181452" y="99321"/>
                </a:cubicBezTo>
                <a:cubicBezTo>
                  <a:pt x="171873" y="99321"/>
                  <a:pt x="163031" y="102597"/>
                  <a:pt x="155905" y="108041"/>
                </a:cubicBezTo>
                <a:cubicBezTo>
                  <a:pt x="172744" y="93047"/>
                  <a:pt x="194899" y="83873"/>
                  <a:pt x="219313" y="83873"/>
                </a:cubicBezTo>
                <a:close/>
                <a:moveTo>
                  <a:pt x="181452" y="124656"/>
                </a:moveTo>
                <a:cubicBezTo>
                  <a:pt x="190984" y="124656"/>
                  <a:pt x="198432" y="132094"/>
                  <a:pt x="198432" y="141624"/>
                </a:cubicBezTo>
                <a:cubicBezTo>
                  <a:pt x="198432" y="151154"/>
                  <a:pt x="190984" y="158605"/>
                  <a:pt x="181452" y="158605"/>
                </a:cubicBezTo>
                <a:cubicBezTo>
                  <a:pt x="171920" y="158605"/>
                  <a:pt x="164485" y="151154"/>
                  <a:pt x="164485" y="141624"/>
                </a:cubicBezTo>
                <a:cubicBezTo>
                  <a:pt x="164485" y="132094"/>
                  <a:pt x="171920" y="124656"/>
                  <a:pt x="181452" y="124656"/>
                </a:cubicBezTo>
                <a:close/>
                <a:moveTo>
                  <a:pt x="242071" y="174774"/>
                </a:moveTo>
                <a:cubicBezTo>
                  <a:pt x="259681" y="174774"/>
                  <a:pt x="273691" y="188796"/>
                  <a:pt x="273691" y="206407"/>
                </a:cubicBezTo>
                <a:cubicBezTo>
                  <a:pt x="273691" y="224016"/>
                  <a:pt x="259681" y="238025"/>
                  <a:pt x="242071" y="238025"/>
                </a:cubicBezTo>
                <a:cubicBezTo>
                  <a:pt x="224461" y="238025"/>
                  <a:pt x="210451" y="224016"/>
                  <a:pt x="210451" y="206407"/>
                </a:cubicBezTo>
                <a:cubicBezTo>
                  <a:pt x="210451" y="188796"/>
                  <a:pt x="224461" y="174774"/>
                  <a:pt x="242071" y="174774"/>
                </a:cubicBezTo>
                <a:close/>
              </a:path>
            </a:pathLst>
          </a:custGeom>
          <a:solidFill>
            <a:srgbClr val="15b2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TextBox 3"/>
          <p:cNvSpPr/>
          <p:nvPr/>
        </p:nvSpPr>
        <p:spPr>
          <a:xfrm>
            <a:off x="1058760" y="48096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1793" name="Rectangle 5"/>
          <p:cNvSpPr/>
          <p:nvPr/>
        </p:nvSpPr>
        <p:spPr>
          <a:xfrm>
            <a:off x="6095880" y="2151000"/>
            <a:ext cx="827280" cy="396864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4" name="Group 6"/>
          <p:cNvGrpSpPr/>
          <p:nvPr/>
        </p:nvGrpSpPr>
        <p:grpSpPr>
          <a:xfrm>
            <a:off x="6310440" y="2771640"/>
            <a:ext cx="412200" cy="2726280"/>
            <a:chOff x="6310440" y="2771640"/>
            <a:chExt cx="412200" cy="2726280"/>
          </a:xfrm>
        </p:grpSpPr>
        <p:sp>
          <p:nvSpPr>
            <p:cNvPr id="1795" name="TextBox 7"/>
            <p:cNvSpPr/>
            <p:nvPr/>
          </p:nvSpPr>
          <p:spPr>
            <a:xfrm>
              <a:off x="6310440" y="277164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ontserrat"/>
                </a:rPr>
                <a:t>01</a:t>
              </a:r>
              <a:endParaRPr b="0" lang="en-US" sz="1600" spc="-1" strike="noStrike">
                <a:solidFill>
                  <a:srgbClr val="000000"/>
                </a:solidFill>
                <a:latin typeface="Calibri"/>
              </a:endParaRPr>
            </a:p>
          </p:txBody>
        </p:sp>
        <p:sp>
          <p:nvSpPr>
            <p:cNvPr id="1796" name="TextBox 8"/>
            <p:cNvSpPr/>
            <p:nvPr/>
          </p:nvSpPr>
          <p:spPr>
            <a:xfrm>
              <a:off x="6310440" y="5160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ontserrat"/>
                </a:rPr>
                <a:t>02</a:t>
              </a:r>
              <a:endParaRPr b="0" lang="en-US" sz="1600" spc="-1" strike="noStrike">
                <a:solidFill>
                  <a:srgbClr val="000000"/>
                </a:solidFill>
                <a:latin typeface="Calibri"/>
              </a:endParaRPr>
            </a:p>
          </p:txBody>
        </p:sp>
      </p:grpSp>
      <p:sp>
        <p:nvSpPr>
          <p:cNvPr id="1797" name="Straight Connector 9"/>
          <p:cNvSpPr/>
          <p:nvPr/>
        </p:nvSpPr>
        <p:spPr>
          <a:xfrm>
            <a:off x="6516720" y="3502080"/>
            <a:ext cx="0" cy="12668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8" name="Oval 10"/>
          <p:cNvSpPr/>
          <p:nvPr/>
        </p:nvSpPr>
        <p:spPr>
          <a:xfrm>
            <a:off x="6458040" y="37306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9" name="TextBox 11"/>
          <p:cNvSpPr/>
          <p:nvPr/>
        </p:nvSpPr>
        <p:spPr>
          <a:xfrm>
            <a:off x="7736040" y="1181160"/>
            <a:ext cx="3520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Roboto Black"/>
                <a:ea typeface="Roboto Black"/>
              </a:rPr>
              <a:t>Online </a:t>
            </a:r>
            <a:r>
              <a:rPr b="0" i="1" lang="en-GB" sz="3600" spc="-1" strike="noStrike">
                <a:solidFill>
                  <a:srgbClr val="236e96"/>
                </a:solidFill>
                <a:latin typeface="Roboto Black"/>
                <a:ea typeface="Roboto Black"/>
              </a:rPr>
              <a:t>Work</a:t>
            </a:r>
            <a:r>
              <a:rPr b="0" lang="en-GB" sz="3600" spc="-1" strike="noStrike">
                <a:solidFill>
                  <a:srgbClr val="000000"/>
                </a:solidFill>
                <a:latin typeface="Roboto Black"/>
                <a:ea typeface="Roboto Black"/>
              </a:rPr>
              <a:t> Provide Us </a:t>
            </a:r>
            <a:r>
              <a:rPr b="0" i="1" lang="en-GB" sz="3600" spc="-1" strike="noStrike">
                <a:solidFill>
                  <a:srgbClr val="236e96"/>
                </a:solidFill>
                <a:latin typeface="Roboto Black"/>
                <a:ea typeface="Roboto Black"/>
              </a:rPr>
              <a:t>Flexibility</a:t>
            </a:r>
            <a:r>
              <a:rPr b="0" lang="en-GB" sz="3600" spc="-1" strike="noStrike">
                <a:solidFill>
                  <a:srgbClr val="000000"/>
                </a:solidFill>
                <a:latin typeface="Roboto Black"/>
                <a:ea typeface="Roboto Black"/>
              </a:rPr>
              <a:t> Process</a:t>
            </a:r>
            <a:endParaRPr b="0" lang="en-US" sz="3600" spc="-1" strike="noStrike">
              <a:solidFill>
                <a:srgbClr val="000000"/>
              </a:solidFill>
              <a:latin typeface="Calibri"/>
            </a:endParaRPr>
          </a:p>
        </p:txBody>
      </p:sp>
      <p:sp>
        <p:nvSpPr>
          <p:cNvPr id="1800" name="TextBox 12"/>
          <p:cNvSpPr/>
          <p:nvPr/>
        </p:nvSpPr>
        <p:spPr>
          <a:xfrm>
            <a:off x="8145360" y="4792680"/>
            <a:ext cx="270216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spiciatis unde omnis iste natus error sit great ness accusantium doloremque trie as laudantium, totam rem aperiam, eaque ipsa</a:t>
            </a:r>
            <a:r>
              <a:rPr b="0" lang="en-GB" sz="1100" spc="-1" strike="noStrike">
                <a:solidFill>
                  <a:srgbClr val="7f7f7f"/>
                </a:solidFill>
                <a:latin typeface="Lato"/>
              </a:rPr>
              <a:t>.</a:t>
            </a:r>
            <a:endParaRPr b="0" lang="en-US" sz="1100" spc="-1" strike="noStrike">
              <a:solidFill>
                <a:srgbClr val="000000"/>
              </a:solidFill>
              <a:latin typeface="Calibri"/>
            </a:endParaRPr>
          </a:p>
        </p:txBody>
      </p:sp>
      <p:grpSp>
        <p:nvGrpSpPr>
          <p:cNvPr id="1801" name="Group 15"/>
          <p:cNvGrpSpPr/>
          <p:nvPr/>
        </p:nvGrpSpPr>
        <p:grpSpPr>
          <a:xfrm>
            <a:off x="9120240" y="3994200"/>
            <a:ext cx="752400" cy="320760"/>
            <a:chOff x="9120240" y="3994200"/>
            <a:chExt cx="752400" cy="320760"/>
          </a:xfrm>
        </p:grpSpPr>
        <p:sp>
          <p:nvSpPr>
            <p:cNvPr id="1802" name="Rectangle: Rounded Corners 13"/>
            <p:cNvSpPr/>
            <p:nvPr/>
          </p:nvSpPr>
          <p:spPr>
            <a:xfrm>
              <a:off x="9120240" y="3994200"/>
              <a:ext cx="319680" cy="320760"/>
            </a:xfrm>
            <a:custGeom>
              <a:avLst/>
              <a:gdLst>
                <a:gd name="textAreaLeft" fmla="*/ 15480 w 319680"/>
                <a:gd name="textAreaRight" fmla="*/ 304200 w 319680"/>
                <a:gd name="textAreaTop" fmla="*/ 15480 h 320760"/>
                <a:gd name="textAreaBottom" fmla="*/ 305280 h 320760"/>
              </a:gdLst>
              <a:ahLst/>
              <a:rect l="textAreaLeft" t="textAreaTop" r="textAreaRight" b="textAreaBottom"/>
              <a:pathLst>
                <a:path w="21600" h="21673">
                  <a:moveTo>
                    <a:pt x="3600" y="0"/>
                  </a:moveTo>
                  <a:arcTo wR="3600" hR="3600" stAng="16200000" swAng="-5400000"/>
                  <a:lnTo>
                    <a:pt x="0" y="18073"/>
                  </a:lnTo>
                  <a:arcTo wR="3600" hR="3600" stAng="10800000" swAng="-5400000"/>
                  <a:lnTo>
                    <a:pt x="18000" y="21673"/>
                  </a:lnTo>
                  <a:arcTo wR="3600" hR="3600" stAng="5400000" swAng="-5400000"/>
                  <a:lnTo>
                    <a:pt x="21600" y="3600"/>
                  </a:lnTo>
                  <a:arcTo wR="3600" hR="3600" stAng="0" swAng="-5400000"/>
                  <a:close/>
                </a:path>
              </a:pathLst>
            </a:cu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3" name="Rectangle: Rounded Corners 14"/>
            <p:cNvSpPr/>
            <p:nvPr/>
          </p:nvSpPr>
          <p:spPr>
            <a:xfrm>
              <a:off x="9552960" y="3994200"/>
              <a:ext cx="319680" cy="320760"/>
            </a:xfrm>
            <a:custGeom>
              <a:avLst/>
              <a:gdLst>
                <a:gd name="textAreaLeft" fmla="*/ 15480 w 319680"/>
                <a:gd name="textAreaRight" fmla="*/ 304200 w 319680"/>
                <a:gd name="textAreaTop" fmla="*/ 15480 h 320760"/>
                <a:gd name="textAreaBottom" fmla="*/ 305280 h 320760"/>
              </a:gdLst>
              <a:ahLst/>
              <a:rect l="textAreaLeft" t="textAreaTop" r="textAreaRight" b="textAreaBottom"/>
              <a:pathLst>
                <a:path w="21600" h="21673">
                  <a:moveTo>
                    <a:pt x="3600" y="0"/>
                  </a:moveTo>
                  <a:arcTo wR="3600" hR="3600" stAng="16200000" swAng="-5400000"/>
                  <a:lnTo>
                    <a:pt x="0" y="18073"/>
                  </a:lnTo>
                  <a:arcTo wR="3600" hR="3600" stAng="10800000" swAng="-5400000"/>
                  <a:lnTo>
                    <a:pt x="18000" y="21673"/>
                  </a:lnTo>
                  <a:arcTo wR="3600" hR="3600" stAng="5400000" swAng="-5400000"/>
                  <a:lnTo>
                    <a:pt x="21600" y="3600"/>
                  </a:lnTo>
                  <a:arcTo wR="3600" hR="3600" stAng="0" swAng="-5400000"/>
                  <a:close/>
                </a:path>
              </a:pathLst>
            </a:cu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04" name="Group 19" descr=""/>
          <p:cNvPicPr/>
          <p:nvPr/>
        </p:nvPicPr>
        <p:blipFill>
          <a:blip r:embed="rId1"/>
          <a:stretch/>
        </p:blipFill>
        <p:spPr>
          <a:xfrm>
            <a:off x="10387080" y="407880"/>
            <a:ext cx="1218960" cy="220680"/>
          </a:xfrm>
          <a:prstGeom prst="rect">
            <a:avLst/>
          </a:prstGeom>
          <a:ln w="0">
            <a:noFill/>
          </a:ln>
        </p:spPr>
      </p:pic>
      <p:pic>
        <p:nvPicPr>
          <p:cNvPr id="1805" name="Graphic 23" descr=""/>
          <p:cNvPicPr/>
          <p:nvPr/>
        </p:nvPicPr>
        <p:blipFill>
          <a:blip r:embed="rId2"/>
          <a:stretch/>
        </p:blipFill>
        <p:spPr>
          <a:xfrm>
            <a:off x="363600" y="415800"/>
            <a:ext cx="366480" cy="36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Rounded Corners 8"/>
          <p:cNvSpPr/>
          <p:nvPr/>
        </p:nvSpPr>
        <p:spPr>
          <a:xfrm rot="2700000">
            <a:off x="5893560" y="3050280"/>
            <a:ext cx="758880" cy="75744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7" name="L-Shape 9"/>
          <p:cNvSpPr/>
          <p:nvPr/>
        </p:nvSpPr>
        <p:spPr>
          <a:xfrm rot="13500000">
            <a:off x="6130800" y="3322080"/>
            <a:ext cx="212400" cy="212760"/>
          </a:xfrm>
          <a:custGeom>
            <a:avLst/>
            <a:gdLst/>
            <a:ahLst/>
            <a:rect l="l" t="t" r="r" b="b"/>
            <a:pathLst>
              <a:path w="213102" h="213102">
                <a:moveTo>
                  <a:pt x="0" y="0"/>
                </a:moveTo>
                <a:lnTo>
                  <a:pt x="75474" y="0"/>
                </a:lnTo>
                <a:lnTo>
                  <a:pt x="75474" y="137628"/>
                </a:lnTo>
                <a:lnTo>
                  <a:pt x="213102" y="137628"/>
                </a:lnTo>
                <a:lnTo>
                  <a:pt x="213102" y="213102"/>
                </a:lnTo>
                <a:lnTo>
                  <a:pt x="0" y="213102"/>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08" name="TextBox 12"/>
          <p:cNvSpPr/>
          <p:nvPr/>
        </p:nvSpPr>
        <p:spPr>
          <a:xfrm>
            <a:off x="992160" y="1517760"/>
            <a:ext cx="4179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236e96"/>
                </a:solidFill>
                <a:latin typeface="Roboto Black"/>
                <a:ea typeface="Roboto Black"/>
              </a:rPr>
              <a:t>Technology</a:t>
            </a:r>
            <a:r>
              <a:rPr b="0" lang="en-GB" sz="3200" spc="-1" strike="noStrike">
                <a:solidFill>
                  <a:srgbClr val="000000"/>
                </a:solidFill>
                <a:latin typeface="Roboto Black"/>
                <a:ea typeface="Roboto Black"/>
              </a:rPr>
              <a:t> Will Be The </a:t>
            </a:r>
            <a:r>
              <a:rPr b="0" i="1" lang="en-GB" sz="3200" spc="-1" strike="noStrike">
                <a:solidFill>
                  <a:srgbClr val="236e96"/>
                </a:solidFill>
                <a:latin typeface="Roboto Black"/>
                <a:ea typeface="Roboto Black"/>
              </a:rPr>
              <a:t>Most Used Platform</a:t>
            </a:r>
            <a:r>
              <a:rPr b="0" lang="en-GB" sz="3200" spc="-1" strike="noStrike">
                <a:solidFill>
                  <a:srgbClr val="000000"/>
                </a:solidFill>
                <a:latin typeface="Roboto Black"/>
                <a:ea typeface="Roboto Black"/>
              </a:rPr>
              <a:t> At Work</a:t>
            </a:r>
            <a:endParaRPr b="0" lang="en-US" sz="3200" spc="-1" strike="noStrike">
              <a:solidFill>
                <a:srgbClr val="000000"/>
              </a:solidFill>
              <a:latin typeface="Calibri"/>
            </a:endParaRPr>
          </a:p>
        </p:txBody>
      </p:sp>
      <p:sp>
        <p:nvSpPr>
          <p:cNvPr id="1809" name="TextBox 17"/>
          <p:cNvSpPr/>
          <p:nvPr/>
        </p:nvSpPr>
        <p:spPr>
          <a:xfrm>
            <a:off x="1008000" y="4067280"/>
            <a:ext cx="178452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7f7f7f"/>
                </a:solidFill>
                <a:latin typeface="Lato"/>
              </a:rPr>
              <a:t>Sed utera per</a:t>
            </a:r>
            <a:r>
              <a:rPr b="0" lang="en-GB" sz="1100" spc="-1" strike="noStrike">
                <a:solidFill>
                  <a:srgbClr val="7f7f7f"/>
                </a:solidFill>
                <a:latin typeface="Lato"/>
              </a:rPr>
              <a:t> sas</a:t>
            </a:r>
            <a:r>
              <a:rPr b="0" lang="id-ID" sz="1100" spc="-1" strike="noStrike">
                <a:solidFill>
                  <a:srgbClr val="7f7f7f"/>
                </a:solidFill>
                <a:latin typeface="Lato"/>
              </a:rPr>
              <a:t>spici</a:t>
            </a:r>
            <a:r>
              <a:rPr b="0" lang="en-GB" sz="1100" spc="-1" strike="noStrike">
                <a:solidFill>
                  <a:srgbClr val="7f7f7f"/>
                </a:solidFill>
                <a:latin typeface="Lato"/>
              </a:rPr>
              <a:t> </a:t>
            </a:r>
            <a:r>
              <a:rPr b="0" lang="id-ID" sz="1100" spc="-1" strike="noStrike">
                <a:solidFill>
                  <a:srgbClr val="7f7f7f"/>
                </a:solidFill>
                <a:latin typeface="Lato"/>
              </a:rPr>
              <a:t>atis unde omnis iste natus error sit great ness accus</a:t>
            </a:r>
            <a:r>
              <a:rPr b="0" lang="en-GB" sz="1100" spc="-1" strike="noStrike">
                <a:solidFill>
                  <a:srgbClr val="7f7f7f"/>
                </a:solidFill>
                <a:latin typeface="Lato"/>
              </a:rPr>
              <a:t> </a:t>
            </a:r>
            <a:r>
              <a:rPr b="0" lang="id-ID" sz="1100" spc="-1" strike="noStrike">
                <a:solidFill>
                  <a:srgbClr val="7f7f7f"/>
                </a:solidFill>
                <a:latin typeface="Lato"/>
              </a:rPr>
              <a:t>antium doloremque trie as laudantium, totam rem aperiam, eaque ipsa</a:t>
            </a:r>
            <a:r>
              <a:rPr b="0" lang="en-GB" sz="1100" spc="-1" strike="noStrike">
                <a:solidFill>
                  <a:srgbClr val="7f7f7f"/>
                </a:solidFill>
                <a:latin typeface="Lato"/>
              </a:rPr>
              <a:t>.</a:t>
            </a:r>
            <a:endParaRPr b="0" lang="en-US" sz="1100" spc="-1" strike="noStrike">
              <a:solidFill>
                <a:srgbClr val="000000"/>
              </a:solidFill>
              <a:latin typeface="Calibri"/>
            </a:endParaRPr>
          </a:p>
        </p:txBody>
      </p:sp>
      <p:sp>
        <p:nvSpPr>
          <p:cNvPr id="1810" name="Rectangle: Rounded Corners 20"/>
          <p:cNvSpPr/>
          <p:nvPr/>
        </p:nvSpPr>
        <p:spPr>
          <a:xfrm>
            <a:off x="3191040" y="4083120"/>
            <a:ext cx="755640" cy="75564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1" name="Rectangle: Rounded Corners 23"/>
          <p:cNvSpPr/>
          <p:nvPr/>
        </p:nvSpPr>
        <p:spPr>
          <a:xfrm>
            <a:off x="4105440" y="4083120"/>
            <a:ext cx="753840" cy="755640"/>
          </a:xfrm>
          <a:custGeom>
            <a:avLst/>
            <a:gdLst>
              <a:gd name="textAreaLeft" fmla="*/ 36720 w 753840"/>
              <a:gd name="textAreaRight" fmla="*/ 717120 w 753840"/>
              <a:gd name="textAreaTop" fmla="*/ 36720 h 755640"/>
              <a:gd name="textAreaBottom" fmla="*/ 718920 h 755640"/>
            </a:gdLst>
            <a:ahLst/>
            <a:rect l="textAreaLeft" t="textAreaTop" r="textAreaRight" b="textAreaBottom"/>
            <a:pathLst>
              <a:path w="21600" h="21652">
                <a:moveTo>
                  <a:pt x="3600" y="0"/>
                </a:moveTo>
                <a:arcTo wR="3600" hR="3600" stAng="16200000" swAng="-5400000"/>
                <a:lnTo>
                  <a:pt x="0" y="18052"/>
                </a:lnTo>
                <a:arcTo wR="3600" hR="3600" stAng="10800000" swAng="-5400000"/>
                <a:lnTo>
                  <a:pt x="18000" y="21652"/>
                </a:lnTo>
                <a:arcTo wR="3600" hR="3600" stAng="5400000" swAng="-5400000"/>
                <a:lnTo>
                  <a:pt x="21600" y="3600"/>
                </a:lnTo>
                <a:arcTo wR="3600" hR="3600" stAng="0" swAng="-5400000"/>
                <a:close/>
              </a:path>
            </a:pathLst>
          </a:cu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2" name="Rectangle: Rounded Corners 24"/>
          <p:cNvSpPr/>
          <p:nvPr/>
        </p:nvSpPr>
        <p:spPr>
          <a:xfrm>
            <a:off x="3191040" y="5005440"/>
            <a:ext cx="755640" cy="755640"/>
          </a:xfrm>
          <a:prstGeom prst="roundRect">
            <a:avLst>
              <a:gd name="adj" fmla="val 16667"/>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3" name="Rectangle: Rounded Corners 25"/>
          <p:cNvSpPr/>
          <p:nvPr/>
        </p:nvSpPr>
        <p:spPr>
          <a:xfrm>
            <a:off x="4105440" y="5005440"/>
            <a:ext cx="753840" cy="755640"/>
          </a:xfrm>
          <a:custGeom>
            <a:avLst/>
            <a:gdLst>
              <a:gd name="textAreaLeft" fmla="*/ 36720 w 753840"/>
              <a:gd name="textAreaRight" fmla="*/ 717120 w 753840"/>
              <a:gd name="textAreaTop" fmla="*/ 36720 h 755640"/>
              <a:gd name="textAreaBottom" fmla="*/ 718920 h 755640"/>
            </a:gdLst>
            <a:ahLst/>
            <a:rect l="textAreaLeft" t="textAreaTop" r="textAreaRight" b="textAreaBottom"/>
            <a:pathLst>
              <a:path w="21600" h="21652">
                <a:moveTo>
                  <a:pt x="3600" y="0"/>
                </a:moveTo>
                <a:arcTo wR="3600" hR="3600" stAng="16200000" swAng="-5400000"/>
                <a:lnTo>
                  <a:pt x="0" y="18052"/>
                </a:lnTo>
                <a:arcTo wR="3600" hR="3600" stAng="10800000" swAng="-5400000"/>
                <a:lnTo>
                  <a:pt x="18000" y="21652"/>
                </a:lnTo>
                <a:arcTo wR="3600" hR="3600" stAng="5400000" swAng="-5400000"/>
                <a:lnTo>
                  <a:pt x="21600" y="3600"/>
                </a:lnTo>
                <a:arcTo wR="3600" hR="3600" stAng="0" swAng="-5400000"/>
                <a:close/>
              </a:path>
            </a:pathLst>
          </a:custGeom>
          <a:solidFill>
            <a:srgbClr val="ffbe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4" name="TextBox 40"/>
          <p:cNvSpPr/>
          <p:nvPr/>
        </p:nvSpPr>
        <p:spPr>
          <a:xfrm>
            <a:off x="1058760" y="385920"/>
            <a:ext cx="28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ontserrat"/>
              </a:rPr>
              <a:t>COMPANY NAME</a:t>
            </a:r>
            <a:endParaRPr b="0" lang="en-US" sz="1400" spc="-1" strike="noStrike">
              <a:solidFill>
                <a:srgbClr val="000000"/>
              </a:solidFill>
              <a:latin typeface="Calibri"/>
            </a:endParaRPr>
          </a:p>
        </p:txBody>
      </p:sp>
      <p:sp>
        <p:nvSpPr>
          <p:cNvPr id="1815" name="Rectangle 44"/>
          <p:cNvSpPr/>
          <p:nvPr/>
        </p:nvSpPr>
        <p:spPr>
          <a:xfrm>
            <a:off x="11364840" y="2333520"/>
            <a:ext cx="827280" cy="2190960"/>
          </a:xfrm>
          <a:prstGeom prst="rect">
            <a:avLst/>
          </a:prstGeom>
          <a:solidFill>
            <a:srgbClr val="15b2d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16" name="Group 52"/>
          <p:cNvGrpSpPr/>
          <p:nvPr/>
        </p:nvGrpSpPr>
        <p:grpSpPr>
          <a:xfrm>
            <a:off x="11673000" y="2828880"/>
            <a:ext cx="209520" cy="1200240"/>
            <a:chOff x="11673000" y="2828880"/>
            <a:chExt cx="209520" cy="1200240"/>
          </a:xfrm>
        </p:grpSpPr>
        <p:sp>
          <p:nvSpPr>
            <p:cNvPr id="1817" name="Freeform: Shape 53"/>
            <p:cNvSpPr/>
            <p:nvPr/>
          </p:nvSpPr>
          <p:spPr>
            <a:xfrm>
              <a:off x="11673000" y="2828880"/>
              <a:ext cx="209520" cy="168480"/>
            </a:xfrm>
            <a:custGeom>
              <a:avLst/>
              <a:gdLst/>
              <a:ahLst/>
              <a:rect l="l" t="t" r="r" b="b"/>
              <a:pathLst>
                <a:path w="284872" h="228985">
                  <a:moveTo>
                    <a:pt x="238095" y="19069"/>
                  </a:moveTo>
                  <a:cubicBezTo>
                    <a:pt x="207125" y="-16883"/>
                    <a:pt x="130957" y="-3330"/>
                    <a:pt x="136129" y="71103"/>
                  </a:cubicBezTo>
                  <a:cubicBezTo>
                    <a:pt x="136129" y="71103"/>
                    <a:pt x="93556" y="81090"/>
                    <a:pt x="20498" y="16967"/>
                  </a:cubicBezTo>
                  <a:cubicBezTo>
                    <a:pt x="20498" y="16967"/>
                    <a:pt x="8819" y="55654"/>
                    <a:pt x="33522" y="87716"/>
                  </a:cubicBezTo>
                  <a:cubicBezTo>
                    <a:pt x="33522" y="87716"/>
                    <a:pt x="21921" y="89843"/>
                    <a:pt x="9461" y="84243"/>
                  </a:cubicBezTo>
                  <a:cubicBezTo>
                    <a:pt x="9461" y="84243"/>
                    <a:pt x="11037" y="124188"/>
                    <a:pt x="53085" y="137854"/>
                  </a:cubicBezTo>
                  <a:cubicBezTo>
                    <a:pt x="53085" y="137854"/>
                    <a:pt x="41522" y="143109"/>
                    <a:pt x="33113" y="142584"/>
                  </a:cubicBezTo>
                  <a:cubicBezTo>
                    <a:pt x="33113" y="142584"/>
                    <a:pt x="42048" y="173068"/>
                    <a:pt x="79890" y="176222"/>
                  </a:cubicBezTo>
                  <a:cubicBezTo>
                    <a:pt x="79890" y="176222"/>
                    <a:pt x="61495" y="210385"/>
                    <a:pt x="0" y="206706"/>
                  </a:cubicBezTo>
                  <a:cubicBezTo>
                    <a:pt x="77218" y="253969"/>
                    <a:pt x="259204" y="235498"/>
                    <a:pt x="249995" y="58261"/>
                  </a:cubicBezTo>
                  <a:lnTo>
                    <a:pt x="284873" y="29056"/>
                  </a:lnTo>
                  <a:lnTo>
                    <a:pt x="254388" y="35363"/>
                  </a:lnTo>
                  <a:lnTo>
                    <a:pt x="279091" y="6980"/>
                  </a:lnTo>
                  <a:lnTo>
                    <a:pt x="238095" y="190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8" name="Freeform: Shape 54"/>
            <p:cNvSpPr/>
            <p:nvPr/>
          </p:nvSpPr>
          <p:spPr>
            <a:xfrm>
              <a:off x="11725560" y="3318120"/>
              <a:ext cx="104040" cy="218160"/>
            </a:xfrm>
            <a:custGeom>
              <a:avLst/>
              <a:gdLst/>
              <a:ahLst/>
              <a:rect l="l" t="t" r="r" b="b"/>
              <a:pathLst>
                <a:path w="141378" h="296691">
                  <a:moveTo>
                    <a:pt x="84616" y="0"/>
                  </a:moveTo>
                  <a:cubicBezTo>
                    <a:pt x="62843" y="0"/>
                    <a:pt x="33105" y="21479"/>
                    <a:pt x="33105" y="52031"/>
                  </a:cubicBezTo>
                  <a:lnTo>
                    <a:pt x="33105" y="78567"/>
                  </a:lnTo>
                  <a:lnTo>
                    <a:pt x="33105" y="91705"/>
                  </a:lnTo>
                  <a:lnTo>
                    <a:pt x="0" y="91705"/>
                  </a:lnTo>
                  <a:lnTo>
                    <a:pt x="0" y="150061"/>
                  </a:lnTo>
                  <a:lnTo>
                    <a:pt x="33105" y="150061"/>
                  </a:lnTo>
                  <a:lnTo>
                    <a:pt x="33105" y="296692"/>
                  </a:lnTo>
                  <a:lnTo>
                    <a:pt x="88827" y="296692"/>
                  </a:lnTo>
                  <a:lnTo>
                    <a:pt x="88827" y="150061"/>
                  </a:lnTo>
                  <a:lnTo>
                    <a:pt x="139281" y="150061"/>
                  </a:lnTo>
                  <a:lnTo>
                    <a:pt x="139281" y="91705"/>
                  </a:lnTo>
                  <a:lnTo>
                    <a:pt x="88827" y="91705"/>
                  </a:lnTo>
                  <a:lnTo>
                    <a:pt x="88827" y="78567"/>
                  </a:lnTo>
                  <a:lnTo>
                    <a:pt x="88827" y="61495"/>
                  </a:lnTo>
                  <a:cubicBezTo>
                    <a:pt x="88827" y="56187"/>
                    <a:pt x="90423" y="48877"/>
                    <a:pt x="101445" y="48877"/>
                  </a:cubicBezTo>
                  <a:lnTo>
                    <a:pt x="141379" y="48877"/>
                  </a:lnTo>
                  <a:lnTo>
                    <a:pt x="141379" y="0"/>
                  </a:lnTo>
                  <a:lnTo>
                    <a:pt x="8461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19" name="Freeform: Shape 55"/>
            <p:cNvSpPr/>
            <p:nvPr/>
          </p:nvSpPr>
          <p:spPr>
            <a:xfrm>
              <a:off x="11691000" y="3857760"/>
              <a:ext cx="173520" cy="171360"/>
            </a:xfrm>
            <a:custGeom>
              <a:avLst/>
              <a:gdLst/>
              <a:ahLst/>
              <a:rect l="l" t="t" r="r" b="b"/>
              <a:pathLst>
                <a:path w="235575" h="232738">
                  <a:moveTo>
                    <a:pt x="56039" y="0"/>
                  </a:moveTo>
                  <a:cubicBezTo>
                    <a:pt x="25194" y="0"/>
                    <a:pt x="0" y="25193"/>
                    <a:pt x="0" y="56039"/>
                  </a:cubicBezTo>
                  <a:lnTo>
                    <a:pt x="0" y="176685"/>
                  </a:lnTo>
                  <a:cubicBezTo>
                    <a:pt x="0" y="207530"/>
                    <a:pt x="25194" y="232738"/>
                    <a:pt x="56039" y="232738"/>
                  </a:cubicBezTo>
                  <a:lnTo>
                    <a:pt x="179522" y="232738"/>
                  </a:lnTo>
                  <a:cubicBezTo>
                    <a:pt x="210367" y="232738"/>
                    <a:pt x="235575" y="207530"/>
                    <a:pt x="235575" y="176685"/>
                  </a:cubicBezTo>
                  <a:lnTo>
                    <a:pt x="235575" y="56039"/>
                  </a:lnTo>
                  <a:cubicBezTo>
                    <a:pt x="235575" y="25193"/>
                    <a:pt x="210367" y="0"/>
                    <a:pt x="179522" y="0"/>
                  </a:cubicBezTo>
                  <a:lnTo>
                    <a:pt x="56039" y="0"/>
                  </a:lnTo>
                  <a:close/>
                  <a:moveTo>
                    <a:pt x="56039" y="22706"/>
                  </a:moveTo>
                  <a:lnTo>
                    <a:pt x="179522" y="22706"/>
                  </a:lnTo>
                  <a:cubicBezTo>
                    <a:pt x="198156" y="22706"/>
                    <a:pt x="212854" y="37404"/>
                    <a:pt x="212854" y="56039"/>
                  </a:cubicBezTo>
                  <a:lnTo>
                    <a:pt x="212854" y="176685"/>
                  </a:lnTo>
                  <a:cubicBezTo>
                    <a:pt x="212854" y="195319"/>
                    <a:pt x="198156" y="209958"/>
                    <a:pt x="179522" y="209958"/>
                  </a:cubicBezTo>
                  <a:lnTo>
                    <a:pt x="56039" y="209958"/>
                  </a:lnTo>
                  <a:cubicBezTo>
                    <a:pt x="37405" y="209958"/>
                    <a:pt x="22765" y="195319"/>
                    <a:pt x="22765" y="176685"/>
                  </a:cubicBezTo>
                  <a:lnTo>
                    <a:pt x="22765" y="56039"/>
                  </a:lnTo>
                  <a:cubicBezTo>
                    <a:pt x="22765" y="37404"/>
                    <a:pt x="37405" y="22706"/>
                    <a:pt x="56039" y="22706"/>
                  </a:cubicBezTo>
                  <a:close/>
                  <a:moveTo>
                    <a:pt x="180271" y="39902"/>
                  </a:moveTo>
                  <a:cubicBezTo>
                    <a:pt x="171501" y="39898"/>
                    <a:pt x="164388" y="47004"/>
                    <a:pt x="164384" y="55774"/>
                  </a:cubicBezTo>
                  <a:cubicBezTo>
                    <a:pt x="164380" y="64544"/>
                    <a:pt x="171486" y="71657"/>
                    <a:pt x="180257" y="71661"/>
                  </a:cubicBezTo>
                  <a:cubicBezTo>
                    <a:pt x="180262" y="71661"/>
                    <a:pt x="180266" y="71661"/>
                    <a:pt x="180271" y="71661"/>
                  </a:cubicBezTo>
                  <a:cubicBezTo>
                    <a:pt x="189041" y="71657"/>
                    <a:pt x="196147" y="64544"/>
                    <a:pt x="196144" y="55774"/>
                  </a:cubicBezTo>
                  <a:cubicBezTo>
                    <a:pt x="196139" y="47010"/>
                    <a:pt x="189035" y="39906"/>
                    <a:pt x="180271" y="39902"/>
                  </a:cubicBezTo>
                  <a:close/>
                  <a:moveTo>
                    <a:pt x="117810" y="56260"/>
                  </a:moveTo>
                  <a:cubicBezTo>
                    <a:pt x="84731" y="56260"/>
                    <a:pt x="57714" y="83290"/>
                    <a:pt x="57714" y="116369"/>
                  </a:cubicBezTo>
                  <a:cubicBezTo>
                    <a:pt x="57714" y="149448"/>
                    <a:pt x="84731" y="176406"/>
                    <a:pt x="117810" y="176406"/>
                  </a:cubicBezTo>
                  <a:cubicBezTo>
                    <a:pt x="150888" y="176406"/>
                    <a:pt x="177861" y="149448"/>
                    <a:pt x="177861" y="116369"/>
                  </a:cubicBezTo>
                  <a:cubicBezTo>
                    <a:pt x="177861" y="83290"/>
                    <a:pt x="150888" y="56260"/>
                    <a:pt x="117810" y="56260"/>
                  </a:cubicBezTo>
                  <a:close/>
                  <a:moveTo>
                    <a:pt x="117810" y="73322"/>
                  </a:moveTo>
                  <a:cubicBezTo>
                    <a:pt x="141666" y="73322"/>
                    <a:pt x="160812" y="92512"/>
                    <a:pt x="160812" y="116369"/>
                  </a:cubicBezTo>
                  <a:cubicBezTo>
                    <a:pt x="160812" y="140226"/>
                    <a:pt x="141666" y="159358"/>
                    <a:pt x="117810" y="159358"/>
                  </a:cubicBezTo>
                  <a:cubicBezTo>
                    <a:pt x="93953" y="159358"/>
                    <a:pt x="74763" y="140226"/>
                    <a:pt x="74763" y="116369"/>
                  </a:cubicBezTo>
                  <a:cubicBezTo>
                    <a:pt x="74763" y="92512"/>
                    <a:pt x="93953" y="73322"/>
                    <a:pt x="117810" y="733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1820" name="Graphic 21" descr=""/>
          <p:cNvPicPr/>
          <p:nvPr/>
        </p:nvPicPr>
        <p:blipFill>
          <a:blip r:embed="rId1"/>
          <a:stretch/>
        </p:blipFill>
        <p:spPr>
          <a:xfrm>
            <a:off x="363600" y="355680"/>
            <a:ext cx="366480" cy="366480"/>
          </a:xfrm>
          <a:prstGeom prst="rect">
            <a:avLst/>
          </a:prstGeom>
          <a:ln w="0">
            <a:noFill/>
          </a:ln>
        </p:spPr>
      </p:pic>
      <p:sp>
        <p:nvSpPr>
          <p:cNvPr id="1821" name="Freeform: Shape 3"/>
          <p:cNvSpPr/>
          <p:nvPr/>
        </p:nvSpPr>
        <p:spPr>
          <a:xfrm>
            <a:off x="4311720" y="4290840"/>
            <a:ext cx="341280" cy="339840"/>
          </a:xfrm>
          <a:custGeom>
            <a:avLst/>
            <a:gdLst/>
            <a:ahLst/>
            <a:rect l="l" t="t" r="r" b="b"/>
            <a:pathLst>
              <a:path w="711946" h="711944">
                <a:moveTo>
                  <a:pt x="116462" y="1"/>
                </a:moveTo>
                <a:cubicBezTo>
                  <a:pt x="111755" y="49"/>
                  <a:pt x="107255" y="1939"/>
                  <a:pt x="103924" y="5266"/>
                </a:cubicBezTo>
                <a:lnTo>
                  <a:pt x="5270" y="103920"/>
                </a:lnTo>
                <a:cubicBezTo>
                  <a:pt x="1791" y="107401"/>
                  <a:pt x="-112" y="112154"/>
                  <a:pt x="5" y="117073"/>
                </a:cubicBezTo>
                <a:cubicBezTo>
                  <a:pt x="5" y="117073"/>
                  <a:pt x="1377" y="160819"/>
                  <a:pt x="29194" y="228546"/>
                </a:cubicBezTo>
                <a:cubicBezTo>
                  <a:pt x="57010" y="296271"/>
                  <a:pt x="111315" y="389825"/>
                  <a:pt x="216717" y="495227"/>
                </a:cubicBezTo>
                <a:cubicBezTo>
                  <a:pt x="322119" y="600628"/>
                  <a:pt x="415673" y="654933"/>
                  <a:pt x="483396" y="682750"/>
                </a:cubicBezTo>
                <a:cubicBezTo>
                  <a:pt x="551128" y="710567"/>
                  <a:pt x="594867" y="711939"/>
                  <a:pt x="594867" y="711939"/>
                </a:cubicBezTo>
                <a:cubicBezTo>
                  <a:pt x="599792" y="712056"/>
                  <a:pt x="604544" y="710153"/>
                  <a:pt x="608021" y="706674"/>
                </a:cubicBezTo>
                <a:lnTo>
                  <a:pt x="706681" y="608020"/>
                </a:lnTo>
                <a:cubicBezTo>
                  <a:pt x="713701" y="600990"/>
                  <a:pt x="713701" y="589599"/>
                  <a:pt x="706681" y="582570"/>
                </a:cubicBezTo>
                <a:lnTo>
                  <a:pt x="576512" y="452383"/>
                </a:lnTo>
                <a:cubicBezTo>
                  <a:pt x="569483" y="445358"/>
                  <a:pt x="558091" y="445358"/>
                  <a:pt x="551062" y="452383"/>
                </a:cubicBezTo>
                <a:lnTo>
                  <a:pt x="483139" y="520323"/>
                </a:lnTo>
                <a:cubicBezTo>
                  <a:pt x="481501" y="520294"/>
                  <a:pt x="481929" y="520517"/>
                  <a:pt x="477967" y="520044"/>
                </a:cubicBezTo>
                <a:cubicBezTo>
                  <a:pt x="469861" y="519073"/>
                  <a:pt x="457355" y="516627"/>
                  <a:pt x="440943" y="510519"/>
                </a:cubicBezTo>
                <a:cubicBezTo>
                  <a:pt x="408129" y="498302"/>
                  <a:pt x="359600" y="471423"/>
                  <a:pt x="300059" y="411883"/>
                </a:cubicBezTo>
                <a:cubicBezTo>
                  <a:pt x="240521" y="352344"/>
                  <a:pt x="213642" y="303818"/>
                  <a:pt x="201425" y="270998"/>
                </a:cubicBezTo>
                <a:cubicBezTo>
                  <a:pt x="195316" y="254589"/>
                  <a:pt x="192870" y="242081"/>
                  <a:pt x="191900" y="233978"/>
                </a:cubicBezTo>
                <a:cubicBezTo>
                  <a:pt x="191425" y="230018"/>
                  <a:pt x="191651" y="230446"/>
                  <a:pt x="191620" y="228806"/>
                </a:cubicBezTo>
                <a:lnTo>
                  <a:pt x="259558" y="160885"/>
                </a:lnTo>
                <a:cubicBezTo>
                  <a:pt x="266588" y="153855"/>
                  <a:pt x="266588" y="142463"/>
                  <a:pt x="259558" y="135435"/>
                </a:cubicBezTo>
                <a:lnTo>
                  <a:pt x="129374" y="5266"/>
                </a:lnTo>
                <a:cubicBezTo>
                  <a:pt x="125951" y="1848"/>
                  <a:pt x="121298" y="-50"/>
                  <a:pt x="116462" y="1"/>
                </a:cubicBezTo>
                <a:close/>
                <a:moveTo>
                  <a:pt x="116648" y="43440"/>
                </a:moveTo>
                <a:lnTo>
                  <a:pt x="221386" y="148159"/>
                </a:lnTo>
                <a:lnTo>
                  <a:pt x="160683" y="208844"/>
                </a:lnTo>
                <a:cubicBezTo>
                  <a:pt x="157750" y="211772"/>
                  <a:pt x="155916" y="215623"/>
                  <a:pt x="155492" y="219745"/>
                </a:cubicBezTo>
                <a:cubicBezTo>
                  <a:pt x="155492" y="219745"/>
                  <a:pt x="154860" y="227380"/>
                  <a:pt x="156162" y="238256"/>
                </a:cubicBezTo>
                <a:cubicBezTo>
                  <a:pt x="157464" y="249133"/>
                  <a:pt x="160595" y="264478"/>
                  <a:pt x="167697" y="283556"/>
                </a:cubicBezTo>
                <a:cubicBezTo>
                  <a:pt x="181900" y="321712"/>
                  <a:pt x="211977" y="374699"/>
                  <a:pt x="274608" y="437333"/>
                </a:cubicBezTo>
                <a:cubicBezTo>
                  <a:pt x="337244" y="499966"/>
                  <a:pt x="390232" y="530043"/>
                  <a:pt x="428389" y="544247"/>
                </a:cubicBezTo>
                <a:cubicBezTo>
                  <a:pt x="447468" y="551349"/>
                  <a:pt x="462812" y="554479"/>
                  <a:pt x="473690" y="555781"/>
                </a:cubicBezTo>
                <a:cubicBezTo>
                  <a:pt x="484568" y="557083"/>
                  <a:pt x="492197" y="556450"/>
                  <a:pt x="492197" y="556450"/>
                </a:cubicBezTo>
                <a:cubicBezTo>
                  <a:pt x="496321" y="556027"/>
                  <a:pt x="500170" y="554194"/>
                  <a:pt x="503103" y="551260"/>
                </a:cubicBezTo>
                <a:lnTo>
                  <a:pt x="563787" y="490557"/>
                </a:lnTo>
                <a:lnTo>
                  <a:pt x="668505" y="595295"/>
                </a:lnTo>
                <a:lnTo>
                  <a:pt x="588790" y="675011"/>
                </a:lnTo>
                <a:cubicBezTo>
                  <a:pt x="580618" y="674493"/>
                  <a:pt x="551776" y="671919"/>
                  <a:pt x="497074" y="649450"/>
                </a:cubicBezTo>
                <a:cubicBezTo>
                  <a:pt x="433780" y="623455"/>
                  <a:pt x="344417" y="572024"/>
                  <a:pt x="242166" y="469777"/>
                </a:cubicBezTo>
                <a:cubicBezTo>
                  <a:pt x="139920" y="367531"/>
                  <a:pt x="88489" y="278162"/>
                  <a:pt x="62494" y="214871"/>
                </a:cubicBezTo>
                <a:cubicBezTo>
                  <a:pt x="40024" y="160165"/>
                  <a:pt x="37450" y="131329"/>
                  <a:pt x="36933" y="123156"/>
                </a:cubicBezTo>
                <a:lnTo>
                  <a:pt x="116648" y="4344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2" name="Freeform: Shape 4"/>
          <p:cNvSpPr/>
          <p:nvPr/>
        </p:nvSpPr>
        <p:spPr>
          <a:xfrm>
            <a:off x="3419640" y="5227560"/>
            <a:ext cx="298440" cy="312840"/>
          </a:xfrm>
          <a:custGeom>
            <a:avLst/>
            <a:gdLst/>
            <a:ahLst/>
            <a:rect l="l" t="t" r="r" b="b"/>
            <a:pathLst>
              <a:path w="623315" h="653914">
                <a:moveTo>
                  <a:pt x="311629" y="1"/>
                </a:moveTo>
                <a:cubicBezTo>
                  <a:pt x="171202" y="1"/>
                  <a:pt x="56950" y="114253"/>
                  <a:pt x="56950" y="254683"/>
                </a:cubicBezTo>
                <a:cubicBezTo>
                  <a:pt x="56950" y="389056"/>
                  <a:pt x="161573" y="499366"/>
                  <a:pt x="293618" y="508641"/>
                </a:cubicBezTo>
                <a:lnTo>
                  <a:pt x="293618" y="551894"/>
                </a:lnTo>
                <a:lnTo>
                  <a:pt x="164811" y="551894"/>
                </a:lnTo>
                <a:cubicBezTo>
                  <a:pt x="154867" y="551889"/>
                  <a:pt x="146809" y="559942"/>
                  <a:pt x="146799" y="569883"/>
                </a:cubicBezTo>
                <a:cubicBezTo>
                  <a:pt x="146799" y="579824"/>
                  <a:pt x="154857" y="587887"/>
                  <a:pt x="164792" y="587891"/>
                </a:cubicBezTo>
                <a:cubicBezTo>
                  <a:pt x="164801" y="587891"/>
                  <a:pt x="164801" y="587891"/>
                  <a:pt x="164811" y="587891"/>
                </a:cubicBezTo>
                <a:lnTo>
                  <a:pt x="293618" y="587891"/>
                </a:lnTo>
                <a:lnTo>
                  <a:pt x="293618" y="617917"/>
                </a:lnTo>
                <a:lnTo>
                  <a:pt x="17993" y="617917"/>
                </a:lnTo>
                <a:cubicBezTo>
                  <a:pt x="8058" y="617923"/>
                  <a:pt x="9" y="625973"/>
                  <a:pt x="0" y="635907"/>
                </a:cubicBezTo>
                <a:cubicBezTo>
                  <a:pt x="0" y="645847"/>
                  <a:pt x="8049" y="653909"/>
                  <a:pt x="17993" y="653915"/>
                </a:cubicBezTo>
                <a:lnTo>
                  <a:pt x="605323" y="653915"/>
                </a:lnTo>
                <a:cubicBezTo>
                  <a:pt x="615267" y="653909"/>
                  <a:pt x="623316" y="645847"/>
                  <a:pt x="623316" y="635907"/>
                </a:cubicBezTo>
                <a:cubicBezTo>
                  <a:pt x="623306" y="625973"/>
                  <a:pt x="615258" y="617923"/>
                  <a:pt x="605323" y="617917"/>
                </a:cubicBezTo>
                <a:lnTo>
                  <a:pt x="329622" y="617917"/>
                </a:lnTo>
                <a:lnTo>
                  <a:pt x="329622" y="587891"/>
                </a:lnTo>
                <a:lnTo>
                  <a:pt x="458429" y="587891"/>
                </a:lnTo>
                <a:cubicBezTo>
                  <a:pt x="468373" y="587895"/>
                  <a:pt x="476431" y="579840"/>
                  <a:pt x="476440" y="569900"/>
                </a:cubicBezTo>
                <a:cubicBezTo>
                  <a:pt x="476440" y="569894"/>
                  <a:pt x="476440" y="569888"/>
                  <a:pt x="476440" y="569883"/>
                </a:cubicBezTo>
                <a:cubicBezTo>
                  <a:pt x="476431" y="559942"/>
                  <a:pt x="468373" y="551889"/>
                  <a:pt x="458429" y="551894"/>
                </a:cubicBezTo>
                <a:lnTo>
                  <a:pt x="329622" y="551894"/>
                </a:lnTo>
                <a:lnTo>
                  <a:pt x="329622" y="508641"/>
                </a:lnTo>
                <a:cubicBezTo>
                  <a:pt x="459219" y="499497"/>
                  <a:pt x="561327" y="392537"/>
                  <a:pt x="564956" y="261418"/>
                </a:cubicBezTo>
                <a:cubicBezTo>
                  <a:pt x="564956" y="261399"/>
                  <a:pt x="564956" y="261390"/>
                  <a:pt x="564956" y="261361"/>
                </a:cubicBezTo>
                <a:cubicBezTo>
                  <a:pt x="565823" y="259240"/>
                  <a:pt x="566280" y="256973"/>
                  <a:pt x="566290" y="254682"/>
                </a:cubicBezTo>
                <a:cubicBezTo>
                  <a:pt x="566271" y="252336"/>
                  <a:pt x="565795" y="250017"/>
                  <a:pt x="564880" y="247855"/>
                </a:cubicBezTo>
                <a:cubicBezTo>
                  <a:pt x="561032" y="110758"/>
                  <a:pt x="449637" y="0"/>
                  <a:pt x="311629" y="0"/>
                </a:cubicBezTo>
                <a:lnTo>
                  <a:pt x="311629" y="1"/>
                </a:lnTo>
                <a:close/>
                <a:moveTo>
                  <a:pt x="311629" y="35999"/>
                </a:moveTo>
                <a:cubicBezTo>
                  <a:pt x="432606" y="35999"/>
                  <a:pt x="530295" y="133709"/>
                  <a:pt x="530295" y="254683"/>
                </a:cubicBezTo>
                <a:cubicBezTo>
                  <a:pt x="530295" y="375657"/>
                  <a:pt x="432606" y="473349"/>
                  <a:pt x="311629" y="473349"/>
                </a:cubicBezTo>
                <a:cubicBezTo>
                  <a:pt x="190652" y="473349"/>
                  <a:pt x="92945" y="375657"/>
                  <a:pt x="92945" y="254683"/>
                </a:cubicBezTo>
                <a:cubicBezTo>
                  <a:pt x="92945" y="133709"/>
                  <a:pt x="190652" y="35999"/>
                  <a:pt x="311629" y="35999"/>
                </a:cubicBezTo>
                <a:close/>
                <a:moveTo>
                  <a:pt x="311629" y="83178"/>
                </a:moveTo>
                <a:cubicBezTo>
                  <a:pt x="217122" y="83178"/>
                  <a:pt x="140122" y="160179"/>
                  <a:pt x="140122" y="254683"/>
                </a:cubicBezTo>
                <a:cubicBezTo>
                  <a:pt x="140122" y="349188"/>
                  <a:pt x="217122" y="426170"/>
                  <a:pt x="311629" y="426170"/>
                </a:cubicBezTo>
                <a:cubicBezTo>
                  <a:pt x="403641" y="426170"/>
                  <a:pt x="477793" y="352790"/>
                  <a:pt x="481708" y="261715"/>
                </a:cubicBezTo>
                <a:cubicBezTo>
                  <a:pt x="482641" y="259490"/>
                  <a:pt x="483127" y="257099"/>
                  <a:pt x="483117" y="254683"/>
                </a:cubicBezTo>
                <a:cubicBezTo>
                  <a:pt x="483108" y="252312"/>
                  <a:pt x="482622" y="249966"/>
                  <a:pt x="481708" y="247781"/>
                </a:cubicBezTo>
                <a:cubicBezTo>
                  <a:pt x="477860" y="156641"/>
                  <a:pt x="403688" y="83178"/>
                  <a:pt x="311629" y="83178"/>
                </a:cubicBezTo>
                <a:close/>
                <a:moveTo>
                  <a:pt x="311629" y="119176"/>
                </a:moveTo>
                <a:cubicBezTo>
                  <a:pt x="386677" y="119176"/>
                  <a:pt x="447123" y="179635"/>
                  <a:pt x="447123" y="254683"/>
                </a:cubicBezTo>
                <a:cubicBezTo>
                  <a:pt x="447123" y="329732"/>
                  <a:pt x="386677" y="390172"/>
                  <a:pt x="311629" y="390173"/>
                </a:cubicBezTo>
                <a:cubicBezTo>
                  <a:pt x="236582" y="390173"/>
                  <a:pt x="176127" y="329732"/>
                  <a:pt x="176127" y="254683"/>
                </a:cubicBezTo>
                <a:cubicBezTo>
                  <a:pt x="176127" y="220270"/>
                  <a:pt x="188947" y="189015"/>
                  <a:pt x="209941" y="165163"/>
                </a:cubicBezTo>
                <a:cubicBezTo>
                  <a:pt x="202311" y="175245"/>
                  <a:pt x="197720" y="187726"/>
                  <a:pt x="197720" y="201235"/>
                </a:cubicBezTo>
                <a:cubicBezTo>
                  <a:pt x="197720" y="234232"/>
                  <a:pt x="224828" y="261362"/>
                  <a:pt x="257832" y="261362"/>
                </a:cubicBezTo>
                <a:cubicBezTo>
                  <a:pt x="262280" y="261362"/>
                  <a:pt x="266462" y="260656"/>
                  <a:pt x="270500" y="259650"/>
                </a:cubicBezTo>
                <a:cubicBezTo>
                  <a:pt x="265757" y="269918"/>
                  <a:pt x="263042" y="281295"/>
                  <a:pt x="263042" y="293286"/>
                </a:cubicBezTo>
                <a:cubicBezTo>
                  <a:pt x="263042" y="337764"/>
                  <a:pt x="299485" y="374211"/>
                  <a:pt x="343967" y="374211"/>
                </a:cubicBezTo>
                <a:cubicBezTo>
                  <a:pt x="383496" y="374211"/>
                  <a:pt x="412728" y="343638"/>
                  <a:pt x="419624" y="306010"/>
                </a:cubicBezTo>
                <a:cubicBezTo>
                  <a:pt x="422996" y="302635"/>
                  <a:pt x="424891" y="298057"/>
                  <a:pt x="424891" y="293286"/>
                </a:cubicBezTo>
                <a:cubicBezTo>
                  <a:pt x="424853" y="288559"/>
                  <a:pt x="422967" y="284035"/>
                  <a:pt x="419624" y="280691"/>
                </a:cubicBezTo>
                <a:cubicBezTo>
                  <a:pt x="412775" y="243005"/>
                  <a:pt x="383534" y="212342"/>
                  <a:pt x="343967" y="212342"/>
                </a:cubicBezTo>
                <a:cubicBezTo>
                  <a:pt x="332175" y="212342"/>
                  <a:pt x="320992" y="214970"/>
                  <a:pt x="310867" y="219560"/>
                </a:cubicBezTo>
                <a:cubicBezTo>
                  <a:pt x="311487" y="217701"/>
                  <a:pt x="312191" y="215878"/>
                  <a:pt x="312668" y="213960"/>
                </a:cubicBezTo>
                <a:cubicBezTo>
                  <a:pt x="316049" y="210587"/>
                  <a:pt x="317954" y="206010"/>
                  <a:pt x="317954" y="201235"/>
                </a:cubicBezTo>
                <a:cubicBezTo>
                  <a:pt x="317954" y="196462"/>
                  <a:pt x="316049" y="191884"/>
                  <a:pt x="312668" y="188511"/>
                </a:cubicBezTo>
                <a:cubicBezTo>
                  <a:pt x="306162" y="162354"/>
                  <a:pt x="285883" y="141128"/>
                  <a:pt x="257832" y="141128"/>
                </a:cubicBezTo>
                <a:cubicBezTo>
                  <a:pt x="244221" y="141128"/>
                  <a:pt x="231648" y="145782"/>
                  <a:pt x="221532" y="153517"/>
                </a:cubicBezTo>
                <a:cubicBezTo>
                  <a:pt x="245459" y="132212"/>
                  <a:pt x="276939" y="119176"/>
                  <a:pt x="311629" y="119176"/>
                </a:cubicBezTo>
                <a:close/>
                <a:moveTo>
                  <a:pt x="257832" y="177126"/>
                </a:moveTo>
                <a:cubicBezTo>
                  <a:pt x="271367" y="177126"/>
                  <a:pt x="281959" y="187695"/>
                  <a:pt x="281959" y="201235"/>
                </a:cubicBezTo>
                <a:cubicBezTo>
                  <a:pt x="281959" y="214776"/>
                  <a:pt x="271367" y="225364"/>
                  <a:pt x="257832" y="225364"/>
                </a:cubicBezTo>
                <a:cubicBezTo>
                  <a:pt x="244288" y="225364"/>
                  <a:pt x="233715" y="214776"/>
                  <a:pt x="233715" y="201235"/>
                </a:cubicBezTo>
                <a:cubicBezTo>
                  <a:pt x="233715" y="187695"/>
                  <a:pt x="244288" y="177126"/>
                  <a:pt x="257832" y="177126"/>
                </a:cubicBezTo>
                <a:close/>
                <a:moveTo>
                  <a:pt x="343967" y="248339"/>
                </a:moveTo>
                <a:cubicBezTo>
                  <a:pt x="368989" y="248339"/>
                  <a:pt x="388887" y="268264"/>
                  <a:pt x="388887" y="293286"/>
                </a:cubicBezTo>
                <a:cubicBezTo>
                  <a:pt x="388887" y="318308"/>
                  <a:pt x="368989" y="338214"/>
                  <a:pt x="343967" y="338214"/>
                </a:cubicBezTo>
                <a:cubicBezTo>
                  <a:pt x="318945" y="338214"/>
                  <a:pt x="299037" y="318308"/>
                  <a:pt x="299037" y="293286"/>
                </a:cubicBezTo>
                <a:cubicBezTo>
                  <a:pt x="299037" y="268264"/>
                  <a:pt x="318945" y="248339"/>
                  <a:pt x="343967" y="24833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3" name="Freeform: Shape 5"/>
          <p:cNvSpPr/>
          <p:nvPr/>
        </p:nvSpPr>
        <p:spPr>
          <a:xfrm>
            <a:off x="3451320" y="4273560"/>
            <a:ext cx="233280" cy="374760"/>
          </a:xfrm>
          <a:custGeom>
            <a:avLst/>
            <a:gdLst/>
            <a:ahLst/>
            <a:rect l="l" t="t" r="r" b="b"/>
            <a:pathLst>
              <a:path w="488323" h="784900">
                <a:moveTo>
                  <a:pt x="18008" y="0"/>
                </a:moveTo>
                <a:cubicBezTo>
                  <a:pt x="8068" y="-4"/>
                  <a:pt x="7" y="8050"/>
                  <a:pt x="0" y="17990"/>
                </a:cubicBezTo>
                <a:lnTo>
                  <a:pt x="0" y="681744"/>
                </a:lnTo>
                <a:lnTo>
                  <a:pt x="0" y="766893"/>
                </a:lnTo>
                <a:cubicBezTo>
                  <a:pt x="-4" y="776835"/>
                  <a:pt x="8053" y="784897"/>
                  <a:pt x="17995" y="784901"/>
                </a:cubicBezTo>
                <a:cubicBezTo>
                  <a:pt x="18000" y="784901"/>
                  <a:pt x="18004" y="784901"/>
                  <a:pt x="18008" y="784901"/>
                </a:cubicBezTo>
                <a:lnTo>
                  <a:pt x="470315" y="784901"/>
                </a:lnTo>
                <a:cubicBezTo>
                  <a:pt x="480257" y="784905"/>
                  <a:pt x="488320" y="776848"/>
                  <a:pt x="488324" y="766905"/>
                </a:cubicBezTo>
                <a:cubicBezTo>
                  <a:pt x="488324" y="766902"/>
                  <a:pt x="488324" y="766897"/>
                  <a:pt x="488324" y="766893"/>
                </a:cubicBezTo>
                <a:lnTo>
                  <a:pt x="488324" y="681744"/>
                </a:lnTo>
                <a:lnTo>
                  <a:pt x="488324" y="17990"/>
                </a:lnTo>
                <a:cubicBezTo>
                  <a:pt x="488317" y="8050"/>
                  <a:pt x="480255" y="-4"/>
                  <a:pt x="470315" y="0"/>
                </a:cubicBezTo>
                <a:lnTo>
                  <a:pt x="18008" y="0"/>
                </a:lnTo>
                <a:close/>
                <a:moveTo>
                  <a:pt x="35998" y="35998"/>
                </a:moveTo>
                <a:lnTo>
                  <a:pt x="452326" y="35998"/>
                </a:lnTo>
                <a:lnTo>
                  <a:pt x="452326" y="663736"/>
                </a:lnTo>
                <a:lnTo>
                  <a:pt x="35998" y="663736"/>
                </a:lnTo>
                <a:lnTo>
                  <a:pt x="35998" y="35998"/>
                </a:lnTo>
                <a:close/>
                <a:moveTo>
                  <a:pt x="162074" y="76423"/>
                </a:moveTo>
                <a:cubicBezTo>
                  <a:pt x="152132" y="76419"/>
                  <a:pt x="144070" y="84474"/>
                  <a:pt x="144066" y="94415"/>
                </a:cubicBezTo>
                <a:cubicBezTo>
                  <a:pt x="144066" y="94420"/>
                  <a:pt x="144066" y="94426"/>
                  <a:pt x="144066" y="94431"/>
                </a:cubicBezTo>
                <a:cubicBezTo>
                  <a:pt x="144071" y="104372"/>
                  <a:pt x="152133" y="112425"/>
                  <a:pt x="162074" y="112421"/>
                </a:cubicBezTo>
                <a:lnTo>
                  <a:pt x="326249" y="112421"/>
                </a:lnTo>
                <a:cubicBezTo>
                  <a:pt x="336191" y="112425"/>
                  <a:pt x="344253" y="104372"/>
                  <a:pt x="344258" y="94431"/>
                </a:cubicBezTo>
                <a:cubicBezTo>
                  <a:pt x="344263" y="84490"/>
                  <a:pt x="336208" y="76428"/>
                  <a:pt x="326267" y="76423"/>
                </a:cubicBezTo>
                <a:cubicBezTo>
                  <a:pt x="326261" y="76423"/>
                  <a:pt x="326255" y="76423"/>
                  <a:pt x="326249" y="76423"/>
                </a:cubicBezTo>
                <a:lnTo>
                  <a:pt x="162074" y="76423"/>
                </a:lnTo>
                <a:close/>
                <a:moveTo>
                  <a:pt x="35998" y="699753"/>
                </a:moveTo>
                <a:lnTo>
                  <a:pt x="452326" y="699753"/>
                </a:lnTo>
                <a:lnTo>
                  <a:pt x="452326" y="748884"/>
                </a:lnTo>
                <a:lnTo>
                  <a:pt x="35998" y="748884"/>
                </a:lnTo>
                <a:lnTo>
                  <a:pt x="35998" y="6997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4" name="Freeform: Shape 6"/>
          <p:cNvSpPr/>
          <p:nvPr/>
        </p:nvSpPr>
        <p:spPr>
          <a:xfrm>
            <a:off x="4311720" y="5207040"/>
            <a:ext cx="341280" cy="352440"/>
          </a:xfrm>
          <a:custGeom>
            <a:avLst/>
            <a:gdLst/>
            <a:ahLst/>
            <a:rect l="l" t="t" r="r" b="b"/>
            <a:pathLst>
              <a:path w="711698" h="739061">
                <a:moveTo>
                  <a:pt x="356911" y="0"/>
                </a:moveTo>
                <a:cubicBezTo>
                  <a:pt x="249917" y="0"/>
                  <a:pt x="159934" y="38351"/>
                  <a:pt x="97393" y="103640"/>
                </a:cubicBezTo>
                <a:cubicBezTo>
                  <a:pt x="34842" y="168928"/>
                  <a:pt x="0" y="260614"/>
                  <a:pt x="0" y="365355"/>
                </a:cubicBezTo>
                <a:cubicBezTo>
                  <a:pt x="0" y="428304"/>
                  <a:pt x="4867" y="520575"/>
                  <a:pt x="52664" y="598996"/>
                </a:cubicBezTo>
                <a:cubicBezTo>
                  <a:pt x="100460" y="677417"/>
                  <a:pt x="192643" y="739062"/>
                  <a:pt x="354806" y="739062"/>
                </a:cubicBezTo>
                <a:cubicBezTo>
                  <a:pt x="364750" y="739056"/>
                  <a:pt x="372799" y="730994"/>
                  <a:pt x="372799" y="721054"/>
                </a:cubicBezTo>
                <a:cubicBezTo>
                  <a:pt x="372789" y="711121"/>
                  <a:pt x="364741" y="703069"/>
                  <a:pt x="354806" y="703064"/>
                </a:cubicBezTo>
                <a:cubicBezTo>
                  <a:pt x="201463" y="703064"/>
                  <a:pt x="125187" y="648777"/>
                  <a:pt x="83458" y="580300"/>
                </a:cubicBezTo>
                <a:cubicBezTo>
                  <a:pt x="41720" y="511822"/>
                  <a:pt x="35995" y="426240"/>
                  <a:pt x="35995" y="365355"/>
                </a:cubicBezTo>
                <a:cubicBezTo>
                  <a:pt x="35995" y="268561"/>
                  <a:pt x="67847" y="186516"/>
                  <a:pt x="123396" y="128532"/>
                </a:cubicBezTo>
                <a:cubicBezTo>
                  <a:pt x="178946" y="70547"/>
                  <a:pt x="258432" y="35998"/>
                  <a:pt x="356911" y="35998"/>
                </a:cubicBezTo>
                <a:cubicBezTo>
                  <a:pt x="478231" y="35998"/>
                  <a:pt x="556422" y="70400"/>
                  <a:pt x="605523" y="124607"/>
                </a:cubicBezTo>
                <a:cubicBezTo>
                  <a:pt x="654634" y="178813"/>
                  <a:pt x="675694" y="254961"/>
                  <a:pt x="675694" y="342212"/>
                </a:cubicBezTo>
                <a:cubicBezTo>
                  <a:pt x="675694" y="461930"/>
                  <a:pt x="627726" y="512850"/>
                  <a:pt x="580006" y="538181"/>
                </a:cubicBezTo>
                <a:cubicBezTo>
                  <a:pt x="545725" y="556376"/>
                  <a:pt x="517865" y="559110"/>
                  <a:pt x="501196" y="559761"/>
                </a:cubicBezTo>
                <a:lnTo>
                  <a:pt x="501196" y="243929"/>
                </a:lnTo>
                <a:cubicBezTo>
                  <a:pt x="501215" y="243433"/>
                  <a:pt x="501215" y="242937"/>
                  <a:pt x="501196" y="242441"/>
                </a:cubicBezTo>
                <a:lnTo>
                  <a:pt x="501196" y="174873"/>
                </a:lnTo>
                <a:cubicBezTo>
                  <a:pt x="501205" y="164932"/>
                  <a:pt x="493147" y="156870"/>
                  <a:pt x="483203" y="156865"/>
                </a:cubicBezTo>
                <a:cubicBezTo>
                  <a:pt x="483203" y="156865"/>
                  <a:pt x="483194" y="156865"/>
                  <a:pt x="483194" y="156865"/>
                </a:cubicBezTo>
                <a:cubicBezTo>
                  <a:pt x="473250" y="156860"/>
                  <a:pt x="465182" y="164916"/>
                  <a:pt x="465182" y="174857"/>
                </a:cubicBezTo>
                <a:cubicBezTo>
                  <a:pt x="465182" y="174863"/>
                  <a:pt x="465182" y="174867"/>
                  <a:pt x="465182" y="174873"/>
                </a:cubicBezTo>
                <a:lnTo>
                  <a:pt x="465182" y="186203"/>
                </a:lnTo>
                <a:cubicBezTo>
                  <a:pt x="442893" y="168540"/>
                  <a:pt x="407641" y="153926"/>
                  <a:pt x="354806" y="153926"/>
                </a:cubicBezTo>
                <a:cubicBezTo>
                  <a:pt x="290941" y="153926"/>
                  <a:pt x="235953" y="187958"/>
                  <a:pt x="200806" y="239836"/>
                </a:cubicBezTo>
                <a:cubicBezTo>
                  <a:pt x="165659" y="291714"/>
                  <a:pt x="149342" y="361437"/>
                  <a:pt x="159344" y="435657"/>
                </a:cubicBezTo>
                <a:cubicBezTo>
                  <a:pt x="168545" y="504004"/>
                  <a:pt x="206454" y="567033"/>
                  <a:pt x="266700" y="596540"/>
                </a:cubicBezTo>
                <a:cubicBezTo>
                  <a:pt x="320192" y="622740"/>
                  <a:pt x="389839" y="619954"/>
                  <a:pt x="465182" y="573974"/>
                </a:cubicBezTo>
                <a:lnTo>
                  <a:pt x="465182" y="578756"/>
                </a:lnTo>
                <a:cubicBezTo>
                  <a:pt x="465172" y="588275"/>
                  <a:pt x="472573" y="596158"/>
                  <a:pt x="482070" y="596745"/>
                </a:cubicBezTo>
                <a:cubicBezTo>
                  <a:pt x="482070" y="596745"/>
                  <a:pt x="539363" y="600491"/>
                  <a:pt x="596894" y="569956"/>
                </a:cubicBezTo>
                <a:cubicBezTo>
                  <a:pt x="654425" y="539421"/>
                  <a:pt x="711698" y="472052"/>
                  <a:pt x="711698" y="342212"/>
                </a:cubicBezTo>
                <a:cubicBezTo>
                  <a:pt x="711698" y="249154"/>
                  <a:pt x="689172" y="163227"/>
                  <a:pt x="632260" y="100403"/>
                </a:cubicBezTo>
                <a:cubicBezTo>
                  <a:pt x="575348" y="37580"/>
                  <a:pt x="485146" y="0"/>
                  <a:pt x="356911" y="0"/>
                </a:cubicBezTo>
                <a:close/>
                <a:moveTo>
                  <a:pt x="354806" y="189923"/>
                </a:moveTo>
                <a:cubicBezTo>
                  <a:pt x="408651" y="189923"/>
                  <a:pt x="435092" y="205866"/>
                  <a:pt x="449371" y="220228"/>
                </a:cubicBezTo>
                <a:cubicBezTo>
                  <a:pt x="461229" y="232164"/>
                  <a:pt x="464401" y="241936"/>
                  <a:pt x="465182" y="245046"/>
                </a:cubicBezTo>
                <a:lnTo>
                  <a:pt x="465182" y="530889"/>
                </a:lnTo>
                <a:cubicBezTo>
                  <a:pt x="389582" y="584604"/>
                  <a:pt x="328251" y="586593"/>
                  <a:pt x="282512" y="564189"/>
                </a:cubicBezTo>
                <a:cubicBezTo>
                  <a:pt x="235306" y="541067"/>
                  <a:pt x="202825" y="489015"/>
                  <a:pt x="194986" y="430801"/>
                </a:cubicBezTo>
                <a:cubicBezTo>
                  <a:pt x="186081" y="364718"/>
                  <a:pt x="201006" y="303741"/>
                  <a:pt x="230629" y="260022"/>
                </a:cubicBezTo>
                <a:cubicBezTo>
                  <a:pt x="260242" y="216302"/>
                  <a:pt x="303552" y="189923"/>
                  <a:pt x="354806" y="189923"/>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20T06:33:56Z</dcterms:created>
  <dc:creator>Robby Fathur Riza</dc:creator>
  <dc:description/>
  <dc:language>en-US</dc:language>
  <cp:lastModifiedBy>Robby Fathur Riza</cp:lastModifiedBy>
  <dcterms:modified xsi:type="dcterms:W3CDTF">2021-03-12T07:47:40Z</dcterms:modified>
  <cp:revision>147</cp:revision>
  <dc:subject/>
  <dc:title>PowerPoint Presentation</dc:title>
</cp:coreProperties>
</file>