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16B6E-92D3-473F-8C5C-E847996B2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20898-61CD-4C3A-8310-CBD690C2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1315C-D0A6-450F-A9C4-C56197380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6BE1D-6869-42EC-90F1-20F869127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28670-FDA0-4F2B-BEAD-0BD75914C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4BAF9-4A33-41AE-854B-19EEDC3EA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193C3-113D-4ACC-9A77-9F5CA3118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E85B0-5529-4081-8245-36E68A200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6575C-A013-4AAF-ACC9-F0FEDF66F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71128-9926-42D3-A958-F09122865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C2CF2-E23D-4DB4-9771-364989721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7841C-B063-49EA-BAA6-FFA4C47FA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731B1-5AC0-484E-8BC2-10FD36101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0D049-A77A-47F3-AD91-B182E6DED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E4A1C-098F-4028-9B86-579ACB553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76620-1963-4BC4-AEBF-933D744F7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AA513-9570-40A2-BCB7-CABD35CB9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EBB69-3BF3-4E26-B007-0D68A8E8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C8BAA-818D-4161-844A-E0CB1EDD7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5B26A-4346-48DC-A477-D264A0F46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403CA-D18D-43DA-9B7C-DD5432170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ABDB-D8B0-4D85-98A9-1BB338627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2274-7CB1-4010-8069-80DEDD11C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F883F-57A8-4B64-93A2-A1D64E199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D315-C57E-4307-B8D5-8EA06F82FA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6"/>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Picture 7" descr=""/>
          <p:cNvPicPr/>
          <p:nvPr/>
        </p:nvPicPr>
        <p:blipFill>
          <a:blip r:embed="rId2"/>
          <a:stretch/>
        </p:blipFill>
        <p:spPr>
          <a:xfrm>
            <a:off x="8429760" y="514440"/>
            <a:ext cx="2895480" cy="6095880"/>
          </a:xfrm>
          <a:prstGeom prst="rect">
            <a:avLst/>
          </a:prstGeom>
          <a:ln w="0">
            <a:noFill/>
          </a:ln>
        </p:spPr>
      </p:pic>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6"/>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1" name="Группа 49"/>
          <p:cNvGrpSpPr/>
          <p:nvPr/>
        </p:nvGrpSpPr>
        <p:grpSpPr>
          <a:xfrm>
            <a:off x="5737320" y="1131840"/>
            <a:ext cx="2531880" cy="5051520"/>
            <a:chOff x="5737320" y="1131840"/>
            <a:chExt cx="2531880" cy="5051520"/>
          </a:xfrm>
        </p:grpSpPr>
        <p:sp>
          <p:nvSpPr>
            <p:cNvPr id="542" name="Скругленный прямоугольник 50"/>
            <p:cNvSpPr/>
            <p:nvPr/>
          </p:nvSpPr>
          <p:spPr>
            <a:xfrm>
              <a:off x="8088840" y="2045880"/>
              <a:ext cx="180360" cy="487440"/>
            </a:xfrm>
            <a:custGeom>
              <a:avLst/>
              <a:gdLst>
                <a:gd name="textAreaLeft" fmla="*/ 8640 w 180360"/>
                <a:gd name="textAreaRight" fmla="*/ 171720 w 180360"/>
                <a:gd name="textAreaTop" fmla="*/ 8640 h 487440"/>
                <a:gd name="textAreaBottom" fmla="*/ 478800 h 487440"/>
              </a:gdLst>
              <a:ahLst/>
              <a:rect l="textAreaLeft" t="textAreaTop" r="textAreaRight" b="textAreaBottom"/>
              <a:pathLst>
                <a:path w="21600" h="58303">
                  <a:moveTo>
                    <a:pt x="3600" y="0"/>
                  </a:moveTo>
                  <a:arcTo wR="3600" hR="3600" stAng="16200000" swAng="-5400000"/>
                  <a:lnTo>
                    <a:pt x="0" y="54703"/>
                  </a:lnTo>
                  <a:arcTo wR="3600" hR="3600" stAng="10800000" swAng="-5400000"/>
                  <a:lnTo>
                    <a:pt x="18000" y="58303"/>
                  </a:lnTo>
                  <a:arcTo wR="3600" hR="3600" stAng="5400000" swAng="-5400000"/>
                  <a:lnTo>
                    <a:pt x="21600" y="3600"/>
                  </a:lnTo>
                  <a:arcTo wR="3600" hR="3600" stAng="0" swAng="-5400000"/>
                  <a:close/>
                </a:path>
              </a:pathLst>
            </a:custGeom>
            <a:solidFill>
              <a:srgbClr val="0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Скругленный прямоугольник 51"/>
            <p:cNvSpPr/>
            <p:nvPr/>
          </p:nvSpPr>
          <p:spPr>
            <a:xfrm>
              <a:off x="5737320" y="1960200"/>
              <a:ext cx="180360" cy="276120"/>
            </a:xfrm>
            <a:custGeom>
              <a:avLst/>
              <a:gdLst>
                <a:gd name="textAreaLeft" fmla="*/ 8640 w 180360"/>
                <a:gd name="textAreaRight" fmla="*/ 171720 w 180360"/>
                <a:gd name="textAreaTop" fmla="*/ 8640 h 276120"/>
                <a:gd name="textAreaBottom" fmla="*/ 267480 h 276120"/>
              </a:gdLst>
              <a:ahLst/>
              <a:rect l="textAreaLeft" t="textAreaTop" r="textAreaRight" b="textAreaBottom"/>
              <a:pathLst>
                <a:path w="21600" h="33045">
                  <a:moveTo>
                    <a:pt x="3600" y="0"/>
                  </a:moveTo>
                  <a:arcTo wR="3600" hR="3600" stAng="16200000" swAng="-5400000"/>
                  <a:lnTo>
                    <a:pt x="0" y="29445"/>
                  </a:lnTo>
                  <a:arcTo wR="3600" hR="3600" stAng="10800000" swAng="-5400000"/>
                  <a:lnTo>
                    <a:pt x="18000" y="33045"/>
                  </a:lnTo>
                  <a:arcTo wR="3600" hR="3600" stAng="5400000" swAng="-5400000"/>
                  <a:lnTo>
                    <a:pt x="21600" y="3600"/>
                  </a:lnTo>
                  <a:arcTo wR="3600" hR="3600" stAng="0" swAng="-5400000"/>
                  <a:close/>
                </a:path>
              </a:pathLst>
            </a:custGeom>
            <a:solidFill>
              <a:srgbClr val="0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Скругленный прямоугольник 52"/>
            <p:cNvSpPr/>
            <p:nvPr/>
          </p:nvSpPr>
          <p:spPr>
            <a:xfrm>
              <a:off x="5737320" y="2518920"/>
              <a:ext cx="180360" cy="276120"/>
            </a:xfrm>
            <a:custGeom>
              <a:avLst/>
              <a:gdLst>
                <a:gd name="textAreaLeft" fmla="*/ 8640 w 180360"/>
                <a:gd name="textAreaRight" fmla="*/ 171720 w 180360"/>
                <a:gd name="textAreaTop" fmla="*/ 8640 h 276120"/>
                <a:gd name="textAreaBottom" fmla="*/ 267480 h 276120"/>
              </a:gdLst>
              <a:ahLst/>
              <a:rect l="textAreaLeft" t="textAreaTop" r="textAreaRight" b="textAreaBottom"/>
              <a:pathLst>
                <a:path w="21600" h="33045">
                  <a:moveTo>
                    <a:pt x="3600" y="0"/>
                  </a:moveTo>
                  <a:arcTo wR="3600" hR="3600" stAng="16200000" swAng="-5400000"/>
                  <a:lnTo>
                    <a:pt x="0" y="29445"/>
                  </a:lnTo>
                  <a:arcTo wR="3600" hR="3600" stAng="10800000" swAng="-5400000"/>
                  <a:lnTo>
                    <a:pt x="18000" y="33045"/>
                  </a:lnTo>
                  <a:arcTo wR="3600" hR="3600" stAng="5400000" swAng="-5400000"/>
                  <a:lnTo>
                    <a:pt x="21600" y="3600"/>
                  </a:lnTo>
                  <a:arcTo wR="3600" hR="3600" stAng="0" swAng="-5400000"/>
                  <a:close/>
                </a:path>
              </a:pathLst>
            </a:custGeom>
            <a:solidFill>
              <a:srgbClr val="0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Скругленный прямоугольник 53"/>
            <p:cNvSpPr/>
            <p:nvPr/>
          </p:nvSpPr>
          <p:spPr>
            <a:xfrm>
              <a:off x="5737320" y="3030480"/>
              <a:ext cx="180360" cy="276120"/>
            </a:xfrm>
            <a:custGeom>
              <a:avLst/>
              <a:gdLst>
                <a:gd name="textAreaLeft" fmla="*/ 8640 w 180360"/>
                <a:gd name="textAreaRight" fmla="*/ 171720 w 180360"/>
                <a:gd name="textAreaTop" fmla="*/ 8640 h 276120"/>
                <a:gd name="textAreaBottom" fmla="*/ 267480 h 276120"/>
              </a:gdLst>
              <a:ahLst/>
              <a:rect l="textAreaLeft" t="textAreaTop" r="textAreaRight" b="textAreaBottom"/>
              <a:pathLst>
                <a:path w="21600" h="33045">
                  <a:moveTo>
                    <a:pt x="3600" y="0"/>
                  </a:moveTo>
                  <a:arcTo wR="3600" hR="3600" stAng="16200000" swAng="-5400000"/>
                  <a:lnTo>
                    <a:pt x="0" y="29445"/>
                  </a:lnTo>
                  <a:arcTo wR="3600" hR="3600" stAng="10800000" swAng="-5400000"/>
                  <a:lnTo>
                    <a:pt x="18000" y="33045"/>
                  </a:lnTo>
                  <a:arcTo wR="3600" hR="3600" stAng="5400000" swAng="-5400000"/>
                  <a:lnTo>
                    <a:pt x="21600" y="3600"/>
                  </a:lnTo>
                  <a:arcTo wR="3600" hR="3600" stAng="0" swAng="-5400000"/>
                  <a:close/>
                </a:path>
              </a:pathLst>
            </a:custGeom>
            <a:solidFill>
              <a:srgbClr val="0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Скругленный прямоугольник 54"/>
            <p:cNvSpPr/>
            <p:nvPr/>
          </p:nvSpPr>
          <p:spPr>
            <a:xfrm>
              <a:off x="5769000" y="1131840"/>
              <a:ext cx="2466360" cy="5051520"/>
            </a:xfrm>
            <a:custGeom>
              <a:avLst/>
              <a:gdLst>
                <a:gd name="textAreaLeft" fmla="*/ 120240 w 2466360"/>
                <a:gd name="textAreaRight" fmla="*/ 2346120 w 2466360"/>
                <a:gd name="textAreaTop" fmla="*/ 120240 h 5051520"/>
                <a:gd name="textAreaBottom" fmla="*/ 4931280 h 5051520"/>
              </a:gdLst>
              <a:ahLst/>
              <a:rect l="textAreaLeft" t="textAreaTop" r="textAreaRight" b="textAreaBottom"/>
              <a:pathLst>
                <a:path w="21600" h="44237">
                  <a:moveTo>
                    <a:pt x="3600" y="0"/>
                  </a:moveTo>
                  <a:arcTo wR="3600" hR="3600" stAng="16200000" swAng="-5400000"/>
                  <a:lnTo>
                    <a:pt x="0" y="40637"/>
                  </a:lnTo>
                  <a:arcTo wR="3600" hR="3600" stAng="10800000" swAng="-5400000"/>
                  <a:lnTo>
                    <a:pt x="18000" y="44237"/>
                  </a:lnTo>
                  <a:arcTo wR="3600" hR="3600" stAng="5400000" swAng="-5400000"/>
                  <a:lnTo>
                    <a:pt x="21600" y="3600"/>
                  </a:lnTo>
                  <a:arcTo wR="3600" hR="3600" stAng="0" swAng="-5400000"/>
                  <a:close/>
                </a:path>
              </a:pathLst>
            </a:custGeom>
            <a:solidFill>
              <a:srgbClr val="ffffff"/>
            </a:solidFill>
            <a:ln w="1908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7" name="Овал 55"/>
            <p:cNvGrpSpPr/>
            <p:nvPr/>
          </p:nvGrpSpPr>
          <p:grpSpPr>
            <a:xfrm>
              <a:off x="6791040" y="5681520"/>
              <a:ext cx="426600" cy="426600"/>
              <a:chOff x="6791040" y="5681520"/>
              <a:chExt cx="426600" cy="426600"/>
            </a:xfrm>
          </p:grpSpPr>
          <p:pic>
            <p:nvPicPr>
              <p:cNvPr id="548" name="Овал 55" descr=""/>
              <p:cNvPicPr/>
              <p:nvPr/>
            </p:nvPicPr>
            <p:blipFill>
              <a:blip r:embed="rId2"/>
              <a:stretch/>
            </p:blipFill>
            <p:spPr>
              <a:xfrm>
                <a:off x="6791040" y="5681520"/>
                <a:ext cx="426600" cy="426600"/>
              </a:xfrm>
              <a:prstGeom prst="rect">
                <a:avLst/>
              </a:prstGeom>
              <a:ln w="0">
                <a:noFill/>
              </a:ln>
            </p:spPr>
          </p:pic>
          <p:sp>
            <p:nvSpPr>
              <p:cNvPr id="549" name=""/>
              <p:cNvSpPr/>
              <p:nvPr/>
            </p:nvSpPr>
            <p:spPr>
              <a:xfrm>
                <a:off x="6857280" y="5747760"/>
                <a:ext cx="29016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Скругленный прямоугольник 56"/>
            <p:cNvSpPr/>
            <p:nvPr/>
          </p:nvSpPr>
          <p:spPr>
            <a:xfrm>
              <a:off x="6688080" y="1446480"/>
              <a:ext cx="628200" cy="45360"/>
            </a:xfrm>
            <a:prstGeom prst="roundRect">
              <a:avLst>
                <a:gd name="adj" fmla="val 16667"/>
              </a:avLst>
            </a:prstGeom>
            <a:solidFill>
              <a:srgbClr val="000000">
                <a:alpha val="20000"/>
              </a:srgbClr>
            </a:solid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Овал 57"/>
            <p:cNvSpPr/>
            <p:nvPr/>
          </p:nvSpPr>
          <p:spPr>
            <a:xfrm flipH="1">
              <a:off x="6474960" y="1440360"/>
              <a:ext cx="59400" cy="57960"/>
            </a:xfrm>
            <a:prstGeom prst="ellipse">
              <a:avLst/>
            </a:prstGeom>
            <a:solidFill>
              <a:srgbClr val="000000">
                <a:alpha val="20000"/>
              </a:srgbClr>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Овал 58"/>
            <p:cNvSpPr/>
            <p:nvPr/>
          </p:nvSpPr>
          <p:spPr>
            <a:xfrm flipH="1">
              <a:off x="6971760" y="1260000"/>
              <a:ext cx="59400" cy="57960"/>
            </a:xfrm>
            <a:prstGeom prst="ellipse">
              <a:avLst/>
            </a:prstGeom>
            <a:solidFill>
              <a:srgbClr val="000000">
                <a:alpha val="20000"/>
              </a:srgbClr>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3" name="Группа 60"/>
          <p:cNvGrpSpPr/>
          <p:nvPr/>
        </p:nvGrpSpPr>
        <p:grpSpPr>
          <a:xfrm>
            <a:off x="9263160" y="1130400"/>
            <a:ext cx="2530440" cy="5052960"/>
            <a:chOff x="9263160" y="1130400"/>
            <a:chExt cx="2530440" cy="5052960"/>
          </a:xfrm>
        </p:grpSpPr>
        <p:sp>
          <p:nvSpPr>
            <p:cNvPr id="554" name="Скругленный прямоугольник 61"/>
            <p:cNvSpPr/>
            <p:nvPr/>
          </p:nvSpPr>
          <p:spPr>
            <a:xfrm>
              <a:off x="11613600" y="2044800"/>
              <a:ext cx="180000" cy="487440"/>
            </a:xfrm>
            <a:custGeom>
              <a:avLst/>
              <a:gdLst>
                <a:gd name="textAreaLeft" fmla="*/ 8640 w 180000"/>
                <a:gd name="textAreaRight" fmla="*/ 171360 w 180000"/>
                <a:gd name="textAreaTop" fmla="*/ 8640 h 487440"/>
                <a:gd name="textAreaBottom" fmla="*/ 478800 h 487440"/>
              </a:gdLst>
              <a:ahLst/>
              <a:rect l="textAreaLeft" t="textAreaTop" r="textAreaRight" b="textAreaBottom"/>
              <a:pathLst>
                <a:path w="21600" h="58419">
                  <a:moveTo>
                    <a:pt x="3600" y="0"/>
                  </a:moveTo>
                  <a:arcTo wR="3600" hR="3600" stAng="16200000" swAng="-5400000"/>
                  <a:lnTo>
                    <a:pt x="0" y="54819"/>
                  </a:lnTo>
                  <a:arcTo wR="3600" hR="3600" stAng="10800000" swAng="-5400000"/>
                  <a:lnTo>
                    <a:pt x="18000" y="58419"/>
                  </a:lnTo>
                  <a:arcTo wR="3600" hR="3600" stAng="5400000" swAng="-5400000"/>
                  <a:lnTo>
                    <a:pt x="21600" y="3600"/>
                  </a:lnTo>
                  <a:arcTo wR="3600" hR="3600" stAng="0" swAng="-5400000"/>
                  <a:close/>
                </a:path>
              </a:pathLst>
            </a:custGeom>
            <a:solidFill>
              <a:srgbClr val="0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Скругленный прямоугольник 62"/>
            <p:cNvSpPr/>
            <p:nvPr/>
          </p:nvSpPr>
          <p:spPr>
            <a:xfrm>
              <a:off x="9263160" y="1958760"/>
              <a:ext cx="180000" cy="276120"/>
            </a:xfrm>
            <a:custGeom>
              <a:avLst/>
              <a:gdLst>
                <a:gd name="textAreaLeft" fmla="*/ 8640 w 180000"/>
                <a:gd name="textAreaRight" fmla="*/ 171360 w 180000"/>
                <a:gd name="textAreaTop" fmla="*/ 8640 h 276120"/>
                <a:gd name="textAreaBottom" fmla="*/ 267480 h 276120"/>
              </a:gdLst>
              <a:ahLst/>
              <a:rect l="textAreaLeft" t="textAreaTop" r="textAreaRight" b="textAreaBottom"/>
              <a:pathLst>
                <a:path w="21600" h="33111">
                  <a:moveTo>
                    <a:pt x="3600" y="0"/>
                  </a:moveTo>
                  <a:arcTo wR="3600" hR="3600" stAng="16200000" swAng="-5400000"/>
                  <a:lnTo>
                    <a:pt x="0" y="29511"/>
                  </a:lnTo>
                  <a:arcTo wR="3600" hR="3600" stAng="10800000" swAng="-5400000"/>
                  <a:lnTo>
                    <a:pt x="18000" y="33111"/>
                  </a:lnTo>
                  <a:arcTo wR="3600" hR="3600" stAng="5400000" swAng="-5400000"/>
                  <a:lnTo>
                    <a:pt x="21600" y="3600"/>
                  </a:lnTo>
                  <a:arcTo wR="3600" hR="3600" stAng="0" swAng="-5400000"/>
                  <a:close/>
                </a:path>
              </a:pathLst>
            </a:custGeom>
            <a:solidFill>
              <a:srgbClr val="0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Скругленный прямоугольник 63"/>
            <p:cNvSpPr/>
            <p:nvPr/>
          </p:nvSpPr>
          <p:spPr>
            <a:xfrm>
              <a:off x="9263160" y="2517840"/>
              <a:ext cx="180000" cy="276120"/>
            </a:xfrm>
            <a:custGeom>
              <a:avLst/>
              <a:gdLst>
                <a:gd name="textAreaLeft" fmla="*/ 8640 w 180000"/>
                <a:gd name="textAreaRight" fmla="*/ 171360 w 180000"/>
                <a:gd name="textAreaTop" fmla="*/ 8640 h 276120"/>
                <a:gd name="textAreaBottom" fmla="*/ 267480 h 276120"/>
              </a:gdLst>
              <a:ahLst/>
              <a:rect l="textAreaLeft" t="textAreaTop" r="textAreaRight" b="textAreaBottom"/>
              <a:pathLst>
                <a:path w="21600" h="33111">
                  <a:moveTo>
                    <a:pt x="3600" y="0"/>
                  </a:moveTo>
                  <a:arcTo wR="3600" hR="3600" stAng="16200000" swAng="-5400000"/>
                  <a:lnTo>
                    <a:pt x="0" y="29511"/>
                  </a:lnTo>
                  <a:arcTo wR="3600" hR="3600" stAng="10800000" swAng="-5400000"/>
                  <a:lnTo>
                    <a:pt x="18000" y="33111"/>
                  </a:lnTo>
                  <a:arcTo wR="3600" hR="3600" stAng="5400000" swAng="-5400000"/>
                  <a:lnTo>
                    <a:pt x="21600" y="3600"/>
                  </a:lnTo>
                  <a:arcTo wR="3600" hR="3600" stAng="0" swAng="-5400000"/>
                  <a:close/>
                </a:path>
              </a:pathLst>
            </a:custGeom>
            <a:solidFill>
              <a:srgbClr val="0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Скругленный прямоугольник 64"/>
            <p:cNvSpPr/>
            <p:nvPr/>
          </p:nvSpPr>
          <p:spPr>
            <a:xfrm>
              <a:off x="9263160" y="3029400"/>
              <a:ext cx="180000" cy="276120"/>
            </a:xfrm>
            <a:custGeom>
              <a:avLst/>
              <a:gdLst>
                <a:gd name="textAreaLeft" fmla="*/ 8640 w 180000"/>
                <a:gd name="textAreaRight" fmla="*/ 171360 w 180000"/>
                <a:gd name="textAreaTop" fmla="*/ 8640 h 276120"/>
                <a:gd name="textAreaBottom" fmla="*/ 267480 h 276120"/>
              </a:gdLst>
              <a:ahLst/>
              <a:rect l="textAreaLeft" t="textAreaTop" r="textAreaRight" b="textAreaBottom"/>
              <a:pathLst>
                <a:path w="21600" h="33111">
                  <a:moveTo>
                    <a:pt x="3600" y="0"/>
                  </a:moveTo>
                  <a:arcTo wR="3600" hR="3600" stAng="16200000" swAng="-5400000"/>
                  <a:lnTo>
                    <a:pt x="0" y="29511"/>
                  </a:lnTo>
                  <a:arcTo wR="3600" hR="3600" stAng="10800000" swAng="-5400000"/>
                  <a:lnTo>
                    <a:pt x="18000" y="33111"/>
                  </a:lnTo>
                  <a:arcTo wR="3600" hR="3600" stAng="5400000" swAng="-5400000"/>
                  <a:lnTo>
                    <a:pt x="21600" y="3600"/>
                  </a:lnTo>
                  <a:arcTo wR="3600" hR="3600" stAng="0" swAng="-5400000"/>
                  <a:close/>
                </a:path>
              </a:pathLst>
            </a:custGeom>
            <a:solidFill>
              <a:srgbClr val="0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Скругленный прямоугольник 65"/>
            <p:cNvSpPr/>
            <p:nvPr/>
          </p:nvSpPr>
          <p:spPr>
            <a:xfrm>
              <a:off x="9294840" y="1130400"/>
              <a:ext cx="2464920" cy="5052960"/>
            </a:xfrm>
            <a:custGeom>
              <a:avLst/>
              <a:gdLst>
                <a:gd name="textAreaLeft" fmla="*/ 120240 w 2464920"/>
                <a:gd name="textAreaRight" fmla="*/ 2344680 w 2464920"/>
                <a:gd name="textAreaTop" fmla="*/ 120240 h 5052960"/>
                <a:gd name="textAreaBottom" fmla="*/ 4932720 h 5052960"/>
              </a:gdLst>
              <a:ahLst/>
              <a:rect l="textAreaLeft" t="textAreaTop" r="textAreaRight" b="textAreaBottom"/>
              <a:pathLst>
                <a:path w="21600" h="44276">
                  <a:moveTo>
                    <a:pt x="3600" y="0"/>
                  </a:moveTo>
                  <a:arcTo wR="3600" hR="3600" stAng="16200000" swAng="-5400000"/>
                  <a:lnTo>
                    <a:pt x="0" y="40676"/>
                  </a:lnTo>
                  <a:arcTo wR="3600" hR="3600" stAng="10800000" swAng="-5400000"/>
                  <a:lnTo>
                    <a:pt x="18000" y="44276"/>
                  </a:lnTo>
                  <a:arcTo wR="3600" hR="3600" stAng="5400000" swAng="-5400000"/>
                  <a:lnTo>
                    <a:pt x="21600" y="3600"/>
                  </a:lnTo>
                  <a:arcTo wR="3600" hR="3600" stAng="0" swAng="-5400000"/>
                  <a:close/>
                </a:path>
              </a:pathLst>
            </a:custGeom>
            <a:solidFill>
              <a:srgbClr val="ffffff"/>
            </a:solidFill>
            <a:ln w="1908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9" name="Овал 66"/>
            <p:cNvGrpSpPr/>
            <p:nvPr/>
          </p:nvGrpSpPr>
          <p:grpSpPr>
            <a:xfrm>
              <a:off x="10315080" y="5681880"/>
              <a:ext cx="432720" cy="426600"/>
              <a:chOff x="10315080" y="5681880"/>
              <a:chExt cx="432720" cy="426600"/>
            </a:xfrm>
          </p:grpSpPr>
          <p:pic>
            <p:nvPicPr>
              <p:cNvPr id="560" name="Овал 66" descr=""/>
              <p:cNvPicPr/>
              <p:nvPr/>
            </p:nvPicPr>
            <p:blipFill>
              <a:blip r:embed="rId3"/>
              <a:stretch/>
            </p:blipFill>
            <p:spPr>
              <a:xfrm>
                <a:off x="10315080" y="5681880"/>
                <a:ext cx="432720" cy="426600"/>
              </a:xfrm>
              <a:prstGeom prst="rect">
                <a:avLst/>
              </a:prstGeom>
              <a:ln w="0">
                <a:noFill/>
              </a:ln>
            </p:spPr>
          </p:pic>
          <p:sp>
            <p:nvSpPr>
              <p:cNvPr id="561" name=""/>
              <p:cNvSpPr/>
              <p:nvPr/>
            </p:nvSpPr>
            <p:spPr>
              <a:xfrm>
                <a:off x="10382400" y="5747760"/>
                <a:ext cx="29016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2" name="Скругленный прямоугольник 67"/>
            <p:cNvSpPr/>
            <p:nvPr/>
          </p:nvSpPr>
          <p:spPr>
            <a:xfrm>
              <a:off x="10213560" y="1445040"/>
              <a:ext cx="627840" cy="45720"/>
            </a:xfrm>
            <a:prstGeom prst="roundRect">
              <a:avLst>
                <a:gd name="adj" fmla="val 16667"/>
              </a:avLst>
            </a:prstGeom>
            <a:solidFill>
              <a:srgbClr val="000000">
                <a:alpha val="20000"/>
              </a:srgbClr>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Овал 68"/>
            <p:cNvSpPr/>
            <p:nvPr/>
          </p:nvSpPr>
          <p:spPr>
            <a:xfrm flipH="1">
              <a:off x="10000440" y="1438920"/>
              <a:ext cx="59400" cy="57960"/>
            </a:xfrm>
            <a:prstGeom prst="ellipse">
              <a:avLst/>
            </a:prstGeom>
            <a:solidFill>
              <a:srgbClr val="000000">
                <a:alpha val="20000"/>
              </a:srgbClr>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Овал 69"/>
            <p:cNvSpPr/>
            <p:nvPr/>
          </p:nvSpPr>
          <p:spPr>
            <a:xfrm flipH="1">
              <a:off x="10496880" y="1258560"/>
              <a:ext cx="59400" cy="57960"/>
            </a:xfrm>
            <a:prstGeom prst="ellipse">
              <a:avLst/>
            </a:prstGeom>
            <a:solidFill>
              <a:srgbClr val="000000">
                <a:alpha val="20000"/>
              </a:srgbClr>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6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0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2CF6-45C6-4666-BB6E-F53B590427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29.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7.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8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0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19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8" name="Rectangle 3"/>
          <p:cNvSpPr/>
          <p:nvPr/>
        </p:nvSpPr>
        <p:spPr>
          <a:xfrm>
            <a:off x="3096000" y="2644920"/>
            <a:ext cx="59994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ea typeface="Aharoni"/>
              </a:rPr>
              <a:t>STRATEGY</a:t>
            </a:r>
            <a:endParaRPr b="0" lang="en-US" sz="9600" spc="-1" strike="noStrike">
              <a:solidFill>
                <a:srgbClr val="000000"/>
              </a:solidFill>
              <a:latin typeface="Calibri"/>
            </a:endParaRPr>
          </a:p>
        </p:txBody>
      </p:sp>
      <p:grpSp>
        <p:nvGrpSpPr>
          <p:cNvPr id="1099" name="Group 4"/>
          <p:cNvGrpSpPr/>
          <p:nvPr/>
        </p:nvGrpSpPr>
        <p:grpSpPr>
          <a:xfrm>
            <a:off x="8469000" y="255600"/>
            <a:ext cx="3327840" cy="246240"/>
            <a:chOff x="8469000" y="255600"/>
            <a:chExt cx="3327840" cy="246240"/>
          </a:xfrm>
        </p:grpSpPr>
        <p:sp>
          <p:nvSpPr>
            <p:cNvPr id="1100" name="Rectangle 5"/>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101" name="Straight Arrow Connector 6"/>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102" name="Rectangle 8"/>
          <p:cNvSpPr/>
          <p:nvPr/>
        </p:nvSpPr>
        <p:spPr>
          <a:xfrm>
            <a:off x="4021200" y="4213080"/>
            <a:ext cx="4149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ontserrat"/>
              </a:rPr>
              <a:t>BUSINESS TEMPLATE PRESENTATION</a:t>
            </a:r>
            <a:endParaRPr b="0" lang="en-US" sz="1100" spc="-1" strike="noStrike">
              <a:solidFill>
                <a:srgbClr val="000000"/>
              </a:solidFill>
              <a:latin typeface="Calibri"/>
            </a:endParaRPr>
          </a:p>
        </p:txBody>
      </p:sp>
      <p:grpSp>
        <p:nvGrpSpPr>
          <p:cNvPr id="1103" name="Group 15"/>
          <p:cNvGrpSpPr/>
          <p:nvPr/>
        </p:nvGrpSpPr>
        <p:grpSpPr>
          <a:xfrm>
            <a:off x="284040" y="255600"/>
            <a:ext cx="825480" cy="824040"/>
            <a:chOff x="284040" y="255600"/>
            <a:chExt cx="825480" cy="824040"/>
          </a:xfrm>
        </p:grpSpPr>
        <p:sp>
          <p:nvSpPr>
            <p:cNvPr id="1104" name="Frame 13"/>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5" name="Rectangle 14"/>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106"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9" name="Group 10"/>
          <p:cNvGrpSpPr/>
          <p:nvPr/>
        </p:nvGrpSpPr>
        <p:grpSpPr>
          <a:xfrm>
            <a:off x="1006560" y="3105000"/>
            <a:ext cx="10126440" cy="1105200"/>
            <a:chOff x="1006560" y="3105000"/>
            <a:chExt cx="10126440" cy="1105200"/>
          </a:xfrm>
        </p:grpSpPr>
        <p:sp>
          <p:nvSpPr>
            <p:cNvPr id="1240" name="Oval 3"/>
            <p:cNvSpPr/>
            <p:nvPr/>
          </p:nvSpPr>
          <p:spPr>
            <a:xfrm>
              <a:off x="1006560" y="3105000"/>
              <a:ext cx="1104840" cy="110520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1" name="Oval 7"/>
            <p:cNvSpPr/>
            <p:nvPr/>
          </p:nvSpPr>
          <p:spPr>
            <a:xfrm>
              <a:off x="4048560" y="3105000"/>
              <a:ext cx="1104840" cy="110520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2" name="Oval 8"/>
            <p:cNvSpPr/>
            <p:nvPr/>
          </p:nvSpPr>
          <p:spPr>
            <a:xfrm>
              <a:off x="7038360" y="3105000"/>
              <a:ext cx="1104840" cy="110520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Oval 9"/>
            <p:cNvSpPr/>
            <p:nvPr/>
          </p:nvSpPr>
          <p:spPr>
            <a:xfrm>
              <a:off x="10028160" y="3105000"/>
              <a:ext cx="1104840" cy="11052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4" name="Text Placeholder 6"/>
          <p:cNvSpPr/>
          <p:nvPr/>
        </p:nvSpPr>
        <p:spPr>
          <a:xfrm>
            <a:off x="87480" y="5388120"/>
            <a:ext cx="2943000" cy="531720"/>
          </a:xfrm>
          <a:prstGeom prst="rect">
            <a:avLst/>
          </a:prstGeom>
          <a:noFill/>
          <a:ln w="0">
            <a:noFill/>
          </a:ln>
        </p:spPr>
        <p:style>
          <a:lnRef idx="0"/>
          <a:fillRef idx="0"/>
          <a:effectRef idx="0"/>
          <a:fontRef idx="minor"/>
        </p:style>
        <p:txBody>
          <a:bodyPr lIns="90000" rIns="90000" tIns="46800" bIns="46800" anchor="t">
            <a:normAutofit fontScale="8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245" name="Text Placeholder 6"/>
          <p:cNvSpPr/>
          <p:nvPr/>
        </p:nvSpPr>
        <p:spPr>
          <a:xfrm>
            <a:off x="3129120" y="5388120"/>
            <a:ext cx="2943000" cy="531720"/>
          </a:xfrm>
          <a:prstGeom prst="rect">
            <a:avLst/>
          </a:prstGeom>
          <a:noFill/>
          <a:ln w="0">
            <a:noFill/>
          </a:ln>
        </p:spPr>
        <p:style>
          <a:lnRef idx="0"/>
          <a:fillRef idx="0"/>
          <a:effectRef idx="0"/>
          <a:fontRef idx="minor"/>
        </p:style>
        <p:txBody>
          <a:bodyPr lIns="90000" rIns="90000" tIns="46800" bIns="46800" anchor="t">
            <a:normAutofit fontScale="8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246" name="Text Placeholder 6"/>
          <p:cNvSpPr/>
          <p:nvPr/>
        </p:nvSpPr>
        <p:spPr>
          <a:xfrm>
            <a:off x="6119640" y="5388120"/>
            <a:ext cx="2943360" cy="531720"/>
          </a:xfrm>
          <a:prstGeom prst="rect">
            <a:avLst/>
          </a:prstGeom>
          <a:noFill/>
          <a:ln w="0">
            <a:noFill/>
          </a:ln>
        </p:spPr>
        <p:style>
          <a:lnRef idx="0"/>
          <a:fillRef idx="0"/>
          <a:effectRef idx="0"/>
          <a:fontRef idx="minor"/>
        </p:style>
        <p:txBody>
          <a:bodyPr lIns="90000" rIns="90000" tIns="46800" bIns="46800" anchor="t">
            <a:normAutofit fontScale="8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247" name="Text Placeholder 6"/>
          <p:cNvSpPr/>
          <p:nvPr/>
        </p:nvSpPr>
        <p:spPr>
          <a:xfrm>
            <a:off x="9109080" y="5388120"/>
            <a:ext cx="2943360" cy="531720"/>
          </a:xfrm>
          <a:prstGeom prst="rect">
            <a:avLst/>
          </a:prstGeom>
          <a:noFill/>
          <a:ln w="0">
            <a:noFill/>
          </a:ln>
        </p:spPr>
        <p:style>
          <a:lnRef idx="0"/>
          <a:fillRef idx="0"/>
          <a:effectRef idx="0"/>
          <a:fontRef idx="minor"/>
        </p:style>
        <p:txBody>
          <a:bodyPr lIns="90000" rIns="90000" tIns="46800" bIns="46800" anchor="t">
            <a:normAutofit fontScale="8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248" name="Shape 4819"/>
          <p:cNvSpPr/>
          <p:nvPr/>
        </p:nvSpPr>
        <p:spPr>
          <a:xfrm>
            <a:off x="10341000" y="3381480"/>
            <a:ext cx="479520" cy="479160"/>
          </a:xfrm>
          <a:custGeom>
            <a:avLst/>
            <a:gdLst>
              <a:gd name="textAreaLeft" fmla="*/ 0 w 479520"/>
              <a:gd name="textAreaRight" fmla="*/ 479880 w 479520"/>
              <a:gd name="textAreaTop" fmla="*/ 0 h 479160"/>
              <a:gd name="textAreaBottom" fmla="*/ 479520 h 47916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820"/>
          <p:cNvSpPr/>
          <p:nvPr/>
        </p:nvSpPr>
        <p:spPr>
          <a:xfrm>
            <a:off x="7350120" y="3381480"/>
            <a:ext cx="482760" cy="479160"/>
          </a:xfrm>
          <a:custGeom>
            <a:avLst/>
            <a:gdLst>
              <a:gd name="textAreaLeft" fmla="*/ 0 w 482760"/>
              <a:gd name="textAreaRight" fmla="*/ 483120 w 482760"/>
              <a:gd name="textAreaTop" fmla="*/ 0 h 479160"/>
              <a:gd name="textAreaBottom" fmla="*/ 479520 h 47916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821"/>
          <p:cNvSpPr/>
          <p:nvPr/>
        </p:nvSpPr>
        <p:spPr>
          <a:xfrm>
            <a:off x="4361040" y="3454560"/>
            <a:ext cx="479160" cy="406080"/>
          </a:xfrm>
          <a:custGeom>
            <a:avLst/>
            <a:gdLst>
              <a:gd name="textAreaLeft" fmla="*/ 0 w 479160"/>
              <a:gd name="textAreaRight" fmla="*/ 479520 w 479160"/>
              <a:gd name="textAreaTop" fmla="*/ 0 h 406080"/>
              <a:gd name="textAreaBottom" fmla="*/ 406440 h 40608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822"/>
          <p:cNvSpPr/>
          <p:nvPr/>
        </p:nvSpPr>
        <p:spPr>
          <a:xfrm>
            <a:off x="1320840" y="3454560"/>
            <a:ext cx="476280" cy="406080"/>
          </a:xfrm>
          <a:custGeom>
            <a:avLst/>
            <a:gdLst>
              <a:gd name="textAreaLeft" fmla="*/ 0 w 476280"/>
              <a:gd name="textAreaRight" fmla="*/ 476640 w 476280"/>
              <a:gd name="textAreaTop" fmla="*/ 0 h 406080"/>
              <a:gd name="textAreaBottom" fmla="*/ 406440 h 40608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TextBox 19"/>
          <p:cNvSpPr/>
          <p:nvPr/>
        </p:nvSpPr>
        <p:spPr>
          <a:xfrm>
            <a:off x="434880" y="4616280"/>
            <a:ext cx="224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
                <a:ea typeface="Times New Roman"/>
              </a:rPr>
              <a:t>SUBTITLE HERE</a:t>
            </a:r>
            <a:endParaRPr b="0" lang="en-US" sz="1800" spc="-1" strike="noStrike">
              <a:solidFill>
                <a:srgbClr val="000000"/>
              </a:solidFill>
              <a:latin typeface="Calibri"/>
            </a:endParaRPr>
          </a:p>
        </p:txBody>
      </p:sp>
      <p:sp>
        <p:nvSpPr>
          <p:cNvPr id="1253" name="TextBox 20"/>
          <p:cNvSpPr/>
          <p:nvPr/>
        </p:nvSpPr>
        <p:spPr>
          <a:xfrm>
            <a:off x="3476520" y="4616280"/>
            <a:ext cx="22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
                <a:ea typeface="Times New Roman"/>
              </a:rPr>
              <a:t>SUBTITLE HERE</a:t>
            </a:r>
            <a:endParaRPr b="0" lang="en-US" sz="1800" spc="-1" strike="noStrike">
              <a:solidFill>
                <a:srgbClr val="000000"/>
              </a:solidFill>
              <a:latin typeface="Calibri"/>
            </a:endParaRPr>
          </a:p>
        </p:txBody>
      </p:sp>
      <p:sp>
        <p:nvSpPr>
          <p:cNvPr id="1254" name="TextBox 21"/>
          <p:cNvSpPr/>
          <p:nvPr/>
        </p:nvSpPr>
        <p:spPr>
          <a:xfrm>
            <a:off x="6465960" y="4616280"/>
            <a:ext cx="224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
                <a:ea typeface="Times New Roman"/>
              </a:rPr>
              <a:t>SUBTITLE HERE</a:t>
            </a:r>
            <a:endParaRPr b="0" lang="en-US" sz="1800" spc="-1" strike="noStrike">
              <a:solidFill>
                <a:srgbClr val="000000"/>
              </a:solidFill>
              <a:latin typeface="Calibri"/>
            </a:endParaRPr>
          </a:p>
        </p:txBody>
      </p:sp>
      <p:sp>
        <p:nvSpPr>
          <p:cNvPr id="1255" name="TextBox 22"/>
          <p:cNvSpPr/>
          <p:nvPr/>
        </p:nvSpPr>
        <p:spPr>
          <a:xfrm>
            <a:off x="9456840" y="4616280"/>
            <a:ext cx="224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
                <a:ea typeface="Times New Roman"/>
              </a:rPr>
              <a:t>SUBTITLE HERE</a:t>
            </a:r>
            <a:endParaRPr b="0" lang="en-US" sz="1800" spc="-1" strike="noStrike">
              <a:solidFill>
                <a:srgbClr val="000000"/>
              </a:solidFill>
              <a:latin typeface="Calibri"/>
            </a:endParaRPr>
          </a:p>
        </p:txBody>
      </p:sp>
      <p:pic>
        <p:nvPicPr>
          <p:cNvPr id="1256" name="" descr=""/>
          <p:cNvPicPr/>
          <p:nvPr/>
        </p:nvPicPr>
        <p:blipFill>
          <a:blip r:embed="rId1"/>
          <a:stretch/>
        </p:blipFill>
        <p:spPr>
          <a:xfrm>
            <a:off x="-360" y="0"/>
            <a:ext cx="12192120" cy="365760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6"/>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8" name="Group 7"/>
          <p:cNvGrpSpPr/>
          <p:nvPr/>
        </p:nvGrpSpPr>
        <p:grpSpPr>
          <a:xfrm>
            <a:off x="8469000" y="255600"/>
            <a:ext cx="3327840" cy="246240"/>
            <a:chOff x="8469000" y="255600"/>
            <a:chExt cx="3327840" cy="246240"/>
          </a:xfrm>
        </p:grpSpPr>
        <p:sp>
          <p:nvSpPr>
            <p:cNvPr id="1259" name="Rectangle 8"/>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260" name="Straight Arrow Connector 9"/>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261" name="Rectangle 20"/>
          <p:cNvSpPr/>
          <p:nvPr/>
        </p:nvSpPr>
        <p:spPr>
          <a:xfrm>
            <a:off x="6945480" y="1809720"/>
            <a:ext cx="4533840" cy="4172040"/>
          </a:xfrm>
          <a:prstGeom prst="rect">
            <a:avLst/>
          </a:prstGeom>
          <a:gradFill rotWithShape="0">
            <a:gsLst>
              <a:gs pos="0">
                <a:srgbClr val="0070c0">
                  <a:alpha val="80000"/>
                </a:srgbClr>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7262640" y="3776760"/>
            <a:ext cx="3838680" cy="53172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263" name="TextBox 22"/>
          <p:cNvSpPr/>
          <p:nvPr/>
        </p:nvSpPr>
        <p:spPr>
          <a:xfrm>
            <a:off x="7326360" y="3265560"/>
            <a:ext cx="370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Times New Roman"/>
              </a:rPr>
              <a:t>COMPANY WORK</a:t>
            </a:r>
            <a:endParaRPr b="0" lang="en-US" sz="2000" spc="-1" strike="noStrike">
              <a:solidFill>
                <a:srgbClr val="000000"/>
              </a:solidFill>
              <a:latin typeface="Calibri"/>
            </a:endParaRPr>
          </a:p>
        </p:txBody>
      </p:sp>
      <p:grpSp>
        <p:nvGrpSpPr>
          <p:cNvPr id="1264" name="Group 23"/>
          <p:cNvGrpSpPr/>
          <p:nvPr/>
        </p:nvGrpSpPr>
        <p:grpSpPr>
          <a:xfrm>
            <a:off x="284040" y="255600"/>
            <a:ext cx="825480" cy="824040"/>
            <a:chOff x="284040" y="255600"/>
            <a:chExt cx="825480" cy="824040"/>
          </a:xfrm>
        </p:grpSpPr>
        <p:sp>
          <p:nvSpPr>
            <p:cNvPr id="1265" name="Frame 24"/>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6" name="Rectangle 25"/>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267" name="" descr=""/>
          <p:cNvPicPr/>
          <p:nvPr/>
        </p:nvPicPr>
        <p:blipFill>
          <a:blip r:embed="rId1"/>
          <a:stretch/>
        </p:blipFill>
        <p:spPr>
          <a:xfrm>
            <a:off x="781200" y="1809360"/>
            <a:ext cx="2914560" cy="2019240"/>
          </a:xfrm>
          <a:prstGeom prst="rect">
            <a:avLst/>
          </a:prstGeom>
          <a:ln w="0">
            <a:noFill/>
          </a:ln>
        </p:spPr>
      </p:pic>
      <p:pic>
        <p:nvPicPr>
          <p:cNvPr id="1268" name="" descr=""/>
          <p:cNvPicPr/>
          <p:nvPr/>
        </p:nvPicPr>
        <p:blipFill>
          <a:blip r:embed="rId2"/>
          <a:stretch/>
        </p:blipFill>
        <p:spPr>
          <a:xfrm>
            <a:off x="3848040" y="1809360"/>
            <a:ext cx="2914560" cy="2019240"/>
          </a:xfrm>
          <a:prstGeom prst="rect">
            <a:avLst/>
          </a:prstGeom>
          <a:ln w="0">
            <a:noFill/>
          </a:ln>
        </p:spPr>
      </p:pic>
      <p:pic>
        <p:nvPicPr>
          <p:cNvPr id="1269" name="" descr=""/>
          <p:cNvPicPr/>
          <p:nvPr/>
        </p:nvPicPr>
        <p:blipFill>
          <a:blip r:embed="rId3"/>
          <a:stretch/>
        </p:blipFill>
        <p:spPr>
          <a:xfrm>
            <a:off x="3848040" y="3962160"/>
            <a:ext cx="2914560" cy="2019240"/>
          </a:xfrm>
          <a:prstGeom prst="rect">
            <a:avLst/>
          </a:prstGeom>
          <a:ln w="0">
            <a:noFill/>
          </a:ln>
        </p:spPr>
      </p:pic>
      <p:pic>
        <p:nvPicPr>
          <p:cNvPr id="1270" name="" descr=""/>
          <p:cNvPicPr/>
          <p:nvPr/>
        </p:nvPicPr>
        <p:blipFill>
          <a:blip r:embed="rId4"/>
          <a:stretch/>
        </p:blipFill>
        <p:spPr>
          <a:xfrm>
            <a:off x="781200" y="3962160"/>
            <a:ext cx="2914560" cy="2019240"/>
          </a:xfrm>
          <a:prstGeom prst="rect">
            <a:avLst/>
          </a:prstGeom>
          <a:ln w="0">
            <a:noFill/>
          </a:ln>
        </p:spPr>
      </p:pic>
      <p:pic>
        <p:nvPicPr>
          <p:cNvPr id="1271" name="" descr=""/>
          <p:cNvPicPr/>
          <p:nvPr/>
        </p:nvPicPr>
        <p:blipFill>
          <a:blip r:embed="rId5"/>
          <a:stretch/>
        </p:blipFill>
        <p:spPr>
          <a:xfrm>
            <a:off x="6915240" y="1809360"/>
            <a:ext cx="4533840" cy="4172040"/>
          </a:xfrm>
          <a:prstGeom prst="rect">
            <a:avLst/>
          </a:prstGeom>
          <a:ln w="0">
            <a:noFill/>
          </a:ln>
        </p:spPr>
      </p:pic>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3"/>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3" name="Group 4"/>
          <p:cNvGrpSpPr/>
          <p:nvPr/>
        </p:nvGrpSpPr>
        <p:grpSpPr>
          <a:xfrm>
            <a:off x="8469000" y="255600"/>
            <a:ext cx="3327840" cy="246240"/>
            <a:chOff x="8469000" y="255600"/>
            <a:chExt cx="3327840" cy="246240"/>
          </a:xfrm>
        </p:grpSpPr>
        <p:sp>
          <p:nvSpPr>
            <p:cNvPr id="1274" name="Rectangle 5"/>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275" name="Straight Arrow Connector 6"/>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276" name="TextBox 12"/>
          <p:cNvSpPr/>
          <p:nvPr/>
        </p:nvSpPr>
        <p:spPr>
          <a:xfrm>
            <a:off x="3602160" y="779400"/>
            <a:ext cx="4987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Times New Roman"/>
              </a:rPr>
              <a:t>OUR MARKETING</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Times New Roman"/>
              </a:rPr>
              <a:t>TEAM HERE</a:t>
            </a:r>
            <a:endParaRPr b="0" lang="en-US" sz="2000" spc="-1" strike="noStrike">
              <a:solidFill>
                <a:srgbClr val="000000"/>
              </a:solidFill>
              <a:latin typeface="Calibri"/>
            </a:endParaRPr>
          </a:p>
        </p:txBody>
      </p:sp>
      <p:sp>
        <p:nvSpPr>
          <p:cNvPr id="1277" name="Rectangle 13"/>
          <p:cNvSpPr/>
          <p:nvPr/>
        </p:nvSpPr>
        <p:spPr>
          <a:xfrm>
            <a:off x="3602160" y="4095720"/>
            <a:ext cx="2017440" cy="55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Rectangle 14"/>
          <p:cNvSpPr/>
          <p:nvPr/>
        </p:nvSpPr>
        <p:spPr>
          <a:xfrm>
            <a:off x="9126360" y="4095720"/>
            <a:ext cx="2017800" cy="55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TextBox 15"/>
          <p:cNvSpPr/>
          <p:nvPr/>
        </p:nvSpPr>
        <p:spPr>
          <a:xfrm>
            <a:off x="3670200" y="4172040"/>
            <a:ext cx="194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Black"/>
                <a:ea typeface="Times New Roman"/>
              </a:rPr>
              <a:t>JOHNSON</a:t>
            </a:r>
            <a:endParaRPr b="0" lang="en-US" sz="2000" spc="-1" strike="noStrike">
              <a:solidFill>
                <a:srgbClr val="000000"/>
              </a:solidFill>
              <a:latin typeface="Calibri"/>
            </a:endParaRPr>
          </a:p>
        </p:txBody>
      </p:sp>
      <p:sp>
        <p:nvSpPr>
          <p:cNvPr id="1280" name="TextBox 16"/>
          <p:cNvSpPr/>
          <p:nvPr/>
        </p:nvSpPr>
        <p:spPr>
          <a:xfrm>
            <a:off x="9161640" y="4172040"/>
            <a:ext cx="194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Black"/>
                <a:ea typeface="Times New Roman"/>
              </a:rPr>
              <a:t>RICHARD</a:t>
            </a:r>
            <a:endParaRPr b="0" lang="en-US" sz="2000" spc="-1" strike="noStrike">
              <a:solidFill>
                <a:srgbClr val="000000"/>
              </a:solidFill>
              <a:latin typeface="Calibri"/>
            </a:endParaRPr>
          </a:p>
        </p:txBody>
      </p:sp>
      <p:sp>
        <p:nvSpPr>
          <p:cNvPr id="1281" name="Text Placeholder 6"/>
          <p:cNvSpPr/>
          <p:nvPr/>
        </p:nvSpPr>
        <p:spPr>
          <a:xfrm>
            <a:off x="1047600" y="5051520"/>
            <a:ext cx="4572000" cy="53172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a:t>
            </a:r>
            <a:endParaRPr b="0" lang="en-US" sz="1000" spc="-1" strike="noStrike">
              <a:solidFill>
                <a:srgbClr val="000000"/>
              </a:solidFill>
              <a:latin typeface="Calibri"/>
            </a:endParaRPr>
          </a:p>
        </p:txBody>
      </p:sp>
      <p:sp>
        <p:nvSpPr>
          <p:cNvPr id="1282" name="Text Placeholder 6"/>
          <p:cNvSpPr/>
          <p:nvPr/>
        </p:nvSpPr>
        <p:spPr>
          <a:xfrm>
            <a:off x="6539040" y="5051520"/>
            <a:ext cx="4572000" cy="53172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a:t>
            </a:r>
            <a:endParaRPr b="0" lang="en-US" sz="1000" spc="-1" strike="noStrike">
              <a:solidFill>
                <a:srgbClr val="000000"/>
              </a:solidFill>
              <a:latin typeface="Calibri"/>
            </a:endParaRPr>
          </a:p>
        </p:txBody>
      </p:sp>
      <p:grpSp>
        <p:nvGrpSpPr>
          <p:cNvPr id="1283" name="Group 19"/>
          <p:cNvGrpSpPr/>
          <p:nvPr/>
        </p:nvGrpSpPr>
        <p:grpSpPr>
          <a:xfrm>
            <a:off x="1047600" y="5788080"/>
            <a:ext cx="3327480" cy="396720"/>
            <a:chOff x="1047600" y="5788080"/>
            <a:chExt cx="3327480" cy="396720"/>
          </a:xfrm>
        </p:grpSpPr>
        <p:grpSp>
          <p:nvGrpSpPr>
            <p:cNvPr id="1284" name="Group 20"/>
            <p:cNvGrpSpPr/>
            <p:nvPr/>
          </p:nvGrpSpPr>
          <p:grpSpPr>
            <a:xfrm>
              <a:off x="1107000" y="6125760"/>
              <a:ext cx="3268080" cy="59040"/>
              <a:chOff x="1107000" y="6125760"/>
              <a:chExt cx="3268080" cy="59040"/>
            </a:xfrm>
          </p:grpSpPr>
          <p:sp>
            <p:nvSpPr>
              <p:cNvPr id="1285" name="Rectangle 23"/>
              <p:cNvSpPr/>
              <p:nvPr/>
            </p:nvSpPr>
            <p:spPr>
              <a:xfrm>
                <a:off x="1107000" y="6125760"/>
                <a:ext cx="3268080" cy="59040"/>
              </a:xfrm>
              <a:prstGeom prst="rect">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6" name="Rectangle 24"/>
              <p:cNvSpPr/>
              <p:nvPr/>
            </p:nvSpPr>
            <p:spPr>
              <a:xfrm>
                <a:off x="2464200" y="6125760"/>
                <a:ext cx="1910880" cy="59040"/>
              </a:xfrm>
              <a:prstGeom prst="rect">
                <a:avLst/>
              </a:prstGeom>
              <a:solidFill>
                <a:srgbClr val="0070c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7" name="TextBox 21"/>
            <p:cNvSpPr/>
            <p:nvPr/>
          </p:nvSpPr>
          <p:spPr>
            <a:xfrm>
              <a:off x="1047600" y="5788080"/>
              <a:ext cx="325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SKILL WORK</a:t>
              </a:r>
              <a:endParaRPr b="0" lang="en-US" sz="1600" spc="-1" strike="noStrike">
                <a:solidFill>
                  <a:srgbClr val="000000"/>
                </a:solidFill>
                <a:latin typeface="Calibri"/>
              </a:endParaRPr>
            </a:p>
          </p:txBody>
        </p:sp>
        <p:sp>
          <p:nvSpPr>
            <p:cNvPr id="1288" name="TextBox 22"/>
            <p:cNvSpPr/>
            <p:nvPr/>
          </p:nvSpPr>
          <p:spPr>
            <a:xfrm>
              <a:off x="3408840" y="5801040"/>
              <a:ext cx="96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95%</a:t>
              </a:r>
              <a:endParaRPr b="0" lang="en-US" sz="1600" spc="-1" strike="noStrike">
                <a:solidFill>
                  <a:srgbClr val="000000"/>
                </a:solidFill>
                <a:latin typeface="Calibri"/>
              </a:endParaRPr>
            </a:p>
          </p:txBody>
        </p:sp>
      </p:grpSp>
      <p:grpSp>
        <p:nvGrpSpPr>
          <p:cNvPr id="1289" name="Group 25"/>
          <p:cNvGrpSpPr/>
          <p:nvPr/>
        </p:nvGrpSpPr>
        <p:grpSpPr>
          <a:xfrm>
            <a:off x="6572160" y="5788080"/>
            <a:ext cx="3327480" cy="396720"/>
            <a:chOff x="6572160" y="5788080"/>
            <a:chExt cx="3327480" cy="396720"/>
          </a:xfrm>
        </p:grpSpPr>
        <p:grpSp>
          <p:nvGrpSpPr>
            <p:cNvPr id="1290" name="Group 26"/>
            <p:cNvGrpSpPr/>
            <p:nvPr/>
          </p:nvGrpSpPr>
          <p:grpSpPr>
            <a:xfrm>
              <a:off x="6631560" y="6125760"/>
              <a:ext cx="3268080" cy="59040"/>
              <a:chOff x="6631560" y="6125760"/>
              <a:chExt cx="3268080" cy="59040"/>
            </a:xfrm>
          </p:grpSpPr>
          <p:sp>
            <p:nvSpPr>
              <p:cNvPr id="1291" name="Rectangle 29"/>
              <p:cNvSpPr/>
              <p:nvPr/>
            </p:nvSpPr>
            <p:spPr>
              <a:xfrm>
                <a:off x="6631560" y="6125760"/>
                <a:ext cx="3268080" cy="59040"/>
              </a:xfrm>
              <a:prstGeom prst="rect">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2" name="Rectangle 30"/>
              <p:cNvSpPr/>
              <p:nvPr/>
            </p:nvSpPr>
            <p:spPr>
              <a:xfrm>
                <a:off x="7988760" y="6125760"/>
                <a:ext cx="1910880" cy="59040"/>
              </a:xfrm>
              <a:prstGeom prst="rect">
                <a:avLst/>
              </a:prstGeom>
              <a:solidFill>
                <a:srgbClr val="0070c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3" name="TextBox 27"/>
            <p:cNvSpPr/>
            <p:nvPr/>
          </p:nvSpPr>
          <p:spPr>
            <a:xfrm>
              <a:off x="6572160" y="5788080"/>
              <a:ext cx="325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SKILL WORK</a:t>
              </a:r>
              <a:endParaRPr b="0" lang="en-US" sz="1600" spc="-1" strike="noStrike">
                <a:solidFill>
                  <a:srgbClr val="000000"/>
                </a:solidFill>
                <a:latin typeface="Calibri"/>
              </a:endParaRPr>
            </a:p>
          </p:txBody>
        </p:sp>
        <p:sp>
          <p:nvSpPr>
            <p:cNvPr id="1294" name="TextBox 28"/>
            <p:cNvSpPr/>
            <p:nvPr/>
          </p:nvSpPr>
          <p:spPr>
            <a:xfrm>
              <a:off x="8933400" y="5801040"/>
              <a:ext cx="96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95%</a:t>
              </a:r>
              <a:endParaRPr b="0" lang="en-US" sz="1600" spc="-1" strike="noStrike">
                <a:solidFill>
                  <a:srgbClr val="000000"/>
                </a:solidFill>
                <a:latin typeface="Calibri"/>
              </a:endParaRPr>
            </a:p>
          </p:txBody>
        </p:sp>
      </p:grpSp>
      <p:grpSp>
        <p:nvGrpSpPr>
          <p:cNvPr id="1295" name="Group 31"/>
          <p:cNvGrpSpPr/>
          <p:nvPr/>
        </p:nvGrpSpPr>
        <p:grpSpPr>
          <a:xfrm>
            <a:off x="284040" y="255600"/>
            <a:ext cx="825480" cy="824040"/>
            <a:chOff x="284040" y="255600"/>
            <a:chExt cx="825480" cy="824040"/>
          </a:xfrm>
        </p:grpSpPr>
        <p:sp>
          <p:nvSpPr>
            <p:cNvPr id="1296" name="Frame 32"/>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7" name="Rectangle 33"/>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298" name="" descr=""/>
          <p:cNvPicPr/>
          <p:nvPr/>
        </p:nvPicPr>
        <p:blipFill>
          <a:blip r:embed="rId1"/>
          <a:stretch/>
        </p:blipFill>
        <p:spPr>
          <a:xfrm>
            <a:off x="1047600" y="1885680"/>
            <a:ext cx="4572000" cy="2762280"/>
          </a:xfrm>
          <a:prstGeom prst="rect">
            <a:avLst/>
          </a:prstGeom>
          <a:ln w="0">
            <a:noFill/>
          </a:ln>
        </p:spPr>
      </p:pic>
      <p:pic>
        <p:nvPicPr>
          <p:cNvPr id="1299" name="" descr=""/>
          <p:cNvPicPr/>
          <p:nvPr/>
        </p:nvPicPr>
        <p:blipFill>
          <a:blip r:embed="rId2"/>
          <a:stretch/>
        </p:blipFill>
        <p:spPr>
          <a:xfrm>
            <a:off x="6572160" y="1885680"/>
            <a:ext cx="4572000" cy="2762280"/>
          </a:xfrm>
          <a:prstGeom prst="rect">
            <a:avLst/>
          </a:prstGeom>
          <a:ln w="0">
            <a:noFill/>
          </a:ln>
        </p:spPr>
      </p:pic>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7"/>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01" name="Group 8"/>
          <p:cNvGrpSpPr/>
          <p:nvPr/>
        </p:nvGrpSpPr>
        <p:grpSpPr>
          <a:xfrm>
            <a:off x="8469000" y="255600"/>
            <a:ext cx="3327840" cy="246240"/>
            <a:chOff x="8469000" y="255600"/>
            <a:chExt cx="3327840" cy="246240"/>
          </a:xfrm>
        </p:grpSpPr>
        <p:sp>
          <p:nvSpPr>
            <p:cNvPr id="1302" name="Rectangle 9"/>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303" name="Straight Arrow Connector 10"/>
            <p:cNvCxnSpPr/>
            <p:nvPr/>
          </p:nvCxnSpPr>
          <p:spPr>
            <a:xfrm>
              <a:off x="10269000" y="423000"/>
              <a:ext cx="1528200" cy="1080"/>
            </a:xfrm>
            <a:prstGeom prst="straightConnector1">
              <a:avLst/>
            </a:prstGeom>
            <a:ln w="3240">
              <a:solidFill>
                <a:srgbClr val="ffffff"/>
              </a:solidFill>
              <a:miter/>
              <a:tailEnd len="med" type="triangle" w="med"/>
            </a:ln>
          </p:spPr>
        </p:cxnSp>
      </p:grpSp>
      <p:grpSp>
        <p:nvGrpSpPr>
          <p:cNvPr id="1304" name="Group 17"/>
          <p:cNvGrpSpPr/>
          <p:nvPr/>
        </p:nvGrpSpPr>
        <p:grpSpPr>
          <a:xfrm>
            <a:off x="284040" y="255600"/>
            <a:ext cx="825480" cy="824040"/>
            <a:chOff x="284040" y="255600"/>
            <a:chExt cx="825480" cy="824040"/>
          </a:xfrm>
        </p:grpSpPr>
        <p:sp>
          <p:nvSpPr>
            <p:cNvPr id="1305" name="Frame 18"/>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6" name="Rectangle 19"/>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307" name="" descr=""/>
          <p:cNvPicPr/>
          <p:nvPr/>
        </p:nvPicPr>
        <p:blipFill>
          <a:blip r:embed="rId1"/>
          <a:stretch/>
        </p:blipFill>
        <p:spPr>
          <a:xfrm>
            <a:off x="990720" y="1066320"/>
            <a:ext cx="3047760" cy="1924200"/>
          </a:xfrm>
          <a:prstGeom prst="rect">
            <a:avLst/>
          </a:prstGeom>
          <a:ln w="0">
            <a:noFill/>
          </a:ln>
        </p:spPr>
      </p:pic>
      <p:pic>
        <p:nvPicPr>
          <p:cNvPr id="1308" name="" descr=""/>
          <p:cNvPicPr/>
          <p:nvPr/>
        </p:nvPicPr>
        <p:blipFill>
          <a:blip r:embed="rId2"/>
          <a:stretch/>
        </p:blipFill>
        <p:spPr>
          <a:xfrm>
            <a:off x="990720" y="3142800"/>
            <a:ext cx="3047760" cy="2933640"/>
          </a:xfrm>
          <a:prstGeom prst="rect">
            <a:avLst/>
          </a:prstGeom>
          <a:ln w="0">
            <a:noFill/>
          </a:ln>
        </p:spPr>
      </p:pic>
      <p:pic>
        <p:nvPicPr>
          <p:cNvPr id="1309" name="" descr=""/>
          <p:cNvPicPr/>
          <p:nvPr/>
        </p:nvPicPr>
        <p:blipFill>
          <a:blip r:embed="rId3"/>
          <a:stretch/>
        </p:blipFill>
        <p:spPr>
          <a:xfrm>
            <a:off x="4190760" y="3867120"/>
            <a:ext cx="3771720" cy="2209680"/>
          </a:xfrm>
          <a:prstGeom prst="rect">
            <a:avLst/>
          </a:prstGeom>
          <a:ln w="0">
            <a:noFill/>
          </a:ln>
        </p:spPr>
      </p:pic>
      <p:pic>
        <p:nvPicPr>
          <p:cNvPr id="1310" name="" descr=""/>
          <p:cNvPicPr/>
          <p:nvPr/>
        </p:nvPicPr>
        <p:blipFill>
          <a:blip r:embed="rId4"/>
          <a:stretch/>
        </p:blipFill>
        <p:spPr>
          <a:xfrm>
            <a:off x="4190760" y="1066680"/>
            <a:ext cx="3771720" cy="2648160"/>
          </a:xfrm>
          <a:prstGeom prst="rect">
            <a:avLst/>
          </a:prstGeom>
          <a:ln w="0">
            <a:noFill/>
          </a:ln>
        </p:spPr>
      </p:pic>
      <p:pic>
        <p:nvPicPr>
          <p:cNvPr id="1311" name="" descr=""/>
          <p:cNvPicPr/>
          <p:nvPr/>
        </p:nvPicPr>
        <p:blipFill>
          <a:blip r:embed="rId5"/>
          <a:stretch/>
        </p:blipFill>
        <p:spPr>
          <a:xfrm>
            <a:off x="8115480" y="1066320"/>
            <a:ext cx="3047760" cy="3086280"/>
          </a:xfrm>
          <a:prstGeom prst="rect">
            <a:avLst/>
          </a:prstGeom>
          <a:ln w="0">
            <a:noFill/>
          </a:ln>
        </p:spPr>
      </p:pic>
      <p:pic>
        <p:nvPicPr>
          <p:cNvPr id="1312" name="" descr=""/>
          <p:cNvPicPr/>
          <p:nvPr/>
        </p:nvPicPr>
        <p:blipFill>
          <a:blip r:embed="rId6"/>
          <a:stretch/>
        </p:blipFill>
        <p:spPr>
          <a:xfrm>
            <a:off x="8115480" y="4304880"/>
            <a:ext cx="3047760" cy="1771560"/>
          </a:xfrm>
          <a:prstGeom prst="rect">
            <a:avLst/>
          </a:prstGeom>
          <a:ln w="0">
            <a:noFill/>
          </a:ln>
        </p:spPr>
      </p:pic>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4"/>
          <p:cNvSpPr/>
          <p:nvPr/>
        </p:nvSpPr>
        <p:spPr>
          <a:xfrm>
            <a:off x="0" y="3465360"/>
            <a:ext cx="12192120" cy="339264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4" name="Text Placeholder 6"/>
          <p:cNvSpPr/>
          <p:nvPr/>
        </p:nvSpPr>
        <p:spPr>
          <a:xfrm>
            <a:off x="488880" y="5289480"/>
            <a:ext cx="3272040" cy="530280"/>
          </a:xfrm>
          <a:prstGeom prst="rect">
            <a:avLst/>
          </a:prstGeom>
          <a:noFill/>
          <a:ln w="0">
            <a:noFill/>
          </a:ln>
        </p:spPr>
        <p:style>
          <a:lnRef idx="0"/>
          <a:fillRef idx="0"/>
          <a:effectRef idx="0"/>
          <a:fontRef idx="minor"/>
        </p:style>
        <p:txBody>
          <a:bodyPr lIns="90000" rIns="90000" tIns="46800" bIns="46800" anchor="t">
            <a:normAutofit fontScale="8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315" name="TextBox 11"/>
          <p:cNvSpPr/>
          <p:nvPr/>
        </p:nvSpPr>
        <p:spPr>
          <a:xfrm>
            <a:off x="1000080" y="4502160"/>
            <a:ext cx="22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
                <a:ea typeface="Times New Roman"/>
              </a:rPr>
              <a:t>PAUL ADERSON</a:t>
            </a:r>
            <a:endParaRPr b="0" lang="en-US" sz="1800" spc="-1" strike="noStrike">
              <a:solidFill>
                <a:srgbClr val="000000"/>
              </a:solidFill>
              <a:latin typeface="Calibri"/>
            </a:endParaRPr>
          </a:p>
        </p:txBody>
      </p:sp>
      <p:sp>
        <p:nvSpPr>
          <p:cNvPr id="1316" name="Text Placeholder 6"/>
          <p:cNvSpPr/>
          <p:nvPr/>
        </p:nvSpPr>
        <p:spPr>
          <a:xfrm>
            <a:off x="4460760" y="5289480"/>
            <a:ext cx="3270240" cy="530280"/>
          </a:xfrm>
          <a:prstGeom prst="rect">
            <a:avLst/>
          </a:prstGeom>
          <a:noFill/>
          <a:ln w="0">
            <a:noFill/>
          </a:ln>
        </p:spPr>
        <p:style>
          <a:lnRef idx="0"/>
          <a:fillRef idx="0"/>
          <a:effectRef idx="0"/>
          <a:fontRef idx="minor"/>
        </p:style>
        <p:txBody>
          <a:bodyPr lIns="90000" rIns="90000" tIns="46800" bIns="46800" anchor="t">
            <a:normAutofit fontScale="8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317" name="TextBox 13"/>
          <p:cNvSpPr/>
          <p:nvPr/>
        </p:nvSpPr>
        <p:spPr>
          <a:xfrm>
            <a:off x="4971960" y="4502160"/>
            <a:ext cx="224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
                <a:ea typeface="Times New Roman"/>
              </a:rPr>
              <a:t>CHRISTIAN MILLER</a:t>
            </a:r>
            <a:endParaRPr b="0" lang="en-US" sz="1800" spc="-1" strike="noStrike">
              <a:solidFill>
                <a:srgbClr val="000000"/>
              </a:solidFill>
              <a:latin typeface="Calibri"/>
            </a:endParaRPr>
          </a:p>
        </p:txBody>
      </p:sp>
      <p:sp>
        <p:nvSpPr>
          <p:cNvPr id="1318" name="Text Placeholder 6"/>
          <p:cNvSpPr/>
          <p:nvPr/>
        </p:nvSpPr>
        <p:spPr>
          <a:xfrm>
            <a:off x="8326440" y="5289480"/>
            <a:ext cx="3271680" cy="530280"/>
          </a:xfrm>
          <a:prstGeom prst="rect">
            <a:avLst/>
          </a:prstGeom>
          <a:noFill/>
          <a:ln w="0">
            <a:noFill/>
          </a:ln>
        </p:spPr>
        <p:style>
          <a:lnRef idx="0"/>
          <a:fillRef idx="0"/>
          <a:effectRef idx="0"/>
          <a:fontRef idx="minor"/>
        </p:style>
        <p:txBody>
          <a:bodyPr lIns="90000" rIns="90000" tIns="46800" bIns="46800" anchor="t">
            <a:normAutofit fontScale="8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319" name="TextBox 15"/>
          <p:cNvSpPr/>
          <p:nvPr/>
        </p:nvSpPr>
        <p:spPr>
          <a:xfrm>
            <a:off x="8837640" y="4502160"/>
            <a:ext cx="224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
                <a:ea typeface="Times New Roman"/>
              </a:rPr>
              <a:t>FRANK</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
                <a:ea typeface="Times New Roman"/>
              </a:rPr>
              <a:t>RICARDO</a:t>
            </a:r>
            <a:endParaRPr b="0" lang="en-US" sz="1800" spc="-1" strike="noStrike">
              <a:solidFill>
                <a:srgbClr val="000000"/>
              </a:solidFill>
              <a:latin typeface="Calibri"/>
            </a:endParaRPr>
          </a:p>
        </p:txBody>
      </p:sp>
      <p:sp>
        <p:nvSpPr>
          <p:cNvPr id="1320" name="TextBox 16"/>
          <p:cNvSpPr/>
          <p:nvPr/>
        </p:nvSpPr>
        <p:spPr>
          <a:xfrm>
            <a:off x="3602160" y="534960"/>
            <a:ext cx="4987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Black"/>
                <a:ea typeface="Times New Roman"/>
              </a:rPr>
              <a:t>TEAM INTRODUCTION</a:t>
            </a:r>
            <a:endParaRPr b="0" lang="en-US" sz="20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2"/>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2" name="Group 3"/>
          <p:cNvGrpSpPr/>
          <p:nvPr/>
        </p:nvGrpSpPr>
        <p:grpSpPr>
          <a:xfrm>
            <a:off x="8469000" y="255600"/>
            <a:ext cx="3327840" cy="246240"/>
            <a:chOff x="8469000" y="255600"/>
            <a:chExt cx="3327840" cy="246240"/>
          </a:xfrm>
        </p:grpSpPr>
        <p:sp>
          <p:nvSpPr>
            <p:cNvPr id="1323" name="Rectangle 4"/>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324" name="Straight Arrow Connector 5"/>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325" name="Rounded Rectangle 10"/>
          <p:cNvSpPr/>
          <p:nvPr/>
        </p:nvSpPr>
        <p:spPr>
          <a:xfrm>
            <a:off x="5543640" y="1238400"/>
            <a:ext cx="799920" cy="7999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6" name="Rounded Rectangle 11"/>
          <p:cNvSpPr/>
          <p:nvPr/>
        </p:nvSpPr>
        <p:spPr>
          <a:xfrm>
            <a:off x="5543640" y="2371680"/>
            <a:ext cx="799920" cy="800280"/>
          </a:xfrm>
          <a:custGeom>
            <a:avLst/>
            <a:gdLst>
              <a:gd name="textAreaLeft" fmla="*/ 38880 w 799920"/>
              <a:gd name="textAreaRight" fmla="*/ 761040 w 799920"/>
              <a:gd name="textAreaTop" fmla="*/ 38880 h 800280"/>
              <a:gd name="textAreaBottom" fmla="*/ 761400 h 80028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ounded Rectangle 12"/>
          <p:cNvSpPr/>
          <p:nvPr/>
        </p:nvSpPr>
        <p:spPr>
          <a:xfrm>
            <a:off x="5543640" y="3586320"/>
            <a:ext cx="799920" cy="7999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Rounded Rectangle 13"/>
          <p:cNvSpPr/>
          <p:nvPr/>
        </p:nvSpPr>
        <p:spPr>
          <a:xfrm>
            <a:off x="5543640" y="4800600"/>
            <a:ext cx="799920" cy="800280"/>
          </a:xfrm>
          <a:custGeom>
            <a:avLst/>
            <a:gdLst>
              <a:gd name="textAreaLeft" fmla="*/ 38880 w 799920"/>
              <a:gd name="textAreaRight" fmla="*/ 761040 w 799920"/>
              <a:gd name="textAreaTop" fmla="*/ 38880 h 800280"/>
              <a:gd name="textAreaBottom" fmla="*/ 761400 h 80028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Shape 4834"/>
          <p:cNvSpPr/>
          <p:nvPr/>
        </p:nvSpPr>
        <p:spPr>
          <a:xfrm>
            <a:off x="5686560" y="1374840"/>
            <a:ext cx="519120" cy="527040"/>
          </a:xfrm>
          <a:custGeom>
            <a:avLst/>
            <a:gdLst>
              <a:gd name="textAreaLeft" fmla="*/ 0 w 519120"/>
              <a:gd name="textAreaRight" fmla="*/ 519480 w 519120"/>
              <a:gd name="textAreaTop" fmla="*/ 0 h 527040"/>
              <a:gd name="textAreaBottom" fmla="*/ 527400 h 52704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835"/>
          <p:cNvSpPr/>
          <p:nvPr/>
        </p:nvSpPr>
        <p:spPr>
          <a:xfrm>
            <a:off x="5684760" y="5018040"/>
            <a:ext cx="525600" cy="365040"/>
          </a:xfrm>
          <a:custGeom>
            <a:avLst/>
            <a:gdLst>
              <a:gd name="textAreaLeft" fmla="*/ 0 w 525600"/>
              <a:gd name="textAreaRight" fmla="*/ 525960 w 525600"/>
              <a:gd name="textAreaTop" fmla="*/ 0 h 365040"/>
              <a:gd name="textAreaBottom" fmla="*/ 365400 h 36504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836"/>
          <p:cNvSpPr/>
          <p:nvPr/>
        </p:nvSpPr>
        <p:spPr>
          <a:xfrm>
            <a:off x="5684760" y="2519280"/>
            <a:ext cx="517680" cy="505080"/>
          </a:xfrm>
          <a:custGeom>
            <a:avLst/>
            <a:gdLst>
              <a:gd name="textAreaLeft" fmla="*/ 0 w 517680"/>
              <a:gd name="textAreaRight" fmla="*/ 518040 w 517680"/>
              <a:gd name="textAreaTop" fmla="*/ 0 h 505080"/>
              <a:gd name="textAreaBottom" fmla="*/ 505440 h 50508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837"/>
          <p:cNvSpPr/>
          <p:nvPr/>
        </p:nvSpPr>
        <p:spPr>
          <a:xfrm>
            <a:off x="5684760" y="3733920"/>
            <a:ext cx="517680" cy="504720"/>
          </a:xfrm>
          <a:custGeom>
            <a:avLst/>
            <a:gdLst>
              <a:gd name="textAreaLeft" fmla="*/ 0 w 517680"/>
              <a:gd name="textAreaRight" fmla="*/ 518040 w 517680"/>
              <a:gd name="textAreaTop" fmla="*/ 0 h 504720"/>
              <a:gd name="textAreaBottom" fmla="*/ 505080 h 50472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Text Placeholder 6"/>
          <p:cNvSpPr/>
          <p:nvPr/>
        </p:nvSpPr>
        <p:spPr>
          <a:xfrm>
            <a:off x="6529320" y="1238400"/>
            <a:ext cx="4386240" cy="531720"/>
          </a:xfrm>
          <a:prstGeom prst="rect">
            <a:avLst/>
          </a:prstGeom>
          <a:noFill/>
          <a:ln w="0">
            <a:noFill/>
          </a:ln>
        </p:spPr>
        <p:style>
          <a:lnRef idx="0"/>
          <a:fillRef idx="0"/>
          <a:effectRef idx="0"/>
          <a:fontRef idx="minor"/>
        </p:style>
        <p:txBody>
          <a:bodyPr lIns="90000" rIns="90000" tIns="46800" bIns="46800" anchor="t">
            <a:normAutofit fontScale="7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334" name="Text Placeholder 6"/>
          <p:cNvSpPr/>
          <p:nvPr/>
        </p:nvSpPr>
        <p:spPr>
          <a:xfrm>
            <a:off x="6529320" y="2371680"/>
            <a:ext cx="4386240" cy="531720"/>
          </a:xfrm>
          <a:prstGeom prst="rect">
            <a:avLst/>
          </a:prstGeom>
          <a:noFill/>
          <a:ln w="0">
            <a:noFill/>
          </a:ln>
        </p:spPr>
        <p:style>
          <a:lnRef idx="0"/>
          <a:fillRef idx="0"/>
          <a:effectRef idx="0"/>
          <a:fontRef idx="minor"/>
        </p:style>
        <p:txBody>
          <a:bodyPr lIns="90000" rIns="90000" tIns="46800" bIns="46800" anchor="t">
            <a:normAutofit fontScale="7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335" name="Text Placeholder 6"/>
          <p:cNvSpPr/>
          <p:nvPr/>
        </p:nvSpPr>
        <p:spPr>
          <a:xfrm>
            <a:off x="6526080" y="3586320"/>
            <a:ext cx="4384800" cy="531720"/>
          </a:xfrm>
          <a:prstGeom prst="rect">
            <a:avLst/>
          </a:prstGeom>
          <a:noFill/>
          <a:ln w="0">
            <a:noFill/>
          </a:ln>
        </p:spPr>
        <p:style>
          <a:lnRef idx="0"/>
          <a:fillRef idx="0"/>
          <a:effectRef idx="0"/>
          <a:fontRef idx="minor"/>
        </p:style>
        <p:txBody>
          <a:bodyPr lIns="90000" rIns="90000" tIns="46800" bIns="46800" anchor="t">
            <a:normAutofit fontScale="7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336" name="Text Placeholder 6"/>
          <p:cNvSpPr/>
          <p:nvPr/>
        </p:nvSpPr>
        <p:spPr>
          <a:xfrm>
            <a:off x="6529320" y="4800600"/>
            <a:ext cx="4386240" cy="531720"/>
          </a:xfrm>
          <a:prstGeom prst="rect">
            <a:avLst/>
          </a:prstGeom>
          <a:noFill/>
          <a:ln w="0">
            <a:noFill/>
          </a:ln>
        </p:spPr>
        <p:style>
          <a:lnRef idx="0"/>
          <a:fillRef idx="0"/>
          <a:effectRef idx="0"/>
          <a:fontRef idx="minor"/>
        </p:style>
        <p:txBody>
          <a:bodyPr lIns="90000" rIns="90000" tIns="46800" bIns="46800" anchor="t">
            <a:normAutofit fontScale="7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337" name="TextBox 22"/>
          <p:cNvSpPr/>
          <p:nvPr/>
        </p:nvSpPr>
        <p:spPr>
          <a:xfrm>
            <a:off x="1428840" y="5864400"/>
            <a:ext cx="466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Times New Roman"/>
              </a:rPr>
              <a:t>OUR BUSINES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Times New Roman"/>
              </a:rPr>
              <a:t>MARKETING PLAN</a:t>
            </a:r>
            <a:endParaRPr b="0" lang="en-US" sz="2000" spc="-1" strike="noStrike">
              <a:solidFill>
                <a:srgbClr val="000000"/>
              </a:solidFill>
              <a:latin typeface="Calibri"/>
            </a:endParaRPr>
          </a:p>
        </p:txBody>
      </p:sp>
      <p:sp>
        <p:nvSpPr>
          <p:cNvPr id="1338" name="Rectangle 23"/>
          <p:cNvSpPr/>
          <p:nvPr/>
        </p:nvSpPr>
        <p:spPr>
          <a:xfrm>
            <a:off x="284040" y="4118040"/>
            <a:ext cx="2745000" cy="9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9" name="Text Placeholder 6"/>
          <p:cNvSpPr/>
          <p:nvPr/>
        </p:nvSpPr>
        <p:spPr>
          <a:xfrm>
            <a:off x="422280" y="4253040"/>
            <a:ext cx="2606760" cy="529920"/>
          </a:xfrm>
          <a:prstGeom prst="rect">
            <a:avLst/>
          </a:prstGeom>
          <a:noFill/>
          <a:ln w="0">
            <a:noFill/>
          </a:ln>
        </p:spPr>
        <p:style>
          <a:lnRef idx="0"/>
          <a:fillRef idx="0"/>
          <a:effectRef idx="0"/>
          <a:fontRef idx="minor"/>
        </p:style>
        <p:txBody>
          <a:bodyPr lIns="90000" rIns="90000" tIns="46800" bIns="46800" anchor="t">
            <a:normAutofit fontScale="82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a:t>
            </a:r>
            <a:endParaRPr b="0" lang="en-US" sz="1000" spc="-1" strike="noStrike">
              <a:solidFill>
                <a:srgbClr val="000000"/>
              </a:solidFill>
              <a:latin typeface="Calibri"/>
            </a:endParaRPr>
          </a:p>
        </p:txBody>
      </p:sp>
      <p:grpSp>
        <p:nvGrpSpPr>
          <p:cNvPr id="1340" name="Group 25"/>
          <p:cNvGrpSpPr/>
          <p:nvPr/>
        </p:nvGrpSpPr>
        <p:grpSpPr>
          <a:xfrm>
            <a:off x="284040" y="255600"/>
            <a:ext cx="825480" cy="824040"/>
            <a:chOff x="284040" y="255600"/>
            <a:chExt cx="825480" cy="824040"/>
          </a:xfrm>
        </p:grpSpPr>
        <p:sp>
          <p:nvSpPr>
            <p:cNvPr id="1341" name="Frame 26"/>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2" name="Rectangle 27"/>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343" name="" descr=""/>
          <p:cNvPicPr/>
          <p:nvPr/>
        </p:nvPicPr>
        <p:blipFill>
          <a:blip r:embed="rId1"/>
          <a:stretch/>
        </p:blipFill>
        <p:spPr>
          <a:xfrm>
            <a:off x="1428480" y="1238400"/>
            <a:ext cx="3276360" cy="4362480"/>
          </a:xfrm>
          <a:prstGeom prst="rect">
            <a:avLst/>
          </a:prstGeom>
          <a:ln w="0">
            <a:noFill/>
          </a:ln>
        </p:spPr>
      </p:pic>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Freeform 5"/>
          <p:cNvSpPr/>
          <p:nvPr/>
        </p:nvSpPr>
        <p:spPr>
          <a:xfrm>
            <a:off x="476280" y="816120"/>
            <a:ext cx="5143320" cy="5225760"/>
          </a:xfrm>
          <a:custGeom>
            <a:avLst/>
            <a:gdLst/>
            <a:ahLst/>
            <a:rect l="l" t="t" r="r" b="b"/>
            <a:pathLst>
              <a:path w="5143500" h="5226695">
                <a:moveTo>
                  <a:pt x="2570662" y="799158"/>
                </a:moveTo>
                <a:cubicBezTo>
                  <a:pt x="2478156" y="995555"/>
                  <a:pt x="2350071" y="1160643"/>
                  <a:pt x="2186406" y="1294421"/>
                </a:cubicBezTo>
                <a:cubicBezTo>
                  <a:pt x="2022742" y="1428199"/>
                  <a:pt x="1792900" y="1542764"/>
                  <a:pt x="1496881" y="1638116"/>
                </a:cubicBezTo>
                <a:lnTo>
                  <a:pt x="1496881" y="2351123"/>
                </a:lnTo>
                <a:cubicBezTo>
                  <a:pt x="1697548" y="2289927"/>
                  <a:pt x="1864414" y="2225885"/>
                  <a:pt x="1997481" y="2158996"/>
                </a:cubicBezTo>
                <a:cubicBezTo>
                  <a:pt x="2130547" y="2092107"/>
                  <a:pt x="2268238" y="2004582"/>
                  <a:pt x="2410555" y="1896421"/>
                </a:cubicBezTo>
                <a:lnTo>
                  <a:pt x="2410555" y="3982075"/>
                </a:lnTo>
                <a:lnTo>
                  <a:pt x="3290074" y="3982075"/>
                </a:lnTo>
                <a:lnTo>
                  <a:pt x="3290074" y="799158"/>
                </a:lnTo>
                <a:lnTo>
                  <a:pt x="2570662" y="799158"/>
                </a:lnTo>
                <a:close/>
                <a:moveTo>
                  <a:pt x="0" y="0"/>
                </a:moveTo>
                <a:lnTo>
                  <a:pt x="5143500" y="0"/>
                </a:lnTo>
                <a:lnTo>
                  <a:pt x="5143500" y="5226695"/>
                </a:lnTo>
                <a:lnTo>
                  <a:pt x="0" y="5226695"/>
                </a:lnTo>
                <a:lnTo>
                  <a:pt x="0" y="0"/>
                </a:lnTo>
                <a:close/>
              </a:path>
            </a:pathLst>
          </a:custGeom>
          <a:gradFill rotWithShape="0">
            <a:gsLst>
              <a:gs pos="0">
                <a:srgbClr val="0070c0">
                  <a:alpha val="80000"/>
                </a:srgbClr>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5" name="Rectangle 6"/>
          <p:cNvSpPr/>
          <p:nvPr/>
        </p:nvSpPr>
        <p:spPr>
          <a:xfrm>
            <a:off x="5791320" y="816120"/>
            <a:ext cx="6400800" cy="5225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Down Arrow 7"/>
          <p:cNvSpPr/>
          <p:nvPr/>
        </p:nvSpPr>
        <p:spPr>
          <a:xfrm rot="16200000">
            <a:off x="6534000" y="1713960"/>
            <a:ext cx="438120" cy="885600"/>
          </a:xfrm>
          <a:prstGeom prst="downArrow">
            <a:avLst>
              <a:gd name="adj1" fmla="val 50000"/>
              <a:gd name="adj2" fmla="val 50066"/>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Down Arrow 8"/>
          <p:cNvSpPr/>
          <p:nvPr/>
        </p:nvSpPr>
        <p:spPr>
          <a:xfrm rot="16200000">
            <a:off x="6534000" y="3034800"/>
            <a:ext cx="438120" cy="885600"/>
          </a:xfrm>
          <a:prstGeom prst="downArrow">
            <a:avLst>
              <a:gd name="adj1" fmla="val 50000"/>
              <a:gd name="adj2" fmla="val 50066"/>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Down Arrow 9"/>
          <p:cNvSpPr/>
          <p:nvPr/>
        </p:nvSpPr>
        <p:spPr>
          <a:xfrm rot="16200000">
            <a:off x="6534000" y="4395240"/>
            <a:ext cx="438120" cy="885600"/>
          </a:xfrm>
          <a:prstGeom prst="downArrow">
            <a:avLst>
              <a:gd name="adj1" fmla="val 50000"/>
              <a:gd name="adj2" fmla="val 50066"/>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Text Placeholder 6"/>
          <p:cNvSpPr/>
          <p:nvPr/>
        </p:nvSpPr>
        <p:spPr>
          <a:xfrm>
            <a:off x="7500960" y="1890720"/>
            <a:ext cx="4386240" cy="53172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a:t>
            </a:r>
            <a:endParaRPr b="0" lang="en-US" sz="1000" spc="-1" strike="noStrike">
              <a:solidFill>
                <a:srgbClr val="000000"/>
              </a:solidFill>
              <a:latin typeface="Calibri"/>
            </a:endParaRPr>
          </a:p>
        </p:txBody>
      </p:sp>
      <p:sp>
        <p:nvSpPr>
          <p:cNvPr id="1350" name="Text Placeholder 6"/>
          <p:cNvSpPr/>
          <p:nvPr/>
        </p:nvSpPr>
        <p:spPr>
          <a:xfrm>
            <a:off x="7500960" y="3159000"/>
            <a:ext cx="4386240" cy="53208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a:t>
            </a:r>
            <a:endParaRPr b="0" lang="en-US" sz="1000" spc="-1" strike="noStrike">
              <a:solidFill>
                <a:srgbClr val="000000"/>
              </a:solidFill>
              <a:latin typeface="Calibri"/>
            </a:endParaRPr>
          </a:p>
        </p:txBody>
      </p:sp>
      <p:sp>
        <p:nvSpPr>
          <p:cNvPr id="1351" name="Text Placeholder 6"/>
          <p:cNvSpPr/>
          <p:nvPr/>
        </p:nvSpPr>
        <p:spPr>
          <a:xfrm>
            <a:off x="7500960" y="4573440"/>
            <a:ext cx="4386240" cy="53208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a:t>
            </a:r>
            <a:endParaRPr b="0" lang="en-US" sz="1000" spc="-1" strike="noStrike">
              <a:solidFill>
                <a:srgbClr val="000000"/>
              </a:solidFill>
              <a:latin typeface="Calibri"/>
            </a:endParaRPr>
          </a:p>
        </p:txBody>
      </p:sp>
      <p:sp>
        <p:nvSpPr>
          <p:cNvPr id="1352" name="TextBox 13"/>
          <p:cNvSpPr/>
          <p:nvPr/>
        </p:nvSpPr>
        <p:spPr>
          <a:xfrm>
            <a:off x="7500960" y="147780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Black"/>
                <a:ea typeface="Times New Roman"/>
              </a:rPr>
              <a:t>SUBTITLE HERE</a:t>
            </a:r>
            <a:endParaRPr b="0" lang="en-US" sz="1800" spc="-1" strike="noStrike">
              <a:solidFill>
                <a:srgbClr val="000000"/>
              </a:solidFill>
              <a:latin typeface="Calibri"/>
            </a:endParaRPr>
          </a:p>
        </p:txBody>
      </p:sp>
      <p:sp>
        <p:nvSpPr>
          <p:cNvPr id="1353" name="TextBox 14"/>
          <p:cNvSpPr/>
          <p:nvPr/>
        </p:nvSpPr>
        <p:spPr>
          <a:xfrm>
            <a:off x="7500960" y="278928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Black"/>
                <a:ea typeface="Times New Roman"/>
              </a:rPr>
              <a:t>SUBTITLE HERE</a:t>
            </a:r>
            <a:endParaRPr b="0" lang="en-US" sz="1800" spc="-1" strike="noStrike">
              <a:solidFill>
                <a:srgbClr val="000000"/>
              </a:solidFill>
              <a:latin typeface="Calibri"/>
            </a:endParaRPr>
          </a:p>
        </p:txBody>
      </p:sp>
      <p:sp>
        <p:nvSpPr>
          <p:cNvPr id="1354" name="TextBox 15"/>
          <p:cNvSpPr/>
          <p:nvPr/>
        </p:nvSpPr>
        <p:spPr>
          <a:xfrm>
            <a:off x="7500960" y="420372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Black"/>
                <a:ea typeface="Times New Roman"/>
              </a:rPr>
              <a:t>SUBTITLE HERE</a:t>
            </a:r>
            <a:endParaRPr b="0" lang="en-US" sz="1800" spc="-1" strike="noStrike">
              <a:solidFill>
                <a:srgbClr val="000000"/>
              </a:solidFill>
              <a:latin typeface="Calibri"/>
            </a:endParaRPr>
          </a:p>
        </p:txBody>
      </p:sp>
      <p:pic>
        <p:nvPicPr>
          <p:cNvPr id="1355"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Freeform 4"/>
          <p:cNvSpPr/>
          <p:nvPr/>
        </p:nvSpPr>
        <p:spPr>
          <a:xfrm>
            <a:off x="0" y="495360"/>
            <a:ext cx="6095880" cy="5905440"/>
          </a:xfrm>
          <a:custGeom>
            <a:avLst/>
            <a:gdLst/>
            <a:ahLst/>
            <a:rect l="l" t="t" r="r" b="b"/>
            <a:pathLst>
              <a:path w="5257800" h="5448300">
                <a:moveTo>
                  <a:pt x="969989" y="3569434"/>
                </a:moveTo>
                <a:cubicBezTo>
                  <a:pt x="875190" y="3569434"/>
                  <a:pt x="773595" y="3663626"/>
                  <a:pt x="773595" y="3757817"/>
                </a:cubicBezTo>
                <a:cubicBezTo>
                  <a:pt x="773595" y="3858737"/>
                  <a:pt x="820995" y="3905833"/>
                  <a:pt x="875190" y="3952929"/>
                </a:cubicBezTo>
                <a:cubicBezTo>
                  <a:pt x="875190" y="3952929"/>
                  <a:pt x="875190" y="3952929"/>
                  <a:pt x="2737775" y="4713160"/>
                </a:cubicBezTo>
                <a:cubicBezTo>
                  <a:pt x="2785175" y="4713160"/>
                  <a:pt x="2785175" y="4713160"/>
                  <a:pt x="2832609" y="4713160"/>
                </a:cubicBezTo>
                <a:lnTo>
                  <a:pt x="2880008" y="4713160"/>
                </a:lnTo>
                <a:cubicBezTo>
                  <a:pt x="2880008" y="4713160"/>
                  <a:pt x="2880008" y="4713160"/>
                  <a:pt x="4749356" y="3952929"/>
                </a:cubicBezTo>
                <a:cubicBezTo>
                  <a:pt x="4796790" y="3905833"/>
                  <a:pt x="4844188" y="3858737"/>
                  <a:pt x="4844188" y="3757817"/>
                </a:cubicBezTo>
                <a:cubicBezTo>
                  <a:pt x="4844188" y="3663626"/>
                  <a:pt x="4796790" y="3569434"/>
                  <a:pt x="4654557" y="3569434"/>
                </a:cubicBezTo>
                <a:lnTo>
                  <a:pt x="4607122" y="3569434"/>
                </a:lnTo>
                <a:cubicBezTo>
                  <a:pt x="4607122" y="3569434"/>
                  <a:pt x="4607122" y="3569434"/>
                  <a:pt x="2832609" y="4329666"/>
                </a:cubicBezTo>
                <a:cubicBezTo>
                  <a:pt x="2832609" y="4329666"/>
                  <a:pt x="2832609" y="4329666"/>
                  <a:pt x="1064823" y="3569434"/>
                </a:cubicBezTo>
                <a:cubicBezTo>
                  <a:pt x="1017423" y="3569434"/>
                  <a:pt x="1017423" y="3569434"/>
                  <a:pt x="969989" y="3569434"/>
                </a:cubicBezTo>
                <a:close/>
                <a:moveTo>
                  <a:pt x="969989" y="2762137"/>
                </a:moveTo>
                <a:cubicBezTo>
                  <a:pt x="875190" y="2762137"/>
                  <a:pt x="773595" y="2809233"/>
                  <a:pt x="773595" y="2950490"/>
                </a:cubicBezTo>
                <a:cubicBezTo>
                  <a:pt x="773595" y="2997586"/>
                  <a:pt x="820995" y="3091778"/>
                  <a:pt x="875190" y="3091778"/>
                </a:cubicBezTo>
                <a:cubicBezTo>
                  <a:pt x="875190" y="3091778"/>
                  <a:pt x="875190" y="3091778"/>
                  <a:pt x="2737775" y="3858737"/>
                </a:cubicBezTo>
                <a:cubicBezTo>
                  <a:pt x="2785175" y="3905833"/>
                  <a:pt x="2785175" y="3905833"/>
                  <a:pt x="2832609" y="3905833"/>
                </a:cubicBezTo>
                <a:cubicBezTo>
                  <a:pt x="2832609" y="3905833"/>
                  <a:pt x="2880008" y="3905833"/>
                  <a:pt x="2880008" y="3858737"/>
                </a:cubicBezTo>
                <a:cubicBezTo>
                  <a:pt x="2880008" y="3858737"/>
                  <a:pt x="2880008" y="3858737"/>
                  <a:pt x="4749356" y="3091778"/>
                </a:cubicBezTo>
                <a:cubicBezTo>
                  <a:pt x="4796790" y="3091778"/>
                  <a:pt x="4844188" y="2997586"/>
                  <a:pt x="4844188" y="2950490"/>
                </a:cubicBezTo>
                <a:cubicBezTo>
                  <a:pt x="4844188" y="2809233"/>
                  <a:pt x="4796790" y="2762137"/>
                  <a:pt x="4654557" y="2762137"/>
                </a:cubicBezTo>
                <a:lnTo>
                  <a:pt x="4607122" y="2762137"/>
                </a:lnTo>
                <a:cubicBezTo>
                  <a:pt x="4607122" y="2762137"/>
                  <a:pt x="4607122" y="2762137"/>
                  <a:pt x="2832609" y="3475272"/>
                </a:cubicBezTo>
                <a:cubicBezTo>
                  <a:pt x="2832609" y="3475272"/>
                  <a:pt x="2832609" y="3475272"/>
                  <a:pt x="1064823" y="2762137"/>
                </a:cubicBezTo>
                <a:cubicBezTo>
                  <a:pt x="1017423" y="2762137"/>
                  <a:pt x="1017423" y="2762137"/>
                  <a:pt x="969989" y="2762137"/>
                </a:cubicBezTo>
                <a:close/>
                <a:moveTo>
                  <a:pt x="2832609" y="1147512"/>
                </a:moveTo>
                <a:cubicBezTo>
                  <a:pt x="2785175" y="1147512"/>
                  <a:pt x="2785175" y="1147512"/>
                  <a:pt x="2737775" y="1194578"/>
                </a:cubicBezTo>
                <a:cubicBezTo>
                  <a:pt x="2737775" y="1194578"/>
                  <a:pt x="2737775" y="1194578"/>
                  <a:pt x="875190" y="1954810"/>
                </a:cubicBezTo>
                <a:cubicBezTo>
                  <a:pt x="820995" y="1954810"/>
                  <a:pt x="773595" y="2049001"/>
                  <a:pt x="773595" y="2096097"/>
                </a:cubicBezTo>
                <a:cubicBezTo>
                  <a:pt x="773595" y="2190289"/>
                  <a:pt x="820995" y="2237385"/>
                  <a:pt x="875190" y="2284480"/>
                </a:cubicBezTo>
                <a:cubicBezTo>
                  <a:pt x="875190" y="2284480"/>
                  <a:pt x="875190" y="2284480"/>
                  <a:pt x="2737775" y="3044682"/>
                </a:cubicBezTo>
                <a:cubicBezTo>
                  <a:pt x="2785175" y="3044682"/>
                  <a:pt x="2785175" y="3044682"/>
                  <a:pt x="2832609" y="3044682"/>
                </a:cubicBezTo>
                <a:lnTo>
                  <a:pt x="2880008" y="3044682"/>
                </a:lnTo>
                <a:cubicBezTo>
                  <a:pt x="2880008" y="3044682"/>
                  <a:pt x="2880008" y="3044682"/>
                  <a:pt x="4749356" y="2284480"/>
                </a:cubicBezTo>
                <a:cubicBezTo>
                  <a:pt x="4796790" y="2237385"/>
                  <a:pt x="4844188" y="2190289"/>
                  <a:pt x="4844188" y="2096097"/>
                </a:cubicBezTo>
                <a:cubicBezTo>
                  <a:pt x="4844188" y="2049001"/>
                  <a:pt x="4796790" y="1954810"/>
                  <a:pt x="4749356" y="1954810"/>
                </a:cubicBezTo>
                <a:cubicBezTo>
                  <a:pt x="4749356" y="1954810"/>
                  <a:pt x="4749356" y="1954810"/>
                  <a:pt x="2880008" y="1194578"/>
                </a:cubicBezTo>
                <a:cubicBezTo>
                  <a:pt x="2880008" y="1147512"/>
                  <a:pt x="2832609" y="1147512"/>
                  <a:pt x="2832609" y="1147512"/>
                </a:cubicBezTo>
                <a:close/>
                <a:moveTo>
                  <a:pt x="0" y="0"/>
                </a:moveTo>
                <a:lnTo>
                  <a:pt x="5257800" y="0"/>
                </a:lnTo>
                <a:lnTo>
                  <a:pt x="5257800" y="5448300"/>
                </a:lnTo>
                <a:lnTo>
                  <a:pt x="0" y="5448300"/>
                </a:lnTo>
                <a:lnTo>
                  <a:pt x="0" y="0"/>
                </a:lnTo>
                <a:close/>
              </a:path>
            </a:pathLst>
          </a:custGeom>
          <a:gradFill rotWithShape="0">
            <a:gsLst>
              <a:gs pos="0">
                <a:srgbClr val="0070c0">
                  <a:alpha val="80000"/>
                </a:srgbClr>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7" name="Rectangle 9"/>
          <p:cNvSpPr/>
          <p:nvPr/>
        </p:nvSpPr>
        <p:spPr>
          <a:xfrm>
            <a:off x="6229440" y="495360"/>
            <a:ext cx="5962680" cy="590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8" name="Text Placeholder 6"/>
          <p:cNvSpPr/>
          <p:nvPr/>
        </p:nvSpPr>
        <p:spPr>
          <a:xfrm>
            <a:off x="6796080" y="1333440"/>
            <a:ext cx="4386240" cy="531720"/>
          </a:xfrm>
          <a:prstGeom prst="rect">
            <a:avLst/>
          </a:prstGeom>
          <a:noFill/>
          <a:ln w="0">
            <a:noFill/>
          </a:ln>
        </p:spPr>
        <p:style>
          <a:lnRef idx="0"/>
          <a:fillRef idx="0"/>
          <a:effectRef idx="0"/>
          <a:fontRef idx="minor"/>
        </p:style>
        <p:txBody>
          <a:bodyPr lIns="90000" rIns="90000" tIns="46800" bIns="46800" anchor="t">
            <a:normAutofit fontScale="7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359" name="TextBox 13"/>
          <p:cNvSpPr/>
          <p:nvPr/>
        </p:nvSpPr>
        <p:spPr>
          <a:xfrm>
            <a:off x="6796080" y="83016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Black"/>
                <a:ea typeface="Times New Roman"/>
              </a:rPr>
              <a:t>SUBTITLE HERE</a:t>
            </a:r>
            <a:endParaRPr b="0" lang="en-US" sz="1800" spc="-1" strike="noStrike">
              <a:solidFill>
                <a:srgbClr val="000000"/>
              </a:solidFill>
              <a:latin typeface="Calibri"/>
            </a:endParaRPr>
          </a:p>
        </p:txBody>
      </p:sp>
      <p:sp>
        <p:nvSpPr>
          <p:cNvPr id="1360" name="Text Placeholder 6"/>
          <p:cNvSpPr/>
          <p:nvPr/>
        </p:nvSpPr>
        <p:spPr>
          <a:xfrm>
            <a:off x="6796080" y="3325680"/>
            <a:ext cx="4386240" cy="532080"/>
          </a:xfrm>
          <a:prstGeom prst="rect">
            <a:avLst/>
          </a:prstGeom>
          <a:noFill/>
          <a:ln w="0">
            <a:noFill/>
          </a:ln>
        </p:spPr>
        <p:style>
          <a:lnRef idx="0"/>
          <a:fillRef idx="0"/>
          <a:effectRef idx="0"/>
          <a:fontRef idx="minor"/>
        </p:style>
        <p:txBody>
          <a:bodyPr lIns="90000" rIns="90000" tIns="46800" bIns="46800" anchor="t">
            <a:normAutofit fontScale="7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361" name="TextBox 15"/>
          <p:cNvSpPr/>
          <p:nvPr/>
        </p:nvSpPr>
        <p:spPr>
          <a:xfrm>
            <a:off x="6796080" y="282240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Black"/>
                <a:ea typeface="Times New Roman"/>
              </a:rPr>
              <a:t>SUBTITLE HERE</a:t>
            </a:r>
            <a:endParaRPr b="0" lang="en-US" sz="1800" spc="-1" strike="noStrike">
              <a:solidFill>
                <a:srgbClr val="000000"/>
              </a:solidFill>
              <a:latin typeface="Calibri"/>
            </a:endParaRPr>
          </a:p>
        </p:txBody>
      </p:sp>
      <p:sp>
        <p:nvSpPr>
          <p:cNvPr id="1362" name="Text Placeholder 6"/>
          <p:cNvSpPr/>
          <p:nvPr/>
        </p:nvSpPr>
        <p:spPr>
          <a:xfrm>
            <a:off x="6796080" y="5319720"/>
            <a:ext cx="4386240" cy="530280"/>
          </a:xfrm>
          <a:prstGeom prst="rect">
            <a:avLst/>
          </a:prstGeom>
          <a:noFill/>
          <a:ln w="0">
            <a:noFill/>
          </a:ln>
        </p:spPr>
        <p:style>
          <a:lnRef idx="0"/>
          <a:fillRef idx="0"/>
          <a:effectRef idx="0"/>
          <a:fontRef idx="minor"/>
        </p:style>
        <p:txBody>
          <a:bodyPr lIns="90000" rIns="90000" tIns="46800" bIns="46800" anchor="t">
            <a:normAutofit fontScale="7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363" name="TextBox 17"/>
          <p:cNvSpPr/>
          <p:nvPr/>
        </p:nvSpPr>
        <p:spPr>
          <a:xfrm>
            <a:off x="6796080" y="481644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Black"/>
                <a:ea typeface="Times New Roman"/>
              </a:rPr>
              <a:t>SUBTITLE HERE</a:t>
            </a:r>
            <a:endParaRPr b="0" lang="en-US" sz="1800" spc="-1" strike="noStrike">
              <a:solidFill>
                <a:srgbClr val="000000"/>
              </a:solidFill>
              <a:latin typeface="Calibri"/>
            </a:endParaRPr>
          </a:p>
        </p:txBody>
      </p:sp>
      <p:pic>
        <p:nvPicPr>
          <p:cNvPr id="1364"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1"/>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66" name="Group 2"/>
          <p:cNvGrpSpPr/>
          <p:nvPr/>
        </p:nvGrpSpPr>
        <p:grpSpPr>
          <a:xfrm>
            <a:off x="8469000" y="255600"/>
            <a:ext cx="3327840" cy="246240"/>
            <a:chOff x="8469000" y="255600"/>
            <a:chExt cx="3327840" cy="246240"/>
          </a:xfrm>
        </p:grpSpPr>
        <p:sp>
          <p:nvSpPr>
            <p:cNvPr id="1367" name="Rectangle 3"/>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368" name="Straight Arrow Connector 4"/>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369" name="TextBox 8"/>
          <p:cNvSpPr/>
          <p:nvPr/>
        </p:nvSpPr>
        <p:spPr>
          <a:xfrm>
            <a:off x="3602160" y="825480"/>
            <a:ext cx="4987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Times New Roman"/>
              </a:rPr>
              <a:t>OUR COMPANY</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Times New Roman"/>
              </a:rPr>
              <a:t>SERVICE NOW</a:t>
            </a:r>
            <a:endParaRPr b="0" lang="en-US" sz="2000" spc="-1" strike="noStrike">
              <a:solidFill>
                <a:srgbClr val="000000"/>
              </a:solidFill>
              <a:latin typeface="Calibri"/>
            </a:endParaRPr>
          </a:p>
        </p:txBody>
      </p:sp>
      <p:sp>
        <p:nvSpPr>
          <p:cNvPr id="1370" name="Rounded Rectangle 9"/>
          <p:cNvSpPr/>
          <p:nvPr/>
        </p:nvSpPr>
        <p:spPr>
          <a:xfrm>
            <a:off x="1319040" y="2266920"/>
            <a:ext cx="1081440" cy="10098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Rounded Rectangle 10"/>
          <p:cNvSpPr/>
          <p:nvPr/>
        </p:nvSpPr>
        <p:spPr>
          <a:xfrm>
            <a:off x="1319040" y="4464000"/>
            <a:ext cx="1081440" cy="100980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Rounded Rectangle 11"/>
          <p:cNvSpPr/>
          <p:nvPr/>
        </p:nvSpPr>
        <p:spPr>
          <a:xfrm>
            <a:off x="6748560" y="2266920"/>
            <a:ext cx="1081080" cy="10098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Rounded Rectangle 12"/>
          <p:cNvSpPr/>
          <p:nvPr/>
        </p:nvSpPr>
        <p:spPr>
          <a:xfrm>
            <a:off x="6748560" y="4464000"/>
            <a:ext cx="1081080" cy="10098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4" name="Text Placeholder 6"/>
          <p:cNvSpPr/>
          <p:nvPr/>
        </p:nvSpPr>
        <p:spPr>
          <a:xfrm>
            <a:off x="2635200" y="2679840"/>
            <a:ext cx="3272040" cy="531720"/>
          </a:xfrm>
          <a:prstGeom prst="rect">
            <a:avLst/>
          </a:prstGeom>
          <a:noFill/>
          <a:ln w="0">
            <a:noFill/>
          </a:ln>
        </p:spPr>
        <p:style>
          <a:lnRef idx="0"/>
          <a:fillRef idx="0"/>
          <a:effectRef idx="0"/>
          <a:fontRef idx="minor"/>
        </p:style>
        <p:txBody>
          <a:bodyPr lIns="90000" rIns="90000" tIns="46800" bIns="46800" anchor="t">
            <a:normAutofit fontScale="81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375" name="TextBox 14"/>
          <p:cNvSpPr/>
          <p:nvPr/>
        </p:nvSpPr>
        <p:spPr>
          <a:xfrm>
            <a:off x="2635200" y="2266920"/>
            <a:ext cx="224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ea typeface="Times New Roman"/>
              </a:rPr>
              <a:t>SERVICE 01</a:t>
            </a:r>
            <a:endParaRPr b="0" lang="en-US" sz="1800" spc="-1" strike="noStrike">
              <a:solidFill>
                <a:srgbClr val="000000"/>
              </a:solidFill>
              <a:latin typeface="Calibri"/>
            </a:endParaRPr>
          </a:p>
        </p:txBody>
      </p:sp>
      <p:sp>
        <p:nvSpPr>
          <p:cNvPr id="1376" name="Text Placeholder 6"/>
          <p:cNvSpPr/>
          <p:nvPr/>
        </p:nvSpPr>
        <p:spPr>
          <a:xfrm>
            <a:off x="2635200" y="4876920"/>
            <a:ext cx="3272040" cy="531720"/>
          </a:xfrm>
          <a:prstGeom prst="rect">
            <a:avLst/>
          </a:prstGeom>
          <a:noFill/>
          <a:ln w="0">
            <a:noFill/>
          </a:ln>
        </p:spPr>
        <p:style>
          <a:lnRef idx="0"/>
          <a:fillRef idx="0"/>
          <a:effectRef idx="0"/>
          <a:fontRef idx="minor"/>
        </p:style>
        <p:txBody>
          <a:bodyPr lIns="90000" rIns="90000" tIns="46800" bIns="46800" anchor="t">
            <a:normAutofit fontScale="81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377" name="TextBox 16"/>
          <p:cNvSpPr/>
          <p:nvPr/>
        </p:nvSpPr>
        <p:spPr>
          <a:xfrm>
            <a:off x="2635200" y="4464000"/>
            <a:ext cx="224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ea typeface="Times New Roman"/>
              </a:rPr>
              <a:t>SERVICE 01</a:t>
            </a:r>
            <a:endParaRPr b="0" lang="en-US" sz="1800" spc="-1" strike="noStrike">
              <a:solidFill>
                <a:srgbClr val="000000"/>
              </a:solidFill>
              <a:latin typeface="Calibri"/>
            </a:endParaRPr>
          </a:p>
        </p:txBody>
      </p:sp>
      <p:sp>
        <p:nvSpPr>
          <p:cNvPr id="1378" name="Text Placeholder 6"/>
          <p:cNvSpPr/>
          <p:nvPr/>
        </p:nvSpPr>
        <p:spPr>
          <a:xfrm>
            <a:off x="7967520" y="2679840"/>
            <a:ext cx="3272040" cy="531720"/>
          </a:xfrm>
          <a:prstGeom prst="rect">
            <a:avLst/>
          </a:prstGeom>
          <a:noFill/>
          <a:ln w="0">
            <a:noFill/>
          </a:ln>
        </p:spPr>
        <p:style>
          <a:lnRef idx="0"/>
          <a:fillRef idx="0"/>
          <a:effectRef idx="0"/>
          <a:fontRef idx="minor"/>
        </p:style>
        <p:txBody>
          <a:bodyPr lIns="90000" rIns="90000" tIns="46800" bIns="46800" anchor="t">
            <a:normAutofit fontScale="81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379" name="TextBox 18"/>
          <p:cNvSpPr/>
          <p:nvPr/>
        </p:nvSpPr>
        <p:spPr>
          <a:xfrm>
            <a:off x="7967520" y="2266920"/>
            <a:ext cx="224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ea typeface="Times New Roman"/>
              </a:rPr>
              <a:t>SERVICE 01</a:t>
            </a:r>
            <a:endParaRPr b="0" lang="en-US" sz="1800" spc="-1" strike="noStrike">
              <a:solidFill>
                <a:srgbClr val="000000"/>
              </a:solidFill>
              <a:latin typeface="Calibri"/>
            </a:endParaRPr>
          </a:p>
        </p:txBody>
      </p:sp>
      <p:sp>
        <p:nvSpPr>
          <p:cNvPr id="1380" name="Text Placeholder 6"/>
          <p:cNvSpPr/>
          <p:nvPr/>
        </p:nvSpPr>
        <p:spPr>
          <a:xfrm>
            <a:off x="7967520" y="4876920"/>
            <a:ext cx="3272040" cy="531720"/>
          </a:xfrm>
          <a:prstGeom prst="rect">
            <a:avLst/>
          </a:prstGeom>
          <a:noFill/>
          <a:ln w="0">
            <a:noFill/>
          </a:ln>
        </p:spPr>
        <p:style>
          <a:lnRef idx="0"/>
          <a:fillRef idx="0"/>
          <a:effectRef idx="0"/>
          <a:fontRef idx="minor"/>
        </p:style>
        <p:txBody>
          <a:bodyPr lIns="90000" rIns="90000" tIns="46800" bIns="46800" anchor="t">
            <a:normAutofit fontScale="81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sp>
        <p:nvSpPr>
          <p:cNvPr id="1381" name="TextBox 20"/>
          <p:cNvSpPr/>
          <p:nvPr/>
        </p:nvSpPr>
        <p:spPr>
          <a:xfrm>
            <a:off x="7967520" y="4464000"/>
            <a:ext cx="224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ea typeface="Times New Roman"/>
              </a:rPr>
              <a:t>SERVICE 01</a:t>
            </a:r>
            <a:endParaRPr b="0" lang="en-US" sz="1800" spc="-1" strike="noStrike">
              <a:solidFill>
                <a:srgbClr val="000000"/>
              </a:solidFill>
              <a:latin typeface="Calibri"/>
            </a:endParaRPr>
          </a:p>
        </p:txBody>
      </p:sp>
      <p:sp>
        <p:nvSpPr>
          <p:cNvPr id="1382" name="Shape 4917"/>
          <p:cNvSpPr/>
          <p:nvPr/>
        </p:nvSpPr>
        <p:spPr>
          <a:xfrm>
            <a:off x="1606680" y="4714920"/>
            <a:ext cx="509400" cy="506520"/>
          </a:xfrm>
          <a:custGeom>
            <a:avLst/>
            <a:gdLst>
              <a:gd name="textAreaLeft" fmla="*/ 0 w 509400"/>
              <a:gd name="textAreaRight" fmla="*/ 509760 w 509400"/>
              <a:gd name="textAreaTop" fmla="*/ 0 h 506520"/>
              <a:gd name="textAreaBottom" fmla="*/ 506880 h 506520"/>
            </a:gdLst>
            <a:ahLst/>
            <a:rect l="textAreaLeft" t="textAreaTop" r="textAreaRight" b="textAreaBottom"/>
            <a:pathLst>
              <a:path w="120000" h="120000">
                <a:moveTo>
                  <a:pt x="103054" y="71960"/>
                </a:moveTo>
                <a:lnTo>
                  <a:pt x="103054" y="71960"/>
                </a:lnTo>
                <a:cubicBezTo>
                  <a:pt x="103054" y="76146"/>
                  <a:pt x="101674" y="78936"/>
                  <a:pt x="98916" y="81727"/>
                </a:cubicBezTo>
                <a:cubicBezTo>
                  <a:pt x="98916" y="83122"/>
                  <a:pt x="108571" y="94485"/>
                  <a:pt x="103054" y="100066"/>
                </a:cubicBezTo>
                <a:cubicBezTo>
                  <a:pt x="100295" y="104252"/>
                  <a:pt x="100295" y="104252"/>
                  <a:pt x="100295" y="104252"/>
                </a:cubicBezTo>
                <a:cubicBezTo>
                  <a:pt x="96157" y="108438"/>
                  <a:pt x="84926" y="101461"/>
                  <a:pt x="82167" y="98671"/>
                </a:cubicBezTo>
                <a:cubicBezTo>
                  <a:pt x="79408" y="101461"/>
                  <a:pt x="75270" y="102857"/>
                  <a:pt x="71133" y="104252"/>
                </a:cubicBezTo>
                <a:cubicBezTo>
                  <a:pt x="72512" y="104252"/>
                  <a:pt x="72512" y="104252"/>
                  <a:pt x="72512" y="104252"/>
                </a:cubicBezTo>
                <a:cubicBezTo>
                  <a:pt x="72512" y="104252"/>
                  <a:pt x="69753" y="119800"/>
                  <a:pt x="61280" y="119800"/>
                </a:cubicBezTo>
                <a:cubicBezTo>
                  <a:pt x="58522" y="119800"/>
                  <a:pt x="58522" y="119800"/>
                  <a:pt x="58522" y="119800"/>
                </a:cubicBezTo>
                <a:cubicBezTo>
                  <a:pt x="51625" y="119800"/>
                  <a:pt x="48669" y="105647"/>
                  <a:pt x="47290" y="102857"/>
                </a:cubicBezTo>
                <a:cubicBezTo>
                  <a:pt x="44532" y="102857"/>
                  <a:pt x="40394" y="101461"/>
                  <a:pt x="37635" y="98671"/>
                </a:cubicBezTo>
                <a:cubicBezTo>
                  <a:pt x="37635" y="100066"/>
                  <a:pt x="37635" y="100066"/>
                  <a:pt x="37635" y="100066"/>
                </a:cubicBezTo>
                <a:cubicBezTo>
                  <a:pt x="37635" y="100066"/>
                  <a:pt x="25024" y="109833"/>
                  <a:pt x="19507" y="102857"/>
                </a:cubicBezTo>
                <a:cubicBezTo>
                  <a:pt x="16748" y="101461"/>
                  <a:pt x="16748" y="101461"/>
                  <a:pt x="16748" y="101461"/>
                </a:cubicBezTo>
                <a:cubicBezTo>
                  <a:pt x="12610" y="95880"/>
                  <a:pt x="19507" y="84518"/>
                  <a:pt x="20886" y="81727"/>
                </a:cubicBezTo>
                <a:cubicBezTo>
                  <a:pt x="19507" y="78936"/>
                  <a:pt x="18128" y="76146"/>
                  <a:pt x="16748" y="71960"/>
                </a:cubicBezTo>
                <a:cubicBezTo>
                  <a:pt x="13990" y="71960"/>
                  <a:pt x="0" y="67574"/>
                  <a:pt x="0" y="60598"/>
                </a:cubicBezTo>
                <a:cubicBezTo>
                  <a:pt x="0" y="57807"/>
                  <a:pt x="0" y="57807"/>
                  <a:pt x="0" y="57807"/>
                </a:cubicBezTo>
                <a:cubicBezTo>
                  <a:pt x="0" y="50830"/>
                  <a:pt x="13990" y="47840"/>
                  <a:pt x="16748" y="47840"/>
                </a:cubicBezTo>
                <a:cubicBezTo>
                  <a:pt x="18128" y="43654"/>
                  <a:pt x="19507" y="40863"/>
                  <a:pt x="20886" y="36677"/>
                </a:cubicBezTo>
                <a:cubicBezTo>
                  <a:pt x="19507" y="35282"/>
                  <a:pt x="11231" y="22524"/>
                  <a:pt x="16748" y="18338"/>
                </a:cubicBezTo>
                <a:cubicBezTo>
                  <a:pt x="19507" y="15548"/>
                  <a:pt x="19507" y="15548"/>
                  <a:pt x="19507" y="15548"/>
                </a:cubicBezTo>
                <a:cubicBezTo>
                  <a:pt x="23645" y="9966"/>
                  <a:pt x="34876" y="18338"/>
                  <a:pt x="37635" y="19734"/>
                </a:cubicBezTo>
                <a:cubicBezTo>
                  <a:pt x="40394" y="18338"/>
                  <a:pt x="44532" y="16943"/>
                  <a:pt x="47290" y="15548"/>
                </a:cubicBezTo>
                <a:cubicBezTo>
                  <a:pt x="48669" y="12757"/>
                  <a:pt x="53004" y="0"/>
                  <a:pt x="58522" y="0"/>
                </a:cubicBezTo>
                <a:cubicBezTo>
                  <a:pt x="61280" y="0"/>
                  <a:pt x="61280" y="0"/>
                  <a:pt x="61280" y="0"/>
                </a:cubicBezTo>
                <a:cubicBezTo>
                  <a:pt x="68177" y="0"/>
                  <a:pt x="71133" y="11362"/>
                  <a:pt x="72512" y="15548"/>
                </a:cubicBezTo>
                <a:cubicBezTo>
                  <a:pt x="75270" y="16943"/>
                  <a:pt x="79408" y="18338"/>
                  <a:pt x="82167" y="19734"/>
                </a:cubicBezTo>
                <a:cubicBezTo>
                  <a:pt x="84926" y="18338"/>
                  <a:pt x="96157" y="11362"/>
                  <a:pt x="100295" y="15548"/>
                </a:cubicBezTo>
                <a:cubicBezTo>
                  <a:pt x="103054" y="18338"/>
                  <a:pt x="103054" y="18338"/>
                  <a:pt x="103054" y="18338"/>
                </a:cubicBezTo>
                <a:cubicBezTo>
                  <a:pt x="108571" y="23920"/>
                  <a:pt x="101674" y="33887"/>
                  <a:pt x="98916" y="36677"/>
                </a:cubicBezTo>
                <a:cubicBezTo>
                  <a:pt x="101674" y="40863"/>
                  <a:pt x="103054" y="43654"/>
                  <a:pt x="103054" y="47840"/>
                </a:cubicBezTo>
                <a:cubicBezTo>
                  <a:pt x="104433" y="47840"/>
                  <a:pt x="119802" y="49435"/>
                  <a:pt x="119802" y="57807"/>
                </a:cubicBezTo>
                <a:cubicBezTo>
                  <a:pt x="119802" y="60598"/>
                  <a:pt x="119802" y="60598"/>
                  <a:pt x="119802" y="60598"/>
                </a:cubicBezTo>
                <a:cubicBezTo>
                  <a:pt x="119802" y="67574"/>
                  <a:pt x="107192" y="70365"/>
                  <a:pt x="103054" y="71960"/>
                </a:cubicBezTo>
                <a:close/>
                <a:moveTo>
                  <a:pt x="59901" y="25315"/>
                </a:moveTo>
                <a:lnTo>
                  <a:pt x="59901" y="25315"/>
                </a:lnTo>
                <a:cubicBezTo>
                  <a:pt x="41773" y="25315"/>
                  <a:pt x="26403" y="40863"/>
                  <a:pt x="26403" y="59202"/>
                </a:cubicBezTo>
                <a:cubicBezTo>
                  <a:pt x="26403" y="78936"/>
                  <a:pt x="41773" y="93089"/>
                  <a:pt x="59901" y="93089"/>
                </a:cubicBezTo>
                <a:cubicBezTo>
                  <a:pt x="78029" y="93089"/>
                  <a:pt x="93399" y="78936"/>
                  <a:pt x="93399" y="59202"/>
                </a:cubicBezTo>
                <a:cubicBezTo>
                  <a:pt x="93399" y="40863"/>
                  <a:pt x="78029" y="25315"/>
                  <a:pt x="59901" y="25315"/>
                </a:cubicBezTo>
                <a:close/>
                <a:moveTo>
                  <a:pt x="59901" y="81727"/>
                </a:moveTo>
                <a:lnTo>
                  <a:pt x="59901" y="81727"/>
                </a:lnTo>
                <a:cubicBezTo>
                  <a:pt x="47290" y="81727"/>
                  <a:pt x="37635" y="71960"/>
                  <a:pt x="37635" y="59202"/>
                </a:cubicBezTo>
                <a:cubicBezTo>
                  <a:pt x="37635" y="46445"/>
                  <a:pt x="47290" y="36677"/>
                  <a:pt x="59901" y="36677"/>
                </a:cubicBezTo>
                <a:cubicBezTo>
                  <a:pt x="72512" y="36677"/>
                  <a:pt x="82167" y="46445"/>
                  <a:pt x="82167" y="59202"/>
                </a:cubicBezTo>
                <a:cubicBezTo>
                  <a:pt x="82167" y="71960"/>
                  <a:pt x="72512" y="81727"/>
                  <a:pt x="59901" y="81727"/>
                </a:cubicBezTo>
                <a:close/>
                <a:moveTo>
                  <a:pt x="59901" y="47840"/>
                </a:moveTo>
                <a:lnTo>
                  <a:pt x="59901" y="47840"/>
                </a:lnTo>
                <a:cubicBezTo>
                  <a:pt x="54384" y="47840"/>
                  <a:pt x="48669" y="53621"/>
                  <a:pt x="48669" y="59202"/>
                </a:cubicBezTo>
                <a:cubicBezTo>
                  <a:pt x="48669" y="66179"/>
                  <a:pt x="54384" y="70365"/>
                  <a:pt x="59901" y="70365"/>
                </a:cubicBezTo>
                <a:cubicBezTo>
                  <a:pt x="65418" y="70365"/>
                  <a:pt x="71133" y="66179"/>
                  <a:pt x="71133" y="59202"/>
                </a:cubicBezTo>
                <a:cubicBezTo>
                  <a:pt x="71133" y="53621"/>
                  <a:pt x="65418" y="47840"/>
                  <a:pt x="59901" y="4784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918"/>
          <p:cNvSpPr/>
          <p:nvPr/>
        </p:nvSpPr>
        <p:spPr>
          <a:xfrm>
            <a:off x="1606680" y="2565360"/>
            <a:ext cx="506160" cy="412920"/>
          </a:xfrm>
          <a:custGeom>
            <a:avLst/>
            <a:gdLst>
              <a:gd name="textAreaLeft" fmla="*/ 0 w 506160"/>
              <a:gd name="textAreaRight" fmla="*/ 506520 w 506160"/>
              <a:gd name="textAreaTop" fmla="*/ 0 h 412920"/>
              <a:gd name="textAreaBottom" fmla="*/ 413280 h 412920"/>
            </a:gdLst>
            <a:ahLst/>
            <a:rect l="textAreaLeft" t="textAreaTop" r="textAreaRight" b="textAreaBottom"/>
            <a:pathLst>
              <a:path w="120000" h="120000">
                <a:moveTo>
                  <a:pt x="119800" y="112969"/>
                </a:moveTo>
                <a:lnTo>
                  <a:pt x="119800" y="112969"/>
                </a:lnTo>
                <a:cubicBezTo>
                  <a:pt x="119800" y="118060"/>
                  <a:pt x="118405" y="119757"/>
                  <a:pt x="114019" y="119757"/>
                </a:cubicBezTo>
                <a:lnTo>
                  <a:pt x="114019" y="119757"/>
                </a:lnTo>
                <a:cubicBezTo>
                  <a:pt x="5581" y="119757"/>
                  <a:pt x="5581" y="119757"/>
                  <a:pt x="5581" y="119757"/>
                </a:cubicBezTo>
                <a:lnTo>
                  <a:pt x="5581" y="119757"/>
                </a:lnTo>
                <a:lnTo>
                  <a:pt x="5581" y="119757"/>
                </a:lnTo>
                <a:cubicBezTo>
                  <a:pt x="2790" y="119757"/>
                  <a:pt x="0" y="118060"/>
                  <a:pt x="0" y="112969"/>
                </a:cubicBezTo>
                <a:cubicBezTo>
                  <a:pt x="0" y="112969"/>
                  <a:pt x="0" y="111272"/>
                  <a:pt x="1395" y="109575"/>
                </a:cubicBezTo>
                <a:lnTo>
                  <a:pt x="1395" y="109575"/>
                </a:lnTo>
                <a:cubicBezTo>
                  <a:pt x="55016" y="1696"/>
                  <a:pt x="55016" y="1696"/>
                  <a:pt x="55016" y="1696"/>
                </a:cubicBezTo>
                <a:lnTo>
                  <a:pt x="55016" y="1696"/>
                </a:lnTo>
                <a:cubicBezTo>
                  <a:pt x="56411" y="0"/>
                  <a:pt x="57807" y="0"/>
                  <a:pt x="60598" y="0"/>
                </a:cubicBezTo>
                <a:cubicBezTo>
                  <a:pt x="61993" y="0"/>
                  <a:pt x="63388" y="0"/>
                  <a:pt x="64784" y="3393"/>
                </a:cubicBezTo>
                <a:lnTo>
                  <a:pt x="64784" y="3393"/>
                </a:lnTo>
                <a:cubicBezTo>
                  <a:pt x="119800" y="109575"/>
                  <a:pt x="119800" y="109575"/>
                  <a:pt x="119800" y="109575"/>
                </a:cubicBezTo>
                <a:lnTo>
                  <a:pt x="119800" y="109575"/>
                </a:lnTo>
                <a:cubicBezTo>
                  <a:pt x="119800" y="111272"/>
                  <a:pt x="119800" y="112969"/>
                  <a:pt x="119800" y="112969"/>
                </a:cubicBezTo>
                <a:close/>
                <a:moveTo>
                  <a:pt x="67574" y="37575"/>
                </a:moveTo>
                <a:lnTo>
                  <a:pt x="67574" y="37575"/>
                </a:lnTo>
                <a:cubicBezTo>
                  <a:pt x="67574" y="32484"/>
                  <a:pt x="64784" y="29090"/>
                  <a:pt x="60598" y="29090"/>
                </a:cubicBezTo>
                <a:cubicBezTo>
                  <a:pt x="56411" y="29090"/>
                  <a:pt x="52026" y="32484"/>
                  <a:pt x="52026" y="37575"/>
                </a:cubicBezTo>
                <a:cubicBezTo>
                  <a:pt x="52026" y="71757"/>
                  <a:pt x="52026" y="71757"/>
                  <a:pt x="52026" y="71757"/>
                </a:cubicBezTo>
                <a:cubicBezTo>
                  <a:pt x="52026" y="77090"/>
                  <a:pt x="56411" y="82181"/>
                  <a:pt x="60598" y="82181"/>
                </a:cubicBezTo>
                <a:cubicBezTo>
                  <a:pt x="64784" y="82181"/>
                  <a:pt x="67574" y="77090"/>
                  <a:pt x="67574" y="71757"/>
                </a:cubicBezTo>
                <a:lnTo>
                  <a:pt x="67574" y="37575"/>
                </a:lnTo>
                <a:close/>
                <a:moveTo>
                  <a:pt x="60598" y="88969"/>
                </a:moveTo>
                <a:lnTo>
                  <a:pt x="60598" y="88969"/>
                </a:lnTo>
                <a:cubicBezTo>
                  <a:pt x="56411" y="88969"/>
                  <a:pt x="52026" y="92363"/>
                  <a:pt x="52026" y="97696"/>
                </a:cubicBezTo>
                <a:cubicBezTo>
                  <a:pt x="52026" y="102787"/>
                  <a:pt x="56411" y="106181"/>
                  <a:pt x="60598" y="106181"/>
                </a:cubicBezTo>
                <a:cubicBezTo>
                  <a:pt x="64784" y="106181"/>
                  <a:pt x="67574" y="102787"/>
                  <a:pt x="67574" y="97696"/>
                </a:cubicBezTo>
                <a:cubicBezTo>
                  <a:pt x="67574" y="92363"/>
                  <a:pt x="64784" y="88969"/>
                  <a:pt x="60598" y="88969"/>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923"/>
          <p:cNvSpPr/>
          <p:nvPr/>
        </p:nvSpPr>
        <p:spPr>
          <a:xfrm>
            <a:off x="7059600" y="4761000"/>
            <a:ext cx="509760" cy="414360"/>
          </a:xfrm>
          <a:custGeom>
            <a:avLst/>
            <a:gdLst>
              <a:gd name="textAreaLeft" fmla="*/ 0 w 509760"/>
              <a:gd name="textAreaRight" fmla="*/ 510120 w 509760"/>
              <a:gd name="textAreaTop" fmla="*/ 0 h 414360"/>
              <a:gd name="textAreaBottom" fmla="*/ 414720 h 414360"/>
            </a:gdLst>
            <a:ahLst/>
            <a:rect l="textAreaLeft" t="textAreaTop" r="textAreaRight" b="textAreaBottom"/>
            <a:pathLst>
              <a:path w="120000" h="120000">
                <a:moveTo>
                  <a:pt x="104605" y="44516"/>
                </a:moveTo>
                <a:lnTo>
                  <a:pt x="104605" y="44516"/>
                </a:lnTo>
                <a:cubicBezTo>
                  <a:pt x="103223" y="46209"/>
                  <a:pt x="101842" y="46209"/>
                  <a:pt x="100263" y="46209"/>
                </a:cubicBezTo>
                <a:cubicBezTo>
                  <a:pt x="97500" y="46209"/>
                  <a:pt x="94736" y="42822"/>
                  <a:pt x="94736" y="39435"/>
                </a:cubicBezTo>
                <a:cubicBezTo>
                  <a:pt x="94736" y="37741"/>
                  <a:pt x="96118" y="36048"/>
                  <a:pt x="97500" y="34354"/>
                </a:cubicBezTo>
                <a:cubicBezTo>
                  <a:pt x="100263" y="30967"/>
                  <a:pt x="100263" y="30967"/>
                  <a:pt x="100263" y="30967"/>
                </a:cubicBezTo>
                <a:cubicBezTo>
                  <a:pt x="97500" y="30967"/>
                  <a:pt x="97500" y="30967"/>
                  <a:pt x="97500" y="30967"/>
                </a:cubicBezTo>
                <a:lnTo>
                  <a:pt x="97500" y="30967"/>
                </a:lnTo>
                <a:cubicBezTo>
                  <a:pt x="91973" y="30967"/>
                  <a:pt x="91973" y="30967"/>
                  <a:pt x="91973" y="30967"/>
                </a:cubicBezTo>
                <a:lnTo>
                  <a:pt x="91973" y="30967"/>
                </a:lnTo>
                <a:cubicBezTo>
                  <a:pt x="86447" y="30967"/>
                  <a:pt x="86447" y="30967"/>
                  <a:pt x="86447" y="30967"/>
                </a:cubicBezTo>
                <a:cubicBezTo>
                  <a:pt x="27828" y="100887"/>
                  <a:pt x="27828" y="100887"/>
                  <a:pt x="27828" y="100887"/>
                </a:cubicBezTo>
                <a:cubicBezTo>
                  <a:pt x="27828" y="102580"/>
                  <a:pt x="26447" y="102580"/>
                  <a:pt x="25065" y="102580"/>
                </a:cubicBezTo>
                <a:lnTo>
                  <a:pt x="25065" y="102580"/>
                </a:lnTo>
                <a:cubicBezTo>
                  <a:pt x="16578" y="102580"/>
                  <a:pt x="16578" y="102580"/>
                  <a:pt x="16578" y="102580"/>
                </a:cubicBezTo>
                <a:lnTo>
                  <a:pt x="16578" y="102580"/>
                </a:lnTo>
                <a:cubicBezTo>
                  <a:pt x="5526" y="102580"/>
                  <a:pt x="5526" y="102580"/>
                  <a:pt x="5526" y="102580"/>
                </a:cubicBezTo>
                <a:cubicBezTo>
                  <a:pt x="2763" y="102580"/>
                  <a:pt x="0" y="100887"/>
                  <a:pt x="0" y="95806"/>
                </a:cubicBezTo>
                <a:cubicBezTo>
                  <a:pt x="0" y="92419"/>
                  <a:pt x="2763" y="89032"/>
                  <a:pt x="5526" y="89032"/>
                </a:cubicBezTo>
                <a:cubicBezTo>
                  <a:pt x="16578" y="89032"/>
                  <a:pt x="16578" y="89032"/>
                  <a:pt x="16578" y="89032"/>
                </a:cubicBezTo>
                <a:lnTo>
                  <a:pt x="16578" y="89032"/>
                </a:lnTo>
                <a:cubicBezTo>
                  <a:pt x="22302" y="89032"/>
                  <a:pt x="22302" y="89032"/>
                  <a:pt x="22302" y="89032"/>
                </a:cubicBezTo>
                <a:cubicBezTo>
                  <a:pt x="80921" y="18870"/>
                  <a:pt x="80921" y="18870"/>
                  <a:pt x="80921" y="18870"/>
                </a:cubicBezTo>
                <a:lnTo>
                  <a:pt x="80921" y="18870"/>
                </a:lnTo>
                <a:cubicBezTo>
                  <a:pt x="80921" y="17177"/>
                  <a:pt x="82302" y="17177"/>
                  <a:pt x="83684" y="17177"/>
                </a:cubicBezTo>
                <a:lnTo>
                  <a:pt x="83684" y="17177"/>
                </a:lnTo>
                <a:cubicBezTo>
                  <a:pt x="93355" y="17177"/>
                  <a:pt x="93355" y="17177"/>
                  <a:pt x="93355" y="17177"/>
                </a:cubicBezTo>
                <a:lnTo>
                  <a:pt x="93355" y="17177"/>
                </a:lnTo>
                <a:cubicBezTo>
                  <a:pt x="100263" y="17177"/>
                  <a:pt x="100263" y="17177"/>
                  <a:pt x="100263" y="17177"/>
                </a:cubicBezTo>
                <a:cubicBezTo>
                  <a:pt x="97500" y="12096"/>
                  <a:pt x="97500" y="12096"/>
                  <a:pt x="97500" y="12096"/>
                </a:cubicBezTo>
                <a:cubicBezTo>
                  <a:pt x="96118" y="10403"/>
                  <a:pt x="94736" y="8709"/>
                  <a:pt x="94736" y="7016"/>
                </a:cubicBezTo>
                <a:cubicBezTo>
                  <a:pt x="94736" y="3629"/>
                  <a:pt x="97500" y="0"/>
                  <a:pt x="100263" y="0"/>
                </a:cubicBezTo>
                <a:cubicBezTo>
                  <a:pt x="101842" y="0"/>
                  <a:pt x="103223" y="1935"/>
                  <a:pt x="104605" y="3629"/>
                </a:cubicBezTo>
                <a:cubicBezTo>
                  <a:pt x="118421" y="18870"/>
                  <a:pt x="118421" y="18870"/>
                  <a:pt x="118421" y="18870"/>
                </a:cubicBezTo>
                <a:cubicBezTo>
                  <a:pt x="118421" y="20564"/>
                  <a:pt x="119802" y="22258"/>
                  <a:pt x="119802" y="23951"/>
                </a:cubicBezTo>
                <a:cubicBezTo>
                  <a:pt x="119802" y="25645"/>
                  <a:pt x="118421" y="27338"/>
                  <a:pt x="118421" y="29274"/>
                </a:cubicBezTo>
                <a:lnTo>
                  <a:pt x="104605" y="44516"/>
                </a:lnTo>
                <a:close/>
                <a:moveTo>
                  <a:pt x="43223" y="54919"/>
                </a:moveTo>
                <a:lnTo>
                  <a:pt x="43223" y="54919"/>
                </a:lnTo>
                <a:cubicBezTo>
                  <a:pt x="22302" y="30967"/>
                  <a:pt x="22302" y="30967"/>
                  <a:pt x="22302" y="30967"/>
                </a:cubicBezTo>
                <a:cubicBezTo>
                  <a:pt x="16578" y="30967"/>
                  <a:pt x="16578" y="30967"/>
                  <a:pt x="16578" y="30967"/>
                </a:cubicBezTo>
                <a:lnTo>
                  <a:pt x="16578" y="30967"/>
                </a:lnTo>
                <a:cubicBezTo>
                  <a:pt x="5526" y="30967"/>
                  <a:pt x="5526" y="30967"/>
                  <a:pt x="5526" y="30967"/>
                </a:cubicBezTo>
                <a:cubicBezTo>
                  <a:pt x="2763" y="30967"/>
                  <a:pt x="0" y="27338"/>
                  <a:pt x="0" y="23951"/>
                </a:cubicBezTo>
                <a:cubicBezTo>
                  <a:pt x="0" y="18870"/>
                  <a:pt x="2763" y="17177"/>
                  <a:pt x="5526" y="17177"/>
                </a:cubicBezTo>
                <a:cubicBezTo>
                  <a:pt x="15197" y="17177"/>
                  <a:pt x="15197" y="17177"/>
                  <a:pt x="15197" y="17177"/>
                </a:cubicBezTo>
                <a:lnTo>
                  <a:pt x="15197" y="17177"/>
                </a:lnTo>
                <a:cubicBezTo>
                  <a:pt x="25065" y="17177"/>
                  <a:pt x="25065" y="17177"/>
                  <a:pt x="25065" y="17177"/>
                </a:cubicBezTo>
                <a:lnTo>
                  <a:pt x="25065" y="17177"/>
                </a:lnTo>
                <a:cubicBezTo>
                  <a:pt x="26447" y="17177"/>
                  <a:pt x="27828" y="17177"/>
                  <a:pt x="27828" y="18870"/>
                </a:cubicBezTo>
                <a:cubicBezTo>
                  <a:pt x="50131" y="46209"/>
                  <a:pt x="50131" y="46209"/>
                  <a:pt x="50131" y="46209"/>
                </a:cubicBezTo>
                <a:lnTo>
                  <a:pt x="43223" y="54919"/>
                </a:lnTo>
                <a:close/>
                <a:moveTo>
                  <a:pt x="86447" y="89032"/>
                </a:moveTo>
                <a:lnTo>
                  <a:pt x="86447" y="89032"/>
                </a:lnTo>
                <a:cubicBezTo>
                  <a:pt x="91973" y="89032"/>
                  <a:pt x="91973" y="89032"/>
                  <a:pt x="91973" y="89032"/>
                </a:cubicBezTo>
                <a:lnTo>
                  <a:pt x="91973" y="89032"/>
                </a:lnTo>
                <a:cubicBezTo>
                  <a:pt x="97500" y="89032"/>
                  <a:pt x="97500" y="89032"/>
                  <a:pt x="97500" y="89032"/>
                </a:cubicBezTo>
                <a:lnTo>
                  <a:pt x="97500" y="89032"/>
                </a:lnTo>
                <a:cubicBezTo>
                  <a:pt x="100263" y="89032"/>
                  <a:pt x="100263" y="89032"/>
                  <a:pt x="100263" y="89032"/>
                </a:cubicBezTo>
                <a:cubicBezTo>
                  <a:pt x="97500" y="85645"/>
                  <a:pt x="97500" y="85645"/>
                  <a:pt x="97500" y="85645"/>
                </a:cubicBezTo>
                <a:cubicBezTo>
                  <a:pt x="96118" y="83951"/>
                  <a:pt x="94736" y="82258"/>
                  <a:pt x="94736" y="80564"/>
                </a:cubicBezTo>
                <a:cubicBezTo>
                  <a:pt x="94736" y="77177"/>
                  <a:pt x="97500" y="73548"/>
                  <a:pt x="100263" y="73548"/>
                </a:cubicBezTo>
                <a:cubicBezTo>
                  <a:pt x="101842" y="73548"/>
                  <a:pt x="103223" y="73548"/>
                  <a:pt x="104605" y="75241"/>
                </a:cubicBezTo>
                <a:cubicBezTo>
                  <a:pt x="118421" y="90725"/>
                  <a:pt x="118421" y="90725"/>
                  <a:pt x="118421" y="90725"/>
                </a:cubicBezTo>
                <a:cubicBezTo>
                  <a:pt x="118421" y="92419"/>
                  <a:pt x="119802" y="94112"/>
                  <a:pt x="119802" y="95806"/>
                </a:cubicBezTo>
                <a:cubicBezTo>
                  <a:pt x="119802" y="97500"/>
                  <a:pt x="118421" y="99193"/>
                  <a:pt x="118421" y="100887"/>
                </a:cubicBezTo>
                <a:cubicBezTo>
                  <a:pt x="104605" y="116370"/>
                  <a:pt x="104605" y="116370"/>
                  <a:pt x="104605" y="116370"/>
                </a:cubicBezTo>
                <a:cubicBezTo>
                  <a:pt x="103223" y="118064"/>
                  <a:pt x="101842" y="119758"/>
                  <a:pt x="100263" y="119758"/>
                </a:cubicBezTo>
                <a:cubicBezTo>
                  <a:pt x="97500" y="119758"/>
                  <a:pt x="94736" y="116370"/>
                  <a:pt x="94736" y="112983"/>
                </a:cubicBezTo>
                <a:cubicBezTo>
                  <a:pt x="94736" y="111290"/>
                  <a:pt x="96118" y="109596"/>
                  <a:pt x="97500" y="107903"/>
                </a:cubicBezTo>
                <a:cubicBezTo>
                  <a:pt x="100263" y="102580"/>
                  <a:pt x="100263" y="102580"/>
                  <a:pt x="100263" y="102580"/>
                </a:cubicBezTo>
                <a:cubicBezTo>
                  <a:pt x="91973" y="102580"/>
                  <a:pt x="91973" y="102580"/>
                  <a:pt x="91973" y="102580"/>
                </a:cubicBezTo>
                <a:lnTo>
                  <a:pt x="91973" y="102580"/>
                </a:lnTo>
                <a:cubicBezTo>
                  <a:pt x="83684" y="102580"/>
                  <a:pt x="83684" y="102580"/>
                  <a:pt x="83684" y="102580"/>
                </a:cubicBezTo>
                <a:lnTo>
                  <a:pt x="83684" y="102580"/>
                </a:lnTo>
                <a:cubicBezTo>
                  <a:pt x="82302" y="102580"/>
                  <a:pt x="80921" y="102580"/>
                  <a:pt x="80921" y="100887"/>
                </a:cubicBezTo>
                <a:cubicBezTo>
                  <a:pt x="58618" y="73548"/>
                  <a:pt x="58618" y="73548"/>
                  <a:pt x="58618" y="73548"/>
                </a:cubicBezTo>
                <a:cubicBezTo>
                  <a:pt x="65526" y="65080"/>
                  <a:pt x="65526" y="65080"/>
                  <a:pt x="65526" y="65080"/>
                </a:cubicBezTo>
                <a:lnTo>
                  <a:pt x="86447" y="89032"/>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924"/>
          <p:cNvSpPr/>
          <p:nvPr/>
        </p:nvSpPr>
        <p:spPr>
          <a:xfrm>
            <a:off x="7059600" y="2513160"/>
            <a:ext cx="458640" cy="463320"/>
          </a:xfrm>
          <a:custGeom>
            <a:avLst/>
            <a:gdLst>
              <a:gd name="textAreaLeft" fmla="*/ 0 w 458640"/>
              <a:gd name="textAreaRight" fmla="*/ 459000 w 458640"/>
              <a:gd name="textAreaTop" fmla="*/ 0 h 463320"/>
              <a:gd name="textAreaBottom" fmla="*/ 463680 h 463320"/>
            </a:gdLst>
            <a:ahLst/>
            <a:rect l="textAreaLeft" t="textAreaTop" r="textAreaRight" b="textAreaBottom"/>
            <a:pathLst>
              <a:path w="120000" h="120000">
                <a:moveTo>
                  <a:pt x="118238" y="10849"/>
                </a:moveTo>
                <a:lnTo>
                  <a:pt x="118238" y="10849"/>
                </a:lnTo>
                <a:cubicBezTo>
                  <a:pt x="87192" y="41446"/>
                  <a:pt x="87192" y="41446"/>
                  <a:pt x="87192" y="41446"/>
                </a:cubicBezTo>
                <a:cubicBezTo>
                  <a:pt x="97981" y="41446"/>
                  <a:pt x="97981" y="41446"/>
                  <a:pt x="97981" y="41446"/>
                </a:cubicBezTo>
                <a:cubicBezTo>
                  <a:pt x="101064" y="41446"/>
                  <a:pt x="104146" y="44484"/>
                  <a:pt x="104146" y="47522"/>
                </a:cubicBezTo>
                <a:cubicBezTo>
                  <a:pt x="104146" y="50777"/>
                  <a:pt x="101064" y="53815"/>
                  <a:pt x="97981" y="53815"/>
                </a:cubicBezTo>
                <a:cubicBezTo>
                  <a:pt x="73100" y="53815"/>
                  <a:pt x="73100" y="53815"/>
                  <a:pt x="73100" y="53815"/>
                </a:cubicBezTo>
                <a:cubicBezTo>
                  <a:pt x="68477" y="53815"/>
                  <a:pt x="66935" y="50777"/>
                  <a:pt x="66935" y="47522"/>
                </a:cubicBezTo>
                <a:cubicBezTo>
                  <a:pt x="66935" y="23001"/>
                  <a:pt x="66935" y="23001"/>
                  <a:pt x="66935" y="23001"/>
                </a:cubicBezTo>
                <a:cubicBezTo>
                  <a:pt x="66935" y="19963"/>
                  <a:pt x="68477" y="16925"/>
                  <a:pt x="73100" y="16925"/>
                </a:cubicBezTo>
                <a:cubicBezTo>
                  <a:pt x="76183" y="16925"/>
                  <a:pt x="79266" y="19963"/>
                  <a:pt x="79266" y="23001"/>
                </a:cubicBezTo>
                <a:cubicBezTo>
                  <a:pt x="79266" y="32332"/>
                  <a:pt x="79266" y="32332"/>
                  <a:pt x="79266" y="32332"/>
                </a:cubicBezTo>
                <a:cubicBezTo>
                  <a:pt x="110532" y="1518"/>
                  <a:pt x="110532" y="1518"/>
                  <a:pt x="110532" y="1518"/>
                </a:cubicBezTo>
                <a:lnTo>
                  <a:pt x="110532" y="1518"/>
                </a:lnTo>
                <a:cubicBezTo>
                  <a:pt x="110532" y="1518"/>
                  <a:pt x="112073" y="0"/>
                  <a:pt x="113614" y="0"/>
                </a:cubicBezTo>
                <a:cubicBezTo>
                  <a:pt x="118238" y="0"/>
                  <a:pt x="119779" y="3037"/>
                  <a:pt x="119779" y="6075"/>
                </a:cubicBezTo>
                <a:cubicBezTo>
                  <a:pt x="119779" y="7811"/>
                  <a:pt x="119779" y="9330"/>
                  <a:pt x="118238" y="10849"/>
                </a:cubicBezTo>
                <a:close/>
                <a:moveTo>
                  <a:pt x="73100" y="65967"/>
                </a:moveTo>
                <a:lnTo>
                  <a:pt x="73100" y="65967"/>
                </a:lnTo>
                <a:cubicBezTo>
                  <a:pt x="97981" y="65967"/>
                  <a:pt x="97981" y="65967"/>
                  <a:pt x="97981" y="65967"/>
                </a:cubicBezTo>
                <a:cubicBezTo>
                  <a:pt x="101064" y="65967"/>
                  <a:pt x="104146" y="69005"/>
                  <a:pt x="104146" y="72043"/>
                </a:cubicBezTo>
                <a:cubicBezTo>
                  <a:pt x="104146" y="75298"/>
                  <a:pt x="101064" y="78336"/>
                  <a:pt x="97981" y="78336"/>
                </a:cubicBezTo>
                <a:cubicBezTo>
                  <a:pt x="87192" y="78336"/>
                  <a:pt x="87192" y="78336"/>
                  <a:pt x="87192" y="78336"/>
                </a:cubicBezTo>
                <a:cubicBezTo>
                  <a:pt x="118238" y="108933"/>
                  <a:pt x="118238" y="108933"/>
                  <a:pt x="118238" y="108933"/>
                </a:cubicBezTo>
                <a:lnTo>
                  <a:pt x="118238" y="108933"/>
                </a:lnTo>
                <a:cubicBezTo>
                  <a:pt x="119779" y="110452"/>
                  <a:pt x="119779" y="111971"/>
                  <a:pt x="119779" y="113490"/>
                </a:cubicBezTo>
                <a:cubicBezTo>
                  <a:pt x="119779" y="116528"/>
                  <a:pt x="118238" y="119783"/>
                  <a:pt x="113614" y="119783"/>
                </a:cubicBezTo>
                <a:cubicBezTo>
                  <a:pt x="112073" y="119783"/>
                  <a:pt x="110532" y="118264"/>
                  <a:pt x="110532" y="118264"/>
                </a:cubicBezTo>
                <a:lnTo>
                  <a:pt x="110532" y="118264"/>
                </a:lnTo>
                <a:cubicBezTo>
                  <a:pt x="79266" y="87450"/>
                  <a:pt x="79266" y="87450"/>
                  <a:pt x="79266" y="87450"/>
                </a:cubicBezTo>
                <a:cubicBezTo>
                  <a:pt x="79266" y="96564"/>
                  <a:pt x="79266" y="96564"/>
                  <a:pt x="79266" y="96564"/>
                </a:cubicBezTo>
                <a:cubicBezTo>
                  <a:pt x="79266" y="99819"/>
                  <a:pt x="76183" y="102857"/>
                  <a:pt x="73100" y="102857"/>
                </a:cubicBezTo>
                <a:cubicBezTo>
                  <a:pt x="68477" y="102857"/>
                  <a:pt x="66935" y="99819"/>
                  <a:pt x="66935" y="96564"/>
                </a:cubicBezTo>
                <a:cubicBezTo>
                  <a:pt x="66935" y="72043"/>
                  <a:pt x="66935" y="72043"/>
                  <a:pt x="66935" y="72043"/>
                </a:cubicBezTo>
                <a:cubicBezTo>
                  <a:pt x="66935" y="69005"/>
                  <a:pt x="68477" y="65967"/>
                  <a:pt x="73100" y="65967"/>
                </a:cubicBezTo>
                <a:close/>
                <a:moveTo>
                  <a:pt x="48220" y="102857"/>
                </a:moveTo>
                <a:lnTo>
                  <a:pt x="48220" y="102857"/>
                </a:lnTo>
                <a:cubicBezTo>
                  <a:pt x="43596" y="102857"/>
                  <a:pt x="42055" y="99819"/>
                  <a:pt x="42055" y="96564"/>
                </a:cubicBezTo>
                <a:cubicBezTo>
                  <a:pt x="42055" y="87450"/>
                  <a:pt x="42055" y="87450"/>
                  <a:pt x="42055" y="87450"/>
                </a:cubicBezTo>
                <a:cubicBezTo>
                  <a:pt x="10788" y="118264"/>
                  <a:pt x="10788" y="118264"/>
                  <a:pt x="10788" y="118264"/>
                </a:cubicBezTo>
                <a:lnTo>
                  <a:pt x="10788" y="118264"/>
                </a:lnTo>
                <a:cubicBezTo>
                  <a:pt x="9247" y="118264"/>
                  <a:pt x="7706" y="119783"/>
                  <a:pt x="6165" y="119783"/>
                </a:cubicBezTo>
                <a:cubicBezTo>
                  <a:pt x="3082" y="119783"/>
                  <a:pt x="0" y="116528"/>
                  <a:pt x="0" y="113490"/>
                </a:cubicBezTo>
                <a:cubicBezTo>
                  <a:pt x="0" y="111971"/>
                  <a:pt x="0" y="110452"/>
                  <a:pt x="1541" y="108933"/>
                </a:cubicBezTo>
                <a:lnTo>
                  <a:pt x="1541" y="108933"/>
                </a:lnTo>
                <a:cubicBezTo>
                  <a:pt x="32587" y="78336"/>
                  <a:pt x="32587" y="78336"/>
                  <a:pt x="32587" y="78336"/>
                </a:cubicBezTo>
                <a:cubicBezTo>
                  <a:pt x="23339" y="78336"/>
                  <a:pt x="23339" y="78336"/>
                  <a:pt x="23339" y="78336"/>
                </a:cubicBezTo>
                <a:cubicBezTo>
                  <a:pt x="18715" y="78336"/>
                  <a:pt x="17174" y="75298"/>
                  <a:pt x="17174" y="72043"/>
                </a:cubicBezTo>
                <a:cubicBezTo>
                  <a:pt x="17174" y="69005"/>
                  <a:pt x="18715" y="65967"/>
                  <a:pt x="23339" y="65967"/>
                </a:cubicBezTo>
                <a:cubicBezTo>
                  <a:pt x="48220" y="65967"/>
                  <a:pt x="48220" y="65967"/>
                  <a:pt x="48220" y="65967"/>
                </a:cubicBezTo>
                <a:cubicBezTo>
                  <a:pt x="51302" y="65967"/>
                  <a:pt x="54385" y="69005"/>
                  <a:pt x="54385" y="72043"/>
                </a:cubicBezTo>
                <a:cubicBezTo>
                  <a:pt x="54385" y="96564"/>
                  <a:pt x="54385" y="96564"/>
                  <a:pt x="54385" y="96564"/>
                </a:cubicBezTo>
                <a:cubicBezTo>
                  <a:pt x="54385" y="99819"/>
                  <a:pt x="51302" y="102857"/>
                  <a:pt x="48220" y="102857"/>
                </a:cubicBezTo>
                <a:close/>
                <a:moveTo>
                  <a:pt x="48220" y="53815"/>
                </a:moveTo>
                <a:lnTo>
                  <a:pt x="48220" y="53815"/>
                </a:lnTo>
                <a:cubicBezTo>
                  <a:pt x="23339" y="53815"/>
                  <a:pt x="23339" y="53815"/>
                  <a:pt x="23339" y="53815"/>
                </a:cubicBezTo>
                <a:cubicBezTo>
                  <a:pt x="18715" y="53815"/>
                  <a:pt x="17174" y="50777"/>
                  <a:pt x="17174" y="47522"/>
                </a:cubicBezTo>
                <a:cubicBezTo>
                  <a:pt x="17174" y="44484"/>
                  <a:pt x="18715" y="41446"/>
                  <a:pt x="23339" y="41446"/>
                </a:cubicBezTo>
                <a:cubicBezTo>
                  <a:pt x="32587" y="41446"/>
                  <a:pt x="32587" y="41446"/>
                  <a:pt x="32587" y="41446"/>
                </a:cubicBezTo>
                <a:cubicBezTo>
                  <a:pt x="1541" y="10849"/>
                  <a:pt x="1541" y="10849"/>
                  <a:pt x="1541" y="10849"/>
                </a:cubicBezTo>
                <a:lnTo>
                  <a:pt x="1541" y="10849"/>
                </a:lnTo>
                <a:cubicBezTo>
                  <a:pt x="0" y="9330"/>
                  <a:pt x="0" y="7811"/>
                  <a:pt x="0" y="6075"/>
                </a:cubicBezTo>
                <a:cubicBezTo>
                  <a:pt x="0" y="3037"/>
                  <a:pt x="3082" y="0"/>
                  <a:pt x="6165" y="0"/>
                </a:cubicBezTo>
                <a:cubicBezTo>
                  <a:pt x="7706" y="0"/>
                  <a:pt x="9247" y="1518"/>
                  <a:pt x="10788" y="1518"/>
                </a:cubicBezTo>
                <a:lnTo>
                  <a:pt x="10788" y="1518"/>
                </a:lnTo>
                <a:cubicBezTo>
                  <a:pt x="42055" y="32332"/>
                  <a:pt x="42055" y="32332"/>
                  <a:pt x="42055" y="32332"/>
                </a:cubicBezTo>
                <a:cubicBezTo>
                  <a:pt x="42055" y="23001"/>
                  <a:pt x="42055" y="23001"/>
                  <a:pt x="42055" y="23001"/>
                </a:cubicBezTo>
                <a:cubicBezTo>
                  <a:pt x="42055" y="19963"/>
                  <a:pt x="43596" y="16925"/>
                  <a:pt x="48220" y="16925"/>
                </a:cubicBezTo>
                <a:cubicBezTo>
                  <a:pt x="51302" y="16925"/>
                  <a:pt x="54385" y="19963"/>
                  <a:pt x="54385" y="23001"/>
                </a:cubicBezTo>
                <a:cubicBezTo>
                  <a:pt x="54385" y="47522"/>
                  <a:pt x="54385" y="47522"/>
                  <a:pt x="54385" y="47522"/>
                </a:cubicBezTo>
                <a:cubicBezTo>
                  <a:pt x="54385" y="50777"/>
                  <a:pt x="51302" y="53815"/>
                  <a:pt x="48220" y="53815"/>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traight Connector 26"/>
          <p:cNvSpPr/>
          <p:nvPr/>
        </p:nvSpPr>
        <p:spPr>
          <a:xfrm>
            <a:off x="5219640" y="1704960"/>
            <a:ext cx="1752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87" name="Group 27"/>
          <p:cNvGrpSpPr/>
          <p:nvPr/>
        </p:nvGrpSpPr>
        <p:grpSpPr>
          <a:xfrm>
            <a:off x="284040" y="255600"/>
            <a:ext cx="825480" cy="824040"/>
            <a:chOff x="284040" y="255600"/>
            <a:chExt cx="825480" cy="824040"/>
          </a:xfrm>
        </p:grpSpPr>
        <p:sp>
          <p:nvSpPr>
            <p:cNvPr id="1388" name="Frame 28"/>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9" name="Rectangle 29"/>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13"/>
          <p:cNvSpPr/>
          <p:nvPr/>
        </p:nvSpPr>
        <p:spPr>
          <a:xfrm>
            <a:off x="0" y="0"/>
            <a:ext cx="12192120" cy="6858000"/>
          </a:xfrm>
          <a:prstGeom prst="rect">
            <a:avLst/>
          </a:prstGeom>
          <a:gradFill rotWithShape="0">
            <a:gsLst>
              <a:gs pos="0">
                <a:srgbClr val="0070c0">
                  <a:alpha val="80000"/>
                </a:srgbClr>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1" name="Subtitle 2"/>
          <p:cNvSpPr/>
          <p:nvPr/>
        </p:nvSpPr>
        <p:spPr>
          <a:xfrm>
            <a:off x="3092400" y="722160"/>
            <a:ext cx="6007320" cy="9604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Black"/>
                <a:ea typeface="Lato Black"/>
              </a:rPr>
              <a:t>OUR LAST PROJECTS IN NUMBERS</a:t>
            </a:r>
            <a:endParaRPr b="0" lang="en-US" sz="3200" spc="-1" strike="noStrike">
              <a:solidFill>
                <a:srgbClr val="000000"/>
              </a:solidFill>
              <a:latin typeface="Calibri"/>
            </a:endParaRPr>
          </a:p>
        </p:txBody>
      </p:sp>
      <p:sp>
        <p:nvSpPr>
          <p:cNvPr id="1392" name="Rectangle 6"/>
          <p:cNvSpPr/>
          <p:nvPr/>
        </p:nvSpPr>
        <p:spPr>
          <a:xfrm>
            <a:off x="1571760" y="1908000"/>
            <a:ext cx="90486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a:t>
            </a:r>
            <a:r>
              <a:rPr b="0" lang="en-US" sz="1000" spc="-1" strike="noStrike">
                <a:solidFill>
                  <a:srgbClr val="ffffff"/>
                </a:solidFill>
                <a:latin typeface="Montserrat"/>
                <a:ea typeface="Open Sans"/>
              </a:rPr>
              <a:t>.</a:t>
            </a:r>
            <a:endParaRPr b="0" lang="en-US" sz="1000" spc="-1" strike="noStrike">
              <a:solidFill>
                <a:srgbClr val="000000"/>
              </a:solidFill>
              <a:latin typeface="Calibri"/>
            </a:endParaRPr>
          </a:p>
        </p:txBody>
      </p:sp>
      <p:sp>
        <p:nvSpPr>
          <p:cNvPr id="1393" name="Rectangle 7"/>
          <p:cNvSpPr/>
          <p:nvPr/>
        </p:nvSpPr>
        <p:spPr>
          <a:xfrm>
            <a:off x="798480" y="3367080"/>
            <a:ext cx="2308320" cy="230832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4" name="Rectangle 8"/>
          <p:cNvSpPr/>
          <p:nvPr/>
        </p:nvSpPr>
        <p:spPr>
          <a:xfrm>
            <a:off x="3643200" y="3373560"/>
            <a:ext cx="2308320" cy="230652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Rectangle 9"/>
          <p:cNvSpPr/>
          <p:nvPr/>
        </p:nvSpPr>
        <p:spPr>
          <a:xfrm>
            <a:off x="6488280" y="3378240"/>
            <a:ext cx="2307960" cy="230832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Rectangle 10"/>
          <p:cNvSpPr/>
          <p:nvPr/>
        </p:nvSpPr>
        <p:spPr>
          <a:xfrm>
            <a:off x="9333000" y="3382920"/>
            <a:ext cx="2307960" cy="230832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7" name="Rectangle 11"/>
          <p:cNvSpPr/>
          <p:nvPr/>
        </p:nvSpPr>
        <p:spPr>
          <a:xfrm>
            <a:off x="887400" y="4879800"/>
            <a:ext cx="21463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a:t>
            </a:r>
            <a:endParaRPr b="0" lang="en-US" sz="1000" spc="-1" strike="noStrike">
              <a:solidFill>
                <a:srgbClr val="000000"/>
              </a:solidFill>
              <a:latin typeface="Calibri"/>
            </a:endParaRPr>
          </a:p>
        </p:txBody>
      </p:sp>
      <p:sp>
        <p:nvSpPr>
          <p:cNvPr id="1398" name="Subtitle 2"/>
          <p:cNvSpPr/>
          <p:nvPr/>
        </p:nvSpPr>
        <p:spPr>
          <a:xfrm>
            <a:off x="1100160" y="4557600"/>
            <a:ext cx="1720800" cy="355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Black"/>
                <a:ea typeface="Open Sans"/>
              </a:rPr>
              <a:t>CLIENTS</a:t>
            </a:r>
            <a:endParaRPr b="0" lang="en-US" sz="1800" spc="-1" strike="noStrike">
              <a:solidFill>
                <a:srgbClr val="000000"/>
              </a:solidFill>
              <a:latin typeface="Calibri"/>
            </a:endParaRPr>
          </a:p>
        </p:txBody>
      </p:sp>
      <p:sp>
        <p:nvSpPr>
          <p:cNvPr id="1399" name="Subtitle 2"/>
          <p:cNvSpPr/>
          <p:nvPr/>
        </p:nvSpPr>
        <p:spPr>
          <a:xfrm>
            <a:off x="3882960" y="4572000"/>
            <a:ext cx="2041560" cy="3366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Black"/>
                <a:ea typeface="Open Sans"/>
              </a:rPr>
              <a:t>PRODUCTS</a:t>
            </a:r>
            <a:endParaRPr b="0" lang="en-US" sz="1800" spc="-1" strike="noStrike">
              <a:solidFill>
                <a:srgbClr val="000000"/>
              </a:solidFill>
              <a:latin typeface="Calibri"/>
            </a:endParaRPr>
          </a:p>
        </p:txBody>
      </p:sp>
      <p:sp>
        <p:nvSpPr>
          <p:cNvPr id="1400" name="Rectangle 20"/>
          <p:cNvSpPr/>
          <p:nvPr/>
        </p:nvSpPr>
        <p:spPr>
          <a:xfrm>
            <a:off x="3718080" y="4879800"/>
            <a:ext cx="21463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a:t>
            </a:r>
            <a:endParaRPr b="0" lang="en-US" sz="1000" spc="-1" strike="noStrike">
              <a:solidFill>
                <a:srgbClr val="000000"/>
              </a:solidFill>
              <a:latin typeface="Calibri"/>
            </a:endParaRPr>
          </a:p>
        </p:txBody>
      </p:sp>
      <p:sp>
        <p:nvSpPr>
          <p:cNvPr id="1401" name="Rectangle 21"/>
          <p:cNvSpPr/>
          <p:nvPr/>
        </p:nvSpPr>
        <p:spPr>
          <a:xfrm>
            <a:off x="6548400" y="4879800"/>
            <a:ext cx="21463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a:t>
            </a:r>
            <a:endParaRPr b="0" lang="en-US" sz="1000" spc="-1" strike="noStrike">
              <a:solidFill>
                <a:srgbClr val="000000"/>
              </a:solidFill>
              <a:latin typeface="Calibri"/>
            </a:endParaRPr>
          </a:p>
        </p:txBody>
      </p:sp>
      <p:sp>
        <p:nvSpPr>
          <p:cNvPr id="1402" name="Rectangle 22"/>
          <p:cNvSpPr/>
          <p:nvPr/>
        </p:nvSpPr>
        <p:spPr>
          <a:xfrm>
            <a:off x="9379080" y="4879800"/>
            <a:ext cx="21445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a:t>
            </a:r>
            <a:endParaRPr b="0" lang="en-US" sz="1000" spc="-1" strike="noStrike">
              <a:solidFill>
                <a:srgbClr val="000000"/>
              </a:solidFill>
              <a:latin typeface="Calibri"/>
            </a:endParaRPr>
          </a:p>
        </p:txBody>
      </p:sp>
      <p:sp>
        <p:nvSpPr>
          <p:cNvPr id="1403" name="Subtitle 2"/>
          <p:cNvSpPr/>
          <p:nvPr/>
        </p:nvSpPr>
        <p:spPr>
          <a:xfrm>
            <a:off x="6705720" y="4572000"/>
            <a:ext cx="1828800" cy="355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Black"/>
                <a:ea typeface="Open Sans"/>
              </a:rPr>
              <a:t>APPS</a:t>
            </a:r>
            <a:endParaRPr b="0" lang="en-US" sz="1800" spc="-1" strike="noStrike">
              <a:solidFill>
                <a:srgbClr val="000000"/>
              </a:solidFill>
              <a:latin typeface="Calibri"/>
            </a:endParaRPr>
          </a:p>
        </p:txBody>
      </p:sp>
      <p:sp>
        <p:nvSpPr>
          <p:cNvPr id="1404" name="Subtitle 2"/>
          <p:cNvSpPr/>
          <p:nvPr/>
        </p:nvSpPr>
        <p:spPr>
          <a:xfrm>
            <a:off x="9528120" y="4572000"/>
            <a:ext cx="1828800" cy="355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Black"/>
                <a:ea typeface="Open Sans"/>
              </a:rPr>
              <a:t>WEBSITES</a:t>
            </a:r>
            <a:endParaRPr b="0" lang="en-US" sz="1800" spc="-1" strike="noStrike">
              <a:solidFill>
                <a:srgbClr val="000000"/>
              </a:solidFill>
              <a:latin typeface="Calibri"/>
            </a:endParaRPr>
          </a:p>
        </p:txBody>
      </p:sp>
      <p:sp>
        <p:nvSpPr>
          <p:cNvPr id="1405" name="Subtitle 2"/>
          <p:cNvSpPr/>
          <p:nvPr/>
        </p:nvSpPr>
        <p:spPr>
          <a:xfrm>
            <a:off x="1006560" y="3728880"/>
            <a:ext cx="1908000" cy="76536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Arial Black"/>
                <a:ea typeface="Open Sans"/>
              </a:rPr>
              <a:t>6</a:t>
            </a:r>
            <a:r>
              <a:rPr b="1" lang="en-US" sz="5400" spc="-1" strike="noStrike">
                <a:solidFill>
                  <a:srgbClr val="ffffff"/>
                </a:solidFill>
                <a:latin typeface="Arial Black"/>
                <a:ea typeface="Open Sans"/>
              </a:rPr>
              <a:t>47</a:t>
            </a:r>
            <a:endParaRPr b="0" lang="en-US" sz="5400" spc="-1" strike="noStrike">
              <a:solidFill>
                <a:srgbClr val="000000"/>
              </a:solidFill>
              <a:latin typeface="Calibri"/>
            </a:endParaRPr>
          </a:p>
        </p:txBody>
      </p:sp>
      <p:sp>
        <p:nvSpPr>
          <p:cNvPr id="1406" name="Subtitle 2"/>
          <p:cNvSpPr/>
          <p:nvPr/>
        </p:nvSpPr>
        <p:spPr>
          <a:xfrm>
            <a:off x="3949560" y="3728880"/>
            <a:ext cx="1906560" cy="76536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Arial Black"/>
                <a:ea typeface="Open Sans"/>
              </a:rPr>
              <a:t>4</a:t>
            </a:r>
            <a:r>
              <a:rPr b="1" lang="en-US" sz="5400" spc="-1" strike="noStrike">
                <a:solidFill>
                  <a:srgbClr val="ffffff"/>
                </a:solidFill>
                <a:latin typeface="Arial Black"/>
                <a:ea typeface="Open Sans"/>
              </a:rPr>
              <a:t>39</a:t>
            </a:r>
            <a:endParaRPr b="0" lang="en-US" sz="5400" spc="-1" strike="noStrike">
              <a:solidFill>
                <a:srgbClr val="000000"/>
              </a:solidFill>
              <a:latin typeface="Calibri"/>
            </a:endParaRPr>
          </a:p>
        </p:txBody>
      </p:sp>
      <p:sp>
        <p:nvSpPr>
          <p:cNvPr id="1407" name="Subtitle 2"/>
          <p:cNvSpPr/>
          <p:nvPr/>
        </p:nvSpPr>
        <p:spPr>
          <a:xfrm>
            <a:off x="6780240" y="3728880"/>
            <a:ext cx="1906560" cy="76536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Arial Black"/>
                <a:ea typeface="Open Sans"/>
              </a:rPr>
              <a:t>5</a:t>
            </a:r>
            <a:r>
              <a:rPr b="1" lang="en-US" sz="5400" spc="-1" strike="noStrike">
                <a:solidFill>
                  <a:srgbClr val="ffffff"/>
                </a:solidFill>
                <a:latin typeface="Arial Black"/>
                <a:ea typeface="Open Sans"/>
              </a:rPr>
              <a:t>28</a:t>
            </a:r>
            <a:endParaRPr b="0" lang="en-US" sz="5400" spc="-1" strike="noStrike">
              <a:solidFill>
                <a:srgbClr val="000000"/>
              </a:solidFill>
              <a:latin typeface="Calibri"/>
            </a:endParaRPr>
          </a:p>
        </p:txBody>
      </p:sp>
      <p:sp>
        <p:nvSpPr>
          <p:cNvPr id="1408" name="Subtitle 2"/>
          <p:cNvSpPr/>
          <p:nvPr/>
        </p:nvSpPr>
        <p:spPr>
          <a:xfrm>
            <a:off x="9499680" y="3728880"/>
            <a:ext cx="1906560" cy="76536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Open Sans"/>
              </a:rPr>
              <a:t>824</a:t>
            </a:r>
            <a:endParaRPr b="0" lang="en-US" sz="5400" spc="-1" strike="noStrike">
              <a:solidFill>
                <a:srgbClr val="000000"/>
              </a:solidFill>
              <a:latin typeface="Calibri"/>
            </a:endParaRPr>
          </a:p>
        </p:txBody>
      </p:sp>
      <p:pic>
        <p:nvPicPr>
          <p:cNvPr id="1409"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3"/>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4"/>
          <p:cNvSpPr/>
          <p:nvPr/>
        </p:nvSpPr>
        <p:spPr>
          <a:xfrm>
            <a:off x="3521520" y="2766960"/>
            <a:ext cx="5149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ea typeface="Aharoni"/>
              </a:rPr>
              <a:t>WELCOME</a:t>
            </a:r>
            <a:endParaRPr b="0" lang="en-US" sz="8000" spc="-1" strike="noStrike">
              <a:solidFill>
                <a:srgbClr val="000000"/>
              </a:solidFill>
              <a:latin typeface="Calibri"/>
            </a:endParaRPr>
          </a:p>
        </p:txBody>
      </p:sp>
      <p:grpSp>
        <p:nvGrpSpPr>
          <p:cNvPr id="1109" name="Group 5"/>
          <p:cNvGrpSpPr/>
          <p:nvPr/>
        </p:nvGrpSpPr>
        <p:grpSpPr>
          <a:xfrm>
            <a:off x="8469000" y="255600"/>
            <a:ext cx="3327840" cy="246240"/>
            <a:chOff x="8469000" y="255600"/>
            <a:chExt cx="3327840" cy="246240"/>
          </a:xfrm>
        </p:grpSpPr>
        <p:sp>
          <p:nvSpPr>
            <p:cNvPr id="1110" name="Rectangle 6"/>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111" name="Straight Arrow Connector 7"/>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112" name="Rectangle 8"/>
          <p:cNvSpPr/>
          <p:nvPr/>
        </p:nvSpPr>
        <p:spPr>
          <a:xfrm>
            <a:off x="4021200" y="4213080"/>
            <a:ext cx="4149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ontserrat"/>
              </a:rPr>
              <a:t>BUSINESS TEMPLATE PRESENTATION</a:t>
            </a:r>
            <a:endParaRPr b="0" lang="en-US" sz="1100" spc="-1" strike="noStrike">
              <a:solidFill>
                <a:srgbClr val="000000"/>
              </a:solidFill>
              <a:latin typeface="Calibri"/>
            </a:endParaRPr>
          </a:p>
        </p:txBody>
      </p:sp>
      <p:grpSp>
        <p:nvGrpSpPr>
          <p:cNvPr id="1113" name="Group 14"/>
          <p:cNvGrpSpPr/>
          <p:nvPr/>
        </p:nvGrpSpPr>
        <p:grpSpPr>
          <a:xfrm>
            <a:off x="284040" y="255600"/>
            <a:ext cx="825480" cy="824040"/>
            <a:chOff x="284040" y="255600"/>
            <a:chExt cx="825480" cy="824040"/>
          </a:xfrm>
        </p:grpSpPr>
        <p:sp>
          <p:nvSpPr>
            <p:cNvPr id="1114" name="Frame 15"/>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5" name="Rectangle 16"/>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116"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15"/>
          <p:cNvSpPr/>
          <p:nvPr/>
        </p:nvSpPr>
        <p:spPr>
          <a:xfrm>
            <a:off x="0" y="0"/>
            <a:ext cx="12192120" cy="6858000"/>
          </a:xfrm>
          <a:prstGeom prst="rect">
            <a:avLst/>
          </a:prstGeom>
          <a:gradFill rotWithShape="0">
            <a:gsLst>
              <a:gs pos="0">
                <a:srgbClr val="0070c0">
                  <a:alpha val="80000"/>
                </a:srgbClr>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Subtitle 2"/>
          <p:cNvSpPr/>
          <p:nvPr/>
        </p:nvSpPr>
        <p:spPr>
          <a:xfrm>
            <a:off x="2932200" y="652320"/>
            <a:ext cx="6327720" cy="50976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Arial Black"/>
                <a:ea typeface="Lato Black"/>
              </a:rPr>
              <a:t>OUR SERVICE</a:t>
            </a:r>
            <a:endParaRPr b="0" lang="en-US" sz="3600" spc="-1" strike="noStrike">
              <a:solidFill>
                <a:srgbClr val="000000"/>
              </a:solidFill>
              <a:latin typeface="Calibri"/>
            </a:endParaRPr>
          </a:p>
        </p:txBody>
      </p:sp>
      <p:sp>
        <p:nvSpPr>
          <p:cNvPr id="1412" name="Rectangle 6"/>
          <p:cNvSpPr/>
          <p:nvPr/>
        </p:nvSpPr>
        <p:spPr>
          <a:xfrm>
            <a:off x="1643040" y="1569960"/>
            <a:ext cx="90835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a:t>
            </a:r>
            <a:r>
              <a:rPr b="0" lang="en-US" sz="1000" spc="-1" strike="noStrike">
                <a:solidFill>
                  <a:srgbClr val="ffffff"/>
                </a:solidFill>
                <a:latin typeface="Montserrat"/>
                <a:ea typeface="Open Sans"/>
              </a:rPr>
              <a:t>.</a:t>
            </a:r>
            <a:endParaRPr b="0" lang="en-US" sz="1000" spc="-1" strike="noStrike">
              <a:solidFill>
                <a:srgbClr val="000000"/>
              </a:solidFill>
              <a:latin typeface="Calibri"/>
            </a:endParaRPr>
          </a:p>
        </p:txBody>
      </p:sp>
      <p:sp>
        <p:nvSpPr>
          <p:cNvPr id="1413" name="Subtitle 2"/>
          <p:cNvSpPr/>
          <p:nvPr/>
        </p:nvSpPr>
        <p:spPr>
          <a:xfrm>
            <a:off x="1157400" y="4903920"/>
            <a:ext cx="2303280" cy="2746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Black"/>
                <a:ea typeface="Lato Black"/>
              </a:rPr>
              <a:t>YOUR TITLE HERE</a:t>
            </a:r>
            <a:endParaRPr b="0" lang="en-US" sz="1400" spc="-1" strike="noStrike">
              <a:solidFill>
                <a:srgbClr val="000000"/>
              </a:solidFill>
              <a:latin typeface="Calibri"/>
            </a:endParaRPr>
          </a:p>
        </p:txBody>
      </p:sp>
      <p:sp>
        <p:nvSpPr>
          <p:cNvPr id="1414" name="Rectangle 20"/>
          <p:cNvSpPr/>
          <p:nvPr/>
        </p:nvSpPr>
        <p:spPr>
          <a:xfrm>
            <a:off x="917640" y="5389560"/>
            <a:ext cx="278280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 justo libero vivamus porttitor dolor</a:t>
            </a:r>
            <a:r>
              <a:rPr b="0" lang="en-US" sz="1000" spc="-1" strike="noStrike">
                <a:solidFill>
                  <a:srgbClr val="ffffff"/>
                </a:solidFill>
                <a:latin typeface="Montserrat"/>
                <a:ea typeface="Open Sans"/>
              </a:rPr>
              <a:t>.</a:t>
            </a:r>
            <a:endParaRPr b="0" lang="en-US" sz="1000" spc="-1" strike="noStrike">
              <a:solidFill>
                <a:srgbClr val="000000"/>
              </a:solidFill>
              <a:latin typeface="Calibri"/>
            </a:endParaRPr>
          </a:p>
        </p:txBody>
      </p:sp>
      <p:sp>
        <p:nvSpPr>
          <p:cNvPr id="1415" name="Subtitle 2"/>
          <p:cNvSpPr/>
          <p:nvPr/>
        </p:nvSpPr>
        <p:spPr>
          <a:xfrm>
            <a:off x="4761000" y="4903920"/>
            <a:ext cx="2303280" cy="2746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Black"/>
                <a:ea typeface="Lato Black"/>
              </a:rPr>
              <a:t>YOUR TITLE HERE</a:t>
            </a:r>
            <a:endParaRPr b="0" lang="en-US" sz="1400" spc="-1" strike="noStrike">
              <a:solidFill>
                <a:srgbClr val="000000"/>
              </a:solidFill>
              <a:latin typeface="Calibri"/>
            </a:endParaRPr>
          </a:p>
        </p:txBody>
      </p:sp>
      <p:sp>
        <p:nvSpPr>
          <p:cNvPr id="1416" name="Rectangle 26"/>
          <p:cNvSpPr/>
          <p:nvPr/>
        </p:nvSpPr>
        <p:spPr>
          <a:xfrm>
            <a:off x="4522680" y="5389560"/>
            <a:ext cx="27781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 justo libero vivamus porttitor dolor</a:t>
            </a:r>
            <a:r>
              <a:rPr b="0" lang="en-US" sz="1000" spc="-1" strike="noStrike">
                <a:solidFill>
                  <a:srgbClr val="ffffff"/>
                </a:solidFill>
                <a:latin typeface="Montserrat"/>
                <a:ea typeface="Open Sans"/>
              </a:rPr>
              <a:t>.</a:t>
            </a:r>
            <a:endParaRPr b="0" lang="en-US" sz="1000" spc="-1" strike="noStrike">
              <a:solidFill>
                <a:srgbClr val="000000"/>
              </a:solidFill>
              <a:latin typeface="Calibri"/>
            </a:endParaRPr>
          </a:p>
        </p:txBody>
      </p:sp>
      <p:sp>
        <p:nvSpPr>
          <p:cNvPr id="1417" name="Subtitle 2"/>
          <p:cNvSpPr/>
          <p:nvPr/>
        </p:nvSpPr>
        <p:spPr>
          <a:xfrm>
            <a:off x="8245440" y="4903920"/>
            <a:ext cx="2301840" cy="2746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Black"/>
                <a:ea typeface="Lato Black"/>
              </a:rPr>
              <a:t>YOUR TITLE HERE</a:t>
            </a:r>
            <a:endParaRPr b="0" lang="en-US" sz="1400" spc="-1" strike="noStrike">
              <a:solidFill>
                <a:srgbClr val="000000"/>
              </a:solidFill>
              <a:latin typeface="Calibri"/>
            </a:endParaRPr>
          </a:p>
        </p:txBody>
      </p:sp>
      <p:sp>
        <p:nvSpPr>
          <p:cNvPr id="1418" name="Rectangle 28"/>
          <p:cNvSpPr/>
          <p:nvPr/>
        </p:nvSpPr>
        <p:spPr>
          <a:xfrm>
            <a:off x="7945560" y="5389560"/>
            <a:ext cx="2909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 justo libero vivamus porttitor dolor</a:t>
            </a:r>
            <a:r>
              <a:rPr b="0" lang="en-US" sz="1000" spc="-1" strike="noStrike">
                <a:solidFill>
                  <a:srgbClr val="ffffff"/>
                </a:solidFill>
                <a:latin typeface="Montserrat"/>
                <a:ea typeface="Open Sans"/>
              </a:rPr>
              <a:t>.</a:t>
            </a:r>
            <a:endParaRPr b="0" lang="en-US" sz="1000" spc="-1" strike="noStrike">
              <a:solidFill>
                <a:srgbClr val="000000"/>
              </a:solidFill>
              <a:latin typeface="Calibri"/>
            </a:endParaRPr>
          </a:p>
        </p:txBody>
      </p:sp>
      <p:grpSp>
        <p:nvGrpSpPr>
          <p:cNvPr id="1419" name="Group 12"/>
          <p:cNvGrpSpPr/>
          <p:nvPr/>
        </p:nvGrpSpPr>
        <p:grpSpPr>
          <a:xfrm>
            <a:off x="4884840" y="2676600"/>
            <a:ext cx="2047680" cy="2046240"/>
            <a:chOff x="4884840" y="2676600"/>
            <a:chExt cx="2047680" cy="2046240"/>
          </a:xfrm>
        </p:grpSpPr>
        <p:sp>
          <p:nvSpPr>
            <p:cNvPr id="1420" name="Shape 4742"/>
            <p:cNvSpPr/>
            <p:nvPr/>
          </p:nvSpPr>
          <p:spPr>
            <a:xfrm>
              <a:off x="5632200" y="3339720"/>
              <a:ext cx="552960" cy="720000"/>
            </a:xfrm>
            <a:custGeom>
              <a:avLst/>
              <a:gdLst>
                <a:gd name="textAreaLeft" fmla="*/ 0 w 552960"/>
                <a:gd name="textAreaRight" fmla="*/ 553320 w 552960"/>
                <a:gd name="textAreaTop" fmla="*/ 0 h 720000"/>
                <a:gd name="textAreaBottom" fmla="*/ 720000 h 72000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Oval 10"/>
            <p:cNvSpPr/>
            <p:nvPr/>
          </p:nvSpPr>
          <p:spPr>
            <a:xfrm>
              <a:off x="4884840" y="2676600"/>
              <a:ext cx="2047680" cy="20462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22" name="Group 13"/>
          <p:cNvGrpSpPr/>
          <p:nvPr/>
        </p:nvGrpSpPr>
        <p:grpSpPr>
          <a:xfrm>
            <a:off x="1285920" y="2662200"/>
            <a:ext cx="2046240" cy="2046240"/>
            <a:chOff x="1285920" y="2662200"/>
            <a:chExt cx="2046240" cy="2046240"/>
          </a:xfrm>
        </p:grpSpPr>
        <p:sp>
          <p:nvSpPr>
            <p:cNvPr id="1423" name="Shape 4739"/>
            <p:cNvSpPr/>
            <p:nvPr/>
          </p:nvSpPr>
          <p:spPr>
            <a:xfrm>
              <a:off x="1932120" y="3339360"/>
              <a:ext cx="753840" cy="689760"/>
            </a:xfrm>
            <a:custGeom>
              <a:avLst/>
              <a:gdLst>
                <a:gd name="textAreaLeft" fmla="*/ 0 w 753840"/>
                <a:gd name="textAreaRight" fmla="*/ 754200 w 753840"/>
                <a:gd name="textAreaTop" fmla="*/ 0 h 689760"/>
                <a:gd name="textAreaBottom" fmla="*/ 690120 h 689760"/>
              </a:gdLst>
              <a:ahLst/>
              <a:rect l="textAreaLeft" t="textAreaTop" r="textAreaRight" b="textAreaBottom"/>
              <a:pathLst>
                <a:path w="120000" h="120000">
                  <a:moveTo>
                    <a:pt x="95223" y="15050"/>
                  </a:moveTo>
                  <a:lnTo>
                    <a:pt x="95223" y="15050"/>
                  </a:lnTo>
                  <a:cubicBezTo>
                    <a:pt x="95223" y="6101"/>
                    <a:pt x="89861" y="0"/>
                    <a:pt x="81725" y="0"/>
                  </a:cubicBezTo>
                  <a:cubicBezTo>
                    <a:pt x="38089" y="0"/>
                    <a:pt x="38089" y="0"/>
                    <a:pt x="38089" y="0"/>
                  </a:cubicBezTo>
                  <a:cubicBezTo>
                    <a:pt x="29953" y="0"/>
                    <a:pt x="24591" y="6101"/>
                    <a:pt x="24591" y="15050"/>
                  </a:cubicBezTo>
                  <a:cubicBezTo>
                    <a:pt x="0" y="15050"/>
                    <a:pt x="2773" y="15050"/>
                    <a:pt x="2773" y="32949"/>
                  </a:cubicBezTo>
                  <a:cubicBezTo>
                    <a:pt x="2773" y="44949"/>
                    <a:pt x="10909" y="56949"/>
                    <a:pt x="24591" y="56949"/>
                  </a:cubicBezTo>
                  <a:cubicBezTo>
                    <a:pt x="24591" y="56949"/>
                    <a:pt x="24591" y="56949"/>
                    <a:pt x="27180" y="56949"/>
                  </a:cubicBezTo>
                  <a:cubicBezTo>
                    <a:pt x="29953" y="71796"/>
                    <a:pt x="43636" y="86847"/>
                    <a:pt x="57134" y="86847"/>
                  </a:cubicBezTo>
                  <a:cubicBezTo>
                    <a:pt x="57134" y="110847"/>
                    <a:pt x="57134" y="110847"/>
                    <a:pt x="57134" y="110847"/>
                  </a:cubicBezTo>
                  <a:cubicBezTo>
                    <a:pt x="46224" y="110847"/>
                    <a:pt x="46224" y="110847"/>
                    <a:pt x="46224" y="110847"/>
                  </a:cubicBezTo>
                  <a:cubicBezTo>
                    <a:pt x="43636" y="110847"/>
                    <a:pt x="40862" y="113898"/>
                    <a:pt x="40862" y="116745"/>
                  </a:cubicBezTo>
                  <a:cubicBezTo>
                    <a:pt x="40862" y="116745"/>
                    <a:pt x="43636" y="119796"/>
                    <a:pt x="46224" y="119796"/>
                  </a:cubicBezTo>
                  <a:cubicBezTo>
                    <a:pt x="73405" y="119796"/>
                    <a:pt x="73405" y="119796"/>
                    <a:pt x="73405" y="119796"/>
                  </a:cubicBezTo>
                  <a:cubicBezTo>
                    <a:pt x="76363" y="119796"/>
                    <a:pt x="78952" y="116745"/>
                    <a:pt x="78952" y="116745"/>
                  </a:cubicBezTo>
                  <a:cubicBezTo>
                    <a:pt x="78952" y="113898"/>
                    <a:pt x="76363" y="110847"/>
                    <a:pt x="73405" y="110847"/>
                  </a:cubicBezTo>
                  <a:cubicBezTo>
                    <a:pt x="62681" y="110847"/>
                    <a:pt x="62681" y="110847"/>
                    <a:pt x="62681" y="110847"/>
                  </a:cubicBezTo>
                  <a:cubicBezTo>
                    <a:pt x="62681" y="86847"/>
                    <a:pt x="62681" y="86847"/>
                    <a:pt x="62681" y="86847"/>
                  </a:cubicBezTo>
                  <a:cubicBezTo>
                    <a:pt x="76363" y="86847"/>
                    <a:pt x="89861" y="71796"/>
                    <a:pt x="92634" y="56949"/>
                  </a:cubicBezTo>
                  <a:cubicBezTo>
                    <a:pt x="95223" y="56949"/>
                    <a:pt x="95223" y="56949"/>
                    <a:pt x="95223" y="56949"/>
                  </a:cubicBezTo>
                  <a:cubicBezTo>
                    <a:pt x="108906" y="56949"/>
                    <a:pt x="117041" y="44949"/>
                    <a:pt x="117041" y="32949"/>
                  </a:cubicBezTo>
                  <a:cubicBezTo>
                    <a:pt x="117041" y="15050"/>
                    <a:pt x="119815" y="15050"/>
                    <a:pt x="95223" y="15050"/>
                  </a:cubicBezTo>
                  <a:close/>
                  <a:moveTo>
                    <a:pt x="24591" y="48000"/>
                  </a:moveTo>
                  <a:lnTo>
                    <a:pt x="24591" y="48000"/>
                  </a:lnTo>
                  <a:cubicBezTo>
                    <a:pt x="16271" y="48000"/>
                    <a:pt x="8135" y="41898"/>
                    <a:pt x="8135" y="32949"/>
                  </a:cubicBezTo>
                  <a:cubicBezTo>
                    <a:pt x="8135" y="24000"/>
                    <a:pt x="8135" y="24000"/>
                    <a:pt x="24591" y="24000"/>
                  </a:cubicBezTo>
                  <a:lnTo>
                    <a:pt x="24591" y="48000"/>
                  </a:lnTo>
                  <a:close/>
                  <a:moveTo>
                    <a:pt x="89861" y="38847"/>
                  </a:moveTo>
                  <a:lnTo>
                    <a:pt x="89861" y="38847"/>
                  </a:lnTo>
                  <a:cubicBezTo>
                    <a:pt x="89861" y="56949"/>
                    <a:pt x="76363" y="80949"/>
                    <a:pt x="59907" y="80949"/>
                  </a:cubicBezTo>
                  <a:cubicBezTo>
                    <a:pt x="43636" y="80949"/>
                    <a:pt x="29953" y="56949"/>
                    <a:pt x="29953" y="38847"/>
                  </a:cubicBezTo>
                  <a:cubicBezTo>
                    <a:pt x="29953" y="15050"/>
                    <a:pt x="29953" y="15050"/>
                    <a:pt x="29953" y="15050"/>
                  </a:cubicBezTo>
                  <a:cubicBezTo>
                    <a:pt x="29953" y="12000"/>
                    <a:pt x="35500" y="8949"/>
                    <a:pt x="38089" y="8949"/>
                  </a:cubicBezTo>
                  <a:cubicBezTo>
                    <a:pt x="81725" y="8949"/>
                    <a:pt x="81725" y="8949"/>
                    <a:pt x="81725" y="8949"/>
                  </a:cubicBezTo>
                  <a:cubicBezTo>
                    <a:pt x="84314" y="8949"/>
                    <a:pt x="89861" y="12000"/>
                    <a:pt x="89861" y="15050"/>
                  </a:cubicBezTo>
                  <a:lnTo>
                    <a:pt x="89861" y="38847"/>
                  </a:lnTo>
                  <a:close/>
                  <a:moveTo>
                    <a:pt x="95223" y="48000"/>
                  </a:moveTo>
                  <a:lnTo>
                    <a:pt x="95223" y="48000"/>
                  </a:lnTo>
                  <a:cubicBezTo>
                    <a:pt x="95223" y="24000"/>
                    <a:pt x="95223" y="24000"/>
                    <a:pt x="95223" y="24000"/>
                  </a:cubicBezTo>
                  <a:cubicBezTo>
                    <a:pt x="111679" y="24000"/>
                    <a:pt x="111679" y="24000"/>
                    <a:pt x="111679" y="32949"/>
                  </a:cubicBezTo>
                  <a:cubicBezTo>
                    <a:pt x="111679" y="41898"/>
                    <a:pt x="103543" y="48000"/>
                    <a:pt x="95223" y="48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Oval 11"/>
            <p:cNvSpPr/>
            <p:nvPr/>
          </p:nvSpPr>
          <p:spPr>
            <a:xfrm>
              <a:off x="1285920" y="2662200"/>
              <a:ext cx="2046240" cy="20462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25" name="Group 18"/>
          <p:cNvGrpSpPr/>
          <p:nvPr/>
        </p:nvGrpSpPr>
        <p:grpSpPr>
          <a:xfrm>
            <a:off x="8373960" y="2660760"/>
            <a:ext cx="2046240" cy="2046240"/>
            <a:chOff x="8373960" y="2660760"/>
            <a:chExt cx="2046240" cy="2046240"/>
          </a:xfrm>
        </p:grpSpPr>
        <p:sp>
          <p:nvSpPr>
            <p:cNvPr id="1426" name="Shape 4729"/>
            <p:cNvSpPr/>
            <p:nvPr/>
          </p:nvSpPr>
          <p:spPr>
            <a:xfrm>
              <a:off x="9037080" y="3362400"/>
              <a:ext cx="719640" cy="642600"/>
            </a:xfrm>
            <a:custGeom>
              <a:avLst/>
              <a:gdLst>
                <a:gd name="textAreaLeft" fmla="*/ 0 w 719640"/>
                <a:gd name="textAreaRight" fmla="*/ 720000 w 719640"/>
                <a:gd name="textAreaTop" fmla="*/ 0 h 642600"/>
                <a:gd name="textAreaBottom" fmla="*/ 642960 h 642600"/>
              </a:gdLst>
              <a:ahLst/>
              <a:rect l="textAreaLeft" t="textAreaTop" r="textAreaRight" b="textAreaBottom"/>
              <a:pathLst>
                <a:path w="120000" h="120000">
                  <a:moveTo>
                    <a:pt x="105654" y="16263"/>
                  </a:moveTo>
                  <a:lnTo>
                    <a:pt x="105654" y="16263"/>
                  </a:lnTo>
                  <a:cubicBezTo>
                    <a:pt x="94216" y="16263"/>
                    <a:pt x="94216" y="16263"/>
                    <a:pt x="94216" y="16263"/>
                  </a:cubicBezTo>
                  <a:cubicBezTo>
                    <a:pt x="91308" y="6593"/>
                    <a:pt x="91308" y="6593"/>
                    <a:pt x="91308" y="6593"/>
                  </a:cubicBezTo>
                  <a:cubicBezTo>
                    <a:pt x="88400" y="3296"/>
                    <a:pt x="85492" y="0"/>
                    <a:pt x="82778" y="0"/>
                  </a:cubicBezTo>
                  <a:cubicBezTo>
                    <a:pt x="37027" y="0"/>
                    <a:pt x="37027" y="0"/>
                    <a:pt x="37027" y="0"/>
                  </a:cubicBezTo>
                  <a:cubicBezTo>
                    <a:pt x="34313" y="0"/>
                    <a:pt x="31405" y="3296"/>
                    <a:pt x="28497" y="6593"/>
                  </a:cubicBezTo>
                  <a:cubicBezTo>
                    <a:pt x="25589" y="16263"/>
                    <a:pt x="25589" y="16263"/>
                    <a:pt x="25589" y="16263"/>
                  </a:cubicBezTo>
                  <a:cubicBezTo>
                    <a:pt x="14151" y="16263"/>
                    <a:pt x="14151" y="16263"/>
                    <a:pt x="14151" y="16263"/>
                  </a:cubicBezTo>
                  <a:cubicBezTo>
                    <a:pt x="5621" y="16263"/>
                    <a:pt x="0" y="22857"/>
                    <a:pt x="0" y="32307"/>
                  </a:cubicBezTo>
                  <a:cubicBezTo>
                    <a:pt x="0" y="103736"/>
                    <a:pt x="0" y="103736"/>
                    <a:pt x="0" y="103736"/>
                  </a:cubicBezTo>
                  <a:cubicBezTo>
                    <a:pt x="0" y="113406"/>
                    <a:pt x="5621" y="119780"/>
                    <a:pt x="14151" y="119780"/>
                  </a:cubicBezTo>
                  <a:cubicBezTo>
                    <a:pt x="105654" y="119780"/>
                    <a:pt x="105654" y="119780"/>
                    <a:pt x="105654" y="119780"/>
                  </a:cubicBezTo>
                  <a:cubicBezTo>
                    <a:pt x="114184" y="119780"/>
                    <a:pt x="119806" y="113406"/>
                    <a:pt x="119806" y="103736"/>
                  </a:cubicBezTo>
                  <a:cubicBezTo>
                    <a:pt x="119806" y="32307"/>
                    <a:pt x="119806" y="32307"/>
                    <a:pt x="119806" y="32307"/>
                  </a:cubicBezTo>
                  <a:cubicBezTo>
                    <a:pt x="119806" y="22857"/>
                    <a:pt x="114184" y="16263"/>
                    <a:pt x="105654" y="16263"/>
                  </a:cubicBezTo>
                  <a:close/>
                  <a:moveTo>
                    <a:pt x="114184" y="103736"/>
                  </a:moveTo>
                  <a:lnTo>
                    <a:pt x="114184" y="103736"/>
                  </a:lnTo>
                  <a:cubicBezTo>
                    <a:pt x="114184" y="106813"/>
                    <a:pt x="108368" y="110109"/>
                    <a:pt x="105654" y="110109"/>
                  </a:cubicBezTo>
                  <a:cubicBezTo>
                    <a:pt x="14151" y="110109"/>
                    <a:pt x="14151" y="110109"/>
                    <a:pt x="14151" y="110109"/>
                  </a:cubicBezTo>
                  <a:cubicBezTo>
                    <a:pt x="11437" y="110109"/>
                    <a:pt x="5621" y="106813"/>
                    <a:pt x="5621" y="103736"/>
                  </a:cubicBezTo>
                  <a:cubicBezTo>
                    <a:pt x="5621" y="32307"/>
                    <a:pt x="5621" y="32307"/>
                    <a:pt x="5621" y="32307"/>
                  </a:cubicBezTo>
                  <a:cubicBezTo>
                    <a:pt x="5621" y="29230"/>
                    <a:pt x="11437" y="25934"/>
                    <a:pt x="14151" y="25934"/>
                  </a:cubicBezTo>
                  <a:cubicBezTo>
                    <a:pt x="28497" y="25934"/>
                    <a:pt x="28497" y="25934"/>
                    <a:pt x="28497" y="25934"/>
                  </a:cubicBezTo>
                  <a:cubicBezTo>
                    <a:pt x="34313" y="16263"/>
                    <a:pt x="34313" y="16263"/>
                    <a:pt x="34313" y="16263"/>
                  </a:cubicBezTo>
                  <a:cubicBezTo>
                    <a:pt x="37027" y="9890"/>
                    <a:pt x="37027" y="6593"/>
                    <a:pt x="39935" y="6593"/>
                  </a:cubicBezTo>
                  <a:cubicBezTo>
                    <a:pt x="79870" y="6593"/>
                    <a:pt x="79870" y="6593"/>
                    <a:pt x="79870" y="6593"/>
                  </a:cubicBezTo>
                  <a:cubicBezTo>
                    <a:pt x="82778" y="6593"/>
                    <a:pt x="82778" y="9890"/>
                    <a:pt x="85492" y="16263"/>
                  </a:cubicBezTo>
                  <a:cubicBezTo>
                    <a:pt x="91308" y="25934"/>
                    <a:pt x="91308" y="25934"/>
                    <a:pt x="91308" y="25934"/>
                  </a:cubicBezTo>
                  <a:cubicBezTo>
                    <a:pt x="105654" y="25934"/>
                    <a:pt x="105654" y="25934"/>
                    <a:pt x="105654" y="25934"/>
                  </a:cubicBezTo>
                  <a:cubicBezTo>
                    <a:pt x="108368" y="25934"/>
                    <a:pt x="114184" y="29230"/>
                    <a:pt x="114184" y="32307"/>
                  </a:cubicBezTo>
                  <a:lnTo>
                    <a:pt x="114184" y="103736"/>
                  </a:lnTo>
                  <a:close/>
                  <a:moveTo>
                    <a:pt x="59903" y="32307"/>
                  </a:moveTo>
                  <a:lnTo>
                    <a:pt x="59903" y="32307"/>
                  </a:lnTo>
                  <a:cubicBezTo>
                    <a:pt x="42843" y="32307"/>
                    <a:pt x="28497" y="48571"/>
                    <a:pt x="28497" y="68131"/>
                  </a:cubicBezTo>
                  <a:cubicBezTo>
                    <a:pt x="28497" y="87472"/>
                    <a:pt x="42843" y="103736"/>
                    <a:pt x="59903" y="103736"/>
                  </a:cubicBezTo>
                  <a:cubicBezTo>
                    <a:pt x="77156" y="103736"/>
                    <a:pt x="91308" y="87472"/>
                    <a:pt x="91308" y="68131"/>
                  </a:cubicBezTo>
                  <a:cubicBezTo>
                    <a:pt x="91308" y="48571"/>
                    <a:pt x="77156" y="32307"/>
                    <a:pt x="59903" y="32307"/>
                  </a:cubicBezTo>
                  <a:close/>
                  <a:moveTo>
                    <a:pt x="59903" y="93846"/>
                  </a:moveTo>
                  <a:lnTo>
                    <a:pt x="59903" y="93846"/>
                  </a:lnTo>
                  <a:cubicBezTo>
                    <a:pt x="48465" y="93846"/>
                    <a:pt x="37027" y="80879"/>
                    <a:pt x="37027" y="68131"/>
                  </a:cubicBezTo>
                  <a:cubicBezTo>
                    <a:pt x="37027" y="55164"/>
                    <a:pt x="48465" y="42197"/>
                    <a:pt x="59903" y="42197"/>
                  </a:cubicBezTo>
                  <a:cubicBezTo>
                    <a:pt x="71340" y="42197"/>
                    <a:pt x="82778" y="55164"/>
                    <a:pt x="82778" y="68131"/>
                  </a:cubicBezTo>
                  <a:cubicBezTo>
                    <a:pt x="82778" y="80879"/>
                    <a:pt x="71340" y="93846"/>
                    <a:pt x="59903" y="9384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Oval 17"/>
            <p:cNvSpPr/>
            <p:nvPr/>
          </p:nvSpPr>
          <p:spPr>
            <a:xfrm>
              <a:off x="8373960" y="2660760"/>
              <a:ext cx="2046240" cy="20462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28" name="Straight Connector 21"/>
          <p:cNvSpPr/>
          <p:nvPr/>
        </p:nvSpPr>
        <p:spPr>
          <a:xfrm>
            <a:off x="5219640" y="1343160"/>
            <a:ext cx="1752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429"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18"/>
          <p:cNvSpPr/>
          <p:nvPr/>
        </p:nvSpPr>
        <p:spPr>
          <a:xfrm>
            <a:off x="0" y="0"/>
            <a:ext cx="12192120" cy="6858000"/>
          </a:xfrm>
          <a:prstGeom prst="rect">
            <a:avLst/>
          </a:prstGeom>
          <a:gradFill rotWithShape="0">
            <a:gsLst>
              <a:gs pos="0">
                <a:srgbClr val="0070c0">
                  <a:alpha val="80000"/>
                </a:srgbClr>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1" name="Subtitle 2"/>
          <p:cNvSpPr/>
          <p:nvPr/>
        </p:nvSpPr>
        <p:spPr>
          <a:xfrm>
            <a:off x="2932200" y="812880"/>
            <a:ext cx="6327720" cy="11095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Black"/>
                <a:ea typeface="Lato Black"/>
              </a:rPr>
              <a:t>WHAT WE OUR COMMON SERVICE</a:t>
            </a:r>
            <a:endParaRPr b="0" lang="en-US" sz="3200" spc="-1" strike="noStrike">
              <a:solidFill>
                <a:srgbClr val="000000"/>
              </a:solidFill>
              <a:latin typeface="Calibri"/>
            </a:endParaRPr>
          </a:p>
        </p:txBody>
      </p:sp>
      <p:sp>
        <p:nvSpPr>
          <p:cNvPr id="1432" name="Rectangle 6"/>
          <p:cNvSpPr/>
          <p:nvPr/>
        </p:nvSpPr>
        <p:spPr>
          <a:xfrm>
            <a:off x="1482840" y="2090880"/>
            <a:ext cx="922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 justo libero vivamus porttitor dolor, conubia mollit. Sapien nam suspendisse, tincidunt eget Lorem ipsum dolor sit amet, lacus nulla ac netus nibh aliquet, porttitor ligula justo libero vivamus porttitor</a:t>
            </a:r>
            <a:r>
              <a:rPr b="0" lang="en-US" sz="1000" spc="-1" strike="noStrike">
                <a:solidFill>
                  <a:srgbClr val="ffffff"/>
                </a:solidFill>
                <a:latin typeface="Montserrat"/>
                <a:ea typeface="Open Sans"/>
              </a:rPr>
              <a:t>.</a:t>
            </a:r>
            <a:endParaRPr b="0" lang="en-US" sz="1000" spc="-1" strike="noStrike">
              <a:solidFill>
                <a:srgbClr val="000000"/>
              </a:solidFill>
              <a:latin typeface="Calibri"/>
            </a:endParaRPr>
          </a:p>
        </p:txBody>
      </p:sp>
      <p:sp>
        <p:nvSpPr>
          <p:cNvPr id="1433" name="Straight Connector 8"/>
          <p:cNvSpPr/>
          <p:nvPr/>
        </p:nvSpPr>
        <p:spPr>
          <a:xfrm>
            <a:off x="4309920" y="3465360"/>
            <a:ext cx="3948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4" name="Shape 5103"/>
          <p:cNvSpPr/>
          <p:nvPr/>
        </p:nvSpPr>
        <p:spPr>
          <a:xfrm>
            <a:off x="1893960" y="4200480"/>
            <a:ext cx="649080" cy="642960"/>
          </a:xfrm>
          <a:custGeom>
            <a:avLst/>
            <a:gdLst>
              <a:gd name="textAreaLeft" fmla="*/ 0 w 649080"/>
              <a:gd name="textAreaRight" fmla="*/ 649440 w 649080"/>
              <a:gd name="textAreaTop" fmla="*/ 0 h 642960"/>
              <a:gd name="textAreaBottom" fmla="*/ 643320 h 64296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5148"/>
          <p:cNvSpPr/>
          <p:nvPr/>
        </p:nvSpPr>
        <p:spPr>
          <a:xfrm>
            <a:off x="5735520" y="4148280"/>
            <a:ext cx="720720" cy="649080"/>
          </a:xfrm>
          <a:custGeom>
            <a:avLst/>
            <a:gdLst>
              <a:gd name="textAreaLeft" fmla="*/ 0 w 720720"/>
              <a:gd name="textAreaRight" fmla="*/ 721080 w 720720"/>
              <a:gd name="textAreaTop" fmla="*/ 0 h 649080"/>
              <a:gd name="textAreaBottom" fmla="*/ 649440 h 6490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5156"/>
          <p:cNvSpPr/>
          <p:nvPr/>
        </p:nvSpPr>
        <p:spPr>
          <a:xfrm>
            <a:off x="9466200" y="4200480"/>
            <a:ext cx="674640" cy="546120"/>
          </a:xfrm>
          <a:custGeom>
            <a:avLst/>
            <a:gdLst>
              <a:gd name="textAreaLeft" fmla="*/ 0 w 674640"/>
              <a:gd name="textAreaRight" fmla="*/ 675000 w 674640"/>
              <a:gd name="textAreaTop" fmla="*/ 0 h 546120"/>
              <a:gd name="textAreaBottom" fmla="*/ 546480 h 54612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ubtitle 2"/>
          <p:cNvSpPr/>
          <p:nvPr/>
        </p:nvSpPr>
        <p:spPr>
          <a:xfrm>
            <a:off x="1157400" y="4967280"/>
            <a:ext cx="2303280" cy="2746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Black"/>
                <a:ea typeface="Open Sans"/>
              </a:rPr>
              <a:t>YOUR TITLE HERE</a:t>
            </a:r>
            <a:endParaRPr b="0" lang="en-US" sz="1400" spc="-1" strike="noStrike">
              <a:solidFill>
                <a:srgbClr val="000000"/>
              </a:solidFill>
              <a:latin typeface="Calibri"/>
            </a:endParaRPr>
          </a:p>
        </p:txBody>
      </p:sp>
      <p:sp>
        <p:nvSpPr>
          <p:cNvPr id="1438" name="Rectangle 13"/>
          <p:cNvSpPr/>
          <p:nvPr/>
        </p:nvSpPr>
        <p:spPr>
          <a:xfrm>
            <a:off x="550800" y="5470560"/>
            <a:ext cx="35164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 justo libero vivamus porttitor dolor, conubia mollit. </a:t>
            </a:r>
            <a:endParaRPr b="0" lang="en-US" sz="1000" spc="-1" strike="noStrike">
              <a:solidFill>
                <a:srgbClr val="000000"/>
              </a:solidFill>
              <a:latin typeface="Calibri"/>
            </a:endParaRPr>
          </a:p>
        </p:txBody>
      </p:sp>
      <p:sp>
        <p:nvSpPr>
          <p:cNvPr id="1439" name="Subtitle 2"/>
          <p:cNvSpPr/>
          <p:nvPr/>
        </p:nvSpPr>
        <p:spPr>
          <a:xfrm>
            <a:off x="4761000" y="4967280"/>
            <a:ext cx="2303280" cy="2746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Black"/>
                <a:ea typeface="Open Sans"/>
              </a:rPr>
              <a:t>YOUR TITLE HERE</a:t>
            </a:r>
            <a:endParaRPr b="0" lang="en-US" sz="1400" spc="-1" strike="noStrike">
              <a:solidFill>
                <a:srgbClr val="000000"/>
              </a:solidFill>
              <a:latin typeface="Calibri"/>
            </a:endParaRPr>
          </a:p>
        </p:txBody>
      </p:sp>
      <p:sp>
        <p:nvSpPr>
          <p:cNvPr id="1440" name="Rectangle 15"/>
          <p:cNvSpPr/>
          <p:nvPr/>
        </p:nvSpPr>
        <p:spPr>
          <a:xfrm>
            <a:off x="4410000" y="5470560"/>
            <a:ext cx="337176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 justo libero vivamus porttitor dolor, conubia mollit. </a:t>
            </a:r>
            <a:endParaRPr b="0" lang="en-US" sz="1000" spc="-1" strike="noStrike">
              <a:solidFill>
                <a:srgbClr val="000000"/>
              </a:solidFill>
              <a:latin typeface="Calibri"/>
            </a:endParaRPr>
          </a:p>
        </p:txBody>
      </p:sp>
      <p:sp>
        <p:nvSpPr>
          <p:cNvPr id="1441" name="Subtitle 2"/>
          <p:cNvSpPr/>
          <p:nvPr/>
        </p:nvSpPr>
        <p:spPr>
          <a:xfrm>
            <a:off x="8651880" y="4967280"/>
            <a:ext cx="2303280" cy="2746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Black"/>
                <a:ea typeface="Open Sans"/>
              </a:rPr>
              <a:t>YOUR TITLE HERE</a:t>
            </a:r>
            <a:endParaRPr b="0" lang="en-US" sz="1400" spc="-1" strike="noStrike">
              <a:solidFill>
                <a:srgbClr val="000000"/>
              </a:solidFill>
              <a:latin typeface="Calibri"/>
            </a:endParaRPr>
          </a:p>
        </p:txBody>
      </p:sp>
      <p:sp>
        <p:nvSpPr>
          <p:cNvPr id="1442" name="Rectangle 17"/>
          <p:cNvSpPr/>
          <p:nvPr/>
        </p:nvSpPr>
        <p:spPr>
          <a:xfrm>
            <a:off x="8043840" y="5470560"/>
            <a:ext cx="35179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Montserrat"/>
                <a:ea typeface="Open Sans"/>
              </a:rPr>
              <a:t>Lorem ipsum dolor sit amet, lacus nulla ac netus nibh aliquet, porttitor ligula justo libero vivamus porttitor dolor, conubia mollit. </a:t>
            </a:r>
            <a:endParaRPr b="0" lang="en-US" sz="1000" spc="-1" strike="noStrike">
              <a:solidFill>
                <a:srgbClr val="000000"/>
              </a:solidFill>
              <a:latin typeface="Calibri"/>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3"/>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4" name="Rectangle 4"/>
          <p:cNvSpPr/>
          <p:nvPr/>
        </p:nvSpPr>
        <p:spPr>
          <a:xfrm>
            <a:off x="4124160" y="2644920"/>
            <a:ext cx="3943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ea typeface="Aharoni"/>
              </a:rPr>
              <a:t>BREAK</a:t>
            </a:r>
            <a:endParaRPr b="0" lang="en-US" sz="9600" spc="-1" strike="noStrike">
              <a:solidFill>
                <a:srgbClr val="000000"/>
              </a:solidFill>
              <a:latin typeface="Calibri"/>
            </a:endParaRPr>
          </a:p>
        </p:txBody>
      </p:sp>
      <p:grpSp>
        <p:nvGrpSpPr>
          <p:cNvPr id="1445" name="Group 5"/>
          <p:cNvGrpSpPr/>
          <p:nvPr/>
        </p:nvGrpSpPr>
        <p:grpSpPr>
          <a:xfrm>
            <a:off x="8469000" y="255600"/>
            <a:ext cx="3327840" cy="246240"/>
            <a:chOff x="8469000" y="255600"/>
            <a:chExt cx="3327840" cy="246240"/>
          </a:xfrm>
        </p:grpSpPr>
        <p:sp>
          <p:nvSpPr>
            <p:cNvPr id="1446" name="Rectangle 6"/>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447" name="Straight Arrow Connector 7"/>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448" name="Rectangle 8"/>
          <p:cNvSpPr/>
          <p:nvPr/>
        </p:nvSpPr>
        <p:spPr>
          <a:xfrm>
            <a:off x="4021200" y="4213080"/>
            <a:ext cx="4149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ontserrat"/>
              </a:rPr>
              <a:t>BUSINESS TEMPLATE PRESENTATION</a:t>
            </a:r>
            <a:endParaRPr b="0" lang="en-US" sz="1100" spc="-1" strike="noStrike">
              <a:solidFill>
                <a:srgbClr val="000000"/>
              </a:solidFill>
              <a:latin typeface="Calibri"/>
            </a:endParaRPr>
          </a:p>
        </p:txBody>
      </p:sp>
      <p:grpSp>
        <p:nvGrpSpPr>
          <p:cNvPr id="1449" name="Group 9"/>
          <p:cNvGrpSpPr/>
          <p:nvPr/>
        </p:nvGrpSpPr>
        <p:grpSpPr>
          <a:xfrm>
            <a:off x="284040" y="255600"/>
            <a:ext cx="825480" cy="824040"/>
            <a:chOff x="284040" y="255600"/>
            <a:chExt cx="825480" cy="824040"/>
          </a:xfrm>
        </p:grpSpPr>
        <p:sp>
          <p:nvSpPr>
            <p:cNvPr id="1450" name="Frame 10"/>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1" name="Rectangle 11"/>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452"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TextBox 14"/>
          <p:cNvSpPr/>
          <p:nvPr/>
        </p:nvSpPr>
        <p:spPr>
          <a:xfrm flipH="1">
            <a:off x="1951920" y="3438360"/>
            <a:ext cx="433548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Light"/>
                <a:ea typeface="Lato"/>
              </a:rPr>
              <a:t>Lorem ipsum dolor sit amet, consectetur adipiscing elit, sed do eiusmod tempor incididunt ut labore et dolore magna aliqua. </a:t>
            </a:r>
            <a:endParaRPr b="0" lang="en-US" sz="1000" spc="-1" strike="noStrike">
              <a:solidFill>
                <a:srgbClr val="000000"/>
              </a:solidFill>
              <a:latin typeface="Calibri"/>
            </a:endParaRPr>
          </a:p>
        </p:txBody>
      </p:sp>
      <p:sp>
        <p:nvSpPr>
          <p:cNvPr id="1454" name="TextBox 21"/>
          <p:cNvSpPr/>
          <p:nvPr/>
        </p:nvSpPr>
        <p:spPr>
          <a:xfrm>
            <a:off x="2180520" y="1514520"/>
            <a:ext cx="3752640" cy="1219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Arial Black"/>
                <a:ea typeface="Lato"/>
              </a:rPr>
              <a:t>ABOUT </a:t>
            </a:r>
            <a:r>
              <a:rPr b="1" lang="en-US" sz="4000" spc="-1" strike="noStrike">
                <a:solidFill>
                  <a:srgbClr val="ffffff"/>
                </a:solidFill>
                <a:latin typeface="Arial Black"/>
                <a:ea typeface="Lato"/>
              </a:rPr>
              <a:t>O</a:t>
            </a:r>
            <a:r>
              <a:rPr b="1" lang="id-ID" sz="4000" spc="-1" strike="noStrike">
                <a:solidFill>
                  <a:srgbClr val="ffffff"/>
                </a:solidFill>
                <a:latin typeface="Arial Black"/>
                <a:ea typeface="Lato"/>
              </a:rPr>
              <a:t>UR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ea typeface="Lato"/>
              </a:rPr>
              <a:t>FASHION NOW</a:t>
            </a:r>
            <a:endParaRPr b="0" lang="en-US" sz="4000" spc="-1" strike="noStrike">
              <a:solidFill>
                <a:srgbClr val="000000"/>
              </a:solidFill>
              <a:latin typeface="Calibri"/>
            </a:endParaRPr>
          </a:p>
        </p:txBody>
      </p:sp>
      <p:sp>
        <p:nvSpPr>
          <p:cNvPr id="1455" name="Oval 23"/>
          <p:cNvSpPr/>
          <p:nvPr/>
        </p:nvSpPr>
        <p:spPr>
          <a:xfrm>
            <a:off x="1900080" y="4354560"/>
            <a:ext cx="574920" cy="574560"/>
          </a:xfrm>
          <a:prstGeom prst="ellipse">
            <a:avLst/>
          </a:prstGeom>
          <a:solidFill>
            <a:srgbClr val="d0ce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6" name="Oval 27"/>
          <p:cNvSpPr/>
          <p:nvPr/>
        </p:nvSpPr>
        <p:spPr>
          <a:xfrm>
            <a:off x="1906560" y="5130720"/>
            <a:ext cx="574560" cy="5749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7" name="Freeform: Shape 18"/>
          <p:cNvSpPr/>
          <p:nvPr/>
        </p:nvSpPr>
        <p:spPr>
          <a:xfrm>
            <a:off x="2076480" y="5299200"/>
            <a:ext cx="239760" cy="237960"/>
          </a:xfrm>
          <a:custGeom>
            <a:avLst/>
            <a:gdLst/>
            <a:ahLst/>
            <a:rect l="l" t="t" r="r" b="b"/>
            <a:pathLst>
              <a:path w="4876642" h="4876800">
                <a:moveTo>
                  <a:pt x="3995486" y="4018149"/>
                </a:moveTo>
                <a:cubicBezTo>
                  <a:pt x="4019853" y="4018148"/>
                  <a:pt x="4044221" y="4027442"/>
                  <a:pt x="4062819" y="4046029"/>
                </a:cubicBezTo>
                <a:cubicBezTo>
                  <a:pt x="4100004" y="4083225"/>
                  <a:pt x="4100004" y="4143527"/>
                  <a:pt x="4062819" y="4180704"/>
                </a:cubicBezTo>
                <a:cubicBezTo>
                  <a:pt x="3675094" y="4568438"/>
                  <a:pt x="3160792" y="4811573"/>
                  <a:pt x="2614666" y="4865341"/>
                </a:cubicBezTo>
                <a:cubicBezTo>
                  <a:pt x="2536856" y="4873000"/>
                  <a:pt x="2458866" y="4876800"/>
                  <a:pt x="2381113" y="4876800"/>
                </a:cubicBezTo>
                <a:cubicBezTo>
                  <a:pt x="1920665" y="4876800"/>
                  <a:pt x="1466494" y="4743850"/>
                  <a:pt x="1081246" y="4493143"/>
                </a:cubicBezTo>
                <a:cubicBezTo>
                  <a:pt x="1037164" y="4464453"/>
                  <a:pt x="1024686" y="4405474"/>
                  <a:pt x="1053366" y="4361393"/>
                </a:cubicBezTo>
                <a:cubicBezTo>
                  <a:pt x="1082065" y="4317311"/>
                  <a:pt x="1141034" y="4304814"/>
                  <a:pt x="1185126" y="4333513"/>
                </a:cubicBezTo>
                <a:cubicBezTo>
                  <a:pt x="2047071" y="4894431"/>
                  <a:pt x="3200663" y="4773530"/>
                  <a:pt x="3928154" y="4046039"/>
                </a:cubicBezTo>
                <a:cubicBezTo>
                  <a:pt x="3946752" y="4027447"/>
                  <a:pt x="3971119" y="4018150"/>
                  <a:pt x="3995486" y="4018149"/>
                </a:cubicBezTo>
                <a:close/>
                <a:moveTo>
                  <a:pt x="763429" y="4018124"/>
                </a:moveTo>
                <a:cubicBezTo>
                  <a:pt x="787804" y="4018124"/>
                  <a:pt x="812179" y="4027432"/>
                  <a:pt x="830748" y="4046049"/>
                </a:cubicBezTo>
                <a:cubicBezTo>
                  <a:pt x="867981" y="4083187"/>
                  <a:pt x="867981" y="4143566"/>
                  <a:pt x="830748" y="4180694"/>
                </a:cubicBezTo>
                <a:cubicBezTo>
                  <a:pt x="793610" y="4217927"/>
                  <a:pt x="733241" y="4217927"/>
                  <a:pt x="696103" y="4180694"/>
                </a:cubicBezTo>
                <a:cubicBezTo>
                  <a:pt x="658869" y="4143556"/>
                  <a:pt x="658869" y="4083187"/>
                  <a:pt x="696103" y="4046049"/>
                </a:cubicBezTo>
                <a:cubicBezTo>
                  <a:pt x="714676" y="4027432"/>
                  <a:pt x="739053" y="4018124"/>
                  <a:pt x="763429" y="4018124"/>
                </a:cubicBezTo>
                <a:close/>
                <a:moveTo>
                  <a:pt x="2966490" y="3085547"/>
                </a:moveTo>
                <a:lnTo>
                  <a:pt x="2610417" y="3837184"/>
                </a:lnTo>
                <a:cubicBezTo>
                  <a:pt x="2652327" y="3841518"/>
                  <a:pt x="2695019" y="3836499"/>
                  <a:pt x="2735862" y="3821916"/>
                </a:cubicBezTo>
                <a:cubicBezTo>
                  <a:pt x="2807766" y="3796246"/>
                  <a:pt x="2865354" y="3744106"/>
                  <a:pt x="2898034" y="3675126"/>
                </a:cubicBezTo>
                <a:lnTo>
                  <a:pt x="3109537" y="3228594"/>
                </a:lnTo>
                <a:lnTo>
                  <a:pt x="2966490" y="3085547"/>
                </a:lnTo>
                <a:close/>
                <a:moveTo>
                  <a:pt x="3773468" y="1826990"/>
                </a:moveTo>
                <a:cubicBezTo>
                  <a:pt x="3715365" y="1846516"/>
                  <a:pt x="3654215" y="1856765"/>
                  <a:pt x="3592188" y="1856765"/>
                </a:cubicBezTo>
                <a:cubicBezTo>
                  <a:pt x="3577957" y="1856765"/>
                  <a:pt x="3563679" y="1856041"/>
                  <a:pt x="3549392" y="1854975"/>
                </a:cubicBezTo>
                <a:lnTo>
                  <a:pt x="3053082" y="2902782"/>
                </a:lnTo>
                <a:lnTo>
                  <a:pt x="3196129" y="3045828"/>
                </a:lnTo>
                <a:lnTo>
                  <a:pt x="3773468" y="1826990"/>
                </a:lnTo>
                <a:close/>
                <a:moveTo>
                  <a:pt x="1649697" y="1768735"/>
                </a:moveTo>
                <a:lnTo>
                  <a:pt x="1203099" y="1980285"/>
                </a:lnTo>
                <a:cubicBezTo>
                  <a:pt x="1134118" y="2012966"/>
                  <a:pt x="1081979" y="2070544"/>
                  <a:pt x="1056309" y="2142411"/>
                </a:cubicBezTo>
                <a:cubicBezTo>
                  <a:pt x="1041716" y="2183254"/>
                  <a:pt x="1036687" y="2225935"/>
                  <a:pt x="1041050" y="2267836"/>
                </a:cubicBezTo>
                <a:lnTo>
                  <a:pt x="1792763" y="1911801"/>
                </a:lnTo>
                <a:lnTo>
                  <a:pt x="1649697" y="1768735"/>
                </a:lnTo>
                <a:close/>
                <a:moveTo>
                  <a:pt x="3069503" y="1517761"/>
                </a:moveTo>
                <a:lnTo>
                  <a:pt x="2118546" y="1968246"/>
                </a:lnTo>
                <a:lnTo>
                  <a:pt x="2446216" y="2295915"/>
                </a:lnTo>
                <a:lnTo>
                  <a:pt x="2580880" y="2161251"/>
                </a:lnTo>
                <a:cubicBezTo>
                  <a:pt x="2618076" y="2124065"/>
                  <a:pt x="2678350" y="2124046"/>
                  <a:pt x="2715554" y="2161213"/>
                </a:cubicBezTo>
                <a:cubicBezTo>
                  <a:pt x="2752749" y="2198398"/>
                  <a:pt x="2752769" y="2258692"/>
                  <a:pt x="2715592" y="2295887"/>
                </a:cubicBezTo>
                <a:lnTo>
                  <a:pt x="2580890" y="2430589"/>
                </a:lnTo>
                <a:lnTo>
                  <a:pt x="2910074" y="2759754"/>
                </a:lnTo>
                <a:lnTo>
                  <a:pt x="3360864" y="1808112"/>
                </a:lnTo>
                <a:cubicBezTo>
                  <a:pt x="3296694" y="1779813"/>
                  <a:pt x="3237953" y="1739751"/>
                  <a:pt x="3187509" y="1689316"/>
                </a:cubicBezTo>
                <a:cubicBezTo>
                  <a:pt x="3137578" y="1639405"/>
                  <a:pt x="3097783" y="1581274"/>
                  <a:pt x="3069503" y="1517761"/>
                </a:cubicBezTo>
                <a:close/>
                <a:moveTo>
                  <a:pt x="3591503" y="1190089"/>
                </a:moveTo>
                <a:cubicBezTo>
                  <a:pt x="3615880" y="1190089"/>
                  <a:pt x="3640256" y="1199373"/>
                  <a:pt x="3658873" y="1217942"/>
                </a:cubicBezTo>
                <a:cubicBezTo>
                  <a:pt x="3696011" y="1255175"/>
                  <a:pt x="3696011" y="1315450"/>
                  <a:pt x="3658873" y="1352683"/>
                </a:cubicBezTo>
                <a:cubicBezTo>
                  <a:pt x="3621640" y="1389821"/>
                  <a:pt x="3561366" y="1389821"/>
                  <a:pt x="3524132" y="1352683"/>
                </a:cubicBezTo>
                <a:cubicBezTo>
                  <a:pt x="3486994" y="1315450"/>
                  <a:pt x="3486994" y="1255175"/>
                  <a:pt x="3524132" y="1217942"/>
                </a:cubicBezTo>
                <a:cubicBezTo>
                  <a:pt x="3542749" y="1199373"/>
                  <a:pt x="3567126" y="1190089"/>
                  <a:pt x="3591503" y="1190089"/>
                </a:cubicBezTo>
                <a:close/>
                <a:moveTo>
                  <a:pt x="3048720" y="1106024"/>
                </a:moveTo>
                <a:lnTo>
                  <a:pt x="1832472" y="1682162"/>
                </a:lnTo>
                <a:lnTo>
                  <a:pt x="1975557" y="1825238"/>
                </a:lnTo>
                <a:lnTo>
                  <a:pt x="3021831" y="1329595"/>
                </a:lnTo>
                <a:cubicBezTo>
                  <a:pt x="3015811" y="1253223"/>
                  <a:pt x="3025145" y="1177347"/>
                  <a:pt x="3048720" y="1106024"/>
                </a:cubicBezTo>
                <a:close/>
                <a:moveTo>
                  <a:pt x="763424" y="786087"/>
                </a:moveTo>
                <a:cubicBezTo>
                  <a:pt x="787792" y="786087"/>
                  <a:pt x="812159" y="795381"/>
                  <a:pt x="830757" y="813969"/>
                </a:cubicBezTo>
                <a:cubicBezTo>
                  <a:pt x="867943" y="851164"/>
                  <a:pt x="867943" y="911467"/>
                  <a:pt x="830757" y="948652"/>
                </a:cubicBezTo>
                <a:cubicBezTo>
                  <a:pt x="103286" y="1676134"/>
                  <a:pt x="-17615" y="2829745"/>
                  <a:pt x="543283" y="3691671"/>
                </a:cubicBezTo>
                <a:cubicBezTo>
                  <a:pt x="571963" y="3735753"/>
                  <a:pt x="559485" y="3794742"/>
                  <a:pt x="515404" y="3823431"/>
                </a:cubicBezTo>
                <a:cubicBezTo>
                  <a:pt x="499373" y="3833870"/>
                  <a:pt x="481361" y="3838852"/>
                  <a:pt x="463559" y="3838852"/>
                </a:cubicBezTo>
                <a:cubicBezTo>
                  <a:pt x="432412" y="3838852"/>
                  <a:pt x="401904" y="3823593"/>
                  <a:pt x="383644" y="3795551"/>
                </a:cubicBezTo>
                <a:cubicBezTo>
                  <a:pt x="90617" y="3345266"/>
                  <a:pt x="-41561" y="2800693"/>
                  <a:pt x="11455" y="2262140"/>
                </a:cubicBezTo>
                <a:cubicBezTo>
                  <a:pt x="65233" y="1716005"/>
                  <a:pt x="308359" y="1201703"/>
                  <a:pt x="696083" y="813969"/>
                </a:cubicBezTo>
                <a:cubicBezTo>
                  <a:pt x="714685" y="795381"/>
                  <a:pt x="739055" y="786087"/>
                  <a:pt x="763424" y="786087"/>
                </a:cubicBezTo>
                <a:close/>
                <a:moveTo>
                  <a:pt x="3726195" y="611962"/>
                </a:moveTo>
                <a:lnTo>
                  <a:pt x="3322163" y="1015993"/>
                </a:lnTo>
                <a:cubicBezTo>
                  <a:pt x="3233152" y="1105014"/>
                  <a:pt x="3194414" y="1230563"/>
                  <a:pt x="3216969" y="1353979"/>
                </a:cubicBezTo>
                <a:cubicBezTo>
                  <a:pt x="3219522" y="1361303"/>
                  <a:pt x="3221056" y="1368761"/>
                  <a:pt x="3221761" y="1376219"/>
                </a:cubicBezTo>
                <a:cubicBezTo>
                  <a:pt x="3238248" y="1443618"/>
                  <a:pt x="3272672" y="1505159"/>
                  <a:pt x="3322154" y="1554661"/>
                </a:cubicBezTo>
                <a:cubicBezTo>
                  <a:pt x="3374675" y="1607153"/>
                  <a:pt x="3440559" y="1642891"/>
                  <a:pt x="3512683" y="1657997"/>
                </a:cubicBezTo>
                <a:cubicBezTo>
                  <a:pt x="3639355" y="1684639"/>
                  <a:pt x="3769467" y="1646015"/>
                  <a:pt x="3860831" y="1554651"/>
                </a:cubicBezTo>
                <a:lnTo>
                  <a:pt x="4264862" y="1150629"/>
                </a:lnTo>
                <a:lnTo>
                  <a:pt x="3726195" y="611962"/>
                </a:lnTo>
                <a:close/>
                <a:moveTo>
                  <a:pt x="4591122" y="190452"/>
                </a:moveTo>
                <a:cubicBezTo>
                  <a:pt x="4565719" y="190452"/>
                  <a:pt x="4541821" y="200358"/>
                  <a:pt x="4523809" y="218370"/>
                </a:cubicBezTo>
                <a:lnTo>
                  <a:pt x="4062837" y="679256"/>
                </a:lnTo>
                <a:lnTo>
                  <a:pt x="4197540" y="813968"/>
                </a:lnTo>
                <a:lnTo>
                  <a:pt x="4658435" y="352996"/>
                </a:lnTo>
                <a:cubicBezTo>
                  <a:pt x="4695554" y="315877"/>
                  <a:pt x="4695554" y="255470"/>
                  <a:pt x="4658435" y="218351"/>
                </a:cubicBezTo>
                <a:cubicBezTo>
                  <a:pt x="4640452" y="200368"/>
                  <a:pt x="4616535" y="190452"/>
                  <a:pt x="4591122" y="190452"/>
                </a:cubicBezTo>
                <a:close/>
                <a:moveTo>
                  <a:pt x="4591122" y="0"/>
                </a:moveTo>
                <a:cubicBezTo>
                  <a:pt x="4667398" y="0"/>
                  <a:pt x="4739131" y="29718"/>
                  <a:pt x="4793109" y="83677"/>
                </a:cubicBezTo>
                <a:cubicBezTo>
                  <a:pt x="4904485" y="195072"/>
                  <a:pt x="4904485" y="376294"/>
                  <a:pt x="4793119" y="487699"/>
                </a:cubicBezTo>
                <a:lnTo>
                  <a:pt x="4332223" y="948671"/>
                </a:lnTo>
                <a:lnTo>
                  <a:pt x="4466869" y="1083316"/>
                </a:lnTo>
                <a:cubicBezTo>
                  <a:pt x="4504054" y="1120511"/>
                  <a:pt x="4504054" y="1180805"/>
                  <a:pt x="4466869" y="1217990"/>
                </a:cubicBezTo>
                <a:lnTo>
                  <a:pt x="4097899" y="1586960"/>
                </a:lnTo>
                <a:lnTo>
                  <a:pt x="3339118" y="3188865"/>
                </a:lnTo>
                <a:lnTo>
                  <a:pt x="3658196" y="3507953"/>
                </a:lnTo>
                <a:cubicBezTo>
                  <a:pt x="3695382" y="3545148"/>
                  <a:pt x="3695382" y="3605441"/>
                  <a:pt x="3658196" y="3642627"/>
                </a:cubicBezTo>
                <a:cubicBezTo>
                  <a:pt x="3639603" y="3661210"/>
                  <a:pt x="3615229" y="3670516"/>
                  <a:pt x="3590864" y="3670516"/>
                </a:cubicBezTo>
                <a:cubicBezTo>
                  <a:pt x="3566499" y="3670516"/>
                  <a:pt x="3542134" y="3661210"/>
                  <a:pt x="3523532" y="3642627"/>
                </a:cubicBezTo>
                <a:lnTo>
                  <a:pt x="3252545" y="3371640"/>
                </a:lnTo>
                <a:lnTo>
                  <a:pt x="3070151" y="3756717"/>
                </a:lnTo>
                <a:cubicBezTo>
                  <a:pt x="2988836" y="3928386"/>
                  <a:pt x="2817424" y="4029046"/>
                  <a:pt x="2639021" y="4029046"/>
                </a:cubicBezTo>
                <a:cubicBezTo>
                  <a:pt x="2601426" y="4029046"/>
                  <a:pt x="2563554" y="4024408"/>
                  <a:pt x="2526121" y="4015197"/>
                </a:cubicBezTo>
                <a:lnTo>
                  <a:pt x="2397753" y="4286164"/>
                </a:lnTo>
                <a:cubicBezTo>
                  <a:pt x="2381474" y="4320550"/>
                  <a:pt x="2347280" y="4340657"/>
                  <a:pt x="2311628" y="4340657"/>
                </a:cubicBezTo>
                <a:cubicBezTo>
                  <a:pt x="2297969" y="4340657"/>
                  <a:pt x="2284100" y="4337704"/>
                  <a:pt x="2270937" y="4331465"/>
                </a:cubicBezTo>
                <a:cubicBezTo>
                  <a:pt x="2223407" y="4308958"/>
                  <a:pt x="2203128" y="4252179"/>
                  <a:pt x="2225636" y="4204649"/>
                </a:cubicBezTo>
                <a:lnTo>
                  <a:pt x="2390390" y="3856853"/>
                </a:lnTo>
                <a:cubicBezTo>
                  <a:pt x="2390466" y="3856701"/>
                  <a:pt x="2390514" y="3856548"/>
                  <a:pt x="2390580" y="3856396"/>
                </a:cubicBezTo>
                <a:cubicBezTo>
                  <a:pt x="2390647" y="3856244"/>
                  <a:pt x="2390733" y="3856110"/>
                  <a:pt x="2390809" y="3855958"/>
                </a:cubicBezTo>
                <a:lnTo>
                  <a:pt x="2823473" y="2942568"/>
                </a:lnTo>
                <a:lnTo>
                  <a:pt x="2446206" y="2565301"/>
                </a:lnTo>
                <a:lnTo>
                  <a:pt x="2311504" y="2700004"/>
                </a:lnTo>
                <a:cubicBezTo>
                  <a:pt x="2292920" y="2718578"/>
                  <a:pt x="2268556" y="2727874"/>
                  <a:pt x="2244191" y="2727874"/>
                </a:cubicBezTo>
                <a:cubicBezTo>
                  <a:pt x="2219816" y="2727874"/>
                  <a:pt x="2195442" y="2718578"/>
                  <a:pt x="2176839" y="2699966"/>
                </a:cubicBezTo>
                <a:cubicBezTo>
                  <a:pt x="2139663" y="2662761"/>
                  <a:pt x="2139682" y="2602468"/>
                  <a:pt x="2176877" y="2565292"/>
                </a:cubicBezTo>
                <a:lnTo>
                  <a:pt x="2311542" y="2430628"/>
                </a:lnTo>
                <a:lnTo>
                  <a:pt x="1935771" y="2054857"/>
                </a:lnTo>
                <a:lnTo>
                  <a:pt x="1021876" y="2487682"/>
                </a:lnTo>
                <a:lnTo>
                  <a:pt x="673632" y="2652617"/>
                </a:lnTo>
                <a:cubicBezTo>
                  <a:pt x="660478" y="2658847"/>
                  <a:pt x="646610" y="2661799"/>
                  <a:pt x="632942" y="2661799"/>
                </a:cubicBezTo>
                <a:cubicBezTo>
                  <a:pt x="597280" y="2661799"/>
                  <a:pt x="563095" y="2641673"/>
                  <a:pt x="546807" y="2607307"/>
                </a:cubicBezTo>
                <a:cubicBezTo>
                  <a:pt x="524309" y="2559777"/>
                  <a:pt x="544588" y="2502989"/>
                  <a:pt x="592117" y="2480481"/>
                </a:cubicBezTo>
                <a:lnTo>
                  <a:pt x="862885" y="2352237"/>
                </a:lnTo>
                <a:cubicBezTo>
                  <a:pt x="840558" y="2262244"/>
                  <a:pt x="845063" y="2167671"/>
                  <a:pt x="876963" y="2078364"/>
                </a:cubicBezTo>
                <a:cubicBezTo>
                  <a:pt x="919739" y="1958597"/>
                  <a:pt x="1006617" y="1862652"/>
                  <a:pt x="1121574" y="1808188"/>
                </a:cubicBezTo>
                <a:lnTo>
                  <a:pt x="1506708" y="1625755"/>
                </a:lnTo>
                <a:lnTo>
                  <a:pt x="1234226" y="1353274"/>
                </a:lnTo>
                <a:cubicBezTo>
                  <a:pt x="1197041" y="1316079"/>
                  <a:pt x="1197041" y="1255785"/>
                  <a:pt x="1234226" y="1218600"/>
                </a:cubicBezTo>
                <a:cubicBezTo>
                  <a:pt x="1271431" y="1181424"/>
                  <a:pt x="1331705" y="1181424"/>
                  <a:pt x="1368900" y="1218600"/>
                </a:cubicBezTo>
                <a:lnTo>
                  <a:pt x="1689464" y="1539164"/>
                </a:lnTo>
                <a:lnTo>
                  <a:pt x="3285797" y="782993"/>
                </a:lnTo>
                <a:lnTo>
                  <a:pt x="3658844" y="409946"/>
                </a:lnTo>
                <a:cubicBezTo>
                  <a:pt x="3696048" y="372770"/>
                  <a:pt x="3756322" y="372770"/>
                  <a:pt x="3793518" y="409946"/>
                </a:cubicBezTo>
                <a:lnTo>
                  <a:pt x="3928163" y="544592"/>
                </a:lnTo>
                <a:lnTo>
                  <a:pt x="4389144" y="83686"/>
                </a:lnTo>
                <a:cubicBezTo>
                  <a:pt x="4443123" y="29718"/>
                  <a:pt x="4514846" y="0"/>
                  <a:pt x="459112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8" name="Freeform: Shape 19"/>
          <p:cNvSpPr/>
          <p:nvPr/>
        </p:nvSpPr>
        <p:spPr>
          <a:xfrm>
            <a:off x="2068560" y="4522680"/>
            <a:ext cx="239760" cy="239760"/>
          </a:xfrm>
          <a:custGeom>
            <a:avLst/>
            <a:gdLst/>
            <a:ahLst/>
            <a:rect l="l" t="t" r="r" b="b"/>
            <a:pathLst>
              <a:path w="4876800" h="4876800">
                <a:moveTo>
                  <a:pt x="4495800" y="4495800"/>
                </a:moveTo>
                <a:lnTo>
                  <a:pt x="4495800" y="4686300"/>
                </a:lnTo>
                <a:lnTo>
                  <a:pt x="4686300" y="4686300"/>
                </a:lnTo>
                <a:lnTo>
                  <a:pt x="4686300" y="4495800"/>
                </a:lnTo>
                <a:lnTo>
                  <a:pt x="4495800" y="4495800"/>
                </a:lnTo>
                <a:close/>
                <a:moveTo>
                  <a:pt x="3800475" y="4495800"/>
                </a:moveTo>
                <a:lnTo>
                  <a:pt x="3990975" y="4495800"/>
                </a:lnTo>
                <a:cubicBezTo>
                  <a:pt x="4043572" y="4495800"/>
                  <a:pt x="4086225" y="4538443"/>
                  <a:pt x="4086225" y="4591050"/>
                </a:cubicBezTo>
                <a:cubicBezTo>
                  <a:pt x="4086225" y="4643656"/>
                  <a:pt x="4043572" y="4686300"/>
                  <a:pt x="3990975" y="4686300"/>
                </a:cubicBezTo>
                <a:lnTo>
                  <a:pt x="3800475" y="4686300"/>
                </a:lnTo>
                <a:cubicBezTo>
                  <a:pt x="3747878" y="4686300"/>
                  <a:pt x="3705225" y="4643656"/>
                  <a:pt x="3705225" y="4591050"/>
                </a:cubicBezTo>
                <a:cubicBezTo>
                  <a:pt x="3705225" y="4538443"/>
                  <a:pt x="3747878" y="4495800"/>
                  <a:pt x="3800475" y="4495800"/>
                </a:cubicBezTo>
                <a:close/>
                <a:moveTo>
                  <a:pt x="3200400" y="4495800"/>
                </a:moveTo>
                <a:lnTo>
                  <a:pt x="3390900" y="4495800"/>
                </a:lnTo>
                <a:cubicBezTo>
                  <a:pt x="3443497" y="4495800"/>
                  <a:pt x="3486150" y="4538443"/>
                  <a:pt x="3486150" y="4591050"/>
                </a:cubicBezTo>
                <a:cubicBezTo>
                  <a:pt x="3486150" y="4643656"/>
                  <a:pt x="3443497" y="4686300"/>
                  <a:pt x="3390900" y="4686300"/>
                </a:cubicBezTo>
                <a:lnTo>
                  <a:pt x="3200400" y="4686300"/>
                </a:lnTo>
                <a:cubicBezTo>
                  <a:pt x="3147803" y="4686300"/>
                  <a:pt x="3105150" y="4643656"/>
                  <a:pt x="3105150" y="4591050"/>
                </a:cubicBezTo>
                <a:cubicBezTo>
                  <a:pt x="3105150" y="4538443"/>
                  <a:pt x="3147803" y="4495800"/>
                  <a:pt x="3200400" y="4495800"/>
                </a:cubicBezTo>
                <a:close/>
                <a:moveTo>
                  <a:pt x="2628900" y="4495800"/>
                </a:moveTo>
                <a:lnTo>
                  <a:pt x="2819400" y="4495800"/>
                </a:lnTo>
                <a:cubicBezTo>
                  <a:pt x="2871997" y="4495800"/>
                  <a:pt x="2914650" y="4538443"/>
                  <a:pt x="2914650" y="4591050"/>
                </a:cubicBezTo>
                <a:cubicBezTo>
                  <a:pt x="2914650" y="4643656"/>
                  <a:pt x="2871997" y="4686300"/>
                  <a:pt x="2819400" y="4686300"/>
                </a:cubicBezTo>
                <a:lnTo>
                  <a:pt x="2628900" y="4686300"/>
                </a:lnTo>
                <a:cubicBezTo>
                  <a:pt x="2576303" y="4686300"/>
                  <a:pt x="2533650" y="4643656"/>
                  <a:pt x="2533650" y="4591050"/>
                </a:cubicBezTo>
                <a:cubicBezTo>
                  <a:pt x="2533650" y="4538443"/>
                  <a:pt x="2576303" y="4495800"/>
                  <a:pt x="2628900" y="4495800"/>
                </a:cubicBezTo>
                <a:close/>
                <a:moveTo>
                  <a:pt x="2057400" y="4495800"/>
                </a:moveTo>
                <a:lnTo>
                  <a:pt x="2247900" y="4495800"/>
                </a:lnTo>
                <a:cubicBezTo>
                  <a:pt x="2300497" y="4495800"/>
                  <a:pt x="2343150" y="4538443"/>
                  <a:pt x="2343150" y="4591050"/>
                </a:cubicBezTo>
                <a:cubicBezTo>
                  <a:pt x="2343150" y="4643656"/>
                  <a:pt x="2300497" y="4686300"/>
                  <a:pt x="2247900" y="4686300"/>
                </a:cubicBezTo>
                <a:lnTo>
                  <a:pt x="2057400" y="4686300"/>
                </a:lnTo>
                <a:cubicBezTo>
                  <a:pt x="2004803" y="4686300"/>
                  <a:pt x="1962150" y="4643656"/>
                  <a:pt x="1962150" y="4591050"/>
                </a:cubicBezTo>
                <a:cubicBezTo>
                  <a:pt x="1962150" y="4538443"/>
                  <a:pt x="2004803" y="4495800"/>
                  <a:pt x="2057400" y="4495800"/>
                </a:cubicBezTo>
                <a:close/>
                <a:moveTo>
                  <a:pt x="1485900" y="4495800"/>
                </a:moveTo>
                <a:lnTo>
                  <a:pt x="1676400" y="4495800"/>
                </a:lnTo>
                <a:cubicBezTo>
                  <a:pt x="1728997" y="4495800"/>
                  <a:pt x="1771650" y="4538443"/>
                  <a:pt x="1771650" y="4591050"/>
                </a:cubicBezTo>
                <a:cubicBezTo>
                  <a:pt x="1771650" y="4643656"/>
                  <a:pt x="1728997" y="4686300"/>
                  <a:pt x="1676400" y="4686300"/>
                </a:cubicBezTo>
                <a:lnTo>
                  <a:pt x="1485900" y="4686300"/>
                </a:lnTo>
                <a:cubicBezTo>
                  <a:pt x="1433303" y="4686300"/>
                  <a:pt x="1390650" y="4643656"/>
                  <a:pt x="1390650" y="4591050"/>
                </a:cubicBezTo>
                <a:cubicBezTo>
                  <a:pt x="1390650" y="4538443"/>
                  <a:pt x="1433303" y="4495800"/>
                  <a:pt x="1485900" y="4495800"/>
                </a:cubicBezTo>
                <a:close/>
                <a:moveTo>
                  <a:pt x="885825" y="4495800"/>
                </a:moveTo>
                <a:lnTo>
                  <a:pt x="1076325" y="4495800"/>
                </a:lnTo>
                <a:cubicBezTo>
                  <a:pt x="1128922" y="4495800"/>
                  <a:pt x="1171575" y="4538443"/>
                  <a:pt x="1171575" y="4591050"/>
                </a:cubicBezTo>
                <a:cubicBezTo>
                  <a:pt x="1171575" y="4643656"/>
                  <a:pt x="1128922" y="4686300"/>
                  <a:pt x="1076325" y="4686300"/>
                </a:cubicBezTo>
                <a:lnTo>
                  <a:pt x="885825" y="4686300"/>
                </a:lnTo>
                <a:cubicBezTo>
                  <a:pt x="833228" y="4686300"/>
                  <a:pt x="790575" y="4643656"/>
                  <a:pt x="790575" y="4591050"/>
                </a:cubicBezTo>
                <a:cubicBezTo>
                  <a:pt x="790575" y="4538443"/>
                  <a:pt x="833228" y="4495800"/>
                  <a:pt x="885825" y="4495800"/>
                </a:cubicBezTo>
                <a:close/>
                <a:moveTo>
                  <a:pt x="190500" y="4495800"/>
                </a:moveTo>
                <a:lnTo>
                  <a:pt x="190500" y="4686300"/>
                </a:lnTo>
                <a:lnTo>
                  <a:pt x="381000" y="4686300"/>
                </a:lnTo>
                <a:lnTo>
                  <a:pt x="381000" y="4495800"/>
                </a:lnTo>
                <a:lnTo>
                  <a:pt x="190500" y="4495800"/>
                </a:lnTo>
                <a:close/>
                <a:moveTo>
                  <a:pt x="4400550" y="4305300"/>
                </a:moveTo>
                <a:lnTo>
                  <a:pt x="4781550" y="4305300"/>
                </a:lnTo>
                <a:cubicBezTo>
                  <a:pt x="4834147" y="4305300"/>
                  <a:pt x="4876800" y="4347943"/>
                  <a:pt x="4876800" y="4400550"/>
                </a:cubicBezTo>
                <a:lnTo>
                  <a:pt x="4876800" y="4781550"/>
                </a:lnTo>
                <a:cubicBezTo>
                  <a:pt x="4876800" y="4834156"/>
                  <a:pt x="4834147" y="4876800"/>
                  <a:pt x="4781550" y="4876800"/>
                </a:cubicBezTo>
                <a:lnTo>
                  <a:pt x="4400550" y="4876800"/>
                </a:lnTo>
                <a:cubicBezTo>
                  <a:pt x="4347953" y="4876800"/>
                  <a:pt x="4305300" y="4834156"/>
                  <a:pt x="4305300" y="4781550"/>
                </a:cubicBezTo>
                <a:lnTo>
                  <a:pt x="4305300" y="4400550"/>
                </a:lnTo>
                <a:cubicBezTo>
                  <a:pt x="4305300" y="4347943"/>
                  <a:pt x="4347953" y="4305300"/>
                  <a:pt x="4400550" y="4305300"/>
                </a:cubicBezTo>
                <a:close/>
                <a:moveTo>
                  <a:pt x="95250" y="4305300"/>
                </a:moveTo>
                <a:lnTo>
                  <a:pt x="476250" y="4305300"/>
                </a:lnTo>
                <a:cubicBezTo>
                  <a:pt x="528847" y="4305300"/>
                  <a:pt x="571500" y="4347943"/>
                  <a:pt x="571500" y="4400550"/>
                </a:cubicBezTo>
                <a:lnTo>
                  <a:pt x="571500" y="4781550"/>
                </a:lnTo>
                <a:cubicBezTo>
                  <a:pt x="571500" y="4834156"/>
                  <a:pt x="528847" y="4876800"/>
                  <a:pt x="476250" y="4876800"/>
                </a:cubicBezTo>
                <a:lnTo>
                  <a:pt x="95250" y="4876800"/>
                </a:lnTo>
                <a:cubicBezTo>
                  <a:pt x="42653" y="4876800"/>
                  <a:pt x="0" y="4834156"/>
                  <a:pt x="0" y="4781550"/>
                </a:cubicBezTo>
                <a:lnTo>
                  <a:pt x="0" y="4400550"/>
                </a:lnTo>
                <a:cubicBezTo>
                  <a:pt x="0" y="4347943"/>
                  <a:pt x="42653" y="4305300"/>
                  <a:pt x="95250" y="4305300"/>
                </a:cubicBezTo>
                <a:close/>
                <a:moveTo>
                  <a:pt x="4591050" y="3733800"/>
                </a:moveTo>
                <a:cubicBezTo>
                  <a:pt x="4643647" y="3733800"/>
                  <a:pt x="4686300" y="3776443"/>
                  <a:pt x="4686300" y="3829050"/>
                </a:cubicBezTo>
                <a:lnTo>
                  <a:pt x="4686300" y="4019550"/>
                </a:lnTo>
                <a:cubicBezTo>
                  <a:pt x="4686300" y="4072156"/>
                  <a:pt x="4643647" y="4114800"/>
                  <a:pt x="4591050" y="4114800"/>
                </a:cubicBezTo>
                <a:cubicBezTo>
                  <a:pt x="4538453" y="4114800"/>
                  <a:pt x="4495800" y="4072156"/>
                  <a:pt x="4495800" y="4019550"/>
                </a:cubicBezTo>
                <a:lnTo>
                  <a:pt x="4495800" y="3829050"/>
                </a:lnTo>
                <a:cubicBezTo>
                  <a:pt x="4495800" y="3776443"/>
                  <a:pt x="4538453" y="3733800"/>
                  <a:pt x="4591050" y="3733800"/>
                </a:cubicBezTo>
                <a:close/>
                <a:moveTo>
                  <a:pt x="285750" y="3733800"/>
                </a:moveTo>
                <a:cubicBezTo>
                  <a:pt x="338347" y="3733800"/>
                  <a:pt x="381000" y="3776443"/>
                  <a:pt x="381000" y="3829050"/>
                </a:cubicBezTo>
                <a:lnTo>
                  <a:pt x="381000" y="4019550"/>
                </a:lnTo>
                <a:cubicBezTo>
                  <a:pt x="381000" y="4072156"/>
                  <a:pt x="338347" y="4114800"/>
                  <a:pt x="285750" y="4114800"/>
                </a:cubicBezTo>
                <a:cubicBezTo>
                  <a:pt x="233153" y="4114800"/>
                  <a:pt x="190500" y="4072156"/>
                  <a:pt x="190500" y="4019550"/>
                </a:cubicBezTo>
                <a:lnTo>
                  <a:pt x="190500" y="3829050"/>
                </a:lnTo>
                <a:cubicBezTo>
                  <a:pt x="190500" y="3776443"/>
                  <a:pt x="233153" y="3733800"/>
                  <a:pt x="285750" y="3733800"/>
                </a:cubicBezTo>
                <a:close/>
                <a:moveTo>
                  <a:pt x="3200400" y="3324225"/>
                </a:moveTo>
                <a:cubicBezTo>
                  <a:pt x="3252978" y="3324225"/>
                  <a:pt x="3295650" y="3366897"/>
                  <a:pt x="3295650" y="3419475"/>
                </a:cubicBezTo>
                <a:cubicBezTo>
                  <a:pt x="3295650" y="3472053"/>
                  <a:pt x="3252978" y="3514725"/>
                  <a:pt x="3200400" y="3514725"/>
                </a:cubicBezTo>
                <a:cubicBezTo>
                  <a:pt x="3147822" y="3514725"/>
                  <a:pt x="3105150" y="3472053"/>
                  <a:pt x="3105150" y="3419475"/>
                </a:cubicBezTo>
                <a:cubicBezTo>
                  <a:pt x="3105150" y="3366897"/>
                  <a:pt x="3147822" y="3324225"/>
                  <a:pt x="3200400" y="3324225"/>
                </a:cubicBezTo>
                <a:close/>
                <a:moveTo>
                  <a:pt x="4591050" y="3133725"/>
                </a:moveTo>
                <a:cubicBezTo>
                  <a:pt x="4643647" y="3133725"/>
                  <a:pt x="4686300" y="3176368"/>
                  <a:pt x="4686300" y="3228975"/>
                </a:cubicBezTo>
                <a:lnTo>
                  <a:pt x="4686300" y="3419475"/>
                </a:lnTo>
                <a:cubicBezTo>
                  <a:pt x="4686300" y="3472081"/>
                  <a:pt x="4643647" y="3514725"/>
                  <a:pt x="4591050" y="3514725"/>
                </a:cubicBezTo>
                <a:cubicBezTo>
                  <a:pt x="4538453" y="3514725"/>
                  <a:pt x="4495800" y="3472081"/>
                  <a:pt x="4495800" y="3419475"/>
                </a:cubicBezTo>
                <a:lnTo>
                  <a:pt x="4495800" y="3228975"/>
                </a:lnTo>
                <a:cubicBezTo>
                  <a:pt x="4495800" y="3176368"/>
                  <a:pt x="4538453" y="3133725"/>
                  <a:pt x="4591050" y="3133725"/>
                </a:cubicBezTo>
                <a:close/>
                <a:moveTo>
                  <a:pt x="285750" y="3133725"/>
                </a:moveTo>
                <a:cubicBezTo>
                  <a:pt x="338347" y="3133725"/>
                  <a:pt x="381000" y="3176368"/>
                  <a:pt x="381000" y="3228975"/>
                </a:cubicBezTo>
                <a:lnTo>
                  <a:pt x="381000" y="3419475"/>
                </a:lnTo>
                <a:cubicBezTo>
                  <a:pt x="381000" y="3472081"/>
                  <a:pt x="338347" y="3514725"/>
                  <a:pt x="285750" y="3514725"/>
                </a:cubicBezTo>
                <a:cubicBezTo>
                  <a:pt x="233153" y="3514725"/>
                  <a:pt x="190500" y="3472081"/>
                  <a:pt x="190500" y="3419475"/>
                </a:cubicBezTo>
                <a:lnTo>
                  <a:pt x="190500" y="3228975"/>
                </a:lnTo>
                <a:cubicBezTo>
                  <a:pt x="190500" y="3176368"/>
                  <a:pt x="233153" y="3133725"/>
                  <a:pt x="285750" y="3133725"/>
                </a:cubicBezTo>
                <a:close/>
                <a:moveTo>
                  <a:pt x="4591050" y="2533650"/>
                </a:moveTo>
                <a:cubicBezTo>
                  <a:pt x="4643647" y="2533650"/>
                  <a:pt x="4686300" y="2576293"/>
                  <a:pt x="4686300" y="2628900"/>
                </a:cubicBezTo>
                <a:lnTo>
                  <a:pt x="4686300" y="2819400"/>
                </a:lnTo>
                <a:cubicBezTo>
                  <a:pt x="4686300" y="2872006"/>
                  <a:pt x="4643647" y="2914650"/>
                  <a:pt x="4591050" y="2914650"/>
                </a:cubicBezTo>
                <a:cubicBezTo>
                  <a:pt x="4538453" y="2914650"/>
                  <a:pt x="4495800" y="2872006"/>
                  <a:pt x="4495800" y="2819400"/>
                </a:cubicBezTo>
                <a:lnTo>
                  <a:pt x="4495800" y="2628900"/>
                </a:lnTo>
                <a:cubicBezTo>
                  <a:pt x="4495800" y="2576293"/>
                  <a:pt x="4538453" y="2533650"/>
                  <a:pt x="4591050" y="2533650"/>
                </a:cubicBezTo>
                <a:close/>
                <a:moveTo>
                  <a:pt x="285750" y="2533650"/>
                </a:moveTo>
                <a:cubicBezTo>
                  <a:pt x="338347" y="2533650"/>
                  <a:pt x="381000" y="2576293"/>
                  <a:pt x="381000" y="2628900"/>
                </a:cubicBezTo>
                <a:lnTo>
                  <a:pt x="381000" y="2819400"/>
                </a:lnTo>
                <a:cubicBezTo>
                  <a:pt x="381000" y="2872006"/>
                  <a:pt x="338347" y="2914650"/>
                  <a:pt x="285750" y="2914650"/>
                </a:cubicBezTo>
                <a:cubicBezTo>
                  <a:pt x="233153" y="2914650"/>
                  <a:pt x="190500" y="2872006"/>
                  <a:pt x="190500" y="2819400"/>
                </a:cubicBezTo>
                <a:lnTo>
                  <a:pt x="190500" y="2628900"/>
                </a:lnTo>
                <a:cubicBezTo>
                  <a:pt x="190500" y="2576293"/>
                  <a:pt x="233153" y="2533650"/>
                  <a:pt x="285750" y="2533650"/>
                </a:cubicBezTo>
                <a:close/>
                <a:moveTo>
                  <a:pt x="1770554" y="2095757"/>
                </a:moveTo>
                <a:lnTo>
                  <a:pt x="981075" y="2859767"/>
                </a:lnTo>
                <a:lnTo>
                  <a:pt x="981075" y="3324225"/>
                </a:lnTo>
                <a:lnTo>
                  <a:pt x="2628900" y="3324225"/>
                </a:lnTo>
                <a:cubicBezTo>
                  <a:pt x="2681497" y="3324225"/>
                  <a:pt x="2724150" y="3366868"/>
                  <a:pt x="2724150" y="3419475"/>
                </a:cubicBezTo>
                <a:cubicBezTo>
                  <a:pt x="2724150" y="3472082"/>
                  <a:pt x="2681497" y="3514725"/>
                  <a:pt x="2628900" y="3514725"/>
                </a:cubicBezTo>
                <a:lnTo>
                  <a:pt x="981075" y="3514725"/>
                </a:lnTo>
                <a:lnTo>
                  <a:pt x="981075" y="3924300"/>
                </a:lnTo>
                <a:lnTo>
                  <a:pt x="3895725" y="3924300"/>
                </a:lnTo>
                <a:lnTo>
                  <a:pt x="3895725" y="3514725"/>
                </a:lnTo>
                <a:lnTo>
                  <a:pt x="3581400" y="3514725"/>
                </a:lnTo>
                <a:cubicBezTo>
                  <a:pt x="3528803" y="3514725"/>
                  <a:pt x="3486150" y="3472082"/>
                  <a:pt x="3486150" y="3419475"/>
                </a:cubicBezTo>
                <a:cubicBezTo>
                  <a:pt x="3486150" y="3366868"/>
                  <a:pt x="3528803" y="3324225"/>
                  <a:pt x="3581400" y="3324225"/>
                </a:cubicBezTo>
                <a:lnTo>
                  <a:pt x="3895725" y="3324225"/>
                </a:lnTo>
                <a:lnTo>
                  <a:pt x="3895725" y="3077927"/>
                </a:lnTo>
                <a:lnTo>
                  <a:pt x="3105150" y="2287352"/>
                </a:lnTo>
                <a:lnTo>
                  <a:pt x="2663799" y="2728703"/>
                </a:lnTo>
                <a:lnTo>
                  <a:pt x="3000356" y="3084776"/>
                </a:lnTo>
                <a:cubicBezTo>
                  <a:pt x="3036494" y="3123009"/>
                  <a:pt x="3034798" y="3183293"/>
                  <a:pt x="2996565" y="3219431"/>
                </a:cubicBezTo>
                <a:cubicBezTo>
                  <a:pt x="2978163" y="3236824"/>
                  <a:pt x="2954636" y="3245453"/>
                  <a:pt x="2931157" y="3245453"/>
                </a:cubicBezTo>
                <a:cubicBezTo>
                  <a:pt x="2905868" y="3245453"/>
                  <a:pt x="2880646" y="3235452"/>
                  <a:pt x="2861910" y="3215630"/>
                </a:cubicBezTo>
                <a:lnTo>
                  <a:pt x="2370144" y="2695346"/>
                </a:lnTo>
                <a:lnTo>
                  <a:pt x="1770554" y="2095757"/>
                </a:lnTo>
                <a:close/>
                <a:moveTo>
                  <a:pt x="4591050" y="1962150"/>
                </a:moveTo>
                <a:cubicBezTo>
                  <a:pt x="4643647" y="1962150"/>
                  <a:pt x="4686300" y="2004793"/>
                  <a:pt x="4686300" y="2057400"/>
                </a:cubicBezTo>
                <a:lnTo>
                  <a:pt x="4686300" y="2247900"/>
                </a:lnTo>
                <a:cubicBezTo>
                  <a:pt x="4686300" y="2300506"/>
                  <a:pt x="4643647" y="2343150"/>
                  <a:pt x="4591050" y="2343150"/>
                </a:cubicBezTo>
                <a:cubicBezTo>
                  <a:pt x="4538453" y="2343150"/>
                  <a:pt x="4495800" y="2300506"/>
                  <a:pt x="4495800" y="2247900"/>
                </a:cubicBezTo>
                <a:lnTo>
                  <a:pt x="4495800" y="2057400"/>
                </a:lnTo>
                <a:cubicBezTo>
                  <a:pt x="4495800" y="2004793"/>
                  <a:pt x="4538453" y="1962150"/>
                  <a:pt x="4591050" y="1962150"/>
                </a:cubicBezTo>
                <a:close/>
                <a:moveTo>
                  <a:pt x="285750" y="1962150"/>
                </a:moveTo>
                <a:cubicBezTo>
                  <a:pt x="338347" y="1962150"/>
                  <a:pt x="381000" y="2004793"/>
                  <a:pt x="381000" y="2057400"/>
                </a:cubicBezTo>
                <a:lnTo>
                  <a:pt x="381000" y="2247900"/>
                </a:lnTo>
                <a:cubicBezTo>
                  <a:pt x="381000" y="2300506"/>
                  <a:pt x="338347" y="2343150"/>
                  <a:pt x="285750" y="2343150"/>
                </a:cubicBezTo>
                <a:cubicBezTo>
                  <a:pt x="233153" y="2343150"/>
                  <a:pt x="190500" y="2300506"/>
                  <a:pt x="190500" y="2247900"/>
                </a:cubicBezTo>
                <a:lnTo>
                  <a:pt x="190500" y="2057400"/>
                </a:lnTo>
                <a:cubicBezTo>
                  <a:pt x="190500" y="2004793"/>
                  <a:pt x="233153" y="1962150"/>
                  <a:pt x="285750" y="1962150"/>
                </a:cubicBezTo>
                <a:close/>
                <a:moveTo>
                  <a:pt x="2628900" y="1581150"/>
                </a:moveTo>
                <a:cubicBezTo>
                  <a:pt x="2576379" y="1581150"/>
                  <a:pt x="2533650" y="1623879"/>
                  <a:pt x="2533650" y="1676400"/>
                </a:cubicBezTo>
                <a:cubicBezTo>
                  <a:pt x="2533650" y="1728921"/>
                  <a:pt x="2576379" y="1771650"/>
                  <a:pt x="2628900" y="1771650"/>
                </a:cubicBezTo>
                <a:cubicBezTo>
                  <a:pt x="2681421" y="1771650"/>
                  <a:pt x="2724150" y="1728921"/>
                  <a:pt x="2724150" y="1676400"/>
                </a:cubicBezTo>
                <a:cubicBezTo>
                  <a:pt x="2724150" y="1623879"/>
                  <a:pt x="2681421" y="1581150"/>
                  <a:pt x="2628900" y="1581150"/>
                </a:cubicBezTo>
                <a:close/>
                <a:moveTo>
                  <a:pt x="4591050" y="1390650"/>
                </a:moveTo>
                <a:cubicBezTo>
                  <a:pt x="4643647" y="1390650"/>
                  <a:pt x="4686300" y="1433293"/>
                  <a:pt x="4686300" y="1485900"/>
                </a:cubicBezTo>
                <a:lnTo>
                  <a:pt x="4686300" y="1676400"/>
                </a:lnTo>
                <a:cubicBezTo>
                  <a:pt x="4686300" y="1729006"/>
                  <a:pt x="4643647" y="1771650"/>
                  <a:pt x="4591050" y="1771650"/>
                </a:cubicBezTo>
                <a:cubicBezTo>
                  <a:pt x="4538453" y="1771650"/>
                  <a:pt x="4495800" y="1729006"/>
                  <a:pt x="4495800" y="1676400"/>
                </a:cubicBezTo>
                <a:lnTo>
                  <a:pt x="4495800" y="1485900"/>
                </a:lnTo>
                <a:cubicBezTo>
                  <a:pt x="4495800" y="1433293"/>
                  <a:pt x="4538453" y="1390650"/>
                  <a:pt x="4591050" y="1390650"/>
                </a:cubicBezTo>
                <a:close/>
                <a:moveTo>
                  <a:pt x="2628900" y="1390650"/>
                </a:moveTo>
                <a:cubicBezTo>
                  <a:pt x="2786462" y="1390650"/>
                  <a:pt x="2914650" y="1518837"/>
                  <a:pt x="2914650" y="1676400"/>
                </a:cubicBezTo>
                <a:cubicBezTo>
                  <a:pt x="2914650" y="1833962"/>
                  <a:pt x="2786462" y="1962150"/>
                  <a:pt x="2628900" y="1962150"/>
                </a:cubicBezTo>
                <a:cubicBezTo>
                  <a:pt x="2471337" y="1962150"/>
                  <a:pt x="2343150" y="1833962"/>
                  <a:pt x="2343150" y="1676400"/>
                </a:cubicBezTo>
                <a:cubicBezTo>
                  <a:pt x="2343150" y="1518837"/>
                  <a:pt x="2471337" y="1390650"/>
                  <a:pt x="2628900" y="1390650"/>
                </a:cubicBezTo>
                <a:close/>
                <a:moveTo>
                  <a:pt x="285750" y="1390650"/>
                </a:moveTo>
                <a:cubicBezTo>
                  <a:pt x="338347" y="1390650"/>
                  <a:pt x="381000" y="1433293"/>
                  <a:pt x="381000" y="1485900"/>
                </a:cubicBezTo>
                <a:lnTo>
                  <a:pt x="381000" y="1676400"/>
                </a:lnTo>
                <a:cubicBezTo>
                  <a:pt x="381000" y="1729006"/>
                  <a:pt x="338347" y="1771650"/>
                  <a:pt x="285750" y="1771650"/>
                </a:cubicBezTo>
                <a:cubicBezTo>
                  <a:pt x="233153" y="1771650"/>
                  <a:pt x="190500" y="1729006"/>
                  <a:pt x="190500" y="1676400"/>
                </a:cubicBezTo>
                <a:lnTo>
                  <a:pt x="190500" y="1485900"/>
                </a:lnTo>
                <a:cubicBezTo>
                  <a:pt x="190500" y="1433293"/>
                  <a:pt x="233153" y="1390650"/>
                  <a:pt x="285750" y="1390650"/>
                </a:cubicBezTo>
                <a:close/>
                <a:moveTo>
                  <a:pt x="981075" y="981075"/>
                </a:moveTo>
                <a:lnTo>
                  <a:pt x="981075" y="2594677"/>
                </a:lnTo>
                <a:lnTo>
                  <a:pt x="1705413" y="1893703"/>
                </a:lnTo>
                <a:cubicBezTo>
                  <a:pt x="1742760" y="1857556"/>
                  <a:pt x="1802216" y="1858022"/>
                  <a:pt x="1839001" y="1894799"/>
                </a:cubicBezTo>
                <a:lnTo>
                  <a:pt x="2533650" y="2589447"/>
                </a:lnTo>
                <a:lnTo>
                  <a:pt x="3037789" y="2085289"/>
                </a:lnTo>
                <a:cubicBezTo>
                  <a:pt x="3075003" y="2048094"/>
                  <a:pt x="3135297" y="2048094"/>
                  <a:pt x="3172501" y="2085289"/>
                </a:cubicBezTo>
                <a:lnTo>
                  <a:pt x="3895725" y="2808513"/>
                </a:lnTo>
                <a:lnTo>
                  <a:pt x="3895725" y="981075"/>
                </a:lnTo>
                <a:lnTo>
                  <a:pt x="981075" y="981075"/>
                </a:lnTo>
                <a:close/>
                <a:moveTo>
                  <a:pt x="4591050" y="790575"/>
                </a:moveTo>
                <a:cubicBezTo>
                  <a:pt x="4643647" y="790575"/>
                  <a:pt x="4686300" y="833218"/>
                  <a:pt x="4686300" y="885825"/>
                </a:cubicBezTo>
                <a:lnTo>
                  <a:pt x="4686300" y="1076325"/>
                </a:lnTo>
                <a:cubicBezTo>
                  <a:pt x="4686300" y="1128931"/>
                  <a:pt x="4643647" y="1171575"/>
                  <a:pt x="4591050" y="1171575"/>
                </a:cubicBezTo>
                <a:cubicBezTo>
                  <a:pt x="4538453" y="1171575"/>
                  <a:pt x="4495800" y="1128931"/>
                  <a:pt x="4495800" y="1076325"/>
                </a:cubicBezTo>
                <a:lnTo>
                  <a:pt x="4495800" y="885825"/>
                </a:lnTo>
                <a:cubicBezTo>
                  <a:pt x="4495800" y="833218"/>
                  <a:pt x="4538453" y="790575"/>
                  <a:pt x="4591050" y="790575"/>
                </a:cubicBezTo>
                <a:close/>
                <a:moveTo>
                  <a:pt x="885825" y="790575"/>
                </a:moveTo>
                <a:lnTo>
                  <a:pt x="3990975" y="790575"/>
                </a:lnTo>
                <a:cubicBezTo>
                  <a:pt x="4043572" y="790575"/>
                  <a:pt x="4086225" y="833218"/>
                  <a:pt x="4086225" y="885825"/>
                </a:cubicBezTo>
                <a:lnTo>
                  <a:pt x="4086225" y="3038427"/>
                </a:lnTo>
                <a:cubicBezTo>
                  <a:pt x="4086225" y="3038456"/>
                  <a:pt x="4086225" y="3038494"/>
                  <a:pt x="4086225" y="3038523"/>
                </a:cubicBezTo>
                <a:lnTo>
                  <a:pt x="4086225" y="4019550"/>
                </a:lnTo>
                <a:cubicBezTo>
                  <a:pt x="4086225" y="4072157"/>
                  <a:pt x="4043572" y="4114800"/>
                  <a:pt x="3990975" y="4114800"/>
                </a:cubicBezTo>
                <a:lnTo>
                  <a:pt x="885825" y="4114800"/>
                </a:lnTo>
                <a:cubicBezTo>
                  <a:pt x="833228" y="4114800"/>
                  <a:pt x="790575" y="4072157"/>
                  <a:pt x="790575" y="4019550"/>
                </a:cubicBezTo>
                <a:lnTo>
                  <a:pt x="790575" y="885825"/>
                </a:lnTo>
                <a:cubicBezTo>
                  <a:pt x="790575" y="833218"/>
                  <a:pt x="833228" y="790575"/>
                  <a:pt x="885825" y="790575"/>
                </a:cubicBezTo>
                <a:close/>
                <a:moveTo>
                  <a:pt x="285750" y="790575"/>
                </a:moveTo>
                <a:cubicBezTo>
                  <a:pt x="338347" y="790575"/>
                  <a:pt x="381000" y="833218"/>
                  <a:pt x="381000" y="885825"/>
                </a:cubicBezTo>
                <a:lnTo>
                  <a:pt x="381000" y="1076325"/>
                </a:lnTo>
                <a:cubicBezTo>
                  <a:pt x="381000" y="1128931"/>
                  <a:pt x="338347" y="1171575"/>
                  <a:pt x="285750" y="1171575"/>
                </a:cubicBezTo>
                <a:cubicBezTo>
                  <a:pt x="233153" y="1171575"/>
                  <a:pt x="190500" y="1128931"/>
                  <a:pt x="190500" y="1076325"/>
                </a:cubicBezTo>
                <a:lnTo>
                  <a:pt x="190500" y="885825"/>
                </a:lnTo>
                <a:cubicBezTo>
                  <a:pt x="190500" y="833218"/>
                  <a:pt x="233153" y="790575"/>
                  <a:pt x="285750" y="790575"/>
                </a:cubicBezTo>
                <a:close/>
                <a:moveTo>
                  <a:pt x="4495800" y="190500"/>
                </a:moveTo>
                <a:lnTo>
                  <a:pt x="4495800" y="381000"/>
                </a:lnTo>
                <a:lnTo>
                  <a:pt x="4686300" y="381000"/>
                </a:lnTo>
                <a:lnTo>
                  <a:pt x="4686300" y="190500"/>
                </a:lnTo>
                <a:lnTo>
                  <a:pt x="4495800" y="190500"/>
                </a:lnTo>
                <a:close/>
                <a:moveTo>
                  <a:pt x="3800475" y="190500"/>
                </a:moveTo>
                <a:lnTo>
                  <a:pt x="3990975" y="190500"/>
                </a:lnTo>
                <a:cubicBezTo>
                  <a:pt x="4043572" y="190500"/>
                  <a:pt x="4086225" y="233143"/>
                  <a:pt x="4086225" y="285750"/>
                </a:cubicBezTo>
                <a:cubicBezTo>
                  <a:pt x="4086225" y="338356"/>
                  <a:pt x="4043572" y="381000"/>
                  <a:pt x="3990975" y="381000"/>
                </a:cubicBezTo>
                <a:lnTo>
                  <a:pt x="3800475" y="381000"/>
                </a:lnTo>
                <a:cubicBezTo>
                  <a:pt x="3747878" y="381000"/>
                  <a:pt x="3705225" y="338356"/>
                  <a:pt x="3705225" y="285750"/>
                </a:cubicBezTo>
                <a:cubicBezTo>
                  <a:pt x="3705225" y="233143"/>
                  <a:pt x="3747878" y="190500"/>
                  <a:pt x="3800475" y="190500"/>
                </a:cubicBezTo>
                <a:close/>
                <a:moveTo>
                  <a:pt x="3200400" y="190500"/>
                </a:moveTo>
                <a:lnTo>
                  <a:pt x="3390900" y="190500"/>
                </a:lnTo>
                <a:cubicBezTo>
                  <a:pt x="3443497" y="190500"/>
                  <a:pt x="3486150" y="233143"/>
                  <a:pt x="3486150" y="285750"/>
                </a:cubicBezTo>
                <a:cubicBezTo>
                  <a:pt x="3486150" y="338356"/>
                  <a:pt x="3443497" y="381000"/>
                  <a:pt x="3390900" y="381000"/>
                </a:cubicBezTo>
                <a:lnTo>
                  <a:pt x="3200400" y="381000"/>
                </a:lnTo>
                <a:cubicBezTo>
                  <a:pt x="3147803" y="381000"/>
                  <a:pt x="3105150" y="338356"/>
                  <a:pt x="3105150" y="285750"/>
                </a:cubicBezTo>
                <a:cubicBezTo>
                  <a:pt x="3105150" y="233143"/>
                  <a:pt x="3147803" y="190500"/>
                  <a:pt x="3200400" y="190500"/>
                </a:cubicBezTo>
                <a:close/>
                <a:moveTo>
                  <a:pt x="2628900" y="190500"/>
                </a:moveTo>
                <a:lnTo>
                  <a:pt x="2819400" y="190500"/>
                </a:lnTo>
                <a:cubicBezTo>
                  <a:pt x="2871997" y="190500"/>
                  <a:pt x="2914650" y="233143"/>
                  <a:pt x="2914650" y="285750"/>
                </a:cubicBezTo>
                <a:cubicBezTo>
                  <a:pt x="2914650" y="338356"/>
                  <a:pt x="2871997" y="381000"/>
                  <a:pt x="2819400" y="381000"/>
                </a:cubicBezTo>
                <a:lnTo>
                  <a:pt x="2628900" y="381000"/>
                </a:lnTo>
                <a:cubicBezTo>
                  <a:pt x="2576303" y="381000"/>
                  <a:pt x="2533650" y="338356"/>
                  <a:pt x="2533650" y="285750"/>
                </a:cubicBezTo>
                <a:cubicBezTo>
                  <a:pt x="2533650" y="233143"/>
                  <a:pt x="2576303" y="190500"/>
                  <a:pt x="2628900" y="190500"/>
                </a:cubicBezTo>
                <a:close/>
                <a:moveTo>
                  <a:pt x="2057400" y="190500"/>
                </a:moveTo>
                <a:lnTo>
                  <a:pt x="2247900" y="190500"/>
                </a:lnTo>
                <a:cubicBezTo>
                  <a:pt x="2300497" y="190500"/>
                  <a:pt x="2343150" y="233143"/>
                  <a:pt x="2343150" y="285750"/>
                </a:cubicBezTo>
                <a:cubicBezTo>
                  <a:pt x="2343150" y="338356"/>
                  <a:pt x="2300497" y="381000"/>
                  <a:pt x="2247900" y="381000"/>
                </a:cubicBezTo>
                <a:lnTo>
                  <a:pt x="2057400" y="381000"/>
                </a:lnTo>
                <a:cubicBezTo>
                  <a:pt x="2004803" y="381000"/>
                  <a:pt x="1962150" y="338356"/>
                  <a:pt x="1962150" y="285750"/>
                </a:cubicBezTo>
                <a:cubicBezTo>
                  <a:pt x="1962150" y="233143"/>
                  <a:pt x="2004803" y="190500"/>
                  <a:pt x="2057400" y="190500"/>
                </a:cubicBezTo>
                <a:close/>
                <a:moveTo>
                  <a:pt x="1485900" y="190500"/>
                </a:moveTo>
                <a:lnTo>
                  <a:pt x="1676400" y="190500"/>
                </a:lnTo>
                <a:cubicBezTo>
                  <a:pt x="1728997" y="190500"/>
                  <a:pt x="1771650" y="233143"/>
                  <a:pt x="1771650" y="285750"/>
                </a:cubicBezTo>
                <a:cubicBezTo>
                  <a:pt x="1771650" y="338356"/>
                  <a:pt x="1728997" y="381000"/>
                  <a:pt x="1676400" y="381000"/>
                </a:cubicBezTo>
                <a:lnTo>
                  <a:pt x="1485900" y="381000"/>
                </a:lnTo>
                <a:cubicBezTo>
                  <a:pt x="1433303" y="381000"/>
                  <a:pt x="1390650" y="338356"/>
                  <a:pt x="1390650" y="285750"/>
                </a:cubicBezTo>
                <a:cubicBezTo>
                  <a:pt x="1390650" y="233143"/>
                  <a:pt x="1433303" y="190500"/>
                  <a:pt x="1485900" y="190500"/>
                </a:cubicBezTo>
                <a:close/>
                <a:moveTo>
                  <a:pt x="885825" y="190500"/>
                </a:moveTo>
                <a:lnTo>
                  <a:pt x="1076325" y="190500"/>
                </a:lnTo>
                <a:cubicBezTo>
                  <a:pt x="1128922" y="190500"/>
                  <a:pt x="1171575" y="233143"/>
                  <a:pt x="1171575" y="285750"/>
                </a:cubicBezTo>
                <a:cubicBezTo>
                  <a:pt x="1171575" y="338356"/>
                  <a:pt x="1128922" y="381000"/>
                  <a:pt x="1076325" y="381000"/>
                </a:cubicBezTo>
                <a:lnTo>
                  <a:pt x="885825" y="381000"/>
                </a:lnTo>
                <a:cubicBezTo>
                  <a:pt x="833228" y="381000"/>
                  <a:pt x="790575" y="338356"/>
                  <a:pt x="790575" y="285750"/>
                </a:cubicBezTo>
                <a:cubicBezTo>
                  <a:pt x="790575" y="233143"/>
                  <a:pt x="833228" y="190500"/>
                  <a:pt x="885825" y="190500"/>
                </a:cubicBezTo>
                <a:close/>
                <a:moveTo>
                  <a:pt x="190500" y="190500"/>
                </a:moveTo>
                <a:lnTo>
                  <a:pt x="190500" y="381000"/>
                </a:lnTo>
                <a:lnTo>
                  <a:pt x="381000" y="381000"/>
                </a:lnTo>
                <a:lnTo>
                  <a:pt x="381000" y="190500"/>
                </a:lnTo>
                <a:lnTo>
                  <a:pt x="190500" y="190500"/>
                </a:lnTo>
                <a:close/>
                <a:moveTo>
                  <a:pt x="4400550" y="0"/>
                </a:moveTo>
                <a:lnTo>
                  <a:pt x="4781550" y="0"/>
                </a:lnTo>
                <a:cubicBezTo>
                  <a:pt x="4834147" y="0"/>
                  <a:pt x="4876800" y="42643"/>
                  <a:pt x="4876800" y="95250"/>
                </a:cubicBezTo>
                <a:lnTo>
                  <a:pt x="4876800" y="476250"/>
                </a:lnTo>
                <a:cubicBezTo>
                  <a:pt x="4876800" y="528856"/>
                  <a:pt x="4834147" y="571500"/>
                  <a:pt x="4781550" y="571500"/>
                </a:cubicBezTo>
                <a:lnTo>
                  <a:pt x="4400550" y="571500"/>
                </a:lnTo>
                <a:cubicBezTo>
                  <a:pt x="4347953" y="571500"/>
                  <a:pt x="4305300" y="528856"/>
                  <a:pt x="4305300" y="476250"/>
                </a:cubicBezTo>
                <a:lnTo>
                  <a:pt x="4305300" y="95250"/>
                </a:lnTo>
                <a:cubicBezTo>
                  <a:pt x="4305300" y="42643"/>
                  <a:pt x="4347953" y="0"/>
                  <a:pt x="4400550" y="0"/>
                </a:cubicBezTo>
                <a:close/>
                <a:moveTo>
                  <a:pt x="95250" y="0"/>
                </a:moveTo>
                <a:lnTo>
                  <a:pt x="476250" y="0"/>
                </a:lnTo>
                <a:cubicBezTo>
                  <a:pt x="528847" y="0"/>
                  <a:pt x="571500" y="42643"/>
                  <a:pt x="571500" y="95250"/>
                </a:cubicBezTo>
                <a:lnTo>
                  <a:pt x="571500" y="476250"/>
                </a:lnTo>
                <a:cubicBezTo>
                  <a:pt x="571500" y="528856"/>
                  <a:pt x="528847" y="571500"/>
                  <a:pt x="476250" y="571500"/>
                </a:cubicBezTo>
                <a:lnTo>
                  <a:pt x="95250" y="571500"/>
                </a:lnTo>
                <a:cubicBezTo>
                  <a:pt x="42653" y="571500"/>
                  <a:pt x="0" y="528856"/>
                  <a:pt x="0" y="476250"/>
                </a:cubicBezTo>
                <a:lnTo>
                  <a:pt x="0" y="95250"/>
                </a:lnTo>
                <a:cubicBezTo>
                  <a:pt x="0" y="42643"/>
                  <a:pt x="42653" y="0"/>
                  <a:pt x="952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9" name="TextBox 32"/>
          <p:cNvSpPr/>
          <p:nvPr/>
        </p:nvSpPr>
        <p:spPr>
          <a:xfrm flipH="1">
            <a:off x="2642400" y="4549680"/>
            <a:ext cx="2290680" cy="1904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Light"/>
                <a:ea typeface="Lato"/>
              </a:rPr>
              <a:t>Lorem ipsum dolor sit amet</a:t>
            </a:r>
            <a:r>
              <a:rPr b="0" lang="id-ID" sz="1000" spc="-1" strike="noStrike">
                <a:solidFill>
                  <a:srgbClr val="ffffff"/>
                </a:solidFill>
                <a:latin typeface="Montserrat Light"/>
                <a:ea typeface="Lato"/>
              </a:rPr>
              <a:t>.</a:t>
            </a:r>
            <a:r>
              <a:rPr b="0" lang="en-US" sz="1000" spc="-1" strike="noStrike">
                <a:solidFill>
                  <a:srgbClr val="ffffff"/>
                </a:solidFill>
                <a:latin typeface="Montserrat Light"/>
                <a:ea typeface="Lato"/>
              </a:rPr>
              <a:t> </a:t>
            </a:r>
            <a:endParaRPr b="0" lang="en-US" sz="1000" spc="-1" strike="noStrike">
              <a:solidFill>
                <a:srgbClr val="000000"/>
              </a:solidFill>
              <a:latin typeface="Calibri"/>
            </a:endParaRPr>
          </a:p>
        </p:txBody>
      </p:sp>
      <p:sp>
        <p:nvSpPr>
          <p:cNvPr id="1460" name="TextBox 33"/>
          <p:cNvSpPr/>
          <p:nvPr/>
        </p:nvSpPr>
        <p:spPr>
          <a:xfrm flipH="1">
            <a:off x="2643120" y="5311800"/>
            <a:ext cx="2400480" cy="1904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Light"/>
                <a:ea typeface="Lato"/>
              </a:rPr>
              <a:t>Lorem ipsum dolor sit amet</a:t>
            </a:r>
            <a:r>
              <a:rPr b="0" lang="id-ID" sz="1000" spc="-1" strike="noStrike">
                <a:solidFill>
                  <a:srgbClr val="ffffff"/>
                </a:solidFill>
                <a:latin typeface="Montserrat Light"/>
                <a:ea typeface="Lato"/>
              </a:rPr>
              <a:t>.</a:t>
            </a:r>
            <a:r>
              <a:rPr b="0" lang="en-US" sz="1000" spc="-1" strike="noStrike">
                <a:solidFill>
                  <a:srgbClr val="ffffff"/>
                </a:solidFill>
                <a:latin typeface="Montserrat Light"/>
                <a:ea typeface="Lato"/>
              </a:rPr>
              <a:t> </a:t>
            </a:r>
            <a:endParaRPr b="0" lang="en-US" sz="1000" spc="-1" strike="noStrike">
              <a:solidFill>
                <a:srgbClr val="000000"/>
              </a:solidFill>
              <a:latin typeface="Calibri"/>
            </a:endParaRPr>
          </a:p>
        </p:txBody>
      </p:sp>
      <p:sp>
        <p:nvSpPr>
          <p:cNvPr id="1461" name="TextBox 24"/>
          <p:cNvSpPr/>
          <p:nvPr/>
        </p:nvSpPr>
        <p:spPr>
          <a:xfrm>
            <a:off x="1900080" y="2994120"/>
            <a:ext cx="446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bold"/>
                <a:ea typeface="Aharoni"/>
              </a:rPr>
              <a:t>BUSINESS PRESENTATION</a:t>
            </a:r>
            <a:endParaRPr b="0" lang="en-US" sz="1200" spc="-1" strike="noStrike">
              <a:solidFill>
                <a:srgbClr val="000000"/>
              </a:solidFill>
              <a:latin typeface="Calibri"/>
            </a:endParaRPr>
          </a:p>
        </p:txBody>
      </p:sp>
      <p:grpSp>
        <p:nvGrpSpPr>
          <p:cNvPr id="1462" name="Group 16"/>
          <p:cNvGrpSpPr/>
          <p:nvPr/>
        </p:nvGrpSpPr>
        <p:grpSpPr>
          <a:xfrm>
            <a:off x="8469000" y="255600"/>
            <a:ext cx="3327840" cy="246240"/>
            <a:chOff x="8469000" y="255600"/>
            <a:chExt cx="3327840" cy="246240"/>
          </a:xfrm>
        </p:grpSpPr>
        <p:sp>
          <p:nvSpPr>
            <p:cNvPr id="1463" name="Rectangle 17"/>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464" name="Straight Arrow Connector 18"/>
            <p:cNvCxnSpPr/>
            <p:nvPr/>
          </p:nvCxnSpPr>
          <p:spPr>
            <a:xfrm>
              <a:off x="10269000" y="423000"/>
              <a:ext cx="1528200" cy="1080"/>
            </a:xfrm>
            <a:prstGeom prst="straightConnector1">
              <a:avLst/>
            </a:prstGeom>
            <a:ln w="3240">
              <a:solidFill>
                <a:srgbClr val="ffffff"/>
              </a:solidFill>
              <a:miter/>
              <a:tailEnd len="med" type="triangle" w="med"/>
            </a:ln>
          </p:spPr>
        </p:cxnSp>
      </p:grpSp>
      <p:grpSp>
        <p:nvGrpSpPr>
          <p:cNvPr id="1465" name="Group 19"/>
          <p:cNvGrpSpPr/>
          <p:nvPr/>
        </p:nvGrpSpPr>
        <p:grpSpPr>
          <a:xfrm>
            <a:off x="284040" y="255600"/>
            <a:ext cx="825480" cy="824040"/>
            <a:chOff x="284040" y="255600"/>
            <a:chExt cx="825480" cy="824040"/>
          </a:xfrm>
        </p:grpSpPr>
        <p:sp>
          <p:nvSpPr>
            <p:cNvPr id="1466" name="Frame 20"/>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7" name="Rectangle 22"/>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TextBox 5"/>
          <p:cNvSpPr/>
          <p:nvPr/>
        </p:nvSpPr>
        <p:spPr>
          <a:xfrm>
            <a:off x="614520" y="2141640"/>
            <a:ext cx="3941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ea typeface="Times New Roman"/>
              </a:rPr>
              <a:t>PHONE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ea typeface="Times New Roman"/>
              </a:rPr>
              <a:t>MOCKUP.</a:t>
            </a:r>
            <a:endParaRPr b="0" lang="en-US" sz="4000" spc="-1" strike="noStrike">
              <a:solidFill>
                <a:srgbClr val="000000"/>
              </a:solidFill>
              <a:latin typeface="Calibri"/>
            </a:endParaRPr>
          </a:p>
        </p:txBody>
      </p:sp>
      <p:sp>
        <p:nvSpPr>
          <p:cNvPr id="1469" name="Text Placeholder 6"/>
          <p:cNvSpPr/>
          <p:nvPr/>
        </p:nvSpPr>
        <p:spPr>
          <a:xfrm>
            <a:off x="614520" y="4118040"/>
            <a:ext cx="4062240" cy="53028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Light"/>
                <a:ea typeface="Open Sans"/>
              </a:rPr>
              <a:t>A company is an association or collection of individuals, whether natural persons. individuals, whether natural A company is an association or collection of individuals.</a:t>
            </a:r>
            <a:endParaRPr b="0" lang="en-US" sz="1000" spc="-1" strike="noStrike">
              <a:solidFill>
                <a:srgbClr val="000000"/>
              </a:solidFill>
              <a:latin typeface="Calibri"/>
            </a:endParaRPr>
          </a:p>
        </p:txBody>
      </p:sp>
      <p:sp>
        <p:nvSpPr>
          <p:cNvPr id="1470" name="TextBox 24"/>
          <p:cNvSpPr/>
          <p:nvPr/>
        </p:nvSpPr>
        <p:spPr>
          <a:xfrm>
            <a:off x="614520" y="3591000"/>
            <a:ext cx="446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bold"/>
                <a:ea typeface="Aharoni"/>
              </a:rPr>
              <a:t>BUSINESS PRESENTATION</a:t>
            </a:r>
            <a:endParaRPr b="0" lang="en-US" sz="1200" spc="-1" strike="noStrike">
              <a:solidFill>
                <a:srgbClr val="000000"/>
              </a:solidFill>
              <a:latin typeface="Calibri"/>
            </a:endParaRPr>
          </a:p>
        </p:txBody>
      </p:sp>
      <p:grpSp>
        <p:nvGrpSpPr>
          <p:cNvPr id="1471" name="Group 9"/>
          <p:cNvGrpSpPr/>
          <p:nvPr/>
        </p:nvGrpSpPr>
        <p:grpSpPr>
          <a:xfrm>
            <a:off x="8469000" y="255600"/>
            <a:ext cx="3327840" cy="246240"/>
            <a:chOff x="8469000" y="255600"/>
            <a:chExt cx="3327840" cy="246240"/>
          </a:xfrm>
        </p:grpSpPr>
        <p:sp>
          <p:nvSpPr>
            <p:cNvPr id="1472" name="Rectangle 10"/>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473" name="Straight Arrow Connector 11"/>
            <p:cNvCxnSpPr/>
            <p:nvPr/>
          </p:nvCxnSpPr>
          <p:spPr>
            <a:xfrm>
              <a:off x="10269000" y="423000"/>
              <a:ext cx="1528200" cy="1080"/>
            </a:xfrm>
            <a:prstGeom prst="straightConnector1">
              <a:avLst/>
            </a:prstGeom>
            <a:ln w="3240">
              <a:solidFill>
                <a:srgbClr val="ffffff"/>
              </a:solidFill>
              <a:miter/>
              <a:tailEnd len="med" type="triangle" w="med"/>
            </a:ln>
          </p:spPr>
        </p:cxnSp>
      </p:grpSp>
      <p:grpSp>
        <p:nvGrpSpPr>
          <p:cNvPr id="1474" name="Group 12"/>
          <p:cNvGrpSpPr/>
          <p:nvPr/>
        </p:nvGrpSpPr>
        <p:grpSpPr>
          <a:xfrm>
            <a:off x="284040" y="255600"/>
            <a:ext cx="825480" cy="824040"/>
            <a:chOff x="284040" y="255600"/>
            <a:chExt cx="825480" cy="824040"/>
          </a:xfrm>
        </p:grpSpPr>
        <p:sp>
          <p:nvSpPr>
            <p:cNvPr id="1475" name="Frame 13"/>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6" name="Rectangle 14"/>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477" name="" descr=""/>
          <p:cNvPicPr/>
          <p:nvPr/>
        </p:nvPicPr>
        <p:blipFill>
          <a:blip r:embed="rId1"/>
          <a:stretch/>
        </p:blipFill>
        <p:spPr>
          <a:xfrm>
            <a:off x="5914800" y="1765080"/>
            <a:ext cx="2168280" cy="3827160"/>
          </a:xfrm>
          <a:prstGeom prst="rect">
            <a:avLst/>
          </a:prstGeom>
          <a:ln w="0">
            <a:noFill/>
          </a:ln>
        </p:spPr>
      </p:pic>
      <p:pic>
        <p:nvPicPr>
          <p:cNvPr id="1478" name="" descr=""/>
          <p:cNvPicPr/>
          <p:nvPr/>
        </p:nvPicPr>
        <p:blipFill>
          <a:blip r:embed="rId2"/>
          <a:stretch/>
        </p:blipFill>
        <p:spPr>
          <a:xfrm>
            <a:off x="9443880" y="1771560"/>
            <a:ext cx="2168640" cy="3827520"/>
          </a:xfrm>
          <a:prstGeom prst="rect">
            <a:avLst/>
          </a:prstGeom>
          <a:ln w="0">
            <a:noFill/>
          </a:ln>
        </p:spPr>
      </p:pic>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80" name="Group 4"/>
          <p:cNvGrpSpPr/>
          <p:nvPr/>
        </p:nvGrpSpPr>
        <p:grpSpPr>
          <a:xfrm>
            <a:off x="8469000" y="255600"/>
            <a:ext cx="3327840" cy="246240"/>
            <a:chOff x="8469000" y="255600"/>
            <a:chExt cx="3327840" cy="246240"/>
          </a:xfrm>
        </p:grpSpPr>
        <p:sp>
          <p:nvSpPr>
            <p:cNvPr id="1481" name="Rectangle 5"/>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482" name="Straight Arrow Connector 6"/>
            <p:cNvCxnSpPr/>
            <p:nvPr/>
          </p:nvCxnSpPr>
          <p:spPr>
            <a:xfrm>
              <a:off x="10269000" y="423000"/>
              <a:ext cx="1528200" cy="1080"/>
            </a:xfrm>
            <a:prstGeom prst="straightConnector1">
              <a:avLst/>
            </a:prstGeom>
            <a:ln w="3240">
              <a:solidFill>
                <a:srgbClr val="ffffff"/>
              </a:solidFill>
              <a:miter/>
              <a:tailEnd len="med" type="triangle" w="med"/>
            </a:ln>
          </p:spPr>
        </p:cxnSp>
      </p:grpSp>
      <p:grpSp>
        <p:nvGrpSpPr>
          <p:cNvPr id="1483" name="Group 7"/>
          <p:cNvGrpSpPr/>
          <p:nvPr/>
        </p:nvGrpSpPr>
        <p:grpSpPr>
          <a:xfrm>
            <a:off x="284040" y="255600"/>
            <a:ext cx="825480" cy="824040"/>
            <a:chOff x="284040" y="255600"/>
            <a:chExt cx="825480" cy="824040"/>
          </a:xfrm>
        </p:grpSpPr>
        <p:sp>
          <p:nvSpPr>
            <p:cNvPr id="1484" name="Frame 8"/>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5" name="Rectangle 9"/>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486" name="Group 10" descr=""/>
          <p:cNvPicPr/>
          <p:nvPr/>
        </p:nvPicPr>
        <p:blipFill>
          <a:blip r:embed="rId1"/>
          <a:stretch/>
        </p:blipFill>
        <p:spPr>
          <a:xfrm>
            <a:off x="1238400" y="2036880"/>
            <a:ext cx="9240840" cy="4583160"/>
          </a:xfrm>
          <a:prstGeom prst="rect">
            <a:avLst/>
          </a:prstGeom>
          <a:ln w="0">
            <a:noFill/>
          </a:ln>
        </p:spPr>
      </p:pic>
      <p:sp>
        <p:nvSpPr>
          <p:cNvPr id="1487" name="Subtitle 2"/>
          <p:cNvSpPr/>
          <p:nvPr/>
        </p:nvSpPr>
        <p:spPr>
          <a:xfrm>
            <a:off x="2932200" y="763560"/>
            <a:ext cx="6327720" cy="507960"/>
          </a:xfrm>
          <a:prstGeom prst="rect">
            <a:avLst/>
          </a:prstGeom>
          <a:noFill/>
          <a:ln w="0">
            <a:noFill/>
          </a:ln>
        </p:spPr>
        <p:style>
          <a:lnRef idx="0"/>
          <a:fillRef idx="0"/>
          <a:effectRef idx="0"/>
          <a:fontRef idx="minor"/>
        </p:style>
        <p:txBody>
          <a:bodyPr lIns="90000" rIns="90000" tIns="46800" bIns="46800" anchor="t">
            <a:normAutofit fontScale="7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Arial Black"/>
                <a:ea typeface="Open Sans"/>
              </a:rPr>
              <a:t>GLOBAL </a:t>
            </a:r>
            <a:r>
              <a:rPr b="1" lang="en-US" sz="4000" spc="-1" strike="noStrike">
                <a:solidFill>
                  <a:srgbClr val="ffffff"/>
                </a:solidFill>
                <a:latin typeface="Arial Black"/>
                <a:ea typeface="Open Sans"/>
              </a:rPr>
              <a:t>M</a:t>
            </a:r>
            <a:r>
              <a:rPr b="1" lang="id-ID" sz="4000" spc="-1" strike="noStrike">
                <a:solidFill>
                  <a:srgbClr val="ffffff"/>
                </a:solidFill>
                <a:latin typeface="Arial Black"/>
                <a:ea typeface="Open Sans"/>
              </a:rPr>
              <a:t>AP</a:t>
            </a:r>
            <a:endParaRPr b="0" lang="en-US" sz="4000" spc="-1" strike="noStrike">
              <a:solidFill>
                <a:srgbClr val="000000"/>
              </a:solidFill>
              <a:latin typeface="Calibri"/>
            </a:endParaRPr>
          </a:p>
        </p:txBody>
      </p:sp>
      <p:pic>
        <p:nvPicPr>
          <p:cNvPr id="1488" name="" descr=""/>
          <p:cNvPicPr/>
          <p:nvPr/>
        </p:nvPicPr>
        <p:blipFill>
          <a:blip r:embed="rId2"/>
          <a:stretch/>
        </p:blipFill>
        <p:spPr>
          <a:xfrm>
            <a:off x="-360" y="0"/>
            <a:ext cx="12192120" cy="6858000"/>
          </a:xfrm>
          <a:prstGeom prst="rect">
            <a:avLst/>
          </a:prstGeom>
          <a:ln w="0">
            <a:noFill/>
          </a:ln>
        </p:spPr>
      </p:pic>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3"/>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0" name="Group 4"/>
          <p:cNvGrpSpPr/>
          <p:nvPr/>
        </p:nvGrpSpPr>
        <p:grpSpPr>
          <a:xfrm>
            <a:off x="8469000" y="255600"/>
            <a:ext cx="3327840" cy="246240"/>
            <a:chOff x="8469000" y="255600"/>
            <a:chExt cx="3327840" cy="246240"/>
          </a:xfrm>
        </p:grpSpPr>
        <p:sp>
          <p:nvSpPr>
            <p:cNvPr id="1491" name="Rectangle 5"/>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492" name="Straight Arrow Connector 6"/>
            <p:cNvCxnSpPr/>
            <p:nvPr/>
          </p:nvCxnSpPr>
          <p:spPr>
            <a:xfrm>
              <a:off x="10269000" y="423000"/>
              <a:ext cx="1528200" cy="1080"/>
            </a:xfrm>
            <a:prstGeom prst="straightConnector1">
              <a:avLst/>
            </a:prstGeom>
            <a:ln w="3240">
              <a:solidFill>
                <a:srgbClr val="ffffff"/>
              </a:solidFill>
              <a:miter/>
              <a:tailEnd len="med" type="triangle" w="med"/>
            </a:ln>
          </p:spPr>
        </p:cxnSp>
      </p:grpSp>
      <p:grpSp>
        <p:nvGrpSpPr>
          <p:cNvPr id="1493" name="Group 7"/>
          <p:cNvGrpSpPr/>
          <p:nvPr/>
        </p:nvGrpSpPr>
        <p:grpSpPr>
          <a:xfrm>
            <a:off x="284040" y="255600"/>
            <a:ext cx="825480" cy="824040"/>
            <a:chOff x="284040" y="255600"/>
            <a:chExt cx="825480" cy="824040"/>
          </a:xfrm>
        </p:grpSpPr>
        <p:sp>
          <p:nvSpPr>
            <p:cNvPr id="1494" name="Frame 8"/>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5" name="Rectangle 9"/>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graphicFrame>
        <p:nvGraphicFramePr>
          <p:cNvPr id="1496" name="Chart 10"/>
          <p:cNvGraphicFramePr/>
          <p:nvPr/>
        </p:nvGraphicFramePr>
        <p:xfrm>
          <a:off x="6343560" y="1617840"/>
          <a:ext cx="5384880" cy="3622320"/>
        </p:xfrm>
        <a:graphic>
          <a:graphicData uri="http://schemas.openxmlformats.org/presentationml/2006/ole">
            <p:oleObj progId="Excel.Sheet.12" r:id="rId1" spid="">
              <p:embed/>
              <p:pic>
                <p:nvPicPr>
                  <p:cNvPr id="1497" name="Chart 10" descr=""/>
                  <p:cNvPicPr/>
                  <p:nvPr/>
                </p:nvPicPr>
                <p:blipFill>
                  <a:blip r:embed="rId2"/>
                  <a:stretch/>
                </p:blipFill>
                <p:spPr>
                  <a:xfrm>
                    <a:off x="6343560" y="1617840"/>
                    <a:ext cx="5384880" cy="3622320"/>
                  </a:xfrm>
                  <a:prstGeom prst="rect">
                    <a:avLst/>
                  </a:prstGeom>
                  <a:ln w="0">
                    <a:noFill/>
                  </a:ln>
                </p:spPr>
              </p:pic>
            </p:oleObj>
          </a:graphicData>
        </a:graphic>
      </p:graphicFrame>
      <p:sp>
        <p:nvSpPr>
          <p:cNvPr id="1498" name="TextBox 11"/>
          <p:cNvSpPr/>
          <p:nvPr/>
        </p:nvSpPr>
        <p:spPr>
          <a:xfrm>
            <a:off x="496800" y="2413080"/>
            <a:ext cx="559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ea typeface="Times New Roman"/>
              </a:rPr>
              <a:t>COLUMN</a:t>
            </a:r>
            <a:endParaRPr b="0" lang="en-US" sz="6000" spc="-1" strike="noStrike">
              <a:solidFill>
                <a:srgbClr val="000000"/>
              </a:solidFill>
              <a:latin typeface="Calibri"/>
            </a:endParaRPr>
          </a:p>
        </p:txBody>
      </p:sp>
      <p:sp>
        <p:nvSpPr>
          <p:cNvPr id="1499" name="TextBox 12"/>
          <p:cNvSpPr/>
          <p:nvPr/>
        </p:nvSpPr>
        <p:spPr>
          <a:xfrm>
            <a:off x="593640" y="3537000"/>
            <a:ext cx="446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bold"/>
                <a:ea typeface="Aharoni"/>
              </a:rPr>
              <a:t>THE CHART PRESENTATION</a:t>
            </a:r>
            <a:endParaRPr b="0" lang="en-US" sz="1200" spc="-1" strike="noStrike">
              <a:solidFill>
                <a:srgbClr val="000000"/>
              </a:solidFill>
              <a:latin typeface="Calibri"/>
            </a:endParaRPr>
          </a:p>
        </p:txBody>
      </p:sp>
      <p:sp>
        <p:nvSpPr>
          <p:cNvPr id="1500" name="Text Placeholder 6"/>
          <p:cNvSpPr/>
          <p:nvPr/>
        </p:nvSpPr>
        <p:spPr>
          <a:xfrm>
            <a:off x="593640" y="4156200"/>
            <a:ext cx="3919680" cy="531720"/>
          </a:xfrm>
          <a:prstGeom prst="rect">
            <a:avLst/>
          </a:prstGeom>
          <a:noFill/>
          <a:ln w="0">
            <a:noFill/>
          </a:ln>
        </p:spPr>
        <p:style>
          <a:lnRef idx="0"/>
          <a:fillRef idx="0"/>
          <a:effectRef idx="0"/>
          <a:fontRef idx="minor"/>
        </p:style>
        <p:txBody>
          <a:bodyPr lIns="90000" rIns="90000" tIns="46800" bIns="46800" anchor="t">
            <a:normAutofit fontScale="80000"/>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Light"/>
                <a:ea typeface="Open Sans"/>
              </a:rPr>
              <a:t>A company is an association or collection of individuals, whether natural persons. individuals, whether natural A company is an association or collection of individuals.</a:t>
            </a:r>
            <a:endParaRPr b="0" lang="en-US" sz="1000" spc="-1" strike="noStrike">
              <a:solidFill>
                <a:srgbClr val="000000"/>
              </a:solidFill>
              <a:latin typeface="Calibri"/>
            </a:endParaRPr>
          </a:p>
        </p:txBody>
      </p:sp>
      <p:pic>
        <p:nvPicPr>
          <p:cNvPr id="1501" name="" descr=""/>
          <p:cNvPicPr/>
          <p:nvPr/>
        </p:nvPicPr>
        <p:blipFill>
          <a:blip r:embed="rId3"/>
          <a:stretch/>
        </p:blipFill>
        <p:spPr>
          <a:xfrm>
            <a:off x="-360" y="0"/>
            <a:ext cx="12192120" cy="6858000"/>
          </a:xfrm>
          <a:prstGeom prst="rect">
            <a:avLst/>
          </a:prstGeom>
          <a:ln w="0">
            <a:noFill/>
          </a:ln>
        </p:spPr>
      </p:pic>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3"/>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03" name="Group 4"/>
          <p:cNvGrpSpPr/>
          <p:nvPr/>
        </p:nvGrpSpPr>
        <p:grpSpPr>
          <a:xfrm>
            <a:off x="8469000" y="255600"/>
            <a:ext cx="3327840" cy="246240"/>
            <a:chOff x="8469000" y="255600"/>
            <a:chExt cx="3327840" cy="246240"/>
          </a:xfrm>
        </p:grpSpPr>
        <p:sp>
          <p:nvSpPr>
            <p:cNvPr id="1504" name="Rectangle 5"/>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505" name="Straight Arrow Connector 6"/>
            <p:cNvCxnSpPr/>
            <p:nvPr/>
          </p:nvCxnSpPr>
          <p:spPr>
            <a:xfrm>
              <a:off x="10269000" y="423000"/>
              <a:ext cx="1528200" cy="1080"/>
            </a:xfrm>
            <a:prstGeom prst="straightConnector1">
              <a:avLst/>
            </a:prstGeom>
            <a:ln w="3240">
              <a:solidFill>
                <a:srgbClr val="ffffff"/>
              </a:solidFill>
              <a:miter/>
              <a:tailEnd len="med" type="triangle" w="med"/>
            </a:ln>
          </p:spPr>
        </p:cxnSp>
      </p:grpSp>
      <p:grpSp>
        <p:nvGrpSpPr>
          <p:cNvPr id="1506" name="Group 7"/>
          <p:cNvGrpSpPr/>
          <p:nvPr/>
        </p:nvGrpSpPr>
        <p:grpSpPr>
          <a:xfrm>
            <a:off x="284040" y="255600"/>
            <a:ext cx="825480" cy="824040"/>
            <a:chOff x="284040" y="255600"/>
            <a:chExt cx="825480" cy="824040"/>
          </a:xfrm>
        </p:grpSpPr>
        <p:sp>
          <p:nvSpPr>
            <p:cNvPr id="1507" name="Frame 8"/>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8" name="Rectangle 9"/>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graphicFrame>
        <p:nvGraphicFramePr>
          <p:cNvPr id="1509" name="Chart 10"/>
          <p:cNvGraphicFramePr/>
          <p:nvPr/>
        </p:nvGraphicFramePr>
        <p:xfrm>
          <a:off x="590400" y="1509840"/>
          <a:ext cx="5708880" cy="3838320"/>
        </p:xfrm>
        <a:graphic>
          <a:graphicData uri="http://schemas.openxmlformats.org/presentationml/2006/ole">
            <p:oleObj progId="Excel.Sheet.12" r:id="rId1" spid="">
              <p:embed/>
              <p:pic>
                <p:nvPicPr>
                  <p:cNvPr id="1510" name="Chart 10" descr=""/>
                  <p:cNvPicPr/>
                  <p:nvPr/>
                </p:nvPicPr>
                <p:blipFill>
                  <a:blip r:embed="rId2"/>
                  <a:stretch/>
                </p:blipFill>
                <p:spPr>
                  <a:xfrm>
                    <a:off x="590400" y="1509840"/>
                    <a:ext cx="5708880" cy="3838320"/>
                  </a:xfrm>
                  <a:prstGeom prst="rect">
                    <a:avLst/>
                  </a:prstGeom>
                  <a:ln w="0">
                    <a:noFill/>
                  </a:ln>
                </p:spPr>
              </p:pic>
            </p:oleObj>
          </a:graphicData>
        </a:graphic>
      </p:graphicFrame>
      <p:sp>
        <p:nvSpPr>
          <p:cNvPr id="1511" name="TextBox 11"/>
          <p:cNvSpPr/>
          <p:nvPr/>
        </p:nvSpPr>
        <p:spPr>
          <a:xfrm>
            <a:off x="6802560" y="2349360"/>
            <a:ext cx="5084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ea typeface="Times New Roman"/>
              </a:rPr>
              <a:t>CHART.</a:t>
            </a:r>
            <a:endParaRPr b="0" lang="en-US" sz="6000" spc="-1" strike="noStrike">
              <a:solidFill>
                <a:srgbClr val="000000"/>
              </a:solidFill>
              <a:latin typeface="Calibri"/>
            </a:endParaRPr>
          </a:p>
        </p:txBody>
      </p:sp>
      <p:sp>
        <p:nvSpPr>
          <p:cNvPr id="1512" name="TextBox 12"/>
          <p:cNvSpPr/>
          <p:nvPr/>
        </p:nvSpPr>
        <p:spPr>
          <a:xfrm>
            <a:off x="6899400" y="3537000"/>
            <a:ext cx="446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bold"/>
                <a:ea typeface="Aharoni"/>
              </a:rPr>
              <a:t>BUSINESS PRESENTATION</a:t>
            </a:r>
            <a:endParaRPr b="0" lang="en-US" sz="1200" spc="-1" strike="noStrike">
              <a:solidFill>
                <a:srgbClr val="000000"/>
              </a:solidFill>
              <a:latin typeface="Calibri"/>
            </a:endParaRPr>
          </a:p>
        </p:txBody>
      </p:sp>
      <p:sp>
        <p:nvSpPr>
          <p:cNvPr id="1513" name="Text Placeholder 6"/>
          <p:cNvSpPr/>
          <p:nvPr/>
        </p:nvSpPr>
        <p:spPr>
          <a:xfrm>
            <a:off x="6899400" y="4156200"/>
            <a:ext cx="3919320" cy="53172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Light"/>
                <a:ea typeface="Open Sans"/>
              </a:rPr>
              <a:t>A company is an association or collection of individuals, whether natural persons. individuals, whether natural A company is an association or collection of individuals.</a:t>
            </a:r>
            <a:endParaRPr b="0" lang="en-US" sz="1000" spc="-1" strike="noStrike">
              <a:solidFill>
                <a:srgbClr val="000000"/>
              </a:solidFill>
              <a:latin typeface="Calibri"/>
            </a:endParaRPr>
          </a:p>
        </p:txBody>
      </p:sp>
      <p:pic>
        <p:nvPicPr>
          <p:cNvPr id="1514" name="" descr=""/>
          <p:cNvPicPr/>
          <p:nvPr/>
        </p:nvPicPr>
        <p:blipFill>
          <a:blip r:embed="rId3"/>
          <a:stretch/>
        </p:blipFill>
        <p:spPr>
          <a:xfrm>
            <a:off x="-360" y="0"/>
            <a:ext cx="12192120" cy="6858000"/>
          </a:xfrm>
          <a:prstGeom prst="rect">
            <a:avLst/>
          </a:prstGeom>
          <a:ln w="0">
            <a:noFill/>
          </a:ln>
        </p:spPr>
      </p:pic>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24"/>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6" name="Group 1104"/>
          <p:cNvGrpSpPr/>
          <p:nvPr/>
        </p:nvGrpSpPr>
        <p:grpSpPr>
          <a:xfrm>
            <a:off x="7821720" y="1779480"/>
            <a:ext cx="2260440" cy="3348000"/>
            <a:chOff x="7821720" y="1779480"/>
            <a:chExt cx="2260440" cy="3348000"/>
          </a:xfrm>
        </p:grpSpPr>
        <p:grpSp>
          <p:nvGrpSpPr>
            <p:cNvPr id="1517" name="Group 1102"/>
            <p:cNvGrpSpPr/>
            <p:nvPr/>
          </p:nvGrpSpPr>
          <p:grpSpPr>
            <a:xfrm>
              <a:off x="7821720" y="1779480"/>
              <a:ext cx="2260440" cy="3348000"/>
              <a:chOff x="7821720" y="1779480"/>
              <a:chExt cx="2260440" cy="3348000"/>
            </a:xfrm>
          </p:grpSpPr>
          <p:pic>
            <p:nvPicPr>
              <p:cNvPr id="1518" name="Mini-iPad-B&amp;W-Mockup.png" descr=""/>
              <p:cNvPicPr/>
              <p:nvPr/>
            </p:nvPicPr>
            <p:blipFill>
              <a:blip r:embed="rId1"/>
              <a:stretch/>
            </p:blipFill>
            <p:spPr>
              <a:xfrm>
                <a:off x="7821720" y="1779480"/>
                <a:ext cx="2260440" cy="3348000"/>
              </a:xfrm>
              <a:prstGeom prst="rect">
                <a:avLst/>
              </a:prstGeom>
              <a:ln w="0">
                <a:noFill/>
              </a:ln>
            </p:spPr>
          </p:pic>
          <p:sp>
            <p:nvSpPr>
              <p:cNvPr id="1519" name="Shape 1101"/>
              <p:cNvSpPr/>
              <p:nvPr/>
            </p:nvSpPr>
            <p:spPr>
              <a:xfrm>
                <a:off x="7945920" y="2106360"/>
                <a:ext cx="2016360" cy="2676240"/>
              </a:xfrm>
              <a:prstGeom prst="rect">
                <a:avLst/>
              </a:prstGeom>
              <a:solidFill>
                <a:srgbClr val="606060"/>
              </a:solidFill>
              <a:ln w="25560">
                <a:solidFill>
                  <a:srgbClr val="000000">
                    <a:alpha val="0"/>
                  </a:srgbClr>
                </a:solidFill>
                <a:miter/>
              </a:ln>
            </p:spPr>
            <p:style>
              <a:lnRef idx="0"/>
              <a:fillRef idx="0"/>
              <a:effectRef idx="0"/>
              <a:fontRef idx="minor"/>
            </p:style>
            <p:txBody>
              <a:bodyPr lIns="0" rIns="0" tIns="0" bIns="0" anchor="ctr">
                <a:noAutofit/>
              </a:bodyPr>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800" spc="-1" strike="noStrike">
                  <a:solidFill>
                    <a:srgbClr val="000000"/>
                  </a:solidFill>
                  <a:latin typeface="Calibri"/>
                </a:endParaRPr>
              </a:p>
            </p:txBody>
          </p:sp>
        </p:grpSp>
        <p:pic>
          <p:nvPicPr>
            <p:cNvPr id="1520" name="placeholder.png" descr=""/>
            <p:cNvPicPr/>
            <p:nvPr/>
          </p:nvPicPr>
          <p:blipFill>
            <a:blip r:embed="rId2"/>
            <a:srcRect l="29022" t="0" r="29022" b="0"/>
            <a:stretch/>
          </p:blipFill>
          <p:spPr>
            <a:xfrm>
              <a:off x="7937280" y="2111760"/>
              <a:ext cx="2027520" cy="2716920"/>
            </a:xfrm>
            <a:prstGeom prst="rect">
              <a:avLst/>
            </a:prstGeom>
            <a:ln w="0">
              <a:noFill/>
            </a:ln>
          </p:spPr>
        </p:pic>
      </p:grpSp>
      <p:grpSp>
        <p:nvGrpSpPr>
          <p:cNvPr id="1521" name="Group 1104"/>
          <p:cNvGrpSpPr/>
          <p:nvPr/>
        </p:nvGrpSpPr>
        <p:grpSpPr>
          <a:xfrm>
            <a:off x="4965840" y="1779480"/>
            <a:ext cx="2259000" cy="3348000"/>
            <a:chOff x="4965840" y="1779480"/>
            <a:chExt cx="2259000" cy="3348000"/>
          </a:xfrm>
        </p:grpSpPr>
        <p:grpSp>
          <p:nvGrpSpPr>
            <p:cNvPr id="1522" name="Group 1102"/>
            <p:cNvGrpSpPr/>
            <p:nvPr/>
          </p:nvGrpSpPr>
          <p:grpSpPr>
            <a:xfrm>
              <a:off x="4965840" y="1779480"/>
              <a:ext cx="2259000" cy="3348000"/>
              <a:chOff x="4965840" y="1779480"/>
              <a:chExt cx="2259000" cy="3348000"/>
            </a:xfrm>
          </p:grpSpPr>
          <p:pic>
            <p:nvPicPr>
              <p:cNvPr id="1523" name="Mini-iPad-B&amp;W-Mockup.png" descr=""/>
              <p:cNvPicPr/>
              <p:nvPr/>
            </p:nvPicPr>
            <p:blipFill>
              <a:blip r:embed="rId3"/>
              <a:stretch/>
            </p:blipFill>
            <p:spPr>
              <a:xfrm>
                <a:off x="4965840" y="1779480"/>
                <a:ext cx="2259000" cy="3348000"/>
              </a:xfrm>
              <a:prstGeom prst="rect">
                <a:avLst/>
              </a:prstGeom>
              <a:ln w="0">
                <a:noFill/>
              </a:ln>
            </p:spPr>
          </p:pic>
          <p:sp>
            <p:nvSpPr>
              <p:cNvPr id="1524" name="Shape 1101"/>
              <p:cNvSpPr/>
              <p:nvPr/>
            </p:nvSpPr>
            <p:spPr>
              <a:xfrm>
                <a:off x="5090040" y="2106360"/>
                <a:ext cx="2014920" cy="2676240"/>
              </a:xfrm>
              <a:prstGeom prst="rect">
                <a:avLst/>
              </a:prstGeom>
              <a:solidFill>
                <a:srgbClr val="606060"/>
              </a:solidFill>
              <a:ln w="25560">
                <a:solidFill>
                  <a:srgbClr val="000000">
                    <a:alpha val="0"/>
                  </a:srgbClr>
                </a:solidFill>
                <a:miter/>
              </a:ln>
            </p:spPr>
            <p:style>
              <a:lnRef idx="0"/>
              <a:fillRef idx="0"/>
              <a:effectRef idx="0"/>
              <a:fontRef idx="minor"/>
            </p:style>
            <p:txBody>
              <a:bodyPr lIns="0" rIns="0" tIns="0" bIns="0" anchor="ctr">
                <a:noAutofit/>
              </a:bodyPr>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800" spc="-1" strike="noStrike">
                  <a:solidFill>
                    <a:srgbClr val="000000"/>
                  </a:solidFill>
                  <a:latin typeface="Calibri"/>
                </a:endParaRPr>
              </a:p>
            </p:txBody>
          </p:sp>
        </p:grpSp>
        <p:pic>
          <p:nvPicPr>
            <p:cNvPr id="1525" name="placeholder.png" descr=""/>
            <p:cNvPicPr/>
            <p:nvPr/>
          </p:nvPicPr>
          <p:blipFill>
            <a:blip r:embed="rId4"/>
            <a:srcRect l="29022" t="0" r="29022" b="0"/>
            <a:stretch/>
          </p:blipFill>
          <p:spPr>
            <a:xfrm>
              <a:off x="5081400" y="2111760"/>
              <a:ext cx="2026080" cy="2716920"/>
            </a:xfrm>
            <a:prstGeom prst="rect">
              <a:avLst/>
            </a:prstGeom>
            <a:ln w="0">
              <a:noFill/>
            </a:ln>
          </p:spPr>
        </p:pic>
      </p:grpSp>
      <p:grpSp>
        <p:nvGrpSpPr>
          <p:cNvPr id="1526" name="Group 1104"/>
          <p:cNvGrpSpPr/>
          <p:nvPr/>
        </p:nvGrpSpPr>
        <p:grpSpPr>
          <a:xfrm>
            <a:off x="2041560" y="1779480"/>
            <a:ext cx="2260440" cy="3348000"/>
            <a:chOff x="2041560" y="1779480"/>
            <a:chExt cx="2260440" cy="3348000"/>
          </a:xfrm>
        </p:grpSpPr>
        <p:grpSp>
          <p:nvGrpSpPr>
            <p:cNvPr id="1527" name="Group 1102"/>
            <p:cNvGrpSpPr/>
            <p:nvPr/>
          </p:nvGrpSpPr>
          <p:grpSpPr>
            <a:xfrm>
              <a:off x="2041560" y="1779480"/>
              <a:ext cx="2260440" cy="3348000"/>
              <a:chOff x="2041560" y="1779480"/>
              <a:chExt cx="2260440" cy="3348000"/>
            </a:xfrm>
          </p:grpSpPr>
          <p:pic>
            <p:nvPicPr>
              <p:cNvPr id="1528" name="Mini-iPad-B&amp;W-Mockup.png" descr=""/>
              <p:cNvPicPr/>
              <p:nvPr/>
            </p:nvPicPr>
            <p:blipFill>
              <a:blip r:embed="rId5"/>
              <a:stretch/>
            </p:blipFill>
            <p:spPr>
              <a:xfrm>
                <a:off x="2041560" y="1779480"/>
                <a:ext cx="2260440" cy="3348000"/>
              </a:xfrm>
              <a:prstGeom prst="rect">
                <a:avLst/>
              </a:prstGeom>
              <a:ln w="0">
                <a:noFill/>
              </a:ln>
            </p:spPr>
          </p:pic>
          <p:sp>
            <p:nvSpPr>
              <p:cNvPr id="1529" name="Shape 1101"/>
              <p:cNvSpPr/>
              <p:nvPr/>
            </p:nvSpPr>
            <p:spPr>
              <a:xfrm>
                <a:off x="2165760" y="2106360"/>
                <a:ext cx="2016360" cy="2676240"/>
              </a:xfrm>
              <a:prstGeom prst="rect">
                <a:avLst/>
              </a:prstGeom>
              <a:solidFill>
                <a:srgbClr val="606060"/>
              </a:solidFill>
              <a:ln w="25560">
                <a:solidFill>
                  <a:srgbClr val="000000">
                    <a:alpha val="0"/>
                  </a:srgbClr>
                </a:solidFill>
                <a:miter/>
              </a:ln>
            </p:spPr>
            <p:style>
              <a:lnRef idx="0"/>
              <a:fillRef idx="0"/>
              <a:effectRef idx="0"/>
              <a:fontRef idx="minor"/>
            </p:style>
            <p:txBody>
              <a:bodyPr lIns="0" rIns="0" tIns="0" bIns="0" anchor="ctr">
                <a:noAutofit/>
              </a:bodyPr>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800" spc="-1" strike="noStrike">
                  <a:solidFill>
                    <a:srgbClr val="000000"/>
                  </a:solidFill>
                  <a:latin typeface="Calibri"/>
                </a:endParaRPr>
              </a:p>
            </p:txBody>
          </p:sp>
        </p:grpSp>
        <p:pic>
          <p:nvPicPr>
            <p:cNvPr id="1530" name="placeholder.png" descr=""/>
            <p:cNvPicPr/>
            <p:nvPr/>
          </p:nvPicPr>
          <p:blipFill>
            <a:blip r:embed="rId6"/>
            <a:srcRect l="29022" t="0" r="29022" b="0"/>
            <a:stretch/>
          </p:blipFill>
          <p:spPr>
            <a:xfrm>
              <a:off x="2157120" y="2111760"/>
              <a:ext cx="2027520" cy="2716920"/>
            </a:xfrm>
            <a:prstGeom prst="rect">
              <a:avLst/>
            </a:prstGeom>
            <a:ln w="0">
              <a:noFill/>
            </a:ln>
          </p:spPr>
        </p:pic>
      </p:grpSp>
      <p:sp>
        <p:nvSpPr>
          <p:cNvPr id="1531" name="Subtitle 2"/>
          <p:cNvSpPr/>
          <p:nvPr/>
        </p:nvSpPr>
        <p:spPr>
          <a:xfrm>
            <a:off x="565200" y="858960"/>
            <a:ext cx="9516960" cy="623160"/>
          </a:xfrm>
          <a:prstGeom prst="rect">
            <a:avLst/>
          </a:prstGeom>
          <a:noFill/>
          <a:ln w="0">
            <a:noFill/>
          </a:ln>
        </p:spPr>
        <p:style>
          <a:lnRef idx="0"/>
          <a:fillRef idx="0"/>
          <a:effectRef idx="0"/>
          <a:fontRef idx="minor"/>
        </p:style>
        <p:txBody>
          <a:bodyPr lIns="108720" rIns="108720" tIns="54360" bIns="54360" anchor="t">
            <a:spAutoFit/>
          </a:bodyPr>
          <a:p>
            <a:pPr algn="just">
              <a:lnSpc>
                <a:spcPts val="2024"/>
              </a:lnSpc>
              <a:spcBef>
                <a:spcPts val="24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000" spc="-1" strike="noStrike">
                <a:solidFill>
                  <a:srgbClr val="ffffff"/>
                </a:solidFill>
                <a:latin typeface="Montserrat Light"/>
                <a:ea typeface="Lato Regular"/>
              </a:rPr>
              <a:t>Frequently, your initial font choice is taken out of your awesome hands also we are companies often specify a typeface, or even a set of fonts,  part of their brand guides However, if you a great Frequently, your initial font choice is taken out of your hands</a:t>
            </a:r>
            <a:endParaRPr b="0" lang="en-US" sz="1000" spc="-1" strike="noStrike">
              <a:solidFill>
                <a:srgbClr val="000000"/>
              </a:solidFill>
              <a:latin typeface="Calibri"/>
            </a:endParaRPr>
          </a:p>
        </p:txBody>
      </p:sp>
      <p:sp>
        <p:nvSpPr>
          <p:cNvPr id="1532" name="TextBox 47"/>
          <p:cNvSpPr/>
          <p:nvPr/>
        </p:nvSpPr>
        <p:spPr>
          <a:xfrm>
            <a:off x="969120" y="485640"/>
            <a:ext cx="262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Lato"/>
              </a:rPr>
              <a:t>WRITE TEXT HERE</a:t>
            </a:r>
            <a:endParaRPr b="0" lang="en-US" sz="2400" spc="-1" strike="noStrike">
              <a:solidFill>
                <a:srgbClr val="000000"/>
              </a:solidFill>
              <a:latin typeface="Calibri"/>
            </a:endParaRPr>
          </a:p>
        </p:txBody>
      </p:sp>
      <p:sp>
        <p:nvSpPr>
          <p:cNvPr id="1533" name="Subtitle 2"/>
          <p:cNvSpPr/>
          <p:nvPr/>
        </p:nvSpPr>
        <p:spPr>
          <a:xfrm>
            <a:off x="1708200" y="5454720"/>
            <a:ext cx="2847960" cy="880200"/>
          </a:xfrm>
          <a:prstGeom prst="rect">
            <a:avLst/>
          </a:prstGeom>
          <a:noFill/>
          <a:ln w="0">
            <a:noFill/>
          </a:ln>
        </p:spPr>
        <p:style>
          <a:lnRef idx="0"/>
          <a:fillRef idx="0"/>
          <a:effectRef idx="0"/>
          <a:fontRef idx="minor"/>
        </p:style>
        <p:txBody>
          <a:bodyPr lIns="108720" rIns="108720" tIns="54360" bIns="54360" anchor="t">
            <a:spAutoFit/>
          </a:bodyPr>
          <a:p>
            <a:pPr algn="ctr">
              <a:lnSpc>
                <a:spcPts val="2024"/>
              </a:lnSpc>
              <a:spcBef>
                <a:spcPts val="24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000" spc="-1" strike="noStrike">
                <a:solidFill>
                  <a:srgbClr val="ffffff"/>
                </a:solidFill>
                <a:latin typeface="Montserrat Light"/>
                <a:ea typeface="Lato Regular"/>
              </a:rPr>
              <a:t>Frequently, your initial font choice is taken out of your awesome hands also we are companies often specify.</a:t>
            </a:r>
            <a:endParaRPr b="0" lang="en-US" sz="1000" spc="-1" strike="noStrike">
              <a:solidFill>
                <a:srgbClr val="000000"/>
              </a:solidFill>
              <a:latin typeface="Calibri"/>
            </a:endParaRPr>
          </a:p>
        </p:txBody>
      </p:sp>
      <p:sp>
        <p:nvSpPr>
          <p:cNvPr id="1534" name="Subtitle 2"/>
          <p:cNvSpPr/>
          <p:nvPr/>
        </p:nvSpPr>
        <p:spPr>
          <a:xfrm>
            <a:off x="4672080" y="5454720"/>
            <a:ext cx="2847960" cy="880200"/>
          </a:xfrm>
          <a:prstGeom prst="rect">
            <a:avLst/>
          </a:prstGeom>
          <a:noFill/>
          <a:ln w="0">
            <a:noFill/>
          </a:ln>
        </p:spPr>
        <p:style>
          <a:lnRef idx="0"/>
          <a:fillRef idx="0"/>
          <a:effectRef idx="0"/>
          <a:fontRef idx="minor"/>
        </p:style>
        <p:txBody>
          <a:bodyPr lIns="108720" rIns="108720" tIns="54360" bIns="54360" anchor="t">
            <a:spAutoFit/>
          </a:bodyPr>
          <a:p>
            <a:pPr algn="ctr">
              <a:lnSpc>
                <a:spcPts val="2024"/>
              </a:lnSpc>
              <a:spcBef>
                <a:spcPts val="24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000" spc="-1" strike="noStrike">
                <a:solidFill>
                  <a:srgbClr val="ffffff"/>
                </a:solidFill>
                <a:latin typeface="Montserrat Light"/>
                <a:ea typeface="Lato Regular"/>
              </a:rPr>
              <a:t>Frequently, your initial font choice is taken out of your awesome hands also we are companies often specify.</a:t>
            </a:r>
            <a:endParaRPr b="0" lang="en-US" sz="1000" spc="-1" strike="noStrike">
              <a:solidFill>
                <a:srgbClr val="000000"/>
              </a:solidFill>
              <a:latin typeface="Calibri"/>
            </a:endParaRPr>
          </a:p>
        </p:txBody>
      </p:sp>
      <p:sp>
        <p:nvSpPr>
          <p:cNvPr id="1535" name="Subtitle 2"/>
          <p:cNvSpPr/>
          <p:nvPr/>
        </p:nvSpPr>
        <p:spPr>
          <a:xfrm>
            <a:off x="7635960" y="5454720"/>
            <a:ext cx="2847960" cy="880200"/>
          </a:xfrm>
          <a:prstGeom prst="rect">
            <a:avLst/>
          </a:prstGeom>
          <a:noFill/>
          <a:ln w="0">
            <a:noFill/>
          </a:ln>
        </p:spPr>
        <p:style>
          <a:lnRef idx="0"/>
          <a:fillRef idx="0"/>
          <a:effectRef idx="0"/>
          <a:fontRef idx="minor"/>
        </p:style>
        <p:txBody>
          <a:bodyPr lIns="108720" rIns="108720" tIns="54360" bIns="54360" anchor="t">
            <a:spAutoFit/>
          </a:bodyPr>
          <a:p>
            <a:pPr algn="ctr">
              <a:lnSpc>
                <a:spcPts val="2024"/>
              </a:lnSpc>
              <a:spcBef>
                <a:spcPts val="24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000" spc="-1" strike="noStrike">
                <a:solidFill>
                  <a:srgbClr val="ffffff"/>
                </a:solidFill>
                <a:latin typeface="Montserrat Light"/>
                <a:ea typeface="Lato Regular"/>
              </a:rPr>
              <a:t>Frequently, your initial font choice is taken out of your awesome hands also we are companies often specify.</a:t>
            </a:r>
            <a:endParaRPr b="0" lang="en-US" sz="1000" spc="-1" strike="noStrike">
              <a:solidFill>
                <a:srgbClr val="000000"/>
              </a:solidFill>
              <a:latin typeface="Calibri"/>
            </a:endParaRPr>
          </a:p>
        </p:txBody>
      </p:sp>
      <p:pic>
        <p:nvPicPr>
          <p:cNvPr id="1536" name="" descr=""/>
          <p:cNvPicPr/>
          <p:nvPr/>
        </p:nvPicPr>
        <p:blipFill>
          <a:blip r:embed="rId7"/>
          <a:stretch/>
        </p:blipFill>
        <p:spPr>
          <a:xfrm>
            <a:off x="2157480" y="2112840"/>
            <a:ext cx="2023920" cy="2719440"/>
          </a:xfrm>
          <a:prstGeom prst="rect">
            <a:avLst/>
          </a:prstGeom>
          <a:ln w="0">
            <a:noFill/>
          </a:ln>
        </p:spPr>
      </p:pic>
      <p:pic>
        <p:nvPicPr>
          <p:cNvPr id="1537" name="" descr=""/>
          <p:cNvPicPr/>
          <p:nvPr/>
        </p:nvPicPr>
        <p:blipFill>
          <a:blip r:embed="rId8"/>
          <a:stretch/>
        </p:blipFill>
        <p:spPr>
          <a:xfrm>
            <a:off x="5084640" y="2116080"/>
            <a:ext cx="2021040" cy="2705040"/>
          </a:xfrm>
          <a:prstGeom prst="rect">
            <a:avLst/>
          </a:prstGeom>
          <a:ln w="0">
            <a:noFill/>
          </a:ln>
        </p:spPr>
      </p:pic>
      <p:pic>
        <p:nvPicPr>
          <p:cNvPr id="1538" name="" descr=""/>
          <p:cNvPicPr/>
          <p:nvPr/>
        </p:nvPicPr>
        <p:blipFill>
          <a:blip r:embed="rId9"/>
          <a:stretch/>
        </p:blipFill>
        <p:spPr>
          <a:xfrm>
            <a:off x="7940160" y="2116080"/>
            <a:ext cx="2024280" cy="2705040"/>
          </a:xfrm>
          <a:prstGeom prst="rect">
            <a:avLst/>
          </a:prstGeom>
          <a:ln w="0">
            <a:noFill/>
          </a:ln>
        </p:spPr>
      </p:pic>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526"/>
                                        </p:tgtEl>
                                        <p:attrNameLst>
                                          <p:attrName>style.visibility</p:attrName>
                                        </p:attrNameLst>
                                      </p:cBhvr>
                                      <p:to>
                                        <p:strVal val="visible"/>
                                      </p:to>
                                    </p:set>
                                    <p:anim calcmode="lin" valueType="num">
                                      <p:cBhvr additive="base">
                                        <p:cTn id="7" dur="500" fill="hold"/>
                                        <p:tgtEl>
                                          <p:spTgt spid="1526"/>
                                        </p:tgtEl>
                                        <p:attrNameLst>
                                          <p:attrName>ppt_x</p:attrName>
                                        </p:attrNameLst>
                                      </p:cBhvr>
                                      <p:tavLst>
                                        <p:tav tm="0">
                                          <p:val>
                                            <p:strVal val="#ppt_x"/>
                                          </p:val>
                                        </p:tav>
                                        <p:tav tm="100000">
                                          <p:val>
                                            <p:strVal val="#ppt_x"/>
                                          </p:val>
                                        </p:tav>
                                      </p:tavLst>
                                    </p:anim>
                                    <p:anim calcmode="lin" valueType="num">
                                      <p:cBhvr additive="base">
                                        <p:cTn id="8" dur="500" fill="hold"/>
                                        <p:tgtEl>
                                          <p:spTgt spid="152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21"/>
                                        </p:tgtEl>
                                        <p:attrNameLst>
                                          <p:attrName>style.visibility</p:attrName>
                                        </p:attrNameLst>
                                      </p:cBhvr>
                                      <p:to>
                                        <p:strVal val="visible"/>
                                      </p:to>
                                    </p:set>
                                    <p:anim calcmode="lin" valueType="num">
                                      <p:cBhvr additive="base">
                                        <p:cTn id="11" dur="500" fill="hold"/>
                                        <p:tgtEl>
                                          <p:spTgt spid="1521"/>
                                        </p:tgtEl>
                                        <p:attrNameLst>
                                          <p:attrName>ppt_x</p:attrName>
                                        </p:attrNameLst>
                                      </p:cBhvr>
                                      <p:tavLst>
                                        <p:tav tm="0">
                                          <p:val>
                                            <p:strVal val="#ppt_x"/>
                                          </p:val>
                                        </p:tav>
                                        <p:tav tm="100000">
                                          <p:val>
                                            <p:strVal val="#ppt_x"/>
                                          </p:val>
                                        </p:tav>
                                      </p:tavLst>
                                    </p:anim>
                                    <p:anim calcmode="lin" valueType="num">
                                      <p:cBhvr additive="base">
                                        <p:cTn id="12" dur="500" fill="hold"/>
                                        <p:tgtEl>
                                          <p:spTgt spid="1521"/>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516"/>
                                        </p:tgtEl>
                                        <p:attrNameLst>
                                          <p:attrName>style.visibility</p:attrName>
                                        </p:attrNameLst>
                                      </p:cBhvr>
                                      <p:to>
                                        <p:strVal val="visible"/>
                                      </p:to>
                                    </p:set>
                                    <p:anim calcmode="lin" valueType="num">
                                      <p:cBhvr additive="base">
                                        <p:cTn id="15" dur="500" fill="hold"/>
                                        <p:tgtEl>
                                          <p:spTgt spid="1516"/>
                                        </p:tgtEl>
                                        <p:attrNameLst>
                                          <p:attrName>ppt_x</p:attrName>
                                        </p:attrNameLst>
                                      </p:cBhvr>
                                      <p:tavLst>
                                        <p:tav tm="0">
                                          <p:val>
                                            <p:strVal val="#ppt_x"/>
                                          </p:val>
                                        </p:tav>
                                        <p:tav tm="100000">
                                          <p:val>
                                            <p:strVal val="#ppt_x"/>
                                          </p:val>
                                        </p:tav>
                                      </p:tavLst>
                                    </p:anim>
                                    <p:anim calcmode="lin" valueType="num">
                                      <p:cBhvr additive="base">
                                        <p:cTn id="16" dur="500" fill="hold"/>
                                        <p:tgtEl>
                                          <p:spTgt spid="1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4"/>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40" name="Chart 1"/>
          <p:cNvGraphicFramePr/>
          <p:nvPr/>
        </p:nvGraphicFramePr>
        <p:xfrm>
          <a:off x="765000" y="1973160"/>
          <a:ext cx="10388880" cy="3897360"/>
        </p:xfrm>
        <a:graphic>
          <a:graphicData uri="http://schemas.openxmlformats.org/presentationml/2006/ole">
            <p:oleObj progId="Excel.Sheet.12" r:id="rId1" spid="">
              <p:embed/>
              <p:pic>
                <p:nvPicPr>
                  <p:cNvPr id="1541" name="Chart 1" descr=""/>
                  <p:cNvPicPr/>
                  <p:nvPr/>
                </p:nvPicPr>
                <p:blipFill>
                  <a:blip r:embed="rId2"/>
                  <a:stretch/>
                </p:blipFill>
                <p:spPr>
                  <a:xfrm>
                    <a:off x="765000" y="1973160"/>
                    <a:ext cx="10388880" cy="3897360"/>
                  </a:xfrm>
                  <a:prstGeom prst="rect">
                    <a:avLst/>
                  </a:prstGeom>
                  <a:ln w="0">
                    <a:noFill/>
                  </a:ln>
                </p:spPr>
              </p:pic>
            </p:oleObj>
          </a:graphicData>
        </a:graphic>
      </p:graphicFrame>
      <p:sp>
        <p:nvSpPr>
          <p:cNvPr id="1542" name="Text Box 7"/>
          <p:cNvSpPr/>
          <p:nvPr/>
        </p:nvSpPr>
        <p:spPr>
          <a:xfrm>
            <a:off x="733320" y="1455120"/>
            <a:ext cx="10725120" cy="213840"/>
          </a:xfrm>
          <a:prstGeom prst="rect">
            <a:avLst/>
          </a:prstGeom>
          <a:noFill/>
          <a:ln w="0">
            <a:noFill/>
          </a:ln>
        </p:spPr>
        <p:style>
          <a:lnRef idx="0"/>
          <a:fillRef idx="0"/>
          <a:effectRef idx="0"/>
          <a:fontRef idx="minor"/>
        </p:style>
        <p:txBody>
          <a:bodyPr lIns="60840" rIns="60840" tIns="30600" bIns="30600" anchor="ctr">
            <a:spAutoFit/>
          </a:bodyPr>
          <a:p>
            <a:pPr algn="ctr">
              <a:lnSpc>
                <a:spcPct val="100000"/>
              </a:lnSpc>
              <a:tabLst>
                <a:tab algn="l" pos="0"/>
                <a:tab algn="l" pos="1449360"/>
                <a:tab algn="l" pos="2898720"/>
                <a:tab algn="l" pos="4348080"/>
                <a:tab algn="l" pos="5797440"/>
                <a:tab algn="l" pos="7246800"/>
                <a:tab algn="l" pos="8696160"/>
                <a:tab algn="l" pos="10145880"/>
              </a:tabLst>
            </a:pPr>
            <a:r>
              <a:rPr b="0" i="1" lang="en-US" sz="1000" spc="-1" strike="noStrike">
                <a:solidFill>
                  <a:srgbClr val="ffffff"/>
                </a:solidFill>
                <a:latin typeface="Montserrat"/>
                <a:ea typeface="Lato"/>
              </a:rPr>
              <a:t>Nullam eu tempor purus. Nunc a leo magna, sit amet consequat risus. Etiam faucibus tortor.</a:t>
            </a:r>
            <a:endParaRPr b="0" lang="en-US" sz="1000" spc="-1" strike="noStrike">
              <a:solidFill>
                <a:srgbClr val="000000"/>
              </a:solidFill>
              <a:latin typeface="Calibri"/>
            </a:endParaRPr>
          </a:p>
        </p:txBody>
      </p:sp>
      <p:sp>
        <p:nvSpPr>
          <p:cNvPr id="1543" name="Text Box 7"/>
          <p:cNvSpPr/>
          <p:nvPr/>
        </p:nvSpPr>
        <p:spPr>
          <a:xfrm>
            <a:off x="4424760" y="824040"/>
            <a:ext cx="3342600" cy="610200"/>
          </a:xfrm>
          <a:prstGeom prst="rect">
            <a:avLst/>
          </a:prstGeom>
          <a:noFill/>
          <a:ln w="0">
            <a:noFill/>
          </a:ln>
        </p:spPr>
        <p:style>
          <a:lnRef idx="0"/>
          <a:fillRef idx="0"/>
          <a:effectRef idx="0"/>
          <a:fontRef idx="minor"/>
        </p:style>
        <p:txBody>
          <a:bodyPr wrap="none" lIns="60840" rIns="60840" tIns="30600" bIns="30600" anchor="t">
            <a:spAutoFit/>
          </a:bodyPr>
          <a:p>
            <a:pPr algn="ctr">
              <a:lnSpc>
                <a:spcPct val="100000"/>
              </a:lnSpc>
              <a:tabLst>
                <a:tab algn="l" pos="0"/>
                <a:tab algn="l" pos="1449360"/>
                <a:tab algn="l" pos="2898720"/>
                <a:tab algn="l" pos="4348080"/>
                <a:tab algn="l" pos="5797440"/>
                <a:tab algn="l" pos="7246800"/>
                <a:tab algn="l" pos="8696160"/>
                <a:tab algn="l" pos="10145880"/>
              </a:tabLst>
            </a:pPr>
            <a:r>
              <a:rPr b="1" lang="en-CA" sz="3600" spc="-1" strike="noStrike">
                <a:solidFill>
                  <a:srgbClr val="ffffff"/>
                </a:solidFill>
                <a:latin typeface="Arial Black"/>
                <a:ea typeface="Open Sans"/>
              </a:rPr>
              <a:t>INFOGRAPHIC</a:t>
            </a:r>
            <a:endParaRPr b="0" lang="en-US" sz="3600" spc="-1" strike="noStrike">
              <a:solidFill>
                <a:srgbClr val="000000"/>
              </a:solidFill>
              <a:latin typeface="Calibri"/>
            </a:endParaRPr>
          </a:p>
        </p:txBody>
      </p:sp>
    </p:spTree>
  </p:cSld>
  <p:transition spd="slow">
    <p:push dir="u"/>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resetSubtype="16">
                                  <p:stCondLst>
                                    <p:cond delay="0"/>
                                  </p:stCondLst>
                                  <p:childTnLst>
                                    <p:set>
                                      <p:cBhvr>
                                        <p:cTn id="22" dur="1" fill="hold">
                                          <p:stCondLst>
                                            <p:cond delay="0"/>
                                          </p:stCondLst>
                                        </p:cTn>
                                        <p:tgtEl>
                                          <p:spTgt spid="1541"/>
                                        </p:tgtEl>
                                        <p:attrNameLst>
                                          <p:attrName>style.visibility</p:attrName>
                                        </p:attrNameLst>
                                      </p:cBhvr>
                                      <p:to>
                                        <p:strVal val="visible"/>
                                      </p:to>
                                    </p:set>
                                    <p:anim calcmode="lin" valueType="num">
                                      <p:cBhvr additive="repl">
                                        <p:cTn id="23" dur="500" fill="hold"/>
                                        <p:tgtEl>
                                          <p:spTgt spid="1541"/>
                                        </p:tgtEl>
                                        <p:attrNameLst>
                                          <p:attrName>ppt_w</p:attrName>
                                        </p:attrNameLst>
                                      </p:cBhvr>
                                      <p:tavLst>
                                        <p:tav tm="0">
                                          <p:val>
                                            <p:fltVal val="0"/>
                                          </p:val>
                                        </p:tav>
                                        <p:tav tm="100000">
                                          <p:val>
                                            <p:strVal val="#ppt_w"/>
                                          </p:val>
                                        </p:tav>
                                      </p:tavLst>
                                    </p:anim>
                                    <p:anim calcmode="lin" valueType="num">
                                      <p:cBhvr additive="repl">
                                        <p:cTn id="24" dur="500" fill="hold"/>
                                        <p:tgtEl>
                                          <p:spTgt spid="1541"/>
                                        </p:tgtEl>
                                        <p:attrNameLst>
                                          <p:attrName>ppt_h</p:attrName>
                                        </p:attrNameLst>
                                      </p:cBhvr>
                                      <p:tavLst>
                                        <p:tav tm="0">
                                          <p:val>
                                            <p:fltVal val="0"/>
                                          </p:val>
                                        </p:tav>
                                        <p:tav tm="100000">
                                          <p:val>
                                            <p:strVal val="#ppt_h"/>
                                          </p:val>
                                        </p:tav>
                                      </p:tavLst>
                                    </p:anim>
                                    <p:animEffect filter="fade" transition="in">
                                      <p:cBhvr additive="repl">
                                        <p:cTn id="25" dur="500"/>
                                        <p:tgtEl>
                                          <p:spTgt spid="1541"/>
                                        </p:tgtEl>
                                      </p:cBhvr>
                                    </p:animEffect>
                                  </p:childTnLst>
                                </p:cTn>
                              </p:par>
                              <p:par>
                                <p:cTn id="26" nodeType="withEffect" fill="hold" presetClass="entr" presetID="53" presetSubtype="16">
                                  <p:stCondLst>
                                    <p:cond delay="0"/>
                                  </p:stCondLst>
                                  <p:childTnLst>
                                    <p:set>
                                      <p:cBhvr>
                                        <p:cTn id="27" dur="1" fill="hold">
                                          <p:stCondLst>
                                            <p:cond delay="0"/>
                                          </p:stCondLst>
                                        </p:cTn>
                                        <p:tgtEl>
                                          <p:spTgt spid="1542"/>
                                        </p:tgtEl>
                                        <p:attrNameLst>
                                          <p:attrName>style.visibility</p:attrName>
                                        </p:attrNameLst>
                                      </p:cBhvr>
                                      <p:to>
                                        <p:strVal val="visible"/>
                                      </p:to>
                                    </p:set>
                                    <p:anim calcmode="lin" valueType="num">
                                      <p:cBhvr additive="repl">
                                        <p:cTn id="28" dur="500" fill="hold"/>
                                        <p:tgtEl>
                                          <p:spTgt spid="1542"/>
                                        </p:tgtEl>
                                        <p:attrNameLst>
                                          <p:attrName>ppt_w</p:attrName>
                                        </p:attrNameLst>
                                      </p:cBhvr>
                                      <p:tavLst>
                                        <p:tav tm="0">
                                          <p:val>
                                            <p:fltVal val="0"/>
                                          </p:val>
                                        </p:tav>
                                        <p:tav tm="100000">
                                          <p:val>
                                            <p:strVal val="#ppt_w"/>
                                          </p:val>
                                        </p:tav>
                                      </p:tavLst>
                                    </p:anim>
                                    <p:anim calcmode="lin" valueType="num">
                                      <p:cBhvr additive="repl">
                                        <p:cTn id="29" dur="500" fill="hold"/>
                                        <p:tgtEl>
                                          <p:spTgt spid="1542"/>
                                        </p:tgtEl>
                                        <p:attrNameLst>
                                          <p:attrName>ppt_h</p:attrName>
                                        </p:attrNameLst>
                                      </p:cBhvr>
                                      <p:tavLst>
                                        <p:tav tm="0">
                                          <p:val>
                                            <p:fltVal val="0"/>
                                          </p:val>
                                        </p:tav>
                                        <p:tav tm="100000">
                                          <p:val>
                                            <p:strVal val="#ppt_h"/>
                                          </p:val>
                                        </p:tav>
                                      </p:tavLst>
                                    </p:anim>
                                    <p:animEffect filter="fade" transition="in">
                                      <p:cBhvr additive="repl">
                                        <p:cTn id="30" dur="500"/>
                                        <p:tgtEl>
                                          <p:spTgt spid="1542"/>
                                        </p:tgtEl>
                                      </p:cBhvr>
                                    </p:animEffect>
                                  </p:childTnLst>
                                </p:cTn>
                              </p:par>
                              <p:par>
                                <p:cTn id="31" nodeType="withEffect" fill="hold" presetClass="entr" presetID="53" presetSubtype="16">
                                  <p:stCondLst>
                                    <p:cond delay="0"/>
                                  </p:stCondLst>
                                  <p:childTnLst>
                                    <p:set>
                                      <p:cBhvr>
                                        <p:cTn id="32" dur="1" fill="hold">
                                          <p:stCondLst>
                                            <p:cond delay="0"/>
                                          </p:stCondLst>
                                        </p:cTn>
                                        <p:tgtEl>
                                          <p:spTgt spid="1543"/>
                                        </p:tgtEl>
                                        <p:attrNameLst>
                                          <p:attrName>style.visibility</p:attrName>
                                        </p:attrNameLst>
                                      </p:cBhvr>
                                      <p:to>
                                        <p:strVal val="visible"/>
                                      </p:to>
                                    </p:set>
                                    <p:anim calcmode="lin" valueType="num">
                                      <p:cBhvr additive="repl">
                                        <p:cTn id="33" dur="500" fill="hold"/>
                                        <p:tgtEl>
                                          <p:spTgt spid="1543"/>
                                        </p:tgtEl>
                                        <p:attrNameLst>
                                          <p:attrName>ppt_w</p:attrName>
                                        </p:attrNameLst>
                                      </p:cBhvr>
                                      <p:tavLst>
                                        <p:tav tm="0">
                                          <p:val>
                                            <p:fltVal val="0"/>
                                          </p:val>
                                        </p:tav>
                                        <p:tav tm="100000">
                                          <p:val>
                                            <p:strVal val="#ppt_w"/>
                                          </p:val>
                                        </p:tav>
                                      </p:tavLst>
                                    </p:anim>
                                    <p:anim calcmode="lin" valueType="num">
                                      <p:cBhvr additive="repl">
                                        <p:cTn id="34" dur="500" fill="hold"/>
                                        <p:tgtEl>
                                          <p:spTgt spid="1543"/>
                                        </p:tgtEl>
                                        <p:attrNameLst>
                                          <p:attrName>ppt_h</p:attrName>
                                        </p:attrNameLst>
                                      </p:cBhvr>
                                      <p:tavLst>
                                        <p:tav tm="0">
                                          <p:val>
                                            <p:fltVal val="0"/>
                                          </p:val>
                                        </p:tav>
                                        <p:tav tm="100000">
                                          <p:val>
                                            <p:strVal val="#ppt_h"/>
                                          </p:val>
                                        </p:tav>
                                      </p:tavLst>
                                    </p:anim>
                                    <p:animEffect filter="fade" transition="in">
                                      <p:cBhvr additive="repl">
                                        <p:cTn id="35" dur="500"/>
                                        <p:tgtEl>
                                          <p:spTgt spid="1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2"/>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8" name="Group 4"/>
          <p:cNvGrpSpPr/>
          <p:nvPr/>
        </p:nvGrpSpPr>
        <p:grpSpPr>
          <a:xfrm>
            <a:off x="8469000" y="255600"/>
            <a:ext cx="3327840" cy="246240"/>
            <a:chOff x="8469000" y="255600"/>
            <a:chExt cx="3327840" cy="246240"/>
          </a:xfrm>
        </p:grpSpPr>
        <p:sp>
          <p:nvSpPr>
            <p:cNvPr id="1119" name="Rectangle 5"/>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120" name="Straight Arrow Connector 6"/>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121" name="Rectangle 10"/>
          <p:cNvSpPr/>
          <p:nvPr/>
        </p:nvSpPr>
        <p:spPr>
          <a:xfrm>
            <a:off x="0" y="1386000"/>
            <a:ext cx="4424400" cy="547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2" name="Text Placeholder 6"/>
          <p:cNvSpPr/>
          <p:nvPr/>
        </p:nvSpPr>
        <p:spPr>
          <a:xfrm>
            <a:off x="330120" y="4438800"/>
            <a:ext cx="3492720" cy="531720"/>
          </a:xfrm>
          <a:prstGeom prst="rect">
            <a:avLst/>
          </a:prstGeom>
          <a:noFill/>
          <a:ln w="0">
            <a:noFill/>
          </a:ln>
        </p:spPr>
        <p:style>
          <a:lnRef idx="0"/>
          <a:fillRef idx="0"/>
          <a:effectRef idx="0"/>
          <a:fontRef idx="minor"/>
        </p:style>
        <p:txBody>
          <a:bodyPr lIns="90000" rIns="90000" tIns="46800" bIns="46800" anchor="t">
            <a:normAutofit fontScale="6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123" name="TextBox 12"/>
          <p:cNvSpPr/>
          <p:nvPr/>
        </p:nvSpPr>
        <p:spPr>
          <a:xfrm>
            <a:off x="284040" y="2809800"/>
            <a:ext cx="418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Black"/>
                <a:ea typeface="Times New Roman"/>
              </a:rPr>
              <a:t>ABOU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Black"/>
                <a:ea typeface="Times New Roman"/>
              </a:rPr>
              <a:t>COMPANY.</a:t>
            </a:r>
            <a:endParaRPr b="0" lang="en-US" sz="4000" spc="-1" strike="noStrike">
              <a:solidFill>
                <a:srgbClr val="000000"/>
              </a:solidFill>
              <a:latin typeface="Calibri"/>
            </a:endParaRPr>
          </a:p>
        </p:txBody>
      </p:sp>
      <p:sp>
        <p:nvSpPr>
          <p:cNvPr id="1124" name="Text Placeholder 6"/>
          <p:cNvSpPr/>
          <p:nvPr/>
        </p:nvSpPr>
        <p:spPr>
          <a:xfrm>
            <a:off x="4844880" y="5899320"/>
            <a:ext cx="5213520" cy="53172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125" name="Rectangle 14"/>
          <p:cNvSpPr/>
          <p:nvPr/>
        </p:nvSpPr>
        <p:spPr>
          <a:xfrm>
            <a:off x="9182160" y="3471840"/>
            <a:ext cx="3009960" cy="2000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6" name="TextBox 15"/>
          <p:cNvSpPr/>
          <p:nvPr/>
        </p:nvSpPr>
        <p:spPr>
          <a:xfrm>
            <a:off x="9182160" y="3849840"/>
            <a:ext cx="3009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Arial Black"/>
                <a:ea typeface="Times New Roman"/>
              </a:rPr>
              <a:t>STRATEGY</a:t>
            </a:r>
            <a:endParaRPr b="0" lang="en-US" sz="2800" spc="-1" strike="noStrike">
              <a:solidFill>
                <a:srgbClr val="000000"/>
              </a:solidFill>
              <a:latin typeface="Calibri"/>
            </a:endParaRPr>
          </a:p>
        </p:txBody>
      </p:sp>
      <p:sp>
        <p:nvSpPr>
          <p:cNvPr id="1127" name="Text Placeholder 6"/>
          <p:cNvSpPr/>
          <p:nvPr/>
        </p:nvSpPr>
        <p:spPr>
          <a:xfrm>
            <a:off x="9380520" y="4464000"/>
            <a:ext cx="2614680" cy="531720"/>
          </a:xfrm>
          <a:prstGeom prst="rect">
            <a:avLst/>
          </a:prstGeom>
          <a:noFill/>
          <a:ln w="0">
            <a:noFill/>
          </a:ln>
        </p:spPr>
        <p:style>
          <a:lnRef idx="0"/>
          <a:fillRef idx="0"/>
          <a:effectRef idx="0"/>
          <a:fontRef idx="minor"/>
        </p:style>
        <p:txBody>
          <a:bodyPr lIns="90000" rIns="90000" tIns="46800" bIns="46800" anchor="t">
            <a:normAutofit fontScale="8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a:t>
            </a:r>
            <a:endParaRPr b="0" lang="en-US" sz="1000" spc="-1" strike="noStrike">
              <a:solidFill>
                <a:srgbClr val="000000"/>
              </a:solidFill>
              <a:latin typeface="Calibri"/>
            </a:endParaRPr>
          </a:p>
        </p:txBody>
      </p:sp>
      <p:grpSp>
        <p:nvGrpSpPr>
          <p:cNvPr id="1128" name="Group 17"/>
          <p:cNvGrpSpPr/>
          <p:nvPr/>
        </p:nvGrpSpPr>
        <p:grpSpPr>
          <a:xfrm>
            <a:off x="284040" y="255600"/>
            <a:ext cx="825480" cy="824040"/>
            <a:chOff x="284040" y="255600"/>
            <a:chExt cx="825480" cy="824040"/>
          </a:xfrm>
        </p:grpSpPr>
        <p:sp>
          <p:nvSpPr>
            <p:cNvPr id="1129" name="Frame 18"/>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0" name="Rectangle 19"/>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131" name="" descr=""/>
          <p:cNvPicPr/>
          <p:nvPr/>
        </p:nvPicPr>
        <p:blipFill>
          <a:blip r:embed="rId1"/>
          <a:stretch/>
        </p:blipFill>
        <p:spPr>
          <a:xfrm>
            <a:off x="4424400" y="1386000"/>
            <a:ext cx="5634000" cy="4086000"/>
          </a:xfrm>
          <a:prstGeom prst="rect">
            <a:avLst/>
          </a:prstGeom>
          <a:ln w="0">
            <a:noFill/>
          </a:ln>
        </p:spPr>
      </p:pic>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3"/>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5" name="Group 4"/>
          <p:cNvGrpSpPr/>
          <p:nvPr/>
        </p:nvGrpSpPr>
        <p:grpSpPr>
          <a:xfrm>
            <a:off x="8469000" y="255600"/>
            <a:ext cx="3327840" cy="246240"/>
            <a:chOff x="8469000" y="255600"/>
            <a:chExt cx="3327840" cy="246240"/>
          </a:xfrm>
        </p:grpSpPr>
        <p:sp>
          <p:nvSpPr>
            <p:cNvPr id="1546" name="Rectangle 5"/>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547" name="Straight Arrow Connector 6"/>
            <p:cNvCxnSpPr/>
            <p:nvPr/>
          </p:nvCxnSpPr>
          <p:spPr>
            <a:xfrm>
              <a:off x="10269000" y="423000"/>
              <a:ext cx="1528200" cy="1080"/>
            </a:xfrm>
            <a:prstGeom prst="straightConnector1">
              <a:avLst/>
            </a:prstGeom>
            <a:ln w="3240">
              <a:solidFill>
                <a:srgbClr val="ffffff"/>
              </a:solidFill>
              <a:miter/>
              <a:tailEnd len="med" type="triangle" w="med"/>
            </a:ln>
          </p:spPr>
        </p:cxnSp>
      </p:grpSp>
      <p:grpSp>
        <p:nvGrpSpPr>
          <p:cNvPr id="1548" name="Group 7"/>
          <p:cNvGrpSpPr/>
          <p:nvPr/>
        </p:nvGrpSpPr>
        <p:grpSpPr>
          <a:xfrm>
            <a:off x="284040" y="255600"/>
            <a:ext cx="825480" cy="824040"/>
            <a:chOff x="284040" y="255600"/>
            <a:chExt cx="825480" cy="824040"/>
          </a:xfrm>
        </p:grpSpPr>
        <p:sp>
          <p:nvSpPr>
            <p:cNvPr id="1549" name="Frame 8"/>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0" name="Rectangle 9"/>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sp>
        <p:nvSpPr>
          <p:cNvPr id="1551" name="Rectangle 10"/>
          <p:cNvSpPr/>
          <p:nvPr/>
        </p:nvSpPr>
        <p:spPr>
          <a:xfrm>
            <a:off x="3650040" y="2644920"/>
            <a:ext cx="4891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ea typeface="Aharoni"/>
              </a:rPr>
              <a:t>THANKS</a:t>
            </a:r>
            <a:endParaRPr b="0" lang="en-US" sz="9600" spc="-1" strike="noStrike">
              <a:solidFill>
                <a:srgbClr val="000000"/>
              </a:solidFill>
              <a:latin typeface="Calibri"/>
            </a:endParaRPr>
          </a:p>
        </p:txBody>
      </p:sp>
      <p:sp>
        <p:nvSpPr>
          <p:cNvPr id="1552" name="Rectangle 11"/>
          <p:cNvSpPr/>
          <p:nvPr/>
        </p:nvSpPr>
        <p:spPr>
          <a:xfrm>
            <a:off x="4021200" y="4213080"/>
            <a:ext cx="4149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ontserrat"/>
              </a:rPr>
              <a:t>BUSINESS TEMPLATE PRESENTATION</a:t>
            </a:r>
            <a:endParaRPr b="0" lang="en-US" sz="1100" spc="-1" strike="noStrike">
              <a:solidFill>
                <a:srgbClr val="000000"/>
              </a:solidFill>
              <a:latin typeface="Calibri"/>
            </a:endParaRPr>
          </a:p>
        </p:txBody>
      </p:sp>
      <p:pic>
        <p:nvPicPr>
          <p:cNvPr id="1553"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3"/>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5" name="Group 4"/>
          <p:cNvGrpSpPr/>
          <p:nvPr/>
        </p:nvGrpSpPr>
        <p:grpSpPr>
          <a:xfrm>
            <a:off x="8469000" y="255600"/>
            <a:ext cx="3327840" cy="246240"/>
            <a:chOff x="8469000" y="255600"/>
            <a:chExt cx="3327840" cy="246240"/>
          </a:xfrm>
        </p:grpSpPr>
        <p:sp>
          <p:nvSpPr>
            <p:cNvPr id="1556" name="Rectangle 5"/>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557" name="Straight Arrow Connector 6"/>
            <p:cNvCxnSpPr/>
            <p:nvPr/>
          </p:nvCxnSpPr>
          <p:spPr>
            <a:xfrm>
              <a:off x="10269000" y="423000"/>
              <a:ext cx="1528200" cy="1080"/>
            </a:xfrm>
            <a:prstGeom prst="straightConnector1">
              <a:avLst/>
            </a:prstGeom>
            <a:ln w="3240">
              <a:solidFill>
                <a:srgbClr val="ffffff"/>
              </a:solidFill>
              <a:miter/>
              <a:tailEnd len="med" type="triangle" w="med"/>
            </a:ln>
          </p:spPr>
        </p:cxnSp>
      </p:grpSp>
      <p:grpSp>
        <p:nvGrpSpPr>
          <p:cNvPr id="1558" name="Group 7"/>
          <p:cNvGrpSpPr/>
          <p:nvPr/>
        </p:nvGrpSpPr>
        <p:grpSpPr>
          <a:xfrm>
            <a:off x="284040" y="255600"/>
            <a:ext cx="825480" cy="824040"/>
            <a:chOff x="284040" y="255600"/>
            <a:chExt cx="825480" cy="824040"/>
          </a:xfrm>
        </p:grpSpPr>
        <p:sp>
          <p:nvSpPr>
            <p:cNvPr id="1559" name="Frame 8"/>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0" name="Rectangle 9"/>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sp>
        <p:nvSpPr>
          <p:cNvPr id="1561" name="Shape 4583"/>
          <p:cNvSpPr/>
          <p:nvPr/>
        </p:nvSpPr>
        <p:spPr>
          <a:xfrm>
            <a:off x="10551960" y="5105520"/>
            <a:ext cx="227160" cy="126720"/>
          </a:xfrm>
          <a:custGeom>
            <a:avLst/>
            <a:gdLst>
              <a:gd name="textAreaLeft" fmla="*/ 0 w 227160"/>
              <a:gd name="textAreaRight" fmla="*/ 227520 w 227160"/>
              <a:gd name="textAreaTop" fmla="*/ 0 h 126720"/>
              <a:gd name="textAreaBottom" fmla="*/ 127080 h 126720"/>
            </a:gdLst>
            <a:ahLst/>
            <a:rect l="textAreaLeft" t="textAreaTop" r="textAreaRight" b="textAreaBottom"/>
            <a:pathLst>
              <a:path w="120000" h="120000">
                <a:moveTo>
                  <a:pt x="119745" y="0"/>
                </a:moveTo>
                <a:lnTo>
                  <a:pt x="119745" y="0"/>
                </a:lnTo>
                <a:cubicBezTo>
                  <a:pt x="115932" y="0"/>
                  <a:pt x="112118" y="0"/>
                  <a:pt x="112118" y="0"/>
                </a:cubicBezTo>
                <a:cubicBezTo>
                  <a:pt x="59745" y="99699"/>
                  <a:pt x="59745" y="99699"/>
                  <a:pt x="59745" y="99699"/>
                </a:cubicBezTo>
                <a:cubicBezTo>
                  <a:pt x="7372" y="0"/>
                  <a:pt x="7372" y="0"/>
                  <a:pt x="7372" y="0"/>
                </a:cubicBezTo>
                <a:cubicBezTo>
                  <a:pt x="7372" y="0"/>
                  <a:pt x="3559" y="0"/>
                  <a:pt x="0" y="0"/>
                </a:cubicBezTo>
                <a:cubicBezTo>
                  <a:pt x="0" y="6315"/>
                  <a:pt x="0" y="6315"/>
                  <a:pt x="0" y="13082"/>
                </a:cubicBezTo>
                <a:cubicBezTo>
                  <a:pt x="55932" y="119548"/>
                  <a:pt x="55932" y="119548"/>
                  <a:pt x="55932" y="119548"/>
                </a:cubicBezTo>
                <a:lnTo>
                  <a:pt x="59745" y="119548"/>
                </a:lnTo>
                <a:lnTo>
                  <a:pt x="63559" y="119548"/>
                </a:lnTo>
                <a:cubicBezTo>
                  <a:pt x="119745" y="13082"/>
                  <a:pt x="119745" y="13082"/>
                  <a:pt x="119745" y="13082"/>
                </a:cubicBezTo>
                <a:cubicBezTo>
                  <a:pt x="119745" y="6315"/>
                  <a:pt x="119745" y="6315"/>
                  <a:pt x="119745"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2" name="Shape 4584"/>
          <p:cNvSpPr/>
          <p:nvPr/>
        </p:nvSpPr>
        <p:spPr>
          <a:xfrm>
            <a:off x="10049040" y="510552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3" name="Shape 4585"/>
          <p:cNvSpPr/>
          <p:nvPr/>
        </p:nvSpPr>
        <p:spPr>
          <a:xfrm>
            <a:off x="9617040" y="5054760"/>
            <a:ext cx="136440" cy="228600"/>
          </a:xfrm>
          <a:custGeom>
            <a:avLst/>
            <a:gdLst>
              <a:gd name="textAreaLeft" fmla="*/ 0 w 136440"/>
              <a:gd name="textAreaRight" fmla="*/ 136800 w 136440"/>
              <a:gd name="textAreaTop" fmla="*/ 0 h 228600"/>
              <a:gd name="textAreaBottom" fmla="*/ 228960 h 228600"/>
            </a:gdLst>
            <a:ahLst/>
            <a:rect l="textAreaLeft" t="textAreaTop" r="textAreaRight" b="textAreaBottom"/>
            <a:pathLst>
              <a:path w="120000" h="120000">
                <a:moveTo>
                  <a:pt x="113594" y="56186"/>
                </a:moveTo>
                <a:lnTo>
                  <a:pt x="113594" y="56186"/>
                </a:lnTo>
                <a:cubicBezTo>
                  <a:pt x="12811" y="0"/>
                  <a:pt x="12811" y="0"/>
                  <a:pt x="12811" y="0"/>
                </a:cubicBezTo>
                <a:cubicBezTo>
                  <a:pt x="12811" y="0"/>
                  <a:pt x="6405" y="0"/>
                  <a:pt x="0" y="0"/>
                </a:cubicBezTo>
                <a:cubicBezTo>
                  <a:pt x="0" y="3559"/>
                  <a:pt x="0" y="7372"/>
                  <a:pt x="0" y="7372"/>
                </a:cubicBezTo>
                <a:cubicBezTo>
                  <a:pt x="94377" y="59745"/>
                  <a:pt x="94377" y="59745"/>
                  <a:pt x="94377" y="59745"/>
                </a:cubicBezTo>
                <a:cubicBezTo>
                  <a:pt x="0" y="112372"/>
                  <a:pt x="0" y="112372"/>
                  <a:pt x="0" y="112372"/>
                </a:cubicBezTo>
                <a:cubicBezTo>
                  <a:pt x="0" y="112372"/>
                  <a:pt x="0" y="115932"/>
                  <a:pt x="0" y="119745"/>
                </a:cubicBezTo>
                <a:cubicBezTo>
                  <a:pt x="6405" y="119745"/>
                  <a:pt x="12811" y="119745"/>
                  <a:pt x="12811" y="119745"/>
                </a:cubicBezTo>
                <a:cubicBezTo>
                  <a:pt x="113594" y="63559"/>
                  <a:pt x="113594" y="63559"/>
                  <a:pt x="113594" y="63559"/>
                </a:cubicBezTo>
                <a:cubicBezTo>
                  <a:pt x="119572" y="63559"/>
                  <a:pt x="119572" y="59745"/>
                  <a:pt x="119572" y="59745"/>
                </a:cubicBezTo>
                <a:cubicBezTo>
                  <a:pt x="119572" y="59745"/>
                  <a:pt x="119572" y="56186"/>
                  <a:pt x="113594" y="5618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4" name="Shape 4586"/>
          <p:cNvSpPr/>
          <p:nvPr/>
        </p:nvSpPr>
        <p:spPr>
          <a:xfrm>
            <a:off x="9131400" y="5054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5" name="Shape 4587"/>
          <p:cNvSpPr/>
          <p:nvPr/>
        </p:nvSpPr>
        <p:spPr>
          <a:xfrm>
            <a:off x="8550360" y="5021280"/>
            <a:ext cx="304560" cy="297000"/>
          </a:xfrm>
          <a:custGeom>
            <a:avLst/>
            <a:gdLst>
              <a:gd name="textAreaLeft" fmla="*/ 0 w 304560"/>
              <a:gd name="textAreaRight" fmla="*/ 304920 w 304560"/>
              <a:gd name="textAreaTop" fmla="*/ 0 h 297000"/>
              <a:gd name="textAreaBottom" fmla="*/ 297360 h 297000"/>
            </a:gdLst>
            <a:ahLst/>
            <a:rect l="textAreaLeft" t="textAreaTop" r="textAreaRight" b="textAreaBottom"/>
            <a:pathLst>
              <a:path w="120000" h="120000">
                <a:moveTo>
                  <a:pt x="50157" y="68432"/>
                </a:moveTo>
                <a:lnTo>
                  <a:pt x="50157" y="68432"/>
                </a:lnTo>
                <a:cubicBezTo>
                  <a:pt x="16845" y="68432"/>
                  <a:pt x="16845" y="68432"/>
                  <a:pt x="16845" y="68432"/>
                </a:cubicBezTo>
                <a:cubicBezTo>
                  <a:pt x="14006" y="68432"/>
                  <a:pt x="11167" y="68432"/>
                  <a:pt x="11167" y="71340"/>
                </a:cubicBezTo>
                <a:cubicBezTo>
                  <a:pt x="11167" y="74248"/>
                  <a:pt x="14006" y="74248"/>
                  <a:pt x="16845" y="74248"/>
                </a:cubicBezTo>
                <a:cubicBezTo>
                  <a:pt x="41829" y="74248"/>
                  <a:pt x="41829" y="74248"/>
                  <a:pt x="41829" y="74248"/>
                </a:cubicBezTo>
                <a:cubicBezTo>
                  <a:pt x="0" y="114184"/>
                  <a:pt x="0" y="114184"/>
                  <a:pt x="0" y="114184"/>
                </a:cubicBezTo>
                <a:cubicBezTo>
                  <a:pt x="5678" y="119806"/>
                  <a:pt x="5678" y="119806"/>
                  <a:pt x="5678" y="119806"/>
                </a:cubicBezTo>
                <a:cubicBezTo>
                  <a:pt x="44668" y="79870"/>
                  <a:pt x="44668" y="79870"/>
                  <a:pt x="44668" y="79870"/>
                </a:cubicBezTo>
                <a:cubicBezTo>
                  <a:pt x="44668" y="105654"/>
                  <a:pt x="44668" y="105654"/>
                  <a:pt x="44668" y="105654"/>
                </a:cubicBezTo>
                <a:cubicBezTo>
                  <a:pt x="44668" y="108368"/>
                  <a:pt x="47507" y="108368"/>
                  <a:pt x="50157" y="108368"/>
                </a:cubicBezTo>
                <a:cubicBezTo>
                  <a:pt x="50157" y="108368"/>
                  <a:pt x="52996" y="108368"/>
                  <a:pt x="52996" y="105654"/>
                </a:cubicBezTo>
                <a:cubicBezTo>
                  <a:pt x="52996" y="71340"/>
                  <a:pt x="52996" y="71340"/>
                  <a:pt x="52996" y="71340"/>
                </a:cubicBezTo>
                <a:lnTo>
                  <a:pt x="52996" y="68432"/>
                </a:lnTo>
                <a:cubicBezTo>
                  <a:pt x="50157" y="68432"/>
                  <a:pt x="50157" y="68432"/>
                  <a:pt x="50157" y="68432"/>
                </a:cubicBezTo>
                <a:close/>
                <a:moveTo>
                  <a:pt x="105993" y="45751"/>
                </a:moveTo>
                <a:lnTo>
                  <a:pt x="105993" y="45751"/>
                </a:lnTo>
                <a:cubicBezTo>
                  <a:pt x="81009" y="45751"/>
                  <a:pt x="81009" y="45751"/>
                  <a:pt x="81009" y="45751"/>
                </a:cubicBezTo>
                <a:cubicBezTo>
                  <a:pt x="119810" y="5621"/>
                  <a:pt x="119810" y="5621"/>
                  <a:pt x="119810" y="5621"/>
                </a:cubicBezTo>
                <a:cubicBezTo>
                  <a:pt x="114321" y="0"/>
                  <a:pt x="114321" y="0"/>
                  <a:pt x="114321" y="0"/>
                </a:cubicBezTo>
                <a:cubicBezTo>
                  <a:pt x="75331" y="39935"/>
                  <a:pt x="75331" y="39935"/>
                  <a:pt x="75331" y="39935"/>
                </a:cubicBezTo>
                <a:cubicBezTo>
                  <a:pt x="75331" y="14345"/>
                  <a:pt x="75331" y="14345"/>
                  <a:pt x="75331" y="14345"/>
                </a:cubicBezTo>
                <a:cubicBezTo>
                  <a:pt x="75331" y="11437"/>
                  <a:pt x="72492" y="11437"/>
                  <a:pt x="72492" y="11437"/>
                </a:cubicBezTo>
                <a:cubicBezTo>
                  <a:pt x="69842" y="11437"/>
                  <a:pt x="67003" y="11437"/>
                  <a:pt x="67003" y="14345"/>
                </a:cubicBezTo>
                <a:cubicBezTo>
                  <a:pt x="67003" y="48465"/>
                  <a:pt x="67003" y="48465"/>
                  <a:pt x="67003" y="48465"/>
                </a:cubicBezTo>
                <a:cubicBezTo>
                  <a:pt x="67003" y="48465"/>
                  <a:pt x="67003" y="51373"/>
                  <a:pt x="69842" y="51373"/>
                </a:cubicBezTo>
                <a:cubicBezTo>
                  <a:pt x="69842" y="51373"/>
                  <a:pt x="69842" y="51373"/>
                  <a:pt x="72492" y="51373"/>
                </a:cubicBezTo>
                <a:cubicBezTo>
                  <a:pt x="105993" y="51373"/>
                  <a:pt x="105993" y="51373"/>
                  <a:pt x="105993" y="51373"/>
                </a:cubicBezTo>
                <a:cubicBezTo>
                  <a:pt x="105993" y="51373"/>
                  <a:pt x="108832" y="51373"/>
                  <a:pt x="108832" y="48465"/>
                </a:cubicBezTo>
                <a:cubicBezTo>
                  <a:pt x="108832" y="45751"/>
                  <a:pt x="105993" y="45751"/>
                  <a:pt x="105993" y="457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6" name="Shape 4588"/>
          <p:cNvSpPr/>
          <p:nvPr/>
        </p:nvSpPr>
        <p:spPr>
          <a:xfrm>
            <a:off x="8061480" y="5021280"/>
            <a:ext cx="304560" cy="297000"/>
          </a:xfrm>
          <a:custGeom>
            <a:avLst/>
            <a:gdLst>
              <a:gd name="textAreaLeft" fmla="*/ 0 w 304560"/>
              <a:gd name="textAreaRight" fmla="*/ 304920 w 304560"/>
              <a:gd name="textAreaTop" fmla="*/ 0 h 297000"/>
              <a:gd name="textAreaBottom" fmla="*/ 297360 h 29700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7" name="Shape 4589"/>
          <p:cNvSpPr/>
          <p:nvPr/>
        </p:nvSpPr>
        <p:spPr>
          <a:xfrm>
            <a:off x="7575480" y="5105520"/>
            <a:ext cx="295200" cy="126720"/>
          </a:xfrm>
          <a:custGeom>
            <a:avLst/>
            <a:gdLst>
              <a:gd name="textAreaLeft" fmla="*/ 0 w 295200"/>
              <a:gd name="textAreaRight" fmla="*/ 295560 w 295200"/>
              <a:gd name="textAreaTop" fmla="*/ 0 h 126720"/>
              <a:gd name="textAreaBottom" fmla="*/ 127080 h 126720"/>
            </a:gdLst>
            <a:ahLst/>
            <a:rect l="textAreaLeft" t="textAreaTop" r="textAreaRight" b="textAreaBottom"/>
            <a:pathLst>
              <a:path w="120000" h="120000">
                <a:moveTo>
                  <a:pt x="119806" y="53233"/>
                </a:moveTo>
                <a:lnTo>
                  <a:pt x="119806" y="53233"/>
                </a:lnTo>
                <a:cubicBezTo>
                  <a:pt x="96930" y="0"/>
                  <a:pt x="96930" y="0"/>
                  <a:pt x="96930" y="0"/>
                </a:cubicBezTo>
                <a:cubicBezTo>
                  <a:pt x="96930" y="0"/>
                  <a:pt x="94216" y="0"/>
                  <a:pt x="91308" y="0"/>
                </a:cubicBezTo>
                <a:cubicBezTo>
                  <a:pt x="91308" y="6315"/>
                  <a:pt x="91308" y="6315"/>
                  <a:pt x="91308" y="13082"/>
                </a:cubicBezTo>
                <a:cubicBezTo>
                  <a:pt x="108368" y="53233"/>
                  <a:pt x="108368" y="53233"/>
                  <a:pt x="108368" y="53233"/>
                </a:cubicBezTo>
                <a:cubicBezTo>
                  <a:pt x="11437" y="53233"/>
                  <a:pt x="11437" y="53233"/>
                  <a:pt x="11437" y="53233"/>
                </a:cubicBezTo>
                <a:cubicBezTo>
                  <a:pt x="28497" y="13082"/>
                  <a:pt x="28497" y="13082"/>
                  <a:pt x="28497" y="13082"/>
                </a:cubicBezTo>
                <a:cubicBezTo>
                  <a:pt x="28497" y="6315"/>
                  <a:pt x="28497" y="6315"/>
                  <a:pt x="28497" y="0"/>
                </a:cubicBezTo>
                <a:cubicBezTo>
                  <a:pt x="25589" y="0"/>
                  <a:pt x="22875" y="0"/>
                  <a:pt x="22875" y="0"/>
                </a:cubicBezTo>
                <a:cubicBezTo>
                  <a:pt x="0" y="53233"/>
                  <a:pt x="0" y="53233"/>
                  <a:pt x="0" y="53233"/>
                </a:cubicBezTo>
                <a:lnTo>
                  <a:pt x="0" y="59548"/>
                </a:lnTo>
                <a:lnTo>
                  <a:pt x="0" y="66315"/>
                </a:lnTo>
                <a:cubicBezTo>
                  <a:pt x="22875" y="119548"/>
                  <a:pt x="22875" y="119548"/>
                  <a:pt x="22875" y="119548"/>
                </a:cubicBezTo>
                <a:cubicBezTo>
                  <a:pt x="22875" y="119548"/>
                  <a:pt x="25589" y="119548"/>
                  <a:pt x="28497" y="119548"/>
                </a:cubicBezTo>
                <a:cubicBezTo>
                  <a:pt x="28497" y="112781"/>
                  <a:pt x="28497" y="112781"/>
                  <a:pt x="28497" y="106015"/>
                </a:cubicBezTo>
                <a:cubicBezTo>
                  <a:pt x="11437" y="66315"/>
                  <a:pt x="11437" y="66315"/>
                  <a:pt x="11437" y="66315"/>
                </a:cubicBezTo>
                <a:cubicBezTo>
                  <a:pt x="108368" y="66315"/>
                  <a:pt x="108368" y="66315"/>
                  <a:pt x="108368" y="66315"/>
                </a:cubicBezTo>
                <a:cubicBezTo>
                  <a:pt x="91308" y="106015"/>
                  <a:pt x="91308" y="106015"/>
                  <a:pt x="91308" y="106015"/>
                </a:cubicBezTo>
                <a:cubicBezTo>
                  <a:pt x="91308" y="112781"/>
                  <a:pt x="91308" y="112781"/>
                  <a:pt x="91308" y="119548"/>
                </a:cubicBezTo>
                <a:cubicBezTo>
                  <a:pt x="94216" y="119548"/>
                  <a:pt x="96930" y="119548"/>
                  <a:pt x="96930" y="119548"/>
                </a:cubicBezTo>
                <a:cubicBezTo>
                  <a:pt x="119806" y="66315"/>
                  <a:pt x="119806" y="66315"/>
                  <a:pt x="119806" y="66315"/>
                </a:cubicBezTo>
                <a:lnTo>
                  <a:pt x="119806" y="59548"/>
                </a:lnTo>
                <a:lnTo>
                  <a:pt x="119806" y="53233"/>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8" name="Shape 4590"/>
          <p:cNvSpPr/>
          <p:nvPr/>
        </p:nvSpPr>
        <p:spPr>
          <a:xfrm>
            <a:off x="7151760" y="5021280"/>
            <a:ext cx="127080" cy="297000"/>
          </a:xfrm>
          <a:custGeom>
            <a:avLst/>
            <a:gdLst>
              <a:gd name="textAreaLeft" fmla="*/ 0 w 127080"/>
              <a:gd name="textAreaRight" fmla="*/ 127440 w 127080"/>
              <a:gd name="textAreaTop" fmla="*/ 0 h 297000"/>
              <a:gd name="textAreaBottom" fmla="*/ 297360 h 29700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9" name="Shape 4591"/>
          <p:cNvSpPr/>
          <p:nvPr/>
        </p:nvSpPr>
        <p:spPr>
          <a:xfrm>
            <a:off x="6597720" y="503388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47272"/>
                </a:moveTo>
                <a:lnTo>
                  <a:pt x="119774" y="47272"/>
                </a:lnTo>
                <a:cubicBezTo>
                  <a:pt x="76610" y="3208"/>
                  <a:pt x="76610" y="3208"/>
                  <a:pt x="76610" y="3208"/>
                </a:cubicBezTo>
                <a:cubicBezTo>
                  <a:pt x="73220" y="0"/>
                  <a:pt x="70056" y="0"/>
                  <a:pt x="70056" y="3208"/>
                </a:cubicBezTo>
                <a:cubicBezTo>
                  <a:pt x="66666" y="3208"/>
                  <a:pt x="66666" y="3208"/>
                  <a:pt x="66666" y="6417"/>
                </a:cubicBezTo>
                <a:cubicBezTo>
                  <a:pt x="66666" y="31657"/>
                  <a:pt x="66666" y="31657"/>
                  <a:pt x="66666" y="31657"/>
                </a:cubicBezTo>
                <a:cubicBezTo>
                  <a:pt x="30056" y="31657"/>
                  <a:pt x="0" y="59893"/>
                  <a:pt x="0" y="94545"/>
                </a:cubicBezTo>
                <a:cubicBezTo>
                  <a:pt x="0" y="104171"/>
                  <a:pt x="3389" y="110374"/>
                  <a:pt x="6779" y="119786"/>
                </a:cubicBezTo>
                <a:cubicBezTo>
                  <a:pt x="13333" y="91550"/>
                  <a:pt x="40000" y="72513"/>
                  <a:pt x="66666" y="72513"/>
                </a:cubicBezTo>
                <a:lnTo>
                  <a:pt x="66666" y="97754"/>
                </a:lnTo>
                <a:cubicBezTo>
                  <a:pt x="66666" y="97754"/>
                  <a:pt x="66666" y="100748"/>
                  <a:pt x="70056" y="100748"/>
                </a:cubicBezTo>
                <a:lnTo>
                  <a:pt x="70056" y="100748"/>
                </a:lnTo>
                <a:cubicBezTo>
                  <a:pt x="70056" y="100748"/>
                  <a:pt x="70056" y="100748"/>
                  <a:pt x="73220" y="100748"/>
                </a:cubicBezTo>
                <a:cubicBezTo>
                  <a:pt x="73220" y="100748"/>
                  <a:pt x="73220" y="100748"/>
                  <a:pt x="76610" y="100748"/>
                </a:cubicBezTo>
                <a:cubicBezTo>
                  <a:pt x="119774" y="53689"/>
                  <a:pt x="119774" y="53689"/>
                  <a:pt x="119774" y="53689"/>
                </a:cubicBezTo>
                <a:cubicBezTo>
                  <a:pt x="119774" y="53689"/>
                  <a:pt x="119774" y="53689"/>
                  <a:pt x="119774" y="50481"/>
                </a:cubicBezTo>
                <a:cubicBezTo>
                  <a:pt x="119774" y="50481"/>
                  <a:pt x="119774" y="50481"/>
                  <a:pt x="119774" y="47272"/>
                </a:cubicBezTo>
                <a:close/>
                <a:moveTo>
                  <a:pt x="76610" y="88342"/>
                </a:moveTo>
                <a:lnTo>
                  <a:pt x="76610" y="88342"/>
                </a:lnTo>
                <a:cubicBezTo>
                  <a:pt x="76610" y="63101"/>
                  <a:pt x="76610" y="63101"/>
                  <a:pt x="76610" y="63101"/>
                </a:cubicBezTo>
                <a:cubicBezTo>
                  <a:pt x="76610" y="63101"/>
                  <a:pt x="66666" y="63101"/>
                  <a:pt x="63276" y="63101"/>
                </a:cubicBezTo>
                <a:cubicBezTo>
                  <a:pt x="43389" y="63101"/>
                  <a:pt x="20112" y="78930"/>
                  <a:pt x="9943" y="88342"/>
                </a:cubicBezTo>
                <a:cubicBezTo>
                  <a:pt x="9943" y="72513"/>
                  <a:pt x="33446" y="41069"/>
                  <a:pt x="63276" y="37860"/>
                </a:cubicBezTo>
                <a:cubicBezTo>
                  <a:pt x="66666" y="37860"/>
                  <a:pt x="76610" y="37860"/>
                  <a:pt x="76610" y="37860"/>
                </a:cubicBezTo>
                <a:cubicBezTo>
                  <a:pt x="76610" y="15828"/>
                  <a:pt x="76610" y="15828"/>
                  <a:pt x="76610" y="15828"/>
                </a:cubicBezTo>
                <a:cubicBezTo>
                  <a:pt x="109830" y="50481"/>
                  <a:pt x="109830" y="50481"/>
                  <a:pt x="109830" y="50481"/>
                </a:cubicBezTo>
                <a:lnTo>
                  <a:pt x="76610" y="883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0" name="Shape 4592"/>
          <p:cNvSpPr/>
          <p:nvPr/>
        </p:nvSpPr>
        <p:spPr>
          <a:xfrm>
            <a:off x="6102360" y="503388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1" name="Shape 4593"/>
          <p:cNvSpPr/>
          <p:nvPr/>
        </p:nvSpPr>
        <p:spPr>
          <a:xfrm>
            <a:off x="10517040" y="4573440"/>
            <a:ext cx="295560" cy="206640"/>
          </a:xfrm>
          <a:custGeom>
            <a:avLst/>
            <a:gdLst>
              <a:gd name="textAreaLeft" fmla="*/ 0 w 295560"/>
              <a:gd name="textAreaRight" fmla="*/ 295920 w 295560"/>
              <a:gd name="textAreaTop" fmla="*/ 0 h 206640"/>
              <a:gd name="textAreaBottom" fmla="*/ 207000 h 206640"/>
            </a:gdLst>
            <a:ahLst/>
            <a:rect l="textAreaLeft" t="textAreaTop" r="textAreaRight" b="textAreaBottom"/>
            <a:pathLst>
              <a:path w="120000" h="120000">
                <a:moveTo>
                  <a:pt x="105654" y="0"/>
                </a:moveTo>
                <a:lnTo>
                  <a:pt x="105654" y="0"/>
                </a:lnTo>
                <a:cubicBezTo>
                  <a:pt x="37027" y="0"/>
                  <a:pt x="37027" y="0"/>
                  <a:pt x="37027" y="0"/>
                </a:cubicBezTo>
                <a:lnTo>
                  <a:pt x="34313" y="0"/>
                </a:lnTo>
                <a:cubicBezTo>
                  <a:pt x="0" y="57892"/>
                  <a:pt x="0" y="57892"/>
                  <a:pt x="0" y="57892"/>
                </a:cubicBezTo>
                <a:cubicBezTo>
                  <a:pt x="0" y="57892"/>
                  <a:pt x="0" y="57892"/>
                  <a:pt x="0" y="62107"/>
                </a:cubicBezTo>
                <a:cubicBezTo>
                  <a:pt x="0" y="62107"/>
                  <a:pt x="0" y="62107"/>
                  <a:pt x="0" y="66042"/>
                </a:cubicBezTo>
                <a:cubicBezTo>
                  <a:pt x="34313" y="119718"/>
                  <a:pt x="34313" y="119718"/>
                  <a:pt x="34313" y="119718"/>
                </a:cubicBezTo>
                <a:lnTo>
                  <a:pt x="37027" y="119718"/>
                </a:lnTo>
                <a:lnTo>
                  <a:pt x="37027" y="119718"/>
                </a:lnTo>
                <a:cubicBezTo>
                  <a:pt x="105654" y="119718"/>
                  <a:pt x="105654" y="119718"/>
                  <a:pt x="105654" y="119718"/>
                </a:cubicBezTo>
                <a:cubicBezTo>
                  <a:pt x="114184" y="119718"/>
                  <a:pt x="119806" y="111569"/>
                  <a:pt x="119806" y="99203"/>
                </a:cubicBezTo>
                <a:cubicBezTo>
                  <a:pt x="119806" y="20515"/>
                  <a:pt x="119806" y="20515"/>
                  <a:pt x="119806" y="20515"/>
                </a:cubicBezTo>
                <a:cubicBezTo>
                  <a:pt x="119806" y="8149"/>
                  <a:pt x="114184" y="0"/>
                  <a:pt x="105654" y="0"/>
                </a:cubicBezTo>
                <a:close/>
                <a:moveTo>
                  <a:pt x="114184" y="99203"/>
                </a:moveTo>
                <a:lnTo>
                  <a:pt x="114184" y="99203"/>
                </a:lnTo>
                <a:cubicBezTo>
                  <a:pt x="114184" y="103419"/>
                  <a:pt x="108368" y="111569"/>
                  <a:pt x="105654" y="111569"/>
                </a:cubicBezTo>
                <a:cubicBezTo>
                  <a:pt x="39935" y="111569"/>
                  <a:pt x="39935" y="111569"/>
                  <a:pt x="39935" y="111569"/>
                </a:cubicBezTo>
                <a:cubicBezTo>
                  <a:pt x="8529" y="62107"/>
                  <a:pt x="8529" y="62107"/>
                  <a:pt x="8529" y="62107"/>
                </a:cubicBezTo>
                <a:cubicBezTo>
                  <a:pt x="39935" y="12365"/>
                  <a:pt x="39935" y="12365"/>
                  <a:pt x="39935" y="12365"/>
                </a:cubicBezTo>
                <a:cubicBezTo>
                  <a:pt x="105654" y="12365"/>
                  <a:pt x="105654" y="12365"/>
                  <a:pt x="105654" y="12365"/>
                </a:cubicBezTo>
                <a:cubicBezTo>
                  <a:pt x="108368" y="12365"/>
                  <a:pt x="114184" y="16299"/>
                  <a:pt x="114184" y="20515"/>
                </a:cubicBezTo>
                <a:lnTo>
                  <a:pt x="114184" y="992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2" name="Shape 4594"/>
          <p:cNvSpPr/>
          <p:nvPr/>
        </p:nvSpPr>
        <p:spPr>
          <a:xfrm>
            <a:off x="10023480" y="457344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3" name="Shape 4595"/>
          <p:cNvSpPr/>
          <p:nvPr/>
        </p:nvSpPr>
        <p:spPr>
          <a:xfrm>
            <a:off x="9532800" y="4524480"/>
            <a:ext cx="304920" cy="226800"/>
          </a:xfrm>
          <a:custGeom>
            <a:avLst/>
            <a:gdLst>
              <a:gd name="textAreaLeft" fmla="*/ 0 w 304920"/>
              <a:gd name="textAreaRight" fmla="*/ 305280 w 304920"/>
              <a:gd name="textAreaTop" fmla="*/ 0 h 226800"/>
              <a:gd name="textAreaBottom" fmla="*/ 227160 h 226800"/>
            </a:gdLst>
            <a:ahLst/>
            <a:rect l="textAreaLeft" t="textAreaTop" r="textAreaRight" b="textAreaBottom"/>
            <a:pathLst>
              <a:path w="120000" h="120000">
                <a:moveTo>
                  <a:pt x="61324" y="33742"/>
                </a:moveTo>
                <a:lnTo>
                  <a:pt x="61324" y="33742"/>
                </a:lnTo>
                <a:cubicBezTo>
                  <a:pt x="61324" y="29936"/>
                  <a:pt x="61324" y="29936"/>
                  <a:pt x="58485" y="29936"/>
                </a:cubicBezTo>
                <a:cubicBezTo>
                  <a:pt x="58485" y="29936"/>
                  <a:pt x="58485" y="29936"/>
                  <a:pt x="55646" y="33742"/>
                </a:cubicBezTo>
                <a:cubicBezTo>
                  <a:pt x="33312" y="63678"/>
                  <a:pt x="33312" y="63678"/>
                  <a:pt x="33312" y="63678"/>
                </a:cubicBezTo>
                <a:lnTo>
                  <a:pt x="33312" y="67484"/>
                </a:lnTo>
                <a:cubicBezTo>
                  <a:pt x="36151" y="71035"/>
                  <a:pt x="38990" y="71035"/>
                  <a:pt x="38990" y="67484"/>
                </a:cubicBezTo>
                <a:cubicBezTo>
                  <a:pt x="55646" y="48710"/>
                  <a:pt x="55646" y="48710"/>
                  <a:pt x="55646" y="48710"/>
                </a:cubicBezTo>
                <a:cubicBezTo>
                  <a:pt x="55646" y="97167"/>
                  <a:pt x="55646" y="97167"/>
                  <a:pt x="55646" y="97167"/>
                </a:cubicBezTo>
                <a:lnTo>
                  <a:pt x="58485" y="100972"/>
                </a:lnTo>
                <a:cubicBezTo>
                  <a:pt x="61324" y="100972"/>
                  <a:pt x="63974" y="97167"/>
                  <a:pt x="63974" y="97167"/>
                </a:cubicBezTo>
                <a:cubicBezTo>
                  <a:pt x="63974" y="48710"/>
                  <a:pt x="63974" y="48710"/>
                  <a:pt x="63974" y="48710"/>
                </a:cubicBezTo>
                <a:cubicBezTo>
                  <a:pt x="77981" y="67484"/>
                  <a:pt x="77981" y="67484"/>
                  <a:pt x="77981" y="67484"/>
                </a:cubicBezTo>
                <a:cubicBezTo>
                  <a:pt x="80630" y="71035"/>
                  <a:pt x="83659" y="71035"/>
                  <a:pt x="83659" y="67484"/>
                </a:cubicBezTo>
                <a:cubicBezTo>
                  <a:pt x="86309" y="67484"/>
                  <a:pt x="86309" y="63678"/>
                  <a:pt x="83659" y="63678"/>
                </a:cubicBezTo>
                <a:lnTo>
                  <a:pt x="61324" y="33742"/>
                </a:lnTo>
                <a:close/>
                <a:moveTo>
                  <a:pt x="86309" y="26384"/>
                </a:moveTo>
                <a:lnTo>
                  <a:pt x="86309" y="26384"/>
                </a:lnTo>
                <a:cubicBezTo>
                  <a:pt x="80630" y="11416"/>
                  <a:pt x="69652" y="0"/>
                  <a:pt x="55646" y="0"/>
                </a:cubicBezTo>
                <a:cubicBezTo>
                  <a:pt x="38990" y="0"/>
                  <a:pt x="22145" y="18773"/>
                  <a:pt x="22145" y="41099"/>
                </a:cubicBezTo>
                <a:cubicBezTo>
                  <a:pt x="8328" y="48710"/>
                  <a:pt x="0" y="63678"/>
                  <a:pt x="0" y="82452"/>
                </a:cubicBezTo>
                <a:cubicBezTo>
                  <a:pt x="0" y="100972"/>
                  <a:pt x="13817" y="119746"/>
                  <a:pt x="30662" y="119746"/>
                </a:cubicBezTo>
                <a:cubicBezTo>
                  <a:pt x="91798" y="119746"/>
                  <a:pt x="91798" y="119746"/>
                  <a:pt x="91798" y="119746"/>
                </a:cubicBezTo>
                <a:cubicBezTo>
                  <a:pt x="105804" y="112135"/>
                  <a:pt x="119810" y="93615"/>
                  <a:pt x="119810" y="74841"/>
                </a:cubicBezTo>
                <a:cubicBezTo>
                  <a:pt x="119810" y="48710"/>
                  <a:pt x="102965" y="26384"/>
                  <a:pt x="86309" y="26384"/>
                </a:cubicBezTo>
                <a:close/>
                <a:moveTo>
                  <a:pt x="91798" y="112135"/>
                </a:moveTo>
                <a:lnTo>
                  <a:pt x="91798" y="112135"/>
                </a:lnTo>
                <a:cubicBezTo>
                  <a:pt x="30662" y="112135"/>
                  <a:pt x="30662" y="112135"/>
                  <a:pt x="30662" y="112135"/>
                </a:cubicBezTo>
                <a:cubicBezTo>
                  <a:pt x="30662" y="112135"/>
                  <a:pt x="8328" y="108583"/>
                  <a:pt x="8328" y="82452"/>
                </a:cubicBezTo>
                <a:cubicBezTo>
                  <a:pt x="8328" y="67484"/>
                  <a:pt x="16656" y="52515"/>
                  <a:pt x="30662" y="52515"/>
                </a:cubicBezTo>
                <a:cubicBezTo>
                  <a:pt x="30662" y="29936"/>
                  <a:pt x="38990" y="11416"/>
                  <a:pt x="55646" y="11416"/>
                </a:cubicBezTo>
                <a:cubicBezTo>
                  <a:pt x="69652" y="11416"/>
                  <a:pt x="77981" y="22579"/>
                  <a:pt x="80630" y="37547"/>
                </a:cubicBezTo>
                <a:cubicBezTo>
                  <a:pt x="97476" y="33742"/>
                  <a:pt x="111293" y="56067"/>
                  <a:pt x="111293" y="71035"/>
                </a:cubicBezTo>
                <a:cubicBezTo>
                  <a:pt x="111293" y="86004"/>
                  <a:pt x="102965" y="104778"/>
                  <a:pt x="91798" y="112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4" name="Shape 4596"/>
          <p:cNvSpPr/>
          <p:nvPr/>
        </p:nvSpPr>
        <p:spPr>
          <a:xfrm>
            <a:off x="9045720" y="452448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5" name="Shape 4597"/>
          <p:cNvSpPr/>
          <p:nvPr/>
        </p:nvSpPr>
        <p:spPr>
          <a:xfrm>
            <a:off x="8550360" y="452448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842" y="47433"/>
                </a:moveTo>
                <a:lnTo>
                  <a:pt x="69842" y="47433"/>
                </a:lnTo>
                <a:cubicBezTo>
                  <a:pt x="33501" y="47433"/>
                  <a:pt x="33501" y="47433"/>
                  <a:pt x="33501" y="47433"/>
                </a:cubicBezTo>
                <a:cubicBezTo>
                  <a:pt x="30662" y="47433"/>
                  <a:pt x="30662" y="47433"/>
                  <a:pt x="30662" y="50267"/>
                </a:cubicBezTo>
                <a:cubicBezTo>
                  <a:pt x="30662" y="52913"/>
                  <a:pt x="30662" y="52913"/>
                  <a:pt x="33501" y="52913"/>
                </a:cubicBezTo>
                <a:cubicBezTo>
                  <a:pt x="69842" y="52913"/>
                  <a:pt x="69842" y="52913"/>
                  <a:pt x="69842" y="52913"/>
                </a:cubicBezTo>
                <a:cubicBezTo>
                  <a:pt x="72492" y="52913"/>
                  <a:pt x="75331" y="52913"/>
                  <a:pt x="75331" y="50267"/>
                </a:cubicBezTo>
                <a:cubicBezTo>
                  <a:pt x="75331" y="47433"/>
                  <a:pt x="72492" y="47433"/>
                  <a:pt x="69842" y="47433"/>
                </a:cubicBezTo>
                <a:close/>
                <a:moveTo>
                  <a:pt x="119810" y="114141"/>
                </a:moveTo>
                <a:lnTo>
                  <a:pt x="119810" y="114141"/>
                </a:lnTo>
                <a:cubicBezTo>
                  <a:pt x="89148" y="83527"/>
                  <a:pt x="89148" y="83527"/>
                  <a:pt x="89148" y="83527"/>
                </a:cubicBezTo>
                <a:cubicBezTo>
                  <a:pt x="94826" y="75212"/>
                  <a:pt x="100315" y="64062"/>
                  <a:pt x="100315" y="50267"/>
                </a:cubicBezTo>
                <a:cubicBezTo>
                  <a:pt x="100315" y="22299"/>
                  <a:pt x="77981" y="0"/>
                  <a:pt x="50157" y="0"/>
                </a:cubicBezTo>
                <a:cubicBezTo>
                  <a:pt x="22334" y="0"/>
                  <a:pt x="0" y="22299"/>
                  <a:pt x="0" y="50267"/>
                </a:cubicBezTo>
                <a:cubicBezTo>
                  <a:pt x="0" y="78047"/>
                  <a:pt x="22334" y="100157"/>
                  <a:pt x="50157" y="100157"/>
                </a:cubicBezTo>
                <a:cubicBezTo>
                  <a:pt x="64164" y="100157"/>
                  <a:pt x="72492" y="94677"/>
                  <a:pt x="83659" y="89196"/>
                </a:cubicBezTo>
                <a:cubicBezTo>
                  <a:pt x="114321" y="119811"/>
                  <a:pt x="114321" y="119811"/>
                  <a:pt x="114321" y="119811"/>
                </a:cubicBezTo>
                <a:cubicBezTo>
                  <a:pt x="114321" y="119811"/>
                  <a:pt x="117160" y="119811"/>
                  <a:pt x="119810" y="119811"/>
                </a:cubicBezTo>
                <a:cubicBezTo>
                  <a:pt x="119810" y="116976"/>
                  <a:pt x="119810" y="114141"/>
                  <a:pt x="119810" y="114141"/>
                </a:cubicBezTo>
                <a:close/>
                <a:moveTo>
                  <a:pt x="50157" y="92031"/>
                </a:moveTo>
                <a:lnTo>
                  <a:pt x="50157" y="92031"/>
                </a:lnTo>
                <a:cubicBezTo>
                  <a:pt x="28012" y="92031"/>
                  <a:pt x="8517" y="72377"/>
                  <a:pt x="8517" y="50267"/>
                </a:cubicBezTo>
                <a:cubicBezTo>
                  <a:pt x="8517" y="27968"/>
                  <a:pt x="28012" y="8503"/>
                  <a:pt x="50157" y="8503"/>
                </a:cubicBezTo>
                <a:cubicBezTo>
                  <a:pt x="75331" y="8503"/>
                  <a:pt x="91987" y="27968"/>
                  <a:pt x="91987" y="50267"/>
                </a:cubicBezTo>
                <a:cubicBezTo>
                  <a:pt x="91987" y="72377"/>
                  <a:pt x="75331" y="92031"/>
                  <a:pt x="50157" y="920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6" name="Shape 4598"/>
          <p:cNvSpPr/>
          <p:nvPr/>
        </p:nvSpPr>
        <p:spPr>
          <a:xfrm>
            <a:off x="8061480" y="452448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7" name="Shape 4599"/>
          <p:cNvSpPr/>
          <p:nvPr/>
        </p:nvSpPr>
        <p:spPr>
          <a:xfrm>
            <a:off x="7575480" y="45244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19806" y="114141"/>
                </a:moveTo>
                <a:lnTo>
                  <a:pt x="119806" y="114141"/>
                </a:lnTo>
                <a:cubicBezTo>
                  <a:pt x="88400" y="83527"/>
                  <a:pt x="88400" y="83527"/>
                  <a:pt x="88400" y="83527"/>
                </a:cubicBezTo>
                <a:cubicBezTo>
                  <a:pt x="96930" y="75212"/>
                  <a:pt x="102746" y="64062"/>
                  <a:pt x="102746" y="50267"/>
                </a:cubicBezTo>
                <a:cubicBezTo>
                  <a:pt x="102746" y="22299"/>
                  <a:pt x="79870" y="0"/>
                  <a:pt x="51373" y="0"/>
                </a:cubicBezTo>
                <a:cubicBezTo>
                  <a:pt x="22875" y="0"/>
                  <a:pt x="0" y="22299"/>
                  <a:pt x="0" y="50267"/>
                </a:cubicBezTo>
                <a:cubicBezTo>
                  <a:pt x="0" y="78047"/>
                  <a:pt x="22875" y="100157"/>
                  <a:pt x="51373" y="100157"/>
                </a:cubicBezTo>
                <a:cubicBezTo>
                  <a:pt x="62810" y="100157"/>
                  <a:pt x="74054" y="94677"/>
                  <a:pt x="82778" y="89196"/>
                </a:cubicBezTo>
                <a:cubicBezTo>
                  <a:pt x="114184" y="119811"/>
                  <a:pt x="114184" y="119811"/>
                  <a:pt x="114184" y="119811"/>
                </a:cubicBezTo>
                <a:cubicBezTo>
                  <a:pt x="116898" y="119811"/>
                  <a:pt x="116898" y="119811"/>
                  <a:pt x="119806" y="119811"/>
                </a:cubicBezTo>
                <a:cubicBezTo>
                  <a:pt x="119806" y="116976"/>
                  <a:pt x="119806" y="114141"/>
                  <a:pt x="119806" y="114141"/>
                </a:cubicBezTo>
                <a:close/>
                <a:moveTo>
                  <a:pt x="51373" y="92031"/>
                </a:moveTo>
                <a:lnTo>
                  <a:pt x="51373" y="92031"/>
                </a:lnTo>
                <a:cubicBezTo>
                  <a:pt x="25589" y="92031"/>
                  <a:pt x="5621" y="72377"/>
                  <a:pt x="5621" y="50267"/>
                </a:cubicBezTo>
                <a:cubicBezTo>
                  <a:pt x="5621" y="27968"/>
                  <a:pt x="25589" y="8503"/>
                  <a:pt x="51373" y="8503"/>
                </a:cubicBezTo>
                <a:cubicBezTo>
                  <a:pt x="74054" y="8503"/>
                  <a:pt x="94216" y="27968"/>
                  <a:pt x="94216" y="50267"/>
                </a:cubicBezTo>
                <a:cubicBezTo>
                  <a:pt x="94216" y="72377"/>
                  <a:pt x="74054" y="92031"/>
                  <a:pt x="51373" y="920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8" name="Shape 4600"/>
          <p:cNvSpPr/>
          <p:nvPr/>
        </p:nvSpPr>
        <p:spPr>
          <a:xfrm>
            <a:off x="7078680" y="452448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79" name="Shape 4601"/>
          <p:cNvSpPr/>
          <p:nvPr/>
        </p:nvSpPr>
        <p:spPr>
          <a:xfrm>
            <a:off x="6593040" y="452448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89148" y="8503"/>
                </a:moveTo>
                <a:lnTo>
                  <a:pt x="89148" y="8503"/>
                </a:lnTo>
                <a:cubicBezTo>
                  <a:pt x="114132" y="8503"/>
                  <a:pt x="114132" y="8503"/>
                  <a:pt x="114132" y="8503"/>
                </a:cubicBezTo>
                <a:cubicBezTo>
                  <a:pt x="116971" y="8503"/>
                  <a:pt x="119810" y="5669"/>
                  <a:pt x="119810" y="5669"/>
                </a:cubicBezTo>
                <a:cubicBezTo>
                  <a:pt x="119810" y="2834"/>
                  <a:pt x="116971" y="0"/>
                  <a:pt x="114132" y="0"/>
                </a:cubicBezTo>
                <a:cubicBezTo>
                  <a:pt x="77981" y="0"/>
                  <a:pt x="77981" y="0"/>
                  <a:pt x="77981" y="0"/>
                </a:cubicBezTo>
                <a:cubicBezTo>
                  <a:pt x="77981" y="0"/>
                  <a:pt x="75141" y="0"/>
                  <a:pt x="75141" y="5669"/>
                </a:cubicBezTo>
                <a:cubicBezTo>
                  <a:pt x="75141" y="41763"/>
                  <a:pt x="75141" y="41763"/>
                  <a:pt x="75141" y="41763"/>
                </a:cubicBezTo>
                <a:cubicBezTo>
                  <a:pt x="75141" y="44598"/>
                  <a:pt x="75141" y="44598"/>
                  <a:pt x="77981" y="44598"/>
                </a:cubicBezTo>
                <a:cubicBezTo>
                  <a:pt x="80630" y="44598"/>
                  <a:pt x="80630" y="44598"/>
                  <a:pt x="80630" y="41763"/>
                </a:cubicBezTo>
                <a:cubicBezTo>
                  <a:pt x="80630" y="13984"/>
                  <a:pt x="80630" y="13984"/>
                  <a:pt x="80630" y="13984"/>
                </a:cubicBezTo>
                <a:cubicBezTo>
                  <a:pt x="100315" y="22299"/>
                  <a:pt x="111293" y="39118"/>
                  <a:pt x="111293" y="61417"/>
                </a:cubicBezTo>
                <a:cubicBezTo>
                  <a:pt x="111293" y="89196"/>
                  <a:pt x="89148" y="111307"/>
                  <a:pt x="58485" y="111307"/>
                </a:cubicBezTo>
                <a:cubicBezTo>
                  <a:pt x="30662" y="111307"/>
                  <a:pt x="8328" y="89196"/>
                  <a:pt x="8328" y="61417"/>
                </a:cubicBezTo>
                <a:cubicBezTo>
                  <a:pt x="8328" y="33448"/>
                  <a:pt x="27823" y="13984"/>
                  <a:pt x="52807" y="8503"/>
                </a:cubicBezTo>
                <a:cubicBezTo>
                  <a:pt x="52807" y="2834"/>
                  <a:pt x="52807" y="2834"/>
                  <a:pt x="52807" y="2834"/>
                </a:cubicBezTo>
                <a:cubicBezTo>
                  <a:pt x="22145" y="5669"/>
                  <a:pt x="0" y="30614"/>
                  <a:pt x="0" y="61417"/>
                </a:cubicBezTo>
                <a:cubicBezTo>
                  <a:pt x="0" y="92031"/>
                  <a:pt x="27823" y="119811"/>
                  <a:pt x="58485" y="119811"/>
                </a:cubicBezTo>
                <a:cubicBezTo>
                  <a:pt x="91798" y="119811"/>
                  <a:pt x="119810" y="92031"/>
                  <a:pt x="119810" y="61417"/>
                </a:cubicBezTo>
                <a:cubicBezTo>
                  <a:pt x="119810" y="39118"/>
                  <a:pt x="105804" y="19653"/>
                  <a:pt x="89148" y="85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0" name="Shape 4602"/>
          <p:cNvSpPr/>
          <p:nvPr/>
        </p:nvSpPr>
        <p:spPr>
          <a:xfrm>
            <a:off x="6102360" y="452448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1" name="Shape 4603"/>
          <p:cNvSpPr/>
          <p:nvPr/>
        </p:nvSpPr>
        <p:spPr>
          <a:xfrm>
            <a:off x="10517040" y="4037040"/>
            <a:ext cx="295560" cy="304920"/>
          </a:xfrm>
          <a:custGeom>
            <a:avLst/>
            <a:gdLst>
              <a:gd name="textAreaLeft" fmla="*/ 0 w 295560"/>
              <a:gd name="textAreaRight" fmla="*/ 295920 w 295560"/>
              <a:gd name="textAreaTop" fmla="*/ 0 h 304920"/>
              <a:gd name="textAreaBottom" fmla="*/ 305280 h 304920"/>
            </a:gdLst>
            <a:ahLst/>
            <a:rect l="textAreaLeft" t="textAreaTop" r="textAreaRight" b="textAreaBottom"/>
            <a:pathLst>
              <a:path w="120000" h="120000">
                <a:moveTo>
                  <a:pt x="82778" y="38990"/>
                </a:moveTo>
                <a:lnTo>
                  <a:pt x="82778" y="38990"/>
                </a:lnTo>
                <a:cubicBezTo>
                  <a:pt x="79870" y="36151"/>
                  <a:pt x="77156" y="36151"/>
                  <a:pt x="77156" y="38990"/>
                </a:cubicBezTo>
                <a:cubicBezTo>
                  <a:pt x="59903" y="52996"/>
                  <a:pt x="59903" y="52996"/>
                  <a:pt x="59903" y="52996"/>
                </a:cubicBezTo>
                <a:cubicBezTo>
                  <a:pt x="42843" y="38990"/>
                  <a:pt x="42843" y="38990"/>
                  <a:pt x="42843" y="38990"/>
                </a:cubicBezTo>
                <a:cubicBezTo>
                  <a:pt x="42843" y="36151"/>
                  <a:pt x="39935" y="36151"/>
                  <a:pt x="37027" y="38990"/>
                </a:cubicBezTo>
                <a:cubicBezTo>
                  <a:pt x="37027" y="38990"/>
                  <a:pt x="37027" y="41829"/>
                  <a:pt x="37027" y="44479"/>
                </a:cubicBezTo>
                <a:cubicBezTo>
                  <a:pt x="54281" y="58485"/>
                  <a:pt x="54281" y="58485"/>
                  <a:pt x="54281" y="58485"/>
                </a:cubicBezTo>
                <a:cubicBezTo>
                  <a:pt x="37027" y="75141"/>
                  <a:pt x="37027" y="75141"/>
                  <a:pt x="37027" y="75141"/>
                </a:cubicBezTo>
                <a:cubicBezTo>
                  <a:pt x="37027" y="77981"/>
                  <a:pt x="37027" y="77981"/>
                  <a:pt x="37027" y="80820"/>
                </a:cubicBezTo>
                <a:cubicBezTo>
                  <a:pt x="39935" y="80820"/>
                  <a:pt x="42843" y="80820"/>
                  <a:pt x="42843" y="80820"/>
                </a:cubicBezTo>
                <a:cubicBezTo>
                  <a:pt x="59903" y="63974"/>
                  <a:pt x="59903" y="63974"/>
                  <a:pt x="59903" y="63974"/>
                </a:cubicBezTo>
                <a:cubicBezTo>
                  <a:pt x="77156" y="80820"/>
                  <a:pt x="77156" y="80820"/>
                  <a:pt x="77156" y="80820"/>
                </a:cubicBezTo>
                <a:cubicBezTo>
                  <a:pt x="77156" y="80820"/>
                  <a:pt x="79870" y="80820"/>
                  <a:pt x="82778" y="80820"/>
                </a:cubicBezTo>
                <a:cubicBezTo>
                  <a:pt x="82778" y="77981"/>
                  <a:pt x="82778" y="77981"/>
                  <a:pt x="82778" y="75141"/>
                </a:cubicBezTo>
                <a:cubicBezTo>
                  <a:pt x="65718" y="58485"/>
                  <a:pt x="65718" y="58485"/>
                  <a:pt x="65718" y="58485"/>
                </a:cubicBezTo>
                <a:cubicBezTo>
                  <a:pt x="82778" y="44479"/>
                  <a:pt x="82778" y="44479"/>
                  <a:pt x="82778" y="44479"/>
                </a:cubicBezTo>
                <a:cubicBezTo>
                  <a:pt x="82778" y="41829"/>
                  <a:pt x="82778" y="38990"/>
                  <a:pt x="82778" y="38990"/>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594" y="8328"/>
                  <a:pt x="114184" y="30662"/>
                  <a:pt x="114184" y="58485"/>
                </a:cubicBezTo>
                <a:cubicBezTo>
                  <a:pt x="114184" y="89148"/>
                  <a:pt x="88594" y="111482"/>
                  <a:pt x="59903"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2" name="Shape 4604"/>
          <p:cNvSpPr/>
          <p:nvPr/>
        </p:nvSpPr>
        <p:spPr>
          <a:xfrm>
            <a:off x="1002348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3" name="Shape 4605"/>
          <p:cNvSpPr/>
          <p:nvPr/>
        </p:nvSpPr>
        <p:spPr>
          <a:xfrm>
            <a:off x="95328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0630" y="55646"/>
                </a:moveTo>
                <a:lnTo>
                  <a:pt x="80630" y="55646"/>
                </a:lnTo>
                <a:cubicBezTo>
                  <a:pt x="63974" y="55646"/>
                  <a:pt x="63974" y="55646"/>
                  <a:pt x="63974" y="55646"/>
                </a:cubicBezTo>
                <a:cubicBezTo>
                  <a:pt x="63974" y="36151"/>
                  <a:pt x="63974" y="36151"/>
                  <a:pt x="63974" y="36151"/>
                </a:cubicBezTo>
                <a:cubicBezTo>
                  <a:pt x="63974" y="36151"/>
                  <a:pt x="61324" y="33312"/>
                  <a:pt x="58485" y="33312"/>
                </a:cubicBezTo>
                <a:lnTo>
                  <a:pt x="55646" y="36151"/>
                </a:lnTo>
                <a:cubicBezTo>
                  <a:pt x="55646" y="55646"/>
                  <a:pt x="55646" y="55646"/>
                  <a:pt x="55646" y="55646"/>
                </a:cubicBezTo>
                <a:cubicBezTo>
                  <a:pt x="36151" y="55646"/>
                  <a:pt x="36151" y="55646"/>
                  <a:pt x="36151" y="55646"/>
                </a:cubicBezTo>
                <a:lnTo>
                  <a:pt x="33312" y="58485"/>
                </a:lnTo>
                <a:cubicBezTo>
                  <a:pt x="33312" y="61324"/>
                  <a:pt x="36151" y="63974"/>
                  <a:pt x="36151" y="63974"/>
                </a:cubicBezTo>
                <a:cubicBezTo>
                  <a:pt x="55646" y="63974"/>
                  <a:pt x="55646" y="63974"/>
                  <a:pt x="55646" y="63974"/>
                </a:cubicBezTo>
                <a:cubicBezTo>
                  <a:pt x="55646" y="80820"/>
                  <a:pt x="55646" y="80820"/>
                  <a:pt x="55646" y="80820"/>
                </a:cubicBezTo>
                <a:cubicBezTo>
                  <a:pt x="55646" y="83659"/>
                  <a:pt x="58485" y="86309"/>
                  <a:pt x="58485" y="86309"/>
                </a:cubicBezTo>
                <a:cubicBezTo>
                  <a:pt x="61324" y="86309"/>
                  <a:pt x="63974" y="83659"/>
                  <a:pt x="63974" y="80820"/>
                </a:cubicBezTo>
                <a:cubicBezTo>
                  <a:pt x="63974" y="63974"/>
                  <a:pt x="63974" y="63974"/>
                  <a:pt x="63974" y="63974"/>
                </a:cubicBezTo>
                <a:cubicBezTo>
                  <a:pt x="80630" y="63974"/>
                  <a:pt x="80630" y="63974"/>
                  <a:pt x="80630" y="63974"/>
                </a:cubicBezTo>
                <a:cubicBezTo>
                  <a:pt x="83659" y="63974"/>
                  <a:pt x="86309" y="61324"/>
                  <a:pt x="86309" y="58485"/>
                </a:cubicBezTo>
                <a:cubicBezTo>
                  <a:pt x="86309" y="58485"/>
                  <a:pt x="83659" y="55646"/>
                  <a:pt x="80630" y="55646"/>
                </a:cubicBez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4" name="Shape 4606"/>
          <p:cNvSpPr/>
          <p:nvPr/>
        </p:nvSpPr>
        <p:spPr>
          <a:xfrm>
            <a:off x="9045720" y="403704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5" name="Shape 4607"/>
          <p:cNvSpPr/>
          <p:nvPr/>
        </p:nvSpPr>
        <p:spPr>
          <a:xfrm>
            <a:off x="8550360" y="403704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4164" y="36151"/>
                </a:moveTo>
                <a:lnTo>
                  <a:pt x="64164" y="36151"/>
                </a:lnTo>
                <a:cubicBezTo>
                  <a:pt x="64164" y="33312"/>
                  <a:pt x="61324" y="33312"/>
                  <a:pt x="61324" y="33312"/>
                </a:cubicBezTo>
                <a:cubicBezTo>
                  <a:pt x="58675" y="33312"/>
                  <a:pt x="58675" y="33312"/>
                  <a:pt x="55835" y="36151"/>
                </a:cubicBezTo>
                <a:cubicBezTo>
                  <a:pt x="36340" y="55646"/>
                  <a:pt x="36340" y="55646"/>
                  <a:pt x="36340" y="55646"/>
                </a:cubicBezTo>
                <a:cubicBezTo>
                  <a:pt x="33501" y="58485"/>
                  <a:pt x="33501" y="61324"/>
                  <a:pt x="36340" y="61324"/>
                </a:cubicBezTo>
                <a:cubicBezTo>
                  <a:pt x="36340" y="63974"/>
                  <a:pt x="39179" y="63974"/>
                  <a:pt x="41829" y="61324"/>
                </a:cubicBezTo>
                <a:cubicBezTo>
                  <a:pt x="55835" y="47318"/>
                  <a:pt x="55835" y="47318"/>
                  <a:pt x="55835" y="47318"/>
                </a:cubicBezTo>
                <a:cubicBezTo>
                  <a:pt x="55835" y="86309"/>
                  <a:pt x="55835" y="86309"/>
                  <a:pt x="55835" y="86309"/>
                </a:cubicBezTo>
                <a:cubicBezTo>
                  <a:pt x="55835" y="86309"/>
                  <a:pt x="58675" y="89148"/>
                  <a:pt x="61324" y="89148"/>
                </a:cubicBezTo>
                <a:lnTo>
                  <a:pt x="64164" y="86309"/>
                </a:lnTo>
                <a:cubicBezTo>
                  <a:pt x="64164" y="47318"/>
                  <a:pt x="64164" y="47318"/>
                  <a:pt x="64164" y="47318"/>
                </a:cubicBezTo>
                <a:cubicBezTo>
                  <a:pt x="77981" y="61324"/>
                  <a:pt x="77981" y="61324"/>
                  <a:pt x="77981" y="61324"/>
                </a:cubicBezTo>
                <a:cubicBezTo>
                  <a:pt x="81009" y="63974"/>
                  <a:pt x="83659" y="63974"/>
                  <a:pt x="83659" y="61324"/>
                </a:cubicBezTo>
                <a:cubicBezTo>
                  <a:pt x="86498" y="61324"/>
                  <a:pt x="86498" y="58485"/>
                  <a:pt x="83659" y="55646"/>
                </a:cubicBezTo>
                <a:lnTo>
                  <a:pt x="64164" y="36151"/>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6" name="Shape 4608"/>
          <p:cNvSpPr/>
          <p:nvPr/>
        </p:nvSpPr>
        <p:spPr>
          <a:xfrm>
            <a:off x="8061480" y="403704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7" name="Shape 4609"/>
          <p:cNvSpPr/>
          <p:nvPr/>
        </p:nvSpPr>
        <p:spPr>
          <a:xfrm>
            <a:off x="7575480" y="4037040"/>
            <a:ext cx="295200" cy="304920"/>
          </a:xfrm>
          <a:custGeom>
            <a:avLst/>
            <a:gdLst>
              <a:gd name="textAreaLeft" fmla="*/ 0 w 295200"/>
              <a:gd name="textAreaRight" fmla="*/ 295560 w 295200"/>
              <a:gd name="textAreaTop" fmla="*/ 0 h 304920"/>
              <a:gd name="textAreaBottom" fmla="*/ 305280 h 304920"/>
            </a:gdLst>
            <a:ahLst/>
            <a:rect l="textAreaLeft" t="textAreaTop" r="textAreaRight" b="textAreaBottom"/>
            <a:pathLst>
              <a:path w="120000" h="120000">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moveTo>
                  <a:pt x="85492" y="55646"/>
                </a:moveTo>
                <a:lnTo>
                  <a:pt x="85492" y="55646"/>
                </a:lnTo>
                <a:cubicBezTo>
                  <a:pt x="45557" y="55646"/>
                  <a:pt x="45557" y="55646"/>
                  <a:pt x="45557" y="55646"/>
                </a:cubicBezTo>
                <a:cubicBezTo>
                  <a:pt x="62810" y="41829"/>
                  <a:pt x="62810" y="41829"/>
                  <a:pt x="62810" y="41829"/>
                </a:cubicBezTo>
                <a:cubicBezTo>
                  <a:pt x="62810" y="38990"/>
                  <a:pt x="62810" y="36151"/>
                  <a:pt x="62810" y="36151"/>
                </a:cubicBezTo>
                <a:cubicBezTo>
                  <a:pt x="59903" y="33312"/>
                  <a:pt x="56995" y="33312"/>
                  <a:pt x="56995" y="36151"/>
                </a:cubicBezTo>
                <a:cubicBezTo>
                  <a:pt x="34313" y="55646"/>
                  <a:pt x="34313" y="55646"/>
                  <a:pt x="34313" y="55646"/>
                </a:cubicBezTo>
                <a:lnTo>
                  <a:pt x="34313" y="58485"/>
                </a:lnTo>
                <a:cubicBezTo>
                  <a:pt x="34313" y="61324"/>
                  <a:pt x="34313" y="61324"/>
                  <a:pt x="34313" y="63974"/>
                </a:cubicBezTo>
                <a:cubicBezTo>
                  <a:pt x="56995" y="83659"/>
                  <a:pt x="56995" y="83659"/>
                  <a:pt x="56995" y="83659"/>
                </a:cubicBezTo>
                <a:cubicBezTo>
                  <a:pt x="56995" y="86309"/>
                  <a:pt x="59903" y="86309"/>
                  <a:pt x="62810" y="83659"/>
                </a:cubicBezTo>
                <a:cubicBezTo>
                  <a:pt x="62810" y="83659"/>
                  <a:pt x="62810" y="80820"/>
                  <a:pt x="62810" y="77981"/>
                </a:cubicBezTo>
                <a:cubicBezTo>
                  <a:pt x="45557" y="63974"/>
                  <a:pt x="45557" y="63974"/>
                  <a:pt x="45557" y="63974"/>
                </a:cubicBezTo>
                <a:cubicBezTo>
                  <a:pt x="85492" y="63974"/>
                  <a:pt x="85492" y="63974"/>
                  <a:pt x="85492" y="63974"/>
                </a:cubicBezTo>
                <a:cubicBezTo>
                  <a:pt x="88400" y="63974"/>
                  <a:pt x="91308" y="61324"/>
                  <a:pt x="91308" y="58485"/>
                </a:cubicBezTo>
                <a:cubicBezTo>
                  <a:pt x="91308" y="58485"/>
                  <a:pt x="88400" y="55646"/>
                  <a:pt x="85492" y="5564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8" name="Shape 4610"/>
          <p:cNvSpPr/>
          <p:nvPr/>
        </p:nvSpPr>
        <p:spPr>
          <a:xfrm>
            <a:off x="7078680" y="403704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89" name="Shape 4611"/>
          <p:cNvSpPr/>
          <p:nvPr/>
        </p:nvSpPr>
        <p:spPr>
          <a:xfrm>
            <a:off x="6593040" y="403704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3974" y="41829"/>
                </a:moveTo>
                <a:lnTo>
                  <a:pt x="63974" y="41829"/>
                </a:lnTo>
                <a:cubicBezTo>
                  <a:pt x="61324" y="41829"/>
                  <a:pt x="61324" y="41829"/>
                  <a:pt x="58485" y="41829"/>
                </a:cubicBezTo>
                <a:lnTo>
                  <a:pt x="55646" y="41829"/>
                </a:lnTo>
                <a:cubicBezTo>
                  <a:pt x="27823" y="69652"/>
                  <a:pt x="27823" y="69652"/>
                  <a:pt x="27823" y="69652"/>
                </a:cubicBezTo>
                <a:cubicBezTo>
                  <a:pt x="24984" y="72492"/>
                  <a:pt x="24984" y="75141"/>
                  <a:pt x="27823" y="75141"/>
                </a:cubicBezTo>
                <a:cubicBezTo>
                  <a:pt x="27823" y="77981"/>
                  <a:pt x="30662" y="77981"/>
                  <a:pt x="33312" y="75141"/>
                </a:cubicBezTo>
                <a:cubicBezTo>
                  <a:pt x="58485" y="50157"/>
                  <a:pt x="58485" y="50157"/>
                  <a:pt x="58485" y="50157"/>
                </a:cubicBezTo>
                <a:cubicBezTo>
                  <a:pt x="86309" y="75141"/>
                  <a:pt x="86309" y="75141"/>
                  <a:pt x="86309" y="75141"/>
                </a:cubicBezTo>
                <a:cubicBezTo>
                  <a:pt x="86309" y="77981"/>
                  <a:pt x="89148" y="77981"/>
                  <a:pt x="91798" y="75141"/>
                </a:cubicBezTo>
                <a:cubicBezTo>
                  <a:pt x="91798" y="75141"/>
                  <a:pt x="91798" y="72492"/>
                  <a:pt x="91798" y="69652"/>
                </a:cubicBezTo>
                <a:lnTo>
                  <a:pt x="63974" y="41829"/>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0" name="Shape 4612"/>
          <p:cNvSpPr/>
          <p:nvPr/>
        </p:nvSpPr>
        <p:spPr>
          <a:xfrm>
            <a:off x="610236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1" name="Shape 4613"/>
          <p:cNvSpPr/>
          <p:nvPr/>
        </p:nvSpPr>
        <p:spPr>
          <a:xfrm>
            <a:off x="10517040" y="3546360"/>
            <a:ext cx="295560" cy="298440"/>
          </a:xfrm>
          <a:custGeom>
            <a:avLst/>
            <a:gdLst>
              <a:gd name="textAreaLeft" fmla="*/ 0 w 295560"/>
              <a:gd name="textAreaRight" fmla="*/ 295920 w 295560"/>
              <a:gd name="textAreaTop" fmla="*/ 0 h 298440"/>
              <a:gd name="textAreaBottom" fmla="*/ 298800 h 298440"/>
            </a:gdLst>
            <a:ahLst/>
            <a:rect l="textAreaLeft" t="textAreaTop" r="textAreaRight" b="textAreaBottom"/>
            <a:pathLst>
              <a:path w="120000" h="120000">
                <a:moveTo>
                  <a:pt x="77156" y="28497"/>
                </a:moveTo>
                <a:lnTo>
                  <a:pt x="77156" y="28497"/>
                </a:lnTo>
                <a:cubicBezTo>
                  <a:pt x="77156" y="25589"/>
                  <a:pt x="74248" y="25589"/>
                  <a:pt x="71340" y="28497"/>
                </a:cubicBezTo>
                <a:cubicBezTo>
                  <a:pt x="42843" y="56995"/>
                  <a:pt x="42843" y="56995"/>
                  <a:pt x="42843" y="56995"/>
                </a:cubicBezTo>
                <a:lnTo>
                  <a:pt x="42843" y="59903"/>
                </a:lnTo>
                <a:lnTo>
                  <a:pt x="42843" y="62810"/>
                </a:lnTo>
                <a:cubicBezTo>
                  <a:pt x="71340" y="91308"/>
                  <a:pt x="71340" y="91308"/>
                  <a:pt x="71340" y="91308"/>
                </a:cubicBezTo>
                <a:cubicBezTo>
                  <a:pt x="74248" y="94216"/>
                  <a:pt x="77156" y="94216"/>
                  <a:pt x="77156" y="91308"/>
                </a:cubicBezTo>
                <a:cubicBezTo>
                  <a:pt x="79870" y="91308"/>
                  <a:pt x="79870" y="88594"/>
                  <a:pt x="77156" y="85492"/>
                </a:cubicBezTo>
                <a:cubicBezTo>
                  <a:pt x="51373" y="59903"/>
                  <a:pt x="51373" y="59903"/>
                  <a:pt x="51373" y="59903"/>
                </a:cubicBezTo>
                <a:cubicBezTo>
                  <a:pt x="77156" y="34313"/>
                  <a:pt x="77156" y="34313"/>
                  <a:pt x="77156" y="34313"/>
                </a:cubicBezTo>
                <a:cubicBezTo>
                  <a:pt x="79870" y="31405"/>
                  <a:pt x="79870" y="28497"/>
                  <a:pt x="77156" y="28497"/>
                </a:cubicBezTo>
                <a:close/>
                <a:moveTo>
                  <a:pt x="59903" y="0"/>
                </a:moveTo>
                <a:lnTo>
                  <a:pt x="59903" y="0"/>
                </a:lnTo>
                <a:cubicBezTo>
                  <a:pt x="25589" y="0"/>
                  <a:pt x="0" y="25589"/>
                  <a:pt x="0" y="59903"/>
                </a:cubicBezTo>
                <a:cubicBezTo>
                  <a:pt x="0" y="94216"/>
                  <a:pt x="25589" y="119806"/>
                  <a:pt x="59903" y="119806"/>
                </a:cubicBezTo>
                <a:cubicBezTo>
                  <a:pt x="94216" y="119806"/>
                  <a:pt x="119806" y="94216"/>
                  <a:pt x="119806" y="59903"/>
                </a:cubicBezTo>
                <a:cubicBezTo>
                  <a:pt x="119806" y="25589"/>
                  <a:pt x="94216" y="0"/>
                  <a:pt x="59903" y="0"/>
                </a:cubicBezTo>
                <a:close/>
                <a:moveTo>
                  <a:pt x="59903" y="114184"/>
                </a:moveTo>
                <a:lnTo>
                  <a:pt x="59903" y="114184"/>
                </a:lnTo>
                <a:cubicBezTo>
                  <a:pt x="31405" y="114184"/>
                  <a:pt x="5621" y="88594"/>
                  <a:pt x="5621" y="59903"/>
                </a:cubicBezTo>
                <a:cubicBezTo>
                  <a:pt x="5621" y="31405"/>
                  <a:pt x="31405" y="5621"/>
                  <a:pt x="59903" y="5621"/>
                </a:cubicBezTo>
                <a:cubicBezTo>
                  <a:pt x="88594" y="5621"/>
                  <a:pt x="114184" y="31405"/>
                  <a:pt x="114184" y="59903"/>
                </a:cubicBezTo>
                <a:cubicBezTo>
                  <a:pt x="114184" y="88594"/>
                  <a:pt x="88594" y="114184"/>
                  <a:pt x="59903" y="1141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2" name="Shape 4614"/>
          <p:cNvSpPr/>
          <p:nvPr/>
        </p:nvSpPr>
        <p:spPr>
          <a:xfrm>
            <a:off x="1002348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3" name="Shape 4615"/>
          <p:cNvSpPr/>
          <p:nvPr/>
        </p:nvSpPr>
        <p:spPr>
          <a:xfrm>
            <a:off x="9553680" y="3576600"/>
            <a:ext cx="249120" cy="249120"/>
          </a:xfrm>
          <a:custGeom>
            <a:avLst/>
            <a:gdLst>
              <a:gd name="textAreaLeft" fmla="*/ 0 w 249120"/>
              <a:gd name="textAreaRight" fmla="*/ 249480 w 249120"/>
              <a:gd name="textAreaTop" fmla="*/ 0 h 249120"/>
              <a:gd name="textAreaBottom" fmla="*/ 249480 h 249120"/>
            </a:gdLst>
            <a:ahLst/>
            <a:rect l="textAreaLeft" t="textAreaTop" r="textAreaRight" b="textAreaBottom"/>
            <a:pathLst>
              <a:path w="120000" h="120000">
                <a:moveTo>
                  <a:pt x="85581" y="61627"/>
                </a:moveTo>
                <a:lnTo>
                  <a:pt x="85581" y="61627"/>
                </a:lnTo>
                <a:cubicBezTo>
                  <a:pt x="113023" y="34186"/>
                  <a:pt x="113023" y="34186"/>
                  <a:pt x="113023" y="34186"/>
                </a:cubicBezTo>
                <a:cubicBezTo>
                  <a:pt x="119767" y="27441"/>
                  <a:pt x="119767" y="16976"/>
                  <a:pt x="113023" y="10232"/>
                </a:cubicBezTo>
                <a:cubicBezTo>
                  <a:pt x="106046" y="0"/>
                  <a:pt x="92558" y="0"/>
                  <a:pt x="85581" y="10232"/>
                </a:cubicBezTo>
                <a:cubicBezTo>
                  <a:pt x="61627" y="34186"/>
                  <a:pt x="61627" y="34186"/>
                  <a:pt x="61627" y="34186"/>
                </a:cubicBezTo>
                <a:cubicBezTo>
                  <a:pt x="34186" y="10232"/>
                  <a:pt x="34186" y="10232"/>
                  <a:pt x="34186" y="10232"/>
                </a:cubicBezTo>
                <a:cubicBezTo>
                  <a:pt x="27441" y="0"/>
                  <a:pt x="16976" y="0"/>
                  <a:pt x="10232" y="10232"/>
                </a:cubicBezTo>
                <a:cubicBezTo>
                  <a:pt x="0" y="16976"/>
                  <a:pt x="0" y="27441"/>
                  <a:pt x="10232" y="34186"/>
                </a:cubicBezTo>
                <a:cubicBezTo>
                  <a:pt x="34186" y="61627"/>
                  <a:pt x="34186" y="61627"/>
                  <a:pt x="34186" y="61627"/>
                </a:cubicBezTo>
                <a:cubicBezTo>
                  <a:pt x="10232" y="85581"/>
                  <a:pt x="10232" y="85581"/>
                  <a:pt x="10232" y="85581"/>
                </a:cubicBezTo>
                <a:cubicBezTo>
                  <a:pt x="0" y="92558"/>
                  <a:pt x="0" y="106046"/>
                  <a:pt x="10232" y="113023"/>
                </a:cubicBezTo>
                <a:cubicBezTo>
                  <a:pt x="16976" y="119767"/>
                  <a:pt x="27441" y="119767"/>
                  <a:pt x="34186" y="113023"/>
                </a:cubicBezTo>
                <a:cubicBezTo>
                  <a:pt x="61627" y="85581"/>
                  <a:pt x="61627" y="85581"/>
                  <a:pt x="61627" y="85581"/>
                </a:cubicBezTo>
                <a:cubicBezTo>
                  <a:pt x="85581" y="113023"/>
                  <a:pt x="85581" y="113023"/>
                  <a:pt x="85581" y="113023"/>
                </a:cubicBezTo>
                <a:cubicBezTo>
                  <a:pt x="92558" y="119767"/>
                  <a:pt x="106046" y="119767"/>
                  <a:pt x="113023" y="113023"/>
                </a:cubicBezTo>
                <a:cubicBezTo>
                  <a:pt x="119767" y="106046"/>
                  <a:pt x="119767" y="92558"/>
                  <a:pt x="113023" y="85581"/>
                </a:cubicBezTo>
                <a:lnTo>
                  <a:pt x="85581" y="61627"/>
                </a:lnTo>
                <a:close/>
                <a:moveTo>
                  <a:pt x="106046" y="106046"/>
                </a:moveTo>
                <a:lnTo>
                  <a:pt x="106046" y="106046"/>
                </a:lnTo>
                <a:cubicBezTo>
                  <a:pt x="102558" y="109534"/>
                  <a:pt x="95813" y="109534"/>
                  <a:pt x="92558" y="106046"/>
                </a:cubicBezTo>
                <a:cubicBezTo>
                  <a:pt x="61627" y="71860"/>
                  <a:pt x="61627" y="71860"/>
                  <a:pt x="61627" y="71860"/>
                </a:cubicBezTo>
                <a:cubicBezTo>
                  <a:pt x="27441" y="106046"/>
                  <a:pt x="27441" y="106046"/>
                  <a:pt x="27441" y="106046"/>
                </a:cubicBezTo>
                <a:cubicBezTo>
                  <a:pt x="23953" y="109534"/>
                  <a:pt x="16976" y="109534"/>
                  <a:pt x="13720" y="106046"/>
                </a:cubicBezTo>
                <a:cubicBezTo>
                  <a:pt x="10232" y="102558"/>
                  <a:pt x="10232" y="95813"/>
                  <a:pt x="13720" y="92558"/>
                </a:cubicBezTo>
                <a:cubicBezTo>
                  <a:pt x="47906" y="61627"/>
                  <a:pt x="47906" y="61627"/>
                  <a:pt x="47906" y="61627"/>
                </a:cubicBezTo>
                <a:cubicBezTo>
                  <a:pt x="13720" y="27441"/>
                  <a:pt x="13720" y="27441"/>
                  <a:pt x="13720" y="27441"/>
                </a:cubicBezTo>
                <a:cubicBezTo>
                  <a:pt x="10232" y="23953"/>
                  <a:pt x="10232" y="16976"/>
                  <a:pt x="13720" y="13720"/>
                </a:cubicBezTo>
                <a:cubicBezTo>
                  <a:pt x="16976" y="10232"/>
                  <a:pt x="23953" y="10232"/>
                  <a:pt x="27441" y="13720"/>
                </a:cubicBezTo>
                <a:cubicBezTo>
                  <a:pt x="61627" y="47906"/>
                  <a:pt x="61627" y="47906"/>
                  <a:pt x="61627" y="47906"/>
                </a:cubicBezTo>
                <a:cubicBezTo>
                  <a:pt x="92558" y="13720"/>
                  <a:pt x="92558" y="13720"/>
                  <a:pt x="92558" y="13720"/>
                </a:cubicBezTo>
                <a:cubicBezTo>
                  <a:pt x="95813" y="10232"/>
                  <a:pt x="102558" y="10232"/>
                  <a:pt x="106046" y="13720"/>
                </a:cubicBezTo>
                <a:cubicBezTo>
                  <a:pt x="109534" y="16976"/>
                  <a:pt x="109534" y="23953"/>
                  <a:pt x="106046" y="27441"/>
                </a:cubicBezTo>
                <a:cubicBezTo>
                  <a:pt x="71860" y="61627"/>
                  <a:pt x="71860" y="61627"/>
                  <a:pt x="71860" y="61627"/>
                </a:cubicBezTo>
                <a:cubicBezTo>
                  <a:pt x="106046" y="92558"/>
                  <a:pt x="106046" y="92558"/>
                  <a:pt x="106046" y="92558"/>
                </a:cubicBezTo>
                <a:cubicBezTo>
                  <a:pt x="109534" y="95813"/>
                  <a:pt x="109534" y="102558"/>
                  <a:pt x="106046" y="10604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4" name="Shape 4616"/>
          <p:cNvSpPr/>
          <p:nvPr/>
        </p:nvSpPr>
        <p:spPr>
          <a:xfrm>
            <a:off x="904572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5" name="Shape 4617"/>
          <p:cNvSpPr/>
          <p:nvPr/>
        </p:nvSpPr>
        <p:spPr>
          <a:xfrm>
            <a:off x="8550360" y="354636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05993" y="45751"/>
                </a:moveTo>
                <a:lnTo>
                  <a:pt x="105993" y="45751"/>
                </a:lnTo>
                <a:cubicBezTo>
                  <a:pt x="75331" y="45751"/>
                  <a:pt x="75331" y="45751"/>
                  <a:pt x="75331" y="45751"/>
                </a:cubicBezTo>
                <a:cubicBezTo>
                  <a:pt x="75331" y="14345"/>
                  <a:pt x="75331" y="14345"/>
                  <a:pt x="75331" y="14345"/>
                </a:cubicBezTo>
                <a:cubicBezTo>
                  <a:pt x="75331" y="5621"/>
                  <a:pt x="69842" y="0"/>
                  <a:pt x="61324" y="0"/>
                </a:cubicBezTo>
                <a:cubicBezTo>
                  <a:pt x="52996" y="0"/>
                  <a:pt x="44668" y="5621"/>
                  <a:pt x="44668" y="14345"/>
                </a:cubicBezTo>
                <a:cubicBezTo>
                  <a:pt x="44668" y="45751"/>
                  <a:pt x="44668" y="45751"/>
                  <a:pt x="44668" y="45751"/>
                </a:cubicBezTo>
                <a:cubicBezTo>
                  <a:pt x="16845" y="45751"/>
                  <a:pt x="16845" y="45751"/>
                  <a:pt x="16845" y="45751"/>
                </a:cubicBezTo>
                <a:cubicBezTo>
                  <a:pt x="8517" y="45751"/>
                  <a:pt x="0" y="51373"/>
                  <a:pt x="0" y="59903"/>
                </a:cubicBezTo>
                <a:cubicBezTo>
                  <a:pt x="0" y="68432"/>
                  <a:pt x="8517" y="74248"/>
                  <a:pt x="16845" y="74248"/>
                </a:cubicBezTo>
                <a:cubicBezTo>
                  <a:pt x="44668" y="74248"/>
                  <a:pt x="44668" y="74248"/>
                  <a:pt x="44668" y="74248"/>
                </a:cubicBezTo>
                <a:cubicBezTo>
                  <a:pt x="44668" y="105654"/>
                  <a:pt x="44668" y="105654"/>
                  <a:pt x="44668" y="105654"/>
                </a:cubicBezTo>
                <a:cubicBezTo>
                  <a:pt x="44668" y="114184"/>
                  <a:pt x="52996" y="119806"/>
                  <a:pt x="61324" y="119806"/>
                </a:cubicBezTo>
                <a:cubicBezTo>
                  <a:pt x="69842" y="119806"/>
                  <a:pt x="75331" y="114184"/>
                  <a:pt x="75331" y="105654"/>
                </a:cubicBezTo>
                <a:cubicBezTo>
                  <a:pt x="75331" y="74248"/>
                  <a:pt x="75331" y="74248"/>
                  <a:pt x="75331" y="74248"/>
                </a:cubicBezTo>
                <a:cubicBezTo>
                  <a:pt x="105993" y="74248"/>
                  <a:pt x="105993" y="74248"/>
                  <a:pt x="105993" y="74248"/>
                </a:cubicBezTo>
                <a:cubicBezTo>
                  <a:pt x="114321" y="74248"/>
                  <a:pt x="119810" y="68432"/>
                  <a:pt x="119810" y="59903"/>
                </a:cubicBezTo>
                <a:cubicBezTo>
                  <a:pt x="119810" y="51373"/>
                  <a:pt x="114321" y="45751"/>
                  <a:pt x="105993" y="45751"/>
                </a:cubicBezTo>
                <a:close/>
                <a:moveTo>
                  <a:pt x="105993" y="68432"/>
                </a:moveTo>
                <a:lnTo>
                  <a:pt x="105993" y="68432"/>
                </a:lnTo>
                <a:cubicBezTo>
                  <a:pt x="67003" y="68432"/>
                  <a:pt x="67003" y="68432"/>
                  <a:pt x="67003" y="68432"/>
                </a:cubicBezTo>
                <a:cubicBezTo>
                  <a:pt x="67003" y="105654"/>
                  <a:pt x="67003" y="105654"/>
                  <a:pt x="67003" y="105654"/>
                </a:cubicBezTo>
                <a:cubicBezTo>
                  <a:pt x="67003" y="108368"/>
                  <a:pt x="64164" y="114184"/>
                  <a:pt x="61324" y="114184"/>
                </a:cubicBezTo>
                <a:cubicBezTo>
                  <a:pt x="55835" y="114184"/>
                  <a:pt x="52996" y="108368"/>
                  <a:pt x="52996" y="105654"/>
                </a:cubicBezTo>
                <a:cubicBezTo>
                  <a:pt x="52996" y="68432"/>
                  <a:pt x="52996" y="68432"/>
                  <a:pt x="52996" y="68432"/>
                </a:cubicBezTo>
                <a:cubicBezTo>
                  <a:pt x="16845" y="68432"/>
                  <a:pt x="16845" y="68432"/>
                  <a:pt x="16845" y="68432"/>
                </a:cubicBezTo>
                <a:cubicBezTo>
                  <a:pt x="11167" y="68432"/>
                  <a:pt x="8517" y="62810"/>
                  <a:pt x="8517" y="59903"/>
                </a:cubicBezTo>
                <a:cubicBezTo>
                  <a:pt x="8517" y="56995"/>
                  <a:pt x="11167" y="51373"/>
                  <a:pt x="16845" y="51373"/>
                </a:cubicBezTo>
                <a:cubicBezTo>
                  <a:pt x="52996" y="51373"/>
                  <a:pt x="52996" y="51373"/>
                  <a:pt x="52996" y="51373"/>
                </a:cubicBezTo>
                <a:cubicBezTo>
                  <a:pt x="52996" y="14345"/>
                  <a:pt x="52996" y="14345"/>
                  <a:pt x="52996" y="14345"/>
                </a:cubicBezTo>
                <a:cubicBezTo>
                  <a:pt x="52996" y="11437"/>
                  <a:pt x="55835" y="5621"/>
                  <a:pt x="61324" y="5621"/>
                </a:cubicBezTo>
                <a:cubicBezTo>
                  <a:pt x="64164" y="5621"/>
                  <a:pt x="67003" y="11437"/>
                  <a:pt x="67003" y="14345"/>
                </a:cubicBezTo>
                <a:cubicBezTo>
                  <a:pt x="67003" y="51373"/>
                  <a:pt x="67003" y="51373"/>
                  <a:pt x="67003" y="51373"/>
                </a:cubicBezTo>
                <a:cubicBezTo>
                  <a:pt x="105993" y="51373"/>
                  <a:pt x="105993" y="51373"/>
                  <a:pt x="105993" y="51373"/>
                </a:cubicBezTo>
                <a:cubicBezTo>
                  <a:pt x="108832" y="51373"/>
                  <a:pt x="111482" y="56995"/>
                  <a:pt x="111482" y="59903"/>
                </a:cubicBezTo>
                <a:cubicBezTo>
                  <a:pt x="111482" y="62810"/>
                  <a:pt x="108832" y="68432"/>
                  <a:pt x="105993" y="684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6" name="Shape 4618"/>
          <p:cNvSpPr/>
          <p:nvPr/>
        </p:nvSpPr>
        <p:spPr>
          <a:xfrm>
            <a:off x="806148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7" name="Shape 4619"/>
          <p:cNvSpPr/>
          <p:nvPr/>
        </p:nvSpPr>
        <p:spPr>
          <a:xfrm>
            <a:off x="7575480" y="3546360"/>
            <a:ext cx="295200" cy="298440"/>
          </a:xfrm>
          <a:custGeom>
            <a:avLst/>
            <a:gdLst>
              <a:gd name="textAreaLeft" fmla="*/ 0 w 295200"/>
              <a:gd name="textAreaRight" fmla="*/ 295560 w 295200"/>
              <a:gd name="textAreaTop" fmla="*/ 0 h 298440"/>
              <a:gd name="textAreaBottom" fmla="*/ 298800 h 298440"/>
            </a:gdLst>
            <a:ahLst/>
            <a:rect l="textAreaLeft" t="textAreaTop" r="textAreaRight" b="textAreaBottom"/>
            <a:pathLst>
              <a:path w="120000" h="120000">
                <a:moveTo>
                  <a:pt x="82778" y="34313"/>
                </a:moveTo>
                <a:lnTo>
                  <a:pt x="82778" y="34313"/>
                </a:lnTo>
                <a:cubicBezTo>
                  <a:pt x="79870" y="31405"/>
                  <a:pt x="79870" y="34313"/>
                  <a:pt x="77156" y="34313"/>
                </a:cubicBezTo>
                <a:cubicBezTo>
                  <a:pt x="54281" y="77156"/>
                  <a:pt x="54281" y="77156"/>
                  <a:pt x="54281" y="77156"/>
                </a:cubicBezTo>
                <a:cubicBezTo>
                  <a:pt x="39935" y="65718"/>
                  <a:pt x="39935" y="65718"/>
                  <a:pt x="39935" y="65718"/>
                </a:cubicBezTo>
                <a:cubicBezTo>
                  <a:pt x="37027" y="62810"/>
                  <a:pt x="37027" y="62810"/>
                  <a:pt x="34313" y="65718"/>
                </a:cubicBezTo>
                <a:cubicBezTo>
                  <a:pt x="31405" y="65718"/>
                  <a:pt x="31405" y="68432"/>
                  <a:pt x="34313" y="68432"/>
                </a:cubicBezTo>
                <a:cubicBezTo>
                  <a:pt x="51373" y="85492"/>
                  <a:pt x="51373" y="85492"/>
                  <a:pt x="51373" y="85492"/>
                </a:cubicBezTo>
                <a:cubicBezTo>
                  <a:pt x="54281" y="88594"/>
                  <a:pt x="54281" y="88594"/>
                  <a:pt x="56995" y="85492"/>
                </a:cubicBezTo>
                <a:lnTo>
                  <a:pt x="85492" y="39935"/>
                </a:lnTo>
                <a:cubicBezTo>
                  <a:pt x="85492" y="37027"/>
                  <a:pt x="85492" y="34313"/>
                  <a:pt x="82778" y="34313"/>
                </a:cubicBezTo>
                <a:close/>
                <a:moveTo>
                  <a:pt x="105654" y="0"/>
                </a:moveTo>
                <a:lnTo>
                  <a:pt x="105654"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654" y="119806"/>
                  <a:pt x="105654" y="119806"/>
                  <a:pt x="105654" y="119806"/>
                </a:cubicBezTo>
                <a:cubicBezTo>
                  <a:pt x="114184" y="119806"/>
                  <a:pt x="119806" y="114184"/>
                  <a:pt x="119806" y="105654"/>
                </a:cubicBezTo>
                <a:cubicBezTo>
                  <a:pt x="119806" y="14345"/>
                  <a:pt x="119806" y="14345"/>
                  <a:pt x="119806" y="14345"/>
                </a:cubicBezTo>
                <a:cubicBezTo>
                  <a:pt x="119806" y="5621"/>
                  <a:pt x="114184" y="0"/>
                  <a:pt x="105654" y="0"/>
                </a:cubicBezTo>
                <a:close/>
                <a:moveTo>
                  <a:pt x="114184" y="105654"/>
                </a:moveTo>
                <a:lnTo>
                  <a:pt x="114184" y="105654"/>
                </a:lnTo>
                <a:cubicBezTo>
                  <a:pt x="114184" y="108368"/>
                  <a:pt x="108368" y="114184"/>
                  <a:pt x="105654"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654" y="5621"/>
                  <a:pt x="105654" y="5621"/>
                  <a:pt x="105654" y="5621"/>
                </a:cubicBezTo>
                <a:cubicBezTo>
                  <a:pt x="108368" y="5621"/>
                  <a:pt x="114184" y="11437"/>
                  <a:pt x="114184" y="14345"/>
                </a:cubicBezTo>
                <a:lnTo>
                  <a:pt x="114184" y="10565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8" name="Shape 4620"/>
          <p:cNvSpPr/>
          <p:nvPr/>
        </p:nvSpPr>
        <p:spPr>
          <a:xfrm>
            <a:off x="707868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9" name="Shape 4621"/>
          <p:cNvSpPr/>
          <p:nvPr/>
        </p:nvSpPr>
        <p:spPr>
          <a:xfrm>
            <a:off x="6593040" y="354636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02965" y="0"/>
                </a:moveTo>
                <a:lnTo>
                  <a:pt x="102965" y="0"/>
                </a:lnTo>
                <a:cubicBezTo>
                  <a:pt x="13817" y="0"/>
                  <a:pt x="13817" y="0"/>
                  <a:pt x="13817" y="0"/>
                </a:cubicBezTo>
                <a:cubicBezTo>
                  <a:pt x="5488" y="0"/>
                  <a:pt x="0" y="5621"/>
                  <a:pt x="0" y="14345"/>
                </a:cubicBezTo>
                <a:cubicBezTo>
                  <a:pt x="0" y="105654"/>
                  <a:pt x="0" y="105654"/>
                  <a:pt x="0" y="105654"/>
                </a:cubicBezTo>
                <a:cubicBezTo>
                  <a:pt x="0" y="114184"/>
                  <a:pt x="5488" y="119806"/>
                  <a:pt x="13817" y="119806"/>
                </a:cubicBezTo>
                <a:cubicBezTo>
                  <a:pt x="102965" y="119806"/>
                  <a:pt x="102965" y="119806"/>
                  <a:pt x="102965" y="119806"/>
                </a:cubicBezTo>
                <a:cubicBezTo>
                  <a:pt x="111293" y="119806"/>
                  <a:pt x="119810" y="114184"/>
                  <a:pt x="119810" y="105654"/>
                </a:cubicBezTo>
                <a:cubicBezTo>
                  <a:pt x="119810" y="14345"/>
                  <a:pt x="119810" y="14345"/>
                  <a:pt x="119810" y="14345"/>
                </a:cubicBezTo>
                <a:cubicBezTo>
                  <a:pt x="119810" y="5621"/>
                  <a:pt x="111293" y="0"/>
                  <a:pt x="102965" y="0"/>
                </a:cubicBezTo>
                <a:close/>
                <a:moveTo>
                  <a:pt x="111293" y="105654"/>
                </a:moveTo>
                <a:lnTo>
                  <a:pt x="111293" y="105654"/>
                </a:lnTo>
                <a:cubicBezTo>
                  <a:pt x="111293" y="108368"/>
                  <a:pt x="108643" y="114184"/>
                  <a:pt x="102965" y="114184"/>
                </a:cubicBezTo>
                <a:cubicBezTo>
                  <a:pt x="13817" y="114184"/>
                  <a:pt x="13817" y="114184"/>
                  <a:pt x="13817" y="114184"/>
                </a:cubicBezTo>
                <a:cubicBezTo>
                  <a:pt x="10977" y="114184"/>
                  <a:pt x="8328" y="108368"/>
                  <a:pt x="8328" y="105654"/>
                </a:cubicBezTo>
                <a:cubicBezTo>
                  <a:pt x="8328" y="14345"/>
                  <a:pt x="8328" y="14345"/>
                  <a:pt x="8328" y="14345"/>
                </a:cubicBezTo>
                <a:cubicBezTo>
                  <a:pt x="8328" y="11437"/>
                  <a:pt x="10977" y="5621"/>
                  <a:pt x="13817" y="5621"/>
                </a:cubicBezTo>
                <a:cubicBezTo>
                  <a:pt x="102965" y="5621"/>
                  <a:pt x="102965" y="5621"/>
                  <a:pt x="102965" y="5621"/>
                </a:cubicBezTo>
                <a:cubicBezTo>
                  <a:pt x="108643" y="5621"/>
                  <a:pt x="111293" y="11437"/>
                  <a:pt x="111293" y="14345"/>
                </a:cubicBezTo>
                <a:lnTo>
                  <a:pt x="111293" y="105654"/>
                </a:lnTo>
                <a:close/>
                <a:moveTo>
                  <a:pt x="80630" y="56995"/>
                </a:moveTo>
                <a:lnTo>
                  <a:pt x="80630" y="56995"/>
                </a:lnTo>
                <a:cubicBezTo>
                  <a:pt x="36151" y="56995"/>
                  <a:pt x="36151" y="56995"/>
                  <a:pt x="36151" y="56995"/>
                </a:cubicBezTo>
                <a:cubicBezTo>
                  <a:pt x="36151" y="56995"/>
                  <a:pt x="33312" y="56995"/>
                  <a:pt x="33312" y="59903"/>
                </a:cubicBezTo>
                <a:cubicBezTo>
                  <a:pt x="33312" y="62810"/>
                  <a:pt x="36151" y="62810"/>
                  <a:pt x="36151" y="62810"/>
                </a:cubicBezTo>
                <a:cubicBezTo>
                  <a:pt x="80630" y="62810"/>
                  <a:pt x="80630" y="62810"/>
                  <a:pt x="80630" y="62810"/>
                </a:cubicBezTo>
                <a:cubicBezTo>
                  <a:pt x="83470" y="62810"/>
                  <a:pt x="86309" y="62810"/>
                  <a:pt x="86309" y="59903"/>
                </a:cubicBezTo>
                <a:cubicBezTo>
                  <a:pt x="86309" y="56995"/>
                  <a:pt x="83470" y="56995"/>
                  <a:pt x="80630" y="5699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0" name="Shape 4622"/>
          <p:cNvSpPr/>
          <p:nvPr/>
        </p:nvSpPr>
        <p:spPr>
          <a:xfrm>
            <a:off x="610236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1" name="Shape 4623"/>
          <p:cNvSpPr/>
          <p:nvPr/>
        </p:nvSpPr>
        <p:spPr>
          <a:xfrm>
            <a:off x="10517040" y="3051000"/>
            <a:ext cx="295560" cy="304920"/>
          </a:xfrm>
          <a:custGeom>
            <a:avLst/>
            <a:gdLst>
              <a:gd name="textAreaLeft" fmla="*/ 0 w 295560"/>
              <a:gd name="textAreaRight" fmla="*/ 295920 w 295560"/>
              <a:gd name="textAreaTop" fmla="*/ 0 h 304920"/>
              <a:gd name="textAreaBottom" fmla="*/ 305280 h 304920"/>
            </a:gdLst>
            <a:ahLst/>
            <a:rect l="textAreaLeft" t="textAreaTop" r="textAreaRight" b="textAreaBottom"/>
            <a:pathLst>
              <a:path w="120000" h="120000">
                <a:moveTo>
                  <a:pt x="79870" y="61324"/>
                </a:moveTo>
                <a:lnTo>
                  <a:pt x="79870" y="61324"/>
                </a:lnTo>
                <a:cubicBezTo>
                  <a:pt x="62810" y="77981"/>
                  <a:pt x="62810" y="77981"/>
                  <a:pt x="62810" y="77981"/>
                </a:cubicBezTo>
                <a:cubicBezTo>
                  <a:pt x="62810" y="39179"/>
                  <a:pt x="62810" y="39179"/>
                  <a:pt x="62810" y="39179"/>
                </a:cubicBezTo>
                <a:cubicBezTo>
                  <a:pt x="62810" y="36340"/>
                  <a:pt x="62810" y="33501"/>
                  <a:pt x="59903" y="33501"/>
                </a:cubicBezTo>
                <a:cubicBezTo>
                  <a:pt x="56995" y="33501"/>
                  <a:pt x="56995" y="36340"/>
                  <a:pt x="56995" y="39179"/>
                </a:cubicBezTo>
                <a:cubicBezTo>
                  <a:pt x="56995" y="77981"/>
                  <a:pt x="56995" y="77981"/>
                  <a:pt x="56995" y="77981"/>
                </a:cubicBezTo>
                <a:cubicBezTo>
                  <a:pt x="39935" y="61324"/>
                  <a:pt x="39935" y="61324"/>
                  <a:pt x="39935" y="61324"/>
                </a:cubicBezTo>
                <a:cubicBezTo>
                  <a:pt x="39935" y="61324"/>
                  <a:pt x="37027" y="61324"/>
                  <a:pt x="34313" y="61324"/>
                </a:cubicBezTo>
                <a:cubicBezTo>
                  <a:pt x="34313" y="64164"/>
                  <a:pt x="34313" y="67003"/>
                  <a:pt x="34313" y="67003"/>
                </a:cubicBezTo>
                <a:cubicBezTo>
                  <a:pt x="56995" y="89148"/>
                  <a:pt x="56995" y="89148"/>
                  <a:pt x="56995" y="89148"/>
                </a:cubicBezTo>
                <a:lnTo>
                  <a:pt x="59903" y="89148"/>
                </a:lnTo>
                <a:lnTo>
                  <a:pt x="62810" y="89148"/>
                </a:lnTo>
                <a:cubicBezTo>
                  <a:pt x="85492" y="67003"/>
                  <a:pt x="85492" y="67003"/>
                  <a:pt x="85492" y="67003"/>
                </a:cubicBezTo>
                <a:cubicBezTo>
                  <a:pt x="85492" y="67003"/>
                  <a:pt x="85492" y="64164"/>
                  <a:pt x="85492" y="61324"/>
                </a:cubicBezTo>
                <a:cubicBezTo>
                  <a:pt x="82778" y="61324"/>
                  <a:pt x="79870" y="61324"/>
                  <a:pt x="79870" y="61324"/>
                </a:cubicBezTo>
                <a:close/>
                <a:moveTo>
                  <a:pt x="105654" y="0"/>
                </a:moveTo>
                <a:lnTo>
                  <a:pt x="105654" y="0"/>
                </a:lnTo>
                <a:cubicBezTo>
                  <a:pt x="14345" y="0"/>
                  <a:pt x="14345" y="0"/>
                  <a:pt x="14345" y="0"/>
                </a:cubicBezTo>
                <a:cubicBezTo>
                  <a:pt x="5621" y="0"/>
                  <a:pt x="0" y="8517"/>
                  <a:pt x="0" y="16845"/>
                </a:cubicBezTo>
                <a:cubicBezTo>
                  <a:pt x="0" y="105993"/>
                  <a:pt x="0" y="105993"/>
                  <a:pt x="0" y="105993"/>
                </a:cubicBezTo>
                <a:cubicBezTo>
                  <a:pt x="0" y="114321"/>
                  <a:pt x="5621" y="119810"/>
                  <a:pt x="14345"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345" y="111482"/>
                  <a:pt x="14345" y="111482"/>
                  <a:pt x="14345" y="111482"/>
                </a:cubicBezTo>
                <a:cubicBezTo>
                  <a:pt x="11437" y="111482"/>
                  <a:pt x="5621" y="108832"/>
                  <a:pt x="5621" y="105993"/>
                </a:cubicBezTo>
                <a:cubicBezTo>
                  <a:pt x="5621" y="16845"/>
                  <a:pt x="5621" y="16845"/>
                  <a:pt x="5621" y="16845"/>
                </a:cubicBezTo>
                <a:cubicBezTo>
                  <a:pt x="5621" y="11167"/>
                  <a:pt x="11437" y="8517"/>
                  <a:pt x="14345" y="8517"/>
                </a:cubicBezTo>
                <a:cubicBezTo>
                  <a:pt x="105654" y="8517"/>
                  <a:pt x="105654" y="8517"/>
                  <a:pt x="105654" y="8517"/>
                </a:cubicBezTo>
                <a:cubicBezTo>
                  <a:pt x="108368" y="8517"/>
                  <a:pt x="114184" y="11167"/>
                  <a:pt x="114184" y="16845"/>
                </a:cubicBezTo>
                <a:lnTo>
                  <a:pt x="114184"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2" name="Shape 4624"/>
          <p:cNvSpPr/>
          <p:nvPr/>
        </p:nvSpPr>
        <p:spPr>
          <a:xfrm>
            <a:off x="1002348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3" name="Shape 4625"/>
          <p:cNvSpPr/>
          <p:nvPr/>
        </p:nvSpPr>
        <p:spPr>
          <a:xfrm>
            <a:off x="95328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6309" y="55835"/>
                </a:moveTo>
                <a:lnTo>
                  <a:pt x="86309" y="55835"/>
                </a:lnTo>
                <a:cubicBezTo>
                  <a:pt x="66813" y="36340"/>
                  <a:pt x="66813" y="36340"/>
                  <a:pt x="66813" y="36340"/>
                </a:cubicBezTo>
                <a:cubicBezTo>
                  <a:pt x="63974" y="33501"/>
                  <a:pt x="61324" y="33501"/>
                  <a:pt x="61324" y="36340"/>
                </a:cubicBezTo>
                <a:cubicBezTo>
                  <a:pt x="58485" y="36340"/>
                  <a:pt x="58485" y="39179"/>
                  <a:pt x="61324" y="41829"/>
                </a:cubicBezTo>
                <a:cubicBezTo>
                  <a:pt x="75141" y="55835"/>
                  <a:pt x="75141" y="55835"/>
                  <a:pt x="75141" y="55835"/>
                </a:cubicBezTo>
                <a:cubicBezTo>
                  <a:pt x="36151" y="55835"/>
                  <a:pt x="36151" y="55835"/>
                  <a:pt x="36151" y="55835"/>
                </a:cubicBezTo>
                <a:cubicBezTo>
                  <a:pt x="36151" y="55835"/>
                  <a:pt x="33312" y="58675"/>
                  <a:pt x="33312" y="61324"/>
                </a:cubicBezTo>
                <a:lnTo>
                  <a:pt x="36151" y="64164"/>
                </a:lnTo>
                <a:cubicBezTo>
                  <a:pt x="75141" y="64164"/>
                  <a:pt x="75141" y="64164"/>
                  <a:pt x="75141" y="64164"/>
                </a:cubicBezTo>
                <a:cubicBezTo>
                  <a:pt x="61324" y="77981"/>
                  <a:pt x="61324" y="77981"/>
                  <a:pt x="61324" y="77981"/>
                </a:cubicBezTo>
                <a:cubicBezTo>
                  <a:pt x="58485" y="81009"/>
                  <a:pt x="58485" y="83659"/>
                  <a:pt x="61324" y="83659"/>
                </a:cubicBezTo>
                <a:cubicBezTo>
                  <a:pt x="61324" y="86498"/>
                  <a:pt x="63974" y="86498"/>
                  <a:pt x="66813" y="83659"/>
                </a:cubicBezTo>
                <a:cubicBezTo>
                  <a:pt x="86309" y="64164"/>
                  <a:pt x="86309" y="64164"/>
                  <a:pt x="86309" y="64164"/>
                </a:cubicBezTo>
                <a:cubicBezTo>
                  <a:pt x="89148" y="64164"/>
                  <a:pt x="89148" y="61324"/>
                  <a:pt x="89148" y="61324"/>
                </a:cubicBezTo>
                <a:cubicBezTo>
                  <a:pt x="89148" y="58675"/>
                  <a:pt x="89148" y="58675"/>
                  <a:pt x="86309" y="55835"/>
                </a:cubicBez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1167" y="111482"/>
                  <a:pt x="8328" y="108832"/>
                  <a:pt x="8328" y="105993"/>
                </a:cubicBezTo>
                <a:cubicBezTo>
                  <a:pt x="8328" y="16845"/>
                  <a:pt x="8328" y="16845"/>
                  <a:pt x="8328" y="16845"/>
                </a:cubicBezTo>
                <a:cubicBezTo>
                  <a:pt x="8328" y="11167"/>
                  <a:pt x="1116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4" name="Shape 4626"/>
          <p:cNvSpPr/>
          <p:nvPr/>
        </p:nvSpPr>
        <p:spPr>
          <a:xfrm>
            <a:off x="904572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5" name="Shape 4627"/>
          <p:cNvSpPr/>
          <p:nvPr/>
        </p:nvSpPr>
        <p:spPr>
          <a:xfrm>
            <a:off x="85503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91987" y="39179"/>
                </a:moveTo>
                <a:lnTo>
                  <a:pt x="91987" y="39179"/>
                </a:lnTo>
                <a:cubicBezTo>
                  <a:pt x="61324" y="69842"/>
                  <a:pt x="61324" y="69842"/>
                  <a:pt x="61324" y="69842"/>
                </a:cubicBezTo>
                <a:cubicBezTo>
                  <a:pt x="30662" y="39179"/>
                  <a:pt x="30662" y="39179"/>
                  <a:pt x="30662" y="39179"/>
                </a:cubicBezTo>
                <a:cubicBezTo>
                  <a:pt x="28012" y="39179"/>
                  <a:pt x="25173" y="39179"/>
                  <a:pt x="25173" y="39179"/>
                </a:cubicBezTo>
                <a:cubicBezTo>
                  <a:pt x="22334" y="41829"/>
                  <a:pt x="22334" y="41829"/>
                  <a:pt x="25173" y="44668"/>
                </a:cubicBezTo>
                <a:cubicBezTo>
                  <a:pt x="58675" y="77981"/>
                  <a:pt x="58675" y="77981"/>
                  <a:pt x="58675" y="77981"/>
                </a:cubicBezTo>
                <a:cubicBezTo>
                  <a:pt x="58675" y="77981"/>
                  <a:pt x="58675" y="77981"/>
                  <a:pt x="61324" y="77981"/>
                </a:cubicBezTo>
                <a:cubicBezTo>
                  <a:pt x="61324" y="77981"/>
                  <a:pt x="61324" y="77981"/>
                  <a:pt x="64164" y="77981"/>
                </a:cubicBezTo>
                <a:cubicBezTo>
                  <a:pt x="97665" y="44668"/>
                  <a:pt x="97665" y="44668"/>
                  <a:pt x="97665" y="44668"/>
                </a:cubicBezTo>
                <a:cubicBezTo>
                  <a:pt x="97665" y="41829"/>
                  <a:pt x="97665" y="41829"/>
                  <a:pt x="97665" y="39179"/>
                </a:cubicBezTo>
                <a:cubicBezTo>
                  <a:pt x="94826" y="39179"/>
                  <a:pt x="91987" y="39179"/>
                  <a:pt x="91987" y="39179"/>
                </a:cubicBez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6" name="Shape 4628"/>
          <p:cNvSpPr/>
          <p:nvPr/>
        </p:nvSpPr>
        <p:spPr>
          <a:xfrm>
            <a:off x="806148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7" name="Shape 4629"/>
          <p:cNvSpPr/>
          <p:nvPr/>
        </p:nvSpPr>
        <p:spPr>
          <a:xfrm>
            <a:off x="7575480" y="3051000"/>
            <a:ext cx="295200" cy="304920"/>
          </a:xfrm>
          <a:custGeom>
            <a:avLst/>
            <a:gdLst>
              <a:gd name="textAreaLeft" fmla="*/ 0 w 295200"/>
              <a:gd name="textAreaRight" fmla="*/ 295560 w 295200"/>
              <a:gd name="textAreaTop" fmla="*/ 0 h 304920"/>
              <a:gd name="textAreaBottom" fmla="*/ 305280 h 304920"/>
            </a:gdLst>
            <a:ahLst/>
            <a:rect l="textAreaLeft" t="textAreaTop" r="textAreaRight" b="textAreaBottom"/>
            <a:pathLst>
              <a:path w="120000" h="120000">
                <a:moveTo>
                  <a:pt x="42843" y="25173"/>
                </a:moveTo>
                <a:lnTo>
                  <a:pt x="42843" y="25173"/>
                </a:lnTo>
                <a:cubicBezTo>
                  <a:pt x="42843" y="22334"/>
                  <a:pt x="39935" y="22334"/>
                  <a:pt x="37027" y="25173"/>
                </a:cubicBezTo>
                <a:cubicBezTo>
                  <a:pt x="37027" y="25173"/>
                  <a:pt x="37027" y="28012"/>
                  <a:pt x="37027" y="30662"/>
                </a:cubicBezTo>
                <a:cubicBezTo>
                  <a:pt x="68432" y="61324"/>
                  <a:pt x="68432" y="61324"/>
                  <a:pt x="68432" y="61324"/>
                </a:cubicBezTo>
                <a:cubicBezTo>
                  <a:pt x="37027" y="91987"/>
                  <a:pt x="37027" y="91987"/>
                  <a:pt x="37027" y="91987"/>
                </a:cubicBezTo>
                <a:cubicBezTo>
                  <a:pt x="37027" y="91987"/>
                  <a:pt x="37027" y="94826"/>
                  <a:pt x="37027" y="97665"/>
                </a:cubicBezTo>
                <a:cubicBezTo>
                  <a:pt x="39935" y="97665"/>
                  <a:pt x="42843" y="97665"/>
                  <a:pt x="42843" y="97665"/>
                </a:cubicBezTo>
                <a:cubicBezTo>
                  <a:pt x="77156" y="64164"/>
                  <a:pt x="77156" y="64164"/>
                  <a:pt x="77156" y="64164"/>
                </a:cubicBezTo>
                <a:cubicBezTo>
                  <a:pt x="79870" y="61324"/>
                  <a:pt x="79870" y="61324"/>
                  <a:pt x="79870" y="61324"/>
                </a:cubicBezTo>
                <a:cubicBezTo>
                  <a:pt x="79870" y="58675"/>
                  <a:pt x="79870" y="58675"/>
                  <a:pt x="77156" y="58675"/>
                </a:cubicBezTo>
                <a:lnTo>
                  <a:pt x="42843" y="25173"/>
                </a:lnTo>
                <a:close/>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8" name="Shape 4630"/>
          <p:cNvSpPr/>
          <p:nvPr/>
        </p:nvSpPr>
        <p:spPr>
          <a:xfrm>
            <a:off x="707868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9" name="Shape 4631"/>
          <p:cNvSpPr/>
          <p:nvPr/>
        </p:nvSpPr>
        <p:spPr>
          <a:xfrm>
            <a:off x="659304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44479" y="30662"/>
                </a:moveTo>
                <a:lnTo>
                  <a:pt x="44479" y="30662"/>
                </a:lnTo>
                <a:cubicBezTo>
                  <a:pt x="47318" y="30662"/>
                  <a:pt x="47318" y="28012"/>
                  <a:pt x="47318" y="28012"/>
                </a:cubicBezTo>
                <a:cubicBezTo>
                  <a:pt x="47318" y="25173"/>
                  <a:pt x="47318" y="22334"/>
                  <a:pt x="44479" y="22334"/>
                </a:cubicBezTo>
                <a:cubicBezTo>
                  <a:pt x="24984" y="22334"/>
                  <a:pt x="24984" y="22334"/>
                  <a:pt x="24984" y="22334"/>
                </a:cubicBezTo>
                <a:cubicBezTo>
                  <a:pt x="24984" y="22334"/>
                  <a:pt x="24984" y="22334"/>
                  <a:pt x="22145" y="25173"/>
                </a:cubicBezTo>
                <a:cubicBezTo>
                  <a:pt x="22145" y="25173"/>
                  <a:pt x="22145" y="25173"/>
                  <a:pt x="22145" y="28012"/>
                </a:cubicBezTo>
                <a:cubicBezTo>
                  <a:pt x="22145" y="44668"/>
                  <a:pt x="22145" y="44668"/>
                  <a:pt x="22145" y="44668"/>
                </a:cubicBezTo>
                <a:cubicBezTo>
                  <a:pt x="22145" y="47507"/>
                  <a:pt x="24984" y="50347"/>
                  <a:pt x="24984" y="50347"/>
                </a:cubicBezTo>
                <a:cubicBezTo>
                  <a:pt x="27823" y="50347"/>
                  <a:pt x="30662" y="47507"/>
                  <a:pt x="30662" y="44668"/>
                </a:cubicBezTo>
                <a:cubicBezTo>
                  <a:pt x="30662" y="36340"/>
                  <a:pt x="30662" y="36340"/>
                  <a:pt x="30662" y="36340"/>
                </a:cubicBezTo>
                <a:cubicBezTo>
                  <a:pt x="47318" y="52996"/>
                  <a:pt x="47318" y="52996"/>
                  <a:pt x="47318" y="52996"/>
                </a:cubicBezTo>
                <a:cubicBezTo>
                  <a:pt x="52807" y="47507"/>
                  <a:pt x="52807" y="47507"/>
                  <a:pt x="52807" y="47507"/>
                </a:cubicBezTo>
                <a:cubicBezTo>
                  <a:pt x="33312" y="30662"/>
                  <a:pt x="33312" y="30662"/>
                  <a:pt x="33312" y="30662"/>
                </a:cubicBezTo>
                <a:lnTo>
                  <a:pt x="44479" y="30662"/>
                </a:lnTo>
                <a:close/>
                <a:moveTo>
                  <a:pt x="91798" y="72492"/>
                </a:moveTo>
                <a:lnTo>
                  <a:pt x="91798" y="72492"/>
                </a:lnTo>
                <a:cubicBezTo>
                  <a:pt x="91798" y="72492"/>
                  <a:pt x="89148" y="72492"/>
                  <a:pt x="89148" y="75331"/>
                </a:cubicBezTo>
                <a:cubicBezTo>
                  <a:pt x="89148" y="83659"/>
                  <a:pt x="89148" y="83659"/>
                  <a:pt x="89148" y="83659"/>
                </a:cubicBezTo>
                <a:cubicBezTo>
                  <a:pt x="72492" y="67003"/>
                  <a:pt x="72492" y="67003"/>
                  <a:pt x="72492" y="67003"/>
                </a:cubicBezTo>
                <a:cubicBezTo>
                  <a:pt x="66813" y="72492"/>
                  <a:pt x="66813" y="72492"/>
                  <a:pt x="66813" y="72492"/>
                </a:cubicBezTo>
                <a:cubicBezTo>
                  <a:pt x="83470" y="89148"/>
                  <a:pt x="83470" y="89148"/>
                  <a:pt x="83470" y="89148"/>
                </a:cubicBezTo>
                <a:cubicBezTo>
                  <a:pt x="75141" y="89148"/>
                  <a:pt x="75141" y="89148"/>
                  <a:pt x="75141" y="89148"/>
                </a:cubicBezTo>
                <a:cubicBezTo>
                  <a:pt x="72492" y="89148"/>
                  <a:pt x="69463" y="91987"/>
                  <a:pt x="69463" y="94826"/>
                </a:cubicBezTo>
                <a:cubicBezTo>
                  <a:pt x="69463" y="94826"/>
                  <a:pt x="72492" y="97665"/>
                  <a:pt x="75141" y="97665"/>
                </a:cubicBezTo>
                <a:cubicBezTo>
                  <a:pt x="91798" y="97665"/>
                  <a:pt x="91798" y="97665"/>
                  <a:pt x="91798" y="97665"/>
                </a:cubicBezTo>
                <a:cubicBezTo>
                  <a:pt x="94637" y="97665"/>
                  <a:pt x="94637" y="97665"/>
                  <a:pt x="94637" y="97665"/>
                </a:cubicBezTo>
                <a:cubicBezTo>
                  <a:pt x="97476" y="94826"/>
                  <a:pt x="97476" y="94826"/>
                  <a:pt x="97476" y="94826"/>
                </a:cubicBezTo>
                <a:cubicBezTo>
                  <a:pt x="97476" y="75331"/>
                  <a:pt x="97476" y="75331"/>
                  <a:pt x="97476" y="75331"/>
                </a:cubicBezTo>
                <a:cubicBezTo>
                  <a:pt x="97476" y="72492"/>
                  <a:pt x="94637" y="72492"/>
                  <a:pt x="91798" y="72492"/>
                </a:cubicBezTo>
                <a:close/>
                <a:moveTo>
                  <a:pt x="47318" y="67003"/>
                </a:moveTo>
                <a:lnTo>
                  <a:pt x="47318" y="67003"/>
                </a:lnTo>
                <a:cubicBezTo>
                  <a:pt x="30662" y="83659"/>
                  <a:pt x="30662" y="83659"/>
                  <a:pt x="30662" y="83659"/>
                </a:cubicBezTo>
                <a:cubicBezTo>
                  <a:pt x="30662" y="75331"/>
                  <a:pt x="30662" y="75331"/>
                  <a:pt x="30662" y="75331"/>
                </a:cubicBezTo>
                <a:cubicBezTo>
                  <a:pt x="30662" y="72492"/>
                  <a:pt x="27823" y="72492"/>
                  <a:pt x="24984" y="72492"/>
                </a:cubicBezTo>
                <a:cubicBezTo>
                  <a:pt x="24984" y="72492"/>
                  <a:pt x="22145" y="72492"/>
                  <a:pt x="22145" y="75331"/>
                </a:cubicBezTo>
                <a:cubicBezTo>
                  <a:pt x="22145" y="94826"/>
                  <a:pt x="22145" y="94826"/>
                  <a:pt x="22145" y="94826"/>
                </a:cubicBezTo>
                <a:cubicBezTo>
                  <a:pt x="22145" y="94826"/>
                  <a:pt x="22145" y="94826"/>
                  <a:pt x="22145" y="97665"/>
                </a:cubicBezTo>
                <a:cubicBezTo>
                  <a:pt x="24984" y="97665"/>
                  <a:pt x="24984" y="97665"/>
                  <a:pt x="24984" y="97665"/>
                </a:cubicBezTo>
                <a:cubicBezTo>
                  <a:pt x="44479" y="97665"/>
                  <a:pt x="44479" y="97665"/>
                  <a:pt x="44479" y="97665"/>
                </a:cubicBezTo>
                <a:cubicBezTo>
                  <a:pt x="47318" y="97665"/>
                  <a:pt x="47318" y="94826"/>
                  <a:pt x="47318" y="94826"/>
                </a:cubicBezTo>
                <a:cubicBezTo>
                  <a:pt x="47318" y="91987"/>
                  <a:pt x="47318" y="89148"/>
                  <a:pt x="44479" y="89148"/>
                </a:cubicBezTo>
                <a:cubicBezTo>
                  <a:pt x="33312" y="89148"/>
                  <a:pt x="33312" y="89148"/>
                  <a:pt x="33312" y="89148"/>
                </a:cubicBezTo>
                <a:cubicBezTo>
                  <a:pt x="52807" y="72492"/>
                  <a:pt x="52807" y="72492"/>
                  <a:pt x="52807" y="72492"/>
                </a:cubicBezTo>
                <a:lnTo>
                  <a:pt x="47318" y="67003"/>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moveTo>
                  <a:pt x="91798" y="22334"/>
                </a:moveTo>
                <a:lnTo>
                  <a:pt x="91798" y="22334"/>
                </a:lnTo>
                <a:cubicBezTo>
                  <a:pt x="75141" y="22334"/>
                  <a:pt x="75141" y="22334"/>
                  <a:pt x="75141" y="22334"/>
                </a:cubicBezTo>
                <a:cubicBezTo>
                  <a:pt x="72492" y="22334"/>
                  <a:pt x="69463" y="25173"/>
                  <a:pt x="69463" y="28012"/>
                </a:cubicBezTo>
                <a:cubicBezTo>
                  <a:pt x="69463" y="28012"/>
                  <a:pt x="72492" y="30662"/>
                  <a:pt x="75141" y="30662"/>
                </a:cubicBezTo>
                <a:cubicBezTo>
                  <a:pt x="83470" y="30662"/>
                  <a:pt x="83470" y="30662"/>
                  <a:pt x="83470" y="30662"/>
                </a:cubicBezTo>
                <a:cubicBezTo>
                  <a:pt x="66813" y="47507"/>
                  <a:pt x="66813" y="47507"/>
                  <a:pt x="66813" y="47507"/>
                </a:cubicBezTo>
                <a:cubicBezTo>
                  <a:pt x="72492" y="52996"/>
                  <a:pt x="72492" y="52996"/>
                  <a:pt x="72492" y="52996"/>
                </a:cubicBezTo>
                <a:cubicBezTo>
                  <a:pt x="89148" y="36340"/>
                  <a:pt x="89148" y="36340"/>
                  <a:pt x="89148" y="36340"/>
                </a:cubicBezTo>
                <a:cubicBezTo>
                  <a:pt x="89148" y="44668"/>
                  <a:pt x="89148" y="44668"/>
                  <a:pt x="89148" y="44668"/>
                </a:cubicBezTo>
                <a:cubicBezTo>
                  <a:pt x="89148" y="47507"/>
                  <a:pt x="91798" y="50347"/>
                  <a:pt x="91798" y="50347"/>
                </a:cubicBezTo>
                <a:cubicBezTo>
                  <a:pt x="94637" y="50347"/>
                  <a:pt x="97476" y="47507"/>
                  <a:pt x="97476" y="44668"/>
                </a:cubicBezTo>
                <a:cubicBezTo>
                  <a:pt x="97476" y="28012"/>
                  <a:pt x="97476" y="28012"/>
                  <a:pt x="97476" y="28012"/>
                </a:cubicBezTo>
                <a:cubicBezTo>
                  <a:pt x="97476" y="25173"/>
                  <a:pt x="97476" y="25173"/>
                  <a:pt x="94637" y="25173"/>
                </a:cubicBezTo>
                <a:cubicBezTo>
                  <a:pt x="94637" y="22334"/>
                  <a:pt x="94637" y="22334"/>
                  <a:pt x="91798" y="223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0" name="Shape 4632"/>
          <p:cNvSpPr/>
          <p:nvPr/>
        </p:nvSpPr>
        <p:spPr>
          <a:xfrm>
            <a:off x="610236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1" name="Shape 4633"/>
          <p:cNvSpPr/>
          <p:nvPr/>
        </p:nvSpPr>
        <p:spPr>
          <a:xfrm>
            <a:off x="10517040" y="2563920"/>
            <a:ext cx="295560" cy="304560"/>
          </a:xfrm>
          <a:custGeom>
            <a:avLst/>
            <a:gdLst>
              <a:gd name="textAreaLeft" fmla="*/ 0 w 295560"/>
              <a:gd name="textAreaRight" fmla="*/ 295920 w 295560"/>
              <a:gd name="textAreaTop" fmla="*/ 0 h 304560"/>
              <a:gd name="textAreaBottom" fmla="*/ 304920 h 304560"/>
            </a:gdLst>
            <a:ahLst/>
            <a:rect l="textAreaLeft" t="textAreaTop" r="textAreaRight" b="textAreaBottom"/>
            <a:pathLst>
              <a:path w="120000" h="120000">
                <a:moveTo>
                  <a:pt x="51373" y="97476"/>
                </a:moveTo>
                <a:lnTo>
                  <a:pt x="51373" y="97476"/>
                </a:lnTo>
                <a:cubicBezTo>
                  <a:pt x="25589" y="97476"/>
                  <a:pt x="25589" y="97476"/>
                  <a:pt x="25589" y="97476"/>
                </a:cubicBezTo>
                <a:cubicBezTo>
                  <a:pt x="54281" y="72492"/>
                  <a:pt x="54281" y="72492"/>
                  <a:pt x="54281" y="72492"/>
                </a:cubicBezTo>
                <a:cubicBezTo>
                  <a:pt x="48465" y="66813"/>
                  <a:pt x="48465" y="66813"/>
                  <a:pt x="48465" y="66813"/>
                </a:cubicBezTo>
                <a:cubicBezTo>
                  <a:pt x="22875" y="91798"/>
                  <a:pt x="22875" y="91798"/>
                  <a:pt x="22875" y="91798"/>
                </a:cubicBezTo>
                <a:cubicBezTo>
                  <a:pt x="22875" y="66813"/>
                  <a:pt x="22875" y="66813"/>
                  <a:pt x="22875" y="66813"/>
                </a:cubicBezTo>
                <a:cubicBezTo>
                  <a:pt x="22875" y="63974"/>
                  <a:pt x="19967" y="63974"/>
                  <a:pt x="17059" y="63974"/>
                </a:cubicBezTo>
                <a:cubicBezTo>
                  <a:pt x="17059" y="63974"/>
                  <a:pt x="14345" y="63974"/>
                  <a:pt x="14345" y="66813"/>
                </a:cubicBezTo>
                <a:cubicBezTo>
                  <a:pt x="14345" y="100315"/>
                  <a:pt x="14345" y="100315"/>
                  <a:pt x="14345" y="100315"/>
                </a:cubicBezTo>
                <a:lnTo>
                  <a:pt x="14345" y="102965"/>
                </a:lnTo>
                <a:cubicBezTo>
                  <a:pt x="17059" y="102965"/>
                  <a:pt x="17059" y="102965"/>
                  <a:pt x="17059" y="102965"/>
                </a:cubicBezTo>
                <a:cubicBezTo>
                  <a:pt x="51373" y="102965"/>
                  <a:pt x="51373" y="102965"/>
                  <a:pt x="51373" y="102965"/>
                </a:cubicBezTo>
                <a:cubicBezTo>
                  <a:pt x="54281" y="102965"/>
                  <a:pt x="56995" y="102965"/>
                  <a:pt x="56995" y="100315"/>
                </a:cubicBezTo>
                <a:cubicBezTo>
                  <a:pt x="56995" y="97476"/>
                  <a:pt x="54281" y="97476"/>
                  <a:pt x="51373" y="97476"/>
                </a:cubicBezTo>
                <a:close/>
                <a:moveTo>
                  <a:pt x="102746" y="13817"/>
                </a:moveTo>
                <a:lnTo>
                  <a:pt x="102746" y="13817"/>
                </a:lnTo>
                <a:cubicBezTo>
                  <a:pt x="68432" y="13817"/>
                  <a:pt x="68432" y="13817"/>
                  <a:pt x="68432" y="13817"/>
                </a:cubicBezTo>
                <a:cubicBezTo>
                  <a:pt x="65718" y="13817"/>
                  <a:pt x="62810" y="16656"/>
                  <a:pt x="62810" y="19495"/>
                </a:cubicBezTo>
                <a:cubicBezTo>
                  <a:pt x="62810" y="19495"/>
                  <a:pt x="65718" y="22145"/>
                  <a:pt x="68432" y="22145"/>
                </a:cubicBezTo>
                <a:cubicBezTo>
                  <a:pt x="94216" y="22145"/>
                  <a:pt x="94216" y="22145"/>
                  <a:pt x="94216" y="22145"/>
                </a:cubicBezTo>
                <a:cubicBezTo>
                  <a:pt x="65718" y="47318"/>
                  <a:pt x="65718" y="47318"/>
                  <a:pt x="65718" y="47318"/>
                </a:cubicBezTo>
                <a:cubicBezTo>
                  <a:pt x="71340" y="52807"/>
                  <a:pt x="71340" y="52807"/>
                  <a:pt x="71340" y="52807"/>
                </a:cubicBezTo>
                <a:cubicBezTo>
                  <a:pt x="96930" y="27823"/>
                  <a:pt x="96930" y="27823"/>
                  <a:pt x="96930" y="27823"/>
                </a:cubicBezTo>
                <a:cubicBezTo>
                  <a:pt x="96930" y="52807"/>
                  <a:pt x="96930" y="52807"/>
                  <a:pt x="96930" y="52807"/>
                </a:cubicBezTo>
                <a:cubicBezTo>
                  <a:pt x="96930" y="52807"/>
                  <a:pt x="99838" y="55646"/>
                  <a:pt x="102746" y="55646"/>
                </a:cubicBezTo>
                <a:lnTo>
                  <a:pt x="105654" y="52807"/>
                </a:lnTo>
                <a:cubicBezTo>
                  <a:pt x="105654" y="19495"/>
                  <a:pt x="105654" y="19495"/>
                  <a:pt x="105654" y="19495"/>
                </a:cubicBezTo>
                <a:cubicBezTo>
                  <a:pt x="105654" y="16656"/>
                  <a:pt x="105654" y="16656"/>
                  <a:pt x="105654" y="16656"/>
                </a:cubicBezTo>
                <a:cubicBezTo>
                  <a:pt x="102746" y="13817"/>
                  <a:pt x="102746" y="13817"/>
                  <a:pt x="102746" y="13817"/>
                </a:cubicBezTo>
                <a:close/>
                <a:moveTo>
                  <a:pt x="105654" y="0"/>
                </a:moveTo>
                <a:lnTo>
                  <a:pt x="105654" y="0"/>
                </a:lnTo>
                <a:cubicBezTo>
                  <a:pt x="14345" y="0"/>
                  <a:pt x="14345" y="0"/>
                  <a:pt x="14345" y="0"/>
                </a:cubicBezTo>
                <a:cubicBezTo>
                  <a:pt x="5621" y="0"/>
                  <a:pt x="0" y="5488"/>
                  <a:pt x="0" y="13817"/>
                </a:cubicBezTo>
                <a:cubicBezTo>
                  <a:pt x="0" y="102965"/>
                  <a:pt x="0" y="102965"/>
                  <a:pt x="0" y="102965"/>
                </a:cubicBezTo>
                <a:cubicBezTo>
                  <a:pt x="0" y="111293"/>
                  <a:pt x="5621" y="119810"/>
                  <a:pt x="14345" y="119810"/>
                </a:cubicBezTo>
                <a:cubicBezTo>
                  <a:pt x="105654" y="119810"/>
                  <a:pt x="105654" y="119810"/>
                  <a:pt x="105654" y="119810"/>
                </a:cubicBezTo>
                <a:cubicBezTo>
                  <a:pt x="114184" y="119810"/>
                  <a:pt x="119806" y="111293"/>
                  <a:pt x="119806" y="102965"/>
                </a:cubicBezTo>
                <a:cubicBezTo>
                  <a:pt x="119806" y="13817"/>
                  <a:pt x="119806" y="13817"/>
                  <a:pt x="119806" y="13817"/>
                </a:cubicBezTo>
                <a:cubicBezTo>
                  <a:pt x="119806" y="5488"/>
                  <a:pt x="114184" y="0"/>
                  <a:pt x="105654" y="0"/>
                </a:cubicBezTo>
                <a:close/>
                <a:moveTo>
                  <a:pt x="114184" y="102965"/>
                </a:moveTo>
                <a:lnTo>
                  <a:pt x="114184" y="102965"/>
                </a:lnTo>
                <a:cubicBezTo>
                  <a:pt x="114184" y="108643"/>
                  <a:pt x="108368" y="111293"/>
                  <a:pt x="105654" y="111293"/>
                </a:cubicBezTo>
                <a:cubicBezTo>
                  <a:pt x="14345" y="111293"/>
                  <a:pt x="14345" y="111293"/>
                  <a:pt x="14345" y="111293"/>
                </a:cubicBezTo>
                <a:cubicBezTo>
                  <a:pt x="11437" y="111293"/>
                  <a:pt x="5621" y="108643"/>
                  <a:pt x="5621" y="102965"/>
                </a:cubicBezTo>
                <a:cubicBezTo>
                  <a:pt x="5621" y="13817"/>
                  <a:pt x="5621" y="13817"/>
                  <a:pt x="5621" y="13817"/>
                </a:cubicBezTo>
                <a:cubicBezTo>
                  <a:pt x="5621" y="10977"/>
                  <a:pt x="11437" y="8328"/>
                  <a:pt x="14345" y="8328"/>
                </a:cubicBezTo>
                <a:cubicBezTo>
                  <a:pt x="105654" y="8328"/>
                  <a:pt x="105654" y="8328"/>
                  <a:pt x="105654" y="8328"/>
                </a:cubicBezTo>
                <a:cubicBezTo>
                  <a:pt x="108368" y="8328"/>
                  <a:pt x="114184" y="10977"/>
                  <a:pt x="114184" y="13817"/>
                </a:cubicBezTo>
                <a:lnTo>
                  <a:pt x="114184" y="1029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2" name="Shape 4634"/>
          <p:cNvSpPr/>
          <p:nvPr/>
        </p:nvSpPr>
        <p:spPr>
          <a:xfrm>
            <a:off x="10049040" y="256392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3" name="Shape 4635"/>
          <p:cNvSpPr/>
          <p:nvPr/>
        </p:nvSpPr>
        <p:spPr>
          <a:xfrm>
            <a:off x="9553680" y="2563920"/>
            <a:ext cx="263520" cy="304560"/>
          </a:xfrm>
          <a:custGeom>
            <a:avLst/>
            <a:gdLst>
              <a:gd name="textAreaLeft" fmla="*/ 0 w 263520"/>
              <a:gd name="textAreaRight" fmla="*/ 263880 w 263520"/>
              <a:gd name="textAreaTop" fmla="*/ 0 h 304560"/>
              <a:gd name="textAreaBottom" fmla="*/ 304920 h 304560"/>
            </a:gdLst>
            <a:ahLst/>
            <a:rect l="textAreaLeft" t="textAreaTop" r="textAreaRight" b="textAreaBottom"/>
            <a:pathLst>
              <a:path w="120000" h="120000">
                <a:moveTo>
                  <a:pt x="94018" y="50157"/>
                </a:moveTo>
                <a:lnTo>
                  <a:pt x="94018" y="50157"/>
                </a:lnTo>
                <a:cubicBezTo>
                  <a:pt x="61651" y="22145"/>
                  <a:pt x="61651" y="22145"/>
                  <a:pt x="61651" y="22145"/>
                </a:cubicBezTo>
                <a:cubicBezTo>
                  <a:pt x="61651" y="22145"/>
                  <a:pt x="61651" y="22145"/>
                  <a:pt x="58348" y="22145"/>
                </a:cubicBezTo>
                <a:cubicBezTo>
                  <a:pt x="58348" y="22145"/>
                  <a:pt x="58348" y="22145"/>
                  <a:pt x="55045" y="22145"/>
                </a:cubicBezTo>
                <a:cubicBezTo>
                  <a:pt x="25981" y="50157"/>
                  <a:pt x="25981" y="50157"/>
                  <a:pt x="25981" y="50157"/>
                </a:cubicBezTo>
                <a:cubicBezTo>
                  <a:pt x="25981" y="50157"/>
                  <a:pt x="25981" y="52807"/>
                  <a:pt x="25981" y="55646"/>
                </a:cubicBezTo>
                <a:cubicBezTo>
                  <a:pt x="29064" y="55646"/>
                  <a:pt x="29064" y="55646"/>
                  <a:pt x="32366" y="55646"/>
                </a:cubicBezTo>
                <a:cubicBezTo>
                  <a:pt x="55045" y="36151"/>
                  <a:pt x="55045" y="36151"/>
                  <a:pt x="55045" y="36151"/>
                </a:cubicBezTo>
                <a:cubicBezTo>
                  <a:pt x="55045" y="114132"/>
                  <a:pt x="55045" y="114132"/>
                  <a:pt x="55045" y="114132"/>
                </a:cubicBezTo>
                <a:cubicBezTo>
                  <a:pt x="55045" y="116971"/>
                  <a:pt x="58348" y="119810"/>
                  <a:pt x="58348" y="119810"/>
                </a:cubicBezTo>
                <a:cubicBezTo>
                  <a:pt x="61651" y="119810"/>
                  <a:pt x="64733" y="116971"/>
                  <a:pt x="64733" y="114132"/>
                </a:cubicBezTo>
                <a:cubicBezTo>
                  <a:pt x="64733" y="36151"/>
                  <a:pt x="64733" y="36151"/>
                  <a:pt x="64733" y="36151"/>
                </a:cubicBezTo>
                <a:cubicBezTo>
                  <a:pt x="87633" y="55646"/>
                  <a:pt x="87633" y="55646"/>
                  <a:pt x="87633" y="55646"/>
                </a:cubicBezTo>
                <a:cubicBezTo>
                  <a:pt x="87633" y="55646"/>
                  <a:pt x="90715" y="55646"/>
                  <a:pt x="94018" y="55646"/>
                </a:cubicBezTo>
                <a:cubicBezTo>
                  <a:pt x="94018" y="52807"/>
                  <a:pt x="94018" y="50157"/>
                  <a:pt x="94018" y="50157"/>
                </a:cubicBezTo>
                <a:close/>
                <a:moveTo>
                  <a:pt x="103706" y="0"/>
                </a:moveTo>
                <a:lnTo>
                  <a:pt x="103706" y="0"/>
                </a:lnTo>
                <a:cubicBezTo>
                  <a:pt x="16073" y="0"/>
                  <a:pt x="16073" y="0"/>
                  <a:pt x="16073" y="0"/>
                </a:cubicBezTo>
                <a:cubicBezTo>
                  <a:pt x="6385" y="0"/>
                  <a:pt x="0" y="5488"/>
                  <a:pt x="0" y="13817"/>
                </a:cubicBezTo>
                <a:cubicBezTo>
                  <a:pt x="0" y="89148"/>
                  <a:pt x="0" y="89148"/>
                  <a:pt x="0" y="89148"/>
                </a:cubicBezTo>
                <a:cubicBezTo>
                  <a:pt x="0" y="97476"/>
                  <a:pt x="6385" y="102965"/>
                  <a:pt x="16073" y="102965"/>
                </a:cubicBezTo>
                <a:cubicBezTo>
                  <a:pt x="29064" y="102965"/>
                  <a:pt x="29064" y="102965"/>
                  <a:pt x="29064" y="102965"/>
                </a:cubicBezTo>
                <a:cubicBezTo>
                  <a:pt x="29064" y="97476"/>
                  <a:pt x="29064" y="97476"/>
                  <a:pt x="29064" y="97476"/>
                </a:cubicBezTo>
                <a:cubicBezTo>
                  <a:pt x="16073" y="97476"/>
                  <a:pt x="16073" y="97476"/>
                  <a:pt x="16073" y="97476"/>
                </a:cubicBezTo>
                <a:cubicBezTo>
                  <a:pt x="12990" y="97476"/>
                  <a:pt x="6385" y="91798"/>
                  <a:pt x="6385" y="89148"/>
                </a:cubicBezTo>
                <a:cubicBezTo>
                  <a:pt x="6385" y="13817"/>
                  <a:pt x="6385" y="13817"/>
                  <a:pt x="6385" y="13817"/>
                </a:cubicBezTo>
                <a:cubicBezTo>
                  <a:pt x="6385" y="10977"/>
                  <a:pt x="12990" y="8328"/>
                  <a:pt x="16073" y="8328"/>
                </a:cubicBezTo>
                <a:cubicBezTo>
                  <a:pt x="103706" y="8328"/>
                  <a:pt x="103706" y="8328"/>
                  <a:pt x="103706" y="8328"/>
                </a:cubicBezTo>
                <a:cubicBezTo>
                  <a:pt x="107009" y="8328"/>
                  <a:pt x="110091" y="10977"/>
                  <a:pt x="110091" y="13817"/>
                </a:cubicBezTo>
                <a:cubicBezTo>
                  <a:pt x="110091" y="89148"/>
                  <a:pt x="110091" y="89148"/>
                  <a:pt x="110091" y="89148"/>
                </a:cubicBezTo>
                <a:cubicBezTo>
                  <a:pt x="110091" y="91798"/>
                  <a:pt x="107009" y="97476"/>
                  <a:pt x="103706" y="97476"/>
                </a:cubicBezTo>
                <a:cubicBezTo>
                  <a:pt x="90715" y="97476"/>
                  <a:pt x="90715" y="97476"/>
                  <a:pt x="90715" y="97476"/>
                </a:cubicBezTo>
                <a:cubicBezTo>
                  <a:pt x="90715" y="102965"/>
                  <a:pt x="90715" y="102965"/>
                  <a:pt x="90715" y="102965"/>
                </a:cubicBezTo>
                <a:cubicBezTo>
                  <a:pt x="103706" y="102965"/>
                  <a:pt x="103706" y="102965"/>
                  <a:pt x="103706" y="102965"/>
                </a:cubicBezTo>
                <a:cubicBezTo>
                  <a:pt x="113394" y="102965"/>
                  <a:pt x="119779" y="97476"/>
                  <a:pt x="119779" y="89148"/>
                </a:cubicBezTo>
                <a:cubicBezTo>
                  <a:pt x="119779" y="13817"/>
                  <a:pt x="119779" y="13817"/>
                  <a:pt x="119779" y="13817"/>
                </a:cubicBezTo>
                <a:cubicBezTo>
                  <a:pt x="119779" y="5488"/>
                  <a:pt x="113394" y="0"/>
                  <a:pt x="103706"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4" name="Shape 4636"/>
          <p:cNvSpPr/>
          <p:nvPr/>
        </p:nvSpPr>
        <p:spPr>
          <a:xfrm>
            <a:off x="9045720" y="258444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5" name="Shape 4637"/>
          <p:cNvSpPr/>
          <p:nvPr/>
        </p:nvSpPr>
        <p:spPr>
          <a:xfrm>
            <a:off x="8550360" y="2584440"/>
            <a:ext cx="304560" cy="263520"/>
          </a:xfrm>
          <a:custGeom>
            <a:avLst/>
            <a:gdLst>
              <a:gd name="textAreaLeft" fmla="*/ 0 w 304560"/>
              <a:gd name="textAreaRight" fmla="*/ 304920 w 304560"/>
              <a:gd name="textAreaTop" fmla="*/ 0 h 263520"/>
              <a:gd name="textAreaBottom" fmla="*/ 263880 h 263520"/>
            </a:gdLst>
            <a:ahLst/>
            <a:rect l="textAreaLeft" t="textAreaTop" r="textAreaRight" b="textAreaBottom"/>
            <a:pathLst>
              <a:path w="120000" h="120000">
                <a:moveTo>
                  <a:pt x="64164" y="87412"/>
                </a:moveTo>
                <a:lnTo>
                  <a:pt x="64164" y="87412"/>
                </a:lnTo>
                <a:cubicBezTo>
                  <a:pt x="64164" y="87412"/>
                  <a:pt x="64164" y="90715"/>
                  <a:pt x="64164" y="94018"/>
                </a:cubicBezTo>
                <a:cubicBezTo>
                  <a:pt x="67003" y="94018"/>
                  <a:pt x="69842" y="94018"/>
                  <a:pt x="69842" y="94018"/>
                </a:cubicBezTo>
                <a:cubicBezTo>
                  <a:pt x="97665" y="61651"/>
                  <a:pt x="97665" y="61651"/>
                  <a:pt x="97665" y="61651"/>
                </a:cubicBezTo>
                <a:cubicBezTo>
                  <a:pt x="97665" y="61651"/>
                  <a:pt x="97665" y="61651"/>
                  <a:pt x="97665" y="58348"/>
                </a:cubicBezTo>
                <a:cubicBezTo>
                  <a:pt x="97665" y="58348"/>
                  <a:pt x="97665" y="58348"/>
                  <a:pt x="97665" y="55045"/>
                </a:cubicBezTo>
                <a:cubicBezTo>
                  <a:pt x="69842" y="25981"/>
                  <a:pt x="69842" y="25981"/>
                  <a:pt x="69842" y="25981"/>
                </a:cubicBezTo>
                <a:cubicBezTo>
                  <a:pt x="69842" y="25981"/>
                  <a:pt x="67003" y="25981"/>
                  <a:pt x="64164" y="25981"/>
                </a:cubicBezTo>
                <a:cubicBezTo>
                  <a:pt x="64164" y="29064"/>
                  <a:pt x="64164" y="29064"/>
                  <a:pt x="64164" y="32366"/>
                </a:cubicBezTo>
                <a:cubicBezTo>
                  <a:pt x="83659" y="55045"/>
                  <a:pt x="83659" y="55045"/>
                  <a:pt x="83659" y="55045"/>
                </a:cubicBezTo>
                <a:cubicBezTo>
                  <a:pt x="5678" y="55045"/>
                  <a:pt x="5678" y="55045"/>
                  <a:pt x="5678" y="55045"/>
                </a:cubicBezTo>
                <a:cubicBezTo>
                  <a:pt x="2839" y="55045"/>
                  <a:pt x="0" y="58348"/>
                  <a:pt x="0" y="58348"/>
                </a:cubicBezTo>
                <a:cubicBezTo>
                  <a:pt x="0" y="61651"/>
                  <a:pt x="2839" y="64733"/>
                  <a:pt x="5678" y="64733"/>
                </a:cubicBezTo>
                <a:cubicBezTo>
                  <a:pt x="83659" y="64733"/>
                  <a:pt x="83659" y="64733"/>
                  <a:pt x="83659" y="64733"/>
                </a:cubicBezTo>
                <a:lnTo>
                  <a:pt x="64164" y="87412"/>
                </a:lnTo>
                <a:close/>
                <a:moveTo>
                  <a:pt x="105993" y="0"/>
                </a:moveTo>
                <a:lnTo>
                  <a:pt x="105993" y="0"/>
                </a:lnTo>
                <a:cubicBezTo>
                  <a:pt x="30662" y="0"/>
                  <a:pt x="30662" y="0"/>
                  <a:pt x="30662" y="0"/>
                </a:cubicBezTo>
                <a:cubicBezTo>
                  <a:pt x="22334" y="0"/>
                  <a:pt x="16845" y="6385"/>
                  <a:pt x="16845" y="16073"/>
                </a:cubicBezTo>
                <a:cubicBezTo>
                  <a:pt x="16845" y="32366"/>
                  <a:pt x="16845" y="32366"/>
                  <a:pt x="16845" y="32366"/>
                </a:cubicBezTo>
                <a:cubicBezTo>
                  <a:pt x="22334" y="32366"/>
                  <a:pt x="22334" y="32366"/>
                  <a:pt x="22334" y="32366"/>
                </a:cubicBezTo>
                <a:cubicBezTo>
                  <a:pt x="22334" y="16073"/>
                  <a:pt x="22334" y="16073"/>
                  <a:pt x="22334" y="16073"/>
                </a:cubicBezTo>
                <a:cubicBezTo>
                  <a:pt x="22334" y="12990"/>
                  <a:pt x="28012" y="6385"/>
                  <a:pt x="30662" y="6385"/>
                </a:cubicBezTo>
                <a:cubicBezTo>
                  <a:pt x="105993" y="6385"/>
                  <a:pt x="105993" y="6385"/>
                  <a:pt x="105993" y="6385"/>
                </a:cubicBezTo>
                <a:cubicBezTo>
                  <a:pt x="108832" y="6385"/>
                  <a:pt x="111482" y="12990"/>
                  <a:pt x="111482" y="16073"/>
                </a:cubicBezTo>
                <a:cubicBezTo>
                  <a:pt x="111482" y="103706"/>
                  <a:pt x="111482" y="103706"/>
                  <a:pt x="111482" y="103706"/>
                </a:cubicBezTo>
                <a:cubicBezTo>
                  <a:pt x="111482" y="107009"/>
                  <a:pt x="108832" y="110091"/>
                  <a:pt x="105993" y="110091"/>
                </a:cubicBezTo>
                <a:cubicBezTo>
                  <a:pt x="30662" y="110091"/>
                  <a:pt x="30662" y="110091"/>
                  <a:pt x="30662" y="110091"/>
                </a:cubicBezTo>
                <a:cubicBezTo>
                  <a:pt x="28012" y="110091"/>
                  <a:pt x="22334" y="107009"/>
                  <a:pt x="22334" y="103706"/>
                </a:cubicBezTo>
                <a:cubicBezTo>
                  <a:pt x="22334" y="84110"/>
                  <a:pt x="22334" y="84110"/>
                  <a:pt x="22334" y="84110"/>
                </a:cubicBezTo>
                <a:cubicBezTo>
                  <a:pt x="16845" y="84110"/>
                  <a:pt x="16845" y="84110"/>
                  <a:pt x="16845" y="84110"/>
                </a:cubicBezTo>
                <a:cubicBezTo>
                  <a:pt x="16845" y="103706"/>
                  <a:pt x="16845" y="103706"/>
                  <a:pt x="16845" y="103706"/>
                </a:cubicBezTo>
                <a:cubicBezTo>
                  <a:pt x="16845" y="113394"/>
                  <a:pt x="22334" y="119779"/>
                  <a:pt x="30662" y="119779"/>
                </a:cubicBezTo>
                <a:cubicBezTo>
                  <a:pt x="105993" y="119779"/>
                  <a:pt x="105993" y="119779"/>
                  <a:pt x="105993" y="119779"/>
                </a:cubicBezTo>
                <a:cubicBezTo>
                  <a:pt x="114321" y="119779"/>
                  <a:pt x="119810" y="113394"/>
                  <a:pt x="119810" y="103706"/>
                </a:cubicBezTo>
                <a:cubicBezTo>
                  <a:pt x="119810" y="16073"/>
                  <a:pt x="119810" y="16073"/>
                  <a:pt x="119810" y="16073"/>
                </a:cubicBezTo>
                <a:cubicBezTo>
                  <a:pt x="119810" y="6385"/>
                  <a:pt x="114321" y="0"/>
                  <a:pt x="10599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6" name="Shape 4638"/>
          <p:cNvSpPr/>
          <p:nvPr/>
        </p:nvSpPr>
        <p:spPr>
          <a:xfrm>
            <a:off x="8083440" y="258444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7" name="Shape 4639"/>
          <p:cNvSpPr/>
          <p:nvPr/>
        </p:nvSpPr>
        <p:spPr>
          <a:xfrm>
            <a:off x="7586640" y="2584440"/>
            <a:ext cx="270000" cy="263520"/>
          </a:xfrm>
          <a:custGeom>
            <a:avLst/>
            <a:gdLst>
              <a:gd name="textAreaLeft" fmla="*/ 0 w 270000"/>
              <a:gd name="textAreaRight" fmla="*/ 270360 w 270000"/>
              <a:gd name="textAreaTop" fmla="*/ 0 h 263520"/>
              <a:gd name="textAreaBottom" fmla="*/ 263880 h 263520"/>
            </a:gdLst>
            <a:ahLst/>
            <a:rect l="textAreaLeft" t="textAreaTop" r="textAreaRight" b="textAreaBottom"/>
            <a:pathLst>
              <a:path w="120000" h="120000">
                <a:moveTo>
                  <a:pt x="110374" y="55045"/>
                </a:moveTo>
                <a:lnTo>
                  <a:pt x="110374" y="55045"/>
                </a:lnTo>
                <a:cubicBezTo>
                  <a:pt x="110374" y="103706"/>
                  <a:pt x="110374" y="103706"/>
                  <a:pt x="110374" y="103706"/>
                </a:cubicBezTo>
                <a:cubicBezTo>
                  <a:pt x="110374" y="107009"/>
                  <a:pt x="107165" y="110091"/>
                  <a:pt x="100748" y="110091"/>
                </a:cubicBezTo>
                <a:cubicBezTo>
                  <a:pt x="19037" y="110091"/>
                  <a:pt x="19037" y="110091"/>
                  <a:pt x="19037" y="110091"/>
                </a:cubicBezTo>
                <a:cubicBezTo>
                  <a:pt x="12620" y="110091"/>
                  <a:pt x="9411" y="107009"/>
                  <a:pt x="9411" y="103706"/>
                </a:cubicBezTo>
                <a:cubicBezTo>
                  <a:pt x="9411" y="16073"/>
                  <a:pt x="9411" y="16073"/>
                  <a:pt x="9411" y="16073"/>
                </a:cubicBezTo>
                <a:cubicBezTo>
                  <a:pt x="9411" y="12990"/>
                  <a:pt x="12620" y="6385"/>
                  <a:pt x="19037" y="6385"/>
                </a:cubicBezTo>
                <a:cubicBezTo>
                  <a:pt x="63101" y="6385"/>
                  <a:pt x="63101" y="6385"/>
                  <a:pt x="63101" y="6385"/>
                </a:cubicBezTo>
                <a:cubicBezTo>
                  <a:pt x="63101" y="0"/>
                  <a:pt x="63101" y="0"/>
                  <a:pt x="63101" y="0"/>
                </a:cubicBezTo>
                <a:cubicBezTo>
                  <a:pt x="19037" y="0"/>
                  <a:pt x="19037" y="0"/>
                  <a:pt x="19037" y="0"/>
                </a:cubicBezTo>
                <a:cubicBezTo>
                  <a:pt x="9411" y="0"/>
                  <a:pt x="0" y="9688"/>
                  <a:pt x="0" y="19376"/>
                </a:cubicBezTo>
                <a:cubicBezTo>
                  <a:pt x="0" y="103706"/>
                  <a:pt x="0" y="103706"/>
                  <a:pt x="0" y="103706"/>
                </a:cubicBezTo>
                <a:cubicBezTo>
                  <a:pt x="0" y="113394"/>
                  <a:pt x="9411" y="119779"/>
                  <a:pt x="19037" y="119779"/>
                </a:cubicBezTo>
                <a:cubicBezTo>
                  <a:pt x="100748" y="119779"/>
                  <a:pt x="100748" y="119779"/>
                  <a:pt x="100748" y="119779"/>
                </a:cubicBezTo>
                <a:cubicBezTo>
                  <a:pt x="110374" y="119779"/>
                  <a:pt x="119786" y="113394"/>
                  <a:pt x="119786" y="103706"/>
                </a:cubicBezTo>
                <a:cubicBezTo>
                  <a:pt x="119786" y="55045"/>
                  <a:pt x="119786" y="55045"/>
                  <a:pt x="119786" y="55045"/>
                </a:cubicBezTo>
                <a:lnTo>
                  <a:pt x="110374" y="55045"/>
                </a:lnTo>
                <a:close/>
                <a:moveTo>
                  <a:pt x="47272" y="45357"/>
                </a:moveTo>
                <a:lnTo>
                  <a:pt x="47272" y="45357"/>
                </a:lnTo>
                <a:lnTo>
                  <a:pt x="44064" y="42055"/>
                </a:lnTo>
                <a:cubicBezTo>
                  <a:pt x="41069" y="42055"/>
                  <a:pt x="37860" y="45357"/>
                  <a:pt x="37860" y="45357"/>
                </a:cubicBezTo>
                <a:cubicBezTo>
                  <a:pt x="37860" y="77724"/>
                  <a:pt x="37860" y="77724"/>
                  <a:pt x="37860" y="77724"/>
                </a:cubicBezTo>
                <a:cubicBezTo>
                  <a:pt x="37860" y="77724"/>
                  <a:pt x="41069" y="81027"/>
                  <a:pt x="44064" y="81027"/>
                </a:cubicBezTo>
                <a:cubicBezTo>
                  <a:pt x="72513" y="81027"/>
                  <a:pt x="72513" y="81027"/>
                  <a:pt x="72513" y="81027"/>
                </a:cubicBezTo>
                <a:cubicBezTo>
                  <a:pt x="75508" y="81027"/>
                  <a:pt x="75508" y="77724"/>
                  <a:pt x="75508" y="77724"/>
                </a:cubicBezTo>
                <a:cubicBezTo>
                  <a:pt x="75508" y="74642"/>
                  <a:pt x="75508" y="71339"/>
                  <a:pt x="72513" y="71339"/>
                </a:cubicBezTo>
                <a:cubicBezTo>
                  <a:pt x="53689" y="71339"/>
                  <a:pt x="53689" y="71339"/>
                  <a:pt x="53689" y="71339"/>
                </a:cubicBezTo>
                <a:cubicBezTo>
                  <a:pt x="116577" y="9688"/>
                  <a:pt x="116577" y="9688"/>
                  <a:pt x="116577" y="9688"/>
                </a:cubicBezTo>
                <a:cubicBezTo>
                  <a:pt x="116577" y="6385"/>
                  <a:pt x="116577" y="3082"/>
                  <a:pt x="116577" y="3082"/>
                </a:cubicBezTo>
                <a:cubicBezTo>
                  <a:pt x="113368" y="0"/>
                  <a:pt x="110374" y="0"/>
                  <a:pt x="110374" y="3082"/>
                </a:cubicBezTo>
                <a:cubicBezTo>
                  <a:pt x="47272" y="68036"/>
                  <a:pt x="47272" y="68036"/>
                  <a:pt x="47272" y="68036"/>
                </a:cubicBezTo>
                <a:lnTo>
                  <a:pt x="47272" y="4535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8" name="Shape 4640"/>
          <p:cNvSpPr/>
          <p:nvPr/>
        </p:nvSpPr>
        <p:spPr>
          <a:xfrm>
            <a:off x="7078680" y="256392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9" name="Shape 4641"/>
          <p:cNvSpPr/>
          <p:nvPr/>
        </p:nvSpPr>
        <p:spPr>
          <a:xfrm>
            <a:off x="6593040" y="2584440"/>
            <a:ext cx="304560" cy="263520"/>
          </a:xfrm>
          <a:custGeom>
            <a:avLst/>
            <a:gdLst>
              <a:gd name="textAreaLeft" fmla="*/ 0 w 304560"/>
              <a:gd name="textAreaRight" fmla="*/ 304920 w 304560"/>
              <a:gd name="textAreaTop" fmla="*/ 0 h 263520"/>
              <a:gd name="textAreaBottom" fmla="*/ 263880 h 263520"/>
            </a:gdLst>
            <a:ahLst/>
            <a:rect l="textAreaLeft" t="textAreaTop" r="textAreaRight" b="textAreaBottom"/>
            <a:pathLst>
              <a:path w="120000" h="120000">
                <a:moveTo>
                  <a:pt x="13817" y="42055"/>
                </a:moveTo>
                <a:lnTo>
                  <a:pt x="13817" y="42055"/>
                </a:lnTo>
                <a:cubicBezTo>
                  <a:pt x="5488" y="42055"/>
                  <a:pt x="0" y="48660"/>
                  <a:pt x="0" y="58348"/>
                </a:cubicBezTo>
                <a:cubicBezTo>
                  <a:pt x="0" y="68036"/>
                  <a:pt x="5488" y="77724"/>
                  <a:pt x="13817" y="77724"/>
                </a:cubicBezTo>
                <a:cubicBezTo>
                  <a:pt x="22145" y="77724"/>
                  <a:pt x="30662" y="68036"/>
                  <a:pt x="30662" y="58348"/>
                </a:cubicBezTo>
                <a:cubicBezTo>
                  <a:pt x="30662" y="48660"/>
                  <a:pt x="22145" y="42055"/>
                  <a:pt x="13817" y="42055"/>
                </a:cubicBezTo>
                <a:close/>
                <a:moveTo>
                  <a:pt x="13817" y="68036"/>
                </a:moveTo>
                <a:lnTo>
                  <a:pt x="13817" y="68036"/>
                </a:lnTo>
                <a:cubicBezTo>
                  <a:pt x="10977" y="68036"/>
                  <a:pt x="8328" y="64733"/>
                  <a:pt x="8328" y="58348"/>
                </a:cubicBezTo>
                <a:cubicBezTo>
                  <a:pt x="8328" y="55045"/>
                  <a:pt x="10977" y="51743"/>
                  <a:pt x="13817" y="51743"/>
                </a:cubicBezTo>
                <a:cubicBezTo>
                  <a:pt x="19495" y="51743"/>
                  <a:pt x="22145" y="55045"/>
                  <a:pt x="22145" y="58348"/>
                </a:cubicBezTo>
                <a:cubicBezTo>
                  <a:pt x="22145" y="64733"/>
                  <a:pt x="19495" y="68036"/>
                  <a:pt x="13817" y="68036"/>
                </a:cubicBezTo>
                <a:close/>
                <a:moveTo>
                  <a:pt x="102965" y="32366"/>
                </a:moveTo>
                <a:lnTo>
                  <a:pt x="102965" y="32366"/>
                </a:lnTo>
                <a:cubicBezTo>
                  <a:pt x="111293" y="32366"/>
                  <a:pt x="119810" y="25981"/>
                  <a:pt x="119810" y="16073"/>
                </a:cubicBezTo>
                <a:cubicBezTo>
                  <a:pt x="119810" y="6385"/>
                  <a:pt x="111293" y="0"/>
                  <a:pt x="102965" y="0"/>
                </a:cubicBezTo>
                <a:cubicBezTo>
                  <a:pt x="94637" y="0"/>
                  <a:pt x="89148" y="6385"/>
                  <a:pt x="89148" y="16073"/>
                </a:cubicBezTo>
                <a:cubicBezTo>
                  <a:pt x="89148" y="25981"/>
                  <a:pt x="94637" y="32366"/>
                  <a:pt x="102965" y="32366"/>
                </a:cubicBezTo>
                <a:close/>
                <a:moveTo>
                  <a:pt x="102965" y="6385"/>
                </a:moveTo>
                <a:lnTo>
                  <a:pt x="102965" y="6385"/>
                </a:lnTo>
                <a:cubicBezTo>
                  <a:pt x="108643" y="6385"/>
                  <a:pt x="111293" y="12990"/>
                  <a:pt x="111293" y="16073"/>
                </a:cubicBezTo>
                <a:cubicBezTo>
                  <a:pt x="111293" y="19376"/>
                  <a:pt x="108643" y="25981"/>
                  <a:pt x="102965" y="25981"/>
                </a:cubicBezTo>
                <a:cubicBezTo>
                  <a:pt x="100315" y="25981"/>
                  <a:pt x="97476" y="19376"/>
                  <a:pt x="97476" y="16073"/>
                </a:cubicBezTo>
                <a:cubicBezTo>
                  <a:pt x="97476" y="12990"/>
                  <a:pt x="100315" y="6385"/>
                  <a:pt x="102965" y="6385"/>
                </a:cubicBezTo>
                <a:close/>
                <a:moveTo>
                  <a:pt x="13817" y="84110"/>
                </a:moveTo>
                <a:lnTo>
                  <a:pt x="13817" y="84110"/>
                </a:lnTo>
                <a:cubicBezTo>
                  <a:pt x="5488" y="84110"/>
                  <a:pt x="0" y="94018"/>
                  <a:pt x="0" y="103706"/>
                </a:cubicBezTo>
                <a:cubicBezTo>
                  <a:pt x="0" y="113394"/>
                  <a:pt x="5488" y="119779"/>
                  <a:pt x="13817" y="119779"/>
                </a:cubicBezTo>
                <a:cubicBezTo>
                  <a:pt x="22145" y="119779"/>
                  <a:pt x="30662" y="113394"/>
                  <a:pt x="30662" y="103706"/>
                </a:cubicBezTo>
                <a:cubicBezTo>
                  <a:pt x="30662" y="94018"/>
                  <a:pt x="22145" y="84110"/>
                  <a:pt x="13817" y="84110"/>
                </a:cubicBezTo>
                <a:close/>
                <a:moveTo>
                  <a:pt x="13817" y="110091"/>
                </a:moveTo>
                <a:lnTo>
                  <a:pt x="13817" y="110091"/>
                </a:lnTo>
                <a:cubicBezTo>
                  <a:pt x="10977" y="110091"/>
                  <a:pt x="8328" y="107009"/>
                  <a:pt x="8328" y="103706"/>
                </a:cubicBezTo>
                <a:cubicBezTo>
                  <a:pt x="8328" y="97100"/>
                  <a:pt x="10977" y="94018"/>
                  <a:pt x="13817" y="94018"/>
                </a:cubicBezTo>
                <a:cubicBezTo>
                  <a:pt x="19495" y="94018"/>
                  <a:pt x="22145" y="97100"/>
                  <a:pt x="22145" y="103706"/>
                </a:cubicBezTo>
                <a:cubicBezTo>
                  <a:pt x="22145" y="107009"/>
                  <a:pt x="19495" y="110091"/>
                  <a:pt x="13817" y="110091"/>
                </a:cubicBezTo>
                <a:close/>
                <a:moveTo>
                  <a:pt x="102965" y="84110"/>
                </a:moveTo>
                <a:lnTo>
                  <a:pt x="102965" y="84110"/>
                </a:lnTo>
                <a:cubicBezTo>
                  <a:pt x="94637" y="84110"/>
                  <a:pt x="89148" y="94018"/>
                  <a:pt x="89148" y="103706"/>
                </a:cubicBezTo>
                <a:cubicBezTo>
                  <a:pt x="89148" y="113394"/>
                  <a:pt x="94637" y="119779"/>
                  <a:pt x="102965" y="119779"/>
                </a:cubicBezTo>
                <a:cubicBezTo>
                  <a:pt x="111293" y="119779"/>
                  <a:pt x="119810" y="113394"/>
                  <a:pt x="119810" y="103706"/>
                </a:cubicBezTo>
                <a:cubicBezTo>
                  <a:pt x="119810" y="94018"/>
                  <a:pt x="111293" y="84110"/>
                  <a:pt x="102965" y="84110"/>
                </a:cubicBezTo>
                <a:close/>
                <a:moveTo>
                  <a:pt x="102965" y="110091"/>
                </a:moveTo>
                <a:lnTo>
                  <a:pt x="102965" y="110091"/>
                </a:lnTo>
                <a:cubicBezTo>
                  <a:pt x="100315" y="110091"/>
                  <a:pt x="97476" y="107009"/>
                  <a:pt x="97476" y="103706"/>
                </a:cubicBezTo>
                <a:cubicBezTo>
                  <a:pt x="97476" y="97100"/>
                  <a:pt x="100315" y="94018"/>
                  <a:pt x="102965" y="94018"/>
                </a:cubicBezTo>
                <a:cubicBezTo>
                  <a:pt x="108643" y="94018"/>
                  <a:pt x="111293" y="97100"/>
                  <a:pt x="111293" y="103706"/>
                </a:cubicBezTo>
                <a:cubicBezTo>
                  <a:pt x="111293" y="107009"/>
                  <a:pt x="108643" y="110091"/>
                  <a:pt x="102965" y="110091"/>
                </a:cubicBezTo>
                <a:close/>
                <a:moveTo>
                  <a:pt x="13817" y="0"/>
                </a:moveTo>
                <a:lnTo>
                  <a:pt x="13817" y="0"/>
                </a:lnTo>
                <a:cubicBezTo>
                  <a:pt x="5488" y="0"/>
                  <a:pt x="0" y="6385"/>
                  <a:pt x="0" y="16073"/>
                </a:cubicBezTo>
                <a:cubicBezTo>
                  <a:pt x="0" y="25981"/>
                  <a:pt x="5488" y="32366"/>
                  <a:pt x="13817" y="32366"/>
                </a:cubicBezTo>
                <a:cubicBezTo>
                  <a:pt x="22145" y="32366"/>
                  <a:pt x="30662" y="25981"/>
                  <a:pt x="30662" y="16073"/>
                </a:cubicBezTo>
                <a:cubicBezTo>
                  <a:pt x="30662" y="6385"/>
                  <a:pt x="22145" y="0"/>
                  <a:pt x="13817" y="0"/>
                </a:cubicBezTo>
                <a:close/>
                <a:moveTo>
                  <a:pt x="13817" y="25981"/>
                </a:moveTo>
                <a:lnTo>
                  <a:pt x="13817" y="25981"/>
                </a:lnTo>
                <a:cubicBezTo>
                  <a:pt x="10977" y="25981"/>
                  <a:pt x="8328" y="19376"/>
                  <a:pt x="8328" y="16073"/>
                </a:cubicBezTo>
                <a:cubicBezTo>
                  <a:pt x="8328" y="12990"/>
                  <a:pt x="10977" y="6385"/>
                  <a:pt x="13817" y="6385"/>
                </a:cubicBezTo>
                <a:cubicBezTo>
                  <a:pt x="19495" y="6385"/>
                  <a:pt x="22145" y="12990"/>
                  <a:pt x="22145" y="16073"/>
                </a:cubicBezTo>
                <a:cubicBezTo>
                  <a:pt x="22145" y="19376"/>
                  <a:pt x="19495" y="25981"/>
                  <a:pt x="13817" y="25981"/>
                </a:cubicBezTo>
                <a:close/>
                <a:moveTo>
                  <a:pt x="102965" y="42055"/>
                </a:moveTo>
                <a:lnTo>
                  <a:pt x="102965" y="42055"/>
                </a:lnTo>
                <a:cubicBezTo>
                  <a:pt x="94637" y="42055"/>
                  <a:pt x="89148" y="48660"/>
                  <a:pt x="89148" y="58348"/>
                </a:cubicBezTo>
                <a:cubicBezTo>
                  <a:pt x="89148" y="68036"/>
                  <a:pt x="94637" y="77724"/>
                  <a:pt x="102965" y="77724"/>
                </a:cubicBezTo>
                <a:cubicBezTo>
                  <a:pt x="111293" y="77724"/>
                  <a:pt x="119810" y="68036"/>
                  <a:pt x="119810" y="58348"/>
                </a:cubicBezTo>
                <a:cubicBezTo>
                  <a:pt x="119810" y="48660"/>
                  <a:pt x="111293" y="42055"/>
                  <a:pt x="102965" y="42055"/>
                </a:cubicBezTo>
                <a:close/>
                <a:moveTo>
                  <a:pt x="102965" y="68036"/>
                </a:moveTo>
                <a:lnTo>
                  <a:pt x="102965" y="68036"/>
                </a:lnTo>
                <a:cubicBezTo>
                  <a:pt x="100315" y="68036"/>
                  <a:pt x="97476" y="64733"/>
                  <a:pt x="97476" y="58348"/>
                </a:cubicBezTo>
                <a:cubicBezTo>
                  <a:pt x="97476" y="55045"/>
                  <a:pt x="100315" y="51743"/>
                  <a:pt x="102965" y="51743"/>
                </a:cubicBezTo>
                <a:cubicBezTo>
                  <a:pt x="108643" y="51743"/>
                  <a:pt x="111293" y="55045"/>
                  <a:pt x="111293" y="58348"/>
                </a:cubicBezTo>
                <a:cubicBezTo>
                  <a:pt x="111293" y="64733"/>
                  <a:pt x="108643" y="68036"/>
                  <a:pt x="102965" y="68036"/>
                </a:cubicBezTo>
                <a:close/>
                <a:moveTo>
                  <a:pt x="58485" y="0"/>
                </a:moveTo>
                <a:lnTo>
                  <a:pt x="58485" y="0"/>
                </a:lnTo>
                <a:cubicBezTo>
                  <a:pt x="50157" y="0"/>
                  <a:pt x="44479" y="6385"/>
                  <a:pt x="44479" y="16073"/>
                </a:cubicBezTo>
                <a:cubicBezTo>
                  <a:pt x="44479" y="25981"/>
                  <a:pt x="50157" y="32366"/>
                  <a:pt x="58485" y="32366"/>
                </a:cubicBezTo>
                <a:cubicBezTo>
                  <a:pt x="66813" y="32366"/>
                  <a:pt x="75141" y="25981"/>
                  <a:pt x="75141" y="16073"/>
                </a:cubicBezTo>
                <a:cubicBezTo>
                  <a:pt x="75141" y="6385"/>
                  <a:pt x="66813" y="0"/>
                  <a:pt x="58485" y="0"/>
                </a:cubicBezTo>
                <a:close/>
                <a:moveTo>
                  <a:pt x="58485" y="25981"/>
                </a:moveTo>
                <a:lnTo>
                  <a:pt x="58485" y="25981"/>
                </a:lnTo>
                <a:cubicBezTo>
                  <a:pt x="55646" y="25981"/>
                  <a:pt x="52807" y="19376"/>
                  <a:pt x="52807" y="16073"/>
                </a:cubicBezTo>
                <a:cubicBezTo>
                  <a:pt x="52807" y="12990"/>
                  <a:pt x="55646" y="6385"/>
                  <a:pt x="58485" y="6385"/>
                </a:cubicBezTo>
                <a:cubicBezTo>
                  <a:pt x="63974" y="6385"/>
                  <a:pt x="66813" y="12990"/>
                  <a:pt x="66813" y="16073"/>
                </a:cubicBezTo>
                <a:cubicBezTo>
                  <a:pt x="66813" y="19376"/>
                  <a:pt x="63974" y="25981"/>
                  <a:pt x="58485" y="25981"/>
                </a:cubicBezTo>
                <a:close/>
                <a:moveTo>
                  <a:pt x="58485" y="84110"/>
                </a:moveTo>
                <a:lnTo>
                  <a:pt x="58485" y="84110"/>
                </a:lnTo>
                <a:cubicBezTo>
                  <a:pt x="50157" y="84110"/>
                  <a:pt x="44479" y="94018"/>
                  <a:pt x="44479" y="103706"/>
                </a:cubicBezTo>
                <a:cubicBezTo>
                  <a:pt x="44479" y="113394"/>
                  <a:pt x="50157" y="119779"/>
                  <a:pt x="58485" y="119779"/>
                </a:cubicBezTo>
                <a:cubicBezTo>
                  <a:pt x="66813" y="119779"/>
                  <a:pt x="75141" y="113394"/>
                  <a:pt x="75141" y="103706"/>
                </a:cubicBezTo>
                <a:cubicBezTo>
                  <a:pt x="75141" y="94018"/>
                  <a:pt x="66813" y="84110"/>
                  <a:pt x="58485" y="84110"/>
                </a:cubicBezTo>
                <a:close/>
                <a:moveTo>
                  <a:pt x="58485" y="110091"/>
                </a:moveTo>
                <a:lnTo>
                  <a:pt x="58485" y="110091"/>
                </a:lnTo>
                <a:cubicBezTo>
                  <a:pt x="55646" y="110091"/>
                  <a:pt x="52807" y="107009"/>
                  <a:pt x="52807" y="103706"/>
                </a:cubicBezTo>
                <a:cubicBezTo>
                  <a:pt x="52807" y="97100"/>
                  <a:pt x="55646" y="94018"/>
                  <a:pt x="58485" y="94018"/>
                </a:cubicBezTo>
                <a:cubicBezTo>
                  <a:pt x="63974" y="94018"/>
                  <a:pt x="66813" y="97100"/>
                  <a:pt x="66813" y="103706"/>
                </a:cubicBezTo>
                <a:cubicBezTo>
                  <a:pt x="66813" y="107009"/>
                  <a:pt x="63974" y="110091"/>
                  <a:pt x="58485" y="110091"/>
                </a:cubicBezTo>
                <a:close/>
                <a:moveTo>
                  <a:pt x="58485" y="42055"/>
                </a:moveTo>
                <a:lnTo>
                  <a:pt x="58485" y="42055"/>
                </a:lnTo>
                <a:cubicBezTo>
                  <a:pt x="50157" y="42055"/>
                  <a:pt x="44479" y="48660"/>
                  <a:pt x="44479" y="58348"/>
                </a:cubicBezTo>
                <a:cubicBezTo>
                  <a:pt x="44479" y="68036"/>
                  <a:pt x="50157" y="77724"/>
                  <a:pt x="58485" y="77724"/>
                </a:cubicBezTo>
                <a:cubicBezTo>
                  <a:pt x="66813" y="77724"/>
                  <a:pt x="75141" y="68036"/>
                  <a:pt x="75141" y="58348"/>
                </a:cubicBezTo>
                <a:cubicBezTo>
                  <a:pt x="75141" y="48660"/>
                  <a:pt x="66813" y="42055"/>
                  <a:pt x="58485" y="42055"/>
                </a:cubicBezTo>
                <a:close/>
                <a:moveTo>
                  <a:pt x="58485" y="68036"/>
                </a:moveTo>
                <a:lnTo>
                  <a:pt x="58485" y="68036"/>
                </a:lnTo>
                <a:cubicBezTo>
                  <a:pt x="55646" y="68036"/>
                  <a:pt x="52807" y="64733"/>
                  <a:pt x="52807" y="58348"/>
                </a:cubicBezTo>
                <a:cubicBezTo>
                  <a:pt x="52807" y="55045"/>
                  <a:pt x="55646" y="51743"/>
                  <a:pt x="58485" y="51743"/>
                </a:cubicBezTo>
                <a:cubicBezTo>
                  <a:pt x="63974" y="51743"/>
                  <a:pt x="66813" y="55045"/>
                  <a:pt x="66813" y="58348"/>
                </a:cubicBezTo>
                <a:cubicBezTo>
                  <a:pt x="66813" y="64733"/>
                  <a:pt x="63974" y="68036"/>
                  <a:pt x="58485" y="6803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0" name="Shape 4642"/>
          <p:cNvSpPr/>
          <p:nvPr/>
        </p:nvSpPr>
        <p:spPr>
          <a:xfrm>
            <a:off x="6116760" y="258444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1" name="Shape 4643"/>
          <p:cNvSpPr/>
          <p:nvPr/>
        </p:nvSpPr>
        <p:spPr>
          <a:xfrm>
            <a:off x="10524960" y="2075040"/>
            <a:ext cx="284400" cy="298440"/>
          </a:xfrm>
          <a:custGeom>
            <a:avLst/>
            <a:gdLst>
              <a:gd name="textAreaLeft" fmla="*/ 0 w 284400"/>
              <a:gd name="textAreaRight" fmla="*/ 284760 w 284400"/>
              <a:gd name="textAreaTop" fmla="*/ 0 h 298440"/>
              <a:gd name="textAreaBottom" fmla="*/ 298800 h 298440"/>
            </a:gdLst>
            <a:ahLst/>
            <a:rect l="textAreaLeft" t="textAreaTop" r="textAreaRight" b="textAreaBottom"/>
            <a:pathLst>
              <a:path w="120000" h="120000">
                <a:moveTo>
                  <a:pt x="59898" y="0"/>
                </a:moveTo>
                <a:lnTo>
                  <a:pt x="59898" y="0"/>
                </a:lnTo>
                <a:cubicBezTo>
                  <a:pt x="0" y="65718"/>
                  <a:pt x="0" y="65718"/>
                  <a:pt x="0" y="65718"/>
                </a:cubicBezTo>
                <a:cubicBezTo>
                  <a:pt x="5908" y="71340"/>
                  <a:pt x="5908" y="71340"/>
                  <a:pt x="5908" y="71340"/>
                </a:cubicBezTo>
                <a:cubicBezTo>
                  <a:pt x="20984" y="56995"/>
                  <a:pt x="20984" y="56995"/>
                  <a:pt x="20984" y="56995"/>
                </a:cubicBezTo>
                <a:cubicBezTo>
                  <a:pt x="20984" y="105654"/>
                  <a:pt x="20984" y="105654"/>
                  <a:pt x="20984" y="105654"/>
                </a:cubicBezTo>
                <a:cubicBezTo>
                  <a:pt x="20984" y="114184"/>
                  <a:pt x="26893" y="119806"/>
                  <a:pt x="35857" y="119806"/>
                </a:cubicBezTo>
                <a:cubicBezTo>
                  <a:pt x="83938" y="119806"/>
                  <a:pt x="83938" y="119806"/>
                  <a:pt x="83938" y="119806"/>
                </a:cubicBezTo>
                <a:cubicBezTo>
                  <a:pt x="92903" y="119806"/>
                  <a:pt x="98811" y="114184"/>
                  <a:pt x="98811" y="105654"/>
                </a:cubicBezTo>
                <a:cubicBezTo>
                  <a:pt x="98811" y="56995"/>
                  <a:pt x="98811" y="56995"/>
                  <a:pt x="98811" y="56995"/>
                </a:cubicBezTo>
                <a:cubicBezTo>
                  <a:pt x="113887" y="71340"/>
                  <a:pt x="113887" y="71340"/>
                  <a:pt x="113887" y="71340"/>
                </a:cubicBezTo>
                <a:cubicBezTo>
                  <a:pt x="119796" y="65718"/>
                  <a:pt x="119796" y="65718"/>
                  <a:pt x="119796" y="65718"/>
                </a:cubicBezTo>
                <a:lnTo>
                  <a:pt x="59898" y="0"/>
                </a:lnTo>
                <a:close/>
                <a:moveTo>
                  <a:pt x="92903" y="105654"/>
                </a:moveTo>
                <a:lnTo>
                  <a:pt x="92903" y="105654"/>
                </a:lnTo>
                <a:cubicBezTo>
                  <a:pt x="92903" y="108368"/>
                  <a:pt x="86791" y="114184"/>
                  <a:pt x="83938" y="114184"/>
                </a:cubicBezTo>
                <a:cubicBezTo>
                  <a:pt x="35857" y="114184"/>
                  <a:pt x="35857" y="114184"/>
                  <a:pt x="35857" y="114184"/>
                </a:cubicBezTo>
                <a:cubicBezTo>
                  <a:pt x="33005" y="114184"/>
                  <a:pt x="26893" y="108368"/>
                  <a:pt x="26893" y="105654"/>
                </a:cubicBezTo>
                <a:cubicBezTo>
                  <a:pt x="26893" y="45557"/>
                  <a:pt x="26893" y="45557"/>
                  <a:pt x="26893" y="45557"/>
                </a:cubicBezTo>
                <a:cubicBezTo>
                  <a:pt x="59898" y="11437"/>
                  <a:pt x="59898" y="11437"/>
                  <a:pt x="59898" y="11437"/>
                </a:cubicBezTo>
                <a:cubicBezTo>
                  <a:pt x="92903" y="45557"/>
                  <a:pt x="92903" y="45557"/>
                  <a:pt x="92903" y="45557"/>
                </a:cubicBezTo>
                <a:lnTo>
                  <a:pt x="92903" y="10565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2" name="Shape 4644"/>
          <p:cNvSpPr/>
          <p:nvPr/>
        </p:nvSpPr>
        <p:spPr>
          <a:xfrm>
            <a:off x="1002348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3" name="Shape 4645"/>
          <p:cNvSpPr/>
          <p:nvPr/>
        </p:nvSpPr>
        <p:spPr>
          <a:xfrm>
            <a:off x="9540720" y="2082960"/>
            <a:ext cx="284400" cy="284040"/>
          </a:xfrm>
          <a:custGeom>
            <a:avLst/>
            <a:gdLst>
              <a:gd name="textAreaLeft" fmla="*/ 0 w 284400"/>
              <a:gd name="textAreaRight" fmla="*/ 284760 w 284400"/>
              <a:gd name="textAreaTop" fmla="*/ 0 h 284040"/>
              <a:gd name="textAreaBottom" fmla="*/ 284400 h 284040"/>
            </a:gdLst>
            <a:ahLst/>
            <a:rect l="textAreaLeft" t="textAreaTop" r="textAreaRight" b="textAreaBottom"/>
            <a:pathLst>
              <a:path w="120000" h="120000">
                <a:moveTo>
                  <a:pt x="60000" y="0"/>
                </a:moveTo>
                <a:lnTo>
                  <a:pt x="60000" y="0"/>
                </a:lnTo>
                <a:cubicBezTo>
                  <a:pt x="27050" y="0"/>
                  <a:pt x="0" y="26893"/>
                  <a:pt x="0" y="59898"/>
                </a:cubicBezTo>
                <a:cubicBezTo>
                  <a:pt x="0" y="92903"/>
                  <a:pt x="27050" y="119796"/>
                  <a:pt x="60000" y="119796"/>
                </a:cubicBezTo>
                <a:cubicBezTo>
                  <a:pt x="92949" y="119796"/>
                  <a:pt x="119796" y="92903"/>
                  <a:pt x="119796" y="59898"/>
                </a:cubicBezTo>
                <a:cubicBezTo>
                  <a:pt x="119796" y="26893"/>
                  <a:pt x="92949" y="0"/>
                  <a:pt x="60000" y="0"/>
                </a:cubicBezTo>
                <a:close/>
                <a:moveTo>
                  <a:pt x="65898" y="110831"/>
                </a:moveTo>
                <a:lnTo>
                  <a:pt x="65898" y="110831"/>
                </a:lnTo>
                <a:cubicBezTo>
                  <a:pt x="65898" y="92903"/>
                  <a:pt x="65898" y="92903"/>
                  <a:pt x="65898" y="92903"/>
                </a:cubicBezTo>
                <a:cubicBezTo>
                  <a:pt x="65898" y="89847"/>
                  <a:pt x="63050" y="86791"/>
                  <a:pt x="60000" y="86791"/>
                </a:cubicBezTo>
                <a:cubicBezTo>
                  <a:pt x="60000" y="86791"/>
                  <a:pt x="56949" y="89847"/>
                  <a:pt x="56949" y="92903"/>
                </a:cubicBezTo>
                <a:cubicBezTo>
                  <a:pt x="56949" y="110831"/>
                  <a:pt x="56949" y="110831"/>
                  <a:pt x="56949" y="110831"/>
                </a:cubicBezTo>
                <a:cubicBezTo>
                  <a:pt x="30101" y="110831"/>
                  <a:pt x="12000" y="89847"/>
                  <a:pt x="9152" y="62954"/>
                </a:cubicBezTo>
                <a:cubicBezTo>
                  <a:pt x="30101" y="62954"/>
                  <a:pt x="30101" y="62954"/>
                  <a:pt x="30101" y="62954"/>
                </a:cubicBezTo>
                <a:cubicBezTo>
                  <a:pt x="30101" y="62954"/>
                  <a:pt x="32949" y="62954"/>
                  <a:pt x="32949" y="59898"/>
                </a:cubicBezTo>
                <a:cubicBezTo>
                  <a:pt x="32949" y="56842"/>
                  <a:pt x="30101" y="56842"/>
                  <a:pt x="30101" y="56842"/>
                </a:cubicBezTo>
                <a:cubicBezTo>
                  <a:pt x="9152" y="56842"/>
                  <a:pt x="9152" y="56842"/>
                  <a:pt x="9152" y="56842"/>
                </a:cubicBezTo>
                <a:cubicBezTo>
                  <a:pt x="12000" y="29949"/>
                  <a:pt x="30101" y="8964"/>
                  <a:pt x="56949" y="8964"/>
                </a:cubicBezTo>
                <a:cubicBezTo>
                  <a:pt x="56949" y="26893"/>
                  <a:pt x="56949" y="26893"/>
                  <a:pt x="56949" y="26893"/>
                </a:cubicBezTo>
                <a:cubicBezTo>
                  <a:pt x="56949" y="29949"/>
                  <a:pt x="60000" y="33005"/>
                  <a:pt x="60000" y="33005"/>
                </a:cubicBezTo>
                <a:cubicBezTo>
                  <a:pt x="63050" y="33005"/>
                  <a:pt x="65898" y="29949"/>
                  <a:pt x="65898" y="26893"/>
                </a:cubicBezTo>
                <a:cubicBezTo>
                  <a:pt x="65898" y="8964"/>
                  <a:pt x="65898" y="8964"/>
                  <a:pt x="65898" y="8964"/>
                </a:cubicBezTo>
                <a:cubicBezTo>
                  <a:pt x="89898" y="8964"/>
                  <a:pt x="110847" y="29949"/>
                  <a:pt x="113898" y="56842"/>
                </a:cubicBezTo>
                <a:cubicBezTo>
                  <a:pt x="92949" y="56842"/>
                  <a:pt x="92949" y="56842"/>
                  <a:pt x="92949" y="56842"/>
                </a:cubicBezTo>
                <a:cubicBezTo>
                  <a:pt x="89898" y="56842"/>
                  <a:pt x="89898" y="56842"/>
                  <a:pt x="89898" y="59898"/>
                </a:cubicBezTo>
                <a:cubicBezTo>
                  <a:pt x="89898" y="62954"/>
                  <a:pt x="89898" y="62954"/>
                  <a:pt x="92949" y="62954"/>
                </a:cubicBezTo>
                <a:cubicBezTo>
                  <a:pt x="113898" y="62954"/>
                  <a:pt x="113898" y="62954"/>
                  <a:pt x="113898" y="62954"/>
                </a:cubicBezTo>
                <a:cubicBezTo>
                  <a:pt x="110847" y="89847"/>
                  <a:pt x="89898" y="110831"/>
                  <a:pt x="65898" y="1108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4" name="Shape 4646"/>
          <p:cNvSpPr/>
          <p:nvPr/>
        </p:nvSpPr>
        <p:spPr>
          <a:xfrm>
            <a:off x="9053640" y="2066760"/>
            <a:ext cx="295200" cy="297000"/>
          </a:xfrm>
          <a:custGeom>
            <a:avLst/>
            <a:gdLst>
              <a:gd name="textAreaLeft" fmla="*/ 0 w 295200"/>
              <a:gd name="textAreaRight" fmla="*/ 295560 w 295200"/>
              <a:gd name="textAreaTop" fmla="*/ 0 h 297000"/>
              <a:gd name="textAreaBottom" fmla="*/ 297360 h 29700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5" name="Shape 4647"/>
          <p:cNvSpPr/>
          <p:nvPr/>
        </p:nvSpPr>
        <p:spPr>
          <a:xfrm>
            <a:off x="8570880" y="2082960"/>
            <a:ext cx="263520" cy="284040"/>
          </a:xfrm>
          <a:custGeom>
            <a:avLst/>
            <a:gdLst>
              <a:gd name="textAreaLeft" fmla="*/ 0 w 263520"/>
              <a:gd name="textAreaRight" fmla="*/ 263880 w 263520"/>
              <a:gd name="textAreaTop" fmla="*/ 0 h 284040"/>
              <a:gd name="textAreaBottom" fmla="*/ 284400 h 284040"/>
            </a:gdLst>
            <a:ahLst/>
            <a:rect l="textAreaLeft" t="textAreaTop" r="textAreaRight" b="textAreaBottom"/>
            <a:pathLst>
              <a:path w="120000" h="120000">
                <a:moveTo>
                  <a:pt x="103706" y="71918"/>
                </a:moveTo>
                <a:lnTo>
                  <a:pt x="103706" y="71918"/>
                </a:lnTo>
                <a:cubicBezTo>
                  <a:pt x="103706" y="38913"/>
                  <a:pt x="103706" y="38913"/>
                  <a:pt x="103706" y="38913"/>
                </a:cubicBezTo>
                <a:cubicBezTo>
                  <a:pt x="103706" y="17928"/>
                  <a:pt x="84330" y="0"/>
                  <a:pt x="61431" y="0"/>
                </a:cubicBezTo>
                <a:cubicBezTo>
                  <a:pt x="35669" y="0"/>
                  <a:pt x="16073" y="17928"/>
                  <a:pt x="16073" y="38913"/>
                </a:cubicBezTo>
                <a:cubicBezTo>
                  <a:pt x="16073" y="71918"/>
                  <a:pt x="16073" y="71918"/>
                  <a:pt x="16073" y="71918"/>
                </a:cubicBezTo>
                <a:cubicBezTo>
                  <a:pt x="0" y="104923"/>
                  <a:pt x="0" y="104923"/>
                  <a:pt x="0" y="104923"/>
                </a:cubicBezTo>
                <a:cubicBezTo>
                  <a:pt x="38752" y="104923"/>
                  <a:pt x="38752" y="104923"/>
                  <a:pt x="38752" y="104923"/>
                </a:cubicBezTo>
                <a:cubicBezTo>
                  <a:pt x="42055" y="113887"/>
                  <a:pt x="48440" y="119796"/>
                  <a:pt x="61431" y="119796"/>
                </a:cubicBezTo>
                <a:cubicBezTo>
                  <a:pt x="71339" y="119796"/>
                  <a:pt x="80807" y="113887"/>
                  <a:pt x="80807" y="104923"/>
                </a:cubicBezTo>
                <a:cubicBezTo>
                  <a:pt x="119779" y="104923"/>
                  <a:pt x="119779" y="104923"/>
                  <a:pt x="119779" y="104923"/>
                </a:cubicBezTo>
                <a:lnTo>
                  <a:pt x="103706" y="71918"/>
                </a:lnTo>
                <a:close/>
                <a:moveTo>
                  <a:pt x="61431" y="110831"/>
                </a:moveTo>
                <a:lnTo>
                  <a:pt x="61431" y="110831"/>
                </a:lnTo>
                <a:cubicBezTo>
                  <a:pt x="55045" y="110831"/>
                  <a:pt x="48440" y="107979"/>
                  <a:pt x="48440" y="104923"/>
                </a:cubicBezTo>
                <a:cubicBezTo>
                  <a:pt x="71339" y="104923"/>
                  <a:pt x="71339" y="104923"/>
                  <a:pt x="71339" y="104923"/>
                </a:cubicBezTo>
                <a:cubicBezTo>
                  <a:pt x="71339" y="107979"/>
                  <a:pt x="64733" y="110831"/>
                  <a:pt x="61431" y="110831"/>
                </a:cubicBezTo>
                <a:close/>
                <a:moveTo>
                  <a:pt x="12770" y="95959"/>
                </a:moveTo>
                <a:lnTo>
                  <a:pt x="12770" y="95959"/>
                </a:lnTo>
                <a:cubicBezTo>
                  <a:pt x="25761" y="71918"/>
                  <a:pt x="25761" y="71918"/>
                  <a:pt x="25761" y="71918"/>
                </a:cubicBezTo>
                <a:cubicBezTo>
                  <a:pt x="25761" y="38913"/>
                  <a:pt x="25761" y="38913"/>
                  <a:pt x="25761" y="38913"/>
                </a:cubicBezTo>
                <a:cubicBezTo>
                  <a:pt x="25761" y="20984"/>
                  <a:pt x="42055" y="8964"/>
                  <a:pt x="61431" y="8964"/>
                </a:cubicBezTo>
                <a:cubicBezTo>
                  <a:pt x="80807" y="8964"/>
                  <a:pt x="93798" y="20984"/>
                  <a:pt x="93798" y="38913"/>
                </a:cubicBezTo>
                <a:cubicBezTo>
                  <a:pt x="93798" y="71918"/>
                  <a:pt x="93798" y="71918"/>
                  <a:pt x="93798" y="71918"/>
                </a:cubicBezTo>
                <a:cubicBezTo>
                  <a:pt x="106788" y="95959"/>
                  <a:pt x="106788" y="95959"/>
                  <a:pt x="106788" y="95959"/>
                </a:cubicBezTo>
                <a:lnTo>
                  <a:pt x="12770" y="959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6" name="Shape 4648"/>
          <p:cNvSpPr/>
          <p:nvPr/>
        </p:nvSpPr>
        <p:spPr>
          <a:xfrm>
            <a:off x="8061480" y="207504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7" name="Shape 4649"/>
          <p:cNvSpPr/>
          <p:nvPr/>
        </p:nvSpPr>
        <p:spPr>
          <a:xfrm>
            <a:off x="7575480" y="2075040"/>
            <a:ext cx="295200" cy="298440"/>
          </a:xfrm>
          <a:custGeom>
            <a:avLst/>
            <a:gdLst>
              <a:gd name="textAreaLeft" fmla="*/ 0 w 295200"/>
              <a:gd name="textAreaRight" fmla="*/ 295560 w 295200"/>
              <a:gd name="textAreaTop" fmla="*/ 0 h 298440"/>
              <a:gd name="textAreaBottom" fmla="*/ 298800 h 298440"/>
            </a:gdLst>
            <a:ahLst/>
            <a:rect l="textAreaLeft" t="textAreaTop" r="textAreaRight" b="textAreaBottom"/>
            <a:pathLst>
              <a:path w="120000" h="120000">
                <a:moveTo>
                  <a:pt x="108368" y="91308"/>
                </a:moveTo>
                <a:lnTo>
                  <a:pt x="108368" y="91308"/>
                </a:lnTo>
                <a:cubicBezTo>
                  <a:pt x="108368" y="28497"/>
                  <a:pt x="108368" y="28497"/>
                  <a:pt x="108368" y="28497"/>
                </a:cubicBezTo>
                <a:cubicBezTo>
                  <a:pt x="116898" y="28497"/>
                  <a:pt x="119806" y="19967"/>
                  <a:pt x="119806" y="14151"/>
                </a:cubicBezTo>
                <a:cubicBezTo>
                  <a:pt x="119806" y="5621"/>
                  <a:pt x="114184" y="0"/>
                  <a:pt x="105654" y="0"/>
                </a:cubicBezTo>
                <a:cubicBezTo>
                  <a:pt x="99838" y="0"/>
                  <a:pt x="91308" y="2907"/>
                  <a:pt x="91308" y="11437"/>
                </a:cubicBezTo>
                <a:cubicBezTo>
                  <a:pt x="28497" y="11437"/>
                  <a:pt x="28497" y="11437"/>
                  <a:pt x="28497" y="11437"/>
                </a:cubicBezTo>
                <a:cubicBezTo>
                  <a:pt x="28497" y="2907"/>
                  <a:pt x="19967" y="0"/>
                  <a:pt x="14151" y="0"/>
                </a:cubicBezTo>
                <a:cubicBezTo>
                  <a:pt x="5621" y="0"/>
                  <a:pt x="0" y="5621"/>
                  <a:pt x="0" y="14151"/>
                </a:cubicBezTo>
                <a:cubicBezTo>
                  <a:pt x="0" y="19967"/>
                  <a:pt x="2907" y="28497"/>
                  <a:pt x="11437" y="28497"/>
                </a:cubicBezTo>
                <a:cubicBezTo>
                  <a:pt x="11437" y="91308"/>
                  <a:pt x="11437" y="91308"/>
                  <a:pt x="11437" y="91308"/>
                </a:cubicBezTo>
                <a:cubicBezTo>
                  <a:pt x="2907" y="91308"/>
                  <a:pt x="0" y="99838"/>
                  <a:pt x="0" y="105654"/>
                </a:cubicBezTo>
                <a:cubicBezTo>
                  <a:pt x="0" y="114184"/>
                  <a:pt x="5621" y="119806"/>
                  <a:pt x="14151" y="119806"/>
                </a:cubicBezTo>
                <a:cubicBezTo>
                  <a:pt x="19967" y="119806"/>
                  <a:pt x="28497" y="116898"/>
                  <a:pt x="28497" y="108368"/>
                </a:cubicBezTo>
                <a:cubicBezTo>
                  <a:pt x="91308" y="108368"/>
                  <a:pt x="91308" y="108368"/>
                  <a:pt x="91308" y="108368"/>
                </a:cubicBezTo>
                <a:cubicBezTo>
                  <a:pt x="91308" y="116898"/>
                  <a:pt x="99838" y="119806"/>
                  <a:pt x="105654" y="119806"/>
                </a:cubicBezTo>
                <a:cubicBezTo>
                  <a:pt x="114184" y="119806"/>
                  <a:pt x="119806" y="114184"/>
                  <a:pt x="119806" y="105654"/>
                </a:cubicBezTo>
                <a:cubicBezTo>
                  <a:pt x="119806" y="99838"/>
                  <a:pt x="116898" y="91308"/>
                  <a:pt x="108368" y="91308"/>
                </a:cubicBezTo>
                <a:close/>
                <a:moveTo>
                  <a:pt x="105654" y="5621"/>
                </a:moveTo>
                <a:lnTo>
                  <a:pt x="105654" y="5621"/>
                </a:lnTo>
                <a:cubicBezTo>
                  <a:pt x="108368" y="5621"/>
                  <a:pt x="114184" y="11437"/>
                  <a:pt x="114184" y="14151"/>
                </a:cubicBezTo>
                <a:cubicBezTo>
                  <a:pt x="114184" y="17059"/>
                  <a:pt x="108368" y="22875"/>
                  <a:pt x="105654" y="22875"/>
                </a:cubicBezTo>
                <a:cubicBezTo>
                  <a:pt x="102746" y="22875"/>
                  <a:pt x="96930" y="17059"/>
                  <a:pt x="96930" y="14151"/>
                </a:cubicBezTo>
                <a:cubicBezTo>
                  <a:pt x="96930" y="11437"/>
                  <a:pt x="102746" y="5621"/>
                  <a:pt x="105654" y="5621"/>
                </a:cubicBezTo>
                <a:close/>
                <a:moveTo>
                  <a:pt x="5621" y="14151"/>
                </a:moveTo>
                <a:lnTo>
                  <a:pt x="5621" y="14151"/>
                </a:lnTo>
                <a:cubicBezTo>
                  <a:pt x="5621" y="11437"/>
                  <a:pt x="11437" y="5621"/>
                  <a:pt x="14151" y="5621"/>
                </a:cubicBezTo>
                <a:cubicBezTo>
                  <a:pt x="17059" y="5621"/>
                  <a:pt x="22875" y="11437"/>
                  <a:pt x="22875" y="14151"/>
                </a:cubicBezTo>
                <a:cubicBezTo>
                  <a:pt x="22875" y="17059"/>
                  <a:pt x="17059" y="22875"/>
                  <a:pt x="14151" y="22875"/>
                </a:cubicBezTo>
                <a:cubicBezTo>
                  <a:pt x="11437" y="22875"/>
                  <a:pt x="5621" y="17059"/>
                  <a:pt x="5621" y="14151"/>
                </a:cubicBezTo>
                <a:close/>
                <a:moveTo>
                  <a:pt x="14151" y="114184"/>
                </a:moveTo>
                <a:lnTo>
                  <a:pt x="14151" y="114184"/>
                </a:lnTo>
                <a:cubicBezTo>
                  <a:pt x="11437" y="114184"/>
                  <a:pt x="5621" y="108368"/>
                  <a:pt x="5621" y="105654"/>
                </a:cubicBezTo>
                <a:cubicBezTo>
                  <a:pt x="5621" y="102746"/>
                  <a:pt x="11437" y="96930"/>
                  <a:pt x="14151" y="96930"/>
                </a:cubicBezTo>
                <a:cubicBezTo>
                  <a:pt x="17059" y="96930"/>
                  <a:pt x="22875" y="102746"/>
                  <a:pt x="22875" y="105654"/>
                </a:cubicBezTo>
                <a:cubicBezTo>
                  <a:pt x="22875" y="108368"/>
                  <a:pt x="17059" y="114184"/>
                  <a:pt x="14151" y="114184"/>
                </a:cubicBezTo>
                <a:close/>
                <a:moveTo>
                  <a:pt x="91308" y="102746"/>
                </a:moveTo>
                <a:lnTo>
                  <a:pt x="91308" y="102746"/>
                </a:lnTo>
                <a:cubicBezTo>
                  <a:pt x="28497" y="102746"/>
                  <a:pt x="28497" y="102746"/>
                  <a:pt x="28497" y="102746"/>
                </a:cubicBezTo>
                <a:cubicBezTo>
                  <a:pt x="28497" y="96930"/>
                  <a:pt x="22875" y="91308"/>
                  <a:pt x="17059" y="91308"/>
                </a:cubicBezTo>
                <a:cubicBezTo>
                  <a:pt x="17059" y="28497"/>
                  <a:pt x="17059" y="28497"/>
                  <a:pt x="17059" y="28497"/>
                </a:cubicBezTo>
                <a:cubicBezTo>
                  <a:pt x="22875" y="28497"/>
                  <a:pt x="28497" y="22875"/>
                  <a:pt x="28497" y="17059"/>
                </a:cubicBezTo>
                <a:cubicBezTo>
                  <a:pt x="91308" y="17059"/>
                  <a:pt x="91308" y="17059"/>
                  <a:pt x="91308" y="17059"/>
                </a:cubicBezTo>
                <a:cubicBezTo>
                  <a:pt x="91308" y="22875"/>
                  <a:pt x="96930" y="28497"/>
                  <a:pt x="102746" y="28497"/>
                </a:cubicBezTo>
                <a:cubicBezTo>
                  <a:pt x="102746" y="91308"/>
                  <a:pt x="102746" y="91308"/>
                  <a:pt x="102746" y="91308"/>
                </a:cubicBezTo>
                <a:cubicBezTo>
                  <a:pt x="96930" y="91308"/>
                  <a:pt x="91308" y="96930"/>
                  <a:pt x="91308" y="102746"/>
                </a:cubicBezTo>
                <a:close/>
                <a:moveTo>
                  <a:pt x="105654" y="114184"/>
                </a:moveTo>
                <a:lnTo>
                  <a:pt x="105654" y="114184"/>
                </a:lnTo>
                <a:cubicBezTo>
                  <a:pt x="102746" y="114184"/>
                  <a:pt x="96930" y="108368"/>
                  <a:pt x="96930" y="105654"/>
                </a:cubicBezTo>
                <a:cubicBezTo>
                  <a:pt x="96930" y="102746"/>
                  <a:pt x="102746" y="96930"/>
                  <a:pt x="105654" y="96930"/>
                </a:cubicBezTo>
                <a:cubicBezTo>
                  <a:pt x="108368" y="96930"/>
                  <a:pt x="114184" y="102746"/>
                  <a:pt x="114184" y="105654"/>
                </a:cubicBezTo>
                <a:cubicBezTo>
                  <a:pt x="114184" y="108368"/>
                  <a:pt x="108368" y="114184"/>
                  <a:pt x="105654" y="1141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8" name="Shape 4650"/>
          <p:cNvSpPr/>
          <p:nvPr/>
        </p:nvSpPr>
        <p:spPr>
          <a:xfrm>
            <a:off x="7135920" y="214632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9" name="Shape 4651"/>
          <p:cNvSpPr/>
          <p:nvPr/>
        </p:nvSpPr>
        <p:spPr>
          <a:xfrm>
            <a:off x="6593040" y="207504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9810" y="45557"/>
                </a:moveTo>
                <a:lnTo>
                  <a:pt x="77981" y="39935"/>
                </a:lnTo>
                <a:lnTo>
                  <a:pt x="58485" y="0"/>
                </a:lnTo>
                <a:lnTo>
                  <a:pt x="41640" y="39935"/>
                </a:lnTo>
                <a:lnTo>
                  <a:pt x="0" y="45557"/>
                </a:lnTo>
                <a:lnTo>
                  <a:pt x="30662" y="77156"/>
                </a:lnTo>
                <a:lnTo>
                  <a:pt x="22145" y="119806"/>
                </a:lnTo>
                <a:lnTo>
                  <a:pt x="58485" y="99838"/>
                </a:lnTo>
                <a:lnTo>
                  <a:pt x="97476" y="119806"/>
                </a:lnTo>
                <a:lnTo>
                  <a:pt x="89148" y="77156"/>
                </a:lnTo>
                <a:lnTo>
                  <a:pt x="119810" y="45557"/>
                </a:lnTo>
                <a:close/>
                <a:moveTo>
                  <a:pt x="58485" y="91308"/>
                </a:moveTo>
                <a:lnTo>
                  <a:pt x="30662" y="105654"/>
                </a:lnTo>
                <a:lnTo>
                  <a:pt x="36151" y="74054"/>
                </a:lnTo>
                <a:lnTo>
                  <a:pt x="13817" y="51373"/>
                </a:lnTo>
                <a:lnTo>
                  <a:pt x="44479" y="45557"/>
                </a:lnTo>
                <a:lnTo>
                  <a:pt x="58485" y="14151"/>
                </a:lnTo>
                <a:lnTo>
                  <a:pt x="72492" y="45557"/>
                </a:lnTo>
                <a:lnTo>
                  <a:pt x="105804" y="51373"/>
                </a:lnTo>
                <a:lnTo>
                  <a:pt x="80630" y="74054"/>
                </a:lnTo>
                <a:lnTo>
                  <a:pt x="86309" y="108368"/>
                </a:lnTo>
                <a:lnTo>
                  <a:pt x="58485" y="913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0" name="Shape 4652"/>
          <p:cNvSpPr/>
          <p:nvPr/>
        </p:nvSpPr>
        <p:spPr>
          <a:xfrm>
            <a:off x="6102360" y="208296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1" name="Shape 4653"/>
          <p:cNvSpPr/>
          <p:nvPr/>
        </p:nvSpPr>
        <p:spPr>
          <a:xfrm>
            <a:off x="10558440" y="1579680"/>
            <a:ext cx="212760" cy="304560"/>
          </a:xfrm>
          <a:custGeom>
            <a:avLst/>
            <a:gdLst>
              <a:gd name="textAreaLeft" fmla="*/ 0 w 212760"/>
              <a:gd name="textAreaRight" fmla="*/ 213120 w 212760"/>
              <a:gd name="textAreaTop" fmla="*/ 0 h 304560"/>
              <a:gd name="textAreaBottom" fmla="*/ 304920 h 304560"/>
            </a:gdLst>
            <a:ahLst/>
            <a:rect l="textAreaLeft" t="textAreaTop" r="textAreaRight" b="textAreaBottom"/>
            <a:pathLst>
              <a:path w="120000" h="120000">
                <a:moveTo>
                  <a:pt x="59864" y="61324"/>
                </a:moveTo>
                <a:lnTo>
                  <a:pt x="59864" y="61324"/>
                </a:lnTo>
                <a:cubicBezTo>
                  <a:pt x="59864" y="33501"/>
                  <a:pt x="83972" y="14006"/>
                  <a:pt x="119729" y="5678"/>
                </a:cubicBezTo>
                <a:cubicBezTo>
                  <a:pt x="107810" y="2839"/>
                  <a:pt x="99954" y="0"/>
                  <a:pt x="87765" y="0"/>
                </a:cubicBezTo>
                <a:cubicBezTo>
                  <a:pt x="40090" y="0"/>
                  <a:pt x="0" y="28012"/>
                  <a:pt x="0" y="61324"/>
                </a:cubicBezTo>
                <a:cubicBezTo>
                  <a:pt x="0" y="91987"/>
                  <a:pt x="40090" y="119810"/>
                  <a:pt x="87765" y="119810"/>
                </a:cubicBezTo>
                <a:cubicBezTo>
                  <a:pt x="99954" y="119810"/>
                  <a:pt x="107810" y="119810"/>
                  <a:pt x="119729" y="117160"/>
                </a:cubicBezTo>
                <a:cubicBezTo>
                  <a:pt x="83972" y="108643"/>
                  <a:pt x="59864" y="86498"/>
                  <a:pt x="59864" y="61324"/>
                </a:cubicBezTo>
                <a:close/>
                <a:moveTo>
                  <a:pt x="75846" y="111482"/>
                </a:moveTo>
                <a:lnTo>
                  <a:pt x="75846" y="111482"/>
                </a:lnTo>
                <a:cubicBezTo>
                  <a:pt x="52009" y="111482"/>
                  <a:pt x="11918" y="89148"/>
                  <a:pt x="11918" y="61324"/>
                </a:cubicBezTo>
                <a:cubicBezTo>
                  <a:pt x="11918" y="30662"/>
                  <a:pt x="52009" y="11167"/>
                  <a:pt x="75846" y="8328"/>
                </a:cubicBezTo>
                <a:cubicBezTo>
                  <a:pt x="83972" y="8328"/>
                  <a:pt x="79909" y="8328"/>
                  <a:pt x="87765" y="8328"/>
                </a:cubicBezTo>
                <a:cubicBezTo>
                  <a:pt x="71783" y="16845"/>
                  <a:pt x="52009" y="38990"/>
                  <a:pt x="52009" y="61324"/>
                </a:cubicBezTo>
                <a:cubicBezTo>
                  <a:pt x="52009" y="83659"/>
                  <a:pt x="63927" y="103154"/>
                  <a:pt x="87765" y="111482"/>
                </a:cubicBezTo>
                <a:cubicBezTo>
                  <a:pt x="79909" y="111482"/>
                  <a:pt x="83972" y="111482"/>
                  <a:pt x="75846"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2" name="Shape 4654"/>
          <p:cNvSpPr/>
          <p:nvPr/>
        </p:nvSpPr>
        <p:spPr>
          <a:xfrm>
            <a:off x="10023480" y="159372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3" name="Shape 4655"/>
          <p:cNvSpPr/>
          <p:nvPr/>
        </p:nvSpPr>
        <p:spPr>
          <a:xfrm>
            <a:off x="9553680" y="1608120"/>
            <a:ext cx="263520" cy="246240"/>
          </a:xfrm>
          <a:custGeom>
            <a:avLst/>
            <a:gdLst>
              <a:gd name="textAreaLeft" fmla="*/ 0 w 263520"/>
              <a:gd name="textAreaRight" fmla="*/ 263880 w 263520"/>
              <a:gd name="textAreaTop" fmla="*/ 0 h 246240"/>
              <a:gd name="textAreaBottom" fmla="*/ 246600 h 246240"/>
            </a:gdLst>
            <a:ahLst/>
            <a:rect l="textAreaLeft" t="textAreaTop" r="textAreaRight" b="textAreaBottom"/>
            <a:pathLst>
              <a:path w="120000" h="120000">
                <a:moveTo>
                  <a:pt x="16073" y="54883"/>
                </a:moveTo>
                <a:lnTo>
                  <a:pt x="16073" y="54883"/>
                </a:lnTo>
                <a:cubicBezTo>
                  <a:pt x="94018" y="54883"/>
                  <a:pt x="94018" y="54883"/>
                  <a:pt x="94018" y="54883"/>
                </a:cubicBezTo>
                <a:cubicBezTo>
                  <a:pt x="107009" y="54883"/>
                  <a:pt x="119779" y="44651"/>
                  <a:pt x="119779" y="27441"/>
                </a:cubicBezTo>
                <a:cubicBezTo>
                  <a:pt x="119779" y="13720"/>
                  <a:pt x="107009" y="0"/>
                  <a:pt x="94018" y="0"/>
                </a:cubicBezTo>
                <a:cubicBezTo>
                  <a:pt x="94018" y="10232"/>
                  <a:pt x="94018" y="10232"/>
                  <a:pt x="94018" y="10232"/>
                </a:cubicBezTo>
                <a:cubicBezTo>
                  <a:pt x="107009" y="13720"/>
                  <a:pt x="110091" y="17209"/>
                  <a:pt x="110091" y="27441"/>
                </a:cubicBezTo>
                <a:cubicBezTo>
                  <a:pt x="110091" y="37674"/>
                  <a:pt x="100403" y="47906"/>
                  <a:pt x="87633" y="47906"/>
                </a:cubicBezTo>
                <a:cubicBezTo>
                  <a:pt x="16073" y="47906"/>
                  <a:pt x="16073" y="47906"/>
                  <a:pt x="16073" y="47906"/>
                </a:cubicBezTo>
                <a:cubicBezTo>
                  <a:pt x="12990" y="47906"/>
                  <a:pt x="12990" y="47906"/>
                  <a:pt x="12990" y="51395"/>
                </a:cubicBezTo>
                <a:cubicBezTo>
                  <a:pt x="12990" y="54883"/>
                  <a:pt x="12990" y="54883"/>
                  <a:pt x="16073" y="54883"/>
                </a:cubicBezTo>
                <a:close/>
                <a:moveTo>
                  <a:pt x="38972" y="37674"/>
                </a:moveTo>
                <a:lnTo>
                  <a:pt x="38972" y="37674"/>
                </a:lnTo>
                <a:cubicBezTo>
                  <a:pt x="90715" y="37674"/>
                  <a:pt x="90715" y="37674"/>
                  <a:pt x="90715" y="37674"/>
                </a:cubicBezTo>
                <a:lnTo>
                  <a:pt x="94018" y="34186"/>
                </a:lnTo>
                <a:cubicBezTo>
                  <a:pt x="94018" y="30930"/>
                  <a:pt x="90715" y="27441"/>
                  <a:pt x="90715" y="27441"/>
                </a:cubicBezTo>
                <a:cubicBezTo>
                  <a:pt x="38972" y="27441"/>
                  <a:pt x="38972" y="27441"/>
                  <a:pt x="38972" y="27441"/>
                </a:cubicBezTo>
                <a:cubicBezTo>
                  <a:pt x="35669" y="27441"/>
                  <a:pt x="32366" y="30930"/>
                  <a:pt x="32366" y="34186"/>
                </a:cubicBezTo>
                <a:cubicBezTo>
                  <a:pt x="32366" y="34186"/>
                  <a:pt x="35669" y="37674"/>
                  <a:pt x="38972" y="37674"/>
                </a:cubicBezTo>
                <a:close/>
                <a:moveTo>
                  <a:pt x="58348" y="82093"/>
                </a:moveTo>
                <a:lnTo>
                  <a:pt x="58348" y="82093"/>
                </a:lnTo>
                <a:lnTo>
                  <a:pt x="58348" y="82093"/>
                </a:lnTo>
                <a:cubicBezTo>
                  <a:pt x="25981" y="82093"/>
                  <a:pt x="25981" y="82093"/>
                  <a:pt x="25981" y="82093"/>
                </a:cubicBezTo>
                <a:cubicBezTo>
                  <a:pt x="22678" y="82093"/>
                  <a:pt x="19376" y="85581"/>
                  <a:pt x="19376" y="89069"/>
                </a:cubicBezTo>
                <a:cubicBezTo>
                  <a:pt x="19376" y="89069"/>
                  <a:pt x="22678" y="92558"/>
                  <a:pt x="25981" y="92558"/>
                </a:cubicBezTo>
                <a:cubicBezTo>
                  <a:pt x="58348" y="92558"/>
                  <a:pt x="58348" y="92558"/>
                  <a:pt x="58348" y="92558"/>
                </a:cubicBezTo>
                <a:cubicBezTo>
                  <a:pt x="64733" y="92558"/>
                  <a:pt x="68036" y="95813"/>
                  <a:pt x="68036" y="102790"/>
                </a:cubicBezTo>
                <a:cubicBezTo>
                  <a:pt x="68036" y="106279"/>
                  <a:pt x="64733" y="109534"/>
                  <a:pt x="58348" y="109534"/>
                </a:cubicBezTo>
                <a:cubicBezTo>
                  <a:pt x="58348" y="119767"/>
                  <a:pt x="58348" y="119767"/>
                  <a:pt x="58348" y="119767"/>
                </a:cubicBezTo>
                <a:cubicBezTo>
                  <a:pt x="68036" y="119767"/>
                  <a:pt x="77724" y="113023"/>
                  <a:pt x="77724" y="102790"/>
                </a:cubicBezTo>
                <a:cubicBezTo>
                  <a:pt x="77724" y="92558"/>
                  <a:pt x="68036" y="82093"/>
                  <a:pt x="58348" y="82093"/>
                </a:cubicBezTo>
                <a:close/>
                <a:moveTo>
                  <a:pt x="94018" y="65116"/>
                </a:moveTo>
                <a:lnTo>
                  <a:pt x="94018" y="65116"/>
                </a:lnTo>
                <a:cubicBezTo>
                  <a:pt x="3302" y="65116"/>
                  <a:pt x="3302" y="65116"/>
                  <a:pt x="3302" y="65116"/>
                </a:cubicBezTo>
                <a:cubicBezTo>
                  <a:pt x="0" y="65116"/>
                  <a:pt x="0" y="68372"/>
                  <a:pt x="0" y="68372"/>
                </a:cubicBezTo>
                <a:cubicBezTo>
                  <a:pt x="0" y="72093"/>
                  <a:pt x="0" y="75348"/>
                  <a:pt x="3302" y="75348"/>
                </a:cubicBezTo>
                <a:cubicBezTo>
                  <a:pt x="87633" y="75348"/>
                  <a:pt x="87633" y="75348"/>
                  <a:pt x="87633" y="75348"/>
                </a:cubicBezTo>
                <a:cubicBezTo>
                  <a:pt x="100403" y="75348"/>
                  <a:pt x="110091" y="82093"/>
                  <a:pt x="110091" y="92558"/>
                </a:cubicBezTo>
                <a:cubicBezTo>
                  <a:pt x="110091" y="102790"/>
                  <a:pt x="103706" y="109534"/>
                  <a:pt x="84110" y="109534"/>
                </a:cubicBezTo>
                <a:cubicBezTo>
                  <a:pt x="84110" y="109534"/>
                  <a:pt x="84110" y="113023"/>
                  <a:pt x="84110" y="119767"/>
                </a:cubicBezTo>
                <a:cubicBezTo>
                  <a:pt x="94018" y="119767"/>
                  <a:pt x="94018" y="119767"/>
                  <a:pt x="94018" y="119767"/>
                </a:cubicBezTo>
                <a:cubicBezTo>
                  <a:pt x="107009" y="119767"/>
                  <a:pt x="119779" y="106279"/>
                  <a:pt x="119779" y="92558"/>
                </a:cubicBezTo>
                <a:cubicBezTo>
                  <a:pt x="119779" y="78837"/>
                  <a:pt x="107009" y="65116"/>
                  <a:pt x="94018" y="65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4" name="Shape 4656"/>
          <p:cNvSpPr/>
          <p:nvPr/>
        </p:nvSpPr>
        <p:spPr>
          <a:xfrm>
            <a:off x="9045720" y="157968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5" name="Shape 4657"/>
          <p:cNvSpPr/>
          <p:nvPr/>
        </p:nvSpPr>
        <p:spPr>
          <a:xfrm>
            <a:off x="8550360" y="157968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11167" y="75331"/>
                </a:moveTo>
                <a:lnTo>
                  <a:pt x="11167" y="75331"/>
                </a:lnTo>
                <a:cubicBezTo>
                  <a:pt x="8517" y="69842"/>
                  <a:pt x="8517" y="66813"/>
                  <a:pt x="8517" y="61324"/>
                </a:cubicBezTo>
                <a:cubicBezTo>
                  <a:pt x="8517" y="30662"/>
                  <a:pt x="30662" y="8328"/>
                  <a:pt x="61324" y="8328"/>
                </a:cubicBezTo>
                <a:cubicBezTo>
                  <a:pt x="89148" y="8328"/>
                  <a:pt x="111482" y="30662"/>
                  <a:pt x="111482" y="61324"/>
                </a:cubicBezTo>
                <a:cubicBezTo>
                  <a:pt x="111482" y="66813"/>
                  <a:pt x="111482" y="69842"/>
                  <a:pt x="111482" y="75331"/>
                </a:cubicBezTo>
                <a:cubicBezTo>
                  <a:pt x="117160" y="75331"/>
                  <a:pt x="117160" y="75331"/>
                  <a:pt x="117160" y="75331"/>
                </a:cubicBezTo>
                <a:cubicBezTo>
                  <a:pt x="119810" y="69842"/>
                  <a:pt x="119810" y="66813"/>
                  <a:pt x="119810" y="61324"/>
                </a:cubicBezTo>
                <a:cubicBezTo>
                  <a:pt x="119810" y="28012"/>
                  <a:pt x="91987" y="0"/>
                  <a:pt x="61324" y="0"/>
                </a:cubicBezTo>
                <a:cubicBezTo>
                  <a:pt x="28012" y="0"/>
                  <a:pt x="0" y="28012"/>
                  <a:pt x="0" y="61324"/>
                </a:cubicBezTo>
                <a:cubicBezTo>
                  <a:pt x="0" y="66813"/>
                  <a:pt x="2839" y="69842"/>
                  <a:pt x="2839" y="75331"/>
                </a:cubicBezTo>
                <a:lnTo>
                  <a:pt x="11167" y="75331"/>
                </a:lnTo>
                <a:close/>
                <a:moveTo>
                  <a:pt x="77981" y="111482"/>
                </a:moveTo>
                <a:lnTo>
                  <a:pt x="77981" y="111482"/>
                </a:lnTo>
                <a:cubicBezTo>
                  <a:pt x="41829" y="111482"/>
                  <a:pt x="41829" y="111482"/>
                  <a:pt x="41829" y="111482"/>
                </a:cubicBezTo>
                <a:cubicBezTo>
                  <a:pt x="39179" y="111482"/>
                  <a:pt x="39179" y="114321"/>
                  <a:pt x="39179" y="117160"/>
                </a:cubicBezTo>
                <a:cubicBezTo>
                  <a:pt x="39179" y="117160"/>
                  <a:pt x="39179" y="119810"/>
                  <a:pt x="41829" y="119810"/>
                </a:cubicBezTo>
                <a:cubicBezTo>
                  <a:pt x="61324" y="119810"/>
                  <a:pt x="61324" y="119810"/>
                  <a:pt x="61324" y="119810"/>
                </a:cubicBezTo>
                <a:lnTo>
                  <a:pt x="61324" y="119810"/>
                </a:lnTo>
                <a:lnTo>
                  <a:pt x="61324" y="119810"/>
                </a:lnTo>
                <a:cubicBezTo>
                  <a:pt x="77981" y="119810"/>
                  <a:pt x="77981" y="119810"/>
                  <a:pt x="77981" y="119810"/>
                </a:cubicBezTo>
                <a:cubicBezTo>
                  <a:pt x="81009" y="119810"/>
                  <a:pt x="83659" y="117160"/>
                  <a:pt x="83659" y="117160"/>
                </a:cubicBezTo>
                <a:cubicBezTo>
                  <a:pt x="83659" y="114321"/>
                  <a:pt x="81009" y="111482"/>
                  <a:pt x="77981" y="111482"/>
                </a:cubicBezTo>
                <a:close/>
                <a:moveTo>
                  <a:pt x="117160" y="83659"/>
                </a:moveTo>
                <a:lnTo>
                  <a:pt x="117160" y="83659"/>
                </a:lnTo>
                <a:cubicBezTo>
                  <a:pt x="5678" y="83659"/>
                  <a:pt x="5678" y="83659"/>
                  <a:pt x="5678" y="83659"/>
                </a:cubicBezTo>
                <a:cubicBezTo>
                  <a:pt x="2839" y="83659"/>
                  <a:pt x="0" y="83659"/>
                  <a:pt x="0" y="86498"/>
                </a:cubicBezTo>
                <a:cubicBezTo>
                  <a:pt x="0" y="89148"/>
                  <a:pt x="2839" y="89148"/>
                  <a:pt x="5678" y="89148"/>
                </a:cubicBezTo>
                <a:cubicBezTo>
                  <a:pt x="117160" y="89148"/>
                  <a:pt x="117160" y="89148"/>
                  <a:pt x="117160" y="89148"/>
                </a:cubicBezTo>
                <a:cubicBezTo>
                  <a:pt x="117160" y="89148"/>
                  <a:pt x="119810" y="89148"/>
                  <a:pt x="119810" y="86498"/>
                </a:cubicBezTo>
                <a:cubicBezTo>
                  <a:pt x="119810" y="83659"/>
                  <a:pt x="117160" y="83659"/>
                  <a:pt x="117160" y="83659"/>
                </a:cubicBezTo>
                <a:close/>
                <a:moveTo>
                  <a:pt x="105993" y="97665"/>
                </a:moveTo>
                <a:lnTo>
                  <a:pt x="105993" y="97665"/>
                </a:lnTo>
                <a:cubicBezTo>
                  <a:pt x="16845" y="97665"/>
                  <a:pt x="16845" y="97665"/>
                  <a:pt x="16845" y="97665"/>
                </a:cubicBezTo>
                <a:cubicBezTo>
                  <a:pt x="14006" y="97665"/>
                  <a:pt x="11167" y="100315"/>
                  <a:pt x="11167" y="100315"/>
                </a:cubicBezTo>
                <a:cubicBezTo>
                  <a:pt x="11167" y="103154"/>
                  <a:pt x="14006" y="105993"/>
                  <a:pt x="16845" y="105993"/>
                </a:cubicBezTo>
                <a:cubicBezTo>
                  <a:pt x="105993" y="105993"/>
                  <a:pt x="105993" y="105993"/>
                  <a:pt x="105993" y="105993"/>
                </a:cubicBezTo>
                <a:cubicBezTo>
                  <a:pt x="105993" y="105993"/>
                  <a:pt x="108832" y="103154"/>
                  <a:pt x="108832" y="100315"/>
                </a:cubicBezTo>
                <a:lnTo>
                  <a:pt x="105993" y="976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6" name="Shape 4658"/>
          <p:cNvSpPr/>
          <p:nvPr/>
        </p:nvSpPr>
        <p:spPr>
          <a:xfrm>
            <a:off x="8120160" y="157968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7" name="Shape 4659"/>
          <p:cNvSpPr/>
          <p:nvPr/>
        </p:nvSpPr>
        <p:spPr>
          <a:xfrm>
            <a:off x="7581960" y="1600200"/>
            <a:ext cx="284040" cy="263520"/>
          </a:xfrm>
          <a:custGeom>
            <a:avLst/>
            <a:gdLst>
              <a:gd name="textAreaLeft" fmla="*/ 0 w 284040"/>
              <a:gd name="textAreaRight" fmla="*/ 284400 w 284040"/>
              <a:gd name="textAreaTop" fmla="*/ 0 h 263520"/>
              <a:gd name="textAreaBottom" fmla="*/ 263880 h 263520"/>
            </a:gdLst>
            <a:ahLst/>
            <a:rect l="textAreaLeft" t="textAreaTop" r="textAreaRight" b="textAreaBottom"/>
            <a:pathLst>
              <a:path w="120000" h="120000">
                <a:moveTo>
                  <a:pt x="20984" y="67912"/>
                </a:moveTo>
                <a:lnTo>
                  <a:pt x="20984" y="67912"/>
                </a:lnTo>
                <a:cubicBezTo>
                  <a:pt x="23837" y="48571"/>
                  <a:pt x="41969" y="35604"/>
                  <a:pt x="59898" y="35604"/>
                </a:cubicBezTo>
                <a:cubicBezTo>
                  <a:pt x="78030" y="35604"/>
                  <a:pt x="95959" y="48571"/>
                  <a:pt x="98811" y="67912"/>
                </a:cubicBezTo>
                <a:cubicBezTo>
                  <a:pt x="107979" y="67912"/>
                  <a:pt x="107979" y="67912"/>
                  <a:pt x="107979" y="67912"/>
                </a:cubicBezTo>
                <a:cubicBezTo>
                  <a:pt x="104923" y="45494"/>
                  <a:pt x="83938" y="25934"/>
                  <a:pt x="59898" y="25934"/>
                </a:cubicBezTo>
                <a:cubicBezTo>
                  <a:pt x="35857" y="25934"/>
                  <a:pt x="14872" y="45494"/>
                  <a:pt x="11816" y="67912"/>
                </a:cubicBezTo>
                <a:lnTo>
                  <a:pt x="20984" y="67912"/>
                </a:lnTo>
                <a:close/>
                <a:moveTo>
                  <a:pt x="107979" y="35604"/>
                </a:moveTo>
                <a:lnTo>
                  <a:pt x="107979" y="35604"/>
                </a:lnTo>
                <a:cubicBezTo>
                  <a:pt x="113887" y="29230"/>
                  <a:pt x="113887" y="29230"/>
                  <a:pt x="113887" y="29230"/>
                </a:cubicBezTo>
                <a:cubicBezTo>
                  <a:pt x="113887" y="29230"/>
                  <a:pt x="113887" y="25934"/>
                  <a:pt x="113887" y="22857"/>
                </a:cubicBezTo>
                <a:cubicBezTo>
                  <a:pt x="110831" y="22857"/>
                  <a:pt x="110831" y="22857"/>
                  <a:pt x="107979" y="22857"/>
                </a:cubicBezTo>
                <a:cubicBezTo>
                  <a:pt x="101867" y="29230"/>
                  <a:pt x="101867" y="29230"/>
                  <a:pt x="101867" y="29230"/>
                </a:cubicBezTo>
                <a:cubicBezTo>
                  <a:pt x="101867" y="32527"/>
                  <a:pt x="101867" y="35604"/>
                  <a:pt x="101867" y="35604"/>
                </a:cubicBezTo>
                <a:cubicBezTo>
                  <a:pt x="104923" y="38901"/>
                  <a:pt x="104923" y="38901"/>
                  <a:pt x="107979" y="35604"/>
                </a:cubicBezTo>
                <a:close/>
                <a:moveTo>
                  <a:pt x="59898" y="16263"/>
                </a:moveTo>
                <a:lnTo>
                  <a:pt x="59898" y="16263"/>
                </a:lnTo>
                <a:cubicBezTo>
                  <a:pt x="62954" y="16263"/>
                  <a:pt x="62954" y="16263"/>
                  <a:pt x="62954" y="12967"/>
                </a:cubicBezTo>
                <a:cubicBezTo>
                  <a:pt x="62954" y="3296"/>
                  <a:pt x="62954" y="3296"/>
                  <a:pt x="62954" y="3296"/>
                </a:cubicBezTo>
                <a:cubicBezTo>
                  <a:pt x="62954" y="3296"/>
                  <a:pt x="62954" y="0"/>
                  <a:pt x="59898" y="0"/>
                </a:cubicBezTo>
                <a:cubicBezTo>
                  <a:pt x="56842" y="0"/>
                  <a:pt x="56842" y="3296"/>
                  <a:pt x="56842" y="3296"/>
                </a:cubicBezTo>
                <a:cubicBezTo>
                  <a:pt x="56842" y="12967"/>
                  <a:pt x="56842" y="12967"/>
                  <a:pt x="56842" y="12967"/>
                </a:cubicBezTo>
                <a:cubicBezTo>
                  <a:pt x="56842" y="16263"/>
                  <a:pt x="56842" y="16263"/>
                  <a:pt x="59898" y="16263"/>
                </a:cubicBezTo>
                <a:close/>
                <a:moveTo>
                  <a:pt x="98811" y="113406"/>
                </a:moveTo>
                <a:lnTo>
                  <a:pt x="98811" y="113406"/>
                </a:lnTo>
                <a:cubicBezTo>
                  <a:pt x="20984" y="113406"/>
                  <a:pt x="20984" y="113406"/>
                  <a:pt x="20984" y="113406"/>
                </a:cubicBezTo>
                <a:cubicBezTo>
                  <a:pt x="17928" y="113406"/>
                  <a:pt x="14872" y="113406"/>
                  <a:pt x="14872" y="116483"/>
                </a:cubicBezTo>
                <a:cubicBezTo>
                  <a:pt x="14872" y="119780"/>
                  <a:pt x="17928" y="119780"/>
                  <a:pt x="20984" y="119780"/>
                </a:cubicBezTo>
                <a:cubicBezTo>
                  <a:pt x="98811" y="119780"/>
                  <a:pt x="98811" y="119780"/>
                  <a:pt x="98811" y="119780"/>
                </a:cubicBezTo>
                <a:cubicBezTo>
                  <a:pt x="101867" y="119780"/>
                  <a:pt x="104923" y="119780"/>
                  <a:pt x="104923" y="116483"/>
                </a:cubicBezTo>
                <a:cubicBezTo>
                  <a:pt x="104923" y="113406"/>
                  <a:pt x="101867" y="113406"/>
                  <a:pt x="98811" y="113406"/>
                </a:cubicBezTo>
                <a:close/>
                <a:moveTo>
                  <a:pt x="116943" y="77802"/>
                </a:moveTo>
                <a:lnTo>
                  <a:pt x="116943" y="77802"/>
                </a:lnTo>
                <a:cubicBezTo>
                  <a:pt x="2852" y="77802"/>
                  <a:pt x="2852" y="77802"/>
                  <a:pt x="2852" y="77802"/>
                </a:cubicBezTo>
                <a:lnTo>
                  <a:pt x="0" y="80879"/>
                </a:lnTo>
                <a:cubicBezTo>
                  <a:pt x="0" y="84175"/>
                  <a:pt x="2852" y="87472"/>
                  <a:pt x="2852" y="87472"/>
                </a:cubicBezTo>
                <a:cubicBezTo>
                  <a:pt x="116943" y="87472"/>
                  <a:pt x="116943" y="87472"/>
                  <a:pt x="116943" y="87472"/>
                </a:cubicBezTo>
                <a:cubicBezTo>
                  <a:pt x="116943" y="87472"/>
                  <a:pt x="119796" y="84175"/>
                  <a:pt x="119796" y="80879"/>
                </a:cubicBezTo>
                <a:lnTo>
                  <a:pt x="116943" y="77802"/>
                </a:lnTo>
                <a:close/>
                <a:moveTo>
                  <a:pt x="11816" y="35604"/>
                </a:moveTo>
                <a:lnTo>
                  <a:pt x="11816" y="35604"/>
                </a:lnTo>
                <a:cubicBezTo>
                  <a:pt x="14872" y="38901"/>
                  <a:pt x="14872" y="38901"/>
                  <a:pt x="17928" y="35604"/>
                </a:cubicBezTo>
                <a:cubicBezTo>
                  <a:pt x="17928" y="35604"/>
                  <a:pt x="17928" y="32527"/>
                  <a:pt x="17928" y="29230"/>
                </a:cubicBezTo>
                <a:cubicBezTo>
                  <a:pt x="11816" y="22857"/>
                  <a:pt x="11816" y="22857"/>
                  <a:pt x="11816" y="22857"/>
                </a:cubicBezTo>
                <a:cubicBezTo>
                  <a:pt x="8964" y="22857"/>
                  <a:pt x="8964" y="22857"/>
                  <a:pt x="5908" y="22857"/>
                </a:cubicBezTo>
                <a:cubicBezTo>
                  <a:pt x="5908" y="25934"/>
                  <a:pt x="5908" y="29230"/>
                  <a:pt x="5908" y="29230"/>
                </a:cubicBezTo>
                <a:lnTo>
                  <a:pt x="11816" y="35604"/>
                </a:lnTo>
                <a:close/>
                <a:moveTo>
                  <a:pt x="110831" y="93846"/>
                </a:moveTo>
                <a:lnTo>
                  <a:pt x="110831" y="93846"/>
                </a:lnTo>
                <a:cubicBezTo>
                  <a:pt x="8964" y="93846"/>
                  <a:pt x="8964" y="93846"/>
                  <a:pt x="8964" y="93846"/>
                </a:cubicBezTo>
                <a:cubicBezTo>
                  <a:pt x="5908" y="93846"/>
                  <a:pt x="2852" y="97142"/>
                  <a:pt x="2852" y="100439"/>
                </a:cubicBezTo>
                <a:cubicBezTo>
                  <a:pt x="2852" y="100439"/>
                  <a:pt x="5908" y="103736"/>
                  <a:pt x="8964" y="103736"/>
                </a:cubicBezTo>
                <a:cubicBezTo>
                  <a:pt x="110831" y="103736"/>
                  <a:pt x="110831" y="103736"/>
                  <a:pt x="110831" y="103736"/>
                </a:cubicBezTo>
                <a:cubicBezTo>
                  <a:pt x="113887" y="103736"/>
                  <a:pt x="116943" y="100439"/>
                  <a:pt x="116943" y="100439"/>
                </a:cubicBezTo>
                <a:cubicBezTo>
                  <a:pt x="116943" y="97142"/>
                  <a:pt x="113887" y="93846"/>
                  <a:pt x="110831" y="9384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8" name="Shape 4660"/>
          <p:cNvSpPr/>
          <p:nvPr/>
        </p:nvSpPr>
        <p:spPr>
          <a:xfrm>
            <a:off x="7101000" y="162252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39" name="Shape 4661"/>
          <p:cNvSpPr/>
          <p:nvPr/>
        </p:nvSpPr>
        <p:spPr>
          <a:xfrm>
            <a:off x="6597720" y="157968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50157" y="100315"/>
                </a:moveTo>
                <a:lnTo>
                  <a:pt x="50157" y="100315"/>
                </a:lnTo>
                <a:cubicBezTo>
                  <a:pt x="47507" y="100315"/>
                  <a:pt x="44668" y="103154"/>
                  <a:pt x="44668" y="105993"/>
                </a:cubicBezTo>
                <a:cubicBezTo>
                  <a:pt x="44668" y="117160"/>
                  <a:pt x="44668" y="117160"/>
                  <a:pt x="44668" y="117160"/>
                </a:cubicBezTo>
                <a:cubicBezTo>
                  <a:pt x="44668" y="117160"/>
                  <a:pt x="47507" y="119810"/>
                  <a:pt x="50157" y="119810"/>
                </a:cubicBezTo>
                <a:lnTo>
                  <a:pt x="52996" y="117160"/>
                </a:lnTo>
                <a:cubicBezTo>
                  <a:pt x="52996" y="105993"/>
                  <a:pt x="52996" y="105993"/>
                  <a:pt x="52996" y="105993"/>
                </a:cubicBezTo>
                <a:cubicBezTo>
                  <a:pt x="52996" y="103154"/>
                  <a:pt x="50157" y="100315"/>
                  <a:pt x="50157" y="100315"/>
                </a:cubicBezTo>
                <a:close/>
                <a:moveTo>
                  <a:pt x="28012" y="100315"/>
                </a:moveTo>
                <a:lnTo>
                  <a:pt x="28012" y="100315"/>
                </a:lnTo>
                <a:cubicBezTo>
                  <a:pt x="25173" y="100315"/>
                  <a:pt x="22334" y="103154"/>
                  <a:pt x="22334" y="105993"/>
                </a:cubicBezTo>
                <a:cubicBezTo>
                  <a:pt x="22334" y="117160"/>
                  <a:pt x="22334" y="117160"/>
                  <a:pt x="22334" y="117160"/>
                </a:cubicBezTo>
                <a:cubicBezTo>
                  <a:pt x="22334" y="117160"/>
                  <a:pt x="25173" y="119810"/>
                  <a:pt x="28012" y="119810"/>
                </a:cubicBezTo>
                <a:lnTo>
                  <a:pt x="30662" y="117160"/>
                </a:lnTo>
                <a:cubicBezTo>
                  <a:pt x="30662" y="105993"/>
                  <a:pt x="30662" y="105993"/>
                  <a:pt x="30662" y="105993"/>
                </a:cubicBezTo>
                <a:cubicBezTo>
                  <a:pt x="30662" y="103154"/>
                  <a:pt x="28012" y="100315"/>
                  <a:pt x="28012" y="100315"/>
                </a:cubicBezTo>
                <a:close/>
                <a:moveTo>
                  <a:pt x="72492" y="100315"/>
                </a:moveTo>
                <a:lnTo>
                  <a:pt x="72492" y="100315"/>
                </a:lnTo>
                <a:cubicBezTo>
                  <a:pt x="69842" y="100315"/>
                  <a:pt x="66813" y="103154"/>
                  <a:pt x="66813" y="105993"/>
                </a:cubicBezTo>
                <a:cubicBezTo>
                  <a:pt x="66813" y="117160"/>
                  <a:pt x="66813" y="117160"/>
                  <a:pt x="66813" y="117160"/>
                </a:cubicBezTo>
                <a:cubicBezTo>
                  <a:pt x="66813" y="117160"/>
                  <a:pt x="69842" y="119810"/>
                  <a:pt x="72492" y="119810"/>
                </a:cubicBezTo>
                <a:lnTo>
                  <a:pt x="75331" y="117160"/>
                </a:lnTo>
                <a:cubicBezTo>
                  <a:pt x="75331" y="105993"/>
                  <a:pt x="75331" y="105993"/>
                  <a:pt x="75331" y="105993"/>
                </a:cubicBezTo>
                <a:cubicBezTo>
                  <a:pt x="75331" y="103154"/>
                  <a:pt x="72492" y="100315"/>
                  <a:pt x="72492" y="100315"/>
                </a:cubicBezTo>
                <a:close/>
                <a:moveTo>
                  <a:pt x="94826" y="100315"/>
                </a:moveTo>
                <a:lnTo>
                  <a:pt x="94826" y="100315"/>
                </a:lnTo>
                <a:cubicBezTo>
                  <a:pt x="91987" y="100315"/>
                  <a:pt x="89148" y="103154"/>
                  <a:pt x="89148" y="105993"/>
                </a:cubicBezTo>
                <a:cubicBezTo>
                  <a:pt x="89148" y="117160"/>
                  <a:pt x="89148" y="117160"/>
                  <a:pt x="89148" y="117160"/>
                </a:cubicBezTo>
                <a:cubicBezTo>
                  <a:pt x="89148" y="117160"/>
                  <a:pt x="91987" y="119810"/>
                  <a:pt x="94826" y="119810"/>
                </a:cubicBezTo>
                <a:lnTo>
                  <a:pt x="97665" y="117160"/>
                </a:lnTo>
                <a:cubicBezTo>
                  <a:pt x="97665" y="105993"/>
                  <a:pt x="97665" y="105993"/>
                  <a:pt x="97665" y="105993"/>
                </a:cubicBezTo>
                <a:cubicBezTo>
                  <a:pt x="97665" y="103154"/>
                  <a:pt x="94826" y="100315"/>
                  <a:pt x="94826" y="100315"/>
                </a:cubicBezTo>
                <a:close/>
                <a:moveTo>
                  <a:pt x="86498" y="19495"/>
                </a:moveTo>
                <a:lnTo>
                  <a:pt x="86498" y="19495"/>
                </a:lnTo>
                <a:cubicBezTo>
                  <a:pt x="80820" y="8328"/>
                  <a:pt x="69842" y="0"/>
                  <a:pt x="55835" y="0"/>
                </a:cubicBezTo>
                <a:cubicBezTo>
                  <a:pt x="38990" y="0"/>
                  <a:pt x="25173" y="14006"/>
                  <a:pt x="22334" y="30662"/>
                </a:cubicBezTo>
                <a:cubicBezTo>
                  <a:pt x="11167" y="36340"/>
                  <a:pt x="0" y="47507"/>
                  <a:pt x="0" y="61324"/>
                </a:cubicBezTo>
                <a:cubicBezTo>
                  <a:pt x="0" y="75331"/>
                  <a:pt x="14006" y="89148"/>
                  <a:pt x="30662" y="89148"/>
                </a:cubicBezTo>
                <a:cubicBezTo>
                  <a:pt x="30662" y="89148"/>
                  <a:pt x="80820" y="89148"/>
                  <a:pt x="83659" y="89148"/>
                </a:cubicBezTo>
                <a:cubicBezTo>
                  <a:pt x="103154" y="89148"/>
                  <a:pt x="119810" y="75331"/>
                  <a:pt x="119810" y="55835"/>
                </a:cubicBezTo>
                <a:cubicBezTo>
                  <a:pt x="119810" y="36340"/>
                  <a:pt x="105993" y="19495"/>
                  <a:pt x="86498" y="19495"/>
                </a:cubicBezTo>
                <a:close/>
                <a:moveTo>
                  <a:pt x="83659" y="83659"/>
                </a:moveTo>
                <a:lnTo>
                  <a:pt x="83659" y="83659"/>
                </a:lnTo>
                <a:cubicBezTo>
                  <a:pt x="80820" y="83659"/>
                  <a:pt x="30662" y="83659"/>
                  <a:pt x="30662" y="83659"/>
                </a:cubicBezTo>
                <a:cubicBezTo>
                  <a:pt x="30662" y="83659"/>
                  <a:pt x="8328" y="80820"/>
                  <a:pt x="8328" y="61324"/>
                </a:cubicBezTo>
                <a:cubicBezTo>
                  <a:pt x="8328" y="50157"/>
                  <a:pt x="19495" y="38990"/>
                  <a:pt x="30662" y="38990"/>
                </a:cubicBezTo>
                <a:cubicBezTo>
                  <a:pt x="30662" y="22334"/>
                  <a:pt x="41829" y="8328"/>
                  <a:pt x="55835" y="8328"/>
                </a:cubicBezTo>
                <a:cubicBezTo>
                  <a:pt x="69842" y="8328"/>
                  <a:pt x="77981" y="16845"/>
                  <a:pt x="80820" y="28012"/>
                </a:cubicBezTo>
                <a:cubicBezTo>
                  <a:pt x="100315" y="25173"/>
                  <a:pt x="111482" y="41829"/>
                  <a:pt x="111482" y="52996"/>
                </a:cubicBezTo>
                <a:cubicBezTo>
                  <a:pt x="114321" y="69842"/>
                  <a:pt x="94826" y="83659"/>
                  <a:pt x="83659" y="836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0" name="Shape 4662"/>
          <p:cNvSpPr/>
          <p:nvPr/>
        </p:nvSpPr>
        <p:spPr>
          <a:xfrm>
            <a:off x="6102360" y="15796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1" name="Shape 4663"/>
          <p:cNvSpPr/>
          <p:nvPr/>
        </p:nvSpPr>
        <p:spPr>
          <a:xfrm>
            <a:off x="5553000" y="5011560"/>
            <a:ext cx="297000" cy="306720"/>
          </a:xfrm>
          <a:custGeom>
            <a:avLst/>
            <a:gdLst>
              <a:gd name="textAreaLeft" fmla="*/ 0 w 297000"/>
              <a:gd name="textAreaRight" fmla="*/ 297360 w 297000"/>
              <a:gd name="textAreaTop" fmla="*/ 0 h 306720"/>
              <a:gd name="textAreaBottom" fmla="*/ 307080 h 306720"/>
            </a:gdLst>
            <a:ahLst/>
            <a:rect l="textAreaLeft" t="textAreaTop" r="textAreaRight" b="textAreaBottom"/>
            <a:pathLst>
              <a:path w="120000" h="120000">
                <a:moveTo>
                  <a:pt x="62810" y="97511"/>
                </a:moveTo>
                <a:lnTo>
                  <a:pt x="62810" y="97511"/>
                </a:lnTo>
                <a:cubicBezTo>
                  <a:pt x="62810" y="97511"/>
                  <a:pt x="59903" y="97511"/>
                  <a:pt x="59903" y="100157"/>
                </a:cubicBezTo>
                <a:cubicBezTo>
                  <a:pt x="59903" y="102992"/>
                  <a:pt x="62810" y="102992"/>
                  <a:pt x="62810" y="102992"/>
                </a:cubicBezTo>
                <a:cubicBezTo>
                  <a:pt x="65718" y="102992"/>
                  <a:pt x="68432" y="102992"/>
                  <a:pt x="68432" y="100157"/>
                </a:cubicBezTo>
                <a:cubicBezTo>
                  <a:pt x="68432" y="97511"/>
                  <a:pt x="65718" y="97511"/>
                  <a:pt x="62810" y="97511"/>
                </a:cubicBezTo>
                <a:close/>
                <a:moveTo>
                  <a:pt x="39935" y="97511"/>
                </a:moveTo>
                <a:lnTo>
                  <a:pt x="39935" y="97511"/>
                </a:lnTo>
                <a:cubicBezTo>
                  <a:pt x="39935" y="97511"/>
                  <a:pt x="37027" y="97511"/>
                  <a:pt x="37027" y="100157"/>
                </a:cubicBezTo>
                <a:cubicBezTo>
                  <a:pt x="37027" y="102992"/>
                  <a:pt x="39935" y="102992"/>
                  <a:pt x="39935" y="102992"/>
                </a:cubicBezTo>
                <a:cubicBezTo>
                  <a:pt x="42843" y="102992"/>
                  <a:pt x="45751" y="102992"/>
                  <a:pt x="45751" y="100157"/>
                </a:cubicBezTo>
                <a:cubicBezTo>
                  <a:pt x="45751" y="97511"/>
                  <a:pt x="42843" y="97511"/>
                  <a:pt x="39935" y="97511"/>
                </a:cubicBezTo>
                <a:close/>
                <a:moveTo>
                  <a:pt x="48465" y="111307"/>
                </a:moveTo>
                <a:lnTo>
                  <a:pt x="48465" y="111307"/>
                </a:lnTo>
                <a:cubicBezTo>
                  <a:pt x="45751" y="111307"/>
                  <a:pt x="45751" y="114141"/>
                  <a:pt x="45751" y="114141"/>
                </a:cubicBezTo>
                <a:cubicBezTo>
                  <a:pt x="45751" y="116976"/>
                  <a:pt x="45751" y="119811"/>
                  <a:pt x="48465" y="119811"/>
                </a:cubicBezTo>
                <a:cubicBezTo>
                  <a:pt x="51373" y="119811"/>
                  <a:pt x="51373" y="116976"/>
                  <a:pt x="51373" y="114141"/>
                </a:cubicBezTo>
                <a:cubicBezTo>
                  <a:pt x="51373" y="114141"/>
                  <a:pt x="51373" y="111307"/>
                  <a:pt x="48465" y="111307"/>
                </a:cubicBezTo>
                <a:close/>
                <a:moveTo>
                  <a:pt x="71340" y="111307"/>
                </a:moveTo>
                <a:lnTo>
                  <a:pt x="71340" y="111307"/>
                </a:lnTo>
                <a:cubicBezTo>
                  <a:pt x="68432" y="111307"/>
                  <a:pt x="68432" y="114141"/>
                  <a:pt x="68432" y="114141"/>
                </a:cubicBezTo>
                <a:cubicBezTo>
                  <a:pt x="68432" y="116976"/>
                  <a:pt x="68432" y="119811"/>
                  <a:pt x="71340" y="119811"/>
                </a:cubicBezTo>
                <a:cubicBezTo>
                  <a:pt x="74248" y="119811"/>
                  <a:pt x="74248" y="116976"/>
                  <a:pt x="74248" y="114141"/>
                </a:cubicBezTo>
                <a:cubicBezTo>
                  <a:pt x="74248" y="114141"/>
                  <a:pt x="74248" y="111307"/>
                  <a:pt x="71340" y="111307"/>
                </a:cubicBezTo>
                <a:close/>
                <a:moveTo>
                  <a:pt x="85492" y="97511"/>
                </a:moveTo>
                <a:lnTo>
                  <a:pt x="85492" y="97511"/>
                </a:lnTo>
                <a:cubicBezTo>
                  <a:pt x="85492" y="97511"/>
                  <a:pt x="82778" y="97511"/>
                  <a:pt x="82778" y="100157"/>
                </a:cubicBezTo>
                <a:cubicBezTo>
                  <a:pt x="82778" y="102992"/>
                  <a:pt x="85492" y="102992"/>
                  <a:pt x="85492" y="102992"/>
                </a:cubicBezTo>
                <a:cubicBezTo>
                  <a:pt x="88594" y="102992"/>
                  <a:pt x="91308" y="102992"/>
                  <a:pt x="91308" y="100157"/>
                </a:cubicBezTo>
                <a:cubicBezTo>
                  <a:pt x="91308" y="97511"/>
                  <a:pt x="88594" y="97511"/>
                  <a:pt x="85492" y="97511"/>
                </a:cubicBezTo>
                <a:close/>
                <a:moveTo>
                  <a:pt x="85492" y="19653"/>
                </a:moveTo>
                <a:lnTo>
                  <a:pt x="85492" y="19653"/>
                </a:lnTo>
                <a:cubicBezTo>
                  <a:pt x="79870" y="8503"/>
                  <a:pt x="68432" y="0"/>
                  <a:pt x="56995" y="0"/>
                </a:cubicBezTo>
                <a:cubicBezTo>
                  <a:pt x="37027" y="0"/>
                  <a:pt x="22875" y="13984"/>
                  <a:pt x="22875" y="30803"/>
                </a:cubicBezTo>
                <a:cubicBezTo>
                  <a:pt x="8529" y="33448"/>
                  <a:pt x="0" y="47433"/>
                  <a:pt x="0" y="58582"/>
                </a:cubicBezTo>
                <a:cubicBezTo>
                  <a:pt x="0" y="75212"/>
                  <a:pt x="11437" y="89196"/>
                  <a:pt x="28497" y="89196"/>
                </a:cubicBezTo>
                <a:lnTo>
                  <a:pt x="85492" y="89196"/>
                </a:lnTo>
                <a:cubicBezTo>
                  <a:pt x="105654" y="89196"/>
                  <a:pt x="119806" y="72377"/>
                  <a:pt x="119806" y="52913"/>
                </a:cubicBezTo>
                <a:cubicBezTo>
                  <a:pt x="119806" y="33448"/>
                  <a:pt x="105654" y="19653"/>
                  <a:pt x="85492" y="19653"/>
                </a:cubicBezTo>
                <a:close/>
                <a:moveTo>
                  <a:pt x="82778" y="80692"/>
                </a:moveTo>
                <a:lnTo>
                  <a:pt x="82778" y="80692"/>
                </a:lnTo>
                <a:lnTo>
                  <a:pt x="34313" y="80692"/>
                </a:lnTo>
                <a:cubicBezTo>
                  <a:pt x="14345" y="80692"/>
                  <a:pt x="5621" y="66897"/>
                  <a:pt x="5621" y="58582"/>
                </a:cubicBezTo>
                <a:cubicBezTo>
                  <a:pt x="5621" y="50267"/>
                  <a:pt x="17059" y="39118"/>
                  <a:pt x="28497" y="36283"/>
                </a:cubicBezTo>
                <a:cubicBezTo>
                  <a:pt x="28497" y="22299"/>
                  <a:pt x="39935" y="8503"/>
                  <a:pt x="56995" y="8503"/>
                </a:cubicBezTo>
                <a:cubicBezTo>
                  <a:pt x="68432" y="8503"/>
                  <a:pt x="77156" y="13984"/>
                  <a:pt x="79870" y="25133"/>
                </a:cubicBezTo>
                <a:cubicBezTo>
                  <a:pt x="99838" y="25133"/>
                  <a:pt x="114184" y="36283"/>
                  <a:pt x="114184" y="52913"/>
                </a:cubicBezTo>
                <a:cubicBezTo>
                  <a:pt x="114184" y="66897"/>
                  <a:pt x="102746" y="80692"/>
                  <a:pt x="82778" y="8069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2" name="Shape 4664"/>
          <p:cNvSpPr/>
          <p:nvPr/>
        </p:nvSpPr>
        <p:spPr>
          <a:xfrm>
            <a:off x="5072040" y="504684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3" name="Shape 4665"/>
          <p:cNvSpPr/>
          <p:nvPr/>
        </p:nvSpPr>
        <p:spPr>
          <a:xfrm>
            <a:off x="4578480" y="5019840"/>
            <a:ext cx="284040" cy="284040"/>
          </a:xfrm>
          <a:custGeom>
            <a:avLst/>
            <a:gdLst>
              <a:gd name="textAreaLeft" fmla="*/ 0 w 284040"/>
              <a:gd name="textAreaRight" fmla="*/ 284400 w 284040"/>
              <a:gd name="textAreaTop" fmla="*/ 0 h 284040"/>
              <a:gd name="textAreaBottom" fmla="*/ 284400 h 284040"/>
            </a:gdLst>
            <a:ahLst/>
            <a:rect l="textAreaLeft" t="textAreaTop" r="textAreaRight" b="textAreaBottom"/>
            <a:pathLst>
              <a:path w="120000" h="120000">
                <a:moveTo>
                  <a:pt x="6101" y="0"/>
                </a:moveTo>
                <a:lnTo>
                  <a:pt x="6101" y="0"/>
                </a:lnTo>
                <a:cubicBezTo>
                  <a:pt x="3050" y="0"/>
                  <a:pt x="0" y="3050"/>
                  <a:pt x="0" y="6101"/>
                </a:cubicBezTo>
                <a:cubicBezTo>
                  <a:pt x="0" y="116745"/>
                  <a:pt x="0" y="116745"/>
                  <a:pt x="0" y="116745"/>
                </a:cubicBezTo>
                <a:cubicBezTo>
                  <a:pt x="0" y="119796"/>
                  <a:pt x="3050" y="119796"/>
                  <a:pt x="6101" y="119796"/>
                </a:cubicBezTo>
                <a:cubicBezTo>
                  <a:pt x="6101" y="119796"/>
                  <a:pt x="9152" y="119796"/>
                  <a:pt x="9152" y="116745"/>
                </a:cubicBezTo>
                <a:cubicBezTo>
                  <a:pt x="9152" y="6101"/>
                  <a:pt x="9152" y="6101"/>
                  <a:pt x="9152" y="6101"/>
                </a:cubicBezTo>
                <a:cubicBezTo>
                  <a:pt x="9152" y="3050"/>
                  <a:pt x="6101" y="0"/>
                  <a:pt x="6101" y="0"/>
                </a:cubicBezTo>
                <a:close/>
                <a:moveTo>
                  <a:pt x="113898" y="8949"/>
                </a:moveTo>
                <a:lnTo>
                  <a:pt x="113898" y="8949"/>
                </a:lnTo>
                <a:cubicBezTo>
                  <a:pt x="24000" y="0"/>
                  <a:pt x="24000" y="0"/>
                  <a:pt x="24000" y="0"/>
                </a:cubicBezTo>
                <a:cubicBezTo>
                  <a:pt x="20949" y="0"/>
                  <a:pt x="18101" y="6101"/>
                  <a:pt x="18101" y="8949"/>
                </a:cubicBezTo>
                <a:cubicBezTo>
                  <a:pt x="18101" y="53898"/>
                  <a:pt x="18101" y="53898"/>
                  <a:pt x="18101" y="53898"/>
                </a:cubicBezTo>
                <a:cubicBezTo>
                  <a:pt x="18101" y="56949"/>
                  <a:pt x="20949" y="60000"/>
                  <a:pt x="24000" y="60000"/>
                </a:cubicBezTo>
                <a:cubicBezTo>
                  <a:pt x="113898" y="53898"/>
                  <a:pt x="113898" y="53898"/>
                  <a:pt x="113898" y="53898"/>
                </a:cubicBezTo>
                <a:cubicBezTo>
                  <a:pt x="116745" y="53898"/>
                  <a:pt x="119796" y="48000"/>
                  <a:pt x="119796" y="44949"/>
                </a:cubicBezTo>
                <a:cubicBezTo>
                  <a:pt x="119796" y="18101"/>
                  <a:pt x="119796" y="18101"/>
                  <a:pt x="119796" y="18101"/>
                </a:cubicBezTo>
                <a:cubicBezTo>
                  <a:pt x="119796" y="12000"/>
                  <a:pt x="116745" y="8949"/>
                  <a:pt x="113898" y="8949"/>
                </a:cubicBezTo>
                <a:close/>
                <a:moveTo>
                  <a:pt x="56949" y="51050"/>
                </a:moveTo>
                <a:lnTo>
                  <a:pt x="56949" y="51050"/>
                </a:lnTo>
                <a:cubicBezTo>
                  <a:pt x="30101" y="53898"/>
                  <a:pt x="30101" y="53898"/>
                  <a:pt x="30101" y="53898"/>
                </a:cubicBezTo>
                <a:cubicBezTo>
                  <a:pt x="24000" y="53898"/>
                  <a:pt x="24000" y="51050"/>
                  <a:pt x="24000" y="48000"/>
                </a:cubicBezTo>
                <a:cubicBezTo>
                  <a:pt x="24000" y="12000"/>
                  <a:pt x="24000" y="12000"/>
                  <a:pt x="24000" y="12000"/>
                </a:cubicBezTo>
                <a:cubicBezTo>
                  <a:pt x="24000" y="8949"/>
                  <a:pt x="24000" y="8949"/>
                  <a:pt x="30101" y="8949"/>
                </a:cubicBezTo>
                <a:cubicBezTo>
                  <a:pt x="56949" y="12000"/>
                  <a:pt x="56949" y="12000"/>
                  <a:pt x="56949" y="12000"/>
                </a:cubicBezTo>
                <a:lnTo>
                  <a:pt x="56949" y="51050"/>
                </a:lnTo>
                <a:close/>
                <a:moveTo>
                  <a:pt x="89898" y="48000"/>
                </a:moveTo>
                <a:lnTo>
                  <a:pt x="89898" y="48000"/>
                </a:lnTo>
                <a:cubicBezTo>
                  <a:pt x="65898" y="48000"/>
                  <a:pt x="65898" y="48000"/>
                  <a:pt x="65898" y="48000"/>
                </a:cubicBezTo>
                <a:cubicBezTo>
                  <a:pt x="65898" y="12000"/>
                  <a:pt x="65898" y="12000"/>
                  <a:pt x="65898" y="12000"/>
                </a:cubicBezTo>
                <a:cubicBezTo>
                  <a:pt x="89898" y="15050"/>
                  <a:pt x="89898" y="15050"/>
                  <a:pt x="89898" y="15050"/>
                </a:cubicBezTo>
                <a:lnTo>
                  <a:pt x="89898" y="48000"/>
                </a:lnTo>
                <a:close/>
                <a:moveTo>
                  <a:pt x="113898" y="41898"/>
                </a:moveTo>
                <a:lnTo>
                  <a:pt x="113898" y="41898"/>
                </a:lnTo>
                <a:cubicBezTo>
                  <a:pt x="113898" y="44949"/>
                  <a:pt x="113898" y="44949"/>
                  <a:pt x="107796" y="44949"/>
                </a:cubicBezTo>
                <a:cubicBezTo>
                  <a:pt x="95796" y="44949"/>
                  <a:pt x="95796" y="44949"/>
                  <a:pt x="95796" y="44949"/>
                </a:cubicBezTo>
                <a:cubicBezTo>
                  <a:pt x="95796" y="15050"/>
                  <a:pt x="95796" y="15050"/>
                  <a:pt x="95796" y="15050"/>
                </a:cubicBezTo>
                <a:cubicBezTo>
                  <a:pt x="107796" y="18101"/>
                  <a:pt x="107796" y="18101"/>
                  <a:pt x="107796" y="18101"/>
                </a:cubicBezTo>
                <a:cubicBezTo>
                  <a:pt x="113898" y="18101"/>
                  <a:pt x="113898" y="18101"/>
                  <a:pt x="113898" y="20949"/>
                </a:cubicBezTo>
                <a:lnTo>
                  <a:pt x="113898" y="4189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4" name="Shape 4666"/>
          <p:cNvSpPr/>
          <p:nvPr/>
        </p:nvSpPr>
        <p:spPr>
          <a:xfrm>
            <a:off x="4098960" y="5011560"/>
            <a:ext cx="268200" cy="306720"/>
          </a:xfrm>
          <a:custGeom>
            <a:avLst/>
            <a:gdLst>
              <a:gd name="textAreaLeft" fmla="*/ 0 w 268200"/>
              <a:gd name="textAreaRight" fmla="*/ 268560 w 268200"/>
              <a:gd name="textAreaTop" fmla="*/ 0 h 306720"/>
              <a:gd name="textAreaBottom" fmla="*/ 307080 h 30672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5" name="Shape 4667"/>
          <p:cNvSpPr/>
          <p:nvPr/>
        </p:nvSpPr>
        <p:spPr>
          <a:xfrm>
            <a:off x="3587760" y="5011560"/>
            <a:ext cx="304920" cy="306720"/>
          </a:xfrm>
          <a:custGeom>
            <a:avLst/>
            <a:gdLst>
              <a:gd name="textAreaLeft" fmla="*/ 0 w 304920"/>
              <a:gd name="textAreaRight" fmla="*/ 305280 w 304920"/>
              <a:gd name="textAreaTop" fmla="*/ 0 h 306720"/>
              <a:gd name="textAreaBottom" fmla="*/ 307080 h 306720"/>
            </a:gdLst>
            <a:ahLst/>
            <a:rect l="textAreaLeft" t="textAreaTop" r="textAreaRight" b="textAreaBottom"/>
            <a:pathLst>
              <a:path w="120000" h="120000">
                <a:moveTo>
                  <a:pt x="72492" y="25133"/>
                </a:moveTo>
                <a:lnTo>
                  <a:pt x="72492" y="25133"/>
                </a:lnTo>
                <a:cubicBezTo>
                  <a:pt x="67003" y="30803"/>
                  <a:pt x="67003" y="39118"/>
                  <a:pt x="72492" y="47433"/>
                </a:cubicBezTo>
                <a:cubicBezTo>
                  <a:pt x="81009" y="52913"/>
                  <a:pt x="89148" y="52913"/>
                  <a:pt x="94826" y="47433"/>
                </a:cubicBezTo>
                <a:cubicBezTo>
                  <a:pt x="100315" y="39118"/>
                  <a:pt x="100315" y="30803"/>
                  <a:pt x="94826" y="25133"/>
                </a:cubicBezTo>
                <a:cubicBezTo>
                  <a:pt x="89148" y="19653"/>
                  <a:pt x="81009" y="19653"/>
                  <a:pt x="72492" y="25133"/>
                </a:cubicBezTo>
                <a:close/>
                <a:moveTo>
                  <a:pt x="89148" y="41763"/>
                </a:moveTo>
                <a:lnTo>
                  <a:pt x="89148" y="41763"/>
                </a:lnTo>
                <a:cubicBezTo>
                  <a:pt x="86498" y="44598"/>
                  <a:pt x="81009" y="44598"/>
                  <a:pt x="77981" y="41763"/>
                </a:cubicBezTo>
                <a:cubicBezTo>
                  <a:pt x="75331" y="39118"/>
                  <a:pt x="75331" y="33448"/>
                  <a:pt x="77981" y="30803"/>
                </a:cubicBezTo>
                <a:cubicBezTo>
                  <a:pt x="81009" y="27968"/>
                  <a:pt x="86498" y="27968"/>
                  <a:pt x="89148" y="30803"/>
                </a:cubicBezTo>
                <a:cubicBezTo>
                  <a:pt x="91987" y="33448"/>
                  <a:pt x="91987" y="39118"/>
                  <a:pt x="89148" y="41763"/>
                </a:cubicBezTo>
                <a:close/>
                <a:moveTo>
                  <a:pt x="111482" y="0"/>
                </a:moveTo>
                <a:lnTo>
                  <a:pt x="111482" y="0"/>
                </a:lnTo>
                <a:cubicBezTo>
                  <a:pt x="64164" y="0"/>
                  <a:pt x="64164" y="0"/>
                  <a:pt x="64164" y="0"/>
                </a:cubicBezTo>
                <a:cubicBezTo>
                  <a:pt x="58675" y="0"/>
                  <a:pt x="58675" y="2834"/>
                  <a:pt x="55835" y="5669"/>
                </a:cubicBezTo>
                <a:cubicBezTo>
                  <a:pt x="5678" y="55748"/>
                  <a:pt x="5678" y="55748"/>
                  <a:pt x="5678" y="55748"/>
                </a:cubicBezTo>
                <a:cubicBezTo>
                  <a:pt x="0" y="61417"/>
                  <a:pt x="0" y="69543"/>
                  <a:pt x="5678" y="75212"/>
                </a:cubicBezTo>
                <a:cubicBezTo>
                  <a:pt x="44668" y="114141"/>
                  <a:pt x="44668" y="114141"/>
                  <a:pt x="44668" y="114141"/>
                </a:cubicBezTo>
                <a:cubicBezTo>
                  <a:pt x="50157" y="119811"/>
                  <a:pt x="58675" y="119811"/>
                  <a:pt x="64164" y="114141"/>
                </a:cubicBezTo>
                <a:cubicBezTo>
                  <a:pt x="114321" y="64062"/>
                  <a:pt x="114321" y="64062"/>
                  <a:pt x="114321" y="64062"/>
                </a:cubicBezTo>
                <a:cubicBezTo>
                  <a:pt x="117160" y="61417"/>
                  <a:pt x="119810" y="61417"/>
                  <a:pt x="119810" y="55748"/>
                </a:cubicBezTo>
                <a:cubicBezTo>
                  <a:pt x="119810" y="8503"/>
                  <a:pt x="119810" y="8503"/>
                  <a:pt x="119810" y="8503"/>
                </a:cubicBezTo>
                <a:cubicBezTo>
                  <a:pt x="119810" y="2834"/>
                  <a:pt x="117160" y="0"/>
                  <a:pt x="111482" y="0"/>
                </a:cubicBezTo>
                <a:close/>
                <a:moveTo>
                  <a:pt x="61324" y="108661"/>
                </a:moveTo>
                <a:lnTo>
                  <a:pt x="61324" y="108661"/>
                </a:lnTo>
                <a:cubicBezTo>
                  <a:pt x="55835" y="111307"/>
                  <a:pt x="52996" y="111307"/>
                  <a:pt x="50157" y="108661"/>
                </a:cubicBezTo>
                <a:cubicBezTo>
                  <a:pt x="11167" y="69543"/>
                  <a:pt x="11167" y="69543"/>
                  <a:pt x="11167" y="69543"/>
                </a:cubicBezTo>
                <a:cubicBezTo>
                  <a:pt x="8517" y="66897"/>
                  <a:pt x="8517" y="64062"/>
                  <a:pt x="11167" y="61417"/>
                </a:cubicBezTo>
                <a:cubicBezTo>
                  <a:pt x="16845" y="55748"/>
                  <a:pt x="16845" y="55748"/>
                  <a:pt x="16845" y="55748"/>
                </a:cubicBezTo>
                <a:cubicBezTo>
                  <a:pt x="64164" y="102992"/>
                  <a:pt x="64164" y="102992"/>
                  <a:pt x="64164" y="102992"/>
                </a:cubicBezTo>
                <a:lnTo>
                  <a:pt x="61324" y="108661"/>
                </a:lnTo>
                <a:close/>
                <a:moveTo>
                  <a:pt x="111482" y="52913"/>
                </a:moveTo>
                <a:lnTo>
                  <a:pt x="111482" y="52913"/>
                </a:lnTo>
                <a:cubicBezTo>
                  <a:pt x="111482" y="55748"/>
                  <a:pt x="111482" y="58582"/>
                  <a:pt x="108832" y="61417"/>
                </a:cubicBezTo>
                <a:cubicBezTo>
                  <a:pt x="69842" y="97511"/>
                  <a:pt x="69842" y="97511"/>
                  <a:pt x="69842" y="97511"/>
                </a:cubicBezTo>
                <a:cubicBezTo>
                  <a:pt x="22334" y="50267"/>
                  <a:pt x="22334" y="50267"/>
                  <a:pt x="22334" y="50267"/>
                </a:cubicBezTo>
                <a:cubicBezTo>
                  <a:pt x="61324" y="11149"/>
                  <a:pt x="61324" y="11149"/>
                  <a:pt x="61324" y="11149"/>
                </a:cubicBezTo>
                <a:cubicBezTo>
                  <a:pt x="61324" y="8503"/>
                  <a:pt x="64164" y="8503"/>
                  <a:pt x="67003" y="8503"/>
                </a:cubicBezTo>
                <a:cubicBezTo>
                  <a:pt x="108832" y="8503"/>
                  <a:pt x="108832" y="8503"/>
                  <a:pt x="108832" y="8503"/>
                </a:cubicBezTo>
                <a:cubicBezTo>
                  <a:pt x="111482" y="8503"/>
                  <a:pt x="111482" y="8503"/>
                  <a:pt x="111482" y="11149"/>
                </a:cubicBezTo>
                <a:lnTo>
                  <a:pt x="111482" y="52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6" name="Shape 4668"/>
          <p:cNvSpPr/>
          <p:nvPr/>
        </p:nvSpPr>
        <p:spPr>
          <a:xfrm>
            <a:off x="3151080" y="5011560"/>
            <a:ext cx="204840" cy="306720"/>
          </a:xfrm>
          <a:custGeom>
            <a:avLst/>
            <a:gdLst>
              <a:gd name="textAreaLeft" fmla="*/ 0 w 204840"/>
              <a:gd name="textAreaRight" fmla="*/ 205200 w 204840"/>
              <a:gd name="textAreaTop" fmla="*/ 0 h 306720"/>
              <a:gd name="textAreaBottom" fmla="*/ 307080 h 30672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7" name="Shape 4669"/>
          <p:cNvSpPr/>
          <p:nvPr/>
        </p:nvSpPr>
        <p:spPr>
          <a:xfrm>
            <a:off x="2619360" y="5011560"/>
            <a:ext cx="282600" cy="306720"/>
          </a:xfrm>
          <a:custGeom>
            <a:avLst/>
            <a:gdLst>
              <a:gd name="textAreaLeft" fmla="*/ 0 w 282600"/>
              <a:gd name="textAreaRight" fmla="*/ 282960 w 282600"/>
              <a:gd name="textAreaTop" fmla="*/ 0 h 306720"/>
              <a:gd name="textAreaBottom" fmla="*/ 307080 h 306720"/>
            </a:gdLst>
            <a:ahLst/>
            <a:rect l="textAreaLeft" t="textAreaTop" r="textAreaRight" b="textAreaBottom"/>
            <a:pathLst>
              <a:path w="120000" h="120000">
                <a:moveTo>
                  <a:pt x="110831" y="30803"/>
                </a:moveTo>
                <a:lnTo>
                  <a:pt x="110831" y="30803"/>
                </a:lnTo>
                <a:cubicBezTo>
                  <a:pt x="110831" y="2834"/>
                  <a:pt x="110831" y="2834"/>
                  <a:pt x="110831" y="2834"/>
                </a:cubicBezTo>
                <a:cubicBezTo>
                  <a:pt x="110831" y="2834"/>
                  <a:pt x="110831" y="0"/>
                  <a:pt x="107979" y="0"/>
                </a:cubicBezTo>
                <a:lnTo>
                  <a:pt x="104923" y="0"/>
                </a:lnTo>
                <a:cubicBezTo>
                  <a:pt x="0" y="30803"/>
                  <a:pt x="0" y="30803"/>
                  <a:pt x="0" y="30803"/>
                </a:cubicBezTo>
                <a:cubicBezTo>
                  <a:pt x="0" y="36283"/>
                  <a:pt x="0" y="36283"/>
                  <a:pt x="0" y="36283"/>
                </a:cubicBezTo>
                <a:cubicBezTo>
                  <a:pt x="0" y="111307"/>
                  <a:pt x="0" y="111307"/>
                  <a:pt x="0" y="111307"/>
                </a:cubicBezTo>
                <a:cubicBezTo>
                  <a:pt x="0" y="114141"/>
                  <a:pt x="2852" y="119811"/>
                  <a:pt x="8964" y="119811"/>
                </a:cubicBezTo>
                <a:cubicBezTo>
                  <a:pt x="110831" y="119811"/>
                  <a:pt x="110831" y="119811"/>
                  <a:pt x="110831" y="119811"/>
                </a:cubicBezTo>
                <a:cubicBezTo>
                  <a:pt x="116943" y="119811"/>
                  <a:pt x="119796" y="114141"/>
                  <a:pt x="119796" y="111307"/>
                </a:cubicBezTo>
                <a:cubicBezTo>
                  <a:pt x="119796" y="36283"/>
                  <a:pt x="119796" y="36283"/>
                  <a:pt x="119796" y="36283"/>
                </a:cubicBezTo>
                <a:cubicBezTo>
                  <a:pt x="119796" y="33448"/>
                  <a:pt x="116943" y="30803"/>
                  <a:pt x="110831" y="30803"/>
                </a:cubicBezTo>
                <a:close/>
                <a:moveTo>
                  <a:pt x="104923" y="8503"/>
                </a:moveTo>
                <a:lnTo>
                  <a:pt x="104923" y="8503"/>
                </a:lnTo>
                <a:cubicBezTo>
                  <a:pt x="104923" y="30803"/>
                  <a:pt x="104923" y="30803"/>
                  <a:pt x="104923" y="30803"/>
                </a:cubicBezTo>
                <a:cubicBezTo>
                  <a:pt x="26893" y="30803"/>
                  <a:pt x="26893" y="30803"/>
                  <a:pt x="26893" y="30803"/>
                </a:cubicBezTo>
                <a:lnTo>
                  <a:pt x="104923" y="8503"/>
                </a:lnTo>
                <a:close/>
                <a:moveTo>
                  <a:pt x="110831" y="78047"/>
                </a:moveTo>
                <a:lnTo>
                  <a:pt x="110831" y="78047"/>
                </a:lnTo>
                <a:cubicBezTo>
                  <a:pt x="110831" y="80692"/>
                  <a:pt x="110831" y="78047"/>
                  <a:pt x="110831" y="80692"/>
                </a:cubicBezTo>
                <a:cubicBezTo>
                  <a:pt x="95959" y="80692"/>
                  <a:pt x="95959" y="80692"/>
                  <a:pt x="95959" y="80692"/>
                </a:cubicBezTo>
                <a:cubicBezTo>
                  <a:pt x="95959" y="78047"/>
                  <a:pt x="95959" y="80692"/>
                  <a:pt x="95959" y="78047"/>
                </a:cubicBezTo>
                <a:cubicBezTo>
                  <a:pt x="95959" y="75212"/>
                  <a:pt x="95959" y="75212"/>
                  <a:pt x="95959" y="75212"/>
                </a:cubicBezTo>
                <a:cubicBezTo>
                  <a:pt x="110831" y="75212"/>
                  <a:pt x="110831" y="75212"/>
                  <a:pt x="110831" y="75212"/>
                </a:cubicBezTo>
                <a:cubicBezTo>
                  <a:pt x="110831" y="78047"/>
                  <a:pt x="110831" y="75212"/>
                  <a:pt x="110831" y="78047"/>
                </a:cubicBezTo>
                <a:close/>
                <a:moveTo>
                  <a:pt x="110831" y="66897"/>
                </a:moveTo>
                <a:lnTo>
                  <a:pt x="110831" y="66897"/>
                </a:lnTo>
                <a:cubicBezTo>
                  <a:pt x="92903" y="66897"/>
                  <a:pt x="92903" y="66897"/>
                  <a:pt x="92903" y="66897"/>
                </a:cubicBezTo>
                <a:cubicBezTo>
                  <a:pt x="89847" y="66897"/>
                  <a:pt x="86791" y="69543"/>
                  <a:pt x="86791" y="69543"/>
                </a:cubicBezTo>
                <a:cubicBezTo>
                  <a:pt x="86791" y="86362"/>
                  <a:pt x="86791" y="86362"/>
                  <a:pt x="86791" y="86362"/>
                </a:cubicBezTo>
                <a:cubicBezTo>
                  <a:pt x="86791" y="86362"/>
                  <a:pt x="89847" y="89196"/>
                  <a:pt x="92903" y="89196"/>
                </a:cubicBezTo>
                <a:cubicBezTo>
                  <a:pt x="110831" y="89196"/>
                  <a:pt x="110831" y="89196"/>
                  <a:pt x="110831" y="89196"/>
                </a:cubicBezTo>
                <a:cubicBezTo>
                  <a:pt x="110831" y="108661"/>
                  <a:pt x="110831" y="108661"/>
                  <a:pt x="110831" y="108661"/>
                </a:cubicBezTo>
                <a:cubicBezTo>
                  <a:pt x="110831" y="108661"/>
                  <a:pt x="110831" y="111307"/>
                  <a:pt x="107979" y="111307"/>
                </a:cubicBezTo>
                <a:cubicBezTo>
                  <a:pt x="11816" y="111307"/>
                  <a:pt x="11816" y="111307"/>
                  <a:pt x="11816" y="111307"/>
                </a:cubicBezTo>
                <a:cubicBezTo>
                  <a:pt x="8964" y="111307"/>
                  <a:pt x="8964" y="108661"/>
                  <a:pt x="8964" y="108661"/>
                </a:cubicBezTo>
                <a:cubicBezTo>
                  <a:pt x="8964" y="108661"/>
                  <a:pt x="8964" y="39118"/>
                  <a:pt x="8964" y="36283"/>
                </a:cubicBezTo>
                <a:cubicBezTo>
                  <a:pt x="107979" y="36283"/>
                  <a:pt x="107979" y="36283"/>
                  <a:pt x="107979" y="36283"/>
                </a:cubicBezTo>
                <a:cubicBezTo>
                  <a:pt x="110831" y="36283"/>
                  <a:pt x="110831" y="39118"/>
                  <a:pt x="110831" y="41763"/>
                </a:cubicBezTo>
                <a:lnTo>
                  <a:pt x="110831" y="6689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8" name="Shape 4670"/>
          <p:cNvSpPr/>
          <p:nvPr/>
        </p:nvSpPr>
        <p:spPr>
          <a:xfrm>
            <a:off x="2116080" y="5011560"/>
            <a:ext cx="304920" cy="306720"/>
          </a:xfrm>
          <a:custGeom>
            <a:avLst/>
            <a:gdLst>
              <a:gd name="textAreaLeft" fmla="*/ 0 w 304920"/>
              <a:gd name="textAreaRight" fmla="*/ 305280 w 304920"/>
              <a:gd name="textAreaTop" fmla="*/ 0 h 306720"/>
              <a:gd name="textAreaBottom" fmla="*/ 307080 h 30672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49" name="Shape 4671"/>
          <p:cNvSpPr/>
          <p:nvPr/>
        </p:nvSpPr>
        <p:spPr>
          <a:xfrm>
            <a:off x="1628640" y="5011560"/>
            <a:ext cx="306360" cy="306720"/>
          </a:xfrm>
          <a:custGeom>
            <a:avLst/>
            <a:gdLst>
              <a:gd name="textAreaLeft" fmla="*/ 0 w 306360"/>
              <a:gd name="textAreaRight" fmla="*/ 306720 w 306360"/>
              <a:gd name="textAreaTop" fmla="*/ 0 h 306720"/>
              <a:gd name="textAreaBottom" fmla="*/ 307080 h 306720"/>
            </a:gdLst>
            <a:ahLst/>
            <a:rect l="textAreaLeft" t="textAreaTop" r="textAreaRight" b="textAreaBottom"/>
            <a:pathLst>
              <a:path w="120000" h="120000">
                <a:moveTo>
                  <a:pt x="55646" y="89196"/>
                </a:moveTo>
                <a:lnTo>
                  <a:pt x="55646" y="89196"/>
                </a:lnTo>
                <a:cubicBezTo>
                  <a:pt x="58485" y="89196"/>
                  <a:pt x="58485" y="89196"/>
                  <a:pt x="58485" y="89196"/>
                </a:cubicBezTo>
                <a:cubicBezTo>
                  <a:pt x="61324" y="89196"/>
                  <a:pt x="61324" y="89196"/>
                  <a:pt x="61324" y="89196"/>
                </a:cubicBezTo>
                <a:cubicBezTo>
                  <a:pt x="80630" y="66897"/>
                  <a:pt x="80630" y="66897"/>
                  <a:pt x="80630" y="66897"/>
                </a:cubicBezTo>
                <a:cubicBezTo>
                  <a:pt x="80630" y="64062"/>
                  <a:pt x="80630" y="61417"/>
                  <a:pt x="80630" y="61417"/>
                </a:cubicBezTo>
                <a:cubicBezTo>
                  <a:pt x="77981" y="58582"/>
                  <a:pt x="77981" y="58582"/>
                  <a:pt x="75141" y="61417"/>
                </a:cubicBezTo>
                <a:cubicBezTo>
                  <a:pt x="63974" y="75212"/>
                  <a:pt x="63974" y="75212"/>
                  <a:pt x="63974" y="75212"/>
                </a:cubicBezTo>
                <a:cubicBezTo>
                  <a:pt x="63974" y="19653"/>
                  <a:pt x="63974" y="19653"/>
                  <a:pt x="63974" y="19653"/>
                </a:cubicBezTo>
                <a:cubicBezTo>
                  <a:pt x="63974" y="16818"/>
                  <a:pt x="61324" y="13984"/>
                  <a:pt x="58485" y="13984"/>
                </a:cubicBezTo>
                <a:cubicBezTo>
                  <a:pt x="58485" y="13984"/>
                  <a:pt x="55646" y="16818"/>
                  <a:pt x="55646" y="19653"/>
                </a:cubicBezTo>
                <a:cubicBezTo>
                  <a:pt x="55646" y="75212"/>
                  <a:pt x="55646" y="75212"/>
                  <a:pt x="55646" y="75212"/>
                </a:cubicBezTo>
                <a:cubicBezTo>
                  <a:pt x="44479" y="61417"/>
                  <a:pt x="44479" y="61417"/>
                  <a:pt x="44479" y="61417"/>
                </a:cubicBezTo>
                <a:cubicBezTo>
                  <a:pt x="41640" y="58582"/>
                  <a:pt x="38990" y="58582"/>
                  <a:pt x="38990" y="61417"/>
                </a:cubicBezTo>
                <a:cubicBezTo>
                  <a:pt x="36151" y="61417"/>
                  <a:pt x="36151" y="64062"/>
                  <a:pt x="38990" y="66897"/>
                </a:cubicBezTo>
                <a:lnTo>
                  <a:pt x="55646" y="89196"/>
                </a:lnTo>
                <a:close/>
                <a:moveTo>
                  <a:pt x="91798" y="97511"/>
                </a:moveTo>
                <a:lnTo>
                  <a:pt x="91798" y="97511"/>
                </a:lnTo>
                <a:cubicBezTo>
                  <a:pt x="24984" y="97511"/>
                  <a:pt x="24984" y="97511"/>
                  <a:pt x="24984" y="97511"/>
                </a:cubicBezTo>
                <a:cubicBezTo>
                  <a:pt x="24984" y="97511"/>
                  <a:pt x="22145" y="97511"/>
                  <a:pt x="22145" y="100157"/>
                </a:cubicBezTo>
                <a:cubicBezTo>
                  <a:pt x="22145" y="102992"/>
                  <a:pt x="24984" y="102992"/>
                  <a:pt x="24984" y="102992"/>
                </a:cubicBezTo>
                <a:cubicBezTo>
                  <a:pt x="91798" y="102992"/>
                  <a:pt x="91798" y="102992"/>
                  <a:pt x="91798" y="102992"/>
                </a:cubicBezTo>
                <a:cubicBezTo>
                  <a:pt x="94637" y="102992"/>
                  <a:pt x="97476" y="102992"/>
                  <a:pt x="97476" y="100157"/>
                </a:cubicBezTo>
                <a:cubicBezTo>
                  <a:pt x="97476" y="97511"/>
                  <a:pt x="94637" y="97511"/>
                  <a:pt x="91798" y="97511"/>
                </a:cubicBezTo>
                <a:close/>
                <a:moveTo>
                  <a:pt x="102965" y="0"/>
                </a:moveTo>
                <a:lnTo>
                  <a:pt x="102965" y="0"/>
                </a:lnTo>
                <a:cubicBezTo>
                  <a:pt x="13817" y="0"/>
                  <a:pt x="13817" y="0"/>
                  <a:pt x="13817" y="0"/>
                </a:cubicBezTo>
                <a:cubicBezTo>
                  <a:pt x="5488" y="0"/>
                  <a:pt x="0" y="5669"/>
                  <a:pt x="0" y="13984"/>
                </a:cubicBezTo>
                <a:cubicBezTo>
                  <a:pt x="0" y="102992"/>
                  <a:pt x="0" y="102992"/>
                  <a:pt x="0" y="102992"/>
                </a:cubicBezTo>
                <a:cubicBezTo>
                  <a:pt x="0" y="111307"/>
                  <a:pt x="5488" y="119811"/>
                  <a:pt x="13817" y="119811"/>
                </a:cubicBezTo>
                <a:cubicBezTo>
                  <a:pt x="102965" y="119811"/>
                  <a:pt x="102965" y="119811"/>
                  <a:pt x="102965" y="119811"/>
                </a:cubicBezTo>
                <a:cubicBezTo>
                  <a:pt x="111293" y="119811"/>
                  <a:pt x="119810" y="111307"/>
                  <a:pt x="119810" y="102992"/>
                </a:cubicBezTo>
                <a:cubicBezTo>
                  <a:pt x="119810" y="13984"/>
                  <a:pt x="119810" y="13984"/>
                  <a:pt x="119810" y="13984"/>
                </a:cubicBezTo>
                <a:cubicBezTo>
                  <a:pt x="119810" y="5669"/>
                  <a:pt x="111293" y="0"/>
                  <a:pt x="102965" y="0"/>
                </a:cubicBezTo>
                <a:close/>
                <a:moveTo>
                  <a:pt x="111293" y="102992"/>
                </a:moveTo>
                <a:lnTo>
                  <a:pt x="111293" y="102992"/>
                </a:lnTo>
                <a:cubicBezTo>
                  <a:pt x="111293" y="108661"/>
                  <a:pt x="108643" y="111307"/>
                  <a:pt x="102965" y="111307"/>
                </a:cubicBezTo>
                <a:cubicBezTo>
                  <a:pt x="13817" y="111307"/>
                  <a:pt x="13817" y="111307"/>
                  <a:pt x="13817" y="111307"/>
                </a:cubicBezTo>
                <a:cubicBezTo>
                  <a:pt x="10977" y="111307"/>
                  <a:pt x="8328" y="108661"/>
                  <a:pt x="8328" y="102992"/>
                </a:cubicBezTo>
                <a:cubicBezTo>
                  <a:pt x="8328" y="13984"/>
                  <a:pt x="8328" y="13984"/>
                  <a:pt x="8328" y="13984"/>
                </a:cubicBezTo>
                <a:cubicBezTo>
                  <a:pt x="8328" y="11149"/>
                  <a:pt x="10977" y="8503"/>
                  <a:pt x="13817" y="8503"/>
                </a:cubicBezTo>
                <a:cubicBezTo>
                  <a:pt x="102965" y="8503"/>
                  <a:pt x="102965" y="8503"/>
                  <a:pt x="102965" y="8503"/>
                </a:cubicBezTo>
                <a:cubicBezTo>
                  <a:pt x="108643" y="8503"/>
                  <a:pt x="111293" y="11149"/>
                  <a:pt x="111293" y="13984"/>
                </a:cubicBezTo>
                <a:lnTo>
                  <a:pt x="111293" y="10299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0" name="Shape 4672"/>
          <p:cNvSpPr/>
          <p:nvPr/>
        </p:nvSpPr>
        <p:spPr>
          <a:xfrm>
            <a:off x="1141560" y="501156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1" name="Shape 4673"/>
          <p:cNvSpPr/>
          <p:nvPr/>
        </p:nvSpPr>
        <p:spPr>
          <a:xfrm>
            <a:off x="5589720" y="4522680"/>
            <a:ext cx="226800" cy="297000"/>
          </a:xfrm>
          <a:custGeom>
            <a:avLst/>
            <a:gdLst>
              <a:gd name="textAreaLeft" fmla="*/ 0 w 226800"/>
              <a:gd name="textAreaRight" fmla="*/ 227160 w 226800"/>
              <a:gd name="textAreaTop" fmla="*/ 0 h 297000"/>
              <a:gd name="textAreaBottom" fmla="*/ 297360 h 297000"/>
            </a:gdLst>
            <a:ahLst/>
            <a:rect l="textAreaLeft" t="textAreaTop" r="textAreaRight" b="textAreaBottom"/>
            <a:pathLst>
              <a:path w="120000" h="120000">
                <a:moveTo>
                  <a:pt x="100932" y="14151"/>
                </a:moveTo>
                <a:lnTo>
                  <a:pt x="100932" y="14151"/>
                </a:lnTo>
                <a:cubicBezTo>
                  <a:pt x="89745" y="14151"/>
                  <a:pt x="89745" y="14151"/>
                  <a:pt x="89745" y="14151"/>
                </a:cubicBezTo>
                <a:cubicBezTo>
                  <a:pt x="89745" y="5621"/>
                  <a:pt x="74745" y="0"/>
                  <a:pt x="59745" y="0"/>
                </a:cubicBezTo>
                <a:cubicBezTo>
                  <a:pt x="44745" y="0"/>
                  <a:pt x="29745" y="5621"/>
                  <a:pt x="29745" y="14151"/>
                </a:cubicBezTo>
                <a:cubicBezTo>
                  <a:pt x="18559" y="14151"/>
                  <a:pt x="18559" y="14151"/>
                  <a:pt x="18559" y="14151"/>
                </a:cubicBezTo>
                <a:cubicBezTo>
                  <a:pt x="7372" y="14151"/>
                  <a:pt x="0" y="19967"/>
                  <a:pt x="0" y="28497"/>
                </a:cubicBezTo>
                <a:cubicBezTo>
                  <a:pt x="0" y="105460"/>
                  <a:pt x="0" y="105460"/>
                  <a:pt x="0" y="105460"/>
                </a:cubicBezTo>
                <a:cubicBezTo>
                  <a:pt x="0" y="114184"/>
                  <a:pt x="7372" y="119806"/>
                  <a:pt x="18559" y="119806"/>
                </a:cubicBezTo>
                <a:cubicBezTo>
                  <a:pt x="100932" y="119806"/>
                  <a:pt x="100932" y="119806"/>
                  <a:pt x="100932" y="119806"/>
                </a:cubicBezTo>
                <a:cubicBezTo>
                  <a:pt x="112118" y="119806"/>
                  <a:pt x="119745" y="114184"/>
                  <a:pt x="119745" y="105460"/>
                </a:cubicBezTo>
                <a:cubicBezTo>
                  <a:pt x="119745" y="28497"/>
                  <a:pt x="119745" y="28497"/>
                  <a:pt x="119745" y="28497"/>
                </a:cubicBezTo>
                <a:cubicBezTo>
                  <a:pt x="119745" y="19967"/>
                  <a:pt x="112118" y="14151"/>
                  <a:pt x="100932" y="14151"/>
                </a:cubicBezTo>
                <a:close/>
                <a:moveTo>
                  <a:pt x="59745" y="5621"/>
                </a:moveTo>
                <a:lnTo>
                  <a:pt x="59745" y="5621"/>
                </a:lnTo>
                <a:cubicBezTo>
                  <a:pt x="70932" y="5621"/>
                  <a:pt x="78559" y="8529"/>
                  <a:pt x="78559" y="14151"/>
                </a:cubicBezTo>
                <a:cubicBezTo>
                  <a:pt x="41186" y="14151"/>
                  <a:pt x="41186" y="14151"/>
                  <a:pt x="41186" y="14151"/>
                </a:cubicBezTo>
                <a:cubicBezTo>
                  <a:pt x="41186" y="8529"/>
                  <a:pt x="48559" y="5621"/>
                  <a:pt x="59745" y="5621"/>
                </a:cubicBezTo>
                <a:close/>
                <a:moveTo>
                  <a:pt x="108305" y="105460"/>
                </a:moveTo>
                <a:lnTo>
                  <a:pt x="108305" y="105460"/>
                </a:lnTo>
                <a:cubicBezTo>
                  <a:pt x="108305" y="108368"/>
                  <a:pt x="104745" y="114184"/>
                  <a:pt x="100932" y="114184"/>
                </a:cubicBezTo>
                <a:cubicBezTo>
                  <a:pt x="18559" y="114184"/>
                  <a:pt x="18559" y="114184"/>
                  <a:pt x="18559" y="114184"/>
                </a:cubicBezTo>
                <a:cubicBezTo>
                  <a:pt x="14745" y="114184"/>
                  <a:pt x="11186" y="108368"/>
                  <a:pt x="11186" y="105460"/>
                </a:cubicBezTo>
                <a:cubicBezTo>
                  <a:pt x="11186" y="96930"/>
                  <a:pt x="11186" y="96930"/>
                  <a:pt x="11186" y="96930"/>
                </a:cubicBezTo>
                <a:cubicBezTo>
                  <a:pt x="108305" y="96930"/>
                  <a:pt x="108305" y="96930"/>
                  <a:pt x="108305" y="96930"/>
                </a:cubicBezTo>
                <a:lnTo>
                  <a:pt x="108305" y="105460"/>
                </a:lnTo>
                <a:close/>
                <a:moveTo>
                  <a:pt x="108305" y="91308"/>
                </a:moveTo>
                <a:lnTo>
                  <a:pt x="108305" y="91308"/>
                </a:lnTo>
                <a:cubicBezTo>
                  <a:pt x="11186" y="91308"/>
                  <a:pt x="11186" y="91308"/>
                  <a:pt x="11186" y="91308"/>
                </a:cubicBezTo>
                <a:cubicBezTo>
                  <a:pt x="11186" y="28497"/>
                  <a:pt x="11186" y="28497"/>
                  <a:pt x="11186" y="28497"/>
                </a:cubicBezTo>
                <a:cubicBezTo>
                  <a:pt x="11186" y="25589"/>
                  <a:pt x="14745" y="22875"/>
                  <a:pt x="18559" y="22875"/>
                </a:cubicBezTo>
                <a:cubicBezTo>
                  <a:pt x="29745" y="22875"/>
                  <a:pt x="29745" y="22875"/>
                  <a:pt x="29745" y="22875"/>
                </a:cubicBezTo>
                <a:cubicBezTo>
                  <a:pt x="29745" y="45557"/>
                  <a:pt x="29745" y="45557"/>
                  <a:pt x="29745" y="45557"/>
                </a:cubicBezTo>
                <a:cubicBezTo>
                  <a:pt x="41186" y="45557"/>
                  <a:pt x="41186" y="45557"/>
                  <a:pt x="41186" y="45557"/>
                </a:cubicBezTo>
                <a:cubicBezTo>
                  <a:pt x="41186" y="22875"/>
                  <a:pt x="41186" y="22875"/>
                  <a:pt x="41186" y="22875"/>
                </a:cubicBezTo>
                <a:cubicBezTo>
                  <a:pt x="78559" y="22875"/>
                  <a:pt x="78559" y="22875"/>
                  <a:pt x="78559" y="22875"/>
                </a:cubicBezTo>
                <a:cubicBezTo>
                  <a:pt x="78559" y="45557"/>
                  <a:pt x="78559" y="45557"/>
                  <a:pt x="78559" y="45557"/>
                </a:cubicBezTo>
                <a:cubicBezTo>
                  <a:pt x="89745" y="45557"/>
                  <a:pt x="89745" y="45557"/>
                  <a:pt x="89745" y="45557"/>
                </a:cubicBezTo>
                <a:cubicBezTo>
                  <a:pt x="89745" y="22875"/>
                  <a:pt x="89745" y="22875"/>
                  <a:pt x="89745" y="22875"/>
                </a:cubicBezTo>
                <a:cubicBezTo>
                  <a:pt x="100932" y="22875"/>
                  <a:pt x="100932" y="22875"/>
                  <a:pt x="100932" y="22875"/>
                </a:cubicBezTo>
                <a:cubicBezTo>
                  <a:pt x="104745" y="22875"/>
                  <a:pt x="108305" y="25589"/>
                  <a:pt x="108305" y="28497"/>
                </a:cubicBezTo>
                <a:lnTo>
                  <a:pt x="108305" y="913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2" name="Shape 4674"/>
          <p:cNvSpPr/>
          <p:nvPr/>
        </p:nvSpPr>
        <p:spPr>
          <a:xfrm>
            <a:off x="5059440" y="4522680"/>
            <a:ext cx="304560" cy="297000"/>
          </a:xfrm>
          <a:custGeom>
            <a:avLst/>
            <a:gdLst>
              <a:gd name="textAreaLeft" fmla="*/ 0 w 304560"/>
              <a:gd name="textAreaRight" fmla="*/ 304920 w 30456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3" name="Shape 4675"/>
          <p:cNvSpPr/>
          <p:nvPr/>
        </p:nvSpPr>
        <p:spPr>
          <a:xfrm>
            <a:off x="4570560" y="4530600"/>
            <a:ext cx="306360" cy="284400"/>
          </a:xfrm>
          <a:custGeom>
            <a:avLst/>
            <a:gdLst>
              <a:gd name="textAreaLeft" fmla="*/ 0 w 306360"/>
              <a:gd name="textAreaRight" fmla="*/ 306720 w 306360"/>
              <a:gd name="textAreaTop" fmla="*/ 0 h 284400"/>
              <a:gd name="textAreaBottom" fmla="*/ 284760 h 284400"/>
            </a:gdLst>
            <a:ahLst/>
            <a:rect l="textAreaLeft" t="textAreaTop" r="textAreaRight" b="textAreaBottom"/>
            <a:pathLst>
              <a:path w="120000" h="120000">
                <a:moveTo>
                  <a:pt x="36151" y="32949"/>
                </a:moveTo>
                <a:lnTo>
                  <a:pt x="36151" y="32949"/>
                </a:lnTo>
                <a:cubicBezTo>
                  <a:pt x="27823" y="0"/>
                  <a:pt x="27823" y="0"/>
                  <a:pt x="27823" y="0"/>
                </a:cubicBezTo>
                <a:cubicBezTo>
                  <a:pt x="2649" y="0"/>
                  <a:pt x="2649" y="0"/>
                  <a:pt x="2649" y="0"/>
                </a:cubicBezTo>
                <a:lnTo>
                  <a:pt x="0" y="3050"/>
                </a:lnTo>
                <a:cubicBezTo>
                  <a:pt x="0" y="6101"/>
                  <a:pt x="2649" y="9152"/>
                  <a:pt x="2649" y="9152"/>
                </a:cubicBezTo>
                <a:cubicBezTo>
                  <a:pt x="22145" y="9152"/>
                  <a:pt x="22145" y="9152"/>
                  <a:pt x="22145" y="9152"/>
                </a:cubicBezTo>
                <a:cubicBezTo>
                  <a:pt x="30662" y="32949"/>
                  <a:pt x="30662" y="32949"/>
                  <a:pt x="30662" y="32949"/>
                </a:cubicBezTo>
                <a:lnTo>
                  <a:pt x="30662" y="32949"/>
                </a:lnTo>
                <a:cubicBezTo>
                  <a:pt x="36151" y="80949"/>
                  <a:pt x="36151" y="80949"/>
                  <a:pt x="36151" y="80949"/>
                </a:cubicBezTo>
                <a:cubicBezTo>
                  <a:pt x="36151" y="89898"/>
                  <a:pt x="44479" y="95796"/>
                  <a:pt x="52807" y="95796"/>
                </a:cubicBezTo>
                <a:cubicBezTo>
                  <a:pt x="91798" y="95796"/>
                  <a:pt x="91798" y="95796"/>
                  <a:pt x="91798" y="95796"/>
                </a:cubicBezTo>
                <a:cubicBezTo>
                  <a:pt x="100315" y="95796"/>
                  <a:pt x="108643" y="89898"/>
                  <a:pt x="108643" y="80949"/>
                </a:cubicBezTo>
                <a:cubicBezTo>
                  <a:pt x="119810" y="32949"/>
                  <a:pt x="119810" y="32949"/>
                  <a:pt x="119810" y="32949"/>
                </a:cubicBezTo>
                <a:lnTo>
                  <a:pt x="36151" y="32949"/>
                </a:lnTo>
                <a:close/>
                <a:moveTo>
                  <a:pt x="100315" y="80949"/>
                </a:moveTo>
                <a:lnTo>
                  <a:pt x="100315" y="80949"/>
                </a:lnTo>
                <a:cubicBezTo>
                  <a:pt x="100315" y="84000"/>
                  <a:pt x="97476" y="86847"/>
                  <a:pt x="91798" y="86847"/>
                </a:cubicBezTo>
                <a:cubicBezTo>
                  <a:pt x="52807" y="86847"/>
                  <a:pt x="52807" y="86847"/>
                  <a:pt x="52807" y="86847"/>
                </a:cubicBezTo>
                <a:cubicBezTo>
                  <a:pt x="47318" y="86847"/>
                  <a:pt x="44479" y="84000"/>
                  <a:pt x="44479" y="80949"/>
                </a:cubicBezTo>
                <a:cubicBezTo>
                  <a:pt x="38990" y="39050"/>
                  <a:pt x="38990" y="39050"/>
                  <a:pt x="38990" y="39050"/>
                </a:cubicBezTo>
                <a:cubicBezTo>
                  <a:pt x="108643" y="39050"/>
                  <a:pt x="108643" y="39050"/>
                  <a:pt x="108643" y="39050"/>
                </a:cubicBezTo>
                <a:lnTo>
                  <a:pt x="100315" y="80949"/>
                </a:lnTo>
                <a:close/>
                <a:moveTo>
                  <a:pt x="52807" y="104949"/>
                </a:moveTo>
                <a:lnTo>
                  <a:pt x="52807" y="104949"/>
                </a:lnTo>
                <a:cubicBezTo>
                  <a:pt x="47318" y="104949"/>
                  <a:pt x="44479" y="107796"/>
                  <a:pt x="44479" y="110847"/>
                </a:cubicBezTo>
                <a:cubicBezTo>
                  <a:pt x="44479" y="116949"/>
                  <a:pt x="47318" y="119796"/>
                  <a:pt x="52807" y="119796"/>
                </a:cubicBezTo>
                <a:cubicBezTo>
                  <a:pt x="55646" y="119796"/>
                  <a:pt x="58485" y="116949"/>
                  <a:pt x="58485" y="110847"/>
                </a:cubicBezTo>
                <a:cubicBezTo>
                  <a:pt x="58485" y="107796"/>
                  <a:pt x="55646" y="104949"/>
                  <a:pt x="52807" y="104949"/>
                </a:cubicBezTo>
                <a:close/>
                <a:moveTo>
                  <a:pt x="89148" y="104949"/>
                </a:moveTo>
                <a:lnTo>
                  <a:pt x="89148" y="104949"/>
                </a:lnTo>
                <a:cubicBezTo>
                  <a:pt x="86309" y="104949"/>
                  <a:pt x="80630" y="107796"/>
                  <a:pt x="80630" y="110847"/>
                </a:cubicBezTo>
                <a:cubicBezTo>
                  <a:pt x="80630" y="116949"/>
                  <a:pt x="86309" y="119796"/>
                  <a:pt x="89148" y="119796"/>
                </a:cubicBezTo>
                <a:cubicBezTo>
                  <a:pt x="91798" y="119796"/>
                  <a:pt x="97476" y="116949"/>
                  <a:pt x="97476" y="110847"/>
                </a:cubicBezTo>
                <a:cubicBezTo>
                  <a:pt x="97476" y="107796"/>
                  <a:pt x="91798" y="104949"/>
                  <a:pt x="89148" y="1049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4" name="Shape 4676"/>
          <p:cNvSpPr/>
          <p:nvPr/>
        </p:nvSpPr>
        <p:spPr>
          <a:xfrm>
            <a:off x="4083120" y="4551480"/>
            <a:ext cx="295200" cy="242640"/>
          </a:xfrm>
          <a:custGeom>
            <a:avLst/>
            <a:gdLst>
              <a:gd name="textAreaLeft" fmla="*/ 0 w 295200"/>
              <a:gd name="textAreaRight" fmla="*/ 295560 w 295200"/>
              <a:gd name="textAreaTop" fmla="*/ 0 h 242640"/>
              <a:gd name="textAreaBottom" fmla="*/ 243000 h 24264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5" name="Shape 4677"/>
          <p:cNvSpPr/>
          <p:nvPr/>
        </p:nvSpPr>
        <p:spPr>
          <a:xfrm>
            <a:off x="3587760" y="45226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97665" y="0"/>
                </a:moveTo>
                <a:lnTo>
                  <a:pt x="97665" y="0"/>
                </a:lnTo>
                <a:cubicBezTo>
                  <a:pt x="22334" y="0"/>
                  <a:pt x="22334" y="0"/>
                  <a:pt x="22334" y="0"/>
                </a:cubicBezTo>
                <a:cubicBezTo>
                  <a:pt x="0" y="37027"/>
                  <a:pt x="0" y="37027"/>
                  <a:pt x="0" y="37027"/>
                </a:cubicBezTo>
                <a:lnTo>
                  <a:pt x="0" y="51373"/>
                </a:lnTo>
                <a:cubicBezTo>
                  <a:pt x="0" y="56995"/>
                  <a:pt x="2839" y="59903"/>
                  <a:pt x="5678" y="62617"/>
                </a:cubicBezTo>
                <a:cubicBezTo>
                  <a:pt x="5678" y="105460"/>
                  <a:pt x="5678" y="105460"/>
                  <a:pt x="5678" y="105460"/>
                </a:cubicBezTo>
                <a:cubicBezTo>
                  <a:pt x="5678" y="114184"/>
                  <a:pt x="11167" y="119806"/>
                  <a:pt x="19495" y="119806"/>
                </a:cubicBezTo>
                <a:cubicBezTo>
                  <a:pt x="100315" y="119806"/>
                  <a:pt x="100315" y="119806"/>
                  <a:pt x="100315" y="119806"/>
                </a:cubicBezTo>
                <a:cubicBezTo>
                  <a:pt x="108832" y="119806"/>
                  <a:pt x="117160" y="114184"/>
                  <a:pt x="117160" y="105460"/>
                </a:cubicBezTo>
                <a:cubicBezTo>
                  <a:pt x="117160" y="62617"/>
                  <a:pt x="117160" y="62617"/>
                  <a:pt x="117160" y="62617"/>
                </a:cubicBezTo>
                <a:cubicBezTo>
                  <a:pt x="119810" y="59903"/>
                  <a:pt x="119810" y="56995"/>
                  <a:pt x="119810" y="51373"/>
                </a:cubicBezTo>
                <a:cubicBezTo>
                  <a:pt x="119810" y="48465"/>
                  <a:pt x="119810" y="37027"/>
                  <a:pt x="119810" y="37027"/>
                </a:cubicBezTo>
                <a:lnTo>
                  <a:pt x="97665" y="0"/>
                </a:lnTo>
                <a:close/>
                <a:moveTo>
                  <a:pt x="108832" y="105460"/>
                </a:moveTo>
                <a:lnTo>
                  <a:pt x="108832" y="105460"/>
                </a:lnTo>
                <a:cubicBezTo>
                  <a:pt x="108832" y="108368"/>
                  <a:pt x="105993" y="114184"/>
                  <a:pt x="100315" y="114184"/>
                </a:cubicBezTo>
                <a:cubicBezTo>
                  <a:pt x="19495" y="114184"/>
                  <a:pt x="19495" y="114184"/>
                  <a:pt x="19495" y="114184"/>
                </a:cubicBezTo>
                <a:cubicBezTo>
                  <a:pt x="16845" y="114184"/>
                  <a:pt x="11167" y="108368"/>
                  <a:pt x="11167" y="105460"/>
                </a:cubicBezTo>
                <a:cubicBezTo>
                  <a:pt x="11167" y="96930"/>
                  <a:pt x="11167" y="96930"/>
                  <a:pt x="11167" y="96930"/>
                </a:cubicBezTo>
                <a:cubicBezTo>
                  <a:pt x="108832" y="96930"/>
                  <a:pt x="108832" y="96930"/>
                  <a:pt x="108832" y="96930"/>
                </a:cubicBezTo>
                <a:lnTo>
                  <a:pt x="108832" y="105460"/>
                </a:lnTo>
                <a:close/>
                <a:moveTo>
                  <a:pt x="108832" y="91308"/>
                </a:moveTo>
                <a:lnTo>
                  <a:pt x="108832" y="91308"/>
                </a:lnTo>
                <a:cubicBezTo>
                  <a:pt x="11167" y="91308"/>
                  <a:pt x="11167" y="91308"/>
                  <a:pt x="11167" y="91308"/>
                </a:cubicBezTo>
                <a:cubicBezTo>
                  <a:pt x="11167" y="68432"/>
                  <a:pt x="11167" y="68432"/>
                  <a:pt x="11167" y="68432"/>
                </a:cubicBezTo>
                <a:cubicBezTo>
                  <a:pt x="14006" y="68432"/>
                  <a:pt x="16845" y="68432"/>
                  <a:pt x="19495" y="68432"/>
                </a:cubicBezTo>
                <a:cubicBezTo>
                  <a:pt x="22334" y="68432"/>
                  <a:pt x="30662" y="62617"/>
                  <a:pt x="33501" y="56995"/>
                </a:cubicBezTo>
                <a:cubicBezTo>
                  <a:pt x="36340" y="62617"/>
                  <a:pt x="41829" y="68432"/>
                  <a:pt x="47507" y="68432"/>
                </a:cubicBezTo>
                <a:cubicBezTo>
                  <a:pt x="52996" y="68432"/>
                  <a:pt x="58675" y="62617"/>
                  <a:pt x="61324" y="59903"/>
                </a:cubicBezTo>
                <a:cubicBezTo>
                  <a:pt x="61324" y="62617"/>
                  <a:pt x="69842" y="68432"/>
                  <a:pt x="75331" y="68432"/>
                </a:cubicBezTo>
                <a:cubicBezTo>
                  <a:pt x="81009" y="68432"/>
                  <a:pt x="86498" y="62617"/>
                  <a:pt x="89148" y="56995"/>
                </a:cubicBezTo>
                <a:cubicBezTo>
                  <a:pt x="91987" y="62617"/>
                  <a:pt x="94826" y="68432"/>
                  <a:pt x="100315" y="68432"/>
                </a:cubicBezTo>
                <a:cubicBezTo>
                  <a:pt x="103154" y="68432"/>
                  <a:pt x="108832" y="68432"/>
                  <a:pt x="108832" y="68432"/>
                </a:cubicBezTo>
                <a:lnTo>
                  <a:pt x="108832" y="91308"/>
                </a:lnTo>
                <a:close/>
                <a:moveTo>
                  <a:pt x="111482" y="51373"/>
                </a:moveTo>
                <a:lnTo>
                  <a:pt x="111482" y="51373"/>
                </a:lnTo>
                <a:cubicBezTo>
                  <a:pt x="111482" y="56995"/>
                  <a:pt x="105993" y="59903"/>
                  <a:pt x="100315" y="59903"/>
                </a:cubicBezTo>
                <a:cubicBezTo>
                  <a:pt x="94826" y="59903"/>
                  <a:pt x="89148" y="56995"/>
                  <a:pt x="89148" y="51373"/>
                </a:cubicBezTo>
                <a:cubicBezTo>
                  <a:pt x="86498" y="51373"/>
                  <a:pt x="86498" y="51373"/>
                  <a:pt x="86498" y="51373"/>
                </a:cubicBezTo>
                <a:cubicBezTo>
                  <a:pt x="86498" y="56995"/>
                  <a:pt x="81009" y="59903"/>
                  <a:pt x="75331" y="59903"/>
                </a:cubicBezTo>
                <a:cubicBezTo>
                  <a:pt x="69842" y="59903"/>
                  <a:pt x="61324" y="56995"/>
                  <a:pt x="61324" y="51373"/>
                </a:cubicBezTo>
                <a:cubicBezTo>
                  <a:pt x="58675" y="51373"/>
                  <a:pt x="58675" y="51373"/>
                  <a:pt x="58675" y="51373"/>
                </a:cubicBezTo>
                <a:cubicBezTo>
                  <a:pt x="58675" y="56995"/>
                  <a:pt x="52996" y="59903"/>
                  <a:pt x="47507" y="59903"/>
                </a:cubicBezTo>
                <a:cubicBezTo>
                  <a:pt x="41829" y="59903"/>
                  <a:pt x="33501" y="56995"/>
                  <a:pt x="33501" y="51373"/>
                </a:cubicBezTo>
                <a:cubicBezTo>
                  <a:pt x="30662" y="51373"/>
                  <a:pt x="30662" y="51373"/>
                  <a:pt x="30662" y="51373"/>
                </a:cubicBezTo>
                <a:cubicBezTo>
                  <a:pt x="30662" y="56995"/>
                  <a:pt x="25173" y="59903"/>
                  <a:pt x="19495" y="59903"/>
                </a:cubicBezTo>
                <a:cubicBezTo>
                  <a:pt x="14006" y="59903"/>
                  <a:pt x="8517" y="56995"/>
                  <a:pt x="8517" y="51373"/>
                </a:cubicBezTo>
                <a:cubicBezTo>
                  <a:pt x="8517" y="45557"/>
                  <a:pt x="8517" y="45557"/>
                  <a:pt x="8517" y="45557"/>
                </a:cubicBezTo>
                <a:cubicBezTo>
                  <a:pt x="111482" y="45557"/>
                  <a:pt x="111482" y="45557"/>
                  <a:pt x="111482" y="45557"/>
                </a:cubicBezTo>
                <a:lnTo>
                  <a:pt x="111482" y="51373"/>
                </a:lnTo>
                <a:close/>
                <a:moveTo>
                  <a:pt x="8517" y="37027"/>
                </a:moveTo>
                <a:lnTo>
                  <a:pt x="8517" y="37027"/>
                </a:lnTo>
                <a:cubicBezTo>
                  <a:pt x="25173" y="5621"/>
                  <a:pt x="25173" y="5621"/>
                  <a:pt x="25173" y="5621"/>
                </a:cubicBezTo>
                <a:cubicBezTo>
                  <a:pt x="94826" y="5621"/>
                  <a:pt x="94826" y="5621"/>
                  <a:pt x="94826" y="5621"/>
                </a:cubicBezTo>
                <a:cubicBezTo>
                  <a:pt x="111482" y="37027"/>
                  <a:pt x="111482" y="37027"/>
                  <a:pt x="111482" y="37027"/>
                </a:cubicBezTo>
                <a:lnTo>
                  <a:pt x="8517" y="3702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6" name="Shape 4678"/>
          <p:cNvSpPr/>
          <p:nvPr/>
        </p:nvSpPr>
        <p:spPr>
          <a:xfrm>
            <a:off x="3135240" y="4551480"/>
            <a:ext cx="227160" cy="242640"/>
          </a:xfrm>
          <a:custGeom>
            <a:avLst/>
            <a:gdLst>
              <a:gd name="textAreaLeft" fmla="*/ 0 w 227160"/>
              <a:gd name="textAreaRight" fmla="*/ 227520 w 227160"/>
              <a:gd name="textAreaTop" fmla="*/ 0 h 242640"/>
              <a:gd name="textAreaBottom" fmla="*/ 243000 h 24264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7" name="Shape 4679"/>
          <p:cNvSpPr/>
          <p:nvPr/>
        </p:nvSpPr>
        <p:spPr>
          <a:xfrm>
            <a:off x="2619360" y="4543560"/>
            <a:ext cx="282600" cy="249120"/>
          </a:xfrm>
          <a:custGeom>
            <a:avLst/>
            <a:gdLst>
              <a:gd name="textAreaLeft" fmla="*/ 0 w 282600"/>
              <a:gd name="textAreaRight" fmla="*/ 282960 w 282600"/>
              <a:gd name="textAreaTop" fmla="*/ 0 h 249120"/>
              <a:gd name="textAreaBottom" fmla="*/ 249480 h 249120"/>
            </a:gdLst>
            <a:ahLst/>
            <a:rect l="textAreaLeft" t="textAreaTop" r="textAreaRight" b="textAreaBottom"/>
            <a:pathLst>
              <a:path w="120000" h="120000">
                <a:moveTo>
                  <a:pt x="86791" y="3488"/>
                </a:moveTo>
                <a:lnTo>
                  <a:pt x="86791" y="3488"/>
                </a:lnTo>
                <a:cubicBezTo>
                  <a:pt x="86791" y="0"/>
                  <a:pt x="83938" y="3488"/>
                  <a:pt x="80882" y="3488"/>
                </a:cubicBezTo>
                <a:cubicBezTo>
                  <a:pt x="33005" y="113023"/>
                  <a:pt x="33005" y="113023"/>
                  <a:pt x="33005" y="113023"/>
                </a:cubicBezTo>
                <a:cubicBezTo>
                  <a:pt x="29949" y="116279"/>
                  <a:pt x="33005" y="119767"/>
                  <a:pt x="33005" y="119767"/>
                </a:cubicBezTo>
                <a:cubicBezTo>
                  <a:pt x="35857" y="119767"/>
                  <a:pt x="38913" y="119767"/>
                  <a:pt x="38913" y="119767"/>
                </a:cubicBezTo>
                <a:cubicBezTo>
                  <a:pt x="89847" y="10232"/>
                  <a:pt x="89847" y="10232"/>
                  <a:pt x="89847" y="10232"/>
                </a:cubicBezTo>
                <a:cubicBezTo>
                  <a:pt x="89847" y="6744"/>
                  <a:pt x="89847" y="3488"/>
                  <a:pt x="86791" y="3488"/>
                </a:cubicBezTo>
                <a:close/>
                <a:moveTo>
                  <a:pt x="29949" y="82093"/>
                </a:moveTo>
                <a:lnTo>
                  <a:pt x="29949" y="82093"/>
                </a:lnTo>
                <a:cubicBezTo>
                  <a:pt x="8964" y="61627"/>
                  <a:pt x="8964" y="61627"/>
                  <a:pt x="8964" y="61627"/>
                </a:cubicBezTo>
                <a:cubicBezTo>
                  <a:pt x="29949" y="44418"/>
                  <a:pt x="29949" y="44418"/>
                  <a:pt x="29949" y="44418"/>
                </a:cubicBezTo>
                <a:cubicBezTo>
                  <a:pt x="33005" y="41162"/>
                  <a:pt x="33005" y="37674"/>
                  <a:pt x="29949" y="37674"/>
                </a:cubicBezTo>
                <a:cubicBezTo>
                  <a:pt x="29949" y="34186"/>
                  <a:pt x="26893" y="34186"/>
                  <a:pt x="23837" y="37674"/>
                </a:cubicBezTo>
                <a:cubicBezTo>
                  <a:pt x="0" y="58139"/>
                  <a:pt x="0" y="58139"/>
                  <a:pt x="0" y="58139"/>
                </a:cubicBezTo>
                <a:cubicBezTo>
                  <a:pt x="0" y="61627"/>
                  <a:pt x="0" y="61627"/>
                  <a:pt x="0" y="61627"/>
                </a:cubicBezTo>
                <a:cubicBezTo>
                  <a:pt x="0" y="64883"/>
                  <a:pt x="0" y="64883"/>
                  <a:pt x="0" y="64883"/>
                </a:cubicBezTo>
                <a:cubicBezTo>
                  <a:pt x="23837" y="89069"/>
                  <a:pt x="23837" y="89069"/>
                  <a:pt x="23837" y="89069"/>
                </a:cubicBezTo>
                <a:cubicBezTo>
                  <a:pt x="26893" y="89069"/>
                  <a:pt x="29949" y="89069"/>
                  <a:pt x="29949" y="89069"/>
                </a:cubicBezTo>
                <a:cubicBezTo>
                  <a:pt x="33005" y="85581"/>
                  <a:pt x="33005" y="82093"/>
                  <a:pt x="29949" y="82093"/>
                </a:cubicBezTo>
                <a:close/>
                <a:moveTo>
                  <a:pt x="119796" y="58139"/>
                </a:moveTo>
                <a:lnTo>
                  <a:pt x="119796" y="58139"/>
                </a:lnTo>
                <a:cubicBezTo>
                  <a:pt x="95959" y="37674"/>
                  <a:pt x="95959" y="37674"/>
                  <a:pt x="95959" y="37674"/>
                </a:cubicBezTo>
                <a:cubicBezTo>
                  <a:pt x="92903" y="34186"/>
                  <a:pt x="89847" y="34186"/>
                  <a:pt x="89847" y="37674"/>
                </a:cubicBezTo>
                <a:cubicBezTo>
                  <a:pt x="86791" y="37674"/>
                  <a:pt x="86791" y="41162"/>
                  <a:pt x="89847" y="44418"/>
                </a:cubicBezTo>
                <a:cubicBezTo>
                  <a:pt x="110831" y="61627"/>
                  <a:pt x="110831" y="61627"/>
                  <a:pt x="110831" y="61627"/>
                </a:cubicBezTo>
                <a:cubicBezTo>
                  <a:pt x="89847" y="82093"/>
                  <a:pt x="89847" y="82093"/>
                  <a:pt x="89847" y="82093"/>
                </a:cubicBezTo>
                <a:cubicBezTo>
                  <a:pt x="86791" y="82093"/>
                  <a:pt x="86791" y="85581"/>
                  <a:pt x="89847" y="89069"/>
                </a:cubicBezTo>
                <a:cubicBezTo>
                  <a:pt x="89847" y="89069"/>
                  <a:pt x="92903" y="89069"/>
                  <a:pt x="95959" y="89069"/>
                </a:cubicBezTo>
                <a:cubicBezTo>
                  <a:pt x="119796" y="64883"/>
                  <a:pt x="119796" y="64883"/>
                  <a:pt x="119796" y="64883"/>
                </a:cubicBezTo>
                <a:cubicBezTo>
                  <a:pt x="119796" y="64883"/>
                  <a:pt x="119796" y="64883"/>
                  <a:pt x="119796" y="61627"/>
                </a:cubicBezTo>
                <a:cubicBezTo>
                  <a:pt x="119796" y="61627"/>
                  <a:pt x="119796" y="61627"/>
                  <a:pt x="119796" y="581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8" name="Shape 4680"/>
          <p:cNvSpPr/>
          <p:nvPr/>
        </p:nvSpPr>
        <p:spPr>
          <a:xfrm>
            <a:off x="2158920" y="4522680"/>
            <a:ext cx="233280" cy="297000"/>
          </a:xfrm>
          <a:custGeom>
            <a:avLst/>
            <a:gdLst>
              <a:gd name="textAreaLeft" fmla="*/ 0 w 233280"/>
              <a:gd name="textAreaRight" fmla="*/ 233640 w 23328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9" name="Shape 4681"/>
          <p:cNvSpPr/>
          <p:nvPr/>
        </p:nvSpPr>
        <p:spPr>
          <a:xfrm>
            <a:off x="1636560" y="4516560"/>
            <a:ext cx="298440" cy="296640"/>
          </a:xfrm>
          <a:custGeom>
            <a:avLst/>
            <a:gdLst>
              <a:gd name="textAreaLeft" fmla="*/ 0 w 298440"/>
              <a:gd name="textAreaRight" fmla="*/ 298800 w 298440"/>
              <a:gd name="textAreaTop" fmla="*/ 0 h 296640"/>
              <a:gd name="textAreaBottom" fmla="*/ 297000 h 29664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0" name="Shape 4682"/>
          <p:cNvSpPr/>
          <p:nvPr/>
        </p:nvSpPr>
        <p:spPr>
          <a:xfrm>
            <a:off x="1147680" y="4551480"/>
            <a:ext cx="284400" cy="242640"/>
          </a:xfrm>
          <a:custGeom>
            <a:avLst/>
            <a:gdLst>
              <a:gd name="textAreaLeft" fmla="*/ 0 w 284400"/>
              <a:gd name="textAreaRight" fmla="*/ 284760 w 284400"/>
              <a:gd name="textAreaTop" fmla="*/ 0 h 242640"/>
              <a:gd name="textAreaBottom" fmla="*/ 243000 h 24264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1" name="Shape 4683"/>
          <p:cNvSpPr/>
          <p:nvPr/>
        </p:nvSpPr>
        <p:spPr>
          <a:xfrm>
            <a:off x="5562720" y="4056120"/>
            <a:ext cx="284040" cy="247680"/>
          </a:xfrm>
          <a:custGeom>
            <a:avLst/>
            <a:gdLst>
              <a:gd name="textAreaLeft" fmla="*/ 0 w 284040"/>
              <a:gd name="textAreaRight" fmla="*/ 284400 w 284040"/>
              <a:gd name="textAreaTop" fmla="*/ 0 h 247680"/>
              <a:gd name="textAreaBottom" fmla="*/ 248040 h 247680"/>
            </a:gdLst>
            <a:ahLst/>
            <a:rect l="textAreaLeft" t="textAreaTop" r="textAreaRight" b="textAreaBottom"/>
            <a:pathLst>
              <a:path w="120000" h="120000">
                <a:moveTo>
                  <a:pt x="116943" y="75348"/>
                </a:moveTo>
                <a:lnTo>
                  <a:pt x="116943" y="75348"/>
                </a:lnTo>
                <a:cubicBezTo>
                  <a:pt x="113887" y="75348"/>
                  <a:pt x="110831" y="75348"/>
                  <a:pt x="110831" y="78837"/>
                </a:cubicBezTo>
                <a:cubicBezTo>
                  <a:pt x="110831" y="109534"/>
                  <a:pt x="110831" y="109534"/>
                  <a:pt x="110831" y="109534"/>
                </a:cubicBezTo>
                <a:cubicBezTo>
                  <a:pt x="8964" y="109534"/>
                  <a:pt x="8964" y="109534"/>
                  <a:pt x="8964" y="109534"/>
                </a:cubicBezTo>
                <a:cubicBezTo>
                  <a:pt x="8964" y="78837"/>
                  <a:pt x="8964" y="78837"/>
                  <a:pt x="8964" y="78837"/>
                </a:cubicBezTo>
                <a:cubicBezTo>
                  <a:pt x="8964" y="75348"/>
                  <a:pt x="5908" y="75348"/>
                  <a:pt x="2852" y="75348"/>
                </a:cubicBezTo>
                <a:cubicBezTo>
                  <a:pt x="2852" y="75348"/>
                  <a:pt x="0" y="75348"/>
                  <a:pt x="0" y="78837"/>
                </a:cubicBezTo>
                <a:cubicBezTo>
                  <a:pt x="0" y="116511"/>
                  <a:pt x="0" y="116511"/>
                  <a:pt x="0" y="116511"/>
                </a:cubicBezTo>
                <a:lnTo>
                  <a:pt x="2852" y="119767"/>
                </a:lnTo>
                <a:cubicBezTo>
                  <a:pt x="116943" y="119767"/>
                  <a:pt x="116943" y="119767"/>
                  <a:pt x="116943" y="119767"/>
                </a:cubicBezTo>
                <a:lnTo>
                  <a:pt x="119796" y="116511"/>
                </a:lnTo>
                <a:cubicBezTo>
                  <a:pt x="119796" y="78837"/>
                  <a:pt x="119796" y="78837"/>
                  <a:pt x="119796" y="78837"/>
                </a:cubicBezTo>
                <a:cubicBezTo>
                  <a:pt x="119796" y="75348"/>
                  <a:pt x="116943" y="75348"/>
                  <a:pt x="116943" y="75348"/>
                </a:cubicBezTo>
                <a:close/>
                <a:moveTo>
                  <a:pt x="41969" y="37674"/>
                </a:moveTo>
                <a:lnTo>
                  <a:pt x="41969" y="37674"/>
                </a:lnTo>
                <a:cubicBezTo>
                  <a:pt x="56842" y="17209"/>
                  <a:pt x="56842" y="17209"/>
                  <a:pt x="56842" y="17209"/>
                </a:cubicBezTo>
                <a:cubicBezTo>
                  <a:pt x="56842" y="82093"/>
                  <a:pt x="56842" y="82093"/>
                  <a:pt x="56842" y="82093"/>
                </a:cubicBezTo>
                <a:cubicBezTo>
                  <a:pt x="56842" y="85581"/>
                  <a:pt x="56842" y="89069"/>
                  <a:pt x="59898" y="89069"/>
                </a:cubicBezTo>
                <a:cubicBezTo>
                  <a:pt x="62954" y="89069"/>
                  <a:pt x="62954" y="85581"/>
                  <a:pt x="62954" y="82093"/>
                </a:cubicBezTo>
                <a:cubicBezTo>
                  <a:pt x="62954" y="17209"/>
                  <a:pt x="62954" y="17209"/>
                  <a:pt x="62954" y="17209"/>
                </a:cubicBezTo>
                <a:cubicBezTo>
                  <a:pt x="78030" y="37674"/>
                  <a:pt x="78030" y="37674"/>
                  <a:pt x="78030" y="37674"/>
                </a:cubicBezTo>
                <a:cubicBezTo>
                  <a:pt x="78030" y="37674"/>
                  <a:pt x="80882" y="37674"/>
                  <a:pt x="83938" y="37674"/>
                </a:cubicBezTo>
                <a:cubicBezTo>
                  <a:pt x="83938" y="34186"/>
                  <a:pt x="83938" y="30930"/>
                  <a:pt x="83938" y="30930"/>
                </a:cubicBezTo>
                <a:cubicBezTo>
                  <a:pt x="62954" y="3488"/>
                  <a:pt x="62954" y="3488"/>
                  <a:pt x="62954" y="3488"/>
                </a:cubicBezTo>
                <a:cubicBezTo>
                  <a:pt x="62954" y="0"/>
                  <a:pt x="59898" y="0"/>
                  <a:pt x="59898" y="0"/>
                </a:cubicBezTo>
                <a:cubicBezTo>
                  <a:pt x="59898" y="0"/>
                  <a:pt x="56842" y="0"/>
                  <a:pt x="56842" y="3488"/>
                </a:cubicBezTo>
                <a:cubicBezTo>
                  <a:pt x="35857" y="30930"/>
                  <a:pt x="35857" y="30930"/>
                  <a:pt x="35857" y="30930"/>
                </a:cubicBezTo>
                <a:cubicBezTo>
                  <a:pt x="35857" y="30930"/>
                  <a:pt x="35857" y="34186"/>
                  <a:pt x="35857" y="37674"/>
                </a:cubicBezTo>
                <a:cubicBezTo>
                  <a:pt x="38913" y="37674"/>
                  <a:pt x="41969" y="37674"/>
                  <a:pt x="41969" y="3767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2" name="Shape 4684"/>
          <p:cNvSpPr/>
          <p:nvPr/>
        </p:nvSpPr>
        <p:spPr>
          <a:xfrm>
            <a:off x="5059440" y="4040280"/>
            <a:ext cx="304560" cy="284040"/>
          </a:xfrm>
          <a:custGeom>
            <a:avLst/>
            <a:gdLst>
              <a:gd name="textAreaLeft" fmla="*/ 0 w 304560"/>
              <a:gd name="textAreaRight" fmla="*/ 304920 w 30456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3" name="Shape 4685"/>
          <p:cNvSpPr/>
          <p:nvPr/>
        </p:nvSpPr>
        <p:spPr>
          <a:xfrm>
            <a:off x="4570560" y="4040280"/>
            <a:ext cx="306360" cy="284040"/>
          </a:xfrm>
          <a:custGeom>
            <a:avLst/>
            <a:gdLst>
              <a:gd name="textAreaLeft" fmla="*/ 0 w 306360"/>
              <a:gd name="textAreaRight" fmla="*/ 306720 w 306360"/>
              <a:gd name="textAreaTop" fmla="*/ 0 h 284040"/>
              <a:gd name="textAreaBottom" fmla="*/ 284400 h 284040"/>
            </a:gdLst>
            <a:ahLst/>
            <a:rect l="textAreaLeft" t="textAreaTop" r="textAreaRight" b="textAreaBottom"/>
            <a:pathLst>
              <a:path w="120000" h="120000">
                <a:moveTo>
                  <a:pt x="102965" y="0"/>
                </a:moveTo>
                <a:lnTo>
                  <a:pt x="102965" y="0"/>
                </a:lnTo>
                <a:cubicBezTo>
                  <a:pt x="13817" y="0"/>
                  <a:pt x="13817" y="0"/>
                  <a:pt x="13817" y="0"/>
                </a:cubicBezTo>
                <a:cubicBezTo>
                  <a:pt x="5488" y="0"/>
                  <a:pt x="0" y="5898"/>
                  <a:pt x="0" y="14847"/>
                </a:cubicBezTo>
                <a:cubicBezTo>
                  <a:pt x="0" y="101694"/>
                  <a:pt x="0" y="101694"/>
                  <a:pt x="0" y="101694"/>
                </a:cubicBezTo>
                <a:cubicBezTo>
                  <a:pt x="0" y="110644"/>
                  <a:pt x="5488" y="119796"/>
                  <a:pt x="13817" y="119796"/>
                </a:cubicBezTo>
                <a:cubicBezTo>
                  <a:pt x="102965" y="119796"/>
                  <a:pt x="102965" y="119796"/>
                  <a:pt x="102965" y="119796"/>
                </a:cubicBezTo>
                <a:cubicBezTo>
                  <a:pt x="111293" y="119796"/>
                  <a:pt x="119810" y="110644"/>
                  <a:pt x="119810" y="101694"/>
                </a:cubicBezTo>
                <a:cubicBezTo>
                  <a:pt x="119810" y="14847"/>
                  <a:pt x="119810" y="14847"/>
                  <a:pt x="119810" y="14847"/>
                </a:cubicBezTo>
                <a:cubicBezTo>
                  <a:pt x="119810" y="5898"/>
                  <a:pt x="111293" y="0"/>
                  <a:pt x="102965" y="0"/>
                </a:cubicBezTo>
                <a:close/>
                <a:moveTo>
                  <a:pt x="89148" y="110644"/>
                </a:moveTo>
                <a:lnTo>
                  <a:pt x="89148" y="110644"/>
                </a:lnTo>
                <a:cubicBezTo>
                  <a:pt x="13817" y="110644"/>
                  <a:pt x="13817" y="110644"/>
                  <a:pt x="13817" y="110644"/>
                </a:cubicBezTo>
                <a:cubicBezTo>
                  <a:pt x="11167" y="110644"/>
                  <a:pt x="8328" y="107796"/>
                  <a:pt x="8328" y="101694"/>
                </a:cubicBezTo>
                <a:cubicBezTo>
                  <a:pt x="8328" y="14847"/>
                  <a:pt x="8328" y="14847"/>
                  <a:pt x="8328" y="14847"/>
                </a:cubicBezTo>
                <a:cubicBezTo>
                  <a:pt x="8328" y="12000"/>
                  <a:pt x="11167" y="5898"/>
                  <a:pt x="13817" y="5898"/>
                </a:cubicBezTo>
                <a:cubicBezTo>
                  <a:pt x="89148" y="5898"/>
                  <a:pt x="89148" y="5898"/>
                  <a:pt x="89148" y="5898"/>
                </a:cubicBezTo>
                <a:lnTo>
                  <a:pt x="89148" y="110644"/>
                </a:lnTo>
                <a:close/>
                <a:moveTo>
                  <a:pt x="111293" y="101694"/>
                </a:moveTo>
                <a:lnTo>
                  <a:pt x="111293" y="101694"/>
                </a:lnTo>
                <a:cubicBezTo>
                  <a:pt x="111293" y="107796"/>
                  <a:pt x="108643" y="110644"/>
                  <a:pt x="102965" y="110644"/>
                </a:cubicBezTo>
                <a:cubicBezTo>
                  <a:pt x="97476" y="110644"/>
                  <a:pt x="97476" y="110644"/>
                  <a:pt x="97476" y="110644"/>
                </a:cubicBezTo>
                <a:cubicBezTo>
                  <a:pt x="97476" y="5898"/>
                  <a:pt x="97476" y="5898"/>
                  <a:pt x="97476" y="5898"/>
                </a:cubicBezTo>
                <a:cubicBezTo>
                  <a:pt x="102965" y="5898"/>
                  <a:pt x="102965" y="5898"/>
                  <a:pt x="102965" y="5898"/>
                </a:cubicBezTo>
                <a:cubicBezTo>
                  <a:pt x="108643" y="5898"/>
                  <a:pt x="111293" y="12000"/>
                  <a:pt x="111293" y="14847"/>
                </a:cubicBezTo>
                <a:lnTo>
                  <a:pt x="111293" y="101694"/>
                </a:lnTo>
                <a:close/>
                <a:moveTo>
                  <a:pt x="19495" y="62847"/>
                </a:moveTo>
                <a:lnTo>
                  <a:pt x="19495" y="62847"/>
                </a:lnTo>
                <a:cubicBezTo>
                  <a:pt x="63974" y="62847"/>
                  <a:pt x="63974" y="62847"/>
                  <a:pt x="63974" y="62847"/>
                </a:cubicBezTo>
                <a:cubicBezTo>
                  <a:pt x="50157" y="74847"/>
                  <a:pt x="50157" y="74847"/>
                  <a:pt x="50157" y="74847"/>
                </a:cubicBezTo>
                <a:cubicBezTo>
                  <a:pt x="47318" y="77694"/>
                  <a:pt x="47318" y="80745"/>
                  <a:pt x="50157" y="80745"/>
                </a:cubicBezTo>
                <a:cubicBezTo>
                  <a:pt x="50157" y="83796"/>
                  <a:pt x="52807" y="83796"/>
                  <a:pt x="55646" y="80745"/>
                </a:cubicBezTo>
                <a:cubicBezTo>
                  <a:pt x="77981" y="62847"/>
                  <a:pt x="77981" y="62847"/>
                  <a:pt x="77981" y="62847"/>
                </a:cubicBezTo>
                <a:cubicBezTo>
                  <a:pt x="77981" y="59796"/>
                  <a:pt x="77981" y="59796"/>
                  <a:pt x="77981" y="59796"/>
                </a:cubicBezTo>
                <a:cubicBezTo>
                  <a:pt x="77981" y="56949"/>
                  <a:pt x="77981" y="56949"/>
                  <a:pt x="77981" y="56949"/>
                </a:cubicBezTo>
                <a:cubicBezTo>
                  <a:pt x="55646" y="35796"/>
                  <a:pt x="55646" y="35796"/>
                  <a:pt x="55646" y="35796"/>
                </a:cubicBezTo>
                <a:cubicBezTo>
                  <a:pt x="52807" y="35796"/>
                  <a:pt x="50157" y="35796"/>
                  <a:pt x="50157" y="35796"/>
                </a:cubicBezTo>
                <a:cubicBezTo>
                  <a:pt x="47318" y="38847"/>
                  <a:pt x="47318" y="38847"/>
                  <a:pt x="50157" y="41898"/>
                </a:cubicBezTo>
                <a:cubicBezTo>
                  <a:pt x="63974" y="53694"/>
                  <a:pt x="63974" y="53694"/>
                  <a:pt x="63974" y="53694"/>
                </a:cubicBezTo>
                <a:cubicBezTo>
                  <a:pt x="19495" y="53694"/>
                  <a:pt x="19495" y="53694"/>
                  <a:pt x="19495" y="53694"/>
                </a:cubicBezTo>
                <a:cubicBezTo>
                  <a:pt x="16656" y="53694"/>
                  <a:pt x="13817" y="56949"/>
                  <a:pt x="13817" y="59796"/>
                </a:cubicBezTo>
                <a:cubicBezTo>
                  <a:pt x="13817" y="59796"/>
                  <a:pt x="16656" y="62847"/>
                  <a:pt x="19495" y="628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4" name="Shape 4686"/>
          <p:cNvSpPr/>
          <p:nvPr/>
        </p:nvSpPr>
        <p:spPr>
          <a:xfrm>
            <a:off x="4089240" y="4027320"/>
            <a:ext cx="284400" cy="306720"/>
          </a:xfrm>
          <a:custGeom>
            <a:avLst/>
            <a:gdLst>
              <a:gd name="textAreaLeft" fmla="*/ 0 w 284400"/>
              <a:gd name="textAreaRight" fmla="*/ 284760 w 284400"/>
              <a:gd name="textAreaTop" fmla="*/ 0 h 306720"/>
              <a:gd name="textAreaBottom" fmla="*/ 307080 h 30672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5" name="Shape 4687"/>
          <p:cNvSpPr/>
          <p:nvPr/>
        </p:nvSpPr>
        <p:spPr>
          <a:xfrm>
            <a:off x="3603600" y="4027320"/>
            <a:ext cx="282600" cy="306720"/>
          </a:xfrm>
          <a:custGeom>
            <a:avLst/>
            <a:gdLst>
              <a:gd name="textAreaLeft" fmla="*/ 0 w 282600"/>
              <a:gd name="textAreaRight" fmla="*/ 282960 w 282600"/>
              <a:gd name="textAreaTop" fmla="*/ 0 h 306720"/>
              <a:gd name="textAreaBottom" fmla="*/ 307080 h 306720"/>
            </a:gdLst>
            <a:ahLst/>
            <a:rect l="textAreaLeft" t="textAreaTop" r="textAreaRight" b="textAreaBottom"/>
            <a:pathLst>
              <a:path w="120000" h="120000">
                <a:moveTo>
                  <a:pt x="101694" y="0"/>
                </a:moveTo>
                <a:lnTo>
                  <a:pt x="101694" y="0"/>
                </a:lnTo>
                <a:cubicBezTo>
                  <a:pt x="14847" y="0"/>
                  <a:pt x="14847" y="0"/>
                  <a:pt x="14847" y="0"/>
                </a:cubicBezTo>
                <a:cubicBezTo>
                  <a:pt x="5898" y="0"/>
                  <a:pt x="0" y="8328"/>
                  <a:pt x="0" y="16845"/>
                </a:cubicBezTo>
                <a:cubicBezTo>
                  <a:pt x="0" y="105993"/>
                  <a:pt x="0" y="105993"/>
                  <a:pt x="0" y="105993"/>
                </a:cubicBezTo>
                <a:cubicBezTo>
                  <a:pt x="0" y="114321"/>
                  <a:pt x="5898" y="119810"/>
                  <a:pt x="14847" y="119810"/>
                </a:cubicBezTo>
                <a:cubicBezTo>
                  <a:pt x="101694" y="119810"/>
                  <a:pt x="101694" y="119810"/>
                  <a:pt x="101694" y="119810"/>
                </a:cubicBezTo>
                <a:cubicBezTo>
                  <a:pt x="110847" y="119810"/>
                  <a:pt x="119796" y="114321"/>
                  <a:pt x="119796" y="105993"/>
                </a:cubicBezTo>
                <a:cubicBezTo>
                  <a:pt x="119796" y="16845"/>
                  <a:pt x="119796" y="16845"/>
                  <a:pt x="119796" y="16845"/>
                </a:cubicBezTo>
                <a:cubicBezTo>
                  <a:pt x="119796" y="8328"/>
                  <a:pt x="110847" y="0"/>
                  <a:pt x="101694" y="0"/>
                </a:cubicBezTo>
                <a:close/>
                <a:moveTo>
                  <a:pt x="110847" y="105993"/>
                </a:moveTo>
                <a:lnTo>
                  <a:pt x="110847" y="105993"/>
                </a:lnTo>
                <a:cubicBezTo>
                  <a:pt x="110847" y="108643"/>
                  <a:pt x="107796" y="111482"/>
                  <a:pt x="101694" y="111482"/>
                </a:cubicBezTo>
                <a:cubicBezTo>
                  <a:pt x="14847" y="111482"/>
                  <a:pt x="14847" y="111482"/>
                  <a:pt x="14847" y="111482"/>
                </a:cubicBezTo>
                <a:cubicBezTo>
                  <a:pt x="12000" y="111482"/>
                  <a:pt x="5898" y="108643"/>
                  <a:pt x="5898" y="105993"/>
                </a:cubicBezTo>
                <a:cubicBezTo>
                  <a:pt x="5898" y="97476"/>
                  <a:pt x="5898" y="97476"/>
                  <a:pt x="5898" y="97476"/>
                </a:cubicBezTo>
                <a:cubicBezTo>
                  <a:pt x="110847" y="97476"/>
                  <a:pt x="110847" y="97476"/>
                  <a:pt x="110847" y="97476"/>
                </a:cubicBezTo>
                <a:lnTo>
                  <a:pt x="110847" y="105993"/>
                </a:lnTo>
                <a:close/>
                <a:moveTo>
                  <a:pt x="110847" y="89148"/>
                </a:moveTo>
                <a:lnTo>
                  <a:pt x="110847" y="89148"/>
                </a:lnTo>
                <a:cubicBezTo>
                  <a:pt x="5898" y="89148"/>
                  <a:pt x="5898" y="89148"/>
                  <a:pt x="5898" y="89148"/>
                </a:cubicBezTo>
                <a:cubicBezTo>
                  <a:pt x="5898" y="16845"/>
                  <a:pt x="5898" y="16845"/>
                  <a:pt x="5898" y="16845"/>
                </a:cubicBezTo>
                <a:cubicBezTo>
                  <a:pt x="5898" y="11167"/>
                  <a:pt x="12000" y="8328"/>
                  <a:pt x="14847" y="8328"/>
                </a:cubicBezTo>
                <a:cubicBezTo>
                  <a:pt x="101694" y="8328"/>
                  <a:pt x="101694" y="8328"/>
                  <a:pt x="101694" y="8328"/>
                </a:cubicBezTo>
                <a:cubicBezTo>
                  <a:pt x="107796" y="8328"/>
                  <a:pt x="110847" y="11167"/>
                  <a:pt x="110847" y="16845"/>
                </a:cubicBezTo>
                <a:lnTo>
                  <a:pt x="110847" y="89148"/>
                </a:lnTo>
                <a:close/>
                <a:moveTo>
                  <a:pt x="74847" y="50157"/>
                </a:moveTo>
                <a:lnTo>
                  <a:pt x="74847" y="50157"/>
                </a:lnTo>
                <a:cubicBezTo>
                  <a:pt x="62847" y="64164"/>
                  <a:pt x="62847" y="64164"/>
                  <a:pt x="62847" y="64164"/>
                </a:cubicBezTo>
                <a:cubicBezTo>
                  <a:pt x="62847" y="19495"/>
                  <a:pt x="62847" y="19495"/>
                  <a:pt x="62847" y="19495"/>
                </a:cubicBezTo>
                <a:cubicBezTo>
                  <a:pt x="62847" y="16845"/>
                  <a:pt x="59796" y="16845"/>
                  <a:pt x="59796" y="16845"/>
                </a:cubicBezTo>
                <a:cubicBezTo>
                  <a:pt x="56949" y="16845"/>
                  <a:pt x="53898" y="16845"/>
                  <a:pt x="53898" y="19495"/>
                </a:cubicBezTo>
                <a:cubicBezTo>
                  <a:pt x="53898" y="64164"/>
                  <a:pt x="53898" y="64164"/>
                  <a:pt x="53898" y="64164"/>
                </a:cubicBezTo>
                <a:cubicBezTo>
                  <a:pt x="41898" y="50157"/>
                  <a:pt x="41898" y="50157"/>
                  <a:pt x="41898" y="50157"/>
                </a:cubicBezTo>
                <a:cubicBezTo>
                  <a:pt x="38847" y="50157"/>
                  <a:pt x="38847" y="50157"/>
                  <a:pt x="36000" y="50157"/>
                </a:cubicBezTo>
                <a:cubicBezTo>
                  <a:pt x="36000" y="52996"/>
                  <a:pt x="36000" y="52996"/>
                  <a:pt x="36000" y="55646"/>
                </a:cubicBezTo>
                <a:cubicBezTo>
                  <a:pt x="56949" y="77981"/>
                  <a:pt x="56949" y="77981"/>
                  <a:pt x="56949" y="77981"/>
                </a:cubicBezTo>
                <a:cubicBezTo>
                  <a:pt x="56949" y="77981"/>
                  <a:pt x="56949" y="77981"/>
                  <a:pt x="59796" y="77981"/>
                </a:cubicBezTo>
                <a:cubicBezTo>
                  <a:pt x="59796" y="77981"/>
                  <a:pt x="59796" y="77981"/>
                  <a:pt x="62847" y="77981"/>
                </a:cubicBezTo>
                <a:cubicBezTo>
                  <a:pt x="80949" y="55646"/>
                  <a:pt x="80949" y="55646"/>
                  <a:pt x="80949" y="55646"/>
                </a:cubicBezTo>
                <a:cubicBezTo>
                  <a:pt x="83796" y="52996"/>
                  <a:pt x="83796" y="52996"/>
                  <a:pt x="80949" y="50157"/>
                </a:cubicBezTo>
                <a:cubicBezTo>
                  <a:pt x="80949" y="50157"/>
                  <a:pt x="77694" y="50157"/>
                  <a:pt x="74847" y="5015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6" name="Shape 4688"/>
          <p:cNvSpPr/>
          <p:nvPr/>
        </p:nvSpPr>
        <p:spPr>
          <a:xfrm>
            <a:off x="3135240" y="4027320"/>
            <a:ext cx="249480" cy="306720"/>
          </a:xfrm>
          <a:custGeom>
            <a:avLst/>
            <a:gdLst>
              <a:gd name="textAreaLeft" fmla="*/ 0 w 249480"/>
              <a:gd name="textAreaRight" fmla="*/ 249840 w 249480"/>
              <a:gd name="textAreaTop" fmla="*/ 0 h 306720"/>
              <a:gd name="textAreaBottom" fmla="*/ 307080 h 30672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7" name="Shape 4689"/>
          <p:cNvSpPr/>
          <p:nvPr/>
        </p:nvSpPr>
        <p:spPr>
          <a:xfrm>
            <a:off x="2612880" y="4027320"/>
            <a:ext cx="297000" cy="306720"/>
          </a:xfrm>
          <a:custGeom>
            <a:avLst/>
            <a:gdLst>
              <a:gd name="textAreaLeft" fmla="*/ 0 w 297000"/>
              <a:gd name="textAreaRight" fmla="*/ 297360 w 297000"/>
              <a:gd name="textAreaTop" fmla="*/ 0 h 306720"/>
              <a:gd name="textAreaBottom" fmla="*/ 307080 h 306720"/>
            </a:gdLst>
            <a:ahLst/>
            <a:rect l="textAreaLeft" t="textAreaTop" r="textAreaRight" b="textAreaBottom"/>
            <a:pathLst>
              <a:path w="120000" h="120000">
                <a:moveTo>
                  <a:pt x="17059" y="16845"/>
                </a:moveTo>
                <a:lnTo>
                  <a:pt x="17059" y="16845"/>
                </a:lnTo>
                <a:cubicBezTo>
                  <a:pt x="17059" y="16845"/>
                  <a:pt x="14151" y="16845"/>
                  <a:pt x="14151" y="19495"/>
                </a:cubicBezTo>
                <a:cubicBezTo>
                  <a:pt x="14151" y="22334"/>
                  <a:pt x="17059" y="22334"/>
                  <a:pt x="17059" y="22334"/>
                </a:cubicBezTo>
                <a:cubicBezTo>
                  <a:pt x="19967" y="22334"/>
                  <a:pt x="22875" y="22334"/>
                  <a:pt x="22875" y="19495"/>
                </a:cubicBezTo>
                <a:cubicBezTo>
                  <a:pt x="22875" y="16845"/>
                  <a:pt x="19967" y="16845"/>
                  <a:pt x="17059" y="16845"/>
                </a:cubicBezTo>
                <a:close/>
                <a:moveTo>
                  <a:pt x="105654" y="0"/>
                </a:moveTo>
                <a:lnTo>
                  <a:pt x="105654" y="0"/>
                </a:lnTo>
                <a:cubicBezTo>
                  <a:pt x="14151" y="0"/>
                  <a:pt x="14151" y="0"/>
                  <a:pt x="14151" y="0"/>
                </a:cubicBezTo>
                <a:cubicBezTo>
                  <a:pt x="5621" y="0"/>
                  <a:pt x="0" y="8328"/>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328"/>
                  <a:pt x="114184" y="0"/>
                  <a:pt x="105654" y="0"/>
                </a:cubicBezTo>
                <a:close/>
                <a:moveTo>
                  <a:pt x="114184" y="105993"/>
                </a:moveTo>
                <a:lnTo>
                  <a:pt x="114184" y="105993"/>
                </a:lnTo>
                <a:cubicBezTo>
                  <a:pt x="114184" y="108643"/>
                  <a:pt x="108368" y="111482"/>
                  <a:pt x="105654" y="111482"/>
                </a:cubicBezTo>
                <a:cubicBezTo>
                  <a:pt x="14151" y="111482"/>
                  <a:pt x="14151" y="111482"/>
                  <a:pt x="14151" y="111482"/>
                </a:cubicBezTo>
                <a:cubicBezTo>
                  <a:pt x="11437" y="111482"/>
                  <a:pt x="5621" y="108643"/>
                  <a:pt x="5621" y="105993"/>
                </a:cubicBezTo>
                <a:cubicBezTo>
                  <a:pt x="5621" y="38990"/>
                  <a:pt x="5621" y="38990"/>
                  <a:pt x="5621" y="38990"/>
                </a:cubicBezTo>
                <a:cubicBezTo>
                  <a:pt x="114184" y="38990"/>
                  <a:pt x="114184" y="38990"/>
                  <a:pt x="114184" y="38990"/>
                </a:cubicBezTo>
                <a:lnTo>
                  <a:pt x="114184" y="105993"/>
                </a:lnTo>
                <a:close/>
                <a:moveTo>
                  <a:pt x="114184" y="30662"/>
                </a:moveTo>
                <a:lnTo>
                  <a:pt x="114184" y="30662"/>
                </a:lnTo>
                <a:cubicBezTo>
                  <a:pt x="5621" y="30662"/>
                  <a:pt x="5621" y="30662"/>
                  <a:pt x="5621" y="30662"/>
                </a:cubicBezTo>
                <a:cubicBezTo>
                  <a:pt x="5621" y="16845"/>
                  <a:pt x="5621" y="16845"/>
                  <a:pt x="5621" y="16845"/>
                </a:cubicBezTo>
                <a:cubicBezTo>
                  <a:pt x="5621" y="11167"/>
                  <a:pt x="11437" y="8328"/>
                  <a:pt x="14151" y="8328"/>
                </a:cubicBezTo>
                <a:cubicBezTo>
                  <a:pt x="105654" y="8328"/>
                  <a:pt x="105654" y="8328"/>
                  <a:pt x="105654" y="8328"/>
                </a:cubicBezTo>
                <a:cubicBezTo>
                  <a:pt x="108368" y="8328"/>
                  <a:pt x="114184" y="11167"/>
                  <a:pt x="114184" y="16845"/>
                </a:cubicBezTo>
                <a:lnTo>
                  <a:pt x="114184" y="30662"/>
                </a:lnTo>
                <a:close/>
                <a:moveTo>
                  <a:pt x="48465" y="16845"/>
                </a:moveTo>
                <a:lnTo>
                  <a:pt x="48465" y="16845"/>
                </a:lnTo>
                <a:cubicBezTo>
                  <a:pt x="45557" y="16845"/>
                  <a:pt x="45557" y="16845"/>
                  <a:pt x="45557" y="19495"/>
                </a:cubicBezTo>
                <a:cubicBezTo>
                  <a:pt x="45557" y="22334"/>
                  <a:pt x="45557" y="22334"/>
                  <a:pt x="48465" y="22334"/>
                </a:cubicBezTo>
                <a:cubicBezTo>
                  <a:pt x="51373" y="22334"/>
                  <a:pt x="51373" y="22334"/>
                  <a:pt x="51373" y="19495"/>
                </a:cubicBezTo>
                <a:cubicBezTo>
                  <a:pt x="51373" y="16845"/>
                  <a:pt x="51373" y="16845"/>
                  <a:pt x="48465" y="16845"/>
                </a:cubicBezTo>
                <a:close/>
                <a:moveTo>
                  <a:pt x="34313" y="16845"/>
                </a:moveTo>
                <a:lnTo>
                  <a:pt x="34313" y="16845"/>
                </a:lnTo>
                <a:cubicBezTo>
                  <a:pt x="31405" y="16845"/>
                  <a:pt x="28497" y="16845"/>
                  <a:pt x="28497" y="19495"/>
                </a:cubicBezTo>
                <a:cubicBezTo>
                  <a:pt x="28497" y="22334"/>
                  <a:pt x="31405" y="22334"/>
                  <a:pt x="34313" y="22334"/>
                </a:cubicBezTo>
                <a:cubicBezTo>
                  <a:pt x="34313" y="22334"/>
                  <a:pt x="37027" y="22334"/>
                  <a:pt x="37027" y="19495"/>
                </a:cubicBezTo>
                <a:cubicBezTo>
                  <a:pt x="37027" y="16845"/>
                  <a:pt x="34313" y="16845"/>
                  <a:pt x="34313" y="168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8" name="Shape 4690"/>
          <p:cNvSpPr/>
          <p:nvPr/>
        </p:nvSpPr>
        <p:spPr>
          <a:xfrm>
            <a:off x="2116080" y="4027320"/>
            <a:ext cx="304920" cy="306720"/>
          </a:xfrm>
          <a:custGeom>
            <a:avLst/>
            <a:gdLst>
              <a:gd name="textAreaLeft" fmla="*/ 0 w 304920"/>
              <a:gd name="textAreaRight" fmla="*/ 305280 w 304920"/>
              <a:gd name="textAreaTop" fmla="*/ 0 h 306720"/>
              <a:gd name="textAreaBottom" fmla="*/ 307080 h 3067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9" name="Shape 4691"/>
          <p:cNvSpPr/>
          <p:nvPr/>
        </p:nvSpPr>
        <p:spPr>
          <a:xfrm>
            <a:off x="1662120" y="4040280"/>
            <a:ext cx="249120" cy="291960"/>
          </a:xfrm>
          <a:custGeom>
            <a:avLst/>
            <a:gdLst>
              <a:gd name="textAreaLeft" fmla="*/ 0 w 249120"/>
              <a:gd name="textAreaRight" fmla="*/ 249480 w 249120"/>
              <a:gd name="textAreaTop" fmla="*/ 0 h 291960"/>
              <a:gd name="textAreaBottom" fmla="*/ 292320 h 291960"/>
            </a:gdLst>
            <a:ahLst/>
            <a:rect l="textAreaLeft" t="textAreaTop" r="textAreaRight" b="textAreaBottom"/>
            <a:pathLst>
              <a:path w="120000" h="120000">
                <a:moveTo>
                  <a:pt x="6976" y="11721"/>
                </a:moveTo>
                <a:lnTo>
                  <a:pt x="6976" y="11721"/>
                </a:lnTo>
                <a:cubicBezTo>
                  <a:pt x="89069" y="11721"/>
                  <a:pt x="89069" y="11721"/>
                  <a:pt x="89069" y="11721"/>
                </a:cubicBezTo>
                <a:cubicBezTo>
                  <a:pt x="89069" y="11721"/>
                  <a:pt x="92558" y="8741"/>
                  <a:pt x="92558" y="5761"/>
                </a:cubicBezTo>
                <a:lnTo>
                  <a:pt x="89069" y="2781"/>
                </a:lnTo>
                <a:cubicBezTo>
                  <a:pt x="6976" y="2781"/>
                  <a:pt x="6976" y="2781"/>
                  <a:pt x="6976" y="2781"/>
                </a:cubicBezTo>
                <a:cubicBezTo>
                  <a:pt x="3488" y="2781"/>
                  <a:pt x="0" y="5761"/>
                  <a:pt x="0" y="5761"/>
                </a:cubicBezTo>
                <a:cubicBezTo>
                  <a:pt x="0" y="8741"/>
                  <a:pt x="3488" y="11721"/>
                  <a:pt x="6976" y="11721"/>
                </a:cubicBezTo>
                <a:close/>
                <a:moveTo>
                  <a:pt x="6976" y="34966"/>
                </a:moveTo>
                <a:lnTo>
                  <a:pt x="6976" y="34966"/>
                </a:lnTo>
                <a:cubicBezTo>
                  <a:pt x="89069" y="34966"/>
                  <a:pt x="89069" y="34966"/>
                  <a:pt x="89069" y="34966"/>
                </a:cubicBezTo>
                <a:cubicBezTo>
                  <a:pt x="89069" y="34966"/>
                  <a:pt x="92558" y="32185"/>
                  <a:pt x="92558" y="29205"/>
                </a:cubicBezTo>
                <a:lnTo>
                  <a:pt x="89069" y="26225"/>
                </a:lnTo>
                <a:cubicBezTo>
                  <a:pt x="6976" y="26225"/>
                  <a:pt x="6976" y="26225"/>
                  <a:pt x="6976" y="26225"/>
                </a:cubicBezTo>
                <a:cubicBezTo>
                  <a:pt x="3488" y="26225"/>
                  <a:pt x="0" y="29205"/>
                  <a:pt x="0" y="29205"/>
                </a:cubicBezTo>
                <a:cubicBezTo>
                  <a:pt x="0" y="32185"/>
                  <a:pt x="3488" y="34966"/>
                  <a:pt x="6976" y="34966"/>
                </a:cubicBezTo>
                <a:close/>
                <a:moveTo>
                  <a:pt x="34186" y="73112"/>
                </a:moveTo>
                <a:lnTo>
                  <a:pt x="34186" y="73112"/>
                </a:lnTo>
                <a:cubicBezTo>
                  <a:pt x="6976" y="73112"/>
                  <a:pt x="6976" y="73112"/>
                  <a:pt x="6976" y="73112"/>
                </a:cubicBezTo>
                <a:cubicBezTo>
                  <a:pt x="3488" y="73112"/>
                  <a:pt x="0" y="75894"/>
                  <a:pt x="0" y="75894"/>
                </a:cubicBezTo>
                <a:cubicBezTo>
                  <a:pt x="0" y="78874"/>
                  <a:pt x="3488" y="81854"/>
                  <a:pt x="6976" y="81854"/>
                </a:cubicBezTo>
                <a:cubicBezTo>
                  <a:pt x="34186" y="81854"/>
                  <a:pt x="34186" y="81854"/>
                  <a:pt x="34186" y="81854"/>
                </a:cubicBezTo>
                <a:cubicBezTo>
                  <a:pt x="34186" y="81854"/>
                  <a:pt x="37674" y="78874"/>
                  <a:pt x="37674" y="75894"/>
                </a:cubicBezTo>
                <a:lnTo>
                  <a:pt x="34186" y="73112"/>
                </a:lnTo>
                <a:close/>
                <a:moveTo>
                  <a:pt x="6976" y="58410"/>
                </a:moveTo>
                <a:lnTo>
                  <a:pt x="6976" y="58410"/>
                </a:lnTo>
                <a:cubicBezTo>
                  <a:pt x="54883" y="58410"/>
                  <a:pt x="54883" y="58410"/>
                  <a:pt x="54883" y="58410"/>
                </a:cubicBezTo>
                <a:cubicBezTo>
                  <a:pt x="58372" y="58410"/>
                  <a:pt x="61627" y="55629"/>
                  <a:pt x="61627" y="52450"/>
                </a:cubicBezTo>
                <a:cubicBezTo>
                  <a:pt x="61627" y="52450"/>
                  <a:pt x="58372" y="49668"/>
                  <a:pt x="54883" y="49668"/>
                </a:cubicBezTo>
                <a:cubicBezTo>
                  <a:pt x="6976" y="49668"/>
                  <a:pt x="6976" y="49668"/>
                  <a:pt x="6976" y="49668"/>
                </a:cubicBezTo>
                <a:cubicBezTo>
                  <a:pt x="3488" y="49668"/>
                  <a:pt x="0" y="52450"/>
                  <a:pt x="0" y="52450"/>
                </a:cubicBezTo>
                <a:cubicBezTo>
                  <a:pt x="0" y="55629"/>
                  <a:pt x="3488" y="58410"/>
                  <a:pt x="6976" y="58410"/>
                </a:cubicBezTo>
                <a:close/>
                <a:moveTo>
                  <a:pt x="116511" y="0"/>
                </a:moveTo>
                <a:lnTo>
                  <a:pt x="116511" y="0"/>
                </a:lnTo>
                <a:cubicBezTo>
                  <a:pt x="113023" y="0"/>
                  <a:pt x="109534" y="0"/>
                  <a:pt x="109534" y="2781"/>
                </a:cubicBezTo>
                <a:cubicBezTo>
                  <a:pt x="109534" y="67152"/>
                  <a:pt x="109534" y="67152"/>
                  <a:pt x="109534" y="67152"/>
                </a:cubicBezTo>
                <a:cubicBezTo>
                  <a:pt x="99302" y="61390"/>
                  <a:pt x="85581" y="61390"/>
                  <a:pt x="68372" y="67152"/>
                </a:cubicBezTo>
                <a:cubicBezTo>
                  <a:pt x="51395" y="75894"/>
                  <a:pt x="41162" y="93576"/>
                  <a:pt x="51395" y="105298"/>
                </a:cubicBezTo>
                <a:cubicBezTo>
                  <a:pt x="58372" y="117019"/>
                  <a:pt x="78837" y="119801"/>
                  <a:pt x="99302" y="111059"/>
                </a:cubicBezTo>
                <a:cubicBezTo>
                  <a:pt x="113023" y="102317"/>
                  <a:pt x="119767" y="90596"/>
                  <a:pt x="119767" y="81854"/>
                </a:cubicBezTo>
                <a:lnTo>
                  <a:pt x="119767" y="81854"/>
                </a:lnTo>
                <a:cubicBezTo>
                  <a:pt x="119767" y="2781"/>
                  <a:pt x="119767" y="2781"/>
                  <a:pt x="119767" y="2781"/>
                </a:cubicBezTo>
                <a:cubicBezTo>
                  <a:pt x="119767" y="0"/>
                  <a:pt x="116511" y="0"/>
                  <a:pt x="116511" y="0"/>
                </a:cubicBezTo>
                <a:close/>
                <a:moveTo>
                  <a:pt x="95813" y="102317"/>
                </a:moveTo>
                <a:lnTo>
                  <a:pt x="95813" y="102317"/>
                </a:lnTo>
                <a:cubicBezTo>
                  <a:pt x="82093" y="111059"/>
                  <a:pt x="65116" y="111059"/>
                  <a:pt x="58372" y="102317"/>
                </a:cubicBezTo>
                <a:cubicBezTo>
                  <a:pt x="51395" y="93576"/>
                  <a:pt x="58372" y="81854"/>
                  <a:pt x="72093" y="73112"/>
                </a:cubicBezTo>
                <a:cubicBezTo>
                  <a:pt x="85581" y="67152"/>
                  <a:pt x="102790" y="67152"/>
                  <a:pt x="109534" y="75894"/>
                </a:cubicBezTo>
                <a:cubicBezTo>
                  <a:pt x="116511" y="84834"/>
                  <a:pt x="109534" y="96357"/>
                  <a:pt x="95813" y="10231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0" name="Shape 4692"/>
          <p:cNvSpPr/>
          <p:nvPr/>
        </p:nvSpPr>
        <p:spPr>
          <a:xfrm>
            <a:off x="1141560" y="402732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1" name="Shape 4693"/>
          <p:cNvSpPr/>
          <p:nvPr/>
        </p:nvSpPr>
        <p:spPr>
          <a:xfrm>
            <a:off x="5541840" y="3546360"/>
            <a:ext cx="309600" cy="290520"/>
          </a:xfrm>
          <a:custGeom>
            <a:avLst/>
            <a:gdLst>
              <a:gd name="textAreaLeft" fmla="*/ 0 w 309600"/>
              <a:gd name="textAreaRight" fmla="*/ 309960 w 309600"/>
              <a:gd name="textAreaTop" fmla="*/ 0 h 290520"/>
              <a:gd name="textAreaBottom" fmla="*/ 290880 h 290520"/>
            </a:gdLst>
            <a:ahLst/>
            <a:rect l="textAreaLeft" t="textAreaTop" r="textAreaRight" b="textAreaBottom"/>
            <a:pathLst>
              <a:path w="120000" h="120000">
                <a:moveTo>
                  <a:pt x="117041" y="0"/>
                </a:moveTo>
                <a:lnTo>
                  <a:pt x="117041" y="0"/>
                </a:lnTo>
                <a:cubicBezTo>
                  <a:pt x="117041" y="0"/>
                  <a:pt x="117041" y="0"/>
                  <a:pt x="114453" y="0"/>
                </a:cubicBezTo>
                <a:cubicBezTo>
                  <a:pt x="54545" y="17652"/>
                  <a:pt x="54545" y="17652"/>
                  <a:pt x="54545" y="17652"/>
                </a:cubicBezTo>
                <a:cubicBezTo>
                  <a:pt x="54545" y="17652"/>
                  <a:pt x="51771" y="17652"/>
                  <a:pt x="51771" y="20429"/>
                </a:cubicBezTo>
                <a:cubicBezTo>
                  <a:pt x="51771" y="75966"/>
                  <a:pt x="51771" y="75966"/>
                  <a:pt x="51771" y="75966"/>
                </a:cubicBezTo>
                <a:cubicBezTo>
                  <a:pt x="43636" y="70016"/>
                  <a:pt x="32727" y="70016"/>
                  <a:pt x="21818" y="75966"/>
                </a:cubicBezTo>
                <a:cubicBezTo>
                  <a:pt x="8320" y="84694"/>
                  <a:pt x="0" y="99371"/>
                  <a:pt x="5546" y="108099"/>
                </a:cubicBezTo>
                <a:cubicBezTo>
                  <a:pt x="13682" y="119801"/>
                  <a:pt x="29953" y="119801"/>
                  <a:pt x="43636" y="113851"/>
                </a:cubicBezTo>
                <a:cubicBezTo>
                  <a:pt x="51771" y="108099"/>
                  <a:pt x="57318" y="99371"/>
                  <a:pt x="59907" y="90446"/>
                </a:cubicBezTo>
                <a:lnTo>
                  <a:pt x="59907" y="23404"/>
                </a:lnTo>
                <a:cubicBezTo>
                  <a:pt x="114453" y="8727"/>
                  <a:pt x="114453" y="8727"/>
                  <a:pt x="114453" y="8727"/>
                </a:cubicBezTo>
                <a:cubicBezTo>
                  <a:pt x="114453" y="58314"/>
                  <a:pt x="114453" y="58314"/>
                  <a:pt x="114453" y="58314"/>
                </a:cubicBezTo>
                <a:cubicBezTo>
                  <a:pt x="106317" y="55537"/>
                  <a:pt x="92634" y="55537"/>
                  <a:pt x="81725" y="61289"/>
                </a:cubicBezTo>
                <a:cubicBezTo>
                  <a:pt x="68228" y="67239"/>
                  <a:pt x="62681" y="81719"/>
                  <a:pt x="68228" y="93421"/>
                </a:cubicBezTo>
                <a:cubicBezTo>
                  <a:pt x="73590" y="102148"/>
                  <a:pt x="90046" y="105123"/>
                  <a:pt x="106317" y="99371"/>
                </a:cubicBezTo>
                <a:cubicBezTo>
                  <a:pt x="114453" y="93421"/>
                  <a:pt x="119815" y="81719"/>
                  <a:pt x="119815" y="75966"/>
                </a:cubicBezTo>
                <a:cubicBezTo>
                  <a:pt x="119815" y="72991"/>
                  <a:pt x="119815" y="5950"/>
                  <a:pt x="119815" y="5950"/>
                </a:cubicBezTo>
                <a:cubicBezTo>
                  <a:pt x="119815" y="2975"/>
                  <a:pt x="119815" y="0"/>
                  <a:pt x="117041" y="0"/>
                </a:cubicBezTo>
                <a:close/>
                <a:moveTo>
                  <a:pt x="40862" y="105123"/>
                </a:moveTo>
                <a:lnTo>
                  <a:pt x="40862" y="105123"/>
                </a:lnTo>
                <a:cubicBezTo>
                  <a:pt x="29953" y="111074"/>
                  <a:pt x="19229" y="111074"/>
                  <a:pt x="13682" y="105123"/>
                </a:cubicBezTo>
                <a:cubicBezTo>
                  <a:pt x="8320" y="99371"/>
                  <a:pt x="13682" y="87669"/>
                  <a:pt x="24591" y="81719"/>
                </a:cubicBezTo>
                <a:cubicBezTo>
                  <a:pt x="32727" y="75966"/>
                  <a:pt x="43636" y="75966"/>
                  <a:pt x="49183" y="81719"/>
                </a:cubicBezTo>
                <a:cubicBezTo>
                  <a:pt x="57318" y="87669"/>
                  <a:pt x="49183" y="102148"/>
                  <a:pt x="40862" y="105123"/>
                </a:cubicBezTo>
                <a:close/>
                <a:moveTo>
                  <a:pt x="103543" y="90446"/>
                </a:moveTo>
                <a:lnTo>
                  <a:pt x="103543" y="90446"/>
                </a:lnTo>
                <a:cubicBezTo>
                  <a:pt x="92634" y="96396"/>
                  <a:pt x="79137" y="96396"/>
                  <a:pt x="76363" y="90446"/>
                </a:cubicBezTo>
                <a:cubicBezTo>
                  <a:pt x="70816" y="81719"/>
                  <a:pt x="73590" y="72991"/>
                  <a:pt x="84499" y="67239"/>
                </a:cubicBezTo>
                <a:cubicBezTo>
                  <a:pt x="95408" y="61289"/>
                  <a:pt x="106317" y="61289"/>
                  <a:pt x="111679" y="67239"/>
                </a:cubicBezTo>
                <a:cubicBezTo>
                  <a:pt x="117041" y="72991"/>
                  <a:pt x="111679" y="84694"/>
                  <a:pt x="103543" y="9044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2" name="Shape 4694"/>
          <p:cNvSpPr/>
          <p:nvPr/>
        </p:nvSpPr>
        <p:spPr>
          <a:xfrm>
            <a:off x="511488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3" name="Shape 4695"/>
          <p:cNvSpPr/>
          <p:nvPr/>
        </p:nvSpPr>
        <p:spPr>
          <a:xfrm>
            <a:off x="4599000" y="3532320"/>
            <a:ext cx="228600" cy="304560"/>
          </a:xfrm>
          <a:custGeom>
            <a:avLst/>
            <a:gdLst>
              <a:gd name="textAreaLeft" fmla="*/ 0 w 228600"/>
              <a:gd name="textAreaRight" fmla="*/ 228960 w 228600"/>
              <a:gd name="textAreaTop" fmla="*/ 0 h 304560"/>
              <a:gd name="textAreaBottom" fmla="*/ 304920 h 304560"/>
            </a:gdLst>
            <a:ahLst/>
            <a:rect l="textAreaLeft" t="textAreaTop" r="textAreaRight" b="textAreaBottom"/>
            <a:pathLst>
              <a:path w="120000" h="120000">
                <a:moveTo>
                  <a:pt x="115932" y="24984"/>
                </a:moveTo>
                <a:lnTo>
                  <a:pt x="115932" y="24984"/>
                </a:lnTo>
                <a:cubicBezTo>
                  <a:pt x="82372" y="2649"/>
                  <a:pt x="82372" y="2649"/>
                  <a:pt x="82372" y="2649"/>
                </a:cubicBezTo>
                <a:cubicBezTo>
                  <a:pt x="82372" y="0"/>
                  <a:pt x="78559" y="0"/>
                  <a:pt x="74745" y="2649"/>
                </a:cubicBezTo>
                <a:lnTo>
                  <a:pt x="74745" y="5488"/>
                </a:lnTo>
                <a:cubicBezTo>
                  <a:pt x="74745" y="69652"/>
                  <a:pt x="74745" y="69652"/>
                  <a:pt x="74745" y="69652"/>
                </a:cubicBezTo>
                <a:cubicBezTo>
                  <a:pt x="63559" y="63974"/>
                  <a:pt x="44745" y="63974"/>
                  <a:pt x="29745" y="72302"/>
                </a:cubicBezTo>
                <a:cubicBezTo>
                  <a:pt x="7372" y="80820"/>
                  <a:pt x="0" y="97476"/>
                  <a:pt x="7372" y="108643"/>
                </a:cubicBezTo>
                <a:cubicBezTo>
                  <a:pt x="18559" y="119810"/>
                  <a:pt x="41186" y="119810"/>
                  <a:pt x="59745" y="111482"/>
                </a:cubicBezTo>
                <a:cubicBezTo>
                  <a:pt x="74745" y="105804"/>
                  <a:pt x="85932" y="94637"/>
                  <a:pt x="85932" y="83470"/>
                </a:cubicBezTo>
                <a:cubicBezTo>
                  <a:pt x="85932" y="13817"/>
                  <a:pt x="85932" y="13817"/>
                  <a:pt x="85932" y="13817"/>
                </a:cubicBezTo>
                <a:cubicBezTo>
                  <a:pt x="108305" y="30662"/>
                  <a:pt x="108305" y="30662"/>
                  <a:pt x="108305" y="30662"/>
                </a:cubicBezTo>
                <a:cubicBezTo>
                  <a:pt x="112118" y="33312"/>
                  <a:pt x="115932" y="33312"/>
                  <a:pt x="115932" y="30662"/>
                </a:cubicBezTo>
                <a:cubicBezTo>
                  <a:pt x="119745" y="30662"/>
                  <a:pt x="119745" y="27823"/>
                  <a:pt x="115932" y="24984"/>
                </a:cubicBezTo>
                <a:close/>
                <a:moveTo>
                  <a:pt x="55932" y="105804"/>
                </a:moveTo>
                <a:lnTo>
                  <a:pt x="55932" y="105804"/>
                </a:lnTo>
                <a:cubicBezTo>
                  <a:pt x="44745" y="114132"/>
                  <a:pt x="26186" y="111482"/>
                  <a:pt x="18559" y="105804"/>
                </a:cubicBezTo>
                <a:cubicBezTo>
                  <a:pt x="11186" y="97476"/>
                  <a:pt x="18559" y="83470"/>
                  <a:pt x="33559" y="77981"/>
                </a:cubicBezTo>
                <a:cubicBezTo>
                  <a:pt x="44745" y="69652"/>
                  <a:pt x="63559" y="72302"/>
                  <a:pt x="70932" y="80820"/>
                </a:cubicBezTo>
                <a:cubicBezTo>
                  <a:pt x="78559" y="86309"/>
                  <a:pt x="70932" y="100315"/>
                  <a:pt x="55932" y="10580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4" name="Shape 4696"/>
          <p:cNvSpPr/>
          <p:nvPr/>
        </p:nvSpPr>
        <p:spPr>
          <a:xfrm>
            <a:off x="4076640" y="3567240"/>
            <a:ext cx="311040" cy="249120"/>
          </a:xfrm>
          <a:custGeom>
            <a:avLst/>
            <a:gdLst>
              <a:gd name="textAreaLeft" fmla="*/ 0 w 311040"/>
              <a:gd name="textAreaRight" fmla="*/ 311400 w 31104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5" name="Shape 4697"/>
          <p:cNvSpPr/>
          <p:nvPr/>
        </p:nvSpPr>
        <p:spPr>
          <a:xfrm>
            <a:off x="3608280" y="357516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3163" y="27045"/>
                </a:moveTo>
                <a:lnTo>
                  <a:pt x="3163" y="27045"/>
                </a:lnTo>
                <a:cubicBezTo>
                  <a:pt x="23276" y="27045"/>
                  <a:pt x="23276" y="27045"/>
                  <a:pt x="23276" y="27045"/>
                </a:cubicBezTo>
                <a:cubicBezTo>
                  <a:pt x="36610" y="50415"/>
                  <a:pt x="36610" y="50415"/>
                  <a:pt x="36610" y="50415"/>
                </a:cubicBezTo>
                <a:cubicBezTo>
                  <a:pt x="43163" y="42538"/>
                  <a:pt x="43163" y="42538"/>
                  <a:pt x="43163" y="42538"/>
                </a:cubicBezTo>
                <a:cubicBezTo>
                  <a:pt x="43163" y="42538"/>
                  <a:pt x="26440" y="19431"/>
                  <a:pt x="26440" y="15492"/>
                </a:cubicBezTo>
                <a:cubicBezTo>
                  <a:pt x="3163" y="15492"/>
                  <a:pt x="3163" y="15492"/>
                  <a:pt x="3163" y="15492"/>
                </a:cubicBezTo>
                <a:cubicBezTo>
                  <a:pt x="3163" y="15492"/>
                  <a:pt x="0" y="19431"/>
                  <a:pt x="0" y="23107"/>
                </a:cubicBezTo>
                <a:cubicBezTo>
                  <a:pt x="0" y="27045"/>
                  <a:pt x="3163" y="27045"/>
                  <a:pt x="3163" y="27045"/>
                </a:cubicBezTo>
                <a:close/>
                <a:moveTo>
                  <a:pt x="93107" y="27045"/>
                </a:moveTo>
                <a:lnTo>
                  <a:pt x="93107" y="27045"/>
                </a:lnTo>
                <a:cubicBezTo>
                  <a:pt x="93107" y="42538"/>
                  <a:pt x="93107" y="42538"/>
                  <a:pt x="93107" y="42538"/>
                </a:cubicBezTo>
                <a:lnTo>
                  <a:pt x="99661" y="42538"/>
                </a:lnTo>
                <a:cubicBezTo>
                  <a:pt x="119774" y="23107"/>
                  <a:pt x="119774" y="23107"/>
                  <a:pt x="119774" y="23107"/>
                </a:cubicBezTo>
                <a:lnTo>
                  <a:pt x="119774" y="19431"/>
                </a:lnTo>
                <a:cubicBezTo>
                  <a:pt x="99661" y="3938"/>
                  <a:pt x="99661" y="3938"/>
                  <a:pt x="99661" y="3938"/>
                </a:cubicBezTo>
                <a:cubicBezTo>
                  <a:pt x="99661" y="0"/>
                  <a:pt x="93107" y="0"/>
                  <a:pt x="93107" y="3938"/>
                </a:cubicBezTo>
                <a:cubicBezTo>
                  <a:pt x="93107" y="15492"/>
                  <a:pt x="93107" y="15492"/>
                  <a:pt x="93107" y="15492"/>
                </a:cubicBezTo>
                <a:cubicBezTo>
                  <a:pt x="69830" y="15492"/>
                  <a:pt x="69830" y="15492"/>
                  <a:pt x="69830" y="15492"/>
                </a:cubicBezTo>
                <a:cubicBezTo>
                  <a:pt x="23276" y="92691"/>
                  <a:pt x="23276" y="92691"/>
                  <a:pt x="23276" y="92691"/>
                </a:cubicBezTo>
                <a:cubicBezTo>
                  <a:pt x="3163" y="92691"/>
                  <a:pt x="3163" y="92691"/>
                  <a:pt x="3163" y="92691"/>
                </a:cubicBezTo>
                <a:cubicBezTo>
                  <a:pt x="3163" y="92691"/>
                  <a:pt x="0" y="96630"/>
                  <a:pt x="0" y="100568"/>
                </a:cubicBezTo>
                <a:lnTo>
                  <a:pt x="3163" y="104245"/>
                </a:lnTo>
                <a:cubicBezTo>
                  <a:pt x="26440" y="104245"/>
                  <a:pt x="26440" y="104245"/>
                  <a:pt x="26440" y="104245"/>
                </a:cubicBezTo>
                <a:cubicBezTo>
                  <a:pt x="76384" y="27045"/>
                  <a:pt x="76384" y="27045"/>
                  <a:pt x="76384" y="27045"/>
                </a:cubicBezTo>
                <a:lnTo>
                  <a:pt x="93107" y="27045"/>
                </a:lnTo>
                <a:close/>
                <a:moveTo>
                  <a:pt x="99661" y="81137"/>
                </a:moveTo>
                <a:lnTo>
                  <a:pt x="99661" y="81137"/>
                </a:lnTo>
                <a:cubicBezTo>
                  <a:pt x="99661" y="77199"/>
                  <a:pt x="93107" y="77199"/>
                  <a:pt x="93107" y="81137"/>
                </a:cubicBezTo>
                <a:cubicBezTo>
                  <a:pt x="93107" y="92691"/>
                  <a:pt x="93107" y="92691"/>
                  <a:pt x="93107" y="92691"/>
                </a:cubicBezTo>
                <a:cubicBezTo>
                  <a:pt x="76384" y="92691"/>
                  <a:pt x="76384" y="92691"/>
                  <a:pt x="76384" y="92691"/>
                </a:cubicBezTo>
                <a:cubicBezTo>
                  <a:pt x="59887" y="69584"/>
                  <a:pt x="59887" y="69584"/>
                  <a:pt x="59887" y="69584"/>
                </a:cubicBezTo>
                <a:cubicBezTo>
                  <a:pt x="53107" y="77199"/>
                  <a:pt x="53107" y="77199"/>
                  <a:pt x="53107" y="77199"/>
                </a:cubicBezTo>
                <a:cubicBezTo>
                  <a:pt x="69830" y="104245"/>
                  <a:pt x="69830" y="104245"/>
                  <a:pt x="69830" y="104245"/>
                </a:cubicBezTo>
                <a:cubicBezTo>
                  <a:pt x="93107" y="104245"/>
                  <a:pt x="93107" y="104245"/>
                  <a:pt x="93107" y="104245"/>
                </a:cubicBezTo>
                <a:cubicBezTo>
                  <a:pt x="93107" y="119737"/>
                  <a:pt x="93107" y="119737"/>
                  <a:pt x="93107" y="119737"/>
                </a:cubicBezTo>
                <a:lnTo>
                  <a:pt x="99661" y="119737"/>
                </a:lnTo>
                <a:cubicBezTo>
                  <a:pt x="119774" y="100568"/>
                  <a:pt x="119774" y="100568"/>
                  <a:pt x="119774" y="100568"/>
                </a:cubicBezTo>
                <a:lnTo>
                  <a:pt x="119774" y="96630"/>
                </a:lnTo>
                <a:lnTo>
                  <a:pt x="99661" y="811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6" name="Shape 4698"/>
          <p:cNvSpPr/>
          <p:nvPr/>
        </p:nvSpPr>
        <p:spPr>
          <a:xfrm>
            <a:off x="313524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7" name="Shape 4699"/>
          <p:cNvSpPr/>
          <p:nvPr/>
        </p:nvSpPr>
        <p:spPr>
          <a:xfrm>
            <a:off x="26557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528" y="59745"/>
                </a:moveTo>
                <a:lnTo>
                  <a:pt x="11528" y="59745"/>
                </a:lnTo>
                <a:cubicBezTo>
                  <a:pt x="65764" y="11186"/>
                  <a:pt x="65764" y="11186"/>
                  <a:pt x="65764" y="11186"/>
                </a:cubicBezTo>
                <a:cubicBezTo>
                  <a:pt x="69432" y="7627"/>
                  <a:pt x="69432" y="3813"/>
                  <a:pt x="65764" y="3813"/>
                </a:cubicBezTo>
                <a:cubicBezTo>
                  <a:pt x="65764" y="0"/>
                  <a:pt x="61834" y="0"/>
                  <a:pt x="57903" y="3813"/>
                </a:cubicBezTo>
                <a:cubicBezTo>
                  <a:pt x="3930" y="56186"/>
                  <a:pt x="3930" y="56186"/>
                  <a:pt x="3930" y="56186"/>
                </a:cubicBezTo>
                <a:cubicBezTo>
                  <a:pt x="0" y="59745"/>
                  <a:pt x="0" y="59745"/>
                  <a:pt x="0" y="59745"/>
                </a:cubicBezTo>
                <a:cubicBezTo>
                  <a:pt x="0" y="63559"/>
                  <a:pt x="0" y="63559"/>
                  <a:pt x="3930" y="63559"/>
                </a:cubicBezTo>
                <a:cubicBezTo>
                  <a:pt x="57903" y="119745"/>
                  <a:pt x="57903" y="119745"/>
                  <a:pt x="57903" y="119745"/>
                </a:cubicBezTo>
                <a:cubicBezTo>
                  <a:pt x="61834" y="119745"/>
                  <a:pt x="65764" y="119745"/>
                  <a:pt x="65764" y="119745"/>
                </a:cubicBezTo>
                <a:cubicBezTo>
                  <a:pt x="69432" y="115932"/>
                  <a:pt x="69432" y="115932"/>
                  <a:pt x="65764" y="112372"/>
                </a:cubicBezTo>
                <a:lnTo>
                  <a:pt x="11528" y="59745"/>
                </a:lnTo>
                <a:close/>
                <a:moveTo>
                  <a:pt x="77030" y="59745"/>
                </a:moveTo>
                <a:lnTo>
                  <a:pt x="77030" y="59745"/>
                </a:lnTo>
                <a:cubicBezTo>
                  <a:pt x="119737" y="18813"/>
                  <a:pt x="119737" y="18813"/>
                  <a:pt x="119737" y="18813"/>
                </a:cubicBezTo>
                <a:cubicBezTo>
                  <a:pt x="119737" y="18813"/>
                  <a:pt x="119737" y="15000"/>
                  <a:pt x="119737" y="11186"/>
                </a:cubicBezTo>
                <a:cubicBezTo>
                  <a:pt x="115807" y="11186"/>
                  <a:pt x="111877" y="11186"/>
                  <a:pt x="111877" y="11186"/>
                </a:cubicBezTo>
                <a:cubicBezTo>
                  <a:pt x="65764" y="56186"/>
                  <a:pt x="65764" y="56186"/>
                  <a:pt x="65764" y="56186"/>
                </a:cubicBezTo>
                <a:cubicBezTo>
                  <a:pt x="65764" y="59745"/>
                  <a:pt x="61834" y="59745"/>
                  <a:pt x="61834" y="59745"/>
                </a:cubicBezTo>
                <a:cubicBezTo>
                  <a:pt x="61834" y="63559"/>
                  <a:pt x="65764" y="63559"/>
                  <a:pt x="65764" y="63559"/>
                </a:cubicBezTo>
                <a:cubicBezTo>
                  <a:pt x="111877" y="108559"/>
                  <a:pt x="111877" y="108559"/>
                  <a:pt x="111877" y="108559"/>
                </a:cubicBezTo>
                <a:cubicBezTo>
                  <a:pt x="111877" y="112372"/>
                  <a:pt x="115807" y="112372"/>
                  <a:pt x="119737" y="108559"/>
                </a:cubicBezTo>
                <a:cubicBezTo>
                  <a:pt x="119737" y="108559"/>
                  <a:pt x="119737" y="104745"/>
                  <a:pt x="119737" y="100932"/>
                </a:cubicBezTo>
                <a:lnTo>
                  <a:pt x="77030" y="597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8" name="Shape 4700"/>
          <p:cNvSpPr/>
          <p:nvPr/>
        </p:nvSpPr>
        <p:spPr>
          <a:xfrm>
            <a:off x="2136600" y="3605040"/>
            <a:ext cx="263880" cy="168480"/>
          </a:xfrm>
          <a:custGeom>
            <a:avLst/>
            <a:gdLst>
              <a:gd name="textAreaLeft" fmla="*/ 0 w 263880"/>
              <a:gd name="textAreaRight" fmla="*/ 264240 w 26388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9" name="Shape 4701"/>
          <p:cNvSpPr/>
          <p:nvPr/>
        </p:nvSpPr>
        <p:spPr>
          <a:xfrm>
            <a:off x="1641600" y="356724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113739" y="109323"/>
                </a:moveTo>
                <a:lnTo>
                  <a:pt x="113739" y="109323"/>
                </a:lnTo>
                <a:cubicBezTo>
                  <a:pt x="6052" y="109323"/>
                  <a:pt x="6052" y="109323"/>
                  <a:pt x="6052" y="109323"/>
                </a:cubicBezTo>
                <a:cubicBezTo>
                  <a:pt x="3130" y="109323"/>
                  <a:pt x="3130" y="112804"/>
                  <a:pt x="3130" y="112804"/>
                </a:cubicBezTo>
                <a:cubicBezTo>
                  <a:pt x="3130" y="116286"/>
                  <a:pt x="3130" y="119767"/>
                  <a:pt x="6052" y="119767"/>
                </a:cubicBezTo>
                <a:cubicBezTo>
                  <a:pt x="113739" y="119767"/>
                  <a:pt x="113739" y="119767"/>
                  <a:pt x="113739" y="119767"/>
                </a:cubicBezTo>
                <a:cubicBezTo>
                  <a:pt x="113739" y="119767"/>
                  <a:pt x="116660" y="116286"/>
                  <a:pt x="116660" y="112804"/>
                </a:cubicBezTo>
                <a:lnTo>
                  <a:pt x="113739" y="109323"/>
                </a:lnTo>
                <a:close/>
                <a:moveTo>
                  <a:pt x="9182" y="99110"/>
                </a:moveTo>
                <a:lnTo>
                  <a:pt x="9182" y="99110"/>
                </a:lnTo>
                <a:cubicBezTo>
                  <a:pt x="107478" y="99110"/>
                  <a:pt x="107478" y="99110"/>
                  <a:pt x="107478" y="99110"/>
                </a:cubicBezTo>
                <a:cubicBezTo>
                  <a:pt x="119791" y="99110"/>
                  <a:pt x="116660" y="92379"/>
                  <a:pt x="116660" y="88897"/>
                </a:cubicBezTo>
                <a:cubicBezTo>
                  <a:pt x="64486" y="3481"/>
                  <a:pt x="64486" y="3481"/>
                  <a:pt x="64486" y="3481"/>
                </a:cubicBezTo>
                <a:cubicBezTo>
                  <a:pt x="64486" y="0"/>
                  <a:pt x="55304" y="0"/>
                  <a:pt x="52173" y="3481"/>
                </a:cubicBezTo>
                <a:cubicBezTo>
                  <a:pt x="3130" y="88897"/>
                  <a:pt x="3130" y="88897"/>
                  <a:pt x="3130" y="88897"/>
                </a:cubicBezTo>
                <a:cubicBezTo>
                  <a:pt x="0" y="95628"/>
                  <a:pt x="0" y="99110"/>
                  <a:pt x="9182" y="99110"/>
                </a:cubicBezTo>
                <a:close/>
                <a:moveTo>
                  <a:pt x="58434" y="13694"/>
                </a:moveTo>
                <a:lnTo>
                  <a:pt x="58434" y="13694"/>
                </a:lnTo>
                <a:cubicBezTo>
                  <a:pt x="104556" y="92379"/>
                  <a:pt x="104556" y="92379"/>
                  <a:pt x="104556" y="92379"/>
                </a:cubicBezTo>
                <a:cubicBezTo>
                  <a:pt x="12313" y="92379"/>
                  <a:pt x="12313" y="92379"/>
                  <a:pt x="12313" y="92379"/>
                </a:cubicBezTo>
                <a:lnTo>
                  <a:pt x="58434" y="1369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0" name="Shape 4702"/>
          <p:cNvSpPr/>
          <p:nvPr/>
        </p:nvSpPr>
        <p:spPr>
          <a:xfrm>
            <a:off x="113364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1" name="Shape 4703"/>
          <p:cNvSpPr/>
          <p:nvPr/>
        </p:nvSpPr>
        <p:spPr>
          <a:xfrm>
            <a:off x="5553000" y="3067200"/>
            <a:ext cx="306360" cy="268200"/>
          </a:xfrm>
          <a:custGeom>
            <a:avLst/>
            <a:gdLst>
              <a:gd name="textAreaLeft" fmla="*/ 0 w 306360"/>
              <a:gd name="textAreaRight" fmla="*/ 306720 w 306360"/>
              <a:gd name="textAreaTop" fmla="*/ 0 h 268200"/>
              <a:gd name="textAreaBottom" fmla="*/ 268560 h 268200"/>
            </a:gdLst>
            <a:ahLst/>
            <a:rect l="textAreaLeft" t="textAreaTop" r="textAreaRight" b="textAreaBottom"/>
            <a:pathLst>
              <a:path w="120000" h="120000">
                <a:moveTo>
                  <a:pt x="116971" y="53475"/>
                </a:moveTo>
                <a:lnTo>
                  <a:pt x="116971" y="53475"/>
                </a:lnTo>
                <a:cubicBezTo>
                  <a:pt x="52996" y="3208"/>
                  <a:pt x="52996" y="3208"/>
                  <a:pt x="52996" y="3208"/>
                </a:cubicBezTo>
                <a:cubicBezTo>
                  <a:pt x="47318" y="0"/>
                  <a:pt x="44668" y="0"/>
                  <a:pt x="44668" y="9411"/>
                </a:cubicBezTo>
                <a:cubicBezTo>
                  <a:pt x="44668" y="31443"/>
                  <a:pt x="44668" y="31443"/>
                  <a:pt x="44668" y="31443"/>
                </a:cubicBezTo>
                <a:cubicBezTo>
                  <a:pt x="8328" y="3208"/>
                  <a:pt x="8328" y="3208"/>
                  <a:pt x="8328" y="3208"/>
                </a:cubicBezTo>
                <a:cubicBezTo>
                  <a:pt x="2839" y="0"/>
                  <a:pt x="0" y="0"/>
                  <a:pt x="0" y="9411"/>
                </a:cubicBezTo>
                <a:cubicBezTo>
                  <a:pt x="0" y="110160"/>
                  <a:pt x="0" y="110160"/>
                  <a:pt x="0" y="110160"/>
                </a:cubicBezTo>
                <a:cubicBezTo>
                  <a:pt x="0" y="119786"/>
                  <a:pt x="5488" y="119786"/>
                  <a:pt x="8328" y="116577"/>
                </a:cubicBezTo>
                <a:cubicBezTo>
                  <a:pt x="44668" y="88128"/>
                  <a:pt x="44668" y="88128"/>
                  <a:pt x="44668" y="88128"/>
                </a:cubicBezTo>
                <a:cubicBezTo>
                  <a:pt x="44668" y="110160"/>
                  <a:pt x="44668" y="110160"/>
                  <a:pt x="44668" y="110160"/>
                </a:cubicBezTo>
                <a:cubicBezTo>
                  <a:pt x="44668" y="119786"/>
                  <a:pt x="50157" y="119786"/>
                  <a:pt x="52996" y="116577"/>
                </a:cubicBezTo>
                <a:cubicBezTo>
                  <a:pt x="116971" y="66096"/>
                  <a:pt x="116971" y="66096"/>
                  <a:pt x="116971" y="66096"/>
                </a:cubicBezTo>
                <a:cubicBezTo>
                  <a:pt x="119810" y="62887"/>
                  <a:pt x="119810" y="56684"/>
                  <a:pt x="116971" y="53475"/>
                </a:cubicBezTo>
                <a:close/>
                <a:moveTo>
                  <a:pt x="50157" y="107165"/>
                </a:moveTo>
                <a:lnTo>
                  <a:pt x="50157" y="107165"/>
                </a:lnTo>
                <a:cubicBezTo>
                  <a:pt x="50157" y="103957"/>
                  <a:pt x="50157" y="72513"/>
                  <a:pt x="50157" y="72513"/>
                </a:cubicBezTo>
                <a:cubicBezTo>
                  <a:pt x="5488" y="107165"/>
                  <a:pt x="5488" y="107165"/>
                  <a:pt x="5488" y="107165"/>
                </a:cubicBezTo>
                <a:cubicBezTo>
                  <a:pt x="5488" y="103957"/>
                  <a:pt x="5488" y="18823"/>
                  <a:pt x="5488" y="12620"/>
                </a:cubicBezTo>
                <a:cubicBezTo>
                  <a:pt x="50157" y="47272"/>
                  <a:pt x="50157" y="47272"/>
                  <a:pt x="50157" y="47272"/>
                </a:cubicBezTo>
                <a:cubicBezTo>
                  <a:pt x="50157" y="47272"/>
                  <a:pt x="50157" y="18823"/>
                  <a:pt x="50157" y="12620"/>
                </a:cubicBezTo>
                <a:cubicBezTo>
                  <a:pt x="111482" y="59893"/>
                  <a:pt x="111482" y="59893"/>
                  <a:pt x="111482" y="59893"/>
                </a:cubicBezTo>
                <a:lnTo>
                  <a:pt x="50157" y="1071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2" name="Shape 4704"/>
          <p:cNvSpPr/>
          <p:nvPr/>
        </p:nvSpPr>
        <p:spPr>
          <a:xfrm>
            <a:off x="508176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3" name="Shape 4705"/>
          <p:cNvSpPr/>
          <p:nvPr/>
        </p:nvSpPr>
        <p:spPr>
          <a:xfrm>
            <a:off x="4627440" y="3067200"/>
            <a:ext cx="190800" cy="268200"/>
          </a:xfrm>
          <a:custGeom>
            <a:avLst/>
            <a:gdLst>
              <a:gd name="textAreaLeft" fmla="*/ 0 w 190800"/>
              <a:gd name="textAreaRight" fmla="*/ 191160 w 190800"/>
              <a:gd name="textAreaTop" fmla="*/ 0 h 268200"/>
              <a:gd name="textAreaBottom" fmla="*/ 268560 h 268200"/>
            </a:gdLst>
            <a:ahLst/>
            <a:rect l="textAreaLeft" t="textAreaTop" r="textAreaRight" b="textAreaBottom"/>
            <a:pathLst>
              <a:path w="120000" h="120000">
                <a:moveTo>
                  <a:pt x="106466" y="0"/>
                </a:moveTo>
                <a:lnTo>
                  <a:pt x="106466" y="0"/>
                </a:lnTo>
                <a:cubicBezTo>
                  <a:pt x="84210" y="0"/>
                  <a:pt x="84210" y="0"/>
                  <a:pt x="84210" y="0"/>
                </a:cubicBezTo>
                <a:cubicBezTo>
                  <a:pt x="75488" y="0"/>
                  <a:pt x="70977" y="6417"/>
                  <a:pt x="70977" y="9411"/>
                </a:cubicBezTo>
                <a:cubicBezTo>
                  <a:pt x="70977" y="110160"/>
                  <a:pt x="70977" y="110160"/>
                  <a:pt x="70977" y="110160"/>
                </a:cubicBezTo>
                <a:cubicBezTo>
                  <a:pt x="70977" y="113368"/>
                  <a:pt x="75488" y="119786"/>
                  <a:pt x="84210" y="119786"/>
                </a:cubicBezTo>
                <a:cubicBezTo>
                  <a:pt x="106466" y="119786"/>
                  <a:pt x="106466" y="119786"/>
                  <a:pt x="106466" y="119786"/>
                </a:cubicBezTo>
                <a:cubicBezTo>
                  <a:pt x="110676" y="119786"/>
                  <a:pt x="119699" y="113368"/>
                  <a:pt x="119699" y="110160"/>
                </a:cubicBezTo>
                <a:cubicBezTo>
                  <a:pt x="119699" y="9411"/>
                  <a:pt x="119699" y="9411"/>
                  <a:pt x="119699" y="9411"/>
                </a:cubicBezTo>
                <a:cubicBezTo>
                  <a:pt x="119699" y="6417"/>
                  <a:pt x="110676" y="0"/>
                  <a:pt x="106466" y="0"/>
                </a:cubicBezTo>
                <a:close/>
                <a:moveTo>
                  <a:pt x="106466" y="107165"/>
                </a:moveTo>
                <a:lnTo>
                  <a:pt x="106466" y="107165"/>
                </a:lnTo>
                <a:lnTo>
                  <a:pt x="101954" y="110160"/>
                </a:lnTo>
                <a:cubicBezTo>
                  <a:pt x="88721" y="110160"/>
                  <a:pt x="88721" y="110160"/>
                  <a:pt x="88721" y="110160"/>
                </a:cubicBezTo>
                <a:cubicBezTo>
                  <a:pt x="84210" y="110160"/>
                  <a:pt x="84210" y="107165"/>
                  <a:pt x="84210" y="107165"/>
                </a:cubicBezTo>
                <a:cubicBezTo>
                  <a:pt x="84210" y="12620"/>
                  <a:pt x="84210" y="12620"/>
                  <a:pt x="84210" y="12620"/>
                </a:cubicBezTo>
                <a:cubicBezTo>
                  <a:pt x="84210" y="12620"/>
                  <a:pt x="84210" y="9411"/>
                  <a:pt x="88721" y="9411"/>
                </a:cubicBezTo>
                <a:cubicBezTo>
                  <a:pt x="101954" y="9411"/>
                  <a:pt x="101954" y="9411"/>
                  <a:pt x="101954" y="9411"/>
                </a:cubicBezTo>
                <a:lnTo>
                  <a:pt x="106466" y="12620"/>
                </a:lnTo>
                <a:lnTo>
                  <a:pt x="106466" y="107165"/>
                </a:lnTo>
                <a:close/>
                <a:moveTo>
                  <a:pt x="35488" y="0"/>
                </a:moveTo>
                <a:lnTo>
                  <a:pt x="35488" y="0"/>
                </a:lnTo>
                <a:cubicBezTo>
                  <a:pt x="13533" y="0"/>
                  <a:pt x="13533" y="0"/>
                  <a:pt x="13533" y="0"/>
                </a:cubicBezTo>
                <a:cubicBezTo>
                  <a:pt x="4511" y="0"/>
                  <a:pt x="0" y="6417"/>
                  <a:pt x="0" y="9411"/>
                </a:cubicBezTo>
                <a:cubicBezTo>
                  <a:pt x="0" y="110160"/>
                  <a:pt x="0" y="110160"/>
                  <a:pt x="0" y="110160"/>
                </a:cubicBezTo>
                <a:cubicBezTo>
                  <a:pt x="0" y="113368"/>
                  <a:pt x="4511" y="119786"/>
                  <a:pt x="13533" y="119786"/>
                </a:cubicBezTo>
                <a:cubicBezTo>
                  <a:pt x="35488" y="119786"/>
                  <a:pt x="35488" y="119786"/>
                  <a:pt x="35488" y="119786"/>
                </a:cubicBezTo>
                <a:cubicBezTo>
                  <a:pt x="40000" y="119786"/>
                  <a:pt x="48721" y="113368"/>
                  <a:pt x="48721" y="110160"/>
                </a:cubicBezTo>
                <a:cubicBezTo>
                  <a:pt x="48721" y="9411"/>
                  <a:pt x="48721" y="9411"/>
                  <a:pt x="48721" y="9411"/>
                </a:cubicBezTo>
                <a:cubicBezTo>
                  <a:pt x="48721" y="6417"/>
                  <a:pt x="40000" y="0"/>
                  <a:pt x="35488" y="0"/>
                </a:cubicBezTo>
                <a:close/>
                <a:moveTo>
                  <a:pt x="35488" y="107165"/>
                </a:moveTo>
                <a:lnTo>
                  <a:pt x="35488" y="107165"/>
                </a:lnTo>
                <a:lnTo>
                  <a:pt x="31278" y="110160"/>
                </a:lnTo>
                <a:cubicBezTo>
                  <a:pt x="17744" y="110160"/>
                  <a:pt x="17744" y="110160"/>
                  <a:pt x="17744" y="110160"/>
                </a:cubicBezTo>
                <a:cubicBezTo>
                  <a:pt x="13533" y="110160"/>
                  <a:pt x="13533" y="107165"/>
                  <a:pt x="13533" y="107165"/>
                </a:cubicBezTo>
                <a:cubicBezTo>
                  <a:pt x="13533" y="12620"/>
                  <a:pt x="13533" y="12620"/>
                  <a:pt x="13533" y="12620"/>
                </a:cubicBezTo>
                <a:cubicBezTo>
                  <a:pt x="13533" y="12620"/>
                  <a:pt x="13533" y="9411"/>
                  <a:pt x="17744" y="9411"/>
                </a:cubicBezTo>
                <a:cubicBezTo>
                  <a:pt x="31278" y="9411"/>
                  <a:pt x="31278" y="9411"/>
                  <a:pt x="31278" y="9411"/>
                </a:cubicBezTo>
                <a:lnTo>
                  <a:pt x="35488" y="12620"/>
                </a:lnTo>
                <a:lnTo>
                  <a:pt x="35488" y="1071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4" name="Shape 4706"/>
          <p:cNvSpPr/>
          <p:nvPr/>
        </p:nvSpPr>
        <p:spPr>
          <a:xfrm>
            <a:off x="4124160" y="30672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5" name="Shape 4707"/>
          <p:cNvSpPr/>
          <p:nvPr/>
        </p:nvSpPr>
        <p:spPr>
          <a:xfrm>
            <a:off x="3603600" y="306720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20000" h="120000">
                <a:moveTo>
                  <a:pt x="101694" y="69304"/>
                </a:moveTo>
                <a:lnTo>
                  <a:pt x="101694" y="69304"/>
                </a:lnTo>
                <a:cubicBezTo>
                  <a:pt x="101694" y="6417"/>
                  <a:pt x="101694" y="6417"/>
                  <a:pt x="101694" y="6417"/>
                </a:cubicBezTo>
                <a:cubicBezTo>
                  <a:pt x="101694" y="3208"/>
                  <a:pt x="101694" y="0"/>
                  <a:pt x="98847" y="0"/>
                </a:cubicBezTo>
                <a:cubicBezTo>
                  <a:pt x="95796" y="0"/>
                  <a:pt x="95796" y="3208"/>
                  <a:pt x="95796" y="6417"/>
                </a:cubicBezTo>
                <a:cubicBezTo>
                  <a:pt x="95796" y="69304"/>
                  <a:pt x="95796" y="69304"/>
                  <a:pt x="95796" y="69304"/>
                </a:cubicBezTo>
                <a:cubicBezTo>
                  <a:pt x="86847" y="69304"/>
                  <a:pt x="77694" y="78716"/>
                  <a:pt x="77694" y="88128"/>
                </a:cubicBezTo>
                <a:cubicBezTo>
                  <a:pt x="77694" y="100748"/>
                  <a:pt x="86847" y="107165"/>
                  <a:pt x="95796" y="110160"/>
                </a:cubicBezTo>
                <a:cubicBezTo>
                  <a:pt x="95796" y="113368"/>
                  <a:pt x="95796" y="113368"/>
                  <a:pt x="95796" y="113368"/>
                </a:cubicBezTo>
                <a:cubicBezTo>
                  <a:pt x="95796" y="116577"/>
                  <a:pt x="95796" y="119786"/>
                  <a:pt x="98847" y="119786"/>
                </a:cubicBezTo>
                <a:cubicBezTo>
                  <a:pt x="101694" y="119786"/>
                  <a:pt x="101694" y="116577"/>
                  <a:pt x="101694" y="113368"/>
                </a:cubicBezTo>
                <a:cubicBezTo>
                  <a:pt x="101694" y="110160"/>
                  <a:pt x="101694" y="110160"/>
                  <a:pt x="101694" y="110160"/>
                </a:cubicBezTo>
                <a:cubicBezTo>
                  <a:pt x="110847" y="107165"/>
                  <a:pt x="119796" y="100748"/>
                  <a:pt x="119796" y="88128"/>
                </a:cubicBezTo>
                <a:cubicBezTo>
                  <a:pt x="119796" y="78716"/>
                  <a:pt x="110847" y="69304"/>
                  <a:pt x="101694" y="69304"/>
                </a:cubicBezTo>
                <a:close/>
                <a:moveTo>
                  <a:pt x="98847" y="100748"/>
                </a:moveTo>
                <a:lnTo>
                  <a:pt x="98847" y="100748"/>
                </a:lnTo>
                <a:cubicBezTo>
                  <a:pt x="92745" y="100748"/>
                  <a:pt x="86847" y="97540"/>
                  <a:pt x="86847" y="88128"/>
                </a:cubicBezTo>
                <a:cubicBezTo>
                  <a:pt x="86847" y="81925"/>
                  <a:pt x="92745" y="75508"/>
                  <a:pt x="98847" y="75508"/>
                </a:cubicBezTo>
                <a:cubicBezTo>
                  <a:pt x="104745" y="75508"/>
                  <a:pt x="110847" y="81925"/>
                  <a:pt x="110847" y="88128"/>
                </a:cubicBezTo>
                <a:cubicBezTo>
                  <a:pt x="110847" y="97540"/>
                  <a:pt x="104745" y="100748"/>
                  <a:pt x="98847" y="100748"/>
                </a:cubicBezTo>
                <a:close/>
                <a:moveTo>
                  <a:pt x="62847" y="9411"/>
                </a:moveTo>
                <a:lnTo>
                  <a:pt x="62847" y="9411"/>
                </a:lnTo>
                <a:cubicBezTo>
                  <a:pt x="62847" y="6417"/>
                  <a:pt x="62847" y="6417"/>
                  <a:pt x="62847" y="6417"/>
                </a:cubicBezTo>
                <a:cubicBezTo>
                  <a:pt x="62847" y="3208"/>
                  <a:pt x="59796" y="0"/>
                  <a:pt x="59796" y="0"/>
                </a:cubicBezTo>
                <a:cubicBezTo>
                  <a:pt x="56949" y="0"/>
                  <a:pt x="53898" y="3208"/>
                  <a:pt x="53898" y="6417"/>
                </a:cubicBezTo>
                <a:cubicBezTo>
                  <a:pt x="53898" y="9411"/>
                  <a:pt x="53898" y="9411"/>
                  <a:pt x="53898" y="9411"/>
                </a:cubicBezTo>
                <a:cubicBezTo>
                  <a:pt x="44949" y="12620"/>
                  <a:pt x="38847" y="18823"/>
                  <a:pt x="38847" y="31443"/>
                </a:cubicBezTo>
                <a:cubicBezTo>
                  <a:pt x="38847" y="41069"/>
                  <a:pt x="44949" y="50267"/>
                  <a:pt x="53898" y="50267"/>
                </a:cubicBezTo>
                <a:cubicBezTo>
                  <a:pt x="53898" y="113368"/>
                  <a:pt x="53898" y="113368"/>
                  <a:pt x="53898" y="113368"/>
                </a:cubicBezTo>
                <a:cubicBezTo>
                  <a:pt x="53898" y="116577"/>
                  <a:pt x="56949" y="119786"/>
                  <a:pt x="59796" y="119786"/>
                </a:cubicBezTo>
                <a:cubicBezTo>
                  <a:pt x="59796" y="119786"/>
                  <a:pt x="62847" y="116577"/>
                  <a:pt x="62847" y="113368"/>
                </a:cubicBezTo>
                <a:cubicBezTo>
                  <a:pt x="62847" y="50267"/>
                  <a:pt x="62847" y="50267"/>
                  <a:pt x="62847" y="50267"/>
                </a:cubicBezTo>
                <a:cubicBezTo>
                  <a:pt x="71796" y="50267"/>
                  <a:pt x="77694" y="41069"/>
                  <a:pt x="77694" y="31443"/>
                </a:cubicBezTo>
                <a:cubicBezTo>
                  <a:pt x="77694" y="18823"/>
                  <a:pt x="71796" y="12620"/>
                  <a:pt x="62847" y="9411"/>
                </a:cubicBezTo>
                <a:close/>
                <a:moveTo>
                  <a:pt x="59796" y="44064"/>
                </a:moveTo>
                <a:lnTo>
                  <a:pt x="59796" y="44064"/>
                </a:lnTo>
                <a:cubicBezTo>
                  <a:pt x="50847" y="44064"/>
                  <a:pt x="47796" y="37860"/>
                  <a:pt x="47796" y="31443"/>
                </a:cubicBezTo>
                <a:cubicBezTo>
                  <a:pt x="47796" y="22032"/>
                  <a:pt x="50847" y="18823"/>
                  <a:pt x="59796" y="18823"/>
                </a:cubicBezTo>
                <a:cubicBezTo>
                  <a:pt x="65898" y="18823"/>
                  <a:pt x="71796" y="22032"/>
                  <a:pt x="71796" y="31443"/>
                </a:cubicBezTo>
                <a:cubicBezTo>
                  <a:pt x="71796" y="37860"/>
                  <a:pt x="65898" y="44064"/>
                  <a:pt x="59796" y="44064"/>
                </a:cubicBezTo>
                <a:close/>
                <a:moveTo>
                  <a:pt x="24000" y="50267"/>
                </a:moveTo>
                <a:lnTo>
                  <a:pt x="24000" y="50267"/>
                </a:lnTo>
                <a:cubicBezTo>
                  <a:pt x="24000" y="6417"/>
                  <a:pt x="24000" y="6417"/>
                  <a:pt x="24000" y="6417"/>
                </a:cubicBezTo>
                <a:cubicBezTo>
                  <a:pt x="24000" y="3208"/>
                  <a:pt x="20949" y="0"/>
                  <a:pt x="17898" y="0"/>
                </a:cubicBezTo>
                <a:cubicBezTo>
                  <a:pt x="17898" y="0"/>
                  <a:pt x="14847" y="3208"/>
                  <a:pt x="14847" y="6417"/>
                </a:cubicBezTo>
                <a:cubicBezTo>
                  <a:pt x="14847" y="50267"/>
                  <a:pt x="14847" y="50267"/>
                  <a:pt x="14847" y="50267"/>
                </a:cubicBezTo>
                <a:cubicBezTo>
                  <a:pt x="5898" y="53475"/>
                  <a:pt x="0" y="62887"/>
                  <a:pt x="0" y="72513"/>
                </a:cubicBezTo>
                <a:cubicBezTo>
                  <a:pt x="0" y="81925"/>
                  <a:pt x="5898" y="91336"/>
                  <a:pt x="14847" y="94545"/>
                </a:cubicBezTo>
                <a:cubicBezTo>
                  <a:pt x="14847" y="113368"/>
                  <a:pt x="14847" y="113368"/>
                  <a:pt x="14847" y="113368"/>
                </a:cubicBezTo>
                <a:cubicBezTo>
                  <a:pt x="14847" y="116577"/>
                  <a:pt x="17898" y="119786"/>
                  <a:pt x="17898" y="119786"/>
                </a:cubicBezTo>
                <a:cubicBezTo>
                  <a:pt x="20949" y="119786"/>
                  <a:pt x="24000" y="116577"/>
                  <a:pt x="24000" y="113368"/>
                </a:cubicBezTo>
                <a:cubicBezTo>
                  <a:pt x="24000" y="94545"/>
                  <a:pt x="24000" y="94545"/>
                  <a:pt x="24000" y="94545"/>
                </a:cubicBezTo>
                <a:cubicBezTo>
                  <a:pt x="32949" y="91336"/>
                  <a:pt x="38847" y="81925"/>
                  <a:pt x="38847" y="72513"/>
                </a:cubicBezTo>
                <a:cubicBezTo>
                  <a:pt x="38847" y="62887"/>
                  <a:pt x="32949" y="53475"/>
                  <a:pt x="24000" y="50267"/>
                </a:cubicBezTo>
                <a:close/>
                <a:moveTo>
                  <a:pt x="17898" y="84919"/>
                </a:moveTo>
                <a:lnTo>
                  <a:pt x="17898" y="84919"/>
                </a:lnTo>
                <a:cubicBezTo>
                  <a:pt x="12000" y="84919"/>
                  <a:pt x="5898" y="78716"/>
                  <a:pt x="5898" y="72513"/>
                </a:cubicBezTo>
                <a:cubicBezTo>
                  <a:pt x="5898" y="66096"/>
                  <a:pt x="12000" y="59893"/>
                  <a:pt x="17898" y="59893"/>
                </a:cubicBezTo>
                <a:cubicBezTo>
                  <a:pt x="26847" y="59893"/>
                  <a:pt x="29898" y="66096"/>
                  <a:pt x="29898" y="72513"/>
                </a:cubicBezTo>
                <a:cubicBezTo>
                  <a:pt x="29898" y="78716"/>
                  <a:pt x="26847" y="84919"/>
                  <a:pt x="17898" y="8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6" name="Shape 4708"/>
          <p:cNvSpPr/>
          <p:nvPr/>
        </p:nvSpPr>
        <p:spPr>
          <a:xfrm>
            <a:off x="310500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7" name="Shape 4709"/>
          <p:cNvSpPr/>
          <p:nvPr/>
        </p:nvSpPr>
        <p:spPr>
          <a:xfrm>
            <a:off x="2612880" y="3067200"/>
            <a:ext cx="289080" cy="268200"/>
          </a:xfrm>
          <a:custGeom>
            <a:avLst/>
            <a:gdLst>
              <a:gd name="textAreaLeft" fmla="*/ 0 w 289080"/>
              <a:gd name="textAreaRight" fmla="*/ 289440 w 289080"/>
              <a:gd name="textAreaTop" fmla="*/ 0 h 268200"/>
              <a:gd name="textAreaBottom" fmla="*/ 268560 h 268200"/>
            </a:gdLst>
            <a:ahLst/>
            <a:rect l="textAreaLeft" t="textAreaTop" r="textAreaRight" b="textAreaBottom"/>
            <a:pathLst>
              <a:path w="120000" h="120000">
                <a:moveTo>
                  <a:pt x="73112" y="0"/>
                </a:moveTo>
                <a:lnTo>
                  <a:pt x="73112" y="0"/>
                </a:lnTo>
                <a:cubicBezTo>
                  <a:pt x="73112" y="9411"/>
                  <a:pt x="73112" y="9411"/>
                  <a:pt x="73112" y="9411"/>
                </a:cubicBezTo>
                <a:cubicBezTo>
                  <a:pt x="96556" y="15828"/>
                  <a:pt x="111059" y="34652"/>
                  <a:pt x="111059" y="59893"/>
                </a:cubicBezTo>
                <a:cubicBezTo>
                  <a:pt x="111059" y="84919"/>
                  <a:pt x="96556" y="103957"/>
                  <a:pt x="73112" y="110160"/>
                </a:cubicBezTo>
                <a:cubicBezTo>
                  <a:pt x="73112" y="119786"/>
                  <a:pt x="73112" y="119786"/>
                  <a:pt x="73112" y="119786"/>
                </a:cubicBezTo>
                <a:cubicBezTo>
                  <a:pt x="99337" y="113368"/>
                  <a:pt x="119801" y="91336"/>
                  <a:pt x="119801" y="59893"/>
                </a:cubicBezTo>
                <a:cubicBezTo>
                  <a:pt x="119801" y="28449"/>
                  <a:pt x="99337" y="6417"/>
                  <a:pt x="73112" y="0"/>
                </a:cubicBezTo>
                <a:close/>
                <a:moveTo>
                  <a:pt x="96556" y="59893"/>
                </a:moveTo>
                <a:lnTo>
                  <a:pt x="96556" y="59893"/>
                </a:lnTo>
                <a:cubicBezTo>
                  <a:pt x="96556" y="44064"/>
                  <a:pt x="87615" y="31443"/>
                  <a:pt x="73112" y="31443"/>
                </a:cubicBezTo>
                <a:cubicBezTo>
                  <a:pt x="73112" y="37860"/>
                  <a:pt x="73112" y="37860"/>
                  <a:pt x="73112" y="37860"/>
                </a:cubicBezTo>
                <a:cubicBezTo>
                  <a:pt x="81854" y="41069"/>
                  <a:pt x="87615" y="50267"/>
                  <a:pt x="87615" y="59893"/>
                </a:cubicBezTo>
                <a:cubicBezTo>
                  <a:pt x="87615" y="69304"/>
                  <a:pt x="81854" y="78716"/>
                  <a:pt x="73112" y="81925"/>
                </a:cubicBezTo>
                <a:cubicBezTo>
                  <a:pt x="73112" y="88128"/>
                  <a:pt x="73112" y="88128"/>
                  <a:pt x="73112" y="88128"/>
                </a:cubicBezTo>
                <a:cubicBezTo>
                  <a:pt x="87615" y="88128"/>
                  <a:pt x="96556" y="75508"/>
                  <a:pt x="96556" y="59893"/>
                </a:cubicBezTo>
                <a:close/>
                <a:moveTo>
                  <a:pt x="52649" y="9411"/>
                </a:moveTo>
                <a:lnTo>
                  <a:pt x="52649" y="9411"/>
                </a:lnTo>
                <a:cubicBezTo>
                  <a:pt x="17483" y="34652"/>
                  <a:pt x="17483" y="34652"/>
                  <a:pt x="17483" y="34652"/>
                </a:cubicBezTo>
                <a:cubicBezTo>
                  <a:pt x="5761" y="34652"/>
                  <a:pt x="5761" y="34652"/>
                  <a:pt x="5761" y="34652"/>
                </a:cubicBezTo>
                <a:cubicBezTo>
                  <a:pt x="2980" y="34652"/>
                  <a:pt x="0" y="37860"/>
                  <a:pt x="0" y="44064"/>
                </a:cubicBezTo>
                <a:cubicBezTo>
                  <a:pt x="0" y="75508"/>
                  <a:pt x="0" y="75508"/>
                  <a:pt x="0" y="75508"/>
                </a:cubicBezTo>
                <a:cubicBezTo>
                  <a:pt x="0" y="81925"/>
                  <a:pt x="2980" y="84919"/>
                  <a:pt x="5761" y="84919"/>
                </a:cubicBezTo>
                <a:cubicBezTo>
                  <a:pt x="17483" y="84919"/>
                  <a:pt x="17483" y="84919"/>
                  <a:pt x="17483" y="84919"/>
                </a:cubicBezTo>
                <a:cubicBezTo>
                  <a:pt x="52649" y="110160"/>
                  <a:pt x="52649" y="110160"/>
                  <a:pt x="52649" y="110160"/>
                </a:cubicBezTo>
                <a:cubicBezTo>
                  <a:pt x="58410" y="110160"/>
                  <a:pt x="61390" y="107165"/>
                  <a:pt x="61390" y="100748"/>
                </a:cubicBezTo>
                <a:cubicBezTo>
                  <a:pt x="61390" y="18823"/>
                  <a:pt x="61390" y="18823"/>
                  <a:pt x="61390" y="18823"/>
                </a:cubicBezTo>
                <a:cubicBezTo>
                  <a:pt x="61390" y="12620"/>
                  <a:pt x="58410" y="9411"/>
                  <a:pt x="52649" y="9411"/>
                </a:cubicBezTo>
                <a:close/>
                <a:moveTo>
                  <a:pt x="17483" y="72513"/>
                </a:moveTo>
                <a:lnTo>
                  <a:pt x="17483" y="72513"/>
                </a:lnTo>
                <a:cubicBezTo>
                  <a:pt x="17483" y="75508"/>
                  <a:pt x="17483" y="75508"/>
                  <a:pt x="14503" y="75508"/>
                </a:cubicBezTo>
                <a:cubicBezTo>
                  <a:pt x="11721" y="75508"/>
                  <a:pt x="11721" y="75508"/>
                  <a:pt x="11721" y="75508"/>
                </a:cubicBezTo>
                <a:cubicBezTo>
                  <a:pt x="8741" y="75508"/>
                  <a:pt x="5761" y="75508"/>
                  <a:pt x="5761" y="72513"/>
                </a:cubicBezTo>
                <a:cubicBezTo>
                  <a:pt x="5761" y="47272"/>
                  <a:pt x="5761" y="47272"/>
                  <a:pt x="5761" y="47272"/>
                </a:cubicBezTo>
                <a:cubicBezTo>
                  <a:pt x="5761" y="44064"/>
                  <a:pt x="8741" y="44064"/>
                  <a:pt x="11721" y="44064"/>
                </a:cubicBezTo>
                <a:cubicBezTo>
                  <a:pt x="14503" y="44064"/>
                  <a:pt x="14503" y="44064"/>
                  <a:pt x="14503" y="44064"/>
                </a:cubicBezTo>
                <a:cubicBezTo>
                  <a:pt x="17483" y="44064"/>
                  <a:pt x="17483" y="44064"/>
                  <a:pt x="17483" y="47272"/>
                </a:cubicBezTo>
                <a:lnTo>
                  <a:pt x="17483" y="72513"/>
                </a:lnTo>
                <a:close/>
                <a:moveTo>
                  <a:pt x="52649" y="100748"/>
                </a:moveTo>
                <a:lnTo>
                  <a:pt x="52649" y="100748"/>
                </a:lnTo>
                <a:cubicBezTo>
                  <a:pt x="26225" y="81925"/>
                  <a:pt x="26225" y="81925"/>
                  <a:pt x="26225" y="81925"/>
                </a:cubicBezTo>
                <a:cubicBezTo>
                  <a:pt x="26225" y="75508"/>
                  <a:pt x="26225" y="41069"/>
                  <a:pt x="26225" y="34652"/>
                </a:cubicBezTo>
                <a:cubicBezTo>
                  <a:pt x="52649" y="18823"/>
                  <a:pt x="52649" y="18823"/>
                  <a:pt x="52649" y="18823"/>
                </a:cubicBezTo>
                <a:cubicBezTo>
                  <a:pt x="52649" y="22032"/>
                  <a:pt x="52649" y="97540"/>
                  <a:pt x="52649" y="1007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8" name="Shape 4710"/>
          <p:cNvSpPr/>
          <p:nvPr/>
        </p:nvSpPr>
        <p:spPr>
          <a:xfrm>
            <a:off x="214488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9" name="Shape 4711"/>
          <p:cNvSpPr/>
          <p:nvPr/>
        </p:nvSpPr>
        <p:spPr>
          <a:xfrm>
            <a:off x="1692360" y="3087720"/>
            <a:ext cx="156960" cy="225360"/>
          </a:xfrm>
          <a:custGeom>
            <a:avLst/>
            <a:gdLst>
              <a:gd name="textAreaLeft" fmla="*/ 0 w 156960"/>
              <a:gd name="textAreaRight" fmla="*/ 157320 w 156960"/>
              <a:gd name="textAreaTop" fmla="*/ 0 h 225360"/>
              <a:gd name="textAreaBottom" fmla="*/ 225720 h 225360"/>
            </a:gdLst>
            <a:ahLst/>
            <a:rect l="textAreaLeft" t="textAreaTop" r="textAreaRight" b="textAreaBottom"/>
            <a:pathLst>
              <a:path w="120000" h="120000">
                <a:moveTo>
                  <a:pt x="103384" y="0"/>
                </a:moveTo>
                <a:lnTo>
                  <a:pt x="103384" y="0"/>
                </a:lnTo>
                <a:cubicBezTo>
                  <a:pt x="38030" y="30000"/>
                  <a:pt x="38030" y="30000"/>
                  <a:pt x="38030" y="30000"/>
                </a:cubicBezTo>
                <a:cubicBezTo>
                  <a:pt x="16246" y="30000"/>
                  <a:pt x="16246" y="30000"/>
                  <a:pt x="16246" y="30000"/>
                </a:cubicBezTo>
                <a:cubicBezTo>
                  <a:pt x="11076" y="30000"/>
                  <a:pt x="0" y="33813"/>
                  <a:pt x="0" y="41186"/>
                </a:cubicBezTo>
                <a:cubicBezTo>
                  <a:pt x="0" y="78559"/>
                  <a:pt x="0" y="78559"/>
                  <a:pt x="0" y="78559"/>
                </a:cubicBezTo>
                <a:cubicBezTo>
                  <a:pt x="0" y="86186"/>
                  <a:pt x="11076" y="89745"/>
                  <a:pt x="16246" y="89745"/>
                </a:cubicBezTo>
                <a:cubicBezTo>
                  <a:pt x="38030" y="89745"/>
                  <a:pt x="38030" y="89745"/>
                  <a:pt x="38030" y="89745"/>
                </a:cubicBezTo>
                <a:cubicBezTo>
                  <a:pt x="103384" y="119745"/>
                  <a:pt x="103384" y="119745"/>
                  <a:pt x="103384" y="119745"/>
                </a:cubicBezTo>
                <a:cubicBezTo>
                  <a:pt x="108553" y="119745"/>
                  <a:pt x="119630" y="116186"/>
                  <a:pt x="119630" y="108559"/>
                </a:cubicBezTo>
                <a:cubicBezTo>
                  <a:pt x="119630" y="11186"/>
                  <a:pt x="119630" y="11186"/>
                  <a:pt x="119630" y="11186"/>
                </a:cubicBezTo>
                <a:cubicBezTo>
                  <a:pt x="119630" y="3813"/>
                  <a:pt x="108553" y="0"/>
                  <a:pt x="103384" y="0"/>
                </a:cubicBezTo>
                <a:close/>
                <a:moveTo>
                  <a:pt x="38030" y="75000"/>
                </a:moveTo>
                <a:lnTo>
                  <a:pt x="38030" y="75000"/>
                </a:lnTo>
                <a:cubicBezTo>
                  <a:pt x="38030" y="78559"/>
                  <a:pt x="32492" y="78559"/>
                  <a:pt x="32492" y="78559"/>
                </a:cubicBezTo>
                <a:cubicBezTo>
                  <a:pt x="21784" y="78559"/>
                  <a:pt x="21784" y="78559"/>
                  <a:pt x="21784" y="78559"/>
                </a:cubicBezTo>
                <a:cubicBezTo>
                  <a:pt x="21784" y="78559"/>
                  <a:pt x="16246" y="78559"/>
                  <a:pt x="16246" y="75000"/>
                </a:cubicBezTo>
                <a:cubicBezTo>
                  <a:pt x="16246" y="45000"/>
                  <a:pt x="16246" y="45000"/>
                  <a:pt x="16246" y="45000"/>
                </a:cubicBezTo>
                <a:cubicBezTo>
                  <a:pt x="16246" y="41186"/>
                  <a:pt x="21784" y="41186"/>
                  <a:pt x="21784" y="41186"/>
                </a:cubicBezTo>
                <a:cubicBezTo>
                  <a:pt x="32492" y="41186"/>
                  <a:pt x="32492" y="41186"/>
                  <a:pt x="32492" y="41186"/>
                </a:cubicBezTo>
                <a:cubicBezTo>
                  <a:pt x="32492" y="41186"/>
                  <a:pt x="38030" y="41186"/>
                  <a:pt x="38030" y="45000"/>
                </a:cubicBezTo>
                <a:lnTo>
                  <a:pt x="38030" y="75000"/>
                </a:lnTo>
                <a:close/>
                <a:moveTo>
                  <a:pt x="103384" y="108559"/>
                </a:moveTo>
                <a:lnTo>
                  <a:pt x="103384" y="108559"/>
                </a:lnTo>
                <a:cubicBezTo>
                  <a:pt x="54276" y="86186"/>
                  <a:pt x="54276" y="86186"/>
                  <a:pt x="54276" y="86186"/>
                </a:cubicBezTo>
                <a:cubicBezTo>
                  <a:pt x="54276" y="78559"/>
                  <a:pt x="54276" y="37627"/>
                  <a:pt x="54276" y="30000"/>
                </a:cubicBezTo>
                <a:cubicBezTo>
                  <a:pt x="103384" y="11186"/>
                  <a:pt x="103384" y="11186"/>
                  <a:pt x="103384" y="11186"/>
                </a:cubicBezTo>
                <a:cubicBezTo>
                  <a:pt x="103384" y="15000"/>
                  <a:pt x="103384" y="104745"/>
                  <a:pt x="103384" y="1085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0" name="Shape 4712"/>
          <p:cNvSpPr/>
          <p:nvPr/>
        </p:nvSpPr>
        <p:spPr>
          <a:xfrm>
            <a:off x="117648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1" name="Shape 4713"/>
          <p:cNvSpPr/>
          <p:nvPr/>
        </p:nvSpPr>
        <p:spPr>
          <a:xfrm>
            <a:off x="5553000" y="25574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102746" y="97476"/>
                </a:moveTo>
                <a:lnTo>
                  <a:pt x="102746" y="97476"/>
                </a:lnTo>
                <a:cubicBezTo>
                  <a:pt x="99838" y="97476"/>
                  <a:pt x="96930" y="100315"/>
                  <a:pt x="96930" y="100315"/>
                </a:cubicBezTo>
                <a:cubicBezTo>
                  <a:pt x="96930" y="103154"/>
                  <a:pt x="99838" y="105993"/>
                  <a:pt x="102746" y="105993"/>
                </a:cubicBezTo>
                <a:cubicBezTo>
                  <a:pt x="102746" y="105993"/>
                  <a:pt x="105654" y="103154"/>
                  <a:pt x="105654" y="100315"/>
                </a:cubicBezTo>
                <a:lnTo>
                  <a:pt x="102746" y="97476"/>
                </a:lnTo>
                <a:close/>
                <a:moveTo>
                  <a:pt x="17059" y="22334"/>
                </a:moveTo>
                <a:lnTo>
                  <a:pt x="17059" y="22334"/>
                </a:lnTo>
                <a:cubicBezTo>
                  <a:pt x="19967" y="22334"/>
                  <a:pt x="22875" y="22334"/>
                  <a:pt x="22875" y="19495"/>
                </a:cubicBezTo>
                <a:cubicBezTo>
                  <a:pt x="22875" y="16656"/>
                  <a:pt x="19967" y="16656"/>
                  <a:pt x="17059" y="16656"/>
                </a:cubicBezTo>
                <a:cubicBezTo>
                  <a:pt x="17059" y="16656"/>
                  <a:pt x="14345" y="16656"/>
                  <a:pt x="14345" y="19495"/>
                </a:cubicBezTo>
                <a:cubicBezTo>
                  <a:pt x="14345" y="22334"/>
                  <a:pt x="17059" y="22334"/>
                  <a:pt x="17059" y="22334"/>
                </a:cubicBezTo>
                <a:close/>
                <a:moveTo>
                  <a:pt x="17059" y="97476"/>
                </a:moveTo>
                <a:lnTo>
                  <a:pt x="17059" y="97476"/>
                </a:lnTo>
                <a:lnTo>
                  <a:pt x="14345" y="100315"/>
                </a:lnTo>
                <a:cubicBezTo>
                  <a:pt x="14345" y="103154"/>
                  <a:pt x="17059" y="105993"/>
                  <a:pt x="17059" y="105993"/>
                </a:cubicBezTo>
                <a:cubicBezTo>
                  <a:pt x="19967" y="105993"/>
                  <a:pt x="22875" y="103154"/>
                  <a:pt x="22875" y="100315"/>
                </a:cubicBezTo>
                <a:cubicBezTo>
                  <a:pt x="22875" y="100315"/>
                  <a:pt x="19967" y="97476"/>
                  <a:pt x="17059" y="97476"/>
                </a:cubicBezTo>
                <a:close/>
                <a:moveTo>
                  <a:pt x="59903" y="16656"/>
                </a:moveTo>
                <a:lnTo>
                  <a:pt x="59903" y="16656"/>
                </a:lnTo>
                <a:cubicBezTo>
                  <a:pt x="34313" y="16656"/>
                  <a:pt x="14345" y="36340"/>
                  <a:pt x="14345" y="61324"/>
                </a:cubicBezTo>
                <a:cubicBezTo>
                  <a:pt x="14345" y="86309"/>
                  <a:pt x="34313" y="105993"/>
                  <a:pt x="59903" y="105993"/>
                </a:cubicBezTo>
                <a:cubicBezTo>
                  <a:pt x="85492" y="105993"/>
                  <a:pt x="105654" y="86309"/>
                  <a:pt x="105654" y="61324"/>
                </a:cubicBezTo>
                <a:cubicBezTo>
                  <a:pt x="105654" y="36340"/>
                  <a:pt x="85492" y="16656"/>
                  <a:pt x="59903" y="16656"/>
                </a:cubicBezTo>
                <a:close/>
                <a:moveTo>
                  <a:pt x="59903" y="97476"/>
                </a:moveTo>
                <a:lnTo>
                  <a:pt x="59903" y="97476"/>
                </a:lnTo>
                <a:cubicBezTo>
                  <a:pt x="39935" y="97476"/>
                  <a:pt x="22875" y="80820"/>
                  <a:pt x="22875" y="61324"/>
                </a:cubicBezTo>
                <a:cubicBezTo>
                  <a:pt x="22875" y="38990"/>
                  <a:pt x="39935" y="22334"/>
                  <a:pt x="59903" y="22334"/>
                </a:cubicBezTo>
                <a:cubicBezTo>
                  <a:pt x="79870" y="22334"/>
                  <a:pt x="96930" y="38990"/>
                  <a:pt x="96930" y="61324"/>
                </a:cubicBezTo>
                <a:cubicBezTo>
                  <a:pt x="96930" y="80820"/>
                  <a:pt x="79870" y="97476"/>
                  <a:pt x="59903" y="97476"/>
                </a:cubicBezTo>
                <a:close/>
                <a:moveTo>
                  <a:pt x="59903" y="38990"/>
                </a:moveTo>
                <a:lnTo>
                  <a:pt x="59903" y="38990"/>
                </a:lnTo>
                <a:cubicBezTo>
                  <a:pt x="48465" y="38990"/>
                  <a:pt x="37027" y="47507"/>
                  <a:pt x="37027" y="61324"/>
                </a:cubicBezTo>
                <a:cubicBezTo>
                  <a:pt x="37027" y="72492"/>
                  <a:pt x="48465" y="83659"/>
                  <a:pt x="59903" y="83659"/>
                </a:cubicBezTo>
                <a:cubicBezTo>
                  <a:pt x="71340" y="83659"/>
                  <a:pt x="82778" y="72492"/>
                  <a:pt x="82778" y="61324"/>
                </a:cubicBezTo>
                <a:cubicBezTo>
                  <a:pt x="82778" y="47507"/>
                  <a:pt x="71340" y="38990"/>
                  <a:pt x="59903" y="38990"/>
                </a:cubicBezTo>
                <a:close/>
                <a:moveTo>
                  <a:pt x="59903" y="75331"/>
                </a:moveTo>
                <a:lnTo>
                  <a:pt x="59903" y="75331"/>
                </a:lnTo>
                <a:cubicBezTo>
                  <a:pt x="51373" y="75331"/>
                  <a:pt x="45751" y="69652"/>
                  <a:pt x="45751" y="61324"/>
                </a:cubicBezTo>
                <a:cubicBezTo>
                  <a:pt x="45751" y="52996"/>
                  <a:pt x="51373" y="44479"/>
                  <a:pt x="59903" y="44479"/>
                </a:cubicBezTo>
                <a:cubicBezTo>
                  <a:pt x="68432" y="44479"/>
                  <a:pt x="74248" y="52996"/>
                  <a:pt x="74248" y="61324"/>
                </a:cubicBezTo>
                <a:cubicBezTo>
                  <a:pt x="74248" y="69652"/>
                  <a:pt x="68432" y="75331"/>
                  <a:pt x="59903" y="75331"/>
                </a:cubicBezTo>
                <a:close/>
                <a:moveTo>
                  <a:pt x="105654" y="0"/>
                </a:moveTo>
                <a:lnTo>
                  <a:pt x="105654" y="0"/>
                </a:lnTo>
                <a:cubicBezTo>
                  <a:pt x="14345" y="0"/>
                  <a:pt x="14345" y="0"/>
                  <a:pt x="14345" y="0"/>
                </a:cubicBezTo>
                <a:cubicBezTo>
                  <a:pt x="5621" y="0"/>
                  <a:pt x="0" y="8328"/>
                  <a:pt x="0" y="16656"/>
                </a:cubicBezTo>
                <a:cubicBezTo>
                  <a:pt x="0" y="105993"/>
                  <a:pt x="0" y="105993"/>
                  <a:pt x="0" y="105993"/>
                </a:cubicBezTo>
                <a:cubicBezTo>
                  <a:pt x="0" y="114321"/>
                  <a:pt x="5621" y="119810"/>
                  <a:pt x="14345" y="119810"/>
                </a:cubicBezTo>
                <a:cubicBezTo>
                  <a:pt x="105654" y="119810"/>
                  <a:pt x="105654" y="119810"/>
                  <a:pt x="105654" y="119810"/>
                </a:cubicBezTo>
                <a:cubicBezTo>
                  <a:pt x="114184" y="119810"/>
                  <a:pt x="119806" y="114321"/>
                  <a:pt x="119806" y="105993"/>
                </a:cubicBezTo>
                <a:cubicBezTo>
                  <a:pt x="119806" y="16656"/>
                  <a:pt x="119806" y="16656"/>
                  <a:pt x="119806" y="16656"/>
                </a:cubicBezTo>
                <a:cubicBezTo>
                  <a:pt x="119806" y="8328"/>
                  <a:pt x="114184" y="0"/>
                  <a:pt x="105654" y="0"/>
                </a:cubicBezTo>
                <a:close/>
                <a:moveTo>
                  <a:pt x="114184" y="105993"/>
                </a:moveTo>
                <a:lnTo>
                  <a:pt x="114184" y="105993"/>
                </a:lnTo>
                <a:cubicBezTo>
                  <a:pt x="114184" y="108643"/>
                  <a:pt x="108368" y="111482"/>
                  <a:pt x="105654" y="111482"/>
                </a:cubicBezTo>
                <a:cubicBezTo>
                  <a:pt x="14345" y="111482"/>
                  <a:pt x="14345" y="111482"/>
                  <a:pt x="14345" y="111482"/>
                </a:cubicBezTo>
                <a:cubicBezTo>
                  <a:pt x="11437" y="111482"/>
                  <a:pt x="5621" y="108643"/>
                  <a:pt x="5621" y="105993"/>
                </a:cubicBezTo>
                <a:cubicBezTo>
                  <a:pt x="5621" y="16656"/>
                  <a:pt x="5621" y="16656"/>
                  <a:pt x="5621" y="16656"/>
                </a:cubicBezTo>
                <a:cubicBezTo>
                  <a:pt x="5621" y="11167"/>
                  <a:pt x="11437" y="8328"/>
                  <a:pt x="14345" y="8328"/>
                </a:cubicBezTo>
                <a:cubicBezTo>
                  <a:pt x="105654" y="8328"/>
                  <a:pt x="105654" y="8328"/>
                  <a:pt x="105654" y="8328"/>
                </a:cubicBezTo>
                <a:cubicBezTo>
                  <a:pt x="108368" y="8328"/>
                  <a:pt x="114184" y="11167"/>
                  <a:pt x="114184" y="16656"/>
                </a:cubicBezTo>
                <a:lnTo>
                  <a:pt x="114184" y="105993"/>
                </a:lnTo>
                <a:close/>
                <a:moveTo>
                  <a:pt x="102746" y="16656"/>
                </a:moveTo>
                <a:lnTo>
                  <a:pt x="102746" y="16656"/>
                </a:lnTo>
                <a:cubicBezTo>
                  <a:pt x="99838" y="16656"/>
                  <a:pt x="96930" y="16656"/>
                  <a:pt x="96930" y="19495"/>
                </a:cubicBezTo>
                <a:cubicBezTo>
                  <a:pt x="96930" y="22334"/>
                  <a:pt x="99838" y="22334"/>
                  <a:pt x="102746" y="22334"/>
                </a:cubicBezTo>
                <a:cubicBezTo>
                  <a:pt x="102746" y="22334"/>
                  <a:pt x="105654" y="22334"/>
                  <a:pt x="105654" y="19495"/>
                </a:cubicBezTo>
                <a:cubicBezTo>
                  <a:pt x="105654" y="16656"/>
                  <a:pt x="102746" y="16656"/>
                  <a:pt x="102746" y="1665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2" name="Shape 4714"/>
          <p:cNvSpPr/>
          <p:nvPr/>
        </p:nvSpPr>
        <p:spPr>
          <a:xfrm>
            <a:off x="5108400" y="2557440"/>
            <a:ext cx="204840" cy="304920"/>
          </a:xfrm>
          <a:custGeom>
            <a:avLst/>
            <a:gdLst>
              <a:gd name="textAreaLeft" fmla="*/ 0 w 204840"/>
              <a:gd name="textAreaRight" fmla="*/ 205200 w 20484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3" name="Shape 4715"/>
          <p:cNvSpPr/>
          <p:nvPr/>
        </p:nvSpPr>
        <p:spPr>
          <a:xfrm>
            <a:off x="4570560" y="255744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111293" y="55646"/>
                </a:moveTo>
                <a:lnTo>
                  <a:pt x="111293" y="55646"/>
                </a:lnTo>
                <a:cubicBezTo>
                  <a:pt x="111293" y="52996"/>
                  <a:pt x="111293" y="52996"/>
                  <a:pt x="111293" y="50157"/>
                </a:cubicBezTo>
                <a:cubicBezTo>
                  <a:pt x="111293" y="22334"/>
                  <a:pt x="89148" y="0"/>
                  <a:pt x="58485" y="0"/>
                </a:cubicBezTo>
                <a:cubicBezTo>
                  <a:pt x="30662" y="0"/>
                  <a:pt x="8328" y="22334"/>
                  <a:pt x="8328" y="50157"/>
                </a:cubicBezTo>
                <a:cubicBezTo>
                  <a:pt x="8328" y="52996"/>
                  <a:pt x="8328" y="52996"/>
                  <a:pt x="8328" y="55646"/>
                </a:cubicBezTo>
                <a:cubicBezTo>
                  <a:pt x="2649" y="58485"/>
                  <a:pt x="0" y="61324"/>
                  <a:pt x="0" y="66813"/>
                </a:cubicBezTo>
                <a:cubicBezTo>
                  <a:pt x="0" y="89148"/>
                  <a:pt x="0" y="89148"/>
                  <a:pt x="0" y="89148"/>
                </a:cubicBezTo>
                <a:cubicBezTo>
                  <a:pt x="0" y="97476"/>
                  <a:pt x="5488" y="105993"/>
                  <a:pt x="13817" y="105993"/>
                </a:cubicBezTo>
                <a:lnTo>
                  <a:pt x="30662" y="105993"/>
                </a:lnTo>
                <a:cubicBezTo>
                  <a:pt x="38990" y="105993"/>
                  <a:pt x="44479" y="97476"/>
                  <a:pt x="44479" y="89148"/>
                </a:cubicBezTo>
                <a:cubicBezTo>
                  <a:pt x="44479" y="66813"/>
                  <a:pt x="44479" y="66813"/>
                  <a:pt x="44479" y="66813"/>
                </a:cubicBezTo>
                <a:cubicBezTo>
                  <a:pt x="44479" y="58485"/>
                  <a:pt x="38990" y="52996"/>
                  <a:pt x="30662" y="52996"/>
                </a:cubicBezTo>
                <a:cubicBezTo>
                  <a:pt x="30662" y="52996"/>
                  <a:pt x="16656" y="52996"/>
                  <a:pt x="13817" y="52996"/>
                </a:cubicBezTo>
                <a:cubicBezTo>
                  <a:pt x="13817" y="27823"/>
                  <a:pt x="33312" y="8328"/>
                  <a:pt x="58485" y="8328"/>
                </a:cubicBezTo>
                <a:cubicBezTo>
                  <a:pt x="83659" y="8328"/>
                  <a:pt x="102965" y="25173"/>
                  <a:pt x="102965" y="52996"/>
                </a:cubicBezTo>
                <a:lnTo>
                  <a:pt x="89148" y="52996"/>
                </a:lnTo>
                <a:cubicBezTo>
                  <a:pt x="80630" y="52996"/>
                  <a:pt x="75141" y="58485"/>
                  <a:pt x="75141" y="66813"/>
                </a:cubicBezTo>
                <a:cubicBezTo>
                  <a:pt x="75141" y="89148"/>
                  <a:pt x="75141" y="89148"/>
                  <a:pt x="75141" y="89148"/>
                </a:cubicBezTo>
                <a:cubicBezTo>
                  <a:pt x="75141" y="97476"/>
                  <a:pt x="80630" y="105993"/>
                  <a:pt x="89148" y="105993"/>
                </a:cubicBezTo>
                <a:lnTo>
                  <a:pt x="97476" y="105993"/>
                </a:lnTo>
                <a:cubicBezTo>
                  <a:pt x="97476" y="116971"/>
                  <a:pt x="97476" y="116971"/>
                  <a:pt x="97476" y="116971"/>
                </a:cubicBezTo>
                <a:cubicBezTo>
                  <a:pt x="97476" y="116971"/>
                  <a:pt x="97476" y="119810"/>
                  <a:pt x="100315" y="119810"/>
                </a:cubicBezTo>
                <a:cubicBezTo>
                  <a:pt x="102965" y="119810"/>
                  <a:pt x="102965" y="116971"/>
                  <a:pt x="102965" y="116971"/>
                </a:cubicBezTo>
                <a:cubicBezTo>
                  <a:pt x="102965" y="105993"/>
                  <a:pt x="102965" y="105993"/>
                  <a:pt x="102965" y="105993"/>
                </a:cubicBezTo>
                <a:cubicBezTo>
                  <a:pt x="111293" y="105993"/>
                  <a:pt x="119810" y="97476"/>
                  <a:pt x="119810" y="89148"/>
                </a:cubicBezTo>
                <a:cubicBezTo>
                  <a:pt x="119810" y="66813"/>
                  <a:pt x="119810" y="66813"/>
                  <a:pt x="119810" y="66813"/>
                </a:cubicBezTo>
                <a:cubicBezTo>
                  <a:pt x="119810" y="61324"/>
                  <a:pt x="116971" y="58485"/>
                  <a:pt x="111293" y="55646"/>
                </a:cubicBezTo>
                <a:close/>
                <a:moveTo>
                  <a:pt x="24984" y="61324"/>
                </a:moveTo>
                <a:lnTo>
                  <a:pt x="24984" y="61324"/>
                </a:lnTo>
                <a:cubicBezTo>
                  <a:pt x="30662" y="61324"/>
                  <a:pt x="30662" y="61324"/>
                  <a:pt x="30662" y="61324"/>
                </a:cubicBezTo>
                <a:cubicBezTo>
                  <a:pt x="33312" y="61324"/>
                  <a:pt x="36151" y="64164"/>
                  <a:pt x="36151" y="66813"/>
                </a:cubicBezTo>
                <a:cubicBezTo>
                  <a:pt x="36151" y="89148"/>
                  <a:pt x="36151" y="89148"/>
                  <a:pt x="36151" y="89148"/>
                </a:cubicBezTo>
                <a:cubicBezTo>
                  <a:pt x="36151" y="94826"/>
                  <a:pt x="33312" y="97476"/>
                  <a:pt x="30662" y="97476"/>
                </a:cubicBezTo>
                <a:cubicBezTo>
                  <a:pt x="27823" y="97476"/>
                  <a:pt x="27823" y="97476"/>
                  <a:pt x="27823" y="97476"/>
                </a:cubicBezTo>
                <a:cubicBezTo>
                  <a:pt x="24984" y="91987"/>
                  <a:pt x="22145" y="83659"/>
                  <a:pt x="22145" y="77981"/>
                </a:cubicBezTo>
                <a:cubicBezTo>
                  <a:pt x="22145" y="72492"/>
                  <a:pt x="22145" y="66813"/>
                  <a:pt x="24984" y="61324"/>
                </a:cubicBezTo>
                <a:close/>
                <a:moveTo>
                  <a:pt x="16656" y="61324"/>
                </a:moveTo>
                <a:lnTo>
                  <a:pt x="16656" y="61324"/>
                </a:lnTo>
                <a:cubicBezTo>
                  <a:pt x="16656" y="66813"/>
                  <a:pt x="13817" y="72492"/>
                  <a:pt x="13817" y="77981"/>
                </a:cubicBezTo>
                <a:cubicBezTo>
                  <a:pt x="13817" y="83659"/>
                  <a:pt x="16656" y="91987"/>
                  <a:pt x="19495" y="97476"/>
                </a:cubicBezTo>
                <a:cubicBezTo>
                  <a:pt x="13817" y="97476"/>
                  <a:pt x="13817" y="97476"/>
                  <a:pt x="13817" y="97476"/>
                </a:cubicBezTo>
                <a:cubicBezTo>
                  <a:pt x="11167" y="97476"/>
                  <a:pt x="8328" y="94826"/>
                  <a:pt x="8328" y="89148"/>
                </a:cubicBezTo>
                <a:cubicBezTo>
                  <a:pt x="8328" y="66813"/>
                  <a:pt x="8328" y="66813"/>
                  <a:pt x="8328" y="66813"/>
                </a:cubicBezTo>
                <a:cubicBezTo>
                  <a:pt x="8328" y="64164"/>
                  <a:pt x="11167" y="61324"/>
                  <a:pt x="13817" y="61324"/>
                </a:cubicBezTo>
                <a:lnTo>
                  <a:pt x="16656" y="61324"/>
                </a:lnTo>
                <a:close/>
                <a:moveTo>
                  <a:pt x="91798" y="97476"/>
                </a:moveTo>
                <a:lnTo>
                  <a:pt x="91798" y="97476"/>
                </a:lnTo>
                <a:cubicBezTo>
                  <a:pt x="89148" y="97476"/>
                  <a:pt x="89148" y="97476"/>
                  <a:pt x="89148" y="97476"/>
                </a:cubicBezTo>
                <a:cubicBezTo>
                  <a:pt x="86309" y="97476"/>
                  <a:pt x="80630" y="94826"/>
                  <a:pt x="80630" y="89148"/>
                </a:cubicBezTo>
                <a:cubicBezTo>
                  <a:pt x="80630" y="66813"/>
                  <a:pt x="80630" y="66813"/>
                  <a:pt x="80630" y="66813"/>
                </a:cubicBezTo>
                <a:cubicBezTo>
                  <a:pt x="80630" y="64164"/>
                  <a:pt x="86309" y="61324"/>
                  <a:pt x="89148" y="61324"/>
                </a:cubicBezTo>
                <a:cubicBezTo>
                  <a:pt x="94637" y="61324"/>
                  <a:pt x="94637" y="61324"/>
                  <a:pt x="94637" y="61324"/>
                </a:cubicBezTo>
                <a:cubicBezTo>
                  <a:pt x="94637" y="66813"/>
                  <a:pt x="97476" y="72492"/>
                  <a:pt x="97476" y="77981"/>
                </a:cubicBezTo>
                <a:cubicBezTo>
                  <a:pt x="97476" y="83659"/>
                  <a:pt x="94637" y="91987"/>
                  <a:pt x="91798" y="97476"/>
                </a:cubicBezTo>
                <a:close/>
                <a:moveTo>
                  <a:pt x="111293" y="89148"/>
                </a:moveTo>
                <a:lnTo>
                  <a:pt x="111293" y="89148"/>
                </a:lnTo>
                <a:cubicBezTo>
                  <a:pt x="111293" y="94826"/>
                  <a:pt x="108643" y="97476"/>
                  <a:pt x="102965" y="97476"/>
                </a:cubicBezTo>
                <a:cubicBezTo>
                  <a:pt x="100315" y="97476"/>
                  <a:pt x="100315" y="97476"/>
                  <a:pt x="100315" y="97476"/>
                </a:cubicBezTo>
                <a:cubicBezTo>
                  <a:pt x="102965" y="91987"/>
                  <a:pt x="102965" y="83659"/>
                  <a:pt x="102965" y="77981"/>
                </a:cubicBezTo>
                <a:cubicBezTo>
                  <a:pt x="102965" y="72492"/>
                  <a:pt x="102965" y="66813"/>
                  <a:pt x="100315" y="61324"/>
                </a:cubicBezTo>
                <a:cubicBezTo>
                  <a:pt x="102965" y="61324"/>
                  <a:pt x="102965" y="61324"/>
                  <a:pt x="102965" y="61324"/>
                </a:cubicBezTo>
                <a:cubicBezTo>
                  <a:pt x="108643" y="61324"/>
                  <a:pt x="111293" y="64164"/>
                  <a:pt x="111293" y="66813"/>
                </a:cubicBezTo>
                <a:lnTo>
                  <a:pt x="111293" y="8914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4" name="Shape 4716"/>
          <p:cNvSpPr/>
          <p:nvPr/>
        </p:nvSpPr>
        <p:spPr>
          <a:xfrm>
            <a:off x="4089240" y="2557440"/>
            <a:ext cx="284400" cy="304920"/>
          </a:xfrm>
          <a:custGeom>
            <a:avLst/>
            <a:gdLst>
              <a:gd name="textAreaLeft" fmla="*/ 0 w 284400"/>
              <a:gd name="textAreaRight" fmla="*/ 284760 w 28440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5" name="Shape 4717"/>
          <p:cNvSpPr/>
          <p:nvPr/>
        </p:nvSpPr>
        <p:spPr>
          <a:xfrm>
            <a:off x="3587760" y="25574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94826" y="44479"/>
                </a:moveTo>
                <a:lnTo>
                  <a:pt x="94826" y="44479"/>
                </a:lnTo>
                <a:cubicBezTo>
                  <a:pt x="86498" y="44479"/>
                  <a:pt x="83659" y="50157"/>
                  <a:pt x="83659" y="55646"/>
                </a:cubicBezTo>
                <a:cubicBezTo>
                  <a:pt x="83659" y="64164"/>
                  <a:pt x="86498" y="66813"/>
                  <a:pt x="94826" y="66813"/>
                </a:cubicBezTo>
                <a:cubicBezTo>
                  <a:pt x="100315" y="66813"/>
                  <a:pt x="105993" y="64164"/>
                  <a:pt x="105993" y="55646"/>
                </a:cubicBezTo>
                <a:cubicBezTo>
                  <a:pt x="105993" y="50157"/>
                  <a:pt x="100315" y="44479"/>
                  <a:pt x="94826" y="44479"/>
                </a:cubicBezTo>
                <a:close/>
                <a:moveTo>
                  <a:pt x="97665" y="61324"/>
                </a:moveTo>
                <a:lnTo>
                  <a:pt x="97665" y="61324"/>
                </a:lnTo>
                <a:cubicBezTo>
                  <a:pt x="89148" y="61324"/>
                  <a:pt x="89148" y="61324"/>
                  <a:pt x="89148" y="61324"/>
                </a:cubicBezTo>
                <a:cubicBezTo>
                  <a:pt x="89148" y="52996"/>
                  <a:pt x="89148" y="52996"/>
                  <a:pt x="89148" y="52996"/>
                </a:cubicBezTo>
                <a:cubicBezTo>
                  <a:pt x="97665" y="52996"/>
                  <a:pt x="97665" y="52996"/>
                  <a:pt x="97665" y="52996"/>
                </a:cubicBezTo>
                <a:lnTo>
                  <a:pt x="97665" y="61324"/>
                </a:lnTo>
                <a:close/>
                <a:moveTo>
                  <a:pt x="100315" y="97476"/>
                </a:moveTo>
                <a:lnTo>
                  <a:pt x="100315" y="97476"/>
                </a:lnTo>
                <a:cubicBezTo>
                  <a:pt x="86498" y="97476"/>
                  <a:pt x="86498" y="97476"/>
                  <a:pt x="86498" y="97476"/>
                </a:cubicBezTo>
                <a:cubicBezTo>
                  <a:pt x="83659" y="97476"/>
                  <a:pt x="83659" y="100315"/>
                  <a:pt x="83659" y="100315"/>
                </a:cubicBezTo>
                <a:cubicBezTo>
                  <a:pt x="83659" y="103154"/>
                  <a:pt x="83659" y="105993"/>
                  <a:pt x="86498" y="105993"/>
                </a:cubicBezTo>
                <a:cubicBezTo>
                  <a:pt x="100315" y="105993"/>
                  <a:pt x="100315" y="105993"/>
                  <a:pt x="100315" y="105993"/>
                </a:cubicBezTo>
                <a:cubicBezTo>
                  <a:pt x="103154" y="105993"/>
                  <a:pt x="105993" y="103154"/>
                  <a:pt x="105993" y="100315"/>
                </a:cubicBezTo>
                <a:cubicBezTo>
                  <a:pt x="105993" y="100315"/>
                  <a:pt x="103154" y="97476"/>
                  <a:pt x="100315" y="97476"/>
                </a:cubicBezTo>
                <a:close/>
                <a:moveTo>
                  <a:pt x="67003" y="44479"/>
                </a:moveTo>
                <a:lnTo>
                  <a:pt x="67003" y="44479"/>
                </a:lnTo>
                <a:cubicBezTo>
                  <a:pt x="22334" y="44479"/>
                  <a:pt x="22334" y="44479"/>
                  <a:pt x="22334" y="44479"/>
                </a:cubicBezTo>
                <a:cubicBezTo>
                  <a:pt x="19495" y="44479"/>
                  <a:pt x="16845" y="50157"/>
                  <a:pt x="16845" y="52996"/>
                </a:cubicBezTo>
                <a:cubicBezTo>
                  <a:pt x="16845" y="97476"/>
                  <a:pt x="16845" y="97476"/>
                  <a:pt x="16845" y="97476"/>
                </a:cubicBezTo>
                <a:cubicBezTo>
                  <a:pt x="16845" y="100315"/>
                  <a:pt x="19495" y="105993"/>
                  <a:pt x="22334" y="105993"/>
                </a:cubicBezTo>
                <a:cubicBezTo>
                  <a:pt x="67003" y="105993"/>
                  <a:pt x="67003" y="105993"/>
                  <a:pt x="67003" y="105993"/>
                </a:cubicBezTo>
                <a:cubicBezTo>
                  <a:pt x="72492" y="105993"/>
                  <a:pt x="75331" y="100315"/>
                  <a:pt x="75331" y="97476"/>
                </a:cubicBezTo>
                <a:cubicBezTo>
                  <a:pt x="75331" y="52996"/>
                  <a:pt x="75331" y="52996"/>
                  <a:pt x="75331" y="52996"/>
                </a:cubicBezTo>
                <a:cubicBezTo>
                  <a:pt x="75331" y="50157"/>
                  <a:pt x="72492" y="44479"/>
                  <a:pt x="67003" y="44479"/>
                </a:cubicBezTo>
                <a:close/>
                <a:moveTo>
                  <a:pt x="67003" y="94826"/>
                </a:moveTo>
                <a:lnTo>
                  <a:pt x="67003" y="94826"/>
                </a:lnTo>
                <a:cubicBezTo>
                  <a:pt x="67003" y="94826"/>
                  <a:pt x="67003" y="97476"/>
                  <a:pt x="64164" y="97476"/>
                </a:cubicBezTo>
                <a:cubicBezTo>
                  <a:pt x="28012" y="97476"/>
                  <a:pt x="28012" y="97476"/>
                  <a:pt x="28012" y="97476"/>
                </a:cubicBezTo>
                <a:cubicBezTo>
                  <a:pt x="25173" y="97476"/>
                  <a:pt x="22334" y="94826"/>
                  <a:pt x="22334" y="94826"/>
                </a:cubicBezTo>
                <a:cubicBezTo>
                  <a:pt x="22334" y="55646"/>
                  <a:pt x="22334" y="55646"/>
                  <a:pt x="22334" y="55646"/>
                </a:cubicBezTo>
                <a:cubicBezTo>
                  <a:pt x="22334" y="55646"/>
                  <a:pt x="25173" y="52996"/>
                  <a:pt x="28012" y="52996"/>
                </a:cubicBezTo>
                <a:cubicBezTo>
                  <a:pt x="64164" y="52996"/>
                  <a:pt x="64164" y="52996"/>
                  <a:pt x="64164" y="52996"/>
                </a:cubicBezTo>
                <a:cubicBezTo>
                  <a:pt x="67003" y="52996"/>
                  <a:pt x="67003" y="55646"/>
                  <a:pt x="67003" y="55646"/>
                </a:cubicBezTo>
                <a:lnTo>
                  <a:pt x="67003" y="94826"/>
                </a:lnTo>
                <a:close/>
                <a:moveTo>
                  <a:pt x="100315" y="86309"/>
                </a:moveTo>
                <a:lnTo>
                  <a:pt x="100315" y="86309"/>
                </a:lnTo>
                <a:cubicBezTo>
                  <a:pt x="86498" y="86309"/>
                  <a:pt x="86498" y="86309"/>
                  <a:pt x="86498" y="86309"/>
                </a:cubicBezTo>
                <a:cubicBezTo>
                  <a:pt x="83659" y="86309"/>
                  <a:pt x="83659" y="89148"/>
                  <a:pt x="83659" y="89148"/>
                </a:cubicBezTo>
                <a:cubicBezTo>
                  <a:pt x="83659" y="91987"/>
                  <a:pt x="83659" y="94826"/>
                  <a:pt x="86498" y="94826"/>
                </a:cubicBezTo>
                <a:cubicBezTo>
                  <a:pt x="100315" y="94826"/>
                  <a:pt x="100315" y="94826"/>
                  <a:pt x="100315" y="94826"/>
                </a:cubicBezTo>
                <a:cubicBezTo>
                  <a:pt x="103154" y="94826"/>
                  <a:pt x="105993" y="91987"/>
                  <a:pt x="105993" y="89148"/>
                </a:cubicBezTo>
                <a:cubicBezTo>
                  <a:pt x="105993" y="89148"/>
                  <a:pt x="103154" y="86309"/>
                  <a:pt x="100315" y="86309"/>
                </a:cubicBezTo>
                <a:close/>
                <a:moveTo>
                  <a:pt x="105993" y="30662"/>
                </a:moveTo>
                <a:lnTo>
                  <a:pt x="105993" y="30662"/>
                </a:lnTo>
                <a:cubicBezTo>
                  <a:pt x="69842" y="30662"/>
                  <a:pt x="69842" y="30662"/>
                  <a:pt x="69842" y="30662"/>
                </a:cubicBezTo>
                <a:cubicBezTo>
                  <a:pt x="103154" y="8328"/>
                  <a:pt x="103154" y="8328"/>
                  <a:pt x="103154" y="8328"/>
                </a:cubicBezTo>
                <a:cubicBezTo>
                  <a:pt x="105993" y="8328"/>
                  <a:pt x="105993" y="5678"/>
                  <a:pt x="103154" y="2839"/>
                </a:cubicBezTo>
                <a:cubicBezTo>
                  <a:pt x="103154" y="0"/>
                  <a:pt x="100315" y="0"/>
                  <a:pt x="100315" y="2839"/>
                </a:cubicBezTo>
                <a:cubicBezTo>
                  <a:pt x="100315" y="2839"/>
                  <a:pt x="64164" y="25173"/>
                  <a:pt x="61324" y="27823"/>
                </a:cubicBezTo>
                <a:cubicBezTo>
                  <a:pt x="22334" y="2839"/>
                  <a:pt x="22334" y="2839"/>
                  <a:pt x="22334" y="2839"/>
                </a:cubicBezTo>
                <a:cubicBezTo>
                  <a:pt x="19495" y="0"/>
                  <a:pt x="16845" y="0"/>
                  <a:pt x="16845" y="2839"/>
                </a:cubicBezTo>
                <a:cubicBezTo>
                  <a:pt x="16845" y="5678"/>
                  <a:pt x="16845" y="8328"/>
                  <a:pt x="16845" y="8328"/>
                </a:cubicBezTo>
                <a:cubicBezTo>
                  <a:pt x="50157" y="30662"/>
                  <a:pt x="50157" y="30662"/>
                  <a:pt x="50157" y="30662"/>
                </a:cubicBezTo>
                <a:cubicBezTo>
                  <a:pt x="16845" y="30662"/>
                  <a:pt x="16845" y="30662"/>
                  <a:pt x="16845" y="30662"/>
                </a:cubicBezTo>
                <a:cubicBezTo>
                  <a:pt x="8517" y="30662"/>
                  <a:pt x="0" y="36340"/>
                  <a:pt x="0" y="44479"/>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44479"/>
                  <a:pt x="119810" y="44479"/>
                  <a:pt x="119810" y="44479"/>
                </a:cubicBezTo>
                <a:cubicBezTo>
                  <a:pt x="119810" y="36340"/>
                  <a:pt x="114321" y="30662"/>
                  <a:pt x="105993" y="30662"/>
                </a:cubicBezTo>
                <a:close/>
                <a:moveTo>
                  <a:pt x="111482" y="105993"/>
                </a:moveTo>
                <a:lnTo>
                  <a:pt x="111482" y="105993"/>
                </a:lnTo>
                <a:cubicBezTo>
                  <a:pt x="111482" y="108643"/>
                  <a:pt x="108832" y="111482"/>
                  <a:pt x="105993" y="111482"/>
                </a:cubicBezTo>
                <a:cubicBezTo>
                  <a:pt x="16845" y="111482"/>
                  <a:pt x="16845" y="111482"/>
                  <a:pt x="16845" y="111482"/>
                </a:cubicBezTo>
                <a:cubicBezTo>
                  <a:pt x="11167" y="111482"/>
                  <a:pt x="8517" y="108643"/>
                  <a:pt x="8517" y="105993"/>
                </a:cubicBezTo>
                <a:cubicBezTo>
                  <a:pt x="8517" y="44479"/>
                  <a:pt x="8517" y="44479"/>
                  <a:pt x="8517" y="44479"/>
                </a:cubicBezTo>
                <a:cubicBezTo>
                  <a:pt x="8517" y="41829"/>
                  <a:pt x="11167" y="38990"/>
                  <a:pt x="16845" y="38990"/>
                </a:cubicBezTo>
                <a:cubicBezTo>
                  <a:pt x="105993" y="38990"/>
                  <a:pt x="105993" y="38990"/>
                  <a:pt x="105993" y="38990"/>
                </a:cubicBezTo>
                <a:cubicBezTo>
                  <a:pt x="108832" y="38990"/>
                  <a:pt x="111482" y="41829"/>
                  <a:pt x="111482" y="44479"/>
                </a:cubicBezTo>
                <a:lnTo>
                  <a:pt x="111482"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6" name="Shape 4718"/>
          <p:cNvSpPr/>
          <p:nvPr/>
        </p:nvSpPr>
        <p:spPr>
          <a:xfrm>
            <a:off x="3100320" y="257796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7" name="Shape 4719"/>
          <p:cNvSpPr/>
          <p:nvPr/>
        </p:nvSpPr>
        <p:spPr>
          <a:xfrm>
            <a:off x="2646360" y="2568600"/>
            <a:ext cx="227160" cy="284040"/>
          </a:xfrm>
          <a:custGeom>
            <a:avLst/>
            <a:gdLst>
              <a:gd name="textAreaLeft" fmla="*/ 0 w 227160"/>
              <a:gd name="textAreaRight" fmla="*/ 227520 w 227160"/>
              <a:gd name="textAreaTop" fmla="*/ 0 h 284040"/>
              <a:gd name="textAreaBottom" fmla="*/ 284400 h 284040"/>
            </a:gdLst>
            <a:ahLst/>
            <a:rect l="textAreaLeft" t="textAreaTop" r="textAreaRight" b="textAreaBottom"/>
            <a:pathLst>
              <a:path w="120000" h="120000">
                <a:moveTo>
                  <a:pt x="100972" y="0"/>
                </a:moveTo>
                <a:lnTo>
                  <a:pt x="100972" y="0"/>
                </a:lnTo>
                <a:cubicBezTo>
                  <a:pt x="18773" y="0"/>
                  <a:pt x="18773" y="0"/>
                  <a:pt x="18773" y="0"/>
                </a:cubicBezTo>
                <a:cubicBezTo>
                  <a:pt x="7610" y="0"/>
                  <a:pt x="0" y="5908"/>
                  <a:pt x="0" y="14872"/>
                </a:cubicBezTo>
                <a:cubicBezTo>
                  <a:pt x="0" y="119796"/>
                  <a:pt x="0" y="119796"/>
                  <a:pt x="0" y="119796"/>
                </a:cubicBezTo>
                <a:cubicBezTo>
                  <a:pt x="11416" y="119796"/>
                  <a:pt x="7610" y="119796"/>
                  <a:pt x="18773" y="119796"/>
                </a:cubicBezTo>
                <a:cubicBezTo>
                  <a:pt x="100972" y="119796"/>
                  <a:pt x="100972" y="119796"/>
                  <a:pt x="100972" y="119796"/>
                </a:cubicBezTo>
                <a:cubicBezTo>
                  <a:pt x="112135" y="119796"/>
                  <a:pt x="104778" y="119796"/>
                  <a:pt x="119746" y="119796"/>
                </a:cubicBezTo>
                <a:cubicBezTo>
                  <a:pt x="119746" y="14872"/>
                  <a:pt x="119746" y="14872"/>
                  <a:pt x="119746" y="14872"/>
                </a:cubicBezTo>
                <a:cubicBezTo>
                  <a:pt x="119746" y="5908"/>
                  <a:pt x="112135" y="0"/>
                  <a:pt x="100972" y="0"/>
                </a:cubicBezTo>
                <a:close/>
                <a:moveTo>
                  <a:pt x="18773" y="110831"/>
                </a:moveTo>
                <a:lnTo>
                  <a:pt x="18773" y="110831"/>
                </a:lnTo>
                <a:cubicBezTo>
                  <a:pt x="11416" y="110831"/>
                  <a:pt x="11416" y="110831"/>
                  <a:pt x="11416" y="110831"/>
                </a:cubicBezTo>
                <a:cubicBezTo>
                  <a:pt x="11416" y="101867"/>
                  <a:pt x="11416" y="101867"/>
                  <a:pt x="11416" y="101867"/>
                </a:cubicBezTo>
                <a:cubicBezTo>
                  <a:pt x="18773" y="101867"/>
                  <a:pt x="18773" y="101867"/>
                  <a:pt x="18773" y="101867"/>
                </a:cubicBezTo>
                <a:lnTo>
                  <a:pt x="18773" y="110831"/>
                </a:lnTo>
                <a:close/>
                <a:moveTo>
                  <a:pt x="18773" y="95959"/>
                </a:moveTo>
                <a:lnTo>
                  <a:pt x="18773" y="95959"/>
                </a:lnTo>
                <a:cubicBezTo>
                  <a:pt x="11416" y="95959"/>
                  <a:pt x="11416" y="95959"/>
                  <a:pt x="11416" y="95959"/>
                </a:cubicBezTo>
                <a:cubicBezTo>
                  <a:pt x="11416" y="86791"/>
                  <a:pt x="11416" y="86791"/>
                  <a:pt x="11416" y="86791"/>
                </a:cubicBezTo>
                <a:cubicBezTo>
                  <a:pt x="18773" y="86791"/>
                  <a:pt x="18773" y="86791"/>
                  <a:pt x="18773" y="86791"/>
                </a:cubicBezTo>
                <a:lnTo>
                  <a:pt x="18773" y="95959"/>
                </a:lnTo>
                <a:close/>
                <a:moveTo>
                  <a:pt x="18773" y="77826"/>
                </a:moveTo>
                <a:lnTo>
                  <a:pt x="18773" y="77826"/>
                </a:lnTo>
                <a:cubicBezTo>
                  <a:pt x="11416" y="77826"/>
                  <a:pt x="11416" y="77826"/>
                  <a:pt x="11416" y="77826"/>
                </a:cubicBezTo>
                <a:cubicBezTo>
                  <a:pt x="11416" y="71918"/>
                  <a:pt x="11416" y="71918"/>
                  <a:pt x="11416" y="71918"/>
                </a:cubicBezTo>
                <a:cubicBezTo>
                  <a:pt x="18773" y="71918"/>
                  <a:pt x="18773" y="71918"/>
                  <a:pt x="18773" y="71918"/>
                </a:cubicBezTo>
                <a:lnTo>
                  <a:pt x="18773" y="77826"/>
                </a:lnTo>
                <a:close/>
                <a:moveTo>
                  <a:pt x="18773" y="62954"/>
                </a:moveTo>
                <a:lnTo>
                  <a:pt x="18773" y="62954"/>
                </a:lnTo>
                <a:cubicBezTo>
                  <a:pt x="11416" y="62954"/>
                  <a:pt x="11416" y="62954"/>
                  <a:pt x="11416" y="62954"/>
                </a:cubicBezTo>
                <a:cubicBezTo>
                  <a:pt x="11416" y="53786"/>
                  <a:pt x="11416" y="53786"/>
                  <a:pt x="11416" y="53786"/>
                </a:cubicBezTo>
                <a:cubicBezTo>
                  <a:pt x="18773" y="53786"/>
                  <a:pt x="18773" y="53786"/>
                  <a:pt x="18773" y="53786"/>
                </a:cubicBezTo>
                <a:lnTo>
                  <a:pt x="18773" y="62954"/>
                </a:lnTo>
                <a:close/>
                <a:moveTo>
                  <a:pt x="18773" y="47877"/>
                </a:moveTo>
                <a:lnTo>
                  <a:pt x="18773" y="47877"/>
                </a:lnTo>
                <a:cubicBezTo>
                  <a:pt x="11416" y="47877"/>
                  <a:pt x="11416" y="47877"/>
                  <a:pt x="11416" y="47877"/>
                </a:cubicBezTo>
                <a:cubicBezTo>
                  <a:pt x="11416" y="38913"/>
                  <a:pt x="11416" y="38913"/>
                  <a:pt x="11416" y="38913"/>
                </a:cubicBezTo>
                <a:cubicBezTo>
                  <a:pt x="18773" y="38913"/>
                  <a:pt x="18773" y="38913"/>
                  <a:pt x="18773" y="38913"/>
                </a:cubicBezTo>
                <a:lnTo>
                  <a:pt x="18773" y="47877"/>
                </a:lnTo>
                <a:close/>
                <a:moveTo>
                  <a:pt x="18773" y="29949"/>
                </a:moveTo>
                <a:lnTo>
                  <a:pt x="18773" y="29949"/>
                </a:lnTo>
                <a:cubicBezTo>
                  <a:pt x="11416" y="29949"/>
                  <a:pt x="11416" y="29949"/>
                  <a:pt x="11416" y="29949"/>
                </a:cubicBezTo>
                <a:cubicBezTo>
                  <a:pt x="11416" y="23837"/>
                  <a:pt x="11416" y="23837"/>
                  <a:pt x="11416" y="23837"/>
                </a:cubicBezTo>
                <a:cubicBezTo>
                  <a:pt x="18773" y="23837"/>
                  <a:pt x="18773" y="23837"/>
                  <a:pt x="18773" y="23837"/>
                </a:cubicBezTo>
                <a:lnTo>
                  <a:pt x="18773" y="29949"/>
                </a:lnTo>
                <a:close/>
                <a:moveTo>
                  <a:pt x="89809" y="107979"/>
                </a:moveTo>
                <a:lnTo>
                  <a:pt x="89809" y="107979"/>
                </a:lnTo>
                <a:lnTo>
                  <a:pt x="86004" y="110831"/>
                </a:lnTo>
                <a:cubicBezTo>
                  <a:pt x="33742" y="110831"/>
                  <a:pt x="33742" y="110831"/>
                  <a:pt x="33742" y="110831"/>
                </a:cubicBezTo>
                <a:lnTo>
                  <a:pt x="29936" y="107979"/>
                </a:lnTo>
                <a:cubicBezTo>
                  <a:pt x="29936" y="65806"/>
                  <a:pt x="29936" y="65806"/>
                  <a:pt x="29936" y="65806"/>
                </a:cubicBezTo>
                <a:lnTo>
                  <a:pt x="33742" y="62954"/>
                </a:lnTo>
                <a:cubicBezTo>
                  <a:pt x="86004" y="62954"/>
                  <a:pt x="86004" y="62954"/>
                  <a:pt x="86004" y="62954"/>
                </a:cubicBezTo>
                <a:lnTo>
                  <a:pt x="89809" y="65806"/>
                </a:lnTo>
                <a:lnTo>
                  <a:pt x="89809" y="107979"/>
                </a:lnTo>
                <a:close/>
                <a:moveTo>
                  <a:pt x="89809" y="50933"/>
                </a:moveTo>
                <a:lnTo>
                  <a:pt x="89809" y="50933"/>
                </a:lnTo>
                <a:cubicBezTo>
                  <a:pt x="89809" y="53786"/>
                  <a:pt x="86004" y="53786"/>
                  <a:pt x="86004" y="53786"/>
                </a:cubicBezTo>
                <a:cubicBezTo>
                  <a:pt x="33742" y="53786"/>
                  <a:pt x="33742" y="53786"/>
                  <a:pt x="33742" y="53786"/>
                </a:cubicBezTo>
                <a:cubicBezTo>
                  <a:pt x="33742" y="53786"/>
                  <a:pt x="29936" y="53786"/>
                  <a:pt x="29936" y="50933"/>
                </a:cubicBezTo>
                <a:cubicBezTo>
                  <a:pt x="29936" y="11816"/>
                  <a:pt x="29936" y="11816"/>
                  <a:pt x="29936" y="11816"/>
                </a:cubicBezTo>
                <a:cubicBezTo>
                  <a:pt x="29936" y="8964"/>
                  <a:pt x="33742" y="5908"/>
                  <a:pt x="33742" y="5908"/>
                </a:cubicBezTo>
                <a:cubicBezTo>
                  <a:pt x="86004" y="5908"/>
                  <a:pt x="86004" y="5908"/>
                  <a:pt x="86004" y="5908"/>
                </a:cubicBezTo>
                <a:cubicBezTo>
                  <a:pt x="86004" y="5908"/>
                  <a:pt x="89809" y="8964"/>
                  <a:pt x="89809" y="11816"/>
                </a:cubicBezTo>
                <a:lnTo>
                  <a:pt x="89809" y="50933"/>
                </a:lnTo>
                <a:close/>
                <a:moveTo>
                  <a:pt x="108329" y="110831"/>
                </a:moveTo>
                <a:lnTo>
                  <a:pt x="108329" y="110831"/>
                </a:lnTo>
                <a:cubicBezTo>
                  <a:pt x="100972" y="110831"/>
                  <a:pt x="100972" y="110831"/>
                  <a:pt x="100972" y="110831"/>
                </a:cubicBezTo>
                <a:cubicBezTo>
                  <a:pt x="100972" y="101867"/>
                  <a:pt x="100972" y="101867"/>
                  <a:pt x="100972" y="101867"/>
                </a:cubicBezTo>
                <a:cubicBezTo>
                  <a:pt x="108329" y="101867"/>
                  <a:pt x="108329" y="101867"/>
                  <a:pt x="108329" y="101867"/>
                </a:cubicBezTo>
                <a:lnTo>
                  <a:pt x="108329" y="110831"/>
                </a:lnTo>
                <a:close/>
                <a:moveTo>
                  <a:pt x="108329" y="95959"/>
                </a:moveTo>
                <a:lnTo>
                  <a:pt x="108329" y="95959"/>
                </a:lnTo>
                <a:cubicBezTo>
                  <a:pt x="100972" y="95959"/>
                  <a:pt x="100972" y="95959"/>
                  <a:pt x="100972" y="95959"/>
                </a:cubicBezTo>
                <a:cubicBezTo>
                  <a:pt x="100972" y="86791"/>
                  <a:pt x="100972" y="86791"/>
                  <a:pt x="100972" y="86791"/>
                </a:cubicBezTo>
                <a:cubicBezTo>
                  <a:pt x="108329" y="86791"/>
                  <a:pt x="108329" y="86791"/>
                  <a:pt x="108329" y="86791"/>
                </a:cubicBezTo>
                <a:lnTo>
                  <a:pt x="108329" y="95959"/>
                </a:lnTo>
                <a:close/>
                <a:moveTo>
                  <a:pt x="108329" y="77826"/>
                </a:moveTo>
                <a:lnTo>
                  <a:pt x="108329" y="77826"/>
                </a:lnTo>
                <a:cubicBezTo>
                  <a:pt x="100972" y="77826"/>
                  <a:pt x="100972" y="77826"/>
                  <a:pt x="100972" y="77826"/>
                </a:cubicBezTo>
                <a:cubicBezTo>
                  <a:pt x="100972" y="71918"/>
                  <a:pt x="100972" y="71918"/>
                  <a:pt x="100972" y="71918"/>
                </a:cubicBezTo>
                <a:cubicBezTo>
                  <a:pt x="108329" y="71918"/>
                  <a:pt x="108329" y="71918"/>
                  <a:pt x="108329" y="71918"/>
                </a:cubicBezTo>
                <a:lnTo>
                  <a:pt x="108329" y="77826"/>
                </a:lnTo>
                <a:close/>
                <a:moveTo>
                  <a:pt x="108329" y="62954"/>
                </a:moveTo>
                <a:lnTo>
                  <a:pt x="108329" y="62954"/>
                </a:lnTo>
                <a:cubicBezTo>
                  <a:pt x="100972" y="62954"/>
                  <a:pt x="100972" y="62954"/>
                  <a:pt x="100972" y="62954"/>
                </a:cubicBezTo>
                <a:cubicBezTo>
                  <a:pt x="100972" y="53786"/>
                  <a:pt x="100972" y="53786"/>
                  <a:pt x="100972" y="53786"/>
                </a:cubicBezTo>
                <a:cubicBezTo>
                  <a:pt x="108329" y="53786"/>
                  <a:pt x="108329" y="53786"/>
                  <a:pt x="108329" y="53786"/>
                </a:cubicBezTo>
                <a:lnTo>
                  <a:pt x="108329" y="62954"/>
                </a:lnTo>
                <a:close/>
                <a:moveTo>
                  <a:pt x="108329" y="47877"/>
                </a:moveTo>
                <a:lnTo>
                  <a:pt x="108329" y="47877"/>
                </a:lnTo>
                <a:cubicBezTo>
                  <a:pt x="100972" y="47877"/>
                  <a:pt x="100972" y="47877"/>
                  <a:pt x="100972" y="47877"/>
                </a:cubicBezTo>
                <a:cubicBezTo>
                  <a:pt x="100972" y="38913"/>
                  <a:pt x="100972" y="38913"/>
                  <a:pt x="100972" y="38913"/>
                </a:cubicBezTo>
                <a:cubicBezTo>
                  <a:pt x="108329" y="38913"/>
                  <a:pt x="108329" y="38913"/>
                  <a:pt x="108329" y="38913"/>
                </a:cubicBezTo>
                <a:lnTo>
                  <a:pt x="108329" y="47877"/>
                </a:lnTo>
                <a:close/>
                <a:moveTo>
                  <a:pt x="108329" y="29949"/>
                </a:moveTo>
                <a:lnTo>
                  <a:pt x="108329" y="29949"/>
                </a:lnTo>
                <a:cubicBezTo>
                  <a:pt x="100972" y="29949"/>
                  <a:pt x="100972" y="29949"/>
                  <a:pt x="100972" y="29949"/>
                </a:cubicBezTo>
                <a:cubicBezTo>
                  <a:pt x="100972" y="23837"/>
                  <a:pt x="100972" y="23837"/>
                  <a:pt x="100972" y="23837"/>
                </a:cubicBezTo>
                <a:cubicBezTo>
                  <a:pt x="108329" y="23837"/>
                  <a:pt x="108329" y="23837"/>
                  <a:pt x="108329" y="23837"/>
                </a:cubicBezTo>
                <a:lnTo>
                  <a:pt x="108329" y="299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8" name="Shape 4720"/>
          <p:cNvSpPr/>
          <p:nvPr/>
        </p:nvSpPr>
        <p:spPr>
          <a:xfrm>
            <a:off x="2116080" y="257796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9" name="Shape 4721"/>
          <p:cNvSpPr/>
          <p:nvPr/>
        </p:nvSpPr>
        <p:spPr>
          <a:xfrm>
            <a:off x="1628640" y="255744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102965" y="0"/>
                </a:moveTo>
                <a:lnTo>
                  <a:pt x="102965" y="0"/>
                </a:lnTo>
                <a:cubicBezTo>
                  <a:pt x="13817" y="0"/>
                  <a:pt x="13817" y="0"/>
                  <a:pt x="13817" y="0"/>
                </a:cubicBezTo>
                <a:cubicBezTo>
                  <a:pt x="5488" y="0"/>
                  <a:pt x="0" y="8328"/>
                  <a:pt x="0" y="16656"/>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656"/>
                  <a:pt x="119810" y="16656"/>
                  <a:pt x="119810" y="16656"/>
                </a:cubicBezTo>
                <a:cubicBezTo>
                  <a:pt x="119810" y="8328"/>
                  <a:pt x="111293" y="0"/>
                  <a:pt x="102965" y="0"/>
                </a:cubicBezTo>
                <a:close/>
                <a:moveTo>
                  <a:pt x="30662" y="8328"/>
                </a:moveTo>
                <a:lnTo>
                  <a:pt x="30662" y="8328"/>
                </a:lnTo>
                <a:cubicBezTo>
                  <a:pt x="30662" y="8328"/>
                  <a:pt x="86309" y="8328"/>
                  <a:pt x="89148" y="8328"/>
                </a:cubicBezTo>
                <a:cubicBezTo>
                  <a:pt x="89148" y="41829"/>
                  <a:pt x="89148" y="41829"/>
                  <a:pt x="89148" y="41829"/>
                </a:cubicBezTo>
                <a:cubicBezTo>
                  <a:pt x="89148" y="44479"/>
                  <a:pt x="86309" y="44479"/>
                  <a:pt x="86309" y="44479"/>
                </a:cubicBezTo>
                <a:cubicBezTo>
                  <a:pt x="33312" y="44479"/>
                  <a:pt x="33312" y="44479"/>
                  <a:pt x="33312" y="44479"/>
                </a:cubicBezTo>
                <a:cubicBezTo>
                  <a:pt x="30662" y="44479"/>
                  <a:pt x="30662" y="44479"/>
                  <a:pt x="30662" y="41829"/>
                </a:cubicBezTo>
                <a:lnTo>
                  <a:pt x="30662" y="8328"/>
                </a:lnTo>
                <a:close/>
                <a:moveTo>
                  <a:pt x="111293" y="105993"/>
                </a:moveTo>
                <a:lnTo>
                  <a:pt x="111293" y="105993"/>
                </a:lnTo>
                <a:cubicBezTo>
                  <a:pt x="111293" y="108643"/>
                  <a:pt x="108643" y="111482"/>
                  <a:pt x="102965" y="111482"/>
                </a:cubicBezTo>
                <a:cubicBezTo>
                  <a:pt x="13817" y="111482"/>
                  <a:pt x="13817" y="111482"/>
                  <a:pt x="13817" y="111482"/>
                </a:cubicBezTo>
                <a:cubicBezTo>
                  <a:pt x="10977" y="111482"/>
                  <a:pt x="8328" y="108643"/>
                  <a:pt x="8328" y="105993"/>
                </a:cubicBezTo>
                <a:cubicBezTo>
                  <a:pt x="8328" y="16656"/>
                  <a:pt x="8328" y="16656"/>
                  <a:pt x="8328" y="16656"/>
                </a:cubicBezTo>
                <a:cubicBezTo>
                  <a:pt x="8328" y="11167"/>
                  <a:pt x="10977" y="8328"/>
                  <a:pt x="13817" y="8328"/>
                </a:cubicBezTo>
                <a:cubicBezTo>
                  <a:pt x="22145" y="8328"/>
                  <a:pt x="22145" y="8328"/>
                  <a:pt x="22145" y="8328"/>
                </a:cubicBezTo>
                <a:cubicBezTo>
                  <a:pt x="22145" y="44479"/>
                  <a:pt x="22145" y="44479"/>
                  <a:pt x="22145" y="44479"/>
                </a:cubicBezTo>
                <a:cubicBezTo>
                  <a:pt x="22145" y="50157"/>
                  <a:pt x="24984" y="52996"/>
                  <a:pt x="30662" y="52996"/>
                </a:cubicBezTo>
                <a:cubicBezTo>
                  <a:pt x="89148" y="52996"/>
                  <a:pt x="89148" y="52996"/>
                  <a:pt x="89148" y="52996"/>
                </a:cubicBezTo>
                <a:cubicBezTo>
                  <a:pt x="91798" y="52996"/>
                  <a:pt x="97476" y="50157"/>
                  <a:pt x="97476" y="44479"/>
                </a:cubicBezTo>
                <a:cubicBezTo>
                  <a:pt x="97476" y="8328"/>
                  <a:pt x="97476" y="8328"/>
                  <a:pt x="97476" y="8328"/>
                </a:cubicBezTo>
                <a:cubicBezTo>
                  <a:pt x="102965" y="8328"/>
                  <a:pt x="102965" y="8328"/>
                  <a:pt x="102965" y="8328"/>
                </a:cubicBezTo>
                <a:cubicBezTo>
                  <a:pt x="108643" y="8328"/>
                  <a:pt x="111293" y="11167"/>
                  <a:pt x="111293" y="16656"/>
                </a:cubicBezTo>
                <a:lnTo>
                  <a:pt x="111293" y="105993"/>
                </a:lnTo>
                <a:close/>
                <a:moveTo>
                  <a:pt x="69463" y="38990"/>
                </a:moveTo>
                <a:lnTo>
                  <a:pt x="69463" y="38990"/>
                </a:lnTo>
                <a:cubicBezTo>
                  <a:pt x="72492" y="38990"/>
                  <a:pt x="75141" y="36340"/>
                  <a:pt x="75141" y="33501"/>
                </a:cubicBezTo>
                <a:cubicBezTo>
                  <a:pt x="75141" y="19495"/>
                  <a:pt x="75141" y="19495"/>
                  <a:pt x="75141" y="19495"/>
                </a:cubicBezTo>
                <a:cubicBezTo>
                  <a:pt x="75141" y="16656"/>
                  <a:pt x="72492" y="16656"/>
                  <a:pt x="69463" y="16656"/>
                </a:cubicBezTo>
                <a:cubicBezTo>
                  <a:pt x="69463" y="16656"/>
                  <a:pt x="66813" y="16656"/>
                  <a:pt x="66813" y="19495"/>
                </a:cubicBezTo>
                <a:cubicBezTo>
                  <a:pt x="66813" y="33501"/>
                  <a:pt x="66813" y="33501"/>
                  <a:pt x="66813" y="33501"/>
                </a:cubicBezTo>
                <a:cubicBezTo>
                  <a:pt x="66813" y="36340"/>
                  <a:pt x="69463" y="38990"/>
                  <a:pt x="69463" y="389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0" name="Shape 4722"/>
          <p:cNvSpPr/>
          <p:nvPr/>
        </p:nvSpPr>
        <p:spPr>
          <a:xfrm>
            <a:off x="1197000" y="255744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1" name="Shape 4723"/>
          <p:cNvSpPr/>
          <p:nvPr/>
        </p:nvSpPr>
        <p:spPr>
          <a:xfrm>
            <a:off x="5553000" y="2066760"/>
            <a:ext cx="292320" cy="306720"/>
          </a:xfrm>
          <a:custGeom>
            <a:avLst/>
            <a:gdLst>
              <a:gd name="textAreaLeft" fmla="*/ 0 w 292320"/>
              <a:gd name="textAreaRight" fmla="*/ 292680 w 292320"/>
              <a:gd name="textAreaTop" fmla="*/ 0 h 306720"/>
              <a:gd name="textAreaBottom" fmla="*/ 307080 h 306720"/>
            </a:gdLst>
            <a:ahLst/>
            <a:rect l="textAreaLeft" t="textAreaTop" r="textAreaRight" b="textAreaBottom"/>
            <a:pathLst>
              <a:path w="120000" h="120000">
                <a:moveTo>
                  <a:pt x="105298" y="0"/>
                </a:moveTo>
                <a:lnTo>
                  <a:pt x="105298" y="0"/>
                </a:lnTo>
                <a:cubicBezTo>
                  <a:pt x="14701" y="0"/>
                  <a:pt x="14701" y="0"/>
                  <a:pt x="14701" y="0"/>
                </a:cubicBezTo>
                <a:cubicBezTo>
                  <a:pt x="5761" y="0"/>
                  <a:pt x="0" y="5678"/>
                  <a:pt x="0" y="14006"/>
                </a:cubicBezTo>
                <a:cubicBezTo>
                  <a:pt x="0" y="80820"/>
                  <a:pt x="0" y="80820"/>
                  <a:pt x="0" y="80820"/>
                </a:cubicBezTo>
                <a:cubicBezTo>
                  <a:pt x="0" y="89148"/>
                  <a:pt x="5761" y="97665"/>
                  <a:pt x="14701" y="97665"/>
                </a:cubicBezTo>
                <a:cubicBezTo>
                  <a:pt x="46887" y="97665"/>
                  <a:pt x="46887" y="97665"/>
                  <a:pt x="46887" y="97665"/>
                </a:cubicBezTo>
                <a:cubicBezTo>
                  <a:pt x="46887" y="111482"/>
                  <a:pt x="46887" y="111482"/>
                  <a:pt x="46887" y="111482"/>
                </a:cubicBezTo>
                <a:cubicBezTo>
                  <a:pt x="37947" y="111482"/>
                  <a:pt x="37947" y="111482"/>
                  <a:pt x="37947" y="111482"/>
                </a:cubicBezTo>
                <a:cubicBezTo>
                  <a:pt x="35165" y="111482"/>
                  <a:pt x="35165" y="114321"/>
                  <a:pt x="35165" y="114321"/>
                </a:cubicBezTo>
                <a:cubicBezTo>
                  <a:pt x="35165" y="117160"/>
                  <a:pt x="35165" y="119810"/>
                  <a:pt x="37947" y="119810"/>
                </a:cubicBezTo>
                <a:cubicBezTo>
                  <a:pt x="84834" y="119810"/>
                  <a:pt x="84834" y="119810"/>
                  <a:pt x="84834" y="119810"/>
                </a:cubicBezTo>
                <a:cubicBezTo>
                  <a:pt x="87615" y="119810"/>
                  <a:pt x="87615" y="117160"/>
                  <a:pt x="87615" y="114321"/>
                </a:cubicBezTo>
                <a:cubicBezTo>
                  <a:pt x="87615" y="114321"/>
                  <a:pt x="87615" y="111482"/>
                  <a:pt x="84834" y="111482"/>
                </a:cubicBezTo>
                <a:cubicBezTo>
                  <a:pt x="76092" y="111482"/>
                  <a:pt x="76092" y="111482"/>
                  <a:pt x="76092" y="111482"/>
                </a:cubicBezTo>
                <a:cubicBezTo>
                  <a:pt x="76092" y="97665"/>
                  <a:pt x="76092" y="97665"/>
                  <a:pt x="76092" y="97665"/>
                </a:cubicBezTo>
                <a:cubicBezTo>
                  <a:pt x="105298" y="97665"/>
                  <a:pt x="105298" y="97665"/>
                  <a:pt x="105298" y="97665"/>
                </a:cubicBezTo>
                <a:cubicBezTo>
                  <a:pt x="114039" y="97665"/>
                  <a:pt x="119801" y="89148"/>
                  <a:pt x="119801" y="80820"/>
                </a:cubicBezTo>
                <a:cubicBezTo>
                  <a:pt x="119801" y="14006"/>
                  <a:pt x="119801" y="14006"/>
                  <a:pt x="119801" y="14006"/>
                </a:cubicBezTo>
                <a:cubicBezTo>
                  <a:pt x="119801" y="5678"/>
                  <a:pt x="114039" y="0"/>
                  <a:pt x="105298" y="0"/>
                </a:cubicBezTo>
                <a:close/>
                <a:moveTo>
                  <a:pt x="70132" y="111482"/>
                </a:moveTo>
                <a:lnTo>
                  <a:pt x="70132" y="111482"/>
                </a:lnTo>
                <a:cubicBezTo>
                  <a:pt x="52649" y="111482"/>
                  <a:pt x="52649" y="111482"/>
                  <a:pt x="52649" y="111482"/>
                </a:cubicBezTo>
                <a:cubicBezTo>
                  <a:pt x="52649" y="97665"/>
                  <a:pt x="52649" y="97665"/>
                  <a:pt x="52649" y="97665"/>
                </a:cubicBezTo>
                <a:cubicBezTo>
                  <a:pt x="70132" y="97665"/>
                  <a:pt x="70132" y="97665"/>
                  <a:pt x="70132" y="97665"/>
                </a:cubicBezTo>
                <a:lnTo>
                  <a:pt x="70132" y="111482"/>
                </a:lnTo>
                <a:close/>
                <a:moveTo>
                  <a:pt x="111059" y="80820"/>
                </a:moveTo>
                <a:lnTo>
                  <a:pt x="111059" y="80820"/>
                </a:lnTo>
                <a:cubicBezTo>
                  <a:pt x="111059" y="86498"/>
                  <a:pt x="108278" y="89148"/>
                  <a:pt x="105298" y="89148"/>
                </a:cubicBezTo>
                <a:cubicBezTo>
                  <a:pt x="14701" y="89148"/>
                  <a:pt x="14701" y="89148"/>
                  <a:pt x="14701" y="89148"/>
                </a:cubicBezTo>
                <a:cubicBezTo>
                  <a:pt x="11721" y="89148"/>
                  <a:pt x="5761" y="86498"/>
                  <a:pt x="5761" y="80820"/>
                </a:cubicBezTo>
                <a:cubicBezTo>
                  <a:pt x="5761" y="75331"/>
                  <a:pt x="5761" y="75331"/>
                  <a:pt x="5761" y="75331"/>
                </a:cubicBezTo>
                <a:cubicBezTo>
                  <a:pt x="111059" y="75331"/>
                  <a:pt x="111059" y="75331"/>
                  <a:pt x="111059" y="75331"/>
                </a:cubicBezTo>
                <a:lnTo>
                  <a:pt x="111059" y="80820"/>
                </a:lnTo>
                <a:close/>
                <a:moveTo>
                  <a:pt x="111059" y="67003"/>
                </a:moveTo>
                <a:lnTo>
                  <a:pt x="111059" y="67003"/>
                </a:lnTo>
                <a:cubicBezTo>
                  <a:pt x="5761" y="67003"/>
                  <a:pt x="5761" y="67003"/>
                  <a:pt x="5761" y="67003"/>
                </a:cubicBezTo>
                <a:cubicBezTo>
                  <a:pt x="5761" y="14006"/>
                  <a:pt x="5761" y="14006"/>
                  <a:pt x="5761" y="14006"/>
                </a:cubicBezTo>
                <a:cubicBezTo>
                  <a:pt x="5761" y="11167"/>
                  <a:pt x="11721" y="8328"/>
                  <a:pt x="14701" y="8328"/>
                </a:cubicBezTo>
                <a:cubicBezTo>
                  <a:pt x="105298" y="8328"/>
                  <a:pt x="105298" y="8328"/>
                  <a:pt x="105298" y="8328"/>
                </a:cubicBezTo>
                <a:cubicBezTo>
                  <a:pt x="108278" y="8328"/>
                  <a:pt x="111059" y="11167"/>
                  <a:pt x="111059" y="14006"/>
                </a:cubicBezTo>
                <a:lnTo>
                  <a:pt x="111059" y="670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2" name="Shape 4724"/>
          <p:cNvSpPr/>
          <p:nvPr/>
        </p:nvSpPr>
        <p:spPr>
          <a:xfrm>
            <a:off x="5102280" y="2066760"/>
            <a:ext cx="210960" cy="306720"/>
          </a:xfrm>
          <a:custGeom>
            <a:avLst/>
            <a:gdLst>
              <a:gd name="textAreaLeft" fmla="*/ 0 w 210960"/>
              <a:gd name="textAreaRight" fmla="*/ 211320 w 210960"/>
              <a:gd name="textAreaTop" fmla="*/ 0 h 306720"/>
              <a:gd name="textAreaBottom" fmla="*/ 307080 h 30672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3" name="Shape 4725"/>
          <p:cNvSpPr/>
          <p:nvPr/>
        </p:nvSpPr>
        <p:spPr>
          <a:xfrm>
            <a:off x="4633920" y="2066760"/>
            <a:ext cx="169920" cy="306720"/>
          </a:xfrm>
          <a:custGeom>
            <a:avLst/>
            <a:gdLst>
              <a:gd name="textAreaLeft" fmla="*/ 0 w 169920"/>
              <a:gd name="textAreaRight" fmla="*/ 169920 w 169920"/>
              <a:gd name="textAreaTop" fmla="*/ 0 h 306720"/>
              <a:gd name="textAreaBottom" fmla="*/ 307080 h 306720"/>
            </a:gdLst>
            <a:ahLst/>
            <a:rect l="textAreaLeft" t="textAreaTop" r="textAreaRight" b="textAreaBottom"/>
            <a:pathLst>
              <a:path w="120000" h="120000">
                <a:moveTo>
                  <a:pt x="59999" y="103154"/>
                </a:moveTo>
                <a:lnTo>
                  <a:pt x="59999" y="103154"/>
                </a:lnTo>
                <a:cubicBezTo>
                  <a:pt x="69830" y="103154"/>
                  <a:pt x="74915" y="100315"/>
                  <a:pt x="74915" y="97665"/>
                </a:cubicBezTo>
                <a:cubicBezTo>
                  <a:pt x="74915" y="91987"/>
                  <a:pt x="69830" y="89148"/>
                  <a:pt x="59999" y="89148"/>
                </a:cubicBezTo>
                <a:cubicBezTo>
                  <a:pt x="54915" y="89148"/>
                  <a:pt x="49830" y="91987"/>
                  <a:pt x="49830" y="97665"/>
                </a:cubicBezTo>
                <a:cubicBezTo>
                  <a:pt x="49830" y="100315"/>
                  <a:pt x="54915" y="103154"/>
                  <a:pt x="59999" y="103154"/>
                </a:cubicBezTo>
                <a:close/>
                <a:moveTo>
                  <a:pt x="94915" y="0"/>
                </a:moveTo>
                <a:lnTo>
                  <a:pt x="94915" y="0"/>
                </a:lnTo>
                <a:cubicBezTo>
                  <a:pt x="30169" y="0"/>
                  <a:pt x="30169" y="0"/>
                  <a:pt x="30169" y="0"/>
                </a:cubicBezTo>
                <a:cubicBezTo>
                  <a:pt x="14915" y="0"/>
                  <a:pt x="0" y="5678"/>
                  <a:pt x="0" y="14006"/>
                </a:cubicBezTo>
                <a:cubicBezTo>
                  <a:pt x="0" y="103154"/>
                  <a:pt x="0" y="103154"/>
                  <a:pt x="0" y="103154"/>
                </a:cubicBezTo>
                <a:cubicBezTo>
                  <a:pt x="0" y="111482"/>
                  <a:pt x="14915" y="119810"/>
                  <a:pt x="30169" y="119810"/>
                </a:cubicBezTo>
                <a:cubicBezTo>
                  <a:pt x="94915" y="119810"/>
                  <a:pt x="94915" y="119810"/>
                  <a:pt x="94915" y="119810"/>
                </a:cubicBezTo>
                <a:cubicBezTo>
                  <a:pt x="109830" y="119810"/>
                  <a:pt x="119661" y="111482"/>
                  <a:pt x="119661" y="103154"/>
                </a:cubicBezTo>
                <a:cubicBezTo>
                  <a:pt x="119661" y="14006"/>
                  <a:pt x="119661" y="14006"/>
                  <a:pt x="119661" y="14006"/>
                </a:cubicBezTo>
                <a:cubicBezTo>
                  <a:pt x="119661" y="5678"/>
                  <a:pt x="109830" y="0"/>
                  <a:pt x="94915" y="0"/>
                </a:cubicBezTo>
                <a:close/>
                <a:moveTo>
                  <a:pt x="109830" y="103154"/>
                </a:moveTo>
                <a:lnTo>
                  <a:pt x="109830" y="103154"/>
                </a:lnTo>
                <a:cubicBezTo>
                  <a:pt x="109830" y="108643"/>
                  <a:pt x="99661" y="111482"/>
                  <a:pt x="94915" y="111482"/>
                </a:cubicBezTo>
                <a:cubicBezTo>
                  <a:pt x="30169" y="111482"/>
                  <a:pt x="30169" y="111482"/>
                  <a:pt x="30169" y="111482"/>
                </a:cubicBezTo>
                <a:cubicBezTo>
                  <a:pt x="20000" y="111482"/>
                  <a:pt x="14915" y="108643"/>
                  <a:pt x="14915" y="103154"/>
                </a:cubicBezTo>
                <a:cubicBezTo>
                  <a:pt x="14915" y="80820"/>
                  <a:pt x="14915" y="80820"/>
                  <a:pt x="14915" y="80820"/>
                </a:cubicBezTo>
                <a:cubicBezTo>
                  <a:pt x="109830" y="80820"/>
                  <a:pt x="109830" y="80820"/>
                  <a:pt x="109830" y="80820"/>
                </a:cubicBezTo>
                <a:lnTo>
                  <a:pt x="109830" y="103154"/>
                </a:lnTo>
                <a:close/>
                <a:moveTo>
                  <a:pt x="109830" y="75331"/>
                </a:moveTo>
                <a:lnTo>
                  <a:pt x="109830" y="75331"/>
                </a:lnTo>
                <a:cubicBezTo>
                  <a:pt x="14915" y="75331"/>
                  <a:pt x="14915" y="75331"/>
                  <a:pt x="14915" y="75331"/>
                </a:cubicBezTo>
                <a:cubicBezTo>
                  <a:pt x="14915" y="25173"/>
                  <a:pt x="14915" y="25173"/>
                  <a:pt x="14915" y="25173"/>
                </a:cubicBezTo>
                <a:cubicBezTo>
                  <a:pt x="109830" y="25173"/>
                  <a:pt x="109830" y="25173"/>
                  <a:pt x="109830" y="25173"/>
                </a:cubicBezTo>
                <a:lnTo>
                  <a:pt x="109830" y="75331"/>
                </a:lnTo>
                <a:close/>
                <a:moveTo>
                  <a:pt x="109830" y="19495"/>
                </a:moveTo>
                <a:lnTo>
                  <a:pt x="109830" y="19495"/>
                </a:lnTo>
                <a:cubicBezTo>
                  <a:pt x="14915" y="19495"/>
                  <a:pt x="14915" y="19495"/>
                  <a:pt x="14915" y="19495"/>
                </a:cubicBezTo>
                <a:cubicBezTo>
                  <a:pt x="14915" y="14006"/>
                  <a:pt x="14915" y="14006"/>
                  <a:pt x="14915" y="14006"/>
                </a:cubicBezTo>
                <a:cubicBezTo>
                  <a:pt x="14915" y="11167"/>
                  <a:pt x="20000" y="8328"/>
                  <a:pt x="30169" y="8328"/>
                </a:cubicBezTo>
                <a:cubicBezTo>
                  <a:pt x="94915" y="8328"/>
                  <a:pt x="94915" y="8328"/>
                  <a:pt x="94915" y="8328"/>
                </a:cubicBezTo>
                <a:cubicBezTo>
                  <a:pt x="99661" y="8328"/>
                  <a:pt x="109830" y="11167"/>
                  <a:pt x="109830" y="14006"/>
                </a:cubicBezTo>
                <a:lnTo>
                  <a:pt x="109830" y="194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4" name="Shape 4726"/>
          <p:cNvSpPr/>
          <p:nvPr/>
        </p:nvSpPr>
        <p:spPr>
          <a:xfrm>
            <a:off x="4111560" y="2066760"/>
            <a:ext cx="241200" cy="306720"/>
          </a:xfrm>
          <a:custGeom>
            <a:avLst/>
            <a:gdLst>
              <a:gd name="textAreaLeft" fmla="*/ 0 w 241200"/>
              <a:gd name="textAreaRight" fmla="*/ 241560 w 241200"/>
              <a:gd name="textAreaTop" fmla="*/ 0 h 306720"/>
              <a:gd name="textAreaBottom" fmla="*/ 307080 h 30672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5" name="Shape 4727"/>
          <p:cNvSpPr/>
          <p:nvPr/>
        </p:nvSpPr>
        <p:spPr>
          <a:xfrm>
            <a:off x="3587760" y="2131920"/>
            <a:ext cx="304920" cy="168480"/>
          </a:xfrm>
          <a:custGeom>
            <a:avLst/>
            <a:gdLst>
              <a:gd name="textAreaLeft" fmla="*/ 0 w 304920"/>
              <a:gd name="textAreaRight" fmla="*/ 305280 w 304920"/>
              <a:gd name="textAreaTop" fmla="*/ 0 h 168480"/>
              <a:gd name="textAreaBottom" fmla="*/ 168840 h 168480"/>
            </a:gdLst>
            <a:ahLst/>
            <a:rect l="textAreaLeft" t="textAreaTop" r="textAreaRight" b="textAreaBottom"/>
            <a:pathLst>
              <a:path w="120000" h="120000">
                <a:moveTo>
                  <a:pt x="72492" y="49830"/>
                </a:moveTo>
                <a:lnTo>
                  <a:pt x="72492" y="49830"/>
                </a:lnTo>
                <a:cubicBezTo>
                  <a:pt x="69842" y="49830"/>
                  <a:pt x="67003" y="54915"/>
                  <a:pt x="67003" y="59661"/>
                </a:cubicBezTo>
                <a:cubicBezTo>
                  <a:pt x="67003" y="64745"/>
                  <a:pt x="69842" y="69830"/>
                  <a:pt x="72492" y="69830"/>
                </a:cubicBezTo>
                <a:cubicBezTo>
                  <a:pt x="75331" y="69830"/>
                  <a:pt x="77981" y="64745"/>
                  <a:pt x="77981" y="59661"/>
                </a:cubicBezTo>
                <a:cubicBezTo>
                  <a:pt x="77981" y="54915"/>
                  <a:pt x="75331" y="49830"/>
                  <a:pt x="72492" y="49830"/>
                </a:cubicBezTo>
                <a:close/>
                <a:moveTo>
                  <a:pt x="50157" y="54915"/>
                </a:moveTo>
                <a:lnTo>
                  <a:pt x="50157" y="54915"/>
                </a:lnTo>
                <a:cubicBezTo>
                  <a:pt x="39179" y="54915"/>
                  <a:pt x="39179" y="54915"/>
                  <a:pt x="39179" y="54915"/>
                </a:cubicBezTo>
                <a:cubicBezTo>
                  <a:pt x="39179" y="34915"/>
                  <a:pt x="39179" y="34915"/>
                  <a:pt x="39179" y="34915"/>
                </a:cubicBezTo>
                <a:cubicBezTo>
                  <a:pt x="39179" y="29830"/>
                  <a:pt x="36340" y="29830"/>
                  <a:pt x="33501" y="29830"/>
                </a:cubicBezTo>
                <a:cubicBezTo>
                  <a:pt x="33501" y="29830"/>
                  <a:pt x="30662" y="29830"/>
                  <a:pt x="30662" y="34915"/>
                </a:cubicBezTo>
                <a:cubicBezTo>
                  <a:pt x="30662" y="54915"/>
                  <a:pt x="30662" y="54915"/>
                  <a:pt x="30662" y="54915"/>
                </a:cubicBezTo>
                <a:cubicBezTo>
                  <a:pt x="19495" y="54915"/>
                  <a:pt x="19495" y="54915"/>
                  <a:pt x="19495" y="54915"/>
                </a:cubicBezTo>
                <a:cubicBezTo>
                  <a:pt x="16845" y="54915"/>
                  <a:pt x="16845" y="59661"/>
                  <a:pt x="16845" y="59661"/>
                </a:cubicBezTo>
                <a:cubicBezTo>
                  <a:pt x="16845" y="64745"/>
                  <a:pt x="16845" y="69830"/>
                  <a:pt x="19495" y="69830"/>
                </a:cubicBezTo>
                <a:cubicBezTo>
                  <a:pt x="30662" y="69830"/>
                  <a:pt x="30662" y="69830"/>
                  <a:pt x="30662" y="69830"/>
                </a:cubicBezTo>
                <a:cubicBezTo>
                  <a:pt x="30662" y="89830"/>
                  <a:pt x="30662" y="89830"/>
                  <a:pt x="30662" y="89830"/>
                </a:cubicBezTo>
                <a:lnTo>
                  <a:pt x="33501" y="94576"/>
                </a:lnTo>
                <a:cubicBezTo>
                  <a:pt x="36340" y="94576"/>
                  <a:pt x="39179" y="89830"/>
                  <a:pt x="39179" y="89830"/>
                </a:cubicBezTo>
                <a:cubicBezTo>
                  <a:pt x="39179" y="69830"/>
                  <a:pt x="39179" y="69830"/>
                  <a:pt x="39179" y="69830"/>
                </a:cubicBezTo>
                <a:cubicBezTo>
                  <a:pt x="50157" y="69830"/>
                  <a:pt x="50157" y="69830"/>
                  <a:pt x="50157" y="69830"/>
                </a:cubicBezTo>
                <a:cubicBezTo>
                  <a:pt x="50157" y="69830"/>
                  <a:pt x="52996" y="64745"/>
                  <a:pt x="52996" y="59661"/>
                </a:cubicBezTo>
                <a:lnTo>
                  <a:pt x="50157" y="54915"/>
                </a:lnTo>
                <a:close/>
                <a:moveTo>
                  <a:pt x="83659" y="74915"/>
                </a:moveTo>
                <a:lnTo>
                  <a:pt x="83659" y="74915"/>
                </a:lnTo>
                <a:cubicBezTo>
                  <a:pt x="81009" y="74915"/>
                  <a:pt x="77981" y="79661"/>
                  <a:pt x="77981" y="84745"/>
                </a:cubicBezTo>
                <a:cubicBezTo>
                  <a:pt x="77981" y="89830"/>
                  <a:pt x="81009" y="94576"/>
                  <a:pt x="83659" y="94576"/>
                </a:cubicBezTo>
                <a:cubicBezTo>
                  <a:pt x="86498" y="94576"/>
                  <a:pt x="89148" y="89830"/>
                  <a:pt x="89148" y="84745"/>
                </a:cubicBezTo>
                <a:cubicBezTo>
                  <a:pt x="89148" y="79661"/>
                  <a:pt x="86498" y="74915"/>
                  <a:pt x="83659" y="74915"/>
                </a:cubicBezTo>
                <a:close/>
                <a:moveTo>
                  <a:pt x="97665" y="0"/>
                </a:moveTo>
                <a:lnTo>
                  <a:pt x="97665" y="0"/>
                </a:lnTo>
                <a:cubicBezTo>
                  <a:pt x="22334" y="0"/>
                  <a:pt x="22334" y="0"/>
                  <a:pt x="22334" y="0"/>
                </a:cubicBezTo>
                <a:cubicBezTo>
                  <a:pt x="11167" y="0"/>
                  <a:pt x="0" y="19661"/>
                  <a:pt x="0" y="39661"/>
                </a:cubicBezTo>
                <a:cubicBezTo>
                  <a:pt x="0" y="79661"/>
                  <a:pt x="0" y="79661"/>
                  <a:pt x="0" y="79661"/>
                </a:cubicBezTo>
                <a:cubicBezTo>
                  <a:pt x="0" y="104745"/>
                  <a:pt x="11167" y="119661"/>
                  <a:pt x="22334" y="119661"/>
                </a:cubicBezTo>
                <a:cubicBezTo>
                  <a:pt x="97665" y="119661"/>
                  <a:pt x="97665" y="119661"/>
                  <a:pt x="97665" y="119661"/>
                </a:cubicBezTo>
                <a:cubicBezTo>
                  <a:pt x="108832" y="119661"/>
                  <a:pt x="119810" y="104745"/>
                  <a:pt x="119810" y="79661"/>
                </a:cubicBezTo>
                <a:cubicBezTo>
                  <a:pt x="119810" y="39661"/>
                  <a:pt x="119810" y="39661"/>
                  <a:pt x="119810" y="39661"/>
                </a:cubicBezTo>
                <a:cubicBezTo>
                  <a:pt x="119810" y="19661"/>
                  <a:pt x="108832" y="0"/>
                  <a:pt x="97665" y="0"/>
                </a:cubicBezTo>
                <a:close/>
                <a:moveTo>
                  <a:pt x="111482" y="79661"/>
                </a:moveTo>
                <a:lnTo>
                  <a:pt x="111482" y="79661"/>
                </a:lnTo>
                <a:cubicBezTo>
                  <a:pt x="111482" y="94576"/>
                  <a:pt x="105993" y="109830"/>
                  <a:pt x="97665" y="109830"/>
                </a:cubicBezTo>
                <a:cubicBezTo>
                  <a:pt x="22334" y="109830"/>
                  <a:pt x="22334" y="109830"/>
                  <a:pt x="22334" y="109830"/>
                </a:cubicBezTo>
                <a:cubicBezTo>
                  <a:pt x="14006" y="109830"/>
                  <a:pt x="8517" y="94576"/>
                  <a:pt x="8517" y="79661"/>
                </a:cubicBezTo>
                <a:cubicBezTo>
                  <a:pt x="8517" y="39661"/>
                  <a:pt x="8517" y="39661"/>
                  <a:pt x="8517" y="39661"/>
                </a:cubicBezTo>
                <a:cubicBezTo>
                  <a:pt x="8517" y="25084"/>
                  <a:pt x="14006" y="14915"/>
                  <a:pt x="22334" y="14915"/>
                </a:cubicBezTo>
                <a:cubicBezTo>
                  <a:pt x="97665" y="14915"/>
                  <a:pt x="97665" y="14915"/>
                  <a:pt x="97665" y="14915"/>
                </a:cubicBezTo>
                <a:cubicBezTo>
                  <a:pt x="105993" y="14915"/>
                  <a:pt x="111482" y="25084"/>
                  <a:pt x="111482" y="39661"/>
                </a:cubicBezTo>
                <a:lnTo>
                  <a:pt x="111482" y="79661"/>
                </a:lnTo>
                <a:close/>
                <a:moveTo>
                  <a:pt x="100315" y="54915"/>
                </a:moveTo>
                <a:lnTo>
                  <a:pt x="100315" y="54915"/>
                </a:lnTo>
                <a:cubicBezTo>
                  <a:pt x="97665" y="54915"/>
                  <a:pt x="94826" y="59661"/>
                  <a:pt x="94826" y="64745"/>
                </a:cubicBezTo>
                <a:cubicBezTo>
                  <a:pt x="94826" y="69830"/>
                  <a:pt x="97665" y="74915"/>
                  <a:pt x="100315" y="74915"/>
                </a:cubicBezTo>
                <a:cubicBezTo>
                  <a:pt x="103154" y="74915"/>
                  <a:pt x="105993" y="69830"/>
                  <a:pt x="105993" y="64745"/>
                </a:cubicBezTo>
                <a:cubicBezTo>
                  <a:pt x="105993" y="59661"/>
                  <a:pt x="103154" y="54915"/>
                  <a:pt x="100315" y="54915"/>
                </a:cubicBezTo>
                <a:close/>
                <a:moveTo>
                  <a:pt x="89148" y="29830"/>
                </a:moveTo>
                <a:lnTo>
                  <a:pt x="89148" y="29830"/>
                </a:lnTo>
                <a:cubicBezTo>
                  <a:pt x="86498" y="29830"/>
                  <a:pt x="83659" y="34915"/>
                  <a:pt x="83659" y="39661"/>
                </a:cubicBezTo>
                <a:cubicBezTo>
                  <a:pt x="83659" y="44745"/>
                  <a:pt x="86498" y="49830"/>
                  <a:pt x="89148" y="49830"/>
                </a:cubicBezTo>
                <a:cubicBezTo>
                  <a:pt x="91987" y="49830"/>
                  <a:pt x="94826" y="44745"/>
                  <a:pt x="94826" y="39661"/>
                </a:cubicBezTo>
                <a:cubicBezTo>
                  <a:pt x="94826" y="34915"/>
                  <a:pt x="91987" y="29830"/>
                  <a:pt x="89148" y="29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6" name="Shape 4728"/>
          <p:cNvSpPr/>
          <p:nvPr/>
        </p:nvSpPr>
        <p:spPr>
          <a:xfrm>
            <a:off x="3100320" y="211608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7" name="Shape 4729"/>
          <p:cNvSpPr/>
          <p:nvPr/>
        </p:nvSpPr>
        <p:spPr>
          <a:xfrm>
            <a:off x="2612880" y="2087640"/>
            <a:ext cx="297000" cy="264960"/>
          </a:xfrm>
          <a:custGeom>
            <a:avLst/>
            <a:gdLst>
              <a:gd name="textAreaLeft" fmla="*/ 0 w 297000"/>
              <a:gd name="textAreaRight" fmla="*/ 297360 w 297000"/>
              <a:gd name="textAreaTop" fmla="*/ 0 h 264960"/>
              <a:gd name="textAreaBottom" fmla="*/ 265320 h 264960"/>
            </a:gdLst>
            <a:ahLst/>
            <a:rect l="textAreaLeft" t="textAreaTop" r="textAreaRight" b="textAreaBottom"/>
            <a:pathLst>
              <a:path w="120000" h="120000">
                <a:moveTo>
                  <a:pt x="105654" y="16263"/>
                </a:moveTo>
                <a:lnTo>
                  <a:pt x="105654" y="16263"/>
                </a:lnTo>
                <a:cubicBezTo>
                  <a:pt x="94216" y="16263"/>
                  <a:pt x="94216" y="16263"/>
                  <a:pt x="94216" y="16263"/>
                </a:cubicBezTo>
                <a:cubicBezTo>
                  <a:pt x="91308" y="6593"/>
                  <a:pt x="91308" y="6593"/>
                  <a:pt x="91308" y="6593"/>
                </a:cubicBezTo>
                <a:cubicBezTo>
                  <a:pt x="88400" y="3296"/>
                  <a:pt x="85492" y="0"/>
                  <a:pt x="82778" y="0"/>
                </a:cubicBezTo>
                <a:cubicBezTo>
                  <a:pt x="37027" y="0"/>
                  <a:pt x="37027" y="0"/>
                  <a:pt x="37027" y="0"/>
                </a:cubicBezTo>
                <a:cubicBezTo>
                  <a:pt x="34313" y="0"/>
                  <a:pt x="31405" y="3296"/>
                  <a:pt x="28497" y="6593"/>
                </a:cubicBezTo>
                <a:cubicBezTo>
                  <a:pt x="25589" y="16263"/>
                  <a:pt x="25589" y="16263"/>
                  <a:pt x="25589" y="16263"/>
                </a:cubicBezTo>
                <a:cubicBezTo>
                  <a:pt x="14151" y="16263"/>
                  <a:pt x="14151" y="16263"/>
                  <a:pt x="14151" y="16263"/>
                </a:cubicBezTo>
                <a:cubicBezTo>
                  <a:pt x="5621" y="16263"/>
                  <a:pt x="0" y="22857"/>
                  <a:pt x="0" y="32307"/>
                </a:cubicBezTo>
                <a:cubicBezTo>
                  <a:pt x="0" y="103736"/>
                  <a:pt x="0" y="103736"/>
                  <a:pt x="0" y="103736"/>
                </a:cubicBezTo>
                <a:cubicBezTo>
                  <a:pt x="0" y="113406"/>
                  <a:pt x="5621" y="119780"/>
                  <a:pt x="14151" y="119780"/>
                </a:cubicBezTo>
                <a:cubicBezTo>
                  <a:pt x="105654" y="119780"/>
                  <a:pt x="105654" y="119780"/>
                  <a:pt x="105654" y="119780"/>
                </a:cubicBezTo>
                <a:cubicBezTo>
                  <a:pt x="114184" y="119780"/>
                  <a:pt x="119806" y="113406"/>
                  <a:pt x="119806" y="103736"/>
                </a:cubicBezTo>
                <a:cubicBezTo>
                  <a:pt x="119806" y="32307"/>
                  <a:pt x="119806" y="32307"/>
                  <a:pt x="119806" y="32307"/>
                </a:cubicBezTo>
                <a:cubicBezTo>
                  <a:pt x="119806" y="22857"/>
                  <a:pt x="114184" y="16263"/>
                  <a:pt x="105654" y="16263"/>
                </a:cubicBezTo>
                <a:close/>
                <a:moveTo>
                  <a:pt x="114184" y="103736"/>
                </a:moveTo>
                <a:lnTo>
                  <a:pt x="114184" y="103736"/>
                </a:lnTo>
                <a:cubicBezTo>
                  <a:pt x="114184" y="106813"/>
                  <a:pt x="108368" y="110109"/>
                  <a:pt x="105654" y="110109"/>
                </a:cubicBezTo>
                <a:cubicBezTo>
                  <a:pt x="14151" y="110109"/>
                  <a:pt x="14151" y="110109"/>
                  <a:pt x="14151" y="110109"/>
                </a:cubicBezTo>
                <a:cubicBezTo>
                  <a:pt x="11437" y="110109"/>
                  <a:pt x="5621" y="106813"/>
                  <a:pt x="5621" y="103736"/>
                </a:cubicBezTo>
                <a:cubicBezTo>
                  <a:pt x="5621" y="32307"/>
                  <a:pt x="5621" y="32307"/>
                  <a:pt x="5621" y="32307"/>
                </a:cubicBezTo>
                <a:cubicBezTo>
                  <a:pt x="5621" y="29230"/>
                  <a:pt x="11437" y="25934"/>
                  <a:pt x="14151" y="25934"/>
                </a:cubicBezTo>
                <a:cubicBezTo>
                  <a:pt x="28497" y="25934"/>
                  <a:pt x="28497" y="25934"/>
                  <a:pt x="28497" y="25934"/>
                </a:cubicBezTo>
                <a:cubicBezTo>
                  <a:pt x="34313" y="16263"/>
                  <a:pt x="34313" y="16263"/>
                  <a:pt x="34313" y="16263"/>
                </a:cubicBezTo>
                <a:cubicBezTo>
                  <a:pt x="37027" y="9890"/>
                  <a:pt x="37027" y="6593"/>
                  <a:pt x="39935" y="6593"/>
                </a:cubicBezTo>
                <a:cubicBezTo>
                  <a:pt x="79870" y="6593"/>
                  <a:pt x="79870" y="6593"/>
                  <a:pt x="79870" y="6593"/>
                </a:cubicBezTo>
                <a:cubicBezTo>
                  <a:pt x="82778" y="6593"/>
                  <a:pt x="82778" y="9890"/>
                  <a:pt x="85492" y="16263"/>
                </a:cubicBezTo>
                <a:cubicBezTo>
                  <a:pt x="91308" y="25934"/>
                  <a:pt x="91308" y="25934"/>
                  <a:pt x="91308" y="25934"/>
                </a:cubicBezTo>
                <a:cubicBezTo>
                  <a:pt x="105654" y="25934"/>
                  <a:pt x="105654" y="25934"/>
                  <a:pt x="105654" y="25934"/>
                </a:cubicBezTo>
                <a:cubicBezTo>
                  <a:pt x="108368" y="25934"/>
                  <a:pt x="114184" y="29230"/>
                  <a:pt x="114184" y="32307"/>
                </a:cubicBezTo>
                <a:lnTo>
                  <a:pt x="114184" y="103736"/>
                </a:lnTo>
                <a:close/>
                <a:moveTo>
                  <a:pt x="59903" y="32307"/>
                </a:moveTo>
                <a:lnTo>
                  <a:pt x="59903" y="32307"/>
                </a:lnTo>
                <a:cubicBezTo>
                  <a:pt x="42843" y="32307"/>
                  <a:pt x="28497" y="48571"/>
                  <a:pt x="28497" y="68131"/>
                </a:cubicBezTo>
                <a:cubicBezTo>
                  <a:pt x="28497" y="87472"/>
                  <a:pt x="42843" y="103736"/>
                  <a:pt x="59903" y="103736"/>
                </a:cubicBezTo>
                <a:cubicBezTo>
                  <a:pt x="77156" y="103736"/>
                  <a:pt x="91308" y="87472"/>
                  <a:pt x="91308" y="68131"/>
                </a:cubicBezTo>
                <a:cubicBezTo>
                  <a:pt x="91308" y="48571"/>
                  <a:pt x="77156" y="32307"/>
                  <a:pt x="59903" y="32307"/>
                </a:cubicBezTo>
                <a:close/>
                <a:moveTo>
                  <a:pt x="59903" y="93846"/>
                </a:moveTo>
                <a:lnTo>
                  <a:pt x="59903" y="93846"/>
                </a:lnTo>
                <a:cubicBezTo>
                  <a:pt x="48465" y="93846"/>
                  <a:pt x="37027" y="80879"/>
                  <a:pt x="37027" y="68131"/>
                </a:cubicBezTo>
                <a:cubicBezTo>
                  <a:pt x="37027" y="55164"/>
                  <a:pt x="48465" y="42197"/>
                  <a:pt x="59903" y="42197"/>
                </a:cubicBezTo>
                <a:cubicBezTo>
                  <a:pt x="71340" y="42197"/>
                  <a:pt x="82778" y="55164"/>
                  <a:pt x="82778" y="68131"/>
                </a:cubicBezTo>
                <a:cubicBezTo>
                  <a:pt x="82778" y="80879"/>
                  <a:pt x="71340" y="93846"/>
                  <a:pt x="59903" y="9384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8" name="Shape 4730"/>
          <p:cNvSpPr/>
          <p:nvPr/>
        </p:nvSpPr>
        <p:spPr>
          <a:xfrm>
            <a:off x="2195640" y="2066760"/>
            <a:ext cx="134640" cy="306720"/>
          </a:xfrm>
          <a:custGeom>
            <a:avLst/>
            <a:gdLst>
              <a:gd name="textAreaLeft" fmla="*/ 0 w 134640"/>
              <a:gd name="textAreaRight" fmla="*/ 135000 w 134640"/>
              <a:gd name="textAreaTop" fmla="*/ 0 h 306720"/>
              <a:gd name="textAreaBottom" fmla="*/ 307080 h 30672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9" name="Shape 4731"/>
          <p:cNvSpPr/>
          <p:nvPr/>
        </p:nvSpPr>
        <p:spPr>
          <a:xfrm>
            <a:off x="1741320" y="2066760"/>
            <a:ext cx="78120" cy="306720"/>
          </a:xfrm>
          <a:custGeom>
            <a:avLst/>
            <a:gdLst>
              <a:gd name="textAreaLeft" fmla="*/ 0 w 78120"/>
              <a:gd name="textAreaRight" fmla="*/ 78480 w 78120"/>
              <a:gd name="textAreaTop" fmla="*/ 0 h 306720"/>
              <a:gd name="textAreaBottom" fmla="*/ 307080 h 306720"/>
            </a:gdLst>
            <a:ahLst/>
            <a:rect l="textAreaLeft" t="textAreaTop" r="textAreaRight" b="textAreaBottom"/>
            <a:pathLst>
              <a:path w="120000" h="120000">
                <a:moveTo>
                  <a:pt x="32392" y="0"/>
                </a:moveTo>
                <a:lnTo>
                  <a:pt x="32392" y="0"/>
                </a:lnTo>
                <a:cubicBezTo>
                  <a:pt x="22085" y="0"/>
                  <a:pt x="22085" y="0"/>
                  <a:pt x="11042" y="0"/>
                </a:cubicBezTo>
                <a:lnTo>
                  <a:pt x="0" y="2839"/>
                </a:lnTo>
                <a:cubicBezTo>
                  <a:pt x="0" y="114321"/>
                  <a:pt x="0" y="114321"/>
                  <a:pt x="0" y="114321"/>
                </a:cubicBezTo>
                <a:cubicBezTo>
                  <a:pt x="0" y="117160"/>
                  <a:pt x="11042" y="119810"/>
                  <a:pt x="11042" y="119810"/>
                </a:cubicBezTo>
                <a:cubicBezTo>
                  <a:pt x="22085" y="119810"/>
                  <a:pt x="32392" y="117160"/>
                  <a:pt x="32392" y="114321"/>
                </a:cubicBezTo>
                <a:cubicBezTo>
                  <a:pt x="32392" y="67003"/>
                  <a:pt x="32392" y="67003"/>
                  <a:pt x="32392" y="67003"/>
                </a:cubicBezTo>
                <a:cubicBezTo>
                  <a:pt x="32392" y="67003"/>
                  <a:pt x="54478" y="67003"/>
                  <a:pt x="119263" y="67003"/>
                </a:cubicBezTo>
                <a:cubicBezTo>
                  <a:pt x="119263" y="22334"/>
                  <a:pt x="32392" y="0"/>
                  <a:pt x="32392" y="0"/>
                </a:cubicBezTo>
                <a:close/>
                <a:moveTo>
                  <a:pt x="32392" y="11167"/>
                </a:moveTo>
                <a:lnTo>
                  <a:pt x="32392" y="11167"/>
                </a:lnTo>
                <a:cubicBezTo>
                  <a:pt x="32392" y="11167"/>
                  <a:pt x="86871" y="36151"/>
                  <a:pt x="86871" y="58485"/>
                </a:cubicBezTo>
                <a:cubicBezTo>
                  <a:pt x="43435" y="58485"/>
                  <a:pt x="32392" y="58485"/>
                  <a:pt x="32392" y="58485"/>
                </a:cubicBezTo>
                <a:lnTo>
                  <a:pt x="32392" y="1116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0" name="Shape 4732"/>
          <p:cNvSpPr/>
          <p:nvPr/>
        </p:nvSpPr>
        <p:spPr>
          <a:xfrm>
            <a:off x="1239840" y="2066760"/>
            <a:ext cx="100080" cy="306720"/>
          </a:xfrm>
          <a:custGeom>
            <a:avLst/>
            <a:gdLst>
              <a:gd name="textAreaLeft" fmla="*/ 0 w 100080"/>
              <a:gd name="textAreaRight" fmla="*/ 100440 w 100080"/>
              <a:gd name="textAreaTop" fmla="*/ 0 h 306720"/>
              <a:gd name="textAreaBottom" fmla="*/ 307080 h 30672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1" name="Shape 4733"/>
          <p:cNvSpPr/>
          <p:nvPr/>
        </p:nvSpPr>
        <p:spPr>
          <a:xfrm>
            <a:off x="5646600" y="1579680"/>
            <a:ext cx="114480" cy="296640"/>
          </a:xfrm>
          <a:custGeom>
            <a:avLst/>
            <a:gdLst>
              <a:gd name="textAreaLeft" fmla="*/ 0 w 114480"/>
              <a:gd name="textAreaRight" fmla="*/ 114840 w 114480"/>
              <a:gd name="textAreaTop" fmla="*/ 0 h 296640"/>
              <a:gd name="textAreaBottom" fmla="*/ 297000 h 296640"/>
            </a:gdLst>
            <a:ahLst/>
            <a:rect l="textAreaLeft" t="textAreaTop" r="textAreaRight" b="textAreaBottom"/>
            <a:pathLst>
              <a:path w="120000" h="120000">
                <a:moveTo>
                  <a:pt x="89620" y="45557"/>
                </a:moveTo>
                <a:lnTo>
                  <a:pt x="89620" y="45557"/>
                </a:lnTo>
                <a:lnTo>
                  <a:pt x="89620" y="45557"/>
                </a:lnTo>
                <a:cubicBezTo>
                  <a:pt x="89620" y="2714"/>
                  <a:pt x="89620" y="2714"/>
                  <a:pt x="89620" y="2714"/>
                </a:cubicBezTo>
                <a:cubicBezTo>
                  <a:pt x="89620" y="0"/>
                  <a:pt x="82025" y="0"/>
                  <a:pt x="82025" y="0"/>
                </a:cubicBezTo>
                <a:cubicBezTo>
                  <a:pt x="37468" y="0"/>
                  <a:pt x="37468" y="0"/>
                  <a:pt x="37468" y="0"/>
                </a:cubicBezTo>
                <a:cubicBezTo>
                  <a:pt x="37468" y="0"/>
                  <a:pt x="29873" y="0"/>
                  <a:pt x="29873" y="2714"/>
                </a:cubicBezTo>
                <a:cubicBezTo>
                  <a:pt x="29873" y="45557"/>
                  <a:pt x="29873" y="45557"/>
                  <a:pt x="29873" y="45557"/>
                </a:cubicBezTo>
                <a:lnTo>
                  <a:pt x="29873" y="45557"/>
                </a:lnTo>
                <a:cubicBezTo>
                  <a:pt x="7594" y="45557"/>
                  <a:pt x="0" y="51179"/>
                  <a:pt x="0" y="59903"/>
                </a:cubicBezTo>
                <a:cubicBezTo>
                  <a:pt x="0" y="119806"/>
                  <a:pt x="0" y="119806"/>
                  <a:pt x="0" y="119806"/>
                </a:cubicBezTo>
                <a:cubicBezTo>
                  <a:pt x="119493" y="119806"/>
                  <a:pt x="119493" y="119806"/>
                  <a:pt x="119493" y="119806"/>
                </a:cubicBezTo>
                <a:cubicBezTo>
                  <a:pt x="119493" y="59903"/>
                  <a:pt x="119493" y="59903"/>
                  <a:pt x="119493" y="59903"/>
                </a:cubicBezTo>
                <a:cubicBezTo>
                  <a:pt x="119493" y="51179"/>
                  <a:pt x="111898" y="45557"/>
                  <a:pt x="89620" y="45557"/>
                </a:cubicBezTo>
                <a:close/>
                <a:moveTo>
                  <a:pt x="52151" y="5621"/>
                </a:moveTo>
                <a:lnTo>
                  <a:pt x="52151" y="5621"/>
                </a:lnTo>
                <a:cubicBezTo>
                  <a:pt x="67341" y="5621"/>
                  <a:pt x="67341" y="5621"/>
                  <a:pt x="67341" y="5621"/>
                </a:cubicBezTo>
                <a:cubicBezTo>
                  <a:pt x="67341" y="14151"/>
                  <a:pt x="67341" y="14151"/>
                  <a:pt x="67341" y="14151"/>
                </a:cubicBezTo>
                <a:cubicBezTo>
                  <a:pt x="52151" y="14151"/>
                  <a:pt x="52151" y="14151"/>
                  <a:pt x="52151" y="14151"/>
                </a:cubicBezTo>
                <a:lnTo>
                  <a:pt x="52151" y="5621"/>
                </a:lnTo>
                <a:close/>
                <a:moveTo>
                  <a:pt x="52151" y="22681"/>
                </a:moveTo>
                <a:lnTo>
                  <a:pt x="52151" y="22681"/>
                </a:lnTo>
                <a:cubicBezTo>
                  <a:pt x="67341" y="22681"/>
                  <a:pt x="67341" y="22681"/>
                  <a:pt x="67341" y="22681"/>
                </a:cubicBezTo>
                <a:cubicBezTo>
                  <a:pt x="67341" y="45557"/>
                  <a:pt x="67341" y="45557"/>
                  <a:pt x="67341" y="45557"/>
                </a:cubicBezTo>
                <a:cubicBezTo>
                  <a:pt x="52151" y="45557"/>
                  <a:pt x="52151" y="45557"/>
                  <a:pt x="52151" y="45557"/>
                </a:cubicBezTo>
                <a:lnTo>
                  <a:pt x="52151" y="22681"/>
                </a:lnTo>
                <a:close/>
                <a:moveTo>
                  <a:pt x="97215" y="113990"/>
                </a:moveTo>
                <a:lnTo>
                  <a:pt x="97215" y="113990"/>
                </a:lnTo>
                <a:cubicBezTo>
                  <a:pt x="22784" y="113990"/>
                  <a:pt x="22784" y="113990"/>
                  <a:pt x="22784" y="113990"/>
                </a:cubicBezTo>
                <a:cubicBezTo>
                  <a:pt x="22784" y="59903"/>
                  <a:pt x="22784" y="59903"/>
                  <a:pt x="22784" y="59903"/>
                </a:cubicBezTo>
                <a:cubicBezTo>
                  <a:pt x="22784" y="56995"/>
                  <a:pt x="29873" y="51179"/>
                  <a:pt x="37468" y="51179"/>
                </a:cubicBezTo>
                <a:cubicBezTo>
                  <a:pt x="82025" y="51179"/>
                  <a:pt x="82025" y="51179"/>
                  <a:pt x="82025" y="51179"/>
                </a:cubicBezTo>
                <a:cubicBezTo>
                  <a:pt x="89620" y="51179"/>
                  <a:pt x="97215" y="56995"/>
                  <a:pt x="97215" y="59903"/>
                </a:cubicBezTo>
                <a:lnTo>
                  <a:pt x="97215" y="1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2" name="Shape 4734"/>
          <p:cNvSpPr/>
          <p:nvPr/>
        </p:nvSpPr>
        <p:spPr>
          <a:xfrm>
            <a:off x="5081760" y="159372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3" name="Shape 4735"/>
          <p:cNvSpPr/>
          <p:nvPr/>
        </p:nvSpPr>
        <p:spPr>
          <a:xfrm>
            <a:off x="4570560" y="1608120"/>
            <a:ext cx="306360" cy="241200"/>
          </a:xfrm>
          <a:custGeom>
            <a:avLst/>
            <a:gdLst>
              <a:gd name="textAreaLeft" fmla="*/ 0 w 306360"/>
              <a:gd name="textAreaRight" fmla="*/ 306720 w 306360"/>
              <a:gd name="textAreaTop" fmla="*/ 0 h 241200"/>
              <a:gd name="textAreaBottom" fmla="*/ 241560 h 241200"/>
            </a:gdLst>
            <a:ahLst/>
            <a:rect l="textAreaLeft" t="textAreaTop" r="textAreaRight" b="textAreaBottom"/>
            <a:pathLst>
              <a:path w="120000" h="120000">
                <a:moveTo>
                  <a:pt x="114132" y="112828"/>
                </a:moveTo>
                <a:lnTo>
                  <a:pt x="114132" y="112828"/>
                </a:lnTo>
                <a:cubicBezTo>
                  <a:pt x="2649" y="112828"/>
                  <a:pt x="2649" y="112828"/>
                  <a:pt x="2649" y="112828"/>
                </a:cubicBezTo>
                <a:cubicBezTo>
                  <a:pt x="2649" y="112828"/>
                  <a:pt x="0" y="112828"/>
                  <a:pt x="0" y="116175"/>
                </a:cubicBezTo>
                <a:cubicBezTo>
                  <a:pt x="0" y="119760"/>
                  <a:pt x="2649" y="119760"/>
                  <a:pt x="2649" y="119760"/>
                </a:cubicBezTo>
                <a:cubicBezTo>
                  <a:pt x="114132" y="119760"/>
                  <a:pt x="114132" y="119760"/>
                  <a:pt x="114132" y="119760"/>
                </a:cubicBezTo>
                <a:cubicBezTo>
                  <a:pt x="116971" y="119760"/>
                  <a:pt x="119810" y="119760"/>
                  <a:pt x="119810" y="116175"/>
                </a:cubicBezTo>
                <a:cubicBezTo>
                  <a:pt x="119810" y="112828"/>
                  <a:pt x="116971" y="112828"/>
                  <a:pt x="114132" y="112828"/>
                </a:cubicBezTo>
                <a:close/>
                <a:moveTo>
                  <a:pt x="63974" y="17689"/>
                </a:moveTo>
                <a:lnTo>
                  <a:pt x="63974" y="17689"/>
                </a:lnTo>
                <a:cubicBezTo>
                  <a:pt x="63974" y="7171"/>
                  <a:pt x="63974" y="7171"/>
                  <a:pt x="63974" y="7171"/>
                </a:cubicBezTo>
                <a:cubicBezTo>
                  <a:pt x="69652" y="7171"/>
                  <a:pt x="69652" y="7171"/>
                  <a:pt x="69652" y="7171"/>
                </a:cubicBezTo>
                <a:cubicBezTo>
                  <a:pt x="72492" y="7171"/>
                  <a:pt x="75141" y="7171"/>
                  <a:pt x="75141" y="3585"/>
                </a:cubicBezTo>
                <a:cubicBezTo>
                  <a:pt x="75141" y="0"/>
                  <a:pt x="72492" y="0"/>
                  <a:pt x="69652" y="0"/>
                </a:cubicBezTo>
                <a:cubicBezTo>
                  <a:pt x="47318" y="0"/>
                  <a:pt x="47318" y="0"/>
                  <a:pt x="47318" y="0"/>
                </a:cubicBezTo>
                <a:cubicBezTo>
                  <a:pt x="47318" y="0"/>
                  <a:pt x="44479" y="0"/>
                  <a:pt x="44479" y="3585"/>
                </a:cubicBezTo>
                <a:cubicBezTo>
                  <a:pt x="44479" y="7171"/>
                  <a:pt x="47318" y="7171"/>
                  <a:pt x="47318" y="7171"/>
                </a:cubicBezTo>
                <a:cubicBezTo>
                  <a:pt x="55646" y="7171"/>
                  <a:pt x="55646" y="7171"/>
                  <a:pt x="55646" y="7171"/>
                </a:cubicBezTo>
                <a:lnTo>
                  <a:pt x="55646" y="17689"/>
                </a:lnTo>
                <a:cubicBezTo>
                  <a:pt x="24984" y="21274"/>
                  <a:pt x="0" y="52828"/>
                  <a:pt x="0" y="91553"/>
                </a:cubicBezTo>
                <a:cubicBezTo>
                  <a:pt x="0" y="95139"/>
                  <a:pt x="0" y="95139"/>
                  <a:pt x="0" y="98725"/>
                </a:cubicBezTo>
                <a:lnTo>
                  <a:pt x="2649" y="102071"/>
                </a:lnTo>
                <a:cubicBezTo>
                  <a:pt x="114132" y="102071"/>
                  <a:pt x="114132" y="102071"/>
                  <a:pt x="114132" y="102071"/>
                </a:cubicBezTo>
                <a:cubicBezTo>
                  <a:pt x="116971" y="102071"/>
                  <a:pt x="119810" y="98725"/>
                  <a:pt x="119810" y="98725"/>
                </a:cubicBezTo>
                <a:cubicBezTo>
                  <a:pt x="119810" y="95139"/>
                  <a:pt x="119810" y="95139"/>
                  <a:pt x="119810" y="91553"/>
                </a:cubicBezTo>
                <a:cubicBezTo>
                  <a:pt x="119810" y="52828"/>
                  <a:pt x="94637" y="21274"/>
                  <a:pt x="63974" y="17689"/>
                </a:cubicBezTo>
                <a:close/>
                <a:moveTo>
                  <a:pt x="8328" y="91553"/>
                </a:moveTo>
                <a:lnTo>
                  <a:pt x="8328" y="91553"/>
                </a:lnTo>
                <a:cubicBezTo>
                  <a:pt x="8328" y="56414"/>
                  <a:pt x="30662" y="28207"/>
                  <a:pt x="58485" y="28207"/>
                </a:cubicBezTo>
                <a:cubicBezTo>
                  <a:pt x="89148" y="28207"/>
                  <a:pt x="111293" y="56414"/>
                  <a:pt x="111293" y="91553"/>
                </a:cubicBezTo>
                <a:lnTo>
                  <a:pt x="8328" y="9155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4" name="Shape 4736"/>
          <p:cNvSpPr/>
          <p:nvPr/>
        </p:nvSpPr>
        <p:spPr>
          <a:xfrm>
            <a:off x="4111560" y="1579680"/>
            <a:ext cx="241200" cy="296640"/>
          </a:xfrm>
          <a:custGeom>
            <a:avLst/>
            <a:gdLst>
              <a:gd name="textAreaLeft" fmla="*/ 0 w 241200"/>
              <a:gd name="textAreaRight" fmla="*/ 241560 w 24120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5" name="Shape 4737"/>
          <p:cNvSpPr/>
          <p:nvPr/>
        </p:nvSpPr>
        <p:spPr>
          <a:xfrm>
            <a:off x="3616200" y="1579680"/>
            <a:ext cx="249480" cy="296640"/>
          </a:xfrm>
          <a:custGeom>
            <a:avLst/>
            <a:gdLst>
              <a:gd name="textAreaLeft" fmla="*/ 0 w 249480"/>
              <a:gd name="textAreaRight" fmla="*/ 249840 w 249480"/>
              <a:gd name="textAreaTop" fmla="*/ 0 h 296640"/>
              <a:gd name="textAreaBottom" fmla="*/ 297000 h 296640"/>
            </a:gdLst>
            <a:ahLst/>
            <a:rect l="textAreaLeft" t="textAreaTop" r="textAreaRight" b="textAreaBottom"/>
            <a:pathLst>
              <a:path w="120000" h="120000">
                <a:moveTo>
                  <a:pt x="61508" y="0"/>
                </a:moveTo>
                <a:lnTo>
                  <a:pt x="61508" y="0"/>
                </a:lnTo>
                <a:cubicBezTo>
                  <a:pt x="37601" y="17059"/>
                  <a:pt x="0" y="42649"/>
                  <a:pt x="0" y="71147"/>
                </a:cubicBezTo>
                <a:cubicBezTo>
                  <a:pt x="0" y="99838"/>
                  <a:pt x="27388" y="119806"/>
                  <a:pt x="61508" y="119806"/>
                </a:cubicBezTo>
                <a:cubicBezTo>
                  <a:pt x="92379" y="119806"/>
                  <a:pt x="119767" y="99838"/>
                  <a:pt x="119767" y="71147"/>
                </a:cubicBezTo>
                <a:cubicBezTo>
                  <a:pt x="119767" y="42649"/>
                  <a:pt x="81934" y="17059"/>
                  <a:pt x="61508" y="0"/>
                </a:cubicBezTo>
                <a:close/>
                <a:moveTo>
                  <a:pt x="61508" y="113990"/>
                </a:moveTo>
                <a:lnTo>
                  <a:pt x="61508" y="113990"/>
                </a:lnTo>
                <a:cubicBezTo>
                  <a:pt x="34352" y="113990"/>
                  <a:pt x="10212" y="94022"/>
                  <a:pt x="10212" y="71147"/>
                </a:cubicBezTo>
                <a:cubicBezTo>
                  <a:pt x="10212" y="48465"/>
                  <a:pt x="41083" y="25589"/>
                  <a:pt x="61508" y="11243"/>
                </a:cubicBezTo>
                <a:cubicBezTo>
                  <a:pt x="78684" y="25589"/>
                  <a:pt x="109323" y="48465"/>
                  <a:pt x="109323" y="71147"/>
                </a:cubicBezTo>
                <a:cubicBezTo>
                  <a:pt x="109323" y="94022"/>
                  <a:pt x="88897" y="113990"/>
                  <a:pt x="61508" y="113990"/>
                </a:cubicBezTo>
                <a:close/>
                <a:moveTo>
                  <a:pt x="61508" y="37027"/>
                </a:moveTo>
                <a:lnTo>
                  <a:pt x="61508" y="37027"/>
                </a:lnTo>
                <a:cubicBezTo>
                  <a:pt x="47814" y="48465"/>
                  <a:pt x="27388" y="59903"/>
                  <a:pt x="27388" y="74054"/>
                </a:cubicBezTo>
                <a:cubicBezTo>
                  <a:pt x="27388" y="91308"/>
                  <a:pt x="44564" y="102746"/>
                  <a:pt x="61508" y="102746"/>
                </a:cubicBezTo>
                <a:cubicBezTo>
                  <a:pt x="78684" y="102746"/>
                  <a:pt x="92379" y="91308"/>
                  <a:pt x="92379" y="74054"/>
                </a:cubicBezTo>
                <a:cubicBezTo>
                  <a:pt x="92379" y="59903"/>
                  <a:pt x="71953" y="48465"/>
                  <a:pt x="61508" y="37027"/>
                </a:cubicBezTo>
                <a:close/>
                <a:moveTo>
                  <a:pt x="61508" y="94022"/>
                </a:moveTo>
                <a:lnTo>
                  <a:pt x="61508" y="94022"/>
                </a:lnTo>
                <a:cubicBezTo>
                  <a:pt x="47814" y="94022"/>
                  <a:pt x="37601" y="85492"/>
                  <a:pt x="37601" y="74054"/>
                </a:cubicBezTo>
                <a:cubicBezTo>
                  <a:pt x="37601" y="62617"/>
                  <a:pt x="51295" y="54087"/>
                  <a:pt x="61508" y="45557"/>
                </a:cubicBezTo>
                <a:cubicBezTo>
                  <a:pt x="68471" y="54087"/>
                  <a:pt x="81934" y="62617"/>
                  <a:pt x="81934" y="74054"/>
                </a:cubicBezTo>
                <a:cubicBezTo>
                  <a:pt x="81934" y="85492"/>
                  <a:pt x="71953" y="94022"/>
                  <a:pt x="61508" y="940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6" name="Shape 4738"/>
          <p:cNvSpPr/>
          <p:nvPr/>
        </p:nvSpPr>
        <p:spPr>
          <a:xfrm>
            <a:off x="3100320" y="157968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7" name="Shape 4739"/>
          <p:cNvSpPr/>
          <p:nvPr/>
        </p:nvSpPr>
        <p:spPr>
          <a:xfrm>
            <a:off x="2604960" y="1585800"/>
            <a:ext cx="309600" cy="284400"/>
          </a:xfrm>
          <a:custGeom>
            <a:avLst/>
            <a:gdLst>
              <a:gd name="textAreaLeft" fmla="*/ 0 w 309600"/>
              <a:gd name="textAreaRight" fmla="*/ 309960 w 309600"/>
              <a:gd name="textAreaTop" fmla="*/ 0 h 284400"/>
              <a:gd name="textAreaBottom" fmla="*/ 284760 h 284400"/>
            </a:gdLst>
            <a:ahLst/>
            <a:rect l="textAreaLeft" t="textAreaTop" r="textAreaRight" b="textAreaBottom"/>
            <a:pathLst>
              <a:path w="120000" h="120000">
                <a:moveTo>
                  <a:pt x="95223" y="15050"/>
                </a:moveTo>
                <a:lnTo>
                  <a:pt x="95223" y="15050"/>
                </a:lnTo>
                <a:cubicBezTo>
                  <a:pt x="95223" y="6101"/>
                  <a:pt x="89861" y="0"/>
                  <a:pt x="81725" y="0"/>
                </a:cubicBezTo>
                <a:cubicBezTo>
                  <a:pt x="38089" y="0"/>
                  <a:pt x="38089" y="0"/>
                  <a:pt x="38089" y="0"/>
                </a:cubicBezTo>
                <a:cubicBezTo>
                  <a:pt x="29953" y="0"/>
                  <a:pt x="24591" y="6101"/>
                  <a:pt x="24591" y="15050"/>
                </a:cubicBezTo>
                <a:cubicBezTo>
                  <a:pt x="0" y="15050"/>
                  <a:pt x="2773" y="15050"/>
                  <a:pt x="2773" y="32949"/>
                </a:cubicBezTo>
                <a:cubicBezTo>
                  <a:pt x="2773" y="44949"/>
                  <a:pt x="10909" y="56949"/>
                  <a:pt x="24591" y="56949"/>
                </a:cubicBezTo>
                <a:cubicBezTo>
                  <a:pt x="24591" y="56949"/>
                  <a:pt x="24591" y="56949"/>
                  <a:pt x="27180" y="56949"/>
                </a:cubicBezTo>
                <a:cubicBezTo>
                  <a:pt x="29953" y="71796"/>
                  <a:pt x="43636" y="86847"/>
                  <a:pt x="57134" y="86847"/>
                </a:cubicBezTo>
                <a:cubicBezTo>
                  <a:pt x="57134" y="110847"/>
                  <a:pt x="57134" y="110847"/>
                  <a:pt x="57134" y="110847"/>
                </a:cubicBezTo>
                <a:cubicBezTo>
                  <a:pt x="46224" y="110847"/>
                  <a:pt x="46224" y="110847"/>
                  <a:pt x="46224" y="110847"/>
                </a:cubicBezTo>
                <a:cubicBezTo>
                  <a:pt x="43636" y="110847"/>
                  <a:pt x="40862" y="113898"/>
                  <a:pt x="40862" y="116745"/>
                </a:cubicBezTo>
                <a:cubicBezTo>
                  <a:pt x="40862" y="116745"/>
                  <a:pt x="43636" y="119796"/>
                  <a:pt x="46224" y="119796"/>
                </a:cubicBezTo>
                <a:cubicBezTo>
                  <a:pt x="73405" y="119796"/>
                  <a:pt x="73405" y="119796"/>
                  <a:pt x="73405" y="119796"/>
                </a:cubicBezTo>
                <a:cubicBezTo>
                  <a:pt x="76363" y="119796"/>
                  <a:pt x="78952" y="116745"/>
                  <a:pt x="78952" y="116745"/>
                </a:cubicBezTo>
                <a:cubicBezTo>
                  <a:pt x="78952" y="113898"/>
                  <a:pt x="76363" y="110847"/>
                  <a:pt x="73405" y="110847"/>
                </a:cubicBezTo>
                <a:cubicBezTo>
                  <a:pt x="62681" y="110847"/>
                  <a:pt x="62681" y="110847"/>
                  <a:pt x="62681" y="110847"/>
                </a:cubicBezTo>
                <a:cubicBezTo>
                  <a:pt x="62681" y="86847"/>
                  <a:pt x="62681" y="86847"/>
                  <a:pt x="62681" y="86847"/>
                </a:cubicBezTo>
                <a:cubicBezTo>
                  <a:pt x="76363" y="86847"/>
                  <a:pt x="89861" y="71796"/>
                  <a:pt x="92634" y="56949"/>
                </a:cubicBezTo>
                <a:cubicBezTo>
                  <a:pt x="95223" y="56949"/>
                  <a:pt x="95223" y="56949"/>
                  <a:pt x="95223" y="56949"/>
                </a:cubicBezTo>
                <a:cubicBezTo>
                  <a:pt x="108906" y="56949"/>
                  <a:pt x="117041" y="44949"/>
                  <a:pt x="117041" y="32949"/>
                </a:cubicBezTo>
                <a:cubicBezTo>
                  <a:pt x="117041" y="15050"/>
                  <a:pt x="119815" y="15050"/>
                  <a:pt x="95223" y="15050"/>
                </a:cubicBezTo>
                <a:close/>
                <a:moveTo>
                  <a:pt x="24591" y="48000"/>
                </a:moveTo>
                <a:lnTo>
                  <a:pt x="24591" y="48000"/>
                </a:lnTo>
                <a:cubicBezTo>
                  <a:pt x="16271" y="48000"/>
                  <a:pt x="8135" y="41898"/>
                  <a:pt x="8135" y="32949"/>
                </a:cubicBezTo>
                <a:cubicBezTo>
                  <a:pt x="8135" y="24000"/>
                  <a:pt x="8135" y="24000"/>
                  <a:pt x="24591" y="24000"/>
                </a:cubicBezTo>
                <a:lnTo>
                  <a:pt x="24591" y="48000"/>
                </a:lnTo>
                <a:close/>
                <a:moveTo>
                  <a:pt x="89861" y="38847"/>
                </a:moveTo>
                <a:lnTo>
                  <a:pt x="89861" y="38847"/>
                </a:lnTo>
                <a:cubicBezTo>
                  <a:pt x="89861" y="56949"/>
                  <a:pt x="76363" y="80949"/>
                  <a:pt x="59907" y="80949"/>
                </a:cubicBezTo>
                <a:cubicBezTo>
                  <a:pt x="43636" y="80949"/>
                  <a:pt x="29953" y="56949"/>
                  <a:pt x="29953" y="38847"/>
                </a:cubicBezTo>
                <a:cubicBezTo>
                  <a:pt x="29953" y="15050"/>
                  <a:pt x="29953" y="15050"/>
                  <a:pt x="29953" y="15050"/>
                </a:cubicBezTo>
                <a:cubicBezTo>
                  <a:pt x="29953" y="12000"/>
                  <a:pt x="35500" y="8949"/>
                  <a:pt x="38089" y="8949"/>
                </a:cubicBezTo>
                <a:cubicBezTo>
                  <a:pt x="81725" y="8949"/>
                  <a:pt x="81725" y="8949"/>
                  <a:pt x="81725" y="8949"/>
                </a:cubicBezTo>
                <a:cubicBezTo>
                  <a:pt x="84314" y="8949"/>
                  <a:pt x="89861" y="12000"/>
                  <a:pt x="89861" y="15050"/>
                </a:cubicBezTo>
                <a:lnTo>
                  <a:pt x="89861" y="38847"/>
                </a:lnTo>
                <a:close/>
                <a:moveTo>
                  <a:pt x="95223" y="48000"/>
                </a:moveTo>
                <a:lnTo>
                  <a:pt x="95223" y="48000"/>
                </a:lnTo>
                <a:cubicBezTo>
                  <a:pt x="95223" y="24000"/>
                  <a:pt x="95223" y="24000"/>
                  <a:pt x="95223" y="24000"/>
                </a:cubicBezTo>
                <a:cubicBezTo>
                  <a:pt x="111679" y="24000"/>
                  <a:pt x="111679" y="24000"/>
                  <a:pt x="111679" y="32949"/>
                </a:cubicBezTo>
                <a:cubicBezTo>
                  <a:pt x="111679" y="41898"/>
                  <a:pt x="103543" y="48000"/>
                  <a:pt x="95223" y="48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8" name="Shape 4740"/>
          <p:cNvSpPr/>
          <p:nvPr/>
        </p:nvSpPr>
        <p:spPr>
          <a:xfrm>
            <a:off x="2116080" y="157968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19" name="Shape 4741"/>
          <p:cNvSpPr/>
          <p:nvPr/>
        </p:nvSpPr>
        <p:spPr>
          <a:xfrm>
            <a:off x="1657440" y="1579680"/>
            <a:ext cx="247680" cy="296640"/>
          </a:xfrm>
          <a:custGeom>
            <a:avLst/>
            <a:gdLst>
              <a:gd name="textAreaLeft" fmla="*/ 0 w 247680"/>
              <a:gd name="textAreaRight" fmla="*/ 248040 w 247680"/>
              <a:gd name="textAreaTop" fmla="*/ 0 h 296640"/>
              <a:gd name="textAreaBottom" fmla="*/ 297000 h 296640"/>
            </a:gdLst>
            <a:ahLst/>
            <a:rect l="textAreaLeft" t="textAreaTop" r="textAreaRight" b="textAreaBottom"/>
            <a:pathLst>
              <a:path w="120000" h="120000">
                <a:moveTo>
                  <a:pt x="116286" y="45557"/>
                </a:moveTo>
                <a:lnTo>
                  <a:pt x="116286" y="45557"/>
                </a:lnTo>
                <a:cubicBezTo>
                  <a:pt x="102591" y="22681"/>
                  <a:pt x="102591" y="22681"/>
                  <a:pt x="102591" y="22681"/>
                </a:cubicBezTo>
                <a:cubicBezTo>
                  <a:pt x="102591" y="22681"/>
                  <a:pt x="102591" y="22681"/>
                  <a:pt x="99110" y="22681"/>
                </a:cubicBezTo>
                <a:cubicBezTo>
                  <a:pt x="71721" y="22681"/>
                  <a:pt x="71721" y="22681"/>
                  <a:pt x="71721" y="22681"/>
                </a:cubicBezTo>
                <a:cubicBezTo>
                  <a:pt x="71721" y="14151"/>
                  <a:pt x="71721" y="14151"/>
                  <a:pt x="71721" y="14151"/>
                </a:cubicBezTo>
                <a:cubicBezTo>
                  <a:pt x="71721" y="5621"/>
                  <a:pt x="64990" y="0"/>
                  <a:pt x="54777" y="0"/>
                </a:cubicBezTo>
                <a:cubicBezTo>
                  <a:pt x="44564" y="0"/>
                  <a:pt x="44564" y="0"/>
                  <a:pt x="44564" y="0"/>
                </a:cubicBezTo>
                <a:cubicBezTo>
                  <a:pt x="34352" y="0"/>
                  <a:pt x="27388" y="5621"/>
                  <a:pt x="27388" y="14151"/>
                </a:cubicBezTo>
                <a:cubicBezTo>
                  <a:pt x="27388" y="22681"/>
                  <a:pt x="27388" y="22681"/>
                  <a:pt x="27388" y="22681"/>
                </a:cubicBezTo>
                <a:cubicBezTo>
                  <a:pt x="10444" y="22681"/>
                  <a:pt x="10444" y="22681"/>
                  <a:pt x="10444" y="22681"/>
                </a:cubicBezTo>
                <a:cubicBezTo>
                  <a:pt x="3481" y="22681"/>
                  <a:pt x="0" y="25589"/>
                  <a:pt x="0" y="28497"/>
                </a:cubicBezTo>
                <a:cubicBezTo>
                  <a:pt x="0" y="68432"/>
                  <a:pt x="0" y="68432"/>
                  <a:pt x="0" y="68432"/>
                </a:cubicBezTo>
                <a:cubicBezTo>
                  <a:pt x="0" y="71147"/>
                  <a:pt x="3481" y="74054"/>
                  <a:pt x="10444" y="74054"/>
                </a:cubicBezTo>
                <a:cubicBezTo>
                  <a:pt x="27388" y="74054"/>
                  <a:pt x="27388" y="74054"/>
                  <a:pt x="27388" y="74054"/>
                </a:cubicBezTo>
                <a:cubicBezTo>
                  <a:pt x="27388" y="105460"/>
                  <a:pt x="27388" y="105460"/>
                  <a:pt x="27388" y="105460"/>
                </a:cubicBezTo>
                <a:cubicBezTo>
                  <a:pt x="27388" y="113990"/>
                  <a:pt x="34352" y="119806"/>
                  <a:pt x="44564" y="119806"/>
                </a:cubicBezTo>
                <a:cubicBezTo>
                  <a:pt x="54777" y="119806"/>
                  <a:pt x="54777" y="119806"/>
                  <a:pt x="54777" y="119806"/>
                </a:cubicBezTo>
                <a:cubicBezTo>
                  <a:pt x="64990" y="119806"/>
                  <a:pt x="71721" y="113990"/>
                  <a:pt x="71721" y="105460"/>
                </a:cubicBezTo>
                <a:cubicBezTo>
                  <a:pt x="71721" y="74054"/>
                  <a:pt x="71721" y="74054"/>
                  <a:pt x="71721" y="74054"/>
                </a:cubicBezTo>
                <a:cubicBezTo>
                  <a:pt x="99110" y="74054"/>
                  <a:pt x="99110" y="74054"/>
                  <a:pt x="99110" y="74054"/>
                </a:cubicBezTo>
                <a:lnTo>
                  <a:pt x="99110" y="74054"/>
                </a:lnTo>
                <a:cubicBezTo>
                  <a:pt x="102591" y="74054"/>
                  <a:pt x="102591" y="74054"/>
                  <a:pt x="102591" y="74054"/>
                </a:cubicBezTo>
                <a:cubicBezTo>
                  <a:pt x="116286" y="51179"/>
                  <a:pt x="116286" y="51179"/>
                  <a:pt x="116286" y="51179"/>
                </a:cubicBezTo>
                <a:cubicBezTo>
                  <a:pt x="119767" y="48465"/>
                  <a:pt x="119767" y="48465"/>
                  <a:pt x="119767" y="48465"/>
                </a:cubicBezTo>
                <a:cubicBezTo>
                  <a:pt x="119767" y="48465"/>
                  <a:pt x="119767" y="45557"/>
                  <a:pt x="116286" y="45557"/>
                </a:cubicBezTo>
                <a:close/>
                <a:moveTo>
                  <a:pt x="37601" y="14151"/>
                </a:moveTo>
                <a:lnTo>
                  <a:pt x="37601" y="14151"/>
                </a:lnTo>
                <a:cubicBezTo>
                  <a:pt x="37601" y="11243"/>
                  <a:pt x="41083" y="5621"/>
                  <a:pt x="44564" y="5621"/>
                </a:cubicBezTo>
                <a:cubicBezTo>
                  <a:pt x="54777" y="5621"/>
                  <a:pt x="54777" y="5621"/>
                  <a:pt x="54777" y="5621"/>
                </a:cubicBezTo>
                <a:cubicBezTo>
                  <a:pt x="58259" y="5621"/>
                  <a:pt x="64990" y="11243"/>
                  <a:pt x="64990" y="14151"/>
                </a:cubicBezTo>
                <a:cubicBezTo>
                  <a:pt x="64990" y="22681"/>
                  <a:pt x="64990" y="22681"/>
                  <a:pt x="64990" y="22681"/>
                </a:cubicBezTo>
                <a:cubicBezTo>
                  <a:pt x="37601" y="22681"/>
                  <a:pt x="37601" y="22681"/>
                  <a:pt x="37601" y="22681"/>
                </a:cubicBezTo>
                <a:lnTo>
                  <a:pt x="37601" y="14151"/>
                </a:lnTo>
                <a:close/>
                <a:moveTo>
                  <a:pt x="64990" y="105460"/>
                </a:moveTo>
                <a:lnTo>
                  <a:pt x="64990" y="105460"/>
                </a:lnTo>
                <a:cubicBezTo>
                  <a:pt x="64990" y="108368"/>
                  <a:pt x="58259" y="113990"/>
                  <a:pt x="54777" y="113990"/>
                </a:cubicBezTo>
                <a:cubicBezTo>
                  <a:pt x="44564" y="113990"/>
                  <a:pt x="44564" y="113990"/>
                  <a:pt x="44564" y="113990"/>
                </a:cubicBezTo>
                <a:cubicBezTo>
                  <a:pt x="41083" y="113990"/>
                  <a:pt x="37601" y="108368"/>
                  <a:pt x="37601" y="105460"/>
                </a:cubicBezTo>
                <a:cubicBezTo>
                  <a:pt x="37601" y="74054"/>
                  <a:pt x="37601" y="74054"/>
                  <a:pt x="37601" y="74054"/>
                </a:cubicBezTo>
                <a:cubicBezTo>
                  <a:pt x="64990" y="74054"/>
                  <a:pt x="64990" y="74054"/>
                  <a:pt x="64990" y="74054"/>
                </a:cubicBezTo>
                <a:lnTo>
                  <a:pt x="64990" y="105460"/>
                </a:lnTo>
                <a:close/>
                <a:moveTo>
                  <a:pt x="99110" y="65525"/>
                </a:moveTo>
                <a:lnTo>
                  <a:pt x="99110" y="65525"/>
                </a:lnTo>
                <a:cubicBezTo>
                  <a:pt x="99110" y="68432"/>
                  <a:pt x="95860" y="68432"/>
                  <a:pt x="95860" y="68432"/>
                </a:cubicBezTo>
                <a:cubicBezTo>
                  <a:pt x="13694" y="68432"/>
                  <a:pt x="13694" y="68432"/>
                  <a:pt x="13694" y="68432"/>
                </a:cubicBezTo>
                <a:cubicBezTo>
                  <a:pt x="10444" y="68432"/>
                  <a:pt x="10444" y="65525"/>
                  <a:pt x="10444" y="62617"/>
                </a:cubicBezTo>
                <a:cubicBezTo>
                  <a:pt x="10444" y="34119"/>
                  <a:pt x="10444" y="34119"/>
                  <a:pt x="10444" y="34119"/>
                </a:cubicBezTo>
                <a:cubicBezTo>
                  <a:pt x="10444" y="31405"/>
                  <a:pt x="10444" y="28497"/>
                  <a:pt x="13694" y="28497"/>
                </a:cubicBezTo>
                <a:cubicBezTo>
                  <a:pt x="95860" y="28497"/>
                  <a:pt x="95860" y="28497"/>
                  <a:pt x="95860" y="28497"/>
                </a:cubicBezTo>
                <a:cubicBezTo>
                  <a:pt x="95860" y="28497"/>
                  <a:pt x="99110" y="28497"/>
                  <a:pt x="99110" y="31405"/>
                </a:cubicBezTo>
                <a:cubicBezTo>
                  <a:pt x="109555" y="48465"/>
                  <a:pt x="109555" y="48465"/>
                  <a:pt x="109555" y="48465"/>
                </a:cubicBezTo>
                <a:lnTo>
                  <a:pt x="99110" y="655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20" name="Shape 4742"/>
          <p:cNvSpPr/>
          <p:nvPr/>
        </p:nvSpPr>
        <p:spPr>
          <a:xfrm>
            <a:off x="1176480" y="157968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721"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3"/>
          <p:cNvSpPr/>
          <p:nvPr/>
        </p:nvSpPr>
        <p:spPr>
          <a:xfrm>
            <a:off x="-4680" y="0"/>
            <a:ext cx="1219176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23" name="Group 4"/>
          <p:cNvGrpSpPr/>
          <p:nvPr/>
        </p:nvGrpSpPr>
        <p:grpSpPr>
          <a:xfrm>
            <a:off x="8469000" y="255600"/>
            <a:ext cx="3327840" cy="246240"/>
            <a:chOff x="8469000" y="255600"/>
            <a:chExt cx="3327840" cy="246240"/>
          </a:xfrm>
        </p:grpSpPr>
        <p:sp>
          <p:nvSpPr>
            <p:cNvPr id="1724" name="Rectangle 5"/>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725" name="Straight Arrow Connector 6"/>
            <p:cNvCxnSpPr/>
            <p:nvPr/>
          </p:nvCxnSpPr>
          <p:spPr>
            <a:xfrm>
              <a:off x="10269000" y="423000"/>
              <a:ext cx="1528200" cy="1080"/>
            </a:xfrm>
            <a:prstGeom prst="straightConnector1">
              <a:avLst/>
            </a:prstGeom>
            <a:ln w="3240">
              <a:solidFill>
                <a:srgbClr val="ffffff"/>
              </a:solidFill>
              <a:miter/>
              <a:tailEnd len="med" type="triangle" w="med"/>
            </a:ln>
          </p:spPr>
        </p:cxnSp>
      </p:grpSp>
      <p:grpSp>
        <p:nvGrpSpPr>
          <p:cNvPr id="1726" name="Group 7"/>
          <p:cNvGrpSpPr/>
          <p:nvPr/>
        </p:nvGrpSpPr>
        <p:grpSpPr>
          <a:xfrm>
            <a:off x="284040" y="255600"/>
            <a:ext cx="825480" cy="824040"/>
            <a:chOff x="284040" y="255600"/>
            <a:chExt cx="825480" cy="824040"/>
          </a:xfrm>
        </p:grpSpPr>
        <p:sp>
          <p:nvSpPr>
            <p:cNvPr id="1727" name="Frame 8"/>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28" name="Rectangle 9"/>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sp>
        <p:nvSpPr>
          <p:cNvPr id="1729"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0"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1"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2"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3"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5"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6"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7"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9"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740"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41"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42"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43"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44"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45"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46"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47"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48"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49"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1"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2"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3"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4"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5"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6"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7"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8"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59"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0"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1"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2"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3"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4"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5"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6"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7"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8"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69"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0"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1"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2"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3"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4"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5"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6"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7"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8"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79"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0"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1"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2"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3"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4"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5"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6"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7"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8"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89"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0"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1"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2"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3"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4"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5"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6"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7"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8"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99"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0"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1"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2"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3"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5"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6"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7"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8"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09"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0"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1"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2"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3"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5"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6"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7"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8"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19"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1"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2"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3"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5"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6"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7"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8"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29"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0"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1"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2"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3"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5"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6"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7"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8"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39"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0"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1"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2"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3"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4"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5"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6"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7"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8"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49"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0"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1"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2"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3"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4"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5"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6"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7"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8"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59"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860"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861" name="" descr=""/>
          <p:cNvPicPr/>
          <p:nvPr/>
        </p:nvPicPr>
        <p:blipFill>
          <a:blip r:embed="rId1"/>
          <a:stretch/>
        </p:blipFill>
        <p:spPr>
          <a:xfrm>
            <a:off x="-360" y="0"/>
            <a:ext cx="12192120" cy="685800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3" name="Group 3"/>
          <p:cNvGrpSpPr/>
          <p:nvPr/>
        </p:nvGrpSpPr>
        <p:grpSpPr>
          <a:xfrm>
            <a:off x="8469000" y="255600"/>
            <a:ext cx="3327840" cy="246240"/>
            <a:chOff x="8469000" y="255600"/>
            <a:chExt cx="3327840" cy="246240"/>
          </a:xfrm>
        </p:grpSpPr>
        <p:sp>
          <p:nvSpPr>
            <p:cNvPr id="1134" name="Rectangle 4"/>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135" name="Straight Arrow Connector 5"/>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136" name="Rectangle 10"/>
          <p:cNvSpPr/>
          <p:nvPr/>
        </p:nvSpPr>
        <p:spPr>
          <a:xfrm>
            <a:off x="5037120" y="1600200"/>
            <a:ext cx="7155000" cy="365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Text Placeholder 6"/>
          <p:cNvSpPr/>
          <p:nvPr/>
        </p:nvSpPr>
        <p:spPr>
          <a:xfrm>
            <a:off x="5772240" y="3638520"/>
            <a:ext cx="5305320" cy="53028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138" name="TextBox 12"/>
          <p:cNvSpPr/>
          <p:nvPr/>
        </p:nvSpPr>
        <p:spPr>
          <a:xfrm>
            <a:off x="5726160" y="2008080"/>
            <a:ext cx="4182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Black"/>
                <a:ea typeface="Times New Roman"/>
              </a:rPr>
              <a:t>ABOU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Black"/>
                <a:ea typeface="Times New Roman"/>
              </a:rPr>
              <a:t>COMPANY.</a:t>
            </a:r>
            <a:endParaRPr b="0" lang="en-US" sz="4000" spc="-1" strike="noStrike">
              <a:solidFill>
                <a:srgbClr val="000000"/>
              </a:solidFill>
              <a:latin typeface="Calibri"/>
            </a:endParaRPr>
          </a:p>
        </p:txBody>
      </p:sp>
      <p:sp>
        <p:nvSpPr>
          <p:cNvPr id="1139" name="Text Placeholder 6"/>
          <p:cNvSpPr/>
          <p:nvPr/>
        </p:nvSpPr>
        <p:spPr>
          <a:xfrm>
            <a:off x="5772240" y="4398840"/>
            <a:ext cx="5305320" cy="5320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a:t>
            </a:r>
            <a:endParaRPr b="0" lang="en-US" sz="1000" spc="-1" strike="noStrike">
              <a:solidFill>
                <a:srgbClr val="000000"/>
              </a:solidFill>
              <a:latin typeface="Calibri"/>
            </a:endParaRPr>
          </a:p>
        </p:txBody>
      </p:sp>
      <p:grpSp>
        <p:nvGrpSpPr>
          <p:cNvPr id="1140" name="Group 14"/>
          <p:cNvGrpSpPr/>
          <p:nvPr/>
        </p:nvGrpSpPr>
        <p:grpSpPr>
          <a:xfrm>
            <a:off x="2049480" y="4799160"/>
            <a:ext cx="1977840" cy="458640"/>
            <a:chOff x="2049480" y="4799160"/>
            <a:chExt cx="1977840" cy="458640"/>
          </a:xfrm>
        </p:grpSpPr>
        <p:sp>
          <p:nvSpPr>
            <p:cNvPr id="1141" name="Rectangle 15"/>
            <p:cNvSpPr/>
            <p:nvPr/>
          </p:nvSpPr>
          <p:spPr>
            <a:xfrm>
              <a:off x="2049480" y="4799160"/>
              <a:ext cx="1969200" cy="4586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TextBox 16"/>
            <p:cNvSpPr/>
            <p:nvPr/>
          </p:nvSpPr>
          <p:spPr>
            <a:xfrm>
              <a:off x="2049480" y="4860000"/>
              <a:ext cx="197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OFFICES</a:t>
              </a:r>
              <a:endParaRPr b="0" lang="en-US" sz="1600" spc="-1" strike="noStrike">
                <a:solidFill>
                  <a:srgbClr val="000000"/>
                </a:solidFill>
                <a:latin typeface="Calibri"/>
              </a:endParaRPr>
            </a:p>
          </p:txBody>
        </p:sp>
      </p:grpSp>
      <p:grpSp>
        <p:nvGrpSpPr>
          <p:cNvPr id="1143" name="Group 17"/>
          <p:cNvGrpSpPr/>
          <p:nvPr/>
        </p:nvGrpSpPr>
        <p:grpSpPr>
          <a:xfrm>
            <a:off x="2049480" y="5630760"/>
            <a:ext cx="4281480" cy="511200"/>
            <a:chOff x="2049480" y="5630760"/>
            <a:chExt cx="4281480" cy="511200"/>
          </a:xfrm>
        </p:grpSpPr>
        <p:grpSp>
          <p:nvGrpSpPr>
            <p:cNvPr id="1144" name="Group 18"/>
            <p:cNvGrpSpPr/>
            <p:nvPr/>
          </p:nvGrpSpPr>
          <p:grpSpPr>
            <a:xfrm>
              <a:off x="2126160" y="6065640"/>
              <a:ext cx="4204800" cy="76320"/>
              <a:chOff x="2126160" y="6065640"/>
              <a:chExt cx="4204800" cy="76320"/>
            </a:xfrm>
          </p:grpSpPr>
          <p:sp>
            <p:nvSpPr>
              <p:cNvPr id="1145" name="Rectangle 21"/>
              <p:cNvSpPr/>
              <p:nvPr/>
            </p:nvSpPr>
            <p:spPr>
              <a:xfrm>
                <a:off x="2126160" y="6065640"/>
                <a:ext cx="420480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Rectangle 22"/>
              <p:cNvSpPr/>
              <p:nvPr/>
            </p:nvSpPr>
            <p:spPr>
              <a:xfrm>
                <a:off x="4496040" y="6065640"/>
                <a:ext cx="1834920" cy="76320"/>
              </a:xfrm>
              <a:prstGeom prst="rect">
                <a:avLst/>
              </a:prstGeom>
              <a:solidFill>
                <a:srgbClr val="0070c0"/>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7" name="TextBox 19"/>
            <p:cNvSpPr/>
            <p:nvPr/>
          </p:nvSpPr>
          <p:spPr>
            <a:xfrm>
              <a:off x="2049480" y="5630760"/>
              <a:ext cx="418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TARGET</a:t>
              </a:r>
              <a:endParaRPr b="0" lang="en-US" sz="1600" spc="-1" strike="noStrike">
                <a:solidFill>
                  <a:srgbClr val="000000"/>
                </a:solidFill>
                <a:latin typeface="Calibri"/>
              </a:endParaRPr>
            </a:p>
          </p:txBody>
        </p:sp>
        <p:sp>
          <p:nvSpPr>
            <p:cNvPr id="1148" name="TextBox 20"/>
            <p:cNvSpPr/>
            <p:nvPr/>
          </p:nvSpPr>
          <p:spPr>
            <a:xfrm>
              <a:off x="5087520" y="5647680"/>
              <a:ext cx="124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70%</a:t>
              </a:r>
              <a:endParaRPr b="0" lang="en-US" sz="1600" spc="-1" strike="noStrike">
                <a:solidFill>
                  <a:srgbClr val="000000"/>
                </a:solidFill>
                <a:latin typeface="Calibri"/>
              </a:endParaRPr>
            </a:p>
          </p:txBody>
        </p:sp>
      </p:grpSp>
      <p:grpSp>
        <p:nvGrpSpPr>
          <p:cNvPr id="1149" name="Group 23"/>
          <p:cNvGrpSpPr/>
          <p:nvPr/>
        </p:nvGrpSpPr>
        <p:grpSpPr>
          <a:xfrm>
            <a:off x="284040" y="255600"/>
            <a:ext cx="825480" cy="824040"/>
            <a:chOff x="284040" y="255600"/>
            <a:chExt cx="825480" cy="824040"/>
          </a:xfrm>
        </p:grpSpPr>
        <p:sp>
          <p:nvSpPr>
            <p:cNvPr id="1150" name="Frame 24"/>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1" name="Rectangle 25"/>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152" name="" descr=""/>
          <p:cNvPicPr/>
          <p:nvPr/>
        </p:nvPicPr>
        <p:blipFill>
          <a:blip r:embed="rId1"/>
          <a:stretch/>
        </p:blipFill>
        <p:spPr>
          <a:xfrm>
            <a:off x="2049480" y="1600200"/>
            <a:ext cx="2803680" cy="365760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54" name="Group 3"/>
          <p:cNvGrpSpPr/>
          <p:nvPr/>
        </p:nvGrpSpPr>
        <p:grpSpPr>
          <a:xfrm>
            <a:off x="8469000" y="255600"/>
            <a:ext cx="3327840" cy="246240"/>
            <a:chOff x="8469000" y="255600"/>
            <a:chExt cx="3327840" cy="246240"/>
          </a:xfrm>
        </p:grpSpPr>
        <p:sp>
          <p:nvSpPr>
            <p:cNvPr id="1155" name="Rectangle 4"/>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156" name="Straight Arrow Connector 5"/>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157" name="Freeform 9"/>
          <p:cNvSpPr/>
          <p:nvPr/>
        </p:nvSpPr>
        <p:spPr>
          <a:xfrm>
            <a:off x="196920" y="0"/>
            <a:ext cx="4152960" cy="6858000"/>
          </a:xfrm>
          <a:custGeom>
            <a:avLst/>
            <a:gdLst/>
            <a:ahLst/>
            <a:rect l="l" t="t" r="r" b="b"/>
            <a:pathLst>
              <a:path w="4152900" h="6858000">
                <a:moveTo>
                  <a:pt x="407147" y="0"/>
                </a:moveTo>
                <a:cubicBezTo>
                  <a:pt x="2475870" y="0"/>
                  <a:pt x="4152900" y="1535216"/>
                  <a:pt x="4152900" y="3429000"/>
                </a:cubicBezTo>
                <a:cubicBezTo>
                  <a:pt x="4152900" y="5322784"/>
                  <a:pt x="2475870" y="6858000"/>
                  <a:pt x="407147" y="6858000"/>
                </a:cubicBezTo>
                <a:cubicBezTo>
                  <a:pt x="277853" y="6858000"/>
                  <a:pt x="150088" y="6852003"/>
                  <a:pt x="24166" y="6840297"/>
                </a:cubicBezTo>
                <a:lnTo>
                  <a:pt x="0" y="6837486"/>
                </a:lnTo>
                <a:lnTo>
                  <a:pt x="0" y="20515"/>
                </a:lnTo>
                <a:lnTo>
                  <a:pt x="24166" y="17704"/>
                </a:lnTo>
                <a:cubicBezTo>
                  <a:pt x="150088" y="5997"/>
                  <a:pt x="277853" y="0"/>
                  <a:pt x="407147"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8" name="Text Placeholder 6"/>
          <p:cNvSpPr/>
          <p:nvPr/>
        </p:nvSpPr>
        <p:spPr>
          <a:xfrm>
            <a:off x="6019920" y="3411360"/>
            <a:ext cx="5305320" cy="53028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159" name="TextBox 11"/>
          <p:cNvSpPr/>
          <p:nvPr/>
        </p:nvSpPr>
        <p:spPr>
          <a:xfrm>
            <a:off x="5973840" y="1838160"/>
            <a:ext cx="5132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ea typeface="Times New Roman"/>
              </a:rPr>
              <a:t>ABOU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ea typeface="Times New Roman"/>
              </a:rPr>
              <a:t>OUR FOUNDER.</a:t>
            </a:r>
            <a:endParaRPr b="0" lang="en-US" sz="4000" spc="-1" strike="noStrike">
              <a:solidFill>
                <a:srgbClr val="000000"/>
              </a:solidFill>
              <a:latin typeface="Calibri"/>
            </a:endParaRPr>
          </a:p>
        </p:txBody>
      </p:sp>
      <p:sp>
        <p:nvSpPr>
          <p:cNvPr id="1160" name="Text Placeholder 6"/>
          <p:cNvSpPr/>
          <p:nvPr/>
        </p:nvSpPr>
        <p:spPr>
          <a:xfrm>
            <a:off x="6019920" y="4172040"/>
            <a:ext cx="5305320" cy="53172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a:t>
            </a:r>
            <a:endParaRPr b="0" lang="en-US" sz="1000" spc="-1" strike="noStrike">
              <a:solidFill>
                <a:srgbClr val="000000"/>
              </a:solidFill>
              <a:latin typeface="Calibri"/>
            </a:endParaRPr>
          </a:p>
        </p:txBody>
      </p:sp>
      <p:grpSp>
        <p:nvGrpSpPr>
          <p:cNvPr id="1161" name="Group 21"/>
          <p:cNvGrpSpPr/>
          <p:nvPr/>
        </p:nvGrpSpPr>
        <p:grpSpPr>
          <a:xfrm>
            <a:off x="6095880" y="4836960"/>
            <a:ext cx="1978200" cy="459000"/>
            <a:chOff x="6095880" y="4836960"/>
            <a:chExt cx="1978200" cy="459000"/>
          </a:xfrm>
        </p:grpSpPr>
        <p:sp>
          <p:nvSpPr>
            <p:cNvPr id="1162" name="Rectangle 13"/>
            <p:cNvSpPr/>
            <p:nvPr/>
          </p:nvSpPr>
          <p:spPr>
            <a:xfrm>
              <a:off x="6095880" y="4836960"/>
              <a:ext cx="1969560" cy="4590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TextBox 14"/>
            <p:cNvSpPr/>
            <p:nvPr/>
          </p:nvSpPr>
          <p:spPr>
            <a:xfrm>
              <a:off x="6095880" y="4897800"/>
              <a:ext cx="197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MARKETING</a:t>
              </a:r>
              <a:endParaRPr b="0" lang="en-US" sz="1600" spc="-1" strike="noStrike">
                <a:solidFill>
                  <a:srgbClr val="000000"/>
                </a:solidFill>
                <a:latin typeface="Calibri"/>
              </a:endParaRPr>
            </a:p>
          </p:txBody>
        </p:sp>
      </p:grpSp>
      <p:grpSp>
        <p:nvGrpSpPr>
          <p:cNvPr id="1164" name="Group 20"/>
          <p:cNvGrpSpPr/>
          <p:nvPr/>
        </p:nvGrpSpPr>
        <p:grpSpPr>
          <a:xfrm>
            <a:off x="6019920" y="5470560"/>
            <a:ext cx="4279680" cy="511200"/>
            <a:chOff x="6019920" y="5470560"/>
            <a:chExt cx="4279680" cy="511200"/>
          </a:xfrm>
        </p:grpSpPr>
        <p:grpSp>
          <p:nvGrpSpPr>
            <p:cNvPr id="1165" name="Group 17"/>
            <p:cNvGrpSpPr/>
            <p:nvPr/>
          </p:nvGrpSpPr>
          <p:grpSpPr>
            <a:xfrm>
              <a:off x="6096600" y="5905440"/>
              <a:ext cx="4203000" cy="76320"/>
              <a:chOff x="6096600" y="5905440"/>
              <a:chExt cx="4203000" cy="76320"/>
            </a:xfrm>
          </p:grpSpPr>
          <p:sp>
            <p:nvSpPr>
              <p:cNvPr id="1166" name="Rectangle 15"/>
              <p:cNvSpPr/>
              <p:nvPr/>
            </p:nvSpPr>
            <p:spPr>
              <a:xfrm>
                <a:off x="6096600" y="5905440"/>
                <a:ext cx="420300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7" name="Rectangle 16"/>
              <p:cNvSpPr/>
              <p:nvPr/>
            </p:nvSpPr>
            <p:spPr>
              <a:xfrm>
                <a:off x="7841880" y="5905440"/>
                <a:ext cx="2457720" cy="76320"/>
              </a:xfrm>
              <a:prstGeom prst="rect">
                <a:avLst/>
              </a:prstGeom>
              <a:solidFill>
                <a:srgbClr val="0070c0"/>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8" name="TextBox 18"/>
            <p:cNvSpPr/>
            <p:nvPr/>
          </p:nvSpPr>
          <p:spPr>
            <a:xfrm>
              <a:off x="6019920" y="5470560"/>
              <a:ext cx="418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SALE</a:t>
              </a:r>
              <a:endParaRPr b="0" lang="en-US" sz="1600" spc="-1" strike="noStrike">
                <a:solidFill>
                  <a:srgbClr val="000000"/>
                </a:solidFill>
                <a:latin typeface="Calibri"/>
              </a:endParaRPr>
            </a:p>
          </p:txBody>
        </p:sp>
        <p:sp>
          <p:nvSpPr>
            <p:cNvPr id="1169" name="TextBox 19"/>
            <p:cNvSpPr/>
            <p:nvPr/>
          </p:nvSpPr>
          <p:spPr>
            <a:xfrm>
              <a:off x="9056520" y="5487480"/>
              <a:ext cx="12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35%</a:t>
              </a:r>
              <a:endParaRPr b="0" lang="en-US" sz="1600" spc="-1" strike="noStrike">
                <a:solidFill>
                  <a:srgbClr val="000000"/>
                </a:solidFill>
                <a:latin typeface="Calibri"/>
              </a:endParaRPr>
            </a:p>
          </p:txBody>
        </p:sp>
      </p:gr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2"/>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1" name="Freeform 12"/>
          <p:cNvSpPr/>
          <p:nvPr/>
        </p:nvSpPr>
        <p:spPr>
          <a:xfrm>
            <a:off x="7005600" y="0"/>
            <a:ext cx="4971960" cy="6858000"/>
          </a:xfrm>
          <a:custGeom>
            <a:avLst/>
            <a:gdLst/>
            <a:ahLst/>
            <a:rect l="l" t="t" r="r" b="b"/>
            <a:pathLst>
              <a:path w="4972050" h="6858000">
                <a:moveTo>
                  <a:pt x="4484594" y="0"/>
                </a:moveTo>
                <a:cubicBezTo>
                  <a:pt x="4639392" y="0"/>
                  <a:pt x="4792358" y="5997"/>
                  <a:pt x="4943118" y="17704"/>
                </a:cubicBezTo>
                <a:lnTo>
                  <a:pt x="4972050" y="20515"/>
                </a:lnTo>
                <a:lnTo>
                  <a:pt x="4972050" y="6837486"/>
                </a:lnTo>
                <a:lnTo>
                  <a:pt x="4943118" y="6840297"/>
                </a:lnTo>
                <a:cubicBezTo>
                  <a:pt x="4792358" y="6852003"/>
                  <a:pt x="4639392" y="6858000"/>
                  <a:pt x="4484594" y="6858000"/>
                </a:cubicBezTo>
                <a:cubicBezTo>
                  <a:pt x="2007821" y="6858000"/>
                  <a:pt x="0" y="5322784"/>
                  <a:pt x="0" y="3429000"/>
                </a:cubicBezTo>
                <a:cubicBezTo>
                  <a:pt x="0" y="1535216"/>
                  <a:pt x="2007821" y="0"/>
                  <a:pt x="448459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2" name="Text Placeholder 6"/>
          <p:cNvSpPr/>
          <p:nvPr/>
        </p:nvSpPr>
        <p:spPr>
          <a:xfrm>
            <a:off x="1154160" y="3335400"/>
            <a:ext cx="5307120" cy="53028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173" name="TextBox 14"/>
          <p:cNvSpPr/>
          <p:nvPr/>
        </p:nvSpPr>
        <p:spPr>
          <a:xfrm>
            <a:off x="1109520" y="1762200"/>
            <a:ext cx="498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ea typeface="Times New Roman"/>
              </a:rPr>
              <a:t>ABOU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ea typeface="Times New Roman"/>
              </a:rPr>
              <a:t>OUR OFFICES.</a:t>
            </a:r>
            <a:endParaRPr b="0" lang="en-US" sz="4000" spc="-1" strike="noStrike">
              <a:solidFill>
                <a:srgbClr val="000000"/>
              </a:solidFill>
              <a:latin typeface="Calibri"/>
            </a:endParaRPr>
          </a:p>
        </p:txBody>
      </p:sp>
      <p:sp>
        <p:nvSpPr>
          <p:cNvPr id="1174" name="Text Placeholder 6"/>
          <p:cNvSpPr/>
          <p:nvPr/>
        </p:nvSpPr>
        <p:spPr>
          <a:xfrm>
            <a:off x="1154160" y="4095720"/>
            <a:ext cx="5307120" cy="53172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a:t>
            </a:r>
            <a:endParaRPr b="0" lang="en-US" sz="1000" spc="-1" strike="noStrike">
              <a:solidFill>
                <a:srgbClr val="000000"/>
              </a:solidFill>
              <a:latin typeface="Calibri"/>
            </a:endParaRPr>
          </a:p>
        </p:txBody>
      </p:sp>
      <p:grpSp>
        <p:nvGrpSpPr>
          <p:cNvPr id="1175" name="Group 16"/>
          <p:cNvGrpSpPr/>
          <p:nvPr/>
        </p:nvGrpSpPr>
        <p:grpSpPr>
          <a:xfrm>
            <a:off x="1231920" y="4761000"/>
            <a:ext cx="1977840" cy="458640"/>
            <a:chOff x="1231920" y="4761000"/>
            <a:chExt cx="1977840" cy="458640"/>
          </a:xfrm>
        </p:grpSpPr>
        <p:sp>
          <p:nvSpPr>
            <p:cNvPr id="1176" name="Rectangle 17"/>
            <p:cNvSpPr/>
            <p:nvPr/>
          </p:nvSpPr>
          <p:spPr>
            <a:xfrm>
              <a:off x="1231920" y="4761000"/>
              <a:ext cx="1969200" cy="4586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18"/>
            <p:cNvSpPr/>
            <p:nvPr/>
          </p:nvSpPr>
          <p:spPr>
            <a:xfrm>
              <a:off x="1231920" y="4821840"/>
              <a:ext cx="197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BUSINESS</a:t>
              </a:r>
              <a:endParaRPr b="0" lang="en-US" sz="1600" spc="-1" strike="noStrike">
                <a:solidFill>
                  <a:srgbClr val="000000"/>
                </a:solidFill>
                <a:latin typeface="Calibri"/>
              </a:endParaRPr>
            </a:p>
          </p:txBody>
        </p:sp>
      </p:grpSp>
      <p:grpSp>
        <p:nvGrpSpPr>
          <p:cNvPr id="1178" name="Group 19"/>
          <p:cNvGrpSpPr/>
          <p:nvPr/>
        </p:nvGrpSpPr>
        <p:grpSpPr>
          <a:xfrm>
            <a:off x="1154160" y="5394240"/>
            <a:ext cx="4281480" cy="511200"/>
            <a:chOff x="1154160" y="5394240"/>
            <a:chExt cx="4281480" cy="511200"/>
          </a:xfrm>
        </p:grpSpPr>
        <p:grpSp>
          <p:nvGrpSpPr>
            <p:cNvPr id="1179" name="Group 20"/>
            <p:cNvGrpSpPr/>
            <p:nvPr/>
          </p:nvGrpSpPr>
          <p:grpSpPr>
            <a:xfrm>
              <a:off x="1230840" y="5829120"/>
              <a:ext cx="4204800" cy="76320"/>
              <a:chOff x="1230840" y="5829120"/>
              <a:chExt cx="4204800" cy="76320"/>
            </a:xfrm>
          </p:grpSpPr>
          <p:sp>
            <p:nvSpPr>
              <p:cNvPr id="1180" name="Rectangle 23"/>
              <p:cNvSpPr/>
              <p:nvPr/>
            </p:nvSpPr>
            <p:spPr>
              <a:xfrm>
                <a:off x="1230840" y="5829120"/>
                <a:ext cx="420480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Rectangle 24"/>
              <p:cNvSpPr/>
              <p:nvPr/>
            </p:nvSpPr>
            <p:spPr>
              <a:xfrm>
                <a:off x="2976840" y="5829120"/>
                <a:ext cx="2458800" cy="76320"/>
              </a:xfrm>
              <a:prstGeom prst="rect">
                <a:avLst/>
              </a:prstGeom>
              <a:solidFill>
                <a:srgbClr val="0070c0"/>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2" name="TextBox 21"/>
            <p:cNvSpPr/>
            <p:nvPr/>
          </p:nvSpPr>
          <p:spPr>
            <a:xfrm>
              <a:off x="1154160" y="5394240"/>
              <a:ext cx="418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INVESTMENT</a:t>
              </a:r>
              <a:endParaRPr b="0" lang="en-US" sz="1600" spc="-1" strike="noStrike">
                <a:solidFill>
                  <a:srgbClr val="000000"/>
                </a:solidFill>
                <a:latin typeface="Calibri"/>
              </a:endParaRPr>
            </a:p>
          </p:txBody>
        </p:sp>
        <p:sp>
          <p:nvSpPr>
            <p:cNvPr id="1183" name="TextBox 22"/>
            <p:cNvSpPr/>
            <p:nvPr/>
          </p:nvSpPr>
          <p:spPr>
            <a:xfrm>
              <a:off x="4192200" y="5411160"/>
              <a:ext cx="124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ea typeface="Times New Roman"/>
                </a:rPr>
                <a:t>35%</a:t>
              </a:r>
              <a:endParaRPr b="0" lang="en-US" sz="1600" spc="-1" strike="noStrike">
                <a:solidFill>
                  <a:srgbClr val="000000"/>
                </a:solidFill>
                <a:latin typeface="Calibri"/>
              </a:endParaRPr>
            </a:p>
          </p:txBody>
        </p:sp>
      </p:grpSp>
      <p:grpSp>
        <p:nvGrpSpPr>
          <p:cNvPr id="1184" name="Group 25"/>
          <p:cNvGrpSpPr/>
          <p:nvPr/>
        </p:nvGrpSpPr>
        <p:grpSpPr>
          <a:xfrm>
            <a:off x="284040" y="255600"/>
            <a:ext cx="825480" cy="824040"/>
            <a:chOff x="284040" y="255600"/>
            <a:chExt cx="825480" cy="824040"/>
          </a:xfrm>
        </p:grpSpPr>
        <p:sp>
          <p:nvSpPr>
            <p:cNvPr id="1185" name="Frame 26"/>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6" name="Rectangle 27"/>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2"/>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Rectangle 7"/>
          <p:cNvSpPr/>
          <p:nvPr/>
        </p:nvSpPr>
        <p:spPr>
          <a:xfrm>
            <a:off x="330120" y="3049560"/>
            <a:ext cx="5765760" cy="289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9" name="Text Placeholder 6"/>
          <p:cNvSpPr/>
          <p:nvPr/>
        </p:nvSpPr>
        <p:spPr>
          <a:xfrm>
            <a:off x="790560" y="4546440"/>
            <a:ext cx="5305320" cy="532080"/>
          </a:xfrm>
          <a:prstGeom prst="rect">
            <a:avLst/>
          </a:prstGeom>
          <a:noFill/>
          <a:ln w="0">
            <a:noFill/>
          </a:ln>
        </p:spPr>
        <p:style>
          <a:lnRef idx="0"/>
          <a:fillRef idx="0"/>
          <a:effectRef idx="0"/>
          <a:fontRef idx="minor"/>
        </p:style>
        <p:txBody>
          <a:bodyPr lIns="90000" rIns="90000" tIns="46800" bIns="46800" anchor="t">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190" name="TextBox 9"/>
          <p:cNvSpPr/>
          <p:nvPr/>
        </p:nvSpPr>
        <p:spPr>
          <a:xfrm>
            <a:off x="790560" y="3233880"/>
            <a:ext cx="498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Black"/>
                <a:ea typeface="Times New Roman"/>
              </a:rPr>
              <a:t>ABOU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Black"/>
                <a:ea typeface="Times New Roman"/>
              </a:rPr>
              <a:t>OUR PROJECT.</a:t>
            </a:r>
            <a:endParaRPr b="0" lang="en-US" sz="3200" spc="-1" strike="noStrike">
              <a:solidFill>
                <a:srgbClr val="000000"/>
              </a:solidFill>
              <a:latin typeface="Calibri"/>
            </a:endParaRPr>
          </a:p>
        </p:txBody>
      </p:sp>
      <p:sp>
        <p:nvSpPr>
          <p:cNvPr id="1191" name="Text Placeholder 6"/>
          <p:cNvSpPr/>
          <p:nvPr/>
        </p:nvSpPr>
        <p:spPr>
          <a:xfrm>
            <a:off x="790560" y="5308560"/>
            <a:ext cx="5305320" cy="530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a:t>
            </a:r>
            <a:endParaRPr b="0" lang="en-US" sz="1000" spc="-1" strike="noStrike">
              <a:solidFill>
                <a:srgbClr val="000000"/>
              </a:solidFill>
              <a:latin typeface="Calibri"/>
            </a:endParaRPr>
          </a:p>
        </p:txBody>
      </p:sp>
      <p:sp>
        <p:nvSpPr>
          <p:cNvPr id="1192" name="TextBox 11"/>
          <p:cNvSpPr/>
          <p:nvPr/>
        </p:nvSpPr>
        <p:spPr>
          <a:xfrm>
            <a:off x="790560" y="1700280"/>
            <a:ext cx="454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Times New Roman"/>
              </a:rPr>
              <a:t>VISSION &amp; MISSION</a:t>
            </a:r>
            <a:endParaRPr b="0" lang="en-US" sz="2400" spc="-1" strike="noStrike">
              <a:solidFill>
                <a:srgbClr val="000000"/>
              </a:solidFill>
              <a:latin typeface="Calibri"/>
            </a:endParaRPr>
          </a:p>
        </p:txBody>
      </p:sp>
      <p:sp>
        <p:nvSpPr>
          <p:cNvPr id="1193" name="Text Placeholder 6"/>
          <p:cNvSpPr/>
          <p:nvPr/>
        </p:nvSpPr>
        <p:spPr>
          <a:xfrm>
            <a:off x="790560" y="2266920"/>
            <a:ext cx="3571920" cy="53172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a:t>
            </a:r>
            <a:endParaRPr b="0" lang="en-US" sz="1000" spc="-1" strike="noStrike">
              <a:solidFill>
                <a:srgbClr val="000000"/>
              </a:solidFill>
              <a:latin typeface="Calibri"/>
            </a:endParaRPr>
          </a:p>
        </p:txBody>
      </p:sp>
      <p:grpSp>
        <p:nvGrpSpPr>
          <p:cNvPr id="1194" name="Group 13"/>
          <p:cNvGrpSpPr/>
          <p:nvPr/>
        </p:nvGrpSpPr>
        <p:grpSpPr>
          <a:xfrm>
            <a:off x="11731680" y="2946240"/>
            <a:ext cx="246240" cy="3327840"/>
            <a:chOff x="11731680" y="2946240"/>
            <a:chExt cx="246240" cy="3327840"/>
          </a:xfrm>
        </p:grpSpPr>
        <p:sp>
          <p:nvSpPr>
            <p:cNvPr id="1195" name="Rectangle 14"/>
            <p:cNvSpPr/>
            <p:nvPr/>
          </p:nvSpPr>
          <p:spPr>
            <a:xfrm rot="16200000">
              <a:off x="11141640" y="54378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196" name="Straight Arrow Connector 15"/>
            <p:cNvCxnSpPr/>
            <p:nvPr/>
          </p:nvCxnSpPr>
          <p:spPr>
            <a:xfrm flipV="1">
              <a:off x="11899080" y="2946240"/>
              <a:ext cx="1080" cy="1528200"/>
            </a:xfrm>
            <a:prstGeom prst="straightConnector1">
              <a:avLst/>
            </a:prstGeom>
            <a:ln w="3240">
              <a:solidFill>
                <a:srgbClr val="ffffff"/>
              </a:solidFill>
              <a:miter/>
              <a:tailEnd len="med" type="triangle" w="med"/>
            </a:ln>
          </p:spPr>
        </p:cxnSp>
      </p:grpSp>
      <p:grpSp>
        <p:nvGrpSpPr>
          <p:cNvPr id="1197" name="Group 16"/>
          <p:cNvGrpSpPr/>
          <p:nvPr/>
        </p:nvGrpSpPr>
        <p:grpSpPr>
          <a:xfrm>
            <a:off x="284040" y="255600"/>
            <a:ext cx="825480" cy="824040"/>
            <a:chOff x="284040" y="255600"/>
            <a:chExt cx="825480" cy="824040"/>
          </a:xfrm>
        </p:grpSpPr>
        <p:sp>
          <p:nvSpPr>
            <p:cNvPr id="1198" name="Frame 17"/>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9" name="Rectangle 18"/>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200" name="" descr=""/>
          <p:cNvPicPr/>
          <p:nvPr/>
        </p:nvPicPr>
        <p:blipFill>
          <a:blip r:embed="rId1"/>
          <a:stretch/>
        </p:blipFill>
        <p:spPr>
          <a:xfrm>
            <a:off x="5334120" y="0"/>
            <a:ext cx="4000320" cy="685800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2"/>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02" name="Group 3"/>
          <p:cNvGrpSpPr/>
          <p:nvPr/>
        </p:nvGrpSpPr>
        <p:grpSpPr>
          <a:xfrm>
            <a:off x="8469000" y="255600"/>
            <a:ext cx="3327840" cy="246240"/>
            <a:chOff x="8469000" y="255600"/>
            <a:chExt cx="3327840" cy="246240"/>
          </a:xfrm>
        </p:grpSpPr>
        <p:sp>
          <p:nvSpPr>
            <p:cNvPr id="1203" name="Rectangle 4"/>
            <p:cNvSpPr/>
            <p:nvPr/>
          </p:nvSpPr>
          <p:spPr>
            <a:xfrm>
              <a:off x="8469000" y="255600"/>
              <a:ext cx="1425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rPr>
                <a:t>BUSINESS TEMPLATE</a:t>
              </a:r>
              <a:endParaRPr b="0" lang="en-US" sz="1000" spc="-1" strike="noStrike">
                <a:solidFill>
                  <a:srgbClr val="000000"/>
                </a:solidFill>
                <a:latin typeface="Calibri"/>
              </a:endParaRPr>
            </a:p>
          </p:txBody>
        </p:sp>
        <p:cxnSp>
          <p:nvCxnSpPr>
            <p:cNvPr id="1204" name="Straight Arrow Connector 5"/>
            <p:cNvCxnSpPr/>
            <p:nvPr/>
          </p:nvCxnSpPr>
          <p:spPr>
            <a:xfrm>
              <a:off x="10269000" y="423000"/>
              <a:ext cx="1528200" cy="1080"/>
            </a:xfrm>
            <a:prstGeom prst="straightConnector1">
              <a:avLst/>
            </a:prstGeom>
            <a:ln w="3240">
              <a:solidFill>
                <a:srgbClr val="ffffff"/>
              </a:solidFill>
              <a:miter/>
              <a:tailEnd len="med" type="triangle" w="med"/>
            </a:ln>
          </p:spPr>
        </p:cxnSp>
      </p:grpSp>
      <p:sp>
        <p:nvSpPr>
          <p:cNvPr id="1205" name="Rectangle 10"/>
          <p:cNvSpPr/>
          <p:nvPr/>
        </p:nvSpPr>
        <p:spPr>
          <a:xfrm>
            <a:off x="6095880" y="1079640"/>
            <a:ext cx="5700960" cy="467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6" name="Text Placeholder 6"/>
          <p:cNvSpPr/>
          <p:nvPr/>
        </p:nvSpPr>
        <p:spPr>
          <a:xfrm>
            <a:off x="6689880" y="3124080"/>
            <a:ext cx="4682880" cy="532080"/>
          </a:xfrm>
          <a:prstGeom prst="rect">
            <a:avLst/>
          </a:prstGeom>
          <a:noFill/>
          <a:ln w="0">
            <a:noFill/>
          </a:ln>
        </p:spPr>
        <p:style>
          <a:lnRef idx="0"/>
          <a:fillRef idx="0"/>
          <a:effectRef idx="0"/>
          <a:fontRef idx="minor"/>
        </p:style>
        <p:txBody>
          <a:bodyPr lIns="90000" rIns="90000" tIns="46800" bIns="46800" anchor="t">
            <a:normAutofit fontScale="4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 A company is an association or collection of individuals, whether natural persons. individuals, whether natural A company is an association or collection of individuals. A company is an association or collection of individuals. A company is an association or </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07" name="TextBox 12"/>
          <p:cNvSpPr/>
          <p:nvPr/>
        </p:nvSpPr>
        <p:spPr>
          <a:xfrm>
            <a:off x="6689880" y="1814400"/>
            <a:ext cx="498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Black"/>
                <a:ea typeface="Times New Roman"/>
              </a:rPr>
              <a:t>ABOU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Black"/>
                <a:ea typeface="Times New Roman"/>
              </a:rPr>
              <a:t>OUR MANAGER.</a:t>
            </a:r>
            <a:endParaRPr b="0" lang="en-US" sz="3200" spc="-1" strike="noStrike">
              <a:solidFill>
                <a:srgbClr val="000000"/>
              </a:solidFill>
              <a:latin typeface="Calibri"/>
            </a:endParaRPr>
          </a:p>
        </p:txBody>
      </p:sp>
      <p:sp>
        <p:nvSpPr>
          <p:cNvPr id="1208" name="Text Placeholder 6"/>
          <p:cNvSpPr/>
          <p:nvPr/>
        </p:nvSpPr>
        <p:spPr>
          <a:xfrm>
            <a:off x="284040" y="1936800"/>
            <a:ext cx="5659560" cy="531720"/>
          </a:xfrm>
          <a:prstGeom prst="rect">
            <a:avLst/>
          </a:prstGeom>
          <a:noFill/>
          <a:ln w="0">
            <a:noFill/>
          </a:ln>
        </p:spPr>
        <p:style>
          <a:lnRef idx="0"/>
          <a:fillRef idx="0"/>
          <a:effectRef idx="0"/>
          <a:fontRef idx="minor"/>
        </p:style>
        <p:txBody>
          <a:bodyPr lIns="90000" rIns="90000" tIns="46800" bIns="46800" anchor="t">
            <a:normAutofit fontScale="82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209" name="TextBox 14"/>
          <p:cNvSpPr/>
          <p:nvPr/>
        </p:nvSpPr>
        <p:spPr>
          <a:xfrm>
            <a:off x="284040" y="1420920"/>
            <a:ext cx="581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Times New Roman"/>
              </a:rPr>
              <a:t>HARD WORK BIG DREAM</a:t>
            </a:r>
            <a:endParaRPr b="0" lang="en-US" sz="2400" spc="-1" strike="noStrike">
              <a:solidFill>
                <a:srgbClr val="000000"/>
              </a:solidFill>
              <a:latin typeface="Calibri"/>
            </a:endParaRPr>
          </a:p>
        </p:txBody>
      </p:sp>
      <p:grpSp>
        <p:nvGrpSpPr>
          <p:cNvPr id="1210" name="Group 15"/>
          <p:cNvGrpSpPr/>
          <p:nvPr/>
        </p:nvGrpSpPr>
        <p:grpSpPr>
          <a:xfrm>
            <a:off x="284040" y="255600"/>
            <a:ext cx="825480" cy="824040"/>
            <a:chOff x="284040" y="255600"/>
            <a:chExt cx="825480" cy="824040"/>
          </a:xfrm>
        </p:grpSpPr>
        <p:sp>
          <p:nvSpPr>
            <p:cNvPr id="1211" name="Frame 16"/>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2" name="Rectangle 17"/>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pic>
        <p:nvPicPr>
          <p:cNvPr id="1213" name="" descr=""/>
          <p:cNvPicPr/>
          <p:nvPr/>
        </p:nvPicPr>
        <p:blipFill>
          <a:blip r:embed="rId1"/>
          <a:stretch/>
        </p:blipFill>
        <p:spPr>
          <a:xfrm>
            <a:off x="0" y="2762280"/>
            <a:ext cx="5943600" cy="2990880"/>
          </a:xfrm>
          <a:prstGeom prst="rect">
            <a:avLst/>
          </a:prstGeom>
          <a:ln w="0">
            <a:noFill/>
          </a:ln>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2"/>
          <p:cNvSpPr/>
          <p:nvPr/>
        </p:nvSpPr>
        <p:spPr>
          <a:xfrm>
            <a:off x="0" y="0"/>
            <a:ext cx="12192120" cy="6858000"/>
          </a:xfrm>
          <a:prstGeom prst="rect">
            <a:avLst/>
          </a:prstGeom>
          <a:gradFill rotWithShape="0">
            <a:gsLst>
              <a:gs pos="0">
                <a:srgbClr val="0070c0"/>
              </a:gs>
              <a:gs pos="100000">
                <a:srgbClr val="00b0f0">
                  <a:alpha val="6000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Rectangle 7"/>
          <p:cNvSpPr/>
          <p:nvPr/>
        </p:nvSpPr>
        <p:spPr>
          <a:xfrm>
            <a:off x="4495680" y="2685960"/>
            <a:ext cx="3448080" cy="2648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Text Placeholder 6"/>
          <p:cNvSpPr/>
          <p:nvPr/>
        </p:nvSpPr>
        <p:spPr>
          <a:xfrm>
            <a:off x="522360" y="1832040"/>
            <a:ext cx="3305160" cy="530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a:t>
            </a:r>
            <a:endParaRPr b="0" lang="en-US" sz="1000" spc="-1" strike="noStrike">
              <a:solidFill>
                <a:srgbClr val="000000"/>
              </a:solidFill>
              <a:latin typeface="Calibri"/>
            </a:endParaRPr>
          </a:p>
        </p:txBody>
      </p:sp>
      <p:sp>
        <p:nvSpPr>
          <p:cNvPr id="1217" name="Text Placeholder 6"/>
          <p:cNvSpPr/>
          <p:nvPr/>
        </p:nvSpPr>
        <p:spPr>
          <a:xfrm>
            <a:off x="522360" y="3440160"/>
            <a:ext cx="3305160" cy="530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a:t>
            </a:r>
            <a:endParaRPr b="0" lang="en-US" sz="1000" spc="-1" strike="noStrike">
              <a:solidFill>
                <a:srgbClr val="000000"/>
              </a:solidFill>
              <a:latin typeface="Calibri"/>
            </a:endParaRPr>
          </a:p>
        </p:txBody>
      </p:sp>
      <p:sp>
        <p:nvSpPr>
          <p:cNvPr id="1218" name="TextBox 11"/>
          <p:cNvSpPr/>
          <p:nvPr/>
        </p:nvSpPr>
        <p:spPr>
          <a:xfrm>
            <a:off x="522360" y="1370160"/>
            <a:ext cx="224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Times New Roman"/>
              </a:rPr>
              <a:t>SALE !</a:t>
            </a:r>
            <a:endParaRPr b="0" lang="en-US" sz="2400" spc="-1" strike="noStrike">
              <a:solidFill>
                <a:srgbClr val="000000"/>
              </a:solidFill>
              <a:latin typeface="Calibri"/>
            </a:endParaRPr>
          </a:p>
        </p:txBody>
      </p:sp>
      <p:sp>
        <p:nvSpPr>
          <p:cNvPr id="1219" name="TextBox 12"/>
          <p:cNvSpPr/>
          <p:nvPr/>
        </p:nvSpPr>
        <p:spPr>
          <a:xfrm>
            <a:off x="522360" y="3000240"/>
            <a:ext cx="224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Times New Roman"/>
              </a:rPr>
              <a:t>SALE !</a:t>
            </a:r>
            <a:endParaRPr b="0" lang="en-US" sz="2400" spc="-1" strike="noStrike">
              <a:solidFill>
                <a:srgbClr val="000000"/>
              </a:solidFill>
              <a:latin typeface="Calibri"/>
            </a:endParaRPr>
          </a:p>
        </p:txBody>
      </p:sp>
      <p:grpSp>
        <p:nvGrpSpPr>
          <p:cNvPr id="1220" name="Group 20"/>
          <p:cNvGrpSpPr/>
          <p:nvPr/>
        </p:nvGrpSpPr>
        <p:grpSpPr>
          <a:xfrm>
            <a:off x="522360" y="3960720"/>
            <a:ext cx="3325680" cy="397080"/>
            <a:chOff x="522360" y="3960720"/>
            <a:chExt cx="3325680" cy="397080"/>
          </a:xfrm>
        </p:grpSpPr>
        <p:grpSp>
          <p:nvGrpSpPr>
            <p:cNvPr id="1221" name="Group 21"/>
            <p:cNvGrpSpPr/>
            <p:nvPr/>
          </p:nvGrpSpPr>
          <p:grpSpPr>
            <a:xfrm>
              <a:off x="581760" y="4298760"/>
              <a:ext cx="3266280" cy="59040"/>
              <a:chOff x="581760" y="4298760"/>
              <a:chExt cx="3266280" cy="59040"/>
            </a:xfrm>
          </p:grpSpPr>
          <p:sp>
            <p:nvSpPr>
              <p:cNvPr id="1222" name="Rectangle 24"/>
              <p:cNvSpPr/>
              <p:nvPr/>
            </p:nvSpPr>
            <p:spPr>
              <a:xfrm>
                <a:off x="581760" y="4298760"/>
                <a:ext cx="3266280" cy="59040"/>
              </a:xfrm>
              <a:prstGeom prst="rect">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Rectangle 25"/>
              <p:cNvSpPr/>
              <p:nvPr/>
            </p:nvSpPr>
            <p:spPr>
              <a:xfrm>
                <a:off x="1938240" y="4298760"/>
                <a:ext cx="1909800" cy="59040"/>
              </a:xfrm>
              <a:prstGeom prst="rect">
                <a:avLst/>
              </a:prstGeom>
              <a:solidFill>
                <a:srgbClr val="0070c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4" name="TextBox 22"/>
            <p:cNvSpPr/>
            <p:nvPr/>
          </p:nvSpPr>
          <p:spPr>
            <a:xfrm>
              <a:off x="522360" y="3960720"/>
              <a:ext cx="324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Times New Roman"/>
                </a:rPr>
                <a:t>INVESTMENT</a:t>
              </a:r>
              <a:endParaRPr b="0" lang="en-US" sz="1400" spc="-1" strike="noStrike">
                <a:solidFill>
                  <a:srgbClr val="000000"/>
                </a:solidFill>
                <a:latin typeface="Calibri"/>
              </a:endParaRPr>
            </a:p>
          </p:txBody>
        </p:sp>
        <p:sp>
          <p:nvSpPr>
            <p:cNvPr id="1225" name="TextBox 23"/>
            <p:cNvSpPr/>
            <p:nvPr/>
          </p:nvSpPr>
          <p:spPr>
            <a:xfrm>
              <a:off x="2882160" y="3973680"/>
              <a:ext cx="965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Times New Roman"/>
                </a:rPr>
                <a:t>85%</a:t>
              </a:r>
              <a:endParaRPr b="0" lang="en-US" sz="1400" spc="-1" strike="noStrike">
                <a:solidFill>
                  <a:srgbClr val="000000"/>
                </a:solidFill>
                <a:latin typeface="Calibri"/>
              </a:endParaRPr>
            </a:p>
          </p:txBody>
        </p:sp>
      </p:grpSp>
      <p:grpSp>
        <p:nvGrpSpPr>
          <p:cNvPr id="1226" name="Group 26"/>
          <p:cNvGrpSpPr/>
          <p:nvPr/>
        </p:nvGrpSpPr>
        <p:grpSpPr>
          <a:xfrm>
            <a:off x="522360" y="2340000"/>
            <a:ext cx="3325680" cy="396720"/>
            <a:chOff x="522360" y="2340000"/>
            <a:chExt cx="3325680" cy="396720"/>
          </a:xfrm>
        </p:grpSpPr>
        <p:grpSp>
          <p:nvGrpSpPr>
            <p:cNvPr id="1227" name="Group 27"/>
            <p:cNvGrpSpPr/>
            <p:nvPr/>
          </p:nvGrpSpPr>
          <p:grpSpPr>
            <a:xfrm>
              <a:off x="581760" y="2677680"/>
              <a:ext cx="3266280" cy="59040"/>
              <a:chOff x="581760" y="2677680"/>
              <a:chExt cx="3266280" cy="59040"/>
            </a:xfrm>
          </p:grpSpPr>
          <p:sp>
            <p:nvSpPr>
              <p:cNvPr id="1228" name="Rectangle 30"/>
              <p:cNvSpPr/>
              <p:nvPr/>
            </p:nvSpPr>
            <p:spPr>
              <a:xfrm>
                <a:off x="581760" y="2677680"/>
                <a:ext cx="3266280" cy="59040"/>
              </a:xfrm>
              <a:prstGeom prst="rect">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Rectangle 31"/>
              <p:cNvSpPr/>
              <p:nvPr/>
            </p:nvSpPr>
            <p:spPr>
              <a:xfrm>
                <a:off x="1938240" y="2677680"/>
                <a:ext cx="1909800" cy="59040"/>
              </a:xfrm>
              <a:prstGeom prst="rect">
                <a:avLst/>
              </a:prstGeom>
              <a:solidFill>
                <a:srgbClr val="0070c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0" name="TextBox 28"/>
            <p:cNvSpPr/>
            <p:nvPr/>
          </p:nvSpPr>
          <p:spPr>
            <a:xfrm>
              <a:off x="522360" y="2340000"/>
              <a:ext cx="324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Times New Roman"/>
                </a:rPr>
                <a:t>INVESTMENT</a:t>
              </a:r>
              <a:endParaRPr b="0" lang="en-US" sz="1400" spc="-1" strike="noStrike">
                <a:solidFill>
                  <a:srgbClr val="000000"/>
                </a:solidFill>
                <a:latin typeface="Calibri"/>
              </a:endParaRPr>
            </a:p>
          </p:txBody>
        </p:sp>
        <p:sp>
          <p:nvSpPr>
            <p:cNvPr id="1231" name="TextBox 29"/>
            <p:cNvSpPr/>
            <p:nvPr/>
          </p:nvSpPr>
          <p:spPr>
            <a:xfrm>
              <a:off x="2882160" y="2352960"/>
              <a:ext cx="965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Times New Roman"/>
                </a:rPr>
                <a:t>65%</a:t>
              </a:r>
              <a:endParaRPr b="0" lang="en-US" sz="1400" spc="-1" strike="noStrike">
                <a:solidFill>
                  <a:srgbClr val="000000"/>
                </a:solidFill>
                <a:latin typeface="Calibri"/>
              </a:endParaRPr>
            </a:p>
          </p:txBody>
        </p:sp>
      </p:grpSp>
      <p:sp>
        <p:nvSpPr>
          <p:cNvPr id="1232" name="Text Placeholder 6"/>
          <p:cNvSpPr/>
          <p:nvPr/>
        </p:nvSpPr>
        <p:spPr>
          <a:xfrm>
            <a:off x="4835520" y="3465360"/>
            <a:ext cx="2768760" cy="532080"/>
          </a:xfrm>
          <a:prstGeom prst="rect">
            <a:avLst/>
          </a:prstGeom>
          <a:noFill/>
          <a:ln w="0">
            <a:noFill/>
          </a:ln>
        </p:spPr>
        <p:style>
          <a:lnRef idx="0"/>
          <a:fillRef idx="0"/>
          <a:effectRef idx="0"/>
          <a:fontRef idx="minor"/>
        </p:style>
        <p:txBody>
          <a:bodyPr lIns="90000" rIns="90000" tIns="46800" bIns="46800" anchor="t">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Montserrat"/>
                <a:ea typeface="Open Sans"/>
              </a:rPr>
              <a:t>A company is an association or collection of individuals, whether natural persons. individuals, whether natural A company is an association or collection of individuals. A company is an association or collection of individuals.</a:t>
            </a:r>
            <a:endParaRPr b="0" lang="en-US" sz="1000" spc="-1" strike="noStrike">
              <a:solidFill>
                <a:srgbClr val="000000"/>
              </a:solidFill>
              <a:latin typeface="Calibri"/>
            </a:endParaRPr>
          </a:p>
        </p:txBody>
      </p:sp>
      <p:sp>
        <p:nvSpPr>
          <p:cNvPr id="1233" name="TextBox 33"/>
          <p:cNvSpPr/>
          <p:nvPr/>
        </p:nvSpPr>
        <p:spPr>
          <a:xfrm>
            <a:off x="5680080" y="1533600"/>
            <a:ext cx="498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ea typeface="Times New Roman"/>
              </a:rPr>
              <a:t>COMPANY 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ea typeface="Times New Roman"/>
              </a:rPr>
              <a:t>TARGET IN YEARS</a:t>
            </a:r>
            <a:endParaRPr b="0" lang="en-US" sz="3200" spc="-1" strike="noStrike">
              <a:solidFill>
                <a:srgbClr val="000000"/>
              </a:solidFill>
              <a:latin typeface="Calibri"/>
            </a:endParaRPr>
          </a:p>
        </p:txBody>
      </p:sp>
      <p:grpSp>
        <p:nvGrpSpPr>
          <p:cNvPr id="1234" name="Group 34"/>
          <p:cNvGrpSpPr/>
          <p:nvPr/>
        </p:nvGrpSpPr>
        <p:grpSpPr>
          <a:xfrm>
            <a:off x="284040" y="255600"/>
            <a:ext cx="825480" cy="824040"/>
            <a:chOff x="284040" y="255600"/>
            <a:chExt cx="825480" cy="824040"/>
          </a:xfrm>
        </p:grpSpPr>
        <p:sp>
          <p:nvSpPr>
            <p:cNvPr id="1235" name="Frame 35"/>
            <p:cNvSpPr/>
            <p:nvPr/>
          </p:nvSpPr>
          <p:spPr>
            <a:xfrm>
              <a:off x="284040" y="255600"/>
              <a:ext cx="825480" cy="824040"/>
            </a:xfrm>
            <a:custGeom>
              <a:avLst/>
              <a:gdLst/>
              <a:ahLst/>
              <a:rect l="l" t="t" r="r" b="b"/>
              <a:pathLst>
                <a:path w="824459" h="824459">
                  <a:moveTo>
                    <a:pt x="0" y="0"/>
                  </a:moveTo>
                  <a:lnTo>
                    <a:pt x="824459" y="0"/>
                  </a:lnTo>
                  <a:lnTo>
                    <a:pt x="824459" y="824459"/>
                  </a:lnTo>
                  <a:lnTo>
                    <a:pt x="0" y="824459"/>
                  </a:lnTo>
                  <a:lnTo>
                    <a:pt x="0" y="0"/>
                  </a:lnTo>
                  <a:close/>
                  <a:moveTo>
                    <a:pt x="103057" y="103057"/>
                  </a:moveTo>
                  <a:lnTo>
                    <a:pt x="103057" y="721402"/>
                  </a:lnTo>
                  <a:lnTo>
                    <a:pt x="721402" y="721402"/>
                  </a:lnTo>
                  <a:lnTo>
                    <a:pt x="721402" y="103057"/>
                  </a:lnTo>
                  <a:lnTo>
                    <a:pt x="103057" y="103057"/>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6" name="Rectangle 36"/>
            <p:cNvSpPr/>
            <p:nvPr/>
          </p:nvSpPr>
          <p:spPr>
            <a:xfrm>
              <a:off x="452520" y="43164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haroni"/>
                </a:rPr>
                <a:t>ST</a:t>
              </a:r>
              <a:endParaRPr b="0" lang="en-US" sz="2400" spc="-1" strike="noStrike">
                <a:solidFill>
                  <a:srgbClr val="000000"/>
                </a:solidFill>
                <a:latin typeface="Calibri"/>
              </a:endParaRPr>
            </a:p>
          </p:txBody>
        </p:sp>
      </p:grpSp>
      <p:sp>
        <p:nvSpPr>
          <p:cNvPr id="1237" name="Text Placeholder 6"/>
          <p:cNvSpPr/>
          <p:nvPr/>
        </p:nvSpPr>
        <p:spPr>
          <a:xfrm>
            <a:off x="522360" y="4735440"/>
            <a:ext cx="3665520" cy="530280"/>
          </a:xfrm>
          <a:prstGeom prst="rect">
            <a:avLst/>
          </a:prstGeom>
          <a:noFill/>
          <a:ln w="0">
            <a:noFill/>
          </a:ln>
        </p:spPr>
        <p:style>
          <a:lnRef idx="0"/>
          <a:fillRef idx="0"/>
          <a:effectRef idx="0"/>
          <a:fontRef idx="minor"/>
        </p:style>
        <p:txBody>
          <a:bodyPr lIns="90000" rIns="90000" tIns="46800" bIns="46800" anchor="t">
            <a:normAutofit fontScale="81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a:ea typeface="Open Sans"/>
              </a:rPr>
              <a:t>A company is an association or collection of individuals, whether natural persons. individuals, whether natural A company is an association.</a:t>
            </a:r>
            <a:endParaRPr b="0" lang="en-US" sz="1000" spc="-1" strike="noStrike">
              <a:solidFill>
                <a:srgbClr val="000000"/>
              </a:solidFill>
              <a:latin typeface="Calibri"/>
            </a:endParaRPr>
          </a:p>
        </p:txBody>
      </p:sp>
      <p:pic>
        <p:nvPicPr>
          <p:cNvPr id="1238" name="" descr=""/>
          <p:cNvPicPr/>
          <p:nvPr/>
        </p:nvPicPr>
        <p:blipFill>
          <a:blip r:embed="rId1"/>
          <a:stretch/>
        </p:blipFill>
        <p:spPr>
          <a:xfrm>
            <a:off x="5600880" y="-360"/>
            <a:ext cx="5486400" cy="5829480"/>
          </a:xfrm>
          <a:prstGeom prst="rect">
            <a:avLst/>
          </a:prstGeom>
          <a:ln w="0">
            <a:noFill/>
          </a:ln>
        </p:spPr>
      </p:pic>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0T08:15:07Z</dcterms:created>
  <dc:creator>user</dc:creator>
  <dc:description/>
  <dc:language>en-US</dc:language>
  <cp:lastModifiedBy>user</cp:lastModifiedBy>
  <dcterms:modified xsi:type="dcterms:W3CDTF">2020-02-21T17:14:56Z</dcterms:modified>
  <cp:revision>52</cp:revision>
  <dc:subject/>
  <dc:title>PowerPoint Presentation</dc:title>
</cp:coreProperties>
</file>