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F4F6-6A23-4AE8-8D58-F37641E4E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249" name="Shape 505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F812-F463-4E77-B4A7-571768DF3C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50D-B7FB-428C-8CFE-1F6FE063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ECA-22AF-462E-9A9D-3F058014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165-952A-4C65-8B96-212465C6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61F-52B5-49F4-999A-325D155F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174-E39C-4F6B-A381-5D20D458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D06-2296-41AF-8442-5701346E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6FA-BD60-48D6-A7D6-7D893575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53A-80B6-4F4F-9E6A-70DBDCF7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B86-0115-4D01-B5FE-2FD39A98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E17-57C8-4F65-977A-C83AAB3F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8BD-C8D0-4198-8BA4-5D858D15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5D6-5D63-4A86-BEA8-F60D7B12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E16E-81DF-45C5-ABFE-F933E808D8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Freeform: Shape 8"/>
          <p:cNvSpPr/>
          <p:nvPr/>
        </p:nvSpPr>
        <p:spPr>
          <a:xfrm>
            <a:off x="1193760" y="187200"/>
            <a:ext cx="3016440" cy="6096240"/>
          </a:xfrm>
          <a:custGeom>
            <a:avLst/>
            <a:gdLst/>
            <a:ahLst/>
            <a:rect l="l" t="t" r="r" b="b"/>
            <a:pathLst>
              <a:path w="3886200" h="7854950">
                <a:moveTo>
                  <a:pt x="581026" y="0"/>
                </a:moveTo>
                <a:lnTo>
                  <a:pt x="3305174" y="0"/>
                </a:lnTo>
                <a:cubicBezTo>
                  <a:pt x="3626066" y="0"/>
                  <a:pt x="3886200" y="260134"/>
                  <a:pt x="3886200" y="581026"/>
                </a:cubicBezTo>
                <a:lnTo>
                  <a:pt x="3886200" y="7273924"/>
                </a:lnTo>
                <a:cubicBezTo>
                  <a:pt x="3886200" y="7594816"/>
                  <a:pt x="3626066" y="7854950"/>
                  <a:pt x="3305174" y="7854950"/>
                </a:cubicBezTo>
                <a:lnTo>
                  <a:pt x="581026" y="7854950"/>
                </a:lnTo>
                <a:cubicBezTo>
                  <a:pt x="260134" y="7854950"/>
                  <a:pt x="0" y="7594816"/>
                  <a:pt x="0" y="7273924"/>
                </a:cubicBezTo>
                <a:lnTo>
                  <a:pt x="0" y="581026"/>
                </a:lnTo>
                <a:cubicBezTo>
                  <a:pt x="0" y="260134"/>
                  <a:pt x="260134" y="0"/>
                  <a:pt x="581026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  <a:effectLst>
            <a:outerShdw dist="927218" dir="761993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Picture 6" descr=""/>
          <p:cNvPicPr/>
          <p:nvPr/>
        </p:nvPicPr>
        <p:blipFill>
          <a:blip r:embed="rId2"/>
          <a:stretch/>
        </p:blipFill>
        <p:spPr>
          <a:xfrm>
            <a:off x="8429760" y="380880"/>
            <a:ext cx="2895480" cy="6096240"/>
          </a:xfrm>
          <a:prstGeom prst="rect">
            <a:avLst/>
          </a:prstGeom>
          <a:ln w="0">
            <a:noFill/>
          </a:ln>
        </p:spPr>
      </p:pic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0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49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Box 1"/>
          <p:cNvSpPr/>
          <p:nvPr/>
        </p:nvSpPr>
        <p:spPr>
          <a:xfrm rot="5400000">
            <a:off x="-1311120" y="3275280"/>
            <a:ext cx="35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BUSINESS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ectangle 2"/>
          <p:cNvSpPr/>
          <p:nvPr/>
        </p:nvSpPr>
        <p:spPr>
          <a:xfrm>
            <a:off x="851040" y="1854360"/>
            <a:ext cx="11341080" cy="313668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4" name="Group 4"/>
          <p:cNvGrpSpPr/>
          <p:nvPr/>
        </p:nvGrpSpPr>
        <p:grpSpPr>
          <a:xfrm>
            <a:off x="1320840" y="2279520"/>
            <a:ext cx="5118120" cy="2298960"/>
            <a:chOff x="1320840" y="2279520"/>
            <a:chExt cx="5118120" cy="2298960"/>
          </a:xfrm>
        </p:grpSpPr>
        <p:pic>
          <p:nvPicPr>
            <p:cNvPr id="1155" name="TextBox 5" descr=""/>
            <p:cNvPicPr/>
            <p:nvPr/>
          </p:nvPicPr>
          <p:blipFill>
            <a:blip r:embed="rId1"/>
            <a:stretch/>
          </p:blipFill>
          <p:spPr>
            <a:xfrm>
              <a:off x="1320840" y="2279520"/>
              <a:ext cx="5118120" cy="10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TextBox 6" descr=""/>
            <p:cNvPicPr/>
            <p:nvPr/>
          </p:nvPicPr>
          <p:blipFill>
            <a:blip r:embed="rId2"/>
            <a:stretch/>
          </p:blipFill>
          <p:spPr>
            <a:xfrm>
              <a:off x="1320840" y="2919600"/>
              <a:ext cx="5118120" cy="10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TextBox 7" descr=""/>
            <p:cNvPicPr/>
            <p:nvPr/>
          </p:nvPicPr>
          <p:blipFill>
            <a:blip r:embed="rId3"/>
            <a:stretch/>
          </p:blipFill>
          <p:spPr>
            <a:xfrm>
              <a:off x="1320840" y="3560040"/>
              <a:ext cx="5118120" cy="10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8" name="Rectangle 8"/>
          <p:cNvSpPr/>
          <p:nvPr/>
        </p:nvSpPr>
        <p:spPr>
          <a:xfrm>
            <a:off x="6438960" y="888840"/>
            <a:ext cx="5753160" cy="50803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Rectangle 9"/>
          <p:cNvSpPr/>
          <p:nvPr/>
        </p:nvSpPr>
        <p:spPr>
          <a:xfrm>
            <a:off x="6858000" y="1289160"/>
            <a:ext cx="4915080" cy="4279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0" name="Group 10"/>
          <p:cNvGrpSpPr/>
          <p:nvPr/>
        </p:nvGrpSpPr>
        <p:grpSpPr>
          <a:xfrm>
            <a:off x="7113600" y="2279520"/>
            <a:ext cx="4443480" cy="2298960"/>
            <a:chOff x="7113600" y="2279520"/>
            <a:chExt cx="4443480" cy="2298960"/>
          </a:xfrm>
        </p:grpSpPr>
        <p:pic>
          <p:nvPicPr>
            <p:cNvPr id="1161" name="TextBox 11" descr=""/>
            <p:cNvPicPr/>
            <p:nvPr/>
          </p:nvPicPr>
          <p:blipFill>
            <a:blip r:embed="rId4"/>
            <a:stretch/>
          </p:blipFill>
          <p:spPr>
            <a:xfrm>
              <a:off x="7113600" y="2279520"/>
              <a:ext cx="4443480" cy="10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TextBox 12" descr=""/>
            <p:cNvPicPr/>
            <p:nvPr/>
          </p:nvPicPr>
          <p:blipFill>
            <a:blip r:embed="rId5"/>
            <a:stretch/>
          </p:blipFill>
          <p:spPr>
            <a:xfrm>
              <a:off x="7113600" y="2919600"/>
              <a:ext cx="4443480" cy="10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TextBox 13" descr=""/>
            <p:cNvPicPr/>
            <p:nvPr/>
          </p:nvPicPr>
          <p:blipFill>
            <a:blip r:embed="rId6"/>
            <a:stretch/>
          </p:blipFill>
          <p:spPr>
            <a:xfrm>
              <a:off x="7113600" y="3560040"/>
              <a:ext cx="4443480" cy="101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4" name="Group 16"/>
          <p:cNvGrpSpPr/>
          <p:nvPr/>
        </p:nvGrpSpPr>
        <p:grpSpPr>
          <a:xfrm>
            <a:off x="11239560" y="6165720"/>
            <a:ext cx="533520" cy="533520"/>
            <a:chOff x="11239560" y="6165720"/>
            <a:chExt cx="533520" cy="533520"/>
          </a:xfrm>
        </p:grpSpPr>
        <p:sp>
          <p:nvSpPr>
            <p:cNvPr id="1165" name="Rectangle 14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TextBox 15"/>
            <p:cNvSpPr/>
            <p:nvPr/>
          </p:nvSpPr>
          <p:spPr>
            <a:xfrm>
              <a:off x="11264760" y="6165720"/>
              <a:ext cx="50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7" name="Straight Connector 18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9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14"/>
          <p:cNvSpPr/>
          <p:nvPr/>
        </p:nvSpPr>
        <p:spPr>
          <a:xfrm>
            <a:off x="5931000" y="1765440"/>
            <a:ext cx="6261120" cy="405108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8" name="Group 3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339" name="Rectangle 4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TextBox 5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TextBox 6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TextBox 7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TextBox 8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TextBox 9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Straight Connector 10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6" name="Group 15"/>
          <p:cNvGrpSpPr/>
          <p:nvPr/>
        </p:nvGrpSpPr>
        <p:grpSpPr>
          <a:xfrm>
            <a:off x="6591240" y="2306520"/>
            <a:ext cx="4959360" cy="1986120"/>
            <a:chOff x="6591240" y="2306520"/>
            <a:chExt cx="4959360" cy="1986120"/>
          </a:xfrm>
        </p:grpSpPr>
        <p:sp>
          <p:nvSpPr>
            <p:cNvPr id="1347" name="TextBox 16"/>
            <p:cNvSpPr/>
            <p:nvPr/>
          </p:nvSpPr>
          <p:spPr>
            <a:xfrm>
              <a:off x="6591600" y="230652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TextBox 17"/>
            <p:cNvSpPr/>
            <p:nvPr/>
          </p:nvSpPr>
          <p:spPr>
            <a:xfrm>
              <a:off x="6591600" y="294768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TextBox 18"/>
            <p:cNvSpPr/>
            <p:nvPr/>
          </p:nvSpPr>
          <p:spPr>
            <a:xfrm>
              <a:off x="6591240" y="3589200"/>
              <a:ext cx="495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PORTFOLIO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0" name="Text Placeholder 6"/>
          <p:cNvSpPr/>
          <p:nvPr/>
        </p:nvSpPr>
        <p:spPr>
          <a:xfrm>
            <a:off x="6605640" y="4406760"/>
            <a:ext cx="49449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Rectangle 20"/>
          <p:cNvSpPr/>
          <p:nvPr/>
        </p:nvSpPr>
        <p:spPr>
          <a:xfrm>
            <a:off x="0" y="1765440"/>
            <a:ext cx="1028880" cy="405108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2" name="Group 27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353" name="Rectangle 28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TextBox 29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5" name="Straight Connector 30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TextBox 31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1206360" y="1765080"/>
            <a:ext cx="45468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11"/>
          <p:cNvSpPr/>
          <p:nvPr/>
        </p:nvSpPr>
        <p:spPr>
          <a:xfrm>
            <a:off x="0" y="2197080"/>
            <a:ext cx="5092560" cy="314964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9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360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7" name="Group 12"/>
          <p:cNvGrpSpPr/>
          <p:nvPr/>
        </p:nvGrpSpPr>
        <p:grpSpPr>
          <a:xfrm>
            <a:off x="450720" y="2319480"/>
            <a:ext cx="4959360" cy="1985760"/>
            <a:chOff x="450720" y="2319480"/>
            <a:chExt cx="4959360" cy="1985760"/>
          </a:xfrm>
        </p:grpSpPr>
        <p:sp>
          <p:nvSpPr>
            <p:cNvPr id="1368" name="TextBox 13"/>
            <p:cNvSpPr/>
            <p:nvPr/>
          </p:nvSpPr>
          <p:spPr>
            <a:xfrm>
              <a:off x="451080" y="231948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TextBox 14"/>
            <p:cNvSpPr/>
            <p:nvPr/>
          </p:nvSpPr>
          <p:spPr>
            <a:xfrm>
              <a:off x="451080" y="296064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TextBox 15"/>
            <p:cNvSpPr/>
            <p:nvPr/>
          </p:nvSpPr>
          <p:spPr>
            <a:xfrm>
              <a:off x="450720" y="3601800"/>
              <a:ext cx="495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1" name="Text Placeholder 6"/>
          <p:cNvSpPr/>
          <p:nvPr/>
        </p:nvSpPr>
        <p:spPr>
          <a:xfrm>
            <a:off x="465120" y="4419720"/>
            <a:ext cx="4411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traight Connector 18"/>
          <p:cNvSpPr/>
          <p:nvPr/>
        </p:nvSpPr>
        <p:spPr>
          <a:xfrm flipH="1">
            <a:off x="539280" y="6400800"/>
            <a:ext cx="78678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Text Placeholder 6"/>
          <p:cNvSpPr/>
          <p:nvPr/>
        </p:nvSpPr>
        <p:spPr>
          <a:xfrm>
            <a:off x="465120" y="5729400"/>
            <a:ext cx="7942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4" name="Group 21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375" name="Rectangle 22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TextBox 23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5245200" y="2196720"/>
            <a:ext cx="62992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8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379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6" name="Rectangle 11"/>
          <p:cNvSpPr/>
          <p:nvPr/>
        </p:nvSpPr>
        <p:spPr>
          <a:xfrm>
            <a:off x="4419720" y="1555920"/>
            <a:ext cx="7772400" cy="453384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7" name="Group 12"/>
          <p:cNvGrpSpPr/>
          <p:nvPr/>
        </p:nvGrpSpPr>
        <p:grpSpPr>
          <a:xfrm>
            <a:off x="5022720" y="2065320"/>
            <a:ext cx="4959360" cy="1986120"/>
            <a:chOff x="5022720" y="2065320"/>
            <a:chExt cx="4959360" cy="1986120"/>
          </a:xfrm>
        </p:grpSpPr>
        <p:sp>
          <p:nvSpPr>
            <p:cNvPr id="1388" name="TextBox 13"/>
            <p:cNvSpPr/>
            <p:nvPr/>
          </p:nvSpPr>
          <p:spPr>
            <a:xfrm>
              <a:off x="5023080" y="206532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TextBox 14"/>
            <p:cNvSpPr/>
            <p:nvPr/>
          </p:nvSpPr>
          <p:spPr>
            <a:xfrm>
              <a:off x="5023080" y="270648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TextBox 15"/>
            <p:cNvSpPr/>
            <p:nvPr/>
          </p:nvSpPr>
          <p:spPr>
            <a:xfrm>
              <a:off x="5022720" y="3348000"/>
              <a:ext cx="495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 BOOK NOW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1" name="Text Placeholder 6"/>
          <p:cNvSpPr/>
          <p:nvPr/>
        </p:nvSpPr>
        <p:spPr>
          <a:xfrm>
            <a:off x="5037120" y="4165560"/>
            <a:ext cx="4411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Text Placeholder 6"/>
          <p:cNvSpPr/>
          <p:nvPr/>
        </p:nvSpPr>
        <p:spPr>
          <a:xfrm>
            <a:off x="5037120" y="5038560"/>
            <a:ext cx="63421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3" name="Group 18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394" name="Rectangle 19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TextBox 20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6" name="Straight Connector 21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TextBox 22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-360" y="1555920"/>
            <a:ext cx="4305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9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400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7" name="Rectangle 11"/>
          <p:cNvSpPr/>
          <p:nvPr/>
        </p:nvSpPr>
        <p:spPr>
          <a:xfrm>
            <a:off x="0" y="2120760"/>
            <a:ext cx="6095880" cy="307368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Rectangle 12"/>
          <p:cNvSpPr/>
          <p:nvPr/>
        </p:nvSpPr>
        <p:spPr>
          <a:xfrm>
            <a:off x="11188800" y="2120760"/>
            <a:ext cx="1003320" cy="307368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9" name="Group 13"/>
          <p:cNvGrpSpPr/>
          <p:nvPr/>
        </p:nvGrpSpPr>
        <p:grpSpPr>
          <a:xfrm>
            <a:off x="539640" y="2212920"/>
            <a:ext cx="4959360" cy="1986120"/>
            <a:chOff x="539640" y="2212920"/>
            <a:chExt cx="4959360" cy="1986120"/>
          </a:xfrm>
        </p:grpSpPr>
        <p:sp>
          <p:nvSpPr>
            <p:cNvPr id="1410" name="TextBox 14"/>
            <p:cNvSpPr/>
            <p:nvPr/>
          </p:nvSpPr>
          <p:spPr>
            <a:xfrm>
              <a:off x="540000" y="221292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TextBox 15"/>
            <p:cNvSpPr/>
            <p:nvPr/>
          </p:nvSpPr>
          <p:spPr>
            <a:xfrm>
              <a:off x="540000" y="285408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LAY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TextBox 16"/>
            <p:cNvSpPr/>
            <p:nvPr/>
          </p:nvSpPr>
          <p:spPr>
            <a:xfrm>
              <a:off x="539640" y="3495600"/>
              <a:ext cx="495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3" name="Text Placeholder 6"/>
          <p:cNvSpPr/>
          <p:nvPr/>
        </p:nvSpPr>
        <p:spPr>
          <a:xfrm>
            <a:off x="554040" y="4381560"/>
            <a:ext cx="4411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4" name="Group 18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415" name="Rectangle 19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TextBox 20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7" name="Straight Connector 21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22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6210000" y="2120760"/>
            <a:ext cx="486396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11"/>
          <p:cNvSpPr/>
          <p:nvPr/>
        </p:nvSpPr>
        <p:spPr>
          <a:xfrm>
            <a:off x="6692760" y="2552760"/>
            <a:ext cx="5499360" cy="430524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1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422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9" name="Rectangle 12"/>
          <p:cNvSpPr/>
          <p:nvPr/>
        </p:nvSpPr>
        <p:spPr>
          <a:xfrm>
            <a:off x="0" y="2552760"/>
            <a:ext cx="2616120" cy="430524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0" name="Group 13"/>
          <p:cNvGrpSpPr/>
          <p:nvPr/>
        </p:nvGrpSpPr>
        <p:grpSpPr>
          <a:xfrm>
            <a:off x="7018200" y="2957400"/>
            <a:ext cx="4608720" cy="1343880"/>
            <a:chOff x="7018200" y="2957400"/>
            <a:chExt cx="4608720" cy="1343880"/>
          </a:xfrm>
        </p:grpSpPr>
        <p:sp>
          <p:nvSpPr>
            <p:cNvPr id="1431" name="TextBox 15"/>
            <p:cNvSpPr/>
            <p:nvPr/>
          </p:nvSpPr>
          <p:spPr>
            <a:xfrm>
              <a:off x="7018560" y="2957400"/>
              <a:ext cx="3627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TextBox 16"/>
            <p:cNvSpPr/>
            <p:nvPr/>
          </p:nvSpPr>
          <p:spPr>
            <a:xfrm>
              <a:off x="7018200" y="3597840"/>
              <a:ext cx="460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 MAC NOW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3" name="Text Placeholder 6"/>
          <p:cNvSpPr/>
          <p:nvPr/>
        </p:nvSpPr>
        <p:spPr>
          <a:xfrm>
            <a:off x="7056360" y="4495680"/>
            <a:ext cx="44132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 Placeholder 6"/>
          <p:cNvSpPr/>
          <p:nvPr/>
        </p:nvSpPr>
        <p:spPr>
          <a:xfrm>
            <a:off x="7056360" y="5305320"/>
            <a:ext cx="44071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5" name="Group 19"/>
          <p:cNvGrpSpPr/>
          <p:nvPr/>
        </p:nvGrpSpPr>
        <p:grpSpPr>
          <a:xfrm>
            <a:off x="633240" y="2711160"/>
            <a:ext cx="1344960" cy="3987720"/>
            <a:chOff x="633240" y="2711160"/>
            <a:chExt cx="1344960" cy="3987720"/>
          </a:xfrm>
        </p:grpSpPr>
        <p:sp>
          <p:nvSpPr>
            <p:cNvPr id="1436" name="TextBox 21"/>
            <p:cNvSpPr/>
            <p:nvPr/>
          </p:nvSpPr>
          <p:spPr>
            <a:xfrm rot="16200000">
              <a:off x="-583920" y="4777920"/>
              <a:ext cx="31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TextBox 22"/>
            <p:cNvSpPr/>
            <p:nvPr/>
          </p:nvSpPr>
          <p:spPr>
            <a:xfrm rot="16200000">
              <a:off x="-367200" y="4353120"/>
              <a:ext cx="398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8" name="Straight Connector 23"/>
          <p:cNvSpPr/>
          <p:nvPr/>
        </p:nvSpPr>
        <p:spPr>
          <a:xfrm flipH="1">
            <a:off x="590040" y="2219400"/>
            <a:ext cx="8991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Text Placeholder 6"/>
          <p:cNvSpPr/>
          <p:nvPr/>
        </p:nvSpPr>
        <p:spPr>
          <a:xfrm>
            <a:off x="539640" y="1581120"/>
            <a:ext cx="8991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0" name="Group 25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441" name="Rectangle 26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TextBox 27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2793600" y="2552400"/>
            <a:ext cx="37213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4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445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2" name="Rectangle 11"/>
          <p:cNvSpPr/>
          <p:nvPr/>
        </p:nvSpPr>
        <p:spPr>
          <a:xfrm>
            <a:off x="8508960" y="2076480"/>
            <a:ext cx="3683160" cy="334008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0" y="2076480"/>
            <a:ext cx="3733920" cy="334008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 Placeholder 6"/>
          <p:cNvSpPr/>
          <p:nvPr/>
        </p:nvSpPr>
        <p:spPr>
          <a:xfrm>
            <a:off x="270000" y="3105000"/>
            <a:ext cx="31939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5" name="Group 14"/>
          <p:cNvGrpSpPr/>
          <p:nvPr/>
        </p:nvGrpSpPr>
        <p:grpSpPr>
          <a:xfrm>
            <a:off x="8907480" y="2751120"/>
            <a:ext cx="2705040" cy="1986120"/>
            <a:chOff x="8907480" y="2751120"/>
            <a:chExt cx="2705040" cy="1986120"/>
          </a:xfrm>
        </p:grpSpPr>
        <p:sp>
          <p:nvSpPr>
            <p:cNvPr id="1456" name="TextBox 15"/>
            <p:cNvSpPr/>
            <p:nvPr/>
          </p:nvSpPr>
          <p:spPr>
            <a:xfrm>
              <a:off x="8907480" y="2751120"/>
              <a:ext cx="270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TextBox 16"/>
            <p:cNvSpPr/>
            <p:nvPr/>
          </p:nvSpPr>
          <p:spPr>
            <a:xfrm>
              <a:off x="8907480" y="3392280"/>
              <a:ext cx="270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LAY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TextBox 17"/>
            <p:cNvSpPr/>
            <p:nvPr/>
          </p:nvSpPr>
          <p:spPr>
            <a:xfrm>
              <a:off x="8907480" y="4033800"/>
              <a:ext cx="270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HERE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9" name="Text Placeholder 6"/>
          <p:cNvSpPr/>
          <p:nvPr/>
        </p:nvSpPr>
        <p:spPr>
          <a:xfrm>
            <a:off x="270000" y="4213080"/>
            <a:ext cx="31939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0" name="Group 19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461" name="Rectangle 20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TextBox 21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3" name="Straight Connector 22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TextBox 23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3848040" y="2076480"/>
            <a:ext cx="45468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6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467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4" name="Rectangle 11"/>
          <p:cNvSpPr/>
          <p:nvPr/>
        </p:nvSpPr>
        <p:spPr>
          <a:xfrm>
            <a:off x="0" y="1720800"/>
            <a:ext cx="5587920" cy="341640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5" name="Group 14"/>
          <p:cNvGrpSpPr/>
          <p:nvPr/>
        </p:nvGrpSpPr>
        <p:grpSpPr>
          <a:xfrm>
            <a:off x="425520" y="2009880"/>
            <a:ext cx="4425840" cy="1986120"/>
            <a:chOff x="425520" y="2009880"/>
            <a:chExt cx="4425840" cy="1986120"/>
          </a:xfrm>
        </p:grpSpPr>
        <p:sp>
          <p:nvSpPr>
            <p:cNvPr id="1476" name="TextBox 15"/>
            <p:cNvSpPr/>
            <p:nvPr/>
          </p:nvSpPr>
          <p:spPr>
            <a:xfrm>
              <a:off x="425880" y="2009880"/>
              <a:ext cx="348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TextBox 16"/>
            <p:cNvSpPr/>
            <p:nvPr/>
          </p:nvSpPr>
          <p:spPr>
            <a:xfrm>
              <a:off x="425880" y="2651040"/>
              <a:ext cx="348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LAY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TextBox 17"/>
            <p:cNvSpPr/>
            <p:nvPr/>
          </p:nvSpPr>
          <p:spPr>
            <a:xfrm>
              <a:off x="425520" y="3292560"/>
              <a:ext cx="442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PORTFOLIO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9" name="Text Placeholder 6"/>
          <p:cNvSpPr/>
          <p:nvPr/>
        </p:nvSpPr>
        <p:spPr>
          <a:xfrm>
            <a:off x="439560" y="4178160"/>
            <a:ext cx="44118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19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481" name="Rectangle 20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TextBox 21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3" name="Straight Connector 22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TextBox 23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5" name="" descr=""/>
          <p:cNvPicPr/>
          <p:nvPr/>
        </p:nvPicPr>
        <p:blipFill>
          <a:blip r:embed="rId1"/>
          <a:stretch/>
        </p:blipFill>
        <p:spPr>
          <a:xfrm>
            <a:off x="5715000" y="1720800"/>
            <a:ext cx="64771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6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487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4" name="Rectangle 11"/>
          <p:cNvSpPr/>
          <p:nvPr/>
        </p:nvSpPr>
        <p:spPr>
          <a:xfrm>
            <a:off x="5486400" y="1720800"/>
            <a:ext cx="6705720" cy="401328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Rectangle 12"/>
          <p:cNvSpPr/>
          <p:nvPr/>
        </p:nvSpPr>
        <p:spPr>
          <a:xfrm>
            <a:off x="0" y="1708200"/>
            <a:ext cx="1231920" cy="401328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6" name="Group 13"/>
          <p:cNvGrpSpPr/>
          <p:nvPr/>
        </p:nvGrpSpPr>
        <p:grpSpPr>
          <a:xfrm>
            <a:off x="6322680" y="1900080"/>
            <a:ext cx="4608720" cy="1986120"/>
            <a:chOff x="6322680" y="1900080"/>
            <a:chExt cx="4608720" cy="1986120"/>
          </a:xfrm>
        </p:grpSpPr>
        <p:sp>
          <p:nvSpPr>
            <p:cNvPr id="1497" name="TextBox 14"/>
            <p:cNvSpPr/>
            <p:nvPr/>
          </p:nvSpPr>
          <p:spPr>
            <a:xfrm>
              <a:off x="6322680" y="1900080"/>
              <a:ext cx="362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TextBox 15"/>
            <p:cNvSpPr/>
            <p:nvPr/>
          </p:nvSpPr>
          <p:spPr>
            <a:xfrm>
              <a:off x="6322680" y="2541240"/>
              <a:ext cx="362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TextBox 16"/>
            <p:cNvSpPr/>
            <p:nvPr/>
          </p:nvSpPr>
          <p:spPr>
            <a:xfrm>
              <a:off x="6323040" y="3182760"/>
              <a:ext cx="46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OCUMENT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0" name="Text Placeholder 6"/>
          <p:cNvSpPr/>
          <p:nvPr/>
        </p:nvSpPr>
        <p:spPr>
          <a:xfrm>
            <a:off x="6335640" y="3975120"/>
            <a:ext cx="4413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Text Placeholder 6"/>
          <p:cNvSpPr/>
          <p:nvPr/>
        </p:nvSpPr>
        <p:spPr>
          <a:xfrm>
            <a:off x="6335640" y="4822920"/>
            <a:ext cx="4407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TextBox 21"/>
          <p:cNvSpPr/>
          <p:nvPr/>
        </p:nvSpPr>
        <p:spPr>
          <a:xfrm rot="16200000">
            <a:off x="-1380600" y="3350520"/>
            <a:ext cx="398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 Black"/>
                <a:ea typeface="Arial"/>
              </a:rPr>
              <a:t>SMART 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3" name="Group 22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504" name="Rectangle 23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TextBox 24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6" name="Straight Connector 25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TextBox 26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8" name="" descr=""/>
          <p:cNvPicPr/>
          <p:nvPr/>
        </p:nvPicPr>
        <p:blipFill>
          <a:blip r:embed="rId1"/>
          <a:stretch/>
        </p:blipFill>
        <p:spPr>
          <a:xfrm>
            <a:off x="1346040" y="1707840"/>
            <a:ext cx="40262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510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7" name="Rectangle 11"/>
          <p:cNvSpPr/>
          <p:nvPr/>
        </p:nvSpPr>
        <p:spPr>
          <a:xfrm>
            <a:off x="0" y="1689120"/>
            <a:ext cx="5905440" cy="404496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8" name="Group 12"/>
          <p:cNvGrpSpPr/>
          <p:nvPr/>
        </p:nvGrpSpPr>
        <p:grpSpPr>
          <a:xfrm>
            <a:off x="539640" y="1849320"/>
            <a:ext cx="4608720" cy="1986120"/>
            <a:chOff x="539640" y="1849320"/>
            <a:chExt cx="4608720" cy="1986120"/>
          </a:xfrm>
        </p:grpSpPr>
        <p:sp>
          <p:nvSpPr>
            <p:cNvPr id="1519" name="TextBox 13"/>
            <p:cNvSpPr/>
            <p:nvPr/>
          </p:nvSpPr>
          <p:spPr>
            <a:xfrm>
              <a:off x="540000" y="1849320"/>
              <a:ext cx="3627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LAY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TextBox 14"/>
            <p:cNvSpPr/>
            <p:nvPr/>
          </p:nvSpPr>
          <p:spPr>
            <a:xfrm>
              <a:off x="540000" y="2490480"/>
              <a:ext cx="3627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TextBox 15"/>
            <p:cNvSpPr/>
            <p:nvPr/>
          </p:nvSpPr>
          <p:spPr>
            <a:xfrm>
              <a:off x="539640" y="3132000"/>
              <a:ext cx="460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GALLERY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2" name="Text Placeholder 6"/>
          <p:cNvSpPr/>
          <p:nvPr/>
        </p:nvSpPr>
        <p:spPr>
          <a:xfrm>
            <a:off x="554040" y="3924360"/>
            <a:ext cx="4411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Text Placeholder 6"/>
          <p:cNvSpPr/>
          <p:nvPr/>
        </p:nvSpPr>
        <p:spPr>
          <a:xfrm>
            <a:off x="554040" y="4772160"/>
            <a:ext cx="4405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Rectangle 18"/>
          <p:cNvSpPr/>
          <p:nvPr/>
        </p:nvSpPr>
        <p:spPr>
          <a:xfrm>
            <a:off x="10007640" y="1689120"/>
            <a:ext cx="2184480" cy="396252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5" name="Group 19"/>
          <p:cNvGrpSpPr/>
          <p:nvPr/>
        </p:nvGrpSpPr>
        <p:grpSpPr>
          <a:xfrm>
            <a:off x="10425240" y="1733400"/>
            <a:ext cx="1344600" cy="3873600"/>
            <a:chOff x="10425240" y="1733400"/>
            <a:chExt cx="1344600" cy="3873600"/>
          </a:xfrm>
        </p:grpSpPr>
        <p:sp>
          <p:nvSpPr>
            <p:cNvPr id="1526" name="TextBox 20"/>
            <p:cNvSpPr/>
            <p:nvPr/>
          </p:nvSpPr>
          <p:spPr>
            <a:xfrm rot="16200000">
              <a:off x="9252720" y="3731040"/>
              <a:ext cx="304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TextBox 21"/>
            <p:cNvSpPr/>
            <p:nvPr/>
          </p:nvSpPr>
          <p:spPr>
            <a:xfrm rot="16200000">
              <a:off x="9481320" y="3318480"/>
              <a:ext cx="387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8" name="Group 22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529" name="Rectangle 23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TextBox 24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1" name="Straight Connector 25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TextBox 26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3" name="" descr=""/>
          <p:cNvPicPr/>
          <p:nvPr/>
        </p:nvPicPr>
        <p:blipFill>
          <a:blip r:embed="rId1"/>
          <a:stretch/>
        </p:blipFill>
        <p:spPr>
          <a:xfrm>
            <a:off x="6058080" y="1688760"/>
            <a:ext cx="3797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4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535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2" name="Rectangle 11"/>
          <p:cNvSpPr/>
          <p:nvPr/>
        </p:nvSpPr>
        <p:spPr>
          <a:xfrm>
            <a:off x="5232240" y="2184480"/>
            <a:ext cx="6959880" cy="330192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Text Placeholder 6"/>
          <p:cNvSpPr/>
          <p:nvPr/>
        </p:nvSpPr>
        <p:spPr>
          <a:xfrm>
            <a:off x="5794200" y="4525920"/>
            <a:ext cx="4275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4" name="Group 15"/>
          <p:cNvGrpSpPr/>
          <p:nvPr/>
        </p:nvGrpSpPr>
        <p:grpSpPr>
          <a:xfrm>
            <a:off x="5794200" y="2395440"/>
            <a:ext cx="3984840" cy="1986120"/>
            <a:chOff x="5794200" y="2395440"/>
            <a:chExt cx="3984840" cy="1986120"/>
          </a:xfrm>
        </p:grpSpPr>
        <p:sp>
          <p:nvSpPr>
            <p:cNvPr id="1545" name="TextBox 16"/>
            <p:cNvSpPr/>
            <p:nvPr/>
          </p:nvSpPr>
          <p:spPr>
            <a:xfrm>
              <a:off x="5794200" y="2395440"/>
              <a:ext cx="313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LAY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TextBox 17"/>
            <p:cNvSpPr/>
            <p:nvPr/>
          </p:nvSpPr>
          <p:spPr>
            <a:xfrm>
              <a:off x="5794200" y="3036600"/>
              <a:ext cx="313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TextBox 18"/>
            <p:cNvSpPr/>
            <p:nvPr/>
          </p:nvSpPr>
          <p:spPr>
            <a:xfrm>
              <a:off x="5794200" y="3678120"/>
              <a:ext cx="398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MANAGER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8" name="Group 19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549" name="Rectangle 20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TextBox 21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1" name="Straight Connector 22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TextBox 23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" descr=""/>
          <p:cNvPicPr/>
          <p:nvPr/>
        </p:nvPicPr>
        <p:blipFill>
          <a:blip r:embed="rId1"/>
          <a:stretch/>
        </p:blipFill>
        <p:spPr>
          <a:xfrm>
            <a:off x="-360" y="2184480"/>
            <a:ext cx="50799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1ed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0"/>
          <p:cNvSpPr/>
          <p:nvPr/>
        </p:nvSpPr>
        <p:spPr>
          <a:xfrm>
            <a:off x="9923400" y="63180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 "/>
                <a:ea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1" name="Group 20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172" name="Rectangle 4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TextBox 5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TextBox 6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TextBox 7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TextBox 8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TextBox 9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Straight Connector 12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9" name="Group 13"/>
          <p:cNvGrpSpPr/>
          <p:nvPr/>
        </p:nvGrpSpPr>
        <p:grpSpPr>
          <a:xfrm>
            <a:off x="539280" y="2610000"/>
            <a:ext cx="8007840" cy="2291040"/>
            <a:chOff x="539280" y="2610000"/>
            <a:chExt cx="8007840" cy="2291040"/>
          </a:xfrm>
        </p:grpSpPr>
        <p:sp>
          <p:nvSpPr>
            <p:cNvPr id="1180" name="TextBox 14"/>
            <p:cNvSpPr/>
            <p:nvPr/>
          </p:nvSpPr>
          <p:spPr>
            <a:xfrm>
              <a:off x="539280" y="2610000"/>
              <a:ext cx="630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WELCOME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TextBox 15"/>
            <p:cNvSpPr/>
            <p:nvPr/>
          </p:nvSpPr>
          <p:spPr>
            <a:xfrm>
              <a:off x="539280" y="3251160"/>
              <a:ext cx="630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TextBox 16"/>
            <p:cNvSpPr/>
            <p:nvPr/>
          </p:nvSpPr>
          <p:spPr>
            <a:xfrm>
              <a:off x="539640" y="3892680"/>
              <a:ext cx="8007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PRESENTATION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3" name="Straight Connector 18"/>
          <p:cNvSpPr/>
          <p:nvPr/>
        </p:nvSpPr>
        <p:spPr>
          <a:xfrm>
            <a:off x="685800" y="4908600"/>
            <a:ext cx="7861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 Placeholder 6"/>
          <p:cNvSpPr/>
          <p:nvPr/>
        </p:nvSpPr>
        <p:spPr>
          <a:xfrm>
            <a:off x="539640" y="5241960"/>
            <a:ext cx="8007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5" name="Group 21"/>
          <p:cNvGrpSpPr/>
          <p:nvPr/>
        </p:nvGrpSpPr>
        <p:grpSpPr>
          <a:xfrm>
            <a:off x="11239560" y="6165720"/>
            <a:ext cx="533520" cy="533520"/>
            <a:chOff x="11239560" y="6165720"/>
            <a:chExt cx="533520" cy="533520"/>
          </a:xfrm>
        </p:grpSpPr>
        <p:sp>
          <p:nvSpPr>
            <p:cNvPr id="1186" name="Rectangle 22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TextBox 23"/>
            <p:cNvSpPr/>
            <p:nvPr/>
          </p:nvSpPr>
          <p:spPr>
            <a:xfrm>
              <a:off x="11264760" y="6165720"/>
              <a:ext cx="50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8" name="Straight Connector 24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Box 25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1ed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5" name="Group 4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556" name="Rectangle 5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TextBox 6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TextBox 7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TextBox 8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TextBox 9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TextBox 10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Straight Connector 11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3" name="Group 12"/>
          <p:cNvGrpSpPr/>
          <p:nvPr/>
        </p:nvGrpSpPr>
        <p:grpSpPr>
          <a:xfrm>
            <a:off x="539640" y="2522520"/>
            <a:ext cx="4608720" cy="1986120"/>
            <a:chOff x="539640" y="2522520"/>
            <a:chExt cx="4608720" cy="1986120"/>
          </a:xfrm>
        </p:grpSpPr>
        <p:sp>
          <p:nvSpPr>
            <p:cNvPr id="1564" name="TextBox 13"/>
            <p:cNvSpPr/>
            <p:nvPr/>
          </p:nvSpPr>
          <p:spPr>
            <a:xfrm>
              <a:off x="540000" y="2522520"/>
              <a:ext cx="3627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CREATIV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TextBox 14"/>
            <p:cNvSpPr/>
            <p:nvPr/>
          </p:nvSpPr>
          <p:spPr>
            <a:xfrm>
              <a:off x="540000" y="3163680"/>
              <a:ext cx="3627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TextBox 15"/>
            <p:cNvSpPr/>
            <p:nvPr/>
          </p:nvSpPr>
          <p:spPr>
            <a:xfrm>
              <a:off x="539640" y="3805200"/>
              <a:ext cx="460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PORTFOLIO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7" name="Straight Connector 17"/>
          <p:cNvSpPr/>
          <p:nvPr/>
        </p:nvSpPr>
        <p:spPr>
          <a:xfrm>
            <a:off x="679320" y="4788000"/>
            <a:ext cx="90741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Text Placeholder 6"/>
          <p:cNvSpPr/>
          <p:nvPr/>
        </p:nvSpPr>
        <p:spPr>
          <a:xfrm>
            <a:off x="641520" y="5016600"/>
            <a:ext cx="9074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9" name="Group 19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570" name="Rectangle 20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TextBox 21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574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1" name="Rectangle 13"/>
          <p:cNvSpPr/>
          <p:nvPr/>
        </p:nvSpPr>
        <p:spPr>
          <a:xfrm>
            <a:off x="0" y="1720800"/>
            <a:ext cx="5981760" cy="425448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10401480" y="1720800"/>
            <a:ext cx="1790640" cy="425448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3" name="Group 15"/>
          <p:cNvGrpSpPr/>
          <p:nvPr/>
        </p:nvGrpSpPr>
        <p:grpSpPr>
          <a:xfrm>
            <a:off x="539640" y="2065320"/>
            <a:ext cx="4608720" cy="1986120"/>
            <a:chOff x="539640" y="2065320"/>
            <a:chExt cx="4608720" cy="1986120"/>
          </a:xfrm>
        </p:grpSpPr>
        <p:sp>
          <p:nvSpPr>
            <p:cNvPr id="1584" name="TextBox 16"/>
            <p:cNvSpPr/>
            <p:nvPr/>
          </p:nvSpPr>
          <p:spPr>
            <a:xfrm>
              <a:off x="540000" y="2065320"/>
              <a:ext cx="3627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IMAG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TextBox 17"/>
            <p:cNvSpPr/>
            <p:nvPr/>
          </p:nvSpPr>
          <p:spPr>
            <a:xfrm>
              <a:off x="540000" y="2706480"/>
              <a:ext cx="3627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TextBox 18"/>
            <p:cNvSpPr/>
            <p:nvPr/>
          </p:nvSpPr>
          <p:spPr>
            <a:xfrm>
              <a:off x="539640" y="3348000"/>
              <a:ext cx="460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PORTFOLIO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7" name="Text Placeholder 6"/>
          <p:cNvSpPr/>
          <p:nvPr/>
        </p:nvSpPr>
        <p:spPr>
          <a:xfrm>
            <a:off x="554040" y="4140360"/>
            <a:ext cx="4411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Text Placeholder 6"/>
          <p:cNvSpPr/>
          <p:nvPr/>
        </p:nvSpPr>
        <p:spPr>
          <a:xfrm>
            <a:off x="554040" y="4987800"/>
            <a:ext cx="44053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9" name="Group 21"/>
          <p:cNvGrpSpPr/>
          <p:nvPr/>
        </p:nvGrpSpPr>
        <p:grpSpPr>
          <a:xfrm>
            <a:off x="10621800" y="1911240"/>
            <a:ext cx="1344960" cy="3873600"/>
            <a:chOff x="10621800" y="1911240"/>
            <a:chExt cx="1344960" cy="3873600"/>
          </a:xfrm>
        </p:grpSpPr>
        <p:sp>
          <p:nvSpPr>
            <p:cNvPr id="1590" name="TextBox 22"/>
            <p:cNvSpPr/>
            <p:nvPr/>
          </p:nvSpPr>
          <p:spPr>
            <a:xfrm rot="16200000">
              <a:off x="9036720" y="3496320"/>
              <a:ext cx="387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TextBox 23"/>
            <p:cNvSpPr/>
            <p:nvPr/>
          </p:nvSpPr>
          <p:spPr>
            <a:xfrm rot="16200000">
              <a:off x="9678240" y="3496320"/>
              <a:ext cx="387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PORTFOLIO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2" name="Group 24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593" name="Rectangle 25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TextBox 26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5" name="Straight Connector 27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TextBox 28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" descr=""/>
          <p:cNvPicPr/>
          <p:nvPr/>
        </p:nvPicPr>
        <p:blipFill>
          <a:blip r:embed="rId1"/>
          <a:stretch/>
        </p:blipFill>
        <p:spPr>
          <a:xfrm>
            <a:off x="6108480" y="1720800"/>
            <a:ext cx="41655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599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6" name="Rectangle 15"/>
          <p:cNvSpPr/>
          <p:nvPr/>
        </p:nvSpPr>
        <p:spPr>
          <a:xfrm>
            <a:off x="539640" y="4305240"/>
            <a:ext cx="4426200" cy="139716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7" name="Group 16"/>
          <p:cNvGrpSpPr/>
          <p:nvPr/>
        </p:nvGrpSpPr>
        <p:grpSpPr>
          <a:xfrm>
            <a:off x="780840" y="4325760"/>
            <a:ext cx="4608720" cy="1344960"/>
            <a:chOff x="780840" y="4325760"/>
            <a:chExt cx="4608720" cy="1344960"/>
          </a:xfrm>
        </p:grpSpPr>
        <p:sp>
          <p:nvSpPr>
            <p:cNvPr id="1608" name="TextBox 18"/>
            <p:cNvSpPr/>
            <p:nvPr/>
          </p:nvSpPr>
          <p:spPr>
            <a:xfrm>
              <a:off x="780840" y="4325760"/>
              <a:ext cx="362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TextBox 19"/>
            <p:cNvSpPr/>
            <p:nvPr/>
          </p:nvSpPr>
          <p:spPr>
            <a:xfrm>
              <a:off x="781200" y="4967280"/>
              <a:ext cx="46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PORTFOLIO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0" name="Straight Connector 20"/>
          <p:cNvSpPr/>
          <p:nvPr/>
        </p:nvSpPr>
        <p:spPr>
          <a:xfrm>
            <a:off x="890640" y="5931000"/>
            <a:ext cx="90741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 Placeholder 6"/>
          <p:cNvSpPr/>
          <p:nvPr/>
        </p:nvSpPr>
        <p:spPr>
          <a:xfrm>
            <a:off x="852480" y="6045120"/>
            <a:ext cx="9074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2" name="Group 22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613" name="Rectangle 23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TextBox 24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5" name="" descr=""/>
          <p:cNvPicPr/>
          <p:nvPr/>
        </p:nvPicPr>
        <p:blipFill>
          <a:blip r:embed="rId1"/>
          <a:stretch/>
        </p:blipFill>
        <p:spPr>
          <a:xfrm>
            <a:off x="-360" y="1638360"/>
            <a:ext cx="121921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6" name="Group 1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617" name="Rectangle 2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TextBox 3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TextBox 4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TextBox 5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TextBox 6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TextBox 7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Straight Connector 8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4" name="Rectangle 9"/>
          <p:cNvSpPr/>
          <p:nvPr/>
        </p:nvSpPr>
        <p:spPr>
          <a:xfrm>
            <a:off x="444600" y="2260440"/>
            <a:ext cx="11207520" cy="233712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5" name="Group 10"/>
          <p:cNvGrpSpPr/>
          <p:nvPr/>
        </p:nvGrpSpPr>
        <p:grpSpPr>
          <a:xfrm>
            <a:off x="780840" y="2433600"/>
            <a:ext cx="4608720" cy="1986120"/>
            <a:chOff x="780840" y="2433600"/>
            <a:chExt cx="4608720" cy="1986120"/>
          </a:xfrm>
        </p:grpSpPr>
        <p:sp>
          <p:nvSpPr>
            <p:cNvPr id="1626" name="TextBox 11"/>
            <p:cNvSpPr/>
            <p:nvPr/>
          </p:nvSpPr>
          <p:spPr>
            <a:xfrm>
              <a:off x="780840" y="2433600"/>
              <a:ext cx="362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IMPL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TextBox 12"/>
            <p:cNvSpPr/>
            <p:nvPr/>
          </p:nvSpPr>
          <p:spPr>
            <a:xfrm>
              <a:off x="780840" y="3074760"/>
              <a:ext cx="362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LAY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TextBox 13"/>
            <p:cNvSpPr/>
            <p:nvPr/>
          </p:nvSpPr>
          <p:spPr>
            <a:xfrm>
              <a:off x="781200" y="3716280"/>
              <a:ext cx="46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PORTFOLIO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9" name="Text Placeholder 6"/>
          <p:cNvSpPr/>
          <p:nvPr/>
        </p:nvSpPr>
        <p:spPr>
          <a:xfrm>
            <a:off x="781200" y="4997520"/>
            <a:ext cx="9074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Straight Connector 17"/>
          <p:cNvSpPr/>
          <p:nvPr/>
        </p:nvSpPr>
        <p:spPr>
          <a:xfrm>
            <a:off x="5243400" y="2433600"/>
            <a:ext cx="0" cy="18842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 Placeholder 6"/>
          <p:cNvSpPr/>
          <p:nvPr/>
        </p:nvSpPr>
        <p:spPr>
          <a:xfrm>
            <a:off x="5783400" y="2876400"/>
            <a:ext cx="5557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2" name="Group 19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633" name="Rectangle 20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TextBox 21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5" name="Straight Connector 22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Box 23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22"/>
          <p:cNvSpPr/>
          <p:nvPr/>
        </p:nvSpPr>
        <p:spPr>
          <a:xfrm>
            <a:off x="0" y="3048120"/>
            <a:ext cx="12192120" cy="74916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8" name="Group 1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639" name="Rectangle 2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TextBox 3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TextBox 4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TextBox 5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TextBox 6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TextBox 7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Straight Connector 8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6" name="Group 16"/>
          <p:cNvGrpSpPr/>
          <p:nvPr/>
        </p:nvGrpSpPr>
        <p:grpSpPr>
          <a:xfrm>
            <a:off x="539640" y="2184480"/>
            <a:ext cx="7290000" cy="2489040"/>
            <a:chOff x="539640" y="2184480"/>
            <a:chExt cx="7290000" cy="2489040"/>
          </a:xfrm>
        </p:grpSpPr>
        <p:pic>
          <p:nvPicPr>
            <p:cNvPr id="1647" name="TextBox 10" descr=""/>
            <p:cNvPicPr/>
            <p:nvPr/>
          </p:nvPicPr>
          <p:blipFill>
            <a:blip r:embed="rId1"/>
            <a:stretch/>
          </p:blipFill>
          <p:spPr>
            <a:xfrm>
              <a:off x="539640" y="2184480"/>
              <a:ext cx="729000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TextBox 13" descr=""/>
            <p:cNvPicPr/>
            <p:nvPr/>
          </p:nvPicPr>
          <p:blipFill>
            <a:blip r:embed="rId2"/>
            <a:stretch/>
          </p:blipFill>
          <p:spPr>
            <a:xfrm>
              <a:off x="539640" y="2920680"/>
              <a:ext cx="729000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TextBox 14" descr=""/>
            <p:cNvPicPr/>
            <p:nvPr/>
          </p:nvPicPr>
          <p:blipFill>
            <a:blip r:embed="rId3"/>
            <a:stretch/>
          </p:blipFill>
          <p:spPr>
            <a:xfrm>
              <a:off x="539640" y="3657240"/>
              <a:ext cx="7290000" cy="101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0" name="Group 17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651" name="Rectangle 18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TextBox 19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3" name="Straight Connector 20"/>
          <p:cNvSpPr/>
          <p:nvPr/>
        </p:nvSpPr>
        <p:spPr>
          <a:xfrm>
            <a:off x="577800" y="4902120"/>
            <a:ext cx="90741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Text Placeholder 6"/>
          <p:cNvSpPr/>
          <p:nvPr/>
        </p:nvSpPr>
        <p:spPr>
          <a:xfrm>
            <a:off x="539640" y="5016600"/>
            <a:ext cx="9074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Straight Connector 23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TextBox 24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7" name="Group 1" descr=""/>
          <p:cNvPicPr/>
          <p:nvPr/>
        </p:nvPicPr>
        <p:blipFill>
          <a:blip r:embed="rId1"/>
          <a:stretch/>
        </p:blipFill>
        <p:spPr>
          <a:xfrm>
            <a:off x="3541680" y="3005280"/>
            <a:ext cx="8650440" cy="3865320"/>
          </a:xfrm>
          <a:prstGeom prst="rect">
            <a:avLst/>
          </a:prstGeom>
          <a:ln w="0">
            <a:noFill/>
          </a:ln>
        </p:spPr>
      </p:pic>
      <p:sp>
        <p:nvSpPr>
          <p:cNvPr id="1658" name="TextBox 20"/>
          <p:cNvSpPr/>
          <p:nvPr/>
        </p:nvSpPr>
        <p:spPr>
          <a:xfrm>
            <a:off x="808200" y="2544840"/>
            <a:ext cx="45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"/>
                <a:ea typeface="Lato"/>
              </a:rPr>
              <a:t>STEP TIME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Rectangle 21"/>
          <p:cNvSpPr/>
          <p:nvPr/>
        </p:nvSpPr>
        <p:spPr>
          <a:xfrm>
            <a:off x="835200" y="3137040"/>
            <a:ext cx="4340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lacus nulla ac netus nibh aliquet, porttitor ligula justo libero vivamus porttitor dolor</a:t>
            </a: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0" name="Group 22"/>
          <p:cNvGrpSpPr/>
          <p:nvPr/>
        </p:nvGrpSpPr>
        <p:grpSpPr>
          <a:xfrm>
            <a:off x="1344600" y="4884840"/>
            <a:ext cx="3560400" cy="1009440"/>
            <a:chOff x="1344600" y="4884840"/>
            <a:chExt cx="3560400" cy="1009440"/>
          </a:xfrm>
        </p:grpSpPr>
        <p:sp>
          <p:nvSpPr>
            <p:cNvPr id="1661" name="Rectangle 23"/>
            <p:cNvSpPr/>
            <p:nvPr/>
          </p:nvSpPr>
          <p:spPr>
            <a:xfrm>
              <a:off x="3294360" y="488484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 "/>
                  <a:ea typeface="Lato"/>
                </a:rPr>
                <a:t>Step O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62" name="Group 24"/>
            <p:cNvGrpSpPr/>
            <p:nvPr/>
          </p:nvGrpSpPr>
          <p:grpSpPr>
            <a:xfrm>
              <a:off x="4644000" y="5072040"/>
              <a:ext cx="261000" cy="822240"/>
              <a:chOff x="4644000" y="5072040"/>
              <a:chExt cx="261000" cy="822240"/>
            </a:xfrm>
          </p:grpSpPr>
          <p:sp>
            <p:nvSpPr>
              <p:cNvPr id="1663" name="Straight Connector 26"/>
              <p:cNvSpPr/>
              <p:nvPr/>
            </p:nvSpPr>
            <p:spPr>
              <a:xfrm flipV="1">
                <a:off x="4905000" y="5072040"/>
                <a:ext cx="0" cy="82224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Straight Connector 27"/>
              <p:cNvSpPr/>
              <p:nvPr/>
            </p:nvSpPr>
            <p:spPr>
              <a:xfrm flipH="1">
                <a:off x="4644000" y="5072040"/>
                <a:ext cx="26100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65" name="Rectangle 25"/>
            <p:cNvSpPr/>
            <p:nvPr/>
          </p:nvSpPr>
          <p:spPr>
            <a:xfrm>
              <a:off x="1344600" y="5177520"/>
              <a:ext cx="31356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Lorem ipsum dolor sit amet, lacus nulla ac netus nibh aliquet, porttitor ligula justo liber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6" name="Group 28"/>
          <p:cNvGrpSpPr/>
          <p:nvPr/>
        </p:nvGrpSpPr>
        <p:grpSpPr>
          <a:xfrm>
            <a:off x="3294000" y="3914640"/>
            <a:ext cx="3684240" cy="1009440"/>
            <a:chOff x="3294000" y="3914640"/>
            <a:chExt cx="3684240" cy="1009440"/>
          </a:xfrm>
        </p:grpSpPr>
        <p:sp>
          <p:nvSpPr>
            <p:cNvPr id="1667" name="Rectangle 29"/>
            <p:cNvSpPr/>
            <p:nvPr/>
          </p:nvSpPr>
          <p:spPr>
            <a:xfrm>
              <a:off x="5358600" y="391464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 "/>
                  <a:ea typeface="Lato"/>
                </a:rPr>
                <a:t>Step Tw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68" name="Group 30"/>
            <p:cNvGrpSpPr/>
            <p:nvPr/>
          </p:nvGrpSpPr>
          <p:grpSpPr>
            <a:xfrm>
              <a:off x="6717240" y="4101480"/>
              <a:ext cx="261000" cy="822600"/>
              <a:chOff x="6717240" y="4101480"/>
              <a:chExt cx="261000" cy="822600"/>
            </a:xfrm>
          </p:grpSpPr>
          <p:sp>
            <p:nvSpPr>
              <p:cNvPr id="1669" name="Straight Connector 32"/>
              <p:cNvSpPr/>
              <p:nvPr/>
            </p:nvSpPr>
            <p:spPr>
              <a:xfrm flipV="1">
                <a:off x="6978240" y="4101480"/>
                <a:ext cx="0" cy="82260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Straight Connector 33"/>
              <p:cNvSpPr/>
              <p:nvPr/>
            </p:nvSpPr>
            <p:spPr>
              <a:xfrm flipH="1">
                <a:off x="6717240" y="4101840"/>
                <a:ext cx="26100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1" name="Rectangle 31"/>
            <p:cNvSpPr/>
            <p:nvPr/>
          </p:nvSpPr>
          <p:spPr>
            <a:xfrm>
              <a:off x="3294000" y="4207320"/>
              <a:ext cx="3259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Lorem ipsum dolor sit amet, lacus nulla ac netus nibh aliquet, porttitor ligula justo liber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2" name="Group 34"/>
          <p:cNvGrpSpPr/>
          <p:nvPr/>
        </p:nvGrpSpPr>
        <p:grpSpPr>
          <a:xfrm>
            <a:off x="5600880" y="2936880"/>
            <a:ext cx="3544200" cy="1009440"/>
            <a:chOff x="5600880" y="2936880"/>
            <a:chExt cx="3544200" cy="1009440"/>
          </a:xfrm>
        </p:grpSpPr>
        <p:sp>
          <p:nvSpPr>
            <p:cNvPr id="1673" name="Rectangle 35"/>
            <p:cNvSpPr/>
            <p:nvPr/>
          </p:nvSpPr>
          <p:spPr>
            <a:xfrm>
              <a:off x="7350840" y="293688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 "/>
                  <a:ea typeface="Lato"/>
                </a:rPr>
                <a:t>Step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4" name="Group 36"/>
            <p:cNvGrpSpPr/>
            <p:nvPr/>
          </p:nvGrpSpPr>
          <p:grpSpPr>
            <a:xfrm>
              <a:off x="8884080" y="3123720"/>
              <a:ext cx="261000" cy="822600"/>
              <a:chOff x="8884080" y="3123720"/>
              <a:chExt cx="261000" cy="822600"/>
            </a:xfrm>
          </p:grpSpPr>
          <p:sp>
            <p:nvSpPr>
              <p:cNvPr id="1675" name="Straight Connector 38"/>
              <p:cNvSpPr/>
              <p:nvPr/>
            </p:nvSpPr>
            <p:spPr>
              <a:xfrm flipV="1">
                <a:off x="9145080" y="3123720"/>
                <a:ext cx="0" cy="82260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Straight Connector 39"/>
              <p:cNvSpPr/>
              <p:nvPr/>
            </p:nvSpPr>
            <p:spPr>
              <a:xfrm flipH="1">
                <a:off x="8884080" y="3124080"/>
                <a:ext cx="26100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7" name="Rectangle 37"/>
            <p:cNvSpPr/>
            <p:nvPr/>
          </p:nvSpPr>
          <p:spPr>
            <a:xfrm>
              <a:off x="5600880" y="3229560"/>
              <a:ext cx="31197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Lorem ipsum dolor sit amet, lacus nulla ac netus nibh aliquet, porttitor ligula justo liber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8" name="Group 40"/>
          <p:cNvGrpSpPr/>
          <p:nvPr/>
        </p:nvGrpSpPr>
        <p:grpSpPr>
          <a:xfrm>
            <a:off x="7597800" y="2035080"/>
            <a:ext cx="3541320" cy="1009440"/>
            <a:chOff x="7597800" y="2035080"/>
            <a:chExt cx="3541320" cy="1009440"/>
          </a:xfrm>
        </p:grpSpPr>
        <p:sp>
          <p:nvSpPr>
            <p:cNvPr id="1679" name="Rectangle 41"/>
            <p:cNvSpPr/>
            <p:nvPr/>
          </p:nvSpPr>
          <p:spPr>
            <a:xfrm>
              <a:off x="9459000" y="203508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 "/>
                  <a:ea typeface="Lato"/>
                </a:rPr>
                <a:t>Step Fou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80" name="Group 42"/>
            <p:cNvGrpSpPr/>
            <p:nvPr/>
          </p:nvGrpSpPr>
          <p:grpSpPr>
            <a:xfrm>
              <a:off x="10878120" y="2221920"/>
              <a:ext cx="261000" cy="822600"/>
              <a:chOff x="10878120" y="2221920"/>
              <a:chExt cx="261000" cy="822600"/>
            </a:xfrm>
          </p:grpSpPr>
          <p:sp>
            <p:nvSpPr>
              <p:cNvPr id="1681" name="Straight Connector 44"/>
              <p:cNvSpPr/>
              <p:nvPr/>
            </p:nvSpPr>
            <p:spPr>
              <a:xfrm flipV="1">
                <a:off x="11139120" y="2221920"/>
                <a:ext cx="0" cy="82260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Straight Connector 45"/>
              <p:cNvSpPr/>
              <p:nvPr/>
            </p:nvSpPr>
            <p:spPr>
              <a:xfrm flipH="1">
                <a:off x="10878120" y="2222280"/>
                <a:ext cx="26100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83" name="Rectangle 43"/>
            <p:cNvSpPr/>
            <p:nvPr/>
          </p:nvSpPr>
          <p:spPr>
            <a:xfrm>
              <a:off x="7597800" y="2327760"/>
              <a:ext cx="3116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Lorem ipsum dolor sit amet, lacus nulla ac netus nibh aliquet, porttitor ligula justo liber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4" name="TextBox 46"/>
          <p:cNvSpPr/>
          <p:nvPr/>
        </p:nvSpPr>
        <p:spPr>
          <a:xfrm>
            <a:off x="749160" y="1754280"/>
            <a:ext cx="3946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Kozuka Gothic Pro H"/>
              </a:rPr>
              <a:t>INFOGRAPH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Rectangle 48"/>
          <p:cNvSpPr/>
          <p:nvPr/>
        </p:nvSpPr>
        <p:spPr>
          <a:xfrm>
            <a:off x="4952520" y="60912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 "/>
                <a:ea typeface="Kozuka Gothic Pro H"/>
              </a:rPr>
              <a:t>20</a:t>
            </a: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Kozuka Gothic Pro H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Rectangle 49"/>
          <p:cNvSpPr/>
          <p:nvPr/>
        </p:nvSpPr>
        <p:spPr>
          <a:xfrm>
            <a:off x="7131240" y="5113440"/>
            <a:ext cx="9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 "/>
                <a:ea typeface="Kozuka Gothic Pro H"/>
              </a:rPr>
              <a:t>4</a:t>
            </a: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Kozuka Gothic Pro H"/>
              </a:rPr>
              <a:t>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Rectangle 50"/>
          <p:cNvSpPr/>
          <p:nvPr/>
        </p:nvSpPr>
        <p:spPr>
          <a:xfrm>
            <a:off x="9226800" y="4133880"/>
            <a:ext cx="9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 "/>
                <a:ea typeface="Kozuka Gothic Pro H"/>
              </a:rPr>
              <a:t>6</a:t>
            </a: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Kozuka Gothic Pro H"/>
              </a:rPr>
              <a:t>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Rectangle 51"/>
          <p:cNvSpPr/>
          <p:nvPr/>
        </p:nvSpPr>
        <p:spPr>
          <a:xfrm>
            <a:off x="11057760" y="3173400"/>
            <a:ext cx="9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 "/>
                <a:ea typeface="Kozuka Gothic Pro H"/>
              </a:rPr>
              <a:t>8</a:t>
            </a: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Kozuka Gothic Pro H"/>
              </a:rPr>
              <a:t>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TextBox 52"/>
          <p:cNvSpPr/>
          <p:nvPr/>
        </p:nvSpPr>
        <p:spPr>
          <a:xfrm>
            <a:off x="896760" y="2293560"/>
            <a:ext cx="477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04040"/>
                </a:solidFill>
                <a:latin typeface="Open Sans"/>
                <a:ea typeface="Open Sans"/>
              </a:rPr>
              <a:t>STEP BY STEP LOADING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0" name="Group 61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691" name="Rectangle 62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TextBox 63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TextBox 64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TextBox 65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TextBox 66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TextBox 67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Straight Connector 68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8" name="Group 69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699" name="Rectangle 70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TextBox 71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1" name="Group 1"/>
          <p:cNvGrpSpPr/>
          <p:nvPr/>
        </p:nvGrpSpPr>
        <p:grpSpPr>
          <a:xfrm>
            <a:off x="879480" y="3876840"/>
            <a:ext cx="10204560" cy="691920"/>
            <a:chOff x="879480" y="3876840"/>
            <a:chExt cx="10204560" cy="691920"/>
          </a:xfrm>
        </p:grpSpPr>
        <p:sp>
          <p:nvSpPr>
            <p:cNvPr id="1702" name="15 Cheurón"/>
            <p:cNvSpPr/>
            <p:nvPr/>
          </p:nvSpPr>
          <p:spPr>
            <a:xfrm>
              <a:off x="276876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1e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9 Cheurón"/>
            <p:cNvSpPr/>
            <p:nvPr/>
          </p:nvSpPr>
          <p:spPr>
            <a:xfrm>
              <a:off x="654768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1e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14 Cheurón"/>
            <p:cNvSpPr/>
            <p:nvPr/>
          </p:nvSpPr>
          <p:spPr>
            <a:xfrm>
              <a:off x="465840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3 Cheurón"/>
            <p:cNvSpPr/>
            <p:nvPr/>
          </p:nvSpPr>
          <p:spPr>
            <a:xfrm>
              <a:off x="1032696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5 Cheurón"/>
            <p:cNvSpPr/>
            <p:nvPr/>
          </p:nvSpPr>
          <p:spPr>
            <a:xfrm>
              <a:off x="906732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6 Cheurón"/>
            <p:cNvSpPr/>
            <p:nvPr/>
          </p:nvSpPr>
          <p:spPr>
            <a:xfrm>
              <a:off x="969696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7 Cheurón"/>
            <p:cNvSpPr/>
            <p:nvPr/>
          </p:nvSpPr>
          <p:spPr>
            <a:xfrm>
              <a:off x="780768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8 Cheurón"/>
            <p:cNvSpPr/>
            <p:nvPr/>
          </p:nvSpPr>
          <p:spPr>
            <a:xfrm>
              <a:off x="843732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1e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10 Cheurón"/>
            <p:cNvSpPr/>
            <p:nvPr/>
          </p:nvSpPr>
          <p:spPr>
            <a:xfrm>
              <a:off x="717768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11 Cheurón"/>
            <p:cNvSpPr/>
            <p:nvPr/>
          </p:nvSpPr>
          <p:spPr>
            <a:xfrm>
              <a:off x="528804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1e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12 Cheurón"/>
            <p:cNvSpPr/>
            <p:nvPr/>
          </p:nvSpPr>
          <p:spPr>
            <a:xfrm>
              <a:off x="591804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13 Cheurón"/>
            <p:cNvSpPr/>
            <p:nvPr/>
          </p:nvSpPr>
          <p:spPr>
            <a:xfrm>
              <a:off x="402840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16 Cheurón"/>
            <p:cNvSpPr/>
            <p:nvPr/>
          </p:nvSpPr>
          <p:spPr>
            <a:xfrm>
              <a:off x="339876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17 Cheurón"/>
            <p:cNvSpPr/>
            <p:nvPr/>
          </p:nvSpPr>
          <p:spPr>
            <a:xfrm>
              <a:off x="150912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18 Cheurón"/>
            <p:cNvSpPr/>
            <p:nvPr/>
          </p:nvSpPr>
          <p:spPr>
            <a:xfrm>
              <a:off x="213912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20 Cheurón"/>
            <p:cNvSpPr/>
            <p:nvPr/>
          </p:nvSpPr>
          <p:spPr>
            <a:xfrm>
              <a:off x="879480" y="3876840"/>
              <a:ext cx="757080" cy="691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00" y="0"/>
                  </a:lnTo>
                  <a:lnTo>
                    <a:pt x="21600" y="10800"/>
                  </a:lnTo>
                  <a:lnTo>
                    <a:pt x="13000" y="21600"/>
                  </a:lnTo>
                  <a:lnTo>
                    <a:pt x="0" y="21600"/>
                  </a:lnTo>
                  <a:lnTo>
                    <a:pt x="8600" y="10800"/>
                  </a:lnTo>
                  <a:close/>
                </a:path>
              </a:pathLst>
            </a:custGeom>
            <a:solidFill>
              <a:srgbClr val="d1e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8" name="Rectangle 18"/>
          <p:cNvSpPr/>
          <p:nvPr/>
        </p:nvSpPr>
        <p:spPr>
          <a:xfrm>
            <a:off x="1500480" y="485784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 "/>
                <a:ea typeface="Lato"/>
              </a:rPr>
              <a:t>Step 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9" name="Group 19"/>
          <p:cNvGrpSpPr/>
          <p:nvPr/>
        </p:nvGrpSpPr>
        <p:grpSpPr>
          <a:xfrm>
            <a:off x="1116000" y="4568760"/>
            <a:ext cx="262080" cy="822240"/>
            <a:chOff x="1116000" y="4568760"/>
            <a:chExt cx="262080" cy="822240"/>
          </a:xfrm>
        </p:grpSpPr>
        <p:sp>
          <p:nvSpPr>
            <p:cNvPr id="1720" name="Straight Connector 20"/>
            <p:cNvSpPr/>
            <p:nvPr/>
          </p:nvSpPr>
          <p:spPr>
            <a:xfrm>
              <a:off x="1116000" y="4568760"/>
              <a:ext cx="0" cy="822240"/>
            </a:xfrm>
            <a:prstGeom prst="line">
              <a:avLst/>
            </a:prstGeom>
            <a:ln w="6480">
              <a:solidFill>
                <a:srgbClr val="d9d9d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Straight Connector 21"/>
            <p:cNvSpPr/>
            <p:nvPr/>
          </p:nvSpPr>
          <p:spPr>
            <a:xfrm>
              <a:off x="1116000" y="5391000"/>
              <a:ext cx="26208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2" name="Rectangle 22"/>
          <p:cNvSpPr/>
          <p:nvPr/>
        </p:nvSpPr>
        <p:spPr>
          <a:xfrm>
            <a:off x="1492200" y="5151600"/>
            <a:ext cx="3090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lacus nulla ac netus nibh aliquet, porttitor ligula justo libe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3" name="Group 23"/>
          <p:cNvGrpSpPr/>
          <p:nvPr/>
        </p:nvGrpSpPr>
        <p:grpSpPr>
          <a:xfrm>
            <a:off x="3038400" y="3053880"/>
            <a:ext cx="260280" cy="822600"/>
            <a:chOff x="3038400" y="3053880"/>
            <a:chExt cx="260280" cy="822600"/>
          </a:xfrm>
        </p:grpSpPr>
        <p:sp>
          <p:nvSpPr>
            <p:cNvPr id="1724" name="Straight Connector 24"/>
            <p:cNvSpPr/>
            <p:nvPr/>
          </p:nvSpPr>
          <p:spPr>
            <a:xfrm flipV="1">
              <a:off x="3038400" y="3053880"/>
              <a:ext cx="0" cy="822600"/>
            </a:xfrm>
            <a:prstGeom prst="line">
              <a:avLst/>
            </a:prstGeom>
            <a:ln w="6480">
              <a:solidFill>
                <a:srgbClr val="d9d9d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Straight Connector 25"/>
            <p:cNvSpPr/>
            <p:nvPr/>
          </p:nvSpPr>
          <p:spPr>
            <a:xfrm>
              <a:off x="3038400" y="3054240"/>
              <a:ext cx="26028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6" name="Rectangle 26"/>
          <p:cNvSpPr/>
          <p:nvPr/>
        </p:nvSpPr>
        <p:spPr>
          <a:xfrm>
            <a:off x="3457800" y="2862360"/>
            <a:ext cx="10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 "/>
                <a:ea typeface="Lato"/>
              </a:rPr>
              <a:t>Step Tw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Rectangle 27"/>
          <p:cNvSpPr/>
          <p:nvPr/>
        </p:nvSpPr>
        <p:spPr>
          <a:xfrm>
            <a:off x="3457440" y="3156120"/>
            <a:ext cx="3090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lacus nulla ac netus nibh aliquet, porttitor ligula justo libe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Rectangle 28"/>
          <p:cNvSpPr/>
          <p:nvPr/>
        </p:nvSpPr>
        <p:spPr>
          <a:xfrm>
            <a:off x="5655960" y="485784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 "/>
                <a:ea typeface="Lato"/>
              </a:rPr>
              <a:t>Step Thr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9" name="Group 29"/>
          <p:cNvGrpSpPr/>
          <p:nvPr/>
        </p:nvGrpSpPr>
        <p:grpSpPr>
          <a:xfrm>
            <a:off x="5310360" y="4568760"/>
            <a:ext cx="260280" cy="822240"/>
            <a:chOff x="5310360" y="4568760"/>
            <a:chExt cx="260280" cy="822240"/>
          </a:xfrm>
        </p:grpSpPr>
        <p:sp>
          <p:nvSpPr>
            <p:cNvPr id="1730" name="Straight Connector 30"/>
            <p:cNvSpPr/>
            <p:nvPr/>
          </p:nvSpPr>
          <p:spPr>
            <a:xfrm>
              <a:off x="5310360" y="4568760"/>
              <a:ext cx="0" cy="822240"/>
            </a:xfrm>
            <a:prstGeom prst="line">
              <a:avLst/>
            </a:prstGeom>
            <a:ln w="6480">
              <a:solidFill>
                <a:srgbClr val="d9d9d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Straight Connector 31"/>
            <p:cNvSpPr/>
            <p:nvPr/>
          </p:nvSpPr>
          <p:spPr>
            <a:xfrm>
              <a:off x="5310360" y="5391000"/>
              <a:ext cx="26028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2" name="Rectangle 32"/>
          <p:cNvSpPr/>
          <p:nvPr/>
        </p:nvSpPr>
        <p:spPr>
          <a:xfrm>
            <a:off x="5648400" y="5151600"/>
            <a:ext cx="3090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lacus nulla ac netus nibh aliquet, porttitor ligula justo libe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3" name="Group 33"/>
          <p:cNvGrpSpPr/>
          <p:nvPr/>
        </p:nvGrpSpPr>
        <p:grpSpPr>
          <a:xfrm>
            <a:off x="6829560" y="3053880"/>
            <a:ext cx="260280" cy="822600"/>
            <a:chOff x="6829560" y="3053880"/>
            <a:chExt cx="260280" cy="822600"/>
          </a:xfrm>
        </p:grpSpPr>
        <p:sp>
          <p:nvSpPr>
            <p:cNvPr id="1734" name="Straight Connector 34"/>
            <p:cNvSpPr/>
            <p:nvPr/>
          </p:nvSpPr>
          <p:spPr>
            <a:xfrm flipV="1">
              <a:off x="6829560" y="3053880"/>
              <a:ext cx="0" cy="822600"/>
            </a:xfrm>
            <a:prstGeom prst="line">
              <a:avLst/>
            </a:prstGeom>
            <a:ln w="6480">
              <a:solidFill>
                <a:srgbClr val="d9d9d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Straight Connector 35"/>
            <p:cNvSpPr/>
            <p:nvPr/>
          </p:nvSpPr>
          <p:spPr>
            <a:xfrm>
              <a:off x="6829560" y="3054240"/>
              <a:ext cx="26028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6" name="Rectangle 36"/>
          <p:cNvSpPr/>
          <p:nvPr/>
        </p:nvSpPr>
        <p:spPr>
          <a:xfrm>
            <a:off x="7255440" y="28623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 "/>
                <a:ea typeface="Lato"/>
              </a:rPr>
              <a:t>Step Fo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Rectangle 37"/>
          <p:cNvSpPr/>
          <p:nvPr/>
        </p:nvSpPr>
        <p:spPr>
          <a:xfrm>
            <a:off x="7246800" y="3156120"/>
            <a:ext cx="3090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lacus nulla ac netus nibh aliquet, porttitor ligula justo libe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Rectangle 38"/>
          <p:cNvSpPr/>
          <p:nvPr/>
        </p:nvSpPr>
        <p:spPr>
          <a:xfrm>
            <a:off x="9061200" y="48578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 "/>
                <a:ea typeface="Lato"/>
              </a:rPr>
              <a:t>Step F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9" name="Group 39"/>
          <p:cNvGrpSpPr/>
          <p:nvPr/>
        </p:nvGrpSpPr>
        <p:grpSpPr>
          <a:xfrm>
            <a:off x="8677440" y="4568760"/>
            <a:ext cx="261720" cy="822240"/>
            <a:chOff x="8677440" y="4568760"/>
            <a:chExt cx="261720" cy="822240"/>
          </a:xfrm>
        </p:grpSpPr>
        <p:sp>
          <p:nvSpPr>
            <p:cNvPr id="1740" name="Straight Connector 40"/>
            <p:cNvSpPr/>
            <p:nvPr/>
          </p:nvSpPr>
          <p:spPr>
            <a:xfrm>
              <a:off x="8677440" y="4568760"/>
              <a:ext cx="0" cy="822240"/>
            </a:xfrm>
            <a:prstGeom prst="line">
              <a:avLst/>
            </a:prstGeom>
            <a:ln w="6480">
              <a:solidFill>
                <a:srgbClr val="d9d9d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Straight Connector 41"/>
            <p:cNvSpPr/>
            <p:nvPr/>
          </p:nvSpPr>
          <p:spPr>
            <a:xfrm>
              <a:off x="8677440" y="5391000"/>
              <a:ext cx="26172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2" name="Rectangle 42"/>
          <p:cNvSpPr/>
          <p:nvPr/>
        </p:nvSpPr>
        <p:spPr>
          <a:xfrm>
            <a:off x="9053640" y="5151600"/>
            <a:ext cx="3090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lacus nulla ac netus nibh aliquet, porttitor ligula justo libe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3" name="Group 43" descr=""/>
          <p:cNvPicPr/>
          <p:nvPr/>
        </p:nvPicPr>
        <p:blipFill>
          <a:blip r:embed="rId1"/>
          <a:stretch/>
        </p:blipFill>
        <p:spPr>
          <a:xfrm>
            <a:off x="1212840" y="4127400"/>
            <a:ext cx="201600" cy="195480"/>
          </a:xfrm>
          <a:prstGeom prst="rect">
            <a:avLst/>
          </a:prstGeom>
          <a:ln w="0">
            <a:noFill/>
          </a:ln>
        </p:spPr>
      </p:pic>
      <p:sp>
        <p:nvSpPr>
          <p:cNvPr id="1744" name="AutoShape 139"/>
          <p:cNvSpPr/>
          <p:nvPr/>
        </p:nvSpPr>
        <p:spPr>
          <a:xfrm>
            <a:off x="3106800" y="4124160"/>
            <a:ext cx="209520" cy="203400"/>
          </a:xfrm>
          <a:custGeom>
            <a:avLst/>
            <a:gdLst/>
            <a:ahLst/>
            <a:rect l="l" t="t" r="r" b="b"/>
            <a:pathLst>
              <a:path w="21392" h="21600">
                <a:moveTo>
                  <a:pt x="15768" y="12794"/>
                </a:moveTo>
                <a:cubicBezTo>
                  <a:pt x="15426" y="13150"/>
                  <a:pt x="15271" y="13651"/>
                  <a:pt x="15350" y="14142"/>
                </a:cubicBezTo>
                <a:lnTo>
                  <a:pt x="16296" y="20031"/>
                </a:lnTo>
                <a:lnTo>
                  <a:pt x="11443" y="17309"/>
                </a:lnTo>
                <a:cubicBezTo>
                  <a:pt x="11210" y="17178"/>
                  <a:pt x="10953" y="17112"/>
                  <a:pt x="10696" y="17112"/>
                </a:cubicBezTo>
                <a:cubicBezTo>
                  <a:pt x="10439" y="17112"/>
                  <a:pt x="10182" y="17178"/>
                  <a:pt x="9949" y="17309"/>
                </a:cubicBezTo>
                <a:lnTo>
                  <a:pt x="5095" y="20031"/>
                </a:lnTo>
                <a:lnTo>
                  <a:pt x="6042" y="14142"/>
                </a:lnTo>
                <a:cubicBezTo>
                  <a:pt x="6121" y="13651"/>
                  <a:pt x="5966" y="13150"/>
                  <a:pt x="5624" y="12794"/>
                </a:cubicBezTo>
                <a:lnTo>
                  <a:pt x="1545" y="8550"/>
                </a:lnTo>
                <a:lnTo>
                  <a:pt x="7111" y="7685"/>
                </a:lnTo>
                <a:cubicBezTo>
                  <a:pt x="7619" y="7607"/>
                  <a:pt x="8057" y="7275"/>
                  <a:pt x="8276" y="6802"/>
                </a:cubicBezTo>
                <a:lnTo>
                  <a:pt x="10696" y="1568"/>
                </a:lnTo>
                <a:lnTo>
                  <a:pt x="13116" y="6802"/>
                </a:lnTo>
                <a:cubicBezTo>
                  <a:pt x="13334" y="7275"/>
                  <a:pt x="13772" y="7607"/>
                  <a:pt x="14280" y="7685"/>
                </a:cubicBezTo>
                <a:lnTo>
                  <a:pt x="19847" y="8550"/>
                </a:lnTo>
                <a:cubicBezTo>
                  <a:pt x="19847" y="8550"/>
                  <a:pt x="15768" y="12794"/>
                  <a:pt x="15768" y="12794"/>
                </a:cubicBezTo>
                <a:close/>
                <a:moveTo>
                  <a:pt x="21312" y="8051"/>
                </a:moveTo>
                <a:cubicBezTo>
                  <a:pt x="21127" y="7495"/>
                  <a:pt x="20652" y="7088"/>
                  <a:pt x="20080" y="6999"/>
                </a:cubicBezTo>
                <a:lnTo>
                  <a:pt x="14514" y="6136"/>
                </a:lnTo>
                <a:lnTo>
                  <a:pt x="12094" y="901"/>
                </a:lnTo>
                <a:cubicBezTo>
                  <a:pt x="11840" y="351"/>
                  <a:pt x="11295" y="0"/>
                  <a:pt x="10696" y="0"/>
                </a:cubicBezTo>
                <a:cubicBezTo>
                  <a:pt x="10097" y="0"/>
                  <a:pt x="9552" y="351"/>
                  <a:pt x="9297" y="901"/>
                </a:cubicBezTo>
                <a:lnTo>
                  <a:pt x="6878" y="6136"/>
                </a:lnTo>
                <a:lnTo>
                  <a:pt x="1311" y="6999"/>
                </a:lnTo>
                <a:cubicBezTo>
                  <a:pt x="739" y="7088"/>
                  <a:pt x="264" y="7495"/>
                  <a:pt x="80" y="8051"/>
                </a:cubicBezTo>
                <a:cubicBezTo>
                  <a:pt x="-104" y="8609"/>
                  <a:pt x="35" y="9224"/>
                  <a:pt x="439" y="9644"/>
                </a:cubicBezTo>
                <a:lnTo>
                  <a:pt x="4518" y="13889"/>
                </a:lnTo>
                <a:lnTo>
                  <a:pt x="3572" y="19777"/>
                </a:lnTo>
                <a:cubicBezTo>
                  <a:pt x="3476" y="20370"/>
                  <a:pt x="3722" y="20966"/>
                  <a:pt x="4206" y="21313"/>
                </a:cubicBezTo>
                <a:cubicBezTo>
                  <a:pt x="4471" y="21503"/>
                  <a:pt x="4783" y="21600"/>
                  <a:pt x="5095" y="21600"/>
                </a:cubicBezTo>
                <a:cubicBezTo>
                  <a:pt x="5352" y="21600"/>
                  <a:pt x="5609" y="21534"/>
                  <a:pt x="5843" y="21404"/>
                </a:cubicBezTo>
                <a:lnTo>
                  <a:pt x="10696" y="18681"/>
                </a:lnTo>
                <a:lnTo>
                  <a:pt x="15549" y="21404"/>
                </a:lnTo>
                <a:cubicBezTo>
                  <a:pt x="15782" y="21534"/>
                  <a:pt x="16040" y="21600"/>
                  <a:pt x="16296" y="21600"/>
                </a:cubicBezTo>
                <a:cubicBezTo>
                  <a:pt x="16608" y="21600"/>
                  <a:pt x="16920" y="21503"/>
                  <a:pt x="17186" y="21313"/>
                </a:cubicBezTo>
                <a:cubicBezTo>
                  <a:pt x="17669" y="20966"/>
                  <a:pt x="17915" y="20370"/>
                  <a:pt x="17820" y="19777"/>
                </a:cubicBezTo>
                <a:lnTo>
                  <a:pt x="16873" y="13889"/>
                </a:lnTo>
                <a:lnTo>
                  <a:pt x="20953" y="9644"/>
                </a:lnTo>
                <a:cubicBezTo>
                  <a:pt x="21357" y="9224"/>
                  <a:pt x="21496" y="8609"/>
                  <a:pt x="21312" y="805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5" name="Group 47" descr=""/>
          <p:cNvPicPr/>
          <p:nvPr/>
        </p:nvPicPr>
        <p:blipFill>
          <a:blip r:embed="rId2"/>
          <a:stretch/>
        </p:blipFill>
        <p:spPr>
          <a:xfrm>
            <a:off x="6913440" y="4121280"/>
            <a:ext cx="200160" cy="201600"/>
          </a:xfrm>
          <a:prstGeom prst="rect">
            <a:avLst/>
          </a:prstGeom>
          <a:ln w="0">
            <a:noFill/>
          </a:ln>
        </p:spPr>
      </p:pic>
      <p:sp>
        <p:nvSpPr>
          <p:cNvPr id="1746" name="AutoShape 59"/>
          <p:cNvSpPr/>
          <p:nvPr/>
        </p:nvSpPr>
        <p:spPr>
          <a:xfrm>
            <a:off x="5630760" y="4122720"/>
            <a:ext cx="200160" cy="200160"/>
          </a:xfrm>
          <a:custGeom>
            <a:avLst/>
            <a:gdLst/>
            <a:ahLst/>
            <a:rect l="l" t="t" r="r" b="b"/>
            <a:pathLst>
              <a:path w="21543" h="21600">
                <a:moveTo>
                  <a:pt x="16976" y="19986"/>
                </a:moveTo>
                <a:lnTo>
                  <a:pt x="11226" y="17680"/>
                </a:lnTo>
                <a:cubicBezTo>
                  <a:pt x="11088" y="17626"/>
                  <a:pt x="10946" y="17608"/>
                  <a:pt x="10806" y="17600"/>
                </a:cubicBezTo>
                <a:lnTo>
                  <a:pt x="19660" y="3837"/>
                </a:lnTo>
                <a:cubicBezTo>
                  <a:pt x="19660" y="3837"/>
                  <a:pt x="16976" y="19986"/>
                  <a:pt x="16976" y="19986"/>
                </a:cubicBezTo>
                <a:close/>
                <a:moveTo>
                  <a:pt x="6859" y="16244"/>
                </a:moveTo>
                <a:cubicBezTo>
                  <a:pt x="6858" y="16242"/>
                  <a:pt x="6855" y="16240"/>
                  <a:pt x="6854" y="16238"/>
                </a:cubicBezTo>
                <a:lnTo>
                  <a:pt x="19606" y="2552"/>
                </a:lnTo>
                <a:lnTo>
                  <a:pt x="8735" y="19536"/>
                </a:lnTo>
                <a:cubicBezTo>
                  <a:pt x="8735" y="19536"/>
                  <a:pt x="6859" y="16244"/>
                  <a:pt x="6859" y="16244"/>
                </a:cubicBezTo>
                <a:close/>
                <a:moveTo>
                  <a:pt x="2111" y="14024"/>
                </a:moveTo>
                <a:lnTo>
                  <a:pt x="17712" y="3595"/>
                </a:lnTo>
                <a:lnTo>
                  <a:pt x="6369" y="15770"/>
                </a:lnTo>
                <a:cubicBezTo>
                  <a:pt x="6309" y="15734"/>
                  <a:pt x="6256" y="15687"/>
                  <a:pt x="6190" y="15660"/>
                </a:cubicBezTo>
                <a:cubicBezTo>
                  <a:pt x="6190" y="15660"/>
                  <a:pt x="2111" y="14024"/>
                  <a:pt x="2111" y="14024"/>
                </a:cubicBezTo>
                <a:close/>
                <a:moveTo>
                  <a:pt x="21234" y="108"/>
                </a:moveTo>
                <a:cubicBezTo>
                  <a:pt x="21123" y="35"/>
                  <a:pt x="20996" y="0"/>
                  <a:pt x="20868" y="0"/>
                </a:cubicBezTo>
                <a:cubicBezTo>
                  <a:pt x="20738" y="0"/>
                  <a:pt x="20608" y="36"/>
                  <a:pt x="20495" y="113"/>
                </a:cubicBezTo>
                <a:lnTo>
                  <a:pt x="299" y="13613"/>
                </a:lnTo>
                <a:cubicBezTo>
                  <a:pt x="91" y="13751"/>
                  <a:pt x="-23" y="13995"/>
                  <a:pt x="3" y="14244"/>
                </a:cubicBezTo>
                <a:cubicBezTo>
                  <a:pt x="28" y="14494"/>
                  <a:pt x="190" y="14708"/>
                  <a:pt x="422" y="14801"/>
                </a:cubicBezTo>
                <a:lnTo>
                  <a:pt x="5689" y="16914"/>
                </a:lnTo>
                <a:lnTo>
                  <a:pt x="8166" y="21259"/>
                </a:lnTo>
                <a:cubicBezTo>
                  <a:pt x="8284" y="21468"/>
                  <a:pt x="8505" y="21597"/>
                  <a:pt x="8743" y="21599"/>
                </a:cubicBezTo>
                <a:lnTo>
                  <a:pt x="8751" y="21599"/>
                </a:lnTo>
                <a:cubicBezTo>
                  <a:pt x="8987" y="21599"/>
                  <a:pt x="9206" y="21474"/>
                  <a:pt x="9328" y="21271"/>
                </a:cubicBezTo>
                <a:lnTo>
                  <a:pt x="10726" y="18934"/>
                </a:lnTo>
                <a:lnTo>
                  <a:pt x="17253" y="21551"/>
                </a:lnTo>
                <a:cubicBezTo>
                  <a:pt x="17332" y="21584"/>
                  <a:pt x="17418" y="21599"/>
                  <a:pt x="17502" y="21599"/>
                </a:cubicBezTo>
                <a:cubicBezTo>
                  <a:pt x="17617" y="21599"/>
                  <a:pt x="17731" y="21571"/>
                  <a:pt x="17832" y="21512"/>
                </a:cubicBezTo>
                <a:cubicBezTo>
                  <a:pt x="18010" y="21412"/>
                  <a:pt x="18133" y="21238"/>
                  <a:pt x="18167" y="21035"/>
                </a:cubicBezTo>
                <a:lnTo>
                  <a:pt x="21533" y="785"/>
                </a:lnTo>
                <a:cubicBezTo>
                  <a:pt x="21576" y="520"/>
                  <a:pt x="21459" y="254"/>
                  <a:pt x="21234" y="1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7" name="Group 52" descr=""/>
          <p:cNvPicPr/>
          <p:nvPr/>
        </p:nvPicPr>
        <p:blipFill>
          <a:blip r:embed="rId3"/>
          <a:stretch/>
        </p:blipFill>
        <p:spPr>
          <a:xfrm>
            <a:off x="8778960" y="4121280"/>
            <a:ext cx="199800" cy="201600"/>
          </a:xfrm>
          <a:prstGeom prst="rect">
            <a:avLst/>
          </a:prstGeom>
          <a:ln w="0">
            <a:noFill/>
          </a:ln>
        </p:spPr>
      </p:pic>
      <p:sp>
        <p:nvSpPr>
          <p:cNvPr id="1748" name="TextBox 55"/>
          <p:cNvSpPr/>
          <p:nvPr/>
        </p:nvSpPr>
        <p:spPr>
          <a:xfrm>
            <a:off x="795240" y="2228760"/>
            <a:ext cx="298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404040"/>
                </a:solidFill>
                <a:latin typeface="Arial "/>
                <a:ea typeface="Lato"/>
              </a:rPr>
              <a:t>STREET IN RIGHT 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TextBox 56"/>
          <p:cNvSpPr/>
          <p:nvPr/>
        </p:nvSpPr>
        <p:spPr>
          <a:xfrm>
            <a:off x="795240" y="1316160"/>
            <a:ext cx="3948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Kozuka Gothic Pro H"/>
              </a:rPr>
              <a:t>INFOGRAPH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TextBox 57"/>
          <p:cNvSpPr/>
          <p:nvPr/>
        </p:nvSpPr>
        <p:spPr>
          <a:xfrm>
            <a:off x="896760" y="1939320"/>
            <a:ext cx="477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04040"/>
                </a:solidFill>
                <a:latin typeface="Arial "/>
                <a:ea typeface="Lato"/>
              </a:rPr>
              <a:t>STEP BY STEP LOADING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1" name="Group 66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752" name="Rectangle 67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TextBox 68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TextBox 69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TextBox 70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TextBox 71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TextBox 72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Straight Connector 73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9" name="Group 74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760" name="Rectangle 75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TextBox 76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2" name="Straight Connector 77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TextBox 78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4" name="Chart 5"/>
          <p:cNvGraphicFramePr/>
          <p:nvPr/>
        </p:nvGraphicFramePr>
        <p:xfrm>
          <a:off x="446040" y="1644480"/>
          <a:ext cx="5303880" cy="356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1644480"/>
                    <a:ext cx="5303880" cy="35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6" name="Text Placeholder 6"/>
          <p:cNvSpPr/>
          <p:nvPr/>
        </p:nvSpPr>
        <p:spPr>
          <a:xfrm>
            <a:off x="6694560" y="3649680"/>
            <a:ext cx="482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whether natural persons. individuals, whether natur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company is an association or collection of individuals, whether natural persons. individuals, whether natural A company is an association or collection of individuals, whether natural pers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Rectangle 8"/>
          <p:cNvSpPr/>
          <p:nvPr/>
        </p:nvSpPr>
        <p:spPr>
          <a:xfrm>
            <a:off x="6694560" y="1855800"/>
            <a:ext cx="369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 "/>
                <a:ea typeface="Aharoni"/>
              </a:rPr>
              <a:t>C</a:t>
            </a:r>
            <a:r>
              <a:rPr b="1" lang="id-ID" sz="4000" spc="-1" strike="noStrike">
                <a:solidFill>
                  <a:srgbClr val="404040"/>
                </a:solidFill>
                <a:latin typeface="Arial "/>
                <a:ea typeface="Aharoni"/>
              </a:rPr>
              <a:t>HART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404040"/>
                </a:solidFill>
                <a:latin typeface="Arial "/>
                <a:ea typeface="Aharoni"/>
              </a:rPr>
              <a:t>STATISTI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Text Placeholder 6"/>
          <p:cNvSpPr/>
          <p:nvPr/>
        </p:nvSpPr>
        <p:spPr>
          <a:xfrm>
            <a:off x="6694560" y="3259080"/>
            <a:ext cx="40240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100" spc="-1" strike="noStrike">
                <a:solidFill>
                  <a:srgbClr val="404040"/>
                </a:solidFill>
                <a:latin typeface="Open Sans"/>
                <a:ea typeface="Open Sans"/>
              </a:rPr>
              <a:t>BUSINESS PRESENTATION TEMPLA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Straight Connector 4"/>
          <p:cNvSpPr/>
          <p:nvPr/>
        </p:nvSpPr>
        <p:spPr>
          <a:xfrm>
            <a:off x="6095880" y="1714680"/>
            <a:ext cx="0" cy="3555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0" name="Group 17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771" name="Rectangle 18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TextBox 19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TextBox 20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TextBox 21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TextBox 23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TextBox 24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Straight Connector 26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8" name="Group 35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779" name="Rectangle 36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TextBox 37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1" name="Straight Connector 38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TextBox 39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3" name="Chart 11"/>
          <p:cNvGraphicFramePr/>
          <p:nvPr/>
        </p:nvGraphicFramePr>
        <p:xfrm>
          <a:off x="636480" y="1782720"/>
          <a:ext cx="4888080" cy="32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4" name="Char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782720"/>
                    <a:ext cx="488808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5" name="Text Placeholder 6"/>
          <p:cNvSpPr/>
          <p:nvPr/>
        </p:nvSpPr>
        <p:spPr>
          <a:xfrm>
            <a:off x="6734160" y="3941640"/>
            <a:ext cx="44276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whether natural persons. individuals, whether natur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company is an association or collection of individuals, whether natural persons. individuals, whether natural A company is an association or collection of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Rectangle 14"/>
          <p:cNvSpPr/>
          <p:nvPr/>
        </p:nvSpPr>
        <p:spPr>
          <a:xfrm>
            <a:off x="6734160" y="1859040"/>
            <a:ext cx="435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Arial "/>
                <a:ea typeface="Aharoni"/>
              </a:rPr>
              <a:t>C</a:t>
            </a:r>
            <a:r>
              <a:rPr b="1" lang="id-ID" sz="4800" spc="-1" strike="noStrike">
                <a:solidFill>
                  <a:srgbClr val="404040"/>
                </a:solidFill>
                <a:latin typeface="Arial "/>
                <a:ea typeface="Aharoni"/>
              </a:rPr>
              <a:t>HART TIT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404040"/>
                </a:solidFill>
                <a:latin typeface="Arial "/>
                <a:ea typeface="Aharoni"/>
              </a:rPr>
              <a:t>STATISTIC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Text Placeholder 6"/>
          <p:cNvSpPr/>
          <p:nvPr/>
        </p:nvSpPr>
        <p:spPr>
          <a:xfrm>
            <a:off x="6734160" y="3522600"/>
            <a:ext cx="3567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BUSINESS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8" name="Group 16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789" name="Rectangle 17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TextBox 18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TextBox 19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TextBox 20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TextBox 21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TextBox 22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Straight Connector 25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6" name="Group 27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797" name="Rectangle 28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TextBox 37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9" name="Straight Connector 38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TextBox 39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Straight Connector 40"/>
          <p:cNvSpPr/>
          <p:nvPr/>
        </p:nvSpPr>
        <p:spPr>
          <a:xfrm>
            <a:off x="6095880" y="1714680"/>
            <a:ext cx="0" cy="3555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2" name="Group 4" descr=""/>
          <p:cNvPicPr/>
          <p:nvPr/>
        </p:nvPicPr>
        <p:blipFill>
          <a:blip r:embed="rId1"/>
          <a:stretch/>
        </p:blipFill>
        <p:spPr>
          <a:xfrm>
            <a:off x="1238400" y="1805040"/>
            <a:ext cx="9240840" cy="4589280"/>
          </a:xfrm>
          <a:prstGeom prst="rect">
            <a:avLst/>
          </a:prstGeom>
          <a:ln w="0">
            <a:noFill/>
          </a:ln>
        </p:spPr>
      </p:pic>
      <p:sp>
        <p:nvSpPr>
          <p:cNvPr id="1803" name="Subtitle 2"/>
          <p:cNvSpPr/>
          <p:nvPr/>
        </p:nvSpPr>
        <p:spPr>
          <a:xfrm>
            <a:off x="2932200" y="682560"/>
            <a:ext cx="6327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404040"/>
                </a:solidFill>
                <a:latin typeface="Arial "/>
                <a:ea typeface="Open Sans"/>
              </a:rPr>
              <a:t>GLOBAL 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192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9" name="Rectangle 11"/>
          <p:cNvSpPr/>
          <p:nvPr/>
        </p:nvSpPr>
        <p:spPr>
          <a:xfrm>
            <a:off x="0" y="1873080"/>
            <a:ext cx="6323040" cy="379764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0" name="Group 14"/>
          <p:cNvGrpSpPr/>
          <p:nvPr/>
        </p:nvGrpSpPr>
        <p:grpSpPr>
          <a:xfrm>
            <a:off x="511200" y="2319480"/>
            <a:ext cx="5343480" cy="1986120"/>
            <a:chOff x="511200" y="2319480"/>
            <a:chExt cx="5343480" cy="1986120"/>
          </a:xfrm>
        </p:grpSpPr>
        <p:sp>
          <p:nvSpPr>
            <p:cNvPr id="1201" name="TextBox 15"/>
            <p:cNvSpPr/>
            <p:nvPr/>
          </p:nvSpPr>
          <p:spPr>
            <a:xfrm>
              <a:off x="511200" y="2319480"/>
              <a:ext cx="420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WELCOM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TextBox 16"/>
            <p:cNvSpPr/>
            <p:nvPr/>
          </p:nvSpPr>
          <p:spPr>
            <a:xfrm>
              <a:off x="511200" y="2960640"/>
              <a:ext cx="420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TextBox 17"/>
            <p:cNvSpPr/>
            <p:nvPr/>
          </p:nvSpPr>
          <p:spPr>
            <a:xfrm>
              <a:off x="511200" y="3602160"/>
              <a:ext cx="534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PRESENTATION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4" name="Straight Connector 19"/>
          <p:cNvSpPr/>
          <p:nvPr/>
        </p:nvSpPr>
        <p:spPr>
          <a:xfrm>
            <a:off x="596880" y="4348080"/>
            <a:ext cx="50925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 Placeholder 6"/>
          <p:cNvSpPr/>
          <p:nvPr/>
        </p:nvSpPr>
        <p:spPr>
          <a:xfrm>
            <a:off x="525600" y="4584600"/>
            <a:ext cx="49449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6" name="Group 22"/>
          <p:cNvGrpSpPr/>
          <p:nvPr/>
        </p:nvGrpSpPr>
        <p:grpSpPr>
          <a:xfrm>
            <a:off x="11239560" y="6165720"/>
            <a:ext cx="533520" cy="533520"/>
            <a:chOff x="11239560" y="6165720"/>
            <a:chExt cx="533520" cy="533520"/>
          </a:xfrm>
        </p:grpSpPr>
        <p:sp>
          <p:nvSpPr>
            <p:cNvPr id="1207" name="Rectangle 23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TextBox 24"/>
            <p:cNvSpPr/>
            <p:nvPr/>
          </p:nvSpPr>
          <p:spPr>
            <a:xfrm>
              <a:off x="11264760" y="6165720"/>
              <a:ext cx="50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9" name="Straight Connector 25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Box 26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1"/>
          <a:stretch/>
        </p:blipFill>
        <p:spPr>
          <a:xfrm>
            <a:off x="6501960" y="1872720"/>
            <a:ext cx="5689800" cy="37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3"/>
          <p:cNvSpPr/>
          <p:nvPr/>
        </p:nvSpPr>
        <p:spPr>
          <a:xfrm>
            <a:off x="7121520" y="3921120"/>
            <a:ext cx="5070600" cy="57312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Rectangle 2"/>
          <p:cNvSpPr/>
          <p:nvPr/>
        </p:nvSpPr>
        <p:spPr>
          <a:xfrm>
            <a:off x="7121520" y="2357280"/>
            <a:ext cx="5070600" cy="57312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Subtitle 2"/>
          <p:cNvSpPr/>
          <p:nvPr/>
        </p:nvSpPr>
        <p:spPr>
          <a:xfrm>
            <a:off x="2998800" y="741240"/>
            <a:ext cx="6327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404040"/>
                </a:solidFill>
                <a:latin typeface="Arial "/>
                <a:ea typeface="Open Sans"/>
              </a:rPr>
              <a:t>EUROPE 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Rectangle 82"/>
          <p:cNvSpPr/>
          <p:nvPr/>
        </p:nvSpPr>
        <p:spPr>
          <a:xfrm>
            <a:off x="7135920" y="4587840"/>
            <a:ext cx="4209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lacus nulla ac netus nibh aliquet, porttitor ligula justo libero vivamus porttitor dolor, conubia mollit. Sapien nam suspendi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Rectangle 83"/>
          <p:cNvSpPr/>
          <p:nvPr/>
        </p:nvSpPr>
        <p:spPr>
          <a:xfrm>
            <a:off x="7135920" y="2984400"/>
            <a:ext cx="3957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lacus nulla ac netus nibh aliquet, porttitor ligula justo libero vivamus porttitor dolor, conubia moll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Subtitle 2"/>
          <p:cNvSpPr/>
          <p:nvPr/>
        </p:nvSpPr>
        <p:spPr>
          <a:xfrm>
            <a:off x="7135920" y="2381400"/>
            <a:ext cx="2657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Open Sans"/>
              </a:rPr>
              <a:t>$</a:t>
            </a:r>
            <a:r>
              <a:rPr b="1" lang="en-US" sz="3200" spc="-1" strike="noStrike">
                <a:solidFill>
                  <a:srgbClr val="404040"/>
                </a:solidFill>
                <a:latin typeface="Arial "/>
                <a:ea typeface="Open Sans"/>
              </a:rPr>
              <a:t>4766</a:t>
            </a: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Open Sans"/>
              </a:rPr>
              <a:t>B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ubtitle 2"/>
          <p:cNvSpPr/>
          <p:nvPr/>
        </p:nvSpPr>
        <p:spPr>
          <a:xfrm>
            <a:off x="7121520" y="3994200"/>
            <a:ext cx="2657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Open Sans"/>
              </a:rPr>
              <a:t>$</a:t>
            </a:r>
            <a:r>
              <a:rPr b="1" lang="en-US" sz="3200" spc="-1" strike="noStrike">
                <a:solidFill>
                  <a:srgbClr val="404040"/>
                </a:solidFill>
                <a:latin typeface="Arial "/>
                <a:ea typeface="Open Sans"/>
              </a:rPr>
              <a:t>384</a:t>
            </a: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Open Sans"/>
              </a:rPr>
              <a:t>B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1" name="Group 34" descr=""/>
          <p:cNvPicPr/>
          <p:nvPr/>
        </p:nvPicPr>
        <p:blipFill>
          <a:blip r:embed="rId1"/>
          <a:stretch/>
        </p:blipFill>
        <p:spPr>
          <a:xfrm>
            <a:off x="-19080" y="2219400"/>
            <a:ext cx="6359400" cy="4638600"/>
          </a:xfrm>
          <a:prstGeom prst="rect">
            <a:avLst/>
          </a:prstGeom>
          <a:ln w="0">
            <a:noFill/>
          </a:ln>
        </p:spPr>
      </p:pic>
      <p:grpSp>
        <p:nvGrpSpPr>
          <p:cNvPr id="1812" name="Group 85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813" name="Rectangle 86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4" name="TextBox 87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5" name="Straight Connector 88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TextBox 89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TextBox 14"/>
          <p:cNvSpPr/>
          <p:nvPr/>
        </p:nvSpPr>
        <p:spPr>
          <a:xfrm>
            <a:off x="5545440" y="1154160"/>
            <a:ext cx="4610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Lato"/>
              </a:rPr>
              <a:t>WRITE MESSAG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Lato"/>
              </a:rPr>
              <a:t>MANAGER </a:t>
            </a:r>
            <a:r>
              <a:rPr b="1" lang="en-US" sz="3200" spc="-1" strike="noStrike">
                <a:solidFill>
                  <a:srgbClr val="404040"/>
                </a:solidFill>
                <a:latin typeface="Arial "/>
                <a:ea typeface="Lato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Oval 9"/>
          <p:cNvSpPr/>
          <p:nvPr/>
        </p:nvSpPr>
        <p:spPr>
          <a:xfrm>
            <a:off x="5715000" y="4075200"/>
            <a:ext cx="574560" cy="574560"/>
          </a:xfrm>
          <a:prstGeom prst="ellipse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Oval 10"/>
          <p:cNvSpPr/>
          <p:nvPr/>
        </p:nvSpPr>
        <p:spPr>
          <a:xfrm>
            <a:off x="7248600" y="4075200"/>
            <a:ext cx="574560" cy="574560"/>
          </a:xfrm>
          <a:prstGeom prst="ellipse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Oval 12"/>
          <p:cNvSpPr/>
          <p:nvPr/>
        </p:nvSpPr>
        <p:spPr>
          <a:xfrm>
            <a:off x="8767800" y="4075200"/>
            <a:ext cx="573120" cy="574560"/>
          </a:xfrm>
          <a:prstGeom prst="ellipse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Freeform: Shape 18"/>
          <p:cNvSpPr/>
          <p:nvPr/>
        </p:nvSpPr>
        <p:spPr>
          <a:xfrm>
            <a:off x="7418520" y="4243320"/>
            <a:ext cx="239760" cy="239760"/>
          </a:xfrm>
          <a:custGeom>
            <a:avLst/>
            <a:gdLst/>
            <a:ahLst/>
            <a:rect l="l" t="t" r="r" b="b"/>
            <a:pathLst>
              <a:path w="4876642" h="4876800">
                <a:moveTo>
                  <a:pt x="3995486" y="4018149"/>
                </a:moveTo>
                <a:cubicBezTo>
                  <a:pt x="4019853" y="4018148"/>
                  <a:pt x="4044221" y="4027442"/>
                  <a:pt x="4062819" y="4046029"/>
                </a:cubicBezTo>
                <a:cubicBezTo>
                  <a:pt x="4100004" y="4083225"/>
                  <a:pt x="4100004" y="4143527"/>
                  <a:pt x="4062819" y="4180704"/>
                </a:cubicBezTo>
                <a:cubicBezTo>
                  <a:pt x="3675094" y="4568438"/>
                  <a:pt x="3160792" y="4811573"/>
                  <a:pt x="2614666" y="4865341"/>
                </a:cubicBezTo>
                <a:cubicBezTo>
                  <a:pt x="2536856" y="4873000"/>
                  <a:pt x="2458866" y="4876800"/>
                  <a:pt x="2381113" y="4876800"/>
                </a:cubicBezTo>
                <a:cubicBezTo>
                  <a:pt x="1920665" y="4876800"/>
                  <a:pt x="1466494" y="4743850"/>
                  <a:pt x="1081246" y="4493143"/>
                </a:cubicBezTo>
                <a:cubicBezTo>
                  <a:pt x="1037164" y="4464453"/>
                  <a:pt x="1024686" y="4405474"/>
                  <a:pt x="1053366" y="4361393"/>
                </a:cubicBezTo>
                <a:cubicBezTo>
                  <a:pt x="1082065" y="4317311"/>
                  <a:pt x="1141034" y="4304814"/>
                  <a:pt x="1185126" y="4333513"/>
                </a:cubicBezTo>
                <a:cubicBezTo>
                  <a:pt x="2047071" y="4894431"/>
                  <a:pt x="3200663" y="4773530"/>
                  <a:pt x="3928154" y="4046039"/>
                </a:cubicBezTo>
                <a:cubicBezTo>
                  <a:pt x="3946752" y="4027447"/>
                  <a:pt x="3971119" y="4018150"/>
                  <a:pt x="3995486" y="4018149"/>
                </a:cubicBezTo>
                <a:close/>
                <a:moveTo>
                  <a:pt x="763429" y="4018124"/>
                </a:moveTo>
                <a:cubicBezTo>
                  <a:pt x="787804" y="4018124"/>
                  <a:pt x="812179" y="4027432"/>
                  <a:pt x="830748" y="4046049"/>
                </a:cubicBezTo>
                <a:cubicBezTo>
                  <a:pt x="867981" y="4083187"/>
                  <a:pt x="867981" y="4143566"/>
                  <a:pt x="830748" y="4180694"/>
                </a:cubicBezTo>
                <a:cubicBezTo>
                  <a:pt x="793610" y="4217927"/>
                  <a:pt x="733241" y="4217927"/>
                  <a:pt x="696103" y="4180694"/>
                </a:cubicBezTo>
                <a:cubicBezTo>
                  <a:pt x="658869" y="4143556"/>
                  <a:pt x="658869" y="4083187"/>
                  <a:pt x="696103" y="4046049"/>
                </a:cubicBezTo>
                <a:cubicBezTo>
                  <a:pt x="714676" y="4027432"/>
                  <a:pt x="739053" y="4018124"/>
                  <a:pt x="763429" y="4018124"/>
                </a:cubicBezTo>
                <a:close/>
                <a:moveTo>
                  <a:pt x="2966490" y="3085547"/>
                </a:moveTo>
                <a:lnTo>
                  <a:pt x="2610417" y="3837184"/>
                </a:lnTo>
                <a:cubicBezTo>
                  <a:pt x="2652327" y="3841518"/>
                  <a:pt x="2695019" y="3836499"/>
                  <a:pt x="2735862" y="3821916"/>
                </a:cubicBezTo>
                <a:cubicBezTo>
                  <a:pt x="2807766" y="3796246"/>
                  <a:pt x="2865354" y="3744106"/>
                  <a:pt x="2898034" y="3675126"/>
                </a:cubicBezTo>
                <a:lnTo>
                  <a:pt x="3109537" y="3228594"/>
                </a:lnTo>
                <a:lnTo>
                  <a:pt x="2966490" y="3085547"/>
                </a:lnTo>
                <a:close/>
                <a:moveTo>
                  <a:pt x="3773468" y="1826990"/>
                </a:moveTo>
                <a:cubicBezTo>
                  <a:pt x="3715365" y="1846516"/>
                  <a:pt x="3654215" y="1856765"/>
                  <a:pt x="3592188" y="1856765"/>
                </a:cubicBezTo>
                <a:cubicBezTo>
                  <a:pt x="3577957" y="1856765"/>
                  <a:pt x="3563679" y="1856041"/>
                  <a:pt x="3549392" y="1854975"/>
                </a:cubicBezTo>
                <a:lnTo>
                  <a:pt x="3053082" y="2902782"/>
                </a:lnTo>
                <a:lnTo>
                  <a:pt x="3196129" y="3045828"/>
                </a:lnTo>
                <a:lnTo>
                  <a:pt x="3773468" y="1826990"/>
                </a:lnTo>
                <a:close/>
                <a:moveTo>
                  <a:pt x="1649697" y="1768735"/>
                </a:moveTo>
                <a:lnTo>
                  <a:pt x="1203099" y="1980285"/>
                </a:lnTo>
                <a:cubicBezTo>
                  <a:pt x="1134118" y="2012966"/>
                  <a:pt x="1081979" y="2070544"/>
                  <a:pt x="1056309" y="2142411"/>
                </a:cubicBezTo>
                <a:cubicBezTo>
                  <a:pt x="1041716" y="2183254"/>
                  <a:pt x="1036687" y="2225935"/>
                  <a:pt x="1041050" y="2267836"/>
                </a:cubicBezTo>
                <a:lnTo>
                  <a:pt x="1792763" y="1911801"/>
                </a:lnTo>
                <a:lnTo>
                  <a:pt x="1649697" y="1768735"/>
                </a:lnTo>
                <a:close/>
                <a:moveTo>
                  <a:pt x="3069503" y="1517761"/>
                </a:moveTo>
                <a:lnTo>
                  <a:pt x="2118546" y="1968246"/>
                </a:lnTo>
                <a:lnTo>
                  <a:pt x="2446216" y="2295915"/>
                </a:lnTo>
                <a:lnTo>
                  <a:pt x="2580880" y="2161251"/>
                </a:lnTo>
                <a:cubicBezTo>
                  <a:pt x="2618076" y="2124065"/>
                  <a:pt x="2678350" y="2124046"/>
                  <a:pt x="2715554" y="2161213"/>
                </a:cubicBezTo>
                <a:cubicBezTo>
                  <a:pt x="2752749" y="2198398"/>
                  <a:pt x="2752769" y="2258692"/>
                  <a:pt x="2715592" y="2295887"/>
                </a:cubicBezTo>
                <a:lnTo>
                  <a:pt x="2580890" y="2430589"/>
                </a:lnTo>
                <a:lnTo>
                  <a:pt x="2910074" y="2759754"/>
                </a:lnTo>
                <a:lnTo>
                  <a:pt x="3360864" y="1808112"/>
                </a:lnTo>
                <a:cubicBezTo>
                  <a:pt x="3296694" y="1779813"/>
                  <a:pt x="3237953" y="1739751"/>
                  <a:pt x="3187509" y="1689316"/>
                </a:cubicBezTo>
                <a:cubicBezTo>
                  <a:pt x="3137578" y="1639405"/>
                  <a:pt x="3097783" y="1581274"/>
                  <a:pt x="3069503" y="1517761"/>
                </a:cubicBezTo>
                <a:close/>
                <a:moveTo>
                  <a:pt x="3591503" y="1190089"/>
                </a:moveTo>
                <a:cubicBezTo>
                  <a:pt x="3615880" y="1190089"/>
                  <a:pt x="3640256" y="1199373"/>
                  <a:pt x="3658873" y="1217942"/>
                </a:cubicBezTo>
                <a:cubicBezTo>
                  <a:pt x="3696011" y="1255175"/>
                  <a:pt x="3696011" y="1315450"/>
                  <a:pt x="3658873" y="1352683"/>
                </a:cubicBezTo>
                <a:cubicBezTo>
                  <a:pt x="3621640" y="1389821"/>
                  <a:pt x="3561366" y="1389821"/>
                  <a:pt x="3524132" y="1352683"/>
                </a:cubicBezTo>
                <a:cubicBezTo>
                  <a:pt x="3486994" y="1315450"/>
                  <a:pt x="3486994" y="1255175"/>
                  <a:pt x="3524132" y="1217942"/>
                </a:cubicBezTo>
                <a:cubicBezTo>
                  <a:pt x="3542749" y="1199373"/>
                  <a:pt x="3567126" y="1190089"/>
                  <a:pt x="3591503" y="1190089"/>
                </a:cubicBezTo>
                <a:close/>
                <a:moveTo>
                  <a:pt x="3048720" y="1106024"/>
                </a:moveTo>
                <a:lnTo>
                  <a:pt x="1832472" y="1682162"/>
                </a:lnTo>
                <a:lnTo>
                  <a:pt x="1975557" y="1825238"/>
                </a:lnTo>
                <a:lnTo>
                  <a:pt x="3021831" y="1329595"/>
                </a:lnTo>
                <a:cubicBezTo>
                  <a:pt x="3015811" y="1253223"/>
                  <a:pt x="3025145" y="1177347"/>
                  <a:pt x="3048720" y="1106024"/>
                </a:cubicBezTo>
                <a:close/>
                <a:moveTo>
                  <a:pt x="763424" y="786087"/>
                </a:moveTo>
                <a:cubicBezTo>
                  <a:pt x="787792" y="786087"/>
                  <a:pt x="812159" y="795381"/>
                  <a:pt x="830757" y="813969"/>
                </a:cubicBezTo>
                <a:cubicBezTo>
                  <a:pt x="867943" y="851164"/>
                  <a:pt x="867943" y="911467"/>
                  <a:pt x="830757" y="948652"/>
                </a:cubicBezTo>
                <a:cubicBezTo>
                  <a:pt x="103286" y="1676134"/>
                  <a:pt x="-17615" y="2829745"/>
                  <a:pt x="543283" y="3691671"/>
                </a:cubicBezTo>
                <a:cubicBezTo>
                  <a:pt x="571963" y="3735753"/>
                  <a:pt x="559485" y="3794742"/>
                  <a:pt x="515404" y="3823431"/>
                </a:cubicBezTo>
                <a:cubicBezTo>
                  <a:pt x="499373" y="3833870"/>
                  <a:pt x="481361" y="3838852"/>
                  <a:pt x="463559" y="3838852"/>
                </a:cubicBezTo>
                <a:cubicBezTo>
                  <a:pt x="432412" y="3838852"/>
                  <a:pt x="401904" y="3823593"/>
                  <a:pt x="383644" y="3795551"/>
                </a:cubicBezTo>
                <a:cubicBezTo>
                  <a:pt x="90617" y="3345266"/>
                  <a:pt x="-41561" y="2800693"/>
                  <a:pt x="11455" y="2262140"/>
                </a:cubicBezTo>
                <a:cubicBezTo>
                  <a:pt x="65233" y="1716005"/>
                  <a:pt x="308359" y="1201703"/>
                  <a:pt x="696083" y="813969"/>
                </a:cubicBezTo>
                <a:cubicBezTo>
                  <a:pt x="714685" y="795381"/>
                  <a:pt x="739055" y="786087"/>
                  <a:pt x="763424" y="786087"/>
                </a:cubicBezTo>
                <a:close/>
                <a:moveTo>
                  <a:pt x="3726195" y="611962"/>
                </a:moveTo>
                <a:lnTo>
                  <a:pt x="3322163" y="1015993"/>
                </a:lnTo>
                <a:cubicBezTo>
                  <a:pt x="3233152" y="1105014"/>
                  <a:pt x="3194414" y="1230563"/>
                  <a:pt x="3216969" y="1353979"/>
                </a:cubicBezTo>
                <a:cubicBezTo>
                  <a:pt x="3219522" y="1361303"/>
                  <a:pt x="3221056" y="1368761"/>
                  <a:pt x="3221761" y="1376219"/>
                </a:cubicBezTo>
                <a:cubicBezTo>
                  <a:pt x="3238248" y="1443618"/>
                  <a:pt x="3272672" y="1505159"/>
                  <a:pt x="3322154" y="1554661"/>
                </a:cubicBezTo>
                <a:cubicBezTo>
                  <a:pt x="3374675" y="1607153"/>
                  <a:pt x="3440559" y="1642891"/>
                  <a:pt x="3512683" y="1657997"/>
                </a:cubicBezTo>
                <a:cubicBezTo>
                  <a:pt x="3639355" y="1684639"/>
                  <a:pt x="3769467" y="1646015"/>
                  <a:pt x="3860831" y="1554651"/>
                </a:cubicBezTo>
                <a:lnTo>
                  <a:pt x="4264862" y="1150629"/>
                </a:lnTo>
                <a:lnTo>
                  <a:pt x="3726195" y="611962"/>
                </a:lnTo>
                <a:close/>
                <a:moveTo>
                  <a:pt x="4591122" y="190452"/>
                </a:moveTo>
                <a:cubicBezTo>
                  <a:pt x="4565719" y="190452"/>
                  <a:pt x="4541821" y="200358"/>
                  <a:pt x="4523809" y="218370"/>
                </a:cubicBezTo>
                <a:lnTo>
                  <a:pt x="4062837" y="679256"/>
                </a:lnTo>
                <a:lnTo>
                  <a:pt x="4197540" y="813968"/>
                </a:lnTo>
                <a:lnTo>
                  <a:pt x="4658435" y="352996"/>
                </a:lnTo>
                <a:cubicBezTo>
                  <a:pt x="4695554" y="315877"/>
                  <a:pt x="4695554" y="255470"/>
                  <a:pt x="4658435" y="218351"/>
                </a:cubicBezTo>
                <a:cubicBezTo>
                  <a:pt x="4640452" y="200368"/>
                  <a:pt x="4616535" y="190452"/>
                  <a:pt x="4591122" y="190452"/>
                </a:cubicBezTo>
                <a:close/>
                <a:moveTo>
                  <a:pt x="4591122" y="0"/>
                </a:moveTo>
                <a:cubicBezTo>
                  <a:pt x="4667398" y="0"/>
                  <a:pt x="4739131" y="29718"/>
                  <a:pt x="4793109" y="83677"/>
                </a:cubicBezTo>
                <a:cubicBezTo>
                  <a:pt x="4904485" y="195072"/>
                  <a:pt x="4904485" y="376294"/>
                  <a:pt x="4793119" y="487699"/>
                </a:cubicBezTo>
                <a:lnTo>
                  <a:pt x="4332223" y="948671"/>
                </a:lnTo>
                <a:lnTo>
                  <a:pt x="4466869" y="1083316"/>
                </a:lnTo>
                <a:cubicBezTo>
                  <a:pt x="4504054" y="1120511"/>
                  <a:pt x="4504054" y="1180805"/>
                  <a:pt x="4466869" y="1217990"/>
                </a:cubicBezTo>
                <a:lnTo>
                  <a:pt x="4097899" y="1586960"/>
                </a:lnTo>
                <a:lnTo>
                  <a:pt x="3339118" y="3188865"/>
                </a:lnTo>
                <a:lnTo>
                  <a:pt x="3658196" y="3507953"/>
                </a:lnTo>
                <a:cubicBezTo>
                  <a:pt x="3695382" y="3545148"/>
                  <a:pt x="3695382" y="3605441"/>
                  <a:pt x="3658196" y="3642627"/>
                </a:cubicBezTo>
                <a:cubicBezTo>
                  <a:pt x="3639603" y="3661210"/>
                  <a:pt x="3615229" y="3670516"/>
                  <a:pt x="3590864" y="3670516"/>
                </a:cubicBezTo>
                <a:cubicBezTo>
                  <a:pt x="3566499" y="3670516"/>
                  <a:pt x="3542134" y="3661210"/>
                  <a:pt x="3523532" y="3642627"/>
                </a:cubicBezTo>
                <a:lnTo>
                  <a:pt x="3252545" y="3371640"/>
                </a:lnTo>
                <a:lnTo>
                  <a:pt x="3070151" y="3756717"/>
                </a:lnTo>
                <a:cubicBezTo>
                  <a:pt x="2988836" y="3928386"/>
                  <a:pt x="2817424" y="4029046"/>
                  <a:pt x="2639021" y="4029046"/>
                </a:cubicBezTo>
                <a:cubicBezTo>
                  <a:pt x="2601426" y="4029046"/>
                  <a:pt x="2563554" y="4024408"/>
                  <a:pt x="2526121" y="4015197"/>
                </a:cubicBezTo>
                <a:lnTo>
                  <a:pt x="2397753" y="4286164"/>
                </a:lnTo>
                <a:cubicBezTo>
                  <a:pt x="2381474" y="4320550"/>
                  <a:pt x="2347280" y="4340657"/>
                  <a:pt x="2311628" y="4340657"/>
                </a:cubicBezTo>
                <a:cubicBezTo>
                  <a:pt x="2297969" y="4340657"/>
                  <a:pt x="2284100" y="4337704"/>
                  <a:pt x="2270937" y="4331465"/>
                </a:cubicBezTo>
                <a:cubicBezTo>
                  <a:pt x="2223407" y="4308958"/>
                  <a:pt x="2203128" y="4252179"/>
                  <a:pt x="2225636" y="4204649"/>
                </a:cubicBezTo>
                <a:lnTo>
                  <a:pt x="2390390" y="3856853"/>
                </a:lnTo>
                <a:cubicBezTo>
                  <a:pt x="2390466" y="3856701"/>
                  <a:pt x="2390514" y="3856548"/>
                  <a:pt x="2390580" y="3856396"/>
                </a:cubicBezTo>
                <a:cubicBezTo>
                  <a:pt x="2390647" y="3856244"/>
                  <a:pt x="2390733" y="3856110"/>
                  <a:pt x="2390809" y="3855958"/>
                </a:cubicBezTo>
                <a:lnTo>
                  <a:pt x="2823473" y="2942568"/>
                </a:lnTo>
                <a:lnTo>
                  <a:pt x="2446206" y="2565301"/>
                </a:lnTo>
                <a:lnTo>
                  <a:pt x="2311504" y="2700004"/>
                </a:lnTo>
                <a:cubicBezTo>
                  <a:pt x="2292920" y="2718578"/>
                  <a:pt x="2268556" y="2727874"/>
                  <a:pt x="2244191" y="2727874"/>
                </a:cubicBezTo>
                <a:cubicBezTo>
                  <a:pt x="2219816" y="2727874"/>
                  <a:pt x="2195442" y="2718578"/>
                  <a:pt x="2176839" y="2699966"/>
                </a:cubicBezTo>
                <a:cubicBezTo>
                  <a:pt x="2139663" y="2662761"/>
                  <a:pt x="2139682" y="2602468"/>
                  <a:pt x="2176877" y="2565292"/>
                </a:cubicBezTo>
                <a:lnTo>
                  <a:pt x="2311542" y="2430628"/>
                </a:lnTo>
                <a:lnTo>
                  <a:pt x="1935771" y="2054857"/>
                </a:lnTo>
                <a:lnTo>
                  <a:pt x="1021876" y="2487682"/>
                </a:lnTo>
                <a:lnTo>
                  <a:pt x="673632" y="2652617"/>
                </a:lnTo>
                <a:cubicBezTo>
                  <a:pt x="660478" y="2658847"/>
                  <a:pt x="646610" y="2661799"/>
                  <a:pt x="632942" y="2661799"/>
                </a:cubicBezTo>
                <a:cubicBezTo>
                  <a:pt x="597280" y="2661799"/>
                  <a:pt x="563095" y="2641673"/>
                  <a:pt x="546807" y="2607307"/>
                </a:cubicBezTo>
                <a:cubicBezTo>
                  <a:pt x="524309" y="2559777"/>
                  <a:pt x="544588" y="2502989"/>
                  <a:pt x="592117" y="2480481"/>
                </a:cubicBezTo>
                <a:lnTo>
                  <a:pt x="862885" y="2352237"/>
                </a:lnTo>
                <a:cubicBezTo>
                  <a:pt x="840558" y="2262244"/>
                  <a:pt x="845063" y="2167671"/>
                  <a:pt x="876963" y="2078364"/>
                </a:cubicBezTo>
                <a:cubicBezTo>
                  <a:pt x="919739" y="1958597"/>
                  <a:pt x="1006617" y="1862652"/>
                  <a:pt x="1121574" y="1808188"/>
                </a:cubicBezTo>
                <a:lnTo>
                  <a:pt x="1506708" y="1625755"/>
                </a:lnTo>
                <a:lnTo>
                  <a:pt x="1234226" y="1353274"/>
                </a:lnTo>
                <a:cubicBezTo>
                  <a:pt x="1197041" y="1316079"/>
                  <a:pt x="1197041" y="1255785"/>
                  <a:pt x="1234226" y="1218600"/>
                </a:cubicBezTo>
                <a:cubicBezTo>
                  <a:pt x="1271431" y="1181424"/>
                  <a:pt x="1331705" y="1181424"/>
                  <a:pt x="1368900" y="1218600"/>
                </a:cubicBezTo>
                <a:lnTo>
                  <a:pt x="1689464" y="1539164"/>
                </a:lnTo>
                <a:lnTo>
                  <a:pt x="3285797" y="782993"/>
                </a:lnTo>
                <a:lnTo>
                  <a:pt x="3658844" y="409946"/>
                </a:lnTo>
                <a:cubicBezTo>
                  <a:pt x="3696048" y="372770"/>
                  <a:pt x="3756322" y="372770"/>
                  <a:pt x="3793518" y="409946"/>
                </a:cubicBezTo>
                <a:lnTo>
                  <a:pt x="3928163" y="544592"/>
                </a:lnTo>
                <a:lnTo>
                  <a:pt x="4389144" y="83686"/>
                </a:lnTo>
                <a:cubicBezTo>
                  <a:pt x="4443123" y="29718"/>
                  <a:pt x="4514846" y="0"/>
                  <a:pt x="459112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Freeform: Shape 19"/>
          <p:cNvSpPr/>
          <p:nvPr/>
        </p:nvSpPr>
        <p:spPr>
          <a:xfrm>
            <a:off x="5884920" y="4243320"/>
            <a:ext cx="237960" cy="239760"/>
          </a:xfrm>
          <a:custGeom>
            <a:avLst/>
            <a:gdLst/>
            <a:ahLst/>
            <a:rect l="l" t="t" r="r" b="b"/>
            <a:pathLst>
              <a:path w="4876800" h="4876800">
                <a:moveTo>
                  <a:pt x="4495800" y="4495800"/>
                </a:moveTo>
                <a:lnTo>
                  <a:pt x="4495800" y="4686300"/>
                </a:lnTo>
                <a:lnTo>
                  <a:pt x="4686300" y="4686300"/>
                </a:lnTo>
                <a:lnTo>
                  <a:pt x="4686300" y="4495800"/>
                </a:lnTo>
                <a:lnTo>
                  <a:pt x="4495800" y="4495800"/>
                </a:lnTo>
                <a:close/>
                <a:moveTo>
                  <a:pt x="3800475" y="4495800"/>
                </a:moveTo>
                <a:lnTo>
                  <a:pt x="3990975" y="4495800"/>
                </a:lnTo>
                <a:cubicBezTo>
                  <a:pt x="4043572" y="4495800"/>
                  <a:pt x="4086225" y="4538443"/>
                  <a:pt x="4086225" y="4591050"/>
                </a:cubicBezTo>
                <a:cubicBezTo>
                  <a:pt x="4086225" y="4643656"/>
                  <a:pt x="4043572" y="4686300"/>
                  <a:pt x="3990975" y="4686300"/>
                </a:cubicBezTo>
                <a:lnTo>
                  <a:pt x="3800475" y="4686300"/>
                </a:lnTo>
                <a:cubicBezTo>
                  <a:pt x="3747878" y="4686300"/>
                  <a:pt x="3705225" y="4643656"/>
                  <a:pt x="3705225" y="4591050"/>
                </a:cubicBezTo>
                <a:cubicBezTo>
                  <a:pt x="3705225" y="4538443"/>
                  <a:pt x="3747878" y="4495800"/>
                  <a:pt x="3800475" y="4495800"/>
                </a:cubicBezTo>
                <a:close/>
                <a:moveTo>
                  <a:pt x="3200400" y="4495800"/>
                </a:moveTo>
                <a:lnTo>
                  <a:pt x="3390900" y="4495800"/>
                </a:lnTo>
                <a:cubicBezTo>
                  <a:pt x="3443497" y="4495800"/>
                  <a:pt x="3486150" y="4538443"/>
                  <a:pt x="3486150" y="4591050"/>
                </a:cubicBezTo>
                <a:cubicBezTo>
                  <a:pt x="3486150" y="4643656"/>
                  <a:pt x="3443497" y="4686300"/>
                  <a:pt x="3390900" y="4686300"/>
                </a:cubicBezTo>
                <a:lnTo>
                  <a:pt x="3200400" y="4686300"/>
                </a:lnTo>
                <a:cubicBezTo>
                  <a:pt x="3147803" y="4686300"/>
                  <a:pt x="3105150" y="4643656"/>
                  <a:pt x="3105150" y="4591050"/>
                </a:cubicBezTo>
                <a:cubicBezTo>
                  <a:pt x="3105150" y="4538443"/>
                  <a:pt x="3147803" y="4495800"/>
                  <a:pt x="3200400" y="4495800"/>
                </a:cubicBezTo>
                <a:close/>
                <a:moveTo>
                  <a:pt x="2628900" y="4495800"/>
                </a:moveTo>
                <a:lnTo>
                  <a:pt x="2819400" y="4495800"/>
                </a:lnTo>
                <a:cubicBezTo>
                  <a:pt x="2871997" y="4495800"/>
                  <a:pt x="2914650" y="4538443"/>
                  <a:pt x="2914650" y="4591050"/>
                </a:cubicBezTo>
                <a:cubicBezTo>
                  <a:pt x="2914650" y="4643656"/>
                  <a:pt x="2871997" y="4686300"/>
                  <a:pt x="2819400" y="4686300"/>
                </a:cubicBezTo>
                <a:lnTo>
                  <a:pt x="2628900" y="4686300"/>
                </a:lnTo>
                <a:cubicBezTo>
                  <a:pt x="2576303" y="4686300"/>
                  <a:pt x="2533650" y="4643656"/>
                  <a:pt x="2533650" y="4591050"/>
                </a:cubicBezTo>
                <a:cubicBezTo>
                  <a:pt x="2533650" y="4538443"/>
                  <a:pt x="2576303" y="4495800"/>
                  <a:pt x="2628900" y="4495800"/>
                </a:cubicBezTo>
                <a:close/>
                <a:moveTo>
                  <a:pt x="2057400" y="4495800"/>
                </a:moveTo>
                <a:lnTo>
                  <a:pt x="2247900" y="4495800"/>
                </a:lnTo>
                <a:cubicBezTo>
                  <a:pt x="2300497" y="4495800"/>
                  <a:pt x="2343150" y="4538443"/>
                  <a:pt x="2343150" y="4591050"/>
                </a:cubicBezTo>
                <a:cubicBezTo>
                  <a:pt x="2343150" y="4643656"/>
                  <a:pt x="2300497" y="4686300"/>
                  <a:pt x="2247900" y="4686300"/>
                </a:cubicBezTo>
                <a:lnTo>
                  <a:pt x="2057400" y="4686300"/>
                </a:lnTo>
                <a:cubicBezTo>
                  <a:pt x="2004803" y="4686300"/>
                  <a:pt x="1962150" y="4643656"/>
                  <a:pt x="1962150" y="4591050"/>
                </a:cubicBezTo>
                <a:cubicBezTo>
                  <a:pt x="1962150" y="4538443"/>
                  <a:pt x="2004803" y="4495800"/>
                  <a:pt x="2057400" y="4495800"/>
                </a:cubicBezTo>
                <a:close/>
                <a:moveTo>
                  <a:pt x="1485900" y="4495800"/>
                </a:moveTo>
                <a:lnTo>
                  <a:pt x="1676400" y="4495800"/>
                </a:lnTo>
                <a:cubicBezTo>
                  <a:pt x="1728997" y="4495800"/>
                  <a:pt x="1771650" y="4538443"/>
                  <a:pt x="1771650" y="4591050"/>
                </a:cubicBezTo>
                <a:cubicBezTo>
                  <a:pt x="1771650" y="4643656"/>
                  <a:pt x="1728997" y="4686300"/>
                  <a:pt x="1676400" y="4686300"/>
                </a:cubicBezTo>
                <a:lnTo>
                  <a:pt x="1485900" y="4686300"/>
                </a:lnTo>
                <a:cubicBezTo>
                  <a:pt x="1433303" y="4686300"/>
                  <a:pt x="1390650" y="4643656"/>
                  <a:pt x="1390650" y="4591050"/>
                </a:cubicBezTo>
                <a:cubicBezTo>
                  <a:pt x="1390650" y="4538443"/>
                  <a:pt x="1433303" y="4495800"/>
                  <a:pt x="1485900" y="4495800"/>
                </a:cubicBezTo>
                <a:close/>
                <a:moveTo>
                  <a:pt x="885825" y="4495800"/>
                </a:moveTo>
                <a:lnTo>
                  <a:pt x="1076325" y="4495800"/>
                </a:lnTo>
                <a:cubicBezTo>
                  <a:pt x="1128922" y="4495800"/>
                  <a:pt x="1171575" y="4538443"/>
                  <a:pt x="1171575" y="4591050"/>
                </a:cubicBezTo>
                <a:cubicBezTo>
                  <a:pt x="1171575" y="4643656"/>
                  <a:pt x="1128922" y="4686300"/>
                  <a:pt x="1076325" y="4686300"/>
                </a:cubicBezTo>
                <a:lnTo>
                  <a:pt x="885825" y="4686300"/>
                </a:lnTo>
                <a:cubicBezTo>
                  <a:pt x="833228" y="4686300"/>
                  <a:pt x="790575" y="4643656"/>
                  <a:pt x="790575" y="4591050"/>
                </a:cubicBezTo>
                <a:cubicBezTo>
                  <a:pt x="790575" y="4538443"/>
                  <a:pt x="833228" y="4495800"/>
                  <a:pt x="885825" y="4495800"/>
                </a:cubicBezTo>
                <a:close/>
                <a:moveTo>
                  <a:pt x="190500" y="4495800"/>
                </a:moveTo>
                <a:lnTo>
                  <a:pt x="190500" y="4686300"/>
                </a:lnTo>
                <a:lnTo>
                  <a:pt x="381000" y="4686300"/>
                </a:lnTo>
                <a:lnTo>
                  <a:pt x="381000" y="4495800"/>
                </a:lnTo>
                <a:lnTo>
                  <a:pt x="190500" y="4495800"/>
                </a:lnTo>
                <a:close/>
                <a:moveTo>
                  <a:pt x="4400550" y="4305300"/>
                </a:moveTo>
                <a:lnTo>
                  <a:pt x="4781550" y="4305300"/>
                </a:lnTo>
                <a:cubicBezTo>
                  <a:pt x="4834147" y="4305300"/>
                  <a:pt x="4876800" y="4347943"/>
                  <a:pt x="4876800" y="4400550"/>
                </a:cubicBezTo>
                <a:lnTo>
                  <a:pt x="4876800" y="4781550"/>
                </a:lnTo>
                <a:cubicBezTo>
                  <a:pt x="4876800" y="4834156"/>
                  <a:pt x="4834147" y="4876800"/>
                  <a:pt x="4781550" y="4876800"/>
                </a:cubicBezTo>
                <a:lnTo>
                  <a:pt x="4400550" y="4876800"/>
                </a:lnTo>
                <a:cubicBezTo>
                  <a:pt x="4347953" y="4876800"/>
                  <a:pt x="4305300" y="4834156"/>
                  <a:pt x="4305300" y="4781550"/>
                </a:cubicBezTo>
                <a:lnTo>
                  <a:pt x="4305300" y="4400550"/>
                </a:lnTo>
                <a:cubicBezTo>
                  <a:pt x="4305300" y="4347943"/>
                  <a:pt x="4347953" y="4305300"/>
                  <a:pt x="4400550" y="4305300"/>
                </a:cubicBezTo>
                <a:close/>
                <a:moveTo>
                  <a:pt x="95250" y="4305300"/>
                </a:moveTo>
                <a:lnTo>
                  <a:pt x="476250" y="4305300"/>
                </a:lnTo>
                <a:cubicBezTo>
                  <a:pt x="528847" y="4305300"/>
                  <a:pt x="571500" y="4347943"/>
                  <a:pt x="571500" y="4400550"/>
                </a:cubicBezTo>
                <a:lnTo>
                  <a:pt x="571500" y="4781550"/>
                </a:lnTo>
                <a:cubicBezTo>
                  <a:pt x="571500" y="4834156"/>
                  <a:pt x="528847" y="4876800"/>
                  <a:pt x="476250" y="4876800"/>
                </a:cubicBezTo>
                <a:lnTo>
                  <a:pt x="95250" y="4876800"/>
                </a:lnTo>
                <a:cubicBezTo>
                  <a:pt x="42653" y="4876800"/>
                  <a:pt x="0" y="4834156"/>
                  <a:pt x="0" y="4781550"/>
                </a:cubicBezTo>
                <a:lnTo>
                  <a:pt x="0" y="4400550"/>
                </a:lnTo>
                <a:cubicBezTo>
                  <a:pt x="0" y="4347943"/>
                  <a:pt x="42653" y="4305300"/>
                  <a:pt x="95250" y="4305300"/>
                </a:cubicBezTo>
                <a:close/>
                <a:moveTo>
                  <a:pt x="4591050" y="3733800"/>
                </a:moveTo>
                <a:cubicBezTo>
                  <a:pt x="4643647" y="3733800"/>
                  <a:pt x="4686300" y="3776443"/>
                  <a:pt x="4686300" y="3829050"/>
                </a:cubicBezTo>
                <a:lnTo>
                  <a:pt x="4686300" y="4019550"/>
                </a:lnTo>
                <a:cubicBezTo>
                  <a:pt x="4686300" y="4072156"/>
                  <a:pt x="4643647" y="4114800"/>
                  <a:pt x="4591050" y="4114800"/>
                </a:cubicBezTo>
                <a:cubicBezTo>
                  <a:pt x="4538453" y="4114800"/>
                  <a:pt x="4495800" y="4072156"/>
                  <a:pt x="4495800" y="4019550"/>
                </a:cubicBezTo>
                <a:lnTo>
                  <a:pt x="4495800" y="3829050"/>
                </a:lnTo>
                <a:cubicBezTo>
                  <a:pt x="4495800" y="3776443"/>
                  <a:pt x="4538453" y="3733800"/>
                  <a:pt x="4591050" y="3733800"/>
                </a:cubicBezTo>
                <a:close/>
                <a:moveTo>
                  <a:pt x="285750" y="3733800"/>
                </a:moveTo>
                <a:cubicBezTo>
                  <a:pt x="338347" y="3733800"/>
                  <a:pt x="381000" y="3776443"/>
                  <a:pt x="381000" y="3829050"/>
                </a:cubicBezTo>
                <a:lnTo>
                  <a:pt x="381000" y="4019550"/>
                </a:lnTo>
                <a:cubicBezTo>
                  <a:pt x="381000" y="4072156"/>
                  <a:pt x="338347" y="4114800"/>
                  <a:pt x="285750" y="4114800"/>
                </a:cubicBezTo>
                <a:cubicBezTo>
                  <a:pt x="233153" y="4114800"/>
                  <a:pt x="190500" y="4072156"/>
                  <a:pt x="190500" y="4019550"/>
                </a:cubicBezTo>
                <a:lnTo>
                  <a:pt x="190500" y="3829050"/>
                </a:lnTo>
                <a:cubicBezTo>
                  <a:pt x="190500" y="3776443"/>
                  <a:pt x="233153" y="3733800"/>
                  <a:pt x="285750" y="3733800"/>
                </a:cubicBezTo>
                <a:close/>
                <a:moveTo>
                  <a:pt x="3200400" y="3324225"/>
                </a:moveTo>
                <a:cubicBezTo>
                  <a:pt x="3252978" y="3324225"/>
                  <a:pt x="3295650" y="3366897"/>
                  <a:pt x="3295650" y="3419475"/>
                </a:cubicBezTo>
                <a:cubicBezTo>
                  <a:pt x="3295650" y="3472053"/>
                  <a:pt x="3252978" y="3514725"/>
                  <a:pt x="3200400" y="3514725"/>
                </a:cubicBezTo>
                <a:cubicBezTo>
                  <a:pt x="3147822" y="3514725"/>
                  <a:pt x="3105150" y="3472053"/>
                  <a:pt x="3105150" y="3419475"/>
                </a:cubicBezTo>
                <a:cubicBezTo>
                  <a:pt x="3105150" y="3366897"/>
                  <a:pt x="3147822" y="3324225"/>
                  <a:pt x="3200400" y="3324225"/>
                </a:cubicBezTo>
                <a:close/>
                <a:moveTo>
                  <a:pt x="4591050" y="3133725"/>
                </a:moveTo>
                <a:cubicBezTo>
                  <a:pt x="4643647" y="3133725"/>
                  <a:pt x="4686300" y="3176368"/>
                  <a:pt x="4686300" y="3228975"/>
                </a:cubicBezTo>
                <a:lnTo>
                  <a:pt x="4686300" y="3419475"/>
                </a:lnTo>
                <a:cubicBezTo>
                  <a:pt x="4686300" y="3472081"/>
                  <a:pt x="4643647" y="3514725"/>
                  <a:pt x="4591050" y="3514725"/>
                </a:cubicBezTo>
                <a:cubicBezTo>
                  <a:pt x="4538453" y="3514725"/>
                  <a:pt x="4495800" y="3472081"/>
                  <a:pt x="4495800" y="3419475"/>
                </a:cubicBezTo>
                <a:lnTo>
                  <a:pt x="4495800" y="3228975"/>
                </a:lnTo>
                <a:cubicBezTo>
                  <a:pt x="4495800" y="3176368"/>
                  <a:pt x="4538453" y="3133725"/>
                  <a:pt x="4591050" y="3133725"/>
                </a:cubicBezTo>
                <a:close/>
                <a:moveTo>
                  <a:pt x="285750" y="3133725"/>
                </a:moveTo>
                <a:cubicBezTo>
                  <a:pt x="338347" y="3133725"/>
                  <a:pt x="381000" y="3176368"/>
                  <a:pt x="381000" y="3228975"/>
                </a:cubicBezTo>
                <a:lnTo>
                  <a:pt x="381000" y="3419475"/>
                </a:lnTo>
                <a:cubicBezTo>
                  <a:pt x="381000" y="3472081"/>
                  <a:pt x="338347" y="3514725"/>
                  <a:pt x="285750" y="3514725"/>
                </a:cubicBezTo>
                <a:cubicBezTo>
                  <a:pt x="233153" y="3514725"/>
                  <a:pt x="190500" y="3472081"/>
                  <a:pt x="190500" y="3419475"/>
                </a:cubicBezTo>
                <a:lnTo>
                  <a:pt x="190500" y="3228975"/>
                </a:lnTo>
                <a:cubicBezTo>
                  <a:pt x="190500" y="3176368"/>
                  <a:pt x="233153" y="3133725"/>
                  <a:pt x="285750" y="3133725"/>
                </a:cubicBezTo>
                <a:close/>
                <a:moveTo>
                  <a:pt x="4591050" y="2533650"/>
                </a:moveTo>
                <a:cubicBezTo>
                  <a:pt x="4643647" y="2533650"/>
                  <a:pt x="4686300" y="2576293"/>
                  <a:pt x="4686300" y="2628900"/>
                </a:cubicBezTo>
                <a:lnTo>
                  <a:pt x="4686300" y="2819400"/>
                </a:lnTo>
                <a:cubicBezTo>
                  <a:pt x="4686300" y="2872006"/>
                  <a:pt x="4643647" y="2914650"/>
                  <a:pt x="4591050" y="2914650"/>
                </a:cubicBezTo>
                <a:cubicBezTo>
                  <a:pt x="4538453" y="2914650"/>
                  <a:pt x="4495800" y="2872006"/>
                  <a:pt x="4495800" y="2819400"/>
                </a:cubicBezTo>
                <a:lnTo>
                  <a:pt x="4495800" y="2628900"/>
                </a:lnTo>
                <a:cubicBezTo>
                  <a:pt x="4495800" y="2576293"/>
                  <a:pt x="4538453" y="2533650"/>
                  <a:pt x="4591050" y="2533650"/>
                </a:cubicBezTo>
                <a:close/>
                <a:moveTo>
                  <a:pt x="285750" y="2533650"/>
                </a:moveTo>
                <a:cubicBezTo>
                  <a:pt x="338347" y="2533650"/>
                  <a:pt x="381000" y="2576293"/>
                  <a:pt x="381000" y="2628900"/>
                </a:cubicBezTo>
                <a:lnTo>
                  <a:pt x="381000" y="2819400"/>
                </a:lnTo>
                <a:cubicBezTo>
                  <a:pt x="381000" y="2872006"/>
                  <a:pt x="338347" y="2914650"/>
                  <a:pt x="285750" y="2914650"/>
                </a:cubicBezTo>
                <a:cubicBezTo>
                  <a:pt x="233153" y="2914650"/>
                  <a:pt x="190500" y="2872006"/>
                  <a:pt x="190500" y="2819400"/>
                </a:cubicBezTo>
                <a:lnTo>
                  <a:pt x="190500" y="2628900"/>
                </a:lnTo>
                <a:cubicBezTo>
                  <a:pt x="190500" y="2576293"/>
                  <a:pt x="233153" y="2533650"/>
                  <a:pt x="285750" y="2533650"/>
                </a:cubicBezTo>
                <a:close/>
                <a:moveTo>
                  <a:pt x="1770554" y="2095757"/>
                </a:moveTo>
                <a:lnTo>
                  <a:pt x="981075" y="2859767"/>
                </a:lnTo>
                <a:lnTo>
                  <a:pt x="981075" y="3324225"/>
                </a:lnTo>
                <a:lnTo>
                  <a:pt x="2628900" y="3324225"/>
                </a:lnTo>
                <a:cubicBezTo>
                  <a:pt x="2681497" y="3324225"/>
                  <a:pt x="2724150" y="3366868"/>
                  <a:pt x="2724150" y="3419475"/>
                </a:cubicBezTo>
                <a:cubicBezTo>
                  <a:pt x="2724150" y="3472082"/>
                  <a:pt x="2681497" y="3514725"/>
                  <a:pt x="2628900" y="3514725"/>
                </a:cubicBezTo>
                <a:lnTo>
                  <a:pt x="981075" y="3514725"/>
                </a:lnTo>
                <a:lnTo>
                  <a:pt x="981075" y="3924300"/>
                </a:lnTo>
                <a:lnTo>
                  <a:pt x="3895725" y="3924300"/>
                </a:lnTo>
                <a:lnTo>
                  <a:pt x="3895725" y="3514725"/>
                </a:lnTo>
                <a:lnTo>
                  <a:pt x="3581400" y="3514725"/>
                </a:lnTo>
                <a:cubicBezTo>
                  <a:pt x="3528803" y="3514725"/>
                  <a:pt x="3486150" y="3472082"/>
                  <a:pt x="3486150" y="3419475"/>
                </a:cubicBezTo>
                <a:cubicBezTo>
                  <a:pt x="3486150" y="3366868"/>
                  <a:pt x="3528803" y="3324225"/>
                  <a:pt x="3581400" y="3324225"/>
                </a:cubicBezTo>
                <a:lnTo>
                  <a:pt x="3895725" y="3324225"/>
                </a:lnTo>
                <a:lnTo>
                  <a:pt x="3895725" y="3077927"/>
                </a:lnTo>
                <a:lnTo>
                  <a:pt x="3105150" y="2287352"/>
                </a:lnTo>
                <a:lnTo>
                  <a:pt x="2663799" y="2728703"/>
                </a:lnTo>
                <a:lnTo>
                  <a:pt x="3000356" y="3084776"/>
                </a:lnTo>
                <a:cubicBezTo>
                  <a:pt x="3036494" y="3123009"/>
                  <a:pt x="3034798" y="3183293"/>
                  <a:pt x="2996565" y="3219431"/>
                </a:cubicBezTo>
                <a:cubicBezTo>
                  <a:pt x="2978163" y="3236824"/>
                  <a:pt x="2954636" y="3245453"/>
                  <a:pt x="2931157" y="3245453"/>
                </a:cubicBezTo>
                <a:cubicBezTo>
                  <a:pt x="2905868" y="3245453"/>
                  <a:pt x="2880646" y="3235452"/>
                  <a:pt x="2861910" y="3215630"/>
                </a:cubicBezTo>
                <a:lnTo>
                  <a:pt x="2370144" y="2695346"/>
                </a:lnTo>
                <a:lnTo>
                  <a:pt x="1770554" y="2095757"/>
                </a:lnTo>
                <a:close/>
                <a:moveTo>
                  <a:pt x="4591050" y="1962150"/>
                </a:moveTo>
                <a:cubicBezTo>
                  <a:pt x="4643647" y="1962150"/>
                  <a:pt x="4686300" y="2004793"/>
                  <a:pt x="4686300" y="2057400"/>
                </a:cubicBezTo>
                <a:lnTo>
                  <a:pt x="4686300" y="2247900"/>
                </a:lnTo>
                <a:cubicBezTo>
                  <a:pt x="4686300" y="2300506"/>
                  <a:pt x="4643647" y="2343150"/>
                  <a:pt x="4591050" y="2343150"/>
                </a:cubicBezTo>
                <a:cubicBezTo>
                  <a:pt x="4538453" y="2343150"/>
                  <a:pt x="4495800" y="2300506"/>
                  <a:pt x="4495800" y="2247900"/>
                </a:cubicBezTo>
                <a:lnTo>
                  <a:pt x="4495800" y="2057400"/>
                </a:lnTo>
                <a:cubicBezTo>
                  <a:pt x="4495800" y="2004793"/>
                  <a:pt x="4538453" y="1962150"/>
                  <a:pt x="4591050" y="1962150"/>
                </a:cubicBezTo>
                <a:close/>
                <a:moveTo>
                  <a:pt x="285750" y="1962150"/>
                </a:moveTo>
                <a:cubicBezTo>
                  <a:pt x="338347" y="1962150"/>
                  <a:pt x="381000" y="2004793"/>
                  <a:pt x="381000" y="2057400"/>
                </a:cubicBezTo>
                <a:lnTo>
                  <a:pt x="381000" y="2247900"/>
                </a:lnTo>
                <a:cubicBezTo>
                  <a:pt x="381000" y="2300506"/>
                  <a:pt x="338347" y="2343150"/>
                  <a:pt x="285750" y="2343150"/>
                </a:cubicBezTo>
                <a:cubicBezTo>
                  <a:pt x="233153" y="2343150"/>
                  <a:pt x="190500" y="2300506"/>
                  <a:pt x="190500" y="2247900"/>
                </a:cubicBezTo>
                <a:lnTo>
                  <a:pt x="190500" y="2057400"/>
                </a:lnTo>
                <a:cubicBezTo>
                  <a:pt x="190500" y="2004793"/>
                  <a:pt x="233153" y="1962150"/>
                  <a:pt x="285750" y="1962150"/>
                </a:cubicBezTo>
                <a:close/>
                <a:moveTo>
                  <a:pt x="2628900" y="1581150"/>
                </a:moveTo>
                <a:cubicBezTo>
                  <a:pt x="2576379" y="1581150"/>
                  <a:pt x="2533650" y="1623879"/>
                  <a:pt x="2533650" y="1676400"/>
                </a:cubicBezTo>
                <a:cubicBezTo>
                  <a:pt x="2533650" y="1728921"/>
                  <a:pt x="2576379" y="1771650"/>
                  <a:pt x="2628900" y="1771650"/>
                </a:cubicBezTo>
                <a:cubicBezTo>
                  <a:pt x="2681421" y="1771650"/>
                  <a:pt x="2724150" y="1728921"/>
                  <a:pt x="2724150" y="1676400"/>
                </a:cubicBezTo>
                <a:cubicBezTo>
                  <a:pt x="2724150" y="1623879"/>
                  <a:pt x="2681421" y="1581150"/>
                  <a:pt x="2628900" y="1581150"/>
                </a:cubicBezTo>
                <a:close/>
                <a:moveTo>
                  <a:pt x="4591050" y="1390650"/>
                </a:moveTo>
                <a:cubicBezTo>
                  <a:pt x="4643647" y="1390650"/>
                  <a:pt x="4686300" y="1433293"/>
                  <a:pt x="4686300" y="1485900"/>
                </a:cubicBezTo>
                <a:lnTo>
                  <a:pt x="4686300" y="1676400"/>
                </a:lnTo>
                <a:cubicBezTo>
                  <a:pt x="4686300" y="1729006"/>
                  <a:pt x="4643647" y="1771650"/>
                  <a:pt x="4591050" y="1771650"/>
                </a:cubicBezTo>
                <a:cubicBezTo>
                  <a:pt x="4538453" y="1771650"/>
                  <a:pt x="4495800" y="1729006"/>
                  <a:pt x="4495800" y="1676400"/>
                </a:cubicBezTo>
                <a:lnTo>
                  <a:pt x="4495800" y="1485900"/>
                </a:lnTo>
                <a:cubicBezTo>
                  <a:pt x="4495800" y="1433293"/>
                  <a:pt x="4538453" y="1390650"/>
                  <a:pt x="4591050" y="1390650"/>
                </a:cubicBezTo>
                <a:close/>
                <a:moveTo>
                  <a:pt x="2628900" y="1390650"/>
                </a:moveTo>
                <a:cubicBezTo>
                  <a:pt x="2786462" y="1390650"/>
                  <a:pt x="2914650" y="1518837"/>
                  <a:pt x="2914650" y="1676400"/>
                </a:cubicBezTo>
                <a:cubicBezTo>
                  <a:pt x="2914650" y="1833962"/>
                  <a:pt x="2786462" y="1962150"/>
                  <a:pt x="2628900" y="1962150"/>
                </a:cubicBezTo>
                <a:cubicBezTo>
                  <a:pt x="2471337" y="1962150"/>
                  <a:pt x="2343150" y="1833962"/>
                  <a:pt x="2343150" y="1676400"/>
                </a:cubicBezTo>
                <a:cubicBezTo>
                  <a:pt x="2343150" y="1518837"/>
                  <a:pt x="2471337" y="1390650"/>
                  <a:pt x="2628900" y="1390650"/>
                </a:cubicBezTo>
                <a:close/>
                <a:moveTo>
                  <a:pt x="285750" y="1390650"/>
                </a:moveTo>
                <a:cubicBezTo>
                  <a:pt x="338347" y="1390650"/>
                  <a:pt x="381000" y="1433293"/>
                  <a:pt x="381000" y="1485900"/>
                </a:cubicBezTo>
                <a:lnTo>
                  <a:pt x="381000" y="1676400"/>
                </a:lnTo>
                <a:cubicBezTo>
                  <a:pt x="381000" y="1729006"/>
                  <a:pt x="338347" y="1771650"/>
                  <a:pt x="285750" y="1771650"/>
                </a:cubicBezTo>
                <a:cubicBezTo>
                  <a:pt x="233153" y="1771650"/>
                  <a:pt x="190500" y="1729006"/>
                  <a:pt x="190500" y="1676400"/>
                </a:cubicBezTo>
                <a:lnTo>
                  <a:pt x="190500" y="1485900"/>
                </a:lnTo>
                <a:cubicBezTo>
                  <a:pt x="190500" y="1433293"/>
                  <a:pt x="233153" y="1390650"/>
                  <a:pt x="285750" y="1390650"/>
                </a:cubicBezTo>
                <a:close/>
                <a:moveTo>
                  <a:pt x="981075" y="981075"/>
                </a:moveTo>
                <a:lnTo>
                  <a:pt x="981075" y="2594677"/>
                </a:lnTo>
                <a:lnTo>
                  <a:pt x="1705413" y="1893703"/>
                </a:lnTo>
                <a:cubicBezTo>
                  <a:pt x="1742760" y="1857556"/>
                  <a:pt x="1802216" y="1858022"/>
                  <a:pt x="1839001" y="1894799"/>
                </a:cubicBezTo>
                <a:lnTo>
                  <a:pt x="2533650" y="2589447"/>
                </a:lnTo>
                <a:lnTo>
                  <a:pt x="3037789" y="2085289"/>
                </a:lnTo>
                <a:cubicBezTo>
                  <a:pt x="3075003" y="2048094"/>
                  <a:pt x="3135297" y="2048094"/>
                  <a:pt x="3172501" y="2085289"/>
                </a:cubicBezTo>
                <a:lnTo>
                  <a:pt x="3895725" y="2808513"/>
                </a:lnTo>
                <a:lnTo>
                  <a:pt x="3895725" y="981075"/>
                </a:lnTo>
                <a:lnTo>
                  <a:pt x="981075" y="981075"/>
                </a:lnTo>
                <a:close/>
                <a:moveTo>
                  <a:pt x="4591050" y="790575"/>
                </a:moveTo>
                <a:cubicBezTo>
                  <a:pt x="4643647" y="790575"/>
                  <a:pt x="4686300" y="833218"/>
                  <a:pt x="4686300" y="885825"/>
                </a:cubicBezTo>
                <a:lnTo>
                  <a:pt x="4686300" y="1076325"/>
                </a:lnTo>
                <a:cubicBezTo>
                  <a:pt x="4686300" y="1128931"/>
                  <a:pt x="4643647" y="1171575"/>
                  <a:pt x="4591050" y="1171575"/>
                </a:cubicBezTo>
                <a:cubicBezTo>
                  <a:pt x="4538453" y="1171575"/>
                  <a:pt x="4495800" y="1128931"/>
                  <a:pt x="4495800" y="1076325"/>
                </a:cubicBezTo>
                <a:lnTo>
                  <a:pt x="4495800" y="885825"/>
                </a:lnTo>
                <a:cubicBezTo>
                  <a:pt x="4495800" y="833218"/>
                  <a:pt x="4538453" y="790575"/>
                  <a:pt x="4591050" y="790575"/>
                </a:cubicBezTo>
                <a:close/>
                <a:moveTo>
                  <a:pt x="885825" y="790575"/>
                </a:moveTo>
                <a:lnTo>
                  <a:pt x="3990975" y="790575"/>
                </a:lnTo>
                <a:cubicBezTo>
                  <a:pt x="4043572" y="790575"/>
                  <a:pt x="4086225" y="833218"/>
                  <a:pt x="4086225" y="885825"/>
                </a:cubicBezTo>
                <a:lnTo>
                  <a:pt x="4086225" y="3038427"/>
                </a:lnTo>
                <a:cubicBezTo>
                  <a:pt x="4086225" y="3038456"/>
                  <a:pt x="4086225" y="3038494"/>
                  <a:pt x="4086225" y="3038523"/>
                </a:cubicBezTo>
                <a:lnTo>
                  <a:pt x="4086225" y="4019550"/>
                </a:lnTo>
                <a:cubicBezTo>
                  <a:pt x="4086225" y="4072157"/>
                  <a:pt x="4043572" y="4114800"/>
                  <a:pt x="3990975" y="4114800"/>
                </a:cubicBezTo>
                <a:lnTo>
                  <a:pt x="885825" y="4114800"/>
                </a:lnTo>
                <a:cubicBezTo>
                  <a:pt x="833228" y="4114800"/>
                  <a:pt x="790575" y="4072157"/>
                  <a:pt x="790575" y="4019550"/>
                </a:cubicBezTo>
                <a:lnTo>
                  <a:pt x="790575" y="885825"/>
                </a:lnTo>
                <a:cubicBezTo>
                  <a:pt x="790575" y="833218"/>
                  <a:pt x="833228" y="790575"/>
                  <a:pt x="885825" y="790575"/>
                </a:cubicBezTo>
                <a:close/>
                <a:moveTo>
                  <a:pt x="285750" y="790575"/>
                </a:moveTo>
                <a:cubicBezTo>
                  <a:pt x="338347" y="790575"/>
                  <a:pt x="381000" y="833218"/>
                  <a:pt x="381000" y="885825"/>
                </a:cubicBezTo>
                <a:lnTo>
                  <a:pt x="381000" y="1076325"/>
                </a:lnTo>
                <a:cubicBezTo>
                  <a:pt x="381000" y="1128931"/>
                  <a:pt x="338347" y="1171575"/>
                  <a:pt x="285750" y="1171575"/>
                </a:cubicBezTo>
                <a:cubicBezTo>
                  <a:pt x="233153" y="1171575"/>
                  <a:pt x="190500" y="1128931"/>
                  <a:pt x="190500" y="1076325"/>
                </a:cubicBezTo>
                <a:lnTo>
                  <a:pt x="190500" y="885825"/>
                </a:lnTo>
                <a:cubicBezTo>
                  <a:pt x="190500" y="833218"/>
                  <a:pt x="233153" y="790575"/>
                  <a:pt x="285750" y="790575"/>
                </a:cubicBezTo>
                <a:close/>
                <a:moveTo>
                  <a:pt x="4495800" y="190500"/>
                </a:moveTo>
                <a:lnTo>
                  <a:pt x="4495800" y="381000"/>
                </a:lnTo>
                <a:lnTo>
                  <a:pt x="4686300" y="381000"/>
                </a:lnTo>
                <a:lnTo>
                  <a:pt x="4686300" y="190500"/>
                </a:lnTo>
                <a:lnTo>
                  <a:pt x="4495800" y="190500"/>
                </a:lnTo>
                <a:close/>
                <a:moveTo>
                  <a:pt x="3800475" y="190500"/>
                </a:moveTo>
                <a:lnTo>
                  <a:pt x="3990975" y="190500"/>
                </a:lnTo>
                <a:cubicBezTo>
                  <a:pt x="4043572" y="190500"/>
                  <a:pt x="4086225" y="233143"/>
                  <a:pt x="4086225" y="285750"/>
                </a:cubicBezTo>
                <a:cubicBezTo>
                  <a:pt x="4086225" y="338356"/>
                  <a:pt x="4043572" y="381000"/>
                  <a:pt x="3990975" y="381000"/>
                </a:cubicBezTo>
                <a:lnTo>
                  <a:pt x="3800475" y="381000"/>
                </a:lnTo>
                <a:cubicBezTo>
                  <a:pt x="3747878" y="381000"/>
                  <a:pt x="3705225" y="338356"/>
                  <a:pt x="3705225" y="285750"/>
                </a:cubicBezTo>
                <a:cubicBezTo>
                  <a:pt x="3705225" y="233143"/>
                  <a:pt x="3747878" y="190500"/>
                  <a:pt x="3800475" y="190500"/>
                </a:cubicBezTo>
                <a:close/>
                <a:moveTo>
                  <a:pt x="3200400" y="190500"/>
                </a:moveTo>
                <a:lnTo>
                  <a:pt x="3390900" y="190500"/>
                </a:lnTo>
                <a:cubicBezTo>
                  <a:pt x="3443497" y="190500"/>
                  <a:pt x="3486150" y="233143"/>
                  <a:pt x="3486150" y="285750"/>
                </a:cubicBezTo>
                <a:cubicBezTo>
                  <a:pt x="3486150" y="338356"/>
                  <a:pt x="3443497" y="381000"/>
                  <a:pt x="3390900" y="381000"/>
                </a:cubicBezTo>
                <a:lnTo>
                  <a:pt x="3200400" y="381000"/>
                </a:lnTo>
                <a:cubicBezTo>
                  <a:pt x="3147803" y="381000"/>
                  <a:pt x="3105150" y="338356"/>
                  <a:pt x="3105150" y="285750"/>
                </a:cubicBezTo>
                <a:cubicBezTo>
                  <a:pt x="3105150" y="233143"/>
                  <a:pt x="3147803" y="190500"/>
                  <a:pt x="3200400" y="190500"/>
                </a:cubicBezTo>
                <a:close/>
                <a:moveTo>
                  <a:pt x="2628900" y="190500"/>
                </a:moveTo>
                <a:lnTo>
                  <a:pt x="2819400" y="190500"/>
                </a:lnTo>
                <a:cubicBezTo>
                  <a:pt x="2871997" y="190500"/>
                  <a:pt x="2914650" y="233143"/>
                  <a:pt x="2914650" y="285750"/>
                </a:cubicBezTo>
                <a:cubicBezTo>
                  <a:pt x="2914650" y="338356"/>
                  <a:pt x="2871997" y="381000"/>
                  <a:pt x="2819400" y="381000"/>
                </a:cubicBezTo>
                <a:lnTo>
                  <a:pt x="2628900" y="381000"/>
                </a:lnTo>
                <a:cubicBezTo>
                  <a:pt x="2576303" y="381000"/>
                  <a:pt x="2533650" y="338356"/>
                  <a:pt x="2533650" y="285750"/>
                </a:cubicBezTo>
                <a:cubicBezTo>
                  <a:pt x="2533650" y="233143"/>
                  <a:pt x="2576303" y="190500"/>
                  <a:pt x="2628900" y="190500"/>
                </a:cubicBezTo>
                <a:close/>
                <a:moveTo>
                  <a:pt x="2057400" y="190500"/>
                </a:moveTo>
                <a:lnTo>
                  <a:pt x="2247900" y="190500"/>
                </a:lnTo>
                <a:cubicBezTo>
                  <a:pt x="2300497" y="190500"/>
                  <a:pt x="2343150" y="233143"/>
                  <a:pt x="2343150" y="285750"/>
                </a:cubicBezTo>
                <a:cubicBezTo>
                  <a:pt x="2343150" y="338356"/>
                  <a:pt x="2300497" y="381000"/>
                  <a:pt x="2247900" y="381000"/>
                </a:cubicBezTo>
                <a:lnTo>
                  <a:pt x="2057400" y="381000"/>
                </a:lnTo>
                <a:cubicBezTo>
                  <a:pt x="2004803" y="381000"/>
                  <a:pt x="1962150" y="338356"/>
                  <a:pt x="1962150" y="285750"/>
                </a:cubicBezTo>
                <a:cubicBezTo>
                  <a:pt x="1962150" y="233143"/>
                  <a:pt x="2004803" y="190500"/>
                  <a:pt x="2057400" y="190500"/>
                </a:cubicBezTo>
                <a:close/>
                <a:moveTo>
                  <a:pt x="1485900" y="190500"/>
                </a:moveTo>
                <a:lnTo>
                  <a:pt x="1676400" y="190500"/>
                </a:lnTo>
                <a:cubicBezTo>
                  <a:pt x="1728997" y="190500"/>
                  <a:pt x="1771650" y="233143"/>
                  <a:pt x="1771650" y="285750"/>
                </a:cubicBezTo>
                <a:cubicBezTo>
                  <a:pt x="1771650" y="338356"/>
                  <a:pt x="1728997" y="381000"/>
                  <a:pt x="1676400" y="381000"/>
                </a:cubicBezTo>
                <a:lnTo>
                  <a:pt x="1485900" y="381000"/>
                </a:lnTo>
                <a:cubicBezTo>
                  <a:pt x="1433303" y="381000"/>
                  <a:pt x="1390650" y="338356"/>
                  <a:pt x="1390650" y="285750"/>
                </a:cubicBezTo>
                <a:cubicBezTo>
                  <a:pt x="1390650" y="233143"/>
                  <a:pt x="1433303" y="190500"/>
                  <a:pt x="1485900" y="190500"/>
                </a:cubicBezTo>
                <a:close/>
                <a:moveTo>
                  <a:pt x="885825" y="190500"/>
                </a:moveTo>
                <a:lnTo>
                  <a:pt x="1076325" y="190500"/>
                </a:lnTo>
                <a:cubicBezTo>
                  <a:pt x="1128922" y="190500"/>
                  <a:pt x="1171575" y="233143"/>
                  <a:pt x="1171575" y="285750"/>
                </a:cubicBezTo>
                <a:cubicBezTo>
                  <a:pt x="1171575" y="338356"/>
                  <a:pt x="1128922" y="381000"/>
                  <a:pt x="1076325" y="381000"/>
                </a:cubicBezTo>
                <a:lnTo>
                  <a:pt x="885825" y="381000"/>
                </a:lnTo>
                <a:cubicBezTo>
                  <a:pt x="833228" y="381000"/>
                  <a:pt x="790575" y="338356"/>
                  <a:pt x="790575" y="285750"/>
                </a:cubicBezTo>
                <a:cubicBezTo>
                  <a:pt x="790575" y="233143"/>
                  <a:pt x="833228" y="190500"/>
                  <a:pt x="885825" y="190500"/>
                </a:cubicBezTo>
                <a:close/>
                <a:moveTo>
                  <a:pt x="190500" y="190500"/>
                </a:moveTo>
                <a:lnTo>
                  <a:pt x="190500" y="381000"/>
                </a:lnTo>
                <a:lnTo>
                  <a:pt x="381000" y="381000"/>
                </a:lnTo>
                <a:lnTo>
                  <a:pt x="381000" y="190500"/>
                </a:lnTo>
                <a:lnTo>
                  <a:pt x="190500" y="190500"/>
                </a:lnTo>
                <a:close/>
                <a:moveTo>
                  <a:pt x="4400550" y="0"/>
                </a:moveTo>
                <a:lnTo>
                  <a:pt x="4781550" y="0"/>
                </a:lnTo>
                <a:cubicBezTo>
                  <a:pt x="4834147" y="0"/>
                  <a:pt x="4876800" y="42643"/>
                  <a:pt x="4876800" y="95250"/>
                </a:cubicBezTo>
                <a:lnTo>
                  <a:pt x="4876800" y="476250"/>
                </a:lnTo>
                <a:cubicBezTo>
                  <a:pt x="4876800" y="528856"/>
                  <a:pt x="4834147" y="571500"/>
                  <a:pt x="4781550" y="571500"/>
                </a:cubicBezTo>
                <a:lnTo>
                  <a:pt x="4400550" y="571500"/>
                </a:lnTo>
                <a:cubicBezTo>
                  <a:pt x="4347953" y="571500"/>
                  <a:pt x="4305300" y="528856"/>
                  <a:pt x="4305300" y="476250"/>
                </a:cubicBezTo>
                <a:lnTo>
                  <a:pt x="4305300" y="95250"/>
                </a:lnTo>
                <a:cubicBezTo>
                  <a:pt x="4305300" y="42643"/>
                  <a:pt x="4347953" y="0"/>
                  <a:pt x="4400550" y="0"/>
                </a:cubicBezTo>
                <a:close/>
                <a:moveTo>
                  <a:pt x="95250" y="0"/>
                </a:moveTo>
                <a:lnTo>
                  <a:pt x="476250" y="0"/>
                </a:lnTo>
                <a:cubicBezTo>
                  <a:pt x="528847" y="0"/>
                  <a:pt x="571500" y="42643"/>
                  <a:pt x="571500" y="95250"/>
                </a:cubicBezTo>
                <a:lnTo>
                  <a:pt x="571500" y="476250"/>
                </a:lnTo>
                <a:cubicBezTo>
                  <a:pt x="571500" y="528856"/>
                  <a:pt x="528847" y="571500"/>
                  <a:pt x="476250" y="571500"/>
                </a:cubicBezTo>
                <a:lnTo>
                  <a:pt x="95250" y="571500"/>
                </a:lnTo>
                <a:cubicBezTo>
                  <a:pt x="42653" y="571500"/>
                  <a:pt x="0" y="528856"/>
                  <a:pt x="0" y="476250"/>
                </a:cubicBezTo>
                <a:lnTo>
                  <a:pt x="0" y="95250"/>
                </a:lnTo>
                <a:cubicBezTo>
                  <a:pt x="0" y="42643"/>
                  <a:pt x="42653" y="0"/>
                  <a:pt x="95250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Freeform: Shape 20"/>
          <p:cNvSpPr/>
          <p:nvPr/>
        </p:nvSpPr>
        <p:spPr>
          <a:xfrm>
            <a:off x="8933040" y="4246560"/>
            <a:ext cx="239400" cy="233280"/>
          </a:xfrm>
          <a:custGeom>
            <a:avLst/>
            <a:gdLst/>
            <a:ahLst/>
            <a:rect l="l" t="t" r="r" b="b"/>
            <a:pathLst>
              <a:path w="4876800" h="4754571">
                <a:moveTo>
                  <a:pt x="503896" y="4155427"/>
                </a:moveTo>
                <a:cubicBezTo>
                  <a:pt x="528280" y="4155427"/>
                  <a:pt x="552664" y="4164711"/>
                  <a:pt x="571286" y="4183280"/>
                </a:cubicBezTo>
                <a:cubicBezTo>
                  <a:pt x="608424" y="4220523"/>
                  <a:pt x="608424" y="4280816"/>
                  <a:pt x="571286" y="4318059"/>
                </a:cubicBezTo>
                <a:cubicBezTo>
                  <a:pt x="534043" y="4355206"/>
                  <a:pt x="473750" y="4355206"/>
                  <a:pt x="436507" y="4318059"/>
                </a:cubicBezTo>
                <a:cubicBezTo>
                  <a:pt x="399360" y="4280816"/>
                  <a:pt x="399360" y="4220523"/>
                  <a:pt x="436507" y="4183280"/>
                </a:cubicBezTo>
                <a:cubicBezTo>
                  <a:pt x="455128" y="4164711"/>
                  <a:pt x="479512" y="4155427"/>
                  <a:pt x="503896" y="4155427"/>
                </a:cubicBezTo>
                <a:close/>
                <a:moveTo>
                  <a:pt x="1278017" y="3367575"/>
                </a:moveTo>
                <a:cubicBezTo>
                  <a:pt x="1302391" y="3367276"/>
                  <a:pt x="1326880" y="3376275"/>
                  <a:pt x="1345707" y="3394639"/>
                </a:cubicBezTo>
                <a:cubicBezTo>
                  <a:pt x="1383340" y="3431386"/>
                  <a:pt x="1384092" y="3491689"/>
                  <a:pt x="1347354" y="3529332"/>
                </a:cubicBezTo>
                <a:lnTo>
                  <a:pt x="841482" y="4047778"/>
                </a:lnTo>
                <a:cubicBezTo>
                  <a:pt x="822822" y="4066914"/>
                  <a:pt x="798076" y="4076515"/>
                  <a:pt x="773302" y="4076515"/>
                </a:cubicBezTo>
                <a:cubicBezTo>
                  <a:pt x="749318" y="4076515"/>
                  <a:pt x="725315" y="4067504"/>
                  <a:pt x="706789" y="4049435"/>
                </a:cubicBezTo>
                <a:cubicBezTo>
                  <a:pt x="669146" y="4012688"/>
                  <a:pt x="668403" y="3952385"/>
                  <a:pt x="705141" y="3914742"/>
                </a:cubicBezTo>
                <a:lnTo>
                  <a:pt x="1211014" y="3396296"/>
                </a:lnTo>
                <a:cubicBezTo>
                  <a:pt x="1229382" y="3377470"/>
                  <a:pt x="1253642" y="3367874"/>
                  <a:pt x="1278017" y="3367575"/>
                </a:cubicBezTo>
                <a:close/>
                <a:moveTo>
                  <a:pt x="1410371" y="2920399"/>
                </a:moveTo>
                <a:lnTo>
                  <a:pt x="321664" y="3895426"/>
                </a:lnTo>
                <a:cubicBezTo>
                  <a:pt x="321559" y="3895521"/>
                  <a:pt x="321454" y="3895588"/>
                  <a:pt x="321349" y="3895683"/>
                </a:cubicBezTo>
                <a:cubicBezTo>
                  <a:pt x="321254" y="3895769"/>
                  <a:pt x="321168" y="3895864"/>
                  <a:pt x="321073" y="3895950"/>
                </a:cubicBezTo>
                <a:cubicBezTo>
                  <a:pt x="314034" y="3902160"/>
                  <a:pt x="307738" y="3908047"/>
                  <a:pt x="301823" y="3913952"/>
                </a:cubicBezTo>
                <a:cubicBezTo>
                  <a:pt x="153290" y="4062475"/>
                  <a:pt x="153290" y="4304182"/>
                  <a:pt x="301842" y="4452734"/>
                </a:cubicBezTo>
                <a:cubicBezTo>
                  <a:pt x="373632" y="4524533"/>
                  <a:pt x="469301" y="4564062"/>
                  <a:pt x="571238" y="4564062"/>
                </a:cubicBezTo>
                <a:cubicBezTo>
                  <a:pt x="673174" y="4564062"/>
                  <a:pt x="768844" y="4524533"/>
                  <a:pt x="840643" y="4452734"/>
                </a:cubicBezTo>
                <a:cubicBezTo>
                  <a:pt x="846434" y="4446952"/>
                  <a:pt x="852244" y="4440732"/>
                  <a:pt x="858426" y="4433731"/>
                </a:cubicBezTo>
                <a:lnTo>
                  <a:pt x="1822432" y="3332460"/>
                </a:lnTo>
                <a:lnTo>
                  <a:pt x="1410371" y="2920399"/>
                </a:lnTo>
                <a:close/>
                <a:moveTo>
                  <a:pt x="4646843" y="1616493"/>
                </a:moveTo>
                <a:cubicBezTo>
                  <a:pt x="4671220" y="1616493"/>
                  <a:pt x="4695596" y="1625789"/>
                  <a:pt x="4714194" y="1644382"/>
                </a:cubicBezTo>
                <a:cubicBezTo>
                  <a:pt x="4751389" y="1681587"/>
                  <a:pt x="4751389" y="1741899"/>
                  <a:pt x="4714194" y="1779094"/>
                </a:cubicBezTo>
                <a:lnTo>
                  <a:pt x="4579511" y="1913778"/>
                </a:lnTo>
                <a:cubicBezTo>
                  <a:pt x="4560918" y="1932370"/>
                  <a:pt x="4536534" y="1941676"/>
                  <a:pt x="4512160" y="1941676"/>
                </a:cubicBezTo>
                <a:cubicBezTo>
                  <a:pt x="4487785" y="1941676"/>
                  <a:pt x="4463410" y="1932370"/>
                  <a:pt x="4444808" y="1913778"/>
                </a:cubicBezTo>
                <a:cubicBezTo>
                  <a:pt x="4407613" y="1876573"/>
                  <a:pt x="4407613" y="1816261"/>
                  <a:pt x="4444808" y="1779066"/>
                </a:cubicBezTo>
                <a:lnTo>
                  <a:pt x="4579492" y="1644382"/>
                </a:lnTo>
                <a:cubicBezTo>
                  <a:pt x="4598090" y="1625789"/>
                  <a:pt x="4622466" y="1616493"/>
                  <a:pt x="4646843" y="1616493"/>
                </a:cubicBezTo>
                <a:close/>
                <a:moveTo>
                  <a:pt x="1413934" y="1576965"/>
                </a:moveTo>
                <a:lnTo>
                  <a:pt x="1346506" y="1644344"/>
                </a:lnTo>
                <a:cubicBezTo>
                  <a:pt x="1235159" y="1755758"/>
                  <a:pt x="1235149" y="1937067"/>
                  <a:pt x="1346535" y="2048443"/>
                </a:cubicBezTo>
                <a:lnTo>
                  <a:pt x="1615997" y="2317905"/>
                </a:lnTo>
                <a:cubicBezTo>
                  <a:pt x="1669956" y="2371873"/>
                  <a:pt x="1699684" y="2443625"/>
                  <a:pt x="1699684" y="2519940"/>
                </a:cubicBezTo>
                <a:cubicBezTo>
                  <a:pt x="1699684" y="2596254"/>
                  <a:pt x="1669966" y="2668006"/>
                  <a:pt x="1615997" y="2721984"/>
                </a:cubicBezTo>
                <a:lnTo>
                  <a:pt x="1548674" y="2789307"/>
                </a:lnTo>
                <a:lnTo>
                  <a:pt x="1952791" y="3193424"/>
                </a:lnTo>
                <a:lnTo>
                  <a:pt x="2020124" y="3126092"/>
                </a:lnTo>
                <a:cubicBezTo>
                  <a:pt x="2131528" y="3014706"/>
                  <a:pt x="2312798" y="3014697"/>
                  <a:pt x="2424193" y="3126092"/>
                </a:cubicBezTo>
                <a:lnTo>
                  <a:pt x="2693646" y="3395449"/>
                </a:lnTo>
                <a:cubicBezTo>
                  <a:pt x="2747643" y="3449484"/>
                  <a:pt x="2819376" y="3479221"/>
                  <a:pt x="2895671" y="3479221"/>
                </a:cubicBezTo>
                <a:cubicBezTo>
                  <a:pt x="2971967" y="3479221"/>
                  <a:pt x="3043709" y="3449484"/>
                  <a:pt x="3097668" y="3395487"/>
                </a:cubicBezTo>
                <a:lnTo>
                  <a:pt x="3165086" y="3328117"/>
                </a:lnTo>
                <a:lnTo>
                  <a:pt x="1413934" y="1576965"/>
                </a:lnTo>
                <a:close/>
                <a:moveTo>
                  <a:pt x="4512173" y="942970"/>
                </a:moveTo>
                <a:cubicBezTo>
                  <a:pt x="4536549" y="942971"/>
                  <a:pt x="4560924" y="952272"/>
                  <a:pt x="4579521" y="970879"/>
                </a:cubicBezTo>
                <a:cubicBezTo>
                  <a:pt x="4616706" y="1008093"/>
                  <a:pt x="4616706" y="1068396"/>
                  <a:pt x="4579511" y="1105591"/>
                </a:cubicBezTo>
                <a:lnTo>
                  <a:pt x="4175365" y="1509642"/>
                </a:lnTo>
                <a:cubicBezTo>
                  <a:pt x="4156773" y="1528225"/>
                  <a:pt x="4132398" y="1537531"/>
                  <a:pt x="4108024" y="1537531"/>
                </a:cubicBezTo>
                <a:cubicBezTo>
                  <a:pt x="4083640" y="1537531"/>
                  <a:pt x="4059265" y="1528225"/>
                  <a:pt x="4040663" y="1509623"/>
                </a:cubicBezTo>
                <a:cubicBezTo>
                  <a:pt x="4003468" y="1472408"/>
                  <a:pt x="4003468" y="1412106"/>
                  <a:pt x="4040672" y="1374911"/>
                </a:cubicBezTo>
                <a:lnTo>
                  <a:pt x="4444818" y="970860"/>
                </a:lnTo>
                <a:cubicBezTo>
                  <a:pt x="4463420" y="952267"/>
                  <a:pt x="4487797" y="942969"/>
                  <a:pt x="4512173" y="942970"/>
                </a:cubicBezTo>
                <a:close/>
                <a:moveTo>
                  <a:pt x="4781527" y="673556"/>
                </a:moveTo>
                <a:cubicBezTo>
                  <a:pt x="4805910" y="673556"/>
                  <a:pt x="4830295" y="682842"/>
                  <a:pt x="4848868" y="701416"/>
                </a:cubicBezTo>
                <a:cubicBezTo>
                  <a:pt x="4886111" y="738659"/>
                  <a:pt x="4886111" y="798952"/>
                  <a:pt x="4848868" y="836100"/>
                </a:cubicBezTo>
                <a:cubicBezTo>
                  <a:pt x="4811721" y="873343"/>
                  <a:pt x="4751332" y="873343"/>
                  <a:pt x="4714185" y="836100"/>
                </a:cubicBezTo>
                <a:cubicBezTo>
                  <a:pt x="4676942" y="798952"/>
                  <a:pt x="4676942" y="738659"/>
                  <a:pt x="4714185" y="701416"/>
                </a:cubicBezTo>
                <a:cubicBezTo>
                  <a:pt x="4732758" y="682842"/>
                  <a:pt x="4757142" y="673556"/>
                  <a:pt x="4781527" y="673556"/>
                </a:cubicBezTo>
                <a:close/>
                <a:moveTo>
                  <a:pt x="2491516" y="499420"/>
                </a:moveTo>
                <a:lnTo>
                  <a:pt x="1548665" y="1442272"/>
                </a:lnTo>
                <a:lnTo>
                  <a:pt x="3299826" y="3193433"/>
                </a:lnTo>
                <a:lnTo>
                  <a:pt x="4242687" y="2250573"/>
                </a:lnTo>
                <a:lnTo>
                  <a:pt x="4040672" y="2048557"/>
                </a:lnTo>
                <a:lnTo>
                  <a:pt x="3569193" y="2519949"/>
                </a:lnTo>
                <a:cubicBezTo>
                  <a:pt x="3550601" y="2538542"/>
                  <a:pt x="3526226" y="2547848"/>
                  <a:pt x="3501852" y="2547848"/>
                </a:cubicBezTo>
                <a:cubicBezTo>
                  <a:pt x="3477468" y="2547848"/>
                  <a:pt x="3453093" y="2538542"/>
                  <a:pt x="3434491" y="2519940"/>
                </a:cubicBezTo>
                <a:cubicBezTo>
                  <a:pt x="3397296" y="2482735"/>
                  <a:pt x="3397296" y="2422423"/>
                  <a:pt x="3434501" y="2385237"/>
                </a:cubicBezTo>
                <a:lnTo>
                  <a:pt x="3905960" y="1913854"/>
                </a:lnTo>
                <a:lnTo>
                  <a:pt x="3636516" y="1644411"/>
                </a:lnTo>
                <a:lnTo>
                  <a:pt x="3165048" y="2115803"/>
                </a:lnTo>
                <a:cubicBezTo>
                  <a:pt x="3146455" y="2134396"/>
                  <a:pt x="3122081" y="2143702"/>
                  <a:pt x="3097706" y="2143702"/>
                </a:cubicBezTo>
                <a:cubicBezTo>
                  <a:pt x="3073322" y="2143702"/>
                  <a:pt x="3048948" y="2134396"/>
                  <a:pt x="3030345" y="2115794"/>
                </a:cubicBezTo>
                <a:cubicBezTo>
                  <a:pt x="2993150" y="2078589"/>
                  <a:pt x="2993150" y="2018277"/>
                  <a:pt x="3030355" y="1981091"/>
                </a:cubicBezTo>
                <a:lnTo>
                  <a:pt x="3501814" y="1509708"/>
                </a:lnTo>
                <a:lnTo>
                  <a:pt x="3232466" y="1240360"/>
                </a:lnTo>
                <a:lnTo>
                  <a:pt x="2760988" y="1711753"/>
                </a:lnTo>
                <a:cubicBezTo>
                  <a:pt x="2742395" y="1730346"/>
                  <a:pt x="2718020" y="1739652"/>
                  <a:pt x="2693646" y="1739652"/>
                </a:cubicBezTo>
                <a:cubicBezTo>
                  <a:pt x="2669262" y="1739652"/>
                  <a:pt x="2644888" y="1730346"/>
                  <a:pt x="2626285" y="1711743"/>
                </a:cubicBezTo>
                <a:cubicBezTo>
                  <a:pt x="2589090" y="1674539"/>
                  <a:pt x="2589090" y="1614226"/>
                  <a:pt x="2626295" y="1577041"/>
                </a:cubicBezTo>
                <a:lnTo>
                  <a:pt x="3097763" y="1105658"/>
                </a:lnTo>
                <a:lnTo>
                  <a:pt x="2828320" y="836215"/>
                </a:lnTo>
                <a:lnTo>
                  <a:pt x="2356842" y="1307607"/>
                </a:lnTo>
                <a:cubicBezTo>
                  <a:pt x="2338249" y="1326200"/>
                  <a:pt x="2313875" y="1335506"/>
                  <a:pt x="2289500" y="1335506"/>
                </a:cubicBezTo>
                <a:cubicBezTo>
                  <a:pt x="2265116" y="1335506"/>
                  <a:pt x="2240742" y="1326200"/>
                  <a:pt x="2222139" y="1307598"/>
                </a:cubicBezTo>
                <a:cubicBezTo>
                  <a:pt x="2184944" y="1270393"/>
                  <a:pt x="2184944" y="1210080"/>
                  <a:pt x="2222149" y="1172895"/>
                </a:cubicBezTo>
                <a:lnTo>
                  <a:pt x="2693608" y="701512"/>
                </a:lnTo>
                <a:lnTo>
                  <a:pt x="2491516" y="499420"/>
                </a:lnTo>
                <a:close/>
                <a:moveTo>
                  <a:pt x="4242695" y="404150"/>
                </a:moveTo>
                <a:cubicBezTo>
                  <a:pt x="4267073" y="404150"/>
                  <a:pt x="4291450" y="413447"/>
                  <a:pt x="4310048" y="432040"/>
                </a:cubicBezTo>
                <a:cubicBezTo>
                  <a:pt x="4347243" y="469245"/>
                  <a:pt x="4347243" y="529557"/>
                  <a:pt x="4310048" y="566752"/>
                </a:cubicBezTo>
                <a:lnTo>
                  <a:pt x="3771219" y="1105581"/>
                </a:lnTo>
                <a:cubicBezTo>
                  <a:pt x="3752626" y="1124174"/>
                  <a:pt x="3728242" y="1133480"/>
                  <a:pt x="3703867" y="1133480"/>
                </a:cubicBezTo>
                <a:cubicBezTo>
                  <a:pt x="3679493" y="1133480"/>
                  <a:pt x="3655119" y="1124174"/>
                  <a:pt x="3636516" y="1105581"/>
                </a:cubicBezTo>
                <a:cubicBezTo>
                  <a:pt x="3599321" y="1068386"/>
                  <a:pt x="3599321" y="1008064"/>
                  <a:pt x="3636507" y="970869"/>
                </a:cubicBezTo>
                <a:lnTo>
                  <a:pt x="4175336" y="432040"/>
                </a:lnTo>
                <a:cubicBezTo>
                  <a:pt x="4193938" y="413447"/>
                  <a:pt x="4218317" y="404150"/>
                  <a:pt x="4242695" y="404150"/>
                </a:cubicBezTo>
                <a:close/>
                <a:moveTo>
                  <a:pt x="2491535" y="269468"/>
                </a:moveTo>
                <a:cubicBezTo>
                  <a:pt x="2516795" y="269468"/>
                  <a:pt x="2541027" y="279507"/>
                  <a:pt x="2558886" y="297366"/>
                </a:cubicBezTo>
                <a:lnTo>
                  <a:pt x="2894976" y="633456"/>
                </a:lnTo>
                <a:cubicBezTo>
                  <a:pt x="2895443" y="633913"/>
                  <a:pt x="2895900" y="634370"/>
                  <a:pt x="2896348" y="634828"/>
                </a:cubicBezTo>
                <a:lnTo>
                  <a:pt x="3299112" y="1037592"/>
                </a:lnTo>
                <a:cubicBezTo>
                  <a:pt x="3299579" y="1038050"/>
                  <a:pt x="3300046" y="1038516"/>
                  <a:pt x="3300503" y="1038983"/>
                </a:cubicBezTo>
                <a:lnTo>
                  <a:pt x="3703153" y="1441633"/>
                </a:lnTo>
                <a:cubicBezTo>
                  <a:pt x="3703629" y="1442100"/>
                  <a:pt x="3704096" y="1442567"/>
                  <a:pt x="3704563" y="1443043"/>
                </a:cubicBezTo>
                <a:lnTo>
                  <a:pt x="4107242" y="1845722"/>
                </a:lnTo>
                <a:cubicBezTo>
                  <a:pt x="4107756" y="1846227"/>
                  <a:pt x="4108261" y="1846732"/>
                  <a:pt x="4108766" y="1847246"/>
                </a:cubicBezTo>
                <a:lnTo>
                  <a:pt x="4444732" y="2183202"/>
                </a:lnTo>
                <a:cubicBezTo>
                  <a:pt x="4481917" y="2220407"/>
                  <a:pt x="4481917" y="2280719"/>
                  <a:pt x="4444722" y="2317914"/>
                </a:cubicBezTo>
                <a:lnTo>
                  <a:pt x="3367168" y="3395478"/>
                </a:lnTo>
                <a:lnTo>
                  <a:pt x="3232361" y="3530180"/>
                </a:lnTo>
                <a:cubicBezTo>
                  <a:pt x="3142454" y="3620144"/>
                  <a:pt x="3022858" y="3669712"/>
                  <a:pt x="2895662" y="3669712"/>
                </a:cubicBezTo>
                <a:cubicBezTo>
                  <a:pt x="2768465" y="3669712"/>
                  <a:pt x="2648869" y="3620144"/>
                  <a:pt x="2558925" y="3530132"/>
                </a:cubicBezTo>
                <a:lnTo>
                  <a:pt x="2289491" y="3260804"/>
                </a:lnTo>
                <a:cubicBezTo>
                  <a:pt x="2252353" y="3223675"/>
                  <a:pt x="2191945" y="3223666"/>
                  <a:pt x="2154817" y="3260794"/>
                </a:cubicBezTo>
                <a:lnTo>
                  <a:pt x="2022362" y="3393258"/>
                </a:lnTo>
                <a:lnTo>
                  <a:pt x="1001749" y="4559214"/>
                </a:lnTo>
                <a:cubicBezTo>
                  <a:pt x="1001711" y="4559261"/>
                  <a:pt x="1001663" y="4559309"/>
                  <a:pt x="1001615" y="4559357"/>
                </a:cubicBezTo>
                <a:cubicBezTo>
                  <a:pt x="1001596" y="4559385"/>
                  <a:pt x="1001577" y="4559414"/>
                  <a:pt x="1001558" y="4559433"/>
                </a:cubicBezTo>
                <a:cubicBezTo>
                  <a:pt x="992614" y="4569586"/>
                  <a:pt x="984032" y="4578759"/>
                  <a:pt x="975317" y="4587465"/>
                </a:cubicBezTo>
                <a:cubicBezTo>
                  <a:pt x="867561" y="4695221"/>
                  <a:pt x="724038" y="4754571"/>
                  <a:pt x="571228" y="4754571"/>
                </a:cubicBezTo>
                <a:cubicBezTo>
                  <a:pt x="418409" y="4754571"/>
                  <a:pt x="274896" y="4695212"/>
                  <a:pt x="167121" y="4587446"/>
                </a:cubicBezTo>
                <a:cubicBezTo>
                  <a:pt x="-55707" y="4364618"/>
                  <a:pt x="-55707" y="4002049"/>
                  <a:pt x="167121" y="3779221"/>
                </a:cubicBezTo>
                <a:cubicBezTo>
                  <a:pt x="175693" y="3770658"/>
                  <a:pt x="184647" y="3762285"/>
                  <a:pt x="194419" y="3753646"/>
                </a:cubicBezTo>
                <a:cubicBezTo>
                  <a:pt x="194467" y="3753608"/>
                  <a:pt x="194505" y="3753560"/>
                  <a:pt x="194553" y="3753522"/>
                </a:cubicBezTo>
                <a:lnTo>
                  <a:pt x="1348411" y="2720136"/>
                </a:lnTo>
                <a:lnTo>
                  <a:pt x="1481295" y="2587262"/>
                </a:lnTo>
                <a:cubicBezTo>
                  <a:pt x="1499278" y="2569279"/>
                  <a:pt x="1509184" y="2545362"/>
                  <a:pt x="1509184" y="2519930"/>
                </a:cubicBezTo>
                <a:cubicBezTo>
                  <a:pt x="1509184" y="2494498"/>
                  <a:pt x="1499278" y="2470600"/>
                  <a:pt x="1481295" y="2452608"/>
                </a:cubicBezTo>
                <a:lnTo>
                  <a:pt x="1211823" y="2183145"/>
                </a:lnTo>
                <a:cubicBezTo>
                  <a:pt x="1026190" y="1997512"/>
                  <a:pt x="1026180" y="1695370"/>
                  <a:pt x="1211804" y="1509632"/>
                </a:cubicBezTo>
                <a:lnTo>
                  <a:pt x="1346630" y="1374892"/>
                </a:lnTo>
                <a:lnTo>
                  <a:pt x="2424184" y="297366"/>
                </a:lnTo>
                <a:cubicBezTo>
                  <a:pt x="2442043" y="279507"/>
                  <a:pt x="2466275" y="269468"/>
                  <a:pt x="2491535" y="269468"/>
                </a:cubicBezTo>
                <a:close/>
                <a:moveTo>
                  <a:pt x="3569183" y="269467"/>
                </a:moveTo>
                <a:cubicBezTo>
                  <a:pt x="3593561" y="269467"/>
                  <a:pt x="3617937" y="278764"/>
                  <a:pt x="3636535" y="297357"/>
                </a:cubicBezTo>
                <a:cubicBezTo>
                  <a:pt x="3673730" y="334562"/>
                  <a:pt x="3673730" y="394874"/>
                  <a:pt x="3636535" y="432069"/>
                </a:cubicBezTo>
                <a:lnTo>
                  <a:pt x="3367168" y="701436"/>
                </a:lnTo>
                <a:cubicBezTo>
                  <a:pt x="3348575" y="720029"/>
                  <a:pt x="3324191" y="729335"/>
                  <a:pt x="3299817" y="729335"/>
                </a:cubicBezTo>
                <a:cubicBezTo>
                  <a:pt x="3275442" y="729335"/>
                  <a:pt x="3251068" y="720029"/>
                  <a:pt x="3232456" y="701436"/>
                </a:cubicBezTo>
                <a:cubicBezTo>
                  <a:pt x="3195261" y="664231"/>
                  <a:pt x="3195261" y="603919"/>
                  <a:pt x="3232456" y="566724"/>
                </a:cubicBezTo>
                <a:lnTo>
                  <a:pt x="3501823" y="297357"/>
                </a:lnTo>
                <a:cubicBezTo>
                  <a:pt x="3520426" y="278764"/>
                  <a:pt x="3544805" y="269467"/>
                  <a:pt x="3569183" y="269467"/>
                </a:cubicBezTo>
                <a:close/>
                <a:moveTo>
                  <a:pt x="4512102" y="134727"/>
                </a:moveTo>
                <a:cubicBezTo>
                  <a:pt x="4536486" y="134727"/>
                  <a:pt x="4560870" y="144013"/>
                  <a:pt x="4579491" y="162587"/>
                </a:cubicBezTo>
                <a:cubicBezTo>
                  <a:pt x="4616648" y="199830"/>
                  <a:pt x="4616648" y="260123"/>
                  <a:pt x="4579491" y="297271"/>
                </a:cubicBezTo>
                <a:cubicBezTo>
                  <a:pt x="4542249" y="334514"/>
                  <a:pt x="4481955" y="334514"/>
                  <a:pt x="4444712" y="297271"/>
                </a:cubicBezTo>
                <a:cubicBezTo>
                  <a:pt x="4407565" y="260123"/>
                  <a:pt x="4407565" y="199830"/>
                  <a:pt x="4444712" y="162587"/>
                </a:cubicBezTo>
                <a:cubicBezTo>
                  <a:pt x="4463334" y="144013"/>
                  <a:pt x="4487718" y="134727"/>
                  <a:pt x="4512102" y="134727"/>
                </a:cubicBezTo>
                <a:close/>
                <a:moveTo>
                  <a:pt x="3838590" y="44"/>
                </a:moveTo>
                <a:cubicBezTo>
                  <a:pt x="3862974" y="44"/>
                  <a:pt x="3887358" y="9330"/>
                  <a:pt x="3905979" y="27904"/>
                </a:cubicBezTo>
                <a:cubicBezTo>
                  <a:pt x="3943136" y="65147"/>
                  <a:pt x="3943136" y="125440"/>
                  <a:pt x="3905979" y="162588"/>
                </a:cubicBezTo>
                <a:cubicBezTo>
                  <a:pt x="3868736" y="199831"/>
                  <a:pt x="3808443" y="199831"/>
                  <a:pt x="3771200" y="162588"/>
                </a:cubicBezTo>
                <a:cubicBezTo>
                  <a:pt x="3734053" y="125440"/>
                  <a:pt x="3734053" y="65147"/>
                  <a:pt x="3771200" y="27904"/>
                </a:cubicBezTo>
                <a:cubicBezTo>
                  <a:pt x="3789822" y="9330"/>
                  <a:pt x="3814206" y="44"/>
                  <a:pt x="3838590" y="44"/>
                </a:cubicBezTo>
                <a:close/>
                <a:moveTo>
                  <a:pt x="3030355" y="0"/>
                </a:moveTo>
                <a:cubicBezTo>
                  <a:pt x="3054732" y="1"/>
                  <a:pt x="3079109" y="9297"/>
                  <a:pt x="3097707" y="27885"/>
                </a:cubicBezTo>
                <a:cubicBezTo>
                  <a:pt x="3134911" y="65090"/>
                  <a:pt x="3134902" y="125402"/>
                  <a:pt x="3097707" y="162597"/>
                </a:cubicBezTo>
                <a:lnTo>
                  <a:pt x="2963023" y="297281"/>
                </a:lnTo>
                <a:cubicBezTo>
                  <a:pt x="2944430" y="315874"/>
                  <a:pt x="2920046" y="325180"/>
                  <a:pt x="2895672" y="325180"/>
                </a:cubicBezTo>
                <a:cubicBezTo>
                  <a:pt x="2871297" y="325180"/>
                  <a:pt x="2846923" y="315883"/>
                  <a:pt x="2828321" y="297281"/>
                </a:cubicBezTo>
                <a:cubicBezTo>
                  <a:pt x="2791116" y="260076"/>
                  <a:pt x="2791126" y="199764"/>
                  <a:pt x="2828321" y="162569"/>
                </a:cubicBezTo>
                <a:lnTo>
                  <a:pt x="2963004" y="27885"/>
                </a:lnTo>
                <a:cubicBezTo>
                  <a:pt x="2981601" y="9292"/>
                  <a:pt x="3005978" y="-2"/>
                  <a:pt x="3030355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TextBox 22"/>
          <p:cNvSpPr/>
          <p:nvPr/>
        </p:nvSpPr>
        <p:spPr>
          <a:xfrm flipH="1">
            <a:off x="5524560" y="2755800"/>
            <a:ext cx="389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consectetur adipiscing elit, sed do eiusmod</a:t>
            </a: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.</a:t>
            </a: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 Lorem ipsum dolor sit amet, consectetur adipiscing elit, sed do eiusmod</a:t>
            </a: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TextBox 23"/>
          <p:cNvSpPr/>
          <p:nvPr/>
        </p:nvSpPr>
        <p:spPr>
          <a:xfrm>
            <a:off x="5530320" y="2336760"/>
            <a:ext cx="23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404040"/>
                </a:solidFill>
                <a:latin typeface="Arial "/>
                <a:ea typeface="Lato"/>
              </a:rPr>
              <a:t>ABOUT OUR COMP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TextBox 24"/>
          <p:cNvSpPr/>
          <p:nvPr/>
        </p:nvSpPr>
        <p:spPr>
          <a:xfrm flipH="1">
            <a:off x="5439600" y="4749840"/>
            <a:ext cx="1112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</a:t>
            </a: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.</a:t>
            </a: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TextBox 25"/>
          <p:cNvSpPr/>
          <p:nvPr/>
        </p:nvSpPr>
        <p:spPr>
          <a:xfrm flipH="1">
            <a:off x="7031160" y="4749840"/>
            <a:ext cx="11080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</a:t>
            </a: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.</a:t>
            </a: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TextBox 26"/>
          <p:cNvSpPr/>
          <p:nvPr/>
        </p:nvSpPr>
        <p:spPr>
          <a:xfrm flipH="1">
            <a:off x="8483040" y="4749840"/>
            <a:ext cx="1136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</a:t>
            </a: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.</a:t>
            </a: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9" name="Group 15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830" name="Rectangle 19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TextBox 20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2" name="Straight Connector 21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TextBox 27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4" name="Group 3"/>
          <p:cNvGrpSpPr/>
          <p:nvPr/>
        </p:nvGrpSpPr>
        <p:grpSpPr>
          <a:xfrm>
            <a:off x="422280" y="1914480"/>
            <a:ext cx="5673600" cy="3105360"/>
            <a:chOff x="422280" y="1914480"/>
            <a:chExt cx="5673600" cy="3105360"/>
          </a:xfrm>
        </p:grpSpPr>
        <p:pic>
          <p:nvPicPr>
            <p:cNvPr id="1835" name="Picture 4" descr=""/>
            <p:cNvPicPr/>
            <p:nvPr/>
          </p:nvPicPr>
          <p:blipFill>
            <a:blip r:embed="rId1"/>
            <a:stretch/>
          </p:blipFill>
          <p:spPr>
            <a:xfrm>
              <a:off x="422280" y="1914480"/>
              <a:ext cx="5673600" cy="31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6" name="Rectangle 5"/>
            <p:cNvSpPr/>
            <p:nvPr/>
          </p:nvSpPr>
          <p:spPr>
            <a:xfrm>
              <a:off x="1209240" y="2054880"/>
              <a:ext cx="4104360" cy="25858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7" name="Rectangle 28"/>
          <p:cNvSpPr/>
          <p:nvPr/>
        </p:nvSpPr>
        <p:spPr>
          <a:xfrm>
            <a:off x="4240080" y="4640400"/>
            <a:ext cx="505080" cy="8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Oval 32"/>
          <p:cNvSpPr/>
          <p:nvPr/>
        </p:nvSpPr>
        <p:spPr>
          <a:xfrm>
            <a:off x="6586560" y="3379680"/>
            <a:ext cx="127080" cy="12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Oval 33"/>
          <p:cNvSpPr/>
          <p:nvPr/>
        </p:nvSpPr>
        <p:spPr>
          <a:xfrm>
            <a:off x="6586560" y="4500720"/>
            <a:ext cx="127080" cy="12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TextBox 34"/>
          <p:cNvSpPr/>
          <p:nvPr/>
        </p:nvSpPr>
        <p:spPr>
          <a:xfrm>
            <a:off x="6594840" y="3427560"/>
            <a:ext cx="145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4040"/>
                </a:solidFill>
                <a:latin typeface="Arial "/>
                <a:ea typeface="Aharoni"/>
              </a:rPr>
              <a:t>SAMPLES T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TextBox 35"/>
          <p:cNvSpPr/>
          <p:nvPr/>
        </p:nvSpPr>
        <p:spPr>
          <a:xfrm flipH="1">
            <a:off x="6586560" y="3676680"/>
            <a:ext cx="38736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consectetur adipiscing elitLorem ipsum dolor sit amet, consectetuR.</a:t>
            </a: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TextBox 36"/>
          <p:cNvSpPr/>
          <p:nvPr/>
        </p:nvSpPr>
        <p:spPr>
          <a:xfrm>
            <a:off x="6594840" y="4548240"/>
            <a:ext cx="145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4040"/>
                </a:solidFill>
                <a:latin typeface="Arial "/>
                <a:ea typeface="Aharoni"/>
              </a:rPr>
              <a:t>SAMPLES T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TextBox 37"/>
          <p:cNvSpPr/>
          <p:nvPr/>
        </p:nvSpPr>
        <p:spPr>
          <a:xfrm flipH="1">
            <a:off x="6586560" y="4799160"/>
            <a:ext cx="38736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consectetur adipiscing elit</a:t>
            </a: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.</a:t>
            </a: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 Lorem ipsum dolor sit amet, consectet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TextBox 25"/>
          <p:cNvSpPr/>
          <p:nvPr/>
        </p:nvSpPr>
        <p:spPr>
          <a:xfrm>
            <a:off x="6607440" y="1528920"/>
            <a:ext cx="4610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Lato"/>
              </a:rPr>
              <a:t>WRITE MESSAG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04040"/>
                </a:solidFill>
                <a:latin typeface="Arial "/>
                <a:ea typeface="Lato"/>
              </a:rPr>
              <a:t>TEAM WORK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TextBox 21"/>
          <p:cNvSpPr/>
          <p:nvPr/>
        </p:nvSpPr>
        <p:spPr>
          <a:xfrm flipH="1">
            <a:off x="6585840" y="2624040"/>
            <a:ext cx="415764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consectetur adipiscing elit</a:t>
            </a: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.</a:t>
            </a: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 Lorem ipsum dolor sit amet, consectetur adipiscing elit</a:t>
            </a: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6" name="Group 24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847" name="Rectangle 26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TextBox 27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TextBox 4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0" name="TextBox 4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1" name="TextBox 4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TextBox 4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Straight Connector 4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4" name="Group 50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855" name="Rectangle 51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TextBox 52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7" name="Straight Connector 53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TextBox 54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2"/>
          <a:stretch/>
        </p:blipFill>
        <p:spPr>
          <a:xfrm>
            <a:off x="1225440" y="2054160"/>
            <a:ext cx="4105440" cy="258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3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Oval 15"/>
          <p:cNvSpPr/>
          <p:nvPr/>
        </p:nvSpPr>
        <p:spPr>
          <a:xfrm>
            <a:off x="1430280" y="4427640"/>
            <a:ext cx="574560" cy="574560"/>
          </a:xfrm>
          <a:prstGeom prst="ellipse">
            <a:avLst/>
          </a:prstGeom>
          <a:solidFill>
            <a:srgbClr val="9dc3e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Oval 16"/>
          <p:cNvSpPr/>
          <p:nvPr/>
        </p:nvSpPr>
        <p:spPr>
          <a:xfrm>
            <a:off x="2962440" y="4427640"/>
            <a:ext cx="574560" cy="574560"/>
          </a:xfrm>
          <a:prstGeom prst="ellipse">
            <a:avLst/>
          </a:prstGeom>
          <a:solidFill>
            <a:srgbClr val="9dc3e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Oval 17"/>
          <p:cNvSpPr/>
          <p:nvPr/>
        </p:nvSpPr>
        <p:spPr>
          <a:xfrm>
            <a:off x="4481640" y="4427640"/>
            <a:ext cx="574560" cy="574560"/>
          </a:xfrm>
          <a:prstGeom prst="ellipse">
            <a:avLst/>
          </a:prstGeom>
          <a:solidFill>
            <a:srgbClr val="9dc3e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Freeform: Shape 18"/>
          <p:cNvSpPr/>
          <p:nvPr/>
        </p:nvSpPr>
        <p:spPr>
          <a:xfrm>
            <a:off x="3132000" y="4595760"/>
            <a:ext cx="239760" cy="238320"/>
          </a:xfrm>
          <a:custGeom>
            <a:avLst/>
            <a:gdLst/>
            <a:ahLst/>
            <a:rect l="l" t="t" r="r" b="b"/>
            <a:pathLst>
              <a:path w="4876642" h="4876800">
                <a:moveTo>
                  <a:pt x="3995486" y="4018149"/>
                </a:moveTo>
                <a:cubicBezTo>
                  <a:pt x="4019853" y="4018148"/>
                  <a:pt x="4044221" y="4027442"/>
                  <a:pt x="4062819" y="4046029"/>
                </a:cubicBezTo>
                <a:cubicBezTo>
                  <a:pt x="4100004" y="4083225"/>
                  <a:pt x="4100004" y="4143527"/>
                  <a:pt x="4062819" y="4180704"/>
                </a:cubicBezTo>
                <a:cubicBezTo>
                  <a:pt x="3675094" y="4568438"/>
                  <a:pt x="3160792" y="4811573"/>
                  <a:pt x="2614666" y="4865341"/>
                </a:cubicBezTo>
                <a:cubicBezTo>
                  <a:pt x="2536856" y="4873000"/>
                  <a:pt x="2458866" y="4876800"/>
                  <a:pt x="2381113" y="4876800"/>
                </a:cubicBezTo>
                <a:cubicBezTo>
                  <a:pt x="1920665" y="4876800"/>
                  <a:pt x="1466494" y="4743850"/>
                  <a:pt x="1081246" y="4493143"/>
                </a:cubicBezTo>
                <a:cubicBezTo>
                  <a:pt x="1037164" y="4464453"/>
                  <a:pt x="1024686" y="4405474"/>
                  <a:pt x="1053366" y="4361393"/>
                </a:cubicBezTo>
                <a:cubicBezTo>
                  <a:pt x="1082065" y="4317311"/>
                  <a:pt x="1141034" y="4304814"/>
                  <a:pt x="1185126" y="4333513"/>
                </a:cubicBezTo>
                <a:cubicBezTo>
                  <a:pt x="2047071" y="4894431"/>
                  <a:pt x="3200663" y="4773530"/>
                  <a:pt x="3928154" y="4046039"/>
                </a:cubicBezTo>
                <a:cubicBezTo>
                  <a:pt x="3946752" y="4027447"/>
                  <a:pt x="3971119" y="4018150"/>
                  <a:pt x="3995486" y="4018149"/>
                </a:cubicBezTo>
                <a:close/>
                <a:moveTo>
                  <a:pt x="763429" y="4018124"/>
                </a:moveTo>
                <a:cubicBezTo>
                  <a:pt x="787804" y="4018124"/>
                  <a:pt x="812179" y="4027432"/>
                  <a:pt x="830748" y="4046049"/>
                </a:cubicBezTo>
                <a:cubicBezTo>
                  <a:pt x="867981" y="4083187"/>
                  <a:pt x="867981" y="4143566"/>
                  <a:pt x="830748" y="4180694"/>
                </a:cubicBezTo>
                <a:cubicBezTo>
                  <a:pt x="793610" y="4217927"/>
                  <a:pt x="733241" y="4217927"/>
                  <a:pt x="696103" y="4180694"/>
                </a:cubicBezTo>
                <a:cubicBezTo>
                  <a:pt x="658869" y="4143556"/>
                  <a:pt x="658869" y="4083187"/>
                  <a:pt x="696103" y="4046049"/>
                </a:cubicBezTo>
                <a:cubicBezTo>
                  <a:pt x="714676" y="4027432"/>
                  <a:pt x="739053" y="4018124"/>
                  <a:pt x="763429" y="4018124"/>
                </a:cubicBezTo>
                <a:close/>
                <a:moveTo>
                  <a:pt x="2966490" y="3085547"/>
                </a:moveTo>
                <a:lnTo>
                  <a:pt x="2610417" y="3837184"/>
                </a:lnTo>
                <a:cubicBezTo>
                  <a:pt x="2652327" y="3841518"/>
                  <a:pt x="2695019" y="3836499"/>
                  <a:pt x="2735862" y="3821916"/>
                </a:cubicBezTo>
                <a:cubicBezTo>
                  <a:pt x="2807766" y="3796246"/>
                  <a:pt x="2865354" y="3744106"/>
                  <a:pt x="2898034" y="3675126"/>
                </a:cubicBezTo>
                <a:lnTo>
                  <a:pt x="3109537" y="3228594"/>
                </a:lnTo>
                <a:lnTo>
                  <a:pt x="2966490" y="3085547"/>
                </a:lnTo>
                <a:close/>
                <a:moveTo>
                  <a:pt x="3773468" y="1826990"/>
                </a:moveTo>
                <a:cubicBezTo>
                  <a:pt x="3715365" y="1846516"/>
                  <a:pt x="3654215" y="1856765"/>
                  <a:pt x="3592188" y="1856765"/>
                </a:cubicBezTo>
                <a:cubicBezTo>
                  <a:pt x="3577957" y="1856765"/>
                  <a:pt x="3563679" y="1856041"/>
                  <a:pt x="3549392" y="1854975"/>
                </a:cubicBezTo>
                <a:lnTo>
                  <a:pt x="3053082" y="2902782"/>
                </a:lnTo>
                <a:lnTo>
                  <a:pt x="3196129" y="3045828"/>
                </a:lnTo>
                <a:lnTo>
                  <a:pt x="3773468" y="1826990"/>
                </a:lnTo>
                <a:close/>
                <a:moveTo>
                  <a:pt x="1649697" y="1768735"/>
                </a:moveTo>
                <a:lnTo>
                  <a:pt x="1203099" y="1980285"/>
                </a:lnTo>
                <a:cubicBezTo>
                  <a:pt x="1134118" y="2012966"/>
                  <a:pt x="1081979" y="2070544"/>
                  <a:pt x="1056309" y="2142411"/>
                </a:cubicBezTo>
                <a:cubicBezTo>
                  <a:pt x="1041716" y="2183254"/>
                  <a:pt x="1036687" y="2225935"/>
                  <a:pt x="1041050" y="2267836"/>
                </a:cubicBezTo>
                <a:lnTo>
                  <a:pt x="1792763" y="1911801"/>
                </a:lnTo>
                <a:lnTo>
                  <a:pt x="1649697" y="1768735"/>
                </a:lnTo>
                <a:close/>
                <a:moveTo>
                  <a:pt x="3069503" y="1517761"/>
                </a:moveTo>
                <a:lnTo>
                  <a:pt x="2118546" y="1968246"/>
                </a:lnTo>
                <a:lnTo>
                  <a:pt x="2446216" y="2295915"/>
                </a:lnTo>
                <a:lnTo>
                  <a:pt x="2580880" y="2161251"/>
                </a:lnTo>
                <a:cubicBezTo>
                  <a:pt x="2618076" y="2124065"/>
                  <a:pt x="2678350" y="2124046"/>
                  <a:pt x="2715554" y="2161213"/>
                </a:cubicBezTo>
                <a:cubicBezTo>
                  <a:pt x="2752749" y="2198398"/>
                  <a:pt x="2752769" y="2258692"/>
                  <a:pt x="2715592" y="2295887"/>
                </a:cubicBezTo>
                <a:lnTo>
                  <a:pt x="2580890" y="2430589"/>
                </a:lnTo>
                <a:lnTo>
                  <a:pt x="2910074" y="2759754"/>
                </a:lnTo>
                <a:lnTo>
                  <a:pt x="3360864" y="1808112"/>
                </a:lnTo>
                <a:cubicBezTo>
                  <a:pt x="3296694" y="1779813"/>
                  <a:pt x="3237953" y="1739751"/>
                  <a:pt x="3187509" y="1689316"/>
                </a:cubicBezTo>
                <a:cubicBezTo>
                  <a:pt x="3137578" y="1639405"/>
                  <a:pt x="3097783" y="1581274"/>
                  <a:pt x="3069503" y="1517761"/>
                </a:cubicBezTo>
                <a:close/>
                <a:moveTo>
                  <a:pt x="3591503" y="1190089"/>
                </a:moveTo>
                <a:cubicBezTo>
                  <a:pt x="3615880" y="1190089"/>
                  <a:pt x="3640256" y="1199373"/>
                  <a:pt x="3658873" y="1217942"/>
                </a:cubicBezTo>
                <a:cubicBezTo>
                  <a:pt x="3696011" y="1255175"/>
                  <a:pt x="3696011" y="1315450"/>
                  <a:pt x="3658873" y="1352683"/>
                </a:cubicBezTo>
                <a:cubicBezTo>
                  <a:pt x="3621640" y="1389821"/>
                  <a:pt x="3561366" y="1389821"/>
                  <a:pt x="3524132" y="1352683"/>
                </a:cubicBezTo>
                <a:cubicBezTo>
                  <a:pt x="3486994" y="1315450"/>
                  <a:pt x="3486994" y="1255175"/>
                  <a:pt x="3524132" y="1217942"/>
                </a:cubicBezTo>
                <a:cubicBezTo>
                  <a:pt x="3542749" y="1199373"/>
                  <a:pt x="3567126" y="1190089"/>
                  <a:pt x="3591503" y="1190089"/>
                </a:cubicBezTo>
                <a:close/>
                <a:moveTo>
                  <a:pt x="3048720" y="1106024"/>
                </a:moveTo>
                <a:lnTo>
                  <a:pt x="1832472" y="1682162"/>
                </a:lnTo>
                <a:lnTo>
                  <a:pt x="1975557" y="1825238"/>
                </a:lnTo>
                <a:lnTo>
                  <a:pt x="3021831" y="1329595"/>
                </a:lnTo>
                <a:cubicBezTo>
                  <a:pt x="3015811" y="1253223"/>
                  <a:pt x="3025145" y="1177347"/>
                  <a:pt x="3048720" y="1106024"/>
                </a:cubicBezTo>
                <a:close/>
                <a:moveTo>
                  <a:pt x="763424" y="786087"/>
                </a:moveTo>
                <a:cubicBezTo>
                  <a:pt x="787792" y="786087"/>
                  <a:pt x="812159" y="795381"/>
                  <a:pt x="830757" y="813969"/>
                </a:cubicBezTo>
                <a:cubicBezTo>
                  <a:pt x="867943" y="851164"/>
                  <a:pt x="867943" y="911467"/>
                  <a:pt x="830757" y="948652"/>
                </a:cubicBezTo>
                <a:cubicBezTo>
                  <a:pt x="103286" y="1676134"/>
                  <a:pt x="-17615" y="2829745"/>
                  <a:pt x="543283" y="3691671"/>
                </a:cubicBezTo>
                <a:cubicBezTo>
                  <a:pt x="571963" y="3735753"/>
                  <a:pt x="559485" y="3794742"/>
                  <a:pt x="515404" y="3823431"/>
                </a:cubicBezTo>
                <a:cubicBezTo>
                  <a:pt x="499373" y="3833870"/>
                  <a:pt x="481361" y="3838852"/>
                  <a:pt x="463559" y="3838852"/>
                </a:cubicBezTo>
                <a:cubicBezTo>
                  <a:pt x="432412" y="3838852"/>
                  <a:pt x="401904" y="3823593"/>
                  <a:pt x="383644" y="3795551"/>
                </a:cubicBezTo>
                <a:cubicBezTo>
                  <a:pt x="90617" y="3345266"/>
                  <a:pt x="-41561" y="2800693"/>
                  <a:pt x="11455" y="2262140"/>
                </a:cubicBezTo>
                <a:cubicBezTo>
                  <a:pt x="65233" y="1716005"/>
                  <a:pt x="308359" y="1201703"/>
                  <a:pt x="696083" y="813969"/>
                </a:cubicBezTo>
                <a:cubicBezTo>
                  <a:pt x="714685" y="795381"/>
                  <a:pt x="739055" y="786087"/>
                  <a:pt x="763424" y="786087"/>
                </a:cubicBezTo>
                <a:close/>
                <a:moveTo>
                  <a:pt x="3726195" y="611962"/>
                </a:moveTo>
                <a:lnTo>
                  <a:pt x="3322163" y="1015993"/>
                </a:lnTo>
                <a:cubicBezTo>
                  <a:pt x="3233152" y="1105014"/>
                  <a:pt x="3194414" y="1230563"/>
                  <a:pt x="3216969" y="1353979"/>
                </a:cubicBezTo>
                <a:cubicBezTo>
                  <a:pt x="3219522" y="1361303"/>
                  <a:pt x="3221056" y="1368761"/>
                  <a:pt x="3221761" y="1376219"/>
                </a:cubicBezTo>
                <a:cubicBezTo>
                  <a:pt x="3238248" y="1443618"/>
                  <a:pt x="3272672" y="1505159"/>
                  <a:pt x="3322154" y="1554661"/>
                </a:cubicBezTo>
                <a:cubicBezTo>
                  <a:pt x="3374675" y="1607153"/>
                  <a:pt x="3440559" y="1642891"/>
                  <a:pt x="3512683" y="1657997"/>
                </a:cubicBezTo>
                <a:cubicBezTo>
                  <a:pt x="3639355" y="1684639"/>
                  <a:pt x="3769467" y="1646015"/>
                  <a:pt x="3860831" y="1554651"/>
                </a:cubicBezTo>
                <a:lnTo>
                  <a:pt x="4264862" y="1150629"/>
                </a:lnTo>
                <a:lnTo>
                  <a:pt x="3726195" y="611962"/>
                </a:lnTo>
                <a:close/>
                <a:moveTo>
                  <a:pt x="4591122" y="190452"/>
                </a:moveTo>
                <a:cubicBezTo>
                  <a:pt x="4565719" y="190452"/>
                  <a:pt x="4541821" y="200358"/>
                  <a:pt x="4523809" y="218370"/>
                </a:cubicBezTo>
                <a:lnTo>
                  <a:pt x="4062837" y="679256"/>
                </a:lnTo>
                <a:lnTo>
                  <a:pt x="4197540" y="813968"/>
                </a:lnTo>
                <a:lnTo>
                  <a:pt x="4658435" y="352996"/>
                </a:lnTo>
                <a:cubicBezTo>
                  <a:pt x="4695554" y="315877"/>
                  <a:pt x="4695554" y="255470"/>
                  <a:pt x="4658435" y="218351"/>
                </a:cubicBezTo>
                <a:cubicBezTo>
                  <a:pt x="4640452" y="200368"/>
                  <a:pt x="4616535" y="190452"/>
                  <a:pt x="4591122" y="190452"/>
                </a:cubicBezTo>
                <a:close/>
                <a:moveTo>
                  <a:pt x="4591122" y="0"/>
                </a:moveTo>
                <a:cubicBezTo>
                  <a:pt x="4667398" y="0"/>
                  <a:pt x="4739131" y="29718"/>
                  <a:pt x="4793109" y="83677"/>
                </a:cubicBezTo>
                <a:cubicBezTo>
                  <a:pt x="4904485" y="195072"/>
                  <a:pt x="4904485" y="376294"/>
                  <a:pt x="4793119" y="487699"/>
                </a:cubicBezTo>
                <a:lnTo>
                  <a:pt x="4332223" y="948671"/>
                </a:lnTo>
                <a:lnTo>
                  <a:pt x="4466869" y="1083316"/>
                </a:lnTo>
                <a:cubicBezTo>
                  <a:pt x="4504054" y="1120511"/>
                  <a:pt x="4504054" y="1180805"/>
                  <a:pt x="4466869" y="1217990"/>
                </a:cubicBezTo>
                <a:lnTo>
                  <a:pt x="4097899" y="1586960"/>
                </a:lnTo>
                <a:lnTo>
                  <a:pt x="3339118" y="3188865"/>
                </a:lnTo>
                <a:lnTo>
                  <a:pt x="3658196" y="3507953"/>
                </a:lnTo>
                <a:cubicBezTo>
                  <a:pt x="3695382" y="3545148"/>
                  <a:pt x="3695382" y="3605441"/>
                  <a:pt x="3658196" y="3642627"/>
                </a:cubicBezTo>
                <a:cubicBezTo>
                  <a:pt x="3639603" y="3661210"/>
                  <a:pt x="3615229" y="3670516"/>
                  <a:pt x="3590864" y="3670516"/>
                </a:cubicBezTo>
                <a:cubicBezTo>
                  <a:pt x="3566499" y="3670516"/>
                  <a:pt x="3542134" y="3661210"/>
                  <a:pt x="3523532" y="3642627"/>
                </a:cubicBezTo>
                <a:lnTo>
                  <a:pt x="3252545" y="3371640"/>
                </a:lnTo>
                <a:lnTo>
                  <a:pt x="3070151" y="3756717"/>
                </a:lnTo>
                <a:cubicBezTo>
                  <a:pt x="2988836" y="3928386"/>
                  <a:pt x="2817424" y="4029046"/>
                  <a:pt x="2639021" y="4029046"/>
                </a:cubicBezTo>
                <a:cubicBezTo>
                  <a:pt x="2601426" y="4029046"/>
                  <a:pt x="2563554" y="4024408"/>
                  <a:pt x="2526121" y="4015197"/>
                </a:cubicBezTo>
                <a:lnTo>
                  <a:pt x="2397753" y="4286164"/>
                </a:lnTo>
                <a:cubicBezTo>
                  <a:pt x="2381474" y="4320550"/>
                  <a:pt x="2347280" y="4340657"/>
                  <a:pt x="2311628" y="4340657"/>
                </a:cubicBezTo>
                <a:cubicBezTo>
                  <a:pt x="2297969" y="4340657"/>
                  <a:pt x="2284100" y="4337704"/>
                  <a:pt x="2270937" y="4331465"/>
                </a:cubicBezTo>
                <a:cubicBezTo>
                  <a:pt x="2223407" y="4308958"/>
                  <a:pt x="2203128" y="4252179"/>
                  <a:pt x="2225636" y="4204649"/>
                </a:cubicBezTo>
                <a:lnTo>
                  <a:pt x="2390390" y="3856853"/>
                </a:lnTo>
                <a:cubicBezTo>
                  <a:pt x="2390466" y="3856701"/>
                  <a:pt x="2390514" y="3856548"/>
                  <a:pt x="2390580" y="3856396"/>
                </a:cubicBezTo>
                <a:cubicBezTo>
                  <a:pt x="2390647" y="3856244"/>
                  <a:pt x="2390733" y="3856110"/>
                  <a:pt x="2390809" y="3855958"/>
                </a:cubicBezTo>
                <a:lnTo>
                  <a:pt x="2823473" y="2942568"/>
                </a:lnTo>
                <a:lnTo>
                  <a:pt x="2446206" y="2565301"/>
                </a:lnTo>
                <a:lnTo>
                  <a:pt x="2311504" y="2700004"/>
                </a:lnTo>
                <a:cubicBezTo>
                  <a:pt x="2292920" y="2718578"/>
                  <a:pt x="2268556" y="2727874"/>
                  <a:pt x="2244191" y="2727874"/>
                </a:cubicBezTo>
                <a:cubicBezTo>
                  <a:pt x="2219816" y="2727874"/>
                  <a:pt x="2195442" y="2718578"/>
                  <a:pt x="2176839" y="2699966"/>
                </a:cubicBezTo>
                <a:cubicBezTo>
                  <a:pt x="2139663" y="2662761"/>
                  <a:pt x="2139682" y="2602468"/>
                  <a:pt x="2176877" y="2565292"/>
                </a:cubicBezTo>
                <a:lnTo>
                  <a:pt x="2311542" y="2430628"/>
                </a:lnTo>
                <a:lnTo>
                  <a:pt x="1935771" y="2054857"/>
                </a:lnTo>
                <a:lnTo>
                  <a:pt x="1021876" y="2487682"/>
                </a:lnTo>
                <a:lnTo>
                  <a:pt x="673632" y="2652617"/>
                </a:lnTo>
                <a:cubicBezTo>
                  <a:pt x="660478" y="2658847"/>
                  <a:pt x="646610" y="2661799"/>
                  <a:pt x="632942" y="2661799"/>
                </a:cubicBezTo>
                <a:cubicBezTo>
                  <a:pt x="597280" y="2661799"/>
                  <a:pt x="563095" y="2641673"/>
                  <a:pt x="546807" y="2607307"/>
                </a:cubicBezTo>
                <a:cubicBezTo>
                  <a:pt x="524309" y="2559777"/>
                  <a:pt x="544588" y="2502989"/>
                  <a:pt x="592117" y="2480481"/>
                </a:cubicBezTo>
                <a:lnTo>
                  <a:pt x="862885" y="2352237"/>
                </a:lnTo>
                <a:cubicBezTo>
                  <a:pt x="840558" y="2262244"/>
                  <a:pt x="845063" y="2167671"/>
                  <a:pt x="876963" y="2078364"/>
                </a:cubicBezTo>
                <a:cubicBezTo>
                  <a:pt x="919739" y="1958597"/>
                  <a:pt x="1006617" y="1862652"/>
                  <a:pt x="1121574" y="1808188"/>
                </a:cubicBezTo>
                <a:lnTo>
                  <a:pt x="1506708" y="1625755"/>
                </a:lnTo>
                <a:lnTo>
                  <a:pt x="1234226" y="1353274"/>
                </a:lnTo>
                <a:cubicBezTo>
                  <a:pt x="1197041" y="1316079"/>
                  <a:pt x="1197041" y="1255785"/>
                  <a:pt x="1234226" y="1218600"/>
                </a:cubicBezTo>
                <a:cubicBezTo>
                  <a:pt x="1271431" y="1181424"/>
                  <a:pt x="1331705" y="1181424"/>
                  <a:pt x="1368900" y="1218600"/>
                </a:cubicBezTo>
                <a:lnTo>
                  <a:pt x="1689464" y="1539164"/>
                </a:lnTo>
                <a:lnTo>
                  <a:pt x="3285797" y="782993"/>
                </a:lnTo>
                <a:lnTo>
                  <a:pt x="3658844" y="409946"/>
                </a:lnTo>
                <a:cubicBezTo>
                  <a:pt x="3696048" y="372770"/>
                  <a:pt x="3756322" y="372770"/>
                  <a:pt x="3793518" y="409946"/>
                </a:cubicBezTo>
                <a:lnTo>
                  <a:pt x="3928163" y="544592"/>
                </a:lnTo>
                <a:lnTo>
                  <a:pt x="4389144" y="83686"/>
                </a:lnTo>
                <a:cubicBezTo>
                  <a:pt x="4443123" y="29718"/>
                  <a:pt x="4514846" y="0"/>
                  <a:pt x="4591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Freeform: Shape 19"/>
          <p:cNvSpPr/>
          <p:nvPr/>
        </p:nvSpPr>
        <p:spPr>
          <a:xfrm>
            <a:off x="1598760" y="4595760"/>
            <a:ext cx="239400" cy="238320"/>
          </a:xfrm>
          <a:custGeom>
            <a:avLst/>
            <a:gdLst/>
            <a:ahLst/>
            <a:rect l="l" t="t" r="r" b="b"/>
            <a:pathLst>
              <a:path w="4876800" h="4876800">
                <a:moveTo>
                  <a:pt x="4495800" y="4495800"/>
                </a:moveTo>
                <a:lnTo>
                  <a:pt x="4495800" y="4686300"/>
                </a:lnTo>
                <a:lnTo>
                  <a:pt x="4686300" y="4686300"/>
                </a:lnTo>
                <a:lnTo>
                  <a:pt x="4686300" y="4495800"/>
                </a:lnTo>
                <a:lnTo>
                  <a:pt x="4495800" y="4495800"/>
                </a:lnTo>
                <a:close/>
                <a:moveTo>
                  <a:pt x="3800475" y="4495800"/>
                </a:moveTo>
                <a:lnTo>
                  <a:pt x="3990975" y="4495800"/>
                </a:lnTo>
                <a:cubicBezTo>
                  <a:pt x="4043572" y="4495800"/>
                  <a:pt x="4086225" y="4538443"/>
                  <a:pt x="4086225" y="4591050"/>
                </a:cubicBezTo>
                <a:cubicBezTo>
                  <a:pt x="4086225" y="4643656"/>
                  <a:pt x="4043572" y="4686300"/>
                  <a:pt x="3990975" y="4686300"/>
                </a:cubicBezTo>
                <a:lnTo>
                  <a:pt x="3800475" y="4686300"/>
                </a:lnTo>
                <a:cubicBezTo>
                  <a:pt x="3747878" y="4686300"/>
                  <a:pt x="3705225" y="4643656"/>
                  <a:pt x="3705225" y="4591050"/>
                </a:cubicBezTo>
                <a:cubicBezTo>
                  <a:pt x="3705225" y="4538443"/>
                  <a:pt x="3747878" y="4495800"/>
                  <a:pt x="3800475" y="4495800"/>
                </a:cubicBezTo>
                <a:close/>
                <a:moveTo>
                  <a:pt x="3200400" y="4495800"/>
                </a:moveTo>
                <a:lnTo>
                  <a:pt x="3390900" y="4495800"/>
                </a:lnTo>
                <a:cubicBezTo>
                  <a:pt x="3443497" y="4495800"/>
                  <a:pt x="3486150" y="4538443"/>
                  <a:pt x="3486150" y="4591050"/>
                </a:cubicBezTo>
                <a:cubicBezTo>
                  <a:pt x="3486150" y="4643656"/>
                  <a:pt x="3443497" y="4686300"/>
                  <a:pt x="3390900" y="4686300"/>
                </a:cubicBezTo>
                <a:lnTo>
                  <a:pt x="3200400" y="4686300"/>
                </a:lnTo>
                <a:cubicBezTo>
                  <a:pt x="3147803" y="4686300"/>
                  <a:pt x="3105150" y="4643656"/>
                  <a:pt x="3105150" y="4591050"/>
                </a:cubicBezTo>
                <a:cubicBezTo>
                  <a:pt x="3105150" y="4538443"/>
                  <a:pt x="3147803" y="4495800"/>
                  <a:pt x="3200400" y="4495800"/>
                </a:cubicBezTo>
                <a:close/>
                <a:moveTo>
                  <a:pt x="2628900" y="4495800"/>
                </a:moveTo>
                <a:lnTo>
                  <a:pt x="2819400" y="4495800"/>
                </a:lnTo>
                <a:cubicBezTo>
                  <a:pt x="2871997" y="4495800"/>
                  <a:pt x="2914650" y="4538443"/>
                  <a:pt x="2914650" y="4591050"/>
                </a:cubicBezTo>
                <a:cubicBezTo>
                  <a:pt x="2914650" y="4643656"/>
                  <a:pt x="2871997" y="4686300"/>
                  <a:pt x="2819400" y="4686300"/>
                </a:cubicBezTo>
                <a:lnTo>
                  <a:pt x="2628900" y="4686300"/>
                </a:lnTo>
                <a:cubicBezTo>
                  <a:pt x="2576303" y="4686300"/>
                  <a:pt x="2533650" y="4643656"/>
                  <a:pt x="2533650" y="4591050"/>
                </a:cubicBezTo>
                <a:cubicBezTo>
                  <a:pt x="2533650" y="4538443"/>
                  <a:pt x="2576303" y="4495800"/>
                  <a:pt x="2628900" y="4495800"/>
                </a:cubicBezTo>
                <a:close/>
                <a:moveTo>
                  <a:pt x="2057400" y="4495800"/>
                </a:moveTo>
                <a:lnTo>
                  <a:pt x="2247900" y="4495800"/>
                </a:lnTo>
                <a:cubicBezTo>
                  <a:pt x="2300497" y="4495800"/>
                  <a:pt x="2343150" y="4538443"/>
                  <a:pt x="2343150" y="4591050"/>
                </a:cubicBezTo>
                <a:cubicBezTo>
                  <a:pt x="2343150" y="4643656"/>
                  <a:pt x="2300497" y="4686300"/>
                  <a:pt x="2247900" y="4686300"/>
                </a:cubicBezTo>
                <a:lnTo>
                  <a:pt x="2057400" y="4686300"/>
                </a:lnTo>
                <a:cubicBezTo>
                  <a:pt x="2004803" y="4686300"/>
                  <a:pt x="1962150" y="4643656"/>
                  <a:pt x="1962150" y="4591050"/>
                </a:cubicBezTo>
                <a:cubicBezTo>
                  <a:pt x="1962150" y="4538443"/>
                  <a:pt x="2004803" y="4495800"/>
                  <a:pt x="2057400" y="4495800"/>
                </a:cubicBezTo>
                <a:close/>
                <a:moveTo>
                  <a:pt x="1485900" y="4495800"/>
                </a:moveTo>
                <a:lnTo>
                  <a:pt x="1676400" y="4495800"/>
                </a:lnTo>
                <a:cubicBezTo>
                  <a:pt x="1728997" y="4495800"/>
                  <a:pt x="1771650" y="4538443"/>
                  <a:pt x="1771650" y="4591050"/>
                </a:cubicBezTo>
                <a:cubicBezTo>
                  <a:pt x="1771650" y="4643656"/>
                  <a:pt x="1728997" y="4686300"/>
                  <a:pt x="1676400" y="4686300"/>
                </a:cubicBezTo>
                <a:lnTo>
                  <a:pt x="1485900" y="4686300"/>
                </a:lnTo>
                <a:cubicBezTo>
                  <a:pt x="1433303" y="4686300"/>
                  <a:pt x="1390650" y="4643656"/>
                  <a:pt x="1390650" y="4591050"/>
                </a:cubicBezTo>
                <a:cubicBezTo>
                  <a:pt x="1390650" y="4538443"/>
                  <a:pt x="1433303" y="4495800"/>
                  <a:pt x="1485900" y="4495800"/>
                </a:cubicBezTo>
                <a:close/>
                <a:moveTo>
                  <a:pt x="885825" y="4495800"/>
                </a:moveTo>
                <a:lnTo>
                  <a:pt x="1076325" y="4495800"/>
                </a:lnTo>
                <a:cubicBezTo>
                  <a:pt x="1128922" y="4495800"/>
                  <a:pt x="1171575" y="4538443"/>
                  <a:pt x="1171575" y="4591050"/>
                </a:cubicBezTo>
                <a:cubicBezTo>
                  <a:pt x="1171575" y="4643656"/>
                  <a:pt x="1128922" y="4686300"/>
                  <a:pt x="1076325" y="4686300"/>
                </a:cubicBezTo>
                <a:lnTo>
                  <a:pt x="885825" y="4686300"/>
                </a:lnTo>
                <a:cubicBezTo>
                  <a:pt x="833228" y="4686300"/>
                  <a:pt x="790575" y="4643656"/>
                  <a:pt x="790575" y="4591050"/>
                </a:cubicBezTo>
                <a:cubicBezTo>
                  <a:pt x="790575" y="4538443"/>
                  <a:pt x="833228" y="4495800"/>
                  <a:pt x="885825" y="4495800"/>
                </a:cubicBezTo>
                <a:close/>
                <a:moveTo>
                  <a:pt x="190500" y="4495800"/>
                </a:moveTo>
                <a:lnTo>
                  <a:pt x="190500" y="4686300"/>
                </a:lnTo>
                <a:lnTo>
                  <a:pt x="381000" y="4686300"/>
                </a:lnTo>
                <a:lnTo>
                  <a:pt x="381000" y="4495800"/>
                </a:lnTo>
                <a:lnTo>
                  <a:pt x="190500" y="4495800"/>
                </a:lnTo>
                <a:close/>
                <a:moveTo>
                  <a:pt x="4400550" y="4305300"/>
                </a:moveTo>
                <a:lnTo>
                  <a:pt x="4781550" y="4305300"/>
                </a:lnTo>
                <a:cubicBezTo>
                  <a:pt x="4834147" y="4305300"/>
                  <a:pt x="4876800" y="4347943"/>
                  <a:pt x="4876800" y="4400550"/>
                </a:cubicBezTo>
                <a:lnTo>
                  <a:pt x="4876800" y="4781550"/>
                </a:lnTo>
                <a:cubicBezTo>
                  <a:pt x="4876800" y="4834156"/>
                  <a:pt x="4834147" y="4876800"/>
                  <a:pt x="4781550" y="4876800"/>
                </a:cubicBezTo>
                <a:lnTo>
                  <a:pt x="4400550" y="4876800"/>
                </a:lnTo>
                <a:cubicBezTo>
                  <a:pt x="4347953" y="4876800"/>
                  <a:pt x="4305300" y="4834156"/>
                  <a:pt x="4305300" y="4781550"/>
                </a:cubicBezTo>
                <a:lnTo>
                  <a:pt x="4305300" y="4400550"/>
                </a:lnTo>
                <a:cubicBezTo>
                  <a:pt x="4305300" y="4347943"/>
                  <a:pt x="4347953" y="4305300"/>
                  <a:pt x="4400550" y="4305300"/>
                </a:cubicBezTo>
                <a:close/>
                <a:moveTo>
                  <a:pt x="95250" y="4305300"/>
                </a:moveTo>
                <a:lnTo>
                  <a:pt x="476250" y="4305300"/>
                </a:lnTo>
                <a:cubicBezTo>
                  <a:pt x="528847" y="4305300"/>
                  <a:pt x="571500" y="4347943"/>
                  <a:pt x="571500" y="4400550"/>
                </a:cubicBezTo>
                <a:lnTo>
                  <a:pt x="571500" y="4781550"/>
                </a:lnTo>
                <a:cubicBezTo>
                  <a:pt x="571500" y="4834156"/>
                  <a:pt x="528847" y="4876800"/>
                  <a:pt x="476250" y="4876800"/>
                </a:cubicBezTo>
                <a:lnTo>
                  <a:pt x="95250" y="4876800"/>
                </a:lnTo>
                <a:cubicBezTo>
                  <a:pt x="42653" y="4876800"/>
                  <a:pt x="0" y="4834156"/>
                  <a:pt x="0" y="4781550"/>
                </a:cubicBezTo>
                <a:lnTo>
                  <a:pt x="0" y="4400550"/>
                </a:lnTo>
                <a:cubicBezTo>
                  <a:pt x="0" y="4347943"/>
                  <a:pt x="42653" y="4305300"/>
                  <a:pt x="95250" y="4305300"/>
                </a:cubicBezTo>
                <a:close/>
                <a:moveTo>
                  <a:pt x="4591050" y="3733800"/>
                </a:moveTo>
                <a:cubicBezTo>
                  <a:pt x="4643647" y="3733800"/>
                  <a:pt x="4686300" y="3776443"/>
                  <a:pt x="4686300" y="3829050"/>
                </a:cubicBezTo>
                <a:lnTo>
                  <a:pt x="4686300" y="4019550"/>
                </a:lnTo>
                <a:cubicBezTo>
                  <a:pt x="4686300" y="4072156"/>
                  <a:pt x="4643647" y="4114800"/>
                  <a:pt x="4591050" y="4114800"/>
                </a:cubicBezTo>
                <a:cubicBezTo>
                  <a:pt x="4538453" y="4114800"/>
                  <a:pt x="4495800" y="4072156"/>
                  <a:pt x="4495800" y="4019550"/>
                </a:cubicBezTo>
                <a:lnTo>
                  <a:pt x="4495800" y="3829050"/>
                </a:lnTo>
                <a:cubicBezTo>
                  <a:pt x="4495800" y="3776443"/>
                  <a:pt x="4538453" y="3733800"/>
                  <a:pt x="4591050" y="3733800"/>
                </a:cubicBezTo>
                <a:close/>
                <a:moveTo>
                  <a:pt x="285750" y="3733800"/>
                </a:moveTo>
                <a:cubicBezTo>
                  <a:pt x="338347" y="3733800"/>
                  <a:pt x="381000" y="3776443"/>
                  <a:pt x="381000" y="3829050"/>
                </a:cubicBezTo>
                <a:lnTo>
                  <a:pt x="381000" y="4019550"/>
                </a:lnTo>
                <a:cubicBezTo>
                  <a:pt x="381000" y="4072156"/>
                  <a:pt x="338347" y="4114800"/>
                  <a:pt x="285750" y="4114800"/>
                </a:cubicBezTo>
                <a:cubicBezTo>
                  <a:pt x="233153" y="4114800"/>
                  <a:pt x="190500" y="4072156"/>
                  <a:pt x="190500" y="4019550"/>
                </a:cubicBezTo>
                <a:lnTo>
                  <a:pt x="190500" y="3829050"/>
                </a:lnTo>
                <a:cubicBezTo>
                  <a:pt x="190500" y="3776443"/>
                  <a:pt x="233153" y="3733800"/>
                  <a:pt x="285750" y="3733800"/>
                </a:cubicBezTo>
                <a:close/>
                <a:moveTo>
                  <a:pt x="3200400" y="3324225"/>
                </a:moveTo>
                <a:cubicBezTo>
                  <a:pt x="3252978" y="3324225"/>
                  <a:pt x="3295650" y="3366897"/>
                  <a:pt x="3295650" y="3419475"/>
                </a:cubicBezTo>
                <a:cubicBezTo>
                  <a:pt x="3295650" y="3472053"/>
                  <a:pt x="3252978" y="3514725"/>
                  <a:pt x="3200400" y="3514725"/>
                </a:cubicBezTo>
                <a:cubicBezTo>
                  <a:pt x="3147822" y="3514725"/>
                  <a:pt x="3105150" y="3472053"/>
                  <a:pt x="3105150" y="3419475"/>
                </a:cubicBezTo>
                <a:cubicBezTo>
                  <a:pt x="3105150" y="3366897"/>
                  <a:pt x="3147822" y="3324225"/>
                  <a:pt x="3200400" y="3324225"/>
                </a:cubicBezTo>
                <a:close/>
                <a:moveTo>
                  <a:pt x="4591050" y="3133725"/>
                </a:moveTo>
                <a:cubicBezTo>
                  <a:pt x="4643647" y="3133725"/>
                  <a:pt x="4686300" y="3176368"/>
                  <a:pt x="4686300" y="3228975"/>
                </a:cubicBezTo>
                <a:lnTo>
                  <a:pt x="4686300" y="3419475"/>
                </a:lnTo>
                <a:cubicBezTo>
                  <a:pt x="4686300" y="3472081"/>
                  <a:pt x="4643647" y="3514725"/>
                  <a:pt x="4591050" y="3514725"/>
                </a:cubicBezTo>
                <a:cubicBezTo>
                  <a:pt x="4538453" y="3514725"/>
                  <a:pt x="4495800" y="3472081"/>
                  <a:pt x="4495800" y="3419475"/>
                </a:cubicBezTo>
                <a:lnTo>
                  <a:pt x="4495800" y="3228975"/>
                </a:lnTo>
                <a:cubicBezTo>
                  <a:pt x="4495800" y="3176368"/>
                  <a:pt x="4538453" y="3133725"/>
                  <a:pt x="4591050" y="3133725"/>
                </a:cubicBezTo>
                <a:close/>
                <a:moveTo>
                  <a:pt x="285750" y="3133725"/>
                </a:moveTo>
                <a:cubicBezTo>
                  <a:pt x="338347" y="3133725"/>
                  <a:pt x="381000" y="3176368"/>
                  <a:pt x="381000" y="3228975"/>
                </a:cubicBezTo>
                <a:lnTo>
                  <a:pt x="381000" y="3419475"/>
                </a:lnTo>
                <a:cubicBezTo>
                  <a:pt x="381000" y="3472081"/>
                  <a:pt x="338347" y="3514725"/>
                  <a:pt x="285750" y="3514725"/>
                </a:cubicBezTo>
                <a:cubicBezTo>
                  <a:pt x="233153" y="3514725"/>
                  <a:pt x="190500" y="3472081"/>
                  <a:pt x="190500" y="3419475"/>
                </a:cubicBezTo>
                <a:lnTo>
                  <a:pt x="190500" y="3228975"/>
                </a:lnTo>
                <a:cubicBezTo>
                  <a:pt x="190500" y="3176368"/>
                  <a:pt x="233153" y="3133725"/>
                  <a:pt x="285750" y="3133725"/>
                </a:cubicBezTo>
                <a:close/>
                <a:moveTo>
                  <a:pt x="4591050" y="2533650"/>
                </a:moveTo>
                <a:cubicBezTo>
                  <a:pt x="4643647" y="2533650"/>
                  <a:pt x="4686300" y="2576293"/>
                  <a:pt x="4686300" y="2628900"/>
                </a:cubicBezTo>
                <a:lnTo>
                  <a:pt x="4686300" y="2819400"/>
                </a:lnTo>
                <a:cubicBezTo>
                  <a:pt x="4686300" y="2872006"/>
                  <a:pt x="4643647" y="2914650"/>
                  <a:pt x="4591050" y="2914650"/>
                </a:cubicBezTo>
                <a:cubicBezTo>
                  <a:pt x="4538453" y="2914650"/>
                  <a:pt x="4495800" y="2872006"/>
                  <a:pt x="4495800" y="2819400"/>
                </a:cubicBezTo>
                <a:lnTo>
                  <a:pt x="4495800" y="2628900"/>
                </a:lnTo>
                <a:cubicBezTo>
                  <a:pt x="4495800" y="2576293"/>
                  <a:pt x="4538453" y="2533650"/>
                  <a:pt x="4591050" y="2533650"/>
                </a:cubicBezTo>
                <a:close/>
                <a:moveTo>
                  <a:pt x="285750" y="2533650"/>
                </a:moveTo>
                <a:cubicBezTo>
                  <a:pt x="338347" y="2533650"/>
                  <a:pt x="381000" y="2576293"/>
                  <a:pt x="381000" y="2628900"/>
                </a:cubicBezTo>
                <a:lnTo>
                  <a:pt x="381000" y="2819400"/>
                </a:lnTo>
                <a:cubicBezTo>
                  <a:pt x="381000" y="2872006"/>
                  <a:pt x="338347" y="2914650"/>
                  <a:pt x="285750" y="2914650"/>
                </a:cubicBezTo>
                <a:cubicBezTo>
                  <a:pt x="233153" y="2914650"/>
                  <a:pt x="190500" y="2872006"/>
                  <a:pt x="190500" y="2819400"/>
                </a:cubicBezTo>
                <a:lnTo>
                  <a:pt x="190500" y="2628900"/>
                </a:lnTo>
                <a:cubicBezTo>
                  <a:pt x="190500" y="2576293"/>
                  <a:pt x="233153" y="2533650"/>
                  <a:pt x="285750" y="2533650"/>
                </a:cubicBezTo>
                <a:close/>
                <a:moveTo>
                  <a:pt x="1770554" y="2095757"/>
                </a:moveTo>
                <a:lnTo>
                  <a:pt x="981075" y="2859767"/>
                </a:lnTo>
                <a:lnTo>
                  <a:pt x="981075" y="3324225"/>
                </a:lnTo>
                <a:lnTo>
                  <a:pt x="2628900" y="3324225"/>
                </a:lnTo>
                <a:cubicBezTo>
                  <a:pt x="2681497" y="3324225"/>
                  <a:pt x="2724150" y="3366868"/>
                  <a:pt x="2724150" y="3419475"/>
                </a:cubicBezTo>
                <a:cubicBezTo>
                  <a:pt x="2724150" y="3472082"/>
                  <a:pt x="2681497" y="3514725"/>
                  <a:pt x="2628900" y="3514725"/>
                </a:cubicBezTo>
                <a:lnTo>
                  <a:pt x="981075" y="3514725"/>
                </a:lnTo>
                <a:lnTo>
                  <a:pt x="981075" y="3924300"/>
                </a:lnTo>
                <a:lnTo>
                  <a:pt x="3895725" y="3924300"/>
                </a:lnTo>
                <a:lnTo>
                  <a:pt x="3895725" y="3514725"/>
                </a:lnTo>
                <a:lnTo>
                  <a:pt x="3581400" y="3514725"/>
                </a:lnTo>
                <a:cubicBezTo>
                  <a:pt x="3528803" y="3514725"/>
                  <a:pt x="3486150" y="3472082"/>
                  <a:pt x="3486150" y="3419475"/>
                </a:cubicBezTo>
                <a:cubicBezTo>
                  <a:pt x="3486150" y="3366868"/>
                  <a:pt x="3528803" y="3324225"/>
                  <a:pt x="3581400" y="3324225"/>
                </a:cubicBezTo>
                <a:lnTo>
                  <a:pt x="3895725" y="3324225"/>
                </a:lnTo>
                <a:lnTo>
                  <a:pt x="3895725" y="3077927"/>
                </a:lnTo>
                <a:lnTo>
                  <a:pt x="3105150" y="2287352"/>
                </a:lnTo>
                <a:lnTo>
                  <a:pt x="2663799" y="2728703"/>
                </a:lnTo>
                <a:lnTo>
                  <a:pt x="3000356" y="3084776"/>
                </a:lnTo>
                <a:cubicBezTo>
                  <a:pt x="3036494" y="3123009"/>
                  <a:pt x="3034798" y="3183293"/>
                  <a:pt x="2996565" y="3219431"/>
                </a:cubicBezTo>
                <a:cubicBezTo>
                  <a:pt x="2978163" y="3236824"/>
                  <a:pt x="2954636" y="3245453"/>
                  <a:pt x="2931157" y="3245453"/>
                </a:cubicBezTo>
                <a:cubicBezTo>
                  <a:pt x="2905868" y="3245453"/>
                  <a:pt x="2880646" y="3235452"/>
                  <a:pt x="2861910" y="3215630"/>
                </a:cubicBezTo>
                <a:lnTo>
                  <a:pt x="2370144" y="2695346"/>
                </a:lnTo>
                <a:lnTo>
                  <a:pt x="1770554" y="2095757"/>
                </a:lnTo>
                <a:close/>
                <a:moveTo>
                  <a:pt x="4591050" y="1962150"/>
                </a:moveTo>
                <a:cubicBezTo>
                  <a:pt x="4643647" y="1962150"/>
                  <a:pt x="4686300" y="2004793"/>
                  <a:pt x="4686300" y="2057400"/>
                </a:cubicBezTo>
                <a:lnTo>
                  <a:pt x="4686300" y="2247900"/>
                </a:lnTo>
                <a:cubicBezTo>
                  <a:pt x="4686300" y="2300506"/>
                  <a:pt x="4643647" y="2343150"/>
                  <a:pt x="4591050" y="2343150"/>
                </a:cubicBezTo>
                <a:cubicBezTo>
                  <a:pt x="4538453" y="2343150"/>
                  <a:pt x="4495800" y="2300506"/>
                  <a:pt x="4495800" y="2247900"/>
                </a:cubicBezTo>
                <a:lnTo>
                  <a:pt x="4495800" y="2057400"/>
                </a:lnTo>
                <a:cubicBezTo>
                  <a:pt x="4495800" y="2004793"/>
                  <a:pt x="4538453" y="1962150"/>
                  <a:pt x="4591050" y="1962150"/>
                </a:cubicBezTo>
                <a:close/>
                <a:moveTo>
                  <a:pt x="285750" y="1962150"/>
                </a:moveTo>
                <a:cubicBezTo>
                  <a:pt x="338347" y="1962150"/>
                  <a:pt x="381000" y="2004793"/>
                  <a:pt x="381000" y="2057400"/>
                </a:cubicBezTo>
                <a:lnTo>
                  <a:pt x="381000" y="2247900"/>
                </a:lnTo>
                <a:cubicBezTo>
                  <a:pt x="381000" y="2300506"/>
                  <a:pt x="338347" y="2343150"/>
                  <a:pt x="285750" y="2343150"/>
                </a:cubicBezTo>
                <a:cubicBezTo>
                  <a:pt x="233153" y="2343150"/>
                  <a:pt x="190500" y="2300506"/>
                  <a:pt x="190500" y="2247900"/>
                </a:cubicBezTo>
                <a:lnTo>
                  <a:pt x="190500" y="2057400"/>
                </a:lnTo>
                <a:cubicBezTo>
                  <a:pt x="190500" y="2004793"/>
                  <a:pt x="233153" y="1962150"/>
                  <a:pt x="285750" y="1962150"/>
                </a:cubicBezTo>
                <a:close/>
                <a:moveTo>
                  <a:pt x="2628900" y="1581150"/>
                </a:moveTo>
                <a:cubicBezTo>
                  <a:pt x="2576379" y="1581150"/>
                  <a:pt x="2533650" y="1623879"/>
                  <a:pt x="2533650" y="1676400"/>
                </a:cubicBezTo>
                <a:cubicBezTo>
                  <a:pt x="2533650" y="1728921"/>
                  <a:pt x="2576379" y="1771650"/>
                  <a:pt x="2628900" y="1771650"/>
                </a:cubicBezTo>
                <a:cubicBezTo>
                  <a:pt x="2681421" y="1771650"/>
                  <a:pt x="2724150" y="1728921"/>
                  <a:pt x="2724150" y="1676400"/>
                </a:cubicBezTo>
                <a:cubicBezTo>
                  <a:pt x="2724150" y="1623879"/>
                  <a:pt x="2681421" y="1581150"/>
                  <a:pt x="2628900" y="1581150"/>
                </a:cubicBezTo>
                <a:close/>
                <a:moveTo>
                  <a:pt x="4591050" y="1390650"/>
                </a:moveTo>
                <a:cubicBezTo>
                  <a:pt x="4643647" y="1390650"/>
                  <a:pt x="4686300" y="1433293"/>
                  <a:pt x="4686300" y="1485900"/>
                </a:cubicBezTo>
                <a:lnTo>
                  <a:pt x="4686300" y="1676400"/>
                </a:lnTo>
                <a:cubicBezTo>
                  <a:pt x="4686300" y="1729006"/>
                  <a:pt x="4643647" y="1771650"/>
                  <a:pt x="4591050" y="1771650"/>
                </a:cubicBezTo>
                <a:cubicBezTo>
                  <a:pt x="4538453" y="1771650"/>
                  <a:pt x="4495800" y="1729006"/>
                  <a:pt x="4495800" y="1676400"/>
                </a:cubicBezTo>
                <a:lnTo>
                  <a:pt x="4495800" y="1485900"/>
                </a:lnTo>
                <a:cubicBezTo>
                  <a:pt x="4495800" y="1433293"/>
                  <a:pt x="4538453" y="1390650"/>
                  <a:pt x="4591050" y="1390650"/>
                </a:cubicBezTo>
                <a:close/>
                <a:moveTo>
                  <a:pt x="2628900" y="1390650"/>
                </a:moveTo>
                <a:cubicBezTo>
                  <a:pt x="2786462" y="1390650"/>
                  <a:pt x="2914650" y="1518837"/>
                  <a:pt x="2914650" y="1676400"/>
                </a:cubicBezTo>
                <a:cubicBezTo>
                  <a:pt x="2914650" y="1833962"/>
                  <a:pt x="2786462" y="1962150"/>
                  <a:pt x="2628900" y="1962150"/>
                </a:cubicBezTo>
                <a:cubicBezTo>
                  <a:pt x="2471337" y="1962150"/>
                  <a:pt x="2343150" y="1833962"/>
                  <a:pt x="2343150" y="1676400"/>
                </a:cubicBezTo>
                <a:cubicBezTo>
                  <a:pt x="2343150" y="1518837"/>
                  <a:pt x="2471337" y="1390650"/>
                  <a:pt x="2628900" y="1390650"/>
                </a:cubicBezTo>
                <a:close/>
                <a:moveTo>
                  <a:pt x="285750" y="1390650"/>
                </a:moveTo>
                <a:cubicBezTo>
                  <a:pt x="338347" y="1390650"/>
                  <a:pt x="381000" y="1433293"/>
                  <a:pt x="381000" y="1485900"/>
                </a:cubicBezTo>
                <a:lnTo>
                  <a:pt x="381000" y="1676400"/>
                </a:lnTo>
                <a:cubicBezTo>
                  <a:pt x="381000" y="1729006"/>
                  <a:pt x="338347" y="1771650"/>
                  <a:pt x="285750" y="1771650"/>
                </a:cubicBezTo>
                <a:cubicBezTo>
                  <a:pt x="233153" y="1771650"/>
                  <a:pt x="190500" y="1729006"/>
                  <a:pt x="190500" y="1676400"/>
                </a:cubicBezTo>
                <a:lnTo>
                  <a:pt x="190500" y="1485900"/>
                </a:lnTo>
                <a:cubicBezTo>
                  <a:pt x="190500" y="1433293"/>
                  <a:pt x="233153" y="1390650"/>
                  <a:pt x="285750" y="1390650"/>
                </a:cubicBezTo>
                <a:close/>
                <a:moveTo>
                  <a:pt x="981075" y="981075"/>
                </a:moveTo>
                <a:lnTo>
                  <a:pt x="981075" y="2594677"/>
                </a:lnTo>
                <a:lnTo>
                  <a:pt x="1705413" y="1893703"/>
                </a:lnTo>
                <a:cubicBezTo>
                  <a:pt x="1742760" y="1857556"/>
                  <a:pt x="1802216" y="1858022"/>
                  <a:pt x="1839001" y="1894799"/>
                </a:cubicBezTo>
                <a:lnTo>
                  <a:pt x="2533650" y="2589447"/>
                </a:lnTo>
                <a:lnTo>
                  <a:pt x="3037789" y="2085289"/>
                </a:lnTo>
                <a:cubicBezTo>
                  <a:pt x="3075003" y="2048094"/>
                  <a:pt x="3135297" y="2048094"/>
                  <a:pt x="3172501" y="2085289"/>
                </a:cubicBezTo>
                <a:lnTo>
                  <a:pt x="3895725" y="2808513"/>
                </a:lnTo>
                <a:lnTo>
                  <a:pt x="3895725" y="981075"/>
                </a:lnTo>
                <a:lnTo>
                  <a:pt x="981075" y="981075"/>
                </a:lnTo>
                <a:close/>
                <a:moveTo>
                  <a:pt x="4591050" y="790575"/>
                </a:moveTo>
                <a:cubicBezTo>
                  <a:pt x="4643647" y="790575"/>
                  <a:pt x="4686300" y="833218"/>
                  <a:pt x="4686300" y="885825"/>
                </a:cubicBezTo>
                <a:lnTo>
                  <a:pt x="4686300" y="1076325"/>
                </a:lnTo>
                <a:cubicBezTo>
                  <a:pt x="4686300" y="1128931"/>
                  <a:pt x="4643647" y="1171575"/>
                  <a:pt x="4591050" y="1171575"/>
                </a:cubicBezTo>
                <a:cubicBezTo>
                  <a:pt x="4538453" y="1171575"/>
                  <a:pt x="4495800" y="1128931"/>
                  <a:pt x="4495800" y="1076325"/>
                </a:cubicBezTo>
                <a:lnTo>
                  <a:pt x="4495800" y="885825"/>
                </a:lnTo>
                <a:cubicBezTo>
                  <a:pt x="4495800" y="833218"/>
                  <a:pt x="4538453" y="790575"/>
                  <a:pt x="4591050" y="790575"/>
                </a:cubicBezTo>
                <a:close/>
                <a:moveTo>
                  <a:pt x="885825" y="790575"/>
                </a:moveTo>
                <a:lnTo>
                  <a:pt x="3990975" y="790575"/>
                </a:lnTo>
                <a:cubicBezTo>
                  <a:pt x="4043572" y="790575"/>
                  <a:pt x="4086225" y="833218"/>
                  <a:pt x="4086225" y="885825"/>
                </a:cubicBezTo>
                <a:lnTo>
                  <a:pt x="4086225" y="3038427"/>
                </a:lnTo>
                <a:cubicBezTo>
                  <a:pt x="4086225" y="3038456"/>
                  <a:pt x="4086225" y="3038494"/>
                  <a:pt x="4086225" y="3038523"/>
                </a:cubicBezTo>
                <a:lnTo>
                  <a:pt x="4086225" y="4019550"/>
                </a:lnTo>
                <a:cubicBezTo>
                  <a:pt x="4086225" y="4072157"/>
                  <a:pt x="4043572" y="4114800"/>
                  <a:pt x="3990975" y="4114800"/>
                </a:cubicBezTo>
                <a:lnTo>
                  <a:pt x="885825" y="4114800"/>
                </a:lnTo>
                <a:cubicBezTo>
                  <a:pt x="833228" y="4114800"/>
                  <a:pt x="790575" y="4072157"/>
                  <a:pt x="790575" y="4019550"/>
                </a:cubicBezTo>
                <a:lnTo>
                  <a:pt x="790575" y="885825"/>
                </a:lnTo>
                <a:cubicBezTo>
                  <a:pt x="790575" y="833218"/>
                  <a:pt x="833228" y="790575"/>
                  <a:pt x="885825" y="790575"/>
                </a:cubicBezTo>
                <a:close/>
                <a:moveTo>
                  <a:pt x="285750" y="790575"/>
                </a:moveTo>
                <a:cubicBezTo>
                  <a:pt x="338347" y="790575"/>
                  <a:pt x="381000" y="833218"/>
                  <a:pt x="381000" y="885825"/>
                </a:cubicBezTo>
                <a:lnTo>
                  <a:pt x="381000" y="1076325"/>
                </a:lnTo>
                <a:cubicBezTo>
                  <a:pt x="381000" y="1128931"/>
                  <a:pt x="338347" y="1171575"/>
                  <a:pt x="285750" y="1171575"/>
                </a:cubicBezTo>
                <a:cubicBezTo>
                  <a:pt x="233153" y="1171575"/>
                  <a:pt x="190500" y="1128931"/>
                  <a:pt x="190500" y="1076325"/>
                </a:cubicBezTo>
                <a:lnTo>
                  <a:pt x="190500" y="885825"/>
                </a:lnTo>
                <a:cubicBezTo>
                  <a:pt x="190500" y="833218"/>
                  <a:pt x="233153" y="790575"/>
                  <a:pt x="285750" y="790575"/>
                </a:cubicBezTo>
                <a:close/>
                <a:moveTo>
                  <a:pt x="4495800" y="190500"/>
                </a:moveTo>
                <a:lnTo>
                  <a:pt x="4495800" y="381000"/>
                </a:lnTo>
                <a:lnTo>
                  <a:pt x="4686300" y="381000"/>
                </a:lnTo>
                <a:lnTo>
                  <a:pt x="4686300" y="190500"/>
                </a:lnTo>
                <a:lnTo>
                  <a:pt x="4495800" y="190500"/>
                </a:lnTo>
                <a:close/>
                <a:moveTo>
                  <a:pt x="3800475" y="190500"/>
                </a:moveTo>
                <a:lnTo>
                  <a:pt x="3990975" y="190500"/>
                </a:lnTo>
                <a:cubicBezTo>
                  <a:pt x="4043572" y="190500"/>
                  <a:pt x="4086225" y="233143"/>
                  <a:pt x="4086225" y="285750"/>
                </a:cubicBezTo>
                <a:cubicBezTo>
                  <a:pt x="4086225" y="338356"/>
                  <a:pt x="4043572" y="381000"/>
                  <a:pt x="3990975" y="381000"/>
                </a:cubicBezTo>
                <a:lnTo>
                  <a:pt x="3800475" y="381000"/>
                </a:lnTo>
                <a:cubicBezTo>
                  <a:pt x="3747878" y="381000"/>
                  <a:pt x="3705225" y="338356"/>
                  <a:pt x="3705225" y="285750"/>
                </a:cubicBezTo>
                <a:cubicBezTo>
                  <a:pt x="3705225" y="233143"/>
                  <a:pt x="3747878" y="190500"/>
                  <a:pt x="3800475" y="190500"/>
                </a:cubicBezTo>
                <a:close/>
                <a:moveTo>
                  <a:pt x="3200400" y="190500"/>
                </a:moveTo>
                <a:lnTo>
                  <a:pt x="3390900" y="190500"/>
                </a:lnTo>
                <a:cubicBezTo>
                  <a:pt x="3443497" y="190500"/>
                  <a:pt x="3486150" y="233143"/>
                  <a:pt x="3486150" y="285750"/>
                </a:cubicBezTo>
                <a:cubicBezTo>
                  <a:pt x="3486150" y="338356"/>
                  <a:pt x="3443497" y="381000"/>
                  <a:pt x="3390900" y="381000"/>
                </a:cubicBezTo>
                <a:lnTo>
                  <a:pt x="3200400" y="381000"/>
                </a:lnTo>
                <a:cubicBezTo>
                  <a:pt x="3147803" y="381000"/>
                  <a:pt x="3105150" y="338356"/>
                  <a:pt x="3105150" y="285750"/>
                </a:cubicBezTo>
                <a:cubicBezTo>
                  <a:pt x="3105150" y="233143"/>
                  <a:pt x="3147803" y="190500"/>
                  <a:pt x="3200400" y="190500"/>
                </a:cubicBezTo>
                <a:close/>
                <a:moveTo>
                  <a:pt x="2628900" y="190500"/>
                </a:moveTo>
                <a:lnTo>
                  <a:pt x="2819400" y="190500"/>
                </a:lnTo>
                <a:cubicBezTo>
                  <a:pt x="2871997" y="190500"/>
                  <a:pt x="2914650" y="233143"/>
                  <a:pt x="2914650" y="285750"/>
                </a:cubicBezTo>
                <a:cubicBezTo>
                  <a:pt x="2914650" y="338356"/>
                  <a:pt x="2871997" y="381000"/>
                  <a:pt x="2819400" y="381000"/>
                </a:cubicBezTo>
                <a:lnTo>
                  <a:pt x="2628900" y="381000"/>
                </a:lnTo>
                <a:cubicBezTo>
                  <a:pt x="2576303" y="381000"/>
                  <a:pt x="2533650" y="338356"/>
                  <a:pt x="2533650" y="285750"/>
                </a:cubicBezTo>
                <a:cubicBezTo>
                  <a:pt x="2533650" y="233143"/>
                  <a:pt x="2576303" y="190500"/>
                  <a:pt x="2628900" y="190500"/>
                </a:cubicBezTo>
                <a:close/>
                <a:moveTo>
                  <a:pt x="2057400" y="190500"/>
                </a:moveTo>
                <a:lnTo>
                  <a:pt x="2247900" y="190500"/>
                </a:lnTo>
                <a:cubicBezTo>
                  <a:pt x="2300497" y="190500"/>
                  <a:pt x="2343150" y="233143"/>
                  <a:pt x="2343150" y="285750"/>
                </a:cubicBezTo>
                <a:cubicBezTo>
                  <a:pt x="2343150" y="338356"/>
                  <a:pt x="2300497" y="381000"/>
                  <a:pt x="2247900" y="381000"/>
                </a:cubicBezTo>
                <a:lnTo>
                  <a:pt x="2057400" y="381000"/>
                </a:lnTo>
                <a:cubicBezTo>
                  <a:pt x="2004803" y="381000"/>
                  <a:pt x="1962150" y="338356"/>
                  <a:pt x="1962150" y="285750"/>
                </a:cubicBezTo>
                <a:cubicBezTo>
                  <a:pt x="1962150" y="233143"/>
                  <a:pt x="2004803" y="190500"/>
                  <a:pt x="2057400" y="190500"/>
                </a:cubicBezTo>
                <a:close/>
                <a:moveTo>
                  <a:pt x="1485900" y="190500"/>
                </a:moveTo>
                <a:lnTo>
                  <a:pt x="1676400" y="190500"/>
                </a:lnTo>
                <a:cubicBezTo>
                  <a:pt x="1728997" y="190500"/>
                  <a:pt x="1771650" y="233143"/>
                  <a:pt x="1771650" y="285750"/>
                </a:cubicBezTo>
                <a:cubicBezTo>
                  <a:pt x="1771650" y="338356"/>
                  <a:pt x="1728997" y="381000"/>
                  <a:pt x="1676400" y="381000"/>
                </a:cubicBezTo>
                <a:lnTo>
                  <a:pt x="1485900" y="381000"/>
                </a:lnTo>
                <a:cubicBezTo>
                  <a:pt x="1433303" y="381000"/>
                  <a:pt x="1390650" y="338356"/>
                  <a:pt x="1390650" y="285750"/>
                </a:cubicBezTo>
                <a:cubicBezTo>
                  <a:pt x="1390650" y="233143"/>
                  <a:pt x="1433303" y="190500"/>
                  <a:pt x="1485900" y="190500"/>
                </a:cubicBezTo>
                <a:close/>
                <a:moveTo>
                  <a:pt x="885825" y="190500"/>
                </a:moveTo>
                <a:lnTo>
                  <a:pt x="1076325" y="190500"/>
                </a:lnTo>
                <a:cubicBezTo>
                  <a:pt x="1128922" y="190500"/>
                  <a:pt x="1171575" y="233143"/>
                  <a:pt x="1171575" y="285750"/>
                </a:cubicBezTo>
                <a:cubicBezTo>
                  <a:pt x="1171575" y="338356"/>
                  <a:pt x="1128922" y="381000"/>
                  <a:pt x="1076325" y="381000"/>
                </a:cubicBezTo>
                <a:lnTo>
                  <a:pt x="885825" y="381000"/>
                </a:lnTo>
                <a:cubicBezTo>
                  <a:pt x="833228" y="381000"/>
                  <a:pt x="790575" y="338356"/>
                  <a:pt x="790575" y="285750"/>
                </a:cubicBezTo>
                <a:cubicBezTo>
                  <a:pt x="790575" y="233143"/>
                  <a:pt x="833228" y="190500"/>
                  <a:pt x="885825" y="190500"/>
                </a:cubicBezTo>
                <a:close/>
                <a:moveTo>
                  <a:pt x="190500" y="190500"/>
                </a:moveTo>
                <a:lnTo>
                  <a:pt x="190500" y="381000"/>
                </a:lnTo>
                <a:lnTo>
                  <a:pt x="381000" y="381000"/>
                </a:lnTo>
                <a:lnTo>
                  <a:pt x="381000" y="190500"/>
                </a:lnTo>
                <a:lnTo>
                  <a:pt x="190500" y="190500"/>
                </a:lnTo>
                <a:close/>
                <a:moveTo>
                  <a:pt x="4400550" y="0"/>
                </a:moveTo>
                <a:lnTo>
                  <a:pt x="4781550" y="0"/>
                </a:lnTo>
                <a:cubicBezTo>
                  <a:pt x="4834147" y="0"/>
                  <a:pt x="4876800" y="42643"/>
                  <a:pt x="4876800" y="95250"/>
                </a:cubicBezTo>
                <a:lnTo>
                  <a:pt x="4876800" y="476250"/>
                </a:lnTo>
                <a:cubicBezTo>
                  <a:pt x="4876800" y="528856"/>
                  <a:pt x="4834147" y="571500"/>
                  <a:pt x="4781550" y="571500"/>
                </a:cubicBezTo>
                <a:lnTo>
                  <a:pt x="4400550" y="571500"/>
                </a:lnTo>
                <a:cubicBezTo>
                  <a:pt x="4347953" y="571500"/>
                  <a:pt x="4305300" y="528856"/>
                  <a:pt x="4305300" y="476250"/>
                </a:cubicBezTo>
                <a:lnTo>
                  <a:pt x="4305300" y="95250"/>
                </a:lnTo>
                <a:cubicBezTo>
                  <a:pt x="4305300" y="42643"/>
                  <a:pt x="4347953" y="0"/>
                  <a:pt x="4400550" y="0"/>
                </a:cubicBezTo>
                <a:close/>
                <a:moveTo>
                  <a:pt x="95250" y="0"/>
                </a:moveTo>
                <a:lnTo>
                  <a:pt x="476250" y="0"/>
                </a:lnTo>
                <a:cubicBezTo>
                  <a:pt x="528847" y="0"/>
                  <a:pt x="571500" y="42643"/>
                  <a:pt x="571500" y="95250"/>
                </a:cubicBezTo>
                <a:lnTo>
                  <a:pt x="571500" y="476250"/>
                </a:lnTo>
                <a:cubicBezTo>
                  <a:pt x="571500" y="528856"/>
                  <a:pt x="528847" y="571500"/>
                  <a:pt x="476250" y="571500"/>
                </a:cubicBezTo>
                <a:lnTo>
                  <a:pt x="95250" y="571500"/>
                </a:lnTo>
                <a:cubicBezTo>
                  <a:pt x="42653" y="571500"/>
                  <a:pt x="0" y="528856"/>
                  <a:pt x="0" y="476250"/>
                </a:cubicBezTo>
                <a:lnTo>
                  <a:pt x="0" y="95250"/>
                </a:lnTo>
                <a:cubicBezTo>
                  <a:pt x="0" y="42643"/>
                  <a:pt x="42653" y="0"/>
                  <a:pt x="9525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Freeform: Shape 20"/>
          <p:cNvSpPr/>
          <p:nvPr/>
        </p:nvSpPr>
        <p:spPr>
          <a:xfrm>
            <a:off x="4646520" y="4599000"/>
            <a:ext cx="239760" cy="233280"/>
          </a:xfrm>
          <a:custGeom>
            <a:avLst/>
            <a:gdLst/>
            <a:ahLst/>
            <a:rect l="l" t="t" r="r" b="b"/>
            <a:pathLst>
              <a:path w="4876800" h="4754571">
                <a:moveTo>
                  <a:pt x="503896" y="4155427"/>
                </a:moveTo>
                <a:cubicBezTo>
                  <a:pt x="528280" y="4155427"/>
                  <a:pt x="552664" y="4164711"/>
                  <a:pt x="571286" y="4183280"/>
                </a:cubicBezTo>
                <a:cubicBezTo>
                  <a:pt x="608424" y="4220523"/>
                  <a:pt x="608424" y="4280816"/>
                  <a:pt x="571286" y="4318059"/>
                </a:cubicBezTo>
                <a:cubicBezTo>
                  <a:pt x="534043" y="4355206"/>
                  <a:pt x="473750" y="4355206"/>
                  <a:pt x="436507" y="4318059"/>
                </a:cubicBezTo>
                <a:cubicBezTo>
                  <a:pt x="399360" y="4280816"/>
                  <a:pt x="399360" y="4220523"/>
                  <a:pt x="436507" y="4183280"/>
                </a:cubicBezTo>
                <a:cubicBezTo>
                  <a:pt x="455128" y="4164711"/>
                  <a:pt x="479512" y="4155427"/>
                  <a:pt x="503896" y="4155427"/>
                </a:cubicBezTo>
                <a:close/>
                <a:moveTo>
                  <a:pt x="1278017" y="3367575"/>
                </a:moveTo>
                <a:cubicBezTo>
                  <a:pt x="1302391" y="3367276"/>
                  <a:pt x="1326880" y="3376275"/>
                  <a:pt x="1345707" y="3394639"/>
                </a:cubicBezTo>
                <a:cubicBezTo>
                  <a:pt x="1383340" y="3431386"/>
                  <a:pt x="1384092" y="3491689"/>
                  <a:pt x="1347354" y="3529332"/>
                </a:cubicBezTo>
                <a:lnTo>
                  <a:pt x="841482" y="4047778"/>
                </a:lnTo>
                <a:cubicBezTo>
                  <a:pt x="822822" y="4066914"/>
                  <a:pt x="798076" y="4076515"/>
                  <a:pt x="773302" y="4076515"/>
                </a:cubicBezTo>
                <a:cubicBezTo>
                  <a:pt x="749318" y="4076515"/>
                  <a:pt x="725315" y="4067504"/>
                  <a:pt x="706789" y="4049435"/>
                </a:cubicBezTo>
                <a:cubicBezTo>
                  <a:pt x="669146" y="4012688"/>
                  <a:pt x="668403" y="3952385"/>
                  <a:pt x="705141" y="3914742"/>
                </a:cubicBezTo>
                <a:lnTo>
                  <a:pt x="1211014" y="3396296"/>
                </a:lnTo>
                <a:cubicBezTo>
                  <a:pt x="1229382" y="3377470"/>
                  <a:pt x="1253642" y="3367874"/>
                  <a:pt x="1278017" y="3367575"/>
                </a:cubicBezTo>
                <a:close/>
                <a:moveTo>
                  <a:pt x="1410371" y="2920399"/>
                </a:moveTo>
                <a:lnTo>
                  <a:pt x="321664" y="3895426"/>
                </a:lnTo>
                <a:cubicBezTo>
                  <a:pt x="321559" y="3895521"/>
                  <a:pt x="321454" y="3895588"/>
                  <a:pt x="321349" y="3895683"/>
                </a:cubicBezTo>
                <a:cubicBezTo>
                  <a:pt x="321254" y="3895769"/>
                  <a:pt x="321168" y="3895864"/>
                  <a:pt x="321073" y="3895950"/>
                </a:cubicBezTo>
                <a:cubicBezTo>
                  <a:pt x="314034" y="3902160"/>
                  <a:pt x="307738" y="3908047"/>
                  <a:pt x="301823" y="3913952"/>
                </a:cubicBezTo>
                <a:cubicBezTo>
                  <a:pt x="153290" y="4062475"/>
                  <a:pt x="153290" y="4304182"/>
                  <a:pt x="301842" y="4452734"/>
                </a:cubicBezTo>
                <a:cubicBezTo>
                  <a:pt x="373632" y="4524533"/>
                  <a:pt x="469301" y="4564062"/>
                  <a:pt x="571238" y="4564062"/>
                </a:cubicBezTo>
                <a:cubicBezTo>
                  <a:pt x="673174" y="4564062"/>
                  <a:pt x="768844" y="4524533"/>
                  <a:pt x="840643" y="4452734"/>
                </a:cubicBezTo>
                <a:cubicBezTo>
                  <a:pt x="846434" y="4446952"/>
                  <a:pt x="852244" y="4440732"/>
                  <a:pt x="858426" y="4433731"/>
                </a:cubicBezTo>
                <a:lnTo>
                  <a:pt x="1822432" y="3332460"/>
                </a:lnTo>
                <a:lnTo>
                  <a:pt x="1410371" y="2920399"/>
                </a:lnTo>
                <a:close/>
                <a:moveTo>
                  <a:pt x="4646843" y="1616493"/>
                </a:moveTo>
                <a:cubicBezTo>
                  <a:pt x="4671220" y="1616493"/>
                  <a:pt x="4695596" y="1625789"/>
                  <a:pt x="4714194" y="1644382"/>
                </a:cubicBezTo>
                <a:cubicBezTo>
                  <a:pt x="4751389" y="1681587"/>
                  <a:pt x="4751389" y="1741899"/>
                  <a:pt x="4714194" y="1779094"/>
                </a:cubicBezTo>
                <a:lnTo>
                  <a:pt x="4579511" y="1913778"/>
                </a:lnTo>
                <a:cubicBezTo>
                  <a:pt x="4560918" y="1932370"/>
                  <a:pt x="4536534" y="1941676"/>
                  <a:pt x="4512160" y="1941676"/>
                </a:cubicBezTo>
                <a:cubicBezTo>
                  <a:pt x="4487785" y="1941676"/>
                  <a:pt x="4463410" y="1932370"/>
                  <a:pt x="4444808" y="1913778"/>
                </a:cubicBezTo>
                <a:cubicBezTo>
                  <a:pt x="4407613" y="1876573"/>
                  <a:pt x="4407613" y="1816261"/>
                  <a:pt x="4444808" y="1779066"/>
                </a:cubicBezTo>
                <a:lnTo>
                  <a:pt x="4579492" y="1644382"/>
                </a:lnTo>
                <a:cubicBezTo>
                  <a:pt x="4598090" y="1625789"/>
                  <a:pt x="4622466" y="1616493"/>
                  <a:pt x="4646843" y="1616493"/>
                </a:cubicBezTo>
                <a:close/>
                <a:moveTo>
                  <a:pt x="1413934" y="1576965"/>
                </a:moveTo>
                <a:lnTo>
                  <a:pt x="1346506" y="1644344"/>
                </a:lnTo>
                <a:cubicBezTo>
                  <a:pt x="1235159" y="1755758"/>
                  <a:pt x="1235149" y="1937067"/>
                  <a:pt x="1346535" y="2048443"/>
                </a:cubicBezTo>
                <a:lnTo>
                  <a:pt x="1615997" y="2317905"/>
                </a:lnTo>
                <a:cubicBezTo>
                  <a:pt x="1669956" y="2371873"/>
                  <a:pt x="1699684" y="2443625"/>
                  <a:pt x="1699684" y="2519940"/>
                </a:cubicBezTo>
                <a:cubicBezTo>
                  <a:pt x="1699684" y="2596254"/>
                  <a:pt x="1669966" y="2668006"/>
                  <a:pt x="1615997" y="2721984"/>
                </a:cubicBezTo>
                <a:lnTo>
                  <a:pt x="1548674" y="2789307"/>
                </a:lnTo>
                <a:lnTo>
                  <a:pt x="1952791" y="3193424"/>
                </a:lnTo>
                <a:lnTo>
                  <a:pt x="2020124" y="3126092"/>
                </a:lnTo>
                <a:cubicBezTo>
                  <a:pt x="2131528" y="3014706"/>
                  <a:pt x="2312798" y="3014697"/>
                  <a:pt x="2424193" y="3126092"/>
                </a:cubicBezTo>
                <a:lnTo>
                  <a:pt x="2693646" y="3395449"/>
                </a:lnTo>
                <a:cubicBezTo>
                  <a:pt x="2747643" y="3449484"/>
                  <a:pt x="2819376" y="3479221"/>
                  <a:pt x="2895671" y="3479221"/>
                </a:cubicBezTo>
                <a:cubicBezTo>
                  <a:pt x="2971967" y="3479221"/>
                  <a:pt x="3043709" y="3449484"/>
                  <a:pt x="3097668" y="3395487"/>
                </a:cubicBezTo>
                <a:lnTo>
                  <a:pt x="3165086" y="3328117"/>
                </a:lnTo>
                <a:lnTo>
                  <a:pt x="1413934" y="1576965"/>
                </a:lnTo>
                <a:close/>
                <a:moveTo>
                  <a:pt x="4512173" y="942970"/>
                </a:moveTo>
                <a:cubicBezTo>
                  <a:pt x="4536549" y="942971"/>
                  <a:pt x="4560924" y="952272"/>
                  <a:pt x="4579521" y="970879"/>
                </a:cubicBezTo>
                <a:cubicBezTo>
                  <a:pt x="4616706" y="1008093"/>
                  <a:pt x="4616706" y="1068396"/>
                  <a:pt x="4579511" y="1105591"/>
                </a:cubicBezTo>
                <a:lnTo>
                  <a:pt x="4175365" y="1509642"/>
                </a:lnTo>
                <a:cubicBezTo>
                  <a:pt x="4156773" y="1528225"/>
                  <a:pt x="4132398" y="1537531"/>
                  <a:pt x="4108024" y="1537531"/>
                </a:cubicBezTo>
                <a:cubicBezTo>
                  <a:pt x="4083640" y="1537531"/>
                  <a:pt x="4059265" y="1528225"/>
                  <a:pt x="4040663" y="1509623"/>
                </a:cubicBezTo>
                <a:cubicBezTo>
                  <a:pt x="4003468" y="1472408"/>
                  <a:pt x="4003468" y="1412106"/>
                  <a:pt x="4040672" y="1374911"/>
                </a:cubicBezTo>
                <a:lnTo>
                  <a:pt x="4444818" y="970860"/>
                </a:lnTo>
                <a:cubicBezTo>
                  <a:pt x="4463420" y="952267"/>
                  <a:pt x="4487797" y="942969"/>
                  <a:pt x="4512173" y="942970"/>
                </a:cubicBezTo>
                <a:close/>
                <a:moveTo>
                  <a:pt x="4781527" y="673556"/>
                </a:moveTo>
                <a:cubicBezTo>
                  <a:pt x="4805910" y="673556"/>
                  <a:pt x="4830295" y="682842"/>
                  <a:pt x="4848868" y="701416"/>
                </a:cubicBezTo>
                <a:cubicBezTo>
                  <a:pt x="4886111" y="738659"/>
                  <a:pt x="4886111" y="798952"/>
                  <a:pt x="4848868" y="836100"/>
                </a:cubicBezTo>
                <a:cubicBezTo>
                  <a:pt x="4811721" y="873343"/>
                  <a:pt x="4751332" y="873343"/>
                  <a:pt x="4714185" y="836100"/>
                </a:cubicBezTo>
                <a:cubicBezTo>
                  <a:pt x="4676942" y="798952"/>
                  <a:pt x="4676942" y="738659"/>
                  <a:pt x="4714185" y="701416"/>
                </a:cubicBezTo>
                <a:cubicBezTo>
                  <a:pt x="4732758" y="682842"/>
                  <a:pt x="4757142" y="673556"/>
                  <a:pt x="4781527" y="673556"/>
                </a:cubicBezTo>
                <a:close/>
                <a:moveTo>
                  <a:pt x="2491516" y="499420"/>
                </a:moveTo>
                <a:lnTo>
                  <a:pt x="1548665" y="1442272"/>
                </a:lnTo>
                <a:lnTo>
                  <a:pt x="3299826" y="3193433"/>
                </a:lnTo>
                <a:lnTo>
                  <a:pt x="4242687" y="2250573"/>
                </a:lnTo>
                <a:lnTo>
                  <a:pt x="4040672" y="2048557"/>
                </a:lnTo>
                <a:lnTo>
                  <a:pt x="3569193" y="2519949"/>
                </a:lnTo>
                <a:cubicBezTo>
                  <a:pt x="3550601" y="2538542"/>
                  <a:pt x="3526226" y="2547848"/>
                  <a:pt x="3501852" y="2547848"/>
                </a:cubicBezTo>
                <a:cubicBezTo>
                  <a:pt x="3477468" y="2547848"/>
                  <a:pt x="3453093" y="2538542"/>
                  <a:pt x="3434491" y="2519940"/>
                </a:cubicBezTo>
                <a:cubicBezTo>
                  <a:pt x="3397296" y="2482735"/>
                  <a:pt x="3397296" y="2422423"/>
                  <a:pt x="3434501" y="2385237"/>
                </a:cubicBezTo>
                <a:lnTo>
                  <a:pt x="3905960" y="1913854"/>
                </a:lnTo>
                <a:lnTo>
                  <a:pt x="3636516" y="1644411"/>
                </a:lnTo>
                <a:lnTo>
                  <a:pt x="3165048" y="2115803"/>
                </a:lnTo>
                <a:cubicBezTo>
                  <a:pt x="3146455" y="2134396"/>
                  <a:pt x="3122081" y="2143702"/>
                  <a:pt x="3097706" y="2143702"/>
                </a:cubicBezTo>
                <a:cubicBezTo>
                  <a:pt x="3073322" y="2143702"/>
                  <a:pt x="3048948" y="2134396"/>
                  <a:pt x="3030345" y="2115794"/>
                </a:cubicBezTo>
                <a:cubicBezTo>
                  <a:pt x="2993150" y="2078589"/>
                  <a:pt x="2993150" y="2018277"/>
                  <a:pt x="3030355" y="1981091"/>
                </a:cubicBezTo>
                <a:lnTo>
                  <a:pt x="3501814" y="1509708"/>
                </a:lnTo>
                <a:lnTo>
                  <a:pt x="3232466" y="1240360"/>
                </a:lnTo>
                <a:lnTo>
                  <a:pt x="2760988" y="1711753"/>
                </a:lnTo>
                <a:cubicBezTo>
                  <a:pt x="2742395" y="1730346"/>
                  <a:pt x="2718020" y="1739652"/>
                  <a:pt x="2693646" y="1739652"/>
                </a:cubicBezTo>
                <a:cubicBezTo>
                  <a:pt x="2669262" y="1739652"/>
                  <a:pt x="2644888" y="1730346"/>
                  <a:pt x="2626285" y="1711743"/>
                </a:cubicBezTo>
                <a:cubicBezTo>
                  <a:pt x="2589090" y="1674539"/>
                  <a:pt x="2589090" y="1614226"/>
                  <a:pt x="2626295" y="1577041"/>
                </a:cubicBezTo>
                <a:lnTo>
                  <a:pt x="3097763" y="1105658"/>
                </a:lnTo>
                <a:lnTo>
                  <a:pt x="2828320" y="836215"/>
                </a:lnTo>
                <a:lnTo>
                  <a:pt x="2356842" y="1307607"/>
                </a:lnTo>
                <a:cubicBezTo>
                  <a:pt x="2338249" y="1326200"/>
                  <a:pt x="2313875" y="1335506"/>
                  <a:pt x="2289500" y="1335506"/>
                </a:cubicBezTo>
                <a:cubicBezTo>
                  <a:pt x="2265116" y="1335506"/>
                  <a:pt x="2240742" y="1326200"/>
                  <a:pt x="2222139" y="1307598"/>
                </a:cubicBezTo>
                <a:cubicBezTo>
                  <a:pt x="2184944" y="1270393"/>
                  <a:pt x="2184944" y="1210080"/>
                  <a:pt x="2222149" y="1172895"/>
                </a:cubicBezTo>
                <a:lnTo>
                  <a:pt x="2693608" y="701512"/>
                </a:lnTo>
                <a:lnTo>
                  <a:pt x="2491516" y="499420"/>
                </a:lnTo>
                <a:close/>
                <a:moveTo>
                  <a:pt x="4242695" y="404150"/>
                </a:moveTo>
                <a:cubicBezTo>
                  <a:pt x="4267073" y="404150"/>
                  <a:pt x="4291450" y="413447"/>
                  <a:pt x="4310048" y="432040"/>
                </a:cubicBezTo>
                <a:cubicBezTo>
                  <a:pt x="4347243" y="469245"/>
                  <a:pt x="4347243" y="529557"/>
                  <a:pt x="4310048" y="566752"/>
                </a:cubicBezTo>
                <a:lnTo>
                  <a:pt x="3771219" y="1105581"/>
                </a:lnTo>
                <a:cubicBezTo>
                  <a:pt x="3752626" y="1124174"/>
                  <a:pt x="3728242" y="1133480"/>
                  <a:pt x="3703867" y="1133480"/>
                </a:cubicBezTo>
                <a:cubicBezTo>
                  <a:pt x="3679493" y="1133480"/>
                  <a:pt x="3655119" y="1124174"/>
                  <a:pt x="3636516" y="1105581"/>
                </a:cubicBezTo>
                <a:cubicBezTo>
                  <a:pt x="3599321" y="1068386"/>
                  <a:pt x="3599321" y="1008064"/>
                  <a:pt x="3636507" y="970869"/>
                </a:cubicBezTo>
                <a:lnTo>
                  <a:pt x="4175336" y="432040"/>
                </a:lnTo>
                <a:cubicBezTo>
                  <a:pt x="4193938" y="413447"/>
                  <a:pt x="4218317" y="404150"/>
                  <a:pt x="4242695" y="404150"/>
                </a:cubicBezTo>
                <a:close/>
                <a:moveTo>
                  <a:pt x="2491535" y="269468"/>
                </a:moveTo>
                <a:cubicBezTo>
                  <a:pt x="2516795" y="269468"/>
                  <a:pt x="2541027" y="279507"/>
                  <a:pt x="2558886" y="297366"/>
                </a:cubicBezTo>
                <a:lnTo>
                  <a:pt x="2894976" y="633456"/>
                </a:lnTo>
                <a:cubicBezTo>
                  <a:pt x="2895443" y="633913"/>
                  <a:pt x="2895900" y="634370"/>
                  <a:pt x="2896348" y="634828"/>
                </a:cubicBezTo>
                <a:lnTo>
                  <a:pt x="3299112" y="1037592"/>
                </a:lnTo>
                <a:cubicBezTo>
                  <a:pt x="3299579" y="1038050"/>
                  <a:pt x="3300046" y="1038516"/>
                  <a:pt x="3300503" y="1038983"/>
                </a:cubicBezTo>
                <a:lnTo>
                  <a:pt x="3703153" y="1441633"/>
                </a:lnTo>
                <a:cubicBezTo>
                  <a:pt x="3703629" y="1442100"/>
                  <a:pt x="3704096" y="1442567"/>
                  <a:pt x="3704563" y="1443043"/>
                </a:cubicBezTo>
                <a:lnTo>
                  <a:pt x="4107242" y="1845722"/>
                </a:lnTo>
                <a:cubicBezTo>
                  <a:pt x="4107756" y="1846227"/>
                  <a:pt x="4108261" y="1846732"/>
                  <a:pt x="4108766" y="1847246"/>
                </a:cubicBezTo>
                <a:lnTo>
                  <a:pt x="4444732" y="2183202"/>
                </a:lnTo>
                <a:cubicBezTo>
                  <a:pt x="4481917" y="2220407"/>
                  <a:pt x="4481917" y="2280719"/>
                  <a:pt x="4444722" y="2317914"/>
                </a:cubicBezTo>
                <a:lnTo>
                  <a:pt x="3367168" y="3395478"/>
                </a:lnTo>
                <a:lnTo>
                  <a:pt x="3232361" y="3530180"/>
                </a:lnTo>
                <a:cubicBezTo>
                  <a:pt x="3142454" y="3620144"/>
                  <a:pt x="3022858" y="3669712"/>
                  <a:pt x="2895662" y="3669712"/>
                </a:cubicBezTo>
                <a:cubicBezTo>
                  <a:pt x="2768465" y="3669712"/>
                  <a:pt x="2648869" y="3620144"/>
                  <a:pt x="2558925" y="3530132"/>
                </a:cubicBezTo>
                <a:lnTo>
                  <a:pt x="2289491" y="3260804"/>
                </a:lnTo>
                <a:cubicBezTo>
                  <a:pt x="2252353" y="3223675"/>
                  <a:pt x="2191945" y="3223666"/>
                  <a:pt x="2154817" y="3260794"/>
                </a:cubicBezTo>
                <a:lnTo>
                  <a:pt x="2022362" y="3393258"/>
                </a:lnTo>
                <a:lnTo>
                  <a:pt x="1001749" y="4559214"/>
                </a:lnTo>
                <a:cubicBezTo>
                  <a:pt x="1001711" y="4559261"/>
                  <a:pt x="1001663" y="4559309"/>
                  <a:pt x="1001615" y="4559357"/>
                </a:cubicBezTo>
                <a:cubicBezTo>
                  <a:pt x="1001596" y="4559385"/>
                  <a:pt x="1001577" y="4559414"/>
                  <a:pt x="1001558" y="4559433"/>
                </a:cubicBezTo>
                <a:cubicBezTo>
                  <a:pt x="992614" y="4569586"/>
                  <a:pt x="984032" y="4578759"/>
                  <a:pt x="975317" y="4587465"/>
                </a:cubicBezTo>
                <a:cubicBezTo>
                  <a:pt x="867561" y="4695221"/>
                  <a:pt x="724038" y="4754571"/>
                  <a:pt x="571228" y="4754571"/>
                </a:cubicBezTo>
                <a:cubicBezTo>
                  <a:pt x="418409" y="4754571"/>
                  <a:pt x="274896" y="4695212"/>
                  <a:pt x="167121" y="4587446"/>
                </a:cubicBezTo>
                <a:cubicBezTo>
                  <a:pt x="-55707" y="4364618"/>
                  <a:pt x="-55707" y="4002049"/>
                  <a:pt x="167121" y="3779221"/>
                </a:cubicBezTo>
                <a:cubicBezTo>
                  <a:pt x="175693" y="3770658"/>
                  <a:pt x="184647" y="3762285"/>
                  <a:pt x="194419" y="3753646"/>
                </a:cubicBezTo>
                <a:cubicBezTo>
                  <a:pt x="194467" y="3753608"/>
                  <a:pt x="194505" y="3753560"/>
                  <a:pt x="194553" y="3753522"/>
                </a:cubicBezTo>
                <a:lnTo>
                  <a:pt x="1348411" y="2720136"/>
                </a:lnTo>
                <a:lnTo>
                  <a:pt x="1481295" y="2587262"/>
                </a:lnTo>
                <a:cubicBezTo>
                  <a:pt x="1499278" y="2569279"/>
                  <a:pt x="1509184" y="2545362"/>
                  <a:pt x="1509184" y="2519930"/>
                </a:cubicBezTo>
                <a:cubicBezTo>
                  <a:pt x="1509184" y="2494498"/>
                  <a:pt x="1499278" y="2470600"/>
                  <a:pt x="1481295" y="2452608"/>
                </a:cubicBezTo>
                <a:lnTo>
                  <a:pt x="1211823" y="2183145"/>
                </a:lnTo>
                <a:cubicBezTo>
                  <a:pt x="1026190" y="1997512"/>
                  <a:pt x="1026180" y="1695370"/>
                  <a:pt x="1211804" y="1509632"/>
                </a:cubicBezTo>
                <a:lnTo>
                  <a:pt x="1346630" y="1374892"/>
                </a:lnTo>
                <a:lnTo>
                  <a:pt x="2424184" y="297366"/>
                </a:lnTo>
                <a:cubicBezTo>
                  <a:pt x="2442043" y="279507"/>
                  <a:pt x="2466275" y="269468"/>
                  <a:pt x="2491535" y="269468"/>
                </a:cubicBezTo>
                <a:close/>
                <a:moveTo>
                  <a:pt x="3569183" y="269467"/>
                </a:moveTo>
                <a:cubicBezTo>
                  <a:pt x="3593561" y="269467"/>
                  <a:pt x="3617937" y="278764"/>
                  <a:pt x="3636535" y="297357"/>
                </a:cubicBezTo>
                <a:cubicBezTo>
                  <a:pt x="3673730" y="334562"/>
                  <a:pt x="3673730" y="394874"/>
                  <a:pt x="3636535" y="432069"/>
                </a:cubicBezTo>
                <a:lnTo>
                  <a:pt x="3367168" y="701436"/>
                </a:lnTo>
                <a:cubicBezTo>
                  <a:pt x="3348575" y="720029"/>
                  <a:pt x="3324191" y="729335"/>
                  <a:pt x="3299817" y="729335"/>
                </a:cubicBezTo>
                <a:cubicBezTo>
                  <a:pt x="3275442" y="729335"/>
                  <a:pt x="3251068" y="720029"/>
                  <a:pt x="3232456" y="701436"/>
                </a:cubicBezTo>
                <a:cubicBezTo>
                  <a:pt x="3195261" y="664231"/>
                  <a:pt x="3195261" y="603919"/>
                  <a:pt x="3232456" y="566724"/>
                </a:cubicBezTo>
                <a:lnTo>
                  <a:pt x="3501823" y="297357"/>
                </a:lnTo>
                <a:cubicBezTo>
                  <a:pt x="3520426" y="278764"/>
                  <a:pt x="3544805" y="269467"/>
                  <a:pt x="3569183" y="269467"/>
                </a:cubicBezTo>
                <a:close/>
                <a:moveTo>
                  <a:pt x="4512102" y="134727"/>
                </a:moveTo>
                <a:cubicBezTo>
                  <a:pt x="4536486" y="134727"/>
                  <a:pt x="4560870" y="144013"/>
                  <a:pt x="4579491" y="162587"/>
                </a:cubicBezTo>
                <a:cubicBezTo>
                  <a:pt x="4616648" y="199830"/>
                  <a:pt x="4616648" y="260123"/>
                  <a:pt x="4579491" y="297271"/>
                </a:cubicBezTo>
                <a:cubicBezTo>
                  <a:pt x="4542249" y="334514"/>
                  <a:pt x="4481955" y="334514"/>
                  <a:pt x="4444712" y="297271"/>
                </a:cubicBezTo>
                <a:cubicBezTo>
                  <a:pt x="4407565" y="260123"/>
                  <a:pt x="4407565" y="199830"/>
                  <a:pt x="4444712" y="162587"/>
                </a:cubicBezTo>
                <a:cubicBezTo>
                  <a:pt x="4463334" y="144013"/>
                  <a:pt x="4487718" y="134727"/>
                  <a:pt x="4512102" y="134727"/>
                </a:cubicBezTo>
                <a:close/>
                <a:moveTo>
                  <a:pt x="3838590" y="44"/>
                </a:moveTo>
                <a:cubicBezTo>
                  <a:pt x="3862974" y="44"/>
                  <a:pt x="3887358" y="9330"/>
                  <a:pt x="3905979" y="27904"/>
                </a:cubicBezTo>
                <a:cubicBezTo>
                  <a:pt x="3943136" y="65147"/>
                  <a:pt x="3943136" y="125440"/>
                  <a:pt x="3905979" y="162588"/>
                </a:cubicBezTo>
                <a:cubicBezTo>
                  <a:pt x="3868736" y="199831"/>
                  <a:pt x="3808443" y="199831"/>
                  <a:pt x="3771200" y="162588"/>
                </a:cubicBezTo>
                <a:cubicBezTo>
                  <a:pt x="3734053" y="125440"/>
                  <a:pt x="3734053" y="65147"/>
                  <a:pt x="3771200" y="27904"/>
                </a:cubicBezTo>
                <a:cubicBezTo>
                  <a:pt x="3789822" y="9330"/>
                  <a:pt x="3814206" y="44"/>
                  <a:pt x="3838590" y="44"/>
                </a:cubicBezTo>
                <a:close/>
                <a:moveTo>
                  <a:pt x="3030355" y="0"/>
                </a:moveTo>
                <a:cubicBezTo>
                  <a:pt x="3054732" y="1"/>
                  <a:pt x="3079109" y="9297"/>
                  <a:pt x="3097707" y="27885"/>
                </a:cubicBezTo>
                <a:cubicBezTo>
                  <a:pt x="3134911" y="65090"/>
                  <a:pt x="3134902" y="125402"/>
                  <a:pt x="3097707" y="162597"/>
                </a:cubicBezTo>
                <a:lnTo>
                  <a:pt x="2963023" y="297281"/>
                </a:lnTo>
                <a:cubicBezTo>
                  <a:pt x="2944430" y="315874"/>
                  <a:pt x="2920046" y="325180"/>
                  <a:pt x="2895672" y="325180"/>
                </a:cubicBezTo>
                <a:cubicBezTo>
                  <a:pt x="2871297" y="325180"/>
                  <a:pt x="2846923" y="315883"/>
                  <a:pt x="2828321" y="297281"/>
                </a:cubicBezTo>
                <a:cubicBezTo>
                  <a:pt x="2791116" y="260076"/>
                  <a:pt x="2791126" y="199764"/>
                  <a:pt x="2828321" y="162569"/>
                </a:cubicBezTo>
                <a:lnTo>
                  <a:pt x="2963004" y="27885"/>
                </a:lnTo>
                <a:cubicBezTo>
                  <a:pt x="2981601" y="9292"/>
                  <a:pt x="3005978" y="-2"/>
                  <a:pt x="303035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TextBox 14"/>
          <p:cNvSpPr/>
          <p:nvPr/>
        </p:nvSpPr>
        <p:spPr>
          <a:xfrm flipH="1">
            <a:off x="1131840" y="3017880"/>
            <a:ext cx="44769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, sed do eiusmod tempor incididunt ut labore et dolore magna aliqu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TextBox 21"/>
          <p:cNvSpPr/>
          <p:nvPr/>
        </p:nvSpPr>
        <p:spPr>
          <a:xfrm>
            <a:off x="1147680" y="1863720"/>
            <a:ext cx="414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Arial "/>
                <a:ea typeface="Lato"/>
              </a:rPr>
              <a:t>ABOUT DIREC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TextBox 22"/>
          <p:cNvSpPr/>
          <p:nvPr/>
        </p:nvSpPr>
        <p:spPr>
          <a:xfrm>
            <a:off x="1135440" y="2649600"/>
            <a:ext cx="22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Arial "/>
                <a:ea typeface="Lato"/>
              </a:rPr>
              <a:t>ABOUT OUR COMP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TextBox 24"/>
          <p:cNvSpPr/>
          <p:nvPr/>
        </p:nvSpPr>
        <p:spPr>
          <a:xfrm flipH="1">
            <a:off x="1131120" y="5102280"/>
            <a:ext cx="1117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TextBox 25"/>
          <p:cNvSpPr/>
          <p:nvPr/>
        </p:nvSpPr>
        <p:spPr>
          <a:xfrm flipH="1">
            <a:off x="2664000" y="5102280"/>
            <a:ext cx="1171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TextBox 26"/>
          <p:cNvSpPr/>
          <p:nvPr/>
        </p:nvSpPr>
        <p:spPr>
          <a:xfrm flipH="1">
            <a:off x="4214160" y="5102280"/>
            <a:ext cx="1112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3" name="Group 2"/>
          <p:cNvGrpSpPr/>
          <p:nvPr/>
        </p:nvGrpSpPr>
        <p:grpSpPr>
          <a:xfrm>
            <a:off x="6129360" y="1301760"/>
            <a:ext cx="7002360" cy="4029120"/>
            <a:chOff x="6129360" y="1301760"/>
            <a:chExt cx="7002360" cy="4029120"/>
          </a:xfrm>
        </p:grpSpPr>
        <p:sp>
          <p:nvSpPr>
            <p:cNvPr id="1874" name="Image #1"/>
            <p:cNvSpPr/>
            <p:nvPr/>
          </p:nvSpPr>
          <p:spPr>
            <a:xfrm>
              <a:off x="7025760" y="1562760"/>
              <a:ext cx="5261760" cy="3328560"/>
            </a:xfrm>
            <a:prstGeom prst="rect">
              <a:avLst/>
            </a:prstGeom>
            <a:solidFill>
              <a:srgbClr val="edf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45"/>
            <p:cNvSpPr/>
            <p:nvPr/>
          </p:nvSpPr>
          <p:spPr>
            <a:xfrm>
              <a:off x="6129360" y="5175360"/>
              <a:ext cx="3527280" cy="155520"/>
            </a:xfrm>
            <a:custGeom>
              <a:avLst/>
              <a:gdLst/>
              <a:ahLst/>
              <a:rect l="l" t="t" r="r" b="b"/>
              <a:pathLst>
                <a:path w="885" h="39">
                  <a:moveTo>
                    <a:pt x="0" y="16"/>
                  </a:moveTo>
                  <a:cubicBezTo>
                    <a:pt x="0" y="23"/>
                    <a:pt x="30" y="39"/>
                    <a:pt x="78" y="39"/>
                  </a:cubicBezTo>
                  <a:cubicBezTo>
                    <a:pt x="126" y="39"/>
                    <a:pt x="885" y="39"/>
                    <a:pt x="885" y="39"/>
                  </a:cubicBezTo>
                  <a:cubicBezTo>
                    <a:pt x="885" y="0"/>
                    <a:pt x="885" y="0"/>
                    <a:pt x="88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46"/>
            <p:cNvSpPr/>
            <p:nvPr/>
          </p:nvSpPr>
          <p:spPr>
            <a:xfrm>
              <a:off x="9604440" y="5175360"/>
              <a:ext cx="3527280" cy="155520"/>
            </a:xfrm>
            <a:custGeom>
              <a:avLst/>
              <a:gdLst/>
              <a:ahLst/>
              <a:rect l="l" t="t" r="r" b="b"/>
              <a:pathLst>
                <a:path w="884" h="39">
                  <a:moveTo>
                    <a:pt x="884" y="16"/>
                  </a:moveTo>
                  <a:cubicBezTo>
                    <a:pt x="884" y="23"/>
                    <a:pt x="854" y="39"/>
                    <a:pt x="806" y="39"/>
                  </a:cubicBezTo>
                  <a:cubicBezTo>
                    <a:pt x="758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84" y="0"/>
                    <a:pt x="884" y="0"/>
                    <a:pt x="884" y="0"/>
                  </a:cubicBezTo>
                  <a:lnTo>
                    <a:pt x="884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7" name="Freeform 6"/>
            <p:cNvSpPr/>
            <p:nvPr/>
          </p:nvSpPr>
          <p:spPr>
            <a:xfrm>
              <a:off x="6819480" y="1301760"/>
              <a:ext cx="5673960" cy="3885840"/>
            </a:xfrm>
            <a:custGeom>
              <a:avLst/>
              <a:gdLst/>
              <a:ahLst/>
              <a:rect l="l" t="t" r="r" b="b"/>
              <a:pathLst>
                <a:path w="5672813" h="3885597">
                  <a:moveTo>
                    <a:pt x="207445" y="263295"/>
                  </a:moveTo>
                  <a:lnTo>
                    <a:pt x="207445" y="3586400"/>
                  </a:lnTo>
                  <a:lnTo>
                    <a:pt x="5469359" y="3586400"/>
                  </a:lnTo>
                  <a:lnTo>
                    <a:pt x="5469359" y="263295"/>
                  </a:lnTo>
                  <a:lnTo>
                    <a:pt x="207445" y="263295"/>
                  </a:lnTo>
                  <a:close/>
                  <a:moveTo>
                    <a:pt x="179393" y="0"/>
                  </a:moveTo>
                  <a:cubicBezTo>
                    <a:pt x="179393" y="0"/>
                    <a:pt x="179393" y="0"/>
                    <a:pt x="5493420" y="0"/>
                  </a:cubicBezTo>
                  <a:cubicBezTo>
                    <a:pt x="5593082" y="0"/>
                    <a:pt x="5672813" y="79787"/>
                    <a:pt x="5672813" y="179520"/>
                  </a:cubicBezTo>
                  <a:cubicBezTo>
                    <a:pt x="5672813" y="179520"/>
                    <a:pt x="5672813" y="179520"/>
                    <a:pt x="5672813" y="3706078"/>
                  </a:cubicBezTo>
                  <a:cubicBezTo>
                    <a:pt x="5672813" y="3805811"/>
                    <a:pt x="5593082" y="3885597"/>
                    <a:pt x="5493420" y="3885597"/>
                  </a:cubicBezTo>
                  <a:cubicBezTo>
                    <a:pt x="5493420" y="3885597"/>
                    <a:pt x="5493420" y="3885597"/>
                    <a:pt x="179393" y="3885597"/>
                  </a:cubicBezTo>
                  <a:cubicBezTo>
                    <a:pt x="79731" y="3885597"/>
                    <a:pt x="0" y="3805811"/>
                    <a:pt x="0" y="3706078"/>
                  </a:cubicBezTo>
                  <a:cubicBezTo>
                    <a:pt x="0" y="3706078"/>
                    <a:pt x="0" y="3706078"/>
                    <a:pt x="0" y="869672"/>
                  </a:cubicBezTo>
                  <a:cubicBezTo>
                    <a:pt x="0" y="869672"/>
                    <a:pt x="0" y="869672"/>
                    <a:pt x="0" y="179520"/>
                  </a:cubicBezTo>
                  <a:cubicBezTo>
                    <a:pt x="0" y="79787"/>
                    <a:pt x="79731" y="0"/>
                    <a:pt x="179393" y="0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8" name="Freeform 49"/>
            <p:cNvSpPr/>
            <p:nvPr/>
          </p:nvSpPr>
          <p:spPr>
            <a:xfrm>
              <a:off x="6839280" y="5004000"/>
              <a:ext cx="5637960" cy="163440"/>
            </a:xfrm>
            <a:custGeom>
              <a:avLst/>
              <a:gdLst/>
              <a:ahLst/>
              <a:rect l="l" t="t" r="r" b="b"/>
              <a:pathLst>
                <a:path w="1414" h="41">
                  <a:moveTo>
                    <a:pt x="1414" y="0"/>
                  </a:moveTo>
                  <a:cubicBezTo>
                    <a:pt x="1409" y="6"/>
                    <a:pt x="1403" y="9"/>
                    <a:pt x="1396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0" y="9"/>
                    <a:pt x="4" y="6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3"/>
                    <a:pt x="18" y="41"/>
                    <a:pt x="40" y="41"/>
                  </a:cubicBezTo>
                  <a:cubicBezTo>
                    <a:pt x="1373" y="41"/>
                    <a:pt x="1373" y="41"/>
                    <a:pt x="1373" y="41"/>
                  </a:cubicBezTo>
                  <a:cubicBezTo>
                    <a:pt x="1396" y="41"/>
                    <a:pt x="1414" y="23"/>
                    <a:pt x="1414" y="1"/>
                  </a:cubicBezTo>
                  <a:lnTo>
                    <a:pt x="1414" y="0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9" name="Freeform 58"/>
            <p:cNvSpPr/>
            <p:nvPr/>
          </p:nvSpPr>
          <p:spPr>
            <a:xfrm>
              <a:off x="9652320" y="1445040"/>
              <a:ext cx="396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0" name="Freeform 9"/>
            <p:cNvSpPr/>
            <p:nvPr/>
          </p:nvSpPr>
          <p:spPr>
            <a:xfrm>
              <a:off x="6839280" y="1321560"/>
              <a:ext cx="5637960" cy="3845880"/>
            </a:xfrm>
            <a:custGeom>
              <a:avLst/>
              <a:gdLst/>
              <a:ahLst/>
              <a:rect l="l" t="t" r="r" b="b"/>
              <a:pathLst>
                <a:path w="5636911" h="3845704">
                  <a:moveTo>
                    <a:pt x="187497" y="243350"/>
                  </a:moveTo>
                  <a:lnTo>
                    <a:pt x="187497" y="3566455"/>
                  </a:lnTo>
                  <a:lnTo>
                    <a:pt x="5449411" y="3566455"/>
                  </a:lnTo>
                  <a:lnTo>
                    <a:pt x="5449411" y="243350"/>
                  </a:lnTo>
                  <a:lnTo>
                    <a:pt x="187497" y="243350"/>
                  </a:lnTo>
                  <a:close/>
                  <a:moveTo>
                    <a:pt x="159460" y="0"/>
                  </a:moveTo>
                  <a:cubicBezTo>
                    <a:pt x="5473464" y="0"/>
                    <a:pt x="5473464" y="0"/>
                    <a:pt x="5473464" y="0"/>
                  </a:cubicBezTo>
                  <a:cubicBezTo>
                    <a:pt x="5565154" y="0"/>
                    <a:pt x="5636911" y="71808"/>
                    <a:pt x="5636911" y="159573"/>
                  </a:cubicBezTo>
                  <a:cubicBezTo>
                    <a:pt x="5636911" y="3686131"/>
                    <a:pt x="5636911" y="3686131"/>
                    <a:pt x="5636911" y="3686131"/>
                  </a:cubicBezTo>
                  <a:cubicBezTo>
                    <a:pt x="5636911" y="3773896"/>
                    <a:pt x="5565154" y="3845704"/>
                    <a:pt x="5473464" y="3845704"/>
                  </a:cubicBezTo>
                  <a:lnTo>
                    <a:pt x="159460" y="3845704"/>
                  </a:lnTo>
                  <a:cubicBezTo>
                    <a:pt x="71757" y="3845704"/>
                    <a:pt x="0" y="3773896"/>
                    <a:pt x="0" y="3686131"/>
                  </a:cubicBezTo>
                  <a:cubicBezTo>
                    <a:pt x="0" y="159573"/>
                    <a:pt x="0" y="159573"/>
                    <a:pt x="0" y="159573"/>
                  </a:cubicBezTo>
                  <a:cubicBezTo>
                    <a:pt x="0" y="71808"/>
                    <a:pt x="71757" y="0"/>
                    <a:pt x="159460" y="0"/>
                  </a:cubicBez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1" name="Rectangle 50"/>
            <p:cNvSpPr/>
            <p:nvPr/>
          </p:nvSpPr>
          <p:spPr>
            <a:xfrm>
              <a:off x="6129360" y="5111640"/>
              <a:ext cx="7002360" cy="127440"/>
            </a:xfrm>
            <a:prstGeom prst="rect">
              <a:avLst/>
            </a:prstGeom>
            <a:solidFill>
              <a:srgbClr val="d2d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2" name="Freeform 51"/>
            <p:cNvSpPr/>
            <p:nvPr/>
          </p:nvSpPr>
          <p:spPr>
            <a:xfrm>
              <a:off x="9125640" y="5111640"/>
              <a:ext cx="1005480" cy="7164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0"/>
                  </a:moveTo>
                  <a:cubicBezTo>
                    <a:pt x="2" y="10"/>
                    <a:pt x="11" y="18"/>
                    <a:pt x="22" y="18"/>
                  </a:cubicBezTo>
                  <a:cubicBezTo>
                    <a:pt x="230" y="18"/>
                    <a:pt x="230" y="18"/>
                    <a:pt x="230" y="18"/>
                  </a:cubicBezTo>
                  <a:cubicBezTo>
                    <a:pt x="241" y="18"/>
                    <a:pt x="250" y="10"/>
                    <a:pt x="2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83" name="Group 12"/>
            <p:cNvGrpSpPr/>
            <p:nvPr/>
          </p:nvGrpSpPr>
          <p:grpSpPr>
            <a:xfrm>
              <a:off x="9624600" y="1421280"/>
              <a:ext cx="59760" cy="63720"/>
              <a:chOff x="9624600" y="1421280"/>
              <a:chExt cx="59760" cy="63720"/>
            </a:xfrm>
          </p:grpSpPr>
          <p:sp>
            <p:nvSpPr>
              <p:cNvPr id="1884" name="Oval 54"/>
              <p:cNvSpPr/>
              <p:nvPr/>
            </p:nvSpPr>
            <p:spPr>
              <a:xfrm>
                <a:off x="9624600" y="1425240"/>
                <a:ext cx="59760" cy="59760"/>
              </a:xfrm>
              <a:prstGeom prst="ellipse">
                <a:avLst/>
              </a:pr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Oval 55"/>
              <p:cNvSpPr/>
              <p:nvPr/>
            </p:nvSpPr>
            <p:spPr>
              <a:xfrm>
                <a:off x="9624600" y="1421280"/>
                <a:ext cx="59760" cy="55800"/>
              </a:xfrm>
              <a:prstGeom prst="ellipse">
                <a:avLst/>
              </a:prstGeom>
              <a:solidFill>
                <a:srgbClr val="0a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Oval 56"/>
              <p:cNvSpPr/>
              <p:nvPr/>
            </p:nvSpPr>
            <p:spPr>
              <a:xfrm>
                <a:off x="9636480" y="1429200"/>
                <a:ext cx="36000" cy="39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Oval 57"/>
              <p:cNvSpPr/>
              <p:nvPr/>
            </p:nvSpPr>
            <p:spPr>
              <a:xfrm>
                <a:off x="9644400" y="1441080"/>
                <a:ext cx="19800" cy="19800"/>
              </a:xfrm>
              <a:prstGeom prst="ellipse">
                <a:avLst/>
              </a:prstGeom>
              <a:solidFill>
                <a:srgbClr val="2c99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1888" name="Chart 44"/>
          <p:cNvGraphicFramePr/>
          <p:nvPr/>
        </p:nvGraphicFramePr>
        <p:xfrm>
          <a:off x="900000" y="2595600"/>
          <a:ext cx="4629240" cy="32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9" name="Char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595600"/>
                    <a:ext cx="462924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0" name="Title 11"/>
          <p:cNvSpPr/>
          <p:nvPr/>
        </p:nvSpPr>
        <p:spPr>
          <a:xfrm>
            <a:off x="1728720" y="1765440"/>
            <a:ext cx="4367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404040"/>
                </a:solidFill>
                <a:latin typeface="Arial "/>
                <a:ea typeface="Roboto"/>
              </a:rPr>
              <a:t>SMART CHAR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404040"/>
                </a:solidFill>
                <a:latin typeface="Arial "/>
                <a:ea typeface="Roboto"/>
              </a:rPr>
              <a:t>TEAM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Straight Connector 20"/>
          <p:cNvSpPr/>
          <p:nvPr/>
        </p:nvSpPr>
        <p:spPr>
          <a:xfrm>
            <a:off x="5423040" y="876240"/>
            <a:ext cx="59450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Straight Connector 29"/>
          <p:cNvSpPr/>
          <p:nvPr/>
        </p:nvSpPr>
        <p:spPr>
          <a:xfrm flipH="1">
            <a:off x="240840" y="6529320"/>
            <a:ext cx="6759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3" name="Group 3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894" name="Rectangle 3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5" name="TextBox 42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6" name="TextBox 43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TextBox 4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TextBox 4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TextBox 4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Straight Connector 4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1" name="Group 50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902" name="Rectangle 51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3" name="TextBox 52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4" name="Straight Connector 53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TextBox 54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6" name="" descr=""/>
          <p:cNvPicPr/>
          <p:nvPr/>
        </p:nvPicPr>
        <p:blipFill>
          <a:blip r:embed="rId3"/>
          <a:stretch/>
        </p:blipFill>
        <p:spPr>
          <a:xfrm>
            <a:off x="7000560" y="1483920"/>
            <a:ext cx="531324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Rectangle 1"/>
          <p:cNvSpPr/>
          <p:nvPr/>
        </p:nvSpPr>
        <p:spPr>
          <a:xfrm>
            <a:off x="5613480" y="1714680"/>
            <a:ext cx="6565680" cy="342900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Rectangle 13"/>
          <p:cNvSpPr/>
          <p:nvPr/>
        </p:nvSpPr>
        <p:spPr>
          <a:xfrm>
            <a:off x="0" y="2832120"/>
            <a:ext cx="8864640" cy="10285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9" name="Group 2"/>
          <p:cNvGrpSpPr/>
          <p:nvPr/>
        </p:nvGrpSpPr>
        <p:grpSpPr>
          <a:xfrm>
            <a:off x="2682720" y="1592280"/>
            <a:ext cx="5962680" cy="3538440"/>
            <a:chOff x="2682720" y="1592280"/>
            <a:chExt cx="5962680" cy="3538440"/>
          </a:xfrm>
        </p:grpSpPr>
        <p:sp>
          <p:nvSpPr>
            <p:cNvPr id="1910" name="TextBox 3"/>
            <p:cNvSpPr/>
            <p:nvPr/>
          </p:nvSpPr>
          <p:spPr>
            <a:xfrm>
              <a:off x="2683080" y="1592280"/>
              <a:ext cx="59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04040"/>
                  </a:solidFill>
                  <a:latin typeface="Arial"/>
                  <a:ea typeface="Arial"/>
                </a:rPr>
                <a:t>THANKS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11" name="TextBox 4" descr=""/>
            <p:cNvPicPr/>
            <p:nvPr/>
          </p:nvPicPr>
          <p:blipFill>
            <a:blip r:embed="rId1"/>
            <a:stretch/>
          </p:blipFill>
          <p:spPr>
            <a:xfrm>
              <a:off x="2682720" y="2584440"/>
              <a:ext cx="596124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TextBox 5"/>
            <p:cNvSpPr/>
            <p:nvPr/>
          </p:nvSpPr>
          <p:spPr>
            <a:xfrm>
              <a:off x="2683080" y="3573720"/>
              <a:ext cx="59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04040"/>
                  </a:solidFill>
                  <a:latin typeface="Arial"/>
                  <a:ea typeface="Arial"/>
                </a:rPr>
                <a:t>THANKS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3" name="Straight Connector 15"/>
          <p:cNvSpPr/>
          <p:nvPr/>
        </p:nvSpPr>
        <p:spPr>
          <a:xfrm>
            <a:off x="9118440" y="1905120"/>
            <a:ext cx="0" cy="29844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Rectangle 16"/>
          <p:cNvSpPr/>
          <p:nvPr/>
        </p:nvSpPr>
        <p:spPr>
          <a:xfrm>
            <a:off x="9304200" y="2690640"/>
            <a:ext cx="2578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, lacus nulla ac netus nibh aliquet, porttitor ligula justo libero vivamus porttitor dolor, conubia mollit. Sapien nam suspendi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5" name="Group 27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916" name="Rectangle 28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TextBox 29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TextBox 30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TextBox 31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TextBox 32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TextBox 33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Straight Connector 34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3" name="Group 35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1924" name="Rectangle 36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TextBox 37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6" name="Straight Connector 38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TextBox 39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Shape 4583"/>
          <p:cNvSpPr/>
          <p:nvPr/>
        </p:nvSpPr>
        <p:spPr>
          <a:xfrm>
            <a:off x="10551960" y="5283360"/>
            <a:ext cx="227160" cy="126720"/>
          </a:xfrm>
          <a:custGeom>
            <a:avLst/>
            <a:gdLst>
              <a:gd name="textAreaLeft" fmla="*/ 0 w 227160"/>
              <a:gd name="textAreaRight" fmla="*/ 227520 w 2271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0"/>
                </a:moveTo>
                <a:lnTo>
                  <a:pt x="119745" y="0"/>
                </a:lnTo>
                <a:cubicBezTo>
                  <a:pt x="115932" y="0"/>
                  <a:pt x="112118" y="0"/>
                  <a:pt x="112118" y="0"/>
                </a:cubicBezTo>
                <a:cubicBezTo>
                  <a:pt x="59745" y="99699"/>
                  <a:pt x="59745" y="99699"/>
                  <a:pt x="59745" y="99699"/>
                </a:cubicBezTo>
                <a:cubicBezTo>
                  <a:pt x="7372" y="0"/>
                  <a:pt x="7372" y="0"/>
                  <a:pt x="7372" y="0"/>
                </a:cubicBezTo>
                <a:cubicBezTo>
                  <a:pt x="7372" y="0"/>
                  <a:pt x="3559" y="0"/>
                  <a:pt x="0" y="0"/>
                </a:cubicBezTo>
                <a:cubicBezTo>
                  <a:pt x="0" y="6315"/>
                  <a:pt x="0" y="6315"/>
                  <a:pt x="0" y="13082"/>
                </a:cubicBezTo>
                <a:cubicBezTo>
                  <a:pt x="55932" y="119548"/>
                  <a:pt x="55932" y="119548"/>
                  <a:pt x="55932" y="119548"/>
                </a:cubicBezTo>
                <a:lnTo>
                  <a:pt x="59745" y="119548"/>
                </a:lnTo>
                <a:lnTo>
                  <a:pt x="63559" y="119548"/>
                </a:lnTo>
                <a:cubicBezTo>
                  <a:pt x="119745" y="13082"/>
                  <a:pt x="119745" y="13082"/>
                  <a:pt x="119745" y="13082"/>
                </a:cubicBezTo>
                <a:cubicBezTo>
                  <a:pt x="119745" y="6315"/>
                  <a:pt x="119745" y="6315"/>
                  <a:pt x="119745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Shape 4584"/>
          <p:cNvSpPr/>
          <p:nvPr/>
        </p:nvSpPr>
        <p:spPr>
          <a:xfrm>
            <a:off x="10049040" y="528336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Shape 4585"/>
          <p:cNvSpPr/>
          <p:nvPr/>
        </p:nvSpPr>
        <p:spPr>
          <a:xfrm>
            <a:off x="9617040" y="5232240"/>
            <a:ext cx="136440" cy="228600"/>
          </a:xfrm>
          <a:custGeom>
            <a:avLst/>
            <a:gdLst>
              <a:gd name="textAreaLeft" fmla="*/ 0 w 136440"/>
              <a:gd name="textAreaRight" fmla="*/ 136800 w 136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3594" y="56186"/>
                </a:moveTo>
                <a:lnTo>
                  <a:pt x="113594" y="56186"/>
                </a:lnTo>
                <a:cubicBezTo>
                  <a:pt x="12811" y="0"/>
                  <a:pt x="12811" y="0"/>
                  <a:pt x="12811" y="0"/>
                </a:cubicBezTo>
                <a:cubicBezTo>
                  <a:pt x="12811" y="0"/>
                  <a:pt x="6405" y="0"/>
                  <a:pt x="0" y="0"/>
                </a:cubicBezTo>
                <a:cubicBezTo>
                  <a:pt x="0" y="3559"/>
                  <a:pt x="0" y="7372"/>
                  <a:pt x="0" y="7372"/>
                </a:cubicBezTo>
                <a:cubicBezTo>
                  <a:pt x="94377" y="59745"/>
                  <a:pt x="94377" y="59745"/>
                  <a:pt x="94377" y="59745"/>
                </a:cubicBezTo>
                <a:cubicBezTo>
                  <a:pt x="0" y="112372"/>
                  <a:pt x="0" y="112372"/>
                  <a:pt x="0" y="112372"/>
                </a:cubicBezTo>
                <a:cubicBezTo>
                  <a:pt x="0" y="112372"/>
                  <a:pt x="0" y="115932"/>
                  <a:pt x="0" y="119745"/>
                </a:cubicBezTo>
                <a:cubicBezTo>
                  <a:pt x="6405" y="119745"/>
                  <a:pt x="12811" y="119745"/>
                  <a:pt x="12811" y="119745"/>
                </a:cubicBezTo>
                <a:cubicBezTo>
                  <a:pt x="113594" y="63559"/>
                  <a:pt x="113594" y="63559"/>
                  <a:pt x="113594" y="63559"/>
                </a:cubicBezTo>
                <a:cubicBezTo>
                  <a:pt x="119572" y="63559"/>
                  <a:pt x="119572" y="59745"/>
                  <a:pt x="119572" y="59745"/>
                </a:cubicBezTo>
                <a:cubicBezTo>
                  <a:pt x="119572" y="59745"/>
                  <a:pt x="119572" y="56186"/>
                  <a:pt x="113594" y="5618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Shape 4586"/>
          <p:cNvSpPr/>
          <p:nvPr/>
        </p:nvSpPr>
        <p:spPr>
          <a:xfrm>
            <a:off x="9131400" y="523224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Shape 4587"/>
          <p:cNvSpPr/>
          <p:nvPr/>
        </p:nvSpPr>
        <p:spPr>
          <a:xfrm>
            <a:off x="8550360" y="519912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0157" y="68432"/>
                </a:moveTo>
                <a:lnTo>
                  <a:pt x="50157" y="68432"/>
                </a:lnTo>
                <a:cubicBezTo>
                  <a:pt x="16845" y="68432"/>
                  <a:pt x="16845" y="68432"/>
                  <a:pt x="16845" y="68432"/>
                </a:cubicBezTo>
                <a:cubicBezTo>
                  <a:pt x="14006" y="68432"/>
                  <a:pt x="11167" y="68432"/>
                  <a:pt x="11167" y="71340"/>
                </a:cubicBezTo>
                <a:cubicBezTo>
                  <a:pt x="11167" y="74248"/>
                  <a:pt x="14006" y="74248"/>
                  <a:pt x="16845" y="74248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5678" y="119806"/>
                  <a:pt x="5678" y="119806"/>
                  <a:pt x="5678" y="119806"/>
                </a:cubicBezTo>
                <a:cubicBezTo>
                  <a:pt x="44668" y="79870"/>
                  <a:pt x="44668" y="79870"/>
                  <a:pt x="44668" y="79870"/>
                </a:cubicBezTo>
                <a:cubicBezTo>
                  <a:pt x="44668" y="105654"/>
                  <a:pt x="44668" y="105654"/>
                  <a:pt x="44668" y="105654"/>
                </a:cubicBezTo>
                <a:cubicBezTo>
                  <a:pt x="44668" y="108368"/>
                  <a:pt x="47507" y="108368"/>
                  <a:pt x="50157" y="108368"/>
                </a:cubicBezTo>
                <a:cubicBezTo>
                  <a:pt x="50157" y="108368"/>
                  <a:pt x="52996" y="108368"/>
                  <a:pt x="52996" y="105654"/>
                </a:cubicBezTo>
                <a:cubicBezTo>
                  <a:pt x="52996" y="71340"/>
                  <a:pt x="52996" y="71340"/>
                  <a:pt x="52996" y="71340"/>
                </a:cubicBezTo>
                <a:lnTo>
                  <a:pt x="52996" y="68432"/>
                </a:lnTo>
                <a:cubicBezTo>
                  <a:pt x="50157" y="68432"/>
                  <a:pt x="50157" y="68432"/>
                  <a:pt x="50157" y="68432"/>
                </a:cubicBezTo>
                <a:close/>
                <a:moveTo>
                  <a:pt x="105993" y="45751"/>
                </a:moveTo>
                <a:lnTo>
                  <a:pt x="105993" y="45751"/>
                </a:lnTo>
                <a:cubicBezTo>
                  <a:pt x="81009" y="45751"/>
                  <a:pt x="81009" y="45751"/>
                  <a:pt x="81009" y="45751"/>
                </a:cubicBezTo>
                <a:cubicBezTo>
                  <a:pt x="119810" y="5621"/>
                  <a:pt x="119810" y="5621"/>
                  <a:pt x="119810" y="5621"/>
                </a:cubicBezTo>
                <a:cubicBezTo>
                  <a:pt x="114321" y="0"/>
                  <a:pt x="114321" y="0"/>
                  <a:pt x="114321" y="0"/>
                </a:cubicBezTo>
                <a:cubicBezTo>
                  <a:pt x="75331" y="39935"/>
                  <a:pt x="75331" y="39935"/>
                  <a:pt x="75331" y="39935"/>
                </a:cubicBezTo>
                <a:cubicBezTo>
                  <a:pt x="75331" y="14345"/>
                  <a:pt x="75331" y="14345"/>
                  <a:pt x="75331" y="14345"/>
                </a:cubicBezTo>
                <a:cubicBezTo>
                  <a:pt x="75331" y="11437"/>
                  <a:pt x="72492" y="11437"/>
                  <a:pt x="72492" y="11437"/>
                </a:cubicBezTo>
                <a:cubicBezTo>
                  <a:pt x="69842" y="11437"/>
                  <a:pt x="67003" y="11437"/>
                  <a:pt x="67003" y="14345"/>
                </a:cubicBezTo>
                <a:cubicBezTo>
                  <a:pt x="67003" y="48465"/>
                  <a:pt x="67003" y="48465"/>
                  <a:pt x="67003" y="48465"/>
                </a:cubicBezTo>
                <a:cubicBezTo>
                  <a:pt x="67003" y="48465"/>
                  <a:pt x="67003" y="51373"/>
                  <a:pt x="69842" y="51373"/>
                </a:cubicBezTo>
                <a:cubicBezTo>
                  <a:pt x="69842" y="51373"/>
                  <a:pt x="69842" y="51373"/>
                  <a:pt x="72492" y="51373"/>
                </a:cubicBezTo>
                <a:cubicBezTo>
                  <a:pt x="105993" y="51373"/>
                  <a:pt x="105993" y="51373"/>
                  <a:pt x="105993" y="51373"/>
                </a:cubicBezTo>
                <a:cubicBezTo>
                  <a:pt x="105993" y="51373"/>
                  <a:pt x="108832" y="51373"/>
                  <a:pt x="108832" y="48465"/>
                </a:cubicBezTo>
                <a:cubicBezTo>
                  <a:pt x="108832" y="45751"/>
                  <a:pt x="105993" y="45751"/>
                  <a:pt x="105993" y="4575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Shape 4588"/>
          <p:cNvSpPr/>
          <p:nvPr/>
        </p:nvSpPr>
        <p:spPr>
          <a:xfrm>
            <a:off x="8061480" y="519912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Shape 4589"/>
          <p:cNvSpPr/>
          <p:nvPr/>
        </p:nvSpPr>
        <p:spPr>
          <a:xfrm>
            <a:off x="7575480" y="5283360"/>
            <a:ext cx="295200" cy="12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806" y="53233"/>
                </a:moveTo>
                <a:lnTo>
                  <a:pt x="119806" y="53233"/>
                </a:lnTo>
                <a:cubicBezTo>
                  <a:pt x="96930" y="0"/>
                  <a:pt x="96930" y="0"/>
                  <a:pt x="96930" y="0"/>
                </a:cubicBezTo>
                <a:cubicBezTo>
                  <a:pt x="96930" y="0"/>
                  <a:pt x="94216" y="0"/>
                  <a:pt x="91308" y="0"/>
                </a:cubicBezTo>
                <a:cubicBezTo>
                  <a:pt x="91308" y="6315"/>
                  <a:pt x="91308" y="6315"/>
                  <a:pt x="91308" y="13082"/>
                </a:cubicBezTo>
                <a:cubicBezTo>
                  <a:pt x="108368" y="53233"/>
                  <a:pt x="108368" y="53233"/>
                  <a:pt x="108368" y="53233"/>
                </a:cubicBezTo>
                <a:cubicBezTo>
                  <a:pt x="11437" y="53233"/>
                  <a:pt x="11437" y="53233"/>
                  <a:pt x="11437" y="53233"/>
                </a:cubicBezTo>
                <a:cubicBezTo>
                  <a:pt x="28497" y="13082"/>
                  <a:pt x="28497" y="13082"/>
                  <a:pt x="28497" y="13082"/>
                </a:cubicBezTo>
                <a:cubicBezTo>
                  <a:pt x="28497" y="6315"/>
                  <a:pt x="28497" y="6315"/>
                  <a:pt x="28497" y="0"/>
                </a:cubicBezTo>
                <a:cubicBezTo>
                  <a:pt x="25589" y="0"/>
                  <a:pt x="22875" y="0"/>
                  <a:pt x="22875" y="0"/>
                </a:cubicBezTo>
                <a:cubicBezTo>
                  <a:pt x="0" y="53233"/>
                  <a:pt x="0" y="53233"/>
                  <a:pt x="0" y="53233"/>
                </a:cubicBezTo>
                <a:lnTo>
                  <a:pt x="0" y="59548"/>
                </a:lnTo>
                <a:lnTo>
                  <a:pt x="0" y="66315"/>
                </a:lnTo>
                <a:cubicBezTo>
                  <a:pt x="22875" y="119548"/>
                  <a:pt x="22875" y="119548"/>
                  <a:pt x="22875" y="119548"/>
                </a:cubicBezTo>
                <a:cubicBezTo>
                  <a:pt x="22875" y="119548"/>
                  <a:pt x="25589" y="119548"/>
                  <a:pt x="28497" y="119548"/>
                </a:cubicBezTo>
                <a:cubicBezTo>
                  <a:pt x="28497" y="112781"/>
                  <a:pt x="28497" y="112781"/>
                  <a:pt x="28497" y="106015"/>
                </a:cubicBezTo>
                <a:cubicBezTo>
                  <a:pt x="11437" y="66315"/>
                  <a:pt x="11437" y="66315"/>
                  <a:pt x="11437" y="66315"/>
                </a:cubicBezTo>
                <a:cubicBezTo>
                  <a:pt x="108368" y="66315"/>
                  <a:pt x="108368" y="66315"/>
                  <a:pt x="108368" y="66315"/>
                </a:cubicBezTo>
                <a:cubicBezTo>
                  <a:pt x="91308" y="106015"/>
                  <a:pt x="91308" y="106015"/>
                  <a:pt x="91308" y="106015"/>
                </a:cubicBezTo>
                <a:cubicBezTo>
                  <a:pt x="91308" y="112781"/>
                  <a:pt x="91308" y="112781"/>
                  <a:pt x="91308" y="119548"/>
                </a:cubicBezTo>
                <a:cubicBezTo>
                  <a:pt x="94216" y="119548"/>
                  <a:pt x="96930" y="119548"/>
                  <a:pt x="96930" y="119548"/>
                </a:cubicBezTo>
                <a:cubicBezTo>
                  <a:pt x="119806" y="66315"/>
                  <a:pt x="119806" y="66315"/>
                  <a:pt x="119806" y="66315"/>
                </a:cubicBezTo>
                <a:lnTo>
                  <a:pt x="119806" y="59548"/>
                </a:lnTo>
                <a:lnTo>
                  <a:pt x="119806" y="53233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Shape 4590"/>
          <p:cNvSpPr/>
          <p:nvPr/>
        </p:nvSpPr>
        <p:spPr>
          <a:xfrm>
            <a:off x="7151760" y="519912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Shape 4591"/>
          <p:cNvSpPr/>
          <p:nvPr/>
        </p:nvSpPr>
        <p:spPr>
          <a:xfrm>
            <a:off x="6597720" y="521172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47272"/>
                </a:moveTo>
                <a:lnTo>
                  <a:pt x="119774" y="47272"/>
                </a:lnTo>
                <a:cubicBezTo>
                  <a:pt x="76610" y="3208"/>
                  <a:pt x="76610" y="3208"/>
                  <a:pt x="76610" y="3208"/>
                </a:cubicBezTo>
                <a:cubicBezTo>
                  <a:pt x="73220" y="0"/>
                  <a:pt x="70056" y="0"/>
                  <a:pt x="70056" y="3208"/>
                </a:cubicBezTo>
                <a:cubicBezTo>
                  <a:pt x="66666" y="3208"/>
                  <a:pt x="66666" y="3208"/>
                  <a:pt x="66666" y="6417"/>
                </a:cubicBezTo>
                <a:cubicBezTo>
                  <a:pt x="66666" y="31657"/>
                  <a:pt x="66666" y="31657"/>
                  <a:pt x="66666" y="31657"/>
                </a:cubicBezTo>
                <a:cubicBezTo>
                  <a:pt x="30056" y="31657"/>
                  <a:pt x="0" y="59893"/>
                  <a:pt x="0" y="94545"/>
                </a:cubicBezTo>
                <a:cubicBezTo>
                  <a:pt x="0" y="104171"/>
                  <a:pt x="3389" y="110374"/>
                  <a:pt x="6779" y="119786"/>
                </a:cubicBezTo>
                <a:cubicBezTo>
                  <a:pt x="13333" y="91550"/>
                  <a:pt x="40000" y="72513"/>
                  <a:pt x="66666" y="72513"/>
                </a:cubicBezTo>
                <a:lnTo>
                  <a:pt x="66666" y="97754"/>
                </a:lnTo>
                <a:cubicBezTo>
                  <a:pt x="66666" y="97754"/>
                  <a:pt x="66666" y="100748"/>
                  <a:pt x="70056" y="100748"/>
                </a:cubicBezTo>
                <a:lnTo>
                  <a:pt x="70056" y="100748"/>
                </a:lnTo>
                <a:cubicBezTo>
                  <a:pt x="70056" y="100748"/>
                  <a:pt x="70056" y="100748"/>
                  <a:pt x="73220" y="100748"/>
                </a:cubicBezTo>
                <a:cubicBezTo>
                  <a:pt x="73220" y="100748"/>
                  <a:pt x="73220" y="100748"/>
                  <a:pt x="76610" y="100748"/>
                </a:cubicBezTo>
                <a:cubicBezTo>
                  <a:pt x="119774" y="53689"/>
                  <a:pt x="119774" y="53689"/>
                  <a:pt x="119774" y="53689"/>
                </a:cubicBezTo>
                <a:cubicBezTo>
                  <a:pt x="119774" y="53689"/>
                  <a:pt x="119774" y="53689"/>
                  <a:pt x="119774" y="50481"/>
                </a:cubicBezTo>
                <a:cubicBezTo>
                  <a:pt x="119774" y="50481"/>
                  <a:pt x="119774" y="50481"/>
                  <a:pt x="119774" y="47272"/>
                </a:cubicBezTo>
                <a:close/>
                <a:moveTo>
                  <a:pt x="76610" y="88342"/>
                </a:moveTo>
                <a:lnTo>
                  <a:pt x="76610" y="88342"/>
                </a:lnTo>
                <a:cubicBezTo>
                  <a:pt x="76610" y="63101"/>
                  <a:pt x="76610" y="63101"/>
                  <a:pt x="76610" y="63101"/>
                </a:cubicBezTo>
                <a:cubicBezTo>
                  <a:pt x="76610" y="63101"/>
                  <a:pt x="66666" y="63101"/>
                  <a:pt x="63276" y="63101"/>
                </a:cubicBezTo>
                <a:cubicBezTo>
                  <a:pt x="43389" y="63101"/>
                  <a:pt x="20112" y="78930"/>
                  <a:pt x="9943" y="88342"/>
                </a:cubicBezTo>
                <a:cubicBezTo>
                  <a:pt x="9943" y="72513"/>
                  <a:pt x="33446" y="41069"/>
                  <a:pt x="63276" y="37860"/>
                </a:cubicBezTo>
                <a:cubicBezTo>
                  <a:pt x="66666" y="37860"/>
                  <a:pt x="76610" y="37860"/>
                  <a:pt x="76610" y="37860"/>
                </a:cubicBezTo>
                <a:cubicBezTo>
                  <a:pt x="76610" y="15828"/>
                  <a:pt x="76610" y="15828"/>
                  <a:pt x="76610" y="15828"/>
                </a:cubicBezTo>
                <a:cubicBezTo>
                  <a:pt x="109830" y="50481"/>
                  <a:pt x="109830" y="50481"/>
                  <a:pt x="109830" y="50481"/>
                </a:cubicBezTo>
                <a:lnTo>
                  <a:pt x="76610" y="883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Shape 4592"/>
          <p:cNvSpPr/>
          <p:nvPr/>
        </p:nvSpPr>
        <p:spPr>
          <a:xfrm>
            <a:off x="6102360" y="521172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Shape 4593"/>
          <p:cNvSpPr/>
          <p:nvPr/>
        </p:nvSpPr>
        <p:spPr>
          <a:xfrm>
            <a:off x="10517040" y="4751280"/>
            <a:ext cx="295560" cy="206640"/>
          </a:xfrm>
          <a:custGeom>
            <a:avLst/>
            <a:gdLst>
              <a:gd name="textAreaLeft" fmla="*/ 0 w 295560"/>
              <a:gd name="textAreaRight" fmla="*/ 295920 w 2955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37027" y="0"/>
                  <a:pt x="37027" y="0"/>
                  <a:pt x="37027" y="0"/>
                </a:cubicBezTo>
                <a:lnTo>
                  <a:pt x="34313" y="0"/>
                </a:lnTo>
                <a:cubicBezTo>
                  <a:pt x="0" y="57892"/>
                  <a:pt x="0" y="57892"/>
                  <a:pt x="0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0" y="66042"/>
                </a:cubicBezTo>
                <a:cubicBezTo>
                  <a:pt x="34313" y="119718"/>
                  <a:pt x="34313" y="119718"/>
                  <a:pt x="34313" y="119718"/>
                </a:cubicBezTo>
                <a:lnTo>
                  <a:pt x="37027" y="119718"/>
                </a:lnTo>
                <a:lnTo>
                  <a:pt x="37027" y="119718"/>
                </a:lnTo>
                <a:cubicBezTo>
                  <a:pt x="105654" y="119718"/>
                  <a:pt x="105654" y="119718"/>
                  <a:pt x="105654" y="119718"/>
                </a:cubicBezTo>
                <a:cubicBezTo>
                  <a:pt x="114184" y="119718"/>
                  <a:pt x="119806" y="111569"/>
                  <a:pt x="119806" y="99203"/>
                </a:cubicBezTo>
                <a:cubicBezTo>
                  <a:pt x="119806" y="20515"/>
                  <a:pt x="119806" y="20515"/>
                  <a:pt x="119806" y="20515"/>
                </a:cubicBezTo>
                <a:cubicBezTo>
                  <a:pt x="119806" y="8149"/>
                  <a:pt x="114184" y="0"/>
                  <a:pt x="105654" y="0"/>
                </a:cubicBezTo>
                <a:close/>
                <a:moveTo>
                  <a:pt x="114184" y="99203"/>
                </a:moveTo>
                <a:lnTo>
                  <a:pt x="114184" y="99203"/>
                </a:lnTo>
                <a:cubicBezTo>
                  <a:pt x="114184" y="103419"/>
                  <a:pt x="108368" y="111569"/>
                  <a:pt x="105654" y="111569"/>
                </a:cubicBezTo>
                <a:cubicBezTo>
                  <a:pt x="39935" y="111569"/>
                  <a:pt x="39935" y="111569"/>
                  <a:pt x="39935" y="111569"/>
                </a:cubicBezTo>
                <a:cubicBezTo>
                  <a:pt x="8529" y="62107"/>
                  <a:pt x="8529" y="62107"/>
                  <a:pt x="8529" y="62107"/>
                </a:cubicBezTo>
                <a:cubicBezTo>
                  <a:pt x="39935" y="12365"/>
                  <a:pt x="39935" y="12365"/>
                  <a:pt x="39935" y="12365"/>
                </a:cubicBezTo>
                <a:cubicBezTo>
                  <a:pt x="105654" y="12365"/>
                  <a:pt x="105654" y="12365"/>
                  <a:pt x="105654" y="12365"/>
                </a:cubicBezTo>
                <a:cubicBezTo>
                  <a:pt x="108368" y="12365"/>
                  <a:pt x="114184" y="16299"/>
                  <a:pt x="114184" y="20515"/>
                </a:cubicBezTo>
                <a:lnTo>
                  <a:pt x="114184" y="992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Shape 4594"/>
          <p:cNvSpPr/>
          <p:nvPr/>
        </p:nvSpPr>
        <p:spPr>
          <a:xfrm>
            <a:off x="10023480" y="475128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Shape 4595"/>
          <p:cNvSpPr/>
          <p:nvPr/>
        </p:nvSpPr>
        <p:spPr>
          <a:xfrm>
            <a:off x="9532800" y="4702320"/>
            <a:ext cx="304920" cy="2268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61324" y="33742"/>
                </a:moveTo>
                <a:lnTo>
                  <a:pt x="61324" y="33742"/>
                </a:lnTo>
                <a:cubicBezTo>
                  <a:pt x="61324" y="29936"/>
                  <a:pt x="61324" y="29936"/>
                  <a:pt x="58485" y="29936"/>
                </a:cubicBezTo>
                <a:cubicBezTo>
                  <a:pt x="58485" y="29936"/>
                  <a:pt x="58485" y="29936"/>
                  <a:pt x="55646" y="33742"/>
                </a:cubicBezTo>
                <a:cubicBezTo>
                  <a:pt x="33312" y="63678"/>
                  <a:pt x="33312" y="63678"/>
                  <a:pt x="33312" y="63678"/>
                </a:cubicBezTo>
                <a:lnTo>
                  <a:pt x="33312" y="67484"/>
                </a:lnTo>
                <a:cubicBezTo>
                  <a:pt x="36151" y="71035"/>
                  <a:pt x="38990" y="71035"/>
                  <a:pt x="38990" y="67484"/>
                </a:cubicBezTo>
                <a:cubicBezTo>
                  <a:pt x="55646" y="48710"/>
                  <a:pt x="55646" y="48710"/>
                  <a:pt x="55646" y="48710"/>
                </a:cubicBezTo>
                <a:cubicBezTo>
                  <a:pt x="55646" y="97167"/>
                  <a:pt x="55646" y="97167"/>
                  <a:pt x="55646" y="97167"/>
                </a:cubicBezTo>
                <a:lnTo>
                  <a:pt x="58485" y="100972"/>
                </a:lnTo>
                <a:cubicBezTo>
                  <a:pt x="61324" y="100972"/>
                  <a:pt x="63974" y="97167"/>
                  <a:pt x="63974" y="97167"/>
                </a:cubicBezTo>
                <a:cubicBezTo>
                  <a:pt x="63974" y="48710"/>
                  <a:pt x="63974" y="48710"/>
                  <a:pt x="63974" y="48710"/>
                </a:cubicBezTo>
                <a:cubicBezTo>
                  <a:pt x="77981" y="67484"/>
                  <a:pt x="77981" y="67484"/>
                  <a:pt x="77981" y="67484"/>
                </a:cubicBezTo>
                <a:cubicBezTo>
                  <a:pt x="80630" y="71035"/>
                  <a:pt x="83659" y="71035"/>
                  <a:pt x="83659" y="67484"/>
                </a:cubicBezTo>
                <a:cubicBezTo>
                  <a:pt x="86309" y="67484"/>
                  <a:pt x="86309" y="63678"/>
                  <a:pt x="83659" y="63678"/>
                </a:cubicBezTo>
                <a:lnTo>
                  <a:pt x="61324" y="33742"/>
                </a:lnTo>
                <a:close/>
                <a:moveTo>
                  <a:pt x="86309" y="26384"/>
                </a:moveTo>
                <a:lnTo>
                  <a:pt x="86309" y="26384"/>
                </a:lnTo>
                <a:cubicBezTo>
                  <a:pt x="80630" y="11416"/>
                  <a:pt x="69652" y="0"/>
                  <a:pt x="55646" y="0"/>
                </a:cubicBezTo>
                <a:cubicBezTo>
                  <a:pt x="38990" y="0"/>
                  <a:pt x="22145" y="18773"/>
                  <a:pt x="22145" y="41099"/>
                </a:cubicBezTo>
                <a:cubicBezTo>
                  <a:pt x="8328" y="48710"/>
                  <a:pt x="0" y="63678"/>
                  <a:pt x="0" y="82452"/>
                </a:cubicBezTo>
                <a:cubicBezTo>
                  <a:pt x="0" y="100972"/>
                  <a:pt x="13817" y="119746"/>
                  <a:pt x="30662" y="119746"/>
                </a:cubicBezTo>
                <a:cubicBezTo>
                  <a:pt x="91798" y="119746"/>
                  <a:pt x="91798" y="119746"/>
                  <a:pt x="91798" y="119746"/>
                </a:cubicBezTo>
                <a:cubicBezTo>
                  <a:pt x="105804" y="112135"/>
                  <a:pt x="119810" y="93615"/>
                  <a:pt x="119810" y="74841"/>
                </a:cubicBezTo>
                <a:cubicBezTo>
                  <a:pt x="119810" y="48710"/>
                  <a:pt x="102965" y="26384"/>
                  <a:pt x="86309" y="26384"/>
                </a:cubicBezTo>
                <a:close/>
                <a:moveTo>
                  <a:pt x="91798" y="112135"/>
                </a:moveTo>
                <a:lnTo>
                  <a:pt x="91798" y="112135"/>
                </a:lnTo>
                <a:cubicBezTo>
                  <a:pt x="30662" y="112135"/>
                  <a:pt x="30662" y="112135"/>
                  <a:pt x="30662" y="112135"/>
                </a:cubicBezTo>
                <a:cubicBezTo>
                  <a:pt x="30662" y="112135"/>
                  <a:pt x="8328" y="108583"/>
                  <a:pt x="8328" y="82452"/>
                </a:cubicBezTo>
                <a:cubicBezTo>
                  <a:pt x="8328" y="67484"/>
                  <a:pt x="16656" y="52515"/>
                  <a:pt x="30662" y="52515"/>
                </a:cubicBezTo>
                <a:cubicBezTo>
                  <a:pt x="30662" y="29936"/>
                  <a:pt x="38990" y="11416"/>
                  <a:pt x="55646" y="11416"/>
                </a:cubicBezTo>
                <a:cubicBezTo>
                  <a:pt x="69652" y="11416"/>
                  <a:pt x="77981" y="22579"/>
                  <a:pt x="80630" y="37547"/>
                </a:cubicBezTo>
                <a:cubicBezTo>
                  <a:pt x="97476" y="33742"/>
                  <a:pt x="111293" y="56067"/>
                  <a:pt x="111293" y="71035"/>
                </a:cubicBezTo>
                <a:cubicBezTo>
                  <a:pt x="111293" y="86004"/>
                  <a:pt x="102965" y="104778"/>
                  <a:pt x="91798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Shape 4596"/>
          <p:cNvSpPr/>
          <p:nvPr/>
        </p:nvSpPr>
        <p:spPr>
          <a:xfrm>
            <a:off x="9045720" y="470232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Shape 4597"/>
          <p:cNvSpPr/>
          <p:nvPr/>
        </p:nvSpPr>
        <p:spPr>
          <a:xfrm>
            <a:off x="8550360" y="470232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842" y="47433"/>
                </a:moveTo>
                <a:lnTo>
                  <a:pt x="69842" y="47433"/>
                </a:lnTo>
                <a:cubicBezTo>
                  <a:pt x="33501" y="47433"/>
                  <a:pt x="33501" y="47433"/>
                  <a:pt x="33501" y="47433"/>
                </a:cubicBezTo>
                <a:cubicBezTo>
                  <a:pt x="30662" y="47433"/>
                  <a:pt x="30662" y="47433"/>
                  <a:pt x="30662" y="50267"/>
                </a:cubicBezTo>
                <a:cubicBezTo>
                  <a:pt x="30662" y="52913"/>
                  <a:pt x="30662" y="52913"/>
                  <a:pt x="33501" y="52913"/>
                </a:cubicBezTo>
                <a:cubicBezTo>
                  <a:pt x="69842" y="52913"/>
                  <a:pt x="69842" y="52913"/>
                  <a:pt x="69842" y="52913"/>
                </a:cubicBezTo>
                <a:cubicBezTo>
                  <a:pt x="72492" y="52913"/>
                  <a:pt x="75331" y="52913"/>
                  <a:pt x="75331" y="50267"/>
                </a:cubicBezTo>
                <a:cubicBezTo>
                  <a:pt x="75331" y="47433"/>
                  <a:pt x="72492" y="47433"/>
                  <a:pt x="69842" y="47433"/>
                </a:cubicBezTo>
                <a:close/>
                <a:moveTo>
                  <a:pt x="119810" y="114141"/>
                </a:moveTo>
                <a:lnTo>
                  <a:pt x="119810" y="114141"/>
                </a:lnTo>
                <a:cubicBezTo>
                  <a:pt x="89148" y="83527"/>
                  <a:pt x="89148" y="83527"/>
                  <a:pt x="89148" y="83527"/>
                </a:cubicBezTo>
                <a:cubicBezTo>
                  <a:pt x="94826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334" y="0"/>
                  <a:pt x="0" y="22299"/>
                  <a:pt x="0" y="50267"/>
                </a:cubicBezTo>
                <a:cubicBezTo>
                  <a:pt x="0" y="78047"/>
                  <a:pt x="22334" y="100157"/>
                  <a:pt x="50157" y="100157"/>
                </a:cubicBezTo>
                <a:cubicBezTo>
                  <a:pt x="64164" y="100157"/>
                  <a:pt x="72492" y="94677"/>
                  <a:pt x="83659" y="89196"/>
                </a:cubicBezTo>
                <a:cubicBezTo>
                  <a:pt x="114321" y="119811"/>
                  <a:pt x="114321" y="119811"/>
                  <a:pt x="114321" y="119811"/>
                </a:cubicBezTo>
                <a:cubicBezTo>
                  <a:pt x="114321" y="119811"/>
                  <a:pt x="117160" y="119811"/>
                  <a:pt x="119810" y="119811"/>
                </a:cubicBezTo>
                <a:cubicBezTo>
                  <a:pt x="119810" y="116976"/>
                  <a:pt x="119810" y="114141"/>
                  <a:pt x="119810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8012" y="92031"/>
                  <a:pt x="8517" y="72377"/>
                  <a:pt x="8517" y="50267"/>
                </a:cubicBezTo>
                <a:cubicBezTo>
                  <a:pt x="8517" y="27968"/>
                  <a:pt x="28012" y="8503"/>
                  <a:pt x="50157" y="8503"/>
                </a:cubicBezTo>
                <a:cubicBezTo>
                  <a:pt x="75331" y="8503"/>
                  <a:pt x="91987" y="27968"/>
                  <a:pt x="91987" y="50267"/>
                </a:cubicBezTo>
                <a:cubicBezTo>
                  <a:pt x="91987" y="72377"/>
                  <a:pt x="75331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Shape 4598"/>
          <p:cNvSpPr/>
          <p:nvPr/>
        </p:nvSpPr>
        <p:spPr>
          <a:xfrm>
            <a:off x="8061480" y="470232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Shape 4599"/>
          <p:cNvSpPr/>
          <p:nvPr/>
        </p:nvSpPr>
        <p:spPr>
          <a:xfrm>
            <a:off x="7575480" y="470232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806" y="114141"/>
                </a:moveTo>
                <a:lnTo>
                  <a:pt x="119806" y="114141"/>
                </a:lnTo>
                <a:cubicBezTo>
                  <a:pt x="88400" y="83527"/>
                  <a:pt x="88400" y="83527"/>
                  <a:pt x="88400" y="83527"/>
                </a:cubicBezTo>
                <a:cubicBezTo>
                  <a:pt x="96930" y="75212"/>
                  <a:pt x="102746" y="64062"/>
                  <a:pt x="102746" y="50267"/>
                </a:cubicBezTo>
                <a:cubicBezTo>
                  <a:pt x="102746" y="22299"/>
                  <a:pt x="79870" y="0"/>
                  <a:pt x="51373" y="0"/>
                </a:cubicBezTo>
                <a:cubicBezTo>
                  <a:pt x="22875" y="0"/>
                  <a:pt x="0" y="22299"/>
                  <a:pt x="0" y="50267"/>
                </a:cubicBezTo>
                <a:cubicBezTo>
                  <a:pt x="0" y="78047"/>
                  <a:pt x="22875" y="100157"/>
                  <a:pt x="51373" y="100157"/>
                </a:cubicBezTo>
                <a:cubicBezTo>
                  <a:pt x="62810" y="100157"/>
                  <a:pt x="74054" y="94677"/>
                  <a:pt x="82778" y="89196"/>
                </a:cubicBezTo>
                <a:cubicBezTo>
                  <a:pt x="114184" y="119811"/>
                  <a:pt x="114184" y="119811"/>
                  <a:pt x="114184" y="119811"/>
                </a:cubicBezTo>
                <a:cubicBezTo>
                  <a:pt x="116898" y="119811"/>
                  <a:pt x="116898" y="119811"/>
                  <a:pt x="119806" y="119811"/>
                </a:cubicBezTo>
                <a:cubicBezTo>
                  <a:pt x="119806" y="116976"/>
                  <a:pt x="119806" y="114141"/>
                  <a:pt x="119806" y="114141"/>
                </a:cubicBezTo>
                <a:close/>
                <a:moveTo>
                  <a:pt x="51373" y="92031"/>
                </a:moveTo>
                <a:lnTo>
                  <a:pt x="51373" y="92031"/>
                </a:lnTo>
                <a:cubicBezTo>
                  <a:pt x="25589" y="92031"/>
                  <a:pt x="5621" y="72377"/>
                  <a:pt x="5621" y="50267"/>
                </a:cubicBezTo>
                <a:cubicBezTo>
                  <a:pt x="5621" y="27968"/>
                  <a:pt x="25589" y="8503"/>
                  <a:pt x="51373" y="8503"/>
                </a:cubicBezTo>
                <a:cubicBezTo>
                  <a:pt x="74054" y="8503"/>
                  <a:pt x="94216" y="27968"/>
                  <a:pt x="94216" y="50267"/>
                </a:cubicBezTo>
                <a:cubicBezTo>
                  <a:pt x="94216" y="72377"/>
                  <a:pt x="74054" y="92031"/>
                  <a:pt x="51373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Shape 4600"/>
          <p:cNvSpPr/>
          <p:nvPr/>
        </p:nvSpPr>
        <p:spPr>
          <a:xfrm>
            <a:off x="7078680" y="470232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Shape 4601"/>
          <p:cNvSpPr/>
          <p:nvPr/>
        </p:nvSpPr>
        <p:spPr>
          <a:xfrm>
            <a:off x="6593040" y="470232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89148" y="8503"/>
                </a:moveTo>
                <a:lnTo>
                  <a:pt x="89148" y="8503"/>
                </a:lnTo>
                <a:cubicBezTo>
                  <a:pt x="114132" y="8503"/>
                  <a:pt x="114132" y="8503"/>
                  <a:pt x="114132" y="8503"/>
                </a:cubicBezTo>
                <a:cubicBezTo>
                  <a:pt x="116971" y="8503"/>
                  <a:pt x="119810" y="5669"/>
                  <a:pt x="119810" y="5669"/>
                </a:cubicBezTo>
                <a:cubicBezTo>
                  <a:pt x="119810" y="2834"/>
                  <a:pt x="116971" y="0"/>
                  <a:pt x="114132" y="0"/>
                </a:cubicBezTo>
                <a:cubicBezTo>
                  <a:pt x="77981" y="0"/>
                  <a:pt x="77981" y="0"/>
                  <a:pt x="77981" y="0"/>
                </a:cubicBezTo>
                <a:cubicBezTo>
                  <a:pt x="77981" y="0"/>
                  <a:pt x="75141" y="0"/>
                  <a:pt x="75141" y="5669"/>
                </a:cubicBezTo>
                <a:cubicBezTo>
                  <a:pt x="75141" y="41763"/>
                  <a:pt x="75141" y="41763"/>
                  <a:pt x="75141" y="41763"/>
                </a:cubicBezTo>
                <a:cubicBezTo>
                  <a:pt x="75141" y="44598"/>
                  <a:pt x="75141" y="44598"/>
                  <a:pt x="77981" y="44598"/>
                </a:cubicBezTo>
                <a:cubicBezTo>
                  <a:pt x="80630" y="44598"/>
                  <a:pt x="80630" y="44598"/>
                  <a:pt x="80630" y="41763"/>
                </a:cubicBezTo>
                <a:cubicBezTo>
                  <a:pt x="80630" y="13984"/>
                  <a:pt x="80630" y="13984"/>
                  <a:pt x="80630" y="13984"/>
                </a:cubicBezTo>
                <a:cubicBezTo>
                  <a:pt x="100315" y="22299"/>
                  <a:pt x="111293" y="39118"/>
                  <a:pt x="111293" y="61417"/>
                </a:cubicBezTo>
                <a:cubicBezTo>
                  <a:pt x="111293" y="89196"/>
                  <a:pt x="89148" y="111307"/>
                  <a:pt x="58485" y="111307"/>
                </a:cubicBezTo>
                <a:cubicBezTo>
                  <a:pt x="30662" y="111307"/>
                  <a:pt x="8328" y="89196"/>
                  <a:pt x="8328" y="61417"/>
                </a:cubicBezTo>
                <a:cubicBezTo>
                  <a:pt x="8328" y="33448"/>
                  <a:pt x="27823" y="13984"/>
                  <a:pt x="52807" y="8503"/>
                </a:cubicBezTo>
                <a:cubicBezTo>
                  <a:pt x="52807" y="2834"/>
                  <a:pt x="52807" y="2834"/>
                  <a:pt x="52807" y="2834"/>
                </a:cubicBezTo>
                <a:cubicBezTo>
                  <a:pt x="22145" y="5669"/>
                  <a:pt x="0" y="30614"/>
                  <a:pt x="0" y="61417"/>
                </a:cubicBezTo>
                <a:cubicBezTo>
                  <a:pt x="0" y="92031"/>
                  <a:pt x="27823" y="119811"/>
                  <a:pt x="58485" y="119811"/>
                </a:cubicBezTo>
                <a:cubicBezTo>
                  <a:pt x="91798" y="119811"/>
                  <a:pt x="119810" y="92031"/>
                  <a:pt x="119810" y="61417"/>
                </a:cubicBezTo>
                <a:cubicBezTo>
                  <a:pt x="119810" y="39118"/>
                  <a:pt x="105804" y="19653"/>
                  <a:pt x="89148" y="8503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Shape 4602"/>
          <p:cNvSpPr/>
          <p:nvPr/>
        </p:nvSpPr>
        <p:spPr>
          <a:xfrm>
            <a:off x="6102360" y="470232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Shape 4603"/>
          <p:cNvSpPr/>
          <p:nvPr/>
        </p:nvSpPr>
        <p:spPr>
          <a:xfrm>
            <a:off x="10517040" y="4214880"/>
            <a:ext cx="295560" cy="304560"/>
          </a:xfrm>
          <a:custGeom>
            <a:avLst/>
            <a:gdLst>
              <a:gd name="textAreaLeft" fmla="*/ 0 w 295560"/>
              <a:gd name="textAreaRight" fmla="*/ 295920 w 295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2778" y="38990"/>
                </a:moveTo>
                <a:lnTo>
                  <a:pt x="82778" y="38990"/>
                </a:lnTo>
                <a:cubicBezTo>
                  <a:pt x="79870" y="36151"/>
                  <a:pt x="77156" y="36151"/>
                  <a:pt x="77156" y="38990"/>
                </a:cubicBezTo>
                <a:cubicBezTo>
                  <a:pt x="59903" y="52996"/>
                  <a:pt x="59903" y="52996"/>
                  <a:pt x="59903" y="52996"/>
                </a:cubicBezTo>
                <a:cubicBezTo>
                  <a:pt x="42843" y="38990"/>
                  <a:pt x="42843" y="38990"/>
                  <a:pt x="42843" y="38990"/>
                </a:cubicBezTo>
                <a:cubicBezTo>
                  <a:pt x="42843" y="36151"/>
                  <a:pt x="39935" y="36151"/>
                  <a:pt x="37027" y="38990"/>
                </a:cubicBezTo>
                <a:cubicBezTo>
                  <a:pt x="37027" y="38990"/>
                  <a:pt x="37027" y="41829"/>
                  <a:pt x="37027" y="44479"/>
                </a:cubicBezTo>
                <a:cubicBezTo>
                  <a:pt x="54281" y="58485"/>
                  <a:pt x="54281" y="58485"/>
                  <a:pt x="54281" y="58485"/>
                </a:cubicBezTo>
                <a:cubicBezTo>
                  <a:pt x="37027" y="75141"/>
                  <a:pt x="37027" y="75141"/>
                  <a:pt x="37027" y="75141"/>
                </a:cubicBezTo>
                <a:cubicBezTo>
                  <a:pt x="37027" y="77981"/>
                  <a:pt x="37027" y="77981"/>
                  <a:pt x="37027" y="80820"/>
                </a:cubicBezTo>
                <a:cubicBezTo>
                  <a:pt x="39935" y="80820"/>
                  <a:pt x="42843" y="80820"/>
                  <a:pt x="42843" y="80820"/>
                </a:cubicBezTo>
                <a:cubicBezTo>
                  <a:pt x="59903" y="63974"/>
                  <a:pt x="59903" y="63974"/>
                  <a:pt x="59903" y="63974"/>
                </a:cubicBezTo>
                <a:cubicBezTo>
                  <a:pt x="77156" y="80820"/>
                  <a:pt x="77156" y="80820"/>
                  <a:pt x="77156" y="80820"/>
                </a:cubicBezTo>
                <a:cubicBezTo>
                  <a:pt x="77156" y="80820"/>
                  <a:pt x="79870" y="80820"/>
                  <a:pt x="82778" y="80820"/>
                </a:cubicBezTo>
                <a:cubicBezTo>
                  <a:pt x="82778" y="77981"/>
                  <a:pt x="82778" y="77981"/>
                  <a:pt x="82778" y="75141"/>
                </a:cubicBezTo>
                <a:cubicBezTo>
                  <a:pt x="65718" y="58485"/>
                  <a:pt x="65718" y="58485"/>
                  <a:pt x="65718" y="58485"/>
                </a:cubicBezTo>
                <a:cubicBezTo>
                  <a:pt x="82778" y="44479"/>
                  <a:pt x="82778" y="44479"/>
                  <a:pt x="82778" y="44479"/>
                </a:cubicBezTo>
                <a:cubicBezTo>
                  <a:pt x="82778" y="41829"/>
                  <a:pt x="82778" y="38990"/>
                  <a:pt x="82778" y="38990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594" y="8328"/>
                  <a:pt x="114184" y="30662"/>
                  <a:pt x="114184" y="58485"/>
                </a:cubicBezTo>
                <a:cubicBezTo>
                  <a:pt x="114184" y="89148"/>
                  <a:pt x="88594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Shape 4604"/>
          <p:cNvSpPr/>
          <p:nvPr/>
        </p:nvSpPr>
        <p:spPr>
          <a:xfrm>
            <a:off x="10023480" y="421488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Shape 4605"/>
          <p:cNvSpPr/>
          <p:nvPr/>
        </p:nvSpPr>
        <p:spPr>
          <a:xfrm>
            <a:off x="9532800" y="421488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0630" y="55646"/>
                </a:moveTo>
                <a:lnTo>
                  <a:pt x="80630" y="55646"/>
                </a:lnTo>
                <a:cubicBezTo>
                  <a:pt x="63974" y="55646"/>
                  <a:pt x="63974" y="55646"/>
                  <a:pt x="63974" y="55646"/>
                </a:cubicBezTo>
                <a:cubicBezTo>
                  <a:pt x="63974" y="36151"/>
                  <a:pt x="63974" y="36151"/>
                  <a:pt x="63974" y="36151"/>
                </a:cubicBezTo>
                <a:cubicBezTo>
                  <a:pt x="63974" y="36151"/>
                  <a:pt x="61324" y="33312"/>
                  <a:pt x="58485" y="33312"/>
                </a:cubicBezTo>
                <a:lnTo>
                  <a:pt x="55646" y="36151"/>
                </a:lnTo>
                <a:cubicBezTo>
                  <a:pt x="55646" y="55646"/>
                  <a:pt x="55646" y="55646"/>
                  <a:pt x="55646" y="55646"/>
                </a:cubicBezTo>
                <a:cubicBezTo>
                  <a:pt x="36151" y="55646"/>
                  <a:pt x="36151" y="55646"/>
                  <a:pt x="36151" y="55646"/>
                </a:cubicBezTo>
                <a:lnTo>
                  <a:pt x="33312" y="58485"/>
                </a:lnTo>
                <a:cubicBezTo>
                  <a:pt x="33312" y="61324"/>
                  <a:pt x="36151" y="63974"/>
                  <a:pt x="36151" y="63974"/>
                </a:cubicBezTo>
                <a:cubicBezTo>
                  <a:pt x="55646" y="63974"/>
                  <a:pt x="55646" y="63974"/>
                  <a:pt x="55646" y="63974"/>
                </a:cubicBezTo>
                <a:cubicBezTo>
                  <a:pt x="55646" y="80820"/>
                  <a:pt x="55646" y="80820"/>
                  <a:pt x="55646" y="80820"/>
                </a:cubicBezTo>
                <a:cubicBezTo>
                  <a:pt x="55646" y="83659"/>
                  <a:pt x="58485" y="86309"/>
                  <a:pt x="58485" y="86309"/>
                </a:cubicBezTo>
                <a:cubicBezTo>
                  <a:pt x="61324" y="86309"/>
                  <a:pt x="63974" y="83659"/>
                  <a:pt x="63974" y="80820"/>
                </a:cubicBezTo>
                <a:cubicBezTo>
                  <a:pt x="63974" y="63974"/>
                  <a:pt x="63974" y="63974"/>
                  <a:pt x="63974" y="63974"/>
                </a:cubicBezTo>
                <a:cubicBezTo>
                  <a:pt x="80630" y="63974"/>
                  <a:pt x="80630" y="63974"/>
                  <a:pt x="80630" y="63974"/>
                </a:cubicBezTo>
                <a:cubicBezTo>
                  <a:pt x="83659" y="63974"/>
                  <a:pt x="86309" y="61324"/>
                  <a:pt x="86309" y="58485"/>
                </a:cubicBezTo>
                <a:cubicBezTo>
                  <a:pt x="86309" y="58485"/>
                  <a:pt x="83659" y="55646"/>
                  <a:pt x="80630" y="55646"/>
                </a:cubicBez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Shape 4606"/>
          <p:cNvSpPr/>
          <p:nvPr/>
        </p:nvSpPr>
        <p:spPr>
          <a:xfrm>
            <a:off x="9045720" y="421488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Shape 4607"/>
          <p:cNvSpPr/>
          <p:nvPr/>
        </p:nvSpPr>
        <p:spPr>
          <a:xfrm>
            <a:off x="8550360" y="421488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6151"/>
                </a:moveTo>
                <a:lnTo>
                  <a:pt x="64164" y="36151"/>
                </a:lnTo>
                <a:cubicBezTo>
                  <a:pt x="64164" y="33312"/>
                  <a:pt x="61324" y="33312"/>
                  <a:pt x="61324" y="33312"/>
                </a:cubicBezTo>
                <a:cubicBezTo>
                  <a:pt x="58675" y="33312"/>
                  <a:pt x="58675" y="33312"/>
                  <a:pt x="55835" y="36151"/>
                </a:cubicBezTo>
                <a:cubicBezTo>
                  <a:pt x="36340" y="55646"/>
                  <a:pt x="36340" y="55646"/>
                  <a:pt x="36340" y="55646"/>
                </a:cubicBezTo>
                <a:cubicBezTo>
                  <a:pt x="33501" y="58485"/>
                  <a:pt x="33501" y="61324"/>
                  <a:pt x="36340" y="61324"/>
                </a:cubicBezTo>
                <a:cubicBezTo>
                  <a:pt x="36340" y="63974"/>
                  <a:pt x="39179" y="63974"/>
                  <a:pt x="41829" y="61324"/>
                </a:cubicBezTo>
                <a:cubicBezTo>
                  <a:pt x="55835" y="47318"/>
                  <a:pt x="55835" y="47318"/>
                  <a:pt x="55835" y="47318"/>
                </a:cubicBezTo>
                <a:cubicBezTo>
                  <a:pt x="55835" y="86309"/>
                  <a:pt x="55835" y="86309"/>
                  <a:pt x="55835" y="86309"/>
                </a:cubicBezTo>
                <a:cubicBezTo>
                  <a:pt x="55835" y="86309"/>
                  <a:pt x="58675" y="89148"/>
                  <a:pt x="61324" y="89148"/>
                </a:cubicBezTo>
                <a:lnTo>
                  <a:pt x="64164" y="86309"/>
                </a:lnTo>
                <a:cubicBezTo>
                  <a:pt x="64164" y="47318"/>
                  <a:pt x="64164" y="47318"/>
                  <a:pt x="64164" y="47318"/>
                </a:cubicBezTo>
                <a:cubicBezTo>
                  <a:pt x="77981" y="61324"/>
                  <a:pt x="77981" y="61324"/>
                  <a:pt x="77981" y="61324"/>
                </a:cubicBezTo>
                <a:cubicBezTo>
                  <a:pt x="81009" y="63974"/>
                  <a:pt x="83659" y="63974"/>
                  <a:pt x="83659" y="61324"/>
                </a:cubicBezTo>
                <a:cubicBezTo>
                  <a:pt x="86498" y="61324"/>
                  <a:pt x="86498" y="58485"/>
                  <a:pt x="83659" y="55646"/>
                </a:cubicBezTo>
                <a:lnTo>
                  <a:pt x="64164" y="36151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Shape 4608"/>
          <p:cNvSpPr/>
          <p:nvPr/>
        </p:nvSpPr>
        <p:spPr>
          <a:xfrm>
            <a:off x="8061480" y="421488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Shape 4609"/>
          <p:cNvSpPr/>
          <p:nvPr/>
        </p:nvSpPr>
        <p:spPr>
          <a:xfrm>
            <a:off x="7575480" y="421488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  <a:moveTo>
                  <a:pt x="85492" y="55646"/>
                </a:moveTo>
                <a:lnTo>
                  <a:pt x="85492" y="55646"/>
                </a:lnTo>
                <a:cubicBezTo>
                  <a:pt x="45557" y="55646"/>
                  <a:pt x="45557" y="55646"/>
                  <a:pt x="45557" y="55646"/>
                </a:cubicBezTo>
                <a:cubicBezTo>
                  <a:pt x="62810" y="41829"/>
                  <a:pt x="62810" y="41829"/>
                  <a:pt x="62810" y="41829"/>
                </a:cubicBezTo>
                <a:cubicBezTo>
                  <a:pt x="62810" y="38990"/>
                  <a:pt x="62810" y="36151"/>
                  <a:pt x="62810" y="36151"/>
                </a:cubicBezTo>
                <a:cubicBezTo>
                  <a:pt x="59903" y="33312"/>
                  <a:pt x="56995" y="33312"/>
                  <a:pt x="56995" y="36151"/>
                </a:cubicBezTo>
                <a:cubicBezTo>
                  <a:pt x="34313" y="55646"/>
                  <a:pt x="34313" y="55646"/>
                  <a:pt x="34313" y="55646"/>
                </a:cubicBezTo>
                <a:lnTo>
                  <a:pt x="34313" y="58485"/>
                </a:lnTo>
                <a:cubicBezTo>
                  <a:pt x="34313" y="61324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cubicBezTo>
                  <a:pt x="56995" y="86309"/>
                  <a:pt x="59903" y="86309"/>
                  <a:pt x="62810" y="83659"/>
                </a:cubicBezTo>
                <a:cubicBezTo>
                  <a:pt x="62810" y="83659"/>
                  <a:pt x="62810" y="80820"/>
                  <a:pt x="62810" y="77981"/>
                </a:cubicBezTo>
                <a:cubicBezTo>
                  <a:pt x="45557" y="63974"/>
                  <a:pt x="45557" y="63974"/>
                  <a:pt x="45557" y="63974"/>
                </a:cubicBezTo>
                <a:cubicBezTo>
                  <a:pt x="85492" y="63974"/>
                  <a:pt x="85492" y="63974"/>
                  <a:pt x="85492" y="63974"/>
                </a:cubicBezTo>
                <a:cubicBezTo>
                  <a:pt x="88400" y="63974"/>
                  <a:pt x="91308" y="61324"/>
                  <a:pt x="91308" y="58485"/>
                </a:cubicBezTo>
                <a:cubicBezTo>
                  <a:pt x="91308" y="58485"/>
                  <a:pt x="88400" y="55646"/>
                  <a:pt x="85492" y="556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Shape 4610"/>
          <p:cNvSpPr/>
          <p:nvPr/>
        </p:nvSpPr>
        <p:spPr>
          <a:xfrm>
            <a:off x="7078680" y="421488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Shape 4611"/>
          <p:cNvSpPr/>
          <p:nvPr/>
        </p:nvSpPr>
        <p:spPr>
          <a:xfrm>
            <a:off x="6593040" y="421488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3974" y="41829"/>
                </a:moveTo>
                <a:lnTo>
                  <a:pt x="63974" y="41829"/>
                </a:lnTo>
                <a:cubicBezTo>
                  <a:pt x="61324" y="41829"/>
                  <a:pt x="61324" y="41829"/>
                  <a:pt x="58485" y="41829"/>
                </a:cubicBezTo>
                <a:lnTo>
                  <a:pt x="55646" y="41829"/>
                </a:lnTo>
                <a:cubicBezTo>
                  <a:pt x="27823" y="69652"/>
                  <a:pt x="27823" y="69652"/>
                  <a:pt x="27823" y="69652"/>
                </a:cubicBezTo>
                <a:cubicBezTo>
                  <a:pt x="24984" y="72492"/>
                  <a:pt x="24984" y="75141"/>
                  <a:pt x="27823" y="75141"/>
                </a:cubicBezTo>
                <a:cubicBezTo>
                  <a:pt x="27823" y="77981"/>
                  <a:pt x="30662" y="77981"/>
                  <a:pt x="33312" y="75141"/>
                </a:cubicBezTo>
                <a:cubicBezTo>
                  <a:pt x="58485" y="50157"/>
                  <a:pt x="58485" y="50157"/>
                  <a:pt x="58485" y="50157"/>
                </a:cubicBezTo>
                <a:cubicBezTo>
                  <a:pt x="86309" y="75141"/>
                  <a:pt x="86309" y="75141"/>
                  <a:pt x="86309" y="75141"/>
                </a:cubicBezTo>
                <a:cubicBezTo>
                  <a:pt x="86309" y="77981"/>
                  <a:pt x="89148" y="77981"/>
                  <a:pt x="91798" y="75141"/>
                </a:cubicBezTo>
                <a:cubicBezTo>
                  <a:pt x="91798" y="75141"/>
                  <a:pt x="91798" y="72492"/>
                  <a:pt x="91798" y="69652"/>
                </a:cubicBezTo>
                <a:lnTo>
                  <a:pt x="63974" y="41829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Shape 4612"/>
          <p:cNvSpPr/>
          <p:nvPr/>
        </p:nvSpPr>
        <p:spPr>
          <a:xfrm>
            <a:off x="6102360" y="421488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Shape 4613"/>
          <p:cNvSpPr/>
          <p:nvPr/>
        </p:nvSpPr>
        <p:spPr>
          <a:xfrm>
            <a:off x="10517040" y="3724200"/>
            <a:ext cx="295560" cy="298440"/>
          </a:xfrm>
          <a:custGeom>
            <a:avLst/>
            <a:gdLst>
              <a:gd name="textAreaLeft" fmla="*/ 0 w 295560"/>
              <a:gd name="textAreaRight" fmla="*/ 295920 w 295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77156" y="28497"/>
                </a:moveTo>
                <a:lnTo>
                  <a:pt x="77156" y="28497"/>
                </a:lnTo>
                <a:cubicBezTo>
                  <a:pt x="77156" y="25589"/>
                  <a:pt x="74248" y="25589"/>
                  <a:pt x="71340" y="28497"/>
                </a:cubicBezTo>
                <a:cubicBezTo>
                  <a:pt x="42843" y="56995"/>
                  <a:pt x="42843" y="56995"/>
                  <a:pt x="42843" y="56995"/>
                </a:cubicBezTo>
                <a:lnTo>
                  <a:pt x="42843" y="59903"/>
                </a:lnTo>
                <a:lnTo>
                  <a:pt x="42843" y="62810"/>
                </a:lnTo>
                <a:cubicBezTo>
                  <a:pt x="71340" y="91308"/>
                  <a:pt x="71340" y="91308"/>
                  <a:pt x="71340" y="91308"/>
                </a:cubicBezTo>
                <a:cubicBezTo>
                  <a:pt x="74248" y="94216"/>
                  <a:pt x="77156" y="94216"/>
                  <a:pt x="77156" y="91308"/>
                </a:cubicBezTo>
                <a:cubicBezTo>
                  <a:pt x="79870" y="91308"/>
                  <a:pt x="79870" y="88594"/>
                  <a:pt x="77156" y="85492"/>
                </a:cubicBezTo>
                <a:cubicBezTo>
                  <a:pt x="51373" y="59903"/>
                  <a:pt x="51373" y="59903"/>
                  <a:pt x="51373" y="59903"/>
                </a:cubicBezTo>
                <a:cubicBezTo>
                  <a:pt x="77156" y="34313"/>
                  <a:pt x="77156" y="34313"/>
                  <a:pt x="77156" y="34313"/>
                </a:cubicBezTo>
                <a:cubicBezTo>
                  <a:pt x="79870" y="31405"/>
                  <a:pt x="79870" y="28497"/>
                  <a:pt x="77156" y="28497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5589"/>
                  <a:pt x="0" y="59903"/>
                </a:cubicBezTo>
                <a:cubicBezTo>
                  <a:pt x="0" y="94216"/>
                  <a:pt x="25589" y="119806"/>
                  <a:pt x="59903" y="119806"/>
                </a:cubicBezTo>
                <a:cubicBezTo>
                  <a:pt x="94216" y="119806"/>
                  <a:pt x="119806" y="94216"/>
                  <a:pt x="119806" y="59903"/>
                </a:cubicBezTo>
                <a:cubicBezTo>
                  <a:pt x="119806" y="25589"/>
                  <a:pt x="94216" y="0"/>
                  <a:pt x="59903" y="0"/>
                </a:cubicBezTo>
                <a:close/>
                <a:moveTo>
                  <a:pt x="59903" y="114184"/>
                </a:moveTo>
                <a:lnTo>
                  <a:pt x="59903" y="114184"/>
                </a:lnTo>
                <a:cubicBezTo>
                  <a:pt x="31405" y="114184"/>
                  <a:pt x="5621" y="88594"/>
                  <a:pt x="5621" y="59903"/>
                </a:cubicBezTo>
                <a:cubicBezTo>
                  <a:pt x="5621" y="31405"/>
                  <a:pt x="31405" y="5621"/>
                  <a:pt x="59903" y="5621"/>
                </a:cubicBezTo>
                <a:cubicBezTo>
                  <a:pt x="88594" y="5621"/>
                  <a:pt x="114184" y="31405"/>
                  <a:pt x="114184" y="59903"/>
                </a:cubicBezTo>
                <a:cubicBezTo>
                  <a:pt x="114184" y="88594"/>
                  <a:pt x="88594" y="114184"/>
                  <a:pt x="59903" y="1141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Shape 4614"/>
          <p:cNvSpPr/>
          <p:nvPr/>
        </p:nvSpPr>
        <p:spPr>
          <a:xfrm>
            <a:off x="10023480" y="374004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Shape 4615"/>
          <p:cNvSpPr/>
          <p:nvPr/>
        </p:nvSpPr>
        <p:spPr>
          <a:xfrm>
            <a:off x="9553680" y="3754440"/>
            <a:ext cx="249120" cy="249120"/>
          </a:xfrm>
          <a:custGeom>
            <a:avLst/>
            <a:gdLst>
              <a:gd name="textAreaLeft" fmla="*/ 0 w 249120"/>
              <a:gd name="textAreaRight" fmla="*/ 249480 w 249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85581" y="61627"/>
                </a:moveTo>
                <a:lnTo>
                  <a:pt x="85581" y="61627"/>
                </a:lnTo>
                <a:cubicBezTo>
                  <a:pt x="113023" y="34186"/>
                  <a:pt x="113023" y="34186"/>
                  <a:pt x="113023" y="34186"/>
                </a:cubicBezTo>
                <a:cubicBezTo>
                  <a:pt x="119767" y="27441"/>
                  <a:pt x="119767" y="16976"/>
                  <a:pt x="113023" y="10232"/>
                </a:cubicBezTo>
                <a:cubicBezTo>
                  <a:pt x="106046" y="0"/>
                  <a:pt x="92558" y="0"/>
                  <a:pt x="85581" y="10232"/>
                </a:cubicBezTo>
                <a:cubicBezTo>
                  <a:pt x="61627" y="34186"/>
                  <a:pt x="61627" y="34186"/>
                  <a:pt x="61627" y="34186"/>
                </a:cubicBezTo>
                <a:cubicBezTo>
                  <a:pt x="34186" y="10232"/>
                  <a:pt x="34186" y="10232"/>
                  <a:pt x="34186" y="10232"/>
                </a:cubicBezTo>
                <a:cubicBezTo>
                  <a:pt x="27441" y="0"/>
                  <a:pt x="16976" y="0"/>
                  <a:pt x="10232" y="10232"/>
                </a:cubicBezTo>
                <a:cubicBezTo>
                  <a:pt x="0" y="16976"/>
                  <a:pt x="0" y="27441"/>
                  <a:pt x="10232" y="34186"/>
                </a:cubicBezTo>
                <a:cubicBezTo>
                  <a:pt x="34186" y="61627"/>
                  <a:pt x="34186" y="61627"/>
                  <a:pt x="34186" y="61627"/>
                </a:cubicBezTo>
                <a:cubicBezTo>
                  <a:pt x="10232" y="85581"/>
                  <a:pt x="10232" y="85581"/>
                  <a:pt x="10232" y="85581"/>
                </a:cubicBezTo>
                <a:cubicBezTo>
                  <a:pt x="0" y="92558"/>
                  <a:pt x="0" y="106046"/>
                  <a:pt x="10232" y="113023"/>
                </a:cubicBezTo>
                <a:cubicBezTo>
                  <a:pt x="16976" y="119767"/>
                  <a:pt x="27441" y="119767"/>
                  <a:pt x="34186" y="113023"/>
                </a:cubicBezTo>
                <a:cubicBezTo>
                  <a:pt x="61627" y="85581"/>
                  <a:pt x="61627" y="85581"/>
                  <a:pt x="61627" y="85581"/>
                </a:cubicBezTo>
                <a:cubicBezTo>
                  <a:pt x="85581" y="113023"/>
                  <a:pt x="85581" y="113023"/>
                  <a:pt x="85581" y="113023"/>
                </a:cubicBezTo>
                <a:cubicBezTo>
                  <a:pt x="92558" y="119767"/>
                  <a:pt x="106046" y="119767"/>
                  <a:pt x="113023" y="113023"/>
                </a:cubicBezTo>
                <a:cubicBezTo>
                  <a:pt x="119767" y="106046"/>
                  <a:pt x="119767" y="92558"/>
                  <a:pt x="113023" y="85581"/>
                </a:cubicBezTo>
                <a:lnTo>
                  <a:pt x="85581" y="61627"/>
                </a:lnTo>
                <a:close/>
                <a:moveTo>
                  <a:pt x="106046" y="106046"/>
                </a:moveTo>
                <a:lnTo>
                  <a:pt x="106046" y="106046"/>
                </a:lnTo>
                <a:cubicBezTo>
                  <a:pt x="102558" y="109534"/>
                  <a:pt x="95813" y="109534"/>
                  <a:pt x="92558" y="106046"/>
                </a:cubicBezTo>
                <a:cubicBezTo>
                  <a:pt x="61627" y="71860"/>
                  <a:pt x="61627" y="71860"/>
                  <a:pt x="61627" y="71860"/>
                </a:cubicBezTo>
                <a:cubicBezTo>
                  <a:pt x="27441" y="106046"/>
                  <a:pt x="27441" y="106046"/>
                  <a:pt x="27441" y="106046"/>
                </a:cubicBezTo>
                <a:cubicBezTo>
                  <a:pt x="23953" y="109534"/>
                  <a:pt x="16976" y="109534"/>
                  <a:pt x="13720" y="106046"/>
                </a:cubicBezTo>
                <a:cubicBezTo>
                  <a:pt x="10232" y="102558"/>
                  <a:pt x="10232" y="95813"/>
                  <a:pt x="13720" y="92558"/>
                </a:cubicBezTo>
                <a:cubicBezTo>
                  <a:pt x="47906" y="61627"/>
                  <a:pt x="47906" y="61627"/>
                  <a:pt x="47906" y="61627"/>
                </a:cubicBezTo>
                <a:cubicBezTo>
                  <a:pt x="13720" y="27441"/>
                  <a:pt x="13720" y="27441"/>
                  <a:pt x="13720" y="27441"/>
                </a:cubicBezTo>
                <a:cubicBezTo>
                  <a:pt x="10232" y="23953"/>
                  <a:pt x="10232" y="16976"/>
                  <a:pt x="13720" y="13720"/>
                </a:cubicBezTo>
                <a:cubicBezTo>
                  <a:pt x="16976" y="10232"/>
                  <a:pt x="23953" y="10232"/>
                  <a:pt x="27441" y="13720"/>
                </a:cubicBezTo>
                <a:cubicBezTo>
                  <a:pt x="61627" y="47906"/>
                  <a:pt x="61627" y="47906"/>
                  <a:pt x="61627" y="47906"/>
                </a:cubicBezTo>
                <a:cubicBezTo>
                  <a:pt x="92558" y="13720"/>
                  <a:pt x="92558" y="13720"/>
                  <a:pt x="92558" y="13720"/>
                </a:cubicBezTo>
                <a:cubicBezTo>
                  <a:pt x="95813" y="10232"/>
                  <a:pt x="102558" y="10232"/>
                  <a:pt x="106046" y="13720"/>
                </a:cubicBezTo>
                <a:cubicBezTo>
                  <a:pt x="109534" y="16976"/>
                  <a:pt x="109534" y="23953"/>
                  <a:pt x="106046" y="27441"/>
                </a:cubicBezTo>
                <a:cubicBezTo>
                  <a:pt x="71860" y="61627"/>
                  <a:pt x="71860" y="61627"/>
                  <a:pt x="71860" y="61627"/>
                </a:cubicBezTo>
                <a:cubicBezTo>
                  <a:pt x="106046" y="92558"/>
                  <a:pt x="106046" y="92558"/>
                  <a:pt x="106046" y="92558"/>
                </a:cubicBezTo>
                <a:cubicBezTo>
                  <a:pt x="109534" y="95813"/>
                  <a:pt x="109534" y="102558"/>
                  <a:pt x="106046" y="1060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Shape 4616"/>
          <p:cNvSpPr/>
          <p:nvPr/>
        </p:nvSpPr>
        <p:spPr>
          <a:xfrm>
            <a:off x="9045720" y="383868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Shape 4617"/>
          <p:cNvSpPr/>
          <p:nvPr/>
        </p:nvSpPr>
        <p:spPr>
          <a:xfrm>
            <a:off x="8550360" y="372420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45751"/>
                </a:moveTo>
                <a:lnTo>
                  <a:pt x="105993" y="45751"/>
                </a:lnTo>
                <a:cubicBezTo>
                  <a:pt x="75331" y="45751"/>
                  <a:pt x="75331" y="45751"/>
                  <a:pt x="75331" y="45751"/>
                </a:cubicBezTo>
                <a:cubicBezTo>
                  <a:pt x="75331" y="14345"/>
                  <a:pt x="75331" y="14345"/>
                  <a:pt x="75331" y="14345"/>
                </a:cubicBezTo>
                <a:cubicBezTo>
                  <a:pt x="75331" y="5621"/>
                  <a:pt x="69842" y="0"/>
                  <a:pt x="61324" y="0"/>
                </a:cubicBezTo>
                <a:cubicBezTo>
                  <a:pt x="52996" y="0"/>
                  <a:pt x="44668" y="5621"/>
                  <a:pt x="44668" y="14345"/>
                </a:cubicBezTo>
                <a:cubicBezTo>
                  <a:pt x="44668" y="45751"/>
                  <a:pt x="44668" y="45751"/>
                  <a:pt x="44668" y="45751"/>
                </a:cubicBezTo>
                <a:cubicBezTo>
                  <a:pt x="16845" y="45751"/>
                  <a:pt x="16845" y="45751"/>
                  <a:pt x="16845" y="45751"/>
                </a:cubicBezTo>
                <a:cubicBezTo>
                  <a:pt x="8517" y="45751"/>
                  <a:pt x="0" y="51373"/>
                  <a:pt x="0" y="59903"/>
                </a:cubicBezTo>
                <a:cubicBezTo>
                  <a:pt x="0" y="68432"/>
                  <a:pt x="8517" y="74248"/>
                  <a:pt x="16845" y="74248"/>
                </a:cubicBezTo>
                <a:cubicBezTo>
                  <a:pt x="44668" y="74248"/>
                  <a:pt x="44668" y="74248"/>
                  <a:pt x="44668" y="74248"/>
                </a:cubicBezTo>
                <a:cubicBezTo>
                  <a:pt x="44668" y="105654"/>
                  <a:pt x="44668" y="105654"/>
                  <a:pt x="44668" y="105654"/>
                </a:cubicBezTo>
                <a:cubicBezTo>
                  <a:pt x="44668" y="114184"/>
                  <a:pt x="52996" y="119806"/>
                  <a:pt x="61324" y="119806"/>
                </a:cubicBezTo>
                <a:cubicBezTo>
                  <a:pt x="69842" y="119806"/>
                  <a:pt x="75331" y="114184"/>
                  <a:pt x="75331" y="105654"/>
                </a:cubicBezTo>
                <a:cubicBezTo>
                  <a:pt x="75331" y="74248"/>
                  <a:pt x="75331" y="74248"/>
                  <a:pt x="75331" y="74248"/>
                </a:cubicBezTo>
                <a:cubicBezTo>
                  <a:pt x="105993" y="74248"/>
                  <a:pt x="105993" y="74248"/>
                  <a:pt x="105993" y="74248"/>
                </a:cubicBezTo>
                <a:cubicBezTo>
                  <a:pt x="114321" y="74248"/>
                  <a:pt x="119810" y="68432"/>
                  <a:pt x="119810" y="59903"/>
                </a:cubicBezTo>
                <a:cubicBezTo>
                  <a:pt x="119810" y="51373"/>
                  <a:pt x="114321" y="45751"/>
                  <a:pt x="105993" y="45751"/>
                </a:cubicBezTo>
                <a:close/>
                <a:moveTo>
                  <a:pt x="105993" y="68432"/>
                </a:moveTo>
                <a:lnTo>
                  <a:pt x="105993" y="68432"/>
                </a:lnTo>
                <a:cubicBezTo>
                  <a:pt x="67003" y="68432"/>
                  <a:pt x="67003" y="68432"/>
                  <a:pt x="67003" y="68432"/>
                </a:cubicBezTo>
                <a:cubicBezTo>
                  <a:pt x="67003" y="105654"/>
                  <a:pt x="67003" y="105654"/>
                  <a:pt x="67003" y="105654"/>
                </a:cubicBezTo>
                <a:cubicBezTo>
                  <a:pt x="67003" y="108368"/>
                  <a:pt x="64164" y="114184"/>
                  <a:pt x="61324" y="114184"/>
                </a:cubicBezTo>
                <a:cubicBezTo>
                  <a:pt x="55835" y="114184"/>
                  <a:pt x="52996" y="108368"/>
                  <a:pt x="52996" y="105654"/>
                </a:cubicBezTo>
                <a:cubicBezTo>
                  <a:pt x="52996" y="68432"/>
                  <a:pt x="52996" y="68432"/>
                  <a:pt x="52996" y="68432"/>
                </a:cubicBezTo>
                <a:cubicBezTo>
                  <a:pt x="16845" y="68432"/>
                  <a:pt x="16845" y="68432"/>
                  <a:pt x="16845" y="68432"/>
                </a:cubicBezTo>
                <a:cubicBezTo>
                  <a:pt x="11167" y="68432"/>
                  <a:pt x="8517" y="62810"/>
                  <a:pt x="8517" y="59903"/>
                </a:cubicBezTo>
                <a:cubicBezTo>
                  <a:pt x="8517" y="56995"/>
                  <a:pt x="11167" y="51373"/>
                  <a:pt x="16845" y="51373"/>
                </a:cubicBezTo>
                <a:cubicBezTo>
                  <a:pt x="52996" y="51373"/>
                  <a:pt x="52996" y="51373"/>
                  <a:pt x="52996" y="51373"/>
                </a:cubicBezTo>
                <a:cubicBezTo>
                  <a:pt x="52996" y="14345"/>
                  <a:pt x="52996" y="14345"/>
                  <a:pt x="52996" y="14345"/>
                </a:cubicBezTo>
                <a:cubicBezTo>
                  <a:pt x="52996" y="11437"/>
                  <a:pt x="55835" y="5621"/>
                  <a:pt x="61324" y="5621"/>
                </a:cubicBezTo>
                <a:cubicBezTo>
                  <a:pt x="64164" y="5621"/>
                  <a:pt x="67003" y="11437"/>
                  <a:pt x="67003" y="14345"/>
                </a:cubicBezTo>
                <a:cubicBezTo>
                  <a:pt x="67003" y="51373"/>
                  <a:pt x="67003" y="51373"/>
                  <a:pt x="67003" y="51373"/>
                </a:cubicBezTo>
                <a:cubicBezTo>
                  <a:pt x="105993" y="51373"/>
                  <a:pt x="105993" y="51373"/>
                  <a:pt x="105993" y="51373"/>
                </a:cubicBezTo>
                <a:cubicBezTo>
                  <a:pt x="108832" y="51373"/>
                  <a:pt x="111482" y="56995"/>
                  <a:pt x="111482" y="59903"/>
                </a:cubicBezTo>
                <a:cubicBezTo>
                  <a:pt x="111482" y="62810"/>
                  <a:pt x="108832" y="68432"/>
                  <a:pt x="105993" y="6843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Shape 4618"/>
          <p:cNvSpPr/>
          <p:nvPr/>
        </p:nvSpPr>
        <p:spPr>
          <a:xfrm>
            <a:off x="8061480" y="374004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Shape 4619"/>
          <p:cNvSpPr/>
          <p:nvPr/>
        </p:nvSpPr>
        <p:spPr>
          <a:xfrm>
            <a:off x="7575480" y="3724200"/>
            <a:ext cx="295200" cy="2984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34313"/>
                </a:moveTo>
                <a:lnTo>
                  <a:pt x="82778" y="34313"/>
                </a:lnTo>
                <a:cubicBezTo>
                  <a:pt x="79870" y="31405"/>
                  <a:pt x="79870" y="34313"/>
                  <a:pt x="77156" y="34313"/>
                </a:cubicBezTo>
                <a:cubicBezTo>
                  <a:pt x="54281" y="77156"/>
                  <a:pt x="54281" y="77156"/>
                  <a:pt x="54281" y="77156"/>
                </a:cubicBezTo>
                <a:cubicBezTo>
                  <a:pt x="39935" y="65718"/>
                  <a:pt x="39935" y="65718"/>
                  <a:pt x="39935" y="65718"/>
                </a:cubicBezTo>
                <a:cubicBezTo>
                  <a:pt x="37027" y="62810"/>
                  <a:pt x="37027" y="62810"/>
                  <a:pt x="34313" y="65718"/>
                </a:cubicBezTo>
                <a:cubicBezTo>
                  <a:pt x="31405" y="65718"/>
                  <a:pt x="31405" y="68432"/>
                  <a:pt x="34313" y="68432"/>
                </a:cubicBezTo>
                <a:cubicBezTo>
                  <a:pt x="51373" y="85492"/>
                  <a:pt x="51373" y="85492"/>
                  <a:pt x="51373" y="85492"/>
                </a:cubicBezTo>
                <a:cubicBezTo>
                  <a:pt x="54281" y="88594"/>
                  <a:pt x="54281" y="88594"/>
                  <a:pt x="56995" y="85492"/>
                </a:cubicBezTo>
                <a:lnTo>
                  <a:pt x="85492" y="39935"/>
                </a:lnTo>
                <a:cubicBezTo>
                  <a:pt x="85492" y="37027"/>
                  <a:pt x="85492" y="34313"/>
                  <a:pt x="82778" y="34313"/>
                </a:cubicBezTo>
                <a:close/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654" y="119806"/>
                  <a:pt x="105654" y="119806"/>
                  <a:pt x="105654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654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654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654" y="5621"/>
                  <a:pt x="105654" y="5621"/>
                  <a:pt x="105654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Shape 4620"/>
          <p:cNvSpPr/>
          <p:nvPr/>
        </p:nvSpPr>
        <p:spPr>
          <a:xfrm>
            <a:off x="7078680" y="372420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Shape 4621"/>
          <p:cNvSpPr/>
          <p:nvPr/>
        </p:nvSpPr>
        <p:spPr>
          <a:xfrm>
            <a:off x="6593040" y="372420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488" y="119806"/>
                  <a:pt x="13817" y="119806"/>
                </a:cubicBezTo>
                <a:cubicBezTo>
                  <a:pt x="102965" y="119806"/>
                  <a:pt x="102965" y="119806"/>
                  <a:pt x="102965" y="119806"/>
                </a:cubicBezTo>
                <a:cubicBezTo>
                  <a:pt x="111293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1293" y="0"/>
                  <a:pt x="102965" y="0"/>
                </a:cubicBezTo>
                <a:close/>
                <a:moveTo>
                  <a:pt x="111293" y="105654"/>
                </a:moveTo>
                <a:lnTo>
                  <a:pt x="111293" y="105654"/>
                </a:lnTo>
                <a:cubicBezTo>
                  <a:pt x="111293" y="108368"/>
                  <a:pt x="108643" y="114184"/>
                  <a:pt x="102965" y="114184"/>
                </a:cubicBezTo>
                <a:cubicBezTo>
                  <a:pt x="13817" y="114184"/>
                  <a:pt x="13817" y="114184"/>
                  <a:pt x="13817" y="114184"/>
                </a:cubicBezTo>
                <a:cubicBezTo>
                  <a:pt x="1097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0977" y="5621"/>
                  <a:pt x="13817" y="5621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108643" y="5621"/>
                  <a:pt x="111293" y="11437"/>
                  <a:pt x="111293" y="14345"/>
                </a:cubicBezTo>
                <a:lnTo>
                  <a:pt x="111293" y="105654"/>
                </a:lnTo>
                <a:close/>
                <a:moveTo>
                  <a:pt x="80630" y="56995"/>
                </a:moveTo>
                <a:lnTo>
                  <a:pt x="80630" y="56995"/>
                </a:lnTo>
                <a:cubicBezTo>
                  <a:pt x="36151" y="56995"/>
                  <a:pt x="36151" y="56995"/>
                  <a:pt x="36151" y="56995"/>
                </a:cubicBezTo>
                <a:cubicBezTo>
                  <a:pt x="36151" y="56995"/>
                  <a:pt x="33312" y="56995"/>
                  <a:pt x="33312" y="59903"/>
                </a:cubicBezTo>
                <a:cubicBezTo>
                  <a:pt x="33312" y="62810"/>
                  <a:pt x="36151" y="62810"/>
                  <a:pt x="36151" y="62810"/>
                </a:cubicBezTo>
                <a:cubicBezTo>
                  <a:pt x="80630" y="62810"/>
                  <a:pt x="80630" y="62810"/>
                  <a:pt x="80630" y="62810"/>
                </a:cubicBezTo>
                <a:cubicBezTo>
                  <a:pt x="83470" y="62810"/>
                  <a:pt x="86309" y="62810"/>
                  <a:pt x="86309" y="59903"/>
                </a:cubicBezTo>
                <a:cubicBezTo>
                  <a:pt x="86309" y="56995"/>
                  <a:pt x="83470" y="56995"/>
                  <a:pt x="8063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Shape 4622"/>
          <p:cNvSpPr/>
          <p:nvPr/>
        </p:nvSpPr>
        <p:spPr>
          <a:xfrm>
            <a:off x="6102360" y="372420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Shape 4623"/>
          <p:cNvSpPr/>
          <p:nvPr/>
        </p:nvSpPr>
        <p:spPr>
          <a:xfrm>
            <a:off x="10517040" y="3228840"/>
            <a:ext cx="295560" cy="304920"/>
          </a:xfrm>
          <a:custGeom>
            <a:avLst/>
            <a:gdLst>
              <a:gd name="textAreaLeft" fmla="*/ 0 w 295560"/>
              <a:gd name="textAreaRight" fmla="*/ 295920 w 295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9870" y="61324"/>
                </a:moveTo>
                <a:lnTo>
                  <a:pt x="79870" y="61324"/>
                </a:lnTo>
                <a:cubicBezTo>
                  <a:pt x="62810" y="77981"/>
                  <a:pt x="62810" y="77981"/>
                  <a:pt x="62810" y="77981"/>
                </a:cubicBezTo>
                <a:cubicBezTo>
                  <a:pt x="62810" y="39179"/>
                  <a:pt x="62810" y="39179"/>
                  <a:pt x="62810" y="39179"/>
                </a:cubicBezTo>
                <a:cubicBezTo>
                  <a:pt x="62810" y="36340"/>
                  <a:pt x="62810" y="33501"/>
                  <a:pt x="59903" y="33501"/>
                </a:cubicBezTo>
                <a:cubicBezTo>
                  <a:pt x="56995" y="33501"/>
                  <a:pt x="56995" y="36340"/>
                  <a:pt x="56995" y="39179"/>
                </a:cubicBezTo>
                <a:cubicBezTo>
                  <a:pt x="56995" y="77981"/>
                  <a:pt x="56995" y="77981"/>
                  <a:pt x="56995" y="77981"/>
                </a:cubicBezTo>
                <a:cubicBezTo>
                  <a:pt x="39935" y="61324"/>
                  <a:pt x="39935" y="61324"/>
                  <a:pt x="39935" y="61324"/>
                </a:cubicBezTo>
                <a:cubicBezTo>
                  <a:pt x="39935" y="61324"/>
                  <a:pt x="37027" y="61324"/>
                  <a:pt x="34313" y="61324"/>
                </a:cubicBezTo>
                <a:cubicBezTo>
                  <a:pt x="34313" y="64164"/>
                  <a:pt x="34313" y="67003"/>
                  <a:pt x="34313" y="67003"/>
                </a:cubicBezTo>
                <a:cubicBezTo>
                  <a:pt x="56995" y="89148"/>
                  <a:pt x="56995" y="89148"/>
                  <a:pt x="56995" y="89148"/>
                </a:cubicBezTo>
                <a:lnTo>
                  <a:pt x="59903" y="89148"/>
                </a:lnTo>
                <a:lnTo>
                  <a:pt x="62810" y="89148"/>
                </a:lnTo>
                <a:cubicBezTo>
                  <a:pt x="85492" y="67003"/>
                  <a:pt x="85492" y="67003"/>
                  <a:pt x="85492" y="67003"/>
                </a:cubicBezTo>
                <a:cubicBezTo>
                  <a:pt x="85492" y="67003"/>
                  <a:pt x="85492" y="64164"/>
                  <a:pt x="85492" y="61324"/>
                </a:cubicBezTo>
                <a:cubicBezTo>
                  <a:pt x="82778" y="61324"/>
                  <a:pt x="79870" y="61324"/>
                  <a:pt x="79870" y="61324"/>
                </a:cubicBezTo>
                <a:close/>
                <a:moveTo>
                  <a:pt x="105654" y="0"/>
                </a:moveTo>
                <a:lnTo>
                  <a:pt x="105654" y="0"/>
                </a:lnTo>
                <a:cubicBezTo>
                  <a:pt x="14345" y="0"/>
                  <a:pt x="14345" y="0"/>
                  <a:pt x="14345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345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345" y="111482"/>
                  <a:pt x="14345" y="111482"/>
                  <a:pt x="14345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345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Shape 4624"/>
          <p:cNvSpPr/>
          <p:nvPr/>
        </p:nvSpPr>
        <p:spPr>
          <a:xfrm>
            <a:off x="10023480" y="32288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Shape 4625"/>
          <p:cNvSpPr/>
          <p:nvPr/>
        </p:nvSpPr>
        <p:spPr>
          <a:xfrm>
            <a:off x="9532800" y="32288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6309" y="55835"/>
                </a:moveTo>
                <a:lnTo>
                  <a:pt x="86309" y="55835"/>
                </a:lnTo>
                <a:cubicBezTo>
                  <a:pt x="66813" y="36340"/>
                  <a:pt x="66813" y="36340"/>
                  <a:pt x="66813" y="36340"/>
                </a:cubicBezTo>
                <a:cubicBezTo>
                  <a:pt x="63974" y="33501"/>
                  <a:pt x="61324" y="33501"/>
                  <a:pt x="61324" y="36340"/>
                </a:cubicBezTo>
                <a:cubicBezTo>
                  <a:pt x="58485" y="36340"/>
                  <a:pt x="58485" y="39179"/>
                  <a:pt x="61324" y="41829"/>
                </a:cubicBezTo>
                <a:cubicBezTo>
                  <a:pt x="75141" y="55835"/>
                  <a:pt x="75141" y="55835"/>
                  <a:pt x="75141" y="55835"/>
                </a:cubicBezTo>
                <a:cubicBezTo>
                  <a:pt x="36151" y="55835"/>
                  <a:pt x="36151" y="55835"/>
                  <a:pt x="36151" y="55835"/>
                </a:cubicBezTo>
                <a:cubicBezTo>
                  <a:pt x="36151" y="55835"/>
                  <a:pt x="33312" y="58675"/>
                  <a:pt x="33312" y="61324"/>
                </a:cubicBezTo>
                <a:lnTo>
                  <a:pt x="36151" y="64164"/>
                </a:lnTo>
                <a:cubicBezTo>
                  <a:pt x="75141" y="64164"/>
                  <a:pt x="75141" y="64164"/>
                  <a:pt x="75141" y="64164"/>
                </a:cubicBezTo>
                <a:cubicBezTo>
                  <a:pt x="61324" y="77981"/>
                  <a:pt x="61324" y="77981"/>
                  <a:pt x="61324" y="77981"/>
                </a:cubicBezTo>
                <a:cubicBezTo>
                  <a:pt x="58485" y="81009"/>
                  <a:pt x="58485" y="83659"/>
                  <a:pt x="61324" y="83659"/>
                </a:cubicBezTo>
                <a:cubicBezTo>
                  <a:pt x="61324" y="86498"/>
                  <a:pt x="63974" y="86498"/>
                  <a:pt x="66813" y="83659"/>
                </a:cubicBezTo>
                <a:cubicBezTo>
                  <a:pt x="86309" y="64164"/>
                  <a:pt x="86309" y="64164"/>
                  <a:pt x="86309" y="64164"/>
                </a:cubicBezTo>
                <a:cubicBezTo>
                  <a:pt x="89148" y="64164"/>
                  <a:pt x="89148" y="61324"/>
                  <a:pt x="89148" y="61324"/>
                </a:cubicBezTo>
                <a:cubicBezTo>
                  <a:pt x="89148" y="58675"/>
                  <a:pt x="89148" y="58675"/>
                  <a:pt x="86309" y="55835"/>
                </a:cubicBez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Shape 4626"/>
          <p:cNvSpPr/>
          <p:nvPr/>
        </p:nvSpPr>
        <p:spPr>
          <a:xfrm>
            <a:off x="9045720" y="322884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Shape 4627"/>
          <p:cNvSpPr/>
          <p:nvPr/>
        </p:nvSpPr>
        <p:spPr>
          <a:xfrm>
            <a:off x="8550360" y="322884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1987" y="39179"/>
                </a:moveTo>
                <a:lnTo>
                  <a:pt x="91987" y="39179"/>
                </a:lnTo>
                <a:cubicBezTo>
                  <a:pt x="61324" y="69842"/>
                  <a:pt x="61324" y="69842"/>
                  <a:pt x="61324" y="69842"/>
                </a:cubicBezTo>
                <a:cubicBezTo>
                  <a:pt x="30662" y="39179"/>
                  <a:pt x="30662" y="39179"/>
                  <a:pt x="30662" y="39179"/>
                </a:cubicBezTo>
                <a:cubicBezTo>
                  <a:pt x="28012" y="39179"/>
                  <a:pt x="25173" y="39179"/>
                  <a:pt x="25173" y="39179"/>
                </a:cubicBezTo>
                <a:cubicBezTo>
                  <a:pt x="22334" y="41829"/>
                  <a:pt x="22334" y="41829"/>
                  <a:pt x="25173" y="44668"/>
                </a:cubicBezTo>
                <a:cubicBezTo>
                  <a:pt x="58675" y="77981"/>
                  <a:pt x="58675" y="77981"/>
                  <a:pt x="58675" y="7798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1324" y="77981"/>
                  <a:pt x="64164" y="77981"/>
                </a:cubicBezTo>
                <a:cubicBezTo>
                  <a:pt x="97665" y="44668"/>
                  <a:pt x="97665" y="44668"/>
                  <a:pt x="97665" y="44668"/>
                </a:cubicBezTo>
                <a:cubicBezTo>
                  <a:pt x="97665" y="41829"/>
                  <a:pt x="97665" y="41829"/>
                  <a:pt x="97665" y="39179"/>
                </a:cubicBezTo>
                <a:cubicBezTo>
                  <a:pt x="94826" y="39179"/>
                  <a:pt x="91987" y="39179"/>
                  <a:pt x="91987" y="39179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Shape 4628"/>
          <p:cNvSpPr/>
          <p:nvPr/>
        </p:nvSpPr>
        <p:spPr>
          <a:xfrm>
            <a:off x="8061480" y="322884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Shape 4629"/>
          <p:cNvSpPr/>
          <p:nvPr/>
        </p:nvSpPr>
        <p:spPr>
          <a:xfrm>
            <a:off x="7575480" y="3228840"/>
            <a:ext cx="295200" cy="3049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42843" y="25173"/>
                </a:moveTo>
                <a:lnTo>
                  <a:pt x="42843" y="25173"/>
                </a:lnTo>
                <a:cubicBezTo>
                  <a:pt x="42843" y="22334"/>
                  <a:pt x="39935" y="22334"/>
                  <a:pt x="37027" y="25173"/>
                </a:cubicBezTo>
                <a:cubicBezTo>
                  <a:pt x="37027" y="25173"/>
                  <a:pt x="37027" y="28012"/>
                  <a:pt x="37027" y="30662"/>
                </a:cubicBezTo>
                <a:cubicBezTo>
                  <a:pt x="68432" y="61324"/>
                  <a:pt x="68432" y="61324"/>
                  <a:pt x="68432" y="61324"/>
                </a:cubicBezTo>
                <a:cubicBezTo>
                  <a:pt x="37027" y="91987"/>
                  <a:pt x="37027" y="91987"/>
                  <a:pt x="37027" y="91987"/>
                </a:cubicBezTo>
                <a:cubicBezTo>
                  <a:pt x="37027" y="91987"/>
                  <a:pt x="37027" y="94826"/>
                  <a:pt x="37027" y="97665"/>
                </a:cubicBezTo>
                <a:cubicBezTo>
                  <a:pt x="39935" y="97665"/>
                  <a:pt x="42843" y="97665"/>
                  <a:pt x="42843" y="97665"/>
                </a:cubicBezTo>
                <a:cubicBezTo>
                  <a:pt x="77156" y="64164"/>
                  <a:pt x="77156" y="64164"/>
                  <a:pt x="77156" y="64164"/>
                </a:cubicBezTo>
                <a:cubicBezTo>
                  <a:pt x="79870" y="61324"/>
                  <a:pt x="79870" y="61324"/>
                  <a:pt x="79870" y="61324"/>
                </a:cubicBezTo>
                <a:cubicBezTo>
                  <a:pt x="79870" y="58675"/>
                  <a:pt x="79870" y="58675"/>
                  <a:pt x="77156" y="58675"/>
                </a:cubicBezTo>
                <a:lnTo>
                  <a:pt x="42843" y="25173"/>
                </a:lnTo>
                <a:close/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Shape 4630"/>
          <p:cNvSpPr/>
          <p:nvPr/>
        </p:nvSpPr>
        <p:spPr>
          <a:xfrm>
            <a:off x="7078680" y="322884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Shape 4631"/>
          <p:cNvSpPr/>
          <p:nvPr/>
        </p:nvSpPr>
        <p:spPr>
          <a:xfrm>
            <a:off x="6593040" y="322884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44479" y="30662"/>
                </a:moveTo>
                <a:lnTo>
                  <a:pt x="44479" y="30662"/>
                </a:lnTo>
                <a:cubicBezTo>
                  <a:pt x="47318" y="30662"/>
                  <a:pt x="47318" y="28012"/>
                  <a:pt x="47318" y="28012"/>
                </a:cubicBezTo>
                <a:cubicBezTo>
                  <a:pt x="47318" y="25173"/>
                  <a:pt x="47318" y="22334"/>
                  <a:pt x="44479" y="22334"/>
                </a:cubicBezTo>
                <a:cubicBezTo>
                  <a:pt x="24984" y="22334"/>
                  <a:pt x="24984" y="22334"/>
                  <a:pt x="24984" y="22334"/>
                </a:cubicBezTo>
                <a:cubicBezTo>
                  <a:pt x="24984" y="22334"/>
                  <a:pt x="24984" y="22334"/>
                  <a:pt x="22145" y="25173"/>
                </a:cubicBezTo>
                <a:cubicBezTo>
                  <a:pt x="22145" y="25173"/>
                  <a:pt x="22145" y="25173"/>
                  <a:pt x="22145" y="28012"/>
                </a:cubicBezTo>
                <a:cubicBezTo>
                  <a:pt x="22145" y="44668"/>
                  <a:pt x="22145" y="44668"/>
                  <a:pt x="22145" y="44668"/>
                </a:cubicBezTo>
                <a:cubicBezTo>
                  <a:pt x="22145" y="47507"/>
                  <a:pt x="24984" y="50347"/>
                  <a:pt x="24984" y="50347"/>
                </a:cubicBezTo>
                <a:cubicBezTo>
                  <a:pt x="27823" y="50347"/>
                  <a:pt x="30662" y="47507"/>
                  <a:pt x="30662" y="44668"/>
                </a:cubicBezTo>
                <a:cubicBezTo>
                  <a:pt x="30662" y="36340"/>
                  <a:pt x="30662" y="36340"/>
                  <a:pt x="30662" y="36340"/>
                </a:cubicBezTo>
                <a:cubicBezTo>
                  <a:pt x="47318" y="52996"/>
                  <a:pt x="47318" y="52996"/>
                  <a:pt x="47318" y="52996"/>
                </a:cubicBezTo>
                <a:cubicBezTo>
                  <a:pt x="52807" y="47507"/>
                  <a:pt x="52807" y="47507"/>
                  <a:pt x="52807" y="47507"/>
                </a:cubicBezTo>
                <a:cubicBezTo>
                  <a:pt x="33312" y="30662"/>
                  <a:pt x="33312" y="30662"/>
                  <a:pt x="33312" y="30662"/>
                </a:cubicBezTo>
                <a:lnTo>
                  <a:pt x="44479" y="30662"/>
                </a:lnTo>
                <a:close/>
                <a:moveTo>
                  <a:pt x="91798" y="72492"/>
                </a:moveTo>
                <a:lnTo>
                  <a:pt x="91798" y="72492"/>
                </a:lnTo>
                <a:cubicBezTo>
                  <a:pt x="91798" y="72492"/>
                  <a:pt x="89148" y="72492"/>
                  <a:pt x="89148" y="75331"/>
                </a:cubicBezTo>
                <a:cubicBezTo>
                  <a:pt x="89148" y="83659"/>
                  <a:pt x="89148" y="83659"/>
                  <a:pt x="89148" y="83659"/>
                </a:cubicBezTo>
                <a:cubicBezTo>
                  <a:pt x="72492" y="67003"/>
                  <a:pt x="72492" y="67003"/>
                  <a:pt x="72492" y="67003"/>
                </a:cubicBezTo>
                <a:cubicBezTo>
                  <a:pt x="66813" y="72492"/>
                  <a:pt x="66813" y="72492"/>
                  <a:pt x="66813" y="72492"/>
                </a:cubicBezTo>
                <a:cubicBezTo>
                  <a:pt x="83470" y="89148"/>
                  <a:pt x="83470" y="89148"/>
                  <a:pt x="83470" y="89148"/>
                </a:cubicBezTo>
                <a:cubicBezTo>
                  <a:pt x="75141" y="89148"/>
                  <a:pt x="75141" y="89148"/>
                  <a:pt x="75141" y="89148"/>
                </a:cubicBezTo>
                <a:cubicBezTo>
                  <a:pt x="72492" y="89148"/>
                  <a:pt x="69463" y="91987"/>
                  <a:pt x="69463" y="94826"/>
                </a:cubicBezTo>
                <a:cubicBezTo>
                  <a:pt x="69463" y="94826"/>
                  <a:pt x="72492" y="97665"/>
                  <a:pt x="75141" y="97665"/>
                </a:cubicBezTo>
                <a:cubicBezTo>
                  <a:pt x="91798" y="97665"/>
                  <a:pt x="91798" y="97665"/>
                  <a:pt x="91798" y="97665"/>
                </a:cubicBezTo>
                <a:cubicBezTo>
                  <a:pt x="94637" y="97665"/>
                  <a:pt x="94637" y="97665"/>
                  <a:pt x="94637" y="97665"/>
                </a:cubicBezTo>
                <a:cubicBezTo>
                  <a:pt x="97476" y="94826"/>
                  <a:pt x="97476" y="94826"/>
                  <a:pt x="97476" y="94826"/>
                </a:cubicBezTo>
                <a:cubicBezTo>
                  <a:pt x="97476" y="75331"/>
                  <a:pt x="97476" y="75331"/>
                  <a:pt x="97476" y="75331"/>
                </a:cubicBezTo>
                <a:cubicBezTo>
                  <a:pt x="97476" y="72492"/>
                  <a:pt x="94637" y="72492"/>
                  <a:pt x="91798" y="72492"/>
                </a:cubicBezTo>
                <a:close/>
                <a:moveTo>
                  <a:pt x="47318" y="67003"/>
                </a:moveTo>
                <a:lnTo>
                  <a:pt x="47318" y="67003"/>
                </a:lnTo>
                <a:cubicBezTo>
                  <a:pt x="30662" y="83659"/>
                  <a:pt x="30662" y="83659"/>
                  <a:pt x="30662" y="83659"/>
                </a:cubicBezTo>
                <a:cubicBezTo>
                  <a:pt x="30662" y="75331"/>
                  <a:pt x="30662" y="75331"/>
                  <a:pt x="30662" y="75331"/>
                </a:cubicBezTo>
                <a:cubicBezTo>
                  <a:pt x="30662" y="72492"/>
                  <a:pt x="27823" y="72492"/>
                  <a:pt x="24984" y="72492"/>
                </a:cubicBezTo>
                <a:cubicBezTo>
                  <a:pt x="24984" y="72492"/>
                  <a:pt x="22145" y="72492"/>
                  <a:pt x="22145" y="75331"/>
                </a:cubicBezTo>
                <a:cubicBezTo>
                  <a:pt x="22145" y="94826"/>
                  <a:pt x="22145" y="94826"/>
                  <a:pt x="22145" y="94826"/>
                </a:cubicBezTo>
                <a:cubicBezTo>
                  <a:pt x="22145" y="94826"/>
                  <a:pt x="22145" y="94826"/>
                  <a:pt x="22145" y="97665"/>
                </a:cubicBezTo>
                <a:cubicBezTo>
                  <a:pt x="24984" y="97665"/>
                  <a:pt x="24984" y="97665"/>
                  <a:pt x="24984" y="97665"/>
                </a:cubicBezTo>
                <a:cubicBezTo>
                  <a:pt x="44479" y="97665"/>
                  <a:pt x="44479" y="97665"/>
                  <a:pt x="44479" y="97665"/>
                </a:cubicBezTo>
                <a:cubicBezTo>
                  <a:pt x="47318" y="97665"/>
                  <a:pt x="47318" y="94826"/>
                  <a:pt x="47318" y="94826"/>
                </a:cubicBezTo>
                <a:cubicBezTo>
                  <a:pt x="47318" y="91987"/>
                  <a:pt x="47318" y="89148"/>
                  <a:pt x="44479" y="89148"/>
                </a:cubicBezTo>
                <a:cubicBezTo>
                  <a:pt x="33312" y="89148"/>
                  <a:pt x="33312" y="89148"/>
                  <a:pt x="33312" y="89148"/>
                </a:cubicBezTo>
                <a:cubicBezTo>
                  <a:pt x="52807" y="72492"/>
                  <a:pt x="52807" y="72492"/>
                  <a:pt x="52807" y="72492"/>
                </a:cubicBezTo>
                <a:lnTo>
                  <a:pt x="47318" y="67003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  <a:moveTo>
                  <a:pt x="91798" y="22334"/>
                </a:moveTo>
                <a:lnTo>
                  <a:pt x="91798" y="22334"/>
                </a:lnTo>
                <a:cubicBezTo>
                  <a:pt x="75141" y="22334"/>
                  <a:pt x="75141" y="22334"/>
                  <a:pt x="75141" y="22334"/>
                </a:cubicBezTo>
                <a:cubicBezTo>
                  <a:pt x="72492" y="22334"/>
                  <a:pt x="69463" y="25173"/>
                  <a:pt x="69463" y="28012"/>
                </a:cubicBezTo>
                <a:cubicBezTo>
                  <a:pt x="69463" y="28012"/>
                  <a:pt x="72492" y="30662"/>
                  <a:pt x="75141" y="30662"/>
                </a:cubicBezTo>
                <a:cubicBezTo>
                  <a:pt x="83470" y="30662"/>
                  <a:pt x="83470" y="30662"/>
                  <a:pt x="83470" y="30662"/>
                </a:cubicBezTo>
                <a:cubicBezTo>
                  <a:pt x="66813" y="47507"/>
                  <a:pt x="66813" y="47507"/>
                  <a:pt x="66813" y="47507"/>
                </a:cubicBezTo>
                <a:cubicBezTo>
                  <a:pt x="72492" y="52996"/>
                  <a:pt x="72492" y="52996"/>
                  <a:pt x="72492" y="52996"/>
                </a:cubicBezTo>
                <a:cubicBezTo>
                  <a:pt x="89148" y="36340"/>
                  <a:pt x="89148" y="36340"/>
                  <a:pt x="89148" y="36340"/>
                </a:cubicBezTo>
                <a:cubicBezTo>
                  <a:pt x="89148" y="44668"/>
                  <a:pt x="89148" y="44668"/>
                  <a:pt x="89148" y="44668"/>
                </a:cubicBezTo>
                <a:cubicBezTo>
                  <a:pt x="89148" y="47507"/>
                  <a:pt x="91798" y="50347"/>
                  <a:pt x="91798" y="50347"/>
                </a:cubicBezTo>
                <a:cubicBezTo>
                  <a:pt x="94637" y="50347"/>
                  <a:pt x="97476" y="47507"/>
                  <a:pt x="97476" y="44668"/>
                </a:cubicBezTo>
                <a:cubicBezTo>
                  <a:pt x="97476" y="28012"/>
                  <a:pt x="97476" y="28012"/>
                  <a:pt x="97476" y="28012"/>
                </a:cubicBezTo>
                <a:cubicBezTo>
                  <a:pt x="97476" y="25173"/>
                  <a:pt x="97476" y="25173"/>
                  <a:pt x="94637" y="25173"/>
                </a:cubicBezTo>
                <a:cubicBezTo>
                  <a:pt x="94637" y="22334"/>
                  <a:pt x="94637" y="22334"/>
                  <a:pt x="91798" y="2233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Shape 4632"/>
          <p:cNvSpPr/>
          <p:nvPr/>
        </p:nvSpPr>
        <p:spPr>
          <a:xfrm>
            <a:off x="6102360" y="32288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Shape 4633"/>
          <p:cNvSpPr/>
          <p:nvPr/>
        </p:nvSpPr>
        <p:spPr>
          <a:xfrm>
            <a:off x="10517040" y="2741760"/>
            <a:ext cx="295560" cy="304560"/>
          </a:xfrm>
          <a:custGeom>
            <a:avLst/>
            <a:gdLst>
              <a:gd name="textAreaLeft" fmla="*/ 0 w 295560"/>
              <a:gd name="textAreaRight" fmla="*/ 295920 w 295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1373" y="97476"/>
                </a:moveTo>
                <a:lnTo>
                  <a:pt x="51373" y="97476"/>
                </a:lnTo>
                <a:cubicBezTo>
                  <a:pt x="25589" y="97476"/>
                  <a:pt x="25589" y="97476"/>
                  <a:pt x="25589" y="97476"/>
                </a:cubicBezTo>
                <a:cubicBezTo>
                  <a:pt x="54281" y="72492"/>
                  <a:pt x="54281" y="72492"/>
                  <a:pt x="54281" y="72492"/>
                </a:cubicBezTo>
                <a:cubicBezTo>
                  <a:pt x="48465" y="66813"/>
                  <a:pt x="48465" y="66813"/>
                  <a:pt x="48465" y="66813"/>
                </a:cubicBezTo>
                <a:cubicBezTo>
                  <a:pt x="22875" y="91798"/>
                  <a:pt x="22875" y="91798"/>
                  <a:pt x="22875" y="91798"/>
                </a:cubicBezTo>
                <a:cubicBezTo>
                  <a:pt x="22875" y="66813"/>
                  <a:pt x="22875" y="66813"/>
                  <a:pt x="22875" y="66813"/>
                </a:cubicBezTo>
                <a:cubicBezTo>
                  <a:pt x="22875" y="63974"/>
                  <a:pt x="19967" y="63974"/>
                  <a:pt x="17059" y="63974"/>
                </a:cubicBezTo>
                <a:cubicBezTo>
                  <a:pt x="17059" y="63974"/>
                  <a:pt x="14345" y="63974"/>
                  <a:pt x="14345" y="66813"/>
                </a:cubicBezTo>
                <a:cubicBezTo>
                  <a:pt x="14345" y="100315"/>
                  <a:pt x="14345" y="100315"/>
                  <a:pt x="14345" y="100315"/>
                </a:cubicBezTo>
                <a:lnTo>
                  <a:pt x="14345" y="102965"/>
                </a:lnTo>
                <a:cubicBezTo>
                  <a:pt x="17059" y="102965"/>
                  <a:pt x="17059" y="102965"/>
                  <a:pt x="17059" y="102965"/>
                </a:cubicBezTo>
                <a:cubicBezTo>
                  <a:pt x="51373" y="102965"/>
                  <a:pt x="51373" y="102965"/>
                  <a:pt x="51373" y="102965"/>
                </a:cubicBezTo>
                <a:cubicBezTo>
                  <a:pt x="54281" y="102965"/>
                  <a:pt x="56995" y="102965"/>
                  <a:pt x="56995" y="100315"/>
                </a:cubicBezTo>
                <a:cubicBezTo>
                  <a:pt x="56995" y="97476"/>
                  <a:pt x="54281" y="97476"/>
                  <a:pt x="51373" y="97476"/>
                </a:cubicBezTo>
                <a:close/>
                <a:moveTo>
                  <a:pt x="102746" y="13817"/>
                </a:moveTo>
                <a:lnTo>
                  <a:pt x="102746" y="13817"/>
                </a:lnTo>
                <a:cubicBezTo>
                  <a:pt x="68432" y="13817"/>
                  <a:pt x="68432" y="13817"/>
                  <a:pt x="68432" y="13817"/>
                </a:cubicBezTo>
                <a:cubicBezTo>
                  <a:pt x="65718" y="13817"/>
                  <a:pt x="62810" y="16656"/>
                  <a:pt x="62810" y="19495"/>
                </a:cubicBezTo>
                <a:cubicBezTo>
                  <a:pt x="62810" y="19495"/>
                  <a:pt x="65718" y="22145"/>
                  <a:pt x="68432" y="22145"/>
                </a:cubicBezTo>
                <a:cubicBezTo>
                  <a:pt x="94216" y="22145"/>
                  <a:pt x="94216" y="22145"/>
                  <a:pt x="94216" y="22145"/>
                </a:cubicBezTo>
                <a:cubicBezTo>
                  <a:pt x="65718" y="47318"/>
                  <a:pt x="65718" y="47318"/>
                  <a:pt x="65718" y="47318"/>
                </a:cubicBezTo>
                <a:cubicBezTo>
                  <a:pt x="71340" y="52807"/>
                  <a:pt x="71340" y="52807"/>
                  <a:pt x="71340" y="52807"/>
                </a:cubicBezTo>
                <a:cubicBezTo>
                  <a:pt x="96930" y="27823"/>
                  <a:pt x="96930" y="27823"/>
                  <a:pt x="96930" y="27823"/>
                </a:cubicBezTo>
                <a:cubicBezTo>
                  <a:pt x="96930" y="52807"/>
                  <a:pt x="96930" y="52807"/>
                  <a:pt x="96930" y="52807"/>
                </a:cubicBezTo>
                <a:cubicBezTo>
                  <a:pt x="96930" y="52807"/>
                  <a:pt x="99838" y="55646"/>
                  <a:pt x="102746" y="55646"/>
                </a:cubicBezTo>
                <a:lnTo>
                  <a:pt x="105654" y="52807"/>
                </a:lnTo>
                <a:cubicBezTo>
                  <a:pt x="105654" y="19495"/>
                  <a:pt x="105654" y="19495"/>
                  <a:pt x="105654" y="19495"/>
                </a:cubicBezTo>
                <a:cubicBezTo>
                  <a:pt x="105654" y="16656"/>
                  <a:pt x="105654" y="16656"/>
                  <a:pt x="105654" y="16656"/>
                </a:cubicBezTo>
                <a:cubicBezTo>
                  <a:pt x="102746" y="13817"/>
                  <a:pt x="102746" y="13817"/>
                  <a:pt x="102746" y="13817"/>
                </a:cubicBezTo>
                <a:close/>
                <a:moveTo>
                  <a:pt x="105654" y="0"/>
                </a:moveTo>
                <a:lnTo>
                  <a:pt x="105654" y="0"/>
                </a:lnTo>
                <a:cubicBezTo>
                  <a:pt x="14345" y="0"/>
                  <a:pt x="14345" y="0"/>
                  <a:pt x="14345" y="0"/>
                </a:cubicBezTo>
                <a:cubicBezTo>
                  <a:pt x="5621" y="0"/>
                  <a:pt x="0" y="5488"/>
                  <a:pt x="0" y="13817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5621" y="119810"/>
                  <a:pt x="14345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1293"/>
                  <a:pt x="119806" y="102965"/>
                </a:cubicBezTo>
                <a:cubicBezTo>
                  <a:pt x="119806" y="13817"/>
                  <a:pt x="119806" y="13817"/>
                  <a:pt x="119806" y="13817"/>
                </a:cubicBezTo>
                <a:cubicBezTo>
                  <a:pt x="119806" y="5488"/>
                  <a:pt x="114184" y="0"/>
                  <a:pt x="105654" y="0"/>
                </a:cubicBezTo>
                <a:close/>
                <a:moveTo>
                  <a:pt x="114184" y="102965"/>
                </a:moveTo>
                <a:lnTo>
                  <a:pt x="114184" y="102965"/>
                </a:lnTo>
                <a:cubicBezTo>
                  <a:pt x="114184" y="108643"/>
                  <a:pt x="108368" y="111293"/>
                  <a:pt x="105654" y="111293"/>
                </a:cubicBezTo>
                <a:cubicBezTo>
                  <a:pt x="14345" y="111293"/>
                  <a:pt x="14345" y="111293"/>
                  <a:pt x="14345" y="111293"/>
                </a:cubicBezTo>
                <a:cubicBezTo>
                  <a:pt x="11437" y="111293"/>
                  <a:pt x="5621" y="108643"/>
                  <a:pt x="5621" y="102965"/>
                </a:cubicBezTo>
                <a:cubicBezTo>
                  <a:pt x="5621" y="13817"/>
                  <a:pt x="5621" y="13817"/>
                  <a:pt x="5621" y="13817"/>
                </a:cubicBezTo>
                <a:cubicBezTo>
                  <a:pt x="5621" y="10977"/>
                  <a:pt x="11437" y="8328"/>
                  <a:pt x="14345" y="8328"/>
                </a:cubicBezTo>
                <a:cubicBezTo>
                  <a:pt x="105654" y="8328"/>
                  <a:pt x="105654" y="8328"/>
                  <a:pt x="105654" y="8328"/>
                </a:cubicBezTo>
                <a:cubicBezTo>
                  <a:pt x="108368" y="8328"/>
                  <a:pt x="114184" y="10977"/>
                  <a:pt x="114184" y="13817"/>
                </a:cubicBezTo>
                <a:lnTo>
                  <a:pt x="114184" y="1029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Shape 4634"/>
          <p:cNvSpPr/>
          <p:nvPr/>
        </p:nvSpPr>
        <p:spPr>
          <a:xfrm>
            <a:off x="10049040" y="27417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Shape 4635"/>
          <p:cNvSpPr/>
          <p:nvPr/>
        </p:nvSpPr>
        <p:spPr>
          <a:xfrm>
            <a:off x="9553680" y="2741760"/>
            <a:ext cx="263520" cy="304560"/>
          </a:xfrm>
          <a:custGeom>
            <a:avLst/>
            <a:gdLst>
              <a:gd name="textAreaLeft" fmla="*/ 0 w 263520"/>
              <a:gd name="textAreaRight" fmla="*/ 263880 w 26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94018" y="50157"/>
                </a:moveTo>
                <a:lnTo>
                  <a:pt x="94018" y="50157"/>
                </a:lnTo>
                <a:cubicBezTo>
                  <a:pt x="61651" y="22145"/>
                  <a:pt x="61651" y="22145"/>
                  <a:pt x="61651" y="22145"/>
                </a:cubicBezTo>
                <a:cubicBezTo>
                  <a:pt x="61651" y="22145"/>
                  <a:pt x="61651" y="22145"/>
                  <a:pt x="58348" y="22145"/>
                </a:cubicBezTo>
                <a:cubicBezTo>
                  <a:pt x="58348" y="22145"/>
                  <a:pt x="58348" y="22145"/>
                  <a:pt x="55045" y="22145"/>
                </a:cubicBezTo>
                <a:cubicBezTo>
                  <a:pt x="25981" y="50157"/>
                  <a:pt x="25981" y="50157"/>
                  <a:pt x="25981" y="50157"/>
                </a:cubicBezTo>
                <a:cubicBezTo>
                  <a:pt x="25981" y="50157"/>
                  <a:pt x="25981" y="52807"/>
                  <a:pt x="25981" y="55646"/>
                </a:cubicBezTo>
                <a:cubicBezTo>
                  <a:pt x="29064" y="55646"/>
                  <a:pt x="29064" y="55646"/>
                  <a:pt x="32366" y="55646"/>
                </a:cubicBezTo>
                <a:cubicBezTo>
                  <a:pt x="55045" y="36151"/>
                  <a:pt x="55045" y="36151"/>
                  <a:pt x="55045" y="36151"/>
                </a:cubicBezTo>
                <a:cubicBezTo>
                  <a:pt x="55045" y="114132"/>
                  <a:pt x="55045" y="114132"/>
                  <a:pt x="55045" y="114132"/>
                </a:cubicBezTo>
                <a:cubicBezTo>
                  <a:pt x="55045" y="116971"/>
                  <a:pt x="58348" y="119810"/>
                  <a:pt x="58348" y="119810"/>
                </a:cubicBezTo>
                <a:cubicBezTo>
                  <a:pt x="61651" y="119810"/>
                  <a:pt x="64733" y="116971"/>
                  <a:pt x="64733" y="114132"/>
                </a:cubicBezTo>
                <a:cubicBezTo>
                  <a:pt x="64733" y="36151"/>
                  <a:pt x="64733" y="36151"/>
                  <a:pt x="64733" y="36151"/>
                </a:cubicBezTo>
                <a:cubicBezTo>
                  <a:pt x="87633" y="55646"/>
                  <a:pt x="87633" y="55646"/>
                  <a:pt x="87633" y="55646"/>
                </a:cubicBezTo>
                <a:cubicBezTo>
                  <a:pt x="87633" y="55646"/>
                  <a:pt x="90715" y="55646"/>
                  <a:pt x="94018" y="55646"/>
                </a:cubicBezTo>
                <a:cubicBezTo>
                  <a:pt x="94018" y="52807"/>
                  <a:pt x="94018" y="50157"/>
                  <a:pt x="94018" y="50157"/>
                </a:cubicBezTo>
                <a:close/>
                <a:moveTo>
                  <a:pt x="103706" y="0"/>
                </a:moveTo>
                <a:lnTo>
                  <a:pt x="103706" y="0"/>
                </a:ln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5488"/>
                  <a:pt x="0" y="13817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6385" y="102965"/>
                  <a:pt x="16073" y="102965"/>
                </a:cubicBezTo>
                <a:cubicBezTo>
                  <a:pt x="29064" y="102965"/>
                  <a:pt x="29064" y="102965"/>
                  <a:pt x="29064" y="102965"/>
                </a:cubicBezTo>
                <a:cubicBezTo>
                  <a:pt x="29064" y="97476"/>
                  <a:pt x="29064" y="97476"/>
                  <a:pt x="29064" y="97476"/>
                </a:cubicBezTo>
                <a:cubicBezTo>
                  <a:pt x="16073" y="97476"/>
                  <a:pt x="16073" y="97476"/>
                  <a:pt x="16073" y="97476"/>
                </a:cubicBezTo>
                <a:cubicBezTo>
                  <a:pt x="12990" y="97476"/>
                  <a:pt x="6385" y="91798"/>
                  <a:pt x="6385" y="89148"/>
                </a:cubicBezTo>
                <a:cubicBezTo>
                  <a:pt x="6385" y="13817"/>
                  <a:pt x="6385" y="13817"/>
                  <a:pt x="6385" y="13817"/>
                </a:cubicBezTo>
                <a:cubicBezTo>
                  <a:pt x="6385" y="10977"/>
                  <a:pt x="12990" y="8328"/>
                  <a:pt x="16073" y="8328"/>
                </a:cubicBezTo>
                <a:cubicBezTo>
                  <a:pt x="103706" y="8328"/>
                  <a:pt x="103706" y="8328"/>
                  <a:pt x="103706" y="8328"/>
                </a:cubicBezTo>
                <a:cubicBezTo>
                  <a:pt x="107009" y="8328"/>
                  <a:pt x="110091" y="10977"/>
                  <a:pt x="110091" y="13817"/>
                </a:cubicBezTo>
                <a:cubicBezTo>
                  <a:pt x="110091" y="89148"/>
                  <a:pt x="110091" y="89148"/>
                  <a:pt x="110091" y="89148"/>
                </a:cubicBezTo>
                <a:cubicBezTo>
                  <a:pt x="110091" y="91798"/>
                  <a:pt x="107009" y="97476"/>
                  <a:pt x="103706" y="97476"/>
                </a:cubicBezTo>
                <a:cubicBezTo>
                  <a:pt x="90715" y="97476"/>
                  <a:pt x="90715" y="97476"/>
                  <a:pt x="90715" y="97476"/>
                </a:cubicBezTo>
                <a:cubicBezTo>
                  <a:pt x="90715" y="102965"/>
                  <a:pt x="90715" y="102965"/>
                  <a:pt x="90715" y="102965"/>
                </a:cubicBezTo>
                <a:cubicBezTo>
                  <a:pt x="103706" y="102965"/>
                  <a:pt x="103706" y="102965"/>
                  <a:pt x="103706" y="102965"/>
                </a:cubicBezTo>
                <a:cubicBezTo>
                  <a:pt x="113394" y="102965"/>
                  <a:pt x="119779" y="97476"/>
                  <a:pt x="119779" y="89148"/>
                </a:cubicBezTo>
                <a:cubicBezTo>
                  <a:pt x="119779" y="13817"/>
                  <a:pt x="119779" y="13817"/>
                  <a:pt x="119779" y="13817"/>
                </a:cubicBezTo>
                <a:cubicBezTo>
                  <a:pt x="119779" y="5488"/>
                  <a:pt x="113394" y="0"/>
                  <a:pt x="103706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Shape 4636"/>
          <p:cNvSpPr/>
          <p:nvPr/>
        </p:nvSpPr>
        <p:spPr>
          <a:xfrm>
            <a:off x="9045720" y="27622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Shape 4637"/>
          <p:cNvSpPr/>
          <p:nvPr/>
        </p:nvSpPr>
        <p:spPr>
          <a:xfrm>
            <a:off x="8550360" y="2762280"/>
            <a:ext cx="304560" cy="263520"/>
          </a:xfrm>
          <a:custGeom>
            <a:avLst/>
            <a:gdLst>
              <a:gd name="textAreaLeft" fmla="*/ 0 w 304560"/>
              <a:gd name="textAreaRight" fmla="*/ 304920 w 3045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64164" y="87412"/>
                </a:moveTo>
                <a:lnTo>
                  <a:pt x="64164" y="87412"/>
                </a:lnTo>
                <a:cubicBezTo>
                  <a:pt x="64164" y="87412"/>
                  <a:pt x="64164" y="90715"/>
                  <a:pt x="64164" y="94018"/>
                </a:cubicBezTo>
                <a:cubicBezTo>
                  <a:pt x="67003" y="94018"/>
                  <a:pt x="69842" y="94018"/>
                  <a:pt x="69842" y="94018"/>
                </a:cubicBezTo>
                <a:cubicBezTo>
                  <a:pt x="97665" y="61651"/>
                  <a:pt x="97665" y="61651"/>
                  <a:pt x="97665" y="61651"/>
                </a:cubicBezTo>
                <a:cubicBezTo>
                  <a:pt x="97665" y="61651"/>
                  <a:pt x="97665" y="61651"/>
                  <a:pt x="97665" y="58348"/>
                </a:cubicBezTo>
                <a:cubicBezTo>
                  <a:pt x="97665" y="58348"/>
                  <a:pt x="97665" y="58348"/>
                  <a:pt x="97665" y="55045"/>
                </a:cubicBezTo>
                <a:cubicBezTo>
                  <a:pt x="69842" y="25981"/>
                  <a:pt x="69842" y="25981"/>
                  <a:pt x="69842" y="25981"/>
                </a:cubicBezTo>
                <a:cubicBezTo>
                  <a:pt x="69842" y="25981"/>
                  <a:pt x="67003" y="25981"/>
                  <a:pt x="64164" y="25981"/>
                </a:cubicBezTo>
                <a:cubicBezTo>
                  <a:pt x="64164" y="29064"/>
                  <a:pt x="64164" y="29064"/>
                  <a:pt x="64164" y="32366"/>
                </a:cubicBezTo>
                <a:cubicBezTo>
                  <a:pt x="83659" y="55045"/>
                  <a:pt x="83659" y="55045"/>
                  <a:pt x="83659" y="55045"/>
                </a:cubicBezTo>
                <a:cubicBezTo>
                  <a:pt x="5678" y="55045"/>
                  <a:pt x="5678" y="55045"/>
                  <a:pt x="5678" y="55045"/>
                </a:cubicBezTo>
                <a:cubicBezTo>
                  <a:pt x="2839" y="55045"/>
                  <a:pt x="0" y="58348"/>
                  <a:pt x="0" y="58348"/>
                </a:cubicBezTo>
                <a:cubicBezTo>
                  <a:pt x="0" y="61651"/>
                  <a:pt x="2839" y="64733"/>
                  <a:pt x="5678" y="64733"/>
                </a:cubicBezTo>
                <a:cubicBezTo>
                  <a:pt x="83659" y="64733"/>
                  <a:pt x="83659" y="64733"/>
                  <a:pt x="83659" y="64733"/>
                </a:cubicBezTo>
                <a:lnTo>
                  <a:pt x="64164" y="87412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30662" y="0"/>
                  <a:pt x="30662" y="0"/>
                  <a:pt x="30662" y="0"/>
                </a:cubicBezTo>
                <a:cubicBezTo>
                  <a:pt x="22334" y="0"/>
                  <a:pt x="16845" y="6385"/>
                  <a:pt x="16845" y="16073"/>
                </a:cubicBezTo>
                <a:cubicBezTo>
                  <a:pt x="16845" y="32366"/>
                  <a:pt x="16845" y="32366"/>
                  <a:pt x="16845" y="32366"/>
                </a:cubicBezTo>
                <a:cubicBezTo>
                  <a:pt x="22334" y="32366"/>
                  <a:pt x="22334" y="32366"/>
                  <a:pt x="22334" y="32366"/>
                </a:cubicBezTo>
                <a:cubicBezTo>
                  <a:pt x="22334" y="16073"/>
                  <a:pt x="22334" y="16073"/>
                  <a:pt x="22334" y="16073"/>
                </a:cubicBezTo>
                <a:cubicBezTo>
                  <a:pt x="22334" y="12990"/>
                  <a:pt x="28012" y="6385"/>
                  <a:pt x="30662" y="6385"/>
                </a:cubicBezTo>
                <a:cubicBezTo>
                  <a:pt x="105993" y="6385"/>
                  <a:pt x="105993" y="6385"/>
                  <a:pt x="105993" y="6385"/>
                </a:cubicBezTo>
                <a:cubicBezTo>
                  <a:pt x="108832" y="6385"/>
                  <a:pt x="111482" y="12990"/>
                  <a:pt x="111482" y="16073"/>
                </a:cubicBezTo>
                <a:cubicBezTo>
                  <a:pt x="111482" y="103706"/>
                  <a:pt x="111482" y="103706"/>
                  <a:pt x="111482" y="103706"/>
                </a:cubicBezTo>
                <a:cubicBezTo>
                  <a:pt x="111482" y="107009"/>
                  <a:pt x="108832" y="110091"/>
                  <a:pt x="105993" y="110091"/>
                </a:cubicBezTo>
                <a:cubicBezTo>
                  <a:pt x="30662" y="110091"/>
                  <a:pt x="30662" y="110091"/>
                  <a:pt x="30662" y="110091"/>
                </a:cubicBezTo>
                <a:cubicBezTo>
                  <a:pt x="28012" y="110091"/>
                  <a:pt x="22334" y="107009"/>
                  <a:pt x="22334" y="103706"/>
                </a:cubicBezTo>
                <a:cubicBezTo>
                  <a:pt x="22334" y="84110"/>
                  <a:pt x="22334" y="84110"/>
                  <a:pt x="22334" y="84110"/>
                </a:cubicBezTo>
                <a:cubicBezTo>
                  <a:pt x="16845" y="84110"/>
                  <a:pt x="16845" y="84110"/>
                  <a:pt x="16845" y="84110"/>
                </a:cubicBezTo>
                <a:cubicBezTo>
                  <a:pt x="16845" y="103706"/>
                  <a:pt x="16845" y="103706"/>
                  <a:pt x="16845" y="103706"/>
                </a:cubicBezTo>
                <a:cubicBezTo>
                  <a:pt x="16845" y="113394"/>
                  <a:pt x="22334" y="119779"/>
                  <a:pt x="30662" y="119779"/>
                </a:cubicBezTo>
                <a:cubicBezTo>
                  <a:pt x="105993" y="119779"/>
                  <a:pt x="105993" y="119779"/>
                  <a:pt x="105993" y="119779"/>
                </a:cubicBezTo>
                <a:cubicBezTo>
                  <a:pt x="114321" y="119779"/>
                  <a:pt x="119810" y="113394"/>
                  <a:pt x="119810" y="103706"/>
                </a:cubicBezTo>
                <a:cubicBezTo>
                  <a:pt x="119810" y="16073"/>
                  <a:pt x="119810" y="16073"/>
                  <a:pt x="119810" y="16073"/>
                </a:cubicBezTo>
                <a:cubicBezTo>
                  <a:pt x="119810" y="6385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Shape 4638"/>
          <p:cNvSpPr/>
          <p:nvPr/>
        </p:nvSpPr>
        <p:spPr>
          <a:xfrm>
            <a:off x="8083440" y="27622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Shape 4639"/>
          <p:cNvSpPr/>
          <p:nvPr/>
        </p:nvSpPr>
        <p:spPr>
          <a:xfrm>
            <a:off x="7586640" y="2762280"/>
            <a:ext cx="270000" cy="263520"/>
          </a:xfrm>
          <a:custGeom>
            <a:avLst/>
            <a:gdLst>
              <a:gd name="textAreaLeft" fmla="*/ 0 w 270000"/>
              <a:gd name="textAreaRight" fmla="*/ 270360 w 270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0374" y="55045"/>
                </a:moveTo>
                <a:lnTo>
                  <a:pt x="110374" y="55045"/>
                </a:lnTo>
                <a:cubicBezTo>
                  <a:pt x="110374" y="103706"/>
                  <a:pt x="110374" y="103706"/>
                  <a:pt x="110374" y="103706"/>
                </a:cubicBezTo>
                <a:cubicBezTo>
                  <a:pt x="110374" y="107009"/>
                  <a:pt x="107165" y="110091"/>
                  <a:pt x="100748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63101" y="6385"/>
                  <a:pt x="63101" y="6385"/>
                  <a:pt x="63101" y="6385"/>
                </a:cubicBezTo>
                <a:cubicBezTo>
                  <a:pt x="63101" y="0"/>
                  <a:pt x="63101" y="0"/>
                  <a:pt x="63101" y="0"/>
                </a:cubicBez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374" y="119779"/>
                  <a:pt x="119786" y="113394"/>
                  <a:pt x="119786" y="103706"/>
                </a:cubicBezTo>
                <a:cubicBezTo>
                  <a:pt x="119786" y="55045"/>
                  <a:pt x="119786" y="55045"/>
                  <a:pt x="119786" y="55045"/>
                </a:cubicBezTo>
                <a:lnTo>
                  <a:pt x="110374" y="55045"/>
                </a:lnTo>
                <a:close/>
                <a:moveTo>
                  <a:pt x="47272" y="45357"/>
                </a:moveTo>
                <a:lnTo>
                  <a:pt x="47272" y="45357"/>
                </a:lnTo>
                <a:lnTo>
                  <a:pt x="44064" y="42055"/>
                </a:lnTo>
                <a:cubicBezTo>
                  <a:pt x="41069" y="42055"/>
                  <a:pt x="37860" y="45357"/>
                  <a:pt x="37860" y="45357"/>
                </a:cubicBezTo>
                <a:cubicBezTo>
                  <a:pt x="37860" y="77724"/>
                  <a:pt x="37860" y="77724"/>
                  <a:pt x="37860" y="77724"/>
                </a:cubicBezTo>
                <a:cubicBezTo>
                  <a:pt x="37860" y="77724"/>
                  <a:pt x="41069" y="81027"/>
                  <a:pt x="44064" y="81027"/>
                </a:cubicBezTo>
                <a:cubicBezTo>
                  <a:pt x="72513" y="81027"/>
                  <a:pt x="72513" y="81027"/>
                  <a:pt x="72513" y="81027"/>
                </a:cubicBezTo>
                <a:cubicBezTo>
                  <a:pt x="75508" y="81027"/>
                  <a:pt x="75508" y="77724"/>
                  <a:pt x="75508" y="77724"/>
                </a:cubicBezTo>
                <a:cubicBezTo>
                  <a:pt x="75508" y="74642"/>
                  <a:pt x="75508" y="71339"/>
                  <a:pt x="72513" y="71339"/>
                </a:cubicBezTo>
                <a:cubicBezTo>
                  <a:pt x="53689" y="71339"/>
                  <a:pt x="53689" y="71339"/>
                  <a:pt x="53689" y="71339"/>
                </a:cubicBezTo>
                <a:cubicBezTo>
                  <a:pt x="116577" y="9688"/>
                  <a:pt x="116577" y="9688"/>
                  <a:pt x="116577" y="9688"/>
                </a:cubicBezTo>
                <a:cubicBezTo>
                  <a:pt x="116577" y="6385"/>
                  <a:pt x="116577" y="3082"/>
                  <a:pt x="116577" y="3082"/>
                </a:cubicBezTo>
                <a:cubicBezTo>
                  <a:pt x="113368" y="0"/>
                  <a:pt x="110374" y="0"/>
                  <a:pt x="110374" y="3082"/>
                </a:cubicBezTo>
                <a:cubicBezTo>
                  <a:pt x="47272" y="68036"/>
                  <a:pt x="47272" y="68036"/>
                  <a:pt x="47272" y="68036"/>
                </a:cubicBezTo>
                <a:lnTo>
                  <a:pt x="47272" y="4535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Shape 4640"/>
          <p:cNvSpPr/>
          <p:nvPr/>
        </p:nvSpPr>
        <p:spPr>
          <a:xfrm>
            <a:off x="7078680" y="27417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Shape 4641"/>
          <p:cNvSpPr/>
          <p:nvPr/>
        </p:nvSpPr>
        <p:spPr>
          <a:xfrm>
            <a:off x="6593040" y="2762280"/>
            <a:ext cx="304560" cy="263520"/>
          </a:xfrm>
          <a:custGeom>
            <a:avLst/>
            <a:gdLst>
              <a:gd name="textAreaLeft" fmla="*/ 0 w 304560"/>
              <a:gd name="textAreaRight" fmla="*/ 304920 w 3045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3817" y="42055"/>
                </a:moveTo>
                <a:lnTo>
                  <a:pt x="13817" y="42055"/>
                </a:lnTo>
                <a:cubicBezTo>
                  <a:pt x="5488" y="42055"/>
                  <a:pt x="0" y="48660"/>
                  <a:pt x="0" y="58348"/>
                </a:cubicBezTo>
                <a:cubicBezTo>
                  <a:pt x="0" y="68036"/>
                  <a:pt x="5488" y="77724"/>
                  <a:pt x="13817" y="77724"/>
                </a:cubicBezTo>
                <a:cubicBezTo>
                  <a:pt x="22145" y="77724"/>
                  <a:pt x="30662" y="68036"/>
                  <a:pt x="30662" y="58348"/>
                </a:cubicBezTo>
                <a:cubicBezTo>
                  <a:pt x="30662" y="48660"/>
                  <a:pt x="22145" y="42055"/>
                  <a:pt x="13817" y="42055"/>
                </a:cubicBezTo>
                <a:close/>
                <a:moveTo>
                  <a:pt x="13817" y="68036"/>
                </a:moveTo>
                <a:lnTo>
                  <a:pt x="13817" y="68036"/>
                </a:lnTo>
                <a:cubicBezTo>
                  <a:pt x="10977" y="68036"/>
                  <a:pt x="8328" y="64733"/>
                  <a:pt x="8328" y="58348"/>
                </a:cubicBezTo>
                <a:cubicBezTo>
                  <a:pt x="8328" y="55045"/>
                  <a:pt x="10977" y="51743"/>
                  <a:pt x="13817" y="51743"/>
                </a:cubicBezTo>
                <a:cubicBezTo>
                  <a:pt x="19495" y="51743"/>
                  <a:pt x="22145" y="55045"/>
                  <a:pt x="22145" y="58348"/>
                </a:cubicBezTo>
                <a:cubicBezTo>
                  <a:pt x="22145" y="64733"/>
                  <a:pt x="19495" y="68036"/>
                  <a:pt x="13817" y="68036"/>
                </a:cubicBezTo>
                <a:close/>
                <a:moveTo>
                  <a:pt x="102965" y="32366"/>
                </a:moveTo>
                <a:lnTo>
                  <a:pt x="102965" y="32366"/>
                </a:lnTo>
                <a:cubicBezTo>
                  <a:pt x="111293" y="32366"/>
                  <a:pt x="119810" y="25981"/>
                  <a:pt x="119810" y="16073"/>
                </a:cubicBezTo>
                <a:cubicBezTo>
                  <a:pt x="119810" y="6385"/>
                  <a:pt x="111293" y="0"/>
                  <a:pt x="102965" y="0"/>
                </a:cubicBezTo>
                <a:cubicBezTo>
                  <a:pt x="94637" y="0"/>
                  <a:pt x="89148" y="6385"/>
                  <a:pt x="89148" y="16073"/>
                </a:cubicBezTo>
                <a:cubicBezTo>
                  <a:pt x="89148" y="25981"/>
                  <a:pt x="94637" y="32366"/>
                  <a:pt x="102965" y="32366"/>
                </a:cubicBezTo>
                <a:close/>
                <a:moveTo>
                  <a:pt x="102965" y="6385"/>
                </a:moveTo>
                <a:lnTo>
                  <a:pt x="102965" y="6385"/>
                </a:lnTo>
                <a:cubicBezTo>
                  <a:pt x="108643" y="6385"/>
                  <a:pt x="111293" y="12990"/>
                  <a:pt x="111293" y="16073"/>
                </a:cubicBezTo>
                <a:cubicBezTo>
                  <a:pt x="111293" y="19376"/>
                  <a:pt x="108643" y="25981"/>
                  <a:pt x="102965" y="25981"/>
                </a:cubicBezTo>
                <a:cubicBezTo>
                  <a:pt x="100315" y="25981"/>
                  <a:pt x="97476" y="19376"/>
                  <a:pt x="97476" y="16073"/>
                </a:cubicBezTo>
                <a:cubicBezTo>
                  <a:pt x="97476" y="12990"/>
                  <a:pt x="100315" y="6385"/>
                  <a:pt x="102965" y="6385"/>
                </a:cubicBezTo>
                <a:close/>
                <a:moveTo>
                  <a:pt x="13817" y="84110"/>
                </a:moveTo>
                <a:lnTo>
                  <a:pt x="13817" y="84110"/>
                </a:lnTo>
                <a:cubicBezTo>
                  <a:pt x="5488" y="84110"/>
                  <a:pt x="0" y="94018"/>
                  <a:pt x="0" y="103706"/>
                </a:cubicBezTo>
                <a:cubicBezTo>
                  <a:pt x="0" y="113394"/>
                  <a:pt x="5488" y="119779"/>
                  <a:pt x="13817" y="119779"/>
                </a:cubicBezTo>
                <a:cubicBezTo>
                  <a:pt x="22145" y="119779"/>
                  <a:pt x="30662" y="113394"/>
                  <a:pt x="30662" y="103706"/>
                </a:cubicBezTo>
                <a:cubicBezTo>
                  <a:pt x="30662" y="94018"/>
                  <a:pt x="22145" y="84110"/>
                  <a:pt x="13817" y="84110"/>
                </a:cubicBezTo>
                <a:close/>
                <a:moveTo>
                  <a:pt x="13817" y="110091"/>
                </a:moveTo>
                <a:lnTo>
                  <a:pt x="13817" y="110091"/>
                </a:lnTo>
                <a:cubicBezTo>
                  <a:pt x="10977" y="110091"/>
                  <a:pt x="8328" y="107009"/>
                  <a:pt x="8328" y="103706"/>
                </a:cubicBezTo>
                <a:cubicBezTo>
                  <a:pt x="8328" y="97100"/>
                  <a:pt x="10977" y="94018"/>
                  <a:pt x="13817" y="94018"/>
                </a:cubicBezTo>
                <a:cubicBezTo>
                  <a:pt x="19495" y="94018"/>
                  <a:pt x="22145" y="97100"/>
                  <a:pt x="22145" y="103706"/>
                </a:cubicBezTo>
                <a:cubicBezTo>
                  <a:pt x="22145" y="107009"/>
                  <a:pt x="19495" y="110091"/>
                  <a:pt x="13817" y="110091"/>
                </a:cubicBezTo>
                <a:close/>
                <a:moveTo>
                  <a:pt x="102965" y="84110"/>
                </a:moveTo>
                <a:lnTo>
                  <a:pt x="102965" y="84110"/>
                </a:lnTo>
                <a:cubicBezTo>
                  <a:pt x="94637" y="84110"/>
                  <a:pt x="89148" y="94018"/>
                  <a:pt x="89148" y="103706"/>
                </a:cubicBezTo>
                <a:cubicBezTo>
                  <a:pt x="89148" y="113394"/>
                  <a:pt x="94637" y="119779"/>
                  <a:pt x="102965" y="119779"/>
                </a:cubicBezTo>
                <a:cubicBezTo>
                  <a:pt x="111293" y="119779"/>
                  <a:pt x="119810" y="113394"/>
                  <a:pt x="119810" y="103706"/>
                </a:cubicBezTo>
                <a:cubicBezTo>
                  <a:pt x="119810" y="94018"/>
                  <a:pt x="111293" y="84110"/>
                  <a:pt x="102965" y="84110"/>
                </a:cubicBezTo>
                <a:close/>
                <a:moveTo>
                  <a:pt x="102965" y="110091"/>
                </a:moveTo>
                <a:lnTo>
                  <a:pt x="102965" y="110091"/>
                </a:lnTo>
                <a:cubicBezTo>
                  <a:pt x="100315" y="110091"/>
                  <a:pt x="97476" y="107009"/>
                  <a:pt x="97476" y="103706"/>
                </a:cubicBezTo>
                <a:cubicBezTo>
                  <a:pt x="97476" y="97100"/>
                  <a:pt x="100315" y="94018"/>
                  <a:pt x="102965" y="94018"/>
                </a:cubicBezTo>
                <a:cubicBezTo>
                  <a:pt x="108643" y="94018"/>
                  <a:pt x="111293" y="97100"/>
                  <a:pt x="111293" y="103706"/>
                </a:cubicBezTo>
                <a:cubicBezTo>
                  <a:pt x="111293" y="107009"/>
                  <a:pt x="108643" y="110091"/>
                  <a:pt x="102965" y="110091"/>
                </a:cubicBezTo>
                <a:close/>
                <a:moveTo>
                  <a:pt x="13817" y="0"/>
                </a:moveTo>
                <a:lnTo>
                  <a:pt x="13817" y="0"/>
                </a:lnTo>
                <a:cubicBezTo>
                  <a:pt x="5488" y="0"/>
                  <a:pt x="0" y="6385"/>
                  <a:pt x="0" y="16073"/>
                </a:cubicBezTo>
                <a:cubicBezTo>
                  <a:pt x="0" y="25981"/>
                  <a:pt x="5488" y="32366"/>
                  <a:pt x="13817" y="32366"/>
                </a:cubicBezTo>
                <a:cubicBezTo>
                  <a:pt x="22145" y="32366"/>
                  <a:pt x="30662" y="25981"/>
                  <a:pt x="30662" y="16073"/>
                </a:cubicBezTo>
                <a:cubicBezTo>
                  <a:pt x="30662" y="6385"/>
                  <a:pt x="22145" y="0"/>
                  <a:pt x="13817" y="0"/>
                </a:cubicBezTo>
                <a:close/>
                <a:moveTo>
                  <a:pt x="13817" y="25981"/>
                </a:moveTo>
                <a:lnTo>
                  <a:pt x="13817" y="25981"/>
                </a:lnTo>
                <a:cubicBezTo>
                  <a:pt x="10977" y="25981"/>
                  <a:pt x="8328" y="19376"/>
                  <a:pt x="8328" y="16073"/>
                </a:cubicBezTo>
                <a:cubicBezTo>
                  <a:pt x="8328" y="12990"/>
                  <a:pt x="10977" y="6385"/>
                  <a:pt x="13817" y="6385"/>
                </a:cubicBezTo>
                <a:cubicBezTo>
                  <a:pt x="19495" y="6385"/>
                  <a:pt x="22145" y="12990"/>
                  <a:pt x="22145" y="16073"/>
                </a:cubicBezTo>
                <a:cubicBezTo>
                  <a:pt x="22145" y="19376"/>
                  <a:pt x="19495" y="25981"/>
                  <a:pt x="13817" y="25981"/>
                </a:cubicBezTo>
                <a:close/>
                <a:moveTo>
                  <a:pt x="102965" y="42055"/>
                </a:moveTo>
                <a:lnTo>
                  <a:pt x="102965" y="42055"/>
                </a:lnTo>
                <a:cubicBezTo>
                  <a:pt x="94637" y="42055"/>
                  <a:pt x="89148" y="48660"/>
                  <a:pt x="89148" y="58348"/>
                </a:cubicBezTo>
                <a:cubicBezTo>
                  <a:pt x="89148" y="68036"/>
                  <a:pt x="94637" y="77724"/>
                  <a:pt x="102965" y="77724"/>
                </a:cubicBezTo>
                <a:cubicBezTo>
                  <a:pt x="111293" y="77724"/>
                  <a:pt x="119810" y="68036"/>
                  <a:pt x="119810" y="58348"/>
                </a:cubicBezTo>
                <a:cubicBezTo>
                  <a:pt x="119810" y="48660"/>
                  <a:pt x="111293" y="42055"/>
                  <a:pt x="102965" y="42055"/>
                </a:cubicBezTo>
                <a:close/>
                <a:moveTo>
                  <a:pt x="102965" y="68036"/>
                </a:moveTo>
                <a:lnTo>
                  <a:pt x="102965" y="68036"/>
                </a:lnTo>
                <a:cubicBezTo>
                  <a:pt x="100315" y="68036"/>
                  <a:pt x="97476" y="64733"/>
                  <a:pt x="97476" y="58348"/>
                </a:cubicBezTo>
                <a:cubicBezTo>
                  <a:pt x="97476" y="55045"/>
                  <a:pt x="100315" y="51743"/>
                  <a:pt x="102965" y="51743"/>
                </a:cubicBezTo>
                <a:cubicBezTo>
                  <a:pt x="108643" y="51743"/>
                  <a:pt x="111293" y="55045"/>
                  <a:pt x="111293" y="58348"/>
                </a:cubicBezTo>
                <a:cubicBezTo>
                  <a:pt x="111293" y="64733"/>
                  <a:pt x="108643" y="68036"/>
                  <a:pt x="102965" y="68036"/>
                </a:cubicBezTo>
                <a:close/>
                <a:moveTo>
                  <a:pt x="58485" y="0"/>
                </a:moveTo>
                <a:lnTo>
                  <a:pt x="58485" y="0"/>
                </a:lnTo>
                <a:cubicBezTo>
                  <a:pt x="50157" y="0"/>
                  <a:pt x="44479" y="6385"/>
                  <a:pt x="44479" y="16073"/>
                </a:cubicBezTo>
                <a:cubicBezTo>
                  <a:pt x="44479" y="25981"/>
                  <a:pt x="50157" y="32366"/>
                  <a:pt x="58485" y="32366"/>
                </a:cubicBezTo>
                <a:cubicBezTo>
                  <a:pt x="66813" y="32366"/>
                  <a:pt x="75141" y="25981"/>
                  <a:pt x="75141" y="16073"/>
                </a:cubicBezTo>
                <a:cubicBezTo>
                  <a:pt x="75141" y="6385"/>
                  <a:pt x="66813" y="0"/>
                  <a:pt x="58485" y="0"/>
                </a:cubicBezTo>
                <a:close/>
                <a:moveTo>
                  <a:pt x="58485" y="25981"/>
                </a:moveTo>
                <a:lnTo>
                  <a:pt x="58485" y="25981"/>
                </a:lnTo>
                <a:cubicBezTo>
                  <a:pt x="55646" y="25981"/>
                  <a:pt x="52807" y="19376"/>
                  <a:pt x="52807" y="16073"/>
                </a:cubicBezTo>
                <a:cubicBezTo>
                  <a:pt x="52807" y="12990"/>
                  <a:pt x="55646" y="6385"/>
                  <a:pt x="58485" y="6385"/>
                </a:cubicBezTo>
                <a:cubicBezTo>
                  <a:pt x="63974" y="6385"/>
                  <a:pt x="66813" y="12990"/>
                  <a:pt x="66813" y="16073"/>
                </a:cubicBezTo>
                <a:cubicBezTo>
                  <a:pt x="66813" y="19376"/>
                  <a:pt x="63974" y="25981"/>
                  <a:pt x="58485" y="25981"/>
                </a:cubicBezTo>
                <a:close/>
                <a:moveTo>
                  <a:pt x="58485" y="84110"/>
                </a:moveTo>
                <a:lnTo>
                  <a:pt x="58485" y="84110"/>
                </a:lnTo>
                <a:cubicBezTo>
                  <a:pt x="50157" y="84110"/>
                  <a:pt x="44479" y="94018"/>
                  <a:pt x="44479" y="103706"/>
                </a:cubicBezTo>
                <a:cubicBezTo>
                  <a:pt x="44479" y="113394"/>
                  <a:pt x="50157" y="119779"/>
                  <a:pt x="58485" y="119779"/>
                </a:cubicBezTo>
                <a:cubicBezTo>
                  <a:pt x="66813" y="119779"/>
                  <a:pt x="75141" y="113394"/>
                  <a:pt x="75141" y="103706"/>
                </a:cubicBezTo>
                <a:cubicBezTo>
                  <a:pt x="75141" y="94018"/>
                  <a:pt x="66813" y="84110"/>
                  <a:pt x="58485" y="84110"/>
                </a:cubicBezTo>
                <a:close/>
                <a:moveTo>
                  <a:pt x="58485" y="110091"/>
                </a:moveTo>
                <a:lnTo>
                  <a:pt x="58485" y="110091"/>
                </a:lnTo>
                <a:cubicBezTo>
                  <a:pt x="55646" y="110091"/>
                  <a:pt x="52807" y="107009"/>
                  <a:pt x="52807" y="103706"/>
                </a:cubicBezTo>
                <a:cubicBezTo>
                  <a:pt x="52807" y="97100"/>
                  <a:pt x="55646" y="94018"/>
                  <a:pt x="58485" y="94018"/>
                </a:cubicBezTo>
                <a:cubicBezTo>
                  <a:pt x="63974" y="94018"/>
                  <a:pt x="66813" y="97100"/>
                  <a:pt x="66813" y="103706"/>
                </a:cubicBezTo>
                <a:cubicBezTo>
                  <a:pt x="66813" y="107009"/>
                  <a:pt x="63974" y="110091"/>
                  <a:pt x="58485" y="110091"/>
                </a:cubicBezTo>
                <a:close/>
                <a:moveTo>
                  <a:pt x="58485" y="42055"/>
                </a:moveTo>
                <a:lnTo>
                  <a:pt x="58485" y="42055"/>
                </a:lnTo>
                <a:cubicBezTo>
                  <a:pt x="50157" y="42055"/>
                  <a:pt x="44479" y="48660"/>
                  <a:pt x="44479" y="58348"/>
                </a:cubicBezTo>
                <a:cubicBezTo>
                  <a:pt x="44479" y="68036"/>
                  <a:pt x="50157" y="77724"/>
                  <a:pt x="58485" y="77724"/>
                </a:cubicBezTo>
                <a:cubicBezTo>
                  <a:pt x="66813" y="77724"/>
                  <a:pt x="75141" y="68036"/>
                  <a:pt x="75141" y="58348"/>
                </a:cubicBezTo>
                <a:cubicBezTo>
                  <a:pt x="75141" y="48660"/>
                  <a:pt x="66813" y="42055"/>
                  <a:pt x="58485" y="42055"/>
                </a:cubicBezTo>
                <a:close/>
                <a:moveTo>
                  <a:pt x="58485" y="68036"/>
                </a:moveTo>
                <a:lnTo>
                  <a:pt x="58485" y="68036"/>
                </a:lnTo>
                <a:cubicBezTo>
                  <a:pt x="55646" y="68036"/>
                  <a:pt x="52807" y="64733"/>
                  <a:pt x="52807" y="58348"/>
                </a:cubicBezTo>
                <a:cubicBezTo>
                  <a:pt x="52807" y="55045"/>
                  <a:pt x="55646" y="51743"/>
                  <a:pt x="58485" y="51743"/>
                </a:cubicBezTo>
                <a:cubicBezTo>
                  <a:pt x="63974" y="51743"/>
                  <a:pt x="66813" y="55045"/>
                  <a:pt x="66813" y="58348"/>
                </a:cubicBezTo>
                <a:cubicBezTo>
                  <a:pt x="66813" y="64733"/>
                  <a:pt x="63974" y="68036"/>
                  <a:pt x="58485" y="6803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Shape 4642"/>
          <p:cNvSpPr/>
          <p:nvPr/>
        </p:nvSpPr>
        <p:spPr>
          <a:xfrm>
            <a:off x="6116760" y="27622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Shape 4643"/>
          <p:cNvSpPr/>
          <p:nvPr/>
        </p:nvSpPr>
        <p:spPr>
          <a:xfrm>
            <a:off x="10524960" y="2252520"/>
            <a:ext cx="284400" cy="298440"/>
          </a:xfrm>
          <a:custGeom>
            <a:avLst/>
            <a:gdLst>
              <a:gd name="textAreaLeft" fmla="*/ 0 w 284400"/>
              <a:gd name="textAreaRight" fmla="*/ 284760 w 2844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59898" y="0"/>
                </a:moveTo>
                <a:lnTo>
                  <a:pt x="59898" y="0"/>
                </a:lnTo>
                <a:cubicBezTo>
                  <a:pt x="0" y="65718"/>
                  <a:pt x="0" y="65718"/>
                  <a:pt x="0" y="65718"/>
                </a:cubicBezTo>
                <a:cubicBezTo>
                  <a:pt x="5908" y="71340"/>
                  <a:pt x="5908" y="71340"/>
                  <a:pt x="5908" y="71340"/>
                </a:cubicBezTo>
                <a:cubicBezTo>
                  <a:pt x="20984" y="56995"/>
                  <a:pt x="20984" y="56995"/>
                  <a:pt x="20984" y="56995"/>
                </a:cubicBezTo>
                <a:cubicBezTo>
                  <a:pt x="20984" y="105654"/>
                  <a:pt x="20984" y="105654"/>
                  <a:pt x="20984" y="105654"/>
                </a:cubicBezTo>
                <a:cubicBezTo>
                  <a:pt x="20984" y="114184"/>
                  <a:pt x="26893" y="119806"/>
                  <a:pt x="35857" y="119806"/>
                </a:cubicBezTo>
                <a:cubicBezTo>
                  <a:pt x="83938" y="119806"/>
                  <a:pt x="83938" y="119806"/>
                  <a:pt x="83938" y="119806"/>
                </a:cubicBezTo>
                <a:cubicBezTo>
                  <a:pt x="92903" y="119806"/>
                  <a:pt x="98811" y="114184"/>
                  <a:pt x="98811" y="105654"/>
                </a:cubicBezTo>
                <a:cubicBezTo>
                  <a:pt x="98811" y="56995"/>
                  <a:pt x="98811" y="56995"/>
                  <a:pt x="98811" y="56995"/>
                </a:cubicBezTo>
                <a:cubicBezTo>
                  <a:pt x="113887" y="71340"/>
                  <a:pt x="113887" y="71340"/>
                  <a:pt x="113887" y="71340"/>
                </a:cubicBezTo>
                <a:cubicBezTo>
                  <a:pt x="119796" y="65718"/>
                  <a:pt x="119796" y="65718"/>
                  <a:pt x="119796" y="65718"/>
                </a:cubicBezTo>
                <a:lnTo>
                  <a:pt x="59898" y="0"/>
                </a:lnTo>
                <a:close/>
                <a:moveTo>
                  <a:pt x="92903" y="105654"/>
                </a:moveTo>
                <a:lnTo>
                  <a:pt x="92903" y="105654"/>
                </a:lnTo>
                <a:cubicBezTo>
                  <a:pt x="92903" y="108368"/>
                  <a:pt x="86791" y="114184"/>
                  <a:pt x="83938" y="114184"/>
                </a:cubicBezTo>
                <a:cubicBezTo>
                  <a:pt x="35857" y="114184"/>
                  <a:pt x="35857" y="114184"/>
                  <a:pt x="35857" y="114184"/>
                </a:cubicBezTo>
                <a:cubicBezTo>
                  <a:pt x="33005" y="114184"/>
                  <a:pt x="26893" y="108368"/>
                  <a:pt x="26893" y="105654"/>
                </a:cubicBezTo>
                <a:cubicBezTo>
                  <a:pt x="26893" y="45557"/>
                  <a:pt x="26893" y="45557"/>
                  <a:pt x="26893" y="45557"/>
                </a:cubicBezTo>
                <a:cubicBezTo>
                  <a:pt x="59898" y="11437"/>
                  <a:pt x="59898" y="11437"/>
                  <a:pt x="59898" y="11437"/>
                </a:cubicBezTo>
                <a:cubicBezTo>
                  <a:pt x="92903" y="45557"/>
                  <a:pt x="92903" y="45557"/>
                  <a:pt x="92903" y="45557"/>
                </a:cubicBezTo>
                <a:lnTo>
                  <a:pt x="92903" y="10565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Shape 4644"/>
          <p:cNvSpPr/>
          <p:nvPr/>
        </p:nvSpPr>
        <p:spPr>
          <a:xfrm>
            <a:off x="10023480" y="225252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Shape 4645"/>
          <p:cNvSpPr/>
          <p:nvPr/>
        </p:nvSpPr>
        <p:spPr>
          <a:xfrm>
            <a:off x="9540720" y="2260440"/>
            <a:ext cx="284400" cy="284400"/>
          </a:xfrm>
          <a:custGeom>
            <a:avLst/>
            <a:gdLst>
              <a:gd name="textAreaLeft" fmla="*/ 0 w 284400"/>
              <a:gd name="textAreaRight" fmla="*/ 284760 w 2844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7050" y="0"/>
                  <a:pt x="0" y="26893"/>
                  <a:pt x="0" y="59898"/>
                </a:cubicBezTo>
                <a:cubicBezTo>
                  <a:pt x="0" y="92903"/>
                  <a:pt x="27050" y="119796"/>
                  <a:pt x="60000" y="119796"/>
                </a:cubicBezTo>
                <a:cubicBezTo>
                  <a:pt x="92949" y="119796"/>
                  <a:pt x="119796" y="92903"/>
                  <a:pt x="119796" y="59898"/>
                </a:cubicBezTo>
                <a:cubicBezTo>
                  <a:pt x="119796" y="26893"/>
                  <a:pt x="92949" y="0"/>
                  <a:pt x="60000" y="0"/>
                </a:cubicBezTo>
                <a:close/>
                <a:moveTo>
                  <a:pt x="65898" y="110831"/>
                </a:moveTo>
                <a:lnTo>
                  <a:pt x="65898" y="110831"/>
                </a:lnTo>
                <a:cubicBezTo>
                  <a:pt x="65898" y="92903"/>
                  <a:pt x="65898" y="92903"/>
                  <a:pt x="65898" y="92903"/>
                </a:cubicBezTo>
                <a:cubicBezTo>
                  <a:pt x="65898" y="89847"/>
                  <a:pt x="63050" y="86791"/>
                  <a:pt x="60000" y="86791"/>
                </a:cubicBezTo>
                <a:cubicBezTo>
                  <a:pt x="60000" y="86791"/>
                  <a:pt x="56949" y="89847"/>
                  <a:pt x="56949" y="92903"/>
                </a:cubicBezTo>
                <a:cubicBezTo>
                  <a:pt x="56949" y="110831"/>
                  <a:pt x="56949" y="110831"/>
                  <a:pt x="56949" y="110831"/>
                </a:cubicBezTo>
                <a:cubicBezTo>
                  <a:pt x="30101" y="110831"/>
                  <a:pt x="12000" y="89847"/>
                  <a:pt x="9152" y="62954"/>
                </a:cubicBezTo>
                <a:cubicBezTo>
                  <a:pt x="30101" y="62954"/>
                  <a:pt x="30101" y="62954"/>
                  <a:pt x="30101" y="62954"/>
                </a:cubicBezTo>
                <a:cubicBezTo>
                  <a:pt x="30101" y="62954"/>
                  <a:pt x="32949" y="62954"/>
                  <a:pt x="32949" y="59898"/>
                </a:cubicBezTo>
                <a:cubicBezTo>
                  <a:pt x="32949" y="56842"/>
                  <a:pt x="30101" y="56842"/>
                  <a:pt x="30101" y="56842"/>
                </a:cubicBezTo>
                <a:cubicBezTo>
                  <a:pt x="9152" y="56842"/>
                  <a:pt x="9152" y="56842"/>
                  <a:pt x="9152" y="56842"/>
                </a:cubicBezTo>
                <a:cubicBezTo>
                  <a:pt x="12000" y="29949"/>
                  <a:pt x="30101" y="8964"/>
                  <a:pt x="56949" y="8964"/>
                </a:cubicBezTo>
                <a:cubicBezTo>
                  <a:pt x="56949" y="26893"/>
                  <a:pt x="56949" y="26893"/>
                  <a:pt x="56949" y="26893"/>
                </a:cubicBezTo>
                <a:cubicBezTo>
                  <a:pt x="56949" y="29949"/>
                  <a:pt x="60000" y="33005"/>
                  <a:pt x="60000" y="33005"/>
                </a:cubicBezTo>
                <a:cubicBezTo>
                  <a:pt x="63050" y="33005"/>
                  <a:pt x="65898" y="29949"/>
                  <a:pt x="65898" y="26893"/>
                </a:cubicBezTo>
                <a:cubicBezTo>
                  <a:pt x="65898" y="8964"/>
                  <a:pt x="65898" y="8964"/>
                  <a:pt x="65898" y="8964"/>
                </a:cubicBezTo>
                <a:cubicBezTo>
                  <a:pt x="89898" y="8964"/>
                  <a:pt x="110847" y="29949"/>
                  <a:pt x="113898" y="56842"/>
                </a:cubicBezTo>
                <a:cubicBezTo>
                  <a:pt x="92949" y="56842"/>
                  <a:pt x="92949" y="56842"/>
                  <a:pt x="92949" y="56842"/>
                </a:cubicBezTo>
                <a:cubicBezTo>
                  <a:pt x="89898" y="56842"/>
                  <a:pt x="89898" y="56842"/>
                  <a:pt x="89898" y="59898"/>
                </a:cubicBezTo>
                <a:cubicBezTo>
                  <a:pt x="89898" y="62954"/>
                  <a:pt x="89898" y="62954"/>
                  <a:pt x="92949" y="62954"/>
                </a:cubicBezTo>
                <a:cubicBezTo>
                  <a:pt x="113898" y="62954"/>
                  <a:pt x="113898" y="62954"/>
                  <a:pt x="113898" y="62954"/>
                </a:cubicBezTo>
                <a:cubicBezTo>
                  <a:pt x="110847" y="89847"/>
                  <a:pt x="89898" y="110831"/>
                  <a:pt x="65898" y="1108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Shape 4646"/>
          <p:cNvSpPr/>
          <p:nvPr/>
        </p:nvSpPr>
        <p:spPr>
          <a:xfrm>
            <a:off x="9053640" y="2244600"/>
            <a:ext cx="295200" cy="2970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Shape 4647"/>
          <p:cNvSpPr/>
          <p:nvPr/>
        </p:nvSpPr>
        <p:spPr>
          <a:xfrm>
            <a:off x="8570880" y="2260440"/>
            <a:ext cx="263520" cy="284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103706" y="71918"/>
                </a:moveTo>
                <a:lnTo>
                  <a:pt x="103706" y="71918"/>
                </a:lnTo>
                <a:cubicBezTo>
                  <a:pt x="103706" y="38913"/>
                  <a:pt x="103706" y="38913"/>
                  <a:pt x="103706" y="38913"/>
                </a:cubicBezTo>
                <a:cubicBezTo>
                  <a:pt x="103706" y="17928"/>
                  <a:pt x="84330" y="0"/>
                  <a:pt x="61431" y="0"/>
                </a:cubicBezTo>
                <a:cubicBezTo>
                  <a:pt x="35669" y="0"/>
                  <a:pt x="16073" y="17928"/>
                  <a:pt x="16073" y="38913"/>
                </a:cubicBezTo>
                <a:cubicBezTo>
                  <a:pt x="16073" y="71918"/>
                  <a:pt x="16073" y="71918"/>
                  <a:pt x="16073" y="71918"/>
                </a:cubicBezTo>
                <a:cubicBezTo>
                  <a:pt x="0" y="104923"/>
                  <a:pt x="0" y="104923"/>
                  <a:pt x="0" y="104923"/>
                </a:cubicBezTo>
                <a:cubicBezTo>
                  <a:pt x="38752" y="104923"/>
                  <a:pt x="38752" y="104923"/>
                  <a:pt x="38752" y="104923"/>
                </a:cubicBezTo>
                <a:cubicBezTo>
                  <a:pt x="42055" y="113887"/>
                  <a:pt x="48440" y="119796"/>
                  <a:pt x="61431" y="119796"/>
                </a:cubicBezTo>
                <a:cubicBezTo>
                  <a:pt x="71339" y="119796"/>
                  <a:pt x="80807" y="113887"/>
                  <a:pt x="80807" y="104923"/>
                </a:cubicBezTo>
                <a:cubicBezTo>
                  <a:pt x="119779" y="104923"/>
                  <a:pt x="119779" y="104923"/>
                  <a:pt x="119779" y="104923"/>
                </a:cubicBezTo>
                <a:lnTo>
                  <a:pt x="103706" y="71918"/>
                </a:lnTo>
                <a:close/>
                <a:moveTo>
                  <a:pt x="61431" y="110831"/>
                </a:moveTo>
                <a:lnTo>
                  <a:pt x="61431" y="110831"/>
                </a:lnTo>
                <a:cubicBezTo>
                  <a:pt x="55045" y="110831"/>
                  <a:pt x="48440" y="107979"/>
                  <a:pt x="48440" y="104923"/>
                </a:cubicBezTo>
                <a:cubicBezTo>
                  <a:pt x="71339" y="104923"/>
                  <a:pt x="71339" y="104923"/>
                  <a:pt x="71339" y="104923"/>
                </a:cubicBezTo>
                <a:cubicBezTo>
                  <a:pt x="71339" y="107979"/>
                  <a:pt x="64733" y="110831"/>
                  <a:pt x="61431" y="110831"/>
                </a:cubicBezTo>
                <a:close/>
                <a:moveTo>
                  <a:pt x="12770" y="95959"/>
                </a:moveTo>
                <a:lnTo>
                  <a:pt x="12770" y="95959"/>
                </a:lnTo>
                <a:cubicBezTo>
                  <a:pt x="25761" y="71918"/>
                  <a:pt x="25761" y="71918"/>
                  <a:pt x="25761" y="71918"/>
                </a:cubicBezTo>
                <a:cubicBezTo>
                  <a:pt x="25761" y="38913"/>
                  <a:pt x="25761" y="38913"/>
                  <a:pt x="25761" y="38913"/>
                </a:cubicBezTo>
                <a:cubicBezTo>
                  <a:pt x="25761" y="20984"/>
                  <a:pt x="42055" y="8964"/>
                  <a:pt x="61431" y="8964"/>
                </a:cubicBezTo>
                <a:cubicBezTo>
                  <a:pt x="80807" y="8964"/>
                  <a:pt x="93798" y="20984"/>
                  <a:pt x="93798" y="38913"/>
                </a:cubicBezTo>
                <a:cubicBezTo>
                  <a:pt x="93798" y="71918"/>
                  <a:pt x="93798" y="71918"/>
                  <a:pt x="93798" y="71918"/>
                </a:cubicBezTo>
                <a:cubicBezTo>
                  <a:pt x="106788" y="95959"/>
                  <a:pt x="106788" y="95959"/>
                  <a:pt x="106788" y="95959"/>
                </a:cubicBezTo>
                <a:lnTo>
                  <a:pt x="12770" y="959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Shape 4648"/>
          <p:cNvSpPr/>
          <p:nvPr/>
        </p:nvSpPr>
        <p:spPr>
          <a:xfrm>
            <a:off x="8061480" y="225252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Shape 4649"/>
          <p:cNvSpPr/>
          <p:nvPr/>
        </p:nvSpPr>
        <p:spPr>
          <a:xfrm>
            <a:off x="7575480" y="2252520"/>
            <a:ext cx="295200" cy="2984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8368" y="91308"/>
                </a:moveTo>
                <a:lnTo>
                  <a:pt x="108368" y="91308"/>
                </a:lnTo>
                <a:cubicBezTo>
                  <a:pt x="108368" y="28497"/>
                  <a:pt x="108368" y="28497"/>
                  <a:pt x="108368" y="28497"/>
                </a:cubicBezTo>
                <a:cubicBezTo>
                  <a:pt x="116898" y="28497"/>
                  <a:pt x="119806" y="19967"/>
                  <a:pt x="119806" y="14151"/>
                </a:cubicBezTo>
                <a:cubicBezTo>
                  <a:pt x="119806" y="5621"/>
                  <a:pt x="114184" y="0"/>
                  <a:pt x="105654" y="0"/>
                </a:cubicBezTo>
                <a:cubicBezTo>
                  <a:pt x="99838" y="0"/>
                  <a:pt x="91308" y="2907"/>
                  <a:pt x="91308" y="11437"/>
                </a:cubicBezTo>
                <a:cubicBezTo>
                  <a:pt x="28497" y="11437"/>
                  <a:pt x="28497" y="11437"/>
                  <a:pt x="28497" y="11437"/>
                </a:cubicBezTo>
                <a:cubicBezTo>
                  <a:pt x="28497" y="2907"/>
                  <a:pt x="19967" y="0"/>
                  <a:pt x="14151" y="0"/>
                </a:cubicBezTo>
                <a:cubicBezTo>
                  <a:pt x="5621" y="0"/>
                  <a:pt x="0" y="5621"/>
                  <a:pt x="0" y="14151"/>
                </a:cubicBezTo>
                <a:cubicBezTo>
                  <a:pt x="0" y="19967"/>
                  <a:pt x="2907" y="28497"/>
                  <a:pt x="11437" y="28497"/>
                </a:cubicBezTo>
                <a:cubicBezTo>
                  <a:pt x="11437" y="91308"/>
                  <a:pt x="11437" y="91308"/>
                  <a:pt x="11437" y="91308"/>
                </a:cubicBezTo>
                <a:cubicBezTo>
                  <a:pt x="2907" y="91308"/>
                  <a:pt x="0" y="99838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9967" y="119806"/>
                  <a:pt x="28497" y="116898"/>
                  <a:pt x="28497" y="108368"/>
                </a:cubicBezTo>
                <a:cubicBezTo>
                  <a:pt x="91308" y="108368"/>
                  <a:pt x="91308" y="108368"/>
                  <a:pt x="91308" y="108368"/>
                </a:cubicBezTo>
                <a:cubicBezTo>
                  <a:pt x="91308" y="116898"/>
                  <a:pt x="99838" y="119806"/>
                  <a:pt x="105654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99838"/>
                  <a:pt x="116898" y="91308"/>
                  <a:pt x="108368" y="91308"/>
                </a:cubicBezTo>
                <a:close/>
                <a:moveTo>
                  <a:pt x="105654" y="5621"/>
                </a:moveTo>
                <a:lnTo>
                  <a:pt x="105654" y="5621"/>
                </a:lnTo>
                <a:cubicBezTo>
                  <a:pt x="108368" y="5621"/>
                  <a:pt x="114184" y="11437"/>
                  <a:pt x="114184" y="14151"/>
                </a:cubicBezTo>
                <a:cubicBezTo>
                  <a:pt x="114184" y="17059"/>
                  <a:pt x="108368" y="22875"/>
                  <a:pt x="105654" y="22875"/>
                </a:cubicBezTo>
                <a:cubicBezTo>
                  <a:pt x="102746" y="22875"/>
                  <a:pt x="96930" y="17059"/>
                  <a:pt x="96930" y="14151"/>
                </a:cubicBezTo>
                <a:cubicBezTo>
                  <a:pt x="96930" y="11437"/>
                  <a:pt x="102746" y="5621"/>
                  <a:pt x="105654" y="5621"/>
                </a:cubicBezTo>
                <a:close/>
                <a:moveTo>
                  <a:pt x="5621" y="14151"/>
                </a:moveTo>
                <a:lnTo>
                  <a:pt x="5621" y="14151"/>
                </a:lnTo>
                <a:cubicBezTo>
                  <a:pt x="5621" y="11437"/>
                  <a:pt x="11437" y="5621"/>
                  <a:pt x="14151" y="5621"/>
                </a:cubicBezTo>
                <a:cubicBezTo>
                  <a:pt x="17059" y="5621"/>
                  <a:pt x="22875" y="11437"/>
                  <a:pt x="22875" y="14151"/>
                </a:cubicBezTo>
                <a:cubicBezTo>
                  <a:pt x="22875" y="17059"/>
                  <a:pt x="17059" y="22875"/>
                  <a:pt x="14151" y="22875"/>
                </a:cubicBezTo>
                <a:cubicBezTo>
                  <a:pt x="11437" y="22875"/>
                  <a:pt x="5621" y="17059"/>
                  <a:pt x="5621" y="14151"/>
                </a:cubicBezTo>
                <a:close/>
                <a:moveTo>
                  <a:pt x="14151" y="114184"/>
                </a:moveTo>
                <a:lnTo>
                  <a:pt x="14151" y="114184"/>
                </a:lnTo>
                <a:cubicBezTo>
                  <a:pt x="11437" y="114184"/>
                  <a:pt x="5621" y="108368"/>
                  <a:pt x="5621" y="105654"/>
                </a:cubicBezTo>
                <a:cubicBezTo>
                  <a:pt x="5621" y="102746"/>
                  <a:pt x="11437" y="96930"/>
                  <a:pt x="14151" y="96930"/>
                </a:cubicBezTo>
                <a:cubicBezTo>
                  <a:pt x="17059" y="96930"/>
                  <a:pt x="22875" y="102746"/>
                  <a:pt x="22875" y="105654"/>
                </a:cubicBezTo>
                <a:cubicBezTo>
                  <a:pt x="22875" y="108368"/>
                  <a:pt x="17059" y="114184"/>
                  <a:pt x="14151" y="114184"/>
                </a:cubicBezTo>
                <a:close/>
                <a:moveTo>
                  <a:pt x="91308" y="102746"/>
                </a:moveTo>
                <a:lnTo>
                  <a:pt x="91308" y="102746"/>
                </a:lnTo>
                <a:cubicBezTo>
                  <a:pt x="28497" y="102746"/>
                  <a:pt x="28497" y="102746"/>
                  <a:pt x="28497" y="102746"/>
                </a:cubicBezTo>
                <a:cubicBezTo>
                  <a:pt x="28497" y="96930"/>
                  <a:pt x="22875" y="91308"/>
                  <a:pt x="17059" y="91308"/>
                </a:cubicBezTo>
                <a:cubicBezTo>
                  <a:pt x="17059" y="28497"/>
                  <a:pt x="17059" y="28497"/>
                  <a:pt x="17059" y="28497"/>
                </a:cubicBezTo>
                <a:cubicBezTo>
                  <a:pt x="22875" y="28497"/>
                  <a:pt x="28497" y="22875"/>
                  <a:pt x="28497" y="17059"/>
                </a:cubicBezTo>
                <a:cubicBezTo>
                  <a:pt x="91308" y="17059"/>
                  <a:pt x="91308" y="17059"/>
                  <a:pt x="91308" y="17059"/>
                </a:cubicBezTo>
                <a:cubicBezTo>
                  <a:pt x="91308" y="22875"/>
                  <a:pt x="96930" y="28497"/>
                  <a:pt x="102746" y="28497"/>
                </a:cubicBezTo>
                <a:cubicBezTo>
                  <a:pt x="102746" y="91308"/>
                  <a:pt x="102746" y="91308"/>
                  <a:pt x="102746" y="91308"/>
                </a:cubicBezTo>
                <a:cubicBezTo>
                  <a:pt x="96930" y="91308"/>
                  <a:pt x="91308" y="96930"/>
                  <a:pt x="91308" y="102746"/>
                </a:cubicBezTo>
                <a:close/>
                <a:moveTo>
                  <a:pt x="105654" y="114184"/>
                </a:moveTo>
                <a:lnTo>
                  <a:pt x="105654" y="114184"/>
                </a:lnTo>
                <a:cubicBezTo>
                  <a:pt x="102746" y="114184"/>
                  <a:pt x="96930" y="108368"/>
                  <a:pt x="96930" y="105654"/>
                </a:cubicBezTo>
                <a:cubicBezTo>
                  <a:pt x="96930" y="102746"/>
                  <a:pt x="102746" y="96930"/>
                  <a:pt x="105654" y="96930"/>
                </a:cubicBezTo>
                <a:cubicBezTo>
                  <a:pt x="108368" y="96930"/>
                  <a:pt x="114184" y="102746"/>
                  <a:pt x="114184" y="105654"/>
                </a:cubicBezTo>
                <a:cubicBezTo>
                  <a:pt x="114184" y="108368"/>
                  <a:pt x="108368" y="114184"/>
                  <a:pt x="105654" y="1141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Shape 4650"/>
          <p:cNvSpPr/>
          <p:nvPr/>
        </p:nvSpPr>
        <p:spPr>
          <a:xfrm>
            <a:off x="7135920" y="23241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Shape 4651"/>
          <p:cNvSpPr/>
          <p:nvPr/>
        </p:nvSpPr>
        <p:spPr>
          <a:xfrm>
            <a:off x="6593040" y="225252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9810" y="45557"/>
                </a:moveTo>
                <a:lnTo>
                  <a:pt x="77981" y="39935"/>
                </a:lnTo>
                <a:lnTo>
                  <a:pt x="58485" y="0"/>
                </a:lnTo>
                <a:lnTo>
                  <a:pt x="41640" y="39935"/>
                </a:lnTo>
                <a:lnTo>
                  <a:pt x="0" y="45557"/>
                </a:lnTo>
                <a:lnTo>
                  <a:pt x="30662" y="77156"/>
                </a:lnTo>
                <a:lnTo>
                  <a:pt x="22145" y="119806"/>
                </a:lnTo>
                <a:lnTo>
                  <a:pt x="58485" y="99838"/>
                </a:lnTo>
                <a:lnTo>
                  <a:pt x="97476" y="119806"/>
                </a:lnTo>
                <a:lnTo>
                  <a:pt x="89148" y="77156"/>
                </a:lnTo>
                <a:lnTo>
                  <a:pt x="119810" y="45557"/>
                </a:lnTo>
                <a:close/>
                <a:moveTo>
                  <a:pt x="58485" y="91308"/>
                </a:moveTo>
                <a:lnTo>
                  <a:pt x="30662" y="105654"/>
                </a:lnTo>
                <a:lnTo>
                  <a:pt x="36151" y="74054"/>
                </a:lnTo>
                <a:lnTo>
                  <a:pt x="13817" y="51373"/>
                </a:lnTo>
                <a:lnTo>
                  <a:pt x="44479" y="45557"/>
                </a:lnTo>
                <a:lnTo>
                  <a:pt x="58485" y="14151"/>
                </a:lnTo>
                <a:lnTo>
                  <a:pt x="72492" y="45557"/>
                </a:lnTo>
                <a:lnTo>
                  <a:pt x="105804" y="51373"/>
                </a:lnTo>
                <a:lnTo>
                  <a:pt x="80630" y="74054"/>
                </a:lnTo>
                <a:lnTo>
                  <a:pt x="86309" y="108368"/>
                </a:lnTo>
                <a:lnTo>
                  <a:pt x="58485" y="9130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Shape 4652"/>
          <p:cNvSpPr/>
          <p:nvPr/>
        </p:nvSpPr>
        <p:spPr>
          <a:xfrm>
            <a:off x="6102360" y="226044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Shape 4653"/>
          <p:cNvSpPr/>
          <p:nvPr/>
        </p:nvSpPr>
        <p:spPr>
          <a:xfrm>
            <a:off x="10558440" y="1757520"/>
            <a:ext cx="212760" cy="304560"/>
          </a:xfrm>
          <a:custGeom>
            <a:avLst/>
            <a:gdLst>
              <a:gd name="textAreaLeft" fmla="*/ 0 w 212760"/>
              <a:gd name="textAreaRight" fmla="*/ 213120 w 2127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9864" y="61324"/>
                </a:moveTo>
                <a:lnTo>
                  <a:pt x="59864" y="61324"/>
                </a:lnTo>
                <a:cubicBezTo>
                  <a:pt x="59864" y="33501"/>
                  <a:pt x="83972" y="14006"/>
                  <a:pt x="119729" y="5678"/>
                </a:cubicBezTo>
                <a:cubicBezTo>
                  <a:pt x="107810" y="2839"/>
                  <a:pt x="99954" y="0"/>
                  <a:pt x="87765" y="0"/>
                </a:cubicBezTo>
                <a:cubicBezTo>
                  <a:pt x="40090" y="0"/>
                  <a:pt x="0" y="28012"/>
                  <a:pt x="0" y="61324"/>
                </a:cubicBezTo>
                <a:cubicBezTo>
                  <a:pt x="0" y="91987"/>
                  <a:pt x="40090" y="119810"/>
                  <a:pt x="87765" y="119810"/>
                </a:cubicBezTo>
                <a:cubicBezTo>
                  <a:pt x="99954" y="119810"/>
                  <a:pt x="107810" y="119810"/>
                  <a:pt x="119729" y="117160"/>
                </a:cubicBezTo>
                <a:cubicBezTo>
                  <a:pt x="83972" y="108643"/>
                  <a:pt x="59864" y="86498"/>
                  <a:pt x="59864" y="61324"/>
                </a:cubicBezTo>
                <a:close/>
                <a:moveTo>
                  <a:pt x="75846" y="111482"/>
                </a:moveTo>
                <a:lnTo>
                  <a:pt x="75846" y="111482"/>
                </a:lnTo>
                <a:cubicBezTo>
                  <a:pt x="52009" y="111482"/>
                  <a:pt x="11918" y="89148"/>
                  <a:pt x="11918" y="61324"/>
                </a:cubicBezTo>
                <a:cubicBezTo>
                  <a:pt x="11918" y="30662"/>
                  <a:pt x="52009" y="11167"/>
                  <a:pt x="75846" y="8328"/>
                </a:cubicBezTo>
                <a:cubicBezTo>
                  <a:pt x="83972" y="8328"/>
                  <a:pt x="79909" y="8328"/>
                  <a:pt x="87765" y="8328"/>
                </a:cubicBezTo>
                <a:cubicBezTo>
                  <a:pt x="71783" y="16845"/>
                  <a:pt x="52009" y="38990"/>
                  <a:pt x="52009" y="61324"/>
                </a:cubicBezTo>
                <a:cubicBezTo>
                  <a:pt x="52009" y="83659"/>
                  <a:pt x="63927" y="103154"/>
                  <a:pt x="87765" y="111482"/>
                </a:cubicBezTo>
                <a:cubicBezTo>
                  <a:pt x="79909" y="111482"/>
                  <a:pt x="83972" y="111482"/>
                  <a:pt x="75846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Shape 4654"/>
          <p:cNvSpPr/>
          <p:nvPr/>
        </p:nvSpPr>
        <p:spPr>
          <a:xfrm>
            <a:off x="10023480" y="17715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Shape 4655"/>
          <p:cNvSpPr/>
          <p:nvPr/>
        </p:nvSpPr>
        <p:spPr>
          <a:xfrm>
            <a:off x="9553680" y="1785960"/>
            <a:ext cx="263520" cy="245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6073" y="54883"/>
                </a:moveTo>
                <a:lnTo>
                  <a:pt x="16073" y="54883"/>
                </a:lnTo>
                <a:cubicBezTo>
                  <a:pt x="94018" y="54883"/>
                  <a:pt x="94018" y="54883"/>
                  <a:pt x="94018" y="54883"/>
                </a:cubicBezTo>
                <a:cubicBezTo>
                  <a:pt x="107009" y="54883"/>
                  <a:pt x="119779" y="44651"/>
                  <a:pt x="119779" y="27441"/>
                </a:cubicBezTo>
                <a:cubicBezTo>
                  <a:pt x="119779" y="13720"/>
                  <a:pt x="107009" y="0"/>
                  <a:pt x="94018" y="0"/>
                </a:cubicBezTo>
                <a:cubicBezTo>
                  <a:pt x="94018" y="10232"/>
                  <a:pt x="94018" y="10232"/>
                  <a:pt x="94018" y="10232"/>
                </a:cubicBezTo>
                <a:cubicBezTo>
                  <a:pt x="107009" y="13720"/>
                  <a:pt x="110091" y="17209"/>
                  <a:pt x="110091" y="27441"/>
                </a:cubicBezTo>
                <a:cubicBezTo>
                  <a:pt x="110091" y="37674"/>
                  <a:pt x="100403" y="47906"/>
                  <a:pt x="87633" y="47906"/>
                </a:cubicBezTo>
                <a:cubicBezTo>
                  <a:pt x="16073" y="47906"/>
                  <a:pt x="16073" y="47906"/>
                  <a:pt x="16073" y="47906"/>
                </a:cubicBezTo>
                <a:cubicBezTo>
                  <a:pt x="12990" y="47906"/>
                  <a:pt x="12990" y="47906"/>
                  <a:pt x="12990" y="51395"/>
                </a:cubicBezTo>
                <a:cubicBezTo>
                  <a:pt x="12990" y="54883"/>
                  <a:pt x="12990" y="54883"/>
                  <a:pt x="16073" y="54883"/>
                </a:cubicBezTo>
                <a:close/>
                <a:moveTo>
                  <a:pt x="38972" y="37674"/>
                </a:moveTo>
                <a:lnTo>
                  <a:pt x="38972" y="37674"/>
                </a:lnTo>
                <a:cubicBezTo>
                  <a:pt x="90715" y="37674"/>
                  <a:pt x="90715" y="37674"/>
                  <a:pt x="90715" y="37674"/>
                </a:cubicBezTo>
                <a:lnTo>
                  <a:pt x="94018" y="34186"/>
                </a:lnTo>
                <a:cubicBezTo>
                  <a:pt x="94018" y="30930"/>
                  <a:pt x="90715" y="27441"/>
                  <a:pt x="90715" y="27441"/>
                </a:cubicBezTo>
                <a:cubicBezTo>
                  <a:pt x="38972" y="27441"/>
                  <a:pt x="38972" y="27441"/>
                  <a:pt x="38972" y="27441"/>
                </a:cubicBezTo>
                <a:cubicBezTo>
                  <a:pt x="35669" y="27441"/>
                  <a:pt x="32366" y="30930"/>
                  <a:pt x="32366" y="34186"/>
                </a:cubicBezTo>
                <a:cubicBezTo>
                  <a:pt x="32366" y="34186"/>
                  <a:pt x="35669" y="37674"/>
                  <a:pt x="38972" y="37674"/>
                </a:cubicBezTo>
                <a:close/>
                <a:moveTo>
                  <a:pt x="58348" y="82093"/>
                </a:moveTo>
                <a:lnTo>
                  <a:pt x="58348" y="82093"/>
                </a:lnTo>
                <a:lnTo>
                  <a:pt x="58348" y="82093"/>
                </a:lnTo>
                <a:cubicBezTo>
                  <a:pt x="25981" y="82093"/>
                  <a:pt x="25981" y="82093"/>
                  <a:pt x="25981" y="82093"/>
                </a:cubicBezTo>
                <a:cubicBezTo>
                  <a:pt x="22678" y="82093"/>
                  <a:pt x="19376" y="85581"/>
                  <a:pt x="19376" y="89069"/>
                </a:cubicBezTo>
                <a:cubicBezTo>
                  <a:pt x="19376" y="89069"/>
                  <a:pt x="22678" y="92558"/>
                  <a:pt x="25981" y="92558"/>
                </a:cubicBezTo>
                <a:cubicBezTo>
                  <a:pt x="58348" y="92558"/>
                  <a:pt x="58348" y="92558"/>
                  <a:pt x="58348" y="92558"/>
                </a:cubicBezTo>
                <a:cubicBezTo>
                  <a:pt x="64733" y="92558"/>
                  <a:pt x="68036" y="95813"/>
                  <a:pt x="68036" y="102790"/>
                </a:cubicBezTo>
                <a:cubicBezTo>
                  <a:pt x="68036" y="106279"/>
                  <a:pt x="64733" y="109534"/>
                  <a:pt x="58348" y="109534"/>
                </a:cubicBezTo>
                <a:cubicBezTo>
                  <a:pt x="58348" y="119767"/>
                  <a:pt x="58348" y="119767"/>
                  <a:pt x="58348" y="119767"/>
                </a:cubicBezTo>
                <a:cubicBezTo>
                  <a:pt x="68036" y="119767"/>
                  <a:pt x="77724" y="113023"/>
                  <a:pt x="77724" y="102790"/>
                </a:cubicBezTo>
                <a:cubicBezTo>
                  <a:pt x="77724" y="92558"/>
                  <a:pt x="68036" y="82093"/>
                  <a:pt x="58348" y="82093"/>
                </a:cubicBezTo>
                <a:close/>
                <a:moveTo>
                  <a:pt x="94018" y="65116"/>
                </a:moveTo>
                <a:lnTo>
                  <a:pt x="94018" y="65116"/>
                </a:lnTo>
                <a:cubicBezTo>
                  <a:pt x="3302" y="65116"/>
                  <a:pt x="3302" y="65116"/>
                  <a:pt x="3302" y="65116"/>
                </a:cubicBezTo>
                <a:cubicBezTo>
                  <a:pt x="0" y="65116"/>
                  <a:pt x="0" y="68372"/>
                  <a:pt x="0" y="68372"/>
                </a:cubicBezTo>
                <a:cubicBezTo>
                  <a:pt x="0" y="72093"/>
                  <a:pt x="0" y="75348"/>
                  <a:pt x="3302" y="75348"/>
                </a:cubicBezTo>
                <a:cubicBezTo>
                  <a:pt x="87633" y="75348"/>
                  <a:pt x="87633" y="75348"/>
                  <a:pt x="87633" y="75348"/>
                </a:cubicBezTo>
                <a:cubicBezTo>
                  <a:pt x="100403" y="75348"/>
                  <a:pt x="110091" y="82093"/>
                  <a:pt x="110091" y="92558"/>
                </a:cubicBezTo>
                <a:cubicBezTo>
                  <a:pt x="110091" y="102790"/>
                  <a:pt x="103706" y="109534"/>
                  <a:pt x="84110" y="109534"/>
                </a:cubicBezTo>
                <a:cubicBezTo>
                  <a:pt x="84110" y="109534"/>
                  <a:pt x="84110" y="113023"/>
                  <a:pt x="84110" y="119767"/>
                </a:cubicBezTo>
                <a:cubicBezTo>
                  <a:pt x="94018" y="119767"/>
                  <a:pt x="94018" y="119767"/>
                  <a:pt x="94018" y="119767"/>
                </a:cubicBezTo>
                <a:cubicBezTo>
                  <a:pt x="107009" y="119767"/>
                  <a:pt x="119779" y="106279"/>
                  <a:pt x="119779" y="92558"/>
                </a:cubicBezTo>
                <a:cubicBezTo>
                  <a:pt x="119779" y="78837"/>
                  <a:pt x="107009" y="65116"/>
                  <a:pt x="94018" y="651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Shape 4656"/>
          <p:cNvSpPr/>
          <p:nvPr/>
        </p:nvSpPr>
        <p:spPr>
          <a:xfrm>
            <a:off x="9045720" y="17575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Shape 4657"/>
          <p:cNvSpPr/>
          <p:nvPr/>
        </p:nvSpPr>
        <p:spPr>
          <a:xfrm>
            <a:off x="8550360" y="175752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167" y="75331"/>
                </a:moveTo>
                <a:lnTo>
                  <a:pt x="11167" y="75331"/>
                </a:lnTo>
                <a:cubicBezTo>
                  <a:pt x="8517" y="69842"/>
                  <a:pt x="8517" y="66813"/>
                  <a:pt x="8517" y="61324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61324"/>
                </a:cubicBezTo>
                <a:cubicBezTo>
                  <a:pt x="111482" y="66813"/>
                  <a:pt x="111482" y="69842"/>
                  <a:pt x="111482" y="75331"/>
                </a:cubicBezTo>
                <a:cubicBezTo>
                  <a:pt x="117160" y="75331"/>
                  <a:pt x="117160" y="75331"/>
                  <a:pt x="117160" y="75331"/>
                </a:cubicBezTo>
                <a:cubicBezTo>
                  <a:pt x="119810" y="69842"/>
                  <a:pt x="119810" y="66813"/>
                  <a:pt x="119810" y="61324"/>
                </a:cubicBezTo>
                <a:cubicBezTo>
                  <a:pt x="119810" y="28012"/>
                  <a:pt x="91987" y="0"/>
                  <a:pt x="61324" y="0"/>
                </a:cubicBezTo>
                <a:cubicBezTo>
                  <a:pt x="28012" y="0"/>
                  <a:pt x="0" y="28012"/>
                  <a:pt x="0" y="61324"/>
                </a:cubicBezTo>
                <a:cubicBezTo>
                  <a:pt x="0" y="66813"/>
                  <a:pt x="2839" y="69842"/>
                  <a:pt x="2839" y="75331"/>
                </a:cubicBezTo>
                <a:lnTo>
                  <a:pt x="11167" y="75331"/>
                </a:lnTo>
                <a:close/>
                <a:moveTo>
                  <a:pt x="77981" y="111482"/>
                </a:moveTo>
                <a:lnTo>
                  <a:pt x="77981" y="111482"/>
                </a:lnTo>
                <a:cubicBezTo>
                  <a:pt x="41829" y="111482"/>
                  <a:pt x="41829" y="111482"/>
                  <a:pt x="41829" y="111482"/>
                </a:cubicBezTo>
                <a:cubicBezTo>
                  <a:pt x="39179" y="111482"/>
                  <a:pt x="39179" y="114321"/>
                  <a:pt x="39179" y="117160"/>
                </a:cubicBezTo>
                <a:cubicBezTo>
                  <a:pt x="39179" y="117160"/>
                  <a:pt x="39179" y="119810"/>
                  <a:pt x="41829" y="119810"/>
                </a:cubicBezTo>
                <a:cubicBezTo>
                  <a:pt x="61324" y="119810"/>
                  <a:pt x="61324" y="119810"/>
                  <a:pt x="61324" y="119810"/>
                </a:cubicBezTo>
                <a:lnTo>
                  <a:pt x="61324" y="119810"/>
                </a:lnTo>
                <a:lnTo>
                  <a:pt x="61324" y="119810"/>
                </a:lnTo>
                <a:cubicBezTo>
                  <a:pt x="77981" y="119810"/>
                  <a:pt x="77981" y="119810"/>
                  <a:pt x="77981" y="119810"/>
                </a:cubicBezTo>
                <a:cubicBezTo>
                  <a:pt x="81009" y="119810"/>
                  <a:pt x="83659" y="117160"/>
                  <a:pt x="83659" y="117160"/>
                </a:cubicBezTo>
                <a:cubicBezTo>
                  <a:pt x="83659" y="114321"/>
                  <a:pt x="81009" y="111482"/>
                  <a:pt x="77981" y="111482"/>
                </a:cubicBezTo>
                <a:close/>
                <a:moveTo>
                  <a:pt x="117160" y="83659"/>
                </a:moveTo>
                <a:lnTo>
                  <a:pt x="117160" y="83659"/>
                </a:lnTo>
                <a:cubicBezTo>
                  <a:pt x="5678" y="83659"/>
                  <a:pt x="5678" y="83659"/>
                  <a:pt x="5678" y="83659"/>
                </a:cubicBezTo>
                <a:cubicBezTo>
                  <a:pt x="2839" y="83659"/>
                  <a:pt x="0" y="83659"/>
                  <a:pt x="0" y="86498"/>
                </a:cubicBezTo>
                <a:cubicBezTo>
                  <a:pt x="0" y="89148"/>
                  <a:pt x="2839" y="89148"/>
                  <a:pt x="5678" y="89148"/>
                </a:cubicBezTo>
                <a:cubicBezTo>
                  <a:pt x="117160" y="89148"/>
                  <a:pt x="117160" y="89148"/>
                  <a:pt x="117160" y="89148"/>
                </a:cubicBezTo>
                <a:cubicBezTo>
                  <a:pt x="117160" y="89148"/>
                  <a:pt x="119810" y="89148"/>
                  <a:pt x="119810" y="86498"/>
                </a:cubicBezTo>
                <a:cubicBezTo>
                  <a:pt x="119810" y="83659"/>
                  <a:pt x="117160" y="83659"/>
                  <a:pt x="117160" y="83659"/>
                </a:cubicBezTo>
                <a:close/>
                <a:moveTo>
                  <a:pt x="105993" y="97665"/>
                </a:moveTo>
                <a:lnTo>
                  <a:pt x="105993" y="97665"/>
                </a:lnTo>
                <a:cubicBezTo>
                  <a:pt x="16845" y="97665"/>
                  <a:pt x="16845" y="97665"/>
                  <a:pt x="16845" y="97665"/>
                </a:cubicBezTo>
                <a:cubicBezTo>
                  <a:pt x="14006" y="97665"/>
                  <a:pt x="11167" y="100315"/>
                  <a:pt x="11167" y="100315"/>
                </a:cubicBezTo>
                <a:cubicBezTo>
                  <a:pt x="11167" y="103154"/>
                  <a:pt x="14006" y="105993"/>
                  <a:pt x="16845" y="105993"/>
                </a:cubicBezTo>
                <a:cubicBezTo>
                  <a:pt x="105993" y="105993"/>
                  <a:pt x="105993" y="105993"/>
                  <a:pt x="105993" y="105993"/>
                </a:cubicBezTo>
                <a:cubicBezTo>
                  <a:pt x="105993" y="105993"/>
                  <a:pt x="108832" y="103154"/>
                  <a:pt x="108832" y="100315"/>
                </a:cubicBezTo>
                <a:lnTo>
                  <a:pt x="105993" y="976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Shape 4658"/>
          <p:cNvSpPr/>
          <p:nvPr/>
        </p:nvSpPr>
        <p:spPr>
          <a:xfrm>
            <a:off x="8120160" y="17575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Shape 4659"/>
          <p:cNvSpPr/>
          <p:nvPr/>
        </p:nvSpPr>
        <p:spPr>
          <a:xfrm>
            <a:off x="7581960" y="1778040"/>
            <a:ext cx="284040" cy="26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20984" y="67912"/>
                </a:moveTo>
                <a:lnTo>
                  <a:pt x="20984" y="67912"/>
                </a:lnTo>
                <a:cubicBezTo>
                  <a:pt x="23837" y="48571"/>
                  <a:pt x="41969" y="35604"/>
                  <a:pt x="59898" y="35604"/>
                </a:cubicBezTo>
                <a:cubicBezTo>
                  <a:pt x="78030" y="35604"/>
                  <a:pt x="95959" y="48571"/>
                  <a:pt x="98811" y="67912"/>
                </a:cubicBezTo>
                <a:cubicBezTo>
                  <a:pt x="107979" y="67912"/>
                  <a:pt x="107979" y="67912"/>
                  <a:pt x="107979" y="67912"/>
                </a:cubicBezTo>
                <a:cubicBezTo>
                  <a:pt x="104923" y="45494"/>
                  <a:pt x="83938" y="25934"/>
                  <a:pt x="59898" y="25934"/>
                </a:cubicBezTo>
                <a:cubicBezTo>
                  <a:pt x="35857" y="25934"/>
                  <a:pt x="14872" y="45494"/>
                  <a:pt x="11816" y="67912"/>
                </a:cubicBezTo>
                <a:lnTo>
                  <a:pt x="20984" y="67912"/>
                </a:lnTo>
                <a:close/>
                <a:moveTo>
                  <a:pt x="107979" y="35604"/>
                </a:moveTo>
                <a:lnTo>
                  <a:pt x="107979" y="35604"/>
                </a:lnTo>
                <a:cubicBezTo>
                  <a:pt x="113887" y="29230"/>
                  <a:pt x="113887" y="29230"/>
                  <a:pt x="113887" y="29230"/>
                </a:cubicBezTo>
                <a:cubicBezTo>
                  <a:pt x="113887" y="29230"/>
                  <a:pt x="113887" y="25934"/>
                  <a:pt x="113887" y="22857"/>
                </a:cubicBezTo>
                <a:cubicBezTo>
                  <a:pt x="110831" y="22857"/>
                  <a:pt x="110831" y="22857"/>
                  <a:pt x="107979" y="22857"/>
                </a:cubicBezTo>
                <a:cubicBezTo>
                  <a:pt x="101867" y="29230"/>
                  <a:pt x="101867" y="29230"/>
                  <a:pt x="101867" y="29230"/>
                </a:cubicBezTo>
                <a:cubicBezTo>
                  <a:pt x="101867" y="32527"/>
                  <a:pt x="101867" y="35604"/>
                  <a:pt x="101867" y="35604"/>
                </a:cubicBezTo>
                <a:cubicBezTo>
                  <a:pt x="104923" y="38901"/>
                  <a:pt x="104923" y="38901"/>
                  <a:pt x="107979" y="35604"/>
                </a:cubicBezTo>
                <a:close/>
                <a:moveTo>
                  <a:pt x="59898" y="16263"/>
                </a:moveTo>
                <a:lnTo>
                  <a:pt x="59898" y="16263"/>
                </a:lnTo>
                <a:cubicBezTo>
                  <a:pt x="62954" y="16263"/>
                  <a:pt x="62954" y="16263"/>
                  <a:pt x="62954" y="12967"/>
                </a:cubicBezTo>
                <a:cubicBezTo>
                  <a:pt x="62954" y="3296"/>
                  <a:pt x="62954" y="3296"/>
                  <a:pt x="62954" y="3296"/>
                </a:cubicBezTo>
                <a:cubicBezTo>
                  <a:pt x="62954" y="3296"/>
                  <a:pt x="62954" y="0"/>
                  <a:pt x="59898" y="0"/>
                </a:cubicBezTo>
                <a:cubicBezTo>
                  <a:pt x="56842" y="0"/>
                  <a:pt x="56842" y="3296"/>
                  <a:pt x="56842" y="3296"/>
                </a:cubicBezTo>
                <a:cubicBezTo>
                  <a:pt x="56842" y="12967"/>
                  <a:pt x="56842" y="12967"/>
                  <a:pt x="56842" y="12967"/>
                </a:cubicBezTo>
                <a:cubicBezTo>
                  <a:pt x="56842" y="16263"/>
                  <a:pt x="56842" y="16263"/>
                  <a:pt x="59898" y="16263"/>
                </a:cubicBezTo>
                <a:close/>
                <a:moveTo>
                  <a:pt x="98811" y="113406"/>
                </a:moveTo>
                <a:lnTo>
                  <a:pt x="98811" y="113406"/>
                </a:lnTo>
                <a:cubicBezTo>
                  <a:pt x="20984" y="113406"/>
                  <a:pt x="20984" y="113406"/>
                  <a:pt x="20984" y="113406"/>
                </a:cubicBezTo>
                <a:cubicBezTo>
                  <a:pt x="17928" y="113406"/>
                  <a:pt x="14872" y="113406"/>
                  <a:pt x="14872" y="116483"/>
                </a:cubicBezTo>
                <a:cubicBezTo>
                  <a:pt x="14872" y="119780"/>
                  <a:pt x="17928" y="119780"/>
                  <a:pt x="20984" y="119780"/>
                </a:cubicBezTo>
                <a:cubicBezTo>
                  <a:pt x="98811" y="119780"/>
                  <a:pt x="98811" y="119780"/>
                  <a:pt x="98811" y="119780"/>
                </a:cubicBezTo>
                <a:cubicBezTo>
                  <a:pt x="101867" y="119780"/>
                  <a:pt x="104923" y="119780"/>
                  <a:pt x="104923" y="116483"/>
                </a:cubicBezTo>
                <a:cubicBezTo>
                  <a:pt x="104923" y="113406"/>
                  <a:pt x="101867" y="113406"/>
                  <a:pt x="98811" y="113406"/>
                </a:cubicBezTo>
                <a:close/>
                <a:moveTo>
                  <a:pt x="116943" y="77802"/>
                </a:moveTo>
                <a:lnTo>
                  <a:pt x="116943" y="77802"/>
                </a:lnTo>
                <a:cubicBezTo>
                  <a:pt x="2852" y="77802"/>
                  <a:pt x="2852" y="77802"/>
                  <a:pt x="2852" y="77802"/>
                </a:cubicBezTo>
                <a:lnTo>
                  <a:pt x="0" y="80879"/>
                </a:lnTo>
                <a:cubicBezTo>
                  <a:pt x="0" y="84175"/>
                  <a:pt x="2852" y="87472"/>
                  <a:pt x="2852" y="87472"/>
                </a:cubicBezTo>
                <a:cubicBezTo>
                  <a:pt x="116943" y="87472"/>
                  <a:pt x="116943" y="87472"/>
                  <a:pt x="116943" y="87472"/>
                </a:cubicBezTo>
                <a:cubicBezTo>
                  <a:pt x="116943" y="87472"/>
                  <a:pt x="119796" y="84175"/>
                  <a:pt x="119796" y="80879"/>
                </a:cubicBezTo>
                <a:lnTo>
                  <a:pt x="116943" y="77802"/>
                </a:lnTo>
                <a:close/>
                <a:moveTo>
                  <a:pt x="11816" y="35604"/>
                </a:moveTo>
                <a:lnTo>
                  <a:pt x="11816" y="35604"/>
                </a:lnTo>
                <a:cubicBezTo>
                  <a:pt x="14872" y="38901"/>
                  <a:pt x="14872" y="38901"/>
                  <a:pt x="17928" y="35604"/>
                </a:cubicBezTo>
                <a:cubicBezTo>
                  <a:pt x="17928" y="35604"/>
                  <a:pt x="17928" y="32527"/>
                  <a:pt x="17928" y="29230"/>
                </a:cubicBezTo>
                <a:cubicBezTo>
                  <a:pt x="11816" y="22857"/>
                  <a:pt x="11816" y="22857"/>
                  <a:pt x="11816" y="22857"/>
                </a:cubicBezTo>
                <a:cubicBezTo>
                  <a:pt x="8964" y="22857"/>
                  <a:pt x="8964" y="22857"/>
                  <a:pt x="5908" y="22857"/>
                </a:cubicBezTo>
                <a:cubicBezTo>
                  <a:pt x="5908" y="25934"/>
                  <a:pt x="5908" y="29230"/>
                  <a:pt x="5908" y="29230"/>
                </a:cubicBezTo>
                <a:lnTo>
                  <a:pt x="11816" y="35604"/>
                </a:lnTo>
                <a:close/>
                <a:moveTo>
                  <a:pt x="110831" y="93846"/>
                </a:moveTo>
                <a:lnTo>
                  <a:pt x="110831" y="93846"/>
                </a:lnTo>
                <a:cubicBezTo>
                  <a:pt x="8964" y="93846"/>
                  <a:pt x="8964" y="93846"/>
                  <a:pt x="8964" y="93846"/>
                </a:cubicBezTo>
                <a:cubicBezTo>
                  <a:pt x="5908" y="93846"/>
                  <a:pt x="2852" y="97142"/>
                  <a:pt x="2852" y="100439"/>
                </a:cubicBezTo>
                <a:cubicBezTo>
                  <a:pt x="2852" y="100439"/>
                  <a:pt x="5908" y="103736"/>
                  <a:pt x="8964" y="103736"/>
                </a:cubicBezTo>
                <a:cubicBezTo>
                  <a:pt x="110831" y="103736"/>
                  <a:pt x="110831" y="103736"/>
                  <a:pt x="110831" y="103736"/>
                </a:cubicBezTo>
                <a:cubicBezTo>
                  <a:pt x="113887" y="103736"/>
                  <a:pt x="116943" y="100439"/>
                  <a:pt x="116943" y="100439"/>
                </a:cubicBezTo>
                <a:cubicBezTo>
                  <a:pt x="116943" y="97142"/>
                  <a:pt x="113887" y="93846"/>
                  <a:pt x="110831" y="938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Shape 4660"/>
          <p:cNvSpPr/>
          <p:nvPr/>
        </p:nvSpPr>
        <p:spPr>
          <a:xfrm>
            <a:off x="7101000" y="18003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Shape 4661"/>
          <p:cNvSpPr/>
          <p:nvPr/>
        </p:nvSpPr>
        <p:spPr>
          <a:xfrm>
            <a:off x="6597720" y="175752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0157" y="100315"/>
                </a:moveTo>
                <a:lnTo>
                  <a:pt x="50157" y="100315"/>
                </a:lnTo>
                <a:cubicBezTo>
                  <a:pt x="47507" y="100315"/>
                  <a:pt x="44668" y="103154"/>
                  <a:pt x="44668" y="105993"/>
                </a:cubicBezTo>
                <a:cubicBezTo>
                  <a:pt x="44668" y="117160"/>
                  <a:pt x="44668" y="117160"/>
                  <a:pt x="44668" y="117160"/>
                </a:cubicBezTo>
                <a:cubicBezTo>
                  <a:pt x="44668" y="117160"/>
                  <a:pt x="47507" y="119810"/>
                  <a:pt x="50157" y="119810"/>
                </a:cubicBezTo>
                <a:lnTo>
                  <a:pt x="52996" y="117160"/>
                </a:lnTo>
                <a:cubicBezTo>
                  <a:pt x="52996" y="105993"/>
                  <a:pt x="52996" y="105993"/>
                  <a:pt x="52996" y="105993"/>
                </a:cubicBezTo>
                <a:cubicBezTo>
                  <a:pt x="52996" y="103154"/>
                  <a:pt x="50157" y="100315"/>
                  <a:pt x="50157" y="100315"/>
                </a:cubicBezTo>
                <a:close/>
                <a:moveTo>
                  <a:pt x="28012" y="100315"/>
                </a:moveTo>
                <a:lnTo>
                  <a:pt x="28012" y="100315"/>
                </a:lnTo>
                <a:cubicBezTo>
                  <a:pt x="25173" y="100315"/>
                  <a:pt x="22334" y="103154"/>
                  <a:pt x="22334" y="105993"/>
                </a:cubicBezTo>
                <a:cubicBezTo>
                  <a:pt x="22334" y="117160"/>
                  <a:pt x="22334" y="117160"/>
                  <a:pt x="22334" y="117160"/>
                </a:cubicBezTo>
                <a:cubicBezTo>
                  <a:pt x="22334" y="117160"/>
                  <a:pt x="25173" y="119810"/>
                  <a:pt x="28012" y="119810"/>
                </a:cubicBezTo>
                <a:lnTo>
                  <a:pt x="30662" y="117160"/>
                </a:lnTo>
                <a:cubicBezTo>
                  <a:pt x="30662" y="105993"/>
                  <a:pt x="30662" y="105993"/>
                  <a:pt x="30662" y="105993"/>
                </a:cubicBezTo>
                <a:cubicBezTo>
                  <a:pt x="30662" y="103154"/>
                  <a:pt x="28012" y="100315"/>
                  <a:pt x="28012" y="100315"/>
                </a:cubicBezTo>
                <a:close/>
                <a:moveTo>
                  <a:pt x="72492" y="100315"/>
                </a:moveTo>
                <a:lnTo>
                  <a:pt x="72492" y="100315"/>
                </a:lnTo>
                <a:cubicBezTo>
                  <a:pt x="69842" y="100315"/>
                  <a:pt x="66813" y="103154"/>
                  <a:pt x="66813" y="105993"/>
                </a:cubicBezTo>
                <a:cubicBezTo>
                  <a:pt x="66813" y="117160"/>
                  <a:pt x="66813" y="117160"/>
                  <a:pt x="66813" y="117160"/>
                </a:cubicBezTo>
                <a:cubicBezTo>
                  <a:pt x="66813" y="117160"/>
                  <a:pt x="69842" y="119810"/>
                  <a:pt x="72492" y="119810"/>
                </a:cubicBezTo>
                <a:lnTo>
                  <a:pt x="75331" y="117160"/>
                </a:lnTo>
                <a:cubicBezTo>
                  <a:pt x="75331" y="105993"/>
                  <a:pt x="75331" y="105993"/>
                  <a:pt x="75331" y="105993"/>
                </a:cubicBezTo>
                <a:cubicBezTo>
                  <a:pt x="75331" y="103154"/>
                  <a:pt x="72492" y="100315"/>
                  <a:pt x="72492" y="100315"/>
                </a:cubicBezTo>
                <a:close/>
                <a:moveTo>
                  <a:pt x="94826" y="100315"/>
                </a:moveTo>
                <a:lnTo>
                  <a:pt x="94826" y="100315"/>
                </a:lnTo>
                <a:cubicBezTo>
                  <a:pt x="91987" y="100315"/>
                  <a:pt x="89148" y="103154"/>
                  <a:pt x="89148" y="105993"/>
                </a:cubicBezTo>
                <a:cubicBezTo>
                  <a:pt x="89148" y="117160"/>
                  <a:pt x="89148" y="117160"/>
                  <a:pt x="89148" y="117160"/>
                </a:cubicBezTo>
                <a:cubicBezTo>
                  <a:pt x="89148" y="117160"/>
                  <a:pt x="91987" y="119810"/>
                  <a:pt x="94826" y="119810"/>
                </a:cubicBezTo>
                <a:lnTo>
                  <a:pt x="97665" y="117160"/>
                </a:lnTo>
                <a:cubicBezTo>
                  <a:pt x="97665" y="105993"/>
                  <a:pt x="97665" y="105993"/>
                  <a:pt x="97665" y="105993"/>
                </a:cubicBezTo>
                <a:cubicBezTo>
                  <a:pt x="97665" y="103154"/>
                  <a:pt x="94826" y="100315"/>
                  <a:pt x="94826" y="100315"/>
                </a:cubicBezTo>
                <a:close/>
                <a:moveTo>
                  <a:pt x="86498" y="19495"/>
                </a:moveTo>
                <a:lnTo>
                  <a:pt x="86498" y="19495"/>
                </a:lnTo>
                <a:cubicBezTo>
                  <a:pt x="80820" y="8328"/>
                  <a:pt x="69842" y="0"/>
                  <a:pt x="55835" y="0"/>
                </a:cubicBezTo>
                <a:cubicBezTo>
                  <a:pt x="38990" y="0"/>
                  <a:pt x="25173" y="14006"/>
                  <a:pt x="22334" y="30662"/>
                </a:cubicBezTo>
                <a:cubicBezTo>
                  <a:pt x="11167" y="36340"/>
                  <a:pt x="0" y="47507"/>
                  <a:pt x="0" y="61324"/>
                </a:cubicBezTo>
                <a:cubicBezTo>
                  <a:pt x="0" y="75331"/>
                  <a:pt x="14006" y="89148"/>
                  <a:pt x="30662" y="89148"/>
                </a:cubicBezTo>
                <a:cubicBezTo>
                  <a:pt x="30662" y="89148"/>
                  <a:pt x="80820" y="89148"/>
                  <a:pt x="83659" y="89148"/>
                </a:cubicBezTo>
                <a:cubicBezTo>
                  <a:pt x="103154" y="89148"/>
                  <a:pt x="119810" y="75331"/>
                  <a:pt x="119810" y="55835"/>
                </a:cubicBezTo>
                <a:cubicBezTo>
                  <a:pt x="119810" y="36340"/>
                  <a:pt x="105993" y="19495"/>
                  <a:pt x="86498" y="19495"/>
                </a:cubicBezTo>
                <a:close/>
                <a:moveTo>
                  <a:pt x="83659" y="83659"/>
                </a:moveTo>
                <a:lnTo>
                  <a:pt x="83659" y="83659"/>
                </a:lnTo>
                <a:cubicBezTo>
                  <a:pt x="80820" y="83659"/>
                  <a:pt x="30662" y="83659"/>
                  <a:pt x="30662" y="83659"/>
                </a:cubicBezTo>
                <a:cubicBezTo>
                  <a:pt x="30662" y="83659"/>
                  <a:pt x="8328" y="80820"/>
                  <a:pt x="8328" y="61324"/>
                </a:cubicBezTo>
                <a:cubicBezTo>
                  <a:pt x="8328" y="50157"/>
                  <a:pt x="19495" y="38990"/>
                  <a:pt x="30662" y="38990"/>
                </a:cubicBezTo>
                <a:cubicBezTo>
                  <a:pt x="30662" y="22334"/>
                  <a:pt x="41829" y="8328"/>
                  <a:pt x="55835" y="8328"/>
                </a:cubicBezTo>
                <a:cubicBezTo>
                  <a:pt x="69842" y="8328"/>
                  <a:pt x="77981" y="16845"/>
                  <a:pt x="80820" y="28012"/>
                </a:cubicBezTo>
                <a:cubicBezTo>
                  <a:pt x="100315" y="25173"/>
                  <a:pt x="111482" y="41829"/>
                  <a:pt x="111482" y="52996"/>
                </a:cubicBezTo>
                <a:cubicBezTo>
                  <a:pt x="114321" y="69842"/>
                  <a:pt x="94826" y="83659"/>
                  <a:pt x="83659" y="8365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Shape 4662"/>
          <p:cNvSpPr/>
          <p:nvPr/>
        </p:nvSpPr>
        <p:spPr>
          <a:xfrm>
            <a:off x="6102360" y="17575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Shape 4663"/>
          <p:cNvSpPr/>
          <p:nvPr/>
        </p:nvSpPr>
        <p:spPr>
          <a:xfrm>
            <a:off x="5553000" y="518940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2810" y="97511"/>
                </a:moveTo>
                <a:lnTo>
                  <a:pt x="62810" y="97511"/>
                </a:lnTo>
                <a:cubicBezTo>
                  <a:pt x="62810" y="97511"/>
                  <a:pt x="59903" y="97511"/>
                  <a:pt x="59903" y="100157"/>
                </a:cubicBezTo>
                <a:cubicBezTo>
                  <a:pt x="59903" y="102992"/>
                  <a:pt x="62810" y="102992"/>
                  <a:pt x="62810" y="102992"/>
                </a:cubicBezTo>
                <a:cubicBezTo>
                  <a:pt x="65718" y="102992"/>
                  <a:pt x="68432" y="102992"/>
                  <a:pt x="68432" y="100157"/>
                </a:cubicBezTo>
                <a:cubicBezTo>
                  <a:pt x="68432" y="97511"/>
                  <a:pt x="65718" y="97511"/>
                  <a:pt x="62810" y="97511"/>
                </a:cubicBezTo>
                <a:close/>
                <a:moveTo>
                  <a:pt x="39935" y="97511"/>
                </a:moveTo>
                <a:lnTo>
                  <a:pt x="39935" y="97511"/>
                </a:lnTo>
                <a:cubicBezTo>
                  <a:pt x="39935" y="97511"/>
                  <a:pt x="37027" y="97511"/>
                  <a:pt x="37027" y="100157"/>
                </a:cubicBezTo>
                <a:cubicBezTo>
                  <a:pt x="37027" y="102992"/>
                  <a:pt x="39935" y="102992"/>
                  <a:pt x="39935" y="102992"/>
                </a:cubicBezTo>
                <a:cubicBezTo>
                  <a:pt x="42843" y="102992"/>
                  <a:pt x="45751" y="102992"/>
                  <a:pt x="45751" y="100157"/>
                </a:cubicBezTo>
                <a:cubicBezTo>
                  <a:pt x="45751" y="97511"/>
                  <a:pt x="42843" y="97511"/>
                  <a:pt x="39935" y="97511"/>
                </a:cubicBezTo>
                <a:close/>
                <a:moveTo>
                  <a:pt x="48465" y="111307"/>
                </a:moveTo>
                <a:lnTo>
                  <a:pt x="48465" y="111307"/>
                </a:lnTo>
                <a:cubicBezTo>
                  <a:pt x="45751" y="111307"/>
                  <a:pt x="45751" y="114141"/>
                  <a:pt x="45751" y="114141"/>
                </a:cubicBezTo>
                <a:cubicBezTo>
                  <a:pt x="45751" y="116976"/>
                  <a:pt x="45751" y="119811"/>
                  <a:pt x="48465" y="119811"/>
                </a:cubicBezTo>
                <a:cubicBezTo>
                  <a:pt x="51373" y="119811"/>
                  <a:pt x="51373" y="116976"/>
                  <a:pt x="51373" y="114141"/>
                </a:cubicBezTo>
                <a:cubicBezTo>
                  <a:pt x="51373" y="114141"/>
                  <a:pt x="51373" y="111307"/>
                  <a:pt x="48465" y="111307"/>
                </a:cubicBezTo>
                <a:close/>
                <a:moveTo>
                  <a:pt x="71340" y="111307"/>
                </a:moveTo>
                <a:lnTo>
                  <a:pt x="71340" y="111307"/>
                </a:lnTo>
                <a:cubicBezTo>
                  <a:pt x="68432" y="111307"/>
                  <a:pt x="68432" y="114141"/>
                  <a:pt x="68432" y="114141"/>
                </a:cubicBezTo>
                <a:cubicBezTo>
                  <a:pt x="68432" y="116976"/>
                  <a:pt x="68432" y="119811"/>
                  <a:pt x="71340" y="119811"/>
                </a:cubicBezTo>
                <a:cubicBezTo>
                  <a:pt x="74248" y="119811"/>
                  <a:pt x="74248" y="116976"/>
                  <a:pt x="74248" y="114141"/>
                </a:cubicBezTo>
                <a:cubicBezTo>
                  <a:pt x="74248" y="114141"/>
                  <a:pt x="74248" y="111307"/>
                  <a:pt x="71340" y="111307"/>
                </a:cubicBezTo>
                <a:close/>
                <a:moveTo>
                  <a:pt x="85492" y="97511"/>
                </a:moveTo>
                <a:lnTo>
                  <a:pt x="85492" y="97511"/>
                </a:lnTo>
                <a:cubicBezTo>
                  <a:pt x="85492" y="97511"/>
                  <a:pt x="82778" y="97511"/>
                  <a:pt x="82778" y="100157"/>
                </a:cubicBezTo>
                <a:cubicBezTo>
                  <a:pt x="82778" y="102992"/>
                  <a:pt x="85492" y="102992"/>
                  <a:pt x="85492" y="102992"/>
                </a:cubicBezTo>
                <a:cubicBezTo>
                  <a:pt x="88594" y="102992"/>
                  <a:pt x="91308" y="102992"/>
                  <a:pt x="91308" y="100157"/>
                </a:cubicBezTo>
                <a:cubicBezTo>
                  <a:pt x="91308" y="97511"/>
                  <a:pt x="88594" y="97511"/>
                  <a:pt x="85492" y="97511"/>
                </a:cubicBezTo>
                <a:close/>
                <a:moveTo>
                  <a:pt x="85492" y="19653"/>
                </a:moveTo>
                <a:lnTo>
                  <a:pt x="85492" y="19653"/>
                </a:lnTo>
                <a:cubicBezTo>
                  <a:pt x="79870" y="8503"/>
                  <a:pt x="68432" y="0"/>
                  <a:pt x="56995" y="0"/>
                </a:cubicBezTo>
                <a:cubicBezTo>
                  <a:pt x="37027" y="0"/>
                  <a:pt x="22875" y="13984"/>
                  <a:pt x="22875" y="30803"/>
                </a:cubicBezTo>
                <a:cubicBezTo>
                  <a:pt x="8529" y="33448"/>
                  <a:pt x="0" y="47433"/>
                  <a:pt x="0" y="58582"/>
                </a:cubicBezTo>
                <a:cubicBezTo>
                  <a:pt x="0" y="75212"/>
                  <a:pt x="11437" y="89196"/>
                  <a:pt x="28497" y="89196"/>
                </a:cubicBezTo>
                <a:lnTo>
                  <a:pt x="85492" y="89196"/>
                </a:lnTo>
                <a:cubicBezTo>
                  <a:pt x="105654" y="89196"/>
                  <a:pt x="119806" y="72377"/>
                  <a:pt x="119806" y="52913"/>
                </a:cubicBezTo>
                <a:cubicBezTo>
                  <a:pt x="119806" y="33448"/>
                  <a:pt x="105654" y="19653"/>
                  <a:pt x="85492" y="19653"/>
                </a:cubicBezTo>
                <a:close/>
                <a:moveTo>
                  <a:pt x="82778" y="80692"/>
                </a:moveTo>
                <a:lnTo>
                  <a:pt x="82778" y="80692"/>
                </a:lnTo>
                <a:lnTo>
                  <a:pt x="34313" y="80692"/>
                </a:lnTo>
                <a:cubicBezTo>
                  <a:pt x="14345" y="80692"/>
                  <a:pt x="5621" y="66897"/>
                  <a:pt x="5621" y="58582"/>
                </a:cubicBezTo>
                <a:cubicBezTo>
                  <a:pt x="5621" y="50267"/>
                  <a:pt x="17059" y="39118"/>
                  <a:pt x="28497" y="36283"/>
                </a:cubicBezTo>
                <a:cubicBezTo>
                  <a:pt x="28497" y="22299"/>
                  <a:pt x="39935" y="8503"/>
                  <a:pt x="56995" y="8503"/>
                </a:cubicBezTo>
                <a:cubicBezTo>
                  <a:pt x="68432" y="8503"/>
                  <a:pt x="77156" y="13984"/>
                  <a:pt x="79870" y="25133"/>
                </a:cubicBezTo>
                <a:cubicBezTo>
                  <a:pt x="99838" y="25133"/>
                  <a:pt x="114184" y="36283"/>
                  <a:pt x="114184" y="52913"/>
                </a:cubicBezTo>
                <a:cubicBezTo>
                  <a:pt x="114184" y="66897"/>
                  <a:pt x="102746" y="80692"/>
                  <a:pt x="82778" y="8069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Shape 4664"/>
          <p:cNvSpPr/>
          <p:nvPr/>
        </p:nvSpPr>
        <p:spPr>
          <a:xfrm>
            <a:off x="5072040" y="522432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Shape 4665"/>
          <p:cNvSpPr/>
          <p:nvPr/>
        </p:nvSpPr>
        <p:spPr>
          <a:xfrm>
            <a:off x="4578480" y="5197320"/>
            <a:ext cx="284040" cy="284400"/>
          </a:xfrm>
          <a:custGeom>
            <a:avLst/>
            <a:gdLst>
              <a:gd name="textAreaLeft" fmla="*/ 0 w 284040"/>
              <a:gd name="textAreaRight" fmla="*/ 284400 w 28404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101" y="0"/>
                </a:moveTo>
                <a:lnTo>
                  <a:pt x="6101" y="0"/>
                </a:lnTo>
                <a:cubicBezTo>
                  <a:pt x="3050" y="0"/>
                  <a:pt x="0" y="3050"/>
                  <a:pt x="0" y="6101"/>
                </a:cubicBezTo>
                <a:cubicBezTo>
                  <a:pt x="0" y="116745"/>
                  <a:pt x="0" y="116745"/>
                  <a:pt x="0" y="116745"/>
                </a:cubicBezTo>
                <a:cubicBezTo>
                  <a:pt x="0" y="119796"/>
                  <a:pt x="3050" y="119796"/>
                  <a:pt x="6101" y="119796"/>
                </a:cubicBezTo>
                <a:cubicBezTo>
                  <a:pt x="6101" y="119796"/>
                  <a:pt x="9152" y="119796"/>
                  <a:pt x="9152" y="116745"/>
                </a:cubicBezTo>
                <a:cubicBezTo>
                  <a:pt x="9152" y="6101"/>
                  <a:pt x="9152" y="6101"/>
                  <a:pt x="9152" y="6101"/>
                </a:cubicBezTo>
                <a:cubicBezTo>
                  <a:pt x="9152" y="3050"/>
                  <a:pt x="6101" y="0"/>
                  <a:pt x="6101" y="0"/>
                </a:cubicBezTo>
                <a:close/>
                <a:moveTo>
                  <a:pt x="113898" y="8949"/>
                </a:moveTo>
                <a:lnTo>
                  <a:pt x="113898" y="8949"/>
                </a:lnTo>
                <a:cubicBezTo>
                  <a:pt x="24000" y="0"/>
                  <a:pt x="24000" y="0"/>
                  <a:pt x="24000" y="0"/>
                </a:cubicBezTo>
                <a:cubicBezTo>
                  <a:pt x="20949" y="0"/>
                  <a:pt x="18101" y="6101"/>
                  <a:pt x="18101" y="8949"/>
                </a:cubicBezTo>
                <a:cubicBezTo>
                  <a:pt x="18101" y="53898"/>
                  <a:pt x="18101" y="53898"/>
                  <a:pt x="18101" y="53898"/>
                </a:cubicBezTo>
                <a:cubicBezTo>
                  <a:pt x="18101" y="56949"/>
                  <a:pt x="20949" y="60000"/>
                  <a:pt x="24000" y="60000"/>
                </a:cubicBezTo>
                <a:cubicBezTo>
                  <a:pt x="113898" y="53898"/>
                  <a:pt x="113898" y="53898"/>
                  <a:pt x="113898" y="53898"/>
                </a:cubicBezTo>
                <a:cubicBezTo>
                  <a:pt x="116745" y="53898"/>
                  <a:pt x="119796" y="48000"/>
                  <a:pt x="119796" y="44949"/>
                </a:cubicBezTo>
                <a:cubicBezTo>
                  <a:pt x="119796" y="18101"/>
                  <a:pt x="119796" y="18101"/>
                  <a:pt x="119796" y="18101"/>
                </a:cubicBezTo>
                <a:cubicBezTo>
                  <a:pt x="119796" y="12000"/>
                  <a:pt x="116745" y="8949"/>
                  <a:pt x="113898" y="8949"/>
                </a:cubicBezTo>
                <a:close/>
                <a:moveTo>
                  <a:pt x="56949" y="51050"/>
                </a:moveTo>
                <a:lnTo>
                  <a:pt x="56949" y="51050"/>
                </a:lnTo>
                <a:cubicBezTo>
                  <a:pt x="30101" y="53898"/>
                  <a:pt x="30101" y="53898"/>
                  <a:pt x="30101" y="53898"/>
                </a:cubicBezTo>
                <a:cubicBezTo>
                  <a:pt x="24000" y="53898"/>
                  <a:pt x="24000" y="51050"/>
                  <a:pt x="24000" y="48000"/>
                </a:cubicBezTo>
                <a:cubicBezTo>
                  <a:pt x="24000" y="12000"/>
                  <a:pt x="24000" y="12000"/>
                  <a:pt x="24000" y="12000"/>
                </a:cubicBezTo>
                <a:cubicBezTo>
                  <a:pt x="24000" y="8949"/>
                  <a:pt x="24000" y="8949"/>
                  <a:pt x="30101" y="8949"/>
                </a:cubicBezTo>
                <a:cubicBezTo>
                  <a:pt x="56949" y="12000"/>
                  <a:pt x="56949" y="12000"/>
                  <a:pt x="56949" y="12000"/>
                </a:cubicBezTo>
                <a:lnTo>
                  <a:pt x="56949" y="51050"/>
                </a:lnTo>
                <a:close/>
                <a:moveTo>
                  <a:pt x="89898" y="48000"/>
                </a:moveTo>
                <a:lnTo>
                  <a:pt x="89898" y="48000"/>
                </a:lnTo>
                <a:cubicBezTo>
                  <a:pt x="65898" y="48000"/>
                  <a:pt x="65898" y="48000"/>
                  <a:pt x="65898" y="48000"/>
                </a:cubicBezTo>
                <a:cubicBezTo>
                  <a:pt x="65898" y="12000"/>
                  <a:pt x="65898" y="12000"/>
                  <a:pt x="65898" y="12000"/>
                </a:cubicBezTo>
                <a:cubicBezTo>
                  <a:pt x="89898" y="15050"/>
                  <a:pt x="89898" y="15050"/>
                  <a:pt x="89898" y="15050"/>
                </a:cubicBezTo>
                <a:lnTo>
                  <a:pt x="89898" y="48000"/>
                </a:lnTo>
                <a:close/>
                <a:moveTo>
                  <a:pt x="113898" y="41898"/>
                </a:moveTo>
                <a:lnTo>
                  <a:pt x="113898" y="41898"/>
                </a:lnTo>
                <a:cubicBezTo>
                  <a:pt x="113898" y="44949"/>
                  <a:pt x="113898" y="44949"/>
                  <a:pt x="107796" y="44949"/>
                </a:cubicBezTo>
                <a:cubicBezTo>
                  <a:pt x="95796" y="44949"/>
                  <a:pt x="95796" y="44949"/>
                  <a:pt x="95796" y="44949"/>
                </a:cubicBezTo>
                <a:cubicBezTo>
                  <a:pt x="95796" y="15050"/>
                  <a:pt x="95796" y="15050"/>
                  <a:pt x="95796" y="15050"/>
                </a:cubicBezTo>
                <a:cubicBezTo>
                  <a:pt x="107796" y="18101"/>
                  <a:pt x="107796" y="18101"/>
                  <a:pt x="107796" y="18101"/>
                </a:cubicBezTo>
                <a:cubicBezTo>
                  <a:pt x="113898" y="18101"/>
                  <a:pt x="113898" y="18101"/>
                  <a:pt x="113898" y="20949"/>
                </a:cubicBezTo>
                <a:lnTo>
                  <a:pt x="113898" y="4189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Shape 4666"/>
          <p:cNvSpPr/>
          <p:nvPr/>
        </p:nvSpPr>
        <p:spPr>
          <a:xfrm>
            <a:off x="4098960" y="5189400"/>
            <a:ext cx="268200" cy="3063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Shape 4667"/>
          <p:cNvSpPr/>
          <p:nvPr/>
        </p:nvSpPr>
        <p:spPr>
          <a:xfrm>
            <a:off x="3587760" y="518940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72492" y="25133"/>
                </a:moveTo>
                <a:lnTo>
                  <a:pt x="72492" y="25133"/>
                </a:lnTo>
                <a:cubicBezTo>
                  <a:pt x="67003" y="30803"/>
                  <a:pt x="67003" y="39118"/>
                  <a:pt x="72492" y="47433"/>
                </a:cubicBezTo>
                <a:cubicBezTo>
                  <a:pt x="81009" y="52913"/>
                  <a:pt x="89148" y="52913"/>
                  <a:pt x="94826" y="47433"/>
                </a:cubicBezTo>
                <a:cubicBezTo>
                  <a:pt x="100315" y="39118"/>
                  <a:pt x="100315" y="30803"/>
                  <a:pt x="94826" y="25133"/>
                </a:cubicBezTo>
                <a:cubicBezTo>
                  <a:pt x="89148" y="19653"/>
                  <a:pt x="81009" y="19653"/>
                  <a:pt x="72492" y="25133"/>
                </a:cubicBezTo>
                <a:close/>
                <a:moveTo>
                  <a:pt x="89148" y="41763"/>
                </a:moveTo>
                <a:lnTo>
                  <a:pt x="89148" y="41763"/>
                </a:lnTo>
                <a:cubicBezTo>
                  <a:pt x="86498" y="44598"/>
                  <a:pt x="81009" y="44598"/>
                  <a:pt x="77981" y="41763"/>
                </a:cubicBezTo>
                <a:cubicBezTo>
                  <a:pt x="75331" y="39118"/>
                  <a:pt x="75331" y="33448"/>
                  <a:pt x="77981" y="30803"/>
                </a:cubicBezTo>
                <a:cubicBezTo>
                  <a:pt x="81009" y="27968"/>
                  <a:pt x="86498" y="27968"/>
                  <a:pt x="89148" y="30803"/>
                </a:cubicBezTo>
                <a:cubicBezTo>
                  <a:pt x="91987" y="33448"/>
                  <a:pt x="91987" y="39118"/>
                  <a:pt x="89148" y="41763"/>
                </a:cubicBezTo>
                <a:close/>
                <a:moveTo>
                  <a:pt x="111482" y="0"/>
                </a:moveTo>
                <a:lnTo>
                  <a:pt x="111482" y="0"/>
                </a:lnTo>
                <a:cubicBezTo>
                  <a:pt x="64164" y="0"/>
                  <a:pt x="64164" y="0"/>
                  <a:pt x="64164" y="0"/>
                </a:cubicBezTo>
                <a:cubicBezTo>
                  <a:pt x="58675" y="0"/>
                  <a:pt x="58675" y="2834"/>
                  <a:pt x="55835" y="5669"/>
                </a:cubicBezTo>
                <a:cubicBezTo>
                  <a:pt x="5678" y="55748"/>
                  <a:pt x="5678" y="55748"/>
                  <a:pt x="5678" y="55748"/>
                </a:cubicBezTo>
                <a:cubicBezTo>
                  <a:pt x="0" y="61417"/>
                  <a:pt x="0" y="69543"/>
                  <a:pt x="5678" y="75212"/>
                </a:cubicBezTo>
                <a:cubicBezTo>
                  <a:pt x="44668" y="114141"/>
                  <a:pt x="44668" y="114141"/>
                  <a:pt x="44668" y="114141"/>
                </a:cubicBezTo>
                <a:cubicBezTo>
                  <a:pt x="50157" y="119811"/>
                  <a:pt x="58675" y="119811"/>
                  <a:pt x="64164" y="114141"/>
                </a:cubicBezTo>
                <a:cubicBezTo>
                  <a:pt x="114321" y="64062"/>
                  <a:pt x="114321" y="64062"/>
                  <a:pt x="114321" y="64062"/>
                </a:cubicBezTo>
                <a:cubicBezTo>
                  <a:pt x="117160" y="61417"/>
                  <a:pt x="119810" y="61417"/>
                  <a:pt x="119810" y="55748"/>
                </a:cubicBezTo>
                <a:cubicBezTo>
                  <a:pt x="119810" y="8503"/>
                  <a:pt x="119810" y="8503"/>
                  <a:pt x="119810" y="8503"/>
                </a:cubicBezTo>
                <a:cubicBezTo>
                  <a:pt x="119810" y="2834"/>
                  <a:pt x="117160" y="0"/>
                  <a:pt x="111482" y="0"/>
                </a:cubicBezTo>
                <a:close/>
                <a:moveTo>
                  <a:pt x="61324" y="108661"/>
                </a:moveTo>
                <a:lnTo>
                  <a:pt x="61324" y="108661"/>
                </a:lnTo>
                <a:cubicBezTo>
                  <a:pt x="55835" y="111307"/>
                  <a:pt x="52996" y="111307"/>
                  <a:pt x="50157" y="108661"/>
                </a:cubicBezTo>
                <a:cubicBezTo>
                  <a:pt x="11167" y="69543"/>
                  <a:pt x="11167" y="69543"/>
                  <a:pt x="11167" y="69543"/>
                </a:cubicBezTo>
                <a:cubicBezTo>
                  <a:pt x="8517" y="66897"/>
                  <a:pt x="8517" y="64062"/>
                  <a:pt x="11167" y="61417"/>
                </a:cubicBezTo>
                <a:cubicBezTo>
                  <a:pt x="16845" y="55748"/>
                  <a:pt x="16845" y="55748"/>
                  <a:pt x="16845" y="55748"/>
                </a:cubicBezTo>
                <a:cubicBezTo>
                  <a:pt x="64164" y="102992"/>
                  <a:pt x="64164" y="102992"/>
                  <a:pt x="64164" y="102992"/>
                </a:cubicBezTo>
                <a:lnTo>
                  <a:pt x="61324" y="108661"/>
                </a:lnTo>
                <a:close/>
                <a:moveTo>
                  <a:pt x="111482" y="52913"/>
                </a:moveTo>
                <a:lnTo>
                  <a:pt x="111482" y="52913"/>
                </a:lnTo>
                <a:cubicBezTo>
                  <a:pt x="111482" y="55748"/>
                  <a:pt x="111482" y="58582"/>
                  <a:pt x="108832" y="61417"/>
                </a:cubicBezTo>
                <a:cubicBezTo>
                  <a:pt x="69842" y="97511"/>
                  <a:pt x="69842" y="97511"/>
                  <a:pt x="69842" y="97511"/>
                </a:cubicBezTo>
                <a:cubicBezTo>
                  <a:pt x="22334" y="50267"/>
                  <a:pt x="22334" y="50267"/>
                  <a:pt x="22334" y="50267"/>
                </a:cubicBezTo>
                <a:cubicBezTo>
                  <a:pt x="61324" y="11149"/>
                  <a:pt x="61324" y="11149"/>
                  <a:pt x="61324" y="11149"/>
                </a:cubicBezTo>
                <a:cubicBezTo>
                  <a:pt x="61324" y="8503"/>
                  <a:pt x="64164" y="8503"/>
                  <a:pt x="67003" y="8503"/>
                </a:cubicBezTo>
                <a:cubicBezTo>
                  <a:pt x="108832" y="8503"/>
                  <a:pt x="108832" y="8503"/>
                  <a:pt x="108832" y="8503"/>
                </a:cubicBezTo>
                <a:cubicBezTo>
                  <a:pt x="111482" y="8503"/>
                  <a:pt x="111482" y="8503"/>
                  <a:pt x="111482" y="11149"/>
                </a:cubicBezTo>
                <a:lnTo>
                  <a:pt x="111482" y="5291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Shape 4668"/>
          <p:cNvSpPr/>
          <p:nvPr/>
        </p:nvSpPr>
        <p:spPr>
          <a:xfrm>
            <a:off x="3151080" y="5189400"/>
            <a:ext cx="204840" cy="3063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Shape 4669"/>
          <p:cNvSpPr/>
          <p:nvPr/>
        </p:nvSpPr>
        <p:spPr>
          <a:xfrm>
            <a:off x="2619360" y="5189400"/>
            <a:ext cx="282600" cy="306360"/>
          </a:xfrm>
          <a:custGeom>
            <a:avLst/>
            <a:gdLst>
              <a:gd name="textAreaLeft" fmla="*/ 0 w 282600"/>
              <a:gd name="textAreaRight" fmla="*/ 282960 w 2826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0831" y="30803"/>
                </a:moveTo>
                <a:lnTo>
                  <a:pt x="110831" y="30803"/>
                </a:lnTo>
                <a:cubicBezTo>
                  <a:pt x="110831" y="2834"/>
                  <a:pt x="110831" y="2834"/>
                  <a:pt x="110831" y="2834"/>
                </a:cubicBezTo>
                <a:cubicBezTo>
                  <a:pt x="110831" y="2834"/>
                  <a:pt x="110831" y="0"/>
                  <a:pt x="107979" y="0"/>
                </a:cubicBezTo>
                <a:lnTo>
                  <a:pt x="104923" y="0"/>
                </a:lnTo>
                <a:cubicBezTo>
                  <a:pt x="0" y="30803"/>
                  <a:pt x="0" y="3080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4141"/>
                  <a:pt x="2852" y="119811"/>
                  <a:pt x="8964" y="119811"/>
                </a:cubicBezTo>
                <a:cubicBezTo>
                  <a:pt x="110831" y="119811"/>
                  <a:pt x="110831" y="119811"/>
                  <a:pt x="110831" y="119811"/>
                </a:cubicBezTo>
                <a:cubicBezTo>
                  <a:pt x="116943" y="119811"/>
                  <a:pt x="119796" y="114141"/>
                  <a:pt x="119796" y="111307"/>
                </a:cubicBezTo>
                <a:cubicBezTo>
                  <a:pt x="119796" y="36283"/>
                  <a:pt x="119796" y="36283"/>
                  <a:pt x="119796" y="36283"/>
                </a:cubicBezTo>
                <a:cubicBezTo>
                  <a:pt x="119796" y="33448"/>
                  <a:pt x="116943" y="30803"/>
                  <a:pt x="110831" y="30803"/>
                </a:cubicBezTo>
                <a:close/>
                <a:moveTo>
                  <a:pt x="104923" y="8503"/>
                </a:moveTo>
                <a:lnTo>
                  <a:pt x="104923" y="8503"/>
                </a:lnTo>
                <a:cubicBezTo>
                  <a:pt x="104923" y="30803"/>
                  <a:pt x="104923" y="30803"/>
                  <a:pt x="104923" y="30803"/>
                </a:cubicBezTo>
                <a:cubicBezTo>
                  <a:pt x="26893" y="30803"/>
                  <a:pt x="26893" y="30803"/>
                  <a:pt x="26893" y="30803"/>
                </a:cubicBezTo>
                <a:lnTo>
                  <a:pt x="104923" y="8503"/>
                </a:lnTo>
                <a:close/>
                <a:moveTo>
                  <a:pt x="110831" y="78047"/>
                </a:moveTo>
                <a:lnTo>
                  <a:pt x="110831" y="78047"/>
                </a:lnTo>
                <a:cubicBezTo>
                  <a:pt x="110831" y="80692"/>
                  <a:pt x="110831" y="78047"/>
                  <a:pt x="110831" y="80692"/>
                </a:cubicBezTo>
                <a:cubicBezTo>
                  <a:pt x="95959" y="80692"/>
                  <a:pt x="95959" y="80692"/>
                  <a:pt x="95959" y="80692"/>
                </a:cubicBezTo>
                <a:cubicBezTo>
                  <a:pt x="95959" y="78047"/>
                  <a:pt x="95959" y="80692"/>
                  <a:pt x="95959" y="78047"/>
                </a:cubicBezTo>
                <a:cubicBezTo>
                  <a:pt x="95959" y="75212"/>
                  <a:pt x="95959" y="75212"/>
                  <a:pt x="95959" y="75212"/>
                </a:cubicBezTo>
                <a:cubicBezTo>
                  <a:pt x="110831" y="75212"/>
                  <a:pt x="110831" y="75212"/>
                  <a:pt x="110831" y="75212"/>
                </a:cubicBezTo>
                <a:cubicBezTo>
                  <a:pt x="110831" y="78047"/>
                  <a:pt x="110831" y="75212"/>
                  <a:pt x="110831" y="78047"/>
                </a:cubicBezTo>
                <a:close/>
                <a:moveTo>
                  <a:pt x="110831" y="66897"/>
                </a:moveTo>
                <a:lnTo>
                  <a:pt x="110831" y="66897"/>
                </a:lnTo>
                <a:cubicBezTo>
                  <a:pt x="92903" y="66897"/>
                  <a:pt x="92903" y="66897"/>
                  <a:pt x="92903" y="66897"/>
                </a:cubicBezTo>
                <a:cubicBezTo>
                  <a:pt x="89847" y="66897"/>
                  <a:pt x="86791" y="69543"/>
                  <a:pt x="86791" y="69543"/>
                </a:cubicBezTo>
                <a:cubicBezTo>
                  <a:pt x="86791" y="86362"/>
                  <a:pt x="86791" y="86362"/>
                  <a:pt x="86791" y="86362"/>
                </a:cubicBezTo>
                <a:cubicBezTo>
                  <a:pt x="86791" y="86362"/>
                  <a:pt x="89847" y="89196"/>
                  <a:pt x="92903" y="89196"/>
                </a:cubicBezTo>
                <a:cubicBezTo>
                  <a:pt x="110831" y="89196"/>
                  <a:pt x="110831" y="89196"/>
                  <a:pt x="110831" y="89196"/>
                </a:cubicBezTo>
                <a:cubicBezTo>
                  <a:pt x="110831" y="108661"/>
                  <a:pt x="110831" y="108661"/>
                  <a:pt x="110831" y="108661"/>
                </a:cubicBezTo>
                <a:cubicBezTo>
                  <a:pt x="110831" y="108661"/>
                  <a:pt x="110831" y="111307"/>
                  <a:pt x="107979" y="111307"/>
                </a:cubicBezTo>
                <a:cubicBezTo>
                  <a:pt x="11816" y="111307"/>
                  <a:pt x="11816" y="111307"/>
                  <a:pt x="11816" y="111307"/>
                </a:cubicBezTo>
                <a:cubicBezTo>
                  <a:pt x="8964" y="111307"/>
                  <a:pt x="8964" y="108661"/>
                  <a:pt x="8964" y="108661"/>
                </a:cubicBezTo>
                <a:cubicBezTo>
                  <a:pt x="8964" y="108661"/>
                  <a:pt x="8964" y="39118"/>
                  <a:pt x="8964" y="36283"/>
                </a:cubicBezTo>
                <a:cubicBezTo>
                  <a:pt x="107979" y="36283"/>
                  <a:pt x="107979" y="36283"/>
                  <a:pt x="107979" y="36283"/>
                </a:cubicBezTo>
                <a:cubicBezTo>
                  <a:pt x="110831" y="36283"/>
                  <a:pt x="110831" y="39118"/>
                  <a:pt x="110831" y="41763"/>
                </a:cubicBezTo>
                <a:lnTo>
                  <a:pt x="110831" y="6689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Shape 4670"/>
          <p:cNvSpPr/>
          <p:nvPr/>
        </p:nvSpPr>
        <p:spPr>
          <a:xfrm>
            <a:off x="2116080" y="518940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Shape 4671"/>
          <p:cNvSpPr/>
          <p:nvPr/>
        </p:nvSpPr>
        <p:spPr>
          <a:xfrm>
            <a:off x="1628640" y="518940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5646" y="89196"/>
                </a:moveTo>
                <a:lnTo>
                  <a:pt x="55646" y="89196"/>
                </a:lnTo>
                <a:cubicBezTo>
                  <a:pt x="58485" y="89196"/>
                  <a:pt x="58485" y="89196"/>
                  <a:pt x="58485" y="89196"/>
                </a:cubicBezTo>
                <a:cubicBezTo>
                  <a:pt x="61324" y="89196"/>
                  <a:pt x="61324" y="89196"/>
                  <a:pt x="61324" y="89196"/>
                </a:cubicBezTo>
                <a:cubicBezTo>
                  <a:pt x="80630" y="66897"/>
                  <a:pt x="80630" y="66897"/>
                  <a:pt x="80630" y="66897"/>
                </a:cubicBezTo>
                <a:cubicBezTo>
                  <a:pt x="80630" y="64062"/>
                  <a:pt x="80630" y="61417"/>
                  <a:pt x="80630" y="61417"/>
                </a:cubicBezTo>
                <a:cubicBezTo>
                  <a:pt x="77981" y="58582"/>
                  <a:pt x="77981" y="58582"/>
                  <a:pt x="75141" y="61417"/>
                </a:cubicBezTo>
                <a:cubicBezTo>
                  <a:pt x="63974" y="75212"/>
                  <a:pt x="63974" y="75212"/>
                  <a:pt x="63974" y="75212"/>
                </a:cubicBezTo>
                <a:cubicBezTo>
                  <a:pt x="63974" y="19653"/>
                  <a:pt x="63974" y="19653"/>
                  <a:pt x="63974" y="19653"/>
                </a:cubicBezTo>
                <a:cubicBezTo>
                  <a:pt x="63974" y="16818"/>
                  <a:pt x="61324" y="13984"/>
                  <a:pt x="58485" y="13984"/>
                </a:cubicBezTo>
                <a:cubicBezTo>
                  <a:pt x="58485" y="13984"/>
                  <a:pt x="55646" y="16818"/>
                  <a:pt x="55646" y="19653"/>
                </a:cubicBezTo>
                <a:cubicBezTo>
                  <a:pt x="55646" y="75212"/>
                  <a:pt x="55646" y="75212"/>
                  <a:pt x="55646" y="75212"/>
                </a:cubicBezTo>
                <a:cubicBezTo>
                  <a:pt x="44479" y="61417"/>
                  <a:pt x="44479" y="61417"/>
                  <a:pt x="44479" y="61417"/>
                </a:cubicBezTo>
                <a:cubicBezTo>
                  <a:pt x="41640" y="58582"/>
                  <a:pt x="38990" y="58582"/>
                  <a:pt x="38990" y="61417"/>
                </a:cubicBezTo>
                <a:cubicBezTo>
                  <a:pt x="36151" y="61417"/>
                  <a:pt x="36151" y="64062"/>
                  <a:pt x="38990" y="66897"/>
                </a:cubicBezTo>
                <a:lnTo>
                  <a:pt x="55646" y="89196"/>
                </a:lnTo>
                <a:close/>
                <a:moveTo>
                  <a:pt x="91798" y="97511"/>
                </a:moveTo>
                <a:lnTo>
                  <a:pt x="91798" y="97511"/>
                </a:lnTo>
                <a:cubicBezTo>
                  <a:pt x="24984" y="97511"/>
                  <a:pt x="24984" y="97511"/>
                  <a:pt x="24984" y="97511"/>
                </a:cubicBezTo>
                <a:cubicBezTo>
                  <a:pt x="24984" y="97511"/>
                  <a:pt x="22145" y="97511"/>
                  <a:pt x="22145" y="100157"/>
                </a:cubicBezTo>
                <a:cubicBezTo>
                  <a:pt x="22145" y="102992"/>
                  <a:pt x="24984" y="102992"/>
                  <a:pt x="24984" y="102992"/>
                </a:cubicBezTo>
                <a:cubicBezTo>
                  <a:pt x="91798" y="102992"/>
                  <a:pt x="91798" y="102992"/>
                  <a:pt x="91798" y="102992"/>
                </a:cubicBezTo>
                <a:cubicBezTo>
                  <a:pt x="94637" y="102992"/>
                  <a:pt x="97476" y="102992"/>
                  <a:pt x="97476" y="100157"/>
                </a:cubicBezTo>
                <a:cubicBezTo>
                  <a:pt x="97476" y="97511"/>
                  <a:pt x="94637" y="97511"/>
                  <a:pt x="91798" y="97511"/>
                </a:cubicBez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5488" y="119811"/>
                  <a:pt x="13817" y="119811"/>
                </a:cubicBezTo>
                <a:cubicBezTo>
                  <a:pt x="102965" y="119811"/>
                  <a:pt x="102965" y="119811"/>
                  <a:pt x="102965" y="119811"/>
                </a:cubicBezTo>
                <a:cubicBezTo>
                  <a:pt x="111293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1293" y="0"/>
                  <a:pt x="102965" y="0"/>
                </a:cubicBezTo>
                <a:close/>
                <a:moveTo>
                  <a:pt x="111293" y="102992"/>
                </a:moveTo>
                <a:lnTo>
                  <a:pt x="111293" y="102992"/>
                </a:lnTo>
                <a:cubicBezTo>
                  <a:pt x="111293" y="108661"/>
                  <a:pt x="108643" y="111307"/>
                  <a:pt x="102965" y="111307"/>
                </a:cubicBezTo>
                <a:cubicBezTo>
                  <a:pt x="13817" y="111307"/>
                  <a:pt x="13817" y="111307"/>
                  <a:pt x="13817" y="111307"/>
                </a:cubicBezTo>
                <a:cubicBezTo>
                  <a:pt x="1097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0977" y="8503"/>
                  <a:pt x="13817" y="8503"/>
                </a:cubicBezTo>
                <a:cubicBezTo>
                  <a:pt x="102965" y="8503"/>
                  <a:pt x="102965" y="8503"/>
                  <a:pt x="102965" y="8503"/>
                </a:cubicBezTo>
                <a:cubicBezTo>
                  <a:pt x="108643" y="8503"/>
                  <a:pt x="111293" y="11149"/>
                  <a:pt x="111293" y="13984"/>
                </a:cubicBezTo>
                <a:lnTo>
                  <a:pt x="111293" y="10299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Shape 4672"/>
          <p:cNvSpPr/>
          <p:nvPr/>
        </p:nvSpPr>
        <p:spPr>
          <a:xfrm>
            <a:off x="1141560" y="518940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Shape 4673"/>
          <p:cNvSpPr/>
          <p:nvPr/>
        </p:nvSpPr>
        <p:spPr>
          <a:xfrm>
            <a:off x="5589720" y="4700520"/>
            <a:ext cx="226800" cy="297000"/>
          </a:xfrm>
          <a:custGeom>
            <a:avLst/>
            <a:gdLst>
              <a:gd name="textAreaLeft" fmla="*/ 0 w 226800"/>
              <a:gd name="textAreaRight" fmla="*/ 227160 w 2268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0932" y="14151"/>
                </a:moveTo>
                <a:lnTo>
                  <a:pt x="100932" y="14151"/>
                </a:lnTo>
                <a:cubicBezTo>
                  <a:pt x="89745" y="14151"/>
                  <a:pt x="89745" y="14151"/>
                  <a:pt x="89745" y="14151"/>
                </a:cubicBezTo>
                <a:cubicBezTo>
                  <a:pt x="89745" y="5621"/>
                  <a:pt x="74745" y="0"/>
                  <a:pt x="59745" y="0"/>
                </a:cubicBezTo>
                <a:cubicBezTo>
                  <a:pt x="44745" y="0"/>
                  <a:pt x="29745" y="5621"/>
                  <a:pt x="29745" y="14151"/>
                </a:cubicBezTo>
                <a:cubicBezTo>
                  <a:pt x="18559" y="14151"/>
                  <a:pt x="18559" y="14151"/>
                  <a:pt x="18559" y="14151"/>
                </a:cubicBezTo>
                <a:cubicBezTo>
                  <a:pt x="7372" y="14151"/>
                  <a:pt x="0" y="19967"/>
                  <a:pt x="0" y="28497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372" y="119806"/>
                  <a:pt x="18559" y="119806"/>
                </a:cubicBezTo>
                <a:cubicBezTo>
                  <a:pt x="100932" y="119806"/>
                  <a:pt x="100932" y="119806"/>
                  <a:pt x="100932" y="119806"/>
                </a:cubicBezTo>
                <a:cubicBezTo>
                  <a:pt x="112118" y="119806"/>
                  <a:pt x="119745" y="114184"/>
                  <a:pt x="119745" y="105460"/>
                </a:cubicBezTo>
                <a:cubicBezTo>
                  <a:pt x="119745" y="28497"/>
                  <a:pt x="119745" y="28497"/>
                  <a:pt x="119745" y="28497"/>
                </a:cubicBezTo>
                <a:cubicBezTo>
                  <a:pt x="119745" y="19967"/>
                  <a:pt x="112118" y="14151"/>
                  <a:pt x="100932" y="14151"/>
                </a:cubicBezTo>
                <a:close/>
                <a:moveTo>
                  <a:pt x="59745" y="5621"/>
                </a:moveTo>
                <a:lnTo>
                  <a:pt x="59745" y="5621"/>
                </a:lnTo>
                <a:cubicBezTo>
                  <a:pt x="70932" y="5621"/>
                  <a:pt x="78559" y="8529"/>
                  <a:pt x="78559" y="14151"/>
                </a:cubicBezTo>
                <a:cubicBezTo>
                  <a:pt x="41186" y="14151"/>
                  <a:pt x="41186" y="14151"/>
                  <a:pt x="41186" y="14151"/>
                </a:cubicBezTo>
                <a:cubicBezTo>
                  <a:pt x="41186" y="8529"/>
                  <a:pt x="48559" y="5621"/>
                  <a:pt x="59745" y="5621"/>
                </a:cubicBezTo>
                <a:close/>
                <a:moveTo>
                  <a:pt x="108305" y="105460"/>
                </a:moveTo>
                <a:lnTo>
                  <a:pt x="108305" y="105460"/>
                </a:lnTo>
                <a:cubicBezTo>
                  <a:pt x="108305" y="108368"/>
                  <a:pt x="104745" y="114184"/>
                  <a:pt x="100932" y="114184"/>
                </a:cubicBezTo>
                <a:cubicBezTo>
                  <a:pt x="18559" y="114184"/>
                  <a:pt x="18559" y="114184"/>
                  <a:pt x="18559" y="114184"/>
                </a:cubicBezTo>
                <a:cubicBezTo>
                  <a:pt x="14745" y="114184"/>
                  <a:pt x="11186" y="108368"/>
                  <a:pt x="11186" y="105460"/>
                </a:cubicBezTo>
                <a:cubicBezTo>
                  <a:pt x="11186" y="96930"/>
                  <a:pt x="11186" y="96930"/>
                  <a:pt x="11186" y="96930"/>
                </a:cubicBezTo>
                <a:cubicBezTo>
                  <a:pt x="108305" y="96930"/>
                  <a:pt x="108305" y="96930"/>
                  <a:pt x="108305" y="96930"/>
                </a:cubicBezTo>
                <a:lnTo>
                  <a:pt x="108305" y="105460"/>
                </a:lnTo>
                <a:close/>
                <a:moveTo>
                  <a:pt x="108305" y="91308"/>
                </a:moveTo>
                <a:lnTo>
                  <a:pt x="108305" y="91308"/>
                </a:lnTo>
                <a:cubicBezTo>
                  <a:pt x="11186" y="91308"/>
                  <a:pt x="11186" y="91308"/>
                  <a:pt x="11186" y="91308"/>
                </a:cubicBezTo>
                <a:cubicBezTo>
                  <a:pt x="11186" y="28497"/>
                  <a:pt x="11186" y="28497"/>
                  <a:pt x="11186" y="28497"/>
                </a:cubicBezTo>
                <a:cubicBezTo>
                  <a:pt x="11186" y="25589"/>
                  <a:pt x="14745" y="22875"/>
                  <a:pt x="18559" y="22875"/>
                </a:cubicBezTo>
                <a:cubicBezTo>
                  <a:pt x="29745" y="22875"/>
                  <a:pt x="29745" y="22875"/>
                  <a:pt x="29745" y="22875"/>
                </a:cubicBezTo>
                <a:cubicBezTo>
                  <a:pt x="29745" y="45557"/>
                  <a:pt x="29745" y="45557"/>
                  <a:pt x="29745" y="45557"/>
                </a:cubicBezTo>
                <a:cubicBezTo>
                  <a:pt x="41186" y="45557"/>
                  <a:pt x="41186" y="45557"/>
                  <a:pt x="41186" y="45557"/>
                </a:cubicBezTo>
                <a:cubicBezTo>
                  <a:pt x="41186" y="22875"/>
                  <a:pt x="41186" y="22875"/>
                  <a:pt x="41186" y="22875"/>
                </a:cubicBezTo>
                <a:cubicBezTo>
                  <a:pt x="78559" y="22875"/>
                  <a:pt x="78559" y="22875"/>
                  <a:pt x="78559" y="22875"/>
                </a:cubicBezTo>
                <a:cubicBezTo>
                  <a:pt x="78559" y="45557"/>
                  <a:pt x="78559" y="45557"/>
                  <a:pt x="78559" y="45557"/>
                </a:cubicBezTo>
                <a:cubicBezTo>
                  <a:pt x="89745" y="45557"/>
                  <a:pt x="89745" y="45557"/>
                  <a:pt x="89745" y="45557"/>
                </a:cubicBezTo>
                <a:cubicBezTo>
                  <a:pt x="89745" y="22875"/>
                  <a:pt x="89745" y="22875"/>
                  <a:pt x="89745" y="22875"/>
                </a:cubicBezTo>
                <a:cubicBezTo>
                  <a:pt x="100932" y="22875"/>
                  <a:pt x="100932" y="22875"/>
                  <a:pt x="100932" y="22875"/>
                </a:cubicBezTo>
                <a:cubicBezTo>
                  <a:pt x="104745" y="22875"/>
                  <a:pt x="108305" y="25589"/>
                  <a:pt x="108305" y="28497"/>
                </a:cubicBezTo>
                <a:lnTo>
                  <a:pt x="108305" y="9130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Shape 4674"/>
          <p:cNvSpPr/>
          <p:nvPr/>
        </p:nvSpPr>
        <p:spPr>
          <a:xfrm>
            <a:off x="5059440" y="4700520"/>
            <a:ext cx="304560" cy="297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Shape 4675"/>
          <p:cNvSpPr/>
          <p:nvPr/>
        </p:nvSpPr>
        <p:spPr>
          <a:xfrm>
            <a:off x="4570560" y="4708440"/>
            <a:ext cx="306360" cy="284400"/>
          </a:xfrm>
          <a:custGeom>
            <a:avLst/>
            <a:gdLst>
              <a:gd name="textAreaLeft" fmla="*/ 0 w 306360"/>
              <a:gd name="textAreaRight" fmla="*/ 306720 w 30636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36151" y="32949"/>
                </a:moveTo>
                <a:lnTo>
                  <a:pt x="36151" y="32949"/>
                </a:lnTo>
                <a:cubicBezTo>
                  <a:pt x="27823" y="0"/>
                  <a:pt x="27823" y="0"/>
                  <a:pt x="27823" y="0"/>
                </a:cubicBezTo>
                <a:cubicBezTo>
                  <a:pt x="2649" y="0"/>
                  <a:pt x="2649" y="0"/>
                  <a:pt x="2649" y="0"/>
                </a:cubicBezTo>
                <a:lnTo>
                  <a:pt x="0" y="3050"/>
                </a:lnTo>
                <a:cubicBezTo>
                  <a:pt x="0" y="6101"/>
                  <a:pt x="2649" y="9152"/>
                  <a:pt x="2649" y="9152"/>
                </a:cubicBezTo>
                <a:cubicBezTo>
                  <a:pt x="22145" y="9152"/>
                  <a:pt x="22145" y="9152"/>
                  <a:pt x="22145" y="9152"/>
                </a:cubicBezTo>
                <a:cubicBezTo>
                  <a:pt x="30662" y="32949"/>
                  <a:pt x="30662" y="32949"/>
                  <a:pt x="30662" y="32949"/>
                </a:cubicBezTo>
                <a:lnTo>
                  <a:pt x="30662" y="32949"/>
                </a:lnTo>
                <a:cubicBezTo>
                  <a:pt x="36151" y="80949"/>
                  <a:pt x="36151" y="80949"/>
                  <a:pt x="36151" y="80949"/>
                </a:cubicBezTo>
                <a:cubicBezTo>
                  <a:pt x="36151" y="89898"/>
                  <a:pt x="44479" y="95796"/>
                  <a:pt x="52807" y="95796"/>
                </a:cubicBezTo>
                <a:cubicBezTo>
                  <a:pt x="91798" y="95796"/>
                  <a:pt x="91798" y="95796"/>
                  <a:pt x="91798" y="95796"/>
                </a:cubicBezTo>
                <a:cubicBezTo>
                  <a:pt x="100315" y="95796"/>
                  <a:pt x="108643" y="89898"/>
                  <a:pt x="108643" y="80949"/>
                </a:cubicBezTo>
                <a:cubicBezTo>
                  <a:pt x="119810" y="32949"/>
                  <a:pt x="119810" y="32949"/>
                  <a:pt x="119810" y="32949"/>
                </a:cubicBezTo>
                <a:lnTo>
                  <a:pt x="36151" y="32949"/>
                </a:lnTo>
                <a:close/>
                <a:moveTo>
                  <a:pt x="100315" y="80949"/>
                </a:moveTo>
                <a:lnTo>
                  <a:pt x="100315" y="80949"/>
                </a:lnTo>
                <a:cubicBezTo>
                  <a:pt x="100315" y="84000"/>
                  <a:pt x="97476" y="86847"/>
                  <a:pt x="91798" y="86847"/>
                </a:cubicBezTo>
                <a:cubicBezTo>
                  <a:pt x="52807" y="86847"/>
                  <a:pt x="52807" y="86847"/>
                  <a:pt x="52807" y="86847"/>
                </a:cubicBezTo>
                <a:cubicBezTo>
                  <a:pt x="47318" y="86847"/>
                  <a:pt x="44479" y="84000"/>
                  <a:pt x="44479" y="80949"/>
                </a:cubicBezTo>
                <a:cubicBezTo>
                  <a:pt x="38990" y="39050"/>
                  <a:pt x="38990" y="39050"/>
                  <a:pt x="38990" y="39050"/>
                </a:cubicBezTo>
                <a:cubicBezTo>
                  <a:pt x="108643" y="39050"/>
                  <a:pt x="108643" y="39050"/>
                  <a:pt x="108643" y="39050"/>
                </a:cubicBezTo>
                <a:lnTo>
                  <a:pt x="100315" y="80949"/>
                </a:lnTo>
                <a:close/>
                <a:moveTo>
                  <a:pt x="52807" y="104949"/>
                </a:moveTo>
                <a:lnTo>
                  <a:pt x="52807" y="104949"/>
                </a:lnTo>
                <a:cubicBezTo>
                  <a:pt x="47318" y="104949"/>
                  <a:pt x="44479" y="107796"/>
                  <a:pt x="44479" y="110847"/>
                </a:cubicBezTo>
                <a:cubicBezTo>
                  <a:pt x="44479" y="116949"/>
                  <a:pt x="47318" y="119796"/>
                  <a:pt x="52807" y="119796"/>
                </a:cubicBezTo>
                <a:cubicBezTo>
                  <a:pt x="55646" y="119796"/>
                  <a:pt x="58485" y="116949"/>
                  <a:pt x="58485" y="110847"/>
                </a:cubicBezTo>
                <a:cubicBezTo>
                  <a:pt x="58485" y="107796"/>
                  <a:pt x="55646" y="104949"/>
                  <a:pt x="52807" y="104949"/>
                </a:cubicBezTo>
                <a:close/>
                <a:moveTo>
                  <a:pt x="89148" y="104949"/>
                </a:moveTo>
                <a:lnTo>
                  <a:pt x="89148" y="104949"/>
                </a:lnTo>
                <a:cubicBezTo>
                  <a:pt x="86309" y="104949"/>
                  <a:pt x="80630" y="107796"/>
                  <a:pt x="80630" y="110847"/>
                </a:cubicBezTo>
                <a:cubicBezTo>
                  <a:pt x="80630" y="116949"/>
                  <a:pt x="86309" y="119796"/>
                  <a:pt x="89148" y="119796"/>
                </a:cubicBezTo>
                <a:cubicBezTo>
                  <a:pt x="91798" y="119796"/>
                  <a:pt x="97476" y="116949"/>
                  <a:pt x="97476" y="110847"/>
                </a:cubicBezTo>
                <a:cubicBezTo>
                  <a:pt x="97476" y="107796"/>
                  <a:pt x="91798" y="104949"/>
                  <a:pt x="89148" y="1049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Shape 4676"/>
          <p:cNvSpPr/>
          <p:nvPr/>
        </p:nvSpPr>
        <p:spPr>
          <a:xfrm>
            <a:off x="4083120" y="4729320"/>
            <a:ext cx="295200" cy="242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Shape 4677"/>
          <p:cNvSpPr/>
          <p:nvPr/>
        </p:nvSpPr>
        <p:spPr>
          <a:xfrm>
            <a:off x="3587760" y="470052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97665" y="0"/>
                </a:moveTo>
                <a:lnTo>
                  <a:pt x="97665" y="0"/>
                </a:lnTo>
                <a:cubicBezTo>
                  <a:pt x="22334" y="0"/>
                  <a:pt x="22334" y="0"/>
                  <a:pt x="22334" y="0"/>
                </a:cubicBezTo>
                <a:cubicBezTo>
                  <a:pt x="0" y="37027"/>
                  <a:pt x="0" y="37027"/>
                  <a:pt x="0" y="37027"/>
                </a:cubicBezTo>
                <a:lnTo>
                  <a:pt x="0" y="51373"/>
                </a:lnTo>
                <a:cubicBezTo>
                  <a:pt x="0" y="56995"/>
                  <a:pt x="2839" y="59903"/>
                  <a:pt x="5678" y="62617"/>
                </a:cubicBezTo>
                <a:cubicBezTo>
                  <a:pt x="5678" y="105460"/>
                  <a:pt x="5678" y="105460"/>
                  <a:pt x="5678" y="105460"/>
                </a:cubicBezTo>
                <a:cubicBezTo>
                  <a:pt x="5678" y="114184"/>
                  <a:pt x="11167" y="119806"/>
                  <a:pt x="19495" y="119806"/>
                </a:cubicBezTo>
                <a:cubicBezTo>
                  <a:pt x="100315" y="119806"/>
                  <a:pt x="100315" y="119806"/>
                  <a:pt x="100315" y="119806"/>
                </a:cubicBezTo>
                <a:cubicBezTo>
                  <a:pt x="108832" y="119806"/>
                  <a:pt x="117160" y="114184"/>
                  <a:pt x="117160" y="105460"/>
                </a:cubicBezTo>
                <a:cubicBezTo>
                  <a:pt x="117160" y="62617"/>
                  <a:pt x="117160" y="62617"/>
                  <a:pt x="117160" y="62617"/>
                </a:cubicBezTo>
                <a:cubicBezTo>
                  <a:pt x="119810" y="59903"/>
                  <a:pt x="119810" y="56995"/>
                  <a:pt x="119810" y="51373"/>
                </a:cubicBezTo>
                <a:cubicBezTo>
                  <a:pt x="119810" y="48465"/>
                  <a:pt x="119810" y="37027"/>
                  <a:pt x="119810" y="37027"/>
                </a:cubicBezTo>
                <a:lnTo>
                  <a:pt x="97665" y="0"/>
                </a:lnTo>
                <a:close/>
                <a:moveTo>
                  <a:pt x="108832" y="105460"/>
                </a:moveTo>
                <a:lnTo>
                  <a:pt x="108832" y="105460"/>
                </a:lnTo>
                <a:cubicBezTo>
                  <a:pt x="108832" y="108368"/>
                  <a:pt x="105993" y="114184"/>
                  <a:pt x="100315" y="114184"/>
                </a:cubicBezTo>
                <a:cubicBezTo>
                  <a:pt x="19495" y="114184"/>
                  <a:pt x="19495" y="114184"/>
                  <a:pt x="19495" y="114184"/>
                </a:cubicBezTo>
                <a:cubicBezTo>
                  <a:pt x="16845" y="114184"/>
                  <a:pt x="11167" y="108368"/>
                  <a:pt x="11167" y="105460"/>
                </a:cubicBezTo>
                <a:cubicBezTo>
                  <a:pt x="11167" y="96930"/>
                  <a:pt x="11167" y="96930"/>
                  <a:pt x="11167" y="96930"/>
                </a:cubicBezTo>
                <a:cubicBezTo>
                  <a:pt x="108832" y="96930"/>
                  <a:pt x="108832" y="96930"/>
                  <a:pt x="108832" y="96930"/>
                </a:cubicBezTo>
                <a:lnTo>
                  <a:pt x="108832" y="105460"/>
                </a:lnTo>
                <a:close/>
                <a:moveTo>
                  <a:pt x="108832" y="91308"/>
                </a:moveTo>
                <a:lnTo>
                  <a:pt x="108832" y="91308"/>
                </a:lnTo>
                <a:cubicBezTo>
                  <a:pt x="11167" y="91308"/>
                  <a:pt x="11167" y="91308"/>
                  <a:pt x="11167" y="91308"/>
                </a:cubicBezTo>
                <a:cubicBezTo>
                  <a:pt x="11167" y="68432"/>
                  <a:pt x="11167" y="68432"/>
                  <a:pt x="11167" y="68432"/>
                </a:cubicBezTo>
                <a:cubicBezTo>
                  <a:pt x="14006" y="68432"/>
                  <a:pt x="16845" y="68432"/>
                  <a:pt x="19495" y="68432"/>
                </a:cubicBezTo>
                <a:cubicBezTo>
                  <a:pt x="22334" y="68432"/>
                  <a:pt x="30662" y="62617"/>
                  <a:pt x="33501" y="56995"/>
                </a:cubicBezTo>
                <a:cubicBezTo>
                  <a:pt x="36340" y="62617"/>
                  <a:pt x="41829" y="68432"/>
                  <a:pt x="47507" y="68432"/>
                </a:cubicBezTo>
                <a:cubicBezTo>
                  <a:pt x="52996" y="68432"/>
                  <a:pt x="58675" y="62617"/>
                  <a:pt x="61324" y="59903"/>
                </a:cubicBezTo>
                <a:cubicBezTo>
                  <a:pt x="61324" y="62617"/>
                  <a:pt x="69842" y="68432"/>
                  <a:pt x="75331" y="68432"/>
                </a:cubicBezTo>
                <a:cubicBezTo>
                  <a:pt x="81009" y="68432"/>
                  <a:pt x="86498" y="62617"/>
                  <a:pt x="89148" y="56995"/>
                </a:cubicBezTo>
                <a:cubicBezTo>
                  <a:pt x="91987" y="62617"/>
                  <a:pt x="94826" y="68432"/>
                  <a:pt x="100315" y="68432"/>
                </a:cubicBezTo>
                <a:cubicBezTo>
                  <a:pt x="103154" y="68432"/>
                  <a:pt x="108832" y="68432"/>
                  <a:pt x="108832" y="68432"/>
                </a:cubicBezTo>
                <a:lnTo>
                  <a:pt x="108832" y="91308"/>
                </a:lnTo>
                <a:close/>
                <a:moveTo>
                  <a:pt x="111482" y="51373"/>
                </a:moveTo>
                <a:lnTo>
                  <a:pt x="111482" y="51373"/>
                </a:lnTo>
                <a:cubicBezTo>
                  <a:pt x="111482" y="56995"/>
                  <a:pt x="105993" y="59903"/>
                  <a:pt x="100315" y="59903"/>
                </a:cubicBezTo>
                <a:cubicBezTo>
                  <a:pt x="94826" y="59903"/>
                  <a:pt x="89148" y="56995"/>
                  <a:pt x="89148" y="51373"/>
                </a:cubicBezTo>
                <a:cubicBezTo>
                  <a:pt x="86498" y="51373"/>
                  <a:pt x="86498" y="51373"/>
                  <a:pt x="86498" y="51373"/>
                </a:cubicBezTo>
                <a:cubicBezTo>
                  <a:pt x="86498" y="56995"/>
                  <a:pt x="81009" y="59903"/>
                  <a:pt x="75331" y="59903"/>
                </a:cubicBezTo>
                <a:cubicBezTo>
                  <a:pt x="69842" y="59903"/>
                  <a:pt x="61324" y="56995"/>
                  <a:pt x="61324" y="51373"/>
                </a:cubicBezTo>
                <a:cubicBezTo>
                  <a:pt x="58675" y="51373"/>
                  <a:pt x="58675" y="51373"/>
                  <a:pt x="58675" y="51373"/>
                </a:cubicBezTo>
                <a:cubicBezTo>
                  <a:pt x="58675" y="56995"/>
                  <a:pt x="52996" y="59903"/>
                  <a:pt x="47507" y="59903"/>
                </a:cubicBezTo>
                <a:cubicBezTo>
                  <a:pt x="41829" y="59903"/>
                  <a:pt x="33501" y="56995"/>
                  <a:pt x="33501" y="51373"/>
                </a:cubicBezTo>
                <a:cubicBezTo>
                  <a:pt x="30662" y="51373"/>
                  <a:pt x="30662" y="51373"/>
                  <a:pt x="30662" y="51373"/>
                </a:cubicBezTo>
                <a:cubicBezTo>
                  <a:pt x="30662" y="56995"/>
                  <a:pt x="25173" y="59903"/>
                  <a:pt x="19495" y="59903"/>
                </a:cubicBezTo>
                <a:cubicBezTo>
                  <a:pt x="14006" y="59903"/>
                  <a:pt x="8517" y="56995"/>
                  <a:pt x="8517" y="51373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111482" y="45557"/>
                  <a:pt x="111482" y="45557"/>
                  <a:pt x="111482" y="45557"/>
                </a:cubicBezTo>
                <a:lnTo>
                  <a:pt x="111482" y="51373"/>
                </a:lnTo>
                <a:close/>
                <a:moveTo>
                  <a:pt x="8517" y="37027"/>
                </a:moveTo>
                <a:lnTo>
                  <a:pt x="8517" y="37027"/>
                </a:lnTo>
                <a:cubicBezTo>
                  <a:pt x="25173" y="5621"/>
                  <a:pt x="25173" y="5621"/>
                  <a:pt x="25173" y="5621"/>
                </a:cubicBezTo>
                <a:cubicBezTo>
                  <a:pt x="94826" y="5621"/>
                  <a:pt x="94826" y="5621"/>
                  <a:pt x="94826" y="5621"/>
                </a:cubicBezTo>
                <a:cubicBezTo>
                  <a:pt x="111482" y="37027"/>
                  <a:pt x="111482" y="37027"/>
                  <a:pt x="111482" y="37027"/>
                </a:cubicBezTo>
                <a:lnTo>
                  <a:pt x="8517" y="3702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Shape 4678"/>
          <p:cNvSpPr/>
          <p:nvPr/>
        </p:nvSpPr>
        <p:spPr>
          <a:xfrm>
            <a:off x="3135240" y="4729320"/>
            <a:ext cx="227160" cy="242640"/>
          </a:xfrm>
          <a:custGeom>
            <a:avLst/>
            <a:gdLst>
              <a:gd name="textAreaLeft" fmla="*/ 0 w 227160"/>
              <a:gd name="textAreaRight" fmla="*/ 227520 w 2271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Shape 4679"/>
          <p:cNvSpPr/>
          <p:nvPr/>
        </p:nvSpPr>
        <p:spPr>
          <a:xfrm>
            <a:off x="2619360" y="4721400"/>
            <a:ext cx="282600" cy="249120"/>
          </a:xfrm>
          <a:custGeom>
            <a:avLst/>
            <a:gdLst>
              <a:gd name="textAreaLeft" fmla="*/ 0 w 282600"/>
              <a:gd name="textAreaRight" fmla="*/ 282960 w 2826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86791" y="3488"/>
                </a:moveTo>
                <a:lnTo>
                  <a:pt x="86791" y="3488"/>
                </a:lnTo>
                <a:cubicBezTo>
                  <a:pt x="86791" y="0"/>
                  <a:pt x="83938" y="3488"/>
                  <a:pt x="80882" y="3488"/>
                </a:cubicBezTo>
                <a:cubicBezTo>
                  <a:pt x="33005" y="113023"/>
                  <a:pt x="33005" y="113023"/>
                  <a:pt x="33005" y="113023"/>
                </a:cubicBezTo>
                <a:cubicBezTo>
                  <a:pt x="29949" y="116279"/>
                  <a:pt x="33005" y="119767"/>
                  <a:pt x="33005" y="119767"/>
                </a:cubicBezTo>
                <a:cubicBezTo>
                  <a:pt x="35857" y="119767"/>
                  <a:pt x="38913" y="119767"/>
                  <a:pt x="38913" y="119767"/>
                </a:cubicBezTo>
                <a:cubicBezTo>
                  <a:pt x="89847" y="10232"/>
                  <a:pt x="89847" y="10232"/>
                  <a:pt x="89847" y="10232"/>
                </a:cubicBezTo>
                <a:cubicBezTo>
                  <a:pt x="89847" y="6744"/>
                  <a:pt x="89847" y="3488"/>
                  <a:pt x="86791" y="3488"/>
                </a:cubicBezTo>
                <a:close/>
                <a:moveTo>
                  <a:pt x="29949" y="82093"/>
                </a:moveTo>
                <a:lnTo>
                  <a:pt x="29949" y="82093"/>
                </a:lnTo>
                <a:cubicBezTo>
                  <a:pt x="8964" y="61627"/>
                  <a:pt x="8964" y="61627"/>
                  <a:pt x="8964" y="61627"/>
                </a:cubicBezTo>
                <a:cubicBezTo>
                  <a:pt x="29949" y="44418"/>
                  <a:pt x="29949" y="44418"/>
                  <a:pt x="29949" y="44418"/>
                </a:cubicBezTo>
                <a:cubicBezTo>
                  <a:pt x="33005" y="41162"/>
                  <a:pt x="33005" y="37674"/>
                  <a:pt x="29949" y="37674"/>
                </a:cubicBezTo>
                <a:cubicBezTo>
                  <a:pt x="29949" y="34186"/>
                  <a:pt x="26893" y="34186"/>
                  <a:pt x="23837" y="37674"/>
                </a:cubicBezTo>
                <a:cubicBezTo>
                  <a:pt x="0" y="58139"/>
                  <a:pt x="0" y="58139"/>
                  <a:pt x="0" y="58139"/>
                </a:cubicBezTo>
                <a:cubicBezTo>
                  <a:pt x="0" y="61627"/>
                  <a:pt x="0" y="61627"/>
                  <a:pt x="0" y="61627"/>
                </a:cubicBezTo>
                <a:cubicBezTo>
                  <a:pt x="0" y="64883"/>
                  <a:pt x="0" y="64883"/>
                  <a:pt x="0" y="64883"/>
                </a:cubicBezTo>
                <a:cubicBezTo>
                  <a:pt x="23837" y="89069"/>
                  <a:pt x="23837" y="89069"/>
                  <a:pt x="23837" y="89069"/>
                </a:cubicBezTo>
                <a:cubicBezTo>
                  <a:pt x="26893" y="89069"/>
                  <a:pt x="29949" y="89069"/>
                  <a:pt x="29949" y="89069"/>
                </a:cubicBezTo>
                <a:cubicBezTo>
                  <a:pt x="33005" y="85581"/>
                  <a:pt x="33005" y="82093"/>
                  <a:pt x="29949" y="82093"/>
                </a:cubicBezTo>
                <a:close/>
                <a:moveTo>
                  <a:pt x="119796" y="58139"/>
                </a:moveTo>
                <a:lnTo>
                  <a:pt x="119796" y="58139"/>
                </a:lnTo>
                <a:cubicBezTo>
                  <a:pt x="95959" y="37674"/>
                  <a:pt x="95959" y="37674"/>
                  <a:pt x="95959" y="37674"/>
                </a:cubicBezTo>
                <a:cubicBezTo>
                  <a:pt x="92903" y="34186"/>
                  <a:pt x="89847" y="34186"/>
                  <a:pt x="89847" y="37674"/>
                </a:cubicBezTo>
                <a:cubicBezTo>
                  <a:pt x="86791" y="37674"/>
                  <a:pt x="86791" y="41162"/>
                  <a:pt x="89847" y="44418"/>
                </a:cubicBezTo>
                <a:cubicBezTo>
                  <a:pt x="110831" y="61627"/>
                  <a:pt x="110831" y="61627"/>
                  <a:pt x="110831" y="61627"/>
                </a:cubicBezTo>
                <a:cubicBezTo>
                  <a:pt x="89847" y="82093"/>
                  <a:pt x="89847" y="82093"/>
                  <a:pt x="89847" y="82093"/>
                </a:cubicBezTo>
                <a:cubicBezTo>
                  <a:pt x="86791" y="82093"/>
                  <a:pt x="86791" y="85581"/>
                  <a:pt x="89847" y="89069"/>
                </a:cubicBezTo>
                <a:cubicBezTo>
                  <a:pt x="89847" y="89069"/>
                  <a:pt x="92903" y="89069"/>
                  <a:pt x="95959" y="89069"/>
                </a:cubicBezTo>
                <a:cubicBezTo>
                  <a:pt x="119796" y="64883"/>
                  <a:pt x="119796" y="64883"/>
                  <a:pt x="119796" y="64883"/>
                </a:cubicBezTo>
                <a:cubicBezTo>
                  <a:pt x="119796" y="64883"/>
                  <a:pt x="119796" y="64883"/>
                  <a:pt x="119796" y="61627"/>
                </a:cubicBezTo>
                <a:cubicBezTo>
                  <a:pt x="119796" y="61627"/>
                  <a:pt x="119796" y="61627"/>
                  <a:pt x="119796" y="581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Shape 4680"/>
          <p:cNvSpPr/>
          <p:nvPr/>
        </p:nvSpPr>
        <p:spPr>
          <a:xfrm>
            <a:off x="2158920" y="4700520"/>
            <a:ext cx="233280" cy="297000"/>
          </a:xfrm>
          <a:custGeom>
            <a:avLst/>
            <a:gdLst>
              <a:gd name="textAreaLeft" fmla="*/ 0 w 233280"/>
              <a:gd name="textAreaRight" fmla="*/ 233640 w 2332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Shape 4681"/>
          <p:cNvSpPr/>
          <p:nvPr/>
        </p:nvSpPr>
        <p:spPr>
          <a:xfrm>
            <a:off x="1636560" y="4694400"/>
            <a:ext cx="298440" cy="296640"/>
          </a:xfrm>
          <a:custGeom>
            <a:avLst/>
            <a:gdLst>
              <a:gd name="textAreaLeft" fmla="*/ 0 w 298440"/>
              <a:gd name="textAreaRight" fmla="*/ 298800 w 29844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28645" y="108368"/>
                </a:moveTo>
                <a:lnTo>
                  <a:pt x="28645" y="108368"/>
                </a:lnTo>
                <a:cubicBezTo>
                  <a:pt x="22838" y="114184"/>
                  <a:pt x="19935" y="114184"/>
                  <a:pt x="17225" y="108368"/>
                </a:cubicBezTo>
                <a:cubicBezTo>
                  <a:pt x="11419" y="105654"/>
                  <a:pt x="11419" y="105654"/>
                  <a:pt x="11419" y="105654"/>
                </a:cubicBezTo>
                <a:cubicBezTo>
                  <a:pt x="8516" y="102746"/>
                  <a:pt x="8516" y="96930"/>
                  <a:pt x="11419" y="94216"/>
                </a:cubicBezTo>
                <a:cubicBezTo>
                  <a:pt x="48580" y="57189"/>
                  <a:pt x="48580" y="57189"/>
                  <a:pt x="48580" y="57189"/>
                </a:cubicBezTo>
                <a:cubicBezTo>
                  <a:pt x="42774" y="54281"/>
                  <a:pt x="37161" y="57189"/>
                  <a:pt x="31354" y="59903"/>
                </a:cubicBezTo>
                <a:cubicBezTo>
                  <a:pt x="5806" y="88400"/>
                  <a:pt x="5806" y="88400"/>
                  <a:pt x="5806" y="88400"/>
                </a:cubicBezTo>
                <a:cubicBezTo>
                  <a:pt x="0" y="94216"/>
                  <a:pt x="0" y="102746"/>
                  <a:pt x="5806" y="108368"/>
                </a:cubicBezTo>
                <a:cubicBezTo>
                  <a:pt x="11419" y="114184"/>
                  <a:pt x="11419" y="114184"/>
                  <a:pt x="11419" y="114184"/>
                </a:cubicBezTo>
                <a:cubicBezTo>
                  <a:pt x="17225" y="119806"/>
                  <a:pt x="25741" y="119806"/>
                  <a:pt x="31354" y="114184"/>
                </a:cubicBezTo>
                <a:cubicBezTo>
                  <a:pt x="60000" y="88400"/>
                  <a:pt x="60000" y="88400"/>
                  <a:pt x="60000" y="88400"/>
                </a:cubicBezTo>
                <a:cubicBezTo>
                  <a:pt x="62709" y="82778"/>
                  <a:pt x="65612" y="76962"/>
                  <a:pt x="62709" y="74248"/>
                </a:cubicBezTo>
                <a:lnTo>
                  <a:pt x="28645" y="108368"/>
                </a:lnTo>
                <a:close/>
                <a:moveTo>
                  <a:pt x="114000" y="11437"/>
                </a:moveTo>
                <a:lnTo>
                  <a:pt x="114000" y="11437"/>
                </a:lnTo>
                <a:cubicBezTo>
                  <a:pt x="108387" y="5621"/>
                  <a:pt x="108387" y="5621"/>
                  <a:pt x="108387" y="5621"/>
                </a:cubicBezTo>
                <a:cubicBezTo>
                  <a:pt x="102580" y="0"/>
                  <a:pt x="94064" y="0"/>
                  <a:pt x="88451" y="5621"/>
                </a:cubicBezTo>
                <a:cubicBezTo>
                  <a:pt x="60000" y="34313"/>
                  <a:pt x="60000" y="34313"/>
                  <a:pt x="60000" y="34313"/>
                </a:cubicBezTo>
                <a:cubicBezTo>
                  <a:pt x="57096" y="37027"/>
                  <a:pt x="54193" y="42843"/>
                  <a:pt x="57096" y="48465"/>
                </a:cubicBezTo>
                <a:cubicBezTo>
                  <a:pt x="91161" y="11437"/>
                  <a:pt x="91161" y="11437"/>
                  <a:pt x="91161" y="11437"/>
                </a:cubicBezTo>
                <a:cubicBezTo>
                  <a:pt x="94064" y="8529"/>
                  <a:pt x="99870" y="8529"/>
                  <a:pt x="102580" y="11437"/>
                </a:cubicBezTo>
                <a:cubicBezTo>
                  <a:pt x="108387" y="17059"/>
                  <a:pt x="108387" y="17059"/>
                  <a:pt x="108387" y="17059"/>
                </a:cubicBezTo>
                <a:cubicBezTo>
                  <a:pt x="111096" y="19967"/>
                  <a:pt x="111096" y="25783"/>
                  <a:pt x="108387" y="28497"/>
                </a:cubicBezTo>
                <a:cubicBezTo>
                  <a:pt x="71419" y="65525"/>
                  <a:pt x="71419" y="65525"/>
                  <a:pt x="71419" y="65525"/>
                </a:cubicBezTo>
                <a:cubicBezTo>
                  <a:pt x="77032" y="65525"/>
                  <a:pt x="82645" y="65525"/>
                  <a:pt x="88451" y="59903"/>
                </a:cubicBezTo>
                <a:cubicBezTo>
                  <a:pt x="114000" y="34313"/>
                  <a:pt x="114000" y="34313"/>
                  <a:pt x="114000" y="34313"/>
                </a:cubicBezTo>
                <a:cubicBezTo>
                  <a:pt x="119806" y="28497"/>
                  <a:pt x="119806" y="17059"/>
                  <a:pt x="114000" y="11437"/>
                </a:cubicBezTo>
                <a:close/>
                <a:moveTo>
                  <a:pt x="71419" y="48465"/>
                </a:moveTo>
                <a:lnTo>
                  <a:pt x="71419" y="48465"/>
                </a:lnTo>
                <a:cubicBezTo>
                  <a:pt x="71419" y="48465"/>
                  <a:pt x="68322" y="48465"/>
                  <a:pt x="65612" y="48465"/>
                </a:cubicBezTo>
                <a:cubicBezTo>
                  <a:pt x="48580" y="68626"/>
                  <a:pt x="48580" y="68626"/>
                  <a:pt x="48580" y="68626"/>
                </a:cubicBezTo>
                <a:cubicBezTo>
                  <a:pt x="45677" y="68626"/>
                  <a:pt x="45677" y="71340"/>
                  <a:pt x="48580" y="74248"/>
                </a:cubicBezTo>
                <a:cubicBezTo>
                  <a:pt x="48580" y="74248"/>
                  <a:pt x="51290" y="74248"/>
                  <a:pt x="54193" y="74248"/>
                </a:cubicBezTo>
                <a:cubicBezTo>
                  <a:pt x="71419" y="54281"/>
                  <a:pt x="71419" y="54281"/>
                  <a:pt x="71419" y="54281"/>
                </a:cubicBezTo>
                <a:cubicBezTo>
                  <a:pt x="74129" y="51373"/>
                  <a:pt x="74129" y="51373"/>
                  <a:pt x="71419" y="4846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Shape 4682"/>
          <p:cNvSpPr/>
          <p:nvPr/>
        </p:nvSpPr>
        <p:spPr>
          <a:xfrm>
            <a:off x="1147680" y="4729320"/>
            <a:ext cx="284400" cy="242640"/>
          </a:xfrm>
          <a:custGeom>
            <a:avLst/>
            <a:gdLst>
              <a:gd name="textAreaLeft" fmla="*/ 0 w 284400"/>
              <a:gd name="textAreaRight" fmla="*/ 284760 w 2844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Shape 4683"/>
          <p:cNvSpPr/>
          <p:nvPr/>
        </p:nvSpPr>
        <p:spPr>
          <a:xfrm>
            <a:off x="5562720" y="4233960"/>
            <a:ext cx="284040" cy="247680"/>
          </a:xfrm>
          <a:custGeom>
            <a:avLst/>
            <a:gdLst>
              <a:gd name="textAreaLeft" fmla="*/ 0 w 284040"/>
              <a:gd name="textAreaRight" fmla="*/ 284400 w 2840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6943" y="75348"/>
                </a:moveTo>
                <a:lnTo>
                  <a:pt x="116943" y="75348"/>
                </a:lnTo>
                <a:cubicBezTo>
                  <a:pt x="113887" y="75348"/>
                  <a:pt x="110831" y="75348"/>
                  <a:pt x="110831" y="78837"/>
                </a:cubicBezTo>
                <a:cubicBezTo>
                  <a:pt x="110831" y="109534"/>
                  <a:pt x="110831" y="109534"/>
                  <a:pt x="110831" y="109534"/>
                </a:cubicBezTo>
                <a:cubicBezTo>
                  <a:pt x="8964" y="109534"/>
                  <a:pt x="8964" y="109534"/>
                  <a:pt x="8964" y="109534"/>
                </a:cubicBezTo>
                <a:cubicBezTo>
                  <a:pt x="8964" y="78837"/>
                  <a:pt x="8964" y="78837"/>
                  <a:pt x="8964" y="78837"/>
                </a:cubicBezTo>
                <a:cubicBezTo>
                  <a:pt x="8964" y="75348"/>
                  <a:pt x="5908" y="75348"/>
                  <a:pt x="2852" y="75348"/>
                </a:cubicBezTo>
                <a:cubicBezTo>
                  <a:pt x="2852" y="75348"/>
                  <a:pt x="0" y="75348"/>
                  <a:pt x="0" y="78837"/>
                </a:cubicBezTo>
                <a:cubicBezTo>
                  <a:pt x="0" y="116511"/>
                  <a:pt x="0" y="116511"/>
                  <a:pt x="0" y="116511"/>
                </a:cubicBezTo>
                <a:lnTo>
                  <a:pt x="2852" y="119767"/>
                </a:lnTo>
                <a:cubicBezTo>
                  <a:pt x="116943" y="119767"/>
                  <a:pt x="116943" y="119767"/>
                  <a:pt x="116943" y="119767"/>
                </a:cubicBezTo>
                <a:lnTo>
                  <a:pt x="119796" y="116511"/>
                </a:lnTo>
                <a:cubicBezTo>
                  <a:pt x="119796" y="78837"/>
                  <a:pt x="119796" y="78837"/>
                  <a:pt x="119796" y="78837"/>
                </a:cubicBezTo>
                <a:cubicBezTo>
                  <a:pt x="119796" y="75348"/>
                  <a:pt x="116943" y="75348"/>
                  <a:pt x="116943" y="75348"/>
                </a:cubicBezTo>
                <a:close/>
                <a:moveTo>
                  <a:pt x="41969" y="37674"/>
                </a:moveTo>
                <a:lnTo>
                  <a:pt x="41969" y="37674"/>
                </a:lnTo>
                <a:cubicBezTo>
                  <a:pt x="56842" y="17209"/>
                  <a:pt x="56842" y="17209"/>
                  <a:pt x="56842" y="17209"/>
                </a:cubicBezTo>
                <a:cubicBezTo>
                  <a:pt x="56842" y="82093"/>
                  <a:pt x="56842" y="82093"/>
                  <a:pt x="56842" y="82093"/>
                </a:cubicBezTo>
                <a:cubicBezTo>
                  <a:pt x="56842" y="85581"/>
                  <a:pt x="56842" y="89069"/>
                  <a:pt x="59898" y="89069"/>
                </a:cubicBezTo>
                <a:cubicBezTo>
                  <a:pt x="62954" y="89069"/>
                  <a:pt x="62954" y="85581"/>
                  <a:pt x="62954" y="82093"/>
                </a:cubicBezTo>
                <a:cubicBezTo>
                  <a:pt x="62954" y="17209"/>
                  <a:pt x="62954" y="17209"/>
                  <a:pt x="62954" y="17209"/>
                </a:cubicBezTo>
                <a:cubicBezTo>
                  <a:pt x="78030" y="37674"/>
                  <a:pt x="78030" y="37674"/>
                  <a:pt x="78030" y="37674"/>
                </a:cubicBezTo>
                <a:cubicBezTo>
                  <a:pt x="78030" y="37674"/>
                  <a:pt x="80882" y="37674"/>
                  <a:pt x="83938" y="37674"/>
                </a:cubicBezTo>
                <a:cubicBezTo>
                  <a:pt x="83938" y="34186"/>
                  <a:pt x="83938" y="30930"/>
                  <a:pt x="83938" y="30930"/>
                </a:cubicBezTo>
                <a:cubicBezTo>
                  <a:pt x="62954" y="3488"/>
                  <a:pt x="62954" y="3488"/>
                  <a:pt x="62954" y="3488"/>
                </a:cubicBezTo>
                <a:cubicBezTo>
                  <a:pt x="62954" y="0"/>
                  <a:pt x="59898" y="0"/>
                  <a:pt x="59898" y="0"/>
                </a:cubicBezTo>
                <a:cubicBezTo>
                  <a:pt x="59898" y="0"/>
                  <a:pt x="56842" y="0"/>
                  <a:pt x="56842" y="3488"/>
                </a:cubicBezTo>
                <a:cubicBezTo>
                  <a:pt x="35857" y="30930"/>
                  <a:pt x="35857" y="30930"/>
                  <a:pt x="35857" y="30930"/>
                </a:cubicBezTo>
                <a:cubicBezTo>
                  <a:pt x="35857" y="30930"/>
                  <a:pt x="35857" y="34186"/>
                  <a:pt x="35857" y="37674"/>
                </a:cubicBezTo>
                <a:cubicBezTo>
                  <a:pt x="38913" y="37674"/>
                  <a:pt x="41969" y="37674"/>
                  <a:pt x="41969" y="376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Shape 4684"/>
          <p:cNvSpPr/>
          <p:nvPr/>
        </p:nvSpPr>
        <p:spPr>
          <a:xfrm>
            <a:off x="5059440" y="4218120"/>
            <a:ext cx="304560" cy="284040"/>
          </a:xfrm>
          <a:custGeom>
            <a:avLst/>
            <a:gdLst>
              <a:gd name="textAreaLeft" fmla="*/ 0 w 304560"/>
              <a:gd name="textAreaRight" fmla="*/ 304920 w 3045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Shape 4685"/>
          <p:cNvSpPr/>
          <p:nvPr/>
        </p:nvSpPr>
        <p:spPr>
          <a:xfrm>
            <a:off x="4570560" y="4218120"/>
            <a:ext cx="306360" cy="284040"/>
          </a:xfrm>
          <a:custGeom>
            <a:avLst/>
            <a:gdLst>
              <a:gd name="textAreaLeft" fmla="*/ 0 w 306360"/>
              <a:gd name="textAreaRight" fmla="*/ 306720 w 3063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5488" y="119796"/>
                  <a:pt x="13817" y="119796"/>
                </a:cubicBezTo>
                <a:cubicBezTo>
                  <a:pt x="102965" y="119796"/>
                  <a:pt x="102965" y="119796"/>
                  <a:pt x="102965" y="119796"/>
                </a:cubicBezTo>
                <a:cubicBezTo>
                  <a:pt x="111293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1293" y="0"/>
                  <a:pt x="102965" y="0"/>
                </a:cubicBezTo>
                <a:close/>
                <a:moveTo>
                  <a:pt x="89148" y="110644"/>
                </a:moveTo>
                <a:lnTo>
                  <a:pt x="89148" y="110644"/>
                </a:lnTo>
                <a:cubicBezTo>
                  <a:pt x="13817" y="110644"/>
                  <a:pt x="13817" y="110644"/>
                  <a:pt x="13817" y="110644"/>
                </a:cubicBezTo>
                <a:cubicBezTo>
                  <a:pt x="11167" y="110644"/>
                  <a:pt x="8328" y="107796"/>
                  <a:pt x="8328" y="101694"/>
                </a:cubicBezTo>
                <a:cubicBezTo>
                  <a:pt x="8328" y="14847"/>
                  <a:pt x="8328" y="14847"/>
                  <a:pt x="8328" y="14847"/>
                </a:cubicBezTo>
                <a:cubicBezTo>
                  <a:pt x="8328" y="12000"/>
                  <a:pt x="11167" y="5898"/>
                  <a:pt x="13817" y="5898"/>
                </a:cubicBezTo>
                <a:cubicBezTo>
                  <a:pt x="89148" y="5898"/>
                  <a:pt x="89148" y="5898"/>
                  <a:pt x="89148" y="5898"/>
                </a:cubicBezTo>
                <a:lnTo>
                  <a:pt x="89148" y="110644"/>
                </a:lnTo>
                <a:close/>
                <a:moveTo>
                  <a:pt x="111293" y="101694"/>
                </a:moveTo>
                <a:lnTo>
                  <a:pt x="111293" y="101694"/>
                </a:lnTo>
                <a:cubicBezTo>
                  <a:pt x="111293" y="107796"/>
                  <a:pt x="108643" y="110644"/>
                  <a:pt x="102965" y="110644"/>
                </a:cubicBezTo>
                <a:cubicBezTo>
                  <a:pt x="97476" y="110644"/>
                  <a:pt x="97476" y="110644"/>
                  <a:pt x="97476" y="110644"/>
                </a:cubicBezTo>
                <a:cubicBezTo>
                  <a:pt x="97476" y="5898"/>
                  <a:pt x="97476" y="5898"/>
                  <a:pt x="97476" y="5898"/>
                </a:cubicBezTo>
                <a:cubicBezTo>
                  <a:pt x="102965" y="5898"/>
                  <a:pt x="102965" y="5898"/>
                  <a:pt x="102965" y="5898"/>
                </a:cubicBezTo>
                <a:cubicBezTo>
                  <a:pt x="108643" y="5898"/>
                  <a:pt x="111293" y="12000"/>
                  <a:pt x="111293" y="14847"/>
                </a:cubicBezTo>
                <a:lnTo>
                  <a:pt x="111293" y="101694"/>
                </a:lnTo>
                <a:close/>
                <a:moveTo>
                  <a:pt x="19495" y="62847"/>
                </a:moveTo>
                <a:lnTo>
                  <a:pt x="19495" y="62847"/>
                </a:lnTo>
                <a:cubicBezTo>
                  <a:pt x="63974" y="62847"/>
                  <a:pt x="63974" y="62847"/>
                  <a:pt x="63974" y="62847"/>
                </a:cubicBezTo>
                <a:cubicBezTo>
                  <a:pt x="50157" y="74847"/>
                  <a:pt x="50157" y="74847"/>
                  <a:pt x="50157" y="74847"/>
                </a:cubicBezTo>
                <a:cubicBezTo>
                  <a:pt x="47318" y="77694"/>
                  <a:pt x="47318" y="80745"/>
                  <a:pt x="50157" y="80745"/>
                </a:cubicBezTo>
                <a:cubicBezTo>
                  <a:pt x="50157" y="83796"/>
                  <a:pt x="52807" y="83796"/>
                  <a:pt x="55646" y="80745"/>
                </a:cubicBezTo>
                <a:cubicBezTo>
                  <a:pt x="77981" y="62847"/>
                  <a:pt x="77981" y="62847"/>
                  <a:pt x="77981" y="62847"/>
                </a:cubicBezTo>
                <a:cubicBezTo>
                  <a:pt x="77981" y="59796"/>
                  <a:pt x="77981" y="59796"/>
                  <a:pt x="77981" y="59796"/>
                </a:cubicBezTo>
                <a:cubicBezTo>
                  <a:pt x="77981" y="56949"/>
                  <a:pt x="77981" y="56949"/>
                  <a:pt x="77981" y="56949"/>
                </a:cubicBezTo>
                <a:cubicBezTo>
                  <a:pt x="55646" y="35796"/>
                  <a:pt x="55646" y="35796"/>
                  <a:pt x="55646" y="35796"/>
                </a:cubicBezTo>
                <a:cubicBezTo>
                  <a:pt x="52807" y="35796"/>
                  <a:pt x="50157" y="35796"/>
                  <a:pt x="50157" y="35796"/>
                </a:cubicBezTo>
                <a:cubicBezTo>
                  <a:pt x="47318" y="38847"/>
                  <a:pt x="47318" y="38847"/>
                  <a:pt x="50157" y="41898"/>
                </a:cubicBezTo>
                <a:cubicBezTo>
                  <a:pt x="63974" y="53694"/>
                  <a:pt x="63974" y="53694"/>
                  <a:pt x="63974" y="53694"/>
                </a:cubicBezTo>
                <a:cubicBezTo>
                  <a:pt x="19495" y="53694"/>
                  <a:pt x="19495" y="53694"/>
                  <a:pt x="19495" y="53694"/>
                </a:cubicBezTo>
                <a:cubicBezTo>
                  <a:pt x="16656" y="53694"/>
                  <a:pt x="13817" y="56949"/>
                  <a:pt x="13817" y="59796"/>
                </a:cubicBezTo>
                <a:cubicBezTo>
                  <a:pt x="13817" y="59796"/>
                  <a:pt x="16656" y="62847"/>
                  <a:pt x="19495" y="628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Shape 4686"/>
          <p:cNvSpPr/>
          <p:nvPr/>
        </p:nvSpPr>
        <p:spPr>
          <a:xfrm>
            <a:off x="4089240" y="4205160"/>
            <a:ext cx="284400" cy="306360"/>
          </a:xfrm>
          <a:custGeom>
            <a:avLst/>
            <a:gdLst>
              <a:gd name="textAreaLeft" fmla="*/ 0 w 284400"/>
              <a:gd name="textAreaRight" fmla="*/ 284760 w 2844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Shape 4687"/>
          <p:cNvSpPr/>
          <p:nvPr/>
        </p:nvSpPr>
        <p:spPr>
          <a:xfrm>
            <a:off x="3603600" y="4205160"/>
            <a:ext cx="282600" cy="306360"/>
          </a:xfrm>
          <a:custGeom>
            <a:avLst/>
            <a:gdLst>
              <a:gd name="textAreaLeft" fmla="*/ 0 w 282600"/>
              <a:gd name="textAreaRight" fmla="*/ 282960 w 2826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1694" y="0"/>
                </a:moveTo>
                <a:lnTo>
                  <a:pt x="101694" y="0"/>
                </a:lnTo>
                <a:cubicBezTo>
                  <a:pt x="14847" y="0"/>
                  <a:pt x="14847" y="0"/>
                  <a:pt x="14847" y="0"/>
                </a:cubicBezTo>
                <a:cubicBezTo>
                  <a:pt x="589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898" y="119810"/>
                  <a:pt x="14847" y="119810"/>
                </a:cubicBezTo>
                <a:cubicBezTo>
                  <a:pt x="101694" y="119810"/>
                  <a:pt x="101694" y="119810"/>
                  <a:pt x="101694" y="119810"/>
                </a:cubicBezTo>
                <a:cubicBezTo>
                  <a:pt x="11084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0847" y="0"/>
                  <a:pt x="101694" y="0"/>
                </a:cubicBezTo>
                <a:close/>
                <a:moveTo>
                  <a:pt x="110847" y="105993"/>
                </a:moveTo>
                <a:lnTo>
                  <a:pt x="110847" y="105993"/>
                </a:lnTo>
                <a:cubicBezTo>
                  <a:pt x="110847" y="108643"/>
                  <a:pt x="107796" y="111482"/>
                  <a:pt x="101694" y="111482"/>
                </a:cubicBezTo>
                <a:cubicBezTo>
                  <a:pt x="14847" y="111482"/>
                  <a:pt x="14847" y="111482"/>
                  <a:pt x="14847" y="111482"/>
                </a:cubicBezTo>
                <a:cubicBezTo>
                  <a:pt x="12000" y="111482"/>
                  <a:pt x="5898" y="108643"/>
                  <a:pt x="5898" y="105993"/>
                </a:cubicBezTo>
                <a:cubicBezTo>
                  <a:pt x="5898" y="97476"/>
                  <a:pt x="5898" y="97476"/>
                  <a:pt x="5898" y="97476"/>
                </a:cubicBezTo>
                <a:cubicBezTo>
                  <a:pt x="110847" y="97476"/>
                  <a:pt x="110847" y="97476"/>
                  <a:pt x="110847" y="97476"/>
                </a:cubicBezTo>
                <a:lnTo>
                  <a:pt x="110847" y="105993"/>
                </a:lnTo>
                <a:close/>
                <a:moveTo>
                  <a:pt x="110847" y="89148"/>
                </a:moveTo>
                <a:lnTo>
                  <a:pt x="110847" y="89148"/>
                </a:lnTo>
                <a:cubicBezTo>
                  <a:pt x="5898" y="89148"/>
                  <a:pt x="5898" y="89148"/>
                  <a:pt x="5898" y="89148"/>
                </a:cubicBezTo>
                <a:cubicBezTo>
                  <a:pt x="5898" y="16845"/>
                  <a:pt x="5898" y="16845"/>
                  <a:pt x="5898" y="16845"/>
                </a:cubicBezTo>
                <a:cubicBezTo>
                  <a:pt x="5898" y="11167"/>
                  <a:pt x="12000" y="8328"/>
                  <a:pt x="14847" y="8328"/>
                </a:cubicBezTo>
                <a:cubicBezTo>
                  <a:pt x="101694" y="8328"/>
                  <a:pt x="101694" y="8328"/>
                  <a:pt x="101694" y="8328"/>
                </a:cubicBezTo>
                <a:cubicBezTo>
                  <a:pt x="107796" y="8328"/>
                  <a:pt x="110847" y="11167"/>
                  <a:pt x="110847" y="16845"/>
                </a:cubicBezTo>
                <a:lnTo>
                  <a:pt x="110847" y="89148"/>
                </a:lnTo>
                <a:close/>
                <a:moveTo>
                  <a:pt x="74847" y="50157"/>
                </a:moveTo>
                <a:lnTo>
                  <a:pt x="74847" y="50157"/>
                </a:lnTo>
                <a:cubicBezTo>
                  <a:pt x="62847" y="64164"/>
                  <a:pt x="62847" y="64164"/>
                  <a:pt x="62847" y="64164"/>
                </a:cubicBezTo>
                <a:cubicBezTo>
                  <a:pt x="62847" y="19495"/>
                  <a:pt x="62847" y="19495"/>
                  <a:pt x="62847" y="19495"/>
                </a:cubicBezTo>
                <a:cubicBezTo>
                  <a:pt x="62847" y="16845"/>
                  <a:pt x="59796" y="16845"/>
                  <a:pt x="59796" y="16845"/>
                </a:cubicBezTo>
                <a:cubicBezTo>
                  <a:pt x="56949" y="16845"/>
                  <a:pt x="53898" y="16845"/>
                  <a:pt x="53898" y="19495"/>
                </a:cubicBezTo>
                <a:cubicBezTo>
                  <a:pt x="53898" y="64164"/>
                  <a:pt x="53898" y="64164"/>
                  <a:pt x="53898" y="64164"/>
                </a:cubicBezTo>
                <a:cubicBezTo>
                  <a:pt x="41898" y="50157"/>
                  <a:pt x="41898" y="50157"/>
                  <a:pt x="41898" y="50157"/>
                </a:cubicBezTo>
                <a:cubicBezTo>
                  <a:pt x="38847" y="50157"/>
                  <a:pt x="38847" y="50157"/>
                  <a:pt x="36000" y="50157"/>
                </a:cubicBezTo>
                <a:cubicBezTo>
                  <a:pt x="36000" y="52996"/>
                  <a:pt x="36000" y="52996"/>
                  <a:pt x="36000" y="55646"/>
                </a:cubicBezTo>
                <a:cubicBezTo>
                  <a:pt x="56949" y="77981"/>
                  <a:pt x="56949" y="77981"/>
                  <a:pt x="56949" y="77981"/>
                </a:cubicBezTo>
                <a:cubicBezTo>
                  <a:pt x="56949" y="77981"/>
                  <a:pt x="56949" y="77981"/>
                  <a:pt x="59796" y="77981"/>
                </a:cubicBezTo>
                <a:cubicBezTo>
                  <a:pt x="59796" y="77981"/>
                  <a:pt x="59796" y="77981"/>
                  <a:pt x="62847" y="77981"/>
                </a:cubicBezTo>
                <a:cubicBezTo>
                  <a:pt x="80949" y="55646"/>
                  <a:pt x="80949" y="55646"/>
                  <a:pt x="80949" y="55646"/>
                </a:cubicBezTo>
                <a:cubicBezTo>
                  <a:pt x="83796" y="52996"/>
                  <a:pt x="83796" y="52996"/>
                  <a:pt x="80949" y="50157"/>
                </a:cubicBezTo>
                <a:cubicBezTo>
                  <a:pt x="80949" y="50157"/>
                  <a:pt x="77694" y="50157"/>
                  <a:pt x="74847" y="5015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hape 4688"/>
          <p:cNvSpPr/>
          <p:nvPr/>
        </p:nvSpPr>
        <p:spPr>
          <a:xfrm>
            <a:off x="3135240" y="420516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Shape 4689"/>
          <p:cNvSpPr/>
          <p:nvPr/>
        </p:nvSpPr>
        <p:spPr>
          <a:xfrm>
            <a:off x="2612880" y="420516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7059" y="16845"/>
                </a:moveTo>
                <a:lnTo>
                  <a:pt x="17059" y="16845"/>
                </a:lnTo>
                <a:cubicBezTo>
                  <a:pt x="17059" y="16845"/>
                  <a:pt x="14151" y="16845"/>
                  <a:pt x="14151" y="19495"/>
                </a:cubicBezTo>
                <a:cubicBezTo>
                  <a:pt x="14151" y="22334"/>
                  <a:pt x="17059" y="22334"/>
                  <a:pt x="17059" y="22334"/>
                </a:cubicBezTo>
                <a:cubicBezTo>
                  <a:pt x="19967" y="22334"/>
                  <a:pt x="22875" y="22334"/>
                  <a:pt x="22875" y="19495"/>
                </a:cubicBezTo>
                <a:cubicBezTo>
                  <a:pt x="22875" y="16845"/>
                  <a:pt x="19967" y="16845"/>
                  <a:pt x="17059" y="16845"/>
                </a:cubicBezTo>
                <a:close/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643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643"/>
                  <a:pt x="5621" y="105993"/>
                </a:cubicBezTo>
                <a:cubicBezTo>
                  <a:pt x="5621" y="38990"/>
                  <a:pt x="5621" y="38990"/>
                  <a:pt x="5621" y="38990"/>
                </a:cubicBezTo>
                <a:cubicBezTo>
                  <a:pt x="114184" y="38990"/>
                  <a:pt x="114184" y="38990"/>
                  <a:pt x="114184" y="38990"/>
                </a:cubicBezTo>
                <a:lnTo>
                  <a:pt x="114184" y="105993"/>
                </a:lnTo>
                <a:close/>
                <a:moveTo>
                  <a:pt x="114184" y="30662"/>
                </a:moveTo>
                <a:lnTo>
                  <a:pt x="114184" y="30662"/>
                </a:lnTo>
                <a:cubicBezTo>
                  <a:pt x="5621" y="30662"/>
                  <a:pt x="5621" y="30662"/>
                  <a:pt x="5621" y="30662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654" y="8328"/>
                  <a:pt x="105654" y="8328"/>
                  <a:pt x="105654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30662"/>
                </a:lnTo>
                <a:close/>
                <a:moveTo>
                  <a:pt x="48465" y="16845"/>
                </a:moveTo>
                <a:lnTo>
                  <a:pt x="48465" y="16845"/>
                </a:lnTo>
                <a:cubicBezTo>
                  <a:pt x="45557" y="16845"/>
                  <a:pt x="45557" y="16845"/>
                  <a:pt x="45557" y="19495"/>
                </a:cubicBezTo>
                <a:cubicBezTo>
                  <a:pt x="45557" y="22334"/>
                  <a:pt x="45557" y="22334"/>
                  <a:pt x="48465" y="22334"/>
                </a:cubicBezTo>
                <a:cubicBezTo>
                  <a:pt x="51373" y="22334"/>
                  <a:pt x="51373" y="22334"/>
                  <a:pt x="51373" y="19495"/>
                </a:cubicBezTo>
                <a:cubicBezTo>
                  <a:pt x="51373" y="16845"/>
                  <a:pt x="51373" y="16845"/>
                  <a:pt x="48465" y="16845"/>
                </a:cubicBezTo>
                <a:close/>
                <a:moveTo>
                  <a:pt x="34313" y="16845"/>
                </a:moveTo>
                <a:lnTo>
                  <a:pt x="34313" y="16845"/>
                </a:lnTo>
                <a:cubicBezTo>
                  <a:pt x="31405" y="16845"/>
                  <a:pt x="28497" y="16845"/>
                  <a:pt x="28497" y="19495"/>
                </a:cubicBezTo>
                <a:cubicBezTo>
                  <a:pt x="28497" y="22334"/>
                  <a:pt x="31405" y="22334"/>
                  <a:pt x="34313" y="22334"/>
                </a:cubicBezTo>
                <a:cubicBezTo>
                  <a:pt x="34313" y="22334"/>
                  <a:pt x="37027" y="22334"/>
                  <a:pt x="37027" y="19495"/>
                </a:cubicBezTo>
                <a:cubicBezTo>
                  <a:pt x="37027" y="16845"/>
                  <a:pt x="34313" y="16845"/>
                  <a:pt x="34313" y="1684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Shape 4690"/>
          <p:cNvSpPr/>
          <p:nvPr/>
        </p:nvSpPr>
        <p:spPr>
          <a:xfrm>
            <a:off x="2116080" y="420516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Shape 4691"/>
          <p:cNvSpPr/>
          <p:nvPr/>
        </p:nvSpPr>
        <p:spPr>
          <a:xfrm>
            <a:off x="1662120" y="4218120"/>
            <a:ext cx="249120" cy="291960"/>
          </a:xfrm>
          <a:custGeom>
            <a:avLst/>
            <a:gdLst>
              <a:gd name="textAreaLeft" fmla="*/ 0 w 249120"/>
              <a:gd name="textAreaRight" fmla="*/ 249480 w 2491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976" y="11721"/>
                </a:moveTo>
                <a:lnTo>
                  <a:pt x="6976" y="11721"/>
                </a:lnTo>
                <a:cubicBezTo>
                  <a:pt x="89069" y="11721"/>
                  <a:pt x="89069" y="11721"/>
                  <a:pt x="89069" y="11721"/>
                </a:cubicBezTo>
                <a:cubicBezTo>
                  <a:pt x="89069" y="11721"/>
                  <a:pt x="92558" y="8741"/>
                  <a:pt x="92558" y="5761"/>
                </a:cubicBezTo>
                <a:lnTo>
                  <a:pt x="89069" y="2781"/>
                </a:lnTo>
                <a:cubicBezTo>
                  <a:pt x="6976" y="2781"/>
                  <a:pt x="6976" y="2781"/>
                  <a:pt x="6976" y="2781"/>
                </a:cubicBezTo>
                <a:cubicBezTo>
                  <a:pt x="3488" y="2781"/>
                  <a:pt x="0" y="5761"/>
                  <a:pt x="0" y="5761"/>
                </a:cubicBezTo>
                <a:cubicBezTo>
                  <a:pt x="0" y="8741"/>
                  <a:pt x="3488" y="11721"/>
                  <a:pt x="6976" y="11721"/>
                </a:cubicBezTo>
                <a:close/>
                <a:moveTo>
                  <a:pt x="6976" y="34966"/>
                </a:moveTo>
                <a:lnTo>
                  <a:pt x="6976" y="34966"/>
                </a:lnTo>
                <a:cubicBezTo>
                  <a:pt x="89069" y="34966"/>
                  <a:pt x="89069" y="34966"/>
                  <a:pt x="89069" y="34966"/>
                </a:cubicBezTo>
                <a:cubicBezTo>
                  <a:pt x="89069" y="34966"/>
                  <a:pt x="92558" y="32185"/>
                  <a:pt x="92558" y="29205"/>
                </a:cubicBezTo>
                <a:lnTo>
                  <a:pt x="89069" y="26225"/>
                </a:lnTo>
                <a:cubicBezTo>
                  <a:pt x="6976" y="26225"/>
                  <a:pt x="6976" y="26225"/>
                  <a:pt x="6976" y="26225"/>
                </a:cubicBezTo>
                <a:cubicBezTo>
                  <a:pt x="3488" y="26225"/>
                  <a:pt x="0" y="29205"/>
                  <a:pt x="0" y="29205"/>
                </a:cubicBezTo>
                <a:cubicBezTo>
                  <a:pt x="0" y="32185"/>
                  <a:pt x="3488" y="34966"/>
                  <a:pt x="6976" y="34966"/>
                </a:cubicBezTo>
                <a:close/>
                <a:moveTo>
                  <a:pt x="34186" y="73112"/>
                </a:moveTo>
                <a:lnTo>
                  <a:pt x="34186" y="73112"/>
                </a:lnTo>
                <a:cubicBezTo>
                  <a:pt x="6976" y="73112"/>
                  <a:pt x="6976" y="73112"/>
                  <a:pt x="6976" y="73112"/>
                </a:cubicBezTo>
                <a:cubicBezTo>
                  <a:pt x="3488" y="73112"/>
                  <a:pt x="0" y="75894"/>
                  <a:pt x="0" y="75894"/>
                </a:cubicBezTo>
                <a:cubicBezTo>
                  <a:pt x="0" y="78874"/>
                  <a:pt x="3488" y="81854"/>
                  <a:pt x="6976" y="81854"/>
                </a:cubicBezTo>
                <a:cubicBezTo>
                  <a:pt x="34186" y="81854"/>
                  <a:pt x="34186" y="81854"/>
                  <a:pt x="34186" y="81854"/>
                </a:cubicBezTo>
                <a:cubicBezTo>
                  <a:pt x="34186" y="81854"/>
                  <a:pt x="37674" y="78874"/>
                  <a:pt x="37674" y="75894"/>
                </a:cubicBezTo>
                <a:lnTo>
                  <a:pt x="34186" y="73112"/>
                </a:lnTo>
                <a:close/>
                <a:moveTo>
                  <a:pt x="6976" y="58410"/>
                </a:moveTo>
                <a:lnTo>
                  <a:pt x="6976" y="58410"/>
                </a:lnTo>
                <a:cubicBezTo>
                  <a:pt x="54883" y="58410"/>
                  <a:pt x="54883" y="58410"/>
                  <a:pt x="54883" y="58410"/>
                </a:cubicBezTo>
                <a:cubicBezTo>
                  <a:pt x="58372" y="58410"/>
                  <a:pt x="61627" y="55629"/>
                  <a:pt x="61627" y="52450"/>
                </a:cubicBezTo>
                <a:cubicBezTo>
                  <a:pt x="61627" y="52450"/>
                  <a:pt x="58372" y="49668"/>
                  <a:pt x="54883" y="49668"/>
                </a:cubicBezTo>
                <a:cubicBezTo>
                  <a:pt x="6976" y="49668"/>
                  <a:pt x="6976" y="49668"/>
                  <a:pt x="6976" y="49668"/>
                </a:cubicBezTo>
                <a:cubicBezTo>
                  <a:pt x="3488" y="49668"/>
                  <a:pt x="0" y="52450"/>
                  <a:pt x="0" y="52450"/>
                </a:cubicBezTo>
                <a:cubicBezTo>
                  <a:pt x="0" y="55629"/>
                  <a:pt x="3488" y="58410"/>
                  <a:pt x="6976" y="58410"/>
                </a:cubicBezTo>
                <a:close/>
                <a:moveTo>
                  <a:pt x="116511" y="0"/>
                </a:moveTo>
                <a:lnTo>
                  <a:pt x="116511" y="0"/>
                </a:lnTo>
                <a:cubicBezTo>
                  <a:pt x="113023" y="0"/>
                  <a:pt x="109534" y="0"/>
                  <a:pt x="109534" y="2781"/>
                </a:cubicBezTo>
                <a:cubicBezTo>
                  <a:pt x="109534" y="67152"/>
                  <a:pt x="109534" y="67152"/>
                  <a:pt x="109534" y="67152"/>
                </a:cubicBezTo>
                <a:cubicBezTo>
                  <a:pt x="99302" y="61390"/>
                  <a:pt x="85581" y="61390"/>
                  <a:pt x="68372" y="67152"/>
                </a:cubicBezTo>
                <a:cubicBezTo>
                  <a:pt x="51395" y="75894"/>
                  <a:pt x="41162" y="93576"/>
                  <a:pt x="51395" y="105298"/>
                </a:cubicBezTo>
                <a:cubicBezTo>
                  <a:pt x="58372" y="117019"/>
                  <a:pt x="78837" y="119801"/>
                  <a:pt x="99302" y="111059"/>
                </a:cubicBezTo>
                <a:cubicBezTo>
                  <a:pt x="113023" y="102317"/>
                  <a:pt x="119767" y="90596"/>
                  <a:pt x="119767" y="81854"/>
                </a:cubicBezTo>
                <a:lnTo>
                  <a:pt x="119767" y="81854"/>
                </a:lnTo>
                <a:cubicBezTo>
                  <a:pt x="119767" y="2781"/>
                  <a:pt x="119767" y="2781"/>
                  <a:pt x="119767" y="2781"/>
                </a:cubicBezTo>
                <a:cubicBezTo>
                  <a:pt x="119767" y="0"/>
                  <a:pt x="116511" y="0"/>
                  <a:pt x="116511" y="0"/>
                </a:cubicBezTo>
                <a:close/>
                <a:moveTo>
                  <a:pt x="95813" y="102317"/>
                </a:moveTo>
                <a:lnTo>
                  <a:pt x="95813" y="102317"/>
                </a:lnTo>
                <a:cubicBezTo>
                  <a:pt x="82093" y="111059"/>
                  <a:pt x="65116" y="111059"/>
                  <a:pt x="58372" y="102317"/>
                </a:cubicBezTo>
                <a:cubicBezTo>
                  <a:pt x="51395" y="93576"/>
                  <a:pt x="58372" y="81854"/>
                  <a:pt x="72093" y="73112"/>
                </a:cubicBezTo>
                <a:cubicBezTo>
                  <a:pt x="85581" y="67152"/>
                  <a:pt x="102790" y="67152"/>
                  <a:pt x="109534" y="75894"/>
                </a:cubicBezTo>
                <a:cubicBezTo>
                  <a:pt x="116511" y="84834"/>
                  <a:pt x="109534" y="96357"/>
                  <a:pt x="95813" y="1023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Shape 4692"/>
          <p:cNvSpPr/>
          <p:nvPr/>
        </p:nvSpPr>
        <p:spPr>
          <a:xfrm>
            <a:off x="1141560" y="420516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Shape 4693"/>
          <p:cNvSpPr/>
          <p:nvPr/>
        </p:nvSpPr>
        <p:spPr>
          <a:xfrm>
            <a:off x="5541840" y="3724200"/>
            <a:ext cx="309600" cy="290520"/>
          </a:xfrm>
          <a:custGeom>
            <a:avLst/>
            <a:gdLst>
              <a:gd name="textAreaLeft" fmla="*/ 0 w 309600"/>
              <a:gd name="textAreaRight" fmla="*/ 309960 w 309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7041" y="0"/>
                </a:moveTo>
                <a:lnTo>
                  <a:pt x="117041" y="0"/>
                </a:lnTo>
                <a:cubicBezTo>
                  <a:pt x="117041" y="0"/>
                  <a:pt x="117041" y="0"/>
                  <a:pt x="114453" y="0"/>
                </a:cubicBezTo>
                <a:cubicBezTo>
                  <a:pt x="54545" y="17652"/>
                  <a:pt x="54545" y="17652"/>
                  <a:pt x="54545" y="17652"/>
                </a:cubicBezTo>
                <a:cubicBezTo>
                  <a:pt x="54545" y="17652"/>
                  <a:pt x="51771" y="17652"/>
                  <a:pt x="51771" y="20429"/>
                </a:cubicBezTo>
                <a:cubicBezTo>
                  <a:pt x="51771" y="75966"/>
                  <a:pt x="51771" y="75966"/>
                  <a:pt x="51771" y="75966"/>
                </a:cubicBezTo>
                <a:cubicBezTo>
                  <a:pt x="43636" y="70016"/>
                  <a:pt x="32727" y="70016"/>
                  <a:pt x="21818" y="75966"/>
                </a:cubicBezTo>
                <a:cubicBezTo>
                  <a:pt x="8320" y="84694"/>
                  <a:pt x="0" y="99371"/>
                  <a:pt x="5546" y="108099"/>
                </a:cubicBezTo>
                <a:cubicBezTo>
                  <a:pt x="13682" y="119801"/>
                  <a:pt x="29953" y="119801"/>
                  <a:pt x="43636" y="113851"/>
                </a:cubicBezTo>
                <a:cubicBezTo>
                  <a:pt x="51771" y="108099"/>
                  <a:pt x="57318" y="99371"/>
                  <a:pt x="59907" y="90446"/>
                </a:cubicBezTo>
                <a:lnTo>
                  <a:pt x="59907" y="23404"/>
                </a:lnTo>
                <a:cubicBezTo>
                  <a:pt x="114453" y="8727"/>
                  <a:pt x="114453" y="8727"/>
                  <a:pt x="114453" y="8727"/>
                </a:cubicBezTo>
                <a:cubicBezTo>
                  <a:pt x="114453" y="58314"/>
                  <a:pt x="114453" y="58314"/>
                  <a:pt x="114453" y="58314"/>
                </a:cubicBezTo>
                <a:cubicBezTo>
                  <a:pt x="106317" y="55537"/>
                  <a:pt x="92634" y="55537"/>
                  <a:pt x="81725" y="61289"/>
                </a:cubicBezTo>
                <a:cubicBezTo>
                  <a:pt x="68228" y="67239"/>
                  <a:pt x="62681" y="81719"/>
                  <a:pt x="68228" y="93421"/>
                </a:cubicBezTo>
                <a:cubicBezTo>
                  <a:pt x="73590" y="102148"/>
                  <a:pt x="90046" y="105123"/>
                  <a:pt x="106317" y="99371"/>
                </a:cubicBezTo>
                <a:cubicBezTo>
                  <a:pt x="114453" y="93421"/>
                  <a:pt x="119815" y="81719"/>
                  <a:pt x="119815" y="75966"/>
                </a:cubicBezTo>
                <a:cubicBezTo>
                  <a:pt x="119815" y="72991"/>
                  <a:pt x="119815" y="5950"/>
                  <a:pt x="119815" y="5950"/>
                </a:cubicBezTo>
                <a:cubicBezTo>
                  <a:pt x="119815" y="2975"/>
                  <a:pt x="119815" y="0"/>
                  <a:pt x="117041" y="0"/>
                </a:cubicBezTo>
                <a:close/>
                <a:moveTo>
                  <a:pt x="40862" y="105123"/>
                </a:moveTo>
                <a:lnTo>
                  <a:pt x="40862" y="105123"/>
                </a:lnTo>
                <a:cubicBezTo>
                  <a:pt x="29953" y="111074"/>
                  <a:pt x="19229" y="111074"/>
                  <a:pt x="13682" y="105123"/>
                </a:cubicBezTo>
                <a:cubicBezTo>
                  <a:pt x="8320" y="99371"/>
                  <a:pt x="13682" y="87669"/>
                  <a:pt x="24591" y="81719"/>
                </a:cubicBezTo>
                <a:cubicBezTo>
                  <a:pt x="32727" y="75966"/>
                  <a:pt x="43636" y="75966"/>
                  <a:pt x="49183" y="81719"/>
                </a:cubicBezTo>
                <a:cubicBezTo>
                  <a:pt x="57318" y="87669"/>
                  <a:pt x="49183" y="102148"/>
                  <a:pt x="40862" y="105123"/>
                </a:cubicBezTo>
                <a:close/>
                <a:moveTo>
                  <a:pt x="103543" y="90446"/>
                </a:moveTo>
                <a:lnTo>
                  <a:pt x="103543" y="90446"/>
                </a:lnTo>
                <a:cubicBezTo>
                  <a:pt x="92634" y="96396"/>
                  <a:pt x="79137" y="96396"/>
                  <a:pt x="76363" y="90446"/>
                </a:cubicBezTo>
                <a:cubicBezTo>
                  <a:pt x="70816" y="81719"/>
                  <a:pt x="73590" y="72991"/>
                  <a:pt x="84499" y="67239"/>
                </a:cubicBezTo>
                <a:cubicBezTo>
                  <a:pt x="95408" y="61289"/>
                  <a:pt x="106317" y="61289"/>
                  <a:pt x="111679" y="67239"/>
                </a:cubicBezTo>
                <a:cubicBezTo>
                  <a:pt x="117041" y="72991"/>
                  <a:pt x="111679" y="84694"/>
                  <a:pt x="103543" y="904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Shape 4694"/>
          <p:cNvSpPr/>
          <p:nvPr/>
        </p:nvSpPr>
        <p:spPr>
          <a:xfrm>
            <a:off x="5114880" y="372420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Shape 4695"/>
          <p:cNvSpPr/>
          <p:nvPr/>
        </p:nvSpPr>
        <p:spPr>
          <a:xfrm>
            <a:off x="4599000" y="3710160"/>
            <a:ext cx="228600" cy="304560"/>
          </a:xfrm>
          <a:custGeom>
            <a:avLst/>
            <a:gdLst>
              <a:gd name="textAreaLeft" fmla="*/ 0 w 228600"/>
              <a:gd name="textAreaRight" fmla="*/ 228960 w 2286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932" y="24984"/>
                </a:moveTo>
                <a:lnTo>
                  <a:pt x="115932" y="24984"/>
                </a:lnTo>
                <a:cubicBezTo>
                  <a:pt x="82372" y="2649"/>
                  <a:pt x="82372" y="2649"/>
                  <a:pt x="82372" y="2649"/>
                </a:cubicBezTo>
                <a:cubicBezTo>
                  <a:pt x="82372" y="0"/>
                  <a:pt x="78559" y="0"/>
                  <a:pt x="74745" y="2649"/>
                </a:cubicBezTo>
                <a:lnTo>
                  <a:pt x="74745" y="5488"/>
                </a:lnTo>
                <a:cubicBezTo>
                  <a:pt x="74745" y="69652"/>
                  <a:pt x="74745" y="69652"/>
                  <a:pt x="74745" y="69652"/>
                </a:cubicBezTo>
                <a:cubicBezTo>
                  <a:pt x="63559" y="63974"/>
                  <a:pt x="44745" y="63974"/>
                  <a:pt x="29745" y="72302"/>
                </a:cubicBezTo>
                <a:cubicBezTo>
                  <a:pt x="7372" y="80820"/>
                  <a:pt x="0" y="97476"/>
                  <a:pt x="7372" y="108643"/>
                </a:cubicBezTo>
                <a:cubicBezTo>
                  <a:pt x="18559" y="119810"/>
                  <a:pt x="41186" y="119810"/>
                  <a:pt x="59745" y="111482"/>
                </a:cubicBezTo>
                <a:cubicBezTo>
                  <a:pt x="74745" y="105804"/>
                  <a:pt x="85932" y="94637"/>
                  <a:pt x="85932" y="83470"/>
                </a:cubicBezTo>
                <a:cubicBezTo>
                  <a:pt x="85932" y="13817"/>
                  <a:pt x="85932" y="13817"/>
                  <a:pt x="85932" y="13817"/>
                </a:cubicBezTo>
                <a:cubicBezTo>
                  <a:pt x="108305" y="30662"/>
                  <a:pt x="108305" y="30662"/>
                  <a:pt x="108305" y="30662"/>
                </a:cubicBezTo>
                <a:cubicBezTo>
                  <a:pt x="112118" y="33312"/>
                  <a:pt x="115932" y="33312"/>
                  <a:pt x="115932" y="30662"/>
                </a:cubicBezTo>
                <a:cubicBezTo>
                  <a:pt x="119745" y="30662"/>
                  <a:pt x="119745" y="27823"/>
                  <a:pt x="115932" y="24984"/>
                </a:cubicBezTo>
                <a:close/>
                <a:moveTo>
                  <a:pt x="55932" y="105804"/>
                </a:moveTo>
                <a:lnTo>
                  <a:pt x="55932" y="105804"/>
                </a:lnTo>
                <a:cubicBezTo>
                  <a:pt x="44745" y="114132"/>
                  <a:pt x="26186" y="111482"/>
                  <a:pt x="18559" y="105804"/>
                </a:cubicBezTo>
                <a:cubicBezTo>
                  <a:pt x="11186" y="97476"/>
                  <a:pt x="18559" y="83470"/>
                  <a:pt x="33559" y="77981"/>
                </a:cubicBezTo>
                <a:cubicBezTo>
                  <a:pt x="44745" y="69652"/>
                  <a:pt x="63559" y="72302"/>
                  <a:pt x="70932" y="80820"/>
                </a:cubicBezTo>
                <a:cubicBezTo>
                  <a:pt x="78559" y="86309"/>
                  <a:pt x="70932" y="100315"/>
                  <a:pt x="55932" y="10580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Shape 4696"/>
          <p:cNvSpPr/>
          <p:nvPr/>
        </p:nvSpPr>
        <p:spPr>
          <a:xfrm>
            <a:off x="4076640" y="3745080"/>
            <a:ext cx="311040" cy="249120"/>
          </a:xfrm>
          <a:custGeom>
            <a:avLst/>
            <a:gdLst>
              <a:gd name="textAreaLeft" fmla="*/ 0 w 311040"/>
              <a:gd name="textAreaRight" fmla="*/ 311400 w 3110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Shape 4697"/>
          <p:cNvSpPr/>
          <p:nvPr/>
        </p:nvSpPr>
        <p:spPr>
          <a:xfrm>
            <a:off x="3608280" y="3753000"/>
            <a:ext cx="254160" cy="220680"/>
          </a:xfrm>
          <a:custGeom>
            <a:avLst/>
            <a:gdLst>
              <a:gd name="textAreaLeft" fmla="*/ 0 w 254160"/>
              <a:gd name="textAreaRight" fmla="*/ 254520 w 2541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3163" y="27045"/>
                </a:moveTo>
                <a:lnTo>
                  <a:pt x="3163" y="27045"/>
                </a:lnTo>
                <a:cubicBezTo>
                  <a:pt x="23276" y="27045"/>
                  <a:pt x="23276" y="27045"/>
                  <a:pt x="23276" y="27045"/>
                </a:cubicBezTo>
                <a:cubicBezTo>
                  <a:pt x="36610" y="50415"/>
                  <a:pt x="36610" y="50415"/>
                  <a:pt x="36610" y="50415"/>
                </a:cubicBezTo>
                <a:cubicBezTo>
                  <a:pt x="43163" y="42538"/>
                  <a:pt x="43163" y="42538"/>
                  <a:pt x="43163" y="42538"/>
                </a:cubicBezTo>
                <a:cubicBezTo>
                  <a:pt x="43163" y="42538"/>
                  <a:pt x="26440" y="19431"/>
                  <a:pt x="26440" y="15492"/>
                </a:cubicBezTo>
                <a:cubicBezTo>
                  <a:pt x="3163" y="15492"/>
                  <a:pt x="3163" y="15492"/>
                  <a:pt x="3163" y="15492"/>
                </a:cubicBezTo>
                <a:cubicBezTo>
                  <a:pt x="3163" y="15492"/>
                  <a:pt x="0" y="19431"/>
                  <a:pt x="0" y="23107"/>
                </a:cubicBezTo>
                <a:cubicBezTo>
                  <a:pt x="0" y="27045"/>
                  <a:pt x="3163" y="27045"/>
                  <a:pt x="3163" y="27045"/>
                </a:cubicBezTo>
                <a:close/>
                <a:moveTo>
                  <a:pt x="93107" y="27045"/>
                </a:moveTo>
                <a:lnTo>
                  <a:pt x="93107" y="27045"/>
                </a:lnTo>
                <a:cubicBezTo>
                  <a:pt x="93107" y="42538"/>
                  <a:pt x="93107" y="42538"/>
                  <a:pt x="93107" y="42538"/>
                </a:cubicBezTo>
                <a:lnTo>
                  <a:pt x="99661" y="42538"/>
                </a:lnTo>
                <a:cubicBezTo>
                  <a:pt x="119774" y="23107"/>
                  <a:pt x="119774" y="23107"/>
                  <a:pt x="119774" y="23107"/>
                </a:cubicBezTo>
                <a:lnTo>
                  <a:pt x="119774" y="19431"/>
                </a:lnTo>
                <a:cubicBezTo>
                  <a:pt x="99661" y="3938"/>
                  <a:pt x="99661" y="3938"/>
                  <a:pt x="99661" y="3938"/>
                </a:cubicBezTo>
                <a:cubicBezTo>
                  <a:pt x="99661" y="0"/>
                  <a:pt x="93107" y="0"/>
                  <a:pt x="93107" y="3938"/>
                </a:cubicBezTo>
                <a:cubicBezTo>
                  <a:pt x="93107" y="15492"/>
                  <a:pt x="93107" y="15492"/>
                  <a:pt x="93107" y="15492"/>
                </a:cubicBezTo>
                <a:cubicBezTo>
                  <a:pt x="69830" y="15492"/>
                  <a:pt x="69830" y="15492"/>
                  <a:pt x="69830" y="15492"/>
                </a:cubicBezTo>
                <a:cubicBezTo>
                  <a:pt x="23276" y="92691"/>
                  <a:pt x="23276" y="92691"/>
                  <a:pt x="23276" y="92691"/>
                </a:cubicBezTo>
                <a:cubicBezTo>
                  <a:pt x="3163" y="92691"/>
                  <a:pt x="3163" y="92691"/>
                  <a:pt x="3163" y="92691"/>
                </a:cubicBezTo>
                <a:cubicBezTo>
                  <a:pt x="3163" y="92691"/>
                  <a:pt x="0" y="96630"/>
                  <a:pt x="0" y="100568"/>
                </a:cubicBezTo>
                <a:lnTo>
                  <a:pt x="3163" y="104245"/>
                </a:lnTo>
                <a:cubicBezTo>
                  <a:pt x="26440" y="104245"/>
                  <a:pt x="26440" y="104245"/>
                  <a:pt x="26440" y="104245"/>
                </a:cubicBezTo>
                <a:cubicBezTo>
                  <a:pt x="76384" y="27045"/>
                  <a:pt x="76384" y="27045"/>
                  <a:pt x="76384" y="27045"/>
                </a:cubicBezTo>
                <a:lnTo>
                  <a:pt x="93107" y="27045"/>
                </a:lnTo>
                <a:close/>
                <a:moveTo>
                  <a:pt x="99661" y="81137"/>
                </a:moveTo>
                <a:lnTo>
                  <a:pt x="99661" y="81137"/>
                </a:lnTo>
                <a:cubicBezTo>
                  <a:pt x="99661" y="77199"/>
                  <a:pt x="93107" y="77199"/>
                  <a:pt x="93107" y="81137"/>
                </a:cubicBezTo>
                <a:cubicBezTo>
                  <a:pt x="93107" y="92691"/>
                  <a:pt x="93107" y="92691"/>
                  <a:pt x="93107" y="92691"/>
                </a:cubicBezTo>
                <a:cubicBezTo>
                  <a:pt x="76384" y="92691"/>
                  <a:pt x="76384" y="92691"/>
                  <a:pt x="76384" y="92691"/>
                </a:cubicBezTo>
                <a:cubicBezTo>
                  <a:pt x="59887" y="69584"/>
                  <a:pt x="59887" y="69584"/>
                  <a:pt x="59887" y="69584"/>
                </a:cubicBezTo>
                <a:cubicBezTo>
                  <a:pt x="53107" y="77199"/>
                  <a:pt x="53107" y="77199"/>
                  <a:pt x="53107" y="77199"/>
                </a:cubicBezTo>
                <a:cubicBezTo>
                  <a:pt x="69830" y="104245"/>
                  <a:pt x="69830" y="104245"/>
                  <a:pt x="69830" y="104245"/>
                </a:cubicBezTo>
                <a:cubicBezTo>
                  <a:pt x="93107" y="104245"/>
                  <a:pt x="93107" y="104245"/>
                  <a:pt x="93107" y="104245"/>
                </a:cubicBezTo>
                <a:cubicBezTo>
                  <a:pt x="93107" y="119737"/>
                  <a:pt x="93107" y="119737"/>
                  <a:pt x="93107" y="119737"/>
                </a:cubicBezTo>
                <a:lnTo>
                  <a:pt x="99661" y="119737"/>
                </a:lnTo>
                <a:cubicBezTo>
                  <a:pt x="119774" y="100568"/>
                  <a:pt x="119774" y="100568"/>
                  <a:pt x="119774" y="100568"/>
                </a:cubicBezTo>
                <a:lnTo>
                  <a:pt x="119774" y="96630"/>
                </a:lnTo>
                <a:lnTo>
                  <a:pt x="99661" y="8113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Shape 4698"/>
          <p:cNvSpPr/>
          <p:nvPr/>
        </p:nvSpPr>
        <p:spPr>
          <a:xfrm>
            <a:off x="3135240" y="375300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Shape 4699"/>
          <p:cNvSpPr/>
          <p:nvPr/>
        </p:nvSpPr>
        <p:spPr>
          <a:xfrm>
            <a:off x="2655720" y="375300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528" y="59745"/>
                </a:moveTo>
                <a:lnTo>
                  <a:pt x="11528" y="59745"/>
                </a:lnTo>
                <a:cubicBezTo>
                  <a:pt x="65764" y="11186"/>
                  <a:pt x="65764" y="11186"/>
                  <a:pt x="65764" y="11186"/>
                </a:cubicBezTo>
                <a:cubicBezTo>
                  <a:pt x="69432" y="7627"/>
                  <a:pt x="69432" y="3813"/>
                  <a:pt x="65764" y="3813"/>
                </a:cubicBezTo>
                <a:cubicBezTo>
                  <a:pt x="65764" y="0"/>
                  <a:pt x="61834" y="0"/>
                  <a:pt x="57903" y="3813"/>
                </a:cubicBezTo>
                <a:cubicBezTo>
                  <a:pt x="3930" y="56186"/>
                  <a:pt x="3930" y="56186"/>
                  <a:pt x="3930" y="56186"/>
                </a:cubicBezTo>
                <a:cubicBezTo>
                  <a:pt x="0" y="59745"/>
                  <a:pt x="0" y="59745"/>
                  <a:pt x="0" y="59745"/>
                </a:cubicBezTo>
                <a:cubicBezTo>
                  <a:pt x="0" y="63559"/>
                  <a:pt x="0" y="63559"/>
                  <a:pt x="3930" y="63559"/>
                </a:cubicBezTo>
                <a:cubicBezTo>
                  <a:pt x="57903" y="119745"/>
                  <a:pt x="57903" y="119745"/>
                  <a:pt x="57903" y="119745"/>
                </a:cubicBezTo>
                <a:cubicBezTo>
                  <a:pt x="61834" y="119745"/>
                  <a:pt x="65764" y="119745"/>
                  <a:pt x="65764" y="119745"/>
                </a:cubicBezTo>
                <a:cubicBezTo>
                  <a:pt x="69432" y="115932"/>
                  <a:pt x="69432" y="115932"/>
                  <a:pt x="65764" y="112372"/>
                </a:cubicBezTo>
                <a:lnTo>
                  <a:pt x="11528" y="59745"/>
                </a:lnTo>
                <a:close/>
                <a:moveTo>
                  <a:pt x="77030" y="59745"/>
                </a:moveTo>
                <a:lnTo>
                  <a:pt x="77030" y="59745"/>
                </a:lnTo>
                <a:cubicBezTo>
                  <a:pt x="119737" y="18813"/>
                  <a:pt x="119737" y="18813"/>
                  <a:pt x="119737" y="18813"/>
                </a:cubicBezTo>
                <a:cubicBezTo>
                  <a:pt x="119737" y="18813"/>
                  <a:pt x="119737" y="15000"/>
                  <a:pt x="119737" y="11186"/>
                </a:cubicBezTo>
                <a:cubicBezTo>
                  <a:pt x="115807" y="11186"/>
                  <a:pt x="111877" y="11186"/>
                  <a:pt x="111877" y="11186"/>
                </a:cubicBezTo>
                <a:cubicBezTo>
                  <a:pt x="65764" y="56186"/>
                  <a:pt x="65764" y="56186"/>
                  <a:pt x="65764" y="56186"/>
                </a:cubicBezTo>
                <a:cubicBezTo>
                  <a:pt x="65764" y="59745"/>
                  <a:pt x="61834" y="59745"/>
                  <a:pt x="61834" y="59745"/>
                </a:cubicBezTo>
                <a:cubicBezTo>
                  <a:pt x="61834" y="63559"/>
                  <a:pt x="65764" y="63559"/>
                  <a:pt x="65764" y="63559"/>
                </a:cubicBezTo>
                <a:cubicBezTo>
                  <a:pt x="111877" y="108559"/>
                  <a:pt x="111877" y="108559"/>
                  <a:pt x="111877" y="108559"/>
                </a:cubicBezTo>
                <a:cubicBezTo>
                  <a:pt x="111877" y="112372"/>
                  <a:pt x="115807" y="112372"/>
                  <a:pt x="119737" y="108559"/>
                </a:cubicBezTo>
                <a:cubicBezTo>
                  <a:pt x="119737" y="108559"/>
                  <a:pt x="119737" y="104745"/>
                  <a:pt x="119737" y="100932"/>
                </a:cubicBezTo>
                <a:lnTo>
                  <a:pt x="77030" y="597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Shape 4700"/>
          <p:cNvSpPr/>
          <p:nvPr/>
        </p:nvSpPr>
        <p:spPr>
          <a:xfrm>
            <a:off x="2136600" y="3782880"/>
            <a:ext cx="263880" cy="168480"/>
          </a:xfrm>
          <a:custGeom>
            <a:avLst/>
            <a:gdLst>
              <a:gd name="textAreaLeft" fmla="*/ 0 w 263880"/>
              <a:gd name="textAreaRight" fmla="*/ 264240 w 2638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Shape 4701"/>
          <p:cNvSpPr/>
          <p:nvPr/>
        </p:nvSpPr>
        <p:spPr>
          <a:xfrm>
            <a:off x="1641600" y="3745080"/>
            <a:ext cx="274680" cy="249120"/>
          </a:xfrm>
          <a:custGeom>
            <a:avLst/>
            <a:gdLst>
              <a:gd name="textAreaLeft" fmla="*/ 0 w 274680"/>
              <a:gd name="textAreaRight" fmla="*/ 275040 w 2746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13739" y="109323"/>
                </a:moveTo>
                <a:lnTo>
                  <a:pt x="113739" y="109323"/>
                </a:lnTo>
                <a:cubicBezTo>
                  <a:pt x="6052" y="109323"/>
                  <a:pt x="6052" y="109323"/>
                  <a:pt x="6052" y="109323"/>
                </a:cubicBezTo>
                <a:cubicBezTo>
                  <a:pt x="3130" y="109323"/>
                  <a:pt x="3130" y="112804"/>
                  <a:pt x="3130" y="112804"/>
                </a:cubicBezTo>
                <a:cubicBezTo>
                  <a:pt x="3130" y="116286"/>
                  <a:pt x="3130" y="119767"/>
                  <a:pt x="6052" y="119767"/>
                </a:cubicBezTo>
                <a:cubicBezTo>
                  <a:pt x="113739" y="119767"/>
                  <a:pt x="113739" y="119767"/>
                  <a:pt x="113739" y="119767"/>
                </a:cubicBezTo>
                <a:cubicBezTo>
                  <a:pt x="113739" y="119767"/>
                  <a:pt x="116660" y="116286"/>
                  <a:pt x="116660" y="112804"/>
                </a:cubicBezTo>
                <a:lnTo>
                  <a:pt x="113739" y="109323"/>
                </a:lnTo>
                <a:close/>
                <a:moveTo>
                  <a:pt x="9182" y="99110"/>
                </a:moveTo>
                <a:lnTo>
                  <a:pt x="9182" y="99110"/>
                </a:lnTo>
                <a:cubicBezTo>
                  <a:pt x="107478" y="99110"/>
                  <a:pt x="107478" y="99110"/>
                  <a:pt x="107478" y="99110"/>
                </a:cubicBezTo>
                <a:cubicBezTo>
                  <a:pt x="119791" y="99110"/>
                  <a:pt x="116660" y="92379"/>
                  <a:pt x="116660" y="88897"/>
                </a:cubicBezTo>
                <a:cubicBezTo>
                  <a:pt x="64486" y="3481"/>
                  <a:pt x="64486" y="3481"/>
                  <a:pt x="64486" y="3481"/>
                </a:cubicBezTo>
                <a:cubicBezTo>
                  <a:pt x="64486" y="0"/>
                  <a:pt x="55304" y="0"/>
                  <a:pt x="52173" y="3481"/>
                </a:cubicBezTo>
                <a:cubicBezTo>
                  <a:pt x="3130" y="88897"/>
                  <a:pt x="3130" y="88897"/>
                  <a:pt x="3130" y="88897"/>
                </a:cubicBezTo>
                <a:cubicBezTo>
                  <a:pt x="0" y="95628"/>
                  <a:pt x="0" y="99110"/>
                  <a:pt x="9182" y="99110"/>
                </a:cubicBezTo>
                <a:close/>
                <a:moveTo>
                  <a:pt x="58434" y="13694"/>
                </a:moveTo>
                <a:lnTo>
                  <a:pt x="58434" y="13694"/>
                </a:lnTo>
                <a:cubicBezTo>
                  <a:pt x="104556" y="92379"/>
                  <a:pt x="104556" y="92379"/>
                  <a:pt x="104556" y="92379"/>
                </a:cubicBezTo>
                <a:cubicBezTo>
                  <a:pt x="12313" y="92379"/>
                  <a:pt x="12313" y="92379"/>
                  <a:pt x="12313" y="92379"/>
                </a:cubicBezTo>
                <a:lnTo>
                  <a:pt x="58434" y="13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Shape 4702"/>
          <p:cNvSpPr/>
          <p:nvPr/>
        </p:nvSpPr>
        <p:spPr>
          <a:xfrm>
            <a:off x="1133640" y="373068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Shape 4703"/>
          <p:cNvSpPr/>
          <p:nvPr/>
        </p:nvSpPr>
        <p:spPr>
          <a:xfrm>
            <a:off x="5553000" y="3244680"/>
            <a:ext cx="306360" cy="268560"/>
          </a:xfrm>
          <a:custGeom>
            <a:avLst/>
            <a:gdLst>
              <a:gd name="textAreaLeft" fmla="*/ 0 w 306360"/>
              <a:gd name="textAreaRight" fmla="*/ 306720 w 3063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971" y="53475"/>
                </a:moveTo>
                <a:lnTo>
                  <a:pt x="116971" y="53475"/>
                </a:lnTo>
                <a:cubicBezTo>
                  <a:pt x="52996" y="3208"/>
                  <a:pt x="52996" y="3208"/>
                  <a:pt x="52996" y="3208"/>
                </a:cubicBezTo>
                <a:cubicBezTo>
                  <a:pt x="47318" y="0"/>
                  <a:pt x="44668" y="0"/>
                  <a:pt x="44668" y="9411"/>
                </a:cubicBezTo>
                <a:cubicBezTo>
                  <a:pt x="44668" y="31443"/>
                  <a:pt x="44668" y="31443"/>
                  <a:pt x="44668" y="31443"/>
                </a:cubicBezTo>
                <a:cubicBezTo>
                  <a:pt x="8328" y="3208"/>
                  <a:pt x="8328" y="3208"/>
                  <a:pt x="8328" y="3208"/>
                </a:cubicBezTo>
                <a:cubicBezTo>
                  <a:pt x="2839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5488" y="119786"/>
                  <a:pt x="8328" y="116577"/>
                </a:cubicBezTo>
                <a:cubicBezTo>
                  <a:pt x="44668" y="88128"/>
                  <a:pt x="44668" y="88128"/>
                  <a:pt x="44668" y="88128"/>
                </a:cubicBezTo>
                <a:cubicBezTo>
                  <a:pt x="44668" y="110160"/>
                  <a:pt x="44668" y="110160"/>
                  <a:pt x="44668" y="110160"/>
                </a:cubicBezTo>
                <a:cubicBezTo>
                  <a:pt x="44668" y="119786"/>
                  <a:pt x="50157" y="119786"/>
                  <a:pt x="52996" y="116577"/>
                </a:cubicBezTo>
                <a:cubicBezTo>
                  <a:pt x="116971" y="66096"/>
                  <a:pt x="116971" y="66096"/>
                  <a:pt x="116971" y="66096"/>
                </a:cubicBezTo>
                <a:cubicBezTo>
                  <a:pt x="119810" y="62887"/>
                  <a:pt x="119810" y="56684"/>
                  <a:pt x="116971" y="53475"/>
                </a:cubicBezTo>
                <a:close/>
                <a:moveTo>
                  <a:pt x="50157" y="107165"/>
                </a:moveTo>
                <a:lnTo>
                  <a:pt x="50157" y="107165"/>
                </a:lnTo>
                <a:cubicBezTo>
                  <a:pt x="50157" y="103957"/>
                  <a:pt x="50157" y="72513"/>
                  <a:pt x="50157" y="72513"/>
                </a:cubicBezTo>
                <a:cubicBezTo>
                  <a:pt x="5488" y="107165"/>
                  <a:pt x="5488" y="107165"/>
                  <a:pt x="5488" y="107165"/>
                </a:cubicBezTo>
                <a:cubicBezTo>
                  <a:pt x="5488" y="103957"/>
                  <a:pt x="5488" y="18823"/>
                  <a:pt x="5488" y="12620"/>
                </a:cubicBezTo>
                <a:cubicBezTo>
                  <a:pt x="50157" y="47272"/>
                  <a:pt x="50157" y="47272"/>
                  <a:pt x="50157" y="47272"/>
                </a:cubicBezTo>
                <a:cubicBezTo>
                  <a:pt x="50157" y="47272"/>
                  <a:pt x="50157" y="18823"/>
                  <a:pt x="50157" y="12620"/>
                </a:cubicBezTo>
                <a:cubicBezTo>
                  <a:pt x="111482" y="59893"/>
                  <a:pt x="111482" y="59893"/>
                  <a:pt x="111482" y="59893"/>
                </a:cubicBezTo>
                <a:lnTo>
                  <a:pt x="50157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Shape 4704"/>
          <p:cNvSpPr/>
          <p:nvPr/>
        </p:nvSpPr>
        <p:spPr>
          <a:xfrm>
            <a:off x="5081760" y="3244680"/>
            <a:ext cx="261720" cy="26856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Shape 4705"/>
          <p:cNvSpPr/>
          <p:nvPr/>
        </p:nvSpPr>
        <p:spPr>
          <a:xfrm>
            <a:off x="4627440" y="3244680"/>
            <a:ext cx="190800" cy="268560"/>
          </a:xfrm>
          <a:custGeom>
            <a:avLst/>
            <a:gdLst>
              <a:gd name="textAreaLeft" fmla="*/ 0 w 190800"/>
              <a:gd name="textAreaRight" fmla="*/ 191160 w 19080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06466" y="0"/>
                </a:moveTo>
                <a:lnTo>
                  <a:pt x="106466" y="0"/>
                </a:lnTo>
                <a:cubicBezTo>
                  <a:pt x="84210" y="0"/>
                  <a:pt x="84210" y="0"/>
                  <a:pt x="84210" y="0"/>
                </a:cubicBezTo>
                <a:cubicBezTo>
                  <a:pt x="75488" y="0"/>
                  <a:pt x="70977" y="6417"/>
                  <a:pt x="70977" y="9411"/>
                </a:cubicBezTo>
                <a:cubicBezTo>
                  <a:pt x="70977" y="110160"/>
                  <a:pt x="70977" y="110160"/>
                  <a:pt x="70977" y="110160"/>
                </a:cubicBezTo>
                <a:cubicBezTo>
                  <a:pt x="70977" y="113368"/>
                  <a:pt x="75488" y="119786"/>
                  <a:pt x="84210" y="119786"/>
                </a:cubicBezTo>
                <a:cubicBezTo>
                  <a:pt x="106466" y="119786"/>
                  <a:pt x="106466" y="119786"/>
                  <a:pt x="106466" y="119786"/>
                </a:cubicBezTo>
                <a:cubicBezTo>
                  <a:pt x="110676" y="119786"/>
                  <a:pt x="119699" y="113368"/>
                  <a:pt x="119699" y="110160"/>
                </a:cubicBezTo>
                <a:cubicBezTo>
                  <a:pt x="119699" y="9411"/>
                  <a:pt x="119699" y="9411"/>
                  <a:pt x="119699" y="9411"/>
                </a:cubicBezTo>
                <a:cubicBezTo>
                  <a:pt x="119699" y="6417"/>
                  <a:pt x="110676" y="0"/>
                  <a:pt x="106466" y="0"/>
                </a:cubicBezTo>
                <a:close/>
                <a:moveTo>
                  <a:pt x="106466" y="107165"/>
                </a:moveTo>
                <a:lnTo>
                  <a:pt x="106466" y="107165"/>
                </a:lnTo>
                <a:lnTo>
                  <a:pt x="101954" y="110160"/>
                </a:lnTo>
                <a:cubicBezTo>
                  <a:pt x="88721" y="110160"/>
                  <a:pt x="88721" y="110160"/>
                  <a:pt x="88721" y="110160"/>
                </a:cubicBezTo>
                <a:cubicBezTo>
                  <a:pt x="84210" y="110160"/>
                  <a:pt x="84210" y="107165"/>
                  <a:pt x="84210" y="107165"/>
                </a:cubicBezTo>
                <a:cubicBezTo>
                  <a:pt x="84210" y="12620"/>
                  <a:pt x="84210" y="12620"/>
                  <a:pt x="84210" y="12620"/>
                </a:cubicBezTo>
                <a:cubicBezTo>
                  <a:pt x="84210" y="12620"/>
                  <a:pt x="84210" y="9411"/>
                  <a:pt x="88721" y="9411"/>
                </a:cubicBezTo>
                <a:cubicBezTo>
                  <a:pt x="101954" y="9411"/>
                  <a:pt x="101954" y="9411"/>
                  <a:pt x="101954" y="9411"/>
                </a:cubicBezTo>
                <a:lnTo>
                  <a:pt x="106466" y="12620"/>
                </a:lnTo>
                <a:lnTo>
                  <a:pt x="106466" y="107165"/>
                </a:lnTo>
                <a:close/>
                <a:moveTo>
                  <a:pt x="35488" y="0"/>
                </a:moveTo>
                <a:lnTo>
                  <a:pt x="35488" y="0"/>
                </a:lnTo>
                <a:cubicBezTo>
                  <a:pt x="13533" y="0"/>
                  <a:pt x="13533" y="0"/>
                  <a:pt x="13533" y="0"/>
                </a:cubicBezTo>
                <a:cubicBezTo>
                  <a:pt x="4511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4511" y="119786"/>
                  <a:pt x="13533" y="119786"/>
                </a:cubicBezTo>
                <a:cubicBezTo>
                  <a:pt x="35488" y="119786"/>
                  <a:pt x="35488" y="119786"/>
                  <a:pt x="35488" y="119786"/>
                </a:cubicBezTo>
                <a:cubicBezTo>
                  <a:pt x="40000" y="119786"/>
                  <a:pt x="48721" y="113368"/>
                  <a:pt x="48721" y="110160"/>
                </a:cubicBezTo>
                <a:cubicBezTo>
                  <a:pt x="48721" y="9411"/>
                  <a:pt x="48721" y="9411"/>
                  <a:pt x="48721" y="9411"/>
                </a:cubicBezTo>
                <a:cubicBezTo>
                  <a:pt x="48721" y="6417"/>
                  <a:pt x="40000" y="0"/>
                  <a:pt x="35488" y="0"/>
                </a:cubicBezTo>
                <a:close/>
                <a:moveTo>
                  <a:pt x="35488" y="107165"/>
                </a:moveTo>
                <a:lnTo>
                  <a:pt x="35488" y="107165"/>
                </a:lnTo>
                <a:lnTo>
                  <a:pt x="31278" y="110160"/>
                </a:lnTo>
                <a:cubicBezTo>
                  <a:pt x="17744" y="110160"/>
                  <a:pt x="17744" y="110160"/>
                  <a:pt x="17744" y="110160"/>
                </a:cubicBezTo>
                <a:cubicBezTo>
                  <a:pt x="13533" y="110160"/>
                  <a:pt x="13533" y="107165"/>
                  <a:pt x="13533" y="107165"/>
                </a:cubicBezTo>
                <a:cubicBezTo>
                  <a:pt x="13533" y="12620"/>
                  <a:pt x="13533" y="12620"/>
                  <a:pt x="13533" y="12620"/>
                </a:cubicBezTo>
                <a:cubicBezTo>
                  <a:pt x="13533" y="12620"/>
                  <a:pt x="13533" y="9411"/>
                  <a:pt x="17744" y="9411"/>
                </a:cubicBezTo>
                <a:cubicBezTo>
                  <a:pt x="31278" y="9411"/>
                  <a:pt x="31278" y="9411"/>
                  <a:pt x="31278" y="9411"/>
                </a:cubicBezTo>
                <a:lnTo>
                  <a:pt x="35488" y="12620"/>
                </a:lnTo>
                <a:lnTo>
                  <a:pt x="35488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Shape 4706"/>
          <p:cNvSpPr/>
          <p:nvPr/>
        </p:nvSpPr>
        <p:spPr>
          <a:xfrm>
            <a:off x="4124160" y="3244680"/>
            <a:ext cx="212760" cy="268560"/>
          </a:xfrm>
          <a:custGeom>
            <a:avLst/>
            <a:gdLst>
              <a:gd name="textAreaLeft" fmla="*/ 0 w 212760"/>
              <a:gd name="textAreaRight" fmla="*/ 213120 w 2127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Shape 4707"/>
          <p:cNvSpPr/>
          <p:nvPr/>
        </p:nvSpPr>
        <p:spPr>
          <a:xfrm>
            <a:off x="3603600" y="3244680"/>
            <a:ext cx="282600" cy="268560"/>
          </a:xfrm>
          <a:custGeom>
            <a:avLst/>
            <a:gdLst>
              <a:gd name="textAreaLeft" fmla="*/ 0 w 282600"/>
              <a:gd name="textAreaRight" fmla="*/ 282960 w 28260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01694" y="69304"/>
                </a:moveTo>
                <a:lnTo>
                  <a:pt x="101694" y="69304"/>
                </a:lnTo>
                <a:cubicBezTo>
                  <a:pt x="101694" y="6417"/>
                  <a:pt x="101694" y="6417"/>
                  <a:pt x="101694" y="6417"/>
                </a:cubicBezTo>
                <a:cubicBezTo>
                  <a:pt x="101694" y="3208"/>
                  <a:pt x="101694" y="0"/>
                  <a:pt x="98847" y="0"/>
                </a:cubicBezTo>
                <a:cubicBezTo>
                  <a:pt x="95796" y="0"/>
                  <a:pt x="95796" y="3208"/>
                  <a:pt x="95796" y="6417"/>
                </a:cubicBezTo>
                <a:cubicBezTo>
                  <a:pt x="95796" y="69304"/>
                  <a:pt x="95796" y="69304"/>
                  <a:pt x="95796" y="69304"/>
                </a:cubicBezTo>
                <a:cubicBezTo>
                  <a:pt x="86847" y="69304"/>
                  <a:pt x="77694" y="78716"/>
                  <a:pt x="77694" y="88128"/>
                </a:cubicBezTo>
                <a:cubicBezTo>
                  <a:pt x="77694" y="100748"/>
                  <a:pt x="86847" y="107165"/>
                  <a:pt x="95796" y="110160"/>
                </a:cubicBezTo>
                <a:cubicBezTo>
                  <a:pt x="95796" y="113368"/>
                  <a:pt x="95796" y="113368"/>
                  <a:pt x="95796" y="113368"/>
                </a:cubicBezTo>
                <a:cubicBezTo>
                  <a:pt x="95796" y="116577"/>
                  <a:pt x="95796" y="119786"/>
                  <a:pt x="98847" y="119786"/>
                </a:cubicBezTo>
                <a:cubicBezTo>
                  <a:pt x="101694" y="119786"/>
                  <a:pt x="101694" y="116577"/>
                  <a:pt x="101694" y="113368"/>
                </a:cubicBezTo>
                <a:cubicBezTo>
                  <a:pt x="101694" y="110160"/>
                  <a:pt x="101694" y="110160"/>
                  <a:pt x="101694" y="110160"/>
                </a:cubicBezTo>
                <a:cubicBezTo>
                  <a:pt x="110847" y="107165"/>
                  <a:pt x="119796" y="100748"/>
                  <a:pt x="119796" y="88128"/>
                </a:cubicBezTo>
                <a:cubicBezTo>
                  <a:pt x="119796" y="78716"/>
                  <a:pt x="110847" y="69304"/>
                  <a:pt x="101694" y="69304"/>
                </a:cubicBezTo>
                <a:close/>
                <a:moveTo>
                  <a:pt x="98847" y="100748"/>
                </a:moveTo>
                <a:lnTo>
                  <a:pt x="98847" y="100748"/>
                </a:lnTo>
                <a:cubicBezTo>
                  <a:pt x="92745" y="100748"/>
                  <a:pt x="86847" y="97540"/>
                  <a:pt x="86847" y="88128"/>
                </a:cubicBezTo>
                <a:cubicBezTo>
                  <a:pt x="86847" y="81925"/>
                  <a:pt x="92745" y="75508"/>
                  <a:pt x="98847" y="75508"/>
                </a:cubicBezTo>
                <a:cubicBezTo>
                  <a:pt x="104745" y="75508"/>
                  <a:pt x="110847" y="81925"/>
                  <a:pt x="110847" y="88128"/>
                </a:cubicBezTo>
                <a:cubicBezTo>
                  <a:pt x="110847" y="97540"/>
                  <a:pt x="104745" y="100748"/>
                  <a:pt x="98847" y="100748"/>
                </a:cubicBezTo>
                <a:close/>
                <a:moveTo>
                  <a:pt x="62847" y="9411"/>
                </a:moveTo>
                <a:lnTo>
                  <a:pt x="62847" y="9411"/>
                </a:lnTo>
                <a:cubicBezTo>
                  <a:pt x="62847" y="6417"/>
                  <a:pt x="62847" y="6417"/>
                  <a:pt x="62847" y="6417"/>
                </a:cubicBezTo>
                <a:cubicBezTo>
                  <a:pt x="62847" y="3208"/>
                  <a:pt x="59796" y="0"/>
                  <a:pt x="59796" y="0"/>
                </a:cubicBezTo>
                <a:cubicBezTo>
                  <a:pt x="56949" y="0"/>
                  <a:pt x="53898" y="3208"/>
                  <a:pt x="53898" y="6417"/>
                </a:cubicBezTo>
                <a:cubicBezTo>
                  <a:pt x="53898" y="9411"/>
                  <a:pt x="53898" y="9411"/>
                  <a:pt x="53898" y="9411"/>
                </a:cubicBezTo>
                <a:cubicBezTo>
                  <a:pt x="44949" y="12620"/>
                  <a:pt x="38847" y="18823"/>
                  <a:pt x="38847" y="31443"/>
                </a:cubicBezTo>
                <a:cubicBezTo>
                  <a:pt x="38847" y="41069"/>
                  <a:pt x="44949" y="50267"/>
                  <a:pt x="53898" y="50267"/>
                </a:cubicBezTo>
                <a:cubicBezTo>
                  <a:pt x="53898" y="113368"/>
                  <a:pt x="53898" y="113368"/>
                  <a:pt x="53898" y="113368"/>
                </a:cubicBezTo>
                <a:cubicBezTo>
                  <a:pt x="53898" y="116577"/>
                  <a:pt x="56949" y="119786"/>
                  <a:pt x="59796" y="119786"/>
                </a:cubicBezTo>
                <a:cubicBezTo>
                  <a:pt x="59796" y="119786"/>
                  <a:pt x="62847" y="116577"/>
                  <a:pt x="62847" y="113368"/>
                </a:cubicBezTo>
                <a:cubicBezTo>
                  <a:pt x="62847" y="50267"/>
                  <a:pt x="62847" y="50267"/>
                  <a:pt x="62847" y="50267"/>
                </a:cubicBezTo>
                <a:cubicBezTo>
                  <a:pt x="71796" y="50267"/>
                  <a:pt x="77694" y="41069"/>
                  <a:pt x="77694" y="31443"/>
                </a:cubicBezTo>
                <a:cubicBezTo>
                  <a:pt x="77694" y="18823"/>
                  <a:pt x="71796" y="12620"/>
                  <a:pt x="62847" y="9411"/>
                </a:cubicBezTo>
                <a:close/>
                <a:moveTo>
                  <a:pt x="59796" y="44064"/>
                </a:moveTo>
                <a:lnTo>
                  <a:pt x="59796" y="44064"/>
                </a:lnTo>
                <a:cubicBezTo>
                  <a:pt x="50847" y="44064"/>
                  <a:pt x="47796" y="37860"/>
                  <a:pt x="47796" y="31443"/>
                </a:cubicBezTo>
                <a:cubicBezTo>
                  <a:pt x="47796" y="22032"/>
                  <a:pt x="50847" y="18823"/>
                  <a:pt x="59796" y="18823"/>
                </a:cubicBezTo>
                <a:cubicBezTo>
                  <a:pt x="65898" y="18823"/>
                  <a:pt x="71796" y="22032"/>
                  <a:pt x="71796" y="31443"/>
                </a:cubicBezTo>
                <a:cubicBezTo>
                  <a:pt x="71796" y="37860"/>
                  <a:pt x="65898" y="44064"/>
                  <a:pt x="59796" y="44064"/>
                </a:cubicBezTo>
                <a:close/>
                <a:moveTo>
                  <a:pt x="24000" y="50267"/>
                </a:moveTo>
                <a:lnTo>
                  <a:pt x="24000" y="50267"/>
                </a:lnTo>
                <a:cubicBezTo>
                  <a:pt x="24000" y="6417"/>
                  <a:pt x="24000" y="6417"/>
                  <a:pt x="24000" y="6417"/>
                </a:cubicBezTo>
                <a:cubicBezTo>
                  <a:pt x="24000" y="3208"/>
                  <a:pt x="20949" y="0"/>
                  <a:pt x="17898" y="0"/>
                </a:cubicBezTo>
                <a:cubicBezTo>
                  <a:pt x="17898" y="0"/>
                  <a:pt x="14847" y="3208"/>
                  <a:pt x="14847" y="6417"/>
                </a:cubicBezTo>
                <a:cubicBezTo>
                  <a:pt x="14847" y="50267"/>
                  <a:pt x="14847" y="50267"/>
                  <a:pt x="14847" y="50267"/>
                </a:cubicBezTo>
                <a:cubicBezTo>
                  <a:pt x="5898" y="53475"/>
                  <a:pt x="0" y="62887"/>
                  <a:pt x="0" y="72513"/>
                </a:cubicBezTo>
                <a:cubicBezTo>
                  <a:pt x="0" y="81925"/>
                  <a:pt x="5898" y="91336"/>
                  <a:pt x="14847" y="94545"/>
                </a:cubicBezTo>
                <a:cubicBezTo>
                  <a:pt x="14847" y="113368"/>
                  <a:pt x="14847" y="113368"/>
                  <a:pt x="14847" y="113368"/>
                </a:cubicBezTo>
                <a:cubicBezTo>
                  <a:pt x="14847" y="116577"/>
                  <a:pt x="17898" y="119786"/>
                  <a:pt x="17898" y="119786"/>
                </a:cubicBezTo>
                <a:cubicBezTo>
                  <a:pt x="20949" y="119786"/>
                  <a:pt x="24000" y="116577"/>
                  <a:pt x="24000" y="113368"/>
                </a:cubicBezTo>
                <a:cubicBezTo>
                  <a:pt x="24000" y="94545"/>
                  <a:pt x="24000" y="94545"/>
                  <a:pt x="24000" y="94545"/>
                </a:cubicBezTo>
                <a:cubicBezTo>
                  <a:pt x="32949" y="91336"/>
                  <a:pt x="38847" y="81925"/>
                  <a:pt x="38847" y="72513"/>
                </a:cubicBezTo>
                <a:cubicBezTo>
                  <a:pt x="38847" y="62887"/>
                  <a:pt x="32949" y="53475"/>
                  <a:pt x="24000" y="50267"/>
                </a:cubicBezTo>
                <a:close/>
                <a:moveTo>
                  <a:pt x="17898" y="84919"/>
                </a:moveTo>
                <a:lnTo>
                  <a:pt x="17898" y="84919"/>
                </a:lnTo>
                <a:cubicBezTo>
                  <a:pt x="12000" y="84919"/>
                  <a:pt x="5898" y="78716"/>
                  <a:pt x="5898" y="72513"/>
                </a:cubicBezTo>
                <a:cubicBezTo>
                  <a:pt x="5898" y="66096"/>
                  <a:pt x="12000" y="59893"/>
                  <a:pt x="17898" y="59893"/>
                </a:cubicBezTo>
                <a:cubicBezTo>
                  <a:pt x="26847" y="59893"/>
                  <a:pt x="29898" y="66096"/>
                  <a:pt x="29898" y="72513"/>
                </a:cubicBezTo>
                <a:cubicBezTo>
                  <a:pt x="29898" y="78716"/>
                  <a:pt x="26847" y="84919"/>
                  <a:pt x="17898" y="8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Shape 4708"/>
          <p:cNvSpPr/>
          <p:nvPr/>
        </p:nvSpPr>
        <p:spPr>
          <a:xfrm>
            <a:off x="3105000" y="326556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Shape 4709"/>
          <p:cNvSpPr/>
          <p:nvPr/>
        </p:nvSpPr>
        <p:spPr>
          <a:xfrm>
            <a:off x="2612880" y="3244680"/>
            <a:ext cx="289080" cy="268560"/>
          </a:xfrm>
          <a:custGeom>
            <a:avLst/>
            <a:gdLst>
              <a:gd name="textAreaLeft" fmla="*/ 0 w 289080"/>
              <a:gd name="textAreaRight" fmla="*/ 289440 w 28908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73112" y="0"/>
                </a:moveTo>
                <a:lnTo>
                  <a:pt x="73112" y="0"/>
                </a:lnTo>
                <a:cubicBezTo>
                  <a:pt x="73112" y="9411"/>
                  <a:pt x="73112" y="9411"/>
                  <a:pt x="73112" y="9411"/>
                </a:cubicBezTo>
                <a:cubicBezTo>
                  <a:pt x="96556" y="15828"/>
                  <a:pt x="111059" y="34652"/>
                  <a:pt x="111059" y="59893"/>
                </a:cubicBezTo>
                <a:cubicBezTo>
                  <a:pt x="111059" y="84919"/>
                  <a:pt x="96556" y="103957"/>
                  <a:pt x="73112" y="110160"/>
                </a:cubicBezTo>
                <a:cubicBezTo>
                  <a:pt x="73112" y="119786"/>
                  <a:pt x="73112" y="119786"/>
                  <a:pt x="73112" y="119786"/>
                </a:cubicBezTo>
                <a:cubicBezTo>
                  <a:pt x="99337" y="113368"/>
                  <a:pt x="119801" y="91336"/>
                  <a:pt x="119801" y="59893"/>
                </a:cubicBezTo>
                <a:cubicBezTo>
                  <a:pt x="119801" y="28449"/>
                  <a:pt x="99337" y="6417"/>
                  <a:pt x="73112" y="0"/>
                </a:cubicBezTo>
                <a:close/>
                <a:moveTo>
                  <a:pt x="96556" y="59893"/>
                </a:moveTo>
                <a:lnTo>
                  <a:pt x="96556" y="59893"/>
                </a:lnTo>
                <a:cubicBezTo>
                  <a:pt x="96556" y="44064"/>
                  <a:pt x="87615" y="31443"/>
                  <a:pt x="73112" y="31443"/>
                </a:cubicBezTo>
                <a:cubicBezTo>
                  <a:pt x="73112" y="37860"/>
                  <a:pt x="73112" y="37860"/>
                  <a:pt x="73112" y="37860"/>
                </a:cubicBezTo>
                <a:cubicBezTo>
                  <a:pt x="81854" y="41069"/>
                  <a:pt x="87615" y="50267"/>
                  <a:pt x="87615" y="59893"/>
                </a:cubicBezTo>
                <a:cubicBezTo>
                  <a:pt x="87615" y="69304"/>
                  <a:pt x="81854" y="78716"/>
                  <a:pt x="73112" y="81925"/>
                </a:cubicBezTo>
                <a:cubicBezTo>
                  <a:pt x="73112" y="88128"/>
                  <a:pt x="73112" y="88128"/>
                  <a:pt x="73112" y="88128"/>
                </a:cubicBezTo>
                <a:cubicBezTo>
                  <a:pt x="87615" y="88128"/>
                  <a:pt x="96556" y="75508"/>
                  <a:pt x="96556" y="59893"/>
                </a:cubicBezTo>
                <a:close/>
                <a:moveTo>
                  <a:pt x="52649" y="9411"/>
                </a:moveTo>
                <a:lnTo>
                  <a:pt x="52649" y="9411"/>
                </a:lnTo>
                <a:cubicBezTo>
                  <a:pt x="17483" y="34652"/>
                  <a:pt x="17483" y="34652"/>
                  <a:pt x="17483" y="34652"/>
                </a:cubicBezTo>
                <a:cubicBezTo>
                  <a:pt x="5761" y="34652"/>
                  <a:pt x="5761" y="34652"/>
                  <a:pt x="5761" y="34652"/>
                </a:cubicBezTo>
                <a:cubicBezTo>
                  <a:pt x="2980" y="34652"/>
                  <a:pt x="0" y="37860"/>
                  <a:pt x="0" y="44064"/>
                </a:cubicBezTo>
                <a:cubicBezTo>
                  <a:pt x="0" y="75508"/>
                  <a:pt x="0" y="75508"/>
                  <a:pt x="0" y="75508"/>
                </a:cubicBezTo>
                <a:cubicBezTo>
                  <a:pt x="0" y="81925"/>
                  <a:pt x="2980" y="84919"/>
                  <a:pt x="5761" y="84919"/>
                </a:cubicBezTo>
                <a:cubicBezTo>
                  <a:pt x="17483" y="84919"/>
                  <a:pt x="17483" y="84919"/>
                  <a:pt x="17483" y="84919"/>
                </a:cubicBezTo>
                <a:cubicBezTo>
                  <a:pt x="52649" y="110160"/>
                  <a:pt x="52649" y="110160"/>
                  <a:pt x="52649" y="110160"/>
                </a:cubicBezTo>
                <a:cubicBezTo>
                  <a:pt x="58410" y="110160"/>
                  <a:pt x="61390" y="107165"/>
                  <a:pt x="61390" y="100748"/>
                </a:cubicBezTo>
                <a:cubicBezTo>
                  <a:pt x="61390" y="18823"/>
                  <a:pt x="61390" y="18823"/>
                  <a:pt x="61390" y="18823"/>
                </a:cubicBezTo>
                <a:cubicBezTo>
                  <a:pt x="61390" y="12620"/>
                  <a:pt x="58410" y="9411"/>
                  <a:pt x="52649" y="9411"/>
                </a:cubicBezTo>
                <a:close/>
                <a:moveTo>
                  <a:pt x="17483" y="72513"/>
                </a:moveTo>
                <a:lnTo>
                  <a:pt x="17483" y="72513"/>
                </a:lnTo>
                <a:cubicBezTo>
                  <a:pt x="17483" y="75508"/>
                  <a:pt x="17483" y="75508"/>
                  <a:pt x="14503" y="75508"/>
                </a:cubicBezTo>
                <a:cubicBezTo>
                  <a:pt x="11721" y="75508"/>
                  <a:pt x="11721" y="75508"/>
                  <a:pt x="11721" y="75508"/>
                </a:cubicBezTo>
                <a:cubicBezTo>
                  <a:pt x="8741" y="75508"/>
                  <a:pt x="5761" y="75508"/>
                  <a:pt x="5761" y="72513"/>
                </a:cubicBezTo>
                <a:cubicBezTo>
                  <a:pt x="5761" y="47272"/>
                  <a:pt x="5761" y="47272"/>
                  <a:pt x="5761" y="47272"/>
                </a:cubicBezTo>
                <a:cubicBezTo>
                  <a:pt x="5761" y="44064"/>
                  <a:pt x="8741" y="44064"/>
                  <a:pt x="11721" y="44064"/>
                </a:cubicBezTo>
                <a:cubicBezTo>
                  <a:pt x="14503" y="44064"/>
                  <a:pt x="14503" y="44064"/>
                  <a:pt x="14503" y="44064"/>
                </a:cubicBezTo>
                <a:cubicBezTo>
                  <a:pt x="17483" y="44064"/>
                  <a:pt x="17483" y="44064"/>
                  <a:pt x="17483" y="47272"/>
                </a:cubicBezTo>
                <a:lnTo>
                  <a:pt x="17483" y="72513"/>
                </a:lnTo>
                <a:close/>
                <a:moveTo>
                  <a:pt x="52649" y="100748"/>
                </a:moveTo>
                <a:lnTo>
                  <a:pt x="52649" y="100748"/>
                </a:lnTo>
                <a:cubicBezTo>
                  <a:pt x="26225" y="81925"/>
                  <a:pt x="26225" y="81925"/>
                  <a:pt x="26225" y="81925"/>
                </a:cubicBezTo>
                <a:cubicBezTo>
                  <a:pt x="26225" y="75508"/>
                  <a:pt x="26225" y="41069"/>
                  <a:pt x="26225" y="34652"/>
                </a:cubicBezTo>
                <a:cubicBezTo>
                  <a:pt x="52649" y="18823"/>
                  <a:pt x="52649" y="18823"/>
                  <a:pt x="52649" y="18823"/>
                </a:cubicBezTo>
                <a:cubicBezTo>
                  <a:pt x="52649" y="22032"/>
                  <a:pt x="52649" y="97540"/>
                  <a:pt x="52649" y="1007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Shape 4710"/>
          <p:cNvSpPr/>
          <p:nvPr/>
        </p:nvSpPr>
        <p:spPr>
          <a:xfrm>
            <a:off x="2144880" y="326556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Shape 4711"/>
          <p:cNvSpPr/>
          <p:nvPr/>
        </p:nvSpPr>
        <p:spPr>
          <a:xfrm>
            <a:off x="1692360" y="3265560"/>
            <a:ext cx="156960" cy="225360"/>
          </a:xfrm>
          <a:custGeom>
            <a:avLst/>
            <a:gdLst>
              <a:gd name="textAreaLeft" fmla="*/ 0 w 156960"/>
              <a:gd name="textAreaRight" fmla="*/ 157320 w 1569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3384" y="0"/>
                </a:moveTo>
                <a:lnTo>
                  <a:pt x="103384" y="0"/>
                </a:lnTo>
                <a:cubicBezTo>
                  <a:pt x="38030" y="30000"/>
                  <a:pt x="38030" y="30000"/>
                  <a:pt x="38030" y="30000"/>
                </a:cubicBezTo>
                <a:cubicBezTo>
                  <a:pt x="16246" y="30000"/>
                  <a:pt x="16246" y="30000"/>
                  <a:pt x="16246" y="30000"/>
                </a:cubicBezTo>
                <a:cubicBezTo>
                  <a:pt x="11076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11076" y="89745"/>
                  <a:pt x="16246" y="89745"/>
                </a:cubicBezTo>
                <a:cubicBezTo>
                  <a:pt x="38030" y="89745"/>
                  <a:pt x="38030" y="89745"/>
                  <a:pt x="38030" y="89745"/>
                </a:cubicBezTo>
                <a:cubicBezTo>
                  <a:pt x="103384" y="119745"/>
                  <a:pt x="103384" y="119745"/>
                  <a:pt x="103384" y="119745"/>
                </a:cubicBezTo>
                <a:cubicBezTo>
                  <a:pt x="108553" y="119745"/>
                  <a:pt x="119630" y="116186"/>
                  <a:pt x="119630" y="108559"/>
                </a:cubicBezTo>
                <a:cubicBezTo>
                  <a:pt x="119630" y="11186"/>
                  <a:pt x="119630" y="11186"/>
                  <a:pt x="119630" y="11186"/>
                </a:cubicBezTo>
                <a:cubicBezTo>
                  <a:pt x="119630" y="3813"/>
                  <a:pt x="108553" y="0"/>
                  <a:pt x="103384" y="0"/>
                </a:cubicBezTo>
                <a:close/>
                <a:moveTo>
                  <a:pt x="38030" y="75000"/>
                </a:moveTo>
                <a:lnTo>
                  <a:pt x="38030" y="75000"/>
                </a:lnTo>
                <a:cubicBezTo>
                  <a:pt x="38030" y="78559"/>
                  <a:pt x="32492" y="78559"/>
                  <a:pt x="32492" y="78559"/>
                </a:cubicBezTo>
                <a:cubicBezTo>
                  <a:pt x="21784" y="78559"/>
                  <a:pt x="21784" y="78559"/>
                  <a:pt x="21784" y="78559"/>
                </a:cubicBezTo>
                <a:cubicBezTo>
                  <a:pt x="21784" y="78559"/>
                  <a:pt x="16246" y="78559"/>
                  <a:pt x="16246" y="75000"/>
                </a:cubicBezTo>
                <a:cubicBezTo>
                  <a:pt x="16246" y="45000"/>
                  <a:pt x="16246" y="45000"/>
                  <a:pt x="16246" y="45000"/>
                </a:cubicBezTo>
                <a:cubicBezTo>
                  <a:pt x="16246" y="41186"/>
                  <a:pt x="21784" y="41186"/>
                  <a:pt x="21784" y="41186"/>
                </a:cubicBezTo>
                <a:cubicBezTo>
                  <a:pt x="32492" y="41186"/>
                  <a:pt x="32492" y="41186"/>
                  <a:pt x="32492" y="41186"/>
                </a:cubicBezTo>
                <a:cubicBezTo>
                  <a:pt x="32492" y="41186"/>
                  <a:pt x="38030" y="41186"/>
                  <a:pt x="38030" y="45000"/>
                </a:cubicBezTo>
                <a:lnTo>
                  <a:pt x="38030" y="75000"/>
                </a:lnTo>
                <a:close/>
                <a:moveTo>
                  <a:pt x="103384" y="108559"/>
                </a:moveTo>
                <a:lnTo>
                  <a:pt x="103384" y="108559"/>
                </a:lnTo>
                <a:cubicBezTo>
                  <a:pt x="54276" y="86186"/>
                  <a:pt x="54276" y="86186"/>
                  <a:pt x="54276" y="86186"/>
                </a:cubicBezTo>
                <a:cubicBezTo>
                  <a:pt x="54276" y="78559"/>
                  <a:pt x="54276" y="37627"/>
                  <a:pt x="54276" y="30000"/>
                </a:cubicBezTo>
                <a:cubicBezTo>
                  <a:pt x="103384" y="11186"/>
                  <a:pt x="103384" y="11186"/>
                  <a:pt x="103384" y="11186"/>
                </a:cubicBezTo>
                <a:cubicBezTo>
                  <a:pt x="103384" y="15000"/>
                  <a:pt x="103384" y="104745"/>
                  <a:pt x="103384" y="10855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Shape 4712"/>
          <p:cNvSpPr/>
          <p:nvPr/>
        </p:nvSpPr>
        <p:spPr>
          <a:xfrm>
            <a:off x="1176480" y="322884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Shape 4713"/>
          <p:cNvSpPr/>
          <p:nvPr/>
        </p:nvSpPr>
        <p:spPr>
          <a:xfrm>
            <a:off x="5553000" y="273528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2746" y="97476"/>
                </a:moveTo>
                <a:lnTo>
                  <a:pt x="102746" y="97476"/>
                </a:lnTo>
                <a:cubicBezTo>
                  <a:pt x="99838" y="97476"/>
                  <a:pt x="96930" y="100315"/>
                  <a:pt x="96930" y="100315"/>
                </a:cubicBezTo>
                <a:cubicBezTo>
                  <a:pt x="96930" y="103154"/>
                  <a:pt x="99838" y="105993"/>
                  <a:pt x="102746" y="105993"/>
                </a:cubicBezTo>
                <a:cubicBezTo>
                  <a:pt x="102746" y="105993"/>
                  <a:pt x="105654" y="103154"/>
                  <a:pt x="105654" y="100315"/>
                </a:cubicBezTo>
                <a:lnTo>
                  <a:pt x="102746" y="97476"/>
                </a:lnTo>
                <a:close/>
                <a:moveTo>
                  <a:pt x="17059" y="22334"/>
                </a:moveTo>
                <a:lnTo>
                  <a:pt x="17059" y="22334"/>
                </a:lnTo>
                <a:cubicBezTo>
                  <a:pt x="19967" y="22334"/>
                  <a:pt x="22875" y="22334"/>
                  <a:pt x="22875" y="19495"/>
                </a:cubicBezTo>
                <a:cubicBezTo>
                  <a:pt x="22875" y="16656"/>
                  <a:pt x="19967" y="16656"/>
                  <a:pt x="17059" y="16656"/>
                </a:cubicBezTo>
                <a:cubicBezTo>
                  <a:pt x="17059" y="16656"/>
                  <a:pt x="14345" y="16656"/>
                  <a:pt x="14345" y="19495"/>
                </a:cubicBezTo>
                <a:cubicBezTo>
                  <a:pt x="14345" y="22334"/>
                  <a:pt x="17059" y="22334"/>
                  <a:pt x="17059" y="22334"/>
                </a:cubicBezTo>
                <a:close/>
                <a:moveTo>
                  <a:pt x="17059" y="97476"/>
                </a:moveTo>
                <a:lnTo>
                  <a:pt x="17059" y="97476"/>
                </a:lnTo>
                <a:lnTo>
                  <a:pt x="14345" y="100315"/>
                </a:lnTo>
                <a:cubicBezTo>
                  <a:pt x="14345" y="103154"/>
                  <a:pt x="17059" y="105993"/>
                  <a:pt x="17059" y="105993"/>
                </a:cubicBezTo>
                <a:cubicBezTo>
                  <a:pt x="19967" y="105993"/>
                  <a:pt x="22875" y="103154"/>
                  <a:pt x="22875" y="100315"/>
                </a:cubicBezTo>
                <a:cubicBezTo>
                  <a:pt x="22875" y="100315"/>
                  <a:pt x="19967" y="97476"/>
                  <a:pt x="17059" y="97476"/>
                </a:cubicBezTo>
                <a:close/>
                <a:moveTo>
                  <a:pt x="59903" y="16656"/>
                </a:moveTo>
                <a:lnTo>
                  <a:pt x="59903" y="16656"/>
                </a:lnTo>
                <a:cubicBezTo>
                  <a:pt x="34313" y="16656"/>
                  <a:pt x="14345" y="36340"/>
                  <a:pt x="14345" y="61324"/>
                </a:cubicBezTo>
                <a:cubicBezTo>
                  <a:pt x="14345" y="86309"/>
                  <a:pt x="34313" y="105993"/>
                  <a:pt x="59903" y="105993"/>
                </a:cubicBezTo>
                <a:cubicBezTo>
                  <a:pt x="85492" y="105993"/>
                  <a:pt x="105654" y="86309"/>
                  <a:pt x="105654" y="61324"/>
                </a:cubicBezTo>
                <a:cubicBezTo>
                  <a:pt x="105654" y="36340"/>
                  <a:pt x="85492" y="16656"/>
                  <a:pt x="59903" y="16656"/>
                </a:cubicBezTo>
                <a:close/>
                <a:moveTo>
                  <a:pt x="59903" y="97476"/>
                </a:moveTo>
                <a:lnTo>
                  <a:pt x="59903" y="97476"/>
                </a:lnTo>
                <a:cubicBezTo>
                  <a:pt x="39935" y="97476"/>
                  <a:pt x="22875" y="80820"/>
                  <a:pt x="22875" y="61324"/>
                </a:cubicBezTo>
                <a:cubicBezTo>
                  <a:pt x="22875" y="38990"/>
                  <a:pt x="39935" y="22334"/>
                  <a:pt x="59903" y="22334"/>
                </a:cubicBezTo>
                <a:cubicBezTo>
                  <a:pt x="79870" y="22334"/>
                  <a:pt x="96930" y="38990"/>
                  <a:pt x="96930" y="61324"/>
                </a:cubicBezTo>
                <a:cubicBezTo>
                  <a:pt x="96930" y="80820"/>
                  <a:pt x="79870" y="97476"/>
                  <a:pt x="59903" y="97476"/>
                </a:cubicBezTo>
                <a:close/>
                <a:moveTo>
                  <a:pt x="59903" y="38990"/>
                </a:moveTo>
                <a:lnTo>
                  <a:pt x="59903" y="38990"/>
                </a:lnTo>
                <a:cubicBezTo>
                  <a:pt x="48465" y="38990"/>
                  <a:pt x="37027" y="47507"/>
                  <a:pt x="37027" y="61324"/>
                </a:cubicBezTo>
                <a:cubicBezTo>
                  <a:pt x="37027" y="72492"/>
                  <a:pt x="48465" y="83659"/>
                  <a:pt x="59903" y="83659"/>
                </a:cubicBezTo>
                <a:cubicBezTo>
                  <a:pt x="71340" y="83659"/>
                  <a:pt x="82778" y="72492"/>
                  <a:pt x="82778" y="61324"/>
                </a:cubicBezTo>
                <a:cubicBezTo>
                  <a:pt x="82778" y="47507"/>
                  <a:pt x="71340" y="38990"/>
                  <a:pt x="59903" y="38990"/>
                </a:cubicBezTo>
                <a:close/>
                <a:moveTo>
                  <a:pt x="59903" y="75331"/>
                </a:moveTo>
                <a:lnTo>
                  <a:pt x="59903" y="75331"/>
                </a:lnTo>
                <a:cubicBezTo>
                  <a:pt x="51373" y="75331"/>
                  <a:pt x="45751" y="69652"/>
                  <a:pt x="45751" y="61324"/>
                </a:cubicBezTo>
                <a:cubicBezTo>
                  <a:pt x="45751" y="52996"/>
                  <a:pt x="51373" y="44479"/>
                  <a:pt x="59903" y="44479"/>
                </a:cubicBezTo>
                <a:cubicBezTo>
                  <a:pt x="68432" y="44479"/>
                  <a:pt x="74248" y="52996"/>
                  <a:pt x="74248" y="61324"/>
                </a:cubicBezTo>
                <a:cubicBezTo>
                  <a:pt x="74248" y="69652"/>
                  <a:pt x="68432" y="75331"/>
                  <a:pt x="59903" y="75331"/>
                </a:cubicBezTo>
                <a:close/>
                <a:moveTo>
                  <a:pt x="105654" y="0"/>
                </a:moveTo>
                <a:lnTo>
                  <a:pt x="105654" y="0"/>
                </a:lnTo>
                <a:cubicBezTo>
                  <a:pt x="14345" y="0"/>
                  <a:pt x="14345" y="0"/>
                  <a:pt x="14345" y="0"/>
                </a:cubicBezTo>
                <a:cubicBezTo>
                  <a:pt x="5621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345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656"/>
                  <a:pt x="119806" y="16656"/>
                  <a:pt x="119806" y="16656"/>
                </a:cubicBezTo>
                <a:cubicBezTo>
                  <a:pt x="119806" y="8328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643"/>
                  <a:pt x="108368" y="111482"/>
                  <a:pt x="105654" y="111482"/>
                </a:cubicBezTo>
                <a:cubicBezTo>
                  <a:pt x="14345" y="111482"/>
                  <a:pt x="14345" y="111482"/>
                  <a:pt x="14345" y="111482"/>
                </a:cubicBezTo>
                <a:cubicBezTo>
                  <a:pt x="11437" y="111482"/>
                  <a:pt x="5621" y="108643"/>
                  <a:pt x="5621" y="105993"/>
                </a:cubicBezTo>
                <a:cubicBezTo>
                  <a:pt x="5621" y="16656"/>
                  <a:pt x="5621" y="16656"/>
                  <a:pt x="5621" y="16656"/>
                </a:cubicBezTo>
                <a:cubicBezTo>
                  <a:pt x="5621" y="11167"/>
                  <a:pt x="11437" y="8328"/>
                  <a:pt x="14345" y="8328"/>
                </a:cubicBezTo>
                <a:cubicBezTo>
                  <a:pt x="105654" y="8328"/>
                  <a:pt x="105654" y="8328"/>
                  <a:pt x="105654" y="8328"/>
                </a:cubicBezTo>
                <a:cubicBezTo>
                  <a:pt x="108368" y="8328"/>
                  <a:pt x="114184" y="11167"/>
                  <a:pt x="114184" y="16656"/>
                </a:cubicBezTo>
                <a:lnTo>
                  <a:pt x="114184" y="105993"/>
                </a:lnTo>
                <a:close/>
                <a:moveTo>
                  <a:pt x="102746" y="16656"/>
                </a:moveTo>
                <a:lnTo>
                  <a:pt x="102746" y="16656"/>
                </a:lnTo>
                <a:cubicBezTo>
                  <a:pt x="99838" y="16656"/>
                  <a:pt x="96930" y="16656"/>
                  <a:pt x="96930" y="19495"/>
                </a:cubicBezTo>
                <a:cubicBezTo>
                  <a:pt x="96930" y="22334"/>
                  <a:pt x="99838" y="22334"/>
                  <a:pt x="102746" y="22334"/>
                </a:cubicBezTo>
                <a:cubicBezTo>
                  <a:pt x="102746" y="22334"/>
                  <a:pt x="105654" y="22334"/>
                  <a:pt x="105654" y="19495"/>
                </a:cubicBezTo>
                <a:cubicBezTo>
                  <a:pt x="105654" y="16656"/>
                  <a:pt x="102746" y="16656"/>
                  <a:pt x="102746" y="1665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Shape 4714"/>
          <p:cNvSpPr/>
          <p:nvPr/>
        </p:nvSpPr>
        <p:spPr>
          <a:xfrm>
            <a:off x="5108400" y="2735280"/>
            <a:ext cx="204840" cy="3049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Shape 4715"/>
          <p:cNvSpPr/>
          <p:nvPr/>
        </p:nvSpPr>
        <p:spPr>
          <a:xfrm>
            <a:off x="4570560" y="273528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1293" y="55646"/>
                </a:moveTo>
                <a:lnTo>
                  <a:pt x="111293" y="55646"/>
                </a:lnTo>
                <a:cubicBezTo>
                  <a:pt x="111293" y="52996"/>
                  <a:pt x="111293" y="52996"/>
                  <a:pt x="111293" y="50157"/>
                </a:cubicBezTo>
                <a:cubicBezTo>
                  <a:pt x="111293" y="22334"/>
                  <a:pt x="89148" y="0"/>
                  <a:pt x="58485" y="0"/>
                </a:cubicBezTo>
                <a:cubicBezTo>
                  <a:pt x="30662" y="0"/>
                  <a:pt x="8328" y="22334"/>
                  <a:pt x="8328" y="50157"/>
                </a:cubicBezTo>
                <a:cubicBezTo>
                  <a:pt x="8328" y="52996"/>
                  <a:pt x="8328" y="52996"/>
                  <a:pt x="8328" y="55646"/>
                </a:cubicBezTo>
                <a:cubicBezTo>
                  <a:pt x="2649" y="58485"/>
                  <a:pt x="0" y="61324"/>
                  <a:pt x="0" y="66813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488" y="105993"/>
                  <a:pt x="13817" y="105993"/>
                </a:cubicBezTo>
                <a:lnTo>
                  <a:pt x="30662" y="105993"/>
                </a:lnTo>
                <a:cubicBezTo>
                  <a:pt x="38990" y="105993"/>
                  <a:pt x="44479" y="97476"/>
                  <a:pt x="44479" y="89148"/>
                </a:cubicBezTo>
                <a:cubicBezTo>
                  <a:pt x="44479" y="66813"/>
                  <a:pt x="44479" y="66813"/>
                  <a:pt x="44479" y="66813"/>
                </a:cubicBezTo>
                <a:cubicBezTo>
                  <a:pt x="44479" y="58485"/>
                  <a:pt x="38990" y="52996"/>
                  <a:pt x="30662" y="52996"/>
                </a:cubicBezTo>
                <a:cubicBezTo>
                  <a:pt x="30662" y="52996"/>
                  <a:pt x="16656" y="52996"/>
                  <a:pt x="13817" y="52996"/>
                </a:cubicBezTo>
                <a:cubicBezTo>
                  <a:pt x="13817" y="27823"/>
                  <a:pt x="33312" y="8328"/>
                  <a:pt x="58485" y="8328"/>
                </a:cubicBezTo>
                <a:cubicBezTo>
                  <a:pt x="83659" y="8328"/>
                  <a:pt x="102965" y="25173"/>
                  <a:pt x="102965" y="52996"/>
                </a:cubicBezTo>
                <a:lnTo>
                  <a:pt x="89148" y="52996"/>
                </a:lnTo>
                <a:cubicBezTo>
                  <a:pt x="80630" y="52996"/>
                  <a:pt x="75141" y="58485"/>
                  <a:pt x="75141" y="66813"/>
                </a:cubicBezTo>
                <a:cubicBezTo>
                  <a:pt x="75141" y="89148"/>
                  <a:pt x="75141" y="89148"/>
                  <a:pt x="75141" y="89148"/>
                </a:cubicBezTo>
                <a:cubicBezTo>
                  <a:pt x="75141" y="97476"/>
                  <a:pt x="80630" y="105993"/>
                  <a:pt x="89148" y="105993"/>
                </a:cubicBezTo>
                <a:lnTo>
                  <a:pt x="97476" y="105993"/>
                </a:lnTo>
                <a:cubicBezTo>
                  <a:pt x="97476" y="116971"/>
                  <a:pt x="97476" y="116971"/>
                  <a:pt x="97476" y="116971"/>
                </a:cubicBezTo>
                <a:cubicBezTo>
                  <a:pt x="97476" y="116971"/>
                  <a:pt x="97476" y="119810"/>
                  <a:pt x="100315" y="119810"/>
                </a:cubicBezTo>
                <a:cubicBezTo>
                  <a:pt x="102965" y="119810"/>
                  <a:pt x="102965" y="116971"/>
                  <a:pt x="102965" y="116971"/>
                </a:cubicBezTo>
                <a:cubicBezTo>
                  <a:pt x="102965" y="105993"/>
                  <a:pt x="102965" y="105993"/>
                  <a:pt x="102965" y="105993"/>
                </a:cubicBezTo>
                <a:cubicBezTo>
                  <a:pt x="111293" y="105993"/>
                  <a:pt x="119810" y="97476"/>
                  <a:pt x="119810" y="89148"/>
                </a:cubicBezTo>
                <a:cubicBezTo>
                  <a:pt x="119810" y="66813"/>
                  <a:pt x="119810" y="66813"/>
                  <a:pt x="119810" y="66813"/>
                </a:cubicBezTo>
                <a:cubicBezTo>
                  <a:pt x="119810" y="61324"/>
                  <a:pt x="116971" y="58485"/>
                  <a:pt x="111293" y="55646"/>
                </a:cubicBezTo>
                <a:close/>
                <a:moveTo>
                  <a:pt x="24984" y="61324"/>
                </a:moveTo>
                <a:lnTo>
                  <a:pt x="24984" y="61324"/>
                </a:lnTo>
                <a:cubicBezTo>
                  <a:pt x="30662" y="61324"/>
                  <a:pt x="30662" y="61324"/>
                  <a:pt x="30662" y="61324"/>
                </a:cubicBezTo>
                <a:cubicBezTo>
                  <a:pt x="33312" y="61324"/>
                  <a:pt x="36151" y="64164"/>
                  <a:pt x="36151" y="66813"/>
                </a:cubicBezTo>
                <a:cubicBezTo>
                  <a:pt x="36151" y="89148"/>
                  <a:pt x="36151" y="89148"/>
                  <a:pt x="36151" y="89148"/>
                </a:cubicBezTo>
                <a:cubicBezTo>
                  <a:pt x="36151" y="94826"/>
                  <a:pt x="33312" y="97476"/>
                  <a:pt x="30662" y="97476"/>
                </a:cubicBezTo>
                <a:cubicBezTo>
                  <a:pt x="27823" y="97476"/>
                  <a:pt x="27823" y="97476"/>
                  <a:pt x="27823" y="97476"/>
                </a:cubicBezTo>
                <a:cubicBezTo>
                  <a:pt x="24984" y="91987"/>
                  <a:pt x="22145" y="83659"/>
                  <a:pt x="22145" y="77981"/>
                </a:cubicBezTo>
                <a:cubicBezTo>
                  <a:pt x="22145" y="72492"/>
                  <a:pt x="22145" y="66813"/>
                  <a:pt x="24984" y="61324"/>
                </a:cubicBezTo>
                <a:close/>
                <a:moveTo>
                  <a:pt x="16656" y="61324"/>
                </a:moveTo>
                <a:lnTo>
                  <a:pt x="16656" y="61324"/>
                </a:lnTo>
                <a:cubicBezTo>
                  <a:pt x="16656" y="66813"/>
                  <a:pt x="13817" y="72492"/>
                  <a:pt x="13817" y="77981"/>
                </a:cubicBezTo>
                <a:cubicBezTo>
                  <a:pt x="13817" y="83659"/>
                  <a:pt x="16656" y="91987"/>
                  <a:pt x="19495" y="97476"/>
                </a:cubicBezTo>
                <a:cubicBezTo>
                  <a:pt x="13817" y="97476"/>
                  <a:pt x="13817" y="97476"/>
                  <a:pt x="13817" y="97476"/>
                </a:cubicBezTo>
                <a:cubicBezTo>
                  <a:pt x="11167" y="97476"/>
                  <a:pt x="8328" y="94826"/>
                  <a:pt x="8328" y="89148"/>
                </a:cubicBezTo>
                <a:cubicBezTo>
                  <a:pt x="8328" y="66813"/>
                  <a:pt x="8328" y="66813"/>
                  <a:pt x="8328" y="66813"/>
                </a:cubicBezTo>
                <a:cubicBezTo>
                  <a:pt x="8328" y="64164"/>
                  <a:pt x="11167" y="61324"/>
                  <a:pt x="13817" y="61324"/>
                </a:cubicBezTo>
                <a:lnTo>
                  <a:pt x="16656" y="61324"/>
                </a:lnTo>
                <a:close/>
                <a:moveTo>
                  <a:pt x="91798" y="97476"/>
                </a:moveTo>
                <a:lnTo>
                  <a:pt x="91798" y="97476"/>
                </a:lnTo>
                <a:cubicBezTo>
                  <a:pt x="89148" y="97476"/>
                  <a:pt x="89148" y="97476"/>
                  <a:pt x="89148" y="97476"/>
                </a:cubicBezTo>
                <a:cubicBezTo>
                  <a:pt x="86309" y="97476"/>
                  <a:pt x="80630" y="94826"/>
                  <a:pt x="80630" y="89148"/>
                </a:cubicBezTo>
                <a:cubicBezTo>
                  <a:pt x="80630" y="66813"/>
                  <a:pt x="80630" y="66813"/>
                  <a:pt x="80630" y="66813"/>
                </a:cubicBezTo>
                <a:cubicBezTo>
                  <a:pt x="80630" y="64164"/>
                  <a:pt x="86309" y="61324"/>
                  <a:pt x="89148" y="61324"/>
                </a:cubicBezTo>
                <a:cubicBezTo>
                  <a:pt x="94637" y="61324"/>
                  <a:pt x="94637" y="61324"/>
                  <a:pt x="94637" y="61324"/>
                </a:cubicBezTo>
                <a:cubicBezTo>
                  <a:pt x="94637" y="66813"/>
                  <a:pt x="97476" y="72492"/>
                  <a:pt x="97476" y="77981"/>
                </a:cubicBezTo>
                <a:cubicBezTo>
                  <a:pt x="97476" y="83659"/>
                  <a:pt x="94637" y="91987"/>
                  <a:pt x="91798" y="97476"/>
                </a:cubicBezTo>
                <a:close/>
                <a:moveTo>
                  <a:pt x="111293" y="89148"/>
                </a:moveTo>
                <a:lnTo>
                  <a:pt x="111293" y="89148"/>
                </a:lnTo>
                <a:cubicBezTo>
                  <a:pt x="111293" y="94826"/>
                  <a:pt x="108643" y="97476"/>
                  <a:pt x="102965" y="97476"/>
                </a:cubicBezTo>
                <a:cubicBezTo>
                  <a:pt x="100315" y="97476"/>
                  <a:pt x="100315" y="97476"/>
                  <a:pt x="100315" y="97476"/>
                </a:cubicBezTo>
                <a:cubicBezTo>
                  <a:pt x="102965" y="91987"/>
                  <a:pt x="102965" y="83659"/>
                  <a:pt x="102965" y="77981"/>
                </a:cubicBezTo>
                <a:cubicBezTo>
                  <a:pt x="102965" y="72492"/>
                  <a:pt x="102965" y="66813"/>
                  <a:pt x="100315" y="61324"/>
                </a:cubicBezTo>
                <a:cubicBezTo>
                  <a:pt x="102965" y="61324"/>
                  <a:pt x="102965" y="61324"/>
                  <a:pt x="102965" y="61324"/>
                </a:cubicBezTo>
                <a:cubicBezTo>
                  <a:pt x="108643" y="61324"/>
                  <a:pt x="111293" y="64164"/>
                  <a:pt x="111293" y="66813"/>
                </a:cubicBezTo>
                <a:lnTo>
                  <a:pt x="111293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Shape 4716"/>
          <p:cNvSpPr/>
          <p:nvPr/>
        </p:nvSpPr>
        <p:spPr>
          <a:xfrm>
            <a:off x="4089240" y="2735280"/>
            <a:ext cx="284400" cy="304920"/>
          </a:xfrm>
          <a:custGeom>
            <a:avLst/>
            <a:gdLst>
              <a:gd name="textAreaLeft" fmla="*/ 0 w 284400"/>
              <a:gd name="textAreaRight" fmla="*/ 284760 w 2844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Shape 4717"/>
          <p:cNvSpPr/>
          <p:nvPr/>
        </p:nvSpPr>
        <p:spPr>
          <a:xfrm>
            <a:off x="3587760" y="273528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4826" y="44479"/>
                </a:moveTo>
                <a:lnTo>
                  <a:pt x="94826" y="44479"/>
                </a:lnTo>
                <a:cubicBezTo>
                  <a:pt x="86498" y="44479"/>
                  <a:pt x="83659" y="50157"/>
                  <a:pt x="83659" y="55646"/>
                </a:cubicBezTo>
                <a:cubicBezTo>
                  <a:pt x="83659" y="64164"/>
                  <a:pt x="86498" y="66813"/>
                  <a:pt x="94826" y="66813"/>
                </a:cubicBezTo>
                <a:cubicBezTo>
                  <a:pt x="100315" y="66813"/>
                  <a:pt x="105993" y="64164"/>
                  <a:pt x="105993" y="55646"/>
                </a:cubicBezTo>
                <a:cubicBezTo>
                  <a:pt x="105993" y="50157"/>
                  <a:pt x="100315" y="44479"/>
                  <a:pt x="94826" y="44479"/>
                </a:cubicBezTo>
                <a:close/>
                <a:moveTo>
                  <a:pt x="97665" y="61324"/>
                </a:moveTo>
                <a:lnTo>
                  <a:pt x="97665" y="61324"/>
                </a:lnTo>
                <a:cubicBezTo>
                  <a:pt x="89148" y="61324"/>
                  <a:pt x="89148" y="61324"/>
                  <a:pt x="89148" y="61324"/>
                </a:cubicBezTo>
                <a:cubicBezTo>
                  <a:pt x="89148" y="52996"/>
                  <a:pt x="89148" y="52996"/>
                  <a:pt x="89148" y="52996"/>
                </a:cubicBezTo>
                <a:cubicBezTo>
                  <a:pt x="97665" y="52996"/>
                  <a:pt x="97665" y="52996"/>
                  <a:pt x="97665" y="52996"/>
                </a:cubicBezTo>
                <a:lnTo>
                  <a:pt x="97665" y="61324"/>
                </a:lnTo>
                <a:close/>
                <a:moveTo>
                  <a:pt x="100315" y="97476"/>
                </a:moveTo>
                <a:lnTo>
                  <a:pt x="100315" y="97476"/>
                </a:lnTo>
                <a:cubicBezTo>
                  <a:pt x="86498" y="97476"/>
                  <a:pt x="86498" y="97476"/>
                  <a:pt x="86498" y="97476"/>
                </a:cubicBezTo>
                <a:cubicBezTo>
                  <a:pt x="83659" y="97476"/>
                  <a:pt x="83659" y="100315"/>
                  <a:pt x="83659" y="100315"/>
                </a:cubicBezTo>
                <a:cubicBezTo>
                  <a:pt x="83659" y="103154"/>
                  <a:pt x="83659" y="105993"/>
                  <a:pt x="86498" y="105993"/>
                </a:cubicBezTo>
                <a:cubicBezTo>
                  <a:pt x="100315" y="105993"/>
                  <a:pt x="100315" y="105993"/>
                  <a:pt x="100315" y="105993"/>
                </a:cubicBezTo>
                <a:cubicBezTo>
                  <a:pt x="103154" y="105993"/>
                  <a:pt x="105993" y="103154"/>
                  <a:pt x="105993" y="100315"/>
                </a:cubicBezTo>
                <a:cubicBezTo>
                  <a:pt x="105993" y="100315"/>
                  <a:pt x="103154" y="97476"/>
                  <a:pt x="100315" y="97476"/>
                </a:cubicBezTo>
                <a:close/>
                <a:moveTo>
                  <a:pt x="67003" y="44479"/>
                </a:moveTo>
                <a:lnTo>
                  <a:pt x="67003" y="44479"/>
                </a:lnTo>
                <a:cubicBezTo>
                  <a:pt x="22334" y="44479"/>
                  <a:pt x="22334" y="44479"/>
                  <a:pt x="22334" y="44479"/>
                </a:cubicBezTo>
                <a:cubicBezTo>
                  <a:pt x="19495" y="44479"/>
                  <a:pt x="16845" y="50157"/>
                  <a:pt x="16845" y="52996"/>
                </a:cubicBezTo>
                <a:cubicBezTo>
                  <a:pt x="16845" y="97476"/>
                  <a:pt x="16845" y="97476"/>
                  <a:pt x="16845" y="97476"/>
                </a:cubicBezTo>
                <a:cubicBezTo>
                  <a:pt x="16845" y="100315"/>
                  <a:pt x="19495" y="105993"/>
                  <a:pt x="22334" y="105993"/>
                </a:cubicBezTo>
                <a:cubicBezTo>
                  <a:pt x="67003" y="105993"/>
                  <a:pt x="67003" y="105993"/>
                  <a:pt x="67003" y="105993"/>
                </a:cubicBezTo>
                <a:cubicBezTo>
                  <a:pt x="72492" y="105993"/>
                  <a:pt x="75331" y="100315"/>
                  <a:pt x="75331" y="97476"/>
                </a:cubicBezTo>
                <a:cubicBezTo>
                  <a:pt x="75331" y="52996"/>
                  <a:pt x="75331" y="52996"/>
                  <a:pt x="75331" y="52996"/>
                </a:cubicBezTo>
                <a:cubicBezTo>
                  <a:pt x="75331" y="50157"/>
                  <a:pt x="72492" y="44479"/>
                  <a:pt x="67003" y="44479"/>
                </a:cubicBezTo>
                <a:close/>
                <a:moveTo>
                  <a:pt x="67003" y="94826"/>
                </a:moveTo>
                <a:lnTo>
                  <a:pt x="67003" y="94826"/>
                </a:lnTo>
                <a:cubicBezTo>
                  <a:pt x="67003" y="94826"/>
                  <a:pt x="67003" y="97476"/>
                  <a:pt x="64164" y="97476"/>
                </a:cubicBezTo>
                <a:cubicBezTo>
                  <a:pt x="28012" y="97476"/>
                  <a:pt x="28012" y="97476"/>
                  <a:pt x="28012" y="97476"/>
                </a:cubicBezTo>
                <a:cubicBezTo>
                  <a:pt x="25173" y="97476"/>
                  <a:pt x="22334" y="94826"/>
                  <a:pt x="22334" y="94826"/>
                </a:cubicBezTo>
                <a:cubicBezTo>
                  <a:pt x="22334" y="55646"/>
                  <a:pt x="22334" y="55646"/>
                  <a:pt x="22334" y="55646"/>
                </a:cubicBezTo>
                <a:cubicBezTo>
                  <a:pt x="22334" y="55646"/>
                  <a:pt x="25173" y="52996"/>
                  <a:pt x="28012" y="52996"/>
                </a:cubicBezTo>
                <a:cubicBezTo>
                  <a:pt x="64164" y="52996"/>
                  <a:pt x="64164" y="52996"/>
                  <a:pt x="64164" y="52996"/>
                </a:cubicBezTo>
                <a:cubicBezTo>
                  <a:pt x="67003" y="52996"/>
                  <a:pt x="67003" y="55646"/>
                  <a:pt x="67003" y="55646"/>
                </a:cubicBezTo>
                <a:lnTo>
                  <a:pt x="67003" y="94826"/>
                </a:lnTo>
                <a:close/>
                <a:moveTo>
                  <a:pt x="100315" y="86309"/>
                </a:moveTo>
                <a:lnTo>
                  <a:pt x="100315" y="86309"/>
                </a:lnTo>
                <a:cubicBezTo>
                  <a:pt x="86498" y="86309"/>
                  <a:pt x="86498" y="86309"/>
                  <a:pt x="86498" y="86309"/>
                </a:cubicBezTo>
                <a:cubicBezTo>
                  <a:pt x="83659" y="86309"/>
                  <a:pt x="83659" y="89148"/>
                  <a:pt x="83659" y="89148"/>
                </a:cubicBezTo>
                <a:cubicBezTo>
                  <a:pt x="83659" y="91987"/>
                  <a:pt x="83659" y="94826"/>
                  <a:pt x="86498" y="94826"/>
                </a:cubicBezTo>
                <a:cubicBezTo>
                  <a:pt x="100315" y="94826"/>
                  <a:pt x="100315" y="94826"/>
                  <a:pt x="100315" y="94826"/>
                </a:cubicBezTo>
                <a:cubicBezTo>
                  <a:pt x="103154" y="94826"/>
                  <a:pt x="105993" y="91987"/>
                  <a:pt x="105993" y="89148"/>
                </a:cubicBezTo>
                <a:cubicBezTo>
                  <a:pt x="105993" y="89148"/>
                  <a:pt x="103154" y="86309"/>
                  <a:pt x="100315" y="86309"/>
                </a:cubicBezTo>
                <a:close/>
                <a:moveTo>
                  <a:pt x="105993" y="30662"/>
                </a:moveTo>
                <a:lnTo>
                  <a:pt x="105993" y="30662"/>
                </a:lnTo>
                <a:cubicBezTo>
                  <a:pt x="69842" y="30662"/>
                  <a:pt x="69842" y="30662"/>
                  <a:pt x="69842" y="30662"/>
                </a:cubicBezTo>
                <a:cubicBezTo>
                  <a:pt x="103154" y="8328"/>
                  <a:pt x="103154" y="8328"/>
                  <a:pt x="103154" y="8328"/>
                </a:cubicBezTo>
                <a:cubicBezTo>
                  <a:pt x="105993" y="8328"/>
                  <a:pt x="105993" y="5678"/>
                  <a:pt x="103154" y="2839"/>
                </a:cubicBezTo>
                <a:cubicBezTo>
                  <a:pt x="103154" y="0"/>
                  <a:pt x="100315" y="0"/>
                  <a:pt x="100315" y="2839"/>
                </a:cubicBezTo>
                <a:cubicBezTo>
                  <a:pt x="100315" y="2839"/>
                  <a:pt x="64164" y="25173"/>
                  <a:pt x="61324" y="27823"/>
                </a:cubicBezTo>
                <a:cubicBezTo>
                  <a:pt x="22334" y="2839"/>
                  <a:pt x="22334" y="2839"/>
                  <a:pt x="22334" y="2839"/>
                </a:cubicBezTo>
                <a:cubicBezTo>
                  <a:pt x="19495" y="0"/>
                  <a:pt x="16845" y="0"/>
                  <a:pt x="16845" y="2839"/>
                </a:cubicBezTo>
                <a:cubicBezTo>
                  <a:pt x="16845" y="5678"/>
                  <a:pt x="16845" y="8328"/>
                  <a:pt x="16845" y="8328"/>
                </a:cubicBezTo>
                <a:cubicBezTo>
                  <a:pt x="50157" y="30662"/>
                  <a:pt x="50157" y="30662"/>
                  <a:pt x="50157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517" y="30662"/>
                  <a:pt x="0" y="36340"/>
                  <a:pt x="0" y="44479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44479"/>
                  <a:pt x="119810" y="44479"/>
                  <a:pt x="119810" y="44479"/>
                </a:cubicBezTo>
                <a:cubicBezTo>
                  <a:pt x="119810" y="36340"/>
                  <a:pt x="114321" y="30662"/>
                  <a:pt x="105993" y="30662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643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643"/>
                  <a:pt x="8517" y="105993"/>
                </a:cubicBezTo>
                <a:cubicBezTo>
                  <a:pt x="8517" y="44479"/>
                  <a:pt x="8517" y="44479"/>
                  <a:pt x="8517" y="44479"/>
                </a:cubicBezTo>
                <a:cubicBezTo>
                  <a:pt x="8517" y="41829"/>
                  <a:pt x="11167" y="38990"/>
                  <a:pt x="16845" y="38990"/>
                </a:cubicBezTo>
                <a:cubicBezTo>
                  <a:pt x="105993" y="38990"/>
                  <a:pt x="105993" y="38990"/>
                  <a:pt x="105993" y="38990"/>
                </a:cubicBezTo>
                <a:cubicBezTo>
                  <a:pt x="108832" y="38990"/>
                  <a:pt x="111482" y="41829"/>
                  <a:pt x="111482" y="44479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Shape 4718"/>
          <p:cNvSpPr/>
          <p:nvPr/>
        </p:nvSpPr>
        <p:spPr>
          <a:xfrm>
            <a:off x="3100320" y="27558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Shape 4719"/>
          <p:cNvSpPr/>
          <p:nvPr/>
        </p:nvSpPr>
        <p:spPr>
          <a:xfrm>
            <a:off x="2646360" y="2746440"/>
            <a:ext cx="227160" cy="284040"/>
          </a:xfrm>
          <a:custGeom>
            <a:avLst/>
            <a:gdLst>
              <a:gd name="textAreaLeft" fmla="*/ 0 w 227160"/>
              <a:gd name="textAreaRight" fmla="*/ 227520 w 227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0972" y="0"/>
                </a:moveTo>
                <a:lnTo>
                  <a:pt x="100972" y="0"/>
                </a:lnTo>
                <a:cubicBezTo>
                  <a:pt x="18773" y="0"/>
                  <a:pt x="18773" y="0"/>
                  <a:pt x="18773" y="0"/>
                </a:cubicBezTo>
                <a:cubicBezTo>
                  <a:pt x="7610" y="0"/>
                  <a:pt x="0" y="5908"/>
                  <a:pt x="0" y="14872"/>
                </a:cubicBezTo>
                <a:cubicBezTo>
                  <a:pt x="0" y="119796"/>
                  <a:pt x="0" y="119796"/>
                  <a:pt x="0" y="119796"/>
                </a:cubicBezTo>
                <a:cubicBezTo>
                  <a:pt x="11416" y="119796"/>
                  <a:pt x="7610" y="119796"/>
                  <a:pt x="18773" y="119796"/>
                </a:cubicBezTo>
                <a:cubicBezTo>
                  <a:pt x="100972" y="119796"/>
                  <a:pt x="100972" y="119796"/>
                  <a:pt x="100972" y="119796"/>
                </a:cubicBezTo>
                <a:cubicBezTo>
                  <a:pt x="112135" y="119796"/>
                  <a:pt x="104778" y="119796"/>
                  <a:pt x="119746" y="119796"/>
                </a:cubicBezTo>
                <a:cubicBezTo>
                  <a:pt x="119746" y="14872"/>
                  <a:pt x="119746" y="14872"/>
                  <a:pt x="119746" y="14872"/>
                </a:cubicBezTo>
                <a:cubicBezTo>
                  <a:pt x="119746" y="5908"/>
                  <a:pt x="112135" y="0"/>
                  <a:pt x="100972" y="0"/>
                </a:cubicBezTo>
                <a:close/>
                <a:moveTo>
                  <a:pt x="18773" y="110831"/>
                </a:moveTo>
                <a:lnTo>
                  <a:pt x="18773" y="110831"/>
                </a:lnTo>
                <a:cubicBezTo>
                  <a:pt x="11416" y="110831"/>
                  <a:pt x="11416" y="110831"/>
                  <a:pt x="11416" y="110831"/>
                </a:cubicBezTo>
                <a:cubicBezTo>
                  <a:pt x="11416" y="101867"/>
                  <a:pt x="11416" y="101867"/>
                  <a:pt x="11416" y="101867"/>
                </a:cubicBezTo>
                <a:cubicBezTo>
                  <a:pt x="18773" y="101867"/>
                  <a:pt x="18773" y="101867"/>
                  <a:pt x="18773" y="101867"/>
                </a:cubicBezTo>
                <a:lnTo>
                  <a:pt x="18773" y="110831"/>
                </a:lnTo>
                <a:close/>
                <a:moveTo>
                  <a:pt x="18773" y="95959"/>
                </a:moveTo>
                <a:lnTo>
                  <a:pt x="18773" y="95959"/>
                </a:lnTo>
                <a:cubicBezTo>
                  <a:pt x="11416" y="95959"/>
                  <a:pt x="11416" y="95959"/>
                  <a:pt x="11416" y="95959"/>
                </a:cubicBezTo>
                <a:cubicBezTo>
                  <a:pt x="11416" y="86791"/>
                  <a:pt x="11416" y="86791"/>
                  <a:pt x="11416" y="86791"/>
                </a:cubicBezTo>
                <a:cubicBezTo>
                  <a:pt x="18773" y="86791"/>
                  <a:pt x="18773" y="86791"/>
                  <a:pt x="18773" y="86791"/>
                </a:cubicBezTo>
                <a:lnTo>
                  <a:pt x="18773" y="95959"/>
                </a:lnTo>
                <a:close/>
                <a:moveTo>
                  <a:pt x="18773" y="77826"/>
                </a:moveTo>
                <a:lnTo>
                  <a:pt x="18773" y="77826"/>
                </a:lnTo>
                <a:cubicBezTo>
                  <a:pt x="11416" y="77826"/>
                  <a:pt x="11416" y="77826"/>
                  <a:pt x="11416" y="77826"/>
                </a:cubicBezTo>
                <a:cubicBezTo>
                  <a:pt x="11416" y="71918"/>
                  <a:pt x="11416" y="71918"/>
                  <a:pt x="11416" y="71918"/>
                </a:cubicBezTo>
                <a:cubicBezTo>
                  <a:pt x="18773" y="71918"/>
                  <a:pt x="18773" y="71918"/>
                  <a:pt x="18773" y="71918"/>
                </a:cubicBezTo>
                <a:lnTo>
                  <a:pt x="18773" y="77826"/>
                </a:lnTo>
                <a:close/>
                <a:moveTo>
                  <a:pt x="18773" y="62954"/>
                </a:moveTo>
                <a:lnTo>
                  <a:pt x="18773" y="62954"/>
                </a:lnTo>
                <a:cubicBezTo>
                  <a:pt x="11416" y="62954"/>
                  <a:pt x="11416" y="62954"/>
                  <a:pt x="11416" y="62954"/>
                </a:cubicBezTo>
                <a:cubicBezTo>
                  <a:pt x="11416" y="53786"/>
                  <a:pt x="11416" y="53786"/>
                  <a:pt x="11416" y="53786"/>
                </a:cubicBezTo>
                <a:cubicBezTo>
                  <a:pt x="18773" y="53786"/>
                  <a:pt x="18773" y="53786"/>
                  <a:pt x="18773" y="53786"/>
                </a:cubicBezTo>
                <a:lnTo>
                  <a:pt x="18773" y="62954"/>
                </a:lnTo>
                <a:close/>
                <a:moveTo>
                  <a:pt x="18773" y="47877"/>
                </a:moveTo>
                <a:lnTo>
                  <a:pt x="18773" y="47877"/>
                </a:lnTo>
                <a:cubicBezTo>
                  <a:pt x="11416" y="47877"/>
                  <a:pt x="11416" y="47877"/>
                  <a:pt x="11416" y="47877"/>
                </a:cubicBezTo>
                <a:cubicBezTo>
                  <a:pt x="11416" y="38913"/>
                  <a:pt x="11416" y="38913"/>
                  <a:pt x="11416" y="38913"/>
                </a:cubicBezTo>
                <a:cubicBezTo>
                  <a:pt x="18773" y="38913"/>
                  <a:pt x="18773" y="38913"/>
                  <a:pt x="18773" y="38913"/>
                </a:cubicBezTo>
                <a:lnTo>
                  <a:pt x="18773" y="47877"/>
                </a:lnTo>
                <a:close/>
                <a:moveTo>
                  <a:pt x="18773" y="29949"/>
                </a:moveTo>
                <a:lnTo>
                  <a:pt x="18773" y="29949"/>
                </a:lnTo>
                <a:cubicBezTo>
                  <a:pt x="11416" y="29949"/>
                  <a:pt x="11416" y="29949"/>
                  <a:pt x="11416" y="29949"/>
                </a:cubicBezTo>
                <a:cubicBezTo>
                  <a:pt x="11416" y="23837"/>
                  <a:pt x="11416" y="23837"/>
                  <a:pt x="11416" y="23837"/>
                </a:cubicBezTo>
                <a:cubicBezTo>
                  <a:pt x="18773" y="23837"/>
                  <a:pt x="18773" y="23837"/>
                  <a:pt x="18773" y="23837"/>
                </a:cubicBezTo>
                <a:lnTo>
                  <a:pt x="18773" y="29949"/>
                </a:lnTo>
                <a:close/>
                <a:moveTo>
                  <a:pt x="89809" y="107979"/>
                </a:moveTo>
                <a:lnTo>
                  <a:pt x="89809" y="107979"/>
                </a:lnTo>
                <a:lnTo>
                  <a:pt x="86004" y="110831"/>
                </a:lnTo>
                <a:cubicBezTo>
                  <a:pt x="33742" y="110831"/>
                  <a:pt x="33742" y="110831"/>
                  <a:pt x="33742" y="110831"/>
                </a:cubicBezTo>
                <a:lnTo>
                  <a:pt x="29936" y="107979"/>
                </a:lnTo>
                <a:cubicBezTo>
                  <a:pt x="29936" y="65806"/>
                  <a:pt x="29936" y="65806"/>
                  <a:pt x="29936" y="65806"/>
                </a:cubicBezTo>
                <a:lnTo>
                  <a:pt x="33742" y="62954"/>
                </a:lnTo>
                <a:cubicBezTo>
                  <a:pt x="86004" y="62954"/>
                  <a:pt x="86004" y="62954"/>
                  <a:pt x="86004" y="62954"/>
                </a:cubicBezTo>
                <a:lnTo>
                  <a:pt x="89809" y="65806"/>
                </a:lnTo>
                <a:lnTo>
                  <a:pt x="89809" y="107979"/>
                </a:lnTo>
                <a:close/>
                <a:moveTo>
                  <a:pt x="89809" y="50933"/>
                </a:moveTo>
                <a:lnTo>
                  <a:pt x="89809" y="50933"/>
                </a:lnTo>
                <a:cubicBezTo>
                  <a:pt x="89809" y="53786"/>
                  <a:pt x="86004" y="53786"/>
                  <a:pt x="86004" y="53786"/>
                </a:cubicBezTo>
                <a:cubicBezTo>
                  <a:pt x="33742" y="53786"/>
                  <a:pt x="33742" y="53786"/>
                  <a:pt x="33742" y="53786"/>
                </a:cubicBezTo>
                <a:cubicBezTo>
                  <a:pt x="33742" y="53786"/>
                  <a:pt x="29936" y="53786"/>
                  <a:pt x="29936" y="50933"/>
                </a:cubicBezTo>
                <a:cubicBezTo>
                  <a:pt x="29936" y="11816"/>
                  <a:pt x="29936" y="11816"/>
                  <a:pt x="29936" y="11816"/>
                </a:cubicBezTo>
                <a:cubicBezTo>
                  <a:pt x="29936" y="8964"/>
                  <a:pt x="33742" y="5908"/>
                  <a:pt x="33742" y="5908"/>
                </a:cubicBezTo>
                <a:cubicBezTo>
                  <a:pt x="86004" y="5908"/>
                  <a:pt x="86004" y="5908"/>
                  <a:pt x="86004" y="5908"/>
                </a:cubicBezTo>
                <a:cubicBezTo>
                  <a:pt x="86004" y="5908"/>
                  <a:pt x="89809" y="8964"/>
                  <a:pt x="89809" y="11816"/>
                </a:cubicBezTo>
                <a:lnTo>
                  <a:pt x="89809" y="50933"/>
                </a:lnTo>
                <a:close/>
                <a:moveTo>
                  <a:pt x="108329" y="110831"/>
                </a:moveTo>
                <a:lnTo>
                  <a:pt x="108329" y="110831"/>
                </a:lnTo>
                <a:cubicBezTo>
                  <a:pt x="100972" y="110831"/>
                  <a:pt x="100972" y="110831"/>
                  <a:pt x="100972" y="110831"/>
                </a:cubicBezTo>
                <a:cubicBezTo>
                  <a:pt x="100972" y="101867"/>
                  <a:pt x="100972" y="101867"/>
                  <a:pt x="100972" y="101867"/>
                </a:cubicBezTo>
                <a:cubicBezTo>
                  <a:pt x="108329" y="101867"/>
                  <a:pt x="108329" y="101867"/>
                  <a:pt x="108329" y="101867"/>
                </a:cubicBezTo>
                <a:lnTo>
                  <a:pt x="108329" y="110831"/>
                </a:lnTo>
                <a:close/>
                <a:moveTo>
                  <a:pt x="108329" y="95959"/>
                </a:moveTo>
                <a:lnTo>
                  <a:pt x="108329" y="95959"/>
                </a:lnTo>
                <a:cubicBezTo>
                  <a:pt x="100972" y="95959"/>
                  <a:pt x="100972" y="95959"/>
                  <a:pt x="100972" y="95959"/>
                </a:cubicBezTo>
                <a:cubicBezTo>
                  <a:pt x="100972" y="86791"/>
                  <a:pt x="100972" y="86791"/>
                  <a:pt x="100972" y="86791"/>
                </a:cubicBezTo>
                <a:cubicBezTo>
                  <a:pt x="108329" y="86791"/>
                  <a:pt x="108329" y="86791"/>
                  <a:pt x="108329" y="86791"/>
                </a:cubicBezTo>
                <a:lnTo>
                  <a:pt x="108329" y="95959"/>
                </a:lnTo>
                <a:close/>
                <a:moveTo>
                  <a:pt x="108329" y="77826"/>
                </a:moveTo>
                <a:lnTo>
                  <a:pt x="108329" y="77826"/>
                </a:lnTo>
                <a:cubicBezTo>
                  <a:pt x="100972" y="77826"/>
                  <a:pt x="100972" y="77826"/>
                  <a:pt x="100972" y="77826"/>
                </a:cubicBezTo>
                <a:cubicBezTo>
                  <a:pt x="100972" y="71918"/>
                  <a:pt x="100972" y="71918"/>
                  <a:pt x="100972" y="71918"/>
                </a:cubicBezTo>
                <a:cubicBezTo>
                  <a:pt x="108329" y="71918"/>
                  <a:pt x="108329" y="71918"/>
                  <a:pt x="108329" y="71918"/>
                </a:cubicBezTo>
                <a:lnTo>
                  <a:pt x="108329" y="77826"/>
                </a:lnTo>
                <a:close/>
                <a:moveTo>
                  <a:pt x="108329" y="62954"/>
                </a:moveTo>
                <a:lnTo>
                  <a:pt x="108329" y="62954"/>
                </a:lnTo>
                <a:cubicBezTo>
                  <a:pt x="100972" y="62954"/>
                  <a:pt x="100972" y="62954"/>
                  <a:pt x="100972" y="62954"/>
                </a:cubicBezTo>
                <a:cubicBezTo>
                  <a:pt x="100972" y="53786"/>
                  <a:pt x="100972" y="53786"/>
                  <a:pt x="100972" y="53786"/>
                </a:cubicBezTo>
                <a:cubicBezTo>
                  <a:pt x="108329" y="53786"/>
                  <a:pt x="108329" y="53786"/>
                  <a:pt x="108329" y="53786"/>
                </a:cubicBezTo>
                <a:lnTo>
                  <a:pt x="108329" y="62954"/>
                </a:lnTo>
                <a:close/>
                <a:moveTo>
                  <a:pt x="108329" y="47877"/>
                </a:moveTo>
                <a:lnTo>
                  <a:pt x="108329" y="47877"/>
                </a:lnTo>
                <a:cubicBezTo>
                  <a:pt x="100972" y="47877"/>
                  <a:pt x="100972" y="47877"/>
                  <a:pt x="100972" y="47877"/>
                </a:cubicBezTo>
                <a:cubicBezTo>
                  <a:pt x="100972" y="38913"/>
                  <a:pt x="100972" y="38913"/>
                  <a:pt x="100972" y="38913"/>
                </a:cubicBezTo>
                <a:cubicBezTo>
                  <a:pt x="108329" y="38913"/>
                  <a:pt x="108329" y="38913"/>
                  <a:pt x="108329" y="38913"/>
                </a:cubicBezTo>
                <a:lnTo>
                  <a:pt x="108329" y="47877"/>
                </a:lnTo>
                <a:close/>
                <a:moveTo>
                  <a:pt x="108329" y="29949"/>
                </a:moveTo>
                <a:lnTo>
                  <a:pt x="108329" y="29949"/>
                </a:lnTo>
                <a:cubicBezTo>
                  <a:pt x="100972" y="29949"/>
                  <a:pt x="100972" y="29949"/>
                  <a:pt x="100972" y="29949"/>
                </a:cubicBezTo>
                <a:cubicBezTo>
                  <a:pt x="100972" y="23837"/>
                  <a:pt x="100972" y="23837"/>
                  <a:pt x="100972" y="23837"/>
                </a:cubicBezTo>
                <a:cubicBezTo>
                  <a:pt x="108329" y="23837"/>
                  <a:pt x="108329" y="23837"/>
                  <a:pt x="108329" y="23837"/>
                </a:cubicBezTo>
                <a:lnTo>
                  <a:pt x="108329" y="2994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Shape 4720"/>
          <p:cNvSpPr/>
          <p:nvPr/>
        </p:nvSpPr>
        <p:spPr>
          <a:xfrm>
            <a:off x="2116080" y="27558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Shape 4721"/>
          <p:cNvSpPr/>
          <p:nvPr/>
        </p:nvSpPr>
        <p:spPr>
          <a:xfrm>
            <a:off x="1628640" y="273528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656"/>
                  <a:pt x="119810" y="16656"/>
                  <a:pt x="119810" y="16656"/>
                </a:cubicBezTo>
                <a:cubicBezTo>
                  <a:pt x="119810" y="8328"/>
                  <a:pt x="111293" y="0"/>
                  <a:pt x="102965" y="0"/>
                </a:cubicBezTo>
                <a:close/>
                <a:moveTo>
                  <a:pt x="30662" y="8328"/>
                </a:moveTo>
                <a:lnTo>
                  <a:pt x="30662" y="8328"/>
                </a:lnTo>
                <a:cubicBezTo>
                  <a:pt x="30662" y="8328"/>
                  <a:pt x="86309" y="8328"/>
                  <a:pt x="89148" y="8328"/>
                </a:cubicBezTo>
                <a:cubicBezTo>
                  <a:pt x="89148" y="41829"/>
                  <a:pt x="89148" y="41829"/>
                  <a:pt x="89148" y="41829"/>
                </a:cubicBezTo>
                <a:cubicBezTo>
                  <a:pt x="89148" y="44479"/>
                  <a:pt x="86309" y="44479"/>
                  <a:pt x="86309" y="44479"/>
                </a:cubicBezTo>
                <a:cubicBezTo>
                  <a:pt x="33312" y="44479"/>
                  <a:pt x="33312" y="44479"/>
                  <a:pt x="33312" y="44479"/>
                </a:cubicBezTo>
                <a:cubicBezTo>
                  <a:pt x="30662" y="44479"/>
                  <a:pt x="30662" y="44479"/>
                  <a:pt x="30662" y="41829"/>
                </a:cubicBezTo>
                <a:lnTo>
                  <a:pt x="30662" y="8328"/>
                </a:ln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643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643"/>
                  <a:pt x="8328" y="105993"/>
                </a:cubicBezTo>
                <a:cubicBezTo>
                  <a:pt x="8328" y="16656"/>
                  <a:pt x="8328" y="16656"/>
                  <a:pt x="8328" y="16656"/>
                </a:cubicBezTo>
                <a:cubicBezTo>
                  <a:pt x="8328" y="11167"/>
                  <a:pt x="10977" y="8328"/>
                  <a:pt x="13817" y="8328"/>
                </a:cubicBezTo>
                <a:cubicBezTo>
                  <a:pt x="22145" y="8328"/>
                  <a:pt x="22145" y="8328"/>
                  <a:pt x="22145" y="8328"/>
                </a:cubicBezTo>
                <a:cubicBezTo>
                  <a:pt x="22145" y="44479"/>
                  <a:pt x="22145" y="44479"/>
                  <a:pt x="22145" y="44479"/>
                </a:cubicBezTo>
                <a:cubicBezTo>
                  <a:pt x="22145" y="50157"/>
                  <a:pt x="24984" y="52996"/>
                  <a:pt x="30662" y="52996"/>
                </a:cubicBezTo>
                <a:cubicBezTo>
                  <a:pt x="89148" y="52996"/>
                  <a:pt x="89148" y="52996"/>
                  <a:pt x="89148" y="52996"/>
                </a:cubicBezTo>
                <a:cubicBezTo>
                  <a:pt x="91798" y="52996"/>
                  <a:pt x="97476" y="50157"/>
                  <a:pt x="97476" y="44479"/>
                </a:cubicBezTo>
                <a:cubicBezTo>
                  <a:pt x="97476" y="8328"/>
                  <a:pt x="97476" y="8328"/>
                  <a:pt x="97476" y="8328"/>
                </a:cubicBezTo>
                <a:cubicBezTo>
                  <a:pt x="102965" y="8328"/>
                  <a:pt x="102965" y="8328"/>
                  <a:pt x="102965" y="8328"/>
                </a:cubicBezTo>
                <a:cubicBezTo>
                  <a:pt x="108643" y="8328"/>
                  <a:pt x="111293" y="11167"/>
                  <a:pt x="111293" y="16656"/>
                </a:cubicBezTo>
                <a:lnTo>
                  <a:pt x="111293" y="105993"/>
                </a:lnTo>
                <a:close/>
                <a:moveTo>
                  <a:pt x="69463" y="38990"/>
                </a:moveTo>
                <a:lnTo>
                  <a:pt x="69463" y="38990"/>
                </a:lnTo>
                <a:cubicBezTo>
                  <a:pt x="72492" y="38990"/>
                  <a:pt x="75141" y="36340"/>
                  <a:pt x="75141" y="33501"/>
                </a:cubicBezTo>
                <a:cubicBezTo>
                  <a:pt x="75141" y="19495"/>
                  <a:pt x="75141" y="19495"/>
                  <a:pt x="75141" y="19495"/>
                </a:cubicBezTo>
                <a:cubicBezTo>
                  <a:pt x="75141" y="16656"/>
                  <a:pt x="72492" y="16656"/>
                  <a:pt x="69463" y="16656"/>
                </a:cubicBezTo>
                <a:cubicBezTo>
                  <a:pt x="69463" y="16656"/>
                  <a:pt x="66813" y="16656"/>
                  <a:pt x="66813" y="19495"/>
                </a:cubicBezTo>
                <a:cubicBezTo>
                  <a:pt x="66813" y="33501"/>
                  <a:pt x="66813" y="33501"/>
                  <a:pt x="66813" y="33501"/>
                </a:cubicBezTo>
                <a:cubicBezTo>
                  <a:pt x="66813" y="36340"/>
                  <a:pt x="69463" y="38990"/>
                  <a:pt x="69463" y="38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Shape 4722"/>
          <p:cNvSpPr/>
          <p:nvPr/>
        </p:nvSpPr>
        <p:spPr>
          <a:xfrm>
            <a:off x="1197000" y="27352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Shape 4723"/>
          <p:cNvSpPr/>
          <p:nvPr/>
        </p:nvSpPr>
        <p:spPr>
          <a:xfrm>
            <a:off x="5553000" y="2244600"/>
            <a:ext cx="292320" cy="306360"/>
          </a:xfrm>
          <a:custGeom>
            <a:avLst/>
            <a:gdLst>
              <a:gd name="textAreaLeft" fmla="*/ 0 w 292320"/>
              <a:gd name="textAreaRight" fmla="*/ 292680 w 2923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5298" y="0"/>
                </a:moveTo>
                <a:lnTo>
                  <a:pt x="105298" y="0"/>
                </a:lnTo>
                <a:cubicBezTo>
                  <a:pt x="14701" y="0"/>
                  <a:pt x="14701" y="0"/>
                  <a:pt x="14701" y="0"/>
                </a:cubicBezTo>
                <a:cubicBezTo>
                  <a:pt x="5761" y="0"/>
                  <a:pt x="0" y="5678"/>
                  <a:pt x="0" y="14006"/>
                </a:cubicBezTo>
                <a:cubicBezTo>
                  <a:pt x="0" y="80820"/>
                  <a:pt x="0" y="80820"/>
                  <a:pt x="0" y="80820"/>
                </a:cubicBezTo>
                <a:cubicBezTo>
                  <a:pt x="0" y="89148"/>
                  <a:pt x="5761" y="97665"/>
                  <a:pt x="14701" y="97665"/>
                </a:cubicBezTo>
                <a:cubicBezTo>
                  <a:pt x="46887" y="97665"/>
                  <a:pt x="46887" y="97665"/>
                  <a:pt x="46887" y="97665"/>
                </a:cubicBezTo>
                <a:cubicBezTo>
                  <a:pt x="46887" y="111482"/>
                  <a:pt x="46887" y="111482"/>
                  <a:pt x="46887" y="111482"/>
                </a:cubicBezTo>
                <a:cubicBezTo>
                  <a:pt x="37947" y="111482"/>
                  <a:pt x="37947" y="111482"/>
                  <a:pt x="37947" y="111482"/>
                </a:cubicBezTo>
                <a:cubicBezTo>
                  <a:pt x="35165" y="111482"/>
                  <a:pt x="35165" y="114321"/>
                  <a:pt x="35165" y="114321"/>
                </a:cubicBezTo>
                <a:cubicBezTo>
                  <a:pt x="35165" y="117160"/>
                  <a:pt x="35165" y="119810"/>
                  <a:pt x="37947" y="119810"/>
                </a:cubicBezTo>
                <a:cubicBezTo>
                  <a:pt x="84834" y="119810"/>
                  <a:pt x="84834" y="119810"/>
                  <a:pt x="84834" y="119810"/>
                </a:cubicBezTo>
                <a:cubicBezTo>
                  <a:pt x="87615" y="119810"/>
                  <a:pt x="87615" y="117160"/>
                  <a:pt x="87615" y="114321"/>
                </a:cubicBezTo>
                <a:cubicBezTo>
                  <a:pt x="87615" y="114321"/>
                  <a:pt x="87615" y="111482"/>
                  <a:pt x="84834" y="111482"/>
                </a:cubicBezTo>
                <a:cubicBezTo>
                  <a:pt x="76092" y="111482"/>
                  <a:pt x="76092" y="111482"/>
                  <a:pt x="76092" y="111482"/>
                </a:cubicBezTo>
                <a:cubicBezTo>
                  <a:pt x="76092" y="97665"/>
                  <a:pt x="76092" y="97665"/>
                  <a:pt x="76092" y="97665"/>
                </a:cubicBezTo>
                <a:cubicBezTo>
                  <a:pt x="105298" y="97665"/>
                  <a:pt x="105298" y="97665"/>
                  <a:pt x="105298" y="97665"/>
                </a:cubicBezTo>
                <a:cubicBezTo>
                  <a:pt x="114039" y="97665"/>
                  <a:pt x="119801" y="89148"/>
                  <a:pt x="119801" y="80820"/>
                </a:cubicBezTo>
                <a:cubicBezTo>
                  <a:pt x="119801" y="14006"/>
                  <a:pt x="119801" y="14006"/>
                  <a:pt x="119801" y="14006"/>
                </a:cubicBezTo>
                <a:cubicBezTo>
                  <a:pt x="119801" y="5678"/>
                  <a:pt x="114039" y="0"/>
                  <a:pt x="105298" y="0"/>
                </a:cubicBezTo>
                <a:close/>
                <a:moveTo>
                  <a:pt x="70132" y="111482"/>
                </a:moveTo>
                <a:lnTo>
                  <a:pt x="70132" y="111482"/>
                </a:lnTo>
                <a:cubicBezTo>
                  <a:pt x="52649" y="111482"/>
                  <a:pt x="52649" y="111482"/>
                  <a:pt x="52649" y="111482"/>
                </a:cubicBezTo>
                <a:cubicBezTo>
                  <a:pt x="52649" y="97665"/>
                  <a:pt x="52649" y="97665"/>
                  <a:pt x="52649" y="97665"/>
                </a:cubicBezTo>
                <a:cubicBezTo>
                  <a:pt x="70132" y="97665"/>
                  <a:pt x="70132" y="97665"/>
                  <a:pt x="70132" y="97665"/>
                </a:cubicBezTo>
                <a:lnTo>
                  <a:pt x="70132" y="111482"/>
                </a:lnTo>
                <a:close/>
                <a:moveTo>
                  <a:pt x="111059" y="80820"/>
                </a:moveTo>
                <a:lnTo>
                  <a:pt x="111059" y="80820"/>
                </a:lnTo>
                <a:cubicBezTo>
                  <a:pt x="111059" y="86498"/>
                  <a:pt x="108278" y="89148"/>
                  <a:pt x="105298" y="89148"/>
                </a:cubicBezTo>
                <a:cubicBezTo>
                  <a:pt x="14701" y="89148"/>
                  <a:pt x="14701" y="89148"/>
                  <a:pt x="14701" y="89148"/>
                </a:cubicBezTo>
                <a:cubicBezTo>
                  <a:pt x="11721" y="89148"/>
                  <a:pt x="5761" y="86498"/>
                  <a:pt x="5761" y="80820"/>
                </a:cubicBezTo>
                <a:cubicBezTo>
                  <a:pt x="5761" y="75331"/>
                  <a:pt x="5761" y="75331"/>
                  <a:pt x="5761" y="75331"/>
                </a:cubicBezTo>
                <a:cubicBezTo>
                  <a:pt x="111059" y="75331"/>
                  <a:pt x="111059" y="75331"/>
                  <a:pt x="111059" y="75331"/>
                </a:cubicBezTo>
                <a:lnTo>
                  <a:pt x="111059" y="80820"/>
                </a:lnTo>
                <a:close/>
                <a:moveTo>
                  <a:pt x="111059" y="67003"/>
                </a:moveTo>
                <a:lnTo>
                  <a:pt x="111059" y="67003"/>
                </a:lnTo>
                <a:cubicBezTo>
                  <a:pt x="5761" y="67003"/>
                  <a:pt x="5761" y="67003"/>
                  <a:pt x="5761" y="67003"/>
                </a:cubicBezTo>
                <a:cubicBezTo>
                  <a:pt x="5761" y="14006"/>
                  <a:pt x="5761" y="14006"/>
                  <a:pt x="5761" y="14006"/>
                </a:cubicBezTo>
                <a:cubicBezTo>
                  <a:pt x="5761" y="11167"/>
                  <a:pt x="11721" y="8328"/>
                  <a:pt x="14701" y="8328"/>
                </a:cubicBezTo>
                <a:cubicBezTo>
                  <a:pt x="105298" y="8328"/>
                  <a:pt x="105298" y="8328"/>
                  <a:pt x="105298" y="8328"/>
                </a:cubicBezTo>
                <a:cubicBezTo>
                  <a:pt x="108278" y="8328"/>
                  <a:pt x="111059" y="11167"/>
                  <a:pt x="111059" y="14006"/>
                </a:cubicBezTo>
                <a:lnTo>
                  <a:pt x="111059" y="670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Shape 4724"/>
          <p:cNvSpPr/>
          <p:nvPr/>
        </p:nvSpPr>
        <p:spPr>
          <a:xfrm>
            <a:off x="5102280" y="224460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Shape 4725"/>
          <p:cNvSpPr/>
          <p:nvPr/>
        </p:nvSpPr>
        <p:spPr>
          <a:xfrm>
            <a:off x="4633920" y="2244600"/>
            <a:ext cx="169920" cy="306360"/>
          </a:xfrm>
          <a:custGeom>
            <a:avLst/>
            <a:gdLst>
              <a:gd name="textAreaLeft" fmla="*/ 0 w 169920"/>
              <a:gd name="textAreaRight" fmla="*/ 169920 w 169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99" y="103154"/>
                </a:moveTo>
                <a:lnTo>
                  <a:pt x="59999" y="103154"/>
                </a:lnTo>
                <a:cubicBezTo>
                  <a:pt x="69830" y="103154"/>
                  <a:pt x="74915" y="100315"/>
                  <a:pt x="74915" y="97665"/>
                </a:cubicBezTo>
                <a:cubicBezTo>
                  <a:pt x="74915" y="91987"/>
                  <a:pt x="69830" y="89148"/>
                  <a:pt x="59999" y="89148"/>
                </a:cubicBezTo>
                <a:cubicBezTo>
                  <a:pt x="54915" y="89148"/>
                  <a:pt x="49830" y="91987"/>
                  <a:pt x="49830" y="97665"/>
                </a:cubicBezTo>
                <a:cubicBezTo>
                  <a:pt x="49830" y="100315"/>
                  <a:pt x="54915" y="103154"/>
                  <a:pt x="59999" y="103154"/>
                </a:cubicBezTo>
                <a:close/>
                <a:moveTo>
                  <a:pt x="94915" y="0"/>
                </a:moveTo>
                <a:lnTo>
                  <a:pt x="94915" y="0"/>
                </a:lnTo>
                <a:cubicBezTo>
                  <a:pt x="30169" y="0"/>
                  <a:pt x="30169" y="0"/>
                  <a:pt x="30169" y="0"/>
                </a:cubicBezTo>
                <a:cubicBezTo>
                  <a:pt x="14915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14915" y="119810"/>
                  <a:pt x="30169" y="119810"/>
                </a:cubicBezTo>
                <a:cubicBezTo>
                  <a:pt x="94915" y="119810"/>
                  <a:pt x="94915" y="119810"/>
                  <a:pt x="94915" y="119810"/>
                </a:cubicBezTo>
                <a:cubicBezTo>
                  <a:pt x="109830" y="119810"/>
                  <a:pt x="119661" y="111482"/>
                  <a:pt x="119661" y="103154"/>
                </a:cubicBezTo>
                <a:cubicBezTo>
                  <a:pt x="119661" y="14006"/>
                  <a:pt x="119661" y="14006"/>
                  <a:pt x="119661" y="14006"/>
                </a:cubicBezTo>
                <a:cubicBezTo>
                  <a:pt x="119661" y="5678"/>
                  <a:pt x="109830" y="0"/>
                  <a:pt x="94915" y="0"/>
                </a:cubicBezTo>
                <a:close/>
                <a:moveTo>
                  <a:pt x="109830" y="103154"/>
                </a:moveTo>
                <a:lnTo>
                  <a:pt x="109830" y="103154"/>
                </a:lnTo>
                <a:cubicBezTo>
                  <a:pt x="109830" y="108643"/>
                  <a:pt x="99661" y="111482"/>
                  <a:pt x="94915" y="111482"/>
                </a:cubicBezTo>
                <a:cubicBezTo>
                  <a:pt x="30169" y="111482"/>
                  <a:pt x="30169" y="111482"/>
                  <a:pt x="30169" y="111482"/>
                </a:cubicBezTo>
                <a:cubicBezTo>
                  <a:pt x="20000" y="111482"/>
                  <a:pt x="14915" y="108643"/>
                  <a:pt x="14915" y="103154"/>
                </a:cubicBezTo>
                <a:cubicBezTo>
                  <a:pt x="14915" y="80820"/>
                  <a:pt x="14915" y="80820"/>
                  <a:pt x="14915" y="80820"/>
                </a:cubicBezTo>
                <a:cubicBezTo>
                  <a:pt x="109830" y="80820"/>
                  <a:pt x="109830" y="80820"/>
                  <a:pt x="109830" y="80820"/>
                </a:cubicBezTo>
                <a:lnTo>
                  <a:pt x="109830" y="103154"/>
                </a:lnTo>
                <a:close/>
                <a:moveTo>
                  <a:pt x="109830" y="75331"/>
                </a:moveTo>
                <a:lnTo>
                  <a:pt x="109830" y="75331"/>
                </a:lnTo>
                <a:cubicBezTo>
                  <a:pt x="14915" y="75331"/>
                  <a:pt x="14915" y="75331"/>
                  <a:pt x="14915" y="75331"/>
                </a:cubicBezTo>
                <a:cubicBezTo>
                  <a:pt x="14915" y="25173"/>
                  <a:pt x="14915" y="25173"/>
                  <a:pt x="14915" y="25173"/>
                </a:cubicBezTo>
                <a:cubicBezTo>
                  <a:pt x="109830" y="25173"/>
                  <a:pt x="109830" y="25173"/>
                  <a:pt x="109830" y="25173"/>
                </a:cubicBezTo>
                <a:lnTo>
                  <a:pt x="109830" y="75331"/>
                </a:lnTo>
                <a:close/>
                <a:moveTo>
                  <a:pt x="109830" y="19495"/>
                </a:moveTo>
                <a:lnTo>
                  <a:pt x="109830" y="19495"/>
                </a:lnTo>
                <a:cubicBezTo>
                  <a:pt x="14915" y="19495"/>
                  <a:pt x="14915" y="19495"/>
                  <a:pt x="14915" y="19495"/>
                </a:cubicBezTo>
                <a:cubicBezTo>
                  <a:pt x="14915" y="14006"/>
                  <a:pt x="14915" y="14006"/>
                  <a:pt x="14915" y="14006"/>
                </a:cubicBezTo>
                <a:cubicBezTo>
                  <a:pt x="14915" y="11167"/>
                  <a:pt x="20000" y="8328"/>
                  <a:pt x="30169" y="8328"/>
                </a:cubicBezTo>
                <a:cubicBezTo>
                  <a:pt x="94915" y="8328"/>
                  <a:pt x="94915" y="8328"/>
                  <a:pt x="94915" y="8328"/>
                </a:cubicBezTo>
                <a:cubicBezTo>
                  <a:pt x="99661" y="8328"/>
                  <a:pt x="109830" y="11167"/>
                  <a:pt x="109830" y="14006"/>
                </a:cubicBezTo>
                <a:lnTo>
                  <a:pt x="109830" y="1949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Shape 4726"/>
          <p:cNvSpPr/>
          <p:nvPr/>
        </p:nvSpPr>
        <p:spPr>
          <a:xfrm>
            <a:off x="4111560" y="2244600"/>
            <a:ext cx="241200" cy="306360"/>
          </a:xfrm>
          <a:custGeom>
            <a:avLst/>
            <a:gdLst>
              <a:gd name="textAreaLeft" fmla="*/ 0 w 241200"/>
              <a:gd name="textAreaRight" fmla="*/ 241560 w 241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Shape 4727"/>
          <p:cNvSpPr/>
          <p:nvPr/>
        </p:nvSpPr>
        <p:spPr>
          <a:xfrm>
            <a:off x="3587760" y="2309760"/>
            <a:ext cx="304920" cy="168480"/>
          </a:xfrm>
          <a:custGeom>
            <a:avLst/>
            <a:gdLst>
              <a:gd name="textAreaLeft" fmla="*/ 0 w 304920"/>
              <a:gd name="textAreaRight" fmla="*/ 305280 w 3049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72492" y="49830"/>
                </a:moveTo>
                <a:lnTo>
                  <a:pt x="72492" y="49830"/>
                </a:lnTo>
                <a:cubicBezTo>
                  <a:pt x="69842" y="49830"/>
                  <a:pt x="67003" y="54915"/>
                  <a:pt x="67003" y="59661"/>
                </a:cubicBezTo>
                <a:cubicBezTo>
                  <a:pt x="67003" y="64745"/>
                  <a:pt x="69842" y="69830"/>
                  <a:pt x="72492" y="69830"/>
                </a:cubicBezTo>
                <a:cubicBezTo>
                  <a:pt x="75331" y="69830"/>
                  <a:pt x="77981" y="64745"/>
                  <a:pt x="77981" y="59661"/>
                </a:cubicBezTo>
                <a:cubicBezTo>
                  <a:pt x="77981" y="54915"/>
                  <a:pt x="75331" y="49830"/>
                  <a:pt x="72492" y="49830"/>
                </a:cubicBezTo>
                <a:close/>
                <a:moveTo>
                  <a:pt x="50157" y="54915"/>
                </a:moveTo>
                <a:lnTo>
                  <a:pt x="50157" y="54915"/>
                </a:lnTo>
                <a:cubicBezTo>
                  <a:pt x="39179" y="54915"/>
                  <a:pt x="39179" y="54915"/>
                  <a:pt x="39179" y="54915"/>
                </a:cubicBezTo>
                <a:cubicBezTo>
                  <a:pt x="39179" y="34915"/>
                  <a:pt x="39179" y="34915"/>
                  <a:pt x="39179" y="34915"/>
                </a:cubicBezTo>
                <a:cubicBezTo>
                  <a:pt x="39179" y="29830"/>
                  <a:pt x="36340" y="29830"/>
                  <a:pt x="33501" y="29830"/>
                </a:cubicBezTo>
                <a:cubicBezTo>
                  <a:pt x="33501" y="29830"/>
                  <a:pt x="30662" y="29830"/>
                  <a:pt x="30662" y="34915"/>
                </a:cubicBezTo>
                <a:cubicBezTo>
                  <a:pt x="30662" y="54915"/>
                  <a:pt x="30662" y="54915"/>
                  <a:pt x="30662" y="54915"/>
                </a:cubicBezTo>
                <a:cubicBezTo>
                  <a:pt x="19495" y="54915"/>
                  <a:pt x="19495" y="54915"/>
                  <a:pt x="19495" y="54915"/>
                </a:cubicBezTo>
                <a:cubicBezTo>
                  <a:pt x="16845" y="54915"/>
                  <a:pt x="16845" y="59661"/>
                  <a:pt x="16845" y="59661"/>
                </a:cubicBezTo>
                <a:cubicBezTo>
                  <a:pt x="16845" y="64745"/>
                  <a:pt x="16845" y="69830"/>
                  <a:pt x="19495" y="69830"/>
                </a:cubicBezTo>
                <a:cubicBezTo>
                  <a:pt x="30662" y="69830"/>
                  <a:pt x="30662" y="69830"/>
                  <a:pt x="30662" y="69830"/>
                </a:cubicBezTo>
                <a:cubicBezTo>
                  <a:pt x="30662" y="89830"/>
                  <a:pt x="30662" y="89830"/>
                  <a:pt x="30662" y="89830"/>
                </a:cubicBezTo>
                <a:lnTo>
                  <a:pt x="33501" y="94576"/>
                </a:lnTo>
                <a:cubicBezTo>
                  <a:pt x="36340" y="94576"/>
                  <a:pt x="39179" y="89830"/>
                  <a:pt x="39179" y="89830"/>
                </a:cubicBezTo>
                <a:cubicBezTo>
                  <a:pt x="39179" y="69830"/>
                  <a:pt x="39179" y="69830"/>
                  <a:pt x="39179" y="69830"/>
                </a:cubicBezTo>
                <a:cubicBezTo>
                  <a:pt x="50157" y="69830"/>
                  <a:pt x="50157" y="69830"/>
                  <a:pt x="50157" y="69830"/>
                </a:cubicBezTo>
                <a:cubicBezTo>
                  <a:pt x="50157" y="69830"/>
                  <a:pt x="52996" y="64745"/>
                  <a:pt x="52996" y="59661"/>
                </a:cubicBezTo>
                <a:lnTo>
                  <a:pt x="50157" y="54915"/>
                </a:lnTo>
                <a:close/>
                <a:moveTo>
                  <a:pt x="83659" y="74915"/>
                </a:moveTo>
                <a:lnTo>
                  <a:pt x="83659" y="74915"/>
                </a:lnTo>
                <a:cubicBezTo>
                  <a:pt x="81009" y="74915"/>
                  <a:pt x="77981" y="79661"/>
                  <a:pt x="77981" y="84745"/>
                </a:cubicBezTo>
                <a:cubicBezTo>
                  <a:pt x="77981" y="89830"/>
                  <a:pt x="81009" y="94576"/>
                  <a:pt x="83659" y="94576"/>
                </a:cubicBezTo>
                <a:cubicBezTo>
                  <a:pt x="86498" y="94576"/>
                  <a:pt x="89148" y="89830"/>
                  <a:pt x="89148" y="84745"/>
                </a:cubicBezTo>
                <a:cubicBezTo>
                  <a:pt x="89148" y="79661"/>
                  <a:pt x="86498" y="74915"/>
                  <a:pt x="83659" y="74915"/>
                </a:cubicBezTo>
                <a:close/>
                <a:moveTo>
                  <a:pt x="97665" y="0"/>
                </a:moveTo>
                <a:lnTo>
                  <a:pt x="97665" y="0"/>
                </a:lnTo>
                <a:cubicBezTo>
                  <a:pt x="22334" y="0"/>
                  <a:pt x="22334" y="0"/>
                  <a:pt x="22334" y="0"/>
                </a:cubicBezTo>
                <a:cubicBezTo>
                  <a:pt x="11167" y="0"/>
                  <a:pt x="0" y="19661"/>
                  <a:pt x="0" y="39661"/>
                </a:cubicBezTo>
                <a:cubicBezTo>
                  <a:pt x="0" y="79661"/>
                  <a:pt x="0" y="79661"/>
                  <a:pt x="0" y="79661"/>
                </a:cubicBezTo>
                <a:cubicBezTo>
                  <a:pt x="0" y="104745"/>
                  <a:pt x="11167" y="119661"/>
                  <a:pt x="22334" y="119661"/>
                </a:cubicBezTo>
                <a:cubicBezTo>
                  <a:pt x="97665" y="119661"/>
                  <a:pt x="97665" y="119661"/>
                  <a:pt x="97665" y="119661"/>
                </a:cubicBezTo>
                <a:cubicBezTo>
                  <a:pt x="108832" y="119661"/>
                  <a:pt x="119810" y="104745"/>
                  <a:pt x="119810" y="79661"/>
                </a:cubicBezTo>
                <a:cubicBezTo>
                  <a:pt x="119810" y="39661"/>
                  <a:pt x="119810" y="39661"/>
                  <a:pt x="119810" y="39661"/>
                </a:cubicBezTo>
                <a:cubicBezTo>
                  <a:pt x="119810" y="19661"/>
                  <a:pt x="108832" y="0"/>
                  <a:pt x="97665" y="0"/>
                </a:cubicBezTo>
                <a:close/>
                <a:moveTo>
                  <a:pt x="111482" y="79661"/>
                </a:moveTo>
                <a:lnTo>
                  <a:pt x="111482" y="79661"/>
                </a:lnTo>
                <a:cubicBezTo>
                  <a:pt x="111482" y="94576"/>
                  <a:pt x="105993" y="109830"/>
                  <a:pt x="97665" y="109830"/>
                </a:cubicBezTo>
                <a:cubicBezTo>
                  <a:pt x="22334" y="109830"/>
                  <a:pt x="22334" y="109830"/>
                  <a:pt x="22334" y="109830"/>
                </a:cubicBezTo>
                <a:cubicBezTo>
                  <a:pt x="14006" y="109830"/>
                  <a:pt x="8517" y="94576"/>
                  <a:pt x="8517" y="79661"/>
                </a:cubicBezTo>
                <a:cubicBezTo>
                  <a:pt x="8517" y="39661"/>
                  <a:pt x="8517" y="39661"/>
                  <a:pt x="8517" y="39661"/>
                </a:cubicBezTo>
                <a:cubicBezTo>
                  <a:pt x="8517" y="25084"/>
                  <a:pt x="14006" y="14915"/>
                  <a:pt x="22334" y="14915"/>
                </a:cubicBezTo>
                <a:cubicBezTo>
                  <a:pt x="97665" y="14915"/>
                  <a:pt x="97665" y="14915"/>
                  <a:pt x="97665" y="14915"/>
                </a:cubicBezTo>
                <a:cubicBezTo>
                  <a:pt x="105993" y="14915"/>
                  <a:pt x="111482" y="25084"/>
                  <a:pt x="111482" y="39661"/>
                </a:cubicBezTo>
                <a:lnTo>
                  <a:pt x="111482" y="79661"/>
                </a:lnTo>
                <a:close/>
                <a:moveTo>
                  <a:pt x="100315" y="54915"/>
                </a:moveTo>
                <a:lnTo>
                  <a:pt x="100315" y="54915"/>
                </a:lnTo>
                <a:cubicBezTo>
                  <a:pt x="97665" y="54915"/>
                  <a:pt x="94826" y="59661"/>
                  <a:pt x="94826" y="64745"/>
                </a:cubicBezTo>
                <a:cubicBezTo>
                  <a:pt x="94826" y="69830"/>
                  <a:pt x="97665" y="74915"/>
                  <a:pt x="100315" y="74915"/>
                </a:cubicBezTo>
                <a:cubicBezTo>
                  <a:pt x="103154" y="74915"/>
                  <a:pt x="105993" y="69830"/>
                  <a:pt x="105993" y="64745"/>
                </a:cubicBezTo>
                <a:cubicBezTo>
                  <a:pt x="105993" y="59661"/>
                  <a:pt x="103154" y="54915"/>
                  <a:pt x="100315" y="54915"/>
                </a:cubicBezTo>
                <a:close/>
                <a:moveTo>
                  <a:pt x="89148" y="29830"/>
                </a:moveTo>
                <a:lnTo>
                  <a:pt x="89148" y="29830"/>
                </a:lnTo>
                <a:cubicBezTo>
                  <a:pt x="86498" y="29830"/>
                  <a:pt x="83659" y="34915"/>
                  <a:pt x="83659" y="39661"/>
                </a:cubicBezTo>
                <a:cubicBezTo>
                  <a:pt x="83659" y="44745"/>
                  <a:pt x="86498" y="49830"/>
                  <a:pt x="89148" y="49830"/>
                </a:cubicBezTo>
                <a:cubicBezTo>
                  <a:pt x="91987" y="49830"/>
                  <a:pt x="94826" y="44745"/>
                  <a:pt x="94826" y="39661"/>
                </a:cubicBezTo>
                <a:cubicBezTo>
                  <a:pt x="94826" y="34915"/>
                  <a:pt x="91987" y="29830"/>
                  <a:pt x="89148" y="29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Shape 4728"/>
          <p:cNvSpPr/>
          <p:nvPr/>
        </p:nvSpPr>
        <p:spPr>
          <a:xfrm>
            <a:off x="3100320" y="22939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Shape 4729"/>
          <p:cNvSpPr/>
          <p:nvPr/>
        </p:nvSpPr>
        <p:spPr>
          <a:xfrm>
            <a:off x="2612880" y="2265480"/>
            <a:ext cx="297000" cy="264960"/>
          </a:xfrm>
          <a:custGeom>
            <a:avLst/>
            <a:gdLst>
              <a:gd name="textAreaLeft" fmla="*/ 0 w 297000"/>
              <a:gd name="textAreaRight" fmla="*/ 297360 w 29700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105654" y="16263"/>
                </a:moveTo>
                <a:lnTo>
                  <a:pt x="105654" y="16263"/>
                </a:lnTo>
                <a:cubicBezTo>
                  <a:pt x="94216" y="16263"/>
                  <a:pt x="94216" y="16263"/>
                  <a:pt x="94216" y="16263"/>
                </a:cubicBezTo>
                <a:cubicBezTo>
                  <a:pt x="91308" y="6593"/>
                  <a:pt x="91308" y="6593"/>
                  <a:pt x="91308" y="6593"/>
                </a:cubicBezTo>
                <a:cubicBezTo>
                  <a:pt x="88400" y="3296"/>
                  <a:pt x="85492" y="0"/>
                  <a:pt x="82778" y="0"/>
                </a:cubicBezTo>
                <a:cubicBezTo>
                  <a:pt x="37027" y="0"/>
                  <a:pt x="37027" y="0"/>
                  <a:pt x="37027" y="0"/>
                </a:cubicBezTo>
                <a:cubicBezTo>
                  <a:pt x="34313" y="0"/>
                  <a:pt x="31405" y="3296"/>
                  <a:pt x="28497" y="6593"/>
                </a:cubicBezTo>
                <a:cubicBezTo>
                  <a:pt x="25589" y="16263"/>
                  <a:pt x="25589" y="16263"/>
                  <a:pt x="25589" y="16263"/>
                </a:cubicBezTo>
                <a:cubicBezTo>
                  <a:pt x="14151" y="16263"/>
                  <a:pt x="14151" y="16263"/>
                  <a:pt x="14151" y="16263"/>
                </a:cubicBezTo>
                <a:cubicBezTo>
                  <a:pt x="5621" y="16263"/>
                  <a:pt x="0" y="22857"/>
                  <a:pt x="0" y="32307"/>
                </a:cubicBezTo>
                <a:cubicBezTo>
                  <a:pt x="0" y="103736"/>
                  <a:pt x="0" y="103736"/>
                  <a:pt x="0" y="103736"/>
                </a:cubicBezTo>
                <a:cubicBezTo>
                  <a:pt x="0" y="113406"/>
                  <a:pt x="5621" y="119780"/>
                  <a:pt x="14151" y="119780"/>
                </a:cubicBezTo>
                <a:cubicBezTo>
                  <a:pt x="105654" y="119780"/>
                  <a:pt x="105654" y="119780"/>
                  <a:pt x="105654" y="119780"/>
                </a:cubicBezTo>
                <a:cubicBezTo>
                  <a:pt x="114184" y="119780"/>
                  <a:pt x="119806" y="113406"/>
                  <a:pt x="119806" y="103736"/>
                </a:cubicBezTo>
                <a:cubicBezTo>
                  <a:pt x="119806" y="32307"/>
                  <a:pt x="119806" y="32307"/>
                  <a:pt x="119806" y="32307"/>
                </a:cubicBezTo>
                <a:cubicBezTo>
                  <a:pt x="119806" y="22857"/>
                  <a:pt x="114184" y="16263"/>
                  <a:pt x="105654" y="16263"/>
                </a:cubicBezTo>
                <a:close/>
                <a:moveTo>
                  <a:pt x="114184" y="103736"/>
                </a:moveTo>
                <a:lnTo>
                  <a:pt x="114184" y="103736"/>
                </a:lnTo>
                <a:cubicBezTo>
                  <a:pt x="114184" y="106813"/>
                  <a:pt x="108368" y="110109"/>
                  <a:pt x="105654" y="110109"/>
                </a:cubicBezTo>
                <a:cubicBezTo>
                  <a:pt x="14151" y="110109"/>
                  <a:pt x="14151" y="110109"/>
                  <a:pt x="14151" y="110109"/>
                </a:cubicBezTo>
                <a:cubicBezTo>
                  <a:pt x="11437" y="110109"/>
                  <a:pt x="5621" y="106813"/>
                  <a:pt x="5621" y="103736"/>
                </a:cubicBezTo>
                <a:cubicBezTo>
                  <a:pt x="5621" y="32307"/>
                  <a:pt x="5621" y="32307"/>
                  <a:pt x="5621" y="32307"/>
                </a:cubicBezTo>
                <a:cubicBezTo>
                  <a:pt x="5621" y="29230"/>
                  <a:pt x="11437" y="25934"/>
                  <a:pt x="14151" y="25934"/>
                </a:cubicBezTo>
                <a:cubicBezTo>
                  <a:pt x="28497" y="25934"/>
                  <a:pt x="28497" y="25934"/>
                  <a:pt x="28497" y="25934"/>
                </a:cubicBezTo>
                <a:cubicBezTo>
                  <a:pt x="34313" y="16263"/>
                  <a:pt x="34313" y="16263"/>
                  <a:pt x="34313" y="16263"/>
                </a:cubicBezTo>
                <a:cubicBezTo>
                  <a:pt x="37027" y="9890"/>
                  <a:pt x="37027" y="6593"/>
                  <a:pt x="39935" y="6593"/>
                </a:cubicBezTo>
                <a:cubicBezTo>
                  <a:pt x="79870" y="6593"/>
                  <a:pt x="79870" y="6593"/>
                  <a:pt x="79870" y="6593"/>
                </a:cubicBezTo>
                <a:cubicBezTo>
                  <a:pt x="82778" y="6593"/>
                  <a:pt x="82778" y="9890"/>
                  <a:pt x="85492" y="16263"/>
                </a:cubicBezTo>
                <a:cubicBezTo>
                  <a:pt x="91308" y="25934"/>
                  <a:pt x="91308" y="25934"/>
                  <a:pt x="91308" y="25934"/>
                </a:cubicBezTo>
                <a:cubicBezTo>
                  <a:pt x="105654" y="25934"/>
                  <a:pt x="105654" y="25934"/>
                  <a:pt x="105654" y="25934"/>
                </a:cubicBezTo>
                <a:cubicBezTo>
                  <a:pt x="108368" y="25934"/>
                  <a:pt x="114184" y="29230"/>
                  <a:pt x="114184" y="32307"/>
                </a:cubicBezTo>
                <a:lnTo>
                  <a:pt x="114184" y="103736"/>
                </a:lnTo>
                <a:close/>
                <a:moveTo>
                  <a:pt x="59903" y="32307"/>
                </a:moveTo>
                <a:lnTo>
                  <a:pt x="59903" y="32307"/>
                </a:lnTo>
                <a:cubicBezTo>
                  <a:pt x="42843" y="32307"/>
                  <a:pt x="28497" y="48571"/>
                  <a:pt x="28497" y="68131"/>
                </a:cubicBezTo>
                <a:cubicBezTo>
                  <a:pt x="28497" y="87472"/>
                  <a:pt x="42843" y="103736"/>
                  <a:pt x="59903" y="103736"/>
                </a:cubicBezTo>
                <a:cubicBezTo>
                  <a:pt x="77156" y="103736"/>
                  <a:pt x="91308" y="87472"/>
                  <a:pt x="91308" y="68131"/>
                </a:cubicBezTo>
                <a:cubicBezTo>
                  <a:pt x="91308" y="48571"/>
                  <a:pt x="77156" y="32307"/>
                  <a:pt x="59903" y="32307"/>
                </a:cubicBezTo>
                <a:close/>
                <a:moveTo>
                  <a:pt x="59903" y="93846"/>
                </a:moveTo>
                <a:lnTo>
                  <a:pt x="59903" y="93846"/>
                </a:lnTo>
                <a:cubicBezTo>
                  <a:pt x="48465" y="93846"/>
                  <a:pt x="37027" y="80879"/>
                  <a:pt x="37027" y="68131"/>
                </a:cubicBezTo>
                <a:cubicBezTo>
                  <a:pt x="37027" y="55164"/>
                  <a:pt x="48465" y="42197"/>
                  <a:pt x="59903" y="42197"/>
                </a:cubicBezTo>
                <a:cubicBezTo>
                  <a:pt x="71340" y="42197"/>
                  <a:pt x="82778" y="55164"/>
                  <a:pt x="82778" y="68131"/>
                </a:cubicBezTo>
                <a:cubicBezTo>
                  <a:pt x="82778" y="80879"/>
                  <a:pt x="71340" y="93846"/>
                  <a:pt x="59903" y="938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Shape 4730"/>
          <p:cNvSpPr/>
          <p:nvPr/>
        </p:nvSpPr>
        <p:spPr>
          <a:xfrm>
            <a:off x="2195640" y="2244600"/>
            <a:ext cx="134640" cy="306360"/>
          </a:xfrm>
          <a:custGeom>
            <a:avLst/>
            <a:gdLst>
              <a:gd name="textAreaLeft" fmla="*/ 0 w 134640"/>
              <a:gd name="textAreaRight" fmla="*/ 135000 w 1346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Shape 4731"/>
          <p:cNvSpPr/>
          <p:nvPr/>
        </p:nvSpPr>
        <p:spPr>
          <a:xfrm>
            <a:off x="1741320" y="2244600"/>
            <a:ext cx="78120" cy="306360"/>
          </a:xfrm>
          <a:custGeom>
            <a:avLst/>
            <a:gdLst>
              <a:gd name="textAreaLeft" fmla="*/ 0 w 78120"/>
              <a:gd name="textAreaRight" fmla="*/ 78480 w 781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32392" y="0"/>
                </a:moveTo>
                <a:lnTo>
                  <a:pt x="32392" y="0"/>
                </a:lnTo>
                <a:cubicBezTo>
                  <a:pt x="22085" y="0"/>
                  <a:pt x="22085" y="0"/>
                  <a:pt x="11042" y="0"/>
                </a:cubicBezTo>
                <a:lnTo>
                  <a:pt x="0" y="2839"/>
                </a:lnTo>
                <a:cubicBezTo>
                  <a:pt x="0" y="114321"/>
                  <a:pt x="0" y="114321"/>
                  <a:pt x="0" y="114321"/>
                </a:cubicBezTo>
                <a:cubicBezTo>
                  <a:pt x="0" y="117160"/>
                  <a:pt x="11042" y="119810"/>
                  <a:pt x="11042" y="119810"/>
                </a:cubicBezTo>
                <a:cubicBezTo>
                  <a:pt x="22085" y="119810"/>
                  <a:pt x="32392" y="117160"/>
                  <a:pt x="32392" y="114321"/>
                </a:cubicBezTo>
                <a:cubicBezTo>
                  <a:pt x="32392" y="67003"/>
                  <a:pt x="32392" y="67003"/>
                  <a:pt x="32392" y="67003"/>
                </a:cubicBezTo>
                <a:cubicBezTo>
                  <a:pt x="32392" y="67003"/>
                  <a:pt x="54478" y="67003"/>
                  <a:pt x="119263" y="67003"/>
                </a:cubicBezTo>
                <a:cubicBezTo>
                  <a:pt x="119263" y="22334"/>
                  <a:pt x="32392" y="0"/>
                  <a:pt x="32392" y="0"/>
                </a:cubicBezTo>
                <a:close/>
                <a:moveTo>
                  <a:pt x="32392" y="11167"/>
                </a:moveTo>
                <a:lnTo>
                  <a:pt x="32392" y="11167"/>
                </a:lnTo>
                <a:cubicBezTo>
                  <a:pt x="32392" y="11167"/>
                  <a:pt x="86871" y="36151"/>
                  <a:pt x="86871" y="58485"/>
                </a:cubicBezTo>
                <a:cubicBezTo>
                  <a:pt x="43435" y="58485"/>
                  <a:pt x="32392" y="58485"/>
                  <a:pt x="32392" y="58485"/>
                </a:cubicBezTo>
                <a:lnTo>
                  <a:pt x="32392" y="1116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Shape 4732"/>
          <p:cNvSpPr/>
          <p:nvPr/>
        </p:nvSpPr>
        <p:spPr>
          <a:xfrm>
            <a:off x="1239840" y="224460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Shape 4733"/>
          <p:cNvSpPr/>
          <p:nvPr/>
        </p:nvSpPr>
        <p:spPr>
          <a:xfrm>
            <a:off x="5646600" y="1757520"/>
            <a:ext cx="114480" cy="296640"/>
          </a:xfrm>
          <a:custGeom>
            <a:avLst/>
            <a:gdLst>
              <a:gd name="textAreaLeft" fmla="*/ 0 w 114480"/>
              <a:gd name="textAreaRight" fmla="*/ 114840 w 1144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89620" y="45557"/>
                </a:moveTo>
                <a:lnTo>
                  <a:pt x="89620" y="45557"/>
                </a:lnTo>
                <a:lnTo>
                  <a:pt x="89620" y="45557"/>
                </a:lnTo>
                <a:cubicBezTo>
                  <a:pt x="89620" y="2714"/>
                  <a:pt x="89620" y="2714"/>
                  <a:pt x="89620" y="2714"/>
                </a:cubicBezTo>
                <a:cubicBezTo>
                  <a:pt x="89620" y="0"/>
                  <a:pt x="82025" y="0"/>
                  <a:pt x="82025" y="0"/>
                </a:cubicBezTo>
                <a:cubicBezTo>
                  <a:pt x="37468" y="0"/>
                  <a:pt x="37468" y="0"/>
                  <a:pt x="37468" y="0"/>
                </a:cubicBezTo>
                <a:cubicBezTo>
                  <a:pt x="37468" y="0"/>
                  <a:pt x="29873" y="0"/>
                  <a:pt x="29873" y="2714"/>
                </a:cubicBezTo>
                <a:cubicBezTo>
                  <a:pt x="29873" y="45557"/>
                  <a:pt x="29873" y="45557"/>
                  <a:pt x="29873" y="45557"/>
                </a:cubicBezTo>
                <a:lnTo>
                  <a:pt x="29873" y="45557"/>
                </a:lnTo>
                <a:cubicBezTo>
                  <a:pt x="7594" y="45557"/>
                  <a:pt x="0" y="51179"/>
                  <a:pt x="0" y="59903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119493" y="119806"/>
                  <a:pt x="119493" y="119806"/>
                  <a:pt x="119493" y="119806"/>
                </a:cubicBezTo>
                <a:cubicBezTo>
                  <a:pt x="119493" y="59903"/>
                  <a:pt x="119493" y="59903"/>
                  <a:pt x="119493" y="59903"/>
                </a:cubicBezTo>
                <a:cubicBezTo>
                  <a:pt x="119493" y="51179"/>
                  <a:pt x="111898" y="45557"/>
                  <a:pt x="89620" y="45557"/>
                </a:cubicBezTo>
                <a:close/>
                <a:moveTo>
                  <a:pt x="52151" y="5621"/>
                </a:moveTo>
                <a:lnTo>
                  <a:pt x="52151" y="5621"/>
                </a:lnTo>
                <a:cubicBezTo>
                  <a:pt x="67341" y="5621"/>
                  <a:pt x="67341" y="5621"/>
                  <a:pt x="67341" y="5621"/>
                </a:cubicBezTo>
                <a:cubicBezTo>
                  <a:pt x="67341" y="14151"/>
                  <a:pt x="67341" y="14151"/>
                  <a:pt x="67341" y="14151"/>
                </a:cubicBezTo>
                <a:cubicBezTo>
                  <a:pt x="52151" y="14151"/>
                  <a:pt x="52151" y="14151"/>
                  <a:pt x="52151" y="14151"/>
                </a:cubicBezTo>
                <a:lnTo>
                  <a:pt x="52151" y="5621"/>
                </a:lnTo>
                <a:close/>
                <a:moveTo>
                  <a:pt x="52151" y="22681"/>
                </a:moveTo>
                <a:lnTo>
                  <a:pt x="52151" y="22681"/>
                </a:lnTo>
                <a:cubicBezTo>
                  <a:pt x="67341" y="22681"/>
                  <a:pt x="67341" y="22681"/>
                  <a:pt x="67341" y="22681"/>
                </a:cubicBezTo>
                <a:cubicBezTo>
                  <a:pt x="67341" y="45557"/>
                  <a:pt x="67341" y="45557"/>
                  <a:pt x="67341" y="45557"/>
                </a:cubicBezTo>
                <a:cubicBezTo>
                  <a:pt x="52151" y="45557"/>
                  <a:pt x="52151" y="45557"/>
                  <a:pt x="52151" y="45557"/>
                </a:cubicBezTo>
                <a:lnTo>
                  <a:pt x="52151" y="22681"/>
                </a:lnTo>
                <a:close/>
                <a:moveTo>
                  <a:pt x="97215" y="113990"/>
                </a:moveTo>
                <a:lnTo>
                  <a:pt x="97215" y="113990"/>
                </a:lnTo>
                <a:cubicBezTo>
                  <a:pt x="22784" y="113990"/>
                  <a:pt x="22784" y="113990"/>
                  <a:pt x="22784" y="113990"/>
                </a:cubicBezTo>
                <a:cubicBezTo>
                  <a:pt x="22784" y="59903"/>
                  <a:pt x="22784" y="59903"/>
                  <a:pt x="22784" y="59903"/>
                </a:cubicBezTo>
                <a:cubicBezTo>
                  <a:pt x="22784" y="56995"/>
                  <a:pt x="29873" y="51179"/>
                  <a:pt x="37468" y="51179"/>
                </a:cubicBezTo>
                <a:cubicBezTo>
                  <a:pt x="82025" y="51179"/>
                  <a:pt x="82025" y="51179"/>
                  <a:pt x="82025" y="51179"/>
                </a:cubicBezTo>
                <a:cubicBezTo>
                  <a:pt x="89620" y="51179"/>
                  <a:pt x="97215" y="56995"/>
                  <a:pt x="97215" y="59903"/>
                </a:cubicBezTo>
                <a:lnTo>
                  <a:pt x="97215" y="1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Shape 4734"/>
          <p:cNvSpPr/>
          <p:nvPr/>
        </p:nvSpPr>
        <p:spPr>
          <a:xfrm>
            <a:off x="5081760" y="17715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Shape 4735"/>
          <p:cNvSpPr/>
          <p:nvPr/>
        </p:nvSpPr>
        <p:spPr>
          <a:xfrm>
            <a:off x="4570560" y="1785960"/>
            <a:ext cx="306360" cy="241200"/>
          </a:xfrm>
          <a:custGeom>
            <a:avLst/>
            <a:gdLst>
              <a:gd name="textAreaLeft" fmla="*/ 0 w 306360"/>
              <a:gd name="textAreaRight" fmla="*/ 306720 w 306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132" y="112828"/>
                </a:moveTo>
                <a:lnTo>
                  <a:pt x="114132" y="112828"/>
                </a:lnTo>
                <a:cubicBezTo>
                  <a:pt x="2649" y="112828"/>
                  <a:pt x="2649" y="112828"/>
                  <a:pt x="2649" y="112828"/>
                </a:cubicBezTo>
                <a:cubicBezTo>
                  <a:pt x="2649" y="112828"/>
                  <a:pt x="0" y="112828"/>
                  <a:pt x="0" y="116175"/>
                </a:cubicBezTo>
                <a:cubicBezTo>
                  <a:pt x="0" y="119760"/>
                  <a:pt x="2649" y="119760"/>
                  <a:pt x="2649" y="119760"/>
                </a:cubicBezTo>
                <a:cubicBezTo>
                  <a:pt x="114132" y="119760"/>
                  <a:pt x="114132" y="119760"/>
                  <a:pt x="114132" y="119760"/>
                </a:cubicBezTo>
                <a:cubicBezTo>
                  <a:pt x="116971" y="119760"/>
                  <a:pt x="119810" y="119760"/>
                  <a:pt x="119810" y="116175"/>
                </a:cubicBezTo>
                <a:cubicBezTo>
                  <a:pt x="119810" y="112828"/>
                  <a:pt x="116971" y="112828"/>
                  <a:pt x="114132" y="112828"/>
                </a:cubicBezTo>
                <a:close/>
                <a:moveTo>
                  <a:pt x="63974" y="17689"/>
                </a:moveTo>
                <a:lnTo>
                  <a:pt x="63974" y="17689"/>
                </a:lnTo>
                <a:cubicBezTo>
                  <a:pt x="63974" y="7171"/>
                  <a:pt x="63974" y="7171"/>
                  <a:pt x="63974" y="7171"/>
                </a:cubicBezTo>
                <a:cubicBezTo>
                  <a:pt x="69652" y="7171"/>
                  <a:pt x="69652" y="7171"/>
                  <a:pt x="69652" y="7171"/>
                </a:cubicBezTo>
                <a:cubicBezTo>
                  <a:pt x="72492" y="7171"/>
                  <a:pt x="75141" y="7171"/>
                  <a:pt x="75141" y="3585"/>
                </a:cubicBezTo>
                <a:cubicBezTo>
                  <a:pt x="75141" y="0"/>
                  <a:pt x="72492" y="0"/>
                  <a:pt x="69652" y="0"/>
                </a:cubicBezTo>
                <a:cubicBezTo>
                  <a:pt x="47318" y="0"/>
                  <a:pt x="47318" y="0"/>
                  <a:pt x="47318" y="0"/>
                </a:cubicBezTo>
                <a:cubicBezTo>
                  <a:pt x="47318" y="0"/>
                  <a:pt x="44479" y="0"/>
                  <a:pt x="44479" y="3585"/>
                </a:cubicBezTo>
                <a:cubicBezTo>
                  <a:pt x="44479" y="7171"/>
                  <a:pt x="47318" y="7171"/>
                  <a:pt x="47318" y="7171"/>
                </a:cubicBezTo>
                <a:cubicBezTo>
                  <a:pt x="55646" y="7171"/>
                  <a:pt x="55646" y="7171"/>
                  <a:pt x="55646" y="7171"/>
                </a:cubicBezTo>
                <a:lnTo>
                  <a:pt x="55646" y="17689"/>
                </a:lnTo>
                <a:cubicBezTo>
                  <a:pt x="24984" y="21274"/>
                  <a:pt x="0" y="52828"/>
                  <a:pt x="0" y="91553"/>
                </a:cubicBezTo>
                <a:cubicBezTo>
                  <a:pt x="0" y="95139"/>
                  <a:pt x="0" y="95139"/>
                  <a:pt x="0" y="98725"/>
                </a:cubicBezTo>
                <a:lnTo>
                  <a:pt x="2649" y="102071"/>
                </a:lnTo>
                <a:cubicBezTo>
                  <a:pt x="114132" y="102071"/>
                  <a:pt x="114132" y="102071"/>
                  <a:pt x="114132" y="102071"/>
                </a:cubicBezTo>
                <a:cubicBezTo>
                  <a:pt x="116971" y="102071"/>
                  <a:pt x="119810" y="98725"/>
                  <a:pt x="119810" y="98725"/>
                </a:cubicBezTo>
                <a:cubicBezTo>
                  <a:pt x="119810" y="95139"/>
                  <a:pt x="119810" y="95139"/>
                  <a:pt x="119810" y="91553"/>
                </a:cubicBezTo>
                <a:cubicBezTo>
                  <a:pt x="119810" y="52828"/>
                  <a:pt x="94637" y="21274"/>
                  <a:pt x="63974" y="17689"/>
                </a:cubicBezTo>
                <a:close/>
                <a:moveTo>
                  <a:pt x="8328" y="91553"/>
                </a:moveTo>
                <a:lnTo>
                  <a:pt x="8328" y="91553"/>
                </a:lnTo>
                <a:cubicBezTo>
                  <a:pt x="8328" y="56414"/>
                  <a:pt x="30662" y="28207"/>
                  <a:pt x="58485" y="28207"/>
                </a:cubicBezTo>
                <a:cubicBezTo>
                  <a:pt x="89148" y="28207"/>
                  <a:pt x="111293" y="56414"/>
                  <a:pt x="111293" y="91553"/>
                </a:cubicBezTo>
                <a:lnTo>
                  <a:pt x="8328" y="9155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Shape 4736"/>
          <p:cNvSpPr/>
          <p:nvPr/>
        </p:nvSpPr>
        <p:spPr>
          <a:xfrm>
            <a:off x="4111560" y="1757520"/>
            <a:ext cx="241200" cy="296640"/>
          </a:xfrm>
          <a:custGeom>
            <a:avLst/>
            <a:gdLst>
              <a:gd name="textAreaLeft" fmla="*/ 0 w 241200"/>
              <a:gd name="textAreaRight" fmla="*/ 241560 w 241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Shape 4737"/>
          <p:cNvSpPr/>
          <p:nvPr/>
        </p:nvSpPr>
        <p:spPr>
          <a:xfrm>
            <a:off x="3616200" y="1757520"/>
            <a:ext cx="249480" cy="296640"/>
          </a:xfrm>
          <a:custGeom>
            <a:avLst/>
            <a:gdLst>
              <a:gd name="textAreaLeft" fmla="*/ 0 w 249480"/>
              <a:gd name="textAreaRight" fmla="*/ 249840 w 2494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1508" y="0"/>
                </a:moveTo>
                <a:lnTo>
                  <a:pt x="61508" y="0"/>
                </a:lnTo>
                <a:cubicBezTo>
                  <a:pt x="37601" y="17059"/>
                  <a:pt x="0" y="42649"/>
                  <a:pt x="0" y="71147"/>
                </a:cubicBezTo>
                <a:cubicBezTo>
                  <a:pt x="0" y="99838"/>
                  <a:pt x="27388" y="119806"/>
                  <a:pt x="61508" y="119806"/>
                </a:cubicBezTo>
                <a:cubicBezTo>
                  <a:pt x="92379" y="119806"/>
                  <a:pt x="119767" y="99838"/>
                  <a:pt x="119767" y="71147"/>
                </a:cubicBezTo>
                <a:cubicBezTo>
                  <a:pt x="119767" y="42649"/>
                  <a:pt x="81934" y="17059"/>
                  <a:pt x="61508" y="0"/>
                </a:cubicBezTo>
                <a:close/>
                <a:moveTo>
                  <a:pt x="61508" y="113990"/>
                </a:moveTo>
                <a:lnTo>
                  <a:pt x="61508" y="113990"/>
                </a:lnTo>
                <a:cubicBezTo>
                  <a:pt x="34352" y="113990"/>
                  <a:pt x="10212" y="94022"/>
                  <a:pt x="10212" y="71147"/>
                </a:cubicBezTo>
                <a:cubicBezTo>
                  <a:pt x="10212" y="48465"/>
                  <a:pt x="41083" y="25589"/>
                  <a:pt x="61508" y="11243"/>
                </a:cubicBezTo>
                <a:cubicBezTo>
                  <a:pt x="78684" y="25589"/>
                  <a:pt x="109323" y="48465"/>
                  <a:pt x="109323" y="71147"/>
                </a:cubicBezTo>
                <a:cubicBezTo>
                  <a:pt x="109323" y="94022"/>
                  <a:pt x="88897" y="113990"/>
                  <a:pt x="61508" y="113990"/>
                </a:cubicBezTo>
                <a:close/>
                <a:moveTo>
                  <a:pt x="61508" y="37027"/>
                </a:moveTo>
                <a:lnTo>
                  <a:pt x="61508" y="37027"/>
                </a:lnTo>
                <a:cubicBezTo>
                  <a:pt x="47814" y="48465"/>
                  <a:pt x="27388" y="59903"/>
                  <a:pt x="27388" y="74054"/>
                </a:cubicBezTo>
                <a:cubicBezTo>
                  <a:pt x="27388" y="91308"/>
                  <a:pt x="44564" y="102746"/>
                  <a:pt x="61508" y="102746"/>
                </a:cubicBezTo>
                <a:cubicBezTo>
                  <a:pt x="78684" y="102746"/>
                  <a:pt x="92379" y="91308"/>
                  <a:pt x="92379" y="74054"/>
                </a:cubicBezTo>
                <a:cubicBezTo>
                  <a:pt x="92379" y="59903"/>
                  <a:pt x="71953" y="48465"/>
                  <a:pt x="61508" y="37027"/>
                </a:cubicBezTo>
                <a:close/>
                <a:moveTo>
                  <a:pt x="61508" y="94022"/>
                </a:moveTo>
                <a:lnTo>
                  <a:pt x="61508" y="94022"/>
                </a:lnTo>
                <a:cubicBezTo>
                  <a:pt x="47814" y="94022"/>
                  <a:pt x="37601" y="85492"/>
                  <a:pt x="37601" y="74054"/>
                </a:cubicBezTo>
                <a:cubicBezTo>
                  <a:pt x="37601" y="62617"/>
                  <a:pt x="51295" y="54087"/>
                  <a:pt x="61508" y="45557"/>
                </a:cubicBezTo>
                <a:cubicBezTo>
                  <a:pt x="68471" y="54087"/>
                  <a:pt x="81934" y="62617"/>
                  <a:pt x="81934" y="74054"/>
                </a:cubicBezTo>
                <a:cubicBezTo>
                  <a:pt x="81934" y="85492"/>
                  <a:pt x="71953" y="94022"/>
                  <a:pt x="61508" y="9402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Shape 4738"/>
          <p:cNvSpPr/>
          <p:nvPr/>
        </p:nvSpPr>
        <p:spPr>
          <a:xfrm>
            <a:off x="3100320" y="17575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Shape 4739"/>
          <p:cNvSpPr/>
          <p:nvPr/>
        </p:nvSpPr>
        <p:spPr>
          <a:xfrm>
            <a:off x="2604960" y="1763640"/>
            <a:ext cx="309600" cy="284400"/>
          </a:xfrm>
          <a:custGeom>
            <a:avLst/>
            <a:gdLst>
              <a:gd name="textAreaLeft" fmla="*/ 0 w 309600"/>
              <a:gd name="textAreaRight" fmla="*/ 309960 w 3096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95223" y="15050"/>
                </a:moveTo>
                <a:lnTo>
                  <a:pt x="95223" y="15050"/>
                </a:lnTo>
                <a:cubicBezTo>
                  <a:pt x="95223" y="6101"/>
                  <a:pt x="89861" y="0"/>
                  <a:pt x="81725" y="0"/>
                </a:cubicBezTo>
                <a:cubicBezTo>
                  <a:pt x="38089" y="0"/>
                  <a:pt x="38089" y="0"/>
                  <a:pt x="38089" y="0"/>
                </a:cubicBezTo>
                <a:cubicBezTo>
                  <a:pt x="29953" y="0"/>
                  <a:pt x="24591" y="6101"/>
                  <a:pt x="24591" y="15050"/>
                </a:cubicBezTo>
                <a:cubicBezTo>
                  <a:pt x="0" y="15050"/>
                  <a:pt x="2773" y="15050"/>
                  <a:pt x="2773" y="32949"/>
                </a:cubicBezTo>
                <a:cubicBezTo>
                  <a:pt x="2773" y="44949"/>
                  <a:pt x="10909" y="56949"/>
                  <a:pt x="24591" y="56949"/>
                </a:cubicBezTo>
                <a:cubicBezTo>
                  <a:pt x="24591" y="56949"/>
                  <a:pt x="24591" y="56949"/>
                  <a:pt x="27180" y="56949"/>
                </a:cubicBezTo>
                <a:cubicBezTo>
                  <a:pt x="29953" y="71796"/>
                  <a:pt x="43636" y="86847"/>
                  <a:pt x="57134" y="86847"/>
                </a:cubicBezTo>
                <a:cubicBezTo>
                  <a:pt x="57134" y="110847"/>
                  <a:pt x="57134" y="110847"/>
                  <a:pt x="57134" y="110847"/>
                </a:cubicBezTo>
                <a:cubicBezTo>
                  <a:pt x="46224" y="110847"/>
                  <a:pt x="46224" y="110847"/>
                  <a:pt x="46224" y="110847"/>
                </a:cubicBezTo>
                <a:cubicBezTo>
                  <a:pt x="43636" y="110847"/>
                  <a:pt x="40862" y="113898"/>
                  <a:pt x="40862" y="116745"/>
                </a:cubicBezTo>
                <a:cubicBezTo>
                  <a:pt x="40862" y="116745"/>
                  <a:pt x="43636" y="119796"/>
                  <a:pt x="46224" y="119796"/>
                </a:cubicBezTo>
                <a:cubicBezTo>
                  <a:pt x="73405" y="119796"/>
                  <a:pt x="73405" y="119796"/>
                  <a:pt x="73405" y="119796"/>
                </a:cubicBezTo>
                <a:cubicBezTo>
                  <a:pt x="76363" y="119796"/>
                  <a:pt x="78952" y="116745"/>
                  <a:pt x="78952" y="116745"/>
                </a:cubicBezTo>
                <a:cubicBezTo>
                  <a:pt x="78952" y="113898"/>
                  <a:pt x="76363" y="110847"/>
                  <a:pt x="73405" y="110847"/>
                </a:cubicBezTo>
                <a:cubicBezTo>
                  <a:pt x="62681" y="110847"/>
                  <a:pt x="62681" y="110847"/>
                  <a:pt x="62681" y="110847"/>
                </a:cubicBezTo>
                <a:cubicBezTo>
                  <a:pt x="62681" y="86847"/>
                  <a:pt x="62681" y="86847"/>
                  <a:pt x="62681" y="86847"/>
                </a:cubicBezTo>
                <a:cubicBezTo>
                  <a:pt x="76363" y="86847"/>
                  <a:pt x="89861" y="71796"/>
                  <a:pt x="92634" y="56949"/>
                </a:cubicBezTo>
                <a:cubicBezTo>
                  <a:pt x="95223" y="56949"/>
                  <a:pt x="95223" y="56949"/>
                  <a:pt x="95223" y="56949"/>
                </a:cubicBezTo>
                <a:cubicBezTo>
                  <a:pt x="108906" y="56949"/>
                  <a:pt x="117041" y="44949"/>
                  <a:pt x="117041" y="32949"/>
                </a:cubicBezTo>
                <a:cubicBezTo>
                  <a:pt x="117041" y="15050"/>
                  <a:pt x="119815" y="15050"/>
                  <a:pt x="95223" y="15050"/>
                </a:cubicBezTo>
                <a:close/>
                <a:moveTo>
                  <a:pt x="24591" y="48000"/>
                </a:moveTo>
                <a:lnTo>
                  <a:pt x="24591" y="48000"/>
                </a:lnTo>
                <a:cubicBezTo>
                  <a:pt x="16271" y="48000"/>
                  <a:pt x="8135" y="41898"/>
                  <a:pt x="8135" y="32949"/>
                </a:cubicBezTo>
                <a:cubicBezTo>
                  <a:pt x="8135" y="24000"/>
                  <a:pt x="8135" y="24000"/>
                  <a:pt x="24591" y="24000"/>
                </a:cubicBezTo>
                <a:lnTo>
                  <a:pt x="24591" y="48000"/>
                </a:lnTo>
                <a:close/>
                <a:moveTo>
                  <a:pt x="89861" y="38847"/>
                </a:moveTo>
                <a:lnTo>
                  <a:pt x="89861" y="38847"/>
                </a:lnTo>
                <a:cubicBezTo>
                  <a:pt x="89861" y="56949"/>
                  <a:pt x="76363" y="80949"/>
                  <a:pt x="59907" y="80949"/>
                </a:cubicBezTo>
                <a:cubicBezTo>
                  <a:pt x="43636" y="80949"/>
                  <a:pt x="29953" y="56949"/>
                  <a:pt x="29953" y="38847"/>
                </a:cubicBezTo>
                <a:cubicBezTo>
                  <a:pt x="29953" y="15050"/>
                  <a:pt x="29953" y="15050"/>
                  <a:pt x="29953" y="15050"/>
                </a:cubicBezTo>
                <a:cubicBezTo>
                  <a:pt x="29953" y="12000"/>
                  <a:pt x="35500" y="8949"/>
                  <a:pt x="38089" y="8949"/>
                </a:cubicBezTo>
                <a:cubicBezTo>
                  <a:pt x="81725" y="8949"/>
                  <a:pt x="81725" y="8949"/>
                  <a:pt x="81725" y="8949"/>
                </a:cubicBezTo>
                <a:cubicBezTo>
                  <a:pt x="84314" y="8949"/>
                  <a:pt x="89861" y="12000"/>
                  <a:pt x="89861" y="15050"/>
                </a:cubicBezTo>
                <a:lnTo>
                  <a:pt x="89861" y="38847"/>
                </a:lnTo>
                <a:close/>
                <a:moveTo>
                  <a:pt x="95223" y="48000"/>
                </a:moveTo>
                <a:lnTo>
                  <a:pt x="95223" y="48000"/>
                </a:lnTo>
                <a:cubicBezTo>
                  <a:pt x="95223" y="24000"/>
                  <a:pt x="95223" y="24000"/>
                  <a:pt x="95223" y="24000"/>
                </a:cubicBezTo>
                <a:cubicBezTo>
                  <a:pt x="111679" y="24000"/>
                  <a:pt x="111679" y="24000"/>
                  <a:pt x="111679" y="32949"/>
                </a:cubicBezTo>
                <a:cubicBezTo>
                  <a:pt x="111679" y="41898"/>
                  <a:pt x="103543" y="48000"/>
                  <a:pt x="95223" y="480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Shape 4740"/>
          <p:cNvSpPr/>
          <p:nvPr/>
        </p:nvSpPr>
        <p:spPr>
          <a:xfrm>
            <a:off x="2116080" y="17575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Shape 4741"/>
          <p:cNvSpPr/>
          <p:nvPr/>
        </p:nvSpPr>
        <p:spPr>
          <a:xfrm>
            <a:off x="1657440" y="1757520"/>
            <a:ext cx="247680" cy="296640"/>
          </a:xfrm>
          <a:custGeom>
            <a:avLst/>
            <a:gdLst>
              <a:gd name="textAreaLeft" fmla="*/ 0 w 247680"/>
              <a:gd name="textAreaRight" fmla="*/ 248040 w 2476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16286" y="45557"/>
                </a:moveTo>
                <a:lnTo>
                  <a:pt x="116286" y="45557"/>
                </a:lnTo>
                <a:cubicBezTo>
                  <a:pt x="102591" y="22681"/>
                  <a:pt x="102591" y="22681"/>
                  <a:pt x="102591" y="22681"/>
                </a:cubicBezTo>
                <a:cubicBezTo>
                  <a:pt x="102591" y="22681"/>
                  <a:pt x="102591" y="22681"/>
                  <a:pt x="99110" y="22681"/>
                </a:cubicBezTo>
                <a:cubicBezTo>
                  <a:pt x="71721" y="22681"/>
                  <a:pt x="71721" y="22681"/>
                  <a:pt x="71721" y="22681"/>
                </a:cubicBezTo>
                <a:cubicBezTo>
                  <a:pt x="71721" y="14151"/>
                  <a:pt x="71721" y="14151"/>
                  <a:pt x="71721" y="14151"/>
                </a:cubicBezTo>
                <a:cubicBezTo>
                  <a:pt x="71721" y="5621"/>
                  <a:pt x="64990" y="0"/>
                  <a:pt x="54777" y="0"/>
                </a:cubicBezTo>
                <a:cubicBezTo>
                  <a:pt x="44564" y="0"/>
                  <a:pt x="44564" y="0"/>
                  <a:pt x="44564" y="0"/>
                </a:cubicBezTo>
                <a:cubicBezTo>
                  <a:pt x="34352" y="0"/>
                  <a:pt x="27388" y="5621"/>
                  <a:pt x="27388" y="14151"/>
                </a:cubicBezTo>
                <a:cubicBezTo>
                  <a:pt x="27388" y="22681"/>
                  <a:pt x="27388" y="22681"/>
                  <a:pt x="27388" y="22681"/>
                </a:cubicBezTo>
                <a:cubicBezTo>
                  <a:pt x="10444" y="22681"/>
                  <a:pt x="10444" y="22681"/>
                  <a:pt x="10444" y="22681"/>
                </a:cubicBezTo>
                <a:cubicBezTo>
                  <a:pt x="3481" y="22681"/>
                  <a:pt x="0" y="25589"/>
                  <a:pt x="0" y="28497"/>
                </a:cubicBezTo>
                <a:cubicBezTo>
                  <a:pt x="0" y="68432"/>
                  <a:pt x="0" y="68432"/>
                  <a:pt x="0" y="68432"/>
                </a:cubicBezTo>
                <a:cubicBezTo>
                  <a:pt x="0" y="71147"/>
                  <a:pt x="3481" y="74054"/>
                  <a:pt x="10444" y="74054"/>
                </a:cubicBezTo>
                <a:cubicBezTo>
                  <a:pt x="27388" y="74054"/>
                  <a:pt x="27388" y="74054"/>
                  <a:pt x="27388" y="74054"/>
                </a:cubicBezTo>
                <a:cubicBezTo>
                  <a:pt x="27388" y="105460"/>
                  <a:pt x="27388" y="105460"/>
                  <a:pt x="27388" y="105460"/>
                </a:cubicBezTo>
                <a:cubicBezTo>
                  <a:pt x="27388" y="113990"/>
                  <a:pt x="34352" y="119806"/>
                  <a:pt x="44564" y="119806"/>
                </a:cubicBezTo>
                <a:cubicBezTo>
                  <a:pt x="54777" y="119806"/>
                  <a:pt x="54777" y="119806"/>
                  <a:pt x="54777" y="119806"/>
                </a:cubicBezTo>
                <a:cubicBezTo>
                  <a:pt x="64990" y="119806"/>
                  <a:pt x="71721" y="113990"/>
                  <a:pt x="71721" y="105460"/>
                </a:cubicBezTo>
                <a:cubicBezTo>
                  <a:pt x="71721" y="74054"/>
                  <a:pt x="71721" y="74054"/>
                  <a:pt x="71721" y="74054"/>
                </a:cubicBezTo>
                <a:cubicBezTo>
                  <a:pt x="99110" y="74054"/>
                  <a:pt x="99110" y="74054"/>
                  <a:pt x="99110" y="74054"/>
                </a:cubicBezTo>
                <a:lnTo>
                  <a:pt x="99110" y="74054"/>
                </a:lnTo>
                <a:cubicBezTo>
                  <a:pt x="102591" y="74054"/>
                  <a:pt x="102591" y="74054"/>
                  <a:pt x="102591" y="74054"/>
                </a:cubicBezTo>
                <a:cubicBezTo>
                  <a:pt x="116286" y="51179"/>
                  <a:pt x="116286" y="51179"/>
                  <a:pt x="116286" y="51179"/>
                </a:cubicBezTo>
                <a:cubicBezTo>
                  <a:pt x="119767" y="48465"/>
                  <a:pt x="119767" y="48465"/>
                  <a:pt x="119767" y="48465"/>
                </a:cubicBezTo>
                <a:cubicBezTo>
                  <a:pt x="119767" y="48465"/>
                  <a:pt x="119767" y="45557"/>
                  <a:pt x="116286" y="45557"/>
                </a:cubicBezTo>
                <a:close/>
                <a:moveTo>
                  <a:pt x="37601" y="14151"/>
                </a:moveTo>
                <a:lnTo>
                  <a:pt x="37601" y="14151"/>
                </a:lnTo>
                <a:cubicBezTo>
                  <a:pt x="37601" y="11243"/>
                  <a:pt x="41083" y="5621"/>
                  <a:pt x="44564" y="5621"/>
                </a:cubicBezTo>
                <a:cubicBezTo>
                  <a:pt x="54777" y="5621"/>
                  <a:pt x="54777" y="5621"/>
                  <a:pt x="54777" y="5621"/>
                </a:cubicBezTo>
                <a:cubicBezTo>
                  <a:pt x="58259" y="5621"/>
                  <a:pt x="64990" y="11243"/>
                  <a:pt x="64990" y="14151"/>
                </a:cubicBezTo>
                <a:cubicBezTo>
                  <a:pt x="64990" y="22681"/>
                  <a:pt x="64990" y="22681"/>
                  <a:pt x="64990" y="22681"/>
                </a:cubicBezTo>
                <a:cubicBezTo>
                  <a:pt x="37601" y="22681"/>
                  <a:pt x="37601" y="22681"/>
                  <a:pt x="37601" y="22681"/>
                </a:cubicBezTo>
                <a:lnTo>
                  <a:pt x="37601" y="14151"/>
                </a:lnTo>
                <a:close/>
                <a:moveTo>
                  <a:pt x="64990" y="105460"/>
                </a:moveTo>
                <a:lnTo>
                  <a:pt x="64990" y="105460"/>
                </a:lnTo>
                <a:cubicBezTo>
                  <a:pt x="64990" y="108368"/>
                  <a:pt x="58259" y="113990"/>
                  <a:pt x="54777" y="113990"/>
                </a:cubicBezTo>
                <a:cubicBezTo>
                  <a:pt x="44564" y="113990"/>
                  <a:pt x="44564" y="113990"/>
                  <a:pt x="44564" y="113990"/>
                </a:cubicBezTo>
                <a:cubicBezTo>
                  <a:pt x="41083" y="113990"/>
                  <a:pt x="37601" y="108368"/>
                  <a:pt x="37601" y="105460"/>
                </a:cubicBezTo>
                <a:cubicBezTo>
                  <a:pt x="37601" y="74054"/>
                  <a:pt x="37601" y="74054"/>
                  <a:pt x="37601" y="74054"/>
                </a:cubicBezTo>
                <a:cubicBezTo>
                  <a:pt x="64990" y="74054"/>
                  <a:pt x="64990" y="74054"/>
                  <a:pt x="64990" y="74054"/>
                </a:cubicBezTo>
                <a:lnTo>
                  <a:pt x="64990" y="105460"/>
                </a:lnTo>
                <a:close/>
                <a:moveTo>
                  <a:pt x="99110" y="65525"/>
                </a:moveTo>
                <a:lnTo>
                  <a:pt x="99110" y="65525"/>
                </a:lnTo>
                <a:cubicBezTo>
                  <a:pt x="99110" y="68432"/>
                  <a:pt x="95860" y="68432"/>
                  <a:pt x="95860" y="68432"/>
                </a:cubicBezTo>
                <a:cubicBezTo>
                  <a:pt x="13694" y="68432"/>
                  <a:pt x="13694" y="68432"/>
                  <a:pt x="13694" y="68432"/>
                </a:cubicBezTo>
                <a:cubicBezTo>
                  <a:pt x="10444" y="68432"/>
                  <a:pt x="10444" y="65525"/>
                  <a:pt x="10444" y="62617"/>
                </a:cubicBezTo>
                <a:cubicBezTo>
                  <a:pt x="10444" y="34119"/>
                  <a:pt x="10444" y="34119"/>
                  <a:pt x="10444" y="34119"/>
                </a:cubicBezTo>
                <a:cubicBezTo>
                  <a:pt x="10444" y="31405"/>
                  <a:pt x="10444" y="28497"/>
                  <a:pt x="13694" y="28497"/>
                </a:cubicBezTo>
                <a:cubicBezTo>
                  <a:pt x="95860" y="28497"/>
                  <a:pt x="95860" y="28497"/>
                  <a:pt x="95860" y="28497"/>
                </a:cubicBezTo>
                <a:cubicBezTo>
                  <a:pt x="95860" y="28497"/>
                  <a:pt x="99110" y="28497"/>
                  <a:pt x="99110" y="31405"/>
                </a:cubicBezTo>
                <a:cubicBezTo>
                  <a:pt x="109555" y="48465"/>
                  <a:pt x="109555" y="48465"/>
                  <a:pt x="109555" y="48465"/>
                </a:cubicBezTo>
                <a:lnTo>
                  <a:pt x="99110" y="6552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Shape 4742"/>
          <p:cNvSpPr/>
          <p:nvPr/>
        </p:nvSpPr>
        <p:spPr>
          <a:xfrm>
            <a:off x="1176480" y="17575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8" name="Group 17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2089" name="Rectangle 17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0" name="TextBox 17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1" name="TextBox 17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2" name="TextBox 17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3" name="TextBox 17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4" name="TextBox 17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5" name="Straight Connector 17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6" name="Group 180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2097" name="Rectangle 181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8" name="TextBox 182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9" name="Straight Connector 183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TextBox 184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Shape 5056"/>
          <p:cNvSpPr/>
          <p:nvPr/>
        </p:nvSpPr>
        <p:spPr>
          <a:xfrm>
            <a:off x="7589880" y="238932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Shape 5057"/>
          <p:cNvSpPr/>
          <p:nvPr/>
        </p:nvSpPr>
        <p:spPr>
          <a:xfrm>
            <a:off x="3279600" y="237960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Shape 5058"/>
          <p:cNvSpPr/>
          <p:nvPr/>
        </p:nvSpPr>
        <p:spPr>
          <a:xfrm>
            <a:off x="3757680" y="237960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Shape 5059"/>
          <p:cNvSpPr/>
          <p:nvPr/>
        </p:nvSpPr>
        <p:spPr>
          <a:xfrm>
            <a:off x="2122560" y="237960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Shape 5060"/>
          <p:cNvSpPr/>
          <p:nvPr/>
        </p:nvSpPr>
        <p:spPr>
          <a:xfrm>
            <a:off x="4308480" y="235440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Shape 5061"/>
          <p:cNvSpPr/>
          <p:nvPr/>
        </p:nvSpPr>
        <p:spPr>
          <a:xfrm>
            <a:off x="4869000" y="236376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Shape 5062"/>
          <p:cNvSpPr/>
          <p:nvPr/>
        </p:nvSpPr>
        <p:spPr>
          <a:xfrm>
            <a:off x="6515280" y="236376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Shape 5063"/>
          <p:cNvSpPr/>
          <p:nvPr/>
        </p:nvSpPr>
        <p:spPr>
          <a:xfrm>
            <a:off x="1030320" y="23637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Shape 5064"/>
          <p:cNvSpPr/>
          <p:nvPr/>
        </p:nvSpPr>
        <p:spPr>
          <a:xfrm>
            <a:off x="5413320" y="236844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Shape 5065"/>
          <p:cNvSpPr/>
          <p:nvPr/>
        </p:nvSpPr>
        <p:spPr>
          <a:xfrm>
            <a:off x="9794880" y="240048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Shape 5066"/>
          <p:cNvSpPr/>
          <p:nvPr/>
        </p:nvSpPr>
        <p:spPr>
          <a:xfrm>
            <a:off x="2660760" y="293688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Shape 5067"/>
          <p:cNvSpPr/>
          <p:nvPr/>
        </p:nvSpPr>
        <p:spPr>
          <a:xfrm>
            <a:off x="2697120" y="231948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Shape 5068"/>
          <p:cNvSpPr/>
          <p:nvPr/>
        </p:nvSpPr>
        <p:spPr>
          <a:xfrm>
            <a:off x="9210600" y="2936880"/>
            <a:ext cx="231840" cy="23004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Shape 5069"/>
          <p:cNvSpPr/>
          <p:nvPr/>
        </p:nvSpPr>
        <p:spPr>
          <a:xfrm>
            <a:off x="4862520" y="290988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Shape 5070"/>
          <p:cNvSpPr/>
          <p:nvPr/>
        </p:nvSpPr>
        <p:spPr>
          <a:xfrm>
            <a:off x="10341000" y="297036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Shape 5071"/>
          <p:cNvSpPr/>
          <p:nvPr/>
        </p:nvSpPr>
        <p:spPr>
          <a:xfrm>
            <a:off x="9796320" y="303840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Shape 5072"/>
          <p:cNvSpPr/>
          <p:nvPr/>
        </p:nvSpPr>
        <p:spPr>
          <a:xfrm>
            <a:off x="3218040" y="344160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Shape 5073"/>
          <p:cNvSpPr/>
          <p:nvPr/>
        </p:nvSpPr>
        <p:spPr>
          <a:xfrm>
            <a:off x="3211560" y="404820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Shape 5074"/>
          <p:cNvSpPr/>
          <p:nvPr/>
        </p:nvSpPr>
        <p:spPr>
          <a:xfrm>
            <a:off x="2676600" y="399564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Shape 5075"/>
          <p:cNvSpPr/>
          <p:nvPr/>
        </p:nvSpPr>
        <p:spPr>
          <a:xfrm>
            <a:off x="1595520" y="401004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Shape 5076"/>
          <p:cNvSpPr/>
          <p:nvPr/>
        </p:nvSpPr>
        <p:spPr>
          <a:xfrm>
            <a:off x="3757680" y="347040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Shape 5077"/>
          <p:cNvSpPr/>
          <p:nvPr/>
        </p:nvSpPr>
        <p:spPr>
          <a:xfrm>
            <a:off x="6537240" y="345132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Shape 5078"/>
          <p:cNvSpPr/>
          <p:nvPr/>
        </p:nvSpPr>
        <p:spPr>
          <a:xfrm>
            <a:off x="4871880" y="346392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Shape 5079"/>
          <p:cNvSpPr/>
          <p:nvPr/>
        </p:nvSpPr>
        <p:spPr>
          <a:xfrm>
            <a:off x="5394240" y="346392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Shape 5080"/>
          <p:cNvSpPr/>
          <p:nvPr/>
        </p:nvSpPr>
        <p:spPr>
          <a:xfrm>
            <a:off x="5945040" y="345456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Shape 5081"/>
          <p:cNvSpPr/>
          <p:nvPr/>
        </p:nvSpPr>
        <p:spPr>
          <a:xfrm>
            <a:off x="2679840" y="345132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Shape 5082"/>
          <p:cNvSpPr/>
          <p:nvPr/>
        </p:nvSpPr>
        <p:spPr>
          <a:xfrm>
            <a:off x="2122560" y="399564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8" name="Shape 5083" descr=""/>
          <p:cNvPicPr/>
          <p:nvPr/>
        </p:nvPicPr>
        <p:blipFill>
          <a:blip r:embed="rId1"/>
          <a:stretch/>
        </p:blipFill>
        <p:spPr>
          <a:xfrm>
            <a:off x="3767040" y="399888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2129" name="Shape 5086"/>
          <p:cNvSpPr/>
          <p:nvPr/>
        </p:nvSpPr>
        <p:spPr>
          <a:xfrm>
            <a:off x="9794880" y="512136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Shape 5087"/>
          <p:cNvSpPr/>
          <p:nvPr/>
        </p:nvSpPr>
        <p:spPr>
          <a:xfrm>
            <a:off x="8724960" y="398628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Shape 5088"/>
          <p:cNvSpPr/>
          <p:nvPr/>
        </p:nvSpPr>
        <p:spPr>
          <a:xfrm>
            <a:off x="10321920" y="2392200"/>
            <a:ext cx="195120" cy="23040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Shape 5089"/>
          <p:cNvSpPr/>
          <p:nvPr/>
        </p:nvSpPr>
        <p:spPr>
          <a:xfrm>
            <a:off x="9209160" y="4546440"/>
            <a:ext cx="263520" cy="23976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Shape 5090"/>
          <p:cNvSpPr/>
          <p:nvPr/>
        </p:nvSpPr>
        <p:spPr>
          <a:xfrm>
            <a:off x="10364760" y="5145120"/>
            <a:ext cx="130320" cy="14904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Shape 5091"/>
          <p:cNvSpPr/>
          <p:nvPr/>
        </p:nvSpPr>
        <p:spPr>
          <a:xfrm>
            <a:off x="5472000" y="400068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Shape 5092"/>
          <p:cNvSpPr/>
          <p:nvPr/>
        </p:nvSpPr>
        <p:spPr>
          <a:xfrm>
            <a:off x="4862520" y="400068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6" name="Shape 5093" descr=""/>
          <p:cNvPicPr/>
          <p:nvPr/>
        </p:nvPicPr>
        <p:blipFill>
          <a:blip r:embed="rId2"/>
          <a:stretch/>
        </p:blipFill>
        <p:spPr>
          <a:xfrm>
            <a:off x="4352760" y="39862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2137" name="Shape 5097"/>
          <p:cNvSpPr/>
          <p:nvPr/>
        </p:nvSpPr>
        <p:spPr>
          <a:xfrm>
            <a:off x="10868040" y="238284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Shape 5098"/>
          <p:cNvSpPr/>
          <p:nvPr/>
        </p:nvSpPr>
        <p:spPr>
          <a:xfrm>
            <a:off x="4332240" y="183348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Shape 5099"/>
          <p:cNvSpPr/>
          <p:nvPr/>
        </p:nvSpPr>
        <p:spPr>
          <a:xfrm>
            <a:off x="8131320" y="181944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Shape 5100"/>
          <p:cNvSpPr/>
          <p:nvPr/>
        </p:nvSpPr>
        <p:spPr>
          <a:xfrm>
            <a:off x="8667720" y="182412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Shape 5101"/>
          <p:cNvSpPr/>
          <p:nvPr/>
        </p:nvSpPr>
        <p:spPr>
          <a:xfrm>
            <a:off x="6499080" y="1847880"/>
            <a:ext cx="244800" cy="183960"/>
          </a:xfrm>
          <a:custGeom>
            <a:avLst/>
            <a:gdLst>
              <a:gd name="textAreaLeft" fmla="*/ 0 w 244800"/>
              <a:gd name="textAreaRight" fmla="*/ 245160 w 244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Shape 5102"/>
          <p:cNvSpPr/>
          <p:nvPr/>
        </p:nvSpPr>
        <p:spPr>
          <a:xfrm>
            <a:off x="7589880" y="1847880"/>
            <a:ext cx="245880" cy="183960"/>
          </a:xfrm>
          <a:custGeom>
            <a:avLst/>
            <a:gdLst>
              <a:gd name="textAreaLeft" fmla="*/ 0 w 245880"/>
              <a:gd name="textAreaRight" fmla="*/ 246240 w 2458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Shape 5103"/>
          <p:cNvSpPr/>
          <p:nvPr/>
        </p:nvSpPr>
        <p:spPr>
          <a:xfrm>
            <a:off x="1039680" y="181944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Shape 5104"/>
          <p:cNvSpPr/>
          <p:nvPr/>
        </p:nvSpPr>
        <p:spPr>
          <a:xfrm>
            <a:off x="3220920" y="186048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Shape 5105"/>
          <p:cNvSpPr/>
          <p:nvPr/>
        </p:nvSpPr>
        <p:spPr>
          <a:xfrm>
            <a:off x="5394240" y="180504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Shape 5106"/>
          <p:cNvSpPr/>
          <p:nvPr/>
        </p:nvSpPr>
        <p:spPr>
          <a:xfrm>
            <a:off x="7029360" y="184788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Shape 5107"/>
          <p:cNvSpPr/>
          <p:nvPr/>
        </p:nvSpPr>
        <p:spPr>
          <a:xfrm>
            <a:off x="2666880" y="181944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Shape 5108"/>
          <p:cNvSpPr/>
          <p:nvPr/>
        </p:nvSpPr>
        <p:spPr>
          <a:xfrm>
            <a:off x="2174760" y="180504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Shape 5109"/>
          <p:cNvSpPr/>
          <p:nvPr/>
        </p:nvSpPr>
        <p:spPr>
          <a:xfrm>
            <a:off x="10317240" y="351792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Shape 5110"/>
          <p:cNvSpPr/>
          <p:nvPr/>
        </p:nvSpPr>
        <p:spPr>
          <a:xfrm>
            <a:off x="8694720" y="2919240"/>
            <a:ext cx="214200" cy="22572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Shape 5111"/>
          <p:cNvSpPr/>
          <p:nvPr/>
        </p:nvSpPr>
        <p:spPr>
          <a:xfrm>
            <a:off x="3787920" y="294012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Shape 5112"/>
          <p:cNvSpPr/>
          <p:nvPr/>
        </p:nvSpPr>
        <p:spPr>
          <a:xfrm>
            <a:off x="8682120" y="236844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Shape 5113"/>
          <p:cNvSpPr/>
          <p:nvPr/>
        </p:nvSpPr>
        <p:spPr>
          <a:xfrm>
            <a:off x="1595520" y="3463920"/>
            <a:ext cx="230040" cy="23004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Shape 5114"/>
          <p:cNvSpPr/>
          <p:nvPr/>
        </p:nvSpPr>
        <p:spPr>
          <a:xfrm>
            <a:off x="7039080" y="290340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Shape 5115"/>
          <p:cNvSpPr/>
          <p:nvPr/>
        </p:nvSpPr>
        <p:spPr>
          <a:xfrm>
            <a:off x="1044720" y="3402000"/>
            <a:ext cx="250560" cy="291960"/>
          </a:xfrm>
          <a:custGeom>
            <a:avLst/>
            <a:gdLst>
              <a:gd name="textAreaLeft" fmla="*/ 0 w 250560"/>
              <a:gd name="textAreaRight" fmla="*/ 250920 w 2505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Shape 5116"/>
          <p:cNvSpPr/>
          <p:nvPr/>
        </p:nvSpPr>
        <p:spPr>
          <a:xfrm>
            <a:off x="8140680" y="290988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Shape 5117"/>
          <p:cNvSpPr/>
          <p:nvPr/>
        </p:nvSpPr>
        <p:spPr>
          <a:xfrm>
            <a:off x="7580160" y="291456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Shape 5118"/>
          <p:cNvSpPr/>
          <p:nvPr/>
        </p:nvSpPr>
        <p:spPr>
          <a:xfrm>
            <a:off x="3211560" y="29098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Shape 5119"/>
          <p:cNvSpPr/>
          <p:nvPr/>
        </p:nvSpPr>
        <p:spPr>
          <a:xfrm>
            <a:off x="4336920" y="294336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Shape 5120"/>
          <p:cNvSpPr/>
          <p:nvPr/>
        </p:nvSpPr>
        <p:spPr>
          <a:xfrm>
            <a:off x="5967360" y="292428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Shape 5121"/>
          <p:cNvSpPr/>
          <p:nvPr/>
        </p:nvSpPr>
        <p:spPr>
          <a:xfrm>
            <a:off x="9756720" y="351792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Shape 5122"/>
          <p:cNvSpPr/>
          <p:nvPr/>
        </p:nvSpPr>
        <p:spPr>
          <a:xfrm>
            <a:off x="5403960" y="2919240"/>
            <a:ext cx="253800" cy="22572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Shape 5123"/>
          <p:cNvSpPr/>
          <p:nvPr/>
        </p:nvSpPr>
        <p:spPr>
          <a:xfrm>
            <a:off x="1574640" y="237960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Shape 5124"/>
          <p:cNvSpPr/>
          <p:nvPr/>
        </p:nvSpPr>
        <p:spPr>
          <a:xfrm>
            <a:off x="1633680" y="180828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Shape 5125"/>
          <p:cNvSpPr/>
          <p:nvPr/>
        </p:nvSpPr>
        <p:spPr>
          <a:xfrm>
            <a:off x="9191520" y="348300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Shape 5126"/>
          <p:cNvSpPr/>
          <p:nvPr/>
        </p:nvSpPr>
        <p:spPr>
          <a:xfrm>
            <a:off x="6515280" y="292428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Shape 5127"/>
          <p:cNvSpPr/>
          <p:nvPr/>
        </p:nvSpPr>
        <p:spPr>
          <a:xfrm>
            <a:off x="8126280" y="4537080"/>
            <a:ext cx="263520" cy="264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Shape 5128"/>
          <p:cNvSpPr/>
          <p:nvPr/>
        </p:nvSpPr>
        <p:spPr>
          <a:xfrm>
            <a:off x="8667720" y="458460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Shape 5129"/>
          <p:cNvSpPr/>
          <p:nvPr/>
        </p:nvSpPr>
        <p:spPr>
          <a:xfrm>
            <a:off x="1030320" y="51069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Shape 5130"/>
          <p:cNvSpPr/>
          <p:nvPr/>
        </p:nvSpPr>
        <p:spPr>
          <a:xfrm>
            <a:off x="1574640" y="509112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Shape 5131"/>
          <p:cNvSpPr/>
          <p:nvPr/>
        </p:nvSpPr>
        <p:spPr>
          <a:xfrm>
            <a:off x="4341960" y="512136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Shape 5132"/>
          <p:cNvSpPr/>
          <p:nvPr/>
        </p:nvSpPr>
        <p:spPr>
          <a:xfrm>
            <a:off x="4849920" y="507852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Shape 5133"/>
          <p:cNvSpPr/>
          <p:nvPr/>
        </p:nvSpPr>
        <p:spPr>
          <a:xfrm>
            <a:off x="1044720" y="291456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Shape 5134"/>
          <p:cNvSpPr/>
          <p:nvPr/>
        </p:nvSpPr>
        <p:spPr>
          <a:xfrm>
            <a:off x="8137440" y="238932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Shape 5135"/>
          <p:cNvSpPr/>
          <p:nvPr/>
        </p:nvSpPr>
        <p:spPr>
          <a:xfrm>
            <a:off x="2131920" y="4546440"/>
            <a:ext cx="252360" cy="24948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Shape 5136"/>
          <p:cNvSpPr/>
          <p:nvPr/>
        </p:nvSpPr>
        <p:spPr>
          <a:xfrm>
            <a:off x="5938920" y="513072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Shape 5137"/>
          <p:cNvSpPr/>
          <p:nvPr/>
        </p:nvSpPr>
        <p:spPr>
          <a:xfrm>
            <a:off x="7039080" y="400068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Shape 5138"/>
          <p:cNvSpPr/>
          <p:nvPr/>
        </p:nvSpPr>
        <p:spPr>
          <a:xfrm>
            <a:off x="2122560" y="514512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Shape 5139"/>
          <p:cNvSpPr/>
          <p:nvPr/>
        </p:nvSpPr>
        <p:spPr>
          <a:xfrm>
            <a:off x="2666880" y="514512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Shape 5140"/>
          <p:cNvSpPr/>
          <p:nvPr/>
        </p:nvSpPr>
        <p:spPr>
          <a:xfrm>
            <a:off x="3211560" y="514512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Shape 5141"/>
          <p:cNvSpPr/>
          <p:nvPr/>
        </p:nvSpPr>
        <p:spPr>
          <a:xfrm>
            <a:off x="3757680" y="514512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Shape 5142"/>
          <p:cNvSpPr/>
          <p:nvPr/>
        </p:nvSpPr>
        <p:spPr>
          <a:xfrm>
            <a:off x="5938920" y="1881360"/>
            <a:ext cx="274680" cy="123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Shape 5143"/>
          <p:cNvSpPr/>
          <p:nvPr/>
        </p:nvSpPr>
        <p:spPr>
          <a:xfrm>
            <a:off x="6485040" y="5097600"/>
            <a:ext cx="274680" cy="239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Shape 5144"/>
          <p:cNvSpPr/>
          <p:nvPr/>
        </p:nvSpPr>
        <p:spPr>
          <a:xfrm>
            <a:off x="7577280" y="400536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Shape 5145"/>
          <p:cNvSpPr/>
          <p:nvPr/>
        </p:nvSpPr>
        <p:spPr>
          <a:xfrm>
            <a:off x="3211560" y="458460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Shape 5146"/>
          <p:cNvSpPr/>
          <p:nvPr/>
        </p:nvSpPr>
        <p:spPr>
          <a:xfrm>
            <a:off x="5938920" y="403560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Shape 5147"/>
          <p:cNvSpPr/>
          <p:nvPr/>
        </p:nvSpPr>
        <p:spPr>
          <a:xfrm>
            <a:off x="8121600" y="347508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Shape 5148"/>
          <p:cNvSpPr/>
          <p:nvPr/>
        </p:nvSpPr>
        <p:spPr>
          <a:xfrm>
            <a:off x="2122560" y="345456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Shape 5149"/>
          <p:cNvSpPr/>
          <p:nvPr/>
        </p:nvSpPr>
        <p:spPr>
          <a:xfrm>
            <a:off x="7059600" y="344484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Shape 5150"/>
          <p:cNvSpPr/>
          <p:nvPr/>
        </p:nvSpPr>
        <p:spPr>
          <a:xfrm>
            <a:off x="1030320" y="457524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Shape 5151"/>
          <p:cNvSpPr/>
          <p:nvPr/>
        </p:nvSpPr>
        <p:spPr>
          <a:xfrm>
            <a:off x="1574640" y="456552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Shape 5152"/>
          <p:cNvSpPr/>
          <p:nvPr/>
        </p:nvSpPr>
        <p:spPr>
          <a:xfrm>
            <a:off x="4888080" y="180504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Shape 5153"/>
          <p:cNvSpPr/>
          <p:nvPr/>
        </p:nvSpPr>
        <p:spPr>
          <a:xfrm>
            <a:off x="7029360" y="515628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Shape 5154"/>
          <p:cNvSpPr/>
          <p:nvPr/>
        </p:nvSpPr>
        <p:spPr>
          <a:xfrm>
            <a:off x="5394240" y="507852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Shape 5155"/>
          <p:cNvSpPr/>
          <p:nvPr/>
        </p:nvSpPr>
        <p:spPr>
          <a:xfrm>
            <a:off x="8121600" y="512136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Shape 5156"/>
          <p:cNvSpPr/>
          <p:nvPr/>
        </p:nvSpPr>
        <p:spPr>
          <a:xfrm>
            <a:off x="3767040" y="1838160"/>
            <a:ext cx="255600" cy="20664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Shape 5157"/>
          <p:cNvSpPr/>
          <p:nvPr/>
        </p:nvSpPr>
        <p:spPr>
          <a:xfrm>
            <a:off x="8704440" y="5097600"/>
            <a:ext cx="196560" cy="23940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Shape 5158"/>
          <p:cNvSpPr/>
          <p:nvPr/>
        </p:nvSpPr>
        <p:spPr>
          <a:xfrm>
            <a:off x="1060560" y="400068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Shape 5159"/>
          <p:cNvSpPr/>
          <p:nvPr/>
        </p:nvSpPr>
        <p:spPr>
          <a:xfrm>
            <a:off x="7586640" y="344484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Shape 5160"/>
          <p:cNvSpPr/>
          <p:nvPr/>
        </p:nvSpPr>
        <p:spPr>
          <a:xfrm>
            <a:off x="2695680" y="453060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Shape 5161"/>
          <p:cNvSpPr/>
          <p:nvPr/>
        </p:nvSpPr>
        <p:spPr>
          <a:xfrm>
            <a:off x="4317840" y="345132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Shape 5162"/>
          <p:cNvSpPr/>
          <p:nvPr/>
        </p:nvSpPr>
        <p:spPr>
          <a:xfrm>
            <a:off x="3767040" y="454968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Shape 5163"/>
          <p:cNvSpPr/>
          <p:nvPr/>
        </p:nvSpPr>
        <p:spPr>
          <a:xfrm>
            <a:off x="4327560" y="454968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Shape 5164"/>
          <p:cNvSpPr/>
          <p:nvPr/>
        </p:nvSpPr>
        <p:spPr>
          <a:xfrm>
            <a:off x="7029360" y="4546440"/>
            <a:ext cx="274680" cy="24480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800"/>
              <a:gd name="textAreaBottom" fmla="*/ 245160 h 24480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Shape 5165"/>
          <p:cNvSpPr/>
          <p:nvPr/>
        </p:nvSpPr>
        <p:spPr>
          <a:xfrm>
            <a:off x="6543720" y="398952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Shape 5166"/>
          <p:cNvSpPr/>
          <p:nvPr/>
        </p:nvSpPr>
        <p:spPr>
          <a:xfrm>
            <a:off x="4862520" y="456552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Shape 5167"/>
          <p:cNvSpPr/>
          <p:nvPr/>
        </p:nvSpPr>
        <p:spPr>
          <a:xfrm>
            <a:off x="5954760" y="453708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Shape 5168"/>
          <p:cNvSpPr/>
          <p:nvPr/>
        </p:nvSpPr>
        <p:spPr>
          <a:xfrm>
            <a:off x="6480000" y="453060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Shape 5169"/>
          <p:cNvSpPr/>
          <p:nvPr/>
        </p:nvSpPr>
        <p:spPr>
          <a:xfrm>
            <a:off x="7577280" y="4546440"/>
            <a:ext cx="272880" cy="24948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Shape 5170"/>
          <p:cNvSpPr/>
          <p:nvPr/>
        </p:nvSpPr>
        <p:spPr>
          <a:xfrm>
            <a:off x="7029360" y="237960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Shape 5171"/>
          <p:cNvSpPr/>
          <p:nvPr/>
        </p:nvSpPr>
        <p:spPr>
          <a:xfrm>
            <a:off x="5437080" y="455616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Shape 5172"/>
          <p:cNvSpPr/>
          <p:nvPr/>
        </p:nvSpPr>
        <p:spPr>
          <a:xfrm>
            <a:off x="10829880" y="401004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Shape 5173"/>
          <p:cNvSpPr/>
          <p:nvPr/>
        </p:nvSpPr>
        <p:spPr>
          <a:xfrm>
            <a:off x="9229680" y="4019400"/>
            <a:ext cx="196920" cy="24948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Shape 5174"/>
          <p:cNvSpPr/>
          <p:nvPr/>
        </p:nvSpPr>
        <p:spPr>
          <a:xfrm>
            <a:off x="10282320" y="404820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Shape 5175"/>
          <p:cNvSpPr/>
          <p:nvPr/>
        </p:nvSpPr>
        <p:spPr>
          <a:xfrm>
            <a:off x="9737640" y="400356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Shape 5176"/>
          <p:cNvSpPr/>
          <p:nvPr/>
        </p:nvSpPr>
        <p:spPr>
          <a:xfrm>
            <a:off x="10842480" y="185112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Shape 5177"/>
          <p:cNvSpPr/>
          <p:nvPr/>
        </p:nvSpPr>
        <p:spPr>
          <a:xfrm>
            <a:off x="10298160" y="183672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Shape 5178"/>
          <p:cNvSpPr/>
          <p:nvPr/>
        </p:nvSpPr>
        <p:spPr>
          <a:xfrm>
            <a:off x="9777240" y="182232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Shape 5179"/>
          <p:cNvSpPr/>
          <p:nvPr/>
        </p:nvSpPr>
        <p:spPr>
          <a:xfrm>
            <a:off x="7615080" y="507852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Shape 5180"/>
          <p:cNvSpPr/>
          <p:nvPr/>
        </p:nvSpPr>
        <p:spPr>
          <a:xfrm>
            <a:off x="10829880" y="351792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Shape 5181"/>
          <p:cNvSpPr/>
          <p:nvPr/>
        </p:nvSpPr>
        <p:spPr>
          <a:xfrm>
            <a:off x="8704440" y="344160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Shape 5182"/>
          <p:cNvSpPr/>
          <p:nvPr/>
        </p:nvSpPr>
        <p:spPr>
          <a:xfrm>
            <a:off x="10306080" y="453708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Shape 5183"/>
          <p:cNvSpPr/>
          <p:nvPr/>
        </p:nvSpPr>
        <p:spPr>
          <a:xfrm>
            <a:off x="9813960" y="453708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Shape 5184"/>
          <p:cNvSpPr/>
          <p:nvPr/>
        </p:nvSpPr>
        <p:spPr>
          <a:xfrm>
            <a:off x="9191520" y="189396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Shape 5185"/>
          <p:cNvSpPr/>
          <p:nvPr/>
        </p:nvSpPr>
        <p:spPr>
          <a:xfrm>
            <a:off x="10829880" y="295740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Shape 5186"/>
          <p:cNvSpPr/>
          <p:nvPr/>
        </p:nvSpPr>
        <p:spPr>
          <a:xfrm>
            <a:off x="8131320" y="400536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Shape 5187"/>
          <p:cNvSpPr/>
          <p:nvPr/>
        </p:nvSpPr>
        <p:spPr>
          <a:xfrm>
            <a:off x="5994360" y="231948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Shape 5188"/>
          <p:cNvSpPr/>
          <p:nvPr/>
        </p:nvSpPr>
        <p:spPr>
          <a:xfrm>
            <a:off x="10850400" y="505476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Shape 5189"/>
          <p:cNvSpPr/>
          <p:nvPr/>
        </p:nvSpPr>
        <p:spPr>
          <a:xfrm>
            <a:off x="9244080" y="517680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Shape 5190"/>
          <p:cNvSpPr/>
          <p:nvPr/>
        </p:nvSpPr>
        <p:spPr>
          <a:xfrm>
            <a:off x="10790280" y="457524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Shape 5191"/>
          <p:cNvSpPr/>
          <p:nvPr/>
        </p:nvSpPr>
        <p:spPr>
          <a:xfrm>
            <a:off x="9191520" y="239724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Shape 5192"/>
          <p:cNvSpPr/>
          <p:nvPr/>
        </p:nvSpPr>
        <p:spPr>
          <a:xfrm>
            <a:off x="1604880" y="290052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Shape 5193"/>
          <p:cNvSpPr/>
          <p:nvPr/>
        </p:nvSpPr>
        <p:spPr>
          <a:xfrm>
            <a:off x="2151000" y="290988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4" name="Group 149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2235" name="Rectangle 151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6" name="TextBox 152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7" name="TextBox 153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8" name="TextBox 154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9" name="TextBox 155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TextBox 156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1" name="Straight Connector 157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2" name="Group 158"/>
          <p:cNvGrpSpPr/>
          <p:nvPr/>
        </p:nvGrpSpPr>
        <p:grpSpPr>
          <a:xfrm>
            <a:off x="11169720" y="6165720"/>
            <a:ext cx="679320" cy="533520"/>
            <a:chOff x="11169720" y="6165720"/>
            <a:chExt cx="679320" cy="533520"/>
          </a:xfrm>
        </p:grpSpPr>
        <p:sp>
          <p:nvSpPr>
            <p:cNvPr id="2243" name="Rectangle 159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4" name="TextBox 160"/>
            <p:cNvSpPr/>
            <p:nvPr/>
          </p:nvSpPr>
          <p:spPr>
            <a:xfrm>
              <a:off x="11169720" y="62096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5" name="Straight Connector 161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TextBox 162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Group 3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213" name="Rectangle 4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TextBox 5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TextBox 6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TextBox 7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TextBox 8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TextBox 9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Straight Connector 10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0" name="Rectangle 11"/>
          <p:cNvSpPr/>
          <p:nvPr/>
        </p:nvSpPr>
        <p:spPr>
          <a:xfrm>
            <a:off x="6794640" y="1879560"/>
            <a:ext cx="5397480" cy="347976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1" name="Group 12"/>
          <p:cNvGrpSpPr/>
          <p:nvPr/>
        </p:nvGrpSpPr>
        <p:grpSpPr>
          <a:xfrm>
            <a:off x="7043760" y="2052720"/>
            <a:ext cx="4959360" cy="1986120"/>
            <a:chOff x="7043760" y="2052720"/>
            <a:chExt cx="4959360" cy="1986120"/>
          </a:xfrm>
        </p:grpSpPr>
        <p:sp>
          <p:nvSpPr>
            <p:cNvPr id="1222" name="TextBox 13"/>
            <p:cNvSpPr/>
            <p:nvPr/>
          </p:nvSpPr>
          <p:spPr>
            <a:xfrm>
              <a:off x="7044120" y="205272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TextBox 14"/>
            <p:cNvSpPr/>
            <p:nvPr/>
          </p:nvSpPr>
          <p:spPr>
            <a:xfrm>
              <a:off x="7044120" y="269388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OUR HER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TextBox 15"/>
            <p:cNvSpPr/>
            <p:nvPr/>
          </p:nvSpPr>
          <p:spPr>
            <a:xfrm>
              <a:off x="7043760" y="3335400"/>
              <a:ext cx="495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5" name="Straight Connector 16"/>
          <p:cNvSpPr/>
          <p:nvPr/>
        </p:nvSpPr>
        <p:spPr>
          <a:xfrm>
            <a:off x="7128000" y="4081320"/>
            <a:ext cx="47988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Placeholder 6"/>
          <p:cNvSpPr/>
          <p:nvPr/>
        </p:nvSpPr>
        <p:spPr>
          <a:xfrm>
            <a:off x="7056360" y="4317840"/>
            <a:ext cx="49467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ectangle 18"/>
          <p:cNvSpPr/>
          <p:nvPr/>
        </p:nvSpPr>
        <p:spPr>
          <a:xfrm>
            <a:off x="0" y="1871640"/>
            <a:ext cx="1371600" cy="347976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8" name="Group 19"/>
          <p:cNvGrpSpPr/>
          <p:nvPr/>
        </p:nvGrpSpPr>
        <p:grpSpPr>
          <a:xfrm>
            <a:off x="11239560" y="6165720"/>
            <a:ext cx="533520" cy="533520"/>
            <a:chOff x="11239560" y="6165720"/>
            <a:chExt cx="533520" cy="533520"/>
          </a:xfrm>
        </p:grpSpPr>
        <p:sp>
          <p:nvSpPr>
            <p:cNvPr id="1229" name="Rectangle 20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TextBox 21"/>
            <p:cNvSpPr/>
            <p:nvPr/>
          </p:nvSpPr>
          <p:spPr>
            <a:xfrm>
              <a:off x="11264760" y="6165720"/>
              <a:ext cx="50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1" name="Straight Connector 22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TextBox 23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1523520" y="1879560"/>
            <a:ext cx="51181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3"/>
          <p:cNvSpPr/>
          <p:nvPr/>
        </p:nvSpPr>
        <p:spPr>
          <a:xfrm>
            <a:off x="7924680" y="0"/>
            <a:ext cx="4267440" cy="685800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5" name="Group 4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236" name="Rectangle 5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TextBox 6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TextBox 7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TextBox 8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TextBox 9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TextBox 10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Straight Connector 11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3" name="Straight Connector 13"/>
          <p:cNvSpPr/>
          <p:nvPr/>
        </p:nvSpPr>
        <p:spPr>
          <a:xfrm flipH="1">
            <a:off x="659880" y="5219640"/>
            <a:ext cx="5435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4" name="Group 15"/>
          <p:cNvGrpSpPr/>
          <p:nvPr/>
        </p:nvGrpSpPr>
        <p:grpSpPr>
          <a:xfrm>
            <a:off x="654120" y="2154240"/>
            <a:ext cx="4959360" cy="1986120"/>
            <a:chOff x="654120" y="2154240"/>
            <a:chExt cx="4959360" cy="1986120"/>
          </a:xfrm>
        </p:grpSpPr>
        <p:sp>
          <p:nvSpPr>
            <p:cNvPr id="1245" name="TextBox 16"/>
            <p:cNvSpPr/>
            <p:nvPr/>
          </p:nvSpPr>
          <p:spPr>
            <a:xfrm>
              <a:off x="654480" y="215424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Box 17"/>
            <p:cNvSpPr/>
            <p:nvPr/>
          </p:nvSpPr>
          <p:spPr>
            <a:xfrm>
              <a:off x="654480" y="279540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OUR HER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TextBox 18"/>
            <p:cNvSpPr/>
            <p:nvPr/>
          </p:nvSpPr>
          <p:spPr>
            <a:xfrm>
              <a:off x="654120" y="3436920"/>
              <a:ext cx="495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8" name="Text Placeholder 6"/>
          <p:cNvSpPr/>
          <p:nvPr/>
        </p:nvSpPr>
        <p:spPr>
          <a:xfrm>
            <a:off x="668160" y="4254480"/>
            <a:ext cx="4945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9" name="Group 20"/>
          <p:cNvGrpSpPr/>
          <p:nvPr/>
        </p:nvGrpSpPr>
        <p:grpSpPr>
          <a:xfrm>
            <a:off x="11239560" y="6165720"/>
            <a:ext cx="533520" cy="533520"/>
            <a:chOff x="11239560" y="6165720"/>
            <a:chExt cx="533520" cy="533520"/>
          </a:xfrm>
        </p:grpSpPr>
        <p:sp>
          <p:nvSpPr>
            <p:cNvPr id="1250" name="Rectangle 21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TextBox 22"/>
            <p:cNvSpPr/>
            <p:nvPr/>
          </p:nvSpPr>
          <p:spPr>
            <a:xfrm>
              <a:off x="11264760" y="6165720"/>
              <a:ext cx="50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2" name="Straight Connector 23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24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6641640" y="1644480"/>
            <a:ext cx="336564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3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6" name="Group 4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257" name="Rectangle 5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TextBox 6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TextBox 7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TextBox 8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TextBox 9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TextBox 10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Straight Connector 11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4" name="Straight Connector 12"/>
          <p:cNvSpPr/>
          <p:nvPr/>
        </p:nvSpPr>
        <p:spPr>
          <a:xfrm flipH="1">
            <a:off x="6102000" y="4991040"/>
            <a:ext cx="5435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5" name="Group 13"/>
          <p:cNvGrpSpPr/>
          <p:nvPr/>
        </p:nvGrpSpPr>
        <p:grpSpPr>
          <a:xfrm>
            <a:off x="6095880" y="1925640"/>
            <a:ext cx="4959360" cy="1986120"/>
            <a:chOff x="6095880" y="1925640"/>
            <a:chExt cx="4959360" cy="1986120"/>
          </a:xfrm>
        </p:grpSpPr>
        <p:sp>
          <p:nvSpPr>
            <p:cNvPr id="1266" name="TextBox 14"/>
            <p:cNvSpPr/>
            <p:nvPr/>
          </p:nvSpPr>
          <p:spPr>
            <a:xfrm>
              <a:off x="6096240" y="192564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TextBox 15"/>
            <p:cNvSpPr/>
            <p:nvPr/>
          </p:nvSpPr>
          <p:spPr>
            <a:xfrm>
              <a:off x="6096240" y="256680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OUR HER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TextBox 16"/>
            <p:cNvSpPr/>
            <p:nvPr/>
          </p:nvSpPr>
          <p:spPr>
            <a:xfrm>
              <a:off x="6095880" y="3208320"/>
              <a:ext cx="495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9" name="Text Placeholder 6"/>
          <p:cNvSpPr/>
          <p:nvPr/>
        </p:nvSpPr>
        <p:spPr>
          <a:xfrm>
            <a:off x="6110280" y="4025880"/>
            <a:ext cx="494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0" name="Group 18"/>
          <p:cNvGrpSpPr/>
          <p:nvPr/>
        </p:nvGrpSpPr>
        <p:grpSpPr>
          <a:xfrm>
            <a:off x="11239560" y="6165720"/>
            <a:ext cx="533520" cy="533520"/>
            <a:chOff x="11239560" y="6165720"/>
            <a:chExt cx="533520" cy="533520"/>
          </a:xfrm>
        </p:grpSpPr>
        <p:sp>
          <p:nvSpPr>
            <p:cNvPr id="1271" name="Rectangle 19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TextBox 20"/>
            <p:cNvSpPr/>
            <p:nvPr/>
          </p:nvSpPr>
          <p:spPr>
            <a:xfrm>
              <a:off x="11264760" y="6165720"/>
              <a:ext cx="50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3" name="Straight Connector 21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Box 22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1510920" y="1803240"/>
            <a:ext cx="360684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3"/>
          <p:cNvSpPr/>
          <p:nvPr/>
        </p:nvSpPr>
        <p:spPr>
          <a:xfrm>
            <a:off x="0" y="2128680"/>
            <a:ext cx="7201080" cy="199080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7" name="Group 4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278" name="Rectangle 5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TextBox 6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TextBox 7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TextBox 8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TextBox 9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TextBox 10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Straight Connector 11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5" name="Straight Connector 12"/>
          <p:cNvSpPr/>
          <p:nvPr/>
        </p:nvSpPr>
        <p:spPr>
          <a:xfrm flipH="1">
            <a:off x="545760" y="5321160"/>
            <a:ext cx="5435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6" name="Group 13"/>
          <p:cNvGrpSpPr/>
          <p:nvPr/>
        </p:nvGrpSpPr>
        <p:grpSpPr>
          <a:xfrm>
            <a:off x="539640" y="2166840"/>
            <a:ext cx="4959360" cy="1986120"/>
            <a:chOff x="539640" y="2166840"/>
            <a:chExt cx="4959360" cy="1986120"/>
          </a:xfrm>
        </p:grpSpPr>
        <p:sp>
          <p:nvSpPr>
            <p:cNvPr id="1287" name="TextBox 14"/>
            <p:cNvSpPr/>
            <p:nvPr/>
          </p:nvSpPr>
          <p:spPr>
            <a:xfrm>
              <a:off x="540000" y="216684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TextBox 15"/>
            <p:cNvSpPr/>
            <p:nvPr/>
          </p:nvSpPr>
          <p:spPr>
            <a:xfrm>
              <a:off x="540000" y="280800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OUR HER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TextBox 16"/>
            <p:cNvSpPr/>
            <p:nvPr/>
          </p:nvSpPr>
          <p:spPr>
            <a:xfrm>
              <a:off x="539640" y="3449520"/>
              <a:ext cx="495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COMPANY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0" name="Text Placeholder 6"/>
          <p:cNvSpPr/>
          <p:nvPr/>
        </p:nvSpPr>
        <p:spPr>
          <a:xfrm>
            <a:off x="554040" y="4356000"/>
            <a:ext cx="49449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Group 18"/>
          <p:cNvGrpSpPr/>
          <p:nvPr/>
        </p:nvGrpSpPr>
        <p:grpSpPr>
          <a:xfrm>
            <a:off x="11239560" y="6165720"/>
            <a:ext cx="533520" cy="533520"/>
            <a:chOff x="11239560" y="6165720"/>
            <a:chExt cx="533520" cy="533520"/>
          </a:xfrm>
        </p:grpSpPr>
        <p:sp>
          <p:nvSpPr>
            <p:cNvPr id="1292" name="Rectangle 19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TextBox 20"/>
            <p:cNvSpPr/>
            <p:nvPr/>
          </p:nvSpPr>
          <p:spPr>
            <a:xfrm>
              <a:off x="11264760" y="6165720"/>
              <a:ext cx="50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4" name="Straight Connector 21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Box 22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7201080" y="1510920"/>
            <a:ext cx="336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3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298" name="Rectangle 4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TextBox 5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TextBox 6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TextBox 7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TextBox 8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TextBox 9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Straight Connector 10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5" name="Rectangle 11"/>
          <p:cNvSpPr/>
          <p:nvPr/>
        </p:nvSpPr>
        <p:spPr>
          <a:xfrm>
            <a:off x="5410080" y="2013120"/>
            <a:ext cx="6782040" cy="326376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6" name="Group 12"/>
          <p:cNvGrpSpPr/>
          <p:nvPr/>
        </p:nvGrpSpPr>
        <p:grpSpPr>
          <a:xfrm>
            <a:off x="6095880" y="2192400"/>
            <a:ext cx="4959360" cy="1986120"/>
            <a:chOff x="6095880" y="2192400"/>
            <a:chExt cx="4959360" cy="1986120"/>
          </a:xfrm>
        </p:grpSpPr>
        <p:sp>
          <p:nvSpPr>
            <p:cNvPr id="1307" name="TextBox 13"/>
            <p:cNvSpPr/>
            <p:nvPr/>
          </p:nvSpPr>
          <p:spPr>
            <a:xfrm>
              <a:off x="6096240" y="219240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TextBox 14"/>
            <p:cNvSpPr/>
            <p:nvPr/>
          </p:nvSpPr>
          <p:spPr>
            <a:xfrm>
              <a:off x="6096240" y="283356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TextBox 15"/>
            <p:cNvSpPr/>
            <p:nvPr/>
          </p:nvSpPr>
          <p:spPr>
            <a:xfrm>
              <a:off x="6095880" y="3475080"/>
              <a:ext cx="495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0" name="Text Placeholder 6"/>
          <p:cNvSpPr/>
          <p:nvPr/>
        </p:nvSpPr>
        <p:spPr>
          <a:xfrm>
            <a:off x="6110280" y="4292640"/>
            <a:ext cx="494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1" name="Group 17"/>
          <p:cNvGrpSpPr/>
          <p:nvPr/>
        </p:nvGrpSpPr>
        <p:grpSpPr>
          <a:xfrm>
            <a:off x="11239560" y="6165720"/>
            <a:ext cx="533520" cy="533520"/>
            <a:chOff x="11239560" y="6165720"/>
            <a:chExt cx="533520" cy="533520"/>
          </a:xfrm>
        </p:grpSpPr>
        <p:sp>
          <p:nvSpPr>
            <p:cNvPr id="1312" name="Rectangle 18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TextBox 19"/>
            <p:cNvSpPr/>
            <p:nvPr/>
          </p:nvSpPr>
          <p:spPr>
            <a:xfrm>
              <a:off x="11264760" y="6165720"/>
              <a:ext cx="50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4" name="Straight Connector 20"/>
          <p:cNvSpPr/>
          <p:nvPr/>
        </p:nvSpPr>
        <p:spPr>
          <a:xfrm flipH="1">
            <a:off x="6705720" y="6676920"/>
            <a:ext cx="4292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Box 21"/>
          <p:cNvSpPr/>
          <p:nvPr/>
        </p:nvSpPr>
        <p:spPr>
          <a:xfrm>
            <a:off x="6610320" y="635472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DESIGN PRESENTATION N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1"/>
          <a:stretch/>
        </p:blipFill>
        <p:spPr>
          <a:xfrm>
            <a:off x="-360" y="2013120"/>
            <a:ext cx="52578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7" name="Group 2"/>
          <p:cNvGrpSpPr/>
          <p:nvPr/>
        </p:nvGrpSpPr>
        <p:grpSpPr>
          <a:xfrm>
            <a:off x="539640" y="406440"/>
            <a:ext cx="11112480" cy="698400"/>
            <a:chOff x="539640" y="406440"/>
            <a:chExt cx="11112480" cy="698400"/>
          </a:xfrm>
        </p:grpSpPr>
        <p:sp>
          <p:nvSpPr>
            <p:cNvPr id="1318" name="Rectangle 3"/>
            <p:cNvSpPr/>
            <p:nvPr/>
          </p:nvSpPr>
          <p:spPr>
            <a:xfrm>
              <a:off x="539640" y="406440"/>
              <a:ext cx="1111248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TextBox 4"/>
            <p:cNvSpPr/>
            <p:nvPr/>
          </p:nvSpPr>
          <p:spPr>
            <a:xfrm>
              <a:off x="78120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SMART A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TextBox 5"/>
            <p:cNvSpPr/>
            <p:nvPr/>
          </p:nvSpPr>
          <p:spPr>
            <a:xfrm>
              <a:off x="27212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CONTAC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TextBox 6"/>
            <p:cNvSpPr/>
            <p:nvPr/>
          </p:nvSpPr>
          <p:spPr>
            <a:xfrm>
              <a:off x="452196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BLO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TextBox 7"/>
            <p:cNvSpPr/>
            <p:nvPr/>
          </p:nvSpPr>
          <p:spPr>
            <a:xfrm>
              <a:off x="632232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TextBox 8"/>
            <p:cNvSpPr/>
            <p:nvPr/>
          </p:nvSpPr>
          <p:spPr>
            <a:xfrm>
              <a:off x="8123040" y="632520"/>
              <a:ext cx="252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Arial "/>
                  <a:ea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Straight Connector 9"/>
            <p:cNvSpPr/>
            <p:nvPr/>
          </p:nvSpPr>
          <p:spPr>
            <a:xfrm>
              <a:off x="2260440" y="571320"/>
              <a:ext cx="0" cy="3762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5" name="Rectangle 11"/>
          <p:cNvSpPr/>
          <p:nvPr/>
        </p:nvSpPr>
        <p:spPr>
          <a:xfrm>
            <a:off x="781200" y="2114640"/>
            <a:ext cx="6262560" cy="3263760"/>
          </a:xfrm>
          <a:prstGeom prst="rect">
            <a:avLst/>
          </a:prstGeom>
          <a:solidFill>
            <a:srgbClr val="d1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6" name="Group 12"/>
          <p:cNvGrpSpPr/>
          <p:nvPr/>
        </p:nvGrpSpPr>
        <p:grpSpPr>
          <a:xfrm>
            <a:off x="1467000" y="2293920"/>
            <a:ext cx="4959360" cy="1986120"/>
            <a:chOff x="1467000" y="2293920"/>
            <a:chExt cx="4959360" cy="1986120"/>
          </a:xfrm>
        </p:grpSpPr>
        <p:sp>
          <p:nvSpPr>
            <p:cNvPr id="1327" name="TextBox 13"/>
            <p:cNvSpPr/>
            <p:nvPr/>
          </p:nvSpPr>
          <p:spPr>
            <a:xfrm>
              <a:off x="1467360" y="229392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ABOU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TextBox 14"/>
            <p:cNvSpPr/>
            <p:nvPr/>
          </p:nvSpPr>
          <p:spPr>
            <a:xfrm>
              <a:off x="1467360" y="2935080"/>
              <a:ext cx="390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DESIG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TextBox 15"/>
            <p:cNvSpPr/>
            <p:nvPr/>
          </p:nvSpPr>
          <p:spPr>
            <a:xfrm>
              <a:off x="1467000" y="3576600"/>
              <a:ext cx="495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SMART ART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0" name="Text Placeholder 6"/>
          <p:cNvSpPr/>
          <p:nvPr/>
        </p:nvSpPr>
        <p:spPr>
          <a:xfrm>
            <a:off x="1481040" y="4394160"/>
            <a:ext cx="4945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traight Connector 18"/>
          <p:cNvSpPr/>
          <p:nvPr/>
        </p:nvSpPr>
        <p:spPr>
          <a:xfrm flipH="1">
            <a:off x="1574280" y="6438960"/>
            <a:ext cx="8991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Text Placeholder 6"/>
          <p:cNvSpPr/>
          <p:nvPr/>
        </p:nvSpPr>
        <p:spPr>
          <a:xfrm>
            <a:off x="1523880" y="5802480"/>
            <a:ext cx="89917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 is an association or collection of individu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3" name="Group 20"/>
          <p:cNvGrpSpPr/>
          <p:nvPr/>
        </p:nvGrpSpPr>
        <p:grpSpPr>
          <a:xfrm>
            <a:off x="11239560" y="6165720"/>
            <a:ext cx="533520" cy="533520"/>
            <a:chOff x="11239560" y="6165720"/>
            <a:chExt cx="533520" cy="533520"/>
          </a:xfrm>
        </p:grpSpPr>
        <p:sp>
          <p:nvSpPr>
            <p:cNvPr id="1334" name="Rectangle 21"/>
            <p:cNvSpPr/>
            <p:nvPr/>
          </p:nvSpPr>
          <p:spPr>
            <a:xfrm>
              <a:off x="11239560" y="6165720"/>
              <a:ext cx="533520" cy="533520"/>
            </a:xfrm>
            <a:prstGeom prst="rect">
              <a:avLst/>
            </a:prstGeom>
            <a:solidFill>
              <a:srgbClr val="d1ed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TextBox 22"/>
            <p:cNvSpPr/>
            <p:nvPr/>
          </p:nvSpPr>
          <p:spPr>
            <a:xfrm>
              <a:off x="11264760" y="6165720"/>
              <a:ext cx="50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040"/>
                  </a:solidFill>
                  <a:latin typeface="Arial Black"/>
                  <a:ea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6337080" y="1619280"/>
            <a:ext cx="42289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9:12:20Z</dcterms:created>
  <dc:creator>user</dc:creator>
  <dc:description/>
  <dc:language>en-US</dc:language>
  <cp:lastModifiedBy>user</cp:lastModifiedBy>
  <dcterms:modified xsi:type="dcterms:W3CDTF">2020-08-31T06:01:45Z</dcterms:modified>
  <cp:revision>18</cp:revision>
  <dc:subject/>
  <dc:title>PowerPoint Presentation</dc:title>
</cp:coreProperties>
</file>