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0" y="3135240"/>
            <a:ext cx="12192120" cy="372276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"/>
          <p:cNvSpPr/>
          <p:nvPr/>
        </p:nvSpPr>
        <p:spPr>
          <a:xfrm>
            <a:off x="10039320" y="0"/>
            <a:ext cx="2152800" cy="685800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"/>
          <p:cNvSpPr/>
          <p:nvPr/>
        </p:nvSpPr>
        <p:spPr>
          <a:xfrm>
            <a:off x="7505640" y="0"/>
            <a:ext cx="4686480" cy="685800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0" y="0"/>
            <a:ext cx="4915080" cy="685800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"/>
          <p:cNvSpPr/>
          <p:nvPr/>
        </p:nvSpPr>
        <p:spPr>
          <a:xfrm>
            <a:off x="8362800" y="0"/>
            <a:ext cx="3829320" cy="685800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2"/>
          <a:stretch/>
        </p:blipFill>
        <p:spPr>
          <a:xfrm>
            <a:off x="5911920" y="1496880"/>
            <a:ext cx="5149800" cy="426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"/>
          <p:cNvSpPr/>
          <p:nvPr/>
        </p:nvSpPr>
        <p:spPr>
          <a:xfrm>
            <a:off x="0" y="0"/>
            <a:ext cx="4248000" cy="685800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2"/>
          <a:stretch/>
        </p:blipFill>
        <p:spPr>
          <a:xfrm>
            <a:off x="1201680" y="2233440"/>
            <a:ext cx="5389560" cy="325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"/>
          <p:cNvSpPr/>
          <p:nvPr/>
        </p:nvSpPr>
        <p:spPr>
          <a:xfrm>
            <a:off x="0" y="3429000"/>
            <a:ext cx="12192120" cy="342900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5899320" y="522360"/>
            <a:ext cx="5661000" cy="566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0" y="3429000"/>
            <a:ext cx="12192120" cy="342900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2"/>
          <a:stretch/>
        </p:blipFill>
        <p:spPr>
          <a:xfrm>
            <a:off x="436680" y="912960"/>
            <a:ext cx="5397480" cy="539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1"/>
          <p:cNvSpPr/>
          <p:nvPr/>
        </p:nvSpPr>
        <p:spPr>
          <a:xfrm>
            <a:off x="7486560" y="0"/>
            <a:ext cx="4705560" cy="685800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1"/>
          <p:cNvSpPr/>
          <p:nvPr/>
        </p:nvSpPr>
        <p:spPr>
          <a:xfrm>
            <a:off x="0" y="3429000"/>
            <a:ext cx="12192120" cy="342900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8782200" y="0"/>
            <a:ext cx="3409920" cy="685800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Oval 1"/>
          <p:cNvSpPr/>
          <p:nvPr/>
        </p:nvSpPr>
        <p:spPr>
          <a:xfrm>
            <a:off x="3192480" y="1109520"/>
            <a:ext cx="2495520" cy="249732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7" name="Freeform: Shape 2"/>
          <p:cNvSpPr/>
          <p:nvPr/>
        </p:nvSpPr>
        <p:spPr>
          <a:xfrm>
            <a:off x="0" y="0"/>
            <a:ext cx="4459320" cy="4686480"/>
          </a:xfrm>
          <a:custGeom>
            <a:avLst/>
            <a:gdLst/>
            <a:ahLst/>
            <a:rect l="l" t="t" r="r" b="b"/>
            <a:pathLst>
              <a:path w="3692392" h="3880484">
                <a:moveTo>
                  <a:pt x="0" y="0"/>
                </a:moveTo>
                <a:lnTo>
                  <a:pt x="3331642" y="0"/>
                </a:lnTo>
                <a:lnTo>
                  <a:pt x="3381996" y="82885"/>
                </a:lnTo>
                <a:cubicBezTo>
                  <a:pt x="3579950" y="447285"/>
                  <a:pt x="3692392" y="864879"/>
                  <a:pt x="3692392" y="1308734"/>
                </a:cubicBezTo>
                <a:cubicBezTo>
                  <a:pt x="3692392" y="2729072"/>
                  <a:pt x="2540980" y="3880484"/>
                  <a:pt x="1120642" y="3880484"/>
                </a:cubicBezTo>
                <a:cubicBezTo>
                  <a:pt x="765558" y="3880484"/>
                  <a:pt x="427281" y="3808521"/>
                  <a:pt x="119601" y="3678383"/>
                </a:cubicBezTo>
                <a:lnTo>
                  <a:pt x="0" y="3620768"/>
                </a:lnTo>
                <a:lnTo>
                  <a:pt x="0" y="0"/>
                </a:lnTo>
                <a:close/>
              </a:path>
            </a:pathLst>
          </a:cu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aleway Bold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aleway 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Robot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Robot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Roboto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Roboto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Roboto"/>
              </a:rPr>
              <a:t>Third Outline Level</a:t>
            </a:r>
            <a:endParaRPr b="0" lang="en-US" sz="2000" spc="-1" strike="noStrike">
              <a:solidFill>
                <a:srgbClr val="3f3f3f"/>
              </a:solidFill>
              <a:latin typeface="Roboto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Roboto"/>
              </a:rPr>
              <a:t>Fourth Outline Level</a:t>
            </a: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Roboto"/>
              </a:rPr>
              <a:t>Fifth Outline Level</a:t>
            </a: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  <a:p>
            <a:pPr lvl="5" marL="2057400" indent="-228600">
              <a:spcBef>
                <a:spcPts val="4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Roboto"/>
              </a:rPr>
              <a:t>Sixth Outline Level</a:t>
            </a: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  <a:p>
            <a:pPr lvl="6" marL="2057400" indent="-228600">
              <a:spcBef>
                <a:spcPts val="4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Roboto"/>
              </a:rPr>
              <a:t>Seventh Outline Level</a:t>
            </a: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0" y="0"/>
            <a:ext cx="4552920" cy="685800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0" y="3139920"/>
            <a:ext cx="12192120" cy="371808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: Shape 1"/>
          <p:cNvSpPr/>
          <p:nvPr/>
        </p:nvSpPr>
        <p:spPr>
          <a:xfrm>
            <a:off x="0" y="3429000"/>
            <a:ext cx="6095880" cy="3429000"/>
          </a:xfrm>
          <a:custGeom>
            <a:avLst/>
            <a:gdLst/>
            <a:ahLst/>
            <a:rect l="l" t="t" r="r" b="b"/>
            <a:pathLst>
              <a:path w="6096000" h="3429000">
                <a:moveTo>
                  <a:pt x="0" y="0"/>
                </a:moveTo>
                <a:lnTo>
                  <a:pt x="5845159" y="0"/>
                </a:lnTo>
                <a:cubicBezTo>
                  <a:pt x="5983695" y="0"/>
                  <a:pt x="6096000" y="112305"/>
                  <a:pt x="6096000" y="250841"/>
                </a:cubicBezTo>
                <a:lnTo>
                  <a:pt x="6096000" y="3429000"/>
                </a:lnTo>
                <a:lnTo>
                  <a:pt x="0" y="3429000"/>
                </a:lnTo>
                <a:lnTo>
                  <a:pt x="0" y="0"/>
                </a:lnTo>
                <a:close/>
              </a:path>
            </a:pathLst>
          </a:cu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7943760" y="0"/>
            <a:ext cx="4248360" cy="685800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1552680" y="0"/>
            <a:ext cx="4019400" cy="685800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8820000" y="0"/>
            <a:ext cx="3372120" cy="685800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0" y="0"/>
            <a:ext cx="5238720" cy="6858000"/>
          </a:xfrm>
          <a:prstGeom prst="rect">
            <a:avLst/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: Shape 14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7" name="TextBox 18"/>
          <p:cNvSpPr/>
          <p:nvPr/>
        </p:nvSpPr>
        <p:spPr>
          <a:xfrm>
            <a:off x="6864480" y="2381400"/>
            <a:ext cx="476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9b9a2"/>
                </a:solidFill>
                <a:latin typeface="Raleway Black"/>
              </a:rPr>
              <a:t>Skill</a:t>
            </a:r>
            <a:r>
              <a:rPr b="0" lang="en-US" sz="8800" spc="-1" strike="noStrike">
                <a:solidFill>
                  <a:srgbClr val="3f3f3f"/>
                </a:solidFill>
                <a:latin typeface="Raleway Black"/>
              </a:rPr>
              <a:t>Up.</a:t>
            </a:r>
            <a:endParaRPr b="0" lang="en-US" sz="8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8" name="TextBox 40"/>
          <p:cNvSpPr/>
          <p:nvPr/>
        </p:nvSpPr>
        <p:spPr>
          <a:xfrm>
            <a:off x="528840" y="595440"/>
            <a:ext cx="319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5e5e5"/>
                </a:solidFill>
                <a:latin typeface="Roboto"/>
                <a:ea typeface="Open Sans SemiBold"/>
              </a:rPr>
              <a:t>Home</a:t>
            </a:r>
            <a:r>
              <a:rPr b="0" lang="en-US" sz="1000" spc="-1" strike="noStrike">
                <a:solidFill>
                  <a:srgbClr val="e5e5e5"/>
                </a:solidFill>
                <a:latin typeface="Roboto"/>
                <a:ea typeface="Open Sans SemiBold"/>
              </a:rPr>
              <a:t>	</a:t>
            </a:r>
            <a:r>
              <a:rPr b="0" lang="en-US" sz="1000" spc="-1" strike="noStrike">
                <a:solidFill>
                  <a:srgbClr val="e5e5e5"/>
                </a:solidFill>
                <a:latin typeface="Roboto"/>
                <a:ea typeface="Open Sans SemiBold"/>
              </a:rPr>
              <a:t>About</a:t>
            </a:r>
            <a:r>
              <a:rPr b="0" lang="en-US" sz="1000" spc="-1" strike="noStrike">
                <a:solidFill>
                  <a:srgbClr val="e5e5e5"/>
                </a:solidFill>
                <a:latin typeface="Roboto"/>
                <a:ea typeface="Open Sans SemiBold"/>
              </a:rPr>
              <a:t>	</a:t>
            </a:r>
            <a:r>
              <a:rPr b="0" lang="en-US" sz="1000" spc="-1" strike="noStrike">
                <a:solidFill>
                  <a:srgbClr val="e5e5e5"/>
                </a:solidFill>
                <a:latin typeface="Roboto"/>
                <a:ea typeface="Open Sans SemiBold"/>
              </a:rPr>
              <a:t>Services </a:t>
            </a:r>
            <a:r>
              <a:rPr b="0" lang="en-US" sz="1000" spc="-1" strike="noStrike">
                <a:solidFill>
                  <a:srgbClr val="e5e5e5"/>
                </a:solidFill>
                <a:latin typeface="Roboto"/>
                <a:ea typeface="Open Sans SemiBold"/>
              </a:rPr>
              <a:t>	</a:t>
            </a:r>
            <a:r>
              <a:rPr b="0" lang="en-US" sz="1000" spc="-1" strike="noStrike">
                <a:solidFill>
                  <a:srgbClr val="e5e5e5"/>
                </a:solidFill>
                <a:latin typeface="Roboto"/>
                <a:ea typeface="Open Sans SemiBold"/>
              </a:rPr>
              <a:t>Help</a:t>
            </a:r>
            <a:endParaRPr b="0" lang="en-US" sz="10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9" name="TextBox 41"/>
          <p:cNvSpPr/>
          <p:nvPr/>
        </p:nvSpPr>
        <p:spPr>
          <a:xfrm>
            <a:off x="6915240" y="2190600"/>
            <a:ext cx="27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Roboto"/>
              </a:rPr>
              <a:t>Education For Best Future</a:t>
            </a:r>
            <a:endParaRPr b="0" lang="en-US" sz="16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0" name="TextBox 43"/>
          <p:cNvSpPr/>
          <p:nvPr/>
        </p:nvSpPr>
        <p:spPr>
          <a:xfrm>
            <a:off x="6889680" y="4260960"/>
            <a:ext cx="30355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mani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ibh praesent tristique magna sit amet. Risus pretium quam vulputat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1" name="Rectangle 46"/>
          <p:cNvSpPr/>
          <p:nvPr/>
        </p:nvSpPr>
        <p:spPr>
          <a:xfrm>
            <a:off x="6997680" y="4175280"/>
            <a:ext cx="695520" cy="44280"/>
          </a:xfrm>
          <a:prstGeom prst="rect">
            <a:avLst/>
          </a:pr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2" name="Google Shape;190;p12"/>
          <p:cNvSpPr/>
          <p:nvPr/>
        </p:nvSpPr>
        <p:spPr>
          <a:xfrm>
            <a:off x="11406240" y="6064200"/>
            <a:ext cx="144360" cy="14292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3" name="Google Shape;191;p12"/>
          <p:cNvSpPr/>
          <p:nvPr/>
        </p:nvSpPr>
        <p:spPr>
          <a:xfrm>
            <a:off x="10723680" y="6056280"/>
            <a:ext cx="150840" cy="15228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4" name="Google Shape;192;p12"/>
          <p:cNvSpPr/>
          <p:nvPr/>
        </p:nvSpPr>
        <p:spPr>
          <a:xfrm>
            <a:off x="11066400" y="6056280"/>
            <a:ext cx="149400" cy="15084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Box 17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2" name="Oval 18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3" name="Oval 19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4" name="Oval 20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5" name="Oval 21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6" name="Freeform: Shape 22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7" name="Rectangle 23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8" name="TextBox 24"/>
          <p:cNvSpPr/>
          <p:nvPr/>
        </p:nvSpPr>
        <p:spPr>
          <a:xfrm>
            <a:off x="3862440" y="1135080"/>
            <a:ext cx="44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Meet Our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Best Team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9" name="TextBox 25"/>
          <p:cNvSpPr/>
          <p:nvPr/>
        </p:nvSpPr>
        <p:spPr>
          <a:xfrm>
            <a:off x="4816440" y="957240"/>
            <a:ext cx="255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0" name="Rectangle 16"/>
          <p:cNvSpPr/>
          <p:nvPr/>
        </p:nvSpPr>
        <p:spPr>
          <a:xfrm>
            <a:off x="4970520" y="5172120"/>
            <a:ext cx="228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</a:rPr>
              <a:t>Lorem ipsum dolor sit am et cont setur adipiscing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 marquis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1" name="Rectangle 26"/>
          <p:cNvSpPr/>
          <p:nvPr/>
        </p:nvSpPr>
        <p:spPr>
          <a:xfrm>
            <a:off x="5273640" y="4851360"/>
            <a:ext cx="16462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Roboto"/>
              </a:rPr>
              <a:t>Principal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2" name="Rectangle 21"/>
          <p:cNvSpPr/>
          <p:nvPr/>
        </p:nvSpPr>
        <p:spPr>
          <a:xfrm>
            <a:off x="4970520" y="4567320"/>
            <a:ext cx="2251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</a:rPr>
              <a:t>Johnny Mayer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3" name="Rectangle 28"/>
          <p:cNvSpPr/>
          <p:nvPr/>
        </p:nvSpPr>
        <p:spPr>
          <a:xfrm>
            <a:off x="8312040" y="5172120"/>
            <a:ext cx="228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</a:rPr>
              <a:t>Lorem ipsum dolor sit am et cont setur adipiscing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 marquis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4" name="Rectangle 29"/>
          <p:cNvSpPr/>
          <p:nvPr/>
        </p:nvSpPr>
        <p:spPr>
          <a:xfrm>
            <a:off x="8601120" y="4851360"/>
            <a:ext cx="16462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Roboto"/>
              </a:rPr>
              <a:t>Sains Teacher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5" name="Rectangle 21"/>
          <p:cNvSpPr/>
          <p:nvPr/>
        </p:nvSpPr>
        <p:spPr>
          <a:xfrm>
            <a:off x="8298000" y="4567320"/>
            <a:ext cx="2251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</a:rPr>
              <a:t>Bobby Mania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6" name="Rectangle 31"/>
          <p:cNvSpPr/>
          <p:nvPr/>
        </p:nvSpPr>
        <p:spPr>
          <a:xfrm>
            <a:off x="1633680" y="5172120"/>
            <a:ext cx="228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</a:rPr>
              <a:t>Lorem ipsum dolor sit am et cont setur adipiscing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 marquis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7" name="Rectangle 32"/>
          <p:cNvSpPr/>
          <p:nvPr/>
        </p:nvSpPr>
        <p:spPr>
          <a:xfrm>
            <a:off x="1954080" y="4851360"/>
            <a:ext cx="16462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Roboto"/>
              </a:rPr>
              <a:t>Public Relation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1650960" y="4567320"/>
            <a:ext cx="2251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</a:rPr>
              <a:t>Tony Furado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Freeform: Shape 13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60" name="Rectangle 14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61" name="Rectangle 62"/>
          <p:cNvSpPr/>
          <p:nvPr/>
        </p:nvSpPr>
        <p:spPr>
          <a:xfrm>
            <a:off x="6923160" y="3603600"/>
            <a:ext cx="41068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preti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micasa l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quam vulputate dignissim. Enim nec dui nunc mattis enim ut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cons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 nec dui ultrices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62" name="Rectangle 36"/>
          <p:cNvSpPr/>
          <p:nvPr/>
        </p:nvSpPr>
        <p:spPr>
          <a:xfrm>
            <a:off x="6923160" y="3019320"/>
            <a:ext cx="1805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</a:rPr>
              <a:t>Lika Nasa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63" name="Rectangle 64"/>
          <p:cNvSpPr/>
          <p:nvPr/>
        </p:nvSpPr>
        <p:spPr>
          <a:xfrm>
            <a:off x="6923160" y="3303720"/>
            <a:ext cx="240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Roboto"/>
              </a:rPr>
              <a:t>Our Principal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64" name="Rectangle 65"/>
          <p:cNvSpPr/>
          <p:nvPr/>
        </p:nvSpPr>
        <p:spPr>
          <a:xfrm>
            <a:off x="7008840" y="4884840"/>
            <a:ext cx="3108240" cy="46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65" name="Rectangle 66"/>
          <p:cNvSpPr/>
          <p:nvPr/>
        </p:nvSpPr>
        <p:spPr>
          <a:xfrm>
            <a:off x="7008840" y="4884840"/>
            <a:ext cx="283536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66" name="TextBox 67"/>
          <p:cNvSpPr/>
          <p:nvPr/>
        </p:nvSpPr>
        <p:spPr>
          <a:xfrm flipH="1">
            <a:off x="10313280" y="4773600"/>
            <a:ext cx="5302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90%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67" name="TextBox 68"/>
          <p:cNvSpPr/>
          <p:nvPr/>
        </p:nvSpPr>
        <p:spPr>
          <a:xfrm flipH="1">
            <a:off x="7013520" y="445608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7f7f7f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68" name="Rectangle 69"/>
          <p:cNvSpPr/>
          <p:nvPr/>
        </p:nvSpPr>
        <p:spPr>
          <a:xfrm>
            <a:off x="7042320" y="5477040"/>
            <a:ext cx="3108240" cy="4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69" name="Rectangle 70"/>
          <p:cNvSpPr/>
          <p:nvPr/>
        </p:nvSpPr>
        <p:spPr>
          <a:xfrm>
            <a:off x="7008840" y="5477040"/>
            <a:ext cx="2651040" cy="442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0" name="TextBox 71"/>
          <p:cNvSpPr/>
          <p:nvPr/>
        </p:nvSpPr>
        <p:spPr>
          <a:xfrm flipH="1">
            <a:off x="10317960" y="5353200"/>
            <a:ext cx="5302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80</a:t>
            </a:r>
            <a:r>
              <a:rPr b="0" lang="en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%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1" name="TextBox 72"/>
          <p:cNvSpPr/>
          <p:nvPr/>
        </p:nvSpPr>
        <p:spPr>
          <a:xfrm flipH="1">
            <a:off x="7009560" y="5119560"/>
            <a:ext cx="19227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7f7f7f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2" name="TextBox 73"/>
          <p:cNvSpPr/>
          <p:nvPr/>
        </p:nvSpPr>
        <p:spPr>
          <a:xfrm>
            <a:off x="6923160" y="1690560"/>
            <a:ext cx="37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Meet Our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Principal Here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3" name="TextBox 74"/>
          <p:cNvSpPr/>
          <p:nvPr/>
        </p:nvSpPr>
        <p:spPr>
          <a:xfrm>
            <a:off x="6940440" y="1511280"/>
            <a:ext cx="256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Box 9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5" name="Oval 10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6" name="Oval 11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7" name="Oval 12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8" name="Oval 13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9" name="Rectangle 40"/>
          <p:cNvSpPr/>
          <p:nvPr/>
        </p:nvSpPr>
        <p:spPr>
          <a:xfrm>
            <a:off x="1446120" y="3738600"/>
            <a:ext cx="4927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se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eti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micasa l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quam vulputate dignissim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e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im nec d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 elit magna plail nigas plairi magnail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0" name="Rectangle 36"/>
          <p:cNvSpPr/>
          <p:nvPr/>
        </p:nvSpPr>
        <p:spPr>
          <a:xfrm>
            <a:off x="1446120" y="3143160"/>
            <a:ext cx="1805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</a:rPr>
              <a:t>Mika Makaro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1" name="Rectangle 42"/>
          <p:cNvSpPr/>
          <p:nvPr/>
        </p:nvSpPr>
        <p:spPr>
          <a:xfrm>
            <a:off x="1449360" y="3425760"/>
            <a:ext cx="2400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Roboto"/>
              </a:rPr>
              <a:t>Our Sains Teacher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2" name="Rectangle 43"/>
          <p:cNvSpPr/>
          <p:nvPr/>
        </p:nvSpPr>
        <p:spPr>
          <a:xfrm>
            <a:off x="1539720" y="4767120"/>
            <a:ext cx="4114800" cy="46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3" name="Rectangle 44"/>
          <p:cNvSpPr/>
          <p:nvPr/>
        </p:nvSpPr>
        <p:spPr>
          <a:xfrm>
            <a:off x="1539720" y="4767120"/>
            <a:ext cx="374976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4" name="TextBox 45"/>
          <p:cNvSpPr/>
          <p:nvPr/>
        </p:nvSpPr>
        <p:spPr>
          <a:xfrm flipH="1">
            <a:off x="5820480" y="4656240"/>
            <a:ext cx="5302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90%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5" name="TextBox 46"/>
          <p:cNvSpPr/>
          <p:nvPr/>
        </p:nvSpPr>
        <p:spPr>
          <a:xfrm flipH="1">
            <a:off x="1546200" y="441648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7f7f7f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6" name="Rectangle 47"/>
          <p:cNvSpPr/>
          <p:nvPr/>
        </p:nvSpPr>
        <p:spPr>
          <a:xfrm>
            <a:off x="1573200" y="5359320"/>
            <a:ext cx="4114800" cy="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7" name="Rectangle 48"/>
          <p:cNvSpPr/>
          <p:nvPr/>
        </p:nvSpPr>
        <p:spPr>
          <a:xfrm>
            <a:off x="1539720" y="5359320"/>
            <a:ext cx="3383280" cy="4464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8" name="TextBox 49"/>
          <p:cNvSpPr/>
          <p:nvPr/>
        </p:nvSpPr>
        <p:spPr>
          <a:xfrm flipH="1">
            <a:off x="5825520" y="5235480"/>
            <a:ext cx="5302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80</a:t>
            </a:r>
            <a:r>
              <a:rPr b="0" lang="en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%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9" name="TextBox 50"/>
          <p:cNvSpPr/>
          <p:nvPr/>
        </p:nvSpPr>
        <p:spPr>
          <a:xfrm flipH="1">
            <a:off x="1541520" y="500220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7f7f7f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0" name="TextBox 51"/>
          <p:cNvSpPr/>
          <p:nvPr/>
        </p:nvSpPr>
        <p:spPr>
          <a:xfrm>
            <a:off x="1434960" y="2017800"/>
            <a:ext cx="372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Let’s Meet Our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Science Teacher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1" name="TextBox 52"/>
          <p:cNvSpPr/>
          <p:nvPr/>
        </p:nvSpPr>
        <p:spPr>
          <a:xfrm>
            <a:off x="1454040" y="1838160"/>
            <a:ext cx="255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reeform: Shape 6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3" name="Rectangle 11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4" name="Rectangle 8"/>
          <p:cNvSpPr/>
          <p:nvPr/>
        </p:nvSpPr>
        <p:spPr>
          <a:xfrm>
            <a:off x="5996160" y="3551400"/>
            <a:ext cx="4757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preti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micasa l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quam vulputate dignissim. Enim nec dui nunc mattis enim ut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nec dui ultrices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 scing elit, sed tollo maci berdolem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5" name="Rectangle 36"/>
          <p:cNvSpPr/>
          <p:nvPr/>
        </p:nvSpPr>
        <p:spPr>
          <a:xfrm>
            <a:off x="5992920" y="2968560"/>
            <a:ext cx="1805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</a:rPr>
              <a:t>Lisa Magna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6" name="Rectangle 10"/>
          <p:cNvSpPr/>
          <p:nvPr/>
        </p:nvSpPr>
        <p:spPr>
          <a:xfrm>
            <a:off x="5996160" y="3252960"/>
            <a:ext cx="240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7f7f7f"/>
                </a:solidFill>
                <a:latin typeface="Roboto"/>
              </a:rPr>
              <a:t>Our Vice Principal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7" name="Rectangle 12"/>
          <p:cNvSpPr/>
          <p:nvPr/>
        </p:nvSpPr>
        <p:spPr>
          <a:xfrm>
            <a:off x="6081840" y="4832280"/>
            <a:ext cx="4024080" cy="46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8" name="Rectangle 13"/>
          <p:cNvSpPr/>
          <p:nvPr/>
        </p:nvSpPr>
        <p:spPr>
          <a:xfrm>
            <a:off x="6081840" y="4832280"/>
            <a:ext cx="365760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9" name="TextBox 14"/>
          <p:cNvSpPr/>
          <p:nvPr/>
        </p:nvSpPr>
        <p:spPr>
          <a:xfrm flipH="1">
            <a:off x="10302120" y="4722840"/>
            <a:ext cx="5302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90%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0" name="TextBox 15"/>
          <p:cNvSpPr/>
          <p:nvPr/>
        </p:nvSpPr>
        <p:spPr>
          <a:xfrm flipH="1">
            <a:off x="6087960" y="448164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7f7f7f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1" name="Rectangle 16"/>
          <p:cNvSpPr/>
          <p:nvPr/>
        </p:nvSpPr>
        <p:spPr>
          <a:xfrm>
            <a:off x="6114960" y="5424480"/>
            <a:ext cx="4024440" cy="46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2" name="Rectangle 17"/>
          <p:cNvSpPr/>
          <p:nvPr/>
        </p:nvSpPr>
        <p:spPr>
          <a:xfrm>
            <a:off x="6076800" y="5424480"/>
            <a:ext cx="347508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3" name="TextBox 18"/>
          <p:cNvSpPr/>
          <p:nvPr/>
        </p:nvSpPr>
        <p:spPr>
          <a:xfrm flipH="1">
            <a:off x="10306800" y="5302080"/>
            <a:ext cx="5302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80</a:t>
            </a:r>
            <a:r>
              <a:rPr b="0" lang="en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%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4" name="TextBox 19"/>
          <p:cNvSpPr/>
          <p:nvPr/>
        </p:nvSpPr>
        <p:spPr>
          <a:xfrm flipH="1">
            <a:off x="6083280" y="506736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7f7f7f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5" name="TextBox 20"/>
          <p:cNvSpPr/>
          <p:nvPr/>
        </p:nvSpPr>
        <p:spPr>
          <a:xfrm>
            <a:off x="5997600" y="1690560"/>
            <a:ext cx="317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Meet Our Vice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 Principal Here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6" name="TextBox 21"/>
          <p:cNvSpPr/>
          <p:nvPr/>
        </p:nvSpPr>
        <p:spPr>
          <a:xfrm>
            <a:off x="6016680" y="1511280"/>
            <a:ext cx="256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Box 13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8" name="Oval 14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9" name="Oval 15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10" name="Oval 16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11" name="Oval 17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12" name="Freeform: Shape 18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13" name="Rectangle 19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14" name="TextBox 12"/>
          <p:cNvSpPr/>
          <p:nvPr/>
        </p:nvSpPr>
        <p:spPr>
          <a:xfrm>
            <a:off x="1434960" y="2017800"/>
            <a:ext cx="344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SkillUp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Services Here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15" name="TextBox 20"/>
          <p:cNvSpPr/>
          <p:nvPr/>
        </p:nvSpPr>
        <p:spPr>
          <a:xfrm>
            <a:off x="1454040" y="1838160"/>
            <a:ext cx="255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16" name="TextBox 21"/>
          <p:cNvSpPr/>
          <p:nvPr/>
        </p:nvSpPr>
        <p:spPr>
          <a:xfrm>
            <a:off x="1454040" y="3681360"/>
            <a:ext cx="359568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pretium quam vulputate dignissim. Enim nec dui nunc mattis enim ut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 consectetur adipiscin.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Enim nec dui nun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necis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17" name="TextBox 22"/>
          <p:cNvSpPr/>
          <p:nvPr/>
        </p:nvSpPr>
        <p:spPr>
          <a:xfrm>
            <a:off x="1454040" y="4802040"/>
            <a:ext cx="3595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pretium quam vulputate dignissim. Enim n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18" name="TextBox 23"/>
          <p:cNvSpPr/>
          <p:nvPr/>
        </p:nvSpPr>
        <p:spPr>
          <a:xfrm>
            <a:off x="8010720" y="1482840"/>
            <a:ext cx="13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Services On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19" name="TextBox 24"/>
          <p:cNvSpPr/>
          <p:nvPr/>
        </p:nvSpPr>
        <p:spPr>
          <a:xfrm>
            <a:off x="8043840" y="1720800"/>
            <a:ext cx="27129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preti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met du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quam vulputate digniss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e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im ne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0" name="TextBox 25"/>
          <p:cNvSpPr/>
          <p:nvPr/>
        </p:nvSpPr>
        <p:spPr>
          <a:xfrm>
            <a:off x="8010720" y="4309920"/>
            <a:ext cx="13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Services On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1" name="TextBox 26"/>
          <p:cNvSpPr/>
          <p:nvPr/>
        </p:nvSpPr>
        <p:spPr>
          <a:xfrm>
            <a:off x="8043840" y="4548240"/>
            <a:ext cx="27129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preti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met du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quam vulputate digniss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e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im ne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Freeform: Shape 10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3" name="Rectangle 13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4" name="TextBox 8"/>
          <p:cNvSpPr/>
          <p:nvPr/>
        </p:nvSpPr>
        <p:spPr>
          <a:xfrm>
            <a:off x="6961320" y="2017800"/>
            <a:ext cx="37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Education Is 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More Important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5" name="TextBox 9"/>
          <p:cNvSpPr/>
          <p:nvPr/>
        </p:nvSpPr>
        <p:spPr>
          <a:xfrm>
            <a:off x="6980400" y="1838160"/>
            <a:ext cx="255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6" name="TextBox 11"/>
          <p:cNvSpPr/>
          <p:nvPr/>
        </p:nvSpPr>
        <p:spPr>
          <a:xfrm>
            <a:off x="6805080" y="3649680"/>
            <a:ext cx="31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Thinking Up Outstanding Student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7" name="TextBox 12"/>
          <p:cNvSpPr/>
          <p:nvPr/>
        </p:nvSpPr>
        <p:spPr>
          <a:xfrm>
            <a:off x="6961320" y="3889440"/>
            <a:ext cx="3867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preti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micasa l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quam vulputate dignissim. Enim nec dui nunc mattis enim ut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cons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 consectetur adipiscing elit, mina sed do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8" name="TextBox 21"/>
          <p:cNvSpPr/>
          <p:nvPr/>
        </p:nvSpPr>
        <p:spPr>
          <a:xfrm>
            <a:off x="1648080" y="4633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"/>
              </a:rPr>
              <a:t>800+</a:t>
            </a:r>
            <a:endParaRPr b="0" lang="en-US" sz="2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9" name="TextBox 22"/>
          <p:cNvSpPr/>
          <p:nvPr/>
        </p:nvSpPr>
        <p:spPr>
          <a:xfrm>
            <a:off x="1151280" y="512280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 SemiBold"/>
              </a:rPr>
              <a:t>Students In Cours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0" name="TextBox 29"/>
          <p:cNvSpPr/>
          <p:nvPr/>
        </p:nvSpPr>
        <p:spPr>
          <a:xfrm>
            <a:off x="961920" y="5391000"/>
            <a:ext cx="22478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 tristique magna sit amet. Risus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: Rounded Corners 7"/>
          <p:cNvSpPr/>
          <p:nvPr/>
        </p:nvSpPr>
        <p:spPr>
          <a:xfrm>
            <a:off x="4684680" y="1755720"/>
            <a:ext cx="2822760" cy="2057400"/>
          </a:xfrm>
          <a:prstGeom prst="roundRect">
            <a:avLst>
              <a:gd name="adj" fmla="val 6032"/>
            </a:avLst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2" name="Rectangle: Rounded Corners 11"/>
          <p:cNvSpPr/>
          <p:nvPr/>
        </p:nvSpPr>
        <p:spPr>
          <a:xfrm>
            <a:off x="1562040" y="4095720"/>
            <a:ext cx="2820960" cy="2057400"/>
          </a:xfrm>
          <a:prstGeom prst="roundRect">
            <a:avLst>
              <a:gd name="adj" fmla="val 6032"/>
            </a:avLst>
          </a:pr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3" name="Rectangle: Rounded Corners 13"/>
          <p:cNvSpPr/>
          <p:nvPr/>
        </p:nvSpPr>
        <p:spPr>
          <a:xfrm>
            <a:off x="7808760" y="4095720"/>
            <a:ext cx="2821320" cy="2057400"/>
          </a:xfrm>
          <a:prstGeom prst="roundRect">
            <a:avLst>
              <a:gd name="adj" fmla="val 6032"/>
            </a:avLst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4" name="TextBox 14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5" name="Oval 15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6" name="Oval 16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7" name="Oval 17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8" name="Oval 18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9" name="Freeform: Shape 19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0" name="TextBox 20"/>
          <p:cNvSpPr/>
          <p:nvPr/>
        </p:nvSpPr>
        <p:spPr>
          <a:xfrm>
            <a:off x="3862440" y="884160"/>
            <a:ext cx="44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Education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Services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1" name="TextBox 21"/>
          <p:cNvSpPr/>
          <p:nvPr/>
        </p:nvSpPr>
        <p:spPr>
          <a:xfrm>
            <a:off x="4816440" y="704880"/>
            <a:ext cx="255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2" name="Rectangle 22"/>
          <p:cNvSpPr/>
          <p:nvPr/>
        </p:nvSpPr>
        <p:spPr>
          <a:xfrm>
            <a:off x="1830240" y="5140440"/>
            <a:ext cx="228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</a:rPr>
              <a:t>Lorem ipsum dolor sit am et cont setur adipiscing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</a:rPr>
              <a:t> marquis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3" name="Rectangle 21"/>
          <p:cNvSpPr/>
          <p:nvPr/>
        </p:nvSpPr>
        <p:spPr>
          <a:xfrm>
            <a:off x="1847880" y="4800600"/>
            <a:ext cx="2251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Homework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4" name="Rectangle 25"/>
          <p:cNvSpPr/>
          <p:nvPr/>
        </p:nvSpPr>
        <p:spPr>
          <a:xfrm>
            <a:off x="8075520" y="5140440"/>
            <a:ext cx="228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</a:rPr>
              <a:t>Lorem ipsum dolor sit am et cont setur adipiscing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</a:rPr>
              <a:t> marquis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5" name="Rectangle 21"/>
          <p:cNvSpPr/>
          <p:nvPr/>
        </p:nvSpPr>
        <p:spPr>
          <a:xfrm>
            <a:off x="8093160" y="4800600"/>
            <a:ext cx="2251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Extracuricullar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6" name="Rectangle 28"/>
          <p:cNvSpPr/>
          <p:nvPr/>
        </p:nvSpPr>
        <p:spPr>
          <a:xfrm>
            <a:off x="4952880" y="2800440"/>
            <a:ext cx="228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</a:rPr>
              <a:t>Lorem ipsum dolor sit am et cont setur adipiscing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</a:rPr>
              <a:t> marquis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7" name="Rectangle 21"/>
          <p:cNvSpPr/>
          <p:nvPr/>
        </p:nvSpPr>
        <p:spPr>
          <a:xfrm>
            <a:off x="4970520" y="2460600"/>
            <a:ext cx="2251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Online Class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pic>
        <p:nvPicPr>
          <p:cNvPr id="948" name="Graphic 21" descr="Open book"/>
          <p:cNvPicPr/>
          <p:nvPr/>
        </p:nvPicPr>
        <p:blipFill>
          <a:blip r:embed="rId1"/>
          <a:stretch/>
        </p:blipFill>
        <p:spPr>
          <a:xfrm>
            <a:off x="2766960" y="4505400"/>
            <a:ext cx="409680" cy="274680"/>
          </a:xfrm>
          <a:prstGeom prst="rect">
            <a:avLst/>
          </a:prstGeom>
          <a:ln w="0">
            <a:noFill/>
          </a:ln>
        </p:spPr>
      </p:pic>
      <p:pic>
        <p:nvPicPr>
          <p:cNvPr id="949" name="Graphic 78" descr="Soccer"/>
          <p:cNvPicPr/>
          <p:nvPr/>
        </p:nvPicPr>
        <p:blipFill>
          <a:blip r:embed="rId2"/>
          <a:stretch/>
        </p:blipFill>
        <p:spPr>
          <a:xfrm>
            <a:off x="9034560" y="4479840"/>
            <a:ext cx="365040" cy="324000"/>
          </a:xfrm>
          <a:prstGeom prst="rect">
            <a:avLst/>
          </a:prstGeom>
          <a:ln w="0">
            <a:noFill/>
          </a:ln>
        </p:spPr>
      </p:pic>
      <p:pic>
        <p:nvPicPr>
          <p:cNvPr id="950" name="Graphic 76" descr="Web cam"/>
          <p:cNvPicPr/>
          <p:nvPr/>
        </p:nvPicPr>
        <p:blipFill>
          <a:blip r:embed="rId3"/>
          <a:stretch/>
        </p:blipFill>
        <p:spPr>
          <a:xfrm>
            <a:off x="5973840" y="2109960"/>
            <a:ext cx="2444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Freeform: Shape 10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52" name="Rectangle 11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53" name="TextBox 7"/>
          <p:cNvSpPr/>
          <p:nvPr/>
        </p:nvSpPr>
        <p:spPr>
          <a:xfrm>
            <a:off x="6095880" y="1752480"/>
            <a:ext cx="348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Be Smart With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 Our Curriculum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54" name="TextBox 8"/>
          <p:cNvSpPr/>
          <p:nvPr/>
        </p:nvSpPr>
        <p:spPr>
          <a:xfrm>
            <a:off x="6114960" y="1573200"/>
            <a:ext cx="256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55" name="TextBox 12"/>
          <p:cNvSpPr/>
          <p:nvPr/>
        </p:nvSpPr>
        <p:spPr>
          <a:xfrm>
            <a:off x="6095880" y="3889440"/>
            <a:ext cx="4476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Quis varius quam quisque id diam vel. Ut enim blandi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mis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volutpat maecenas volutpat blandit aliquam etiam erat. Vel eros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dol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donec ac odio tempor orc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 makio salvoni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us pre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ium quam vulput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56" name="TextBox 13"/>
          <p:cNvSpPr/>
          <p:nvPr/>
        </p:nvSpPr>
        <p:spPr>
          <a:xfrm>
            <a:off x="6095880" y="3533760"/>
            <a:ext cx="3484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Times New Roman"/>
              </a:rPr>
              <a:t>New Curriculum For New Student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57" name="TextBox 14"/>
          <p:cNvSpPr/>
          <p:nvPr/>
        </p:nvSpPr>
        <p:spPr>
          <a:xfrm>
            <a:off x="6095880" y="4782960"/>
            <a:ext cx="3484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ristique nulla aliquet enim tortor at auctor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  <a:p>
            <a:pPr marL="171360" indent="-17136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t amet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r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sus pretium quam vulputate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protector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  <a:p>
            <a:pPr marL="171360" indent="-17136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c dui ultrices.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</a:rPr>
              <a:t> consectetur adipiscin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Box 7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59" name="Oval 8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0" name="Oval 9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1" name="Oval 10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2" name="Oval 11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2655720" y="1714680"/>
            <a:ext cx="2557800" cy="106200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1397880" y="365112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Roboto"/>
              </a:rPr>
              <a:t>Let’s Take A Break Now</a:t>
            </a:r>
            <a:endParaRPr b="0" lang="en-US" sz="16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5" name="TextBox 14"/>
          <p:cNvSpPr/>
          <p:nvPr/>
        </p:nvSpPr>
        <p:spPr>
          <a:xfrm>
            <a:off x="1419120" y="4413240"/>
            <a:ext cx="4676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orem ipsum dolor sit amet, consectetur adipiscing elit, sed do eiusmod tempor incididunt ut labore et dolore magna aliqu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l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cus sed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ya.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orem ipsum dolor si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res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me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on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6" name="TextBox 18"/>
          <p:cNvSpPr/>
          <p:nvPr/>
        </p:nvSpPr>
        <p:spPr>
          <a:xfrm>
            <a:off x="1395360" y="1714680"/>
            <a:ext cx="397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f3f3f"/>
                </a:solidFill>
                <a:latin typeface="Raleway Bold"/>
              </a:rPr>
              <a:t>It’s </a:t>
            </a:r>
            <a:r>
              <a:rPr b="1" lang="en-US" sz="6000" spc="-1" strike="noStrike">
                <a:solidFill>
                  <a:srgbClr val="ffffff"/>
                </a:solidFill>
                <a:latin typeface="Raleway Bold"/>
              </a:rPr>
              <a:t>Time</a:t>
            </a:r>
            <a:r>
              <a:rPr b="1" lang="en-US" sz="6000" spc="-1" strike="noStrike">
                <a:solidFill>
                  <a:srgbClr val="3f3f3f"/>
                </a:solidFill>
                <a:latin typeface="Raleway Bold"/>
              </a:rPr>
              <a:t> </a:t>
            </a:r>
            <a:r>
              <a:rPr b="1" lang="en-US" sz="6000" spc="-1" strike="noStrike">
                <a:solidFill>
                  <a:srgbClr val="29b9a2"/>
                </a:solidFill>
                <a:latin typeface="Raleway Bold"/>
              </a:rPr>
              <a:t>To Break</a:t>
            </a:r>
            <a:endParaRPr b="0" lang="en-US" sz="60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Freeform: Shape 29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8" name="Rectangle 30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9" name="Rectangle: Rounded Corners 24"/>
          <p:cNvSpPr/>
          <p:nvPr/>
        </p:nvSpPr>
        <p:spPr>
          <a:xfrm>
            <a:off x="628560" y="3409920"/>
            <a:ext cx="3409920" cy="1962360"/>
          </a:xfrm>
          <a:prstGeom prst="roundRect">
            <a:avLst>
              <a:gd name="adj" fmla="val 6958"/>
            </a:avLst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70" name="TextBox 7"/>
          <p:cNvSpPr/>
          <p:nvPr/>
        </p:nvSpPr>
        <p:spPr>
          <a:xfrm>
            <a:off x="6599160" y="201780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Our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Portfolio Here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71" name="TextBox 8"/>
          <p:cNvSpPr/>
          <p:nvPr/>
        </p:nvSpPr>
        <p:spPr>
          <a:xfrm>
            <a:off x="6618240" y="1838160"/>
            <a:ext cx="255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72" name="TextBox 9"/>
          <p:cNvSpPr/>
          <p:nvPr/>
        </p:nvSpPr>
        <p:spPr>
          <a:xfrm>
            <a:off x="6599160" y="3290760"/>
            <a:ext cx="4278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orem ipsum dolor sit amet, consectetur adipiscing elit, sed do eiusmod tempor incididunt ut labore et dolore magna aliqu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l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cus sed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ya.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orem ipsum dolor si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res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me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on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73" name="Oval 10"/>
          <p:cNvSpPr/>
          <p:nvPr/>
        </p:nvSpPr>
        <p:spPr>
          <a:xfrm>
            <a:off x="6688080" y="4489560"/>
            <a:ext cx="181080" cy="18072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74" name="TextBox 11"/>
          <p:cNvSpPr/>
          <p:nvPr/>
        </p:nvSpPr>
        <p:spPr>
          <a:xfrm>
            <a:off x="7007400" y="4275000"/>
            <a:ext cx="3200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orem ipsum dolor si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rescin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met, cons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etur adipiscing elit, eiusmod tempor inci ut labo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75" name="Oval 12"/>
          <p:cNvSpPr/>
          <p:nvPr/>
        </p:nvSpPr>
        <p:spPr>
          <a:xfrm>
            <a:off x="6684840" y="5075280"/>
            <a:ext cx="181080" cy="18108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76" name="TextBox 13"/>
          <p:cNvSpPr/>
          <p:nvPr/>
        </p:nvSpPr>
        <p:spPr>
          <a:xfrm>
            <a:off x="7002360" y="4861080"/>
            <a:ext cx="32054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orem ipsum dolor si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rescin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met, cons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etur adipiscing elit, eiusmod tempor inci ut labo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77" name="TextBox 15"/>
          <p:cNvSpPr/>
          <p:nvPr/>
        </p:nvSpPr>
        <p:spPr>
          <a:xfrm>
            <a:off x="1325520" y="4233960"/>
            <a:ext cx="201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 SemiBold"/>
              </a:rPr>
              <a:t>Get Achievement Every Year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pic>
        <p:nvPicPr>
          <p:cNvPr id="978" name="Graphic 16" descr="Trophy"/>
          <p:cNvPicPr/>
          <p:nvPr/>
        </p:nvPicPr>
        <p:blipFill>
          <a:blip r:embed="rId1"/>
          <a:stretch/>
        </p:blipFill>
        <p:spPr>
          <a:xfrm>
            <a:off x="2131920" y="3844800"/>
            <a:ext cx="36504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20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6" name="Oval 21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7" name="Oval 22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8" name="Oval 23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9" name="Oval 24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0" name="TextBox 8"/>
          <p:cNvSpPr/>
          <p:nvPr/>
        </p:nvSpPr>
        <p:spPr>
          <a:xfrm>
            <a:off x="1434960" y="202896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SkillUp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Online Course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1" name="TextBox 11"/>
          <p:cNvSpPr/>
          <p:nvPr/>
        </p:nvSpPr>
        <p:spPr>
          <a:xfrm>
            <a:off x="1454040" y="1849320"/>
            <a:ext cx="255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2" name="TextBox 16"/>
          <p:cNvSpPr/>
          <p:nvPr/>
        </p:nvSpPr>
        <p:spPr>
          <a:xfrm>
            <a:off x="1311840" y="3687840"/>
            <a:ext cx="23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Introduction Our Cours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3" name="TextBox 17"/>
          <p:cNvSpPr/>
          <p:nvPr/>
        </p:nvSpPr>
        <p:spPr>
          <a:xfrm>
            <a:off x="1427040" y="3929040"/>
            <a:ext cx="4788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mani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ibh praesent tristique magna sit amet. Risus pr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 dui nunc mattis enim ut tellus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n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dui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il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ultrices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 consectetur adipiscing elit, sed tollo do eiusmod tempor incididunt ut labore et dolore magna aliqua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: Rounded Corners 11"/>
          <p:cNvSpPr/>
          <p:nvPr/>
        </p:nvSpPr>
        <p:spPr>
          <a:xfrm>
            <a:off x="666720" y="666720"/>
            <a:ext cx="8250120" cy="5524560"/>
          </a:xfrm>
          <a:prstGeom prst="roundRect">
            <a:avLst>
              <a:gd name="adj" fmla="val 4394"/>
            </a:avLst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0" name="TextBox 4"/>
          <p:cNvSpPr/>
          <p:nvPr/>
        </p:nvSpPr>
        <p:spPr>
          <a:xfrm>
            <a:off x="1731960" y="3236760"/>
            <a:ext cx="2743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orem ipsum dolor sit amet, consec tetur adipiscing elit, sed do eiusmod tempor incididunt ut labore et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1" name="TextBox 5"/>
          <p:cNvSpPr/>
          <p:nvPr/>
        </p:nvSpPr>
        <p:spPr>
          <a:xfrm>
            <a:off x="1731960" y="2924280"/>
            <a:ext cx="21938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Times New Roman"/>
              </a:rPr>
              <a:t>Achievement </a:t>
            </a: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Times New Roman"/>
              </a:rPr>
              <a:t>On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2" name="TextBox 6"/>
          <p:cNvSpPr/>
          <p:nvPr/>
        </p:nvSpPr>
        <p:spPr>
          <a:xfrm>
            <a:off x="5108400" y="3236760"/>
            <a:ext cx="27450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orem ipsum dolor sit amet, consec tetur adipiscing elit, sed do eiusmod tempor incididunt ut labore et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3" name="TextBox 7"/>
          <p:cNvSpPr/>
          <p:nvPr/>
        </p:nvSpPr>
        <p:spPr>
          <a:xfrm>
            <a:off x="5108400" y="2924280"/>
            <a:ext cx="2195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Times New Roman"/>
              </a:rPr>
              <a:t>Achievement </a:t>
            </a: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Times New Roman"/>
              </a:rPr>
              <a:t>Thre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4" name="TextBox 8"/>
          <p:cNvSpPr/>
          <p:nvPr/>
        </p:nvSpPr>
        <p:spPr>
          <a:xfrm>
            <a:off x="1731960" y="4700520"/>
            <a:ext cx="2743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orem ipsum dolor sit amet, consec tetur adipiscing elit, sed do eiusmod tempor incididunt ut labore et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5" name="TextBox 9"/>
          <p:cNvSpPr/>
          <p:nvPr/>
        </p:nvSpPr>
        <p:spPr>
          <a:xfrm>
            <a:off x="1731960" y="4387680"/>
            <a:ext cx="21938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Times New Roman"/>
              </a:rPr>
              <a:t>Achievement </a:t>
            </a: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Times New Roman"/>
              </a:rPr>
              <a:t>Two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6" name="TextBox 10"/>
          <p:cNvSpPr/>
          <p:nvPr/>
        </p:nvSpPr>
        <p:spPr>
          <a:xfrm>
            <a:off x="5108400" y="4700520"/>
            <a:ext cx="27450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orem ipsum dolor sit amet, consec tetur adipiscing elit, sed do eiusmod tempor incididunt ut labore et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7" name="TextBox 12"/>
          <p:cNvSpPr/>
          <p:nvPr/>
        </p:nvSpPr>
        <p:spPr>
          <a:xfrm>
            <a:off x="5108400" y="4387680"/>
            <a:ext cx="2195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Times New Roman"/>
              </a:rPr>
              <a:t>Achievement </a:t>
            </a: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Times New Roman"/>
              </a:rPr>
              <a:t>Four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8" name="TextBox 13"/>
          <p:cNvSpPr/>
          <p:nvPr/>
        </p:nvSpPr>
        <p:spPr>
          <a:xfrm>
            <a:off x="1731960" y="150984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leway Bold"/>
              </a:rPr>
              <a:t>About Our Achievement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9" name="TextBox 14"/>
          <p:cNvSpPr/>
          <p:nvPr/>
        </p:nvSpPr>
        <p:spPr>
          <a:xfrm>
            <a:off x="1749600" y="1332000"/>
            <a:ext cx="256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: Rounded Corners 6"/>
          <p:cNvSpPr/>
          <p:nvPr/>
        </p:nvSpPr>
        <p:spPr>
          <a:xfrm>
            <a:off x="1009800" y="669960"/>
            <a:ext cx="2673360" cy="2057400"/>
          </a:xfrm>
          <a:prstGeom prst="roundRect">
            <a:avLst>
              <a:gd name="adj" fmla="val 6032"/>
            </a:avLst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91" name="Rectangle: Rounded Corners 11"/>
          <p:cNvSpPr/>
          <p:nvPr/>
        </p:nvSpPr>
        <p:spPr>
          <a:xfrm>
            <a:off x="3879720" y="4130640"/>
            <a:ext cx="2673360" cy="2057400"/>
          </a:xfrm>
          <a:prstGeom prst="roundRect">
            <a:avLst>
              <a:gd name="adj" fmla="val 6032"/>
            </a:avLst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92" name="Freeform: Shape 15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93" name="Rectangle 16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94" name="TextBox 9"/>
          <p:cNvSpPr/>
          <p:nvPr/>
        </p:nvSpPr>
        <p:spPr>
          <a:xfrm>
            <a:off x="6961320" y="2017800"/>
            <a:ext cx="329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Our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Gallery Course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95" name="TextBox 10"/>
          <p:cNvSpPr/>
          <p:nvPr/>
        </p:nvSpPr>
        <p:spPr>
          <a:xfrm>
            <a:off x="6980400" y="1838160"/>
            <a:ext cx="255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96" name="TextBox 20"/>
          <p:cNvSpPr/>
          <p:nvPr/>
        </p:nvSpPr>
        <p:spPr>
          <a:xfrm>
            <a:off x="6900480" y="357192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The Gallery On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97" name="TextBox 21"/>
          <p:cNvSpPr/>
          <p:nvPr/>
        </p:nvSpPr>
        <p:spPr>
          <a:xfrm>
            <a:off x="6961320" y="3811680"/>
            <a:ext cx="3838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orem ipsum dolor sit amet, consectetur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l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dipiscing elit, sed do eiusmod tempor incididunt ut labore et dolo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liquil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98" name="TextBox 22"/>
          <p:cNvSpPr/>
          <p:nvPr/>
        </p:nvSpPr>
        <p:spPr>
          <a:xfrm>
            <a:off x="6910200" y="445464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The Gallery Two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99" name="TextBox 23"/>
          <p:cNvSpPr/>
          <p:nvPr/>
        </p:nvSpPr>
        <p:spPr>
          <a:xfrm>
            <a:off x="6961320" y="4695840"/>
            <a:ext cx="3838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orem ipsum dolor sit amet, consectetur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l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dipiscing elit, sed do eiusmod tempor incididunt ut labore et dolo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liquil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1260360" y="1760400"/>
            <a:ext cx="2173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orem ipsum dolor sit amet, co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ectetur adipiscing elit sed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1260360" y="1403280"/>
            <a:ext cx="2173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Best Teacher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pic>
        <p:nvPicPr>
          <p:cNvPr id="1002" name="Graphic 29" descr="Classroom"/>
          <p:cNvPicPr/>
          <p:nvPr/>
        </p:nvPicPr>
        <p:blipFill>
          <a:blip r:embed="rId1"/>
          <a:stretch/>
        </p:blipFill>
        <p:spPr>
          <a:xfrm>
            <a:off x="2206800" y="1096920"/>
            <a:ext cx="280800" cy="255600"/>
          </a:xfrm>
          <a:prstGeom prst="rect">
            <a:avLst/>
          </a:prstGeom>
          <a:ln w="0">
            <a:noFill/>
          </a:ln>
        </p:spPr>
      </p:pic>
      <p:sp>
        <p:nvSpPr>
          <p:cNvPr id="1003" name="TextBox 18"/>
          <p:cNvSpPr/>
          <p:nvPr/>
        </p:nvSpPr>
        <p:spPr>
          <a:xfrm>
            <a:off x="4129200" y="5202360"/>
            <a:ext cx="2173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orem ipsum dolor sit amet, co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ectetur adipiscing elit sed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04" name="Rectangle 36"/>
          <p:cNvSpPr/>
          <p:nvPr/>
        </p:nvSpPr>
        <p:spPr>
          <a:xfrm>
            <a:off x="4129200" y="4846680"/>
            <a:ext cx="2173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Best Online Class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pic>
        <p:nvPicPr>
          <p:cNvPr id="1005" name="Graphic 87" descr="Wireless"/>
          <p:cNvPicPr/>
          <p:nvPr/>
        </p:nvPicPr>
        <p:blipFill>
          <a:blip r:embed="rId2"/>
          <a:stretch/>
        </p:blipFill>
        <p:spPr>
          <a:xfrm>
            <a:off x="5052960" y="4595760"/>
            <a:ext cx="21420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Box 15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07" name="Oval 16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08" name="Oval 17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09" name="Oval 18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10" name="Oval 19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11" name="TextBox 11"/>
          <p:cNvSpPr/>
          <p:nvPr/>
        </p:nvSpPr>
        <p:spPr>
          <a:xfrm>
            <a:off x="1434960" y="201780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Latest 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Program Course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12" name="TextBox 12"/>
          <p:cNvSpPr/>
          <p:nvPr/>
        </p:nvSpPr>
        <p:spPr>
          <a:xfrm>
            <a:off x="1454040" y="1838160"/>
            <a:ext cx="255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13" name="TextBox 20"/>
          <p:cNvSpPr/>
          <p:nvPr/>
        </p:nvSpPr>
        <p:spPr>
          <a:xfrm>
            <a:off x="1395720" y="348948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Offline Class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14" name="TextBox 21"/>
          <p:cNvSpPr/>
          <p:nvPr/>
        </p:nvSpPr>
        <p:spPr>
          <a:xfrm>
            <a:off x="1427040" y="3728880"/>
            <a:ext cx="3632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orem ipsum dolor sit amet, consectetur adipiscing elit, sed do eiusmod tempor incididunt ut labore et dolo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li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15" name="TextBox 22"/>
          <p:cNvSpPr/>
          <p:nvPr/>
        </p:nvSpPr>
        <p:spPr>
          <a:xfrm>
            <a:off x="1359000" y="437184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Old Curriculum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16" name="TextBox 23"/>
          <p:cNvSpPr/>
          <p:nvPr/>
        </p:nvSpPr>
        <p:spPr>
          <a:xfrm>
            <a:off x="1427040" y="4613400"/>
            <a:ext cx="3632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orem ipsum dolor sit amet, consectetur adipiscing elit, sed do eiusmod tempor incididunt ut labore et dolo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li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17" name="TextBox 24"/>
          <p:cNvSpPr/>
          <p:nvPr/>
        </p:nvSpPr>
        <p:spPr>
          <a:xfrm>
            <a:off x="9064800" y="177156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 SemiBold"/>
              </a:rPr>
              <a:t>Program Her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18" name="TextBox 25"/>
          <p:cNvSpPr/>
          <p:nvPr/>
        </p:nvSpPr>
        <p:spPr>
          <a:xfrm>
            <a:off x="9121680" y="2009880"/>
            <a:ext cx="27129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 tristique magna sit amet. Risus preti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amet dui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quam vulputate dignissi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e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im ne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c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19" name="TextBox 26"/>
          <p:cNvSpPr/>
          <p:nvPr/>
        </p:nvSpPr>
        <p:spPr>
          <a:xfrm>
            <a:off x="9064800" y="452448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 SemiBold"/>
              </a:rPr>
              <a:t>Program Her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20" name="TextBox 27"/>
          <p:cNvSpPr/>
          <p:nvPr/>
        </p:nvSpPr>
        <p:spPr>
          <a:xfrm>
            <a:off x="9121680" y="4761000"/>
            <a:ext cx="27129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 tristique magna sit amet. Risus preti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amet dui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quam vulputate dignissi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e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im ne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c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: Shape 11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22" name="Rectangle 12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23" name="TextBox 8"/>
          <p:cNvSpPr/>
          <p:nvPr/>
        </p:nvSpPr>
        <p:spPr>
          <a:xfrm>
            <a:off x="6961320" y="2017800"/>
            <a:ext cx="37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Newest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Program Course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24" name="TextBox 9"/>
          <p:cNvSpPr/>
          <p:nvPr/>
        </p:nvSpPr>
        <p:spPr>
          <a:xfrm>
            <a:off x="6980400" y="1838160"/>
            <a:ext cx="255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25" name="TextBox 20"/>
          <p:cNvSpPr/>
          <p:nvPr/>
        </p:nvSpPr>
        <p:spPr>
          <a:xfrm>
            <a:off x="6943680" y="348948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Online Class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26" name="TextBox 21"/>
          <p:cNvSpPr/>
          <p:nvPr/>
        </p:nvSpPr>
        <p:spPr>
          <a:xfrm>
            <a:off x="6980400" y="3728880"/>
            <a:ext cx="36306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orem ipsum dolor sit amet, consectetur adipiscing elit, sed do eiusmod tempor incididunt ut labore et dolo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li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27" name="TextBox 22"/>
          <p:cNvSpPr/>
          <p:nvPr/>
        </p:nvSpPr>
        <p:spPr>
          <a:xfrm>
            <a:off x="6905880" y="43718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New Curriculum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28" name="TextBox 23"/>
          <p:cNvSpPr/>
          <p:nvPr/>
        </p:nvSpPr>
        <p:spPr>
          <a:xfrm>
            <a:off x="6980400" y="4613400"/>
            <a:ext cx="36306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orem ipsum dolor sit amet, consectetur adipiscing elit, sed do eiusmod tempor incididunt ut labore et dolo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li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29" name="TextBox 24"/>
          <p:cNvSpPr/>
          <p:nvPr/>
        </p:nvSpPr>
        <p:spPr>
          <a:xfrm>
            <a:off x="1596960" y="16700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 SemiBold"/>
              </a:rPr>
              <a:t>Program Her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30" name="TextBox 25"/>
          <p:cNvSpPr/>
          <p:nvPr/>
        </p:nvSpPr>
        <p:spPr>
          <a:xfrm>
            <a:off x="554040" y="1906560"/>
            <a:ext cx="2419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 tristique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lanh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magna sit amet. Risus preti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amet dui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quam vulputat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31" name="TextBox 26"/>
          <p:cNvSpPr/>
          <p:nvPr/>
        </p:nvSpPr>
        <p:spPr>
          <a:xfrm>
            <a:off x="1596960" y="431496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 SemiBold"/>
              </a:rPr>
              <a:t>Program Her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32" name="TextBox 27"/>
          <p:cNvSpPr/>
          <p:nvPr/>
        </p:nvSpPr>
        <p:spPr>
          <a:xfrm>
            <a:off x="554040" y="4551480"/>
            <a:ext cx="2419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 tristique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lanh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magna sit amet. Risus preti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amet dui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quam vulputat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Box 8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34" name="Oval 10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35" name="Oval 11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36" name="Oval 12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37" name="Oval 13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38" name="TextBox 14"/>
          <p:cNvSpPr/>
          <p:nvPr/>
        </p:nvSpPr>
        <p:spPr>
          <a:xfrm>
            <a:off x="1420920" y="2017800"/>
            <a:ext cx="413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SkillUp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Computer Devices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39" name="TextBox 15"/>
          <p:cNvSpPr/>
          <p:nvPr/>
        </p:nvSpPr>
        <p:spPr>
          <a:xfrm>
            <a:off x="1440000" y="1838160"/>
            <a:ext cx="256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40" name="TextBox 26"/>
          <p:cNvSpPr/>
          <p:nvPr/>
        </p:nvSpPr>
        <p:spPr>
          <a:xfrm>
            <a:off x="1352160" y="3478320"/>
            <a:ext cx="168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Description Her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41" name="TextBox 27"/>
          <p:cNvSpPr/>
          <p:nvPr/>
        </p:nvSpPr>
        <p:spPr>
          <a:xfrm>
            <a:off x="1427040" y="3730680"/>
            <a:ext cx="4303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orem ipsum dolor sit amet, consectetur adipiscing elit, sed do eiusmod tempor incididunt ut labore et dolore magna aliqu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l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cus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42" name="TextBox 28"/>
          <p:cNvSpPr/>
          <p:nvPr/>
        </p:nvSpPr>
        <p:spPr>
          <a:xfrm>
            <a:off x="1358640" y="4454640"/>
            <a:ext cx="168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Description Her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43" name="TextBox 29"/>
          <p:cNvSpPr/>
          <p:nvPr/>
        </p:nvSpPr>
        <p:spPr>
          <a:xfrm>
            <a:off x="1433520" y="4708440"/>
            <a:ext cx="4297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orem ipsum dolor sit amet, consectetur adipiscing elit, sed do eiusmod tempor incididunt ut labore et dolore magna aliqu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l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cus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Freeform: Shape 9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45" name="Rectangle 10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46" name="TextBox 7"/>
          <p:cNvSpPr/>
          <p:nvPr/>
        </p:nvSpPr>
        <p:spPr>
          <a:xfrm>
            <a:off x="6870600" y="214632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SkillUp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Laptop Devices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47" name="TextBox 11"/>
          <p:cNvSpPr/>
          <p:nvPr/>
        </p:nvSpPr>
        <p:spPr>
          <a:xfrm>
            <a:off x="6889680" y="1967040"/>
            <a:ext cx="256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48" name="TextBox 20"/>
          <p:cNvSpPr/>
          <p:nvPr/>
        </p:nvSpPr>
        <p:spPr>
          <a:xfrm>
            <a:off x="6869160" y="3784680"/>
            <a:ext cx="3981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pretium quam vulputate dignissim. Enim nec dui nunc mattis enim ut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 consectetur adipiscin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49" name="TextBox 21"/>
          <p:cNvSpPr/>
          <p:nvPr/>
        </p:nvSpPr>
        <p:spPr>
          <a:xfrm>
            <a:off x="6869160" y="4746600"/>
            <a:ext cx="39812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pretium quam vulputate dignissim. Enim nec dui nunc mattis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enil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TextBox 11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51" name="Oval 12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52" name="Oval 13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53" name="Oval 14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54" name="Oval 15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55" name="TextBox 16"/>
          <p:cNvSpPr/>
          <p:nvPr/>
        </p:nvSpPr>
        <p:spPr>
          <a:xfrm>
            <a:off x="1434960" y="192096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SkillUp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Tablet Devices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56" name="TextBox 17"/>
          <p:cNvSpPr/>
          <p:nvPr/>
        </p:nvSpPr>
        <p:spPr>
          <a:xfrm>
            <a:off x="1454040" y="1743120"/>
            <a:ext cx="255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57" name="TextBox 21"/>
          <p:cNvSpPr/>
          <p:nvPr/>
        </p:nvSpPr>
        <p:spPr>
          <a:xfrm>
            <a:off x="1454040" y="3753000"/>
            <a:ext cx="4775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orem ipsum dolor sit amet, consectetur adipiscing elit, sed do eiusmod tempor incididunt ut labore et dolore magna aliqu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l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cus sed viv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58" name="Oval 22"/>
          <p:cNvSpPr/>
          <p:nvPr/>
        </p:nvSpPr>
        <p:spPr>
          <a:xfrm>
            <a:off x="1576440" y="4616280"/>
            <a:ext cx="1810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59" name="TextBox 23"/>
          <p:cNvSpPr/>
          <p:nvPr/>
        </p:nvSpPr>
        <p:spPr>
          <a:xfrm>
            <a:off x="1893960" y="4402080"/>
            <a:ext cx="35370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orem ipsum dolor sit amet, consectetur adipiscing elit, sed do eiusmod tempor incididunt ut labo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60" name="Oval 24"/>
          <p:cNvSpPr/>
          <p:nvPr/>
        </p:nvSpPr>
        <p:spPr>
          <a:xfrm>
            <a:off x="1576440" y="5265720"/>
            <a:ext cx="1810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61" name="TextBox 25"/>
          <p:cNvSpPr/>
          <p:nvPr/>
        </p:nvSpPr>
        <p:spPr>
          <a:xfrm>
            <a:off x="1893960" y="5051520"/>
            <a:ext cx="35370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orem ipsum dolor sit amet, consectetur adipiscing elit, sed do eiusmod tempor incididunt ut labo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Freeform: Shape 8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63" name="Rectangle 9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64" name="TextBox 7"/>
          <p:cNvSpPr/>
          <p:nvPr/>
        </p:nvSpPr>
        <p:spPr>
          <a:xfrm>
            <a:off x="5303880" y="192096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SkillUp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Phone Devices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65" name="TextBox 10"/>
          <p:cNvSpPr/>
          <p:nvPr/>
        </p:nvSpPr>
        <p:spPr>
          <a:xfrm>
            <a:off x="5322960" y="1743120"/>
            <a:ext cx="256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66" name="TextBox 11"/>
          <p:cNvSpPr/>
          <p:nvPr/>
        </p:nvSpPr>
        <p:spPr>
          <a:xfrm>
            <a:off x="5322960" y="3825720"/>
            <a:ext cx="2374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Quis varius quam quisque id diam vel. U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iad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im blandit volutpat maec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v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s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eus mina klaio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67" name="TextBox 12"/>
          <p:cNvSpPr/>
          <p:nvPr/>
        </p:nvSpPr>
        <p:spPr>
          <a:xfrm>
            <a:off x="5322960" y="3562200"/>
            <a:ext cx="2100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Times New Roman"/>
              </a:rPr>
              <a:t>The Topic On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68" name="TextBox 13"/>
          <p:cNvSpPr/>
          <p:nvPr/>
        </p:nvSpPr>
        <p:spPr>
          <a:xfrm>
            <a:off x="5322960" y="5008680"/>
            <a:ext cx="23000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Quis varius quam quisque id diam vel. U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iad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im blandit volutpat maec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v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s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eus mina klaio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69" name="TextBox 14"/>
          <p:cNvSpPr/>
          <p:nvPr/>
        </p:nvSpPr>
        <p:spPr>
          <a:xfrm>
            <a:off x="5322960" y="4738680"/>
            <a:ext cx="2300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Times New Roman"/>
              </a:rPr>
              <a:t>The Topic Thre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70" name="TextBox 15"/>
          <p:cNvSpPr/>
          <p:nvPr/>
        </p:nvSpPr>
        <p:spPr>
          <a:xfrm>
            <a:off x="8085240" y="3830760"/>
            <a:ext cx="2374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Quis varius quam quisque id diam vel. U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iad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im blandit volutpat maec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v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s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eus mina klaio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71" name="TextBox 16"/>
          <p:cNvSpPr/>
          <p:nvPr/>
        </p:nvSpPr>
        <p:spPr>
          <a:xfrm>
            <a:off x="8085240" y="3560760"/>
            <a:ext cx="2100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Times New Roman"/>
              </a:rPr>
              <a:t>The Topic Two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72" name="TextBox 17"/>
          <p:cNvSpPr/>
          <p:nvPr/>
        </p:nvSpPr>
        <p:spPr>
          <a:xfrm>
            <a:off x="8085240" y="5024520"/>
            <a:ext cx="2374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Quis varius quam quisque id diam vel. U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iad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im blandit volutpat maec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v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s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eus mina klaio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73" name="TextBox 18"/>
          <p:cNvSpPr/>
          <p:nvPr/>
        </p:nvSpPr>
        <p:spPr>
          <a:xfrm>
            <a:off x="8085240" y="4738680"/>
            <a:ext cx="2300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Times New Roman"/>
              </a:rPr>
              <a:t>The Topic Four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reeform 55"/>
          <p:cNvSpPr/>
          <p:nvPr/>
        </p:nvSpPr>
        <p:spPr>
          <a:xfrm>
            <a:off x="6094440" y="1922400"/>
            <a:ext cx="1963800" cy="1965240"/>
          </a:xfrm>
          <a:custGeom>
            <a:avLst/>
            <a:gdLst/>
            <a:ahLst/>
            <a:rect l="l" t="t" r="r" b="b"/>
            <a:pathLst>
              <a:path w="584" h="584">
                <a:moveTo>
                  <a:pt x="0" y="584"/>
                </a:moveTo>
                <a:cubicBezTo>
                  <a:pt x="584" y="583"/>
                  <a:pt x="584" y="583"/>
                  <a:pt x="584" y="583"/>
                </a:cubicBezTo>
                <a:cubicBezTo>
                  <a:pt x="583" y="260"/>
                  <a:pt x="324" y="1"/>
                  <a:pt x="1" y="0"/>
                </a:cubicBezTo>
                <a:cubicBezTo>
                  <a:pt x="0" y="584"/>
                  <a:pt x="0" y="584"/>
                  <a:pt x="0" y="584"/>
                </a:cubicBezTo>
                <a:close/>
              </a:path>
            </a:pathLst>
          </a:cu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75" name="Freeform 56"/>
          <p:cNvSpPr/>
          <p:nvPr/>
        </p:nvSpPr>
        <p:spPr>
          <a:xfrm>
            <a:off x="6094440" y="3884760"/>
            <a:ext cx="1963800" cy="1963440"/>
          </a:xfrm>
          <a:custGeom>
            <a:avLst/>
            <a:gdLst/>
            <a:ahLst/>
            <a:rect l="l" t="t" r="r" b="b"/>
            <a:pathLst>
              <a:path w="584" h="584">
                <a:moveTo>
                  <a:pt x="0" y="1"/>
                </a:moveTo>
                <a:cubicBezTo>
                  <a:pt x="1" y="584"/>
                  <a:pt x="1" y="584"/>
                  <a:pt x="1" y="584"/>
                </a:cubicBezTo>
                <a:cubicBezTo>
                  <a:pt x="325" y="584"/>
                  <a:pt x="584" y="325"/>
                  <a:pt x="584" y="1"/>
                </a:cubicBezTo>
                <a:cubicBezTo>
                  <a:pt x="584" y="1"/>
                  <a:pt x="584" y="1"/>
                  <a:pt x="584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76" name="Freeform 57"/>
          <p:cNvSpPr/>
          <p:nvPr/>
        </p:nvSpPr>
        <p:spPr>
          <a:xfrm>
            <a:off x="4133880" y="3887640"/>
            <a:ext cx="1963800" cy="1960560"/>
          </a:xfrm>
          <a:custGeom>
            <a:avLst/>
            <a:gdLst/>
            <a:ahLst/>
            <a:rect l="l" t="t" r="r" b="b"/>
            <a:pathLst>
              <a:path w="584" h="583">
                <a:moveTo>
                  <a:pt x="583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24"/>
                  <a:pt x="259" y="583"/>
                  <a:pt x="583" y="583"/>
                </a:cubicBezTo>
                <a:cubicBezTo>
                  <a:pt x="583" y="583"/>
                  <a:pt x="583" y="583"/>
                  <a:pt x="584" y="583"/>
                </a:cubicBezTo>
                <a:cubicBezTo>
                  <a:pt x="583" y="0"/>
                  <a:pt x="583" y="0"/>
                  <a:pt x="583" y="0"/>
                </a:cubicBezTo>
                <a:close/>
              </a:path>
            </a:pathLst>
          </a:cu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77" name="Freeform 58"/>
          <p:cNvSpPr/>
          <p:nvPr/>
        </p:nvSpPr>
        <p:spPr>
          <a:xfrm>
            <a:off x="4133880" y="1922400"/>
            <a:ext cx="1960560" cy="2013120"/>
          </a:xfrm>
          <a:custGeom>
            <a:avLst/>
            <a:gdLst/>
            <a:ahLst/>
            <a:rect l="l" t="t" r="r" b="b"/>
            <a:pathLst>
              <a:path w="583" h="584">
                <a:moveTo>
                  <a:pt x="583" y="584"/>
                </a:moveTo>
                <a:cubicBezTo>
                  <a:pt x="583" y="0"/>
                  <a:pt x="583" y="0"/>
                  <a:pt x="583" y="0"/>
                </a:cubicBezTo>
                <a:cubicBezTo>
                  <a:pt x="259" y="1"/>
                  <a:pt x="0" y="260"/>
                  <a:pt x="0" y="584"/>
                </a:cubicBezTo>
                <a:cubicBezTo>
                  <a:pt x="0" y="584"/>
                  <a:pt x="0" y="584"/>
                  <a:pt x="0" y="584"/>
                </a:cubicBezTo>
                <a:cubicBezTo>
                  <a:pt x="583" y="584"/>
                  <a:pt x="583" y="584"/>
                  <a:pt x="583" y="584"/>
                </a:cubicBezTo>
                <a:close/>
              </a:path>
            </a:pathLst>
          </a:custGeom>
          <a:solidFill>
            <a:srgbClr val="1b4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78" name="TextBox 45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79" name="Oval 46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80" name="Oval 47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81" name="Oval 48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82" name="Oval 49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83" name="Freeform: Shape 50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84" name="Rectangle 51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85" name="TextBox 12"/>
          <p:cNvSpPr/>
          <p:nvPr/>
        </p:nvSpPr>
        <p:spPr>
          <a:xfrm>
            <a:off x="3767040" y="1135080"/>
            <a:ext cx="46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Company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Infographic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86" name="TextBox 13"/>
          <p:cNvSpPr/>
          <p:nvPr/>
        </p:nvSpPr>
        <p:spPr>
          <a:xfrm>
            <a:off x="4816440" y="957240"/>
            <a:ext cx="255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87" name="TextBox 14"/>
          <p:cNvSpPr/>
          <p:nvPr/>
        </p:nvSpPr>
        <p:spPr>
          <a:xfrm>
            <a:off x="8531280" y="3075120"/>
            <a:ext cx="2496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100" spc="-1" strike="noStrike">
                <a:solidFill>
                  <a:srgbClr val="7f7f7f"/>
                </a:solidFill>
                <a:latin typeface="Roboto"/>
              </a:rPr>
              <a:t>Lorem ipsum dolor sit amet, consectetur adipiscing elit, sed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88" name="Rectangle 15"/>
          <p:cNvSpPr/>
          <p:nvPr/>
        </p:nvSpPr>
        <p:spPr>
          <a:xfrm>
            <a:off x="8531280" y="2529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595959"/>
                </a:solidFill>
                <a:latin typeface="Roboto"/>
                <a:ea typeface="Calibri"/>
              </a:rPr>
              <a:t>Your Text Her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89" name="TextBox 16"/>
          <p:cNvSpPr/>
          <p:nvPr/>
        </p:nvSpPr>
        <p:spPr>
          <a:xfrm>
            <a:off x="8520120" y="2766960"/>
            <a:ext cx="18288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900" spc="-1" strike="noStrike">
                <a:solidFill>
                  <a:srgbClr val="7f7f7f"/>
                </a:solidFill>
                <a:latin typeface="Roboto"/>
              </a:rPr>
              <a:t>Best Services For You</a:t>
            </a:r>
            <a:endParaRPr b="0" lang="en-US" sz="9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90" name="TextBox 17"/>
          <p:cNvSpPr/>
          <p:nvPr/>
        </p:nvSpPr>
        <p:spPr>
          <a:xfrm>
            <a:off x="8531280" y="4830840"/>
            <a:ext cx="2496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100" spc="-1" strike="noStrike">
                <a:solidFill>
                  <a:srgbClr val="7f7f7f"/>
                </a:solidFill>
                <a:latin typeface="Roboto"/>
              </a:rPr>
              <a:t>Lorem ipsum dolor sit amet, consectetur adipiscing elit, sed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91" name="Rectangle 18"/>
          <p:cNvSpPr/>
          <p:nvPr/>
        </p:nvSpPr>
        <p:spPr>
          <a:xfrm>
            <a:off x="8531280" y="428616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595959"/>
                </a:solidFill>
                <a:latin typeface="Roboto"/>
                <a:ea typeface="Calibri"/>
              </a:rPr>
              <a:t>Your Text Her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92" name="TextBox 19"/>
          <p:cNvSpPr/>
          <p:nvPr/>
        </p:nvSpPr>
        <p:spPr>
          <a:xfrm>
            <a:off x="1163520" y="3075120"/>
            <a:ext cx="2497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100" spc="-1" strike="noStrike">
                <a:solidFill>
                  <a:srgbClr val="7f7f7f"/>
                </a:solidFill>
                <a:latin typeface="Roboto"/>
              </a:rPr>
              <a:t>Lorem ipsum dolor sit amet, consectetur adipiscing elit, sed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93" name="Rectangle 20"/>
          <p:cNvSpPr/>
          <p:nvPr/>
        </p:nvSpPr>
        <p:spPr>
          <a:xfrm>
            <a:off x="1784520" y="2529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595959"/>
                </a:solidFill>
                <a:latin typeface="Roboto"/>
                <a:ea typeface="Calibri"/>
              </a:rPr>
              <a:t>Your Text Her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94" name="TextBox 21"/>
          <p:cNvSpPr/>
          <p:nvPr/>
        </p:nvSpPr>
        <p:spPr>
          <a:xfrm>
            <a:off x="1163520" y="4830840"/>
            <a:ext cx="2497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100" spc="-1" strike="noStrike">
                <a:solidFill>
                  <a:srgbClr val="7f7f7f"/>
                </a:solidFill>
                <a:latin typeface="Roboto"/>
              </a:rPr>
              <a:t>Lorem ipsum dolor sit amet, consectetur adipiscing elit, sed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95" name="Rectangle 22"/>
          <p:cNvSpPr/>
          <p:nvPr/>
        </p:nvSpPr>
        <p:spPr>
          <a:xfrm>
            <a:off x="1832040" y="428616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595959"/>
                </a:solidFill>
                <a:latin typeface="Roboto"/>
                <a:ea typeface="Calibri"/>
              </a:rPr>
              <a:t>Your Text Her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96" name="TextBox 23"/>
          <p:cNvSpPr/>
          <p:nvPr/>
        </p:nvSpPr>
        <p:spPr>
          <a:xfrm>
            <a:off x="8531280" y="4491000"/>
            <a:ext cx="18288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900" spc="-1" strike="noStrike">
                <a:solidFill>
                  <a:srgbClr val="7f7f7f"/>
                </a:solidFill>
                <a:latin typeface="Roboto"/>
              </a:rPr>
              <a:t>Best Services For You</a:t>
            </a:r>
            <a:endParaRPr b="0" lang="en-US" sz="9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97" name="TextBox 24"/>
          <p:cNvSpPr/>
          <p:nvPr/>
        </p:nvSpPr>
        <p:spPr>
          <a:xfrm>
            <a:off x="1784520" y="2755800"/>
            <a:ext cx="18288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900" spc="-1" strike="noStrike">
                <a:solidFill>
                  <a:srgbClr val="7f7f7f"/>
                </a:solidFill>
                <a:latin typeface="Roboto"/>
              </a:rPr>
              <a:t>Best Services For You</a:t>
            </a:r>
            <a:endParaRPr b="0" lang="en-US" sz="9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98" name="TextBox 25"/>
          <p:cNvSpPr/>
          <p:nvPr/>
        </p:nvSpPr>
        <p:spPr>
          <a:xfrm>
            <a:off x="1795320" y="4494240"/>
            <a:ext cx="18288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900" spc="-1" strike="noStrike">
                <a:solidFill>
                  <a:srgbClr val="7f7f7f"/>
                </a:solidFill>
                <a:latin typeface="Roboto"/>
              </a:rPr>
              <a:t>Best Services For You</a:t>
            </a:r>
            <a:endParaRPr b="0" lang="en-US" sz="9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99" name="Freeform 32"/>
          <p:cNvSpPr/>
          <p:nvPr/>
        </p:nvSpPr>
        <p:spPr>
          <a:xfrm>
            <a:off x="6613560" y="2682720"/>
            <a:ext cx="549360" cy="652680"/>
          </a:xfrm>
          <a:custGeom>
            <a:avLst/>
            <a:gdLst/>
            <a:ahLst/>
            <a:rect l="l" t="t" r="r" b="b"/>
            <a:pathLst>
              <a:path w="190" h="226">
                <a:moveTo>
                  <a:pt x="127" y="218"/>
                </a:moveTo>
                <a:cubicBezTo>
                  <a:pt x="127" y="223"/>
                  <a:pt x="123" y="226"/>
                  <a:pt x="119" y="226"/>
                </a:cubicBezTo>
                <a:cubicBezTo>
                  <a:pt x="72" y="226"/>
                  <a:pt x="72" y="226"/>
                  <a:pt x="72" y="226"/>
                </a:cubicBezTo>
                <a:cubicBezTo>
                  <a:pt x="67" y="226"/>
                  <a:pt x="64" y="223"/>
                  <a:pt x="64" y="218"/>
                </a:cubicBezTo>
                <a:cubicBezTo>
                  <a:pt x="64" y="218"/>
                  <a:pt x="64" y="218"/>
                  <a:pt x="64" y="218"/>
                </a:cubicBezTo>
                <a:cubicBezTo>
                  <a:pt x="64" y="214"/>
                  <a:pt x="67" y="210"/>
                  <a:pt x="72" y="210"/>
                </a:cubicBezTo>
                <a:cubicBezTo>
                  <a:pt x="119" y="210"/>
                  <a:pt x="119" y="210"/>
                  <a:pt x="119" y="210"/>
                </a:cubicBezTo>
                <a:cubicBezTo>
                  <a:pt x="123" y="210"/>
                  <a:pt x="127" y="214"/>
                  <a:pt x="127" y="218"/>
                </a:cubicBezTo>
                <a:close/>
                <a:moveTo>
                  <a:pt x="127" y="198"/>
                </a:moveTo>
                <a:cubicBezTo>
                  <a:pt x="127" y="193"/>
                  <a:pt x="123" y="190"/>
                  <a:pt x="119" y="190"/>
                </a:cubicBezTo>
                <a:cubicBezTo>
                  <a:pt x="72" y="190"/>
                  <a:pt x="72" y="190"/>
                  <a:pt x="72" y="190"/>
                </a:cubicBezTo>
                <a:cubicBezTo>
                  <a:pt x="67" y="190"/>
                  <a:pt x="64" y="193"/>
                  <a:pt x="64" y="198"/>
                </a:cubicBezTo>
                <a:cubicBezTo>
                  <a:pt x="64" y="198"/>
                  <a:pt x="64" y="198"/>
                  <a:pt x="64" y="198"/>
                </a:cubicBezTo>
                <a:cubicBezTo>
                  <a:pt x="64" y="202"/>
                  <a:pt x="67" y="206"/>
                  <a:pt x="72" y="206"/>
                </a:cubicBezTo>
                <a:cubicBezTo>
                  <a:pt x="119" y="206"/>
                  <a:pt x="119" y="206"/>
                  <a:pt x="119" y="206"/>
                </a:cubicBezTo>
                <a:cubicBezTo>
                  <a:pt x="123" y="206"/>
                  <a:pt x="127" y="202"/>
                  <a:pt x="127" y="198"/>
                </a:cubicBezTo>
                <a:close/>
                <a:moveTo>
                  <a:pt x="103" y="112"/>
                </a:moveTo>
                <a:cubicBezTo>
                  <a:pt x="93" y="112"/>
                  <a:pt x="93" y="112"/>
                  <a:pt x="93" y="112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88" y="185"/>
                  <a:pt x="88" y="185"/>
                  <a:pt x="88" y="185"/>
                </a:cubicBezTo>
                <a:cubicBezTo>
                  <a:pt x="90" y="185"/>
                  <a:pt x="93" y="185"/>
                  <a:pt x="95" y="185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5"/>
                  <a:pt x="96" y="185"/>
                  <a:pt x="96" y="185"/>
                </a:cubicBezTo>
                <a:cubicBezTo>
                  <a:pt x="96" y="185"/>
                  <a:pt x="96" y="185"/>
                  <a:pt x="96" y="185"/>
                </a:cubicBezTo>
                <a:cubicBezTo>
                  <a:pt x="98" y="185"/>
                  <a:pt x="100" y="185"/>
                  <a:pt x="103" y="185"/>
                </a:cubicBezTo>
                <a:lnTo>
                  <a:pt x="103" y="112"/>
                </a:lnTo>
                <a:close/>
                <a:moveTo>
                  <a:pt x="69" y="81"/>
                </a:moveTo>
                <a:cubicBezTo>
                  <a:pt x="63" y="81"/>
                  <a:pt x="58" y="87"/>
                  <a:pt x="58" y="93"/>
                </a:cubicBezTo>
                <a:cubicBezTo>
                  <a:pt x="58" y="99"/>
                  <a:pt x="63" y="104"/>
                  <a:pt x="69" y="104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80" y="93"/>
                  <a:pt x="80" y="93"/>
                  <a:pt x="80" y="93"/>
                </a:cubicBezTo>
                <a:cubicBezTo>
                  <a:pt x="80" y="87"/>
                  <a:pt x="75" y="81"/>
                  <a:pt x="69" y="81"/>
                </a:cubicBezTo>
                <a:close/>
                <a:moveTo>
                  <a:pt x="133" y="93"/>
                </a:moveTo>
                <a:cubicBezTo>
                  <a:pt x="133" y="87"/>
                  <a:pt x="128" y="81"/>
                  <a:pt x="122" y="81"/>
                </a:cubicBezTo>
                <a:cubicBezTo>
                  <a:pt x="115" y="81"/>
                  <a:pt x="110" y="87"/>
                  <a:pt x="110" y="93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122" y="104"/>
                  <a:pt x="122" y="104"/>
                  <a:pt x="122" y="104"/>
                </a:cubicBezTo>
                <a:cubicBezTo>
                  <a:pt x="128" y="104"/>
                  <a:pt x="133" y="99"/>
                  <a:pt x="133" y="93"/>
                </a:cubicBezTo>
                <a:close/>
                <a:moveTo>
                  <a:pt x="158" y="72"/>
                </a:moveTo>
                <a:cubicBezTo>
                  <a:pt x="153" y="52"/>
                  <a:pt x="129" y="30"/>
                  <a:pt x="95" y="30"/>
                </a:cubicBezTo>
                <a:cubicBezTo>
                  <a:pt x="62" y="30"/>
                  <a:pt x="38" y="52"/>
                  <a:pt x="33" y="72"/>
                </a:cubicBezTo>
                <a:cubicBezTo>
                  <a:pt x="29" y="88"/>
                  <a:pt x="32" y="102"/>
                  <a:pt x="40" y="116"/>
                </a:cubicBezTo>
                <a:cubicBezTo>
                  <a:pt x="46" y="129"/>
                  <a:pt x="53" y="139"/>
                  <a:pt x="59" y="153"/>
                </a:cubicBezTo>
                <a:cubicBezTo>
                  <a:pt x="62" y="160"/>
                  <a:pt x="63" y="170"/>
                  <a:pt x="65" y="177"/>
                </a:cubicBezTo>
                <a:cubicBezTo>
                  <a:pt x="66" y="183"/>
                  <a:pt x="69" y="185"/>
                  <a:pt x="76" y="185"/>
                </a:cubicBezTo>
                <a:cubicBezTo>
                  <a:pt x="77" y="185"/>
                  <a:pt x="79" y="185"/>
                  <a:pt x="80" y="185"/>
                </a:cubicBezTo>
                <a:cubicBezTo>
                  <a:pt x="80" y="112"/>
                  <a:pt x="80" y="112"/>
                  <a:pt x="80" y="112"/>
                </a:cubicBezTo>
                <a:cubicBezTo>
                  <a:pt x="69" y="112"/>
                  <a:pt x="69" y="112"/>
                  <a:pt x="69" y="112"/>
                </a:cubicBezTo>
                <a:cubicBezTo>
                  <a:pt x="64" y="112"/>
                  <a:pt x="59" y="110"/>
                  <a:pt x="56" y="106"/>
                </a:cubicBezTo>
                <a:cubicBezTo>
                  <a:pt x="52" y="103"/>
                  <a:pt x="50" y="98"/>
                  <a:pt x="50" y="93"/>
                </a:cubicBezTo>
                <a:cubicBezTo>
                  <a:pt x="50" y="88"/>
                  <a:pt x="52" y="83"/>
                  <a:pt x="56" y="80"/>
                </a:cubicBezTo>
                <a:cubicBezTo>
                  <a:pt x="59" y="76"/>
                  <a:pt x="64" y="74"/>
                  <a:pt x="69" y="74"/>
                </a:cubicBezTo>
                <a:cubicBezTo>
                  <a:pt x="79" y="74"/>
                  <a:pt x="88" y="82"/>
                  <a:pt x="88" y="93"/>
                </a:cubicBezTo>
                <a:cubicBezTo>
                  <a:pt x="88" y="93"/>
                  <a:pt x="88" y="93"/>
                  <a:pt x="88" y="93"/>
                </a:cubicBezTo>
                <a:cubicBezTo>
                  <a:pt x="88" y="104"/>
                  <a:pt x="88" y="104"/>
                  <a:pt x="88" y="104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103" y="104"/>
                  <a:pt x="103" y="104"/>
                  <a:pt x="103" y="104"/>
                </a:cubicBezTo>
                <a:cubicBezTo>
                  <a:pt x="103" y="93"/>
                  <a:pt x="103" y="93"/>
                  <a:pt x="103" y="93"/>
                </a:cubicBezTo>
                <a:cubicBezTo>
                  <a:pt x="103" y="93"/>
                  <a:pt x="103" y="93"/>
                  <a:pt x="103" y="93"/>
                </a:cubicBezTo>
                <a:cubicBezTo>
                  <a:pt x="103" y="88"/>
                  <a:pt x="105" y="83"/>
                  <a:pt x="108" y="80"/>
                </a:cubicBezTo>
                <a:cubicBezTo>
                  <a:pt x="112" y="76"/>
                  <a:pt x="117" y="74"/>
                  <a:pt x="122" y="74"/>
                </a:cubicBezTo>
                <a:cubicBezTo>
                  <a:pt x="127" y="74"/>
                  <a:pt x="131" y="76"/>
                  <a:pt x="135" y="80"/>
                </a:cubicBezTo>
                <a:cubicBezTo>
                  <a:pt x="138" y="83"/>
                  <a:pt x="140" y="88"/>
                  <a:pt x="140" y="93"/>
                </a:cubicBezTo>
                <a:cubicBezTo>
                  <a:pt x="140" y="98"/>
                  <a:pt x="138" y="103"/>
                  <a:pt x="135" y="106"/>
                </a:cubicBezTo>
                <a:cubicBezTo>
                  <a:pt x="131" y="110"/>
                  <a:pt x="127" y="112"/>
                  <a:pt x="122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85"/>
                  <a:pt x="110" y="185"/>
                  <a:pt x="110" y="185"/>
                </a:cubicBezTo>
                <a:cubicBezTo>
                  <a:pt x="112" y="185"/>
                  <a:pt x="113" y="185"/>
                  <a:pt x="115" y="185"/>
                </a:cubicBezTo>
                <a:cubicBezTo>
                  <a:pt x="122" y="185"/>
                  <a:pt x="124" y="183"/>
                  <a:pt x="126" y="177"/>
                </a:cubicBezTo>
                <a:cubicBezTo>
                  <a:pt x="127" y="170"/>
                  <a:pt x="129" y="160"/>
                  <a:pt x="132" y="153"/>
                </a:cubicBezTo>
                <a:cubicBezTo>
                  <a:pt x="137" y="139"/>
                  <a:pt x="144" y="129"/>
                  <a:pt x="151" y="116"/>
                </a:cubicBezTo>
                <a:cubicBezTo>
                  <a:pt x="158" y="102"/>
                  <a:pt x="162" y="88"/>
                  <a:pt x="158" y="72"/>
                </a:cubicBezTo>
                <a:close/>
                <a:moveTo>
                  <a:pt x="102" y="7"/>
                </a:moveTo>
                <a:cubicBezTo>
                  <a:pt x="102" y="3"/>
                  <a:pt x="99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2" y="0"/>
                  <a:pt x="88" y="3"/>
                  <a:pt x="88" y="7"/>
                </a:cubicBezTo>
                <a:cubicBezTo>
                  <a:pt x="88" y="20"/>
                  <a:pt x="88" y="20"/>
                  <a:pt x="88" y="20"/>
                </a:cubicBezTo>
                <a:cubicBezTo>
                  <a:pt x="88" y="24"/>
                  <a:pt x="92" y="27"/>
                  <a:pt x="95" y="27"/>
                </a:cubicBezTo>
                <a:cubicBezTo>
                  <a:pt x="95" y="27"/>
                  <a:pt x="95" y="27"/>
                  <a:pt x="95" y="27"/>
                </a:cubicBezTo>
                <a:cubicBezTo>
                  <a:pt x="99" y="27"/>
                  <a:pt x="102" y="24"/>
                  <a:pt x="102" y="20"/>
                </a:cubicBezTo>
                <a:lnTo>
                  <a:pt x="102" y="7"/>
                </a:lnTo>
                <a:close/>
                <a:moveTo>
                  <a:pt x="140" y="18"/>
                </a:moveTo>
                <a:cubicBezTo>
                  <a:pt x="142" y="15"/>
                  <a:pt x="141" y="11"/>
                  <a:pt x="138" y="9"/>
                </a:cubicBezTo>
                <a:cubicBezTo>
                  <a:pt x="138" y="9"/>
                  <a:pt x="138" y="9"/>
                  <a:pt x="138" y="9"/>
                </a:cubicBezTo>
                <a:cubicBezTo>
                  <a:pt x="134" y="7"/>
                  <a:pt x="130" y="8"/>
                  <a:pt x="128" y="12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0" y="26"/>
                  <a:pt x="122" y="30"/>
                  <a:pt x="125" y="32"/>
                </a:cubicBezTo>
                <a:cubicBezTo>
                  <a:pt x="125" y="32"/>
                  <a:pt x="125" y="32"/>
                  <a:pt x="125" y="32"/>
                </a:cubicBezTo>
                <a:cubicBezTo>
                  <a:pt x="128" y="34"/>
                  <a:pt x="133" y="33"/>
                  <a:pt x="134" y="29"/>
                </a:cubicBezTo>
                <a:lnTo>
                  <a:pt x="140" y="18"/>
                </a:lnTo>
                <a:close/>
                <a:moveTo>
                  <a:pt x="168" y="41"/>
                </a:moveTo>
                <a:cubicBezTo>
                  <a:pt x="171" y="38"/>
                  <a:pt x="172" y="34"/>
                  <a:pt x="169" y="31"/>
                </a:cubicBezTo>
                <a:cubicBezTo>
                  <a:pt x="169" y="31"/>
                  <a:pt x="169" y="31"/>
                  <a:pt x="169" y="31"/>
                </a:cubicBezTo>
                <a:cubicBezTo>
                  <a:pt x="167" y="28"/>
                  <a:pt x="162" y="28"/>
                  <a:pt x="159" y="30"/>
                </a:cubicBezTo>
                <a:cubicBezTo>
                  <a:pt x="150" y="39"/>
                  <a:pt x="150" y="39"/>
                  <a:pt x="150" y="39"/>
                </a:cubicBezTo>
                <a:cubicBezTo>
                  <a:pt x="147" y="41"/>
                  <a:pt x="147" y="46"/>
                  <a:pt x="149" y="48"/>
                </a:cubicBezTo>
                <a:cubicBezTo>
                  <a:pt x="149" y="48"/>
                  <a:pt x="149" y="48"/>
                  <a:pt x="149" y="48"/>
                </a:cubicBezTo>
                <a:cubicBezTo>
                  <a:pt x="152" y="51"/>
                  <a:pt x="156" y="51"/>
                  <a:pt x="159" y="49"/>
                </a:cubicBezTo>
                <a:lnTo>
                  <a:pt x="168" y="41"/>
                </a:lnTo>
                <a:close/>
                <a:moveTo>
                  <a:pt x="183" y="74"/>
                </a:moveTo>
                <a:cubicBezTo>
                  <a:pt x="187" y="74"/>
                  <a:pt x="190" y="70"/>
                  <a:pt x="189" y="66"/>
                </a:cubicBezTo>
                <a:cubicBezTo>
                  <a:pt x="189" y="66"/>
                  <a:pt x="189" y="66"/>
                  <a:pt x="189" y="66"/>
                </a:cubicBezTo>
                <a:cubicBezTo>
                  <a:pt x="188" y="63"/>
                  <a:pt x="185" y="60"/>
                  <a:pt x="181" y="61"/>
                </a:cubicBezTo>
                <a:cubicBezTo>
                  <a:pt x="168" y="63"/>
                  <a:pt x="168" y="63"/>
                  <a:pt x="168" y="63"/>
                </a:cubicBezTo>
                <a:cubicBezTo>
                  <a:pt x="165" y="64"/>
                  <a:pt x="162" y="67"/>
                  <a:pt x="163" y="71"/>
                </a:cubicBezTo>
                <a:cubicBezTo>
                  <a:pt x="163" y="71"/>
                  <a:pt x="163" y="71"/>
                  <a:pt x="163" y="71"/>
                </a:cubicBezTo>
                <a:cubicBezTo>
                  <a:pt x="164" y="75"/>
                  <a:pt x="167" y="77"/>
                  <a:pt x="171" y="77"/>
                </a:cubicBezTo>
                <a:lnTo>
                  <a:pt x="183" y="74"/>
                </a:lnTo>
                <a:close/>
                <a:moveTo>
                  <a:pt x="180" y="111"/>
                </a:moveTo>
                <a:cubicBezTo>
                  <a:pt x="184" y="112"/>
                  <a:pt x="188" y="109"/>
                  <a:pt x="188" y="106"/>
                </a:cubicBezTo>
                <a:cubicBezTo>
                  <a:pt x="188" y="106"/>
                  <a:pt x="188" y="106"/>
                  <a:pt x="188" y="106"/>
                </a:cubicBezTo>
                <a:cubicBezTo>
                  <a:pt x="189" y="102"/>
                  <a:pt x="187" y="98"/>
                  <a:pt x="183" y="98"/>
                </a:cubicBezTo>
                <a:cubicBezTo>
                  <a:pt x="171" y="95"/>
                  <a:pt x="171" y="95"/>
                  <a:pt x="171" y="95"/>
                </a:cubicBezTo>
                <a:cubicBezTo>
                  <a:pt x="167" y="94"/>
                  <a:pt x="163" y="97"/>
                  <a:pt x="162" y="100"/>
                </a:cubicBezTo>
                <a:cubicBezTo>
                  <a:pt x="162" y="100"/>
                  <a:pt x="162" y="100"/>
                  <a:pt x="162" y="100"/>
                </a:cubicBezTo>
                <a:cubicBezTo>
                  <a:pt x="162" y="104"/>
                  <a:pt x="164" y="108"/>
                  <a:pt x="168" y="109"/>
                </a:cubicBezTo>
                <a:lnTo>
                  <a:pt x="180" y="111"/>
                </a:lnTo>
                <a:close/>
                <a:moveTo>
                  <a:pt x="55" y="29"/>
                </a:moveTo>
                <a:cubicBezTo>
                  <a:pt x="57" y="33"/>
                  <a:pt x="61" y="34"/>
                  <a:pt x="65" y="32"/>
                </a:cubicBezTo>
                <a:cubicBezTo>
                  <a:pt x="65" y="32"/>
                  <a:pt x="65" y="32"/>
                  <a:pt x="65" y="32"/>
                </a:cubicBezTo>
                <a:cubicBezTo>
                  <a:pt x="68" y="30"/>
                  <a:pt x="69" y="26"/>
                  <a:pt x="68" y="23"/>
                </a:cubicBezTo>
                <a:cubicBezTo>
                  <a:pt x="61" y="12"/>
                  <a:pt x="61" y="12"/>
                  <a:pt x="61" y="12"/>
                </a:cubicBezTo>
                <a:cubicBezTo>
                  <a:pt x="60" y="8"/>
                  <a:pt x="56" y="7"/>
                  <a:pt x="52" y="9"/>
                </a:cubicBezTo>
                <a:cubicBezTo>
                  <a:pt x="52" y="9"/>
                  <a:pt x="52" y="9"/>
                  <a:pt x="52" y="9"/>
                </a:cubicBezTo>
                <a:cubicBezTo>
                  <a:pt x="49" y="11"/>
                  <a:pt x="48" y="15"/>
                  <a:pt x="49" y="18"/>
                </a:cubicBezTo>
                <a:lnTo>
                  <a:pt x="55" y="29"/>
                </a:lnTo>
                <a:close/>
                <a:moveTo>
                  <a:pt x="31" y="49"/>
                </a:moveTo>
                <a:cubicBezTo>
                  <a:pt x="34" y="51"/>
                  <a:pt x="38" y="51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3" y="46"/>
                  <a:pt x="43" y="41"/>
                  <a:pt x="40" y="39"/>
                </a:cubicBezTo>
                <a:cubicBezTo>
                  <a:pt x="30" y="30"/>
                  <a:pt x="30" y="30"/>
                  <a:pt x="30" y="30"/>
                </a:cubicBezTo>
                <a:cubicBezTo>
                  <a:pt x="28" y="28"/>
                  <a:pt x="23" y="28"/>
                  <a:pt x="21" y="31"/>
                </a:cubicBezTo>
                <a:cubicBezTo>
                  <a:pt x="21" y="31"/>
                  <a:pt x="21" y="31"/>
                  <a:pt x="21" y="31"/>
                </a:cubicBezTo>
                <a:cubicBezTo>
                  <a:pt x="18" y="34"/>
                  <a:pt x="18" y="38"/>
                  <a:pt x="21" y="41"/>
                </a:cubicBezTo>
                <a:lnTo>
                  <a:pt x="31" y="49"/>
                </a:lnTo>
                <a:close/>
                <a:moveTo>
                  <a:pt x="19" y="77"/>
                </a:moveTo>
                <a:cubicBezTo>
                  <a:pt x="23" y="77"/>
                  <a:pt x="26" y="75"/>
                  <a:pt x="27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28" y="67"/>
                  <a:pt x="25" y="64"/>
                  <a:pt x="21" y="63"/>
                </a:cubicBezTo>
                <a:cubicBezTo>
                  <a:pt x="9" y="61"/>
                  <a:pt x="9" y="61"/>
                  <a:pt x="9" y="61"/>
                </a:cubicBezTo>
                <a:cubicBezTo>
                  <a:pt x="5" y="60"/>
                  <a:pt x="2" y="63"/>
                  <a:pt x="1" y="66"/>
                </a:cubicBezTo>
                <a:cubicBezTo>
                  <a:pt x="1" y="66"/>
                  <a:pt x="1" y="66"/>
                  <a:pt x="1" y="66"/>
                </a:cubicBezTo>
                <a:cubicBezTo>
                  <a:pt x="0" y="70"/>
                  <a:pt x="3" y="74"/>
                  <a:pt x="6" y="74"/>
                </a:cubicBezTo>
                <a:lnTo>
                  <a:pt x="19" y="77"/>
                </a:lnTo>
                <a:close/>
                <a:moveTo>
                  <a:pt x="22" y="109"/>
                </a:moveTo>
                <a:cubicBezTo>
                  <a:pt x="26" y="108"/>
                  <a:pt x="28" y="104"/>
                  <a:pt x="2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97"/>
                  <a:pt x="23" y="94"/>
                  <a:pt x="19" y="95"/>
                </a:cubicBezTo>
                <a:cubicBezTo>
                  <a:pt x="7" y="98"/>
                  <a:pt x="7" y="98"/>
                  <a:pt x="7" y="98"/>
                </a:cubicBezTo>
                <a:cubicBezTo>
                  <a:pt x="3" y="98"/>
                  <a:pt x="1" y="102"/>
                  <a:pt x="1" y="106"/>
                </a:cubicBezTo>
                <a:cubicBezTo>
                  <a:pt x="1" y="106"/>
                  <a:pt x="1" y="106"/>
                  <a:pt x="1" y="106"/>
                </a:cubicBezTo>
                <a:cubicBezTo>
                  <a:pt x="2" y="109"/>
                  <a:pt x="6" y="112"/>
                  <a:pt x="10" y="111"/>
                </a:cubicBezTo>
                <a:lnTo>
                  <a:pt x="22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grpSp>
        <p:nvGrpSpPr>
          <p:cNvPr id="1100" name="Group 1"/>
          <p:cNvGrpSpPr/>
          <p:nvPr/>
        </p:nvGrpSpPr>
        <p:grpSpPr>
          <a:xfrm>
            <a:off x="6558120" y="4392720"/>
            <a:ext cx="730080" cy="566640"/>
            <a:chOff x="6558120" y="4392720"/>
            <a:chExt cx="730080" cy="566640"/>
          </a:xfrm>
        </p:grpSpPr>
        <p:sp>
          <p:nvSpPr>
            <p:cNvPr id="1101" name="Freeform 291"/>
            <p:cNvSpPr/>
            <p:nvPr/>
          </p:nvSpPr>
          <p:spPr>
            <a:xfrm>
              <a:off x="6661080" y="4598640"/>
              <a:ext cx="253440" cy="2530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0" y="36"/>
                  </a:moveTo>
                  <a:cubicBezTo>
                    <a:pt x="12" y="36"/>
                    <a:pt x="4" y="29"/>
                    <a:pt x="4" y="20"/>
                  </a:cubicBezTo>
                  <a:cubicBezTo>
                    <a:pt x="4" y="11"/>
                    <a:pt x="12" y="4"/>
                    <a:pt x="20" y="4"/>
                  </a:cubicBezTo>
                  <a:cubicBezTo>
                    <a:pt x="29" y="4"/>
                    <a:pt x="37" y="11"/>
                    <a:pt x="37" y="20"/>
                  </a:cubicBezTo>
                  <a:cubicBezTo>
                    <a:pt x="37" y="29"/>
                    <a:pt x="29" y="36"/>
                    <a:pt x="20" y="36"/>
                  </a:cubicBezTo>
                  <a:moveTo>
                    <a:pt x="20" y="0"/>
                  </a:move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1"/>
                    <a:pt x="20" y="41"/>
                  </a:cubicBezTo>
                  <a:cubicBezTo>
                    <a:pt x="32" y="41"/>
                    <a:pt x="41" y="31"/>
                    <a:pt x="41" y="20"/>
                  </a:cubicBezTo>
                  <a:cubicBezTo>
                    <a:pt x="41" y="9"/>
                    <a:pt x="32" y="0"/>
                    <a:pt x="2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Roboto"/>
              </a:endParaRPr>
            </a:p>
          </p:txBody>
        </p:sp>
        <p:sp>
          <p:nvSpPr>
            <p:cNvPr id="1102" name="Freeform 292"/>
            <p:cNvSpPr/>
            <p:nvPr/>
          </p:nvSpPr>
          <p:spPr>
            <a:xfrm>
              <a:off x="6558120" y="4487040"/>
              <a:ext cx="464040" cy="47232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70" y="43"/>
                  </a:moveTo>
                  <a:cubicBezTo>
                    <a:pt x="68" y="44"/>
                    <a:pt x="68" y="44"/>
                    <a:pt x="68" y="44"/>
                  </a:cubicBezTo>
                  <a:cubicBezTo>
                    <a:pt x="66" y="45"/>
                    <a:pt x="64" y="46"/>
                    <a:pt x="64" y="48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1"/>
                    <a:pt x="62" y="54"/>
                    <a:pt x="63" y="55"/>
                  </a:cubicBezTo>
                  <a:cubicBezTo>
                    <a:pt x="64" y="58"/>
                    <a:pt x="64" y="58"/>
                    <a:pt x="64" y="58"/>
                  </a:cubicBezTo>
                  <a:cubicBezTo>
                    <a:pt x="64" y="58"/>
                    <a:pt x="64" y="58"/>
                    <a:pt x="64" y="58"/>
                  </a:cubicBezTo>
                  <a:cubicBezTo>
                    <a:pt x="57" y="65"/>
                    <a:pt x="57" y="65"/>
                    <a:pt x="57" y="65"/>
                  </a:cubicBezTo>
                  <a:cubicBezTo>
                    <a:pt x="57" y="65"/>
                    <a:pt x="57" y="65"/>
                    <a:pt x="57" y="65"/>
                  </a:cubicBezTo>
                  <a:cubicBezTo>
                    <a:pt x="57" y="65"/>
                    <a:pt x="57" y="65"/>
                    <a:pt x="57" y="65"/>
                  </a:cubicBezTo>
                  <a:cubicBezTo>
                    <a:pt x="55" y="64"/>
                    <a:pt x="55" y="64"/>
                    <a:pt x="55" y="64"/>
                  </a:cubicBezTo>
                  <a:cubicBezTo>
                    <a:pt x="54" y="63"/>
                    <a:pt x="53" y="63"/>
                    <a:pt x="52" y="63"/>
                  </a:cubicBezTo>
                  <a:cubicBezTo>
                    <a:pt x="51" y="63"/>
                    <a:pt x="50" y="63"/>
                    <a:pt x="49" y="64"/>
                  </a:cubicBezTo>
                  <a:cubicBezTo>
                    <a:pt x="47" y="64"/>
                    <a:pt x="47" y="64"/>
                    <a:pt x="47" y="64"/>
                  </a:cubicBezTo>
                  <a:cubicBezTo>
                    <a:pt x="46" y="65"/>
                    <a:pt x="44" y="67"/>
                    <a:pt x="44" y="68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2" y="71"/>
                  </a:cubicBezTo>
                  <a:cubicBezTo>
                    <a:pt x="32" y="71"/>
                    <a:pt x="32" y="71"/>
                    <a:pt x="32" y="71"/>
                  </a:cubicBezTo>
                  <a:cubicBezTo>
                    <a:pt x="32" y="71"/>
                    <a:pt x="32" y="71"/>
                    <a:pt x="32" y="71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31" y="67"/>
                    <a:pt x="29" y="65"/>
                    <a:pt x="28" y="64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25" y="63"/>
                    <a:pt x="24" y="63"/>
                    <a:pt x="23" y="63"/>
                  </a:cubicBezTo>
                  <a:cubicBezTo>
                    <a:pt x="22" y="63"/>
                    <a:pt x="21" y="63"/>
                    <a:pt x="20" y="64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7"/>
                    <a:pt x="11" y="57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3" y="54"/>
                    <a:pt x="13" y="51"/>
                    <a:pt x="12" y="50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6"/>
                    <a:pt x="9" y="45"/>
                    <a:pt x="7" y="44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10" y="31"/>
                    <a:pt x="12" y="27"/>
                    <a:pt x="12" y="27"/>
                  </a:cubicBezTo>
                  <a:cubicBezTo>
                    <a:pt x="13" y="25"/>
                    <a:pt x="13" y="23"/>
                    <a:pt x="12" y="21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1" y="13"/>
                    <a:pt x="22" y="13"/>
                    <a:pt x="23" y="13"/>
                  </a:cubicBezTo>
                  <a:cubicBezTo>
                    <a:pt x="24" y="13"/>
                    <a:pt x="24" y="13"/>
                    <a:pt x="25" y="13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1"/>
                    <a:pt x="31" y="10"/>
                    <a:pt x="31" y="8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10"/>
                    <a:pt x="46" y="11"/>
                    <a:pt x="47" y="12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1" y="13"/>
                    <a:pt x="52" y="13"/>
                  </a:cubicBezTo>
                  <a:cubicBezTo>
                    <a:pt x="53" y="13"/>
                    <a:pt x="54" y="13"/>
                    <a:pt x="55" y="13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7" y="11"/>
                    <a:pt x="58" y="11"/>
                    <a:pt x="58" y="11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8"/>
                    <a:pt x="65" y="19"/>
                    <a:pt x="65" y="19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62" y="23"/>
                    <a:pt x="62" y="25"/>
                    <a:pt x="63" y="27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30"/>
                    <a:pt x="66" y="32"/>
                    <a:pt x="68" y="32"/>
                  </a:cubicBezTo>
                  <a:cubicBezTo>
                    <a:pt x="70" y="33"/>
                    <a:pt x="70" y="33"/>
                    <a:pt x="70" y="33"/>
                  </a:cubicBezTo>
                  <a:cubicBezTo>
                    <a:pt x="71" y="33"/>
                    <a:pt x="71" y="33"/>
                    <a:pt x="71" y="33"/>
                  </a:cubicBezTo>
                  <a:cubicBezTo>
                    <a:pt x="71" y="43"/>
                    <a:pt x="71" y="43"/>
                    <a:pt x="71" y="43"/>
                  </a:cubicBezTo>
                  <a:cubicBezTo>
                    <a:pt x="71" y="43"/>
                    <a:pt x="71" y="43"/>
                    <a:pt x="70" y="43"/>
                  </a:cubicBezTo>
                  <a:moveTo>
                    <a:pt x="72" y="29"/>
                  </a:moveTo>
                  <a:cubicBezTo>
                    <a:pt x="69" y="28"/>
                    <a:pt x="69" y="28"/>
                    <a:pt x="69" y="28"/>
                  </a:cubicBezTo>
                  <a:cubicBezTo>
                    <a:pt x="68" y="28"/>
                    <a:pt x="68" y="27"/>
                    <a:pt x="68" y="27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67" y="25"/>
                    <a:pt x="67" y="24"/>
                    <a:pt x="67" y="23"/>
                  </a:cubicBezTo>
                  <a:cubicBezTo>
                    <a:pt x="68" y="21"/>
                    <a:pt x="68" y="21"/>
                    <a:pt x="68" y="21"/>
                  </a:cubicBezTo>
                  <a:cubicBezTo>
                    <a:pt x="69" y="19"/>
                    <a:pt x="69" y="17"/>
                    <a:pt x="68" y="15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0" y="7"/>
                    <a:pt x="59" y="7"/>
                    <a:pt x="57" y="7"/>
                  </a:cubicBezTo>
                  <a:cubicBezTo>
                    <a:pt x="56" y="7"/>
                    <a:pt x="56" y="7"/>
                    <a:pt x="55" y="7"/>
                  </a:cubicBezTo>
                  <a:cubicBezTo>
                    <a:pt x="53" y="9"/>
                    <a:pt x="53" y="9"/>
                    <a:pt x="53" y="9"/>
                  </a:cubicBezTo>
                  <a:cubicBezTo>
                    <a:pt x="53" y="9"/>
                    <a:pt x="52" y="9"/>
                    <a:pt x="52" y="9"/>
                  </a:cubicBezTo>
                  <a:cubicBezTo>
                    <a:pt x="52" y="9"/>
                    <a:pt x="51" y="9"/>
                    <a:pt x="51" y="9"/>
                  </a:cubicBezTo>
                  <a:cubicBezTo>
                    <a:pt x="49" y="8"/>
                    <a:pt x="49" y="8"/>
                    <a:pt x="49" y="8"/>
                  </a:cubicBezTo>
                  <a:cubicBezTo>
                    <a:pt x="49" y="8"/>
                    <a:pt x="49" y="8"/>
                    <a:pt x="49" y="8"/>
                  </a:cubicBezTo>
                  <a:cubicBezTo>
                    <a:pt x="48" y="8"/>
                    <a:pt x="48" y="7"/>
                    <a:pt x="48" y="7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6" y="2"/>
                    <a:pt x="45" y="0"/>
                    <a:pt x="4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0" y="0"/>
                    <a:pt x="29" y="2"/>
                    <a:pt x="28" y="4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7"/>
                    <a:pt x="27" y="8"/>
                    <a:pt x="26" y="8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3" y="9"/>
                    <a:pt x="22" y="9"/>
                    <a:pt x="22" y="9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19" y="7"/>
                    <a:pt x="18" y="7"/>
                    <a:pt x="18" y="7"/>
                  </a:cubicBezTo>
                  <a:cubicBezTo>
                    <a:pt x="16" y="7"/>
                    <a:pt x="15" y="8"/>
                    <a:pt x="14" y="8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6" y="17"/>
                    <a:pt x="5" y="19"/>
                    <a:pt x="6" y="21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8" y="24"/>
                    <a:pt x="8" y="25"/>
                    <a:pt x="8" y="25"/>
                  </a:cubicBezTo>
                  <a:cubicBezTo>
                    <a:pt x="8" y="26"/>
                    <a:pt x="6" y="27"/>
                    <a:pt x="6" y="28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1" y="29"/>
                    <a:pt x="0" y="31"/>
                    <a:pt x="0" y="3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5"/>
                    <a:pt x="1" y="47"/>
                    <a:pt x="3" y="48"/>
                  </a:cubicBezTo>
                  <a:cubicBezTo>
                    <a:pt x="6" y="48"/>
                    <a:pt x="6" y="48"/>
                    <a:pt x="6" y="48"/>
                  </a:cubicBezTo>
                  <a:cubicBezTo>
                    <a:pt x="6" y="48"/>
                    <a:pt x="7" y="49"/>
                    <a:pt x="7" y="4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8" y="52"/>
                    <a:pt x="8" y="52"/>
                    <a:pt x="8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5"/>
                    <a:pt x="7" y="55"/>
                  </a:cubicBezTo>
                  <a:cubicBezTo>
                    <a:pt x="6" y="57"/>
                    <a:pt x="6" y="59"/>
                    <a:pt x="7" y="61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9"/>
                    <a:pt x="17" y="69"/>
                    <a:pt x="18" y="69"/>
                  </a:cubicBezTo>
                  <a:cubicBezTo>
                    <a:pt x="19" y="69"/>
                    <a:pt x="19" y="69"/>
                    <a:pt x="20" y="69"/>
                  </a:cubicBezTo>
                  <a:cubicBezTo>
                    <a:pt x="22" y="67"/>
                    <a:pt x="22" y="67"/>
                    <a:pt x="22" y="67"/>
                  </a:cubicBezTo>
                  <a:cubicBezTo>
                    <a:pt x="22" y="67"/>
                    <a:pt x="23" y="67"/>
                    <a:pt x="23" y="67"/>
                  </a:cubicBezTo>
                  <a:cubicBezTo>
                    <a:pt x="23" y="67"/>
                    <a:pt x="24" y="67"/>
                    <a:pt x="24" y="67"/>
                  </a:cubicBezTo>
                  <a:cubicBezTo>
                    <a:pt x="26" y="68"/>
                    <a:pt x="26" y="68"/>
                    <a:pt x="26" y="68"/>
                  </a:cubicBezTo>
                  <a:cubicBezTo>
                    <a:pt x="26" y="68"/>
                    <a:pt x="26" y="68"/>
                    <a:pt x="26" y="68"/>
                  </a:cubicBezTo>
                  <a:cubicBezTo>
                    <a:pt x="27" y="69"/>
                    <a:pt x="27" y="69"/>
                    <a:pt x="27" y="69"/>
                  </a:cubicBezTo>
                  <a:cubicBezTo>
                    <a:pt x="28" y="72"/>
                    <a:pt x="28" y="72"/>
                    <a:pt x="28" y="72"/>
                  </a:cubicBezTo>
                  <a:cubicBezTo>
                    <a:pt x="29" y="74"/>
                    <a:pt x="30" y="76"/>
                    <a:pt x="32" y="76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45" y="76"/>
                    <a:pt x="46" y="74"/>
                    <a:pt x="47" y="72"/>
                  </a:cubicBezTo>
                  <a:cubicBezTo>
                    <a:pt x="48" y="69"/>
                    <a:pt x="48" y="69"/>
                    <a:pt x="48" y="69"/>
                  </a:cubicBezTo>
                  <a:cubicBezTo>
                    <a:pt x="48" y="69"/>
                    <a:pt x="48" y="69"/>
                    <a:pt x="49" y="68"/>
                  </a:cubicBezTo>
                  <a:cubicBezTo>
                    <a:pt x="51" y="68"/>
                    <a:pt x="51" y="68"/>
                    <a:pt x="51" y="68"/>
                  </a:cubicBezTo>
                  <a:cubicBezTo>
                    <a:pt x="51" y="67"/>
                    <a:pt x="51" y="67"/>
                    <a:pt x="51" y="67"/>
                  </a:cubicBezTo>
                  <a:cubicBezTo>
                    <a:pt x="51" y="67"/>
                    <a:pt x="51" y="67"/>
                    <a:pt x="52" y="67"/>
                  </a:cubicBezTo>
                  <a:cubicBezTo>
                    <a:pt x="52" y="67"/>
                    <a:pt x="52" y="67"/>
                    <a:pt x="52" y="68"/>
                  </a:cubicBezTo>
                  <a:cubicBezTo>
                    <a:pt x="55" y="69"/>
                    <a:pt x="55" y="69"/>
                    <a:pt x="55" y="69"/>
                  </a:cubicBezTo>
                  <a:cubicBezTo>
                    <a:pt x="55" y="69"/>
                    <a:pt x="56" y="69"/>
                    <a:pt x="57" y="69"/>
                  </a:cubicBezTo>
                  <a:cubicBezTo>
                    <a:pt x="58" y="69"/>
                    <a:pt x="60" y="69"/>
                    <a:pt x="60" y="68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69" y="60"/>
                    <a:pt x="69" y="57"/>
                    <a:pt x="68" y="55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7" y="53"/>
                    <a:pt x="67" y="52"/>
                    <a:pt x="67" y="52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68" y="49"/>
                    <a:pt x="68" y="48"/>
                    <a:pt x="69" y="48"/>
                  </a:cubicBezTo>
                  <a:cubicBezTo>
                    <a:pt x="72" y="48"/>
                    <a:pt x="72" y="48"/>
                    <a:pt x="72" y="48"/>
                  </a:cubicBezTo>
                  <a:cubicBezTo>
                    <a:pt x="74" y="47"/>
                    <a:pt x="75" y="45"/>
                    <a:pt x="75" y="43"/>
                  </a:cubicBezTo>
                  <a:cubicBezTo>
                    <a:pt x="75" y="33"/>
                    <a:pt x="75" y="33"/>
                    <a:pt x="75" y="33"/>
                  </a:cubicBezTo>
                  <a:cubicBezTo>
                    <a:pt x="75" y="31"/>
                    <a:pt x="74" y="29"/>
                    <a:pt x="72" y="2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Roboto"/>
              </a:endParaRPr>
            </a:p>
          </p:txBody>
        </p:sp>
        <p:sp>
          <p:nvSpPr>
            <p:cNvPr id="1103" name="Freeform 293"/>
            <p:cNvSpPr/>
            <p:nvPr/>
          </p:nvSpPr>
          <p:spPr>
            <a:xfrm>
              <a:off x="6983280" y="4392720"/>
              <a:ext cx="304920" cy="3049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37"/>
                  </a:moveTo>
                  <a:cubicBezTo>
                    <a:pt x="17" y="37"/>
                    <a:pt x="12" y="31"/>
                    <a:pt x="12" y="24"/>
                  </a:cubicBezTo>
                  <a:cubicBezTo>
                    <a:pt x="12" y="17"/>
                    <a:pt x="18" y="11"/>
                    <a:pt x="25" y="11"/>
                  </a:cubicBezTo>
                  <a:cubicBezTo>
                    <a:pt x="32" y="12"/>
                    <a:pt x="37" y="17"/>
                    <a:pt x="37" y="24"/>
                  </a:cubicBezTo>
                  <a:cubicBezTo>
                    <a:pt x="37" y="31"/>
                    <a:pt x="31" y="37"/>
                    <a:pt x="24" y="37"/>
                  </a:cubicBezTo>
                  <a:moveTo>
                    <a:pt x="48" y="20"/>
                  </a:moveTo>
                  <a:cubicBezTo>
                    <a:pt x="46" y="19"/>
                    <a:pt x="46" y="19"/>
                    <a:pt x="46" y="19"/>
                  </a:cubicBezTo>
                  <a:cubicBezTo>
                    <a:pt x="45" y="19"/>
                    <a:pt x="45" y="18"/>
                    <a:pt x="44" y="17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4" y="15"/>
                    <a:pt x="44" y="14"/>
                    <a:pt x="44" y="14"/>
                  </a:cubicBezTo>
                  <a:cubicBezTo>
                    <a:pt x="45" y="12"/>
                    <a:pt x="45" y="12"/>
                    <a:pt x="45" y="12"/>
                  </a:cubicBezTo>
                  <a:cubicBezTo>
                    <a:pt x="45" y="11"/>
                    <a:pt x="45" y="10"/>
                    <a:pt x="45" y="10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39" y="4"/>
                    <a:pt x="39" y="4"/>
                    <a:pt x="38" y="5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36" y="6"/>
                    <a:pt x="35" y="6"/>
                    <a:pt x="34" y="6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31" y="4"/>
                    <a:pt x="31" y="3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0"/>
                    <a:pt x="29" y="0"/>
                    <a:pt x="29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1" y="0"/>
                    <a:pt x="20" y="0"/>
                    <a:pt x="20" y="1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4"/>
                    <a:pt x="18" y="4"/>
                    <a:pt x="18" y="5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5" y="6"/>
                    <a:pt x="14" y="6"/>
                    <a:pt x="14" y="5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4" y="11"/>
                    <a:pt x="5" y="11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6" y="15"/>
                    <a:pt x="6" y="15"/>
                  </a:cubicBezTo>
                  <a:cubicBezTo>
                    <a:pt x="5" y="16"/>
                    <a:pt x="4" y="18"/>
                    <a:pt x="4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19"/>
                    <a:pt x="0" y="20"/>
                    <a:pt x="0" y="2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8"/>
                    <a:pt x="1" y="29"/>
                    <a:pt x="1" y="29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30"/>
                    <a:pt x="5" y="30"/>
                    <a:pt x="5" y="31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33"/>
                    <a:pt x="6" y="34"/>
                    <a:pt x="5" y="35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4" y="37"/>
                    <a:pt x="4" y="38"/>
                    <a:pt x="5" y="38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10" y="44"/>
                    <a:pt x="11" y="44"/>
                    <a:pt x="12" y="44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14" y="43"/>
                    <a:pt x="15" y="43"/>
                    <a:pt x="15" y="43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8" y="44"/>
                    <a:pt x="18" y="45"/>
                    <a:pt x="19" y="45"/>
                  </a:cubicBezTo>
                  <a:cubicBezTo>
                    <a:pt x="19" y="47"/>
                    <a:pt x="19" y="47"/>
                    <a:pt x="19" y="47"/>
                  </a:cubicBezTo>
                  <a:cubicBezTo>
                    <a:pt x="19" y="48"/>
                    <a:pt x="20" y="49"/>
                    <a:pt x="21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9"/>
                    <a:pt x="29" y="48"/>
                    <a:pt x="29" y="47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5"/>
                    <a:pt x="31" y="44"/>
                    <a:pt x="31" y="44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4" y="43"/>
                    <a:pt x="35" y="43"/>
                    <a:pt x="35" y="43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38" y="45"/>
                    <a:pt x="38" y="45"/>
                    <a:pt x="39" y="44"/>
                  </a:cubicBezTo>
                  <a:cubicBezTo>
                    <a:pt x="44" y="39"/>
                    <a:pt x="44" y="39"/>
                    <a:pt x="44" y="39"/>
                  </a:cubicBezTo>
                  <a:cubicBezTo>
                    <a:pt x="45" y="39"/>
                    <a:pt x="45" y="38"/>
                    <a:pt x="44" y="37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5"/>
                    <a:pt x="43" y="34"/>
                    <a:pt x="43" y="33"/>
                  </a:cubicBezTo>
                  <a:cubicBezTo>
                    <a:pt x="44" y="32"/>
                    <a:pt x="44" y="32"/>
                    <a:pt x="44" y="32"/>
                  </a:cubicBezTo>
                  <a:cubicBezTo>
                    <a:pt x="44" y="31"/>
                    <a:pt x="45" y="30"/>
                    <a:pt x="46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0"/>
                    <a:pt x="49" y="29"/>
                    <a:pt x="49" y="28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0"/>
                    <a:pt x="48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Roboto"/>
              </a:endParaRPr>
            </a:p>
          </p:txBody>
        </p:sp>
      </p:grpSp>
      <p:sp>
        <p:nvSpPr>
          <p:cNvPr id="1104" name="Graphic 23"/>
          <p:cNvSpPr/>
          <p:nvPr/>
        </p:nvSpPr>
        <p:spPr>
          <a:xfrm>
            <a:off x="5133960" y="2760840"/>
            <a:ext cx="549360" cy="639720"/>
          </a:xfrm>
          <a:custGeom>
            <a:avLst/>
            <a:gdLst/>
            <a:ahLst/>
            <a:rect l="l" t="t" r="r" b="b"/>
            <a:pathLst>
              <a:path w="811529" h="757237">
                <a:moveTo>
                  <a:pt x="811530" y="266700"/>
                </a:moveTo>
                <a:lnTo>
                  <a:pt x="762000" y="248603"/>
                </a:lnTo>
                <a:lnTo>
                  <a:pt x="762000" y="144780"/>
                </a:lnTo>
                <a:lnTo>
                  <a:pt x="811530" y="123825"/>
                </a:lnTo>
                <a:lnTo>
                  <a:pt x="476250" y="0"/>
                </a:lnTo>
                <a:lnTo>
                  <a:pt x="68580" y="142875"/>
                </a:lnTo>
                <a:cubicBezTo>
                  <a:pt x="29528" y="161925"/>
                  <a:pt x="28575" y="214312"/>
                  <a:pt x="28575" y="257175"/>
                </a:cubicBezTo>
                <a:cubicBezTo>
                  <a:pt x="28575" y="271463"/>
                  <a:pt x="30480" y="285750"/>
                  <a:pt x="33337" y="299085"/>
                </a:cubicBezTo>
                <a:cubicBezTo>
                  <a:pt x="952" y="320040"/>
                  <a:pt x="0" y="368618"/>
                  <a:pt x="0" y="409575"/>
                </a:cubicBezTo>
                <a:cubicBezTo>
                  <a:pt x="0" y="442913"/>
                  <a:pt x="7620" y="473393"/>
                  <a:pt x="28575" y="492443"/>
                </a:cubicBezTo>
                <a:cubicBezTo>
                  <a:pt x="23813" y="508635"/>
                  <a:pt x="26670" y="528638"/>
                  <a:pt x="26670" y="552450"/>
                </a:cubicBezTo>
                <a:cubicBezTo>
                  <a:pt x="26670" y="595313"/>
                  <a:pt x="38100" y="634365"/>
                  <a:pt x="76200" y="647700"/>
                </a:cubicBezTo>
                <a:lnTo>
                  <a:pt x="340995" y="757238"/>
                </a:lnTo>
                <a:lnTo>
                  <a:pt x="809625" y="562928"/>
                </a:lnTo>
                <a:lnTo>
                  <a:pt x="760095" y="544830"/>
                </a:lnTo>
                <a:lnTo>
                  <a:pt x="760095" y="440055"/>
                </a:lnTo>
                <a:lnTo>
                  <a:pt x="809625" y="419100"/>
                </a:lnTo>
                <a:lnTo>
                  <a:pt x="733425" y="390525"/>
                </a:lnTo>
                <a:lnTo>
                  <a:pt x="733425" y="299085"/>
                </a:lnTo>
                <a:lnTo>
                  <a:pt x="811530" y="266700"/>
                </a:lnTo>
                <a:close/>
                <a:moveTo>
                  <a:pt x="80010" y="209550"/>
                </a:moveTo>
                <a:lnTo>
                  <a:pt x="344805" y="313373"/>
                </a:lnTo>
                <a:lnTo>
                  <a:pt x="724853" y="160020"/>
                </a:lnTo>
                <a:lnTo>
                  <a:pt x="724853" y="241935"/>
                </a:lnTo>
                <a:lnTo>
                  <a:pt x="344805" y="400050"/>
                </a:lnTo>
                <a:lnTo>
                  <a:pt x="80010" y="295275"/>
                </a:lnTo>
                <a:lnTo>
                  <a:pt x="80010" y="209550"/>
                </a:lnTo>
                <a:close/>
                <a:moveTo>
                  <a:pt x="722948" y="538163"/>
                </a:moveTo>
                <a:lnTo>
                  <a:pt x="342900" y="695325"/>
                </a:lnTo>
                <a:lnTo>
                  <a:pt x="77153" y="590550"/>
                </a:lnTo>
                <a:lnTo>
                  <a:pt x="77153" y="516255"/>
                </a:lnTo>
                <a:lnTo>
                  <a:pt x="314325" y="613410"/>
                </a:lnTo>
                <a:lnTo>
                  <a:pt x="723900" y="451485"/>
                </a:lnTo>
                <a:lnTo>
                  <a:pt x="722948" y="538163"/>
                </a:lnTo>
                <a:close/>
                <a:moveTo>
                  <a:pt x="696278" y="395288"/>
                </a:moveTo>
                <a:lnTo>
                  <a:pt x="316230" y="552450"/>
                </a:lnTo>
                <a:lnTo>
                  <a:pt x="51435" y="447675"/>
                </a:lnTo>
                <a:lnTo>
                  <a:pt x="51435" y="361950"/>
                </a:lnTo>
                <a:lnTo>
                  <a:pt x="323850" y="470535"/>
                </a:lnTo>
                <a:lnTo>
                  <a:pt x="697230" y="314325"/>
                </a:lnTo>
                <a:lnTo>
                  <a:pt x="697230" y="395288"/>
                </a:lnTo>
                <a:lnTo>
                  <a:pt x="696278" y="3952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pic>
        <p:nvPicPr>
          <p:cNvPr id="1105" name="Graphic 25" descr="Graduation cap"/>
          <p:cNvPicPr/>
          <p:nvPr/>
        </p:nvPicPr>
        <p:blipFill>
          <a:blip r:embed="rId1"/>
          <a:stretch/>
        </p:blipFill>
        <p:spPr>
          <a:xfrm>
            <a:off x="5010120" y="4462560"/>
            <a:ext cx="75096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Freeform 8"/>
          <p:cNvSpPr/>
          <p:nvPr/>
        </p:nvSpPr>
        <p:spPr>
          <a:xfrm>
            <a:off x="2962440" y="1969920"/>
            <a:ext cx="1101600" cy="1005120"/>
          </a:xfrm>
          <a:custGeom>
            <a:avLst/>
            <a:gdLst/>
            <a:ahLst/>
            <a:rect l="l" t="t" r="r" b="b"/>
            <a:pathLst>
              <a:path w="389" h="352">
                <a:moveTo>
                  <a:pt x="389" y="282"/>
                </a:moveTo>
                <a:lnTo>
                  <a:pt x="195" y="0"/>
                </a:lnTo>
                <a:lnTo>
                  <a:pt x="0" y="282"/>
                </a:lnTo>
                <a:lnTo>
                  <a:pt x="195" y="352"/>
                </a:lnTo>
                <a:lnTo>
                  <a:pt x="389" y="282"/>
                </a:lnTo>
                <a:close/>
              </a:path>
            </a:pathLst>
          </a:custGeom>
          <a:solidFill>
            <a:srgbClr val="1b4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07" name="Freeform 19"/>
          <p:cNvSpPr/>
          <p:nvPr/>
        </p:nvSpPr>
        <p:spPr>
          <a:xfrm>
            <a:off x="3514680" y="1969920"/>
            <a:ext cx="549360" cy="1005120"/>
          </a:xfrm>
          <a:custGeom>
            <a:avLst/>
            <a:gdLst/>
            <a:ahLst/>
            <a:rect l="l" t="t" r="r" b="b"/>
            <a:pathLst>
              <a:path w="194" h="352">
                <a:moveTo>
                  <a:pt x="0" y="352"/>
                </a:moveTo>
                <a:lnTo>
                  <a:pt x="194" y="282"/>
                </a:lnTo>
                <a:lnTo>
                  <a:pt x="0" y="0"/>
                </a:lnTo>
                <a:lnTo>
                  <a:pt x="0" y="35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08" name="Freeform 9"/>
          <p:cNvSpPr/>
          <p:nvPr/>
        </p:nvSpPr>
        <p:spPr>
          <a:xfrm>
            <a:off x="2441520" y="2922480"/>
            <a:ext cx="2141640" cy="1059120"/>
          </a:xfrm>
          <a:custGeom>
            <a:avLst/>
            <a:gdLst/>
            <a:ahLst/>
            <a:rect l="l" t="t" r="r" b="b"/>
            <a:pathLst>
              <a:path w="756" h="371">
                <a:moveTo>
                  <a:pt x="379" y="79"/>
                </a:moveTo>
                <a:lnTo>
                  <a:pt x="162" y="0"/>
                </a:lnTo>
                <a:lnTo>
                  <a:pt x="0" y="233"/>
                </a:lnTo>
                <a:lnTo>
                  <a:pt x="379" y="371"/>
                </a:lnTo>
                <a:lnTo>
                  <a:pt x="756" y="233"/>
                </a:lnTo>
                <a:lnTo>
                  <a:pt x="595" y="0"/>
                </a:lnTo>
                <a:lnTo>
                  <a:pt x="379" y="79"/>
                </a:lnTo>
                <a:close/>
              </a:path>
            </a:pathLst>
          </a:cu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09" name="Freeform 13"/>
          <p:cNvSpPr/>
          <p:nvPr/>
        </p:nvSpPr>
        <p:spPr>
          <a:xfrm>
            <a:off x="2903400" y="2874960"/>
            <a:ext cx="1220760" cy="272880"/>
          </a:xfrm>
          <a:custGeom>
            <a:avLst/>
            <a:gdLst/>
            <a:ahLst/>
            <a:rect l="l" t="t" r="r" b="b"/>
            <a:pathLst>
              <a:path w="431" h="96">
                <a:moveTo>
                  <a:pt x="431" y="17"/>
                </a:moveTo>
                <a:lnTo>
                  <a:pt x="314" y="0"/>
                </a:lnTo>
                <a:lnTo>
                  <a:pt x="216" y="35"/>
                </a:lnTo>
                <a:lnTo>
                  <a:pt x="117" y="0"/>
                </a:lnTo>
                <a:lnTo>
                  <a:pt x="0" y="17"/>
                </a:lnTo>
                <a:lnTo>
                  <a:pt x="216" y="96"/>
                </a:lnTo>
                <a:lnTo>
                  <a:pt x="431" y="17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10" name="Freeform 20"/>
          <p:cNvSpPr/>
          <p:nvPr/>
        </p:nvSpPr>
        <p:spPr>
          <a:xfrm>
            <a:off x="3514680" y="2922480"/>
            <a:ext cx="1068480" cy="1059120"/>
          </a:xfrm>
          <a:custGeom>
            <a:avLst/>
            <a:gdLst/>
            <a:ahLst/>
            <a:rect l="l" t="t" r="r" b="b"/>
            <a:pathLst>
              <a:path w="377" h="371">
                <a:moveTo>
                  <a:pt x="0" y="371"/>
                </a:moveTo>
                <a:lnTo>
                  <a:pt x="377" y="233"/>
                </a:lnTo>
                <a:lnTo>
                  <a:pt x="216" y="0"/>
                </a:lnTo>
                <a:lnTo>
                  <a:pt x="0" y="79"/>
                </a:lnTo>
                <a:lnTo>
                  <a:pt x="0" y="371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11" name="Freeform 10"/>
          <p:cNvSpPr/>
          <p:nvPr/>
        </p:nvSpPr>
        <p:spPr>
          <a:xfrm>
            <a:off x="1405080" y="4551480"/>
            <a:ext cx="4214520" cy="1441440"/>
          </a:xfrm>
          <a:custGeom>
            <a:avLst/>
            <a:gdLst/>
            <a:ahLst/>
            <a:rect l="l" t="t" r="r" b="b"/>
            <a:pathLst>
              <a:path w="1488" h="505">
                <a:moveTo>
                  <a:pt x="162" y="0"/>
                </a:moveTo>
                <a:lnTo>
                  <a:pt x="0" y="233"/>
                </a:lnTo>
                <a:lnTo>
                  <a:pt x="745" y="505"/>
                </a:lnTo>
                <a:lnTo>
                  <a:pt x="1488" y="233"/>
                </a:lnTo>
                <a:lnTo>
                  <a:pt x="1327" y="0"/>
                </a:lnTo>
                <a:lnTo>
                  <a:pt x="745" y="212"/>
                </a:lnTo>
                <a:lnTo>
                  <a:pt x="162" y="0"/>
                </a:lnTo>
                <a:close/>
              </a:path>
            </a:pathLst>
          </a:cu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12" name="Freeform 16"/>
          <p:cNvSpPr/>
          <p:nvPr/>
        </p:nvSpPr>
        <p:spPr>
          <a:xfrm>
            <a:off x="1863720" y="4503600"/>
            <a:ext cx="3300480" cy="652680"/>
          </a:xfrm>
          <a:custGeom>
            <a:avLst/>
            <a:gdLst/>
            <a:ahLst/>
            <a:rect l="l" t="t" r="r" b="b"/>
            <a:pathLst>
              <a:path w="1165" h="229">
                <a:moveTo>
                  <a:pt x="1165" y="17"/>
                </a:moveTo>
                <a:lnTo>
                  <a:pt x="1047" y="0"/>
                </a:lnTo>
                <a:lnTo>
                  <a:pt x="583" y="169"/>
                </a:lnTo>
                <a:lnTo>
                  <a:pt x="118" y="0"/>
                </a:lnTo>
                <a:lnTo>
                  <a:pt x="0" y="17"/>
                </a:lnTo>
                <a:lnTo>
                  <a:pt x="583" y="229"/>
                </a:lnTo>
                <a:lnTo>
                  <a:pt x="1165" y="17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13" name="Freeform 21"/>
          <p:cNvSpPr/>
          <p:nvPr/>
        </p:nvSpPr>
        <p:spPr>
          <a:xfrm>
            <a:off x="3514680" y="4551480"/>
            <a:ext cx="2104920" cy="1441440"/>
          </a:xfrm>
          <a:custGeom>
            <a:avLst/>
            <a:gdLst/>
            <a:ahLst/>
            <a:rect l="l" t="t" r="r" b="b"/>
            <a:pathLst>
              <a:path w="743" h="505">
                <a:moveTo>
                  <a:pt x="0" y="505"/>
                </a:moveTo>
                <a:lnTo>
                  <a:pt x="743" y="233"/>
                </a:lnTo>
                <a:lnTo>
                  <a:pt x="582" y="0"/>
                </a:lnTo>
                <a:lnTo>
                  <a:pt x="0" y="212"/>
                </a:lnTo>
                <a:lnTo>
                  <a:pt x="0" y="505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14" name="Freeform 11"/>
          <p:cNvSpPr/>
          <p:nvPr/>
        </p:nvSpPr>
        <p:spPr>
          <a:xfrm>
            <a:off x="1922400" y="3735360"/>
            <a:ext cx="3178080" cy="1249560"/>
          </a:xfrm>
          <a:custGeom>
            <a:avLst/>
            <a:gdLst/>
            <a:ahLst/>
            <a:rect l="l" t="t" r="r" b="b"/>
            <a:pathLst>
              <a:path w="1122" h="438">
                <a:moveTo>
                  <a:pt x="161" y="0"/>
                </a:moveTo>
                <a:lnTo>
                  <a:pt x="0" y="234"/>
                </a:lnTo>
                <a:lnTo>
                  <a:pt x="562" y="438"/>
                </a:lnTo>
                <a:lnTo>
                  <a:pt x="1122" y="234"/>
                </a:lnTo>
                <a:lnTo>
                  <a:pt x="961" y="0"/>
                </a:lnTo>
                <a:lnTo>
                  <a:pt x="562" y="146"/>
                </a:lnTo>
                <a:lnTo>
                  <a:pt x="161" y="0"/>
                </a:ln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15" name="Freeform 15"/>
          <p:cNvSpPr/>
          <p:nvPr/>
        </p:nvSpPr>
        <p:spPr>
          <a:xfrm>
            <a:off x="2382840" y="3687840"/>
            <a:ext cx="2262240" cy="465120"/>
          </a:xfrm>
          <a:custGeom>
            <a:avLst/>
            <a:gdLst/>
            <a:ahLst/>
            <a:rect l="l" t="t" r="r" b="b"/>
            <a:pathLst>
              <a:path w="799" h="163">
                <a:moveTo>
                  <a:pt x="799" y="17"/>
                </a:moveTo>
                <a:lnTo>
                  <a:pt x="681" y="0"/>
                </a:lnTo>
                <a:lnTo>
                  <a:pt x="400" y="103"/>
                </a:lnTo>
                <a:lnTo>
                  <a:pt x="118" y="0"/>
                </a:lnTo>
                <a:lnTo>
                  <a:pt x="0" y="17"/>
                </a:lnTo>
                <a:lnTo>
                  <a:pt x="400" y="163"/>
                </a:lnTo>
                <a:lnTo>
                  <a:pt x="799" y="17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16" name="Freeform 22"/>
          <p:cNvSpPr/>
          <p:nvPr/>
        </p:nvSpPr>
        <p:spPr>
          <a:xfrm>
            <a:off x="3514680" y="3735360"/>
            <a:ext cx="1585800" cy="1249560"/>
          </a:xfrm>
          <a:custGeom>
            <a:avLst/>
            <a:gdLst/>
            <a:ahLst/>
            <a:rect l="l" t="t" r="r" b="b"/>
            <a:pathLst>
              <a:path w="560" h="438">
                <a:moveTo>
                  <a:pt x="0" y="438"/>
                </a:moveTo>
                <a:lnTo>
                  <a:pt x="560" y="234"/>
                </a:lnTo>
                <a:lnTo>
                  <a:pt x="399" y="0"/>
                </a:lnTo>
                <a:lnTo>
                  <a:pt x="0" y="146"/>
                </a:lnTo>
                <a:lnTo>
                  <a:pt x="0" y="438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17" name="TextBox 21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18" name="Oval 22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19" name="Oval 23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20" name="Oval 24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21" name="Oval 25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22" name="Freeform: Shape 26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23" name="Rectangle 27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24" name="TextBox 45"/>
          <p:cNvSpPr/>
          <p:nvPr/>
        </p:nvSpPr>
        <p:spPr>
          <a:xfrm>
            <a:off x="3767040" y="906480"/>
            <a:ext cx="46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Infographic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25" name="TextBox 46"/>
          <p:cNvSpPr/>
          <p:nvPr/>
        </p:nvSpPr>
        <p:spPr>
          <a:xfrm>
            <a:off x="4816440" y="728640"/>
            <a:ext cx="255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26" name="TextBox 55"/>
          <p:cNvSpPr/>
          <p:nvPr/>
        </p:nvSpPr>
        <p:spPr>
          <a:xfrm>
            <a:off x="6201360" y="2100240"/>
            <a:ext cx="229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01. Company Topic her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27" name="TextBox 56"/>
          <p:cNvSpPr/>
          <p:nvPr/>
        </p:nvSpPr>
        <p:spPr>
          <a:xfrm>
            <a:off x="6269040" y="2340000"/>
            <a:ext cx="43498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 m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met. Risus pretium quam vulputate dignissim. Enim nec dui nunc mattis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Mag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ac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28" name="TextBox 58"/>
          <p:cNvSpPr/>
          <p:nvPr/>
        </p:nvSpPr>
        <p:spPr>
          <a:xfrm>
            <a:off x="6201360" y="3327480"/>
            <a:ext cx="229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02. Company Topic her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29" name="TextBox 59"/>
          <p:cNvSpPr/>
          <p:nvPr/>
        </p:nvSpPr>
        <p:spPr>
          <a:xfrm>
            <a:off x="6269040" y="3567240"/>
            <a:ext cx="43498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 m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met. Risus pretium quam vulputate dignissim. Enim nec dui nunc mattis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Mag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ac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30" name="TextBox 61"/>
          <p:cNvSpPr/>
          <p:nvPr/>
        </p:nvSpPr>
        <p:spPr>
          <a:xfrm>
            <a:off x="6201360" y="4554360"/>
            <a:ext cx="229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03. Company Topic her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31" name="TextBox 62"/>
          <p:cNvSpPr/>
          <p:nvPr/>
        </p:nvSpPr>
        <p:spPr>
          <a:xfrm>
            <a:off x="6269040" y="4794120"/>
            <a:ext cx="43498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 m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met. Risus pretium quam vulputate dignissim. Enim nec dui nunc mattis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Mag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ac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Freeform: Shape 11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5" name="Rectangle 12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6" name="TextBox 8"/>
          <p:cNvSpPr/>
          <p:nvPr/>
        </p:nvSpPr>
        <p:spPr>
          <a:xfrm>
            <a:off x="6586560" y="1917720"/>
            <a:ext cx="30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Our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Story Here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7" name="TextBox 9"/>
          <p:cNvSpPr/>
          <p:nvPr/>
        </p:nvSpPr>
        <p:spPr>
          <a:xfrm>
            <a:off x="6603840" y="1738440"/>
            <a:ext cx="256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8" name="TextBox 14"/>
          <p:cNvSpPr/>
          <p:nvPr/>
        </p:nvSpPr>
        <p:spPr>
          <a:xfrm>
            <a:off x="6586560" y="3425760"/>
            <a:ext cx="418464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w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 amet. Risus pr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n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dui nunc mattis enim ut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 consectetur adipiscin.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Enim nec dui nunc mattis enim ut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 nec dui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9" name="TextBox 15"/>
          <p:cNvSpPr/>
          <p:nvPr/>
        </p:nvSpPr>
        <p:spPr>
          <a:xfrm>
            <a:off x="6586560" y="4546440"/>
            <a:ext cx="41846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pretium quam vulputate dignissim. Enim nec dui nunc ma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enil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0" name="TextBox 16"/>
          <p:cNvSpPr/>
          <p:nvPr/>
        </p:nvSpPr>
        <p:spPr>
          <a:xfrm>
            <a:off x="579600" y="1009800"/>
            <a:ext cx="203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Est. 1997</a:t>
            </a:r>
            <a:endParaRPr b="0" lang="en-US" sz="16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1" name="TextBox 22"/>
          <p:cNvSpPr/>
          <p:nvPr/>
        </p:nvSpPr>
        <p:spPr>
          <a:xfrm>
            <a:off x="574560" y="1390680"/>
            <a:ext cx="32655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 tristique magna sit amet. Risus pretium quam vulputate dignissi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magnail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Freeform 16"/>
          <p:cNvSpPr/>
          <p:nvPr/>
        </p:nvSpPr>
        <p:spPr>
          <a:xfrm>
            <a:off x="6872400" y="1359000"/>
            <a:ext cx="1796760" cy="1636560"/>
          </a:xfrm>
          <a:custGeom>
            <a:avLst/>
            <a:gdLst/>
            <a:ahLst/>
            <a:rect l="l" t="t" r="r" b="b"/>
            <a:pathLst>
              <a:path w="1311879" h="1195190">
                <a:moveTo>
                  <a:pt x="1015365" y="0"/>
                </a:moveTo>
                <a:lnTo>
                  <a:pt x="1015365" y="498231"/>
                </a:lnTo>
                <a:lnTo>
                  <a:pt x="1030964" y="509842"/>
                </a:lnTo>
                <a:cubicBezTo>
                  <a:pt x="1045902" y="516320"/>
                  <a:pt x="1063898" y="515960"/>
                  <a:pt x="1079735" y="505884"/>
                </a:cubicBezTo>
                <a:cubicBezTo>
                  <a:pt x="1151723" y="459821"/>
                  <a:pt x="1242426" y="449745"/>
                  <a:pt x="1292817" y="534673"/>
                </a:cubicBezTo>
                <a:cubicBezTo>
                  <a:pt x="1333129" y="602327"/>
                  <a:pt x="1307214" y="697331"/>
                  <a:pt x="1236667" y="734758"/>
                </a:cubicBezTo>
                <a:cubicBezTo>
                  <a:pt x="1202113" y="753470"/>
                  <a:pt x="1170439" y="752031"/>
                  <a:pt x="1140204" y="741955"/>
                </a:cubicBezTo>
                <a:cubicBezTo>
                  <a:pt x="1118609" y="734758"/>
                  <a:pt x="1098452" y="723242"/>
                  <a:pt x="1076856" y="711726"/>
                </a:cubicBezTo>
                <a:cubicBezTo>
                  <a:pt x="1071097" y="707408"/>
                  <a:pt x="1063899" y="704529"/>
                  <a:pt x="1056700" y="704529"/>
                </a:cubicBezTo>
                <a:cubicBezTo>
                  <a:pt x="1043742" y="703089"/>
                  <a:pt x="1031145" y="706688"/>
                  <a:pt x="1021066" y="713885"/>
                </a:cubicBezTo>
                <a:lnTo>
                  <a:pt x="1015365" y="722485"/>
                </a:lnTo>
                <a:lnTo>
                  <a:pt x="1015365" y="1195190"/>
                </a:lnTo>
                <a:lnTo>
                  <a:pt x="609188" y="1195190"/>
                </a:lnTo>
                <a:lnTo>
                  <a:pt x="607497" y="1188749"/>
                </a:lnTo>
                <a:cubicBezTo>
                  <a:pt x="607497" y="1181550"/>
                  <a:pt x="610376" y="1174351"/>
                  <a:pt x="614694" y="1168592"/>
                </a:cubicBezTo>
                <a:cubicBezTo>
                  <a:pt x="626210" y="1146996"/>
                  <a:pt x="637726" y="1126840"/>
                  <a:pt x="644923" y="1105244"/>
                </a:cubicBezTo>
                <a:cubicBezTo>
                  <a:pt x="654999" y="1075009"/>
                  <a:pt x="656438" y="1043335"/>
                  <a:pt x="637726" y="1008781"/>
                </a:cubicBezTo>
                <a:cubicBezTo>
                  <a:pt x="600299" y="938234"/>
                  <a:pt x="505295" y="912319"/>
                  <a:pt x="437641" y="952631"/>
                </a:cubicBezTo>
                <a:cubicBezTo>
                  <a:pt x="352713" y="1003022"/>
                  <a:pt x="362789" y="1093726"/>
                  <a:pt x="408852" y="1165713"/>
                </a:cubicBezTo>
                <a:cubicBezTo>
                  <a:pt x="413890" y="1173631"/>
                  <a:pt x="416499" y="1182090"/>
                  <a:pt x="417039" y="1190436"/>
                </a:cubicBezTo>
                <a:lnTo>
                  <a:pt x="416203" y="1195190"/>
                </a:lnTo>
                <a:lnTo>
                  <a:pt x="15592" y="1195190"/>
                </a:lnTo>
                <a:lnTo>
                  <a:pt x="4996" y="1124524"/>
                </a:lnTo>
                <a:cubicBezTo>
                  <a:pt x="1684" y="1091218"/>
                  <a:pt x="0" y="1057463"/>
                  <a:pt x="0" y="1023372"/>
                </a:cubicBezTo>
                <a:cubicBezTo>
                  <a:pt x="0" y="965956"/>
                  <a:pt x="5389" y="908539"/>
                  <a:pt x="14370" y="852917"/>
                </a:cubicBezTo>
                <a:cubicBezTo>
                  <a:pt x="48499" y="660931"/>
                  <a:pt x="136514" y="488682"/>
                  <a:pt x="262251" y="348730"/>
                </a:cubicBezTo>
                <a:cubicBezTo>
                  <a:pt x="264047" y="346936"/>
                  <a:pt x="265843" y="345141"/>
                  <a:pt x="265843" y="345141"/>
                </a:cubicBezTo>
                <a:cubicBezTo>
                  <a:pt x="265843" y="345141"/>
                  <a:pt x="265843" y="345141"/>
                  <a:pt x="267639" y="345141"/>
                </a:cubicBezTo>
                <a:cubicBezTo>
                  <a:pt x="432669" y="163024"/>
                  <a:pt x="655458" y="34482"/>
                  <a:pt x="920365" y="5192"/>
                </a:cubicBezTo>
                <a:lnTo>
                  <a:pt x="1015365" y="0"/>
                </a:lnTo>
                <a:close/>
              </a:path>
            </a:pathLst>
          </a:custGeom>
          <a:solidFill>
            <a:srgbClr val="1b4cc7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33" name="Freeform 17"/>
          <p:cNvSpPr/>
          <p:nvPr/>
        </p:nvSpPr>
        <p:spPr>
          <a:xfrm rot="5400000">
            <a:off x="7995240" y="1688400"/>
            <a:ext cx="2049480" cy="1390680"/>
          </a:xfrm>
          <a:custGeom>
            <a:avLst/>
            <a:gdLst/>
            <a:ahLst/>
            <a:rect l="l" t="t" r="r" b="b"/>
            <a:pathLst>
              <a:path w="1496309" h="1015366">
                <a:moveTo>
                  <a:pt x="0" y="1015366"/>
                </a:moveTo>
                <a:lnTo>
                  <a:pt x="4082" y="928370"/>
                </a:lnTo>
                <a:cubicBezTo>
                  <a:pt x="28589" y="674318"/>
                  <a:pt x="139468" y="464103"/>
                  <a:pt x="345135" y="267639"/>
                </a:cubicBezTo>
                <a:cubicBezTo>
                  <a:pt x="483293" y="140106"/>
                  <a:pt x="659131" y="48498"/>
                  <a:pt x="851117" y="14370"/>
                </a:cubicBezTo>
                <a:cubicBezTo>
                  <a:pt x="908533" y="5389"/>
                  <a:pt x="965950" y="0"/>
                  <a:pt x="1023366" y="0"/>
                </a:cubicBezTo>
                <a:cubicBezTo>
                  <a:pt x="1057906" y="0"/>
                  <a:pt x="1091884" y="1684"/>
                  <a:pt x="1125302" y="5024"/>
                </a:cubicBezTo>
                <a:lnTo>
                  <a:pt x="1195184" y="15629"/>
                </a:lnTo>
                <a:lnTo>
                  <a:pt x="1195184" y="430954"/>
                </a:lnTo>
                <a:lnTo>
                  <a:pt x="1195936" y="432503"/>
                </a:lnTo>
                <a:cubicBezTo>
                  <a:pt x="1211795" y="451395"/>
                  <a:pt x="1240410" y="458143"/>
                  <a:pt x="1264165" y="443029"/>
                </a:cubicBezTo>
                <a:cubicBezTo>
                  <a:pt x="1336152" y="396966"/>
                  <a:pt x="1426856" y="386890"/>
                  <a:pt x="1477247" y="471818"/>
                </a:cubicBezTo>
                <a:cubicBezTo>
                  <a:pt x="1517559" y="539472"/>
                  <a:pt x="1491644" y="634477"/>
                  <a:pt x="1421097" y="671903"/>
                </a:cubicBezTo>
                <a:cubicBezTo>
                  <a:pt x="1386543" y="690615"/>
                  <a:pt x="1354869" y="689176"/>
                  <a:pt x="1324634" y="679100"/>
                </a:cubicBezTo>
                <a:cubicBezTo>
                  <a:pt x="1303038" y="671903"/>
                  <a:pt x="1282882" y="660387"/>
                  <a:pt x="1261286" y="648871"/>
                </a:cubicBezTo>
                <a:cubicBezTo>
                  <a:pt x="1255527" y="644553"/>
                  <a:pt x="1248329" y="641674"/>
                  <a:pt x="1241130" y="641674"/>
                </a:cubicBezTo>
                <a:cubicBezTo>
                  <a:pt x="1228172" y="640234"/>
                  <a:pt x="1215574" y="643833"/>
                  <a:pt x="1205496" y="651030"/>
                </a:cubicBezTo>
                <a:lnTo>
                  <a:pt x="1195184" y="666586"/>
                </a:lnTo>
                <a:lnTo>
                  <a:pt x="1195184" y="1015366"/>
                </a:lnTo>
                <a:lnTo>
                  <a:pt x="706088" y="1015366"/>
                </a:lnTo>
                <a:lnTo>
                  <a:pt x="711720" y="999593"/>
                </a:lnTo>
                <a:cubicBezTo>
                  <a:pt x="723236" y="977997"/>
                  <a:pt x="734752" y="957840"/>
                  <a:pt x="741949" y="936245"/>
                </a:cubicBezTo>
                <a:cubicBezTo>
                  <a:pt x="752025" y="906010"/>
                  <a:pt x="753464" y="874336"/>
                  <a:pt x="734752" y="839782"/>
                </a:cubicBezTo>
                <a:cubicBezTo>
                  <a:pt x="697325" y="769235"/>
                  <a:pt x="602321" y="743320"/>
                  <a:pt x="534667" y="783632"/>
                </a:cubicBezTo>
                <a:cubicBezTo>
                  <a:pt x="449739" y="834023"/>
                  <a:pt x="459815" y="924726"/>
                  <a:pt x="505878" y="996714"/>
                </a:cubicBezTo>
                <a:lnTo>
                  <a:pt x="512054" y="1015366"/>
                </a:lnTo>
                <a:lnTo>
                  <a:pt x="0" y="1015366"/>
                </a:lnTo>
                <a:close/>
              </a:path>
            </a:pathLst>
          </a:custGeom>
          <a:solidFill>
            <a:srgbClr val="0e2767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34" name="Freeform 18"/>
          <p:cNvSpPr/>
          <p:nvPr/>
        </p:nvSpPr>
        <p:spPr>
          <a:xfrm rot="10800000">
            <a:off x="7911720" y="3059280"/>
            <a:ext cx="1770120" cy="1638000"/>
          </a:xfrm>
          <a:custGeom>
            <a:avLst/>
            <a:gdLst/>
            <a:ahLst/>
            <a:rect l="l" t="t" r="r" b="b"/>
            <a:pathLst>
              <a:path w="1292216" h="1196340">
                <a:moveTo>
                  <a:pt x="990961" y="1196340"/>
                </a:moveTo>
                <a:lnTo>
                  <a:pt x="617286" y="1196340"/>
                </a:lnTo>
                <a:lnTo>
                  <a:pt x="617269" y="1196113"/>
                </a:lnTo>
                <a:cubicBezTo>
                  <a:pt x="617269" y="1188914"/>
                  <a:pt x="620148" y="1181716"/>
                  <a:pt x="624466" y="1175957"/>
                </a:cubicBezTo>
                <a:cubicBezTo>
                  <a:pt x="635983" y="1154361"/>
                  <a:pt x="647498" y="1134205"/>
                  <a:pt x="654695" y="1112609"/>
                </a:cubicBezTo>
                <a:cubicBezTo>
                  <a:pt x="664772" y="1082374"/>
                  <a:pt x="666211" y="1050700"/>
                  <a:pt x="647498" y="1016146"/>
                </a:cubicBezTo>
                <a:cubicBezTo>
                  <a:pt x="610072" y="945599"/>
                  <a:pt x="515068" y="919684"/>
                  <a:pt x="447413" y="959996"/>
                </a:cubicBezTo>
                <a:cubicBezTo>
                  <a:pt x="362486" y="1010387"/>
                  <a:pt x="372561" y="1101091"/>
                  <a:pt x="418624" y="1173078"/>
                </a:cubicBezTo>
                <a:lnTo>
                  <a:pt x="426327" y="1196340"/>
                </a:lnTo>
                <a:lnTo>
                  <a:pt x="0" y="1196340"/>
                </a:lnTo>
                <a:lnTo>
                  <a:pt x="20304" y="1118160"/>
                </a:lnTo>
                <a:cubicBezTo>
                  <a:pt x="30155" y="1086985"/>
                  <a:pt x="41606" y="1056371"/>
                  <a:pt x="54629" y="1026317"/>
                </a:cubicBezTo>
                <a:cubicBezTo>
                  <a:pt x="92350" y="938398"/>
                  <a:pt x="140849" y="855862"/>
                  <a:pt x="200124" y="780503"/>
                </a:cubicBezTo>
                <a:cubicBezTo>
                  <a:pt x="237845" y="726675"/>
                  <a:pt x="324065" y="592106"/>
                  <a:pt x="376156" y="466508"/>
                </a:cubicBezTo>
                <a:cubicBezTo>
                  <a:pt x="381544" y="452153"/>
                  <a:pt x="386933" y="439594"/>
                  <a:pt x="390526" y="425240"/>
                </a:cubicBezTo>
                <a:cubicBezTo>
                  <a:pt x="453394" y="251196"/>
                  <a:pt x="449801" y="0"/>
                  <a:pt x="606074" y="0"/>
                </a:cubicBezTo>
                <a:cubicBezTo>
                  <a:pt x="606074" y="0"/>
                  <a:pt x="606074" y="0"/>
                  <a:pt x="942046" y="0"/>
                </a:cubicBezTo>
                <a:lnTo>
                  <a:pt x="990961" y="0"/>
                </a:lnTo>
                <a:lnTo>
                  <a:pt x="990961" y="485667"/>
                </a:lnTo>
                <a:lnTo>
                  <a:pt x="991842" y="487483"/>
                </a:lnTo>
                <a:cubicBezTo>
                  <a:pt x="1007702" y="506375"/>
                  <a:pt x="1036317" y="513123"/>
                  <a:pt x="1060072" y="498009"/>
                </a:cubicBezTo>
                <a:cubicBezTo>
                  <a:pt x="1132060" y="451946"/>
                  <a:pt x="1222763" y="441870"/>
                  <a:pt x="1273154" y="526798"/>
                </a:cubicBezTo>
                <a:cubicBezTo>
                  <a:pt x="1313466" y="594452"/>
                  <a:pt x="1287551" y="689456"/>
                  <a:pt x="1217004" y="726883"/>
                </a:cubicBezTo>
                <a:cubicBezTo>
                  <a:pt x="1182450" y="745595"/>
                  <a:pt x="1150776" y="744156"/>
                  <a:pt x="1120541" y="734080"/>
                </a:cubicBezTo>
                <a:cubicBezTo>
                  <a:pt x="1098946" y="726883"/>
                  <a:pt x="1078789" y="715367"/>
                  <a:pt x="1057193" y="703851"/>
                </a:cubicBezTo>
                <a:cubicBezTo>
                  <a:pt x="1051434" y="699533"/>
                  <a:pt x="1044236" y="696654"/>
                  <a:pt x="1037037" y="696654"/>
                </a:cubicBezTo>
                <a:cubicBezTo>
                  <a:pt x="1024079" y="695214"/>
                  <a:pt x="1011482" y="698813"/>
                  <a:pt x="1001403" y="706010"/>
                </a:cubicBezTo>
                <a:lnTo>
                  <a:pt x="990961" y="721761"/>
                </a:lnTo>
                <a:lnTo>
                  <a:pt x="990961" y="1196340"/>
                </a:lnTo>
                <a:close/>
              </a:path>
            </a:pathLst>
          </a:custGeom>
          <a:solidFill>
            <a:srgbClr val="01d1dd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35" name="Freeform 19"/>
          <p:cNvSpPr/>
          <p:nvPr/>
        </p:nvSpPr>
        <p:spPr>
          <a:xfrm rot="16200000">
            <a:off x="6554880" y="2988720"/>
            <a:ext cx="2058840" cy="1357560"/>
          </a:xfrm>
          <a:custGeom>
            <a:avLst/>
            <a:gdLst/>
            <a:ahLst/>
            <a:rect l="l" t="t" r="r" b="b"/>
            <a:pathLst>
              <a:path w="1503680" h="991046">
                <a:moveTo>
                  <a:pt x="1502772" y="467865"/>
                </a:moveTo>
                <a:cubicBezTo>
                  <a:pt x="1509183" y="524881"/>
                  <a:pt x="1481379" y="585338"/>
                  <a:pt x="1428468" y="613408"/>
                </a:cubicBezTo>
                <a:cubicBezTo>
                  <a:pt x="1393914" y="632120"/>
                  <a:pt x="1362240" y="630681"/>
                  <a:pt x="1332005" y="620605"/>
                </a:cubicBezTo>
                <a:cubicBezTo>
                  <a:pt x="1310409" y="613408"/>
                  <a:pt x="1290253" y="601892"/>
                  <a:pt x="1268657" y="590376"/>
                </a:cubicBezTo>
                <a:cubicBezTo>
                  <a:pt x="1262898" y="586058"/>
                  <a:pt x="1255700" y="583179"/>
                  <a:pt x="1248501" y="583179"/>
                </a:cubicBezTo>
                <a:cubicBezTo>
                  <a:pt x="1235543" y="581739"/>
                  <a:pt x="1222945" y="585338"/>
                  <a:pt x="1212867" y="592535"/>
                </a:cubicBezTo>
                <a:lnTo>
                  <a:pt x="1196340" y="617466"/>
                </a:lnTo>
                <a:lnTo>
                  <a:pt x="1196340" y="991046"/>
                </a:lnTo>
                <a:lnTo>
                  <a:pt x="696747" y="991046"/>
                </a:lnTo>
                <a:lnTo>
                  <a:pt x="696653" y="990691"/>
                </a:lnTo>
                <a:cubicBezTo>
                  <a:pt x="696653" y="983492"/>
                  <a:pt x="699533" y="976293"/>
                  <a:pt x="703850" y="970534"/>
                </a:cubicBezTo>
                <a:cubicBezTo>
                  <a:pt x="715367" y="948938"/>
                  <a:pt x="726882" y="928782"/>
                  <a:pt x="734079" y="907186"/>
                </a:cubicBezTo>
                <a:cubicBezTo>
                  <a:pt x="744156" y="876951"/>
                  <a:pt x="745595" y="845277"/>
                  <a:pt x="726882" y="810723"/>
                </a:cubicBezTo>
                <a:cubicBezTo>
                  <a:pt x="689456" y="740176"/>
                  <a:pt x="594452" y="714261"/>
                  <a:pt x="526798" y="754574"/>
                </a:cubicBezTo>
                <a:cubicBezTo>
                  <a:pt x="441870" y="804964"/>
                  <a:pt x="451945" y="895668"/>
                  <a:pt x="498009" y="967655"/>
                </a:cubicBezTo>
                <a:lnTo>
                  <a:pt x="505754" y="991046"/>
                </a:lnTo>
                <a:lnTo>
                  <a:pt x="0" y="991046"/>
                </a:lnTo>
                <a:lnTo>
                  <a:pt x="0" y="986921"/>
                </a:lnTo>
                <a:cubicBezTo>
                  <a:pt x="0" y="950926"/>
                  <a:pt x="0" y="854940"/>
                  <a:pt x="0" y="598975"/>
                </a:cubicBezTo>
                <a:cubicBezTo>
                  <a:pt x="0" y="442703"/>
                  <a:pt x="251196" y="446295"/>
                  <a:pt x="425240" y="385223"/>
                </a:cubicBezTo>
                <a:cubicBezTo>
                  <a:pt x="439594" y="379834"/>
                  <a:pt x="453948" y="374446"/>
                  <a:pt x="466508" y="369057"/>
                </a:cubicBezTo>
                <a:cubicBezTo>
                  <a:pt x="629785" y="300800"/>
                  <a:pt x="818183" y="169675"/>
                  <a:pt x="823565" y="166082"/>
                </a:cubicBezTo>
                <a:cubicBezTo>
                  <a:pt x="886364" y="121176"/>
                  <a:pt x="954546" y="83455"/>
                  <a:pt x="1028111" y="52919"/>
                </a:cubicBezTo>
                <a:cubicBezTo>
                  <a:pt x="1057716" y="40346"/>
                  <a:pt x="1088106" y="29232"/>
                  <a:pt x="1119170" y="19633"/>
                </a:cubicBezTo>
                <a:lnTo>
                  <a:pt x="1196340" y="0"/>
                </a:lnTo>
                <a:lnTo>
                  <a:pt x="1196340" y="359649"/>
                </a:lnTo>
                <a:lnTo>
                  <a:pt x="1203307" y="374008"/>
                </a:lnTo>
                <a:cubicBezTo>
                  <a:pt x="1219166" y="392900"/>
                  <a:pt x="1247781" y="399648"/>
                  <a:pt x="1271536" y="384534"/>
                </a:cubicBezTo>
                <a:cubicBezTo>
                  <a:pt x="1343523" y="338471"/>
                  <a:pt x="1434227" y="328395"/>
                  <a:pt x="1484618" y="413323"/>
                </a:cubicBezTo>
                <a:cubicBezTo>
                  <a:pt x="1494696" y="430237"/>
                  <a:pt x="1500635" y="448859"/>
                  <a:pt x="1502772" y="467865"/>
                </a:cubicBezTo>
                <a:close/>
              </a:path>
            </a:pathLst>
          </a:custGeom>
          <a:solidFill>
            <a:srgbClr val="29b9a2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36" name="Freeform 14"/>
          <p:cNvSpPr/>
          <p:nvPr/>
        </p:nvSpPr>
        <p:spPr>
          <a:xfrm>
            <a:off x="8031240" y="5851440"/>
            <a:ext cx="493560" cy="66600"/>
          </a:xfrm>
          <a:custGeom>
            <a:avLst/>
            <a:gdLst/>
            <a:ahLst/>
            <a:rect l="l" t="t" r="r" b="b"/>
            <a:pathLst>
              <a:path w="266" h="36">
                <a:moveTo>
                  <a:pt x="0" y="0"/>
                </a:moveTo>
                <a:cubicBezTo>
                  <a:pt x="266" y="0"/>
                  <a:pt x="266" y="0"/>
                  <a:pt x="266" y="0"/>
                </a:cubicBezTo>
                <a:cubicBezTo>
                  <a:pt x="266" y="0"/>
                  <a:pt x="237" y="36"/>
                  <a:pt x="223" y="36"/>
                </a:cubicBezTo>
                <a:cubicBezTo>
                  <a:pt x="209" y="36"/>
                  <a:pt x="62" y="36"/>
                  <a:pt x="50" y="36"/>
                </a:cubicBezTo>
                <a:cubicBezTo>
                  <a:pt x="37" y="36"/>
                  <a:pt x="0" y="0"/>
                  <a:pt x="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0880" bIns="2088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37" name="Freeform 13"/>
          <p:cNvSpPr/>
          <p:nvPr/>
        </p:nvSpPr>
        <p:spPr>
          <a:xfrm>
            <a:off x="7701120" y="4729320"/>
            <a:ext cx="1185840" cy="1089000"/>
          </a:xfrm>
          <a:custGeom>
            <a:avLst/>
            <a:gdLst/>
            <a:ahLst/>
            <a:rect l="l" t="t" r="r" b="b"/>
            <a:pathLst>
              <a:path w="642" h="589">
                <a:moveTo>
                  <a:pt x="7" y="0"/>
                </a:moveTo>
                <a:cubicBezTo>
                  <a:pt x="627" y="0"/>
                  <a:pt x="627" y="0"/>
                  <a:pt x="627" y="0"/>
                </a:cubicBezTo>
                <a:cubicBezTo>
                  <a:pt x="627" y="51"/>
                  <a:pt x="627" y="51"/>
                  <a:pt x="627" y="51"/>
                </a:cubicBezTo>
                <a:cubicBezTo>
                  <a:pt x="627" y="51"/>
                  <a:pt x="642" y="62"/>
                  <a:pt x="642" y="82"/>
                </a:cubicBezTo>
                <a:cubicBezTo>
                  <a:pt x="642" y="101"/>
                  <a:pt x="612" y="115"/>
                  <a:pt x="612" y="129"/>
                </a:cubicBezTo>
                <a:cubicBezTo>
                  <a:pt x="612" y="144"/>
                  <a:pt x="637" y="152"/>
                  <a:pt x="637" y="171"/>
                </a:cubicBezTo>
                <a:cubicBezTo>
                  <a:pt x="637" y="190"/>
                  <a:pt x="610" y="206"/>
                  <a:pt x="612" y="225"/>
                </a:cubicBezTo>
                <a:cubicBezTo>
                  <a:pt x="613" y="244"/>
                  <a:pt x="637" y="246"/>
                  <a:pt x="635" y="261"/>
                </a:cubicBezTo>
                <a:cubicBezTo>
                  <a:pt x="634" y="277"/>
                  <a:pt x="612" y="292"/>
                  <a:pt x="612" y="306"/>
                </a:cubicBezTo>
                <a:cubicBezTo>
                  <a:pt x="612" y="320"/>
                  <a:pt x="635" y="331"/>
                  <a:pt x="635" y="347"/>
                </a:cubicBezTo>
                <a:cubicBezTo>
                  <a:pt x="635" y="363"/>
                  <a:pt x="612" y="378"/>
                  <a:pt x="610" y="394"/>
                </a:cubicBezTo>
                <a:cubicBezTo>
                  <a:pt x="608" y="409"/>
                  <a:pt x="626" y="413"/>
                  <a:pt x="626" y="424"/>
                </a:cubicBezTo>
                <a:cubicBezTo>
                  <a:pt x="626" y="435"/>
                  <a:pt x="618" y="459"/>
                  <a:pt x="575" y="495"/>
                </a:cubicBezTo>
                <a:cubicBezTo>
                  <a:pt x="532" y="532"/>
                  <a:pt x="467" y="589"/>
                  <a:pt x="467" y="589"/>
                </a:cubicBezTo>
                <a:cubicBezTo>
                  <a:pt x="174" y="589"/>
                  <a:pt x="174" y="589"/>
                  <a:pt x="174" y="589"/>
                </a:cubicBezTo>
                <a:cubicBezTo>
                  <a:pt x="39" y="476"/>
                  <a:pt x="39" y="476"/>
                  <a:pt x="39" y="476"/>
                </a:cubicBezTo>
                <a:cubicBezTo>
                  <a:pt x="35" y="462"/>
                  <a:pt x="35" y="438"/>
                  <a:pt x="32" y="429"/>
                </a:cubicBezTo>
                <a:cubicBezTo>
                  <a:pt x="29" y="419"/>
                  <a:pt x="2" y="405"/>
                  <a:pt x="2" y="389"/>
                </a:cubicBezTo>
                <a:cubicBezTo>
                  <a:pt x="2" y="373"/>
                  <a:pt x="26" y="366"/>
                  <a:pt x="26" y="355"/>
                </a:cubicBezTo>
                <a:cubicBezTo>
                  <a:pt x="26" y="344"/>
                  <a:pt x="0" y="316"/>
                  <a:pt x="2" y="295"/>
                </a:cubicBezTo>
                <a:cubicBezTo>
                  <a:pt x="3" y="274"/>
                  <a:pt x="21" y="269"/>
                  <a:pt x="23" y="258"/>
                </a:cubicBezTo>
                <a:cubicBezTo>
                  <a:pt x="24" y="247"/>
                  <a:pt x="5" y="230"/>
                  <a:pt x="5" y="214"/>
                </a:cubicBezTo>
                <a:cubicBezTo>
                  <a:pt x="5" y="198"/>
                  <a:pt x="24" y="182"/>
                  <a:pt x="24" y="168"/>
                </a:cubicBezTo>
                <a:cubicBezTo>
                  <a:pt x="24" y="153"/>
                  <a:pt x="3" y="144"/>
                  <a:pt x="2" y="120"/>
                </a:cubicBezTo>
                <a:cubicBezTo>
                  <a:pt x="0" y="96"/>
                  <a:pt x="7" y="0"/>
                  <a:pt x="7" y="0"/>
                </a:cubicBezTo>
                <a:close/>
              </a:path>
            </a:pathLst>
          </a:cu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38" name="TextBox 16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39" name="Oval 17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40" name="Oval 18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41" name="Oval 19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42" name="Oval 20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43" name="Freeform: Shape 21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44" name="Rectangle 22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45" name="TextBox 35"/>
          <p:cNvSpPr/>
          <p:nvPr/>
        </p:nvSpPr>
        <p:spPr>
          <a:xfrm>
            <a:off x="1482840" y="3303720"/>
            <a:ext cx="2100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Quis varius quam quisque id diam vel. Ut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iad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blandit volutpat maec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v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s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eus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46" name="TextBox 36"/>
          <p:cNvSpPr/>
          <p:nvPr/>
        </p:nvSpPr>
        <p:spPr>
          <a:xfrm>
            <a:off x="1482840" y="3041640"/>
            <a:ext cx="2100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Times New Roman"/>
              </a:rPr>
              <a:t>The Topic On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47" name="TextBox 37"/>
          <p:cNvSpPr/>
          <p:nvPr/>
        </p:nvSpPr>
        <p:spPr>
          <a:xfrm>
            <a:off x="1482840" y="4559400"/>
            <a:ext cx="2100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Quis varius quam quisque id diam vel. Ut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iad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blandit volutpat maec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v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s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eus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48" name="TextBox 38"/>
          <p:cNvSpPr/>
          <p:nvPr/>
        </p:nvSpPr>
        <p:spPr>
          <a:xfrm>
            <a:off x="1482840" y="4289400"/>
            <a:ext cx="23018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Times New Roman"/>
              </a:rPr>
              <a:t>The Topic Thre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49" name="TextBox 39"/>
          <p:cNvSpPr/>
          <p:nvPr/>
        </p:nvSpPr>
        <p:spPr>
          <a:xfrm>
            <a:off x="3873600" y="3308400"/>
            <a:ext cx="2100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Quis varius quam quisque id diam vel. Ut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iad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blandit volutpat maec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v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s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eus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50" name="TextBox 40"/>
          <p:cNvSpPr/>
          <p:nvPr/>
        </p:nvSpPr>
        <p:spPr>
          <a:xfrm>
            <a:off x="3873600" y="3040200"/>
            <a:ext cx="2100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Times New Roman"/>
              </a:rPr>
              <a:t>The Topic Two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51" name="TextBox 41"/>
          <p:cNvSpPr/>
          <p:nvPr/>
        </p:nvSpPr>
        <p:spPr>
          <a:xfrm>
            <a:off x="3873600" y="4573440"/>
            <a:ext cx="2100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Quis varius quam quisque id diam vel. Ut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iad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blandit volutpat maec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v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s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eus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52" name="TextBox 42"/>
          <p:cNvSpPr/>
          <p:nvPr/>
        </p:nvSpPr>
        <p:spPr>
          <a:xfrm>
            <a:off x="3873600" y="4289400"/>
            <a:ext cx="23018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Times New Roman"/>
              </a:rPr>
              <a:t>The Topic Four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53" name="TextBox 45"/>
          <p:cNvSpPr/>
          <p:nvPr/>
        </p:nvSpPr>
        <p:spPr>
          <a:xfrm>
            <a:off x="1482840" y="1735200"/>
            <a:ext cx="37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Our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Infographic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54" name="TextBox 46"/>
          <p:cNvSpPr/>
          <p:nvPr/>
        </p:nvSpPr>
        <p:spPr>
          <a:xfrm>
            <a:off x="1501920" y="1555920"/>
            <a:ext cx="256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TextBox 10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56" name="Oval 11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57" name="Oval 12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58" name="Oval 13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59" name="Oval 14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60" name="Freeform: Shape 15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61" name="Rectangle 16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graphicFrame>
        <p:nvGraphicFramePr>
          <p:cNvPr id="1162" name="Chart 17"/>
          <p:cNvGraphicFramePr/>
          <p:nvPr/>
        </p:nvGraphicFramePr>
        <p:xfrm>
          <a:off x="1042920" y="2131920"/>
          <a:ext cx="5673960" cy="41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3" name="Char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31920"/>
                    <a:ext cx="567396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4" name="TextBox 9"/>
          <p:cNvSpPr/>
          <p:nvPr/>
        </p:nvSpPr>
        <p:spPr>
          <a:xfrm>
            <a:off x="3767040" y="1135080"/>
            <a:ext cx="46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Company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Chart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65" name="TextBox 18"/>
          <p:cNvSpPr/>
          <p:nvPr/>
        </p:nvSpPr>
        <p:spPr>
          <a:xfrm>
            <a:off x="4816440" y="957240"/>
            <a:ext cx="255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66" name="TextBox 19"/>
          <p:cNvSpPr/>
          <p:nvPr/>
        </p:nvSpPr>
        <p:spPr>
          <a:xfrm>
            <a:off x="7203960" y="2870280"/>
            <a:ext cx="3735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Quis varius qua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quisque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d diam vel. Ut enim blandit volutpat maeenas volutpat blandit aliquam etiam era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vil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67" name="TextBox 20"/>
          <p:cNvSpPr/>
          <p:nvPr/>
        </p:nvSpPr>
        <p:spPr>
          <a:xfrm>
            <a:off x="7203960" y="2514600"/>
            <a:ext cx="3484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Times New Roman"/>
              </a:rPr>
              <a:t>The Company Topic Her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68" name="TextBox 21"/>
          <p:cNvSpPr/>
          <p:nvPr/>
        </p:nvSpPr>
        <p:spPr>
          <a:xfrm>
            <a:off x="7203960" y="3954600"/>
            <a:ext cx="3735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Quis varius qua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quisque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d diam vel. Ut enim blandit volutpat maeenas volutpat blandit aliquam etiam era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vil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69" name="TextBox 22"/>
          <p:cNvSpPr/>
          <p:nvPr/>
        </p:nvSpPr>
        <p:spPr>
          <a:xfrm>
            <a:off x="7203960" y="3598920"/>
            <a:ext cx="3484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Times New Roman"/>
              </a:rPr>
              <a:t>The Company Topic Her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70" name="TextBox 23"/>
          <p:cNvSpPr/>
          <p:nvPr/>
        </p:nvSpPr>
        <p:spPr>
          <a:xfrm>
            <a:off x="7203960" y="5040360"/>
            <a:ext cx="3735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Quis varius qua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quisque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d diam vel. Ut enim blandit volutpat maeenas volutpat blandit aliquam etiam era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vil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71" name="TextBox 24"/>
          <p:cNvSpPr/>
          <p:nvPr/>
        </p:nvSpPr>
        <p:spPr>
          <a:xfrm>
            <a:off x="7203960" y="4683240"/>
            <a:ext cx="3484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Times New Roman"/>
              </a:rPr>
              <a:t>The Company Topic Her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Box 7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73" name="Oval 8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74" name="Oval 9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75" name="Oval 10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76" name="Oval 11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77" name="Freeform: Shape 12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78" name="Rectangle 13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79" name="TextBox 14"/>
          <p:cNvSpPr/>
          <p:nvPr/>
        </p:nvSpPr>
        <p:spPr>
          <a:xfrm>
            <a:off x="3767040" y="1135080"/>
            <a:ext cx="46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Pricing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Tables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80" name="TextBox 15"/>
          <p:cNvSpPr/>
          <p:nvPr/>
        </p:nvSpPr>
        <p:spPr>
          <a:xfrm>
            <a:off x="4816440" y="957240"/>
            <a:ext cx="255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81" name="Freeform: Shape 16"/>
          <p:cNvSpPr/>
          <p:nvPr/>
        </p:nvSpPr>
        <p:spPr>
          <a:xfrm>
            <a:off x="1812960" y="2292480"/>
            <a:ext cx="2502000" cy="3517920"/>
          </a:xfrm>
          <a:custGeom>
            <a:avLst/>
            <a:gdLst/>
            <a:ahLst/>
            <a:rect l="l" t="t" r="r" b="b"/>
            <a:pathLst>
              <a:path w="2502568" h="3518058">
                <a:moveTo>
                  <a:pt x="161441" y="0"/>
                </a:moveTo>
                <a:lnTo>
                  <a:pt x="2341127" y="0"/>
                </a:lnTo>
                <a:cubicBezTo>
                  <a:pt x="2430288" y="0"/>
                  <a:pt x="2502568" y="72280"/>
                  <a:pt x="2502568" y="161441"/>
                </a:cubicBezTo>
                <a:lnTo>
                  <a:pt x="2502568" y="3356617"/>
                </a:lnTo>
                <a:cubicBezTo>
                  <a:pt x="2502568" y="3445778"/>
                  <a:pt x="2430288" y="3518058"/>
                  <a:pt x="2341127" y="3518058"/>
                </a:cubicBezTo>
                <a:lnTo>
                  <a:pt x="161441" y="3518058"/>
                </a:lnTo>
                <a:cubicBezTo>
                  <a:pt x="72280" y="3518058"/>
                  <a:pt x="0" y="3445778"/>
                  <a:pt x="0" y="3356617"/>
                </a:cubicBezTo>
                <a:lnTo>
                  <a:pt x="0" y="161441"/>
                </a:lnTo>
                <a:cubicBezTo>
                  <a:pt x="0" y="72280"/>
                  <a:pt x="72280" y="0"/>
                  <a:pt x="16144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82" name="Freeform: Shape 17"/>
          <p:cNvSpPr/>
          <p:nvPr/>
        </p:nvSpPr>
        <p:spPr>
          <a:xfrm>
            <a:off x="7877160" y="2292480"/>
            <a:ext cx="2502000" cy="3517920"/>
          </a:xfrm>
          <a:custGeom>
            <a:avLst/>
            <a:gdLst/>
            <a:ahLst/>
            <a:rect l="l" t="t" r="r" b="b"/>
            <a:pathLst>
              <a:path w="2502568" h="3518058">
                <a:moveTo>
                  <a:pt x="161441" y="0"/>
                </a:moveTo>
                <a:lnTo>
                  <a:pt x="2341127" y="0"/>
                </a:lnTo>
                <a:cubicBezTo>
                  <a:pt x="2430288" y="0"/>
                  <a:pt x="2502568" y="72280"/>
                  <a:pt x="2502568" y="161441"/>
                </a:cubicBezTo>
                <a:lnTo>
                  <a:pt x="2502568" y="3356617"/>
                </a:lnTo>
                <a:cubicBezTo>
                  <a:pt x="2502568" y="3445778"/>
                  <a:pt x="2430288" y="3518058"/>
                  <a:pt x="2341127" y="3518058"/>
                </a:cubicBezTo>
                <a:lnTo>
                  <a:pt x="161441" y="3518058"/>
                </a:lnTo>
                <a:cubicBezTo>
                  <a:pt x="72280" y="3518058"/>
                  <a:pt x="0" y="3445778"/>
                  <a:pt x="0" y="3356617"/>
                </a:cubicBezTo>
                <a:lnTo>
                  <a:pt x="0" y="161441"/>
                </a:lnTo>
                <a:cubicBezTo>
                  <a:pt x="0" y="72280"/>
                  <a:pt x="72280" y="0"/>
                  <a:pt x="16144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83" name="Freeform: Shape 18"/>
          <p:cNvSpPr/>
          <p:nvPr/>
        </p:nvSpPr>
        <p:spPr>
          <a:xfrm>
            <a:off x="4844880" y="2292480"/>
            <a:ext cx="2502000" cy="3517920"/>
          </a:xfrm>
          <a:custGeom>
            <a:avLst/>
            <a:gdLst/>
            <a:ahLst/>
            <a:rect l="l" t="t" r="r" b="b"/>
            <a:pathLst>
              <a:path w="2502568" h="3518058">
                <a:moveTo>
                  <a:pt x="161441" y="0"/>
                </a:moveTo>
                <a:lnTo>
                  <a:pt x="2341127" y="0"/>
                </a:lnTo>
                <a:cubicBezTo>
                  <a:pt x="2430288" y="0"/>
                  <a:pt x="2502568" y="72280"/>
                  <a:pt x="2502568" y="161441"/>
                </a:cubicBezTo>
                <a:lnTo>
                  <a:pt x="2502568" y="3356617"/>
                </a:lnTo>
                <a:cubicBezTo>
                  <a:pt x="2502568" y="3445778"/>
                  <a:pt x="2430288" y="3518058"/>
                  <a:pt x="2341127" y="3518058"/>
                </a:cubicBezTo>
                <a:lnTo>
                  <a:pt x="161441" y="3518058"/>
                </a:lnTo>
                <a:cubicBezTo>
                  <a:pt x="72280" y="3518058"/>
                  <a:pt x="0" y="3445778"/>
                  <a:pt x="0" y="3356617"/>
                </a:cubicBezTo>
                <a:lnTo>
                  <a:pt x="0" y="161441"/>
                </a:lnTo>
                <a:cubicBezTo>
                  <a:pt x="0" y="72280"/>
                  <a:pt x="72280" y="0"/>
                  <a:pt x="161441" y="0"/>
                </a:cubicBezTo>
                <a:close/>
              </a:path>
            </a:pathLst>
          </a:custGeom>
          <a:solidFill>
            <a:srgbClr val="0e2767"/>
          </a:solidFill>
          <a:ln w="0">
            <a:noFill/>
          </a:ln>
          <a:effectLst>
            <a:outerShdw dist="15375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84" name="TextBox 19"/>
          <p:cNvSpPr/>
          <p:nvPr/>
        </p:nvSpPr>
        <p:spPr>
          <a:xfrm>
            <a:off x="2001960" y="4070520"/>
            <a:ext cx="1525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im nec dui nunc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85" name="TextBox 20"/>
          <p:cNvSpPr/>
          <p:nvPr/>
        </p:nvSpPr>
        <p:spPr>
          <a:xfrm>
            <a:off x="2001960" y="4343400"/>
            <a:ext cx="2157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M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na sit amet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r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o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86" name="TextBox 21"/>
          <p:cNvSpPr/>
          <p:nvPr/>
        </p:nvSpPr>
        <p:spPr>
          <a:xfrm>
            <a:off x="2001960" y="4616280"/>
            <a:ext cx="20127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Risus pretium quam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87" name="TextBox 22"/>
          <p:cNvSpPr/>
          <p:nvPr/>
        </p:nvSpPr>
        <p:spPr>
          <a:xfrm>
            <a:off x="2057400" y="3333600"/>
            <a:ext cx="201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cc7"/>
                </a:solidFill>
                <a:latin typeface="Roboto"/>
                <a:ea typeface="Times New Roman"/>
              </a:rPr>
              <a:t>$450</a:t>
            </a:r>
            <a:r>
              <a:rPr b="1" lang="en-US" sz="900" spc="-1" strike="noStrike">
                <a:solidFill>
                  <a:srgbClr val="595959"/>
                </a:solidFill>
                <a:latin typeface="Roboto"/>
                <a:ea typeface="Times New Roman"/>
              </a:rPr>
              <a:t>/nett</a:t>
            </a:r>
            <a:endParaRPr b="0" lang="en-US" sz="9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88" name="TextBox 23"/>
          <p:cNvSpPr/>
          <p:nvPr/>
        </p:nvSpPr>
        <p:spPr>
          <a:xfrm>
            <a:off x="5033880" y="4070520"/>
            <a:ext cx="15256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im nec dui nunc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89" name="TextBox 24"/>
          <p:cNvSpPr/>
          <p:nvPr/>
        </p:nvSpPr>
        <p:spPr>
          <a:xfrm>
            <a:off x="5033880" y="4343400"/>
            <a:ext cx="2157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M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gna sit ame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r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sus p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o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90" name="TextBox 25"/>
          <p:cNvSpPr/>
          <p:nvPr/>
        </p:nvSpPr>
        <p:spPr>
          <a:xfrm>
            <a:off x="5033880" y="4616280"/>
            <a:ext cx="2013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Risus pretium quam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91" name="TextBox 26"/>
          <p:cNvSpPr/>
          <p:nvPr/>
        </p:nvSpPr>
        <p:spPr>
          <a:xfrm>
            <a:off x="5089680" y="3333600"/>
            <a:ext cx="201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boto"/>
                <a:ea typeface="Times New Roman"/>
              </a:rPr>
              <a:t>$599</a:t>
            </a:r>
            <a:r>
              <a:rPr b="1" lang="en-US" sz="900" spc="-1" strike="noStrike">
                <a:solidFill>
                  <a:srgbClr val="ffffff"/>
                </a:solidFill>
                <a:latin typeface="Roboto"/>
                <a:ea typeface="Times New Roman"/>
              </a:rPr>
              <a:t>/nett</a:t>
            </a:r>
            <a:endParaRPr b="0" lang="en-US" sz="9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92" name="TextBox 27"/>
          <p:cNvSpPr/>
          <p:nvPr/>
        </p:nvSpPr>
        <p:spPr>
          <a:xfrm>
            <a:off x="8066160" y="4070520"/>
            <a:ext cx="15256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im nec dui nunc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93" name="TextBox 28"/>
          <p:cNvSpPr/>
          <p:nvPr/>
        </p:nvSpPr>
        <p:spPr>
          <a:xfrm>
            <a:off x="8066160" y="4343400"/>
            <a:ext cx="21556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M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na sit amet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r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o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94" name="TextBox 29"/>
          <p:cNvSpPr/>
          <p:nvPr/>
        </p:nvSpPr>
        <p:spPr>
          <a:xfrm>
            <a:off x="8066160" y="4616280"/>
            <a:ext cx="20113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Risus pretium quam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95" name="TextBox 30"/>
          <p:cNvSpPr/>
          <p:nvPr/>
        </p:nvSpPr>
        <p:spPr>
          <a:xfrm>
            <a:off x="8121600" y="3333600"/>
            <a:ext cx="201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cc7"/>
                </a:solidFill>
                <a:latin typeface="Roboto"/>
                <a:ea typeface="Times New Roman"/>
              </a:rPr>
              <a:t>$850</a:t>
            </a:r>
            <a:r>
              <a:rPr b="1" lang="en-US" sz="900" spc="-1" strike="noStrike">
                <a:solidFill>
                  <a:srgbClr val="595959"/>
                </a:solidFill>
                <a:latin typeface="Roboto"/>
                <a:ea typeface="Times New Roman"/>
              </a:rPr>
              <a:t>/nett</a:t>
            </a:r>
            <a:endParaRPr b="0" lang="en-US" sz="9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96" name="Rectangle: Rounded Corners 31"/>
          <p:cNvSpPr/>
          <p:nvPr/>
        </p:nvSpPr>
        <p:spPr>
          <a:xfrm>
            <a:off x="2382840" y="5146560"/>
            <a:ext cx="1362240" cy="430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f7f7f"/>
                </a:solidFill>
                <a:latin typeface="Roboto"/>
              </a:rPr>
              <a:t>Purchase Now</a:t>
            </a:r>
            <a:endParaRPr b="0" lang="en-US" sz="9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97" name="Rectangle: Rounded Corners 32"/>
          <p:cNvSpPr/>
          <p:nvPr/>
        </p:nvSpPr>
        <p:spPr>
          <a:xfrm>
            <a:off x="5415120" y="5146560"/>
            <a:ext cx="1361880" cy="430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oboto"/>
              </a:rPr>
              <a:t>Purchase Now</a:t>
            </a:r>
            <a:endParaRPr b="0" lang="en-US" sz="9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98" name="Rectangle: Rounded Corners 33"/>
          <p:cNvSpPr/>
          <p:nvPr/>
        </p:nvSpPr>
        <p:spPr>
          <a:xfrm>
            <a:off x="8447040" y="5146560"/>
            <a:ext cx="1362240" cy="430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f7f7f"/>
                </a:solidFill>
                <a:latin typeface="Roboto"/>
              </a:rPr>
              <a:t>Purchase Now</a:t>
            </a:r>
            <a:endParaRPr b="0" lang="en-US" sz="900" spc="-1" strike="noStrike">
              <a:solidFill>
                <a:srgbClr val="3f3f3f"/>
              </a:solidFill>
              <a:latin typeface="Roboto"/>
            </a:endParaRPr>
          </a:p>
        </p:txBody>
      </p:sp>
      <p:grpSp>
        <p:nvGrpSpPr>
          <p:cNvPr id="1199" name="Group 34"/>
          <p:cNvGrpSpPr/>
          <p:nvPr/>
        </p:nvGrpSpPr>
        <p:grpSpPr>
          <a:xfrm>
            <a:off x="2149920" y="2792520"/>
            <a:ext cx="1828080" cy="595800"/>
            <a:chOff x="2149920" y="2792520"/>
            <a:chExt cx="1828080" cy="595800"/>
          </a:xfrm>
        </p:grpSpPr>
        <p:sp>
          <p:nvSpPr>
            <p:cNvPr id="1200" name="TextBox 35"/>
            <p:cNvSpPr/>
            <p:nvPr/>
          </p:nvSpPr>
          <p:spPr>
            <a:xfrm>
              <a:off x="2149920" y="27925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95959"/>
                  </a:solidFill>
                  <a:latin typeface="Roboto"/>
                  <a:ea typeface="Open Sans SemiBold"/>
                </a:rPr>
                <a:t>Standard Pack</a:t>
              </a:r>
              <a:endParaRPr b="0" lang="en-US" sz="1800" spc="-1" strike="noStrike">
                <a:solidFill>
                  <a:srgbClr val="3f3f3f"/>
                </a:solidFill>
                <a:latin typeface="Roboto"/>
              </a:endParaRPr>
            </a:p>
          </p:txBody>
        </p:sp>
        <p:sp>
          <p:nvSpPr>
            <p:cNvPr id="1201" name="TextBox 36"/>
            <p:cNvSpPr/>
            <p:nvPr/>
          </p:nvSpPr>
          <p:spPr>
            <a:xfrm>
              <a:off x="2366640" y="3088800"/>
              <a:ext cx="13939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cccccc"/>
                  </a:solidFill>
                  <a:latin typeface="Roboto"/>
                  <a:ea typeface="Times New Roman"/>
                </a:rPr>
                <a:t>Update Per Mount</a:t>
              </a:r>
              <a:endParaRPr b="0" lang="en-US" sz="900" spc="-1" strike="noStrike">
                <a:solidFill>
                  <a:srgbClr val="3f3f3f"/>
                </a:solidFill>
                <a:latin typeface="Roboto"/>
              </a:endParaRPr>
            </a:p>
          </p:txBody>
        </p:sp>
      </p:grpSp>
      <p:grpSp>
        <p:nvGrpSpPr>
          <p:cNvPr id="1202" name="Group 37"/>
          <p:cNvGrpSpPr/>
          <p:nvPr/>
        </p:nvGrpSpPr>
        <p:grpSpPr>
          <a:xfrm>
            <a:off x="5235480" y="2792520"/>
            <a:ext cx="1721520" cy="595800"/>
            <a:chOff x="5235480" y="2792520"/>
            <a:chExt cx="1721520" cy="595800"/>
          </a:xfrm>
        </p:grpSpPr>
        <p:sp>
          <p:nvSpPr>
            <p:cNvPr id="1203" name="TextBox 38"/>
            <p:cNvSpPr/>
            <p:nvPr/>
          </p:nvSpPr>
          <p:spPr>
            <a:xfrm>
              <a:off x="5235480" y="2792520"/>
              <a:ext cx="17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Roboto"/>
                  <a:ea typeface="Open Sans SemiBold"/>
                </a:rPr>
                <a:t>Medium Pack</a:t>
              </a:r>
              <a:endParaRPr b="0" lang="en-US" sz="1800" spc="-1" strike="noStrike">
                <a:solidFill>
                  <a:srgbClr val="3f3f3f"/>
                </a:solidFill>
                <a:latin typeface="Roboto"/>
              </a:endParaRPr>
            </a:p>
          </p:txBody>
        </p:sp>
        <p:sp>
          <p:nvSpPr>
            <p:cNvPr id="1204" name="TextBox 39"/>
            <p:cNvSpPr/>
            <p:nvPr/>
          </p:nvSpPr>
          <p:spPr>
            <a:xfrm>
              <a:off x="5399280" y="3088800"/>
              <a:ext cx="139356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Roboto"/>
                  <a:ea typeface="Times New Roman"/>
                </a:rPr>
                <a:t>Update Per Mount</a:t>
              </a:r>
              <a:endParaRPr b="0" lang="en-US" sz="900" spc="-1" strike="noStrike">
                <a:solidFill>
                  <a:srgbClr val="3f3f3f"/>
                </a:solidFill>
                <a:latin typeface="Roboto"/>
              </a:endParaRPr>
            </a:p>
          </p:txBody>
        </p:sp>
      </p:grpSp>
      <p:grpSp>
        <p:nvGrpSpPr>
          <p:cNvPr id="1205" name="Group 40"/>
          <p:cNvGrpSpPr/>
          <p:nvPr/>
        </p:nvGrpSpPr>
        <p:grpSpPr>
          <a:xfrm>
            <a:off x="8211600" y="2792520"/>
            <a:ext cx="1832760" cy="595800"/>
            <a:chOff x="8211600" y="2792520"/>
            <a:chExt cx="1832760" cy="595800"/>
          </a:xfrm>
        </p:grpSpPr>
        <p:sp>
          <p:nvSpPr>
            <p:cNvPr id="1206" name="TextBox 41"/>
            <p:cNvSpPr/>
            <p:nvPr/>
          </p:nvSpPr>
          <p:spPr>
            <a:xfrm>
              <a:off x="8211600" y="2792520"/>
              <a:ext cx="183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95959"/>
                  </a:solidFill>
                  <a:latin typeface="Roboto"/>
                  <a:ea typeface="Open Sans SemiBold"/>
                </a:rPr>
                <a:t>Premium Pack</a:t>
              </a:r>
              <a:endParaRPr b="0" lang="en-US" sz="1800" spc="-1" strike="noStrike">
                <a:solidFill>
                  <a:srgbClr val="3f3f3f"/>
                </a:solidFill>
                <a:latin typeface="Roboto"/>
              </a:endParaRPr>
            </a:p>
          </p:txBody>
        </p:sp>
        <p:sp>
          <p:nvSpPr>
            <p:cNvPr id="1207" name="TextBox 42"/>
            <p:cNvSpPr/>
            <p:nvPr/>
          </p:nvSpPr>
          <p:spPr>
            <a:xfrm>
              <a:off x="8431560" y="3088800"/>
              <a:ext cx="139284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cccccc"/>
                  </a:solidFill>
                  <a:latin typeface="Roboto"/>
                  <a:ea typeface="Times New Roman"/>
                </a:rPr>
                <a:t>Update Per Mount</a:t>
              </a:r>
              <a:endParaRPr b="0" lang="en-US" sz="900" spc="-1" strike="noStrike">
                <a:solidFill>
                  <a:srgbClr val="3f3f3f"/>
                </a:solidFill>
                <a:latin typeface="Robot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TextBox 11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09" name="Oval 12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10" name="Oval 13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11" name="Oval 14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12" name="Oval 15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13" name="Freeform: Shape 16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14" name="Rectangle 17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15" name="Rectangle 18"/>
          <p:cNvSpPr/>
          <p:nvPr/>
        </p:nvSpPr>
        <p:spPr>
          <a:xfrm>
            <a:off x="5796000" y="2328840"/>
            <a:ext cx="469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b9a2"/>
                </a:solidFill>
                <a:latin typeface="Raleway Bold"/>
              </a:rPr>
              <a:t>If you are </a:t>
            </a:r>
            <a:r>
              <a:rPr b="1" lang="en-US" sz="2400" spc="-1" strike="noStrike">
                <a:solidFill>
                  <a:srgbClr val="3f3f3f"/>
                </a:solidFill>
                <a:latin typeface="Raleway Bold"/>
              </a:rPr>
              <a:t>planning for a year, sow rice, if you</a:t>
            </a:r>
            <a:r>
              <a:rPr b="1" lang="en-US" sz="2400" spc="-1" strike="noStrike">
                <a:solidFill>
                  <a:srgbClr val="1b4cc7"/>
                </a:solidFill>
                <a:latin typeface="Raleway Bold"/>
              </a:rPr>
              <a:t> </a:t>
            </a:r>
            <a:r>
              <a:rPr b="1" lang="en-US" sz="2400" spc="-1" strike="noStrike">
                <a:solidFill>
                  <a:srgbClr val="14afd7"/>
                </a:solidFill>
                <a:latin typeface="Raleway Bold"/>
              </a:rPr>
              <a:t>are planning </a:t>
            </a:r>
            <a:r>
              <a:rPr b="1" lang="en-US" sz="2400" spc="-1" strike="noStrike">
                <a:solidFill>
                  <a:srgbClr val="1988d1"/>
                </a:solidFill>
                <a:latin typeface="Raleway Bold"/>
              </a:rPr>
              <a:t>for a decade</a:t>
            </a:r>
            <a:r>
              <a:rPr b="1" lang="en-US" sz="2400" spc="-1" strike="noStrike">
                <a:solidFill>
                  <a:srgbClr val="3f3f3f"/>
                </a:solidFill>
                <a:latin typeface="Raleway Bold"/>
              </a:rPr>
              <a:t>, plant trees; if you are planning </a:t>
            </a:r>
            <a:r>
              <a:rPr b="1" lang="en-US" sz="2400" spc="-1" strike="noStrike">
                <a:solidFill>
                  <a:srgbClr val="14afd7"/>
                </a:solidFill>
                <a:latin typeface="Raleway Bold"/>
              </a:rPr>
              <a:t>for a lifetime, </a:t>
            </a:r>
            <a:r>
              <a:rPr b="1" lang="en-US" sz="2400" spc="-1" strike="noStrike">
                <a:solidFill>
                  <a:srgbClr val="29b9a2"/>
                </a:solidFill>
                <a:latin typeface="Raleway Bold"/>
              </a:rPr>
              <a:t>educate people.</a:t>
            </a:r>
            <a:endParaRPr b="0" lang="en-US" sz="2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16" name="Rectangle 19"/>
          <p:cNvSpPr/>
          <p:nvPr/>
        </p:nvSpPr>
        <p:spPr>
          <a:xfrm>
            <a:off x="5736600" y="4548240"/>
            <a:ext cx="20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595959"/>
                </a:solidFill>
                <a:latin typeface="Roboto"/>
                <a:ea typeface="Calibri"/>
              </a:rPr>
              <a:t>Quote By Your Nam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17" name="Rectangle 20"/>
          <p:cNvSpPr/>
          <p:nvPr/>
        </p:nvSpPr>
        <p:spPr>
          <a:xfrm>
            <a:off x="7816680" y="4710240"/>
            <a:ext cx="1189080" cy="46080"/>
          </a:xfrm>
          <a:prstGeom prst="rect">
            <a:avLst/>
          </a:prstGeom>
          <a:gradFill rotWithShape="0">
            <a:gsLst>
              <a:gs pos="0">
                <a:srgbClr val="1b4cc7"/>
              </a:gs>
              <a:gs pos="100000">
                <a:srgbClr val="01d1d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pic>
        <p:nvPicPr>
          <p:cNvPr id="1218" name="Rectangle 21" descr=""/>
          <p:cNvPicPr/>
          <p:nvPr/>
        </p:nvPicPr>
        <p:blipFill>
          <a:blip r:embed="rId1"/>
          <a:stretch/>
        </p:blipFill>
        <p:spPr>
          <a:xfrm>
            <a:off x="5761080" y="1523880"/>
            <a:ext cx="1127160" cy="1200240"/>
          </a:xfrm>
          <a:prstGeom prst="rect">
            <a:avLst/>
          </a:prstGeom>
          <a:ln w="0">
            <a:noFill/>
          </a:ln>
        </p:spPr>
      </p:pic>
      <p:sp>
        <p:nvSpPr>
          <p:cNvPr id="1219" name="Oval 10"/>
          <p:cNvSpPr/>
          <p:nvPr/>
        </p:nvSpPr>
        <p:spPr>
          <a:xfrm>
            <a:off x="3610080" y="3500280"/>
            <a:ext cx="1190520" cy="1190880"/>
          </a:xfrm>
          <a:prstGeom prst="ellipse">
            <a:avLst/>
          </a:prstGeom>
          <a:noFill/>
          <a:ln w="12600">
            <a:solidFill>
              <a:srgbClr val="29b9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TextBox 11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21" name="Oval 12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22" name="Oval 13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23" name="Oval 14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24" name="Oval 15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25" name="TextBox 16"/>
          <p:cNvSpPr/>
          <p:nvPr/>
        </p:nvSpPr>
        <p:spPr>
          <a:xfrm>
            <a:off x="1434960" y="195264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Parents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Feedback Here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26" name="TextBox 17"/>
          <p:cNvSpPr/>
          <p:nvPr/>
        </p:nvSpPr>
        <p:spPr>
          <a:xfrm>
            <a:off x="1454040" y="1774800"/>
            <a:ext cx="255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27" name="TextBox 18"/>
          <p:cNvSpPr/>
          <p:nvPr/>
        </p:nvSpPr>
        <p:spPr>
          <a:xfrm>
            <a:off x="1398960" y="3514680"/>
            <a:ext cx="19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Clients, 18 Feb 2015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28" name="TextBox 19"/>
          <p:cNvSpPr/>
          <p:nvPr/>
        </p:nvSpPr>
        <p:spPr>
          <a:xfrm>
            <a:off x="1440000" y="3768840"/>
            <a:ext cx="4046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pretium quam vulputate dignissim. Enim nec dui n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i mandal cosari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29" name="TextBox 20"/>
          <p:cNvSpPr/>
          <p:nvPr/>
        </p:nvSpPr>
        <p:spPr>
          <a:xfrm>
            <a:off x="1396080" y="4492800"/>
            <a:ext cx="195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Clients, 08 Mar 2015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30" name="TextBox 21"/>
          <p:cNvSpPr/>
          <p:nvPr/>
        </p:nvSpPr>
        <p:spPr>
          <a:xfrm>
            <a:off x="1446120" y="4746600"/>
            <a:ext cx="40402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pretium quam vulputate dignissim. Enim nec dui n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i mandal cosari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31" name="TextBox 22"/>
          <p:cNvSpPr/>
          <p:nvPr/>
        </p:nvSpPr>
        <p:spPr>
          <a:xfrm>
            <a:off x="9061920" y="177156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 SemiBold"/>
              </a:rPr>
              <a:t>Detail Nam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32" name="TextBox 23"/>
          <p:cNvSpPr/>
          <p:nvPr/>
        </p:nvSpPr>
        <p:spPr>
          <a:xfrm>
            <a:off x="9121680" y="2009880"/>
            <a:ext cx="27129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 tristique magna sit amet. Risus preti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amet dui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quam vulputate dignissi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e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im ne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c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33" name="TextBox 24"/>
          <p:cNvSpPr/>
          <p:nvPr/>
        </p:nvSpPr>
        <p:spPr>
          <a:xfrm>
            <a:off x="9066600" y="45244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 SemiBold"/>
              </a:rPr>
              <a:t>Detail Nam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34" name="TextBox 25"/>
          <p:cNvSpPr/>
          <p:nvPr/>
        </p:nvSpPr>
        <p:spPr>
          <a:xfrm>
            <a:off x="9121680" y="4761000"/>
            <a:ext cx="27129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 tristique magna sit amet. Risus preti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amet dui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quam vulputate dignissi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e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im ne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c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Freeform: Shape 11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36" name="Rectangle 12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37" name="TextBox 6"/>
          <p:cNvSpPr/>
          <p:nvPr/>
        </p:nvSpPr>
        <p:spPr>
          <a:xfrm>
            <a:off x="6010200" y="190512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Contact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Informations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38" name="TextBox 7"/>
          <p:cNvSpPr/>
          <p:nvPr/>
        </p:nvSpPr>
        <p:spPr>
          <a:xfrm>
            <a:off x="6029280" y="1725480"/>
            <a:ext cx="256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39" name="TextBox 8"/>
          <p:cNvSpPr/>
          <p:nvPr/>
        </p:nvSpPr>
        <p:spPr>
          <a:xfrm>
            <a:off x="6010200" y="4132440"/>
            <a:ext cx="18241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100" spc="-1" strike="noStrike">
                <a:solidFill>
                  <a:srgbClr val="ffffff"/>
                </a:solidFill>
                <a:latin typeface="Roboto"/>
              </a:rPr>
              <a:t>Marketing Popart-Up, 4 - 5 Goodwin Street, N4 3HQ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40" name="TextBox 4"/>
          <p:cNvSpPr/>
          <p:nvPr/>
        </p:nvSpPr>
        <p:spPr>
          <a:xfrm>
            <a:off x="6010200" y="3827520"/>
            <a:ext cx="1524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Our Address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41" name="TextBox 10"/>
          <p:cNvSpPr/>
          <p:nvPr/>
        </p:nvSpPr>
        <p:spPr>
          <a:xfrm>
            <a:off x="8426520" y="5148360"/>
            <a:ext cx="20527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100" spc="-1" strike="noStrike">
                <a:solidFill>
                  <a:srgbClr val="ffffff"/>
                </a:solidFill>
                <a:latin typeface="Roboto"/>
              </a:rPr>
              <a:t>w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</a:rPr>
              <a:t>ww.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</a:rPr>
              <a:t>skillupcourse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</a:rPr>
              <a:t>.com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  <a:p>
            <a:pPr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</a:rPr>
              <a:t>office@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</a:rPr>
              <a:t>skillupcourse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</a:rPr>
              <a:t>.com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42" name="TextBox 8"/>
          <p:cNvSpPr/>
          <p:nvPr/>
        </p:nvSpPr>
        <p:spPr>
          <a:xfrm>
            <a:off x="8424720" y="4856040"/>
            <a:ext cx="1524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Times New Roman"/>
              </a:rPr>
              <a:t>Follow Us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43" name="TextBox 14"/>
          <p:cNvSpPr/>
          <p:nvPr/>
        </p:nvSpPr>
        <p:spPr>
          <a:xfrm>
            <a:off x="6010200" y="5148360"/>
            <a:ext cx="20527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</a:rPr>
              <a:t>(+62) 000 0000 0000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  <a:p>
            <a:pPr algn="just"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</a:rPr>
              <a:t>(0725) 00000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44" name="TextBox 12"/>
          <p:cNvSpPr/>
          <p:nvPr/>
        </p:nvSpPr>
        <p:spPr>
          <a:xfrm>
            <a:off x="6010200" y="4856040"/>
            <a:ext cx="1524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Times New Roman"/>
              </a:rPr>
              <a:t>Get In Touch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45" name="TextBox 16"/>
          <p:cNvSpPr/>
          <p:nvPr/>
        </p:nvSpPr>
        <p:spPr>
          <a:xfrm>
            <a:off x="8388360" y="4118040"/>
            <a:ext cx="20527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Monday – Saturday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  <a:p>
            <a:pPr algn="just"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08.00 AM –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05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.00 PM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46" name="TextBox 17"/>
          <p:cNvSpPr/>
          <p:nvPr/>
        </p:nvSpPr>
        <p:spPr>
          <a:xfrm>
            <a:off x="8424720" y="3827520"/>
            <a:ext cx="1524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Office Hours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Freeform: Shape 14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48" name="TextBox 18"/>
          <p:cNvSpPr/>
          <p:nvPr/>
        </p:nvSpPr>
        <p:spPr>
          <a:xfrm>
            <a:off x="6743880" y="2724120"/>
            <a:ext cx="4768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9b9a2"/>
                </a:solidFill>
                <a:latin typeface="Raleway Black"/>
              </a:rPr>
              <a:t>Tha</a:t>
            </a:r>
            <a:r>
              <a:rPr b="0" lang="en-US" sz="8800" spc="-1" strike="noStrike">
                <a:solidFill>
                  <a:srgbClr val="3f3f3f"/>
                </a:solidFill>
                <a:latin typeface="Raleway Black"/>
              </a:rPr>
              <a:t>nks.</a:t>
            </a:r>
            <a:endParaRPr b="0" lang="en-US" sz="8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49" name="TextBox 41"/>
          <p:cNvSpPr/>
          <p:nvPr/>
        </p:nvSpPr>
        <p:spPr>
          <a:xfrm>
            <a:off x="6735600" y="2533680"/>
            <a:ext cx="27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Roboto"/>
              </a:rPr>
              <a:t>Time To Say Good Bye And</a:t>
            </a:r>
            <a:endParaRPr b="0" lang="en-US" sz="16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50" name="Google Shape;190;p12"/>
          <p:cNvSpPr/>
          <p:nvPr/>
        </p:nvSpPr>
        <p:spPr>
          <a:xfrm>
            <a:off x="11406240" y="6064200"/>
            <a:ext cx="144360" cy="142920"/>
          </a:xfrm>
          <a:custGeom>
            <a:avLst/>
            <a:gdLst/>
            <a:ahLst/>
            <a:rect l="l" t="t" r="r" b="b"/>
            <a:pathLst>
              <a:path w="3619" h="3620">
                <a:moveTo>
                  <a:pt x="619" y="1330"/>
                </a:moveTo>
                <a:lnTo>
                  <a:pt x="594" y="1334"/>
                </a:lnTo>
                <a:lnTo>
                  <a:pt x="572" y="1343"/>
                </a:lnTo>
                <a:lnTo>
                  <a:pt x="552" y="1359"/>
                </a:lnTo>
                <a:lnTo>
                  <a:pt x="538" y="1378"/>
                </a:lnTo>
                <a:lnTo>
                  <a:pt x="528" y="1401"/>
                </a:lnTo>
                <a:lnTo>
                  <a:pt x="524" y="1426"/>
                </a:lnTo>
                <a:lnTo>
                  <a:pt x="524" y="3126"/>
                </a:lnTo>
                <a:lnTo>
                  <a:pt x="528" y="3152"/>
                </a:lnTo>
                <a:lnTo>
                  <a:pt x="538" y="3174"/>
                </a:lnTo>
                <a:lnTo>
                  <a:pt x="552" y="3193"/>
                </a:lnTo>
                <a:lnTo>
                  <a:pt x="572" y="3208"/>
                </a:lnTo>
                <a:lnTo>
                  <a:pt x="594" y="3218"/>
                </a:lnTo>
                <a:lnTo>
                  <a:pt x="619" y="3221"/>
                </a:lnTo>
                <a:lnTo>
                  <a:pt x="1025" y="3221"/>
                </a:lnTo>
                <a:lnTo>
                  <a:pt x="1050" y="3218"/>
                </a:lnTo>
                <a:lnTo>
                  <a:pt x="1073" y="3208"/>
                </a:lnTo>
                <a:lnTo>
                  <a:pt x="1093" y="3193"/>
                </a:lnTo>
                <a:lnTo>
                  <a:pt x="1107" y="3174"/>
                </a:lnTo>
                <a:lnTo>
                  <a:pt x="1117" y="3152"/>
                </a:lnTo>
                <a:lnTo>
                  <a:pt x="1120" y="3126"/>
                </a:lnTo>
                <a:lnTo>
                  <a:pt x="1120" y="1426"/>
                </a:lnTo>
                <a:lnTo>
                  <a:pt x="1117" y="1401"/>
                </a:lnTo>
                <a:lnTo>
                  <a:pt x="1107" y="1378"/>
                </a:lnTo>
                <a:lnTo>
                  <a:pt x="1093" y="1359"/>
                </a:lnTo>
                <a:lnTo>
                  <a:pt x="1073" y="1343"/>
                </a:lnTo>
                <a:lnTo>
                  <a:pt x="1050" y="1334"/>
                </a:lnTo>
                <a:lnTo>
                  <a:pt x="1025" y="1330"/>
                </a:lnTo>
                <a:lnTo>
                  <a:pt x="619" y="1330"/>
                </a:lnTo>
                <a:close/>
                <a:moveTo>
                  <a:pt x="2547" y="1302"/>
                </a:moveTo>
                <a:lnTo>
                  <a:pt x="2482" y="1304"/>
                </a:lnTo>
                <a:lnTo>
                  <a:pt x="2422" y="1308"/>
                </a:lnTo>
                <a:lnTo>
                  <a:pt x="2367" y="1317"/>
                </a:lnTo>
                <a:lnTo>
                  <a:pt x="2315" y="1328"/>
                </a:lnTo>
                <a:lnTo>
                  <a:pt x="2269" y="1342"/>
                </a:lnTo>
                <a:lnTo>
                  <a:pt x="2225" y="1359"/>
                </a:lnTo>
                <a:lnTo>
                  <a:pt x="2185" y="1379"/>
                </a:lnTo>
                <a:lnTo>
                  <a:pt x="2149" y="1400"/>
                </a:lnTo>
                <a:lnTo>
                  <a:pt x="2115" y="1423"/>
                </a:lnTo>
                <a:lnTo>
                  <a:pt x="2085" y="1449"/>
                </a:lnTo>
                <a:lnTo>
                  <a:pt x="2057" y="1476"/>
                </a:lnTo>
                <a:lnTo>
                  <a:pt x="2031" y="1504"/>
                </a:lnTo>
                <a:lnTo>
                  <a:pt x="2007" y="1535"/>
                </a:lnTo>
                <a:lnTo>
                  <a:pt x="1985" y="1566"/>
                </a:lnTo>
                <a:lnTo>
                  <a:pt x="1985" y="1418"/>
                </a:lnTo>
                <a:lnTo>
                  <a:pt x="1982" y="1395"/>
                </a:lnTo>
                <a:lnTo>
                  <a:pt x="1973" y="1374"/>
                </a:lnTo>
                <a:lnTo>
                  <a:pt x="1959" y="1356"/>
                </a:lnTo>
                <a:lnTo>
                  <a:pt x="1941" y="1342"/>
                </a:lnTo>
                <a:lnTo>
                  <a:pt x="1920" y="1334"/>
                </a:lnTo>
                <a:lnTo>
                  <a:pt x="1897" y="1330"/>
                </a:lnTo>
                <a:lnTo>
                  <a:pt x="1476" y="1330"/>
                </a:lnTo>
                <a:lnTo>
                  <a:pt x="1453" y="1334"/>
                </a:lnTo>
                <a:lnTo>
                  <a:pt x="1432" y="1342"/>
                </a:lnTo>
                <a:lnTo>
                  <a:pt x="1415" y="1356"/>
                </a:lnTo>
                <a:lnTo>
                  <a:pt x="1400" y="1374"/>
                </a:lnTo>
                <a:lnTo>
                  <a:pt x="1392" y="1395"/>
                </a:lnTo>
                <a:lnTo>
                  <a:pt x="1389" y="1418"/>
                </a:lnTo>
                <a:lnTo>
                  <a:pt x="1389" y="3134"/>
                </a:lnTo>
                <a:lnTo>
                  <a:pt x="1392" y="3157"/>
                </a:lnTo>
                <a:lnTo>
                  <a:pt x="1400" y="3178"/>
                </a:lnTo>
                <a:lnTo>
                  <a:pt x="1415" y="3196"/>
                </a:lnTo>
                <a:lnTo>
                  <a:pt x="1432" y="3209"/>
                </a:lnTo>
                <a:lnTo>
                  <a:pt x="1453" y="3218"/>
                </a:lnTo>
                <a:lnTo>
                  <a:pt x="1476" y="3221"/>
                </a:lnTo>
                <a:lnTo>
                  <a:pt x="1897" y="3221"/>
                </a:lnTo>
                <a:lnTo>
                  <a:pt x="1920" y="3218"/>
                </a:lnTo>
                <a:lnTo>
                  <a:pt x="1941" y="3209"/>
                </a:lnTo>
                <a:lnTo>
                  <a:pt x="1959" y="3196"/>
                </a:lnTo>
                <a:lnTo>
                  <a:pt x="1973" y="3178"/>
                </a:lnTo>
                <a:lnTo>
                  <a:pt x="1982" y="3157"/>
                </a:lnTo>
                <a:lnTo>
                  <a:pt x="1985" y="3134"/>
                </a:lnTo>
                <a:lnTo>
                  <a:pt x="1985" y="2214"/>
                </a:lnTo>
                <a:lnTo>
                  <a:pt x="1988" y="2193"/>
                </a:lnTo>
                <a:lnTo>
                  <a:pt x="1990" y="2170"/>
                </a:lnTo>
                <a:lnTo>
                  <a:pt x="1994" y="2146"/>
                </a:lnTo>
                <a:lnTo>
                  <a:pt x="2000" y="2119"/>
                </a:lnTo>
                <a:lnTo>
                  <a:pt x="2006" y="2093"/>
                </a:lnTo>
                <a:lnTo>
                  <a:pt x="2014" y="2065"/>
                </a:lnTo>
                <a:lnTo>
                  <a:pt x="2023" y="2036"/>
                </a:lnTo>
                <a:lnTo>
                  <a:pt x="2035" y="2009"/>
                </a:lnTo>
                <a:lnTo>
                  <a:pt x="2048" y="1981"/>
                </a:lnTo>
                <a:lnTo>
                  <a:pt x="2064" y="1955"/>
                </a:lnTo>
                <a:lnTo>
                  <a:pt x="2081" y="1930"/>
                </a:lnTo>
                <a:lnTo>
                  <a:pt x="2101" y="1905"/>
                </a:lnTo>
                <a:lnTo>
                  <a:pt x="2123" y="1883"/>
                </a:lnTo>
                <a:lnTo>
                  <a:pt x="2149" y="1865"/>
                </a:lnTo>
                <a:lnTo>
                  <a:pt x="2176" y="1847"/>
                </a:lnTo>
                <a:lnTo>
                  <a:pt x="2207" y="1834"/>
                </a:lnTo>
                <a:lnTo>
                  <a:pt x="2241" y="1824"/>
                </a:lnTo>
                <a:lnTo>
                  <a:pt x="2279" y="1817"/>
                </a:lnTo>
                <a:lnTo>
                  <a:pt x="2318" y="1815"/>
                </a:lnTo>
                <a:lnTo>
                  <a:pt x="2360" y="1817"/>
                </a:lnTo>
                <a:lnTo>
                  <a:pt x="2398" y="1823"/>
                </a:lnTo>
                <a:lnTo>
                  <a:pt x="2432" y="1833"/>
                </a:lnTo>
                <a:lnTo>
                  <a:pt x="2461" y="1845"/>
                </a:lnTo>
                <a:lnTo>
                  <a:pt x="2489" y="1861"/>
                </a:lnTo>
                <a:lnTo>
                  <a:pt x="2513" y="1880"/>
                </a:lnTo>
                <a:lnTo>
                  <a:pt x="2534" y="1901"/>
                </a:lnTo>
                <a:lnTo>
                  <a:pt x="2553" y="1923"/>
                </a:lnTo>
                <a:lnTo>
                  <a:pt x="2569" y="1948"/>
                </a:lnTo>
                <a:lnTo>
                  <a:pt x="2583" y="1975"/>
                </a:lnTo>
                <a:lnTo>
                  <a:pt x="2594" y="2002"/>
                </a:lnTo>
                <a:lnTo>
                  <a:pt x="2604" y="2031"/>
                </a:lnTo>
                <a:lnTo>
                  <a:pt x="2611" y="2060"/>
                </a:lnTo>
                <a:lnTo>
                  <a:pt x="2618" y="2089"/>
                </a:lnTo>
                <a:lnTo>
                  <a:pt x="2622" y="2119"/>
                </a:lnTo>
                <a:lnTo>
                  <a:pt x="2626" y="2148"/>
                </a:lnTo>
                <a:lnTo>
                  <a:pt x="2628" y="2176"/>
                </a:lnTo>
                <a:lnTo>
                  <a:pt x="2630" y="2204"/>
                </a:lnTo>
                <a:lnTo>
                  <a:pt x="2630" y="2231"/>
                </a:lnTo>
                <a:lnTo>
                  <a:pt x="2630" y="2256"/>
                </a:lnTo>
                <a:lnTo>
                  <a:pt x="2630" y="2280"/>
                </a:lnTo>
                <a:lnTo>
                  <a:pt x="2630" y="2301"/>
                </a:lnTo>
                <a:lnTo>
                  <a:pt x="2630" y="2320"/>
                </a:lnTo>
                <a:lnTo>
                  <a:pt x="2630" y="2336"/>
                </a:lnTo>
                <a:lnTo>
                  <a:pt x="2630" y="3134"/>
                </a:lnTo>
                <a:lnTo>
                  <a:pt x="2632" y="3157"/>
                </a:lnTo>
                <a:lnTo>
                  <a:pt x="2641" y="3178"/>
                </a:lnTo>
                <a:lnTo>
                  <a:pt x="2655" y="3196"/>
                </a:lnTo>
                <a:lnTo>
                  <a:pt x="2673" y="3209"/>
                </a:lnTo>
                <a:lnTo>
                  <a:pt x="2694" y="3218"/>
                </a:lnTo>
                <a:lnTo>
                  <a:pt x="2717" y="3221"/>
                </a:lnTo>
                <a:lnTo>
                  <a:pt x="3152" y="3221"/>
                </a:lnTo>
                <a:lnTo>
                  <a:pt x="3175" y="3218"/>
                </a:lnTo>
                <a:lnTo>
                  <a:pt x="3196" y="3209"/>
                </a:lnTo>
                <a:lnTo>
                  <a:pt x="3214" y="3196"/>
                </a:lnTo>
                <a:lnTo>
                  <a:pt x="3228" y="3178"/>
                </a:lnTo>
                <a:lnTo>
                  <a:pt x="3237" y="3157"/>
                </a:lnTo>
                <a:lnTo>
                  <a:pt x="3240" y="3134"/>
                </a:lnTo>
                <a:lnTo>
                  <a:pt x="3240" y="2311"/>
                </a:lnTo>
                <a:lnTo>
                  <a:pt x="3240" y="2276"/>
                </a:lnTo>
                <a:lnTo>
                  <a:pt x="3239" y="2238"/>
                </a:lnTo>
                <a:lnTo>
                  <a:pt x="3239" y="2200"/>
                </a:lnTo>
                <a:lnTo>
                  <a:pt x="3238" y="2160"/>
                </a:lnTo>
                <a:lnTo>
                  <a:pt x="3237" y="2119"/>
                </a:lnTo>
                <a:lnTo>
                  <a:pt x="3235" y="2077"/>
                </a:lnTo>
                <a:lnTo>
                  <a:pt x="3233" y="2034"/>
                </a:lnTo>
                <a:lnTo>
                  <a:pt x="3228" y="1991"/>
                </a:lnTo>
                <a:lnTo>
                  <a:pt x="3224" y="1948"/>
                </a:lnTo>
                <a:lnTo>
                  <a:pt x="3217" y="1904"/>
                </a:lnTo>
                <a:lnTo>
                  <a:pt x="3210" y="1861"/>
                </a:lnTo>
                <a:lnTo>
                  <a:pt x="3201" y="1818"/>
                </a:lnTo>
                <a:lnTo>
                  <a:pt x="3190" y="1775"/>
                </a:lnTo>
                <a:lnTo>
                  <a:pt x="3178" y="1733"/>
                </a:lnTo>
                <a:lnTo>
                  <a:pt x="3163" y="1693"/>
                </a:lnTo>
                <a:lnTo>
                  <a:pt x="3146" y="1652"/>
                </a:lnTo>
                <a:lnTo>
                  <a:pt x="3127" y="1613"/>
                </a:lnTo>
                <a:lnTo>
                  <a:pt x="3106" y="1576"/>
                </a:lnTo>
                <a:lnTo>
                  <a:pt x="3082" y="1540"/>
                </a:lnTo>
                <a:lnTo>
                  <a:pt x="3055" y="1505"/>
                </a:lnTo>
                <a:lnTo>
                  <a:pt x="3027" y="1473"/>
                </a:lnTo>
                <a:lnTo>
                  <a:pt x="2994" y="1444"/>
                </a:lnTo>
                <a:lnTo>
                  <a:pt x="2958" y="1416"/>
                </a:lnTo>
                <a:lnTo>
                  <a:pt x="2920" y="1391"/>
                </a:lnTo>
                <a:lnTo>
                  <a:pt x="2878" y="1368"/>
                </a:lnTo>
                <a:lnTo>
                  <a:pt x="2833" y="1349"/>
                </a:lnTo>
                <a:lnTo>
                  <a:pt x="2783" y="1332"/>
                </a:lnTo>
                <a:lnTo>
                  <a:pt x="2730" y="1319"/>
                </a:lnTo>
                <a:lnTo>
                  <a:pt x="2673" y="1309"/>
                </a:lnTo>
                <a:lnTo>
                  <a:pt x="2612" y="1304"/>
                </a:lnTo>
                <a:lnTo>
                  <a:pt x="2547" y="1302"/>
                </a:lnTo>
                <a:close/>
                <a:moveTo>
                  <a:pt x="822" y="399"/>
                </a:moveTo>
                <a:lnTo>
                  <a:pt x="773" y="402"/>
                </a:lnTo>
                <a:lnTo>
                  <a:pt x="727" y="411"/>
                </a:lnTo>
                <a:lnTo>
                  <a:pt x="683" y="426"/>
                </a:lnTo>
                <a:lnTo>
                  <a:pt x="641" y="444"/>
                </a:lnTo>
                <a:lnTo>
                  <a:pt x="603" y="469"/>
                </a:lnTo>
                <a:lnTo>
                  <a:pt x="566" y="497"/>
                </a:lnTo>
                <a:lnTo>
                  <a:pt x="534" y="529"/>
                </a:lnTo>
                <a:lnTo>
                  <a:pt x="506" y="564"/>
                </a:lnTo>
                <a:lnTo>
                  <a:pt x="483" y="604"/>
                </a:lnTo>
                <a:lnTo>
                  <a:pt x="463" y="646"/>
                </a:lnTo>
                <a:lnTo>
                  <a:pt x="448" y="690"/>
                </a:lnTo>
                <a:lnTo>
                  <a:pt x="440" y="736"/>
                </a:lnTo>
                <a:lnTo>
                  <a:pt x="437" y="785"/>
                </a:lnTo>
                <a:lnTo>
                  <a:pt x="440" y="833"/>
                </a:lnTo>
                <a:lnTo>
                  <a:pt x="448" y="880"/>
                </a:lnTo>
                <a:lnTo>
                  <a:pt x="463" y="924"/>
                </a:lnTo>
                <a:lnTo>
                  <a:pt x="483" y="965"/>
                </a:lnTo>
                <a:lnTo>
                  <a:pt x="506" y="1005"/>
                </a:lnTo>
                <a:lnTo>
                  <a:pt x="534" y="1040"/>
                </a:lnTo>
                <a:lnTo>
                  <a:pt x="566" y="1072"/>
                </a:lnTo>
                <a:lnTo>
                  <a:pt x="603" y="1101"/>
                </a:lnTo>
                <a:lnTo>
                  <a:pt x="641" y="1125"/>
                </a:lnTo>
                <a:lnTo>
                  <a:pt x="683" y="1144"/>
                </a:lnTo>
                <a:lnTo>
                  <a:pt x="727" y="1158"/>
                </a:lnTo>
                <a:lnTo>
                  <a:pt x="773" y="1167"/>
                </a:lnTo>
                <a:lnTo>
                  <a:pt x="822" y="1170"/>
                </a:lnTo>
                <a:lnTo>
                  <a:pt x="870" y="1167"/>
                </a:lnTo>
                <a:lnTo>
                  <a:pt x="917" y="1158"/>
                </a:lnTo>
                <a:lnTo>
                  <a:pt x="962" y="1144"/>
                </a:lnTo>
                <a:lnTo>
                  <a:pt x="1004" y="1125"/>
                </a:lnTo>
                <a:lnTo>
                  <a:pt x="1042" y="1101"/>
                </a:lnTo>
                <a:lnTo>
                  <a:pt x="1079" y="1072"/>
                </a:lnTo>
                <a:lnTo>
                  <a:pt x="1111" y="1040"/>
                </a:lnTo>
                <a:lnTo>
                  <a:pt x="1138" y="1005"/>
                </a:lnTo>
                <a:lnTo>
                  <a:pt x="1162" y="965"/>
                </a:lnTo>
                <a:lnTo>
                  <a:pt x="1182" y="924"/>
                </a:lnTo>
                <a:lnTo>
                  <a:pt x="1195" y="880"/>
                </a:lnTo>
                <a:lnTo>
                  <a:pt x="1204" y="833"/>
                </a:lnTo>
                <a:lnTo>
                  <a:pt x="1208" y="785"/>
                </a:lnTo>
                <a:lnTo>
                  <a:pt x="1204" y="736"/>
                </a:lnTo>
                <a:lnTo>
                  <a:pt x="1195" y="690"/>
                </a:lnTo>
                <a:lnTo>
                  <a:pt x="1182" y="646"/>
                </a:lnTo>
                <a:lnTo>
                  <a:pt x="1162" y="604"/>
                </a:lnTo>
                <a:lnTo>
                  <a:pt x="1138" y="564"/>
                </a:lnTo>
                <a:lnTo>
                  <a:pt x="1111" y="529"/>
                </a:lnTo>
                <a:lnTo>
                  <a:pt x="1079" y="497"/>
                </a:lnTo>
                <a:lnTo>
                  <a:pt x="1042" y="469"/>
                </a:lnTo>
                <a:lnTo>
                  <a:pt x="1004" y="444"/>
                </a:lnTo>
                <a:lnTo>
                  <a:pt x="962" y="426"/>
                </a:lnTo>
                <a:lnTo>
                  <a:pt x="917" y="411"/>
                </a:lnTo>
                <a:lnTo>
                  <a:pt x="870" y="402"/>
                </a:lnTo>
                <a:lnTo>
                  <a:pt x="822" y="399"/>
                </a:lnTo>
                <a:close/>
                <a:moveTo>
                  <a:pt x="328" y="0"/>
                </a:moveTo>
                <a:lnTo>
                  <a:pt x="3292" y="0"/>
                </a:lnTo>
                <a:lnTo>
                  <a:pt x="3337" y="4"/>
                </a:lnTo>
                <a:lnTo>
                  <a:pt x="3379" y="12"/>
                </a:lnTo>
                <a:lnTo>
                  <a:pt x="3420" y="27"/>
                </a:lnTo>
                <a:lnTo>
                  <a:pt x="3458" y="45"/>
                </a:lnTo>
                <a:lnTo>
                  <a:pt x="3493" y="69"/>
                </a:lnTo>
                <a:lnTo>
                  <a:pt x="3524" y="96"/>
                </a:lnTo>
                <a:lnTo>
                  <a:pt x="3551" y="128"/>
                </a:lnTo>
                <a:lnTo>
                  <a:pt x="3575" y="162"/>
                </a:lnTo>
                <a:lnTo>
                  <a:pt x="3594" y="201"/>
                </a:lnTo>
                <a:lnTo>
                  <a:pt x="3608" y="241"/>
                </a:lnTo>
                <a:lnTo>
                  <a:pt x="3617" y="283"/>
                </a:lnTo>
                <a:lnTo>
                  <a:pt x="3619" y="328"/>
                </a:lnTo>
                <a:lnTo>
                  <a:pt x="3619" y="3293"/>
                </a:lnTo>
                <a:lnTo>
                  <a:pt x="3617" y="3337"/>
                </a:lnTo>
                <a:lnTo>
                  <a:pt x="3608" y="3380"/>
                </a:lnTo>
                <a:lnTo>
                  <a:pt x="3594" y="3420"/>
                </a:lnTo>
                <a:lnTo>
                  <a:pt x="3575" y="3458"/>
                </a:lnTo>
                <a:lnTo>
                  <a:pt x="3551" y="3493"/>
                </a:lnTo>
                <a:lnTo>
                  <a:pt x="3524" y="3524"/>
                </a:lnTo>
                <a:lnTo>
                  <a:pt x="3493" y="3551"/>
                </a:lnTo>
                <a:lnTo>
                  <a:pt x="3458" y="3576"/>
                </a:lnTo>
                <a:lnTo>
                  <a:pt x="3420" y="3594"/>
                </a:lnTo>
                <a:lnTo>
                  <a:pt x="3379" y="3609"/>
                </a:lnTo>
                <a:lnTo>
                  <a:pt x="3337" y="3618"/>
                </a:lnTo>
                <a:lnTo>
                  <a:pt x="3292" y="3620"/>
                </a:lnTo>
                <a:lnTo>
                  <a:pt x="328" y="3620"/>
                </a:lnTo>
                <a:lnTo>
                  <a:pt x="283" y="3618"/>
                </a:lnTo>
                <a:lnTo>
                  <a:pt x="241" y="3609"/>
                </a:lnTo>
                <a:lnTo>
                  <a:pt x="200" y="3594"/>
                </a:lnTo>
                <a:lnTo>
                  <a:pt x="163" y="3576"/>
                </a:lnTo>
                <a:lnTo>
                  <a:pt x="128" y="3551"/>
                </a:lnTo>
                <a:lnTo>
                  <a:pt x="96" y="3524"/>
                </a:lnTo>
                <a:lnTo>
                  <a:pt x="68" y="3493"/>
                </a:lnTo>
                <a:lnTo>
                  <a:pt x="45" y="3458"/>
                </a:lnTo>
                <a:lnTo>
                  <a:pt x="26" y="3420"/>
                </a:lnTo>
                <a:lnTo>
                  <a:pt x="12" y="3380"/>
                </a:lnTo>
                <a:lnTo>
                  <a:pt x="3" y="3337"/>
                </a:lnTo>
                <a:lnTo>
                  <a:pt x="0" y="3293"/>
                </a:lnTo>
                <a:lnTo>
                  <a:pt x="0" y="328"/>
                </a:lnTo>
                <a:lnTo>
                  <a:pt x="3" y="283"/>
                </a:lnTo>
                <a:lnTo>
                  <a:pt x="12" y="241"/>
                </a:lnTo>
                <a:lnTo>
                  <a:pt x="26" y="201"/>
                </a:lnTo>
                <a:lnTo>
                  <a:pt x="45" y="162"/>
                </a:lnTo>
                <a:lnTo>
                  <a:pt x="68" y="128"/>
                </a:lnTo>
                <a:lnTo>
                  <a:pt x="96" y="96"/>
                </a:lnTo>
                <a:lnTo>
                  <a:pt x="128" y="69"/>
                </a:lnTo>
                <a:lnTo>
                  <a:pt x="163" y="45"/>
                </a:lnTo>
                <a:lnTo>
                  <a:pt x="200" y="27"/>
                </a:lnTo>
                <a:lnTo>
                  <a:pt x="241" y="12"/>
                </a:lnTo>
                <a:lnTo>
                  <a:pt x="283" y="4"/>
                </a:lnTo>
                <a:lnTo>
                  <a:pt x="3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51" name="Google Shape;191;p12"/>
          <p:cNvSpPr/>
          <p:nvPr/>
        </p:nvSpPr>
        <p:spPr>
          <a:xfrm>
            <a:off x="10723680" y="6056280"/>
            <a:ext cx="150840" cy="152280"/>
          </a:xfrm>
          <a:custGeom>
            <a:avLst/>
            <a:gdLst/>
            <a:ahLst/>
            <a:rect l="l" t="t" r="r" b="b"/>
            <a:pathLst>
              <a:path w="3474" h="3518">
                <a:moveTo>
                  <a:pt x="2112" y="957"/>
                </a:moveTo>
                <a:lnTo>
                  <a:pt x="2061" y="961"/>
                </a:lnTo>
                <a:lnTo>
                  <a:pt x="2014" y="970"/>
                </a:lnTo>
                <a:lnTo>
                  <a:pt x="1968" y="985"/>
                </a:lnTo>
                <a:lnTo>
                  <a:pt x="1924" y="1005"/>
                </a:lnTo>
                <a:lnTo>
                  <a:pt x="1883" y="1030"/>
                </a:lnTo>
                <a:lnTo>
                  <a:pt x="1846" y="1060"/>
                </a:lnTo>
                <a:lnTo>
                  <a:pt x="1814" y="1094"/>
                </a:lnTo>
                <a:lnTo>
                  <a:pt x="1784" y="1131"/>
                </a:lnTo>
                <a:lnTo>
                  <a:pt x="1759" y="1172"/>
                </a:lnTo>
                <a:lnTo>
                  <a:pt x="1739" y="1216"/>
                </a:lnTo>
                <a:lnTo>
                  <a:pt x="1724" y="1263"/>
                </a:lnTo>
                <a:lnTo>
                  <a:pt x="1716" y="1311"/>
                </a:lnTo>
                <a:lnTo>
                  <a:pt x="1713" y="1362"/>
                </a:lnTo>
                <a:lnTo>
                  <a:pt x="1715" y="1409"/>
                </a:lnTo>
                <a:lnTo>
                  <a:pt x="1722" y="1454"/>
                </a:lnTo>
                <a:lnTo>
                  <a:pt x="1640" y="1448"/>
                </a:lnTo>
                <a:lnTo>
                  <a:pt x="1559" y="1435"/>
                </a:lnTo>
                <a:lnTo>
                  <a:pt x="1481" y="1416"/>
                </a:lnTo>
                <a:lnTo>
                  <a:pt x="1405" y="1392"/>
                </a:lnTo>
                <a:lnTo>
                  <a:pt x="1331" y="1363"/>
                </a:lnTo>
                <a:lnTo>
                  <a:pt x="1259" y="1329"/>
                </a:lnTo>
                <a:lnTo>
                  <a:pt x="1191" y="1289"/>
                </a:lnTo>
                <a:lnTo>
                  <a:pt x="1126" y="1247"/>
                </a:lnTo>
                <a:lnTo>
                  <a:pt x="1064" y="1198"/>
                </a:lnTo>
                <a:lnTo>
                  <a:pt x="1005" y="1146"/>
                </a:lnTo>
                <a:lnTo>
                  <a:pt x="950" y="1091"/>
                </a:lnTo>
                <a:lnTo>
                  <a:pt x="899" y="1032"/>
                </a:lnTo>
                <a:lnTo>
                  <a:pt x="880" y="1068"/>
                </a:lnTo>
                <a:lnTo>
                  <a:pt x="865" y="1108"/>
                </a:lnTo>
                <a:lnTo>
                  <a:pt x="854" y="1149"/>
                </a:lnTo>
                <a:lnTo>
                  <a:pt x="846" y="1192"/>
                </a:lnTo>
                <a:lnTo>
                  <a:pt x="844" y="1236"/>
                </a:lnTo>
                <a:lnTo>
                  <a:pt x="848" y="1287"/>
                </a:lnTo>
                <a:lnTo>
                  <a:pt x="857" y="1337"/>
                </a:lnTo>
                <a:lnTo>
                  <a:pt x="873" y="1384"/>
                </a:lnTo>
                <a:lnTo>
                  <a:pt x="893" y="1429"/>
                </a:lnTo>
                <a:lnTo>
                  <a:pt x="919" y="1471"/>
                </a:lnTo>
                <a:lnTo>
                  <a:pt x="950" y="1508"/>
                </a:lnTo>
                <a:lnTo>
                  <a:pt x="984" y="1542"/>
                </a:lnTo>
                <a:lnTo>
                  <a:pt x="1022" y="1572"/>
                </a:lnTo>
                <a:lnTo>
                  <a:pt x="974" y="1568"/>
                </a:lnTo>
                <a:lnTo>
                  <a:pt x="928" y="1557"/>
                </a:lnTo>
                <a:lnTo>
                  <a:pt x="883" y="1541"/>
                </a:lnTo>
                <a:lnTo>
                  <a:pt x="841" y="1522"/>
                </a:lnTo>
                <a:lnTo>
                  <a:pt x="841" y="1524"/>
                </a:lnTo>
                <a:lnTo>
                  <a:pt x="841" y="1527"/>
                </a:lnTo>
                <a:lnTo>
                  <a:pt x="844" y="1579"/>
                </a:lnTo>
                <a:lnTo>
                  <a:pt x="854" y="1629"/>
                </a:lnTo>
                <a:lnTo>
                  <a:pt x="870" y="1678"/>
                </a:lnTo>
                <a:lnTo>
                  <a:pt x="891" y="1723"/>
                </a:lnTo>
                <a:lnTo>
                  <a:pt x="918" y="1765"/>
                </a:lnTo>
                <a:lnTo>
                  <a:pt x="949" y="1803"/>
                </a:lnTo>
                <a:lnTo>
                  <a:pt x="984" y="1837"/>
                </a:lnTo>
                <a:lnTo>
                  <a:pt x="1025" y="1867"/>
                </a:lnTo>
                <a:lnTo>
                  <a:pt x="1067" y="1891"/>
                </a:lnTo>
                <a:lnTo>
                  <a:pt x="1113" y="1910"/>
                </a:lnTo>
                <a:lnTo>
                  <a:pt x="1162" y="1923"/>
                </a:lnTo>
                <a:lnTo>
                  <a:pt x="1128" y="1931"/>
                </a:lnTo>
                <a:lnTo>
                  <a:pt x="1092" y="1936"/>
                </a:lnTo>
                <a:lnTo>
                  <a:pt x="1056" y="1937"/>
                </a:lnTo>
                <a:lnTo>
                  <a:pt x="1018" y="1935"/>
                </a:lnTo>
                <a:lnTo>
                  <a:pt x="981" y="1930"/>
                </a:lnTo>
                <a:lnTo>
                  <a:pt x="1000" y="1977"/>
                </a:lnTo>
                <a:lnTo>
                  <a:pt x="1024" y="2021"/>
                </a:lnTo>
                <a:lnTo>
                  <a:pt x="1052" y="2062"/>
                </a:lnTo>
                <a:lnTo>
                  <a:pt x="1084" y="2098"/>
                </a:lnTo>
                <a:lnTo>
                  <a:pt x="1121" y="2130"/>
                </a:lnTo>
                <a:lnTo>
                  <a:pt x="1163" y="2157"/>
                </a:lnTo>
                <a:lnTo>
                  <a:pt x="1206" y="2179"/>
                </a:lnTo>
                <a:lnTo>
                  <a:pt x="1254" y="2196"/>
                </a:lnTo>
                <a:lnTo>
                  <a:pt x="1303" y="2207"/>
                </a:lnTo>
                <a:lnTo>
                  <a:pt x="1355" y="2211"/>
                </a:lnTo>
                <a:lnTo>
                  <a:pt x="1302" y="2250"/>
                </a:lnTo>
                <a:lnTo>
                  <a:pt x="1246" y="2284"/>
                </a:lnTo>
                <a:lnTo>
                  <a:pt x="1187" y="2314"/>
                </a:lnTo>
                <a:lnTo>
                  <a:pt x="1126" y="2339"/>
                </a:lnTo>
                <a:lnTo>
                  <a:pt x="1062" y="2359"/>
                </a:lnTo>
                <a:lnTo>
                  <a:pt x="995" y="2373"/>
                </a:lnTo>
                <a:lnTo>
                  <a:pt x="928" y="2382"/>
                </a:lnTo>
                <a:lnTo>
                  <a:pt x="858" y="2385"/>
                </a:lnTo>
                <a:lnTo>
                  <a:pt x="811" y="2383"/>
                </a:lnTo>
                <a:lnTo>
                  <a:pt x="763" y="2378"/>
                </a:lnTo>
                <a:lnTo>
                  <a:pt x="830" y="2419"/>
                </a:lnTo>
                <a:lnTo>
                  <a:pt x="902" y="2455"/>
                </a:lnTo>
                <a:lnTo>
                  <a:pt x="975" y="2487"/>
                </a:lnTo>
                <a:lnTo>
                  <a:pt x="1051" y="2513"/>
                </a:lnTo>
                <a:lnTo>
                  <a:pt x="1129" y="2534"/>
                </a:lnTo>
                <a:lnTo>
                  <a:pt x="1209" y="2548"/>
                </a:lnTo>
                <a:lnTo>
                  <a:pt x="1292" y="2558"/>
                </a:lnTo>
                <a:lnTo>
                  <a:pt x="1376" y="2561"/>
                </a:lnTo>
                <a:lnTo>
                  <a:pt x="1459" y="2558"/>
                </a:lnTo>
                <a:lnTo>
                  <a:pt x="1540" y="2550"/>
                </a:lnTo>
                <a:lnTo>
                  <a:pt x="1617" y="2537"/>
                </a:lnTo>
                <a:lnTo>
                  <a:pt x="1691" y="2519"/>
                </a:lnTo>
                <a:lnTo>
                  <a:pt x="1762" y="2497"/>
                </a:lnTo>
                <a:lnTo>
                  <a:pt x="1831" y="2471"/>
                </a:lnTo>
                <a:lnTo>
                  <a:pt x="1896" y="2440"/>
                </a:lnTo>
                <a:lnTo>
                  <a:pt x="1958" y="2406"/>
                </a:lnTo>
                <a:lnTo>
                  <a:pt x="2017" y="2367"/>
                </a:lnTo>
                <a:lnTo>
                  <a:pt x="2072" y="2327"/>
                </a:lnTo>
                <a:lnTo>
                  <a:pt x="2125" y="2283"/>
                </a:lnTo>
                <a:lnTo>
                  <a:pt x="2174" y="2235"/>
                </a:lnTo>
                <a:lnTo>
                  <a:pt x="2220" y="2186"/>
                </a:lnTo>
                <a:lnTo>
                  <a:pt x="2263" y="2133"/>
                </a:lnTo>
                <a:lnTo>
                  <a:pt x="2303" y="2079"/>
                </a:lnTo>
                <a:lnTo>
                  <a:pt x="2338" y="2023"/>
                </a:lnTo>
                <a:lnTo>
                  <a:pt x="2372" y="1965"/>
                </a:lnTo>
                <a:lnTo>
                  <a:pt x="2401" y="1905"/>
                </a:lnTo>
                <a:lnTo>
                  <a:pt x="2428" y="1845"/>
                </a:lnTo>
                <a:lnTo>
                  <a:pt x="2450" y="1784"/>
                </a:lnTo>
                <a:lnTo>
                  <a:pt x="2469" y="1722"/>
                </a:lnTo>
                <a:lnTo>
                  <a:pt x="2485" y="1659"/>
                </a:lnTo>
                <a:lnTo>
                  <a:pt x="2497" y="1596"/>
                </a:lnTo>
                <a:lnTo>
                  <a:pt x="2506" y="1534"/>
                </a:lnTo>
                <a:lnTo>
                  <a:pt x="2511" y="1471"/>
                </a:lnTo>
                <a:lnTo>
                  <a:pt x="2513" y="1409"/>
                </a:lnTo>
                <a:lnTo>
                  <a:pt x="2512" y="1357"/>
                </a:lnTo>
                <a:lnTo>
                  <a:pt x="2558" y="1321"/>
                </a:lnTo>
                <a:lnTo>
                  <a:pt x="2600" y="1282"/>
                </a:lnTo>
                <a:lnTo>
                  <a:pt x="2641" y="1240"/>
                </a:lnTo>
                <a:lnTo>
                  <a:pt x="2677" y="1195"/>
                </a:lnTo>
                <a:lnTo>
                  <a:pt x="2711" y="1148"/>
                </a:lnTo>
                <a:lnTo>
                  <a:pt x="2657" y="1170"/>
                </a:lnTo>
                <a:lnTo>
                  <a:pt x="2600" y="1188"/>
                </a:lnTo>
                <a:lnTo>
                  <a:pt x="2542" y="1201"/>
                </a:lnTo>
                <a:lnTo>
                  <a:pt x="2482" y="1211"/>
                </a:lnTo>
                <a:lnTo>
                  <a:pt x="2522" y="1184"/>
                </a:lnTo>
                <a:lnTo>
                  <a:pt x="2558" y="1152"/>
                </a:lnTo>
                <a:lnTo>
                  <a:pt x="2589" y="1116"/>
                </a:lnTo>
                <a:lnTo>
                  <a:pt x="2618" y="1076"/>
                </a:lnTo>
                <a:lnTo>
                  <a:pt x="2641" y="1033"/>
                </a:lnTo>
                <a:lnTo>
                  <a:pt x="2658" y="987"/>
                </a:lnTo>
                <a:lnTo>
                  <a:pt x="2598" y="1020"/>
                </a:lnTo>
                <a:lnTo>
                  <a:pt x="2536" y="1046"/>
                </a:lnTo>
                <a:lnTo>
                  <a:pt x="2471" y="1068"/>
                </a:lnTo>
                <a:lnTo>
                  <a:pt x="2404" y="1085"/>
                </a:lnTo>
                <a:lnTo>
                  <a:pt x="2371" y="1053"/>
                </a:lnTo>
                <a:lnTo>
                  <a:pt x="2334" y="1025"/>
                </a:lnTo>
                <a:lnTo>
                  <a:pt x="2295" y="1002"/>
                </a:lnTo>
                <a:lnTo>
                  <a:pt x="2253" y="984"/>
                </a:lnTo>
                <a:lnTo>
                  <a:pt x="2207" y="969"/>
                </a:lnTo>
                <a:lnTo>
                  <a:pt x="2160" y="961"/>
                </a:lnTo>
                <a:lnTo>
                  <a:pt x="2112" y="957"/>
                </a:lnTo>
                <a:close/>
                <a:moveTo>
                  <a:pt x="1738" y="0"/>
                </a:moveTo>
                <a:lnTo>
                  <a:pt x="1847" y="5"/>
                </a:lnTo>
                <a:lnTo>
                  <a:pt x="1955" y="15"/>
                </a:lnTo>
                <a:lnTo>
                  <a:pt x="2060" y="31"/>
                </a:lnTo>
                <a:lnTo>
                  <a:pt x="2165" y="54"/>
                </a:lnTo>
                <a:lnTo>
                  <a:pt x="2266" y="84"/>
                </a:lnTo>
                <a:lnTo>
                  <a:pt x="2365" y="119"/>
                </a:lnTo>
                <a:lnTo>
                  <a:pt x="2460" y="161"/>
                </a:lnTo>
                <a:lnTo>
                  <a:pt x="2554" y="207"/>
                </a:lnTo>
                <a:lnTo>
                  <a:pt x="2643" y="259"/>
                </a:lnTo>
                <a:lnTo>
                  <a:pt x="2729" y="316"/>
                </a:lnTo>
                <a:lnTo>
                  <a:pt x="2811" y="379"/>
                </a:lnTo>
                <a:lnTo>
                  <a:pt x="2890" y="445"/>
                </a:lnTo>
                <a:lnTo>
                  <a:pt x="2965" y="516"/>
                </a:lnTo>
                <a:lnTo>
                  <a:pt x="3035" y="592"/>
                </a:lnTo>
                <a:lnTo>
                  <a:pt x="3101" y="671"/>
                </a:lnTo>
                <a:lnTo>
                  <a:pt x="3163" y="755"/>
                </a:lnTo>
                <a:lnTo>
                  <a:pt x="3220" y="843"/>
                </a:lnTo>
                <a:lnTo>
                  <a:pt x="3271" y="933"/>
                </a:lnTo>
                <a:lnTo>
                  <a:pt x="3316" y="1028"/>
                </a:lnTo>
                <a:lnTo>
                  <a:pt x="3358" y="1124"/>
                </a:lnTo>
                <a:lnTo>
                  <a:pt x="3393" y="1225"/>
                </a:lnTo>
                <a:lnTo>
                  <a:pt x="3422" y="1327"/>
                </a:lnTo>
                <a:lnTo>
                  <a:pt x="3445" y="1431"/>
                </a:lnTo>
                <a:lnTo>
                  <a:pt x="3461" y="1539"/>
                </a:lnTo>
                <a:lnTo>
                  <a:pt x="3471" y="1648"/>
                </a:lnTo>
                <a:lnTo>
                  <a:pt x="3474" y="1759"/>
                </a:lnTo>
                <a:lnTo>
                  <a:pt x="3471" y="1870"/>
                </a:lnTo>
                <a:lnTo>
                  <a:pt x="3461" y="1979"/>
                </a:lnTo>
                <a:lnTo>
                  <a:pt x="3445" y="2087"/>
                </a:lnTo>
                <a:lnTo>
                  <a:pt x="3422" y="2191"/>
                </a:lnTo>
                <a:lnTo>
                  <a:pt x="3393" y="2294"/>
                </a:lnTo>
                <a:lnTo>
                  <a:pt x="3358" y="2394"/>
                </a:lnTo>
                <a:lnTo>
                  <a:pt x="3316" y="2491"/>
                </a:lnTo>
                <a:lnTo>
                  <a:pt x="3271" y="2585"/>
                </a:lnTo>
                <a:lnTo>
                  <a:pt x="3220" y="2675"/>
                </a:lnTo>
                <a:lnTo>
                  <a:pt x="3163" y="2763"/>
                </a:lnTo>
                <a:lnTo>
                  <a:pt x="3101" y="2847"/>
                </a:lnTo>
                <a:lnTo>
                  <a:pt x="3035" y="2926"/>
                </a:lnTo>
                <a:lnTo>
                  <a:pt x="2965" y="3002"/>
                </a:lnTo>
                <a:lnTo>
                  <a:pt x="2890" y="3074"/>
                </a:lnTo>
                <a:lnTo>
                  <a:pt x="2811" y="3140"/>
                </a:lnTo>
                <a:lnTo>
                  <a:pt x="2729" y="3202"/>
                </a:lnTo>
                <a:lnTo>
                  <a:pt x="2643" y="3260"/>
                </a:lnTo>
                <a:lnTo>
                  <a:pt x="2554" y="3311"/>
                </a:lnTo>
                <a:lnTo>
                  <a:pt x="2460" y="3357"/>
                </a:lnTo>
                <a:lnTo>
                  <a:pt x="2365" y="3399"/>
                </a:lnTo>
                <a:lnTo>
                  <a:pt x="2266" y="3434"/>
                </a:lnTo>
                <a:lnTo>
                  <a:pt x="2165" y="3464"/>
                </a:lnTo>
                <a:lnTo>
                  <a:pt x="2060" y="3487"/>
                </a:lnTo>
                <a:lnTo>
                  <a:pt x="1955" y="3504"/>
                </a:lnTo>
                <a:lnTo>
                  <a:pt x="1847" y="3514"/>
                </a:lnTo>
                <a:lnTo>
                  <a:pt x="1738" y="3518"/>
                </a:lnTo>
                <a:lnTo>
                  <a:pt x="1628" y="3514"/>
                </a:lnTo>
                <a:lnTo>
                  <a:pt x="1519" y="3504"/>
                </a:lnTo>
                <a:lnTo>
                  <a:pt x="1414" y="3487"/>
                </a:lnTo>
                <a:lnTo>
                  <a:pt x="1310" y="3464"/>
                </a:lnTo>
                <a:lnTo>
                  <a:pt x="1208" y="3434"/>
                </a:lnTo>
                <a:lnTo>
                  <a:pt x="1110" y="3399"/>
                </a:lnTo>
                <a:lnTo>
                  <a:pt x="1014" y="3357"/>
                </a:lnTo>
                <a:lnTo>
                  <a:pt x="921" y="3311"/>
                </a:lnTo>
                <a:lnTo>
                  <a:pt x="831" y="3260"/>
                </a:lnTo>
                <a:lnTo>
                  <a:pt x="745" y="3202"/>
                </a:lnTo>
                <a:lnTo>
                  <a:pt x="663" y="3140"/>
                </a:lnTo>
                <a:lnTo>
                  <a:pt x="585" y="3074"/>
                </a:lnTo>
                <a:lnTo>
                  <a:pt x="510" y="3002"/>
                </a:lnTo>
                <a:lnTo>
                  <a:pt x="439" y="2926"/>
                </a:lnTo>
                <a:lnTo>
                  <a:pt x="373" y="2847"/>
                </a:lnTo>
                <a:lnTo>
                  <a:pt x="312" y="2763"/>
                </a:lnTo>
                <a:lnTo>
                  <a:pt x="255" y="2675"/>
                </a:lnTo>
                <a:lnTo>
                  <a:pt x="204" y="2585"/>
                </a:lnTo>
                <a:lnTo>
                  <a:pt x="157" y="2491"/>
                </a:lnTo>
                <a:lnTo>
                  <a:pt x="117" y="2394"/>
                </a:lnTo>
                <a:lnTo>
                  <a:pt x="83" y="2294"/>
                </a:lnTo>
                <a:lnTo>
                  <a:pt x="53" y="2191"/>
                </a:lnTo>
                <a:lnTo>
                  <a:pt x="30" y="2087"/>
                </a:lnTo>
                <a:lnTo>
                  <a:pt x="14" y="1979"/>
                </a:lnTo>
                <a:lnTo>
                  <a:pt x="3" y="1870"/>
                </a:lnTo>
                <a:lnTo>
                  <a:pt x="0" y="1759"/>
                </a:lnTo>
                <a:lnTo>
                  <a:pt x="3" y="1648"/>
                </a:lnTo>
                <a:lnTo>
                  <a:pt x="14" y="1539"/>
                </a:lnTo>
                <a:lnTo>
                  <a:pt x="30" y="1431"/>
                </a:lnTo>
                <a:lnTo>
                  <a:pt x="53" y="1327"/>
                </a:lnTo>
                <a:lnTo>
                  <a:pt x="83" y="1225"/>
                </a:lnTo>
                <a:lnTo>
                  <a:pt x="117" y="1124"/>
                </a:lnTo>
                <a:lnTo>
                  <a:pt x="157" y="1028"/>
                </a:lnTo>
                <a:lnTo>
                  <a:pt x="204" y="933"/>
                </a:lnTo>
                <a:lnTo>
                  <a:pt x="255" y="843"/>
                </a:lnTo>
                <a:lnTo>
                  <a:pt x="312" y="755"/>
                </a:lnTo>
                <a:lnTo>
                  <a:pt x="373" y="671"/>
                </a:lnTo>
                <a:lnTo>
                  <a:pt x="439" y="592"/>
                </a:lnTo>
                <a:lnTo>
                  <a:pt x="510" y="516"/>
                </a:lnTo>
                <a:lnTo>
                  <a:pt x="585" y="445"/>
                </a:lnTo>
                <a:lnTo>
                  <a:pt x="663" y="379"/>
                </a:lnTo>
                <a:lnTo>
                  <a:pt x="745" y="316"/>
                </a:lnTo>
                <a:lnTo>
                  <a:pt x="831" y="259"/>
                </a:lnTo>
                <a:lnTo>
                  <a:pt x="921" y="207"/>
                </a:lnTo>
                <a:lnTo>
                  <a:pt x="1014" y="161"/>
                </a:lnTo>
                <a:lnTo>
                  <a:pt x="1110" y="119"/>
                </a:lnTo>
                <a:lnTo>
                  <a:pt x="1208" y="84"/>
                </a:lnTo>
                <a:lnTo>
                  <a:pt x="1310" y="54"/>
                </a:lnTo>
                <a:lnTo>
                  <a:pt x="1414" y="31"/>
                </a:lnTo>
                <a:lnTo>
                  <a:pt x="1519" y="15"/>
                </a:lnTo>
                <a:lnTo>
                  <a:pt x="1628" y="5"/>
                </a:lnTo>
                <a:lnTo>
                  <a:pt x="173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52" name="Google Shape;192;p12"/>
          <p:cNvSpPr/>
          <p:nvPr/>
        </p:nvSpPr>
        <p:spPr>
          <a:xfrm>
            <a:off x="11066400" y="6056280"/>
            <a:ext cx="149400" cy="150840"/>
          </a:xfrm>
          <a:custGeom>
            <a:avLst/>
            <a:gdLst/>
            <a:ahLst/>
            <a:rect l="l" t="t" r="r" b="b"/>
            <a:pathLst>
              <a:path w="3263" h="3314">
                <a:moveTo>
                  <a:pt x="1776" y="753"/>
                </a:moveTo>
                <a:lnTo>
                  <a:pt x="1729" y="754"/>
                </a:lnTo>
                <a:lnTo>
                  <a:pt x="1686" y="759"/>
                </a:lnTo>
                <a:lnTo>
                  <a:pt x="1646" y="769"/>
                </a:lnTo>
                <a:lnTo>
                  <a:pt x="1610" y="780"/>
                </a:lnTo>
                <a:lnTo>
                  <a:pt x="1577" y="794"/>
                </a:lnTo>
                <a:lnTo>
                  <a:pt x="1547" y="810"/>
                </a:lnTo>
                <a:lnTo>
                  <a:pt x="1521" y="829"/>
                </a:lnTo>
                <a:lnTo>
                  <a:pt x="1496" y="850"/>
                </a:lnTo>
                <a:lnTo>
                  <a:pt x="1475" y="871"/>
                </a:lnTo>
                <a:lnTo>
                  <a:pt x="1456" y="895"/>
                </a:lnTo>
                <a:lnTo>
                  <a:pt x="1439" y="920"/>
                </a:lnTo>
                <a:lnTo>
                  <a:pt x="1426" y="946"/>
                </a:lnTo>
                <a:lnTo>
                  <a:pt x="1413" y="973"/>
                </a:lnTo>
                <a:lnTo>
                  <a:pt x="1403" y="1000"/>
                </a:lnTo>
                <a:lnTo>
                  <a:pt x="1395" y="1027"/>
                </a:lnTo>
                <a:lnTo>
                  <a:pt x="1389" y="1054"/>
                </a:lnTo>
                <a:lnTo>
                  <a:pt x="1384" y="1081"/>
                </a:lnTo>
                <a:lnTo>
                  <a:pt x="1381" y="1107"/>
                </a:lnTo>
                <a:lnTo>
                  <a:pt x="1379" y="1132"/>
                </a:lnTo>
                <a:lnTo>
                  <a:pt x="1379" y="1156"/>
                </a:lnTo>
                <a:lnTo>
                  <a:pt x="1379" y="1376"/>
                </a:lnTo>
                <a:lnTo>
                  <a:pt x="1192" y="1376"/>
                </a:lnTo>
                <a:lnTo>
                  <a:pt x="1192" y="1715"/>
                </a:lnTo>
                <a:lnTo>
                  <a:pt x="1379" y="1715"/>
                </a:lnTo>
                <a:lnTo>
                  <a:pt x="1379" y="2676"/>
                </a:lnTo>
                <a:lnTo>
                  <a:pt x="1772" y="2676"/>
                </a:lnTo>
                <a:lnTo>
                  <a:pt x="1772" y="1715"/>
                </a:lnTo>
                <a:lnTo>
                  <a:pt x="2037" y="1715"/>
                </a:lnTo>
                <a:lnTo>
                  <a:pt x="2072" y="1376"/>
                </a:lnTo>
                <a:lnTo>
                  <a:pt x="1772" y="1376"/>
                </a:lnTo>
                <a:lnTo>
                  <a:pt x="1772" y="1176"/>
                </a:lnTo>
                <a:lnTo>
                  <a:pt x="1774" y="1153"/>
                </a:lnTo>
                <a:lnTo>
                  <a:pt x="1779" y="1135"/>
                </a:lnTo>
                <a:lnTo>
                  <a:pt x="1786" y="1119"/>
                </a:lnTo>
                <a:lnTo>
                  <a:pt x="1795" y="1107"/>
                </a:lnTo>
                <a:lnTo>
                  <a:pt x="1806" y="1097"/>
                </a:lnTo>
                <a:lnTo>
                  <a:pt x="1819" y="1091"/>
                </a:lnTo>
                <a:lnTo>
                  <a:pt x="1831" y="1087"/>
                </a:lnTo>
                <a:lnTo>
                  <a:pt x="1843" y="1085"/>
                </a:lnTo>
                <a:lnTo>
                  <a:pt x="1855" y="1084"/>
                </a:lnTo>
                <a:lnTo>
                  <a:pt x="2066" y="1084"/>
                </a:lnTo>
                <a:lnTo>
                  <a:pt x="2066" y="754"/>
                </a:lnTo>
                <a:lnTo>
                  <a:pt x="1776" y="753"/>
                </a:lnTo>
                <a:close/>
                <a:moveTo>
                  <a:pt x="1632" y="0"/>
                </a:moveTo>
                <a:lnTo>
                  <a:pt x="1735" y="4"/>
                </a:lnTo>
                <a:lnTo>
                  <a:pt x="1836" y="13"/>
                </a:lnTo>
                <a:lnTo>
                  <a:pt x="1935" y="29"/>
                </a:lnTo>
                <a:lnTo>
                  <a:pt x="2033" y="51"/>
                </a:lnTo>
                <a:lnTo>
                  <a:pt x="2128" y="79"/>
                </a:lnTo>
                <a:lnTo>
                  <a:pt x="2221" y="112"/>
                </a:lnTo>
                <a:lnTo>
                  <a:pt x="2310" y="151"/>
                </a:lnTo>
                <a:lnTo>
                  <a:pt x="2398" y="195"/>
                </a:lnTo>
                <a:lnTo>
                  <a:pt x="2482" y="243"/>
                </a:lnTo>
                <a:lnTo>
                  <a:pt x="2562" y="297"/>
                </a:lnTo>
                <a:lnTo>
                  <a:pt x="2640" y="356"/>
                </a:lnTo>
                <a:lnTo>
                  <a:pt x="2715" y="418"/>
                </a:lnTo>
                <a:lnTo>
                  <a:pt x="2785" y="486"/>
                </a:lnTo>
                <a:lnTo>
                  <a:pt x="2850" y="557"/>
                </a:lnTo>
                <a:lnTo>
                  <a:pt x="2912" y="632"/>
                </a:lnTo>
                <a:lnTo>
                  <a:pt x="2971" y="711"/>
                </a:lnTo>
                <a:lnTo>
                  <a:pt x="3024" y="794"/>
                </a:lnTo>
                <a:lnTo>
                  <a:pt x="3072" y="879"/>
                </a:lnTo>
                <a:lnTo>
                  <a:pt x="3115" y="968"/>
                </a:lnTo>
                <a:lnTo>
                  <a:pt x="3153" y="1059"/>
                </a:lnTo>
                <a:lnTo>
                  <a:pt x="3186" y="1153"/>
                </a:lnTo>
                <a:lnTo>
                  <a:pt x="3214" y="1250"/>
                </a:lnTo>
                <a:lnTo>
                  <a:pt x="3235" y="1348"/>
                </a:lnTo>
                <a:lnTo>
                  <a:pt x="3250" y="1450"/>
                </a:lnTo>
                <a:lnTo>
                  <a:pt x="3259" y="1552"/>
                </a:lnTo>
                <a:lnTo>
                  <a:pt x="3263" y="1657"/>
                </a:lnTo>
                <a:lnTo>
                  <a:pt x="3259" y="1762"/>
                </a:lnTo>
                <a:lnTo>
                  <a:pt x="3250" y="1864"/>
                </a:lnTo>
                <a:lnTo>
                  <a:pt x="3235" y="1966"/>
                </a:lnTo>
                <a:lnTo>
                  <a:pt x="3214" y="2064"/>
                </a:lnTo>
                <a:lnTo>
                  <a:pt x="3186" y="2161"/>
                </a:lnTo>
                <a:lnTo>
                  <a:pt x="3153" y="2255"/>
                </a:lnTo>
                <a:lnTo>
                  <a:pt x="3115" y="2346"/>
                </a:lnTo>
                <a:lnTo>
                  <a:pt x="3072" y="2435"/>
                </a:lnTo>
                <a:lnTo>
                  <a:pt x="3024" y="2520"/>
                </a:lnTo>
                <a:lnTo>
                  <a:pt x="2971" y="2603"/>
                </a:lnTo>
                <a:lnTo>
                  <a:pt x="2912" y="2682"/>
                </a:lnTo>
                <a:lnTo>
                  <a:pt x="2850" y="2757"/>
                </a:lnTo>
                <a:lnTo>
                  <a:pt x="2785" y="2828"/>
                </a:lnTo>
                <a:lnTo>
                  <a:pt x="2715" y="2895"/>
                </a:lnTo>
                <a:lnTo>
                  <a:pt x="2640" y="2958"/>
                </a:lnTo>
                <a:lnTo>
                  <a:pt x="2562" y="3017"/>
                </a:lnTo>
                <a:lnTo>
                  <a:pt x="2482" y="3071"/>
                </a:lnTo>
                <a:lnTo>
                  <a:pt x="2398" y="3119"/>
                </a:lnTo>
                <a:lnTo>
                  <a:pt x="2310" y="3163"/>
                </a:lnTo>
                <a:lnTo>
                  <a:pt x="2221" y="3202"/>
                </a:lnTo>
                <a:lnTo>
                  <a:pt x="2128" y="3235"/>
                </a:lnTo>
                <a:lnTo>
                  <a:pt x="2033" y="3263"/>
                </a:lnTo>
                <a:lnTo>
                  <a:pt x="1935" y="3285"/>
                </a:lnTo>
                <a:lnTo>
                  <a:pt x="1836" y="3301"/>
                </a:lnTo>
                <a:lnTo>
                  <a:pt x="1735" y="3310"/>
                </a:lnTo>
                <a:lnTo>
                  <a:pt x="1632" y="3314"/>
                </a:lnTo>
                <a:lnTo>
                  <a:pt x="1529" y="3310"/>
                </a:lnTo>
                <a:lnTo>
                  <a:pt x="1427" y="3301"/>
                </a:lnTo>
                <a:lnTo>
                  <a:pt x="1328" y="3285"/>
                </a:lnTo>
                <a:lnTo>
                  <a:pt x="1231" y="3263"/>
                </a:lnTo>
                <a:lnTo>
                  <a:pt x="1135" y="3235"/>
                </a:lnTo>
                <a:lnTo>
                  <a:pt x="1043" y="3202"/>
                </a:lnTo>
                <a:lnTo>
                  <a:pt x="952" y="3163"/>
                </a:lnTo>
                <a:lnTo>
                  <a:pt x="865" y="3119"/>
                </a:lnTo>
                <a:lnTo>
                  <a:pt x="781" y="3071"/>
                </a:lnTo>
                <a:lnTo>
                  <a:pt x="700" y="3017"/>
                </a:lnTo>
                <a:lnTo>
                  <a:pt x="622" y="2958"/>
                </a:lnTo>
                <a:lnTo>
                  <a:pt x="549" y="2895"/>
                </a:lnTo>
                <a:lnTo>
                  <a:pt x="479" y="2828"/>
                </a:lnTo>
                <a:lnTo>
                  <a:pt x="412" y="2757"/>
                </a:lnTo>
                <a:lnTo>
                  <a:pt x="350" y="2682"/>
                </a:lnTo>
                <a:lnTo>
                  <a:pt x="293" y="2603"/>
                </a:lnTo>
                <a:lnTo>
                  <a:pt x="240" y="2520"/>
                </a:lnTo>
                <a:lnTo>
                  <a:pt x="192" y="2435"/>
                </a:lnTo>
                <a:lnTo>
                  <a:pt x="148" y="2346"/>
                </a:lnTo>
                <a:lnTo>
                  <a:pt x="110" y="2255"/>
                </a:lnTo>
                <a:lnTo>
                  <a:pt x="78" y="2161"/>
                </a:lnTo>
                <a:lnTo>
                  <a:pt x="50" y="2064"/>
                </a:lnTo>
                <a:lnTo>
                  <a:pt x="29" y="1966"/>
                </a:lnTo>
                <a:lnTo>
                  <a:pt x="13" y="1864"/>
                </a:lnTo>
                <a:lnTo>
                  <a:pt x="3" y="1762"/>
                </a:lnTo>
                <a:lnTo>
                  <a:pt x="0" y="1657"/>
                </a:lnTo>
                <a:lnTo>
                  <a:pt x="3" y="1552"/>
                </a:lnTo>
                <a:lnTo>
                  <a:pt x="13" y="1450"/>
                </a:lnTo>
                <a:lnTo>
                  <a:pt x="29" y="1348"/>
                </a:lnTo>
                <a:lnTo>
                  <a:pt x="50" y="1250"/>
                </a:lnTo>
                <a:lnTo>
                  <a:pt x="78" y="1153"/>
                </a:lnTo>
                <a:lnTo>
                  <a:pt x="110" y="1059"/>
                </a:lnTo>
                <a:lnTo>
                  <a:pt x="148" y="968"/>
                </a:lnTo>
                <a:lnTo>
                  <a:pt x="192" y="879"/>
                </a:lnTo>
                <a:lnTo>
                  <a:pt x="240" y="794"/>
                </a:lnTo>
                <a:lnTo>
                  <a:pt x="293" y="711"/>
                </a:lnTo>
                <a:lnTo>
                  <a:pt x="350" y="632"/>
                </a:lnTo>
                <a:lnTo>
                  <a:pt x="412" y="557"/>
                </a:lnTo>
                <a:lnTo>
                  <a:pt x="479" y="486"/>
                </a:lnTo>
                <a:lnTo>
                  <a:pt x="549" y="418"/>
                </a:lnTo>
                <a:lnTo>
                  <a:pt x="622" y="356"/>
                </a:lnTo>
                <a:lnTo>
                  <a:pt x="700" y="297"/>
                </a:lnTo>
                <a:lnTo>
                  <a:pt x="781" y="243"/>
                </a:lnTo>
                <a:lnTo>
                  <a:pt x="865" y="195"/>
                </a:lnTo>
                <a:lnTo>
                  <a:pt x="952" y="151"/>
                </a:lnTo>
                <a:lnTo>
                  <a:pt x="1043" y="112"/>
                </a:lnTo>
                <a:lnTo>
                  <a:pt x="1135" y="79"/>
                </a:lnTo>
                <a:lnTo>
                  <a:pt x="1231" y="51"/>
                </a:lnTo>
                <a:lnTo>
                  <a:pt x="1328" y="29"/>
                </a:lnTo>
                <a:lnTo>
                  <a:pt x="1427" y="13"/>
                </a:lnTo>
                <a:lnTo>
                  <a:pt x="1529" y="4"/>
                </a:lnTo>
                <a:lnTo>
                  <a:pt x="1632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53" name="Rectangle 1"/>
          <p:cNvSpPr/>
          <p:nvPr/>
        </p:nvSpPr>
        <p:spPr>
          <a:xfrm>
            <a:off x="5200560" y="4362480"/>
            <a:ext cx="4314960" cy="9540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Box 7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3" name="Oval 8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4" name="Oval 9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5" name="Oval 10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6" name="Oval 14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7" name="TextBox 11"/>
          <p:cNvSpPr/>
          <p:nvPr/>
        </p:nvSpPr>
        <p:spPr>
          <a:xfrm>
            <a:off x="1434960" y="1687680"/>
            <a:ext cx="345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Our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History Here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8" name="TextBox 12"/>
          <p:cNvSpPr/>
          <p:nvPr/>
        </p:nvSpPr>
        <p:spPr>
          <a:xfrm>
            <a:off x="1454040" y="1508040"/>
            <a:ext cx="255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9" name="TextBox 13"/>
          <p:cNvSpPr/>
          <p:nvPr/>
        </p:nvSpPr>
        <p:spPr>
          <a:xfrm>
            <a:off x="1409040" y="348624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 SemiBold"/>
              </a:rPr>
              <a:t>History, Sep 2012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80" name="TextBox 15"/>
          <p:cNvSpPr/>
          <p:nvPr/>
        </p:nvSpPr>
        <p:spPr>
          <a:xfrm>
            <a:off x="1452600" y="3738600"/>
            <a:ext cx="2421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gatio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h 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mio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 amet.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Ris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i amagna ja aser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lin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pretium qua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81" name="TextBox 16"/>
          <p:cNvSpPr/>
          <p:nvPr/>
        </p:nvSpPr>
        <p:spPr>
          <a:xfrm>
            <a:off x="1399680" y="4714920"/>
            <a:ext cx="17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 SemiBold"/>
              </a:rPr>
              <a:t>History, Mar 2013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82" name="TextBox 17"/>
          <p:cNvSpPr/>
          <p:nvPr/>
        </p:nvSpPr>
        <p:spPr>
          <a:xfrm>
            <a:off x="1459080" y="4967280"/>
            <a:ext cx="2420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gatio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h 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mio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 amet.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Ris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i amagna ja aser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lin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pretium qua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83" name="TextBox 18"/>
          <p:cNvSpPr/>
          <p:nvPr/>
        </p:nvSpPr>
        <p:spPr>
          <a:xfrm>
            <a:off x="4128480" y="348624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 SemiBold"/>
              </a:rPr>
              <a:t>History, Des 2012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84" name="TextBox 19"/>
          <p:cNvSpPr/>
          <p:nvPr/>
        </p:nvSpPr>
        <p:spPr>
          <a:xfrm>
            <a:off x="4178160" y="3738600"/>
            <a:ext cx="2421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gatio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h 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mio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 amet.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Ris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i amagna ja aser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lin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pretium qua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85" name="TextBox 20"/>
          <p:cNvSpPr/>
          <p:nvPr/>
        </p:nvSpPr>
        <p:spPr>
          <a:xfrm>
            <a:off x="4129200" y="4714920"/>
            <a:ext cx="17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 SemiBold"/>
              </a:rPr>
              <a:t>History, Aug 2013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86" name="TextBox 21"/>
          <p:cNvSpPr/>
          <p:nvPr/>
        </p:nvSpPr>
        <p:spPr>
          <a:xfrm>
            <a:off x="4184640" y="4967280"/>
            <a:ext cx="2414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gatio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h 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mio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 amet.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Ris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li amagna ja aser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lin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pretium qua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Freeform: Shape 13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88" name="Rectangle 14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89" name="TextBox 6"/>
          <p:cNvSpPr/>
          <p:nvPr/>
        </p:nvSpPr>
        <p:spPr>
          <a:xfrm>
            <a:off x="6615000" y="197316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Our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Philosophy Here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0" name="TextBox 7"/>
          <p:cNvSpPr/>
          <p:nvPr/>
        </p:nvSpPr>
        <p:spPr>
          <a:xfrm>
            <a:off x="6634080" y="1795320"/>
            <a:ext cx="256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1" name="TextBox 9"/>
          <p:cNvSpPr/>
          <p:nvPr/>
        </p:nvSpPr>
        <p:spPr>
          <a:xfrm>
            <a:off x="6615000" y="3728880"/>
            <a:ext cx="418464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ristique nulla aliquet enim tortor at auctor urna nunc id. Maecenas accumsan lacus vel facilisis volutpat es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lionasd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velit egestas dui. Libero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mile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enim sed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ya l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faucibus turpis. Et tortor consequat id porta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ntab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ibh venenatis cras sed. Rhoncus urna neque viverra justo nec ultrices dui sapien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2" name="TextBox 10"/>
          <p:cNvSpPr/>
          <p:nvPr/>
        </p:nvSpPr>
        <p:spPr>
          <a:xfrm>
            <a:off x="6622920" y="3382920"/>
            <a:ext cx="304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Times New Roman"/>
              </a:rPr>
              <a:t>Bring Education For Smart Peoples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6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4" name="Oval 7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5" name="Oval 9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6" name="Oval 11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7" name="Oval 12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8" name="TextBox 10"/>
          <p:cNvSpPr/>
          <p:nvPr/>
        </p:nvSpPr>
        <p:spPr>
          <a:xfrm>
            <a:off x="1434960" y="1938240"/>
            <a:ext cx="352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Our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Mission Here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9" name="TextBox 13"/>
          <p:cNvSpPr/>
          <p:nvPr/>
        </p:nvSpPr>
        <p:spPr>
          <a:xfrm>
            <a:off x="1454040" y="1760400"/>
            <a:ext cx="255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0" name="TextBox 14"/>
          <p:cNvSpPr/>
          <p:nvPr/>
        </p:nvSpPr>
        <p:spPr>
          <a:xfrm>
            <a:off x="1337760" y="3454560"/>
            <a:ext cx="251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Be The Best Online Cours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1" name="TextBox 15"/>
          <p:cNvSpPr/>
          <p:nvPr/>
        </p:nvSpPr>
        <p:spPr>
          <a:xfrm>
            <a:off x="1428840" y="3708360"/>
            <a:ext cx="4114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jgaw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presen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lasi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ristique magna sit amet. Risus pretium quam vulputate dignissim. Enim n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 il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dui nun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i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ul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l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2" name="TextBox 16"/>
          <p:cNvSpPr/>
          <p:nvPr/>
        </p:nvSpPr>
        <p:spPr>
          <a:xfrm>
            <a:off x="1335600" y="443232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Open Sans SemiBold"/>
              </a:rPr>
              <a:t>Offer Smart Education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3" name="TextBox 18"/>
          <p:cNvSpPr/>
          <p:nvPr/>
        </p:nvSpPr>
        <p:spPr>
          <a:xfrm>
            <a:off x="1440000" y="4699080"/>
            <a:ext cx="4114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ajgaw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presen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lasi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ristique magna sit amet. Risus pretium quam vulputate dignissim. Enim n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 il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dui nun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i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ul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l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: Rounded Corners 14"/>
          <p:cNvSpPr/>
          <p:nvPr/>
        </p:nvSpPr>
        <p:spPr>
          <a:xfrm>
            <a:off x="704880" y="3551400"/>
            <a:ext cx="2590920" cy="2573280"/>
          </a:xfrm>
          <a:prstGeom prst="roundRect">
            <a:avLst>
              <a:gd name="adj" fmla="val 6032"/>
            </a:avLst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5" name="Freeform: Shape 16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6" name="Rectangle 17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7" name="TextBox 10"/>
          <p:cNvSpPr/>
          <p:nvPr/>
        </p:nvSpPr>
        <p:spPr>
          <a:xfrm>
            <a:off x="6775560" y="1870200"/>
            <a:ext cx="329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About Our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Vision Here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8" name="TextBox 11"/>
          <p:cNvSpPr/>
          <p:nvPr/>
        </p:nvSpPr>
        <p:spPr>
          <a:xfrm>
            <a:off x="6794640" y="1692360"/>
            <a:ext cx="256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9" name="TextBox 12"/>
          <p:cNvSpPr/>
          <p:nvPr/>
        </p:nvSpPr>
        <p:spPr>
          <a:xfrm>
            <a:off x="6778800" y="3151080"/>
            <a:ext cx="417492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pr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n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dui nunc mattis enim ut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nec dui ultrices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 consectetur adipiscing elit, sed tollo eiusmod tempor incididunt ut ilnas labore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10" name="TextBox 18"/>
          <p:cNvSpPr/>
          <p:nvPr/>
        </p:nvSpPr>
        <p:spPr>
          <a:xfrm>
            <a:off x="6775560" y="4340160"/>
            <a:ext cx="3859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ristique nulla aliquet enim tortor at auctor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  <a:p>
            <a:pPr marL="171360" indent="-171360" algn="just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t ame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r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us pretium quam vulputate dignuctor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  <a:p>
            <a:pPr marL="171360" indent="-171360" algn="just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c dui ultrices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 consectetur adipiscin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11" name="TextBox 19"/>
          <p:cNvSpPr/>
          <p:nvPr/>
        </p:nvSpPr>
        <p:spPr>
          <a:xfrm>
            <a:off x="973080" y="4684680"/>
            <a:ext cx="2054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Roboto"/>
                <a:ea typeface="Open Sans SemiBold"/>
              </a:rPr>
              <a:t>Thinking Up Outstanding Student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pic>
        <p:nvPicPr>
          <p:cNvPr id="812" name="Graphic 13" descr="Research"/>
          <p:cNvPicPr/>
          <p:nvPr/>
        </p:nvPicPr>
        <p:blipFill>
          <a:blip r:embed="rId1"/>
          <a:stretch/>
        </p:blipFill>
        <p:spPr>
          <a:xfrm>
            <a:off x="1828800" y="4260960"/>
            <a:ext cx="33480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Box 11"/>
          <p:cNvSpPr/>
          <p:nvPr/>
        </p:nvSpPr>
        <p:spPr>
          <a:xfrm>
            <a:off x="582120" y="64764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b9a2"/>
                </a:solidFill>
                <a:latin typeface="Raleway Bold"/>
              </a:rPr>
              <a:t>SkillUp </a:t>
            </a:r>
            <a:r>
              <a:rPr b="0" lang="en-US" sz="1200" spc="-1" strike="noStrike">
                <a:solidFill>
                  <a:srgbClr val="3f3f3f"/>
                </a:solidFill>
                <a:latin typeface="Raleway Bold"/>
              </a:rPr>
              <a:t>Course</a:t>
            </a:r>
            <a:endParaRPr b="0" lang="en-US" sz="1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14" name="Oval 12"/>
          <p:cNvSpPr/>
          <p:nvPr/>
        </p:nvSpPr>
        <p:spPr>
          <a:xfrm>
            <a:off x="647640" y="50832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15" name="Oval 13"/>
          <p:cNvSpPr/>
          <p:nvPr/>
        </p:nvSpPr>
        <p:spPr>
          <a:xfrm>
            <a:off x="647640" y="5415120"/>
            <a:ext cx="95400" cy="95040"/>
          </a:xfrm>
          <a:prstGeom prst="ellipse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16" name="Oval 14"/>
          <p:cNvSpPr/>
          <p:nvPr/>
        </p:nvSpPr>
        <p:spPr>
          <a:xfrm>
            <a:off x="647640" y="5745240"/>
            <a:ext cx="95400" cy="9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17" name="Oval 15"/>
          <p:cNvSpPr/>
          <p:nvPr/>
        </p:nvSpPr>
        <p:spPr>
          <a:xfrm>
            <a:off x="647640" y="6076800"/>
            <a:ext cx="95400" cy="9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18" name="Rectangle: Rounded Corners 2"/>
          <p:cNvSpPr/>
          <p:nvPr/>
        </p:nvSpPr>
        <p:spPr>
          <a:xfrm>
            <a:off x="8163000" y="2448000"/>
            <a:ext cx="3409920" cy="1962000"/>
          </a:xfrm>
          <a:prstGeom prst="roundRect">
            <a:avLst>
              <a:gd name="adj" fmla="val 6958"/>
            </a:avLst>
          </a:prstGeom>
          <a:solidFill>
            <a:srgbClr val="0e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19" name="TextBox 9"/>
          <p:cNvSpPr/>
          <p:nvPr/>
        </p:nvSpPr>
        <p:spPr>
          <a:xfrm>
            <a:off x="1434960" y="17128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Education Always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Bring Solution.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20" name="TextBox 10"/>
          <p:cNvSpPr/>
          <p:nvPr/>
        </p:nvSpPr>
        <p:spPr>
          <a:xfrm>
            <a:off x="1454040" y="1533600"/>
            <a:ext cx="255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21" name="TextBox 16"/>
          <p:cNvSpPr/>
          <p:nvPr/>
        </p:nvSpPr>
        <p:spPr>
          <a:xfrm>
            <a:off x="1422360" y="3479760"/>
            <a:ext cx="1978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ue magna sit a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kok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. Risus pre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ium quam vulpu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22" name="TextBox 17"/>
          <p:cNvSpPr/>
          <p:nvPr/>
        </p:nvSpPr>
        <p:spPr>
          <a:xfrm>
            <a:off x="1422360" y="3198960"/>
            <a:ext cx="2100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Times New Roman"/>
              </a:rPr>
              <a:t>Solution On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23" name="TextBox 18"/>
          <p:cNvSpPr/>
          <p:nvPr/>
        </p:nvSpPr>
        <p:spPr>
          <a:xfrm>
            <a:off x="1422360" y="4595760"/>
            <a:ext cx="1978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ue magna sit a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kok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. Risus pre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ium quam vulpu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24" name="TextBox 19"/>
          <p:cNvSpPr/>
          <p:nvPr/>
        </p:nvSpPr>
        <p:spPr>
          <a:xfrm>
            <a:off x="1422360" y="4325760"/>
            <a:ext cx="2300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Times New Roman"/>
              </a:rPr>
              <a:t>Solution Thre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25" name="TextBox 20"/>
          <p:cNvSpPr/>
          <p:nvPr/>
        </p:nvSpPr>
        <p:spPr>
          <a:xfrm>
            <a:off x="3639960" y="3462480"/>
            <a:ext cx="1978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ue magna sit a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kok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. Risus pre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ium quam vulpu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26" name="TextBox 21"/>
          <p:cNvSpPr/>
          <p:nvPr/>
        </p:nvSpPr>
        <p:spPr>
          <a:xfrm>
            <a:off x="3639960" y="3193920"/>
            <a:ext cx="2100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Times New Roman"/>
              </a:rPr>
              <a:t>Solution Two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27" name="TextBox 22"/>
          <p:cNvSpPr/>
          <p:nvPr/>
        </p:nvSpPr>
        <p:spPr>
          <a:xfrm>
            <a:off x="3639960" y="4603680"/>
            <a:ext cx="1978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ue magna sit a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kok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. Risus pre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ium quam vulpu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28" name="TextBox 23"/>
          <p:cNvSpPr/>
          <p:nvPr/>
        </p:nvSpPr>
        <p:spPr>
          <a:xfrm>
            <a:off x="3639960" y="4325760"/>
            <a:ext cx="2300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Roboto"/>
                <a:ea typeface="Times New Roman"/>
              </a:rPr>
              <a:t>Solution Four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29" name="TextBox 24"/>
          <p:cNvSpPr/>
          <p:nvPr/>
        </p:nvSpPr>
        <p:spPr>
          <a:xfrm>
            <a:off x="8929800" y="3303720"/>
            <a:ext cx="1876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 SemiBold"/>
              </a:rPr>
              <a:t>Give Education Solution All Of Time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pic>
        <p:nvPicPr>
          <p:cNvPr id="830" name="Group 888" descr=""/>
          <p:cNvPicPr/>
          <p:nvPr/>
        </p:nvPicPr>
        <p:blipFill>
          <a:blip r:embed="rId1"/>
          <a:stretch/>
        </p:blipFill>
        <p:spPr>
          <a:xfrm>
            <a:off x="9698040" y="2852640"/>
            <a:ext cx="3412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Freeform: Shape 8"/>
          <p:cNvSpPr/>
          <p:nvPr/>
        </p:nvSpPr>
        <p:spPr>
          <a:xfrm>
            <a:off x="10694880" y="0"/>
            <a:ext cx="1497240" cy="1496880"/>
          </a:xfrm>
          <a:custGeom>
            <a:avLst/>
            <a:gdLst/>
            <a:ahLst/>
            <a:rect l="l" t="t" r="r" b="b"/>
            <a:pathLst>
              <a:path w="1724025" h="1724025">
                <a:moveTo>
                  <a:pt x="0" y="0"/>
                </a:moveTo>
                <a:lnTo>
                  <a:pt x="385630" y="0"/>
                </a:lnTo>
                <a:cubicBezTo>
                  <a:pt x="385630" y="739175"/>
                  <a:pt x="984850" y="1338395"/>
                  <a:pt x="1724025" y="1338395"/>
                </a:cubicBezTo>
                <a:lnTo>
                  <a:pt x="1724025" y="1724025"/>
                </a:lnTo>
                <a:cubicBezTo>
                  <a:pt x="771872" y="1724025"/>
                  <a:pt x="0" y="952153"/>
                  <a:pt x="0" y="0"/>
                </a:cubicBezTo>
                <a:close/>
              </a:path>
            </a:pathLst>
          </a:custGeom>
          <a:solidFill>
            <a:srgbClr val="01d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2" name="Rectangle 11"/>
          <p:cNvSpPr/>
          <p:nvPr/>
        </p:nvSpPr>
        <p:spPr>
          <a:xfrm>
            <a:off x="10572840" y="6172200"/>
            <a:ext cx="1028520" cy="46080"/>
          </a:xfrm>
          <a:prstGeom prst="rect">
            <a:avLst/>
          </a:pr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3" name="TextBox 5"/>
          <p:cNvSpPr/>
          <p:nvPr/>
        </p:nvSpPr>
        <p:spPr>
          <a:xfrm>
            <a:off x="6019920" y="2031840"/>
            <a:ext cx="337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Raleway Bold"/>
              </a:rPr>
              <a:t>What We Do In </a:t>
            </a:r>
            <a:r>
              <a:rPr b="0" lang="en-US" sz="3200" spc="-1" strike="noStrike">
                <a:solidFill>
                  <a:srgbClr val="29b9a2"/>
                </a:solidFill>
                <a:latin typeface="Raleway Bold"/>
              </a:rPr>
              <a:t>SkillUp Course?</a:t>
            </a:r>
            <a:endParaRPr b="0" lang="en-US" sz="32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4" name="TextBox 6"/>
          <p:cNvSpPr/>
          <p:nvPr/>
        </p:nvSpPr>
        <p:spPr>
          <a:xfrm>
            <a:off x="6039000" y="1852560"/>
            <a:ext cx="256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e5"/>
                </a:solidFill>
                <a:latin typeface="Roboto"/>
              </a:rPr>
              <a:t>Education For Your Bright Future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5" name="TextBox 15"/>
          <p:cNvSpPr/>
          <p:nvPr/>
        </p:nvSpPr>
        <p:spPr>
          <a:xfrm>
            <a:off x="6307200" y="3811680"/>
            <a:ext cx="4487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im nec dui nun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os il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mattis enim ut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ie n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nec dui ultrices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 scing elit, sed tollo doailemil magnal 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iquet nibh praesent t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6" name="Circle: Hollow 16"/>
          <p:cNvSpPr/>
          <p:nvPr/>
        </p:nvSpPr>
        <p:spPr>
          <a:xfrm>
            <a:off x="6039000" y="3679920"/>
            <a:ext cx="199800" cy="199800"/>
          </a:xfrm>
          <a:custGeom>
            <a:avLst/>
            <a:gdLst/>
            <a:ahLst/>
            <a:rect l="l" t="t" r="r" b="b"/>
            <a:pathLst>
              <a:path w="201168" h="201168">
                <a:moveTo>
                  <a:pt x="0" y="100584"/>
                </a:moveTo>
                <a:cubicBezTo>
                  <a:pt x="0" y="45033"/>
                  <a:pt x="45033" y="0"/>
                  <a:pt x="100584" y="0"/>
                </a:cubicBezTo>
                <a:cubicBezTo>
                  <a:pt x="156135" y="0"/>
                  <a:pt x="201168" y="45033"/>
                  <a:pt x="201168" y="100584"/>
                </a:cubicBezTo>
                <a:cubicBezTo>
                  <a:pt x="201168" y="156135"/>
                  <a:pt x="156135" y="201168"/>
                  <a:pt x="100584" y="201168"/>
                </a:cubicBezTo>
                <a:cubicBezTo>
                  <a:pt x="45033" y="201168"/>
                  <a:pt x="0" y="156135"/>
                  <a:pt x="0" y="100584"/>
                </a:cubicBezTo>
                <a:close/>
                <a:moveTo>
                  <a:pt x="50292" y="100584"/>
                </a:moveTo>
                <a:cubicBezTo>
                  <a:pt x="50292" y="128360"/>
                  <a:pt x="72808" y="150876"/>
                  <a:pt x="100584" y="150876"/>
                </a:cubicBezTo>
                <a:cubicBezTo>
                  <a:pt x="128360" y="150876"/>
                  <a:pt x="150876" y="128360"/>
                  <a:pt x="150876" y="100584"/>
                </a:cubicBezTo>
                <a:cubicBezTo>
                  <a:pt x="150876" y="72808"/>
                  <a:pt x="128360" y="50292"/>
                  <a:pt x="100584" y="50292"/>
                </a:cubicBezTo>
                <a:cubicBezTo>
                  <a:pt x="72808" y="50292"/>
                  <a:pt x="50292" y="72808"/>
                  <a:pt x="50292" y="100584"/>
                </a:cubicBezTo>
                <a:close/>
              </a:path>
            </a:pathLst>
          </a:cu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7" name="TextBox 17"/>
          <p:cNvSpPr/>
          <p:nvPr/>
        </p:nvSpPr>
        <p:spPr>
          <a:xfrm>
            <a:off x="6324480" y="3530520"/>
            <a:ext cx="2100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  <a:ea typeface="Times New Roman"/>
              </a:rPr>
              <a:t>Teacher Job Desc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8" name="TextBox 18"/>
          <p:cNvSpPr/>
          <p:nvPr/>
        </p:nvSpPr>
        <p:spPr>
          <a:xfrm>
            <a:off x="6307200" y="4741920"/>
            <a:ext cx="4487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im nec dui nun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os il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mattis enim ut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ie n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nec dui ultrices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 scing elit, sed tollo doailemil magnal 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liquet nibh praesent t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.</a:t>
            </a:r>
            <a:endParaRPr b="0" lang="en-US" sz="11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9" name="Circle: Hollow 19"/>
          <p:cNvSpPr/>
          <p:nvPr/>
        </p:nvSpPr>
        <p:spPr>
          <a:xfrm>
            <a:off x="6039000" y="4610160"/>
            <a:ext cx="199800" cy="199800"/>
          </a:xfrm>
          <a:custGeom>
            <a:avLst/>
            <a:gdLst/>
            <a:ahLst/>
            <a:rect l="l" t="t" r="r" b="b"/>
            <a:pathLst>
              <a:path w="201168" h="201168">
                <a:moveTo>
                  <a:pt x="0" y="100584"/>
                </a:moveTo>
                <a:cubicBezTo>
                  <a:pt x="0" y="45033"/>
                  <a:pt x="45033" y="0"/>
                  <a:pt x="100584" y="0"/>
                </a:cubicBezTo>
                <a:cubicBezTo>
                  <a:pt x="156135" y="0"/>
                  <a:pt x="201168" y="45033"/>
                  <a:pt x="201168" y="100584"/>
                </a:cubicBezTo>
                <a:cubicBezTo>
                  <a:pt x="201168" y="156135"/>
                  <a:pt x="156135" y="201168"/>
                  <a:pt x="100584" y="201168"/>
                </a:cubicBezTo>
                <a:cubicBezTo>
                  <a:pt x="45033" y="201168"/>
                  <a:pt x="0" y="156135"/>
                  <a:pt x="0" y="100584"/>
                </a:cubicBezTo>
                <a:close/>
                <a:moveTo>
                  <a:pt x="50292" y="100584"/>
                </a:moveTo>
                <a:cubicBezTo>
                  <a:pt x="50292" y="128360"/>
                  <a:pt x="72808" y="150876"/>
                  <a:pt x="100584" y="150876"/>
                </a:cubicBezTo>
                <a:cubicBezTo>
                  <a:pt x="128360" y="150876"/>
                  <a:pt x="150876" y="128360"/>
                  <a:pt x="150876" y="100584"/>
                </a:cubicBezTo>
                <a:cubicBezTo>
                  <a:pt x="150876" y="72808"/>
                  <a:pt x="128360" y="50292"/>
                  <a:pt x="100584" y="50292"/>
                </a:cubicBezTo>
                <a:cubicBezTo>
                  <a:pt x="72808" y="50292"/>
                  <a:pt x="50292" y="72808"/>
                  <a:pt x="50292" y="100584"/>
                </a:cubicBezTo>
                <a:close/>
              </a:path>
            </a:pathLst>
          </a:custGeom>
          <a:solidFill>
            <a:srgbClr val="2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0" name="TextBox 20"/>
          <p:cNvSpPr/>
          <p:nvPr/>
        </p:nvSpPr>
        <p:spPr>
          <a:xfrm>
            <a:off x="6324480" y="4460760"/>
            <a:ext cx="2100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  <a:ea typeface="Times New Roman"/>
              </a:rPr>
              <a:t>Teacher Job Desc</a:t>
            </a:r>
            <a:endParaRPr b="0" lang="en-US" sz="14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8T06:02:04Z</dcterms:created>
  <dc:creator>David Ma</dc:creator>
  <dc:description/>
  <dc:language>en-US</dc:language>
  <cp:lastModifiedBy>Luppy</cp:lastModifiedBy>
  <dcterms:modified xsi:type="dcterms:W3CDTF">2021-01-25T10:24:25Z</dcterms:modified>
  <cp:revision>744</cp:revision>
  <dc:subject/>
  <dc:title>PowerPoint Presentation</dc:title>
</cp:coreProperties>
</file>