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5491B-6053-4EE1-98C4-684864B0D306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46322-C869-43FC-92AD-5D98F5F53978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A638A-ACDC-4E3E-80D6-66BFFA8742FC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3A2-507A-4EC4-8542-EF6D640D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E07-B765-4751-AE98-87BF501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873B7-CBB5-4D4E-AC40-165110EA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0A22F-0BB7-41F1-B990-C89EF3B3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69C6C-DB26-4D5F-920C-D5EB42D6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EF074-37DF-4A9E-AB7D-48573E5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21DDF-8541-42AD-A6E7-1545D15B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03030-9480-4ECB-A1CA-5FB748A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EFB31-F33F-4C10-A8DB-FBCA071D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FCD9A-EC82-42A0-B2DC-B2D808B4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BE189-3927-45C9-9E3F-28DCA32E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43B39-0F51-446F-A1D8-A574A101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5E8-9F9A-4226-A6BF-9378985F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9AD8C-E174-41B1-B65B-10B888B7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658F6-7378-4FE3-9219-71ABC5DA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4A17-9CC6-4726-A48F-2A16E19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0FBFF-EA22-4942-B986-87A9F87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CDFB6-7FB8-4F6C-85A3-70F813E9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7A69F-5B22-4360-8F15-0C10B4F4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3DBCB-280F-491A-84E3-926FC954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CC3B2-210C-437E-930B-93FD119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1A55-BE2C-4B1A-BDF8-B4EDCBE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E9283-2535-4EC8-9887-033A37B1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4E8-A24C-435B-9C8B-58ED4458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8D359-4598-46F7-9E01-EDC84FA2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E9D9D-FE8B-485D-B32E-FB104EF8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1379-F88E-4705-AB87-8827651D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BA68E-E052-4217-BC80-B1FF0C2D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5E56D-5134-465F-8F88-5B1DEEA6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8D506-4A5E-48DF-8DC0-89EDC11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425E-549E-4ACC-B150-78F4BAB0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B840A-A46D-40DE-930D-80BF9FC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291BA-AC63-4170-948A-CB009016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DADC3-3EF1-49D0-98DD-662E15F7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E746-3A67-4A8A-B36B-44A684A3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94A63-5673-4DC3-8968-D5061BF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F051F-CB93-45E5-8C27-BEF1C5A2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76E7F-A4F4-4905-BD17-4E170439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E4B9-E625-4315-BDB9-051999DD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09DB-D919-4801-B6EB-71A0C9B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EEBF4-A515-4FBD-93B6-51E0E14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8AABA-07F0-4FB6-81E4-17918994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7D4D6-97D5-40BD-B231-54C9F6EC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807F-D87A-4C39-87F2-49FBB0A0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9369D-5C61-4355-8614-098EB492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CAB-B5FD-4B3F-8039-43D6AEAA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93663-4C59-4681-B8A1-53D4B2B0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9D5B8-C115-43E9-A669-687AD4E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8C4F4-A49A-4366-B590-063398E4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99732-377F-4F19-B8EB-181A74C4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E0BF0-B273-46B7-88DD-41FE3514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A49C-9A44-4780-9A11-4E095604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EFD41-7F1E-4D6D-9D47-2A6C15AA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8F068-6874-45D5-AAE5-EF11C05B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5F5D1-1108-4DE6-81E1-265A8EA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2B5-D591-4254-B8BF-DC25D7F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BE636-A614-4C89-A192-9F5C19F9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1CF2C-6DF8-42B7-87B4-FE271FF6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FB821-DF64-4B29-86B3-0FCB63C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4C5DB-257D-4813-A1AA-F7DFEA11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B03F2-6AF0-42F4-9B25-EDFC042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70065-20AE-449F-9833-556ED271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3B4D3-4BF3-455F-A405-A9CF5998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459DD-F81A-4695-B1DC-9625AB6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B7552-0FAB-4CC7-B626-556EEDC4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3E9E67-0582-4470-B23C-9800BBB6C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6183-14A7-485F-A55A-27551CA1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813398-25A5-4E13-A5E8-0A1C6CB0E2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02EAF9-6683-4770-993E-5A6784CEC8E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A22E51-572B-44B6-A109-AAD221F17DF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877459-2BD7-4222-B0FC-D970BDA9BF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5EF52C-0B4E-47C2-911E-98978919F53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267753-9934-4665-B4FA-B405E50F2C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B1BC76-4D6F-464B-A805-7DEA8706FC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05B441-AFA3-4D8E-8757-E377B8634B4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BFE692-9379-47CB-916A-7F1E9869518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DB68D9-FE3E-40FF-944C-703C40CA6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C8B-96B2-4E03-94AA-99E61C71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267317-CDE2-487E-8585-0594A2EF98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132553-A0AF-4ACB-92DA-D486991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D43653-DC50-4830-A604-37CD441D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27CEA0-4DD0-4BCC-9B4C-0B002142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1451136-08C5-4F66-B3A5-042CD4B0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390A9FA-5D0E-4C92-832C-1780A912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3DC6ED-4BC1-46DB-BD62-909155C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9C8ECB-CB62-49ED-A88E-508266C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6FCF697-E4D2-4405-9C09-16B5C3D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5C6AA1-54D5-4155-9AED-A7E9BF1D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5CD6-2D57-4C0F-B119-DED9F4C7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36D318-92FA-4810-9DFC-C502698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50DE3A-50B2-4BD5-8FB8-F0E976EE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59F7AD-0BED-4F97-857A-889F7675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F80D42-A883-46E1-9026-9AC3EEB4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41CA1E-30F6-4111-8978-B5253CA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24DC2D-C00D-46EB-9B91-9B21EA3D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8A0387-CF58-4A2A-B962-3274BE20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72C080-040E-43FC-B5CF-C4819967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59FD70-4B9E-4616-9797-209E8AEA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691A24-97A1-487E-8345-44DF5C0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2A4-A674-459B-A24B-DC3B70E0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7533-078A-4E53-9B8A-9721ACF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8B03E6-04E3-40A2-BD18-51CF3A7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1465F2-3880-4725-B789-D4F441C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984C5D-3A55-4461-8418-38DC3FA4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321B1F-4099-4C99-8E44-48E31EF5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92AF47-9FB9-4ACA-926A-A60A1F1E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94BD135-99A4-4D82-BE95-DBECB121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C78E87-E64C-4726-8401-265E37B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55C74C-CF3A-4C58-8950-24BDD470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D74F642-E162-460F-AEAA-09BCE7C2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48E4D4-74BD-4B51-B246-0175539E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4E2C-4420-48DC-96D9-E6E5E23B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4F987E-ECFE-44E2-A943-DD5FE04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70B19D-B512-41DC-804C-610C4F09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54D7EC-BCD0-4495-A4AD-DB89C712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6335CE-E0E6-4487-A651-380FEA3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3BF02C-9F08-4259-A128-CCED9364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51CBC8-59F3-4530-B782-29F932CF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F00DB6E-C31A-47F8-905C-FE6CF2F7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BF4C00-7DD4-4E33-9B06-2CA7D66A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FEF26B-559F-410C-8556-D4345FEE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E60A86-137B-4A50-9A33-E9B6073C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E92-F768-49AA-ADB6-15DF2651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EF9365-72E4-4830-87AD-9659C56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E664A0-8BEC-4F55-B8B7-A1465F3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5CBB40-E894-44B9-A554-B2424F5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47613B-1809-48E8-A51E-752AF4C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78332D-22BD-4039-A2D2-A310672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C4C2FD-55E4-4014-9093-AC95E5E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DD77B6-AAE4-447A-A04D-92F7BC55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038DA6-D81F-479E-B383-0057759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5A6EAA-63B3-4D45-9C5E-81117925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5B9761-D023-4D0A-A233-179469FC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D3FB-1B6D-4BC5-856A-9B2A0EB8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18FA5E-55FE-4CAC-BCB0-BA6DA31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936E40-43AC-4EFA-91DE-9062A81D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0924A2-428F-47CB-B41B-7EA3195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79436E9-2BBF-4084-BC01-180367C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788F4F-EDA4-4735-AD61-7A9A067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7586E1-F83D-45B1-B3C7-6CBA244C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3D85BE-0C65-4E9E-B477-EC74BBD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171BF3-B134-4593-8834-700E5566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860D0B-DFAF-4EE6-9478-70E5A722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17E408E-A0B2-4F69-B8DB-D9009A15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33F-7F39-4C3D-89E7-B4919C60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A126EE-2350-4D22-81DF-068FD2DB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0ED343-664E-4690-9F79-F58AA695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1DAD61-9F15-4652-8998-FA58FE4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851330-544E-4133-BC67-C8EA819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4845A7-2A85-4F08-9EA6-09312A61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69F695-220A-4566-AB39-08CD565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6B371B-DCA0-4E02-B7F1-76885FDE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3F463E-00DB-414D-9BAC-6C62807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390259-5AF5-42B7-BD0C-13302EC2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CD9E40C-B8FB-4004-ADB6-DC909CCC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E934-B048-4BE0-BB6E-7B99D873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8CAC54-E178-4640-97E2-ECEED2A7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11D814-1AFB-40ED-AE86-09EE8364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EB7D0B-3952-458A-94A0-BB89CF25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432F8C-AD5B-424A-BE57-69B2C497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438299-34B7-4CA1-AABE-350A2B19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19AF98-2D93-4E95-B0B6-7EC5C9E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E29F2B-CAC2-4CEA-8959-210E513B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1A123A5-2E9D-49D4-8F61-4A4B89F4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6BAA34-B0C0-4D83-A493-280DEB45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B0DAD4-3BCB-44F4-995E-9235608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99F13-ACCA-4395-B84F-863A51C3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4AD9B9-FCE4-40B4-B459-70963A51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27E710-BFB8-4704-BC4C-46E9DDB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C91E73-459C-45D1-93AD-23E81CAC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E236BEE-B5FA-4C42-B57B-762B8CE5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B4EA4F-3018-407F-AD66-6751A7FB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73FDA-9A4C-4321-A8A6-AD11430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1B05-8261-48FC-9CD9-B4EECAEC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60F2-5507-498D-986F-63B0D79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01B8-E4E2-471A-874C-ED199AD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81A5-5CDA-4568-8E77-20E38DD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62FA4-7916-4314-8DF9-C770729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1C36-B2D1-4D85-89B1-2B8C7FB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74F4-FBBC-435A-B3BB-2A7FB28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34F71-7FB8-4EA1-BDC9-38540AA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25BA-0A5C-45C5-BAA1-97E80830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6106B-AA69-4671-93DD-1A695146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3AC3-B214-4B41-975C-1F925493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8A641-9A99-4E6D-8BF5-2EB3F552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B1BC-1753-49F7-81F8-21CEF98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4A5-3A09-4ADD-9AEF-A2B52C5B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CE7D-5050-4B62-822C-D73BCA4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C0AA-E283-40D9-980E-D2B880B6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FF2D-4264-4824-98B6-FC66EA76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86F2C-BC52-47BB-9831-0862E0FC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EA0AB-4EED-4C44-B304-BA2E7D5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EDF5-74A3-431B-80BD-00E5FE8F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7452-CCE5-4343-B4FF-0F8DA89F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A43A-A0EE-489B-8465-F5DF0917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94973-4BC6-4796-BA4A-0CFBA4CF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002AF-2799-47A3-AC1D-7C8A57D8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15F-AA0C-4E38-962B-01B4D251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FC8F-C287-4581-A107-8FF1FBC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581A-A0CB-46C3-BE41-83A9CEF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74ED-30C0-4B82-AF5D-908F2DE0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4872B-9ED2-47A1-ACC2-A9BE3BB3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04EF-D2BE-48A2-81A0-563548E3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24C9-E965-4698-823A-ECBF241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87F7-46B7-4726-8482-B0E7CE4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4D94-55D5-4325-97C2-8C945AA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128B-AA09-46AD-A77E-1141528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74EB8-7CB5-4D75-9A90-FE6FB3D4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7FAB-9CC9-4CBE-BC08-522992B8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8D8F-AD31-49CC-B203-DDA726B3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E5D4-9D04-4EE1-B4E8-2205A95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EB6F9-0AE2-40DD-AE90-1EFBDA4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542EA-B646-4E24-BC0F-19F2392F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E714-1A82-4D97-883D-77A5E055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EFAB-65F2-4093-AE8D-6C51D429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AA44-25E7-45EB-A8CA-763B3C13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06CB-439C-4FC1-A97A-92FAB2D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E905-4869-460E-87EC-E0C8080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31C3-84F9-4682-AEBB-0FCE951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2F6-5ACF-4DC0-AC92-3E7EE9DA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FB28-72F6-48F2-8BFE-B6D0735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43CA2-31A0-4F7D-9DEF-8472C726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0B11A-624E-4D26-BAE4-E33887B0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6130-0666-4E96-964D-A0AC2DA9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CAED7-BBEF-4614-A497-6C5A25F5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6373-1C4F-4CBE-99B1-ECF4652F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848E-24D4-4450-9629-875F3AC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CCFC7-4A52-4414-9DB4-68CC2BD1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7A3E-8BE8-44EA-8371-DD0351DA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48FD8-BA81-40F3-9F66-3C2DA11A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425-596A-41EC-BB1E-4E6E1CE8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3818-FF7A-421E-A5C1-8FCE9325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E499-8FDB-4CFE-AB31-64AE76D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E1BBA-5476-4A1A-B2FE-87FF5F1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F73F-74C2-4C8B-803B-BF2B9029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C9576-7A8B-4726-AECF-BC73F5BA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7E97-69A9-4F51-B337-C21C5ACE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50723-A489-4A9A-967A-31EF362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25E4-36EC-44D1-8963-CA86A1BA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E0D7E-3572-473A-A81B-90C890E7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66935-BA80-4DD8-8D6F-CB751DA8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29B-9EA1-49DA-9047-C28416F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CD80A-A3B0-46F8-8DA5-E29192D3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4EF2E-4A32-4DDD-B0C0-00025C1C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80F13-A87E-45C2-880C-0E34D8E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80086-9BE6-435E-8F58-E323947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6874F-524B-4DFF-A9E1-853E8626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54D1-7053-4F05-88A2-EFF8F8EB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36D9-8F1E-4F98-AC5A-00BA8F2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463E5-E994-46C3-9DBB-5B78A956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EF769-BFF7-4183-A3D5-111FEEE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D085E-CF24-4AD9-A918-5B2A93C2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CABAA-06EA-43EC-83B4-0388E97729C0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6DDB4-D19C-431A-924C-1B6B4D3CCB5C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031E6-DB74-4A64-8848-6EF22475326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87B6B-6A1B-4891-99C3-1F8CE114457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A9391-A513-4AD1-BF3E-9D5D52DD8FA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8BA1B-80A1-4EED-AF7E-27531BA2E96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62A7F-411F-440D-968F-5B430A72CD7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7DB4D-E7B4-4E07-BB12-764D965FE27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F4D05-5B0D-4B4D-8DE6-43454A2F7DC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D7ABA-6DD8-40CE-80E2-3C76BDB979B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5D53D-6483-4AB2-A6B2-EFD56CFEA2D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459DD-0E96-451C-8315-3DC4AC0B867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03D9D-D55F-4C35-BD9B-52F6A4AFAB1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6165F-EF3D-4083-80A8-9DB01C1A2BB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747C4-ACA6-4C22-AC85-439BA0CF859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96034-7561-4CD2-AB6D-8A635710621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60B58-8BBF-4E6C-9310-6EE25E36157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5E3C39-DCEB-43ED-88BC-430CA1E2999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FD3A2-74BD-41D9-A762-6A5647FBA17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64957-8A0E-4D54-B54B-000F9B4C9EF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C7035-FC3C-4914-B461-A856B5F44C7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8DA4C-3B3F-4356-9913-7D5D1FA06AC4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6ECFF-1823-4956-BE6B-8E0CA8B33E1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D92D3-BEA7-42AA-B21A-E654248126C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D4309-4B8A-4B2B-89E2-74578369EA8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D4B3D-36D7-4709-9EC8-109503693E5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8BA9A-EA6E-405C-85D3-6160FACB576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BB659-3261-4DFC-9CC6-5EFD028FEC9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8DEDE-5073-455C-8C6E-AFA0E3CF6F0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B85C7-5A6D-4FC7-9AB6-2179E5FE0CF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28489-602C-47CB-8B74-E59FC97DD8A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8454D-E4BB-4113-8374-6CA71799DE5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CEEFA-74E1-4669-97A1-903C8C056B6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77E37-51DC-48A6-B71C-2D1D57D96B0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7CA02-B958-462B-8C7D-07B89CADD1A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29C19-4978-4096-8784-AE10D9228556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1C287-818D-4E6A-B97A-D7FBEB19DB9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143FB-F37C-413B-B2EF-BFCB2C187CCD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9F9909-5E48-47AE-BB87-B74959E46DF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2DCD4-47B8-47FE-A463-BE754B3ACCC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75780-98C9-456A-9B98-7060CBCBE73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83E0C-81A9-4C9E-A9E5-0C8AA0EA08E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a5c44b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2A406-7BF7-4A6B-B7F1-DF7F2261CD3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7ec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3fb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a5c44b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7ec564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bc96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922AB-CE4F-4F2D-B860-7A67B188A78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66601-C046-4B22-9C45-C0A3F213914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85469-8D9F-4EB6-BDB4-66A7DDB0D7A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539A3-F5E6-47F4-90D4-C3C7BABAFBE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02F-671C-4744-8555-33E29D31EFD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4B854-B528-41A6-9F24-785D57A66A8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A3421-4D42-4970-A19A-554E0D66021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F5C54-1894-474B-AE04-B8DFBF96ABD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87D1-C98D-4CBA-9253-DCB702BFAC9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C5F4F-EC54-45BF-A6A0-FF60EB77138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a5c44b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7ec564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3fbc96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C1DF3-A445-4EC4-9753-D501B3022DE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BDA07-F85A-43D2-960F-2E9AF0749C7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b2d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a5c44b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B6E5E-6B4F-4996-BB52-5DAFD3D6E23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2091B-BAB6-4214-993C-02D0479A535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7D7C3-6E6B-49C7-BDFF-3E89722D6FB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b2dca2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c9dc93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6dc7ef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8cdae4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8bd8c0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ACA99-77BB-4FFF-9637-B0E2C254B32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a5c44b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7ec564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7ec564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7ec564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E847F-13FD-460E-83FC-70DEA299639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3fbc9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bd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6dc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79dd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5c44b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7ec564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3fbc96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3fbc96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0c2d2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179dd9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5c44b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7ec564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0c2d2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04A72-9303-48E7-AD11-34C9E596BD3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F686A-8B96-4894-98B8-07205636D50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a5c44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CE1F-60E4-46D9-95A9-E290C19C39E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3857C-433F-410A-B961-F1DE6AEBC1C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56377-1D71-4F37-843D-F92B7E42920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41401-60BC-46E4-B751-223093767D2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AEB51-F4D2-40B1-BCA5-2D9F8FB3457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C1EF6-147D-426A-8172-31FD748542D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a5c44b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7:03Z</dcterms:modified>
  <cp:revision>111</cp:revision>
  <dc:subject/>
  <dc:title>ICONIC</dc:title>
</cp:coreProperties>
</file>