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5FAB9-DEDC-4C01-A887-7C51103B8286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42B2A-BFDB-45E4-B95D-186F62E46B90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82C40-CEF8-4966-A4EE-D8FE8D2BB792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893-B4AD-4E4D-806B-73AEA7E7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778-9674-490C-B08E-72D37C59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B2AFB-04D9-44A8-A360-8F5AAD5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97BF-0DBD-49DD-9986-F2CA8DF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1D72C-1639-44F4-A1C9-F656E52A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3C724-2EF7-4D37-B7EB-18B10C4B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DD1AE-8568-4758-8F2A-E2DB64CB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88BCC-BAF1-4ED4-8742-1CA8B2D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8C400-4F79-4290-849E-885FD4A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7B213-EAEE-480D-A5E0-1B225F49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F0FB4-ADE4-4BFA-9AE2-28400913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2F0FA-7270-4C20-8712-A009A66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41D-1CBE-490E-A1CA-F641724A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6ED62-610F-4EC0-BDE6-212C7260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F6CF-6302-4C6A-A012-5BAE29A9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1671B-5F33-4613-B604-677AC5BB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61601-92FF-46F6-8044-83D8002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C504-7656-43F1-9B6D-8A46D33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E5461-E31B-4CCF-B559-FC21197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B7E9E-F405-44D3-8D76-FCA639E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0D2C6-70F1-4501-846B-76DE7777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112B-F303-4A1B-ABA3-2F036B1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D89C6-23A3-422C-B71D-D2BDE2D0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6EA-F59F-4DB0-93DF-354B0B68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99E58-0BCF-4131-A85C-BC58F38E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97641-DA0D-49ED-9A0C-88FA4613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3C213-CA0F-4BE5-B0F9-365EE59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C09E6-8C58-406C-975E-39AF0444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25BB-289E-49E5-8863-673ED86D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FBB1F-787A-4466-A452-9ABF96B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A447C-FF16-43BB-83A5-D829D7D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E4FF1-A714-4B20-8AAE-E677D4B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2EE74-E856-4163-8989-A980224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7379-9858-4E6E-A6D4-2D8A38C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008-7D39-4B98-AF1D-88787C1B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557B6-3CEB-43A0-90CF-D4FF605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0F55-F664-41F0-B312-A4AF3056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DF13E-E8D6-4173-8327-E54A2480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3EE95-2502-4140-A030-AD20D221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3AA4F-5C92-41F9-9394-6B1FF815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6087B-FFEC-48AA-8F9C-FE93F507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E0D49-C121-4CFC-8A15-51F929B5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665E0-629A-4103-9759-44F550AE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E816F-FEA2-4C15-9D01-5B92508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A9ABB-EC18-4AF4-9C10-5CD274A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3113-C874-479D-A21C-20195EA2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FE022-DB7B-46AA-8D79-4552C4A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FE8E8-10C3-4026-8CEC-C5421A5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8C655-C22C-4B56-A4FC-8F75EB9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A82DE-E5D0-4F33-BC11-2F3D7101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8673F-557F-484F-93F6-C31AB13B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DE8-1836-4FE6-94F5-9D492DF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BF6BC-DC80-45C3-A2B9-B495294B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DEF34-E3BE-4247-B236-5FC0E25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5D9ED-20C6-4AB3-963C-0BCB02E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B1F0-0F74-49E9-ACE4-FAC7A91A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A8EDD-F813-4AF6-8576-9161DDE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1C394-7FBF-42F8-80DE-7760163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A99AF-A974-4CD4-8F2D-552F4290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51246-B1C7-427E-8684-28C0A24D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91A1D-26D5-4686-8C47-C1D5DA9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F860A-3D5D-40C9-A1F6-7C331B7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554C3-F3E8-4341-8D55-4F39182E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4317A-9EE6-4BD3-B26A-0A4B07C0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AFC0A-07B4-49A8-A3D7-3B786424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EB3047-DB7E-4C6F-A59C-13EFA6BA0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9318-47A8-4939-87E2-FE75387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DEE243-9F82-4FC1-890B-F9A9592741D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054D71-1A53-4914-A023-F9AA4424DCB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98C907-F297-4A2A-AE62-0AFFA5DD2ED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C1C288-8B6D-4817-B9D6-19000663D9C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18511D-A978-4E01-BA42-DF6C31AA53A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9254B3-C8AA-47CD-8AE1-99C05CAA9E4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7BEAF9-13B9-4D91-A4E4-51659B33DFD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97B467-847E-464F-815A-66961AE2CE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B96B8C-8B74-4A76-AB44-2C6695C453F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E50B05-5878-408D-AA76-98A62A46BD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CDFA-9C37-4774-A73F-9C15C843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2A9B80-91F6-4376-9023-8E81AF9038A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714FB4-2AEC-4AC8-AFCD-61776222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FAD033-6E10-44E4-AB20-F75D6F2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DCEC7F-5EC1-4CEE-B7ED-A703F802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120A3F-78C1-4E11-9EFF-B6C6925A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C8DC4E-63EB-4380-B72F-68655262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3E58A1-881D-4A62-98EB-B755B636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8BB2DB-F9B0-483B-AE05-371EF46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CECC52-90DC-48F6-A369-4CEFB9A0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C94D49-12B5-4940-92C5-630650A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472E-65D1-4C52-8FE8-97B3481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6FE5E9-FBD6-4DBA-A84F-5D400F86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1DCFCEC-8034-44E8-88C4-B470AF70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C24AD5-32FC-405A-B3C8-A44EF87C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1568F7-F3FA-4466-B28E-0B7494C3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FFF2D9-EE07-419A-8FD2-CDABDC1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A20B80-DAFB-4316-A1A3-061A37FF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62E2FA-803E-4F19-8E8A-6F4B3810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05C648E-263A-4675-9EAE-6490D6B2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10BCEC-BD61-4CA4-8BD8-E96A194D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7596B4-9175-44C4-B7CA-4E3D15BA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814-AC04-4B0E-9E6A-F8AA1F9E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192E-DFC0-40DE-BFD4-3A2D2683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D7990C-6F45-450B-A512-BEA41B06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A83AF5-94AA-48F6-B143-FC74FDA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639505-4CFB-462A-A55D-CBBC1FEE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ED7B64-DAFB-4B13-A8DC-6E765468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7AE23C-0BA7-4FCF-96CB-86EFA20A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CD49E1-EFF6-43EB-B8C0-A9C02EAA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AEFB5D-B72C-43F0-BC8D-85F3423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558853-77BD-412E-B295-C5740087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9DAB66-3FF2-4F31-ABE3-47EC4CE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063C85-19DA-4B41-B680-72AF751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44ED-9DBE-4B1A-82B9-6FDBFC3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9C6972-D3F7-49AF-924B-CE1ED23B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726229-B8F0-4731-BD85-5596D015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6F4079-4F66-4243-ABCA-738877B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C9A93F-2489-49C9-A4D8-AB83D23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C16090-DAA7-4531-94A3-3537CE62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08F812A-DBB8-4938-8FC1-D921C9B9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DCFFB1-5402-40CA-8E05-FF7140E5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A7B2133-32C4-4978-90E4-9217C497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253B68-6BC3-471B-A028-07F611F7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372BB8-FF1F-422E-99B6-F829B919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A860-8DB0-4C46-8429-87A9AB35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30ED90-2CB2-4D4C-94C0-578FF7C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63A657-EA9D-49FA-931D-730807F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217B96E-CCFA-4F3A-9543-BADD56F7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ECC08D-E358-49DF-AA3C-0C736BE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C5B4FF-7241-4CBE-BED1-ADE7596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57CC31-39B7-4FC5-8B7D-CBD2F3C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6D3746-B479-47AF-A187-D61CDFE9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C6E5E6-FDB9-419D-83A7-12C1A65E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DB6D6DB-3B68-4F5A-9755-76246180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A0CE5F-F73E-4CF4-AFCA-6C193015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32DC-393D-4EA8-BF5B-93736827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97F9EC-3BF1-4643-8AA7-2C6CD3D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767A74-AF77-48AF-A0E1-84CFB660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86D478-CAB6-4DB4-81E2-04389329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FC9E1A-E646-421E-A697-B87BBC97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964A44-ECAD-4083-A140-42AFB88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B950BD-F1B0-4DB5-BBDD-43B25B2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5D1F6C-1490-40A9-AFF8-05BB35F4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BE443C-5B30-459E-BE42-BB5A234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9355DE-659F-4400-BC8B-13953609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AA8E35-D31B-4410-B627-D55FCDCD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3B98-B59B-4499-A5B9-3CCE354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90830B-00FC-4983-9BB2-865EC693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13C6BF-122E-4081-9324-BEBE1062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99BEEC-6022-415B-85B3-DA827CAB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60DD00-5A5E-40B5-B4AC-EC021DAE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4D16C6-11CA-41D6-9B12-5C1A7C3F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C75720-7794-4A88-A2AB-AE77A85C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A630148-638E-48A3-BFCB-A2A513C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C46018-A36F-492A-A055-2FAD477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FA3F64-B948-4B79-91EF-B8E23B07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4896AB-9E6A-494A-99A4-F12584A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9020-252B-4699-BE46-50952C3A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8F367A-F858-4870-9CBC-C0A23C1C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11C432-E66E-4364-BCFE-CECF8513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7958254-1266-48A9-BB85-E0146E7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80B501-112E-4B1F-B12E-B09AD1FE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CE69A4-89A3-45A0-95C1-08C1E52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9A2277-C8BA-4BBB-8D2B-6A415428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B311922-8866-4C11-BC9B-6B61659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5E07C98-A843-4802-B716-CDE4DCC2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2CA3798-3864-4D53-9C18-506D9DA8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41CD46-F778-4CCF-972E-F2809940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3CE0-2CCD-4436-844F-6C97DC60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42B79B-1433-4F43-BBB4-25A30E5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ABE977-3DE7-4373-BE73-A1D5B1D2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0258B79-B76A-4B62-BC19-AC824DE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E2806C3-E7F8-49DC-8490-B2DC3BC4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B655F82-DFA8-41EF-8C86-ABBBF90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A06C-EC8E-4524-BA90-FABE73E9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5406-DCC3-4508-B37E-ADD6F2DA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8D3B-DDFE-4A5E-8B27-19AE376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2C4-A2D9-496D-A9E5-15186866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733F-9256-4F5F-8750-A3C181AB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5570-337A-4956-85D2-F2F8CAC6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7F66-DADA-4C6E-999D-3B0FCF0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F098-B8A5-42B4-87B5-2FD0825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37A1-7149-41D9-8AD5-DE6F061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BD97A-B637-4571-B06B-8818575B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32ED-772D-4C28-A763-09E7CD59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AB0C-4837-4906-969D-AB004E6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AE1A-E8D1-4E1D-9695-EEFFA78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A710D-447D-4396-8E61-034405BC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211-A0CD-4CC7-BD6C-79C7D69F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01A3-23E6-485D-956C-19D0467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1FE9-C21D-4876-A2D6-7B54361D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1D79-465D-4119-B7A7-F758A99D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74C7-3ABB-420A-9830-84C3C96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38AF-34C4-4EBB-9C97-19A8B8E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7DA4C-E845-4E79-8E48-6631D5D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FF794-E290-4FD6-9EBA-6E07C3A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53CB-632C-4EAC-A497-10D95E04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284B-B7BA-4A13-9003-EBFB186C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B62B-EB64-439C-B612-2CCBFF46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269-CECF-4234-86B9-FAC1745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DB42-60E1-4C28-91A5-45D27E34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80E1-4B73-4065-9EFE-116BE162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1513-D495-4014-A790-BCC6454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93D2-82A8-49B7-A2B4-8B579AC1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7D5B-7314-4D36-8F38-DA839A89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63CD-5B3F-41D5-8629-84A1D6B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CB3D-CD81-490B-B744-8F05D57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CBF6E-A54B-4151-B883-84FC4D1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DCCA-D19A-4175-A665-099197BE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9B70F-562E-4A50-98AB-48AEAEA8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F59-84D5-4DCE-8A45-D093DA14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8D71-4CC9-4D11-AC0C-7C499994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1477-9D24-4B9C-8CB5-5082D78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69735-4DA5-4910-B990-6DA59A45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561F-2952-4DFD-977C-5C0A05F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FC58-5ED6-496A-B05A-26B7A975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6BD94-B55D-4A90-AA23-3EACC307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4F1D-B8C8-49E9-90DA-8B80FD5C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CF9C-437A-460D-BEB0-4C060A5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57F1-AFAC-485F-9D1E-C86AD0E1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3F87C-383F-4E25-AF4F-A7F5CA1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E98-535A-43E1-9657-F770731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14C8F-7FC9-46CC-AA93-D539A0BC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6EA0C-C07C-4257-85D5-D2AAD402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2BF6-82BC-4BD1-9732-23BAD8A6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78A7C-B89F-430D-A55C-F521E752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AA200-6C03-406B-BEA4-1A5D500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160D-6481-466A-8054-326AC92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996F5-2294-4678-A0E0-922B45B2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1FE0-FB75-49C4-991E-9891B66D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4417-4D58-46C6-9917-05D6285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2C09E-2B17-4EAB-99EA-04C230E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07B-EDD7-4D35-8424-50BFB9A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80B5-1AE1-47E3-92CB-8B9FF02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2A0D4-2627-44A8-8CDD-7BDCF783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3BB53-F71C-4F11-A2D0-AD81080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C7DA1-26A6-40A5-B118-A42D29B1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4870-CBA8-4EBC-8545-8312A318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B812-3596-487F-90D6-9399224A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A2ACE-9555-4972-A133-1A2DCDE0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1CA06-A77D-4846-9179-59224F6A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3A4AC-8A93-4E15-A72E-8F347FE6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83E0-4B1A-445C-988A-823DCEFC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55E-44C8-49B4-8BDD-B3502B3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20EE-FBA2-4259-A14A-FC99684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7F09-4AAF-41D9-B697-E8A35D1F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09B58-EB64-4E6E-9473-02FB828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F12D-B1E2-4666-942A-0F619E68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A3EE7-28F6-4BC1-8038-86446EA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8985-05FF-48F0-AE3B-E0E085B4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DEBE-D078-4545-8D6E-BFE5F3D5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4F50-58B6-4947-8F80-840D29EB4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98D61-DB5D-4854-A7C5-BC71CC22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B847-27B0-428B-BC96-62823241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0BD55B-067D-4697-9438-0AD8925A8F96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06CA1-FDF9-4295-82B0-79B778C4AA30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3901B-3F30-4913-A0CE-12E6F0E5E53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C3FE9-CAC6-4C83-83BB-6123EDA78C5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8463F-95D1-4822-A238-8711194BB68A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A8FEE-8D9D-4740-A94D-97AF11D1835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8D94D-614E-4881-AC68-A0F18ED68CB5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5AE3C-7541-49D3-B594-DDB3E6BE684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931CD-6AF7-4E27-9827-E5FD1C752209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C0A02-C605-4A4A-A541-45FD058520C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1233A-470F-46E0-9A47-D4BC439FDB8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565A9-739D-45B4-BAFF-FCC214332EB5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3408F-B114-4C8B-A497-397E4CB424D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81244-9BC8-49E5-901F-E13BF86F337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3C720-3223-4AA6-BC76-B00A6B7E8B7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FCC33-0DDE-4F74-8325-73A473A869A7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C6483-7AE0-46BF-825D-0BF4F6E4C0C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3A0F0-EE61-4B46-8956-7B658462521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40BDD-E380-42AB-8DD4-815ED4B2CB2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C2ED3-A957-4C41-9A79-E0332A4D745F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1934B-0E4A-4CEC-9B39-66D24C982DF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A5504-E5D8-4B08-B34C-EC0E8373032F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5C33F-E8CD-4EF4-8A75-2AA447298EB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78C30-75F5-4802-B54B-75A9A2D5F6A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9B134-0358-454D-83AE-A475974856E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1C18D-2028-45F8-80BF-3DC4DE80267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33439-FE06-4AB3-81C8-4E4E920E56E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5CEF3-7CAC-444A-A865-9747E8EE967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9F04D-C95E-4F25-94B5-06460F3040E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AF6B0-A9DC-4D9F-8D7D-11189FB0B57D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12649-BDEA-4520-9672-245C208D9E2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189E7-2F8D-4A5A-AAB7-1C2CDCAF110B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0083F-2806-4678-AEB7-983A2FC11F0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179A7-5D05-4CFB-A40C-26180F39782D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4DD09-CF0A-4B1E-8670-09CCAA52143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1123F0-D2FB-42CF-AE57-F18B36FBEE08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F8AA9-43D0-4989-AC4E-2075428F584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CD017-8483-4990-851F-7AA8B0A3FE2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E8C6B-CC14-40A2-B7C1-E390DC0AAAC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D5A86-3E2D-473A-B1F4-3935D58A5A75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8630-50B1-46F2-8DB2-F64C976B77A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60888-ED5A-4665-9C1F-2B5EFF354CB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3f3f3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a5c44b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9B422-28F2-433A-90D1-539AEEB4A91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7ec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3fb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a5c44b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7ec564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bc96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C3866-06C0-463D-BEE2-A9A115ECD60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BB0B3-FBB9-45B8-9286-C347E6A5D73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FF3D3-28C8-4E66-AB1A-BB36E813A06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81CC1-EA5A-4BE2-B02E-A5C0978550A7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630-B8EE-47DC-BB0B-22ABE41E0A4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CE9A8-646E-44AF-B4AD-24CAD9997DC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C2E94-486D-461C-A71E-B810B79448B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2142D-57B6-40DA-BCDC-A063AC4A63E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3f3f3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EFA-D259-44BA-A3CE-8B07D27E887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9EBEF-86A8-4B05-ACFF-193ABD9B467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a5c44b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7ec564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3fbc96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31EDF-3D62-47F6-8D6D-E49FACA64BA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56D4C-DCA7-4F8B-AE0E-6872706864E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b2d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a5c44b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FFFA0-3743-4BD9-AA02-7E17EDB33C5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AF1DA-F92F-4926-A105-A0F2039FFBE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1C175-5756-4B8F-8EDD-92F55EBA1E9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b2dca2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c9dc93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6dc7ef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8cdae4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8bd8c0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8B3B2-103F-4F29-AA5B-0883CAFF5BE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a5c44b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7ec564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7ec564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7ec564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13D28-FBE1-43D3-B420-A9E22E74B1B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3fbc9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bd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6dc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79dd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5c44b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7ec564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3fbc96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3fbc96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0c2d2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179dd9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5c44b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7ec564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0c2d2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C6808-E196-4A62-91A1-B53E25FE74B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DE46D-075F-48CA-AEEA-E5D5C685410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3E91E-9D7E-408A-8E36-C88811A7021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91BBE-D4CD-48AB-A786-43262988B38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0D986-C582-4141-84AD-A7AAC1EC1F9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77FE8-5140-4012-B893-2D63982BD93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C593-A416-4C2B-BFA7-F96664739D5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4D5D5-CB99-42B2-8B1C-0A6E30D5486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4:45Z</dcterms:modified>
  <cp:revision>109</cp:revision>
  <dc:subject/>
  <dc:title>ICONIC</dc:title>
</cp:coreProperties>
</file>