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76ECB-4CF0-46F9-8805-523A063273BC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7A85A-A8E9-473B-94AF-B139C35A6C5A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2F394-E910-4383-98F5-326E707EAF3E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4C2-67AF-4D79-A81D-96CA0B68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698-2B82-451A-83C4-49288681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A0C28-F677-4C54-AE4C-75AB7A87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98445-03D5-4F40-A0E6-92710676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32051-7AC5-4D8B-82CA-1886FAE3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39EB9-2BDF-40E6-9A73-186BAFB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EFBDF-14BC-4DE9-8000-9DB9CB4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A8D14-66B0-45D7-AA74-DED8BFF9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D161A-8A91-4C80-874C-F3F0881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9253F-B7FE-470C-BA35-198BB28D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7E74C-90C3-4906-8A15-D7B54553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9F506-3D31-4BF0-A44E-B4EDBD94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3C8-D03D-4E51-82F9-5F21491A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BCB8F-DB94-4BBE-AE1B-CF0193E6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857C7-3A0B-46B4-A6AE-FEB0149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93FA2-B9CB-4ACC-A892-1216C107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952C4-D45A-490C-93B7-7B863E2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045D8-7765-4E52-8253-732E66B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A3D1B-0E15-4DB9-99D1-ABF5310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FCE44-DA82-4FC6-A0B1-B26B6CE9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073BC-1E4C-4A9E-95B2-07EF572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9591D-FF6A-4B8E-8076-3F45B5D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AC70B-2C38-44CE-A803-6F745617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AA6-AAD2-478D-8EA9-19EBC5E7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B0270-6391-4041-B9F0-FEE29A7E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66A7E-8693-456A-9DA1-934FA76B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914B-7C15-436E-B8EA-726129A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4A9A-2FFE-47C3-9B06-0FC6F1B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CA8A6-F10C-4EFD-8630-FABD24C9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41A44-7F1B-47E8-8717-D360A7D9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928CC-6FA1-4054-B387-E28BCF1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6FC3E-AA1F-48C7-836B-5472DD9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D1903-A0FF-4DE7-9101-8F9BF69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A71E1-275A-41D9-9112-DD3D520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44A6-4AE5-43E7-87F8-B0047F7C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57297-BD12-448D-863C-767EE217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AA3DF-1B91-49D0-9E9F-B30F161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770BA-C2AB-4C90-9C1A-2104E8F6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CB53E-DB37-4C2C-B8E0-0977E293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F619C-0346-49CB-953A-0743BD42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EE74B-F08E-470C-B07E-F05BEEE2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CCA8A-3630-4A43-9FB3-08E7E21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4EF64-237D-4D14-9163-7653C639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3C8D0-0F6B-4583-A668-2FCC59D7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86672-AE18-44A4-AD2E-111CC07E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F59D-5062-47CB-8BFA-EF93C65C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870CB-003B-4BD2-AC5A-38F0819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E631E-2764-46F1-BDE0-A4781EC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AED18-9A8F-4097-A60F-E4023C4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0A3F6-7DB6-4DB7-B9B0-08AB1F44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52899-84A6-41A0-9FE3-321D2E38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E2F9-6308-461E-AA50-304EAD3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AD2E6-0CD4-4B02-8BB7-EC9EB554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08F3C-739D-438E-A0D2-0A8A2674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4F095-5B31-47EE-8D2A-1A583019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3EA9-64AB-4522-9451-DEC7BC33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17F3B-CA55-4C82-A8A6-D3FB6C92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E7DDF-0B9E-463A-999A-8E0B96CB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0DAF4-BB2C-42EA-9F31-89B0F58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8D394-9080-4F1D-A3BB-A70475F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21111-877D-4437-B529-2EEA2C4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154F7-42E8-4789-B095-441A2740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ABD48-8EDE-4F53-A801-16671A0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9EBA3-7E5F-487D-A844-0061C304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0D873-2351-40FB-9856-61BDDC72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8EF9E8-E6C6-4F02-888E-019D6E983C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4C7-5836-4532-9D4F-46377BD9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4D6159-A8DF-432E-9192-075C10623F8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62DAD6-D752-43E6-BE1F-690663A27A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AC2320-B0BE-4B88-9903-136CDEDBEB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FE3FFA-402C-4907-91B2-20831584C99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C50E75-FFF8-44C3-81F7-258BA18960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F948EF-DA11-4049-81B4-03DA57C25EB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FF7B86-0A7E-44BC-A145-1B54CB4F38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520C3D-C2C6-428B-B78D-B607BE60796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E17325-CD16-4505-94AC-C47BECDB6BC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91F16A-4B25-402F-B747-9F7079F02E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5FE1-B9BC-4FC4-832B-FDFD99ED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E8AE10-531A-4966-BE7B-8824E71915A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C399EC-FECF-40B0-8D3C-12EBB42C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C2C053-E12A-480E-9669-5F19A7E6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ABC382E-FF29-46F1-B1C5-3AF1D04D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3E5B5C-1856-4C47-A4A8-51047593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6396B5-03E7-440F-ADC0-1B1DA6A4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ABEA03C-4533-4676-A0EE-914A3842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4272F5-734B-4FEF-98CA-2E489D8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B30E2F-C85D-46B3-ADAB-9767174F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48BFD1-D189-4A83-932A-EC12FF96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5C28-301D-4097-9464-D78ADC9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871573-52ED-493F-897A-0CF8B1CD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AA5870-21D5-4692-AADA-953D8C68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3D9572-4816-4533-BBFA-D565F39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617B0AC-0512-4245-AB11-A641C19D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ED95F6-6EE7-46B9-80E6-017C95C9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A38CDA-5F18-4967-8E30-9EE4C8AE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8DD23E-C8D8-4F92-B8E5-8F89923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F62500-DA0B-4028-8D40-FCE0C169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BA1427-1959-45B0-9F24-AB12F68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39E8AF4-45C5-4A62-B613-B53EF50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B6C-9136-45A9-850A-6E9B00CD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BF71-0666-47AD-81A5-28B7D2F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BE5F5D-9D4E-4CDA-894C-163DEBF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35C928-247C-4106-8912-00FC179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AF4727-CDE2-4FE6-91F7-F0783BF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5BF746-918A-443F-BC76-C77E8676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0189A5-6585-4435-A42F-9456D174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1D998B-0505-4998-9869-9F7DADC8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6F5EBF-1E69-4ACB-91F9-C3D09C94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98AA3C-1612-4C51-A81E-D08513D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0D52CE3-4DEA-488D-8E89-57D84E3C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F000E0-0DD5-4395-AB1A-380368A7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71CA-96AD-41ED-90EE-912B1013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6B82F9-6175-4561-AE44-9D948F28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299237-80D7-4415-9225-A397130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E68FE1-DF83-4BF4-83D6-01B1797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60096A-6193-4105-9944-4CBB37BA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FC8138-BA7B-4588-A210-5D1F282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F97ED5-7078-4E78-B1CE-A8DDDFF1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ACB680-DFD2-41B0-B24D-7F5DD52F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AF9BF0-2848-4A7C-80F6-023BC4E3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F78F45-DFCC-4C52-9C3A-FB788A1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B051FD-0EA1-4E7D-9658-D3512897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ECE-FA5E-4872-8469-9650711F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024762-E7E1-4C9A-9ED5-582F8DA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A2C717-F257-4904-8548-8F429354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D1636F-9E25-4205-B6B8-A105FC00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9958643-5C6D-40B0-98A8-5273551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ABBC28-CF02-408A-981E-A8E5B15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B0A864-90F3-4A05-8341-1BA1F72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53E316-30F1-4286-B7F0-038855D4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C00030-C4F2-49C5-97CF-7FC29CAE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2483C9-CDB1-465D-B67C-59CBDB84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DFD7773-02E6-4DA7-A39F-FFE20879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165-9CD9-439E-BECE-65EB0114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0C0219-22ED-475A-B958-B14E6548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23A3B4-F6B0-4291-9F67-50811B93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8D96C8-5A93-4708-B016-C49E56CE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046AB8-AF68-43E3-8BC2-E6022BB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D57DF8-E643-4049-BF27-5CD26BC6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C89381-475B-4346-B76A-9419C74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39B68E-996F-450E-B15A-E8E04FE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8DC249-DE5E-4451-8F7F-2B6A7670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A2999E-9386-496C-B282-79721CE9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96FC7D1-75DF-40E0-85C4-ACA30C70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74CA-6560-48B5-B32F-C43A5CA5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968323-6B89-4C29-9EC1-FA658888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711F75-73A1-4286-9D12-619FDAFA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EA275B9-1D8E-4E6C-A275-53C59D10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FA627A-463F-49D8-B7B2-11E5BC0B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37AAFD-81DE-4B1B-BBB0-50C102C2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6EEA9A-D0F3-4F1F-8EFC-A58AB165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A4914E-B679-42F4-9D3C-1F6203C5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52A75E-8527-4432-A7F7-880F2F6D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4801875-80D9-4DBC-B1E0-96B182B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525980-005C-487F-A7BA-1B466253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BA71-D662-412A-AA57-4B1C6474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113ACF-3C7D-44B4-BB71-146DE23B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BBEE99-0CE1-4200-8E55-85C34306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544661-F77C-4AEE-9287-69F05780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09B215-C23F-47F2-86CD-C0D0BC87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DBB511-60F7-48DB-B179-AE79F9DC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B02622-8B6F-4E5D-BC20-1EC27A71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C73C73-3AE8-4160-AC29-448A0BFE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A97A65D-B26D-4BDA-96EA-B93C53C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4297B4-C524-450F-904A-5297E098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AC23A85-0870-480B-B259-15E9DE6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F1C9-2BCB-4A38-B4E7-EFB6557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91A360C-E90C-4666-B9C9-90D1278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479845-4E09-4A91-B347-E494B533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BC538C3-7476-40F9-99A3-DF42944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E88D4E-48F7-437D-8A4B-4922B8B27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5EE337-EF32-4F09-8E21-0E841E85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4A24-CA07-4527-9959-A3C9E33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5C9F-8287-496A-A499-F2A6639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371BC-4299-4DBA-BF49-5A41265A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62A4-D5DD-4604-8EDF-52FC2B7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01563-B26C-4C5D-AC55-CB360EF6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9D1E-2691-46D2-A1FA-11629A0D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6E6E-8551-451C-884A-4A4F7FA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6F6D5-0520-4C47-80C0-21E5F6C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163F-428A-4E69-9D4C-A3172249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7513-AFBA-4C5E-B7BA-38E0A830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FC98-AF5C-44F6-A4D1-8228F538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3A6D-4396-4D43-BA0C-F8ADF282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5D7C-E4E1-4E81-B99E-AE424C18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7EAC-4AB7-43DF-8CED-ADFF744C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996-62EB-45C1-8C70-158E41AD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9E1A-5973-4AE3-8C08-04C05C6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5ABC1-4A43-4D27-8FA0-EF46228B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2D66-4A88-43E5-B3A6-2CD6D9D3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4CD3-3365-428F-B1E7-39EEC31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C2F0B-AB38-4B32-8764-172D53D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91EB-2664-4F84-A30B-CC850EB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62CF-A374-4A2E-A561-E0B610BC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9118-B30A-435C-B048-076CF7B9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1DDEE-C3EA-4BD0-A882-0F066187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38A3-D4BF-4BD3-B906-D112E860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32B-7192-44B1-8BF7-63C238B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1C22-30CA-407B-AEA8-64CE5001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5A8A9-22B8-479B-81FA-B88F7754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9B92F-AD38-474F-AEFE-6BEE3E3C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8003C-2A4E-4CE7-8285-A4D32E18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015C4-6C91-4585-8D7C-A3FB6E5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46359-40BD-4157-BF08-79FF219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89AA2-3DA3-4709-BCDC-E3DB590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B7A5-4D96-44DE-8EB0-C629CE0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741E-3497-4AE6-8338-BE89AB0A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2CD5F-5B59-407F-944D-D3DB7CAD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E48-511D-41FA-820D-1BBEB2FD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7932F-4DCC-4FF8-81C5-BBC04142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D598-1B14-4E20-B045-2A80B666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A503-DA33-4208-B76D-E1CCF7EA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9CBC-4019-43C3-A6A2-806C6F5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6359-FB08-4AC6-BB92-D63507BD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6438-61E7-4CEA-B935-4025CBE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7929-3774-4083-9521-1BEAB985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3D88D-8F5E-4814-BBC0-0C3167B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23E0-A088-4980-912A-8B18C7C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03E6C-B429-4069-87C3-18F5C642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107-8466-45A3-94F5-E1F4D1BD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D2ED-7178-4FA5-BF5D-13EC920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9C79-343E-4ED6-A919-90A2DAC6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E50E1-45B9-446E-8B2E-2EB669DE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B7318-0A4A-4DC9-8FEE-4FA3D00F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C4F88-D232-4744-A261-4B1886C7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56EE-EBBF-4DE3-B307-6212C1F8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AEC04-83FB-4B9A-9AA1-C6A9A5EC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C5A80-5700-4AFA-9F68-8EC42BB8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50CF-72FB-49F7-A1B1-960F35CC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718A9-8ABD-4B1D-9F8C-5A312BAE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C21-FF01-4030-9FEC-97D7EF4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CBEF9-4EC8-4588-BAD6-97924C8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8EAA-38B0-416B-B62D-AA8DEA9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47099-90F3-41EB-93C2-528A5E99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A0CAE-CE42-4E7A-B9F9-5BAE0837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181E5-984B-42BD-981C-CD439F80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D50AF-D76D-4200-8701-9E47A507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7034-9F5F-4571-A9BD-0730FDFA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72F59-32E2-43C0-A39D-8C09C107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677B9-6BCD-4F54-B224-56C7FBF3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A00BE-1C54-4162-B5AF-21EA8CD3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ED2-747A-4CA0-9685-B65091CF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6DA5-914D-4270-853F-CA79A08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77972-5AC6-42AC-934D-E7625D43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0BE6F-9D88-4848-BDD8-142E3DF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0914-EEC9-4757-B106-86BB0E7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D45B6-9640-4732-A0C5-C1C4BBF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51F04-DCDD-4ED2-882B-C14F4A1D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0B7A9-F4AF-41A6-B261-CE842976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06376-AE50-40FD-911D-19098D37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484CE-1FEA-4ABA-834B-82582547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77090-C56E-4F8E-A1DF-5659FB53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F33D9-A61B-4EEB-8734-F06F658B778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D72DC-9187-4B70-BAE7-AFE6061FDD85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4AE63-C8B5-4463-BF99-5FB775FFF75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D0CD1-8340-4B19-8828-B87E0DAB36A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60FA1-5633-461A-A460-4ABC106C2AF9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C344F-925B-43C3-9AE7-79683C4667C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98DDA-4E73-45D3-90CC-0B8DCBEC3123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093A8-7BB5-446A-BA9C-8E71E3EA080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8394840" y="648648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8366040" y="649440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B7D3E-38DB-4C34-97C6-D186A9DAE5D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8485200" y="647964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D116C-8EB9-4589-9BE1-7F7C344047E9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40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7AE40-CF5C-4351-9574-F13997E3F41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18616-6A19-4B0A-9B16-D2587EB33A93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AAD85-0A1D-47D4-AB89-8EE25E06DF9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180BE-6172-4FF5-944B-4CA72733F30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BE156-F84C-4064-BE84-B3F54A2C6CA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5A245-4F5B-40D3-8055-DE98CC8B38F9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C259B-7CD2-4284-A5A3-6B8CD86A316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236FA-559F-4CA7-9ED8-EF14741B907F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BC138-A24F-4A9A-B2F6-7CB2794D305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394840" y="649116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66040" y="65008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C643B-F187-46A9-A833-851E1ECAA64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485200" y="6486120"/>
            <a:ext cx="419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228FB-0425-4078-AD34-F73A6FF4823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23015-9AF4-43F5-8EC8-2CE9604C712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09799-5B7E-4A56-BE1A-3086F01AFA4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5A817-C7EA-4652-8D3A-B0477C761E4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2D917-3268-4B26-853A-305C491B41A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0375C-43D9-42C1-B64C-7593AAA818B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1251F-3771-4453-ACCA-9EF8801394F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442B5-A8BC-4C41-B46D-3A848115ACB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CC60F-FD29-45F4-9653-4249565908F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3DB5E-4771-47CA-839F-ABBEDB81FE8F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EB12A-3789-45F2-94BF-6D86307E65A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2D4DB-94DC-4ED1-B1A3-5978AD4CFB14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FA73C-1F5A-4E71-ABC3-F6AB7700D1E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5F30E-89CC-41DC-B163-C47ED09391F6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780CA-D99F-4305-AF36-0CFC0456737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A0C3D-29B9-43AF-9D86-E2F167853DD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A300D-C408-42FB-B853-3AD77FD0244E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4166C-AEEC-4B57-A15D-0DF4B63035A2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43C04-420B-43E0-BED3-47B2846FD01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0DF3D-5DD8-42D1-BF5F-B04EC5539EEE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485200" y="88560"/>
            <a:ext cx="4190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7ACAE-3E6B-4CCC-ABF7-80E1C3216BF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43000" y="2617560"/>
            <a:ext cx="6858000" cy="11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5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45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143000" y="3730320"/>
            <a:ext cx="68580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107640" y="134640"/>
            <a:ext cx="4051080" cy="656100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D75EE-B297-44CD-B00C-A34B97D6FC97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4403880" y="1590840"/>
            <a:ext cx="329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3300" spc="-1" strike="noStrike">
                <a:solidFill>
                  <a:srgbClr val="ffffff"/>
                </a:solidFill>
                <a:latin typeface="Roboto"/>
              </a:rPr>
              <a:t>TOM HARDES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4403880" y="2583000"/>
            <a:ext cx="43336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4403880" y="2138400"/>
            <a:ext cx="2635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2c85ae"/>
                </a:solidFill>
                <a:latin typeface="Open Sans"/>
                <a:ea typeface="Lato Light"/>
              </a:rPr>
              <a:t>Our Beloved CEO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4739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4495680" y="4908600"/>
            <a:ext cx="123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62769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6032520" y="4908600"/>
            <a:ext cx="12384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7763760" y="46544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7520040" y="490860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4883040" y="4100400"/>
            <a:ext cx="463680" cy="46224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6442200" y="4132440"/>
            <a:ext cx="419040" cy="38556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7934400" y="4118040"/>
            <a:ext cx="407880" cy="41904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5041440" y="681120"/>
            <a:ext cx="3870360" cy="5472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392F8-0326-4FF3-ADD1-C59998E721F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522360" y="2165400"/>
            <a:ext cx="39956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In hac habitasse platea dictumst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631800" y="35067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669960" y="3854520"/>
            <a:ext cx="3284640" cy="131760"/>
          </a:xfrm>
          <a:prstGeom prst="rect">
            <a:avLst/>
          </a:prstGeom>
          <a:noFill/>
          <a:ln w="1584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669960" y="3854520"/>
            <a:ext cx="2905200" cy="13176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631800" y="415296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669960" y="4500720"/>
            <a:ext cx="3284640" cy="131760"/>
          </a:xfrm>
          <a:prstGeom prst="rect">
            <a:avLst/>
          </a:prstGeom>
          <a:noFill/>
          <a:ln w="15840">
            <a:solidFill>
              <a:srgbClr val="5e5c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669960" y="4500720"/>
            <a:ext cx="2487600" cy="13176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631800" y="4800600"/>
            <a:ext cx="328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669960" y="5146560"/>
            <a:ext cx="3284640" cy="131760"/>
          </a:xfrm>
          <a:prstGeom prst="rect">
            <a:avLst/>
          </a:prstGeom>
          <a:noFill/>
          <a:ln w="15840">
            <a:solidFill>
              <a:srgbClr val="5268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669960" y="5146560"/>
            <a:ext cx="3184560" cy="13176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3822840" y="374184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2c85ae"/>
                </a:solidFill>
                <a:latin typeface="Open Sans"/>
              </a:rPr>
              <a:t>90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3822840" y="4387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5e5ca2"/>
                </a:solidFill>
                <a:latin typeface="Open Sans"/>
              </a:rPr>
              <a:t>75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3822840" y="5035680"/>
            <a:ext cx="65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5268a5"/>
                </a:solidFill>
                <a:latin typeface="Open Sans"/>
              </a:rPr>
              <a:t>97%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5223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522360" y="4214880"/>
            <a:ext cx="1349280" cy="190800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637160" y="1801800"/>
            <a:ext cx="1349280" cy="1906560"/>
          </a:xfrm>
          <a:prstGeom prst="rect">
            <a:avLst/>
          </a:prstGeom>
          <a:ln w="0">
            <a:noFill/>
          </a:ln>
        </p:spPr>
      </p:pic>
      <p:pic>
        <p:nvPicPr>
          <p:cNvPr id="1177" name="" descr=""/>
          <p:cNvPicPr/>
          <p:nvPr/>
        </p:nvPicPr>
        <p:blipFill>
          <a:blip r:embed="rId4"/>
          <a:stretch/>
        </p:blipFill>
        <p:spPr>
          <a:xfrm>
            <a:off x="4637160" y="4214880"/>
            <a:ext cx="1349280" cy="1908000"/>
          </a:xfrm>
          <a:prstGeom prst="rect">
            <a:avLst/>
          </a:prstGeom>
          <a:ln w="0">
            <a:noFill/>
          </a:ln>
        </p:spPr>
      </p:pic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239A9-AF60-4011-8336-67D2FADE2B1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Rectangle 15"/>
          <p:cNvSpPr/>
          <p:nvPr/>
        </p:nvSpPr>
        <p:spPr>
          <a:xfrm>
            <a:off x="195732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TextBox 23"/>
          <p:cNvSpPr/>
          <p:nvPr/>
        </p:nvSpPr>
        <p:spPr>
          <a:xfrm>
            <a:off x="1957320" y="177012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David Naff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Rectangle 17"/>
          <p:cNvSpPr/>
          <p:nvPr/>
        </p:nvSpPr>
        <p:spPr>
          <a:xfrm>
            <a:off x="195732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TextBox 23"/>
          <p:cNvSpPr/>
          <p:nvPr/>
        </p:nvSpPr>
        <p:spPr>
          <a:xfrm>
            <a:off x="1957320" y="41860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5" name="Rectangle 19"/>
          <p:cNvSpPr/>
          <p:nvPr/>
        </p:nvSpPr>
        <p:spPr>
          <a:xfrm>
            <a:off x="6067440" y="2217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6" name="TextBox 20"/>
          <p:cNvSpPr/>
          <p:nvPr/>
        </p:nvSpPr>
        <p:spPr>
          <a:xfrm>
            <a:off x="6067440" y="17701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Taylor Neil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7" name="Rectangle 21"/>
          <p:cNvSpPr/>
          <p:nvPr/>
        </p:nvSpPr>
        <p:spPr>
          <a:xfrm>
            <a:off x="6067440" y="4638600"/>
            <a:ext cx="2428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8" name="TextBox 23"/>
          <p:cNvSpPr/>
          <p:nvPr/>
        </p:nvSpPr>
        <p:spPr>
          <a:xfrm>
            <a:off x="6067440" y="41860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Hans Gret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9" name="Rectangle 23"/>
          <p:cNvSpPr/>
          <p:nvPr/>
        </p:nvSpPr>
        <p:spPr>
          <a:xfrm>
            <a:off x="1957320" y="437364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0" name="Rectangle 24"/>
          <p:cNvSpPr/>
          <p:nvPr/>
        </p:nvSpPr>
        <p:spPr>
          <a:xfrm>
            <a:off x="1957320" y="195732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6067440" y="437364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6067440" y="195732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522000" y="1760400"/>
            <a:ext cx="2577960" cy="2617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2"/>
          <a:stretch/>
        </p:blipFill>
        <p:spPr>
          <a:xfrm>
            <a:off x="3286080" y="1760400"/>
            <a:ext cx="2579760" cy="261792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3"/>
          <a:stretch/>
        </p:blipFill>
        <p:spPr>
          <a:xfrm>
            <a:off x="6055920" y="1760400"/>
            <a:ext cx="2577960" cy="2617920"/>
          </a:xfrm>
          <a:prstGeom prst="rect">
            <a:avLst/>
          </a:prstGeom>
          <a:ln w="0">
            <a:noFill/>
          </a:ln>
        </p:spPr>
      </p:pic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D1827-384B-4AA7-AC23-36794C11A67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45720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0" name="TextBox 23"/>
          <p:cNvSpPr/>
          <p:nvPr/>
        </p:nvSpPr>
        <p:spPr>
          <a:xfrm>
            <a:off x="45720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1" name="Rectangle 19"/>
          <p:cNvSpPr/>
          <p:nvPr/>
        </p:nvSpPr>
        <p:spPr>
          <a:xfrm>
            <a:off x="45720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Rectangle 20"/>
          <p:cNvSpPr/>
          <p:nvPr/>
        </p:nvSpPr>
        <p:spPr>
          <a:xfrm>
            <a:off x="3286080" y="4944960"/>
            <a:ext cx="26449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TextBox 23"/>
          <p:cNvSpPr/>
          <p:nvPr/>
        </p:nvSpPr>
        <p:spPr>
          <a:xfrm>
            <a:off x="3286080" y="449280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4" name="Rectangle 22"/>
          <p:cNvSpPr/>
          <p:nvPr/>
        </p:nvSpPr>
        <p:spPr>
          <a:xfrm>
            <a:off x="3286080" y="4680000"/>
            <a:ext cx="2094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5" name="Rectangle 23"/>
          <p:cNvSpPr/>
          <p:nvPr/>
        </p:nvSpPr>
        <p:spPr>
          <a:xfrm>
            <a:off x="6043680" y="4944960"/>
            <a:ext cx="2643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6043680" y="44928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Bob Sandy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7" name="Rectangle 25"/>
          <p:cNvSpPr/>
          <p:nvPr/>
        </p:nvSpPr>
        <p:spPr>
          <a:xfrm>
            <a:off x="6043680" y="4680000"/>
            <a:ext cx="2093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9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2C689-32CC-4316-9DEE-96C7945A5C2A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1" name="Straight Connector 103"/>
          <p:cNvSpPr/>
          <p:nvPr/>
        </p:nvSpPr>
        <p:spPr>
          <a:xfrm>
            <a:off x="6497640" y="400536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2" name="Straight Connector 105"/>
          <p:cNvSpPr/>
          <p:nvPr/>
        </p:nvSpPr>
        <p:spPr>
          <a:xfrm>
            <a:off x="6497640" y="354492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Straight Connector 93"/>
          <p:cNvSpPr/>
          <p:nvPr/>
        </p:nvSpPr>
        <p:spPr>
          <a:xfrm>
            <a:off x="6497640" y="538632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Straight Connector 94"/>
          <p:cNvSpPr/>
          <p:nvPr/>
        </p:nvSpPr>
        <p:spPr>
          <a:xfrm>
            <a:off x="6300720" y="492588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Straight Connector 95"/>
          <p:cNvSpPr/>
          <p:nvPr/>
        </p:nvSpPr>
        <p:spPr>
          <a:xfrm>
            <a:off x="6497640" y="492588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6" name="Straight Connector 96"/>
          <p:cNvSpPr/>
          <p:nvPr/>
        </p:nvSpPr>
        <p:spPr>
          <a:xfrm>
            <a:off x="6497640" y="446580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7" name="Straight Connector 97"/>
          <p:cNvSpPr/>
          <p:nvPr/>
        </p:nvSpPr>
        <p:spPr>
          <a:xfrm flipV="1">
            <a:off x="6497640" y="4462560"/>
            <a:ext cx="0" cy="92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Straight Connector 90"/>
          <p:cNvSpPr/>
          <p:nvPr/>
        </p:nvSpPr>
        <p:spPr>
          <a:xfrm>
            <a:off x="6497640" y="308448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Straight Connector 85"/>
          <p:cNvSpPr/>
          <p:nvPr/>
        </p:nvSpPr>
        <p:spPr>
          <a:xfrm>
            <a:off x="6300720" y="262404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Straight Connector 89"/>
          <p:cNvSpPr/>
          <p:nvPr/>
        </p:nvSpPr>
        <p:spPr>
          <a:xfrm>
            <a:off x="6497640" y="262404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Straight Connector 88"/>
          <p:cNvSpPr/>
          <p:nvPr/>
        </p:nvSpPr>
        <p:spPr>
          <a:xfrm>
            <a:off x="6497640" y="2163600"/>
            <a:ext cx="18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Straight Connector 75"/>
          <p:cNvSpPr/>
          <p:nvPr/>
        </p:nvSpPr>
        <p:spPr>
          <a:xfrm flipV="1">
            <a:off x="4476600" y="2629080"/>
            <a:ext cx="0" cy="229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3" name="Straight Connector 72"/>
          <p:cNvSpPr/>
          <p:nvPr/>
        </p:nvSpPr>
        <p:spPr>
          <a:xfrm flipV="1">
            <a:off x="3467160" y="3774600"/>
            <a:ext cx="0" cy="8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Straight Connector 73"/>
          <p:cNvSpPr/>
          <p:nvPr/>
        </p:nvSpPr>
        <p:spPr>
          <a:xfrm flipV="1">
            <a:off x="3467160" y="3704760"/>
            <a:ext cx="0" cy="81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Straight Connector 69"/>
          <p:cNvSpPr/>
          <p:nvPr/>
        </p:nvSpPr>
        <p:spPr>
          <a:xfrm>
            <a:off x="2344680" y="3774960"/>
            <a:ext cx="112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6" name="Freeform: Shape 53"/>
          <p:cNvSpPr/>
          <p:nvPr/>
        </p:nvSpPr>
        <p:spPr>
          <a:xfrm>
            <a:off x="693720" y="36133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7" name="Freeform: Shape 55"/>
          <p:cNvSpPr/>
          <p:nvPr/>
        </p:nvSpPr>
        <p:spPr>
          <a:xfrm>
            <a:off x="6692760" y="20019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8" name="Freeform: Shape 56"/>
          <p:cNvSpPr/>
          <p:nvPr/>
        </p:nvSpPr>
        <p:spPr>
          <a:xfrm>
            <a:off x="6692760" y="24620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Freeform: Shape 57"/>
          <p:cNvSpPr/>
          <p:nvPr/>
        </p:nvSpPr>
        <p:spPr>
          <a:xfrm>
            <a:off x="6692760" y="292248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0" name="Freeform: Shape 59"/>
          <p:cNvSpPr/>
          <p:nvPr/>
        </p:nvSpPr>
        <p:spPr>
          <a:xfrm>
            <a:off x="6692760" y="338292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1" name="Freeform: Shape 60"/>
          <p:cNvSpPr/>
          <p:nvPr/>
        </p:nvSpPr>
        <p:spPr>
          <a:xfrm>
            <a:off x="6692760" y="384336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Freeform: Shape 54"/>
          <p:cNvSpPr/>
          <p:nvPr/>
        </p:nvSpPr>
        <p:spPr>
          <a:xfrm>
            <a:off x="4668840" y="24620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3" name="Freeform: Shape 58"/>
          <p:cNvSpPr/>
          <p:nvPr/>
        </p:nvSpPr>
        <p:spPr>
          <a:xfrm>
            <a:off x="4668840" y="361332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4" name="Freeform: Shape 61"/>
          <p:cNvSpPr/>
          <p:nvPr/>
        </p:nvSpPr>
        <p:spPr>
          <a:xfrm>
            <a:off x="4668840" y="4764240"/>
            <a:ext cx="16556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5" name="Freeform: Shape 62"/>
          <p:cNvSpPr/>
          <p:nvPr/>
        </p:nvSpPr>
        <p:spPr>
          <a:xfrm>
            <a:off x="6692760" y="430380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6" name="Freeform: Shape 63"/>
          <p:cNvSpPr/>
          <p:nvPr/>
        </p:nvSpPr>
        <p:spPr>
          <a:xfrm>
            <a:off x="6692760" y="4764240"/>
            <a:ext cx="165600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7" name="Freeform: Shape 64"/>
          <p:cNvSpPr/>
          <p:nvPr/>
        </p:nvSpPr>
        <p:spPr>
          <a:xfrm>
            <a:off x="6692760" y="5222880"/>
            <a:ext cx="1656000" cy="326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8" name="TextBox 23"/>
          <p:cNvSpPr/>
          <p:nvPr/>
        </p:nvSpPr>
        <p:spPr>
          <a:xfrm>
            <a:off x="73980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9" name="Freeform: Shape 65"/>
          <p:cNvSpPr/>
          <p:nvPr/>
        </p:nvSpPr>
        <p:spPr>
          <a:xfrm>
            <a:off x="2638440" y="338292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0" name="Freeform: Shape 66"/>
          <p:cNvSpPr/>
          <p:nvPr/>
        </p:nvSpPr>
        <p:spPr>
          <a:xfrm>
            <a:off x="2638440" y="3843360"/>
            <a:ext cx="1657440" cy="3254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" rIns="1188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Straight Connector 79"/>
          <p:cNvSpPr/>
          <p:nvPr/>
        </p:nvSpPr>
        <p:spPr>
          <a:xfrm>
            <a:off x="4473720" y="2624040"/>
            <a:ext cx="19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Straight Connector 81"/>
          <p:cNvSpPr/>
          <p:nvPr/>
        </p:nvSpPr>
        <p:spPr>
          <a:xfrm>
            <a:off x="4473720" y="4925880"/>
            <a:ext cx="19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Straight Connector 83"/>
          <p:cNvSpPr/>
          <p:nvPr/>
        </p:nvSpPr>
        <p:spPr>
          <a:xfrm flipV="1">
            <a:off x="6497640" y="2163240"/>
            <a:ext cx="0" cy="92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Straight Connector 87"/>
          <p:cNvSpPr/>
          <p:nvPr/>
        </p:nvSpPr>
        <p:spPr>
          <a:xfrm>
            <a:off x="4476600" y="377496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5" name="Straight Connector 102"/>
          <p:cNvSpPr/>
          <p:nvPr/>
        </p:nvSpPr>
        <p:spPr>
          <a:xfrm>
            <a:off x="6300720" y="3774960"/>
            <a:ext cx="19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6" name="Straight Connector 104"/>
          <p:cNvSpPr/>
          <p:nvPr/>
        </p:nvSpPr>
        <p:spPr>
          <a:xfrm flipV="1">
            <a:off x="6497640" y="3544920"/>
            <a:ext cx="0" cy="46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TextBox 23"/>
          <p:cNvSpPr/>
          <p:nvPr/>
        </p:nvSpPr>
        <p:spPr>
          <a:xfrm>
            <a:off x="2684520" y="3400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2684520" y="3868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4714920" y="249084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4714920" y="36370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4714920" y="478620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737400" y="20257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6737400" y="24861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6737400" y="29494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6737400" y="34099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6737400" y="38638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6737400" y="432432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6737400" y="478620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6737400" y="524664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Straight Connector 67"/>
          <p:cNvSpPr/>
          <p:nvPr/>
        </p:nvSpPr>
        <p:spPr>
          <a:xfrm>
            <a:off x="3467160" y="3774960"/>
            <a:ext cx="100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262" name="Slide Number Placeholder 2"/>
          <p:cNvSpPr/>
          <p:nvPr/>
        </p:nvSpPr>
        <p:spPr>
          <a:xfrm>
            <a:off x="8723160" y="958680"/>
            <a:ext cx="420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D3B5B-A280-404A-ADD3-20620AE5AFE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4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5"/>
          <p:cNvSpPr/>
          <p:nvPr/>
        </p:nvSpPr>
        <p:spPr>
          <a:xfrm>
            <a:off x="8485200" y="6497640"/>
            <a:ext cx="419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CAA-1718-4DB7-9E1F-CB1F65EF9A5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7" name="Rectangle 8"/>
          <p:cNvSpPr/>
          <p:nvPr/>
        </p:nvSpPr>
        <p:spPr>
          <a:xfrm>
            <a:off x="457200" y="5357880"/>
            <a:ext cx="84470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57200" y="508644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Rectangle 12"/>
          <p:cNvSpPr/>
          <p:nvPr/>
        </p:nvSpPr>
        <p:spPr>
          <a:xfrm>
            <a:off x="7413480" y="508644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Rectangle 13"/>
          <p:cNvSpPr/>
          <p:nvPr/>
        </p:nvSpPr>
        <p:spPr>
          <a:xfrm>
            <a:off x="3692520" y="508644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108000" y="153720"/>
            <a:ext cx="892800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DE551-07AB-449D-8E51-19457AF1A41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108000" y="2641320"/>
            <a:ext cx="3511440" cy="40669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3682800" y="2641320"/>
            <a:ext cx="3228840" cy="2082600"/>
          </a:xfrm>
          <a:prstGeom prst="rect">
            <a:avLst/>
          </a:prstGeom>
          <a:ln w="0">
            <a:noFill/>
          </a:ln>
        </p:spPr>
      </p:pic>
      <p:pic>
        <p:nvPicPr>
          <p:cNvPr id="1275" name="" descr=""/>
          <p:cNvPicPr/>
          <p:nvPr/>
        </p:nvPicPr>
        <p:blipFill>
          <a:blip r:embed="rId3"/>
          <a:stretch/>
        </p:blipFill>
        <p:spPr>
          <a:xfrm>
            <a:off x="3683160" y="4800600"/>
            <a:ext cx="1582560" cy="1908000"/>
          </a:xfrm>
          <a:prstGeom prst="rect">
            <a:avLst/>
          </a:prstGeom>
          <a:ln w="0">
            <a:noFill/>
          </a:ln>
        </p:spPr>
      </p:pic>
      <p:pic>
        <p:nvPicPr>
          <p:cNvPr id="1276" name="" descr=""/>
          <p:cNvPicPr/>
          <p:nvPr/>
        </p:nvPicPr>
        <p:blipFill>
          <a:blip r:embed="rId4"/>
          <a:stretch/>
        </p:blipFill>
        <p:spPr>
          <a:xfrm>
            <a:off x="5327280" y="4800600"/>
            <a:ext cx="1584360" cy="1908000"/>
          </a:xfrm>
          <a:prstGeom prst="rect">
            <a:avLst/>
          </a:prstGeom>
          <a:ln w="0">
            <a:noFill/>
          </a:ln>
        </p:spPr>
      </p:pic>
      <p:pic>
        <p:nvPicPr>
          <p:cNvPr id="1277" name="" descr=""/>
          <p:cNvPicPr/>
          <p:nvPr/>
        </p:nvPicPr>
        <p:blipFill>
          <a:blip r:embed="rId5"/>
          <a:stretch/>
        </p:blipFill>
        <p:spPr>
          <a:xfrm>
            <a:off x="6973920" y="2641320"/>
            <a:ext cx="2062080" cy="4066920"/>
          </a:xfrm>
          <a:prstGeom prst="rect">
            <a:avLst/>
          </a:prstGeom>
          <a:ln w="0">
            <a:noFill/>
          </a:ln>
        </p:spPr>
      </p:pic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457200" y="1814400"/>
            <a:ext cx="844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enjo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1" name="Rectangle 12"/>
          <p:cNvSpPr/>
          <p:nvPr/>
        </p:nvSpPr>
        <p:spPr>
          <a:xfrm>
            <a:off x="457200" y="2097000"/>
            <a:ext cx="130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Client:</a:t>
            </a: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Dreamlan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413480" y="209700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udget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: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$75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3" name="Rectangle 14"/>
          <p:cNvSpPr/>
          <p:nvPr/>
        </p:nvSpPr>
        <p:spPr>
          <a:xfrm>
            <a:off x="3692520" y="2097000"/>
            <a:ext cx="17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Project:</a:t>
            </a:r>
            <a:r>
              <a:rPr b="1" lang="en-US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Slide Number Placeholder 2"/>
          <p:cNvSpPr/>
          <p:nvPr/>
        </p:nvSpPr>
        <p:spPr>
          <a:xfrm>
            <a:off x="8485200" y="13500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8F8CF-80E3-4CF3-9E76-C6E68DE8DD2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525600" y="1785600"/>
            <a:ext cx="1890720" cy="377964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2"/>
          <a:stretch/>
        </p:blipFill>
        <p:spPr>
          <a:xfrm>
            <a:off x="254952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7" name="" descr=""/>
          <p:cNvPicPr/>
          <p:nvPr/>
        </p:nvPicPr>
        <p:blipFill>
          <a:blip r:embed="rId3"/>
          <a:stretch/>
        </p:blipFill>
        <p:spPr>
          <a:xfrm>
            <a:off x="4572000" y="1785600"/>
            <a:ext cx="188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4"/>
          <a:stretch/>
        </p:blipFill>
        <p:spPr>
          <a:xfrm>
            <a:off x="6594480" y="1785600"/>
            <a:ext cx="1890720" cy="3779640"/>
          </a:xfrm>
          <a:prstGeom prst="rect">
            <a:avLst/>
          </a:prstGeom>
          <a:ln w="0">
            <a:noFill/>
          </a:ln>
        </p:spPr>
      </p:pic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522360" y="5581800"/>
            <a:ext cx="1888920" cy="3236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TextBox 23"/>
          <p:cNvSpPr/>
          <p:nvPr/>
        </p:nvSpPr>
        <p:spPr>
          <a:xfrm>
            <a:off x="68436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Rectangle 27"/>
          <p:cNvSpPr/>
          <p:nvPr/>
        </p:nvSpPr>
        <p:spPr>
          <a:xfrm>
            <a:off x="2549520" y="5581800"/>
            <a:ext cx="1889280" cy="3236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TextBox 23"/>
          <p:cNvSpPr/>
          <p:nvPr/>
        </p:nvSpPr>
        <p:spPr>
          <a:xfrm>
            <a:off x="271152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Rectangle 30"/>
          <p:cNvSpPr/>
          <p:nvPr/>
        </p:nvSpPr>
        <p:spPr>
          <a:xfrm>
            <a:off x="4573440" y="5581800"/>
            <a:ext cx="1890720" cy="3236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6" name="TextBox 23"/>
          <p:cNvSpPr/>
          <p:nvPr/>
        </p:nvSpPr>
        <p:spPr>
          <a:xfrm>
            <a:off x="4737240" y="560556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7" name="Rectangle 33"/>
          <p:cNvSpPr/>
          <p:nvPr/>
        </p:nvSpPr>
        <p:spPr>
          <a:xfrm>
            <a:off x="6599160" y="5581800"/>
            <a:ext cx="1890720" cy="32364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8" name="TextBox 23"/>
          <p:cNvSpPr/>
          <p:nvPr/>
        </p:nvSpPr>
        <p:spPr>
          <a:xfrm>
            <a:off x="6761160" y="560556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9" name="Rectangle 10"/>
          <p:cNvSpPr/>
          <p:nvPr/>
        </p:nvSpPr>
        <p:spPr>
          <a:xfrm>
            <a:off x="2419200" y="2049480"/>
            <a:ext cx="61920" cy="36180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0" name="Rectangle 11"/>
          <p:cNvSpPr/>
          <p:nvPr/>
        </p:nvSpPr>
        <p:spPr>
          <a:xfrm>
            <a:off x="1774800" y="1704960"/>
            <a:ext cx="357120" cy="8748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Freeform 34"/>
          <p:cNvSpPr/>
          <p:nvPr/>
        </p:nvSpPr>
        <p:spPr>
          <a:xfrm rot="18900000">
            <a:off x="2090880" y="1466640"/>
            <a:ext cx="253800" cy="100152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TextBox 13"/>
          <p:cNvSpPr/>
          <p:nvPr/>
        </p:nvSpPr>
        <p:spPr>
          <a:xfrm rot="2700000">
            <a:off x="1998720" y="184716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e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ound Diagonal Corner Rectangle 8"/>
          <p:cNvSpPr/>
          <p:nvPr/>
        </p:nvSpPr>
        <p:spPr>
          <a:xfrm>
            <a:off x="3754440" y="2351160"/>
            <a:ext cx="5149800" cy="16192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574560" y="2339640"/>
            <a:ext cx="3409920" cy="2049480"/>
          </a:xfrm>
          <a:prstGeom prst="rect">
            <a:avLst/>
          </a:prstGeom>
          <a:ln w="0">
            <a:noFill/>
          </a:ln>
        </p:spPr>
      </p:pic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A7BF5-BF79-43A5-85C8-75A25EF33DD3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8" name="Picture 8" descr="iMac-Mask.png"/>
          <p:cNvPicPr/>
          <p:nvPr/>
        </p:nvPicPr>
        <p:blipFill>
          <a:blip r:embed="rId2"/>
          <a:stretch/>
        </p:blipFill>
        <p:spPr>
          <a:xfrm>
            <a:off x="325440" y="2112840"/>
            <a:ext cx="3916440" cy="3591000"/>
          </a:xfrm>
          <a:prstGeom prst="rect">
            <a:avLst/>
          </a:prstGeom>
          <a:ln w="0">
            <a:noFill/>
          </a:ln>
        </p:spPr>
      </p:pic>
      <p:sp>
        <p:nvSpPr>
          <p:cNvPr id="1309" name="TextBox 19"/>
          <p:cNvSpPr/>
          <p:nvPr/>
        </p:nvSpPr>
        <p:spPr>
          <a:xfrm>
            <a:off x="4434840" y="30416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0" name="TextBox 20"/>
          <p:cNvSpPr/>
          <p:nvPr/>
        </p:nvSpPr>
        <p:spPr>
          <a:xfrm>
            <a:off x="5846400" y="304164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1"/>
          <p:cNvSpPr/>
          <p:nvPr/>
        </p:nvSpPr>
        <p:spPr>
          <a:xfrm>
            <a:off x="7642440" y="3041640"/>
            <a:ext cx="7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12" name="Group 22" descr=""/>
          <p:cNvPicPr/>
          <p:nvPr/>
        </p:nvPicPr>
        <p:blipFill>
          <a:blip r:embed="rId3"/>
          <a:stretch/>
        </p:blipFill>
        <p:spPr>
          <a:xfrm>
            <a:off x="4780080" y="2554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313" name="Freeform 15"/>
          <p:cNvSpPr/>
          <p:nvPr/>
        </p:nvSpPr>
        <p:spPr>
          <a:xfrm>
            <a:off x="6353280" y="2575080"/>
            <a:ext cx="325440" cy="322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4" name="Freeform 7"/>
          <p:cNvSpPr/>
          <p:nvPr/>
        </p:nvSpPr>
        <p:spPr>
          <a:xfrm>
            <a:off x="7862760" y="2552760"/>
            <a:ext cx="355680" cy="34776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Rectangle 33"/>
          <p:cNvSpPr/>
          <p:nvPr/>
        </p:nvSpPr>
        <p:spPr>
          <a:xfrm>
            <a:off x="43434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Rectangle 34"/>
          <p:cNvSpPr/>
          <p:nvPr/>
        </p:nvSpPr>
        <p:spPr>
          <a:xfrm>
            <a:off x="589752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Rectangle 35"/>
          <p:cNvSpPr/>
          <p:nvPr/>
        </p:nvSpPr>
        <p:spPr>
          <a:xfrm>
            <a:off x="7423200" y="3232080"/>
            <a:ext cx="1236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Rectangle 36"/>
          <p:cNvSpPr/>
          <p:nvPr/>
        </p:nvSpPr>
        <p:spPr>
          <a:xfrm>
            <a:off x="4403880" y="3970440"/>
            <a:ext cx="4313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08000" y="149400"/>
            <a:ext cx="8928000" cy="327960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0"/>
          <p:cNvSpPr/>
          <p:nvPr/>
        </p:nvSpPr>
        <p:spPr>
          <a:xfrm>
            <a:off x="108000" y="106200"/>
            <a:ext cx="8928000" cy="33228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95280"/>
            <a:ext cx="78868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158840"/>
            <a:ext cx="788688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3568680" y="2303280"/>
            <a:ext cx="2006640" cy="2004840"/>
          </a:xfrm>
          <a:prstGeom prst="rect">
            <a:avLst/>
          </a:prstGeom>
          <a:ln w="0">
            <a:noFill/>
          </a:ln>
        </p:spPr>
      </p:pic>
      <p:sp>
        <p:nvSpPr>
          <p:cNvPr id="974" name="Content Placeholder 11"/>
          <p:cNvSpPr/>
          <p:nvPr/>
        </p:nvSpPr>
        <p:spPr>
          <a:xfrm>
            <a:off x="1144440" y="5075280"/>
            <a:ext cx="685512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3492360" y="4478400"/>
            <a:ext cx="2168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Edogar Marcus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3945960" y="4716360"/>
            <a:ext cx="126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Co-Founder &amp; Ce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8485200" y="6510240"/>
            <a:ext cx="419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D981-6E5B-46E8-BA97-8CB6EE129B9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Picture 8" descr=""/>
          <p:cNvPicPr/>
          <p:nvPr/>
        </p:nvPicPr>
        <p:blipFill>
          <a:blip r:embed="rId1"/>
          <a:stretch/>
        </p:blipFill>
        <p:spPr>
          <a:xfrm>
            <a:off x="5978520" y="1544760"/>
            <a:ext cx="3067200" cy="435456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319440" y="2072880"/>
            <a:ext cx="2376360" cy="316692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B2C1C-22D9-4E8B-8D61-24CE7FBB9894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514440" y="4835520"/>
            <a:ext cx="571320" cy="5698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2327400" y="4835520"/>
            <a:ext cx="571320" cy="56988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4170240" y="4835520"/>
            <a:ext cx="571680" cy="56988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3"/>
          <a:stretch/>
        </p:blipFill>
        <p:spPr>
          <a:xfrm>
            <a:off x="4316400" y="4973760"/>
            <a:ext cx="274680" cy="29340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4"/>
          <a:stretch/>
        </p:blipFill>
        <p:spPr>
          <a:xfrm>
            <a:off x="652320" y="4992840"/>
            <a:ext cx="292320" cy="25560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2467080" y="5014800"/>
            <a:ext cx="293760" cy="2113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15740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15740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2c85ae"/>
                </a:solidFill>
                <a:latin typeface="Roboto"/>
              </a:rPr>
              <a:t>47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2968560" y="5115240"/>
            <a:ext cx="118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2968560" y="4757760"/>
            <a:ext cx="8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5e5ca2"/>
                </a:solidFill>
                <a:latin typeface="Roboto"/>
              </a:rPr>
              <a:t>38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4807080" y="5115240"/>
            <a:ext cx="11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4807080" y="4757760"/>
            <a:ext cx="87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700" spc="-1" strike="noStrike">
                <a:solidFill>
                  <a:srgbClr val="5268a5"/>
                </a:solidFill>
                <a:latin typeface="Roboto"/>
              </a:rPr>
              <a:t>15%</a:t>
            </a:r>
            <a:endParaRPr b="0" lang="en-US" sz="27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3287880" y="2371680"/>
          <a:ext cx="2682720" cy="229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7880" y="2371680"/>
                    <a:ext cx="268272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455760" y="2666880"/>
            <a:ext cx="25336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0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455760" y="2389320"/>
            <a:ext cx="130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22360" y="2039760"/>
            <a:ext cx="944640" cy="1260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302160" y="2039760"/>
            <a:ext cx="944280" cy="1260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3411360" y="2039760"/>
            <a:ext cx="944640" cy="1260720"/>
          </a:xfrm>
          <a:prstGeom prst="rect">
            <a:avLst/>
          </a:prstGeom>
          <a:ln w="0">
            <a:noFill/>
          </a:ln>
        </p:spPr>
      </p:pic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5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EBCD6-907C-4A2B-BB57-F8F8B06468E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3872160" y="5130720"/>
            <a:ext cx="1364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Our Client list: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47" name="Group 15"/>
          <p:cNvGrpSpPr/>
          <p:nvPr/>
        </p:nvGrpSpPr>
        <p:grpSpPr>
          <a:xfrm>
            <a:off x="474840" y="5684760"/>
            <a:ext cx="1288080" cy="289080"/>
            <a:chOff x="474840" y="5684760"/>
            <a:chExt cx="1288080" cy="289080"/>
          </a:xfrm>
        </p:grpSpPr>
        <p:sp>
          <p:nvSpPr>
            <p:cNvPr id="1348" name="Freeform 5"/>
            <p:cNvSpPr/>
            <p:nvPr/>
          </p:nvSpPr>
          <p:spPr>
            <a:xfrm>
              <a:off x="540000" y="5698800"/>
              <a:ext cx="95040" cy="13500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Freeform 6"/>
            <p:cNvSpPr/>
            <p:nvPr/>
          </p:nvSpPr>
          <p:spPr>
            <a:xfrm>
              <a:off x="553320" y="5708520"/>
              <a:ext cx="82080" cy="1252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Freeform 7"/>
            <p:cNvSpPr/>
            <p:nvPr/>
          </p:nvSpPr>
          <p:spPr>
            <a:xfrm>
              <a:off x="590040" y="5733720"/>
              <a:ext cx="13068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1" name="Freeform 8"/>
            <p:cNvSpPr/>
            <p:nvPr/>
          </p:nvSpPr>
          <p:spPr>
            <a:xfrm>
              <a:off x="590040" y="5760000"/>
              <a:ext cx="13068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2" name="Freeform 9"/>
            <p:cNvSpPr/>
            <p:nvPr/>
          </p:nvSpPr>
          <p:spPr>
            <a:xfrm>
              <a:off x="601920" y="5798160"/>
              <a:ext cx="118800" cy="1252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3" name="Freeform 10"/>
            <p:cNvSpPr/>
            <p:nvPr/>
          </p:nvSpPr>
          <p:spPr>
            <a:xfrm>
              <a:off x="601920" y="5807880"/>
              <a:ext cx="96120" cy="11592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4" name="Freeform 11"/>
            <p:cNvSpPr/>
            <p:nvPr/>
          </p:nvSpPr>
          <p:spPr>
            <a:xfrm>
              <a:off x="581760" y="5834160"/>
              <a:ext cx="90360" cy="13968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581760" y="5834160"/>
              <a:ext cx="71280" cy="1314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480600" y="5838840"/>
              <a:ext cx="129600" cy="9432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480600" y="5838840"/>
              <a:ext cx="129600" cy="6804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474840" y="5755320"/>
              <a:ext cx="121320" cy="1216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493560" y="5755320"/>
              <a:ext cx="102240" cy="11340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0" name="Rectangle 18"/>
            <p:cNvSpPr/>
            <p:nvPr/>
          </p:nvSpPr>
          <p:spPr>
            <a:xfrm>
              <a:off x="739080" y="5684760"/>
              <a:ext cx="41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ID" sz="13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3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3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1" name="Rectangle 19"/>
            <p:cNvSpPr/>
            <p:nvPr/>
          </p:nvSpPr>
          <p:spPr>
            <a:xfrm>
              <a:off x="1149480" y="5684760"/>
              <a:ext cx="613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13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3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3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2" name="Rectangle 22"/>
            <p:cNvSpPr/>
            <p:nvPr/>
          </p:nvSpPr>
          <p:spPr>
            <a:xfrm>
              <a:off x="766800" y="585936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5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3" name="Rectangle 23"/>
            <p:cNvSpPr/>
            <p:nvPr/>
          </p:nvSpPr>
          <p:spPr>
            <a:xfrm>
              <a:off x="789120" y="5859360"/>
              <a:ext cx="485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id-ID" sz="5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5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64" name="Group 32"/>
          <p:cNvGrpSpPr/>
          <p:nvPr/>
        </p:nvGrpSpPr>
        <p:grpSpPr>
          <a:xfrm>
            <a:off x="2050920" y="5734080"/>
            <a:ext cx="1374840" cy="195120"/>
            <a:chOff x="2050920" y="5734080"/>
            <a:chExt cx="1374840" cy="195120"/>
          </a:xfrm>
        </p:grpSpPr>
        <p:sp>
          <p:nvSpPr>
            <p:cNvPr id="1365" name="Freeform 42"/>
            <p:cNvSpPr/>
            <p:nvPr/>
          </p:nvSpPr>
          <p:spPr>
            <a:xfrm>
              <a:off x="2050920" y="5790600"/>
              <a:ext cx="129960" cy="12708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6" name="Freeform 43"/>
            <p:cNvSpPr/>
            <p:nvPr/>
          </p:nvSpPr>
          <p:spPr>
            <a:xfrm>
              <a:off x="2059920" y="5801040"/>
              <a:ext cx="114480" cy="11016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7" name="Freeform 44"/>
            <p:cNvSpPr/>
            <p:nvPr/>
          </p:nvSpPr>
          <p:spPr>
            <a:xfrm>
              <a:off x="2065320" y="5903280"/>
              <a:ext cx="127800" cy="2592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8" name="Freeform 45"/>
            <p:cNvSpPr/>
            <p:nvPr/>
          </p:nvSpPr>
          <p:spPr>
            <a:xfrm>
              <a:off x="2065320" y="5734080"/>
              <a:ext cx="192600" cy="19512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9" name="Freeform 46"/>
            <p:cNvSpPr/>
            <p:nvPr/>
          </p:nvSpPr>
          <p:spPr>
            <a:xfrm>
              <a:off x="2315520" y="5739480"/>
              <a:ext cx="90000" cy="12708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0" name="Freeform 47"/>
            <p:cNvSpPr/>
            <p:nvPr/>
          </p:nvSpPr>
          <p:spPr>
            <a:xfrm>
              <a:off x="2405520" y="5739480"/>
              <a:ext cx="127800" cy="12708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1" name="Freeform 48"/>
            <p:cNvSpPr/>
            <p:nvPr/>
          </p:nvSpPr>
          <p:spPr>
            <a:xfrm>
              <a:off x="253440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2" name="Freeform 49"/>
            <p:cNvSpPr/>
            <p:nvPr/>
          </p:nvSpPr>
          <p:spPr>
            <a:xfrm>
              <a:off x="2638800" y="5737320"/>
              <a:ext cx="135720" cy="1296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3" name="Freeform 50"/>
            <p:cNvSpPr/>
            <p:nvPr/>
          </p:nvSpPr>
          <p:spPr>
            <a:xfrm>
              <a:off x="2754360" y="5739480"/>
              <a:ext cx="187560" cy="1296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4" name="Freeform 51"/>
            <p:cNvSpPr/>
            <p:nvPr/>
          </p:nvSpPr>
          <p:spPr>
            <a:xfrm>
              <a:off x="2946240" y="5737320"/>
              <a:ext cx="134280" cy="1317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5" name="Freeform 52"/>
            <p:cNvSpPr/>
            <p:nvPr/>
          </p:nvSpPr>
          <p:spPr>
            <a:xfrm>
              <a:off x="3098880" y="5739480"/>
              <a:ext cx="129960" cy="12708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6" name="Freeform 53"/>
            <p:cNvSpPr/>
            <p:nvPr/>
          </p:nvSpPr>
          <p:spPr>
            <a:xfrm>
              <a:off x="3223440" y="5739480"/>
              <a:ext cx="133560" cy="12708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7" name="Freeform 54"/>
            <p:cNvSpPr/>
            <p:nvPr/>
          </p:nvSpPr>
          <p:spPr>
            <a:xfrm>
              <a:off x="3356280" y="5737320"/>
              <a:ext cx="69480" cy="13176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8" name="Freeform 55"/>
            <p:cNvSpPr/>
            <p:nvPr/>
          </p:nvSpPr>
          <p:spPr>
            <a:xfrm>
              <a:off x="2320200" y="5896080"/>
              <a:ext cx="24480" cy="288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9" name="Freeform 56"/>
            <p:cNvSpPr/>
            <p:nvPr/>
          </p:nvSpPr>
          <p:spPr>
            <a:xfrm>
              <a:off x="238860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0" name="Freeform 57"/>
            <p:cNvSpPr/>
            <p:nvPr/>
          </p:nvSpPr>
          <p:spPr>
            <a:xfrm>
              <a:off x="2457360" y="5895360"/>
              <a:ext cx="30960" cy="3060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1" name="Freeform 58"/>
            <p:cNvSpPr/>
            <p:nvPr/>
          </p:nvSpPr>
          <p:spPr>
            <a:xfrm>
              <a:off x="2533680" y="5896080"/>
              <a:ext cx="23040" cy="288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2" name="Freeform 59"/>
            <p:cNvSpPr/>
            <p:nvPr/>
          </p:nvSpPr>
          <p:spPr>
            <a:xfrm>
              <a:off x="26017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3" name="Freeform 60"/>
            <p:cNvSpPr/>
            <p:nvPr/>
          </p:nvSpPr>
          <p:spPr>
            <a:xfrm>
              <a:off x="2669040" y="5896080"/>
              <a:ext cx="27000" cy="288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4" name="Freeform 61"/>
            <p:cNvSpPr/>
            <p:nvPr/>
          </p:nvSpPr>
          <p:spPr>
            <a:xfrm>
              <a:off x="2736360" y="5896080"/>
              <a:ext cx="25920" cy="2880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5" name="Freeform 62"/>
            <p:cNvSpPr/>
            <p:nvPr/>
          </p:nvSpPr>
          <p:spPr>
            <a:xfrm>
              <a:off x="280188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6" name="Freeform 63"/>
            <p:cNvSpPr/>
            <p:nvPr/>
          </p:nvSpPr>
          <p:spPr>
            <a:xfrm>
              <a:off x="292428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64"/>
            <p:cNvSpPr/>
            <p:nvPr/>
          </p:nvSpPr>
          <p:spPr>
            <a:xfrm>
              <a:off x="2992320" y="5896080"/>
              <a:ext cx="23400" cy="2880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Freeform 65"/>
            <p:cNvSpPr/>
            <p:nvPr/>
          </p:nvSpPr>
          <p:spPr>
            <a:xfrm>
              <a:off x="3061080" y="5896080"/>
              <a:ext cx="25560" cy="288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9" name="Freeform 66"/>
            <p:cNvSpPr/>
            <p:nvPr/>
          </p:nvSpPr>
          <p:spPr>
            <a:xfrm>
              <a:off x="3127320" y="5896080"/>
              <a:ext cx="28800" cy="2880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3198960" y="5896080"/>
              <a:ext cx="4680" cy="28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5400" bIns="-54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1" name="Freeform 68"/>
            <p:cNvSpPr/>
            <p:nvPr/>
          </p:nvSpPr>
          <p:spPr>
            <a:xfrm>
              <a:off x="3248280" y="5895360"/>
              <a:ext cx="29160" cy="3060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2" name="Freeform 69"/>
            <p:cNvSpPr/>
            <p:nvPr/>
          </p:nvSpPr>
          <p:spPr>
            <a:xfrm>
              <a:off x="3322800" y="5896080"/>
              <a:ext cx="21960" cy="28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3" name="Freeform 70"/>
            <p:cNvSpPr/>
            <p:nvPr/>
          </p:nvSpPr>
          <p:spPr>
            <a:xfrm>
              <a:off x="3387600" y="5895360"/>
              <a:ext cx="25560" cy="3060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94" name="Group 62"/>
          <p:cNvGrpSpPr/>
          <p:nvPr/>
        </p:nvGrpSpPr>
        <p:grpSpPr>
          <a:xfrm>
            <a:off x="3865680" y="5697360"/>
            <a:ext cx="1365120" cy="227160"/>
            <a:chOff x="3865680" y="5697360"/>
            <a:chExt cx="1365120" cy="227160"/>
          </a:xfrm>
        </p:grpSpPr>
        <p:sp>
          <p:nvSpPr>
            <p:cNvPr id="1395" name="Freeform 74"/>
            <p:cNvSpPr/>
            <p:nvPr/>
          </p:nvSpPr>
          <p:spPr>
            <a:xfrm>
              <a:off x="3865680" y="5697360"/>
              <a:ext cx="266040" cy="16812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6" name="Freeform 75"/>
            <p:cNvSpPr/>
            <p:nvPr/>
          </p:nvSpPr>
          <p:spPr>
            <a:xfrm>
              <a:off x="3884040" y="5781240"/>
              <a:ext cx="223200" cy="14328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6"/>
            <p:cNvSpPr/>
            <p:nvPr/>
          </p:nvSpPr>
          <p:spPr>
            <a:xfrm>
              <a:off x="4183560" y="5724720"/>
              <a:ext cx="159120" cy="1699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77"/>
            <p:cNvSpPr/>
            <p:nvPr/>
          </p:nvSpPr>
          <p:spPr>
            <a:xfrm>
              <a:off x="437040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9" name="Freeform 78"/>
            <p:cNvSpPr/>
            <p:nvPr/>
          </p:nvSpPr>
          <p:spPr>
            <a:xfrm>
              <a:off x="4414320" y="5766120"/>
              <a:ext cx="107640" cy="12852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0" name="Freeform 79"/>
            <p:cNvSpPr/>
            <p:nvPr/>
          </p:nvSpPr>
          <p:spPr>
            <a:xfrm>
              <a:off x="4542840" y="5718960"/>
              <a:ext cx="20880" cy="17568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1" name="Freeform 80"/>
            <p:cNvSpPr/>
            <p:nvPr/>
          </p:nvSpPr>
          <p:spPr>
            <a:xfrm>
              <a:off x="4587480" y="5722200"/>
              <a:ext cx="138240" cy="17244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2" name="Freeform 81"/>
            <p:cNvSpPr/>
            <p:nvPr/>
          </p:nvSpPr>
          <p:spPr>
            <a:xfrm>
              <a:off x="4741200" y="5763600"/>
              <a:ext cx="134280" cy="13356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82"/>
            <p:cNvSpPr/>
            <p:nvPr/>
          </p:nvSpPr>
          <p:spPr>
            <a:xfrm>
              <a:off x="4885200" y="5763600"/>
              <a:ext cx="110880" cy="1335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4" name="Freeform 83"/>
            <p:cNvSpPr/>
            <p:nvPr/>
          </p:nvSpPr>
          <p:spPr>
            <a:xfrm>
              <a:off x="5005800" y="5763600"/>
              <a:ext cx="97920" cy="13356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5" name="Freeform 84"/>
            <p:cNvSpPr/>
            <p:nvPr/>
          </p:nvSpPr>
          <p:spPr>
            <a:xfrm>
              <a:off x="5109480" y="5763600"/>
              <a:ext cx="121320" cy="13356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06" name="Group 74"/>
          <p:cNvGrpSpPr/>
          <p:nvPr/>
        </p:nvGrpSpPr>
        <p:grpSpPr>
          <a:xfrm>
            <a:off x="5613480" y="5703840"/>
            <a:ext cx="1539720" cy="254160"/>
            <a:chOff x="5613480" y="5703840"/>
            <a:chExt cx="1539720" cy="254160"/>
          </a:xfrm>
        </p:grpSpPr>
        <p:sp>
          <p:nvSpPr>
            <p:cNvPr id="1407" name="Freeform 88"/>
            <p:cNvSpPr/>
            <p:nvPr/>
          </p:nvSpPr>
          <p:spPr>
            <a:xfrm>
              <a:off x="60768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8" name="Freeform 89"/>
            <p:cNvSpPr/>
            <p:nvPr/>
          </p:nvSpPr>
          <p:spPr>
            <a:xfrm>
              <a:off x="611136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90"/>
            <p:cNvSpPr/>
            <p:nvPr/>
          </p:nvSpPr>
          <p:spPr>
            <a:xfrm>
              <a:off x="6148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91"/>
            <p:cNvSpPr/>
            <p:nvPr/>
          </p:nvSpPr>
          <p:spPr>
            <a:xfrm>
              <a:off x="6183000" y="5895360"/>
              <a:ext cx="2448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1" name="Freeform 92"/>
            <p:cNvSpPr/>
            <p:nvPr/>
          </p:nvSpPr>
          <p:spPr>
            <a:xfrm>
              <a:off x="62366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2" name="Freeform 93"/>
            <p:cNvSpPr/>
            <p:nvPr/>
          </p:nvSpPr>
          <p:spPr>
            <a:xfrm>
              <a:off x="6265440" y="5895360"/>
              <a:ext cx="23400" cy="24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Freeform 94"/>
            <p:cNvSpPr/>
            <p:nvPr/>
          </p:nvSpPr>
          <p:spPr>
            <a:xfrm>
              <a:off x="6300000" y="5893200"/>
              <a:ext cx="23400" cy="26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4" name="Freeform 95"/>
            <p:cNvSpPr/>
            <p:nvPr/>
          </p:nvSpPr>
          <p:spPr>
            <a:xfrm>
              <a:off x="633708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5" name="Rectangle 96"/>
            <p:cNvSpPr/>
            <p:nvPr/>
          </p:nvSpPr>
          <p:spPr>
            <a:xfrm>
              <a:off x="6368400" y="5895360"/>
              <a:ext cx="5400" cy="2448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9720" bIns="-972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6" name="Freeform 97"/>
            <p:cNvSpPr/>
            <p:nvPr/>
          </p:nvSpPr>
          <p:spPr>
            <a:xfrm>
              <a:off x="63896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7" name="Freeform 98"/>
            <p:cNvSpPr/>
            <p:nvPr/>
          </p:nvSpPr>
          <p:spPr>
            <a:xfrm>
              <a:off x="642420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8" name="Freeform 99"/>
            <p:cNvSpPr/>
            <p:nvPr/>
          </p:nvSpPr>
          <p:spPr>
            <a:xfrm>
              <a:off x="647784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9" name="Freeform 100"/>
            <p:cNvSpPr/>
            <p:nvPr/>
          </p:nvSpPr>
          <p:spPr>
            <a:xfrm>
              <a:off x="6512400" y="5895360"/>
              <a:ext cx="17640" cy="2448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0" name="Freeform 101"/>
            <p:cNvSpPr/>
            <p:nvPr/>
          </p:nvSpPr>
          <p:spPr>
            <a:xfrm>
              <a:off x="6545880" y="5895360"/>
              <a:ext cx="20880" cy="24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1" name="Freeform 102"/>
            <p:cNvSpPr/>
            <p:nvPr/>
          </p:nvSpPr>
          <p:spPr>
            <a:xfrm>
              <a:off x="6580440" y="5895360"/>
              <a:ext cx="18720" cy="244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2" name="Freeform 103"/>
            <p:cNvSpPr/>
            <p:nvPr/>
          </p:nvSpPr>
          <p:spPr>
            <a:xfrm>
              <a:off x="6068880" y="5734080"/>
              <a:ext cx="8244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3" name="Freeform 104"/>
            <p:cNvSpPr/>
            <p:nvPr/>
          </p:nvSpPr>
          <p:spPr>
            <a:xfrm>
              <a:off x="6167160" y="5769720"/>
              <a:ext cx="42120" cy="87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4" name="Freeform 105"/>
            <p:cNvSpPr/>
            <p:nvPr/>
          </p:nvSpPr>
          <p:spPr>
            <a:xfrm>
              <a:off x="621972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5" name="Freeform 106"/>
            <p:cNvSpPr/>
            <p:nvPr/>
          </p:nvSpPr>
          <p:spPr>
            <a:xfrm>
              <a:off x="6302520" y="5769720"/>
              <a:ext cx="65880" cy="8964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6" name="Freeform 107"/>
            <p:cNvSpPr/>
            <p:nvPr/>
          </p:nvSpPr>
          <p:spPr>
            <a:xfrm>
              <a:off x="6381720" y="5747400"/>
              <a:ext cx="53280" cy="1119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 108"/>
            <p:cNvSpPr/>
            <p:nvPr/>
          </p:nvSpPr>
          <p:spPr>
            <a:xfrm>
              <a:off x="6450840" y="5734080"/>
              <a:ext cx="18720" cy="12312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Freeform 109"/>
            <p:cNvSpPr/>
            <p:nvPr/>
          </p:nvSpPr>
          <p:spPr>
            <a:xfrm>
              <a:off x="6482160" y="5769720"/>
              <a:ext cx="80280" cy="8964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 110"/>
            <p:cNvSpPr/>
            <p:nvPr/>
          </p:nvSpPr>
          <p:spPr>
            <a:xfrm>
              <a:off x="6570360" y="5769720"/>
              <a:ext cx="69120" cy="896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Rectangle 111"/>
            <p:cNvSpPr/>
            <p:nvPr/>
          </p:nvSpPr>
          <p:spPr>
            <a:xfrm>
              <a:off x="6660720" y="5734080"/>
              <a:ext cx="20880" cy="1231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 112"/>
            <p:cNvSpPr/>
            <p:nvPr/>
          </p:nvSpPr>
          <p:spPr>
            <a:xfrm>
              <a:off x="6705360" y="5766480"/>
              <a:ext cx="7344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 113"/>
            <p:cNvSpPr/>
            <p:nvPr/>
          </p:nvSpPr>
          <p:spPr>
            <a:xfrm>
              <a:off x="6788160" y="5734080"/>
              <a:ext cx="81360" cy="12312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 114"/>
            <p:cNvSpPr/>
            <p:nvPr/>
          </p:nvSpPr>
          <p:spPr>
            <a:xfrm>
              <a:off x="6890760" y="5766480"/>
              <a:ext cx="74520" cy="9072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4" name="Freeform 115"/>
            <p:cNvSpPr/>
            <p:nvPr/>
          </p:nvSpPr>
          <p:spPr>
            <a:xfrm>
              <a:off x="6981480" y="5734080"/>
              <a:ext cx="26640" cy="12312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5" name="Freeform 116"/>
            <p:cNvSpPr/>
            <p:nvPr/>
          </p:nvSpPr>
          <p:spPr>
            <a:xfrm>
              <a:off x="7018200" y="5747400"/>
              <a:ext cx="57960" cy="1119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7"/>
            <p:cNvSpPr/>
            <p:nvPr/>
          </p:nvSpPr>
          <p:spPr>
            <a:xfrm>
              <a:off x="7071840" y="5769720"/>
              <a:ext cx="81360" cy="1252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7" name="Freeform 118"/>
            <p:cNvSpPr/>
            <p:nvPr/>
          </p:nvSpPr>
          <p:spPr>
            <a:xfrm>
              <a:off x="561348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8" name="Freeform 119"/>
            <p:cNvSpPr/>
            <p:nvPr/>
          </p:nvSpPr>
          <p:spPr>
            <a:xfrm>
              <a:off x="5727240" y="5703840"/>
              <a:ext cx="328320" cy="25416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39" name="Group 107"/>
          <p:cNvGrpSpPr/>
          <p:nvPr/>
        </p:nvGrpSpPr>
        <p:grpSpPr>
          <a:xfrm>
            <a:off x="7448400" y="5688000"/>
            <a:ext cx="1440000" cy="285840"/>
            <a:chOff x="7448400" y="5688000"/>
            <a:chExt cx="1440000" cy="285840"/>
          </a:xfrm>
        </p:grpSpPr>
        <p:sp>
          <p:nvSpPr>
            <p:cNvPr id="1440" name="Freeform 123"/>
            <p:cNvSpPr/>
            <p:nvPr/>
          </p:nvSpPr>
          <p:spPr>
            <a:xfrm>
              <a:off x="77259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 124"/>
            <p:cNvSpPr/>
            <p:nvPr/>
          </p:nvSpPr>
          <p:spPr>
            <a:xfrm>
              <a:off x="7758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2" name="Freeform 125"/>
            <p:cNvSpPr/>
            <p:nvPr/>
          </p:nvSpPr>
          <p:spPr>
            <a:xfrm>
              <a:off x="779400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3" name="Freeform 126"/>
            <p:cNvSpPr/>
            <p:nvPr/>
          </p:nvSpPr>
          <p:spPr>
            <a:xfrm>
              <a:off x="7831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4" name="Freeform 127"/>
            <p:cNvSpPr/>
            <p:nvPr/>
          </p:nvSpPr>
          <p:spPr>
            <a:xfrm>
              <a:off x="788436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5" name="Freeform 128"/>
            <p:cNvSpPr/>
            <p:nvPr/>
          </p:nvSpPr>
          <p:spPr>
            <a:xfrm>
              <a:off x="7910640" y="5903280"/>
              <a:ext cx="2196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6" name="Freeform 129"/>
            <p:cNvSpPr/>
            <p:nvPr/>
          </p:nvSpPr>
          <p:spPr>
            <a:xfrm>
              <a:off x="794700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7" name="Freeform 130"/>
            <p:cNvSpPr/>
            <p:nvPr/>
          </p:nvSpPr>
          <p:spPr>
            <a:xfrm>
              <a:off x="798300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8" name="Rectangle 131"/>
            <p:cNvSpPr/>
            <p:nvPr/>
          </p:nvSpPr>
          <p:spPr>
            <a:xfrm>
              <a:off x="8016480" y="5903280"/>
              <a:ext cx="2520" cy="234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-10800" bIns="-10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9" name="Freeform 132"/>
            <p:cNvSpPr/>
            <p:nvPr/>
          </p:nvSpPr>
          <p:spPr>
            <a:xfrm>
              <a:off x="803592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0" name="Freeform 133"/>
            <p:cNvSpPr/>
            <p:nvPr/>
          </p:nvSpPr>
          <p:spPr>
            <a:xfrm>
              <a:off x="8071920" y="5903280"/>
              <a:ext cx="16560" cy="2340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1" name="Freeform 134"/>
            <p:cNvSpPr/>
            <p:nvPr/>
          </p:nvSpPr>
          <p:spPr>
            <a:xfrm>
              <a:off x="812448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135"/>
            <p:cNvSpPr/>
            <p:nvPr/>
          </p:nvSpPr>
          <p:spPr>
            <a:xfrm>
              <a:off x="8157960" y="5903280"/>
              <a:ext cx="20520" cy="23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Freeform 136"/>
            <p:cNvSpPr/>
            <p:nvPr/>
          </p:nvSpPr>
          <p:spPr>
            <a:xfrm>
              <a:off x="8191440" y="5903280"/>
              <a:ext cx="23400" cy="234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137"/>
            <p:cNvSpPr/>
            <p:nvPr/>
          </p:nvSpPr>
          <p:spPr>
            <a:xfrm>
              <a:off x="8227440" y="5903280"/>
              <a:ext cx="19440" cy="234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Rectangle 138"/>
            <p:cNvSpPr/>
            <p:nvPr/>
          </p:nvSpPr>
          <p:spPr>
            <a:xfrm>
              <a:off x="7719120" y="5743440"/>
              <a:ext cx="16560" cy="12204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139"/>
            <p:cNvSpPr/>
            <p:nvPr/>
          </p:nvSpPr>
          <p:spPr>
            <a:xfrm>
              <a:off x="7764840" y="5739120"/>
              <a:ext cx="86040" cy="1288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140"/>
            <p:cNvSpPr/>
            <p:nvPr/>
          </p:nvSpPr>
          <p:spPr>
            <a:xfrm>
              <a:off x="7874640" y="5739120"/>
              <a:ext cx="72000" cy="1288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141"/>
            <p:cNvSpPr/>
            <p:nvPr/>
          </p:nvSpPr>
          <p:spPr>
            <a:xfrm>
              <a:off x="7970400" y="5743440"/>
              <a:ext cx="81720" cy="1249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142"/>
            <p:cNvSpPr/>
            <p:nvPr/>
          </p:nvSpPr>
          <p:spPr>
            <a:xfrm>
              <a:off x="8078760" y="5743440"/>
              <a:ext cx="83160" cy="12204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143"/>
            <p:cNvSpPr/>
            <p:nvPr/>
          </p:nvSpPr>
          <p:spPr>
            <a:xfrm>
              <a:off x="8162280" y="5739120"/>
              <a:ext cx="98280" cy="12636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144"/>
            <p:cNvSpPr/>
            <p:nvPr/>
          </p:nvSpPr>
          <p:spPr>
            <a:xfrm>
              <a:off x="8274600" y="5739120"/>
              <a:ext cx="84600" cy="1288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145"/>
            <p:cNvSpPr/>
            <p:nvPr/>
          </p:nvSpPr>
          <p:spPr>
            <a:xfrm>
              <a:off x="8382960" y="5739120"/>
              <a:ext cx="8316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146"/>
            <p:cNvSpPr/>
            <p:nvPr/>
          </p:nvSpPr>
          <p:spPr>
            <a:xfrm>
              <a:off x="8485920" y="5743440"/>
              <a:ext cx="65160" cy="12204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147"/>
            <p:cNvSpPr/>
            <p:nvPr/>
          </p:nvSpPr>
          <p:spPr>
            <a:xfrm>
              <a:off x="8562240" y="5743440"/>
              <a:ext cx="144360" cy="1220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148"/>
            <p:cNvSpPr/>
            <p:nvPr/>
          </p:nvSpPr>
          <p:spPr>
            <a:xfrm>
              <a:off x="869976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149"/>
            <p:cNvSpPr/>
            <p:nvPr/>
          </p:nvSpPr>
          <p:spPr>
            <a:xfrm>
              <a:off x="8785800" y="5743440"/>
              <a:ext cx="102600" cy="12204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150"/>
            <p:cNvSpPr/>
            <p:nvPr/>
          </p:nvSpPr>
          <p:spPr>
            <a:xfrm>
              <a:off x="7556400" y="5694840"/>
              <a:ext cx="128880" cy="27900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8" name="Freeform 151"/>
            <p:cNvSpPr/>
            <p:nvPr/>
          </p:nvSpPr>
          <p:spPr>
            <a:xfrm>
              <a:off x="7513560" y="5688000"/>
              <a:ext cx="69120" cy="24588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9" name="Freeform 152"/>
            <p:cNvSpPr/>
            <p:nvPr/>
          </p:nvSpPr>
          <p:spPr>
            <a:xfrm>
              <a:off x="7448400" y="5698800"/>
              <a:ext cx="108000" cy="19728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70" name="TextBox 141"/>
          <p:cNvSpPr/>
          <p:nvPr/>
        </p:nvSpPr>
        <p:spPr>
          <a:xfrm>
            <a:off x="1515960" y="2290680"/>
            <a:ext cx="156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</a:rPr>
              <a:t>Aliando Crush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1515960" y="2546280"/>
            <a:ext cx="156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7346880" y="2290680"/>
            <a:ext cx="156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Open Sans"/>
              </a:rPr>
              <a:t>Jane Amalia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7346880" y="2546280"/>
            <a:ext cx="156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TextBox 23"/>
          <p:cNvSpPr/>
          <p:nvPr/>
        </p:nvSpPr>
        <p:spPr>
          <a:xfrm>
            <a:off x="4432320" y="2290680"/>
            <a:ext cx="156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300" spc="-1" strike="noStrike">
                <a:solidFill>
                  <a:srgbClr val="ffffff"/>
                </a:solidFill>
                <a:latin typeface="Roboto"/>
              </a:rPr>
              <a:t>Alex Karnel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TextBox 23"/>
          <p:cNvSpPr/>
          <p:nvPr/>
        </p:nvSpPr>
        <p:spPr>
          <a:xfrm>
            <a:off x="4432320" y="2546280"/>
            <a:ext cx="156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147"/>
          <p:cNvSpPr/>
          <p:nvPr/>
        </p:nvSpPr>
        <p:spPr>
          <a:xfrm>
            <a:off x="49356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7" name="Rectangle 148"/>
          <p:cNvSpPr/>
          <p:nvPr/>
        </p:nvSpPr>
        <p:spPr>
          <a:xfrm>
            <a:off x="3400560" y="3417840"/>
            <a:ext cx="235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8" name="Rectangle 149"/>
          <p:cNvSpPr/>
          <p:nvPr/>
        </p:nvSpPr>
        <p:spPr>
          <a:xfrm>
            <a:off x="6404040" y="3417840"/>
            <a:ext cx="2359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“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P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assion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leads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Raavi"/>
              </a:rPr>
              <a:t>,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performance leads to </a:t>
            </a:r>
            <a:r>
              <a:rPr b="1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SUCCESS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Raavi"/>
              </a:rPr>
              <a:t>! “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79" name="Group 167"/>
          <p:cNvGrpSpPr/>
          <p:nvPr/>
        </p:nvGrpSpPr>
        <p:grpSpPr>
          <a:xfrm>
            <a:off x="1595520" y="2840040"/>
            <a:ext cx="750960" cy="123840"/>
            <a:chOff x="1595520" y="2840040"/>
            <a:chExt cx="750960" cy="123840"/>
          </a:xfrm>
        </p:grpSpPr>
        <p:sp>
          <p:nvSpPr>
            <p:cNvPr id="1480" name="Freeform 13"/>
            <p:cNvSpPr/>
            <p:nvPr/>
          </p:nvSpPr>
          <p:spPr>
            <a:xfrm>
              <a:off x="15955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175032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19058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3" name="Freeform 13"/>
            <p:cNvSpPr/>
            <p:nvPr/>
          </p:nvSpPr>
          <p:spPr>
            <a:xfrm>
              <a:off x="2060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4" name="Freeform 13"/>
            <p:cNvSpPr/>
            <p:nvPr/>
          </p:nvSpPr>
          <p:spPr>
            <a:xfrm>
              <a:off x="2215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5" name="Group 168"/>
          <p:cNvGrpSpPr/>
          <p:nvPr/>
        </p:nvGrpSpPr>
        <p:grpSpPr>
          <a:xfrm>
            <a:off x="4529160" y="2840040"/>
            <a:ext cx="750960" cy="123840"/>
            <a:chOff x="4529160" y="2840040"/>
            <a:chExt cx="750960" cy="123840"/>
          </a:xfrm>
        </p:grpSpPr>
        <p:sp>
          <p:nvSpPr>
            <p:cNvPr id="1486" name="Freeform 13"/>
            <p:cNvSpPr/>
            <p:nvPr/>
          </p:nvSpPr>
          <p:spPr>
            <a:xfrm>
              <a:off x="45291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468396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4839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49942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0" name="Freeform 13"/>
            <p:cNvSpPr/>
            <p:nvPr/>
          </p:nvSpPr>
          <p:spPr>
            <a:xfrm>
              <a:off x="51494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91" name="Group 174"/>
          <p:cNvGrpSpPr/>
          <p:nvPr/>
        </p:nvGrpSpPr>
        <p:grpSpPr>
          <a:xfrm>
            <a:off x="7402680" y="2840040"/>
            <a:ext cx="750600" cy="123840"/>
            <a:chOff x="7402680" y="2840040"/>
            <a:chExt cx="750600" cy="123840"/>
          </a:xfrm>
        </p:grpSpPr>
        <p:sp>
          <p:nvSpPr>
            <p:cNvPr id="1492" name="Freeform 13"/>
            <p:cNvSpPr/>
            <p:nvPr/>
          </p:nvSpPr>
          <p:spPr>
            <a:xfrm>
              <a:off x="74026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755748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771264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78678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6" name="Freeform 13"/>
            <p:cNvSpPr/>
            <p:nvPr/>
          </p:nvSpPr>
          <p:spPr>
            <a:xfrm>
              <a:off x="8022600" y="2840040"/>
              <a:ext cx="130680" cy="12384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108000" y="103320"/>
            <a:ext cx="8928000" cy="66592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12"/>
          <p:cNvSpPr/>
          <p:nvPr/>
        </p:nvSpPr>
        <p:spPr>
          <a:xfrm>
            <a:off x="108000" y="95400"/>
            <a:ext cx="8928000" cy="6667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99" name="Rectangle 38"/>
          <p:cNvSpPr/>
          <p:nvPr/>
        </p:nvSpPr>
        <p:spPr>
          <a:xfrm>
            <a:off x="8394840" y="95400"/>
            <a:ext cx="54108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TextBox 39"/>
          <p:cNvSpPr/>
          <p:nvPr/>
        </p:nvSpPr>
        <p:spPr>
          <a:xfrm>
            <a:off x="8366040" y="10332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7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8485200" y="82440"/>
            <a:ext cx="4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945F2-0858-409C-958C-4907BD059C9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Rectangle 15"/>
          <p:cNvSpPr/>
          <p:nvPr/>
        </p:nvSpPr>
        <p:spPr>
          <a:xfrm>
            <a:off x="3489480" y="2246400"/>
            <a:ext cx="216504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5" name="Rectangle 16"/>
          <p:cNvSpPr/>
          <p:nvPr/>
        </p:nvSpPr>
        <p:spPr>
          <a:xfrm>
            <a:off x="621972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6" name="Rectangle 17"/>
          <p:cNvSpPr/>
          <p:nvPr/>
        </p:nvSpPr>
        <p:spPr>
          <a:xfrm>
            <a:off x="758880" y="2246400"/>
            <a:ext cx="2165400" cy="3076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7" name="TextBox 18"/>
          <p:cNvSpPr/>
          <p:nvPr/>
        </p:nvSpPr>
        <p:spPr>
          <a:xfrm>
            <a:off x="1405080" y="2449440"/>
            <a:ext cx="872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8" name="TextBox 19"/>
          <p:cNvSpPr/>
          <p:nvPr/>
        </p:nvSpPr>
        <p:spPr>
          <a:xfrm>
            <a:off x="127800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20"/>
          <p:cNvSpPr/>
          <p:nvPr/>
        </p:nvSpPr>
        <p:spPr>
          <a:xfrm>
            <a:off x="96840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Straight Connector 21"/>
          <p:cNvSpPr/>
          <p:nvPr/>
        </p:nvSpPr>
        <p:spPr>
          <a:xfrm>
            <a:off x="96840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TextBox 22"/>
          <p:cNvSpPr/>
          <p:nvPr/>
        </p:nvSpPr>
        <p:spPr>
          <a:xfrm>
            <a:off x="3898800" y="2449440"/>
            <a:ext cx="134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23"/>
          <p:cNvSpPr/>
          <p:nvPr/>
        </p:nvSpPr>
        <p:spPr>
          <a:xfrm>
            <a:off x="40082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Straight Connector 24"/>
          <p:cNvSpPr/>
          <p:nvPr/>
        </p:nvSpPr>
        <p:spPr>
          <a:xfrm>
            <a:off x="3699000" y="3208320"/>
            <a:ext cx="174600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TextBox 25"/>
          <p:cNvSpPr/>
          <p:nvPr/>
        </p:nvSpPr>
        <p:spPr>
          <a:xfrm>
            <a:off x="6574320" y="2449440"/>
            <a:ext cx="145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1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26"/>
          <p:cNvSpPr/>
          <p:nvPr/>
        </p:nvSpPr>
        <p:spPr>
          <a:xfrm>
            <a:off x="6738840" y="285264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Straight Connector 27"/>
          <p:cNvSpPr/>
          <p:nvPr/>
        </p:nvSpPr>
        <p:spPr>
          <a:xfrm>
            <a:off x="6429240" y="3208320"/>
            <a:ext cx="174636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7" name="Rectangle 28"/>
          <p:cNvSpPr/>
          <p:nvPr/>
        </p:nvSpPr>
        <p:spPr>
          <a:xfrm>
            <a:off x="4022640" y="4683240"/>
            <a:ext cx="1098720" cy="4316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1292400" y="4683240"/>
            <a:ext cx="1098360" cy="4316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Rectangle 30"/>
          <p:cNvSpPr/>
          <p:nvPr/>
        </p:nvSpPr>
        <p:spPr>
          <a:xfrm>
            <a:off x="6753240" y="4683240"/>
            <a:ext cx="1098360" cy="4316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TextBox 31"/>
          <p:cNvSpPr/>
          <p:nvPr/>
        </p:nvSpPr>
        <p:spPr>
          <a:xfrm>
            <a:off x="15325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TextBox 32"/>
          <p:cNvSpPr/>
          <p:nvPr/>
        </p:nvSpPr>
        <p:spPr>
          <a:xfrm>
            <a:off x="426204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TextBox 33"/>
          <p:cNvSpPr/>
          <p:nvPr/>
        </p:nvSpPr>
        <p:spPr>
          <a:xfrm>
            <a:off x="6991920" y="4748040"/>
            <a:ext cx="61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Rectangle 34"/>
          <p:cNvSpPr/>
          <p:nvPr/>
        </p:nvSpPr>
        <p:spPr>
          <a:xfrm>
            <a:off x="4079880" y="2077920"/>
            <a:ext cx="984240" cy="320760"/>
          </a:xfrm>
          <a:prstGeom prst="rect">
            <a:avLst/>
          </a:prstGeom>
          <a:solidFill>
            <a:srgbClr val="9e9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TextBox 35"/>
          <p:cNvSpPr/>
          <p:nvPr/>
        </p:nvSpPr>
        <p:spPr>
          <a:xfrm>
            <a:off x="4153320" y="2127240"/>
            <a:ext cx="83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TextBox 36"/>
          <p:cNvSpPr/>
          <p:nvPr/>
        </p:nvSpPr>
        <p:spPr>
          <a:xfrm>
            <a:off x="3699000" y="3287880"/>
            <a:ext cx="1746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TextBox 37"/>
          <p:cNvSpPr/>
          <p:nvPr/>
        </p:nvSpPr>
        <p:spPr>
          <a:xfrm>
            <a:off x="6429240" y="3287880"/>
            <a:ext cx="174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" descr=""/>
          <p:cNvPicPr/>
          <p:nvPr/>
        </p:nvPicPr>
        <p:blipFill>
          <a:blip r:embed="rId2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32363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9" name="Rectangle 18"/>
          <p:cNvSpPr/>
          <p:nvPr/>
        </p:nvSpPr>
        <p:spPr>
          <a:xfrm>
            <a:off x="1368360" y="3605040"/>
            <a:ext cx="640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TextBox 23"/>
          <p:cNvSpPr/>
          <p:nvPr/>
        </p:nvSpPr>
        <p:spPr>
          <a:xfrm>
            <a:off x="2370240" y="3083040"/>
            <a:ext cx="440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300" spc="-1" strike="noStrike">
                <a:solidFill>
                  <a:srgbClr val="2c85ae"/>
                </a:solidFill>
                <a:latin typeface="Roboto"/>
              </a:rPr>
              <a:t>SECTION BREAK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B6ECC-2374-4156-84E9-14BAFC20BF0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4532400" y="23702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Conten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4532400" y="2571840"/>
            <a:ext cx="4170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4974120" y="328284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4970520" y="34322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4964400" y="426564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4970520" y="440856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7140960" y="3279600"/>
            <a:ext cx="46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7137360" y="343044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7131240" y="4262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7137360" y="4405320"/>
            <a:ext cx="15652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1817640" y="2411280"/>
            <a:ext cx="1255680" cy="9669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60" rIns="11160" tIns="34272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419120" y="3392640"/>
            <a:ext cx="2051280" cy="6109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4560" rIns="39456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022400" y="4019400"/>
            <a:ext cx="2846160" cy="61128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240" rIns="54324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625320" y="4646520"/>
            <a:ext cx="3640320" cy="61128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560" rIns="691560" tIns="11160" bIns="68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1917360" y="482436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1917360" y="42163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1917360" y="358128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1917360" y="302580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2" name="Group 48" descr=""/>
          <p:cNvPicPr/>
          <p:nvPr/>
        </p:nvPicPr>
        <p:blipFill>
          <a:blip r:embed="rId1"/>
          <a:stretch/>
        </p:blipFill>
        <p:spPr>
          <a:xfrm>
            <a:off x="6754680" y="3376440"/>
            <a:ext cx="298440" cy="336600"/>
          </a:xfrm>
          <a:prstGeom prst="rect">
            <a:avLst/>
          </a:prstGeom>
          <a:ln w="0">
            <a:noFill/>
          </a:ln>
        </p:spPr>
      </p:pic>
      <p:pic>
        <p:nvPicPr>
          <p:cNvPr id="1553" name="Group 51" descr=""/>
          <p:cNvPicPr/>
          <p:nvPr/>
        </p:nvPicPr>
        <p:blipFill>
          <a:blip r:embed="rId2"/>
          <a:stretch/>
        </p:blipFill>
        <p:spPr>
          <a:xfrm>
            <a:off x="4638600" y="44388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81"/>
          <p:cNvSpPr/>
          <p:nvPr/>
        </p:nvSpPr>
        <p:spPr>
          <a:xfrm>
            <a:off x="4640400" y="3414600"/>
            <a:ext cx="269640" cy="26208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5" name="Group 55" descr=""/>
          <p:cNvPicPr/>
          <p:nvPr/>
        </p:nvPicPr>
        <p:blipFill>
          <a:blip r:embed="rId3"/>
          <a:stretch/>
        </p:blipFill>
        <p:spPr>
          <a:xfrm>
            <a:off x="6742080" y="4400640"/>
            <a:ext cx="324000" cy="32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C7420-E0A7-4EF2-911B-4F1A9CD48086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Freeform: Shape 5"/>
          <p:cNvSpPr/>
          <p:nvPr/>
        </p:nvSpPr>
        <p:spPr>
          <a:xfrm rot="5400000">
            <a:off x="5402880" y="3474360"/>
            <a:ext cx="771840" cy="7696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Freeform: Shape 6"/>
          <p:cNvSpPr/>
          <p:nvPr/>
        </p:nvSpPr>
        <p:spPr>
          <a:xfrm rot="7200000">
            <a:off x="5398920" y="422568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Freeform: Shape 7"/>
          <p:cNvSpPr/>
          <p:nvPr/>
        </p:nvSpPr>
        <p:spPr>
          <a:xfrm rot="5400000">
            <a:off x="4822920" y="4477320"/>
            <a:ext cx="77184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2" name="Freeform: Shape 8"/>
          <p:cNvSpPr/>
          <p:nvPr/>
        </p:nvSpPr>
        <p:spPr>
          <a:xfrm rot="10800000">
            <a:off x="4533480" y="4732200"/>
            <a:ext cx="20484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3" name="Freeform: Shape 9"/>
          <p:cNvSpPr/>
          <p:nvPr/>
        </p:nvSpPr>
        <p:spPr>
          <a:xfrm rot="5400000">
            <a:off x="3664800" y="447660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4" name="Freeform: Shape 10"/>
          <p:cNvSpPr/>
          <p:nvPr/>
        </p:nvSpPr>
        <p:spPr>
          <a:xfrm rot="3600000">
            <a:off x="3660480" y="423540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5" name="Freeform: Shape 11"/>
          <p:cNvSpPr/>
          <p:nvPr/>
        </p:nvSpPr>
        <p:spPr>
          <a:xfrm rot="5400000">
            <a:off x="3085560" y="3473280"/>
            <a:ext cx="77184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6" name="Freeform: Shape 12"/>
          <p:cNvSpPr/>
          <p:nvPr/>
        </p:nvSpPr>
        <p:spPr>
          <a:xfrm rot="7200000">
            <a:off x="3655080" y="3232800"/>
            <a:ext cx="206280" cy="2584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429496704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7" name="Freeform: Shape 13"/>
          <p:cNvSpPr/>
          <p:nvPr/>
        </p:nvSpPr>
        <p:spPr>
          <a:xfrm rot="5400000">
            <a:off x="3665160" y="2470320"/>
            <a:ext cx="771480" cy="7714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8" name="Freeform: Shape 14"/>
          <p:cNvSpPr/>
          <p:nvPr/>
        </p:nvSpPr>
        <p:spPr>
          <a:xfrm>
            <a:off x="4521240" y="2725560"/>
            <a:ext cx="206280" cy="26064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9" name="Freeform: Shape 15"/>
          <p:cNvSpPr/>
          <p:nvPr/>
        </p:nvSpPr>
        <p:spPr>
          <a:xfrm rot="5400000">
            <a:off x="4823280" y="2471040"/>
            <a:ext cx="771480" cy="77004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40" rIns="125640" tIns="125640" bIns="125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0" name="Freeform: Shape 16"/>
          <p:cNvSpPr/>
          <p:nvPr/>
        </p:nvSpPr>
        <p:spPr>
          <a:xfrm rot="3600000">
            <a:off x="5392440" y="3222720"/>
            <a:ext cx="206280" cy="26028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56160" tIns="47160" bIns="47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1" name="Title 1"/>
          <p:cNvSpPr/>
          <p:nvPr/>
        </p:nvSpPr>
        <p:spPr>
          <a:xfrm>
            <a:off x="58024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Details 1"/>
          <p:cNvSpPr/>
          <p:nvPr/>
        </p:nvSpPr>
        <p:spPr>
          <a:xfrm>
            <a:off x="58024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Title 1"/>
          <p:cNvSpPr/>
          <p:nvPr/>
        </p:nvSpPr>
        <p:spPr>
          <a:xfrm>
            <a:off x="624528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4" name="Details 1"/>
          <p:cNvSpPr/>
          <p:nvPr/>
        </p:nvSpPr>
        <p:spPr>
          <a:xfrm>
            <a:off x="624528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5" name="Title 1"/>
          <p:cNvSpPr/>
          <p:nvPr/>
        </p:nvSpPr>
        <p:spPr>
          <a:xfrm>
            <a:off x="5802480" y="4726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6" name="Details 1"/>
          <p:cNvSpPr/>
          <p:nvPr/>
        </p:nvSpPr>
        <p:spPr>
          <a:xfrm>
            <a:off x="5802480" y="489888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7" name="Title 1"/>
          <p:cNvSpPr/>
          <p:nvPr/>
        </p:nvSpPr>
        <p:spPr>
          <a:xfrm>
            <a:off x="1484280" y="23590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8" name="Details 1"/>
          <p:cNvSpPr/>
          <p:nvPr/>
        </p:nvSpPr>
        <p:spPr>
          <a:xfrm>
            <a:off x="1297080" y="25322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Title 1"/>
          <p:cNvSpPr/>
          <p:nvPr/>
        </p:nvSpPr>
        <p:spPr>
          <a:xfrm>
            <a:off x="860400" y="354960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Details 1"/>
          <p:cNvSpPr/>
          <p:nvPr/>
        </p:nvSpPr>
        <p:spPr>
          <a:xfrm>
            <a:off x="671400" y="3722760"/>
            <a:ext cx="222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Title 1"/>
          <p:cNvSpPr/>
          <p:nvPr/>
        </p:nvSpPr>
        <p:spPr>
          <a:xfrm>
            <a:off x="1484280" y="4724280"/>
            <a:ext cx="20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Details 1"/>
          <p:cNvSpPr/>
          <p:nvPr/>
        </p:nvSpPr>
        <p:spPr>
          <a:xfrm>
            <a:off x="1297080" y="4897440"/>
            <a:ext cx="2225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9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3" name="Group 31" descr=""/>
          <p:cNvPicPr/>
          <p:nvPr/>
        </p:nvPicPr>
        <p:blipFill>
          <a:blip r:embed="rId1"/>
          <a:stretch/>
        </p:blipFill>
        <p:spPr>
          <a:xfrm>
            <a:off x="3870360" y="4737240"/>
            <a:ext cx="360360" cy="249120"/>
          </a:xfrm>
          <a:prstGeom prst="rect">
            <a:avLst/>
          </a:prstGeom>
          <a:ln w="0">
            <a:noFill/>
          </a:ln>
        </p:spPr>
      </p:pic>
      <p:pic>
        <p:nvPicPr>
          <p:cNvPr id="1584" name="Group 34" descr=""/>
          <p:cNvPicPr/>
          <p:nvPr/>
        </p:nvPicPr>
        <p:blipFill>
          <a:blip r:embed="rId2"/>
          <a:stretch/>
        </p:blipFill>
        <p:spPr>
          <a:xfrm>
            <a:off x="3895560" y="2706840"/>
            <a:ext cx="311400" cy="29844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42" descr=""/>
          <p:cNvPicPr/>
          <p:nvPr/>
        </p:nvPicPr>
        <p:blipFill>
          <a:blip r:embed="rId3"/>
          <a:stretch/>
        </p:blipFill>
        <p:spPr>
          <a:xfrm>
            <a:off x="3346560" y="3706920"/>
            <a:ext cx="250560" cy="304560"/>
          </a:xfrm>
          <a:prstGeom prst="rect">
            <a:avLst/>
          </a:prstGeom>
          <a:ln w="0">
            <a:noFill/>
          </a:ln>
        </p:spPr>
      </p:pic>
      <p:sp>
        <p:nvSpPr>
          <p:cNvPr id="1586" name="Freeform 41"/>
          <p:cNvSpPr/>
          <p:nvPr/>
        </p:nvSpPr>
        <p:spPr>
          <a:xfrm>
            <a:off x="5062680" y="2708280"/>
            <a:ext cx="295200" cy="29520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7" name="Group 46" descr=""/>
          <p:cNvPicPr/>
          <p:nvPr/>
        </p:nvPicPr>
        <p:blipFill>
          <a:blip r:embed="rId4"/>
          <a:stretch/>
        </p:blipFill>
        <p:spPr>
          <a:xfrm>
            <a:off x="5029200" y="4737240"/>
            <a:ext cx="360360" cy="249120"/>
          </a:xfrm>
          <a:prstGeom prst="rect">
            <a:avLst/>
          </a:prstGeom>
          <a:ln w="0">
            <a:noFill/>
          </a:ln>
        </p:spPr>
      </p:pic>
      <p:sp>
        <p:nvSpPr>
          <p:cNvPr id="1588" name="Freeform 45"/>
          <p:cNvSpPr/>
          <p:nvPr/>
        </p:nvSpPr>
        <p:spPr>
          <a:xfrm>
            <a:off x="5653080" y="3711600"/>
            <a:ext cx="271440" cy="29520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C4DDB-081C-48C5-A11D-8C7513E21C5C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576360" y="5146560"/>
            <a:ext cx="120600" cy="1206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696960" y="510228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razil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305000" y="5146560"/>
            <a:ext cx="120600" cy="1206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425600" y="5102280"/>
            <a:ext cx="53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US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028960" y="5146560"/>
            <a:ext cx="118800" cy="1206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147760" y="5102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United Kingd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3252960" y="5146560"/>
            <a:ext cx="118800" cy="1206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3371760" y="5102280"/>
            <a:ext cx="947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hin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3957480" y="5143680"/>
            <a:ext cx="120960" cy="1188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4078440" y="5099040"/>
            <a:ext cx="947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Australia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407880" y="2389320"/>
            <a:ext cx="4767480" cy="23288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996840" y="2919240"/>
            <a:ext cx="635040" cy="428760"/>
          </a:xfrm>
          <a:prstGeom prst="pie">
            <a:avLst/>
          </a:prstGeom>
          <a:solidFill>
            <a:srgbClr val="9e9dc7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1700280" y="3589200"/>
            <a:ext cx="636480" cy="430200"/>
          </a:xfrm>
          <a:prstGeom prst="pie">
            <a:avLst/>
          </a:prstGeom>
          <a:solidFill>
            <a:srgbClr val="73bbdc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4167360" y="3801960"/>
            <a:ext cx="634680" cy="428760"/>
          </a:xfrm>
          <a:prstGeom prst="pie">
            <a:avLst/>
          </a:prstGeom>
          <a:solidFill>
            <a:srgbClr val="59cfe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3782880" y="2909880"/>
            <a:ext cx="635040" cy="430200"/>
          </a:xfrm>
          <a:prstGeom prst="pie">
            <a:avLst/>
          </a:prstGeom>
          <a:solidFill>
            <a:srgbClr val="89add1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2349360" y="2619360"/>
            <a:ext cx="635040" cy="428760"/>
          </a:xfrm>
          <a:prstGeom prst="pie">
            <a:avLst/>
          </a:prstGeom>
          <a:solidFill>
            <a:srgbClr val="96a4cb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16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5364000" y="2313000"/>
            <a:ext cx="3256200" cy="29941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5460840" y="3319560"/>
            <a:ext cx="2979720" cy="18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9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5454360" y="2970360"/>
            <a:ext cx="1328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5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5430600" y="23893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6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25262-FC84-4D4B-9D4C-8C4458B362BF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428760" y="2249640"/>
          <a:ext cx="3860640" cy="176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49640"/>
                    <a:ext cx="386064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4834080" y="2249640"/>
          <a:ext cx="3862080" cy="1761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2249640"/>
                    <a:ext cx="3862080" cy="17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4572000" y="2365200"/>
            <a:ext cx="0" cy="3178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5533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1785960" y="4370400"/>
            <a:ext cx="26287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51552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2c85ae"/>
                </a:solidFill>
                <a:latin typeface="Roboto"/>
              </a:rPr>
              <a:t>$37M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4948920" y="4091040"/>
            <a:ext cx="1249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3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6181560" y="4370400"/>
            <a:ext cx="2627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4911480" y="4324320"/>
            <a:ext cx="1293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300" spc="-1" strike="noStrike">
                <a:solidFill>
                  <a:srgbClr val="5e5ca2"/>
                </a:solidFill>
                <a:latin typeface="Roboto"/>
              </a:rPr>
              <a:t>$3</a:t>
            </a:r>
            <a:r>
              <a:rPr b="1" lang="en-ID" sz="3300" spc="-1" strike="noStrike">
                <a:solidFill>
                  <a:srgbClr val="5e5ca2"/>
                </a:solidFill>
                <a:latin typeface="Roboto"/>
              </a:rPr>
              <a:t>9</a:t>
            </a:r>
            <a:r>
              <a:rPr b="1" lang="id-ID" sz="3300" spc="-1" strike="noStrike">
                <a:solidFill>
                  <a:srgbClr val="5e5ca2"/>
                </a:solidFill>
                <a:latin typeface="Roboto"/>
              </a:rPr>
              <a:t>M</a:t>
            </a:r>
            <a:endParaRPr b="0" lang="en-US" sz="3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69804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92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2611800" y="499752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8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681120" y="5165640"/>
            <a:ext cx="1538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2593800" y="5165640"/>
            <a:ext cx="153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588960" y="5068800"/>
            <a:ext cx="81000" cy="810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2516040" y="5068800"/>
            <a:ext cx="8100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5162760" y="4987800"/>
            <a:ext cx="64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5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20,0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7076520" y="4997520"/>
            <a:ext cx="64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21</a:t>
            </a:r>
            <a:r>
              <a:rPr b="1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0,0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  <a:ea typeface="Open Sans"/>
              </a:rPr>
              <a:t>00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5145120" y="5165640"/>
            <a:ext cx="1417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7059600" y="5165640"/>
            <a:ext cx="1416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5052960" y="5068800"/>
            <a:ext cx="81000" cy="810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6980400" y="5068800"/>
            <a:ext cx="80640" cy="81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" descr=""/>
          <p:cNvPicPr/>
          <p:nvPr/>
        </p:nvPicPr>
        <p:blipFill>
          <a:blip r:embed="rId1"/>
          <a:stretch/>
        </p:blipFill>
        <p:spPr>
          <a:xfrm>
            <a:off x="108000" y="5329080"/>
            <a:ext cx="8928000" cy="1379520"/>
          </a:xfrm>
          <a:prstGeom prst="rect">
            <a:avLst/>
          </a:prstGeom>
          <a:ln w="0">
            <a:noFill/>
          </a:ln>
        </p:spPr>
      </p:pic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D5A05-3BE8-4EF9-A0F2-F8210D21BCE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Rectangle 34"/>
          <p:cNvSpPr/>
          <p:nvPr/>
        </p:nvSpPr>
        <p:spPr>
          <a:xfrm>
            <a:off x="98280" y="5329080"/>
            <a:ext cx="8947440" cy="140364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43" name="Group 4"/>
          <p:cNvGrpSpPr/>
          <p:nvPr/>
        </p:nvGrpSpPr>
        <p:grpSpPr>
          <a:xfrm>
            <a:off x="98280" y="4476600"/>
            <a:ext cx="1962360" cy="855720"/>
            <a:chOff x="98280" y="4476600"/>
            <a:chExt cx="1962360" cy="855720"/>
          </a:xfrm>
        </p:grpSpPr>
        <p:sp>
          <p:nvSpPr>
            <p:cNvPr id="1644" name="Freeform 5"/>
            <p:cNvSpPr/>
            <p:nvPr/>
          </p:nvSpPr>
          <p:spPr>
            <a:xfrm>
              <a:off x="98280" y="4476600"/>
              <a:ext cx="98172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5" name="Freeform 6"/>
            <p:cNvSpPr/>
            <p:nvPr/>
          </p:nvSpPr>
          <p:spPr>
            <a:xfrm>
              <a:off x="1080000" y="4476600"/>
              <a:ext cx="98064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092240" y="3773520"/>
            <a:ext cx="1965240" cy="1558800"/>
            <a:chOff x="1092240" y="3773520"/>
            <a:chExt cx="1965240" cy="1558800"/>
          </a:xfrm>
        </p:grpSpPr>
        <p:sp>
          <p:nvSpPr>
            <p:cNvPr id="1647" name="Freeform 7"/>
            <p:cNvSpPr/>
            <p:nvPr/>
          </p:nvSpPr>
          <p:spPr>
            <a:xfrm>
              <a:off x="1092240" y="3773520"/>
              <a:ext cx="983880" cy="155880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8" name="Freeform 8"/>
            <p:cNvSpPr/>
            <p:nvPr/>
          </p:nvSpPr>
          <p:spPr>
            <a:xfrm>
              <a:off x="2076120" y="3773520"/>
              <a:ext cx="981360" cy="155880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9" name="Group 10"/>
          <p:cNvGrpSpPr/>
          <p:nvPr/>
        </p:nvGrpSpPr>
        <p:grpSpPr>
          <a:xfrm>
            <a:off x="2081160" y="3324240"/>
            <a:ext cx="1962360" cy="2008080"/>
            <a:chOff x="2081160" y="3324240"/>
            <a:chExt cx="1962360" cy="2008080"/>
          </a:xfrm>
        </p:grpSpPr>
        <p:sp>
          <p:nvSpPr>
            <p:cNvPr id="1650" name="Freeform 9"/>
            <p:cNvSpPr/>
            <p:nvPr/>
          </p:nvSpPr>
          <p:spPr>
            <a:xfrm>
              <a:off x="2081160" y="3324240"/>
              <a:ext cx="98172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5268a5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3062880" y="3324240"/>
              <a:ext cx="980640" cy="20080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96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2" name="Group 13"/>
          <p:cNvGrpSpPr/>
          <p:nvPr/>
        </p:nvGrpSpPr>
        <p:grpSpPr>
          <a:xfrm>
            <a:off x="3076560" y="4124160"/>
            <a:ext cx="1962000" cy="1208160"/>
            <a:chOff x="3076560" y="4124160"/>
            <a:chExt cx="1962000" cy="1208160"/>
          </a:xfrm>
        </p:grpSpPr>
        <p:sp>
          <p:nvSpPr>
            <p:cNvPr id="1653" name="Freeform 11"/>
            <p:cNvSpPr/>
            <p:nvPr/>
          </p:nvSpPr>
          <p:spPr>
            <a:xfrm>
              <a:off x="3076560" y="4124160"/>
              <a:ext cx="98028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4" name="Freeform 12"/>
            <p:cNvSpPr/>
            <p:nvPr/>
          </p:nvSpPr>
          <p:spPr>
            <a:xfrm>
              <a:off x="4056840" y="4124160"/>
              <a:ext cx="981720" cy="12081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5" name="Group 16"/>
          <p:cNvGrpSpPr/>
          <p:nvPr/>
        </p:nvGrpSpPr>
        <p:grpSpPr>
          <a:xfrm>
            <a:off x="4064040" y="3498840"/>
            <a:ext cx="1965240" cy="1833480"/>
            <a:chOff x="4064040" y="3498840"/>
            <a:chExt cx="1965240" cy="1833480"/>
          </a:xfrm>
        </p:grpSpPr>
        <p:sp>
          <p:nvSpPr>
            <p:cNvPr id="1656" name="Freeform 13"/>
            <p:cNvSpPr/>
            <p:nvPr/>
          </p:nvSpPr>
          <p:spPr>
            <a:xfrm>
              <a:off x="5047920" y="3498840"/>
              <a:ext cx="981360" cy="183348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59c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7" name="Freeform 14"/>
            <p:cNvSpPr/>
            <p:nvPr/>
          </p:nvSpPr>
          <p:spPr>
            <a:xfrm>
              <a:off x="4064040" y="3498840"/>
              <a:ext cx="983880" cy="183348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891a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8" name="Group 19"/>
          <p:cNvGrpSpPr/>
          <p:nvPr/>
        </p:nvGrpSpPr>
        <p:grpSpPr>
          <a:xfrm>
            <a:off x="5059440" y="4898880"/>
            <a:ext cx="1962000" cy="433440"/>
            <a:chOff x="5059440" y="4898880"/>
            <a:chExt cx="1962000" cy="433440"/>
          </a:xfrm>
        </p:grpSpPr>
        <p:sp>
          <p:nvSpPr>
            <p:cNvPr id="1659" name="Freeform 15"/>
            <p:cNvSpPr/>
            <p:nvPr/>
          </p:nvSpPr>
          <p:spPr>
            <a:xfrm>
              <a:off x="5059440" y="4898880"/>
              <a:ext cx="98028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0" name="Freeform 16"/>
            <p:cNvSpPr/>
            <p:nvPr/>
          </p:nvSpPr>
          <p:spPr>
            <a:xfrm>
              <a:off x="6039720" y="4898880"/>
              <a:ext cx="981720" cy="43344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1" name="Group 22"/>
          <p:cNvGrpSpPr/>
          <p:nvPr/>
        </p:nvGrpSpPr>
        <p:grpSpPr>
          <a:xfrm>
            <a:off x="6091200" y="4476600"/>
            <a:ext cx="1960560" cy="855720"/>
            <a:chOff x="6091200" y="4476600"/>
            <a:chExt cx="1960560" cy="855720"/>
          </a:xfrm>
        </p:grpSpPr>
        <p:sp>
          <p:nvSpPr>
            <p:cNvPr id="1662" name="Freeform 5"/>
            <p:cNvSpPr/>
            <p:nvPr/>
          </p:nvSpPr>
          <p:spPr>
            <a:xfrm>
              <a:off x="6091200" y="4476600"/>
              <a:ext cx="98100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3" name="Freeform 6"/>
            <p:cNvSpPr/>
            <p:nvPr/>
          </p:nvSpPr>
          <p:spPr>
            <a:xfrm>
              <a:off x="7072200" y="4476600"/>
              <a:ext cx="979560" cy="85572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4" name="Group 25"/>
          <p:cNvGrpSpPr/>
          <p:nvPr/>
        </p:nvGrpSpPr>
        <p:grpSpPr>
          <a:xfrm>
            <a:off x="7083360" y="3083040"/>
            <a:ext cx="1962360" cy="2249280"/>
            <a:chOff x="7083360" y="3083040"/>
            <a:chExt cx="1962360" cy="2249280"/>
          </a:xfrm>
        </p:grpSpPr>
        <p:sp>
          <p:nvSpPr>
            <p:cNvPr id="1665" name="Freeform 9"/>
            <p:cNvSpPr/>
            <p:nvPr/>
          </p:nvSpPr>
          <p:spPr>
            <a:xfrm>
              <a:off x="7083360" y="3083040"/>
              <a:ext cx="98172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6" name="Freeform 10"/>
            <p:cNvSpPr/>
            <p:nvPr/>
          </p:nvSpPr>
          <p:spPr>
            <a:xfrm>
              <a:off x="8065080" y="3083040"/>
              <a:ext cx="980640" cy="224928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67" name="TextBox 45"/>
          <p:cNvSpPr/>
          <p:nvPr/>
        </p:nvSpPr>
        <p:spPr>
          <a:xfrm>
            <a:off x="599760" y="5454720"/>
            <a:ext cx="96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fi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8" name="TextBox 46"/>
          <p:cNvSpPr/>
          <p:nvPr/>
        </p:nvSpPr>
        <p:spPr>
          <a:xfrm>
            <a:off x="1708920" y="5454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Networ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TextBox 47"/>
          <p:cNvSpPr/>
          <p:nvPr/>
        </p:nvSpPr>
        <p:spPr>
          <a:xfrm>
            <a:off x="2660760" y="545472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uctu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0" name="TextBox 48"/>
          <p:cNvSpPr/>
          <p:nvPr/>
        </p:nvSpPr>
        <p:spPr>
          <a:xfrm>
            <a:off x="3715200" y="545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extBox 49"/>
          <p:cNvSpPr/>
          <p:nvPr/>
        </p:nvSpPr>
        <p:spPr>
          <a:xfrm>
            <a:off x="4689000" y="545472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extBox 50"/>
          <p:cNvSpPr/>
          <p:nvPr/>
        </p:nvSpPr>
        <p:spPr>
          <a:xfrm>
            <a:off x="5464080" y="5454720"/>
            <a:ext cx="114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oduct</a:t>
            </a:r>
            <a:r>
              <a:rPr b="1" lang="en-ID" sz="1000" spc="-1" strike="noStrike">
                <a:solidFill>
                  <a:srgbClr val="ffffff"/>
                </a:solidFill>
                <a:latin typeface="Roboto"/>
              </a:rPr>
              <a:t> </a:t>
            </a: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ystem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51"/>
          <p:cNvSpPr/>
          <p:nvPr/>
        </p:nvSpPr>
        <p:spPr>
          <a:xfrm>
            <a:off x="6750360" y="54547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ervic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52"/>
          <p:cNvSpPr/>
          <p:nvPr/>
        </p:nvSpPr>
        <p:spPr>
          <a:xfrm>
            <a:off x="7717320" y="54547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hanne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Straight Connector 35"/>
          <p:cNvSpPr/>
          <p:nvPr/>
        </p:nvSpPr>
        <p:spPr>
          <a:xfrm>
            <a:off x="1081080" y="399240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Straight Connector 36"/>
          <p:cNvSpPr/>
          <p:nvPr/>
        </p:nvSpPr>
        <p:spPr>
          <a:xfrm>
            <a:off x="2081160" y="33829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Straight Connector 37"/>
          <p:cNvSpPr/>
          <p:nvPr/>
        </p:nvSpPr>
        <p:spPr>
          <a:xfrm>
            <a:off x="3062160" y="293688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Straight Connector 38"/>
          <p:cNvSpPr/>
          <p:nvPr/>
        </p:nvSpPr>
        <p:spPr>
          <a:xfrm>
            <a:off x="4054320" y="375768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Straight Connector 39"/>
          <p:cNvSpPr/>
          <p:nvPr/>
        </p:nvSpPr>
        <p:spPr>
          <a:xfrm>
            <a:off x="5035680" y="31147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Straight Connector 40"/>
          <p:cNvSpPr/>
          <p:nvPr/>
        </p:nvSpPr>
        <p:spPr>
          <a:xfrm>
            <a:off x="6035760" y="4527720"/>
            <a:ext cx="0" cy="34740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Straight Connector 41"/>
          <p:cNvSpPr/>
          <p:nvPr/>
        </p:nvSpPr>
        <p:spPr>
          <a:xfrm>
            <a:off x="7072200" y="4068720"/>
            <a:ext cx="0" cy="34776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Straight Connector 42"/>
          <p:cNvSpPr/>
          <p:nvPr/>
        </p:nvSpPr>
        <p:spPr>
          <a:xfrm>
            <a:off x="8072280" y="2679840"/>
            <a:ext cx="0" cy="34740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TextBox 55"/>
          <p:cNvSpPr/>
          <p:nvPr/>
        </p:nvSpPr>
        <p:spPr>
          <a:xfrm>
            <a:off x="828360" y="369396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2c85ae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56"/>
          <p:cNvSpPr/>
          <p:nvPr/>
        </p:nvSpPr>
        <p:spPr>
          <a:xfrm>
            <a:off x="1822320" y="3086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5e5ca2"/>
                </a:solidFill>
                <a:latin typeface="Open Sans"/>
              </a:rPr>
              <a:t>7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TextBox 57"/>
          <p:cNvSpPr/>
          <p:nvPr/>
        </p:nvSpPr>
        <p:spPr>
          <a:xfrm>
            <a:off x="2801160" y="2638440"/>
            <a:ext cx="51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5268a5"/>
                </a:solidFill>
                <a:latin typeface="Open Sans"/>
              </a:rPr>
              <a:t>8</a:t>
            </a:r>
            <a:r>
              <a:rPr b="1" lang="id-ID" sz="1300" spc="-1" strike="noStrike">
                <a:solidFill>
                  <a:srgbClr val="5268a5"/>
                </a:solidFill>
                <a:latin typeface="Open Sans"/>
              </a:rPr>
              <a:t>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58"/>
          <p:cNvSpPr/>
          <p:nvPr/>
        </p:nvSpPr>
        <p:spPr>
          <a:xfrm>
            <a:off x="3798000" y="34606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276aa"/>
                </a:solidFill>
                <a:latin typeface="Open Sans"/>
              </a:rPr>
              <a:t>5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59"/>
          <p:cNvSpPr/>
          <p:nvPr/>
        </p:nvSpPr>
        <p:spPr>
          <a:xfrm>
            <a:off x="4791600" y="280980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1891ab"/>
                </a:solidFill>
                <a:latin typeface="Open Sans"/>
              </a:rPr>
              <a:t>7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60"/>
          <p:cNvSpPr/>
          <p:nvPr/>
        </p:nvSpPr>
        <p:spPr>
          <a:xfrm>
            <a:off x="5779080" y="4229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2c85ae"/>
                </a:solidFill>
                <a:latin typeface="Open Sans"/>
              </a:rPr>
              <a:t>2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61"/>
          <p:cNvSpPr/>
          <p:nvPr/>
        </p:nvSpPr>
        <p:spPr>
          <a:xfrm>
            <a:off x="6810120" y="377028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5e5ca2"/>
                </a:solidFill>
                <a:latin typeface="Open Sans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62"/>
          <p:cNvSpPr/>
          <p:nvPr/>
        </p:nvSpPr>
        <p:spPr>
          <a:xfrm>
            <a:off x="7817400" y="2374920"/>
            <a:ext cx="517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300" spc="-1" strike="noStrike">
                <a:solidFill>
                  <a:srgbClr val="4276aa"/>
                </a:solidFill>
                <a:latin typeface="Open Sans"/>
              </a:rPr>
              <a:t>90%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1" name="" descr=""/>
          <p:cNvPicPr/>
          <p:nvPr/>
        </p:nvPicPr>
        <p:blipFill>
          <a:blip r:embed="rId1"/>
          <a:stretch/>
        </p:blipFill>
        <p:spPr>
          <a:xfrm>
            <a:off x="108000" y="2422440"/>
            <a:ext cx="5362560" cy="2648160"/>
          </a:xfrm>
          <a:prstGeom prst="rect">
            <a:avLst/>
          </a:prstGeom>
          <a:ln w="0">
            <a:noFill/>
          </a:ln>
        </p:spPr>
      </p:pic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E98B4-B5E1-4D31-A64D-E00A1BD36080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5" name="Rectangle 5"/>
          <p:cNvSpPr/>
          <p:nvPr/>
        </p:nvSpPr>
        <p:spPr>
          <a:xfrm>
            <a:off x="6146640" y="242892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Addres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TextBox 6"/>
          <p:cNvSpPr/>
          <p:nvPr/>
        </p:nvSpPr>
        <p:spPr>
          <a:xfrm>
            <a:off x="6151680" y="26082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Indonesia 30925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Rectangle 7"/>
          <p:cNvSpPr/>
          <p:nvPr/>
        </p:nvSpPr>
        <p:spPr>
          <a:xfrm>
            <a:off x="6145920" y="3035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hon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TextBox 8"/>
          <p:cNvSpPr/>
          <p:nvPr/>
        </p:nvSpPr>
        <p:spPr>
          <a:xfrm>
            <a:off x="6151680" y="32148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547-999-317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Rectangle 9"/>
          <p:cNvSpPr/>
          <p:nvPr/>
        </p:nvSpPr>
        <p:spPr>
          <a:xfrm>
            <a:off x="6153480" y="3565440"/>
            <a:ext cx="56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E-mail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TextBox 10"/>
          <p:cNvSpPr/>
          <p:nvPr/>
        </p:nvSpPr>
        <p:spPr>
          <a:xfrm>
            <a:off x="6151680" y="37530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D" sz="9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@project.c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Rectangle 11"/>
          <p:cNvSpPr/>
          <p:nvPr/>
        </p:nvSpPr>
        <p:spPr>
          <a:xfrm>
            <a:off x="6142680" y="410544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Websit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TextBox 12"/>
          <p:cNvSpPr/>
          <p:nvPr/>
        </p:nvSpPr>
        <p:spPr>
          <a:xfrm>
            <a:off x="6151680" y="430056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www.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sho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.com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Rectangle 13"/>
          <p:cNvSpPr/>
          <p:nvPr/>
        </p:nvSpPr>
        <p:spPr>
          <a:xfrm>
            <a:off x="6152040" y="46306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Fax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TextBox 14"/>
          <p:cNvSpPr/>
          <p:nvPr/>
        </p:nvSpPr>
        <p:spPr>
          <a:xfrm>
            <a:off x="6151680" y="4827600"/>
            <a:ext cx="190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  <a:ea typeface="Tahoma"/>
              </a:rPr>
              <a:t>+62 875 2999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Rectangle 16"/>
          <p:cNvSpPr/>
          <p:nvPr/>
        </p:nvSpPr>
        <p:spPr>
          <a:xfrm>
            <a:off x="5483160" y="4013280"/>
            <a:ext cx="530280" cy="53172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Freeform 171"/>
          <p:cNvSpPr/>
          <p:nvPr/>
        </p:nvSpPr>
        <p:spPr>
          <a:xfrm>
            <a:off x="5603760" y="4145040"/>
            <a:ext cx="268560" cy="2682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Rectangle 19"/>
          <p:cNvSpPr/>
          <p:nvPr/>
        </p:nvSpPr>
        <p:spPr>
          <a:xfrm>
            <a:off x="5483160" y="2422440"/>
            <a:ext cx="530280" cy="5302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08" name="Group 20" descr=""/>
          <p:cNvPicPr/>
          <p:nvPr/>
        </p:nvPicPr>
        <p:blipFill>
          <a:blip r:embed="rId2"/>
          <a:stretch/>
        </p:blipFill>
        <p:spPr>
          <a:xfrm>
            <a:off x="5595840" y="2530440"/>
            <a:ext cx="287280" cy="27936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25"/>
          <p:cNvSpPr/>
          <p:nvPr/>
        </p:nvSpPr>
        <p:spPr>
          <a:xfrm>
            <a:off x="5483160" y="2952720"/>
            <a:ext cx="530280" cy="53028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0" name="Group 26" descr=""/>
          <p:cNvPicPr/>
          <p:nvPr/>
        </p:nvPicPr>
        <p:blipFill>
          <a:blip r:embed="rId3"/>
          <a:stretch/>
        </p:blipFill>
        <p:spPr>
          <a:xfrm>
            <a:off x="5651640" y="3084480"/>
            <a:ext cx="176040" cy="287280"/>
          </a:xfrm>
          <a:prstGeom prst="rect">
            <a:avLst/>
          </a:prstGeom>
          <a:ln w="0">
            <a:noFill/>
          </a:ln>
        </p:spPr>
      </p:pic>
      <p:sp>
        <p:nvSpPr>
          <p:cNvPr id="1711" name="Rectangle 32"/>
          <p:cNvSpPr/>
          <p:nvPr/>
        </p:nvSpPr>
        <p:spPr>
          <a:xfrm>
            <a:off x="5483160" y="3483000"/>
            <a:ext cx="530280" cy="53028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2" name="Freeform 199"/>
          <p:cNvSpPr/>
          <p:nvPr/>
        </p:nvSpPr>
        <p:spPr>
          <a:xfrm>
            <a:off x="5614920" y="3676680"/>
            <a:ext cx="247680" cy="18576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Rectangle 35"/>
          <p:cNvSpPr/>
          <p:nvPr/>
        </p:nvSpPr>
        <p:spPr>
          <a:xfrm>
            <a:off x="5483160" y="4540320"/>
            <a:ext cx="530280" cy="53028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Freeform 71"/>
          <p:cNvSpPr/>
          <p:nvPr/>
        </p:nvSpPr>
        <p:spPr>
          <a:xfrm>
            <a:off x="5624640" y="4695840"/>
            <a:ext cx="226800" cy="244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5" name="Group 40" descr=""/>
          <p:cNvPicPr/>
          <p:nvPr/>
        </p:nvPicPr>
        <p:blipFill>
          <a:blip r:embed="rId4"/>
          <a:stretch/>
        </p:blipFill>
        <p:spPr>
          <a:xfrm>
            <a:off x="1262160" y="3346560"/>
            <a:ext cx="35856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Slide Number Placeholder 5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35E14-6DDE-45BF-B108-5CFC2FDA490D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25600" y="1658880"/>
            <a:ext cx="8092800" cy="24559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522360" y="4452840"/>
            <a:ext cx="38275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4572000" y="4502160"/>
            <a:ext cx="0" cy="142236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4794120" y="4452840"/>
            <a:ext cx="38242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8928000" cy="6642000"/>
          </a:xfrm>
          <a:prstGeom prst="rect">
            <a:avLst/>
          </a:prstGeom>
          <a:ln w="0">
            <a:noFill/>
          </a:ln>
        </p:spPr>
      </p:pic>
      <p:sp>
        <p:nvSpPr>
          <p:cNvPr id="1717" name="Rectangle 9"/>
          <p:cNvSpPr/>
          <p:nvPr/>
        </p:nvSpPr>
        <p:spPr>
          <a:xfrm>
            <a:off x="108000" y="108000"/>
            <a:ext cx="8928000" cy="6642000"/>
          </a:xfrm>
          <a:prstGeom prst="rect">
            <a:avLst/>
          </a:prstGeom>
          <a:solidFill>
            <a:srgbClr val="2c85ae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8" name="Rectangle 1"/>
          <p:cNvSpPr/>
          <p:nvPr/>
        </p:nvSpPr>
        <p:spPr>
          <a:xfrm>
            <a:off x="685800" y="119160"/>
            <a:ext cx="7772400" cy="14572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TextBox 23"/>
          <p:cNvSpPr/>
          <p:nvPr/>
        </p:nvSpPr>
        <p:spPr>
          <a:xfrm>
            <a:off x="1528920" y="25884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72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12"/>
          <p:cNvSpPr/>
          <p:nvPr/>
        </p:nvSpPr>
        <p:spPr>
          <a:xfrm>
            <a:off x="5737320" y="5292720"/>
            <a:ext cx="300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Middle Easton, 245 Eva. Pt.Santeru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Ujungberung, Central Londong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4"/>
          <p:cNvSpPr/>
          <p:nvPr/>
        </p:nvSpPr>
        <p:spPr>
          <a:xfrm>
            <a:off x="5737320" y="582624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project@</a:t>
            </a: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slidefactory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.com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15"/>
          <p:cNvSpPr/>
          <p:nvPr/>
        </p:nvSpPr>
        <p:spPr>
          <a:xfrm>
            <a:off x="5737320" y="6167520"/>
            <a:ext cx="24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+12 3456 789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3" name="Group 16" descr=""/>
          <p:cNvPicPr/>
          <p:nvPr/>
        </p:nvPicPr>
        <p:blipFill>
          <a:blip r:embed="rId2"/>
          <a:stretch/>
        </p:blipFill>
        <p:spPr>
          <a:xfrm>
            <a:off x="5443560" y="5870520"/>
            <a:ext cx="225360" cy="139680"/>
          </a:xfrm>
          <a:prstGeom prst="rect">
            <a:avLst/>
          </a:prstGeom>
          <a:ln w="0">
            <a:noFill/>
          </a:ln>
        </p:spPr>
      </p:pic>
      <p:sp>
        <p:nvSpPr>
          <p:cNvPr id="1724" name="Freeform 165"/>
          <p:cNvSpPr/>
          <p:nvPr/>
        </p:nvSpPr>
        <p:spPr>
          <a:xfrm>
            <a:off x="5443560" y="5396040"/>
            <a:ext cx="228600" cy="23004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5" name="Group 24" descr=""/>
          <p:cNvPicPr/>
          <p:nvPr/>
        </p:nvPicPr>
        <p:blipFill>
          <a:blip r:embed="rId3"/>
          <a:stretch/>
        </p:blipFill>
        <p:spPr>
          <a:xfrm>
            <a:off x="5443560" y="6168960"/>
            <a:ext cx="225360" cy="212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2"/>
          <a:stretch/>
        </p:blipFill>
        <p:spPr>
          <a:xfrm>
            <a:off x="522000" y="2104920"/>
            <a:ext cx="4049640" cy="33624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7B271-3C40-4F67-A8A0-510A7D64478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4572000" y="2104920"/>
            <a:ext cx="4049640" cy="11210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4572000" y="3225960"/>
            <a:ext cx="4049640" cy="112068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4572000" y="4346640"/>
            <a:ext cx="4049640" cy="112068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5424480" y="233676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5424480" y="250848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5424480" y="343944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5424480" y="361080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5424480" y="4584600"/>
            <a:ext cx="18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3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5424480" y="4755240"/>
            <a:ext cx="3108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4724280" y="2359080"/>
            <a:ext cx="609840" cy="609480"/>
            <a:chOff x="4724280" y="2359080"/>
            <a:chExt cx="609840" cy="609480"/>
          </a:xfrm>
        </p:grpSpPr>
        <p:pic>
          <p:nvPicPr>
            <p:cNvPr id="999" name="Oval 20" descr=""/>
            <p:cNvPicPr/>
            <p:nvPr/>
          </p:nvPicPr>
          <p:blipFill>
            <a:blip r:embed="rId3"/>
            <a:stretch/>
          </p:blipFill>
          <p:spPr>
            <a:xfrm>
              <a:off x="4724280" y="235908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4815000" y="245124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4724280" y="3481560"/>
            <a:ext cx="609840" cy="609480"/>
            <a:chOff x="4724280" y="3481560"/>
            <a:chExt cx="609840" cy="609480"/>
          </a:xfrm>
        </p:grpSpPr>
        <p:pic>
          <p:nvPicPr>
            <p:cNvPr id="1002" name="Oval 21" descr=""/>
            <p:cNvPicPr/>
            <p:nvPr/>
          </p:nvPicPr>
          <p:blipFill>
            <a:blip r:embed="rId4"/>
            <a:stretch/>
          </p:blipFill>
          <p:spPr>
            <a:xfrm>
              <a:off x="4724280" y="348156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815000" y="3570120"/>
              <a:ext cx="4302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4724280" y="4602240"/>
            <a:ext cx="609840" cy="609480"/>
            <a:chOff x="4724280" y="4602240"/>
            <a:chExt cx="609840" cy="609480"/>
          </a:xfrm>
        </p:grpSpPr>
        <p:pic>
          <p:nvPicPr>
            <p:cNvPr id="1005" name="Oval 22" descr=""/>
            <p:cNvPicPr/>
            <p:nvPr/>
          </p:nvPicPr>
          <p:blipFill>
            <a:blip r:embed="rId5"/>
            <a:stretch/>
          </p:blipFill>
          <p:spPr>
            <a:xfrm>
              <a:off x="4724280" y="4602240"/>
              <a:ext cx="609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815000" y="4691160"/>
              <a:ext cx="4302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6"/>
          <a:stretch/>
        </p:blipFill>
        <p:spPr>
          <a:xfrm>
            <a:off x="4857840" y="473076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7"/>
          <a:stretch/>
        </p:blipFill>
        <p:spPr>
          <a:xfrm>
            <a:off x="4857840" y="2511360"/>
            <a:ext cx="347400" cy="30492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8"/>
          <a:stretch/>
        </p:blipFill>
        <p:spPr>
          <a:xfrm>
            <a:off x="4913280" y="3633840"/>
            <a:ext cx="238320" cy="34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108000" y="3471840"/>
            <a:ext cx="8928000" cy="326088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EFDA2-30A8-436F-8CED-9749AE5CF81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Rectangle 7"/>
          <p:cNvSpPr/>
          <p:nvPr/>
        </p:nvSpPr>
        <p:spPr>
          <a:xfrm>
            <a:off x="108000" y="3471840"/>
            <a:ext cx="8928000" cy="32734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5" name="Rectangle 6"/>
          <p:cNvSpPr/>
          <p:nvPr/>
        </p:nvSpPr>
        <p:spPr>
          <a:xfrm>
            <a:off x="522360" y="2271600"/>
            <a:ext cx="82677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0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TextBox 46"/>
          <p:cNvSpPr/>
          <p:nvPr/>
        </p:nvSpPr>
        <p:spPr>
          <a:xfrm>
            <a:off x="767160" y="509760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7" name="Rectangle 47"/>
          <p:cNvSpPr/>
          <p:nvPr/>
        </p:nvSpPr>
        <p:spPr>
          <a:xfrm>
            <a:off x="38412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8" name="Straight Connector 48"/>
          <p:cNvSpPr/>
          <p:nvPr/>
        </p:nvSpPr>
        <p:spPr>
          <a:xfrm>
            <a:off x="240660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TextBox 49"/>
          <p:cNvSpPr/>
          <p:nvPr/>
        </p:nvSpPr>
        <p:spPr>
          <a:xfrm>
            <a:off x="3056040" y="509760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Rectangle 50"/>
          <p:cNvSpPr/>
          <p:nvPr/>
        </p:nvSpPr>
        <p:spPr>
          <a:xfrm>
            <a:off x="255420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Straight Connector 51"/>
          <p:cNvSpPr/>
          <p:nvPr/>
        </p:nvSpPr>
        <p:spPr>
          <a:xfrm>
            <a:off x="457524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2" name="TextBox 52"/>
          <p:cNvSpPr/>
          <p:nvPr/>
        </p:nvSpPr>
        <p:spPr>
          <a:xfrm>
            <a:off x="5119920" y="50976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3" name="Rectangle 53"/>
          <p:cNvSpPr/>
          <p:nvPr/>
        </p:nvSpPr>
        <p:spPr>
          <a:xfrm>
            <a:off x="4681440" y="5295960"/>
            <a:ext cx="18655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Straight Connector 54"/>
          <p:cNvSpPr/>
          <p:nvPr/>
        </p:nvSpPr>
        <p:spPr>
          <a:xfrm>
            <a:off x="6702480" y="4213080"/>
            <a:ext cx="0" cy="180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TextBox 55"/>
          <p:cNvSpPr/>
          <p:nvPr/>
        </p:nvSpPr>
        <p:spPr>
          <a:xfrm>
            <a:off x="7549920" y="50976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Rectangle 56"/>
          <p:cNvSpPr/>
          <p:nvPr/>
        </p:nvSpPr>
        <p:spPr>
          <a:xfrm>
            <a:off x="6850080" y="5295960"/>
            <a:ext cx="18669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Freeform 5"/>
          <p:cNvSpPr/>
          <p:nvPr/>
        </p:nvSpPr>
        <p:spPr>
          <a:xfrm>
            <a:off x="100476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3173400" y="4356000"/>
            <a:ext cx="6253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5300640" y="4356000"/>
            <a:ext cx="62712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470720" y="4356000"/>
            <a:ext cx="625680" cy="62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Freeform 89"/>
          <p:cNvSpPr/>
          <p:nvPr/>
        </p:nvSpPr>
        <p:spPr>
          <a:xfrm>
            <a:off x="1162080" y="4513320"/>
            <a:ext cx="311040" cy="31284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Freeform 10"/>
          <p:cNvSpPr/>
          <p:nvPr/>
        </p:nvSpPr>
        <p:spPr>
          <a:xfrm>
            <a:off x="3333600" y="4521240"/>
            <a:ext cx="306360" cy="2952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33" name="Group 63" descr=""/>
          <p:cNvPicPr/>
          <p:nvPr/>
        </p:nvPicPr>
        <p:blipFill>
          <a:blip r:embed="rId2"/>
          <a:stretch/>
        </p:blipFill>
        <p:spPr>
          <a:xfrm>
            <a:off x="5479920" y="4552920"/>
            <a:ext cx="268560" cy="231840"/>
          </a:xfrm>
          <a:prstGeom prst="rect">
            <a:avLst/>
          </a:prstGeom>
          <a:ln w="0">
            <a:noFill/>
          </a:ln>
        </p:spPr>
      </p:pic>
      <p:sp>
        <p:nvSpPr>
          <p:cNvPr id="1034" name="Freeform 17"/>
          <p:cNvSpPr/>
          <p:nvPr/>
        </p:nvSpPr>
        <p:spPr>
          <a:xfrm>
            <a:off x="7642080" y="4529160"/>
            <a:ext cx="282600" cy="2808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108000" y="2666520"/>
            <a:ext cx="8928000" cy="22510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56AEE-8CFA-42D2-82B6-A4A942A6586B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Rectangle 16"/>
          <p:cNvSpPr/>
          <p:nvPr/>
        </p:nvSpPr>
        <p:spPr>
          <a:xfrm>
            <a:off x="108000" y="2666880"/>
            <a:ext cx="8928000" cy="22510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0" name="Rectangle 7"/>
          <p:cNvSpPr/>
          <p:nvPr/>
        </p:nvSpPr>
        <p:spPr>
          <a:xfrm>
            <a:off x="522360" y="1819440"/>
            <a:ext cx="8267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Shape 82"/>
          <p:cNvSpPr/>
          <p:nvPr/>
        </p:nvSpPr>
        <p:spPr>
          <a:xfrm>
            <a:off x="52848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Shape 87"/>
          <p:cNvSpPr/>
          <p:nvPr/>
        </p:nvSpPr>
        <p:spPr>
          <a:xfrm>
            <a:off x="2698920" y="3360600"/>
            <a:ext cx="15462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Shape 92"/>
          <p:cNvSpPr/>
          <p:nvPr/>
        </p:nvSpPr>
        <p:spPr>
          <a:xfrm>
            <a:off x="486720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TextBox 11"/>
          <p:cNvSpPr/>
          <p:nvPr/>
        </p:nvSpPr>
        <p:spPr>
          <a:xfrm>
            <a:off x="87480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12"/>
          <p:cNvSpPr/>
          <p:nvPr/>
        </p:nvSpPr>
        <p:spPr>
          <a:xfrm>
            <a:off x="304524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13"/>
          <p:cNvSpPr/>
          <p:nvPr/>
        </p:nvSpPr>
        <p:spPr>
          <a:xfrm>
            <a:off x="521316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TextBox 14"/>
          <p:cNvSpPr/>
          <p:nvPr/>
        </p:nvSpPr>
        <p:spPr>
          <a:xfrm>
            <a:off x="7346520" y="385596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3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Shape 92"/>
          <p:cNvSpPr/>
          <p:nvPr/>
        </p:nvSpPr>
        <p:spPr>
          <a:xfrm>
            <a:off x="7000920" y="3360600"/>
            <a:ext cx="15447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280" rIns="26280" tIns="26280" bIns="26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4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522360" y="5108400"/>
            <a:ext cx="3827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</a:rPr>
              <a:t>farmers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Straight Connector 18"/>
          <p:cNvSpPr/>
          <p:nvPr/>
        </p:nvSpPr>
        <p:spPr>
          <a:xfrm>
            <a:off x="4572000" y="5094360"/>
            <a:ext cx="0" cy="79668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4794120" y="5108400"/>
            <a:ext cx="3824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62"/>
          <p:cNvGrpSpPr/>
          <p:nvPr/>
        </p:nvGrpSpPr>
        <p:grpSpPr>
          <a:xfrm>
            <a:off x="1076040" y="3836880"/>
            <a:ext cx="74880" cy="567360"/>
            <a:chOff x="1076040" y="3836880"/>
            <a:chExt cx="74880" cy="567360"/>
          </a:xfrm>
        </p:grpSpPr>
        <p:sp>
          <p:nvSpPr>
            <p:cNvPr id="1053" name="Straight Connector 59"/>
            <p:cNvSpPr/>
            <p:nvPr/>
          </p:nvSpPr>
          <p:spPr>
            <a:xfrm>
              <a:off x="107640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54" name="Straight Arrow Connector 61"/>
            <p:cNvCxnSpPr/>
            <p:nvPr/>
          </p:nvCxnSpPr>
          <p:spPr>
            <a:xfrm>
              <a:off x="1076040" y="44035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617A6-CBDE-4308-8161-FCE1DC7B3CB5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Straight Connector 23"/>
          <p:cNvSpPr/>
          <p:nvPr/>
        </p:nvSpPr>
        <p:spPr>
          <a:xfrm>
            <a:off x="140184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Rectangle 16"/>
          <p:cNvSpPr/>
          <p:nvPr/>
        </p:nvSpPr>
        <p:spPr>
          <a:xfrm>
            <a:off x="750960" y="3613320"/>
            <a:ext cx="650880" cy="2124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TextBox 17"/>
          <p:cNvSpPr/>
          <p:nvPr/>
        </p:nvSpPr>
        <p:spPr>
          <a:xfrm>
            <a:off x="8550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1" name="Rectangle 20"/>
          <p:cNvSpPr/>
          <p:nvPr/>
        </p:nvSpPr>
        <p:spPr>
          <a:xfrm>
            <a:off x="2141640" y="3613320"/>
            <a:ext cx="650880" cy="2124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22453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3" name="Straight Connector 25"/>
          <p:cNvSpPr/>
          <p:nvPr/>
        </p:nvSpPr>
        <p:spPr>
          <a:xfrm>
            <a:off x="279252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4" name="Rectangle 27"/>
          <p:cNvSpPr/>
          <p:nvPr/>
        </p:nvSpPr>
        <p:spPr>
          <a:xfrm>
            <a:off x="3549600" y="3613320"/>
            <a:ext cx="650880" cy="2124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5" name="TextBox 28"/>
          <p:cNvSpPr/>
          <p:nvPr/>
        </p:nvSpPr>
        <p:spPr>
          <a:xfrm>
            <a:off x="365364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Straight Connector 29"/>
          <p:cNvSpPr/>
          <p:nvPr/>
        </p:nvSpPr>
        <p:spPr>
          <a:xfrm>
            <a:off x="4200480" y="3719520"/>
            <a:ext cx="728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Rectangle 31"/>
          <p:cNvSpPr/>
          <p:nvPr/>
        </p:nvSpPr>
        <p:spPr>
          <a:xfrm>
            <a:off x="4944960" y="3613320"/>
            <a:ext cx="652680" cy="2124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8" name="TextBox 32"/>
          <p:cNvSpPr/>
          <p:nvPr/>
        </p:nvSpPr>
        <p:spPr>
          <a:xfrm>
            <a:off x="504972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Straight Connector 33"/>
          <p:cNvSpPr/>
          <p:nvPr/>
        </p:nvSpPr>
        <p:spPr>
          <a:xfrm>
            <a:off x="5597640" y="3719520"/>
            <a:ext cx="728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0" name="Rectangle 35"/>
          <p:cNvSpPr/>
          <p:nvPr/>
        </p:nvSpPr>
        <p:spPr>
          <a:xfrm>
            <a:off x="6335640" y="3613320"/>
            <a:ext cx="652680" cy="2124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TextBox 36"/>
          <p:cNvSpPr/>
          <p:nvPr/>
        </p:nvSpPr>
        <p:spPr>
          <a:xfrm>
            <a:off x="64404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Straight Connector 38"/>
          <p:cNvSpPr/>
          <p:nvPr/>
        </p:nvSpPr>
        <p:spPr>
          <a:xfrm>
            <a:off x="6996240" y="3719520"/>
            <a:ext cx="7300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3" name="Rectangle 40"/>
          <p:cNvSpPr/>
          <p:nvPr/>
        </p:nvSpPr>
        <p:spPr>
          <a:xfrm>
            <a:off x="7742160" y="3613320"/>
            <a:ext cx="650880" cy="21240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4" name="TextBox 41"/>
          <p:cNvSpPr/>
          <p:nvPr/>
        </p:nvSpPr>
        <p:spPr>
          <a:xfrm>
            <a:off x="7846200" y="361620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5" name="TextBox 46"/>
          <p:cNvSpPr/>
          <p:nvPr/>
        </p:nvSpPr>
        <p:spPr>
          <a:xfrm>
            <a:off x="1179360" y="4257720"/>
            <a:ext cx="15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Company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Rectangle 47"/>
          <p:cNvSpPr/>
          <p:nvPr/>
        </p:nvSpPr>
        <p:spPr>
          <a:xfrm>
            <a:off x="11793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TextBox 48"/>
          <p:cNvSpPr/>
          <p:nvPr/>
        </p:nvSpPr>
        <p:spPr>
          <a:xfrm>
            <a:off x="1197000" y="25351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Building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8" name="Rectangle 49"/>
          <p:cNvSpPr/>
          <p:nvPr/>
        </p:nvSpPr>
        <p:spPr>
          <a:xfrm>
            <a:off x="396720" y="27208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9" name="TextBox 50"/>
          <p:cNvSpPr/>
          <p:nvPr/>
        </p:nvSpPr>
        <p:spPr>
          <a:xfrm>
            <a:off x="3963960" y="4257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Team Member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Rectangle 51"/>
          <p:cNvSpPr/>
          <p:nvPr/>
        </p:nvSpPr>
        <p:spPr>
          <a:xfrm>
            <a:off x="3963960" y="44607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TextBox 52"/>
          <p:cNvSpPr/>
          <p:nvPr/>
        </p:nvSpPr>
        <p:spPr>
          <a:xfrm>
            <a:off x="3990960" y="25351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Contract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2" name="Rectangle 53"/>
          <p:cNvSpPr/>
          <p:nvPr/>
        </p:nvSpPr>
        <p:spPr>
          <a:xfrm>
            <a:off x="3191040" y="2720880"/>
            <a:ext cx="19350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3" name="TextBox 54"/>
          <p:cNvSpPr/>
          <p:nvPr/>
        </p:nvSpPr>
        <p:spPr>
          <a:xfrm>
            <a:off x="6773760" y="4257720"/>
            <a:ext cx="113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New Branch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Rectangle 55"/>
          <p:cNvSpPr/>
          <p:nvPr/>
        </p:nvSpPr>
        <p:spPr>
          <a:xfrm>
            <a:off x="6773760" y="442116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TextBox 56"/>
          <p:cNvSpPr/>
          <p:nvPr/>
        </p:nvSpPr>
        <p:spPr>
          <a:xfrm>
            <a:off x="6786720" y="2495520"/>
            <a:ext cx="113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boto"/>
              </a:rPr>
              <a:t>More Client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6" name="Rectangle 57"/>
          <p:cNvSpPr/>
          <p:nvPr/>
        </p:nvSpPr>
        <p:spPr>
          <a:xfrm>
            <a:off x="5986440" y="2681280"/>
            <a:ext cx="1933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9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9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87" name="Group 63"/>
          <p:cNvGrpSpPr/>
          <p:nvPr/>
        </p:nvGrpSpPr>
        <p:grpSpPr>
          <a:xfrm>
            <a:off x="3863520" y="3836880"/>
            <a:ext cx="73440" cy="567360"/>
            <a:chOff x="3863520" y="3836880"/>
            <a:chExt cx="73440" cy="567360"/>
          </a:xfrm>
        </p:grpSpPr>
        <p:sp>
          <p:nvSpPr>
            <p:cNvPr id="1088" name="Straight Connector 64"/>
            <p:cNvSpPr/>
            <p:nvPr/>
          </p:nvSpPr>
          <p:spPr>
            <a:xfrm>
              <a:off x="386388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89" name="Straight Arrow Connector 65"/>
            <p:cNvCxnSpPr/>
            <p:nvPr/>
          </p:nvCxnSpPr>
          <p:spPr>
            <a:xfrm>
              <a:off x="3863520" y="4403520"/>
              <a:ext cx="738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0" name="Group 66"/>
          <p:cNvGrpSpPr/>
          <p:nvPr/>
        </p:nvGrpSpPr>
        <p:grpSpPr>
          <a:xfrm>
            <a:off x="6643440" y="3836880"/>
            <a:ext cx="74880" cy="567360"/>
            <a:chOff x="6643440" y="3836880"/>
            <a:chExt cx="74880" cy="567360"/>
          </a:xfrm>
        </p:grpSpPr>
        <p:sp>
          <p:nvSpPr>
            <p:cNvPr id="1091" name="Straight Connector 67"/>
            <p:cNvSpPr/>
            <p:nvPr/>
          </p:nvSpPr>
          <p:spPr>
            <a:xfrm>
              <a:off x="6643800" y="3836880"/>
              <a:ext cx="0" cy="5670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2" name="Straight Arrow Connector 68"/>
            <p:cNvCxnSpPr/>
            <p:nvPr/>
          </p:nvCxnSpPr>
          <p:spPr>
            <a:xfrm>
              <a:off x="6643440" y="44035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3" name="Group 69"/>
          <p:cNvGrpSpPr/>
          <p:nvPr/>
        </p:nvGrpSpPr>
        <p:grpSpPr>
          <a:xfrm>
            <a:off x="7970400" y="2653920"/>
            <a:ext cx="74880" cy="908280"/>
            <a:chOff x="7970400" y="2653920"/>
            <a:chExt cx="74880" cy="908280"/>
          </a:xfrm>
        </p:grpSpPr>
        <p:sp>
          <p:nvSpPr>
            <p:cNvPr id="1094" name="Straight Connector 70"/>
            <p:cNvSpPr/>
            <p:nvPr/>
          </p:nvSpPr>
          <p:spPr>
            <a:xfrm flipV="1">
              <a:off x="804492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5" name="Straight Arrow Connector 71"/>
            <p:cNvCxnSpPr/>
            <p:nvPr/>
          </p:nvCxnSpPr>
          <p:spPr>
            <a:xfrm flipH="1" flipV="1">
              <a:off x="7970400" y="26539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6" name="Group 72"/>
          <p:cNvGrpSpPr/>
          <p:nvPr/>
        </p:nvGrpSpPr>
        <p:grpSpPr>
          <a:xfrm>
            <a:off x="5184360" y="2653920"/>
            <a:ext cx="73440" cy="908280"/>
            <a:chOff x="5184360" y="2653920"/>
            <a:chExt cx="73440" cy="908280"/>
          </a:xfrm>
        </p:grpSpPr>
        <p:sp>
          <p:nvSpPr>
            <p:cNvPr id="1097" name="Straight Connector 73"/>
            <p:cNvSpPr/>
            <p:nvPr/>
          </p:nvSpPr>
          <p:spPr>
            <a:xfrm flipV="1">
              <a:off x="525744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8" name="Straight Arrow Connector 74"/>
            <p:cNvCxnSpPr/>
            <p:nvPr/>
          </p:nvCxnSpPr>
          <p:spPr>
            <a:xfrm flipH="1" flipV="1">
              <a:off x="5184360" y="2653920"/>
              <a:ext cx="738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9" name="Group 75"/>
          <p:cNvGrpSpPr/>
          <p:nvPr/>
        </p:nvGrpSpPr>
        <p:grpSpPr>
          <a:xfrm>
            <a:off x="2379240" y="2653920"/>
            <a:ext cx="74880" cy="908280"/>
            <a:chOff x="2379240" y="2653920"/>
            <a:chExt cx="74880" cy="908280"/>
          </a:xfrm>
        </p:grpSpPr>
        <p:sp>
          <p:nvSpPr>
            <p:cNvPr id="1100" name="Straight Connector 76"/>
            <p:cNvSpPr/>
            <p:nvPr/>
          </p:nvSpPr>
          <p:spPr>
            <a:xfrm flipV="1">
              <a:off x="2453760" y="2654280"/>
              <a:ext cx="0" cy="90792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101" name="Straight Arrow Connector 77"/>
            <p:cNvCxnSpPr/>
            <p:nvPr/>
          </p:nvCxnSpPr>
          <p:spPr>
            <a:xfrm flipH="1" flipV="1">
              <a:off x="2379240" y="2653920"/>
              <a:ext cx="7524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722FA-2E6F-41FC-BEF9-C22ED0296F62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5" name="Round Diagonal Corner Rectangle 8"/>
          <p:cNvSpPr/>
          <p:nvPr/>
        </p:nvSpPr>
        <p:spPr>
          <a:xfrm>
            <a:off x="800280" y="2552760"/>
            <a:ext cx="617400" cy="6174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6" name="TextBox 6"/>
          <p:cNvSpPr/>
          <p:nvPr/>
        </p:nvSpPr>
        <p:spPr>
          <a:xfrm>
            <a:off x="1502640" y="2522520"/>
            <a:ext cx="111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Bundle Packed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1517760" y="2685960"/>
            <a:ext cx="2635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8" name="Round Diagonal Corner Rectangle 11"/>
          <p:cNvSpPr/>
          <p:nvPr/>
        </p:nvSpPr>
        <p:spPr>
          <a:xfrm>
            <a:off x="800280" y="3533760"/>
            <a:ext cx="617400" cy="6174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9" name="TextBox 9"/>
          <p:cNvSpPr/>
          <p:nvPr/>
        </p:nvSpPr>
        <p:spPr>
          <a:xfrm>
            <a:off x="1509120" y="3503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Cloud Sourc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0" name="Rectangle 10"/>
          <p:cNvSpPr/>
          <p:nvPr/>
        </p:nvSpPr>
        <p:spPr>
          <a:xfrm>
            <a:off x="1517760" y="366696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1" name="Round Diagonal Corner Rectangle 14"/>
          <p:cNvSpPr/>
          <p:nvPr/>
        </p:nvSpPr>
        <p:spPr>
          <a:xfrm>
            <a:off x="800280" y="4500720"/>
            <a:ext cx="617400" cy="6174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2" name="TextBox 12"/>
          <p:cNvSpPr/>
          <p:nvPr/>
        </p:nvSpPr>
        <p:spPr>
          <a:xfrm>
            <a:off x="1499400" y="445932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rint Desig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Rectangle 13"/>
          <p:cNvSpPr/>
          <p:nvPr/>
        </p:nvSpPr>
        <p:spPr>
          <a:xfrm>
            <a:off x="1517760" y="4646520"/>
            <a:ext cx="25365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4" name="Round Diagonal Corner Rectangle 17"/>
          <p:cNvSpPr/>
          <p:nvPr/>
        </p:nvSpPr>
        <p:spPr>
          <a:xfrm>
            <a:off x="5141880" y="2552760"/>
            <a:ext cx="617400" cy="6174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5" name="TextBox 15"/>
          <p:cNvSpPr/>
          <p:nvPr/>
        </p:nvSpPr>
        <p:spPr>
          <a:xfrm>
            <a:off x="5844240" y="2522520"/>
            <a:ext cx="10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Photography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6" name="Rectangle 16"/>
          <p:cNvSpPr/>
          <p:nvPr/>
        </p:nvSpPr>
        <p:spPr>
          <a:xfrm>
            <a:off x="5867280" y="268596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7" name="Round Diagonal Corner Rectangle 20"/>
          <p:cNvSpPr/>
          <p:nvPr/>
        </p:nvSpPr>
        <p:spPr>
          <a:xfrm>
            <a:off x="5141880" y="3533760"/>
            <a:ext cx="617400" cy="6174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TextBox 18"/>
          <p:cNvSpPr/>
          <p:nvPr/>
        </p:nvSpPr>
        <p:spPr>
          <a:xfrm>
            <a:off x="5838480" y="3503520"/>
            <a:ext cx="127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Streaming media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Rectangle 19"/>
          <p:cNvSpPr/>
          <p:nvPr/>
        </p:nvSpPr>
        <p:spPr>
          <a:xfrm>
            <a:off x="5867280" y="3666960"/>
            <a:ext cx="2627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0" name="Round Diagonal Corner Rectangle 23"/>
          <p:cNvSpPr/>
          <p:nvPr/>
        </p:nvSpPr>
        <p:spPr>
          <a:xfrm>
            <a:off x="5141880" y="4500720"/>
            <a:ext cx="617400" cy="61740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1" name="TextBox 21"/>
          <p:cNvSpPr/>
          <p:nvPr/>
        </p:nvSpPr>
        <p:spPr>
          <a:xfrm>
            <a:off x="5850000" y="4459320"/>
            <a:ext cx="101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Roboto"/>
              </a:rPr>
              <a:t>Video Edit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Rectangle 22"/>
          <p:cNvSpPr/>
          <p:nvPr/>
        </p:nvSpPr>
        <p:spPr>
          <a:xfrm>
            <a:off x="5867280" y="4646520"/>
            <a:ext cx="25354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9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23" name="Group 23" descr=""/>
          <p:cNvPicPr/>
          <p:nvPr/>
        </p:nvPicPr>
        <p:blipFill>
          <a:blip r:embed="rId1"/>
          <a:stretch/>
        </p:blipFill>
        <p:spPr>
          <a:xfrm>
            <a:off x="5291280" y="3718080"/>
            <a:ext cx="323640" cy="250560"/>
          </a:xfrm>
          <a:prstGeom prst="rect">
            <a:avLst/>
          </a:prstGeom>
          <a:ln w="0">
            <a:noFill/>
          </a:ln>
        </p:spPr>
      </p:pic>
      <p:pic>
        <p:nvPicPr>
          <p:cNvPr id="1124" name="Group 31" descr=""/>
          <p:cNvPicPr/>
          <p:nvPr/>
        </p:nvPicPr>
        <p:blipFill>
          <a:blip r:embed="rId2"/>
          <a:stretch/>
        </p:blipFill>
        <p:spPr>
          <a:xfrm>
            <a:off x="963720" y="4651200"/>
            <a:ext cx="291960" cy="31752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5" descr=""/>
          <p:cNvPicPr/>
          <p:nvPr/>
        </p:nvPicPr>
        <p:blipFill>
          <a:blip r:embed="rId3"/>
          <a:stretch/>
        </p:blipFill>
        <p:spPr>
          <a:xfrm>
            <a:off x="950760" y="2724120"/>
            <a:ext cx="317520" cy="2746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8" descr=""/>
          <p:cNvPicPr/>
          <p:nvPr/>
        </p:nvPicPr>
        <p:blipFill>
          <a:blip r:embed="rId4"/>
          <a:stretch/>
        </p:blipFill>
        <p:spPr>
          <a:xfrm>
            <a:off x="5291280" y="2724120"/>
            <a:ext cx="317520" cy="268200"/>
          </a:xfrm>
          <a:prstGeom prst="rect">
            <a:avLst/>
          </a:prstGeom>
          <a:ln w="0">
            <a:noFill/>
          </a:ln>
        </p:spPr>
      </p:pic>
      <p:sp>
        <p:nvSpPr>
          <p:cNvPr id="1127" name="Freeform 22"/>
          <p:cNvSpPr/>
          <p:nvPr/>
        </p:nvSpPr>
        <p:spPr>
          <a:xfrm>
            <a:off x="950760" y="3727440"/>
            <a:ext cx="316080" cy="2286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8" name="Freeform 136"/>
          <p:cNvSpPr/>
          <p:nvPr/>
        </p:nvSpPr>
        <p:spPr>
          <a:xfrm>
            <a:off x="5264280" y="4681440"/>
            <a:ext cx="374400" cy="25740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9" name="Straight Connector 44"/>
          <p:cNvSpPr/>
          <p:nvPr/>
        </p:nvSpPr>
        <p:spPr>
          <a:xfrm>
            <a:off x="4572000" y="2390760"/>
            <a:ext cx="0" cy="297180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108000" y="1849320"/>
            <a:ext cx="8928000" cy="411480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22000" y="395280"/>
            <a:ext cx="78865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22000" y="1158840"/>
            <a:ext cx="78865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8485200" y="88920"/>
            <a:ext cx="4190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51B0F-E429-4F1E-91EF-6EC6E941CC81}" type="slidenum">
              <a:rPr b="0" lang="en-US" sz="7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08000" y="1849320"/>
            <a:ext cx="8928000" cy="41148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5" name="TextBox 4"/>
          <p:cNvSpPr/>
          <p:nvPr/>
        </p:nvSpPr>
        <p:spPr>
          <a:xfrm>
            <a:off x="9460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2c85ae"/>
                </a:solidFill>
                <a:latin typeface="Roboto"/>
              </a:rPr>
              <a:t>Graphic Design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6" name="TextBox 5"/>
          <p:cNvSpPr/>
          <p:nvPr/>
        </p:nvSpPr>
        <p:spPr>
          <a:xfrm>
            <a:off x="3552840" y="2624040"/>
            <a:ext cx="202572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2c85ae"/>
                </a:solidFill>
                <a:latin typeface="Roboto"/>
              </a:rPr>
              <a:t>Online Marketing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7" name="TextBox 6"/>
          <p:cNvSpPr/>
          <p:nvPr/>
        </p:nvSpPr>
        <p:spPr>
          <a:xfrm>
            <a:off x="6203880" y="2624040"/>
            <a:ext cx="2024280" cy="32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1500" spc="-1" strike="noStrike">
                <a:solidFill>
                  <a:srgbClr val="2c85ae"/>
                </a:solidFill>
                <a:latin typeface="Roboto"/>
              </a:rPr>
              <a:t>Print Design</a:t>
            </a:r>
            <a:endParaRPr b="0" lang="en-US" sz="15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Straight Connector 7"/>
          <p:cNvSpPr/>
          <p:nvPr/>
        </p:nvSpPr>
        <p:spPr>
          <a:xfrm>
            <a:off x="325584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Straight Connector 8"/>
          <p:cNvSpPr/>
          <p:nvPr/>
        </p:nvSpPr>
        <p:spPr>
          <a:xfrm>
            <a:off x="5894280" y="2598840"/>
            <a:ext cx="0" cy="274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Text Placeholder 3"/>
          <p:cNvSpPr/>
          <p:nvPr/>
        </p:nvSpPr>
        <p:spPr>
          <a:xfrm>
            <a:off x="9460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355284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0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6203880" y="2959200"/>
            <a:ext cx="203832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5:06Z</dcterms:modified>
  <cp:revision>109</cp:revision>
  <dc:subject/>
  <dc:title>ICONIC</dc:title>
</cp:coreProperties>
</file>