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2AD-1F37-4B52-8BAF-E102DC6E310B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BA6C-1631-4733-99A0-5FC093A819B6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156-DB75-4263-9D93-C261BBF6C7E4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C67-DA2B-40AA-A187-CC1BAF7E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027-18A3-487C-A7F0-3C3971C0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BBDFE-3A15-4165-A391-D9FBC035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E22-7C6F-4068-90F3-142460D9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0F724-78D1-4FE3-9F2D-4F8FF2D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B3E91-53A5-4EEE-B6D1-9913E02B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64CE3-672E-4941-838C-3BD7DFD5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31DCC-B2F7-40A8-B1C8-82F2FE63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4828D-F15C-41DE-8669-F591DD5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3AC99-3746-48BD-8716-E4C39AE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4EB30-A495-490E-9864-2FC6C1E4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8005E-8F97-41B5-896D-8E1B5CE5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F5F4E-67C1-4698-9F26-5FA2D859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B7DC0-27EF-4511-BE4E-EA61E92F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01D-E886-40DC-827F-20CFC31D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FDF46-B5AD-464C-884C-CAC15B53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3D8F1-67C5-44EC-AB21-7A2C95A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E25B7-BB30-4044-81F6-C45E5D64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CBAE73-06F1-4400-A7CB-D7189DE1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D7C4CD-3671-43C5-BA51-FF04358F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403F6-DB59-4840-B0F6-D087AE75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B8700-081F-42B6-9BE4-28D2AF9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0AA3F-1B78-40E1-90A6-C969A31D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6E2E8-1853-4444-8FB5-730319E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1E474-58DF-407C-AAAD-408ADE72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18E3-6CFB-4712-B2D9-76A6C715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77972-ACA3-4E75-9F41-429993C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1287D-EE93-42FF-85C8-FA7229C3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950FE-48FE-47A2-A0A7-E934750E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DA05FC-9662-4257-9512-8C83869C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498499-CF56-42EC-B5E0-785CB80C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A62B7E-CBBE-441A-81CB-40C4B9DA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D56498-AA23-4837-B77A-40FD5B9D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0C4FC2-95B8-4D6B-A9F5-213468C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087ED0-22E5-41D0-A402-0EE4FA2A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017143-172C-4BE3-9A64-35A6830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19B5-4A79-4DE6-B7BA-8C89409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228062-B649-461A-A26C-D45FFDCB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B04CC4-9A48-4EE4-ACDF-82D5D5A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880C3E-9AF4-40BB-8CE0-88EDAAC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0F6C81-211F-4ECF-9960-5F6F8A11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27518B-ECEE-419D-8F93-1E5A5EFA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2D127-FF9A-419D-B9B9-4DDEED27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DFB43-1838-4923-A110-8AA0DAAB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38A25-E99A-4D60-8AAC-E0E47DBF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1B6AD-5C9C-4818-96C1-CA465019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C49B1-1BE9-424C-B45E-B313DC67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1C3-801E-4BDA-989F-15F0530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2ED34-8770-41BE-9839-3DDE13EE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A294D-1DBF-4BC0-B4F2-023353B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41333-0BA4-4474-AA09-F0577D8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BE0CA-419D-489A-BDED-EB042D9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4F213-07AA-411C-A6F4-50E901D6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636E3-9D19-44D8-A499-CFAB4FF4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2617D-9408-4638-9E57-A5240CE6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D98744-54A7-4D2E-9F56-854F6B8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96266E-396C-492F-AB92-39553CF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D11719-43B3-47D3-B079-EC704A66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7AE-2D15-4E35-84AB-0C7BDAC0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5C86671-410F-4131-BADE-24500A72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494EC2-6220-49C7-BFF6-3DC89B7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7F245A-5F9C-4E3F-928B-BAB02FDB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978D1D-7C2C-45E5-871A-6B652CB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3ED8D2-0EA0-41B4-BB8C-34BBE04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3F1271-1751-4C06-A2EC-2E45564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1B4864-6E29-4615-A056-F69877D1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30E435-816E-4255-B9B1-B63773AE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6E8145-A4CA-4C3D-ACD5-2FA356BB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6122A9-6507-4171-9E79-075E9FEB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D75-2A40-44C9-84E8-BD75C57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B27606A-23EC-4400-A099-CD836758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9494F1-1D23-4A64-B21C-45CE02BD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D0B8A9-AECD-46B0-AE11-C42DD91D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BE7C71-706E-48EA-94CC-D1362BA5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841288-A536-4D9E-B144-82C5C755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8BC1E0-C8DB-4D39-B430-BC959C74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B52D81-7E01-45B3-B165-6279898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DE0EA3-15F8-4DEE-A9B5-94AB8FAF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6D404C-CA5D-45E7-B91A-1882BE28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BB63F5-7DF8-4725-8BF7-30EF0E19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5C7C-33FF-4A40-8CCB-42F4946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ABDFD3-584B-4A10-BFB5-6172B744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3523C8-470B-4FC7-B6AD-7C8DE714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D38995-D801-47FB-9371-E4EE248B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422EDC-CEB9-4A17-8EFE-4AD74B4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71B48BF-A230-433C-998D-85422D08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E233E7-1864-4A86-938F-87EBF1E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126828-CACD-4D66-AD15-D1CA0C0F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E5DFD2-0287-416A-AA42-BD01F2C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85B2C0-C266-4BD2-98E8-3B84E26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AC2DAF-E4A1-4DDE-B431-3FDDA34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E93-B502-4FCC-ACBD-1F0B6083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A2B007-8FA6-497E-8C42-4059D39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B048D5-FDA1-4F51-A491-26555B0E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C852DE-ABE6-492E-9F90-19CCE1EF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D5592D-C794-4356-868D-2ACB1706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F9F01B-F0EB-449E-8A40-7C628A94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167C3D-3996-47E5-8E99-7445194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93AA52-5E19-44A7-BF70-1A8C6EB4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4F4085-DABB-48BE-A072-F6039B43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1F56B9-92D6-404B-A1EC-5D20E75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C982258-E109-40C7-B436-65315F9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315-208B-4DD1-A16A-53557C7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7631-066F-4368-968A-96ABEA8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52DE7E-09BD-4B79-A27F-E3ECFBB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ED7A19-FB2A-4E19-B30E-39794AE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7A44FA-6BE9-4303-8CBC-E87866E3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60D5BCD-DE1F-4ABA-8339-0DE52FD2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969C1D-FEBC-4567-A2DA-CBF8F086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5DA2F7-DAE6-49F9-95D6-1D212966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2EA530-EF3F-49E3-9D4D-DCB9CF6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A889BF-C104-4939-8317-DA9EDAE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C51585-CD9F-4ADE-B014-463D9A9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3EDDB2-9CBA-4BB7-B701-519F3FE5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83C4-B3E6-430F-AE3A-7580C4A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30262D-21B1-47BB-A8E3-AFBB079E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4F9FD7-5A2B-4206-83C3-A9FE89C8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4137C1-7DD2-49B0-A4DF-A727C834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F76E66-B7CE-4FB1-8AFF-B91B06A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7937B9-B756-4262-A9E6-DFEC7C14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86400D-F3DF-497F-B34B-F219E6F4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92BB758-747C-4C3C-B0BF-69AB6DF3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D8A5A4-926F-4288-B1BA-976C6ED9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E0B782-6469-4DCD-939F-CD3AF3BE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6BFA9C-FAAE-43B6-A474-1E5BDEB0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F6E-E4C0-4A4B-9BD4-9E8F351F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9AA49E-4AD7-4AAA-A6A0-1600F151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C0EBFC-0EB7-402C-B9E8-6C37E71F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E641C4-93F0-4A0B-BE01-623964A3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72D6489-379A-4F52-BBED-0A0FD823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866652-3AC8-459C-8F8F-CD8BC75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F2F996-EC02-44E9-9DC9-F24E5089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522828-64AC-4CEB-BE1E-48A79362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502926-75BB-4984-944F-34BB7038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B68F05-2219-4904-861D-76A4C257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3D721D0-625F-48C7-AFF3-F30413EA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716E-86E3-49DB-94F6-CA44A9E1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6BF7D4-5729-4B05-B13C-CCED3B09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6351CD-D504-423C-985C-66AF265B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18773B0-9B42-46B3-BAC8-1E7ECFE4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E16E960-3918-4999-9DB5-A7F6E4D6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DD11F1-8396-457B-A0F2-5FDF815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B0AEF81-D28C-42B1-9AA8-10FD84E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5D8F4E-0823-40DA-AC73-F818FBB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A8935C1-BA9E-47D6-86F0-763AFCA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AB6B5F-9735-4FD3-9399-D49D4DA1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216E5A-1CD0-4567-9815-F52495ED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CDB6-5A94-4ED2-9426-208EA34F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9537117-EEE3-4A07-8A75-6B5FCFF7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5FD9AA-BEE7-4EAB-88C1-2A087EEA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DA7536-1213-4901-9239-0AAB6EC7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02311D-4D51-43A3-8F5F-EE1F226B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2BC695F-D48B-4530-BC56-28588273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A296EF-8C1F-4706-83D9-0C11B0DE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DF4026-800B-40EF-9EA6-40634AD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E57B37-6AE8-461A-B9D3-F13241B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DE8180-A6E1-4737-A408-11CC2A9E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04B419-843A-4B61-9718-250B01E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A3C64-0F9C-4BAA-95D6-7422FFA6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F08F78-FE6B-4F97-8340-B16690CF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A567C7-2CA9-46B1-8DFD-58065AE2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B1ADE6-B507-4FA0-B2DC-704D45CE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CA81E35-5676-45EE-A731-1850A5A9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A91F97-8885-4830-AAB0-7AB6B92B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71818B-0221-4D71-9AE7-790AF726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474FF7C-D23E-4DBB-A44D-9C8C95BA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3F2805-D827-4C2F-8AC6-0BA09F5A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6D8B1D-0F99-4F58-B01D-C938060F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1697B7-E24A-469A-9776-0DE1CA7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CA9B-CDFB-4E51-BC21-6B9C4D2A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99C0233-4F99-4250-9304-DBED0DD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95E7714-29F6-4C81-B194-3C476E5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9381CF0-BF10-4BE8-BFFC-13FB2802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189FA6-5621-44A1-A9BB-E9D26697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FACADB-31ED-4123-8D5C-5412D82A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0238-AFAA-4E4D-B116-17BE4F1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4015-B820-4784-985A-B52A3E18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8778-39C9-401F-8FC0-AADA4F8D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C0F-7D29-4985-B540-50A1DE2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080B1-0466-4749-8743-C6AB3919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E419B-846F-46FE-9D22-1D199E4C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B693-FF0C-4175-B9F6-0A9F16C4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784E3-BB8D-4E6D-9938-7133142B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1BAAD-4AD2-4D08-8E0B-60113D3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B0B61-EB49-4807-A1E5-6578B216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343A-1EC6-413B-83FD-625B6D21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EDA6B-E3DA-4539-AD81-1E9FD7542D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0AA52-4085-4CD4-B8E5-F63A3E6962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01B0E-3F76-423A-AA5C-DC128FF18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F8A-5BD4-4C23-A01F-E16C07D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8AB6E4-24E9-402B-A0C3-BD7ECC5BEE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A4B9A-9B35-49EC-9C61-05629573A0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A4AED-5D64-4121-995C-EF7FFE95B9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72943-5D33-462F-A427-51BC7C294A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A7642-D984-42A6-BF22-02C93FA1C8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618F7-3048-45FA-A80C-FEE79ED4AA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27195-98F2-400E-B069-640CBC3B2A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FB57A2-5D47-4955-911D-02411D4888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5C1FF-8749-41DC-96F7-984DF0BEFE3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0E3E15-0317-4FDB-BBE4-3539C725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BE0-4F87-4D4D-B521-AABB342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E85362-2650-42ED-9257-B0D8A127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3E945-7DBD-44E0-B598-C1F0360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2112B7-138B-4822-A9E9-453D60A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B86CDA-C2AD-43C3-9B19-5424C8E1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CA729-3811-45EE-9C39-C39D7428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5A11F-C16D-47D9-82E9-EE290DF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BBFCF-D751-433C-A7D5-DEFEF846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D4531-F0BC-4FD4-9090-C6B7132B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B5DEE6-B7A4-4C59-937F-6C1C6E3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C5B05-434B-49D1-8462-A451F9CD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AEE-70F5-42E4-8B3A-FF4A04BB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2AD23-D758-416F-8298-869CEC6C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23E308-7BE9-4E7B-BB28-332B4213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60324-4E83-4BEE-82D7-3FB5D8F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660D8-2802-4D33-8268-CFC1A5F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836E2-6E0A-454A-BB28-215EDAB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68D4C7-5B62-401A-AA8A-12CFF486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284D3D-EE5A-4AC6-A08A-DC2738E7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BE4F31-A587-4BC0-8E34-7F33141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4CCCCC-EF1B-45BC-AC16-FA12459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D7FCBA-D214-42AB-BC1A-513B1600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44B-4117-410B-9A02-B0AA6B3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981D1-D9E2-4648-8F62-C27E2A98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168038-D2E8-4FE5-B904-FA1B8836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B07B0-A7C3-4B13-842E-26A8423A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235676-6CF7-4B63-9D3D-35F99BB5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AB395B-0B36-4701-8EF8-F9A99E0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F13A51-3D50-4B03-B829-F633BC96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CFDF8F-F45A-4BA6-ADFB-CC3B72F6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199D2-D8DE-4BD3-9AFD-4082AC3B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7BB74-1009-4CA0-B374-5998B03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D4468-5A8A-466A-9C94-15BC020C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55E-D8B5-4CD9-A5EA-BE128C4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70E136-BDD0-44DB-A6B5-6290771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6DAE77-E86D-42CD-9371-7D06095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745873-9638-49FE-8AD7-7E92080C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53E8A-62D1-49B1-A105-8E94FA9E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6A084A-0092-44BE-A884-C0598873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2961B2-D843-4862-BD44-D2422743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C37FC-C800-4AD9-A962-8625FB91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9723BE-E33F-4892-9E72-89D795E7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2390C9-F855-43AE-A612-10D144C8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FF2D06-1225-44F2-BBA8-AC30BA35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A7A-1447-417F-9DEB-D2E7C8D6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7EC94B-2966-491F-83CF-1E42DBE1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52A35-9414-4C24-A17B-7F3A399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D0BAF1-8B81-4A7C-B533-D76392DB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A386D-8C36-48E9-AA69-77AC9DD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3B637-C9C8-4F42-A04A-52C2A67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05D25-6BEE-4A1C-B491-76EA4FF3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3C38EA-AC1A-40AB-8AA5-32F9EC81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802A-A7C4-4D9A-AED8-50F3450C144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4DFC-C84F-4631-BF1D-E2892F582E7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6743-3355-4D5E-AF2A-454DDE361EE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262B-19E7-4E66-9966-313C318BE00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2F9-95C8-482B-82C2-533FC22C63C6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1D6A-262C-41EE-AEA4-DC39B9E320D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728F-4DCD-431C-BCE1-36B03470C80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47DE-03B2-4571-9153-723DDB98163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A445-CAE8-4ED9-8193-3D5D03D26AE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4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9AD7-86E8-4ECA-BAAA-7431E927814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0AE-CB97-4C42-AD6F-C9C25464039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7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1242-6C97-4272-9DA1-E50F90AF0DF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2754-E492-40AD-8D01-C5EAB54B7EAC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8B2-3366-4828-AA82-03E9B59DE79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6681-F5FF-4F82-97C2-DFCDFDA2262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5EE-605F-4B29-AC22-3998057BFAE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4237-C10F-48F8-9171-1AC7F9069F93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83C7-FFEE-4ECA-8EA7-8A5E5ECD5E5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FAAF-BC7C-4604-9A8A-AFE58306693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3875-2B78-42E0-BFD1-407E6C76219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1AB3-D7D3-41C8-9B40-C830EC2F93D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04EE-4603-4903-A6AB-BEDD6D3190C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587D-81E8-4204-A692-1351B28191F3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A0C-6D64-4517-9DB5-09A53AF7EAA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E12F-483C-4DB2-9F91-F9A64452F25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A3A5-CABA-4337-842C-AAB0392C742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BC8E-3730-46F8-9830-FB324A8031F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185-9A28-4D20-9FBD-5A55E795284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71BB-BC63-4954-BEBF-7D885A578B6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E747-78C5-4F30-91E4-B98F0CB5050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7A9F-39A6-420A-B7E2-E23DC95EBD39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2F1-0BA5-4921-9631-06653A3C577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65E-AE31-4491-8237-7A22D4800D99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09D-7738-4C0D-9E1E-DCE8A9EFF3F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60C-5936-4625-A8C6-4BE4D80E431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270B-EBAD-4945-932B-69E824CC6599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1B1F-8A0A-43C2-8DBD-9FFAD10948E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AE1-7A5B-4AA7-9346-9BFD10AE367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91D9-EC61-43F6-900D-A7A7A34F72B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5240-2CD4-4A72-AFA8-D54FF6248BC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C268-DFFE-499D-BDB9-209E484F9DE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3880" y="2347560"/>
            <a:ext cx="91440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60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6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523880" y="383076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9" name="Slide Number Placeholder 1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C538-9A9A-4F5E-94EC-33BD0825358B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1226-5289-45D9-98AD-76D3C65D978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5872320" y="979560"/>
            <a:ext cx="43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OM HARDES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5872320" y="2300400"/>
            <a:ext cx="577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5872320" y="1708200"/>
            <a:ext cx="3512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ab03"/>
                </a:solidFill>
                <a:latin typeface="Open Sans"/>
                <a:ea typeface="Lato Light"/>
              </a:rPr>
              <a:t>Our Beloved CEO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63507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599436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84009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804384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1038240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1002672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6510240" y="4324320"/>
            <a:ext cx="617760" cy="61596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8589960" y="4367160"/>
            <a:ext cx="558720" cy="5126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10578960" y="4348080"/>
            <a:ext cx="543240" cy="558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44360" y="134640"/>
            <a:ext cx="540072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3BB9-2EBB-49E3-B5A7-CAE2CAE5460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695160" y="1743120"/>
            <a:ext cx="5329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In hac habitasse platea dictumst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843120" y="353232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893880" y="3995640"/>
            <a:ext cx="4378320" cy="174600"/>
          </a:xfrm>
          <a:prstGeom prst="rect">
            <a:avLst/>
          </a:prstGeom>
          <a:noFill/>
          <a:ln w="1584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893880" y="3995640"/>
            <a:ext cx="3873240" cy="1746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843120" y="43941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893880" y="4857840"/>
            <a:ext cx="4378320" cy="176040"/>
          </a:xfrm>
          <a:prstGeom prst="rect">
            <a:avLst/>
          </a:prstGeom>
          <a:noFill/>
          <a:ln w="15840">
            <a:solidFill>
              <a:srgbClr val="fc7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893880" y="4857840"/>
            <a:ext cx="3316320" cy="1760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843120" y="52563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893880" y="5719680"/>
            <a:ext cx="4378320" cy="176400"/>
          </a:xfrm>
          <a:prstGeom prst="rect">
            <a:avLst/>
          </a:prstGeom>
          <a:noFill/>
          <a:ln w="15840">
            <a:solidFill>
              <a:srgbClr val="fc3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893880" y="5719680"/>
            <a:ext cx="4244760" cy="1764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5095800" y="384480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ab03"/>
                </a:solidFill>
                <a:latin typeface="Open Sans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5095800" y="47084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7f03"/>
                </a:solidFill>
                <a:latin typeface="Open Sans"/>
              </a:rPr>
              <a:t>75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5095800" y="55706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3903"/>
                </a:solidFill>
                <a:latin typeface="Open Sans"/>
              </a:rPr>
              <a:t>97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6721560" y="681120"/>
            <a:ext cx="5162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5F3-8A87-4684-AB2E-84B1B672808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8" name="Rectangle 15"/>
          <p:cNvSpPr/>
          <p:nvPr/>
        </p:nvSpPr>
        <p:spPr>
          <a:xfrm>
            <a:off x="2611440" y="238284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261144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David Naff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Rectangle 17"/>
          <p:cNvSpPr/>
          <p:nvPr/>
        </p:nvSpPr>
        <p:spPr>
          <a:xfrm>
            <a:off x="2611440" y="478800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TextBox 23"/>
          <p:cNvSpPr/>
          <p:nvPr/>
        </p:nvSpPr>
        <p:spPr>
          <a:xfrm>
            <a:off x="261144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Rectangle 19"/>
          <p:cNvSpPr/>
          <p:nvPr/>
        </p:nvSpPr>
        <p:spPr>
          <a:xfrm>
            <a:off x="8091360" y="238284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TextBox 20"/>
          <p:cNvSpPr/>
          <p:nvPr/>
        </p:nvSpPr>
        <p:spPr>
          <a:xfrm>
            <a:off x="809136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Taylor Neil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8091360" y="478800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5" name="TextBox 23"/>
          <p:cNvSpPr/>
          <p:nvPr/>
        </p:nvSpPr>
        <p:spPr>
          <a:xfrm>
            <a:off x="809136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Hans Gret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2611440" y="4433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2611440" y="203508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8091360" y="4433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8091360" y="203508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6948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694800" y="4214880"/>
            <a:ext cx="1800360" cy="19080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61812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4"/>
          <a:stretch/>
        </p:blipFill>
        <p:spPr>
          <a:xfrm>
            <a:off x="6181200" y="4214880"/>
            <a:ext cx="18003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1D61-EE44-4424-B1DB-7403DDEF115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7" name="Rectangle 17"/>
          <p:cNvSpPr/>
          <p:nvPr/>
        </p:nvSpPr>
        <p:spPr>
          <a:xfrm>
            <a:off x="609480" y="5084640"/>
            <a:ext cx="3524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60948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Rectangle 19"/>
          <p:cNvSpPr/>
          <p:nvPr/>
        </p:nvSpPr>
        <p:spPr>
          <a:xfrm>
            <a:off x="609480" y="4730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0" name="Rectangle 20"/>
          <p:cNvSpPr/>
          <p:nvPr/>
        </p:nvSpPr>
        <p:spPr>
          <a:xfrm>
            <a:off x="4381560" y="5084640"/>
            <a:ext cx="3525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1" name="TextBox 23"/>
          <p:cNvSpPr/>
          <p:nvPr/>
        </p:nvSpPr>
        <p:spPr>
          <a:xfrm>
            <a:off x="438156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Rectangle 22"/>
          <p:cNvSpPr/>
          <p:nvPr/>
        </p:nvSpPr>
        <p:spPr>
          <a:xfrm>
            <a:off x="4381560" y="4730760"/>
            <a:ext cx="2792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058240" y="5084640"/>
            <a:ext cx="352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4" name="TextBox 23"/>
          <p:cNvSpPr/>
          <p:nvPr/>
        </p:nvSpPr>
        <p:spPr>
          <a:xfrm>
            <a:off x="805824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Bob Sandy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8058240" y="4730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ab03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95160" y="1760400"/>
            <a:ext cx="3438720" cy="2617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81200" y="1760400"/>
            <a:ext cx="3438360" cy="26179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8073720" y="1760400"/>
            <a:ext cx="343836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B47-2937-41EC-A59E-41C15BDFCCC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2" name="Straight Connector 103"/>
          <p:cNvSpPr/>
          <p:nvPr/>
        </p:nvSpPr>
        <p:spPr>
          <a:xfrm>
            <a:off x="8663040" y="419904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Straight Connector 105"/>
          <p:cNvSpPr/>
          <p:nvPr/>
        </p:nvSpPr>
        <p:spPr>
          <a:xfrm>
            <a:off x="8663040" y="35845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Straight Connector 93"/>
          <p:cNvSpPr/>
          <p:nvPr/>
        </p:nvSpPr>
        <p:spPr>
          <a:xfrm>
            <a:off x="8663040" y="603900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Straight Connector 94"/>
          <p:cNvSpPr/>
          <p:nvPr/>
        </p:nvSpPr>
        <p:spPr>
          <a:xfrm>
            <a:off x="8399520" y="542592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6" name="Straight Connector 95"/>
          <p:cNvSpPr/>
          <p:nvPr/>
        </p:nvSpPr>
        <p:spPr>
          <a:xfrm>
            <a:off x="8663040" y="54259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7" name="Straight Connector 96"/>
          <p:cNvSpPr/>
          <p:nvPr/>
        </p:nvSpPr>
        <p:spPr>
          <a:xfrm>
            <a:off x="8663040" y="481176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Straight Connector 97"/>
          <p:cNvSpPr/>
          <p:nvPr/>
        </p:nvSpPr>
        <p:spPr>
          <a:xfrm flipV="1">
            <a:off x="8663040" y="4808160"/>
            <a:ext cx="0" cy="12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Straight Connector 90"/>
          <p:cNvSpPr/>
          <p:nvPr/>
        </p:nvSpPr>
        <p:spPr>
          <a:xfrm>
            <a:off x="8663040" y="297036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Straight Connector 85"/>
          <p:cNvSpPr/>
          <p:nvPr/>
        </p:nvSpPr>
        <p:spPr>
          <a:xfrm>
            <a:off x="8399520" y="23572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Straight Connector 89"/>
          <p:cNvSpPr/>
          <p:nvPr/>
        </p:nvSpPr>
        <p:spPr>
          <a:xfrm>
            <a:off x="8663040" y="235728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Straight Connector 88"/>
          <p:cNvSpPr/>
          <p:nvPr/>
        </p:nvSpPr>
        <p:spPr>
          <a:xfrm>
            <a:off x="8663040" y="17431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3" name="Straight Connector 75"/>
          <p:cNvSpPr/>
          <p:nvPr/>
        </p:nvSpPr>
        <p:spPr>
          <a:xfrm flipV="1">
            <a:off x="5967360" y="2361960"/>
            <a:ext cx="0" cy="30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Straight Connector 72"/>
          <p:cNvSpPr/>
          <p:nvPr/>
        </p:nvSpPr>
        <p:spPr>
          <a:xfrm flipV="1">
            <a:off x="4622760" y="3890880"/>
            <a:ext cx="0" cy="1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Straight Connector 73"/>
          <p:cNvSpPr/>
          <p:nvPr/>
        </p:nvSpPr>
        <p:spPr>
          <a:xfrm flipV="1">
            <a:off x="4622760" y="3797280"/>
            <a:ext cx="0" cy="1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6" name="Straight Connector 69"/>
          <p:cNvSpPr/>
          <p:nvPr/>
        </p:nvSpPr>
        <p:spPr>
          <a:xfrm>
            <a:off x="3127320" y="3890880"/>
            <a:ext cx="149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7" name="Freeform: Shape 53"/>
          <p:cNvSpPr/>
          <p:nvPr/>
        </p:nvSpPr>
        <p:spPr>
          <a:xfrm>
            <a:off x="92556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8" name="Freeform: Shape 55"/>
          <p:cNvSpPr/>
          <p:nvPr/>
        </p:nvSpPr>
        <p:spPr>
          <a:xfrm>
            <a:off x="8923320" y="15256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Freeform: Shape 56"/>
          <p:cNvSpPr/>
          <p:nvPr/>
        </p:nvSpPr>
        <p:spPr>
          <a:xfrm>
            <a:off x="892332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0" name="Freeform: Shape 57"/>
          <p:cNvSpPr/>
          <p:nvPr/>
        </p:nvSpPr>
        <p:spPr>
          <a:xfrm>
            <a:off x="8923320" y="275256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1" name="Freeform: Shape 59"/>
          <p:cNvSpPr/>
          <p:nvPr/>
        </p:nvSpPr>
        <p:spPr>
          <a:xfrm>
            <a:off x="892332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Freeform: Shape 60"/>
          <p:cNvSpPr/>
          <p:nvPr/>
        </p:nvSpPr>
        <p:spPr>
          <a:xfrm>
            <a:off x="892332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3" name="Freeform: Shape 54"/>
          <p:cNvSpPr/>
          <p:nvPr/>
        </p:nvSpPr>
        <p:spPr>
          <a:xfrm>
            <a:off x="622620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4" name="Freeform: Shape 58"/>
          <p:cNvSpPr/>
          <p:nvPr/>
        </p:nvSpPr>
        <p:spPr>
          <a:xfrm>
            <a:off x="622620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5" name="Freeform: Shape 61"/>
          <p:cNvSpPr/>
          <p:nvPr/>
        </p:nvSpPr>
        <p:spPr>
          <a:xfrm>
            <a:off x="622620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6" name="Freeform: Shape 62"/>
          <p:cNvSpPr/>
          <p:nvPr/>
        </p:nvSpPr>
        <p:spPr>
          <a:xfrm>
            <a:off x="8923320" y="459432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7" name="Freeform: Shape 63"/>
          <p:cNvSpPr/>
          <p:nvPr/>
        </p:nvSpPr>
        <p:spPr>
          <a:xfrm>
            <a:off x="892332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8" name="Freeform: Shape 64"/>
          <p:cNvSpPr/>
          <p:nvPr/>
        </p:nvSpPr>
        <p:spPr>
          <a:xfrm>
            <a:off x="8923320" y="58212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985680" y="3706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0" name="Freeform: Shape 65"/>
          <p:cNvSpPr/>
          <p:nvPr/>
        </p:nvSpPr>
        <p:spPr>
          <a:xfrm>
            <a:off x="351936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Freeform: Shape 66"/>
          <p:cNvSpPr/>
          <p:nvPr/>
        </p:nvSpPr>
        <p:spPr>
          <a:xfrm>
            <a:off x="351936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Straight Connector 79"/>
          <p:cNvSpPr/>
          <p:nvPr/>
        </p:nvSpPr>
        <p:spPr>
          <a:xfrm>
            <a:off x="5964120" y="23572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Straight Connector 81"/>
          <p:cNvSpPr/>
          <p:nvPr/>
        </p:nvSpPr>
        <p:spPr>
          <a:xfrm>
            <a:off x="5964120" y="542592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Straight Connector 83"/>
          <p:cNvSpPr/>
          <p:nvPr/>
        </p:nvSpPr>
        <p:spPr>
          <a:xfrm flipV="1">
            <a:off x="8663040" y="1742760"/>
            <a:ext cx="0" cy="12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5" name="Straight Connector 87"/>
          <p:cNvSpPr/>
          <p:nvPr/>
        </p:nvSpPr>
        <p:spPr>
          <a:xfrm>
            <a:off x="5967360" y="38908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6" name="Straight Connector 102"/>
          <p:cNvSpPr/>
          <p:nvPr/>
        </p:nvSpPr>
        <p:spPr>
          <a:xfrm>
            <a:off x="8399520" y="38908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Straight Connector 104"/>
          <p:cNvSpPr/>
          <p:nvPr/>
        </p:nvSpPr>
        <p:spPr>
          <a:xfrm flipV="1">
            <a:off x="8663040" y="3584520"/>
            <a:ext cx="0" cy="6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3579840" y="33908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3579840" y="4014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6286680" y="2178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6286680" y="37069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28668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8983800" y="1558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8983800" y="2171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8983800" y="2789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8983800" y="3402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8983800" y="4008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8983800" y="46227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898380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23"/>
          <p:cNvSpPr/>
          <p:nvPr/>
        </p:nvSpPr>
        <p:spPr>
          <a:xfrm>
            <a:off x="8983800" y="58532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Straight Connector 67"/>
          <p:cNvSpPr/>
          <p:nvPr/>
        </p:nvSpPr>
        <p:spPr>
          <a:xfrm>
            <a:off x="4622760" y="3890880"/>
            <a:ext cx="1341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4" name="Slide Number Placeholder 2"/>
          <p:cNvSpPr/>
          <p:nvPr/>
        </p:nvSpPr>
        <p:spPr>
          <a:xfrm>
            <a:off x="11631600" y="1350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E198-EF8A-4F85-A2D2-9779C2DF06D3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1B7B-A7A5-4B49-86FA-9719491728E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Rectangle 8"/>
          <p:cNvSpPr/>
          <p:nvPr/>
        </p:nvSpPr>
        <p:spPr>
          <a:xfrm>
            <a:off x="609480" y="5423040"/>
            <a:ext cx="1126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09480" y="505944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Rectangle 12"/>
          <p:cNvSpPr/>
          <p:nvPr/>
        </p:nvSpPr>
        <p:spPr>
          <a:xfrm>
            <a:off x="9885240" y="50594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Rectangle 13"/>
          <p:cNvSpPr/>
          <p:nvPr/>
        </p:nvSpPr>
        <p:spPr>
          <a:xfrm>
            <a:off x="4924440" y="5059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44360" y="153720"/>
            <a:ext cx="1190304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752-7667-407D-A123-A2EE7F13CCB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609480" y="1758960"/>
            <a:ext cx="11263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enjo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609480" y="213660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9885240" y="213660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4924440" y="21366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44000" y="2641320"/>
            <a:ext cx="4681800" cy="406692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4909680" y="2641320"/>
            <a:ext cx="4305240" cy="20826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3"/>
          <a:stretch/>
        </p:blipFill>
        <p:spPr>
          <a:xfrm>
            <a:off x="4909680" y="4800600"/>
            <a:ext cx="2109960" cy="190800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4"/>
          <a:stretch/>
        </p:blipFill>
        <p:spPr>
          <a:xfrm>
            <a:off x="7104240" y="4800600"/>
            <a:ext cx="2111040" cy="190800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5"/>
          <a:stretch/>
        </p:blipFill>
        <p:spPr>
          <a:xfrm>
            <a:off x="9299160" y="2641320"/>
            <a:ext cx="2747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F1D-9DFF-461F-8315-E7C449DED9D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Rectangle 16"/>
          <p:cNvSpPr/>
          <p:nvPr/>
        </p:nvSpPr>
        <p:spPr>
          <a:xfrm>
            <a:off x="695160" y="5560920"/>
            <a:ext cx="2521080" cy="4334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TextBox 23"/>
          <p:cNvSpPr/>
          <p:nvPr/>
        </p:nvSpPr>
        <p:spPr>
          <a:xfrm>
            <a:off x="912960" y="5592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Rectangle 27"/>
          <p:cNvSpPr/>
          <p:nvPr/>
        </p:nvSpPr>
        <p:spPr>
          <a:xfrm>
            <a:off x="3398760" y="5560920"/>
            <a:ext cx="2519280" cy="4334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23"/>
          <p:cNvSpPr/>
          <p:nvPr/>
        </p:nvSpPr>
        <p:spPr>
          <a:xfrm>
            <a:off x="361476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Rectangle 30"/>
          <p:cNvSpPr/>
          <p:nvPr/>
        </p:nvSpPr>
        <p:spPr>
          <a:xfrm>
            <a:off x="6099120" y="5560920"/>
            <a:ext cx="2519280" cy="4334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23"/>
          <p:cNvSpPr/>
          <p:nvPr/>
        </p:nvSpPr>
        <p:spPr>
          <a:xfrm>
            <a:off x="631512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8799480" y="5560920"/>
            <a:ext cx="2519280" cy="43344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23"/>
          <p:cNvSpPr/>
          <p:nvPr/>
        </p:nvSpPr>
        <p:spPr>
          <a:xfrm>
            <a:off x="901548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0164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339876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6095520" y="178560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8792640" y="178560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10"/>
          <p:cNvSpPr/>
          <p:nvPr/>
        </p:nvSpPr>
        <p:spPr>
          <a:xfrm>
            <a:off x="3225960" y="2135160"/>
            <a:ext cx="82440" cy="48276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2365200" y="1676520"/>
            <a:ext cx="476280" cy="115920"/>
          </a:xfrm>
          <a:prstGeom prst="rect">
            <a:avLst/>
          </a:prstGeom>
          <a:solidFill>
            <a:srgbClr val="c18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Freeform 34"/>
          <p:cNvSpPr/>
          <p:nvPr/>
        </p:nvSpPr>
        <p:spPr>
          <a:xfrm rot="18900000">
            <a:off x="2787120" y="1359000"/>
            <a:ext cx="339840" cy="133488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TextBox 13"/>
          <p:cNvSpPr/>
          <p:nvPr/>
        </p:nvSpPr>
        <p:spPr>
          <a:xfrm rot="2700000">
            <a:off x="2681280" y="187884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ound Diagonal Corner Rectangle 8"/>
          <p:cNvSpPr/>
          <p:nvPr/>
        </p:nvSpPr>
        <p:spPr>
          <a:xfrm>
            <a:off x="5005440" y="1992240"/>
            <a:ext cx="6867360" cy="20131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765000" y="1991880"/>
            <a:ext cx="4548240" cy="273060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64EC-0FA4-41CC-AB67-B16DB0B6062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9" name="Picture 8" descr="iMac-Mask.png"/>
          <p:cNvPicPr/>
          <p:nvPr/>
        </p:nvPicPr>
        <p:blipFill>
          <a:blip r:embed="rId2"/>
          <a:stretch/>
        </p:blipFill>
        <p:spPr>
          <a:xfrm>
            <a:off x="434880" y="1674720"/>
            <a:ext cx="5221440" cy="4788000"/>
          </a:xfrm>
          <a:prstGeom prst="rect">
            <a:avLst/>
          </a:prstGeom>
          <a:ln w="0">
            <a:noFill/>
          </a:ln>
        </p:spPr>
      </p:pic>
      <p:sp>
        <p:nvSpPr>
          <p:cNvPr id="1310" name="TextBox 19"/>
          <p:cNvSpPr/>
          <p:nvPr/>
        </p:nvSpPr>
        <p:spPr>
          <a:xfrm>
            <a:off x="5944320" y="29131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0"/>
          <p:cNvSpPr/>
          <p:nvPr/>
        </p:nvSpPr>
        <p:spPr>
          <a:xfrm>
            <a:off x="7827840" y="291312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extBox 21"/>
          <p:cNvSpPr/>
          <p:nvPr/>
        </p:nvSpPr>
        <p:spPr>
          <a:xfrm>
            <a:off x="10220760" y="29131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13" name="Group 22" descr=""/>
          <p:cNvPicPr/>
          <p:nvPr/>
        </p:nvPicPr>
        <p:blipFill>
          <a:blip r:embed="rId3"/>
          <a:stretch/>
        </p:blipFill>
        <p:spPr>
          <a:xfrm>
            <a:off x="6370560" y="2262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314" name="Freeform 15"/>
          <p:cNvSpPr/>
          <p:nvPr/>
        </p:nvSpPr>
        <p:spPr>
          <a:xfrm>
            <a:off x="8472600" y="2289240"/>
            <a:ext cx="431640" cy="430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Freeform 7"/>
          <p:cNvSpPr/>
          <p:nvPr/>
        </p:nvSpPr>
        <p:spPr>
          <a:xfrm>
            <a:off x="10483920" y="2260440"/>
            <a:ext cx="474480" cy="46368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Rectangle 33"/>
          <p:cNvSpPr/>
          <p:nvPr/>
        </p:nvSpPr>
        <p:spPr>
          <a:xfrm>
            <a:off x="5791320" y="3165480"/>
            <a:ext cx="164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Rectangle 34"/>
          <p:cNvSpPr/>
          <p:nvPr/>
        </p:nvSpPr>
        <p:spPr>
          <a:xfrm>
            <a:off x="786276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Rectangle 35"/>
          <p:cNvSpPr/>
          <p:nvPr/>
        </p:nvSpPr>
        <p:spPr>
          <a:xfrm>
            <a:off x="989640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872320" y="4151160"/>
            <a:ext cx="57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971" name="Rectangle 10"/>
          <p:cNvSpPr/>
          <p:nvPr/>
        </p:nvSpPr>
        <p:spPr>
          <a:xfrm>
            <a:off x="144360" y="149400"/>
            <a:ext cx="11903040" cy="32796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Content Placeholder 11"/>
          <p:cNvSpPr/>
          <p:nvPr/>
        </p:nvSpPr>
        <p:spPr>
          <a:xfrm>
            <a:off x="1525680" y="4986360"/>
            <a:ext cx="914076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4657680" y="4272120"/>
            <a:ext cx="289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Edogar Marc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5249160" y="45910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Co-Founder &amp; Ce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CAA9-20AA-416D-AA8B-72A3534C5E7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094000" y="2062080"/>
            <a:ext cx="20034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8" descr=""/>
          <p:cNvPicPr/>
          <p:nvPr/>
        </p:nvPicPr>
        <p:blipFill>
          <a:blip r:embed="rId1"/>
          <a:stretch/>
        </p:blipFill>
        <p:spPr>
          <a:xfrm>
            <a:off x="7970760" y="915840"/>
            <a:ext cx="4089600" cy="5807160"/>
          </a:xfrm>
          <a:prstGeom prst="rect">
            <a:avLst/>
          </a:prstGeom>
          <a:ln w="0">
            <a:noFill/>
          </a:ln>
        </p:spPr>
      </p:pic>
      <p:sp>
        <p:nvSpPr>
          <p:cNvPr id="132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C443-DFAD-4521-AAAF-A7F4D5CB6CD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687240" y="5303880"/>
            <a:ext cx="760680" cy="7621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3103560" y="5303880"/>
            <a:ext cx="762120" cy="76212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5559480" y="5303880"/>
            <a:ext cx="762120" cy="76212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2"/>
          <a:stretch/>
        </p:blipFill>
        <p:spPr>
          <a:xfrm>
            <a:off x="5761080" y="548640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3"/>
          <a:stretch/>
        </p:blipFill>
        <p:spPr>
          <a:xfrm>
            <a:off x="871560" y="5510160"/>
            <a:ext cx="390600" cy="34776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3289320" y="5543640"/>
            <a:ext cx="390600" cy="2808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544760" y="5684400"/>
            <a:ext cx="157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544760" y="52005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fab03"/>
                </a:solidFill>
                <a:latin typeface="Roboto"/>
              </a:rPr>
              <a:t>47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395748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395748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c7f03"/>
                </a:solidFill>
                <a:latin typeface="Roboto"/>
              </a:rPr>
              <a:t>38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641016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641016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fc3903"/>
                </a:solidFill>
                <a:latin typeface="Roboto"/>
              </a:rPr>
              <a:t>15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4400640" y="2036880"/>
          <a:ext cx="3544920" cy="3030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0640" y="2036880"/>
                    <a:ext cx="35449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608040" y="2413080"/>
            <a:ext cx="33782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608040" y="204300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6"/>
          <a:stretch/>
        </p:blipFill>
        <p:spPr>
          <a:xfrm>
            <a:off x="8426520" y="163044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8E4E-CB80-48EC-A3DA-EF9484E33DB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4" name="Rectangle 5"/>
          <p:cNvSpPr/>
          <p:nvPr/>
        </p:nvSpPr>
        <p:spPr>
          <a:xfrm>
            <a:off x="5138280" y="4998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Our Client list: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45" name="Group 15"/>
          <p:cNvGrpSpPr/>
          <p:nvPr/>
        </p:nvGrpSpPr>
        <p:grpSpPr>
          <a:xfrm>
            <a:off x="633240" y="5737320"/>
            <a:ext cx="1733760" cy="384120"/>
            <a:chOff x="633240" y="5737320"/>
            <a:chExt cx="1733760" cy="384120"/>
          </a:xfrm>
        </p:grpSpPr>
        <p:sp>
          <p:nvSpPr>
            <p:cNvPr id="1346" name="Freeform 5"/>
            <p:cNvSpPr/>
            <p:nvPr/>
          </p:nvSpPr>
          <p:spPr>
            <a:xfrm>
              <a:off x="720360" y="5756040"/>
              <a:ext cx="127080" cy="1792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Freeform 6"/>
            <p:cNvSpPr/>
            <p:nvPr/>
          </p:nvSpPr>
          <p:spPr>
            <a:xfrm>
              <a:off x="738000" y="5769000"/>
              <a:ext cx="109440" cy="1666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Freeform 7"/>
            <p:cNvSpPr/>
            <p:nvPr/>
          </p:nvSpPr>
          <p:spPr>
            <a:xfrm>
              <a:off x="787320" y="5802120"/>
              <a:ext cx="17460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Freeform 8"/>
            <p:cNvSpPr/>
            <p:nvPr/>
          </p:nvSpPr>
          <p:spPr>
            <a:xfrm>
              <a:off x="787320" y="5837400"/>
              <a:ext cx="17460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Freeform 9"/>
            <p:cNvSpPr/>
            <p:nvPr/>
          </p:nvSpPr>
          <p:spPr>
            <a:xfrm>
              <a:off x="803160" y="5888160"/>
              <a:ext cx="158760" cy="166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1" name="Freeform 10"/>
            <p:cNvSpPr/>
            <p:nvPr/>
          </p:nvSpPr>
          <p:spPr>
            <a:xfrm>
              <a:off x="803160" y="5900760"/>
              <a:ext cx="128520" cy="1540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2" name="Freeform 11"/>
            <p:cNvSpPr/>
            <p:nvPr/>
          </p:nvSpPr>
          <p:spPr>
            <a:xfrm>
              <a:off x="776160" y="5935680"/>
              <a:ext cx="120600" cy="1857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776160" y="5935680"/>
              <a:ext cx="95040" cy="174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641160" y="5942160"/>
              <a:ext cx="17316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41160" y="5942160"/>
              <a:ext cx="17316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33240" y="5830920"/>
              <a:ext cx="162000" cy="1620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658440" y="5830920"/>
              <a:ext cx="136440" cy="150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8" name="Rectangle 18"/>
            <p:cNvSpPr/>
            <p:nvPr/>
          </p:nvSpPr>
          <p:spPr>
            <a:xfrm>
              <a:off x="975240" y="573732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8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8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9" name="Rectangle 19"/>
            <p:cNvSpPr/>
            <p:nvPr/>
          </p:nvSpPr>
          <p:spPr>
            <a:xfrm>
              <a:off x="1517400" y="5737320"/>
              <a:ext cx="84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8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0" name="Rectangle 22"/>
            <p:cNvSpPr/>
            <p:nvPr/>
          </p:nvSpPr>
          <p:spPr>
            <a:xfrm>
              <a:off x="1048320" y="59691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7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1" name="Rectangle 23"/>
            <p:cNvSpPr/>
            <p:nvPr/>
          </p:nvSpPr>
          <p:spPr>
            <a:xfrm>
              <a:off x="1093680" y="596916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7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62" name="Group 32"/>
          <p:cNvGrpSpPr/>
          <p:nvPr/>
        </p:nvGrpSpPr>
        <p:grpSpPr>
          <a:xfrm>
            <a:off x="2735280" y="5802480"/>
            <a:ext cx="1833480" cy="260280"/>
            <a:chOff x="2735280" y="5802480"/>
            <a:chExt cx="1833480" cy="260280"/>
          </a:xfrm>
        </p:grpSpPr>
        <p:sp>
          <p:nvSpPr>
            <p:cNvPr id="1363" name="Freeform 42"/>
            <p:cNvSpPr/>
            <p:nvPr/>
          </p:nvSpPr>
          <p:spPr>
            <a:xfrm>
              <a:off x="2735280" y="5878080"/>
              <a:ext cx="173520" cy="1695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4" name="Freeform 43"/>
            <p:cNvSpPr/>
            <p:nvPr/>
          </p:nvSpPr>
          <p:spPr>
            <a:xfrm>
              <a:off x="2747160" y="5891760"/>
              <a:ext cx="152640" cy="14688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5" name="Freeform 44"/>
            <p:cNvSpPr/>
            <p:nvPr/>
          </p:nvSpPr>
          <p:spPr>
            <a:xfrm>
              <a:off x="2754720" y="6028200"/>
              <a:ext cx="170280" cy="3456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6" name="Freeform 45"/>
            <p:cNvSpPr/>
            <p:nvPr/>
          </p:nvSpPr>
          <p:spPr>
            <a:xfrm>
              <a:off x="2754720" y="5802480"/>
              <a:ext cx="257040" cy="26028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7" name="Freeform 46"/>
            <p:cNvSpPr/>
            <p:nvPr/>
          </p:nvSpPr>
          <p:spPr>
            <a:xfrm>
              <a:off x="3088440" y="5810040"/>
              <a:ext cx="119880" cy="16956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8" name="Freeform 47"/>
            <p:cNvSpPr/>
            <p:nvPr/>
          </p:nvSpPr>
          <p:spPr>
            <a:xfrm>
              <a:off x="3208320" y="5810040"/>
              <a:ext cx="170280" cy="16956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9" name="Freeform 48"/>
            <p:cNvSpPr/>
            <p:nvPr/>
          </p:nvSpPr>
          <p:spPr>
            <a:xfrm>
              <a:off x="33804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0" name="Freeform 49"/>
            <p:cNvSpPr/>
            <p:nvPr/>
          </p:nvSpPr>
          <p:spPr>
            <a:xfrm>
              <a:off x="3519360" y="5806800"/>
              <a:ext cx="181080" cy="1728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1" name="Freeform 50"/>
            <p:cNvSpPr/>
            <p:nvPr/>
          </p:nvSpPr>
          <p:spPr>
            <a:xfrm>
              <a:off x="3673440" y="5810040"/>
              <a:ext cx="250200" cy="1728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2" name="Freeform 51"/>
            <p:cNvSpPr/>
            <p:nvPr/>
          </p:nvSpPr>
          <p:spPr>
            <a:xfrm>
              <a:off x="3929400" y="5806800"/>
              <a:ext cx="179280" cy="17604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3" name="Freeform 52"/>
            <p:cNvSpPr/>
            <p:nvPr/>
          </p:nvSpPr>
          <p:spPr>
            <a:xfrm>
              <a:off x="41328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4" name="Freeform 53"/>
            <p:cNvSpPr/>
            <p:nvPr/>
          </p:nvSpPr>
          <p:spPr>
            <a:xfrm>
              <a:off x="4299120" y="5810040"/>
              <a:ext cx="178200" cy="16956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5" name="Freeform 54"/>
            <p:cNvSpPr/>
            <p:nvPr/>
          </p:nvSpPr>
          <p:spPr>
            <a:xfrm>
              <a:off x="4475880" y="5806800"/>
              <a:ext cx="92880" cy="17604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6" name="Freeform 55"/>
            <p:cNvSpPr/>
            <p:nvPr/>
          </p:nvSpPr>
          <p:spPr>
            <a:xfrm>
              <a:off x="3094560" y="6018840"/>
              <a:ext cx="32760" cy="38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7" name="Freeform 56"/>
            <p:cNvSpPr/>
            <p:nvPr/>
          </p:nvSpPr>
          <p:spPr>
            <a:xfrm>
              <a:off x="318564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8" name="Freeform 57"/>
            <p:cNvSpPr/>
            <p:nvPr/>
          </p:nvSpPr>
          <p:spPr>
            <a:xfrm>
              <a:off x="3277440" y="6017400"/>
              <a:ext cx="41400" cy="40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9" name="Freeform 58"/>
            <p:cNvSpPr/>
            <p:nvPr/>
          </p:nvSpPr>
          <p:spPr>
            <a:xfrm>
              <a:off x="3378960" y="6018840"/>
              <a:ext cx="30960" cy="38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0" name="Freeform 59"/>
            <p:cNvSpPr/>
            <p:nvPr/>
          </p:nvSpPr>
          <p:spPr>
            <a:xfrm>
              <a:off x="347004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1" name="Freeform 60"/>
            <p:cNvSpPr/>
            <p:nvPr/>
          </p:nvSpPr>
          <p:spPr>
            <a:xfrm>
              <a:off x="355968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2" name="Freeform 61"/>
            <p:cNvSpPr/>
            <p:nvPr/>
          </p:nvSpPr>
          <p:spPr>
            <a:xfrm>
              <a:off x="3649320" y="6018840"/>
              <a:ext cx="34560" cy="381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3" name="Freeform 62"/>
            <p:cNvSpPr/>
            <p:nvPr/>
          </p:nvSpPr>
          <p:spPr>
            <a:xfrm>
              <a:off x="373680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4" name="Freeform 63"/>
            <p:cNvSpPr/>
            <p:nvPr/>
          </p:nvSpPr>
          <p:spPr>
            <a:xfrm>
              <a:off x="389988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5" name="Freeform 64"/>
            <p:cNvSpPr/>
            <p:nvPr/>
          </p:nvSpPr>
          <p:spPr>
            <a:xfrm>
              <a:off x="399060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6" name="Freeform 65"/>
            <p:cNvSpPr/>
            <p:nvPr/>
          </p:nvSpPr>
          <p:spPr>
            <a:xfrm>
              <a:off x="4082400" y="6018840"/>
              <a:ext cx="33840" cy="38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66"/>
            <p:cNvSpPr/>
            <p:nvPr/>
          </p:nvSpPr>
          <p:spPr>
            <a:xfrm>
              <a:off x="417096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Rectangle 67"/>
            <p:cNvSpPr/>
            <p:nvPr/>
          </p:nvSpPr>
          <p:spPr>
            <a:xfrm>
              <a:off x="4266360" y="6018840"/>
              <a:ext cx="6120" cy="381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9" name="Freeform 68"/>
            <p:cNvSpPr/>
            <p:nvPr/>
          </p:nvSpPr>
          <p:spPr>
            <a:xfrm>
              <a:off x="4331880" y="6017400"/>
              <a:ext cx="38880" cy="40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0" name="Freeform 69"/>
            <p:cNvSpPr/>
            <p:nvPr/>
          </p:nvSpPr>
          <p:spPr>
            <a:xfrm>
              <a:off x="4431240" y="6018840"/>
              <a:ext cx="29520" cy="381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1" name="Freeform 70"/>
            <p:cNvSpPr/>
            <p:nvPr/>
          </p:nvSpPr>
          <p:spPr>
            <a:xfrm>
              <a:off x="451764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92" name="Group 62"/>
          <p:cNvGrpSpPr/>
          <p:nvPr/>
        </p:nvGrpSpPr>
        <p:grpSpPr>
          <a:xfrm>
            <a:off x="5153040" y="5753160"/>
            <a:ext cx="1822320" cy="303120"/>
            <a:chOff x="5153040" y="5753160"/>
            <a:chExt cx="1822320" cy="303120"/>
          </a:xfrm>
        </p:grpSpPr>
        <p:sp>
          <p:nvSpPr>
            <p:cNvPr id="1393" name="Freeform 74"/>
            <p:cNvSpPr/>
            <p:nvPr/>
          </p:nvSpPr>
          <p:spPr>
            <a:xfrm>
              <a:off x="5153040" y="5753160"/>
              <a:ext cx="355320" cy="2246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4" name="Freeform 75"/>
            <p:cNvSpPr/>
            <p:nvPr/>
          </p:nvSpPr>
          <p:spPr>
            <a:xfrm>
              <a:off x="5177880" y="5865480"/>
              <a:ext cx="298080" cy="19080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5" name="Freeform 76"/>
            <p:cNvSpPr/>
            <p:nvPr/>
          </p:nvSpPr>
          <p:spPr>
            <a:xfrm>
              <a:off x="5577480" y="5789880"/>
              <a:ext cx="212760" cy="226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6" name="Freeform 77"/>
            <p:cNvSpPr/>
            <p:nvPr/>
          </p:nvSpPr>
          <p:spPr>
            <a:xfrm>
              <a:off x="582696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8"/>
            <p:cNvSpPr/>
            <p:nvPr/>
          </p:nvSpPr>
          <p:spPr>
            <a:xfrm>
              <a:off x="5885280" y="5844600"/>
              <a:ext cx="143640" cy="17136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79"/>
            <p:cNvSpPr/>
            <p:nvPr/>
          </p:nvSpPr>
          <p:spPr>
            <a:xfrm>
              <a:off x="605700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9" name="Freeform 80"/>
            <p:cNvSpPr/>
            <p:nvPr/>
          </p:nvSpPr>
          <p:spPr>
            <a:xfrm>
              <a:off x="6116760" y="5786280"/>
              <a:ext cx="184680" cy="22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0" name="Freeform 81"/>
            <p:cNvSpPr/>
            <p:nvPr/>
          </p:nvSpPr>
          <p:spPr>
            <a:xfrm>
              <a:off x="6321960" y="5841720"/>
              <a:ext cx="179280" cy="1778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1" name="Freeform 82"/>
            <p:cNvSpPr/>
            <p:nvPr/>
          </p:nvSpPr>
          <p:spPr>
            <a:xfrm>
              <a:off x="6514200" y="5841720"/>
              <a:ext cx="147960" cy="17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2" name="Freeform 83"/>
            <p:cNvSpPr/>
            <p:nvPr/>
          </p:nvSpPr>
          <p:spPr>
            <a:xfrm>
              <a:off x="6675120" y="5841720"/>
              <a:ext cx="130680" cy="17784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6813360" y="5841720"/>
              <a:ext cx="162000" cy="1778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04" name="Group 74"/>
          <p:cNvGrpSpPr/>
          <p:nvPr/>
        </p:nvGrpSpPr>
        <p:grpSpPr>
          <a:xfrm>
            <a:off x="7483320" y="5764320"/>
            <a:ext cx="2055960" cy="338040"/>
            <a:chOff x="7483320" y="5764320"/>
            <a:chExt cx="2055960" cy="338040"/>
          </a:xfrm>
        </p:grpSpPr>
        <p:sp>
          <p:nvSpPr>
            <p:cNvPr id="1405" name="Freeform 88"/>
            <p:cNvSpPr/>
            <p:nvPr/>
          </p:nvSpPr>
          <p:spPr>
            <a:xfrm>
              <a:off x="810180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6" name="Freeform 89"/>
            <p:cNvSpPr/>
            <p:nvPr/>
          </p:nvSpPr>
          <p:spPr>
            <a:xfrm>
              <a:off x="8148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7" name="Freeform 90"/>
            <p:cNvSpPr/>
            <p:nvPr/>
          </p:nvSpPr>
          <p:spPr>
            <a:xfrm>
              <a:off x="8197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8" name="Freeform 91"/>
            <p:cNvSpPr/>
            <p:nvPr/>
          </p:nvSpPr>
          <p:spPr>
            <a:xfrm>
              <a:off x="824364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92"/>
            <p:cNvSpPr/>
            <p:nvPr/>
          </p:nvSpPr>
          <p:spPr>
            <a:xfrm>
              <a:off x="83152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93"/>
            <p:cNvSpPr/>
            <p:nvPr/>
          </p:nvSpPr>
          <p:spPr>
            <a:xfrm>
              <a:off x="8354160" y="6019200"/>
              <a:ext cx="309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1" name="Freeform 94"/>
            <p:cNvSpPr/>
            <p:nvPr/>
          </p:nvSpPr>
          <p:spPr>
            <a:xfrm>
              <a:off x="8400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2" name="Freeform 95"/>
            <p:cNvSpPr/>
            <p:nvPr/>
          </p:nvSpPr>
          <p:spPr>
            <a:xfrm>
              <a:off x="8449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Rectangle 96"/>
            <p:cNvSpPr/>
            <p:nvPr/>
          </p:nvSpPr>
          <p:spPr>
            <a:xfrm>
              <a:off x="8491320" y="6019200"/>
              <a:ext cx="7200" cy="327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4" name="Freeform 97"/>
            <p:cNvSpPr/>
            <p:nvPr/>
          </p:nvSpPr>
          <p:spPr>
            <a:xfrm>
              <a:off x="851940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5" name="Freeform 98"/>
            <p:cNvSpPr/>
            <p:nvPr/>
          </p:nvSpPr>
          <p:spPr>
            <a:xfrm>
              <a:off x="85658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6" name="Freeform 99"/>
            <p:cNvSpPr/>
            <p:nvPr/>
          </p:nvSpPr>
          <p:spPr>
            <a:xfrm>
              <a:off x="86374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7" name="Freeform 100"/>
            <p:cNvSpPr/>
            <p:nvPr/>
          </p:nvSpPr>
          <p:spPr>
            <a:xfrm>
              <a:off x="8683560" y="6019200"/>
              <a:ext cx="23760" cy="32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8" name="Freeform 101"/>
            <p:cNvSpPr/>
            <p:nvPr/>
          </p:nvSpPr>
          <p:spPr>
            <a:xfrm>
              <a:off x="872820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9" name="Freeform 102"/>
            <p:cNvSpPr/>
            <p:nvPr/>
          </p:nvSpPr>
          <p:spPr>
            <a:xfrm>
              <a:off x="87746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0" name="Freeform 103"/>
            <p:cNvSpPr/>
            <p:nvPr/>
          </p:nvSpPr>
          <p:spPr>
            <a:xfrm>
              <a:off x="8091360" y="5804280"/>
              <a:ext cx="11016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1" name="Freeform 104"/>
            <p:cNvSpPr/>
            <p:nvPr/>
          </p:nvSpPr>
          <p:spPr>
            <a:xfrm>
              <a:off x="8222760" y="5852160"/>
              <a:ext cx="56520" cy="1159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2" name="Freeform 105"/>
            <p:cNvSpPr/>
            <p:nvPr/>
          </p:nvSpPr>
          <p:spPr>
            <a:xfrm>
              <a:off x="8292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3" name="Freeform 106"/>
            <p:cNvSpPr/>
            <p:nvPr/>
          </p:nvSpPr>
          <p:spPr>
            <a:xfrm>
              <a:off x="8403120" y="5852160"/>
              <a:ext cx="87840" cy="119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4" name="Freeform 107"/>
            <p:cNvSpPr/>
            <p:nvPr/>
          </p:nvSpPr>
          <p:spPr>
            <a:xfrm>
              <a:off x="8508960" y="5822280"/>
              <a:ext cx="71280" cy="149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5" name="Freeform 108"/>
            <p:cNvSpPr/>
            <p:nvPr/>
          </p:nvSpPr>
          <p:spPr>
            <a:xfrm>
              <a:off x="8601480" y="5804280"/>
              <a:ext cx="25200" cy="16380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6" name="Freeform 109"/>
            <p:cNvSpPr/>
            <p:nvPr/>
          </p:nvSpPr>
          <p:spPr>
            <a:xfrm>
              <a:off x="8643240" y="5852160"/>
              <a:ext cx="107280" cy="11916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 110"/>
            <p:cNvSpPr/>
            <p:nvPr/>
          </p:nvSpPr>
          <p:spPr>
            <a:xfrm>
              <a:off x="8760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Rectangle 111"/>
            <p:cNvSpPr/>
            <p:nvPr/>
          </p:nvSpPr>
          <p:spPr>
            <a:xfrm>
              <a:off x="8881920" y="5804280"/>
              <a:ext cx="28080" cy="163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 112"/>
            <p:cNvSpPr/>
            <p:nvPr/>
          </p:nvSpPr>
          <p:spPr>
            <a:xfrm>
              <a:off x="8941680" y="5847480"/>
              <a:ext cx="9828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Freeform 113"/>
            <p:cNvSpPr/>
            <p:nvPr/>
          </p:nvSpPr>
          <p:spPr>
            <a:xfrm>
              <a:off x="9051840" y="5804280"/>
              <a:ext cx="108720" cy="16380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 114"/>
            <p:cNvSpPr/>
            <p:nvPr/>
          </p:nvSpPr>
          <p:spPr>
            <a:xfrm>
              <a:off x="9189000" y="5847480"/>
              <a:ext cx="9972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 115"/>
            <p:cNvSpPr/>
            <p:nvPr/>
          </p:nvSpPr>
          <p:spPr>
            <a:xfrm>
              <a:off x="9309960" y="5804280"/>
              <a:ext cx="35640" cy="16380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 116"/>
            <p:cNvSpPr/>
            <p:nvPr/>
          </p:nvSpPr>
          <p:spPr>
            <a:xfrm>
              <a:off x="9358920" y="5822280"/>
              <a:ext cx="77400" cy="1490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4" name="Freeform 117"/>
            <p:cNvSpPr/>
            <p:nvPr/>
          </p:nvSpPr>
          <p:spPr>
            <a:xfrm>
              <a:off x="9430560" y="5852160"/>
              <a:ext cx="10872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5" name="Freeform 118"/>
            <p:cNvSpPr/>
            <p:nvPr/>
          </p:nvSpPr>
          <p:spPr>
            <a:xfrm>
              <a:off x="748332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9"/>
            <p:cNvSpPr/>
            <p:nvPr/>
          </p:nvSpPr>
          <p:spPr>
            <a:xfrm>
              <a:off x="763524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37" name="Group 107"/>
          <p:cNvGrpSpPr/>
          <p:nvPr/>
        </p:nvGrpSpPr>
        <p:grpSpPr>
          <a:xfrm>
            <a:off x="9931320" y="5742000"/>
            <a:ext cx="1919520" cy="380880"/>
            <a:chOff x="9931320" y="5742000"/>
            <a:chExt cx="1919520" cy="380880"/>
          </a:xfrm>
        </p:grpSpPr>
        <p:sp>
          <p:nvSpPr>
            <p:cNvPr id="1438" name="Freeform 123"/>
            <p:cNvSpPr/>
            <p:nvPr/>
          </p:nvSpPr>
          <p:spPr>
            <a:xfrm>
              <a:off x="1030140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9" name="Freeform 124"/>
            <p:cNvSpPr/>
            <p:nvPr/>
          </p:nvSpPr>
          <p:spPr>
            <a:xfrm>
              <a:off x="10343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0" name="Freeform 125"/>
            <p:cNvSpPr/>
            <p:nvPr/>
          </p:nvSpPr>
          <p:spPr>
            <a:xfrm>
              <a:off x="1039212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 126"/>
            <p:cNvSpPr/>
            <p:nvPr/>
          </p:nvSpPr>
          <p:spPr>
            <a:xfrm>
              <a:off x="104421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05123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0547640" y="6028560"/>
              <a:ext cx="295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4" name="Freeform 129"/>
            <p:cNvSpPr/>
            <p:nvPr/>
          </p:nvSpPr>
          <p:spPr>
            <a:xfrm>
              <a:off x="10595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5" name="Freeform 130"/>
            <p:cNvSpPr/>
            <p:nvPr/>
          </p:nvSpPr>
          <p:spPr>
            <a:xfrm>
              <a:off x="106437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6" name="Rectangle 131"/>
            <p:cNvSpPr/>
            <p:nvPr/>
          </p:nvSpPr>
          <p:spPr>
            <a:xfrm>
              <a:off x="10688400" y="6028560"/>
              <a:ext cx="3600" cy="313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7" name="Freeform 132"/>
            <p:cNvSpPr/>
            <p:nvPr/>
          </p:nvSpPr>
          <p:spPr>
            <a:xfrm>
              <a:off x="107143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8" name="Freeform 133"/>
            <p:cNvSpPr/>
            <p:nvPr/>
          </p:nvSpPr>
          <p:spPr>
            <a:xfrm>
              <a:off x="10762560" y="6028560"/>
              <a:ext cx="21960" cy="313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9" name="Freeform 134"/>
            <p:cNvSpPr/>
            <p:nvPr/>
          </p:nvSpPr>
          <p:spPr>
            <a:xfrm>
              <a:off x="1083276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0" name="Freeform 135"/>
            <p:cNvSpPr/>
            <p:nvPr/>
          </p:nvSpPr>
          <p:spPr>
            <a:xfrm>
              <a:off x="1087704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1" name="Freeform 136"/>
            <p:cNvSpPr/>
            <p:nvPr/>
          </p:nvSpPr>
          <p:spPr>
            <a:xfrm>
              <a:off x="109216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137"/>
            <p:cNvSpPr/>
            <p:nvPr/>
          </p:nvSpPr>
          <p:spPr>
            <a:xfrm>
              <a:off x="109699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Rectangle 138"/>
            <p:cNvSpPr/>
            <p:nvPr/>
          </p:nvSpPr>
          <p:spPr>
            <a:xfrm>
              <a:off x="10292040" y="5815800"/>
              <a:ext cx="21960" cy="1627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139"/>
            <p:cNvSpPr/>
            <p:nvPr/>
          </p:nvSpPr>
          <p:spPr>
            <a:xfrm>
              <a:off x="10353240" y="5810400"/>
              <a:ext cx="114480" cy="1720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Freeform 140"/>
            <p:cNvSpPr/>
            <p:nvPr/>
          </p:nvSpPr>
          <p:spPr>
            <a:xfrm>
              <a:off x="10499400" y="5810400"/>
              <a:ext cx="96120" cy="172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141"/>
            <p:cNvSpPr/>
            <p:nvPr/>
          </p:nvSpPr>
          <p:spPr>
            <a:xfrm>
              <a:off x="10627200" y="5815800"/>
              <a:ext cx="109080" cy="166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142"/>
            <p:cNvSpPr/>
            <p:nvPr/>
          </p:nvSpPr>
          <p:spPr>
            <a:xfrm>
              <a:off x="10771560" y="5815800"/>
              <a:ext cx="110880" cy="1627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143"/>
            <p:cNvSpPr/>
            <p:nvPr/>
          </p:nvSpPr>
          <p:spPr>
            <a:xfrm>
              <a:off x="10882800" y="5810400"/>
              <a:ext cx="131400" cy="1681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144"/>
            <p:cNvSpPr/>
            <p:nvPr/>
          </p:nvSpPr>
          <p:spPr>
            <a:xfrm>
              <a:off x="11032560" y="5810400"/>
              <a:ext cx="112680" cy="1720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145"/>
            <p:cNvSpPr/>
            <p:nvPr/>
          </p:nvSpPr>
          <p:spPr>
            <a:xfrm>
              <a:off x="11177280" y="5810400"/>
              <a:ext cx="110880" cy="172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146"/>
            <p:cNvSpPr/>
            <p:nvPr/>
          </p:nvSpPr>
          <p:spPr>
            <a:xfrm>
              <a:off x="11314080" y="5815800"/>
              <a:ext cx="86760" cy="16272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147"/>
            <p:cNvSpPr/>
            <p:nvPr/>
          </p:nvSpPr>
          <p:spPr>
            <a:xfrm>
              <a:off x="11415960" y="5815800"/>
              <a:ext cx="192240" cy="16272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148"/>
            <p:cNvSpPr/>
            <p:nvPr/>
          </p:nvSpPr>
          <p:spPr>
            <a:xfrm>
              <a:off x="1159920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149"/>
            <p:cNvSpPr/>
            <p:nvPr/>
          </p:nvSpPr>
          <p:spPr>
            <a:xfrm>
              <a:off x="1171404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150"/>
            <p:cNvSpPr/>
            <p:nvPr/>
          </p:nvSpPr>
          <p:spPr>
            <a:xfrm>
              <a:off x="10075680" y="5751000"/>
              <a:ext cx="172080" cy="371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151"/>
            <p:cNvSpPr/>
            <p:nvPr/>
          </p:nvSpPr>
          <p:spPr>
            <a:xfrm>
              <a:off x="10018080" y="5742000"/>
              <a:ext cx="92520" cy="32724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152"/>
            <p:cNvSpPr/>
            <p:nvPr/>
          </p:nvSpPr>
          <p:spPr>
            <a:xfrm>
              <a:off x="9931320" y="5756760"/>
              <a:ext cx="144360" cy="262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68" name="TextBox 141"/>
          <p:cNvSpPr/>
          <p:nvPr/>
        </p:nvSpPr>
        <p:spPr>
          <a:xfrm>
            <a:off x="2021040" y="218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liando Crus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9" name="TextBox 23"/>
          <p:cNvSpPr/>
          <p:nvPr/>
        </p:nvSpPr>
        <p:spPr>
          <a:xfrm>
            <a:off x="2021040" y="2523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0" name="TextBox 23"/>
          <p:cNvSpPr/>
          <p:nvPr/>
        </p:nvSpPr>
        <p:spPr>
          <a:xfrm>
            <a:off x="97963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Open Sans"/>
              </a:rPr>
              <a:t>Jane Amali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97963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59101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Alex Karn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59101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Rectangle 147"/>
          <p:cNvSpPr/>
          <p:nvPr/>
        </p:nvSpPr>
        <p:spPr>
          <a:xfrm>
            <a:off x="658800" y="3413160"/>
            <a:ext cx="3144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Rectangle 148"/>
          <p:cNvSpPr/>
          <p:nvPr/>
        </p:nvSpPr>
        <p:spPr>
          <a:xfrm>
            <a:off x="453384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149"/>
          <p:cNvSpPr/>
          <p:nvPr/>
        </p:nvSpPr>
        <p:spPr>
          <a:xfrm>
            <a:off x="853920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77" name="Group 167"/>
          <p:cNvGrpSpPr/>
          <p:nvPr/>
        </p:nvGrpSpPr>
        <p:grpSpPr>
          <a:xfrm>
            <a:off x="2127240" y="2916360"/>
            <a:ext cx="1000080" cy="164880"/>
            <a:chOff x="2127240" y="2916360"/>
            <a:chExt cx="1000080" cy="164880"/>
          </a:xfrm>
        </p:grpSpPr>
        <p:sp>
          <p:nvSpPr>
            <p:cNvPr id="1478" name="Freeform 13"/>
            <p:cNvSpPr/>
            <p:nvPr/>
          </p:nvSpPr>
          <p:spPr>
            <a:xfrm>
              <a:off x="21272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9" name="Freeform 13"/>
            <p:cNvSpPr/>
            <p:nvPr/>
          </p:nvSpPr>
          <p:spPr>
            <a:xfrm>
              <a:off x="233352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254016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274680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29534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3" name="Group 168"/>
          <p:cNvGrpSpPr/>
          <p:nvPr/>
        </p:nvGrpSpPr>
        <p:grpSpPr>
          <a:xfrm>
            <a:off x="6039000" y="2916360"/>
            <a:ext cx="1001520" cy="164880"/>
            <a:chOff x="6039000" y="2916360"/>
            <a:chExt cx="1001520" cy="164880"/>
          </a:xfrm>
        </p:grpSpPr>
        <p:sp>
          <p:nvSpPr>
            <p:cNvPr id="1484" name="Freeform 13"/>
            <p:cNvSpPr/>
            <p:nvPr/>
          </p:nvSpPr>
          <p:spPr>
            <a:xfrm>
              <a:off x="60390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5" name="Freeform 13"/>
            <p:cNvSpPr/>
            <p:nvPr/>
          </p:nvSpPr>
          <p:spPr>
            <a:xfrm>
              <a:off x="6245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6" name="Freeform 13"/>
            <p:cNvSpPr/>
            <p:nvPr/>
          </p:nvSpPr>
          <p:spPr>
            <a:xfrm>
              <a:off x="6452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6659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6866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9" name="Group 174"/>
          <p:cNvGrpSpPr/>
          <p:nvPr/>
        </p:nvGrpSpPr>
        <p:grpSpPr>
          <a:xfrm>
            <a:off x="9869400" y="2916360"/>
            <a:ext cx="1001880" cy="164880"/>
            <a:chOff x="9869400" y="2916360"/>
            <a:chExt cx="1001880" cy="164880"/>
          </a:xfrm>
        </p:grpSpPr>
        <p:sp>
          <p:nvSpPr>
            <p:cNvPr id="1490" name="Freeform 13"/>
            <p:cNvSpPr/>
            <p:nvPr/>
          </p:nvSpPr>
          <p:spPr>
            <a:xfrm>
              <a:off x="98694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1" name="Freeform 13"/>
            <p:cNvSpPr/>
            <p:nvPr/>
          </p:nvSpPr>
          <p:spPr>
            <a:xfrm>
              <a:off x="10076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2" name="Freeform 13"/>
            <p:cNvSpPr/>
            <p:nvPr/>
          </p:nvSpPr>
          <p:spPr>
            <a:xfrm>
              <a:off x="10283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10490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10697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ffab03"/>
            </a:solidFill>
            <a:ln w="9360">
              <a:solidFill>
                <a:srgbClr val="ffab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695160" y="2039760"/>
            <a:ext cx="1260720" cy="1260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549320" y="2039760"/>
            <a:ext cx="1258920" cy="126072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3"/>
          <a:stretch/>
        </p:blipFill>
        <p:spPr>
          <a:xfrm>
            <a:off x="8402400" y="203976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12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CE30-0575-4AA9-96F5-2F3ED087DC86}" type="slidenum">
              <a:rPr b="0" lang="en-US" sz="1000" spc="-1" strike="noStrike">
                <a:solidFill>
                  <a:srgbClr val="ffab0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TextBox 7"/>
          <p:cNvSpPr/>
          <p:nvPr/>
        </p:nvSpPr>
        <p:spPr>
          <a:xfrm>
            <a:off x="1120644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ab03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5" name="Rectangle 15"/>
          <p:cNvSpPr/>
          <p:nvPr/>
        </p:nvSpPr>
        <p:spPr>
          <a:xfrm>
            <a:off x="465120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6" name="Rectangle 16"/>
          <p:cNvSpPr/>
          <p:nvPr/>
        </p:nvSpPr>
        <p:spPr>
          <a:xfrm>
            <a:off x="829152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7" name="Rectangle 17"/>
          <p:cNvSpPr/>
          <p:nvPr/>
        </p:nvSpPr>
        <p:spPr>
          <a:xfrm>
            <a:off x="101124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8" name="TextBox 18"/>
          <p:cNvSpPr/>
          <p:nvPr/>
        </p:nvSpPr>
        <p:spPr>
          <a:xfrm>
            <a:off x="1903680" y="212256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9"/>
          <p:cNvSpPr/>
          <p:nvPr/>
        </p:nvSpPr>
        <p:spPr>
          <a:xfrm>
            <a:off x="169740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20"/>
          <p:cNvSpPr/>
          <p:nvPr/>
        </p:nvSpPr>
        <p:spPr>
          <a:xfrm>
            <a:off x="129060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Straight Connector 21"/>
          <p:cNvSpPr/>
          <p:nvPr/>
        </p:nvSpPr>
        <p:spPr>
          <a:xfrm>
            <a:off x="129060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22"/>
          <p:cNvSpPr/>
          <p:nvPr/>
        </p:nvSpPr>
        <p:spPr>
          <a:xfrm>
            <a:off x="5230080" y="21225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23"/>
          <p:cNvSpPr/>
          <p:nvPr/>
        </p:nvSpPr>
        <p:spPr>
          <a:xfrm>
            <a:off x="533808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Straight Connector 24"/>
          <p:cNvSpPr/>
          <p:nvPr/>
        </p:nvSpPr>
        <p:spPr>
          <a:xfrm>
            <a:off x="4930920" y="3133800"/>
            <a:ext cx="2330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25"/>
          <p:cNvSpPr/>
          <p:nvPr/>
        </p:nvSpPr>
        <p:spPr>
          <a:xfrm>
            <a:off x="8796240" y="21225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6"/>
          <p:cNvSpPr/>
          <p:nvPr/>
        </p:nvSpPr>
        <p:spPr>
          <a:xfrm>
            <a:off x="897912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b03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7" name="Straight Connector 27"/>
          <p:cNvSpPr/>
          <p:nvPr/>
        </p:nvSpPr>
        <p:spPr>
          <a:xfrm>
            <a:off x="857088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8" name="Rectangle 28"/>
          <p:cNvSpPr/>
          <p:nvPr/>
        </p:nvSpPr>
        <p:spPr>
          <a:xfrm>
            <a:off x="5362560" y="5100480"/>
            <a:ext cx="1467000" cy="57636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Rectangle 29"/>
          <p:cNvSpPr/>
          <p:nvPr/>
        </p:nvSpPr>
        <p:spPr>
          <a:xfrm>
            <a:off x="1722600" y="5100480"/>
            <a:ext cx="1466640" cy="57636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Rectangle 30"/>
          <p:cNvSpPr/>
          <p:nvPr/>
        </p:nvSpPr>
        <p:spPr>
          <a:xfrm>
            <a:off x="9002880" y="5100480"/>
            <a:ext cx="1466640" cy="57636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TextBox 31"/>
          <p:cNvSpPr/>
          <p:nvPr/>
        </p:nvSpPr>
        <p:spPr>
          <a:xfrm>
            <a:off x="207288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TextBox 32"/>
          <p:cNvSpPr/>
          <p:nvPr/>
        </p:nvSpPr>
        <p:spPr>
          <a:xfrm>
            <a:off x="571284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TextBox 33"/>
          <p:cNvSpPr/>
          <p:nvPr/>
        </p:nvSpPr>
        <p:spPr>
          <a:xfrm>
            <a:off x="935316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Rectangle 34"/>
          <p:cNvSpPr/>
          <p:nvPr/>
        </p:nvSpPr>
        <p:spPr>
          <a:xfrm>
            <a:off x="5440320" y="1627200"/>
            <a:ext cx="1311480" cy="428760"/>
          </a:xfrm>
          <a:prstGeom prst="rect">
            <a:avLst/>
          </a:prstGeom>
          <a:solidFill>
            <a:srgbClr val="fdb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TextBox 35"/>
          <p:cNvSpPr/>
          <p:nvPr/>
        </p:nvSpPr>
        <p:spPr>
          <a:xfrm>
            <a:off x="5542560" y="169380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TextBox 36"/>
          <p:cNvSpPr/>
          <p:nvPr/>
        </p:nvSpPr>
        <p:spPr>
          <a:xfrm>
            <a:off x="4930920" y="3241800"/>
            <a:ext cx="2330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TextBox 37"/>
          <p:cNvSpPr/>
          <p:nvPr/>
        </p:nvSpPr>
        <p:spPr>
          <a:xfrm>
            <a:off x="857088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f3f3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ab03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0C68-40A0-4857-9202-A6C0165AFD1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6043680" y="201600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Cont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6043680" y="2286000"/>
            <a:ext cx="555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6622920" y="3233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6627960" y="343368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6606000" y="45450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6627960" y="473544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9512280" y="32288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9516960" y="343044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9495360" y="4541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9516960" y="473076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2424240" y="2073240"/>
            <a:ext cx="1672920" cy="12873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45720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893960" y="3381480"/>
            <a:ext cx="2733480" cy="8143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960" rIns="52596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363680" y="4216320"/>
            <a:ext cx="3794040" cy="81612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4320" rIns="72432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833400" y="5051520"/>
            <a:ext cx="4854600" cy="81576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2320" rIns="92232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2587680" y="5291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2587680" y="4478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2587680" y="3630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2587680" y="28908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1553" name="Group 48" descr=""/>
          <p:cNvPicPr/>
          <p:nvPr/>
        </p:nvPicPr>
        <p:blipFill>
          <a:blip r:embed="rId1"/>
          <a:stretch/>
        </p:blipFill>
        <p:spPr>
          <a:xfrm>
            <a:off x="9004320" y="3359160"/>
            <a:ext cx="395280" cy="450720"/>
          </a:xfrm>
          <a:prstGeom prst="rect">
            <a:avLst/>
          </a:prstGeom>
          <a:ln w="0">
            <a:noFill/>
          </a:ln>
        </p:spPr>
      </p:pic>
      <p:pic>
        <p:nvPicPr>
          <p:cNvPr id="1554" name="Group 51" descr=""/>
          <p:cNvPicPr/>
          <p:nvPr/>
        </p:nvPicPr>
        <p:blipFill>
          <a:blip r:embed="rId2"/>
          <a:stretch/>
        </p:blipFill>
        <p:spPr>
          <a:xfrm>
            <a:off x="6181560" y="4773600"/>
            <a:ext cx="371520" cy="341280"/>
          </a:xfrm>
          <a:prstGeom prst="rect">
            <a:avLst/>
          </a:prstGeom>
          <a:ln w="0">
            <a:noFill/>
          </a:ln>
        </p:spPr>
      </p:pic>
      <p:sp>
        <p:nvSpPr>
          <p:cNvPr id="1555" name="Freeform 81"/>
          <p:cNvSpPr/>
          <p:nvPr/>
        </p:nvSpPr>
        <p:spPr>
          <a:xfrm>
            <a:off x="6186600" y="3409920"/>
            <a:ext cx="360360" cy="3492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6" name="Group 55" descr=""/>
          <p:cNvPicPr/>
          <p:nvPr/>
        </p:nvPicPr>
        <p:blipFill>
          <a:blip r:embed="rId3"/>
          <a:stretch/>
        </p:blipFill>
        <p:spPr>
          <a:xfrm>
            <a:off x="8985240" y="4730760"/>
            <a:ext cx="433440" cy="4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804F-E588-44D6-BCFC-087A82350EE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Freeform: Shape 5"/>
          <p:cNvSpPr/>
          <p:nvPr/>
        </p:nvSpPr>
        <p:spPr>
          <a:xfrm rot="5400000">
            <a:off x="720468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Freeform: Shape 6"/>
          <p:cNvSpPr/>
          <p:nvPr/>
        </p:nvSpPr>
        <p:spPr>
          <a:xfrm rot="7200000">
            <a:off x="7198200" y="4491720"/>
            <a:ext cx="27432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2" name="Freeform: Shape 7"/>
          <p:cNvSpPr/>
          <p:nvPr/>
        </p:nvSpPr>
        <p:spPr>
          <a:xfrm rot="5400000">
            <a:off x="64314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3" name="Freeform: Shape 8"/>
          <p:cNvSpPr/>
          <p:nvPr/>
        </p:nvSpPr>
        <p:spPr>
          <a:xfrm rot="10800000">
            <a:off x="6043320" y="516708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4" name="Freeform: Shape 9"/>
          <p:cNvSpPr/>
          <p:nvPr/>
        </p:nvSpPr>
        <p:spPr>
          <a:xfrm rot="5400000">
            <a:off x="48870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5" name="Freeform: Shape 10"/>
          <p:cNvSpPr/>
          <p:nvPr/>
        </p:nvSpPr>
        <p:spPr>
          <a:xfrm rot="3600000">
            <a:off x="4881960" y="450432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6" name="Freeform: Shape 11"/>
          <p:cNvSpPr/>
          <p:nvPr/>
        </p:nvSpPr>
        <p:spPr>
          <a:xfrm rot="5400000">
            <a:off x="411552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7" name="Freeform: Shape 12"/>
          <p:cNvSpPr/>
          <p:nvPr/>
        </p:nvSpPr>
        <p:spPr>
          <a:xfrm rot="7200000">
            <a:off x="4873320" y="3166920"/>
            <a:ext cx="27468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429496704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8" name="Freeform: Shape 13"/>
          <p:cNvSpPr/>
          <p:nvPr/>
        </p:nvSpPr>
        <p:spPr>
          <a:xfrm rot="5400000">
            <a:off x="48877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9" name="Freeform: Shape 14"/>
          <p:cNvSpPr/>
          <p:nvPr/>
        </p:nvSpPr>
        <p:spPr>
          <a:xfrm>
            <a:off x="6029280" y="249084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0" name="Freeform: Shape 15"/>
          <p:cNvSpPr/>
          <p:nvPr/>
        </p:nvSpPr>
        <p:spPr>
          <a:xfrm rot="5400000">
            <a:off x="64321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1" name="Freeform: Shape 16"/>
          <p:cNvSpPr/>
          <p:nvPr/>
        </p:nvSpPr>
        <p:spPr>
          <a:xfrm rot="3600000">
            <a:off x="7190280" y="315360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itle 1"/>
          <p:cNvSpPr/>
          <p:nvPr/>
        </p:nvSpPr>
        <p:spPr>
          <a:xfrm>
            <a:off x="77360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Details 1"/>
          <p:cNvSpPr/>
          <p:nvPr/>
        </p:nvSpPr>
        <p:spPr>
          <a:xfrm>
            <a:off x="7736040" y="22334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4" name="Title 1"/>
          <p:cNvSpPr/>
          <p:nvPr/>
        </p:nvSpPr>
        <p:spPr>
          <a:xfrm>
            <a:off x="83264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5" name="Details 1"/>
          <p:cNvSpPr/>
          <p:nvPr/>
        </p:nvSpPr>
        <p:spPr>
          <a:xfrm>
            <a:off x="8326440" y="38210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6" name="Title 1"/>
          <p:cNvSpPr/>
          <p:nvPr/>
        </p:nvSpPr>
        <p:spPr>
          <a:xfrm>
            <a:off x="7736040" y="51577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7" name="Details 1"/>
          <p:cNvSpPr/>
          <p:nvPr/>
        </p:nvSpPr>
        <p:spPr>
          <a:xfrm>
            <a:off x="773604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8" name="Title 1"/>
          <p:cNvSpPr/>
          <p:nvPr/>
        </p:nvSpPr>
        <p:spPr>
          <a:xfrm>
            <a:off x="19796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Details 1"/>
          <p:cNvSpPr/>
          <p:nvPr/>
        </p:nvSpPr>
        <p:spPr>
          <a:xfrm>
            <a:off x="1728720" y="223200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itle 1"/>
          <p:cNvSpPr/>
          <p:nvPr/>
        </p:nvSpPr>
        <p:spPr>
          <a:xfrm>
            <a:off x="11462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Details 1"/>
          <p:cNvSpPr/>
          <p:nvPr/>
        </p:nvSpPr>
        <p:spPr>
          <a:xfrm>
            <a:off x="896760" y="3819600"/>
            <a:ext cx="29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Title 1"/>
          <p:cNvSpPr/>
          <p:nvPr/>
        </p:nvSpPr>
        <p:spPr>
          <a:xfrm>
            <a:off x="1979640" y="51562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Details 1"/>
          <p:cNvSpPr/>
          <p:nvPr/>
        </p:nvSpPr>
        <p:spPr>
          <a:xfrm>
            <a:off x="172872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4" name="Group 31" descr=""/>
          <p:cNvPicPr/>
          <p:nvPr/>
        </p:nvPicPr>
        <p:blipFill>
          <a:blip r:embed="rId1"/>
          <a:stretch/>
        </p:blipFill>
        <p:spPr>
          <a:xfrm>
            <a:off x="5162400" y="517536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34" descr=""/>
          <p:cNvPicPr/>
          <p:nvPr/>
        </p:nvPicPr>
        <p:blipFill>
          <a:blip r:embed="rId2"/>
          <a:stretch/>
        </p:blipFill>
        <p:spPr>
          <a:xfrm>
            <a:off x="5194440" y="2462040"/>
            <a:ext cx="420480" cy="403560"/>
          </a:xfrm>
          <a:prstGeom prst="rect">
            <a:avLst/>
          </a:prstGeom>
          <a:ln w="0">
            <a:noFill/>
          </a:ln>
        </p:spPr>
      </p:pic>
      <p:pic>
        <p:nvPicPr>
          <p:cNvPr id="1586" name="Group 42" descr=""/>
          <p:cNvPicPr/>
          <p:nvPr/>
        </p:nvPicPr>
        <p:blipFill>
          <a:blip r:embed="rId3"/>
          <a:stretch/>
        </p:blipFill>
        <p:spPr>
          <a:xfrm>
            <a:off x="4462560" y="3797280"/>
            <a:ext cx="328680" cy="40968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1"/>
          <p:cNvSpPr/>
          <p:nvPr/>
        </p:nvSpPr>
        <p:spPr>
          <a:xfrm>
            <a:off x="6748560" y="2467080"/>
            <a:ext cx="393480" cy="395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8" name="Group 46" descr=""/>
          <p:cNvPicPr/>
          <p:nvPr/>
        </p:nvPicPr>
        <p:blipFill>
          <a:blip r:embed="rId4"/>
          <a:stretch/>
        </p:blipFill>
        <p:spPr>
          <a:xfrm>
            <a:off x="6705720" y="5175360"/>
            <a:ext cx="480960" cy="330120"/>
          </a:xfrm>
          <a:prstGeom prst="rect">
            <a:avLst/>
          </a:prstGeom>
          <a:ln w="0">
            <a:noFill/>
          </a:ln>
        </p:spPr>
      </p:pic>
      <p:sp>
        <p:nvSpPr>
          <p:cNvPr id="1589" name="Freeform 45"/>
          <p:cNvSpPr/>
          <p:nvPr/>
        </p:nvSpPr>
        <p:spPr>
          <a:xfrm>
            <a:off x="7537320" y="3807000"/>
            <a:ext cx="360360" cy="3920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768240" y="5718240"/>
            <a:ext cx="160560" cy="1602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928800" y="566100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razi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739880" y="5718240"/>
            <a:ext cx="160200" cy="1602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900080" y="5661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US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703600" y="5718240"/>
            <a:ext cx="162000" cy="16020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865600" y="566100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United Kingd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4335480" y="5718240"/>
            <a:ext cx="162000" cy="1602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4497480" y="5661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hi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5276880" y="5713560"/>
            <a:ext cx="160200" cy="16020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5437080" y="56563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549360" y="2041560"/>
            <a:ext cx="6345000" cy="31100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1328760" y="2749680"/>
            <a:ext cx="846000" cy="571320"/>
          </a:xfrm>
          <a:prstGeom prst="pie">
            <a:avLst/>
          </a:prstGeom>
          <a:solidFill>
            <a:srgbClr val="fdb2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2268360" y="3643200"/>
            <a:ext cx="846360" cy="573120"/>
          </a:xfrm>
          <a:prstGeom prst="pie">
            <a:avLst/>
          </a:prstGeom>
          <a:solidFill>
            <a:srgbClr val="ffcd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5556240" y="3925800"/>
            <a:ext cx="846000" cy="573120"/>
          </a:xfrm>
          <a:prstGeom prst="pie">
            <a:avLst/>
          </a:prstGeom>
          <a:solidFill>
            <a:srgbClr val="fd34b6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5043600" y="2736720"/>
            <a:ext cx="847440" cy="573120"/>
          </a:xfrm>
          <a:prstGeom prst="pie">
            <a:avLst/>
          </a:prstGeom>
          <a:solidFill>
            <a:srgbClr val="fd4d8e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3132000" y="2347920"/>
            <a:ext cx="846360" cy="573120"/>
          </a:xfrm>
          <a:prstGeom prst="pie">
            <a:avLst/>
          </a:prstGeom>
          <a:solidFill>
            <a:srgbClr val="fd886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7153200" y="1940040"/>
            <a:ext cx="4340160" cy="39924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7281720" y="3282840"/>
            <a:ext cx="39722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7272720" y="2817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7241400" y="20430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7DE-9878-440F-AE01-6A434F39B60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587520" y="1873080"/>
          <a:ext cx="5114880" cy="23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873080"/>
                    <a:ext cx="5114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6462720" y="1873080"/>
          <a:ext cx="5116680" cy="23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873080"/>
                    <a:ext cx="51166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6095880" y="2011320"/>
            <a:ext cx="0" cy="423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71028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2381400" y="46846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69228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fab03"/>
                </a:solidFill>
                <a:latin typeface="Roboto"/>
              </a:rPr>
              <a:t>$37M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657144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8242200" y="4684680"/>
            <a:ext cx="350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655344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fc7f03"/>
                </a:solidFill>
                <a:latin typeface="Roboto"/>
              </a:rPr>
              <a:t>$3</a:t>
            </a:r>
            <a:r>
              <a:rPr b="1" lang="en-ID" sz="4400" spc="-1" strike="noStrike">
                <a:solidFill>
                  <a:srgbClr val="fc7f03"/>
                </a:solidFill>
                <a:latin typeface="Roboto"/>
              </a:rPr>
              <a:t>9</a:t>
            </a:r>
            <a:r>
              <a:rPr b="1" lang="id-ID" sz="4400" spc="-1" strike="noStrike">
                <a:solidFill>
                  <a:srgbClr val="fc7f03"/>
                </a:solidFill>
                <a:latin typeface="Roboto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90612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92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3457440" y="55213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8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90792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3459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784080" y="5614920"/>
            <a:ext cx="108000" cy="1080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335448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685944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2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9410400" y="5521320"/>
            <a:ext cx="8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21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0,0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6861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941220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6737400" y="5614920"/>
            <a:ext cx="108000" cy="10800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930744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DF6E-C0DC-4AEB-B710-DA0345EABAC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44360" y="5329080"/>
            <a:ext cx="11903040" cy="1379520"/>
          </a:xfrm>
          <a:prstGeom prst="rect">
            <a:avLst/>
          </a:prstGeom>
          <a:ln w="0">
            <a:noFill/>
          </a:ln>
        </p:spPr>
      </p:pic>
      <p:sp>
        <p:nvSpPr>
          <p:cNvPr id="1640" name="Rectangle 34"/>
          <p:cNvSpPr/>
          <p:nvPr/>
        </p:nvSpPr>
        <p:spPr>
          <a:xfrm>
            <a:off x="131760" y="5319720"/>
            <a:ext cx="11928600" cy="137952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CBC-8335-490A-99C4-42FBE054227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44" name="Group 4"/>
          <p:cNvGrpSpPr/>
          <p:nvPr/>
        </p:nvGrpSpPr>
        <p:grpSpPr>
          <a:xfrm>
            <a:off x="131760" y="4183200"/>
            <a:ext cx="2616120" cy="1141200"/>
            <a:chOff x="131760" y="4183200"/>
            <a:chExt cx="2616120" cy="1141200"/>
          </a:xfrm>
        </p:grpSpPr>
        <p:sp>
          <p:nvSpPr>
            <p:cNvPr id="1645" name="Freeform 5"/>
            <p:cNvSpPr/>
            <p:nvPr/>
          </p:nvSpPr>
          <p:spPr>
            <a:xfrm>
              <a:off x="1317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14407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7" name="Group 7"/>
          <p:cNvGrpSpPr/>
          <p:nvPr/>
        </p:nvGrpSpPr>
        <p:grpSpPr>
          <a:xfrm>
            <a:off x="1455840" y="3246480"/>
            <a:ext cx="2620800" cy="2077920"/>
            <a:chOff x="1455840" y="3246480"/>
            <a:chExt cx="2620800" cy="2077920"/>
          </a:xfrm>
        </p:grpSpPr>
        <p:sp>
          <p:nvSpPr>
            <p:cNvPr id="1648" name="Freeform 7"/>
            <p:cNvSpPr/>
            <p:nvPr/>
          </p:nvSpPr>
          <p:spPr>
            <a:xfrm>
              <a:off x="1455840" y="3246480"/>
              <a:ext cx="1311840" cy="207792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9" name="Freeform 8"/>
            <p:cNvSpPr/>
            <p:nvPr/>
          </p:nvSpPr>
          <p:spPr>
            <a:xfrm>
              <a:off x="2767680" y="3246480"/>
              <a:ext cx="1308960" cy="207792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0" name="Group 10"/>
          <p:cNvGrpSpPr/>
          <p:nvPr/>
        </p:nvGrpSpPr>
        <p:grpSpPr>
          <a:xfrm>
            <a:off x="2774880" y="2646360"/>
            <a:ext cx="2616120" cy="2678040"/>
            <a:chOff x="2774880" y="2646360"/>
            <a:chExt cx="2616120" cy="2678040"/>
          </a:xfrm>
        </p:grpSpPr>
        <p:sp>
          <p:nvSpPr>
            <p:cNvPr id="1651" name="Freeform 9"/>
            <p:cNvSpPr/>
            <p:nvPr/>
          </p:nvSpPr>
          <p:spPr>
            <a:xfrm>
              <a:off x="2774880" y="2646360"/>
              <a:ext cx="13089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fc39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4083840" y="2646360"/>
              <a:ext cx="13071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8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3" name="Group 13"/>
          <p:cNvGrpSpPr/>
          <p:nvPr/>
        </p:nvGrpSpPr>
        <p:grpSpPr>
          <a:xfrm>
            <a:off x="4103640" y="3713040"/>
            <a:ext cx="2614680" cy="1611360"/>
            <a:chOff x="4103640" y="3713040"/>
            <a:chExt cx="2614680" cy="1611360"/>
          </a:xfrm>
        </p:grpSpPr>
        <p:sp>
          <p:nvSpPr>
            <p:cNvPr id="1654" name="Freeform 11"/>
            <p:cNvSpPr/>
            <p:nvPr/>
          </p:nvSpPr>
          <p:spPr>
            <a:xfrm>
              <a:off x="4103640" y="3713040"/>
              <a:ext cx="13064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5" name="Freeform 12"/>
            <p:cNvSpPr/>
            <p:nvPr/>
          </p:nvSpPr>
          <p:spPr>
            <a:xfrm>
              <a:off x="5410080" y="3713040"/>
              <a:ext cx="13082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6" name="Group 16"/>
          <p:cNvGrpSpPr/>
          <p:nvPr/>
        </p:nvGrpSpPr>
        <p:grpSpPr>
          <a:xfrm>
            <a:off x="5418000" y="2879640"/>
            <a:ext cx="2621160" cy="2444760"/>
            <a:chOff x="5418000" y="2879640"/>
            <a:chExt cx="2621160" cy="2444760"/>
          </a:xfrm>
        </p:grpSpPr>
        <p:sp>
          <p:nvSpPr>
            <p:cNvPr id="1657" name="Freeform 13"/>
            <p:cNvSpPr/>
            <p:nvPr/>
          </p:nvSpPr>
          <p:spPr>
            <a:xfrm>
              <a:off x="6730200" y="2879640"/>
              <a:ext cx="1308960" cy="244476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fd34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8" name="Freeform 14"/>
            <p:cNvSpPr/>
            <p:nvPr/>
          </p:nvSpPr>
          <p:spPr>
            <a:xfrm>
              <a:off x="5418000" y="2879640"/>
              <a:ext cx="1312200" cy="244476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a6026c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9" name="Group 19"/>
          <p:cNvGrpSpPr/>
          <p:nvPr/>
        </p:nvGrpSpPr>
        <p:grpSpPr>
          <a:xfrm>
            <a:off x="6746760" y="4746600"/>
            <a:ext cx="2614680" cy="577800"/>
            <a:chOff x="6746760" y="4746600"/>
            <a:chExt cx="2614680" cy="577800"/>
          </a:xfrm>
        </p:grpSpPr>
        <p:sp>
          <p:nvSpPr>
            <p:cNvPr id="1660" name="Freeform 15"/>
            <p:cNvSpPr/>
            <p:nvPr/>
          </p:nvSpPr>
          <p:spPr>
            <a:xfrm>
              <a:off x="6746760" y="4746600"/>
              <a:ext cx="13064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ffab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8053200" y="4746600"/>
              <a:ext cx="13082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ffcd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2" name="Group 22"/>
          <p:cNvGrpSpPr/>
          <p:nvPr/>
        </p:nvGrpSpPr>
        <p:grpSpPr>
          <a:xfrm>
            <a:off x="8120160" y="4183200"/>
            <a:ext cx="2616120" cy="1141200"/>
            <a:chOff x="8120160" y="4183200"/>
            <a:chExt cx="2616120" cy="1141200"/>
          </a:xfrm>
        </p:grpSpPr>
        <p:sp>
          <p:nvSpPr>
            <p:cNvPr id="1663" name="Freeform 5"/>
            <p:cNvSpPr/>
            <p:nvPr/>
          </p:nvSpPr>
          <p:spPr>
            <a:xfrm>
              <a:off x="81201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fc7f03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94291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fdb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5" name="Group 25"/>
          <p:cNvGrpSpPr/>
          <p:nvPr/>
        </p:nvGrpSpPr>
        <p:grpSpPr>
          <a:xfrm>
            <a:off x="9443880" y="2324160"/>
            <a:ext cx="2616480" cy="3000240"/>
            <a:chOff x="9443880" y="2324160"/>
            <a:chExt cx="2616480" cy="3000240"/>
          </a:xfrm>
        </p:grpSpPr>
        <p:sp>
          <p:nvSpPr>
            <p:cNvPr id="1666" name="Freeform 9"/>
            <p:cNvSpPr/>
            <p:nvPr/>
          </p:nvSpPr>
          <p:spPr>
            <a:xfrm>
              <a:off x="9443880" y="2324160"/>
              <a:ext cx="130896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d1024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7" name="Freeform 10"/>
            <p:cNvSpPr/>
            <p:nvPr/>
          </p:nvSpPr>
          <p:spPr>
            <a:xfrm>
              <a:off x="10752840" y="2324160"/>
              <a:ext cx="130752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fd4d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68" name="TextBox 45"/>
          <p:cNvSpPr/>
          <p:nvPr/>
        </p:nvSpPr>
        <p:spPr>
          <a:xfrm>
            <a:off x="801000" y="5487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TextBox 46"/>
          <p:cNvSpPr/>
          <p:nvPr/>
        </p:nvSpPr>
        <p:spPr>
          <a:xfrm>
            <a:off x="2285640" y="5487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0" name="TextBox 47"/>
          <p:cNvSpPr/>
          <p:nvPr/>
        </p:nvSpPr>
        <p:spPr>
          <a:xfrm>
            <a:off x="3557880" y="548784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extBox 48"/>
          <p:cNvSpPr/>
          <p:nvPr/>
        </p:nvSpPr>
        <p:spPr>
          <a:xfrm>
            <a:off x="4967280" y="54878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extBox 49"/>
          <p:cNvSpPr/>
          <p:nvPr/>
        </p:nvSpPr>
        <p:spPr>
          <a:xfrm>
            <a:off x="6265080" y="54878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50"/>
          <p:cNvSpPr/>
          <p:nvPr/>
        </p:nvSpPr>
        <p:spPr>
          <a:xfrm>
            <a:off x="7284960" y="5487840"/>
            <a:ext cx="15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51"/>
          <p:cNvSpPr/>
          <p:nvPr/>
        </p:nvSpPr>
        <p:spPr>
          <a:xfrm>
            <a:off x="9013680" y="5487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52"/>
          <p:cNvSpPr/>
          <p:nvPr/>
        </p:nvSpPr>
        <p:spPr>
          <a:xfrm>
            <a:off x="10300320" y="54878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Straight Connector 35"/>
          <p:cNvSpPr/>
          <p:nvPr/>
        </p:nvSpPr>
        <p:spPr>
          <a:xfrm>
            <a:off x="1441440" y="353700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Straight Connector 36"/>
          <p:cNvSpPr/>
          <p:nvPr/>
        </p:nvSpPr>
        <p:spPr>
          <a:xfrm>
            <a:off x="2774880" y="272556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Straight Connector 37"/>
          <p:cNvSpPr/>
          <p:nvPr/>
        </p:nvSpPr>
        <p:spPr>
          <a:xfrm>
            <a:off x="4083120" y="212868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Straight Connector 38"/>
          <p:cNvSpPr/>
          <p:nvPr/>
        </p:nvSpPr>
        <p:spPr>
          <a:xfrm>
            <a:off x="5405400" y="322416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Straight Connector 39"/>
          <p:cNvSpPr/>
          <p:nvPr/>
        </p:nvSpPr>
        <p:spPr>
          <a:xfrm>
            <a:off x="6713640" y="236700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Straight Connector 40"/>
          <p:cNvSpPr/>
          <p:nvPr/>
        </p:nvSpPr>
        <p:spPr>
          <a:xfrm>
            <a:off x="8047080" y="424980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Straight Connector 41"/>
          <p:cNvSpPr/>
          <p:nvPr/>
        </p:nvSpPr>
        <p:spPr>
          <a:xfrm>
            <a:off x="9429840" y="363852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Straight Connector 42"/>
          <p:cNvSpPr/>
          <p:nvPr/>
        </p:nvSpPr>
        <p:spPr>
          <a:xfrm>
            <a:off x="10763280" y="178596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55"/>
          <p:cNvSpPr/>
          <p:nvPr/>
        </p:nvSpPr>
        <p:spPr>
          <a:xfrm>
            <a:off x="1125000" y="3139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ab03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TextBox 56"/>
          <p:cNvSpPr/>
          <p:nvPr/>
        </p:nvSpPr>
        <p:spPr>
          <a:xfrm>
            <a:off x="2450520" y="23288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c7f03"/>
                </a:solidFill>
                <a:latin typeface="Open Sans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57"/>
          <p:cNvSpPr/>
          <p:nvPr/>
        </p:nvSpPr>
        <p:spPr>
          <a:xfrm>
            <a:off x="375444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c3903"/>
                </a:solidFill>
                <a:latin typeface="Open Sans"/>
              </a:rPr>
              <a:t>8</a:t>
            </a:r>
            <a:r>
              <a:rPr b="1" lang="id-ID" sz="1800" spc="-1" strike="noStrike">
                <a:solidFill>
                  <a:srgbClr val="fc3903"/>
                </a:solidFill>
                <a:latin typeface="Open Sans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58"/>
          <p:cNvSpPr/>
          <p:nvPr/>
        </p:nvSpPr>
        <p:spPr>
          <a:xfrm>
            <a:off x="5083920" y="28274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d1024e"/>
                </a:solidFill>
                <a:latin typeface="Open Sans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59"/>
          <p:cNvSpPr/>
          <p:nvPr/>
        </p:nvSpPr>
        <p:spPr>
          <a:xfrm>
            <a:off x="6409800" y="196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a6026c"/>
                </a:solidFill>
                <a:latin typeface="Open Sans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60"/>
          <p:cNvSpPr/>
          <p:nvPr/>
        </p:nvSpPr>
        <p:spPr>
          <a:xfrm>
            <a:off x="7725600" y="3852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ab03"/>
                </a:solidFill>
                <a:latin typeface="Open Sans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61"/>
          <p:cNvSpPr/>
          <p:nvPr/>
        </p:nvSpPr>
        <p:spPr>
          <a:xfrm>
            <a:off x="9100440" y="324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c7f03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TextBox 62"/>
          <p:cNvSpPr/>
          <p:nvPr/>
        </p:nvSpPr>
        <p:spPr>
          <a:xfrm>
            <a:off x="10443600" y="1380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d1024e"/>
                </a:solidFill>
                <a:latin typeface="Open Sans"/>
              </a:rPr>
              <a:t>9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144360" y="2082960"/>
            <a:ext cx="7150320" cy="3525840"/>
          </a:xfrm>
          <a:prstGeom prst="rect">
            <a:avLst/>
          </a:prstGeom>
          <a:ln w="0">
            <a:noFill/>
          </a:ln>
        </p:spPr>
      </p:pic>
      <p:sp>
        <p:nvSpPr>
          <p:cNvPr id="169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412C-EEBE-4FA7-AB8E-736465D4F22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8178120" y="2095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extBox 6"/>
          <p:cNvSpPr/>
          <p:nvPr/>
        </p:nvSpPr>
        <p:spPr>
          <a:xfrm>
            <a:off x="8201160" y="2335320"/>
            <a:ext cx="33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Indonesia 30925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8180280" y="290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h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TextBox 8"/>
          <p:cNvSpPr/>
          <p:nvPr/>
        </p:nvSpPr>
        <p:spPr>
          <a:xfrm>
            <a:off x="8201160" y="314316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547-999-317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8188200" y="36115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E-mai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10"/>
          <p:cNvSpPr/>
          <p:nvPr/>
        </p:nvSpPr>
        <p:spPr>
          <a:xfrm>
            <a:off x="8201160" y="386064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@project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8171640" y="43308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Websit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extBox 12"/>
          <p:cNvSpPr/>
          <p:nvPr/>
        </p:nvSpPr>
        <p:spPr>
          <a:xfrm>
            <a:off x="8201160" y="459108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www.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sho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Rectangle 13"/>
          <p:cNvSpPr/>
          <p:nvPr/>
        </p:nvSpPr>
        <p:spPr>
          <a:xfrm>
            <a:off x="8194320" y="5032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Fax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01160" y="529272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+62 875 299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16"/>
          <p:cNvSpPr/>
          <p:nvPr/>
        </p:nvSpPr>
        <p:spPr>
          <a:xfrm>
            <a:off x="7311960" y="4208400"/>
            <a:ext cx="706680" cy="70812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 171"/>
          <p:cNvSpPr/>
          <p:nvPr/>
        </p:nvSpPr>
        <p:spPr>
          <a:xfrm>
            <a:off x="7472520" y="4384800"/>
            <a:ext cx="357120" cy="35532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19"/>
          <p:cNvSpPr/>
          <p:nvPr/>
        </p:nvSpPr>
        <p:spPr>
          <a:xfrm>
            <a:off x="7311960" y="2087640"/>
            <a:ext cx="706680" cy="70632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09" name="Group 20" descr=""/>
          <p:cNvPicPr/>
          <p:nvPr/>
        </p:nvPicPr>
        <p:blipFill>
          <a:blip r:embed="rId2"/>
          <a:stretch/>
        </p:blipFill>
        <p:spPr>
          <a:xfrm>
            <a:off x="7461360" y="2225520"/>
            <a:ext cx="377640" cy="37800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25"/>
          <p:cNvSpPr/>
          <p:nvPr/>
        </p:nvSpPr>
        <p:spPr>
          <a:xfrm>
            <a:off x="7311960" y="2793960"/>
            <a:ext cx="706680" cy="70812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1" name="Group 26" descr=""/>
          <p:cNvPicPr/>
          <p:nvPr/>
        </p:nvPicPr>
        <p:blipFill>
          <a:blip r:embed="rId3"/>
          <a:stretch/>
        </p:blipFill>
        <p:spPr>
          <a:xfrm>
            <a:off x="7534440" y="2968560"/>
            <a:ext cx="237960" cy="37800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32"/>
          <p:cNvSpPr/>
          <p:nvPr/>
        </p:nvSpPr>
        <p:spPr>
          <a:xfrm>
            <a:off x="7311960" y="3502080"/>
            <a:ext cx="706680" cy="70632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Freeform 199"/>
          <p:cNvSpPr/>
          <p:nvPr/>
        </p:nvSpPr>
        <p:spPr>
          <a:xfrm>
            <a:off x="7485120" y="3759120"/>
            <a:ext cx="331560" cy="24768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7311960" y="4911840"/>
            <a:ext cx="706680" cy="70632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Freeform 71"/>
          <p:cNvSpPr/>
          <p:nvPr/>
        </p:nvSpPr>
        <p:spPr>
          <a:xfrm>
            <a:off x="7499520" y="5118120"/>
            <a:ext cx="303120" cy="325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6" name="Group 40" descr=""/>
          <p:cNvPicPr/>
          <p:nvPr/>
        </p:nvPicPr>
        <p:blipFill>
          <a:blip r:embed="rId4"/>
          <a:stretch/>
        </p:blipFill>
        <p:spPr>
          <a:xfrm>
            <a:off x="1682640" y="3316320"/>
            <a:ext cx="480960" cy="63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5EA3-F4CE-41CE-9FFB-CE7BE26CDB2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695160" y="4348080"/>
            <a:ext cx="510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6095880" y="4411800"/>
            <a:ext cx="0" cy="189684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6392880" y="4348080"/>
            <a:ext cx="509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9840" y="1658880"/>
            <a:ext cx="10791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ab0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Rectangle 1"/>
          <p:cNvSpPr/>
          <p:nvPr/>
        </p:nvSpPr>
        <p:spPr>
          <a:xfrm>
            <a:off x="914400" y="141120"/>
            <a:ext cx="10363320" cy="194472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23"/>
          <p:cNvSpPr/>
          <p:nvPr/>
        </p:nvSpPr>
        <p:spPr>
          <a:xfrm>
            <a:off x="2036880" y="328680"/>
            <a:ext cx="81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6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2"/>
          <p:cNvSpPr/>
          <p:nvPr/>
        </p:nvSpPr>
        <p:spPr>
          <a:xfrm>
            <a:off x="7648560" y="4780080"/>
            <a:ext cx="40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14"/>
          <p:cNvSpPr/>
          <p:nvPr/>
        </p:nvSpPr>
        <p:spPr>
          <a:xfrm>
            <a:off x="7648560" y="5492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15"/>
          <p:cNvSpPr/>
          <p:nvPr/>
        </p:nvSpPr>
        <p:spPr>
          <a:xfrm>
            <a:off x="7648560" y="59482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4" name="Group 16" descr=""/>
          <p:cNvPicPr/>
          <p:nvPr/>
        </p:nvPicPr>
        <p:blipFill>
          <a:blip r:embed="rId2"/>
          <a:stretch/>
        </p:blipFill>
        <p:spPr>
          <a:xfrm>
            <a:off x="7259760" y="5546880"/>
            <a:ext cx="299880" cy="188640"/>
          </a:xfrm>
          <a:prstGeom prst="rect">
            <a:avLst/>
          </a:prstGeom>
          <a:ln w="0">
            <a:noFill/>
          </a:ln>
        </p:spPr>
      </p:pic>
      <p:sp>
        <p:nvSpPr>
          <p:cNvPr id="1725" name="Freeform 165"/>
          <p:cNvSpPr/>
          <p:nvPr/>
        </p:nvSpPr>
        <p:spPr>
          <a:xfrm>
            <a:off x="7256520" y="4919760"/>
            <a:ext cx="304920" cy="3063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6" name="Group 24" descr=""/>
          <p:cNvPicPr/>
          <p:nvPr/>
        </p:nvPicPr>
        <p:blipFill>
          <a:blip r:embed="rId3"/>
          <a:stretch/>
        </p:blipFill>
        <p:spPr>
          <a:xfrm>
            <a:off x="7259760" y="5950080"/>
            <a:ext cx="299880" cy="28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5E37-42BC-4318-9EFD-970F786C674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6095880" y="1663560"/>
            <a:ext cx="5400720" cy="14940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6095880" y="3157560"/>
            <a:ext cx="5400720" cy="14954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6095880" y="4653000"/>
            <a:ext cx="5400720" cy="14936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7232760" y="196776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7232760" y="2188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7232760" y="34376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7232760" y="365796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7232760" y="49640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7232760" y="5185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6303960" y="2004840"/>
            <a:ext cx="809640" cy="811440"/>
            <a:chOff x="6303960" y="2004840"/>
            <a:chExt cx="809640" cy="811440"/>
          </a:xfrm>
        </p:grpSpPr>
        <p:pic>
          <p:nvPicPr>
            <p:cNvPr id="999" name="Oval 20" descr=""/>
            <p:cNvPicPr/>
            <p:nvPr/>
          </p:nvPicPr>
          <p:blipFill>
            <a:blip r:embed="rId2"/>
            <a:stretch/>
          </p:blipFill>
          <p:spPr>
            <a:xfrm>
              <a:off x="6303960" y="2004840"/>
              <a:ext cx="809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419880" y="212400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6303960" y="3498840"/>
            <a:ext cx="809640" cy="811080"/>
            <a:chOff x="6303960" y="3498840"/>
            <a:chExt cx="809640" cy="811080"/>
          </a:xfrm>
        </p:grpSpPr>
        <p:pic>
          <p:nvPicPr>
            <p:cNvPr id="1002" name="Oval 21" descr=""/>
            <p:cNvPicPr/>
            <p:nvPr/>
          </p:nvPicPr>
          <p:blipFill>
            <a:blip r:embed="rId3"/>
            <a:stretch/>
          </p:blipFill>
          <p:spPr>
            <a:xfrm>
              <a:off x="6303960" y="3498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419880" y="3618000"/>
              <a:ext cx="573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6303960" y="4992840"/>
            <a:ext cx="809640" cy="811080"/>
            <a:chOff x="6303960" y="4992840"/>
            <a:chExt cx="809640" cy="811080"/>
          </a:xfrm>
        </p:grpSpPr>
        <p:pic>
          <p:nvPicPr>
            <p:cNvPr id="1005" name="Oval 22" descr=""/>
            <p:cNvPicPr/>
            <p:nvPr/>
          </p:nvPicPr>
          <p:blipFill>
            <a:blip r:embed="rId4"/>
            <a:stretch/>
          </p:blipFill>
          <p:spPr>
            <a:xfrm>
              <a:off x="6303960" y="4992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419880" y="511164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5"/>
          <a:stretch/>
        </p:blipFill>
        <p:spPr>
          <a:xfrm>
            <a:off x="6473880" y="516888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6"/>
          <a:stretch/>
        </p:blipFill>
        <p:spPr>
          <a:xfrm>
            <a:off x="6473880" y="2206800"/>
            <a:ext cx="463320" cy="40788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7"/>
          <a:stretch/>
        </p:blipFill>
        <p:spPr>
          <a:xfrm>
            <a:off x="6546960" y="3706920"/>
            <a:ext cx="31752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8"/>
          <a:stretch/>
        </p:blipFill>
        <p:spPr>
          <a:xfrm>
            <a:off x="695160" y="1658520"/>
            <a:ext cx="540072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144360" y="34290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7"/>
          <p:cNvSpPr/>
          <p:nvPr/>
        </p:nvSpPr>
        <p:spPr>
          <a:xfrm>
            <a:off x="144360" y="3429000"/>
            <a:ext cx="11903040" cy="32796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1C6-DEC9-4AFC-A804-50E34CCFB18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695160" y="1886040"/>
            <a:ext cx="11023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7" name="TextBox 46"/>
          <p:cNvSpPr/>
          <p:nvPr/>
        </p:nvSpPr>
        <p:spPr>
          <a:xfrm>
            <a:off x="1055160" y="50482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8" name="Rectangle 47"/>
          <p:cNvSpPr/>
          <p:nvPr/>
        </p:nvSpPr>
        <p:spPr>
          <a:xfrm>
            <a:off x="512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Straight Connector 48"/>
          <p:cNvSpPr/>
          <p:nvPr/>
        </p:nvSpPr>
        <p:spPr>
          <a:xfrm>
            <a:off x="32083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TextBox 49"/>
          <p:cNvSpPr/>
          <p:nvPr/>
        </p:nvSpPr>
        <p:spPr>
          <a:xfrm>
            <a:off x="4105440" y="50482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34052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2" name="Straight Connector 51"/>
          <p:cNvSpPr/>
          <p:nvPr/>
        </p:nvSpPr>
        <p:spPr>
          <a:xfrm>
            <a:off x="61009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3" name="TextBox 52"/>
          <p:cNvSpPr/>
          <p:nvPr/>
        </p:nvSpPr>
        <p:spPr>
          <a:xfrm>
            <a:off x="6858360" y="50482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62420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Straight Connector 54"/>
          <p:cNvSpPr/>
          <p:nvPr/>
        </p:nvSpPr>
        <p:spPr>
          <a:xfrm>
            <a:off x="89377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TextBox 55"/>
          <p:cNvSpPr/>
          <p:nvPr/>
        </p:nvSpPr>
        <p:spPr>
          <a:xfrm>
            <a:off x="10099080" y="50482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9134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133992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423216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067520" y="4060800"/>
            <a:ext cx="8352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Freeform 5"/>
          <p:cNvSpPr/>
          <p:nvPr/>
        </p:nvSpPr>
        <p:spPr>
          <a:xfrm>
            <a:off x="9960120" y="4060800"/>
            <a:ext cx="83484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Freeform 89"/>
          <p:cNvSpPr/>
          <p:nvPr/>
        </p:nvSpPr>
        <p:spPr>
          <a:xfrm>
            <a:off x="1549440" y="4270320"/>
            <a:ext cx="414360" cy="416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3" name="Freeform 10"/>
          <p:cNvSpPr/>
          <p:nvPr/>
        </p:nvSpPr>
        <p:spPr>
          <a:xfrm>
            <a:off x="4444920" y="4281480"/>
            <a:ext cx="408240" cy="39204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34" name="Group 63" descr=""/>
          <p:cNvPicPr/>
          <p:nvPr/>
        </p:nvPicPr>
        <p:blipFill>
          <a:blip r:embed="rId2"/>
          <a:stretch/>
        </p:blipFill>
        <p:spPr>
          <a:xfrm>
            <a:off x="7302600" y="4322880"/>
            <a:ext cx="366480" cy="309600"/>
          </a:xfrm>
          <a:prstGeom prst="rect">
            <a:avLst/>
          </a:prstGeom>
          <a:ln w="0">
            <a:noFill/>
          </a:ln>
        </p:spPr>
      </p:pic>
      <p:sp>
        <p:nvSpPr>
          <p:cNvPr id="1035" name="Freeform 17"/>
          <p:cNvSpPr/>
          <p:nvPr/>
        </p:nvSpPr>
        <p:spPr>
          <a:xfrm>
            <a:off x="10190160" y="4289400"/>
            <a:ext cx="374760" cy="376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44360" y="2666520"/>
            <a:ext cx="11903040" cy="2251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6"/>
          <p:cNvSpPr/>
          <p:nvPr/>
        </p:nvSpPr>
        <p:spPr>
          <a:xfrm>
            <a:off x="144360" y="2666880"/>
            <a:ext cx="11903040" cy="225108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27A-CFBB-42C1-B9BB-18181F3CE56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695160" y="1743120"/>
            <a:ext cx="110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ab03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Shape 82"/>
          <p:cNvSpPr/>
          <p:nvPr/>
        </p:nvSpPr>
        <p:spPr>
          <a:xfrm>
            <a:off x="70488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Shape 87"/>
          <p:cNvSpPr/>
          <p:nvPr/>
        </p:nvSpPr>
        <p:spPr>
          <a:xfrm>
            <a:off x="359892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Shape 92"/>
          <p:cNvSpPr/>
          <p:nvPr/>
        </p:nvSpPr>
        <p:spPr>
          <a:xfrm>
            <a:off x="648972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11"/>
          <p:cNvSpPr/>
          <p:nvPr/>
        </p:nvSpPr>
        <p:spPr>
          <a:xfrm>
            <a:off x="1176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12"/>
          <p:cNvSpPr/>
          <p:nvPr/>
        </p:nvSpPr>
        <p:spPr>
          <a:xfrm>
            <a:off x="407232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696168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9807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Shape 92"/>
          <p:cNvSpPr/>
          <p:nvPr/>
        </p:nvSpPr>
        <p:spPr>
          <a:xfrm>
            <a:off x="933444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695160" y="5226120"/>
            <a:ext cx="510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Straight Connector 18"/>
          <p:cNvSpPr/>
          <p:nvPr/>
        </p:nvSpPr>
        <p:spPr>
          <a:xfrm>
            <a:off x="6095880" y="5208480"/>
            <a:ext cx="0" cy="106200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2" name="TextBox 19"/>
          <p:cNvSpPr/>
          <p:nvPr/>
        </p:nvSpPr>
        <p:spPr>
          <a:xfrm>
            <a:off x="6392880" y="5226120"/>
            <a:ext cx="5099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62"/>
          <p:cNvGrpSpPr/>
          <p:nvPr/>
        </p:nvGrpSpPr>
        <p:grpSpPr>
          <a:xfrm>
            <a:off x="1434960" y="3973680"/>
            <a:ext cx="99000" cy="756000"/>
            <a:chOff x="1434960" y="3973680"/>
            <a:chExt cx="99000" cy="756000"/>
          </a:xfrm>
        </p:grpSpPr>
        <p:sp>
          <p:nvSpPr>
            <p:cNvPr id="1054" name="Straight Connector 59"/>
            <p:cNvSpPr/>
            <p:nvPr/>
          </p:nvSpPr>
          <p:spPr>
            <a:xfrm>
              <a:off x="143496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55" name="Straight Arrow Connector 61"/>
            <p:cNvCxnSpPr/>
            <p:nvPr/>
          </p:nvCxnSpPr>
          <p:spPr>
            <a:xfrm>
              <a:off x="1434960" y="4728960"/>
              <a:ext cx="9936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F927-736B-44C7-A126-9C49F1AA1F0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Straight Connector 23"/>
          <p:cNvSpPr/>
          <p:nvPr/>
        </p:nvSpPr>
        <p:spPr>
          <a:xfrm>
            <a:off x="1870200" y="3816360"/>
            <a:ext cx="97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1001880" y="3675240"/>
            <a:ext cx="868320" cy="28404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1" name="TextBox 17"/>
          <p:cNvSpPr/>
          <p:nvPr/>
        </p:nvSpPr>
        <p:spPr>
          <a:xfrm>
            <a:off x="1171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2" name="Rectangle 20"/>
          <p:cNvSpPr/>
          <p:nvPr/>
        </p:nvSpPr>
        <p:spPr>
          <a:xfrm>
            <a:off x="2855880" y="3675240"/>
            <a:ext cx="868320" cy="2840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3" name="TextBox 21"/>
          <p:cNvSpPr/>
          <p:nvPr/>
        </p:nvSpPr>
        <p:spPr>
          <a:xfrm>
            <a:off x="3025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4" name="Straight Connector 25"/>
          <p:cNvSpPr/>
          <p:nvPr/>
        </p:nvSpPr>
        <p:spPr>
          <a:xfrm>
            <a:off x="372420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5" name="Rectangle 27"/>
          <p:cNvSpPr/>
          <p:nvPr/>
        </p:nvSpPr>
        <p:spPr>
          <a:xfrm>
            <a:off x="4732200" y="3675240"/>
            <a:ext cx="868680" cy="2840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TextBox 28"/>
          <p:cNvSpPr/>
          <p:nvPr/>
        </p:nvSpPr>
        <p:spPr>
          <a:xfrm>
            <a:off x="49024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Straight Connector 29"/>
          <p:cNvSpPr/>
          <p:nvPr/>
        </p:nvSpPr>
        <p:spPr>
          <a:xfrm>
            <a:off x="5600880" y="3816360"/>
            <a:ext cx="97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6594480" y="3675240"/>
            <a:ext cx="868320" cy="28404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TextBox 32"/>
          <p:cNvSpPr/>
          <p:nvPr/>
        </p:nvSpPr>
        <p:spPr>
          <a:xfrm>
            <a:off x="676440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0" name="Straight Connector 33"/>
          <p:cNvSpPr/>
          <p:nvPr/>
        </p:nvSpPr>
        <p:spPr>
          <a:xfrm>
            <a:off x="746280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Rectangle 35"/>
          <p:cNvSpPr/>
          <p:nvPr/>
        </p:nvSpPr>
        <p:spPr>
          <a:xfrm>
            <a:off x="8448840" y="3675240"/>
            <a:ext cx="868320" cy="28404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TextBox 36"/>
          <p:cNvSpPr/>
          <p:nvPr/>
        </p:nvSpPr>
        <p:spPr>
          <a:xfrm>
            <a:off x="861876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3" name="Straight Connector 38"/>
          <p:cNvSpPr/>
          <p:nvPr/>
        </p:nvSpPr>
        <p:spPr>
          <a:xfrm>
            <a:off x="932976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4" name="Rectangle 40"/>
          <p:cNvSpPr/>
          <p:nvPr/>
        </p:nvSpPr>
        <p:spPr>
          <a:xfrm>
            <a:off x="10321920" y="3675240"/>
            <a:ext cx="868320" cy="28404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5" name="TextBox 41"/>
          <p:cNvSpPr/>
          <p:nvPr/>
        </p:nvSpPr>
        <p:spPr>
          <a:xfrm>
            <a:off x="1049292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TextBox 46"/>
          <p:cNvSpPr/>
          <p:nvPr/>
        </p:nvSpPr>
        <p:spPr>
          <a:xfrm>
            <a:off x="1571760" y="45338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Company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Rectangle 47"/>
          <p:cNvSpPr/>
          <p:nvPr/>
        </p:nvSpPr>
        <p:spPr>
          <a:xfrm>
            <a:off x="1571760" y="480384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1595520" y="22384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Building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9" name="Rectangle 49"/>
          <p:cNvSpPr/>
          <p:nvPr/>
        </p:nvSpPr>
        <p:spPr>
          <a:xfrm>
            <a:off x="528480" y="248616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TextBox 50"/>
          <p:cNvSpPr/>
          <p:nvPr/>
        </p:nvSpPr>
        <p:spPr>
          <a:xfrm>
            <a:off x="5286240" y="453384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Team Member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286240" y="480384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2" name="TextBox 52"/>
          <p:cNvSpPr/>
          <p:nvPr/>
        </p:nvSpPr>
        <p:spPr>
          <a:xfrm>
            <a:off x="5322960" y="22384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Contrac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3" name="Rectangle 53"/>
          <p:cNvSpPr/>
          <p:nvPr/>
        </p:nvSpPr>
        <p:spPr>
          <a:xfrm>
            <a:off x="4255920" y="248616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TextBox 54"/>
          <p:cNvSpPr/>
          <p:nvPr/>
        </p:nvSpPr>
        <p:spPr>
          <a:xfrm>
            <a:off x="9031320" y="45338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Branch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Rectangle 55"/>
          <p:cNvSpPr/>
          <p:nvPr/>
        </p:nvSpPr>
        <p:spPr>
          <a:xfrm>
            <a:off x="9031320" y="475128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6" name="TextBox 56"/>
          <p:cNvSpPr/>
          <p:nvPr/>
        </p:nvSpPr>
        <p:spPr>
          <a:xfrm>
            <a:off x="9047160" y="2184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More Client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7980480" y="243216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88" name="Group 63"/>
          <p:cNvGrpSpPr/>
          <p:nvPr/>
        </p:nvGrpSpPr>
        <p:grpSpPr>
          <a:xfrm>
            <a:off x="5151240" y="3973680"/>
            <a:ext cx="98640" cy="756000"/>
            <a:chOff x="5151240" y="3973680"/>
            <a:chExt cx="98640" cy="756000"/>
          </a:xfrm>
        </p:grpSpPr>
        <p:sp>
          <p:nvSpPr>
            <p:cNvPr id="1089" name="Straight Connector 64"/>
            <p:cNvSpPr/>
            <p:nvPr/>
          </p:nvSpPr>
          <p:spPr>
            <a:xfrm>
              <a:off x="515160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0" name="Straight Arrow Connector 65"/>
            <p:cNvCxnSpPr/>
            <p:nvPr/>
          </p:nvCxnSpPr>
          <p:spPr>
            <a:xfrm>
              <a:off x="5151240" y="472896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1" name="Group 66"/>
          <p:cNvGrpSpPr/>
          <p:nvPr/>
        </p:nvGrpSpPr>
        <p:grpSpPr>
          <a:xfrm>
            <a:off x="8859600" y="3973680"/>
            <a:ext cx="98640" cy="756000"/>
            <a:chOff x="8859600" y="3973680"/>
            <a:chExt cx="98640" cy="756000"/>
          </a:xfrm>
        </p:grpSpPr>
        <p:sp>
          <p:nvSpPr>
            <p:cNvPr id="1092" name="Straight Connector 67"/>
            <p:cNvSpPr/>
            <p:nvPr/>
          </p:nvSpPr>
          <p:spPr>
            <a:xfrm>
              <a:off x="885996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3" name="Straight Arrow Connector 68"/>
            <p:cNvCxnSpPr/>
            <p:nvPr/>
          </p:nvCxnSpPr>
          <p:spPr>
            <a:xfrm>
              <a:off x="8859600" y="472896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4" name="Group 69"/>
          <p:cNvGrpSpPr/>
          <p:nvPr/>
        </p:nvGrpSpPr>
        <p:grpSpPr>
          <a:xfrm>
            <a:off x="10627920" y="2394720"/>
            <a:ext cx="98640" cy="1211760"/>
            <a:chOff x="10627920" y="2394720"/>
            <a:chExt cx="98640" cy="1211760"/>
          </a:xfrm>
        </p:grpSpPr>
        <p:sp>
          <p:nvSpPr>
            <p:cNvPr id="1095" name="Straight Connector 70"/>
            <p:cNvSpPr/>
            <p:nvPr/>
          </p:nvSpPr>
          <p:spPr>
            <a:xfrm flipV="1">
              <a:off x="1072620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6" name="Straight Arrow Connector 71"/>
            <p:cNvCxnSpPr/>
            <p:nvPr/>
          </p:nvCxnSpPr>
          <p:spPr>
            <a:xfrm flipH="1" flipV="1">
              <a:off x="1062792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7" name="Group 72"/>
          <p:cNvGrpSpPr/>
          <p:nvPr/>
        </p:nvGrpSpPr>
        <p:grpSpPr>
          <a:xfrm>
            <a:off x="6911640" y="2394720"/>
            <a:ext cx="98640" cy="1211760"/>
            <a:chOff x="6911640" y="2394720"/>
            <a:chExt cx="98640" cy="1211760"/>
          </a:xfrm>
        </p:grpSpPr>
        <p:sp>
          <p:nvSpPr>
            <p:cNvPr id="1098" name="Straight Connector 73"/>
            <p:cNvSpPr/>
            <p:nvPr/>
          </p:nvSpPr>
          <p:spPr>
            <a:xfrm flipV="1">
              <a:off x="700992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9" name="Straight Arrow Connector 74"/>
            <p:cNvCxnSpPr/>
            <p:nvPr/>
          </p:nvCxnSpPr>
          <p:spPr>
            <a:xfrm flipH="1" flipV="1">
              <a:off x="691164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100" name="Group 75"/>
          <p:cNvGrpSpPr/>
          <p:nvPr/>
        </p:nvGrpSpPr>
        <p:grpSpPr>
          <a:xfrm>
            <a:off x="3173040" y="2394720"/>
            <a:ext cx="98640" cy="1211760"/>
            <a:chOff x="3173040" y="2394720"/>
            <a:chExt cx="98640" cy="1211760"/>
          </a:xfrm>
        </p:grpSpPr>
        <p:sp>
          <p:nvSpPr>
            <p:cNvPr id="1101" name="Straight Connector 76"/>
            <p:cNvSpPr/>
            <p:nvPr/>
          </p:nvSpPr>
          <p:spPr>
            <a:xfrm flipV="1">
              <a:off x="327132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102" name="Straight Arrow Connector 77"/>
            <p:cNvCxnSpPr/>
            <p:nvPr/>
          </p:nvCxnSpPr>
          <p:spPr>
            <a:xfrm flipH="1" flipV="1">
              <a:off x="317304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0096-8E73-41A4-9118-DA5F4C2E0DB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6" name="Round Diagonal Corner Rectangle 8"/>
          <p:cNvSpPr/>
          <p:nvPr/>
        </p:nvSpPr>
        <p:spPr>
          <a:xfrm>
            <a:off x="1066680" y="2260440"/>
            <a:ext cx="824040" cy="822600"/>
          </a:xfrm>
          <a:prstGeom prst="rect">
            <a:avLst/>
          </a:prstGeom>
          <a:solidFill>
            <a:srgbClr val="ffa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7" name="TextBox 6"/>
          <p:cNvSpPr/>
          <p:nvPr/>
        </p:nvSpPr>
        <p:spPr>
          <a:xfrm>
            <a:off x="1970640" y="222084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undle Packe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2023920" y="2438280"/>
            <a:ext cx="3511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9" name="Round Diagonal Corner Rectangle 11"/>
          <p:cNvSpPr/>
          <p:nvPr/>
        </p:nvSpPr>
        <p:spPr>
          <a:xfrm>
            <a:off x="1066680" y="3568680"/>
            <a:ext cx="824040" cy="822240"/>
          </a:xfrm>
          <a:prstGeom prst="rect">
            <a:avLst/>
          </a:prstGeom>
          <a:solidFill>
            <a:srgbClr val="fc7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1985760" y="35290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loud Sour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1" name="Rectangle 10"/>
          <p:cNvSpPr/>
          <p:nvPr/>
        </p:nvSpPr>
        <p:spPr>
          <a:xfrm>
            <a:off x="2023920" y="374652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2" name="Round Diagonal Corner Rectangle 14"/>
          <p:cNvSpPr/>
          <p:nvPr/>
        </p:nvSpPr>
        <p:spPr>
          <a:xfrm>
            <a:off x="1066680" y="4859280"/>
            <a:ext cx="824040" cy="822240"/>
          </a:xfrm>
          <a:prstGeom prst="rect">
            <a:avLst/>
          </a:prstGeom>
          <a:solidFill>
            <a:srgbClr val="fc3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1971720" y="4803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int Desig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202392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5" name="Round Diagonal Corner Rectangle 17"/>
          <p:cNvSpPr/>
          <p:nvPr/>
        </p:nvSpPr>
        <p:spPr>
          <a:xfrm>
            <a:off x="6856560" y="2260440"/>
            <a:ext cx="823680" cy="822600"/>
          </a:xfrm>
          <a:prstGeom prst="rect">
            <a:avLst/>
          </a:prstGeom>
          <a:solidFill>
            <a:srgbClr val="d102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6" name="TextBox 15"/>
          <p:cNvSpPr/>
          <p:nvPr/>
        </p:nvSpPr>
        <p:spPr>
          <a:xfrm>
            <a:off x="7763400" y="22208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hotograph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7" name="Rectangle 16"/>
          <p:cNvSpPr/>
          <p:nvPr/>
        </p:nvSpPr>
        <p:spPr>
          <a:xfrm>
            <a:off x="7823160" y="243828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Round Diagonal Corner Rectangle 20"/>
          <p:cNvSpPr/>
          <p:nvPr/>
        </p:nvSpPr>
        <p:spPr>
          <a:xfrm>
            <a:off x="6856560" y="3568680"/>
            <a:ext cx="823680" cy="822240"/>
          </a:xfrm>
          <a:prstGeom prst="rect">
            <a:avLst/>
          </a:prstGeom>
          <a:solidFill>
            <a:srgbClr val="a602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TextBox 18"/>
          <p:cNvSpPr/>
          <p:nvPr/>
        </p:nvSpPr>
        <p:spPr>
          <a:xfrm>
            <a:off x="7747200" y="35290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eaming medi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0" name="Rectangle 19"/>
          <p:cNvSpPr/>
          <p:nvPr/>
        </p:nvSpPr>
        <p:spPr>
          <a:xfrm>
            <a:off x="7823160" y="3746520"/>
            <a:ext cx="3502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1" name="Round Diagonal Corner Rectangle 23"/>
          <p:cNvSpPr/>
          <p:nvPr/>
        </p:nvSpPr>
        <p:spPr>
          <a:xfrm>
            <a:off x="6856560" y="4859280"/>
            <a:ext cx="823680" cy="822240"/>
          </a:xfrm>
          <a:prstGeom prst="rect">
            <a:avLst/>
          </a:prstGeom>
          <a:solidFill>
            <a:srgbClr val="0f6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TextBox 21"/>
          <p:cNvSpPr/>
          <p:nvPr/>
        </p:nvSpPr>
        <p:spPr>
          <a:xfrm>
            <a:off x="7771680" y="4803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Video Edit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782316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24" name="Group 23" descr=""/>
          <p:cNvPicPr/>
          <p:nvPr/>
        </p:nvPicPr>
        <p:blipFill>
          <a:blip r:embed="rId1"/>
          <a:stretch/>
        </p:blipFill>
        <p:spPr>
          <a:xfrm>
            <a:off x="7053120" y="3816360"/>
            <a:ext cx="433440" cy="32868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1" descr=""/>
          <p:cNvPicPr/>
          <p:nvPr/>
        </p:nvPicPr>
        <p:blipFill>
          <a:blip r:embed="rId2"/>
          <a:stretch/>
        </p:blipFill>
        <p:spPr>
          <a:xfrm>
            <a:off x="1279440" y="5059440"/>
            <a:ext cx="397080" cy="4204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5" descr=""/>
          <p:cNvPicPr/>
          <p:nvPr/>
        </p:nvPicPr>
        <p:blipFill>
          <a:blip r:embed="rId3"/>
          <a:stretch/>
        </p:blipFill>
        <p:spPr>
          <a:xfrm>
            <a:off x="1268280" y="248760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1127" name="Group 38" descr=""/>
          <p:cNvPicPr/>
          <p:nvPr/>
        </p:nvPicPr>
        <p:blipFill>
          <a:blip r:embed="rId4"/>
          <a:stretch/>
        </p:blipFill>
        <p:spPr>
          <a:xfrm>
            <a:off x="7059600" y="2494080"/>
            <a:ext cx="420840" cy="358560"/>
          </a:xfrm>
          <a:prstGeom prst="rect">
            <a:avLst/>
          </a:prstGeom>
          <a:ln w="0">
            <a:noFill/>
          </a:ln>
        </p:spPr>
      </p:pic>
      <p:sp>
        <p:nvSpPr>
          <p:cNvPr id="1128" name="Freeform 22"/>
          <p:cNvSpPr/>
          <p:nvPr/>
        </p:nvSpPr>
        <p:spPr>
          <a:xfrm>
            <a:off x="1268280" y="3827520"/>
            <a:ext cx="422280" cy="3049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9" name="Freeform 136"/>
          <p:cNvSpPr/>
          <p:nvPr/>
        </p:nvSpPr>
        <p:spPr>
          <a:xfrm>
            <a:off x="7018200" y="5099040"/>
            <a:ext cx="498600" cy="3430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Straight Connector 44"/>
          <p:cNvSpPr/>
          <p:nvPr/>
        </p:nvSpPr>
        <p:spPr>
          <a:xfrm>
            <a:off x="6095880" y="2044800"/>
            <a:ext cx="0" cy="3962160"/>
          </a:xfrm>
          <a:prstGeom prst="line">
            <a:avLst/>
          </a:prstGeom>
          <a:ln w="6480">
            <a:solidFill>
              <a:srgbClr val="ffa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144360" y="1849320"/>
            <a:ext cx="11903040" cy="41148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3"/>
          <p:cNvSpPr/>
          <p:nvPr/>
        </p:nvSpPr>
        <p:spPr>
          <a:xfrm>
            <a:off x="144360" y="1844640"/>
            <a:ext cx="11903040" cy="4114800"/>
          </a:xfrm>
          <a:prstGeom prst="rect">
            <a:avLst/>
          </a:prstGeom>
          <a:solidFill>
            <a:srgbClr val="ffab0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1541-696E-4812-9C04-19DE2C13E66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ab03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6036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ab03"/>
                </a:solidFill>
                <a:latin typeface="Roboto"/>
              </a:rPr>
              <a:t>Graphic Desig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473724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ab03"/>
                </a:solidFill>
                <a:latin typeface="Roboto"/>
              </a:rPr>
              <a:t>Online Marketing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827100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ffab03"/>
                </a:solidFill>
                <a:latin typeface="Roboto"/>
              </a:rPr>
              <a:t>Print Desig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Straight Connector 7"/>
          <p:cNvSpPr/>
          <p:nvPr/>
        </p:nvSpPr>
        <p:spPr>
          <a:xfrm>
            <a:off x="434196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Straight Connector 8"/>
          <p:cNvSpPr/>
          <p:nvPr/>
        </p:nvSpPr>
        <p:spPr>
          <a:xfrm>
            <a:off x="785988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1260360" y="2579760"/>
            <a:ext cx="27180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473724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3" name="Text Placeholder 3"/>
          <p:cNvSpPr/>
          <p:nvPr/>
        </p:nvSpPr>
        <p:spPr>
          <a:xfrm>
            <a:off x="827100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7:13Z</dcterms:modified>
  <cp:revision>105</cp:revision>
  <dc:subject/>
  <dc:title>ICONIC</dc:title>
</cp:coreProperties>
</file>