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0" y="1612800"/>
            <a:ext cx="5181480" cy="52452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0" y="0"/>
            <a:ext cx="5181480" cy="6984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1511280" y="685800"/>
            <a:ext cx="3670200" cy="5511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10667880" y="0"/>
            <a:ext cx="152424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7937640" y="0"/>
            <a:ext cx="2730240" cy="25272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"/>
          <p:cNvSpPr/>
          <p:nvPr/>
        </p:nvSpPr>
        <p:spPr>
          <a:xfrm>
            <a:off x="9740880" y="0"/>
            <a:ext cx="2451240" cy="5257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7937640" y="0"/>
            <a:ext cx="425448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1"/>
          <p:cNvGrpSpPr/>
          <p:nvPr/>
        </p:nvGrpSpPr>
        <p:grpSpPr>
          <a:xfrm>
            <a:off x="6091200" y="1562040"/>
            <a:ext cx="4356000" cy="3784680"/>
            <a:chOff x="6091200" y="1562040"/>
            <a:chExt cx="4356000" cy="3784680"/>
          </a:xfrm>
        </p:grpSpPr>
        <p:pic>
          <p:nvPicPr>
            <p:cNvPr id="592" name="Picture 2" descr=""/>
            <p:cNvPicPr/>
            <p:nvPr/>
          </p:nvPicPr>
          <p:blipFill>
            <a:blip r:embed="rId2"/>
            <a:stretch/>
          </p:blipFill>
          <p:spPr>
            <a:xfrm>
              <a:off x="6091200" y="1562040"/>
              <a:ext cx="4356000" cy="37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Freeform: Shape 21"/>
            <p:cNvSpPr/>
            <p:nvPr/>
          </p:nvSpPr>
          <p:spPr>
            <a:xfrm>
              <a:off x="6228360" y="1769760"/>
              <a:ext cx="4081320" cy="2346120"/>
            </a:xfrm>
            <a:custGeom>
              <a:avLst/>
              <a:gdLst/>
              <a:ahLst/>
              <a:rect l="l" t="t" r="r" b="b"/>
              <a:pathLst>
                <a:path w="2426291" h="1394094">
                  <a:moveTo>
                    <a:pt x="0" y="0"/>
                  </a:moveTo>
                  <a:lnTo>
                    <a:pt x="2426291" y="0"/>
                  </a:lnTo>
                  <a:lnTo>
                    <a:pt x="2426291" y="1394094"/>
                  </a:lnTo>
                  <a:lnTo>
                    <a:pt x="0" y="13940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e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594" name="Rectangle 4"/>
          <p:cNvSpPr/>
          <p:nvPr/>
        </p:nvSpPr>
        <p:spPr>
          <a:xfrm>
            <a:off x="10210680" y="5708520"/>
            <a:ext cx="482760" cy="4892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0" y="0"/>
            <a:ext cx="883908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"/>
          <p:cNvSpPr/>
          <p:nvPr/>
        </p:nvSpPr>
        <p:spPr>
          <a:xfrm>
            <a:off x="3352680" y="698400"/>
            <a:ext cx="8839440" cy="61596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"/>
          <p:cNvSpPr/>
          <p:nvPr/>
        </p:nvSpPr>
        <p:spPr>
          <a:xfrm>
            <a:off x="1523880" y="3048120"/>
            <a:ext cx="4572000" cy="26161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"/>
          <p:cNvSpPr/>
          <p:nvPr/>
        </p:nvSpPr>
        <p:spPr>
          <a:xfrm>
            <a:off x="7023240" y="0"/>
            <a:ext cx="516888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1"/>
          <p:cNvSpPr/>
          <p:nvPr/>
        </p:nvSpPr>
        <p:spPr>
          <a:xfrm>
            <a:off x="0" y="0"/>
            <a:ext cx="516888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sefi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ppi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oppi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ppi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oppi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ppi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ppi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ppi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ppi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6095880" y="2527200"/>
            <a:ext cx="6096240" cy="4330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194440" y="2527200"/>
            <a:ext cx="5473440" cy="36576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7924680" y="0"/>
            <a:ext cx="2756160" cy="1612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5181480" y="0"/>
            <a:ext cx="701064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7543800" y="3441600"/>
            <a:ext cx="2209680" cy="27432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7010280" y="0"/>
            <a:ext cx="518184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TextBox 6"/>
          <p:cNvSpPr/>
          <p:nvPr/>
        </p:nvSpPr>
        <p:spPr>
          <a:xfrm>
            <a:off x="6892920" y="2081160"/>
            <a:ext cx="45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Josefin Sans"/>
                <a:ea typeface="Courier New"/>
              </a:rPr>
              <a:t>The Magazine &amp; Catalogue</a:t>
            </a:r>
            <a:endParaRPr b="0" lang="en-US" sz="4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7" name="TextBox 7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858" name="Group 1"/>
          <p:cNvGrpSpPr/>
          <p:nvPr/>
        </p:nvGrpSpPr>
        <p:grpSpPr>
          <a:xfrm>
            <a:off x="10842480" y="439560"/>
            <a:ext cx="765360" cy="258840"/>
            <a:chOff x="10842480" y="439560"/>
            <a:chExt cx="765360" cy="258840"/>
          </a:xfrm>
        </p:grpSpPr>
        <p:sp>
          <p:nvSpPr>
            <p:cNvPr id="859" name="Freeform 1018"/>
            <p:cNvSpPr/>
            <p:nvPr/>
          </p:nvSpPr>
          <p:spPr>
            <a:xfrm>
              <a:off x="10842480" y="439560"/>
              <a:ext cx="249480" cy="258840"/>
            </a:xfrm>
            <a:custGeom>
              <a:avLst/>
              <a:gdLst/>
              <a:ahLst/>
              <a:rect l="l" t="t" r="r" b="b"/>
              <a:pathLst>
                <a:path w="3186" h="3299">
                  <a:moveTo>
                    <a:pt x="1333" y="347"/>
                  </a:moveTo>
                  <a:lnTo>
                    <a:pt x="1252" y="350"/>
                  </a:lnTo>
                  <a:lnTo>
                    <a:pt x="1173" y="361"/>
                  </a:lnTo>
                  <a:lnTo>
                    <a:pt x="1096" y="376"/>
                  </a:lnTo>
                  <a:lnTo>
                    <a:pt x="1022" y="398"/>
                  </a:lnTo>
                  <a:lnTo>
                    <a:pt x="950" y="425"/>
                  </a:lnTo>
                  <a:lnTo>
                    <a:pt x="881" y="458"/>
                  </a:lnTo>
                  <a:lnTo>
                    <a:pt x="815" y="495"/>
                  </a:lnTo>
                  <a:lnTo>
                    <a:pt x="752" y="538"/>
                  </a:lnTo>
                  <a:lnTo>
                    <a:pt x="692" y="584"/>
                  </a:lnTo>
                  <a:lnTo>
                    <a:pt x="636" y="636"/>
                  </a:lnTo>
                  <a:lnTo>
                    <a:pt x="586" y="692"/>
                  </a:lnTo>
                  <a:lnTo>
                    <a:pt x="538" y="750"/>
                  </a:lnTo>
                  <a:lnTo>
                    <a:pt x="496" y="813"/>
                  </a:lnTo>
                  <a:lnTo>
                    <a:pt x="458" y="879"/>
                  </a:lnTo>
                  <a:lnTo>
                    <a:pt x="426" y="949"/>
                  </a:lnTo>
                  <a:lnTo>
                    <a:pt x="398" y="1021"/>
                  </a:lnTo>
                  <a:lnTo>
                    <a:pt x="376" y="1096"/>
                  </a:lnTo>
                  <a:lnTo>
                    <a:pt x="361" y="1172"/>
                  </a:lnTo>
                  <a:lnTo>
                    <a:pt x="352" y="1251"/>
                  </a:lnTo>
                  <a:lnTo>
                    <a:pt x="348" y="1332"/>
                  </a:lnTo>
                  <a:lnTo>
                    <a:pt x="352" y="1412"/>
                  </a:lnTo>
                  <a:lnTo>
                    <a:pt x="361" y="1492"/>
                  </a:lnTo>
                  <a:lnTo>
                    <a:pt x="376" y="1568"/>
                  </a:lnTo>
                  <a:lnTo>
                    <a:pt x="398" y="1642"/>
                  </a:lnTo>
                  <a:lnTo>
                    <a:pt x="426" y="1714"/>
                  </a:lnTo>
                  <a:lnTo>
                    <a:pt x="458" y="1783"/>
                  </a:lnTo>
                  <a:lnTo>
                    <a:pt x="496" y="1849"/>
                  </a:lnTo>
                  <a:lnTo>
                    <a:pt x="538" y="1912"/>
                  </a:lnTo>
                  <a:lnTo>
                    <a:pt x="586" y="1972"/>
                  </a:lnTo>
                  <a:lnTo>
                    <a:pt x="636" y="2028"/>
                  </a:lnTo>
                  <a:lnTo>
                    <a:pt x="692" y="2079"/>
                  </a:lnTo>
                  <a:lnTo>
                    <a:pt x="752" y="2126"/>
                  </a:lnTo>
                  <a:lnTo>
                    <a:pt x="815" y="2169"/>
                  </a:lnTo>
                  <a:lnTo>
                    <a:pt x="881" y="2206"/>
                  </a:lnTo>
                  <a:lnTo>
                    <a:pt x="950" y="2239"/>
                  </a:lnTo>
                  <a:lnTo>
                    <a:pt x="1022" y="2266"/>
                  </a:lnTo>
                  <a:lnTo>
                    <a:pt x="1096" y="2288"/>
                  </a:lnTo>
                  <a:lnTo>
                    <a:pt x="1173" y="2303"/>
                  </a:lnTo>
                  <a:lnTo>
                    <a:pt x="1252" y="2313"/>
                  </a:lnTo>
                  <a:lnTo>
                    <a:pt x="1333" y="2316"/>
                  </a:lnTo>
                  <a:lnTo>
                    <a:pt x="1413" y="2313"/>
                  </a:lnTo>
                  <a:lnTo>
                    <a:pt x="1492" y="2303"/>
                  </a:lnTo>
                  <a:lnTo>
                    <a:pt x="1569" y="2288"/>
                  </a:lnTo>
                  <a:lnTo>
                    <a:pt x="1644" y="2266"/>
                  </a:lnTo>
                  <a:lnTo>
                    <a:pt x="1715" y="2239"/>
                  </a:lnTo>
                  <a:lnTo>
                    <a:pt x="1785" y="2206"/>
                  </a:lnTo>
                  <a:lnTo>
                    <a:pt x="1851" y="2169"/>
                  </a:lnTo>
                  <a:lnTo>
                    <a:pt x="1914" y="2126"/>
                  </a:lnTo>
                  <a:lnTo>
                    <a:pt x="1973" y="2079"/>
                  </a:lnTo>
                  <a:lnTo>
                    <a:pt x="2029" y="2028"/>
                  </a:lnTo>
                  <a:lnTo>
                    <a:pt x="2080" y="1972"/>
                  </a:lnTo>
                  <a:lnTo>
                    <a:pt x="2128" y="1912"/>
                  </a:lnTo>
                  <a:lnTo>
                    <a:pt x="2170" y="1849"/>
                  </a:lnTo>
                  <a:lnTo>
                    <a:pt x="2207" y="1783"/>
                  </a:lnTo>
                  <a:lnTo>
                    <a:pt x="2240" y="1714"/>
                  </a:lnTo>
                  <a:lnTo>
                    <a:pt x="2267" y="1642"/>
                  </a:lnTo>
                  <a:lnTo>
                    <a:pt x="2289" y="1568"/>
                  </a:lnTo>
                  <a:lnTo>
                    <a:pt x="2305" y="1492"/>
                  </a:lnTo>
                  <a:lnTo>
                    <a:pt x="2314" y="1412"/>
                  </a:lnTo>
                  <a:lnTo>
                    <a:pt x="2318" y="1332"/>
                  </a:lnTo>
                  <a:lnTo>
                    <a:pt x="2314" y="1251"/>
                  </a:lnTo>
                  <a:lnTo>
                    <a:pt x="2305" y="1172"/>
                  </a:lnTo>
                  <a:lnTo>
                    <a:pt x="2289" y="1096"/>
                  </a:lnTo>
                  <a:lnTo>
                    <a:pt x="2267" y="1021"/>
                  </a:lnTo>
                  <a:lnTo>
                    <a:pt x="2240" y="949"/>
                  </a:lnTo>
                  <a:lnTo>
                    <a:pt x="2207" y="879"/>
                  </a:lnTo>
                  <a:lnTo>
                    <a:pt x="2170" y="813"/>
                  </a:lnTo>
                  <a:lnTo>
                    <a:pt x="2128" y="750"/>
                  </a:lnTo>
                  <a:lnTo>
                    <a:pt x="2080" y="692"/>
                  </a:lnTo>
                  <a:lnTo>
                    <a:pt x="2029" y="636"/>
                  </a:lnTo>
                  <a:lnTo>
                    <a:pt x="1973" y="584"/>
                  </a:lnTo>
                  <a:lnTo>
                    <a:pt x="1914" y="538"/>
                  </a:lnTo>
                  <a:lnTo>
                    <a:pt x="1851" y="495"/>
                  </a:lnTo>
                  <a:lnTo>
                    <a:pt x="1785" y="458"/>
                  </a:lnTo>
                  <a:lnTo>
                    <a:pt x="1715" y="425"/>
                  </a:lnTo>
                  <a:lnTo>
                    <a:pt x="1644" y="398"/>
                  </a:lnTo>
                  <a:lnTo>
                    <a:pt x="1569" y="376"/>
                  </a:lnTo>
                  <a:lnTo>
                    <a:pt x="1492" y="361"/>
                  </a:lnTo>
                  <a:lnTo>
                    <a:pt x="1413" y="350"/>
                  </a:lnTo>
                  <a:lnTo>
                    <a:pt x="1333" y="347"/>
                  </a:lnTo>
                  <a:close/>
                  <a:moveTo>
                    <a:pt x="1333" y="0"/>
                  </a:moveTo>
                  <a:lnTo>
                    <a:pt x="1423" y="3"/>
                  </a:lnTo>
                  <a:lnTo>
                    <a:pt x="1513" y="12"/>
                  </a:lnTo>
                  <a:lnTo>
                    <a:pt x="1601" y="27"/>
                  </a:lnTo>
                  <a:lnTo>
                    <a:pt x="1686" y="47"/>
                  </a:lnTo>
                  <a:lnTo>
                    <a:pt x="1770" y="73"/>
                  </a:lnTo>
                  <a:lnTo>
                    <a:pt x="1851" y="105"/>
                  </a:lnTo>
                  <a:lnTo>
                    <a:pt x="1930" y="141"/>
                  </a:lnTo>
                  <a:lnTo>
                    <a:pt x="2005" y="182"/>
                  </a:lnTo>
                  <a:lnTo>
                    <a:pt x="2077" y="228"/>
                  </a:lnTo>
                  <a:lnTo>
                    <a:pt x="2146" y="278"/>
                  </a:lnTo>
                  <a:lnTo>
                    <a:pt x="2212" y="332"/>
                  </a:lnTo>
                  <a:lnTo>
                    <a:pt x="2274" y="391"/>
                  </a:lnTo>
                  <a:lnTo>
                    <a:pt x="2333" y="452"/>
                  </a:lnTo>
                  <a:lnTo>
                    <a:pt x="2388" y="518"/>
                  </a:lnTo>
                  <a:lnTo>
                    <a:pt x="2437" y="588"/>
                  </a:lnTo>
                  <a:lnTo>
                    <a:pt x="2484" y="660"/>
                  </a:lnTo>
                  <a:lnTo>
                    <a:pt x="2524" y="736"/>
                  </a:lnTo>
                  <a:lnTo>
                    <a:pt x="2561" y="813"/>
                  </a:lnTo>
                  <a:lnTo>
                    <a:pt x="2592" y="895"/>
                  </a:lnTo>
                  <a:lnTo>
                    <a:pt x="2618" y="978"/>
                  </a:lnTo>
                  <a:lnTo>
                    <a:pt x="2638" y="1064"/>
                  </a:lnTo>
                  <a:lnTo>
                    <a:pt x="2653" y="1151"/>
                  </a:lnTo>
                  <a:lnTo>
                    <a:pt x="2662" y="1241"/>
                  </a:lnTo>
                  <a:lnTo>
                    <a:pt x="2665" y="1332"/>
                  </a:lnTo>
                  <a:lnTo>
                    <a:pt x="2663" y="1417"/>
                  </a:lnTo>
                  <a:lnTo>
                    <a:pt x="2655" y="1502"/>
                  </a:lnTo>
                  <a:lnTo>
                    <a:pt x="2641" y="1585"/>
                  </a:lnTo>
                  <a:lnTo>
                    <a:pt x="2623" y="1667"/>
                  </a:lnTo>
                  <a:lnTo>
                    <a:pt x="2598" y="1748"/>
                  </a:lnTo>
                  <a:lnTo>
                    <a:pt x="2570" y="1827"/>
                  </a:lnTo>
                  <a:lnTo>
                    <a:pt x="2536" y="1904"/>
                  </a:lnTo>
                  <a:lnTo>
                    <a:pt x="2497" y="1979"/>
                  </a:lnTo>
                  <a:lnTo>
                    <a:pt x="2454" y="2051"/>
                  </a:lnTo>
                  <a:lnTo>
                    <a:pt x="2405" y="2122"/>
                  </a:lnTo>
                  <a:lnTo>
                    <a:pt x="2353" y="2189"/>
                  </a:lnTo>
                  <a:lnTo>
                    <a:pt x="3137" y="3004"/>
                  </a:lnTo>
                  <a:lnTo>
                    <a:pt x="3158" y="3029"/>
                  </a:lnTo>
                  <a:lnTo>
                    <a:pt x="3173" y="3056"/>
                  </a:lnTo>
                  <a:lnTo>
                    <a:pt x="3182" y="3084"/>
                  </a:lnTo>
                  <a:lnTo>
                    <a:pt x="3186" y="3113"/>
                  </a:lnTo>
                  <a:lnTo>
                    <a:pt x="3186" y="3143"/>
                  </a:lnTo>
                  <a:lnTo>
                    <a:pt x="3180" y="3172"/>
                  </a:lnTo>
                  <a:lnTo>
                    <a:pt x="3169" y="3200"/>
                  </a:lnTo>
                  <a:lnTo>
                    <a:pt x="3154" y="3227"/>
                  </a:lnTo>
                  <a:lnTo>
                    <a:pt x="3133" y="3250"/>
                  </a:lnTo>
                  <a:lnTo>
                    <a:pt x="3113" y="3267"/>
                  </a:lnTo>
                  <a:lnTo>
                    <a:pt x="3090" y="3280"/>
                  </a:lnTo>
                  <a:lnTo>
                    <a:pt x="3065" y="3291"/>
                  </a:lnTo>
                  <a:lnTo>
                    <a:pt x="3040" y="3297"/>
                  </a:lnTo>
                  <a:lnTo>
                    <a:pt x="3013" y="3299"/>
                  </a:lnTo>
                  <a:lnTo>
                    <a:pt x="2985" y="3297"/>
                  </a:lnTo>
                  <a:lnTo>
                    <a:pt x="2958" y="3290"/>
                  </a:lnTo>
                  <a:lnTo>
                    <a:pt x="2932" y="3279"/>
                  </a:lnTo>
                  <a:lnTo>
                    <a:pt x="2909" y="3264"/>
                  </a:lnTo>
                  <a:lnTo>
                    <a:pt x="2888" y="3245"/>
                  </a:lnTo>
                  <a:lnTo>
                    <a:pt x="2096" y="2423"/>
                  </a:lnTo>
                  <a:lnTo>
                    <a:pt x="2028" y="2468"/>
                  </a:lnTo>
                  <a:lnTo>
                    <a:pt x="1957" y="2508"/>
                  </a:lnTo>
                  <a:lnTo>
                    <a:pt x="1884" y="2544"/>
                  </a:lnTo>
                  <a:lnTo>
                    <a:pt x="1810" y="2576"/>
                  </a:lnTo>
                  <a:lnTo>
                    <a:pt x="1734" y="2602"/>
                  </a:lnTo>
                  <a:lnTo>
                    <a:pt x="1655" y="2625"/>
                  </a:lnTo>
                  <a:lnTo>
                    <a:pt x="1577" y="2641"/>
                  </a:lnTo>
                  <a:lnTo>
                    <a:pt x="1497" y="2653"/>
                  </a:lnTo>
                  <a:lnTo>
                    <a:pt x="1415" y="2661"/>
                  </a:lnTo>
                  <a:lnTo>
                    <a:pt x="1333" y="2664"/>
                  </a:lnTo>
                  <a:lnTo>
                    <a:pt x="1242" y="2661"/>
                  </a:lnTo>
                  <a:lnTo>
                    <a:pt x="1152" y="2651"/>
                  </a:lnTo>
                  <a:lnTo>
                    <a:pt x="1064" y="2637"/>
                  </a:lnTo>
                  <a:lnTo>
                    <a:pt x="979" y="2616"/>
                  </a:lnTo>
                  <a:lnTo>
                    <a:pt x="895" y="2590"/>
                  </a:lnTo>
                  <a:lnTo>
                    <a:pt x="815" y="2559"/>
                  </a:lnTo>
                  <a:lnTo>
                    <a:pt x="736" y="2523"/>
                  </a:lnTo>
                  <a:lnTo>
                    <a:pt x="661" y="2481"/>
                  </a:lnTo>
                  <a:lnTo>
                    <a:pt x="588" y="2436"/>
                  </a:lnTo>
                  <a:lnTo>
                    <a:pt x="519" y="2385"/>
                  </a:lnTo>
                  <a:lnTo>
                    <a:pt x="453" y="2332"/>
                  </a:lnTo>
                  <a:lnTo>
                    <a:pt x="391" y="2273"/>
                  </a:lnTo>
                  <a:lnTo>
                    <a:pt x="333" y="2211"/>
                  </a:lnTo>
                  <a:lnTo>
                    <a:pt x="278" y="2145"/>
                  </a:lnTo>
                  <a:lnTo>
                    <a:pt x="228" y="2076"/>
                  </a:lnTo>
                  <a:lnTo>
                    <a:pt x="183" y="2003"/>
                  </a:lnTo>
                  <a:lnTo>
                    <a:pt x="141" y="1928"/>
                  </a:lnTo>
                  <a:lnTo>
                    <a:pt x="105" y="1849"/>
                  </a:lnTo>
                  <a:lnTo>
                    <a:pt x="74" y="1769"/>
                  </a:lnTo>
                  <a:lnTo>
                    <a:pt x="48" y="1685"/>
                  </a:lnTo>
                  <a:lnTo>
                    <a:pt x="28" y="1600"/>
                  </a:lnTo>
                  <a:lnTo>
                    <a:pt x="12" y="1512"/>
                  </a:lnTo>
                  <a:lnTo>
                    <a:pt x="3" y="1423"/>
                  </a:lnTo>
                  <a:lnTo>
                    <a:pt x="0" y="1332"/>
                  </a:lnTo>
                  <a:lnTo>
                    <a:pt x="3" y="1241"/>
                  </a:lnTo>
                  <a:lnTo>
                    <a:pt x="12" y="1151"/>
                  </a:lnTo>
                  <a:lnTo>
                    <a:pt x="28" y="1064"/>
                  </a:lnTo>
                  <a:lnTo>
                    <a:pt x="48" y="978"/>
                  </a:lnTo>
                  <a:lnTo>
                    <a:pt x="74" y="895"/>
                  </a:lnTo>
                  <a:lnTo>
                    <a:pt x="105" y="813"/>
                  </a:lnTo>
                  <a:lnTo>
                    <a:pt x="141" y="736"/>
                  </a:lnTo>
                  <a:lnTo>
                    <a:pt x="183" y="660"/>
                  </a:lnTo>
                  <a:lnTo>
                    <a:pt x="228" y="588"/>
                  </a:lnTo>
                  <a:lnTo>
                    <a:pt x="278" y="518"/>
                  </a:lnTo>
                  <a:lnTo>
                    <a:pt x="333" y="452"/>
                  </a:lnTo>
                  <a:lnTo>
                    <a:pt x="391" y="391"/>
                  </a:lnTo>
                  <a:lnTo>
                    <a:pt x="453" y="332"/>
                  </a:lnTo>
                  <a:lnTo>
                    <a:pt x="519" y="278"/>
                  </a:lnTo>
                  <a:lnTo>
                    <a:pt x="588" y="228"/>
                  </a:lnTo>
                  <a:lnTo>
                    <a:pt x="661" y="182"/>
                  </a:lnTo>
                  <a:lnTo>
                    <a:pt x="736" y="141"/>
                  </a:lnTo>
                  <a:lnTo>
                    <a:pt x="815" y="105"/>
                  </a:lnTo>
                  <a:lnTo>
                    <a:pt x="895" y="73"/>
                  </a:lnTo>
                  <a:lnTo>
                    <a:pt x="979" y="47"/>
                  </a:lnTo>
                  <a:lnTo>
                    <a:pt x="1064" y="27"/>
                  </a:lnTo>
                  <a:lnTo>
                    <a:pt x="1152" y="12"/>
                  </a:lnTo>
                  <a:lnTo>
                    <a:pt x="1242" y="3"/>
                  </a:lnTo>
                  <a:lnTo>
                    <a:pt x="133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860" name="Freeform 400"/>
            <p:cNvSpPr/>
            <p:nvPr/>
          </p:nvSpPr>
          <p:spPr>
            <a:xfrm>
              <a:off x="11263320" y="439560"/>
              <a:ext cx="294120" cy="2588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81" y="32"/>
                  </a:moveTo>
                  <a:lnTo>
                    <a:pt x="62" y="0"/>
                  </a:lnTo>
                  <a:lnTo>
                    <a:pt x="55" y="5"/>
                  </a:lnTo>
                  <a:lnTo>
                    <a:pt x="70" y="32"/>
                  </a:lnTo>
                  <a:lnTo>
                    <a:pt x="28" y="32"/>
                  </a:lnTo>
                  <a:lnTo>
                    <a:pt x="43" y="5"/>
                  </a:lnTo>
                  <a:lnTo>
                    <a:pt x="35" y="0"/>
                  </a:lnTo>
                  <a:lnTo>
                    <a:pt x="17" y="3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6" y="85"/>
                  </a:lnTo>
                  <a:lnTo>
                    <a:pt x="19" y="86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2" y="85"/>
                  </a:lnTo>
                  <a:lnTo>
                    <a:pt x="83" y="82"/>
                  </a:lnTo>
                  <a:lnTo>
                    <a:pt x="92" y="42"/>
                  </a:lnTo>
                  <a:lnTo>
                    <a:pt x="98" y="42"/>
                  </a:lnTo>
                  <a:lnTo>
                    <a:pt x="98" y="32"/>
                  </a:lnTo>
                  <a:lnTo>
                    <a:pt x="81" y="32"/>
                  </a:lnTo>
                  <a:close/>
                  <a:moveTo>
                    <a:pt x="34" y="71"/>
                  </a:moveTo>
                  <a:lnTo>
                    <a:pt x="24" y="71"/>
                  </a:lnTo>
                  <a:lnTo>
                    <a:pt x="24" y="47"/>
                  </a:lnTo>
                  <a:lnTo>
                    <a:pt x="34" y="47"/>
                  </a:lnTo>
                  <a:lnTo>
                    <a:pt x="34" y="71"/>
                  </a:lnTo>
                  <a:close/>
                  <a:moveTo>
                    <a:pt x="54" y="71"/>
                  </a:moveTo>
                  <a:lnTo>
                    <a:pt x="44" y="71"/>
                  </a:lnTo>
                  <a:lnTo>
                    <a:pt x="44" y="47"/>
                  </a:lnTo>
                  <a:lnTo>
                    <a:pt x="54" y="47"/>
                  </a:lnTo>
                  <a:lnTo>
                    <a:pt x="54" y="71"/>
                  </a:lnTo>
                  <a:close/>
                  <a:moveTo>
                    <a:pt x="74" y="71"/>
                  </a:moveTo>
                  <a:lnTo>
                    <a:pt x="64" y="71"/>
                  </a:lnTo>
                  <a:lnTo>
                    <a:pt x="64" y="47"/>
                  </a:lnTo>
                  <a:lnTo>
                    <a:pt x="74" y="47"/>
                  </a:lnTo>
                  <a:lnTo>
                    <a:pt x="74" y="7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861" name="Oval 10"/>
            <p:cNvSpPr/>
            <p:nvPr/>
          </p:nvSpPr>
          <p:spPr>
            <a:xfrm>
              <a:off x="11417400" y="473400"/>
              <a:ext cx="190440" cy="1908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Poppin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862" name="Straight Connector 11"/>
          <p:cNvSpPr/>
          <p:nvPr/>
        </p:nvSpPr>
        <p:spPr>
          <a:xfrm>
            <a:off x="7027920" y="3927600"/>
            <a:ext cx="0" cy="53172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3" name="TextBox 12"/>
          <p:cNvSpPr/>
          <p:nvPr/>
        </p:nvSpPr>
        <p:spPr>
          <a:xfrm>
            <a:off x="7027920" y="3932280"/>
            <a:ext cx="154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Poppins"/>
                <a:ea typeface="Courier New"/>
              </a:rPr>
              <a:t>2020 Collec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7027920" y="4192560"/>
            <a:ext cx="27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oppins"/>
                <a:ea typeface="Courier New"/>
              </a:rPr>
              <a:t>Magazine &amp; Catalogue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5" name="Rectangle 16"/>
          <p:cNvSpPr/>
          <p:nvPr/>
        </p:nvSpPr>
        <p:spPr>
          <a:xfrm>
            <a:off x="7027920" y="4959360"/>
            <a:ext cx="1082520" cy="317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"/>
              </a:rPr>
              <a:t>Shop Now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6" name="Rectangle 17"/>
          <p:cNvSpPr/>
          <p:nvPr/>
        </p:nvSpPr>
        <p:spPr>
          <a:xfrm>
            <a:off x="8224920" y="4959360"/>
            <a:ext cx="1081080" cy="31752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Poppins"/>
              </a:rPr>
              <a:t>Read More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3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Services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1413000" y="425304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6924600" y="1522440"/>
            <a:ext cx="2841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7810560" y="520380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7810560" y="550404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0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29" name="Picture Placeholder 10" descr=""/>
          <p:cNvPicPr/>
          <p:nvPr/>
        </p:nvPicPr>
        <p:blipFill>
          <a:blip r:embed="rId1"/>
          <a:srcRect l="27346" t="0" r="27346" b="0"/>
          <a:stretch/>
        </p:blipFill>
        <p:spPr>
          <a:xfrm>
            <a:off x="5194440" y="344160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69372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Proces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69372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69372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4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1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35" name="Picture Placeholder 7" descr=""/>
          <p:cNvPicPr/>
          <p:nvPr/>
        </p:nvPicPr>
        <p:blipFill>
          <a:blip r:embed="rId1"/>
          <a:srcRect l="26563" t="0" r="26563" b="0"/>
          <a:stretch/>
        </p:blipFill>
        <p:spPr>
          <a:xfrm>
            <a:off x="1523880" y="6858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Process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1413000" y="298764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1413000" y="328788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413000" y="4710240"/>
            <a:ext cx="46828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41" name="Picture Placeholder 7" descr=""/>
          <p:cNvPicPr/>
          <p:nvPr/>
        </p:nvPicPr>
        <p:blipFill>
          <a:blip r:embed="rId1"/>
          <a:srcRect l="32878" t="0" r="32878" b="0"/>
          <a:stretch/>
        </p:blipFill>
        <p:spPr>
          <a:xfrm>
            <a:off x="8852040" y="685800"/>
            <a:ext cx="33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69372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Process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9372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69372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6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3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47" name="Picture Placeholder 7" descr=""/>
          <p:cNvPicPr/>
          <p:nvPr/>
        </p:nvPicPr>
        <p:blipFill>
          <a:blip r:embed="rId1"/>
          <a:srcRect l="32102" t="0" r="32102" b="0"/>
          <a:stretch/>
        </p:blipFill>
        <p:spPr>
          <a:xfrm>
            <a:off x="2425680" y="2527200"/>
            <a:ext cx="2755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2"/>
          <p:cNvSpPr/>
          <p:nvPr/>
        </p:nvSpPr>
        <p:spPr>
          <a:xfrm>
            <a:off x="1450800" y="152100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Process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450800" y="4330800"/>
            <a:ext cx="2841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1450800" y="4630680"/>
            <a:ext cx="2841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7010280" y="1574640"/>
            <a:ext cx="365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52" name="Picture Placeholder 7" descr=""/>
          <p:cNvPicPr/>
          <p:nvPr/>
        </p:nvPicPr>
        <p:blipFill>
          <a:blip r:embed="rId1"/>
          <a:srcRect l="0" t="6649" r="0" b="6649"/>
          <a:stretch/>
        </p:blipFill>
        <p:spPr>
          <a:xfrm>
            <a:off x="7010280" y="4330800"/>
            <a:ext cx="51818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69372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Approach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9372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69372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5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58" name="Picture Placeholder 7" descr=""/>
          <p:cNvPicPr/>
          <p:nvPr/>
        </p:nvPicPr>
        <p:blipFill>
          <a:blip r:embed="rId1"/>
          <a:srcRect l="16976" t="0" r="16976" b="0"/>
          <a:stretch/>
        </p:blipFill>
        <p:spPr>
          <a:xfrm>
            <a:off x="0" y="1612800"/>
            <a:ext cx="4280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0" name="TextBox 3"/>
          <p:cNvSpPr/>
          <p:nvPr/>
        </p:nvSpPr>
        <p:spPr>
          <a:xfrm>
            <a:off x="1450800" y="152100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Approach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6912000" y="15210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6912000" y="182088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1450800" y="2906640"/>
            <a:ext cx="2841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1450800" y="4711680"/>
            <a:ext cx="2841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5" name="TextBox 10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6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66" name="Picture Placeholder 7" descr=""/>
          <p:cNvPicPr/>
          <p:nvPr/>
        </p:nvPicPr>
        <p:blipFill>
          <a:blip r:embed="rId1"/>
          <a:srcRect l="0" t="973" r="0" b="973"/>
          <a:stretch/>
        </p:blipFill>
        <p:spPr>
          <a:xfrm>
            <a:off x="5194440" y="4343400"/>
            <a:ext cx="455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8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13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51084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Approach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51084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51084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72" name="Picture Placeholder 4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1523880" y="1612800"/>
            <a:ext cx="2756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4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Approach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8753400" y="4395960"/>
            <a:ext cx="2841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8753400" y="4695840"/>
            <a:ext cx="1965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1413000" y="418788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8" name="TextBox 7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8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79" name="Picture Placeholder 9" descr=""/>
          <p:cNvPicPr/>
          <p:nvPr/>
        </p:nvPicPr>
        <p:blipFill>
          <a:blip r:embed="rId1"/>
          <a:srcRect l="32185" t="0" r="32185" b="0"/>
          <a:stretch/>
        </p:blipFill>
        <p:spPr>
          <a:xfrm>
            <a:off x="5194440" y="2527200"/>
            <a:ext cx="27432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1" name="TextBox 3"/>
          <p:cNvSpPr/>
          <p:nvPr/>
        </p:nvSpPr>
        <p:spPr>
          <a:xfrm>
            <a:off x="1450800" y="152100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Concept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6912000" y="15210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6912000" y="182088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4" name="Rectangle 6"/>
          <p:cNvSpPr/>
          <p:nvPr/>
        </p:nvSpPr>
        <p:spPr>
          <a:xfrm>
            <a:off x="69372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19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86" name="Picture Placeholder 8" descr=""/>
          <p:cNvPicPr/>
          <p:nvPr/>
        </p:nvPicPr>
        <p:blipFill>
          <a:blip r:embed="rId1"/>
          <a:srcRect l="0" t="287" r="0" b="287"/>
          <a:stretch/>
        </p:blipFill>
        <p:spPr>
          <a:xfrm>
            <a:off x="0" y="3441600"/>
            <a:ext cx="61088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7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8" name="TextBox 8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Welcome Note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1413000" y="4253040"/>
            <a:ext cx="3725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 tempor nisl non, finibus sem. In urna purus, fermentum nec massa sed,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0" name="Rectangle 10"/>
          <p:cNvSpPr/>
          <p:nvPr/>
        </p:nvSpPr>
        <p:spPr>
          <a:xfrm>
            <a:off x="9663120" y="2894040"/>
            <a:ext cx="19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Josefin Sans"/>
              </a:rPr>
              <a:t>Name Her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1" name="Rectangle 11"/>
          <p:cNvSpPr/>
          <p:nvPr/>
        </p:nvSpPr>
        <p:spPr>
          <a:xfrm>
            <a:off x="9663120" y="321948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Josefin Sans"/>
              </a:rPr>
              <a:t>Position Her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72" name="Picture Placeholder 3" descr=""/>
          <p:cNvPicPr/>
          <p:nvPr/>
        </p:nvPicPr>
        <p:blipFill>
          <a:blip r:embed="rId1"/>
          <a:srcRect l="32323" t="0" r="32323" b="0"/>
          <a:stretch/>
        </p:blipFill>
        <p:spPr>
          <a:xfrm>
            <a:off x="6108840" y="2514600"/>
            <a:ext cx="273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Box 1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8" name="TextBox 2"/>
          <p:cNvSpPr/>
          <p:nvPr/>
        </p:nvSpPr>
        <p:spPr>
          <a:xfrm>
            <a:off x="1425600" y="142704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Break Slide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9" name="TextBox 3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20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0" name="Rectangle 5"/>
          <p:cNvSpPr/>
          <p:nvPr/>
        </p:nvSpPr>
        <p:spPr>
          <a:xfrm>
            <a:off x="1425600" y="3017880"/>
            <a:ext cx="284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Poppins"/>
              </a:rPr>
              <a:t>30 Minutes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1" name="Rectangle 6"/>
          <p:cNvSpPr/>
          <p:nvPr/>
        </p:nvSpPr>
        <p:spPr>
          <a:xfrm>
            <a:off x="1425600" y="345132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92" name="Picture Placeholder 8" descr=""/>
          <p:cNvPicPr/>
          <p:nvPr/>
        </p:nvPicPr>
        <p:blipFill>
          <a:blip r:embed="rId1"/>
          <a:srcRect l="31354" t="0" r="31354" b="0"/>
          <a:stretch/>
        </p:blipFill>
        <p:spPr>
          <a:xfrm>
            <a:off x="5194440" y="0"/>
            <a:ext cx="454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4" name="TextBox 6"/>
          <p:cNvSpPr/>
          <p:nvPr/>
        </p:nvSpPr>
        <p:spPr>
          <a:xfrm>
            <a:off x="1531800" y="1457280"/>
            <a:ext cx="41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Market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1531800" y="2874960"/>
            <a:ext cx="3718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15318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7" name="TextBox 9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21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98" name="Picture Placeholder 4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7010280" y="1606680"/>
            <a:ext cx="27561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17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0" name="TextBox 19"/>
          <p:cNvSpPr/>
          <p:nvPr/>
        </p:nvSpPr>
        <p:spPr>
          <a:xfrm>
            <a:off x="4168800" y="1469880"/>
            <a:ext cx="415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Minimalist Style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4168800" y="29844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2" name="Rectangle 21"/>
          <p:cNvSpPr/>
          <p:nvPr/>
        </p:nvSpPr>
        <p:spPr>
          <a:xfrm>
            <a:off x="4168800" y="3284640"/>
            <a:ext cx="2079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3" name="Rectangle 22"/>
          <p:cNvSpPr/>
          <p:nvPr/>
        </p:nvSpPr>
        <p:spPr>
          <a:xfrm>
            <a:off x="7010280" y="2984400"/>
            <a:ext cx="2841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4" name="Rectangle 23"/>
          <p:cNvSpPr/>
          <p:nvPr/>
        </p:nvSpPr>
        <p:spPr>
          <a:xfrm>
            <a:off x="7010280" y="3284640"/>
            <a:ext cx="2079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4168800" y="4692600"/>
            <a:ext cx="5584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6" name="TextBox 25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22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07" name="Picture Placeholder 3" descr=""/>
          <p:cNvPicPr/>
          <p:nvPr/>
        </p:nvPicPr>
        <p:blipFill>
          <a:blip r:embed="rId1"/>
          <a:srcRect l="34083" t="0" r="34083" b="0"/>
          <a:stretch/>
        </p:blipFill>
        <p:spPr>
          <a:xfrm>
            <a:off x="0" y="2527200"/>
            <a:ext cx="24512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3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31800" y="1457280"/>
            <a:ext cx="41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E-Shop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1531800" y="2874960"/>
            <a:ext cx="3718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15318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12" name="Picture Placeholder 7" descr=""/>
          <p:cNvPicPr/>
          <p:nvPr/>
        </p:nvPicPr>
        <p:blipFill>
          <a:blip r:embed="rId1"/>
          <a:srcRect l="1059" t="0" r="1059" b="0"/>
          <a:stretch/>
        </p:blipFill>
        <p:spPr>
          <a:xfrm>
            <a:off x="6227640" y="1770120"/>
            <a:ext cx="40831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1531800" y="1457280"/>
            <a:ext cx="41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Our Shop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15318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15318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7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24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18" name="Picture Placeholder 7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7010280" y="1606680"/>
            <a:ext cx="27561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4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0" name="TextBox 5"/>
          <p:cNvSpPr/>
          <p:nvPr/>
        </p:nvSpPr>
        <p:spPr>
          <a:xfrm>
            <a:off x="4173480" y="1521000"/>
            <a:ext cx="415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Our Gallery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1" name="Rectangle 6"/>
          <p:cNvSpPr/>
          <p:nvPr/>
        </p:nvSpPr>
        <p:spPr>
          <a:xfrm>
            <a:off x="6066000" y="34416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2" name="Rectangle 7"/>
          <p:cNvSpPr/>
          <p:nvPr/>
        </p:nvSpPr>
        <p:spPr>
          <a:xfrm>
            <a:off x="6066000" y="374184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6060960" y="561960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4" name="TextBox 9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25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25" name="Picture Placeholder 3" descr=""/>
          <p:cNvPicPr/>
          <p:nvPr/>
        </p:nvPicPr>
        <p:blipFill>
          <a:blip r:embed="rId1"/>
          <a:srcRect l="27311" t="0" r="27311" b="0"/>
          <a:stretch/>
        </p:blipFill>
        <p:spPr>
          <a:xfrm>
            <a:off x="2438280" y="3441600"/>
            <a:ext cx="2756160" cy="3416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Placeholder 12" descr=""/>
          <p:cNvPicPr/>
          <p:nvPr/>
        </p:nvPicPr>
        <p:blipFill>
          <a:blip r:embed="rId2"/>
          <a:srcRect l="29508" t="0" r="29508" b="0"/>
          <a:stretch/>
        </p:blipFill>
        <p:spPr>
          <a:xfrm>
            <a:off x="7937640" y="0"/>
            <a:ext cx="1841400" cy="2527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Placeholder 15" descr=""/>
          <p:cNvPicPr/>
          <p:nvPr/>
        </p:nvPicPr>
        <p:blipFill>
          <a:blip r:embed="rId3"/>
          <a:srcRect l="21686" t="0" r="21686" b="0"/>
          <a:stretch/>
        </p:blipFill>
        <p:spPr>
          <a:xfrm>
            <a:off x="9779040" y="2527200"/>
            <a:ext cx="1841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Box 4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9" name="TextBox 5"/>
          <p:cNvSpPr/>
          <p:nvPr/>
        </p:nvSpPr>
        <p:spPr>
          <a:xfrm>
            <a:off x="1531800" y="1457280"/>
            <a:ext cx="41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Team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087640" y="3801960"/>
            <a:ext cx="2295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4826160" y="156204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2" name="Rectangle 8"/>
          <p:cNvSpPr/>
          <p:nvPr/>
        </p:nvSpPr>
        <p:spPr>
          <a:xfrm>
            <a:off x="4826160" y="186228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3" name="Rectangle 9"/>
          <p:cNvSpPr/>
          <p:nvPr/>
        </p:nvSpPr>
        <p:spPr>
          <a:xfrm>
            <a:off x="6832440" y="156204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6832440" y="186228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8839080" y="156204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6" name="Rectangle 12"/>
          <p:cNvSpPr/>
          <p:nvPr/>
        </p:nvSpPr>
        <p:spPr>
          <a:xfrm>
            <a:off x="8839080" y="186228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37" name="Picture Placeholder 3" descr=""/>
          <p:cNvPicPr/>
          <p:nvPr/>
        </p:nvPicPr>
        <p:blipFill>
          <a:blip r:embed="rId1"/>
          <a:srcRect l="21686" t="0" r="21686" b="0"/>
          <a:stretch/>
        </p:blipFill>
        <p:spPr>
          <a:xfrm>
            <a:off x="4826160" y="3441600"/>
            <a:ext cx="1841400" cy="1828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Placeholder 14" descr=""/>
          <p:cNvPicPr/>
          <p:nvPr/>
        </p:nvPicPr>
        <p:blipFill>
          <a:blip r:embed="rId2"/>
          <a:srcRect l="21686" t="0" r="21686" b="0"/>
          <a:stretch/>
        </p:blipFill>
        <p:spPr>
          <a:xfrm>
            <a:off x="6832440" y="3441600"/>
            <a:ext cx="1841760" cy="1828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Placeholder 17" descr=""/>
          <p:cNvPicPr/>
          <p:nvPr/>
        </p:nvPicPr>
        <p:blipFill>
          <a:blip r:embed="rId3"/>
          <a:srcRect l="21686" t="0" r="21686" b="0"/>
          <a:stretch/>
        </p:blipFill>
        <p:spPr>
          <a:xfrm>
            <a:off x="8839080" y="3441600"/>
            <a:ext cx="1841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4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1" name="TextBox 5"/>
          <p:cNvSpPr/>
          <p:nvPr/>
        </p:nvSpPr>
        <p:spPr>
          <a:xfrm>
            <a:off x="1417680" y="1393920"/>
            <a:ext cx="279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Designer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417680" y="4487760"/>
            <a:ext cx="2798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4826160" y="275760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4826160" y="305748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6832440" y="369720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6832440" y="399744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8839080" y="469584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8839080" y="4995720"/>
            <a:ext cx="1841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27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50" name="Picture Placeholder 3" descr=""/>
          <p:cNvPicPr/>
          <p:nvPr/>
        </p:nvPicPr>
        <p:blipFill>
          <a:blip r:embed="rId1"/>
          <a:srcRect l="29508" t="0" r="29508" b="0"/>
          <a:stretch/>
        </p:blipFill>
        <p:spPr>
          <a:xfrm>
            <a:off x="4826160" y="0"/>
            <a:ext cx="1841400" cy="25272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Placeholder 15" descr=""/>
          <p:cNvPicPr/>
          <p:nvPr/>
        </p:nvPicPr>
        <p:blipFill>
          <a:blip r:embed="rId2"/>
          <a:srcRect l="34783" t="0" r="34783" b="0"/>
          <a:stretch/>
        </p:blipFill>
        <p:spPr>
          <a:xfrm>
            <a:off x="6832440" y="0"/>
            <a:ext cx="1841760" cy="3403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Placeholder 18" descr=""/>
          <p:cNvPicPr/>
          <p:nvPr/>
        </p:nvPicPr>
        <p:blipFill>
          <a:blip r:embed="rId3"/>
          <a:srcRect l="38075" t="0" r="38075" b="0"/>
          <a:stretch/>
        </p:blipFill>
        <p:spPr>
          <a:xfrm>
            <a:off x="8839080" y="0"/>
            <a:ext cx="1841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4" name="TextBox 3"/>
          <p:cNvSpPr/>
          <p:nvPr/>
        </p:nvSpPr>
        <p:spPr>
          <a:xfrm>
            <a:off x="1531800" y="1457280"/>
            <a:ext cx="41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Testimonial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1531800" y="3662280"/>
            <a:ext cx="28162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6" name="Rectangle 6"/>
          <p:cNvSpPr/>
          <p:nvPr/>
        </p:nvSpPr>
        <p:spPr>
          <a:xfrm>
            <a:off x="7848720" y="376884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Nam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7" name="Rectangle 7"/>
          <p:cNvSpPr/>
          <p:nvPr/>
        </p:nvSpPr>
        <p:spPr>
          <a:xfrm>
            <a:off x="7848720" y="4068720"/>
            <a:ext cx="1841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Formatika, Inc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8" name="TextBox 8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28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59" name="Picture Placeholder 9" descr=""/>
          <p:cNvPicPr/>
          <p:nvPr/>
        </p:nvPicPr>
        <p:blipFill>
          <a:blip r:embed="rId1"/>
          <a:srcRect l="21686" t="0" r="21686" b="0"/>
          <a:stretch/>
        </p:blipFill>
        <p:spPr>
          <a:xfrm>
            <a:off x="5016600" y="3429000"/>
            <a:ext cx="1841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1" name="TextBox 3"/>
          <p:cNvSpPr/>
          <p:nvPr/>
        </p:nvSpPr>
        <p:spPr>
          <a:xfrm>
            <a:off x="69372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Contact U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2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29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3" name="Rectangle 7"/>
          <p:cNvSpPr/>
          <p:nvPr/>
        </p:nvSpPr>
        <p:spPr>
          <a:xfrm>
            <a:off x="6937200" y="3510000"/>
            <a:ext cx="18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Josefin Sans"/>
              </a:rPr>
              <a:t>Main Offic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4" name="Rectangle 8"/>
          <p:cNvSpPr/>
          <p:nvPr/>
        </p:nvSpPr>
        <p:spPr>
          <a:xfrm>
            <a:off x="6937200" y="3849840"/>
            <a:ext cx="18590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Wall Street, CA, 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5" name="Rectangle 9"/>
          <p:cNvSpPr/>
          <p:nvPr/>
        </p:nvSpPr>
        <p:spPr>
          <a:xfrm>
            <a:off x="6937200" y="4597560"/>
            <a:ext cx="18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Josefin Sans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6" name="Rectangle 10"/>
          <p:cNvSpPr/>
          <p:nvPr/>
        </p:nvSpPr>
        <p:spPr>
          <a:xfrm>
            <a:off x="6937200" y="4935600"/>
            <a:ext cx="18590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0-8-000-000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7" name="Rectangle 11"/>
          <p:cNvSpPr/>
          <p:nvPr/>
        </p:nvSpPr>
        <p:spPr>
          <a:xfrm>
            <a:off x="8813880" y="4597560"/>
            <a:ext cx="18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Josefin Sans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8" name="Rectangle 12"/>
          <p:cNvSpPr/>
          <p:nvPr/>
        </p:nvSpPr>
        <p:spPr>
          <a:xfrm>
            <a:off x="8813880" y="4935600"/>
            <a:ext cx="18590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www.BeautySalon.co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9" name="Rectangle 13"/>
          <p:cNvSpPr/>
          <p:nvPr/>
        </p:nvSpPr>
        <p:spPr>
          <a:xfrm>
            <a:off x="8813880" y="3510000"/>
            <a:ext cx="18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Josefin Sans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0" name="Rectangle 14"/>
          <p:cNvSpPr/>
          <p:nvPr/>
        </p:nvSpPr>
        <p:spPr>
          <a:xfrm>
            <a:off x="8813880" y="3849840"/>
            <a:ext cx="18590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Info@BeautySalon.Co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71" name="Picture Placeholder 5" descr=""/>
          <p:cNvPicPr/>
          <p:nvPr/>
        </p:nvPicPr>
        <p:blipFill>
          <a:blip r:embed="rId1"/>
          <a:srcRect l="28661" t="0" r="28661" b="0"/>
          <a:stretch/>
        </p:blipFill>
        <p:spPr>
          <a:xfrm>
            <a:off x="1536840" y="1625760"/>
            <a:ext cx="27558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4" name="TextBox 3"/>
          <p:cNvSpPr/>
          <p:nvPr/>
        </p:nvSpPr>
        <p:spPr>
          <a:xfrm>
            <a:off x="2340000" y="1508040"/>
            <a:ext cx="28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6006960" y="1735200"/>
            <a:ext cx="50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osefin Sans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Josefin Sans"/>
              </a:rPr>
              <a:t>A magazine—a relevant one—should be a sound, not an echo</a:t>
            </a:r>
            <a:endParaRPr b="0" lang="en-US" sz="4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8763120" y="4951440"/>
            <a:ext cx="27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ppins"/>
              </a:rPr>
              <a:t>― </a:t>
            </a:r>
            <a:r>
              <a:rPr b="1" lang="en-US" sz="1800" spc="-1" strike="noStrike">
                <a:solidFill>
                  <a:srgbClr val="ffffff"/>
                </a:solidFill>
                <a:latin typeface="Poppins"/>
              </a:rPr>
              <a:t>Tina Brown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77" name="Picture Placeholder 6" descr=""/>
          <p:cNvPicPr/>
          <p:nvPr/>
        </p:nvPicPr>
        <p:blipFill>
          <a:blip r:embed="rId1"/>
          <a:srcRect l="0" t="12171" r="0" b="12171"/>
          <a:stretch/>
        </p:blipFill>
        <p:spPr>
          <a:xfrm>
            <a:off x="0" y="3441600"/>
            <a:ext cx="426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Box 1"/>
          <p:cNvSpPr/>
          <p:nvPr/>
        </p:nvSpPr>
        <p:spPr>
          <a:xfrm>
            <a:off x="3048120" y="193356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Thanks For Watching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3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4" name="TextBox 3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30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75" name="Picture Placeholder 6" descr=""/>
          <p:cNvPicPr/>
          <p:nvPr/>
        </p:nvPicPr>
        <p:blipFill>
          <a:blip r:embed="rId1"/>
          <a:srcRect l="0" t="23859" r="0" b="23859"/>
          <a:stretch/>
        </p:blipFill>
        <p:spPr>
          <a:xfrm>
            <a:off x="1994040" y="3263760"/>
            <a:ext cx="8204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9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About U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1413000" y="425304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924600" y="1522440"/>
            <a:ext cx="2841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2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04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83" name="Picture Placeholder 7" descr=""/>
          <p:cNvPicPr/>
          <p:nvPr/>
        </p:nvPicPr>
        <p:blipFill>
          <a:blip r:embed="rId1"/>
          <a:srcRect l="3386" t="0" r="3386" b="0"/>
          <a:stretch/>
        </p:blipFill>
        <p:spPr>
          <a:xfrm>
            <a:off x="5194440" y="3441600"/>
            <a:ext cx="454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5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Our History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6924600" y="1522440"/>
            <a:ext cx="2841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6950160" y="3795840"/>
            <a:ext cx="281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88" name="Picture Placeholder 7" descr=""/>
          <p:cNvPicPr/>
          <p:nvPr/>
        </p:nvPicPr>
        <p:blipFill>
          <a:blip r:embed="rId1"/>
          <a:srcRect l="0" t="14593" r="0" b="14593"/>
          <a:stretch/>
        </p:blipFill>
        <p:spPr>
          <a:xfrm>
            <a:off x="1549440" y="3441600"/>
            <a:ext cx="4559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2327400" y="148284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Why Choose Us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327400" y="30258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Reasons 01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2327400" y="332568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6040440" y="30258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Reasons 0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6040440" y="332568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2327400" y="4686480"/>
            <a:ext cx="4657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463680" y="6010200"/>
            <a:ext cx="415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9d9d9"/>
                </a:solidFill>
                <a:latin typeface="Josefin Sans"/>
              </a:rPr>
              <a:t>Reasons</a:t>
            </a:r>
            <a:endParaRPr b="0" lang="en-US" sz="66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97" name="Picture Placeholder 10" descr=""/>
          <p:cNvPicPr/>
          <p:nvPr/>
        </p:nvPicPr>
        <p:blipFill>
          <a:blip r:embed="rId1"/>
          <a:srcRect l="34213" t="0" r="34213" b="0"/>
          <a:stretch/>
        </p:blipFill>
        <p:spPr>
          <a:xfrm>
            <a:off x="9753480" y="2514600"/>
            <a:ext cx="2438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9" name="TextBox 3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1413000" y="3603600"/>
            <a:ext cx="2841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7864560" y="245592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ervices 01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7864560" y="275580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7864560" y="3522600"/>
            <a:ext cx="2841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ervices 0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7864560" y="3822840"/>
            <a:ext cx="28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05" name="Picture Placeholder 9" descr=""/>
          <p:cNvPicPr/>
          <p:nvPr/>
        </p:nvPicPr>
        <p:blipFill>
          <a:blip r:embed="rId1"/>
          <a:srcRect l="0" t="38522" r="0" b="38522"/>
          <a:stretch/>
        </p:blipFill>
        <p:spPr>
          <a:xfrm>
            <a:off x="0" y="5283360"/>
            <a:ext cx="121921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2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6937200" y="145728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sefin Sans"/>
              </a:rPr>
              <a:t>Services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6937200" y="2874960"/>
            <a:ext cx="3718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6937200" y="4481640"/>
            <a:ext cx="2816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0" name="TextBox 6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Josefin Sans"/>
              </a:rPr>
              <a:t>08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11" name="Picture Placeholder 7" descr=""/>
          <p:cNvPicPr/>
          <p:nvPr/>
        </p:nvPicPr>
        <p:blipFill>
          <a:blip r:embed="rId1"/>
          <a:srcRect l="38803" t="0" r="38803" b="0"/>
          <a:stretch/>
        </p:blipFill>
        <p:spPr>
          <a:xfrm>
            <a:off x="2451240" y="0"/>
            <a:ext cx="273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3"/>
          <p:cNvSpPr/>
          <p:nvPr/>
        </p:nvSpPr>
        <p:spPr>
          <a:xfrm>
            <a:off x="539640" y="4222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1413000" y="1457280"/>
            <a:ext cx="41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Josefin Sans"/>
              </a:rPr>
              <a:t>Services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1413000" y="4253040"/>
            <a:ext cx="2841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5181480" y="467028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181480" y="497052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7581960" y="161280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7581960" y="1913040"/>
            <a:ext cx="2133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Poppins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9" name="TextBox 10"/>
          <p:cNvSpPr/>
          <p:nvPr/>
        </p:nvSpPr>
        <p:spPr>
          <a:xfrm>
            <a:off x="10861560" y="56545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Josefin Sans"/>
              </a:rPr>
              <a:t>09.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20" name="Picture Placeholder 11" descr=""/>
          <p:cNvPicPr/>
          <p:nvPr/>
        </p:nvPicPr>
        <p:blipFill>
          <a:blip r:embed="rId1"/>
          <a:srcRect l="28126" t="0" r="28126" b="0"/>
          <a:stretch/>
        </p:blipFill>
        <p:spPr>
          <a:xfrm>
            <a:off x="5181480" y="161280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Placeholder 13" descr=""/>
          <p:cNvPicPr/>
          <p:nvPr/>
        </p:nvPicPr>
        <p:blipFill>
          <a:blip r:embed="rId2"/>
          <a:srcRect l="28126" t="0" r="28126" b="0"/>
          <a:stretch/>
        </p:blipFill>
        <p:spPr>
          <a:xfrm>
            <a:off x="7581960" y="25272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5T09:10:17Z</dcterms:created>
  <dc:creator>Formatika</dc:creator>
  <dc:description/>
  <dc:language>en-US</dc:language>
  <cp:lastModifiedBy>sansan</cp:lastModifiedBy>
  <dcterms:modified xsi:type="dcterms:W3CDTF">2020-05-10T19:02:37Z</dcterms:modified>
  <cp:revision>26</cp:revision>
  <dc:subject/>
  <dc:title>PowerPoint Presentation</dc:title>
</cp:coreProperties>
</file>