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"/>
          <p:cNvSpPr/>
          <p:nvPr/>
        </p:nvSpPr>
        <p:spPr>
          <a:xfrm>
            <a:off x="0" y="1209600"/>
            <a:ext cx="3886200" cy="3934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"/>
          <p:cNvSpPr/>
          <p:nvPr/>
        </p:nvSpPr>
        <p:spPr>
          <a:xfrm>
            <a:off x="0" y="0"/>
            <a:ext cx="3886200" cy="5238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"/>
          <p:cNvSpPr/>
          <p:nvPr/>
        </p:nvSpPr>
        <p:spPr>
          <a:xfrm>
            <a:off x="1133640" y="514440"/>
            <a:ext cx="2752560" cy="4133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"/>
          <p:cNvSpPr/>
          <p:nvPr/>
        </p:nvSpPr>
        <p:spPr>
          <a:xfrm>
            <a:off x="8001000" y="0"/>
            <a:ext cx="1143000" cy="51436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"/>
          <p:cNvSpPr/>
          <p:nvPr/>
        </p:nvSpPr>
        <p:spPr>
          <a:xfrm>
            <a:off x="5952960" y="0"/>
            <a:ext cx="2048040" cy="18954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"/>
          <p:cNvSpPr/>
          <p:nvPr/>
        </p:nvSpPr>
        <p:spPr>
          <a:xfrm>
            <a:off x="7305840" y="0"/>
            <a:ext cx="1838160" cy="3943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"/>
          <p:cNvSpPr/>
          <p:nvPr/>
        </p:nvSpPr>
        <p:spPr>
          <a:xfrm>
            <a:off x="5952960" y="0"/>
            <a:ext cx="3191040" cy="51436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1"/>
          <p:cNvGrpSpPr/>
          <p:nvPr/>
        </p:nvGrpSpPr>
        <p:grpSpPr>
          <a:xfrm>
            <a:off x="4567320" y="1171440"/>
            <a:ext cx="3268440" cy="2838600"/>
            <a:chOff x="4567320" y="1171440"/>
            <a:chExt cx="3268440" cy="2838600"/>
          </a:xfrm>
        </p:grpSpPr>
        <p:pic>
          <p:nvPicPr>
            <p:cNvPr id="592" name="Picture 2" descr=""/>
            <p:cNvPicPr/>
            <p:nvPr/>
          </p:nvPicPr>
          <p:blipFill>
            <a:blip r:embed="rId2"/>
            <a:stretch/>
          </p:blipFill>
          <p:spPr>
            <a:xfrm>
              <a:off x="4567320" y="1171440"/>
              <a:ext cx="3268440" cy="28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Freeform: Shape 21"/>
            <p:cNvSpPr/>
            <p:nvPr/>
          </p:nvSpPr>
          <p:spPr>
            <a:xfrm>
              <a:off x="4670280" y="1327320"/>
              <a:ext cx="3062520" cy="1759680"/>
            </a:xfrm>
            <a:custGeom>
              <a:avLst/>
              <a:gdLst/>
              <a:ahLst/>
              <a:rect l="l" t="t" r="r" b="b"/>
              <a:pathLst>
                <a:path w="2426291" h="1394094">
                  <a:moveTo>
                    <a:pt x="0" y="0"/>
                  </a:moveTo>
                  <a:lnTo>
                    <a:pt x="2426291" y="0"/>
                  </a:lnTo>
                  <a:lnTo>
                    <a:pt x="2426291" y="1394094"/>
                  </a:lnTo>
                  <a:lnTo>
                    <a:pt x="0" y="13940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ec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oppins"/>
              </a:endParaRPr>
            </a:p>
          </p:txBody>
        </p:sp>
      </p:grpSp>
      <p:sp>
        <p:nvSpPr>
          <p:cNvPr id="594" name="Rectangle 4"/>
          <p:cNvSpPr/>
          <p:nvPr/>
        </p:nvSpPr>
        <p:spPr>
          <a:xfrm>
            <a:off x="7658280" y="4281480"/>
            <a:ext cx="361800" cy="3668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"/>
          <p:cNvSpPr/>
          <p:nvPr/>
        </p:nvSpPr>
        <p:spPr>
          <a:xfrm>
            <a:off x="2514600" y="523800"/>
            <a:ext cx="6629400" cy="4619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"/>
          <p:cNvSpPr/>
          <p:nvPr/>
        </p:nvSpPr>
        <p:spPr>
          <a:xfrm>
            <a:off x="1143000" y="2286000"/>
            <a:ext cx="3429000" cy="1962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1"/>
          <p:cNvSpPr/>
          <p:nvPr/>
        </p:nvSpPr>
        <p:spPr>
          <a:xfrm>
            <a:off x="5267160" y="0"/>
            <a:ext cx="3876840" cy="51436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1"/>
          <p:cNvSpPr/>
          <p:nvPr/>
        </p:nvSpPr>
        <p:spPr>
          <a:xfrm>
            <a:off x="0" y="0"/>
            <a:ext cx="3876840" cy="51436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Josefin Sans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Josefin San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Poppin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Poppins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oppi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Poppin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Poppins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oppins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Poppins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oppins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Poppins"/>
            </a:endParaRPr>
          </a:p>
          <a:p>
            <a:pPr lvl="5" marL="1542960" indent="-17136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oppins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Poppins"/>
            </a:endParaRPr>
          </a:p>
          <a:p>
            <a:pPr lvl="6" marL="1542960" indent="-17136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oppins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1"/>
          <p:cNvSpPr/>
          <p:nvPr/>
        </p:nvSpPr>
        <p:spPr>
          <a:xfrm>
            <a:off x="0" y="0"/>
            <a:ext cx="6629400" cy="51436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4572000" y="1895400"/>
            <a:ext cx="4572000" cy="32482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3895560" y="1895400"/>
            <a:ext cx="4105440" cy="27432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5943600" y="0"/>
            <a:ext cx="2066760" cy="12096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3886200" y="0"/>
            <a:ext cx="5257800" cy="51436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5657760" y="2581200"/>
            <a:ext cx="1657440" cy="20574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"/>
          <p:cNvSpPr/>
          <p:nvPr/>
        </p:nvSpPr>
        <p:spPr>
          <a:xfrm>
            <a:off x="5257800" y="0"/>
            <a:ext cx="3886200" cy="51436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9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Placeholder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56" name="TextBox 6"/>
          <p:cNvSpPr/>
          <p:nvPr/>
        </p:nvSpPr>
        <p:spPr>
          <a:xfrm>
            <a:off x="5170320" y="1562040"/>
            <a:ext cx="33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Josefin Sans"/>
                <a:ea typeface="Courier New"/>
              </a:rPr>
              <a:t>The Magazine &amp; Catalogue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57" name="TextBox 7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grpSp>
        <p:nvGrpSpPr>
          <p:cNvPr id="858" name="Group 1"/>
          <p:cNvGrpSpPr/>
          <p:nvPr/>
        </p:nvGrpSpPr>
        <p:grpSpPr>
          <a:xfrm>
            <a:off x="8132760" y="330120"/>
            <a:ext cx="573120" cy="193680"/>
            <a:chOff x="8132760" y="330120"/>
            <a:chExt cx="573120" cy="193680"/>
          </a:xfrm>
        </p:grpSpPr>
        <p:sp>
          <p:nvSpPr>
            <p:cNvPr id="859" name="Freeform 1018"/>
            <p:cNvSpPr/>
            <p:nvPr/>
          </p:nvSpPr>
          <p:spPr>
            <a:xfrm>
              <a:off x="8132760" y="330120"/>
              <a:ext cx="186840" cy="193680"/>
            </a:xfrm>
            <a:custGeom>
              <a:avLst/>
              <a:gdLst/>
              <a:ahLst/>
              <a:rect l="l" t="t" r="r" b="b"/>
              <a:pathLst>
                <a:path w="3186" h="3299">
                  <a:moveTo>
                    <a:pt x="1333" y="347"/>
                  </a:moveTo>
                  <a:lnTo>
                    <a:pt x="1252" y="350"/>
                  </a:lnTo>
                  <a:lnTo>
                    <a:pt x="1173" y="361"/>
                  </a:lnTo>
                  <a:lnTo>
                    <a:pt x="1096" y="376"/>
                  </a:lnTo>
                  <a:lnTo>
                    <a:pt x="1022" y="398"/>
                  </a:lnTo>
                  <a:lnTo>
                    <a:pt x="950" y="425"/>
                  </a:lnTo>
                  <a:lnTo>
                    <a:pt x="881" y="458"/>
                  </a:lnTo>
                  <a:lnTo>
                    <a:pt x="815" y="495"/>
                  </a:lnTo>
                  <a:lnTo>
                    <a:pt x="752" y="538"/>
                  </a:lnTo>
                  <a:lnTo>
                    <a:pt x="692" y="584"/>
                  </a:lnTo>
                  <a:lnTo>
                    <a:pt x="636" y="636"/>
                  </a:lnTo>
                  <a:lnTo>
                    <a:pt x="586" y="692"/>
                  </a:lnTo>
                  <a:lnTo>
                    <a:pt x="538" y="750"/>
                  </a:lnTo>
                  <a:lnTo>
                    <a:pt x="496" y="813"/>
                  </a:lnTo>
                  <a:lnTo>
                    <a:pt x="458" y="879"/>
                  </a:lnTo>
                  <a:lnTo>
                    <a:pt x="426" y="949"/>
                  </a:lnTo>
                  <a:lnTo>
                    <a:pt x="398" y="1021"/>
                  </a:lnTo>
                  <a:lnTo>
                    <a:pt x="376" y="1096"/>
                  </a:lnTo>
                  <a:lnTo>
                    <a:pt x="361" y="1172"/>
                  </a:lnTo>
                  <a:lnTo>
                    <a:pt x="352" y="1251"/>
                  </a:lnTo>
                  <a:lnTo>
                    <a:pt x="348" y="1332"/>
                  </a:lnTo>
                  <a:lnTo>
                    <a:pt x="352" y="1412"/>
                  </a:lnTo>
                  <a:lnTo>
                    <a:pt x="361" y="1492"/>
                  </a:lnTo>
                  <a:lnTo>
                    <a:pt x="376" y="1568"/>
                  </a:lnTo>
                  <a:lnTo>
                    <a:pt x="398" y="1642"/>
                  </a:lnTo>
                  <a:lnTo>
                    <a:pt x="426" y="1714"/>
                  </a:lnTo>
                  <a:lnTo>
                    <a:pt x="458" y="1783"/>
                  </a:lnTo>
                  <a:lnTo>
                    <a:pt x="496" y="1849"/>
                  </a:lnTo>
                  <a:lnTo>
                    <a:pt x="538" y="1912"/>
                  </a:lnTo>
                  <a:lnTo>
                    <a:pt x="586" y="1972"/>
                  </a:lnTo>
                  <a:lnTo>
                    <a:pt x="636" y="2028"/>
                  </a:lnTo>
                  <a:lnTo>
                    <a:pt x="692" y="2079"/>
                  </a:lnTo>
                  <a:lnTo>
                    <a:pt x="752" y="2126"/>
                  </a:lnTo>
                  <a:lnTo>
                    <a:pt x="815" y="2169"/>
                  </a:lnTo>
                  <a:lnTo>
                    <a:pt x="881" y="2206"/>
                  </a:lnTo>
                  <a:lnTo>
                    <a:pt x="950" y="2239"/>
                  </a:lnTo>
                  <a:lnTo>
                    <a:pt x="1022" y="2266"/>
                  </a:lnTo>
                  <a:lnTo>
                    <a:pt x="1096" y="2288"/>
                  </a:lnTo>
                  <a:lnTo>
                    <a:pt x="1173" y="2303"/>
                  </a:lnTo>
                  <a:lnTo>
                    <a:pt x="1252" y="2313"/>
                  </a:lnTo>
                  <a:lnTo>
                    <a:pt x="1333" y="2316"/>
                  </a:lnTo>
                  <a:lnTo>
                    <a:pt x="1413" y="2313"/>
                  </a:lnTo>
                  <a:lnTo>
                    <a:pt x="1492" y="2303"/>
                  </a:lnTo>
                  <a:lnTo>
                    <a:pt x="1569" y="2288"/>
                  </a:lnTo>
                  <a:lnTo>
                    <a:pt x="1644" y="2266"/>
                  </a:lnTo>
                  <a:lnTo>
                    <a:pt x="1715" y="2239"/>
                  </a:lnTo>
                  <a:lnTo>
                    <a:pt x="1785" y="2206"/>
                  </a:lnTo>
                  <a:lnTo>
                    <a:pt x="1851" y="2169"/>
                  </a:lnTo>
                  <a:lnTo>
                    <a:pt x="1914" y="2126"/>
                  </a:lnTo>
                  <a:lnTo>
                    <a:pt x="1973" y="2079"/>
                  </a:lnTo>
                  <a:lnTo>
                    <a:pt x="2029" y="2028"/>
                  </a:lnTo>
                  <a:lnTo>
                    <a:pt x="2080" y="1972"/>
                  </a:lnTo>
                  <a:lnTo>
                    <a:pt x="2128" y="1912"/>
                  </a:lnTo>
                  <a:lnTo>
                    <a:pt x="2170" y="1849"/>
                  </a:lnTo>
                  <a:lnTo>
                    <a:pt x="2207" y="1783"/>
                  </a:lnTo>
                  <a:lnTo>
                    <a:pt x="2240" y="1714"/>
                  </a:lnTo>
                  <a:lnTo>
                    <a:pt x="2267" y="1642"/>
                  </a:lnTo>
                  <a:lnTo>
                    <a:pt x="2289" y="1568"/>
                  </a:lnTo>
                  <a:lnTo>
                    <a:pt x="2305" y="1492"/>
                  </a:lnTo>
                  <a:lnTo>
                    <a:pt x="2314" y="1412"/>
                  </a:lnTo>
                  <a:lnTo>
                    <a:pt x="2318" y="1332"/>
                  </a:lnTo>
                  <a:lnTo>
                    <a:pt x="2314" y="1251"/>
                  </a:lnTo>
                  <a:lnTo>
                    <a:pt x="2305" y="1172"/>
                  </a:lnTo>
                  <a:lnTo>
                    <a:pt x="2289" y="1096"/>
                  </a:lnTo>
                  <a:lnTo>
                    <a:pt x="2267" y="1021"/>
                  </a:lnTo>
                  <a:lnTo>
                    <a:pt x="2240" y="949"/>
                  </a:lnTo>
                  <a:lnTo>
                    <a:pt x="2207" y="879"/>
                  </a:lnTo>
                  <a:lnTo>
                    <a:pt x="2170" y="813"/>
                  </a:lnTo>
                  <a:lnTo>
                    <a:pt x="2128" y="750"/>
                  </a:lnTo>
                  <a:lnTo>
                    <a:pt x="2080" y="692"/>
                  </a:lnTo>
                  <a:lnTo>
                    <a:pt x="2029" y="636"/>
                  </a:lnTo>
                  <a:lnTo>
                    <a:pt x="1973" y="584"/>
                  </a:lnTo>
                  <a:lnTo>
                    <a:pt x="1914" y="538"/>
                  </a:lnTo>
                  <a:lnTo>
                    <a:pt x="1851" y="495"/>
                  </a:lnTo>
                  <a:lnTo>
                    <a:pt x="1785" y="458"/>
                  </a:lnTo>
                  <a:lnTo>
                    <a:pt x="1715" y="425"/>
                  </a:lnTo>
                  <a:lnTo>
                    <a:pt x="1644" y="398"/>
                  </a:lnTo>
                  <a:lnTo>
                    <a:pt x="1569" y="376"/>
                  </a:lnTo>
                  <a:lnTo>
                    <a:pt x="1492" y="361"/>
                  </a:lnTo>
                  <a:lnTo>
                    <a:pt x="1413" y="350"/>
                  </a:lnTo>
                  <a:lnTo>
                    <a:pt x="1333" y="347"/>
                  </a:lnTo>
                  <a:close/>
                  <a:moveTo>
                    <a:pt x="1333" y="0"/>
                  </a:moveTo>
                  <a:lnTo>
                    <a:pt x="1423" y="3"/>
                  </a:lnTo>
                  <a:lnTo>
                    <a:pt x="1513" y="12"/>
                  </a:lnTo>
                  <a:lnTo>
                    <a:pt x="1601" y="27"/>
                  </a:lnTo>
                  <a:lnTo>
                    <a:pt x="1686" y="47"/>
                  </a:lnTo>
                  <a:lnTo>
                    <a:pt x="1770" y="73"/>
                  </a:lnTo>
                  <a:lnTo>
                    <a:pt x="1851" y="105"/>
                  </a:lnTo>
                  <a:lnTo>
                    <a:pt x="1930" y="141"/>
                  </a:lnTo>
                  <a:lnTo>
                    <a:pt x="2005" y="182"/>
                  </a:lnTo>
                  <a:lnTo>
                    <a:pt x="2077" y="228"/>
                  </a:lnTo>
                  <a:lnTo>
                    <a:pt x="2146" y="278"/>
                  </a:lnTo>
                  <a:lnTo>
                    <a:pt x="2212" y="332"/>
                  </a:lnTo>
                  <a:lnTo>
                    <a:pt x="2274" y="391"/>
                  </a:lnTo>
                  <a:lnTo>
                    <a:pt x="2333" y="452"/>
                  </a:lnTo>
                  <a:lnTo>
                    <a:pt x="2388" y="518"/>
                  </a:lnTo>
                  <a:lnTo>
                    <a:pt x="2437" y="588"/>
                  </a:lnTo>
                  <a:lnTo>
                    <a:pt x="2484" y="660"/>
                  </a:lnTo>
                  <a:lnTo>
                    <a:pt x="2524" y="736"/>
                  </a:lnTo>
                  <a:lnTo>
                    <a:pt x="2561" y="813"/>
                  </a:lnTo>
                  <a:lnTo>
                    <a:pt x="2592" y="895"/>
                  </a:lnTo>
                  <a:lnTo>
                    <a:pt x="2618" y="978"/>
                  </a:lnTo>
                  <a:lnTo>
                    <a:pt x="2638" y="1064"/>
                  </a:lnTo>
                  <a:lnTo>
                    <a:pt x="2653" y="1151"/>
                  </a:lnTo>
                  <a:lnTo>
                    <a:pt x="2662" y="1241"/>
                  </a:lnTo>
                  <a:lnTo>
                    <a:pt x="2665" y="1332"/>
                  </a:lnTo>
                  <a:lnTo>
                    <a:pt x="2663" y="1417"/>
                  </a:lnTo>
                  <a:lnTo>
                    <a:pt x="2655" y="1502"/>
                  </a:lnTo>
                  <a:lnTo>
                    <a:pt x="2641" y="1585"/>
                  </a:lnTo>
                  <a:lnTo>
                    <a:pt x="2623" y="1667"/>
                  </a:lnTo>
                  <a:lnTo>
                    <a:pt x="2598" y="1748"/>
                  </a:lnTo>
                  <a:lnTo>
                    <a:pt x="2570" y="1827"/>
                  </a:lnTo>
                  <a:lnTo>
                    <a:pt x="2536" y="1904"/>
                  </a:lnTo>
                  <a:lnTo>
                    <a:pt x="2497" y="1979"/>
                  </a:lnTo>
                  <a:lnTo>
                    <a:pt x="2454" y="2051"/>
                  </a:lnTo>
                  <a:lnTo>
                    <a:pt x="2405" y="2122"/>
                  </a:lnTo>
                  <a:lnTo>
                    <a:pt x="2353" y="2189"/>
                  </a:lnTo>
                  <a:lnTo>
                    <a:pt x="3137" y="3004"/>
                  </a:lnTo>
                  <a:lnTo>
                    <a:pt x="3158" y="3029"/>
                  </a:lnTo>
                  <a:lnTo>
                    <a:pt x="3173" y="3056"/>
                  </a:lnTo>
                  <a:lnTo>
                    <a:pt x="3182" y="3084"/>
                  </a:lnTo>
                  <a:lnTo>
                    <a:pt x="3186" y="3113"/>
                  </a:lnTo>
                  <a:lnTo>
                    <a:pt x="3186" y="3143"/>
                  </a:lnTo>
                  <a:lnTo>
                    <a:pt x="3180" y="3172"/>
                  </a:lnTo>
                  <a:lnTo>
                    <a:pt x="3169" y="3200"/>
                  </a:lnTo>
                  <a:lnTo>
                    <a:pt x="3154" y="3227"/>
                  </a:lnTo>
                  <a:lnTo>
                    <a:pt x="3133" y="3250"/>
                  </a:lnTo>
                  <a:lnTo>
                    <a:pt x="3113" y="3267"/>
                  </a:lnTo>
                  <a:lnTo>
                    <a:pt x="3090" y="3280"/>
                  </a:lnTo>
                  <a:lnTo>
                    <a:pt x="3065" y="3291"/>
                  </a:lnTo>
                  <a:lnTo>
                    <a:pt x="3040" y="3297"/>
                  </a:lnTo>
                  <a:lnTo>
                    <a:pt x="3013" y="3299"/>
                  </a:lnTo>
                  <a:lnTo>
                    <a:pt x="2985" y="3297"/>
                  </a:lnTo>
                  <a:lnTo>
                    <a:pt x="2958" y="3290"/>
                  </a:lnTo>
                  <a:lnTo>
                    <a:pt x="2932" y="3279"/>
                  </a:lnTo>
                  <a:lnTo>
                    <a:pt x="2909" y="3264"/>
                  </a:lnTo>
                  <a:lnTo>
                    <a:pt x="2888" y="3245"/>
                  </a:lnTo>
                  <a:lnTo>
                    <a:pt x="2096" y="2423"/>
                  </a:lnTo>
                  <a:lnTo>
                    <a:pt x="2028" y="2468"/>
                  </a:lnTo>
                  <a:lnTo>
                    <a:pt x="1957" y="2508"/>
                  </a:lnTo>
                  <a:lnTo>
                    <a:pt x="1884" y="2544"/>
                  </a:lnTo>
                  <a:lnTo>
                    <a:pt x="1810" y="2576"/>
                  </a:lnTo>
                  <a:lnTo>
                    <a:pt x="1734" y="2602"/>
                  </a:lnTo>
                  <a:lnTo>
                    <a:pt x="1655" y="2625"/>
                  </a:lnTo>
                  <a:lnTo>
                    <a:pt x="1577" y="2641"/>
                  </a:lnTo>
                  <a:lnTo>
                    <a:pt x="1497" y="2653"/>
                  </a:lnTo>
                  <a:lnTo>
                    <a:pt x="1415" y="2661"/>
                  </a:lnTo>
                  <a:lnTo>
                    <a:pt x="1333" y="2664"/>
                  </a:lnTo>
                  <a:lnTo>
                    <a:pt x="1242" y="2661"/>
                  </a:lnTo>
                  <a:lnTo>
                    <a:pt x="1152" y="2651"/>
                  </a:lnTo>
                  <a:lnTo>
                    <a:pt x="1064" y="2637"/>
                  </a:lnTo>
                  <a:lnTo>
                    <a:pt x="979" y="2616"/>
                  </a:lnTo>
                  <a:lnTo>
                    <a:pt x="895" y="2590"/>
                  </a:lnTo>
                  <a:lnTo>
                    <a:pt x="815" y="2559"/>
                  </a:lnTo>
                  <a:lnTo>
                    <a:pt x="736" y="2523"/>
                  </a:lnTo>
                  <a:lnTo>
                    <a:pt x="661" y="2481"/>
                  </a:lnTo>
                  <a:lnTo>
                    <a:pt x="588" y="2436"/>
                  </a:lnTo>
                  <a:lnTo>
                    <a:pt x="519" y="2385"/>
                  </a:lnTo>
                  <a:lnTo>
                    <a:pt x="453" y="2332"/>
                  </a:lnTo>
                  <a:lnTo>
                    <a:pt x="391" y="2273"/>
                  </a:lnTo>
                  <a:lnTo>
                    <a:pt x="333" y="2211"/>
                  </a:lnTo>
                  <a:lnTo>
                    <a:pt x="278" y="2145"/>
                  </a:lnTo>
                  <a:lnTo>
                    <a:pt x="228" y="2076"/>
                  </a:lnTo>
                  <a:lnTo>
                    <a:pt x="183" y="2003"/>
                  </a:lnTo>
                  <a:lnTo>
                    <a:pt x="141" y="1928"/>
                  </a:lnTo>
                  <a:lnTo>
                    <a:pt x="105" y="1849"/>
                  </a:lnTo>
                  <a:lnTo>
                    <a:pt x="74" y="1769"/>
                  </a:lnTo>
                  <a:lnTo>
                    <a:pt x="48" y="1685"/>
                  </a:lnTo>
                  <a:lnTo>
                    <a:pt x="28" y="1600"/>
                  </a:lnTo>
                  <a:lnTo>
                    <a:pt x="12" y="1512"/>
                  </a:lnTo>
                  <a:lnTo>
                    <a:pt x="3" y="1423"/>
                  </a:lnTo>
                  <a:lnTo>
                    <a:pt x="0" y="1332"/>
                  </a:lnTo>
                  <a:lnTo>
                    <a:pt x="3" y="1241"/>
                  </a:lnTo>
                  <a:lnTo>
                    <a:pt x="12" y="1151"/>
                  </a:lnTo>
                  <a:lnTo>
                    <a:pt x="28" y="1064"/>
                  </a:lnTo>
                  <a:lnTo>
                    <a:pt x="48" y="978"/>
                  </a:lnTo>
                  <a:lnTo>
                    <a:pt x="74" y="895"/>
                  </a:lnTo>
                  <a:lnTo>
                    <a:pt x="105" y="813"/>
                  </a:lnTo>
                  <a:lnTo>
                    <a:pt x="141" y="736"/>
                  </a:lnTo>
                  <a:lnTo>
                    <a:pt x="183" y="660"/>
                  </a:lnTo>
                  <a:lnTo>
                    <a:pt x="228" y="588"/>
                  </a:lnTo>
                  <a:lnTo>
                    <a:pt x="278" y="518"/>
                  </a:lnTo>
                  <a:lnTo>
                    <a:pt x="333" y="452"/>
                  </a:lnTo>
                  <a:lnTo>
                    <a:pt x="391" y="391"/>
                  </a:lnTo>
                  <a:lnTo>
                    <a:pt x="453" y="332"/>
                  </a:lnTo>
                  <a:lnTo>
                    <a:pt x="519" y="278"/>
                  </a:lnTo>
                  <a:lnTo>
                    <a:pt x="588" y="228"/>
                  </a:lnTo>
                  <a:lnTo>
                    <a:pt x="661" y="182"/>
                  </a:lnTo>
                  <a:lnTo>
                    <a:pt x="736" y="141"/>
                  </a:lnTo>
                  <a:lnTo>
                    <a:pt x="815" y="105"/>
                  </a:lnTo>
                  <a:lnTo>
                    <a:pt x="895" y="73"/>
                  </a:lnTo>
                  <a:lnTo>
                    <a:pt x="979" y="47"/>
                  </a:lnTo>
                  <a:lnTo>
                    <a:pt x="1064" y="27"/>
                  </a:lnTo>
                  <a:lnTo>
                    <a:pt x="1152" y="12"/>
                  </a:lnTo>
                  <a:lnTo>
                    <a:pt x="1242" y="3"/>
                  </a:lnTo>
                  <a:lnTo>
                    <a:pt x="133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oppins"/>
              </a:endParaRPr>
            </a:p>
          </p:txBody>
        </p:sp>
        <p:sp>
          <p:nvSpPr>
            <p:cNvPr id="860" name="Freeform 400"/>
            <p:cNvSpPr/>
            <p:nvPr/>
          </p:nvSpPr>
          <p:spPr>
            <a:xfrm>
              <a:off x="8448120" y="330120"/>
              <a:ext cx="220320" cy="1936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81" y="32"/>
                  </a:moveTo>
                  <a:lnTo>
                    <a:pt x="62" y="0"/>
                  </a:lnTo>
                  <a:lnTo>
                    <a:pt x="55" y="5"/>
                  </a:lnTo>
                  <a:lnTo>
                    <a:pt x="70" y="32"/>
                  </a:lnTo>
                  <a:lnTo>
                    <a:pt x="28" y="32"/>
                  </a:lnTo>
                  <a:lnTo>
                    <a:pt x="43" y="5"/>
                  </a:lnTo>
                  <a:lnTo>
                    <a:pt x="35" y="0"/>
                  </a:lnTo>
                  <a:lnTo>
                    <a:pt x="17" y="32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16" y="85"/>
                  </a:lnTo>
                  <a:lnTo>
                    <a:pt x="19" y="86"/>
                  </a:lnTo>
                  <a:lnTo>
                    <a:pt x="78" y="86"/>
                  </a:lnTo>
                  <a:lnTo>
                    <a:pt x="78" y="86"/>
                  </a:lnTo>
                  <a:lnTo>
                    <a:pt x="82" y="85"/>
                  </a:lnTo>
                  <a:lnTo>
                    <a:pt x="83" y="82"/>
                  </a:lnTo>
                  <a:lnTo>
                    <a:pt x="92" y="42"/>
                  </a:lnTo>
                  <a:lnTo>
                    <a:pt x="98" y="42"/>
                  </a:lnTo>
                  <a:lnTo>
                    <a:pt x="98" y="32"/>
                  </a:lnTo>
                  <a:lnTo>
                    <a:pt x="81" y="32"/>
                  </a:lnTo>
                  <a:close/>
                  <a:moveTo>
                    <a:pt x="34" y="71"/>
                  </a:moveTo>
                  <a:lnTo>
                    <a:pt x="24" y="71"/>
                  </a:lnTo>
                  <a:lnTo>
                    <a:pt x="24" y="47"/>
                  </a:lnTo>
                  <a:lnTo>
                    <a:pt x="34" y="47"/>
                  </a:lnTo>
                  <a:lnTo>
                    <a:pt x="34" y="71"/>
                  </a:lnTo>
                  <a:close/>
                  <a:moveTo>
                    <a:pt x="54" y="71"/>
                  </a:moveTo>
                  <a:lnTo>
                    <a:pt x="44" y="71"/>
                  </a:lnTo>
                  <a:lnTo>
                    <a:pt x="44" y="47"/>
                  </a:lnTo>
                  <a:lnTo>
                    <a:pt x="54" y="47"/>
                  </a:lnTo>
                  <a:lnTo>
                    <a:pt x="54" y="71"/>
                  </a:lnTo>
                  <a:close/>
                  <a:moveTo>
                    <a:pt x="74" y="71"/>
                  </a:moveTo>
                  <a:lnTo>
                    <a:pt x="64" y="71"/>
                  </a:lnTo>
                  <a:lnTo>
                    <a:pt x="64" y="47"/>
                  </a:lnTo>
                  <a:lnTo>
                    <a:pt x="74" y="47"/>
                  </a:lnTo>
                  <a:lnTo>
                    <a:pt x="74" y="7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oppins"/>
              </a:endParaRPr>
            </a:p>
          </p:txBody>
        </p:sp>
        <p:sp>
          <p:nvSpPr>
            <p:cNvPr id="861" name="Oval 10"/>
            <p:cNvSpPr/>
            <p:nvPr/>
          </p:nvSpPr>
          <p:spPr>
            <a:xfrm>
              <a:off x="8563320" y="355320"/>
              <a:ext cx="142560" cy="14292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Poppins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Poppins"/>
              </a:endParaRPr>
            </a:p>
          </p:txBody>
        </p:sp>
      </p:grpSp>
      <p:sp>
        <p:nvSpPr>
          <p:cNvPr id="862" name="Straight Connector 11"/>
          <p:cNvSpPr/>
          <p:nvPr/>
        </p:nvSpPr>
        <p:spPr>
          <a:xfrm>
            <a:off x="5272200" y="2944800"/>
            <a:ext cx="0" cy="399960"/>
          </a:xfrm>
          <a:prstGeom prst="line">
            <a:avLst/>
          </a:prstGeom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3" name="TextBox 12"/>
          <p:cNvSpPr/>
          <p:nvPr/>
        </p:nvSpPr>
        <p:spPr>
          <a:xfrm>
            <a:off x="5272200" y="2949480"/>
            <a:ext cx="1160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Poppins"/>
                <a:ea typeface="Courier New"/>
              </a:rPr>
              <a:t>2020 Collection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4" name="TextBox 13"/>
          <p:cNvSpPr/>
          <p:nvPr/>
        </p:nvSpPr>
        <p:spPr>
          <a:xfrm>
            <a:off x="5272200" y="3144960"/>
            <a:ext cx="20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Poppins"/>
                <a:ea typeface="Courier New"/>
              </a:rPr>
              <a:t>Magazine &amp; Catalogue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5" name="Rectangle 16"/>
          <p:cNvSpPr/>
          <p:nvPr/>
        </p:nvSpPr>
        <p:spPr>
          <a:xfrm>
            <a:off x="5272200" y="3719520"/>
            <a:ext cx="811080" cy="2379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Poppins"/>
              </a:rPr>
              <a:t>Shop Now</a:t>
            </a:r>
            <a:endParaRPr b="0" lang="en-US" sz="7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6" name="Rectangle 17"/>
          <p:cNvSpPr/>
          <p:nvPr/>
        </p:nvSpPr>
        <p:spPr>
          <a:xfrm>
            <a:off x="6167520" y="3719520"/>
            <a:ext cx="812880" cy="23796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404040"/>
                </a:solidFill>
                <a:latin typeface="Poppins"/>
              </a:rPr>
              <a:t>Read More</a:t>
            </a:r>
            <a:endParaRPr b="0" lang="en-US" sz="7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TextBox 2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23" name="TextBox 3"/>
          <p:cNvSpPr/>
          <p:nvPr/>
        </p:nvSpPr>
        <p:spPr>
          <a:xfrm>
            <a:off x="1060560" y="109368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Services 03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1060560" y="3189240"/>
            <a:ext cx="21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 tempor nisl non, finibus sem. In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25" name="Rectangle 5"/>
          <p:cNvSpPr/>
          <p:nvPr/>
        </p:nvSpPr>
        <p:spPr>
          <a:xfrm>
            <a:off x="5194440" y="1141560"/>
            <a:ext cx="213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26" name="Rectangle 6"/>
          <p:cNvSpPr/>
          <p:nvPr/>
        </p:nvSpPr>
        <p:spPr>
          <a:xfrm>
            <a:off x="5857920" y="3902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Poppins"/>
              </a:rPr>
              <a:t>Subtitle Here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27" name="Rectangle 7"/>
          <p:cNvSpPr/>
          <p:nvPr/>
        </p:nvSpPr>
        <p:spPr>
          <a:xfrm>
            <a:off x="5857920" y="4127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Poppins"/>
              </a:rPr>
              <a:t>Lorem ipsum dolor sit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28" name="TextBox 8"/>
          <p:cNvSpPr/>
          <p:nvPr/>
        </p:nvSpPr>
        <p:spPr>
          <a:xfrm>
            <a:off x="8147160" y="4241880"/>
            <a:ext cx="11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d9d9d9"/>
                </a:solidFill>
                <a:latin typeface="Josefin Sans"/>
              </a:rPr>
              <a:t>10.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29" name="Picture Placeholder 10" descr=""/>
          <p:cNvPicPr/>
          <p:nvPr/>
        </p:nvPicPr>
        <p:blipFill>
          <a:blip r:embed="rId1"/>
          <a:srcRect l="27347" t="0" r="27347" b="0"/>
          <a:stretch/>
        </p:blipFill>
        <p:spPr>
          <a:xfrm>
            <a:off x="3895560" y="2581200"/>
            <a:ext cx="165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TextBox 2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1" name="TextBox 3"/>
          <p:cNvSpPr/>
          <p:nvPr/>
        </p:nvSpPr>
        <p:spPr>
          <a:xfrm>
            <a:off x="5203800" y="109368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Our Process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2" name="Rectangle 4"/>
          <p:cNvSpPr/>
          <p:nvPr/>
        </p:nvSpPr>
        <p:spPr>
          <a:xfrm>
            <a:off x="5203800" y="2155680"/>
            <a:ext cx="278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3" name="Rectangle 5"/>
          <p:cNvSpPr/>
          <p:nvPr/>
        </p:nvSpPr>
        <p:spPr>
          <a:xfrm>
            <a:off x="5203800" y="3360600"/>
            <a:ext cx="21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4" name="TextBox 6"/>
          <p:cNvSpPr/>
          <p:nvPr/>
        </p:nvSpPr>
        <p:spPr>
          <a:xfrm>
            <a:off x="8147160" y="4241880"/>
            <a:ext cx="11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d9d9d9"/>
                </a:solidFill>
                <a:latin typeface="Josefin Sans"/>
              </a:rPr>
              <a:t>11.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35" name="Picture Placeholder 7" descr=""/>
          <p:cNvPicPr/>
          <p:nvPr/>
        </p:nvPicPr>
        <p:blipFill>
          <a:blip r:embed="rId1"/>
          <a:srcRect l="26563" t="0" r="26563" b="0"/>
          <a:stretch/>
        </p:blipFill>
        <p:spPr>
          <a:xfrm>
            <a:off x="1143000" y="51444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TextBox 2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7" name="TextBox 3"/>
          <p:cNvSpPr/>
          <p:nvPr/>
        </p:nvSpPr>
        <p:spPr>
          <a:xfrm>
            <a:off x="1060560" y="109368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Process 01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8" name="Rectangle 4"/>
          <p:cNvSpPr/>
          <p:nvPr/>
        </p:nvSpPr>
        <p:spPr>
          <a:xfrm>
            <a:off x="1060560" y="2239920"/>
            <a:ext cx="21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Subtitle Here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9" name="Rectangle 5"/>
          <p:cNvSpPr/>
          <p:nvPr/>
        </p:nvSpPr>
        <p:spPr>
          <a:xfrm>
            <a:off x="1060560" y="2465280"/>
            <a:ext cx="213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0" name="Rectangle 6"/>
          <p:cNvSpPr/>
          <p:nvPr/>
        </p:nvSpPr>
        <p:spPr>
          <a:xfrm>
            <a:off x="1060560" y="3532320"/>
            <a:ext cx="351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 tempor nisl non, finibus sem. In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41" name="Picture Placeholder 7" descr=""/>
          <p:cNvPicPr/>
          <p:nvPr/>
        </p:nvPicPr>
        <p:blipFill>
          <a:blip r:embed="rId1"/>
          <a:srcRect l="32878" t="0" r="32878" b="0"/>
          <a:stretch/>
        </p:blipFill>
        <p:spPr>
          <a:xfrm>
            <a:off x="6638760" y="514440"/>
            <a:ext cx="2505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TextBox 2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3" name="TextBox 3"/>
          <p:cNvSpPr/>
          <p:nvPr/>
        </p:nvSpPr>
        <p:spPr>
          <a:xfrm>
            <a:off x="5203800" y="109368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Process 02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4" name="Rectangle 4"/>
          <p:cNvSpPr/>
          <p:nvPr/>
        </p:nvSpPr>
        <p:spPr>
          <a:xfrm>
            <a:off x="5203800" y="2155680"/>
            <a:ext cx="278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5" name="Rectangle 5"/>
          <p:cNvSpPr/>
          <p:nvPr/>
        </p:nvSpPr>
        <p:spPr>
          <a:xfrm>
            <a:off x="5203800" y="3360600"/>
            <a:ext cx="21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6" name="TextBox 6"/>
          <p:cNvSpPr/>
          <p:nvPr/>
        </p:nvSpPr>
        <p:spPr>
          <a:xfrm>
            <a:off x="8147160" y="4241880"/>
            <a:ext cx="11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d9d9d9"/>
                </a:solidFill>
                <a:latin typeface="Josefin Sans"/>
              </a:rPr>
              <a:t>13.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47" name="Picture Placeholder 7" descr=""/>
          <p:cNvPicPr/>
          <p:nvPr/>
        </p:nvPicPr>
        <p:blipFill>
          <a:blip r:embed="rId1"/>
          <a:srcRect l="32102" t="0" r="32102" b="0"/>
          <a:stretch/>
        </p:blipFill>
        <p:spPr>
          <a:xfrm>
            <a:off x="1819440" y="1895400"/>
            <a:ext cx="206676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Box 2"/>
          <p:cNvSpPr/>
          <p:nvPr/>
        </p:nvSpPr>
        <p:spPr>
          <a:xfrm>
            <a:off x="1089000" y="114156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Process 03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9" name="Rectangle 3"/>
          <p:cNvSpPr/>
          <p:nvPr/>
        </p:nvSpPr>
        <p:spPr>
          <a:xfrm>
            <a:off x="1089000" y="3247920"/>
            <a:ext cx="21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Subtite Here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0" name="Rectangle 4"/>
          <p:cNvSpPr/>
          <p:nvPr/>
        </p:nvSpPr>
        <p:spPr>
          <a:xfrm>
            <a:off x="1089000" y="3473280"/>
            <a:ext cx="213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1" name="Rectangle 6"/>
          <p:cNvSpPr/>
          <p:nvPr/>
        </p:nvSpPr>
        <p:spPr>
          <a:xfrm>
            <a:off x="5257800" y="118116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 tempor nisl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52" name="Picture Placeholder 7" descr=""/>
          <p:cNvPicPr/>
          <p:nvPr/>
        </p:nvPicPr>
        <p:blipFill>
          <a:blip r:embed="rId1"/>
          <a:srcRect l="0" t="6652" r="0" b="6652"/>
          <a:stretch/>
        </p:blipFill>
        <p:spPr>
          <a:xfrm>
            <a:off x="5257800" y="3247920"/>
            <a:ext cx="388620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TextBox 2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4" name="TextBox 3"/>
          <p:cNvSpPr/>
          <p:nvPr/>
        </p:nvSpPr>
        <p:spPr>
          <a:xfrm>
            <a:off x="5203800" y="109368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Our Approach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5203800" y="2155680"/>
            <a:ext cx="278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Lorem ipsum dolor sit amet, consectetur adipiscing elit. Aliquam sit amet metus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6" name="Rectangle 5"/>
          <p:cNvSpPr/>
          <p:nvPr/>
        </p:nvSpPr>
        <p:spPr>
          <a:xfrm>
            <a:off x="5203800" y="3360600"/>
            <a:ext cx="21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Lorem ipsum dolor sit amet, consectetur adipiscing elit. Aliquam sit amet metus commodo,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7" name="TextBox 6"/>
          <p:cNvSpPr/>
          <p:nvPr/>
        </p:nvSpPr>
        <p:spPr>
          <a:xfrm>
            <a:off x="8147160" y="4241880"/>
            <a:ext cx="11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d9d9d9"/>
                </a:solidFill>
                <a:latin typeface="Josefin Sans"/>
              </a:rPr>
              <a:t>15.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58" name="Picture Placeholder 7" descr=""/>
          <p:cNvPicPr/>
          <p:nvPr/>
        </p:nvPicPr>
        <p:blipFill>
          <a:blip r:embed="rId1"/>
          <a:srcRect l="16976" t="0" r="16976" b="0"/>
          <a:stretch/>
        </p:blipFill>
        <p:spPr>
          <a:xfrm>
            <a:off x="0" y="1209600"/>
            <a:ext cx="32097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Box 2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0" name="TextBox 3"/>
          <p:cNvSpPr/>
          <p:nvPr/>
        </p:nvSpPr>
        <p:spPr>
          <a:xfrm>
            <a:off x="1089000" y="114156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Approach 01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1" name="Rectangle 5"/>
          <p:cNvSpPr/>
          <p:nvPr/>
        </p:nvSpPr>
        <p:spPr>
          <a:xfrm>
            <a:off x="5184720" y="1141560"/>
            <a:ext cx="21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Subtite Here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2" name="Rectangle 6"/>
          <p:cNvSpPr/>
          <p:nvPr/>
        </p:nvSpPr>
        <p:spPr>
          <a:xfrm>
            <a:off x="5184720" y="1365120"/>
            <a:ext cx="213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3" name="Rectangle 8"/>
          <p:cNvSpPr/>
          <p:nvPr/>
        </p:nvSpPr>
        <p:spPr>
          <a:xfrm>
            <a:off x="1089000" y="2179800"/>
            <a:ext cx="213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Lorem ipsum dolor sit amet, consectetur adipiscing elit. 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4" name="Rectangle 9"/>
          <p:cNvSpPr/>
          <p:nvPr/>
        </p:nvSpPr>
        <p:spPr>
          <a:xfrm>
            <a:off x="1089000" y="3533760"/>
            <a:ext cx="213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5" name="TextBox 10"/>
          <p:cNvSpPr/>
          <p:nvPr/>
        </p:nvSpPr>
        <p:spPr>
          <a:xfrm>
            <a:off x="8147160" y="4241880"/>
            <a:ext cx="11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d9d9d9"/>
                </a:solidFill>
                <a:latin typeface="Josefin Sans"/>
              </a:rPr>
              <a:t>16.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66" name="Picture Placeholder 7" descr=""/>
          <p:cNvPicPr/>
          <p:nvPr/>
        </p:nvPicPr>
        <p:blipFill>
          <a:blip r:embed="rId1"/>
          <a:srcRect l="0" t="975" r="0" b="975"/>
          <a:stretch/>
        </p:blipFill>
        <p:spPr>
          <a:xfrm>
            <a:off x="3895560" y="3257640"/>
            <a:ext cx="34196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TextBox 2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8" name="TextBox 6"/>
          <p:cNvSpPr/>
          <p:nvPr/>
        </p:nvSpPr>
        <p:spPr>
          <a:xfrm>
            <a:off x="8147160" y="4241880"/>
            <a:ext cx="11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7f7f7f"/>
                </a:solidFill>
                <a:latin typeface="Josefin Sans"/>
              </a:rPr>
              <a:t>13.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9" name="TextBox 7"/>
          <p:cNvSpPr/>
          <p:nvPr/>
        </p:nvSpPr>
        <p:spPr>
          <a:xfrm>
            <a:off x="3832200" y="109368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Approach 02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0" name="Rectangle 8"/>
          <p:cNvSpPr/>
          <p:nvPr/>
        </p:nvSpPr>
        <p:spPr>
          <a:xfrm>
            <a:off x="3832200" y="2155680"/>
            <a:ext cx="278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1" name="Rectangle 9"/>
          <p:cNvSpPr/>
          <p:nvPr/>
        </p:nvSpPr>
        <p:spPr>
          <a:xfrm>
            <a:off x="3832200" y="3360600"/>
            <a:ext cx="21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72" name="Picture Placeholder 4" descr=""/>
          <p:cNvPicPr/>
          <p:nvPr/>
        </p:nvPicPr>
        <p:blipFill>
          <a:blip r:embed="rId1"/>
          <a:srcRect l="28736" t="0" r="28736" b="0"/>
          <a:stretch/>
        </p:blipFill>
        <p:spPr>
          <a:xfrm>
            <a:off x="1143000" y="1209600"/>
            <a:ext cx="20667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Box 2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4" name="TextBox 3"/>
          <p:cNvSpPr/>
          <p:nvPr/>
        </p:nvSpPr>
        <p:spPr>
          <a:xfrm>
            <a:off x="1060560" y="109368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Approach 03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5" name="Rectangle 4"/>
          <p:cNvSpPr/>
          <p:nvPr/>
        </p:nvSpPr>
        <p:spPr>
          <a:xfrm>
            <a:off x="6566040" y="3297240"/>
            <a:ext cx="213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Subtitle Here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6566040" y="3521160"/>
            <a:ext cx="147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7" name="Rectangle 6"/>
          <p:cNvSpPr/>
          <p:nvPr/>
        </p:nvSpPr>
        <p:spPr>
          <a:xfrm>
            <a:off x="1060560" y="3139920"/>
            <a:ext cx="21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 tempor nisl non, finibus sem. In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8" name="TextBox 7"/>
          <p:cNvSpPr/>
          <p:nvPr/>
        </p:nvSpPr>
        <p:spPr>
          <a:xfrm>
            <a:off x="8147160" y="4241880"/>
            <a:ext cx="11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d9d9d9"/>
                </a:solidFill>
                <a:latin typeface="Josefin Sans"/>
              </a:rPr>
              <a:t>18.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79" name="Picture Placeholder 9" descr=""/>
          <p:cNvPicPr/>
          <p:nvPr/>
        </p:nvPicPr>
        <p:blipFill>
          <a:blip r:embed="rId1"/>
          <a:srcRect l="32185" t="0" r="32185" b="0"/>
          <a:stretch/>
        </p:blipFill>
        <p:spPr>
          <a:xfrm>
            <a:off x="3895560" y="1895400"/>
            <a:ext cx="205740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Box 2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1" name="TextBox 3"/>
          <p:cNvSpPr/>
          <p:nvPr/>
        </p:nvSpPr>
        <p:spPr>
          <a:xfrm>
            <a:off x="1089000" y="114156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Our Concept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2" name="Rectangle 4"/>
          <p:cNvSpPr/>
          <p:nvPr/>
        </p:nvSpPr>
        <p:spPr>
          <a:xfrm>
            <a:off x="5184720" y="1141560"/>
            <a:ext cx="21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Subtite Here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3" name="Rectangle 5"/>
          <p:cNvSpPr/>
          <p:nvPr/>
        </p:nvSpPr>
        <p:spPr>
          <a:xfrm>
            <a:off x="5184720" y="1365120"/>
            <a:ext cx="213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Lorem ipsum dolor sit amet, consectetur adipiscing elit. 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4" name="Rectangle 6"/>
          <p:cNvSpPr/>
          <p:nvPr/>
        </p:nvSpPr>
        <p:spPr>
          <a:xfrm>
            <a:off x="5203800" y="3360600"/>
            <a:ext cx="21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5" name="TextBox 7"/>
          <p:cNvSpPr/>
          <p:nvPr/>
        </p:nvSpPr>
        <p:spPr>
          <a:xfrm>
            <a:off x="8147160" y="4241880"/>
            <a:ext cx="11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d9d9d9"/>
                </a:solidFill>
                <a:latin typeface="Josefin Sans"/>
              </a:rPr>
              <a:t>19.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86" name="Picture Placeholder 8" descr=""/>
          <p:cNvPicPr/>
          <p:nvPr/>
        </p:nvPicPr>
        <p:blipFill>
          <a:blip r:embed="rId1"/>
          <a:srcRect l="0" t="287" r="0" b="287"/>
          <a:stretch/>
        </p:blipFill>
        <p:spPr>
          <a:xfrm>
            <a:off x="0" y="2581200"/>
            <a:ext cx="45813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Box 7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8" name="TextBox 8"/>
          <p:cNvSpPr/>
          <p:nvPr/>
        </p:nvSpPr>
        <p:spPr>
          <a:xfrm>
            <a:off x="1060560" y="109368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Josefin Sans"/>
              </a:rPr>
              <a:t>Welcome Note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9" name="Rectangle 9"/>
          <p:cNvSpPr/>
          <p:nvPr/>
        </p:nvSpPr>
        <p:spPr>
          <a:xfrm>
            <a:off x="1060560" y="3189240"/>
            <a:ext cx="279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Poppins"/>
              </a:rPr>
              <a:t>Lorem ipsum dolor sit amet, consectetur adipiscing elit. Aliquam sit amet metus commodo, tempor nisl non, finibus sem. In urna purus, fermentum nec massa sed, 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70" name="Rectangle 10"/>
          <p:cNvSpPr/>
          <p:nvPr/>
        </p:nvSpPr>
        <p:spPr>
          <a:xfrm>
            <a:off x="7246800" y="2170080"/>
            <a:ext cx="14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Josefin Sans"/>
              </a:rPr>
              <a:t>Name Here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71" name="Rectangle 11"/>
          <p:cNvSpPr/>
          <p:nvPr/>
        </p:nvSpPr>
        <p:spPr>
          <a:xfrm>
            <a:off x="7246800" y="2414520"/>
            <a:ext cx="144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Josefin Sans"/>
              </a:rPr>
              <a:t>Position Here</a:t>
            </a:r>
            <a:endParaRPr b="0" lang="en-US" sz="9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872" name="Picture Placeholder 3" descr=""/>
          <p:cNvPicPr/>
          <p:nvPr/>
        </p:nvPicPr>
        <p:blipFill>
          <a:blip r:embed="rId1"/>
          <a:srcRect l="32323" t="0" r="32323" b="0"/>
          <a:stretch/>
        </p:blipFill>
        <p:spPr>
          <a:xfrm>
            <a:off x="4581360" y="1886040"/>
            <a:ext cx="20480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Box 1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8" name="TextBox 2"/>
          <p:cNvSpPr/>
          <p:nvPr/>
        </p:nvSpPr>
        <p:spPr>
          <a:xfrm>
            <a:off x="1068480" y="1069920"/>
            <a:ext cx="311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Break Slides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9" name="TextBox 3"/>
          <p:cNvSpPr/>
          <p:nvPr/>
        </p:nvSpPr>
        <p:spPr>
          <a:xfrm>
            <a:off x="8147160" y="4241880"/>
            <a:ext cx="11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d9d9d9"/>
                </a:solidFill>
                <a:latin typeface="Josefin Sans"/>
              </a:rPr>
              <a:t>20.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0" name="Rectangle 5"/>
          <p:cNvSpPr/>
          <p:nvPr/>
        </p:nvSpPr>
        <p:spPr>
          <a:xfrm>
            <a:off x="1068480" y="2263680"/>
            <a:ext cx="2131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Poppins"/>
              </a:rPr>
              <a:t>30 Minutes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1" name="Rectangle 6"/>
          <p:cNvSpPr/>
          <p:nvPr/>
        </p:nvSpPr>
        <p:spPr>
          <a:xfrm>
            <a:off x="1068480" y="2587680"/>
            <a:ext cx="213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Lorem ipsum dolor sit amet, consectetur adipiscing elit. 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92" name="Picture Placeholder 8" descr=""/>
          <p:cNvPicPr/>
          <p:nvPr/>
        </p:nvPicPr>
        <p:blipFill>
          <a:blip r:embed="rId1"/>
          <a:srcRect l="31354" t="0" r="31354" b="0"/>
          <a:stretch/>
        </p:blipFill>
        <p:spPr>
          <a:xfrm>
            <a:off x="3895560" y="0"/>
            <a:ext cx="34102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TextBox 2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4" name="TextBox 6"/>
          <p:cNvSpPr/>
          <p:nvPr/>
        </p:nvSpPr>
        <p:spPr>
          <a:xfrm>
            <a:off x="1149480" y="109368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Our Market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5" name="Rectangle 7"/>
          <p:cNvSpPr/>
          <p:nvPr/>
        </p:nvSpPr>
        <p:spPr>
          <a:xfrm>
            <a:off x="1149480" y="2155680"/>
            <a:ext cx="278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Lorem ipsum dolor sit amet, consectetur adipiscing elit. Aliquam sit amet metus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6" name="Rectangle 8"/>
          <p:cNvSpPr/>
          <p:nvPr/>
        </p:nvSpPr>
        <p:spPr>
          <a:xfrm>
            <a:off x="1149480" y="3360600"/>
            <a:ext cx="21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7" name="TextBox 9"/>
          <p:cNvSpPr/>
          <p:nvPr/>
        </p:nvSpPr>
        <p:spPr>
          <a:xfrm>
            <a:off x="8147160" y="4241880"/>
            <a:ext cx="11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7f7f7f"/>
                </a:solidFill>
                <a:latin typeface="Josefin Sans"/>
              </a:rPr>
              <a:t>21.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98" name="Picture Placeholder 4" descr=""/>
          <p:cNvPicPr/>
          <p:nvPr/>
        </p:nvPicPr>
        <p:blipFill>
          <a:blip r:embed="rId1"/>
          <a:srcRect l="28736" t="0" r="28736" b="0"/>
          <a:stretch/>
        </p:blipFill>
        <p:spPr>
          <a:xfrm>
            <a:off x="5257800" y="1204920"/>
            <a:ext cx="20667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TextBox 17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0" name="TextBox 19"/>
          <p:cNvSpPr/>
          <p:nvPr/>
        </p:nvSpPr>
        <p:spPr>
          <a:xfrm>
            <a:off x="3127320" y="1103400"/>
            <a:ext cx="311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Minimalist Style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1" name="Rectangle 20"/>
          <p:cNvSpPr/>
          <p:nvPr/>
        </p:nvSpPr>
        <p:spPr>
          <a:xfrm>
            <a:off x="3127320" y="2238480"/>
            <a:ext cx="21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Subtite Here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2" name="Rectangle 21"/>
          <p:cNvSpPr/>
          <p:nvPr/>
        </p:nvSpPr>
        <p:spPr>
          <a:xfrm>
            <a:off x="3127320" y="2463840"/>
            <a:ext cx="155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3" name="Rectangle 22"/>
          <p:cNvSpPr/>
          <p:nvPr/>
        </p:nvSpPr>
        <p:spPr>
          <a:xfrm>
            <a:off x="5257800" y="2238480"/>
            <a:ext cx="21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Subtite Here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4" name="Rectangle 23"/>
          <p:cNvSpPr/>
          <p:nvPr/>
        </p:nvSpPr>
        <p:spPr>
          <a:xfrm>
            <a:off x="5257800" y="2463840"/>
            <a:ext cx="155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5" name="Rectangle 24"/>
          <p:cNvSpPr/>
          <p:nvPr/>
        </p:nvSpPr>
        <p:spPr>
          <a:xfrm>
            <a:off x="3127320" y="3519360"/>
            <a:ext cx="418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 tempor nisl non, finibus sem. In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6" name="TextBox 25"/>
          <p:cNvSpPr/>
          <p:nvPr/>
        </p:nvSpPr>
        <p:spPr>
          <a:xfrm>
            <a:off x="8147160" y="4241880"/>
            <a:ext cx="11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d9d9d9"/>
                </a:solidFill>
                <a:latin typeface="Josefin Sans"/>
              </a:rPr>
              <a:t>22.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007" name="Picture Placeholder 3" descr=""/>
          <p:cNvPicPr/>
          <p:nvPr/>
        </p:nvPicPr>
        <p:blipFill>
          <a:blip r:embed="rId1"/>
          <a:srcRect l="34083" t="0" r="34083" b="0"/>
          <a:stretch/>
        </p:blipFill>
        <p:spPr>
          <a:xfrm>
            <a:off x="0" y="1895400"/>
            <a:ext cx="183816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5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TextBox 3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9" name="TextBox 4"/>
          <p:cNvSpPr/>
          <p:nvPr/>
        </p:nvSpPr>
        <p:spPr>
          <a:xfrm>
            <a:off x="1149480" y="109368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E-Shop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0" name="Rectangle 5"/>
          <p:cNvSpPr/>
          <p:nvPr/>
        </p:nvSpPr>
        <p:spPr>
          <a:xfrm>
            <a:off x="1149480" y="2155680"/>
            <a:ext cx="278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Lorem ipsum dolor sit amet, consectetur adipiscing elit. Aliquam sit amet metus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1" name="Rectangle 6"/>
          <p:cNvSpPr/>
          <p:nvPr/>
        </p:nvSpPr>
        <p:spPr>
          <a:xfrm>
            <a:off x="1149480" y="3360600"/>
            <a:ext cx="21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012" name="Picture Placeholder 7" descr=""/>
          <p:cNvPicPr/>
          <p:nvPr/>
        </p:nvPicPr>
        <p:blipFill>
          <a:blip r:embed="rId1"/>
          <a:srcRect l="1083" t="0" r="1083" b="0"/>
          <a:stretch/>
        </p:blipFill>
        <p:spPr>
          <a:xfrm>
            <a:off x="4670280" y="1327320"/>
            <a:ext cx="306252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extBox 2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4" name="TextBox 3"/>
          <p:cNvSpPr/>
          <p:nvPr/>
        </p:nvSpPr>
        <p:spPr>
          <a:xfrm>
            <a:off x="1149480" y="109368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Josefin Sans"/>
              </a:rPr>
              <a:t>Our Shop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5" name="Rectangle 4"/>
          <p:cNvSpPr/>
          <p:nvPr/>
        </p:nvSpPr>
        <p:spPr>
          <a:xfrm>
            <a:off x="1149480" y="2155680"/>
            <a:ext cx="278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Poppins"/>
              </a:rPr>
              <a:t>Lorem ipsum dolor sit amet, consectetur adipiscing elit. Aliquam sit amet metus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6" name="Rectangle 5"/>
          <p:cNvSpPr/>
          <p:nvPr/>
        </p:nvSpPr>
        <p:spPr>
          <a:xfrm>
            <a:off x="1149480" y="3360600"/>
            <a:ext cx="21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Poppins"/>
              </a:rPr>
              <a:t>Lorem ipsum dolor sit amet, consectetur adipiscing elit. Aliquam sit amet metus commodo,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7" name="TextBox 6"/>
          <p:cNvSpPr/>
          <p:nvPr/>
        </p:nvSpPr>
        <p:spPr>
          <a:xfrm>
            <a:off x="8147160" y="4241880"/>
            <a:ext cx="11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d9d9d9"/>
                </a:solidFill>
                <a:latin typeface="Josefin Sans"/>
              </a:rPr>
              <a:t>24.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018" name="Picture Placeholder 7" descr=""/>
          <p:cNvPicPr/>
          <p:nvPr/>
        </p:nvPicPr>
        <p:blipFill>
          <a:blip r:embed="rId1"/>
          <a:srcRect l="28736" t="0" r="28736" b="0"/>
          <a:stretch/>
        </p:blipFill>
        <p:spPr>
          <a:xfrm>
            <a:off x="5257800" y="1204920"/>
            <a:ext cx="20667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Box 4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0" name="TextBox 5"/>
          <p:cNvSpPr/>
          <p:nvPr/>
        </p:nvSpPr>
        <p:spPr>
          <a:xfrm>
            <a:off x="3130560" y="114156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Josefin Sans"/>
              </a:rPr>
              <a:t>Our Gallery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1" name="Rectangle 6"/>
          <p:cNvSpPr/>
          <p:nvPr/>
        </p:nvSpPr>
        <p:spPr>
          <a:xfrm>
            <a:off x="4549680" y="2581200"/>
            <a:ext cx="21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Poppins"/>
              </a:rPr>
              <a:t>Subtitle Here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2" name="Rectangle 7"/>
          <p:cNvSpPr/>
          <p:nvPr/>
        </p:nvSpPr>
        <p:spPr>
          <a:xfrm>
            <a:off x="4549680" y="2806560"/>
            <a:ext cx="213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Poppins"/>
              </a:rPr>
              <a:t>Lorem ipsum dolor sit amet, consectetur adipiscing elit. Lorem ipsum dolor sit amet, consectetur adipiscing elit. 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3" name="Rectangle 8"/>
          <p:cNvSpPr/>
          <p:nvPr/>
        </p:nvSpPr>
        <p:spPr>
          <a:xfrm>
            <a:off x="4546440" y="4214880"/>
            <a:ext cx="278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Poppins"/>
              </a:rPr>
              <a:t>Lorem ipsum dolor sit amet, consectetur adipiscing elit. Aliquam sit amet metus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4" name="TextBox 9"/>
          <p:cNvSpPr/>
          <p:nvPr/>
        </p:nvSpPr>
        <p:spPr>
          <a:xfrm>
            <a:off x="8147160" y="4241880"/>
            <a:ext cx="11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7f7f7f"/>
                </a:solidFill>
                <a:latin typeface="Josefin Sans"/>
              </a:rPr>
              <a:t>25.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025" name="Picture Placeholder 3" descr=""/>
          <p:cNvPicPr/>
          <p:nvPr/>
        </p:nvPicPr>
        <p:blipFill>
          <a:blip r:embed="rId1"/>
          <a:srcRect l="27311" t="0" r="27311" b="0"/>
          <a:stretch/>
        </p:blipFill>
        <p:spPr>
          <a:xfrm>
            <a:off x="1828800" y="2581200"/>
            <a:ext cx="2066760" cy="2562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Placeholder 12" descr=""/>
          <p:cNvPicPr/>
          <p:nvPr/>
        </p:nvPicPr>
        <p:blipFill>
          <a:blip r:embed="rId2"/>
          <a:srcRect l="29507" t="0" r="29507" b="0"/>
          <a:stretch/>
        </p:blipFill>
        <p:spPr>
          <a:xfrm>
            <a:off x="5952960" y="0"/>
            <a:ext cx="1381320" cy="18954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Placeholder 15" descr=""/>
          <p:cNvPicPr/>
          <p:nvPr/>
        </p:nvPicPr>
        <p:blipFill>
          <a:blip r:embed="rId3"/>
          <a:srcRect l="21676" t="0" r="21676" b="0"/>
          <a:stretch/>
        </p:blipFill>
        <p:spPr>
          <a:xfrm>
            <a:off x="7334280" y="1895400"/>
            <a:ext cx="13809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TextBox 4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9" name="TextBox 5"/>
          <p:cNvSpPr/>
          <p:nvPr/>
        </p:nvSpPr>
        <p:spPr>
          <a:xfrm>
            <a:off x="1149480" y="109368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Our Team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0" name="Rectangle 6"/>
          <p:cNvSpPr/>
          <p:nvPr/>
        </p:nvSpPr>
        <p:spPr>
          <a:xfrm>
            <a:off x="1565280" y="2851200"/>
            <a:ext cx="1722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Poppins"/>
              </a:rPr>
              <a:t>Lorem ipsum dolor sit amet, consectetur adipiscing elit. Aliquam sit amet metus commodo,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1" name="Rectangle 7"/>
          <p:cNvSpPr/>
          <p:nvPr/>
        </p:nvSpPr>
        <p:spPr>
          <a:xfrm>
            <a:off x="3619440" y="117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Name Here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2" name="Rectangle 8"/>
          <p:cNvSpPr/>
          <p:nvPr/>
        </p:nvSpPr>
        <p:spPr>
          <a:xfrm>
            <a:off x="3619440" y="139716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Position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3" name="Rectangle 9"/>
          <p:cNvSpPr/>
          <p:nvPr/>
        </p:nvSpPr>
        <p:spPr>
          <a:xfrm>
            <a:off x="5124600" y="1171440"/>
            <a:ext cx="13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Name Here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4" name="Rectangle 10"/>
          <p:cNvSpPr/>
          <p:nvPr/>
        </p:nvSpPr>
        <p:spPr>
          <a:xfrm>
            <a:off x="5124600" y="1397160"/>
            <a:ext cx="13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Position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5" name="Rectangle 11"/>
          <p:cNvSpPr/>
          <p:nvPr/>
        </p:nvSpPr>
        <p:spPr>
          <a:xfrm>
            <a:off x="6629400" y="1171440"/>
            <a:ext cx="13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Name Here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6" name="Rectangle 12"/>
          <p:cNvSpPr/>
          <p:nvPr/>
        </p:nvSpPr>
        <p:spPr>
          <a:xfrm>
            <a:off x="6629400" y="1397160"/>
            <a:ext cx="13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Position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037" name="Picture Placeholder 3" descr=""/>
          <p:cNvPicPr/>
          <p:nvPr/>
        </p:nvPicPr>
        <p:blipFill>
          <a:blip r:embed="rId1"/>
          <a:srcRect l="21676" t="0" r="21676" b="0"/>
          <a:stretch/>
        </p:blipFill>
        <p:spPr>
          <a:xfrm>
            <a:off x="3619440" y="2581200"/>
            <a:ext cx="1381320" cy="13716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Placeholder 14" descr=""/>
          <p:cNvPicPr/>
          <p:nvPr/>
        </p:nvPicPr>
        <p:blipFill>
          <a:blip r:embed="rId2"/>
          <a:srcRect l="21676" t="0" r="21676" b="0"/>
          <a:stretch/>
        </p:blipFill>
        <p:spPr>
          <a:xfrm>
            <a:off x="5124600" y="2581200"/>
            <a:ext cx="1380960" cy="13716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Placeholder 17" descr=""/>
          <p:cNvPicPr/>
          <p:nvPr/>
        </p:nvPicPr>
        <p:blipFill>
          <a:blip r:embed="rId3"/>
          <a:srcRect l="21676" t="0" r="21676" b="0"/>
          <a:stretch/>
        </p:blipFill>
        <p:spPr>
          <a:xfrm>
            <a:off x="6629400" y="2581200"/>
            <a:ext cx="13809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5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0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5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TextBox 4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1" name="TextBox 5"/>
          <p:cNvSpPr/>
          <p:nvPr/>
        </p:nvSpPr>
        <p:spPr>
          <a:xfrm>
            <a:off x="1063800" y="1046160"/>
            <a:ext cx="2098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Our Designers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063800" y="3365640"/>
            <a:ext cx="209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3619440" y="206856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Name Here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3619440" y="229248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Position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5" name="Rectangle 9"/>
          <p:cNvSpPr/>
          <p:nvPr/>
        </p:nvSpPr>
        <p:spPr>
          <a:xfrm>
            <a:off x="5124600" y="2773440"/>
            <a:ext cx="13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Name Here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6" name="Rectangle 10"/>
          <p:cNvSpPr/>
          <p:nvPr/>
        </p:nvSpPr>
        <p:spPr>
          <a:xfrm>
            <a:off x="5124600" y="2997360"/>
            <a:ext cx="13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Position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7" name="Rectangle 11"/>
          <p:cNvSpPr/>
          <p:nvPr/>
        </p:nvSpPr>
        <p:spPr>
          <a:xfrm>
            <a:off x="6629400" y="3521160"/>
            <a:ext cx="13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Name Here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8" name="Rectangle 12"/>
          <p:cNvSpPr/>
          <p:nvPr/>
        </p:nvSpPr>
        <p:spPr>
          <a:xfrm>
            <a:off x="6629400" y="3746520"/>
            <a:ext cx="13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Position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9" name="TextBox 13"/>
          <p:cNvSpPr/>
          <p:nvPr/>
        </p:nvSpPr>
        <p:spPr>
          <a:xfrm>
            <a:off x="8147160" y="4241880"/>
            <a:ext cx="11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d9d9d9"/>
                </a:solidFill>
                <a:latin typeface="Josefin Sans"/>
              </a:rPr>
              <a:t>27.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050" name="Picture Placeholder 3" descr=""/>
          <p:cNvPicPr/>
          <p:nvPr/>
        </p:nvPicPr>
        <p:blipFill>
          <a:blip r:embed="rId1"/>
          <a:srcRect l="29507" t="0" r="29507" b="0"/>
          <a:stretch/>
        </p:blipFill>
        <p:spPr>
          <a:xfrm>
            <a:off x="3619440" y="0"/>
            <a:ext cx="1381320" cy="18954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Placeholder 15" descr=""/>
          <p:cNvPicPr/>
          <p:nvPr/>
        </p:nvPicPr>
        <p:blipFill>
          <a:blip r:embed="rId2"/>
          <a:srcRect l="34783" t="0" r="34783" b="0"/>
          <a:stretch/>
        </p:blipFill>
        <p:spPr>
          <a:xfrm>
            <a:off x="5124600" y="0"/>
            <a:ext cx="1380960" cy="2552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Placeholder 18" descr=""/>
          <p:cNvPicPr/>
          <p:nvPr/>
        </p:nvPicPr>
        <p:blipFill>
          <a:blip r:embed="rId3"/>
          <a:srcRect l="38075" t="0" r="38075" b="0"/>
          <a:stretch/>
        </p:blipFill>
        <p:spPr>
          <a:xfrm>
            <a:off x="6629400" y="0"/>
            <a:ext cx="138096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5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3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TextBox 2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4" name="TextBox 3"/>
          <p:cNvSpPr/>
          <p:nvPr/>
        </p:nvSpPr>
        <p:spPr>
          <a:xfrm>
            <a:off x="1149480" y="109368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Testimonial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5" name="Rectangle 5"/>
          <p:cNvSpPr/>
          <p:nvPr/>
        </p:nvSpPr>
        <p:spPr>
          <a:xfrm>
            <a:off x="1149480" y="2747880"/>
            <a:ext cx="2111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 Lorem ipsum dolor sit amet, consectetur adipiscing elit. Aliquam sit amet metus commodo,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6" name="Rectangle 6"/>
          <p:cNvSpPr/>
          <p:nvPr/>
        </p:nvSpPr>
        <p:spPr>
          <a:xfrm>
            <a:off x="5886360" y="28256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Poppins"/>
              </a:rPr>
              <a:t>Name Here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7" name="Rectangle 7"/>
          <p:cNvSpPr/>
          <p:nvPr/>
        </p:nvSpPr>
        <p:spPr>
          <a:xfrm>
            <a:off x="5886360" y="305100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Poppins"/>
              </a:rPr>
              <a:t>Formatika, Inc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8" name="TextBox 8"/>
          <p:cNvSpPr/>
          <p:nvPr/>
        </p:nvSpPr>
        <p:spPr>
          <a:xfrm>
            <a:off x="8147160" y="4241880"/>
            <a:ext cx="11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7f7f7f"/>
                </a:solidFill>
                <a:latin typeface="Josefin Sans"/>
              </a:rPr>
              <a:t>28.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059" name="Picture Placeholder 9" descr=""/>
          <p:cNvPicPr/>
          <p:nvPr/>
        </p:nvPicPr>
        <p:blipFill>
          <a:blip r:embed="rId1"/>
          <a:srcRect l="21676" t="0" r="21676" b="0"/>
          <a:stretch/>
        </p:blipFill>
        <p:spPr>
          <a:xfrm>
            <a:off x="3762360" y="2571840"/>
            <a:ext cx="1381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5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5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TextBox 2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1" name="TextBox 3"/>
          <p:cNvSpPr/>
          <p:nvPr/>
        </p:nvSpPr>
        <p:spPr>
          <a:xfrm>
            <a:off x="5203800" y="109368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Contact Us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2" name="TextBox 6"/>
          <p:cNvSpPr/>
          <p:nvPr/>
        </p:nvSpPr>
        <p:spPr>
          <a:xfrm>
            <a:off x="8147160" y="4241880"/>
            <a:ext cx="11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d9d9d9"/>
                </a:solidFill>
                <a:latin typeface="Josefin Sans"/>
              </a:rPr>
              <a:t>29.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3" name="Rectangle 7"/>
          <p:cNvSpPr/>
          <p:nvPr/>
        </p:nvSpPr>
        <p:spPr>
          <a:xfrm>
            <a:off x="5203800" y="2633760"/>
            <a:ext cx="140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Josefin Sans"/>
              </a:rPr>
              <a:t>Main Office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4" name="Rectangle 8"/>
          <p:cNvSpPr/>
          <p:nvPr/>
        </p:nvSpPr>
        <p:spPr>
          <a:xfrm>
            <a:off x="5203800" y="2887560"/>
            <a:ext cx="13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Wall Street, CA, US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5" name="Rectangle 9"/>
          <p:cNvSpPr/>
          <p:nvPr/>
        </p:nvSpPr>
        <p:spPr>
          <a:xfrm>
            <a:off x="5203800" y="3448080"/>
            <a:ext cx="140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Josefin Sans"/>
              </a:rPr>
              <a:t>Telephone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6" name="Rectangle 10"/>
          <p:cNvSpPr/>
          <p:nvPr/>
        </p:nvSpPr>
        <p:spPr>
          <a:xfrm>
            <a:off x="5203800" y="3701880"/>
            <a:ext cx="13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0-8-000-0000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7" name="Rectangle 11"/>
          <p:cNvSpPr/>
          <p:nvPr/>
        </p:nvSpPr>
        <p:spPr>
          <a:xfrm>
            <a:off x="6610320" y="3448080"/>
            <a:ext cx="140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Josefin Sans"/>
              </a:rPr>
              <a:t>Website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8" name="Rectangle 12"/>
          <p:cNvSpPr/>
          <p:nvPr/>
        </p:nvSpPr>
        <p:spPr>
          <a:xfrm>
            <a:off x="6610320" y="3701880"/>
            <a:ext cx="13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www.BeautySalon.com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9" name="Rectangle 13"/>
          <p:cNvSpPr/>
          <p:nvPr/>
        </p:nvSpPr>
        <p:spPr>
          <a:xfrm>
            <a:off x="6610320" y="2633760"/>
            <a:ext cx="140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Josefin Sans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70" name="Rectangle 14"/>
          <p:cNvSpPr/>
          <p:nvPr/>
        </p:nvSpPr>
        <p:spPr>
          <a:xfrm>
            <a:off x="6610320" y="2887560"/>
            <a:ext cx="13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Info@BeautySalon.Com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071" name="Picture Placeholder 5" descr=""/>
          <p:cNvPicPr/>
          <p:nvPr/>
        </p:nvPicPr>
        <p:blipFill>
          <a:blip r:embed="rId1"/>
          <a:srcRect l="28661" t="0" r="28661" b="0"/>
          <a:stretch/>
        </p:blipFill>
        <p:spPr>
          <a:xfrm>
            <a:off x="1152360" y="1219320"/>
            <a:ext cx="20671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74" name="TextBox 3"/>
          <p:cNvSpPr/>
          <p:nvPr/>
        </p:nvSpPr>
        <p:spPr>
          <a:xfrm>
            <a:off x="1755720" y="1131840"/>
            <a:ext cx="213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Josefin Sans"/>
              </a:rPr>
              <a:t>Quotes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75" name="Rectangle 4"/>
          <p:cNvSpPr/>
          <p:nvPr/>
        </p:nvSpPr>
        <p:spPr>
          <a:xfrm>
            <a:off x="4505400" y="1301760"/>
            <a:ext cx="3781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Josefin Sans"/>
              </a:rPr>
              <a:t>“</a:t>
            </a:r>
            <a:r>
              <a:rPr b="0" lang="en-US" sz="3300" spc="-1" strike="noStrike">
                <a:solidFill>
                  <a:srgbClr val="ffffff"/>
                </a:solidFill>
                <a:latin typeface="Josefin Sans"/>
              </a:rPr>
              <a:t>A magazine—a relevant one—should be a sound, not an echo</a:t>
            </a:r>
            <a:endParaRPr b="0" lang="en-US" sz="33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6572160" y="3714840"/>
            <a:ext cx="206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Poppins"/>
              </a:rPr>
              <a:t>― </a:t>
            </a:r>
            <a:r>
              <a:rPr b="1" lang="en-US" sz="1000" spc="-1" strike="noStrike">
                <a:solidFill>
                  <a:srgbClr val="ffffff"/>
                </a:solidFill>
                <a:latin typeface="Poppins"/>
              </a:rPr>
              <a:t>Tina Brown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877" name="Picture Placeholder 6" descr=""/>
          <p:cNvPicPr/>
          <p:nvPr/>
        </p:nvPicPr>
        <p:blipFill>
          <a:blip r:embed="rId1"/>
          <a:srcRect l="0" t="12173" r="0" b="12173"/>
          <a:stretch/>
        </p:blipFill>
        <p:spPr>
          <a:xfrm>
            <a:off x="0" y="2581200"/>
            <a:ext cx="32004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extBox 1"/>
          <p:cNvSpPr/>
          <p:nvPr/>
        </p:nvSpPr>
        <p:spPr>
          <a:xfrm>
            <a:off x="2286000" y="145080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Josefin Sans"/>
              </a:rPr>
              <a:t>Thanks For Watching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73" name="TextBox 2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74" name="TextBox 3"/>
          <p:cNvSpPr/>
          <p:nvPr/>
        </p:nvSpPr>
        <p:spPr>
          <a:xfrm>
            <a:off x="8147160" y="4241880"/>
            <a:ext cx="11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d9d9d9"/>
                </a:solidFill>
                <a:latin typeface="Josefin Sans"/>
              </a:rPr>
              <a:t>30.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075" name="Picture Placeholder 6" descr=""/>
          <p:cNvPicPr/>
          <p:nvPr/>
        </p:nvPicPr>
        <p:blipFill>
          <a:blip r:embed="rId1"/>
          <a:srcRect l="0" t="23859" r="0" b="23859"/>
          <a:stretch/>
        </p:blipFill>
        <p:spPr>
          <a:xfrm>
            <a:off x="1495440" y="2448000"/>
            <a:ext cx="61531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Box 2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79" name="TextBox 3"/>
          <p:cNvSpPr/>
          <p:nvPr/>
        </p:nvSpPr>
        <p:spPr>
          <a:xfrm>
            <a:off x="1060560" y="109368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About Us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1060560" y="3189240"/>
            <a:ext cx="21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 tempor nisl non, finibus sem. In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5194440" y="1141560"/>
            <a:ext cx="213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2" name="TextBox 6"/>
          <p:cNvSpPr/>
          <p:nvPr/>
        </p:nvSpPr>
        <p:spPr>
          <a:xfrm>
            <a:off x="8147160" y="4241880"/>
            <a:ext cx="11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7f7f7f"/>
                </a:solidFill>
                <a:latin typeface="Josefin Sans"/>
              </a:rPr>
              <a:t>04.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883" name="Picture Placeholder 7" descr=""/>
          <p:cNvPicPr/>
          <p:nvPr/>
        </p:nvPicPr>
        <p:blipFill>
          <a:blip r:embed="rId1"/>
          <a:srcRect l="3386" t="0" r="3386" b="0"/>
          <a:stretch/>
        </p:blipFill>
        <p:spPr>
          <a:xfrm>
            <a:off x="3895560" y="2581200"/>
            <a:ext cx="3410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TextBox 2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5" name="TextBox 3"/>
          <p:cNvSpPr/>
          <p:nvPr/>
        </p:nvSpPr>
        <p:spPr>
          <a:xfrm>
            <a:off x="1060560" y="109368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Our History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5194440" y="1141560"/>
            <a:ext cx="213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7" name="Rectangle 6"/>
          <p:cNvSpPr/>
          <p:nvPr/>
        </p:nvSpPr>
        <p:spPr>
          <a:xfrm>
            <a:off x="5213520" y="2846520"/>
            <a:ext cx="211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Poppins"/>
              </a:rPr>
              <a:t>Lorem ipsum dolor sit amet, consectetur adipiscing elit. Aliquam sit amet metus commodo, tempor nisl non, finibus sem. In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888" name="Picture Placeholder 7" descr=""/>
          <p:cNvPicPr/>
          <p:nvPr/>
        </p:nvPicPr>
        <p:blipFill>
          <a:blip r:embed="rId1"/>
          <a:srcRect l="0" t="14598" r="0" b="14598"/>
          <a:stretch/>
        </p:blipFill>
        <p:spPr>
          <a:xfrm>
            <a:off x="1162080" y="2581200"/>
            <a:ext cx="34192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TextBox 2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0" name="TextBox 3"/>
          <p:cNvSpPr/>
          <p:nvPr/>
        </p:nvSpPr>
        <p:spPr>
          <a:xfrm>
            <a:off x="1746360" y="111276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Why Choose Us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1746360" y="2268360"/>
            <a:ext cx="21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Reasons 01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2" name="Rectangle 6"/>
          <p:cNvSpPr/>
          <p:nvPr/>
        </p:nvSpPr>
        <p:spPr>
          <a:xfrm>
            <a:off x="1746360" y="2494080"/>
            <a:ext cx="213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3" name="Rectangle 7"/>
          <p:cNvSpPr/>
          <p:nvPr/>
        </p:nvSpPr>
        <p:spPr>
          <a:xfrm>
            <a:off x="4530600" y="2268360"/>
            <a:ext cx="21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Reasons 02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4" name="Rectangle 8"/>
          <p:cNvSpPr/>
          <p:nvPr/>
        </p:nvSpPr>
        <p:spPr>
          <a:xfrm>
            <a:off x="4530600" y="2494080"/>
            <a:ext cx="213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5" name="Rectangle 9"/>
          <p:cNvSpPr/>
          <p:nvPr/>
        </p:nvSpPr>
        <p:spPr>
          <a:xfrm>
            <a:off x="1746360" y="3514680"/>
            <a:ext cx="34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 tempor nisl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6" name="TextBox 12"/>
          <p:cNvSpPr/>
          <p:nvPr/>
        </p:nvSpPr>
        <p:spPr>
          <a:xfrm>
            <a:off x="347760" y="4508640"/>
            <a:ext cx="31147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900" spc="-1" strike="noStrike">
                <a:solidFill>
                  <a:srgbClr val="d9d9d9"/>
                </a:solidFill>
                <a:latin typeface="Josefin Sans"/>
              </a:rPr>
              <a:t>Reasons</a:t>
            </a:r>
            <a:endParaRPr b="0" lang="en-US" sz="49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897" name="Picture Placeholder 10" descr=""/>
          <p:cNvPicPr/>
          <p:nvPr/>
        </p:nvPicPr>
        <p:blipFill>
          <a:blip r:embed="rId1"/>
          <a:srcRect l="34213" t="0" r="34213" b="0"/>
          <a:stretch/>
        </p:blipFill>
        <p:spPr>
          <a:xfrm>
            <a:off x="7315200" y="1886040"/>
            <a:ext cx="18288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TextBox 2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9" name="TextBox 3"/>
          <p:cNvSpPr/>
          <p:nvPr/>
        </p:nvSpPr>
        <p:spPr>
          <a:xfrm>
            <a:off x="1060560" y="109368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What We Do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1060560" y="2701800"/>
            <a:ext cx="213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5899320" y="1841400"/>
            <a:ext cx="213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Services 01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5899320" y="2066760"/>
            <a:ext cx="213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3" name="Rectangle 7"/>
          <p:cNvSpPr/>
          <p:nvPr/>
        </p:nvSpPr>
        <p:spPr>
          <a:xfrm>
            <a:off x="5899320" y="2641680"/>
            <a:ext cx="213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Services 02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4" name="Rectangle 8"/>
          <p:cNvSpPr/>
          <p:nvPr/>
        </p:nvSpPr>
        <p:spPr>
          <a:xfrm>
            <a:off x="5899320" y="2867040"/>
            <a:ext cx="213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05" name="Picture Placeholder 9" descr=""/>
          <p:cNvPicPr/>
          <p:nvPr/>
        </p:nvPicPr>
        <p:blipFill>
          <a:blip r:embed="rId1"/>
          <a:srcRect l="0" t="38522" r="0" b="38522"/>
          <a:stretch/>
        </p:blipFill>
        <p:spPr>
          <a:xfrm>
            <a:off x="0" y="3962520"/>
            <a:ext cx="91440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Box 2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7" name="TextBox 3"/>
          <p:cNvSpPr/>
          <p:nvPr/>
        </p:nvSpPr>
        <p:spPr>
          <a:xfrm>
            <a:off x="5203800" y="109368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Josefin Sans"/>
              </a:rPr>
              <a:t>Services 01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8" name="Rectangle 4"/>
          <p:cNvSpPr/>
          <p:nvPr/>
        </p:nvSpPr>
        <p:spPr>
          <a:xfrm>
            <a:off x="5203800" y="2155680"/>
            <a:ext cx="278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Poppins"/>
              </a:rPr>
              <a:t>Lorem ipsum dolor sit amet, consectetur adipiscing elit. Aliquam sit amet metus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9" name="Rectangle 5"/>
          <p:cNvSpPr/>
          <p:nvPr/>
        </p:nvSpPr>
        <p:spPr>
          <a:xfrm>
            <a:off x="5203800" y="3360600"/>
            <a:ext cx="21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Poppins"/>
              </a:rPr>
              <a:t>Lorem ipsum dolor sit amet, consectetur adipiscing elit. Aliquam sit amet metus commodo,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10" name="TextBox 6"/>
          <p:cNvSpPr/>
          <p:nvPr/>
        </p:nvSpPr>
        <p:spPr>
          <a:xfrm>
            <a:off x="8147160" y="4241880"/>
            <a:ext cx="11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7f7f7f"/>
                </a:solidFill>
                <a:latin typeface="Josefin Sans"/>
              </a:rPr>
              <a:t>08.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11" name="Picture Placeholder 7" descr=""/>
          <p:cNvPicPr/>
          <p:nvPr/>
        </p:nvPicPr>
        <p:blipFill>
          <a:blip r:embed="rId1"/>
          <a:srcRect l="38803" t="0" r="38803" b="0"/>
          <a:stretch/>
        </p:blipFill>
        <p:spPr>
          <a:xfrm>
            <a:off x="1838160" y="0"/>
            <a:ext cx="20480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3"/>
          <p:cNvSpPr/>
          <p:nvPr/>
        </p:nvSpPr>
        <p:spPr>
          <a:xfrm>
            <a:off x="404640" y="317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Josefin Sans"/>
                <a:ea typeface="Courier New"/>
              </a:rPr>
              <a:t>Magazio</a:t>
            </a:r>
            <a:endParaRPr b="0" lang="en-US" sz="1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13" name="TextBox 4"/>
          <p:cNvSpPr/>
          <p:nvPr/>
        </p:nvSpPr>
        <p:spPr>
          <a:xfrm>
            <a:off x="1060560" y="1093680"/>
            <a:ext cx="31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Josefin Sans"/>
              </a:rPr>
              <a:t>Services 02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1060560" y="3189240"/>
            <a:ext cx="21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 amet, consectetur adipiscing elit. Aliquam sit amet metus commodo, tempor nisl non, finibus sem. In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3886200" y="3502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Subtitle Here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3886200" y="3727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17" name="Rectangle 8"/>
          <p:cNvSpPr/>
          <p:nvPr/>
        </p:nvSpPr>
        <p:spPr>
          <a:xfrm>
            <a:off x="5686560" y="120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Poppins"/>
              </a:rPr>
              <a:t>Subtitle Here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18" name="Rectangle 9"/>
          <p:cNvSpPr/>
          <p:nvPr/>
        </p:nvSpPr>
        <p:spPr>
          <a:xfrm>
            <a:off x="5686560" y="14349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Poppins"/>
              </a:rPr>
              <a:t>Lorem ipsum dolor sit</a:t>
            </a:r>
            <a:endParaRPr b="0" lang="en-US" sz="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19" name="TextBox 10"/>
          <p:cNvSpPr/>
          <p:nvPr/>
        </p:nvSpPr>
        <p:spPr>
          <a:xfrm>
            <a:off x="8147160" y="4241880"/>
            <a:ext cx="11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d9d9d9"/>
                </a:solidFill>
                <a:latin typeface="Josefin Sans"/>
              </a:rPr>
              <a:t>09.</a:t>
            </a:r>
            <a:endParaRPr b="0" lang="en-US" sz="30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920" name="Picture Placeholder 11" descr=""/>
          <p:cNvPicPr/>
          <p:nvPr/>
        </p:nvPicPr>
        <p:blipFill>
          <a:blip r:embed="rId1"/>
          <a:srcRect l="28130" t="0" r="28130" b="0"/>
          <a:stretch/>
        </p:blipFill>
        <p:spPr>
          <a:xfrm>
            <a:off x="3886200" y="1209600"/>
            <a:ext cx="1600200" cy="20574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Placeholder 13" descr=""/>
          <p:cNvPicPr/>
          <p:nvPr/>
        </p:nvPicPr>
        <p:blipFill>
          <a:blip r:embed="rId2"/>
          <a:srcRect l="28130" t="0" r="28130" b="0"/>
          <a:stretch/>
        </p:blipFill>
        <p:spPr>
          <a:xfrm>
            <a:off x="5686560" y="1895400"/>
            <a:ext cx="1600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5T09:10:17Z</dcterms:created>
  <dc:creator>Formatika</dc:creator>
  <dc:description/>
  <dc:language>en-US</dc:language>
  <cp:lastModifiedBy>sansan</cp:lastModifiedBy>
  <dcterms:modified xsi:type="dcterms:W3CDTF">2020-05-10T19:07:22Z</dcterms:modified>
  <cp:revision>27</cp:revision>
  <dc:subject/>
  <dc:title>PowerPoint Presentation</dc:title>
</cp:coreProperties>
</file>