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B7F-485D-403B-9190-FD8659C9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87E-8710-4165-A877-9F73B89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578-4B8E-476F-80F3-658589DF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42F-8305-4CA5-A8CF-83DED84F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A50-30E8-4346-9733-3E5DDF0F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C48-34CB-4850-8A46-CDF6B69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8E7-1CC4-42F1-9AF4-77CFDF3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2E0-95CC-495E-BBFC-D2454C8C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A73-39E3-438D-96B9-5E6F0380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130-C80D-4267-9235-9D0E2B7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399-EBB0-4E39-8AE9-28C22FC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BD1-2083-460E-A702-CD59250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900FF-6957-4163-8727-948BC137B3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34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aaa21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cd9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fad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aaa21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fe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e716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d41c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db817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d9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08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aa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fad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fdb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faaa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343434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343434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faaa2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aaa21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aaa21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faa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4343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aaa21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faaa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aaa21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1:33Z</dcterms:modified>
  <cp:revision>239</cp:revision>
  <dc:subject/>
  <dc:title>PowerPoint Presentation</dc:title>
</cp:coreProperties>
</file>