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46464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9a8f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f058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f8b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9a8f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0a8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f69a8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f69a8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a8f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a8f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46464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7:27Z</dcterms:modified>
  <cp:revision>237</cp:revision>
  <dc:subject/>
  <dc:title>PowerPoint Presentation</dc:title>
</cp:coreProperties>
</file>