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E58-6423-463A-96EA-5AAA23FB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FFC-F7DE-4D5C-A0C6-EBF3FDBC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08C-75C0-4818-9561-0B075747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363-594E-49D6-BB3C-77CF949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367-2D57-4560-B63E-1503322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BE9-E379-4273-8C15-D9BBA8F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59F-8DE3-4A5D-8A94-5D041C10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057-0C47-423C-A385-7FB51F2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6F4-D7A1-432E-B418-A77930DB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AA0-CA2B-42A7-8E92-3893A3E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083-8A81-40A7-9A75-796B1BE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A08-9E8C-43F1-BC2D-9019B79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8f8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f8f8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8f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41FAB-67CB-4D65-8790-06CEB5B95437}" type="slidenum">
              <a:rPr b="0" lang="en-US" sz="1200" spc="-1" strike="noStrike">
                <a:solidFill>
                  <a:srgbClr val="8f8f8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434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434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aaa21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43434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cd9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aaa21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e716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27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faaa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faaa2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aaa21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aaa21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43434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43434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43434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43434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43434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43434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43434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43434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43434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43434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43434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343434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43434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343434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1:15Z</dcterms:modified>
  <cp:revision>238</cp:revision>
  <dc:subject/>
  <dc:title>PowerPoint Presentation</dc:title>
</cp:coreProperties>
</file>