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leway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839080" y="0"/>
            <a:ext cx="3353040" cy="6858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2903400" y="3119400"/>
            <a:ext cx="6829560" cy="31100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6994440" y="700200"/>
            <a:ext cx="3353040" cy="38462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"/>
          <p:cNvSpPr/>
          <p:nvPr/>
        </p:nvSpPr>
        <p:spPr>
          <a:xfrm>
            <a:off x="7010280" y="1587600"/>
            <a:ext cx="5181840" cy="41590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4726080" y="2921040"/>
            <a:ext cx="2778120" cy="3251160"/>
          </a:xfrm>
          <a:prstGeom prst="rect">
            <a:avLst/>
          </a:prstGeom>
          <a:solidFill>
            <a:srgbClr val="72e2ee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7915320" y="2921040"/>
            <a:ext cx="2778120" cy="3251160"/>
          </a:xfrm>
          <a:prstGeom prst="rect">
            <a:avLst/>
          </a:prstGeom>
          <a:solidFill>
            <a:srgbClr val="d948c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536840" y="2921040"/>
            <a:ext cx="2778120" cy="325116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2846520" y="1349280"/>
            <a:ext cx="8715240" cy="41594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1528920" y="1638360"/>
            <a:ext cx="7302240" cy="358128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0"/>
            <a:ext cx="3822840" cy="6858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340080" y="1587600"/>
            <a:ext cx="2755800" cy="45972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6095880" y="0"/>
            <a:ext cx="2756160" cy="528336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451240" y="1612800"/>
            <a:ext cx="3644640" cy="3645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0" y="3360600"/>
            <a:ext cx="12192120" cy="255132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0" y="3429000"/>
            <a:ext cx="6657840" cy="3429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3378240" y="711360"/>
            <a:ext cx="7289640" cy="45464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19"/>
          <p:cNvSpPr/>
          <p:nvPr/>
        </p:nvSpPr>
        <p:spPr>
          <a:xfrm>
            <a:off x="0" y="-4680"/>
            <a:ext cx="12192120" cy="6858000"/>
          </a:xfrm>
          <a:prstGeom prst="rect">
            <a:avLst/>
          </a:prstGeom>
          <a:solidFill>
            <a:srgbClr val="40404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2" name="Oval 26"/>
          <p:cNvSpPr/>
          <p:nvPr/>
        </p:nvSpPr>
        <p:spPr>
          <a:xfrm>
            <a:off x="9605880" y="2487600"/>
            <a:ext cx="1067040" cy="1066680"/>
          </a:xfrm>
          <a:prstGeom prst="ellipse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1434960" y="1447920"/>
            <a:ext cx="61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aleway"/>
              </a:rPr>
              <a:t>Welcome to The Game World Champion</a:t>
            </a:r>
            <a:endParaRPr b="0" lang="en-US" sz="4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4" name="Rectangle 10"/>
          <p:cNvSpPr/>
          <p:nvPr/>
        </p:nvSpPr>
        <p:spPr>
          <a:xfrm>
            <a:off x="1434960" y="2976480"/>
            <a:ext cx="4660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consectetur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adipiscing elit. Aliquam sit amet metus commodo, tempor nisl non, finibus sem. In urna purus, 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9605880" y="634680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7" name="TextBox 20"/>
          <p:cNvSpPr/>
          <p:nvPr/>
        </p:nvSpPr>
        <p:spPr>
          <a:xfrm>
            <a:off x="509760" y="6227640"/>
            <a:ext cx="207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Raleway"/>
              </a:rPr>
              <a:t>www.gampoxchmpion.com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8" name="TextBox 23"/>
          <p:cNvSpPr/>
          <p:nvPr/>
        </p:nvSpPr>
        <p:spPr>
          <a:xfrm>
            <a:off x="528480" y="634212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www.gampoxchmpion.com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39" name="Circle: Hollow 24"/>
          <p:cNvSpPr/>
          <p:nvPr/>
        </p:nvSpPr>
        <p:spPr>
          <a:xfrm>
            <a:off x="8601120" y="3778200"/>
            <a:ext cx="311040" cy="304920"/>
          </a:xfrm>
          <a:custGeom>
            <a:avLst/>
            <a:gdLst/>
            <a:ahLst/>
            <a:rect l="l" t="t" r="r" b="b"/>
            <a:pathLst>
              <a:path w="311148" h="305925">
                <a:moveTo>
                  <a:pt x="0" y="152963"/>
                </a:moveTo>
                <a:cubicBezTo>
                  <a:pt x="0" y="68484"/>
                  <a:pt x="69653" y="0"/>
                  <a:pt x="155574" y="0"/>
                </a:cubicBezTo>
                <a:cubicBezTo>
                  <a:pt x="241495" y="0"/>
                  <a:pt x="311148" y="68484"/>
                  <a:pt x="311148" y="152963"/>
                </a:cubicBezTo>
                <a:cubicBezTo>
                  <a:pt x="311148" y="237442"/>
                  <a:pt x="241495" y="305926"/>
                  <a:pt x="155574" y="305926"/>
                </a:cubicBezTo>
                <a:cubicBezTo>
                  <a:pt x="69653" y="305926"/>
                  <a:pt x="0" y="237442"/>
                  <a:pt x="0" y="152963"/>
                </a:cubicBezTo>
                <a:close/>
                <a:moveTo>
                  <a:pt x="75331" y="152963"/>
                </a:moveTo>
                <a:cubicBezTo>
                  <a:pt x="75331" y="195838"/>
                  <a:pt x="111257" y="230595"/>
                  <a:pt x="155574" y="230595"/>
                </a:cubicBezTo>
                <a:cubicBezTo>
                  <a:pt x="199891" y="230595"/>
                  <a:pt x="235817" y="195838"/>
                  <a:pt x="235817" y="152963"/>
                </a:cubicBezTo>
                <a:cubicBezTo>
                  <a:pt x="235817" y="110088"/>
                  <a:pt x="199891" y="75331"/>
                  <a:pt x="155574" y="75331"/>
                </a:cubicBezTo>
                <a:cubicBezTo>
                  <a:pt x="111257" y="75331"/>
                  <a:pt x="75331" y="110088"/>
                  <a:pt x="75331" y="152963"/>
                </a:cubicBezTo>
                <a:close/>
              </a:path>
            </a:pathLst>
          </a:cu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40" name="Block Arc 25"/>
          <p:cNvSpPr/>
          <p:nvPr/>
        </p:nvSpPr>
        <p:spPr>
          <a:xfrm>
            <a:off x="8766000" y="2873520"/>
            <a:ext cx="505080" cy="504720"/>
          </a:xfrm>
          <a:custGeom>
            <a:avLst/>
            <a:gdLst/>
            <a:ahLst/>
            <a:rect l="l" t="t" r="r" b="b"/>
            <a:pathLst>
              <a:path w="504825" h="504825">
                <a:moveTo>
                  <a:pt x="0" y="252413"/>
                </a:moveTo>
                <a:cubicBezTo>
                  <a:pt x="0" y="113009"/>
                  <a:pt x="113009" y="0"/>
                  <a:pt x="252413" y="0"/>
                </a:cubicBezTo>
                <a:cubicBezTo>
                  <a:pt x="391817" y="0"/>
                  <a:pt x="504826" y="113009"/>
                  <a:pt x="504826" y="252413"/>
                </a:cubicBezTo>
                <a:lnTo>
                  <a:pt x="378619" y="252413"/>
                </a:lnTo>
                <a:cubicBezTo>
                  <a:pt x="378619" y="182711"/>
                  <a:pt x="322115" y="126207"/>
                  <a:pt x="252413" y="126207"/>
                </a:cubicBezTo>
                <a:cubicBezTo>
                  <a:pt x="182711" y="126207"/>
                  <a:pt x="126207" y="182711"/>
                  <a:pt x="126207" y="252413"/>
                </a:cubicBezTo>
                <a:lnTo>
                  <a:pt x="0" y="252413"/>
                </a:ln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41" name="Minus Sign 27"/>
          <p:cNvSpPr/>
          <p:nvPr/>
        </p:nvSpPr>
        <p:spPr>
          <a:xfrm>
            <a:off x="9091440" y="3916440"/>
            <a:ext cx="758880" cy="760320"/>
          </a:xfrm>
          <a:custGeom>
            <a:avLst/>
            <a:gdLst/>
            <a:ahLst/>
            <a:rect l="l" t="t" r="r" b="b"/>
            <a:pathLst>
              <a:path w="759510" h="759510">
                <a:moveTo>
                  <a:pt x="100673" y="322082"/>
                </a:moveTo>
                <a:lnTo>
                  <a:pt x="658837" y="322082"/>
                </a:lnTo>
                <a:lnTo>
                  <a:pt x="658837" y="437428"/>
                </a:lnTo>
                <a:lnTo>
                  <a:pt x="100673" y="437428"/>
                </a:lnTo>
                <a:lnTo>
                  <a:pt x="100673" y="322082"/>
                </a:lnTo>
                <a:close/>
              </a:path>
            </a:pathLst>
          </a:custGeom>
          <a:solidFill>
            <a:srgbClr val="b32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776160" y="366840"/>
            <a:ext cx="10202400" cy="5259240"/>
            <a:chOff x="776160" y="366840"/>
            <a:chExt cx="10202400" cy="5259240"/>
          </a:xfrm>
        </p:grpSpPr>
        <p:sp>
          <p:nvSpPr>
            <p:cNvPr id="643" name="Cross 2"/>
            <p:cNvSpPr/>
            <p:nvPr/>
          </p:nvSpPr>
          <p:spPr>
            <a:xfrm>
              <a:off x="776160" y="5348160"/>
              <a:ext cx="277920" cy="277920"/>
            </a:xfrm>
            <a:prstGeom prst="plus">
              <a:avLst>
                <a:gd name="adj" fmla="val 41296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644" name="Cross 28"/>
            <p:cNvSpPr/>
            <p:nvPr/>
          </p:nvSpPr>
          <p:spPr>
            <a:xfrm rot="2700000">
              <a:off x="10451520" y="456840"/>
              <a:ext cx="436320" cy="436680"/>
            </a:xfrm>
            <a:prstGeom prst="plus">
              <a:avLst>
                <a:gd name="adj" fmla="val 41130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645" name="Freeform 5"/>
          <p:cNvSpPr/>
          <p:nvPr/>
        </p:nvSpPr>
        <p:spPr>
          <a:xfrm>
            <a:off x="7716960" y="4394160"/>
            <a:ext cx="514080" cy="447840"/>
          </a:xfrm>
          <a:custGeom>
            <a:avLst/>
            <a:gdLst/>
            <a:ahLst/>
            <a:rect l="l" t="t" r="r" b="b"/>
            <a:pathLst>
              <a:path w="117" h="102">
                <a:moveTo>
                  <a:pt x="58" y="102"/>
                </a:moveTo>
                <a:lnTo>
                  <a:pt x="0" y="0"/>
                </a:lnTo>
                <a:lnTo>
                  <a:pt x="117" y="0"/>
                </a:lnTo>
                <a:lnTo>
                  <a:pt x="58" y="102"/>
                </a:lnTo>
                <a:close/>
                <a:moveTo>
                  <a:pt x="28" y="16"/>
                </a:moveTo>
                <a:lnTo>
                  <a:pt x="58" y="70"/>
                </a:lnTo>
                <a:lnTo>
                  <a:pt x="89" y="16"/>
                </a:lnTo>
                <a:lnTo>
                  <a:pt x="28" y="16"/>
                </a:lnTo>
                <a:close/>
              </a:path>
            </a:pathLst>
          </a:cu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646" name="Group 29"/>
          <p:cNvGrpSpPr/>
          <p:nvPr/>
        </p:nvGrpSpPr>
        <p:grpSpPr>
          <a:xfrm>
            <a:off x="1476360" y="4621320"/>
            <a:ext cx="1025640" cy="261720"/>
            <a:chOff x="1476360" y="4621320"/>
            <a:chExt cx="1025640" cy="261720"/>
          </a:xfrm>
        </p:grpSpPr>
        <p:sp>
          <p:nvSpPr>
            <p:cNvPr id="647" name="Rectangle: Rounded Corners 30"/>
            <p:cNvSpPr/>
            <p:nvPr/>
          </p:nvSpPr>
          <p:spPr>
            <a:xfrm>
              <a:off x="1547280" y="4621320"/>
              <a:ext cx="883440" cy="261720"/>
            </a:xfrm>
            <a:prstGeom prst="roundRect">
              <a:avLst>
                <a:gd name="adj" fmla="val 50000"/>
              </a:avLst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648" name="TextBox 36"/>
            <p:cNvSpPr/>
            <p:nvPr/>
          </p:nvSpPr>
          <p:spPr>
            <a:xfrm>
              <a:off x="1476360" y="4638240"/>
              <a:ext cx="102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040"/>
                  </a:solidFill>
                  <a:latin typeface="Raleway"/>
                </a:rPr>
                <a:t>Get Started</a:t>
              </a:r>
              <a:endParaRPr b="0" lang="en-US" sz="9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1"/>
          <p:cNvSpPr/>
          <p:nvPr/>
        </p:nvSpPr>
        <p:spPr>
          <a:xfrm>
            <a:off x="3857760" y="1168560"/>
            <a:ext cx="44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eam Gaming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81" name="Cross 4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82" name="Circle: Hollow 5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83" name="TextBox 12"/>
          <p:cNvSpPr/>
          <p:nvPr/>
        </p:nvSpPr>
        <p:spPr>
          <a:xfrm flipH="1">
            <a:off x="1906560" y="4462560"/>
            <a:ext cx="13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84" name="TextBox 13"/>
          <p:cNvSpPr/>
          <p:nvPr/>
        </p:nvSpPr>
        <p:spPr>
          <a:xfrm flipH="1">
            <a:off x="1504800" y="5164200"/>
            <a:ext cx="21751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85" name="TextBox 14"/>
          <p:cNvSpPr/>
          <p:nvPr/>
        </p:nvSpPr>
        <p:spPr>
          <a:xfrm flipH="1">
            <a:off x="1724040" y="4686480"/>
            <a:ext cx="160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9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786" name="Group 8"/>
          <p:cNvGrpSpPr/>
          <p:nvPr/>
        </p:nvGrpSpPr>
        <p:grpSpPr>
          <a:xfrm>
            <a:off x="2351160" y="4950000"/>
            <a:ext cx="482400" cy="129960"/>
            <a:chOff x="2351160" y="4950000"/>
            <a:chExt cx="482400" cy="129960"/>
          </a:xfrm>
        </p:grpSpPr>
        <p:pic>
          <p:nvPicPr>
            <p:cNvPr id="787" name="Group 673" descr=""/>
            <p:cNvPicPr/>
            <p:nvPr/>
          </p:nvPicPr>
          <p:blipFill>
            <a:blip r:embed="rId1"/>
            <a:stretch/>
          </p:blipFill>
          <p:spPr>
            <a:xfrm>
              <a:off x="2706120" y="4950720"/>
              <a:ext cx="1274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Freeform 1536"/>
            <p:cNvSpPr/>
            <p:nvPr/>
          </p:nvSpPr>
          <p:spPr>
            <a:xfrm>
              <a:off x="2351160" y="4950000"/>
              <a:ext cx="128880" cy="129960"/>
            </a:xfrm>
            <a:custGeom>
              <a:avLst/>
              <a:gdLst/>
              <a:ahLst/>
              <a:rect l="l" t="t" r="r" b="b"/>
              <a:pathLst>
                <a:path w="3474" h="3518">
                  <a:moveTo>
                    <a:pt x="2112" y="957"/>
                  </a:moveTo>
                  <a:lnTo>
                    <a:pt x="2061" y="961"/>
                  </a:lnTo>
                  <a:lnTo>
                    <a:pt x="2014" y="970"/>
                  </a:lnTo>
                  <a:lnTo>
                    <a:pt x="1968" y="985"/>
                  </a:lnTo>
                  <a:lnTo>
                    <a:pt x="1924" y="1005"/>
                  </a:lnTo>
                  <a:lnTo>
                    <a:pt x="1883" y="1030"/>
                  </a:lnTo>
                  <a:lnTo>
                    <a:pt x="1846" y="1060"/>
                  </a:lnTo>
                  <a:lnTo>
                    <a:pt x="1814" y="1094"/>
                  </a:lnTo>
                  <a:lnTo>
                    <a:pt x="1784" y="1131"/>
                  </a:lnTo>
                  <a:lnTo>
                    <a:pt x="1759" y="1172"/>
                  </a:lnTo>
                  <a:lnTo>
                    <a:pt x="1739" y="1216"/>
                  </a:lnTo>
                  <a:lnTo>
                    <a:pt x="1724" y="1263"/>
                  </a:lnTo>
                  <a:lnTo>
                    <a:pt x="1716" y="1311"/>
                  </a:lnTo>
                  <a:lnTo>
                    <a:pt x="1713" y="1362"/>
                  </a:lnTo>
                  <a:lnTo>
                    <a:pt x="1715" y="1409"/>
                  </a:lnTo>
                  <a:lnTo>
                    <a:pt x="1722" y="1454"/>
                  </a:lnTo>
                  <a:lnTo>
                    <a:pt x="1640" y="1448"/>
                  </a:lnTo>
                  <a:lnTo>
                    <a:pt x="1559" y="1435"/>
                  </a:lnTo>
                  <a:lnTo>
                    <a:pt x="1481" y="1416"/>
                  </a:lnTo>
                  <a:lnTo>
                    <a:pt x="1405" y="1392"/>
                  </a:lnTo>
                  <a:lnTo>
                    <a:pt x="1331" y="1363"/>
                  </a:lnTo>
                  <a:lnTo>
                    <a:pt x="1259" y="1329"/>
                  </a:lnTo>
                  <a:lnTo>
                    <a:pt x="1191" y="1289"/>
                  </a:lnTo>
                  <a:lnTo>
                    <a:pt x="1126" y="1247"/>
                  </a:lnTo>
                  <a:lnTo>
                    <a:pt x="1064" y="1198"/>
                  </a:lnTo>
                  <a:lnTo>
                    <a:pt x="1005" y="1146"/>
                  </a:lnTo>
                  <a:lnTo>
                    <a:pt x="950" y="1091"/>
                  </a:lnTo>
                  <a:lnTo>
                    <a:pt x="899" y="1032"/>
                  </a:lnTo>
                  <a:lnTo>
                    <a:pt x="880" y="1068"/>
                  </a:lnTo>
                  <a:lnTo>
                    <a:pt x="865" y="1108"/>
                  </a:lnTo>
                  <a:lnTo>
                    <a:pt x="854" y="1149"/>
                  </a:lnTo>
                  <a:lnTo>
                    <a:pt x="846" y="1192"/>
                  </a:lnTo>
                  <a:lnTo>
                    <a:pt x="844" y="1236"/>
                  </a:lnTo>
                  <a:lnTo>
                    <a:pt x="848" y="1287"/>
                  </a:lnTo>
                  <a:lnTo>
                    <a:pt x="857" y="1337"/>
                  </a:lnTo>
                  <a:lnTo>
                    <a:pt x="873" y="1384"/>
                  </a:lnTo>
                  <a:lnTo>
                    <a:pt x="893" y="1429"/>
                  </a:lnTo>
                  <a:lnTo>
                    <a:pt x="919" y="1471"/>
                  </a:lnTo>
                  <a:lnTo>
                    <a:pt x="950" y="1508"/>
                  </a:lnTo>
                  <a:lnTo>
                    <a:pt x="984" y="1542"/>
                  </a:lnTo>
                  <a:lnTo>
                    <a:pt x="1022" y="1572"/>
                  </a:lnTo>
                  <a:lnTo>
                    <a:pt x="974" y="1568"/>
                  </a:lnTo>
                  <a:lnTo>
                    <a:pt x="928" y="1557"/>
                  </a:lnTo>
                  <a:lnTo>
                    <a:pt x="883" y="1541"/>
                  </a:lnTo>
                  <a:lnTo>
                    <a:pt x="841" y="1522"/>
                  </a:lnTo>
                  <a:lnTo>
                    <a:pt x="841" y="1524"/>
                  </a:lnTo>
                  <a:lnTo>
                    <a:pt x="841" y="1527"/>
                  </a:lnTo>
                  <a:lnTo>
                    <a:pt x="844" y="1579"/>
                  </a:lnTo>
                  <a:lnTo>
                    <a:pt x="854" y="1629"/>
                  </a:lnTo>
                  <a:lnTo>
                    <a:pt x="870" y="1678"/>
                  </a:lnTo>
                  <a:lnTo>
                    <a:pt x="891" y="1723"/>
                  </a:lnTo>
                  <a:lnTo>
                    <a:pt x="918" y="1765"/>
                  </a:lnTo>
                  <a:lnTo>
                    <a:pt x="949" y="1803"/>
                  </a:lnTo>
                  <a:lnTo>
                    <a:pt x="984" y="1837"/>
                  </a:lnTo>
                  <a:lnTo>
                    <a:pt x="1025" y="1867"/>
                  </a:lnTo>
                  <a:lnTo>
                    <a:pt x="1067" y="1891"/>
                  </a:lnTo>
                  <a:lnTo>
                    <a:pt x="1113" y="1910"/>
                  </a:lnTo>
                  <a:lnTo>
                    <a:pt x="1162" y="1923"/>
                  </a:lnTo>
                  <a:lnTo>
                    <a:pt x="1128" y="1931"/>
                  </a:lnTo>
                  <a:lnTo>
                    <a:pt x="1092" y="1936"/>
                  </a:lnTo>
                  <a:lnTo>
                    <a:pt x="1056" y="1937"/>
                  </a:lnTo>
                  <a:lnTo>
                    <a:pt x="1018" y="1935"/>
                  </a:lnTo>
                  <a:lnTo>
                    <a:pt x="981" y="1930"/>
                  </a:lnTo>
                  <a:lnTo>
                    <a:pt x="1000" y="1977"/>
                  </a:lnTo>
                  <a:lnTo>
                    <a:pt x="1024" y="2021"/>
                  </a:lnTo>
                  <a:lnTo>
                    <a:pt x="1052" y="2062"/>
                  </a:lnTo>
                  <a:lnTo>
                    <a:pt x="1084" y="2098"/>
                  </a:lnTo>
                  <a:lnTo>
                    <a:pt x="1121" y="2130"/>
                  </a:lnTo>
                  <a:lnTo>
                    <a:pt x="1163" y="2157"/>
                  </a:lnTo>
                  <a:lnTo>
                    <a:pt x="1206" y="2179"/>
                  </a:lnTo>
                  <a:lnTo>
                    <a:pt x="1254" y="2196"/>
                  </a:lnTo>
                  <a:lnTo>
                    <a:pt x="1303" y="2207"/>
                  </a:lnTo>
                  <a:lnTo>
                    <a:pt x="1355" y="2211"/>
                  </a:lnTo>
                  <a:lnTo>
                    <a:pt x="1302" y="2250"/>
                  </a:lnTo>
                  <a:lnTo>
                    <a:pt x="1246" y="2284"/>
                  </a:lnTo>
                  <a:lnTo>
                    <a:pt x="1187" y="2314"/>
                  </a:lnTo>
                  <a:lnTo>
                    <a:pt x="1126" y="2339"/>
                  </a:lnTo>
                  <a:lnTo>
                    <a:pt x="1062" y="2359"/>
                  </a:lnTo>
                  <a:lnTo>
                    <a:pt x="995" y="2373"/>
                  </a:lnTo>
                  <a:lnTo>
                    <a:pt x="928" y="2382"/>
                  </a:lnTo>
                  <a:lnTo>
                    <a:pt x="858" y="2385"/>
                  </a:lnTo>
                  <a:lnTo>
                    <a:pt x="811" y="2383"/>
                  </a:lnTo>
                  <a:lnTo>
                    <a:pt x="763" y="2378"/>
                  </a:lnTo>
                  <a:lnTo>
                    <a:pt x="830" y="2419"/>
                  </a:lnTo>
                  <a:lnTo>
                    <a:pt x="902" y="2455"/>
                  </a:lnTo>
                  <a:lnTo>
                    <a:pt x="975" y="2487"/>
                  </a:lnTo>
                  <a:lnTo>
                    <a:pt x="1051" y="2513"/>
                  </a:lnTo>
                  <a:lnTo>
                    <a:pt x="1129" y="2534"/>
                  </a:lnTo>
                  <a:lnTo>
                    <a:pt x="1209" y="2548"/>
                  </a:lnTo>
                  <a:lnTo>
                    <a:pt x="1292" y="2558"/>
                  </a:lnTo>
                  <a:lnTo>
                    <a:pt x="1376" y="2561"/>
                  </a:lnTo>
                  <a:lnTo>
                    <a:pt x="1459" y="2558"/>
                  </a:lnTo>
                  <a:lnTo>
                    <a:pt x="1540" y="2550"/>
                  </a:lnTo>
                  <a:lnTo>
                    <a:pt x="1617" y="2537"/>
                  </a:lnTo>
                  <a:lnTo>
                    <a:pt x="1691" y="2519"/>
                  </a:lnTo>
                  <a:lnTo>
                    <a:pt x="1762" y="2497"/>
                  </a:lnTo>
                  <a:lnTo>
                    <a:pt x="1831" y="2471"/>
                  </a:lnTo>
                  <a:lnTo>
                    <a:pt x="1896" y="2440"/>
                  </a:lnTo>
                  <a:lnTo>
                    <a:pt x="1958" y="2406"/>
                  </a:lnTo>
                  <a:lnTo>
                    <a:pt x="2017" y="2367"/>
                  </a:lnTo>
                  <a:lnTo>
                    <a:pt x="2072" y="2327"/>
                  </a:lnTo>
                  <a:lnTo>
                    <a:pt x="2125" y="2283"/>
                  </a:lnTo>
                  <a:lnTo>
                    <a:pt x="2174" y="2235"/>
                  </a:lnTo>
                  <a:lnTo>
                    <a:pt x="2220" y="2186"/>
                  </a:lnTo>
                  <a:lnTo>
                    <a:pt x="2263" y="2133"/>
                  </a:lnTo>
                  <a:lnTo>
                    <a:pt x="2303" y="2079"/>
                  </a:lnTo>
                  <a:lnTo>
                    <a:pt x="2338" y="2023"/>
                  </a:lnTo>
                  <a:lnTo>
                    <a:pt x="2372" y="1965"/>
                  </a:lnTo>
                  <a:lnTo>
                    <a:pt x="2401" y="1905"/>
                  </a:lnTo>
                  <a:lnTo>
                    <a:pt x="2428" y="1845"/>
                  </a:lnTo>
                  <a:lnTo>
                    <a:pt x="2450" y="1784"/>
                  </a:lnTo>
                  <a:lnTo>
                    <a:pt x="2469" y="1722"/>
                  </a:lnTo>
                  <a:lnTo>
                    <a:pt x="2485" y="1659"/>
                  </a:lnTo>
                  <a:lnTo>
                    <a:pt x="2497" y="1596"/>
                  </a:lnTo>
                  <a:lnTo>
                    <a:pt x="2506" y="1534"/>
                  </a:lnTo>
                  <a:lnTo>
                    <a:pt x="2511" y="1471"/>
                  </a:lnTo>
                  <a:lnTo>
                    <a:pt x="2513" y="1409"/>
                  </a:lnTo>
                  <a:lnTo>
                    <a:pt x="2512" y="1357"/>
                  </a:lnTo>
                  <a:lnTo>
                    <a:pt x="2558" y="1321"/>
                  </a:lnTo>
                  <a:lnTo>
                    <a:pt x="2600" y="1282"/>
                  </a:lnTo>
                  <a:lnTo>
                    <a:pt x="2641" y="1240"/>
                  </a:lnTo>
                  <a:lnTo>
                    <a:pt x="2677" y="1195"/>
                  </a:lnTo>
                  <a:lnTo>
                    <a:pt x="2711" y="1148"/>
                  </a:lnTo>
                  <a:lnTo>
                    <a:pt x="2657" y="1170"/>
                  </a:lnTo>
                  <a:lnTo>
                    <a:pt x="2600" y="1188"/>
                  </a:lnTo>
                  <a:lnTo>
                    <a:pt x="2542" y="1201"/>
                  </a:lnTo>
                  <a:lnTo>
                    <a:pt x="2482" y="1211"/>
                  </a:lnTo>
                  <a:lnTo>
                    <a:pt x="2522" y="1184"/>
                  </a:lnTo>
                  <a:lnTo>
                    <a:pt x="2558" y="1152"/>
                  </a:lnTo>
                  <a:lnTo>
                    <a:pt x="2589" y="1116"/>
                  </a:lnTo>
                  <a:lnTo>
                    <a:pt x="2618" y="1076"/>
                  </a:lnTo>
                  <a:lnTo>
                    <a:pt x="2641" y="1033"/>
                  </a:lnTo>
                  <a:lnTo>
                    <a:pt x="2658" y="987"/>
                  </a:lnTo>
                  <a:lnTo>
                    <a:pt x="2598" y="1020"/>
                  </a:lnTo>
                  <a:lnTo>
                    <a:pt x="2536" y="1046"/>
                  </a:lnTo>
                  <a:lnTo>
                    <a:pt x="2471" y="1068"/>
                  </a:lnTo>
                  <a:lnTo>
                    <a:pt x="2404" y="1085"/>
                  </a:lnTo>
                  <a:lnTo>
                    <a:pt x="2371" y="1053"/>
                  </a:lnTo>
                  <a:lnTo>
                    <a:pt x="2334" y="1025"/>
                  </a:lnTo>
                  <a:lnTo>
                    <a:pt x="2295" y="1002"/>
                  </a:lnTo>
                  <a:lnTo>
                    <a:pt x="2253" y="984"/>
                  </a:lnTo>
                  <a:lnTo>
                    <a:pt x="2207" y="969"/>
                  </a:lnTo>
                  <a:lnTo>
                    <a:pt x="2160" y="961"/>
                  </a:lnTo>
                  <a:lnTo>
                    <a:pt x="2112" y="957"/>
                  </a:lnTo>
                  <a:close/>
                  <a:moveTo>
                    <a:pt x="1738" y="0"/>
                  </a:moveTo>
                  <a:lnTo>
                    <a:pt x="1847" y="5"/>
                  </a:lnTo>
                  <a:lnTo>
                    <a:pt x="1955" y="15"/>
                  </a:lnTo>
                  <a:lnTo>
                    <a:pt x="2060" y="31"/>
                  </a:lnTo>
                  <a:lnTo>
                    <a:pt x="2165" y="54"/>
                  </a:lnTo>
                  <a:lnTo>
                    <a:pt x="2266" y="84"/>
                  </a:lnTo>
                  <a:lnTo>
                    <a:pt x="2365" y="119"/>
                  </a:lnTo>
                  <a:lnTo>
                    <a:pt x="2460" y="161"/>
                  </a:lnTo>
                  <a:lnTo>
                    <a:pt x="2554" y="207"/>
                  </a:lnTo>
                  <a:lnTo>
                    <a:pt x="2643" y="259"/>
                  </a:lnTo>
                  <a:lnTo>
                    <a:pt x="2729" y="316"/>
                  </a:lnTo>
                  <a:lnTo>
                    <a:pt x="2811" y="379"/>
                  </a:lnTo>
                  <a:lnTo>
                    <a:pt x="2890" y="445"/>
                  </a:lnTo>
                  <a:lnTo>
                    <a:pt x="2965" y="516"/>
                  </a:lnTo>
                  <a:lnTo>
                    <a:pt x="3035" y="592"/>
                  </a:lnTo>
                  <a:lnTo>
                    <a:pt x="3101" y="671"/>
                  </a:lnTo>
                  <a:lnTo>
                    <a:pt x="3163" y="755"/>
                  </a:lnTo>
                  <a:lnTo>
                    <a:pt x="3220" y="843"/>
                  </a:lnTo>
                  <a:lnTo>
                    <a:pt x="3271" y="933"/>
                  </a:lnTo>
                  <a:lnTo>
                    <a:pt x="3316" y="1028"/>
                  </a:lnTo>
                  <a:lnTo>
                    <a:pt x="3358" y="1124"/>
                  </a:lnTo>
                  <a:lnTo>
                    <a:pt x="3393" y="1225"/>
                  </a:lnTo>
                  <a:lnTo>
                    <a:pt x="3422" y="1327"/>
                  </a:lnTo>
                  <a:lnTo>
                    <a:pt x="3445" y="1431"/>
                  </a:lnTo>
                  <a:lnTo>
                    <a:pt x="3461" y="1539"/>
                  </a:lnTo>
                  <a:lnTo>
                    <a:pt x="3471" y="1648"/>
                  </a:lnTo>
                  <a:lnTo>
                    <a:pt x="3474" y="1759"/>
                  </a:lnTo>
                  <a:lnTo>
                    <a:pt x="3471" y="1870"/>
                  </a:lnTo>
                  <a:lnTo>
                    <a:pt x="3461" y="1979"/>
                  </a:lnTo>
                  <a:lnTo>
                    <a:pt x="3445" y="2087"/>
                  </a:lnTo>
                  <a:lnTo>
                    <a:pt x="3422" y="2191"/>
                  </a:lnTo>
                  <a:lnTo>
                    <a:pt x="3393" y="2294"/>
                  </a:lnTo>
                  <a:lnTo>
                    <a:pt x="3358" y="2394"/>
                  </a:lnTo>
                  <a:lnTo>
                    <a:pt x="3316" y="2491"/>
                  </a:lnTo>
                  <a:lnTo>
                    <a:pt x="3271" y="2585"/>
                  </a:lnTo>
                  <a:lnTo>
                    <a:pt x="3220" y="2675"/>
                  </a:lnTo>
                  <a:lnTo>
                    <a:pt x="3163" y="2763"/>
                  </a:lnTo>
                  <a:lnTo>
                    <a:pt x="3101" y="2847"/>
                  </a:lnTo>
                  <a:lnTo>
                    <a:pt x="3035" y="2926"/>
                  </a:lnTo>
                  <a:lnTo>
                    <a:pt x="2965" y="3002"/>
                  </a:lnTo>
                  <a:lnTo>
                    <a:pt x="2890" y="3074"/>
                  </a:lnTo>
                  <a:lnTo>
                    <a:pt x="2811" y="3140"/>
                  </a:lnTo>
                  <a:lnTo>
                    <a:pt x="2729" y="3202"/>
                  </a:lnTo>
                  <a:lnTo>
                    <a:pt x="2643" y="3260"/>
                  </a:lnTo>
                  <a:lnTo>
                    <a:pt x="2554" y="3311"/>
                  </a:lnTo>
                  <a:lnTo>
                    <a:pt x="2460" y="3357"/>
                  </a:lnTo>
                  <a:lnTo>
                    <a:pt x="2365" y="3399"/>
                  </a:lnTo>
                  <a:lnTo>
                    <a:pt x="2266" y="3434"/>
                  </a:lnTo>
                  <a:lnTo>
                    <a:pt x="2165" y="3464"/>
                  </a:lnTo>
                  <a:lnTo>
                    <a:pt x="2060" y="3487"/>
                  </a:lnTo>
                  <a:lnTo>
                    <a:pt x="1955" y="3504"/>
                  </a:lnTo>
                  <a:lnTo>
                    <a:pt x="1847" y="3514"/>
                  </a:lnTo>
                  <a:lnTo>
                    <a:pt x="1738" y="3518"/>
                  </a:lnTo>
                  <a:lnTo>
                    <a:pt x="1628" y="3514"/>
                  </a:lnTo>
                  <a:lnTo>
                    <a:pt x="1519" y="3504"/>
                  </a:lnTo>
                  <a:lnTo>
                    <a:pt x="1414" y="3487"/>
                  </a:lnTo>
                  <a:lnTo>
                    <a:pt x="1310" y="3464"/>
                  </a:lnTo>
                  <a:lnTo>
                    <a:pt x="1208" y="3434"/>
                  </a:lnTo>
                  <a:lnTo>
                    <a:pt x="1110" y="3399"/>
                  </a:lnTo>
                  <a:lnTo>
                    <a:pt x="1014" y="3357"/>
                  </a:lnTo>
                  <a:lnTo>
                    <a:pt x="921" y="3311"/>
                  </a:lnTo>
                  <a:lnTo>
                    <a:pt x="831" y="3260"/>
                  </a:lnTo>
                  <a:lnTo>
                    <a:pt x="745" y="3202"/>
                  </a:lnTo>
                  <a:lnTo>
                    <a:pt x="663" y="3140"/>
                  </a:lnTo>
                  <a:lnTo>
                    <a:pt x="585" y="3074"/>
                  </a:lnTo>
                  <a:lnTo>
                    <a:pt x="510" y="3002"/>
                  </a:lnTo>
                  <a:lnTo>
                    <a:pt x="439" y="2926"/>
                  </a:lnTo>
                  <a:lnTo>
                    <a:pt x="373" y="2847"/>
                  </a:lnTo>
                  <a:lnTo>
                    <a:pt x="312" y="2763"/>
                  </a:lnTo>
                  <a:lnTo>
                    <a:pt x="255" y="2675"/>
                  </a:lnTo>
                  <a:lnTo>
                    <a:pt x="204" y="2585"/>
                  </a:lnTo>
                  <a:lnTo>
                    <a:pt x="157" y="2491"/>
                  </a:lnTo>
                  <a:lnTo>
                    <a:pt x="117" y="2394"/>
                  </a:lnTo>
                  <a:lnTo>
                    <a:pt x="83" y="2294"/>
                  </a:lnTo>
                  <a:lnTo>
                    <a:pt x="53" y="2191"/>
                  </a:lnTo>
                  <a:lnTo>
                    <a:pt x="30" y="2087"/>
                  </a:lnTo>
                  <a:lnTo>
                    <a:pt x="14" y="1979"/>
                  </a:lnTo>
                  <a:lnTo>
                    <a:pt x="3" y="1870"/>
                  </a:lnTo>
                  <a:lnTo>
                    <a:pt x="0" y="1759"/>
                  </a:lnTo>
                  <a:lnTo>
                    <a:pt x="3" y="1648"/>
                  </a:lnTo>
                  <a:lnTo>
                    <a:pt x="14" y="1539"/>
                  </a:lnTo>
                  <a:lnTo>
                    <a:pt x="30" y="1431"/>
                  </a:lnTo>
                  <a:lnTo>
                    <a:pt x="53" y="1327"/>
                  </a:lnTo>
                  <a:lnTo>
                    <a:pt x="83" y="1225"/>
                  </a:lnTo>
                  <a:lnTo>
                    <a:pt x="117" y="1124"/>
                  </a:lnTo>
                  <a:lnTo>
                    <a:pt x="157" y="1028"/>
                  </a:lnTo>
                  <a:lnTo>
                    <a:pt x="204" y="933"/>
                  </a:lnTo>
                  <a:lnTo>
                    <a:pt x="255" y="843"/>
                  </a:lnTo>
                  <a:lnTo>
                    <a:pt x="312" y="755"/>
                  </a:lnTo>
                  <a:lnTo>
                    <a:pt x="373" y="671"/>
                  </a:lnTo>
                  <a:lnTo>
                    <a:pt x="439" y="592"/>
                  </a:lnTo>
                  <a:lnTo>
                    <a:pt x="510" y="516"/>
                  </a:lnTo>
                  <a:lnTo>
                    <a:pt x="585" y="445"/>
                  </a:lnTo>
                  <a:lnTo>
                    <a:pt x="663" y="379"/>
                  </a:lnTo>
                  <a:lnTo>
                    <a:pt x="745" y="316"/>
                  </a:lnTo>
                  <a:lnTo>
                    <a:pt x="831" y="259"/>
                  </a:lnTo>
                  <a:lnTo>
                    <a:pt x="921" y="207"/>
                  </a:lnTo>
                  <a:lnTo>
                    <a:pt x="1014" y="161"/>
                  </a:lnTo>
                  <a:lnTo>
                    <a:pt x="1110" y="119"/>
                  </a:lnTo>
                  <a:lnTo>
                    <a:pt x="1208" y="84"/>
                  </a:lnTo>
                  <a:lnTo>
                    <a:pt x="1310" y="54"/>
                  </a:lnTo>
                  <a:lnTo>
                    <a:pt x="1414" y="31"/>
                  </a:lnTo>
                  <a:lnTo>
                    <a:pt x="1519" y="15"/>
                  </a:lnTo>
                  <a:lnTo>
                    <a:pt x="1628" y="5"/>
                  </a:lnTo>
                  <a:lnTo>
                    <a:pt x="1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>
              <a:off x="2527200" y="4950000"/>
              <a:ext cx="128160" cy="129600"/>
            </a:xfrm>
            <a:custGeom>
              <a:avLst/>
              <a:gdLst/>
              <a:ahLst/>
              <a:rect l="l" t="t" r="r" b="b"/>
              <a:pathLst>
                <a:path w="3263" h="3314">
                  <a:moveTo>
                    <a:pt x="1776" y="753"/>
                  </a:moveTo>
                  <a:lnTo>
                    <a:pt x="1729" y="754"/>
                  </a:lnTo>
                  <a:lnTo>
                    <a:pt x="1686" y="759"/>
                  </a:lnTo>
                  <a:lnTo>
                    <a:pt x="1646" y="769"/>
                  </a:lnTo>
                  <a:lnTo>
                    <a:pt x="1610" y="780"/>
                  </a:lnTo>
                  <a:lnTo>
                    <a:pt x="1577" y="794"/>
                  </a:lnTo>
                  <a:lnTo>
                    <a:pt x="1547" y="810"/>
                  </a:lnTo>
                  <a:lnTo>
                    <a:pt x="1521" y="829"/>
                  </a:lnTo>
                  <a:lnTo>
                    <a:pt x="1496" y="850"/>
                  </a:lnTo>
                  <a:lnTo>
                    <a:pt x="1475" y="871"/>
                  </a:lnTo>
                  <a:lnTo>
                    <a:pt x="1456" y="895"/>
                  </a:lnTo>
                  <a:lnTo>
                    <a:pt x="1439" y="920"/>
                  </a:lnTo>
                  <a:lnTo>
                    <a:pt x="1426" y="946"/>
                  </a:lnTo>
                  <a:lnTo>
                    <a:pt x="1413" y="973"/>
                  </a:lnTo>
                  <a:lnTo>
                    <a:pt x="1403" y="1000"/>
                  </a:lnTo>
                  <a:lnTo>
                    <a:pt x="1395" y="1027"/>
                  </a:lnTo>
                  <a:lnTo>
                    <a:pt x="1389" y="1054"/>
                  </a:lnTo>
                  <a:lnTo>
                    <a:pt x="1384" y="1081"/>
                  </a:lnTo>
                  <a:lnTo>
                    <a:pt x="1381" y="1107"/>
                  </a:lnTo>
                  <a:lnTo>
                    <a:pt x="1379" y="1132"/>
                  </a:lnTo>
                  <a:lnTo>
                    <a:pt x="1379" y="1156"/>
                  </a:lnTo>
                  <a:lnTo>
                    <a:pt x="1379" y="1376"/>
                  </a:lnTo>
                  <a:lnTo>
                    <a:pt x="1192" y="1376"/>
                  </a:lnTo>
                  <a:lnTo>
                    <a:pt x="1192" y="1715"/>
                  </a:lnTo>
                  <a:lnTo>
                    <a:pt x="1379" y="1715"/>
                  </a:lnTo>
                  <a:lnTo>
                    <a:pt x="1379" y="2676"/>
                  </a:lnTo>
                  <a:lnTo>
                    <a:pt x="1772" y="2676"/>
                  </a:lnTo>
                  <a:lnTo>
                    <a:pt x="1772" y="1715"/>
                  </a:lnTo>
                  <a:lnTo>
                    <a:pt x="2037" y="1715"/>
                  </a:lnTo>
                  <a:lnTo>
                    <a:pt x="2072" y="1376"/>
                  </a:lnTo>
                  <a:lnTo>
                    <a:pt x="1772" y="1376"/>
                  </a:lnTo>
                  <a:lnTo>
                    <a:pt x="1772" y="1176"/>
                  </a:lnTo>
                  <a:lnTo>
                    <a:pt x="1774" y="1153"/>
                  </a:lnTo>
                  <a:lnTo>
                    <a:pt x="1779" y="1135"/>
                  </a:lnTo>
                  <a:lnTo>
                    <a:pt x="1786" y="1119"/>
                  </a:lnTo>
                  <a:lnTo>
                    <a:pt x="1795" y="1107"/>
                  </a:lnTo>
                  <a:lnTo>
                    <a:pt x="1806" y="1097"/>
                  </a:lnTo>
                  <a:lnTo>
                    <a:pt x="1819" y="1091"/>
                  </a:lnTo>
                  <a:lnTo>
                    <a:pt x="1831" y="1087"/>
                  </a:lnTo>
                  <a:lnTo>
                    <a:pt x="1843" y="1085"/>
                  </a:lnTo>
                  <a:lnTo>
                    <a:pt x="1855" y="1084"/>
                  </a:lnTo>
                  <a:lnTo>
                    <a:pt x="2066" y="1084"/>
                  </a:lnTo>
                  <a:lnTo>
                    <a:pt x="2066" y="754"/>
                  </a:lnTo>
                  <a:lnTo>
                    <a:pt x="1776" y="753"/>
                  </a:lnTo>
                  <a:close/>
                  <a:moveTo>
                    <a:pt x="1632" y="0"/>
                  </a:moveTo>
                  <a:lnTo>
                    <a:pt x="1735" y="4"/>
                  </a:lnTo>
                  <a:lnTo>
                    <a:pt x="1836" y="13"/>
                  </a:lnTo>
                  <a:lnTo>
                    <a:pt x="1935" y="29"/>
                  </a:lnTo>
                  <a:lnTo>
                    <a:pt x="2033" y="51"/>
                  </a:lnTo>
                  <a:lnTo>
                    <a:pt x="2128" y="79"/>
                  </a:lnTo>
                  <a:lnTo>
                    <a:pt x="2221" y="112"/>
                  </a:lnTo>
                  <a:lnTo>
                    <a:pt x="2310" y="151"/>
                  </a:lnTo>
                  <a:lnTo>
                    <a:pt x="2398" y="195"/>
                  </a:lnTo>
                  <a:lnTo>
                    <a:pt x="2482" y="243"/>
                  </a:lnTo>
                  <a:lnTo>
                    <a:pt x="2562" y="297"/>
                  </a:lnTo>
                  <a:lnTo>
                    <a:pt x="2640" y="356"/>
                  </a:lnTo>
                  <a:lnTo>
                    <a:pt x="2715" y="418"/>
                  </a:lnTo>
                  <a:lnTo>
                    <a:pt x="2785" y="486"/>
                  </a:lnTo>
                  <a:lnTo>
                    <a:pt x="2850" y="557"/>
                  </a:lnTo>
                  <a:lnTo>
                    <a:pt x="2912" y="632"/>
                  </a:lnTo>
                  <a:lnTo>
                    <a:pt x="2971" y="711"/>
                  </a:lnTo>
                  <a:lnTo>
                    <a:pt x="3024" y="794"/>
                  </a:lnTo>
                  <a:lnTo>
                    <a:pt x="3072" y="879"/>
                  </a:lnTo>
                  <a:lnTo>
                    <a:pt x="3115" y="968"/>
                  </a:lnTo>
                  <a:lnTo>
                    <a:pt x="3153" y="1059"/>
                  </a:lnTo>
                  <a:lnTo>
                    <a:pt x="3186" y="1153"/>
                  </a:lnTo>
                  <a:lnTo>
                    <a:pt x="3214" y="1250"/>
                  </a:lnTo>
                  <a:lnTo>
                    <a:pt x="3235" y="1348"/>
                  </a:lnTo>
                  <a:lnTo>
                    <a:pt x="3250" y="1450"/>
                  </a:lnTo>
                  <a:lnTo>
                    <a:pt x="3259" y="1552"/>
                  </a:lnTo>
                  <a:lnTo>
                    <a:pt x="3263" y="1657"/>
                  </a:lnTo>
                  <a:lnTo>
                    <a:pt x="3259" y="1762"/>
                  </a:lnTo>
                  <a:lnTo>
                    <a:pt x="3250" y="1864"/>
                  </a:lnTo>
                  <a:lnTo>
                    <a:pt x="3235" y="1966"/>
                  </a:lnTo>
                  <a:lnTo>
                    <a:pt x="3214" y="2064"/>
                  </a:lnTo>
                  <a:lnTo>
                    <a:pt x="3186" y="2161"/>
                  </a:lnTo>
                  <a:lnTo>
                    <a:pt x="3153" y="2255"/>
                  </a:lnTo>
                  <a:lnTo>
                    <a:pt x="3115" y="2346"/>
                  </a:lnTo>
                  <a:lnTo>
                    <a:pt x="3072" y="2435"/>
                  </a:lnTo>
                  <a:lnTo>
                    <a:pt x="3024" y="2520"/>
                  </a:lnTo>
                  <a:lnTo>
                    <a:pt x="2971" y="2603"/>
                  </a:lnTo>
                  <a:lnTo>
                    <a:pt x="2912" y="2682"/>
                  </a:lnTo>
                  <a:lnTo>
                    <a:pt x="2850" y="2757"/>
                  </a:lnTo>
                  <a:lnTo>
                    <a:pt x="2785" y="2828"/>
                  </a:lnTo>
                  <a:lnTo>
                    <a:pt x="2715" y="2895"/>
                  </a:lnTo>
                  <a:lnTo>
                    <a:pt x="2640" y="2958"/>
                  </a:lnTo>
                  <a:lnTo>
                    <a:pt x="2562" y="3017"/>
                  </a:lnTo>
                  <a:lnTo>
                    <a:pt x="2482" y="3071"/>
                  </a:lnTo>
                  <a:lnTo>
                    <a:pt x="2398" y="3119"/>
                  </a:lnTo>
                  <a:lnTo>
                    <a:pt x="2310" y="3163"/>
                  </a:lnTo>
                  <a:lnTo>
                    <a:pt x="2221" y="3202"/>
                  </a:lnTo>
                  <a:lnTo>
                    <a:pt x="2128" y="3235"/>
                  </a:lnTo>
                  <a:lnTo>
                    <a:pt x="2033" y="3263"/>
                  </a:lnTo>
                  <a:lnTo>
                    <a:pt x="1935" y="3285"/>
                  </a:lnTo>
                  <a:lnTo>
                    <a:pt x="1836" y="3301"/>
                  </a:lnTo>
                  <a:lnTo>
                    <a:pt x="1735" y="3310"/>
                  </a:lnTo>
                  <a:lnTo>
                    <a:pt x="1632" y="3314"/>
                  </a:lnTo>
                  <a:lnTo>
                    <a:pt x="1529" y="3310"/>
                  </a:lnTo>
                  <a:lnTo>
                    <a:pt x="1427" y="3301"/>
                  </a:lnTo>
                  <a:lnTo>
                    <a:pt x="1328" y="3285"/>
                  </a:lnTo>
                  <a:lnTo>
                    <a:pt x="1231" y="3263"/>
                  </a:lnTo>
                  <a:lnTo>
                    <a:pt x="1135" y="3235"/>
                  </a:lnTo>
                  <a:lnTo>
                    <a:pt x="1043" y="3202"/>
                  </a:lnTo>
                  <a:lnTo>
                    <a:pt x="952" y="3163"/>
                  </a:lnTo>
                  <a:lnTo>
                    <a:pt x="865" y="3119"/>
                  </a:lnTo>
                  <a:lnTo>
                    <a:pt x="781" y="3071"/>
                  </a:lnTo>
                  <a:lnTo>
                    <a:pt x="700" y="3017"/>
                  </a:lnTo>
                  <a:lnTo>
                    <a:pt x="622" y="2958"/>
                  </a:lnTo>
                  <a:lnTo>
                    <a:pt x="549" y="2895"/>
                  </a:lnTo>
                  <a:lnTo>
                    <a:pt x="479" y="2828"/>
                  </a:lnTo>
                  <a:lnTo>
                    <a:pt x="412" y="2757"/>
                  </a:lnTo>
                  <a:lnTo>
                    <a:pt x="350" y="2682"/>
                  </a:lnTo>
                  <a:lnTo>
                    <a:pt x="293" y="2603"/>
                  </a:lnTo>
                  <a:lnTo>
                    <a:pt x="240" y="2520"/>
                  </a:lnTo>
                  <a:lnTo>
                    <a:pt x="192" y="2435"/>
                  </a:lnTo>
                  <a:lnTo>
                    <a:pt x="148" y="2346"/>
                  </a:lnTo>
                  <a:lnTo>
                    <a:pt x="110" y="2255"/>
                  </a:lnTo>
                  <a:lnTo>
                    <a:pt x="78" y="2161"/>
                  </a:lnTo>
                  <a:lnTo>
                    <a:pt x="50" y="2064"/>
                  </a:lnTo>
                  <a:lnTo>
                    <a:pt x="29" y="1966"/>
                  </a:lnTo>
                  <a:lnTo>
                    <a:pt x="13" y="1864"/>
                  </a:lnTo>
                  <a:lnTo>
                    <a:pt x="3" y="1762"/>
                  </a:lnTo>
                  <a:lnTo>
                    <a:pt x="0" y="1657"/>
                  </a:lnTo>
                  <a:lnTo>
                    <a:pt x="3" y="1552"/>
                  </a:lnTo>
                  <a:lnTo>
                    <a:pt x="13" y="1450"/>
                  </a:lnTo>
                  <a:lnTo>
                    <a:pt x="29" y="1348"/>
                  </a:lnTo>
                  <a:lnTo>
                    <a:pt x="50" y="1250"/>
                  </a:lnTo>
                  <a:lnTo>
                    <a:pt x="78" y="1153"/>
                  </a:lnTo>
                  <a:lnTo>
                    <a:pt x="110" y="1059"/>
                  </a:lnTo>
                  <a:lnTo>
                    <a:pt x="148" y="968"/>
                  </a:lnTo>
                  <a:lnTo>
                    <a:pt x="192" y="879"/>
                  </a:lnTo>
                  <a:lnTo>
                    <a:pt x="240" y="794"/>
                  </a:lnTo>
                  <a:lnTo>
                    <a:pt x="293" y="711"/>
                  </a:lnTo>
                  <a:lnTo>
                    <a:pt x="350" y="632"/>
                  </a:lnTo>
                  <a:lnTo>
                    <a:pt x="412" y="557"/>
                  </a:lnTo>
                  <a:lnTo>
                    <a:pt x="479" y="486"/>
                  </a:lnTo>
                  <a:lnTo>
                    <a:pt x="549" y="418"/>
                  </a:lnTo>
                  <a:lnTo>
                    <a:pt x="622" y="356"/>
                  </a:lnTo>
                  <a:lnTo>
                    <a:pt x="700" y="297"/>
                  </a:lnTo>
                  <a:lnTo>
                    <a:pt x="781" y="243"/>
                  </a:lnTo>
                  <a:lnTo>
                    <a:pt x="865" y="195"/>
                  </a:lnTo>
                  <a:lnTo>
                    <a:pt x="952" y="151"/>
                  </a:lnTo>
                  <a:lnTo>
                    <a:pt x="1043" y="112"/>
                  </a:lnTo>
                  <a:lnTo>
                    <a:pt x="1135" y="79"/>
                  </a:lnTo>
                  <a:lnTo>
                    <a:pt x="1231" y="51"/>
                  </a:lnTo>
                  <a:lnTo>
                    <a:pt x="1328" y="29"/>
                  </a:lnTo>
                  <a:lnTo>
                    <a:pt x="1427" y="13"/>
                  </a:lnTo>
                  <a:lnTo>
                    <a:pt x="1529" y="4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790" name="TextBox 37"/>
          <p:cNvSpPr/>
          <p:nvPr/>
        </p:nvSpPr>
        <p:spPr>
          <a:xfrm flipH="1">
            <a:off x="4259160" y="4462560"/>
            <a:ext cx="13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91" name="TextBox 38"/>
          <p:cNvSpPr/>
          <p:nvPr/>
        </p:nvSpPr>
        <p:spPr>
          <a:xfrm flipH="1">
            <a:off x="3855960" y="5164200"/>
            <a:ext cx="21751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92" name="TextBox 39"/>
          <p:cNvSpPr/>
          <p:nvPr/>
        </p:nvSpPr>
        <p:spPr>
          <a:xfrm flipH="1">
            <a:off x="4235400" y="4681440"/>
            <a:ext cx="14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9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793" name="Group 40"/>
          <p:cNvGrpSpPr/>
          <p:nvPr/>
        </p:nvGrpSpPr>
        <p:grpSpPr>
          <a:xfrm>
            <a:off x="4702320" y="4950000"/>
            <a:ext cx="482400" cy="129960"/>
            <a:chOff x="4702320" y="4950000"/>
            <a:chExt cx="482400" cy="129960"/>
          </a:xfrm>
        </p:grpSpPr>
        <p:pic>
          <p:nvPicPr>
            <p:cNvPr id="794" name="Group 673" descr=""/>
            <p:cNvPicPr/>
            <p:nvPr/>
          </p:nvPicPr>
          <p:blipFill>
            <a:blip r:embed="rId2"/>
            <a:stretch/>
          </p:blipFill>
          <p:spPr>
            <a:xfrm>
              <a:off x="5051520" y="4950720"/>
              <a:ext cx="13320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Freeform 1536"/>
            <p:cNvSpPr/>
            <p:nvPr/>
          </p:nvSpPr>
          <p:spPr>
            <a:xfrm>
              <a:off x="4702320" y="4950000"/>
              <a:ext cx="128520" cy="129960"/>
            </a:xfrm>
            <a:custGeom>
              <a:avLst/>
              <a:gdLst/>
              <a:ahLst/>
              <a:rect l="l" t="t" r="r" b="b"/>
              <a:pathLst>
                <a:path w="3474" h="3518">
                  <a:moveTo>
                    <a:pt x="2112" y="957"/>
                  </a:moveTo>
                  <a:lnTo>
                    <a:pt x="2061" y="961"/>
                  </a:lnTo>
                  <a:lnTo>
                    <a:pt x="2014" y="970"/>
                  </a:lnTo>
                  <a:lnTo>
                    <a:pt x="1968" y="985"/>
                  </a:lnTo>
                  <a:lnTo>
                    <a:pt x="1924" y="1005"/>
                  </a:lnTo>
                  <a:lnTo>
                    <a:pt x="1883" y="1030"/>
                  </a:lnTo>
                  <a:lnTo>
                    <a:pt x="1846" y="1060"/>
                  </a:lnTo>
                  <a:lnTo>
                    <a:pt x="1814" y="1094"/>
                  </a:lnTo>
                  <a:lnTo>
                    <a:pt x="1784" y="1131"/>
                  </a:lnTo>
                  <a:lnTo>
                    <a:pt x="1759" y="1172"/>
                  </a:lnTo>
                  <a:lnTo>
                    <a:pt x="1739" y="1216"/>
                  </a:lnTo>
                  <a:lnTo>
                    <a:pt x="1724" y="1263"/>
                  </a:lnTo>
                  <a:lnTo>
                    <a:pt x="1716" y="1311"/>
                  </a:lnTo>
                  <a:lnTo>
                    <a:pt x="1713" y="1362"/>
                  </a:lnTo>
                  <a:lnTo>
                    <a:pt x="1715" y="1409"/>
                  </a:lnTo>
                  <a:lnTo>
                    <a:pt x="1722" y="1454"/>
                  </a:lnTo>
                  <a:lnTo>
                    <a:pt x="1640" y="1448"/>
                  </a:lnTo>
                  <a:lnTo>
                    <a:pt x="1559" y="1435"/>
                  </a:lnTo>
                  <a:lnTo>
                    <a:pt x="1481" y="1416"/>
                  </a:lnTo>
                  <a:lnTo>
                    <a:pt x="1405" y="1392"/>
                  </a:lnTo>
                  <a:lnTo>
                    <a:pt x="1331" y="1363"/>
                  </a:lnTo>
                  <a:lnTo>
                    <a:pt x="1259" y="1329"/>
                  </a:lnTo>
                  <a:lnTo>
                    <a:pt x="1191" y="1289"/>
                  </a:lnTo>
                  <a:lnTo>
                    <a:pt x="1126" y="1247"/>
                  </a:lnTo>
                  <a:lnTo>
                    <a:pt x="1064" y="1198"/>
                  </a:lnTo>
                  <a:lnTo>
                    <a:pt x="1005" y="1146"/>
                  </a:lnTo>
                  <a:lnTo>
                    <a:pt x="950" y="1091"/>
                  </a:lnTo>
                  <a:lnTo>
                    <a:pt x="899" y="1032"/>
                  </a:lnTo>
                  <a:lnTo>
                    <a:pt x="880" y="1068"/>
                  </a:lnTo>
                  <a:lnTo>
                    <a:pt x="865" y="1108"/>
                  </a:lnTo>
                  <a:lnTo>
                    <a:pt x="854" y="1149"/>
                  </a:lnTo>
                  <a:lnTo>
                    <a:pt x="846" y="1192"/>
                  </a:lnTo>
                  <a:lnTo>
                    <a:pt x="844" y="1236"/>
                  </a:lnTo>
                  <a:lnTo>
                    <a:pt x="848" y="1287"/>
                  </a:lnTo>
                  <a:lnTo>
                    <a:pt x="857" y="1337"/>
                  </a:lnTo>
                  <a:lnTo>
                    <a:pt x="873" y="1384"/>
                  </a:lnTo>
                  <a:lnTo>
                    <a:pt x="893" y="1429"/>
                  </a:lnTo>
                  <a:lnTo>
                    <a:pt x="919" y="1471"/>
                  </a:lnTo>
                  <a:lnTo>
                    <a:pt x="950" y="1508"/>
                  </a:lnTo>
                  <a:lnTo>
                    <a:pt x="984" y="1542"/>
                  </a:lnTo>
                  <a:lnTo>
                    <a:pt x="1022" y="1572"/>
                  </a:lnTo>
                  <a:lnTo>
                    <a:pt x="974" y="1568"/>
                  </a:lnTo>
                  <a:lnTo>
                    <a:pt x="928" y="1557"/>
                  </a:lnTo>
                  <a:lnTo>
                    <a:pt x="883" y="1541"/>
                  </a:lnTo>
                  <a:lnTo>
                    <a:pt x="841" y="1522"/>
                  </a:lnTo>
                  <a:lnTo>
                    <a:pt x="841" y="1524"/>
                  </a:lnTo>
                  <a:lnTo>
                    <a:pt x="841" y="1527"/>
                  </a:lnTo>
                  <a:lnTo>
                    <a:pt x="844" y="1579"/>
                  </a:lnTo>
                  <a:lnTo>
                    <a:pt x="854" y="1629"/>
                  </a:lnTo>
                  <a:lnTo>
                    <a:pt x="870" y="1678"/>
                  </a:lnTo>
                  <a:lnTo>
                    <a:pt x="891" y="1723"/>
                  </a:lnTo>
                  <a:lnTo>
                    <a:pt x="918" y="1765"/>
                  </a:lnTo>
                  <a:lnTo>
                    <a:pt x="949" y="1803"/>
                  </a:lnTo>
                  <a:lnTo>
                    <a:pt x="984" y="1837"/>
                  </a:lnTo>
                  <a:lnTo>
                    <a:pt x="1025" y="1867"/>
                  </a:lnTo>
                  <a:lnTo>
                    <a:pt x="1067" y="1891"/>
                  </a:lnTo>
                  <a:lnTo>
                    <a:pt x="1113" y="1910"/>
                  </a:lnTo>
                  <a:lnTo>
                    <a:pt x="1162" y="1923"/>
                  </a:lnTo>
                  <a:lnTo>
                    <a:pt x="1128" y="1931"/>
                  </a:lnTo>
                  <a:lnTo>
                    <a:pt x="1092" y="1936"/>
                  </a:lnTo>
                  <a:lnTo>
                    <a:pt x="1056" y="1937"/>
                  </a:lnTo>
                  <a:lnTo>
                    <a:pt x="1018" y="1935"/>
                  </a:lnTo>
                  <a:lnTo>
                    <a:pt x="981" y="1930"/>
                  </a:lnTo>
                  <a:lnTo>
                    <a:pt x="1000" y="1977"/>
                  </a:lnTo>
                  <a:lnTo>
                    <a:pt x="1024" y="2021"/>
                  </a:lnTo>
                  <a:lnTo>
                    <a:pt x="1052" y="2062"/>
                  </a:lnTo>
                  <a:lnTo>
                    <a:pt x="1084" y="2098"/>
                  </a:lnTo>
                  <a:lnTo>
                    <a:pt x="1121" y="2130"/>
                  </a:lnTo>
                  <a:lnTo>
                    <a:pt x="1163" y="2157"/>
                  </a:lnTo>
                  <a:lnTo>
                    <a:pt x="1206" y="2179"/>
                  </a:lnTo>
                  <a:lnTo>
                    <a:pt x="1254" y="2196"/>
                  </a:lnTo>
                  <a:lnTo>
                    <a:pt x="1303" y="2207"/>
                  </a:lnTo>
                  <a:lnTo>
                    <a:pt x="1355" y="2211"/>
                  </a:lnTo>
                  <a:lnTo>
                    <a:pt x="1302" y="2250"/>
                  </a:lnTo>
                  <a:lnTo>
                    <a:pt x="1246" y="2284"/>
                  </a:lnTo>
                  <a:lnTo>
                    <a:pt x="1187" y="2314"/>
                  </a:lnTo>
                  <a:lnTo>
                    <a:pt x="1126" y="2339"/>
                  </a:lnTo>
                  <a:lnTo>
                    <a:pt x="1062" y="2359"/>
                  </a:lnTo>
                  <a:lnTo>
                    <a:pt x="995" y="2373"/>
                  </a:lnTo>
                  <a:lnTo>
                    <a:pt x="928" y="2382"/>
                  </a:lnTo>
                  <a:lnTo>
                    <a:pt x="858" y="2385"/>
                  </a:lnTo>
                  <a:lnTo>
                    <a:pt x="811" y="2383"/>
                  </a:lnTo>
                  <a:lnTo>
                    <a:pt x="763" y="2378"/>
                  </a:lnTo>
                  <a:lnTo>
                    <a:pt x="830" y="2419"/>
                  </a:lnTo>
                  <a:lnTo>
                    <a:pt x="902" y="2455"/>
                  </a:lnTo>
                  <a:lnTo>
                    <a:pt x="975" y="2487"/>
                  </a:lnTo>
                  <a:lnTo>
                    <a:pt x="1051" y="2513"/>
                  </a:lnTo>
                  <a:lnTo>
                    <a:pt x="1129" y="2534"/>
                  </a:lnTo>
                  <a:lnTo>
                    <a:pt x="1209" y="2548"/>
                  </a:lnTo>
                  <a:lnTo>
                    <a:pt x="1292" y="2558"/>
                  </a:lnTo>
                  <a:lnTo>
                    <a:pt x="1376" y="2561"/>
                  </a:lnTo>
                  <a:lnTo>
                    <a:pt x="1459" y="2558"/>
                  </a:lnTo>
                  <a:lnTo>
                    <a:pt x="1540" y="2550"/>
                  </a:lnTo>
                  <a:lnTo>
                    <a:pt x="1617" y="2537"/>
                  </a:lnTo>
                  <a:lnTo>
                    <a:pt x="1691" y="2519"/>
                  </a:lnTo>
                  <a:lnTo>
                    <a:pt x="1762" y="2497"/>
                  </a:lnTo>
                  <a:lnTo>
                    <a:pt x="1831" y="2471"/>
                  </a:lnTo>
                  <a:lnTo>
                    <a:pt x="1896" y="2440"/>
                  </a:lnTo>
                  <a:lnTo>
                    <a:pt x="1958" y="2406"/>
                  </a:lnTo>
                  <a:lnTo>
                    <a:pt x="2017" y="2367"/>
                  </a:lnTo>
                  <a:lnTo>
                    <a:pt x="2072" y="2327"/>
                  </a:lnTo>
                  <a:lnTo>
                    <a:pt x="2125" y="2283"/>
                  </a:lnTo>
                  <a:lnTo>
                    <a:pt x="2174" y="2235"/>
                  </a:lnTo>
                  <a:lnTo>
                    <a:pt x="2220" y="2186"/>
                  </a:lnTo>
                  <a:lnTo>
                    <a:pt x="2263" y="2133"/>
                  </a:lnTo>
                  <a:lnTo>
                    <a:pt x="2303" y="2079"/>
                  </a:lnTo>
                  <a:lnTo>
                    <a:pt x="2338" y="2023"/>
                  </a:lnTo>
                  <a:lnTo>
                    <a:pt x="2372" y="1965"/>
                  </a:lnTo>
                  <a:lnTo>
                    <a:pt x="2401" y="1905"/>
                  </a:lnTo>
                  <a:lnTo>
                    <a:pt x="2428" y="1845"/>
                  </a:lnTo>
                  <a:lnTo>
                    <a:pt x="2450" y="1784"/>
                  </a:lnTo>
                  <a:lnTo>
                    <a:pt x="2469" y="1722"/>
                  </a:lnTo>
                  <a:lnTo>
                    <a:pt x="2485" y="1659"/>
                  </a:lnTo>
                  <a:lnTo>
                    <a:pt x="2497" y="1596"/>
                  </a:lnTo>
                  <a:lnTo>
                    <a:pt x="2506" y="1534"/>
                  </a:lnTo>
                  <a:lnTo>
                    <a:pt x="2511" y="1471"/>
                  </a:lnTo>
                  <a:lnTo>
                    <a:pt x="2513" y="1409"/>
                  </a:lnTo>
                  <a:lnTo>
                    <a:pt x="2512" y="1357"/>
                  </a:lnTo>
                  <a:lnTo>
                    <a:pt x="2558" y="1321"/>
                  </a:lnTo>
                  <a:lnTo>
                    <a:pt x="2600" y="1282"/>
                  </a:lnTo>
                  <a:lnTo>
                    <a:pt x="2641" y="1240"/>
                  </a:lnTo>
                  <a:lnTo>
                    <a:pt x="2677" y="1195"/>
                  </a:lnTo>
                  <a:lnTo>
                    <a:pt x="2711" y="1148"/>
                  </a:lnTo>
                  <a:lnTo>
                    <a:pt x="2657" y="1170"/>
                  </a:lnTo>
                  <a:lnTo>
                    <a:pt x="2600" y="1188"/>
                  </a:lnTo>
                  <a:lnTo>
                    <a:pt x="2542" y="1201"/>
                  </a:lnTo>
                  <a:lnTo>
                    <a:pt x="2482" y="1211"/>
                  </a:lnTo>
                  <a:lnTo>
                    <a:pt x="2522" y="1184"/>
                  </a:lnTo>
                  <a:lnTo>
                    <a:pt x="2558" y="1152"/>
                  </a:lnTo>
                  <a:lnTo>
                    <a:pt x="2589" y="1116"/>
                  </a:lnTo>
                  <a:lnTo>
                    <a:pt x="2618" y="1076"/>
                  </a:lnTo>
                  <a:lnTo>
                    <a:pt x="2641" y="1033"/>
                  </a:lnTo>
                  <a:lnTo>
                    <a:pt x="2658" y="987"/>
                  </a:lnTo>
                  <a:lnTo>
                    <a:pt x="2598" y="1020"/>
                  </a:lnTo>
                  <a:lnTo>
                    <a:pt x="2536" y="1046"/>
                  </a:lnTo>
                  <a:lnTo>
                    <a:pt x="2471" y="1068"/>
                  </a:lnTo>
                  <a:lnTo>
                    <a:pt x="2404" y="1085"/>
                  </a:lnTo>
                  <a:lnTo>
                    <a:pt x="2371" y="1053"/>
                  </a:lnTo>
                  <a:lnTo>
                    <a:pt x="2334" y="1025"/>
                  </a:lnTo>
                  <a:lnTo>
                    <a:pt x="2295" y="1002"/>
                  </a:lnTo>
                  <a:lnTo>
                    <a:pt x="2253" y="984"/>
                  </a:lnTo>
                  <a:lnTo>
                    <a:pt x="2207" y="969"/>
                  </a:lnTo>
                  <a:lnTo>
                    <a:pt x="2160" y="961"/>
                  </a:lnTo>
                  <a:lnTo>
                    <a:pt x="2112" y="957"/>
                  </a:lnTo>
                  <a:close/>
                  <a:moveTo>
                    <a:pt x="1738" y="0"/>
                  </a:moveTo>
                  <a:lnTo>
                    <a:pt x="1847" y="5"/>
                  </a:lnTo>
                  <a:lnTo>
                    <a:pt x="1955" y="15"/>
                  </a:lnTo>
                  <a:lnTo>
                    <a:pt x="2060" y="31"/>
                  </a:lnTo>
                  <a:lnTo>
                    <a:pt x="2165" y="54"/>
                  </a:lnTo>
                  <a:lnTo>
                    <a:pt x="2266" y="84"/>
                  </a:lnTo>
                  <a:lnTo>
                    <a:pt x="2365" y="119"/>
                  </a:lnTo>
                  <a:lnTo>
                    <a:pt x="2460" y="161"/>
                  </a:lnTo>
                  <a:lnTo>
                    <a:pt x="2554" y="207"/>
                  </a:lnTo>
                  <a:lnTo>
                    <a:pt x="2643" y="259"/>
                  </a:lnTo>
                  <a:lnTo>
                    <a:pt x="2729" y="316"/>
                  </a:lnTo>
                  <a:lnTo>
                    <a:pt x="2811" y="379"/>
                  </a:lnTo>
                  <a:lnTo>
                    <a:pt x="2890" y="445"/>
                  </a:lnTo>
                  <a:lnTo>
                    <a:pt x="2965" y="516"/>
                  </a:lnTo>
                  <a:lnTo>
                    <a:pt x="3035" y="592"/>
                  </a:lnTo>
                  <a:lnTo>
                    <a:pt x="3101" y="671"/>
                  </a:lnTo>
                  <a:lnTo>
                    <a:pt x="3163" y="755"/>
                  </a:lnTo>
                  <a:lnTo>
                    <a:pt x="3220" y="843"/>
                  </a:lnTo>
                  <a:lnTo>
                    <a:pt x="3271" y="933"/>
                  </a:lnTo>
                  <a:lnTo>
                    <a:pt x="3316" y="1028"/>
                  </a:lnTo>
                  <a:lnTo>
                    <a:pt x="3358" y="1124"/>
                  </a:lnTo>
                  <a:lnTo>
                    <a:pt x="3393" y="1225"/>
                  </a:lnTo>
                  <a:lnTo>
                    <a:pt x="3422" y="1327"/>
                  </a:lnTo>
                  <a:lnTo>
                    <a:pt x="3445" y="1431"/>
                  </a:lnTo>
                  <a:lnTo>
                    <a:pt x="3461" y="1539"/>
                  </a:lnTo>
                  <a:lnTo>
                    <a:pt x="3471" y="1648"/>
                  </a:lnTo>
                  <a:lnTo>
                    <a:pt x="3474" y="1759"/>
                  </a:lnTo>
                  <a:lnTo>
                    <a:pt x="3471" y="1870"/>
                  </a:lnTo>
                  <a:lnTo>
                    <a:pt x="3461" y="1979"/>
                  </a:lnTo>
                  <a:lnTo>
                    <a:pt x="3445" y="2087"/>
                  </a:lnTo>
                  <a:lnTo>
                    <a:pt x="3422" y="2191"/>
                  </a:lnTo>
                  <a:lnTo>
                    <a:pt x="3393" y="2294"/>
                  </a:lnTo>
                  <a:lnTo>
                    <a:pt x="3358" y="2394"/>
                  </a:lnTo>
                  <a:lnTo>
                    <a:pt x="3316" y="2491"/>
                  </a:lnTo>
                  <a:lnTo>
                    <a:pt x="3271" y="2585"/>
                  </a:lnTo>
                  <a:lnTo>
                    <a:pt x="3220" y="2675"/>
                  </a:lnTo>
                  <a:lnTo>
                    <a:pt x="3163" y="2763"/>
                  </a:lnTo>
                  <a:lnTo>
                    <a:pt x="3101" y="2847"/>
                  </a:lnTo>
                  <a:lnTo>
                    <a:pt x="3035" y="2926"/>
                  </a:lnTo>
                  <a:lnTo>
                    <a:pt x="2965" y="3002"/>
                  </a:lnTo>
                  <a:lnTo>
                    <a:pt x="2890" y="3074"/>
                  </a:lnTo>
                  <a:lnTo>
                    <a:pt x="2811" y="3140"/>
                  </a:lnTo>
                  <a:lnTo>
                    <a:pt x="2729" y="3202"/>
                  </a:lnTo>
                  <a:lnTo>
                    <a:pt x="2643" y="3260"/>
                  </a:lnTo>
                  <a:lnTo>
                    <a:pt x="2554" y="3311"/>
                  </a:lnTo>
                  <a:lnTo>
                    <a:pt x="2460" y="3357"/>
                  </a:lnTo>
                  <a:lnTo>
                    <a:pt x="2365" y="3399"/>
                  </a:lnTo>
                  <a:lnTo>
                    <a:pt x="2266" y="3434"/>
                  </a:lnTo>
                  <a:lnTo>
                    <a:pt x="2165" y="3464"/>
                  </a:lnTo>
                  <a:lnTo>
                    <a:pt x="2060" y="3487"/>
                  </a:lnTo>
                  <a:lnTo>
                    <a:pt x="1955" y="3504"/>
                  </a:lnTo>
                  <a:lnTo>
                    <a:pt x="1847" y="3514"/>
                  </a:lnTo>
                  <a:lnTo>
                    <a:pt x="1738" y="3518"/>
                  </a:lnTo>
                  <a:lnTo>
                    <a:pt x="1628" y="3514"/>
                  </a:lnTo>
                  <a:lnTo>
                    <a:pt x="1519" y="3504"/>
                  </a:lnTo>
                  <a:lnTo>
                    <a:pt x="1414" y="3487"/>
                  </a:lnTo>
                  <a:lnTo>
                    <a:pt x="1310" y="3464"/>
                  </a:lnTo>
                  <a:lnTo>
                    <a:pt x="1208" y="3434"/>
                  </a:lnTo>
                  <a:lnTo>
                    <a:pt x="1110" y="3399"/>
                  </a:lnTo>
                  <a:lnTo>
                    <a:pt x="1014" y="3357"/>
                  </a:lnTo>
                  <a:lnTo>
                    <a:pt x="921" y="3311"/>
                  </a:lnTo>
                  <a:lnTo>
                    <a:pt x="831" y="3260"/>
                  </a:lnTo>
                  <a:lnTo>
                    <a:pt x="745" y="3202"/>
                  </a:lnTo>
                  <a:lnTo>
                    <a:pt x="663" y="3140"/>
                  </a:lnTo>
                  <a:lnTo>
                    <a:pt x="585" y="3074"/>
                  </a:lnTo>
                  <a:lnTo>
                    <a:pt x="510" y="3002"/>
                  </a:lnTo>
                  <a:lnTo>
                    <a:pt x="439" y="2926"/>
                  </a:lnTo>
                  <a:lnTo>
                    <a:pt x="373" y="2847"/>
                  </a:lnTo>
                  <a:lnTo>
                    <a:pt x="312" y="2763"/>
                  </a:lnTo>
                  <a:lnTo>
                    <a:pt x="255" y="2675"/>
                  </a:lnTo>
                  <a:lnTo>
                    <a:pt x="204" y="2585"/>
                  </a:lnTo>
                  <a:lnTo>
                    <a:pt x="157" y="2491"/>
                  </a:lnTo>
                  <a:lnTo>
                    <a:pt x="117" y="2394"/>
                  </a:lnTo>
                  <a:lnTo>
                    <a:pt x="83" y="2294"/>
                  </a:lnTo>
                  <a:lnTo>
                    <a:pt x="53" y="2191"/>
                  </a:lnTo>
                  <a:lnTo>
                    <a:pt x="30" y="2087"/>
                  </a:lnTo>
                  <a:lnTo>
                    <a:pt x="14" y="1979"/>
                  </a:lnTo>
                  <a:lnTo>
                    <a:pt x="3" y="1870"/>
                  </a:lnTo>
                  <a:lnTo>
                    <a:pt x="0" y="1759"/>
                  </a:lnTo>
                  <a:lnTo>
                    <a:pt x="3" y="1648"/>
                  </a:lnTo>
                  <a:lnTo>
                    <a:pt x="14" y="1539"/>
                  </a:lnTo>
                  <a:lnTo>
                    <a:pt x="30" y="1431"/>
                  </a:lnTo>
                  <a:lnTo>
                    <a:pt x="53" y="1327"/>
                  </a:lnTo>
                  <a:lnTo>
                    <a:pt x="83" y="1225"/>
                  </a:lnTo>
                  <a:lnTo>
                    <a:pt x="117" y="1124"/>
                  </a:lnTo>
                  <a:lnTo>
                    <a:pt x="157" y="1028"/>
                  </a:lnTo>
                  <a:lnTo>
                    <a:pt x="204" y="933"/>
                  </a:lnTo>
                  <a:lnTo>
                    <a:pt x="255" y="843"/>
                  </a:lnTo>
                  <a:lnTo>
                    <a:pt x="312" y="755"/>
                  </a:lnTo>
                  <a:lnTo>
                    <a:pt x="373" y="671"/>
                  </a:lnTo>
                  <a:lnTo>
                    <a:pt x="439" y="592"/>
                  </a:lnTo>
                  <a:lnTo>
                    <a:pt x="510" y="516"/>
                  </a:lnTo>
                  <a:lnTo>
                    <a:pt x="585" y="445"/>
                  </a:lnTo>
                  <a:lnTo>
                    <a:pt x="663" y="379"/>
                  </a:lnTo>
                  <a:lnTo>
                    <a:pt x="745" y="316"/>
                  </a:lnTo>
                  <a:lnTo>
                    <a:pt x="831" y="259"/>
                  </a:lnTo>
                  <a:lnTo>
                    <a:pt x="921" y="207"/>
                  </a:lnTo>
                  <a:lnTo>
                    <a:pt x="1014" y="161"/>
                  </a:lnTo>
                  <a:lnTo>
                    <a:pt x="1110" y="119"/>
                  </a:lnTo>
                  <a:lnTo>
                    <a:pt x="1208" y="84"/>
                  </a:lnTo>
                  <a:lnTo>
                    <a:pt x="1310" y="54"/>
                  </a:lnTo>
                  <a:lnTo>
                    <a:pt x="1414" y="31"/>
                  </a:lnTo>
                  <a:lnTo>
                    <a:pt x="1519" y="15"/>
                  </a:lnTo>
                  <a:lnTo>
                    <a:pt x="1628" y="5"/>
                  </a:lnTo>
                  <a:lnTo>
                    <a:pt x="1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>
              <a:off x="4878360" y="4950000"/>
              <a:ext cx="128160" cy="129600"/>
            </a:xfrm>
            <a:custGeom>
              <a:avLst/>
              <a:gdLst/>
              <a:ahLst/>
              <a:rect l="l" t="t" r="r" b="b"/>
              <a:pathLst>
                <a:path w="3263" h="3314">
                  <a:moveTo>
                    <a:pt x="1776" y="753"/>
                  </a:moveTo>
                  <a:lnTo>
                    <a:pt x="1729" y="754"/>
                  </a:lnTo>
                  <a:lnTo>
                    <a:pt x="1686" y="759"/>
                  </a:lnTo>
                  <a:lnTo>
                    <a:pt x="1646" y="769"/>
                  </a:lnTo>
                  <a:lnTo>
                    <a:pt x="1610" y="780"/>
                  </a:lnTo>
                  <a:lnTo>
                    <a:pt x="1577" y="794"/>
                  </a:lnTo>
                  <a:lnTo>
                    <a:pt x="1547" y="810"/>
                  </a:lnTo>
                  <a:lnTo>
                    <a:pt x="1521" y="829"/>
                  </a:lnTo>
                  <a:lnTo>
                    <a:pt x="1496" y="850"/>
                  </a:lnTo>
                  <a:lnTo>
                    <a:pt x="1475" y="871"/>
                  </a:lnTo>
                  <a:lnTo>
                    <a:pt x="1456" y="895"/>
                  </a:lnTo>
                  <a:lnTo>
                    <a:pt x="1439" y="920"/>
                  </a:lnTo>
                  <a:lnTo>
                    <a:pt x="1426" y="946"/>
                  </a:lnTo>
                  <a:lnTo>
                    <a:pt x="1413" y="973"/>
                  </a:lnTo>
                  <a:lnTo>
                    <a:pt x="1403" y="1000"/>
                  </a:lnTo>
                  <a:lnTo>
                    <a:pt x="1395" y="1027"/>
                  </a:lnTo>
                  <a:lnTo>
                    <a:pt x="1389" y="1054"/>
                  </a:lnTo>
                  <a:lnTo>
                    <a:pt x="1384" y="1081"/>
                  </a:lnTo>
                  <a:lnTo>
                    <a:pt x="1381" y="1107"/>
                  </a:lnTo>
                  <a:lnTo>
                    <a:pt x="1379" y="1132"/>
                  </a:lnTo>
                  <a:lnTo>
                    <a:pt x="1379" y="1156"/>
                  </a:lnTo>
                  <a:lnTo>
                    <a:pt x="1379" y="1376"/>
                  </a:lnTo>
                  <a:lnTo>
                    <a:pt x="1192" y="1376"/>
                  </a:lnTo>
                  <a:lnTo>
                    <a:pt x="1192" y="1715"/>
                  </a:lnTo>
                  <a:lnTo>
                    <a:pt x="1379" y="1715"/>
                  </a:lnTo>
                  <a:lnTo>
                    <a:pt x="1379" y="2676"/>
                  </a:lnTo>
                  <a:lnTo>
                    <a:pt x="1772" y="2676"/>
                  </a:lnTo>
                  <a:lnTo>
                    <a:pt x="1772" y="1715"/>
                  </a:lnTo>
                  <a:lnTo>
                    <a:pt x="2037" y="1715"/>
                  </a:lnTo>
                  <a:lnTo>
                    <a:pt x="2072" y="1376"/>
                  </a:lnTo>
                  <a:lnTo>
                    <a:pt x="1772" y="1376"/>
                  </a:lnTo>
                  <a:lnTo>
                    <a:pt x="1772" y="1176"/>
                  </a:lnTo>
                  <a:lnTo>
                    <a:pt x="1774" y="1153"/>
                  </a:lnTo>
                  <a:lnTo>
                    <a:pt x="1779" y="1135"/>
                  </a:lnTo>
                  <a:lnTo>
                    <a:pt x="1786" y="1119"/>
                  </a:lnTo>
                  <a:lnTo>
                    <a:pt x="1795" y="1107"/>
                  </a:lnTo>
                  <a:lnTo>
                    <a:pt x="1806" y="1097"/>
                  </a:lnTo>
                  <a:lnTo>
                    <a:pt x="1819" y="1091"/>
                  </a:lnTo>
                  <a:lnTo>
                    <a:pt x="1831" y="1087"/>
                  </a:lnTo>
                  <a:lnTo>
                    <a:pt x="1843" y="1085"/>
                  </a:lnTo>
                  <a:lnTo>
                    <a:pt x="1855" y="1084"/>
                  </a:lnTo>
                  <a:lnTo>
                    <a:pt x="2066" y="1084"/>
                  </a:lnTo>
                  <a:lnTo>
                    <a:pt x="2066" y="754"/>
                  </a:lnTo>
                  <a:lnTo>
                    <a:pt x="1776" y="753"/>
                  </a:lnTo>
                  <a:close/>
                  <a:moveTo>
                    <a:pt x="1632" y="0"/>
                  </a:moveTo>
                  <a:lnTo>
                    <a:pt x="1735" y="4"/>
                  </a:lnTo>
                  <a:lnTo>
                    <a:pt x="1836" y="13"/>
                  </a:lnTo>
                  <a:lnTo>
                    <a:pt x="1935" y="29"/>
                  </a:lnTo>
                  <a:lnTo>
                    <a:pt x="2033" y="51"/>
                  </a:lnTo>
                  <a:lnTo>
                    <a:pt x="2128" y="79"/>
                  </a:lnTo>
                  <a:lnTo>
                    <a:pt x="2221" y="112"/>
                  </a:lnTo>
                  <a:lnTo>
                    <a:pt x="2310" y="151"/>
                  </a:lnTo>
                  <a:lnTo>
                    <a:pt x="2398" y="195"/>
                  </a:lnTo>
                  <a:lnTo>
                    <a:pt x="2482" y="243"/>
                  </a:lnTo>
                  <a:lnTo>
                    <a:pt x="2562" y="297"/>
                  </a:lnTo>
                  <a:lnTo>
                    <a:pt x="2640" y="356"/>
                  </a:lnTo>
                  <a:lnTo>
                    <a:pt x="2715" y="418"/>
                  </a:lnTo>
                  <a:lnTo>
                    <a:pt x="2785" y="486"/>
                  </a:lnTo>
                  <a:lnTo>
                    <a:pt x="2850" y="557"/>
                  </a:lnTo>
                  <a:lnTo>
                    <a:pt x="2912" y="632"/>
                  </a:lnTo>
                  <a:lnTo>
                    <a:pt x="2971" y="711"/>
                  </a:lnTo>
                  <a:lnTo>
                    <a:pt x="3024" y="794"/>
                  </a:lnTo>
                  <a:lnTo>
                    <a:pt x="3072" y="879"/>
                  </a:lnTo>
                  <a:lnTo>
                    <a:pt x="3115" y="968"/>
                  </a:lnTo>
                  <a:lnTo>
                    <a:pt x="3153" y="1059"/>
                  </a:lnTo>
                  <a:lnTo>
                    <a:pt x="3186" y="1153"/>
                  </a:lnTo>
                  <a:lnTo>
                    <a:pt x="3214" y="1250"/>
                  </a:lnTo>
                  <a:lnTo>
                    <a:pt x="3235" y="1348"/>
                  </a:lnTo>
                  <a:lnTo>
                    <a:pt x="3250" y="1450"/>
                  </a:lnTo>
                  <a:lnTo>
                    <a:pt x="3259" y="1552"/>
                  </a:lnTo>
                  <a:lnTo>
                    <a:pt x="3263" y="1657"/>
                  </a:lnTo>
                  <a:lnTo>
                    <a:pt x="3259" y="1762"/>
                  </a:lnTo>
                  <a:lnTo>
                    <a:pt x="3250" y="1864"/>
                  </a:lnTo>
                  <a:lnTo>
                    <a:pt x="3235" y="1966"/>
                  </a:lnTo>
                  <a:lnTo>
                    <a:pt x="3214" y="2064"/>
                  </a:lnTo>
                  <a:lnTo>
                    <a:pt x="3186" y="2161"/>
                  </a:lnTo>
                  <a:lnTo>
                    <a:pt x="3153" y="2255"/>
                  </a:lnTo>
                  <a:lnTo>
                    <a:pt x="3115" y="2346"/>
                  </a:lnTo>
                  <a:lnTo>
                    <a:pt x="3072" y="2435"/>
                  </a:lnTo>
                  <a:lnTo>
                    <a:pt x="3024" y="2520"/>
                  </a:lnTo>
                  <a:lnTo>
                    <a:pt x="2971" y="2603"/>
                  </a:lnTo>
                  <a:lnTo>
                    <a:pt x="2912" y="2682"/>
                  </a:lnTo>
                  <a:lnTo>
                    <a:pt x="2850" y="2757"/>
                  </a:lnTo>
                  <a:lnTo>
                    <a:pt x="2785" y="2828"/>
                  </a:lnTo>
                  <a:lnTo>
                    <a:pt x="2715" y="2895"/>
                  </a:lnTo>
                  <a:lnTo>
                    <a:pt x="2640" y="2958"/>
                  </a:lnTo>
                  <a:lnTo>
                    <a:pt x="2562" y="3017"/>
                  </a:lnTo>
                  <a:lnTo>
                    <a:pt x="2482" y="3071"/>
                  </a:lnTo>
                  <a:lnTo>
                    <a:pt x="2398" y="3119"/>
                  </a:lnTo>
                  <a:lnTo>
                    <a:pt x="2310" y="3163"/>
                  </a:lnTo>
                  <a:lnTo>
                    <a:pt x="2221" y="3202"/>
                  </a:lnTo>
                  <a:lnTo>
                    <a:pt x="2128" y="3235"/>
                  </a:lnTo>
                  <a:lnTo>
                    <a:pt x="2033" y="3263"/>
                  </a:lnTo>
                  <a:lnTo>
                    <a:pt x="1935" y="3285"/>
                  </a:lnTo>
                  <a:lnTo>
                    <a:pt x="1836" y="3301"/>
                  </a:lnTo>
                  <a:lnTo>
                    <a:pt x="1735" y="3310"/>
                  </a:lnTo>
                  <a:lnTo>
                    <a:pt x="1632" y="3314"/>
                  </a:lnTo>
                  <a:lnTo>
                    <a:pt x="1529" y="3310"/>
                  </a:lnTo>
                  <a:lnTo>
                    <a:pt x="1427" y="3301"/>
                  </a:lnTo>
                  <a:lnTo>
                    <a:pt x="1328" y="3285"/>
                  </a:lnTo>
                  <a:lnTo>
                    <a:pt x="1231" y="3263"/>
                  </a:lnTo>
                  <a:lnTo>
                    <a:pt x="1135" y="3235"/>
                  </a:lnTo>
                  <a:lnTo>
                    <a:pt x="1043" y="3202"/>
                  </a:lnTo>
                  <a:lnTo>
                    <a:pt x="952" y="3163"/>
                  </a:lnTo>
                  <a:lnTo>
                    <a:pt x="865" y="3119"/>
                  </a:lnTo>
                  <a:lnTo>
                    <a:pt x="781" y="3071"/>
                  </a:lnTo>
                  <a:lnTo>
                    <a:pt x="700" y="3017"/>
                  </a:lnTo>
                  <a:lnTo>
                    <a:pt x="622" y="2958"/>
                  </a:lnTo>
                  <a:lnTo>
                    <a:pt x="549" y="2895"/>
                  </a:lnTo>
                  <a:lnTo>
                    <a:pt x="479" y="2828"/>
                  </a:lnTo>
                  <a:lnTo>
                    <a:pt x="412" y="2757"/>
                  </a:lnTo>
                  <a:lnTo>
                    <a:pt x="350" y="2682"/>
                  </a:lnTo>
                  <a:lnTo>
                    <a:pt x="293" y="2603"/>
                  </a:lnTo>
                  <a:lnTo>
                    <a:pt x="240" y="2520"/>
                  </a:lnTo>
                  <a:lnTo>
                    <a:pt x="192" y="2435"/>
                  </a:lnTo>
                  <a:lnTo>
                    <a:pt x="148" y="2346"/>
                  </a:lnTo>
                  <a:lnTo>
                    <a:pt x="110" y="2255"/>
                  </a:lnTo>
                  <a:lnTo>
                    <a:pt x="78" y="2161"/>
                  </a:lnTo>
                  <a:lnTo>
                    <a:pt x="50" y="2064"/>
                  </a:lnTo>
                  <a:lnTo>
                    <a:pt x="29" y="1966"/>
                  </a:lnTo>
                  <a:lnTo>
                    <a:pt x="13" y="1864"/>
                  </a:lnTo>
                  <a:lnTo>
                    <a:pt x="3" y="1762"/>
                  </a:lnTo>
                  <a:lnTo>
                    <a:pt x="0" y="1657"/>
                  </a:lnTo>
                  <a:lnTo>
                    <a:pt x="3" y="1552"/>
                  </a:lnTo>
                  <a:lnTo>
                    <a:pt x="13" y="1450"/>
                  </a:lnTo>
                  <a:lnTo>
                    <a:pt x="29" y="1348"/>
                  </a:lnTo>
                  <a:lnTo>
                    <a:pt x="50" y="1250"/>
                  </a:lnTo>
                  <a:lnTo>
                    <a:pt x="78" y="1153"/>
                  </a:lnTo>
                  <a:lnTo>
                    <a:pt x="110" y="1059"/>
                  </a:lnTo>
                  <a:lnTo>
                    <a:pt x="148" y="968"/>
                  </a:lnTo>
                  <a:lnTo>
                    <a:pt x="192" y="879"/>
                  </a:lnTo>
                  <a:lnTo>
                    <a:pt x="240" y="794"/>
                  </a:lnTo>
                  <a:lnTo>
                    <a:pt x="293" y="711"/>
                  </a:lnTo>
                  <a:lnTo>
                    <a:pt x="350" y="632"/>
                  </a:lnTo>
                  <a:lnTo>
                    <a:pt x="412" y="557"/>
                  </a:lnTo>
                  <a:lnTo>
                    <a:pt x="479" y="486"/>
                  </a:lnTo>
                  <a:lnTo>
                    <a:pt x="549" y="418"/>
                  </a:lnTo>
                  <a:lnTo>
                    <a:pt x="622" y="356"/>
                  </a:lnTo>
                  <a:lnTo>
                    <a:pt x="700" y="297"/>
                  </a:lnTo>
                  <a:lnTo>
                    <a:pt x="781" y="243"/>
                  </a:lnTo>
                  <a:lnTo>
                    <a:pt x="865" y="195"/>
                  </a:lnTo>
                  <a:lnTo>
                    <a:pt x="952" y="151"/>
                  </a:lnTo>
                  <a:lnTo>
                    <a:pt x="1043" y="112"/>
                  </a:lnTo>
                  <a:lnTo>
                    <a:pt x="1135" y="79"/>
                  </a:lnTo>
                  <a:lnTo>
                    <a:pt x="1231" y="51"/>
                  </a:lnTo>
                  <a:lnTo>
                    <a:pt x="1328" y="29"/>
                  </a:lnTo>
                  <a:lnTo>
                    <a:pt x="1427" y="13"/>
                  </a:lnTo>
                  <a:lnTo>
                    <a:pt x="1529" y="4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797" name="TextBox 48"/>
          <p:cNvSpPr/>
          <p:nvPr/>
        </p:nvSpPr>
        <p:spPr>
          <a:xfrm flipH="1">
            <a:off x="6562080" y="4462560"/>
            <a:ext cx="136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98" name="TextBox 49"/>
          <p:cNvSpPr/>
          <p:nvPr/>
        </p:nvSpPr>
        <p:spPr>
          <a:xfrm flipH="1">
            <a:off x="6160320" y="5164200"/>
            <a:ext cx="21747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99" name="TextBox 50"/>
          <p:cNvSpPr/>
          <p:nvPr/>
        </p:nvSpPr>
        <p:spPr>
          <a:xfrm flipH="1">
            <a:off x="6539040" y="4681440"/>
            <a:ext cx="14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9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800" name="Group 51"/>
          <p:cNvGrpSpPr/>
          <p:nvPr/>
        </p:nvGrpSpPr>
        <p:grpSpPr>
          <a:xfrm>
            <a:off x="7007400" y="4950000"/>
            <a:ext cx="482400" cy="129960"/>
            <a:chOff x="7007400" y="4950000"/>
            <a:chExt cx="482400" cy="129960"/>
          </a:xfrm>
        </p:grpSpPr>
        <p:pic>
          <p:nvPicPr>
            <p:cNvPr id="801" name="Group 673" descr=""/>
            <p:cNvPicPr/>
            <p:nvPr/>
          </p:nvPicPr>
          <p:blipFill>
            <a:blip r:embed="rId3"/>
            <a:stretch/>
          </p:blipFill>
          <p:spPr>
            <a:xfrm>
              <a:off x="7356600" y="4950720"/>
              <a:ext cx="13320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Freeform 1536"/>
            <p:cNvSpPr/>
            <p:nvPr/>
          </p:nvSpPr>
          <p:spPr>
            <a:xfrm>
              <a:off x="7007400" y="4950000"/>
              <a:ext cx="128520" cy="129960"/>
            </a:xfrm>
            <a:custGeom>
              <a:avLst/>
              <a:gdLst/>
              <a:ahLst/>
              <a:rect l="l" t="t" r="r" b="b"/>
              <a:pathLst>
                <a:path w="3474" h="3518">
                  <a:moveTo>
                    <a:pt x="2112" y="957"/>
                  </a:moveTo>
                  <a:lnTo>
                    <a:pt x="2061" y="961"/>
                  </a:lnTo>
                  <a:lnTo>
                    <a:pt x="2014" y="970"/>
                  </a:lnTo>
                  <a:lnTo>
                    <a:pt x="1968" y="985"/>
                  </a:lnTo>
                  <a:lnTo>
                    <a:pt x="1924" y="1005"/>
                  </a:lnTo>
                  <a:lnTo>
                    <a:pt x="1883" y="1030"/>
                  </a:lnTo>
                  <a:lnTo>
                    <a:pt x="1846" y="1060"/>
                  </a:lnTo>
                  <a:lnTo>
                    <a:pt x="1814" y="1094"/>
                  </a:lnTo>
                  <a:lnTo>
                    <a:pt x="1784" y="1131"/>
                  </a:lnTo>
                  <a:lnTo>
                    <a:pt x="1759" y="1172"/>
                  </a:lnTo>
                  <a:lnTo>
                    <a:pt x="1739" y="1216"/>
                  </a:lnTo>
                  <a:lnTo>
                    <a:pt x="1724" y="1263"/>
                  </a:lnTo>
                  <a:lnTo>
                    <a:pt x="1716" y="1311"/>
                  </a:lnTo>
                  <a:lnTo>
                    <a:pt x="1713" y="1362"/>
                  </a:lnTo>
                  <a:lnTo>
                    <a:pt x="1715" y="1409"/>
                  </a:lnTo>
                  <a:lnTo>
                    <a:pt x="1722" y="1454"/>
                  </a:lnTo>
                  <a:lnTo>
                    <a:pt x="1640" y="1448"/>
                  </a:lnTo>
                  <a:lnTo>
                    <a:pt x="1559" y="1435"/>
                  </a:lnTo>
                  <a:lnTo>
                    <a:pt x="1481" y="1416"/>
                  </a:lnTo>
                  <a:lnTo>
                    <a:pt x="1405" y="1392"/>
                  </a:lnTo>
                  <a:lnTo>
                    <a:pt x="1331" y="1363"/>
                  </a:lnTo>
                  <a:lnTo>
                    <a:pt x="1259" y="1329"/>
                  </a:lnTo>
                  <a:lnTo>
                    <a:pt x="1191" y="1289"/>
                  </a:lnTo>
                  <a:lnTo>
                    <a:pt x="1126" y="1247"/>
                  </a:lnTo>
                  <a:lnTo>
                    <a:pt x="1064" y="1198"/>
                  </a:lnTo>
                  <a:lnTo>
                    <a:pt x="1005" y="1146"/>
                  </a:lnTo>
                  <a:lnTo>
                    <a:pt x="950" y="1091"/>
                  </a:lnTo>
                  <a:lnTo>
                    <a:pt x="899" y="1032"/>
                  </a:lnTo>
                  <a:lnTo>
                    <a:pt x="880" y="1068"/>
                  </a:lnTo>
                  <a:lnTo>
                    <a:pt x="865" y="1108"/>
                  </a:lnTo>
                  <a:lnTo>
                    <a:pt x="854" y="1149"/>
                  </a:lnTo>
                  <a:lnTo>
                    <a:pt x="846" y="1192"/>
                  </a:lnTo>
                  <a:lnTo>
                    <a:pt x="844" y="1236"/>
                  </a:lnTo>
                  <a:lnTo>
                    <a:pt x="848" y="1287"/>
                  </a:lnTo>
                  <a:lnTo>
                    <a:pt x="857" y="1337"/>
                  </a:lnTo>
                  <a:lnTo>
                    <a:pt x="873" y="1384"/>
                  </a:lnTo>
                  <a:lnTo>
                    <a:pt x="893" y="1429"/>
                  </a:lnTo>
                  <a:lnTo>
                    <a:pt x="919" y="1471"/>
                  </a:lnTo>
                  <a:lnTo>
                    <a:pt x="950" y="1508"/>
                  </a:lnTo>
                  <a:lnTo>
                    <a:pt x="984" y="1542"/>
                  </a:lnTo>
                  <a:lnTo>
                    <a:pt x="1022" y="1572"/>
                  </a:lnTo>
                  <a:lnTo>
                    <a:pt x="974" y="1568"/>
                  </a:lnTo>
                  <a:lnTo>
                    <a:pt x="928" y="1557"/>
                  </a:lnTo>
                  <a:lnTo>
                    <a:pt x="883" y="1541"/>
                  </a:lnTo>
                  <a:lnTo>
                    <a:pt x="841" y="1522"/>
                  </a:lnTo>
                  <a:lnTo>
                    <a:pt x="841" y="1524"/>
                  </a:lnTo>
                  <a:lnTo>
                    <a:pt x="841" y="1527"/>
                  </a:lnTo>
                  <a:lnTo>
                    <a:pt x="844" y="1579"/>
                  </a:lnTo>
                  <a:lnTo>
                    <a:pt x="854" y="1629"/>
                  </a:lnTo>
                  <a:lnTo>
                    <a:pt x="870" y="1678"/>
                  </a:lnTo>
                  <a:lnTo>
                    <a:pt x="891" y="1723"/>
                  </a:lnTo>
                  <a:lnTo>
                    <a:pt x="918" y="1765"/>
                  </a:lnTo>
                  <a:lnTo>
                    <a:pt x="949" y="1803"/>
                  </a:lnTo>
                  <a:lnTo>
                    <a:pt x="984" y="1837"/>
                  </a:lnTo>
                  <a:lnTo>
                    <a:pt x="1025" y="1867"/>
                  </a:lnTo>
                  <a:lnTo>
                    <a:pt x="1067" y="1891"/>
                  </a:lnTo>
                  <a:lnTo>
                    <a:pt x="1113" y="1910"/>
                  </a:lnTo>
                  <a:lnTo>
                    <a:pt x="1162" y="1923"/>
                  </a:lnTo>
                  <a:lnTo>
                    <a:pt x="1128" y="1931"/>
                  </a:lnTo>
                  <a:lnTo>
                    <a:pt x="1092" y="1936"/>
                  </a:lnTo>
                  <a:lnTo>
                    <a:pt x="1056" y="1937"/>
                  </a:lnTo>
                  <a:lnTo>
                    <a:pt x="1018" y="1935"/>
                  </a:lnTo>
                  <a:lnTo>
                    <a:pt x="981" y="1930"/>
                  </a:lnTo>
                  <a:lnTo>
                    <a:pt x="1000" y="1977"/>
                  </a:lnTo>
                  <a:lnTo>
                    <a:pt x="1024" y="2021"/>
                  </a:lnTo>
                  <a:lnTo>
                    <a:pt x="1052" y="2062"/>
                  </a:lnTo>
                  <a:lnTo>
                    <a:pt x="1084" y="2098"/>
                  </a:lnTo>
                  <a:lnTo>
                    <a:pt x="1121" y="2130"/>
                  </a:lnTo>
                  <a:lnTo>
                    <a:pt x="1163" y="2157"/>
                  </a:lnTo>
                  <a:lnTo>
                    <a:pt x="1206" y="2179"/>
                  </a:lnTo>
                  <a:lnTo>
                    <a:pt x="1254" y="2196"/>
                  </a:lnTo>
                  <a:lnTo>
                    <a:pt x="1303" y="2207"/>
                  </a:lnTo>
                  <a:lnTo>
                    <a:pt x="1355" y="2211"/>
                  </a:lnTo>
                  <a:lnTo>
                    <a:pt x="1302" y="2250"/>
                  </a:lnTo>
                  <a:lnTo>
                    <a:pt x="1246" y="2284"/>
                  </a:lnTo>
                  <a:lnTo>
                    <a:pt x="1187" y="2314"/>
                  </a:lnTo>
                  <a:lnTo>
                    <a:pt x="1126" y="2339"/>
                  </a:lnTo>
                  <a:lnTo>
                    <a:pt x="1062" y="2359"/>
                  </a:lnTo>
                  <a:lnTo>
                    <a:pt x="995" y="2373"/>
                  </a:lnTo>
                  <a:lnTo>
                    <a:pt x="928" y="2382"/>
                  </a:lnTo>
                  <a:lnTo>
                    <a:pt x="858" y="2385"/>
                  </a:lnTo>
                  <a:lnTo>
                    <a:pt x="811" y="2383"/>
                  </a:lnTo>
                  <a:lnTo>
                    <a:pt x="763" y="2378"/>
                  </a:lnTo>
                  <a:lnTo>
                    <a:pt x="830" y="2419"/>
                  </a:lnTo>
                  <a:lnTo>
                    <a:pt x="902" y="2455"/>
                  </a:lnTo>
                  <a:lnTo>
                    <a:pt x="975" y="2487"/>
                  </a:lnTo>
                  <a:lnTo>
                    <a:pt x="1051" y="2513"/>
                  </a:lnTo>
                  <a:lnTo>
                    <a:pt x="1129" y="2534"/>
                  </a:lnTo>
                  <a:lnTo>
                    <a:pt x="1209" y="2548"/>
                  </a:lnTo>
                  <a:lnTo>
                    <a:pt x="1292" y="2558"/>
                  </a:lnTo>
                  <a:lnTo>
                    <a:pt x="1376" y="2561"/>
                  </a:lnTo>
                  <a:lnTo>
                    <a:pt x="1459" y="2558"/>
                  </a:lnTo>
                  <a:lnTo>
                    <a:pt x="1540" y="2550"/>
                  </a:lnTo>
                  <a:lnTo>
                    <a:pt x="1617" y="2537"/>
                  </a:lnTo>
                  <a:lnTo>
                    <a:pt x="1691" y="2519"/>
                  </a:lnTo>
                  <a:lnTo>
                    <a:pt x="1762" y="2497"/>
                  </a:lnTo>
                  <a:lnTo>
                    <a:pt x="1831" y="2471"/>
                  </a:lnTo>
                  <a:lnTo>
                    <a:pt x="1896" y="2440"/>
                  </a:lnTo>
                  <a:lnTo>
                    <a:pt x="1958" y="2406"/>
                  </a:lnTo>
                  <a:lnTo>
                    <a:pt x="2017" y="2367"/>
                  </a:lnTo>
                  <a:lnTo>
                    <a:pt x="2072" y="2327"/>
                  </a:lnTo>
                  <a:lnTo>
                    <a:pt x="2125" y="2283"/>
                  </a:lnTo>
                  <a:lnTo>
                    <a:pt x="2174" y="2235"/>
                  </a:lnTo>
                  <a:lnTo>
                    <a:pt x="2220" y="2186"/>
                  </a:lnTo>
                  <a:lnTo>
                    <a:pt x="2263" y="2133"/>
                  </a:lnTo>
                  <a:lnTo>
                    <a:pt x="2303" y="2079"/>
                  </a:lnTo>
                  <a:lnTo>
                    <a:pt x="2338" y="2023"/>
                  </a:lnTo>
                  <a:lnTo>
                    <a:pt x="2372" y="1965"/>
                  </a:lnTo>
                  <a:lnTo>
                    <a:pt x="2401" y="1905"/>
                  </a:lnTo>
                  <a:lnTo>
                    <a:pt x="2428" y="1845"/>
                  </a:lnTo>
                  <a:lnTo>
                    <a:pt x="2450" y="1784"/>
                  </a:lnTo>
                  <a:lnTo>
                    <a:pt x="2469" y="1722"/>
                  </a:lnTo>
                  <a:lnTo>
                    <a:pt x="2485" y="1659"/>
                  </a:lnTo>
                  <a:lnTo>
                    <a:pt x="2497" y="1596"/>
                  </a:lnTo>
                  <a:lnTo>
                    <a:pt x="2506" y="1534"/>
                  </a:lnTo>
                  <a:lnTo>
                    <a:pt x="2511" y="1471"/>
                  </a:lnTo>
                  <a:lnTo>
                    <a:pt x="2513" y="1409"/>
                  </a:lnTo>
                  <a:lnTo>
                    <a:pt x="2512" y="1357"/>
                  </a:lnTo>
                  <a:lnTo>
                    <a:pt x="2558" y="1321"/>
                  </a:lnTo>
                  <a:lnTo>
                    <a:pt x="2600" y="1282"/>
                  </a:lnTo>
                  <a:lnTo>
                    <a:pt x="2641" y="1240"/>
                  </a:lnTo>
                  <a:lnTo>
                    <a:pt x="2677" y="1195"/>
                  </a:lnTo>
                  <a:lnTo>
                    <a:pt x="2711" y="1148"/>
                  </a:lnTo>
                  <a:lnTo>
                    <a:pt x="2657" y="1170"/>
                  </a:lnTo>
                  <a:lnTo>
                    <a:pt x="2600" y="1188"/>
                  </a:lnTo>
                  <a:lnTo>
                    <a:pt x="2542" y="1201"/>
                  </a:lnTo>
                  <a:lnTo>
                    <a:pt x="2482" y="1211"/>
                  </a:lnTo>
                  <a:lnTo>
                    <a:pt x="2522" y="1184"/>
                  </a:lnTo>
                  <a:lnTo>
                    <a:pt x="2558" y="1152"/>
                  </a:lnTo>
                  <a:lnTo>
                    <a:pt x="2589" y="1116"/>
                  </a:lnTo>
                  <a:lnTo>
                    <a:pt x="2618" y="1076"/>
                  </a:lnTo>
                  <a:lnTo>
                    <a:pt x="2641" y="1033"/>
                  </a:lnTo>
                  <a:lnTo>
                    <a:pt x="2658" y="987"/>
                  </a:lnTo>
                  <a:lnTo>
                    <a:pt x="2598" y="1020"/>
                  </a:lnTo>
                  <a:lnTo>
                    <a:pt x="2536" y="1046"/>
                  </a:lnTo>
                  <a:lnTo>
                    <a:pt x="2471" y="1068"/>
                  </a:lnTo>
                  <a:lnTo>
                    <a:pt x="2404" y="1085"/>
                  </a:lnTo>
                  <a:lnTo>
                    <a:pt x="2371" y="1053"/>
                  </a:lnTo>
                  <a:lnTo>
                    <a:pt x="2334" y="1025"/>
                  </a:lnTo>
                  <a:lnTo>
                    <a:pt x="2295" y="1002"/>
                  </a:lnTo>
                  <a:lnTo>
                    <a:pt x="2253" y="984"/>
                  </a:lnTo>
                  <a:lnTo>
                    <a:pt x="2207" y="969"/>
                  </a:lnTo>
                  <a:lnTo>
                    <a:pt x="2160" y="961"/>
                  </a:lnTo>
                  <a:lnTo>
                    <a:pt x="2112" y="957"/>
                  </a:lnTo>
                  <a:close/>
                  <a:moveTo>
                    <a:pt x="1738" y="0"/>
                  </a:moveTo>
                  <a:lnTo>
                    <a:pt x="1847" y="5"/>
                  </a:lnTo>
                  <a:lnTo>
                    <a:pt x="1955" y="15"/>
                  </a:lnTo>
                  <a:lnTo>
                    <a:pt x="2060" y="31"/>
                  </a:lnTo>
                  <a:lnTo>
                    <a:pt x="2165" y="54"/>
                  </a:lnTo>
                  <a:lnTo>
                    <a:pt x="2266" y="84"/>
                  </a:lnTo>
                  <a:lnTo>
                    <a:pt x="2365" y="119"/>
                  </a:lnTo>
                  <a:lnTo>
                    <a:pt x="2460" y="161"/>
                  </a:lnTo>
                  <a:lnTo>
                    <a:pt x="2554" y="207"/>
                  </a:lnTo>
                  <a:lnTo>
                    <a:pt x="2643" y="259"/>
                  </a:lnTo>
                  <a:lnTo>
                    <a:pt x="2729" y="316"/>
                  </a:lnTo>
                  <a:lnTo>
                    <a:pt x="2811" y="379"/>
                  </a:lnTo>
                  <a:lnTo>
                    <a:pt x="2890" y="445"/>
                  </a:lnTo>
                  <a:lnTo>
                    <a:pt x="2965" y="516"/>
                  </a:lnTo>
                  <a:lnTo>
                    <a:pt x="3035" y="592"/>
                  </a:lnTo>
                  <a:lnTo>
                    <a:pt x="3101" y="671"/>
                  </a:lnTo>
                  <a:lnTo>
                    <a:pt x="3163" y="755"/>
                  </a:lnTo>
                  <a:lnTo>
                    <a:pt x="3220" y="843"/>
                  </a:lnTo>
                  <a:lnTo>
                    <a:pt x="3271" y="933"/>
                  </a:lnTo>
                  <a:lnTo>
                    <a:pt x="3316" y="1028"/>
                  </a:lnTo>
                  <a:lnTo>
                    <a:pt x="3358" y="1124"/>
                  </a:lnTo>
                  <a:lnTo>
                    <a:pt x="3393" y="1225"/>
                  </a:lnTo>
                  <a:lnTo>
                    <a:pt x="3422" y="1327"/>
                  </a:lnTo>
                  <a:lnTo>
                    <a:pt x="3445" y="1431"/>
                  </a:lnTo>
                  <a:lnTo>
                    <a:pt x="3461" y="1539"/>
                  </a:lnTo>
                  <a:lnTo>
                    <a:pt x="3471" y="1648"/>
                  </a:lnTo>
                  <a:lnTo>
                    <a:pt x="3474" y="1759"/>
                  </a:lnTo>
                  <a:lnTo>
                    <a:pt x="3471" y="1870"/>
                  </a:lnTo>
                  <a:lnTo>
                    <a:pt x="3461" y="1979"/>
                  </a:lnTo>
                  <a:lnTo>
                    <a:pt x="3445" y="2087"/>
                  </a:lnTo>
                  <a:lnTo>
                    <a:pt x="3422" y="2191"/>
                  </a:lnTo>
                  <a:lnTo>
                    <a:pt x="3393" y="2294"/>
                  </a:lnTo>
                  <a:lnTo>
                    <a:pt x="3358" y="2394"/>
                  </a:lnTo>
                  <a:lnTo>
                    <a:pt x="3316" y="2491"/>
                  </a:lnTo>
                  <a:lnTo>
                    <a:pt x="3271" y="2585"/>
                  </a:lnTo>
                  <a:lnTo>
                    <a:pt x="3220" y="2675"/>
                  </a:lnTo>
                  <a:lnTo>
                    <a:pt x="3163" y="2763"/>
                  </a:lnTo>
                  <a:lnTo>
                    <a:pt x="3101" y="2847"/>
                  </a:lnTo>
                  <a:lnTo>
                    <a:pt x="3035" y="2926"/>
                  </a:lnTo>
                  <a:lnTo>
                    <a:pt x="2965" y="3002"/>
                  </a:lnTo>
                  <a:lnTo>
                    <a:pt x="2890" y="3074"/>
                  </a:lnTo>
                  <a:lnTo>
                    <a:pt x="2811" y="3140"/>
                  </a:lnTo>
                  <a:lnTo>
                    <a:pt x="2729" y="3202"/>
                  </a:lnTo>
                  <a:lnTo>
                    <a:pt x="2643" y="3260"/>
                  </a:lnTo>
                  <a:lnTo>
                    <a:pt x="2554" y="3311"/>
                  </a:lnTo>
                  <a:lnTo>
                    <a:pt x="2460" y="3357"/>
                  </a:lnTo>
                  <a:lnTo>
                    <a:pt x="2365" y="3399"/>
                  </a:lnTo>
                  <a:lnTo>
                    <a:pt x="2266" y="3434"/>
                  </a:lnTo>
                  <a:lnTo>
                    <a:pt x="2165" y="3464"/>
                  </a:lnTo>
                  <a:lnTo>
                    <a:pt x="2060" y="3487"/>
                  </a:lnTo>
                  <a:lnTo>
                    <a:pt x="1955" y="3504"/>
                  </a:lnTo>
                  <a:lnTo>
                    <a:pt x="1847" y="3514"/>
                  </a:lnTo>
                  <a:lnTo>
                    <a:pt x="1738" y="3518"/>
                  </a:lnTo>
                  <a:lnTo>
                    <a:pt x="1628" y="3514"/>
                  </a:lnTo>
                  <a:lnTo>
                    <a:pt x="1519" y="3504"/>
                  </a:lnTo>
                  <a:lnTo>
                    <a:pt x="1414" y="3487"/>
                  </a:lnTo>
                  <a:lnTo>
                    <a:pt x="1310" y="3464"/>
                  </a:lnTo>
                  <a:lnTo>
                    <a:pt x="1208" y="3434"/>
                  </a:lnTo>
                  <a:lnTo>
                    <a:pt x="1110" y="3399"/>
                  </a:lnTo>
                  <a:lnTo>
                    <a:pt x="1014" y="3357"/>
                  </a:lnTo>
                  <a:lnTo>
                    <a:pt x="921" y="3311"/>
                  </a:lnTo>
                  <a:lnTo>
                    <a:pt x="831" y="3260"/>
                  </a:lnTo>
                  <a:lnTo>
                    <a:pt x="745" y="3202"/>
                  </a:lnTo>
                  <a:lnTo>
                    <a:pt x="663" y="3140"/>
                  </a:lnTo>
                  <a:lnTo>
                    <a:pt x="585" y="3074"/>
                  </a:lnTo>
                  <a:lnTo>
                    <a:pt x="510" y="3002"/>
                  </a:lnTo>
                  <a:lnTo>
                    <a:pt x="439" y="2926"/>
                  </a:lnTo>
                  <a:lnTo>
                    <a:pt x="373" y="2847"/>
                  </a:lnTo>
                  <a:lnTo>
                    <a:pt x="312" y="2763"/>
                  </a:lnTo>
                  <a:lnTo>
                    <a:pt x="255" y="2675"/>
                  </a:lnTo>
                  <a:lnTo>
                    <a:pt x="204" y="2585"/>
                  </a:lnTo>
                  <a:lnTo>
                    <a:pt x="157" y="2491"/>
                  </a:lnTo>
                  <a:lnTo>
                    <a:pt x="117" y="2394"/>
                  </a:lnTo>
                  <a:lnTo>
                    <a:pt x="83" y="2294"/>
                  </a:lnTo>
                  <a:lnTo>
                    <a:pt x="53" y="2191"/>
                  </a:lnTo>
                  <a:lnTo>
                    <a:pt x="30" y="2087"/>
                  </a:lnTo>
                  <a:lnTo>
                    <a:pt x="14" y="1979"/>
                  </a:lnTo>
                  <a:lnTo>
                    <a:pt x="3" y="1870"/>
                  </a:lnTo>
                  <a:lnTo>
                    <a:pt x="0" y="1759"/>
                  </a:lnTo>
                  <a:lnTo>
                    <a:pt x="3" y="1648"/>
                  </a:lnTo>
                  <a:lnTo>
                    <a:pt x="14" y="1539"/>
                  </a:lnTo>
                  <a:lnTo>
                    <a:pt x="30" y="1431"/>
                  </a:lnTo>
                  <a:lnTo>
                    <a:pt x="53" y="1327"/>
                  </a:lnTo>
                  <a:lnTo>
                    <a:pt x="83" y="1225"/>
                  </a:lnTo>
                  <a:lnTo>
                    <a:pt x="117" y="1124"/>
                  </a:lnTo>
                  <a:lnTo>
                    <a:pt x="157" y="1028"/>
                  </a:lnTo>
                  <a:lnTo>
                    <a:pt x="204" y="933"/>
                  </a:lnTo>
                  <a:lnTo>
                    <a:pt x="255" y="843"/>
                  </a:lnTo>
                  <a:lnTo>
                    <a:pt x="312" y="755"/>
                  </a:lnTo>
                  <a:lnTo>
                    <a:pt x="373" y="671"/>
                  </a:lnTo>
                  <a:lnTo>
                    <a:pt x="439" y="592"/>
                  </a:lnTo>
                  <a:lnTo>
                    <a:pt x="510" y="516"/>
                  </a:lnTo>
                  <a:lnTo>
                    <a:pt x="585" y="445"/>
                  </a:lnTo>
                  <a:lnTo>
                    <a:pt x="663" y="379"/>
                  </a:lnTo>
                  <a:lnTo>
                    <a:pt x="745" y="316"/>
                  </a:lnTo>
                  <a:lnTo>
                    <a:pt x="831" y="259"/>
                  </a:lnTo>
                  <a:lnTo>
                    <a:pt x="921" y="207"/>
                  </a:lnTo>
                  <a:lnTo>
                    <a:pt x="1014" y="161"/>
                  </a:lnTo>
                  <a:lnTo>
                    <a:pt x="1110" y="119"/>
                  </a:lnTo>
                  <a:lnTo>
                    <a:pt x="1208" y="84"/>
                  </a:lnTo>
                  <a:lnTo>
                    <a:pt x="1310" y="54"/>
                  </a:lnTo>
                  <a:lnTo>
                    <a:pt x="1414" y="31"/>
                  </a:lnTo>
                  <a:lnTo>
                    <a:pt x="1519" y="15"/>
                  </a:lnTo>
                  <a:lnTo>
                    <a:pt x="1628" y="5"/>
                  </a:lnTo>
                  <a:lnTo>
                    <a:pt x="1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>
              <a:off x="7183080" y="4950000"/>
              <a:ext cx="127800" cy="129600"/>
            </a:xfrm>
            <a:custGeom>
              <a:avLst/>
              <a:gdLst/>
              <a:ahLst/>
              <a:rect l="l" t="t" r="r" b="b"/>
              <a:pathLst>
                <a:path w="3263" h="3314">
                  <a:moveTo>
                    <a:pt x="1776" y="753"/>
                  </a:moveTo>
                  <a:lnTo>
                    <a:pt x="1729" y="754"/>
                  </a:lnTo>
                  <a:lnTo>
                    <a:pt x="1686" y="759"/>
                  </a:lnTo>
                  <a:lnTo>
                    <a:pt x="1646" y="769"/>
                  </a:lnTo>
                  <a:lnTo>
                    <a:pt x="1610" y="780"/>
                  </a:lnTo>
                  <a:lnTo>
                    <a:pt x="1577" y="794"/>
                  </a:lnTo>
                  <a:lnTo>
                    <a:pt x="1547" y="810"/>
                  </a:lnTo>
                  <a:lnTo>
                    <a:pt x="1521" y="829"/>
                  </a:lnTo>
                  <a:lnTo>
                    <a:pt x="1496" y="850"/>
                  </a:lnTo>
                  <a:lnTo>
                    <a:pt x="1475" y="871"/>
                  </a:lnTo>
                  <a:lnTo>
                    <a:pt x="1456" y="895"/>
                  </a:lnTo>
                  <a:lnTo>
                    <a:pt x="1439" y="920"/>
                  </a:lnTo>
                  <a:lnTo>
                    <a:pt x="1426" y="946"/>
                  </a:lnTo>
                  <a:lnTo>
                    <a:pt x="1413" y="973"/>
                  </a:lnTo>
                  <a:lnTo>
                    <a:pt x="1403" y="1000"/>
                  </a:lnTo>
                  <a:lnTo>
                    <a:pt x="1395" y="1027"/>
                  </a:lnTo>
                  <a:lnTo>
                    <a:pt x="1389" y="1054"/>
                  </a:lnTo>
                  <a:lnTo>
                    <a:pt x="1384" y="1081"/>
                  </a:lnTo>
                  <a:lnTo>
                    <a:pt x="1381" y="1107"/>
                  </a:lnTo>
                  <a:lnTo>
                    <a:pt x="1379" y="1132"/>
                  </a:lnTo>
                  <a:lnTo>
                    <a:pt x="1379" y="1156"/>
                  </a:lnTo>
                  <a:lnTo>
                    <a:pt x="1379" y="1376"/>
                  </a:lnTo>
                  <a:lnTo>
                    <a:pt x="1192" y="1376"/>
                  </a:lnTo>
                  <a:lnTo>
                    <a:pt x="1192" y="1715"/>
                  </a:lnTo>
                  <a:lnTo>
                    <a:pt x="1379" y="1715"/>
                  </a:lnTo>
                  <a:lnTo>
                    <a:pt x="1379" y="2676"/>
                  </a:lnTo>
                  <a:lnTo>
                    <a:pt x="1772" y="2676"/>
                  </a:lnTo>
                  <a:lnTo>
                    <a:pt x="1772" y="1715"/>
                  </a:lnTo>
                  <a:lnTo>
                    <a:pt x="2037" y="1715"/>
                  </a:lnTo>
                  <a:lnTo>
                    <a:pt x="2072" y="1376"/>
                  </a:lnTo>
                  <a:lnTo>
                    <a:pt x="1772" y="1376"/>
                  </a:lnTo>
                  <a:lnTo>
                    <a:pt x="1772" y="1176"/>
                  </a:lnTo>
                  <a:lnTo>
                    <a:pt x="1774" y="1153"/>
                  </a:lnTo>
                  <a:lnTo>
                    <a:pt x="1779" y="1135"/>
                  </a:lnTo>
                  <a:lnTo>
                    <a:pt x="1786" y="1119"/>
                  </a:lnTo>
                  <a:lnTo>
                    <a:pt x="1795" y="1107"/>
                  </a:lnTo>
                  <a:lnTo>
                    <a:pt x="1806" y="1097"/>
                  </a:lnTo>
                  <a:lnTo>
                    <a:pt x="1819" y="1091"/>
                  </a:lnTo>
                  <a:lnTo>
                    <a:pt x="1831" y="1087"/>
                  </a:lnTo>
                  <a:lnTo>
                    <a:pt x="1843" y="1085"/>
                  </a:lnTo>
                  <a:lnTo>
                    <a:pt x="1855" y="1084"/>
                  </a:lnTo>
                  <a:lnTo>
                    <a:pt x="2066" y="1084"/>
                  </a:lnTo>
                  <a:lnTo>
                    <a:pt x="2066" y="754"/>
                  </a:lnTo>
                  <a:lnTo>
                    <a:pt x="1776" y="753"/>
                  </a:lnTo>
                  <a:close/>
                  <a:moveTo>
                    <a:pt x="1632" y="0"/>
                  </a:moveTo>
                  <a:lnTo>
                    <a:pt x="1735" y="4"/>
                  </a:lnTo>
                  <a:lnTo>
                    <a:pt x="1836" y="13"/>
                  </a:lnTo>
                  <a:lnTo>
                    <a:pt x="1935" y="29"/>
                  </a:lnTo>
                  <a:lnTo>
                    <a:pt x="2033" y="51"/>
                  </a:lnTo>
                  <a:lnTo>
                    <a:pt x="2128" y="79"/>
                  </a:lnTo>
                  <a:lnTo>
                    <a:pt x="2221" y="112"/>
                  </a:lnTo>
                  <a:lnTo>
                    <a:pt x="2310" y="151"/>
                  </a:lnTo>
                  <a:lnTo>
                    <a:pt x="2398" y="195"/>
                  </a:lnTo>
                  <a:lnTo>
                    <a:pt x="2482" y="243"/>
                  </a:lnTo>
                  <a:lnTo>
                    <a:pt x="2562" y="297"/>
                  </a:lnTo>
                  <a:lnTo>
                    <a:pt x="2640" y="356"/>
                  </a:lnTo>
                  <a:lnTo>
                    <a:pt x="2715" y="418"/>
                  </a:lnTo>
                  <a:lnTo>
                    <a:pt x="2785" y="486"/>
                  </a:lnTo>
                  <a:lnTo>
                    <a:pt x="2850" y="557"/>
                  </a:lnTo>
                  <a:lnTo>
                    <a:pt x="2912" y="632"/>
                  </a:lnTo>
                  <a:lnTo>
                    <a:pt x="2971" y="711"/>
                  </a:lnTo>
                  <a:lnTo>
                    <a:pt x="3024" y="794"/>
                  </a:lnTo>
                  <a:lnTo>
                    <a:pt x="3072" y="879"/>
                  </a:lnTo>
                  <a:lnTo>
                    <a:pt x="3115" y="968"/>
                  </a:lnTo>
                  <a:lnTo>
                    <a:pt x="3153" y="1059"/>
                  </a:lnTo>
                  <a:lnTo>
                    <a:pt x="3186" y="1153"/>
                  </a:lnTo>
                  <a:lnTo>
                    <a:pt x="3214" y="1250"/>
                  </a:lnTo>
                  <a:lnTo>
                    <a:pt x="3235" y="1348"/>
                  </a:lnTo>
                  <a:lnTo>
                    <a:pt x="3250" y="1450"/>
                  </a:lnTo>
                  <a:lnTo>
                    <a:pt x="3259" y="1552"/>
                  </a:lnTo>
                  <a:lnTo>
                    <a:pt x="3263" y="1657"/>
                  </a:lnTo>
                  <a:lnTo>
                    <a:pt x="3259" y="1762"/>
                  </a:lnTo>
                  <a:lnTo>
                    <a:pt x="3250" y="1864"/>
                  </a:lnTo>
                  <a:lnTo>
                    <a:pt x="3235" y="1966"/>
                  </a:lnTo>
                  <a:lnTo>
                    <a:pt x="3214" y="2064"/>
                  </a:lnTo>
                  <a:lnTo>
                    <a:pt x="3186" y="2161"/>
                  </a:lnTo>
                  <a:lnTo>
                    <a:pt x="3153" y="2255"/>
                  </a:lnTo>
                  <a:lnTo>
                    <a:pt x="3115" y="2346"/>
                  </a:lnTo>
                  <a:lnTo>
                    <a:pt x="3072" y="2435"/>
                  </a:lnTo>
                  <a:lnTo>
                    <a:pt x="3024" y="2520"/>
                  </a:lnTo>
                  <a:lnTo>
                    <a:pt x="2971" y="2603"/>
                  </a:lnTo>
                  <a:lnTo>
                    <a:pt x="2912" y="2682"/>
                  </a:lnTo>
                  <a:lnTo>
                    <a:pt x="2850" y="2757"/>
                  </a:lnTo>
                  <a:lnTo>
                    <a:pt x="2785" y="2828"/>
                  </a:lnTo>
                  <a:lnTo>
                    <a:pt x="2715" y="2895"/>
                  </a:lnTo>
                  <a:lnTo>
                    <a:pt x="2640" y="2958"/>
                  </a:lnTo>
                  <a:lnTo>
                    <a:pt x="2562" y="3017"/>
                  </a:lnTo>
                  <a:lnTo>
                    <a:pt x="2482" y="3071"/>
                  </a:lnTo>
                  <a:lnTo>
                    <a:pt x="2398" y="3119"/>
                  </a:lnTo>
                  <a:lnTo>
                    <a:pt x="2310" y="3163"/>
                  </a:lnTo>
                  <a:lnTo>
                    <a:pt x="2221" y="3202"/>
                  </a:lnTo>
                  <a:lnTo>
                    <a:pt x="2128" y="3235"/>
                  </a:lnTo>
                  <a:lnTo>
                    <a:pt x="2033" y="3263"/>
                  </a:lnTo>
                  <a:lnTo>
                    <a:pt x="1935" y="3285"/>
                  </a:lnTo>
                  <a:lnTo>
                    <a:pt x="1836" y="3301"/>
                  </a:lnTo>
                  <a:lnTo>
                    <a:pt x="1735" y="3310"/>
                  </a:lnTo>
                  <a:lnTo>
                    <a:pt x="1632" y="3314"/>
                  </a:lnTo>
                  <a:lnTo>
                    <a:pt x="1529" y="3310"/>
                  </a:lnTo>
                  <a:lnTo>
                    <a:pt x="1427" y="3301"/>
                  </a:lnTo>
                  <a:lnTo>
                    <a:pt x="1328" y="3285"/>
                  </a:lnTo>
                  <a:lnTo>
                    <a:pt x="1231" y="3263"/>
                  </a:lnTo>
                  <a:lnTo>
                    <a:pt x="1135" y="3235"/>
                  </a:lnTo>
                  <a:lnTo>
                    <a:pt x="1043" y="3202"/>
                  </a:lnTo>
                  <a:lnTo>
                    <a:pt x="952" y="3163"/>
                  </a:lnTo>
                  <a:lnTo>
                    <a:pt x="865" y="3119"/>
                  </a:lnTo>
                  <a:lnTo>
                    <a:pt x="781" y="3071"/>
                  </a:lnTo>
                  <a:lnTo>
                    <a:pt x="700" y="3017"/>
                  </a:lnTo>
                  <a:lnTo>
                    <a:pt x="622" y="2958"/>
                  </a:lnTo>
                  <a:lnTo>
                    <a:pt x="549" y="2895"/>
                  </a:lnTo>
                  <a:lnTo>
                    <a:pt x="479" y="2828"/>
                  </a:lnTo>
                  <a:lnTo>
                    <a:pt x="412" y="2757"/>
                  </a:lnTo>
                  <a:lnTo>
                    <a:pt x="350" y="2682"/>
                  </a:lnTo>
                  <a:lnTo>
                    <a:pt x="293" y="2603"/>
                  </a:lnTo>
                  <a:lnTo>
                    <a:pt x="240" y="2520"/>
                  </a:lnTo>
                  <a:lnTo>
                    <a:pt x="192" y="2435"/>
                  </a:lnTo>
                  <a:lnTo>
                    <a:pt x="148" y="2346"/>
                  </a:lnTo>
                  <a:lnTo>
                    <a:pt x="110" y="2255"/>
                  </a:lnTo>
                  <a:lnTo>
                    <a:pt x="78" y="2161"/>
                  </a:lnTo>
                  <a:lnTo>
                    <a:pt x="50" y="2064"/>
                  </a:lnTo>
                  <a:lnTo>
                    <a:pt x="29" y="1966"/>
                  </a:lnTo>
                  <a:lnTo>
                    <a:pt x="13" y="1864"/>
                  </a:lnTo>
                  <a:lnTo>
                    <a:pt x="3" y="1762"/>
                  </a:lnTo>
                  <a:lnTo>
                    <a:pt x="0" y="1657"/>
                  </a:lnTo>
                  <a:lnTo>
                    <a:pt x="3" y="1552"/>
                  </a:lnTo>
                  <a:lnTo>
                    <a:pt x="13" y="1450"/>
                  </a:lnTo>
                  <a:lnTo>
                    <a:pt x="29" y="1348"/>
                  </a:lnTo>
                  <a:lnTo>
                    <a:pt x="50" y="1250"/>
                  </a:lnTo>
                  <a:lnTo>
                    <a:pt x="78" y="1153"/>
                  </a:lnTo>
                  <a:lnTo>
                    <a:pt x="110" y="1059"/>
                  </a:lnTo>
                  <a:lnTo>
                    <a:pt x="148" y="968"/>
                  </a:lnTo>
                  <a:lnTo>
                    <a:pt x="192" y="879"/>
                  </a:lnTo>
                  <a:lnTo>
                    <a:pt x="240" y="794"/>
                  </a:lnTo>
                  <a:lnTo>
                    <a:pt x="293" y="711"/>
                  </a:lnTo>
                  <a:lnTo>
                    <a:pt x="350" y="632"/>
                  </a:lnTo>
                  <a:lnTo>
                    <a:pt x="412" y="557"/>
                  </a:lnTo>
                  <a:lnTo>
                    <a:pt x="479" y="486"/>
                  </a:lnTo>
                  <a:lnTo>
                    <a:pt x="549" y="418"/>
                  </a:lnTo>
                  <a:lnTo>
                    <a:pt x="622" y="356"/>
                  </a:lnTo>
                  <a:lnTo>
                    <a:pt x="700" y="297"/>
                  </a:lnTo>
                  <a:lnTo>
                    <a:pt x="781" y="243"/>
                  </a:lnTo>
                  <a:lnTo>
                    <a:pt x="865" y="195"/>
                  </a:lnTo>
                  <a:lnTo>
                    <a:pt x="952" y="151"/>
                  </a:lnTo>
                  <a:lnTo>
                    <a:pt x="1043" y="112"/>
                  </a:lnTo>
                  <a:lnTo>
                    <a:pt x="1135" y="79"/>
                  </a:lnTo>
                  <a:lnTo>
                    <a:pt x="1231" y="51"/>
                  </a:lnTo>
                  <a:lnTo>
                    <a:pt x="1328" y="29"/>
                  </a:lnTo>
                  <a:lnTo>
                    <a:pt x="1427" y="13"/>
                  </a:lnTo>
                  <a:lnTo>
                    <a:pt x="1529" y="4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804" name="TextBox 59"/>
          <p:cNvSpPr/>
          <p:nvPr/>
        </p:nvSpPr>
        <p:spPr>
          <a:xfrm flipH="1">
            <a:off x="8926560" y="4462560"/>
            <a:ext cx="13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05" name="TextBox 60"/>
          <p:cNvSpPr/>
          <p:nvPr/>
        </p:nvSpPr>
        <p:spPr>
          <a:xfrm flipH="1">
            <a:off x="8524800" y="5164200"/>
            <a:ext cx="21751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06" name="TextBox 61"/>
          <p:cNvSpPr/>
          <p:nvPr/>
        </p:nvSpPr>
        <p:spPr>
          <a:xfrm flipH="1">
            <a:off x="8904240" y="4681440"/>
            <a:ext cx="141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9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807" name="Group 62"/>
          <p:cNvGrpSpPr/>
          <p:nvPr/>
        </p:nvGrpSpPr>
        <p:grpSpPr>
          <a:xfrm>
            <a:off x="9371160" y="4950000"/>
            <a:ext cx="482400" cy="129960"/>
            <a:chOff x="9371160" y="4950000"/>
            <a:chExt cx="482400" cy="129960"/>
          </a:xfrm>
        </p:grpSpPr>
        <p:pic>
          <p:nvPicPr>
            <p:cNvPr id="808" name="Group 673" descr=""/>
            <p:cNvPicPr/>
            <p:nvPr/>
          </p:nvPicPr>
          <p:blipFill>
            <a:blip r:embed="rId4"/>
            <a:stretch/>
          </p:blipFill>
          <p:spPr>
            <a:xfrm>
              <a:off x="9725040" y="495072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Freeform 1536"/>
            <p:cNvSpPr/>
            <p:nvPr/>
          </p:nvSpPr>
          <p:spPr>
            <a:xfrm>
              <a:off x="9371160" y="4950000"/>
              <a:ext cx="129960" cy="129960"/>
            </a:xfrm>
            <a:custGeom>
              <a:avLst/>
              <a:gdLst/>
              <a:ahLst/>
              <a:rect l="l" t="t" r="r" b="b"/>
              <a:pathLst>
                <a:path w="3474" h="3518">
                  <a:moveTo>
                    <a:pt x="2112" y="957"/>
                  </a:moveTo>
                  <a:lnTo>
                    <a:pt x="2061" y="961"/>
                  </a:lnTo>
                  <a:lnTo>
                    <a:pt x="2014" y="970"/>
                  </a:lnTo>
                  <a:lnTo>
                    <a:pt x="1968" y="985"/>
                  </a:lnTo>
                  <a:lnTo>
                    <a:pt x="1924" y="1005"/>
                  </a:lnTo>
                  <a:lnTo>
                    <a:pt x="1883" y="1030"/>
                  </a:lnTo>
                  <a:lnTo>
                    <a:pt x="1846" y="1060"/>
                  </a:lnTo>
                  <a:lnTo>
                    <a:pt x="1814" y="1094"/>
                  </a:lnTo>
                  <a:lnTo>
                    <a:pt x="1784" y="1131"/>
                  </a:lnTo>
                  <a:lnTo>
                    <a:pt x="1759" y="1172"/>
                  </a:lnTo>
                  <a:lnTo>
                    <a:pt x="1739" y="1216"/>
                  </a:lnTo>
                  <a:lnTo>
                    <a:pt x="1724" y="1263"/>
                  </a:lnTo>
                  <a:lnTo>
                    <a:pt x="1716" y="1311"/>
                  </a:lnTo>
                  <a:lnTo>
                    <a:pt x="1713" y="1362"/>
                  </a:lnTo>
                  <a:lnTo>
                    <a:pt x="1715" y="1409"/>
                  </a:lnTo>
                  <a:lnTo>
                    <a:pt x="1722" y="1454"/>
                  </a:lnTo>
                  <a:lnTo>
                    <a:pt x="1640" y="1448"/>
                  </a:lnTo>
                  <a:lnTo>
                    <a:pt x="1559" y="1435"/>
                  </a:lnTo>
                  <a:lnTo>
                    <a:pt x="1481" y="1416"/>
                  </a:lnTo>
                  <a:lnTo>
                    <a:pt x="1405" y="1392"/>
                  </a:lnTo>
                  <a:lnTo>
                    <a:pt x="1331" y="1363"/>
                  </a:lnTo>
                  <a:lnTo>
                    <a:pt x="1259" y="1329"/>
                  </a:lnTo>
                  <a:lnTo>
                    <a:pt x="1191" y="1289"/>
                  </a:lnTo>
                  <a:lnTo>
                    <a:pt x="1126" y="1247"/>
                  </a:lnTo>
                  <a:lnTo>
                    <a:pt x="1064" y="1198"/>
                  </a:lnTo>
                  <a:lnTo>
                    <a:pt x="1005" y="1146"/>
                  </a:lnTo>
                  <a:lnTo>
                    <a:pt x="950" y="1091"/>
                  </a:lnTo>
                  <a:lnTo>
                    <a:pt x="899" y="1032"/>
                  </a:lnTo>
                  <a:lnTo>
                    <a:pt x="880" y="1068"/>
                  </a:lnTo>
                  <a:lnTo>
                    <a:pt x="865" y="1108"/>
                  </a:lnTo>
                  <a:lnTo>
                    <a:pt x="854" y="1149"/>
                  </a:lnTo>
                  <a:lnTo>
                    <a:pt x="846" y="1192"/>
                  </a:lnTo>
                  <a:lnTo>
                    <a:pt x="844" y="1236"/>
                  </a:lnTo>
                  <a:lnTo>
                    <a:pt x="848" y="1287"/>
                  </a:lnTo>
                  <a:lnTo>
                    <a:pt x="857" y="1337"/>
                  </a:lnTo>
                  <a:lnTo>
                    <a:pt x="873" y="1384"/>
                  </a:lnTo>
                  <a:lnTo>
                    <a:pt x="893" y="1429"/>
                  </a:lnTo>
                  <a:lnTo>
                    <a:pt x="919" y="1471"/>
                  </a:lnTo>
                  <a:lnTo>
                    <a:pt x="950" y="1508"/>
                  </a:lnTo>
                  <a:lnTo>
                    <a:pt x="984" y="1542"/>
                  </a:lnTo>
                  <a:lnTo>
                    <a:pt x="1022" y="1572"/>
                  </a:lnTo>
                  <a:lnTo>
                    <a:pt x="974" y="1568"/>
                  </a:lnTo>
                  <a:lnTo>
                    <a:pt x="928" y="1557"/>
                  </a:lnTo>
                  <a:lnTo>
                    <a:pt x="883" y="1541"/>
                  </a:lnTo>
                  <a:lnTo>
                    <a:pt x="841" y="1522"/>
                  </a:lnTo>
                  <a:lnTo>
                    <a:pt x="841" y="1524"/>
                  </a:lnTo>
                  <a:lnTo>
                    <a:pt x="841" y="1527"/>
                  </a:lnTo>
                  <a:lnTo>
                    <a:pt x="844" y="1579"/>
                  </a:lnTo>
                  <a:lnTo>
                    <a:pt x="854" y="1629"/>
                  </a:lnTo>
                  <a:lnTo>
                    <a:pt x="870" y="1678"/>
                  </a:lnTo>
                  <a:lnTo>
                    <a:pt x="891" y="1723"/>
                  </a:lnTo>
                  <a:lnTo>
                    <a:pt x="918" y="1765"/>
                  </a:lnTo>
                  <a:lnTo>
                    <a:pt x="949" y="1803"/>
                  </a:lnTo>
                  <a:lnTo>
                    <a:pt x="984" y="1837"/>
                  </a:lnTo>
                  <a:lnTo>
                    <a:pt x="1025" y="1867"/>
                  </a:lnTo>
                  <a:lnTo>
                    <a:pt x="1067" y="1891"/>
                  </a:lnTo>
                  <a:lnTo>
                    <a:pt x="1113" y="1910"/>
                  </a:lnTo>
                  <a:lnTo>
                    <a:pt x="1162" y="1923"/>
                  </a:lnTo>
                  <a:lnTo>
                    <a:pt x="1128" y="1931"/>
                  </a:lnTo>
                  <a:lnTo>
                    <a:pt x="1092" y="1936"/>
                  </a:lnTo>
                  <a:lnTo>
                    <a:pt x="1056" y="1937"/>
                  </a:lnTo>
                  <a:lnTo>
                    <a:pt x="1018" y="1935"/>
                  </a:lnTo>
                  <a:lnTo>
                    <a:pt x="981" y="1930"/>
                  </a:lnTo>
                  <a:lnTo>
                    <a:pt x="1000" y="1977"/>
                  </a:lnTo>
                  <a:lnTo>
                    <a:pt x="1024" y="2021"/>
                  </a:lnTo>
                  <a:lnTo>
                    <a:pt x="1052" y="2062"/>
                  </a:lnTo>
                  <a:lnTo>
                    <a:pt x="1084" y="2098"/>
                  </a:lnTo>
                  <a:lnTo>
                    <a:pt x="1121" y="2130"/>
                  </a:lnTo>
                  <a:lnTo>
                    <a:pt x="1163" y="2157"/>
                  </a:lnTo>
                  <a:lnTo>
                    <a:pt x="1206" y="2179"/>
                  </a:lnTo>
                  <a:lnTo>
                    <a:pt x="1254" y="2196"/>
                  </a:lnTo>
                  <a:lnTo>
                    <a:pt x="1303" y="2207"/>
                  </a:lnTo>
                  <a:lnTo>
                    <a:pt x="1355" y="2211"/>
                  </a:lnTo>
                  <a:lnTo>
                    <a:pt x="1302" y="2250"/>
                  </a:lnTo>
                  <a:lnTo>
                    <a:pt x="1246" y="2284"/>
                  </a:lnTo>
                  <a:lnTo>
                    <a:pt x="1187" y="2314"/>
                  </a:lnTo>
                  <a:lnTo>
                    <a:pt x="1126" y="2339"/>
                  </a:lnTo>
                  <a:lnTo>
                    <a:pt x="1062" y="2359"/>
                  </a:lnTo>
                  <a:lnTo>
                    <a:pt x="995" y="2373"/>
                  </a:lnTo>
                  <a:lnTo>
                    <a:pt x="928" y="2382"/>
                  </a:lnTo>
                  <a:lnTo>
                    <a:pt x="858" y="2385"/>
                  </a:lnTo>
                  <a:lnTo>
                    <a:pt x="811" y="2383"/>
                  </a:lnTo>
                  <a:lnTo>
                    <a:pt x="763" y="2378"/>
                  </a:lnTo>
                  <a:lnTo>
                    <a:pt x="830" y="2419"/>
                  </a:lnTo>
                  <a:lnTo>
                    <a:pt x="902" y="2455"/>
                  </a:lnTo>
                  <a:lnTo>
                    <a:pt x="975" y="2487"/>
                  </a:lnTo>
                  <a:lnTo>
                    <a:pt x="1051" y="2513"/>
                  </a:lnTo>
                  <a:lnTo>
                    <a:pt x="1129" y="2534"/>
                  </a:lnTo>
                  <a:lnTo>
                    <a:pt x="1209" y="2548"/>
                  </a:lnTo>
                  <a:lnTo>
                    <a:pt x="1292" y="2558"/>
                  </a:lnTo>
                  <a:lnTo>
                    <a:pt x="1376" y="2561"/>
                  </a:lnTo>
                  <a:lnTo>
                    <a:pt x="1459" y="2558"/>
                  </a:lnTo>
                  <a:lnTo>
                    <a:pt x="1540" y="2550"/>
                  </a:lnTo>
                  <a:lnTo>
                    <a:pt x="1617" y="2537"/>
                  </a:lnTo>
                  <a:lnTo>
                    <a:pt x="1691" y="2519"/>
                  </a:lnTo>
                  <a:lnTo>
                    <a:pt x="1762" y="2497"/>
                  </a:lnTo>
                  <a:lnTo>
                    <a:pt x="1831" y="2471"/>
                  </a:lnTo>
                  <a:lnTo>
                    <a:pt x="1896" y="2440"/>
                  </a:lnTo>
                  <a:lnTo>
                    <a:pt x="1958" y="2406"/>
                  </a:lnTo>
                  <a:lnTo>
                    <a:pt x="2017" y="2367"/>
                  </a:lnTo>
                  <a:lnTo>
                    <a:pt x="2072" y="2327"/>
                  </a:lnTo>
                  <a:lnTo>
                    <a:pt x="2125" y="2283"/>
                  </a:lnTo>
                  <a:lnTo>
                    <a:pt x="2174" y="2235"/>
                  </a:lnTo>
                  <a:lnTo>
                    <a:pt x="2220" y="2186"/>
                  </a:lnTo>
                  <a:lnTo>
                    <a:pt x="2263" y="2133"/>
                  </a:lnTo>
                  <a:lnTo>
                    <a:pt x="2303" y="2079"/>
                  </a:lnTo>
                  <a:lnTo>
                    <a:pt x="2338" y="2023"/>
                  </a:lnTo>
                  <a:lnTo>
                    <a:pt x="2372" y="1965"/>
                  </a:lnTo>
                  <a:lnTo>
                    <a:pt x="2401" y="1905"/>
                  </a:lnTo>
                  <a:lnTo>
                    <a:pt x="2428" y="1845"/>
                  </a:lnTo>
                  <a:lnTo>
                    <a:pt x="2450" y="1784"/>
                  </a:lnTo>
                  <a:lnTo>
                    <a:pt x="2469" y="1722"/>
                  </a:lnTo>
                  <a:lnTo>
                    <a:pt x="2485" y="1659"/>
                  </a:lnTo>
                  <a:lnTo>
                    <a:pt x="2497" y="1596"/>
                  </a:lnTo>
                  <a:lnTo>
                    <a:pt x="2506" y="1534"/>
                  </a:lnTo>
                  <a:lnTo>
                    <a:pt x="2511" y="1471"/>
                  </a:lnTo>
                  <a:lnTo>
                    <a:pt x="2513" y="1409"/>
                  </a:lnTo>
                  <a:lnTo>
                    <a:pt x="2512" y="1357"/>
                  </a:lnTo>
                  <a:lnTo>
                    <a:pt x="2558" y="1321"/>
                  </a:lnTo>
                  <a:lnTo>
                    <a:pt x="2600" y="1282"/>
                  </a:lnTo>
                  <a:lnTo>
                    <a:pt x="2641" y="1240"/>
                  </a:lnTo>
                  <a:lnTo>
                    <a:pt x="2677" y="1195"/>
                  </a:lnTo>
                  <a:lnTo>
                    <a:pt x="2711" y="1148"/>
                  </a:lnTo>
                  <a:lnTo>
                    <a:pt x="2657" y="1170"/>
                  </a:lnTo>
                  <a:lnTo>
                    <a:pt x="2600" y="1188"/>
                  </a:lnTo>
                  <a:lnTo>
                    <a:pt x="2542" y="1201"/>
                  </a:lnTo>
                  <a:lnTo>
                    <a:pt x="2482" y="1211"/>
                  </a:lnTo>
                  <a:lnTo>
                    <a:pt x="2522" y="1184"/>
                  </a:lnTo>
                  <a:lnTo>
                    <a:pt x="2558" y="1152"/>
                  </a:lnTo>
                  <a:lnTo>
                    <a:pt x="2589" y="1116"/>
                  </a:lnTo>
                  <a:lnTo>
                    <a:pt x="2618" y="1076"/>
                  </a:lnTo>
                  <a:lnTo>
                    <a:pt x="2641" y="1033"/>
                  </a:lnTo>
                  <a:lnTo>
                    <a:pt x="2658" y="987"/>
                  </a:lnTo>
                  <a:lnTo>
                    <a:pt x="2598" y="1020"/>
                  </a:lnTo>
                  <a:lnTo>
                    <a:pt x="2536" y="1046"/>
                  </a:lnTo>
                  <a:lnTo>
                    <a:pt x="2471" y="1068"/>
                  </a:lnTo>
                  <a:lnTo>
                    <a:pt x="2404" y="1085"/>
                  </a:lnTo>
                  <a:lnTo>
                    <a:pt x="2371" y="1053"/>
                  </a:lnTo>
                  <a:lnTo>
                    <a:pt x="2334" y="1025"/>
                  </a:lnTo>
                  <a:lnTo>
                    <a:pt x="2295" y="1002"/>
                  </a:lnTo>
                  <a:lnTo>
                    <a:pt x="2253" y="984"/>
                  </a:lnTo>
                  <a:lnTo>
                    <a:pt x="2207" y="969"/>
                  </a:lnTo>
                  <a:lnTo>
                    <a:pt x="2160" y="961"/>
                  </a:lnTo>
                  <a:lnTo>
                    <a:pt x="2112" y="957"/>
                  </a:lnTo>
                  <a:close/>
                  <a:moveTo>
                    <a:pt x="1738" y="0"/>
                  </a:moveTo>
                  <a:lnTo>
                    <a:pt x="1847" y="5"/>
                  </a:lnTo>
                  <a:lnTo>
                    <a:pt x="1955" y="15"/>
                  </a:lnTo>
                  <a:lnTo>
                    <a:pt x="2060" y="31"/>
                  </a:lnTo>
                  <a:lnTo>
                    <a:pt x="2165" y="54"/>
                  </a:lnTo>
                  <a:lnTo>
                    <a:pt x="2266" y="84"/>
                  </a:lnTo>
                  <a:lnTo>
                    <a:pt x="2365" y="119"/>
                  </a:lnTo>
                  <a:lnTo>
                    <a:pt x="2460" y="161"/>
                  </a:lnTo>
                  <a:lnTo>
                    <a:pt x="2554" y="207"/>
                  </a:lnTo>
                  <a:lnTo>
                    <a:pt x="2643" y="259"/>
                  </a:lnTo>
                  <a:lnTo>
                    <a:pt x="2729" y="316"/>
                  </a:lnTo>
                  <a:lnTo>
                    <a:pt x="2811" y="379"/>
                  </a:lnTo>
                  <a:lnTo>
                    <a:pt x="2890" y="445"/>
                  </a:lnTo>
                  <a:lnTo>
                    <a:pt x="2965" y="516"/>
                  </a:lnTo>
                  <a:lnTo>
                    <a:pt x="3035" y="592"/>
                  </a:lnTo>
                  <a:lnTo>
                    <a:pt x="3101" y="671"/>
                  </a:lnTo>
                  <a:lnTo>
                    <a:pt x="3163" y="755"/>
                  </a:lnTo>
                  <a:lnTo>
                    <a:pt x="3220" y="843"/>
                  </a:lnTo>
                  <a:lnTo>
                    <a:pt x="3271" y="933"/>
                  </a:lnTo>
                  <a:lnTo>
                    <a:pt x="3316" y="1028"/>
                  </a:lnTo>
                  <a:lnTo>
                    <a:pt x="3358" y="1124"/>
                  </a:lnTo>
                  <a:lnTo>
                    <a:pt x="3393" y="1225"/>
                  </a:lnTo>
                  <a:lnTo>
                    <a:pt x="3422" y="1327"/>
                  </a:lnTo>
                  <a:lnTo>
                    <a:pt x="3445" y="1431"/>
                  </a:lnTo>
                  <a:lnTo>
                    <a:pt x="3461" y="1539"/>
                  </a:lnTo>
                  <a:lnTo>
                    <a:pt x="3471" y="1648"/>
                  </a:lnTo>
                  <a:lnTo>
                    <a:pt x="3474" y="1759"/>
                  </a:lnTo>
                  <a:lnTo>
                    <a:pt x="3471" y="1870"/>
                  </a:lnTo>
                  <a:lnTo>
                    <a:pt x="3461" y="1979"/>
                  </a:lnTo>
                  <a:lnTo>
                    <a:pt x="3445" y="2087"/>
                  </a:lnTo>
                  <a:lnTo>
                    <a:pt x="3422" y="2191"/>
                  </a:lnTo>
                  <a:lnTo>
                    <a:pt x="3393" y="2294"/>
                  </a:lnTo>
                  <a:lnTo>
                    <a:pt x="3358" y="2394"/>
                  </a:lnTo>
                  <a:lnTo>
                    <a:pt x="3316" y="2491"/>
                  </a:lnTo>
                  <a:lnTo>
                    <a:pt x="3271" y="2585"/>
                  </a:lnTo>
                  <a:lnTo>
                    <a:pt x="3220" y="2675"/>
                  </a:lnTo>
                  <a:lnTo>
                    <a:pt x="3163" y="2763"/>
                  </a:lnTo>
                  <a:lnTo>
                    <a:pt x="3101" y="2847"/>
                  </a:lnTo>
                  <a:lnTo>
                    <a:pt x="3035" y="2926"/>
                  </a:lnTo>
                  <a:lnTo>
                    <a:pt x="2965" y="3002"/>
                  </a:lnTo>
                  <a:lnTo>
                    <a:pt x="2890" y="3074"/>
                  </a:lnTo>
                  <a:lnTo>
                    <a:pt x="2811" y="3140"/>
                  </a:lnTo>
                  <a:lnTo>
                    <a:pt x="2729" y="3202"/>
                  </a:lnTo>
                  <a:lnTo>
                    <a:pt x="2643" y="3260"/>
                  </a:lnTo>
                  <a:lnTo>
                    <a:pt x="2554" y="3311"/>
                  </a:lnTo>
                  <a:lnTo>
                    <a:pt x="2460" y="3357"/>
                  </a:lnTo>
                  <a:lnTo>
                    <a:pt x="2365" y="3399"/>
                  </a:lnTo>
                  <a:lnTo>
                    <a:pt x="2266" y="3434"/>
                  </a:lnTo>
                  <a:lnTo>
                    <a:pt x="2165" y="3464"/>
                  </a:lnTo>
                  <a:lnTo>
                    <a:pt x="2060" y="3487"/>
                  </a:lnTo>
                  <a:lnTo>
                    <a:pt x="1955" y="3504"/>
                  </a:lnTo>
                  <a:lnTo>
                    <a:pt x="1847" y="3514"/>
                  </a:lnTo>
                  <a:lnTo>
                    <a:pt x="1738" y="3518"/>
                  </a:lnTo>
                  <a:lnTo>
                    <a:pt x="1628" y="3514"/>
                  </a:lnTo>
                  <a:lnTo>
                    <a:pt x="1519" y="3504"/>
                  </a:lnTo>
                  <a:lnTo>
                    <a:pt x="1414" y="3487"/>
                  </a:lnTo>
                  <a:lnTo>
                    <a:pt x="1310" y="3464"/>
                  </a:lnTo>
                  <a:lnTo>
                    <a:pt x="1208" y="3434"/>
                  </a:lnTo>
                  <a:lnTo>
                    <a:pt x="1110" y="3399"/>
                  </a:lnTo>
                  <a:lnTo>
                    <a:pt x="1014" y="3357"/>
                  </a:lnTo>
                  <a:lnTo>
                    <a:pt x="921" y="3311"/>
                  </a:lnTo>
                  <a:lnTo>
                    <a:pt x="831" y="3260"/>
                  </a:lnTo>
                  <a:lnTo>
                    <a:pt x="745" y="3202"/>
                  </a:lnTo>
                  <a:lnTo>
                    <a:pt x="663" y="3140"/>
                  </a:lnTo>
                  <a:lnTo>
                    <a:pt x="585" y="3074"/>
                  </a:lnTo>
                  <a:lnTo>
                    <a:pt x="510" y="3002"/>
                  </a:lnTo>
                  <a:lnTo>
                    <a:pt x="439" y="2926"/>
                  </a:lnTo>
                  <a:lnTo>
                    <a:pt x="373" y="2847"/>
                  </a:lnTo>
                  <a:lnTo>
                    <a:pt x="312" y="2763"/>
                  </a:lnTo>
                  <a:lnTo>
                    <a:pt x="255" y="2675"/>
                  </a:lnTo>
                  <a:lnTo>
                    <a:pt x="204" y="2585"/>
                  </a:lnTo>
                  <a:lnTo>
                    <a:pt x="157" y="2491"/>
                  </a:lnTo>
                  <a:lnTo>
                    <a:pt x="117" y="2394"/>
                  </a:lnTo>
                  <a:lnTo>
                    <a:pt x="83" y="2294"/>
                  </a:lnTo>
                  <a:lnTo>
                    <a:pt x="53" y="2191"/>
                  </a:lnTo>
                  <a:lnTo>
                    <a:pt x="30" y="2087"/>
                  </a:lnTo>
                  <a:lnTo>
                    <a:pt x="14" y="1979"/>
                  </a:lnTo>
                  <a:lnTo>
                    <a:pt x="3" y="1870"/>
                  </a:lnTo>
                  <a:lnTo>
                    <a:pt x="0" y="1759"/>
                  </a:lnTo>
                  <a:lnTo>
                    <a:pt x="3" y="1648"/>
                  </a:lnTo>
                  <a:lnTo>
                    <a:pt x="14" y="1539"/>
                  </a:lnTo>
                  <a:lnTo>
                    <a:pt x="30" y="1431"/>
                  </a:lnTo>
                  <a:lnTo>
                    <a:pt x="53" y="1327"/>
                  </a:lnTo>
                  <a:lnTo>
                    <a:pt x="83" y="1225"/>
                  </a:lnTo>
                  <a:lnTo>
                    <a:pt x="117" y="1124"/>
                  </a:lnTo>
                  <a:lnTo>
                    <a:pt x="157" y="1028"/>
                  </a:lnTo>
                  <a:lnTo>
                    <a:pt x="204" y="933"/>
                  </a:lnTo>
                  <a:lnTo>
                    <a:pt x="255" y="843"/>
                  </a:lnTo>
                  <a:lnTo>
                    <a:pt x="312" y="755"/>
                  </a:lnTo>
                  <a:lnTo>
                    <a:pt x="373" y="671"/>
                  </a:lnTo>
                  <a:lnTo>
                    <a:pt x="439" y="592"/>
                  </a:lnTo>
                  <a:lnTo>
                    <a:pt x="510" y="516"/>
                  </a:lnTo>
                  <a:lnTo>
                    <a:pt x="585" y="445"/>
                  </a:lnTo>
                  <a:lnTo>
                    <a:pt x="663" y="379"/>
                  </a:lnTo>
                  <a:lnTo>
                    <a:pt x="745" y="316"/>
                  </a:lnTo>
                  <a:lnTo>
                    <a:pt x="831" y="259"/>
                  </a:lnTo>
                  <a:lnTo>
                    <a:pt x="921" y="207"/>
                  </a:lnTo>
                  <a:lnTo>
                    <a:pt x="1014" y="161"/>
                  </a:lnTo>
                  <a:lnTo>
                    <a:pt x="1110" y="119"/>
                  </a:lnTo>
                  <a:lnTo>
                    <a:pt x="1208" y="84"/>
                  </a:lnTo>
                  <a:lnTo>
                    <a:pt x="1310" y="54"/>
                  </a:lnTo>
                  <a:lnTo>
                    <a:pt x="1414" y="31"/>
                  </a:lnTo>
                  <a:lnTo>
                    <a:pt x="1519" y="15"/>
                  </a:lnTo>
                  <a:lnTo>
                    <a:pt x="1628" y="5"/>
                  </a:lnTo>
                  <a:lnTo>
                    <a:pt x="1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810" name="Freeform 6"/>
            <p:cNvSpPr/>
            <p:nvPr/>
          </p:nvSpPr>
          <p:spPr>
            <a:xfrm>
              <a:off x="9549000" y="4950000"/>
              <a:ext cx="129240" cy="129600"/>
            </a:xfrm>
            <a:custGeom>
              <a:avLst/>
              <a:gdLst/>
              <a:ahLst/>
              <a:rect l="l" t="t" r="r" b="b"/>
              <a:pathLst>
                <a:path w="3263" h="3314">
                  <a:moveTo>
                    <a:pt x="1776" y="753"/>
                  </a:moveTo>
                  <a:lnTo>
                    <a:pt x="1729" y="754"/>
                  </a:lnTo>
                  <a:lnTo>
                    <a:pt x="1686" y="759"/>
                  </a:lnTo>
                  <a:lnTo>
                    <a:pt x="1646" y="769"/>
                  </a:lnTo>
                  <a:lnTo>
                    <a:pt x="1610" y="780"/>
                  </a:lnTo>
                  <a:lnTo>
                    <a:pt x="1577" y="794"/>
                  </a:lnTo>
                  <a:lnTo>
                    <a:pt x="1547" y="810"/>
                  </a:lnTo>
                  <a:lnTo>
                    <a:pt x="1521" y="829"/>
                  </a:lnTo>
                  <a:lnTo>
                    <a:pt x="1496" y="850"/>
                  </a:lnTo>
                  <a:lnTo>
                    <a:pt x="1475" y="871"/>
                  </a:lnTo>
                  <a:lnTo>
                    <a:pt x="1456" y="895"/>
                  </a:lnTo>
                  <a:lnTo>
                    <a:pt x="1439" y="920"/>
                  </a:lnTo>
                  <a:lnTo>
                    <a:pt x="1426" y="946"/>
                  </a:lnTo>
                  <a:lnTo>
                    <a:pt x="1413" y="973"/>
                  </a:lnTo>
                  <a:lnTo>
                    <a:pt x="1403" y="1000"/>
                  </a:lnTo>
                  <a:lnTo>
                    <a:pt x="1395" y="1027"/>
                  </a:lnTo>
                  <a:lnTo>
                    <a:pt x="1389" y="1054"/>
                  </a:lnTo>
                  <a:lnTo>
                    <a:pt x="1384" y="1081"/>
                  </a:lnTo>
                  <a:lnTo>
                    <a:pt x="1381" y="1107"/>
                  </a:lnTo>
                  <a:lnTo>
                    <a:pt x="1379" y="1132"/>
                  </a:lnTo>
                  <a:lnTo>
                    <a:pt x="1379" y="1156"/>
                  </a:lnTo>
                  <a:lnTo>
                    <a:pt x="1379" y="1376"/>
                  </a:lnTo>
                  <a:lnTo>
                    <a:pt x="1192" y="1376"/>
                  </a:lnTo>
                  <a:lnTo>
                    <a:pt x="1192" y="1715"/>
                  </a:lnTo>
                  <a:lnTo>
                    <a:pt x="1379" y="1715"/>
                  </a:lnTo>
                  <a:lnTo>
                    <a:pt x="1379" y="2676"/>
                  </a:lnTo>
                  <a:lnTo>
                    <a:pt x="1772" y="2676"/>
                  </a:lnTo>
                  <a:lnTo>
                    <a:pt x="1772" y="1715"/>
                  </a:lnTo>
                  <a:lnTo>
                    <a:pt x="2037" y="1715"/>
                  </a:lnTo>
                  <a:lnTo>
                    <a:pt x="2072" y="1376"/>
                  </a:lnTo>
                  <a:lnTo>
                    <a:pt x="1772" y="1376"/>
                  </a:lnTo>
                  <a:lnTo>
                    <a:pt x="1772" y="1176"/>
                  </a:lnTo>
                  <a:lnTo>
                    <a:pt x="1774" y="1153"/>
                  </a:lnTo>
                  <a:lnTo>
                    <a:pt x="1779" y="1135"/>
                  </a:lnTo>
                  <a:lnTo>
                    <a:pt x="1786" y="1119"/>
                  </a:lnTo>
                  <a:lnTo>
                    <a:pt x="1795" y="1107"/>
                  </a:lnTo>
                  <a:lnTo>
                    <a:pt x="1806" y="1097"/>
                  </a:lnTo>
                  <a:lnTo>
                    <a:pt x="1819" y="1091"/>
                  </a:lnTo>
                  <a:lnTo>
                    <a:pt x="1831" y="1087"/>
                  </a:lnTo>
                  <a:lnTo>
                    <a:pt x="1843" y="1085"/>
                  </a:lnTo>
                  <a:lnTo>
                    <a:pt x="1855" y="1084"/>
                  </a:lnTo>
                  <a:lnTo>
                    <a:pt x="2066" y="1084"/>
                  </a:lnTo>
                  <a:lnTo>
                    <a:pt x="2066" y="754"/>
                  </a:lnTo>
                  <a:lnTo>
                    <a:pt x="1776" y="753"/>
                  </a:lnTo>
                  <a:close/>
                  <a:moveTo>
                    <a:pt x="1632" y="0"/>
                  </a:moveTo>
                  <a:lnTo>
                    <a:pt x="1735" y="4"/>
                  </a:lnTo>
                  <a:lnTo>
                    <a:pt x="1836" y="13"/>
                  </a:lnTo>
                  <a:lnTo>
                    <a:pt x="1935" y="29"/>
                  </a:lnTo>
                  <a:lnTo>
                    <a:pt x="2033" y="51"/>
                  </a:lnTo>
                  <a:lnTo>
                    <a:pt x="2128" y="79"/>
                  </a:lnTo>
                  <a:lnTo>
                    <a:pt x="2221" y="112"/>
                  </a:lnTo>
                  <a:lnTo>
                    <a:pt x="2310" y="151"/>
                  </a:lnTo>
                  <a:lnTo>
                    <a:pt x="2398" y="195"/>
                  </a:lnTo>
                  <a:lnTo>
                    <a:pt x="2482" y="243"/>
                  </a:lnTo>
                  <a:lnTo>
                    <a:pt x="2562" y="297"/>
                  </a:lnTo>
                  <a:lnTo>
                    <a:pt x="2640" y="356"/>
                  </a:lnTo>
                  <a:lnTo>
                    <a:pt x="2715" y="418"/>
                  </a:lnTo>
                  <a:lnTo>
                    <a:pt x="2785" y="486"/>
                  </a:lnTo>
                  <a:lnTo>
                    <a:pt x="2850" y="557"/>
                  </a:lnTo>
                  <a:lnTo>
                    <a:pt x="2912" y="632"/>
                  </a:lnTo>
                  <a:lnTo>
                    <a:pt x="2971" y="711"/>
                  </a:lnTo>
                  <a:lnTo>
                    <a:pt x="3024" y="794"/>
                  </a:lnTo>
                  <a:lnTo>
                    <a:pt x="3072" y="879"/>
                  </a:lnTo>
                  <a:lnTo>
                    <a:pt x="3115" y="968"/>
                  </a:lnTo>
                  <a:lnTo>
                    <a:pt x="3153" y="1059"/>
                  </a:lnTo>
                  <a:lnTo>
                    <a:pt x="3186" y="1153"/>
                  </a:lnTo>
                  <a:lnTo>
                    <a:pt x="3214" y="1250"/>
                  </a:lnTo>
                  <a:lnTo>
                    <a:pt x="3235" y="1348"/>
                  </a:lnTo>
                  <a:lnTo>
                    <a:pt x="3250" y="1450"/>
                  </a:lnTo>
                  <a:lnTo>
                    <a:pt x="3259" y="1552"/>
                  </a:lnTo>
                  <a:lnTo>
                    <a:pt x="3263" y="1657"/>
                  </a:lnTo>
                  <a:lnTo>
                    <a:pt x="3259" y="1762"/>
                  </a:lnTo>
                  <a:lnTo>
                    <a:pt x="3250" y="1864"/>
                  </a:lnTo>
                  <a:lnTo>
                    <a:pt x="3235" y="1966"/>
                  </a:lnTo>
                  <a:lnTo>
                    <a:pt x="3214" y="2064"/>
                  </a:lnTo>
                  <a:lnTo>
                    <a:pt x="3186" y="2161"/>
                  </a:lnTo>
                  <a:lnTo>
                    <a:pt x="3153" y="2255"/>
                  </a:lnTo>
                  <a:lnTo>
                    <a:pt x="3115" y="2346"/>
                  </a:lnTo>
                  <a:lnTo>
                    <a:pt x="3072" y="2435"/>
                  </a:lnTo>
                  <a:lnTo>
                    <a:pt x="3024" y="2520"/>
                  </a:lnTo>
                  <a:lnTo>
                    <a:pt x="2971" y="2603"/>
                  </a:lnTo>
                  <a:lnTo>
                    <a:pt x="2912" y="2682"/>
                  </a:lnTo>
                  <a:lnTo>
                    <a:pt x="2850" y="2757"/>
                  </a:lnTo>
                  <a:lnTo>
                    <a:pt x="2785" y="2828"/>
                  </a:lnTo>
                  <a:lnTo>
                    <a:pt x="2715" y="2895"/>
                  </a:lnTo>
                  <a:lnTo>
                    <a:pt x="2640" y="2958"/>
                  </a:lnTo>
                  <a:lnTo>
                    <a:pt x="2562" y="3017"/>
                  </a:lnTo>
                  <a:lnTo>
                    <a:pt x="2482" y="3071"/>
                  </a:lnTo>
                  <a:lnTo>
                    <a:pt x="2398" y="3119"/>
                  </a:lnTo>
                  <a:lnTo>
                    <a:pt x="2310" y="3163"/>
                  </a:lnTo>
                  <a:lnTo>
                    <a:pt x="2221" y="3202"/>
                  </a:lnTo>
                  <a:lnTo>
                    <a:pt x="2128" y="3235"/>
                  </a:lnTo>
                  <a:lnTo>
                    <a:pt x="2033" y="3263"/>
                  </a:lnTo>
                  <a:lnTo>
                    <a:pt x="1935" y="3285"/>
                  </a:lnTo>
                  <a:lnTo>
                    <a:pt x="1836" y="3301"/>
                  </a:lnTo>
                  <a:lnTo>
                    <a:pt x="1735" y="3310"/>
                  </a:lnTo>
                  <a:lnTo>
                    <a:pt x="1632" y="3314"/>
                  </a:lnTo>
                  <a:lnTo>
                    <a:pt x="1529" y="3310"/>
                  </a:lnTo>
                  <a:lnTo>
                    <a:pt x="1427" y="3301"/>
                  </a:lnTo>
                  <a:lnTo>
                    <a:pt x="1328" y="3285"/>
                  </a:lnTo>
                  <a:lnTo>
                    <a:pt x="1231" y="3263"/>
                  </a:lnTo>
                  <a:lnTo>
                    <a:pt x="1135" y="3235"/>
                  </a:lnTo>
                  <a:lnTo>
                    <a:pt x="1043" y="3202"/>
                  </a:lnTo>
                  <a:lnTo>
                    <a:pt x="952" y="3163"/>
                  </a:lnTo>
                  <a:lnTo>
                    <a:pt x="865" y="3119"/>
                  </a:lnTo>
                  <a:lnTo>
                    <a:pt x="781" y="3071"/>
                  </a:lnTo>
                  <a:lnTo>
                    <a:pt x="700" y="3017"/>
                  </a:lnTo>
                  <a:lnTo>
                    <a:pt x="622" y="2958"/>
                  </a:lnTo>
                  <a:lnTo>
                    <a:pt x="549" y="2895"/>
                  </a:lnTo>
                  <a:lnTo>
                    <a:pt x="479" y="2828"/>
                  </a:lnTo>
                  <a:lnTo>
                    <a:pt x="412" y="2757"/>
                  </a:lnTo>
                  <a:lnTo>
                    <a:pt x="350" y="2682"/>
                  </a:lnTo>
                  <a:lnTo>
                    <a:pt x="293" y="2603"/>
                  </a:lnTo>
                  <a:lnTo>
                    <a:pt x="240" y="2520"/>
                  </a:lnTo>
                  <a:lnTo>
                    <a:pt x="192" y="2435"/>
                  </a:lnTo>
                  <a:lnTo>
                    <a:pt x="148" y="2346"/>
                  </a:lnTo>
                  <a:lnTo>
                    <a:pt x="110" y="2255"/>
                  </a:lnTo>
                  <a:lnTo>
                    <a:pt x="78" y="2161"/>
                  </a:lnTo>
                  <a:lnTo>
                    <a:pt x="50" y="2064"/>
                  </a:lnTo>
                  <a:lnTo>
                    <a:pt x="29" y="1966"/>
                  </a:lnTo>
                  <a:lnTo>
                    <a:pt x="13" y="1864"/>
                  </a:lnTo>
                  <a:lnTo>
                    <a:pt x="3" y="1762"/>
                  </a:lnTo>
                  <a:lnTo>
                    <a:pt x="0" y="1657"/>
                  </a:lnTo>
                  <a:lnTo>
                    <a:pt x="3" y="1552"/>
                  </a:lnTo>
                  <a:lnTo>
                    <a:pt x="13" y="1450"/>
                  </a:lnTo>
                  <a:lnTo>
                    <a:pt x="29" y="1348"/>
                  </a:lnTo>
                  <a:lnTo>
                    <a:pt x="50" y="1250"/>
                  </a:lnTo>
                  <a:lnTo>
                    <a:pt x="78" y="1153"/>
                  </a:lnTo>
                  <a:lnTo>
                    <a:pt x="110" y="1059"/>
                  </a:lnTo>
                  <a:lnTo>
                    <a:pt x="148" y="968"/>
                  </a:lnTo>
                  <a:lnTo>
                    <a:pt x="192" y="879"/>
                  </a:lnTo>
                  <a:lnTo>
                    <a:pt x="240" y="794"/>
                  </a:lnTo>
                  <a:lnTo>
                    <a:pt x="293" y="711"/>
                  </a:lnTo>
                  <a:lnTo>
                    <a:pt x="350" y="632"/>
                  </a:lnTo>
                  <a:lnTo>
                    <a:pt x="412" y="557"/>
                  </a:lnTo>
                  <a:lnTo>
                    <a:pt x="479" y="486"/>
                  </a:lnTo>
                  <a:lnTo>
                    <a:pt x="549" y="418"/>
                  </a:lnTo>
                  <a:lnTo>
                    <a:pt x="622" y="356"/>
                  </a:lnTo>
                  <a:lnTo>
                    <a:pt x="700" y="297"/>
                  </a:lnTo>
                  <a:lnTo>
                    <a:pt x="781" y="243"/>
                  </a:lnTo>
                  <a:lnTo>
                    <a:pt x="865" y="195"/>
                  </a:lnTo>
                  <a:lnTo>
                    <a:pt x="952" y="151"/>
                  </a:lnTo>
                  <a:lnTo>
                    <a:pt x="1043" y="112"/>
                  </a:lnTo>
                  <a:lnTo>
                    <a:pt x="1135" y="79"/>
                  </a:lnTo>
                  <a:lnTo>
                    <a:pt x="1231" y="51"/>
                  </a:lnTo>
                  <a:lnTo>
                    <a:pt x="1328" y="29"/>
                  </a:lnTo>
                  <a:lnTo>
                    <a:pt x="1427" y="13"/>
                  </a:lnTo>
                  <a:lnTo>
                    <a:pt x="1529" y="4"/>
                  </a:lnTo>
                  <a:lnTo>
                    <a:pt x="1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811" name="TextBox 7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12" name="TextBox 71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13" name="Picture Placeholder 28" descr=""/>
          <p:cNvPicPr/>
          <p:nvPr/>
        </p:nvPicPr>
        <p:blipFill>
          <a:blip r:embed="rId5"/>
          <a:srcRect l="16846" t="0" r="16846" b="0"/>
          <a:stretch/>
        </p:blipFill>
        <p:spPr>
          <a:xfrm>
            <a:off x="1523880" y="2446200"/>
            <a:ext cx="2156040" cy="18288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Placeholder 30" descr=""/>
          <p:cNvPicPr/>
          <p:nvPr/>
        </p:nvPicPr>
        <p:blipFill>
          <a:blip r:embed="rId6"/>
          <a:srcRect l="16846" t="0" r="16846" b="0"/>
          <a:stretch/>
        </p:blipFill>
        <p:spPr>
          <a:xfrm>
            <a:off x="3857760" y="2446200"/>
            <a:ext cx="2155680" cy="18288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Placeholder 32" descr=""/>
          <p:cNvPicPr/>
          <p:nvPr/>
        </p:nvPicPr>
        <p:blipFill>
          <a:blip r:embed="rId7"/>
          <a:srcRect l="16846" t="0" r="16846" b="0"/>
          <a:stretch/>
        </p:blipFill>
        <p:spPr>
          <a:xfrm>
            <a:off x="6191280" y="2446200"/>
            <a:ext cx="2155680" cy="18288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Placeholder 34" descr=""/>
          <p:cNvPicPr/>
          <p:nvPr/>
        </p:nvPicPr>
        <p:blipFill>
          <a:blip r:embed="rId8"/>
          <a:srcRect l="16846" t="0" r="16846" b="0"/>
          <a:stretch/>
        </p:blipFill>
        <p:spPr>
          <a:xfrm>
            <a:off x="8524800" y="2446200"/>
            <a:ext cx="2156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5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8500"/>
                            </p:stCondLst>
                            <p:childTnLst>
                              <p:par>
                                <p:cTn id="6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1"/>
          <p:cNvSpPr/>
          <p:nvPr/>
        </p:nvSpPr>
        <p:spPr>
          <a:xfrm>
            <a:off x="1427040" y="1165320"/>
            <a:ext cx="47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Gaming Equipmen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18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19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0" name="TextBox 16"/>
          <p:cNvSpPr/>
          <p:nvPr/>
        </p:nvSpPr>
        <p:spPr>
          <a:xfrm flipH="1">
            <a:off x="7923960" y="484200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1" name="TextBox 17"/>
          <p:cNvSpPr/>
          <p:nvPr/>
        </p:nvSpPr>
        <p:spPr>
          <a:xfrm flipH="1">
            <a:off x="7923960" y="5097600"/>
            <a:ext cx="33814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2" name="TextBox 20"/>
          <p:cNvSpPr/>
          <p:nvPr/>
        </p:nvSpPr>
        <p:spPr>
          <a:xfrm flipH="1">
            <a:off x="7923960" y="385128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3" name="TextBox 21"/>
          <p:cNvSpPr/>
          <p:nvPr/>
        </p:nvSpPr>
        <p:spPr>
          <a:xfrm flipH="1">
            <a:off x="7923960" y="4143240"/>
            <a:ext cx="33814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4" name="TextBox 22"/>
          <p:cNvSpPr/>
          <p:nvPr/>
        </p:nvSpPr>
        <p:spPr>
          <a:xfrm flipH="1">
            <a:off x="7916040" y="2709720"/>
            <a:ext cx="2987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5" name="TextBox 11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26" name="TextBox 12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27" name="Picture Placeholder 9" descr=""/>
          <p:cNvPicPr/>
          <p:nvPr/>
        </p:nvPicPr>
        <p:blipFill>
          <a:blip r:embed="rId1"/>
          <a:srcRect l="27134" t="0" r="27134" b="0"/>
          <a:stretch/>
        </p:blipFill>
        <p:spPr>
          <a:xfrm>
            <a:off x="1530360" y="2517840"/>
            <a:ext cx="2787480" cy="34290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Placeholder 14" descr=""/>
          <p:cNvPicPr/>
          <p:nvPr/>
        </p:nvPicPr>
        <p:blipFill>
          <a:blip r:embed="rId2"/>
          <a:srcRect l="27134" t="0" r="27134" b="0"/>
          <a:stretch/>
        </p:blipFill>
        <p:spPr>
          <a:xfrm>
            <a:off x="4392720" y="2517840"/>
            <a:ext cx="278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4156200" y="1049400"/>
            <a:ext cx="37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First Round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0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1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2" name="TextBox 27"/>
          <p:cNvSpPr/>
          <p:nvPr/>
        </p:nvSpPr>
        <p:spPr>
          <a:xfrm>
            <a:off x="7553160" y="221940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aleway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3" name="TextBox 28"/>
          <p:cNvSpPr/>
          <p:nvPr/>
        </p:nvSpPr>
        <p:spPr>
          <a:xfrm flipH="1">
            <a:off x="8799480" y="2543040"/>
            <a:ext cx="15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4" name="TextBox 29"/>
          <p:cNvSpPr/>
          <p:nvPr/>
        </p:nvSpPr>
        <p:spPr>
          <a:xfrm flipH="1">
            <a:off x="8799480" y="2841480"/>
            <a:ext cx="15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5" name="TextBox 30"/>
          <p:cNvSpPr/>
          <p:nvPr/>
        </p:nvSpPr>
        <p:spPr>
          <a:xfrm flipH="1">
            <a:off x="7653240" y="3429000"/>
            <a:ext cx="27129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6" name="TextBox 31"/>
          <p:cNvSpPr/>
          <p:nvPr/>
        </p:nvSpPr>
        <p:spPr>
          <a:xfrm flipH="1">
            <a:off x="4260240" y="1704960"/>
            <a:ext cx="35989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7" name="TextBox 12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39" name="Picture Placeholder 9" descr=""/>
          <p:cNvPicPr/>
          <p:nvPr/>
        </p:nvPicPr>
        <p:blipFill>
          <a:blip r:embed="rId1"/>
          <a:srcRect l="29248" t="0" r="29248" b="0"/>
          <a:stretch/>
        </p:blipFill>
        <p:spPr>
          <a:xfrm>
            <a:off x="1523880" y="2502000"/>
            <a:ext cx="2718000" cy="3682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Placeholder 11" descr=""/>
          <p:cNvPicPr/>
          <p:nvPr/>
        </p:nvPicPr>
        <p:blipFill>
          <a:blip r:embed="rId2"/>
          <a:srcRect l="29248" t="0" r="29248" b="0"/>
          <a:stretch/>
        </p:blipFill>
        <p:spPr>
          <a:xfrm>
            <a:off x="4305240" y="2502000"/>
            <a:ext cx="2718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2"/>
          <p:cNvSpPr/>
          <p:nvPr/>
        </p:nvSpPr>
        <p:spPr>
          <a:xfrm>
            <a:off x="1427040" y="116676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Second Round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2" name="Cross 5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3" name="Circle: Hollow 6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4" name="TextBox 13"/>
          <p:cNvSpPr/>
          <p:nvPr/>
        </p:nvSpPr>
        <p:spPr>
          <a:xfrm flipH="1">
            <a:off x="2434680" y="4956120"/>
            <a:ext cx="35701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5" name="TextBox 14"/>
          <p:cNvSpPr/>
          <p:nvPr/>
        </p:nvSpPr>
        <p:spPr>
          <a:xfrm flipH="1">
            <a:off x="2434680" y="4687920"/>
            <a:ext cx="217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6" name="TextBox 15"/>
          <p:cNvSpPr/>
          <p:nvPr/>
        </p:nvSpPr>
        <p:spPr>
          <a:xfrm flipH="1">
            <a:off x="6652440" y="4956120"/>
            <a:ext cx="35686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7" name="TextBox 17"/>
          <p:cNvSpPr/>
          <p:nvPr/>
        </p:nvSpPr>
        <p:spPr>
          <a:xfrm flipH="1">
            <a:off x="6652440" y="4687920"/>
            <a:ext cx="217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8" name="TextBox 1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50" name="Picture Placeholder 9" descr=""/>
          <p:cNvPicPr/>
          <p:nvPr/>
        </p:nvPicPr>
        <p:blipFill>
          <a:blip r:embed="rId1"/>
          <a:srcRect l="0" t="9973" r="0" b="9973"/>
          <a:stretch/>
        </p:blipFill>
        <p:spPr>
          <a:xfrm>
            <a:off x="2435400" y="2502000"/>
            <a:ext cx="4117680" cy="1854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Placeholder 19" descr=""/>
          <p:cNvPicPr/>
          <p:nvPr/>
        </p:nvPicPr>
        <p:blipFill>
          <a:blip r:embed="rId2"/>
          <a:srcRect l="0" t="8784" r="0" b="8784"/>
          <a:stretch/>
        </p:blipFill>
        <p:spPr>
          <a:xfrm>
            <a:off x="6653160" y="2502000"/>
            <a:ext cx="3998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1"/>
          <p:cNvSpPr/>
          <p:nvPr/>
        </p:nvSpPr>
        <p:spPr>
          <a:xfrm>
            <a:off x="5065560" y="1174680"/>
            <a:ext cx="375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Knock Ou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Phase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3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4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5" name="TextBox 8"/>
          <p:cNvSpPr/>
          <p:nvPr/>
        </p:nvSpPr>
        <p:spPr>
          <a:xfrm flipH="1">
            <a:off x="5180760" y="477504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6" name="TextBox 9"/>
          <p:cNvSpPr/>
          <p:nvPr/>
        </p:nvSpPr>
        <p:spPr>
          <a:xfrm flipH="1">
            <a:off x="5180760" y="5045040"/>
            <a:ext cx="33814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7" name="TextBox 10"/>
          <p:cNvSpPr/>
          <p:nvPr/>
        </p:nvSpPr>
        <p:spPr>
          <a:xfrm flipH="1">
            <a:off x="5172840" y="3648240"/>
            <a:ext cx="2987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8" name="TextBox 11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60" name="Picture Placeholder 13" descr=""/>
          <p:cNvPicPr/>
          <p:nvPr/>
        </p:nvPicPr>
        <p:blipFill>
          <a:blip r:embed="rId1"/>
          <a:srcRect l="29071" t="0" r="29071" b="0"/>
          <a:stretch/>
        </p:blipFill>
        <p:spPr>
          <a:xfrm>
            <a:off x="1531800" y="1276200"/>
            <a:ext cx="2743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Box 1"/>
          <p:cNvSpPr/>
          <p:nvPr/>
        </p:nvSpPr>
        <p:spPr>
          <a:xfrm>
            <a:off x="8736120" y="1469880"/>
            <a:ext cx="3751200" cy="1068840"/>
          </a:xfrm>
          <a:prstGeom prst="rect">
            <a:avLst/>
          </a:prstGeom>
          <a:noFill/>
          <a:ln w="0">
            <a:noFill/>
          </a:ln>
          <a:effectLst>
            <a:outerShdw dist="38251" dir="2102171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Knock Ou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2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3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4" name="TextBox 26"/>
          <p:cNvSpPr/>
          <p:nvPr/>
        </p:nvSpPr>
        <p:spPr>
          <a:xfrm flipH="1">
            <a:off x="8838360" y="2827440"/>
            <a:ext cx="2357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5" name="TextBox 31"/>
          <p:cNvSpPr/>
          <p:nvPr/>
        </p:nvSpPr>
        <p:spPr>
          <a:xfrm flipH="1">
            <a:off x="9408960" y="45813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6" name="TextBox 32"/>
          <p:cNvSpPr/>
          <p:nvPr/>
        </p:nvSpPr>
        <p:spPr>
          <a:xfrm flipH="1">
            <a:off x="9408960" y="49863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7" name="Oval 34"/>
          <p:cNvSpPr/>
          <p:nvPr/>
        </p:nvSpPr>
        <p:spPr>
          <a:xfrm>
            <a:off x="9142560" y="4649760"/>
            <a:ext cx="79200" cy="79560"/>
          </a:xfrm>
          <a:prstGeom prst="ellipse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8" name="Oval 35"/>
          <p:cNvSpPr/>
          <p:nvPr/>
        </p:nvSpPr>
        <p:spPr>
          <a:xfrm>
            <a:off x="9142560" y="5054760"/>
            <a:ext cx="79200" cy="79200"/>
          </a:xfrm>
          <a:prstGeom prst="ellipse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69" name="TextBox 36"/>
          <p:cNvSpPr/>
          <p:nvPr/>
        </p:nvSpPr>
        <p:spPr>
          <a:xfrm flipH="1">
            <a:off x="9408960" y="539280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0" name="Oval 37"/>
          <p:cNvSpPr/>
          <p:nvPr/>
        </p:nvSpPr>
        <p:spPr>
          <a:xfrm>
            <a:off x="9142560" y="5459400"/>
            <a:ext cx="79200" cy="81000"/>
          </a:xfrm>
          <a:prstGeom prst="ellipse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1" name="TextBox 38"/>
          <p:cNvSpPr/>
          <p:nvPr/>
        </p:nvSpPr>
        <p:spPr>
          <a:xfrm flipH="1">
            <a:off x="8839080" y="4162320"/>
            <a:ext cx="21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Game Rules In This Round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2" name="TextBox 15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3" name="TextBox 16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74" name="Picture Placeholder 11" descr=""/>
          <p:cNvPicPr/>
          <p:nvPr/>
        </p:nvPicPr>
        <p:blipFill>
          <a:blip r:embed="rId1"/>
          <a:srcRect l="36016" t="0" r="36016" b="0"/>
          <a:stretch/>
        </p:blipFill>
        <p:spPr>
          <a:xfrm>
            <a:off x="1536840" y="679320"/>
            <a:ext cx="2743200" cy="551664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Placeholder 14" descr=""/>
          <p:cNvPicPr/>
          <p:nvPr/>
        </p:nvPicPr>
        <p:blipFill>
          <a:blip r:embed="rId2"/>
          <a:srcRect l="0" t="12493" r="0" b="12493"/>
          <a:stretch/>
        </p:blipFill>
        <p:spPr>
          <a:xfrm>
            <a:off x="3487680" y="1500120"/>
            <a:ext cx="4424400" cy="18669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Placeholder 19" descr=""/>
          <p:cNvPicPr/>
          <p:nvPr/>
        </p:nvPicPr>
        <p:blipFill>
          <a:blip r:embed="rId3"/>
          <a:srcRect l="0" t="12493" r="0" b="12493"/>
          <a:stretch/>
        </p:blipFill>
        <p:spPr>
          <a:xfrm>
            <a:off x="3487680" y="3448080"/>
            <a:ext cx="4424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500"/>
                            </p:stCondLst>
                            <p:childTnLst>
                              <p:par>
                                <p:cTn id="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500"/>
                            </p:stCondLst>
                            <p:childTnLst>
                              <p:par>
                                <p:cTn id="8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6000"/>
                            </p:stCondLst>
                            <p:childTnLst>
                              <p:par>
                                <p:cTn id="8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Box 1"/>
          <p:cNvSpPr/>
          <p:nvPr/>
        </p:nvSpPr>
        <p:spPr>
          <a:xfrm>
            <a:off x="1409760" y="146052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Battle Ground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8" name="Cross 4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79" name="Circle: Hollow 5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0" name="TextBox 6"/>
          <p:cNvSpPr/>
          <p:nvPr/>
        </p:nvSpPr>
        <p:spPr>
          <a:xfrm flipH="1">
            <a:off x="1523880" y="2879640"/>
            <a:ext cx="22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arla"/>
                <a:ea typeface="Lato regular"/>
              </a:rPr>
              <a:t>Esport Tournament</a:t>
            </a:r>
            <a:endParaRPr b="0" lang="en-US" sz="1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1" name="TextBox 7"/>
          <p:cNvSpPr/>
          <p:nvPr/>
        </p:nvSpPr>
        <p:spPr>
          <a:xfrm flipH="1">
            <a:off x="1523880" y="3317760"/>
            <a:ext cx="30751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2" name="TextBox 9"/>
          <p:cNvSpPr/>
          <p:nvPr/>
        </p:nvSpPr>
        <p:spPr>
          <a:xfrm flipH="1">
            <a:off x="1532880" y="4181400"/>
            <a:ext cx="3598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3" name="TextBox 1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4" name="TextBox 12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85" name="Picture Placeholder 18" descr=""/>
          <p:cNvPicPr/>
          <p:nvPr/>
        </p:nvPicPr>
        <p:blipFill>
          <a:blip r:embed="rId1"/>
          <a:srcRect l="0" t="4969" r="0" b="4969"/>
          <a:stretch/>
        </p:blipFill>
        <p:spPr>
          <a:xfrm>
            <a:off x="5199120" y="1609560"/>
            <a:ext cx="3591000" cy="18194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Placeholder 15" descr=""/>
          <p:cNvPicPr/>
          <p:nvPr/>
        </p:nvPicPr>
        <p:blipFill>
          <a:blip r:embed="rId2"/>
          <a:srcRect l="31819" t="0" r="31819" b="0"/>
          <a:stretch/>
        </p:blipFill>
        <p:spPr>
          <a:xfrm>
            <a:off x="8856720" y="1609560"/>
            <a:ext cx="27432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5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Cross 3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8" name="Circle: Hollow 4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89" name="TextBox 10"/>
          <p:cNvSpPr/>
          <p:nvPr/>
        </p:nvSpPr>
        <p:spPr>
          <a:xfrm>
            <a:off x="1420920" y="1168560"/>
            <a:ext cx="4289400" cy="1068840"/>
          </a:xfrm>
          <a:prstGeom prst="rect">
            <a:avLst/>
          </a:prstGeom>
          <a:noFill/>
          <a:ln w="0">
            <a:noFill/>
          </a:ln>
          <a:effectLst>
            <a:outerShdw dist="38251" dir="2102171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eam Who Follows The Championship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0" name="TextBox 43"/>
          <p:cNvSpPr/>
          <p:nvPr/>
        </p:nvSpPr>
        <p:spPr>
          <a:xfrm flipH="1">
            <a:off x="7709040" y="5040360"/>
            <a:ext cx="29368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1" name="TextBox 44"/>
          <p:cNvSpPr/>
          <p:nvPr/>
        </p:nvSpPr>
        <p:spPr>
          <a:xfrm flipH="1">
            <a:off x="7709040" y="3795840"/>
            <a:ext cx="29368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2" name="TextBox 51"/>
          <p:cNvSpPr/>
          <p:nvPr/>
        </p:nvSpPr>
        <p:spPr>
          <a:xfrm>
            <a:off x="7635960" y="27162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aleway"/>
              </a:rPr>
              <a:t>25%</a:t>
            </a:r>
            <a:endParaRPr b="0" lang="en-US" sz="3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3" name="TextBox 52"/>
          <p:cNvSpPr/>
          <p:nvPr/>
        </p:nvSpPr>
        <p:spPr>
          <a:xfrm flipH="1">
            <a:off x="8894880" y="2792520"/>
            <a:ext cx="175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Karla"/>
                <a:ea typeface="Lato regular"/>
              </a:rPr>
              <a:t>Most of The Entered The Top 6</a:t>
            </a:r>
            <a:endParaRPr b="0" lang="en-US" sz="1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4" name="TextBox 14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895" name="TextBox 15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896" name="Picture Placeholder 27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1546200" y="244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Placeholder 29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3443400" y="244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Placeholder 31" descr=""/>
          <p:cNvPicPr/>
          <p:nvPr/>
        </p:nvPicPr>
        <p:blipFill>
          <a:blip r:embed="rId3"/>
          <a:srcRect l="21874" t="0" r="21874" b="0"/>
          <a:stretch/>
        </p:blipFill>
        <p:spPr>
          <a:xfrm>
            <a:off x="5338800" y="244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Placeholder 24" descr=""/>
          <p:cNvPicPr/>
          <p:nvPr/>
        </p:nvPicPr>
        <p:blipFill>
          <a:blip r:embed="rId4"/>
          <a:srcRect l="21874" t="0" r="21874" b="0"/>
          <a:stretch/>
        </p:blipFill>
        <p:spPr>
          <a:xfrm>
            <a:off x="5338800" y="432576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Placeholder 21" descr=""/>
          <p:cNvPicPr/>
          <p:nvPr/>
        </p:nvPicPr>
        <p:blipFill>
          <a:blip r:embed="rId5"/>
          <a:srcRect l="21874" t="0" r="21874" b="0"/>
          <a:stretch/>
        </p:blipFill>
        <p:spPr>
          <a:xfrm>
            <a:off x="3443400" y="432576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Placeholder 19" descr=""/>
          <p:cNvPicPr/>
          <p:nvPr/>
        </p:nvPicPr>
        <p:blipFill>
          <a:blip r:embed="rId6"/>
          <a:srcRect l="21874" t="0" r="21874" b="0"/>
          <a:stretch/>
        </p:blipFill>
        <p:spPr>
          <a:xfrm>
            <a:off x="1546200" y="4325760"/>
            <a:ext cx="180972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9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17"/>
          <p:cNvSpPr/>
          <p:nvPr/>
        </p:nvSpPr>
        <p:spPr>
          <a:xfrm>
            <a:off x="5664240" y="274680"/>
            <a:ext cx="4267080" cy="390996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3" name="TextBox 1"/>
          <p:cNvSpPr/>
          <p:nvPr/>
        </p:nvSpPr>
        <p:spPr>
          <a:xfrm>
            <a:off x="1444680" y="1170000"/>
            <a:ext cx="44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ourna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4" name="Cross 2"/>
          <p:cNvSpPr/>
          <p:nvPr/>
        </p:nvSpPr>
        <p:spPr>
          <a:xfrm rot="2700000">
            <a:off x="1083744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5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6" name="TextBox 18"/>
          <p:cNvSpPr/>
          <p:nvPr/>
        </p:nvSpPr>
        <p:spPr>
          <a:xfrm flipH="1">
            <a:off x="1513800" y="305424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First Features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7" name="TextBox 19"/>
          <p:cNvSpPr/>
          <p:nvPr/>
        </p:nvSpPr>
        <p:spPr>
          <a:xfrm flipH="1">
            <a:off x="1528920" y="3348000"/>
            <a:ext cx="2751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8" name="TextBox 20"/>
          <p:cNvSpPr/>
          <p:nvPr/>
        </p:nvSpPr>
        <p:spPr>
          <a:xfrm flipH="1">
            <a:off x="1513800" y="443376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econd Features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09" name="TextBox 21"/>
          <p:cNvSpPr/>
          <p:nvPr/>
        </p:nvSpPr>
        <p:spPr>
          <a:xfrm flipH="1">
            <a:off x="1528920" y="4729320"/>
            <a:ext cx="23572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0" name="TextBox 1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1" name="TextBox 11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912" name="Picture Placeholder 7" descr=""/>
          <p:cNvPicPr/>
          <p:nvPr/>
        </p:nvPicPr>
        <p:blipFill>
          <a:blip r:embed="rId1"/>
          <a:srcRect l="24283" t="0" r="24283" b="0"/>
          <a:stretch/>
        </p:blipFill>
        <p:spPr>
          <a:xfrm>
            <a:off x="6095880" y="685800"/>
            <a:ext cx="4546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5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0"/>
          <p:cNvSpPr/>
          <p:nvPr/>
        </p:nvSpPr>
        <p:spPr>
          <a:xfrm>
            <a:off x="4749840" y="4741920"/>
            <a:ext cx="2695680" cy="14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2001960" y="4741920"/>
            <a:ext cx="2695320" cy="140796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5" name="TextBox 1"/>
          <p:cNvSpPr/>
          <p:nvPr/>
        </p:nvSpPr>
        <p:spPr>
          <a:xfrm>
            <a:off x="1417680" y="116856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Event Benefit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6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7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8" name="Rectangle 13"/>
          <p:cNvSpPr/>
          <p:nvPr/>
        </p:nvSpPr>
        <p:spPr>
          <a:xfrm>
            <a:off x="7491240" y="4741920"/>
            <a:ext cx="2695680" cy="1407960"/>
          </a:xfrm>
          <a:prstGeom prst="rect">
            <a:avLst/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19" name="TextBox 14"/>
          <p:cNvSpPr/>
          <p:nvPr/>
        </p:nvSpPr>
        <p:spPr>
          <a:xfrm flipH="1">
            <a:off x="2589120" y="5033880"/>
            <a:ext cx="156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0" name="TextBox 15"/>
          <p:cNvSpPr/>
          <p:nvPr/>
        </p:nvSpPr>
        <p:spPr>
          <a:xfrm flipH="1">
            <a:off x="2589120" y="5346720"/>
            <a:ext cx="17431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</a:t>
            </a:r>
            <a:r>
              <a:rPr b="0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sit amet, consectetur adipiscing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1" name="TextBox 16"/>
          <p:cNvSpPr/>
          <p:nvPr/>
        </p:nvSpPr>
        <p:spPr>
          <a:xfrm flipH="1">
            <a:off x="5304600" y="5033880"/>
            <a:ext cx="156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2" name="TextBox 17"/>
          <p:cNvSpPr/>
          <p:nvPr/>
        </p:nvSpPr>
        <p:spPr>
          <a:xfrm flipH="1">
            <a:off x="5304600" y="5346720"/>
            <a:ext cx="17449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</a:t>
            </a:r>
            <a:r>
              <a:rPr b="0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sit amet, consectetur adipiscing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3" name="TextBox 18"/>
          <p:cNvSpPr/>
          <p:nvPr/>
        </p:nvSpPr>
        <p:spPr>
          <a:xfrm flipH="1">
            <a:off x="8012160" y="5033880"/>
            <a:ext cx="15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4" name="TextBox 19"/>
          <p:cNvSpPr/>
          <p:nvPr/>
        </p:nvSpPr>
        <p:spPr>
          <a:xfrm flipH="1">
            <a:off x="8005680" y="5346720"/>
            <a:ext cx="17431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sit amet, consectetur adipiscing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5" name="TextBox 22"/>
          <p:cNvSpPr/>
          <p:nvPr/>
        </p:nvSpPr>
        <p:spPr>
          <a:xfrm flipH="1">
            <a:off x="1521720" y="2427120"/>
            <a:ext cx="28861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6" name="TextBox 23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27" name="TextBox 25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928" name="Picture Placeholder 9" descr=""/>
          <p:cNvPicPr/>
          <p:nvPr/>
        </p:nvPicPr>
        <p:blipFill>
          <a:blip r:embed="rId1"/>
          <a:srcRect l="28980" t="0" r="28980" b="0"/>
          <a:stretch/>
        </p:blipFill>
        <p:spPr>
          <a:xfrm>
            <a:off x="5181480" y="673200"/>
            <a:ext cx="2743200" cy="3670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Placeholder 11" descr=""/>
          <p:cNvPicPr/>
          <p:nvPr/>
        </p:nvPicPr>
        <p:blipFill>
          <a:blip r:embed="rId2"/>
          <a:srcRect l="26524" t="0" r="26524" b="0"/>
          <a:stretch/>
        </p:blipFill>
        <p:spPr>
          <a:xfrm>
            <a:off x="9753480" y="1251000"/>
            <a:ext cx="1828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Placeholder 5" descr=""/>
          <p:cNvPicPr/>
          <p:nvPr/>
        </p:nvPicPr>
        <p:blipFill>
          <a:blip r:embed="rId1"/>
          <a:srcRect l="30862" t="0" r="30862" b="0"/>
          <a:stretch/>
        </p:blipFill>
        <p:spPr>
          <a:xfrm>
            <a:off x="6967440" y="674640"/>
            <a:ext cx="3740400" cy="54961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2"/>
          <p:cNvSpPr/>
          <p:nvPr/>
        </p:nvSpPr>
        <p:spPr>
          <a:xfrm>
            <a:off x="1427040" y="2673360"/>
            <a:ext cx="3740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169040" y="4497480"/>
            <a:ext cx="3311640" cy="10285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2" name="TextBox 9"/>
          <p:cNvSpPr/>
          <p:nvPr/>
        </p:nvSpPr>
        <p:spPr>
          <a:xfrm>
            <a:off x="7467480" y="4749840"/>
            <a:ext cx="35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Raleway"/>
              </a:rPr>
              <a:t>Approximately 25 Countries Participating in The Champion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1427040" y="3720960"/>
            <a:ext cx="3868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4" name="Cross 22"/>
          <p:cNvSpPr/>
          <p:nvPr/>
        </p:nvSpPr>
        <p:spPr>
          <a:xfrm rot="2700000">
            <a:off x="10451880" y="457200"/>
            <a:ext cx="436680" cy="43632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5" name="Circle: Hollow 17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6" name="TextBox 24"/>
          <p:cNvSpPr/>
          <p:nvPr/>
        </p:nvSpPr>
        <p:spPr>
          <a:xfrm>
            <a:off x="509760" y="6227640"/>
            <a:ext cx="207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www.gampoxchmpion.com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7" name="TextBox 26"/>
          <p:cNvSpPr/>
          <p:nvPr/>
        </p:nvSpPr>
        <p:spPr>
          <a:xfrm>
            <a:off x="1434960" y="1177920"/>
            <a:ext cx="43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Welcome To 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Gamers Best Crop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8" name="TextBox 1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Box 1"/>
          <p:cNvSpPr/>
          <p:nvPr/>
        </p:nvSpPr>
        <p:spPr>
          <a:xfrm>
            <a:off x="3824280" y="1174680"/>
            <a:ext cx="45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ournament Event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31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32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33" name="TextBox 18"/>
          <p:cNvSpPr/>
          <p:nvPr/>
        </p:nvSpPr>
        <p:spPr>
          <a:xfrm>
            <a:off x="1836720" y="515304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arla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34" name="Group 8"/>
          <p:cNvGrpSpPr/>
          <p:nvPr/>
        </p:nvGrpSpPr>
        <p:grpSpPr>
          <a:xfrm>
            <a:off x="2990520" y="5264280"/>
            <a:ext cx="1567080" cy="423720"/>
            <a:chOff x="2990520" y="5264280"/>
            <a:chExt cx="1567080" cy="423720"/>
          </a:xfrm>
        </p:grpSpPr>
        <p:sp>
          <p:nvSpPr>
            <p:cNvPr id="935" name="TextBox 19"/>
            <p:cNvSpPr/>
            <p:nvPr/>
          </p:nvSpPr>
          <p:spPr>
            <a:xfrm flipH="1">
              <a:off x="2990880" y="5264280"/>
              <a:ext cx="15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Tickets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36" name="TextBox 20"/>
            <p:cNvSpPr/>
            <p:nvPr/>
          </p:nvSpPr>
          <p:spPr>
            <a:xfrm flipH="1">
              <a:off x="2990160" y="5520240"/>
              <a:ext cx="12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Gamepox</a:t>
              </a:r>
              <a:endParaRPr b="0" lang="en-US" sz="11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37" name="TextBox 21"/>
          <p:cNvSpPr/>
          <p:nvPr/>
        </p:nvSpPr>
        <p:spPr>
          <a:xfrm>
            <a:off x="5108400" y="515304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Karla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38" name="Group 9"/>
          <p:cNvGrpSpPr/>
          <p:nvPr/>
        </p:nvGrpSpPr>
        <p:grpSpPr>
          <a:xfrm>
            <a:off x="6075000" y="5264280"/>
            <a:ext cx="1567080" cy="423720"/>
            <a:chOff x="6075000" y="5264280"/>
            <a:chExt cx="1567080" cy="423720"/>
          </a:xfrm>
        </p:grpSpPr>
        <p:sp>
          <p:nvSpPr>
            <p:cNvPr id="939" name="TextBox 22"/>
            <p:cNvSpPr/>
            <p:nvPr/>
          </p:nvSpPr>
          <p:spPr>
            <a:xfrm flipH="1">
              <a:off x="6075360" y="5264280"/>
              <a:ext cx="15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Tickets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40" name="TextBox 23"/>
            <p:cNvSpPr/>
            <p:nvPr/>
          </p:nvSpPr>
          <p:spPr>
            <a:xfrm flipH="1">
              <a:off x="6074640" y="5520240"/>
              <a:ext cx="12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Gamepox</a:t>
              </a:r>
              <a:endParaRPr b="0" lang="en-US" sz="11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41" name="TextBox 24"/>
          <p:cNvSpPr/>
          <p:nvPr/>
        </p:nvSpPr>
        <p:spPr>
          <a:xfrm>
            <a:off x="8275680" y="515304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fffff"/>
                </a:solidFill>
                <a:latin typeface="Karla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42" name="Group 11"/>
          <p:cNvGrpSpPr/>
          <p:nvPr/>
        </p:nvGrpSpPr>
        <p:grpSpPr>
          <a:xfrm>
            <a:off x="9136080" y="5264280"/>
            <a:ext cx="1565280" cy="423720"/>
            <a:chOff x="9136080" y="5264280"/>
            <a:chExt cx="1565280" cy="423720"/>
          </a:xfrm>
        </p:grpSpPr>
        <p:sp>
          <p:nvSpPr>
            <p:cNvPr id="943" name="TextBox 25"/>
            <p:cNvSpPr/>
            <p:nvPr/>
          </p:nvSpPr>
          <p:spPr>
            <a:xfrm flipH="1">
              <a:off x="9136080" y="5264280"/>
              <a:ext cx="15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Tickets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44" name="TextBox 26"/>
            <p:cNvSpPr/>
            <p:nvPr/>
          </p:nvSpPr>
          <p:spPr>
            <a:xfrm flipH="1">
              <a:off x="9136080" y="5520240"/>
              <a:ext cx="1230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Gamepox</a:t>
              </a:r>
              <a:endParaRPr b="0" lang="en-US" sz="11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 flipH="1">
            <a:off x="8141400" y="4203720"/>
            <a:ext cx="232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46" name="TextBox 35"/>
          <p:cNvSpPr/>
          <p:nvPr/>
        </p:nvSpPr>
        <p:spPr>
          <a:xfrm flipH="1">
            <a:off x="4931640" y="4203720"/>
            <a:ext cx="2327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47" name="TextBox 36"/>
          <p:cNvSpPr/>
          <p:nvPr/>
        </p:nvSpPr>
        <p:spPr>
          <a:xfrm flipH="1">
            <a:off x="1724040" y="4203720"/>
            <a:ext cx="2325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48" name="TextBox 27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49" name="TextBox 28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950" name="Picture Placeholder 17" descr=""/>
          <p:cNvPicPr/>
          <p:nvPr/>
        </p:nvPicPr>
        <p:blipFill>
          <a:blip r:embed="rId1"/>
          <a:srcRect l="21846" t="0" r="21846" b="0"/>
          <a:stretch/>
        </p:blipFill>
        <p:spPr>
          <a:xfrm>
            <a:off x="2084400" y="2109960"/>
            <a:ext cx="1623960" cy="1622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Placeholder 30" descr=""/>
          <p:cNvPicPr/>
          <p:nvPr/>
        </p:nvPicPr>
        <p:blipFill>
          <a:blip r:embed="rId2"/>
          <a:srcRect l="21846" t="0" r="21846" b="0"/>
          <a:stretch/>
        </p:blipFill>
        <p:spPr>
          <a:xfrm>
            <a:off x="5283360" y="2109960"/>
            <a:ext cx="1623960" cy="1622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Placeholder 32" descr=""/>
          <p:cNvPicPr/>
          <p:nvPr/>
        </p:nvPicPr>
        <p:blipFill>
          <a:blip r:embed="rId3"/>
          <a:srcRect l="21846" t="0" r="21846" b="0"/>
          <a:stretch/>
        </p:blipFill>
        <p:spPr>
          <a:xfrm>
            <a:off x="8493120" y="2109960"/>
            <a:ext cx="16239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1"/>
          <p:cNvSpPr/>
          <p:nvPr/>
        </p:nvSpPr>
        <p:spPr>
          <a:xfrm>
            <a:off x="1415880" y="1716120"/>
            <a:ext cx="37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Event Produc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54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55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56" name="TextBox 15"/>
          <p:cNvSpPr/>
          <p:nvPr/>
        </p:nvSpPr>
        <p:spPr>
          <a:xfrm flipH="1">
            <a:off x="1523160" y="2859120"/>
            <a:ext cx="364356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57" name="Group 18"/>
          <p:cNvGrpSpPr/>
          <p:nvPr/>
        </p:nvGrpSpPr>
        <p:grpSpPr>
          <a:xfrm>
            <a:off x="1523880" y="5052960"/>
            <a:ext cx="882720" cy="263520"/>
            <a:chOff x="1523880" y="5052960"/>
            <a:chExt cx="882720" cy="263520"/>
          </a:xfrm>
        </p:grpSpPr>
        <p:sp>
          <p:nvSpPr>
            <p:cNvPr id="958" name="Rectangle: Rounded Corners 19"/>
            <p:cNvSpPr/>
            <p:nvPr/>
          </p:nvSpPr>
          <p:spPr>
            <a:xfrm>
              <a:off x="1523880" y="5052960"/>
              <a:ext cx="882720" cy="263520"/>
            </a:xfrm>
            <a:prstGeom prst="roundRect">
              <a:avLst>
                <a:gd name="adj" fmla="val 50000"/>
              </a:avLst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59" name="TextBox 20"/>
            <p:cNvSpPr/>
            <p:nvPr/>
          </p:nvSpPr>
          <p:spPr>
            <a:xfrm>
              <a:off x="1685880" y="505296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Raleway"/>
                </a:rPr>
                <a:t>More</a:t>
              </a:r>
              <a:endParaRPr b="0" lang="en-US" sz="10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60" name="TextBox 1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61" name="TextBox 11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962" name="Picture Placeholder 13" descr=""/>
          <p:cNvPicPr/>
          <p:nvPr/>
        </p:nvPicPr>
        <p:blipFill>
          <a:blip r:embed="rId1"/>
          <a:srcRect l="29354" t="0" r="29354" b="0"/>
          <a:stretch/>
        </p:blipFill>
        <p:spPr>
          <a:xfrm>
            <a:off x="5864400" y="2008080"/>
            <a:ext cx="2576160" cy="3510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Placeholder 9" descr=""/>
          <p:cNvPicPr/>
          <p:nvPr/>
        </p:nvPicPr>
        <p:blipFill>
          <a:blip r:embed="rId2"/>
          <a:srcRect l="29358" t="0" r="29358" b="0"/>
          <a:stretch/>
        </p:blipFill>
        <p:spPr>
          <a:xfrm>
            <a:off x="8547120" y="552600"/>
            <a:ext cx="364500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Placeholder 2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2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6184800" y="3429000"/>
            <a:ext cx="4824360" cy="1467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1204920" y="3429000"/>
            <a:ext cx="4824360" cy="14670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68" name="TextBox 1"/>
          <p:cNvSpPr/>
          <p:nvPr/>
        </p:nvSpPr>
        <p:spPr>
          <a:xfrm>
            <a:off x="4221000" y="1182600"/>
            <a:ext cx="374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wo Tournament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69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70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71" name="TextBox 4"/>
          <p:cNvSpPr/>
          <p:nvPr/>
        </p:nvSpPr>
        <p:spPr>
          <a:xfrm flipH="1">
            <a:off x="2823480" y="2254320"/>
            <a:ext cx="65437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sed do eiusmod tempor incididunt ut labore dolore magna aliqua. enim minim dolor amet, adipiscing, eiusmod tempor incididunt ut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72" name="Group 17"/>
          <p:cNvGrpSpPr/>
          <p:nvPr/>
        </p:nvGrpSpPr>
        <p:grpSpPr>
          <a:xfrm>
            <a:off x="1506600" y="3608280"/>
            <a:ext cx="2341080" cy="1099440"/>
            <a:chOff x="1506600" y="3608280"/>
            <a:chExt cx="2341080" cy="1099440"/>
          </a:xfrm>
        </p:grpSpPr>
        <p:sp>
          <p:nvSpPr>
            <p:cNvPr id="973" name="TextBox 5"/>
            <p:cNvSpPr/>
            <p:nvPr/>
          </p:nvSpPr>
          <p:spPr>
            <a:xfrm>
              <a:off x="1506600" y="3608280"/>
              <a:ext cx="1599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Raleway"/>
                </a:rPr>
                <a:t>23</a:t>
              </a:r>
              <a:endParaRPr b="0" lang="en-US" sz="6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74" name="TextBox 6"/>
            <p:cNvSpPr/>
            <p:nvPr/>
          </p:nvSpPr>
          <p:spPr>
            <a:xfrm flipH="1">
              <a:off x="2751840" y="3933360"/>
              <a:ext cx="109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January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75" name="TextBox 7"/>
            <p:cNvSpPr/>
            <p:nvPr/>
          </p:nvSpPr>
          <p:spPr>
            <a:xfrm flipH="1">
              <a:off x="2751840" y="4230720"/>
              <a:ext cx="109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2020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76" name="TextBox 8"/>
          <p:cNvSpPr/>
          <p:nvPr/>
        </p:nvSpPr>
        <p:spPr>
          <a:xfrm flipH="1">
            <a:off x="3873600" y="3781440"/>
            <a:ext cx="21556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sit amet</a:t>
            </a:r>
            <a:r>
              <a:rPr b="0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, consectetur adipiscing elit, sed do eiusmod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77" name="Group 18"/>
          <p:cNvGrpSpPr/>
          <p:nvPr/>
        </p:nvGrpSpPr>
        <p:grpSpPr>
          <a:xfrm>
            <a:off x="6488280" y="3608280"/>
            <a:ext cx="2174400" cy="1099440"/>
            <a:chOff x="6488280" y="3608280"/>
            <a:chExt cx="2174400" cy="1099440"/>
          </a:xfrm>
        </p:grpSpPr>
        <p:sp>
          <p:nvSpPr>
            <p:cNvPr id="978" name="TextBox 9"/>
            <p:cNvSpPr/>
            <p:nvPr/>
          </p:nvSpPr>
          <p:spPr>
            <a:xfrm>
              <a:off x="6488280" y="3608280"/>
              <a:ext cx="1599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Raleway"/>
                </a:rPr>
                <a:t>19</a:t>
              </a:r>
              <a:endParaRPr b="0" lang="en-US" sz="6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79" name="TextBox 10"/>
            <p:cNvSpPr/>
            <p:nvPr/>
          </p:nvSpPr>
          <p:spPr>
            <a:xfrm flipH="1">
              <a:off x="7733160" y="3933360"/>
              <a:ext cx="92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March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80" name="TextBox 11"/>
            <p:cNvSpPr/>
            <p:nvPr/>
          </p:nvSpPr>
          <p:spPr>
            <a:xfrm flipH="1">
              <a:off x="7733160" y="4230720"/>
              <a:ext cx="92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2020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981" name="TextBox 12"/>
          <p:cNvSpPr/>
          <p:nvPr/>
        </p:nvSpPr>
        <p:spPr>
          <a:xfrm flipH="1">
            <a:off x="8853480" y="3781440"/>
            <a:ext cx="21556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9"/>
          <p:cNvSpPr/>
          <p:nvPr/>
        </p:nvSpPr>
        <p:spPr>
          <a:xfrm>
            <a:off x="5167440" y="4548240"/>
            <a:ext cx="3563640" cy="146664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3" name="Rectangle 8"/>
          <p:cNvSpPr/>
          <p:nvPr/>
        </p:nvSpPr>
        <p:spPr>
          <a:xfrm>
            <a:off x="1535040" y="4548240"/>
            <a:ext cx="3564000" cy="14666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1355760" y="990720"/>
            <a:ext cx="553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aleway"/>
              </a:rPr>
              <a:t>Break </a:t>
            </a:r>
            <a:endParaRPr b="0" lang="en-US" sz="6600" spc="-1" strike="noStrike">
              <a:solidFill>
                <a:srgbClr val="ffffff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aleway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Raleway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Raleway"/>
              </a:rPr>
              <a:t>Time</a:t>
            </a:r>
            <a:endParaRPr b="0" lang="en-US" sz="66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5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6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7" name="TextBox 4"/>
          <p:cNvSpPr/>
          <p:nvPr/>
        </p:nvSpPr>
        <p:spPr>
          <a:xfrm flipH="1">
            <a:off x="2397240" y="4941720"/>
            <a:ext cx="1566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13:00 Break Lunch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8" name="TextBox 5"/>
          <p:cNvSpPr/>
          <p:nvPr/>
        </p:nvSpPr>
        <p:spPr>
          <a:xfrm flipH="1">
            <a:off x="2396520" y="5254560"/>
            <a:ext cx="216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89" name="TextBox 6"/>
          <p:cNvSpPr/>
          <p:nvPr/>
        </p:nvSpPr>
        <p:spPr>
          <a:xfrm flipH="1">
            <a:off x="6027840" y="4995720"/>
            <a:ext cx="1566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Karla"/>
                <a:ea typeface="Lato regular"/>
              </a:rPr>
              <a:t>14:00 Finish Break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0" name="TextBox 7"/>
          <p:cNvSpPr/>
          <p:nvPr/>
        </p:nvSpPr>
        <p:spPr>
          <a:xfrm flipH="1">
            <a:off x="6027840" y="5308560"/>
            <a:ext cx="2162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404040"/>
                </a:solidFill>
                <a:latin typeface="Karla"/>
                <a:ea typeface="Lato regular"/>
              </a:rPr>
              <a:t>amet, consectetur adipiscing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1" name="TextBox 11"/>
          <p:cNvSpPr/>
          <p:nvPr/>
        </p:nvSpPr>
        <p:spPr>
          <a:xfrm flipH="1">
            <a:off x="1534320" y="3462480"/>
            <a:ext cx="65451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do eiusmod tempor incididunt ut labore dolore magna aliqua. enim minim dolor amet, adipiscing, eiusmod tempor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2" name="TextBox 12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3" name="TextBox 13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Box 1"/>
          <p:cNvSpPr/>
          <p:nvPr/>
        </p:nvSpPr>
        <p:spPr>
          <a:xfrm>
            <a:off x="5068800" y="1622520"/>
            <a:ext cx="46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Event Winners History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5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996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997" name="Group 12"/>
          <p:cNvGrpSpPr/>
          <p:nvPr/>
        </p:nvGrpSpPr>
        <p:grpSpPr>
          <a:xfrm>
            <a:off x="7286760" y="2658960"/>
            <a:ext cx="1998360" cy="1104840"/>
            <a:chOff x="7286760" y="2658960"/>
            <a:chExt cx="1998360" cy="1104840"/>
          </a:xfrm>
        </p:grpSpPr>
        <p:sp>
          <p:nvSpPr>
            <p:cNvPr id="998" name="Rectangle 16"/>
            <p:cNvSpPr/>
            <p:nvPr/>
          </p:nvSpPr>
          <p:spPr>
            <a:xfrm>
              <a:off x="7286760" y="2658960"/>
              <a:ext cx="1998360" cy="1104840"/>
            </a:xfrm>
            <a:prstGeom prst="rect">
              <a:avLst/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999" name="TextBox 5"/>
            <p:cNvSpPr/>
            <p:nvPr/>
          </p:nvSpPr>
          <p:spPr>
            <a:xfrm flipH="1">
              <a:off x="7635960" y="3294360"/>
              <a:ext cx="10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Canada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00" name="TextBox 8"/>
            <p:cNvSpPr/>
            <p:nvPr/>
          </p:nvSpPr>
          <p:spPr>
            <a:xfrm flipH="1">
              <a:off x="7635240" y="2873520"/>
              <a:ext cx="16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Victory C</a:t>
              </a:r>
              <a:endParaRPr b="0" lang="en-US" sz="2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1001" name="Group 14"/>
          <p:cNvGrpSpPr/>
          <p:nvPr/>
        </p:nvGrpSpPr>
        <p:grpSpPr>
          <a:xfrm>
            <a:off x="7286760" y="3871800"/>
            <a:ext cx="1998360" cy="1104840"/>
            <a:chOff x="7286760" y="3871800"/>
            <a:chExt cx="1998360" cy="1104840"/>
          </a:xfrm>
        </p:grpSpPr>
        <p:sp>
          <p:nvSpPr>
            <p:cNvPr id="1002" name="Rectangle 23"/>
            <p:cNvSpPr/>
            <p:nvPr/>
          </p:nvSpPr>
          <p:spPr>
            <a:xfrm>
              <a:off x="7286760" y="3871800"/>
              <a:ext cx="1998360" cy="11048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03" name="TextBox 7"/>
            <p:cNvSpPr/>
            <p:nvPr/>
          </p:nvSpPr>
          <p:spPr>
            <a:xfrm flipH="1">
              <a:off x="7635240" y="4479480"/>
              <a:ext cx="1302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Singapore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04" name="TextBox 10"/>
            <p:cNvSpPr/>
            <p:nvPr/>
          </p:nvSpPr>
          <p:spPr>
            <a:xfrm flipH="1">
              <a:off x="7635240" y="4048920"/>
              <a:ext cx="156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Victory D</a:t>
              </a:r>
              <a:endParaRPr b="0" lang="en-US" sz="2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1005" name="Group 11"/>
          <p:cNvGrpSpPr/>
          <p:nvPr/>
        </p:nvGrpSpPr>
        <p:grpSpPr>
          <a:xfrm>
            <a:off x="5186520" y="2658960"/>
            <a:ext cx="2000160" cy="1104840"/>
            <a:chOff x="5186520" y="2658960"/>
            <a:chExt cx="2000160" cy="1104840"/>
          </a:xfrm>
        </p:grpSpPr>
        <p:sp>
          <p:nvSpPr>
            <p:cNvPr id="1006" name="Rectangle 9"/>
            <p:cNvSpPr/>
            <p:nvPr/>
          </p:nvSpPr>
          <p:spPr>
            <a:xfrm>
              <a:off x="5186520" y="2658960"/>
              <a:ext cx="2000160" cy="11048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07" name="TextBox 4"/>
            <p:cNvSpPr/>
            <p:nvPr/>
          </p:nvSpPr>
          <p:spPr>
            <a:xfrm flipH="1">
              <a:off x="5449680" y="2873520"/>
              <a:ext cx="165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Victory A</a:t>
              </a:r>
              <a:endParaRPr b="0" lang="en-US" sz="24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08" name="TextBox 18"/>
            <p:cNvSpPr/>
            <p:nvPr/>
          </p:nvSpPr>
          <p:spPr>
            <a:xfrm flipH="1">
              <a:off x="5450400" y="3294360"/>
              <a:ext cx="137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Indonesia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1009" name="Group 13"/>
          <p:cNvGrpSpPr/>
          <p:nvPr/>
        </p:nvGrpSpPr>
        <p:grpSpPr>
          <a:xfrm>
            <a:off x="5180040" y="3871800"/>
            <a:ext cx="2000160" cy="1104840"/>
            <a:chOff x="5180040" y="3871800"/>
            <a:chExt cx="2000160" cy="1104840"/>
          </a:xfrm>
        </p:grpSpPr>
        <p:sp>
          <p:nvSpPr>
            <p:cNvPr id="1010" name="Rectangle 22"/>
            <p:cNvSpPr/>
            <p:nvPr/>
          </p:nvSpPr>
          <p:spPr>
            <a:xfrm>
              <a:off x="5180040" y="3871800"/>
              <a:ext cx="2000160" cy="11048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11" name="TextBox 6"/>
            <p:cNvSpPr/>
            <p:nvPr/>
          </p:nvSpPr>
          <p:spPr>
            <a:xfrm flipH="1">
              <a:off x="5411520" y="4029840"/>
              <a:ext cx="156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Victory B</a:t>
              </a:r>
              <a:endParaRPr b="0" lang="en-US" sz="24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12" name="TextBox 19"/>
            <p:cNvSpPr/>
            <p:nvPr/>
          </p:nvSpPr>
          <p:spPr>
            <a:xfrm flipH="1">
              <a:off x="5411520" y="4460400"/>
              <a:ext cx="14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Australia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1013" name="TextBox 2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15" name="Picture Placeholder 29" descr=""/>
          <p:cNvPicPr/>
          <p:nvPr/>
        </p:nvPicPr>
        <p:blipFill>
          <a:blip r:embed="rId1"/>
          <a:srcRect l="21858" t="0" r="21858" b="0"/>
          <a:stretch/>
        </p:blipFill>
        <p:spPr>
          <a:xfrm>
            <a:off x="1517760" y="797040"/>
            <a:ext cx="2601720" cy="26002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Placeholder 31" descr=""/>
          <p:cNvPicPr/>
          <p:nvPr/>
        </p:nvPicPr>
        <p:blipFill>
          <a:blip r:embed="rId2"/>
          <a:srcRect l="21858" t="0" r="21858" b="0"/>
          <a:stretch/>
        </p:blipFill>
        <p:spPr>
          <a:xfrm>
            <a:off x="1517760" y="3452760"/>
            <a:ext cx="2601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1"/>
          <p:cNvSpPr/>
          <p:nvPr/>
        </p:nvSpPr>
        <p:spPr>
          <a:xfrm>
            <a:off x="1440000" y="1174680"/>
            <a:ext cx="307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Tournament Value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18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19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1413000" y="3049560"/>
            <a:ext cx="29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"/>
              </a:rPr>
              <a:t>USD  5M</a:t>
            </a:r>
            <a:endParaRPr b="0" lang="en-US" sz="2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1" name="TextBox 5"/>
          <p:cNvSpPr/>
          <p:nvPr/>
        </p:nvSpPr>
        <p:spPr>
          <a:xfrm flipH="1">
            <a:off x="1504080" y="4229280"/>
            <a:ext cx="3630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2" name="TextBox 10"/>
          <p:cNvSpPr/>
          <p:nvPr/>
        </p:nvSpPr>
        <p:spPr>
          <a:xfrm flipH="1">
            <a:off x="1522440" y="391320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Victory A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3" name="Rectangle 15"/>
          <p:cNvSpPr/>
          <p:nvPr/>
        </p:nvSpPr>
        <p:spPr>
          <a:xfrm>
            <a:off x="6888240" y="3489480"/>
            <a:ext cx="1811160" cy="181116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4" name="Rectangle 16"/>
          <p:cNvSpPr/>
          <p:nvPr/>
        </p:nvSpPr>
        <p:spPr>
          <a:xfrm>
            <a:off x="8788320" y="1577880"/>
            <a:ext cx="1811520" cy="18115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5" name="TextBox 11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26" name="TextBox 13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27" name="Picture Placeholder 18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6095880" y="779400"/>
            <a:ext cx="2649600" cy="2649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Placeholder 20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8745480" y="3429000"/>
            <a:ext cx="2649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13"/>
          <p:cNvSpPr/>
          <p:nvPr/>
        </p:nvSpPr>
        <p:spPr>
          <a:xfrm>
            <a:off x="6095880" y="2997360"/>
            <a:ext cx="4557960" cy="2732040"/>
          </a:xfrm>
          <a:prstGeom prst="rect">
            <a:avLst/>
          </a:prstGeom>
          <a:solidFill>
            <a:srgbClr val="ff0984"/>
          </a:solidFill>
          <a:ln w="12600">
            <a:solidFill>
              <a:srgbClr val="8c2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30" name="TextBox 1"/>
          <p:cNvSpPr/>
          <p:nvPr/>
        </p:nvSpPr>
        <p:spPr>
          <a:xfrm>
            <a:off x="4221000" y="1170000"/>
            <a:ext cx="374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Youth  Championship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31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32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33" name="TextBox 5"/>
          <p:cNvSpPr/>
          <p:nvPr/>
        </p:nvSpPr>
        <p:spPr>
          <a:xfrm flipH="1">
            <a:off x="6645240" y="3368520"/>
            <a:ext cx="36100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enim minim dolor ame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1034" name="Group 4"/>
          <p:cNvGrpSpPr/>
          <p:nvPr/>
        </p:nvGrpSpPr>
        <p:grpSpPr>
          <a:xfrm>
            <a:off x="6523200" y="4278240"/>
            <a:ext cx="2813040" cy="1099440"/>
            <a:chOff x="6523200" y="4278240"/>
            <a:chExt cx="2813040" cy="1099440"/>
          </a:xfrm>
        </p:grpSpPr>
        <p:sp>
          <p:nvSpPr>
            <p:cNvPr id="1035" name="TextBox 6"/>
            <p:cNvSpPr/>
            <p:nvPr/>
          </p:nvSpPr>
          <p:spPr>
            <a:xfrm>
              <a:off x="6523200" y="4278240"/>
              <a:ext cx="1600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Raleway"/>
                </a:rPr>
                <a:t>20</a:t>
              </a:r>
              <a:endParaRPr b="0" lang="en-US" sz="6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36" name="TextBox 7"/>
            <p:cNvSpPr/>
            <p:nvPr/>
          </p:nvSpPr>
          <p:spPr>
            <a:xfrm flipH="1">
              <a:off x="7769520" y="4603320"/>
              <a:ext cx="15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April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37" name="TextBox 8"/>
            <p:cNvSpPr/>
            <p:nvPr/>
          </p:nvSpPr>
          <p:spPr>
            <a:xfrm flipH="1">
              <a:off x="7769520" y="4900680"/>
              <a:ext cx="15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2020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1038" name="TextBox 9"/>
          <p:cNvSpPr/>
          <p:nvPr/>
        </p:nvSpPr>
        <p:spPr>
          <a:xfrm flipH="1">
            <a:off x="8449560" y="4346640"/>
            <a:ext cx="1854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39" name="TextBox 11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0" name="TextBox 14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41" name="Picture Placeholder 17" descr=""/>
          <p:cNvPicPr/>
          <p:nvPr/>
        </p:nvPicPr>
        <p:blipFill>
          <a:blip r:embed="rId1"/>
          <a:srcRect l="3083" t="0" r="3083" b="0"/>
          <a:stretch/>
        </p:blipFill>
        <p:spPr>
          <a:xfrm>
            <a:off x="1538280" y="2984400"/>
            <a:ext cx="45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Placeholder 8" descr=""/>
          <p:cNvPicPr/>
          <p:nvPr/>
        </p:nvPicPr>
        <p:blipFill>
          <a:blip r:embed="rId1"/>
          <a:srcRect l="0" t="10617" r="0" b="10617"/>
          <a:stretch/>
        </p:blipFill>
        <p:spPr>
          <a:xfrm>
            <a:off x="1546200" y="3701880"/>
            <a:ext cx="5549760" cy="245916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10"/>
          <p:cNvSpPr/>
          <p:nvPr/>
        </p:nvSpPr>
        <p:spPr>
          <a:xfrm>
            <a:off x="1546200" y="3701880"/>
            <a:ext cx="5549760" cy="2459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4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5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6" name="TextBox 5"/>
          <p:cNvSpPr/>
          <p:nvPr/>
        </p:nvSpPr>
        <p:spPr>
          <a:xfrm>
            <a:off x="1428840" y="1168560"/>
            <a:ext cx="37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Youth Arena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5783400" y="4040280"/>
            <a:ext cx="1801800" cy="1800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7664400" y="4040280"/>
            <a:ext cx="1800360" cy="18000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1049" name="Group 13"/>
          <p:cNvGrpSpPr/>
          <p:nvPr/>
        </p:nvGrpSpPr>
        <p:grpSpPr>
          <a:xfrm>
            <a:off x="6516720" y="4543560"/>
            <a:ext cx="334800" cy="366480"/>
            <a:chOff x="6516720" y="4543560"/>
            <a:chExt cx="334800" cy="366480"/>
          </a:xfrm>
        </p:grpSpPr>
        <p:sp>
          <p:nvSpPr>
            <p:cNvPr id="1050" name="Freeform 108"/>
            <p:cNvSpPr/>
            <p:nvPr/>
          </p:nvSpPr>
          <p:spPr>
            <a:xfrm>
              <a:off x="6516720" y="4543560"/>
              <a:ext cx="334800" cy="36648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74" y="80"/>
                  </a:moveTo>
                  <a:cubicBezTo>
                    <a:pt x="63" y="80"/>
                    <a:pt x="63" y="80"/>
                    <a:pt x="63" y="8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71" y="65"/>
                    <a:pt x="77" y="57"/>
                    <a:pt x="78" y="48"/>
                  </a:cubicBezTo>
                  <a:cubicBezTo>
                    <a:pt x="80" y="45"/>
                    <a:pt x="81" y="42"/>
                    <a:pt x="81" y="38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29"/>
                    <a:pt x="80" y="26"/>
                    <a:pt x="78" y="25"/>
                  </a:cubicBezTo>
                  <a:cubicBezTo>
                    <a:pt x="75" y="11"/>
                    <a:pt x="63" y="0"/>
                    <a:pt x="48" y="0"/>
                  </a:cubicBezTo>
                  <a:cubicBezTo>
                    <a:pt x="39" y="0"/>
                    <a:pt x="31" y="3"/>
                    <a:pt x="26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7"/>
                    <a:pt x="12" y="22"/>
                    <a:pt x="17" y="25"/>
                  </a:cubicBezTo>
                  <a:cubicBezTo>
                    <a:pt x="16" y="26"/>
                    <a:pt x="15" y="27"/>
                    <a:pt x="14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0" y="28"/>
                    <a:pt x="7" y="30"/>
                    <a:pt x="7" y="32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3" y="35"/>
                    <a:pt x="0" y="39"/>
                    <a:pt x="0" y="43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4" y="65"/>
                    <a:pt x="17" y="68"/>
                    <a:pt x="17" y="71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1" y="83"/>
                    <a:pt x="7" y="88"/>
                    <a:pt x="7" y="94"/>
                  </a:cubicBezTo>
                  <a:cubicBezTo>
                    <a:pt x="7" y="96"/>
                    <a:pt x="7" y="96"/>
                    <a:pt x="7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0"/>
                    <a:pt x="13" y="86"/>
                    <a:pt x="17" y="8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20" y="83"/>
                    <a:pt x="20" y="83"/>
                    <a:pt x="20" y="83"/>
                  </a:cubicBezTo>
                  <a:cubicBezTo>
                    <a:pt x="20" y="83"/>
                    <a:pt x="21" y="83"/>
                    <a:pt x="21" y="83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62" y="83"/>
                    <a:pt x="62" y="83"/>
                    <a:pt x="62" y="83"/>
                  </a:cubicBezTo>
                  <a:cubicBezTo>
                    <a:pt x="74" y="83"/>
                    <a:pt x="74" y="83"/>
                    <a:pt x="74" y="83"/>
                  </a:cubicBezTo>
                  <a:cubicBezTo>
                    <a:pt x="80" y="83"/>
                    <a:pt x="85" y="88"/>
                    <a:pt x="85" y="94"/>
                  </a:cubicBezTo>
                  <a:cubicBezTo>
                    <a:pt x="85" y="96"/>
                    <a:pt x="85" y="96"/>
                    <a:pt x="85" y="96"/>
                  </a:cubicBezTo>
                  <a:cubicBezTo>
                    <a:pt x="88" y="96"/>
                    <a:pt x="88" y="96"/>
                    <a:pt x="88" y="96"/>
                  </a:cubicBezTo>
                  <a:cubicBezTo>
                    <a:pt x="88" y="94"/>
                    <a:pt x="88" y="94"/>
                    <a:pt x="88" y="94"/>
                  </a:cubicBezTo>
                  <a:cubicBezTo>
                    <a:pt x="88" y="86"/>
                    <a:pt x="81" y="80"/>
                    <a:pt x="74" y="80"/>
                  </a:cubicBezTo>
                  <a:close/>
                  <a:moveTo>
                    <a:pt x="12" y="12"/>
                  </a:move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33" y="6"/>
                    <a:pt x="40" y="3"/>
                    <a:pt x="48" y="3"/>
                  </a:cubicBezTo>
                  <a:cubicBezTo>
                    <a:pt x="60" y="3"/>
                    <a:pt x="72" y="12"/>
                    <a:pt x="75" y="25"/>
                  </a:cubicBezTo>
                  <a:cubicBezTo>
                    <a:pt x="71" y="24"/>
                    <a:pt x="67" y="22"/>
                    <a:pt x="66" y="19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8" y="22"/>
                    <a:pt x="55" y="25"/>
                    <a:pt x="51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19" y="25"/>
                    <a:pt x="13" y="19"/>
                    <a:pt x="12" y="12"/>
                  </a:cubicBezTo>
                  <a:close/>
                  <a:moveTo>
                    <a:pt x="67" y="25"/>
                  </a:moveTo>
                  <a:cubicBezTo>
                    <a:pt x="59" y="25"/>
                    <a:pt x="59" y="25"/>
                    <a:pt x="59" y="25"/>
                  </a:cubicBezTo>
                  <a:cubicBezTo>
                    <a:pt x="61" y="23"/>
                    <a:pt x="62" y="22"/>
                    <a:pt x="63" y="20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3" y="20"/>
                    <a:pt x="63" y="20"/>
                    <a:pt x="63" y="20"/>
                  </a:cubicBezTo>
                  <a:cubicBezTo>
                    <a:pt x="64" y="22"/>
                    <a:pt x="65" y="23"/>
                    <a:pt x="67" y="25"/>
                  </a:cubicBezTo>
                  <a:close/>
                  <a:moveTo>
                    <a:pt x="17" y="31"/>
                  </a:moveTo>
                  <a:cubicBezTo>
                    <a:pt x="17" y="29"/>
                    <a:pt x="18" y="28"/>
                    <a:pt x="20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7" y="28"/>
                    <a:pt x="78" y="29"/>
                    <a:pt x="78" y="32"/>
                  </a:cubicBezTo>
                  <a:cubicBezTo>
                    <a:pt x="78" y="38"/>
                    <a:pt x="78" y="38"/>
                    <a:pt x="78" y="38"/>
                  </a:cubicBezTo>
                  <a:cubicBezTo>
                    <a:pt x="78" y="43"/>
                    <a:pt x="75" y="48"/>
                    <a:pt x="71" y="49"/>
                  </a:cubicBezTo>
                  <a:cubicBezTo>
                    <a:pt x="67" y="50"/>
                    <a:pt x="63" y="49"/>
                    <a:pt x="60" y="47"/>
                  </a:cubicBezTo>
                  <a:cubicBezTo>
                    <a:pt x="60" y="46"/>
                    <a:pt x="60" y="46"/>
                    <a:pt x="60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2" y="49"/>
                    <a:pt x="29" y="50"/>
                    <a:pt x="25" y="49"/>
                  </a:cubicBezTo>
                  <a:cubicBezTo>
                    <a:pt x="20" y="48"/>
                    <a:pt x="17" y="44"/>
                    <a:pt x="17" y="38"/>
                  </a:cubicBezTo>
                  <a:lnTo>
                    <a:pt x="17" y="31"/>
                  </a:lnTo>
                  <a:close/>
                  <a:moveTo>
                    <a:pt x="11" y="32"/>
                  </a:moveTo>
                  <a:cubicBezTo>
                    <a:pt x="11" y="32"/>
                    <a:pt x="11" y="31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1" y="40"/>
                    <a:pt x="11" y="39"/>
                    <a:pt x="11" y="39"/>
                  </a:cubicBezTo>
                  <a:lnTo>
                    <a:pt x="11" y="32"/>
                  </a:lnTo>
                  <a:close/>
                  <a:moveTo>
                    <a:pt x="32" y="80"/>
                  </a:moveTo>
                  <a:cubicBezTo>
                    <a:pt x="21" y="80"/>
                    <a:pt x="21" y="80"/>
                    <a:pt x="21" y="80"/>
                  </a:cubicBezTo>
                  <a:cubicBezTo>
                    <a:pt x="21" y="80"/>
                    <a:pt x="20" y="80"/>
                    <a:pt x="20" y="80"/>
                  </a:cubicBezTo>
                  <a:cubicBezTo>
                    <a:pt x="20" y="71"/>
                    <a:pt x="20" y="71"/>
                    <a:pt x="20" y="71"/>
                  </a:cubicBezTo>
                  <a:cubicBezTo>
                    <a:pt x="20" y="66"/>
                    <a:pt x="16" y="62"/>
                    <a:pt x="11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6" y="62"/>
                    <a:pt x="3" y="59"/>
                    <a:pt x="3" y="55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3" y="40"/>
                    <a:pt x="5" y="38"/>
                    <a:pt x="7" y="37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1"/>
                    <a:pt x="10" y="43"/>
                    <a:pt x="12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45"/>
                    <a:pt x="16" y="46"/>
                    <a:pt x="17" y="47"/>
                  </a:cubicBezTo>
                  <a:cubicBezTo>
                    <a:pt x="18" y="57"/>
                    <a:pt x="24" y="65"/>
                    <a:pt x="32" y="70"/>
                  </a:cubicBezTo>
                  <a:cubicBezTo>
                    <a:pt x="32" y="70"/>
                    <a:pt x="32" y="70"/>
                    <a:pt x="32" y="70"/>
                  </a:cubicBezTo>
                  <a:lnTo>
                    <a:pt x="32" y="80"/>
                  </a:lnTo>
                  <a:close/>
                  <a:moveTo>
                    <a:pt x="60" y="81"/>
                  </a:moveTo>
                  <a:cubicBezTo>
                    <a:pt x="48" y="91"/>
                    <a:pt x="48" y="91"/>
                    <a:pt x="48" y="9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71"/>
                    <a:pt x="35" y="71"/>
                    <a:pt x="35" y="71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41" y="75"/>
                    <a:pt x="44" y="76"/>
                    <a:pt x="48" y="76"/>
                  </a:cubicBezTo>
                  <a:cubicBezTo>
                    <a:pt x="51" y="76"/>
                    <a:pt x="54" y="75"/>
                    <a:pt x="57" y="73"/>
                  </a:cubicBezTo>
                  <a:cubicBezTo>
                    <a:pt x="60" y="71"/>
                    <a:pt x="60" y="71"/>
                    <a:pt x="60" y="71"/>
                  </a:cubicBezTo>
                  <a:lnTo>
                    <a:pt x="60" y="81"/>
                  </a:lnTo>
                  <a:close/>
                  <a:moveTo>
                    <a:pt x="62" y="67"/>
                  </a:moveTo>
                  <a:cubicBezTo>
                    <a:pt x="55" y="70"/>
                    <a:pt x="55" y="70"/>
                    <a:pt x="55" y="70"/>
                  </a:cubicBezTo>
                  <a:cubicBezTo>
                    <a:pt x="51" y="73"/>
                    <a:pt x="44" y="73"/>
                    <a:pt x="40" y="70"/>
                  </a:cubicBezTo>
                  <a:cubicBezTo>
                    <a:pt x="33" y="67"/>
                    <a:pt x="33" y="67"/>
                    <a:pt x="33" y="67"/>
                  </a:cubicBezTo>
                  <a:cubicBezTo>
                    <a:pt x="27" y="63"/>
                    <a:pt x="23" y="57"/>
                    <a:pt x="21" y="51"/>
                  </a:cubicBezTo>
                  <a:cubicBezTo>
                    <a:pt x="22" y="51"/>
                    <a:pt x="23" y="52"/>
                    <a:pt x="25" y="52"/>
                  </a:cubicBezTo>
                  <a:cubicBezTo>
                    <a:pt x="29" y="53"/>
                    <a:pt x="33" y="52"/>
                    <a:pt x="36" y="49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61" y="51"/>
                    <a:pt x="64" y="52"/>
                    <a:pt x="68" y="52"/>
                  </a:cubicBezTo>
                  <a:cubicBezTo>
                    <a:pt x="69" y="52"/>
                    <a:pt x="70" y="52"/>
                    <a:pt x="72" y="52"/>
                  </a:cubicBezTo>
                  <a:cubicBezTo>
                    <a:pt x="72" y="52"/>
                    <a:pt x="73" y="51"/>
                    <a:pt x="74" y="51"/>
                  </a:cubicBezTo>
                  <a:cubicBezTo>
                    <a:pt x="72" y="57"/>
                    <a:pt x="68" y="63"/>
                    <a:pt x="62" y="67"/>
                  </a:cubicBezTo>
                  <a:close/>
                  <a:moveTo>
                    <a:pt x="62" y="67"/>
                  </a:moveTo>
                  <a:cubicBezTo>
                    <a:pt x="62" y="67"/>
                    <a:pt x="62" y="67"/>
                    <a:pt x="62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51" name="Rectangle 109"/>
            <p:cNvSpPr/>
            <p:nvPr/>
          </p:nvSpPr>
          <p:spPr>
            <a:xfrm>
              <a:off x="6604920" y="4692600"/>
              <a:ext cx="15444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52" name="Rectangle 110"/>
            <p:cNvSpPr/>
            <p:nvPr/>
          </p:nvSpPr>
          <p:spPr>
            <a:xfrm>
              <a:off x="6775560" y="4692600"/>
              <a:ext cx="1404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1053" name="TextBox 32"/>
          <p:cNvSpPr/>
          <p:nvPr/>
        </p:nvSpPr>
        <p:spPr>
          <a:xfrm>
            <a:off x="5846760" y="502920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54" name="Group 17" descr=""/>
          <p:cNvPicPr/>
          <p:nvPr/>
        </p:nvPicPr>
        <p:blipFill>
          <a:blip r:embed="rId2"/>
          <a:stretch/>
        </p:blipFill>
        <p:spPr>
          <a:xfrm>
            <a:off x="8381880" y="4548240"/>
            <a:ext cx="365400" cy="358560"/>
          </a:xfrm>
          <a:prstGeom prst="rect">
            <a:avLst/>
          </a:prstGeom>
          <a:ln w="0">
            <a:noFill/>
          </a:ln>
        </p:spPr>
      </p:pic>
      <p:sp>
        <p:nvSpPr>
          <p:cNvPr id="1055" name="TextBox 33"/>
          <p:cNvSpPr/>
          <p:nvPr/>
        </p:nvSpPr>
        <p:spPr>
          <a:xfrm>
            <a:off x="7728120" y="5027760"/>
            <a:ext cx="16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56" name="TextBox 37"/>
          <p:cNvSpPr/>
          <p:nvPr/>
        </p:nvSpPr>
        <p:spPr>
          <a:xfrm flipH="1">
            <a:off x="1504800" y="2286000"/>
            <a:ext cx="50119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57" name="Rectangle 39"/>
          <p:cNvSpPr/>
          <p:nvPr/>
        </p:nvSpPr>
        <p:spPr>
          <a:xfrm>
            <a:off x="7935840" y="2128680"/>
            <a:ext cx="3657600" cy="1300320"/>
          </a:xfrm>
          <a:prstGeom prst="rect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58" name="TextBox 40"/>
          <p:cNvSpPr/>
          <p:nvPr/>
        </p:nvSpPr>
        <p:spPr>
          <a:xfrm flipH="1">
            <a:off x="9748080" y="4362480"/>
            <a:ext cx="19558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1059" name="Group 1"/>
          <p:cNvGrpSpPr/>
          <p:nvPr/>
        </p:nvGrpSpPr>
        <p:grpSpPr>
          <a:xfrm>
            <a:off x="8142120" y="2448000"/>
            <a:ext cx="3255840" cy="642600"/>
            <a:chOff x="8142120" y="2448000"/>
            <a:chExt cx="3255840" cy="642600"/>
          </a:xfrm>
        </p:grpSpPr>
        <p:sp>
          <p:nvSpPr>
            <p:cNvPr id="1060" name="TextBox 41"/>
            <p:cNvSpPr/>
            <p:nvPr/>
          </p:nvSpPr>
          <p:spPr>
            <a:xfrm>
              <a:off x="8142120" y="2448000"/>
              <a:ext cx="13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rla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61" name="TextBox 42"/>
            <p:cNvSpPr/>
            <p:nvPr/>
          </p:nvSpPr>
          <p:spPr>
            <a:xfrm flipH="1">
              <a:off x="9400680" y="2448000"/>
              <a:ext cx="15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Tickets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1062" name="TextBox 43"/>
            <p:cNvSpPr/>
            <p:nvPr/>
          </p:nvSpPr>
          <p:spPr>
            <a:xfrm flipH="1">
              <a:off x="9399960" y="2746080"/>
              <a:ext cx="199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For Teenagers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1063" name="TextBox 38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64" name="TextBox 44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Placeholder 10" descr=""/>
          <p:cNvPicPr/>
          <p:nvPr/>
        </p:nvPicPr>
        <p:blipFill>
          <a:blip r:embed="rId1"/>
          <a:srcRect l="35902" t="0" r="35902" b="0"/>
          <a:stretch/>
        </p:blipFill>
        <p:spPr>
          <a:xfrm>
            <a:off x="1546200" y="1979640"/>
            <a:ext cx="1820880" cy="363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Placeholder 12" descr=""/>
          <p:cNvPicPr/>
          <p:nvPr/>
        </p:nvPicPr>
        <p:blipFill>
          <a:blip r:embed="rId2"/>
          <a:srcRect l="35902" t="0" r="35902" b="0"/>
          <a:stretch/>
        </p:blipFill>
        <p:spPr>
          <a:xfrm>
            <a:off x="8825040" y="1979640"/>
            <a:ext cx="1820880" cy="3632040"/>
          </a:xfrm>
          <a:prstGeom prst="rect">
            <a:avLst/>
          </a:prstGeom>
          <a:ln w="0">
            <a:noFill/>
          </a:ln>
        </p:spPr>
      </p:pic>
      <p:sp>
        <p:nvSpPr>
          <p:cNvPr id="1067" name="TextBox 1"/>
          <p:cNvSpPr/>
          <p:nvPr/>
        </p:nvSpPr>
        <p:spPr>
          <a:xfrm>
            <a:off x="4229280" y="2668680"/>
            <a:ext cx="37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Head to Head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68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69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0" name="TextBox 5"/>
          <p:cNvSpPr/>
          <p:nvPr/>
        </p:nvSpPr>
        <p:spPr>
          <a:xfrm flipH="1">
            <a:off x="4067280" y="3794040"/>
            <a:ext cx="4076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1" name="Rectangle 24"/>
          <p:cNvSpPr/>
          <p:nvPr/>
        </p:nvSpPr>
        <p:spPr>
          <a:xfrm>
            <a:off x="1546200" y="4529160"/>
            <a:ext cx="1820880" cy="10825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8825040" y="4529160"/>
            <a:ext cx="1820880" cy="108252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3" name="TextBox 28"/>
          <p:cNvSpPr/>
          <p:nvPr/>
        </p:nvSpPr>
        <p:spPr>
          <a:xfrm flipH="1">
            <a:off x="2023920" y="4692600"/>
            <a:ext cx="86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Team A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4" name="TextBox 29"/>
          <p:cNvSpPr/>
          <p:nvPr/>
        </p:nvSpPr>
        <p:spPr>
          <a:xfrm flipH="1">
            <a:off x="1952640" y="4924440"/>
            <a:ext cx="100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Karla"/>
                <a:ea typeface="Lato regular"/>
              </a:rPr>
              <a:t>Singapore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75" name="Group 30" descr=""/>
          <p:cNvPicPr/>
          <p:nvPr/>
        </p:nvPicPr>
        <p:blipFill>
          <a:blip r:embed="rId3"/>
          <a:stretch/>
        </p:blipFill>
        <p:spPr>
          <a:xfrm>
            <a:off x="2176560" y="5261040"/>
            <a:ext cx="560160" cy="10944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39"/>
          <p:cNvSpPr/>
          <p:nvPr/>
        </p:nvSpPr>
        <p:spPr>
          <a:xfrm flipH="1">
            <a:off x="9302040" y="4692600"/>
            <a:ext cx="86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Karla"/>
                <a:ea typeface="Lato regular"/>
              </a:rPr>
              <a:t>Team B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77" name="TextBox 40"/>
          <p:cNvSpPr/>
          <p:nvPr/>
        </p:nvSpPr>
        <p:spPr>
          <a:xfrm flipH="1">
            <a:off x="9177480" y="4924440"/>
            <a:ext cx="111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Karla"/>
                <a:ea typeface="Lato regular"/>
              </a:rPr>
              <a:t>Indonesia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78" name="Group 41" descr=""/>
          <p:cNvPicPr/>
          <p:nvPr/>
        </p:nvPicPr>
        <p:blipFill>
          <a:blip r:embed="rId4"/>
          <a:stretch/>
        </p:blipFill>
        <p:spPr>
          <a:xfrm>
            <a:off x="9455040" y="5261040"/>
            <a:ext cx="560520" cy="109440"/>
          </a:xfrm>
          <a:prstGeom prst="rect">
            <a:avLst/>
          </a:prstGeom>
          <a:ln w="0">
            <a:noFill/>
          </a:ln>
        </p:spPr>
      </p:pic>
      <p:sp>
        <p:nvSpPr>
          <p:cNvPr id="1079" name="TextBox 50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0" name="TextBox 51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2" name="Freeform 3"/>
          <p:cNvSpPr/>
          <p:nvPr/>
        </p:nvSpPr>
        <p:spPr>
          <a:xfrm>
            <a:off x="0" y="2087640"/>
            <a:ext cx="6095880" cy="4770360"/>
          </a:xfrm>
          <a:custGeom>
            <a:avLst/>
            <a:gdLst/>
            <a:ahLst/>
            <a:rect l="l" t="t" r="r" b="b"/>
            <a:pathLst>
              <a:path w="6095999" h="4770408">
                <a:moveTo>
                  <a:pt x="0" y="0"/>
                </a:moveTo>
                <a:lnTo>
                  <a:pt x="3710795" y="0"/>
                </a:lnTo>
                <a:lnTo>
                  <a:pt x="6095999" y="2385204"/>
                </a:lnTo>
                <a:lnTo>
                  <a:pt x="6095999" y="4770408"/>
                </a:lnTo>
                <a:lnTo>
                  <a:pt x="0" y="4770408"/>
                </a:lnTo>
                <a:lnTo>
                  <a:pt x="0" y="0"/>
                </a:lnTo>
                <a:close/>
              </a:path>
            </a:pathLst>
          </a:cu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3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4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5" name="TextBox 7"/>
          <p:cNvSpPr/>
          <p:nvPr/>
        </p:nvSpPr>
        <p:spPr>
          <a:xfrm>
            <a:off x="1131840" y="2857680"/>
            <a:ext cx="28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Contact U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1801800" y="3921120"/>
            <a:ext cx="2755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We Are Stand By On Monday - Friday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087" name="Group 1584" descr=""/>
          <p:cNvPicPr/>
          <p:nvPr/>
        </p:nvPicPr>
        <p:blipFill>
          <a:blip r:embed="rId2"/>
          <a:stretch/>
        </p:blipFill>
        <p:spPr>
          <a:xfrm>
            <a:off x="1285920" y="3816360"/>
            <a:ext cx="208080" cy="206280"/>
          </a:xfrm>
          <a:prstGeom prst="rect">
            <a:avLst/>
          </a:prstGeom>
          <a:ln w="0">
            <a:noFill/>
          </a:ln>
        </p:spPr>
      </p:pic>
      <p:sp>
        <p:nvSpPr>
          <p:cNvPr id="1088" name="Rectangle 15"/>
          <p:cNvSpPr/>
          <p:nvPr/>
        </p:nvSpPr>
        <p:spPr>
          <a:xfrm>
            <a:off x="1835280" y="4694400"/>
            <a:ext cx="27288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Get In Touch With Us Through Website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89" name="Shape 5143"/>
          <p:cNvSpPr/>
          <p:nvPr/>
        </p:nvSpPr>
        <p:spPr>
          <a:xfrm>
            <a:off x="1287360" y="4583160"/>
            <a:ext cx="255600" cy="223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0" name="Rectangle 20"/>
          <p:cNvSpPr/>
          <p:nvPr/>
        </p:nvSpPr>
        <p:spPr>
          <a:xfrm>
            <a:off x="1801800" y="3649680"/>
            <a:ext cx="275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999-000-555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1" name="Rectangle 21"/>
          <p:cNvSpPr/>
          <p:nvPr/>
        </p:nvSpPr>
        <p:spPr>
          <a:xfrm>
            <a:off x="1835280" y="4424400"/>
            <a:ext cx="27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www.gamepox.com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2" name="Rectangle 30"/>
          <p:cNvSpPr/>
          <p:nvPr/>
        </p:nvSpPr>
        <p:spPr>
          <a:xfrm>
            <a:off x="1835280" y="5526000"/>
            <a:ext cx="2728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Instagram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3" name="Rectangle 31"/>
          <p:cNvSpPr/>
          <p:nvPr/>
        </p:nvSpPr>
        <p:spPr>
          <a:xfrm>
            <a:off x="1835280" y="5256360"/>
            <a:ext cx="27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Facebook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4" name="Rectangle 34"/>
          <p:cNvSpPr/>
          <p:nvPr/>
        </p:nvSpPr>
        <p:spPr>
          <a:xfrm>
            <a:off x="1835280" y="5816520"/>
            <a:ext cx="2728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Twitter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5" name="TextBox 19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6" name="TextBox 22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Placeholder 11" descr=""/>
          <p:cNvPicPr/>
          <p:nvPr/>
        </p:nvPicPr>
        <p:blipFill>
          <a:blip r:embed="rId1"/>
          <a:srcRect l="33173" t="0" r="33173" b="0"/>
          <a:stretch/>
        </p:blipFill>
        <p:spPr>
          <a:xfrm>
            <a:off x="7265880" y="1136520"/>
            <a:ext cx="2743200" cy="458496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"/>
          <p:cNvSpPr/>
          <p:nvPr/>
        </p:nvSpPr>
        <p:spPr>
          <a:xfrm>
            <a:off x="2355840" y="238140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Welcome Note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2" name="Cross 3"/>
          <p:cNvSpPr/>
          <p:nvPr/>
        </p:nvSpPr>
        <p:spPr>
          <a:xfrm rot="2700000">
            <a:off x="9790560" y="1394640"/>
            <a:ext cx="43812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2355840" y="3166920"/>
            <a:ext cx="4025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4" name="Cross 7"/>
          <p:cNvSpPr/>
          <p:nvPr/>
        </p:nvSpPr>
        <p:spPr>
          <a:xfrm>
            <a:off x="776160" y="5348160"/>
            <a:ext cx="279360" cy="277920"/>
          </a:xfrm>
          <a:prstGeom prst="plus">
            <a:avLst>
              <a:gd name="adj" fmla="val 41296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6" name="TextBox 9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3451320" y="822240"/>
            <a:ext cx="52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Raleway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8" name="Cross 2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099" name="Circle: Hollow 3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100" name="TextBox 20"/>
          <p:cNvSpPr/>
          <p:nvPr/>
        </p:nvSpPr>
        <p:spPr>
          <a:xfrm flipH="1">
            <a:off x="2442600" y="2286000"/>
            <a:ext cx="73054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101" name="TextBox 7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1102" name="TextBox 8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1103" name="Picture Placeholder 9" descr=""/>
          <p:cNvPicPr/>
          <p:nvPr/>
        </p:nvPicPr>
        <p:blipFill>
          <a:blip r:embed="rId1"/>
          <a:srcRect l="0" t="2450" r="0" b="2450"/>
          <a:stretch/>
        </p:blipFill>
        <p:spPr>
          <a:xfrm>
            <a:off x="2890800" y="3429000"/>
            <a:ext cx="6410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0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2"/>
          <p:cNvSpPr/>
          <p:nvPr/>
        </p:nvSpPr>
        <p:spPr>
          <a:xfrm>
            <a:off x="6902280" y="1168560"/>
            <a:ext cx="43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Our Game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8" name="Cross 5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69" name="Circle: Hollow 7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70" name="Rectangle 34"/>
          <p:cNvSpPr/>
          <p:nvPr/>
        </p:nvSpPr>
        <p:spPr>
          <a:xfrm>
            <a:off x="6919920" y="2259000"/>
            <a:ext cx="3740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671" name="Group 1"/>
          <p:cNvGrpSpPr/>
          <p:nvPr/>
        </p:nvGrpSpPr>
        <p:grpSpPr>
          <a:xfrm>
            <a:off x="7013520" y="3772080"/>
            <a:ext cx="2232000" cy="325080"/>
            <a:chOff x="7013520" y="3772080"/>
            <a:chExt cx="2232000" cy="325080"/>
          </a:xfrm>
        </p:grpSpPr>
        <p:grpSp>
          <p:nvGrpSpPr>
            <p:cNvPr id="672" name="Group 39"/>
            <p:cNvGrpSpPr/>
            <p:nvPr/>
          </p:nvGrpSpPr>
          <p:grpSpPr>
            <a:xfrm>
              <a:off x="7013520" y="3772080"/>
              <a:ext cx="2232000" cy="325080"/>
              <a:chOff x="7013520" y="3772080"/>
              <a:chExt cx="2232000" cy="325080"/>
            </a:xfrm>
          </p:grpSpPr>
          <p:sp>
            <p:nvSpPr>
              <p:cNvPr id="673" name="Rectangle 37"/>
              <p:cNvSpPr/>
              <p:nvPr/>
            </p:nvSpPr>
            <p:spPr>
              <a:xfrm>
                <a:off x="7013520" y="3772080"/>
                <a:ext cx="2232000" cy="325080"/>
              </a:xfrm>
              <a:prstGeom prst="rect">
                <a:avLst/>
              </a:prstGeom>
              <a:solidFill>
                <a:srgbClr val="72e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  <p:sp>
            <p:nvSpPr>
              <p:cNvPr id="674" name="Cross 38"/>
              <p:cNvSpPr/>
              <p:nvPr/>
            </p:nvSpPr>
            <p:spPr>
              <a:xfrm>
                <a:off x="7121160" y="3820680"/>
                <a:ext cx="228600" cy="227880"/>
              </a:xfrm>
              <a:prstGeom prst="plus">
                <a:avLst>
                  <a:gd name="adj" fmla="val 37500"/>
                </a:avLst>
              </a:prstGeom>
              <a:solidFill>
                <a:srgbClr val="ff0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</p:grpSp>
        <p:sp>
          <p:nvSpPr>
            <p:cNvPr id="675" name="TextBox 36"/>
            <p:cNvSpPr/>
            <p:nvPr/>
          </p:nvSpPr>
          <p:spPr>
            <a:xfrm>
              <a:off x="7457760" y="3790080"/>
              <a:ext cx="167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Raleway"/>
                </a:rPr>
                <a:t>Consul Game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676" name="Group 3"/>
          <p:cNvGrpSpPr/>
          <p:nvPr/>
        </p:nvGrpSpPr>
        <p:grpSpPr>
          <a:xfrm>
            <a:off x="7013520" y="4313160"/>
            <a:ext cx="1886040" cy="325440"/>
            <a:chOff x="7013520" y="4313160"/>
            <a:chExt cx="1886040" cy="325440"/>
          </a:xfrm>
        </p:grpSpPr>
        <p:grpSp>
          <p:nvGrpSpPr>
            <p:cNvPr id="677" name="Group 43"/>
            <p:cNvGrpSpPr/>
            <p:nvPr/>
          </p:nvGrpSpPr>
          <p:grpSpPr>
            <a:xfrm>
              <a:off x="7013520" y="4313160"/>
              <a:ext cx="1886040" cy="325440"/>
              <a:chOff x="7013520" y="4313160"/>
              <a:chExt cx="1886040" cy="325440"/>
            </a:xfrm>
          </p:grpSpPr>
          <p:sp>
            <p:nvSpPr>
              <p:cNvPr id="678" name="Rectangle 44"/>
              <p:cNvSpPr/>
              <p:nvPr/>
            </p:nvSpPr>
            <p:spPr>
              <a:xfrm>
                <a:off x="7013520" y="4313160"/>
                <a:ext cx="1886040" cy="325440"/>
              </a:xfrm>
              <a:prstGeom prst="rect">
                <a:avLst/>
              </a:prstGeom>
              <a:solidFill>
                <a:srgbClr val="d94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  <p:sp>
            <p:nvSpPr>
              <p:cNvPr id="679" name="Cross 45"/>
              <p:cNvSpPr/>
              <p:nvPr/>
            </p:nvSpPr>
            <p:spPr>
              <a:xfrm>
                <a:off x="7121160" y="4361760"/>
                <a:ext cx="228600" cy="228240"/>
              </a:xfrm>
              <a:prstGeom prst="plus">
                <a:avLst>
                  <a:gd name="adj" fmla="val 37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</p:grpSp>
        <p:sp>
          <p:nvSpPr>
            <p:cNvPr id="680" name="TextBox 46"/>
            <p:cNvSpPr/>
            <p:nvPr/>
          </p:nvSpPr>
          <p:spPr>
            <a:xfrm>
              <a:off x="7457760" y="4331160"/>
              <a:ext cx="13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</a:rPr>
                <a:t>RPG Game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681" name="Group 4"/>
          <p:cNvGrpSpPr/>
          <p:nvPr/>
        </p:nvGrpSpPr>
        <p:grpSpPr>
          <a:xfrm>
            <a:off x="7013520" y="4950000"/>
            <a:ext cx="1886040" cy="325440"/>
            <a:chOff x="7013520" y="4950000"/>
            <a:chExt cx="1886040" cy="325440"/>
          </a:xfrm>
        </p:grpSpPr>
        <p:grpSp>
          <p:nvGrpSpPr>
            <p:cNvPr id="682" name="Group 47"/>
            <p:cNvGrpSpPr/>
            <p:nvPr/>
          </p:nvGrpSpPr>
          <p:grpSpPr>
            <a:xfrm>
              <a:off x="7013520" y="4950000"/>
              <a:ext cx="1886040" cy="325440"/>
              <a:chOff x="7013520" y="4950000"/>
              <a:chExt cx="1886040" cy="325440"/>
            </a:xfrm>
          </p:grpSpPr>
          <p:sp>
            <p:nvSpPr>
              <p:cNvPr id="683" name="Rectangle 48"/>
              <p:cNvSpPr/>
              <p:nvPr/>
            </p:nvSpPr>
            <p:spPr>
              <a:xfrm>
                <a:off x="7013520" y="4950000"/>
                <a:ext cx="1886040" cy="325440"/>
              </a:xfrm>
              <a:prstGeom prst="rect">
                <a:avLst/>
              </a:prstGeom>
              <a:solidFill>
                <a:srgbClr val="ff0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  <p:sp>
            <p:nvSpPr>
              <p:cNvPr id="684" name="Cross 49"/>
              <p:cNvSpPr/>
              <p:nvPr/>
            </p:nvSpPr>
            <p:spPr>
              <a:xfrm>
                <a:off x="7121160" y="4998600"/>
                <a:ext cx="228600" cy="228240"/>
              </a:xfrm>
              <a:prstGeom prst="plus">
                <a:avLst>
                  <a:gd name="adj" fmla="val 37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</p:grpSp>
        <p:sp>
          <p:nvSpPr>
            <p:cNvPr id="685" name="TextBox 50"/>
            <p:cNvSpPr/>
            <p:nvPr/>
          </p:nvSpPr>
          <p:spPr>
            <a:xfrm>
              <a:off x="7457760" y="4968000"/>
              <a:ext cx="13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Raleway"/>
                </a:rPr>
                <a:t>Adventure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grpSp>
        <p:nvGrpSpPr>
          <p:cNvPr id="686" name="Group 6"/>
          <p:cNvGrpSpPr/>
          <p:nvPr/>
        </p:nvGrpSpPr>
        <p:grpSpPr>
          <a:xfrm>
            <a:off x="7013520" y="5442120"/>
            <a:ext cx="1886040" cy="326880"/>
            <a:chOff x="7013520" y="5442120"/>
            <a:chExt cx="1886040" cy="326880"/>
          </a:xfrm>
        </p:grpSpPr>
        <p:grpSp>
          <p:nvGrpSpPr>
            <p:cNvPr id="687" name="Group 55"/>
            <p:cNvGrpSpPr/>
            <p:nvPr/>
          </p:nvGrpSpPr>
          <p:grpSpPr>
            <a:xfrm>
              <a:off x="7013520" y="5442120"/>
              <a:ext cx="1886040" cy="326880"/>
              <a:chOff x="7013520" y="5442120"/>
              <a:chExt cx="1886040" cy="326880"/>
            </a:xfrm>
          </p:grpSpPr>
          <p:sp>
            <p:nvSpPr>
              <p:cNvPr id="688" name="Rectangle 56"/>
              <p:cNvSpPr/>
              <p:nvPr/>
            </p:nvSpPr>
            <p:spPr>
              <a:xfrm>
                <a:off x="7013520" y="5442120"/>
                <a:ext cx="188604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  <p:sp>
            <p:nvSpPr>
              <p:cNvPr id="689" name="Cross 57"/>
              <p:cNvSpPr/>
              <p:nvPr/>
            </p:nvSpPr>
            <p:spPr>
              <a:xfrm>
                <a:off x="7121160" y="5490720"/>
                <a:ext cx="228600" cy="229320"/>
              </a:xfrm>
              <a:prstGeom prst="plus">
                <a:avLst>
                  <a:gd name="adj" fmla="val 375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arla"/>
                </a:endParaRPr>
              </a:p>
            </p:txBody>
          </p:sp>
        </p:grpSp>
        <p:sp>
          <p:nvSpPr>
            <p:cNvPr id="690" name="TextBox 58"/>
            <p:cNvSpPr/>
            <p:nvPr/>
          </p:nvSpPr>
          <p:spPr>
            <a:xfrm>
              <a:off x="7457760" y="5460480"/>
              <a:ext cx="13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Raleway"/>
                </a:rPr>
                <a:t>Adventure</a:t>
              </a:r>
              <a:endParaRPr b="0" lang="en-US" sz="14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pic>
        <p:nvPicPr>
          <p:cNvPr id="691" name="Picture Placeholder 13" descr=""/>
          <p:cNvPicPr/>
          <p:nvPr/>
        </p:nvPicPr>
        <p:blipFill>
          <a:blip r:embed="rId1"/>
          <a:srcRect l="25689" t="0" r="25689" b="0"/>
          <a:stretch/>
        </p:blipFill>
        <p:spPr>
          <a:xfrm>
            <a:off x="2222640" y="654120"/>
            <a:ext cx="3200400" cy="3701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Placeholder 15" descr=""/>
          <p:cNvPicPr/>
          <p:nvPr/>
        </p:nvPicPr>
        <p:blipFill>
          <a:blip r:embed="rId2"/>
          <a:srcRect l="0" t="42" r="0" b="42"/>
          <a:stretch/>
        </p:blipFill>
        <p:spPr>
          <a:xfrm>
            <a:off x="2222640" y="4405320"/>
            <a:ext cx="32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Placeholder 12" descr=""/>
          <p:cNvPicPr/>
          <p:nvPr/>
        </p:nvPicPr>
        <p:blipFill>
          <a:blip r:embed="rId1"/>
          <a:srcRect l="31807" t="0" r="31807" b="0"/>
          <a:stretch/>
        </p:blipFill>
        <p:spPr>
          <a:xfrm>
            <a:off x="1536840" y="1060560"/>
            <a:ext cx="2743200" cy="42400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3"/>
          <p:cNvSpPr/>
          <p:nvPr/>
        </p:nvSpPr>
        <p:spPr>
          <a:xfrm>
            <a:off x="5079960" y="1170000"/>
            <a:ext cx="39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Service of gamers the best 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695" name="Group 1"/>
          <p:cNvGrpSpPr/>
          <p:nvPr/>
        </p:nvGrpSpPr>
        <p:grpSpPr>
          <a:xfrm>
            <a:off x="381960" y="843120"/>
            <a:ext cx="9984240" cy="5278320"/>
            <a:chOff x="381960" y="843120"/>
            <a:chExt cx="9984240" cy="5278320"/>
          </a:xfrm>
        </p:grpSpPr>
        <p:sp>
          <p:nvSpPr>
            <p:cNvPr id="696" name="Cross 5"/>
            <p:cNvSpPr/>
            <p:nvPr/>
          </p:nvSpPr>
          <p:spPr>
            <a:xfrm rot="2700000">
              <a:off x="9838800" y="933480"/>
              <a:ext cx="436680" cy="436680"/>
            </a:xfrm>
            <a:prstGeom prst="plus">
              <a:avLst>
                <a:gd name="adj" fmla="val 41130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697" name="Circle: Hollow 7"/>
            <p:cNvSpPr/>
            <p:nvPr/>
          </p:nvSpPr>
          <p:spPr>
            <a:xfrm rot="19800000">
              <a:off x="461520" y="5604840"/>
              <a:ext cx="436680" cy="436680"/>
            </a:xfrm>
            <a:custGeom>
              <a:avLst/>
              <a:gdLst/>
              <a:ahLst/>
              <a:rect l="l" t="t" r="r" b="b"/>
              <a:pathLst>
                <a:path w="436728" h="436728">
                  <a:moveTo>
                    <a:pt x="0" y="218364"/>
                  </a:moveTo>
                  <a:cubicBezTo>
                    <a:pt x="0" y="97765"/>
                    <a:pt x="97765" y="0"/>
                    <a:pt x="218364" y="0"/>
                  </a:cubicBezTo>
                  <a:cubicBezTo>
                    <a:pt x="338963" y="0"/>
                    <a:pt x="436728" y="97765"/>
                    <a:pt x="436728" y="218364"/>
                  </a:cubicBezTo>
                  <a:cubicBezTo>
                    <a:pt x="436728" y="338963"/>
                    <a:pt x="338963" y="436728"/>
                    <a:pt x="218364" y="436728"/>
                  </a:cubicBezTo>
                  <a:cubicBezTo>
                    <a:pt x="97765" y="436728"/>
                    <a:pt x="0" y="338963"/>
                    <a:pt x="0" y="218364"/>
                  </a:cubicBezTo>
                  <a:close/>
                  <a:moveTo>
                    <a:pt x="109182" y="218364"/>
                  </a:moveTo>
                  <a:cubicBezTo>
                    <a:pt x="109182" y="278664"/>
                    <a:pt x="158064" y="327546"/>
                    <a:pt x="218364" y="327546"/>
                  </a:cubicBezTo>
                  <a:cubicBezTo>
                    <a:pt x="278664" y="327546"/>
                    <a:pt x="327546" y="278664"/>
                    <a:pt x="327546" y="218364"/>
                  </a:cubicBezTo>
                  <a:cubicBezTo>
                    <a:pt x="327546" y="158064"/>
                    <a:pt x="278664" y="109182"/>
                    <a:pt x="218364" y="109182"/>
                  </a:cubicBezTo>
                  <a:cubicBezTo>
                    <a:pt x="158064" y="109182"/>
                    <a:pt x="109182" y="158064"/>
                    <a:pt x="109182" y="218364"/>
                  </a:cubicBezTo>
                  <a:close/>
                </a:path>
              </a:pathLst>
            </a:cu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698" name="Rectangle 8"/>
          <p:cNvSpPr/>
          <p:nvPr/>
        </p:nvSpPr>
        <p:spPr>
          <a:xfrm>
            <a:off x="7075440" y="4214880"/>
            <a:ext cx="1800360" cy="1800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8955000" y="4214880"/>
            <a:ext cx="1801800" cy="18000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3316320" y="4214880"/>
            <a:ext cx="1800360" cy="1800000"/>
          </a:xfrm>
          <a:prstGeom prst="rect">
            <a:avLst/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5195880" y="4214880"/>
            <a:ext cx="180036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702" name="Group 15"/>
          <p:cNvGrpSpPr/>
          <p:nvPr/>
        </p:nvGrpSpPr>
        <p:grpSpPr>
          <a:xfrm>
            <a:off x="7807320" y="4767120"/>
            <a:ext cx="336600" cy="366840"/>
            <a:chOff x="7807320" y="4767120"/>
            <a:chExt cx="336600" cy="366840"/>
          </a:xfrm>
        </p:grpSpPr>
        <p:sp>
          <p:nvSpPr>
            <p:cNvPr id="703" name="Freeform 108"/>
            <p:cNvSpPr/>
            <p:nvPr/>
          </p:nvSpPr>
          <p:spPr>
            <a:xfrm>
              <a:off x="7807320" y="4767120"/>
              <a:ext cx="336600" cy="36684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74" y="80"/>
                  </a:moveTo>
                  <a:cubicBezTo>
                    <a:pt x="63" y="80"/>
                    <a:pt x="63" y="80"/>
                    <a:pt x="63" y="8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71" y="65"/>
                    <a:pt x="77" y="57"/>
                    <a:pt x="78" y="48"/>
                  </a:cubicBezTo>
                  <a:cubicBezTo>
                    <a:pt x="80" y="45"/>
                    <a:pt x="81" y="42"/>
                    <a:pt x="81" y="38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29"/>
                    <a:pt x="80" y="26"/>
                    <a:pt x="78" y="25"/>
                  </a:cubicBezTo>
                  <a:cubicBezTo>
                    <a:pt x="75" y="11"/>
                    <a:pt x="63" y="0"/>
                    <a:pt x="48" y="0"/>
                  </a:cubicBezTo>
                  <a:cubicBezTo>
                    <a:pt x="39" y="0"/>
                    <a:pt x="31" y="3"/>
                    <a:pt x="26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7"/>
                    <a:pt x="12" y="22"/>
                    <a:pt x="17" y="25"/>
                  </a:cubicBezTo>
                  <a:cubicBezTo>
                    <a:pt x="16" y="26"/>
                    <a:pt x="15" y="27"/>
                    <a:pt x="14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0" y="28"/>
                    <a:pt x="7" y="30"/>
                    <a:pt x="7" y="32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3" y="35"/>
                    <a:pt x="0" y="39"/>
                    <a:pt x="0" y="43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4" y="65"/>
                    <a:pt x="17" y="68"/>
                    <a:pt x="17" y="71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1" y="83"/>
                    <a:pt x="7" y="88"/>
                    <a:pt x="7" y="94"/>
                  </a:cubicBezTo>
                  <a:cubicBezTo>
                    <a:pt x="7" y="96"/>
                    <a:pt x="7" y="96"/>
                    <a:pt x="7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0"/>
                    <a:pt x="13" y="86"/>
                    <a:pt x="17" y="8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20" y="83"/>
                    <a:pt x="20" y="83"/>
                    <a:pt x="20" y="83"/>
                  </a:cubicBezTo>
                  <a:cubicBezTo>
                    <a:pt x="20" y="83"/>
                    <a:pt x="21" y="83"/>
                    <a:pt x="21" y="83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62" y="83"/>
                    <a:pt x="62" y="83"/>
                    <a:pt x="62" y="83"/>
                  </a:cubicBezTo>
                  <a:cubicBezTo>
                    <a:pt x="74" y="83"/>
                    <a:pt x="74" y="83"/>
                    <a:pt x="74" y="83"/>
                  </a:cubicBezTo>
                  <a:cubicBezTo>
                    <a:pt x="80" y="83"/>
                    <a:pt x="85" y="88"/>
                    <a:pt x="85" y="94"/>
                  </a:cubicBezTo>
                  <a:cubicBezTo>
                    <a:pt x="85" y="96"/>
                    <a:pt x="85" y="96"/>
                    <a:pt x="85" y="96"/>
                  </a:cubicBezTo>
                  <a:cubicBezTo>
                    <a:pt x="88" y="96"/>
                    <a:pt x="88" y="96"/>
                    <a:pt x="88" y="96"/>
                  </a:cubicBezTo>
                  <a:cubicBezTo>
                    <a:pt x="88" y="94"/>
                    <a:pt x="88" y="94"/>
                    <a:pt x="88" y="94"/>
                  </a:cubicBezTo>
                  <a:cubicBezTo>
                    <a:pt x="88" y="86"/>
                    <a:pt x="81" y="80"/>
                    <a:pt x="74" y="80"/>
                  </a:cubicBezTo>
                  <a:close/>
                  <a:moveTo>
                    <a:pt x="12" y="12"/>
                  </a:move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33" y="6"/>
                    <a:pt x="40" y="3"/>
                    <a:pt x="48" y="3"/>
                  </a:cubicBezTo>
                  <a:cubicBezTo>
                    <a:pt x="60" y="3"/>
                    <a:pt x="72" y="12"/>
                    <a:pt x="75" y="25"/>
                  </a:cubicBezTo>
                  <a:cubicBezTo>
                    <a:pt x="71" y="24"/>
                    <a:pt x="67" y="22"/>
                    <a:pt x="66" y="19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8" y="22"/>
                    <a:pt x="55" y="25"/>
                    <a:pt x="51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19" y="25"/>
                    <a:pt x="13" y="19"/>
                    <a:pt x="12" y="12"/>
                  </a:cubicBezTo>
                  <a:close/>
                  <a:moveTo>
                    <a:pt x="67" y="25"/>
                  </a:moveTo>
                  <a:cubicBezTo>
                    <a:pt x="59" y="25"/>
                    <a:pt x="59" y="25"/>
                    <a:pt x="59" y="25"/>
                  </a:cubicBezTo>
                  <a:cubicBezTo>
                    <a:pt x="61" y="23"/>
                    <a:pt x="62" y="22"/>
                    <a:pt x="63" y="20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3" y="20"/>
                    <a:pt x="63" y="20"/>
                    <a:pt x="63" y="20"/>
                  </a:cubicBezTo>
                  <a:cubicBezTo>
                    <a:pt x="64" y="22"/>
                    <a:pt x="65" y="23"/>
                    <a:pt x="67" y="25"/>
                  </a:cubicBezTo>
                  <a:close/>
                  <a:moveTo>
                    <a:pt x="17" y="31"/>
                  </a:moveTo>
                  <a:cubicBezTo>
                    <a:pt x="17" y="29"/>
                    <a:pt x="18" y="28"/>
                    <a:pt x="20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7" y="28"/>
                    <a:pt x="78" y="29"/>
                    <a:pt x="78" y="32"/>
                  </a:cubicBezTo>
                  <a:cubicBezTo>
                    <a:pt x="78" y="38"/>
                    <a:pt x="78" y="38"/>
                    <a:pt x="78" y="38"/>
                  </a:cubicBezTo>
                  <a:cubicBezTo>
                    <a:pt x="78" y="43"/>
                    <a:pt x="75" y="48"/>
                    <a:pt x="71" y="49"/>
                  </a:cubicBezTo>
                  <a:cubicBezTo>
                    <a:pt x="67" y="50"/>
                    <a:pt x="63" y="49"/>
                    <a:pt x="60" y="47"/>
                  </a:cubicBezTo>
                  <a:cubicBezTo>
                    <a:pt x="60" y="46"/>
                    <a:pt x="60" y="46"/>
                    <a:pt x="60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2" y="49"/>
                    <a:pt x="29" y="50"/>
                    <a:pt x="25" y="49"/>
                  </a:cubicBezTo>
                  <a:cubicBezTo>
                    <a:pt x="20" y="48"/>
                    <a:pt x="17" y="44"/>
                    <a:pt x="17" y="38"/>
                  </a:cubicBezTo>
                  <a:lnTo>
                    <a:pt x="17" y="31"/>
                  </a:lnTo>
                  <a:close/>
                  <a:moveTo>
                    <a:pt x="11" y="32"/>
                  </a:moveTo>
                  <a:cubicBezTo>
                    <a:pt x="11" y="32"/>
                    <a:pt x="11" y="31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1" y="40"/>
                    <a:pt x="11" y="39"/>
                    <a:pt x="11" y="39"/>
                  </a:cubicBezTo>
                  <a:lnTo>
                    <a:pt x="11" y="32"/>
                  </a:lnTo>
                  <a:close/>
                  <a:moveTo>
                    <a:pt x="32" y="80"/>
                  </a:moveTo>
                  <a:cubicBezTo>
                    <a:pt x="21" y="80"/>
                    <a:pt x="21" y="80"/>
                    <a:pt x="21" y="80"/>
                  </a:cubicBezTo>
                  <a:cubicBezTo>
                    <a:pt x="21" y="80"/>
                    <a:pt x="20" y="80"/>
                    <a:pt x="20" y="80"/>
                  </a:cubicBezTo>
                  <a:cubicBezTo>
                    <a:pt x="20" y="71"/>
                    <a:pt x="20" y="71"/>
                    <a:pt x="20" y="71"/>
                  </a:cubicBezTo>
                  <a:cubicBezTo>
                    <a:pt x="20" y="66"/>
                    <a:pt x="16" y="62"/>
                    <a:pt x="11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6" y="62"/>
                    <a:pt x="3" y="59"/>
                    <a:pt x="3" y="55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3" y="40"/>
                    <a:pt x="5" y="38"/>
                    <a:pt x="7" y="37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1"/>
                    <a:pt x="10" y="43"/>
                    <a:pt x="12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45"/>
                    <a:pt x="16" y="46"/>
                    <a:pt x="17" y="47"/>
                  </a:cubicBezTo>
                  <a:cubicBezTo>
                    <a:pt x="18" y="57"/>
                    <a:pt x="24" y="65"/>
                    <a:pt x="32" y="70"/>
                  </a:cubicBezTo>
                  <a:cubicBezTo>
                    <a:pt x="32" y="70"/>
                    <a:pt x="32" y="70"/>
                    <a:pt x="32" y="70"/>
                  </a:cubicBezTo>
                  <a:lnTo>
                    <a:pt x="32" y="80"/>
                  </a:lnTo>
                  <a:close/>
                  <a:moveTo>
                    <a:pt x="60" y="81"/>
                  </a:moveTo>
                  <a:cubicBezTo>
                    <a:pt x="48" y="91"/>
                    <a:pt x="48" y="91"/>
                    <a:pt x="48" y="9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71"/>
                    <a:pt x="35" y="71"/>
                    <a:pt x="35" y="71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41" y="75"/>
                    <a:pt x="44" y="76"/>
                    <a:pt x="48" y="76"/>
                  </a:cubicBezTo>
                  <a:cubicBezTo>
                    <a:pt x="51" y="76"/>
                    <a:pt x="54" y="75"/>
                    <a:pt x="57" y="73"/>
                  </a:cubicBezTo>
                  <a:cubicBezTo>
                    <a:pt x="60" y="71"/>
                    <a:pt x="60" y="71"/>
                    <a:pt x="60" y="71"/>
                  </a:cubicBezTo>
                  <a:lnTo>
                    <a:pt x="60" y="81"/>
                  </a:lnTo>
                  <a:close/>
                  <a:moveTo>
                    <a:pt x="62" y="67"/>
                  </a:moveTo>
                  <a:cubicBezTo>
                    <a:pt x="55" y="70"/>
                    <a:pt x="55" y="70"/>
                    <a:pt x="55" y="70"/>
                  </a:cubicBezTo>
                  <a:cubicBezTo>
                    <a:pt x="51" y="73"/>
                    <a:pt x="44" y="73"/>
                    <a:pt x="40" y="70"/>
                  </a:cubicBezTo>
                  <a:cubicBezTo>
                    <a:pt x="33" y="67"/>
                    <a:pt x="33" y="67"/>
                    <a:pt x="33" y="67"/>
                  </a:cubicBezTo>
                  <a:cubicBezTo>
                    <a:pt x="27" y="63"/>
                    <a:pt x="23" y="57"/>
                    <a:pt x="21" y="51"/>
                  </a:cubicBezTo>
                  <a:cubicBezTo>
                    <a:pt x="22" y="51"/>
                    <a:pt x="23" y="52"/>
                    <a:pt x="25" y="52"/>
                  </a:cubicBezTo>
                  <a:cubicBezTo>
                    <a:pt x="29" y="53"/>
                    <a:pt x="33" y="52"/>
                    <a:pt x="36" y="49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61" y="51"/>
                    <a:pt x="64" y="52"/>
                    <a:pt x="68" y="52"/>
                  </a:cubicBezTo>
                  <a:cubicBezTo>
                    <a:pt x="69" y="52"/>
                    <a:pt x="70" y="52"/>
                    <a:pt x="72" y="52"/>
                  </a:cubicBezTo>
                  <a:cubicBezTo>
                    <a:pt x="72" y="52"/>
                    <a:pt x="73" y="51"/>
                    <a:pt x="74" y="51"/>
                  </a:cubicBezTo>
                  <a:cubicBezTo>
                    <a:pt x="72" y="57"/>
                    <a:pt x="68" y="63"/>
                    <a:pt x="62" y="67"/>
                  </a:cubicBezTo>
                  <a:close/>
                  <a:moveTo>
                    <a:pt x="62" y="67"/>
                  </a:moveTo>
                  <a:cubicBezTo>
                    <a:pt x="62" y="67"/>
                    <a:pt x="62" y="67"/>
                    <a:pt x="62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04" name="Rectangle 109"/>
            <p:cNvSpPr/>
            <p:nvPr/>
          </p:nvSpPr>
          <p:spPr>
            <a:xfrm>
              <a:off x="7895880" y="4916160"/>
              <a:ext cx="15516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05" name="Rectangle 110"/>
            <p:cNvSpPr/>
            <p:nvPr/>
          </p:nvSpPr>
          <p:spPr>
            <a:xfrm>
              <a:off x="8067600" y="4916160"/>
              <a:ext cx="14040" cy="1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pic>
        <p:nvPicPr>
          <p:cNvPr id="706" name="Group 19" descr=""/>
          <p:cNvPicPr/>
          <p:nvPr/>
        </p:nvPicPr>
        <p:blipFill>
          <a:blip r:embed="rId2"/>
          <a:stretch/>
        </p:blipFill>
        <p:spPr>
          <a:xfrm>
            <a:off x="5913360" y="4767120"/>
            <a:ext cx="365040" cy="36540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34"/>
          <p:cNvGrpSpPr/>
          <p:nvPr/>
        </p:nvGrpSpPr>
        <p:grpSpPr>
          <a:xfrm>
            <a:off x="4035600" y="4767120"/>
            <a:ext cx="361800" cy="366840"/>
            <a:chOff x="4035600" y="4767120"/>
            <a:chExt cx="361800" cy="366840"/>
          </a:xfrm>
        </p:grpSpPr>
        <p:sp>
          <p:nvSpPr>
            <p:cNvPr id="708" name="Freeform 324"/>
            <p:cNvSpPr/>
            <p:nvPr/>
          </p:nvSpPr>
          <p:spPr>
            <a:xfrm>
              <a:off x="4035600" y="4767120"/>
              <a:ext cx="361800" cy="3668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47" y="0"/>
                  </a:moveTo>
                  <a:cubicBezTo>
                    <a:pt x="21" y="0"/>
                    <a:pt x="0" y="21"/>
                    <a:pt x="0" y="48"/>
                  </a:cubicBezTo>
                  <a:cubicBezTo>
                    <a:pt x="0" y="74"/>
                    <a:pt x="21" y="96"/>
                    <a:pt x="47" y="96"/>
                  </a:cubicBezTo>
                  <a:cubicBezTo>
                    <a:pt x="74" y="96"/>
                    <a:pt x="95" y="74"/>
                    <a:pt x="95" y="48"/>
                  </a:cubicBezTo>
                  <a:cubicBezTo>
                    <a:pt x="95" y="21"/>
                    <a:pt x="74" y="0"/>
                    <a:pt x="47" y="0"/>
                  </a:cubicBezTo>
                  <a:close/>
                  <a:moveTo>
                    <a:pt x="47" y="92"/>
                  </a:moveTo>
                  <a:cubicBezTo>
                    <a:pt x="23" y="92"/>
                    <a:pt x="3" y="72"/>
                    <a:pt x="3" y="48"/>
                  </a:cubicBezTo>
                  <a:cubicBezTo>
                    <a:pt x="3" y="23"/>
                    <a:pt x="23" y="3"/>
                    <a:pt x="47" y="3"/>
                  </a:cubicBezTo>
                  <a:cubicBezTo>
                    <a:pt x="72" y="3"/>
                    <a:pt x="92" y="23"/>
                    <a:pt x="92" y="48"/>
                  </a:cubicBezTo>
                  <a:cubicBezTo>
                    <a:pt x="92" y="72"/>
                    <a:pt x="72" y="92"/>
                    <a:pt x="47" y="92"/>
                  </a:cubicBezTo>
                  <a:close/>
                  <a:moveTo>
                    <a:pt x="47" y="92"/>
                  </a:moveTo>
                  <a:cubicBezTo>
                    <a:pt x="47" y="92"/>
                    <a:pt x="47" y="92"/>
                    <a:pt x="47" y="9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09" name="Freeform 325"/>
            <p:cNvSpPr/>
            <p:nvPr/>
          </p:nvSpPr>
          <p:spPr>
            <a:xfrm>
              <a:off x="4081680" y="4809240"/>
              <a:ext cx="269280" cy="276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65" y="43"/>
                  </a:moveTo>
                  <a:cubicBezTo>
                    <a:pt x="63" y="32"/>
                    <a:pt x="63" y="32"/>
                    <a:pt x="63" y="32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6" y="33"/>
                    <a:pt x="68" y="32"/>
                    <a:pt x="69" y="30"/>
                  </a:cubicBezTo>
                  <a:cubicBezTo>
                    <a:pt x="71" y="29"/>
                    <a:pt x="71" y="26"/>
                    <a:pt x="70" y="24"/>
                  </a:cubicBezTo>
                  <a:cubicBezTo>
                    <a:pt x="65" y="10"/>
                    <a:pt x="51" y="0"/>
                    <a:pt x="35" y="0"/>
                  </a:cubicBezTo>
                  <a:cubicBezTo>
                    <a:pt x="20" y="0"/>
                    <a:pt x="6" y="10"/>
                    <a:pt x="1" y="24"/>
                  </a:cubicBezTo>
                  <a:cubicBezTo>
                    <a:pt x="0" y="26"/>
                    <a:pt x="0" y="29"/>
                    <a:pt x="2" y="30"/>
                  </a:cubicBezTo>
                  <a:cubicBezTo>
                    <a:pt x="3" y="32"/>
                    <a:pt x="5" y="33"/>
                    <a:pt x="6" y="33"/>
                  </a:cubicBezTo>
                  <a:cubicBezTo>
                    <a:pt x="7" y="33"/>
                    <a:pt x="7" y="33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43"/>
                    <a:pt x="6" y="43"/>
                    <a:pt x="6" y="43"/>
                  </a:cubicBezTo>
                  <a:cubicBezTo>
                    <a:pt x="4" y="43"/>
                    <a:pt x="3" y="44"/>
                    <a:pt x="2" y="45"/>
                  </a:cubicBezTo>
                  <a:cubicBezTo>
                    <a:pt x="1" y="47"/>
                    <a:pt x="1" y="49"/>
                    <a:pt x="1" y="51"/>
                  </a:cubicBezTo>
                  <a:cubicBezTo>
                    <a:pt x="5" y="60"/>
                    <a:pt x="13" y="68"/>
                    <a:pt x="22" y="71"/>
                  </a:cubicBezTo>
                  <a:cubicBezTo>
                    <a:pt x="23" y="72"/>
                    <a:pt x="23" y="72"/>
                    <a:pt x="24" y="72"/>
                  </a:cubicBezTo>
                  <a:cubicBezTo>
                    <a:pt x="25" y="72"/>
                    <a:pt x="27" y="71"/>
                    <a:pt x="28" y="71"/>
                  </a:cubicBezTo>
                  <a:cubicBezTo>
                    <a:pt x="29" y="69"/>
                    <a:pt x="30" y="67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7"/>
                    <a:pt x="41" y="69"/>
                    <a:pt x="43" y="71"/>
                  </a:cubicBezTo>
                  <a:cubicBezTo>
                    <a:pt x="44" y="71"/>
                    <a:pt x="45" y="72"/>
                    <a:pt x="47" y="72"/>
                  </a:cubicBezTo>
                  <a:cubicBezTo>
                    <a:pt x="47" y="72"/>
                    <a:pt x="48" y="72"/>
                    <a:pt x="49" y="71"/>
                  </a:cubicBezTo>
                  <a:cubicBezTo>
                    <a:pt x="58" y="68"/>
                    <a:pt x="66" y="60"/>
                    <a:pt x="70" y="51"/>
                  </a:cubicBezTo>
                  <a:cubicBezTo>
                    <a:pt x="70" y="49"/>
                    <a:pt x="70" y="47"/>
                    <a:pt x="69" y="45"/>
                  </a:cubicBezTo>
                  <a:cubicBezTo>
                    <a:pt x="68" y="44"/>
                    <a:pt x="66" y="43"/>
                    <a:pt x="65" y="43"/>
                  </a:cubicBezTo>
                  <a:close/>
                  <a:moveTo>
                    <a:pt x="7" y="29"/>
                  </a:moveTo>
                  <a:cubicBezTo>
                    <a:pt x="6" y="30"/>
                    <a:pt x="5" y="29"/>
                    <a:pt x="4" y="28"/>
                  </a:cubicBezTo>
                  <a:cubicBezTo>
                    <a:pt x="3" y="27"/>
                    <a:pt x="3" y="26"/>
                    <a:pt x="3" y="25"/>
                  </a:cubicBezTo>
                  <a:cubicBezTo>
                    <a:pt x="8" y="12"/>
                    <a:pt x="21" y="3"/>
                    <a:pt x="35" y="3"/>
                  </a:cubicBezTo>
                  <a:cubicBezTo>
                    <a:pt x="50" y="3"/>
                    <a:pt x="63" y="12"/>
                    <a:pt x="67" y="25"/>
                  </a:cubicBezTo>
                  <a:cubicBezTo>
                    <a:pt x="68" y="26"/>
                    <a:pt x="68" y="27"/>
                    <a:pt x="67" y="28"/>
                  </a:cubicBezTo>
                  <a:cubicBezTo>
                    <a:pt x="66" y="29"/>
                    <a:pt x="65" y="30"/>
                    <a:pt x="64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2" y="24"/>
                    <a:pt x="39" y="23"/>
                    <a:pt x="35" y="23"/>
                  </a:cubicBezTo>
                  <a:cubicBezTo>
                    <a:pt x="32" y="23"/>
                    <a:pt x="28" y="24"/>
                    <a:pt x="26" y="27"/>
                  </a:cubicBezTo>
                  <a:lnTo>
                    <a:pt x="7" y="29"/>
                  </a:lnTo>
                  <a:close/>
                  <a:moveTo>
                    <a:pt x="48" y="30"/>
                  </a:moveTo>
                  <a:cubicBezTo>
                    <a:pt x="60" y="32"/>
                    <a:pt x="60" y="32"/>
                    <a:pt x="60" y="32"/>
                  </a:cubicBezTo>
                  <a:cubicBezTo>
                    <a:pt x="61" y="42"/>
                    <a:pt x="61" y="42"/>
                    <a:pt x="61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0"/>
                    <a:pt x="49" y="39"/>
                    <a:pt x="49" y="37"/>
                  </a:cubicBezTo>
                  <a:cubicBezTo>
                    <a:pt x="49" y="34"/>
                    <a:pt x="49" y="32"/>
                    <a:pt x="48" y="30"/>
                  </a:cubicBezTo>
                  <a:close/>
                  <a:moveTo>
                    <a:pt x="23" y="42"/>
                  </a:moveTo>
                  <a:cubicBezTo>
                    <a:pt x="9" y="42"/>
                    <a:pt x="9" y="42"/>
                    <a:pt x="9" y="4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2" y="32"/>
                    <a:pt x="22" y="34"/>
                    <a:pt x="22" y="37"/>
                  </a:cubicBezTo>
                  <a:cubicBezTo>
                    <a:pt x="22" y="39"/>
                    <a:pt x="22" y="40"/>
                    <a:pt x="23" y="42"/>
                  </a:cubicBezTo>
                  <a:close/>
                  <a:moveTo>
                    <a:pt x="26" y="68"/>
                  </a:moveTo>
                  <a:cubicBezTo>
                    <a:pt x="25" y="69"/>
                    <a:pt x="24" y="69"/>
                    <a:pt x="23" y="68"/>
                  </a:cubicBezTo>
                  <a:cubicBezTo>
                    <a:pt x="15" y="65"/>
                    <a:pt x="8" y="58"/>
                    <a:pt x="4" y="50"/>
                  </a:cubicBezTo>
                  <a:cubicBezTo>
                    <a:pt x="4" y="49"/>
                    <a:pt x="4" y="48"/>
                    <a:pt x="4" y="47"/>
                  </a:cubicBezTo>
                  <a:cubicBezTo>
                    <a:pt x="5" y="46"/>
                    <a:pt x="6" y="46"/>
                    <a:pt x="7" y="46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5" y="46"/>
                    <a:pt x="26" y="47"/>
                    <a:pt x="26" y="47"/>
                  </a:cubicBezTo>
                  <a:cubicBezTo>
                    <a:pt x="27" y="65"/>
                    <a:pt x="27" y="65"/>
                    <a:pt x="27" y="65"/>
                  </a:cubicBezTo>
                  <a:cubicBezTo>
                    <a:pt x="27" y="66"/>
                    <a:pt x="27" y="67"/>
                    <a:pt x="26" y="68"/>
                  </a:cubicBezTo>
                  <a:close/>
                  <a:moveTo>
                    <a:pt x="41" y="61"/>
                  </a:moveTo>
                  <a:cubicBezTo>
                    <a:pt x="30" y="61"/>
                    <a:pt x="30" y="61"/>
                    <a:pt x="30" y="61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1" y="50"/>
                    <a:pt x="33" y="51"/>
                    <a:pt x="35" y="51"/>
                  </a:cubicBezTo>
                  <a:cubicBezTo>
                    <a:pt x="38" y="51"/>
                    <a:pt x="40" y="50"/>
                    <a:pt x="41" y="49"/>
                  </a:cubicBezTo>
                  <a:lnTo>
                    <a:pt x="41" y="61"/>
                  </a:lnTo>
                  <a:close/>
                  <a:moveTo>
                    <a:pt x="35" y="48"/>
                  </a:moveTo>
                  <a:cubicBezTo>
                    <a:pt x="29" y="48"/>
                    <a:pt x="25" y="43"/>
                    <a:pt x="25" y="37"/>
                  </a:cubicBezTo>
                  <a:cubicBezTo>
                    <a:pt x="25" y="31"/>
                    <a:pt x="29" y="26"/>
                    <a:pt x="35" y="26"/>
                  </a:cubicBezTo>
                  <a:cubicBezTo>
                    <a:pt x="41" y="26"/>
                    <a:pt x="46" y="31"/>
                    <a:pt x="46" y="37"/>
                  </a:cubicBezTo>
                  <a:cubicBezTo>
                    <a:pt x="46" y="43"/>
                    <a:pt x="41" y="48"/>
                    <a:pt x="35" y="48"/>
                  </a:cubicBezTo>
                  <a:close/>
                  <a:moveTo>
                    <a:pt x="67" y="50"/>
                  </a:moveTo>
                  <a:cubicBezTo>
                    <a:pt x="63" y="58"/>
                    <a:pt x="56" y="65"/>
                    <a:pt x="48" y="68"/>
                  </a:cubicBezTo>
                  <a:cubicBezTo>
                    <a:pt x="47" y="69"/>
                    <a:pt x="46" y="69"/>
                    <a:pt x="45" y="68"/>
                  </a:cubicBezTo>
                  <a:cubicBezTo>
                    <a:pt x="44" y="67"/>
                    <a:pt x="44" y="66"/>
                    <a:pt x="44" y="65"/>
                  </a:cubicBezTo>
                  <a:cubicBezTo>
                    <a:pt x="44" y="47"/>
                    <a:pt x="44" y="47"/>
                    <a:pt x="44" y="47"/>
                  </a:cubicBezTo>
                  <a:cubicBezTo>
                    <a:pt x="45" y="47"/>
                    <a:pt x="46" y="46"/>
                    <a:pt x="47" y="45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5" y="46"/>
                    <a:pt x="66" y="46"/>
                    <a:pt x="66" y="47"/>
                  </a:cubicBezTo>
                  <a:cubicBezTo>
                    <a:pt x="67" y="48"/>
                    <a:pt x="67" y="49"/>
                    <a:pt x="67" y="50"/>
                  </a:cubicBezTo>
                  <a:close/>
                  <a:moveTo>
                    <a:pt x="67" y="50"/>
                  </a:moveTo>
                  <a:cubicBezTo>
                    <a:pt x="67" y="50"/>
                    <a:pt x="67" y="50"/>
                    <a:pt x="67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10" name="Freeform 326"/>
            <p:cNvSpPr/>
            <p:nvPr/>
          </p:nvSpPr>
          <p:spPr>
            <a:xfrm>
              <a:off x="4188240" y="4920120"/>
              <a:ext cx="56160" cy="56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2"/>
                    <a:pt x="3" y="15"/>
                    <a:pt x="7" y="15"/>
                  </a:cubicBezTo>
                  <a:cubicBezTo>
                    <a:pt x="12" y="15"/>
                    <a:pt x="15" y="12"/>
                    <a:pt x="15" y="8"/>
                  </a:cubicBezTo>
                  <a:cubicBezTo>
                    <a:pt x="15" y="4"/>
                    <a:pt x="12" y="0"/>
                    <a:pt x="7" y="0"/>
                  </a:cubicBezTo>
                  <a:close/>
                  <a:moveTo>
                    <a:pt x="7" y="12"/>
                  </a:moveTo>
                  <a:cubicBezTo>
                    <a:pt x="5" y="12"/>
                    <a:pt x="3" y="10"/>
                    <a:pt x="3" y="8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10" y="3"/>
                    <a:pt x="12" y="5"/>
                    <a:pt x="12" y="8"/>
                  </a:cubicBezTo>
                  <a:cubicBezTo>
                    <a:pt x="12" y="10"/>
                    <a:pt x="10" y="12"/>
                    <a:pt x="7" y="12"/>
                  </a:cubicBezTo>
                  <a:close/>
                  <a:moveTo>
                    <a:pt x="7" y="12"/>
                  </a:moveTo>
                  <a:cubicBezTo>
                    <a:pt x="7" y="12"/>
                    <a:pt x="7" y="12"/>
                    <a:pt x="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pic>
        <p:nvPicPr>
          <p:cNvPr id="711" name="Group 38" descr=""/>
          <p:cNvPicPr/>
          <p:nvPr/>
        </p:nvPicPr>
        <p:blipFill>
          <a:blip r:embed="rId3"/>
          <a:stretch/>
        </p:blipFill>
        <p:spPr>
          <a:xfrm>
            <a:off x="9674280" y="4773600"/>
            <a:ext cx="365040" cy="358920"/>
          </a:xfrm>
          <a:prstGeom prst="rect">
            <a:avLst/>
          </a:prstGeom>
          <a:ln w="0">
            <a:noFill/>
          </a:ln>
        </p:spPr>
      </p:pic>
      <p:sp>
        <p:nvSpPr>
          <p:cNvPr id="712" name="TextBox 91"/>
          <p:cNvSpPr/>
          <p:nvPr/>
        </p:nvSpPr>
        <p:spPr>
          <a:xfrm>
            <a:off x="7139160" y="5253120"/>
            <a:ext cx="16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3" name="TextBox 92"/>
          <p:cNvSpPr/>
          <p:nvPr/>
        </p:nvSpPr>
        <p:spPr>
          <a:xfrm>
            <a:off x="9018720" y="525312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4" name="TextBox 93"/>
          <p:cNvSpPr/>
          <p:nvPr/>
        </p:nvSpPr>
        <p:spPr>
          <a:xfrm>
            <a:off x="3379680" y="527544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5" name="TextBox 94"/>
          <p:cNvSpPr/>
          <p:nvPr/>
        </p:nvSpPr>
        <p:spPr>
          <a:xfrm>
            <a:off x="5259240" y="527544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Raleway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6" name="Rectangle 103"/>
          <p:cNvSpPr/>
          <p:nvPr/>
        </p:nvSpPr>
        <p:spPr>
          <a:xfrm>
            <a:off x="5094360" y="2617920"/>
            <a:ext cx="4788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12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7" name="TextBox 53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18" name="TextBox 54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1"/>
          <p:cNvSpPr/>
          <p:nvPr/>
        </p:nvSpPr>
        <p:spPr>
          <a:xfrm>
            <a:off x="1433520" y="116208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Our Games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0" name="Cross 7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1" name="Circle: Hollow 8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2" name="TextBox 24"/>
          <p:cNvSpPr/>
          <p:nvPr/>
        </p:nvSpPr>
        <p:spPr>
          <a:xfrm flipH="1">
            <a:off x="1790640" y="2475000"/>
            <a:ext cx="131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3" name="TextBox 25"/>
          <p:cNvSpPr/>
          <p:nvPr/>
        </p:nvSpPr>
        <p:spPr>
          <a:xfrm flipH="1">
            <a:off x="1513800" y="2933640"/>
            <a:ext cx="36558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4" name="TextBox 27"/>
          <p:cNvSpPr/>
          <p:nvPr/>
        </p:nvSpPr>
        <p:spPr>
          <a:xfrm flipH="1">
            <a:off x="1812960" y="417528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5" name="TextBox 28"/>
          <p:cNvSpPr/>
          <p:nvPr/>
        </p:nvSpPr>
        <p:spPr>
          <a:xfrm flipH="1">
            <a:off x="1536120" y="4532400"/>
            <a:ext cx="36558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6" name="TextBox 31"/>
          <p:cNvSpPr/>
          <p:nvPr/>
        </p:nvSpPr>
        <p:spPr>
          <a:xfrm flipH="1">
            <a:off x="1477080" y="2444760"/>
            <a:ext cx="1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48cf"/>
                </a:solidFill>
                <a:latin typeface="Karla"/>
                <a:ea typeface="Lato regular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7" name="TextBox 32"/>
          <p:cNvSpPr/>
          <p:nvPr/>
        </p:nvSpPr>
        <p:spPr>
          <a:xfrm flipH="1">
            <a:off x="1477080" y="4145040"/>
            <a:ext cx="1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e2ee"/>
                </a:solidFill>
                <a:latin typeface="Karla"/>
                <a:ea typeface="Lato regular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8" name="Rectangle 33"/>
          <p:cNvSpPr/>
          <p:nvPr/>
        </p:nvSpPr>
        <p:spPr>
          <a:xfrm>
            <a:off x="7983360" y="2598840"/>
            <a:ext cx="762120" cy="761760"/>
          </a:xfrm>
          <a:prstGeom prst="rect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29" name="Rectangle 34"/>
          <p:cNvSpPr/>
          <p:nvPr/>
        </p:nvSpPr>
        <p:spPr>
          <a:xfrm>
            <a:off x="8879040" y="1647720"/>
            <a:ext cx="819000" cy="81936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0" name="Rectangle 35"/>
          <p:cNvSpPr/>
          <p:nvPr/>
        </p:nvSpPr>
        <p:spPr>
          <a:xfrm>
            <a:off x="8879040" y="4390920"/>
            <a:ext cx="475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1" name="TextBox 16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2" name="TextBox 17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733" name="Picture Placeholder 11" descr=""/>
          <p:cNvPicPr/>
          <p:nvPr/>
        </p:nvPicPr>
        <p:blipFill>
          <a:blip r:embed="rId1"/>
          <a:srcRect l="7713" t="0" r="7713" b="0"/>
          <a:stretch/>
        </p:blipFill>
        <p:spPr>
          <a:xfrm>
            <a:off x="6095880" y="711360"/>
            <a:ext cx="2730600" cy="18158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Placeholder 13" descr=""/>
          <p:cNvPicPr/>
          <p:nvPr/>
        </p:nvPicPr>
        <p:blipFill>
          <a:blip r:embed="rId2"/>
          <a:srcRect l="7713" t="0" r="7713" b="0"/>
          <a:stretch/>
        </p:blipFill>
        <p:spPr>
          <a:xfrm>
            <a:off x="8826480" y="2527200"/>
            <a:ext cx="2730600" cy="1816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Placeholder 18" descr=""/>
          <p:cNvPicPr/>
          <p:nvPr/>
        </p:nvPicPr>
        <p:blipFill>
          <a:blip r:embed="rId3"/>
          <a:srcRect l="7713" t="0" r="7713" b="0"/>
          <a:stretch/>
        </p:blipFill>
        <p:spPr>
          <a:xfrm>
            <a:off x="6095880" y="4343400"/>
            <a:ext cx="2730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"/>
          <p:cNvSpPr/>
          <p:nvPr/>
        </p:nvSpPr>
        <p:spPr>
          <a:xfrm>
            <a:off x="5983200" y="115560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Load Impact 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2003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7" name="Cross 6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8" name="Circle: Hollow 7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39" name="TextBox 15"/>
          <p:cNvSpPr/>
          <p:nvPr/>
        </p:nvSpPr>
        <p:spPr>
          <a:xfrm flipH="1">
            <a:off x="6095160" y="2693880"/>
            <a:ext cx="46054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grpSp>
        <p:nvGrpSpPr>
          <p:cNvPr id="740" name="Group 5"/>
          <p:cNvGrpSpPr/>
          <p:nvPr/>
        </p:nvGrpSpPr>
        <p:grpSpPr>
          <a:xfrm>
            <a:off x="8834400" y="5045040"/>
            <a:ext cx="2136960" cy="243720"/>
            <a:chOff x="8834400" y="5045040"/>
            <a:chExt cx="2136960" cy="243720"/>
          </a:xfrm>
        </p:grpSpPr>
        <p:sp>
          <p:nvSpPr>
            <p:cNvPr id="741" name="Right Arrow 5"/>
            <p:cNvSpPr/>
            <p:nvPr/>
          </p:nvSpPr>
          <p:spPr>
            <a:xfrm>
              <a:off x="8834400" y="5107680"/>
              <a:ext cx="423360" cy="114120"/>
            </a:xfrm>
            <a:prstGeom prst="rightArrow">
              <a:avLst>
                <a:gd name="adj1" fmla="val 50000"/>
                <a:gd name="adj2" fmla="val 500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Karla"/>
              </a:endParaRPr>
            </a:p>
          </p:txBody>
        </p:sp>
        <p:sp>
          <p:nvSpPr>
            <p:cNvPr id="742" name="TextBox 19"/>
            <p:cNvSpPr/>
            <p:nvPr/>
          </p:nvSpPr>
          <p:spPr>
            <a:xfrm flipH="1">
              <a:off x="9405360" y="504504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Next Game</a:t>
              </a:r>
              <a:endParaRPr b="0" lang="en-US" sz="1600" spc="-1" strike="noStrike">
                <a:solidFill>
                  <a:srgbClr val="ffffff"/>
                </a:solidFill>
                <a:latin typeface="Karla"/>
              </a:endParaRPr>
            </a:p>
          </p:txBody>
        </p:sp>
      </p:grpSp>
      <p:sp>
        <p:nvSpPr>
          <p:cNvPr id="743" name="Rectangle 4"/>
          <p:cNvSpPr/>
          <p:nvPr/>
        </p:nvSpPr>
        <p:spPr>
          <a:xfrm>
            <a:off x="0" y="2370240"/>
            <a:ext cx="2463840" cy="6458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44" name="Rectangle 12"/>
          <p:cNvSpPr/>
          <p:nvPr/>
        </p:nvSpPr>
        <p:spPr>
          <a:xfrm rot="16200000">
            <a:off x="2613960" y="465480"/>
            <a:ext cx="1577880" cy="6462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46" name="TextBox 14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747" name="Picture Placeholder 17" descr=""/>
          <p:cNvPicPr/>
          <p:nvPr/>
        </p:nvPicPr>
        <p:blipFill>
          <a:blip r:embed="rId1"/>
          <a:srcRect l="37976" t="0" r="37976" b="0"/>
          <a:stretch/>
        </p:blipFill>
        <p:spPr>
          <a:xfrm>
            <a:off x="2463840" y="1577880"/>
            <a:ext cx="2257560" cy="52801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Placeholder 21" descr=""/>
          <p:cNvPicPr/>
          <p:nvPr/>
        </p:nvPicPr>
        <p:blipFill>
          <a:blip r:embed="rId2"/>
          <a:srcRect l="0" t="14033" r="0" b="14033"/>
          <a:stretch/>
        </p:blipFill>
        <p:spPr>
          <a:xfrm>
            <a:off x="3710160" y="4324320"/>
            <a:ext cx="451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1"/>
          <p:cNvSpPr/>
          <p:nvPr/>
        </p:nvSpPr>
        <p:spPr>
          <a:xfrm>
            <a:off x="1433520" y="117324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Our Tournamen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0" name="Cross 6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1" name="Circle: Hollow 7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2" name="TextBox 19"/>
          <p:cNvSpPr/>
          <p:nvPr/>
        </p:nvSpPr>
        <p:spPr>
          <a:xfrm>
            <a:off x="1442880" y="2244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leway"/>
              </a:rPr>
              <a:t>23</a:t>
            </a:r>
            <a:endParaRPr b="0" lang="en-US" sz="5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3" name="TextBox 20"/>
          <p:cNvSpPr/>
          <p:nvPr/>
        </p:nvSpPr>
        <p:spPr>
          <a:xfrm flipH="1">
            <a:off x="2532240" y="2486160"/>
            <a:ext cx="15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4" name="TextBox 21"/>
          <p:cNvSpPr/>
          <p:nvPr/>
        </p:nvSpPr>
        <p:spPr>
          <a:xfrm flipH="1">
            <a:off x="2532240" y="2782800"/>
            <a:ext cx="15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5" name="TextBox 22"/>
          <p:cNvSpPr/>
          <p:nvPr/>
        </p:nvSpPr>
        <p:spPr>
          <a:xfrm flipH="1">
            <a:off x="1513800" y="3719520"/>
            <a:ext cx="21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Opening Ceremony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6" name="TextBox 23"/>
          <p:cNvSpPr/>
          <p:nvPr/>
        </p:nvSpPr>
        <p:spPr>
          <a:xfrm flipH="1">
            <a:off x="1513800" y="4030560"/>
            <a:ext cx="33814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.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7" name="TextBox 24"/>
          <p:cNvSpPr/>
          <p:nvPr/>
        </p:nvSpPr>
        <p:spPr>
          <a:xfrm>
            <a:off x="3746520" y="2219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leway"/>
              </a:rPr>
              <a:t>23</a:t>
            </a:r>
            <a:endParaRPr b="0" lang="en-US" sz="5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8" name="TextBox 25"/>
          <p:cNvSpPr/>
          <p:nvPr/>
        </p:nvSpPr>
        <p:spPr>
          <a:xfrm flipH="1">
            <a:off x="4896000" y="2459160"/>
            <a:ext cx="15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59" name="TextBox 26"/>
          <p:cNvSpPr/>
          <p:nvPr/>
        </p:nvSpPr>
        <p:spPr>
          <a:xfrm flipH="1">
            <a:off x="4896000" y="2757600"/>
            <a:ext cx="15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0" name="TextBox 14"/>
          <p:cNvSpPr/>
          <p:nvPr/>
        </p:nvSpPr>
        <p:spPr>
          <a:xfrm flipH="1">
            <a:off x="1541520" y="4818240"/>
            <a:ext cx="3540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1" name="TextBox 15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2" name="TextBox 16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763" name="Picture Placeholder 13" descr=""/>
          <p:cNvPicPr/>
          <p:nvPr/>
        </p:nvPicPr>
        <p:blipFill>
          <a:blip r:embed="rId1"/>
          <a:srcRect l="12528" t="0" r="12528" b="0"/>
          <a:stretch/>
        </p:blipFill>
        <p:spPr>
          <a:xfrm>
            <a:off x="7924680" y="3846600"/>
            <a:ext cx="2730600" cy="2049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Placeholder 10" descr=""/>
          <p:cNvPicPr/>
          <p:nvPr/>
        </p:nvPicPr>
        <p:blipFill>
          <a:blip r:embed="rId2"/>
          <a:srcRect l="12528" t="0" r="12528" b="0"/>
          <a:stretch/>
        </p:blipFill>
        <p:spPr>
          <a:xfrm>
            <a:off x="6997680" y="1719360"/>
            <a:ext cx="2730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5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1"/>
          <p:cNvSpPr/>
          <p:nvPr/>
        </p:nvSpPr>
        <p:spPr>
          <a:xfrm>
            <a:off x="7810560" y="1158840"/>
            <a:ext cx="374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aleway"/>
              </a:rPr>
              <a:t>Gaming Equipment</a:t>
            </a:r>
            <a:endParaRPr b="0" lang="en-US" sz="3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6" name="Cross 6"/>
          <p:cNvSpPr/>
          <p:nvPr/>
        </p:nvSpPr>
        <p:spPr>
          <a:xfrm rot="2700000">
            <a:off x="9838800" y="933480"/>
            <a:ext cx="436680" cy="436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7" name="Circle: Hollow 7"/>
          <p:cNvSpPr/>
          <p:nvPr/>
        </p:nvSpPr>
        <p:spPr>
          <a:xfrm rot="19800000">
            <a:off x="461520" y="5605200"/>
            <a:ext cx="436680" cy="436320"/>
          </a:xfrm>
          <a:custGeom>
            <a:avLst/>
            <a:gdLst/>
            <a:ahLst/>
            <a:rect l="l" t="t" r="r" b="b"/>
            <a:pathLst>
              <a:path w="436728" h="436728">
                <a:moveTo>
                  <a:pt x="0" y="218364"/>
                </a:moveTo>
                <a:cubicBezTo>
                  <a:pt x="0" y="97765"/>
                  <a:pt x="97765" y="0"/>
                  <a:pt x="218364" y="0"/>
                </a:cubicBezTo>
                <a:cubicBezTo>
                  <a:pt x="338963" y="0"/>
                  <a:pt x="436728" y="97765"/>
                  <a:pt x="436728" y="218364"/>
                </a:cubicBezTo>
                <a:cubicBezTo>
                  <a:pt x="436728" y="338963"/>
                  <a:pt x="338963" y="436728"/>
                  <a:pt x="218364" y="436728"/>
                </a:cubicBezTo>
                <a:cubicBezTo>
                  <a:pt x="97765" y="436728"/>
                  <a:pt x="0" y="338963"/>
                  <a:pt x="0" y="218364"/>
                </a:cubicBezTo>
                <a:close/>
                <a:moveTo>
                  <a:pt x="109182" y="218364"/>
                </a:moveTo>
                <a:cubicBezTo>
                  <a:pt x="109182" y="278664"/>
                  <a:pt x="158064" y="327546"/>
                  <a:pt x="218364" y="327546"/>
                </a:cubicBezTo>
                <a:cubicBezTo>
                  <a:pt x="278664" y="327546"/>
                  <a:pt x="327546" y="278664"/>
                  <a:pt x="327546" y="218364"/>
                </a:cubicBezTo>
                <a:cubicBezTo>
                  <a:pt x="327546" y="158064"/>
                  <a:pt x="278664" y="109182"/>
                  <a:pt x="218364" y="109182"/>
                </a:cubicBezTo>
                <a:cubicBezTo>
                  <a:pt x="158064" y="109182"/>
                  <a:pt x="109182" y="158064"/>
                  <a:pt x="109182" y="218364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8" name="TextBox 14"/>
          <p:cNvSpPr/>
          <p:nvPr/>
        </p:nvSpPr>
        <p:spPr>
          <a:xfrm flipH="1">
            <a:off x="7916040" y="2709720"/>
            <a:ext cx="2987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69" name="TextBox 8"/>
          <p:cNvSpPr/>
          <p:nvPr/>
        </p:nvSpPr>
        <p:spPr>
          <a:xfrm flipH="1">
            <a:off x="2707560" y="2355840"/>
            <a:ext cx="12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Keyboard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0" name="TextBox 9"/>
          <p:cNvSpPr/>
          <p:nvPr/>
        </p:nvSpPr>
        <p:spPr>
          <a:xfrm flipH="1">
            <a:off x="4502880" y="4192560"/>
            <a:ext cx="137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PC Gamming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1" name="TextBox 10"/>
          <p:cNvSpPr/>
          <p:nvPr/>
        </p:nvSpPr>
        <p:spPr>
          <a:xfrm flipH="1">
            <a:off x="7936920" y="4167360"/>
            <a:ext cx="2174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arla"/>
                <a:ea typeface="Lato regular"/>
              </a:rPr>
              <a:t>Description PC Gamming</a:t>
            </a:r>
            <a:endParaRPr b="0" lang="en-US" sz="14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2" name="TextBox 12"/>
          <p:cNvSpPr/>
          <p:nvPr/>
        </p:nvSpPr>
        <p:spPr>
          <a:xfrm flipH="1">
            <a:off x="8492400" y="4525920"/>
            <a:ext cx="21747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3" name="Oval 2"/>
          <p:cNvSpPr/>
          <p:nvPr/>
        </p:nvSpPr>
        <p:spPr>
          <a:xfrm>
            <a:off x="8109000" y="4616280"/>
            <a:ext cx="120600" cy="120960"/>
          </a:xfrm>
          <a:prstGeom prst="ellipse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4" name="TextBox 18"/>
          <p:cNvSpPr/>
          <p:nvPr/>
        </p:nvSpPr>
        <p:spPr>
          <a:xfrm flipH="1">
            <a:off x="8492400" y="5284800"/>
            <a:ext cx="21747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11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11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5" name="Oval 19"/>
          <p:cNvSpPr/>
          <p:nvPr/>
        </p:nvSpPr>
        <p:spPr>
          <a:xfrm>
            <a:off x="8109000" y="5375160"/>
            <a:ext cx="120600" cy="120600"/>
          </a:xfrm>
          <a:prstGeom prst="ellipse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6" name="TextBox 15"/>
          <p:cNvSpPr/>
          <p:nvPr/>
        </p:nvSpPr>
        <p:spPr>
          <a:xfrm>
            <a:off x="509760" y="492120"/>
            <a:ext cx="13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1200" spc="-1" strike="noStrike">
              <a:solidFill>
                <a:srgbClr val="ffffff"/>
              </a:solidFill>
              <a:latin typeface="Karla"/>
            </a:endParaRPr>
          </a:p>
        </p:txBody>
      </p:sp>
      <p:sp>
        <p:nvSpPr>
          <p:cNvPr id="777" name="TextBox 16"/>
          <p:cNvSpPr/>
          <p:nvPr/>
        </p:nvSpPr>
        <p:spPr>
          <a:xfrm>
            <a:off x="9605880" y="6227640"/>
            <a:ext cx="20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1000" spc="-1" strike="noStrike">
              <a:solidFill>
                <a:srgbClr val="ffffff"/>
              </a:solidFill>
              <a:latin typeface="Karla"/>
            </a:endParaRPr>
          </a:p>
        </p:txBody>
      </p:sp>
      <p:pic>
        <p:nvPicPr>
          <p:cNvPr id="778" name="Picture Placeholder 21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4254480" y="698400"/>
            <a:ext cx="2730600" cy="27306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Placeholder 23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1523880" y="342900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5T10:01:09Z</dcterms:created>
  <dc:creator>Andro</dc:creator>
  <dc:description/>
  <dc:language>en-US</dc:language>
  <cp:lastModifiedBy>rizky sandhi</cp:lastModifiedBy>
  <dcterms:modified xsi:type="dcterms:W3CDTF">2020-11-30T07:12:58Z</dcterms:modified>
  <cp:revision>82</cp:revision>
  <dc:subject/>
  <dc:title>PowerPoint Presentation</dc:title>
</cp:coreProperties>
</file>