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  <p:sldId id="279" r:id="rId61"/>
    <p:sldId id="280" r:id="rId62"/>
    <p:sldId id="281" r:id="rId63"/>
    <p:sldId id="282" r:id="rId64"/>
    <p:sldId id="283" r:id="rId65"/>
    <p:sldId id="284" r:id="rId66"/>
    <p:sldId id="285" r:id="rId67"/>
    <p:sldId id="286" r:id="rId68"/>
    <p:sldId id="287" r:id="rId69"/>
    <p:sldId id="288" r:id="rId70"/>
    <p:sldId id="289" r:id="rId71"/>
    <p:sldId id="290" r:id="rId7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slide" Target="slides/slide24.xml"/><Relationship Id="rId62" Type="http://schemas.openxmlformats.org/officeDocument/2006/relationships/slide" Target="slides/slide25.xml"/><Relationship Id="rId63" Type="http://schemas.openxmlformats.org/officeDocument/2006/relationships/slide" Target="slides/slide26.xml"/><Relationship Id="rId64" Type="http://schemas.openxmlformats.org/officeDocument/2006/relationships/slide" Target="slides/slide27.xml"/><Relationship Id="rId65" Type="http://schemas.openxmlformats.org/officeDocument/2006/relationships/slide" Target="slides/slide28.xml"/><Relationship Id="rId66" Type="http://schemas.openxmlformats.org/officeDocument/2006/relationships/slide" Target="slides/slide29.xml"/><Relationship Id="rId67" Type="http://schemas.openxmlformats.org/officeDocument/2006/relationships/slide" Target="slides/slide30.xml"/><Relationship Id="rId68" Type="http://schemas.openxmlformats.org/officeDocument/2006/relationships/slide" Target="slides/slide31.xml"/><Relationship Id="rId69" Type="http://schemas.openxmlformats.org/officeDocument/2006/relationships/slide" Target="slides/slide32.xml"/><Relationship Id="rId70" Type="http://schemas.openxmlformats.org/officeDocument/2006/relationships/slide" Target="slides/slide33.xml"/><Relationship Id="rId71" Type="http://schemas.openxmlformats.org/officeDocument/2006/relationships/slide" Target="slides/slide34.xml"/><Relationship Id="rId72" Type="http://schemas.openxmlformats.org/officeDocument/2006/relationships/slide" Target="slides/slide35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E1A0-C908-4CF3-8329-EBBBFF7EB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FD2C-0194-44F9-B152-60439685D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B3E1-9D66-46A4-9FC1-0AD1B9689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ange the image behind the Mock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the layer - &gt; Right Click -&gt; Send to Back -&gt; Delete the image -&gt; Drag &amp; Drop your Own Picture -&gt; Send to Back (ag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3722-1B21-4FEF-9D96-FA647D3E8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2158" name="Shape 505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FC0A-95BF-4BF9-A98B-2811CB8400A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9DF-EFB2-4EA3-9680-C381A5A8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48C-4F50-41B1-B3AB-F03DF291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981-927C-49BC-B4FE-DC10E94A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6BA-7027-444B-B1C1-2C3DC9BB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BB7-B1E6-4A9A-9999-FA57C70F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86A-6FC5-488F-ADB3-0375A1A6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68C-074A-4B39-A612-F3BB73E2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5F6-D409-46CE-A6EE-7F610CEE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382-5306-4404-A4AF-D1558499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CAA-44D3-47E2-B865-ECBC80CF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8F8-87CF-4F3E-BAE7-405A771F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A4B-479B-4ED0-92F2-95CCDD11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C6B8-EF6E-4DD3-A90B-57A3AE511C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09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0" name="Group 5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341" name="Rectangle 6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Rectangle 7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6" name="TextBox 4"/>
          <p:cNvSpPr/>
          <p:nvPr/>
        </p:nvSpPr>
        <p:spPr>
          <a:xfrm>
            <a:off x="3228840" y="4091040"/>
            <a:ext cx="573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Rectangle 11"/>
          <p:cNvSpPr/>
          <p:nvPr/>
        </p:nvSpPr>
        <p:spPr>
          <a:xfrm>
            <a:off x="2757600" y="2952720"/>
            <a:ext cx="6642000" cy="95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3"/>
          <p:cNvSpPr/>
          <p:nvPr/>
        </p:nvSpPr>
        <p:spPr>
          <a:xfrm>
            <a:off x="2384280" y="2766960"/>
            <a:ext cx="742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FINANCIAL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5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456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1" name="Rectangle 9"/>
          <p:cNvSpPr/>
          <p:nvPr/>
        </p:nvSpPr>
        <p:spPr>
          <a:xfrm>
            <a:off x="1312920" y="387360"/>
            <a:ext cx="2254320" cy="77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Text Placeholder 6"/>
          <p:cNvSpPr/>
          <p:nvPr/>
        </p:nvSpPr>
        <p:spPr>
          <a:xfrm>
            <a:off x="7391520" y="914400"/>
            <a:ext cx="3600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TextBox 11"/>
          <p:cNvSpPr/>
          <p:nvPr/>
        </p:nvSpPr>
        <p:spPr>
          <a:xfrm>
            <a:off x="1330200" y="387360"/>
            <a:ext cx="495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TEAM</a:t>
            </a:r>
            <a:r>
              <a:rPr b="0" lang="en-US" sz="44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DISCUSSION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TextBox 12"/>
          <p:cNvSpPr/>
          <p:nvPr/>
        </p:nvSpPr>
        <p:spPr>
          <a:xfrm>
            <a:off x="1330200" y="2611440"/>
            <a:ext cx="428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Straight Connector 14"/>
          <p:cNvSpPr/>
          <p:nvPr/>
        </p:nvSpPr>
        <p:spPr>
          <a:xfrm>
            <a:off x="6340320" y="914400"/>
            <a:ext cx="0" cy="1596960"/>
          </a:xfrm>
          <a:prstGeom prst="line">
            <a:avLst/>
          </a:prstGeom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Text Placeholder 6"/>
          <p:cNvSpPr/>
          <p:nvPr/>
        </p:nvSpPr>
        <p:spPr>
          <a:xfrm>
            <a:off x="7391520" y="2462040"/>
            <a:ext cx="3600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Text Placeholder 6"/>
          <p:cNvSpPr/>
          <p:nvPr/>
        </p:nvSpPr>
        <p:spPr>
          <a:xfrm>
            <a:off x="7391520" y="3919680"/>
            <a:ext cx="36003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Oval 17"/>
          <p:cNvSpPr/>
          <p:nvPr/>
        </p:nvSpPr>
        <p:spPr>
          <a:xfrm>
            <a:off x="6757920" y="939960"/>
            <a:ext cx="482760" cy="480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Oval 18"/>
          <p:cNvSpPr/>
          <p:nvPr/>
        </p:nvSpPr>
        <p:spPr>
          <a:xfrm>
            <a:off x="6757920" y="2513160"/>
            <a:ext cx="482760" cy="480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Oval 19"/>
          <p:cNvSpPr/>
          <p:nvPr/>
        </p:nvSpPr>
        <p:spPr>
          <a:xfrm>
            <a:off x="6757920" y="3994200"/>
            <a:ext cx="482760" cy="480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TextBox 20"/>
          <p:cNvSpPr/>
          <p:nvPr/>
        </p:nvSpPr>
        <p:spPr>
          <a:xfrm>
            <a:off x="6740640" y="1025640"/>
            <a:ext cx="49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ontserrat"/>
                <a:ea typeface="Fashion Script Personal Use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TextBox 21"/>
          <p:cNvSpPr/>
          <p:nvPr/>
        </p:nvSpPr>
        <p:spPr>
          <a:xfrm>
            <a:off x="6761160" y="2600280"/>
            <a:ext cx="4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ontserrat"/>
                <a:ea typeface="Fashion Script Personal Use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TextBox 22"/>
          <p:cNvSpPr/>
          <p:nvPr/>
        </p:nvSpPr>
        <p:spPr>
          <a:xfrm>
            <a:off x="6781680" y="4081320"/>
            <a:ext cx="4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ontserrat"/>
                <a:ea typeface="Fashion Script Personal Use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Text Placeholder 6"/>
          <p:cNvSpPr/>
          <p:nvPr/>
        </p:nvSpPr>
        <p:spPr>
          <a:xfrm>
            <a:off x="7391520" y="5375160"/>
            <a:ext cx="3600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Oval 24"/>
          <p:cNvSpPr/>
          <p:nvPr/>
        </p:nvSpPr>
        <p:spPr>
          <a:xfrm>
            <a:off x="6757920" y="5450040"/>
            <a:ext cx="482760" cy="480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TextBox 25"/>
          <p:cNvSpPr/>
          <p:nvPr/>
        </p:nvSpPr>
        <p:spPr>
          <a:xfrm>
            <a:off x="6700680" y="553716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ontserrat"/>
                <a:ea typeface="Fashion Script Personal Use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7" name="" descr=""/>
          <p:cNvPicPr/>
          <p:nvPr/>
        </p:nvPicPr>
        <p:blipFill>
          <a:blip r:embed="rId1"/>
          <a:stretch/>
        </p:blipFill>
        <p:spPr>
          <a:xfrm>
            <a:off x="1312920" y="3024000"/>
            <a:ext cx="4557600" cy="383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8" name="Group 3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479" name="Rectangle 4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Rectangle 5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4" name="Rectangle 15"/>
          <p:cNvSpPr/>
          <p:nvPr/>
        </p:nvSpPr>
        <p:spPr>
          <a:xfrm>
            <a:off x="4332240" y="1195560"/>
            <a:ext cx="5996160" cy="21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Rectangle 16"/>
          <p:cNvSpPr/>
          <p:nvPr/>
        </p:nvSpPr>
        <p:spPr>
          <a:xfrm>
            <a:off x="4332240" y="3544920"/>
            <a:ext cx="5996160" cy="2138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Text Placeholder 6"/>
          <p:cNvSpPr/>
          <p:nvPr/>
        </p:nvSpPr>
        <p:spPr>
          <a:xfrm>
            <a:off x="5033880" y="1554120"/>
            <a:ext cx="4592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Text Placeholder 6"/>
          <p:cNvSpPr/>
          <p:nvPr/>
        </p:nvSpPr>
        <p:spPr>
          <a:xfrm>
            <a:off x="5033880" y="2392200"/>
            <a:ext cx="4592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Text Placeholder 6"/>
          <p:cNvSpPr/>
          <p:nvPr/>
        </p:nvSpPr>
        <p:spPr>
          <a:xfrm>
            <a:off x="5033880" y="3951360"/>
            <a:ext cx="4592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Text Placeholder 6"/>
          <p:cNvSpPr/>
          <p:nvPr/>
        </p:nvSpPr>
        <p:spPr>
          <a:xfrm>
            <a:off x="5033880" y="4788000"/>
            <a:ext cx="4592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0" name="Group 24"/>
          <p:cNvGrpSpPr/>
          <p:nvPr/>
        </p:nvGrpSpPr>
        <p:grpSpPr>
          <a:xfrm>
            <a:off x="1004760" y="835200"/>
            <a:ext cx="733680" cy="718920"/>
            <a:chOff x="1004760" y="835200"/>
            <a:chExt cx="733680" cy="718920"/>
          </a:xfrm>
        </p:grpSpPr>
        <p:sp>
          <p:nvSpPr>
            <p:cNvPr id="1491" name="Oval 22"/>
            <p:cNvSpPr/>
            <p:nvPr/>
          </p:nvSpPr>
          <p:spPr>
            <a:xfrm>
              <a:off x="1017360" y="835200"/>
              <a:ext cx="721080" cy="71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TextBox 23"/>
            <p:cNvSpPr/>
            <p:nvPr/>
          </p:nvSpPr>
          <p:spPr>
            <a:xfrm>
              <a:off x="1004760" y="995040"/>
              <a:ext cx="73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ontserrat"/>
                  <a:ea typeface="Fashion Script Personal Use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3" name="Group 25"/>
          <p:cNvGrpSpPr/>
          <p:nvPr/>
        </p:nvGrpSpPr>
        <p:grpSpPr>
          <a:xfrm>
            <a:off x="1017720" y="3429000"/>
            <a:ext cx="733320" cy="720720"/>
            <a:chOff x="1017720" y="3429000"/>
            <a:chExt cx="733320" cy="720720"/>
          </a:xfrm>
        </p:grpSpPr>
        <p:sp>
          <p:nvSpPr>
            <p:cNvPr id="1494" name="Oval 26"/>
            <p:cNvSpPr/>
            <p:nvPr/>
          </p:nvSpPr>
          <p:spPr>
            <a:xfrm>
              <a:off x="1030320" y="3429000"/>
              <a:ext cx="720720" cy="72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TextBox 27"/>
            <p:cNvSpPr/>
            <p:nvPr/>
          </p:nvSpPr>
          <p:spPr>
            <a:xfrm>
              <a:off x="1017720" y="3589200"/>
              <a:ext cx="73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ontserrat"/>
                  <a:ea typeface="Fashion Script Personal Use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1371240" y="1195200"/>
            <a:ext cx="2830680" cy="2138040"/>
          </a:xfrm>
          <a:prstGeom prst="rect">
            <a:avLst/>
          </a:prstGeom>
          <a:ln w="0">
            <a:noFill/>
          </a:ln>
        </p:spPr>
      </p:pic>
      <p:pic>
        <p:nvPicPr>
          <p:cNvPr id="1497" name="" descr=""/>
          <p:cNvPicPr/>
          <p:nvPr/>
        </p:nvPicPr>
        <p:blipFill>
          <a:blip r:embed="rId2"/>
          <a:stretch/>
        </p:blipFill>
        <p:spPr>
          <a:xfrm>
            <a:off x="1371240" y="3544920"/>
            <a:ext cx="2830680" cy="213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12"/>
          <p:cNvSpPr/>
          <p:nvPr/>
        </p:nvSpPr>
        <p:spPr>
          <a:xfrm>
            <a:off x="0" y="2219400"/>
            <a:ext cx="4211640" cy="2419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Text Placeholder 6"/>
          <p:cNvSpPr/>
          <p:nvPr/>
        </p:nvSpPr>
        <p:spPr>
          <a:xfrm>
            <a:off x="487440" y="3676680"/>
            <a:ext cx="3330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TextBox 11"/>
          <p:cNvSpPr/>
          <p:nvPr/>
        </p:nvSpPr>
        <p:spPr>
          <a:xfrm>
            <a:off x="487440" y="2347920"/>
            <a:ext cx="35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BUSI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1" name="Group 13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502" name="Rectangle 14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Rectangle 15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7" name="Rectangle 19"/>
          <p:cNvSpPr/>
          <p:nvPr/>
        </p:nvSpPr>
        <p:spPr>
          <a:xfrm>
            <a:off x="4384800" y="4883040"/>
            <a:ext cx="6897600" cy="151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Text Placeholder 6"/>
          <p:cNvSpPr/>
          <p:nvPr/>
        </p:nvSpPr>
        <p:spPr>
          <a:xfrm>
            <a:off x="5068800" y="5302080"/>
            <a:ext cx="5531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TextBox 21"/>
          <p:cNvSpPr/>
          <p:nvPr/>
        </p:nvSpPr>
        <p:spPr>
          <a:xfrm>
            <a:off x="487440" y="5103720"/>
            <a:ext cx="35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GALL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Straight Connector 2"/>
          <p:cNvSpPr/>
          <p:nvPr/>
        </p:nvSpPr>
        <p:spPr>
          <a:xfrm>
            <a:off x="3875040" y="4994280"/>
            <a:ext cx="0" cy="129528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Rectangle 22"/>
          <p:cNvSpPr/>
          <p:nvPr/>
        </p:nvSpPr>
        <p:spPr>
          <a:xfrm>
            <a:off x="22320" y="882720"/>
            <a:ext cx="5464080" cy="493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TextBox 23"/>
          <p:cNvSpPr/>
          <p:nvPr/>
        </p:nvSpPr>
        <p:spPr>
          <a:xfrm>
            <a:off x="312840" y="974880"/>
            <a:ext cx="50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3" name="" descr=""/>
          <p:cNvPicPr/>
          <p:nvPr/>
        </p:nvPicPr>
        <p:blipFill>
          <a:blip r:embed="rId1"/>
          <a:stretch/>
        </p:blipFill>
        <p:spPr>
          <a:xfrm>
            <a:off x="4384800" y="2219400"/>
            <a:ext cx="3348000" cy="2419200"/>
          </a:xfrm>
          <a:prstGeom prst="rect">
            <a:avLst/>
          </a:prstGeom>
          <a:ln w="0">
            <a:noFill/>
          </a:ln>
        </p:spPr>
      </p:pic>
      <p:pic>
        <p:nvPicPr>
          <p:cNvPr id="1514" name="" descr=""/>
          <p:cNvPicPr/>
          <p:nvPr/>
        </p:nvPicPr>
        <p:blipFill>
          <a:blip r:embed="rId2"/>
          <a:stretch/>
        </p:blipFill>
        <p:spPr>
          <a:xfrm>
            <a:off x="7934400" y="2219400"/>
            <a:ext cx="33480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516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1" name="Rectangle 9"/>
          <p:cNvSpPr/>
          <p:nvPr/>
        </p:nvSpPr>
        <p:spPr>
          <a:xfrm>
            <a:off x="5894280" y="1932120"/>
            <a:ext cx="5108760" cy="2993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Text Placeholder 6"/>
          <p:cNvSpPr/>
          <p:nvPr/>
        </p:nvSpPr>
        <p:spPr>
          <a:xfrm>
            <a:off x="6283440" y="2847960"/>
            <a:ext cx="4592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Text Placeholder 6"/>
          <p:cNvSpPr/>
          <p:nvPr/>
        </p:nvSpPr>
        <p:spPr>
          <a:xfrm>
            <a:off x="6283440" y="3684600"/>
            <a:ext cx="4592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Rectangle 12"/>
          <p:cNvSpPr/>
          <p:nvPr/>
        </p:nvSpPr>
        <p:spPr>
          <a:xfrm>
            <a:off x="0" y="1932120"/>
            <a:ext cx="1509840" cy="2993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TextBox 13"/>
          <p:cNvSpPr/>
          <p:nvPr/>
        </p:nvSpPr>
        <p:spPr>
          <a:xfrm>
            <a:off x="743040" y="5322960"/>
            <a:ext cx="38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Straight Connector 14"/>
          <p:cNvSpPr/>
          <p:nvPr/>
        </p:nvSpPr>
        <p:spPr>
          <a:xfrm>
            <a:off x="4968720" y="5322960"/>
            <a:ext cx="0" cy="10778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Text Placeholder 6"/>
          <p:cNvSpPr/>
          <p:nvPr/>
        </p:nvSpPr>
        <p:spPr>
          <a:xfrm>
            <a:off x="5767560" y="5576760"/>
            <a:ext cx="5235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8" name="" descr=""/>
          <p:cNvPicPr/>
          <p:nvPr/>
        </p:nvPicPr>
        <p:blipFill>
          <a:blip r:embed="rId1"/>
          <a:stretch/>
        </p:blipFill>
        <p:spPr>
          <a:xfrm>
            <a:off x="1636200" y="1932120"/>
            <a:ext cx="4131000" cy="2993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Rectangle 16"/>
          <p:cNvSpPr/>
          <p:nvPr/>
        </p:nvSpPr>
        <p:spPr>
          <a:xfrm rot="5400000">
            <a:off x="-252000" y="4542480"/>
            <a:ext cx="3436920" cy="120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0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531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6" name="Freeform 13"/>
          <p:cNvSpPr/>
          <p:nvPr/>
        </p:nvSpPr>
        <p:spPr>
          <a:xfrm>
            <a:off x="3251160" y="0"/>
            <a:ext cx="5651640" cy="6858000"/>
          </a:xfrm>
          <a:custGeom>
            <a:avLst/>
            <a:gdLst/>
            <a:ahLst/>
            <a:rect l="l" t="t" r="r" b="b"/>
            <a:pathLst>
              <a:path w="5651292" h="6858000">
                <a:moveTo>
                  <a:pt x="233193" y="3509962"/>
                </a:moveTo>
                <a:lnTo>
                  <a:pt x="233193" y="6857999"/>
                </a:lnTo>
                <a:lnTo>
                  <a:pt x="5483055" y="6857999"/>
                </a:lnTo>
                <a:lnTo>
                  <a:pt x="5483055" y="3509962"/>
                </a:lnTo>
                <a:lnTo>
                  <a:pt x="233193" y="3509962"/>
                </a:lnTo>
                <a:close/>
                <a:moveTo>
                  <a:pt x="0" y="0"/>
                </a:moveTo>
                <a:lnTo>
                  <a:pt x="5651292" y="0"/>
                </a:lnTo>
                <a:lnTo>
                  <a:pt x="565129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Text Placeholder 6"/>
          <p:cNvSpPr/>
          <p:nvPr/>
        </p:nvSpPr>
        <p:spPr>
          <a:xfrm>
            <a:off x="3471840" y="1714680"/>
            <a:ext cx="461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Text Placeholder 6"/>
          <p:cNvSpPr/>
          <p:nvPr/>
        </p:nvSpPr>
        <p:spPr>
          <a:xfrm>
            <a:off x="3471840" y="2654280"/>
            <a:ext cx="4613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TextBox 14"/>
          <p:cNvSpPr/>
          <p:nvPr/>
        </p:nvSpPr>
        <p:spPr>
          <a:xfrm>
            <a:off x="3470400" y="496800"/>
            <a:ext cx="436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MEETING WITH DIR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TextBox 15"/>
          <p:cNvSpPr/>
          <p:nvPr/>
        </p:nvSpPr>
        <p:spPr>
          <a:xfrm rot="16200000">
            <a:off x="-58680" y="4559400"/>
            <a:ext cx="304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GALL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 Placeholder 6"/>
          <p:cNvSpPr/>
          <p:nvPr/>
        </p:nvSpPr>
        <p:spPr>
          <a:xfrm>
            <a:off x="861840" y="2100240"/>
            <a:ext cx="201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2" name="" descr=""/>
          <p:cNvPicPr/>
          <p:nvPr/>
        </p:nvPicPr>
        <p:blipFill>
          <a:blip r:embed="rId1"/>
          <a:stretch/>
        </p:blipFill>
        <p:spPr>
          <a:xfrm>
            <a:off x="3471480" y="3510000"/>
            <a:ext cx="5248440" cy="334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544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9" name="Rectangle 9"/>
          <p:cNvSpPr/>
          <p:nvPr/>
        </p:nvSpPr>
        <p:spPr>
          <a:xfrm>
            <a:off x="0" y="2219400"/>
            <a:ext cx="7120080" cy="2419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Text Placeholder 6"/>
          <p:cNvSpPr/>
          <p:nvPr/>
        </p:nvSpPr>
        <p:spPr>
          <a:xfrm>
            <a:off x="487440" y="3676680"/>
            <a:ext cx="4803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TextBox 15"/>
          <p:cNvSpPr/>
          <p:nvPr/>
        </p:nvSpPr>
        <p:spPr>
          <a:xfrm>
            <a:off x="487440" y="2347920"/>
            <a:ext cx="35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BUSI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Rectangle 16"/>
          <p:cNvSpPr/>
          <p:nvPr/>
        </p:nvSpPr>
        <p:spPr>
          <a:xfrm>
            <a:off x="7242120" y="5111640"/>
            <a:ext cx="3125880" cy="174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Text Placeholder 6"/>
          <p:cNvSpPr/>
          <p:nvPr/>
        </p:nvSpPr>
        <p:spPr>
          <a:xfrm>
            <a:off x="7396200" y="5719680"/>
            <a:ext cx="2817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Rectangle 21"/>
          <p:cNvSpPr/>
          <p:nvPr/>
        </p:nvSpPr>
        <p:spPr>
          <a:xfrm>
            <a:off x="6095880" y="744480"/>
            <a:ext cx="4272120" cy="1001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TextBox 18"/>
          <p:cNvSpPr/>
          <p:nvPr/>
        </p:nvSpPr>
        <p:spPr>
          <a:xfrm>
            <a:off x="6118200" y="768240"/>
            <a:ext cx="422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BUSINESS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Text Placeholder 6"/>
          <p:cNvSpPr/>
          <p:nvPr/>
        </p:nvSpPr>
        <p:spPr>
          <a:xfrm>
            <a:off x="487440" y="5111640"/>
            <a:ext cx="48038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Straight Connector 24"/>
          <p:cNvSpPr/>
          <p:nvPr/>
        </p:nvSpPr>
        <p:spPr>
          <a:xfrm flipH="1">
            <a:off x="614520" y="1716120"/>
            <a:ext cx="52466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Text Placeholder 6"/>
          <p:cNvSpPr/>
          <p:nvPr/>
        </p:nvSpPr>
        <p:spPr>
          <a:xfrm>
            <a:off x="558720" y="1120680"/>
            <a:ext cx="53024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9" name="" descr=""/>
          <p:cNvPicPr/>
          <p:nvPr/>
        </p:nvPicPr>
        <p:blipFill>
          <a:blip r:embed="rId1"/>
          <a:stretch/>
        </p:blipFill>
        <p:spPr>
          <a:xfrm>
            <a:off x="7241760" y="1887480"/>
            <a:ext cx="3125880" cy="3083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Freeform 15"/>
          <p:cNvSpPr/>
          <p:nvPr/>
        </p:nvSpPr>
        <p:spPr>
          <a:xfrm>
            <a:off x="347760" y="-4680"/>
            <a:ext cx="5943600" cy="6858000"/>
          </a:xfrm>
          <a:custGeom>
            <a:avLst/>
            <a:gdLst/>
            <a:ahLst/>
            <a:rect l="l" t="t" r="r" b="b"/>
            <a:pathLst>
              <a:path w="5943600" h="6857999">
                <a:moveTo>
                  <a:pt x="0" y="0"/>
                </a:moveTo>
                <a:lnTo>
                  <a:pt x="2971800" y="0"/>
                </a:lnTo>
                <a:lnTo>
                  <a:pt x="5943600" y="3429000"/>
                </a:lnTo>
                <a:lnTo>
                  <a:pt x="2971800" y="6857999"/>
                </a:lnTo>
                <a:lnTo>
                  <a:pt x="0" y="6857999"/>
                </a:lnTo>
                <a:lnTo>
                  <a:pt x="0" y="6714160"/>
                </a:lnTo>
                <a:lnTo>
                  <a:pt x="2842025" y="6714160"/>
                </a:lnTo>
                <a:lnTo>
                  <a:pt x="5684050" y="3434901"/>
                </a:lnTo>
                <a:lnTo>
                  <a:pt x="2842025" y="155641"/>
                </a:lnTo>
                <a:lnTo>
                  <a:pt x="0" y="155641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1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562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7" name="Rectangle 18"/>
          <p:cNvSpPr/>
          <p:nvPr/>
        </p:nvSpPr>
        <p:spPr>
          <a:xfrm>
            <a:off x="6541920" y="1662120"/>
            <a:ext cx="1866960" cy="681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Text Placeholder 6"/>
          <p:cNvSpPr/>
          <p:nvPr/>
        </p:nvSpPr>
        <p:spPr>
          <a:xfrm>
            <a:off x="6515280" y="4354560"/>
            <a:ext cx="4430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TextBox 21"/>
          <p:cNvSpPr/>
          <p:nvPr/>
        </p:nvSpPr>
        <p:spPr>
          <a:xfrm>
            <a:off x="6515280" y="3795840"/>
            <a:ext cx="428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TextBox 20"/>
          <p:cNvSpPr/>
          <p:nvPr/>
        </p:nvSpPr>
        <p:spPr>
          <a:xfrm>
            <a:off x="6515280" y="1662120"/>
            <a:ext cx="460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 Black"/>
                <a:ea typeface="Fashion Script Personal Use"/>
              </a:rPr>
              <a:t>PROJ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 Black"/>
                <a:ea typeface="Fashion Script Personal Use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Rectangle 9"/>
          <p:cNvSpPr/>
          <p:nvPr/>
        </p:nvSpPr>
        <p:spPr>
          <a:xfrm>
            <a:off x="0" y="0"/>
            <a:ext cx="3552840" cy="34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2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573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8" name="Rectangle 10"/>
          <p:cNvSpPr/>
          <p:nvPr/>
        </p:nvSpPr>
        <p:spPr>
          <a:xfrm>
            <a:off x="6318360" y="1662120"/>
            <a:ext cx="2630520" cy="681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Text Placeholder 6"/>
          <p:cNvSpPr/>
          <p:nvPr/>
        </p:nvSpPr>
        <p:spPr>
          <a:xfrm>
            <a:off x="6289560" y="4354560"/>
            <a:ext cx="4430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TextBox 12"/>
          <p:cNvSpPr/>
          <p:nvPr/>
        </p:nvSpPr>
        <p:spPr>
          <a:xfrm>
            <a:off x="6289560" y="379584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TextBox 13"/>
          <p:cNvSpPr/>
          <p:nvPr/>
        </p:nvSpPr>
        <p:spPr>
          <a:xfrm>
            <a:off x="6289560" y="1662120"/>
            <a:ext cx="4291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 Black"/>
                <a:ea typeface="Fashion Script Personal Use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 Black"/>
                <a:ea typeface="Fashion Script Personal Use"/>
              </a:rPr>
              <a:t>PROJ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Straight Connector 15"/>
          <p:cNvSpPr/>
          <p:nvPr/>
        </p:nvSpPr>
        <p:spPr>
          <a:xfrm>
            <a:off x="1209600" y="6400800"/>
            <a:ext cx="95108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3" name="" descr=""/>
          <p:cNvPicPr/>
          <p:nvPr/>
        </p:nvPicPr>
        <p:blipFill>
          <a:blip r:embed="rId1"/>
          <a:stretch/>
        </p:blipFill>
        <p:spPr>
          <a:xfrm>
            <a:off x="1209600" y="1297080"/>
            <a:ext cx="3687840" cy="4263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9"/>
          <p:cNvSpPr/>
          <p:nvPr/>
        </p:nvSpPr>
        <p:spPr>
          <a:xfrm>
            <a:off x="7659720" y="0"/>
            <a:ext cx="302112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5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586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1" name="Rectangle 10"/>
          <p:cNvSpPr/>
          <p:nvPr/>
        </p:nvSpPr>
        <p:spPr>
          <a:xfrm>
            <a:off x="1068480" y="1947960"/>
            <a:ext cx="2184480" cy="681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Text Placeholder 6"/>
          <p:cNvSpPr/>
          <p:nvPr/>
        </p:nvSpPr>
        <p:spPr>
          <a:xfrm>
            <a:off x="1041480" y="4640400"/>
            <a:ext cx="4430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TextBox 12"/>
          <p:cNvSpPr/>
          <p:nvPr/>
        </p:nvSpPr>
        <p:spPr>
          <a:xfrm>
            <a:off x="1041480" y="4079880"/>
            <a:ext cx="428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TextBox 13"/>
          <p:cNvSpPr/>
          <p:nvPr/>
        </p:nvSpPr>
        <p:spPr>
          <a:xfrm>
            <a:off x="1041480" y="1947960"/>
            <a:ext cx="428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LO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 Black"/>
                <a:ea typeface="Fashion Script Personal Use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 Black"/>
                <a:ea typeface="Fashion Script Personal Use"/>
              </a:rPr>
              <a:t>IVEST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Straight Connector 15"/>
          <p:cNvSpPr/>
          <p:nvPr/>
        </p:nvSpPr>
        <p:spPr>
          <a:xfrm flipH="1">
            <a:off x="3252600" y="1679400"/>
            <a:ext cx="55609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Text Placeholder 6"/>
          <p:cNvSpPr/>
          <p:nvPr/>
        </p:nvSpPr>
        <p:spPr>
          <a:xfrm>
            <a:off x="3186000" y="979560"/>
            <a:ext cx="5627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TextBox 17"/>
          <p:cNvSpPr/>
          <p:nvPr/>
        </p:nvSpPr>
        <p:spPr>
          <a:xfrm>
            <a:off x="7693200" y="2008080"/>
            <a:ext cx="295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BUSINESS N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8" name="" descr=""/>
          <p:cNvPicPr/>
          <p:nvPr/>
        </p:nvPicPr>
        <p:blipFill>
          <a:blip r:embed="rId1"/>
          <a:stretch/>
        </p:blipFill>
        <p:spPr>
          <a:xfrm>
            <a:off x="6445080" y="3214800"/>
            <a:ext cx="3981600" cy="2698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11"/>
          <p:cNvSpPr/>
          <p:nvPr/>
        </p:nvSpPr>
        <p:spPr>
          <a:xfrm>
            <a:off x="0" y="0"/>
            <a:ext cx="3852720" cy="34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0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601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6" name="Rectangle 12"/>
          <p:cNvSpPr/>
          <p:nvPr/>
        </p:nvSpPr>
        <p:spPr>
          <a:xfrm>
            <a:off x="6151680" y="1962000"/>
            <a:ext cx="2408040" cy="681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Text Placeholder 6"/>
          <p:cNvSpPr/>
          <p:nvPr/>
        </p:nvSpPr>
        <p:spPr>
          <a:xfrm>
            <a:off x="6124680" y="4610160"/>
            <a:ext cx="44305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TextBox 14"/>
          <p:cNvSpPr/>
          <p:nvPr/>
        </p:nvSpPr>
        <p:spPr>
          <a:xfrm>
            <a:off x="6124680" y="4095720"/>
            <a:ext cx="428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TextBox 15"/>
          <p:cNvSpPr/>
          <p:nvPr/>
        </p:nvSpPr>
        <p:spPr>
          <a:xfrm>
            <a:off x="6124680" y="1962000"/>
            <a:ext cx="428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AB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 Black"/>
                <a:ea typeface="Fashion Script Personal Use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 Black"/>
                <a:ea typeface="Fashion Script Personal Use"/>
              </a:rPr>
              <a:t>WORKSP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Straight Connector 17"/>
          <p:cNvSpPr/>
          <p:nvPr/>
        </p:nvSpPr>
        <p:spPr>
          <a:xfrm>
            <a:off x="0" y="6400800"/>
            <a:ext cx="10414080" cy="0"/>
          </a:xfrm>
          <a:prstGeom prst="line">
            <a:avLst/>
          </a:prstGeom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TextBox 18"/>
          <p:cNvSpPr/>
          <p:nvPr/>
        </p:nvSpPr>
        <p:spPr>
          <a:xfrm>
            <a:off x="449280" y="782640"/>
            <a:ext cx="295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BUSINESS N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Straight Connector 20"/>
          <p:cNvSpPr/>
          <p:nvPr/>
        </p:nvSpPr>
        <p:spPr>
          <a:xfrm>
            <a:off x="509760" y="1603440"/>
            <a:ext cx="80499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Text Placeholder 6"/>
          <p:cNvSpPr/>
          <p:nvPr/>
        </p:nvSpPr>
        <p:spPr>
          <a:xfrm>
            <a:off x="4114800" y="871560"/>
            <a:ext cx="4444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Rectangle 23"/>
          <p:cNvSpPr/>
          <p:nvPr/>
        </p:nvSpPr>
        <p:spPr>
          <a:xfrm>
            <a:off x="749160" y="5140440"/>
            <a:ext cx="2189160" cy="81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TextBox 24"/>
          <p:cNvSpPr/>
          <p:nvPr/>
        </p:nvSpPr>
        <p:spPr>
          <a:xfrm>
            <a:off x="749160" y="5192640"/>
            <a:ext cx="218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6" name="" descr=""/>
          <p:cNvPicPr/>
          <p:nvPr/>
        </p:nvPicPr>
        <p:blipFill>
          <a:blip r:embed="rId1"/>
          <a:stretch/>
        </p:blipFill>
        <p:spPr>
          <a:xfrm>
            <a:off x="2271600" y="2448000"/>
            <a:ext cx="2727360" cy="3171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TextBox 5"/>
          <p:cNvSpPr/>
          <p:nvPr/>
        </p:nvSpPr>
        <p:spPr>
          <a:xfrm>
            <a:off x="3228840" y="4091040"/>
            <a:ext cx="573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1" name="Group 6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352" name="Rectangle 7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Rectangle 8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7" name="Rectangle 12"/>
          <p:cNvSpPr/>
          <p:nvPr/>
        </p:nvSpPr>
        <p:spPr>
          <a:xfrm>
            <a:off x="2638440" y="2960640"/>
            <a:ext cx="3073320" cy="9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TextBox 4"/>
          <p:cNvSpPr/>
          <p:nvPr/>
        </p:nvSpPr>
        <p:spPr>
          <a:xfrm>
            <a:off x="2384280" y="2916360"/>
            <a:ext cx="742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INTRO</a:t>
            </a:r>
            <a:r>
              <a:rPr b="0" lang="en-US" sz="60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DUC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7" name="Group 3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618" name="Rectangle 4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Rectangle 5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3" name="Rectangle 11"/>
          <p:cNvSpPr/>
          <p:nvPr/>
        </p:nvSpPr>
        <p:spPr>
          <a:xfrm>
            <a:off x="0" y="4422600"/>
            <a:ext cx="4232160" cy="1522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Rectangle 12"/>
          <p:cNvSpPr/>
          <p:nvPr/>
        </p:nvSpPr>
        <p:spPr>
          <a:xfrm>
            <a:off x="4459320" y="939960"/>
            <a:ext cx="670860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Straight Connector 14"/>
          <p:cNvSpPr/>
          <p:nvPr/>
        </p:nvSpPr>
        <p:spPr>
          <a:xfrm>
            <a:off x="7540560" y="5945040"/>
            <a:ext cx="34624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Text Placeholder 6"/>
          <p:cNvSpPr/>
          <p:nvPr/>
        </p:nvSpPr>
        <p:spPr>
          <a:xfrm>
            <a:off x="7493040" y="5138640"/>
            <a:ext cx="3510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TextBox 17"/>
          <p:cNvSpPr/>
          <p:nvPr/>
        </p:nvSpPr>
        <p:spPr>
          <a:xfrm>
            <a:off x="266760" y="4657680"/>
            <a:ext cx="380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AWE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Text Placeholder 6"/>
          <p:cNvSpPr/>
          <p:nvPr/>
        </p:nvSpPr>
        <p:spPr>
          <a:xfrm>
            <a:off x="4761000" y="1316160"/>
            <a:ext cx="55576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Rectangle 19"/>
          <p:cNvSpPr/>
          <p:nvPr/>
        </p:nvSpPr>
        <p:spPr>
          <a:xfrm>
            <a:off x="6740640" y="2924280"/>
            <a:ext cx="2408040" cy="680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TextBox 20"/>
          <p:cNvSpPr/>
          <p:nvPr/>
        </p:nvSpPr>
        <p:spPr>
          <a:xfrm>
            <a:off x="6713640" y="2924280"/>
            <a:ext cx="428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AB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 Black"/>
                <a:ea typeface="Fashion Script Personal Use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 Black"/>
                <a:ea typeface="Fashion Script Personal Use"/>
              </a:rPr>
              <a:t>WORKSP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1" name="" descr=""/>
          <p:cNvPicPr/>
          <p:nvPr/>
        </p:nvPicPr>
        <p:blipFill>
          <a:blip r:embed="rId1"/>
          <a:stretch/>
        </p:blipFill>
        <p:spPr>
          <a:xfrm>
            <a:off x="1326960" y="939600"/>
            <a:ext cx="2904840" cy="3336840"/>
          </a:xfrm>
          <a:prstGeom prst="rect">
            <a:avLst/>
          </a:prstGeom>
          <a:ln w="0">
            <a:noFill/>
          </a:ln>
        </p:spPr>
      </p:pic>
      <p:pic>
        <p:nvPicPr>
          <p:cNvPr id="1632" name="" descr=""/>
          <p:cNvPicPr/>
          <p:nvPr/>
        </p:nvPicPr>
        <p:blipFill>
          <a:blip r:embed="rId2"/>
          <a:stretch/>
        </p:blipFill>
        <p:spPr>
          <a:xfrm>
            <a:off x="4459320" y="2607840"/>
            <a:ext cx="2905200" cy="3336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Group 5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634" name="Rectangle 6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Rectangle 7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9" name="Rectangle 15"/>
          <p:cNvSpPr/>
          <p:nvPr/>
        </p:nvSpPr>
        <p:spPr>
          <a:xfrm>
            <a:off x="905040" y="1501920"/>
            <a:ext cx="2408040" cy="680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Text Placeholder 6"/>
          <p:cNvSpPr/>
          <p:nvPr/>
        </p:nvSpPr>
        <p:spPr>
          <a:xfrm>
            <a:off x="878040" y="4149720"/>
            <a:ext cx="4430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TextBox 17"/>
          <p:cNvSpPr/>
          <p:nvPr/>
        </p:nvSpPr>
        <p:spPr>
          <a:xfrm>
            <a:off x="878040" y="3635280"/>
            <a:ext cx="428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TextBox 18"/>
          <p:cNvSpPr/>
          <p:nvPr/>
        </p:nvSpPr>
        <p:spPr>
          <a:xfrm>
            <a:off x="878040" y="1501920"/>
            <a:ext cx="428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AB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 Black"/>
                <a:ea typeface="Fashion Script Personal Use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 Black"/>
                <a:ea typeface="Fashion Script Personal Use"/>
              </a:rPr>
              <a:t>PORTFOL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Rectangle 19"/>
          <p:cNvSpPr/>
          <p:nvPr/>
        </p:nvSpPr>
        <p:spPr>
          <a:xfrm>
            <a:off x="6975360" y="5156280"/>
            <a:ext cx="3765600" cy="80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TextBox 20"/>
          <p:cNvSpPr/>
          <p:nvPr/>
        </p:nvSpPr>
        <p:spPr>
          <a:xfrm>
            <a:off x="6958080" y="5330880"/>
            <a:ext cx="38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GALLERY SL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Straight Connector 22"/>
          <p:cNvSpPr/>
          <p:nvPr/>
        </p:nvSpPr>
        <p:spPr>
          <a:xfrm flipH="1">
            <a:off x="934560" y="5951520"/>
            <a:ext cx="58849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1"/>
          <a:stretch/>
        </p:blipFill>
        <p:spPr>
          <a:xfrm>
            <a:off x="6975000" y="1739880"/>
            <a:ext cx="1784520" cy="1504800"/>
          </a:xfrm>
          <a:prstGeom prst="rect">
            <a:avLst/>
          </a:prstGeom>
          <a:ln w="0">
            <a:noFill/>
          </a:ln>
        </p:spPr>
      </p:pic>
      <p:pic>
        <p:nvPicPr>
          <p:cNvPr id="1647" name="" descr=""/>
          <p:cNvPicPr/>
          <p:nvPr/>
        </p:nvPicPr>
        <p:blipFill>
          <a:blip r:embed="rId2"/>
          <a:stretch/>
        </p:blipFill>
        <p:spPr>
          <a:xfrm>
            <a:off x="8956800" y="1739880"/>
            <a:ext cx="1784160" cy="1504800"/>
          </a:xfrm>
          <a:prstGeom prst="rect">
            <a:avLst/>
          </a:prstGeom>
          <a:ln w="0">
            <a:noFill/>
          </a:ln>
        </p:spPr>
      </p:pic>
      <p:pic>
        <p:nvPicPr>
          <p:cNvPr id="1648" name="" descr=""/>
          <p:cNvPicPr/>
          <p:nvPr/>
        </p:nvPicPr>
        <p:blipFill>
          <a:blip r:embed="rId3"/>
          <a:stretch/>
        </p:blipFill>
        <p:spPr>
          <a:xfrm>
            <a:off x="8956800" y="3441240"/>
            <a:ext cx="1784160" cy="1505160"/>
          </a:xfrm>
          <a:prstGeom prst="rect">
            <a:avLst/>
          </a:prstGeom>
          <a:ln w="0">
            <a:noFill/>
          </a:ln>
        </p:spPr>
      </p:pic>
      <p:pic>
        <p:nvPicPr>
          <p:cNvPr id="1649" name="" descr=""/>
          <p:cNvPicPr/>
          <p:nvPr/>
        </p:nvPicPr>
        <p:blipFill>
          <a:blip r:embed="rId4"/>
          <a:stretch/>
        </p:blipFill>
        <p:spPr>
          <a:xfrm>
            <a:off x="6975000" y="3441240"/>
            <a:ext cx="1784520" cy="150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0" name="Group 4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651" name="Rectangle 5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Rectangle 6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6" name="Text Placeholder 6"/>
          <p:cNvSpPr/>
          <p:nvPr/>
        </p:nvSpPr>
        <p:spPr>
          <a:xfrm>
            <a:off x="1581120" y="4689360"/>
            <a:ext cx="2560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Text Placeholder 6"/>
          <p:cNvSpPr/>
          <p:nvPr/>
        </p:nvSpPr>
        <p:spPr>
          <a:xfrm>
            <a:off x="4815000" y="4689360"/>
            <a:ext cx="2562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Text Placeholder 6"/>
          <p:cNvSpPr/>
          <p:nvPr/>
        </p:nvSpPr>
        <p:spPr>
          <a:xfrm>
            <a:off x="8050320" y="4689360"/>
            <a:ext cx="2560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Rectangle 16"/>
          <p:cNvSpPr/>
          <p:nvPr/>
        </p:nvSpPr>
        <p:spPr>
          <a:xfrm>
            <a:off x="0" y="368280"/>
            <a:ext cx="6095880" cy="752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TextBox 17"/>
          <p:cNvSpPr/>
          <p:nvPr/>
        </p:nvSpPr>
        <p:spPr>
          <a:xfrm>
            <a:off x="691560" y="553320"/>
            <a:ext cx="42984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Open Sans"/>
              </a:rPr>
              <a:t>MANAGER T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TextBox 18"/>
          <p:cNvSpPr/>
          <p:nvPr/>
        </p:nvSpPr>
        <p:spPr>
          <a:xfrm>
            <a:off x="2051640" y="4091040"/>
            <a:ext cx="1619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spAutoFit/>
          </a:bodyPr>
          <a:p>
            <a:pPr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tserrat Light"/>
                <a:ea typeface="Open Sans"/>
              </a:rPr>
              <a:t>TN. RICARDO SE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TextBox 19"/>
          <p:cNvSpPr/>
          <p:nvPr/>
        </p:nvSpPr>
        <p:spPr>
          <a:xfrm>
            <a:off x="5253120" y="4185360"/>
            <a:ext cx="1699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spAutoFit/>
          </a:bodyPr>
          <a:p>
            <a:pPr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tserrat Light"/>
                <a:ea typeface="Open Sans"/>
              </a:rPr>
              <a:t>TN. RICHARD W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TextBox 20"/>
          <p:cNvSpPr/>
          <p:nvPr/>
        </p:nvSpPr>
        <p:spPr>
          <a:xfrm>
            <a:off x="8464680" y="4185360"/>
            <a:ext cx="174276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spAutoFit/>
          </a:bodyPr>
          <a:p>
            <a:pPr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tserrat Light"/>
                <a:ea typeface="Open Sans"/>
              </a:rPr>
              <a:t>TN. STEVEN GAR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Rectangle 21"/>
          <p:cNvSpPr/>
          <p:nvPr/>
        </p:nvSpPr>
        <p:spPr>
          <a:xfrm>
            <a:off x="2111400" y="5715000"/>
            <a:ext cx="1500120" cy="34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Rectangle 22"/>
          <p:cNvSpPr/>
          <p:nvPr/>
        </p:nvSpPr>
        <p:spPr>
          <a:xfrm>
            <a:off x="5354640" y="5715000"/>
            <a:ext cx="1500120" cy="34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Rectangle 23"/>
          <p:cNvSpPr/>
          <p:nvPr/>
        </p:nvSpPr>
        <p:spPr>
          <a:xfrm>
            <a:off x="8597880" y="5715000"/>
            <a:ext cx="1500120" cy="34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TextBox 24"/>
          <p:cNvSpPr/>
          <p:nvPr/>
        </p:nvSpPr>
        <p:spPr>
          <a:xfrm>
            <a:off x="2282400" y="5596560"/>
            <a:ext cx="1114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spAutoFit/>
          </a:bodyPr>
          <a:p>
            <a:pPr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ontserrat Light"/>
                <a:ea typeface="Open Sans"/>
              </a:rPr>
              <a:t>TAG YOUR SKIL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TextBox 25"/>
          <p:cNvSpPr/>
          <p:nvPr/>
        </p:nvSpPr>
        <p:spPr>
          <a:xfrm>
            <a:off x="5508360" y="5596560"/>
            <a:ext cx="1114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spAutoFit/>
          </a:bodyPr>
          <a:p>
            <a:pPr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ontserrat Light"/>
                <a:ea typeface="Open Sans"/>
              </a:rPr>
              <a:t>TAG YOUR SKIL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TextBox 26"/>
          <p:cNvSpPr/>
          <p:nvPr/>
        </p:nvSpPr>
        <p:spPr>
          <a:xfrm>
            <a:off x="8791200" y="5596560"/>
            <a:ext cx="1114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spAutoFit/>
          </a:bodyPr>
          <a:p>
            <a:pPr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ontserrat Light"/>
                <a:ea typeface="Open Sans"/>
              </a:rPr>
              <a:t>TAG YOUR SKIL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0" name="" descr=""/>
          <p:cNvPicPr/>
          <p:nvPr/>
        </p:nvPicPr>
        <p:blipFill>
          <a:blip r:embed="rId1"/>
          <a:stretch/>
        </p:blipFill>
        <p:spPr>
          <a:xfrm>
            <a:off x="1800360" y="1709280"/>
            <a:ext cx="2124000" cy="2140200"/>
          </a:xfrm>
          <a:prstGeom prst="rect">
            <a:avLst/>
          </a:prstGeom>
          <a:ln w="0">
            <a:noFill/>
          </a:ln>
        </p:spPr>
      </p:pic>
      <p:pic>
        <p:nvPicPr>
          <p:cNvPr id="1671" name="" descr=""/>
          <p:cNvPicPr/>
          <p:nvPr/>
        </p:nvPicPr>
        <p:blipFill>
          <a:blip r:embed="rId2"/>
          <a:stretch/>
        </p:blipFill>
        <p:spPr>
          <a:xfrm>
            <a:off x="5033880" y="1709280"/>
            <a:ext cx="2124000" cy="2140200"/>
          </a:xfrm>
          <a:prstGeom prst="rect">
            <a:avLst/>
          </a:prstGeom>
          <a:ln w="0">
            <a:noFill/>
          </a:ln>
        </p:spPr>
      </p:pic>
      <p:pic>
        <p:nvPicPr>
          <p:cNvPr id="1672" name="" descr=""/>
          <p:cNvPicPr/>
          <p:nvPr/>
        </p:nvPicPr>
        <p:blipFill>
          <a:blip r:embed="rId3"/>
          <a:stretch/>
        </p:blipFill>
        <p:spPr>
          <a:xfrm>
            <a:off x="8269200" y="1709280"/>
            <a:ext cx="2124000" cy="214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3" name="Group 3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674" name="Rectangle 4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Rectangle 5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9" name="TextBox 9"/>
          <p:cNvSpPr/>
          <p:nvPr/>
        </p:nvSpPr>
        <p:spPr>
          <a:xfrm>
            <a:off x="3228840" y="4091040"/>
            <a:ext cx="573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Rectangle 11"/>
          <p:cNvSpPr/>
          <p:nvPr/>
        </p:nvSpPr>
        <p:spPr>
          <a:xfrm>
            <a:off x="2473200" y="2908440"/>
            <a:ext cx="2668680" cy="98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TextBox 10"/>
          <p:cNvSpPr/>
          <p:nvPr/>
        </p:nvSpPr>
        <p:spPr>
          <a:xfrm>
            <a:off x="2384280" y="2766960"/>
            <a:ext cx="742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THE BREAK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3" name="Picture 13" descr="iPhone6_mockup_front_white.png"/>
          <p:cNvPicPr/>
          <p:nvPr/>
        </p:nvPicPr>
        <p:blipFill>
          <a:blip r:embed="rId1"/>
          <a:stretch/>
        </p:blipFill>
        <p:spPr>
          <a:xfrm>
            <a:off x="5915160" y="111240"/>
            <a:ext cx="5419440" cy="8513640"/>
          </a:xfrm>
          <a:prstGeom prst="rect">
            <a:avLst/>
          </a:prstGeom>
          <a:ln w="0">
            <a:noFill/>
          </a:ln>
        </p:spPr>
      </p:pic>
      <p:sp>
        <p:nvSpPr>
          <p:cNvPr id="1684" name="TextBox 14"/>
          <p:cNvSpPr/>
          <p:nvPr/>
        </p:nvSpPr>
        <p:spPr>
          <a:xfrm>
            <a:off x="1216800" y="2896560"/>
            <a:ext cx="1851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spAutoFit/>
          </a:bodyPr>
          <a:p>
            <a:pPr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tserrat Light"/>
                <a:ea typeface="Open Sans"/>
              </a:rPr>
              <a:t>WE ARE A CREATIVE AGENC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Rectangle 20"/>
          <p:cNvSpPr/>
          <p:nvPr/>
        </p:nvSpPr>
        <p:spPr>
          <a:xfrm>
            <a:off x="930240" y="3489480"/>
            <a:ext cx="41259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Montserrat Light"/>
                <a:ea typeface="Open Sans"/>
              </a:rPr>
              <a:t>Lorem ipsum dolor sit amet, lacus nulla ac netus nibh aliquet, porttitor ligula justo libero vivamus porttitor dolor, conubia mollit. Lorem ipsum dolor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Montserrat Light"/>
                <a:ea typeface="Open Sans"/>
              </a:rPr>
              <a:t>sit amet, lacus nulla ac netus nibh aliquet, porttitor ligula justo libero vivamus porttitor dolor, conubi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Rectangle 3"/>
          <p:cNvSpPr/>
          <p:nvPr/>
        </p:nvSpPr>
        <p:spPr>
          <a:xfrm>
            <a:off x="0" y="2203560"/>
            <a:ext cx="3343320" cy="69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TextBox 16"/>
          <p:cNvSpPr/>
          <p:nvPr/>
        </p:nvSpPr>
        <p:spPr>
          <a:xfrm>
            <a:off x="1216800" y="2341440"/>
            <a:ext cx="47084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Open Sans"/>
              </a:rPr>
              <a:t>IPHONE</a:t>
            </a:r>
            <a:r>
              <a:rPr b="1" lang="en-US" sz="4000" spc="-1" strike="noStrike">
                <a:solidFill>
                  <a:srgbClr val="404040"/>
                </a:solidFill>
                <a:latin typeface="Arial Black"/>
                <a:ea typeface="Open Sans"/>
              </a:rPr>
              <a:t> MOCKUP</a:t>
            </a:r>
            <a:r>
              <a:rPr b="1" lang="id-ID" sz="4000" spc="-1" strike="noStrike">
                <a:solidFill>
                  <a:srgbClr val="404040"/>
                </a:solidFill>
                <a:latin typeface="Arial Black"/>
                <a:ea typeface="Open San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Rectangle 4"/>
          <p:cNvSpPr/>
          <p:nvPr/>
        </p:nvSpPr>
        <p:spPr>
          <a:xfrm>
            <a:off x="3343320" y="5532480"/>
            <a:ext cx="3822480" cy="754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TextBox 10"/>
          <p:cNvSpPr/>
          <p:nvPr/>
        </p:nvSpPr>
        <p:spPr>
          <a:xfrm>
            <a:off x="3874680" y="5733360"/>
            <a:ext cx="27594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Open Sans"/>
              </a:rPr>
              <a:t>MANA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0" name="Straight Arrow Connector 7"/>
          <p:cNvCxnSpPr/>
          <p:nvPr/>
        </p:nvCxnSpPr>
        <p:spPr>
          <a:xfrm flipH="1">
            <a:off x="134280" y="6270120"/>
            <a:ext cx="304380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tailEnd len="med" type="triangle" w="med"/>
          </a:ln>
        </p:spPr>
      </p:cxnSp>
      <p:pic>
        <p:nvPicPr>
          <p:cNvPr id="1691" name="" descr=""/>
          <p:cNvPicPr/>
          <p:nvPr/>
        </p:nvPicPr>
        <p:blipFill>
          <a:blip r:embed="rId2"/>
          <a:stretch/>
        </p:blipFill>
        <p:spPr>
          <a:xfrm>
            <a:off x="6959520" y="1438200"/>
            <a:ext cx="3268800" cy="5810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16"/>
          <p:cNvSpPr/>
          <p:nvPr/>
        </p:nvSpPr>
        <p:spPr>
          <a:xfrm>
            <a:off x="0" y="762120"/>
            <a:ext cx="5351400" cy="69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3" name="Picture 30" descr="iPhone6_mockup_front_white.png"/>
          <p:cNvPicPr/>
          <p:nvPr/>
        </p:nvPicPr>
        <p:blipFill>
          <a:blip r:embed="rId1"/>
          <a:stretch/>
        </p:blipFill>
        <p:spPr>
          <a:xfrm>
            <a:off x="1327320" y="1576440"/>
            <a:ext cx="2781000" cy="4395600"/>
          </a:xfrm>
          <a:prstGeom prst="rect">
            <a:avLst/>
          </a:prstGeom>
          <a:ln w="0">
            <a:noFill/>
          </a:ln>
        </p:spPr>
      </p:pic>
      <p:pic>
        <p:nvPicPr>
          <p:cNvPr id="1694" name="Picture 31" descr="iPhone6_mockup_front_white.png"/>
          <p:cNvPicPr/>
          <p:nvPr/>
        </p:nvPicPr>
        <p:blipFill>
          <a:blip r:embed="rId2"/>
          <a:stretch/>
        </p:blipFill>
        <p:spPr>
          <a:xfrm>
            <a:off x="4683240" y="1576440"/>
            <a:ext cx="2809800" cy="4395600"/>
          </a:xfrm>
          <a:prstGeom prst="rect">
            <a:avLst/>
          </a:prstGeom>
          <a:ln w="0">
            <a:noFill/>
          </a:ln>
        </p:spPr>
      </p:pic>
      <p:pic>
        <p:nvPicPr>
          <p:cNvPr id="1695" name="Picture 32" descr="iPhone6_mockup_front_white.png"/>
          <p:cNvPicPr/>
          <p:nvPr/>
        </p:nvPicPr>
        <p:blipFill>
          <a:blip r:embed="rId3"/>
          <a:stretch/>
        </p:blipFill>
        <p:spPr>
          <a:xfrm>
            <a:off x="8037360" y="1566720"/>
            <a:ext cx="2810160" cy="4395960"/>
          </a:xfrm>
          <a:prstGeom prst="rect">
            <a:avLst/>
          </a:prstGeom>
          <a:ln w="0">
            <a:noFill/>
          </a:ln>
        </p:spPr>
      </p:pic>
      <p:sp>
        <p:nvSpPr>
          <p:cNvPr id="1696" name="Subtitle 2"/>
          <p:cNvSpPr/>
          <p:nvPr/>
        </p:nvSpPr>
        <p:spPr>
          <a:xfrm>
            <a:off x="2932200" y="853920"/>
            <a:ext cx="63277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ffffff"/>
                </a:solidFill>
                <a:latin typeface="Arial Black"/>
                <a:ea typeface="Open Sans"/>
              </a:rPr>
              <a:t>MOBILE</a:t>
            </a:r>
            <a:r>
              <a:rPr b="1" lang="id-ID" sz="3200" spc="-1" strike="noStrike">
                <a:solidFill>
                  <a:srgbClr val="404040"/>
                </a:solidFill>
                <a:latin typeface="Arial Black"/>
                <a:ea typeface="Open Sans"/>
              </a:rPr>
              <a:t> APP MOCK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7" name="Straight Arrow Connector 11"/>
          <p:cNvCxnSpPr/>
          <p:nvPr/>
        </p:nvCxnSpPr>
        <p:spPr>
          <a:xfrm>
            <a:off x="3962520" y="3774600"/>
            <a:ext cx="721440" cy="1080"/>
          </a:xfrm>
          <a:prstGeom prst="straightConnector1">
            <a:avLst/>
          </a:prstGeom>
          <a:ln w="6480">
            <a:solidFill>
              <a:srgbClr val="151517"/>
            </a:solidFill>
            <a:miter/>
            <a:tailEnd len="med" type="triangle" w="med"/>
          </a:ln>
        </p:spPr>
      </p:cxnSp>
      <p:cxnSp>
        <p:nvCxnSpPr>
          <p:cNvPr id="1698" name="Straight Arrow Connector 17"/>
          <p:cNvCxnSpPr/>
          <p:nvPr/>
        </p:nvCxnSpPr>
        <p:spPr>
          <a:xfrm>
            <a:off x="7318080" y="3774600"/>
            <a:ext cx="719640" cy="1080"/>
          </a:xfrm>
          <a:prstGeom prst="straightConnector1">
            <a:avLst/>
          </a:prstGeom>
          <a:ln w="6480">
            <a:solidFill>
              <a:srgbClr val="151517"/>
            </a:solidFill>
            <a:miter/>
            <a:tailEnd len="med" type="triangle" w="med"/>
          </a:ln>
        </p:spPr>
      </p:cxnSp>
      <p:sp>
        <p:nvSpPr>
          <p:cNvPr id="1699" name="Text Placeholder 6"/>
          <p:cNvSpPr/>
          <p:nvPr/>
        </p:nvSpPr>
        <p:spPr>
          <a:xfrm>
            <a:off x="1585800" y="5962680"/>
            <a:ext cx="2264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Montserrat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Text Placeholder 6"/>
          <p:cNvSpPr/>
          <p:nvPr/>
        </p:nvSpPr>
        <p:spPr>
          <a:xfrm>
            <a:off x="4983120" y="5977080"/>
            <a:ext cx="22636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Montserrat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Text Placeholder 6"/>
          <p:cNvSpPr/>
          <p:nvPr/>
        </p:nvSpPr>
        <p:spPr>
          <a:xfrm>
            <a:off x="8310600" y="5977080"/>
            <a:ext cx="22636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Montserrat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Oval 10"/>
          <p:cNvSpPr/>
          <p:nvPr/>
        </p:nvSpPr>
        <p:spPr>
          <a:xfrm>
            <a:off x="1287360" y="2413080"/>
            <a:ext cx="825480" cy="825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Oval 21"/>
          <p:cNvSpPr/>
          <p:nvPr/>
        </p:nvSpPr>
        <p:spPr>
          <a:xfrm>
            <a:off x="4643280" y="2413080"/>
            <a:ext cx="824040" cy="825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Oval 22"/>
          <p:cNvSpPr/>
          <p:nvPr/>
        </p:nvSpPr>
        <p:spPr>
          <a:xfrm>
            <a:off x="7997760" y="2413080"/>
            <a:ext cx="824040" cy="825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Subtitle 2"/>
          <p:cNvSpPr/>
          <p:nvPr/>
        </p:nvSpPr>
        <p:spPr>
          <a:xfrm>
            <a:off x="1298520" y="2585880"/>
            <a:ext cx="803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Open San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Subtitle 2"/>
          <p:cNvSpPr/>
          <p:nvPr/>
        </p:nvSpPr>
        <p:spPr>
          <a:xfrm>
            <a:off x="4662360" y="2585880"/>
            <a:ext cx="8049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Open San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Subtitle 2"/>
          <p:cNvSpPr/>
          <p:nvPr/>
        </p:nvSpPr>
        <p:spPr>
          <a:xfrm>
            <a:off x="8042400" y="2585880"/>
            <a:ext cx="8046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Open San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8" name="" descr=""/>
          <p:cNvPicPr/>
          <p:nvPr/>
        </p:nvPicPr>
        <p:blipFill>
          <a:blip r:embed="rId4"/>
          <a:stretch/>
        </p:blipFill>
        <p:spPr>
          <a:xfrm>
            <a:off x="1861920" y="2249640"/>
            <a:ext cx="1695240" cy="3008160"/>
          </a:xfrm>
          <a:prstGeom prst="rect">
            <a:avLst/>
          </a:prstGeom>
          <a:ln w="0">
            <a:noFill/>
          </a:ln>
        </p:spPr>
      </p:pic>
      <p:pic>
        <p:nvPicPr>
          <p:cNvPr id="1709" name="" descr=""/>
          <p:cNvPicPr/>
          <p:nvPr/>
        </p:nvPicPr>
        <p:blipFill>
          <a:blip r:embed="rId5"/>
          <a:stretch/>
        </p:blipFill>
        <p:spPr>
          <a:xfrm>
            <a:off x="5222880" y="2249640"/>
            <a:ext cx="1695600" cy="3008160"/>
          </a:xfrm>
          <a:prstGeom prst="rect">
            <a:avLst/>
          </a:prstGeom>
          <a:ln w="0">
            <a:noFill/>
          </a:ln>
        </p:spPr>
      </p:pic>
      <p:pic>
        <p:nvPicPr>
          <p:cNvPr id="1710" name="" descr=""/>
          <p:cNvPicPr/>
          <p:nvPr/>
        </p:nvPicPr>
        <p:blipFill>
          <a:blip r:embed="rId6"/>
          <a:stretch/>
        </p:blipFill>
        <p:spPr>
          <a:xfrm>
            <a:off x="8583480" y="2249640"/>
            <a:ext cx="1695600" cy="30081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35"/>
          <p:cNvSpPr/>
          <p:nvPr/>
        </p:nvSpPr>
        <p:spPr>
          <a:xfrm>
            <a:off x="0" y="762120"/>
            <a:ext cx="5726160" cy="69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2" name="Group 148"/>
          <p:cNvGrpSpPr/>
          <p:nvPr/>
        </p:nvGrpSpPr>
        <p:grpSpPr>
          <a:xfrm>
            <a:off x="6546960" y="1981080"/>
            <a:ext cx="4410000" cy="3552840"/>
            <a:chOff x="6546960" y="1981080"/>
            <a:chExt cx="4410000" cy="3552840"/>
          </a:xfrm>
        </p:grpSpPr>
        <p:sp>
          <p:nvSpPr>
            <p:cNvPr id="1713" name="Freeform 5"/>
            <p:cNvSpPr/>
            <p:nvPr/>
          </p:nvSpPr>
          <p:spPr>
            <a:xfrm>
              <a:off x="6546960" y="1981080"/>
              <a:ext cx="4410000" cy="2667240"/>
            </a:xfrm>
            <a:custGeom>
              <a:avLst/>
              <a:gdLst/>
              <a:ahLst/>
              <a:rect l="l" t="t" r="r" b="b"/>
              <a:pathLst>
                <a:path w="2537" h="1533">
                  <a:moveTo>
                    <a:pt x="2537" y="1533"/>
                  </a:moveTo>
                  <a:cubicBezTo>
                    <a:pt x="2537" y="71"/>
                    <a:pt x="2537" y="71"/>
                    <a:pt x="2537" y="71"/>
                  </a:cubicBezTo>
                  <a:cubicBezTo>
                    <a:pt x="2537" y="32"/>
                    <a:pt x="2506" y="0"/>
                    <a:pt x="2467" y="0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32" y="0"/>
                    <a:pt x="0" y="32"/>
                    <a:pt x="0" y="71"/>
                  </a:cubicBezTo>
                  <a:cubicBezTo>
                    <a:pt x="0" y="1533"/>
                    <a:pt x="0" y="1533"/>
                    <a:pt x="0" y="1533"/>
                  </a:cubicBezTo>
                  <a:lnTo>
                    <a:pt x="2537" y="1533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6"/>
            <p:cNvSpPr/>
            <p:nvPr/>
          </p:nvSpPr>
          <p:spPr>
            <a:xfrm>
              <a:off x="6718320" y="2162520"/>
              <a:ext cx="4066920" cy="2302200"/>
            </a:xfrm>
            <a:custGeom>
              <a:avLst/>
              <a:gdLst/>
              <a:ahLst/>
              <a:rect l="l" t="t" r="r" b="b"/>
              <a:pathLst>
                <a:path w="2085" h="1180">
                  <a:moveTo>
                    <a:pt x="2075" y="10"/>
                  </a:moveTo>
                  <a:lnTo>
                    <a:pt x="2075" y="1170"/>
                  </a:lnTo>
                  <a:lnTo>
                    <a:pt x="10" y="1170"/>
                  </a:lnTo>
                  <a:lnTo>
                    <a:pt x="10" y="10"/>
                  </a:lnTo>
                  <a:lnTo>
                    <a:pt x="2075" y="10"/>
                  </a:lnTo>
                  <a:close/>
                  <a:moveTo>
                    <a:pt x="2085" y="0"/>
                  </a:moveTo>
                  <a:lnTo>
                    <a:pt x="207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170"/>
                  </a:lnTo>
                  <a:lnTo>
                    <a:pt x="0" y="1180"/>
                  </a:lnTo>
                  <a:lnTo>
                    <a:pt x="10" y="1180"/>
                  </a:lnTo>
                  <a:lnTo>
                    <a:pt x="2075" y="1180"/>
                  </a:lnTo>
                  <a:lnTo>
                    <a:pt x="2085" y="1180"/>
                  </a:lnTo>
                  <a:lnTo>
                    <a:pt x="2085" y="1170"/>
                  </a:lnTo>
                  <a:lnTo>
                    <a:pt x="2085" y="10"/>
                  </a:lnTo>
                  <a:lnTo>
                    <a:pt x="2085" y="0"/>
                  </a:lnTo>
                  <a:lnTo>
                    <a:pt x="2085" y="0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7"/>
            <p:cNvSpPr/>
            <p:nvPr/>
          </p:nvSpPr>
          <p:spPr>
            <a:xfrm>
              <a:off x="6718320" y="2162520"/>
              <a:ext cx="4066920" cy="2302200"/>
            </a:xfrm>
            <a:custGeom>
              <a:avLst/>
              <a:gdLst/>
              <a:ahLst/>
              <a:rect l="l" t="t" r="r" b="b"/>
              <a:pathLst>
                <a:path w="2085" h="1180">
                  <a:moveTo>
                    <a:pt x="2075" y="10"/>
                  </a:moveTo>
                  <a:lnTo>
                    <a:pt x="2075" y="1170"/>
                  </a:lnTo>
                  <a:lnTo>
                    <a:pt x="10" y="1170"/>
                  </a:lnTo>
                  <a:lnTo>
                    <a:pt x="10" y="10"/>
                  </a:lnTo>
                  <a:lnTo>
                    <a:pt x="2075" y="10"/>
                  </a:lnTo>
                  <a:moveTo>
                    <a:pt x="2085" y="0"/>
                  </a:moveTo>
                  <a:lnTo>
                    <a:pt x="207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170"/>
                  </a:lnTo>
                  <a:lnTo>
                    <a:pt x="0" y="1180"/>
                  </a:lnTo>
                  <a:lnTo>
                    <a:pt x="10" y="1180"/>
                  </a:lnTo>
                  <a:lnTo>
                    <a:pt x="2075" y="1180"/>
                  </a:lnTo>
                  <a:lnTo>
                    <a:pt x="2085" y="1180"/>
                  </a:lnTo>
                  <a:lnTo>
                    <a:pt x="2085" y="1170"/>
                  </a:lnTo>
                  <a:lnTo>
                    <a:pt x="2085" y="10"/>
                  </a:lnTo>
                  <a:lnTo>
                    <a:pt x="2085" y="0"/>
                  </a:lnTo>
                  <a:lnTo>
                    <a:pt x="20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Rectangle 8"/>
            <p:cNvSpPr/>
            <p:nvPr/>
          </p:nvSpPr>
          <p:spPr>
            <a:xfrm>
              <a:off x="6738120" y="2181960"/>
              <a:ext cx="4027680" cy="22633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Freeform 9"/>
            <p:cNvSpPr/>
            <p:nvPr/>
          </p:nvSpPr>
          <p:spPr>
            <a:xfrm>
              <a:off x="8002080" y="5473440"/>
              <a:ext cx="1484280" cy="60480"/>
            </a:xfrm>
            <a:custGeom>
              <a:avLst/>
              <a:gdLst/>
              <a:ahLst/>
              <a:rect l="l" t="t" r="r" b="b"/>
              <a:pathLst>
                <a:path w="854" h="35">
                  <a:moveTo>
                    <a:pt x="852" y="24"/>
                  </a:moveTo>
                  <a:cubicBezTo>
                    <a:pt x="478" y="5"/>
                    <a:pt x="478" y="5"/>
                    <a:pt x="478" y="5"/>
                  </a:cubicBezTo>
                  <a:cubicBezTo>
                    <a:pt x="478" y="0"/>
                    <a:pt x="478" y="0"/>
                    <a:pt x="478" y="0"/>
                  </a:cubicBezTo>
                  <a:cubicBezTo>
                    <a:pt x="427" y="3"/>
                    <a:pt x="427" y="3"/>
                    <a:pt x="427" y="3"/>
                  </a:cubicBezTo>
                  <a:cubicBezTo>
                    <a:pt x="375" y="0"/>
                    <a:pt x="375" y="0"/>
                    <a:pt x="375" y="0"/>
                  </a:cubicBezTo>
                  <a:cubicBezTo>
                    <a:pt x="375" y="5"/>
                    <a:pt x="375" y="5"/>
                    <a:pt x="375" y="5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24"/>
                    <a:pt x="0" y="35"/>
                    <a:pt x="24" y="35"/>
                  </a:cubicBezTo>
                  <a:cubicBezTo>
                    <a:pt x="41" y="35"/>
                    <a:pt x="247" y="35"/>
                    <a:pt x="375" y="35"/>
                  </a:cubicBezTo>
                  <a:cubicBezTo>
                    <a:pt x="435" y="35"/>
                    <a:pt x="478" y="35"/>
                    <a:pt x="478" y="35"/>
                  </a:cubicBezTo>
                  <a:cubicBezTo>
                    <a:pt x="606" y="35"/>
                    <a:pt x="812" y="35"/>
                    <a:pt x="829" y="35"/>
                  </a:cubicBezTo>
                  <a:cubicBezTo>
                    <a:pt x="854" y="35"/>
                    <a:pt x="852" y="24"/>
                    <a:pt x="852" y="24"/>
                  </a:cubicBez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10"/>
            <p:cNvSpPr/>
            <p:nvPr/>
          </p:nvSpPr>
          <p:spPr>
            <a:xfrm>
              <a:off x="7994160" y="5007240"/>
              <a:ext cx="1497960" cy="513000"/>
            </a:xfrm>
            <a:custGeom>
              <a:avLst/>
              <a:gdLst/>
              <a:ahLst/>
              <a:rect l="l" t="t" r="r" b="b"/>
              <a:pathLst>
                <a:path w="861" h="295">
                  <a:moveTo>
                    <a:pt x="790" y="274"/>
                  </a:moveTo>
                  <a:cubicBezTo>
                    <a:pt x="760" y="268"/>
                    <a:pt x="744" y="271"/>
                    <a:pt x="738" y="224"/>
                  </a:cubicBezTo>
                  <a:cubicBezTo>
                    <a:pt x="731" y="177"/>
                    <a:pt x="714" y="0"/>
                    <a:pt x="714" y="0"/>
                  </a:cubicBezTo>
                  <a:cubicBezTo>
                    <a:pt x="431" y="4"/>
                    <a:pt x="431" y="4"/>
                    <a:pt x="431" y="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7" y="0"/>
                    <a:pt x="130" y="177"/>
                    <a:pt x="124" y="224"/>
                  </a:cubicBezTo>
                  <a:cubicBezTo>
                    <a:pt x="117" y="271"/>
                    <a:pt x="102" y="268"/>
                    <a:pt x="72" y="274"/>
                  </a:cubicBezTo>
                  <a:cubicBezTo>
                    <a:pt x="42" y="280"/>
                    <a:pt x="0" y="287"/>
                    <a:pt x="0" y="291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379" y="295"/>
                    <a:pt x="379" y="295"/>
                    <a:pt x="379" y="295"/>
                  </a:cubicBezTo>
                  <a:cubicBezTo>
                    <a:pt x="482" y="295"/>
                    <a:pt x="482" y="295"/>
                    <a:pt x="482" y="295"/>
                  </a:cubicBezTo>
                  <a:cubicBezTo>
                    <a:pt x="861" y="295"/>
                    <a:pt x="861" y="295"/>
                    <a:pt x="861" y="295"/>
                  </a:cubicBezTo>
                  <a:cubicBezTo>
                    <a:pt x="861" y="295"/>
                    <a:pt x="861" y="295"/>
                    <a:pt x="861" y="291"/>
                  </a:cubicBezTo>
                  <a:cubicBezTo>
                    <a:pt x="861" y="287"/>
                    <a:pt x="820" y="280"/>
                    <a:pt x="790" y="274"/>
                  </a:cubicBez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Oval 11"/>
            <p:cNvSpPr/>
            <p:nvPr/>
          </p:nvSpPr>
          <p:spPr>
            <a:xfrm>
              <a:off x="8721720" y="2054880"/>
              <a:ext cx="60120" cy="6048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Oval 12"/>
            <p:cNvSpPr/>
            <p:nvPr/>
          </p:nvSpPr>
          <p:spPr>
            <a:xfrm>
              <a:off x="8721720" y="2051280"/>
              <a:ext cx="60120" cy="6048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Oval 13"/>
            <p:cNvSpPr/>
            <p:nvPr/>
          </p:nvSpPr>
          <p:spPr>
            <a:xfrm>
              <a:off x="8731440" y="2061000"/>
              <a:ext cx="40680" cy="38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2" name="Oval 14"/>
            <p:cNvSpPr/>
            <p:nvPr/>
          </p:nvSpPr>
          <p:spPr>
            <a:xfrm>
              <a:off x="8743320" y="2068560"/>
              <a:ext cx="19440" cy="234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3" name="Oval 15"/>
            <p:cNvSpPr/>
            <p:nvPr/>
          </p:nvSpPr>
          <p:spPr>
            <a:xfrm>
              <a:off x="8749080" y="2078640"/>
              <a:ext cx="5760" cy="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16"/>
            <p:cNvSpPr/>
            <p:nvPr/>
          </p:nvSpPr>
          <p:spPr>
            <a:xfrm>
              <a:off x="7994160" y="5007240"/>
              <a:ext cx="1211040" cy="513000"/>
            </a:xfrm>
            <a:custGeom>
              <a:avLst/>
              <a:gdLst/>
              <a:ahLst/>
              <a:rect l="l" t="t" r="r" b="b"/>
              <a:pathLst>
                <a:path w="696" h="295">
                  <a:moveTo>
                    <a:pt x="696" y="10"/>
                  </a:moveTo>
                  <a:cubicBezTo>
                    <a:pt x="573" y="2"/>
                    <a:pt x="573" y="2"/>
                    <a:pt x="573" y="2"/>
                  </a:cubicBezTo>
                  <a:cubicBezTo>
                    <a:pt x="431" y="4"/>
                    <a:pt x="431" y="4"/>
                    <a:pt x="431" y="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7" y="0"/>
                    <a:pt x="130" y="177"/>
                    <a:pt x="124" y="224"/>
                  </a:cubicBezTo>
                  <a:cubicBezTo>
                    <a:pt x="117" y="271"/>
                    <a:pt x="102" y="268"/>
                    <a:pt x="72" y="274"/>
                  </a:cubicBezTo>
                  <a:cubicBezTo>
                    <a:pt x="42" y="280"/>
                    <a:pt x="0" y="287"/>
                    <a:pt x="0" y="291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379" y="295"/>
                    <a:pt x="379" y="295"/>
                    <a:pt x="379" y="295"/>
                  </a:cubicBezTo>
                  <a:cubicBezTo>
                    <a:pt x="432" y="295"/>
                    <a:pt x="432" y="295"/>
                    <a:pt x="432" y="295"/>
                  </a:cubicBezTo>
                  <a:lnTo>
                    <a:pt x="696" y="10"/>
                  </a:lnTo>
                  <a:close/>
                </a:path>
              </a:pathLst>
            </a:custGeom>
            <a:solidFill>
              <a:srgbClr val="a8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17"/>
            <p:cNvSpPr/>
            <p:nvPr/>
          </p:nvSpPr>
          <p:spPr>
            <a:xfrm>
              <a:off x="6546960" y="4648320"/>
              <a:ext cx="4410000" cy="419400"/>
            </a:xfrm>
            <a:custGeom>
              <a:avLst/>
              <a:gdLst/>
              <a:ahLst/>
              <a:rect l="l" t="t" r="r" b="b"/>
              <a:pathLst>
                <a:path w="2537" h="241">
                  <a:moveTo>
                    <a:pt x="0" y="0"/>
                  </a:moveTo>
                  <a:cubicBezTo>
                    <a:pt x="0" y="170"/>
                    <a:pt x="0" y="170"/>
                    <a:pt x="0" y="170"/>
                  </a:cubicBezTo>
                  <a:cubicBezTo>
                    <a:pt x="0" y="209"/>
                    <a:pt x="32" y="241"/>
                    <a:pt x="71" y="241"/>
                  </a:cubicBezTo>
                  <a:cubicBezTo>
                    <a:pt x="2467" y="241"/>
                    <a:pt x="2467" y="241"/>
                    <a:pt x="2467" y="241"/>
                  </a:cubicBezTo>
                  <a:cubicBezTo>
                    <a:pt x="2506" y="241"/>
                    <a:pt x="2537" y="209"/>
                    <a:pt x="2537" y="170"/>
                  </a:cubicBezTo>
                  <a:cubicBezTo>
                    <a:pt x="2537" y="0"/>
                    <a:pt x="2537" y="0"/>
                    <a:pt x="253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6" name="Group 87"/>
          <p:cNvGrpSpPr/>
          <p:nvPr/>
        </p:nvGrpSpPr>
        <p:grpSpPr>
          <a:xfrm>
            <a:off x="1219320" y="1981080"/>
            <a:ext cx="4360680" cy="3552840"/>
            <a:chOff x="1219320" y="1981080"/>
            <a:chExt cx="4360680" cy="3552840"/>
          </a:xfrm>
        </p:grpSpPr>
        <p:sp>
          <p:nvSpPr>
            <p:cNvPr id="1727" name="Freeform 5"/>
            <p:cNvSpPr/>
            <p:nvPr/>
          </p:nvSpPr>
          <p:spPr>
            <a:xfrm>
              <a:off x="1219320" y="1981080"/>
              <a:ext cx="4360680" cy="2667240"/>
            </a:xfrm>
            <a:custGeom>
              <a:avLst/>
              <a:gdLst/>
              <a:ahLst/>
              <a:rect l="l" t="t" r="r" b="b"/>
              <a:pathLst>
                <a:path w="2537" h="1533">
                  <a:moveTo>
                    <a:pt x="2537" y="1533"/>
                  </a:moveTo>
                  <a:cubicBezTo>
                    <a:pt x="2537" y="71"/>
                    <a:pt x="2537" y="71"/>
                    <a:pt x="2537" y="71"/>
                  </a:cubicBezTo>
                  <a:cubicBezTo>
                    <a:pt x="2537" y="32"/>
                    <a:pt x="2506" y="0"/>
                    <a:pt x="2467" y="0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32" y="0"/>
                    <a:pt x="0" y="32"/>
                    <a:pt x="0" y="71"/>
                  </a:cubicBezTo>
                  <a:cubicBezTo>
                    <a:pt x="0" y="1533"/>
                    <a:pt x="0" y="1533"/>
                    <a:pt x="0" y="1533"/>
                  </a:cubicBezTo>
                  <a:lnTo>
                    <a:pt x="2537" y="1533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Freeform 6"/>
            <p:cNvSpPr/>
            <p:nvPr/>
          </p:nvSpPr>
          <p:spPr>
            <a:xfrm>
              <a:off x="1388880" y="2162520"/>
              <a:ext cx="4021560" cy="2302200"/>
            </a:xfrm>
            <a:custGeom>
              <a:avLst/>
              <a:gdLst/>
              <a:ahLst/>
              <a:rect l="l" t="t" r="r" b="b"/>
              <a:pathLst>
                <a:path w="2085" h="1180">
                  <a:moveTo>
                    <a:pt x="2075" y="10"/>
                  </a:moveTo>
                  <a:lnTo>
                    <a:pt x="2075" y="1170"/>
                  </a:lnTo>
                  <a:lnTo>
                    <a:pt x="10" y="1170"/>
                  </a:lnTo>
                  <a:lnTo>
                    <a:pt x="10" y="10"/>
                  </a:lnTo>
                  <a:lnTo>
                    <a:pt x="2075" y="10"/>
                  </a:lnTo>
                  <a:close/>
                  <a:moveTo>
                    <a:pt x="2085" y="0"/>
                  </a:moveTo>
                  <a:lnTo>
                    <a:pt x="207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170"/>
                  </a:lnTo>
                  <a:lnTo>
                    <a:pt x="0" y="1180"/>
                  </a:lnTo>
                  <a:lnTo>
                    <a:pt x="10" y="1180"/>
                  </a:lnTo>
                  <a:lnTo>
                    <a:pt x="2075" y="1180"/>
                  </a:lnTo>
                  <a:lnTo>
                    <a:pt x="2085" y="1180"/>
                  </a:lnTo>
                  <a:lnTo>
                    <a:pt x="2085" y="1170"/>
                  </a:lnTo>
                  <a:lnTo>
                    <a:pt x="2085" y="10"/>
                  </a:lnTo>
                  <a:lnTo>
                    <a:pt x="2085" y="0"/>
                  </a:lnTo>
                  <a:lnTo>
                    <a:pt x="2085" y="0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7"/>
            <p:cNvSpPr/>
            <p:nvPr/>
          </p:nvSpPr>
          <p:spPr>
            <a:xfrm>
              <a:off x="1388880" y="2162520"/>
              <a:ext cx="4021560" cy="2302200"/>
            </a:xfrm>
            <a:custGeom>
              <a:avLst/>
              <a:gdLst/>
              <a:ahLst/>
              <a:rect l="l" t="t" r="r" b="b"/>
              <a:pathLst>
                <a:path w="2085" h="1180">
                  <a:moveTo>
                    <a:pt x="2075" y="10"/>
                  </a:moveTo>
                  <a:lnTo>
                    <a:pt x="2075" y="1170"/>
                  </a:lnTo>
                  <a:lnTo>
                    <a:pt x="10" y="1170"/>
                  </a:lnTo>
                  <a:lnTo>
                    <a:pt x="10" y="10"/>
                  </a:lnTo>
                  <a:lnTo>
                    <a:pt x="2075" y="10"/>
                  </a:lnTo>
                  <a:moveTo>
                    <a:pt x="2085" y="0"/>
                  </a:moveTo>
                  <a:lnTo>
                    <a:pt x="207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170"/>
                  </a:lnTo>
                  <a:lnTo>
                    <a:pt x="0" y="1180"/>
                  </a:lnTo>
                  <a:lnTo>
                    <a:pt x="10" y="1180"/>
                  </a:lnTo>
                  <a:lnTo>
                    <a:pt x="2075" y="1180"/>
                  </a:lnTo>
                  <a:lnTo>
                    <a:pt x="2085" y="1180"/>
                  </a:lnTo>
                  <a:lnTo>
                    <a:pt x="2085" y="1170"/>
                  </a:lnTo>
                  <a:lnTo>
                    <a:pt x="2085" y="10"/>
                  </a:lnTo>
                  <a:lnTo>
                    <a:pt x="2085" y="0"/>
                  </a:lnTo>
                  <a:lnTo>
                    <a:pt x="20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1408320" y="2181960"/>
              <a:ext cx="3982680" cy="22633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9"/>
            <p:cNvSpPr/>
            <p:nvPr/>
          </p:nvSpPr>
          <p:spPr>
            <a:xfrm>
              <a:off x="2657880" y="5473440"/>
              <a:ext cx="1467720" cy="60480"/>
            </a:xfrm>
            <a:custGeom>
              <a:avLst/>
              <a:gdLst/>
              <a:ahLst/>
              <a:rect l="l" t="t" r="r" b="b"/>
              <a:pathLst>
                <a:path w="854" h="35">
                  <a:moveTo>
                    <a:pt x="852" y="24"/>
                  </a:moveTo>
                  <a:cubicBezTo>
                    <a:pt x="478" y="5"/>
                    <a:pt x="478" y="5"/>
                    <a:pt x="478" y="5"/>
                  </a:cubicBezTo>
                  <a:cubicBezTo>
                    <a:pt x="478" y="0"/>
                    <a:pt x="478" y="0"/>
                    <a:pt x="478" y="0"/>
                  </a:cubicBezTo>
                  <a:cubicBezTo>
                    <a:pt x="427" y="3"/>
                    <a:pt x="427" y="3"/>
                    <a:pt x="427" y="3"/>
                  </a:cubicBezTo>
                  <a:cubicBezTo>
                    <a:pt x="375" y="0"/>
                    <a:pt x="375" y="0"/>
                    <a:pt x="375" y="0"/>
                  </a:cubicBezTo>
                  <a:cubicBezTo>
                    <a:pt x="375" y="5"/>
                    <a:pt x="375" y="5"/>
                    <a:pt x="375" y="5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24"/>
                    <a:pt x="0" y="35"/>
                    <a:pt x="24" y="35"/>
                  </a:cubicBezTo>
                  <a:cubicBezTo>
                    <a:pt x="41" y="35"/>
                    <a:pt x="247" y="35"/>
                    <a:pt x="375" y="35"/>
                  </a:cubicBezTo>
                  <a:cubicBezTo>
                    <a:pt x="435" y="35"/>
                    <a:pt x="478" y="35"/>
                    <a:pt x="478" y="35"/>
                  </a:cubicBezTo>
                  <a:cubicBezTo>
                    <a:pt x="606" y="35"/>
                    <a:pt x="812" y="35"/>
                    <a:pt x="829" y="35"/>
                  </a:cubicBezTo>
                  <a:cubicBezTo>
                    <a:pt x="854" y="35"/>
                    <a:pt x="852" y="24"/>
                    <a:pt x="852" y="24"/>
                  </a:cubicBez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10"/>
            <p:cNvSpPr/>
            <p:nvPr/>
          </p:nvSpPr>
          <p:spPr>
            <a:xfrm>
              <a:off x="2650320" y="5007240"/>
              <a:ext cx="1481040" cy="513000"/>
            </a:xfrm>
            <a:custGeom>
              <a:avLst/>
              <a:gdLst/>
              <a:ahLst/>
              <a:rect l="l" t="t" r="r" b="b"/>
              <a:pathLst>
                <a:path w="861" h="295">
                  <a:moveTo>
                    <a:pt x="790" y="274"/>
                  </a:moveTo>
                  <a:cubicBezTo>
                    <a:pt x="760" y="268"/>
                    <a:pt x="744" y="271"/>
                    <a:pt x="738" y="224"/>
                  </a:cubicBezTo>
                  <a:cubicBezTo>
                    <a:pt x="731" y="177"/>
                    <a:pt x="714" y="0"/>
                    <a:pt x="714" y="0"/>
                  </a:cubicBezTo>
                  <a:cubicBezTo>
                    <a:pt x="431" y="4"/>
                    <a:pt x="431" y="4"/>
                    <a:pt x="431" y="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7" y="0"/>
                    <a:pt x="130" y="177"/>
                    <a:pt x="124" y="224"/>
                  </a:cubicBezTo>
                  <a:cubicBezTo>
                    <a:pt x="117" y="271"/>
                    <a:pt x="102" y="268"/>
                    <a:pt x="72" y="274"/>
                  </a:cubicBezTo>
                  <a:cubicBezTo>
                    <a:pt x="42" y="280"/>
                    <a:pt x="0" y="287"/>
                    <a:pt x="0" y="291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379" y="295"/>
                    <a:pt x="379" y="295"/>
                    <a:pt x="379" y="295"/>
                  </a:cubicBezTo>
                  <a:cubicBezTo>
                    <a:pt x="482" y="295"/>
                    <a:pt x="482" y="295"/>
                    <a:pt x="482" y="295"/>
                  </a:cubicBezTo>
                  <a:cubicBezTo>
                    <a:pt x="861" y="295"/>
                    <a:pt x="861" y="295"/>
                    <a:pt x="861" y="295"/>
                  </a:cubicBezTo>
                  <a:cubicBezTo>
                    <a:pt x="861" y="295"/>
                    <a:pt x="861" y="295"/>
                    <a:pt x="861" y="291"/>
                  </a:cubicBezTo>
                  <a:cubicBezTo>
                    <a:pt x="861" y="287"/>
                    <a:pt x="820" y="280"/>
                    <a:pt x="790" y="274"/>
                  </a:cubicBez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Oval 11"/>
            <p:cNvSpPr/>
            <p:nvPr/>
          </p:nvSpPr>
          <p:spPr>
            <a:xfrm>
              <a:off x="3369600" y="2054880"/>
              <a:ext cx="59760" cy="6048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Oval 12"/>
            <p:cNvSpPr/>
            <p:nvPr/>
          </p:nvSpPr>
          <p:spPr>
            <a:xfrm>
              <a:off x="3369600" y="2051280"/>
              <a:ext cx="59760" cy="6048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Oval 13"/>
            <p:cNvSpPr/>
            <p:nvPr/>
          </p:nvSpPr>
          <p:spPr>
            <a:xfrm>
              <a:off x="3379320" y="2061000"/>
              <a:ext cx="40320" cy="38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Oval 14"/>
            <p:cNvSpPr/>
            <p:nvPr/>
          </p:nvSpPr>
          <p:spPr>
            <a:xfrm>
              <a:off x="3390840" y="2068560"/>
              <a:ext cx="19080" cy="234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Oval 15"/>
            <p:cNvSpPr/>
            <p:nvPr/>
          </p:nvSpPr>
          <p:spPr>
            <a:xfrm>
              <a:off x="3396600" y="2078640"/>
              <a:ext cx="5760" cy="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16"/>
            <p:cNvSpPr/>
            <p:nvPr/>
          </p:nvSpPr>
          <p:spPr>
            <a:xfrm>
              <a:off x="2650320" y="5007240"/>
              <a:ext cx="1197720" cy="513000"/>
            </a:xfrm>
            <a:custGeom>
              <a:avLst/>
              <a:gdLst/>
              <a:ahLst/>
              <a:rect l="l" t="t" r="r" b="b"/>
              <a:pathLst>
                <a:path w="696" h="295">
                  <a:moveTo>
                    <a:pt x="696" y="10"/>
                  </a:moveTo>
                  <a:cubicBezTo>
                    <a:pt x="573" y="2"/>
                    <a:pt x="573" y="2"/>
                    <a:pt x="573" y="2"/>
                  </a:cubicBezTo>
                  <a:cubicBezTo>
                    <a:pt x="431" y="4"/>
                    <a:pt x="431" y="4"/>
                    <a:pt x="431" y="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7" y="0"/>
                    <a:pt x="130" y="177"/>
                    <a:pt x="124" y="224"/>
                  </a:cubicBezTo>
                  <a:cubicBezTo>
                    <a:pt x="117" y="271"/>
                    <a:pt x="102" y="268"/>
                    <a:pt x="72" y="274"/>
                  </a:cubicBezTo>
                  <a:cubicBezTo>
                    <a:pt x="42" y="280"/>
                    <a:pt x="0" y="287"/>
                    <a:pt x="0" y="291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379" y="295"/>
                    <a:pt x="379" y="295"/>
                    <a:pt x="379" y="295"/>
                  </a:cubicBezTo>
                  <a:cubicBezTo>
                    <a:pt x="432" y="295"/>
                    <a:pt x="432" y="295"/>
                    <a:pt x="432" y="295"/>
                  </a:cubicBezTo>
                  <a:lnTo>
                    <a:pt x="696" y="10"/>
                  </a:lnTo>
                  <a:close/>
                </a:path>
              </a:pathLst>
            </a:custGeom>
            <a:solidFill>
              <a:srgbClr val="a8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17"/>
            <p:cNvSpPr/>
            <p:nvPr/>
          </p:nvSpPr>
          <p:spPr>
            <a:xfrm>
              <a:off x="1219320" y="4648320"/>
              <a:ext cx="4347360" cy="419400"/>
            </a:xfrm>
            <a:custGeom>
              <a:avLst/>
              <a:gdLst/>
              <a:ahLst/>
              <a:rect l="l" t="t" r="r" b="b"/>
              <a:pathLst>
                <a:path w="2537" h="241">
                  <a:moveTo>
                    <a:pt x="0" y="0"/>
                  </a:moveTo>
                  <a:cubicBezTo>
                    <a:pt x="0" y="170"/>
                    <a:pt x="0" y="170"/>
                    <a:pt x="0" y="170"/>
                  </a:cubicBezTo>
                  <a:cubicBezTo>
                    <a:pt x="0" y="209"/>
                    <a:pt x="32" y="241"/>
                    <a:pt x="71" y="241"/>
                  </a:cubicBezTo>
                  <a:cubicBezTo>
                    <a:pt x="2467" y="241"/>
                    <a:pt x="2467" y="241"/>
                    <a:pt x="2467" y="241"/>
                  </a:cubicBezTo>
                  <a:cubicBezTo>
                    <a:pt x="2506" y="241"/>
                    <a:pt x="2537" y="209"/>
                    <a:pt x="2537" y="170"/>
                  </a:cubicBezTo>
                  <a:cubicBezTo>
                    <a:pt x="2537" y="0"/>
                    <a:pt x="2537" y="0"/>
                    <a:pt x="253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0" name="Subtitle 2"/>
          <p:cNvSpPr/>
          <p:nvPr/>
        </p:nvSpPr>
        <p:spPr>
          <a:xfrm>
            <a:off x="2932200" y="853920"/>
            <a:ext cx="58500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ffffff"/>
                </a:solidFill>
                <a:latin typeface="Arial Black"/>
                <a:ea typeface="Open Sans"/>
              </a:rPr>
              <a:t>DESKTOP</a:t>
            </a:r>
            <a:r>
              <a:rPr b="1" lang="id-ID" sz="3200" spc="-1" strike="noStrike">
                <a:solidFill>
                  <a:srgbClr val="404040"/>
                </a:solidFill>
                <a:latin typeface="Arial Black"/>
                <a:ea typeface="Open Sans"/>
              </a:rPr>
              <a:t> COMP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Rectangle 38"/>
          <p:cNvSpPr/>
          <p:nvPr/>
        </p:nvSpPr>
        <p:spPr>
          <a:xfrm>
            <a:off x="2717640" y="5834160"/>
            <a:ext cx="6778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181717"/>
                </a:solidFill>
                <a:latin typeface="Montserrat Light"/>
                <a:ea typeface="Open Sans"/>
              </a:rPr>
              <a:t>Lorem ipsum dolor sit amet, lacus nulla ac netus nibh aliquet, porttitor ligula justo libero vivamus porttitor dolor, conubia molli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1"/>
          <a:stretch/>
        </p:blipFill>
        <p:spPr>
          <a:xfrm>
            <a:off x="1402920" y="2190600"/>
            <a:ext cx="3987720" cy="2262240"/>
          </a:xfrm>
          <a:prstGeom prst="rect">
            <a:avLst/>
          </a:prstGeom>
          <a:ln w="0">
            <a:noFill/>
          </a:ln>
        </p:spPr>
      </p:pic>
      <p:pic>
        <p:nvPicPr>
          <p:cNvPr id="1743" name="" descr=""/>
          <p:cNvPicPr/>
          <p:nvPr/>
        </p:nvPicPr>
        <p:blipFill>
          <a:blip r:embed="rId2"/>
          <a:stretch/>
        </p:blipFill>
        <p:spPr>
          <a:xfrm>
            <a:off x="6730560" y="2190600"/>
            <a:ext cx="4032360" cy="22622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27"/>
          <p:cNvSpPr/>
          <p:nvPr/>
        </p:nvSpPr>
        <p:spPr>
          <a:xfrm>
            <a:off x="9478800" y="3913200"/>
            <a:ext cx="735120" cy="75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Rectangle 26"/>
          <p:cNvSpPr/>
          <p:nvPr/>
        </p:nvSpPr>
        <p:spPr>
          <a:xfrm>
            <a:off x="6792840" y="3913200"/>
            <a:ext cx="736560" cy="75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Rectangle 25"/>
          <p:cNvSpPr/>
          <p:nvPr/>
        </p:nvSpPr>
        <p:spPr>
          <a:xfrm>
            <a:off x="9478800" y="1973160"/>
            <a:ext cx="735120" cy="757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Rectangle 6"/>
          <p:cNvSpPr/>
          <p:nvPr/>
        </p:nvSpPr>
        <p:spPr>
          <a:xfrm>
            <a:off x="6797520" y="1965240"/>
            <a:ext cx="735120" cy="757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8" name="Group 1104"/>
          <p:cNvGrpSpPr/>
          <p:nvPr/>
        </p:nvGrpSpPr>
        <p:grpSpPr>
          <a:xfrm>
            <a:off x="1428840" y="534960"/>
            <a:ext cx="3735360" cy="5532480"/>
            <a:chOff x="1428840" y="534960"/>
            <a:chExt cx="3735360" cy="5532480"/>
          </a:xfrm>
        </p:grpSpPr>
        <p:grpSp>
          <p:nvGrpSpPr>
            <p:cNvPr id="1749" name="Group 1102"/>
            <p:cNvGrpSpPr/>
            <p:nvPr/>
          </p:nvGrpSpPr>
          <p:grpSpPr>
            <a:xfrm>
              <a:off x="1428840" y="534960"/>
              <a:ext cx="3735360" cy="5532480"/>
              <a:chOff x="1428840" y="534960"/>
              <a:chExt cx="3735360" cy="5532480"/>
            </a:xfrm>
          </p:grpSpPr>
          <p:pic>
            <p:nvPicPr>
              <p:cNvPr id="1750" name="Mini-iPad-B&amp;W-Mockup.png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8840" y="534960"/>
                <a:ext cx="3735360" cy="553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1" name="Shape 1101"/>
              <p:cNvSpPr/>
              <p:nvPr/>
            </p:nvSpPr>
            <p:spPr>
              <a:xfrm>
                <a:off x="1634400" y="1075320"/>
                <a:ext cx="3331800" cy="4422600"/>
              </a:xfrm>
              <a:prstGeom prst="rect">
                <a:avLst/>
              </a:prstGeom>
              <a:solidFill>
                <a:srgbClr val="606060"/>
              </a:solidFill>
              <a:ln w="255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90520"/>
                    <a:tab algn="l" pos="581040"/>
                    <a:tab algn="l" pos="871560"/>
                    <a:tab algn="l" pos="1162080"/>
                    <a:tab algn="l" pos="1452600"/>
                    <a:tab algn="l" pos="1743120"/>
                    <a:tab algn="l" pos="2033640"/>
                    <a:tab algn="l" pos="2324160"/>
                    <a:tab algn="l" pos="2614680"/>
                    <a:tab algn="l" pos="2905200"/>
                    <a:tab algn="l" pos="3195720"/>
                    <a:tab algn="l" pos="3486240"/>
                    <a:tab algn="l" pos="3776760"/>
                    <a:tab algn="l" pos="4067280"/>
                    <a:tab algn="l" pos="4357800"/>
                    <a:tab algn="l" pos="4648320"/>
                    <a:tab algn="l" pos="4938840"/>
                    <a:tab algn="l" pos="5229360"/>
                    <a:tab algn="l" pos="5519880"/>
                    <a:tab algn="l" pos="5810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52" name="placeholder.png" descr=""/>
            <p:cNvPicPr/>
            <p:nvPr/>
          </p:nvPicPr>
          <p:blipFill>
            <a:blip r:embed="rId2"/>
            <a:srcRect l="29022" t="0" r="29022" b="0"/>
            <a:stretch/>
          </p:blipFill>
          <p:spPr>
            <a:xfrm>
              <a:off x="1620000" y="1083960"/>
              <a:ext cx="3350160" cy="448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3" name="TextBox 34"/>
          <p:cNvSpPr/>
          <p:nvPr/>
        </p:nvSpPr>
        <p:spPr>
          <a:xfrm>
            <a:off x="8953920" y="47548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 Black"/>
                <a:ea typeface="Open Sans"/>
              </a:rPr>
              <a:t>TAKE PIC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TextBox 35"/>
          <p:cNvSpPr/>
          <p:nvPr/>
        </p:nvSpPr>
        <p:spPr>
          <a:xfrm>
            <a:off x="6366960" y="280944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 Black"/>
                <a:ea typeface="Open Sans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Shape 2632"/>
          <p:cNvSpPr/>
          <p:nvPr/>
        </p:nvSpPr>
        <p:spPr>
          <a:xfrm>
            <a:off x="6921360" y="2052720"/>
            <a:ext cx="486000" cy="59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7673"/>
                </a:moveTo>
                <a:cubicBezTo>
                  <a:pt x="4588" y="17673"/>
                  <a:pt x="1200" y="16051"/>
                  <a:pt x="1200" y="15218"/>
                </a:cubicBezTo>
                <a:cubicBezTo>
                  <a:pt x="1200" y="14690"/>
                  <a:pt x="1355" y="14275"/>
                  <a:pt x="1611" y="13896"/>
                </a:cubicBezTo>
                <a:cubicBezTo>
                  <a:pt x="3255" y="14967"/>
                  <a:pt x="6746" y="15709"/>
                  <a:pt x="10800" y="15709"/>
                </a:cubicBezTo>
                <a:cubicBezTo>
                  <a:pt x="14856" y="15709"/>
                  <a:pt x="18345" y="14966"/>
                  <a:pt x="19987" y="13894"/>
                </a:cubicBezTo>
                <a:cubicBezTo>
                  <a:pt x="20244" y="14273"/>
                  <a:pt x="20400" y="14689"/>
                  <a:pt x="20400" y="15218"/>
                </a:cubicBezTo>
                <a:cubicBezTo>
                  <a:pt x="20400" y="16051"/>
                  <a:pt x="17011" y="17673"/>
                  <a:pt x="10800" y="17673"/>
                </a:cubicBezTo>
                <a:moveTo>
                  <a:pt x="10800" y="20618"/>
                </a:moveTo>
                <a:cubicBezTo>
                  <a:pt x="9475" y="20618"/>
                  <a:pt x="8400" y="19739"/>
                  <a:pt x="8400" y="18655"/>
                </a:cubicBezTo>
                <a:cubicBezTo>
                  <a:pt x="8400" y="18625"/>
                  <a:pt x="8408" y="18597"/>
                  <a:pt x="8409" y="18567"/>
                </a:cubicBezTo>
                <a:cubicBezTo>
                  <a:pt x="9179" y="18623"/>
                  <a:pt x="9977" y="18655"/>
                  <a:pt x="10800" y="18655"/>
                </a:cubicBezTo>
                <a:cubicBezTo>
                  <a:pt x="11623" y="18655"/>
                  <a:pt x="12421" y="18623"/>
                  <a:pt x="13191" y="18567"/>
                </a:cubicBezTo>
                <a:cubicBezTo>
                  <a:pt x="13192" y="18597"/>
                  <a:pt x="13200" y="18625"/>
                  <a:pt x="13200" y="18655"/>
                </a:cubicBezTo>
                <a:cubicBezTo>
                  <a:pt x="13200" y="19739"/>
                  <a:pt x="12125" y="20618"/>
                  <a:pt x="10800" y="20618"/>
                </a:cubicBezTo>
                <a:moveTo>
                  <a:pt x="2948" y="12551"/>
                </a:moveTo>
                <a:cubicBezTo>
                  <a:pt x="4308" y="11388"/>
                  <a:pt x="6000" y="9939"/>
                  <a:pt x="6000" y="6873"/>
                </a:cubicBezTo>
                <a:cubicBezTo>
                  <a:pt x="6000" y="5232"/>
                  <a:pt x="7238" y="3825"/>
                  <a:pt x="8988" y="3239"/>
                </a:cubicBezTo>
                <a:cubicBezTo>
                  <a:pt x="9428" y="3657"/>
                  <a:pt x="10072" y="3927"/>
                  <a:pt x="10800" y="3927"/>
                </a:cubicBezTo>
                <a:cubicBezTo>
                  <a:pt x="11528" y="3927"/>
                  <a:pt x="12172" y="3657"/>
                  <a:pt x="12611" y="3239"/>
                </a:cubicBezTo>
                <a:cubicBezTo>
                  <a:pt x="14362" y="3825"/>
                  <a:pt x="15600" y="5232"/>
                  <a:pt x="15600" y="6873"/>
                </a:cubicBezTo>
                <a:cubicBezTo>
                  <a:pt x="15600" y="9939"/>
                  <a:pt x="17292" y="11388"/>
                  <a:pt x="18652" y="12551"/>
                </a:cubicBezTo>
                <a:cubicBezTo>
                  <a:pt x="18911" y="12773"/>
                  <a:pt x="19152" y="12979"/>
                  <a:pt x="19366" y="13183"/>
                </a:cubicBezTo>
                <a:cubicBezTo>
                  <a:pt x="18217" y="14077"/>
                  <a:pt x="14825" y="14727"/>
                  <a:pt x="10800" y="14727"/>
                </a:cubicBezTo>
                <a:cubicBezTo>
                  <a:pt x="6779" y="14727"/>
                  <a:pt x="3383" y="14079"/>
                  <a:pt x="2230" y="13186"/>
                </a:cubicBezTo>
                <a:cubicBezTo>
                  <a:pt x="2446" y="12981"/>
                  <a:pt x="2687" y="12774"/>
                  <a:pt x="2948" y="12551"/>
                </a:cubicBezTo>
                <a:moveTo>
                  <a:pt x="10800" y="982"/>
                </a:moveTo>
                <a:cubicBezTo>
                  <a:pt x="11462" y="982"/>
                  <a:pt x="12000" y="1422"/>
                  <a:pt x="12000" y="1964"/>
                </a:cubicBezTo>
                <a:cubicBezTo>
                  <a:pt x="12000" y="2506"/>
                  <a:pt x="11462" y="2945"/>
                  <a:pt x="10800" y="2945"/>
                </a:cubicBezTo>
                <a:cubicBezTo>
                  <a:pt x="10138" y="2945"/>
                  <a:pt x="9600" y="2506"/>
                  <a:pt x="9600" y="1964"/>
                </a:cubicBezTo>
                <a:cubicBezTo>
                  <a:pt x="9600" y="1422"/>
                  <a:pt x="10138" y="982"/>
                  <a:pt x="10800" y="982"/>
                </a:cubicBezTo>
                <a:moveTo>
                  <a:pt x="21600" y="15218"/>
                </a:moveTo>
                <a:cubicBezTo>
                  <a:pt x="21600" y="11782"/>
                  <a:pt x="16800" y="11782"/>
                  <a:pt x="16800" y="6873"/>
                </a:cubicBezTo>
                <a:cubicBezTo>
                  <a:pt x="16800" y="4845"/>
                  <a:pt x="15296" y="3105"/>
                  <a:pt x="13152" y="2356"/>
                </a:cubicBezTo>
                <a:cubicBezTo>
                  <a:pt x="13183" y="2229"/>
                  <a:pt x="13200" y="2098"/>
                  <a:pt x="13200" y="1964"/>
                </a:cubicBezTo>
                <a:cubicBezTo>
                  <a:pt x="13200" y="879"/>
                  <a:pt x="12125" y="0"/>
                  <a:pt x="10800" y="0"/>
                </a:cubicBezTo>
                <a:cubicBezTo>
                  <a:pt x="9475" y="0"/>
                  <a:pt x="8400" y="879"/>
                  <a:pt x="8400" y="1964"/>
                </a:cubicBezTo>
                <a:cubicBezTo>
                  <a:pt x="8400" y="2098"/>
                  <a:pt x="8417" y="2229"/>
                  <a:pt x="8448" y="2356"/>
                </a:cubicBezTo>
                <a:cubicBezTo>
                  <a:pt x="6304" y="3105"/>
                  <a:pt x="4800" y="4845"/>
                  <a:pt x="4800" y="6873"/>
                </a:cubicBezTo>
                <a:cubicBezTo>
                  <a:pt x="4800" y="11782"/>
                  <a:pt x="0" y="11782"/>
                  <a:pt x="0" y="15218"/>
                </a:cubicBezTo>
                <a:cubicBezTo>
                  <a:pt x="0" y="16716"/>
                  <a:pt x="3016" y="17986"/>
                  <a:pt x="7217" y="18457"/>
                </a:cubicBezTo>
                <a:cubicBezTo>
                  <a:pt x="7211" y="18523"/>
                  <a:pt x="7200" y="18587"/>
                  <a:pt x="7200" y="18655"/>
                </a:cubicBezTo>
                <a:cubicBezTo>
                  <a:pt x="7200" y="20282"/>
                  <a:pt x="8812" y="21600"/>
                  <a:pt x="10800" y="21600"/>
                </a:cubicBezTo>
                <a:cubicBezTo>
                  <a:pt x="12788" y="21600"/>
                  <a:pt x="14400" y="20282"/>
                  <a:pt x="14400" y="18655"/>
                </a:cubicBezTo>
                <a:cubicBezTo>
                  <a:pt x="14400" y="18587"/>
                  <a:pt x="14389" y="18523"/>
                  <a:pt x="14383" y="18457"/>
                </a:cubicBezTo>
                <a:cubicBezTo>
                  <a:pt x="18584" y="17986"/>
                  <a:pt x="21600" y="16716"/>
                  <a:pt x="21600" y="1521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TextBox 61"/>
          <p:cNvSpPr/>
          <p:nvPr/>
        </p:nvSpPr>
        <p:spPr>
          <a:xfrm>
            <a:off x="8965080" y="2809440"/>
            <a:ext cx="17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 Black"/>
                <a:ea typeface="Open Sans"/>
              </a:rPr>
              <a:t>GREAT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Shape 2588"/>
          <p:cNvSpPr/>
          <p:nvPr/>
        </p:nvSpPr>
        <p:spPr>
          <a:xfrm>
            <a:off x="9556920" y="2081160"/>
            <a:ext cx="591840" cy="53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82" y="12420"/>
                </a:moveTo>
                <a:cubicBezTo>
                  <a:pt x="16368" y="12420"/>
                  <a:pt x="15709" y="11694"/>
                  <a:pt x="15709" y="10800"/>
                </a:cubicBezTo>
                <a:cubicBezTo>
                  <a:pt x="15709" y="9906"/>
                  <a:pt x="16368" y="9180"/>
                  <a:pt x="17182" y="9180"/>
                </a:cubicBezTo>
                <a:cubicBezTo>
                  <a:pt x="17995" y="9180"/>
                  <a:pt x="18655" y="9906"/>
                  <a:pt x="18655" y="10800"/>
                </a:cubicBezTo>
                <a:cubicBezTo>
                  <a:pt x="18655" y="11694"/>
                  <a:pt x="17995" y="12420"/>
                  <a:pt x="17182" y="12420"/>
                </a:cubicBezTo>
                <a:moveTo>
                  <a:pt x="21109" y="10260"/>
                </a:moveTo>
                <a:lnTo>
                  <a:pt x="19587" y="10260"/>
                </a:lnTo>
                <a:cubicBezTo>
                  <a:pt x="19360" y="9028"/>
                  <a:pt x="18369" y="8100"/>
                  <a:pt x="17182" y="8100"/>
                </a:cubicBezTo>
                <a:cubicBezTo>
                  <a:pt x="15994" y="8100"/>
                  <a:pt x="15004" y="9028"/>
                  <a:pt x="14777" y="10260"/>
                </a:cubicBezTo>
                <a:lnTo>
                  <a:pt x="491" y="10260"/>
                </a:lnTo>
                <a:cubicBezTo>
                  <a:pt x="220" y="10260"/>
                  <a:pt x="0" y="10502"/>
                  <a:pt x="0" y="10800"/>
                </a:cubicBezTo>
                <a:cubicBezTo>
                  <a:pt x="0" y="11098"/>
                  <a:pt x="220" y="11340"/>
                  <a:pt x="491" y="11340"/>
                </a:cubicBezTo>
                <a:lnTo>
                  <a:pt x="14777" y="11340"/>
                </a:lnTo>
                <a:cubicBezTo>
                  <a:pt x="15004" y="12572"/>
                  <a:pt x="15994" y="13500"/>
                  <a:pt x="17182" y="13500"/>
                </a:cubicBezTo>
                <a:cubicBezTo>
                  <a:pt x="18369" y="13500"/>
                  <a:pt x="19360" y="12572"/>
                  <a:pt x="19587" y="11340"/>
                </a:cubicBezTo>
                <a:lnTo>
                  <a:pt x="21109" y="11340"/>
                </a:lnTo>
                <a:cubicBezTo>
                  <a:pt x="21380" y="11340"/>
                  <a:pt x="21600" y="11098"/>
                  <a:pt x="21600" y="10800"/>
                </a:cubicBezTo>
                <a:cubicBezTo>
                  <a:pt x="21600" y="10502"/>
                  <a:pt x="21380" y="10260"/>
                  <a:pt x="21109" y="10260"/>
                </a:cubicBezTo>
                <a:moveTo>
                  <a:pt x="5400" y="1080"/>
                </a:moveTo>
                <a:cubicBezTo>
                  <a:pt x="6214" y="1080"/>
                  <a:pt x="6873" y="1806"/>
                  <a:pt x="6873" y="2700"/>
                </a:cubicBezTo>
                <a:cubicBezTo>
                  <a:pt x="6873" y="3595"/>
                  <a:pt x="6214" y="4320"/>
                  <a:pt x="5400" y="4320"/>
                </a:cubicBezTo>
                <a:cubicBezTo>
                  <a:pt x="4586" y="4320"/>
                  <a:pt x="3927" y="3595"/>
                  <a:pt x="3927" y="2700"/>
                </a:cubicBezTo>
                <a:cubicBezTo>
                  <a:pt x="3927" y="1806"/>
                  <a:pt x="4586" y="1080"/>
                  <a:pt x="5400" y="1080"/>
                </a:cubicBezTo>
                <a:moveTo>
                  <a:pt x="491" y="3240"/>
                </a:moveTo>
                <a:lnTo>
                  <a:pt x="2995" y="3240"/>
                </a:lnTo>
                <a:cubicBezTo>
                  <a:pt x="3222" y="4472"/>
                  <a:pt x="4213" y="5400"/>
                  <a:pt x="5400" y="5400"/>
                </a:cubicBezTo>
                <a:cubicBezTo>
                  <a:pt x="6587" y="5400"/>
                  <a:pt x="7578" y="4472"/>
                  <a:pt x="7805" y="3240"/>
                </a:cubicBezTo>
                <a:lnTo>
                  <a:pt x="21109" y="3240"/>
                </a:lnTo>
                <a:cubicBezTo>
                  <a:pt x="21380" y="3240"/>
                  <a:pt x="21600" y="2999"/>
                  <a:pt x="21600" y="2700"/>
                </a:cubicBezTo>
                <a:cubicBezTo>
                  <a:pt x="21600" y="2402"/>
                  <a:pt x="21380" y="2160"/>
                  <a:pt x="21109" y="2160"/>
                </a:cubicBezTo>
                <a:lnTo>
                  <a:pt x="7805" y="2160"/>
                </a:lnTo>
                <a:cubicBezTo>
                  <a:pt x="7578" y="928"/>
                  <a:pt x="6587" y="0"/>
                  <a:pt x="5400" y="0"/>
                </a:cubicBezTo>
                <a:cubicBezTo>
                  <a:pt x="4213" y="0"/>
                  <a:pt x="3222" y="928"/>
                  <a:pt x="2995" y="2160"/>
                </a:cubicBezTo>
                <a:lnTo>
                  <a:pt x="491" y="2160"/>
                </a:lnTo>
                <a:cubicBezTo>
                  <a:pt x="220" y="2160"/>
                  <a:pt x="0" y="2402"/>
                  <a:pt x="0" y="2700"/>
                </a:cubicBezTo>
                <a:cubicBezTo>
                  <a:pt x="0" y="2999"/>
                  <a:pt x="220" y="3240"/>
                  <a:pt x="491" y="3240"/>
                </a:cubicBezTo>
                <a:moveTo>
                  <a:pt x="9327" y="20519"/>
                </a:moveTo>
                <a:cubicBezTo>
                  <a:pt x="8514" y="20519"/>
                  <a:pt x="7855" y="19794"/>
                  <a:pt x="7855" y="18899"/>
                </a:cubicBezTo>
                <a:cubicBezTo>
                  <a:pt x="7855" y="18005"/>
                  <a:pt x="8514" y="17279"/>
                  <a:pt x="9327" y="17279"/>
                </a:cubicBezTo>
                <a:cubicBezTo>
                  <a:pt x="10141" y="17279"/>
                  <a:pt x="10800" y="18005"/>
                  <a:pt x="10800" y="18899"/>
                </a:cubicBezTo>
                <a:cubicBezTo>
                  <a:pt x="10800" y="19794"/>
                  <a:pt x="10141" y="20519"/>
                  <a:pt x="9327" y="20519"/>
                </a:cubicBezTo>
                <a:moveTo>
                  <a:pt x="21109" y="18359"/>
                </a:moveTo>
                <a:lnTo>
                  <a:pt x="11732" y="18359"/>
                </a:lnTo>
                <a:cubicBezTo>
                  <a:pt x="11505" y="17127"/>
                  <a:pt x="10515" y="16199"/>
                  <a:pt x="9327" y="16199"/>
                </a:cubicBezTo>
                <a:cubicBezTo>
                  <a:pt x="8140" y="16199"/>
                  <a:pt x="7150" y="17127"/>
                  <a:pt x="6922" y="18359"/>
                </a:cubicBezTo>
                <a:lnTo>
                  <a:pt x="491" y="18359"/>
                </a:lnTo>
                <a:cubicBezTo>
                  <a:pt x="220" y="18359"/>
                  <a:pt x="0" y="18601"/>
                  <a:pt x="0" y="18899"/>
                </a:cubicBezTo>
                <a:cubicBezTo>
                  <a:pt x="0" y="19198"/>
                  <a:pt x="220" y="19439"/>
                  <a:pt x="491" y="19439"/>
                </a:cubicBezTo>
                <a:lnTo>
                  <a:pt x="6922" y="19439"/>
                </a:lnTo>
                <a:cubicBezTo>
                  <a:pt x="7150" y="20672"/>
                  <a:pt x="8140" y="21600"/>
                  <a:pt x="9327" y="21600"/>
                </a:cubicBezTo>
                <a:cubicBezTo>
                  <a:pt x="10515" y="21600"/>
                  <a:pt x="11505" y="20672"/>
                  <a:pt x="11732" y="19439"/>
                </a:cubicBezTo>
                <a:lnTo>
                  <a:pt x="21109" y="19439"/>
                </a:lnTo>
                <a:cubicBezTo>
                  <a:pt x="21380" y="19439"/>
                  <a:pt x="21600" y="19198"/>
                  <a:pt x="21600" y="18899"/>
                </a:cubicBezTo>
                <a:cubicBezTo>
                  <a:pt x="21600" y="18601"/>
                  <a:pt x="21380" y="18359"/>
                  <a:pt x="21109" y="1835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TextBox 63"/>
          <p:cNvSpPr/>
          <p:nvPr/>
        </p:nvSpPr>
        <p:spPr>
          <a:xfrm>
            <a:off x="6360840" y="475488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 Black"/>
                <a:ea typeface="Open Sans"/>
              </a:rPr>
              <a:t>BE DESIG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Shape 2618"/>
          <p:cNvSpPr/>
          <p:nvPr/>
        </p:nvSpPr>
        <p:spPr>
          <a:xfrm>
            <a:off x="6864480" y="3998880"/>
            <a:ext cx="593640" cy="593640"/>
          </a:xfrm>
          <a:custGeom>
            <a:avLst/>
            <a:gdLst/>
            <a:ahLst/>
            <a:rect l="l" t="t" r="r" b="b"/>
            <a:pathLst>
              <a:path w="21278" h="21600">
                <a:moveTo>
                  <a:pt x="2560" y="18308"/>
                </a:moveTo>
                <a:cubicBezTo>
                  <a:pt x="2472" y="18397"/>
                  <a:pt x="2418" y="18520"/>
                  <a:pt x="2418" y="18655"/>
                </a:cubicBezTo>
                <a:cubicBezTo>
                  <a:pt x="2418" y="18926"/>
                  <a:pt x="2635" y="19146"/>
                  <a:pt x="2902" y="19146"/>
                </a:cubicBezTo>
                <a:cubicBezTo>
                  <a:pt x="3169" y="19146"/>
                  <a:pt x="3385" y="18926"/>
                  <a:pt x="3385" y="18655"/>
                </a:cubicBezTo>
                <a:cubicBezTo>
                  <a:pt x="3385" y="18384"/>
                  <a:pt x="3169" y="18164"/>
                  <a:pt x="2902" y="18164"/>
                </a:cubicBezTo>
                <a:cubicBezTo>
                  <a:pt x="2768" y="18164"/>
                  <a:pt x="2647" y="18219"/>
                  <a:pt x="2560" y="18308"/>
                </a:cubicBezTo>
                <a:moveTo>
                  <a:pt x="20499" y="4279"/>
                </a:moveTo>
                <a:lnTo>
                  <a:pt x="20091" y="4692"/>
                </a:lnTo>
                <a:lnTo>
                  <a:pt x="20088" y="4688"/>
                </a:lnTo>
                <a:lnTo>
                  <a:pt x="17670" y="7143"/>
                </a:lnTo>
                <a:lnTo>
                  <a:pt x="17664" y="7137"/>
                </a:lnTo>
                <a:cubicBezTo>
                  <a:pt x="17227" y="7580"/>
                  <a:pt x="16624" y="7853"/>
                  <a:pt x="15958" y="7853"/>
                </a:cubicBezTo>
                <a:cubicBezTo>
                  <a:pt x="14624" y="7853"/>
                  <a:pt x="13543" y="6755"/>
                  <a:pt x="13543" y="5401"/>
                </a:cubicBezTo>
                <a:cubicBezTo>
                  <a:pt x="13543" y="4725"/>
                  <a:pt x="13813" y="4113"/>
                  <a:pt x="14248" y="3670"/>
                </a:cubicBezTo>
                <a:lnTo>
                  <a:pt x="13563" y="2975"/>
                </a:lnTo>
                <a:cubicBezTo>
                  <a:pt x="12951" y="3596"/>
                  <a:pt x="12571" y="4452"/>
                  <a:pt x="12571" y="5401"/>
                </a:cubicBezTo>
                <a:cubicBezTo>
                  <a:pt x="12571" y="7300"/>
                  <a:pt x="14087" y="8840"/>
                  <a:pt x="15958" y="8840"/>
                </a:cubicBezTo>
                <a:cubicBezTo>
                  <a:pt x="16893" y="8840"/>
                  <a:pt x="17737" y="8454"/>
                  <a:pt x="18348" y="7832"/>
                </a:cubicBezTo>
                <a:lnTo>
                  <a:pt x="18353" y="7837"/>
                </a:lnTo>
                <a:lnTo>
                  <a:pt x="20152" y="6011"/>
                </a:lnTo>
                <a:cubicBezTo>
                  <a:pt x="20516" y="7368"/>
                  <a:pt x="20343" y="8670"/>
                  <a:pt x="19540" y="9505"/>
                </a:cubicBezTo>
                <a:lnTo>
                  <a:pt x="16947" y="12198"/>
                </a:lnTo>
                <a:cubicBezTo>
                  <a:pt x="16605" y="12553"/>
                  <a:pt x="16104" y="12766"/>
                  <a:pt x="15610" y="12766"/>
                </a:cubicBezTo>
                <a:cubicBezTo>
                  <a:pt x="15590" y="12765"/>
                  <a:pt x="13953" y="12652"/>
                  <a:pt x="12318" y="11611"/>
                </a:cubicBezTo>
                <a:lnTo>
                  <a:pt x="12314" y="11620"/>
                </a:lnTo>
                <a:cubicBezTo>
                  <a:pt x="12239" y="11572"/>
                  <a:pt x="12155" y="11537"/>
                  <a:pt x="12060" y="11537"/>
                </a:cubicBezTo>
                <a:cubicBezTo>
                  <a:pt x="11897" y="11537"/>
                  <a:pt x="11759" y="11625"/>
                  <a:pt x="11671" y="11753"/>
                </a:cubicBezTo>
                <a:lnTo>
                  <a:pt x="11654" y="11742"/>
                </a:lnTo>
                <a:lnTo>
                  <a:pt x="4270" y="20043"/>
                </a:lnTo>
                <a:cubicBezTo>
                  <a:pt x="3919" y="20399"/>
                  <a:pt x="3436" y="20618"/>
                  <a:pt x="2902" y="20618"/>
                </a:cubicBezTo>
                <a:cubicBezTo>
                  <a:pt x="1833" y="20618"/>
                  <a:pt x="967" y="19740"/>
                  <a:pt x="967" y="18655"/>
                </a:cubicBezTo>
                <a:cubicBezTo>
                  <a:pt x="967" y="18113"/>
                  <a:pt x="1184" y="17622"/>
                  <a:pt x="1534" y="17267"/>
                </a:cubicBezTo>
                <a:lnTo>
                  <a:pt x="9684" y="9801"/>
                </a:lnTo>
                <a:lnTo>
                  <a:pt x="9671" y="9786"/>
                </a:lnTo>
                <a:cubicBezTo>
                  <a:pt x="9796" y="9698"/>
                  <a:pt x="9884" y="9557"/>
                  <a:pt x="9884" y="9389"/>
                </a:cubicBezTo>
                <a:cubicBezTo>
                  <a:pt x="9884" y="9283"/>
                  <a:pt x="9844" y="9190"/>
                  <a:pt x="9787" y="9110"/>
                </a:cubicBezTo>
                <a:lnTo>
                  <a:pt x="9790" y="9107"/>
                </a:lnTo>
                <a:cubicBezTo>
                  <a:pt x="8390" y="7219"/>
                  <a:pt x="8340" y="5816"/>
                  <a:pt x="9546" y="4488"/>
                </a:cubicBezTo>
                <a:lnTo>
                  <a:pt x="12130" y="1805"/>
                </a:lnTo>
                <a:cubicBezTo>
                  <a:pt x="12785" y="1125"/>
                  <a:pt x="13641" y="982"/>
                  <a:pt x="14244" y="982"/>
                </a:cubicBezTo>
                <a:lnTo>
                  <a:pt x="14246" y="982"/>
                </a:lnTo>
                <a:cubicBezTo>
                  <a:pt x="14611" y="982"/>
                  <a:pt x="14988" y="1037"/>
                  <a:pt x="15366" y="1136"/>
                </a:cubicBezTo>
                <a:lnTo>
                  <a:pt x="13559" y="2970"/>
                </a:lnTo>
                <a:lnTo>
                  <a:pt x="14243" y="3664"/>
                </a:lnTo>
                <a:lnTo>
                  <a:pt x="16661" y="1210"/>
                </a:lnTo>
                <a:lnTo>
                  <a:pt x="16657" y="1206"/>
                </a:lnTo>
                <a:lnTo>
                  <a:pt x="17082" y="775"/>
                </a:lnTo>
                <a:cubicBezTo>
                  <a:pt x="16139" y="269"/>
                  <a:pt x="15160" y="0"/>
                  <a:pt x="14246" y="0"/>
                </a:cubicBezTo>
                <a:lnTo>
                  <a:pt x="14244" y="0"/>
                </a:lnTo>
                <a:cubicBezTo>
                  <a:pt x="13167" y="0"/>
                  <a:pt x="12182" y="361"/>
                  <a:pt x="11460" y="1111"/>
                </a:cubicBezTo>
                <a:lnTo>
                  <a:pt x="8867" y="3804"/>
                </a:lnTo>
                <a:cubicBezTo>
                  <a:pt x="7163" y="5672"/>
                  <a:pt x="7613" y="7584"/>
                  <a:pt x="8769" y="9315"/>
                </a:cubicBezTo>
                <a:lnTo>
                  <a:pt x="850" y="16572"/>
                </a:lnTo>
                <a:cubicBezTo>
                  <a:pt x="325" y="17106"/>
                  <a:pt x="0" y="17842"/>
                  <a:pt x="0" y="18655"/>
                </a:cubicBezTo>
                <a:cubicBezTo>
                  <a:pt x="0" y="20282"/>
                  <a:pt x="1299" y="21600"/>
                  <a:pt x="2902" y="21600"/>
                </a:cubicBezTo>
                <a:cubicBezTo>
                  <a:pt x="3703" y="21600"/>
                  <a:pt x="4429" y="21271"/>
                  <a:pt x="4954" y="20738"/>
                </a:cubicBezTo>
                <a:lnTo>
                  <a:pt x="12160" y="12652"/>
                </a:lnTo>
                <a:cubicBezTo>
                  <a:pt x="13800" y="13590"/>
                  <a:pt x="15363" y="13747"/>
                  <a:pt x="15606" y="13747"/>
                </a:cubicBezTo>
                <a:cubicBezTo>
                  <a:pt x="16313" y="13747"/>
                  <a:pt x="17067" y="13463"/>
                  <a:pt x="17617" y="12892"/>
                </a:cubicBezTo>
                <a:lnTo>
                  <a:pt x="20209" y="10198"/>
                </a:lnTo>
                <a:cubicBezTo>
                  <a:pt x="21560" y="8795"/>
                  <a:pt x="21600" y="6433"/>
                  <a:pt x="20499" y="427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Shape 2562"/>
          <p:cNvSpPr/>
          <p:nvPr/>
        </p:nvSpPr>
        <p:spPr>
          <a:xfrm>
            <a:off x="9550440" y="4032360"/>
            <a:ext cx="593640" cy="59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18" y="19636"/>
                </a:moveTo>
                <a:cubicBezTo>
                  <a:pt x="20618" y="20179"/>
                  <a:pt x="20178" y="20619"/>
                  <a:pt x="19636" y="20619"/>
                </a:cubicBezTo>
                <a:lnTo>
                  <a:pt x="1964" y="20619"/>
                </a:lnTo>
                <a:cubicBezTo>
                  <a:pt x="1421" y="20619"/>
                  <a:pt x="982" y="20179"/>
                  <a:pt x="982" y="19636"/>
                </a:cubicBezTo>
                <a:lnTo>
                  <a:pt x="982" y="1964"/>
                </a:lnTo>
                <a:cubicBezTo>
                  <a:pt x="982" y="1422"/>
                  <a:pt x="1421" y="982"/>
                  <a:pt x="1964" y="982"/>
                </a:cubicBezTo>
                <a:lnTo>
                  <a:pt x="19636" y="982"/>
                </a:lnTo>
                <a:cubicBezTo>
                  <a:pt x="20178" y="982"/>
                  <a:pt x="20618" y="1422"/>
                  <a:pt x="20618" y="1964"/>
                </a:cubicBezTo>
                <a:cubicBezTo>
                  <a:pt x="20618" y="1964"/>
                  <a:pt x="20618" y="19636"/>
                  <a:pt x="20618" y="19636"/>
                </a:cubicBezTo>
                <a:close/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20721" y="0"/>
                  <a:pt x="19636" y="0"/>
                </a:cubicBezTo>
                <a:moveTo>
                  <a:pt x="4294" y="17673"/>
                </a:moveTo>
                <a:lnTo>
                  <a:pt x="8376" y="10732"/>
                </a:lnTo>
                <a:lnTo>
                  <a:pt x="10838" y="14425"/>
                </a:lnTo>
                <a:cubicBezTo>
                  <a:pt x="10862" y="14484"/>
                  <a:pt x="10898" y="14536"/>
                  <a:pt x="10942" y="14581"/>
                </a:cubicBezTo>
                <a:lnTo>
                  <a:pt x="10944" y="14583"/>
                </a:lnTo>
                <a:cubicBezTo>
                  <a:pt x="11033" y="14673"/>
                  <a:pt x="11155" y="14727"/>
                  <a:pt x="11291" y="14727"/>
                </a:cubicBezTo>
                <a:cubicBezTo>
                  <a:pt x="11427" y="14727"/>
                  <a:pt x="11549" y="14673"/>
                  <a:pt x="11638" y="14583"/>
                </a:cubicBezTo>
                <a:lnTo>
                  <a:pt x="13686" y="12536"/>
                </a:lnTo>
                <a:lnTo>
                  <a:pt x="17242" y="17673"/>
                </a:lnTo>
                <a:cubicBezTo>
                  <a:pt x="17242" y="17673"/>
                  <a:pt x="4294" y="17673"/>
                  <a:pt x="4294" y="17673"/>
                </a:cubicBezTo>
                <a:close/>
                <a:moveTo>
                  <a:pt x="18620" y="17982"/>
                </a:moveTo>
                <a:lnTo>
                  <a:pt x="18617" y="17978"/>
                </a:lnTo>
                <a:cubicBezTo>
                  <a:pt x="18590" y="17913"/>
                  <a:pt x="18551" y="17858"/>
                  <a:pt x="18501" y="17810"/>
                </a:cubicBezTo>
                <a:lnTo>
                  <a:pt x="14201" y="11600"/>
                </a:lnTo>
                <a:lnTo>
                  <a:pt x="14200" y="11601"/>
                </a:lnTo>
                <a:cubicBezTo>
                  <a:pt x="14127" y="11420"/>
                  <a:pt x="13952" y="11291"/>
                  <a:pt x="13745" y="11291"/>
                </a:cubicBezTo>
                <a:cubicBezTo>
                  <a:pt x="13610" y="11291"/>
                  <a:pt x="13488" y="11346"/>
                  <a:pt x="13398" y="11435"/>
                </a:cubicBezTo>
                <a:lnTo>
                  <a:pt x="11360" y="13473"/>
                </a:lnTo>
                <a:lnTo>
                  <a:pt x="8798" y="9630"/>
                </a:lnTo>
                <a:cubicBezTo>
                  <a:pt x="8724" y="9453"/>
                  <a:pt x="8550" y="9327"/>
                  <a:pt x="8345" y="9327"/>
                </a:cubicBezTo>
                <a:cubicBezTo>
                  <a:pt x="8175" y="9327"/>
                  <a:pt x="8033" y="9420"/>
                  <a:pt x="7945" y="9551"/>
                </a:cubicBezTo>
                <a:lnTo>
                  <a:pt x="7937" y="9546"/>
                </a:lnTo>
                <a:lnTo>
                  <a:pt x="3028" y="17891"/>
                </a:lnTo>
                <a:lnTo>
                  <a:pt x="3036" y="17897"/>
                </a:lnTo>
                <a:cubicBezTo>
                  <a:pt x="2983" y="17974"/>
                  <a:pt x="2945" y="18063"/>
                  <a:pt x="2945" y="18164"/>
                </a:cubicBezTo>
                <a:cubicBezTo>
                  <a:pt x="2945" y="18435"/>
                  <a:pt x="3165" y="18655"/>
                  <a:pt x="3436" y="18655"/>
                </a:cubicBezTo>
                <a:lnTo>
                  <a:pt x="18164" y="18655"/>
                </a:lnTo>
                <a:cubicBezTo>
                  <a:pt x="18435" y="18655"/>
                  <a:pt x="18655" y="18435"/>
                  <a:pt x="18655" y="18164"/>
                </a:cubicBezTo>
                <a:cubicBezTo>
                  <a:pt x="18655" y="18099"/>
                  <a:pt x="18640" y="18039"/>
                  <a:pt x="18618" y="17983"/>
                </a:cubicBezTo>
                <a:cubicBezTo>
                  <a:pt x="18618" y="17983"/>
                  <a:pt x="18620" y="17982"/>
                  <a:pt x="18620" y="17982"/>
                </a:cubicBezTo>
                <a:close/>
                <a:moveTo>
                  <a:pt x="5400" y="3927"/>
                </a:moveTo>
                <a:cubicBezTo>
                  <a:pt x="6213" y="3927"/>
                  <a:pt x="6873" y="4587"/>
                  <a:pt x="6873" y="5400"/>
                </a:cubicBezTo>
                <a:cubicBezTo>
                  <a:pt x="6873" y="6214"/>
                  <a:pt x="6213" y="6873"/>
                  <a:pt x="5400" y="6873"/>
                </a:cubicBezTo>
                <a:cubicBezTo>
                  <a:pt x="4587" y="6873"/>
                  <a:pt x="3927" y="6214"/>
                  <a:pt x="3927" y="5400"/>
                </a:cubicBezTo>
                <a:cubicBezTo>
                  <a:pt x="3927" y="4587"/>
                  <a:pt x="4587" y="3927"/>
                  <a:pt x="5400" y="3927"/>
                </a:cubicBezTo>
                <a:moveTo>
                  <a:pt x="5400" y="7855"/>
                </a:moveTo>
                <a:cubicBezTo>
                  <a:pt x="6756" y="7855"/>
                  <a:pt x="7855" y="6756"/>
                  <a:pt x="7855" y="5400"/>
                </a:cubicBezTo>
                <a:cubicBezTo>
                  <a:pt x="7855" y="4045"/>
                  <a:pt x="6756" y="2945"/>
                  <a:pt x="5400" y="2945"/>
                </a:cubicBezTo>
                <a:cubicBezTo>
                  <a:pt x="4044" y="2945"/>
                  <a:pt x="2945" y="4045"/>
                  <a:pt x="2945" y="5400"/>
                </a:cubicBezTo>
                <a:cubicBezTo>
                  <a:pt x="2945" y="6756"/>
                  <a:pt x="4044" y="7855"/>
                  <a:pt x="5400" y="78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Subtitle 2"/>
          <p:cNvSpPr/>
          <p:nvPr/>
        </p:nvSpPr>
        <p:spPr>
          <a:xfrm>
            <a:off x="6181560" y="3111480"/>
            <a:ext cx="18687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tserrat Light"/>
                <a:ea typeface="Open Sans"/>
              </a:rPr>
              <a:t>Investment generally results in acquiring</a:t>
            </a:r>
            <a:r>
              <a:rPr b="0" lang="id-ID" sz="1000" spc="-1" strike="noStrike">
                <a:solidFill>
                  <a:srgbClr val="000000"/>
                </a:solidFill>
                <a:latin typeface="Montserrat Light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Subtitle 2"/>
          <p:cNvSpPr/>
          <p:nvPr/>
        </p:nvSpPr>
        <p:spPr>
          <a:xfrm>
            <a:off x="5346720" y="853920"/>
            <a:ext cx="63277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404040"/>
                </a:solidFill>
                <a:latin typeface="Arial Black"/>
                <a:ea typeface="Open Sans"/>
              </a:rPr>
              <a:t>IPAD MOCKU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Subtitle 2"/>
          <p:cNvSpPr/>
          <p:nvPr/>
        </p:nvSpPr>
        <p:spPr>
          <a:xfrm>
            <a:off x="8874000" y="3121200"/>
            <a:ext cx="18036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tserrat Light"/>
                <a:ea typeface="Open Sans"/>
              </a:rPr>
              <a:t>Investment generally results in acquiring</a:t>
            </a:r>
            <a:r>
              <a:rPr b="0" lang="id-ID" sz="1000" spc="-1" strike="noStrike">
                <a:solidFill>
                  <a:srgbClr val="000000"/>
                </a:solidFill>
                <a:latin typeface="Montserrat Light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Subtitle 2"/>
          <p:cNvSpPr/>
          <p:nvPr/>
        </p:nvSpPr>
        <p:spPr>
          <a:xfrm>
            <a:off x="6175440" y="5095800"/>
            <a:ext cx="1881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tserrat Light"/>
                <a:ea typeface="Open Sans"/>
              </a:rPr>
              <a:t>Investment generally results in acquiring</a:t>
            </a:r>
            <a:r>
              <a:rPr b="0" lang="id-ID" sz="1000" spc="-1" strike="noStrike">
                <a:solidFill>
                  <a:srgbClr val="000000"/>
                </a:solidFill>
                <a:latin typeface="Montserrat Light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Subtitle 2"/>
          <p:cNvSpPr/>
          <p:nvPr/>
        </p:nvSpPr>
        <p:spPr>
          <a:xfrm>
            <a:off x="8862840" y="5095800"/>
            <a:ext cx="182592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tserrat Light"/>
                <a:ea typeface="Open Sans"/>
              </a:rPr>
              <a:t>Investment generally results in acquiring</a:t>
            </a:r>
            <a:r>
              <a:rPr b="0" lang="id-ID" sz="1000" spc="-1" strike="noStrike">
                <a:solidFill>
                  <a:srgbClr val="000000"/>
                </a:solidFill>
                <a:latin typeface="Montserrat Light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6" name="" descr=""/>
          <p:cNvPicPr/>
          <p:nvPr/>
        </p:nvPicPr>
        <p:blipFill>
          <a:blip r:embed="rId3"/>
          <a:stretch/>
        </p:blipFill>
        <p:spPr>
          <a:xfrm>
            <a:off x="1618920" y="1083960"/>
            <a:ext cx="3351240" cy="448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3"/>
          <p:cNvSpPr/>
          <p:nvPr/>
        </p:nvSpPr>
        <p:spPr>
          <a:xfrm>
            <a:off x="0" y="1859040"/>
            <a:ext cx="5786280" cy="113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8" name="Content Placeholder 4"/>
          <p:cNvGraphicFramePr/>
          <p:nvPr/>
        </p:nvGraphicFramePr>
        <p:xfrm>
          <a:off x="5897520" y="1508040"/>
          <a:ext cx="5613480" cy="39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97520" y="1508040"/>
                    <a:ext cx="5613480" cy="39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Rectangle 7"/>
          <p:cNvSpPr/>
          <p:nvPr/>
        </p:nvSpPr>
        <p:spPr>
          <a:xfrm>
            <a:off x="581040" y="3459240"/>
            <a:ext cx="3456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Montserrat Light"/>
                <a:ea typeface="Open Sans"/>
              </a:rPr>
              <a:t>Lorem ipsum dolor sit amet, lacus nulla ac netus nibh aliquet, porttitor ligula justo libero vivamus porttitor dolor, conubia molli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Subtitle 2"/>
          <p:cNvSpPr/>
          <p:nvPr/>
        </p:nvSpPr>
        <p:spPr>
          <a:xfrm>
            <a:off x="581040" y="2027160"/>
            <a:ext cx="366084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Arial Black"/>
                <a:ea typeface="Open Sans"/>
              </a:rPr>
              <a:t>CHART SLIDE LAY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Rectangle 6"/>
          <p:cNvSpPr/>
          <p:nvPr/>
        </p:nvSpPr>
        <p:spPr>
          <a:xfrm>
            <a:off x="581040" y="4495680"/>
            <a:ext cx="3456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Montserrat Light"/>
                <a:ea typeface="Open Sans"/>
              </a:rPr>
              <a:t>Lorem ipsum dolor sit amet, lacus nulla ac netus nibh aliquet, porttitor ligula justo libero vivamus</a:t>
            </a:r>
            <a:r>
              <a:rPr b="0" lang="en-US" sz="1000" spc="-1" strike="noStrike">
                <a:solidFill>
                  <a:srgbClr val="404040"/>
                </a:solidFill>
                <a:latin typeface="Montserrat Light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Straight Connector 2"/>
          <p:cNvSpPr/>
          <p:nvPr/>
        </p:nvSpPr>
        <p:spPr>
          <a:xfrm>
            <a:off x="689040" y="3133800"/>
            <a:ext cx="3348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74" name="Straight Arrow Connector 9"/>
          <p:cNvCxnSpPr/>
          <p:nvPr/>
        </p:nvCxnSpPr>
        <p:spPr>
          <a:xfrm>
            <a:off x="688680" y="5935320"/>
            <a:ext cx="1064484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tailEnd len="med" type="triangle" w="med"/>
          </a:ln>
        </p:spPr>
      </p:cxnSp>
    </p:spTree>
  </p:cSld>
  <p:transition spd="med"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36"/>
          <p:cNvSpPr/>
          <p:nvPr/>
        </p:nvSpPr>
        <p:spPr>
          <a:xfrm>
            <a:off x="0" y="695160"/>
            <a:ext cx="5172120" cy="554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6" name="Group 12"/>
          <p:cNvGrpSpPr/>
          <p:nvPr/>
        </p:nvGrpSpPr>
        <p:grpSpPr>
          <a:xfrm>
            <a:off x="923760" y="2490840"/>
            <a:ext cx="5178600" cy="3546360"/>
            <a:chOff x="923760" y="2490840"/>
            <a:chExt cx="5178600" cy="3546360"/>
          </a:xfrm>
        </p:grpSpPr>
        <p:graphicFrame>
          <p:nvGraphicFramePr>
            <p:cNvPr id="1777" name="Chart 13"/>
            <p:cNvGraphicFramePr/>
            <p:nvPr/>
          </p:nvGraphicFramePr>
          <p:xfrm>
            <a:off x="923760" y="2490840"/>
            <a:ext cx="5178600" cy="3546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778" name="Char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23760" y="2490840"/>
                      <a:ext cx="5178600" cy="35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9" name="Title 13"/>
            <p:cNvSpPr/>
            <p:nvPr/>
          </p:nvSpPr>
          <p:spPr>
            <a:xfrm>
              <a:off x="2094480" y="3310200"/>
              <a:ext cx="2748600" cy="15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6000" spc="-1" strike="noStrike">
                  <a:solidFill>
                    <a:srgbClr val="262626"/>
                  </a:solidFill>
                  <a:latin typeface="Lato"/>
                  <a:ea typeface="Lato"/>
                </a:rPr>
                <a:t>20</a:t>
              </a:r>
              <a:r>
                <a:rPr b="0" lang="en-US" sz="6000" spc="-1" strike="noStrike">
                  <a:solidFill>
                    <a:srgbClr val="262626"/>
                  </a:solidFill>
                  <a:latin typeface="Lato"/>
                  <a:ea typeface="Lato"/>
                </a:rPr>
                <a:t>20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0" name="Group 17"/>
          <p:cNvGrpSpPr/>
          <p:nvPr/>
        </p:nvGrpSpPr>
        <p:grpSpPr>
          <a:xfrm>
            <a:off x="6107040" y="2495520"/>
            <a:ext cx="5180040" cy="3546360"/>
            <a:chOff x="6107040" y="2495520"/>
            <a:chExt cx="5180040" cy="3546360"/>
          </a:xfrm>
        </p:grpSpPr>
        <p:graphicFrame>
          <p:nvGraphicFramePr>
            <p:cNvPr id="1781" name="Chart 18"/>
            <p:cNvGraphicFramePr/>
            <p:nvPr/>
          </p:nvGraphicFramePr>
          <p:xfrm>
            <a:off x="6107040" y="2495520"/>
            <a:ext cx="5180040" cy="3546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782" name="Char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07040" y="2495520"/>
                      <a:ext cx="5180040" cy="35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3" name="Title 13"/>
            <p:cNvSpPr/>
            <p:nvPr/>
          </p:nvSpPr>
          <p:spPr>
            <a:xfrm>
              <a:off x="7360200" y="3310200"/>
              <a:ext cx="2749320" cy="15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6000" spc="-1" strike="noStrike">
                  <a:solidFill>
                    <a:srgbClr val="262626"/>
                  </a:solidFill>
                  <a:latin typeface="Lato"/>
                  <a:ea typeface="Lato"/>
                </a:rPr>
                <a:t>202</a:t>
              </a:r>
              <a:r>
                <a:rPr b="0" lang="en-US" sz="6000" spc="-1" strike="noStrike">
                  <a:solidFill>
                    <a:srgbClr val="262626"/>
                  </a:solidFill>
                  <a:latin typeface="Lato"/>
                  <a:ea typeface="Lato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4" name="Straight Connector 20"/>
          <p:cNvSpPr/>
          <p:nvPr/>
        </p:nvSpPr>
        <p:spPr>
          <a:xfrm>
            <a:off x="4281480" y="3005280"/>
            <a:ext cx="631800" cy="0"/>
          </a:xfrm>
          <a:prstGeom prst="line">
            <a:avLst/>
          </a:prstGeom>
          <a:ln w="6480">
            <a:solidFill>
              <a:srgbClr val="d9d9d9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TextBox 21"/>
          <p:cNvSpPr/>
          <p:nvPr/>
        </p:nvSpPr>
        <p:spPr>
          <a:xfrm>
            <a:off x="5045040" y="2805120"/>
            <a:ext cx="7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62626"/>
                </a:solidFill>
                <a:latin typeface="Montserrat Light"/>
                <a:ea typeface="Lato"/>
              </a:rPr>
              <a:t>5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Straight Connector 22"/>
          <p:cNvSpPr/>
          <p:nvPr/>
        </p:nvSpPr>
        <p:spPr>
          <a:xfrm flipV="1">
            <a:off x="3083040" y="2180880"/>
            <a:ext cx="0" cy="631800"/>
          </a:xfrm>
          <a:prstGeom prst="line">
            <a:avLst/>
          </a:prstGeom>
          <a:ln w="6480">
            <a:solidFill>
              <a:srgbClr val="d9d9d9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TextBox 23"/>
          <p:cNvSpPr/>
          <p:nvPr/>
        </p:nvSpPr>
        <p:spPr>
          <a:xfrm>
            <a:off x="2719440" y="1467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62626"/>
                </a:solidFill>
                <a:latin typeface="Montserrat Light"/>
                <a:ea typeface="Lato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Straight Connector 24"/>
          <p:cNvSpPr/>
          <p:nvPr/>
        </p:nvSpPr>
        <p:spPr>
          <a:xfrm flipH="1">
            <a:off x="1854000" y="3205080"/>
            <a:ext cx="631800" cy="0"/>
          </a:xfrm>
          <a:prstGeom prst="line">
            <a:avLst/>
          </a:prstGeom>
          <a:ln w="6480">
            <a:solidFill>
              <a:srgbClr val="d9d9d9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TextBox 25"/>
          <p:cNvSpPr/>
          <p:nvPr/>
        </p:nvSpPr>
        <p:spPr>
          <a:xfrm>
            <a:off x="1033560" y="30052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62626"/>
                </a:solidFill>
                <a:latin typeface="Montserrat Light"/>
                <a:ea typeface="Lato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Straight Connector 26"/>
          <p:cNvSpPr/>
          <p:nvPr/>
        </p:nvSpPr>
        <p:spPr>
          <a:xfrm flipH="1">
            <a:off x="1788840" y="4749840"/>
            <a:ext cx="631800" cy="0"/>
          </a:xfrm>
          <a:prstGeom prst="line">
            <a:avLst/>
          </a:prstGeom>
          <a:ln w="6480">
            <a:solidFill>
              <a:srgbClr val="d9d9d9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TextBox 27"/>
          <p:cNvSpPr/>
          <p:nvPr/>
        </p:nvSpPr>
        <p:spPr>
          <a:xfrm>
            <a:off x="954000" y="4549680"/>
            <a:ext cx="7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62626"/>
                </a:solidFill>
                <a:latin typeface="Montserrat Light"/>
                <a:ea typeface="Lato"/>
              </a:rPr>
              <a:t>2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Straight Connector 28"/>
          <p:cNvSpPr/>
          <p:nvPr/>
        </p:nvSpPr>
        <p:spPr>
          <a:xfrm>
            <a:off x="9445680" y="3005280"/>
            <a:ext cx="631800" cy="0"/>
          </a:xfrm>
          <a:prstGeom prst="line">
            <a:avLst/>
          </a:prstGeom>
          <a:ln w="6480">
            <a:solidFill>
              <a:srgbClr val="d9d9d9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TextBox 29"/>
          <p:cNvSpPr/>
          <p:nvPr/>
        </p:nvSpPr>
        <p:spPr>
          <a:xfrm>
            <a:off x="10210680" y="2805120"/>
            <a:ext cx="7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62626"/>
                </a:solidFill>
                <a:latin typeface="Montserrat Light"/>
                <a:ea typeface="Lato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Straight Connector 30"/>
          <p:cNvSpPr/>
          <p:nvPr/>
        </p:nvSpPr>
        <p:spPr>
          <a:xfrm flipV="1">
            <a:off x="8170920" y="2273040"/>
            <a:ext cx="0" cy="631800"/>
          </a:xfrm>
          <a:prstGeom prst="line">
            <a:avLst/>
          </a:prstGeom>
          <a:ln w="6480">
            <a:solidFill>
              <a:srgbClr val="d9d9d9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TextBox 31"/>
          <p:cNvSpPr/>
          <p:nvPr/>
        </p:nvSpPr>
        <p:spPr>
          <a:xfrm>
            <a:off x="7792920" y="1774800"/>
            <a:ext cx="7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62626"/>
                </a:solidFill>
                <a:latin typeface="Montserrat Light"/>
                <a:ea typeface="Lato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Straight Connector 32"/>
          <p:cNvSpPr/>
          <p:nvPr/>
        </p:nvSpPr>
        <p:spPr>
          <a:xfrm flipH="1">
            <a:off x="6845040" y="3605040"/>
            <a:ext cx="631800" cy="0"/>
          </a:xfrm>
          <a:prstGeom prst="line">
            <a:avLst/>
          </a:prstGeom>
          <a:ln w="6480">
            <a:solidFill>
              <a:srgbClr val="d9d9d9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TextBox 33"/>
          <p:cNvSpPr/>
          <p:nvPr/>
        </p:nvSpPr>
        <p:spPr>
          <a:xfrm>
            <a:off x="6024600" y="3405240"/>
            <a:ext cx="7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62626"/>
                </a:solidFill>
                <a:latin typeface="Montserrat Light"/>
                <a:ea typeface="Lato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Straight Connector 34"/>
          <p:cNvSpPr/>
          <p:nvPr/>
        </p:nvSpPr>
        <p:spPr>
          <a:xfrm flipH="1">
            <a:off x="7062480" y="4854600"/>
            <a:ext cx="631800" cy="0"/>
          </a:xfrm>
          <a:prstGeom prst="line">
            <a:avLst/>
          </a:prstGeom>
          <a:ln w="6480">
            <a:solidFill>
              <a:srgbClr val="d9d9d9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TextBox 35"/>
          <p:cNvSpPr/>
          <p:nvPr/>
        </p:nvSpPr>
        <p:spPr>
          <a:xfrm>
            <a:off x="6229440" y="465444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62626"/>
                </a:solidFill>
                <a:latin typeface="Montserrat Light"/>
                <a:ea typeface="Lato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Subtitle 2"/>
          <p:cNvSpPr/>
          <p:nvPr/>
        </p:nvSpPr>
        <p:spPr>
          <a:xfrm>
            <a:off x="2932200" y="716040"/>
            <a:ext cx="6327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ffff"/>
                </a:solidFill>
                <a:latin typeface="Arial Black"/>
                <a:ea typeface="Lato"/>
              </a:rPr>
              <a:t>CHART</a:t>
            </a:r>
            <a:r>
              <a:rPr b="0" lang="id-ID" sz="3600" spc="-1" strike="noStrike">
                <a:solidFill>
                  <a:srgbClr val="404040"/>
                </a:solidFill>
                <a:latin typeface="Arial Black"/>
                <a:ea typeface="Lato"/>
              </a:rPr>
              <a:t> </a:t>
            </a:r>
            <a:r>
              <a:rPr b="0" lang="id-ID" sz="3600" spc="-1" strike="noStrike">
                <a:solidFill>
                  <a:srgbClr val="404040"/>
                </a:solidFill>
                <a:latin typeface="Arial Black"/>
                <a:ea typeface="Open Sans"/>
              </a:rPr>
              <a:t>SLIDE</a:t>
            </a:r>
            <a:r>
              <a:rPr b="0" lang="id-ID" sz="3600" spc="-1" strike="noStrike">
                <a:solidFill>
                  <a:srgbClr val="404040"/>
                </a:solidFill>
                <a:latin typeface="Arial Black"/>
                <a:ea typeface="Lato"/>
              </a:rPr>
              <a:t> LAYO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Rectangle 37"/>
          <p:cNvSpPr/>
          <p:nvPr/>
        </p:nvSpPr>
        <p:spPr>
          <a:xfrm>
            <a:off x="1739880" y="6032520"/>
            <a:ext cx="345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Montserrat Light"/>
                <a:ea typeface="Open Sans"/>
              </a:rPr>
              <a:t>Lorem ipsum dolor sit amet, lacus nulla ac netus</a:t>
            </a:r>
            <a:r>
              <a:rPr b="0" lang="en-US" sz="1000" spc="-1" strike="noStrike">
                <a:solidFill>
                  <a:srgbClr val="404040"/>
                </a:solidFill>
                <a:latin typeface="Montserrat Light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Rectangle 38"/>
          <p:cNvSpPr/>
          <p:nvPr/>
        </p:nvSpPr>
        <p:spPr>
          <a:xfrm>
            <a:off x="7007400" y="6041880"/>
            <a:ext cx="345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Montserrat Light"/>
                <a:ea typeface="Open Sans"/>
              </a:rPr>
              <a:t>Lorem ipsum dolor sit amet, lacus nulla ac netus</a:t>
            </a:r>
            <a:r>
              <a:rPr b="0" lang="en-US" sz="1000" spc="-1" strike="noStrike">
                <a:solidFill>
                  <a:srgbClr val="404040"/>
                </a:solidFill>
                <a:latin typeface="Montserrat Light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15"/>
          <p:cNvSpPr/>
          <p:nvPr/>
        </p:nvSpPr>
        <p:spPr>
          <a:xfrm>
            <a:off x="6259680" y="1397160"/>
            <a:ext cx="2090520" cy="93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1" name="Group 3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362" name="Rectangle 4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Rectangle 5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7" name="Text Placeholder 6"/>
          <p:cNvSpPr/>
          <p:nvPr/>
        </p:nvSpPr>
        <p:spPr>
          <a:xfrm>
            <a:off x="6458040" y="4332240"/>
            <a:ext cx="44305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TextBox 10"/>
          <p:cNvSpPr/>
          <p:nvPr/>
        </p:nvSpPr>
        <p:spPr>
          <a:xfrm>
            <a:off x="6458040" y="1488960"/>
            <a:ext cx="326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OUR</a:t>
            </a: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WORK 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TextBox 12"/>
          <p:cNvSpPr/>
          <p:nvPr/>
        </p:nvSpPr>
        <p:spPr>
          <a:xfrm>
            <a:off x="6458040" y="3862440"/>
            <a:ext cx="428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Rectangle 13"/>
          <p:cNvSpPr/>
          <p:nvPr/>
        </p:nvSpPr>
        <p:spPr>
          <a:xfrm>
            <a:off x="4062240" y="5905440"/>
            <a:ext cx="5656320" cy="49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TextBox 14"/>
          <p:cNvSpPr/>
          <p:nvPr/>
        </p:nvSpPr>
        <p:spPr>
          <a:xfrm>
            <a:off x="4352760" y="5999040"/>
            <a:ext cx="50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4"/>
          <p:cNvSpPr/>
          <p:nvPr/>
        </p:nvSpPr>
        <p:spPr>
          <a:xfrm>
            <a:off x="0" y="2008080"/>
            <a:ext cx="4662360" cy="113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Straight Connector 6"/>
          <p:cNvSpPr/>
          <p:nvPr/>
        </p:nvSpPr>
        <p:spPr>
          <a:xfrm>
            <a:off x="689040" y="3387600"/>
            <a:ext cx="3348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5" name="Content Placeholder 3"/>
          <p:cNvGraphicFramePr/>
          <p:nvPr/>
        </p:nvGraphicFramePr>
        <p:xfrm>
          <a:off x="5924520" y="1654200"/>
          <a:ext cx="5446800" cy="40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4520" y="1654200"/>
                    <a:ext cx="5446800" cy="40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7" name="Subtitle 2"/>
          <p:cNvSpPr/>
          <p:nvPr/>
        </p:nvSpPr>
        <p:spPr>
          <a:xfrm>
            <a:off x="560520" y="2109960"/>
            <a:ext cx="397008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 Black"/>
                <a:ea typeface="Open Sans"/>
              </a:rPr>
              <a:t>CHART SLIDE LAY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Rectangle 5"/>
          <p:cNvSpPr/>
          <p:nvPr/>
        </p:nvSpPr>
        <p:spPr>
          <a:xfrm>
            <a:off x="560520" y="3564000"/>
            <a:ext cx="3456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Montserrat Light"/>
                <a:ea typeface="Open Sans"/>
              </a:rPr>
              <a:t>Lorem ipsum dolor sit amet, lacus nulla ac netus nibh aliquet, porttitor ligula justo libero vivamus porttitor dolor, conubia mollit. Lorem ipsum dolor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Montserrat Light"/>
                <a:ea typeface="Open Sans"/>
              </a:rPr>
              <a:t>sit amet, lacus nulla ac netus nibh aliquet, porttitor ligula justo libero vivamus porttitor dolor, conubi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Rectangle 1"/>
          <p:cNvSpPr/>
          <p:nvPr/>
        </p:nvSpPr>
        <p:spPr>
          <a:xfrm>
            <a:off x="0" y="5861160"/>
            <a:ext cx="12192120" cy="689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Subtitle 2"/>
          <p:cNvSpPr/>
          <p:nvPr/>
        </p:nvSpPr>
        <p:spPr>
          <a:xfrm>
            <a:off x="560520" y="5962680"/>
            <a:ext cx="3232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Open San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Subtitle 2"/>
          <p:cNvSpPr/>
          <p:nvPr/>
        </p:nvSpPr>
        <p:spPr>
          <a:xfrm>
            <a:off x="3902040" y="5962680"/>
            <a:ext cx="32338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Open Sans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Subtitle 2"/>
          <p:cNvSpPr/>
          <p:nvPr/>
        </p:nvSpPr>
        <p:spPr>
          <a:xfrm>
            <a:off x="7245360" y="5962680"/>
            <a:ext cx="3232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Open Sans"/>
              </a:rPr>
              <a:t>OFF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Straight Connector 11"/>
          <p:cNvSpPr/>
          <p:nvPr/>
        </p:nvSpPr>
        <p:spPr>
          <a:xfrm>
            <a:off x="3747960" y="6006960"/>
            <a:ext cx="0" cy="385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Straight Connector 12"/>
          <p:cNvSpPr/>
          <p:nvPr/>
        </p:nvSpPr>
        <p:spPr>
          <a:xfrm>
            <a:off x="6943680" y="6006960"/>
            <a:ext cx="0" cy="385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Subtitle 2"/>
          <p:cNvSpPr/>
          <p:nvPr/>
        </p:nvSpPr>
        <p:spPr>
          <a:xfrm>
            <a:off x="9718560" y="5962680"/>
            <a:ext cx="2473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Open Sans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Straight Connector 14"/>
          <p:cNvSpPr/>
          <p:nvPr/>
        </p:nvSpPr>
        <p:spPr>
          <a:xfrm>
            <a:off x="9509040" y="6006960"/>
            <a:ext cx="0" cy="385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Rectangle 5"/>
          <p:cNvSpPr/>
          <p:nvPr/>
        </p:nvSpPr>
        <p:spPr>
          <a:xfrm>
            <a:off x="0" y="2008080"/>
            <a:ext cx="4662360" cy="113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Straight Connector 8"/>
          <p:cNvSpPr/>
          <p:nvPr/>
        </p:nvSpPr>
        <p:spPr>
          <a:xfrm>
            <a:off x="689040" y="3387600"/>
            <a:ext cx="3348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9" name="Content Placeholder 4"/>
          <p:cNvGraphicFramePr/>
          <p:nvPr/>
        </p:nvGraphicFramePr>
        <p:xfrm>
          <a:off x="6275520" y="1442880"/>
          <a:ext cx="5586120" cy="397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5520" y="1442880"/>
                    <a:ext cx="5586120" cy="39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1" name="Rectangle 6"/>
          <p:cNvSpPr/>
          <p:nvPr/>
        </p:nvSpPr>
        <p:spPr>
          <a:xfrm>
            <a:off x="604800" y="3587760"/>
            <a:ext cx="3457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Montserrat Light"/>
                <a:ea typeface="Open Sans"/>
              </a:rPr>
              <a:t>Lorem ipsum dolor sit amet, lacus nulla ac netus nibh aliquet, porttitor ligula justo libero vivamus porttitor dolor, conubia mollit. Lorem ipsum dolor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404040"/>
                </a:solidFill>
                <a:latin typeface="Montserrat Light"/>
                <a:ea typeface="Open Sans"/>
              </a:rPr>
              <a:t>sit amet, lacus nulla ac netus nibh aliquet, porttitor ligula justo libero vivamus porttitor dolor, conubi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Subtitle 2"/>
          <p:cNvSpPr/>
          <p:nvPr/>
        </p:nvSpPr>
        <p:spPr>
          <a:xfrm>
            <a:off x="604800" y="2109960"/>
            <a:ext cx="377208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 Black"/>
                <a:ea typeface="Open Sans"/>
              </a:rPr>
              <a:t>CHART SLIDE LAY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Rectangle 13"/>
          <p:cNvSpPr/>
          <p:nvPr/>
        </p:nvSpPr>
        <p:spPr>
          <a:xfrm>
            <a:off x="0" y="5861160"/>
            <a:ext cx="12192120" cy="689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Subtitle 2"/>
          <p:cNvSpPr/>
          <p:nvPr/>
        </p:nvSpPr>
        <p:spPr>
          <a:xfrm>
            <a:off x="560520" y="5962680"/>
            <a:ext cx="3232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Open San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Subtitle 2"/>
          <p:cNvSpPr/>
          <p:nvPr/>
        </p:nvSpPr>
        <p:spPr>
          <a:xfrm>
            <a:off x="3902040" y="5962680"/>
            <a:ext cx="32338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Open Sans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Subtitle 2"/>
          <p:cNvSpPr/>
          <p:nvPr/>
        </p:nvSpPr>
        <p:spPr>
          <a:xfrm>
            <a:off x="7245360" y="5962680"/>
            <a:ext cx="3232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Open Sans"/>
              </a:rPr>
              <a:t>OFF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Straight Connector 17"/>
          <p:cNvSpPr/>
          <p:nvPr/>
        </p:nvSpPr>
        <p:spPr>
          <a:xfrm>
            <a:off x="3747960" y="6006960"/>
            <a:ext cx="0" cy="385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Straight Connector 18"/>
          <p:cNvSpPr/>
          <p:nvPr/>
        </p:nvSpPr>
        <p:spPr>
          <a:xfrm>
            <a:off x="6943680" y="6006960"/>
            <a:ext cx="0" cy="385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Subtitle 2"/>
          <p:cNvSpPr/>
          <p:nvPr/>
        </p:nvSpPr>
        <p:spPr>
          <a:xfrm>
            <a:off x="9718560" y="5962680"/>
            <a:ext cx="2473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Open Sans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Straight Connector 20"/>
          <p:cNvSpPr/>
          <p:nvPr/>
        </p:nvSpPr>
        <p:spPr>
          <a:xfrm>
            <a:off x="9509040" y="6006960"/>
            <a:ext cx="0" cy="385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Rectangle 2683"/>
          <p:cNvSpPr/>
          <p:nvPr/>
        </p:nvSpPr>
        <p:spPr>
          <a:xfrm>
            <a:off x="0" y="1603440"/>
            <a:ext cx="12192120" cy="407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2" name="Group 1" descr=""/>
          <p:cNvPicPr/>
          <p:nvPr/>
        </p:nvPicPr>
        <p:blipFill>
          <a:blip r:embed="rId1"/>
          <a:stretch/>
        </p:blipFill>
        <p:spPr>
          <a:xfrm>
            <a:off x="208080" y="2189160"/>
            <a:ext cx="5400720" cy="3052800"/>
          </a:xfrm>
          <a:prstGeom prst="rect">
            <a:avLst/>
          </a:prstGeom>
          <a:ln w="0">
            <a:noFill/>
          </a:ln>
        </p:spPr>
      </p:pic>
      <p:pic>
        <p:nvPicPr>
          <p:cNvPr id="1833" name="Group 70" descr=""/>
          <p:cNvPicPr/>
          <p:nvPr/>
        </p:nvPicPr>
        <p:blipFill>
          <a:blip r:embed="rId2"/>
          <a:stretch/>
        </p:blipFill>
        <p:spPr>
          <a:xfrm>
            <a:off x="6089760" y="2189160"/>
            <a:ext cx="5999040" cy="2925720"/>
          </a:xfrm>
          <a:prstGeom prst="rect">
            <a:avLst/>
          </a:prstGeom>
          <a:ln w="0">
            <a:noFill/>
          </a:ln>
        </p:spPr>
      </p:pic>
      <p:sp>
        <p:nvSpPr>
          <p:cNvPr id="1834" name="Rectangle 22"/>
          <p:cNvSpPr/>
          <p:nvPr/>
        </p:nvSpPr>
        <p:spPr>
          <a:xfrm>
            <a:off x="2871720" y="630360"/>
            <a:ext cx="6492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404040"/>
                </a:solidFill>
                <a:latin typeface="Arial Black"/>
                <a:ea typeface="Open Sans"/>
              </a:rPr>
              <a:t>WORLD W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35" name="Straight Arrow Connector 2682"/>
          <p:cNvCxnSpPr/>
          <p:nvPr/>
        </p:nvCxnSpPr>
        <p:spPr>
          <a:xfrm>
            <a:off x="2419200" y="6070320"/>
            <a:ext cx="735408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TextBox 4"/>
          <p:cNvSpPr/>
          <p:nvPr/>
        </p:nvSpPr>
        <p:spPr>
          <a:xfrm>
            <a:off x="2384280" y="2766960"/>
            <a:ext cx="742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Arial Black"/>
                <a:ea typeface="Fashion Script Personal Use"/>
              </a:rPr>
              <a:t>T H A N K 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TextBox 5"/>
          <p:cNvSpPr/>
          <p:nvPr/>
        </p:nvSpPr>
        <p:spPr>
          <a:xfrm>
            <a:off x="3228840" y="4135320"/>
            <a:ext cx="573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9" name="Group 25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840" name="Rectangle 26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1" name="Rectangle 27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4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4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Shape 4883"/>
          <p:cNvSpPr/>
          <p:nvPr/>
        </p:nvSpPr>
        <p:spPr>
          <a:xfrm>
            <a:off x="10226520" y="5116680"/>
            <a:ext cx="271440" cy="242640"/>
          </a:xfrm>
          <a:custGeom>
            <a:avLst/>
            <a:gdLst>
              <a:gd name="textAreaLeft" fmla="*/ 0 w 271440"/>
              <a:gd name="textAreaRight" fmla="*/ 271800 w 2714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106411" y="71529"/>
                </a:moveTo>
                <a:lnTo>
                  <a:pt x="106411" y="71529"/>
                </a:lnTo>
                <a:cubicBezTo>
                  <a:pt x="66480" y="116470"/>
                  <a:pt x="66480" y="116470"/>
                  <a:pt x="66480" y="116470"/>
                </a:cubicBezTo>
                <a:cubicBezTo>
                  <a:pt x="65017" y="118117"/>
                  <a:pt x="60627" y="118117"/>
                  <a:pt x="59163" y="116470"/>
                </a:cubicBezTo>
                <a:cubicBezTo>
                  <a:pt x="56236" y="112941"/>
                  <a:pt x="56236" y="109647"/>
                  <a:pt x="59163" y="106352"/>
                </a:cubicBezTo>
                <a:cubicBezTo>
                  <a:pt x="97630" y="63058"/>
                  <a:pt x="97630" y="63058"/>
                  <a:pt x="97630" y="63058"/>
                </a:cubicBezTo>
                <a:lnTo>
                  <a:pt x="97630" y="63058"/>
                </a:lnTo>
                <a:cubicBezTo>
                  <a:pt x="106411" y="53176"/>
                  <a:pt x="106411" y="34823"/>
                  <a:pt x="97630" y="24941"/>
                </a:cubicBezTo>
                <a:cubicBezTo>
                  <a:pt x="88641" y="14823"/>
                  <a:pt x="74006" y="14823"/>
                  <a:pt x="65017" y="24941"/>
                </a:cubicBezTo>
                <a:cubicBezTo>
                  <a:pt x="17770" y="76470"/>
                  <a:pt x="17770" y="76470"/>
                  <a:pt x="17770" y="76470"/>
                </a:cubicBezTo>
                <a:cubicBezTo>
                  <a:pt x="13379" y="83058"/>
                  <a:pt x="13379" y="93176"/>
                  <a:pt x="17770" y="98117"/>
                </a:cubicBezTo>
                <a:cubicBezTo>
                  <a:pt x="23623" y="104705"/>
                  <a:pt x="32613" y="104705"/>
                  <a:pt x="38466" y="98117"/>
                </a:cubicBezTo>
                <a:cubicBezTo>
                  <a:pt x="81324" y="49882"/>
                  <a:pt x="81324" y="49882"/>
                  <a:pt x="81324" y="49882"/>
                </a:cubicBezTo>
                <a:cubicBezTo>
                  <a:pt x="82787" y="48235"/>
                  <a:pt x="82787" y="46588"/>
                  <a:pt x="81324" y="43294"/>
                </a:cubicBezTo>
                <a:cubicBezTo>
                  <a:pt x="79860" y="41411"/>
                  <a:pt x="76933" y="41411"/>
                  <a:pt x="75470" y="43294"/>
                </a:cubicBezTo>
                <a:cubicBezTo>
                  <a:pt x="39930" y="84705"/>
                  <a:pt x="39930" y="84705"/>
                  <a:pt x="39930" y="84705"/>
                </a:cubicBezTo>
                <a:cubicBezTo>
                  <a:pt x="37003" y="88000"/>
                  <a:pt x="32613" y="88000"/>
                  <a:pt x="31149" y="84705"/>
                </a:cubicBezTo>
                <a:cubicBezTo>
                  <a:pt x="28013" y="81411"/>
                  <a:pt x="28013" y="78117"/>
                  <a:pt x="31149" y="74823"/>
                </a:cubicBezTo>
                <a:cubicBezTo>
                  <a:pt x="66480" y="34823"/>
                  <a:pt x="66480" y="34823"/>
                  <a:pt x="66480" y="34823"/>
                </a:cubicBezTo>
                <a:cubicBezTo>
                  <a:pt x="74006" y="28235"/>
                  <a:pt x="82787" y="28235"/>
                  <a:pt x="90104" y="34823"/>
                </a:cubicBezTo>
                <a:cubicBezTo>
                  <a:pt x="96167" y="41411"/>
                  <a:pt x="96167" y="53176"/>
                  <a:pt x="90104" y="59764"/>
                </a:cubicBezTo>
                <a:cubicBezTo>
                  <a:pt x="45783" y="108000"/>
                  <a:pt x="45783" y="108000"/>
                  <a:pt x="45783" y="108000"/>
                </a:cubicBezTo>
                <a:cubicBezTo>
                  <a:pt x="37003" y="119764"/>
                  <a:pt x="20696" y="119764"/>
                  <a:pt x="10452" y="108000"/>
                </a:cubicBezTo>
                <a:cubicBezTo>
                  <a:pt x="0" y="96470"/>
                  <a:pt x="0" y="78117"/>
                  <a:pt x="10452" y="68235"/>
                </a:cubicBezTo>
                <a:lnTo>
                  <a:pt x="10452" y="68235"/>
                </a:lnTo>
                <a:cubicBezTo>
                  <a:pt x="56236" y="14823"/>
                  <a:pt x="56236" y="14823"/>
                  <a:pt x="56236" y="14823"/>
                </a:cubicBezTo>
                <a:lnTo>
                  <a:pt x="56236" y="14823"/>
                </a:lnTo>
                <a:cubicBezTo>
                  <a:pt x="69407" y="0"/>
                  <a:pt x="91567" y="0"/>
                  <a:pt x="106411" y="14823"/>
                </a:cubicBezTo>
                <a:cubicBezTo>
                  <a:pt x="119790" y="31529"/>
                  <a:pt x="119790" y="56470"/>
                  <a:pt x="106411" y="71529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Shape 4884"/>
          <p:cNvSpPr/>
          <p:nvPr/>
        </p:nvSpPr>
        <p:spPr>
          <a:xfrm>
            <a:off x="9717120" y="5095800"/>
            <a:ext cx="287280" cy="2890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8423" y="8472"/>
                </a:moveTo>
                <a:lnTo>
                  <a:pt x="118423" y="8472"/>
                </a:lnTo>
                <a:lnTo>
                  <a:pt x="118423" y="8472"/>
                </a:lnTo>
                <a:cubicBezTo>
                  <a:pt x="78029" y="115665"/>
                  <a:pt x="78029" y="115665"/>
                  <a:pt x="78029" y="115665"/>
                </a:cubicBezTo>
                <a:lnTo>
                  <a:pt x="78029" y="115665"/>
                </a:lnTo>
                <a:cubicBezTo>
                  <a:pt x="76650" y="118423"/>
                  <a:pt x="75270" y="119802"/>
                  <a:pt x="72315" y="119802"/>
                </a:cubicBezTo>
                <a:cubicBezTo>
                  <a:pt x="69556" y="119802"/>
                  <a:pt x="68177" y="117044"/>
                  <a:pt x="66798" y="115665"/>
                </a:cubicBezTo>
                <a:lnTo>
                  <a:pt x="66798" y="115665"/>
                </a:lnTo>
                <a:cubicBezTo>
                  <a:pt x="55763" y="64236"/>
                  <a:pt x="55763" y="64236"/>
                  <a:pt x="55763" y="64236"/>
                </a:cubicBezTo>
                <a:cubicBezTo>
                  <a:pt x="4137" y="53004"/>
                  <a:pt x="4137" y="53004"/>
                  <a:pt x="4137" y="53004"/>
                </a:cubicBezTo>
                <a:lnTo>
                  <a:pt x="4137" y="53004"/>
                </a:lnTo>
                <a:cubicBezTo>
                  <a:pt x="2758" y="51625"/>
                  <a:pt x="0" y="50246"/>
                  <a:pt x="0" y="47487"/>
                </a:cubicBezTo>
                <a:cubicBezTo>
                  <a:pt x="0" y="44729"/>
                  <a:pt x="1379" y="43152"/>
                  <a:pt x="4137" y="41773"/>
                </a:cubicBezTo>
                <a:lnTo>
                  <a:pt x="4137" y="41773"/>
                </a:lnTo>
                <a:cubicBezTo>
                  <a:pt x="111330" y="1576"/>
                  <a:pt x="111330" y="1576"/>
                  <a:pt x="111330" y="1576"/>
                </a:cubicBezTo>
                <a:lnTo>
                  <a:pt x="111330" y="1576"/>
                </a:ln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7093"/>
                  <a:pt x="119802" y="7093"/>
                  <a:pt x="118423" y="8472"/>
                </a:cubicBezTo>
                <a:close/>
                <a:moveTo>
                  <a:pt x="25024" y="46108"/>
                </a:moveTo>
                <a:lnTo>
                  <a:pt x="25024" y="46108"/>
                </a:lnTo>
                <a:cubicBezTo>
                  <a:pt x="61280" y="54384"/>
                  <a:pt x="61280" y="54384"/>
                  <a:pt x="61280" y="54384"/>
                </a:cubicBezTo>
                <a:lnTo>
                  <a:pt x="61280" y="54384"/>
                </a:lnTo>
                <a:cubicBezTo>
                  <a:pt x="62660" y="54384"/>
                  <a:pt x="65418" y="57142"/>
                  <a:pt x="65418" y="58522"/>
                </a:cubicBezTo>
                <a:lnTo>
                  <a:pt x="65418" y="58522"/>
                </a:lnTo>
                <a:cubicBezTo>
                  <a:pt x="73891" y="94778"/>
                  <a:pt x="73891" y="94778"/>
                  <a:pt x="73891" y="94778"/>
                </a:cubicBezTo>
                <a:cubicBezTo>
                  <a:pt x="104433" y="15369"/>
                  <a:pt x="104433" y="15369"/>
                  <a:pt x="104433" y="15369"/>
                </a:cubicBezTo>
                <a:lnTo>
                  <a:pt x="25024" y="46108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Shape 4885"/>
          <p:cNvSpPr/>
          <p:nvPr/>
        </p:nvSpPr>
        <p:spPr>
          <a:xfrm>
            <a:off x="9218520" y="5095800"/>
            <a:ext cx="287280" cy="2890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8405" y="9852"/>
                </a:moveTo>
                <a:lnTo>
                  <a:pt x="118405" y="9852"/>
                </a:lnTo>
                <a:cubicBezTo>
                  <a:pt x="102857" y="25221"/>
                  <a:pt x="102857" y="25221"/>
                  <a:pt x="102857" y="25221"/>
                </a:cubicBezTo>
                <a:cubicBezTo>
                  <a:pt x="102857" y="92019"/>
                  <a:pt x="102857" y="92019"/>
                  <a:pt x="102857" y="92019"/>
                </a:cubicBezTo>
                <a:cubicBezTo>
                  <a:pt x="114019" y="92019"/>
                  <a:pt x="114019" y="92019"/>
                  <a:pt x="114019" y="92019"/>
                </a:cubicBezTo>
                <a:cubicBezTo>
                  <a:pt x="118405" y="92019"/>
                  <a:pt x="119800" y="93399"/>
                  <a:pt x="119800" y="97536"/>
                </a:cubicBezTo>
                <a:cubicBezTo>
                  <a:pt x="119800" y="100295"/>
                  <a:pt x="118405" y="103054"/>
                  <a:pt x="114019" y="103054"/>
                </a:cubicBezTo>
                <a:cubicBezTo>
                  <a:pt x="102857" y="103054"/>
                  <a:pt x="102857" y="103054"/>
                  <a:pt x="102857" y="103054"/>
                </a:cubicBezTo>
                <a:cubicBezTo>
                  <a:pt x="102857" y="114285"/>
                  <a:pt x="102857" y="114285"/>
                  <a:pt x="102857" y="114285"/>
                </a:cubicBezTo>
                <a:lnTo>
                  <a:pt x="102857" y="114285"/>
                </a:lnTo>
                <a:cubicBezTo>
                  <a:pt x="102857" y="117044"/>
                  <a:pt x="101461" y="119802"/>
                  <a:pt x="97076" y="119802"/>
                </a:cubicBezTo>
                <a:cubicBezTo>
                  <a:pt x="94285" y="119802"/>
                  <a:pt x="91495" y="117044"/>
                  <a:pt x="91495" y="114285"/>
                </a:cubicBezTo>
                <a:cubicBezTo>
                  <a:pt x="91495" y="103054"/>
                  <a:pt x="91495" y="103054"/>
                  <a:pt x="91495" y="103054"/>
                </a:cubicBezTo>
                <a:cubicBezTo>
                  <a:pt x="25315" y="103054"/>
                  <a:pt x="25315" y="103054"/>
                  <a:pt x="25315" y="103054"/>
                </a:cubicBezTo>
                <a:cubicBezTo>
                  <a:pt x="23920" y="103054"/>
                  <a:pt x="23920" y="103054"/>
                  <a:pt x="23920" y="103054"/>
                </a:cubicBezTo>
                <a:lnTo>
                  <a:pt x="23920" y="103054"/>
                </a:lnTo>
                <a:lnTo>
                  <a:pt x="23920" y="103054"/>
                </a:lnTo>
                <a:cubicBezTo>
                  <a:pt x="21129" y="103054"/>
                  <a:pt x="21129" y="103054"/>
                  <a:pt x="21129" y="103054"/>
                </a:cubicBezTo>
                <a:cubicBezTo>
                  <a:pt x="18338" y="103054"/>
                  <a:pt x="16943" y="100295"/>
                  <a:pt x="16943" y="97536"/>
                </a:cubicBezTo>
                <a:cubicBezTo>
                  <a:pt x="16943" y="96157"/>
                  <a:pt x="16943" y="96157"/>
                  <a:pt x="16943" y="96157"/>
                </a:cubicBezTo>
                <a:cubicBezTo>
                  <a:pt x="16943" y="94778"/>
                  <a:pt x="16943" y="94778"/>
                  <a:pt x="16943" y="94778"/>
                </a:cubicBezTo>
                <a:lnTo>
                  <a:pt x="16943" y="94778"/>
                </a:lnTo>
                <a:lnTo>
                  <a:pt x="16943" y="94778"/>
                </a:lnTo>
                <a:cubicBezTo>
                  <a:pt x="16943" y="27980"/>
                  <a:pt x="16943" y="27980"/>
                  <a:pt x="16943" y="27980"/>
                </a:cubicBezTo>
                <a:cubicBezTo>
                  <a:pt x="5581" y="27980"/>
                  <a:pt x="5581" y="27980"/>
                  <a:pt x="5581" y="27980"/>
                </a:cubicBezTo>
                <a:cubicBezTo>
                  <a:pt x="2790" y="27980"/>
                  <a:pt x="0" y="26600"/>
                  <a:pt x="0" y="22266"/>
                </a:cubicBezTo>
                <a:cubicBezTo>
                  <a:pt x="0" y="19507"/>
                  <a:pt x="2790" y="16748"/>
                  <a:pt x="5581" y="16748"/>
                </a:cubicBezTo>
                <a:cubicBezTo>
                  <a:pt x="16943" y="16748"/>
                  <a:pt x="16943" y="16748"/>
                  <a:pt x="16943" y="16748"/>
                </a:cubicBezTo>
                <a:cubicBezTo>
                  <a:pt x="16943" y="5714"/>
                  <a:pt x="16943" y="5714"/>
                  <a:pt x="16943" y="5714"/>
                </a:cubicBezTo>
                <a:cubicBezTo>
                  <a:pt x="16943" y="2955"/>
                  <a:pt x="19734" y="0"/>
                  <a:pt x="22524" y="0"/>
                </a:cubicBezTo>
                <a:cubicBezTo>
                  <a:pt x="25315" y="0"/>
                  <a:pt x="28106" y="2955"/>
                  <a:pt x="28106" y="5714"/>
                </a:cubicBezTo>
                <a:cubicBezTo>
                  <a:pt x="28106" y="16748"/>
                  <a:pt x="28106" y="16748"/>
                  <a:pt x="28106" y="16748"/>
                </a:cubicBezTo>
                <a:cubicBezTo>
                  <a:pt x="95681" y="16748"/>
                  <a:pt x="95681" y="16748"/>
                  <a:pt x="95681" y="16748"/>
                </a:cubicBezTo>
                <a:cubicBezTo>
                  <a:pt x="111229" y="2955"/>
                  <a:pt x="111229" y="2955"/>
                  <a:pt x="111229" y="2955"/>
                </a:cubicBezTo>
                <a:lnTo>
                  <a:pt x="111229" y="2955"/>
                </a:lnTo>
                <a:cubicBezTo>
                  <a:pt x="111229" y="1576"/>
                  <a:pt x="112624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7093"/>
                  <a:pt x="119800" y="8472"/>
                  <a:pt x="118405" y="9852"/>
                </a:cubicBezTo>
                <a:close/>
                <a:moveTo>
                  <a:pt x="28106" y="27980"/>
                </a:moveTo>
                <a:lnTo>
                  <a:pt x="28106" y="27980"/>
                </a:lnTo>
                <a:cubicBezTo>
                  <a:pt x="28106" y="83546"/>
                  <a:pt x="28106" y="83546"/>
                  <a:pt x="28106" y="83546"/>
                </a:cubicBezTo>
                <a:cubicBezTo>
                  <a:pt x="84518" y="27980"/>
                  <a:pt x="84518" y="27980"/>
                  <a:pt x="84518" y="27980"/>
                </a:cubicBezTo>
                <a:lnTo>
                  <a:pt x="28106" y="27980"/>
                </a:lnTo>
                <a:close/>
                <a:moveTo>
                  <a:pt x="91495" y="36256"/>
                </a:moveTo>
                <a:lnTo>
                  <a:pt x="91495" y="36256"/>
                </a:lnTo>
                <a:cubicBezTo>
                  <a:pt x="36677" y="92019"/>
                  <a:pt x="36677" y="92019"/>
                  <a:pt x="36677" y="92019"/>
                </a:cubicBezTo>
                <a:cubicBezTo>
                  <a:pt x="91495" y="92019"/>
                  <a:pt x="91495" y="92019"/>
                  <a:pt x="91495" y="92019"/>
                </a:cubicBezTo>
                <a:lnTo>
                  <a:pt x="91495" y="36256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Shape 4886"/>
          <p:cNvSpPr/>
          <p:nvPr/>
        </p:nvSpPr>
        <p:spPr>
          <a:xfrm>
            <a:off x="8720280" y="5110200"/>
            <a:ext cx="284040" cy="262080"/>
          </a:xfrm>
          <a:custGeom>
            <a:avLst/>
            <a:gdLst>
              <a:gd name="textAreaLeft" fmla="*/ 0 w 284040"/>
              <a:gd name="textAreaRight" fmla="*/ 284400 w 2840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782"/>
                </a:moveTo>
                <a:lnTo>
                  <a:pt x="114209" y="119782"/>
                </a:lnTo>
                <a:cubicBezTo>
                  <a:pt x="104425" y="119782"/>
                  <a:pt x="104425" y="119782"/>
                  <a:pt x="104425" y="119782"/>
                </a:cubicBezTo>
                <a:lnTo>
                  <a:pt x="104425" y="119782"/>
                </a:lnTo>
                <a:cubicBezTo>
                  <a:pt x="98635" y="119782"/>
                  <a:pt x="98635" y="119782"/>
                  <a:pt x="98635" y="119782"/>
                </a:cubicBezTo>
                <a:lnTo>
                  <a:pt x="98635" y="119782"/>
                </a:lnTo>
                <a:cubicBezTo>
                  <a:pt x="19767" y="119782"/>
                  <a:pt x="19767" y="119782"/>
                  <a:pt x="19767" y="119782"/>
                </a:cubicBezTo>
                <a:lnTo>
                  <a:pt x="19767" y="119782"/>
                </a:lnTo>
                <a:cubicBezTo>
                  <a:pt x="13976" y="119782"/>
                  <a:pt x="13976" y="119782"/>
                  <a:pt x="13976" y="119782"/>
                </a:cubicBezTo>
                <a:lnTo>
                  <a:pt x="13976" y="119782"/>
                </a:lnTo>
                <a:cubicBezTo>
                  <a:pt x="5590" y="119782"/>
                  <a:pt x="5590" y="119782"/>
                  <a:pt x="5590" y="119782"/>
                </a:cubicBezTo>
                <a:cubicBezTo>
                  <a:pt x="1397" y="119782"/>
                  <a:pt x="0" y="116739"/>
                  <a:pt x="0" y="113695"/>
                </a:cubicBezTo>
                <a:cubicBezTo>
                  <a:pt x="0" y="101304"/>
                  <a:pt x="0" y="101304"/>
                  <a:pt x="0" y="101304"/>
                </a:cubicBezTo>
                <a:cubicBezTo>
                  <a:pt x="0" y="76739"/>
                  <a:pt x="0" y="76739"/>
                  <a:pt x="0" y="76739"/>
                </a:cubicBezTo>
                <a:cubicBezTo>
                  <a:pt x="0" y="36739"/>
                  <a:pt x="0" y="36739"/>
                  <a:pt x="0" y="36739"/>
                </a:cubicBezTo>
                <a:cubicBezTo>
                  <a:pt x="0" y="33695"/>
                  <a:pt x="1397" y="30652"/>
                  <a:pt x="5590" y="30652"/>
                </a:cubicBezTo>
                <a:cubicBezTo>
                  <a:pt x="12579" y="30652"/>
                  <a:pt x="12579" y="30652"/>
                  <a:pt x="12579" y="30652"/>
                </a:cubicBezTo>
                <a:cubicBezTo>
                  <a:pt x="23960" y="30652"/>
                  <a:pt x="23960" y="30652"/>
                  <a:pt x="23960" y="30652"/>
                </a:cubicBezTo>
                <a:cubicBezTo>
                  <a:pt x="30948" y="30652"/>
                  <a:pt x="30948" y="30652"/>
                  <a:pt x="30948" y="30652"/>
                </a:cubicBezTo>
                <a:cubicBezTo>
                  <a:pt x="30948" y="13695"/>
                  <a:pt x="43727" y="0"/>
                  <a:pt x="59301" y="0"/>
                </a:cubicBezTo>
                <a:cubicBezTo>
                  <a:pt x="74675" y="0"/>
                  <a:pt x="87454" y="13695"/>
                  <a:pt x="87454" y="30652"/>
                </a:cubicBezTo>
                <a:cubicBezTo>
                  <a:pt x="97237" y="30652"/>
                  <a:pt x="97237" y="30652"/>
                  <a:pt x="97237" y="30652"/>
                </a:cubicBezTo>
                <a:cubicBezTo>
                  <a:pt x="108618" y="30652"/>
                  <a:pt x="108618" y="30652"/>
                  <a:pt x="108618" y="30652"/>
                </a:cubicBezTo>
                <a:cubicBezTo>
                  <a:pt x="114209" y="30652"/>
                  <a:pt x="114209" y="30652"/>
                  <a:pt x="114209" y="30652"/>
                </a:cubicBezTo>
                <a:cubicBezTo>
                  <a:pt x="117004" y="30652"/>
                  <a:pt x="119800" y="33695"/>
                  <a:pt x="119800" y="36739"/>
                </a:cubicBezTo>
                <a:cubicBezTo>
                  <a:pt x="119800" y="76739"/>
                  <a:pt x="119800" y="76739"/>
                  <a:pt x="119800" y="76739"/>
                </a:cubicBezTo>
                <a:cubicBezTo>
                  <a:pt x="119800" y="101304"/>
                  <a:pt x="119800" y="101304"/>
                  <a:pt x="119800" y="101304"/>
                </a:cubicBezTo>
                <a:cubicBezTo>
                  <a:pt x="119800" y="113695"/>
                  <a:pt x="119800" y="113695"/>
                  <a:pt x="119800" y="113695"/>
                </a:cubicBezTo>
                <a:cubicBezTo>
                  <a:pt x="119800" y="116739"/>
                  <a:pt x="117004" y="119782"/>
                  <a:pt x="114209" y="119782"/>
                </a:cubicBezTo>
                <a:close/>
                <a:moveTo>
                  <a:pt x="59301" y="12173"/>
                </a:moveTo>
                <a:lnTo>
                  <a:pt x="59301" y="12173"/>
                </a:lnTo>
                <a:cubicBezTo>
                  <a:pt x="50715" y="12173"/>
                  <a:pt x="42329" y="21521"/>
                  <a:pt x="42329" y="30652"/>
                </a:cubicBezTo>
                <a:cubicBezTo>
                  <a:pt x="76073" y="30652"/>
                  <a:pt x="76073" y="30652"/>
                  <a:pt x="76073" y="30652"/>
                </a:cubicBezTo>
                <a:cubicBezTo>
                  <a:pt x="76073" y="21521"/>
                  <a:pt x="69084" y="12173"/>
                  <a:pt x="59301" y="12173"/>
                </a:cubicBezTo>
                <a:close/>
                <a:moveTo>
                  <a:pt x="80465" y="67608"/>
                </a:moveTo>
                <a:lnTo>
                  <a:pt x="80465" y="67608"/>
                </a:lnTo>
                <a:cubicBezTo>
                  <a:pt x="64891" y="67608"/>
                  <a:pt x="64891" y="67608"/>
                  <a:pt x="64891" y="67608"/>
                </a:cubicBezTo>
                <a:cubicBezTo>
                  <a:pt x="64891" y="52173"/>
                  <a:pt x="64891" y="52173"/>
                  <a:pt x="64891" y="52173"/>
                </a:cubicBezTo>
                <a:cubicBezTo>
                  <a:pt x="64891" y="47608"/>
                  <a:pt x="63494" y="46086"/>
                  <a:pt x="59301" y="46086"/>
                </a:cubicBezTo>
                <a:cubicBezTo>
                  <a:pt x="56505" y="46086"/>
                  <a:pt x="53510" y="47608"/>
                  <a:pt x="53510" y="52173"/>
                </a:cubicBezTo>
                <a:cubicBezTo>
                  <a:pt x="53510" y="67608"/>
                  <a:pt x="53510" y="67608"/>
                  <a:pt x="53510" y="67608"/>
                </a:cubicBezTo>
                <a:cubicBezTo>
                  <a:pt x="39534" y="67608"/>
                  <a:pt x="39534" y="67608"/>
                  <a:pt x="39534" y="67608"/>
                </a:cubicBezTo>
                <a:cubicBezTo>
                  <a:pt x="35141" y="67608"/>
                  <a:pt x="33743" y="70652"/>
                  <a:pt x="33743" y="73695"/>
                </a:cubicBezTo>
                <a:cubicBezTo>
                  <a:pt x="33743" y="78260"/>
                  <a:pt x="35141" y="79782"/>
                  <a:pt x="39534" y="79782"/>
                </a:cubicBezTo>
                <a:cubicBezTo>
                  <a:pt x="53510" y="79782"/>
                  <a:pt x="53510" y="79782"/>
                  <a:pt x="53510" y="79782"/>
                </a:cubicBezTo>
                <a:cubicBezTo>
                  <a:pt x="53510" y="96739"/>
                  <a:pt x="53510" y="96739"/>
                  <a:pt x="53510" y="96739"/>
                </a:cubicBezTo>
                <a:cubicBezTo>
                  <a:pt x="53510" y="99782"/>
                  <a:pt x="56505" y="102826"/>
                  <a:pt x="59301" y="102826"/>
                </a:cubicBezTo>
                <a:cubicBezTo>
                  <a:pt x="63494" y="102826"/>
                  <a:pt x="64891" y="99782"/>
                  <a:pt x="64891" y="96739"/>
                </a:cubicBezTo>
                <a:cubicBezTo>
                  <a:pt x="64891" y="79782"/>
                  <a:pt x="64891" y="79782"/>
                  <a:pt x="64891" y="79782"/>
                </a:cubicBezTo>
                <a:cubicBezTo>
                  <a:pt x="80465" y="79782"/>
                  <a:pt x="80465" y="79782"/>
                  <a:pt x="80465" y="79782"/>
                </a:cubicBezTo>
                <a:cubicBezTo>
                  <a:pt x="83261" y="79782"/>
                  <a:pt x="86056" y="78260"/>
                  <a:pt x="86056" y="73695"/>
                </a:cubicBezTo>
                <a:cubicBezTo>
                  <a:pt x="86056" y="70652"/>
                  <a:pt x="83261" y="67608"/>
                  <a:pt x="80465" y="6760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Shape 4887"/>
          <p:cNvSpPr/>
          <p:nvPr/>
        </p:nvSpPr>
        <p:spPr>
          <a:xfrm>
            <a:off x="8217000" y="5095800"/>
            <a:ext cx="287280" cy="2890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63" y="0"/>
                  <a:pt x="5526" y="0"/>
                </a:cubicBezTo>
                <a:cubicBezTo>
                  <a:pt x="114276" y="0"/>
                  <a:pt x="114276" y="0"/>
                  <a:pt x="114276" y="0"/>
                </a:cubicBezTo>
                <a:cubicBezTo>
                  <a:pt x="117039" y="0"/>
                  <a:pt x="119802" y="2955"/>
                  <a:pt x="119802" y="5714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1052" y="11231"/>
                </a:moveTo>
                <a:lnTo>
                  <a:pt x="11052" y="11231"/>
                </a:lnTo>
                <a:cubicBezTo>
                  <a:pt x="11052" y="106009"/>
                  <a:pt x="11052" y="106009"/>
                  <a:pt x="11052" y="106009"/>
                </a:cubicBezTo>
                <a:cubicBezTo>
                  <a:pt x="13815" y="101674"/>
                  <a:pt x="16578" y="96157"/>
                  <a:pt x="22302" y="93399"/>
                </a:cubicBezTo>
                <a:cubicBezTo>
                  <a:pt x="30592" y="89261"/>
                  <a:pt x="26447" y="92019"/>
                  <a:pt x="36118" y="87881"/>
                </a:cubicBezTo>
                <a:cubicBezTo>
                  <a:pt x="45986" y="83546"/>
                  <a:pt x="48750" y="82167"/>
                  <a:pt x="48750" y="82167"/>
                </a:cubicBezTo>
                <a:cubicBezTo>
                  <a:pt x="48750" y="72512"/>
                  <a:pt x="48750" y="72512"/>
                  <a:pt x="48750" y="72512"/>
                </a:cubicBezTo>
                <a:cubicBezTo>
                  <a:pt x="48750" y="72512"/>
                  <a:pt x="45986" y="69753"/>
                  <a:pt x="44605" y="61280"/>
                </a:cubicBezTo>
                <a:cubicBezTo>
                  <a:pt x="41842" y="62857"/>
                  <a:pt x="41842" y="58522"/>
                  <a:pt x="40460" y="57142"/>
                </a:cubicBezTo>
                <a:cubicBezTo>
                  <a:pt x="40460" y="54384"/>
                  <a:pt x="40460" y="47487"/>
                  <a:pt x="43223" y="48866"/>
                </a:cubicBezTo>
                <a:cubicBezTo>
                  <a:pt x="41842" y="44729"/>
                  <a:pt x="41842" y="40394"/>
                  <a:pt x="41842" y="37635"/>
                </a:cubicBezTo>
                <a:cubicBezTo>
                  <a:pt x="41842" y="30738"/>
                  <a:pt x="48750" y="23842"/>
                  <a:pt x="60000" y="22266"/>
                </a:cubicBezTo>
                <a:cubicBezTo>
                  <a:pt x="72434" y="23842"/>
                  <a:pt x="77960" y="30738"/>
                  <a:pt x="77960" y="37635"/>
                </a:cubicBezTo>
                <a:cubicBezTo>
                  <a:pt x="77960" y="40394"/>
                  <a:pt x="77960" y="44729"/>
                  <a:pt x="77960" y="48866"/>
                </a:cubicBezTo>
                <a:cubicBezTo>
                  <a:pt x="80921" y="47487"/>
                  <a:pt x="79539" y="54384"/>
                  <a:pt x="79539" y="57142"/>
                </a:cubicBezTo>
                <a:cubicBezTo>
                  <a:pt x="77960" y="58522"/>
                  <a:pt x="77960" y="61280"/>
                  <a:pt x="75197" y="61280"/>
                </a:cubicBezTo>
                <a:cubicBezTo>
                  <a:pt x="73815" y="69753"/>
                  <a:pt x="71052" y="72512"/>
                  <a:pt x="71052" y="72512"/>
                </a:cubicBezTo>
                <a:cubicBezTo>
                  <a:pt x="71052" y="82167"/>
                  <a:pt x="71052" y="82167"/>
                  <a:pt x="71052" y="82167"/>
                </a:cubicBezTo>
                <a:cubicBezTo>
                  <a:pt x="71052" y="82167"/>
                  <a:pt x="73815" y="83546"/>
                  <a:pt x="83684" y="87881"/>
                </a:cubicBezTo>
                <a:cubicBezTo>
                  <a:pt x="93355" y="92019"/>
                  <a:pt x="89210" y="89261"/>
                  <a:pt x="97500" y="93399"/>
                </a:cubicBezTo>
                <a:cubicBezTo>
                  <a:pt x="103223" y="96157"/>
                  <a:pt x="105986" y="101674"/>
                  <a:pt x="108750" y="106009"/>
                </a:cubicBezTo>
                <a:cubicBezTo>
                  <a:pt x="108750" y="11231"/>
                  <a:pt x="108750" y="11231"/>
                  <a:pt x="108750" y="11231"/>
                </a:cubicBezTo>
                <a:lnTo>
                  <a:pt x="11052" y="11231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Shape 4888"/>
          <p:cNvSpPr/>
          <p:nvPr/>
        </p:nvSpPr>
        <p:spPr>
          <a:xfrm>
            <a:off x="7719840" y="5095800"/>
            <a:ext cx="284400" cy="289080"/>
          </a:xfrm>
          <a:custGeom>
            <a:avLst/>
            <a:gdLst>
              <a:gd name="textAreaLeft" fmla="*/ 0 w 284400"/>
              <a:gd name="textAreaRight" fmla="*/ 284760 w 2844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91647" y="119802"/>
                  <a:pt x="91647" y="119802"/>
                  <a:pt x="91647" y="119802"/>
                </a:cubicBezTo>
                <a:cubicBezTo>
                  <a:pt x="88851" y="119802"/>
                  <a:pt x="86056" y="117044"/>
                  <a:pt x="86056" y="114285"/>
                </a:cubicBezTo>
                <a:cubicBezTo>
                  <a:pt x="86056" y="110147"/>
                  <a:pt x="88851" y="108768"/>
                  <a:pt x="91647" y="108768"/>
                </a:cubicBezTo>
                <a:cubicBezTo>
                  <a:pt x="108618" y="108768"/>
                  <a:pt x="108618" y="108768"/>
                  <a:pt x="108618" y="108768"/>
                </a:cubicBezTo>
                <a:cubicBezTo>
                  <a:pt x="108618" y="92019"/>
                  <a:pt x="108618" y="92019"/>
                  <a:pt x="108618" y="92019"/>
                </a:cubicBezTo>
                <a:lnTo>
                  <a:pt x="108618" y="92019"/>
                </a:lnTo>
                <a:cubicBezTo>
                  <a:pt x="108618" y="87881"/>
                  <a:pt x="111414" y="86502"/>
                  <a:pt x="114209" y="86502"/>
                </a:cubicBezTo>
                <a:cubicBezTo>
                  <a:pt x="118402" y="86502"/>
                  <a:pt x="119800" y="87881"/>
                  <a:pt x="119800" y="92019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14209" y="44729"/>
                </a:moveTo>
                <a:lnTo>
                  <a:pt x="114209" y="44729"/>
                </a:lnTo>
                <a:cubicBezTo>
                  <a:pt x="118402" y="44729"/>
                  <a:pt x="119800" y="47487"/>
                  <a:pt x="119800" y="50246"/>
                </a:cubicBezTo>
                <a:cubicBezTo>
                  <a:pt x="119800" y="69753"/>
                  <a:pt x="119800" y="69753"/>
                  <a:pt x="119800" y="69753"/>
                </a:cubicBezTo>
                <a:cubicBezTo>
                  <a:pt x="119800" y="72512"/>
                  <a:pt x="118402" y="75270"/>
                  <a:pt x="114209" y="75270"/>
                </a:cubicBezTo>
                <a:cubicBezTo>
                  <a:pt x="111414" y="75270"/>
                  <a:pt x="108618" y="72512"/>
                  <a:pt x="108618" y="69753"/>
                </a:cubicBezTo>
                <a:cubicBezTo>
                  <a:pt x="108618" y="50246"/>
                  <a:pt x="108618" y="50246"/>
                  <a:pt x="108618" y="50246"/>
                </a:cubicBezTo>
                <a:cubicBezTo>
                  <a:pt x="108618" y="47487"/>
                  <a:pt x="111414" y="44729"/>
                  <a:pt x="114209" y="44729"/>
                </a:cubicBezTo>
                <a:close/>
                <a:moveTo>
                  <a:pt x="114209" y="33497"/>
                </a:moveTo>
                <a:lnTo>
                  <a:pt x="114209" y="33497"/>
                </a:lnTo>
                <a:cubicBezTo>
                  <a:pt x="111414" y="33497"/>
                  <a:pt x="108618" y="32118"/>
                  <a:pt x="108618" y="27980"/>
                </a:cubicBezTo>
                <a:lnTo>
                  <a:pt x="108618" y="27980"/>
                </a:lnTo>
                <a:cubicBezTo>
                  <a:pt x="108618" y="11231"/>
                  <a:pt x="108618" y="11231"/>
                  <a:pt x="108618" y="11231"/>
                </a:cubicBezTo>
                <a:cubicBezTo>
                  <a:pt x="91647" y="11231"/>
                  <a:pt x="91647" y="11231"/>
                  <a:pt x="91647" y="11231"/>
                </a:cubicBezTo>
                <a:lnTo>
                  <a:pt x="91647" y="11231"/>
                </a:lnTo>
                <a:cubicBezTo>
                  <a:pt x="88851" y="11231"/>
                  <a:pt x="86056" y="9852"/>
                  <a:pt x="86056" y="5714"/>
                </a:cubicBezTo>
                <a:cubicBezTo>
                  <a:pt x="86056" y="2955"/>
                  <a:pt x="88851" y="0"/>
                  <a:pt x="91647" y="0"/>
                </a:cubicBezTo>
                <a:lnTo>
                  <a:pt x="91647" y="0"/>
                </a:lnTo>
                <a:cubicBezTo>
                  <a:pt x="114209" y="0"/>
                  <a:pt x="114209" y="0"/>
                  <a:pt x="114209" y="0"/>
                </a:cubicBezTo>
                <a:cubicBezTo>
                  <a:pt x="118402" y="0"/>
                  <a:pt x="119800" y="2955"/>
                  <a:pt x="119800" y="5714"/>
                </a:cubicBezTo>
                <a:cubicBezTo>
                  <a:pt x="119800" y="27980"/>
                  <a:pt x="119800" y="27980"/>
                  <a:pt x="119800" y="27980"/>
                </a:cubicBezTo>
                <a:cubicBezTo>
                  <a:pt x="119800" y="32118"/>
                  <a:pt x="118402" y="33497"/>
                  <a:pt x="114209" y="33497"/>
                </a:cubicBezTo>
                <a:close/>
                <a:moveTo>
                  <a:pt x="69084" y="11231"/>
                </a:moveTo>
                <a:lnTo>
                  <a:pt x="69084" y="11231"/>
                </a:lnTo>
                <a:cubicBezTo>
                  <a:pt x="50715" y="11231"/>
                  <a:pt x="50715" y="11231"/>
                  <a:pt x="50715" y="11231"/>
                </a:cubicBezTo>
                <a:cubicBezTo>
                  <a:pt x="47920" y="11231"/>
                  <a:pt x="45124" y="9852"/>
                  <a:pt x="45124" y="5714"/>
                </a:cubicBezTo>
                <a:cubicBezTo>
                  <a:pt x="45124" y="2955"/>
                  <a:pt x="47920" y="0"/>
                  <a:pt x="50715" y="0"/>
                </a:cubicBezTo>
                <a:cubicBezTo>
                  <a:pt x="69084" y="0"/>
                  <a:pt x="69084" y="0"/>
                  <a:pt x="69084" y="0"/>
                </a:cubicBezTo>
                <a:cubicBezTo>
                  <a:pt x="73277" y="0"/>
                  <a:pt x="74675" y="2955"/>
                  <a:pt x="74675" y="5714"/>
                </a:cubicBezTo>
                <a:cubicBezTo>
                  <a:pt x="74675" y="9852"/>
                  <a:pt x="73277" y="11231"/>
                  <a:pt x="69084" y="11231"/>
                </a:cubicBezTo>
                <a:close/>
                <a:moveTo>
                  <a:pt x="62096" y="47487"/>
                </a:moveTo>
                <a:lnTo>
                  <a:pt x="62096" y="47487"/>
                </a:lnTo>
                <a:lnTo>
                  <a:pt x="62096" y="47487"/>
                </a:lnTo>
                <a:cubicBezTo>
                  <a:pt x="60698" y="46108"/>
                  <a:pt x="60698" y="44729"/>
                  <a:pt x="60698" y="43152"/>
                </a:cubicBezTo>
                <a:cubicBezTo>
                  <a:pt x="60698" y="40394"/>
                  <a:pt x="62096" y="37635"/>
                  <a:pt x="66289" y="37635"/>
                </a:cubicBezTo>
                <a:cubicBezTo>
                  <a:pt x="67687" y="37635"/>
                  <a:pt x="69084" y="37635"/>
                  <a:pt x="69084" y="39014"/>
                </a:cubicBezTo>
                <a:lnTo>
                  <a:pt x="69084" y="39014"/>
                </a:lnTo>
                <a:cubicBezTo>
                  <a:pt x="88851" y="55763"/>
                  <a:pt x="88851" y="55763"/>
                  <a:pt x="88851" y="55763"/>
                </a:cubicBezTo>
                <a:lnTo>
                  <a:pt x="88851" y="55763"/>
                </a:lnTo>
                <a:cubicBezTo>
                  <a:pt x="88851" y="57142"/>
                  <a:pt x="90249" y="58522"/>
                  <a:pt x="90249" y="59901"/>
                </a:cubicBezTo>
                <a:cubicBezTo>
                  <a:pt x="90249" y="61280"/>
                  <a:pt x="88851" y="62857"/>
                  <a:pt x="88851" y="64236"/>
                </a:cubicBezTo>
                <a:lnTo>
                  <a:pt x="88851" y="64236"/>
                </a:lnTo>
                <a:cubicBezTo>
                  <a:pt x="69084" y="80788"/>
                  <a:pt x="69084" y="80788"/>
                  <a:pt x="69084" y="80788"/>
                </a:cubicBezTo>
                <a:lnTo>
                  <a:pt x="69084" y="80788"/>
                </a:lnTo>
                <a:cubicBezTo>
                  <a:pt x="69084" y="82167"/>
                  <a:pt x="67687" y="82167"/>
                  <a:pt x="66289" y="82167"/>
                </a:cubicBezTo>
                <a:cubicBezTo>
                  <a:pt x="62096" y="82167"/>
                  <a:pt x="60698" y="79408"/>
                  <a:pt x="60698" y="76650"/>
                </a:cubicBezTo>
                <a:cubicBezTo>
                  <a:pt x="60698" y="75270"/>
                  <a:pt x="60698" y="73891"/>
                  <a:pt x="62096" y="72512"/>
                </a:cubicBezTo>
                <a:lnTo>
                  <a:pt x="62096" y="72512"/>
                </a:lnTo>
                <a:cubicBezTo>
                  <a:pt x="70482" y="65615"/>
                  <a:pt x="70482" y="65615"/>
                  <a:pt x="70482" y="65615"/>
                </a:cubicBezTo>
                <a:cubicBezTo>
                  <a:pt x="35141" y="65615"/>
                  <a:pt x="35141" y="65615"/>
                  <a:pt x="35141" y="65615"/>
                </a:cubicBezTo>
                <a:cubicBezTo>
                  <a:pt x="32346" y="65615"/>
                  <a:pt x="29550" y="62857"/>
                  <a:pt x="29550" y="59901"/>
                </a:cubicBezTo>
                <a:cubicBezTo>
                  <a:pt x="29550" y="57142"/>
                  <a:pt x="32346" y="54384"/>
                  <a:pt x="35141" y="54384"/>
                </a:cubicBezTo>
                <a:cubicBezTo>
                  <a:pt x="70482" y="54384"/>
                  <a:pt x="70482" y="54384"/>
                  <a:pt x="70482" y="54384"/>
                </a:cubicBezTo>
                <a:lnTo>
                  <a:pt x="62096" y="47487"/>
                </a:lnTo>
                <a:close/>
                <a:moveTo>
                  <a:pt x="28153" y="11231"/>
                </a:moveTo>
                <a:lnTo>
                  <a:pt x="28153" y="11231"/>
                </a:lnTo>
                <a:lnTo>
                  <a:pt x="28153" y="11231"/>
                </a:lnTo>
                <a:cubicBezTo>
                  <a:pt x="11181" y="11231"/>
                  <a:pt x="11181" y="11231"/>
                  <a:pt x="11181" y="11231"/>
                </a:cubicBezTo>
                <a:cubicBezTo>
                  <a:pt x="11181" y="27980"/>
                  <a:pt x="11181" y="27980"/>
                  <a:pt x="11181" y="27980"/>
                </a:cubicBezTo>
                <a:cubicBezTo>
                  <a:pt x="11181" y="32118"/>
                  <a:pt x="8386" y="33497"/>
                  <a:pt x="5590" y="33497"/>
                </a:cubicBezTo>
                <a:cubicBezTo>
                  <a:pt x="2795" y="33497"/>
                  <a:pt x="0" y="32118"/>
                  <a:pt x="0" y="27980"/>
                </a:cubicBezTo>
                <a:lnTo>
                  <a:pt x="0" y="27980"/>
                </a:ln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5" y="0"/>
                  <a:pt x="5590" y="0"/>
                </a:cubicBezTo>
                <a:cubicBezTo>
                  <a:pt x="28153" y="0"/>
                  <a:pt x="28153" y="0"/>
                  <a:pt x="28153" y="0"/>
                </a:cubicBezTo>
                <a:lnTo>
                  <a:pt x="28153" y="0"/>
                </a:lnTo>
                <a:cubicBezTo>
                  <a:pt x="30948" y="0"/>
                  <a:pt x="33743" y="2955"/>
                  <a:pt x="33743" y="5714"/>
                </a:cubicBezTo>
                <a:cubicBezTo>
                  <a:pt x="33743" y="9852"/>
                  <a:pt x="30948" y="11231"/>
                  <a:pt x="28153" y="11231"/>
                </a:cubicBezTo>
                <a:close/>
                <a:moveTo>
                  <a:pt x="5590" y="75270"/>
                </a:moveTo>
                <a:lnTo>
                  <a:pt x="5590" y="75270"/>
                </a:lnTo>
                <a:cubicBezTo>
                  <a:pt x="2795" y="75270"/>
                  <a:pt x="0" y="72512"/>
                  <a:pt x="0" y="69753"/>
                </a:cubicBezTo>
                <a:cubicBezTo>
                  <a:pt x="0" y="50246"/>
                  <a:pt x="0" y="50246"/>
                  <a:pt x="0" y="50246"/>
                </a:cubicBezTo>
                <a:cubicBezTo>
                  <a:pt x="0" y="47487"/>
                  <a:pt x="2795" y="44729"/>
                  <a:pt x="5590" y="44729"/>
                </a:cubicBezTo>
                <a:cubicBezTo>
                  <a:pt x="8386" y="44729"/>
                  <a:pt x="11181" y="47487"/>
                  <a:pt x="11181" y="50246"/>
                </a:cubicBezTo>
                <a:cubicBezTo>
                  <a:pt x="11181" y="69753"/>
                  <a:pt x="11181" y="69753"/>
                  <a:pt x="11181" y="69753"/>
                </a:cubicBezTo>
                <a:cubicBezTo>
                  <a:pt x="11181" y="72512"/>
                  <a:pt x="8386" y="75270"/>
                  <a:pt x="5590" y="75270"/>
                </a:cubicBezTo>
                <a:close/>
                <a:moveTo>
                  <a:pt x="5590" y="86502"/>
                </a:moveTo>
                <a:lnTo>
                  <a:pt x="5590" y="86502"/>
                </a:lnTo>
                <a:cubicBezTo>
                  <a:pt x="8386" y="86502"/>
                  <a:pt x="11181" y="87881"/>
                  <a:pt x="11181" y="92019"/>
                </a:cubicBezTo>
                <a:cubicBezTo>
                  <a:pt x="11181" y="108768"/>
                  <a:pt x="11181" y="108768"/>
                  <a:pt x="11181" y="108768"/>
                </a:cubicBezTo>
                <a:cubicBezTo>
                  <a:pt x="28153" y="108768"/>
                  <a:pt x="28153" y="108768"/>
                  <a:pt x="28153" y="108768"/>
                </a:cubicBezTo>
                <a:cubicBezTo>
                  <a:pt x="30948" y="108768"/>
                  <a:pt x="33743" y="110147"/>
                  <a:pt x="33743" y="114285"/>
                </a:cubicBezTo>
                <a:cubicBezTo>
                  <a:pt x="33743" y="117044"/>
                  <a:pt x="30948" y="119802"/>
                  <a:pt x="28153" y="119802"/>
                </a:cubicBez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92019"/>
                  <a:pt x="0" y="92019"/>
                  <a:pt x="0" y="92019"/>
                </a:cubicBezTo>
                <a:lnTo>
                  <a:pt x="0" y="92019"/>
                </a:lnTo>
                <a:cubicBezTo>
                  <a:pt x="0" y="87881"/>
                  <a:pt x="2795" y="86502"/>
                  <a:pt x="5590" y="86502"/>
                </a:cubicBezTo>
                <a:close/>
                <a:moveTo>
                  <a:pt x="50715" y="108768"/>
                </a:moveTo>
                <a:lnTo>
                  <a:pt x="50715" y="108768"/>
                </a:lnTo>
                <a:cubicBezTo>
                  <a:pt x="69084" y="108768"/>
                  <a:pt x="69084" y="108768"/>
                  <a:pt x="69084" y="108768"/>
                </a:cubicBezTo>
                <a:cubicBezTo>
                  <a:pt x="73277" y="108768"/>
                  <a:pt x="74675" y="110147"/>
                  <a:pt x="74675" y="114285"/>
                </a:cubicBezTo>
                <a:cubicBezTo>
                  <a:pt x="74675" y="117044"/>
                  <a:pt x="73277" y="119802"/>
                  <a:pt x="69084" y="119802"/>
                </a:cubicBezTo>
                <a:cubicBezTo>
                  <a:pt x="50715" y="119802"/>
                  <a:pt x="50715" y="119802"/>
                  <a:pt x="50715" y="119802"/>
                </a:cubicBezTo>
                <a:cubicBezTo>
                  <a:pt x="47920" y="119802"/>
                  <a:pt x="45124" y="117044"/>
                  <a:pt x="45124" y="114285"/>
                </a:cubicBezTo>
                <a:cubicBezTo>
                  <a:pt x="45124" y="110147"/>
                  <a:pt x="47920" y="108768"/>
                  <a:pt x="50715" y="10876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Shape 4889"/>
          <p:cNvSpPr/>
          <p:nvPr/>
        </p:nvSpPr>
        <p:spPr>
          <a:xfrm>
            <a:off x="7153200" y="5087880"/>
            <a:ext cx="284400" cy="287280"/>
          </a:xfrm>
          <a:custGeom>
            <a:avLst/>
            <a:gdLst>
              <a:gd name="textAreaLeft" fmla="*/ 0 w 284400"/>
              <a:gd name="textAreaRight" fmla="*/ 284760 w 2844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91647" y="119802"/>
                  <a:pt x="91647" y="119802"/>
                  <a:pt x="91647" y="119802"/>
                </a:cubicBezTo>
                <a:cubicBezTo>
                  <a:pt x="88851" y="119802"/>
                  <a:pt x="86056" y="117044"/>
                  <a:pt x="86056" y="114285"/>
                </a:cubicBezTo>
                <a:cubicBezTo>
                  <a:pt x="86056" y="110147"/>
                  <a:pt x="88851" y="108768"/>
                  <a:pt x="91647" y="108768"/>
                </a:cubicBezTo>
                <a:cubicBezTo>
                  <a:pt x="108618" y="108768"/>
                  <a:pt x="108618" y="108768"/>
                  <a:pt x="108618" y="108768"/>
                </a:cubicBezTo>
                <a:cubicBezTo>
                  <a:pt x="108618" y="92019"/>
                  <a:pt x="108618" y="92019"/>
                  <a:pt x="108618" y="92019"/>
                </a:cubicBezTo>
                <a:lnTo>
                  <a:pt x="108618" y="92019"/>
                </a:lnTo>
                <a:cubicBezTo>
                  <a:pt x="108618" y="87881"/>
                  <a:pt x="111414" y="86502"/>
                  <a:pt x="114209" y="86502"/>
                </a:cubicBezTo>
                <a:cubicBezTo>
                  <a:pt x="117004" y="86502"/>
                  <a:pt x="119800" y="87881"/>
                  <a:pt x="119800" y="92019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14209" y="44729"/>
                </a:moveTo>
                <a:lnTo>
                  <a:pt x="114209" y="44729"/>
                </a:lnTo>
                <a:cubicBezTo>
                  <a:pt x="117004" y="44729"/>
                  <a:pt x="119800" y="47487"/>
                  <a:pt x="119800" y="50246"/>
                </a:cubicBezTo>
                <a:cubicBezTo>
                  <a:pt x="119800" y="69753"/>
                  <a:pt x="119800" y="69753"/>
                  <a:pt x="119800" y="69753"/>
                </a:cubicBezTo>
                <a:cubicBezTo>
                  <a:pt x="119800" y="72512"/>
                  <a:pt x="117004" y="75270"/>
                  <a:pt x="114209" y="75270"/>
                </a:cubicBezTo>
                <a:cubicBezTo>
                  <a:pt x="111414" y="75270"/>
                  <a:pt x="108618" y="72512"/>
                  <a:pt x="108618" y="69753"/>
                </a:cubicBezTo>
                <a:cubicBezTo>
                  <a:pt x="108618" y="50246"/>
                  <a:pt x="108618" y="50246"/>
                  <a:pt x="108618" y="50246"/>
                </a:cubicBezTo>
                <a:cubicBezTo>
                  <a:pt x="108618" y="47487"/>
                  <a:pt x="111414" y="44729"/>
                  <a:pt x="114209" y="44729"/>
                </a:cubicBezTo>
                <a:close/>
                <a:moveTo>
                  <a:pt x="114209" y="33497"/>
                </a:moveTo>
                <a:lnTo>
                  <a:pt x="114209" y="33497"/>
                </a:lnTo>
                <a:cubicBezTo>
                  <a:pt x="111414" y="33497"/>
                  <a:pt x="108618" y="32118"/>
                  <a:pt x="108618" y="27980"/>
                </a:cubicBezTo>
                <a:lnTo>
                  <a:pt x="108618" y="27980"/>
                </a:lnTo>
                <a:cubicBezTo>
                  <a:pt x="108618" y="11231"/>
                  <a:pt x="108618" y="11231"/>
                  <a:pt x="108618" y="11231"/>
                </a:cubicBezTo>
                <a:cubicBezTo>
                  <a:pt x="91647" y="11231"/>
                  <a:pt x="91647" y="11231"/>
                  <a:pt x="91647" y="11231"/>
                </a:cubicBezTo>
                <a:lnTo>
                  <a:pt x="91647" y="11231"/>
                </a:lnTo>
                <a:cubicBezTo>
                  <a:pt x="88851" y="11231"/>
                  <a:pt x="86056" y="9852"/>
                  <a:pt x="86056" y="5714"/>
                </a:cubicBezTo>
                <a:cubicBezTo>
                  <a:pt x="86056" y="2955"/>
                  <a:pt x="88851" y="0"/>
                  <a:pt x="91647" y="0"/>
                </a:cubicBezTo>
                <a:lnTo>
                  <a:pt x="91647" y="0"/>
                </a:lnTo>
                <a:cubicBezTo>
                  <a:pt x="114209" y="0"/>
                  <a:pt x="114209" y="0"/>
                  <a:pt x="114209" y="0"/>
                </a:cubicBezTo>
                <a:cubicBezTo>
                  <a:pt x="117004" y="0"/>
                  <a:pt x="119800" y="2955"/>
                  <a:pt x="119800" y="5714"/>
                </a:cubicBezTo>
                <a:cubicBezTo>
                  <a:pt x="119800" y="27980"/>
                  <a:pt x="119800" y="27980"/>
                  <a:pt x="119800" y="27980"/>
                </a:cubicBezTo>
                <a:cubicBezTo>
                  <a:pt x="119800" y="32118"/>
                  <a:pt x="117004" y="33497"/>
                  <a:pt x="114209" y="33497"/>
                </a:cubicBezTo>
                <a:close/>
                <a:moveTo>
                  <a:pt x="90249" y="59901"/>
                </a:moveTo>
                <a:lnTo>
                  <a:pt x="90249" y="59901"/>
                </a:lnTo>
                <a:cubicBezTo>
                  <a:pt x="90249" y="62857"/>
                  <a:pt x="87454" y="65615"/>
                  <a:pt x="84658" y="65615"/>
                </a:cubicBezTo>
                <a:cubicBezTo>
                  <a:pt x="49317" y="65615"/>
                  <a:pt x="49317" y="65615"/>
                  <a:pt x="49317" y="65615"/>
                </a:cubicBezTo>
                <a:cubicBezTo>
                  <a:pt x="57703" y="72512"/>
                  <a:pt x="57703" y="72512"/>
                  <a:pt x="57703" y="72512"/>
                </a:cubicBezTo>
                <a:lnTo>
                  <a:pt x="57703" y="72512"/>
                </a:lnTo>
                <a:cubicBezTo>
                  <a:pt x="59101" y="73891"/>
                  <a:pt x="59101" y="75270"/>
                  <a:pt x="59101" y="76650"/>
                </a:cubicBezTo>
                <a:cubicBezTo>
                  <a:pt x="59101" y="79408"/>
                  <a:pt x="57703" y="82167"/>
                  <a:pt x="53510" y="82167"/>
                </a:cubicBezTo>
                <a:cubicBezTo>
                  <a:pt x="52113" y="82167"/>
                  <a:pt x="50715" y="82167"/>
                  <a:pt x="50715" y="80788"/>
                </a:cubicBezTo>
                <a:lnTo>
                  <a:pt x="50715" y="80788"/>
                </a:lnTo>
                <a:cubicBezTo>
                  <a:pt x="30948" y="64236"/>
                  <a:pt x="30948" y="64236"/>
                  <a:pt x="30948" y="64236"/>
                </a:cubicBezTo>
                <a:lnTo>
                  <a:pt x="30948" y="64236"/>
                </a:lnTo>
                <a:cubicBezTo>
                  <a:pt x="30948" y="62857"/>
                  <a:pt x="29550" y="61280"/>
                  <a:pt x="29550" y="59901"/>
                </a:cubicBezTo>
                <a:cubicBezTo>
                  <a:pt x="29550" y="58522"/>
                  <a:pt x="30948" y="57142"/>
                  <a:pt x="30948" y="55763"/>
                </a:cubicBezTo>
                <a:lnTo>
                  <a:pt x="30948" y="55763"/>
                </a:lnTo>
                <a:cubicBezTo>
                  <a:pt x="50715" y="39014"/>
                  <a:pt x="50715" y="39014"/>
                  <a:pt x="50715" y="39014"/>
                </a:cubicBezTo>
                <a:lnTo>
                  <a:pt x="50715" y="39014"/>
                </a:lnTo>
                <a:cubicBezTo>
                  <a:pt x="50715" y="37635"/>
                  <a:pt x="52113" y="37635"/>
                  <a:pt x="53510" y="37635"/>
                </a:cubicBezTo>
                <a:cubicBezTo>
                  <a:pt x="57703" y="37635"/>
                  <a:pt x="59101" y="40394"/>
                  <a:pt x="59101" y="43152"/>
                </a:cubicBezTo>
                <a:cubicBezTo>
                  <a:pt x="59101" y="44729"/>
                  <a:pt x="59101" y="46108"/>
                  <a:pt x="57703" y="47487"/>
                </a:cubicBezTo>
                <a:lnTo>
                  <a:pt x="57703" y="47487"/>
                </a:lnTo>
                <a:cubicBezTo>
                  <a:pt x="49317" y="54384"/>
                  <a:pt x="49317" y="54384"/>
                  <a:pt x="49317" y="54384"/>
                </a:cubicBezTo>
                <a:cubicBezTo>
                  <a:pt x="84658" y="54384"/>
                  <a:pt x="84658" y="54384"/>
                  <a:pt x="84658" y="54384"/>
                </a:cubicBezTo>
                <a:cubicBezTo>
                  <a:pt x="87454" y="54384"/>
                  <a:pt x="90249" y="57142"/>
                  <a:pt x="90249" y="59901"/>
                </a:cubicBezTo>
                <a:close/>
                <a:moveTo>
                  <a:pt x="69084" y="11231"/>
                </a:moveTo>
                <a:lnTo>
                  <a:pt x="69084" y="11231"/>
                </a:lnTo>
                <a:cubicBezTo>
                  <a:pt x="50715" y="11231"/>
                  <a:pt x="50715" y="11231"/>
                  <a:pt x="50715" y="11231"/>
                </a:cubicBezTo>
                <a:cubicBezTo>
                  <a:pt x="46522" y="11231"/>
                  <a:pt x="45124" y="9852"/>
                  <a:pt x="45124" y="5714"/>
                </a:cubicBezTo>
                <a:cubicBezTo>
                  <a:pt x="45124" y="2955"/>
                  <a:pt x="46522" y="0"/>
                  <a:pt x="50715" y="0"/>
                </a:cubicBezTo>
                <a:cubicBezTo>
                  <a:pt x="69084" y="0"/>
                  <a:pt x="69084" y="0"/>
                  <a:pt x="69084" y="0"/>
                </a:cubicBezTo>
                <a:cubicBezTo>
                  <a:pt x="71880" y="0"/>
                  <a:pt x="74675" y="2955"/>
                  <a:pt x="74675" y="5714"/>
                </a:cubicBezTo>
                <a:cubicBezTo>
                  <a:pt x="74675" y="9852"/>
                  <a:pt x="71880" y="11231"/>
                  <a:pt x="69084" y="11231"/>
                </a:cubicBezTo>
                <a:close/>
                <a:moveTo>
                  <a:pt x="28153" y="11231"/>
                </a:moveTo>
                <a:lnTo>
                  <a:pt x="28153" y="11231"/>
                </a:lnTo>
                <a:lnTo>
                  <a:pt x="28153" y="11231"/>
                </a:lnTo>
                <a:cubicBezTo>
                  <a:pt x="11181" y="11231"/>
                  <a:pt x="11181" y="11231"/>
                  <a:pt x="11181" y="11231"/>
                </a:cubicBezTo>
                <a:cubicBezTo>
                  <a:pt x="11181" y="27980"/>
                  <a:pt x="11181" y="27980"/>
                  <a:pt x="11181" y="27980"/>
                </a:cubicBezTo>
                <a:cubicBezTo>
                  <a:pt x="11181" y="32118"/>
                  <a:pt x="8386" y="33497"/>
                  <a:pt x="5590" y="33497"/>
                </a:cubicBezTo>
                <a:cubicBezTo>
                  <a:pt x="1397" y="33497"/>
                  <a:pt x="0" y="32118"/>
                  <a:pt x="0" y="27980"/>
                </a:cubicBezTo>
                <a:lnTo>
                  <a:pt x="0" y="27980"/>
                </a:ln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1397" y="0"/>
                  <a:pt x="5590" y="0"/>
                </a:cubicBezTo>
                <a:cubicBezTo>
                  <a:pt x="28153" y="0"/>
                  <a:pt x="28153" y="0"/>
                  <a:pt x="28153" y="0"/>
                </a:cubicBezTo>
                <a:lnTo>
                  <a:pt x="28153" y="0"/>
                </a:lnTo>
                <a:cubicBezTo>
                  <a:pt x="30948" y="0"/>
                  <a:pt x="33743" y="2955"/>
                  <a:pt x="33743" y="5714"/>
                </a:cubicBezTo>
                <a:cubicBezTo>
                  <a:pt x="33743" y="9852"/>
                  <a:pt x="30948" y="11231"/>
                  <a:pt x="28153" y="11231"/>
                </a:cubicBezTo>
                <a:close/>
                <a:moveTo>
                  <a:pt x="5590" y="75270"/>
                </a:moveTo>
                <a:lnTo>
                  <a:pt x="5590" y="75270"/>
                </a:lnTo>
                <a:cubicBezTo>
                  <a:pt x="1397" y="75270"/>
                  <a:pt x="0" y="72512"/>
                  <a:pt x="0" y="69753"/>
                </a:cubicBezTo>
                <a:cubicBezTo>
                  <a:pt x="0" y="50246"/>
                  <a:pt x="0" y="50246"/>
                  <a:pt x="0" y="50246"/>
                </a:cubicBezTo>
                <a:cubicBezTo>
                  <a:pt x="0" y="47487"/>
                  <a:pt x="1397" y="44729"/>
                  <a:pt x="5590" y="44729"/>
                </a:cubicBezTo>
                <a:cubicBezTo>
                  <a:pt x="8386" y="44729"/>
                  <a:pt x="11181" y="47487"/>
                  <a:pt x="11181" y="50246"/>
                </a:cubicBezTo>
                <a:cubicBezTo>
                  <a:pt x="11181" y="69753"/>
                  <a:pt x="11181" y="69753"/>
                  <a:pt x="11181" y="69753"/>
                </a:cubicBezTo>
                <a:cubicBezTo>
                  <a:pt x="11181" y="72512"/>
                  <a:pt x="8386" y="75270"/>
                  <a:pt x="5590" y="75270"/>
                </a:cubicBezTo>
                <a:close/>
                <a:moveTo>
                  <a:pt x="5590" y="86502"/>
                </a:moveTo>
                <a:lnTo>
                  <a:pt x="5590" y="86502"/>
                </a:lnTo>
                <a:cubicBezTo>
                  <a:pt x="8386" y="86502"/>
                  <a:pt x="11181" y="87881"/>
                  <a:pt x="11181" y="92019"/>
                </a:cubicBezTo>
                <a:cubicBezTo>
                  <a:pt x="11181" y="108768"/>
                  <a:pt x="11181" y="108768"/>
                  <a:pt x="11181" y="108768"/>
                </a:cubicBezTo>
                <a:cubicBezTo>
                  <a:pt x="28153" y="108768"/>
                  <a:pt x="28153" y="108768"/>
                  <a:pt x="28153" y="108768"/>
                </a:cubicBezTo>
                <a:cubicBezTo>
                  <a:pt x="30948" y="108768"/>
                  <a:pt x="33743" y="110147"/>
                  <a:pt x="33743" y="114285"/>
                </a:cubicBezTo>
                <a:cubicBezTo>
                  <a:pt x="33743" y="117044"/>
                  <a:pt x="30948" y="119802"/>
                  <a:pt x="28153" y="119802"/>
                </a:cubicBez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92019"/>
                  <a:pt x="0" y="92019"/>
                  <a:pt x="0" y="92019"/>
                </a:cubicBezTo>
                <a:lnTo>
                  <a:pt x="0" y="92019"/>
                </a:lnTo>
                <a:cubicBezTo>
                  <a:pt x="0" y="87881"/>
                  <a:pt x="1397" y="86502"/>
                  <a:pt x="5590" y="86502"/>
                </a:cubicBezTo>
                <a:close/>
                <a:moveTo>
                  <a:pt x="50715" y="108768"/>
                </a:moveTo>
                <a:lnTo>
                  <a:pt x="50715" y="108768"/>
                </a:lnTo>
                <a:cubicBezTo>
                  <a:pt x="69084" y="108768"/>
                  <a:pt x="69084" y="108768"/>
                  <a:pt x="69084" y="108768"/>
                </a:cubicBezTo>
                <a:cubicBezTo>
                  <a:pt x="71880" y="108768"/>
                  <a:pt x="74675" y="110147"/>
                  <a:pt x="74675" y="114285"/>
                </a:cubicBezTo>
                <a:cubicBezTo>
                  <a:pt x="74675" y="117044"/>
                  <a:pt x="71880" y="119802"/>
                  <a:pt x="69084" y="119802"/>
                </a:cubicBezTo>
                <a:cubicBezTo>
                  <a:pt x="50715" y="119802"/>
                  <a:pt x="50715" y="119802"/>
                  <a:pt x="50715" y="119802"/>
                </a:cubicBezTo>
                <a:cubicBezTo>
                  <a:pt x="46522" y="119802"/>
                  <a:pt x="45124" y="117044"/>
                  <a:pt x="45124" y="114285"/>
                </a:cubicBezTo>
                <a:cubicBezTo>
                  <a:pt x="45124" y="110147"/>
                  <a:pt x="46522" y="108768"/>
                  <a:pt x="50715" y="10876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Shape 4890"/>
          <p:cNvSpPr/>
          <p:nvPr/>
        </p:nvSpPr>
        <p:spPr>
          <a:xfrm>
            <a:off x="6649920" y="508788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114285" y="119802"/>
                </a:moveTo>
                <a:lnTo>
                  <a:pt x="114285" y="119802"/>
                </a:lnTo>
                <a:cubicBezTo>
                  <a:pt x="92019" y="119802"/>
                  <a:pt x="92019" y="119802"/>
                  <a:pt x="92019" y="119802"/>
                </a:cubicBezTo>
                <a:cubicBezTo>
                  <a:pt x="87881" y="119802"/>
                  <a:pt x="86502" y="117044"/>
                  <a:pt x="86502" y="114285"/>
                </a:cubicBezTo>
                <a:cubicBezTo>
                  <a:pt x="86502" y="110147"/>
                  <a:pt x="87881" y="108768"/>
                  <a:pt x="92019" y="108768"/>
                </a:cubicBezTo>
                <a:cubicBezTo>
                  <a:pt x="108768" y="108768"/>
                  <a:pt x="108768" y="108768"/>
                  <a:pt x="108768" y="108768"/>
                </a:cubicBezTo>
                <a:cubicBezTo>
                  <a:pt x="108768" y="92019"/>
                  <a:pt x="108768" y="92019"/>
                  <a:pt x="108768" y="92019"/>
                </a:cubicBezTo>
                <a:lnTo>
                  <a:pt x="108768" y="92019"/>
                </a:lnTo>
                <a:cubicBezTo>
                  <a:pt x="108768" y="87881"/>
                  <a:pt x="110147" y="86502"/>
                  <a:pt x="114285" y="86502"/>
                </a:cubicBezTo>
                <a:cubicBezTo>
                  <a:pt x="117044" y="86502"/>
                  <a:pt x="119802" y="87881"/>
                  <a:pt x="119802" y="92019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44" y="119802"/>
                  <a:pt x="114285" y="119802"/>
                </a:cubicBezTo>
                <a:close/>
                <a:moveTo>
                  <a:pt x="114285" y="44729"/>
                </a:moveTo>
                <a:lnTo>
                  <a:pt x="114285" y="44729"/>
                </a:lnTo>
                <a:cubicBezTo>
                  <a:pt x="117044" y="44729"/>
                  <a:pt x="119802" y="47487"/>
                  <a:pt x="119802" y="50246"/>
                </a:cubicBezTo>
                <a:cubicBezTo>
                  <a:pt x="119802" y="69753"/>
                  <a:pt x="119802" y="69753"/>
                  <a:pt x="119802" y="69753"/>
                </a:cubicBezTo>
                <a:cubicBezTo>
                  <a:pt x="119802" y="72512"/>
                  <a:pt x="117044" y="75270"/>
                  <a:pt x="114285" y="75270"/>
                </a:cubicBezTo>
                <a:cubicBezTo>
                  <a:pt x="110147" y="75270"/>
                  <a:pt x="108768" y="72512"/>
                  <a:pt x="108768" y="69753"/>
                </a:cubicBezTo>
                <a:cubicBezTo>
                  <a:pt x="108768" y="50246"/>
                  <a:pt x="108768" y="50246"/>
                  <a:pt x="108768" y="50246"/>
                </a:cubicBezTo>
                <a:cubicBezTo>
                  <a:pt x="108768" y="47487"/>
                  <a:pt x="110147" y="44729"/>
                  <a:pt x="114285" y="44729"/>
                </a:cubicBezTo>
                <a:close/>
                <a:moveTo>
                  <a:pt x="114285" y="33497"/>
                </a:moveTo>
                <a:lnTo>
                  <a:pt x="114285" y="33497"/>
                </a:lnTo>
                <a:cubicBezTo>
                  <a:pt x="110147" y="33497"/>
                  <a:pt x="108768" y="32118"/>
                  <a:pt x="108768" y="27980"/>
                </a:cubicBezTo>
                <a:lnTo>
                  <a:pt x="108768" y="27980"/>
                </a:lnTo>
                <a:cubicBezTo>
                  <a:pt x="108768" y="11231"/>
                  <a:pt x="108768" y="11231"/>
                  <a:pt x="108768" y="11231"/>
                </a:cubicBezTo>
                <a:cubicBezTo>
                  <a:pt x="92019" y="11231"/>
                  <a:pt x="92019" y="11231"/>
                  <a:pt x="92019" y="11231"/>
                </a:cubicBezTo>
                <a:lnTo>
                  <a:pt x="92019" y="11231"/>
                </a:lnTo>
                <a:cubicBezTo>
                  <a:pt x="87881" y="11231"/>
                  <a:pt x="86502" y="9852"/>
                  <a:pt x="86502" y="5714"/>
                </a:cubicBezTo>
                <a:cubicBezTo>
                  <a:pt x="86502" y="2955"/>
                  <a:pt x="87881" y="0"/>
                  <a:pt x="92019" y="0"/>
                </a:cubicBezTo>
                <a:lnTo>
                  <a:pt x="92019" y="0"/>
                </a:lnTo>
                <a:cubicBezTo>
                  <a:pt x="114285" y="0"/>
                  <a:pt x="114285" y="0"/>
                  <a:pt x="114285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27980"/>
                  <a:pt x="119802" y="27980"/>
                  <a:pt x="119802" y="27980"/>
                </a:cubicBezTo>
                <a:cubicBezTo>
                  <a:pt x="119802" y="32118"/>
                  <a:pt x="117044" y="33497"/>
                  <a:pt x="114285" y="33497"/>
                </a:cubicBezTo>
                <a:close/>
                <a:moveTo>
                  <a:pt x="76650" y="59901"/>
                </a:moveTo>
                <a:lnTo>
                  <a:pt x="76650" y="59901"/>
                </a:lnTo>
                <a:cubicBezTo>
                  <a:pt x="75270" y="59901"/>
                  <a:pt x="73891" y="58522"/>
                  <a:pt x="72512" y="58522"/>
                </a:cubicBezTo>
                <a:lnTo>
                  <a:pt x="72512" y="58522"/>
                </a:lnTo>
                <a:cubicBezTo>
                  <a:pt x="65615" y="50246"/>
                  <a:pt x="65615" y="50246"/>
                  <a:pt x="65615" y="50246"/>
                </a:cubicBezTo>
                <a:cubicBezTo>
                  <a:pt x="65615" y="83546"/>
                  <a:pt x="65615" y="83546"/>
                  <a:pt x="65615" y="83546"/>
                </a:cubicBezTo>
                <a:cubicBezTo>
                  <a:pt x="65615" y="87881"/>
                  <a:pt x="62660" y="89261"/>
                  <a:pt x="59901" y="89261"/>
                </a:cubicBezTo>
                <a:cubicBezTo>
                  <a:pt x="57142" y="89261"/>
                  <a:pt x="54384" y="87881"/>
                  <a:pt x="54384" y="83546"/>
                </a:cubicBezTo>
                <a:cubicBezTo>
                  <a:pt x="54384" y="50246"/>
                  <a:pt x="54384" y="50246"/>
                  <a:pt x="54384" y="50246"/>
                </a:cubicBezTo>
                <a:cubicBezTo>
                  <a:pt x="47487" y="58522"/>
                  <a:pt x="47487" y="58522"/>
                  <a:pt x="47487" y="58522"/>
                </a:cubicBezTo>
                <a:lnTo>
                  <a:pt x="47487" y="58522"/>
                </a:lnTo>
                <a:cubicBezTo>
                  <a:pt x="46108" y="58522"/>
                  <a:pt x="44532" y="59901"/>
                  <a:pt x="43152" y="59901"/>
                </a:cubicBezTo>
                <a:cubicBezTo>
                  <a:pt x="40394" y="59901"/>
                  <a:pt x="37635" y="57142"/>
                  <a:pt x="37635" y="54384"/>
                </a:cubicBezTo>
                <a:cubicBezTo>
                  <a:pt x="37635" y="53004"/>
                  <a:pt x="37635" y="51625"/>
                  <a:pt x="39014" y="50246"/>
                </a:cubicBezTo>
                <a:lnTo>
                  <a:pt x="39014" y="50246"/>
                </a:lnTo>
                <a:cubicBezTo>
                  <a:pt x="55763" y="32118"/>
                  <a:pt x="55763" y="32118"/>
                  <a:pt x="55763" y="32118"/>
                </a:cubicBezTo>
                <a:lnTo>
                  <a:pt x="55763" y="32118"/>
                </a:lnTo>
                <a:cubicBezTo>
                  <a:pt x="57142" y="30738"/>
                  <a:pt x="58522" y="30738"/>
                  <a:pt x="59901" y="30738"/>
                </a:cubicBezTo>
                <a:cubicBezTo>
                  <a:pt x="61280" y="30738"/>
                  <a:pt x="62660" y="30738"/>
                  <a:pt x="64236" y="32118"/>
                </a:cubicBezTo>
                <a:lnTo>
                  <a:pt x="64236" y="32118"/>
                </a:lnTo>
                <a:cubicBezTo>
                  <a:pt x="80788" y="50246"/>
                  <a:pt x="80788" y="50246"/>
                  <a:pt x="80788" y="50246"/>
                </a:cubicBezTo>
                <a:lnTo>
                  <a:pt x="80788" y="50246"/>
                </a:lnTo>
                <a:cubicBezTo>
                  <a:pt x="82167" y="51625"/>
                  <a:pt x="82167" y="53004"/>
                  <a:pt x="82167" y="54384"/>
                </a:cubicBezTo>
                <a:cubicBezTo>
                  <a:pt x="82167" y="57142"/>
                  <a:pt x="79408" y="59901"/>
                  <a:pt x="76650" y="59901"/>
                </a:cubicBezTo>
                <a:close/>
                <a:moveTo>
                  <a:pt x="69753" y="11231"/>
                </a:moveTo>
                <a:lnTo>
                  <a:pt x="69753" y="11231"/>
                </a:lnTo>
                <a:cubicBezTo>
                  <a:pt x="50246" y="11231"/>
                  <a:pt x="50246" y="11231"/>
                  <a:pt x="50246" y="11231"/>
                </a:cubicBezTo>
                <a:cubicBezTo>
                  <a:pt x="47487" y="11231"/>
                  <a:pt x="44532" y="9852"/>
                  <a:pt x="44532" y="5714"/>
                </a:cubicBezTo>
                <a:cubicBezTo>
                  <a:pt x="44532" y="2955"/>
                  <a:pt x="47487" y="0"/>
                  <a:pt x="50246" y="0"/>
                </a:cubicBezTo>
                <a:cubicBezTo>
                  <a:pt x="69753" y="0"/>
                  <a:pt x="69753" y="0"/>
                  <a:pt x="69753" y="0"/>
                </a:cubicBezTo>
                <a:cubicBezTo>
                  <a:pt x="72512" y="0"/>
                  <a:pt x="75270" y="2955"/>
                  <a:pt x="75270" y="5714"/>
                </a:cubicBezTo>
                <a:cubicBezTo>
                  <a:pt x="75270" y="9852"/>
                  <a:pt x="72512" y="11231"/>
                  <a:pt x="69753" y="11231"/>
                </a:cubicBezTo>
                <a:close/>
                <a:moveTo>
                  <a:pt x="27980" y="119802"/>
                </a:moveTo>
                <a:lnTo>
                  <a:pt x="27980" y="119802"/>
                </a:lnTo>
                <a:cubicBezTo>
                  <a:pt x="5714" y="119802"/>
                  <a:pt x="5714" y="119802"/>
                  <a:pt x="5714" y="119802"/>
                </a:cubicBezTo>
                <a:cubicBezTo>
                  <a:pt x="2955" y="119802"/>
                  <a:pt x="0" y="117044"/>
                  <a:pt x="0" y="114285"/>
                </a:cubicBezTo>
                <a:cubicBezTo>
                  <a:pt x="0" y="92019"/>
                  <a:pt x="0" y="92019"/>
                  <a:pt x="0" y="92019"/>
                </a:cubicBezTo>
                <a:lnTo>
                  <a:pt x="0" y="92019"/>
                </a:lnTo>
                <a:cubicBezTo>
                  <a:pt x="0" y="87881"/>
                  <a:pt x="2955" y="86502"/>
                  <a:pt x="5714" y="86502"/>
                </a:cubicBezTo>
                <a:cubicBezTo>
                  <a:pt x="9852" y="86502"/>
                  <a:pt x="11231" y="87881"/>
                  <a:pt x="11231" y="92019"/>
                </a:cubicBezTo>
                <a:cubicBezTo>
                  <a:pt x="11231" y="108768"/>
                  <a:pt x="11231" y="108768"/>
                  <a:pt x="11231" y="108768"/>
                </a:cubicBezTo>
                <a:cubicBezTo>
                  <a:pt x="27980" y="108768"/>
                  <a:pt x="27980" y="108768"/>
                  <a:pt x="27980" y="108768"/>
                </a:cubicBezTo>
                <a:cubicBezTo>
                  <a:pt x="32118" y="108768"/>
                  <a:pt x="33497" y="110147"/>
                  <a:pt x="33497" y="114285"/>
                </a:cubicBezTo>
                <a:cubicBezTo>
                  <a:pt x="33497" y="117044"/>
                  <a:pt x="32118" y="119802"/>
                  <a:pt x="27980" y="119802"/>
                </a:cubicBezTo>
                <a:close/>
                <a:moveTo>
                  <a:pt x="11231" y="50246"/>
                </a:moveTo>
                <a:lnTo>
                  <a:pt x="11231" y="50246"/>
                </a:lnTo>
                <a:cubicBezTo>
                  <a:pt x="11231" y="69753"/>
                  <a:pt x="11231" y="69753"/>
                  <a:pt x="11231" y="69753"/>
                </a:cubicBezTo>
                <a:cubicBezTo>
                  <a:pt x="11231" y="72512"/>
                  <a:pt x="9852" y="75270"/>
                  <a:pt x="5714" y="75270"/>
                </a:cubicBezTo>
                <a:cubicBezTo>
                  <a:pt x="2955" y="75270"/>
                  <a:pt x="0" y="72512"/>
                  <a:pt x="0" y="69753"/>
                </a:cubicBezTo>
                <a:cubicBezTo>
                  <a:pt x="0" y="50246"/>
                  <a:pt x="0" y="50246"/>
                  <a:pt x="0" y="50246"/>
                </a:cubicBezTo>
                <a:cubicBezTo>
                  <a:pt x="0" y="47487"/>
                  <a:pt x="2955" y="44729"/>
                  <a:pt x="5714" y="44729"/>
                </a:cubicBezTo>
                <a:cubicBezTo>
                  <a:pt x="9852" y="44729"/>
                  <a:pt x="11231" y="47487"/>
                  <a:pt x="11231" y="50246"/>
                </a:cubicBezTo>
                <a:close/>
                <a:moveTo>
                  <a:pt x="27980" y="11231"/>
                </a:moveTo>
                <a:lnTo>
                  <a:pt x="27980" y="11231"/>
                </a:lnTo>
                <a:lnTo>
                  <a:pt x="27980" y="11231"/>
                </a:lnTo>
                <a:cubicBezTo>
                  <a:pt x="11231" y="11231"/>
                  <a:pt x="11231" y="11231"/>
                  <a:pt x="11231" y="11231"/>
                </a:cubicBezTo>
                <a:cubicBezTo>
                  <a:pt x="11231" y="27980"/>
                  <a:pt x="11231" y="27980"/>
                  <a:pt x="11231" y="27980"/>
                </a:cubicBezTo>
                <a:cubicBezTo>
                  <a:pt x="11231" y="32118"/>
                  <a:pt x="9852" y="33497"/>
                  <a:pt x="5714" y="33497"/>
                </a:cubicBezTo>
                <a:cubicBezTo>
                  <a:pt x="2955" y="33497"/>
                  <a:pt x="0" y="32118"/>
                  <a:pt x="0" y="27980"/>
                </a:cubicBezTo>
                <a:lnTo>
                  <a:pt x="0" y="27980"/>
                </a:ln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955" y="0"/>
                  <a:pt x="5714" y="0"/>
                </a:cubicBezTo>
                <a:cubicBezTo>
                  <a:pt x="27980" y="0"/>
                  <a:pt x="27980" y="0"/>
                  <a:pt x="27980" y="0"/>
                </a:cubicBezTo>
                <a:lnTo>
                  <a:pt x="27980" y="0"/>
                </a:lnTo>
                <a:cubicBezTo>
                  <a:pt x="32118" y="0"/>
                  <a:pt x="33497" y="2955"/>
                  <a:pt x="33497" y="5714"/>
                </a:cubicBezTo>
                <a:cubicBezTo>
                  <a:pt x="33497" y="9852"/>
                  <a:pt x="32118" y="11231"/>
                  <a:pt x="27980" y="11231"/>
                </a:cubicBezTo>
                <a:close/>
                <a:moveTo>
                  <a:pt x="50246" y="108768"/>
                </a:moveTo>
                <a:lnTo>
                  <a:pt x="50246" y="108768"/>
                </a:lnTo>
                <a:cubicBezTo>
                  <a:pt x="69753" y="108768"/>
                  <a:pt x="69753" y="108768"/>
                  <a:pt x="69753" y="108768"/>
                </a:cubicBezTo>
                <a:cubicBezTo>
                  <a:pt x="72512" y="108768"/>
                  <a:pt x="75270" y="110147"/>
                  <a:pt x="75270" y="114285"/>
                </a:cubicBezTo>
                <a:cubicBezTo>
                  <a:pt x="75270" y="117044"/>
                  <a:pt x="72512" y="119802"/>
                  <a:pt x="69753" y="119802"/>
                </a:cubicBezTo>
                <a:cubicBezTo>
                  <a:pt x="50246" y="119802"/>
                  <a:pt x="50246" y="119802"/>
                  <a:pt x="50246" y="119802"/>
                </a:cubicBezTo>
                <a:cubicBezTo>
                  <a:pt x="47487" y="119802"/>
                  <a:pt x="44532" y="117044"/>
                  <a:pt x="44532" y="114285"/>
                </a:cubicBezTo>
                <a:cubicBezTo>
                  <a:pt x="44532" y="110147"/>
                  <a:pt x="47487" y="108768"/>
                  <a:pt x="50246" y="10876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Shape 4891"/>
          <p:cNvSpPr/>
          <p:nvPr/>
        </p:nvSpPr>
        <p:spPr>
          <a:xfrm>
            <a:off x="6153120" y="5087880"/>
            <a:ext cx="285840" cy="287280"/>
          </a:xfrm>
          <a:custGeom>
            <a:avLst/>
            <a:gdLst>
              <a:gd name="textAreaLeft" fmla="*/ 0 w 285840"/>
              <a:gd name="textAreaRight" fmla="*/ 286200 w 285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2"/>
                </a:moveTo>
                <a:lnTo>
                  <a:pt x="114219" y="119802"/>
                </a:lnTo>
                <a:cubicBezTo>
                  <a:pt x="91694" y="119802"/>
                  <a:pt x="91694" y="119802"/>
                  <a:pt x="91694" y="119802"/>
                </a:cubicBezTo>
                <a:cubicBezTo>
                  <a:pt x="88903" y="119802"/>
                  <a:pt x="85913" y="117044"/>
                  <a:pt x="85913" y="114285"/>
                </a:cubicBezTo>
                <a:cubicBezTo>
                  <a:pt x="85913" y="110147"/>
                  <a:pt x="88903" y="108768"/>
                  <a:pt x="91694" y="108768"/>
                </a:cubicBezTo>
                <a:cubicBezTo>
                  <a:pt x="108438" y="108768"/>
                  <a:pt x="108438" y="108768"/>
                  <a:pt x="108438" y="108768"/>
                </a:cubicBezTo>
                <a:cubicBezTo>
                  <a:pt x="108438" y="92019"/>
                  <a:pt x="108438" y="92019"/>
                  <a:pt x="108438" y="92019"/>
                </a:cubicBezTo>
                <a:lnTo>
                  <a:pt x="108438" y="92019"/>
                </a:lnTo>
                <a:cubicBezTo>
                  <a:pt x="108438" y="87881"/>
                  <a:pt x="111428" y="86502"/>
                  <a:pt x="114219" y="86502"/>
                </a:cubicBezTo>
                <a:cubicBezTo>
                  <a:pt x="118405" y="86502"/>
                  <a:pt x="119800" y="87881"/>
                  <a:pt x="119800" y="92019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5" y="119802"/>
                  <a:pt x="114219" y="119802"/>
                </a:cubicBezTo>
                <a:close/>
                <a:moveTo>
                  <a:pt x="114219" y="44729"/>
                </a:moveTo>
                <a:lnTo>
                  <a:pt x="114219" y="44729"/>
                </a:lnTo>
                <a:cubicBezTo>
                  <a:pt x="118405" y="44729"/>
                  <a:pt x="119800" y="47487"/>
                  <a:pt x="119800" y="50246"/>
                </a:cubicBezTo>
                <a:cubicBezTo>
                  <a:pt x="119800" y="69753"/>
                  <a:pt x="119800" y="69753"/>
                  <a:pt x="119800" y="69753"/>
                </a:cubicBezTo>
                <a:cubicBezTo>
                  <a:pt x="119800" y="72512"/>
                  <a:pt x="118405" y="75270"/>
                  <a:pt x="114219" y="75270"/>
                </a:cubicBezTo>
                <a:cubicBezTo>
                  <a:pt x="111428" y="75270"/>
                  <a:pt x="108438" y="72512"/>
                  <a:pt x="108438" y="69753"/>
                </a:cubicBezTo>
                <a:cubicBezTo>
                  <a:pt x="108438" y="50246"/>
                  <a:pt x="108438" y="50246"/>
                  <a:pt x="108438" y="50246"/>
                </a:cubicBezTo>
                <a:cubicBezTo>
                  <a:pt x="108438" y="47487"/>
                  <a:pt x="111428" y="44729"/>
                  <a:pt x="114219" y="44729"/>
                </a:cubicBezTo>
                <a:close/>
                <a:moveTo>
                  <a:pt x="114219" y="33497"/>
                </a:moveTo>
                <a:lnTo>
                  <a:pt x="114219" y="33497"/>
                </a:lnTo>
                <a:cubicBezTo>
                  <a:pt x="111428" y="33497"/>
                  <a:pt x="108438" y="32118"/>
                  <a:pt x="108438" y="27980"/>
                </a:cubicBezTo>
                <a:lnTo>
                  <a:pt x="108438" y="27980"/>
                </a:lnTo>
                <a:cubicBezTo>
                  <a:pt x="108438" y="11231"/>
                  <a:pt x="108438" y="11231"/>
                  <a:pt x="108438" y="11231"/>
                </a:cubicBezTo>
                <a:cubicBezTo>
                  <a:pt x="91694" y="11231"/>
                  <a:pt x="91694" y="11231"/>
                  <a:pt x="91694" y="11231"/>
                </a:cubicBezTo>
                <a:lnTo>
                  <a:pt x="91694" y="11231"/>
                </a:lnTo>
                <a:cubicBezTo>
                  <a:pt x="88903" y="11231"/>
                  <a:pt x="85913" y="9852"/>
                  <a:pt x="85913" y="5714"/>
                </a:cubicBezTo>
                <a:cubicBezTo>
                  <a:pt x="85913" y="2955"/>
                  <a:pt x="88903" y="0"/>
                  <a:pt x="91694" y="0"/>
                </a:cubicBezTo>
                <a:lnTo>
                  <a:pt x="91694" y="0"/>
                </a:ln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27980"/>
                  <a:pt x="119800" y="27980"/>
                  <a:pt x="119800" y="27980"/>
                </a:cubicBezTo>
                <a:cubicBezTo>
                  <a:pt x="119800" y="32118"/>
                  <a:pt x="118405" y="33497"/>
                  <a:pt x="114219" y="33497"/>
                </a:cubicBezTo>
                <a:close/>
                <a:moveTo>
                  <a:pt x="81727" y="69753"/>
                </a:moveTo>
                <a:lnTo>
                  <a:pt x="81727" y="69753"/>
                </a:lnTo>
                <a:cubicBezTo>
                  <a:pt x="64784" y="87881"/>
                  <a:pt x="64784" y="87881"/>
                  <a:pt x="64784" y="87881"/>
                </a:cubicBezTo>
                <a:lnTo>
                  <a:pt x="64784" y="87881"/>
                </a:lnTo>
                <a:cubicBezTo>
                  <a:pt x="63388" y="89261"/>
                  <a:pt x="61993" y="89261"/>
                  <a:pt x="60598" y="89261"/>
                </a:cubicBezTo>
                <a:cubicBezTo>
                  <a:pt x="57807" y="89261"/>
                  <a:pt x="56411" y="89261"/>
                  <a:pt x="56411" y="87881"/>
                </a:cubicBezTo>
                <a:lnTo>
                  <a:pt x="56411" y="87881"/>
                </a:lnTo>
                <a:cubicBezTo>
                  <a:pt x="39468" y="69753"/>
                  <a:pt x="39468" y="69753"/>
                  <a:pt x="39468" y="69753"/>
                </a:cubicBezTo>
                <a:lnTo>
                  <a:pt x="39468" y="69753"/>
                </a:lnTo>
                <a:cubicBezTo>
                  <a:pt x="38073" y="68374"/>
                  <a:pt x="38073" y="66995"/>
                  <a:pt x="38073" y="65615"/>
                </a:cubicBezTo>
                <a:cubicBezTo>
                  <a:pt x="38073" y="62857"/>
                  <a:pt x="39468" y="59901"/>
                  <a:pt x="43654" y="59901"/>
                </a:cubicBezTo>
                <a:cubicBezTo>
                  <a:pt x="45049" y="59901"/>
                  <a:pt x="46445" y="61280"/>
                  <a:pt x="48039" y="61280"/>
                </a:cubicBezTo>
                <a:lnTo>
                  <a:pt x="48039" y="61280"/>
                </a:lnTo>
                <a:cubicBezTo>
                  <a:pt x="55016" y="69753"/>
                  <a:pt x="55016" y="69753"/>
                  <a:pt x="55016" y="69753"/>
                </a:cubicBezTo>
                <a:cubicBezTo>
                  <a:pt x="55016" y="36256"/>
                  <a:pt x="55016" y="36256"/>
                  <a:pt x="55016" y="36256"/>
                </a:cubicBezTo>
                <a:cubicBezTo>
                  <a:pt x="55016" y="32118"/>
                  <a:pt x="56411" y="30738"/>
                  <a:pt x="60598" y="30738"/>
                </a:cubicBezTo>
                <a:cubicBezTo>
                  <a:pt x="63388" y="30738"/>
                  <a:pt x="66378" y="32118"/>
                  <a:pt x="66378" y="36256"/>
                </a:cubicBezTo>
                <a:cubicBezTo>
                  <a:pt x="66378" y="69753"/>
                  <a:pt x="66378" y="69753"/>
                  <a:pt x="66378" y="69753"/>
                </a:cubicBezTo>
                <a:cubicBezTo>
                  <a:pt x="73355" y="61280"/>
                  <a:pt x="73355" y="61280"/>
                  <a:pt x="73355" y="61280"/>
                </a:cubicBezTo>
                <a:lnTo>
                  <a:pt x="73355" y="61280"/>
                </a:lnTo>
                <a:cubicBezTo>
                  <a:pt x="73355" y="61280"/>
                  <a:pt x="74750" y="59901"/>
                  <a:pt x="77541" y="59901"/>
                </a:cubicBezTo>
                <a:cubicBezTo>
                  <a:pt x="80332" y="59901"/>
                  <a:pt x="83122" y="62857"/>
                  <a:pt x="83122" y="65615"/>
                </a:cubicBezTo>
                <a:cubicBezTo>
                  <a:pt x="83122" y="66995"/>
                  <a:pt x="81727" y="68374"/>
                  <a:pt x="81727" y="69753"/>
                </a:cubicBezTo>
                <a:close/>
                <a:moveTo>
                  <a:pt x="69169" y="11231"/>
                </a:moveTo>
                <a:lnTo>
                  <a:pt x="69169" y="11231"/>
                </a:lnTo>
                <a:cubicBezTo>
                  <a:pt x="50830" y="11231"/>
                  <a:pt x="50830" y="11231"/>
                  <a:pt x="50830" y="11231"/>
                </a:cubicBezTo>
                <a:cubicBezTo>
                  <a:pt x="48039" y="11231"/>
                  <a:pt x="45049" y="9852"/>
                  <a:pt x="45049" y="5714"/>
                </a:cubicBezTo>
                <a:cubicBezTo>
                  <a:pt x="45049" y="2955"/>
                  <a:pt x="48039" y="0"/>
                  <a:pt x="50830" y="0"/>
                </a:cubicBezTo>
                <a:cubicBezTo>
                  <a:pt x="69169" y="0"/>
                  <a:pt x="69169" y="0"/>
                  <a:pt x="69169" y="0"/>
                </a:cubicBezTo>
                <a:cubicBezTo>
                  <a:pt x="73355" y="0"/>
                  <a:pt x="74750" y="2955"/>
                  <a:pt x="74750" y="5714"/>
                </a:cubicBezTo>
                <a:cubicBezTo>
                  <a:pt x="74750" y="9852"/>
                  <a:pt x="73355" y="11231"/>
                  <a:pt x="69169" y="11231"/>
                </a:cubicBezTo>
                <a:close/>
                <a:moveTo>
                  <a:pt x="28305" y="119802"/>
                </a:moveTo>
                <a:lnTo>
                  <a:pt x="28305" y="119802"/>
                </a:lnTo>
                <a:cubicBezTo>
                  <a:pt x="5780" y="119802"/>
                  <a:pt x="5780" y="119802"/>
                  <a:pt x="5780" y="119802"/>
                </a:cubicBezTo>
                <a:cubicBezTo>
                  <a:pt x="2990" y="119802"/>
                  <a:pt x="0" y="117044"/>
                  <a:pt x="0" y="114285"/>
                </a:cubicBezTo>
                <a:cubicBezTo>
                  <a:pt x="0" y="92019"/>
                  <a:pt x="0" y="92019"/>
                  <a:pt x="0" y="92019"/>
                </a:cubicBezTo>
                <a:lnTo>
                  <a:pt x="0" y="92019"/>
                </a:lnTo>
                <a:cubicBezTo>
                  <a:pt x="0" y="87881"/>
                  <a:pt x="2990" y="86502"/>
                  <a:pt x="5780" y="86502"/>
                </a:cubicBezTo>
                <a:cubicBezTo>
                  <a:pt x="8571" y="86502"/>
                  <a:pt x="11362" y="87881"/>
                  <a:pt x="11362" y="92019"/>
                </a:cubicBezTo>
                <a:cubicBezTo>
                  <a:pt x="11362" y="108768"/>
                  <a:pt x="11362" y="108768"/>
                  <a:pt x="11362" y="108768"/>
                </a:cubicBezTo>
                <a:cubicBezTo>
                  <a:pt x="28305" y="108768"/>
                  <a:pt x="28305" y="108768"/>
                  <a:pt x="28305" y="108768"/>
                </a:cubicBezTo>
                <a:cubicBezTo>
                  <a:pt x="31096" y="108768"/>
                  <a:pt x="33887" y="110147"/>
                  <a:pt x="33887" y="114285"/>
                </a:cubicBezTo>
                <a:cubicBezTo>
                  <a:pt x="33887" y="117044"/>
                  <a:pt x="31096" y="119802"/>
                  <a:pt x="28305" y="119802"/>
                </a:cubicBezTo>
                <a:close/>
                <a:moveTo>
                  <a:pt x="11362" y="50246"/>
                </a:moveTo>
                <a:lnTo>
                  <a:pt x="11362" y="50246"/>
                </a:lnTo>
                <a:cubicBezTo>
                  <a:pt x="11362" y="69753"/>
                  <a:pt x="11362" y="69753"/>
                  <a:pt x="11362" y="69753"/>
                </a:cubicBezTo>
                <a:cubicBezTo>
                  <a:pt x="11362" y="72512"/>
                  <a:pt x="8571" y="75270"/>
                  <a:pt x="5780" y="75270"/>
                </a:cubicBezTo>
                <a:cubicBezTo>
                  <a:pt x="2990" y="75270"/>
                  <a:pt x="0" y="72512"/>
                  <a:pt x="0" y="69753"/>
                </a:cubicBezTo>
                <a:cubicBezTo>
                  <a:pt x="0" y="50246"/>
                  <a:pt x="0" y="50246"/>
                  <a:pt x="0" y="50246"/>
                </a:cubicBezTo>
                <a:cubicBezTo>
                  <a:pt x="0" y="47487"/>
                  <a:pt x="2990" y="44729"/>
                  <a:pt x="5780" y="44729"/>
                </a:cubicBezTo>
                <a:cubicBezTo>
                  <a:pt x="8571" y="44729"/>
                  <a:pt x="11362" y="47487"/>
                  <a:pt x="11362" y="50246"/>
                </a:cubicBezTo>
                <a:close/>
                <a:moveTo>
                  <a:pt x="28305" y="11231"/>
                </a:moveTo>
                <a:lnTo>
                  <a:pt x="28305" y="11231"/>
                </a:lnTo>
                <a:lnTo>
                  <a:pt x="28305" y="11231"/>
                </a:lnTo>
                <a:cubicBezTo>
                  <a:pt x="11362" y="11231"/>
                  <a:pt x="11362" y="11231"/>
                  <a:pt x="11362" y="11231"/>
                </a:cubicBezTo>
                <a:cubicBezTo>
                  <a:pt x="11362" y="27980"/>
                  <a:pt x="11362" y="27980"/>
                  <a:pt x="11362" y="27980"/>
                </a:cubicBezTo>
                <a:cubicBezTo>
                  <a:pt x="11362" y="32118"/>
                  <a:pt x="8571" y="33497"/>
                  <a:pt x="5780" y="33497"/>
                </a:cubicBezTo>
                <a:cubicBezTo>
                  <a:pt x="2990" y="33497"/>
                  <a:pt x="0" y="32118"/>
                  <a:pt x="0" y="27980"/>
                </a:cubicBezTo>
                <a:lnTo>
                  <a:pt x="0" y="27980"/>
                </a:ln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990" y="0"/>
                  <a:pt x="5780" y="0"/>
                </a:cubicBezTo>
                <a:cubicBezTo>
                  <a:pt x="28305" y="0"/>
                  <a:pt x="28305" y="0"/>
                  <a:pt x="28305" y="0"/>
                </a:cubicBezTo>
                <a:lnTo>
                  <a:pt x="28305" y="0"/>
                </a:lnTo>
                <a:cubicBezTo>
                  <a:pt x="31096" y="0"/>
                  <a:pt x="33887" y="2955"/>
                  <a:pt x="33887" y="5714"/>
                </a:cubicBezTo>
                <a:cubicBezTo>
                  <a:pt x="33887" y="9852"/>
                  <a:pt x="31096" y="11231"/>
                  <a:pt x="28305" y="11231"/>
                </a:cubicBezTo>
                <a:close/>
                <a:moveTo>
                  <a:pt x="50830" y="108768"/>
                </a:moveTo>
                <a:lnTo>
                  <a:pt x="50830" y="108768"/>
                </a:lnTo>
                <a:cubicBezTo>
                  <a:pt x="69169" y="108768"/>
                  <a:pt x="69169" y="108768"/>
                  <a:pt x="69169" y="108768"/>
                </a:cubicBezTo>
                <a:cubicBezTo>
                  <a:pt x="73355" y="108768"/>
                  <a:pt x="74750" y="110147"/>
                  <a:pt x="74750" y="114285"/>
                </a:cubicBezTo>
                <a:cubicBezTo>
                  <a:pt x="74750" y="117044"/>
                  <a:pt x="73355" y="119802"/>
                  <a:pt x="69169" y="119802"/>
                </a:cubicBezTo>
                <a:cubicBezTo>
                  <a:pt x="50830" y="119802"/>
                  <a:pt x="50830" y="119802"/>
                  <a:pt x="50830" y="119802"/>
                </a:cubicBezTo>
                <a:cubicBezTo>
                  <a:pt x="48039" y="119802"/>
                  <a:pt x="45049" y="117044"/>
                  <a:pt x="45049" y="114285"/>
                </a:cubicBezTo>
                <a:cubicBezTo>
                  <a:pt x="45049" y="110147"/>
                  <a:pt x="48039" y="108768"/>
                  <a:pt x="50830" y="10876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Shape 4892"/>
          <p:cNvSpPr/>
          <p:nvPr/>
        </p:nvSpPr>
        <p:spPr>
          <a:xfrm>
            <a:off x="5653080" y="5087880"/>
            <a:ext cx="285840" cy="287280"/>
          </a:xfrm>
          <a:custGeom>
            <a:avLst/>
            <a:gdLst>
              <a:gd name="textAreaLeft" fmla="*/ 0 w 285840"/>
              <a:gd name="textAreaRight" fmla="*/ 286200 w 285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2"/>
                </a:moveTo>
                <a:lnTo>
                  <a:pt x="114219" y="119802"/>
                </a:lnTo>
                <a:cubicBezTo>
                  <a:pt x="91694" y="119802"/>
                  <a:pt x="91694" y="119802"/>
                  <a:pt x="91694" y="119802"/>
                </a:cubicBezTo>
                <a:cubicBezTo>
                  <a:pt x="88903" y="119802"/>
                  <a:pt x="85913" y="117044"/>
                  <a:pt x="85913" y="114285"/>
                </a:cubicBezTo>
                <a:cubicBezTo>
                  <a:pt x="85913" y="110147"/>
                  <a:pt x="88903" y="108768"/>
                  <a:pt x="91694" y="108768"/>
                </a:cubicBezTo>
                <a:cubicBezTo>
                  <a:pt x="108438" y="108768"/>
                  <a:pt x="108438" y="108768"/>
                  <a:pt x="108438" y="108768"/>
                </a:cubicBezTo>
                <a:cubicBezTo>
                  <a:pt x="108438" y="92019"/>
                  <a:pt x="108438" y="92019"/>
                  <a:pt x="108438" y="92019"/>
                </a:cubicBezTo>
                <a:lnTo>
                  <a:pt x="108438" y="92019"/>
                </a:lnTo>
                <a:cubicBezTo>
                  <a:pt x="108438" y="87881"/>
                  <a:pt x="111428" y="86502"/>
                  <a:pt x="114219" y="86502"/>
                </a:cubicBezTo>
                <a:cubicBezTo>
                  <a:pt x="117009" y="86502"/>
                  <a:pt x="119800" y="87881"/>
                  <a:pt x="119800" y="92019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9" y="119802"/>
                  <a:pt x="114219" y="119802"/>
                </a:cubicBezTo>
                <a:close/>
                <a:moveTo>
                  <a:pt x="114219" y="44729"/>
                </a:moveTo>
                <a:lnTo>
                  <a:pt x="114219" y="44729"/>
                </a:lnTo>
                <a:cubicBezTo>
                  <a:pt x="117009" y="44729"/>
                  <a:pt x="119800" y="47487"/>
                  <a:pt x="119800" y="50246"/>
                </a:cubicBezTo>
                <a:cubicBezTo>
                  <a:pt x="119800" y="69753"/>
                  <a:pt x="119800" y="69753"/>
                  <a:pt x="119800" y="69753"/>
                </a:cubicBezTo>
                <a:cubicBezTo>
                  <a:pt x="119800" y="72512"/>
                  <a:pt x="117009" y="75270"/>
                  <a:pt x="114219" y="75270"/>
                </a:cubicBezTo>
                <a:cubicBezTo>
                  <a:pt x="111428" y="75270"/>
                  <a:pt x="108438" y="72512"/>
                  <a:pt x="108438" y="69753"/>
                </a:cubicBezTo>
                <a:cubicBezTo>
                  <a:pt x="108438" y="50246"/>
                  <a:pt x="108438" y="50246"/>
                  <a:pt x="108438" y="50246"/>
                </a:cubicBezTo>
                <a:cubicBezTo>
                  <a:pt x="108438" y="47487"/>
                  <a:pt x="111428" y="44729"/>
                  <a:pt x="114219" y="44729"/>
                </a:cubicBezTo>
                <a:close/>
                <a:moveTo>
                  <a:pt x="114219" y="33497"/>
                </a:moveTo>
                <a:lnTo>
                  <a:pt x="114219" y="33497"/>
                </a:lnTo>
                <a:cubicBezTo>
                  <a:pt x="111428" y="33497"/>
                  <a:pt x="108438" y="32118"/>
                  <a:pt x="108438" y="27980"/>
                </a:cubicBezTo>
                <a:lnTo>
                  <a:pt x="108438" y="27980"/>
                </a:lnTo>
                <a:cubicBezTo>
                  <a:pt x="108438" y="11231"/>
                  <a:pt x="108438" y="11231"/>
                  <a:pt x="108438" y="11231"/>
                </a:cubicBezTo>
                <a:cubicBezTo>
                  <a:pt x="91694" y="11231"/>
                  <a:pt x="91694" y="11231"/>
                  <a:pt x="91694" y="11231"/>
                </a:cubicBezTo>
                <a:lnTo>
                  <a:pt x="91694" y="11231"/>
                </a:lnTo>
                <a:cubicBezTo>
                  <a:pt x="88903" y="11231"/>
                  <a:pt x="85913" y="9852"/>
                  <a:pt x="85913" y="5714"/>
                </a:cubicBezTo>
                <a:cubicBezTo>
                  <a:pt x="85913" y="2955"/>
                  <a:pt x="88903" y="0"/>
                  <a:pt x="91694" y="0"/>
                </a:cubicBezTo>
                <a:lnTo>
                  <a:pt x="91694" y="0"/>
                </a:ln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2955"/>
                  <a:pt x="119800" y="5714"/>
                </a:cubicBezTo>
                <a:cubicBezTo>
                  <a:pt x="119800" y="27980"/>
                  <a:pt x="119800" y="27980"/>
                  <a:pt x="119800" y="27980"/>
                </a:cubicBezTo>
                <a:cubicBezTo>
                  <a:pt x="119800" y="32118"/>
                  <a:pt x="117009" y="33497"/>
                  <a:pt x="114219" y="33497"/>
                </a:cubicBezTo>
                <a:close/>
                <a:moveTo>
                  <a:pt x="69169" y="119802"/>
                </a:moveTo>
                <a:lnTo>
                  <a:pt x="69169" y="119802"/>
                </a:lnTo>
                <a:cubicBezTo>
                  <a:pt x="50830" y="119802"/>
                  <a:pt x="50830" y="119802"/>
                  <a:pt x="50830" y="119802"/>
                </a:cubicBezTo>
                <a:cubicBezTo>
                  <a:pt x="46445" y="119802"/>
                  <a:pt x="45049" y="117044"/>
                  <a:pt x="45049" y="114285"/>
                </a:cubicBezTo>
                <a:cubicBezTo>
                  <a:pt x="45049" y="110147"/>
                  <a:pt x="46445" y="108768"/>
                  <a:pt x="50830" y="108768"/>
                </a:cubicBezTo>
                <a:cubicBezTo>
                  <a:pt x="69169" y="108768"/>
                  <a:pt x="69169" y="108768"/>
                  <a:pt x="69169" y="108768"/>
                </a:cubicBezTo>
                <a:cubicBezTo>
                  <a:pt x="71960" y="108768"/>
                  <a:pt x="74750" y="110147"/>
                  <a:pt x="74750" y="114285"/>
                </a:cubicBezTo>
                <a:cubicBezTo>
                  <a:pt x="74750" y="117044"/>
                  <a:pt x="71960" y="119802"/>
                  <a:pt x="69169" y="119802"/>
                </a:cubicBezTo>
                <a:close/>
                <a:moveTo>
                  <a:pt x="69169" y="11231"/>
                </a:moveTo>
                <a:lnTo>
                  <a:pt x="69169" y="11231"/>
                </a:lnTo>
                <a:cubicBezTo>
                  <a:pt x="50830" y="11231"/>
                  <a:pt x="50830" y="11231"/>
                  <a:pt x="50830" y="11231"/>
                </a:cubicBezTo>
                <a:cubicBezTo>
                  <a:pt x="46445" y="11231"/>
                  <a:pt x="45049" y="9852"/>
                  <a:pt x="45049" y="5714"/>
                </a:cubicBezTo>
                <a:cubicBezTo>
                  <a:pt x="45049" y="2955"/>
                  <a:pt x="46445" y="0"/>
                  <a:pt x="50830" y="0"/>
                </a:cubicBezTo>
                <a:cubicBezTo>
                  <a:pt x="69169" y="0"/>
                  <a:pt x="69169" y="0"/>
                  <a:pt x="69169" y="0"/>
                </a:cubicBezTo>
                <a:cubicBezTo>
                  <a:pt x="71960" y="0"/>
                  <a:pt x="74750" y="2955"/>
                  <a:pt x="74750" y="5714"/>
                </a:cubicBezTo>
                <a:cubicBezTo>
                  <a:pt x="74750" y="9852"/>
                  <a:pt x="71960" y="11231"/>
                  <a:pt x="69169" y="11231"/>
                </a:cubicBezTo>
                <a:close/>
                <a:moveTo>
                  <a:pt x="28305" y="119802"/>
                </a:moveTo>
                <a:lnTo>
                  <a:pt x="28305" y="119802"/>
                </a:lnTo>
                <a:cubicBezTo>
                  <a:pt x="5780" y="119802"/>
                  <a:pt x="5780" y="119802"/>
                  <a:pt x="5780" y="119802"/>
                </a:cubicBezTo>
                <a:cubicBezTo>
                  <a:pt x="1395" y="119802"/>
                  <a:pt x="0" y="117044"/>
                  <a:pt x="0" y="114285"/>
                </a:cubicBezTo>
                <a:cubicBezTo>
                  <a:pt x="0" y="92019"/>
                  <a:pt x="0" y="92019"/>
                  <a:pt x="0" y="92019"/>
                </a:cubicBezTo>
                <a:lnTo>
                  <a:pt x="0" y="92019"/>
                </a:lnTo>
                <a:cubicBezTo>
                  <a:pt x="0" y="87881"/>
                  <a:pt x="1395" y="86502"/>
                  <a:pt x="5780" y="86502"/>
                </a:cubicBezTo>
                <a:cubicBezTo>
                  <a:pt x="8571" y="86502"/>
                  <a:pt x="11362" y="87881"/>
                  <a:pt x="11362" y="92019"/>
                </a:cubicBezTo>
                <a:cubicBezTo>
                  <a:pt x="11362" y="108768"/>
                  <a:pt x="11362" y="108768"/>
                  <a:pt x="11362" y="108768"/>
                </a:cubicBezTo>
                <a:cubicBezTo>
                  <a:pt x="28305" y="108768"/>
                  <a:pt x="28305" y="108768"/>
                  <a:pt x="28305" y="108768"/>
                </a:cubicBezTo>
                <a:cubicBezTo>
                  <a:pt x="31096" y="108768"/>
                  <a:pt x="33887" y="110147"/>
                  <a:pt x="33887" y="114285"/>
                </a:cubicBezTo>
                <a:cubicBezTo>
                  <a:pt x="33887" y="117044"/>
                  <a:pt x="31096" y="119802"/>
                  <a:pt x="28305" y="119802"/>
                </a:cubicBezTo>
                <a:close/>
                <a:moveTo>
                  <a:pt x="11362" y="50246"/>
                </a:moveTo>
                <a:lnTo>
                  <a:pt x="11362" y="50246"/>
                </a:lnTo>
                <a:cubicBezTo>
                  <a:pt x="11362" y="69753"/>
                  <a:pt x="11362" y="69753"/>
                  <a:pt x="11362" y="69753"/>
                </a:cubicBezTo>
                <a:cubicBezTo>
                  <a:pt x="11362" y="72512"/>
                  <a:pt x="8571" y="75270"/>
                  <a:pt x="5780" y="75270"/>
                </a:cubicBezTo>
                <a:cubicBezTo>
                  <a:pt x="1395" y="75270"/>
                  <a:pt x="0" y="72512"/>
                  <a:pt x="0" y="69753"/>
                </a:cubicBezTo>
                <a:cubicBezTo>
                  <a:pt x="0" y="50246"/>
                  <a:pt x="0" y="50246"/>
                  <a:pt x="0" y="50246"/>
                </a:cubicBezTo>
                <a:cubicBezTo>
                  <a:pt x="0" y="47487"/>
                  <a:pt x="1395" y="44729"/>
                  <a:pt x="5780" y="44729"/>
                </a:cubicBezTo>
                <a:cubicBezTo>
                  <a:pt x="8571" y="44729"/>
                  <a:pt x="11362" y="47487"/>
                  <a:pt x="11362" y="50246"/>
                </a:cubicBezTo>
                <a:close/>
                <a:moveTo>
                  <a:pt x="28305" y="11231"/>
                </a:moveTo>
                <a:lnTo>
                  <a:pt x="28305" y="11231"/>
                </a:lnTo>
                <a:lnTo>
                  <a:pt x="28305" y="11231"/>
                </a:lnTo>
                <a:cubicBezTo>
                  <a:pt x="11362" y="11231"/>
                  <a:pt x="11362" y="11231"/>
                  <a:pt x="11362" y="11231"/>
                </a:cubicBezTo>
                <a:cubicBezTo>
                  <a:pt x="11362" y="27980"/>
                  <a:pt x="11362" y="27980"/>
                  <a:pt x="11362" y="27980"/>
                </a:cubicBezTo>
                <a:cubicBezTo>
                  <a:pt x="11362" y="32118"/>
                  <a:pt x="8571" y="33497"/>
                  <a:pt x="5780" y="33497"/>
                </a:cubicBezTo>
                <a:cubicBezTo>
                  <a:pt x="1395" y="33497"/>
                  <a:pt x="0" y="32118"/>
                  <a:pt x="0" y="27980"/>
                </a:cubicBezTo>
                <a:lnTo>
                  <a:pt x="0" y="27980"/>
                </a:ln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1395" y="0"/>
                  <a:pt x="5780" y="0"/>
                </a:cubicBezTo>
                <a:cubicBezTo>
                  <a:pt x="28305" y="0"/>
                  <a:pt x="28305" y="0"/>
                  <a:pt x="28305" y="0"/>
                </a:cubicBezTo>
                <a:lnTo>
                  <a:pt x="28305" y="0"/>
                </a:lnTo>
                <a:cubicBezTo>
                  <a:pt x="31096" y="0"/>
                  <a:pt x="33887" y="2955"/>
                  <a:pt x="33887" y="5714"/>
                </a:cubicBezTo>
                <a:cubicBezTo>
                  <a:pt x="33887" y="9852"/>
                  <a:pt x="31096" y="11231"/>
                  <a:pt x="28305" y="1123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Shape 4893"/>
          <p:cNvSpPr/>
          <p:nvPr/>
        </p:nvSpPr>
        <p:spPr>
          <a:xfrm>
            <a:off x="5151600" y="5095800"/>
            <a:ext cx="288720" cy="276480"/>
          </a:xfrm>
          <a:custGeom>
            <a:avLst/>
            <a:gdLst>
              <a:gd name="textAreaLeft" fmla="*/ 0 w 288720"/>
              <a:gd name="textAreaRight" fmla="*/ 289080 w 28872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5793"/>
                  <a:pt x="0" y="5793"/>
                  <a:pt x="0" y="5793"/>
                </a:cubicBezTo>
                <a:cubicBezTo>
                  <a:pt x="0" y="1448"/>
                  <a:pt x="2758" y="0"/>
                  <a:pt x="5517" y="0"/>
                </a:cubicBezTo>
                <a:cubicBezTo>
                  <a:pt x="11231" y="0"/>
                  <a:pt x="11231" y="0"/>
                  <a:pt x="11231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22266" y="5793"/>
                  <a:pt x="22266" y="5793"/>
                  <a:pt x="22266" y="5793"/>
                </a:cubicBezTo>
                <a:cubicBezTo>
                  <a:pt x="22266" y="7241"/>
                  <a:pt x="22266" y="7241"/>
                  <a:pt x="22266" y="7241"/>
                </a:cubicBezTo>
                <a:lnTo>
                  <a:pt x="22266" y="7241"/>
                </a:lnTo>
                <a:cubicBezTo>
                  <a:pt x="22266" y="29172"/>
                  <a:pt x="22266" y="29172"/>
                  <a:pt x="22266" y="29172"/>
                </a:cubicBezTo>
                <a:lnTo>
                  <a:pt x="22266" y="29172"/>
                </a:lnTo>
                <a:cubicBezTo>
                  <a:pt x="22266" y="34965"/>
                  <a:pt x="22266" y="34965"/>
                  <a:pt x="22266" y="34965"/>
                </a:cubicBezTo>
                <a:cubicBezTo>
                  <a:pt x="22266" y="46758"/>
                  <a:pt x="22266" y="46758"/>
                  <a:pt x="22266" y="46758"/>
                </a:cubicBezTo>
                <a:cubicBezTo>
                  <a:pt x="22266" y="52551"/>
                  <a:pt x="27783" y="58344"/>
                  <a:pt x="33497" y="58344"/>
                </a:cubicBezTo>
                <a:cubicBezTo>
                  <a:pt x="82167" y="58344"/>
                  <a:pt x="82167" y="58344"/>
                  <a:pt x="82167" y="58344"/>
                </a:cubicBezTo>
                <a:cubicBezTo>
                  <a:pt x="89064" y="58344"/>
                  <a:pt x="93399" y="52551"/>
                  <a:pt x="93399" y="46758"/>
                </a:cubicBezTo>
                <a:cubicBezTo>
                  <a:pt x="93399" y="34965"/>
                  <a:pt x="93399" y="34965"/>
                  <a:pt x="93399" y="34965"/>
                </a:cubicBezTo>
                <a:cubicBezTo>
                  <a:pt x="93399" y="29172"/>
                  <a:pt x="93399" y="29172"/>
                  <a:pt x="93399" y="29172"/>
                </a:cubicBezTo>
                <a:lnTo>
                  <a:pt x="93399" y="29172"/>
                </a:lnTo>
                <a:cubicBezTo>
                  <a:pt x="93399" y="11586"/>
                  <a:pt x="93399" y="11586"/>
                  <a:pt x="93399" y="11586"/>
                </a:cubicBezTo>
                <a:cubicBezTo>
                  <a:pt x="93399" y="7241"/>
                  <a:pt x="93399" y="7241"/>
                  <a:pt x="93399" y="7241"/>
                </a:cubicBezTo>
                <a:lnTo>
                  <a:pt x="93399" y="7241"/>
                </a:lnTo>
                <a:cubicBezTo>
                  <a:pt x="93399" y="5793"/>
                  <a:pt x="93399" y="5793"/>
                  <a:pt x="93399" y="5793"/>
                </a:cubicBezTo>
                <a:cubicBezTo>
                  <a:pt x="93399" y="0"/>
                  <a:pt x="93399" y="0"/>
                  <a:pt x="93399" y="0"/>
                </a:cubicBezTo>
                <a:cubicBezTo>
                  <a:pt x="94778" y="0"/>
                  <a:pt x="94778" y="0"/>
                  <a:pt x="94778" y="0"/>
                </a:cubicBezTo>
                <a:cubicBezTo>
                  <a:pt x="97536" y="0"/>
                  <a:pt x="97536" y="0"/>
                  <a:pt x="97536" y="0"/>
                </a:cubicBezTo>
                <a:lnTo>
                  <a:pt x="97536" y="0"/>
                </a:lnTo>
                <a:cubicBezTo>
                  <a:pt x="98916" y="0"/>
                  <a:pt x="100295" y="0"/>
                  <a:pt x="100295" y="1448"/>
                </a:cubicBezTo>
                <a:lnTo>
                  <a:pt x="100295" y="1448"/>
                </a:lnTo>
                <a:cubicBezTo>
                  <a:pt x="117044" y="18827"/>
                  <a:pt x="117044" y="18827"/>
                  <a:pt x="117044" y="18827"/>
                </a:cubicBezTo>
                <a:lnTo>
                  <a:pt x="117044" y="18827"/>
                </a:lnTo>
                <a:cubicBezTo>
                  <a:pt x="118423" y="20275"/>
                  <a:pt x="119802" y="21931"/>
                  <a:pt x="119802" y="23379"/>
                </a:cubicBezTo>
                <a:lnTo>
                  <a:pt x="119802" y="114000"/>
                </a:lnTo>
                <a:close/>
                <a:moveTo>
                  <a:pt x="87684" y="46758"/>
                </a:moveTo>
                <a:lnTo>
                  <a:pt x="87684" y="46758"/>
                </a:lnTo>
                <a:cubicBezTo>
                  <a:pt x="87684" y="49655"/>
                  <a:pt x="84926" y="52551"/>
                  <a:pt x="82167" y="52551"/>
                </a:cubicBezTo>
                <a:cubicBezTo>
                  <a:pt x="75270" y="52551"/>
                  <a:pt x="75270" y="52551"/>
                  <a:pt x="75270" y="52551"/>
                </a:cubicBezTo>
                <a:lnTo>
                  <a:pt x="75270" y="52551"/>
                </a:lnTo>
                <a:cubicBezTo>
                  <a:pt x="41773" y="52551"/>
                  <a:pt x="41773" y="52551"/>
                  <a:pt x="41773" y="52551"/>
                </a:cubicBezTo>
                <a:lnTo>
                  <a:pt x="41773" y="52551"/>
                </a:lnTo>
                <a:cubicBezTo>
                  <a:pt x="33497" y="52551"/>
                  <a:pt x="33497" y="52551"/>
                  <a:pt x="33497" y="52551"/>
                </a:cubicBezTo>
                <a:cubicBezTo>
                  <a:pt x="30738" y="52551"/>
                  <a:pt x="27783" y="49655"/>
                  <a:pt x="27783" y="46758"/>
                </a:cubicBezTo>
                <a:cubicBezTo>
                  <a:pt x="27783" y="34965"/>
                  <a:pt x="27783" y="34965"/>
                  <a:pt x="27783" y="34965"/>
                </a:cubicBezTo>
                <a:lnTo>
                  <a:pt x="27783" y="34965"/>
                </a:lnTo>
                <a:cubicBezTo>
                  <a:pt x="27783" y="0"/>
                  <a:pt x="27783" y="0"/>
                  <a:pt x="27783" y="0"/>
                </a:cubicBezTo>
                <a:cubicBezTo>
                  <a:pt x="87684" y="0"/>
                  <a:pt x="87684" y="0"/>
                  <a:pt x="87684" y="0"/>
                </a:cubicBezTo>
                <a:cubicBezTo>
                  <a:pt x="87684" y="34965"/>
                  <a:pt x="87684" y="34965"/>
                  <a:pt x="87684" y="34965"/>
                </a:cubicBezTo>
                <a:lnTo>
                  <a:pt x="87684" y="34965"/>
                </a:lnTo>
                <a:lnTo>
                  <a:pt x="87684" y="46758"/>
                </a:lnTo>
                <a:close/>
                <a:moveTo>
                  <a:pt x="76650" y="7241"/>
                </a:moveTo>
                <a:lnTo>
                  <a:pt x="76650" y="7241"/>
                </a:lnTo>
                <a:cubicBezTo>
                  <a:pt x="59901" y="7241"/>
                  <a:pt x="59901" y="7241"/>
                  <a:pt x="59901" y="7241"/>
                </a:cubicBezTo>
                <a:cubicBezTo>
                  <a:pt x="59901" y="43862"/>
                  <a:pt x="59901" y="43862"/>
                  <a:pt x="59901" y="43862"/>
                </a:cubicBezTo>
                <a:cubicBezTo>
                  <a:pt x="76650" y="43862"/>
                  <a:pt x="76650" y="43862"/>
                  <a:pt x="76650" y="43862"/>
                </a:cubicBezTo>
                <a:lnTo>
                  <a:pt x="76650" y="7241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Shape 4894"/>
          <p:cNvSpPr/>
          <p:nvPr/>
        </p:nvSpPr>
        <p:spPr>
          <a:xfrm>
            <a:off x="4653000" y="5129280"/>
            <a:ext cx="285840" cy="209520"/>
          </a:xfrm>
          <a:custGeom>
            <a:avLst/>
            <a:gdLst>
              <a:gd name="textAreaLeft" fmla="*/ 0 w 285840"/>
              <a:gd name="textAreaRight" fmla="*/ 286200 w 28584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26"/>
                </a:moveTo>
                <a:lnTo>
                  <a:pt x="114019" y="119726"/>
                </a:lnTo>
                <a:cubicBezTo>
                  <a:pt x="108438" y="119726"/>
                  <a:pt x="108438" y="119726"/>
                  <a:pt x="108438" y="119726"/>
                </a:cubicBezTo>
                <a:cubicBezTo>
                  <a:pt x="107043" y="119726"/>
                  <a:pt x="107043" y="119726"/>
                  <a:pt x="107043" y="119726"/>
                </a:cubicBezTo>
                <a:cubicBezTo>
                  <a:pt x="98671" y="119726"/>
                  <a:pt x="98671" y="119726"/>
                  <a:pt x="98671" y="119726"/>
                </a:cubicBezTo>
                <a:cubicBezTo>
                  <a:pt x="90099" y="88838"/>
                  <a:pt x="90099" y="88838"/>
                  <a:pt x="90099" y="88838"/>
                </a:cubicBezTo>
                <a:lnTo>
                  <a:pt x="90099" y="88838"/>
                </a:lnTo>
                <a:cubicBezTo>
                  <a:pt x="88704" y="85011"/>
                  <a:pt x="87308" y="83097"/>
                  <a:pt x="84518" y="83097"/>
                </a:cubicBezTo>
                <a:cubicBezTo>
                  <a:pt x="35282" y="83097"/>
                  <a:pt x="35282" y="83097"/>
                  <a:pt x="35282" y="83097"/>
                </a:cubicBezTo>
                <a:cubicBezTo>
                  <a:pt x="33887" y="83097"/>
                  <a:pt x="31096" y="85011"/>
                  <a:pt x="31096" y="88838"/>
                </a:cubicBezTo>
                <a:lnTo>
                  <a:pt x="31096" y="88838"/>
                </a:lnTo>
                <a:cubicBezTo>
                  <a:pt x="21129" y="119726"/>
                  <a:pt x="21129" y="119726"/>
                  <a:pt x="21129" y="119726"/>
                </a:cubicBezTo>
                <a:cubicBezTo>
                  <a:pt x="12757" y="119726"/>
                  <a:pt x="12757" y="119726"/>
                  <a:pt x="12757" y="119726"/>
                </a:cubicBezTo>
                <a:cubicBezTo>
                  <a:pt x="11362" y="119726"/>
                  <a:pt x="11362" y="119726"/>
                  <a:pt x="11362" y="119726"/>
                </a:cubicBezTo>
                <a:cubicBezTo>
                  <a:pt x="5581" y="119726"/>
                  <a:pt x="5581" y="119726"/>
                  <a:pt x="5581" y="119726"/>
                </a:cubicBezTo>
                <a:cubicBezTo>
                  <a:pt x="2790" y="119726"/>
                  <a:pt x="0" y="115899"/>
                  <a:pt x="0" y="112072"/>
                </a:cubicBezTo>
                <a:cubicBezTo>
                  <a:pt x="0" y="7653"/>
                  <a:pt x="0" y="7653"/>
                  <a:pt x="0" y="7653"/>
                </a:cubicBezTo>
                <a:cubicBezTo>
                  <a:pt x="0" y="3826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3826"/>
                  <a:pt x="119800" y="7653"/>
                </a:cubicBezTo>
                <a:cubicBezTo>
                  <a:pt x="119800" y="112072"/>
                  <a:pt x="119800" y="112072"/>
                  <a:pt x="119800" y="112072"/>
                </a:cubicBezTo>
                <a:cubicBezTo>
                  <a:pt x="119800" y="115899"/>
                  <a:pt x="118405" y="119726"/>
                  <a:pt x="114019" y="119726"/>
                </a:cubicBezTo>
                <a:close/>
                <a:moveTo>
                  <a:pt x="29501" y="38815"/>
                </a:moveTo>
                <a:lnTo>
                  <a:pt x="29501" y="38815"/>
                </a:lnTo>
                <a:cubicBezTo>
                  <a:pt x="25315" y="38815"/>
                  <a:pt x="22524" y="44555"/>
                  <a:pt x="22524" y="50296"/>
                </a:cubicBezTo>
                <a:cubicBezTo>
                  <a:pt x="22524" y="56036"/>
                  <a:pt x="25315" y="59863"/>
                  <a:pt x="29501" y="59863"/>
                </a:cubicBezTo>
                <a:cubicBezTo>
                  <a:pt x="33887" y="59863"/>
                  <a:pt x="38073" y="56036"/>
                  <a:pt x="38073" y="50296"/>
                </a:cubicBezTo>
                <a:cubicBezTo>
                  <a:pt x="38073" y="44555"/>
                  <a:pt x="33887" y="38815"/>
                  <a:pt x="29501" y="38815"/>
                </a:cubicBezTo>
                <a:close/>
                <a:moveTo>
                  <a:pt x="74750" y="38815"/>
                </a:moveTo>
                <a:lnTo>
                  <a:pt x="74750" y="38815"/>
                </a:lnTo>
                <a:cubicBezTo>
                  <a:pt x="45049" y="38815"/>
                  <a:pt x="45049" y="38815"/>
                  <a:pt x="45049" y="38815"/>
                </a:cubicBezTo>
                <a:cubicBezTo>
                  <a:pt x="45049" y="59863"/>
                  <a:pt x="45049" y="59863"/>
                  <a:pt x="45049" y="59863"/>
                </a:cubicBezTo>
                <a:cubicBezTo>
                  <a:pt x="74750" y="59863"/>
                  <a:pt x="74750" y="59863"/>
                  <a:pt x="74750" y="59863"/>
                </a:cubicBezTo>
                <a:lnTo>
                  <a:pt x="74750" y="38815"/>
                </a:lnTo>
                <a:close/>
                <a:moveTo>
                  <a:pt x="90099" y="38815"/>
                </a:moveTo>
                <a:lnTo>
                  <a:pt x="90099" y="38815"/>
                </a:lnTo>
                <a:cubicBezTo>
                  <a:pt x="85913" y="38815"/>
                  <a:pt x="83122" y="44555"/>
                  <a:pt x="83122" y="50296"/>
                </a:cubicBezTo>
                <a:cubicBezTo>
                  <a:pt x="83122" y="56036"/>
                  <a:pt x="85913" y="59863"/>
                  <a:pt x="90099" y="59863"/>
                </a:cubicBezTo>
                <a:cubicBezTo>
                  <a:pt x="94485" y="59863"/>
                  <a:pt x="97275" y="56036"/>
                  <a:pt x="97275" y="50296"/>
                </a:cubicBezTo>
                <a:cubicBezTo>
                  <a:pt x="97275" y="44555"/>
                  <a:pt x="94485" y="38815"/>
                  <a:pt x="90099" y="38815"/>
                </a:cubicBezTo>
                <a:close/>
                <a:moveTo>
                  <a:pt x="33887" y="96765"/>
                </a:moveTo>
                <a:lnTo>
                  <a:pt x="33887" y="96765"/>
                </a:lnTo>
                <a:cubicBezTo>
                  <a:pt x="35282" y="92665"/>
                  <a:pt x="36677" y="90751"/>
                  <a:pt x="39468" y="90751"/>
                </a:cubicBezTo>
                <a:cubicBezTo>
                  <a:pt x="80332" y="90751"/>
                  <a:pt x="80332" y="90751"/>
                  <a:pt x="80332" y="90751"/>
                </a:cubicBezTo>
                <a:cubicBezTo>
                  <a:pt x="83122" y="90751"/>
                  <a:pt x="85913" y="92665"/>
                  <a:pt x="85913" y="96765"/>
                </a:cubicBezTo>
                <a:lnTo>
                  <a:pt x="85913" y="96765"/>
                </a:lnTo>
                <a:cubicBezTo>
                  <a:pt x="91495" y="119726"/>
                  <a:pt x="91495" y="119726"/>
                  <a:pt x="91495" y="119726"/>
                </a:cubicBezTo>
                <a:cubicBezTo>
                  <a:pt x="80332" y="119726"/>
                  <a:pt x="80332" y="119726"/>
                  <a:pt x="80332" y="119726"/>
                </a:cubicBezTo>
                <a:lnTo>
                  <a:pt x="80332" y="119726"/>
                </a:lnTo>
                <a:cubicBezTo>
                  <a:pt x="39468" y="119726"/>
                  <a:pt x="39468" y="119726"/>
                  <a:pt x="39468" y="119726"/>
                </a:cubicBezTo>
                <a:lnTo>
                  <a:pt x="39468" y="119726"/>
                </a:lnTo>
                <a:cubicBezTo>
                  <a:pt x="28106" y="119726"/>
                  <a:pt x="28106" y="119726"/>
                  <a:pt x="28106" y="119726"/>
                </a:cubicBezTo>
                <a:cubicBezTo>
                  <a:pt x="33887" y="96765"/>
                  <a:pt x="33887" y="96765"/>
                  <a:pt x="33887" y="96765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Shape 4895"/>
          <p:cNvSpPr/>
          <p:nvPr/>
        </p:nvSpPr>
        <p:spPr>
          <a:xfrm>
            <a:off x="10220400" y="459900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119800" y="60598"/>
                </a:moveTo>
                <a:lnTo>
                  <a:pt x="119800" y="60598"/>
                </a:lnTo>
                <a:cubicBezTo>
                  <a:pt x="119800" y="114219"/>
                  <a:pt x="119800" y="114219"/>
                  <a:pt x="119800" y="114219"/>
                </a:cubicBezTo>
                <a:cubicBezTo>
                  <a:pt x="119800" y="118405"/>
                  <a:pt x="117009" y="119800"/>
                  <a:pt x="114219" y="119800"/>
                </a:cubicBezTo>
                <a:cubicBezTo>
                  <a:pt x="59202" y="119800"/>
                  <a:pt x="59202" y="119800"/>
                  <a:pt x="59202" y="119800"/>
                </a:cubicBezTo>
                <a:lnTo>
                  <a:pt x="59202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60598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438"/>
                  <a:pt x="59202" y="108438"/>
                </a:cubicBezTo>
                <a:lnTo>
                  <a:pt x="59202" y="108438"/>
                </a:lnTo>
                <a:lnTo>
                  <a:pt x="59202" y="108438"/>
                </a:lnTo>
                <a:cubicBezTo>
                  <a:pt x="85913" y="108438"/>
                  <a:pt x="108438" y="87508"/>
                  <a:pt x="108438" y="60598"/>
                </a:cubicBezTo>
                <a:lnTo>
                  <a:pt x="108438" y="60598"/>
                </a:lnTo>
                <a:lnTo>
                  <a:pt x="108438" y="60598"/>
                </a:ln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84518" y="66378"/>
                </a:moveTo>
                <a:lnTo>
                  <a:pt x="84518" y="66378"/>
                </a:lnTo>
                <a:cubicBezTo>
                  <a:pt x="80332" y="66378"/>
                  <a:pt x="80332" y="66378"/>
                  <a:pt x="80332" y="66378"/>
                </a:cubicBezTo>
                <a:lnTo>
                  <a:pt x="80332" y="66378"/>
                </a:lnTo>
                <a:cubicBezTo>
                  <a:pt x="45049" y="66378"/>
                  <a:pt x="45049" y="66378"/>
                  <a:pt x="45049" y="66378"/>
                </a:cubicBezTo>
                <a:lnTo>
                  <a:pt x="45049" y="66378"/>
                </a:lnTo>
                <a:cubicBezTo>
                  <a:pt x="35282" y="66378"/>
                  <a:pt x="35282" y="66378"/>
                  <a:pt x="35282" y="66378"/>
                </a:cubicBezTo>
                <a:cubicBezTo>
                  <a:pt x="32491" y="66378"/>
                  <a:pt x="29501" y="63388"/>
                  <a:pt x="29501" y="60598"/>
                </a:cubicBezTo>
                <a:cubicBezTo>
                  <a:pt x="29501" y="56411"/>
                  <a:pt x="32491" y="55016"/>
                  <a:pt x="35282" y="55016"/>
                </a:cubicBezTo>
                <a:cubicBezTo>
                  <a:pt x="53621" y="55016"/>
                  <a:pt x="53621" y="55016"/>
                  <a:pt x="53621" y="55016"/>
                </a:cubicBezTo>
                <a:lnTo>
                  <a:pt x="53621" y="55016"/>
                </a:lnTo>
                <a:cubicBezTo>
                  <a:pt x="64784" y="55016"/>
                  <a:pt x="64784" y="55016"/>
                  <a:pt x="64784" y="55016"/>
                </a:cubicBezTo>
                <a:lnTo>
                  <a:pt x="64784" y="55016"/>
                </a:lnTo>
                <a:cubicBezTo>
                  <a:pt x="84518" y="55016"/>
                  <a:pt x="84518" y="55016"/>
                  <a:pt x="84518" y="55016"/>
                </a:cubicBezTo>
                <a:cubicBezTo>
                  <a:pt x="87308" y="55016"/>
                  <a:pt x="90099" y="56411"/>
                  <a:pt x="90099" y="60598"/>
                </a:cubicBezTo>
                <a:cubicBezTo>
                  <a:pt x="90099" y="63388"/>
                  <a:pt x="87308" y="66378"/>
                  <a:pt x="84518" y="6637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Shape 4896"/>
          <p:cNvSpPr/>
          <p:nvPr/>
        </p:nvSpPr>
        <p:spPr>
          <a:xfrm>
            <a:off x="9717120" y="4599000"/>
            <a:ext cx="287280" cy="285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119802" y="60598"/>
                </a:moveTo>
                <a:lnTo>
                  <a:pt x="119802" y="60598"/>
                </a:ln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8405"/>
                  <a:pt x="117044" y="119800"/>
                  <a:pt x="114088" y="119800"/>
                </a:cubicBezTo>
                <a:cubicBezTo>
                  <a:pt x="59901" y="119800"/>
                  <a:pt x="59901" y="119800"/>
                  <a:pt x="59901" y="119800"/>
                </a:cubicBez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201" y="0"/>
                  <a:pt x="119802" y="26910"/>
                  <a:pt x="119802" y="60598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300" y="11362"/>
                  <a:pt x="11034" y="33887"/>
                  <a:pt x="11034" y="60598"/>
                </a:cubicBezTo>
                <a:cubicBezTo>
                  <a:pt x="11034" y="87508"/>
                  <a:pt x="33300" y="108438"/>
                  <a:pt x="59901" y="108438"/>
                </a:cubicBezTo>
                <a:lnTo>
                  <a:pt x="59901" y="108438"/>
                </a:lnTo>
                <a:lnTo>
                  <a:pt x="59901" y="108438"/>
                </a:lnTo>
                <a:cubicBezTo>
                  <a:pt x="86305" y="108438"/>
                  <a:pt x="108571" y="87508"/>
                  <a:pt x="108571" y="60598"/>
                </a:cubicBezTo>
                <a:lnTo>
                  <a:pt x="108571" y="60598"/>
                </a:lnTo>
                <a:lnTo>
                  <a:pt x="108571" y="60598"/>
                </a:ln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83546" y="66378"/>
                </a:moveTo>
                <a:lnTo>
                  <a:pt x="83546" y="66378"/>
                </a:lnTo>
                <a:cubicBezTo>
                  <a:pt x="65418" y="66378"/>
                  <a:pt x="65418" y="66378"/>
                  <a:pt x="65418" y="66378"/>
                </a:cubicBezTo>
                <a:cubicBezTo>
                  <a:pt x="65418" y="84518"/>
                  <a:pt x="65418" y="84518"/>
                  <a:pt x="65418" y="84518"/>
                </a:cubicBezTo>
                <a:cubicBezTo>
                  <a:pt x="65418" y="87508"/>
                  <a:pt x="62660" y="90299"/>
                  <a:pt x="59901" y="90299"/>
                </a:cubicBezTo>
                <a:cubicBezTo>
                  <a:pt x="57142" y="90299"/>
                  <a:pt x="54384" y="87508"/>
                  <a:pt x="54384" y="84518"/>
                </a:cubicBezTo>
                <a:cubicBezTo>
                  <a:pt x="54384" y="66378"/>
                  <a:pt x="54384" y="66378"/>
                  <a:pt x="54384" y="66378"/>
                </a:cubicBezTo>
                <a:cubicBezTo>
                  <a:pt x="36256" y="66378"/>
                  <a:pt x="36256" y="66378"/>
                  <a:pt x="36256" y="66378"/>
                </a:cubicBezTo>
                <a:cubicBezTo>
                  <a:pt x="31921" y="66378"/>
                  <a:pt x="30541" y="63388"/>
                  <a:pt x="30541" y="60598"/>
                </a:cubicBezTo>
                <a:cubicBezTo>
                  <a:pt x="30541" y="56411"/>
                  <a:pt x="31921" y="55016"/>
                  <a:pt x="36256" y="55016"/>
                </a:cubicBezTo>
                <a:cubicBezTo>
                  <a:pt x="54384" y="55016"/>
                  <a:pt x="54384" y="55016"/>
                  <a:pt x="54384" y="55016"/>
                </a:cubicBezTo>
                <a:cubicBezTo>
                  <a:pt x="54384" y="35282"/>
                  <a:pt x="54384" y="35282"/>
                  <a:pt x="54384" y="35282"/>
                </a:cubicBezTo>
                <a:cubicBezTo>
                  <a:pt x="54384" y="32491"/>
                  <a:pt x="57142" y="29700"/>
                  <a:pt x="59901" y="29700"/>
                </a:cubicBezTo>
                <a:cubicBezTo>
                  <a:pt x="62660" y="29700"/>
                  <a:pt x="65418" y="32491"/>
                  <a:pt x="65418" y="35282"/>
                </a:cubicBezTo>
                <a:cubicBezTo>
                  <a:pt x="65418" y="55016"/>
                  <a:pt x="65418" y="55016"/>
                  <a:pt x="65418" y="55016"/>
                </a:cubicBezTo>
                <a:cubicBezTo>
                  <a:pt x="83546" y="55016"/>
                  <a:pt x="83546" y="55016"/>
                  <a:pt x="83546" y="55016"/>
                </a:cubicBezTo>
                <a:cubicBezTo>
                  <a:pt x="87684" y="55016"/>
                  <a:pt x="89064" y="56411"/>
                  <a:pt x="89064" y="60598"/>
                </a:cubicBezTo>
                <a:cubicBezTo>
                  <a:pt x="89064" y="63388"/>
                  <a:pt x="87684" y="66378"/>
                  <a:pt x="83546" y="6637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Shape 4897"/>
          <p:cNvSpPr/>
          <p:nvPr/>
        </p:nvSpPr>
        <p:spPr>
          <a:xfrm>
            <a:off x="9218520" y="4627440"/>
            <a:ext cx="287280" cy="223920"/>
          </a:xfrm>
          <a:custGeom>
            <a:avLst/>
            <a:gdLst>
              <a:gd name="textAreaLeft" fmla="*/ 0 w 287280"/>
              <a:gd name="textAreaRight" fmla="*/ 287640 w 2872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01"/>
                </a:moveTo>
                <a:lnTo>
                  <a:pt x="114019" y="68101"/>
                </a:lnTo>
                <a:cubicBezTo>
                  <a:pt x="80332" y="68101"/>
                  <a:pt x="80332" y="68101"/>
                  <a:pt x="80332" y="68101"/>
                </a:cubicBezTo>
                <a:cubicBezTo>
                  <a:pt x="77541" y="68101"/>
                  <a:pt x="74551" y="64303"/>
                  <a:pt x="74551" y="60759"/>
                </a:cubicBezTo>
                <a:cubicBezTo>
                  <a:pt x="74551" y="55443"/>
                  <a:pt x="77541" y="53670"/>
                  <a:pt x="80332" y="53670"/>
                </a:cubicBezTo>
                <a:cubicBezTo>
                  <a:pt x="114019" y="53670"/>
                  <a:pt x="114019" y="53670"/>
                  <a:pt x="114019" y="53670"/>
                </a:cubicBezTo>
                <a:cubicBezTo>
                  <a:pt x="118405" y="53670"/>
                  <a:pt x="119800" y="55443"/>
                  <a:pt x="119800" y="60759"/>
                </a:cubicBezTo>
                <a:cubicBezTo>
                  <a:pt x="119800" y="64303"/>
                  <a:pt x="118405" y="68101"/>
                  <a:pt x="114019" y="68101"/>
                </a:cubicBezTo>
                <a:close/>
                <a:moveTo>
                  <a:pt x="74551" y="112658"/>
                </a:moveTo>
                <a:lnTo>
                  <a:pt x="74551" y="112658"/>
                </a:lnTo>
                <a:cubicBezTo>
                  <a:pt x="74551" y="116202"/>
                  <a:pt x="73156" y="119746"/>
                  <a:pt x="68970" y="119746"/>
                </a:cubicBezTo>
                <a:cubicBezTo>
                  <a:pt x="67574" y="119746"/>
                  <a:pt x="64784" y="117974"/>
                  <a:pt x="64784" y="114430"/>
                </a:cubicBezTo>
                <a:lnTo>
                  <a:pt x="64784" y="114430"/>
                </a:lnTo>
                <a:cubicBezTo>
                  <a:pt x="56411" y="91139"/>
                  <a:pt x="56411" y="91139"/>
                  <a:pt x="56411" y="91139"/>
                </a:cubicBezTo>
                <a:cubicBezTo>
                  <a:pt x="18338" y="91139"/>
                  <a:pt x="18338" y="91139"/>
                  <a:pt x="18338" y="91139"/>
                </a:cubicBezTo>
                <a:cubicBezTo>
                  <a:pt x="11162" y="114430"/>
                  <a:pt x="11162" y="114430"/>
                  <a:pt x="11162" y="114430"/>
                </a:cubicBezTo>
                <a:lnTo>
                  <a:pt x="11162" y="114430"/>
                </a:lnTo>
                <a:cubicBezTo>
                  <a:pt x="9767" y="117974"/>
                  <a:pt x="8372" y="119746"/>
                  <a:pt x="5581" y="119746"/>
                </a:cubicBezTo>
                <a:cubicBezTo>
                  <a:pt x="2790" y="119746"/>
                  <a:pt x="0" y="116202"/>
                  <a:pt x="0" y="112658"/>
                </a:cubicBezTo>
                <a:cubicBezTo>
                  <a:pt x="0" y="110886"/>
                  <a:pt x="0" y="110886"/>
                  <a:pt x="0" y="110886"/>
                </a:cubicBezTo>
                <a:lnTo>
                  <a:pt x="0" y="110886"/>
                </a:lnTo>
                <a:cubicBezTo>
                  <a:pt x="32292" y="5316"/>
                  <a:pt x="32292" y="5316"/>
                  <a:pt x="32292" y="5316"/>
                </a:cubicBezTo>
                <a:lnTo>
                  <a:pt x="32292" y="5316"/>
                </a:lnTo>
                <a:cubicBezTo>
                  <a:pt x="33687" y="1772"/>
                  <a:pt x="35083" y="0"/>
                  <a:pt x="38073" y="0"/>
                </a:cubicBezTo>
                <a:cubicBezTo>
                  <a:pt x="39468" y="0"/>
                  <a:pt x="42259" y="1772"/>
                  <a:pt x="42259" y="5316"/>
                </a:cubicBezTo>
                <a:lnTo>
                  <a:pt x="42259" y="5316"/>
                </a:lnTo>
                <a:cubicBezTo>
                  <a:pt x="74551" y="110886"/>
                  <a:pt x="74551" y="110886"/>
                  <a:pt x="74551" y="110886"/>
                </a:cubicBezTo>
                <a:lnTo>
                  <a:pt x="74551" y="110886"/>
                </a:lnTo>
                <a:cubicBezTo>
                  <a:pt x="74551" y="110886"/>
                  <a:pt x="74551" y="110886"/>
                  <a:pt x="74551" y="112658"/>
                </a:cubicBezTo>
                <a:close/>
                <a:moveTo>
                  <a:pt x="38073" y="26835"/>
                </a:moveTo>
                <a:lnTo>
                  <a:pt x="38073" y="26835"/>
                </a:lnTo>
                <a:cubicBezTo>
                  <a:pt x="22524" y="76962"/>
                  <a:pt x="22524" y="76962"/>
                  <a:pt x="22524" y="76962"/>
                </a:cubicBezTo>
                <a:cubicBezTo>
                  <a:pt x="52026" y="76962"/>
                  <a:pt x="52026" y="76962"/>
                  <a:pt x="52026" y="76962"/>
                </a:cubicBezTo>
                <a:lnTo>
                  <a:pt x="38073" y="2683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Shape 4898"/>
          <p:cNvSpPr/>
          <p:nvPr/>
        </p:nvSpPr>
        <p:spPr>
          <a:xfrm>
            <a:off x="8720280" y="4627440"/>
            <a:ext cx="284040" cy="223920"/>
          </a:xfrm>
          <a:custGeom>
            <a:avLst/>
            <a:gdLst>
              <a:gd name="textAreaLeft" fmla="*/ 0 w 284040"/>
              <a:gd name="textAreaRight" fmla="*/ 284400 w 28404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20000" h="120000">
                <a:moveTo>
                  <a:pt x="114209" y="68101"/>
                </a:moveTo>
                <a:lnTo>
                  <a:pt x="114209" y="68101"/>
                </a:lnTo>
                <a:cubicBezTo>
                  <a:pt x="103028" y="68101"/>
                  <a:pt x="103028" y="68101"/>
                  <a:pt x="103028" y="68101"/>
                </a:cubicBezTo>
                <a:cubicBezTo>
                  <a:pt x="103028" y="82278"/>
                  <a:pt x="103028" y="82278"/>
                  <a:pt x="103028" y="82278"/>
                </a:cubicBezTo>
                <a:cubicBezTo>
                  <a:pt x="103028" y="85822"/>
                  <a:pt x="100232" y="89367"/>
                  <a:pt x="97237" y="89367"/>
                </a:cubicBezTo>
                <a:cubicBezTo>
                  <a:pt x="94442" y="89367"/>
                  <a:pt x="91647" y="85822"/>
                  <a:pt x="91647" y="82278"/>
                </a:cubicBezTo>
                <a:cubicBezTo>
                  <a:pt x="91647" y="68101"/>
                  <a:pt x="91647" y="68101"/>
                  <a:pt x="91647" y="68101"/>
                </a:cubicBezTo>
                <a:cubicBezTo>
                  <a:pt x="80465" y="68101"/>
                  <a:pt x="80465" y="68101"/>
                  <a:pt x="80465" y="68101"/>
                </a:cubicBezTo>
                <a:cubicBezTo>
                  <a:pt x="77670" y="68101"/>
                  <a:pt x="74675" y="64303"/>
                  <a:pt x="74675" y="60759"/>
                </a:cubicBezTo>
                <a:cubicBezTo>
                  <a:pt x="74675" y="55443"/>
                  <a:pt x="77670" y="53670"/>
                  <a:pt x="80465" y="53670"/>
                </a:cubicBezTo>
                <a:cubicBezTo>
                  <a:pt x="91647" y="53670"/>
                  <a:pt x="91647" y="53670"/>
                  <a:pt x="91647" y="53670"/>
                </a:cubicBezTo>
                <a:cubicBezTo>
                  <a:pt x="91647" y="39240"/>
                  <a:pt x="91647" y="39240"/>
                  <a:pt x="91647" y="39240"/>
                </a:cubicBezTo>
                <a:cubicBezTo>
                  <a:pt x="91647" y="33924"/>
                  <a:pt x="94442" y="32151"/>
                  <a:pt x="97237" y="32151"/>
                </a:cubicBezTo>
                <a:cubicBezTo>
                  <a:pt x="100232" y="32151"/>
                  <a:pt x="103028" y="33924"/>
                  <a:pt x="103028" y="39240"/>
                </a:cubicBezTo>
                <a:cubicBezTo>
                  <a:pt x="103028" y="53670"/>
                  <a:pt x="103028" y="53670"/>
                  <a:pt x="103028" y="53670"/>
                </a:cubicBezTo>
                <a:cubicBezTo>
                  <a:pt x="114209" y="53670"/>
                  <a:pt x="114209" y="53670"/>
                  <a:pt x="114209" y="53670"/>
                </a:cubicBezTo>
                <a:cubicBezTo>
                  <a:pt x="117004" y="53670"/>
                  <a:pt x="119800" y="55443"/>
                  <a:pt x="119800" y="60759"/>
                </a:cubicBezTo>
                <a:cubicBezTo>
                  <a:pt x="119800" y="64303"/>
                  <a:pt x="117004" y="68101"/>
                  <a:pt x="114209" y="68101"/>
                </a:cubicBezTo>
                <a:close/>
                <a:moveTo>
                  <a:pt x="74675" y="112658"/>
                </a:moveTo>
                <a:lnTo>
                  <a:pt x="74675" y="112658"/>
                </a:lnTo>
                <a:cubicBezTo>
                  <a:pt x="74675" y="116202"/>
                  <a:pt x="71880" y="119746"/>
                  <a:pt x="69084" y="119746"/>
                </a:cubicBezTo>
                <a:cubicBezTo>
                  <a:pt x="66289" y="119746"/>
                  <a:pt x="64891" y="117974"/>
                  <a:pt x="63494" y="114430"/>
                </a:cubicBezTo>
                <a:lnTo>
                  <a:pt x="63494" y="114430"/>
                </a:lnTo>
                <a:cubicBezTo>
                  <a:pt x="56505" y="91139"/>
                  <a:pt x="56505" y="91139"/>
                  <a:pt x="56505" y="91139"/>
                </a:cubicBezTo>
                <a:cubicBezTo>
                  <a:pt x="18369" y="91139"/>
                  <a:pt x="18369" y="91139"/>
                  <a:pt x="18369" y="91139"/>
                </a:cubicBezTo>
                <a:cubicBezTo>
                  <a:pt x="9783" y="114430"/>
                  <a:pt x="9783" y="114430"/>
                  <a:pt x="9783" y="114430"/>
                </a:cubicBezTo>
                <a:lnTo>
                  <a:pt x="9783" y="114430"/>
                </a:lnTo>
                <a:cubicBezTo>
                  <a:pt x="9783" y="117974"/>
                  <a:pt x="6988" y="119746"/>
                  <a:pt x="5590" y="119746"/>
                </a:cubicBezTo>
                <a:cubicBezTo>
                  <a:pt x="1397" y="119746"/>
                  <a:pt x="0" y="116202"/>
                  <a:pt x="0" y="112658"/>
                </a:cubicBezTo>
                <a:cubicBezTo>
                  <a:pt x="0" y="110886"/>
                  <a:pt x="0" y="110886"/>
                  <a:pt x="0" y="110886"/>
                </a:cubicBezTo>
                <a:lnTo>
                  <a:pt x="0" y="110886"/>
                </a:lnTo>
                <a:cubicBezTo>
                  <a:pt x="32346" y="5316"/>
                  <a:pt x="32346" y="5316"/>
                  <a:pt x="32346" y="5316"/>
                </a:cubicBezTo>
                <a:lnTo>
                  <a:pt x="32346" y="5316"/>
                </a:lnTo>
                <a:cubicBezTo>
                  <a:pt x="32346" y="1772"/>
                  <a:pt x="35141" y="0"/>
                  <a:pt x="36539" y="0"/>
                </a:cubicBezTo>
                <a:cubicBezTo>
                  <a:pt x="39534" y="0"/>
                  <a:pt x="40931" y="1772"/>
                  <a:pt x="42329" y="5316"/>
                </a:cubicBezTo>
                <a:lnTo>
                  <a:pt x="42329" y="5316"/>
                </a:lnTo>
                <a:cubicBezTo>
                  <a:pt x="74675" y="110886"/>
                  <a:pt x="74675" y="110886"/>
                  <a:pt x="74675" y="110886"/>
                </a:cubicBezTo>
                <a:lnTo>
                  <a:pt x="74675" y="110886"/>
                </a:lnTo>
                <a:cubicBezTo>
                  <a:pt x="74675" y="110886"/>
                  <a:pt x="74675" y="110886"/>
                  <a:pt x="74675" y="112658"/>
                </a:cubicBezTo>
                <a:close/>
                <a:moveTo>
                  <a:pt x="36539" y="26835"/>
                </a:moveTo>
                <a:lnTo>
                  <a:pt x="36539" y="26835"/>
                </a:lnTo>
                <a:cubicBezTo>
                  <a:pt x="22562" y="76962"/>
                  <a:pt x="22562" y="76962"/>
                  <a:pt x="22562" y="76962"/>
                </a:cubicBezTo>
                <a:cubicBezTo>
                  <a:pt x="52113" y="76962"/>
                  <a:pt x="52113" y="76962"/>
                  <a:pt x="52113" y="76962"/>
                </a:cubicBezTo>
                <a:lnTo>
                  <a:pt x="36539" y="2683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Shape 4899"/>
          <p:cNvSpPr/>
          <p:nvPr/>
        </p:nvSpPr>
        <p:spPr>
          <a:xfrm>
            <a:off x="8282160" y="4599000"/>
            <a:ext cx="160200" cy="285840"/>
          </a:xfrm>
          <a:custGeom>
            <a:avLst/>
            <a:gdLst>
              <a:gd name="textAreaLeft" fmla="*/ 0 w 160200"/>
              <a:gd name="textAreaRight" fmla="*/ 160560 w 1602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117176" y="38073"/>
                </a:moveTo>
                <a:lnTo>
                  <a:pt x="117176" y="38073"/>
                </a:lnTo>
                <a:lnTo>
                  <a:pt x="117176" y="38073"/>
                </a:lnTo>
                <a:cubicBezTo>
                  <a:pt x="77294" y="60598"/>
                  <a:pt x="77294" y="60598"/>
                  <a:pt x="77294" y="60598"/>
                </a:cubicBezTo>
                <a:cubicBezTo>
                  <a:pt x="117176" y="83122"/>
                  <a:pt x="117176" y="83122"/>
                  <a:pt x="117176" y="83122"/>
                </a:cubicBezTo>
                <a:lnTo>
                  <a:pt x="117176" y="83122"/>
                </a:lnTo>
                <a:cubicBezTo>
                  <a:pt x="119647" y="83122"/>
                  <a:pt x="119647" y="84518"/>
                  <a:pt x="119647" y="85913"/>
                </a:cubicBezTo>
                <a:cubicBezTo>
                  <a:pt x="119647" y="87508"/>
                  <a:pt x="119647" y="88903"/>
                  <a:pt x="117176" y="90299"/>
                </a:cubicBezTo>
                <a:lnTo>
                  <a:pt x="117176" y="90299"/>
                </a:lnTo>
                <a:cubicBezTo>
                  <a:pt x="67411" y="118405"/>
                  <a:pt x="67411" y="118405"/>
                  <a:pt x="67411" y="118405"/>
                </a:cubicBezTo>
                <a:lnTo>
                  <a:pt x="67411" y="118405"/>
                </a:lnTo>
                <a:cubicBezTo>
                  <a:pt x="64941" y="119800"/>
                  <a:pt x="62470" y="119800"/>
                  <a:pt x="60000" y="119800"/>
                </a:cubicBezTo>
                <a:cubicBezTo>
                  <a:pt x="55058" y="119800"/>
                  <a:pt x="49764" y="118405"/>
                  <a:pt x="49764" y="114219"/>
                </a:cubicBezTo>
                <a:cubicBezTo>
                  <a:pt x="49764" y="76146"/>
                  <a:pt x="49764" y="76146"/>
                  <a:pt x="49764" y="76146"/>
                </a:cubicBezTo>
                <a:cubicBezTo>
                  <a:pt x="17294" y="94485"/>
                  <a:pt x="17294" y="94485"/>
                  <a:pt x="17294" y="94485"/>
                </a:cubicBezTo>
                <a:lnTo>
                  <a:pt x="17294" y="94485"/>
                </a:lnTo>
                <a:cubicBezTo>
                  <a:pt x="14823" y="95880"/>
                  <a:pt x="12352" y="95880"/>
                  <a:pt x="9882" y="95880"/>
                </a:cubicBezTo>
                <a:cubicBezTo>
                  <a:pt x="4941" y="95880"/>
                  <a:pt x="0" y="93089"/>
                  <a:pt x="0" y="90299"/>
                </a:cubicBezTo>
                <a:cubicBezTo>
                  <a:pt x="0" y="88903"/>
                  <a:pt x="0" y="87508"/>
                  <a:pt x="2470" y="85913"/>
                </a:cubicBezTo>
                <a:lnTo>
                  <a:pt x="2470" y="85913"/>
                </a:lnTo>
                <a:cubicBezTo>
                  <a:pt x="49764" y="60598"/>
                  <a:pt x="49764" y="60598"/>
                  <a:pt x="49764" y="60598"/>
                </a:cubicBezTo>
                <a:cubicBezTo>
                  <a:pt x="2470" y="33887"/>
                  <a:pt x="2470" y="33887"/>
                  <a:pt x="2470" y="33887"/>
                </a:cubicBezTo>
                <a:lnTo>
                  <a:pt x="2470" y="33887"/>
                </a:lnTo>
                <a:cubicBezTo>
                  <a:pt x="0" y="32491"/>
                  <a:pt x="0" y="31096"/>
                  <a:pt x="0" y="29700"/>
                </a:cubicBezTo>
                <a:cubicBezTo>
                  <a:pt x="0" y="26910"/>
                  <a:pt x="4941" y="23920"/>
                  <a:pt x="9882" y="23920"/>
                </a:cubicBezTo>
                <a:cubicBezTo>
                  <a:pt x="12352" y="23920"/>
                  <a:pt x="14823" y="25514"/>
                  <a:pt x="17294" y="26910"/>
                </a:cubicBezTo>
                <a:lnTo>
                  <a:pt x="17294" y="26910"/>
                </a:lnTo>
                <a:cubicBezTo>
                  <a:pt x="49764" y="45049"/>
                  <a:pt x="49764" y="45049"/>
                  <a:pt x="49764" y="45049"/>
                </a:cubicBezTo>
                <a:cubicBezTo>
                  <a:pt x="49764" y="5780"/>
                  <a:pt x="49764" y="5780"/>
                  <a:pt x="49764" y="5780"/>
                </a:cubicBezTo>
                <a:cubicBezTo>
                  <a:pt x="49764" y="2990"/>
                  <a:pt x="55058" y="0"/>
                  <a:pt x="60000" y="0"/>
                </a:cubicBezTo>
                <a:cubicBezTo>
                  <a:pt x="62470" y="0"/>
                  <a:pt x="64941" y="0"/>
                  <a:pt x="67411" y="1395"/>
                </a:cubicBezTo>
                <a:lnTo>
                  <a:pt x="67411" y="1395"/>
                </a:lnTo>
                <a:cubicBezTo>
                  <a:pt x="117176" y="29700"/>
                  <a:pt x="117176" y="29700"/>
                  <a:pt x="117176" y="29700"/>
                </a:cubicBezTo>
                <a:lnTo>
                  <a:pt x="117176" y="29700"/>
                </a:lnTo>
                <a:cubicBezTo>
                  <a:pt x="119647" y="31096"/>
                  <a:pt x="119647" y="32491"/>
                  <a:pt x="119647" y="33887"/>
                </a:cubicBezTo>
                <a:cubicBezTo>
                  <a:pt x="119647" y="35282"/>
                  <a:pt x="119647" y="36677"/>
                  <a:pt x="117176" y="38073"/>
                </a:cubicBezTo>
                <a:close/>
                <a:moveTo>
                  <a:pt x="69882" y="101461"/>
                </a:moveTo>
                <a:lnTo>
                  <a:pt x="69882" y="101461"/>
                </a:lnTo>
                <a:cubicBezTo>
                  <a:pt x="94941" y="85913"/>
                  <a:pt x="94941" y="85913"/>
                  <a:pt x="94941" y="85913"/>
                </a:cubicBezTo>
                <a:cubicBezTo>
                  <a:pt x="69882" y="71960"/>
                  <a:pt x="69882" y="71960"/>
                  <a:pt x="69882" y="71960"/>
                </a:cubicBezTo>
                <a:lnTo>
                  <a:pt x="69882" y="101461"/>
                </a:lnTo>
                <a:close/>
                <a:moveTo>
                  <a:pt x="69882" y="19734"/>
                </a:moveTo>
                <a:lnTo>
                  <a:pt x="69882" y="19734"/>
                </a:lnTo>
                <a:cubicBezTo>
                  <a:pt x="69882" y="48039"/>
                  <a:pt x="69882" y="48039"/>
                  <a:pt x="69882" y="48039"/>
                </a:cubicBezTo>
                <a:cubicBezTo>
                  <a:pt x="94941" y="33887"/>
                  <a:pt x="94941" y="33887"/>
                  <a:pt x="94941" y="33887"/>
                </a:cubicBezTo>
                <a:lnTo>
                  <a:pt x="69882" y="19734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Shape 4900"/>
          <p:cNvSpPr/>
          <p:nvPr/>
        </p:nvSpPr>
        <p:spPr>
          <a:xfrm>
            <a:off x="7754760" y="463392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93568" y="87947"/>
                </a:moveTo>
                <a:lnTo>
                  <a:pt x="93568" y="87947"/>
                </a:lnTo>
                <a:cubicBezTo>
                  <a:pt x="78502" y="103046"/>
                  <a:pt x="54185" y="104900"/>
                  <a:pt x="37533" y="91655"/>
                </a:cubicBezTo>
                <a:cubicBezTo>
                  <a:pt x="13215" y="116026"/>
                  <a:pt x="13215" y="116026"/>
                  <a:pt x="13215" y="116026"/>
                </a:cubicBezTo>
                <a:cubicBezTo>
                  <a:pt x="9515" y="119735"/>
                  <a:pt x="5814" y="119735"/>
                  <a:pt x="1850" y="116026"/>
                </a:cubicBezTo>
                <a:cubicBezTo>
                  <a:pt x="0" y="114172"/>
                  <a:pt x="0" y="108609"/>
                  <a:pt x="1850" y="104900"/>
                </a:cubicBezTo>
                <a:cubicBezTo>
                  <a:pt x="28017" y="80529"/>
                  <a:pt x="28017" y="80529"/>
                  <a:pt x="28017" y="80529"/>
                </a:cubicBezTo>
                <a:cubicBezTo>
                  <a:pt x="15066" y="63576"/>
                  <a:pt x="15066" y="39205"/>
                  <a:pt x="31718" y="24370"/>
                </a:cubicBezTo>
                <a:cubicBezTo>
                  <a:pt x="46784" y="9271"/>
                  <a:pt x="46784" y="9271"/>
                  <a:pt x="46784" y="9271"/>
                </a:cubicBezTo>
                <a:cubicBezTo>
                  <a:pt x="56035" y="20662"/>
                  <a:pt x="56035" y="20662"/>
                  <a:pt x="56035" y="20662"/>
                </a:cubicBezTo>
                <a:cubicBezTo>
                  <a:pt x="74801" y="1854"/>
                  <a:pt x="74801" y="1854"/>
                  <a:pt x="74801" y="1854"/>
                </a:cubicBezTo>
                <a:cubicBezTo>
                  <a:pt x="76651" y="0"/>
                  <a:pt x="82202" y="0"/>
                  <a:pt x="84052" y="1854"/>
                </a:cubicBezTo>
                <a:cubicBezTo>
                  <a:pt x="88017" y="5562"/>
                  <a:pt x="88017" y="9271"/>
                  <a:pt x="84052" y="13245"/>
                </a:cubicBezTo>
                <a:cubicBezTo>
                  <a:pt x="67400" y="29933"/>
                  <a:pt x="67400" y="29933"/>
                  <a:pt x="67400" y="29933"/>
                </a:cubicBezTo>
                <a:cubicBezTo>
                  <a:pt x="88017" y="50596"/>
                  <a:pt x="88017" y="50596"/>
                  <a:pt x="88017" y="50596"/>
                </a:cubicBezTo>
                <a:cubicBezTo>
                  <a:pt x="104669" y="33642"/>
                  <a:pt x="104669" y="33642"/>
                  <a:pt x="104669" y="33642"/>
                </a:cubicBezTo>
                <a:cubicBezTo>
                  <a:pt x="108370" y="31788"/>
                  <a:pt x="113920" y="31788"/>
                  <a:pt x="115770" y="33642"/>
                </a:cubicBezTo>
                <a:cubicBezTo>
                  <a:pt x="119735" y="37350"/>
                  <a:pt x="119735" y="41059"/>
                  <a:pt x="115770" y="45033"/>
                </a:cubicBezTo>
                <a:cubicBezTo>
                  <a:pt x="99118" y="61721"/>
                  <a:pt x="99118" y="61721"/>
                  <a:pt x="99118" y="61721"/>
                </a:cubicBezTo>
                <a:cubicBezTo>
                  <a:pt x="108370" y="73112"/>
                  <a:pt x="108370" y="73112"/>
                  <a:pt x="108370" y="73112"/>
                </a:cubicBezTo>
                <a:lnTo>
                  <a:pt x="93568" y="87947"/>
                </a:ln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Shape 4901"/>
          <p:cNvSpPr/>
          <p:nvPr/>
        </p:nvSpPr>
        <p:spPr>
          <a:xfrm>
            <a:off x="4165560" y="5600880"/>
            <a:ext cx="265320" cy="266400"/>
          </a:xfrm>
          <a:custGeom>
            <a:avLst/>
            <a:gdLst>
              <a:gd name="textAreaLeft" fmla="*/ 0 w 265320"/>
              <a:gd name="textAreaRight" fmla="*/ 265680 w 26532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120000" h="120000">
                <a:moveTo>
                  <a:pt x="15026" y="106046"/>
                </a:moveTo>
                <a:lnTo>
                  <a:pt x="15026" y="106046"/>
                </a:lnTo>
                <a:cubicBezTo>
                  <a:pt x="13524" y="104543"/>
                  <a:pt x="13524" y="104543"/>
                  <a:pt x="13524" y="104543"/>
                </a:cubicBezTo>
                <a:cubicBezTo>
                  <a:pt x="0" y="91019"/>
                  <a:pt x="0" y="68264"/>
                  <a:pt x="13524" y="54525"/>
                </a:cubicBezTo>
                <a:cubicBezTo>
                  <a:pt x="54525" y="13524"/>
                  <a:pt x="54525" y="13524"/>
                  <a:pt x="54525" y="13524"/>
                </a:cubicBezTo>
                <a:cubicBezTo>
                  <a:pt x="68264" y="0"/>
                  <a:pt x="91019" y="0"/>
                  <a:pt x="104543" y="13524"/>
                </a:cubicBezTo>
                <a:cubicBezTo>
                  <a:pt x="106046" y="15026"/>
                  <a:pt x="106046" y="15026"/>
                  <a:pt x="106046" y="15026"/>
                </a:cubicBezTo>
                <a:cubicBezTo>
                  <a:pt x="119785" y="28765"/>
                  <a:pt x="119785" y="51520"/>
                  <a:pt x="106046" y="65044"/>
                </a:cubicBezTo>
                <a:cubicBezTo>
                  <a:pt x="65259" y="106046"/>
                  <a:pt x="65259" y="106046"/>
                  <a:pt x="65259" y="106046"/>
                </a:cubicBezTo>
                <a:cubicBezTo>
                  <a:pt x="51520" y="119785"/>
                  <a:pt x="28765" y="119785"/>
                  <a:pt x="15026" y="106046"/>
                </a:cubicBezTo>
                <a:close/>
                <a:moveTo>
                  <a:pt x="77280" y="77280"/>
                </a:moveTo>
                <a:lnTo>
                  <a:pt x="77280" y="77280"/>
                </a:lnTo>
                <a:cubicBezTo>
                  <a:pt x="42504" y="42289"/>
                  <a:pt x="42504" y="42289"/>
                  <a:pt x="42504" y="42289"/>
                </a:cubicBezTo>
                <a:cubicBezTo>
                  <a:pt x="21252" y="63542"/>
                  <a:pt x="21252" y="63542"/>
                  <a:pt x="21252" y="63542"/>
                </a:cubicBezTo>
                <a:cubicBezTo>
                  <a:pt x="12021" y="72772"/>
                  <a:pt x="12021" y="87799"/>
                  <a:pt x="21252" y="97030"/>
                </a:cubicBezTo>
                <a:cubicBezTo>
                  <a:pt x="22754" y="98533"/>
                  <a:pt x="22754" y="98533"/>
                  <a:pt x="22754" y="98533"/>
                </a:cubicBezTo>
                <a:cubicBezTo>
                  <a:pt x="31771" y="107549"/>
                  <a:pt x="47012" y="107549"/>
                  <a:pt x="56028" y="98533"/>
                </a:cubicBezTo>
                <a:lnTo>
                  <a:pt x="77280" y="7728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Shape 4902"/>
          <p:cNvSpPr/>
          <p:nvPr/>
        </p:nvSpPr>
        <p:spPr>
          <a:xfrm>
            <a:off x="3706920" y="5607000"/>
            <a:ext cx="180720" cy="250920"/>
          </a:xfrm>
          <a:custGeom>
            <a:avLst/>
            <a:gdLst>
              <a:gd name="textAreaLeft" fmla="*/ 0 w 180720"/>
              <a:gd name="textAreaRight" fmla="*/ 181080 w 1807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59843" y="119774"/>
                </a:moveTo>
                <a:lnTo>
                  <a:pt x="59843" y="119774"/>
                </a:lnTo>
                <a:cubicBezTo>
                  <a:pt x="28825" y="119774"/>
                  <a:pt x="0" y="100564"/>
                  <a:pt x="0" y="76610"/>
                </a:cubicBezTo>
                <a:cubicBezTo>
                  <a:pt x="0" y="54237"/>
                  <a:pt x="57650" y="0"/>
                  <a:pt x="57650" y="0"/>
                </a:cubicBezTo>
                <a:cubicBezTo>
                  <a:pt x="57650" y="0"/>
                  <a:pt x="119686" y="52655"/>
                  <a:pt x="119686" y="76610"/>
                </a:cubicBezTo>
                <a:cubicBezTo>
                  <a:pt x="119686" y="100564"/>
                  <a:pt x="90861" y="119774"/>
                  <a:pt x="59843" y="119774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Shape 4903"/>
          <p:cNvSpPr/>
          <p:nvPr/>
        </p:nvSpPr>
        <p:spPr>
          <a:xfrm>
            <a:off x="3154320" y="5607000"/>
            <a:ext cx="287280" cy="250920"/>
          </a:xfrm>
          <a:custGeom>
            <a:avLst/>
            <a:gdLst>
              <a:gd name="textAreaLeft" fmla="*/ 0 w 287280"/>
              <a:gd name="textAreaRight" fmla="*/ 287640 w 2872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7009" y="65310"/>
                </a:moveTo>
                <a:lnTo>
                  <a:pt x="117009" y="65310"/>
                </a:lnTo>
                <a:lnTo>
                  <a:pt x="117009" y="65310"/>
                </a:lnTo>
                <a:cubicBezTo>
                  <a:pt x="61993" y="91073"/>
                  <a:pt x="61993" y="91073"/>
                  <a:pt x="61993" y="91073"/>
                </a:cubicBezTo>
                <a:lnTo>
                  <a:pt x="61993" y="91073"/>
                </a:lnTo>
                <a:lnTo>
                  <a:pt x="61993" y="91073"/>
                </a:lnTo>
                <a:lnTo>
                  <a:pt x="61993" y="91073"/>
                </a:lnTo>
                <a:cubicBezTo>
                  <a:pt x="61993" y="92655"/>
                  <a:pt x="60598" y="92655"/>
                  <a:pt x="60598" y="92655"/>
                </a:cubicBezTo>
                <a:cubicBezTo>
                  <a:pt x="59202" y="92655"/>
                  <a:pt x="59202" y="92655"/>
                  <a:pt x="57807" y="91073"/>
                </a:cubicBezTo>
                <a:lnTo>
                  <a:pt x="57807" y="91073"/>
                </a:lnTo>
                <a:lnTo>
                  <a:pt x="57807" y="91073"/>
                </a:lnTo>
                <a:lnTo>
                  <a:pt x="57807" y="91073"/>
                </a:lnTo>
                <a:cubicBezTo>
                  <a:pt x="2990" y="65310"/>
                  <a:pt x="2990" y="65310"/>
                  <a:pt x="2990" y="65310"/>
                </a:cubicBezTo>
                <a:lnTo>
                  <a:pt x="2990" y="65310"/>
                </a:lnTo>
                <a:cubicBezTo>
                  <a:pt x="1395" y="65310"/>
                  <a:pt x="0" y="62146"/>
                  <a:pt x="0" y="60564"/>
                </a:cubicBezTo>
                <a:cubicBezTo>
                  <a:pt x="0" y="55819"/>
                  <a:pt x="2990" y="54237"/>
                  <a:pt x="5780" y="54237"/>
                </a:cubicBezTo>
                <a:cubicBezTo>
                  <a:pt x="7176" y="54237"/>
                  <a:pt x="7176" y="54237"/>
                  <a:pt x="8571" y="54237"/>
                </a:cubicBezTo>
                <a:lnTo>
                  <a:pt x="8571" y="54237"/>
                </a:lnTo>
                <a:lnTo>
                  <a:pt x="8571" y="54237"/>
                </a:lnTo>
                <a:lnTo>
                  <a:pt x="8571" y="54237"/>
                </a:lnTo>
                <a:cubicBezTo>
                  <a:pt x="60598" y="78192"/>
                  <a:pt x="60598" y="78192"/>
                  <a:pt x="60598" y="78192"/>
                </a:cubicBezTo>
                <a:cubicBezTo>
                  <a:pt x="112823" y="54237"/>
                  <a:pt x="112823" y="54237"/>
                  <a:pt x="112823" y="54237"/>
                </a:cubicBezTo>
                <a:lnTo>
                  <a:pt x="112823" y="54237"/>
                </a:lnTo>
                <a:lnTo>
                  <a:pt x="112823" y="54237"/>
                </a:lnTo>
                <a:lnTo>
                  <a:pt x="112823" y="54237"/>
                </a:lnTo>
                <a:lnTo>
                  <a:pt x="114219" y="54237"/>
                </a:lnTo>
                <a:cubicBezTo>
                  <a:pt x="118405" y="54237"/>
                  <a:pt x="119800" y="55819"/>
                  <a:pt x="119800" y="60564"/>
                </a:cubicBezTo>
                <a:cubicBezTo>
                  <a:pt x="119800" y="62146"/>
                  <a:pt x="118405" y="65310"/>
                  <a:pt x="117009" y="65310"/>
                </a:cubicBezTo>
                <a:close/>
                <a:moveTo>
                  <a:pt x="117009" y="38192"/>
                </a:moveTo>
                <a:lnTo>
                  <a:pt x="117009" y="38192"/>
                </a:lnTo>
                <a:lnTo>
                  <a:pt x="117009" y="38192"/>
                </a:lnTo>
                <a:cubicBezTo>
                  <a:pt x="61993" y="63728"/>
                  <a:pt x="61993" y="63728"/>
                  <a:pt x="61993" y="63728"/>
                </a:cubicBezTo>
                <a:lnTo>
                  <a:pt x="61993" y="63728"/>
                </a:lnTo>
                <a:lnTo>
                  <a:pt x="61993" y="63728"/>
                </a:lnTo>
                <a:lnTo>
                  <a:pt x="61993" y="63728"/>
                </a:lnTo>
                <a:lnTo>
                  <a:pt x="60598" y="63728"/>
                </a:lnTo>
                <a:cubicBezTo>
                  <a:pt x="59202" y="63728"/>
                  <a:pt x="59202" y="63728"/>
                  <a:pt x="57807" y="63728"/>
                </a:cubicBezTo>
                <a:lnTo>
                  <a:pt x="57807" y="63728"/>
                </a:lnTo>
                <a:lnTo>
                  <a:pt x="57807" y="63728"/>
                </a:lnTo>
                <a:lnTo>
                  <a:pt x="57807" y="63728"/>
                </a:lnTo>
                <a:cubicBezTo>
                  <a:pt x="2990" y="38192"/>
                  <a:pt x="2990" y="38192"/>
                  <a:pt x="2990" y="38192"/>
                </a:cubicBezTo>
                <a:lnTo>
                  <a:pt x="2990" y="38192"/>
                </a:lnTo>
                <a:cubicBezTo>
                  <a:pt x="1395" y="36610"/>
                  <a:pt x="0" y="35028"/>
                  <a:pt x="0" y="31864"/>
                </a:cubicBezTo>
                <a:cubicBezTo>
                  <a:pt x="0" y="30282"/>
                  <a:pt x="1395" y="27118"/>
                  <a:pt x="2990" y="27118"/>
                </a:cubicBezTo>
                <a:lnTo>
                  <a:pt x="2990" y="27118"/>
                </a:lnTo>
                <a:cubicBezTo>
                  <a:pt x="57807" y="1581"/>
                  <a:pt x="57807" y="1581"/>
                  <a:pt x="57807" y="1581"/>
                </a:cubicBezTo>
                <a:lnTo>
                  <a:pt x="57807" y="1581"/>
                </a:lnTo>
                <a:lnTo>
                  <a:pt x="57807" y="1581"/>
                </a:lnTo>
                <a:lnTo>
                  <a:pt x="57807" y="1581"/>
                </a:lnTo>
                <a:cubicBezTo>
                  <a:pt x="59202" y="0"/>
                  <a:pt x="59202" y="0"/>
                  <a:pt x="60598" y="0"/>
                </a:cubicBezTo>
                <a:cubicBezTo>
                  <a:pt x="60598" y="0"/>
                  <a:pt x="61993" y="0"/>
                  <a:pt x="61993" y="1581"/>
                </a:cubicBezTo>
                <a:lnTo>
                  <a:pt x="61993" y="1581"/>
                </a:lnTo>
                <a:lnTo>
                  <a:pt x="61993" y="1581"/>
                </a:lnTo>
                <a:lnTo>
                  <a:pt x="61993" y="1581"/>
                </a:lnTo>
                <a:cubicBezTo>
                  <a:pt x="117009" y="27118"/>
                  <a:pt x="117009" y="27118"/>
                  <a:pt x="117009" y="27118"/>
                </a:cubicBezTo>
                <a:lnTo>
                  <a:pt x="117009" y="27118"/>
                </a:lnTo>
                <a:cubicBezTo>
                  <a:pt x="118405" y="27118"/>
                  <a:pt x="119800" y="30282"/>
                  <a:pt x="119800" y="31864"/>
                </a:cubicBezTo>
                <a:cubicBezTo>
                  <a:pt x="119800" y="35028"/>
                  <a:pt x="118405" y="36610"/>
                  <a:pt x="117009" y="38192"/>
                </a:cubicBezTo>
                <a:close/>
                <a:moveTo>
                  <a:pt x="5780" y="81355"/>
                </a:moveTo>
                <a:lnTo>
                  <a:pt x="5780" y="81355"/>
                </a:lnTo>
                <a:cubicBezTo>
                  <a:pt x="7176" y="81355"/>
                  <a:pt x="7176" y="81355"/>
                  <a:pt x="8571" y="81355"/>
                </a:cubicBezTo>
                <a:lnTo>
                  <a:pt x="8571" y="81355"/>
                </a:lnTo>
                <a:lnTo>
                  <a:pt x="8571" y="81355"/>
                </a:lnTo>
                <a:lnTo>
                  <a:pt x="8571" y="81355"/>
                </a:lnTo>
                <a:cubicBezTo>
                  <a:pt x="60598" y="106892"/>
                  <a:pt x="60598" y="106892"/>
                  <a:pt x="60598" y="106892"/>
                </a:cubicBezTo>
                <a:cubicBezTo>
                  <a:pt x="112823" y="81355"/>
                  <a:pt x="112823" y="81355"/>
                  <a:pt x="112823" y="81355"/>
                </a:cubicBezTo>
                <a:lnTo>
                  <a:pt x="112823" y="81355"/>
                </a:lnTo>
                <a:lnTo>
                  <a:pt x="112823" y="81355"/>
                </a:lnTo>
                <a:lnTo>
                  <a:pt x="112823" y="81355"/>
                </a:lnTo>
                <a:lnTo>
                  <a:pt x="114219" y="81355"/>
                </a:lnTo>
                <a:cubicBezTo>
                  <a:pt x="118405" y="81355"/>
                  <a:pt x="119800" y="84519"/>
                  <a:pt x="119800" y="87683"/>
                </a:cubicBezTo>
                <a:cubicBezTo>
                  <a:pt x="119800" y="91073"/>
                  <a:pt x="118405" y="92655"/>
                  <a:pt x="117009" y="94237"/>
                </a:cubicBezTo>
                <a:lnTo>
                  <a:pt x="117009" y="94237"/>
                </a:lnTo>
                <a:cubicBezTo>
                  <a:pt x="61993" y="119774"/>
                  <a:pt x="61993" y="119774"/>
                  <a:pt x="61993" y="119774"/>
                </a:cubicBezTo>
                <a:lnTo>
                  <a:pt x="61993" y="119774"/>
                </a:lnTo>
                <a:lnTo>
                  <a:pt x="61993" y="119774"/>
                </a:lnTo>
                <a:lnTo>
                  <a:pt x="61993" y="119774"/>
                </a:lnTo>
                <a:lnTo>
                  <a:pt x="60598" y="119774"/>
                </a:lnTo>
                <a:cubicBezTo>
                  <a:pt x="59202" y="119774"/>
                  <a:pt x="59202" y="119774"/>
                  <a:pt x="57807" y="119774"/>
                </a:cubicBezTo>
                <a:lnTo>
                  <a:pt x="57807" y="119774"/>
                </a:lnTo>
                <a:lnTo>
                  <a:pt x="57807" y="119774"/>
                </a:lnTo>
                <a:lnTo>
                  <a:pt x="57807" y="119774"/>
                </a:lnTo>
                <a:cubicBezTo>
                  <a:pt x="2990" y="94237"/>
                  <a:pt x="2990" y="94237"/>
                  <a:pt x="2990" y="94237"/>
                </a:cubicBezTo>
                <a:lnTo>
                  <a:pt x="2990" y="94237"/>
                </a:lnTo>
                <a:cubicBezTo>
                  <a:pt x="1395" y="92655"/>
                  <a:pt x="0" y="91073"/>
                  <a:pt x="0" y="87683"/>
                </a:cubicBezTo>
                <a:cubicBezTo>
                  <a:pt x="0" y="84519"/>
                  <a:pt x="2990" y="81355"/>
                  <a:pt x="5780" y="81355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Shape 4904"/>
          <p:cNvSpPr/>
          <p:nvPr/>
        </p:nvSpPr>
        <p:spPr>
          <a:xfrm>
            <a:off x="2655720" y="55911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438"/>
                  <a:pt x="59202" y="108438"/>
                </a:cubicBezTo>
                <a:cubicBezTo>
                  <a:pt x="85913" y="108438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59202" y="95880"/>
                </a:moveTo>
                <a:lnTo>
                  <a:pt x="59202" y="95880"/>
                </a:lnTo>
                <a:cubicBezTo>
                  <a:pt x="39468" y="95880"/>
                  <a:pt x="23920" y="80332"/>
                  <a:pt x="23920" y="60598"/>
                </a:cubicBezTo>
                <a:cubicBezTo>
                  <a:pt x="23920" y="40863"/>
                  <a:pt x="39468" y="23920"/>
                  <a:pt x="59202" y="23920"/>
                </a:cubicBezTo>
                <a:cubicBezTo>
                  <a:pt x="78936" y="23920"/>
                  <a:pt x="95880" y="40863"/>
                  <a:pt x="95880" y="60598"/>
                </a:cubicBezTo>
                <a:cubicBezTo>
                  <a:pt x="95880" y="80332"/>
                  <a:pt x="78936" y="95880"/>
                  <a:pt x="59202" y="95880"/>
                </a:cubicBezTo>
                <a:close/>
                <a:moveTo>
                  <a:pt x="59202" y="35282"/>
                </a:moveTo>
                <a:lnTo>
                  <a:pt x="59202" y="35282"/>
                </a:lnTo>
                <a:cubicBezTo>
                  <a:pt x="46445" y="35282"/>
                  <a:pt x="35282" y="46445"/>
                  <a:pt x="35282" y="60598"/>
                </a:cubicBezTo>
                <a:cubicBezTo>
                  <a:pt x="35282" y="73355"/>
                  <a:pt x="46445" y="84518"/>
                  <a:pt x="59202" y="84518"/>
                </a:cubicBezTo>
                <a:cubicBezTo>
                  <a:pt x="73355" y="84518"/>
                  <a:pt x="84518" y="73355"/>
                  <a:pt x="84518" y="60598"/>
                </a:cubicBezTo>
                <a:cubicBezTo>
                  <a:pt x="84518" y="46445"/>
                  <a:pt x="73355" y="35282"/>
                  <a:pt x="59202" y="35282"/>
                </a:cubicBezTo>
                <a:close/>
                <a:moveTo>
                  <a:pt x="59202" y="71960"/>
                </a:moveTo>
                <a:lnTo>
                  <a:pt x="59202" y="71960"/>
                </a:lnTo>
                <a:cubicBezTo>
                  <a:pt x="53621" y="71960"/>
                  <a:pt x="47840" y="66378"/>
                  <a:pt x="47840" y="60598"/>
                </a:cubicBezTo>
                <a:cubicBezTo>
                  <a:pt x="47840" y="53621"/>
                  <a:pt x="53621" y="49435"/>
                  <a:pt x="59202" y="49435"/>
                </a:cubicBezTo>
                <a:cubicBezTo>
                  <a:pt x="66179" y="49435"/>
                  <a:pt x="70564" y="53621"/>
                  <a:pt x="70564" y="60598"/>
                </a:cubicBezTo>
                <a:cubicBezTo>
                  <a:pt x="70564" y="66378"/>
                  <a:pt x="66179" y="71960"/>
                  <a:pt x="59202" y="7196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Shape 4905"/>
          <p:cNvSpPr/>
          <p:nvPr/>
        </p:nvSpPr>
        <p:spPr>
          <a:xfrm>
            <a:off x="2154240" y="5591160"/>
            <a:ext cx="289080" cy="285840"/>
          </a:xfrm>
          <a:custGeom>
            <a:avLst/>
            <a:gdLst>
              <a:gd name="textAreaLeft" fmla="*/ 0 w 289080"/>
              <a:gd name="textAreaRight" fmla="*/ 289440 w 2890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114285" y="66378"/>
                </a:moveTo>
                <a:lnTo>
                  <a:pt x="114285" y="66378"/>
                </a:lnTo>
                <a:cubicBezTo>
                  <a:pt x="98916" y="66378"/>
                  <a:pt x="98916" y="66378"/>
                  <a:pt x="98916" y="66378"/>
                </a:cubicBezTo>
                <a:cubicBezTo>
                  <a:pt x="96157" y="66378"/>
                  <a:pt x="93399" y="63388"/>
                  <a:pt x="93399" y="60598"/>
                </a:cubicBezTo>
                <a:cubicBezTo>
                  <a:pt x="93399" y="56411"/>
                  <a:pt x="96157" y="55016"/>
                  <a:pt x="98916" y="55016"/>
                </a:cubicBezTo>
                <a:cubicBezTo>
                  <a:pt x="114285" y="55016"/>
                  <a:pt x="114285" y="55016"/>
                  <a:pt x="114285" y="55016"/>
                </a:cubicBezTo>
                <a:cubicBezTo>
                  <a:pt x="117044" y="55016"/>
                  <a:pt x="119802" y="56411"/>
                  <a:pt x="119802" y="60598"/>
                </a:cubicBezTo>
                <a:cubicBezTo>
                  <a:pt x="119802" y="63388"/>
                  <a:pt x="117044" y="66378"/>
                  <a:pt x="114285" y="66378"/>
                </a:cubicBezTo>
                <a:close/>
                <a:moveTo>
                  <a:pt x="103054" y="23920"/>
                </a:moveTo>
                <a:lnTo>
                  <a:pt x="103054" y="23920"/>
                </a:lnTo>
                <a:cubicBezTo>
                  <a:pt x="92019" y="35282"/>
                  <a:pt x="92019" y="35282"/>
                  <a:pt x="92019" y="35282"/>
                </a:cubicBezTo>
                <a:lnTo>
                  <a:pt x="92019" y="35282"/>
                </a:lnTo>
                <a:cubicBezTo>
                  <a:pt x="90443" y="36677"/>
                  <a:pt x="89064" y="38073"/>
                  <a:pt x="87684" y="38073"/>
                </a:cubicBezTo>
                <a:cubicBezTo>
                  <a:pt x="84926" y="38073"/>
                  <a:pt x="82167" y="35282"/>
                  <a:pt x="82167" y="32491"/>
                </a:cubicBezTo>
                <a:cubicBezTo>
                  <a:pt x="82167" y="31096"/>
                  <a:pt x="82167" y="29700"/>
                  <a:pt x="83546" y="28305"/>
                </a:cubicBezTo>
                <a:lnTo>
                  <a:pt x="83546" y="28305"/>
                </a:lnTo>
                <a:cubicBezTo>
                  <a:pt x="94778" y="16943"/>
                  <a:pt x="94778" y="16943"/>
                  <a:pt x="94778" y="16943"/>
                </a:cubicBezTo>
                <a:lnTo>
                  <a:pt x="94778" y="16943"/>
                </a:lnTo>
                <a:cubicBezTo>
                  <a:pt x="96157" y="15548"/>
                  <a:pt x="97536" y="15548"/>
                  <a:pt x="98916" y="15548"/>
                </a:cubicBezTo>
                <a:cubicBezTo>
                  <a:pt x="101674" y="15548"/>
                  <a:pt x="104433" y="16943"/>
                  <a:pt x="104433" y="21129"/>
                </a:cubicBezTo>
                <a:cubicBezTo>
                  <a:pt x="104433" y="22524"/>
                  <a:pt x="104433" y="23920"/>
                  <a:pt x="103054" y="23920"/>
                </a:cubicBezTo>
                <a:close/>
                <a:moveTo>
                  <a:pt x="59901" y="119800"/>
                </a:moveTo>
                <a:lnTo>
                  <a:pt x="59901" y="119800"/>
                </a:lnTo>
                <a:cubicBezTo>
                  <a:pt x="57142" y="119800"/>
                  <a:pt x="54384" y="118405"/>
                  <a:pt x="54384" y="114219"/>
                </a:cubicBezTo>
                <a:cubicBezTo>
                  <a:pt x="54384" y="100066"/>
                  <a:pt x="54384" y="100066"/>
                  <a:pt x="54384" y="100066"/>
                </a:cubicBezTo>
                <a:cubicBezTo>
                  <a:pt x="54384" y="95880"/>
                  <a:pt x="57142" y="94485"/>
                  <a:pt x="59901" y="94485"/>
                </a:cubicBezTo>
                <a:cubicBezTo>
                  <a:pt x="62660" y="94485"/>
                  <a:pt x="65418" y="95880"/>
                  <a:pt x="65418" y="100066"/>
                </a:cubicBezTo>
                <a:cubicBezTo>
                  <a:pt x="65418" y="114219"/>
                  <a:pt x="65418" y="114219"/>
                  <a:pt x="65418" y="114219"/>
                </a:cubicBezTo>
                <a:cubicBezTo>
                  <a:pt x="65418" y="118405"/>
                  <a:pt x="62660" y="119800"/>
                  <a:pt x="59901" y="119800"/>
                </a:cubicBezTo>
                <a:close/>
                <a:moveTo>
                  <a:pt x="59901" y="26910"/>
                </a:moveTo>
                <a:lnTo>
                  <a:pt x="59901" y="26910"/>
                </a:lnTo>
                <a:cubicBezTo>
                  <a:pt x="57142" y="26910"/>
                  <a:pt x="54384" y="23920"/>
                  <a:pt x="54384" y="21129"/>
                </a:cubicBezTo>
                <a:cubicBezTo>
                  <a:pt x="54384" y="5780"/>
                  <a:pt x="54384" y="5780"/>
                  <a:pt x="54384" y="5780"/>
                </a:cubicBezTo>
                <a:cubicBezTo>
                  <a:pt x="54384" y="2990"/>
                  <a:pt x="57142" y="0"/>
                  <a:pt x="59901" y="0"/>
                </a:cubicBezTo>
                <a:cubicBezTo>
                  <a:pt x="62660" y="0"/>
                  <a:pt x="65418" y="2990"/>
                  <a:pt x="65418" y="5780"/>
                </a:cubicBezTo>
                <a:cubicBezTo>
                  <a:pt x="65418" y="21129"/>
                  <a:pt x="65418" y="21129"/>
                  <a:pt x="65418" y="21129"/>
                </a:cubicBezTo>
                <a:cubicBezTo>
                  <a:pt x="65418" y="23920"/>
                  <a:pt x="62660" y="26910"/>
                  <a:pt x="59901" y="26910"/>
                </a:cubicBezTo>
                <a:close/>
                <a:moveTo>
                  <a:pt x="36256" y="91694"/>
                </a:moveTo>
                <a:lnTo>
                  <a:pt x="36256" y="91694"/>
                </a:lnTo>
                <a:cubicBezTo>
                  <a:pt x="25024" y="102857"/>
                  <a:pt x="25024" y="102857"/>
                  <a:pt x="25024" y="102857"/>
                </a:cubicBezTo>
                <a:lnTo>
                  <a:pt x="25024" y="102857"/>
                </a:lnTo>
                <a:cubicBezTo>
                  <a:pt x="23645" y="104252"/>
                  <a:pt x="22266" y="105647"/>
                  <a:pt x="20886" y="105647"/>
                </a:cubicBezTo>
                <a:cubicBezTo>
                  <a:pt x="18128" y="105647"/>
                  <a:pt x="15369" y="102857"/>
                  <a:pt x="15369" y="100066"/>
                </a:cubicBezTo>
                <a:cubicBezTo>
                  <a:pt x="15369" y="98671"/>
                  <a:pt x="15369" y="97275"/>
                  <a:pt x="16748" y="95880"/>
                </a:cubicBezTo>
                <a:lnTo>
                  <a:pt x="16748" y="95880"/>
                </a:lnTo>
                <a:cubicBezTo>
                  <a:pt x="27783" y="84518"/>
                  <a:pt x="27783" y="84518"/>
                  <a:pt x="27783" y="84518"/>
                </a:cubicBezTo>
                <a:lnTo>
                  <a:pt x="27783" y="84518"/>
                </a:lnTo>
                <a:cubicBezTo>
                  <a:pt x="29359" y="83122"/>
                  <a:pt x="30738" y="83122"/>
                  <a:pt x="32118" y="83122"/>
                </a:cubicBezTo>
                <a:cubicBezTo>
                  <a:pt x="34876" y="83122"/>
                  <a:pt x="37635" y="84518"/>
                  <a:pt x="37635" y="88903"/>
                </a:cubicBezTo>
                <a:cubicBezTo>
                  <a:pt x="37635" y="90299"/>
                  <a:pt x="37635" y="91694"/>
                  <a:pt x="36256" y="91694"/>
                </a:cubicBezTo>
                <a:close/>
                <a:moveTo>
                  <a:pt x="32118" y="38073"/>
                </a:moveTo>
                <a:lnTo>
                  <a:pt x="32118" y="38073"/>
                </a:lnTo>
                <a:cubicBezTo>
                  <a:pt x="30738" y="38073"/>
                  <a:pt x="29359" y="36677"/>
                  <a:pt x="27783" y="35282"/>
                </a:cubicBezTo>
                <a:lnTo>
                  <a:pt x="27783" y="35282"/>
                </a:lnTo>
                <a:cubicBezTo>
                  <a:pt x="16748" y="23920"/>
                  <a:pt x="16748" y="23920"/>
                  <a:pt x="16748" y="23920"/>
                </a:cubicBezTo>
                <a:lnTo>
                  <a:pt x="16748" y="23920"/>
                </a:lnTo>
                <a:cubicBezTo>
                  <a:pt x="15369" y="23920"/>
                  <a:pt x="15369" y="22524"/>
                  <a:pt x="15369" y="21129"/>
                </a:cubicBezTo>
                <a:cubicBezTo>
                  <a:pt x="15369" y="16943"/>
                  <a:pt x="18128" y="15548"/>
                  <a:pt x="20886" y="15548"/>
                </a:cubicBezTo>
                <a:cubicBezTo>
                  <a:pt x="22266" y="15548"/>
                  <a:pt x="23645" y="15548"/>
                  <a:pt x="25024" y="16943"/>
                </a:cubicBezTo>
                <a:lnTo>
                  <a:pt x="25024" y="16943"/>
                </a:lnTo>
                <a:cubicBezTo>
                  <a:pt x="36256" y="28305"/>
                  <a:pt x="36256" y="28305"/>
                  <a:pt x="36256" y="28305"/>
                </a:cubicBezTo>
                <a:lnTo>
                  <a:pt x="36256" y="28305"/>
                </a:lnTo>
                <a:cubicBezTo>
                  <a:pt x="37635" y="29700"/>
                  <a:pt x="37635" y="31096"/>
                  <a:pt x="37635" y="32491"/>
                </a:cubicBezTo>
                <a:cubicBezTo>
                  <a:pt x="37635" y="35282"/>
                  <a:pt x="34876" y="38073"/>
                  <a:pt x="32118" y="38073"/>
                </a:cubicBezTo>
                <a:close/>
                <a:moveTo>
                  <a:pt x="26403" y="60598"/>
                </a:moveTo>
                <a:lnTo>
                  <a:pt x="26403" y="60598"/>
                </a:lnTo>
                <a:cubicBezTo>
                  <a:pt x="26403" y="63388"/>
                  <a:pt x="23645" y="66378"/>
                  <a:pt x="20886" y="66378"/>
                </a:cubicBezTo>
                <a:cubicBezTo>
                  <a:pt x="5517" y="66378"/>
                  <a:pt x="5517" y="66378"/>
                  <a:pt x="5517" y="66378"/>
                </a:cubicBezTo>
                <a:cubicBezTo>
                  <a:pt x="2758" y="66378"/>
                  <a:pt x="0" y="63388"/>
                  <a:pt x="0" y="60598"/>
                </a:cubicBezTo>
                <a:cubicBezTo>
                  <a:pt x="0" y="56411"/>
                  <a:pt x="2758" y="55016"/>
                  <a:pt x="5517" y="55016"/>
                </a:cubicBezTo>
                <a:cubicBezTo>
                  <a:pt x="20886" y="55016"/>
                  <a:pt x="20886" y="55016"/>
                  <a:pt x="20886" y="55016"/>
                </a:cubicBezTo>
                <a:cubicBezTo>
                  <a:pt x="23645" y="55016"/>
                  <a:pt x="26403" y="56411"/>
                  <a:pt x="26403" y="60598"/>
                </a:cubicBezTo>
                <a:close/>
                <a:moveTo>
                  <a:pt x="87684" y="83122"/>
                </a:moveTo>
                <a:lnTo>
                  <a:pt x="87684" y="83122"/>
                </a:lnTo>
                <a:cubicBezTo>
                  <a:pt x="89064" y="83122"/>
                  <a:pt x="90443" y="83122"/>
                  <a:pt x="92019" y="84518"/>
                </a:cubicBezTo>
                <a:lnTo>
                  <a:pt x="92019" y="84518"/>
                </a:lnTo>
                <a:cubicBezTo>
                  <a:pt x="103054" y="95880"/>
                  <a:pt x="103054" y="95880"/>
                  <a:pt x="103054" y="95880"/>
                </a:cubicBezTo>
                <a:lnTo>
                  <a:pt x="103054" y="95880"/>
                </a:lnTo>
                <a:cubicBezTo>
                  <a:pt x="104433" y="97275"/>
                  <a:pt x="104433" y="98671"/>
                  <a:pt x="104433" y="100066"/>
                </a:cubicBezTo>
                <a:cubicBezTo>
                  <a:pt x="104433" y="102857"/>
                  <a:pt x="101674" y="105647"/>
                  <a:pt x="98916" y="105647"/>
                </a:cubicBezTo>
                <a:cubicBezTo>
                  <a:pt x="97536" y="105647"/>
                  <a:pt x="96157" y="104252"/>
                  <a:pt x="94778" y="102857"/>
                </a:cubicBezTo>
                <a:lnTo>
                  <a:pt x="94778" y="102857"/>
                </a:lnTo>
                <a:cubicBezTo>
                  <a:pt x="83546" y="91694"/>
                  <a:pt x="83546" y="91694"/>
                  <a:pt x="83546" y="91694"/>
                </a:cubicBezTo>
                <a:lnTo>
                  <a:pt x="83546" y="91694"/>
                </a:lnTo>
                <a:cubicBezTo>
                  <a:pt x="82167" y="91694"/>
                  <a:pt x="82167" y="90299"/>
                  <a:pt x="82167" y="88903"/>
                </a:cubicBezTo>
                <a:cubicBezTo>
                  <a:pt x="82167" y="84518"/>
                  <a:pt x="84926" y="83122"/>
                  <a:pt x="87684" y="8312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Shape 4906"/>
          <p:cNvSpPr/>
          <p:nvPr/>
        </p:nvSpPr>
        <p:spPr>
          <a:xfrm>
            <a:off x="1654200" y="5591160"/>
            <a:ext cx="287280" cy="285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438"/>
                  <a:pt x="60598" y="108438"/>
                </a:cubicBezTo>
                <a:cubicBezTo>
                  <a:pt x="87308" y="108438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60598" y="85913"/>
                </a:moveTo>
                <a:lnTo>
                  <a:pt x="60598" y="85913"/>
                </a:lnTo>
                <a:cubicBezTo>
                  <a:pt x="45049" y="85913"/>
                  <a:pt x="49235" y="70564"/>
                  <a:pt x="49235" y="70564"/>
                </a:cubicBezTo>
                <a:cubicBezTo>
                  <a:pt x="60598" y="29700"/>
                  <a:pt x="60598" y="29700"/>
                  <a:pt x="60598" y="29700"/>
                </a:cubicBezTo>
                <a:cubicBezTo>
                  <a:pt x="70365" y="70564"/>
                  <a:pt x="70365" y="70564"/>
                  <a:pt x="70365" y="70564"/>
                </a:cubicBezTo>
                <a:cubicBezTo>
                  <a:pt x="74750" y="85913"/>
                  <a:pt x="60598" y="85913"/>
                  <a:pt x="60598" y="85913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Shape 4907"/>
          <p:cNvSpPr/>
          <p:nvPr/>
        </p:nvSpPr>
        <p:spPr>
          <a:xfrm>
            <a:off x="10220400" y="4098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98671" y="119800"/>
                </a:moveTo>
                <a:lnTo>
                  <a:pt x="98671" y="119800"/>
                </a:lnTo>
                <a:cubicBezTo>
                  <a:pt x="98671" y="64784"/>
                  <a:pt x="55016" y="19734"/>
                  <a:pt x="0" y="19734"/>
                </a:cubicBezTo>
                <a:cubicBezTo>
                  <a:pt x="0" y="0"/>
                  <a:pt x="0" y="0"/>
                  <a:pt x="0" y="0"/>
                </a:cubicBezTo>
                <a:cubicBezTo>
                  <a:pt x="66179" y="0"/>
                  <a:pt x="119800" y="53621"/>
                  <a:pt x="119800" y="119800"/>
                </a:cubicBezTo>
                <a:lnTo>
                  <a:pt x="98671" y="119800"/>
                </a:lnTo>
                <a:close/>
                <a:moveTo>
                  <a:pt x="76146" y="119800"/>
                </a:moveTo>
                <a:lnTo>
                  <a:pt x="76146" y="119800"/>
                </a:lnTo>
                <a:cubicBezTo>
                  <a:pt x="56411" y="119800"/>
                  <a:pt x="56411" y="119800"/>
                  <a:pt x="56411" y="119800"/>
                </a:cubicBezTo>
                <a:cubicBezTo>
                  <a:pt x="56411" y="88903"/>
                  <a:pt x="30897" y="63388"/>
                  <a:pt x="0" y="63388"/>
                </a:cubicBezTo>
                <a:cubicBezTo>
                  <a:pt x="0" y="42259"/>
                  <a:pt x="0" y="42259"/>
                  <a:pt x="0" y="42259"/>
                </a:cubicBezTo>
                <a:cubicBezTo>
                  <a:pt x="42259" y="42259"/>
                  <a:pt x="76146" y="77541"/>
                  <a:pt x="76146" y="119800"/>
                </a:cubicBezTo>
                <a:close/>
                <a:moveTo>
                  <a:pt x="14152" y="90299"/>
                </a:moveTo>
                <a:lnTo>
                  <a:pt x="14152" y="90299"/>
                </a:lnTo>
                <a:cubicBezTo>
                  <a:pt x="22524" y="90299"/>
                  <a:pt x="29501" y="95880"/>
                  <a:pt x="29501" y="104252"/>
                </a:cubicBezTo>
                <a:cubicBezTo>
                  <a:pt x="29501" y="112823"/>
                  <a:pt x="22524" y="119800"/>
                  <a:pt x="14152" y="119800"/>
                </a:cubicBezTo>
                <a:cubicBezTo>
                  <a:pt x="5581" y="119800"/>
                  <a:pt x="0" y="112823"/>
                  <a:pt x="0" y="104252"/>
                </a:cubicBezTo>
                <a:cubicBezTo>
                  <a:pt x="0" y="95880"/>
                  <a:pt x="5581" y="90299"/>
                  <a:pt x="14152" y="90299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Shape 4908"/>
          <p:cNvSpPr/>
          <p:nvPr/>
        </p:nvSpPr>
        <p:spPr>
          <a:xfrm>
            <a:off x="9731520" y="4111560"/>
            <a:ext cx="260280" cy="258840"/>
          </a:xfrm>
          <a:custGeom>
            <a:avLst/>
            <a:gdLst>
              <a:gd name="textAreaLeft" fmla="*/ 0 w 260280"/>
              <a:gd name="textAreaRight" fmla="*/ 260640 w 260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3695" y="43516"/>
                </a:moveTo>
                <a:lnTo>
                  <a:pt x="113695" y="43516"/>
                </a:lnTo>
                <a:cubicBezTo>
                  <a:pt x="92173" y="43516"/>
                  <a:pt x="92173" y="43516"/>
                  <a:pt x="92173" y="43516"/>
                </a:cubicBezTo>
                <a:cubicBezTo>
                  <a:pt x="84565" y="76263"/>
                  <a:pt x="84565" y="76263"/>
                  <a:pt x="84565" y="76263"/>
                </a:cubicBezTo>
                <a:cubicBezTo>
                  <a:pt x="101521" y="76263"/>
                  <a:pt x="101521" y="76263"/>
                  <a:pt x="101521" y="76263"/>
                </a:cubicBezTo>
                <a:cubicBezTo>
                  <a:pt x="104565" y="76263"/>
                  <a:pt x="107608" y="79340"/>
                  <a:pt x="107608" y="82417"/>
                </a:cubicBezTo>
                <a:cubicBezTo>
                  <a:pt x="107608" y="85494"/>
                  <a:pt x="104565" y="88571"/>
                  <a:pt x="101521" y="88571"/>
                </a:cubicBezTo>
                <a:cubicBezTo>
                  <a:pt x="81521" y="88571"/>
                  <a:pt x="81521" y="88571"/>
                  <a:pt x="81521" y="88571"/>
                </a:cubicBezTo>
                <a:cubicBezTo>
                  <a:pt x="76956" y="114945"/>
                  <a:pt x="76956" y="114945"/>
                  <a:pt x="76956" y="114945"/>
                </a:cubicBezTo>
                <a:lnTo>
                  <a:pt x="76956" y="114945"/>
                </a:lnTo>
                <a:cubicBezTo>
                  <a:pt x="75434" y="118241"/>
                  <a:pt x="73695" y="119780"/>
                  <a:pt x="70652" y="119780"/>
                </a:cubicBezTo>
                <a:cubicBezTo>
                  <a:pt x="66086" y="119780"/>
                  <a:pt x="64565" y="116703"/>
                  <a:pt x="64565" y="113406"/>
                </a:cubicBezTo>
                <a:lnTo>
                  <a:pt x="64565" y="111868"/>
                </a:lnTo>
                <a:lnTo>
                  <a:pt x="64565" y="111868"/>
                </a:lnTo>
                <a:cubicBezTo>
                  <a:pt x="69130" y="88571"/>
                  <a:pt x="69130" y="88571"/>
                  <a:pt x="69130" y="88571"/>
                </a:cubicBezTo>
                <a:cubicBezTo>
                  <a:pt x="36956" y="88571"/>
                  <a:pt x="36956" y="88571"/>
                  <a:pt x="36956" y="88571"/>
                </a:cubicBezTo>
                <a:cubicBezTo>
                  <a:pt x="30652" y="114945"/>
                  <a:pt x="30652" y="114945"/>
                  <a:pt x="30652" y="114945"/>
                </a:cubicBezTo>
                <a:lnTo>
                  <a:pt x="30652" y="114945"/>
                </a:lnTo>
                <a:cubicBezTo>
                  <a:pt x="30652" y="118241"/>
                  <a:pt x="27608" y="119780"/>
                  <a:pt x="24565" y="119780"/>
                </a:cubicBezTo>
                <a:cubicBezTo>
                  <a:pt x="21521" y="119780"/>
                  <a:pt x="18478" y="116703"/>
                  <a:pt x="18478" y="113406"/>
                </a:cubicBezTo>
                <a:lnTo>
                  <a:pt x="18478" y="111868"/>
                </a:lnTo>
                <a:lnTo>
                  <a:pt x="18478" y="111868"/>
                </a:lnTo>
                <a:cubicBezTo>
                  <a:pt x="24565" y="88571"/>
                  <a:pt x="24565" y="88571"/>
                  <a:pt x="24565" y="88571"/>
                </a:cubicBezTo>
                <a:cubicBezTo>
                  <a:pt x="6086" y="88571"/>
                  <a:pt x="6086" y="88571"/>
                  <a:pt x="6086" y="88571"/>
                </a:cubicBezTo>
                <a:cubicBezTo>
                  <a:pt x="3043" y="88571"/>
                  <a:pt x="0" y="85494"/>
                  <a:pt x="0" y="82417"/>
                </a:cubicBezTo>
                <a:cubicBezTo>
                  <a:pt x="0" y="79340"/>
                  <a:pt x="3043" y="76263"/>
                  <a:pt x="6086" y="76263"/>
                </a:cubicBezTo>
                <a:cubicBezTo>
                  <a:pt x="27608" y="76263"/>
                  <a:pt x="27608" y="76263"/>
                  <a:pt x="27608" y="76263"/>
                </a:cubicBezTo>
                <a:cubicBezTo>
                  <a:pt x="35434" y="43516"/>
                  <a:pt x="35434" y="43516"/>
                  <a:pt x="35434" y="43516"/>
                </a:cubicBezTo>
                <a:cubicBezTo>
                  <a:pt x="18478" y="43516"/>
                  <a:pt x="18478" y="43516"/>
                  <a:pt x="18478" y="43516"/>
                </a:cubicBezTo>
                <a:cubicBezTo>
                  <a:pt x="15434" y="43516"/>
                  <a:pt x="12391" y="40439"/>
                  <a:pt x="12391" y="37362"/>
                </a:cubicBezTo>
                <a:cubicBezTo>
                  <a:pt x="12391" y="32747"/>
                  <a:pt x="15434" y="31208"/>
                  <a:pt x="18478" y="31208"/>
                </a:cubicBezTo>
                <a:cubicBezTo>
                  <a:pt x="38478" y="31208"/>
                  <a:pt x="38478" y="31208"/>
                  <a:pt x="38478" y="31208"/>
                </a:cubicBezTo>
                <a:cubicBezTo>
                  <a:pt x="43043" y="4835"/>
                  <a:pt x="43043" y="4835"/>
                  <a:pt x="43043" y="4835"/>
                </a:cubicBezTo>
                <a:lnTo>
                  <a:pt x="43043" y="4835"/>
                </a:lnTo>
                <a:cubicBezTo>
                  <a:pt x="44565" y="1538"/>
                  <a:pt x="46086" y="0"/>
                  <a:pt x="49130" y="0"/>
                </a:cubicBezTo>
                <a:cubicBezTo>
                  <a:pt x="53913" y="0"/>
                  <a:pt x="55434" y="1538"/>
                  <a:pt x="55434" y="6373"/>
                </a:cubicBezTo>
                <a:cubicBezTo>
                  <a:pt x="55434" y="6373"/>
                  <a:pt x="55434" y="6373"/>
                  <a:pt x="55434" y="7912"/>
                </a:cubicBezTo>
                <a:lnTo>
                  <a:pt x="55434" y="7912"/>
                </a:lnTo>
                <a:cubicBezTo>
                  <a:pt x="50869" y="31208"/>
                  <a:pt x="50869" y="31208"/>
                  <a:pt x="50869" y="31208"/>
                </a:cubicBezTo>
                <a:cubicBezTo>
                  <a:pt x="83043" y="31208"/>
                  <a:pt x="83043" y="31208"/>
                  <a:pt x="83043" y="31208"/>
                </a:cubicBezTo>
                <a:cubicBezTo>
                  <a:pt x="89130" y="4835"/>
                  <a:pt x="89130" y="4835"/>
                  <a:pt x="89130" y="4835"/>
                </a:cubicBezTo>
                <a:lnTo>
                  <a:pt x="89130" y="4835"/>
                </a:lnTo>
                <a:cubicBezTo>
                  <a:pt x="89130" y="1538"/>
                  <a:pt x="92173" y="0"/>
                  <a:pt x="95217" y="0"/>
                </a:cubicBezTo>
                <a:cubicBezTo>
                  <a:pt x="98260" y="0"/>
                  <a:pt x="101521" y="1538"/>
                  <a:pt x="101521" y="6373"/>
                </a:cubicBezTo>
                <a:cubicBezTo>
                  <a:pt x="101521" y="6373"/>
                  <a:pt x="101521" y="6373"/>
                  <a:pt x="101521" y="7912"/>
                </a:cubicBezTo>
                <a:lnTo>
                  <a:pt x="101521" y="7912"/>
                </a:lnTo>
                <a:cubicBezTo>
                  <a:pt x="95217" y="31208"/>
                  <a:pt x="95217" y="31208"/>
                  <a:pt x="95217" y="31208"/>
                </a:cubicBezTo>
                <a:cubicBezTo>
                  <a:pt x="113695" y="31208"/>
                  <a:pt x="113695" y="31208"/>
                  <a:pt x="113695" y="31208"/>
                </a:cubicBezTo>
                <a:cubicBezTo>
                  <a:pt x="116739" y="31208"/>
                  <a:pt x="119782" y="32747"/>
                  <a:pt x="119782" y="37362"/>
                </a:cubicBezTo>
                <a:cubicBezTo>
                  <a:pt x="119782" y="40439"/>
                  <a:pt x="116739" y="43516"/>
                  <a:pt x="113695" y="43516"/>
                </a:cubicBezTo>
                <a:close/>
                <a:moveTo>
                  <a:pt x="47608" y="43516"/>
                </a:moveTo>
                <a:lnTo>
                  <a:pt x="47608" y="43516"/>
                </a:lnTo>
                <a:cubicBezTo>
                  <a:pt x="40000" y="76263"/>
                  <a:pt x="40000" y="76263"/>
                  <a:pt x="40000" y="76263"/>
                </a:cubicBezTo>
                <a:cubicBezTo>
                  <a:pt x="72173" y="76263"/>
                  <a:pt x="72173" y="76263"/>
                  <a:pt x="72173" y="76263"/>
                </a:cubicBezTo>
                <a:cubicBezTo>
                  <a:pt x="80000" y="43516"/>
                  <a:pt x="80000" y="43516"/>
                  <a:pt x="80000" y="43516"/>
                </a:cubicBezTo>
                <a:lnTo>
                  <a:pt x="47608" y="43516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Shape 4909"/>
          <p:cNvSpPr/>
          <p:nvPr/>
        </p:nvSpPr>
        <p:spPr>
          <a:xfrm>
            <a:off x="9218520" y="4125960"/>
            <a:ext cx="287280" cy="231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54"/>
                </a:moveTo>
                <a:lnTo>
                  <a:pt x="114019" y="119754"/>
                </a:lnTo>
                <a:cubicBezTo>
                  <a:pt x="5581" y="119754"/>
                  <a:pt x="5581" y="119754"/>
                  <a:pt x="5581" y="119754"/>
                </a:cubicBezTo>
                <a:cubicBezTo>
                  <a:pt x="2790" y="119754"/>
                  <a:pt x="0" y="116311"/>
                  <a:pt x="0" y="112868"/>
                </a:cubicBezTo>
                <a:cubicBezTo>
                  <a:pt x="0" y="6885"/>
                  <a:pt x="0" y="6885"/>
                  <a:pt x="0" y="6885"/>
                </a:cubicBezTo>
                <a:cubicBezTo>
                  <a:pt x="0" y="1721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1721"/>
                  <a:pt x="119800" y="6885"/>
                </a:cubicBezTo>
                <a:cubicBezTo>
                  <a:pt x="119800" y="112868"/>
                  <a:pt x="119800" y="112868"/>
                  <a:pt x="119800" y="112868"/>
                </a:cubicBezTo>
                <a:cubicBezTo>
                  <a:pt x="119800" y="116311"/>
                  <a:pt x="118405" y="119754"/>
                  <a:pt x="114019" y="119754"/>
                </a:cubicBezTo>
                <a:close/>
                <a:moveTo>
                  <a:pt x="39468" y="13770"/>
                </a:moveTo>
                <a:lnTo>
                  <a:pt x="39468" y="13770"/>
                </a:lnTo>
                <a:cubicBezTo>
                  <a:pt x="11162" y="13770"/>
                  <a:pt x="11162" y="13770"/>
                  <a:pt x="11162" y="13770"/>
                </a:cubicBezTo>
                <a:cubicBezTo>
                  <a:pt x="11162" y="105983"/>
                  <a:pt x="11162" y="105983"/>
                  <a:pt x="11162" y="105983"/>
                </a:cubicBezTo>
                <a:cubicBezTo>
                  <a:pt x="39468" y="105983"/>
                  <a:pt x="39468" y="105983"/>
                  <a:pt x="39468" y="105983"/>
                </a:cubicBezTo>
                <a:lnTo>
                  <a:pt x="39468" y="13770"/>
                </a:lnTo>
                <a:close/>
                <a:moveTo>
                  <a:pt x="45049" y="13770"/>
                </a:moveTo>
                <a:lnTo>
                  <a:pt x="45049" y="13770"/>
                </a:lnTo>
                <a:cubicBezTo>
                  <a:pt x="45049" y="105983"/>
                  <a:pt x="45049" y="105983"/>
                  <a:pt x="45049" y="105983"/>
                </a:cubicBezTo>
                <a:cubicBezTo>
                  <a:pt x="74551" y="105983"/>
                  <a:pt x="74551" y="105983"/>
                  <a:pt x="74551" y="105983"/>
                </a:cubicBezTo>
                <a:cubicBezTo>
                  <a:pt x="74551" y="13770"/>
                  <a:pt x="74551" y="13770"/>
                  <a:pt x="74551" y="13770"/>
                </a:cubicBezTo>
                <a:lnTo>
                  <a:pt x="45049" y="13770"/>
                </a:lnTo>
                <a:close/>
                <a:moveTo>
                  <a:pt x="108438" y="13770"/>
                </a:moveTo>
                <a:lnTo>
                  <a:pt x="108438" y="13770"/>
                </a:lnTo>
                <a:cubicBezTo>
                  <a:pt x="80332" y="13770"/>
                  <a:pt x="80332" y="13770"/>
                  <a:pt x="80332" y="13770"/>
                </a:cubicBezTo>
                <a:cubicBezTo>
                  <a:pt x="80332" y="105983"/>
                  <a:pt x="80332" y="105983"/>
                  <a:pt x="80332" y="105983"/>
                </a:cubicBezTo>
                <a:cubicBezTo>
                  <a:pt x="108438" y="105983"/>
                  <a:pt x="108438" y="105983"/>
                  <a:pt x="108438" y="105983"/>
                </a:cubicBezTo>
                <a:lnTo>
                  <a:pt x="108438" y="1377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Shape 4910"/>
          <p:cNvSpPr/>
          <p:nvPr/>
        </p:nvSpPr>
        <p:spPr>
          <a:xfrm>
            <a:off x="8726400" y="4105440"/>
            <a:ext cx="276480" cy="276120"/>
          </a:xfrm>
          <a:custGeom>
            <a:avLst/>
            <a:gdLst>
              <a:gd name="textAreaLeft" fmla="*/ 0 w 276480"/>
              <a:gd name="textAreaRight" fmla="*/ 276840 w 2764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20000" h="120000">
                <a:moveTo>
                  <a:pt x="118344" y="19001"/>
                </a:moveTo>
                <a:lnTo>
                  <a:pt x="118344" y="19001"/>
                </a:lnTo>
                <a:cubicBezTo>
                  <a:pt x="105310" y="30774"/>
                  <a:pt x="105310" y="30774"/>
                  <a:pt x="105310" y="30774"/>
                </a:cubicBezTo>
                <a:cubicBezTo>
                  <a:pt x="89172" y="14664"/>
                  <a:pt x="89172" y="14664"/>
                  <a:pt x="89172" y="14664"/>
                </a:cubicBezTo>
                <a:cubicBezTo>
                  <a:pt x="100965" y="1445"/>
                  <a:pt x="100965" y="1445"/>
                  <a:pt x="100965" y="1445"/>
                </a:cubicBezTo>
                <a:cubicBezTo>
                  <a:pt x="103862" y="0"/>
                  <a:pt x="106758" y="0"/>
                  <a:pt x="109655" y="1445"/>
                </a:cubicBezTo>
                <a:cubicBezTo>
                  <a:pt x="118344" y="10327"/>
                  <a:pt x="118344" y="10327"/>
                  <a:pt x="118344" y="10327"/>
                </a:cubicBezTo>
                <a:cubicBezTo>
                  <a:pt x="119793" y="13218"/>
                  <a:pt x="119793" y="16110"/>
                  <a:pt x="118344" y="19001"/>
                </a:cubicBezTo>
                <a:close/>
                <a:moveTo>
                  <a:pt x="30620" y="71669"/>
                </a:moveTo>
                <a:lnTo>
                  <a:pt x="30620" y="71669"/>
                </a:lnTo>
                <a:cubicBezTo>
                  <a:pt x="48206" y="87573"/>
                  <a:pt x="48206" y="87573"/>
                  <a:pt x="48206" y="87573"/>
                </a:cubicBezTo>
                <a:cubicBezTo>
                  <a:pt x="26275" y="93562"/>
                  <a:pt x="26275" y="93562"/>
                  <a:pt x="26275" y="93562"/>
                </a:cubicBezTo>
                <a:lnTo>
                  <a:pt x="30620" y="71669"/>
                </a:lnTo>
                <a:close/>
                <a:moveTo>
                  <a:pt x="100965" y="35111"/>
                </a:moveTo>
                <a:lnTo>
                  <a:pt x="100965" y="35111"/>
                </a:lnTo>
                <a:cubicBezTo>
                  <a:pt x="52551" y="84681"/>
                  <a:pt x="52551" y="84681"/>
                  <a:pt x="52551" y="84681"/>
                </a:cubicBezTo>
                <a:cubicBezTo>
                  <a:pt x="34965" y="67125"/>
                  <a:pt x="34965" y="67125"/>
                  <a:pt x="34965" y="67125"/>
                </a:cubicBezTo>
                <a:cubicBezTo>
                  <a:pt x="84827" y="19001"/>
                  <a:pt x="84827" y="19001"/>
                  <a:pt x="84827" y="19001"/>
                </a:cubicBezTo>
                <a:lnTo>
                  <a:pt x="100965" y="35111"/>
                </a:lnTo>
                <a:close/>
                <a:moveTo>
                  <a:pt x="11586" y="17555"/>
                </a:moveTo>
                <a:lnTo>
                  <a:pt x="11586" y="17555"/>
                </a:lnTo>
                <a:cubicBezTo>
                  <a:pt x="11586" y="108020"/>
                  <a:pt x="11586" y="108020"/>
                  <a:pt x="11586" y="108020"/>
                </a:cubicBezTo>
                <a:cubicBezTo>
                  <a:pt x="102413" y="108020"/>
                  <a:pt x="102413" y="108020"/>
                  <a:pt x="102413" y="108020"/>
                </a:cubicBezTo>
                <a:cubicBezTo>
                  <a:pt x="102413" y="42340"/>
                  <a:pt x="102413" y="42340"/>
                  <a:pt x="102413" y="42340"/>
                </a:cubicBezTo>
                <a:cubicBezTo>
                  <a:pt x="114000" y="30774"/>
                  <a:pt x="114000" y="30774"/>
                  <a:pt x="114000" y="30774"/>
                </a:cubicBezTo>
                <a:cubicBezTo>
                  <a:pt x="114000" y="114010"/>
                  <a:pt x="114000" y="114010"/>
                  <a:pt x="114000" y="114010"/>
                </a:cubicBezTo>
                <a:cubicBezTo>
                  <a:pt x="114000" y="116901"/>
                  <a:pt x="111103" y="119793"/>
                  <a:pt x="108206" y="119793"/>
                </a:cubicBezTo>
                <a:cubicBezTo>
                  <a:pt x="5793" y="119793"/>
                  <a:pt x="5793" y="119793"/>
                  <a:pt x="5793" y="119793"/>
                </a:cubicBezTo>
                <a:cubicBezTo>
                  <a:pt x="2896" y="119793"/>
                  <a:pt x="0" y="116901"/>
                  <a:pt x="0" y="114010"/>
                </a:cubicBezTo>
                <a:cubicBezTo>
                  <a:pt x="0" y="11772"/>
                  <a:pt x="0" y="11772"/>
                  <a:pt x="0" y="11772"/>
                </a:cubicBezTo>
                <a:cubicBezTo>
                  <a:pt x="0" y="8881"/>
                  <a:pt x="2896" y="5783"/>
                  <a:pt x="5793" y="5783"/>
                </a:cubicBezTo>
                <a:cubicBezTo>
                  <a:pt x="89172" y="5783"/>
                  <a:pt x="89172" y="5783"/>
                  <a:pt x="89172" y="5783"/>
                </a:cubicBezTo>
                <a:cubicBezTo>
                  <a:pt x="77586" y="17555"/>
                  <a:pt x="77586" y="17555"/>
                  <a:pt x="77586" y="17555"/>
                </a:cubicBezTo>
                <a:lnTo>
                  <a:pt x="11586" y="1755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Shape 4911"/>
          <p:cNvSpPr/>
          <p:nvPr/>
        </p:nvSpPr>
        <p:spPr>
          <a:xfrm>
            <a:off x="8217000" y="4105440"/>
            <a:ext cx="287280" cy="269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88"/>
                </a:moveTo>
                <a:lnTo>
                  <a:pt x="114276" y="119788"/>
                </a:lnTo>
                <a:cubicBezTo>
                  <a:pt x="5526" y="119788"/>
                  <a:pt x="5526" y="119788"/>
                  <a:pt x="5526" y="119788"/>
                </a:cubicBezTo>
                <a:cubicBezTo>
                  <a:pt x="2763" y="119788"/>
                  <a:pt x="0" y="118306"/>
                  <a:pt x="0" y="113650"/>
                </a:cubicBezTo>
                <a:cubicBezTo>
                  <a:pt x="0" y="110687"/>
                  <a:pt x="2763" y="107724"/>
                  <a:pt x="5526" y="107724"/>
                </a:cubicBezTo>
                <a:cubicBezTo>
                  <a:pt x="114276" y="107724"/>
                  <a:pt x="114276" y="107724"/>
                  <a:pt x="114276" y="107724"/>
                </a:cubicBezTo>
                <a:cubicBezTo>
                  <a:pt x="117039" y="107724"/>
                  <a:pt x="119802" y="110687"/>
                  <a:pt x="119802" y="113650"/>
                </a:cubicBezTo>
                <a:cubicBezTo>
                  <a:pt x="119802" y="118306"/>
                  <a:pt x="117039" y="119788"/>
                  <a:pt x="114276" y="119788"/>
                </a:cubicBezTo>
                <a:close/>
                <a:moveTo>
                  <a:pt x="90592" y="31534"/>
                </a:moveTo>
                <a:lnTo>
                  <a:pt x="90592" y="31534"/>
                </a:lnTo>
                <a:cubicBezTo>
                  <a:pt x="75197" y="15026"/>
                  <a:pt x="75197" y="15026"/>
                  <a:pt x="75197" y="15026"/>
                </a:cubicBezTo>
                <a:cubicBezTo>
                  <a:pt x="87828" y="1481"/>
                  <a:pt x="87828" y="1481"/>
                  <a:pt x="87828" y="1481"/>
                </a:cubicBezTo>
                <a:cubicBezTo>
                  <a:pt x="89210" y="0"/>
                  <a:pt x="93355" y="0"/>
                  <a:pt x="94736" y="1481"/>
                </a:cubicBezTo>
                <a:cubicBezTo>
                  <a:pt x="103223" y="10582"/>
                  <a:pt x="103223" y="10582"/>
                  <a:pt x="103223" y="10582"/>
                </a:cubicBezTo>
                <a:cubicBezTo>
                  <a:pt x="104605" y="13544"/>
                  <a:pt x="104605" y="16507"/>
                  <a:pt x="103223" y="19470"/>
                </a:cubicBezTo>
                <a:lnTo>
                  <a:pt x="90592" y="31534"/>
                </a:lnTo>
                <a:close/>
                <a:moveTo>
                  <a:pt x="40460" y="86772"/>
                </a:moveTo>
                <a:lnTo>
                  <a:pt x="40460" y="86772"/>
                </a:lnTo>
                <a:cubicBezTo>
                  <a:pt x="25065" y="68783"/>
                  <a:pt x="25065" y="68783"/>
                  <a:pt x="25065" y="68783"/>
                </a:cubicBezTo>
                <a:cubicBezTo>
                  <a:pt x="71052" y="19470"/>
                  <a:pt x="71052" y="19470"/>
                  <a:pt x="71052" y="19470"/>
                </a:cubicBezTo>
                <a:cubicBezTo>
                  <a:pt x="87828" y="35978"/>
                  <a:pt x="87828" y="35978"/>
                  <a:pt x="87828" y="35978"/>
                </a:cubicBezTo>
                <a:lnTo>
                  <a:pt x="40460" y="86772"/>
                </a:lnTo>
                <a:close/>
                <a:moveTo>
                  <a:pt x="15197" y="95873"/>
                </a:moveTo>
                <a:lnTo>
                  <a:pt x="15197" y="95873"/>
                </a:lnTo>
                <a:cubicBezTo>
                  <a:pt x="20921" y="73439"/>
                  <a:pt x="20921" y="73439"/>
                  <a:pt x="20921" y="73439"/>
                </a:cubicBezTo>
                <a:cubicBezTo>
                  <a:pt x="36118" y="89735"/>
                  <a:pt x="36118" y="89735"/>
                  <a:pt x="36118" y="89735"/>
                </a:cubicBezTo>
                <a:lnTo>
                  <a:pt x="15197" y="95873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Shape 4912"/>
          <p:cNvSpPr/>
          <p:nvPr/>
        </p:nvSpPr>
        <p:spPr>
          <a:xfrm>
            <a:off x="7754760" y="4132440"/>
            <a:ext cx="216000" cy="2156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20000" h="120000">
                <a:moveTo>
                  <a:pt x="11365" y="86092"/>
                </a:moveTo>
                <a:lnTo>
                  <a:pt x="11365" y="86092"/>
                </a:lnTo>
                <a:cubicBezTo>
                  <a:pt x="74801" y="24370"/>
                  <a:pt x="74801" y="24370"/>
                  <a:pt x="74801" y="24370"/>
                </a:cubicBezTo>
                <a:cubicBezTo>
                  <a:pt x="95418" y="44768"/>
                  <a:pt x="95418" y="44768"/>
                  <a:pt x="95418" y="44768"/>
                </a:cubicBezTo>
                <a:cubicBezTo>
                  <a:pt x="33568" y="108609"/>
                  <a:pt x="33568" y="108609"/>
                  <a:pt x="33568" y="108609"/>
                </a:cubicBezTo>
                <a:lnTo>
                  <a:pt x="11365" y="86092"/>
                </a:lnTo>
                <a:close/>
                <a:moveTo>
                  <a:pt x="95418" y="1854"/>
                </a:moveTo>
                <a:lnTo>
                  <a:pt x="95418" y="1854"/>
                </a:lnTo>
                <a:cubicBezTo>
                  <a:pt x="99118" y="0"/>
                  <a:pt x="102819" y="0"/>
                  <a:pt x="106519" y="1854"/>
                </a:cubicBezTo>
                <a:cubicBezTo>
                  <a:pt x="117885" y="12980"/>
                  <a:pt x="117885" y="12980"/>
                  <a:pt x="117885" y="12980"/>
                </a:cubicBezTo>
                <a:cubicBezTo>
                  <a:pt x="119735" y="16953"/>
                  <a:pt x="119735" y="20662"/>
                  <a:pt x="117885" y="24370"/>
                </a:cubicBezTo>
                <a:cubicBezTo>
                  <a:pt x="100969" y="39205"/>
                  <a:pt x="100969" y="39205"/>
                  <a:pt x="100969" y="39205"/>
                </a:cubicBezTo>
                <a:cubicBezTo>
                  <a:pt x="80352" y="18807"/>
                  <a:pt x="80352" y="18807"/>
                  <a:pt x="80352" y="18807"/>
                </a:cubicBezTo>
                <a:lnTo>
                  <a:pt x="95418" y="1854"/>
                </a:lnTo>
                <a:close/>
                <a:moveTo>
                  <a:pt x="0" y="119735"/>
                </a:moveTo>
                <a:lnTo>
                  <a:pt x="0" y="119735"/>
                </a:lnTo>
                <a:cubicBezTo>
                  <a:pt x="5814" y="91655"/>
                  <a:pt x="5814" y="91655"/>
                  <a:pt x="5814" y="91655"/>
                </a:cubicBezTo>
                <a:cubicBezTo>
                  <a:pt x="28017" y="112317"/>
                  <a:pt x="28017" y="112317"/>
                  <a:pt x="28017" y="112317"/>
                </a:cubicBezTo>
                <a:lnTo>
                  <a:pt x="0" y="11973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Shape 4913"/>
          <p:cNvSpPr/>
          <p:nvPr/>
        </p:nvSpPr>
        <p:spPr>
          <a:xfrm>
            <a:off x="4156200" y="5091120"/>
            <a:ext cx="284040" cy="287280"/>
          </a:xfrm>
          <a:custGeom>
            <a:avLst/>
            <a:gdLst>
              <a:gd name="textAreaLeft" fmla="*/ 0 w 284040"/>
              <a:gd name="textAreaRight" fmla="*/ 284400 w 2840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118402" y="8372"/>
                </a:moveTo>
                <a:lnTo>
                  <a:pt x="118402" y="8372"/>
                </a:lnTo>
                <a:cubicBezTo>
                  <a:pt x="100033" y="28305"/>
                  <a:pt x="100033" y="28305"/>
                  <a:pt x="100033" y="28305"/>
                </a:cubicBezTo>
                <a:cubicBezTo>
                  <a:pt x="108618" y="28305"/>
                  <a:pt x="108618" y="28305"/>
                  <a:pt x="108618" y="28305"/>
                </a:cubicBezTo>
                <a:cubicBezTo>
                  <a:pt x="111414" y="28305"/>
                  <a:pt x="114209" y="29700"/>
                  <a:pt x="114209" y="33887"/>
                </a:cubicBezTo>
                <a:cubicBezTo>
                  <a:pt x="114209" y="36677"/>
                  <a:pt x="111414" y="39468"/>
                  <a:pt x="108618" y="39468"/>
                </a:cubicBezTo>
                <a:cubicBezTo>
                  <a:pt x="86056" y="39468"/>
                  <a:pt x="86056" y="39468"/>
                  <a:pt x="86056" y="39468"/>
                </a:cubicBezTo>
                <a:cubicBezTo>
                  <a:pt x="83261" y="39468"/>
                  <a:pt x="80266" y="36677"/>
                  <a:pt x="80266" y="33887"/>
                </a:cubicBezTo>
                <a:cubicBezTo>
                  <a:pt x="80266" y="11362"/>
                  <a:pt x="80266" y="11362"/>
                  <a:pt x="80266" y="11362"/>
                </a:cubicBezTo>
                <a:cubicBezTo>
                  <a:pt x="80266" y="6976"/>
                  <a:pt x="83261" y="5581"/>
                  <a:pt x="86056" y="5581"/>
                </a:cubicBezTo>
                <a:cubicBezTo>
                  <a:pt x="88851" y="5581"/>
                  <a:pt x="91647" y="6976"/>
                  <a:pt x="91647" y="11362"/>
                </a:cubicBezTo>
                <a:cubicBezTo>
                  <a:pt x="91647" y="19734"/>
                  <a:pt x="91647" y="19734"/>
                  <a:pt x="91647" y="19734"/>
                </a:cubicBezTo>
                <a:cubicBezTo>
                  <a:pt x="110016" y="1395"/>
                  <a:pt x="110016" y="1395"/>
                  <a:pt x="110016" y="1395"/>
                </a:cubicBezTo>
                <a:cubicBezTo>
                  <a:pt x="111414" y="0"/>
                  <a:pt x="112811" y="0"/>
                  <a:pt x="114209" y="0"/>
                </a:cubicBezTo>
                <a:cubicBezTo>
                  <a:pt x="117004" y="0"/>
                  <a:pt x="119800" y="1395"/>
                  <a:pt x="119800" y="5581"/>
                </a:cubicBezTo>
                <a:cubicBezTo>
                  <a:pt x="119800" y="6976"/>
                  <a:pt x="119800" y="8372"/>
                  <a:pt x="118402" y="8372"/>
                </a:cubicBezTo>
                <a:close/>
                <a:moveTo>
                  <a:pt x="59101" y="76146"/>
                </a:moveTo>
                <a:lnTo>
                  <a:pt x="59101" y="76146"/>
                </a:lnTo>
                <a:cubicBezTo>
                  <a:pt x="50715" y="76146"/>
                  <a:pt x="42129" y="68970"/>
                  <a:pt x="42129" y="59202"/>
                </a:cubicBezTo>
                <a:cubicBezTo>
                  <a:pt x="42129" y="50830"/>
                  <a:pt x="50715" y="42259"/>
                  <a:pt x="59101" y="42259"/>
                </a:cubicBezTo>
                <a:cubicBezTo>
                  <a:pt x="69084" y="42259"/>
                  <a:pt x="76073" y="50830"/>
                  <a:pt x="76073" y="59202"/>
                </a:cubicBezTo>
                <a:cubicBezTo>
                  <a:pt x="76073" y="68970"/>
                  <a:pt x="69084" y="76146"/>
                  <a:pt x="59101" y="76146"/>
                </a:cubicBezTo>
                <a:close/>
                <a:moveTo>
                  <a:pt x="33743" y="114219"/>
                </a:moveTo>
                <a:lnTo>
                  <a:pt x="33743" y="114219"/>
                </a:lnTo>
                <a:cubicBezTo>
                  <a:pt x="29550" y="114219"/>
                  <a:pt x="28153" y="111428"/>
                  <a:pt x="28153" y="108438"/>
                </a:cubicBezTo>
                <a:cubicBezTo>
                  <a:pt x="28153" y="100066"/>
                  <a:pt x="28153" y="100066"/>
                  <a:pt x="28153" y="100066"/>
                </a:cubicBezTo>
                <a:cubicBezTo>
                  <a:pt x="8386" y="118405"/>
                  <a:pt x="8386" y="118405"/>
                  <a:pt x="8386" y="118405"/>
                </a:cubicBezTo>
                <a:cubicBezTo>
                  <a:pt x="8386" y="119800"/>
                  <a:pt x="6988" y="119800"/>
                  <a:pt x="5590" y="119800"/>
                </a:cubicBezTo>
                <a:cubicBezTo>
                  <a:pt x="1397" y="119800"/>
                  <a:pt x="0" y="117009"/>
                  <a:pt x="0" y="114219"/>
                </a:cubicBezTo>
                <a:cubicBezTo>
                  <a:pt x="0" y="112823"/>
                  <a:pt x="0" y="111428"/>
                  <a:pt x="1397" y="109833"/>
                </a:cubicBezTo>
                <a:cubicBezTo>
                  <a:pt x="19567" y="91694"/>
                  <a:pt x="19567" y="91694"/>
                  <a:pt x="19567" y="91694"/>
                </a:cubicBezTo>
                <a:cubicBezTo>
                  <a:pt x="11181" y="91694"/>
                  <a:pt x="11181" y="91694"/>
                  <a:pt x="11181" y="91694"/>
                </a:cubicBezTo>
                <a:cubicBezTo>
                  <a:pt x="6988" y="91694"/>
                  <a:pt x="5590" y="88903"/>
                  <a:pt x="5590" y="85913"/>
                </a:cubicBezTo>
                <a:cubicBezTo>
                  <a:pt x="5590" y="83122"/>
                  <a:pt x="6988" y="80332"/>
                  <a:pt x="11181" y="80332"/>
                </a:cubicBezTo>
                <a:cubicBezTo>
                  <a:pt x="33743" y="80332"/>
                  <a:pt x="33743" y="80332"/>
                  <a:pt x="33743" y="80332"/>
                </a:cubicBezTo>
                <a:cubicBezTo>
                  <a:pt x="36539" y="80332"/>
                  <a:pt x="39334" y="83122"/>
                  <a:pt x="39334" y="85913"/>
                </a:cubicBezTo>
                <a:cubicBezTo>
                  <a:pt x="39334" y="108438"/>
                  <a:pt x="39334" y="108438"/>
                  <a:pt x="39334" y="108438"/>
                </a:cubicBezTo>
                <a:cubicBezTo>
                  <a:pt x="39334" y="111428"/>
                  <a:pt x="36539" y="114219"/>
                  <a:pt x="33743" y="114219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Shape 4914"/>
          <p:cNvSpPr/>
          <p:nvPr/>
        </p:nvSpPr>
        <p:spPr>
          <a:xfrm>
            <a:off x="3651120" y="5091120"/>
            <a:ext cx="289080" cy="287280"/>
          </a:xfrm>
          <a:custGeom>
            <a:avLst/>
            <a:gdLst>
              <a:gd name="textAreaLeft" fmla="*/ 0 w 289080"/>
              <a:gd name="textAreaRight" fmla="*/ 289440 w 289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114285" y="33887"/>
                </a:moveTo>
                <a:lnTo>
                  <a:pt x="114285" y="33887"/>
                </a:lnTo>
                <a:cubicBezTo>
                  <a:pt x="110147" y="33887"/>
                  <a:pt x="108768" y="31096"/>
                  <a:pt x="108768" y="28305"/>
                </a:cubicBezTo>
                <a:cubicBezTo>
                  <a:pt x="108768" y="18338"/>
                  <a:pt x="108768" y="18338"/>
                  <a:pt x="108768" y="18338"/>
                </a:cubicBezTo>
                <a:cubicBezTo>
                  <a:pt x="89261" y="36677"/>
                  <a:pt x="89261" y="36677"/>
                  <a:pt x="89261" y="36677"/>
                </a:cubicBezTo>
                <a:cubicBezTo>
                  <a:pt x="89261" y="38073"/>
                  <a:pt x="87881" y="39468"/>
                  <a:pt x="86502" y="39468"/>
                </a:cubicBezTo>
                <a:cubicBezTo>
                  <a:pt x="82167" y="39468"/>
                  <a:pt x="80788" y="36677"/>
                  <a:pt x="80788" y="33887"/>
                </a:cubicBezTo>
                <a:cubicBezTo>
                  <a:pt x="80788" y="32491"/>
                  <a:pt x="80788" y="31096"/>
                  <a:pt x="82167" y="29700"/>
                </a:cubicBezTo>
                <a:cubicBezTo>
                  <a:pt x="100295" y="11362"/>
                  <a:pt x="100295" y="11362"/>
                  <a:pt x="100295" y="11362"/>
                </a:cubicBezTo>
                <a:cubicBezTo>
                  <a:pt x="92019" y="11362"/>
                  <a:pt x="92019" y="11362"/>
                  <a:pt x="92019" y="11362"/>
                </a:cubicBezTo>
                <a:cubicBezTo>
                  <a:pt x="87881" y="11362"/>
                  <a:pt x="86502" y="8372"/>
                  <a:pt x="86502" y="5581"/>
                </a:cubicBezTo>
                <a:cubicBezTo>
                  <a:pt x="86502" y="1395"/>
                  <a:pt x="87881" y="0"/>
                  <a:pt x="92019" y="0"/>
                </a:cubicBezTo>
                <a:cubicBezTo>
                  <a:pt x="114285" y="0"/>
                  <a:pt x="114285" y="0"/>
                  <a:pt x="114285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28305"/>
                  <a:pt x="119802" y="28305"/>
                  <a:pt x="119802" y="28305"/>
                </a:cubicBezTo>
                <a:cubicBezTo>
                  <a:pt x="119802" y="31096"/>
                  <a:pt x="117044" y="33887"/>
                  <a:pt x="114285" y="33887"/>
                </a:cubicBezTo>
                <a:close/>
                <a:moveTo>
                  <a:pt x="59901" y="76146"/>
                </a:moveTo>
                <a:lnTo>
                  <a:pt x="59901" y="76146"/>
                </a:lnTo>
                <a:cubicBezTo>
                  <a:pt x="50246" y="76146"/>
                  <a:pt x="43152" y="68970"/>
                  <a:pt x="43152" y="59202"/>
                </a:cubicBezTo>
                <a:cubicBezTo>
                  <a:pt x="43152" y="50830"/>
                  <a:pt x="50246" y="42259"/>
                  <a:pt x="59901" y="42259"/>
                </a:cubicBezTo>
                <a:cubicBezTo>
                  <a:pt x="69753" y="42259"/>
                  <a:pt x="76650" y="50830"/>
                  <a:pt x="76650" y="59202"/>
                </a:cubicBezTo>
                <a:cubicBezTo>
                  <a:pt x="76650" y="68970"/>
                  <a:pt x="69753" y="76146"/>
                  <a:pt x="59901" y="76146"/>
                </a:cubicBezTo>
                <a:close/>
                <a:moveTo>
                  <a:pt x="19507" y="108438"/>
                </a:moveTo>
                <a:lnTo>
                  <a:pt x="19507" y="108438"/>
                </a:lnTo>
                <a:cubicBezTo>
                  <a:pt x="27980" y="108438"/>
                  <a:pt x="27980" y="108438"/>
                  <a:pt x="27980" y="108438"/>
                </a:cubicBezTo>
                <a:cubicBezTo>
                  <a:pt x="32118" y="108438"/>
                  <a:pt x="33497" y="111428"/>
                  <a:pt x="33497" y="114219"/>
                </a:cubicBezTo>
                <a:cubicBezTo>
                  <a:pt x="33497" y="117009"/>
                  <a:pt x="32118" y="119800"/>
                  <a:pt x="27980" y="119800"/>
                </a:cubicBezTo>
                <a:cubicBezTo>
                  <a:pt x="5714" y="119800"/>
                  <a:pt x="5714" y="119800"/>
                  <a:pt x="5714" y="119800"/>
                </a:cubicBezTo>
                <a:cubicBezTo>
                  <a:pt x="2955" y="119800"/>
                  <a:pt x="0" y="117009"/>
                  <a:pt x="0" y="114219"/>
                </a:cubicBezTo>
                <a:cubicBezTo>
                  <a:pt x="0" y="91694"/>
                  <a:pt x="0" y="91694"/>
                  <a:pt x="0" y="91694"/>
                </a:cubicBezTo>
                <a:cubicBezTo>
                  <a:pt x="0" y="88903"/>
                  <a:pt x="2955" y="85913"/>
                  <a:pt x="5714" y="85913"/>
                </a:cubicBezTo>
                <a:cubicBezTo>
                  <a:pt x="9852" y="85913"/>
                  <a:pt x="11231" y="88903"/>
                  <a:pt x="11231" y="91694"/>
                </a:cubicBezTo>
                <a:cubicBezTo>
                  <a:pt x="11231" y="100066"/>
                  <a:pt x="11231" y="100066"/>
                  <a:pt x="11231" y="100066"/>
                </a:cubicBezTo>
                <a:cubicBezTo>
                  <a:pt x="30738" y="81727"/>
                  <a:pt x="30738" y="81727"/>
                  <a:pt x="30738" y="81727"/>
                </a:cubicBezTo>
                <a:cubicBezTo>
                  <a:pt x="30738" y="80332"/>
                  <a:pt x="32118" y="80332"/>
                  <a:pt x="33497" y="80332"/>
                </a:cubicBezTo>
                <a:cubicBezTo>
                  <a:pt x="37635" y="80332"/>
                  <a:pt x="39014" y="83122"/>
                  <a:pt x="39014" y="85913"/>
                </a:cubicBezTo>
                <a:cubicBezTo>
                  <a:pt x="39014" y="87308"/>
                  <a:pt x="39014" y="88903"/>
                  <a:pt x="37635" y="90299"/>
                </a:cubicBezTo>
                <a:lnTo>
                  <a:pt x="19507" y="108438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Shape 4915"/>
          <p:cNvSpPr/>
          <p:nvPr/>
        </p:nvSpPr>
        <p:spPr>
          <a:xfrm>
            <a:off x="3166920" y="5103720"/>
            <a:ext cx="258840" cy="258840"/>
          </a:xfrm>
          <a:custGeom>
            <a:avLst/>
            <a:gdLst>
              <a:gd name="textAreaLeft" fmla="*/ 0 w 258840"/>
              <a:gd name="textAreaRight" fmla="*/ 259200 w 258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8238" y="9450"/>
                </a:moveTo>
                <a:lnTo>
                  <a:pt x="118238" y="9450"/>
                </a:lnTo>
                <a:cubicBezTo>
                  <a:pt x="86972" y="40439"/>
                  <a:pt x="86972" y="40439"/>
                  <a:pt x="86972" y="40439"/>
                </a:cubicBezTo>
                <a:cubicBezTo>
                  <a:pt x="97981" y="40439"/>
                  <a:pt x="97981" y="40439"/>
                  <a:pt x="97981" y="40439"/>
                </a:cubicBezTo>
                <a:cubicBezTo>
                  <a:pt x="101064" y="40439"/>
                  <a:pt x="104146" y="43516"/>
                  <a:pt x="104146" y="46593"/>
                </a:cubicBezTo>
                <a:cubicBezTo>
                  <a:pt x="104146" y="51428"/>
                  <a:pt x="101064" y="52967"/>
                  <a:pt x="97981" y="52967"/>
                </a:cubicBezTo>
                <a:cubicBezTo>
                  <a:pt x="73100" y="52967"/>
                  <a:pt x="73100" y="52967"/>
                  <a:pt x="73100" y="52967"/>
                </a:cubicBezTo>
                <a:cubicBezTo>
                  <a:pt x="68477" y="52967"/>
                  <a:pt x="66935" y="51428"/>
                  <a:pt x="66935" y="46593"/>
                </a:cubicBezTo>
                <a:cubicBezTo>
                  <a:pt x="66935" y="21758"/>
                  <a:pt x="66935" y="21758"/>
                  <a:pt x="66935" y="21758"/>
                </a:cubicBezTo>
                <a:cubicBezTo>
                  <a:pt x="66935" y="18681"/>
                  <a:pt x="68477" y="15604"/>
                  <a:pt x="73100" y="15604"/>
                </a:cubicBezTo>
                <a:cubicBezTo>
                  <a:pt x="76183" y="15604"/>
                  <a:pt x="79266" y="18681"/>
                  <a:pt x="79266" y="21758"/>
                </a:cubicBezTo>
                <a:cubicBezTo>
                  <a:pt x="79266" y="32747"/>
                  <a:pt x="79266" y="32747"/>
                  <a:pt x="79266" y="32747"/>
                </a:cubicBezTo>
                <a:cubicBezTo>
                  <a:pt x="110311" y="1538"/>
                  <a:pt x="110311" y="1538"/>
                  <a:pt x="110311" y="1538"/>
                </a:cubicBezTo>
                <a:cubicBezTo>
                  <a:pt x="110311" y="0"/>
                  <a:pt x="111853" y="0"/>
                  <a:pt x="113394" y="0"/>
                </a:cubicBezTo>
                <a:cubicBezTo>
                  <a:pt x="118238" y="0"/>
                  <a:pt x="119779" y="1538"/>
                  <a:pt x="119779" y="6373"/>
                </a:cubicBezTo>
                <a:cubicBezTo>
                  <a:pt x="119779" y="7912"/>
                  <a:pt x="119779" y="9450"/>
                  <a:pt x="118238" y="9450"/>
                </a:cubicBezTo>
                <a:close/>
                <a:moveTo>
                  <a:pt x="48220" y="102637"/>
                </a:moveTo>
                <a:lnTo>
                  <a:pt x="48220" y="102637"/>
                </a:lnTo>
                <a:cubicBezTo>
                  <a:pt x="43376" y="102637"/>
                  <a:pt x="41834" y="101098"/>
                  <a:pt x="41834" y="96483"/>
                </a:cubicBezTo>
                <a:cubicBezTo>
                  <a:pt x="41834" y="87032"/>
                  <a:pt x="41834" y="87032"/>
                  <a:pt x="41834" y="87032"/>
                </a:cubicBezTo>
                <a:cubicBezTo>
                  <a:pt x="10788" y="118241"/>
                  <a:pt x="10788" y="118241"/>
                  <a:pt x="10788" y="118241"/>
                </a:cubicBezTo>
                <a:cubicBezTo>
                  <a:pt x="9247" y="119780"/>
                  <a:pt x="7706" y="119780"/>
                  <a:pt x="6165" y="119780"/>
                </a:cubicBezTo>
                <a:cubicBezTo>
                  <a:pt x="3082" y="119780"/>
                  <a:pt x="0" y="116703"/>
                  <a:pt x="0" y="113406"/>
                </a:cubicBezTo>
                <a:cubicBezTo>
                  <a:pt x="0" y="111868"/>
                  <a:pt x="0" y="110329"/>
                  <a:pt x="1541" y="108791"/>
                </a:cubicBezTo>
                <a:cubicBezTo>
                  <a:pt x="32587" y="77802"/>
                  <a:pt x="32587" y="77802"/>
                  <a:pt x="32587" y="77802"/>
                </a:cubicBezTo>
                <a:cubicBezTo>
                  <a:pt x="23339" y="77802"/>
                  <a:pt x="23339" y="77802"/>
                  <a:pt x="23339" y="77802"/>
                </a:cubicBezTo>
                <a:cubicBezTo>
                  <a:pt x="18495" y="77802"/>
                  <a:pt x="16954" y="76263"/>
                  <a:pt x="16954" y="71428"/>
                </a:cubicBezTo>
                <a:cubicBezTo>
                  <a:pt x="16954" y="68351"/>
                  <a:pt x="18495" y="65274"/>
                  <a:pt x="23339" y="65274"/>
                </a:cubicBezTo>
                <a:cubicBezTo>
                  <a:pt x="48220" y="65274"/>
                  <a:pt x="48220" y="65274"/>
                  <a:pt x="48220" y="65274"/>
                </a:cubicBezTo>
                <a:cubicBezTo>
                  <a:pt x="51302" y="65274"/>
                  <a:pt x="54385" y="68351"/>
                  <a:pt x="54385" y="71428"/>
                </a:cubicBezTo>
                <a:cubicBezTo>
                  <a:pt x="54385" y="96483"/>
                  <a:pt x="54385" y="96483"/>
                  <a:pt x="54385" y="96483"/>
                </a:cubicBezTo>
                <a:cubicBezTo>
                  <a:pt x="54385" y="101098"/>
                  <a:pt x="51302" y="102637"/>
                  <a:pt x="48220" y="102637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Shape 4916"/>
          <p:cNvSpPr/>
          <p:nvPr/>
        </p:nvSpPr>
        <p:spPr>
          <a:xfrm>
            <a:off x="2668680" y="5103720"/>
            <a:ext cx="258840" cy="258840"/>
          </a:xfrm>
          <a:custGeom>
            <a:avLst/>
            <a:gdLst>
              <a:gd name="textAreaLeft" fmla="*/ 0 w 258840"/>
              <a:gd name="textAreaRight" fmla="*/ 259200 w 258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9779" y="31208"/>
                </a:moveTo>
                <a:lnTo>
                  <a:pt x="119779" y="31208"/>
                </a:lnTo>
                <a:lnTo>
                  <a:pt x="119779" y="31208"/>
                </a:lnTo>
                <a:cubicBezTo>
                  <a:pt x="119779" y="34285"/>
                  <a:pt x="116697" y="37362"/>
                  <a:pt x="113394" y="37362"/>
                </a:cubicBezTo>
                <a:cubicBezTo>
                  <a:pt x="110311" y="37362"/>
                  <a:pt x="107229" y="34285"/>
                  <a:pt x="107229" y="31208"/>
                </a:cubicBezTo>
                <a:lnTo>
                  <a:pt x="107229" y="31208"/>
                </a:lnTo>
                <a:cubicBezTo>
                  <a:pt x="107229" y="20219"/>
                  <a:pt x="107229" y="20219"/>
                  <a:pt x="107229" y="20219"/>
                </a:cubicBezTo>
                <a:cubicBezTo>
                  <a:pt x="76183" y="51428"/>
                  <a:pt x="76183" y="51428"/>
                  <a:pt x="76183" y="51428"/>
                </a:cubicBezTo>
                <a:cubicBezTo>
                  <a:pt x="74642" y="52967"/>
                  <a:pt x="73100" y="52967"/>
                  <a:pt x="71559" y="52967"/>
                </a:cubicBezTo>
                <a:cubicBezTo>
                  <a:pt x="68477" y="52967"/>
                  <a:pt x="65174" y="51428"/>
                  <a:pt x="65174" y="46593"/>
                </a:cubicBezTo>
                <a:cubicBezTo>
                  <a:pt x="65174" y="45054"/>
                  <a:pt x="66715" y="43516"/>
                  <a:pt x="68477" y="43516"/>
                </a:cubicBezTo>
                <a:lnTo>
                  <a:pt x="68477" y="43516"/>
                </a:lnTo>
                <a:cubicBezTo>
                  <a:pt x="97981" y="12527"/>
                  <a:pt x="97981" y="12527"/>
                  <a:pt x="97981" y="12527"/>
                </a:cubicBezTo>
                <a:cubicBezTo>
                  <a:pt x="88513" y="12527"/>
                  <a:pt x="88513" y="12527"/>
                  <a:pt x="88513" y="12527"/>
                </a:cubicBezTo>
                <a:lnTo>
                  <a:pt x="88513" y="12527"/>
                </a:lnTo>
                <a:cubicBezTo>
                  <a:pt x="85431" y="12527"/>
                  <a:pt x="82348" y="9450"/>
                  <a:pt x="82348" y="6373"/>
                </a:cubicBezTo>
                <a:cubicBezTo>
                  <a:pt x="82348" y="1538"/>
                  <a:pt x="85431" y="0"/>
                  <a:pt x="88513" y="0"/>
                </a:cubicBezTo>
                <a:lnTo>
                  <a:pt x="88513" y="0"/>
                </a:lnTo>
                <a:cubicBezTo>
                  <a:pt x="113394" y="0"/>
                  <a:pt x="113394" y="0"/>
                  <a:pt x="113394" y="0"/>
                </a:cubicBezTo>
                <a:lnTo>
                  <a:pt x="113394" y="0"/>
                </a:lnTo>
                <a:cubicBezTo>
                  <a:pt x="116697" y="0"/>
                  <a:pt x="119779" y="1538"/>
                  <a:pt x="119779" y="6373"/>
                </a:cubicBezTo>
                <a:lnTo>
                  <a:pt x="119779" y="6373"/>
                </a:lnTo>
                <a:lnTo>
                  <a:pt x="119779" y="31208"/>
                </a:lnTo>
                <a:close/>
                <a:moveTo>
                  <a:pt x="51302" y="76263"/>
                </a:moveTo>
                <a:lnTo>
                  <a:pt x="51302" y="76263"/>
                </a:lnTo>
                <a:cubicBezTo>
                  <a:pt x="20036" y="107252"/>
                  <a:pt x="20036" y="107252"/>
                  <a:pt x="20036" y="107252"/>
                </a:cubicBezTo>
                <a:cubicBezTo>
                  <a:pt x="31045" y="107252"/>
                  <a:pt x="31045" y="107252"/>
                  <a:pt x="31045" y="107252"/>
                </a:cubicBezTo>
                <a:lnTo>
                  <a:pt x="31045" y="107252"/>
                </a:lnTo>
                <a:cubicBezTo>
                  <a:pt x="34128" y="107252"/>
                  <a:pt x="37211" y="110329"/>
                  <a:pt x="37211" y="113406"/>
                </a:cubicBezTo>
                <a:cubicBezTo>
                  <a:pt x="37211" y="116703"/>
                  <a:pt x="34128" y="119780"/>
                  <a:pt x="31045" y="119780"/>
                </a:cubicBezTo>
                <a:lnTo>
                  <a:pt x="31045" y="119780"/>
                </a:lnTo>
                <a:cubicBezTo>
                  <a:pt x="6165" y="119780"/>
                  <a:pt x="6165" y="119780"/>
                  <a:pt x="6165" y="119780"/>
                </a:cubicBezTo>
                <a:lnTo>
                  <a:pt x="6165" y="119780"/>
                </a:lnTo>
                <a:cubicBezTo>
                  <a:pt x="1541" y="119780"/>
                  <a:pt x="0" y="116703"/>
                  <a:pt x="0" y="113406"/>
                </a:cubicBezTo>
                <a:lnTo>
                  <a:pt x="0" y="113406"/>
                </a:lnTo>
                <a:cubicBezTo>
                  <a:pt x="0" y="88571"/>
                  <a:pt x="0" y="88571"/>
                  <a:pt x="0" y="88571"/>
                </a:cubicBezTo>
                <a:lnTo>
                  <a:pt x="0" y="88571"/>
                </a:lnTo>
                <a:cubicBezTo>
                  <a:pt x="0" y="85494"/>
                  <a:pt x="1541" y="82417"/>
                  <a:pt x="6165" y="82417"/>
                </a:cubicBezTo>
                <a:cubicBezTo>
                  <a:pt x="9247" y="82417"/>
                  <a:pt x="12330" y="85494"/>
                  <a:pt x="12330" y="88571"/>
                </a:cubicBezTo>
                <a:lnTo>
                  <a:pt x="12330" y="88571"/>
                </a:lnTo>
                <a:cubicBezTo>
                  <a:pt x="12330" y="98021"/>
                  <a:pt x="12330" y="98021"/>
                  <a:pt x="12330" y="98021"/>
                </a:cubicBezTo>
                <a:cubicBezTo>
                  <a:pt x="43376" y="68351"/>
                  <a:pt x="43376" y="68351"/>
                  <a:pt x="43376" y="68351"/>
                </a:cubicBezTo>
                <a:cubicBezTo>
                  <a:pt x="43376" y="66813"/>
                  <a:pt x="44917" y="65274"/>
                  <a:pt x="46458" y="65274"/>
                </a:cubicBezTo>
                <a:cubicBezTo>
                  <a:pt x="51302" y="65274"/>
                  <a:pt x="52844" y="68351"/>
                  <a:pt x="52844" y="71428"/>
                </a:cubicBezTo>
                <a:cubicBezTo>
                  <a:pt x="52844" y="73186"/>
                  <a:pt x="52844" y="74725"/>
                  <a:pt x="51302" y="76263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Shape 4917"/>
          <p:cNvSpPr/>
          <p:nvPr/>
        </p:nvSpPr>
        <p:spPr>
          <a:xfrm>
            <a:off x="2154240" y="5091120"/>
            <a:ext cx="289080" cy="287280"/>
          </a:xfrm>
          <a:custGeom>
            <a:avLst/>
            <a:gdLst>
              <a:gd name="textAreaLeft" fmla="*/ 0 w 289080"/>
              <a:gd name="textAreaRight" fmla="*/ 289440 w 289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103054" y="71960"/>
                </a:moveTo>
                <a:lnTo>
                  <a:pt x="103054" y="71960"/>
                </a:lnTo>
                <a:cubicBezTo>
                  <a:pt x="103054" y="76146"/>
                  <a:pt x="101674" y="78936"/>
                  <a:pt x="98916" y="81727"/>
                </a:cubicBezTo>
                <a:cubicBezTo>
                  <a:pt x="98916" y="83122"/>
                  <a:pt x="108571" y="94485"/>
                  <a:pt x="103054" y="100066"/>
                </a:cubicBezTo>
                <a:cubicBezTo>
                  <a:pt x="100295" y="104252"/>
                  <a:pt x="100295" y="104252"/>
                  <a:pt x="100295" y="104252"/>
                </a:cubicBezTo>
                <a:cubicBezTo>
                  <a:pt x="96157" y="108438"/>
                  <a:pt x="84926" y="101461"/>
                  <a:pt x="82167" y="98671"/>
                </a:cubicBezTo>
                <a:cubicBezTo>
                  <a:pt x="79408" y="101461"/>
                  <a:pt x="75270" y="102857"/>
                  <a:pt x="71133" y="104252"/>
                </a:cubicBezTo>
                <a:cubicBezTo>
                  <a:pt x="72512" y="104252"/>
                  <a:pt x="72512" y="104252"/>
                  <a:pt x="72512" y="104252"/>
                </a:cubicBezTo>
                <a:cubicBezTo>
                  <a:pt x="72512" y="104252"/>
                  <a:pt x="69753" y="119800"/>
                  <a:pt x="61280" y="119800"/>
                </a:cubicBezTo>
                <a:cubicBezTo>
                  <a:pt x="58522" y="119800"/>
                  <a:pt x="58522" y="119800"/>
                  <a:pt x="58522" y="119800"/>
                </a:cubicBezTo>
                <a:cubicBezTo>
                  <a:pt x="51625" y="119800"/>
                  <a:pt x="48669" y="105647"/>
                  <a:pt x="47290" y="102857"/>
                </a:cubicBezTo>
                <a:cubicBezTo>
                  <a:pt x="44532" y="102857"/>
                  <a:pt x="40394" y="101461"/>
                  <a:pt x="37635" y="98671"/>
                </a:cubicBezTo>
                <a:cubicBezTo>
                  <a:pt x="37635" y="100066"/>
                  <a:pt x="37635" y="100066"/>
                  <a:pt x="37635" y="100066"/>
                </a:cubicBezTo>
                <a:cubicBezTo>
                  <a:pt x="37635" y="100066"/>
                  <a:pt x="25024" y="109833"/>
                  <a:pt x="19507" y="102857"/>
                </a:cubicBezTo>
                <a:cubicBezTo>
                  <a:pt x="16748" y="101461"/>
                  <a:pt x="16748" y="101461"/>
                  <a:pt x="16748" y="101461"/>
                </a:cubicBezTo>
                <a:cubicBezTo>
                  <a:pt x="12610" y="95880"/>
                  <a:pt x="19507" y="84518"/>
                  <a:pt x="20886" y="81727"/>
                </a:cubicBezTo>
                <a:cubicBezTo>
                  <a:pt x="19507" y="78936"/>
                  <a:pt x="18128" y="76146"/>
                  <a:pt x="16748" y="71960"/>
                </a:cubicBezTo>
                <a:cubicBezTo>
                  <a:pt x="13990" y="71960"/>
                  <a:pt x="0" y="67574"/>
                  <a:pt x="0" y="60598"/>
                </a:cubicBezTo>
                <a:cubicBezTo>
                  <a:pt x="0" y="57807"/>
                  <a:pt x="0" y="57807"/>
                  <a:pt x="0" y="57807"/>
                </a:cubicBezTo>
                <a:cubicBezTo>
                  <a:pt x="0" y="50830"/>
                  <a:pt x="13990" y="47840"/>
                  <a:pt x="16748" y="47840"/>
                </a:cubicBezTo>
                <a:cubicBezTo>
                  <a:pt x="18128" y="43654"/>
                  <a:pt x="19507" y="40863"/>
                  <a:pt x="20886" y="36677"/>
                </a:cubicBezTo>
                <a:cubicBezTo>
                  <a:pt x="19507" y="35282"/>
                  <a:pt x="11231" y="22524"/>
                  <a:pt x="16748" y="18338"/>
                </a:cubicBezTo>
                <a:cubicBezTo>
                  <a:pt x="19507" y="15548"/>
                  <a:pt x="19507" y="15548"/>
                  <a:pt x="19507" y="15548"/>
                </a:cubicBezTo>
                <a:cubicBezTo>
                  <a:pt x="23645" y="9966"/>
                  <a:pt x="34876" y="18338"/>
                  <a:pt x="37635" y="19734"/>
                </a:cubicBezTo>
                <a:cubicBezTo>
                  <a:pt x="40394" y="18338"/>
                  <a:pt x="44532" y="16943"/>
                  <a:pt x="47290" y="15548"/>
                </a:cubicBezTo>
                <a:cubicBezTo>
                  <a:pt x="48669" y="12757"/>
                  <a:pt x="53004" y="0"/>
                  <a:pt x="58522" y="0"/>
                </a:cubicBezTo>
                <a:cubicBezTo>
                  <a:pt x="61280" y="0"/>
                  <a:pt x="61280" y="0"/>
                  <a:pt x="61280" y="0"/>
                </a:cubicBezTo>
                <a:cubicBezTo>
                  <a:pt x="68177" y="0"/>
                  <a:pt x="71133" y="11362"/>
                  <a:pt x="72512" y="15548"/>
                </a:cubicBezTo>
                <a:cubicBezTo>
                  <a:pt x="75270" y="16943"/>
                  <a:pt x="79408" y="18338"/>
                  <a:pt x="82167" y="19734"/>
                </a:cubicBezTo>
                <a:cubicBezTo>
                  <a:pt x="84926" y="18338"/>
                  <a:pt x="96157" y="11362"/>
                  <a:pt x="100295" y="15548"/>
                </a:cubicBezTo>
                <a:cubicBezTo>
                  <a:pt x="103054" y="18338"/>
                  <a:pt x="103054" y="18338"/>
                  <a:pt x="103054" y="18338"/>
                </a:cubicBezTo>
                <a:cubicBezTo>
                  <a:pt x="108571" y="23920"/>
                  <a:pt x="101674" y="33887"/>
                  <a:pt x="98916" y="36677"/>
                </a:cubicBezTo>
                <a:cubicBezTo>
                  <a:pt x="101674" y="40863"/>
                  <a:pt x="103054" y="43654"/>
                  <a:pt x="103054" y="47840"/>
                </a:cubicBezTo>
                <a:cubicBezTo>
                  <a:pt x="104433" y="47840"/>
                  <a:pt x="119802" y="49435"/>
                  <a:pt x="119802" y="57807"/>
                </a:cubicBezTo>
                <a:cubicBezTo>
                  <a:pt x="119802" y="60598"/>
                  <a:pt x="119802" y="60598"/>
                  <a:pt x="119802" y="60598"/>
                </a:cubicBezTo>
                <a:cubicBezTo>
                  <a:pt x="119802" y="67574"/>
                  <a:pt x="107192" y="70365"/>
                  <a:pt x="103054" y="71960"/>
                </a:cubicBezTo>
                <a:close/>
                <a:moveTo>
                  <a:pt x="59901" y="25315"/>
                </a:moveTo>
                <a:lnTo>
                  <a:pt x="59901" y="25315"/>
                </a:lnTo>
                <a:cubicBezTo>
                  <a:pt x="41773" y="25315"/>
                  <a:pt x="26403" y="40863"/>
                  <a:pt x="26403" y="59202"/>
                </a:cubicBezTo>
                <a:cubicBezTo>
                  <a:pt x="26403" y="78936"/>
                  <a:pt x="41773" y="93089"/>
                  <a:pt x="59901" y="93089"/>
                </a:cubicBezTo>
                <a:cubicBezTo>
                  <a:pt x="78029" y="93089"/>
                  <a:pt x="93399" y="78936"/>
                  <a:pt x="93399" y="59202"/>
                </a:cubicBezTo>
                <a:cubicBezTo>
                  <a:pt x="93399" y="40863"/>
                  <a:pt x="78029" y="25315"/>
                  <a:pt x="59901" y="25315"/>
                </a:cubicBezTo>
                <a:close/>
                <a:moveTo>
                  <a:pt x="59901" y="81727"/>
                </a:moveTo>
                <a:lnTo>
                  <a:pt x="59901" y="81727"/>
                </a:lnTo>
                <a:cubicBezTo>
                  <a:pt x="47290" y="81727"/>
                  <a:pt x="37635" y="71960"/>
                  <a:pt x="37635" y="59202"/>
                </a:cubicBezTo>
                <a:cubicBezTo>
                  <a:pt x="37635" y="46445"/>
                  <a:pt x="47290" y="36677"/>
                  <a:pt x="59901" y="36677"/>
                </a:cubicBezTo>
                <a:cubicBezTo>
                  <a:pt x="72512" y="36677"/>
                  <a:pt x="82167" y="46445"/>
                  <a:pt x="82167" y="59202"/>
                </a:cubicBezTo>
                <a:cubicBezTo>
                  <a:pt x="82167" y="71960"/>
                  <a:pt x="72512" y="81727"/>
                  <a:pt x="59901" y="81727"/>
                </a:cubicBezTo>
                <a:close/>
                <a:moveTo>
                  <a:pt x="59901" y="47840"/>
                </a:moveTo>
                <a:lnTo>
                  <a:pt x="59901" y="47840"/>
                </a:lnTo>
                <a:cubicBezTo>
                  <a:pt x="54384" y="47840"/>
                  <a:pt x="48669" y="53621"/>
                  <a:pt x="48669" y="59202"/>
                </a:cubicBezTo>
                <a:cubicBezTo>
                  <a:pt x="48669" y="66179"/>
                  <a:pt x="54384" y="70365"/>
                  <a:pt x="59901" y="70365"/>
                </a:cubicBezTo>
                <a:cubicBezTo>
                  <a:pt x="65418" y="70365"/>
                  <a:pt x="71133" y="66179"/>
                  <a:pt x="71133" y="59202"/>
                </a:cubicBezTo>
                <a:cubicBezTo>
                  <a:pt x="71133" y="53621"/>
                  <a:pt x="65418" y="47840"/>
                  <a:pt x="59901" y="4784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Shape 4918"/>
          <p:cNvSpPr/>
          <p:nvPr/>
        </p:nvSpPr>
        <p:spPr>
          <a:xfrm>
            <a:off x="1654200" y="5118120"/>
            <a:ext cx="287280" cy="235080"/>
          </a:xfrm>
          <a:custGeom>
            <a:avLst/>
            <a:gdLst>
              <a:gd name="textAreaLeft" fmla="*/ 0 w 287280"/>
              <a:gd name="textAreaRight" fmla="*/ 287640 w 28728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119800" y="112969"/>
                </a:moveTo>
                <a:lnTo>
                  <a:pt x="119800" y="112969"/>
                </a:lnTo>
                <a:cubicBezTo>
                  <a:pt x="119800" y="118060"/>
                  <a:pt x="118405" y="119757"/>
                  <a:pt x="114019" y="119757"/>
                </a:cubicBezTo>
                <a:lnTo>
                  <a:pt x="114019" y="119757"/>
                </a:lnTo>
                <a:cubicBezTo>
                  <a:pt x="5581" y="119757"/>
                  <a:pt x="5581" y="119757"/>
                  <a:pt x="5581" y="119757"/>
                </a:cubicBezTo>
                <a:lnTo>
                  <a:pt x="5581" y="119757"/>
                </a:lnTo>
                <a:lnTo>
                  <a:pt x="5581" y="119757"/>
                </a:lnTo>
                <a:cubicBezTo>
                  <a:pt x="2790" y="119757"/>
                  <a:pt x="0" y="118060"/>
                  <a:pt x="0" y="112969"/>
                </a:cubicBezTo>
                <a:cubicBezTo>
                  <a:pt x="0" y="112969"/>
                  <a:pt x="0" y="111272"/>
                  <a:pt x="1395" y="109575"/>
                </a:cubicBezTo>
                <a:lnTo>
                  <a:pt x="1395" y="109575"/>
                </a:lnTo>
                <a:cubicBezTo>
                  <a:pt x="55016" y="1696"/>
                  <a:pt x="55016" y="1696"/>
                  <a:pt x="55016" y="1696"/>
                </a:cubicBezTo>
                <a:lnTo>
                  <a:pt x="55016" y="1696"/>
                </a:lnTo>
                <a:cubicBezTo>
                  <a:pt x="56411" y="0"/>
                  <a:pt x="57807" y="0"/>
                  <a:pt x="60598" y="0"/>
                </a:cubicBezTo>
                <a:cubicBezTo>
                  <a:pt x="61993" y="0"/>
                  <a:pt x="63388" y="0"/>
                  <a:pt x="64784" y="3393"/>
                </a:cubicBezTo>
                <a:lnTo>
                  <a:pt x="64784" y="3393"/>
                </a:lnTo>
                <a:cubicBezTo>
                  <a:pt x="119800" y="109575"/>
                  <a:pt x="119800" y="109575"/>
                  <a:pt x="119800" y="109575"/>
                </a:cubicBezTo>
                <a:lnTo>
                  <a:pt x="119800" y="109575"/>
                </a:lnTo>
                <a:cubicBezTo>
                  <a:pt x="119800" y="111272"/>
                  <a:pt x="119800" y="112969"/>
                  <a:pt x="119800" y="112969"/>
                </a:cubicBezTo>
                <a:close/>
                <a:moveTo>
                  <a:pt x="67574" y="37575"/>
                </a:moveTo>
                <a:lnTo>
                  <a:pt x="67574" y="37575"/>
                </a:lnTo>
                <a:cubicBezTo>
                  <a:pt x="67574" y="32484"/>
                  <a:pt x="64784" y="29090"/>
                  <a:pt x="60598" y="29090"/>
                </a:cubicBezTo>
                <a:cubicBezTo>
                  <a:pt x="56411" y="29090"/>
                  <a:pt x="52026" y="32484"/>
                  <a:pt x="52026" y="37575"/>
                </a:cubicBezTo>
                <a:cubicBezTo>
                  <a:pt x="52026" y="71757"/>
                  <a:pt x="52026" y="71757"/>
                  <a:pt x="52026" y="71757"/>
                </a:cubicBezTo>
                <a:cubicBezTo>
                  <a:pt x="52026" y="77090"/>
                  <a:pt x="56411" y="82181"/>
                  <a:pt x="60598" y="82181"/>
                </a:cubicBezTo>
                <a:cubicBezTo>
                  <a:pt x="64784" y="82181"/>
                  <a:pt x="67574" y="77090"/>
                  <a:pt x="67574" y="71757"/>
                </a:cubicBezTo>
                <a:lnTo>
                  <a:pt x="67574" y="37575"/>
                </a:lnTo>
                <a:close/>
                <a:moveTo>
                  <a:pt x="60598" y="88969"/>
                </a:moveTo>
                <a:lnTo>
                  <a:pt x="60598" y="88969"/>
                </a:lnTo>
                <a:cubicBezTo>
                  <a:pt x="56411" y="88969"/>
                  <a:pt x="52026" y="92363"/>
                  <a:pt x="52026" y="97696"/>
                </a:cubicBezTo>
                <a:cubicBezTo>
                  <a:pt x="52026" y="102787"/>
                  <a:pt x="56411" y="106181"/>
                  <a:pt x="60598" y="106181"/>
                </a:cubicBezTo>
                <a:cubicBezTo>
                  <a:pt x="64784" y="106181"/>
                  <a:pt x="67574" y="102787"/>
                  <a:pt x="67574" y="97696"/>
                </a:cubicBezTo>
                <a:cubicBezTo>
                  <a:pt x="67574" y="92363"/>
                  <a:pt x="64784" y="88969"/>
                  <a:pt x="60598" y="88969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Shape 4919"/>
          <p:cNvSpPr/>
          <p:nvPr/>
        </p:nvSpPr>
        <p:spPr>
          <a:xfrm>
            <a:off x="7155000" y="4587840"/>
            <a:ext cx="287280" cy="2890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219" y="43152"/>
                </a:moveTo>
                <a:lnTo>
                  <a:pt x="114219" y="43152"/>
                </a:lnTo>
                <a:cubicBezTo>
                  <a:pt x="108438" y="43152"/>
                  <a:pt x="108438" y="43152"/>
                  <a:pt x="108438" y="43152"/>
                </a:cubicBezTo>
                <a:cubicBezTo>
                  <a:pt x="105647" y="43152"/>
                  <a:pt x="105647" y="43152"/>
                  <a:pt x="105647" y="43152"/>
                </a:cubicBezTo>
                <a:cubicBezTo>
                  <a:pt x="90099" y="43152"/>
                  <a:pt x="90099" y="43152"/>
                  <a:pt x="90099" y="43152"/>
                </a:cubicBezTo>
                <a:cubicBezTo>
                  <a:pt x="85913" y="43152"/>
                  <a:pt x="84518" y="40394"/>
                  <a:pt x="84518" y="37635"/>
                </a:cubicBezTo>
                <a:cubicBezTo>
                  <a:pt x="84518" y="34876"/>
                  <a:pt x="85913" y="31921"/>
                  <a:pt x="90099" y="31921"/>
                </a:cubicBezTo>
                <a:cubicBezTo>
                  <a:pt x="100066" y="31921"/>
                  <a:pt x="100066" y="31921"/>
                  <a:pt x="100066" y="31921"/>
                </a:cubicBezTo>
                <a:cubicBezTo>
                  <a:pt x="90099" y="19507"/>
                  <a:pt x="76146" y="11034"/>
                  <a:pt x="59202" y="11034"/>
                </a:cubicBezTo>
                <a:cubicBezTo>
                  <a:pt x="32491" y="11034"/>
                  <a:pt x="11362" y="33300"/>
                  <a:pt x="11362" y="59901"/>
                </a:cubicBezTo>
                <a:cubicBezTo>
                  <a:pt x="11362" y="62660"/>
                  <a:pt x="8372" y="65418"/>
                  <a:pt x="5581" y="65418"/>
                </a:cubicBezTo>
                <a:cubicBezTo>
                  <a:pt x="1395" y="65418"/>
                  <a:pt x="0" y="62660"/>
                  <a:pt x="0" y="59901"/>
                </a:cubicBezTo>
                <a:lnTo>
                  <a:pt x="0" y="59901"/>
                </a:lnTo>
                <a:cubicBezTo>
                  <a:pt x="0" y="26403"/>
                  <a:pt x="26710" y="0"/>
                  <a:pt x="59202" y="0"/>
                </a:cubicBezTo>
                <a:cubicBezTo>
                  <a:pt x="80332" y="0"/>
                  <a:pt x="97275" y="9655"/>
                  <a:pt x="108438" y="25024"/>
                </a:cubicBezTo>
                <a:cubicBezTo>
                  <a:pt x="108438" y="15369"/>
                  <a:pt x="108438" y="15369"/>
                  <a:pt x="108438" y="15369"/>
                </a:cubicBezTo>
                <a:cubicBezTo>
                  <a:pt x="108438" y="12610"/>
                  <a:pt x="111229" y="9655"/>
                  <a:pt x="114219" y="9655"/>
                </a:cubicBezTo>
                <a:cubicBezTo>
                  <a:pt x="117009" y="9655"/>
                  <a:pt x="119800" y="12610"/>
                  <a:pt x="119800" y="15369"/>
                </a:cubicBezTo>
                <a:cubicBezTo>
                  <a:pt x="119800" y="37635"/>
                  <a:pt x="119800" y="37635"/>
                  <a:pt x="119800" y="37635"/>
                </a:cubicBezTo>
                <a:cubicBezTo>
                  <a:pt x="119800" y="40394"/>
                  <a:pt x="117009" y="43152"/>
                  <a:pt x="114219" y="43152"/>
                </a:cubicBezTo>
                <a:close/>
                <a:moveTo>
                  <a:pt x="5581" y="76650"/>
                </a:moveTo>
                <a:lnTo>
                  <a:pt x="5581" y="76650"/>
                </a:lnTo>
                <a:cubicBezTo>
                  <a:pt x="29501" y="76650"/>
                  <a:pt x="29501" y="76650"/>
                  <a:pt x="29501" y="76650"/>
                </a:cubicBezTo>
                <a:cubicBezTo>
                  <a:pt x="32491" y="76650"/>
                  <a:pt x="35282" y="79408"/>
                  <a:pt x="35282" y="82167"/>
                </a:cubicBezTo>
                <a:cubicBezTo>
                  <a:pt x="35282" y="84926"/>
                  <a:pt x="32491" y="87684"/>
                  <a:pt x="29501" y="87684"/>
                </a:cubicBezTo>
                <a:cubicBezTo>
                  <a:pt x="19734" y="87684"/>
                  <a:pt x="19734" y="87684"/>
                  <a:pt x="19734" y="87684"/>
                </a:cubicBezTo>
                <a:cubicBezTo>
                  <a:pt x="28106" y="100295"/>
                  <a:pt x="43654" y="108571"/>
                  <a:pt x="59202" y="108571"/>
                </a:cubicBezTo>
                <a:cubicBezTo>
                  <a:pt x="85913" y="108571"/>
                  <a:pt x="108438" y="86305"/>
                  <a:pt x="108438" y="59901"/>
                </a:cubicBezTo>
                <a:cubicBezTo>
                  <a:pt x="108438" y="57142"/>
                  <a:pt x="111229" y="54384"/>
                  <a:pt x="114219" y="54384"/>
                </a:cubicBezTo>
                <a:cubicBezTo>
                  <a:pt x="117009" y="54384"/>
                  <a:pt x="119800" y="57142"/>
                  <a:pt x="119800" y="59901"/>
                </a:cubicBezTo>
                <a:lnTo>
                  <a:pt x="119800" y="59901"/>
                </a:lnTo>
                <a:cubicBezTo>
                  <a:pt x="119800" y="93201"/>
                  <a:pt x="92890" y="119802"/>
                  <a:pt x="59202" y="119802"/>
                </a:cubicBezTo>
                <a:cubicBezTo>
                  <a:pt x="39468" y="119802"/>
                  <a:pt x="21129" y="109950"/>
                  <a:pt x="11362" y="94581"/>
                </a:cubicBezTo>
                <a:cubicBezTo>
                  <a:pt x="11362" y="104433"/>
                  <a:pt x="11362" y="104433"/>
                  <a:pt x="11362" y="104433"/>
                </a:cubicBezTo>
                <a:cubicBezTo>
                  <a:pt x="11362" y="107192"/>
                  <a:pt x="8372" y="109950"/>
                  <a:pt x="5581" y="109950"/>
                </a:cubicBezTo>
                <a:cubicBezTo>
                  <a:pt x="1395" y="109950"/>
                  <a:pt x="0" y="107192"/>
                  <a:pt x="0" y="104433"/>
                </a:cubicBezTo>
                <a:cubicBezTo>
                  <a:pt x="0" y="82167"/>
                  <a:pt x="0" y="82167"/>
                  <a:pt x="0" y="82167"/>
                </a:cubicBezTo>
                <a:cubicBezTo>
                  <a:pt x="0" y="79408"/>
                  <a:pt x="1395" y="76650"/>
                  <a:pt x="5581" y="7665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Shape 4920"/>
          <p:cNvSpPr/>
          <p:nvPr/>
        </p:nvSpPr>
        <p:spPr>
          <a:xfrm>
            <a:off x="6651720" y="4587840"/>
            <a:ext cx="288720" cy="289080"/>
          </a:xfrm>
          <a:custGeom>
            <a:avLst/>
            <a:gdLst>
              <a:gd name="textAreaLeft" fmla="*/ 0 w 288720"/>
              <a:gd name="textAreaRight" fmla="*/ 289080 w 2887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43152"/>
                </a:moveTo>
                <a:lnTo>
                  <a:pt x="114088" y="43152"/>
                </a:lnTo>
                <a:cubicBezTo>
                  <a:pt x="89064" y="43152"/>
                  <a:pt x="89064" y="43152"/>
                  <a:pt x="89064" y="43152"/>
                </a:cubicBezTo>
                <a:cubicBezTo>
                  <a:pt x="86305" y="43152"/>
                  <a:pt x="83546" y="40394"/>
                  <a:pt x="83546" y="37635"/>
                </a:cubicBezTo>
                <a:cubicBezTo>
                  <a:pt x="83546" y="34876"/>
                  <a:pt x="86305" y="31921"/>
                  <a:pt x="89064" y="31921"/>
                </a:cubicBezTo>
                <a:cubicBezTo>
                  <a:pt x="98916" y="31921"/>
                  <a:pt x="98916" y="31921"/>
                  <a:pt x="98916" y="31921"/>
                </a:cubicBezTo>
                <a:cubicBezTo>
                  <a:pt x="90443" y="19507"/>
                  <a:pt x="76650" y="11034"/>
                  <a:pt x="59901" y="11034"/>
                </a:cubicBezTo>
                <a:cubicBezTo>
                  <a:pt x="33300" y="11034"/>
                  <a:pt x="11034" y="33300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57142"/>
                  <a:pt x="109950" y="54384"/>
                  <a:pt x="114088" y="54384"/>
                </a:cubicBezTo>
                <a:cubicBezTo>
                  <a:pt x="117044" y="54384"/>
                  <a:pt x="119802" y="57142"/>
                  <a:pt x="119802" y="59901"/>
                </a:cubicBezTo>
                <a:cubicBezTo>
                  <a:pt x="119802" y="93201"/>
                  <a:pt x="93201" y="119802"/>
                  <a:pt x="59901" y="119802"/>
                </a:cubicBezTo>
                <a:cubicBezTo>
                  <a:pt x="26403" y="119802"/>
                  <a:pt x="0" y="93201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79408" y="0"/>
                  <a:pt x="97536" y="9655"/>
                  <a:pt x="108571" y="25024"/>
                </a:cubicBezTo>
                <a:cubicBezTo>
                  <a:pt x="108571" y="15369"/>
                  <a:pt x="108571" y="15369"/>
                  <a:pt x="108571" y="15369"/>
                </a:cubicBezTo>
                <a:cubicBezTo>
                  <a:pt x="108571" y="12610"/>
                  <a:pt x="109950" y="9655"/>
                  <a:pt x="114088" y="9655"/>
                </a:cubicBezTo>
                <a:cubicBezTo>
                  <a:pt x="117044" y="9655"/>
                  <a:pt x="119802" y="12610"/>
                  <a:pt x="119802" y="15369"/>
                </a:cubicBezTo>
                <a:cubicBezTo>
                  <a:pt x="119802" y="37635"/>
                  <a:pt x="119802" y="37635"/>
                  <a:pt x="119802" y="37635"/>
                </a:cubicBezTo>
                <a:cubicBezTo>
                  <a:pt x="119802" y="40394"/>
                  <a:pt x="117044" y="43152"/>
                  <a:pt x="114088" y="43152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Shape 4921"/>
          <p:cNvSpPr/>
          <p:nvPr/>
        </p:nvSpPr>
        <p:spPr>
          <a:xfrm>
            <a:off x="6154560" y="4614840"/>
            <a:ext cx="285840" cy="200160"/>
          </a:xfrm>
          <a:custGeom>
            <a:avLst/>
            <a:gdLst>
              <a:gd name="textAreaLeft" fmla="*/ 0 w 285840"/>
              <a:gd name="textAreaRight" fmla="*/ 286200 w 2858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20000" h="120000">
                <a:moveTo>
                  <a:pt x="105647" y="51952"/>
                </a:moveTo>
                <a:lnTo>
                  <a:pt x="105647" y="51952"/>
                </a:lnTo>
                <a:cubicBezTo>
                  <a:pt x="104252" y="53929"/>
                  <a:pt x="102857" y="53929"/>
                  <a:pt x="101461" y="53929"/>
                </a:cubicBezTo>
                <a:cubicBezTo>
                  <a:pt x="98671" y="53929"/>
                  <a:pt x="95681" y="49976"/>
                  <a:pt x="95681" y="46023"/>
                </a:cubicBezTo>
                <a:cubicBezTo>
                  <a:pt x="95681" y="44047"/>
                  <a:pt x="95681" y="42070"/>
                  <a:pt x="97076" y="40094"/>
                </a:cubicBezTo>
                <a:cubicBezTo>
                  <a:pt x="101461" y="36141"/>
                  <a:pt x="101461" y="36141"/>
                  <a:pt x="101461" y="36141"/>
                </a:cubicBezTo>
                <a:cubicBezTo>
                  <a:pt x="97076" y="36141"/>
                  <a:pt x="97076" y="36141"/>
                  <a:pt x="97076" y="36141"/>
                </a:cubicBezTo>
                <a:lnTo>
                  <a:pt x="97076" y="36141"/>
                </a:lnTo>
                <a:cubicBezTo>
                  <a:pt x="91495" y="36141"/>
                  <a:pt x="91495" y="36141"/>
                  <a:pt x="91495" y="36141"/>
                </a:cubicBezTo>
                <a:lnTo>
                  <a:pt x="91495" y="36141"/>
                </a:lnTo>
                <a:cubicBezTo>
                  <a:pt x="87308" y="36141"/>
                  <a:pt x="87308" y="36141"/>
                  <a:pt x="87308" y="36141"/>
                </a:cubicBezTo>
                <a:cubicBezTo>
                  <a:pt x="28106" y="117741"/>
                  <a:pt x="28106" y="117741"/>
                  <a:pt x="28106" y="117741"/>
                </a:cubicBezTo>
                <a:cubicBezTo>
                  <a:pt x="26710" y="119717"/>
                  <a:pt x="25315" y="119717"/>
                  <a:pt x="23920" y="119717"/>
                </a:cubicBezTo>
                <a:lnTo>
                  <a:pt x="23920" y="119717"/>
                </a:lnTo>
                <a:cubicBezTo>
                  <a:pt x="16943" y="119717"/>
                  <a:pt x="16943" y="119717"/>
                  <a:pt x="16943" y="119717"/>
                </a:cubicBezTo>
                <a:lnTo>
                  <a:pt x="16943" y="119717"/>
                </a:lnTo>
                <a:cubicBezTo>
                  <a:pt x="5581" y="119717"/>
                  <a:pt x="5581" y="119717"/>
                  <a:pt x="5581" y="119717"/>
                </a:cubicBezTo>
                <a:cubicBezTo>
                  <a:pt x="2790" y="119717"/>
                  <a:pt x="0" y="117741"/>
                  <a:pt x="0" y="111811"/>
                </a:cubicBezTo>
                <a:cubicBezTo>
                  <a:pt x="0" y="107858"/>
                  <a:pt x="2790" y="103905"/>
                  <a:pt x="5581" y="103905"/>
                </a:cubicBezTo>
                <a:cubicBezTo>
                  <a:pt x="16943" y="103905"/>
                  <a:pt x="16943" y="103905"/>
                  <a:pt x="16943" y="103905"/>
                </a:cubicBezTo>
                <a:lnTo>
                  <a:pt x="16943" y="103905"/>
                </a:lnTo>
                <a:cubicBezTo>
                  <a:pt x="22524" y="103905"/>
                  <a:pt x="22524" y="103905"/>
                  <a:pt x="22524" y="103905"/>
                </a:cubicBezTo>
                <a:cubicBezTo>
                  <a:pt x="80332" y="22023"/>
                  <a:pt x="80332" y="22023"/>
                  <a:pt x="80332" y="22023"/>
                </a:cubicBezTo>
                <a:lnTo>
                  <a:pt x="80332" y="22023"/>
                </a:lnTo>
                <a:cubicBezTo>
                  <a:pt x="81727" y="20047"/>
                  <a:pt x="83122" y="20047"/>
                  <a:pt x="84518" y="20047"/>
                </a:cubicBezTo>
                <a:lnTo>
                  <a:pt x="84518" y="20047"/>
                </a:lnTo>
                <a:cubicBezTo>
                  <a:pt x="94285" y="20047"/>
                  <a:pt x="94285" y="20047"/>
                  <a:pt x="94285" y="20047"/>
                </a:cubicBezTo>
                <a:lnTo>
                  <a:pt x="94285" y="20047"/>
                </a:lnTo>
                <a:cubicBezTo>
                  <a:pt x="101461" y="20047"/>
                  <a:pt x="101461" y="20047"/>
                  <a:pt x="101461" y="20047"/>
                </a:cubicBezTo>
                <a:cubicBezTo>
                  <a:pt x="97076" y="14117"/>
                  <a:pt x="97076" y="14117"/>
                  <a:pt x="97076" y="14117"/>
                </a:cubicBezTo>
                <a:cubicBezTo>
                  <a:pt x="95681" y="12141"/>
                  <a:pt x="95681" y="10164"/>
                  <a:pt x="95681" y="8188"/>
                </a:cubicBezTo>
                <a:cubicBezTo>
                  <a:pt x="95681" y="4235"/>
                  <a:pt x="98671" y="0"/>
                  <a:pt x="101461" y="0"/>
                </a:cubicBezTo>
                <a:cubicBezTo>
                  <a:pt x="102857" y="0"/>
                  <a:pt x="104252" y="2258"/>
                  <a:pt x="105647" y="4235"/>
                </a:cubicBezTo>
                <a:cubicBezTo>
                  <a:pt x="118405" y="22023"/>
                  <a:pt x="118405" y="22023"/>
                  <a:pt x="118405" y="22023"/>
                </a:cubicBezTo>
                <a:cubicBezTo>
                  <a:pt x="119800" y="24000"/>
                  <a:pt x="119800" y="25976"/>
                  <a:pt x="119800" y="27952"/>
                </a:cubicBezTo>
                <a:cubicBezTo>
                  <a:pt x="119800" y="29929"/>
                  <a:pt x="119800" y="31905"/>
                  <a:pt x="118405" y="34164"/>
                </a:cubicBezTo>
                <a:lnTo>
                  <a:pt x="105647" y="51952"/>
                </a:ln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Shape 4922"/>
          <p:cNvSpPr/>
          <p:nvPr/>
        </p:nvSpPr>
        <p:spPr>
          <a:xfrm>
            <a:off x="5654520" y="4648320"/>
            <a:ext cx="284400" cy="201600"/>
          </a:xfrm>
          <a:custGeom>
            <a:avLst/>
            <a:gdLst>
              <a:gd name="textAreaLeft" fmla="*/ 0 w 284400"/>
              <a:gd name="textAreaRight" fmla="*/ 284760 w 28440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104425" y="67764"/>
                </a:moveTo>
                <a:lnTo>
                  <a:pt x="104425" y="67764"/>
                </a:lnTo>
                <a:cubicBezTo>
                  <a:pt x="104425" y="65788"/>
                  <a:pt x="103028" y="65788"/>
                  <a:pt x="101630" y="65788"/>
                </a:cubicBezTo>
                <a:cubicBezTo>
                  <a:pt x="97237" y="65788"/>
                  <a:pt x="95840" y="70023"/>
                  <a:pt x="95840" y="73976"/>
                </a:cubicBezTo>
                <a:cubicBezTo>
                  <a:pt x="95840" y="75952"/>
                  <a:pt x="95840" y="77929"/>
                  <a:pt x="97237" y="79905"/>
                </a:cubicBezTo>
                <a:cubicBezTo>
                  <a:pt x="100232" y="83858"/>
                  <a:pt x="100232" y="83858"/>
                  <a:pt x="100232" y="83858"/>
                </a:cubicBezTo>
                <a:cubicBezTo>
                  <a:pt x="97237" y="83858"/>
                  <a:pt x="97237" y="83858"/>
                  <a:pt x="97237" y="83858"/>
                </a:cubicBezTo>
                <a:lnTo>
                  <a:pt x="97237" y="83858"/>
                </a:lnTo>
                <a:cubicBezTo>
                  <a:pt x="91647" y="83858"/>
                  <a:pt x="91647" y="83858"/>
                  <a:pt x="91647" y="83858"/>
                </a:cubicBezTo>
                <a:lnTo>
                  <a:pt x="91647" y="83858"/>
                </a:lnTo>
                <a:cubicBezTo>
                  <a:pt x="86056" y="83858"/>
                  <a:pt x="86056" y="83858"/>
                  <a:pt x="86056" y="83858"/>
                </a:cubicBezTo>
                <a:cubicBezTo>
                  <a:pt x="28153" y="1976"/>
                  <a:pt x="28153" y="1976"/>
                  <a:pt x="28153" y="1976"/>
                </a:cubicBezTo>
                <a:cubicBezTo>
                  <a:pt x="26755" y="0"/>
                  <a:pt x="25357" y="0"/>
                  <a:pt x="23960" y="0"/>
                </a:cubicBezTo>
                <a:lnTo>
                  <a:pt x="23960" y="0"/>
                </a:lnTo>
                <a:cubicBezTo>
                  <a:pt x="16971" y="0"/>
                  <a:pt x="16971" y="0"/>
                  <a:pt x="16971" y="0"/>
                </a:cubicBezTo>
                <a:lnTo>
                  <a:pt x="16971" y="0"/>
                </a:lnTo>
                <a:cubicBezTo>
                  <a:pt x="5590" y="0"/>
                  <a:pt x="5590" y="0"/>
                  <a:pt x="5590" y="0"/>
                </a:cubicBezTo>
                <a:cubicBezTo>
                  <a:pt x="1397" y="0"/>
                  <a:pt x="0" y="1976"/>
                  <a:pt x="0" y="7905"/>
                </a:cubicBezTo>
                <a:cubicBezTo>
                  <a:pt x="0" y="11858"/>
                  <a:pt x="1397" y="16094"/>
                  <a:pt x="5590" y="16094"/>
                </a:cubicBezTo>
                <a:cubicBezTo>
                  <a:pt x="16971" y="16094"/>
                  <a:pt x="16971" y="16094"/>
                  <a:pt x="16971" y="16094"/>
                </a:cubicBezTo>
                <a:lnTo>
                  <a:pt x="16971" y="16094"/>
                </a:lnTo>
                <a:cubicBezTo>
                  <a:pt x="21164" y="16094"/>
                  <a:pt x="21164" y="16094"/>
                  <a:pt x="21164" y="16094"/>
                </a:cubicBezTo>
                <a:cubicBezTo>
                  <a:pt x="80465" y="97694"/>
                  <a:pt x="80465" y="97694"/>
                  <a:pt x="80465" y="97694"/>
                </a:cubicBezTo>
                <a:lnTo>
                  <a:pt x="80465" y="97694"/>
                </a:lnTo>
                <a:cubicBezTo>
                  <a:pt x="81863" y="99670"/>
                  <a:pt x="83261" y="99670"/>
                  <a:pt x="84658" y="99670"/>
                </a:cubicBezTo>
                <a:lnTo>
                  <a:pt x="84658" y="99670"/>
                </a:lnTo>
                <a:cubicBezTo>
                  <a:pt x="93044" y="99670"/>
                  <a:pt x="93044" y="99670"/>
                  <a:pt x="93044" y="99670"/>
                </a:cubicBezTo>
                <a:lnTo>
                  <a:pt x="93044" y="99670"/>
                </a:lnTo>
                <a:cubicBezTo>
                  <a:pt x="100232" y="99670"/>
                  <a:pt x="100232" y="99670"/>
                  <a:pt x="100232" y="99670"/>
                </a:cubicBezTo>
                <a:cubicBezTo>
                  <a:pt x="97237" y="105882"/>
                  <a:pt x="97237" y="105882"/>
                  <a:pt x="97237" y="105882"/>
                </a:cubicBezTo>
                <a:cubicBezTo>
                  <a:pt x="95840" y="107858"/>
                  <a:pt x="95840" y="109835"/>
                  <a:pt x="95840" y="111811"/>
                </a:cubicBezTo>
                <a:cubicBezTo>
                  <a:pt x="95840" y="115764"/>
                  <a:pt x="97237" y="119717"/>
                  <a:pt x="101630" y="119717"/>
                </a:cubicBezTo>
                <a:cubicBezTo>
                  <a:pt x="103028" y="119717"/>
                  <a:pt x="104425" y="117741"/>
                  <a:pt x="104425" y="115764"/>
                </a:cubicBezTo>
                <a:cubicBezTo>
                  <a:pt x="118402" y="97694"/>
                  <a:pt x="118402" y="97694"/>
                  <a:pt x="118402" y="97694"/>
                </a:cubicBezTo>
                <a:cubicBezTo>
                  <a:pt x="119800" y="95717"/>
                  <a:pt x="119800" y="93741"/>
                  <a:pt x="119800" y="91764"/>
                </a:cubicBezTo>
                <a:cubicBezTo>
                  <a:pt x="119800" y="89788"/>
                  <a:pt x="119800" y="87811"/>
                  <a:pt x="118402" y="87811"/>
                </a:cubicBezTo>
                <a:lnTo>
                  <a:pt x="104425" y="67764"/>
                </a:ln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Shape 4923"/>
          <p:cNvSpPr/>
          <p:nvPr/>
        </p:nvSpPr>
        <p:spPr>
          <a:xfrm>
            <a:off x="5151600" y="4614840"/>
            <a:ext cx="288720" cy="235080"/>
          </a:xfrm>
          <a:custGeom>
            <a:avLst/>
            <a:gdLst>
              <a:gd name="textAreaLeft" fmla="*/ 0 w 288720"/>
              <a:gd name="textAreaRight" fmla="*/ 289080 w 2887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104605" y="44516"/>
                </a:moveTo>
                <a:lnTo>
                  <a:pt x="104605" y="44516"/>
                </a:lnTo>
                <a:cubicBezTo>
                  <a:pt x="103223" y="46209"/>
                  <a:pt x="101842" y="46209"/>
                  <a:pt x="100263" y="46209"/>
                </a:cubicBezTo>
                <a:cubicBezTo>
                  <a:pt x="97500" y="46209"/>
                  <a:pt x="94736" y="42822"/>
                  <a:pt x="94736" y="39435"/>
                </a:cubicBezTo>
                <a:cubicBezTo>
                  <a:pt x="94736" y="37741"/>
                  <a:pt x="96118" y="36048"/>
                  <a:pt x="97500" y="34354"/>
                </a:cubicBezTo>
                <a:cubicBezTo>
                  <a:pt x="100263" y="30967"/>
                  <a:pt x="100263" y="30967"/>
                  <a:pt x="100263" y="30967"/>
                </a:cubicBezTo>
                <a:cubicBezTo>
                  <a:pt x="97500" y="30967"/>
                  <a:pt x="97500" y="30967"/>
                  <a:pt x="97500" y="30967"/>
                </a:cubicBezTo>
                <a:lnTo>
                  <a:pt x="97500" y="30967"/>
                </a:lnTo>
                <a:cubicBezTo>
                  <a:pt x="91973" y="30967"/>
                  <a:pt x="91973" y="30967"/>
                  <a:pt x="91973" y="30967"/>
                </a:cubicBezTo>
                <a:lnTo>
                  <a:pt x="91973" y="30967"/>
                </a:lnTo>
                <a:cubicBezTo>
                  <a:pt x="86447" y="30967"/>
                  <a:pt x="86447" y="30967"/>
                  <a:pt x="86447" y="30967"/>
                </a:cubicBezTo>
                <a:cubicBezTo>
                  <a:pt x="27828" y="100887"/>
                  <a:pt x="27828" y="100887"/>
                  <a:pt x="27828" y="100887"/>
                </a:cubicBezTo>
                <a:cubicBezTo>
                  <a:pt x="27828" y="102580"/>
                  <a:pt x="26447" y="102580"/>
                  <a:pt x="25065" y="102580"/>
                </a:cubicBezTo>
                <a:lnTo>
                  <a:pt x="25065" y="102580"/>
                </a:lnTo>
                <a:cubicBezTo>
                  <a:pt x="16578" y="102580"/>
                  <a:pt x="16578" y="102580"/>
                  <a:pt x="16578" y="102580"/>
                </a:cubicBezTo>
                <a:lnTo>
                  <a:pt x="16578" y="102580"/>
                </a:lnTo>
                <a:cubicBezTo>
                  <a:pt x="5526" y="102580"/>
                  <a:pt x="5526" y="102580"/>
                  <a:pt x="5526" y="102580"/>
                </a:cubicBezTo>
                <a:cubicBezTo>
                  <a:pt x="2763" y="102580"/>
                  <a:pt x="0" y="100887"/>
                  <a:pt x="0" y="95806"/>
                </a:cubicBezTo>
                <a:cubicBezTo>
                  <a:pt x="0" y="92419"/>
                  <a:pt x="2763" y="89032"/>
                  <a:pt x="5526" y="89032"/>
                </a:cubicBezTo>
                <a:cubicBezTo>
                  <a:pt x="16578" y="89032"/>
                  <a:pt x="16578" y="89032"/>
                  <a:pt x="16578" y="89032"/>
                </a:cubicBezTo>
                <a:lnTo>
                  <a:pt x="16578" y="89032"/>
                </a:lnTo>
                <a:cubicBezTo>
                  <a:pt x="22302" y="89032"/>
                  <a:pt x="22302" y="89032"/>
                  <a:pt x="22302" y="89032"/>
                </a:cubicBezTo>
                <a:cubicBezTo>
                  <a:pt x="80921" y="18870"/>
                  <a:pt x="80921" y="18870"/>
                  <a:pt x="80921" y="18870"/>
                </a:cubicBezTo>
                <a:lnTo>
                  <a:pt x="80921" y="18870"/>
                </a:lnTo>
                <a:cubicBezTo>
                  <a:pt x="80921" y="17177"/>
                  <a:pt x="82302" y="17177"/>
                  <a:pt x="83684" y="17177"/>
                </a:cubicBezTo>
                <a:lnTo>
                  <a:pt x="83684" y="17177"/>
                </a:lnTo>
                <a:cubicBezTo>
                  <a:pt x="93355" y="17177"/>
                  <a:pt x="93355" y="17177"/>
                  <a:pt x="93355" y="17177"/>
                </a:cubicBezTo>
                <a:lnTo>
                  <a:pt x="93355" y="17177"/>
                </a:lnTo>
                <a:cubicBezTo>
                  <a:pt x="100263" y="17177"/>
                  <a:pt x="100263" y="17177"/>
                  <a:pt x="100263" y="17177"/>
                </a:cubicBezTo>
                <a:cubicBezTo>
                  <a:pt x="97500" y="12096"/>
                  <a:pt x="97500" y="12096"/>
                  <a:pt x="97500" y="12096"/>
                </a:cubicBezTo>
                <a:cubicBezTo>
                  <a:pt x="96118" y="10403"/>
                  <a:pt x="94736" y="8709"/>
                  <a:pt x="94736" y="7016"/>
                </a:cubicBezTo>
                <a:cubicBezTo>
                  <a:pt x="94736" y="3629"/>
                  <a:pt x="97500" y="0"/>
                  <a:pt x="100263" y="0"/>
                </a:cubicBezTo>
                <a:cubicBezTo>
                  <a:pt x="101842" y="0"/>
                  <a:pt x="103223" y="1935"/>
                  <a:pt x="104605" y="3629"/>
                </a:cubicBezTo>
                <a:cubicBezTo>
                  <a:pt x="118421" y="18870"/>
                  <a:pt x="118421" y="18870"/>
                  <a:pt x="118421" y="18870"/>
                </a:cubicBezTo>
                <a:cubicBezTo>
                  <a:pt x="118421" y="20564"/>
                  <a:pt x="119802" y="22258"/>
                  <a:pt x="119802" y="23951"/>
                </a:cubicBezTo>
                <a:cubicBezTo>
                  <a:pt x="119802" y="25645"/>
                  <a:pt x="118421" y="27338"/>
                  <a:pt x="118421" y="29274"/>
                </a:cubicBezTo>
                <a:lnTo>
                  <a:pt x="104605" y="44516"/>
                </a:lnTo>
                <a:close/>
                <a:moveTo>
                  <a:pt x="43223" y="54919"/>
                </a:moveTo>
                <a:lnTo>
                  <a:pt x="43223" y="54919"/>
                </a:lnTo>
                <a:cubicBezTo>
                  <a:pt x="22302" y="30967"/>
                  <a:pt x="22302" y="30967"/>
                  <a:pt x="22302" y="30967"/>
                </a:cubicBezTo>
                <a:cubicBezTo>
                  <a:pt x="16578" y="30967"/>
                  <a:pt x="16578" y="30967"/>
                  <a:pt x="16578" y="30967"/>
                </a:cubicBezTo>
                <a:lnTo>
                  <a:pt x="16578" y="30967"/>
                </a:lnTo>
                <a:cubicBezTo>
                  <a:pt x="5526" y="30967"/>
                  <a:pt x="5526" y="30967"/>
                  <a:pt x="5526" y="30967"/>
                </a:cubicBezTo>
                <a:cubicBezTo>
                  <a:pt x="2763" y="30967"/>
                  <a:pt x="0" y="27338"/>
                  <a:pt x="0" y="23951"/>
                </a:cubicBezTo>
                <a:cubicBezTo>
                  <a:pt x="0" y="18870"/>
                  <a:pt x="2763" y="17177"/>
                  <a:pt x="5526" y="17177"/>
                </a:cubicBezTo>
                <a:cubicBezTo>
                  <a:pt x="15197" y="17177"/>
                  <a:pt x="15197" y="17177"/>
                  <a:pt x="15197" y="17177"/>
                </a:cubicBezTo>
                <a:lnTo>
                  <a:pt x="15197" y="17177"/>
                </a:lnTo>
                <a:cubicBezTo>
                  <a:pt x="25065" y="17177"/>
                  <a:pt x="25065" y="17177"/>
                  <a:pt x="25065" y="17177"/>
                </a:cubicBezTo>
                <a:lnTo>
                  <a:pt x="25065" y="17177"/>
                </a:lnTo>
                <a:cubicBezTo>
                  <a:pt x="26447" y="17177"/>
                  <a:pt x="27828" y="17177"/>
                  <a:pt x="27828" y="18870"/>
                </a:cubicBezTo>
                <a:cubicBezTo>
                  <a:pt x="50131" y="46209"/>
                  <a:pt x="50131" y="46209"/>
                  <a:pt x="50131" y="46209"/>
                </a:cubicBezTo>
                <a:lnTo>
                  <a:pt x="43223" y="54919"/>
                </a:lnTo>
                <a:close/>
                <a:moveTo>
                  <a:pt x="86447" y="89032"/>
                </a:moveTo>
                <a:lnTo>
                  <a:pt x="86447" y="89032"/>
                </a:lnTo>
                <a:cubicBezTo>
                  <a:pt x="91973" y="89032"/>
                  <a:pt x="91973" y="89032"/>
                  <a:pt x="91973" y="89032"/>
                </a:cubicBezTo>
                <a:lnTo>
                  <a:pt x="91973" y="89032"/>
                </a:lnTo>
                <a:cubicBezTo>
                  <a:pt x="97500" y="89032"/>
                  <a:pt x="97500" y="89032"/>
                  <a:pt x="97500" y="89032"/>
                </a:cubicBezTo>
                <a:lnTo>
                  <a:pt x="97500" y="89032"/>
                </a:lnTo>
                <a:cubicBezTo>
                  <a:pt x="100263" y="89032"/>
                  <a:pt x="100263" y="89032"/>
                  <a:pt x="100263" y="89032"/>
                </a:cubicBezTo>
                <a:cubicBezTo>
                  <a:pt x="97500" y="85645"/>
                  <a:pt x="97500" y="85645"/>
                  <a:pt x="97500" y="85645"/>
                </a:cubicBezTo>
                <a:cubicBezTo>
                  <a:pt x="96118" y="83951"/>
                  <a:pt x="94736" y="82258"/>
                  <a:pt x="94736" y="80564"/>
                </a:cubicBezTo>
                <a:cubicBezTo>
                  <a:pt x="94736" y="77177"/>
                  <a:pt x="97500" y="73548"/>
                  <a:pt x="100263" y="73548"/>
                </a:cubicBezTo>
                <a:cubicBezTo>
                  <a:pt x="101842" y="73548"/>
                  <a:pt x="103223" y="73548"/>
                  <a:pt x="104605" y="75241"/>
                </a:cubicBezTo>
                <a:cubicBezTo>
                  <a:pt x="118421" y="90725"/>
                  <a:pt x="118421" y="90725"/>
                  <a:pt x="118421" y="90725"/>
                </a:cubicBezTo>
                <a:cubicBezTo>
                  <a:pt x="118421" y="92419"/>
                  <a:pt x="119802" y="94112"/>
                  <a:pt x="119802" y="95806"/>
                </a:cubicBezTo>
                <a:cubicBezTo>
                  <a:pt x="119802" y="97500"/>
                  <a:pt x="118421" y="99193"/>
                  <a:pt x="118421" y="100887"/>
                </a:cubicBezTo>
                <a:cubicBezTo>
                  <a:pt x="104605" y="116370"/>
                  <a:pt x="104605" y="116370"/>
                  <a:pt x="104605" y="116370"/>
                </a:cubicBezTo>
                <a:cubicBezTo>
                  <a:pt x="103223" y="118064"/>
                  <a:pt x="101842" y="119758"/>
                  <a:pt x="100263" y="119758"/>
                </a:cubicBezTo>
                <a:cubicBezTo>
                  <a:pt x="97500" y="119758"/>
                  <a:pt x="94736" y="116370"/>
                  <a:pt x="94736" y="112983"/>
                </a:cubicBezTo>
                <a:cubicBezTo>
                  <a:pt x="94736" y="111290"/>
                  <a:pt x="96118" y="109596"/>
                  <a:pt x="97500" y="107903"/>
                </a:cubicBezTo>
                <a:cubicBezTo>
                  <a:pt x="100263" y="102580"/>
                  <a:pt x="100263" y="102580"/>
                  <a:pt x="100263" y="102580"/>
                </a:cubicBezTo>
                <a:cubicBezTo>
                  <a:pt x="91973" y="102580"/>
                  <a:pt x="91973" y="102580"/>
                  <a:pt x="91973" y="102580"/>
                </a:cubicBezTo>
                <a:lnTo>
                  <a:pt x="91973" y="102580"/>
                </a:lnTo>
                <a:cubicBezTo>
                  <a:pt x="83684" y="102580"/>
                  <a:pt x="83684" y="102580"/>
                  <a:pt x="83684" y="102580"/>
                </a:cubicBezTo>
                <a:lnTo>
                  <a:pt x="83684" y="102580"/>
                </a:lnTo>
                <a:cubicBezTo>
                  <a:pt x="82302" y="102580"/>
                  <a:pt x="80921" y="102580"/>
                  <a:pt x="80921" y="100887"/>
                </a:cubicBezTo>
                <a:cubicBezTo>
                  <a:pt x="58618" y="73548"/>
                  <a:pt x="58618" y="73548"/>
                  <a:pt x="58618" y="73548"/>
                </a:cubicBezTo>
                <a:cubicBezTo>
                  <a:pt x="65526" y="65080"/>
                  <a:pt x="65526" y="65080"/>
                  <a:pt x="65526" y="65080"/>
                </a:cubicBezTo>
                <a:lnTo>
                  <a:pt x="86447" y="89032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Shape 4924"/>
          <p:cNvSpPr/>
          <p:nvPr/>
        </p:nvSpPr>
        <p:spPr>
          <a:xfrm>
            <a:off x="4667400" y="4602240"/>
            <a:ext cx="258480" cy="261720"/>
          </a:xfrm>
          <a:custGeom>
            <a:avLst/>
            <a:gdLst>
              <a:gd name="textAreaLeft" fmla="*/ 0 w 258480"/>
              <a:gd name="textAreaRight" fmla="*/ 258840 w 25848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18238" y="10849"/>
                </a:moveTo>
                <a:lnTo>
                  <a:pt x="118238" y="10849"/>
                </a:lnTo>
                <a:cubicBezTo>
                  <a:pt x="87192" y="41446"/>
                  <a:pt x="87192" y="41446"/>
                  <a:pt x="87192" y="41446"/>
                </a:cubicBezTo>
                <a:cubicBezTo>
                  <a:pt x="97981" y="41446"/>
                  <a:pt x="97981" y="41446"/>
                  <a:pt x="97981" y="41446"/>
                </a:cubicBezTo>
                <a:cubicBezTo>
                  <a:pt x="101064" y="41446"/>
                  <a:pt x="104146" y="44484"/>
                  <a:pt x="104146" y="47522"/>
                </a:cubicBezTo>
                <a:cubicBezTo>
                  <a:pt x="104146" y="50777"/>
                  <a:pt x="101064" y="53815"/>
                  <a:pt x="97981" y="53815"/>
                </a:cubicBezTo>
                <a:cubicBezTo>
                  <a:pt x="73100" y="53815"/>
                  <a:pt x="73100" y="53815"/>
                  <a:pt x="73100" y="53815"/>
                </a:cubicBezTo>
                <a:cubicBezTo>
                  <a:pt x="68477" y="53815"/>
                  <a:pt x="66935" y="50777"/>
                  <a:pt x="66935" y="47522"/>
                </a:cubicBezTo>
                <a:cubicBezTo>
                  <a:pt x="66935" y="23001"/>
                  <a:pt x="66935" y="23001"/>
                  <a:pt x="66935" y="23001"/>
                </a:cubicBezTo>
                <a:cubicBezTo>
                  <a:pt x="66935" y="19963"/>
                  <a:pt x="68477" y="16925"/>
                  <a:pt x="73100" y="16925"/>
                </a:cubicBezTo>
                <a:cubicBezTo>
                  <a:pt x="76183" y="16925"/>
                  <a:pt x="79266" y="19963"/>
                  <a:pt x="79266" y="23001"/>
                </a:cubicBezTo>
                <a:cubicBezTo>
                  <a:pt x="79266" y="32332"/>
                  <a:pt x="79266" y="32332"/>
                  <a:pt x="79266" y="32332"/>
                </a:cubicBezTo>
                <a:cubicBezTo>
                  <a:pt x="110532" y="1518"/>
                  <a:pt x="110532" y="1518"/>
                  <a:pt x="110532" y="1518"/>
                </a:cubicBezTo>
                <a:lnTo>
                  <a:pt x="110532" y="1518"/>
                </a:lnTo>
                <a:cubicBezTo>
                  <a:pt x="110532" y="1518"/>
                  <a:pt x="112073" y="0"/>
                  <a:pt x="113614" y="0"/>
                </a:cubicBezTo>
                <a:cubicBezTo>
                  <a:pt x="118238" y="0"/>
                  <a:pt x="119779" y="3037"/>
                  <a:pt x="119779" y="6075"/>
                </a:cubicBezTo>
                <a:cubicBezTo>
                  <a:pt x="119779" y="7811"/>
                  <a:pt x="119779" y="9330"/>
                  <a:pt x="118238" y="10849"/>
                </a:cubicBezTo>
                <a:close/>
                <a:moveTo>
                  <a:pt x="73100" y="65967"/>
                </a:moveTo>
                <a:lnTo>
                  <a:pt x="73100" y="65967"/>
                </a:lnTo>
                <a:cubicBezTo>
                  <a:pt x="97981" y="65967"/>
                  <a:pt x="97981" y="65967"/>
                  <a:pt x="97981" y="65967"/>
                </a:cubicBezTo>
                <a:cubicBezTo>
                  <a:pt x="101064" y="65967"/>
                  <a:pt x="104146" y="69005"/>
                  <a:pt x="104146" y="72043"/>
                </a:cubicBezTo>
                <a:cubicBezTo>
                  <a:pt x="104146" y="75298"/>
                  <a:pt x="101064" y="78336"/>
                  <a:pt x="97981" y="78336"/>
                </a:cubicBezTo>
                <a:cubicBezTo>
                  <a:pt x="87192" y="78336"/>
                  <a:pt x="87192" y="78336"/>
                  <a:pt x="87192" y="78336"/>
                </a:cubicBezTo>
                <a:cubicBezTo>
                  <a:pt x="118238" y="108933"/>
                  <a:pt x="118238" y="108933"/>
                  <a:pt x="118238" y="108933"/>
                </a:cubicBezTo>
                <a:lnTo>
                  <a:pt x="118238" y="108933"/>
                </a:lnTo>
                <a:cubicBezTo>
                  <a:pt x="119779" y="110452"/>
                  <a:pt x="119779" y="111971"/>
                  <a:pt x="119779" y="113490"/>
                </a:cubicBezTo>
                <a:cubicBezTo>
                  <a:pt x="119779" y="116528"/>
                  <a:pt x="118238" y="119783"/>
                  <a:pt x="113614" y="119783"/>
                </a:cubicBezTo>
                <a:cubicBezTo>
                  <a:pt x="112073" y="119783"/>
                  <a:pt x="110532" y="118264"/>
                  <a:pt x="110532" y="118264"/>
                </a:cubicBezTo>
                <a:lnTo>
                  <a:pt x="110532" y="118264"/>
                </a:lnTo>
                <a:cubicBezTo>
                  <a:pt x="79266" y="87450"/>
                  <a:pt x="79266" y="87450"/>
                  <a:pt x="79266" y="87450"/>
                </a:cubicBezTo>
                <a:cubicBezTo>
                  <a:pt x="79266" y="96564"/>
                  <a:pt x="79266" y="96564"/>
                  <a:pt x="79266" y="96564"/>
                </a:cubicBezTo>
                <a:cubicBezTo>
                  <a:pt x="79266" y="99819"/>
                  <a:pt x="76183" y="102857"/>
                  <a:pt x="73100" y="102857"/>
                </a:cubicBezTo>
                <a:cubicBezTo>
                  <a:pt x="68477" y="102857"/>
                  <a:pt x="66935" y="99819"/>
                  <a:pt x="66935" y="96564"/>
                </a:cubicBezTo>
                <a:cubicBezTo>
                  <a:pt x="66935" y="72043"/>
                  <a:pt x="66935" y="72043"/>
                  <a:pt x="66935" y="72043"/>
                </a:cubicBezTo>
                <a:cubicBezTo>
                  <a:pt x="66935" y="69005"/>
                  <a:pt x="68477" y="65967"/>
                  <a:pt x="73100" y="65967"/>
                </a:cubicBezTo>
                <a:close/>
                <a:moveTo>
                  <a:pt x="48220" y="102857"/>
                </a:moveTo>
                <a:lnTo>
                  <a:pt x="48220" y="102857"/>
                </a:lnTo>
                <a:cubicBezTo>
                  <a:pt x="43596" y="102857"/>
                  <a:pt x="42055" y="99819"/>
                  <a:pt x="42055" y="96564"/>
                </a:cubicBezTo>
                <a:cubicBezTo>
                  <a:pt x="42055" y="87450"/>
                  <a:pt x="42055" y="87450"/>
                  <a:pt x="42055" y="87450"/>
                </a:cubicBezTo>
                <a:cubicBezTo>
                  <a:pt x="10788" y="118264"/>
                  <a:pt x="10788" y="118264"/>
                  <a:pt x="10788" y="118264"/>
                </a:cubicBezTo>
                <a:lnTo>
                  <a:pt x="10788" y="118264"/>
                </a:lnTo>
                <a:cubicBezTo>
                  <a:pt x="9247" y="118264"/>
                  <a:pt x="7706" y="119783"/>
                  <a:pt x="6165" y="119783"/>
                </a:cubicBezTo>
                <a:cubicBezTo>
                  <a:pt x="3082" y="119783"/>
                  <a:pt x="0" y="116528"/>
                  <a:pt x="0" y="113490"/>
                </a:cubicBezTo>
                <a:cubicBezTo>
                  <a:pt x="0" y="111971"/>
                  <a:pt x="0" y="110452"/>
                  <a:pt x="1541" y="108933"/>
                </a:cubicBezTo>
                <a:lnTo>
                  <a:pt x="1541" y="108933"/>
                </a:lnTo>
                <a:cubicBezTo>
                  <a:pt x="32587" y="78336"/>
                  <a:pt x="32587" y="78336"/>
                  <a:pt x="32587" y="78336"/>
                </a:cubicBezTo>
                <a:cubicBezTo>
                  <a:pt x="23339" y="78336"/>
                  <a:pt x="23339" y="78336"/>
                  <a:pt x="23339" y="78336"/>
                </a:cubicBezTo>
                <a:cubicBezTo>
                  <a:pt x="18715" y="78336"/>
                  <a:pt x="17174" y="75298"/>
                  <a:pt x="17174" y="72043"/>
                </a:cubicBezTo>
                <a:cubicBezTo>
                  <a:pt x="17174" y="69005"/>
                  <a:pt x="18715" y="65967"/>
                  <a:pt x="23339" y="65967"/>
                </a:cubicBezTo>
                <a:cubicBezTo>
                  <a:pt x="48220" y="65967"/>
                  <a:pt x="48220" y="65967"/>
                  <a:pt x="48220" y="65967"/>
                </a:cubicBezTo>
                <a:cubicBezTo>
                  <a:pt x="51302" y="65967"/>
                  <a:pt x="54385" y="69005"/>
                  <a:pt x="54385" y="72043"/>
                </a:cubicBezTo>
                <a:cubicBezTo>
                  <a:pt x="54385" y="96564"/>
                  <a:pt x="54385" y="96564"/>
                  <a:pt x="54385" y="96564"/>
                </a:cubicBezTo>
                <a:cubicBezTo>
                  <a:pt x="54385" y="99819"/>
                  <a:pt x="51302" y="102857"/>
                  <a:pt x="48220" y="102857"/>
                </a:cubicBezTo>
                <a:close/>
                <a:moveTo>
                  <a:pt x="48220" y="53815"/>
                </a:moveTo>
                <a:lnTo>
                  <a:pt x="48220" y="53815"/>
                </a:lnTo>
                <a:cubicBezTo>
                  <a:pt x="23339" y="53815"/>
                  <a:pt x="23339" y="53815"/>
                  <a:pt x="23339" y="53815"/>
                </a:cubicBezTo>
                <a:cubicBezTo>
                  <a:pt x="18715" y="53815"/>
                  <a:pt x="17174" y="50777"/>
                  <a:pt x="17174" y="47522"/>
                </a:cubicBezTo>
                <a:cubicBezTo>
                  <a:pt x="17174" y="44484"/>
                  <a:pt x="18715" y="41446"/>
                  <a:pt x="23339" y="41446"/>
                </a:cubicBezTo>
                <a:cubicBezTo>
                  <a:pt x="32587" y="41446"/>
                  <a:pt x="32587" y="41446"/>
                  <a:pt x="32587" y="41446"/>
                </a:cubicBezTo>
                <a:cubicBezTo>
                  <a:pt x="1541" y="10849"/>
                  <a:pt x="1541" y="10849"/>
                  <a:pt x="1541" y="10849"/>
                </a:cubicBezTo>
                <a:lnTo>
                  <a:pt x="1541" y="10849"/>
                </a:lnTo>
                <a:cubicBezTo>
                  <a:pt x="0" y="9330"/>
                  <a:pt x="0" y="7811"/>
                  <a:pt x="0" y="6075"/>
                </a:cubicBezTo>
                <a:cubicBezTo>
                  <a:pt x="0" y="3037"/>
                  <a:pt x="3082" y="0"/>
                  <a:pt x="6165" y="0"/>
                </a:cubicBezTo>
                <a:cubicBezTo>
                  <a:pt x="7706" y="0"/>
                  <a:pt x="9247" y="1518"/>
                  <a:pt x="10788" y="1518"/>
                </a:cubicBezTo>
                <a:lnTo>
                  <a:pt x="10788" y="1518"/>
                </a:lnTo>
                <a:cubicBezTo>
                  <a:pt x="42055" y="32332"/>
                  <a:pt x="42055" y="32332"/>
                  <a:pt x="42055" y="32332"/>
                </a:cubicBezTo>
                <a:cubicBezTo>
                  <a:pt x="42055" y="23001"/>
                  <a:pt x="42055" y="23001"/>
                  <a:pt x="42055" y="23001"/>
                </a:cubicBezTo>
                <a:cubicBezTo>
                  <a:pt x="42055" y="19963"/>
                  <a:pt x="43596" y="16925"/>
                  <a:pt x="48220" y="16925"/>
                </a:cubicBezTo>
                <a:cubicBezTo>
                  <a:pt x="51302" y="16925"/>
                  <a:pt x="54385" y="19963"/>
                  <a:pt x="54385" y="23001"/>
                </a:cubicBezTo>
                <a:cubicBezTo>
                  <a:pt x="54385" y="47522"/>
                  <a:pt x="54385" y="47522"/>
                  <a:pt x="54385" y="47522"/>
                </a:cubicBezTo>
                <a:cubicBezTo>
                  <a:pt x="54385" y="50777"/>
                  <a:pt x="51302" y="53815"/>
                  <a:pt x="48220" y="53815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Shape 4925"/>
          <p:cNvSpPr/>
          <p:nvPr/>
        </p:nvSpPr>
        <p:spPr>
          <a:xfrm>
            <a:off x="4168800" y="4602240"/>
            <a:ext cx="258840" cy="261720"/>
          </a:xfrm>
          <a:custGeom>
            <a:avLst/>
            <a:gdLst>
              <a:gd name="textAreaLeft" fmla="*/ 0 w 258840"/>
              <a:gd name="textAreaRight" fmla="*/ 259200 w 2588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783"/>
                </a:moveTo>
                <a:lnTo>
                  <a:pt x="113614" y="119783"/>
                </a:lnTo>
                <a:cubicBezTo>
                  <a:pt x="88733" y="119783"/>
                  <a:pt x="88733" y="119783"/>
                  <a:pt x="88733" y="119783"/>
                </a:cubicBezTo>
                <a:cubicBezTo>
                  <a:pt x="85651" y="119783"/>
                  <a:pt x="82348" y="116528"/>
                  <a:pt x="82348" y="113490"/>
                </a:cubicBezTo>
                <a:cubicBezTo>
                  <a:pt x="82348" y="108933"/>
                  <a:pt x="85651" y="107414"/>
                  <a:pt x="88733" y="107414"/>
                </a:cubicBezTo>
                <a:cubicBezTo>
                  <a:pt x="97981" y="107414"/>
                  <a:pt x="97981" y="107414"/>
                  <a:pt x="97981" y="107414"/>
                </a:cubicBezTo>
                <a:cubicBezTo>
                  <a:pt x="66935" y="76817"/>
                  <a:pt x="66935" y="76817"/>
                  <a:pt x="66935" y="76817"/>
                </a:cubicBezTo>
                <a:lnTo>
                  <a:pt x="66935" y="76817"/>
                </a:lnTo>
                <a:cubicBezTo>
                  <a:pt x="66935" y="75298"/>
                  <a:pt x="65394" y="73562"/>
                  <a:pt x="65394" y="72043"/>
                </a:cubicBezTo>
                <a:cubicBezTo>
                  <a:pt x="65394" y="69005"/>
                  <a:pt x="68477" y="65967"/>
                  <a:pt x="71559" y="65967"/>
                </a:cubicBezTo>
                <a:cubicBezTo>
                  <a:pt x="73100" y="65967"/>
                  <a:pt x="74642" y="65967"/>
                  <a:pt x="76183" y="67486"/>
                </a:cubicBezTo>
                <a:lnTo>
                  <a:pt x="76183" y="67486"/>
                </a:lnTo>
                <a:cubicBezTo>
                  <a:pt x="107229" y="98083"/>
                  <a:pt x="107229" y="98083"/>
                  <a:pt x="107229" y="98083"/>
                </a:cubicBezTo>
                <a:cubicBezTo>
                  <a:pt x="107229" y="88969"/>
                  <a:pt x="107229" y="88969"/>
                  <a:pt x="107229" y="88969"/>
                </a:cubicBezTo>
                <a:cubicBezTo>
                  <a:pt x="107229" y="84412"/>
                  <a:pt x="110532" y="82893"/>
                  <a:pt x="113614" y="82893"/>
                </a:cubicBezTo>
                <a:cubicBezTo>
                  <a:pt x="116697" y="82893"/>
                  <a:pt x="119779" y="84412"/>
                  <a:pt x="119779" y="88969"/>
                </a:cubicBezTo>
                <a:cubicBezTo>
                  <a:pt x="119779" y="113490"/>
                  <a:pt x="119779" y="113490"/>
                  <a:pt x="119779" y="113490"/>
                </a:cubicBezTo>
                <a:cubicBezTo>
                  <a:pt x="119779" y="116528"/>
                  <a:pt x="116697" y="119783"/>
                  <a:pt x="113614" y="119783"/>
                </a:cubicBezTo>
                <a:close/>
                <a:moveTo>
                  <a:pt x="113614" y="36889"/>
                </a:moveTo>
                <a:lnTo>
                  <a:pt x="113614" y="36889"/>
                </a:lnTo>
                <a:cubicBezTo>
                  <a:pt x="110532" y="36889"/>
                  <a:pt x="107229" y="35370"/>
                  <a:pt x="107229" y="30596"/>
                </a:cubicBezTo>
                <a:cubicBezTo>
                  <a:pt x="107229" y="21482"/>
                  <a:pt x="107229" y="21482"/>
                  <a:pt x="107229" y="21482"/>
                </a:cubicBezTo>
                <a:cubicBezTo>
                  <a:pt x="76183" y="52296"/>
                  <a:pt x="76183" y="52296"/>
                  <a:pt x="76183" y="52296"/>
                </a:cubicBezTo>
                <a:lnTo>
                  <a:pt x="76183" y="52296"/>
                </a:lnTo>
                <a:cubicBezTo>
                  <a:pt x="74642" y="53815"/>
                  <a:pt x="73100" y="53815"/>
                  <a:pt x="71559" y="53815"/>
                </a:cubicBezTo>
                <a:cubicBezTo>
                  <a:pt x="68477" y="53815"/>
                  <a:pt x="65394" y="50777"/>
                  <a:pt x="65394" y="47522"/>
                </a:cubicBezTo>
                <a:cubicBezTo>
                  <a:pt x="65394" y="46003"/>
                  <a:pt x="66935" y="44484"/>
                  <a:pt x="66935" y="42965"/>
                </a:cubicBezTo>
                <a:lnTo>
                  <a:pt x="66935" y="42965"/>
                </a:lnTo>
                <a:cubicBezTo>
                  <a:pt x="97981" y="12368"/>
                  <a:pt x="97981" y="12368"/>
                  <a:pt x="97981" y="12368"/>
                </a:cubicBezTo>
                <a:cubicBezTo>
                  <a:pt x="88733" y="12368"/>
                  <a:pt x="88733" y="12368"/>
                  <a:pt x="88733" y="12368"/>
                </a:cubicBezTo>
                <a:cubicBezTo>
                  <a:pt x="85651" y="12368"/>
                  <a:pt x="82348" y="10849"/>
                  <a:pt x="82348" y="6075"/>
                </a:cubicBezTo>
                <a:cubicBezTo>
                  <a:pt x="82348" y="3037"/>
                  <a:pt x="85651" y="0"/>
                  <a:pt x="88733" y="0"/>
                </a:cubicBezTo>
                <a:cubicBezTo>
                  <a:pt x="113614" y="0"/>
                  <a:pt x="113614" y="0"/>
                  <a:pt x="113614" y="0"/>
                </a:cubicBezTo>
                <a:cubicBezTo>
                  <a:pt x="116697" y="0"/>
                  <a:pt x="119779" y="3037"/>
                  <a:pt x="119779" y="6075"/>
                </a:cubicBezTo>
                <a:cubicBezTo>
                  <a:pt x="119779" y="30596"/>
                  <a:pt x="119779" y="30596"/>
                  <a:pt x="119779" y="30596"/>
                </a:cubicBezTo>
                <a:cubicBezTo>
                  <a:pt x="119779" y="35370"/>
                  <a:pt x="116697" y="36889"/>
                  <a:pt x="113614" y="36889"/>
                </a:cubicBezTo>
                <a:close/>
                <a:moveTo>
                  <a:pt x="51302" y="76817"/>
                </a:moveTo>
                <a:lnTo>
                  <a:pt x="51302" y="76817"/>
                </a:lnTo>
                <a:cubicBezTo>
                  <a:pt x="20256" y="107414"/>
                  <a:pt x="20256" y="107414"/>
                  <a:pt x="20256" y="107414"/>
                </a:cubicBezTo>
                <a:cubicBezTo>
                  <a:pt x="31045" y="107414"/>
                  <a:pt x="31045" y="107414"/>
                  <a:pt x="31045" y="107414"/>
                </a:cubicBezTo>
                <a:cubicBezTo>
                  <a:pt x="34128" y="107414"/>
                  <a:pt x="37211" y="108933"/>
                  <a:pt x="37211" y="113490"/>
                </a:cubicBezTo>
                <a:cubicBezTo>
                  <a:pt x="37211" y="116528"/>
                  <a:pt x="34128" y="119783"/>
                  <a:pt x="31045" y="119783"/>
                </a:cubicBezTo>
                <a:cubicBezTo>
                  <a:pt x="6165" y="119783"/>
                  <a:pt x="6165" y="119783"/>
                  <a:pt x="6165" y="119783"/>
                </a:cubicBezTo>
                <a:cubicBezTo>
                  <a:pt x="1541" y="119783"/>
                  <a:pt x="0" y="116528"/>
                  <a:pt x="0" y="113490"/>
                </a:cubicBezTo>
                <a:cubicBezTo>
                  <a:pt x="0" y="88969"/>
                  <a:pt x="0" y="88969"/>
                  <a:pt x="0" y="88969"/>
                </a:cubicBezTo>
                <a:cubicBezTo>
                  <a:pt x="0" y="84412"/>
                  <a:pt x="1541" y="82893"/>
                  <a:pt x="6165" y="82893"/>
                </a:cubicBezTo>
                <a:cubicBezTo>
                  <a:pt x="9247" y="82893"/>
                  <a:pt x="12330" y="84412"/>
                  <a:pt x="12330" y="88969"/>
                </a:cubicBezTo>
                <a:cubicBezTo>
                  <a:pt x="12330" y="98083"/>
                  <a:pt x="12330" y="98083"/>
                  <a:pt x="12330" y="98083"/>
                </a:cubicBezTo>
                <a:cubicBezTo>
                  <a:pt x="43596" y="67486"/>
                  <a:pt x="43596" y="67486"/>
                  <a:pt x="43596" y="67486"/>
                </a:cubicBezTo>
                <a:lnTo>
                  <a:pt x="43596" y="67486"/>
                </a:lnTo>
                <a:cubicBezTo>
                  <a:pt x="43596" y="65967"/>
                  <a:pt x="45137" y="65967"/>
                  <a:pt x="46678" y="65967"/>
                </a:cubicBezTo>
                <a:cubicBezTo>
                  <a:pt x="51302" y="65967"/>
                  <a:pt x="52844" y="69005"/>
                  <a:pt x="52844" y="72043"/>
                </a:cubicBezTo>
                <a:cubicBezTo>
                  <a:pt x="52844" y="73562"/>
                  <a:pt x="52844" y="75298"/>
                  <a:pt x="51302" y="76817"/>
                </a:cubicBezTo>
                <a:close/>
                <a:moveTo>
                  <a:pt x="46678" y="53815"/>
                </a:moveTo>
                <a:lnTo>
                  <a:pt x="46678" y="53815"/>
                </a:lnTo>
                <a:cubicBezTo>
                  <a:pt x="45137" y="53815"/>
                  <a:pt x="43596" y="53815"/>
                  <a:pt x="43596" y="52296"/>
                </a:cubicBezTo>
                <a:lnTo>
                  <a:pt x="43596" y="52296"/>
                </a:lnTo>
                <a:cubicBezTo>
                  <a:pt x="12330" y="21482"/>
                  <a:pt x="12330" y="21482"/>
                  <a:pt x="12330" y="21482"/>
                </a:cubicBezTo>
                <a:cubicBezTo>
                  <a:pt x="12330" y="30596"/>
                  <a:pt x="12330" y="30596"/>
                  <a:pt x="12330" y="30596"/>
                </a:cubicBezTo>
                <a:cubicBezTo>
                  <a:pt x="12330" y="35370"/>
                  <a:pt x="9247" y="36889"/>
                  <a:pt x="6165" y="36889"/>
                </a:cubicBezTo>
                <a:cubicBezTo>
                  <a:pt x="1541" y="36889"/>
                  <a:pt x="0" y="35370"/>
                  <a:pt x="0" y="30596"/>
                </a:cubicBezTo>
                <a:cubicBezTo>
                  <a:pt x="0" y="6075"/>
                  <a:pt x="0" y="6075"/>
                  <a:pt x="0" y="6075"/>
                </a:cubicBezTo>
                <a:cubicBezTo>
                  <a:pt x="0" y="3037"/>
                  <a:pt x="1541" y="0"/>
                  <a:pt x="6165" y="0"/>
                </a:cubicBezTo>
                <a:cubicBezTo>
                  <a:pt x="31045" y="0"/>
                  <a:pt x="31045" y="0"/>
                  <a:pt x="31045" y="0"/>
                </a:cubicBezTo>
                <a:cubicBezTo>
                  <a:pt x="34128" y="0"/>
                  <a:pt x="37211" y="3037"/>
                  <a:pt x="37211" y="6075"/>
                </a:cubicBezTo>
                <a:cubicBezTo>
                  <a:pt x="37211" y="10849"/>
                  <a:pt x="34128" y="12368"/>
                  <a:pt x="31045" y="12368"/>
                </a:cubicBezTo>
                <a:cubicBezTo>
                  <a:pt x="20256" y="12368"/>
                  <a:pt x="20256" y="12368"/>
                  <a:pt x="20256" y="12368"/>
                </a:cubicBezTo>
                <a:cubicBezTo>
                  <a:pt x="51302" y="42965"/>
                  <a:pt x="51302" y="42965"/>
                  <a:pt x="51302" y="42965"/>
                </a:cubicBezTo>
                <a:lnTo>
                  <a:pt x="51302" y="42965"/>
                </a:lnTo>
                <a:cubicBezTo>
                  <a:pt x="52844" y="44484"/>
                  <a:pt x="52844" y="46003"/>
                  <a:pt x="52844" y="47522"/>
                </a:cubicBezTo>
                <a:cubicBezTo>
                  <a:pt x="52844" y="50777"/>
                  <a:pt x="51302" y="53815"/>
                  <a:pt x="46678" y="53815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Shape 4926"/>
          <p:cNvSpPr/>
          <p:nvPr/>
        </p:nvSpPr>
        <p:spPr>
          <a:xfrm>
            <a:off x="3651120" y="4587840"/>
            <a:ext cx="289080" cy="289080"/>
          </a:xfrm>
          <a:custGeom>
            <a:avLst/>
            <a:gdLst>
              <a:gd name="textAreaLeft" fmla="*/ 0 w 289080"/>
              <a:gd name="textAreaRight" fmla="*/ 289440 w 2890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9802" y="59901"/>
                </a:moveTo>
                <a:lnTo>
                  <a:pt x="119802" y="59901"/>
                </a:lnTo>
                <a:cubicBezTo>
                  <a:pt x="119802" y="61280"/>
                  <a:pt x="118423" y="62660"/>
                  <a:pt x="117044" y="64039"/>
                </a:cubicBezTo>
                <a:lnTo>
                  <a:pt x="117044" y="64039"/>
                </a:lnTo>
                <a:cubicBezTo>
                  <a:pt x="98916" y="80788"/>
                  <a:pt x="98916" y="80788"/>
                  <a:pt x="98916" y="80788"/>
                </a:cubicBezTo>
                <a:lnTo>
                  <a:pt x="98916" y="80788"/>
                </a:lnTo>
                <a:cubicBezTo>
                  <a:pt x="97536" y="82167"/>
                  <a:pt x="96157" y="82167"/>
                  <a:pt x="94778" y="82167"/>
                </a:cubicBezTo>
                <a:cubicBezTo>
                  <a:pt x="92019" y="82167"/>
                  <a:pt x="89261" y="79408"/>
                  <a:pt x="89261" y="76650"/>
                </a:cubicBezTo>
                <a:cubicBezTo>
                  <a:pt x="89261" y="75270"/>
                  <a:pt x="90640" y="73891"/>
                  <a:pt x="92019" y="72315"/>
                </a:cubicBezTo>
                <a:lnTo>
                  <a:pt x="92019" y="72315"/>
                </a:lnTo>
                <a:cubicBezTo>
                  <a:pt x="98916" y="65418"/>
                  <a:pt x="98916" y="65418"/>
                  <a:pt x="98916" y="65418"/>
                </a:cubicBezTo>
                <a:cubicBezTo>
                  <a:pt x="65615" y="65418"/>
                  <a:pt x="65615" y="65418"/>
                  <a:pt x="65615" y="65418"/>
                </a:cubicBezTo>
                <a:cubicBezTo>
                  <a:pt x="65615" y="98916"/>
                  <a:pt x="65615" y="98916"/>
                  <a:pt x="65615" y="98916"/>
                </a:cubicBezTo>
                <a:cubicBezTo>
                  <a:pt x="72512" y="91822"/>
                  <a:pt x="72512" y="91822"/>
                  <a:pt x="72512" y="91822"/>
                </a:cubicBezTo>
                <a:lnTo>
                  <a:pt x="72512" y="91822"/>
                </a:lnTo>
                <a:cubicBezTo>
                  <a:pt x="73891" y="90443"/>
                  <a:pt x="75270" y="89064"/>
                  <a:pt x="76650" y="89064"/>
                </a:cubicBezTo>
                <a:cubicBezTo>
                  <a:pt x="79408" y="89064"/>
                  <a:pt x="82167" y="91822"/>
                  <a:pt x="82167" y="94581"/>
                </a:cubicBezTo>
                <a:cubicBezTo>
                  <a:pt x="82167" y="96157"/>
                  <a:pt x="82167" y="97536"/>
                  <a:pt x="80788" y="98916"/>
                </a:cubicBezTo>
                <a:lnTo>
                  <a:pt x="80788" y="98916"/>
                </a:lnTo>
                <a:cubicBezTo>
                  <a:pt x="64236" y="117044"/>
                  <a:pt x="64236" y="117044"/>
                  <a:pt x="64236" y="117044"/>
                </a:cubicBezTo>
                <a:lnTo>
                  <a:pt x="64236" y="117044"/>
                </a:lnTo>
                <a:cubicBezTo>
                  <a:pt x="62660" y="118423"/>
                  <a:pt x="61280" y="119802"/>
                  <a:pt x="59901" y="119802"/>
                </a:cubicBezTo>
                <a:cubicBezTo>
                  <a:pt x="58522" y="119802"/>
                  <a:pt x="57142" y="118423"/>
                  <a:pt x="55763" y="117044"/>
                </a:cubicBezTo>
                <a:lnTo>
                  <a:pt x="55763" y="117044"/>
                </a:lnTo>
                <a:cubicBezTo>
                  <a:pt x="39014" y="98916"/>
                  <a:pt x="39014" y="98916"/>
                  <a:pt x="39014" y="98916"/>
                </a:cubicBezTo>
                <a:lnTo>
                  <a:pt x="39014" y="98916"/>
                </a:lnTo>
                <a:cubicBezTo>
                  <a:pt x="37635" y="97536"/>
                  <a:pt x="37635" y="96157"/>
                  <a:pt x="37635" y="94581"/>
                </a:cubicBezTo>
                <a:cubicBezTo>
                  <a:pt x="37635" y="91822"/>
                  <a:pt x="40394" y="89064"/>
                  <a:pt x="43152" y="89064"/>
                </a:cubicBezTo>
                <a:cubicBezTo>
                  <a:pt x="44532" y="89064"/>
                  <a:pt x="46108" y="90443"/>
                  <a:pt x="47487" y="91822"/>
                </a:cubicBezTo>
                <a:lnTo>
                  <a:pt x="47487" y="91822"/>
                </a:lnTo>
                <a:cubicBezTo>
                  <a:pt x="54384" y="98916"/>
                  <a:pt x="54384" y="98916"/>
                  <a:pt x="54384" y="98916"/>
                </a:cubicBezTo>
                <a:cubicBezTo>
                  <a:pt x="54384" y="65418"/>
                  <a:pt x="54384" y="65418"/>
                  <a:pt x="54384" y="65418"/>
                </a:cubicBezTo>
                <a:cubicBezTo>
                  <a:pt x="20886" y="65418"/>
                  <a:pt x="20886" y="65418"/>
                  <a:pt x="20886" y="65418"/>
                </a:cubicBezTo>
                <a:cubicBezTo>
                  <a:pt x="27980" y="72315"/>
                  <a:pt x="27980" y="72315"/>
                  <a:pt x="27980" y="72315"/>
                </a:cubicBezTo>
                <a:lnTo>
                  <a:pt x="27980" y="72315"/>
                </a:lnTo>
                <a:cubicBezTo>
                  <a:pt x="29359" y="73891"/>
                  <a:pt x="30738" y="75270"/>
                  <a:pt x="30738" y="76650"/>
                </a:cubicBezTo>
                <a:cubicBezTo>
                  <a:pt x="30738" y="79408"/>
                  <a:pt x="27980" y="82167"/>
                  <a:pt x="25221" y="82167"/>
                </a:cubicBezTo>
                <a:cubicBezTo>
                  <a:pt x="23842" y="82167"/>
                  <a:pt x="22266" y="82167"/>
                  <a:pt x="20886" y="80788"/>
                </a:cubicBezTo>
                <a:lnTo>
                  <a:pt x="20886" y="80788"/>
                </a:lnTo>
                <a:cubicBezTo>
                  <a:pt x="2955" y="64039"/>
                  <a:pt x="2955" y="64039"/>
                  <a:pt x="2955" y="64039"/>
                </a:cubicBezTo>
                <a:lnTo>
                  <a:pt x="2955" y="64039"/>
                </a:lnTo>
                <a:cubicBezTo>
                  <a:pt x="1576" y="62660"/>
                  <a:pt x="0" y="61280"/>
                  <a:pt x="0" y="59901"/>
                </a:cubicBezTo>
                <a:cubicBezTo>
                  <a:pt x="0" y="58522"/>
                  <a:pt x="1576" y="57142"/>
                  <a:pt x="2955" y="55763"/>
                </a:cubicBezTo>
                <a:lnTo>
                  <a:pt x="2955" y="55763"/>
                </a:lnTo>
                <a:cubicBezTo>
                  <a:pt x="20886" y="39014"/>
                  <a:pt x="20886" y="39014"/>
                  <a:pt x="20886" y="39014"/>
                </a:cubicBezTo>
                <a:lnTo>
                  <a:pt x="20886" y="39014"/>
                </a:lnTo>
                <a:cubicBezTo>
                  <a:pt x="22266" y="37635"/>
                  <a:pt x="23842" y="37635"/>
                  <a:pt x="25221" y="37635"/>
                </a:cubicBezTo>
                <a:cubicBezTo>
                  <a:pt x="27980" y="37635"/>
                  <a:pt x="30738" y="40394"/>
                  <a:pt x="30738" y="43152"/>
                </a:cubicBezTo>
                <a:cubicBezTo>
                  <a:pt x="30738" y="44532"/>
                  <a:pt x="29359" y="45911"/>
                  <a:pt x="27980" y="47290"/>
                </a:cubicBezTo>
                <a:lnTo>
                  <a:pt x="27980" y="47290"/>
                </a:lnTo>
                <a:cubicBezTo>
                  <a:pt x="20886" y="54384"/>
                  <a:pt x="20886" y="54384"/>
                  <a:pt x="20886" y="54384"/>
                </a:cubicBezTo>
                <a:cubicBezTo>
                  <a:pt x="54384" y="54384"/>
                  <a:pt x="54384" y="54384"/>
                  <a:pt x="54384" y="54384"/>
                </a:cubicBezTo>
                <a:cubicBezTo>
                  <a:pt x="54384" y="20886"/>
                  <a:pt x="54384" y="20886"/>
                  <a:pt x="54384" y="20886"/>
                </a:cubicBezTo>
                <a:cubicBezTo>
                  <a:pt x="47487" y="27783"/>
                  <a:pt x="47487" y="27783"/>
                  <a:pt x="47487" y="27783"/>
                </a:cubicBezTo>
                <a:lnTo>
                  <a:pt x="47487" y="27783"/>
                </a:lnTo>
                <a:cubicBezTo>
                  <a:pt x="46108" y="29162"/>
                  <a:pt x="44532" y="30541"/>
                  <a:pt x="43152" y="30541"/>
                </a:cubicBezTo>
                <a:cubicBezTo>
                  <a:pt x="40394" y="30541"/>
                  <a:pt x="37635" y="27783"/>
                  <a:pt x="37635" y="25024"/>
                </a:cubicBezTo>
                <a:cubicBezTo>
                  <a:pt x="37635" y="23645"/>
                  <a:pt x="37635" y="22266"/>
                  <a:pt x="39014" y="20886"/>
                </a:cubicBezTo>
                <a:lnTo>
                  <a:pt x="39014" y="20886"/>
                </a:lnTo>
                <a:cubicBezTo>
                  <a:pt x="55763" y="2758"/>
                  <a:pt x="55763" y="2758"/>
                  <a:pt x="55763" y="2758"/>
                </a:cubicBezTo>
                <a:lnTo>
                  <a:pt x="55763" y="2758"/>
                </a:lnTo>
                <a:cubicBezTo>
                  <a:pt x="57142" y="1379"/>
                  <a:pt x="58522" y="0"/>
                  <a:pt x="59901" y="0"/>
                </a:cubicBezTo>
                <a:cubicBezTo>
                  <a:pt x="61280" y="0"/>
                  <a:pt x="62660" y="1379"/>
                  <a:pt x="64236" y="2758"/>
                </a:cubicBezTo>
                <a:lnTo>
                  <a:pt x="64236" y="2758"/>
                </a:lnTo>
                <a:cubicBezTo>
                  <a:pt x="80788" y="20886"/>
                  <a:pt x="80788" y="20886"/>
                  <a:pt x="80788" y="20886"/>
                </a:cubicBezTo>
                <a:lnTo>
                  <a:pt x="80788" y="20886"/>
                </a:lnTo>
                <a:cubicBezTo>
                  <a:pt x="82167" y="22266"/>
                  <a:pt x="82167" y="23645"/>
                  <a:pt x="82167" y="25024"/>
                </a:cubicBezTo>
                <a:cubicBezTo>
                  <a:pt x="82167" y="27783"/>
                  <a:pt x="79408" y="30541"/>
                  <a:pt x="76650" y="30541"/>
                </a:cubicBezTo>
                <a:cubicBezTo>
                  <a:pt x="75270" y="30541"/>
                  <a:pt x="73891" y="29162"/>
                  <a:pt x="72512" y="27783"/>
                </a:cubicBezTo>
                <a:lnTo>
                  <a:pt x="72512" y="27783"/>
                </a:lnTo>
                <a:cubicBezTo>
                  <a:pt x="65615" y="20886"/>
                  <a:pt x="65615" y="20886"/>
                  <a:pt x="65615" y="20886"/>
                </a:cubicBezTo>
                <a:cubicBezTo>
                  <a:pt x="65615" y="54384"/>
                  <a:pt x="65615" y="54384"/>
                  <a:pt x="65615" y="54384"/>
                </a:cubicBezTo>
                <a:cubicBezTo>
                  <a:pt x="98916" y="54384"/>
                  <a:pt x="98916" y="54384"/>
                  <a:pt x="98916" y="54384"/>
                </a:cubicBezTo>
                <a:cubicBezTo>
                  <a:pt x="92019" y="47290"/>
                  <a:pt x="92019" y="47290"/>
                  <a:pt x="92019" y="47290"/>
                </a:cubicBezTo>
                <a:lnTo>
                  <a:pt x="92019" y="47290"/>
                </a:lnTo>
                <a:cubicBezTo>
                  <a:pt x="90640" y="45911"/>
                  <a:pt x="89261" y="44532"/>
                  <a:pt x="89261" y="43152"/>
                </a:cubicBezTo>
                <a:cubicBezTo>
                  <a:pt x="89261" y="40394"/>
                  <a:pt x="92019" y="37635"/>
                  <a:pt x="94778" y="37635"/>
                </a:cubicBezTo>
                <a:cubicBezTo>
                  <a:pt x="96157" y="37635"/>
                  <a:pt x="97536" y="37635"/>
                  <a:pt x="98916" y="39014"/>
                </a:cubicBezTo>
                <a:lnTo>
                  <a:pt x="98916" y="39014"/>
                </a:lnTo>
                <a:cubicBezTo>
                  <a:pt x="117044" y="55763"/>
                  <a:pt x="117044" y="55763"/>
                  <a:pt x="117044" y="55763"/>
                </a:cubicBezTo>
                <a:lnTo>
                  <a:pt x="117044" y="55763"/>
                </a:lnTo>
                <a:cubicBezTo>
                  <a:pt x="118423" y="57142"/>
                  <a:pt x="119802" y="58522"/>
                  <a:pt x="119802" y="59901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Shape 4927"/>
          <p:cNvSpPr/>
          <p:nvPr/>
        </p:nvSpPr>
        <p:spPr>
          <a:xfrm>
            <a:off x="3154320" y="4680000"/>
            <a:ext cx="287280" cy="106200"/>
          </a:xfrm>
          <a:custGeom>
            <a:avLst/>
            <a:gdLst>
              <a:gd name="textAreaLeft" fmla="*/ 0 w 287280"/>
              <a:gd name="textAreaRight" fmla="*/ 287640 w 2872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20000" h="120000">
                <a:moveTo>
                  <a:pt x="119800" y="59735"/>
                </a:moveTo>
                <a:lnTo>
                  <a:pt x="119800" y="59735"/>
                </a:lnTo>
                <a:cubicBezTo>
                  <a:pt x="119800" y="63436"/>
                  <a:pt x="119800" y="67136"/>
                  <a:pt x="118405" y="70837"/>
                </a:cubicBezTo>
                <a:lnTo>
                  <a:pt x="118405" y="70837"/>
                </a:lnTo>
                <a:cubicBezTo>
                  <a:pt x="100066" y="115770"/>
                  <a:pt x="100066" y="115770"/>
                  <a:pt x="100066" y="115770"/>
                </a:cubicBezTo>
                <a:lnTo>
                  <a:pt x="100066" y="115770"/>
                </a:lnTo>
                <a:cubicBezTo>
                  <a:pt x="98671" y="119471"/>
                  <a:pt x="97275" y="119471"/>
                  <a:pt x="95880" y="119471"/>
                </a:cubicBezTo>
                <a:cubicBezTo>
                  <a:pt x="93089" y="119471"/>
                  <a:pt x="90299" y="112070"/>
                  <a:pt x="90299" y="104669"/>
                </a:cubicBezTo>
                <a:cubicBezTo>
                  <a:pt x="90299" y="100969"/>
                  <a:pt x="91694" y="97268"/>
                  <a:pt x="91694" y="93039"/>
                </a:cubicBezTo>
                <a:lnTo>
                  <a:pt x="91694" y="93039"/>
                </a:lnTo>
                <a:cubicBezTo>
                  <a:pt x="100066" y="74537"/>
                  <a:pt x="100066" y="74537"/>
                  <a:pt x="100066" y="74537"/>
                </a:cubicBezTo>
                <a:cubicBezTo>
                  <a:pt x="66378" y="74537"/>
                  <a:pt x="66378" y="74537"/>
                  <a:pt x="66378" y="74537"/>
                </a:cubicBezTo>
                <a:lnTo>
                  <a:pt x="66378" y="74537"/>
                </a:lnTo>
                <a:cubicBezTo>
                  <a:pt x="55016" y="74537"/>
                  <a:pt x="55016" y="74537"/>
                  <a:pt x="55016" y="74537"/>
                </a:cubicBezTo>
                <a:lnTo>
                  <a:pt x="55016" y="74537"/>
                </a:lnTo>
                <a:cubicBezTo>
                  <a:pt x="19734" y="74537"/>
                  <a:pt x="19734" y="74537"/>
                  <a:pt x="19734" y="74537"/>
                </a:cubicBezTo>
                <a:cubicBezTo>
                  <a:pt x="28305" y="93039"/>
                  <a:pt x="28305" y="93039"/>
                  <a:pt x="28305" y="93039"/>
                </a:cubicBezTo>
                <a:lnTo>
                  <a:pt x="28305" y="93039"/>
                </a:lnTo>
                <a:cubicBezTo>
                  <a:pt x="29700" y="97268"/>
                  <a:pt x="29700" y="100969"/>
                  <a:pt x="29700" y="104669"/>
                </a:cubicBezTo>
                <a:cubicBezTo>
                  <a:pt x="29700" y="112070"/>
                  <a:pt x="28305" y="119471"/>
                  <a:pt x="23920" y="119471"/>
                </a:cubicBezTo>
                <a:cubicBezTo>
                  <a:pt x="22524" y="119471"/>
                  <a:pt x="21129" y="119471"/>
                  <a:pt x="21129" y="115770"/>
                </a:cubicBezTo>
                <a:lnTo>
                  <a:pt x="21129" y="115770"/>
                </a:lnTo>
                <a:cubicBezTo>
                  <a:pt x="1395" y="70837"/>
                  <a:pt x="1395" y="70837"/>
                  <a:pt x="1395" y="70837"/>
                </a:cubicBezTo>
                <a:lnTo>
                  <a:pt x="1395" y="70837"/>
                </a:lnTo>
                <a:cubicBezTo>
                  <a:pt x="1395" y="67136"/>
                  <a:pt x="0" y="63436"/>
                  <a:pt x="0" y="59735"/>
                </a:cubicBezTo>
                <a:cubicBezTo>
                  <a:pt x="0" y="56035"/>
                  <a:pt x="1395" y="52334"/>
                  <a:pt x="1395" y="48634"/>
                </a:cubicBezTo>
                <a:lnTo>
                  <a:pt x="1395" y="48634"/>
                </a:lnTo>
                <a:cubicBezTo>
                  <a:pt x="21129" y="3700"/>
                  <a:pt x="21129" y="3700"/>
                  <a:pt x="21129" y="3700"/>
                </a:cubicBezTo>
                <a:lnTo>
                  <a:pt x="21129" y="3700"/>
                </a:lnTo>
                <a:cubicBezTo>
                  <a:pt x="21129" y="0"/>
                  <a:pt x="22524" y="0"/>
                  <a:pt x="23920" y="0"/>
                </a:cubicBezTo>
                <a:cubicBezTo>
                  <a:pt x="28305" y="0"/>
                  <a:pt x="29700" y="7400"/>
                  <a:pt x="29700" y="14801"/>
                </a:cubicBezTo>
                <a:cubicBezTo>
                  <a:pt x="29700" y="18502"/>
                  <a:pt x="29700" y="22202"/>
                  <a:pt x="28305" y="25903"/>
                </a:cubicBezTo>
                <a:lnTo>
                  <a:pt x="28305" y="25903"/>
                </a:lnTo>
                <a:cubicBezTo>
                  <a:pt x="19734" y="44933"/>
                  <a:pt x="19734" y="44933"/>
                  <a:pt x="19734" y="44933"/>
                </a:cubicBezTo>
                <a:cubicBezTo>
                  <a:pt x="55016" y="44933"/>
                  <a:pt x="55016" y="44933"/>
                  <a:pt x="55016" y="44933"/>
                </a:cubicBezTo>
                <a:lnTo>
                  <a:pt x="55016" y="44933"/>
                </a:lnTo>
                <a:cubicBezTo>
                  <a:pt x="66378" y="44933"/>
                  <a:pt x="66378" y="44933"/>
                  <a:pt x="66378" y="44933"/>
                </a:cubicBezTo>
                <a:lnTo>
                  <a:pt x="66378" y="44933"/>
                </a:lnTo>
                <a:cubicBezTo>
                  <a:pt x="100066" y="44933"/>
                  <a:pt x="100066" y="44933"/>
                  <a:pt x="100066" y="44933"/>
                </a:cubicBezTo>
                <a:cubicBezTo>
                  <a:pt x="91694" y="25903"/>
                  <a:pt x="91694" y="25903"/>
                  <a:pt x="91694" y="25903"/>
                </a:cubicBezTo>
                <a:lnTo>
                  <a:pt x="91694" y="25903"/>
                </a:lnTo>
                <a:cubicBezTo>
                  <a:pt x="91694" y="22202"/>
                  <a:pt x="90299" y="18502"/>
                  <a:pt x="90299" y="14801"/>
                </a:cubicBezTo>
                <a:cubicBezTo>
                  <a:pt x="90299" y="7400"/>
                  <a:pt x="93089" y="0"/>
                  <a:pt x="95880" y="0"/>
                </a:cubicBezTo>
                <a:cubicBezTo>
                  <a:pt x="97275" y="0"/>
                  <a:pt x="98671" y="0"/>
                  <a:pt x="100066" y="3700"/>
                </a:cubicBezTo>
                <a:lnTo>
                  <a:pt x="100066" y="3700"/>
                </a:lnTo>
                <a:cubicBezTo>
                  <a:pt x="118405" y="48634"/>
                  <a:pt x="118405" y="48634"/>
                  <a:pt x="118405" y="48634"/>
                </a:cubicBezTo>
                <a:lnTo>
                  <a:pt x="118405" y="48634"/>
                </a:lnTo>
                <a:cubicBezTo>
                  <a:pt x="119800" y="52334"/>
                  <a:pt x="119800" y="56035"/>
                  <a:pt x="119800" y="59735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Shape 4928"/>
          <p:cNvSpPr/>
          <p:nvPr/>
        </p:nvSpPr>
        <p:spPr>
          <a:xfrm>
            <a:off x="2743200" y="4587840"/>
            <a:ext cx="106200" cy="289080"/>
          </a:xfrm>
          <a:custGeom>
            <a:avLst/>
            <a:gdLst>
              <a:gd name="textAreaLeft" fmla="*/ 0 w 106200"/>
              <a:gd name="textAreaRight" fmla="*/ 106560 w 1062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04669" y="30541"/>
                </a:moveTo>
                <a:lnTo>
                  <a:pt x="104669" y="30541"/>
                </a:lnTo>
                <a:cubicBezTo>
                  <a:pt x="100969" y="30541"/>
                  <a:pt x="97268" y="29162"/>
                  <a:pt x="93568" y="27783"/>
                </a:cubicBezTo>
                <a:lnTo>
                  <a:pt x="93568" y="27783"/>
                </a:lnTo>
                <a:cubicBezTo>
                  <a:pt x="74537" y="20886"/>
                  <a:pt x="74537" y="20886"/>
                  <a:pt x="74537" y="20886"/>
                </a:cubicBezTo>
                <a:cubicBezTo>
                  <a:pt x="74537" y="54384"/>
                  <a:pt x="74537" y="54384"/>
                  <a:pt x="74537" y="54384"/>
                </a:cubicBezTo>
                <a:lnTo>
                  <a:pt x="74537" y="54384"/>
                </a:lnTo>
                <a:cubicBezTo>
                  <a:pt x="74537" y="65418"/>
                  <a:pt x="74537" y="65418"/>
                  <a:pt x="74537" y="65418"/>
                </a:cubicBezTo>
                <a:lnTo>
                  <a:pt x="74537" y="65418"/>
                </a:lnTo>
                <a:cubicBezTo>
                  <a:pt x="74537" y="98916"/>
                  <a:pt x="74537" y="98916"/>
                  <a:pt x="74537" y="98916"/>
                </a:cubicBezTo>
                <a:cubicBezTo>
                  <a:pt x="93568" y="91822"/>
                  <a:pt x="93568" y="91822"/>
                  <a:pt x="93568" y="91822"/>
                </a:cubicBezTo>
                <a:lnTo>
                  <a:pt x="93568" y="91822"/>
                </a:lnTo>
                <a:cubicBezTo>
                  <a:pt x="97268" y="90443"/>
                  <a:pt x="100969" y="89064"/>
                  <a:pt x="104669" y="89064"/>
                </a:cubicBezTo>
                <a:cubicBezTo>
                  <a:pt x="115770" y="89064"/>
                  <a:pt x="119471" y="91822"/>
                  <a:pt x="119471" y="94581"/>
                </a:cubicBezTo>
                <a:cubicBezTo>
                  <a:pt x="119471" y="96157"/>
                  <a:pt x="119471" y="97536"/>
                  <a:pt x="115770" y="98916"/>
                </a:cubicBezTo>
                <a:lnTo>
                  <a:pt x="115770" y="98916"/>
                </a:lnTo>
                <a:cubicBezTo>
                  <a:pt x="70837" y="117044"/>
                  <a:pt x="70837" y="117044"/>
                  <a:pt x="70837" y="117044"/>
                </a:cubicBezTo>
                <a:lnTo>
                  <a:pt x="70837" y="117044"/>
                </a:lnTo>
                <a:cubicBezTo>
                  <a:pt x="70837" y="118423"/>
                  <a:pt x="67136" y="119802"/>
                  <a:pt x="59735" y="119802"/>
                </a:cubicBezTo>
                <a:cubicBezTo>
                  <a:pt x="56035" y="119802"/>
                  <a:pt x="52334" y="118423"/>
                  <a:pt x="48634" y="117044"/>
                </a:cubicBezTo>
                <a:lnTo>
                  <a:pt x="48634" y="117044"/>
                </a:lnTo>
                <a:cubicBezTo>
                  <a:pt x="3700" y="98916"/>
                  <a:pt x="3700" y="98916"/>
                  <a:pt x="3700" y="98916"/>
                </a:cubicBezTo>
                <a:lnTo>
                  <a:pt x="3700" y="98916"/>
                </a:lnTo>
                <a:cubicBezTo>
                  <a:pt x="3700" y="97536"/>
                  <a:pt x="0" y="96157"/>
                  <a:pt x="0" y="94581"/>
                </a:cubicBezTo>
                <a:cubicBezTo>
                  <a:pt x="0" y="91822"/>
                  <a:pt x="7400" y="89064"/>
                  <a:pt x="14801" y="89064"/>
                </a:cubicBezTo>
                <a:cubicBezTo>
                  <a:pt x="22202" y="89064"/>
                  <a:pt x="25903" y="90443"/>
                  <a:pt x="25903" y="91822"/>
                </a:cubicBezTo>
                <a:lnTo>
                  <a:pt x="25903" y="91822"/>
                </a:lnTo>
                <a:cubicBezTo>
                  <a:pt x="44933" y="98916"/>
                  <a:pt x="44933" y="98916"/>
                  <a:pt x="44933" y="98916"/>
                </a:cubicBezTo>
                <a:cubicBezTo>
                  <a:pt x="44933" y="65418"/>
                  <a:pt x="44933" y="65418"/>
                  <a:pt x="44933" y="65418"/>
                </a:cubicBezTo>
                <a:lnTo>
                  <a:pt x="44933" y="65418"/>
                </a:lnTo>
                <a:cubicBezTo>
                  <a:pt x="44933" y="54384"/>
                  <a:pt x="44933" y="54384"/>
                  <a:pt x="44933" y="54384"/>
                </a:cubicBezTo>
                <a:lnTo>
                  <a:pt x="44933" y="54384"/>
                </a:lnTo>
                <a:cubicBezTo>
                  <a:pt x="44933" y="20886"/>
                  <a:pt x="44933" y="20886"/>
                  <a:pt x="44933" y="20886"/>
                </a:cubicBezTo>
                <a:cubicBezTo>
                  <a:pt x="25903" y="27783"/>
                  <a:pt x="25903" y="27783"/>
                  <a:pt x="25903" y="27783"/>
                </a:cubicBezTo>
                <a:lnTo>
                  <a:pt x="25903" y="27783"/>
                </a:lnTo>
                <a:cubicBezTo>
                  <a:pt x="25903" y="29162"/>
                  <a:pt x="22202" y="30541"/>
                  <a:pt x="14801" y="30541"/>
                </a:cubicBezTo>
                <a:cubicBezTo>
                  <a:pt x="7400" y="30541"/>
                  <a:pt x="0" y="27783"/>
                  <a:pt x="0" y="25024"/>
                </a:cubicBezTo>
                <a:cubicBezTo>
                  <a:pt x="0" y="23645"/>
                  <a:pt x="3700" y="22266"/>
                  <a:pt x="3700" y="20886"/>
                </a:cubicBezTo>
                <a:lnTo>
                  <a:pt x="3700" y="20886"/>
                </a:lnTo>
                <a:cubicBezTo>
                  <a:pt x="48634" y="2758"/>
                  <a:pt x="48634" y="2758"/>
                  <a:pt x="48634" y="2758"/>
                </a:cubicBezTo>
                <a:lnTo>
                  <a:pt x="48634" y="2758"/>
                </a:lnTo>
                <a:cubicBezTo>
                  <a:pt x="52334" y="1379"/>
                  <a:pt x="56035" y="0"/>
                  <a:pt x="59735" y="0"/>
                </a:cubicBezTo>
                <a:cubicBezTo>
                  <a:pt x="67136" y="0"/>
                  <a:pt x="70837" y="1379"/>
                  <a:pt x="70837" y="2758"/>
                </a:cubicBezTo>
                <a:lnTo>
                  <a:pt x="70837" y="2758"/>
                </a:lnTo>
                <a:cubicBezTo>
                  <a:pt x="115770" y="20886"/>
                  <a:pt x="115770" y="20886"/>
                  <a:pt x="115770" y="20886"/>
                </a:cubicBezTo>
                <a:lnTo>
                  <a:pt x="115770" y="20886"/>
                </a:lnTo>
                <a:cubicBezTo>
                  <a:pt x="119471" y="22266"/>
                  <a:pt x="119471" y="23645"/>
                  <a:pt x="119471" y="25024"/>
                </a:cubicBezTo>
                <a:cubicBezTo>
                  <a:pt x="119471" y="27783"/>
                  <a:pt x="115770" y="30541"/>
                  <a:pt x="104669" y="30541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Shape 4929"/>
          <p:cNvSpPr/>
          <p:nvPr/>
        </p:nvSpPr>
        <p:spPr>
          <a:xfrm>
            <a:off x="2187720" y="4587840"/>
            <a:ext cx="222120" cy="289080"/>
          </a:xfrm>
          <a:custGeom>
            <a:avLst/>
            <a:gdLst>
              <a:gd name="textAreaLeft" fmla="*/ 0 w 222120"/>
              <a:gd name="textAreaRight" fmla="*/ 222480 w 2221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7944" y="98916"/>
                </a:moveTo>
                <a:lnTo>
                  <a:pt x="117944" y="98916"/>
                </a:lnTo>
                <a:lnTo>
                  <a:pt x="117944" y="98916"/>
                </a:lnTo>
                <a:cubicBezTo>
                  <a:pt x="96102" y="117044"/>
                  <a:pt x="96102" y="117044"/>
                  <a:pt x="96102" y="117044"/>
                </a:cubicBezTo>
                <a:lnTo>
                  <a:pt x="96102" y="117044"/>
                </a:lnTo>
                <a:cubicBezTo>
                  <a:pt x="96102" y="118423"/>
                  <a:pt x="94304" y="119802"/>
                  <a:pt x="90706" y="119802"/>
                </a:cubicBezTo>
                <a:cubicBezTo>
                  <a:pt x="88907" y="119802"/>
                  <a:pt x="87109" y="118423"/>
                  <a:pt x="85310" y="117044"/>
                </a:cubicBezTo>
                <a:lnTo>
                  <a:pt x="85310" y="117044"/>
                </a:lnTo>
                <a:cubicBezTo>
                  <a:pt x="63468" y="98916"/>
                  <a:pt x="63468" y="98916"/>
                  <a:pt x="63468" y="98916"/>
                </a:cubicBezTo>
                <a:lnTo>
                  <a:pt x="63468" y="98916"/>
                </a:lnTo>
                <a:cubicBezTo>
                  <a:pt x="63468" y="97536"/>
                  <a:pt x="61670" y="96157"/>
                  <a:pt x="61670" y="94581"/>
                </a:cubicBezTo>
                <a:cubicBezTo>
                  <a:pt x="61670" y="91822"/>
                  <a:pt x="65267" y="89064"/>
                  <a:pt x="68865" y="89064"/>
                </a:cubicBezTo>
                <a:cubicBezTo>
                  <a:pt x="72719" y="89064"/>
                  <a:pt x="74518" y="90443"/>
                  <a:pt x="74518" y="91822"/>
                </a:cubicBezTo>
                <a:lnTo>
                  <a:pt x="74518" y="91822"/>
                </a:lnTo>
                <a:cubicBezTo>
                  <a:pt x="83511" y="98916"/>
                  <a:pt x="83511" y="98916"/>
                  <a:pt x="83511" y="98916"/>
                </a:cubicBezTo>
                <a:cubicBezTo>
                  <a:pt x="83511" y="72315"/>
                  <a:pt x="83511" y="72315"/>
                  <a:pt x="83511" y="72315"/>
                </a:cubicBezTo>
                <a:lnTo>
                  <a:pt x="83511" y="72315"/>
                </a:lnTo>
                <a:cubicBezTo>
                  <a:pt x="83511" y="48669"/>
                  <a:pt x="83511" y="48669"/>
                  <a:pt x="83511" y="48669"/>
                </a:cubicBezTo>
                <a:lnTo>
                  <a:pt x="83511" y="48669"/>
                </a:lnTo>
                <a:cubicBezTo>
                  <a:pt x="83511" y="20886"/>
                  <a:pt x="83511" y="20886"/>
                  <a:pt x="83511" y="20886"/>
                </a:cubicBezTo>
                <a:lnTo>
                  <a:pt x="83511" y="20886"/>
                </a:lnTo>
                <a:cubicBezTo>
                  <a:pt x="83511" y="5517"/>
                  <a:pt x="83511" y="5517"/>
                  <a:pt x="83511" y="5517"/>
                </a:cubicBezTo>
                <a:cubicBezTo>
                  <a:pt x="83511" y="2758"/>
                  <a:pt x="87109" y="0"/>
                  <a:pt x="90706" y="0"/>
                </a:cubicBezTo>
                <a:cubicBezTo>
                  <a:pt x="96102" y="0"/>
                  <a:pt x="97901" y="2758"/>
                  <a:pt x="97901" y="5517"/>
                </a:cubicBezTo>
                <a:cubicBezTo>
                  <a:pt x="97901" y="41773"/>
                  <a:pt x="97901" y="41773"/>
                  <a:pt x="97901" y="41773"/>
                </a:cubicBezTo>
                <a:cubicBezTo>
                  <a:pt x="97901" y="54384"/>
                  <a:pt x="97901" y="54384"/>
                  <a:pt x="97901" y="54384"/>
                </a:cubicBezTo>
                <a:lnTo>
                  <a:pt x="97901" y="54384"/>
                </a:lnTo>
                <a:cubicBezTo>
                  <a:pt x="97901" y="65418"/>
                  <a:pt x="97901" y="65418"/>
                  <a:pt x="97901" y="65418"/>
                </a:cubicBezTo>
                <a:cubicBezTo>
                  <a:pt x="97901" y="98916"/>
                  <a:pt x="97901" y="98916"/>
                  <a:pt x="97901" y="98916"/>
                </a:cubicBezTo>
                <a:cubicBezTo>
                  <a:pt x="107152" y="91822"/>
                  <a:pt x="107152" y="91822"/>
                  <a:pt x="107152" y="91822"/>
                </a:cubicBezTo>
                <a:lnTo>
                  <a:pt x="107152" y="91822"/>
                </a:lnTo>
                <a:cubicBezTo>
                  <a:pt x="108950" y="90443"/>
                  <a:pt x="110749" y="89064"/>
                  <a:pt x="112548" y="89064"/>
                </a:cubicBezTo>
                <a:cubicBezTo>
                  <a:pt x="117944" y="89064"/>
                  <a:pt x="119743" y="91822"/>
                  <a:pt x="119743" y="94581"/>
                </a:cubicBezTo>
                <a:cubicBezTo>
                  <a:pt x="119743" y="96157"/>
                  <a:pt x="119743" y="97536"/>
                  <a:pt x="117944" y="98916"/>
                </a:cubicBezTo>
                <a:close/>
                <a:moveTo>
                  <a:pt x="50877" y="30541"/>
                </a:moveTo>
                <a:lnTo>
                  <a:pt x="50877" y="30541"/>
                </a:lnTo>
                <a:cubicBezTo>
                  <a:pt x="47023" y="30541"/>
                  <a:pt x="45224" y="29162"/>
                  <a:pt x="45224" y="27783"/>
                </a:cubicBezTo>
                <a:lnTo>
                  <a:pt x="45224" y="27783"/>
                </a:lnTo>
                <a:cubicBezTo>
                  <a:pt x="36231" y="20886"/>
                  <a:pt x="36231" y="20886"/>
                  <a:pt x="36231" y="20886"/>
                </a:cubicBezTo>
                <a:cubicBezTo>
                  <a:pt x="36231" y="54384"/>
                  <a:pt x="36231" y="54384"/>
                  <a:pt x="36231" y="54384"/>
                </a:cubicBezTo>
                <a:lnTo>
                  <a:pt x="36231" y="54384"/>
                </a:lnTo>
                <a:cubicBezTo>
                  <a:pt x="36231" y="65418"/>
                  <a:pt x="36231" y="65418"/>
                  <a:pt x="36231" y="65418"/>
                </a:cubicBezTo>
                <a:cubicBezTo>
                  <a:pt x="36231" y="78029"/>
                  <a:pt x="36231" y="78029"/>
                  <a:pt x="36231" y="78029"/>
                </a:cubicBezTo>
                <a:cubicBezTo>
                  <a:pt x="36231" y="114285"/>
                  <a:pt x="36231" y="114285"/>
                  <a:pt x="36231" y="114285"/>
                </a:cubicBezTo>
                <a:cubicBezTo>
                  <a:pt x="36231" y="117044"/>
                  <a:pt x="32633" y="119802"/>
                  <a:pt x="29036" y="119802"/>
                </a:cubicBezTo>
                <a:cubicBezTo>
                  <a:pt x="23640" y="119802"/>
                  <a:pt x="21841" y="117044"/>
                  <a:pt x="21841" y="114285"/>
                </a:cubicBezTo>
                <a:cubicBezTo>
                  <a:pt x="21841" y="98916"/>
                  <a:pt x="21841" y="98916"/>
                  <a:pt x="21841" y="98916"/>
                </a:cubicBezTo>
                <a:lnTo>
                  <a:pt x="21841" y="98916"/>
                </a:lnTo>
                <a:cubicBezTo>
                  <a:pt x="21841" y="70935"/>
                  <a:pt x="21841" y="70935"/>
                  <a:pt x="21841" y="70935"/>
                </a:cubicBezTo>
                <a:lnTo>
                  <a:pt x="21841" y="70935"/>
                </a:lnTo>
                <a:cubicBezTo>
                  <a:pt x="21841" y="47290"/>
                  <a:pt x="21841" y="47290"/>
                  <a:pt x="21841" y="47290"/>
                </a:cubicBezTo>
                <a:lnTo>
                  <a:pt x="21841" y="47290"/>
                </a:lnTo>
                <a:cubicBezTo>
                  <a:pt x="21841" y="20886"/>
                  <a:pt x="21841" y="20886"/>
                  <a:pt x="21841" y="20886"/>
                </a:cubicBezTo>
                <a:cubicBezTo>
                  <a:pt x="12591" y="27783"/>
                  <a:pt x="12591" y="27783"/>
                  <a:pt x="12591" y="27783"/>
                </a:cubicBezTo>
                <a:lnTo>
                  <a:pt x="12591" y="27783"/>
                </a:lnTo>
                <a:cubicBezTo>
                  <a:pt x="10792" y="29162"/>
                  <a:pt x="8993" y="30541"/>
                  <a:pt x="7194" y="30541"/>
                </a:cubicBezTo>
                <a:cubicBezTo>
                  <a:pt x="1798" y="30541"/>
                  <a:pt x="0" y="27783"/>
                  <a:pt x="0" y="25024"/>
                </a:cubicBezTo>
                <a:cubicBezTo>
                  <a:pt x="0" y="23645"/>
                  <a:pt x="0" y="22266"/>
                  <a:pt x="1798" y="20886"/>
                </a:cubicBezTo>
                <a:lnTo>
                  <a:pt x="1798" y="20886"/>
                </a:lnTo>
                <a:cubicBezTo>
                  <a:pt x="23640" y="2758"/>
                  <a:pt x="23640" y="2758"/>
                  <a:pt x="23640" y="2758"/>
                </a:cubicBezTo>
                <a:lnTo>
                  <a:pt x="23640" y="2758"/>
                </a:lnTo>
                <a:cubicBezTo>
                  <a:pt x="23640" y="1379"/>
                  <a:pt x="25438" y="0"/>
                  <a:pt x="29036" y="0"/>
                </a:cubicBezTo>
                <a:cubicBezTo>
                  <a:pt x="30835" y="0"/>
                  <a:pt x="32633" y="1379"/>
                  <a:pt x="34432" y="2758"/>
                </a:cubicBezTo>
                <a:lnTo>
                  <a:pt x="34432" y="2758"/>
                </a:lnTo>
                <a:cubicBezTo>
                  <a:pt x="56274" y="20886"/>
                  <a:pt x="56274" y="20886"/>
                  <a:pt x="56274" y="20886"/>
                </a:cubicBezTo>
                <a:lnTo>
                  <a:pt x="56274" y="20886"/>
                </a:lnTo>
                <a:cubicBezTo>
                  <a:pt x="56274" y="22266"/>
                  <a:pt x="58072" y="23645"/>
                  <a:pt x="58072" y="25024"/>
                </a:cubicBezTo>
                <a:cubicBezTo>
                  <a:pt x="58072" y="27783"/>
                  <a:pt x="54475" y="30541"/>
                  <a:pt x="50877" y="3054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Shape 4930"/>
          <p:cNvSpPr/>
          <p:nvPr/>
        </p:nvSpPr>
        <p:spPr>
          <a:xfrm>
            <a:off x="1654200" y="4621320"/>
            <a:ext cx="287280" cy="222120"/>
          </a:xfrm>
          <a:custGeom>
            <a:avLst/>
            <a:gdLst>
              <a:gd name="textAreaLeft" fmla="*/ 0 w 287280"/>
              <a:gd name="textAreaRight" fmla="*/ 287640 w 2872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120000" h="120000">
                <a:moveTo>
                  <a:pt x="118405" y="34432"/>
                </a:moveTo>
                <a:lnTo>
                  <a:pt x="118405" y="34432"/>
                </a:lnTo>
                <a:lnTo>
                  <a:pt x="118405" y="34432"/>
                </a:lnTo>
                <a:cubicBezTo>
                  <a:pt x="100066" y="56274"/>
                  <a:pt x="100066" y="56274"/>
                  <a:pt x="100066" y="56274"/>
                </a:cubicBezTo>
                <a:lnTo>
                  <a:pt x="100066" y="56274"/>
                </a:lnTo>
                <a:cubicBezTo>
                  <a:pt x="98671" y="56274"/>
                  <a:pt x="97275" y="58072"/>
                  <a:pt x="95880" y="58072"/>
                </a:cubicBezTo>
                <a:cubicBezTo>
                  <a:pt x="93089" y="58072"/>
                  <a:pt x="90099" y="54475"/>
                  <a:pt x="90099" y="50877"/>
                </a:cubicBezTo>
                <a:cubicBezTo>
                  <a:pt x="90099" y="47023"/>
                  <a:pt x="91495" y="45224"/>
                  <a:pt x="91495" y="45224"/>
                </a:cubicBezTo>
                <a:lnTo>
                  <a:pt x="91495" y="45224"/>
                </a:lnTo>
                <a:cubicBezTo>
                  <a:pt x="100066" y="36231"/>
                  <a:pt x="100066" y="36231"/>
                  <a:pt x="100066" y="36231"/>
                </a:cubicBezTo>
                <a:cubicBezTo>
                  <a:pt x="66179" y="36231"/>
                  <a:pt x="66179" y="36231"/>
                  <a:pt x="66179" y="36231"/>
                </a:cubicBezTo>
                <a:lnTo>
                  <a:pt x="66179" y="36231"/>
                </a:lnTo>
                <a:cubicBezTo>
                  <a:pt x="55016" y="36231"/>
                  <a:pt x="55016" y="36231"/>
                  <a:pt x="55016" y="36231"/>
                </a:cubicBezTo>
                <a:lnTo>
                  <a:pt x="55016" y="36231"/>
                </a:lnTo>
                <a:cubicBezTo>
                  <a:pt x="40863" y="36231"/>
                  <a:pt x="40863" y="36231"/>
                  <a:pt x="40863" y="36231"/>
                </a:cubicBezTo>
                <a:cubicBezTo>
                  <a:pt x="5581" y="36231"/>
                  <a:pt x="5581" y="36231"/>
                  <a:pt x="5581" y="36231"/>
                </a:cubicBezTo>
                <a:cubicBezTo>
                  <a:pt x="2790" y="36231"/>
                  <a:pt x="0" y="32633"/>
                  <a:pt x="0" y="29036"/>
                </a:cubicBezTo>
                <a:cubicBezTo>
                  <a:pt x="0" y="23383"/>
                  <a:pt x="2790" y="21584"/>
                  <a:pt x="5581" y="21584"/>
                </a:cubicBezTo>
                <a:cubicBezTo>
                  <a:pt x="19734" y="21584"/>
                  <a:pt x="19734" y="21584"/>
                  <a:pt x="19734" y="21584"/>
                </a:cubicBezTo>
                <a:lnTo>
                  <a:pt x="19734" y="21584"/>
                </a:lnTo>
                <a:cubicBezTo>
                  <a:pt x="49235" y="21584"/>
                  <a:pt x="49235" y="21584"/>
                  <a:pt x="49235" y="21584"/>
                </a:cubicBezTo>
                <a:lnTo>
                  <a:pt x="49235" y="21584"/>
                </a:lnTo>
                <a:cubicBezTo>
                  <a:pt x="73355" y="21584"/>
                  <a:pt x="73355" y="21584"/>
                  <a:pt x="73355" y="21584"/>
                </a:cubicBezTo>
                <a:lnTo>
                  <a:pt x="73355" y="21584"/>
                </a:lnTo>
                <a:cubicBezTo>
                  <a:pt x="100066" y="21584"/>
                  <a:pt x="100066" y="21584"/>
                  <a:pt x="100066" y="21584"/>
                </a:cubicBezTo>
                <a:cubicBezTo>
                  <a:pt x="91495" y="12591"/>
                  <a:pt x="91495" y="12591"/>
                  <a:pt x="91495" y="12591"/>
                </a:cubicBezTo>
                <a:lnTo>
                  <a:pt x="91495" y="12591"/>
                </a:lnTo>
                <a:cubicBezTo>
                  <a:pt x="91495" y="10792"/>
                  <a:pt x="90099" y="8993"/>
                  <a:pt x="90099" y="7194"/>
                </a:cubicBezTo>
                <a:cubicBezTo>
                  <a:pt x="90099" y="1798"/>
                  <a:pt x="93089" y="0"/>
                  <a:pt x="95880" y="0"/>
                </a:cubicBezTo>
                <a:cubicBezTo>
                  <a:pt x="97275" y="0"/>
                  <a:pt x="98671" y="0"/>
                  <a:pt x="100066" y="1798"/>
                </a:cubicBezTo>
                <a:lnTo>
                  <a:pt x="100066" y="1798"/>
                </a:lnTo>
                <a:cubicBezTo>
                  <a:pt x="118405" y="23383"/>
                  <a:pt x="118405" y="23383"/>
                  <a:pt x="118405" y="23383"/>
                </a:cubicBezTo>
                <a:lnTo>
                  <a:pt x="118405" y="23383"/>
                </a:lnTo>
                <a:cubicBezTo>
                  <a:pt x="119800" y="23383"/>
                  <a:pt x="119800" y="25182"/>
                  <a:pt x="119800" y="29036"/>
                </a:cubicBezTo>
                <a:cubicBezTo>
                  <a:pt x="119800" y="30835"/>
                  <a:pt x="119800" y="32633"/>
                  <a:pt x="118405" y="34432"/>
                </a:cubicBezTo>
                <a:close/>
                <a:moveTo>
                  <a:pt x="1395" y="85310"/>
                </a:moveTo>
                <a:lnTo>
                  <a:pt x="1395" y="85310"/>
                </a:lnTo>
                <a:lnTo>
                  <a:pt x="1395" y="85310"/>
                </a:lnTo>
                <a:cubicBezTo>
                  <a:pt x="21129" y="63468"/>
                  <a:pt x="21129" y="63468"/>
                  <a:pt x="21129" y="63468"/>
                </a:cubicBezTo>
                <a:lnTo>
                  <a:pt x="21129" y="63468"/>
                </a:lnTo>
                <a:cubicBezTo>
                  <a:pt x="21129" y="63468"/>
                  <a:pt x="22524" y="61670"/>
                  <a:pt x="23920" y="61670"/>
                </a:cubicBezTo>
                <a:cubicBezTo>
                  <a:pt x="28106" y="61670"/>
                  <a:pt x="29501" y="65267"/>
                  <a:pt x="29501" y="68865"/>
                </a:cubicBezTo>
                <a:cubicBezTo>
                  <a:pt x="29501" y="72462"/>
                  <a:pt x="29501" y="74261"/>
                  <a:pt x="28106" y="74261"/>
                </a:cubicBezTo>
                <a:lnTo>
                  <a:pt x="28106" y="74261"/>
                </a:lnTo>
                <a:cubicBezTo>
                  <a:pt x="19734" y="83511"/>
                  <a:pt x="19734" y="83511"/>
                  <a:pt x="19734" y="83511"/>
                </a:cubicBezTo>
                <a:cubicBezTo>
                  <a:pt x="46445" y="83511"/>
                  <a:pt x="46445" y="83511"/>
                  <a:pt x="46445" y="83511"/>
                </a:cubicBezTo>
                <a:lnTo>
                  <a:pt x="46445" y="83511"/>
                </a:lnTo>
                <a:cubicBezTo>
                  <a:pt x="71960" y="83511"/>
                  <a:pt x="71960" y="83511"/>
                  <a:pt x="71960" y="83511"/>
                </a:cubicBezTo>
                <a:lnTo>
                  <a:pt x="71960" y="83511"/>
                </a:lnTo>
                <a:cubicBezTo>
                  <a:pt x="100066" y="83511"/>
                  <a:pt x="100066" y="83511"/>
                  <a:pt x="100066" y="83511"/>
                </a:cubicBezTo>
                <a:lnTo>
                  <a:pt x="100066" y="83511"/>
                </a:lnTo>
                <a:cubicBezTo>
                  <a:pt x="114019" y="83511"/>
                  <a:pt x="114019" y="83511"/>
                  <a:pt x="114019" y="83511"/>
                </a:cubicBezTo>
                <a:cubicBezTo>
                  <a:pt x="118405" y="83511"/>
                  <a:pt x="119800" y="87109"/>
                  <a:pt x="119800" y="90706"/>
                </a:cubicBezTo>
                <a:cubicBezTo>
                  <a:pt x="119800" y="96102"/>
                  <a:pt x="118405" y="97901"/>
                  <a:pt x="114019" y="97901"/>
                </a:cubicBezTo>
                <a:cubicBezTo>
                  <a:pt x="78936" y="97901"/>
                  <a:pt x="78936" y="97901"/>
                  <a:pt x="78936" y="97901"/>
                </a:cubicBezTo>
                <a:cubicBezTo>
                  <a:pt x="66179" y="97901"/>
                  <a:pt x="66179" y="97901"/>
                  <a:pt x="66179" y="97901"/>
                </a:cubicBezTo>
                <a:lnTo>
                  <a:pt x="66179" y="97901"/>
                </a:lnTo>
                <a:cubicBezTo>
                  <a:pt x="55016" y="97901"/>
                  <a:pt x="55016" y="97901"/>
                  <a:pt x="55016" y="97901"/>
                </a:cubicBezTo>
                <a:lnTo>
                  <a:pt x="55016" y="97901"/>
                </a:lnTo>
                <a:cubicBezTo>
                  <a:pt x="19734" y="97901"/>
                  <a:pt x="19734" y="97901"/>
                  <a:pt x="19734" y="97901"/>
                </a:cubicBezTo>
                <a:cubicBezTo>
                  <a:pt x="28106" y="107152"/>
                  <a:pt x="28106" y="107152"/>
                  <a:pt x="28106" y="107152"/>
                </a:cubicBezTo>
                <a:lnTo>
                  <a:pt x="28106" y="107152"/>
                </a:lnTo>
                <a:cubicBezTo>
                  <a:pt x="29501" y="108950"/>
                  <a:pt x="29501" y="110749"/>
                  <a:pt x="29501" y="112548"/>
                </a:cubicBezTo>
                <a:cubicBezTo>
                  <a:pt x="29501" y="117944"/>
                  <a:pt x="28106" y="119743"/>
                  <a:pt x="23920" y="119743"/>
                </a:cubicBezTo>
                <a:cubicBezTo>
                  <a:pt x="22524" y="119743"/>
                  <a:pt x="21129" y="119743"/>
                  <a:pt x="21129" y="117944"/>
                </a:cubicBezTo>
                <a:lnTo>
                  <a:pt x="21129" y="117944"/>
                </a:lnTo>
                <a:cubicBezTo>
                  <a:pt x="1395" y="96102"/>
                  <a:pt x="1395" y="96102"/>
                  <a:pt x="1395" y="96102"/>
                </a:cubicBezTo>
                <a:lnTo>
                  <a:pt x="1395" y="96102"/>
                </a:lnTo>
                <a:cubicBezTo>
                  <a:pt x="1395" y="96102"/>
                  <a:pt x="0" y="94304"/>
                  <a:pt x="0" y="90706"/>
                </a:cubicBezTo>
                <a:cubicBezTo>
                  <a:pt x="0" y="88907"/>
                  <a:pt x="1395" y="87109"/>
                  <a:pt x="1395" y="8531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Shape 4931"/>
          <p:cNvSpPr/>
          <p:nvPr/>
        </p:nvSpPr>
        <p:spPr>
          <a:xfrm>
            <a:off x="7199280" y="4091040"/>
            <a:ext cx="198360" cy="285840"/>
          </a:xfrm>
          <a:custGeom>
            <a:avLst/>
            <a:gdLst>
              <a:gd name="textAreaLeft" fmla="*/ 0 w 198360"/>
              <a:gd name="textAreaRight" fmla="*/ 198720 w 1983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800"/>
                </a:moveTo>
                <a:lnTo>
                  <a:pt x="111674" y="119800"/>
                </a:lnTo>
                <a:cubicBezTo>
                  <a:pt x="8038" y="119800"/>
                  <a:pt x="8038" y="119800"/>
                  <a:pt x="8038" y="119800"/>
                </a:cubicBezTo>
                <a:cubicBezTo>
                  <a:pt x="4019" y="119800"/>
                  <a:pt x="0" y="118205"/>
                  <a:pt x="0" y="114019"/>
                </a:cubicBezTo>
                <a:cubicBezTo>
                  <a:pt x="0" y="43654"/>
                  <a:pt x="0" y="43654"/>
                  <a:pt x="0" y="43654"/>
                </a:cubicBezTo>
                <a:cubicBezTo>
                  <a:pt x="0" y="39468"/>
                  <a:pt x="4019" y="38073"/>
                  <a:pt x="8038" y="38073"/>
                </a:cubicBezTo>
                <a:cubicBezTo>
                  <a:pt x="40478" y="38073"/>
                  <a:pt x="40478" y="38073"/>
                  <a:pt x="40478" y="38073"/>
                </a:cubicBezTo>
                <a:cubicBezTo>
                  <a:pt x="40478" y="49235"/>
                  <a:pt x="40478" y="49235"/>
                  <a:pt x="40478" y="49235"/>
                </a:cubicBezTo>
                <a:cubicBezTo>
                  <a:pt x="16076" y="49235"/>
                  <a:pt x="16076" y="49235"/>
                  <a:pt x="16076" y="49235"/>
                </a:cubicBezTo>
                <a:cubicBezTo>
                  <a:pt x="16076" y="108438"/>
                  <a:pt x="16076" y="108438"/>
                  <a:pt x="16076" y="108438"/>
                </a:cubicBezTo>
                <a:cubicBezTo>
                  <a:pt x="103349" y="108438"/>
                  <a:pt x="103349" y="108438"/>
                  <a:pt x="103349" y="108438"/>
                </a:cubicBezTo>
                <a:cubicBezTo>
                  <a:pt x="103349" y="49235"/>
                  <a:pt x="103349" y="49235"/>
                  <a:pt x="103349" y="49235"/>
                </a:cubicBezTo>
                <a:cubicBezTo>
                  <a:pt x="74928" y="49235"/>
                  <a:pt x="74928" y="49235"/>
                  <a:pt x="74928" y="49235"/>
                </a:cubicBezTo>
                <a:cubicBezTo>
                  <a:pt x="74928" y="38073"/>
                  <a:pt x="74928" y="38073"/>
                  <a:pt x="74928" y="38073"/>
                </a:cubicBezTo>
                <a:cubicBezTo>
                  <a:pt x="111674" y="38073"/>
                  <a:pt x="111674" y="38073"/>
                  <a:pt x="111674" y="38073"/>
                </a:cubicBezTo>
                <a:cubicBezTo>
                  <a:pt x="115693" y="38073"/>
                  <a:pt x="119712" y="39468"/>
                  <a:pt x="119712" y="43654"/>
                </a:cubicBezTo>
                <a:cubicBezTo>
                  <a:pt x="119712" y="114019"/>
                  <a:pt x="119712" y="114019"/>
                  <a:pt x="119712" y="114019"/>
                </a:cubicBezTo>
                <a:cubicBezTo>
                  <a:pt x="119712" y="118205"/>
                  <a:pt x="115693" y="119800"/>
                  <a:pt x="111674" y="119800"/>
                </a:cubicBezTo>
                <a:close/>
                <a:moveTo>
                  <a:pt x="83253" y="29501"/>
                </a:moveTo>
                <a:lnTo>
                  <a:pt x="83253" y="29501"/>
                </a:lnTo>
                <a:cubicBezTo>
                  <a:pt x="81244" y="29501"/>
                  <a:pt x="79234" y="29501"/>
                  <a:pt x="77224" y="28106"/>
                </a:cubicBezTo>
                <a:lnTo>
                  <a:pt x="77224" y="28106"/>
                </a:lnTo>
                <a:cubicBezTo>
                  <a:pt x="66889" y="19734"/>
                  <a:pt x="66889" y="19734"/>
                  <a:pt x="66889" y="19734"/>
                </a:cubicBezTo>
                <a:cubicBezTo>
                  <a:pt x="66889" y="54817"/>
                  <a:pt x="66889" y="54817"/>
                  <a:pt x="66889" y="54817"/>
                </a:cubicBezTo>
                <a:lnTo>
                  <a:pt x="66889" y="54817"/>
                </a:lnTo>
                <a:cubicBezTo>
                  <a:pt x="66889" y="57807"/>
                  <a:pt x="64880" y="60598"/>
                  <a:pt x="58851" y="60598"/>
                </a:cubicBezTo>
                <a:cubicBezTo>
                  <a:pt x="54832" y="60598"/>
                  <a:pt x="50813" y="57807"/>
                  <a:pt x="50813" y="54817"/>
                </a:cubicBezTo>
                <a:lnTo>
                  <a:pt x="50813" y="54817"/>
                </a:lnTo>
                <a:cubicBezTo>
                  <a:pt x="50813" y="19734"/>
                  <a:pt x="50813" y="19734"/>
                  <a:pt x="50813" y="19734"/>
                </a:cubicBezTo>
                <a:cubicBezTo>
                  <a:pt x="40478" y="28106"/>
                  <a:pt x="40478" y="28106"/>
                  <a:pt x="40478" y="28106"/>
                </a:cubicBezTo>
                <a:lnTo>
                  <a:pt x="40478" y="28106"/>
                </a:lnTo>
                <a:cubicBezTo>
                  <a:pt x="40478" y="29501"/>
                  <a:pt x="38468" y="29501"/>
                  <a:pt x="34449" y="29501"/>
                </a:cubicBezTo>
                <a:cubicBezTo>
                  <a:pt x="30430" y="29501"/>
                  <a:pt x="26411" y="28106"/>
                  <a:pt x="26411" y="23920"/>
                </a:cubicBezTo>
                <a:cubicBezTo>
                  <a:pt x="26411" y="22524"/>
                  <a:pt x="28421" y="21129"/>
                  <a:pt x="28421" y="21129"/>
                </a:cubicBezTo>
                <a:lnTo>
                  <a:pt x="28421" y="21129"/>
                </a:lnTo>
                <a:cubicBezTo>
                  <a:pt x="52822" y="1395"/>
                  <a:pt x="52822" y="1395"/>
                  <a:pt x="52822" y="1395"/>
                </a:cubicBezTo>
                <a:lnTo>
                  <a:pt x="52822" y="1395"/>
                </a:lnTo>
                <a:cubicBezTo>
                  <a:pt x="54832" y="1395"/>
                  <a:pt x="56842" y="0"/>
                  <a:pt x="58851" y="0"/>
                </a:cubicBezTo>
                <a:cubicBezTo>
                  <a:pt x="62870" y="0"/>
                  <a:pt x="64880" y="1395"/>
                  <a:pt x="64880" y="1395"/>
                </a:cubicBezTo>
                <a:lnTo>
                  <a:pt x="64880" y="1395"/>
                </a:lnTo>
                <a:cubicBezTo>
                  <a:pt x="89282" y="21129"/>
                  <a:pt x="89282" y="21129"/>
                  <a:pt x="89282" y="21129"/>
                </a:cubicBezTo>
                <a:lnTo>
                  <a:pt x="89282" y="21129"/>
                </a:lnTo>
                <a:cubicBezTo>
                  <a:pt x="91291" y="21129"/>
                  <a:pt x="91291" y="22524"/>
                  <a:pt x="91291" y="23920"/>
                </a:cubicBezTo>
                <a:cubicBezTo>
                  <a:pt x="91291" y="28106"/>
                  <a:pt x="89282" y="29501"/>
                  <a:pt x="83253" y="2950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Shape 4932"/>
          <p:cNvSpPr/>
          <p:nvPr/>
        </p:nvSpPr>
        <p:spPr>
          <a:xfrm>
            <a:off x="6678720" y="411624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2983" y="41717"/>
                </a:moveTo>
                <a:lnTo>
                  <a:pt x="112983" y="41717"/>
                </a:lnTo>
                <a:lnTo>
                  <a:pt x="112983" y="41717"/>
                </a:lnTo>
                <a:cubicBezTo>
                  <a:pt x="107903" y="41717"/>
                  <a:pt x="106209" y="38282"/>
                  <a:pt x="106209" y="34846"/>
                </a:cubicBezTo>
                <a:cubicBezTo>
                  <a:pt x="106209" y="24294"/>
                  <a:pt x="106209" y="24294"/>
                  <a:pt x="106209" y="24294"/>
                </a:cubicBezTo>
                <a:cubicBezTo>
                  <a:pt x="71854" y="59141"/>
                  <a:pt x="71854" y="59141"/>
                  <a:pt x="71854" y="59141"/>
                </a:cubicBezTo>
                <a:lnTo>
                  <a:pt x="71854" y="59141"/>
                </a:lnTo>
                <a:cubicBezTo>
                  <a:pt x="70161" y="59141"/>
                  <a:pt x="68467" y="60858"/>
                  <a:pt x="66774" y="60858"/>
                </a:cubicBezTo>
                <a:cubicBezTo>
                  <a:pt x="63387" y="60858"/>
                  <a:pt x="60000" y="57423"/>
                  <a:pt x="60000" y="53742"/>
                </a:cubicBezTo>
                <a:cubicBezTo>
                  <a:pt x="60000" y="52024"/>
                  <a:pt x="60000" y="50306"/>
                  <a:pt x="61693" y="48588"/>
                </a:cubicBezTo>
                <a:lnTo>
                  <a:pt x="61693" y="48588"/>
                </a:lnTo>
                <a:cubicBezTo>
                  <a:pt x="95806" y="13987"/>
                  <a:pt x="95806" y="13987"/>
                  <a:pt x="95806" y="13987"/>
                </a:cubicBezTo>
                <a:cubicBezTo>
                  <a:pt x="85645" y="13987"/>
                  <a:pt x="85645" y="13987"/>
                  <a:pt x="85645" y="13987"/>
                </a:cubicBezTo>
                <a:cubicBezTo>
                  <a:pt x="80564" y="13987"/>
                  <a:pt x="78870" y="10552"/>
                  <a:pt x="78870" y="7116"/>
                </a:cubicBezTo>
                <a:cubicBezTo>
                  <a:pt x="78870" y="3680"/>
                  <a:pt x="80564" y="0"/>
                  <a:pt x="85645" y="0"/>
                </a:cubicBezTo>
                <a:cubicBezTo>
                  <a:pt x="112983" y="0"/>
                  <a:pt x="112983" y="0"/>
                  <a:pt x="112983" y="0"/>
                </a:cubicBezTo>
                <a:cubicBezTo>
                  <a:pt x="116370" y="0"/>
                  <a:pt x="119758" y="3680"/>
                  <a:pt x="119758" y="7116"/>
                </a:cubicBezTo>
                <a:cubicBezTo>
                  <a:pt x="119758" y="34846"/>
                  <a:pt x="119758" y="34846"/>
                  <a:pt x="119758" y="34846"/>
                </a:cubicBezTo>
                <a:cubicBezTo>
                  <a:pt x="119758" y="38282"/>
                  <a:pt x="116370" y="41717"/>
                  <a:pt x="112983" y="41717"/>
                </a:cubicBezTo>
                <a:close/>
                <a:moveTo>
                  <a:pt x="58306" y="13987"/>
                </a:moveTo>
                <a:lnTo>
                  <a:pt x="58306" y="13987"/>
                </a:lnTo>
                <a:lnTo>
                  <a:pt x="58306" y="13987"/>
                </a:lnTo>
                <a:cubicBezTo>
                  <a:pt x="13790" y="13987"/>
                  <a:pt x="13790" y="13987"/>
                  <a:pt x="13790" y="13987"/>
                </a:cubicBezTo>
                <a:cubicBezTo>
                  <a:pt x="13790" y="105766"/>
                  <a:pt x="13790" y="105766"/>
                  <a:pt x="13790" y="105766"/>
                </a:cubicBezTo>
                <a:cubicBezTo>
                  <a:pt x="106209" y="105766"/>
                  <a:pt x="106209" y="105766"/>
                  <a:pt x="106209" y="105766"/>
                </a:cubicBezTo>
                <a:cubicBezTo>
                  <a:pt x="106209" y="98895"/>
                  <a:pt x="106209" y="98895"/>
                  <a:pt x="106209" y="98895"/>
                </a:cubicBezTo>
                <a:cubicBezTo>
                  <a:pt x="106209" y="62576"/>
                  <a:pt x="106209" y="62576"/>
                  <a:pt x="106209" y="62576"/>
                </a:cubicBezTo>
                <a:lnTo>
                  <a:pt x="106209" y="62576"/>
                </a:lnTo>
                <a:cubicBezTo>
                  <a:pt x="106209" y="46871"/>
                  <a:pt x="106209" y="46871"/>
                  <a:pt x="106209" y="46871"/>
                </a:cubicBezTo>
                <a:cubicBezTo>
                  <a:pt x="107903" y="48588"/>
                  <a:pt x="109596" y="48588"/>
                  <a:pt x="112983" y="48588"/>
                </a:cubicBezTo>
                <a:cubicBezTo>
                  <a:pt x="114677" y="48588"/>
                  <a:pt x="116370" y="48588"/>
                  <a:pt x="119758" y="46871"/>
                </a:cubicBezTo>
                <a:cubicBezTo>
                  <a:pt x="119758" y="67730"/>
                  <a:pt x="119758" y="67730"/>
                  <a:pt x="119758" y="67730"/>
                </a:cubicBezTo>
                <a:lnTo>
                  <a:pt x="119758" y="67730"/>
                </a:lnTo>
                <a:cubicBezTo>
                  <a:pt x="119758" y="112883"/>
                  <a:pt x="119758" y="112883"/>
                  <a:pt x="119758" y="112883"/>
                </a:cubicBezTo>
                <a:cubicBezTo>
                  <a:pt x="119758" y="118036"/>
                  <a:pt x="116370" y="119754"/>
                  <a:pt x="112983" y="119754"/>
                </a:cubicBezTo>
                <a:cubicBezTo>
                  <a:pt x="7016" y="119754"/>
                  <a:pt x="7016" y="119754"/>
                  <a:pt x="7016" y="119754"/>
                </a:cubicBezTo>
                <a:cubicBezTo>
                  <a:pt x="3629" y="119754"/>
                  <a:pt x="0" y="118036"/>
                  <a:pt x="0" y="112883"/>
                </a:cubicBezTo>
                <a:cubicBezTo>
                  <a:pt x="0" y="7116"/>
                  <a:pt x="0" y="7116"/>
                  <a:pt x="0" y="7116"/>
                </a:cubicBezTo>
                <a:cubicBezTo>
                  <a:pt x="0" y="3680"/>
                  <a:pt x="3629" y="0"/>
                  <a:pt x="7016" y="0"/>
                </a:cubicBezTo>
                <a:cubicBezTo>
                  <a:pt x="58306" y="0"/>
                  <a:pt x="58306" y="0"/>
                  <a:pt x="58306" y="0"/>
                </a:cubicBezTo>
                <a:lnTo>
                  <a:pt x="58306" y="0"/>
                </a:lnTo>
                <a:cubicBezTo>
                  <a:pt x="73548" y="0"/>
                  <a:pt x="73548" y="0"/>
                  <a:pt x="73548" y="0"/>
                </a:cubicBezTo>
                <a:cubicBezTo>
                  <a:pt x="71854" y="1717"/>
                  <a:pt x="71854" y="5398"/>
                  <a:pt x="71854" y="7116"/>
                </a:cubicBezTo>
                <a:cubicBezTo>
                  <a:pt x="71854" y="8834"/>
                  <a:pt x="71854" y="12269"/>
                  <a:pt x="73548" y="13987"/>
                </a:cubicBezTo>
                <a:lnTo>
                  <a:pt x="58306" y="13987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Shape 4933"/>
          <p:cNvSpPr/>
          <p:nvPr/>
        </p:nvSpPr>
        <p:spPr>
          <a:xfrm>
            <a:off x="6154560" y="409104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800"/>
                </a:moveTo>
                <a:lnTo>
                  <a:pt x="114019" y="119800"/>
                </a:lnTo>
                <a:cubicBezTo>
                  <a:pt x="91495" y="119800"/>
                  <a:pt x="91495" y="119800"/>
                  <a:pt x="91495" y="119800"/>
                </a:cubicBezTo>
                <a:lnTo>
                  <a:pt x="91495" y="119800"/>
                </a:lnTo>
                <a:cubicBezTo>
                  <a:pt x="88704" y="119800"/>
                  <a:pt x="85913" y="118205"/>
                  <a:pt x="85913" y="114019"/>
                </a:cubicBezTo>
                <a:cubicBezTo>
                  <a:pt x="85913" y="111229"/>
                  <a:pt x="88704" y="108438"/>
                  <a:pt x="91495" y="108438"/>
                </a:cubicBezTo>
                <a:lnTo>
                  <a:pt x="91495" y="108438"/>
                </a:lnTo>
                <a:cubicBezTo>
                  <a:pt x="108438" y="108438"/>
                  <a:pt x="108438" y="108438"/>
                  <a:pt x="108438" y="108438"/>
                </a:cubicBezTo>
                <a:cubicBezTo>
                  <a:pt x="108438" y="91495"/>
                  <a:pt x="108438" y="91495"/>
                  <a:pt x="108438" y="91495"/>
                </a:cubicBezTo>
                <a:lnTo>
                  <a:pt x="108438" y="91495"/>
                </a:lnTo>
                <a:cubicBezTo>
                  <a:pt x="108438" y="88704"/>
                  <a:pt x="111229" y="85913"/>
                  <a:pt x="114019" y="85913"/>
                </a:cubicBezTo>
                <a:cubicBezTo>
                  <a:pt x="118405" y="85913"/>
                  <a:pt x="119800" y="88704"/>
                  <a:pt x="119800" y="91495"/>
                </a:cubicBezTo>
                <a:lnTo>
                  <a:pt x="119800" y="91495"/>
                </a:ln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8205"/>
                  <a:pt x="118405" y="119800"/>
                  <a:pt x="114019" y="119800"/>
                </a:cubicBezTo>
                <a:close/>
                <a:moveTo>
                  <a:pt x="114019" y="33687"/>
                </a:moveTo>
                <a:lnTo>
                  <a:pt x="114019" y="33687"/>
                </a:lnTo>
                <a:cubicBezTo>
                  <a:pt x="111229" y="33687"/>
                  <a:pt x="108438" y="30897"/>
                  <a:pt x="108438" y="28106"/>
                </a:cubicBezTo>
                <a:lnTo>
                  <a:pt x="108438" y="28106"/>
                </a:lnTo>
                <a:cubicBezTo>
                  <a:pt x="108438" y="11162"/>
                  <a:pt x="108438" y="11162"/>
                  <a:pt x="108438" y="11162"/>
                </a:cubicBezTo>
                <a:cubicBezTo>
                  <a:pt x="91495" y="11162"/>
                  <a:pt x="91495" y="11162"/>
                  <a:pt x="91495" y="11162"/>
                </a:cubicBezTo>
                <a:lnTo>
                  <a:pt x="91495" y="11162"/>
                </a:lnTo>
                <a:cubicBezTo>
                  <a:pt x="88704" y="11162"/>
                  <a:pt x="85913" y="8372"/>
                  <a:pt x="85913" y="5581"/>
                </a:cubicBezTo>
                <a:cubicBezTo>
                  <a:pt x="85913" y="2790"/>
                  <a:pt x="88704" y="0"/>
                  <a:pt x="91495" y="0"/>
                </a:cubicBezTo>
                <a:lnTo>
                  <a:pt x="91495" y="0"/>
                </a:ln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2790"/>
                  <a:pt x="119800" y="5581"/>
                </a:cubicBezTo>
                <a:cubicBezTo>
                  <a:pt x="119800" y="28106"/>
                  <a:pt x="119800" y="28106"/>
                  <a:pt x="119800" y="28106"/>
                </a:cubicBezTo>
                <a:lnTo>
                  <a:pt x="119800" y="28106"/>
                </a:lnTo>
                <a:cubicBezTo>
                  <a:pt x="119800" y="30897"/>
                  <a:pt x="118405" y="33687"/>
                  <a:pt x="114019" y="33687"/>
                </a:cubicBezTo>
                <a:close/>
                <a:moveTo>
                  <a:pt x="28106" y="11162"/>
                </a:moveTo>
                <a:lnTo>
                  <a:pt x="28106" y="11162"/>
                </a:lnTo>
                <a:lnTo>
                  <a:pt x="28106" y="11162"/>
                </a:lnTo>
                <a:cubicBezTo>
                  <a:pt x="11162" y="11162"/>
                  <a:pt x="11162" y="11162"/>
                  <a:pt x="11162" y="11162"/>
                </a:cubicBezTo>
                <a:cubicBezTo>
                  <a:pt x="11162" y="28106"/>
                  <a:pt x="11162" y="28106"/>
                  <a:pt x="11162" y="28106"/>
                </a:cubicBezTo>
                <a:lnTo>
                  <a:pt x="11162" y="28106"/>
                </a:lnTo>
                <a:cubicBezTo>
                  <a:pt x="11162" y="30897"/>
                  <a:pt x="8372" y="33687"/>
                  <a:pt x="5581" y="33687"/>
                </a:cubicBezTo>
                <a:cubicBezTo>
                  <a:pt x="2790" y="33687"/>
                  <a:pt x="0" y="30897"/>
                  <a:pt x="0" y="28106"/>
                </a:cubicBezTo>
                <a:lnTo>
                  <a:pt x="0" y="28106"/>
                </a:lnTo>
                <a:cubicBezTo>
                  <a:pt x="0" y="5581"/>
                  <a:pt x="0" y="5581"/>
                  <a:pt x="0" y="5581"/>
                </a:cubicBezTo>
                <a:cubicBezTo>
                  <a:pt x="0" y="2790"/>
                  <a:pt x="2790" y="0"/>
                  <a:pt x="5581" y="0"/>
                </a:cubicBezTo>
                <a:cubicBezTo>
                  <a:pt x="28106" y="0"/>
                  <a:pt x="28106" y="0"/>
                  <a:pt x="28106" y="0"/>
                </a:cubicBezTo>
                <a:lnTo>
                  <a:pt x="28106" y="0"/>
                </a:lnTo>
                <a:cubicBezTo>
                  <a:pt x="30897" y="0"/>
                  <a:pt x="33687" y="2790"/>
                  <a:pt x="33687" y="5581"/>
                </a:cubicBezTo>
                <a:cubicBezTo>
                  <a:pt x="33687" y="8372"/>
                  <a:pt x="30897" y="11162"/>
                  <a:pt x="28106" y="11162"/>
                </a:cubicBezTo>
                <a:close/>
                <a:moveTo>
                  <a:pt x="16943" y="16943"/>
                </a:moveTo>
                <a:lnTo>
                  <a:pt x="16943" y="16943"/>
                </a:lnTo>
                <a:cubicBezTo>
                  <a:pt x="102857" y="16943"/>
                  <a:pt x="102857" y="16943"/>
                  <a:pt x="102857" y="16943"/>
                </a:cubicBezTo>
                <a:cubicBezTo>
                  <a:pt x="102857" y="102857"/>
                  <a:pt x="102857" y="102857"/>
                  <a:pt x="102857" y="102857"/>
                </a:cubicBezTo>
                <a:cubicBezTo>
                  <a:pt x="16943" y="102857"/>
                  <a:pt x="16943" y="102857"/>
                  <a:pt x="16943" y="102857"/>
                </a:cubicBezTo>
                <a:lnTo>
                  <a:pt x="16943" y="16943"/>
                </a:lnTo>
                <a:close/>
                <a:moveTo>
                  <a:pt x="28106" y="91495"/>
                </a:moveTo>
                <a:lnTo>
                  <a:pt x="28106" y="91495"/>
                </a:lnTo>
                <a:cubicBezTo>
                  <a:pt x="91495" y="91495"/>
                  <a:pt x="91495" y="91495"/>
                  <a:pt x="91495" y="91495"/>
                </a:cubicBezTo>
                <a:cubicBezTo>
                  <a:pt x="91495" y="28106"/>
                  <a:pt x="91495" y="28106"/>
                  <a:pt x="91495" y="28106"/>
                </a:cubicBezTo>
                <a:cubicBezTo>
                  <a:pt x="28106" y="28106"/>
                  <a:pt x="28106" y="28106"/>
                  <a:pt x="28106" y="28106"/>
                </a:cubicBezTo>
                <a:lnTo>
                  <a:pt x="28106" y="91495"/>
                </a:lnTo>
                <a:close/>
                <a:moveTo>
                  <a:pt x="5581" y="85913"/>
                </a:moveTo>
                <a:lnTo>
                  <a:pt x="5581" y="85913"/>
                </a:lnTo>
                <a:cubicBezTo>
                  <a:pt x="8372" y="85913"/>
                  <a:pt x="11162" y="88704"/>
                  <a:pt x="11162" y="91495"/>
                </a:cubicBezTo>
                <a:lnTo>
                  <a:pt x="11162" y="91495"/>
                </a:lnTo>
                <a:cubicBezTo>
                  <a:pt x="11162" y="108438"/>
                  <a:pt x="11162" y="108438"/>
                  <a:pt x="11162" y="108438"/>
                </a:cubicBezTo>
                <a:cubicBezTo>
                  <a:pt x="28106" y="108438"/>
                  <a:pt x="28106" y="108438"/>
                  <a:pt x="28106" y="108438"/>
                </a:cubicBezTo>
                <a:lnTo>
                  <a:pt x="28106" y="108438"/>
                </a:lnTo>
                <a:cubicBezTo>
                  <a:pt x="30897" y="108438"/>
                  <a:pt x="33687" y="111229"/>
                  <a:pt x="33687" y="114019"/>
                </a:cubicBezTo>
                <a:cubicBezTo>
                  <a:pt x="33687" y="118205"/>
                  <a:pt x="30897" y="119800"/>
                  <a:pt x="28106" y="119800"/>
                </a:cubicBezTo>
                <a:lnTo>
                  <a:pt x="28106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2790" y="119800"/>
                  <a:pt x="0" y="118205"/>
                  <a:pt x="0" y="114019"/>
                </a:cubicBezTo>
                <a:cubicBezTo>
                  <a:pt x="0" y="91495"/>
                  <a:pt x="0" y="91495"/>
                  <a:pt x="0" y="91495"/>
                </a:cubicBezTo>
                <a:lnTo>
                  <a:pt x="0" y="91495"/>
                </a:lnTo>
                <a:cubicBezTo>
                  <a:pt x="0" y="88704"/>
                  <a:pt x="2790" y="85913"/>
                  <a:pt x="5581" y="85913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Shape 4934"/>
          <p:cNvSpPr/>
          <p:nvPr/>
        </p:nvSpPr>
        <p:spPr>
          <a:xfrm>
            <a:off x="5654520" y="4091040"/>
            <a:ext cx="284400" cy="285840"/>
          </a:xfrm>
          <a:custGeom>
            <a:avLst/>
            <a:gdLst>
              <a:gd name="textAreaLeft" fmla="*/ 0 w 284400"/>
              <a:gd name="textAreaRight" fmla="*/ 284760 w 2844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0"/>
                </a:moveTo>
                <a:lnTo>
                  <a:pt x="114209" y="119800"/>
                </a:lnTo>
                <a:cubicBezTo>
                  <a:pt x="91647" y="119800"/>
                  <a:pt x="91647" y="119800"/>
                  <a:pt x="91647" y="119800"/>
                </a:cubicBezTo>
                <a:lnTo>
                  <a:pt x="91647" y="119800"/>
                </a:lnTo>
                <a:cubicBezTo>
                  <a:pt x="88851" y="119800"/>
                  <a:pt x="86056" y="118205"/>
                  <a:pt x="86056" y="114019"/>
                </a:cubicBezTo>
                <a:cubicBezTo>
                  <a:pt x="86056" y="111229"/>
                  <a:pt x="88851" y="108438"/>
                  <a:pt x="91647" y="108438"/>
                </a:cubicBezTo>
                <a:lnTo>
                  <a:pt x="91647" y="108438"/>
                </a:lnTo>
                <a:cubicBezTo>
                  <a:pt x="108618" y="108438"/>
                  <a:pt x="108618" y="108438"/>
                  <a:pt x="108618" y="108438"/>
                </a:cubicBezTo>
                <a:cubicBezTo>
                  <a:pt x="108618" y="91495"/>
                  <a:pt x="108618" y="91495"/>
                  <a:pt x="108618" y="91495"/>
                </a:cubicBezTo>
                <a:lnTo>
                  <a:pt x="108618" y="91495"/>
                </a:lnTo>
                <a:cubicBezTo>
                  <a:pt x="108618" y="88704"/>
                  <a:pt x="111414" y="85913"/>
                  <a:pt x="114209" y="85913"/>
                </a:cubicBezTo>
                <a:cubicBezTo>
                  <a:pt x="117004" y="85913"/>
                  <a:pt x="119800" y="88704"/>
                  <a:pt x="119800" y="91495"/>
                </a:cubicBezTo>
                <a:lnTo>
                  <a:pt x="119800" y="91495"/>
                </a:ln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8205"/>
                  <a:pt x="117004" y="119800"/>
                  <a:pt x="114209" y="119800"/>
                </a:cubicBezTo>
                <a:close/>
                <a:moveTo>
                  <a:pt x="16971" y="16943"/>
                </a:moveTo>
                <a:lnTo>
                  <a:pt x="16971" y="16943"/>
                </a:lnTo>
                <a:cubicBezTo>
                  <a:pt x="103028" y="16943"/>
                  <a:pt x="103028" y="16943"/>
                  <a:pt x="103028" y="16943"/>
                </a:cubicBezTo>
                <a:cubicBezTo>
                  <a:pt x="103028" y="102857"/>
                  <a:pt x="103028" y="102857"/>
                  <a:pt x="103028" y="102857"/>
                </a:cubicBezTo>
                <a:cubicBezTo>
                  <a:pt x="16971" y="102857"/>
                  <a:pt x="16971" y="102857"/>
                  <a:pt x="16971" y="102857"/>
                </a:cubicBezTo>
                <a:lnTo>
                  <a:pt x="16971" y="16943"/>
                </a:lnTo>
                <a:close/>
                <a:moveTo>
                  <a:pt x="28153" y="91495"/>
                </a:moveTo>
                <a:lnTo>
                  <a:pt x="28153" y="91495"/>
                </a:lnTo>
                <a:cubicBezTo>
                  <a:pt x="91647" y="91495"/>
                  <a:pt x="91647" y="91495"/>
                  <a:pt x="91647" y="91495"/>
                </a:cubicBezTo>
                <a:cubicBezTo>
                  <a:pt x="91647" y="28106"/>
                  <a:pt x="91647" y="28106"/>
                  <a:pt x="91647" y="28106"/>
                </a:cubicBezTo>
                <a:cubicBezTo>
                  <a:pt x="28153" y="28106"/>
                  <a:pt x="28153" y="28106"/>
                  <a:pt x="28153" y="28106"/>
                </a:cubicBezTo>
                <a:lnTo>
                  <a:pt x="28153" y="91495"/>
                </a:lnTo>
                <a:close/>
                <a:moveTo>
                  <a:pt x="28153" y="11162"/>
                </a:moveTo>
                <a:lnTo>
                  <a:pt x="28153" y="11162"/>
                </a:lnTo>
                <a:lnTo>
                  <a:pt x="28153" y="11162"/>
                </a:lnTo>
                <a:cubicBezTo>
                  <a:pt x="11181" y="11162"/>
                  <a:pt x="11181" y="11162"/>
                  <a:pt x="11181" y="11162"/>
                </a:cubicBezTo>
                <a:cubicBezTo>
                  <a:pt x="11181" y="28106"/>
                  <a:pt x="11181" y="28106"/>
                  <a:pt x="11181" y="28106"/>
                </a:cubicBezTo>
                <a:lnTo>
                  <a:pt x="11181" y="28106"/>
                </a:lnTo>
                <a:cubicBezTo>
                  <a:pt x="11181" y="30897"/>
                  <a:pt x="8386" y="33687"/>
                  <a:pt x="5590" y="33687"/>
                </a:cubicBezTo>
                <a:cubicBezTo>
                  <a:pt x="1397" y="33687"/>
                  <a:pt x="0" y="30897"/>
                  <a:pt x="0" y="28106"/>
                </a:cubicBezTo>
                <a:lnTo>
                  <a:pt x="0" y="28106"/>
                </a:lnTo>
                <a:cubicBezTo>
                  <a:pt x="0" y="5581"/>
                  <a:pt x="0" y="5581"/>
                  <a:pt x="0" y="5581"/>
                </a:cubicBezTo>
                <a:cubicBezTo>
                  <a:pt x="0" y="2790"/>
                  <a:pt x="1397" y="0"/>
                  <a:pt x="5590" y="0"/>
                </a:cubicBezTo>
                <a:cubicBezTo>
                  <a:pt x="28153" y="0"/>
                  <a:pt x="28153" y="0"/>
                  <a:pt x="28153" y="0"/>
                </a:cubicBezTo>
                <a:lnTo>
                  <a:pt x="28153" y="0"/>
                </a:lnTo>
                <a:cubicBezTo>
                  <a:pt x="30948" y="0"/>
                  <a:pt x="33743" y="2790"/>
                  <a:pt x="33743" y="5581"/>
                </a:cubicBezTo>
                <a:cubicBezTo>
                  <a:pt x="33743" y="8372"/>
                  <a:pt x="30948" y="11162"/>
                  <a:pt x="28153" y="1116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Shape 4935"/>
          <p:cNvSpPr/>
          <p:nvPr/>
        </p:nvSpPr>
        <p:spPr>
          <a:xfrm>
            <a:off x="5151600" y="4091040"/>
            <a:ext cx="288720" cy="285840"/>
          </a:xfrm>
          <a:custGeom>
            <a:avLst/>
            <a:gdLst>
              <a:gd name="textAreaLeft" fmla="*/ 0 w 288720"/>
              <a:gd name="textAreaRight" fmla="*/ 289080 w 2887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114276" y="33687"/>
                </a:moveTo>
                <a:lnTo>
                  <a:pt x="114276" y="33687"/>
                </a:lnTo>
                <a:cubicBezTo>
                  <a:pt x="110131" y="33687"/>
                  <a:pt x="108750" y="30897"/>
                  <a:pt x="108750" y="28106"/>
                </a:cubicBezTo>
                <a:lnTo>
                  <a:pt x="108750" y="28106"/>
                </a:lnTo>
                <a:cubicBezTo>
                  <a:pt x="108750" y="11162"/>
                  <a:pt x="108750" y="11162"/>
                  <a:pt x="108750" y="11162"/>
                </a:cubicBezTo>
                <a:cubicBezTo>
                  <a:pt x="91973" y="11162"/>
                  <a:pt x="91973" y="11162"/>
                  <a:pt x="91973" y="11162"/>
                </a:cubicBezTo>
                <a:lnTo>
                  <a:pt x="91973" y="11162"/>
                </a:lnTo>
                <a:cubicBezTo>
                  <a:pt x="87828" y="11162"/>
                  <a:pt x="86447" y="8372"/>
                  <a:pt x="86447" y="5581"/>
                </a:cubicBezTo>
                <a:cubicBezTo>
                  <a:pt x="86447" y="2790"/>
                  <a:pt x="87828" y="0"/>
                  <a:pt x="91973" y="0"/>
                </a:cubicBezTo>
                <a:lnTo>
                  <a:pt x="91973" y="0"/>
                </a:lnTo>
                <a:cubicBezTo>
                  <a:pt x="114276" y="0"/>
                  <a:pt x="114276" y="0"/>
                  <a:pt x="114276" y="0"/>
                </a:cubicBezTo>
                <a:cubicBezTo>
                  <a:pt x="117039" y="0"/>
                  <a:pt x="119802" y="2790"/>
                  <a:pt x="119802" y="5581"/>
                </a:cubicBezTo>
                <a:cubicBezTo>
                  <a:pt x="119802" y="28106"/>
                  <a:pt x="119802" y="28106"/>
                  <a:pt x="119802" y="28106"/>
                </a:cubicBezTo>
                <a:lnTo>
                  <a:pt x="119802" y="28106"/>
                </a:lnTo>
                <a:cubicBezTo>
                  <a:pt x="119802" y="30897"/>
                  <a:pt x="117039" y="33687"/>
                  <a:pt x="114276" y="33687"/>
                </a:cubicBezTo>
                <a:close/>
                <a:moveTo>
                  <a:pt x="103223" y="102857"/>
                </a:moveTo>
                <a:lnTo>
                  <a:pt x="103223" y="102857"/>
                </a:lnTo>
                <a:cubicBezTo>
                  <a:pt x="16578" y="102857"/>
                  <a:pt x="16578" y="102857"/>
                  <a:pt x="16578" y="102857"/>
                </a:cubicBezTo>
                <a:cubicBezTo>
                  <a:pt x="16578" y="16943"/>
                  <a:pt x="16578" y="16943"/>
                  <a:pt x="16578" y="16943"/>
                </a:cubicBezTo>
                <a:cubicBezTo>
                  <a:pt x="103223" y="16943"/>
                  <a:pt x="103223" y="16943"/>
                  <a:pt x="103223" y="16943"/>
                </a:cubicBezTo>
                <a:lnTo>
                  <a:pt x="103223" y="102857"/>
                </a:lnTo>
                <a:close/>
                <a:moveTo>
                  <a:pt x="91973" y="28106"/>
                </a:moveTo>
                <a:lnTo>
                  <a:pt x="91973" y="28106"/>
                </a:lnTo>
                <a:cubicBezTo>
                  <a:pt x="27828" y="28106"/>
                  <a:pt x="27828" y="28106"/>
                  <a:pt x="27828" y="28106"/>
                </a:cubicBezTo>
                <a:cubicBezTo>
                  <a:pt x="27828" y="91495"/>
                  <a:pt x="27828" y="91495"/>
                  <a:pt x="27828" y="91495"/>
                </a:cubicBezTo>
                <a:cubicBezTo>
                  <a:pt x="91973" y="91495"/>
                  <a:pt x="91973" y="91495"/>
                  <a:pt x="91973" y="91495"/>
                </a:cubicBezTo>
                <a:lnTo>
                  <a:pt x="91973" y="28106"/>
                </a:lnTo>
                <a:close/>
                <a:moveTo>
                  <a:pt x="27828" y="108438"/>
                </a:moveTo>
                <a:lnTo>
                  <a:pt x="27828" y="108438"/>
                </a:lnTo>
                <a:cubicBezTo>
                  <a:pt x="31973" y="108438"/>
                  <a:pt x="33355" y="111229"/>
                  <a:pt x="33355" y="114019"/>
                </a:cubicBezTo>
                <a:cubicBezTo>
                  <a:pt x="33355" y="118205"/>
                  <a:pt x="31973" y="119800"/>
                  <a:pt x="27828" y="119800"/>
                </a:cubicBezTo>
                <a:lnTo>
                  <a:pt x="27828" y="119800"/>
                </a:lnTo>
                <a:cubicBezTo>
                  <a:pt x="5526" y="119800"/>
                  <a:pt x="5526" y="119800"/>
                  <a:pt x="5526" y="119800"/>
                </a:cubicBezTo>
                <a:cubicBezTo>
                  <a:pt x="2763" y="119800"/>
                  <a:pt x="0" y="118205"/>
                  <a:pt x="0" y="114019"/>
                </a:cubicBezTo>
                <a:cubicBezTo>
                  <a:pt x="0" y="91495"/>
                  <a:pt x="0" y="91495"/>
                  <a:pt x="0" y="91495"/>
                </a:cubicBezTo>
                <a:lnTo>
                  <a:pt x="0" y="91495"/>
                </a:lnTo>
                <a:cubicBezTo>
                  <a:pt x="0" y="88704"/>
                  <a:pt x="2763" y="85913"/>
                  <a:pt x="5526" y="85913"/>
                </a:cubicBezTo>
                <a:cubicBezTo>
                  <a:pt x="9671" y="85913"/>
                  <a:pt x="11052" y="88704"/>
                  <a:pt x="11052" y="91495"/>
                </a:cubicBezTo>
                <a:lnTo>
                  <a:pt x="11052" y="91495"/>
                </a:lnTo>
                <a:cubicBezTo>
                  <a:pt x="11052" y="108438"/>
                  <a:pt x="11052" y="108438"/>
                  <a:pt x="11052" y="108438"/>
                </a:cubicBezTo>
                <a:cubicBezTo>
                  <a:pt x="27828" y="108438"/>
                  <a:pt x="27828" y="108438"/>
                  <a:pt x="27828" y="10843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Shape 4936"/>
          <p:cNvSpPr/>
          <p:nvPr/>
        </p:nvSpPr>
        <p:spPr>
          <a:xfrm>
            <a:off x="4654440" y="4091040"/>
            <a:ext cx="284400" cy="285840"/>
          </a:xfrm>
          <a:custGeom>
            <a:avLst/>
            <a:gdLst>
              <a:gd name="textAreaLeft" fmla="*/ 0 w 284400"/>
              <a:gd name="textAreaRight" fmla="*/ 284760 w 2844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0"/>
                </a:moveTo>
                <a:lnTo>
                  <a:pt x="114209" y="119800"/>
                </a:lnTo>
                <a:cubicBezTo>
                  <a:pt x="5590" y="119800"/>
                  <a:pt x="5590" y="119800"/>
                  <a:pt x="5590" y="119800"/>
                </a:cubicBezTo>
                <a:cubicBezTo>
                  <a:pt x="2795" y="119800"/>
                  <a:pt x="0" y="118205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2790"/>
                  <a:pt x="2795" y="0"/>
                  <a:pt x="5590" y="0"/>
                </a:cubicBezTo>
                <a:cubicBezTo>
                  <a:pt x="114209" y="0"/>
                  <a:pt x="114209" y="0"/>
                  <a:pt x="114209" y="0"/>
                </a:cubicBezTo>
                <a:cubicBezTo>
                  <a:pt x="118402" y="0"/>
                  <a:pt x="119800" y="2790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8205"/>
                  <a:pt x="118402" y="119800"/>
                  <a:pt x="114209" y="119800"/>
                </a:cubicBezTo>
                <a:close/>
                <a:moveTo>
                  <a:pt x="108618" y="11162"/>
                </a:moveTo>
                <a:lnTo>
                  <a:pt x="108618" y="11162"/>
                </a:lnTo>
                <a:cubicBezTo>
                  <a:pt x="11181" y="11162"/>
                  <a:pt x="11181" y="11162"/>
                  <a:pt x="11181" y="11162"/>
                </a:cubicBezTo>
                <a:cubicBezTo>
                  <a:pt x="11181" y="108438"/>
                  <a:pt x="11181" y="108438"/>
                  <a:pt x="11181" y="108438"/>
                </a:cubicBezTo>
                <a:cubicBezTo>
                  <a:pt x="108618" y="108438"/>
                  <a:pt x="108618" y="108438"/>
                  <a:pt x="108618" y="108438"/>
                </a:cubicBezTo>
                <a:lnTo>
                  <a:pt x="108618" y="11162"/>
                </a:lnTo>
                <a:close/>
                <a:moveTo>
                  <a:pt x="23960" y="16943"/>
                </a:moveTo>
                <a:lnTo>
                  <a:pt x="23960" y="16943"/>
                </a:lnTo>
                <a:cubicBezTo>
                  <a:pt x="45124" y="16943"/>
                  <a:pt x="45124" y="16943"/>
                  <a:pt x="45124" y="16943"/>
                </a:cubicBezTo>
                <a:lnTo>
                  <a:pt x="45124" y="16943"/>
                </a:lnTo>
                <a:cubicBezTo>
                  <a:pt x="47920" y="16943"/>
                  <a:pt x="50715" y="19734"/>
                  <a:pt x="50715" y="22524"/>
                </a:cubicBezTo>
                <a:cubicBezTo>
                  <a:pt x="50715" y="25315"/>
                  <a:pt x="47920" y="28106"/>
                  <a:pt x="45124" y="28106"/>
                </a:cubicBezTo>
                <a:lnTo>
                  <a:pt x="45124" y="28106"/>
                </a:lnTo>
                <a:cubicBezTo>
                  <a:pt x="28153" y="28106"/>
                  <a:pt x="28153" y="28106"/>
                  <a:pt x="28153" y="28106"/>
                </a:cubicBezTo>
                <a:cubicBezTo>
                  <a:pt x="28153" y="45049"/>
                  <a:pt x="28153" y="45049"/>
                  <a:pt x="28153" y="45049"/>
                </a:cubicBezTo>
                <a:lnTo>
                  <a:pt x="28153" y="45049"/>
                </a:lnTo>
                <a:cubicBezTo>
                  <a:pt x="28153" y="47840"/>
                  <a:pt x="25357" y="50631"/>
                  <a:pt x="22562" y="50631"/>
                </a:cubicBezTo>
                <a:cubicBezTo>
                  <a:pt x="19767" y="50631"/>
                  <a:pt x="16772" y="47840"/>
                  <a:pt x="16772" y="45049"/>
                </a:cubicBezTo>
                <a:lnTo>
                  <a:pt x="16772" y="45049"/>
                </a:lnTo>
                <a:cubicBezTo>
                  <a:pt x="16772" y="23920"/>
                  <a:pt x="16772" y="23920"/>
                  <a:pt x="16772" y="23920"/>
                </a:cubicBezTo>
                <a:lnTo>
                  <a:pt x="16772" y="23920"/>
                </a:lnTo>
                <a:cubicBezTo>
                  <a:pt x="16772" y="16943"/>
                  <a:pt x="16772" y="16943"/>
                  <a:pt x="16772" y="16943"/>
                </a:cubicBezTo>
                <a:cubicBezTo>
                  <a:pt x="23960" y="16943"/>
                  <a:pt x="23960" y="16943"/>
                  <a:pt x="23960" y="16943"/>
                </a:cubicBezTo>
                <a:close/>
                <a:moveTo>
                  <a:pt x="16772" y="74551"/>
                </a:moveTo>
                <a:lnTo>
                  <a:pt x="16772" y="74551"/>
                </a:lnTo>
                <a:lnTo>
                  <a:pt x="16772" y="74551"/>
                </a:lnTo>
                <a:cubicBezTo>
                  <a:pt x="16772" y="71760"/>
                  <a:pt x="19767" y="68970"/>
                  <a:pt x="22562" y="68970"/>
                </a:cubicBezTo>
                <a:cubicBezTo>
                  <a:pt x="25357" y="68970"/>
                  <a:pt x="28153" y="71760"/>
                  <a:pt x="28153" y="74551"/>
                </a:cubicBezTo>
                <a:lnTo>
                  <a:pt x="28153" y="74551"/>
                </a:lnTo>
                <a:cubicBezTo>
                  <a:pt x="28153" y="91495"/>
                  <a:pt x="28153" y="91495"/>
                  <a:pt x="28153" y="91495"/>
                </a:cubicBezTo>
                <a:cubicBezTo>
                  <a:pt x="45124" y="91495"/>
                  <a:pt x="45124" y="91495"/>
                  <a:pt x="45124" y="91495"/>
                </a:cubicBezTo>
                <a:lnTo>
                  <a:pt x="45124" y="91495"/>
                </a:lnTo>
                <a:cubicBezTo>
                  <a:pt x="47920" y="91495"/>
                  <a:pt x="50715" y="94285"/>
                  <a:pt x="50715" y="97076"/>
                </a:cubicBezTo>
                <a:cubicBezTo>
                  <a:pt x="50715" y="101461"/>
                  <a:pt x="47920" y="102857"/>
                  <a:pt x="45124" y="102857"/>
                </a:cubicBezTo>
                <a:lnTo>
                  <a:pt x="45124" y="102857"/>
                </a:lnTo>
                <a:cubicBezTo>
                  <a:pt x="23960" y="102857"/>
                  <a:pt x="23960" y="102857"/>
                  <a:pt x="23960" y="102857"/>
                </a:cubicBezTo>
                <a:lnTo>
                  <a:pt x="23960" y="102857"/>
                </a:lnTo>
                <a:cubicBezTo>
                  <a:pt x="16772" y="102857"/>
                  <a:pt x="16772" y="102857"/>
                  <a:pt x="16772" y="102857"/>
                </a:cubicBezTo>
                <a:cubicBezTo>
                  <a:pt x="16772" y="95681"/>
                  <a:pt x="16772" y="95681"/>
                  <a:pt x="16772" y="95681"/>
                </a:cubicBezTo>
                <a:lnTo>
                  <a:pt x="16772" y="95681"/>
                </a:lnTo>
                <a:lnTo>
                  <a:pt x="16772" y="74551"/>
                </a:lnTo>
                <a:close/>
                <a:moveTo>
                  <a:pt x="74675" y="16943"/>
                </a:moveTo>
                <a:lnTo>
                  <a:pt x="74675" y="16943"/>
                </a:lnTo>
                <a:lnTo>
                  <a:pt x="74675" y="16943"/>
                </a:lnTo>
                <a:cubicBezTo>
                  <a:pt x="95840" y="16943"/>
                  <a:pt x="95840" y="16943"/>
                  <a:pt x="95840" y="16943"/>
                </a:cubicBezTo>
                <a:lnTo>
                  <a:pt x="95840" y="16943"/>
                </a:lnTo>
                <a:cubicBezTo>
                  <a:pt x="102828" y="16943"/>
                  <a:pt x="102828" y="16943"/>
                  <a:pt x="102828" y="16943"/>
                </a:cubicBezTo>
                <a:cubicBezTo>
                  <a:pt x="102828" y="23920"/>
                  <a:pt x="102828" y="23920"/>
                  <a:pt x="102828" y="23920"/>
                </a:cubicBezTo>
                <a:lnTo>
                  <a:pt x="102828" y="23920"/>
                </a:lnTo>
                <a:cubicBezTo>
                  <a:pt x="102828" y="45049"/>
                  <a:pt x="102828" y="45049"/>
                  <a:pt x="102828" y="45049"/>
                </a:cubicBezTo>
                <a:lnTo>
                  <a:pt x="102828" y="45049"/>
                </a:lnTo>
                <a:cubicBezTo>
                  <a:pt x="102828" y="47840"/>
                  <a:pt x="101430" y="50631"/>
                  <a:pt x="97237" y="50631"/>
                </a:cubicBezTo>
                <a:cubicBezTo>
                  <a:pt x="94442" y="50631"/>
                  <a:pt x="91647" y="47840"/>
                  <a:pt x="91647" y="45049"/>
                </a:cubicBezTo>
                <a:lnTo>
                  <a:pt x="91647" y="45049"/>
                </a:lnTo>
                <a:cubicBezTo>
                  <a:pt x="91647" y="28106"/>
                  <a:pt x="91647" y="28106"/>
                  <a:pt x="91647" y="28106"/>
                </a:cubicBezTo>
                <a:cubicBezTo>
                  <a:pt x="74675" y="28106"/>
                  <a:pt x="74675" y="28106"/>
                  <a:pt x="74675" y="28106"/>
                </a:cubicBezTo>
                <a:lnTo>
                  <a:pt x="74675" y="28106"/>
                </a:lnTo>
                <a:cubicBezTo>
                  <a:pt x="71880" y="28106"/>
                  <a:pt x="69084" y="25315"/>
                  <a:pt x="69084" y="22524"/>
                </a:cubicBezTo>
                <a:cubicBezTo>
                  <a:pt x="69084" y="19734"/>
                  <a:pt x="71880" y="16943"/>
                  <a:pt x="74675" y="16943"/>
                </a:cubicBezTo>
                <a:close/>
                <a:moveTo>
                  <a:pt x="74675" y="91495"/>
                </a:moveTo>
                <a:lnTo>
                  <a:pt x="74675" y="91495"/>
                </a:lnTo>
                <a:lnTo>
                  <a:pt x="74675" y="91495"/>
                </a:lnTo>
                <a:cubicBezTo>
                  <a:pt x="91647" y="91495"/>
                  <a:pt x="91647" y="91495"/>
                  <a:pt x="91647" y="91495"/>
                </a:cubicBezTo>
                <a:cubicBezTo>
                  <a:pt x="91647" y="74551"/>
                  <a:pt x="91647" y="74551"/>
                  <a:pt x="91647" y="74551"/>
                </a:cubicBezTo>
                <a:lnTo>
                  <a:pt x="91647" y="74551"/>
                </a:lnTo>
                <a:cubicBezTo>
                  <a:pt x="91647" y="71760"/>
                  <a:pt x="94442" y="68970"/>
                  <a:pt x="97237" y="68970"/>
                </a:cubicBezTo>
                <a:cubicBezTo>
                  <a:pt x="101430" y="68970"/>
                  <a:pt x="102828" y="71760"/>
                  <a:pt x="102828" y="74551"/>
                </a:cubicBezTo>
                <a:lnTo>
                  <a:pt x="102828" y="74551"/>
                </a:lnTo>
                <a:cubicBezTo>
                  <a:pt x="102828" y="95681"/>
                  <a:pt x="102828" y="95681"/>
                  <a:pt x="102828" y="95681"/>
                </a:cubicBezTo>
                <a:lnTo>
                  <a:pt x="102828" y="95681"/>
                </a:lnTo>
                <a:cubicBezTo>
                  <a:pt x="102828" y="102857"/>
                  <a:pt x="102828" y="102857"/>
                  <a:pt x="102828" y="102857"/>
                </a:cubicBezTo>
                <a:cubicBezTo>
                  <a:pt x="95840" y="102857"/>
                  <a:pt x="95840" y="102857"/>
                  <a:pt x="95840" y="102857"/>
                </a:cubicBezTo>
                <a:lnTo>
                  <a:pt x="95840" y="102857"/>
                </a:lnTo>
                <a:cubicBezTo>
                  <a:pt x="74675" y="102857"/>
                  <a:pt x="74675" y="102857"/>
                  <a:pt x="74675" y="102857"/>
                </a:cubicBezTo>
                <a:lnTo>
                  <a:pt x="74675" y="102857"/>
                </a:lnTo>
                <a:cubicBezTo>
                  <a:pt x="71880" y="102857"/>
                  <a:pt x="69084" y="101461"/>
                  <a:pt x="69084" y="97076"/>
                </a:cubicBezTo>
                <a:cubicBezTo>
                  <a:pt x="69084" y="94285"/>
                  <a:pt x="71880" y="91495"/>
                  <a:pt x="74675" y="91495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Shape 4937"/>
          <p:cNvSpPr/>
          <p:nvPr/>
        </p:nvSpPr>
        <p:spPr>
          <a:xfrm>
            <a:off x="4156200" y="4091040"/>
            <a:ext cx="284040" cy="279360"/>
          </a:xfrm>
          <a:custGeom>
            <a:avLst/>
            <a:gdLst>
              <a:gd name="textAreaLeft" fmla="*/ 0 w 284040"/>
              <a:gd name="textAreaRight" fmla="*/ 284400 w 2840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0"/>
                </a:moveTo>
                <a:lnTo>
                  <a:pt x="114209" y="119800"/>
                </a:lnTo>
                <a:cubicBezTo>
                  <a:pt x="5590" y="119800"/>
                  <a:pt x="5590" y="119800"/>
                  <a:pt x="5590" y="119800"/>
                </a:cubicBezTo>
                <a:cubicBezTo>
                  <a:pt x="1397" y="119800"/>
                  <a:pt x="0" y="118205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2790"/>
                  <a:pt x="1397" y="0"/>
                  <a:pt x="5590" y="0"/>
                </a:cubicBezTo>
                <a:cubicBezTo>
                  <a:pt x="114209" y="0"/>
                  <a:pt x="114209" y="0"/>
                  <a:pt x="114209" y="0"/>
                </a:cubicBezTo>
                <a:cubicBezTo>
                  <a:pt x="117004" y="0"/>
                  <a:pt x="119800" y="2790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8205"/>
                  <a:pt x="117004" y="119800"/>
                  <a:pt x="114209" y="119800"/>
                </a:cubicBezTo>
                <a:close/>
                <a:moveTo>
                  <a:pt x="108618" y="11162"/>
                </a:moveTo>
                <a:lnTo>
                  <a:pt x="108618" y="11162"/>
                </a:lnTo>
                <a:cubicBezTo>
                  <a:pt x="11181" y="11162"/>
                  <a:pt x="11181" y="11162"/>
                  <a:pt x="11181" y="11162"/>
                </a:cubicBezTo>
                <a:cubicBezTo>
                  <a:pt x="11181" y="108438"/>
                  <a:pt x="11181" y="108438"/>
                  <a:pt x="11181" y="108438"/>
                </a:cubicBezTo>
                <a:cubicBezTo>
                  <a:pt x="108618" y="108438"/>
                  <a:pt x="108618" y="108438"/>
                  <a:pt x="108618" y="108438"/>
                </a:cubicBezTo>
                <a:lnTo>
                  <a:pt x="108618" y="11162"/>
                </a:lnTo>
                <a:close/>
                <a:moveTo>
                  <a:pt x="33743" y="39468"/>
                </a:moveTo>
                <a:lnTo>
                  <a:pt x="33743" y="39468"/>
                </a:lnTo>
                <a:cubicBezTo>
                  <a:pt x="33743" y="36677"/>
                  <a:pt x="35141" y="33687"/>
                  <a:pt x="39334" y="33687"/>
                </a:cubicBezTo>
                <a:cubicBezTo>
                  <a:pt x="40732" y="33687"/>
                  <a:pt x="42129" y="33687"/>
                  <a:pt x="42129" y="35083"/>
                </a:cubicBezTo>
                <a:cubicBezTo>
                  <a:pt x="59101" y="52026"/>
                  <a:pt x="59101" y="52026"/>
                  <a:pt x="59101" y="52026"/>
                </a:cubicBezTo>
                <a:cubicBezTo>
                  <a:pt x="76073" y="35083"/>
                  <a:pt x="76073" y="35083"/>
                  <a:pt x="76073" y="35083"/>
                </a:cubicBezTo>
                <a:cubicBezTo>
                  <a:pt x="77470" y="33687"/>
                  <a:pt x="78868" y="33687"/>
                  <a:pt x="80266" y="33687"/>
                </a:cubicBezTo>
                <a:cubicBezTo>
                  <a:pt x="83261" y="33687"/>
                  <a:pt x="86056" y="36677"/>
                  <a:pt x="86056" y="39468"/>
                </a:cubicBezTo>
                <a:cubicBezTo>
                  <a:pt x="86056" y="40863"/>
                  <a:pt x="86056" y="42259"/>
                  <a:pt x="84658" y="43654"/>
                </a:cubicBezTo>
                <a:cubicBezTo>
                  <a:pt x="67687" y="60598"/>
                  <a:pt x="67687" y="60598"/>
                  <a:pt x="67687" y="60598"/>
                </a:cubicBezTo>
                <a:cubicBezTo>
                  <a:pt x="84658" y="77541"/>
                  <a:pt x="84658" y="77541"/>
                  <a:pt x="84658" y="77541"/>
                </a:cubicBezTo>
                <a:cubicBezTo>
                  <a:pt x="86056" y="77541"/>
                  <a:pt x="86056" y="78936"/>
                  <a:pt x="86056" y="80332"/>
                </a:cubicBezTo>
                <a:cubicBezTo>
                  <a:pt x="86056" y="84518"/>
                  <a:pt x="83261" y="85913"/>
                  <a:pt x="80266" y="85913"/>
                </a:cubicBezTo>
                <a:cubicBezTo>
                  <a:pt x="78868" y="85913"/>
                  <a:pt x="77470" y="85913"/>
                  <a:pt x="76073" y="84518"/>
                </a:cubicBezTo>
                <a:cubicBezTo>
                  <a:pt x="59101" y="67574"/>
                  <a:pt x="59101" y="67574"/>
                  <a:pt x="59101" y="67574"/>
                </a:cubicBezTo>
                <a:cubicBezTo>
                  <a:pt x="42129" y="84518"/>
                  <a:pt x="42129" y="84518"/>
                  <a:pt x="42129" y="84518"/>
                </a:cubicBezTo>
                <a:cubicBezTo>
                  <a:pt x="42129" y="85913"/>
                  <a:pt x="40732" y="85913"/>
                  <a:pt x="39334" y="85913"/>
                </a:cubicBezTo>
                <a:cubicBezTo>
                  <a:pt x="35141" y="85913"/>
                  <a:pt x="33743" y="84518"/>
                  <a:pt x="33743" y="80332"/>
                </a:cubicBezTo>
                <a:cubicBezTo>
                  <a:pt x="33743" y="78936"/>
                  <a:pt x="33743" y="77541"/>
                  <a:pt x="35141" y="77541"/>
                </a:cubicBezTo>
                <a:cubicBezTo>
                  <a:pt x="52113" y="60598"/>
                  <a:pt x="52113" y="60598"/>
                  <a:pt x="52113" y="60598"/>
                </a:cubicBezTo>
                <a:cubicBezTo>
                  <a:pt x="35141" y="43654"/>
                  <a:pt x="35141" y="43654"/>
                  <a:pt x="35141" y="43654"/>
                </a:cubicBezTo>
                <a:cubicBezTo>
                  <a:pt x="33743" y="42259"/>
                  <a:pt x="33743" y="40863"/>
                  <a:pt x="33743" y="3946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Shape 4938"/>
          <p:cNvSpPr/>
          <p:nvPr/>
        </p:nvSpPr>
        <p:spPr>
          <a:xfrm>
            <a:off x="3651120" y="409104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85" y="119800"/>
                </a:moveTo>
                <a:lnTo>
                  <a:pt x="114285" y="119800"/>
                </a:lnTo>
                <a:cubicBezTo>
                  <a:pt x="5714" y="119800"/>
                  <a:pt x="5714" y="119800"/>
                  <a:pt x="5714" y="119800"/>
                </a:cubicBezTo>
                <a:cubicBezTo>
                  <a:pt x="2955" y="119800"/>
                  <a:pt x="0" y="118205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2790"/>
                  <a:pt x="2955" y="0"/>
                  <a:pt x="5714" y="0"/>
                </a:cubicBezTo>
                <a:cubicBezTo>
                  <a:pt x="114285" y="0"/>
                  <a:pt x="114285" y="0"/>
                  <a:pt x="114285" y="0"/>
                </a:cubicBezTo>
                <a:cubicBezTo>
                  <a:pt x="117044" y="0"/>
                  <a:pt x="119802" y="2790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8205"/>
                  <a:pt x="117044" y="119800"/>
                  <a:pt x="114285" y="119800"/>
                </a:cubicBezTo>
                <a:close/>
                <a:moveTo>
                  <a:pt x="108768" y="11162"/>
                </a:moveTo>
                <a:lnTo>
                  <a:pt x="108768" y="11162"/>
                </a:lnTo>
                <a:cubicBezTo>
                  <a:pt x="11231" y="11162"/>
                  <a:pt x="11231" y="11162"/>
                  <a:pt x="11231" y="11162"/>
                </a:cubicBezTo>
                <a:cubicBezTo>
                  <a:pt x="11231" y="108438"/>
                  <a:pt x="11231" y="108438"/>
                  <a:pt x="11231" y="108438"/>
                </a:cubicBezTo>
                <a:cubicBezTo>
                  <a:pt x="108768" y="108438"/>
                  <a:pt x="108768" y="108438"/>
                  <a:pt x="108768" y="108438"/>
                </a:cubicBezTo>
                <a:lnTo>
                  <a:pt x="108768" y="11162"/>
                </a:lnTo>
                <a:close/>
                <a:moveTo>
                  <a:pt x="36256" y="52026"/>
                </a:moveTo>
                <a:lnTo>
                  <a:pt x="36256" y="52026"/>
                </a:lnTo>
                <a:cubicBezTo>
                  <a:pt x="37635" y="52026"/>
                  <a:pt x="39014" y="53421"/>
                  <a:pt x="39014" y="54817"/>
                </a:cubicBezTo>
                <a:cubicBezTo>
                  <a:pt x="53004" y="67574"/>
                  <a:pt x="53004" y="67574"/>
                  <a:pt x="53004" y="67574"/>
                </a:cubicBezTo>
                <a:cubicBezTo>
                  <a:pt x="78029" y="40863"/>
                  <a:pt x="78029" y="40863"/>
                  <a:pt x="78029" y="40863"/>
                </a:cubicBezTo>
                <a:cubicBezTo>
                  <a:pt x="79408" y="39468"/>
                  <a:pt x="80788" y="39468"/>
                  <a:pt x="82167" y="39468"/>
                </a:cubicBezTo>
                <a:cubicBezTo>
                  <a:pt x="85123" y="39468"/>
                  <a:pt x="87881" y="42259"/>
                  <a:pt x="87881" y="45049"/>
                </a:cubicBezTo>
                <a:cubicBezTo>
                  <a:pt x="87881" y="46445"/>
                  <a:pt x="87881" y="47840"/>
                  <a:pt x="86502" y="49235"/>
                </a:cubicBezTo>
                <a:cubicBezTo>
                  <a:pt x="55763" y="78936"/>
                  <a:pt x="55763" y="78936"/>
                  <a:pt x="55763" y="78936"/>
                </a:cubicBezTo>
                <a:cubicBezTo>
                  <a:pt x="55763" y="80332"/>
                  <a:pt x="54384" y="80332"/>
                  <a:pt x="53004" y="80332"/>
                </a:cubicBezTo>
                <a:cubicBezTo>
                  <a:pt x="51625" y="80332"/>
                  <a:pt x="50246" y="80332"/>
                  <a:pt x="48866" y="78936"/>
                </a:cubicBezTo>
                <a:cubicBezTo>
                  <a:pt x="32118" y="61993"/>
                  <a:pt x="32118" y="61993"/>
                  <a:pt x="32118" y="61993"/>
                </a:cubicBezTo>
                <a:cubicBezTo>
                  <a:pt x="30738" y="60598"/>
                  <a:pt x="30738" y="59202"/>
                  <a:pt x="30738" y="57807"/>
                </a:cubicBezTo>
                <a:cubicBezTo>
                  <a:pt x="30738" y="54817"/>
                  <a:pt x="32118" y="52026"/>
                  <a:pt x="36256" y="52026"/>
                </a:cubicBezTo>
                <a:close/>
                <a:moveTo>
                  <a:pt x="86502" y="80332"/>
                </a:moveTo>
                <a:lnTo>
                  <a:pt x="86502" y="80332"/>
                </a:lnTo>
                <a:close/>
                <a:moveTo>
                  <a:pt x="86502" y="39468"/>
                </a:moveTo>
                <a:lnTo>
                  <a:pt x="86502" y="39468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Shape 4939"/>
          <p:cNvSpPr/>
          <p:nvPr/>
        </p:nvSpPr>
        <p:spPr>
          <a:xfrm>
            <a:off x="3154320" y="4091040"/>
            <a:ext cx="287280" cy="285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205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2790"/>
                  <a:pt x="2990" y="0"/>
                  <a:pt x="5780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790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8205"/>
                  <a:pt x="118405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35282" y="54817"/>
                </a:moveTo>
                <a:lnTo>
                  <a:pt x="35282" y="54817"/>
                </a:lnTo>
                <a:cubicBezTo>
                  <a:pt x="49435" y="54817"/>
                  <a:pt x="49435" y="54817"/>
                  <a:pt x="49435" y="54817"/>
                </a:cubicBezTo>
                <a:cubicBezTo>
                  <a:pt x="55016" y="54817"/>
                  <a:pt x="55016" y="54817"/>
                  <a:pt x="55016" y="54817"/>
                </a:cubicBezTo>
                <a:cubicBezTo>
                  <a:pt x="66378" y="54817"/>
                  <a:pt x="66378" y="54817"/>
                  <a:pt x="66378" y="54817"/>
                </a:cubicBezTo>
                <a:cubicBezTo>
                  <a:pt x="73355" y="54817"/>
                  <a:pt x="73355" y="54817"/>
                  <a:pt x="73355" y="54817"/>
                </a:cubicBezTo>
                <a:cubicBezTo>
                  <a:pt x="84518" y="54817"/>
                  <a:pt x="84518" y="54817"/>
                  <a:pt x="84518" y="54817"/>
                </a:cubicBezTo>
                <a:cubicBezTo>
                  <a:pt x="87508" y="54817"/>
                  <a:pt x="90299" y="56212"/>
                  <a:pt x="90299" y="60598"/>
                </a:cubicBezTo>
                <a:cubicBezTo>
                  <a:pt x="90299" y="63388"/>
                  <a:pt x="87508" y="66179"/>
                  <a:pt x="84518" y="66179"/>
                </a:cubicBezTo>
                <a:cubicBezTo>
                  <a:pt x="73355" y="66179"/>
                  <a:pt x="73355" y="66179"/>
                  <a:pt x="73355" y="66179"/>
                </a:cubicBezTo>
                <a:cubicBezTo>
                  <a:pt x="66378" y="66179"/>
                  <a:pt x="66378" y="66179"/>
                  <a:pt x="66378" y="66179"/>
                </a:cubicBezTo>
                <a:cubicBezTo>
                  <a:pt x="55016" y="66179"/>
                  <a:pt x="55016" y="66179"/>
                  <a:pt x="55016" y="66179"/>
                </a:cubicBezTo>
                <a:cubicBezTo>
                  <a:pt x="46445" y="66179"/>
                  <a:pt x="46445" y="66179"/>
                  <a:pt x="46445" y="66179"/>
                </a:cubicBezTo>
                <a:cubicBezTo>
                  <a:pt x="35282" y="66179"/>
                  <a:pt x="35282" y="66179"/>
                  <a:pt x="35282" y="66179"/>
                </a:cubicBezTo>
                <a:cubicBezTo>
                  <a:pt x="32491" y="66179"/>
                  <a:pt x="29700" y="63388"/>
                  <a:pt x="29700" y="60598"/>
                </a:cubicBezTo>
                <a:cubicBezTo>
                  <a:pt x="29700" y="56212"/>
                  <a:pt x="32491" y="54817"/>
                  <a:pt x="35282" y="54817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Shape 4940"/>
          <p:cNvSpPr/>
          <p:nvPr/>
        </p:nvSpPr>
        <p:spPr>
          <a:xfrm>
            <a:off x="2655720" y="409104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780" y="119800"/>
                  <a:pt x="5780" y="119800"/>
                  <a:pt x="5780" y="119800"/>
                </a:cubicBezTo>
                <a:cubicBezTo>
                  <a:pt x="1395" y="119800"/>
                  <a:pt x="0" y="118205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2790"/>
                  <a:pt x="1395" y="0"/>
                  <a:pt x="5780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2790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8205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35282" y="54817"/>
                </a:moveTo>
                <a:lnTo>
                  <a:pt x="35282" y="54817"/>
                </a:lnTo>
                <a:cubicBezTo>
                  <a:pt x="53621" y="54817"/>
                  <a:pt x="53621" y="54817"/>
                  <a:pt x="53621" y="54817"/>
                </a:cubicBezTo>
                <a:cubicBezTo>
                  <a:pt x="53621" y="35083"/>
                  <a:pt x="53621" y="35083"/>
                  <a:pt x="53621" y="35083"/>
                </a:cubicBezTo>
                <a:cubicBezTo>
                  <a:pt x="53621" y="32292"/>
                  <a:pt x="56411" y="29501"/>
                  <a:pt x="59202" y="29501"/>
                </a:cubicBezTo>
                <a:cubicBezTo>
                  <a:pt x="63388" y="29501"/>
                  <a:pt x="64784" y="32292"/>
                  <a:pt x="64784" y="35083"/>
                </a:cubicBezTo>
                <a:cubicBezTo>
                  <a:pt x="64784" y="54817"/>
                  <a:pt x="64784" y="54817"/>
                  <a:pt x="64784" y="54817"/>
                </a:cubicBezTo>
                <a:cubicBezTo>
                  <a:pt x="84518" y="54817"/>
                  <a:pt x="84518" y="54817"/>
                  <a:pt x="84518" y="54817"/>
                </a:cubicBezTo>
                <a:cubicBezTo>
                  <a:pt x="87308" y="54817"/>
                  <a:pt x="90299" y="56212"/>
                  <a:pt x="90299" y="60598"/>
                </a:cubicBezTo>
                <a:cubicBezTo>
                  <a:pt x="90299" y="63388"/>
                  <a:pt x="87308" y="66179"/>
                  <a:pt x="84518" y="66179"/>
                </a:cubicBezTo>
                <a:cubicBezTo>
                  <a:pt x="64784" y="66179"/>
                  <a:pt x="64784" y="66179"/>
                  <a:pt x="64784" y="66179"/>
                </a:cubicBezTo>
                <a:cubicBezTo>
                  <a:pt x="64784" y="84518"/>
                  <a:pt x="64784" y="84518"/>
                  <a:pt x="64784" y="84518"/>
                </a:cubicBezTo>
                <a:cubicBezTo>
                  <a:pt x="64784" y="87308"/>
                  <a:pt x="63388" y="90099"/>
                  <a:pt x="59202" y="90099"/>
                </a:cubicBezTo>
                <a:cubicBezTo>
                  <a:pt x="56411" y="90099"/>
                  <a:pt x="53621" y="87308"/>
                  <a:pt x="53621" y="84518"/>
                </a:cubicBezTo>
                <a:cubicBezTo>
                  <a:pt x="53621" y="66179"/>
                  <a:pt x="53621" y="66179"/>
                  <a:pt x="53621" y="66179"/>
                </a:cubicBezTo>
                <a:cubicBezTo>
                  <a:pt x="35282" y="66179"/>
                  <a:pt x="35282" y="66179"/>
                  <a:pt x="35282" y="66179"/>
                </a:cubicBezTo>
                <a:cubicBezTo>
                  <a:pt x="32491" y="66179"/>
                  <a:pt x="29700" y="63388"/>
                  <a:pt x="29700" y="60598"/>
                </a:cubicBezTo>
                <a:cubicBezTo>
                  <a:pt x="29700" y="56212"/>
                  <a:pt x="32491" y="54817"/>
                  <a:pt x="35282" y="54817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Shape 4941"/>
          <p:cNvSpPr/>
          <p:nvPr/>
        </p:nvSpPr>
        <p:spPr>
          <a:xfrm>
            <a:off x="2166840" y="4103640"/>
            <a:ext cx="260280" cy="258840"/>
          </a:xfrm>
          <a:custGeom>
            <a:avLst/>
            <a:gdLst>
              <a:gd name="textAreaLeft" fmla="*/ 0 w 260280"/>
              <a:gd name="textAreaRight" fmla="*/ 260640 w 260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3490" y="119779"/>
                </a:moveTo>
                <a:lnTo>
                  <a:pt x="113490" y="119779"/>
                </a:lnTo>
                <a:cubicBezTo>
                  <a:pt x="72260" y="119779"/>
                  <a:pt x="72260" y="119779"/>
                  <a:pt x="72260" y="119779"/>
                </a:cubicBezTo>
                <a:cubicBezTo>
                  <a:pt x="69005" y="119779"/>
                  <a:pt x="65967" y="118238"/>
                  <a:pt x="65967" y="113614"/>
                </a:cubicBezTo>
                <a:cubicBezTo>
                  <a:pt x="65967" y="73100"/>
                  <a:pt x="65967" y="73100"/>
                  <a:pt x="65967" y="73100"/>
                </a:cubicBezTo>
                <a:cubicBezTo>
                  <a:pt x="65967" y="68477"/>
                  <a:pt x="69005" y="66935"/>
                  <a:pt x="72260" y="66935"/>
                </a:cubicBezTo>
                <a:cubicBezTo>
                  <a:pt x="113490" y="66935"/>
                  <a:pt x="113490" y="66935"/>
                  <a:pt x="113490" y="66935"/>
                </a:cubicBezTo>
                <a:cubicBezTo>
                  <a:pt x="116528" y="66935"/>
                  <a:pt x="119783" y="68477"/>
                  <a:pt x="119783" y="73100"/>
                </a:cubicBezTo>
                <a:cubicBezTo>
                  <a:pt x="119783" y="113614"/>
                  <a:pt x="119783" y="113614"/>
                  <a:pt x="119783" y="113614"/>
                </a:cubicBezTo>
                <a:cubicBezTo>
                  <a:pt x="119783" y="118238"/>
                  <a:pt x="116528" y="119779"/>
                  <a:pt x="113490" y="119779"/>
                </a:cubicBezTo>
                <a:close/>
                <a:moveTo>
                  <a:pt x="113490" y="54385"/>
                </a:moveTo>
                <a:lnTo>
                  <a:pt x="113490" y="54385"/>
                </a:lnTo>
                <a:cubicBezTo>
                  <a:pt x="72260" y="54385"/>
                  <a:pt x="72260" y="54385"/>
                  <a:pt x="72260" y="54385"/>
                </a:cubicBezTo>
                <a:cubicBezTo>
                  <a:pt x="69005" y="54385"/>
                  <a:pt x="65967" y="51302"/>
                  <a:pt x="65967" y="48220"/>
                </a:cubicBezTo>
                <a:cubicBezTo>
                  <a:pt x="65967" y="6165"/>
                  <a:pt x="65967" y="6165"/>
                  <a:pt x="65967" y="6165"/>
                </a:cubicBezTo>
                <a:cubicBezTo>
                  <a:pt x="65967" y="3082"/>
                  <a:pt x="69005" y="0"/>
                  <a:pt x="72260" y="0"/>
                </a:cubicBezTo>
                <a:cubicBezTo>
                  <a:pt x="113490" y="0"/>
                  <a:pt x="113490" y="0"/>
                  <a:pt x="113490" y="0"/>
                </a:cubicBezTo>
                <a:cubicBezTo>
                  <a:pt x="116528" y="0"/>
                  <a:pt x="119783" y="3082"/>
                  <a:pt x="119783" y="6165"/>
                </a:cubicBezTo>
                <a:cubicBezTo>
                  <a:pt x="119783" y="48220"/>
                  <a:pt x="119783" y="48220"/>
                  <a:pt x="119783" y="48220"/>
                </a:cubicBezTo>
                <a:cubicBezTo>
                  <a:pt x="119783" y="51302"/>
                  <a:pt x="116528" y="54385"/>
                  <a:pt x="113490" y="54385"/>
                </a:cubicBezTo>
                <a:close/>
                <a:moveTo>
                  <a:pt x="47522" y="119779"/>
                </a:moveTo>
                <a:lnTo>
                  <a:pt x="47522" y="119779"/>
                </a:lnTo>
                <a:cubicBezTo>
                  <a:pt x="6292" y="119779"/>
                  <a:pt x="6292" y="119779"/>
                  <a:pt x="6292" y="119779"/>
                </a:cubicBezTo>
                <a:cubicBezTo>
                  <a:pt x="3254" y="119779"/>
                  <a:pt x="0" y="118238"/>
                  <a:pt x="0" y="113614"/>
                </a:cubicBezTo>
                <a:cubicBezTo>
                  <a:pt x="0" y="73100"/>
                  <a:pt x="0" y="73100"/>
                  <a:pt x="0" y="73100"/>
                </a:cubicBezTo>
                <a:cubicBezTo>
                  <a:pt x="0" y="68477"/>
                  <a:pt x="3254" y="66935"/>
                  <a:pt x="6292" y="66935"/>
                </a:cubicBezTo>
                <a:cubicBezTo>
                  <a:pt x="47522" y="66935"/>
                  <a:pt x="47522" y="66935"/>
                  <a:pt x="47522" y="66935"/>
                </a:cubicBezTo>
                <a:cubicBezTo>
                  <a:pt x="50777" y="66935"/>
                  <a:pt x="53815" y="68477"/>
                  <a:pt x="53815" y="73100"/>
                </a:cubicBezTo>
                <a:cubicBezTo>
                  <a:pt x="53815" y="113614"/>
                  <a:pt x="53815" y="113614"/>
                  <a:pt x="53815" y="113614"/>
                </a:cubicBezTo>
                <a:cubicBezTo>
                  <a:pt x="53815" y="118238"/>
                  <a:pt x="50777" y="119779"/>
                  <a:pt x="47522" y="119779"/>
                </a:cubicBezTo>
                <a:close/>
                <a:moveTo>
                  <a:pt x="47522" y="54385"/>
                </a:moveTo>
                <a:lnTo>
                  <a:pt x="47522" y="54385"/>
                </a:lnTo>
                <a:cubicBezTo>
                  <a:pt x="6292" y="54385"/>
                  <a:pt x="6292" y="54385"/>
                  <a:pt x="6292" y="54385"/>
                </a:cubicBezTo>
                <a:cubicBezTo>
                  <a:pt x="3254" y="54385"/>
                  <a:pt x="0" y="51302"/>
                  <a:pt x="0" y="48220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254" y="0"/>
                  <a:pt x="6292" y="0"/>
                </a:cubicBezTo>
                <a:cubicBezTo>
                  <a:pt x="47522" y="0"/>
                  <a:pt x="47522" y="0"/>
                  <a:pt x="47522" y="0"/>
                </a:cubicBezTo>
                <a:cubicBezTo>
                  <a:pt x="50777" y="0"/>
                  <a:pt x="53815" y="3082"/>
                  <a:pt x="53815" y="6165"/>
                </a:cubicBezTo>
                <a:cubicBezTo>
                  <a:pt x="53815" y="48220"/>
                  <a:pt x="53815" y="48220"/>
                  <a:pt x="53815" y="48220"/>
                </a:cubicBezTo>
                <a:cubicBezTo>
                  <a:pt x="53815" y="51302"/>
                  <a:pt x="50777" y="54385"/>
                  <a:pt x="47522" y="54385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Shape 4942"/>
          <p:cNvSpPr/>
          <p:nvPr/>
        </p:nvSpPr>
        <p:spPr>
          <a:xfrm>
            <a:off x="1666800" y="4103640"/>
            <a:ext cx="260280" cy="258840"/>
          </a:xfrm>
          <a:custGeom>
            <a:avLst/>
            <a:gdLst>
              <a:gd name="textAreaLeft" fmla="*/ 0 w 260280"/>
              <a:gd name="textAreaRight" fmla="*/ 260640 w 260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779"/>
                </a:moveTo>
                <a:lnTo>
                  <a:pt x="113614" y="119779"/>
                </a:lnTo>
                <a:cubicBezTo>
                  <a:pt x="73321" y="119779"/>
                  <a:pt x="73321" y="119779"/>
                  <a:pt x="73321" y="119779"/>
                </a:cubicBezTo>
                <a:cubicBezTo>
                  <a:pt x="68477" y="119779"/>
                  <a:pt x="66935" y="118238"/>
                  <a:pt x="66935" y="113614"/>
                </a:cubicBezTo>
                <a:cubicBezTo>
                  <a:pt x="66935" y="73100"/>
                  <a:pt x="66935" y="73100"/>
                  <a:pt x="66935" y="73100"/>
                </a:cubicBezTo>
                <a:cubicBezTo>
                  <a:pt x="66935" y="68477"/>
                  <a:pt x="68477" y="66935"/>
                  <a:pt x="73321" y="66935"/>
                </a:cubicBezTo>
                <a:cubicBezTo>
                  <a:pt x="113614" y="66935"/>
                  <a:pt x="113614" y="66935"/>
                  <a:pt x="113614" y="66935"/>
                </a:cubicBezTo>
                <a:cubicBezTo>
                  <a:pt x="118238" y="66935"/>
                  <a:pt x="119779" y="68477"/>
                  <a:pt x="119779" y="73100"/>
                </a:cubicBezTo>
                <a:cubicBezTo>
                  <a:pt x="119779" y="113614"/>
                  <a:pt x="119779" y="113614"/>
                  <a:pt x="119779" y="113614"/>
                </a:cubicBezTo>
                <a:cubicBezTo>
                  <a:pt x="119779" y="118238"/>
                  <a:pt x="118238" y="119779"/>
                  <a:pt x="113614" y="119779"/>
                </a:cubicBezTo>
                <a:close/>
                <a:moveTo>
                  <a:pt x="107449" y="79486"/>
                </a:moveTo>
                <a:lnTo>
                  <a:pt x="107449" y="79486"/>
                </a:lnTo>
                <a:cubicBezTo>
                  <a:pt x="79486" y="79486"/>
                  <a:pt x="79486" y="79486"/>
                  <a:pt x="79486" y="79486"/>
                </a:cubicBezTo>
                <a:cubicBezTo>
                  <a:pt x="79486" y="107449"/>
                  <a:pt x="79486" y="107449"/>
                  <a:pt x="79486" y="107449"/>
                </a:cubicBezTo>
                <a:cubicBezTo>
                  <a:pt x="107449" y="107449"/>
                  <a:pt x="107449" y="107449"/>
                  <a:pt x="107449" y="107449"/>
                </a:cubicBezTo>
                <a:lnTo>
                  <a:pt x="107449" y="79486"/>
                </a:lnTo>
                <a:close/>
                <a:moveTo>
                  <a:pt x="113614" y="54385"/>
                </a:moveTo>
                <a:lnTo>
                  <a:pt x="113614" y="54385"/>
                </a:lnTo>
                <a:cubicBezTo>
                  <a:pt x="73321" y="54385"/>
                  <a:pt x="73321" y="54385"/>
                  <a:pt x="73321" y="54385"/>
                </a:cubicBezTo>
                <a:cubicBezTo>
                  <a:pt x="68477" y="54385"/>
                  <a:pt x="66935" y="51302"/>
                  <a:pt x="66935" y="48220"/>
                </a:cubicBezTo>
                <a:cubicBezTo>
                  <a:pt x="66935" y="6165"/>
                  <a:pt x="66935" y="6165"/>
                  <a:pt x="66935" y="6165"/>
                </a:cubicBezTo>
                <a:cubicBezTo>
                  <a:pt x="66935" y="3082"/>
                  <a:pt x="68477" y="0"/>
                  <a:pt x="73321" y="0"/>
                </a:cubicBezTo>
                <a:cubicBezTo>
                  <a:pt x="113614" y="0"/>
                  <a:pt x="113614" y="0"/>
                  <a:pt x="113614" y="0"/>
                </a:cubicBezTo>
                <a:cubicBezTo>
                  <a:pt x="118238" y="0"/>
                  <a:pt x="119779" y="3082"/>
                  <a:pt x="119779" y="6165"/>
                </a:cubicBezTo>
                <a:cubicBezTo>
                  <a:pt x="119779" y="48220"/>
                  <a:pt x="119779" y="48220"/>
                  <a:pt x="119779" y="48220"/>
                </a:cubicBezTo>
                <a:cubicBezTo>
                  <a:pt x="119779" y="51302"/>
                  <a:pt x="118238" y="54385"/>
                  <a:pt x="113614" y="54385"/>
                </a:cubicBezTo>
                <a:close/>
                <a:moveTo>
                  <a:pt x="107449" y="12550"/>
                </a:moveTo>
                <a:lnTo>
                  <a:pt x="107449" y="12550"/>
                </a:lnTo>
                <a:cubicBezTo>
                  <a:pt x="79486" y="12550"/>
                  <a:pt x="79486" y="12550"/>
                  <a:pt x="79486" y="12550"/>
                </a:cubicBezTo>
                <a:cubicBezTo>
                  <a:pt x="79486" y="42055"/>
                  <a:pt x="79486" y="42055"/>
                  <a:pt x="79486" y="42055"/>
                </a:cubicBezTo>
                <a:cubicBezTo>
                  <a:pt x="107449" y="42055"/>
                  <a:pt x="107449" y="42055"/>
                  <a:pt x="107449" y="42055"/>
                </a:cubicBezTo>
                <a:lnTo>
                  <a:pt x="107449" y="12550"/>
                </a:lnTo>
                <a:close/>
                <a:moveTo>
                  <a:pt x="48220" y="119779"/>
                </a:moveTo>
                <a:lnTo>
                  <a:pt x="48220" y="119779"/>
                </a:lnTo>
                <a:cubicBezTo>
                  <a:pt x="6385" y="119779"/>
                  <a:pt x="6385" y="119779"/>
                  <a:pt x="6385" y="119779"/>
                </a:cubicBezTo>
                <a:cubicBezTo>
                  <a:pt x="3082" y="119779"/>
                  <a:pt x="0" y="118238"/>
                  <a:pt x="0" y="113614"/>
                </a:cubicBezTo>
                <a:cubicBezTo>
                  <a:pt x="0" y="73100"/>
                  <a:pt x="0" y="73100"/>
                  <a:pt x="0" y="73100"/>
                </a:cubicBezTo>
                <a:cubicBezTo>
                  <a:pt x="0" y="68477"/>
                  <a:pt x="3082" y="66935"/>
                  <a:pt x="6385" y="66935"/>
                </a:cubicBezTo>
                <a:cubicBezTo>
                  <a:pt x="48220" y="66935"/>
                  <a:pt x="48220" y="66935"/>
                  <a:pt x="48220" y="66935"/>
                </a:cubicBezTo>
                <a:cubicBezTo>
                  <a:pt x="51302" y="66935"/>
                  <a:pt x="54605" y="68477"/>
                  <a:pt x="54605" y="73100"/>
                </a:cubicBezTo>
                <a:cubicBezTo>
                  <a:pt x="54605" y="113614"/>
                  <a:pt x="54605" y="113614"/>
                  <a:pt x="54605" y="113614"/>
                </a:cubicBezTo>
                <a:cubicBezTo>
                  <a:pt x="54605" y="118238"/>
                  <a:pt x="51302" y="119779"/>
                  <a:pt x="48220" y="119779"/>
                </a:cubicBezTo>
                <a:close/>
                <a:moveTo>
                  <a:pt x="42055" y="79486"/>
                </a:moveTo>
                <a:lnTo>
                  <a:pt x="42055" y="79486"/>
                </a:lnTo>
                <a:cubicBezTo>
                  <a:pt x="12550" y="79486"/>
                  <a:pt x="12550" y="79486"/>
                  <a:pt x="12550" y="79486"/>
                </a:cubicBezTo>
                <a:cubicBezTo>
                  <a:pt x="12550" y="107449"/>
                  <a:pt x="12550" y="107449"/>
                  <a:pt x="12550" y="107449"/>
                </a:cubicBezTo>
                <a:cubicBezTo>
                  <a:pt x="42055" y="107449"/>
                  <a:pt x="42055" y="107449"/>
                  <a:pt x="42055" y="107449"/>
                </a:cubicBezTo>
                <a:lnTo>
                  <a:pt x="42055" y="79486"/>
                </a:lnTo>
                <a:close/>
                <a:moveTo>
                  <a:pt x="48220" y="54385"/>
                </a:moveTo>
                <a:lnTo>
                  <a:pt x="48220" y="54385"/>
                </a:lnTo>
                <a:cubicBezTo>
                  <a:pt x="6385" y="54385"/>
                  <a:pt x="6385" y="54385"/>
                  <a:pt x="6385" y="54385"/>
                </a:cubicBezTo>
                <a:cubicBezTo>
                  <a:pt x="3082" y="54385"/>
                  <a:pt x="0" y="51302"/>
                  <a:pt x="0" y="48220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082" y="0"/>
                  <a:pt x="6385" y="0"/>
                </a:cubicBezTo>
                <a:cubicBezTo>
                  <a:pt x="48220" y="0"/>
                  <a:pt x="48220" y="0"/>
                  <a:pt x="48220" y="0"/>
                </a:cubicBezTo>
                <a:cubicBezTo>
                  <a:pt x="51302" y="0"/>
                  <a:pt x="54605" y="3082"/>
                  <a:pt x="54605" y="6165"/>
                </a:cubicBezTo>
                <a:cubicBezTo>
                  <a:pt x="54605" y="48220"/>
                  <a:pt x="54605" y="48220"/>
                  <a:pt x="54605" y="48220"/>
                </a:cubicBezTo>
                <a:cubicBezTo>
                  <a:pt x="54605" y="51302"/>
                  <a:pt x="51302" y="54385"/>
                  <a:pt x="48220" y="54385"/>
                </a:cubicBezTo>
                <a:close/>
                <a:moveTo>
                  <a:pt x="42055" y="12550"/>
                </a:moveTo>
                <a:lnTo>
                  <a:pt x="42055" y="12550"/>
                </a:lnTo>
                <a:cubicBezTo>
                  <a:pt x="12550" y="12550"/>
                  <a:pt x="12550" y="12550"/>
                  <a:pt x="12550" y="12550"/>
                </a:cubicBezTo>
                <a:cubicBezTo>
                  <a:pt x="12550" y="42055"/>
                  <a:pt x="12550" y="42055"/>
                  <a:pt x="12550" y="42055"/>
                </a:cubicBezTo>
                <a:cubicBezTo>
                  <a:pt x="42055" y="42055"/>
                  <a:pt x="42055" y="42055"/>
                  <a:pt x="42055" y="42055"/>
                </a:cubicBezTo>
                <a:lnTo>
                  <a:pt x="42055" y="1255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Shape 4943"/>
          <p:cNvSpPr/>
          <p:nvPr/>
        </p:nvSpPr>
        <p:spPr>
          <a:xfrm>
            <a:off x="7182000" y="3591000"/>
            <a:ext cx="233280" cy="284040"/>
          </a:xfrm>
          <a:custGeom>
            <a:avLst/>
            <a:gdLst>
              <a:gd name="textAreaLeft" fmla="*/ 0 w 233280"/>
              <a:gd name="textAreaRight" fmla="*/ 233640 w 2332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12868" y="119800"/>
                </a:moveTo>
                <a:lnTo>
                  <a:pt x="112868" y="119800"/>
                </a:lnTo>
                <a:cubicBezTo>
                  <a:pt x="6885" y="119800"/>
                  <a:pt x="6885" y="119800"/>
                  <a:pt x="6885" y="119800"/>
                </a:cubicBezTo>
                <a:cubicBezTo>
                  <a:pt x="1721" y="119800"/>
                  <a:pt x="0" y="117004"/>
                  <a:pt x="0" y="114209"/>
                </a:cubicBezTo>
                <a:cubicBezTo>
                  <a:pt x="0" y="64891"/>
                  <a:pt x="0" y="64891"/>
                  <a:pt x="0" y="64891"/>
                </a:cubicBezTo>
                <a:cubicBezTo>
                  <a:pt x="0" y="62096"/>
                  <a:pt x="1721" y="59101"/>
                  <a:pt x="6885" y="59101"/>
                </a:cubicBezTo>
                <a:cubicBezTo>
                  <a:pt x="17213" y="59101"/>
                  <a:pt x="17213" y="59101"/>
                  <a:pt x="17213" y="59101"/>
                </a:cubicBezTo>
                <a:cubicBezTo>
                  <a:pt x="17213" y="33743"/>
                  <a:pt x="17213" y="33743"/>
                  <a:pt x="17213" y="33743"/>
                </a:cubicBezTo>
                <a:cubicBezTo>
                  <a:pt x="17213" y="13976"/>
                  <a:pt x="36393" y="0"/>
                  <a:pt x="59016" y="0"/>
                </a:cubicBezTo>
                <a:cubicBezTo>
                  <a:pt x="83360" y="0"/>
                  <a:pt x="100573" y="13976"/>
                  <a:pt x="100573" y="33743"/>
                </a:cubicBezTo>
                <a:cubicBezTo>
                  <a:pt x="100573" y="36539"/>
                  <a:pt x="98852" y="39534"/>
                  <a:pt x="93688" y="39534"/>
                </a:cubicBezTo>
                <a:cubicBezTo>
                  <a:pt x="90245" y="39534"/>
                  <a:pt x="86803" y="36539"/>
                  <a:pt x="86803" y="33743"/>
                </a:cubicBezTo>
                <a:cubicBezTo>
                  <a:pt x="86803" y="21164"/>
                  <a:pt x="74754" y="11181"/>
                  <a:pt x="59016" y="11181"/>
                </a:cubicBezTo>
                <a:cubicBezTo>
                  <a:pt x="43278" y="11181"/>
                  <a:pt x="31229" y="21164"/>
                  <a:pt x="31229" y="33743"/>
                </a:cubicBezTo>
                <a:cubicBezTo>
                  <a:pt x="31229" y="59101"/>
                  <a:pt x="31229" y="59101"/>
                  <a:pt x="31229" y="59101"/>
                </a:cubicBezTo>
                <a:cubicBezTo>
                  <a:pt x="86803" y="59101"/>
                  <a:pt x="86803" y="59101"/>
                  <a:pt x="86803" y="59101"/>
                </a:cubicBezTo>
                <a:cubicBezTo>
                  <a:pt x="100573" y="59101"/>
                  <a:pt x="100573" y="59101"/>
                  <a:pt x="100573" y="59101"/>
                </a:cubicBezTo>
                <a:cubicBezTo>
                  <a:pt x="112868" y="59101"/>
                  <a:pt x="112868" y="59101"/>
                  <a:pt x="112868" y="59101"/>
                </a:cubicBezTo>
                <a:cubicBezTo>
                  <a:pt x="116311" y="59101"/>
                  <a:pt x="119754" y="62096"/>
                  <a:pt x="119754" y="64891"/>
                </a:cubicBezTo>
                <a:cubicBezTo>
                  <a:pt x="119754" y="114209"/>
                  <a:pt x="119754" y="114209"/>
                  <a:pt x="119754" y="114209"/>
                </a:cubicBezTo>
                <a:cubicBezTo>
                  <a:pt x="119754" y="117004"/>
                  <a:pt x="116311" y="119800"/>
                  <a:pt x="112868" y="119800"/>
                </a:cubicBezTo>
                <a:close/>
                <a:moveTo>
                  <a:pt x="59016" y="70482"/>
                </a:moveTo>
                <a:lnTo>
                  <a:pt x="59016" y="70482"/>
                </a:lnTo>
                <a:cubicBezTo>
                  <a:pt x="52131" y="70482"/>
                  <a:pt x="45000" y="76073"/>
                  <a:pt x="45000" y="81863"/>
                </a:cubicBezTo>
                <a:cubicBezTo>
                  <a:pt x="45000" y="86056"/>
                  <a:pt x="48688" y="90249"/>
                  <a:pt x="52131" y="91647"/>
                </a:cubicBezTo>
                <a:cubicBezTo>
                  <a:pt x="52131" y="103028"/>
                  <a:pt x="52131" y="103028"/>
                  <a:pt x="52131" y="103028"/>
                </a:cubicBezTo>
                <a:cubicBezTo>
                  <a:pt x="52131" y="105823"/>
                  <a:pt x="55573" y="108618"/>
                  <a:pt x="59016" y="108618"/>
                </a:cubicBezTo>
                <a:cubicBezTo>
                  <a:pt x="64180" y="108618"/>
                  <a:pt x="65901" y="105823"/>
                  <a:pt x="65901" y="103028"/>
                </a:cubicBezTo>
                <a:cubicBezTo>
                  <a:pt x="65901" y="91647"/>
                  <a:pt x="65901" y="91647"/>
                  <a:pt x="65901" y="91647"/>
                </a:cubicBezTo>
                <a:cubicBezTo>
                  <a:pt x="71065" y="90249"/>
                  <a:pt x="72786" y="86056"/>
                  <a:pt x="72786" y="81863"/>
                </a:cubicBezTo>
                <a:cubicBezTo>
                  <a:pt x="72786" y="76073"/>
                  <a:pt x="67622" y="70482"/>
                  <a:pt x="59016" y="7048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Shape 4944"/>
          <p:cNvSpPr/>
          <p:nvPr/>
        </p:nvSpPr>
        <p:spPr>
          <a:xfrm>
            <a:off x="6688080" y="3591000"/>
            <a:ext cx="231840" cy="284040"/>
          </a:xfrm>
          <a:custGeom>
            <a:avLst/>
            <a:gdLst>
              <a:gd name="textAreaLeft" fmla="*/ 0 w 231840"/>
              <a:gd name="textAreaRight" fmla="*/ 232200 w 2318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12868" y="119800"/>
                </a:moveTo>
                <a:lnTo>
                  <a:pt x="112868" y="119800"/>
                </a:lnTo>
                <a:cubicBezTo>
                  <a:pt x="6885" y="119800"/>
                  <a:pt x="6885" y="119800"/>
                  <a:pt x="6885" y="119800"/>
                </a:cubicBezTo>
                <a:cubicBezTo>
                  <a:pt x="1721" y="119800"/>
                  <a:pt x="0" y="117004"/>
                  <a:pt x="0" y="114209"/>
                </a:cubicBezTo>
                <a:cubicBezTo>
                  <a:pt x="0" y="64891"/>
                  <a:pt x="0" y="64891"/>
                  <a:pt x="0" y="64891"/>
                </a:cubicBezTo>
                <a:cubicBezTo>
                  <a:pt x="0" y="62096"/>
                  <a:pt x="1721" y="59101"/>
                  <a:pt x="6885" y="59101"/>
                </a:cubicBezTo>
                <a:cubicBezTo>
                  <a:pt x="17213" y="59101"/>
                  <a:pt x="17213" y="59101"/>
                  <a:pt x="17213" y="59101"/>
                </a:cubicBezTo>
                <a:cubicBezTo>
                  <a:pt x="17213" y="33743"/>
                  <a:pt x="17213" y="33743"/>
                  <a:pt x="17213" y="33743"/>
                </a:cubicBezTo>
                <a:cubicBezTo>
                  <a:pt x="17213" y="13976"/>
                  <a:pt x="36393" y="0"/>
                  <a:pt x="59016" y="0"/>
                </a:cubicBezTo>
                <a:cubicBezTo>
                  <a:pt x="83360" y="0"/>
                  <a:pt x="100573" y="13976"/>
                  <a:pt x="100573" y="33743"/>
                </a:cubicBezTo>
                <a:cubicBezTo>
                  <a:pt x="100573" y="59101"/>
                  <a:pt x="100573" y="59101"/>
                  <a:pt x="100573" y="59101"/>
                </a:cubicBezTo>
                <a:cubicBezTo>
                  <a:pt x="112868" y="59101"/>
                  <a:pt x="112868" y="59101"/>
                  <a:pt x="112868" y="59101"/>
                </a:cubicBezTo>
                <a:cubicBezTo>
                  <a:pt x="116311" y="59101"/>
                  <a:pt x="119754" y="62096"/>
                  <a:pt x="119754" y="64891"/>
                </a:cubicBezTo>
                <a:cubicBezTo>
                  <a:pt x="119754" y="114209"/>
                  <a:pt x="119754" y="114209"/>
                  <a:pt x="119754" y="114209"/>
                </a:cubicBezTo>
                <a:cubicBezTo>
                  <a:pt x="119754" y="117004"/>
                  <a:pt x="116311" y="119800"/>
                  <a:pt x="112868" y="119800"/>
                </a:cubicBezTo>
                <a:close/>
                <a:moveTo>
                  <a:pt x="52131" y="91647"/>
                </a:moveTo>
                <a:lnTo>
                  <a:pt x="52131" y="91647"/>
                </a:lnTo>
                <a:cubicBezTo>
                  <a:pt x="52131" y="103028"/>
                  <a:pt x="52131" y="103028"/>
                  <a:pt x="52131" y="103028"/>
                </a:cubicBezTo>
                <a:cubicBezTo>
                  <a:pt x="52131" y="105823"/>
                  <a:pt x="55573" y="108618"/>
                  <a:pt x="59016" y="108618"/>
                </a:cubicBezTo>
                <a:cubicBezTo>
                  <a:pt x="64180" y="108618"/>
                  <a:pt x="65901" y="105823"/>
                  <a:pt x="65901" y="103028"/>
                </a:cubicBezTo>
                <a:cubicBezTo>
                  <a:pt x="65901" y="91647"/>
                  <a:pt x="65901" y="91647"/>
                  <a:pt x="65901" y="91647"/>
                </a:cubicBezTo>
                <a:cubicBezTo>
                  <a:pt x="71065" y="90249"/>
                  <a:pt x="72786" y="86056"/>
                  <a:pt x="72786" y="81863"/>
                </a:cubicBezTo>
                <a:cubicBezTo>
                  <a:pt x="72786" y="76073"/>
                  <a:pt x="67622" y="70482"/>
                  <a:pt x="59016" y="70482"/>
                </a:cubicBezTo>
                <a:cubicBezTo>
                  <a:pt x="52131" y="70482"/>
                  <a:pt x="45000" y="76073"/>
                  <a:pt x="45000" y="81863"/>
                </a:cubicBezTo>
                <a:cubicBezTo>
                  <a:pt x="45000" y="86056"/>
                  <a:pt x="48688" y="90249"/>
                  <a:pt x="52131" y="91647"/>
                </a:cubicBezTo>
                <a:close/>
                <a:moveTo>
                  <a:pt x="86803" y="33743"/>
                </a:moveTo>
                <a:lnTo>
                  <a:pt x="86803" y="33743"/>
                </a:lnTo>
                <a:cubicBezTo>
                  <a:pt x="86803" y="21164"/>
                  <a:pt x="74754" y="11181"/>
                  <a:pt x="59016" y="11181"/>
                </a:cubicBezTo>
                <a:cubicBezTo>
                  <a:pt x="43278" y="11181"/>
                  <a:pt x="31229" y="21164"/>
                  <a:pt x="31229" y="33743"/>
                </a:cubicBezTo>
                <a:cubicBezTo>
                  <a:pt x="31229" y="59101"/>
                  <a:pt x="31229" y="59101"/>
                  <a:pt x="31229" y="59101"/>
                </a:cubicBezTo>
                <a:cubicBezTo>
                  <a:pt x="86803" y="59101"/>
                  <a:pt x="86803" y="59101"/>
                  <a:pt x="86803" y="59101"/>
                </a:cubicBezTo>
                <a:lnTo>
                  <a:pt x="86803" y="33743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Shape 4945"/>
          <p:cNvSpPr/>
          <p:nvPr/>
        </p:nvSpPr>
        <p:spPr>
          <a:xfrm>
            <a:off x="6154560" y="3591000"/>
            <a:ext cx="285840" cy="244440"/>
          </a:xfrm>
          <a:custGeom>
            <a:avLst/>
            <a:gdLst>
              <a:gd name="textAreaLeft" fmla="*/ 0 w 285840"/>
              <a:gd name="textAreaRight" fmla="*/ 286200 w 2858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7"/>
                </a:moveTo>
                <a:lnTo>
                  <a:pt x="114019" y="119767"/>
                </a:lnTo>
                <a:cubicBezTo>
                  <a:pt x="5581" y="119767"/>
                  <a:pt x="5581" y="119767"/>
                  <a:pt x="5581" y="119767"/>
                </a:cubicBezTo>
                <a:cubicBezTo>
                  <a:pt x="2790" y="119767"/>
                  <a:pt x="0" y="116518"/>
                  <a:pt x="0" y="113036"/>
                </a:cubicBezTo>
                <a:cubicBezTo>
                  <a:pt x="0" y="72185"/>
                  <a:pt x="0" y="72185"/>
                  <a:pt x="0" y="72185"/>
                </a:cubicBezTo>
                <a:lnTo>
                  <a:pt x="0" y="72185"/>
                </a:lnTo>
                <a:cubicBezTo>
                  <a:pt x="0" y="70560"/>
                  <a:pt x="0" y="70560"/>
                  <a:pt x="0" y="68704"/>
                </a:cubicBezTo>
                <a:cubicBezTo>
                  <a:pt x="15548" y="22978"/>
                  <a:pt x="15548" y="22978"/>
                  <a:pt x="15548" y="22978"/>
                </a:cubicBezTo>
                <a:cubicBezTo>
                  <a:pt x="15548" y="21353"/>
                  <a:pt x="18338" y="19729"/>
                  <a:pt x="21129" y="19729"/>
                </a:cubicBezTo>
                <a:lnTo>
                  <a:pt x="21129" y="19729"/>
                </a:lnTo>
                <a:cubicBezTo>
                  <a:pt x="29501" y="19729"/>
                  <a:pt x="29501" y="19729"/>
                  <a:pt x="29501" y="19729"/>
                </a:cubicBezTo>
                <a:lnTo>
                  <a:pt x="29501" y="19729"/>
                </a:lnTo>
                <a:cubicBezTo>
                  <a:pt x="35083" y="19729"/>
                  <a:pt x="35083" y="19729"/>
                  <a:pt x="35083" y="19729"/>
                </a:cubicBezTo>
                <a:lnTo>
                  <a:pt x="35083" y="21353"/>
                </a:lnTo>
                <a:cubicBezTo>
                  <a:pt x="35083" y="26228"/>
                  <a:pt x="38073" y="29477"/>
                  <a:pt x="40863" y="32727"/>
                </a:cubicBezTo>
                <a:cubicBezTo>
                  <a:pt x="29501" y="32727"/>
                  <a:pt x="29501" y="32727"/>
                  <a:pt x="29501" y="32727"/>
                </a:cubicBezTo>
                <a:lnTo>
                  <a:pt x="29501" y="32727"/>
                </a:lnTo>
                <a:cubicBezTo>
                  <a:pt x="23920" y="32727"/>
                  <a:pt x="23920" y="32727"/>
                  <a:pt x="23920" y="32727"/>
                </a:cubicBezTo>
                <a:cubicBezTo>
                  <a:pt x="14152" y="65454"/>
                  <a:pt x="14152" y="65454"/>
                  <a:pt x="14152" y="65454"/>
                </a:cubicBezTo>
                <a:cubicBezTo>
                  <a:pt x="28106" y="65454"/>
                  <a:pt x="28106" y="65454"/>
                  <a:pt x="28106" y="65454"/>
                </a:cubicBezTo>
                <a:lnTo>
                  <a:pt x="28106" y="65454"/>
                </a:lnTo>
                <a:cubicBezTo>
                  <a:pt x="32292" y="65454"/>
                  <a:pt x="32292" y="65454"/>
                  <a:pt x="32292" y="65454"/>
                </a:cubicBezTo>
                <a:cubicBezTo>
                  <a:pt x="35083" y="65454"/>
                  <a:pt x="38073" y="67079"/>
                  <a:pt x="38073" y="72185"/>
                </a:cubicBezTo>
                <a:cubicBezTo>
                  <a:pt x="38073" y="78684"/>
                  <a:pt x="38073" y="78684"/>
                  <a:pt x="38073" y="78684"/>
                </a:cubicBezTo>
                <a:cubicBezTo>
                  <a:pt x="83122" y="78684"/>
                  <a:pt x="83122" y="78684"/>
                  <a:pt x="83122" y="78684"/>
                </a:cubicBezTo>
                <a:cubicBezTo>
                  <a:pt x="83122" y="72185"/>
                  <a:pt x="83122" y="72185"/>
                  <a:pt x="83122" y="72185"/>
                </a:cubicBezTo>
                <a:cubicBezTo>
                  <a:pt x="83122" y="67079"/>
                  <a:pt x="84518" y="65454"/>
                  <a:pt x="88704" y="65454"/>
                </a:cubicBezTo>
                <a:cubicBezTo>
                  <a:pt x="94285" y="65454"/>
                  <a:pt x="94285" y="65454"/>
                  <a:pt x="94285" y="65454"/>
                </a:cubicBezTo>
                <a:lnTo>
                  <a:pt x="94285" y="65454"/>
                </a:lnTo>
                <a:cubicBezTo>
                  <a:pt x="107043" y="65454"/>
                  <a:pt x="107043" y="65454"/>
                  <a:pt x="107043" y="65454"/>
                </a:cubicBezTo>
                <a:cubicBezTo>
                  <a:pt x="95681" y="32727"/>
                  <a:pt x="95681" y="32727"/>
                  <a:pt x="95681" y="32727"/>
                </a:cubicBezTo>
                <a:cubicBezTo>
                  <a:pt x="90099" y="32727"/>
                  <a:pt x="90099" y="32727"/>
                  <a:pt x="90099" y="32727"/>
                </a:cubicBezTo>
                <a:lnTo>
                  <a:pt x="90099" y="32727"/>
                </a:lnTo>
                <a:cubicBezTo>
                  <a:pt x="78936" y="32727"/>
                  <a:pt x="78936" y="32727"/>
                  <a:pt x="78936" y="32727"/>
                </a:cubicBezTo>
                <a:cubicBezTo>
                  <a:pt x="83122" y="29477"/>
                  <a:pt x="84518" y="26228"/>
                  <a:pt x="84518" y="21353"/>
                </a:cubicBezTo>
                <a:lnTo>
                  <a:pt x="84518" y="19729"/>
                </a:lnTo>
                <a:cubicBezTo>
                  <a:pt x="90099" y="19729"/>
                  <a:pt x="90099" y="19729"/>
                  <a:pt x="90099" y="19729"/>
                </a:cubicBezTo>
                <a:lnTo>
                  <a:pt x="90099" y="19729"/>
                </a:lnTo>
                <a:cubicBezTo>
                  <a:pt x="100066" y="19729"/>
                  <a:pt x="100066" y="19729"/>
                  <a:pt x="100066" y="19729"/>
                </a:cubicBezTo>
                <a:lnTo>
                  <a:pt x="100066" y="19729"/>
                </a:lnTo>
                <a:cubicBezTo>
                  <a:pt x="101461" y="19729"/>
                  <a:pt x="104252" y="21353"/>
                  <a:pt x="104252" y="22978"/>
                </a:cubicBezTo>
                <a:cubicBezTo>
                  <a:pt x="119800" y="68704"/>
                  <a:pt x="119800" y="68704"/>
                  <a:pt x="119800" y="68704"/>
                </a:cubicBezTo>
                <a:cubicBezTo>
                  <a:pt x="119800" y="70560"/>
                  <a:pt x="119800" y="70560"/>
                  <a:pt x="119800" y="72185"/>
                </a:cubicBezTo>
                <a:lnTo>
                  <a:pt x="119800" y="72185"/>
                </a:lnTo>
                <a:lnTo>
                  <a:pt x="119800" y="72185"/>
                </a:lnTo>
                <a:cubicBezTo>
                  <a:pt x="119800" y="113036"/>
                  <a:pt x="119800" y="113036"/>
                  <a:pt x="119800" y="113036"/>
                </a:cubicBezTo>
                <a:cubicBezTo>
                  <a:pt x="119800" y="116518"/>
                  <a:pt x="118405" y="119767"/>
                  <a:pt x="114019" y="119767"/>
                </a:cubicBezTo>
                <a:close/>
                <a:moveTo>
                  <a:pt x="73156" y="27852"/>
                </a:moveTo>
                <a:lnTo>
                  <a:pt x="73156" y="27852"/>
                </a:lnTo>
                <a:cubicBezTo>
                  <a:pt x="71760" y="27852"/>
                  <a:pt x="70365" y="27852"/>
                  <a:pt x="68970" y="26228"/>
                </a:cubicBezTo>
                <a:cubicBezTo>
                  <a:pt x="66179" y="21353"/>
                  <a:pt x="66179" y="21353"/>
                  <a:pt x="66179" y="21353"/>
                </a:cubicBezTo>
                <a:cubicBezTo>
                  <a:pt x="66179" y="47582"/>
                  <a:pt x="66179" y="47582"/>
                  <a:pt x="66179" y="47582"/>
                </a:cubicBezTo>
                <a:cubicBezTo>
                  <a:pt x="66179" y="62205"/>
                  <a:pt x="66179" y="62205"/>
                  <a:pt x="66179" y="62205"/>
                </a:cubicBezTo>
                <a:cubicBezTo>
                  <a:pt x="66179" y="67079"/>
                  <a:pt x="63388" y="68704"/>
                  <a:pt x="60598" y="68704"/>
                </a:cubicBezTo>
                <a:cubicBezTo>
                  <a:pt x="56411" y="68704"/>
                  <a:pt x="55016" y="67079"/>
                  <a:pt x="55016" y="62205"/>
                </a:cubicBezTo>
                <a:cubicBezTo>
                  <a:pt x="55016" y="52456"/>
                  <a:pt x="55016" y="52456"/>
                  <a:pt x="55016" y="52456"/>
                </a:cubicBezTo>
                <a:lnTo>
                  <a:pt x="55016" y="52456"/>
                </a:lnTo>
                <a:cubicBezTo>
                  <a:pt x="55016" y="21353"/>
                  <a:pt x="55016" y="21353"/>
                  <a:pt x="55016" y="21353"/>
                </a:cubicBezTo>
                <a:cubicBezTo>
                  <a:pt x="50631" y="26228"/>
                  <a:pt x="50631" y="26228"/>
                  <a:pt x="50631" y="26228"/>
                </a:cubicBezTo>
                <a:cubicBezTo>
                  <a:pt x="49235" y="27852"/>
                  <a:pt x="47840" y="27852"/>
                  <a:pt x="46445" y="27852"/>
                </a:cubicBezTo>
                <a:cubicBezTo>
                  <a:pt x="43654" y="27852"/>
                  <a:pt x="40863" y="24603"/>
                  <a:pt x="40863" y="21353"/>
                </a:cubicBezTo>
                <a:cubicBezTo>
                  <a:pt x="40863" y="19729"/>
                  <a:pt x="42259" y="18104"/>
                  <a:pt x="43654" y="16247"/>
                </a:cubicBezTo>
                <a:cubicBezTo>
                  <a:pt x="56411" y="1624"/>
                  <a:pt x="56411" y="1624"/>
                  <a:pt x="56411" y="1624"/>
                </a:cubicBezTo>
                <a:cubicBezTo>
                  <a:pt x="57807" y="0"/>
                  <a:pt x="59202" y="0"/>
                  <a:pt x="60598" y="0"/>
                </a:cubicBezTo>
                <a:cubicBezTo>
                  <a:pt x="61993" y="0"/>
                  <a:pt x="63388" y="0"/>
                  <a:pt x="63388" y="1624"/>
                </a:cubicBezTo>
                <a:cubicBezTo>
                  <a:pt x="77541" y="16247"/>
                  <a:pt x="77541" y="16247"/>
                  <a:pt x="77541" y="16247"/>
                </a:cubicBezTo>
                <a:cubicBezTo>
                  <a:pt x="78936" y="18104"/>
                  <a:pt x="78936" y="19729"/>
                  <a:pt x="78936" y="21353"/>
                </a:cubicBezTo>
                <a:cubicBezTo>
                  <a:pt x="78936" y="24603"/>
                  <a:pt x="76146" y="27852"/>
                  <a:pt x="73156" y="2785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Shape 4946"/>
          <p:cNvSpPr/>
          <p:nvPr/>
        </p:nvSpPr>
        <p:spPr>
          <a:xfrm>
            <a:off x="5654520" y="3591000"/>
            <a:ext cx="284400" cy="244440"/>
          </a:xfrm>
          <a:custGeom>
            <a:avLst/>
            <a:gdLst>
              <a:gd name="textAreaLeft" fmla="*/ 0 w 284400"/>
              <a:gd name="textAreaRight" fmla="*/ 284760 w 284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767"/>
                </a:moveTo>
                <a:lnTo>
                  <a:pt x="114209" y="119767"/>
                </a:lnTo>
                <a:cubicBezTo>
                  <a:pt x="5590" y="119767"/>
                  <a:pt x="5590" y="119767"/>
                  <a:pt x="5590" y="119767"/>
                </a:cubicBezTo>
                <a:cubicBezTo>
                  <a:pt x="1397" y="119767"/>
                  <a:pt x="0" y="116518"/>
                  <a:pt x="0" y="113036"/>
                </a:cubicBezTo>
                <a:cubicBezTo>
                  <a:pt x="0" y="72185"/>
                  <a:pt x="0" y="72185"/>
                  <a:pt x="0" y="72185"/>
                </a:cubicBezTo>
                <a:lnTo>
                  <a:pt x="0" y="72185"/>
                </a:lnTo>
                <a:cubicBezTo>
                  <a:pt x="0" y="70560"/>
                  <a:pt x="0" y="70560"/>
                  <a:pt x="0" y="68704"/>
                </a:cubicBezTo>
                <a:cubicBezTo>
                  <a:pt x="15574" y="22978"/>
                  <a:pt x="15574" y="22978"/>
                  <a:pt x="15574" y="22978"/>
                </a:cubicBezTo>
                <a:cubicBezTo>
                  <a:pt x="15574" y="21353"/>
                  <a:pt x="18369" y="19729"/>
                  <a:pt x="19767" y="19729"/>
                </a:cubicBezTo>
                <a:lnTo>
                  <a:pt x="19767" y="19729"/>
                </a:lnTo>
                <a:cubicBezTo>
                  <a:pt x="29550" y="19729"/>
                  <a:pt x="29550" y="19729"/>
                  <a:pt x="29550" y="19729"/>
                </a:cubicBezTo>
                <a:lnTo>
                  <a:pt x="29550" y="19729"/>
                </a:lnTo>
                <a:cubicBezTo>
                  <a:pt x="47920" y="19729"/>
                  <a:pt x="47920" y="19729"/>
                  <a:pt x="47920" y="19729"/>
                </a:cubicBezTo>
                <a:cubicBezTo>
                  <a:pt x="47920" y="22978"/>
                  <a:pt x="47920" y="22978"/>
                  <a:pt x="47920" y="22978"/>
                </a:cubicBezTo>
                <a:cubicBezTo>
                  <a:pt x="47920" y="32727"/>
                  <a:pt x="47920" y="32727"/>
                  <a:pt x="47920" y="32727"/>
                </a:cubicBezTo>
                <a:cubicBezTo>
                  <a:pt x="29550" y="32727"/>
                  <a:pt x="29550" y="32727"/>
                  <a:pt x="29550" y="32727"/>
                </a:cubicBezTo>
                <a:lnTo>
                  <a:pt x="29550" y="32727"/>
                </a:lnTo>
                <a:cubicBezTo>
                  <a:pt x="23960" y="32727"/>
                  <a:pt x="23960" y="32727"/>
                  <a:pt x="23960" y="32727"/>
                </a:cubicBezTo>
                <a:cubicBezTo>
                  <a:pt x="12579" y="65454"/>
                  <a:pt x="12579" y="65454"/>
                  <a:pt x="12579" y="65454"/>
                </a:cubicBezTo>
                <a:cubicBezTo>
                  <a:pt x="25357" y="65454"/>
                  <a:pt x="25357" y="65454"/>
                  <a:pt x="25357" y="65454"/>
                </a:cubicBezTo>
                <a:lnTo>
                  <a:pt x="25357" y="65454"/>
                </a:lnTo>
                <a:cubicBezTo>
                  <a:pt x="30948" y="65454"/>
                  <a:pt x="30948" y="65454"/>
                  <a:pt x="30948" y="65454"/>
                </a:cubicBezTo>
                <a:cubicBezTo>
                  <a:pt x="35141" y="65454"/>
                  <a:pt x="36539" y="67079"/>
                  <a:pt x="36539" y="72185"/>
                </a:cubicBezTo>
                <a:cubicBezTo>
                  <a:pt x="36539" y="78684"/>
                  <a:pt x="36539" y="78684"/>
                  <a:pt x="36539" y="78684"/>
                </a:cubicBezTo>
                <a:cubicBezTo>
                  <a:pt x="81863" y="78684"/>
                  <a:pt x="81863" y="78684"/>
                  <a:pt x="81863" y="78684"/>
                </a:cubicBezTo>
                <a:cubicBezTo>
                  <a:pt x="81863" y="72185"/>
                  <a:pt x="81863" y="72185"/>
                  <a:pt x="81863" y="72185"/>
                </a:cubicBezTo>
                <a:cubicBezTo>
                  <a:pt x="81863" y="67079"/>
                  <a:pt x="84658" y="65454"/>
                  <a:pt x="87454" y="65454"/>
                </a:cubicBezTo>
                <a:cubicBezTo>
                  <a:pt x="93044" y="65454"/>
                  <a:pt x="93044" y="65454"/>
                  <a:pt x="93044" y="65454"/>
                </a:cubicBezTo>
                <a:lnTo>
                  <a:pt x="93044" y="65454"/>
                </a:lnTo>
                <a:cubicBezTo>
                  <a:pt x="105823" y="65454"/>
                  <a:pt x="105823" y="65454"/>
                  <a:pt x="105823" y="65454"/>
                </a:cubicBezTo>
                <a:cubicBezTo>
                  <a:pt x="95840" y="32727"/>
                  <a:pt x="95840" y="32727"/>
                  <a:pt x="95840" y="32727"/>
                </a:cubicBezTo>
                <a:cubicBezTo>
                  <a:pt x="90249" y="32727"/>
                  <a:pt x="90249" y="32727"/>
                  <a:pt x="90249" y="32727"/>
                </a:cubicBezTo>
                <a:lnTo>
                  <a:pt x="90249" y="32727"/>
                </a:lnTo>
                <a:cubicBezTo>
                  <a:pt x="70482" y="32727"/>
                  <a:pt x="70482" y="32727"/>
                  <a:pt x="70482" y="32727"/>
                </a:cubicBezTo>
                <a:cubicBezTo>
                  <a:pt x="70482" y="22978"/>
                  <a:pt x="70482" y="22978"/>
                  <a:pt x="70482" y="22978"/>
                </a:cubicBezTo>
                <a:cubicBezTo>
                  <a:pt x="70482" y="19729"/>
                  <a:pt x="70482" y="19729"/>
                  <a:pt x="70482" y="19729"/>
                </a:cubicBezTo>
                <a:cubicBezTo>
                  <a:pt x="90249" y="19729"/>
                  <a:pt x="90249" y="19729"/>
                  <a:pt x="90249" y="19729"/>
                </a:cubicBezTo>
                <a:lnTo>
                  <a:pt x="90249" y="19729"/>
                </a:lnTo>
                <a:cubicBezTo>
                  <a:pt x="98635" y="19729"/>
                  <a:pt x="98635" y="19729"/>
                  <a:pt x="98635" y="19729"/>
                </a:cubicBezTo>
                <a:lnTo>
                  <a:pt x="98635" y="19729"/>
                </a:lnTo>
                <a:cubicBezTo>
                  <a:pt x="101630" y="19729"/>
                  <a:pt x="104425" y="21353"/>
                  <a:pt x="104425" y="22978"/>
                </a:cubicBezTo>
                <a:cubicBezTo>
                  <a:pt x="119800" y="68704"/>
                  <a:pt x="119800" y="68704"/>
                  <a:pt x="119800" y="68704"/>
                </a:cubicBezTo>
                <a:cubicBezTo>
                  <a:pt x="119800" y="70560"/>
                  <a:pt x="119800" y="70560"/>
                  <a:pt x="119800" y="72185"/>
                </a:cubicBezTo>
                <a:lnTo>
                  <a:pt x="119800" y="72185"/>
                </a:lnTo>
                <a:lnTo>
                  <a:pt x="119800" y="72185"/>
                </a:lnTo>
                <a:cubicBezTo>
                  <a:pt x="119800" y="113036"/>
                  <a:pt x="119800" y="113036"/>
                  <a:pt x="119800" y="113036"/>
                </a:cubicBezTo>
                <a:cubicBezTo>
                  <a:pt x="119800" y="116518"/>
                  <a:pt x="117004" y="119767"/>
                  <a:pt x="114209" y="119767"/>
                </a:cubicBezTo>
                <a:close/>
                <a:moveTo>
                  <a:pt x="79068" y="47582"/>
                </a:moveTo>
                <a:lnTo>
                  <a:pt x="79068" y="47582"/>
                </a:lnTo>
                <a:cubicBezTo>
                  <a:pt x="79068" y="49206"/>
                  <a:pt x="77670" y="50831"/>
                  <a:pt x="76073" y="52456"/>
                </a:cubicBezTo>
                <a:cubicBezTo>
                  <a:pt x="63494" y="67079"/>
                  <a:pt x="63494" y="67079"/>
                  <a:pt x="63494" y="67079"/>
                </a:cubicBezTo>
                <a:cubicBezTo>
                  <a:pt x="62096" y="68704"/>
                  <a:pt x="60698" y="68704"/>
                  <a:pt x="59301" y="68704"/>
                </a:cubicBezTo>
                <a:cubicBezTo>
                  <a:pt x="57903" y="68704"/>
                  <a:pt x="56505" y="68704"/>
                  <a:pt x="56505" y="67079"/>
                </a:cubicBezTo>
                <a:cubicBezTo>
                  <a:pt x="42329" y="52456"/>
                  <a:pt x="42329" y="52456"/>
                  <a:pt x="42329" y="52456"/>
                </a:cubicBezTo>
                <a:cubicBezTo>
                  <a:pt x="40931" y="50831"/>
                  <a:pt x="40931" y="49206"/>
                  <a:pt x="40931" y="47582"/>
                </a:cubicBezTo>
                <a:cubicBezTo>
                  <a:pt x="40931" y="44332"/>
                  <a:pt x="43727" y="40851"/>
                  <a:pt x="46522" y="40851"/>
                </a:cubicBezTo>
                <a:cubicBezTo>
                  <a:pt x="47920" y="40851"/>
                  <a:pt x="49317" y="40851"/>
                  <a:pt x="50715" y="42475"/>
                </a:cubicBezTo>
                <a:cubicBezTo>
                  <a:pt x="53510" y="47582"/>
                  <a:pt x="53510" y="47582"/>
                  <a:pt x="53510" y="47582"/>
                </a:cubicBezTo>
                <a:cubicBezTo>
                  <a:pt x="53510" y="22978"/>
                  <a:pt x="53510" y="22978"/>
                  <a:pt x="53510" y="22978"/>
                </a:cubicBezTo>
                <a:cubicBezTo>
                  <a:pt x="53510" y="16247"/>
                  <a:pt x="53510" y="16247"/>
                  <a:pt x="53510" y="16247"/>
                </a:cubicBezTo>
                <a:cubicBezTo>
                  <a:pt x="53510" y="6499"/>
                  <a:pt x="53510" y="6499"/>
                  <a:pt x="53510" y="6499"/>
                </a:cubicBezTo>
                <a:cubicBezTo>
                  <a:pt x="53510" y="1624"/>
                  <a:pt x="56505" y="0"/>
                  <a:pt x="59301" y="0"/>
                </a:cubicBezTo>
                <a:cubicBezTo>
                  <a:pt x="63494" y="0"/>
                  <a:pt x="64891" y="1624"/>
                  <a:pt x="64891" y="6499"/>
                </a:cubicBezTo>
                <a:cubicBezTo>
                  <a:pt x="64891" y="19729"/>
                  <a:pt x="64891" y="19729"/>
                  <a:pt x="64891" y="19729"/>
                </a:cubicBezTo>
                <a:cubicBezTo>
                  <a:pt x="64891" y="21353"/>
                  <a:pt x="64891" y="21353"/>
                  <a:pt x="64891" y="21353"/>
                </a:cubicBezTo>
                <a:cubicBezTo>
                  <a:pt x="64891" y="47582"/>
                  <a:pt x="64891" y="47582"/>
                  <a:pt x="64891" y="47582"/>
                </a:cubicBezTo>
                <a:cubicBezTo>
                  <a:pt x="69084" y="42475"/>
                  <a:pt x="69084" y="42475"/>
                  <a:pt x="69084" y="42475"/>
                </a:cubicBezTo>
                <a:cubicBezTo>
                  <a:pt x="70482" y="40851"/>
                  <a:pt x="71880" y="40851"/>
                  <a:pt x="73277" y="40851"/>
                </a:cubicBezTo>
                <a:cubicBezTo>
                  <a:pt x="76073" y="40851"/>
                  <a:pt x="79068" y="44332"/>
                  <a:pt x="79068" y="4758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Shape 4947"/>
          <p:cNvSpPr/>
          <p:nvPr/>
        </p:nvSpPr>
        <p:spPr>
          <a:xfrm>
            <a:off x="5151600" y="3630600"/>
            <a:ext cx="288720" cy="204840"/>
          </a:xfrm>
          <a:custGeom>
            <a:avLst/>
            <a:gdLst>
              <a:gd name="textAreaLeft" fmla="*/ 0 w 288720"/>
              <a:gd name="textAreaRight" fmla="*/ 289080 w 2887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20000" h="120000">
                <a:moveTo>
                  <a:pt x="119802" y="111666"/>
                </a:moveTo>
                <a:lnTo>
                  <a:pt x="119802" y="111666"/>
                </a:lnTo>
                <a:cubicBezTo>
                  <a:pt x="119802" y="115833"/>
                  <a:pt x="117039" y="119722"/>
                  <a:pt x="114276" y="119722"/>
                </a:cubicBezTo>
                <a:cubicBezTo>
                  <a:pt x="5526" y="119722"/>
                  <a:pt x="5526" y="119722"/>
                  <a:pt x="5526" y="119722"/>
                </a:cubicBezTo>
                <a:cubicBezTo>
                  <a:pt x="2763" y="119722"/>
                  <a:pt x="0" y="115833"/>
                  <a:pt x="0" y="111666"/>
                </a:cubicBezTo>
                <a:lnTo>
                  <a:pt x="0" y="111666"/>
                </a:lnTo>
                <a:cubicBezTo>
                  <a:pt x="0" y="62777"/>
                  <a:pt x="0" y="62777"/>
                  <a:pt x="0" y="62777"/>
                </a:cubicBezTo>
                <a:lnTo>
                  <a:pt x="0" y="62777"/>
                </a:lnTo>
                <a:lnTo>
                  <a:pt x="0" y="62777"/>
                </a:lnTo>
                <a:cubicBezTo>
                  <a:pt x="0" y="60833"/>
                  <a:pt x="0" y="60833"/>
                  <a:pt x="1381" y="58611"/>
                </a:cubicBezTo>
                <a:lnTo>
                  <a:pt x="1381" y="58611"/>
                </a:lnTo>
                <a:cubicBezTo>
                  <a:pt x="15197" y="3888"/>
                  <a:pt x="15197" y="3888"/>
                  <a:pt x="15197" y="3888"/>
                </a:cubicBezTo>
                <a:lnTo>
                  <a:pt x="15197" y="3888"/>
                </a:lnTo>
                <a:cubicBezTo>
                  <a:pt x="16578" y="1944"/>
                  <a:pt x="18157" y="0"/>
                  <a:pt x="20921" y="0"/>
                </a:cubicBezTo>
                <a:cubicBezTo>
                  <a:pt x="98881" y="0"/>
                  <a:pt x="98881" y="0"/>
                  <a:pt x="98881" y="0"/>
                </a:cubicBezTo>
                <a:cubicBezTo>
                  <a:pt x="101842" y="0"/>
                  <a:pt x="103223" y="1944"/>
                  <a:pt x="104605" y="3888"/>
                </a:cubicBezTo>
                <a:lnTo>
                  <a:pt x="104605" y="3888"/>
                </a:lnTo>
                <a:cubicBezTo>
                  <a:pt x="118421" y="58611"/>
                  <a:pt x="118421" y="58611"/>
                  <a:pt x="118421" y="58611"/>
                </a:cubicBezTo>
                <a:lnTo>
                  <a:pt x="118421" y="58611"/>
                </a:lnTo>
                <a:cubicBezTo>
                  <a:pt x="119802" y="60833"/>
                  <a:pt x="119802" y="60833"/>
                  <a:pt x="119802" y="62777"/>
                </a:cubicBezTo>
                <a:lnTo>
                  <a:pt x="119802" y="62777"/>
                </a:lnTo>
                <a:lnTo>
                  <a:pt x="119802" y="62777"/>
                </a:lnTo>
                <a:cubicBezTo>
                  <a:pt x="119802" y="111666"/>
                  <a:pt x="119802" y="111666"/>
                  <a:pt x="119802" y="111666"/>
                </a:cubicBezTo>
                <a:close/>
                <a:moveTo>
                  <a:pt x="94736" y="15555"/>
                </a:moveTo>
                <a:lnTo>
                  <a:pt x="94736" y="15555"/>
                </a:lnTo>
                <a:cubicBezTo>
                  <a:pt x="25065" y="15555"/>
                  <a:pt x="25065" y="15555"/>
                  <a:pt x="25065" y="15555"/>
                </a:cubicBezTo>
                <a:cubicBezTo>
                  <a:pt x="13815" y="54722"/>
                  <a:pt x="13815" y="54722"/>
                  <a:pt x="13815" y="54722"/>
                </a:cubicBezTo>
                <a:cubicBezTo>
                  <a:pt x="31973" y="54722"/>
                  <a:pt x="31973" y="54722"/>
                  <a:pt x="31973" y="54722"/>
                </a:cubicBezTo>
                <a:cubicBezTo>
                  <a:pt x="34736" y="54722"/>
                  <a:pt x="37500" y="56666"/>
                  <a:pt x="37500" y="62777"/>
                </a:cubicBezTo>
                <a:cubicBezTo>
                  <a:pt x="37500" y="70555"/>
                  <a:pt x="37500" y="70555"/>
                  <a:pt x="37500" y="70555"/>
                </a:cubicBezTo>
                <a:cubicBezTo>
                  <a:pt x="82302" y="70555"/>
                  <a:pt x="82302" y="70555"/>
                  <a:pt x="82302" y="70555"/>
                </a:cubicBezTo>
                <a:cubicBezTo>
                  <a:pt x="82302" y="62777"/>
                  <a:pt x="82302" y="62777"/>
                  <a:pt x="82302" y="62777"/>
                </a:cubicBezTo>
                <a:cubicBezTo>
                  <a:pt x="82302" y="56666"/>
                  <a:pt x="85065" y="54722"/>
                  <a:pt x="87828" y="54722"/>
                </a:cubicBezTo>
                <a:cubicBezTo>
                  <a:pt x="105986" y="54722"/>
                  <a:pt x="105986" y="54722"/>
                  <a:pt x="105986" y="54722"/>
                </a:cubicBezTo>
                <a:lnTo>
                  <a:pt x="94736" y="1555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Shape 4948"/>
          <p:cNvSpPr/>
          <p:nvPr/>
        </p:nvSpPr>
        <p:spPr>
          <a:xfrm>
            <a:off x="4654440" y="3643200"/>
            <a:ext cx="284400" cy="177840"/>
          </a:xfrm>
          <a:custGeom>
            <a:avLst/>
            <a:gdLst>
              <a:gd name="textAreaLeft" fmla="*/ 0 w 284400"/>
              <a:gd name="textAreaRight" fmla="*/ 284760 w 2844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680"/>
                </a:moveTo>
                <a:lnTo>
                  <a:pt x="114209" y="119680"/>
                </a:lnTo>
                <a:cubicBezTo>
                  <a:pt x="111414" y="119680"/>
                  <a:pt x="108618" y="115200"/>
                  <a:pt x="108618" y="110720"/>
                </a:cubicBezTo>
                <a:cubicBezTo>
                  <a:pt x="108618" y="104000"/>
                  <a:pt x="108618" y="104000"/>
                  <a:pt x="108618" y="104000"/>
                </a:cubicBezTo>
                <a:cubicBezTo>
                  <a:pt x="108618" y="74560"/>
                  <a:pt x="108618" y="74560"/>
                  <a:pt x="108618" y="74560"/>
                </a:cubicBezTo>
                <a:cubicBezTo>
                  <a:pt x="108618" y="67840"/>
                  <a:pt x="108618" y="67840"/>
                  <a:pt x="108618" y="67840"/>
                </a:cubicBezTo>
                <a:cubicBezTo>
                  <a:pt x="108618" y="49600"/>
                  <a:pt x="108618" y="49600"/>
                  <a:pt x="108618" y="49600"/>
                </a:cubicBezTo>
                <a:cubicBezTo>
                  <a:pt x="108618" y="45120"/>
                  <a:pt x="108618" y="45120"/>
                  <a:pt x="108618" y="45120"/>
                </a:cubicBezTo>
                <a:cubicBezTo>
                  <a:pt x="108618" y="13440"/>
                  <a:pt x="108618" y="13440"/>
                  <a:pt x="108618" y="13440"/>
                </a:cubicBezTo>
                <a:cubicBezTo>
                  <a:pt x="108618" y="8960"/>
                  <a:pt x="108618" y="8960"/>
                  <a:pt x="108618" y="8960"/>
                </a:cubicBezTo>
                <a:cubicBezTo>
                  <a:pt x="108618" y="2240"/>
                  <a:pt x="111414" y="0"/>
                  <a:pt x="114209" y="0"/>
                </a:cubicBezTo>
                <a:cubicBezTo>
                  <a:pt x="118402" y="0"/>
                  <a:pt x="119800" y="2240"/>
                  <a:pt x="119800" y="8960"/>
                </a:cubicBezTo>
                <a:cubicBezTo>
                  <a:pt x="119800" y="13440"/>
                  <a:pt x="119800" y="13440"/>
                  <a:pt x="119800" y="13440"/>
                </a:cubicBezTo>
                <a:cubicBezTo>
                  <a:pt x="119800" y="45120"/>
                  <a:pt x="119800" y="45120"/>
                  <a:pt x="119800" y="45120"/>
                </a:cubicBezTo>
                <a:cubicBezTo>
                  <a:pt x="119800" y="49600"/>
                  <a:pt x="119800" y="49600"/>
                  <a:pt x="119800" y="49600"/>
                </a:cubicBezTo>
                <a:cubicBezTo>
                  <a:pt x="119800" y="67840"/>
                  <a:pt x="119800" y="67840"/>
                  <a:pt x="119800" y="67840"/>
                </a:cubicBezTo>
                <a:cubicBezTo>
                  <a:pt x="119800" y="74560"/>
                  <a:pt x="119800" y="74560"/>
                  <a:pt x="119800" y="74560"/>
                </a:cubicBezTo>
                <a:cubicBezTo>
                  <a:pt x="119800" y="104000"/>
                  <a:pt x="119800" y="104000"/>
                  <a:pt x="119800" y="104000"/>
                </a:cubicBezTo>
                <a:cubicBezTo>
                  <a:pt x="119800" y="110720"/>
                  <a:pt x="119800" y="110720"/>
                  <a:pt x="119800" y="110720"/>
                </a:cubicBezTo>
                <a:cubicBezTo>
                  <a:pt x="119800" y="115200"/>
                  <a:pt x="118402" y="119680"/>
                  <a:pt x="114209" y="119680"/>
                </a:cubicBezTo>
                <a:close/>
                <a:moveTo>
                  <a:pt x="97237" y="101760"/>
                </a:moveTo>
                <a:lnTo>
                  <a:pt x="97237" y="101760"/>
                </a:lnTo>
                <a:cubicBezTo>
                  <a:pt x="94442" y="101760"/>
                  <a:pt x="91647" y="97280"/>
                  <a:pt x="91647" y="92800"/>
                </a:cubicBezTo>
                <a:cubicBezTo>
                  <a:pt x="91647" y="85760"/>
                  <a:pt x="91647" y="85760"/>
                  <a:pt x="91647" y="85760"/>
                </a:cubicBezTo>
                <a:cubicBezTo>
                  <a:pt x="91647" y="31680"/>
                  <a:pt x="91647" y="31680"/>
                  <a:pt x="91647" y="31680"/>
                </a:cubicBezTo>
                <a:cubicBezTo>
                  <a:pt x="91647" y="27200"/>
                  <a:pt x="91647" y="27200"/>
                  <a:pt x="91647" y="27200"/>
                </a:cubicBezTo>
                <a:cubicBezTo>
                  <a:pt x="91647" y="20160"/>
                  <a:pt x="94442" y="17920"/>
                  <a:pt x="97237" y="17920"/>
                </a:cubicBezTo>
                <a:cubicBezTo>
                  <a:pt x="101430" y="17920"/>
                  <a:pt x="102828" y="20160"/>
                  <a:pt x="102828" y="27200"/>
                </a:cubicBezTo>
                <a:cubicBezTo>
                  <a:pt x="102828" y="31680"/>
                  <a:pt x="102828" y="31680"/>
                  <a:pt x="102828" y="31680"/>
                </a:cubicBezTo>
                <a:cubicBezTo>
                  <a:pt x="102828" y="85760"/>
                  <a:pt x="102828" y="85760"/>
                  <a:pt x="102828" y="85760"/>
                </a:cubicBezTo>
                <a:cubicBezTo>
                  <a:pt x="102828" y="92800"/>
                  <a:pt x="102828" y="92800"/>
                  <a:pt x="102828" y="92800"/>
                </a:cubicBezTo>
                <a:cubicBezTo>
                  <a:pt x="102828" y="97280"/>
                  <a:pt x="101430" y="101760"/>
                  <a:pt x="97237" y="101760"/>
                </a:cubicBezTo>
                <a:close/>
                <a:moveTo>
                  <a:pt x="80266" y="101760"/>
                </a:moveTo>
                <a:lnTo>
                  <a:pt x="80266" y="101760"/>
                </a:lnTo>
                <a:cubicBezTo>
                  <a:pt x="39334" y="101760"/>
                  <a:pt x="39334" y="101760"/>
                  <a:pt x="39334" y="101760"/>
                </a:cubicBezTo>
                <a:cubicBezTo>
                  <a:pt x="36539" y="101760"/>
                  <a:pt x="33743" y="97280"/>
                  <a:pt x="33743" y="92800"/>
                </a:cubicBezTo>
                <a:cubicBezTo>
                  <a:pt x="33743" y="27200"/>
                  <a:pt x="33743" y="27200"/>
                  <a:pt x="33743" y="27200"/>
                </a:cubicBezTo>
                <a:cubicBezTo>
                  <a:pt x="33743" y="20160"/>
                  <a:pt x="36539" y="17920"/>
                  <a:pt x="39334" y="17920"/>
                </a:cubicBezTo>
                <a:cubicBezTo>
                  <a:pt x="80266" y="17920"/>
                  <a:pt x="80266" y="17920"/>
                  <a:pt x="80266" y="17920"/>
                </a:cubicBezTo>
                <a:cubicBezTo>
                  <a:pt x="84658" y="17920"/>
                  <a:pt x="86056" y="20160"/>
                  <a:pt x="86056" y="27200"/>
                </a:cubicBezTo>
                <a:cubicBezTo>
                  <a:pt x="86056" y="92800"/>
                  <a:pt x="86056" y="92800"/>
                  <a:pt x="86056" y="92800"/>
                </a:cubicBezTo>
                <a:cubicBezTo>
                  <a:pt x="86056" y="97280"/>
                  <a:pt x="84658" y="101760"/>
                  <a:pt x="80266" y="101760"/>
                </a:cubicBezTo>
                <a:close/>
                <a:moveTo>
                  <a:pt x="74675" y="36160"/>
                </a:moveTo>
                <a:lnTo>
                  <a:pt x="74675" y="36160"/>
                </a:lnTo>
                <a:cubicBezTo>
                  <a:pt x="45124" y="36160"/>
                  <a:pt x="45124" y="36160"/>
                  <a:pt x="45124" y="36160"/>
                </a:cubicBezTo>
                <a:cubicBezTo>
                  <a:pt x="45124" y="83520"/>
                  <a:pt x="45124" y="83520"/>
                  <a:pt x="45124" y="83520"/>
                </a:cubicBezTo>
                <a:cubicBezTo>
                  <a:pt x="74675" y="83520"/>
                  <a:pt x="74675" y="83520"/>
                  <a:pt x="74675" y="83520"/>
                </a:cubicBezTo>
                <a:lnTo>
                  <a:pt x="74675" y="36160"/>
                </a:lnTo>
                <a:close/>
                <a:moveTo>
                  <a:pt x="22562" y="101760"/>
                </a:moveTo>
                <a:lnTo>
                  <a:pt x="22562" y="101760"/>
                </a:lnTo>
                <a:cubicBezTo>
                  <a:pt x="19767" y="101760"/>
                  <a:pt x="16772" y="97280"/>
                  <a:pt x="16772" y="92800"/>
                </a:cubicBezTo>
                <a:cubicBezTo>
                  <a:pt x="16772" y="85760"/>
                  <a:pt x="16772" y="85760"/>
                  <a:pt x="16772" y="85760"/>
                </a:cubicBezTo>
                <a:cubicBezTo>
                  <a:pt x="16772" y="31680"/>
                  <a:pt x="16772" y="31680"/>
                  <a:pt x="16772" y="31680"/>
                </a:cubicBezTo>
                <a:cubicBezTo>
                  <a:pt x="16772" y="27200"/>
                  <a:pt x="16772" y="27200"/>
                  <a:pt x="16772" y="27200"/>
                </a:cubicBezTo>
                <a:cubicBezTo>
                  <a:pt x="16772" y="20160"/>
                  <a:pt x="19767" y="17920"/>
                  <a:pt x="22562" y="17920"/>
                </a:cubicBezTo>
                <a:cubicBezTo>
                  <a:pt x="25357" y="17920"/>
                  <a:pt x="28153" y="20160"/>
                  <a:pt x="28153" y="27200"/>
                </a:cubicBezTo>
                <a:cubicBezTo>
                  <a:pt x="28153" y="31680"/>
                  <a:pt x="28153" y="31680"/>
                  <a:pt x="28153" y="31680"/>
                </a:cubicBezTo>
                <a:cubicBezTo>
                  <a:pt x="28153" y="85760"/>
                  <a:pt x="28153" y="85760"/>
                  <a:pt x="28153" y="85760"/>
                </a:cubicBezTo>
                <a:cubicBezTo>
                  <a:pt x="28153" y="92800"/>
                  <a:pt x="28153" y="92800"/>
                  <a:pt x="28153" y="92800"/>
                </a:cubicBezTo>
                <a:cubicBezTo>
                  <a:pt x="28153" y="97280"/>
                  <a:pt x="25357" y="101760"/>
                  <a:pt x="22562" y="101760"/>
                </a:cubicBezTo>
                <a:close/>
                <a:moveTo>
                  <a:pt x="5590" y="119680"/>
                </a:moveTo>
                <a:lnTo>
                  <a:pt x="5590" y="119680"/>
                </a:lnTo>
                <a:cubicBezTo>
                  <a:pt x="2795" y="119680"/>
                  <a:pt x="0" y="115200"/>
                  <a:pt x="0" y="110720"/>
                </a:cubicBezTo>
                <a:cubicBezTo>
                  <a:pt x="0" y="104000"/>
                  <a:pt x="0" y="104000"/>
                  <a:pt x="0" y="104000"/>
                </a:cubicBezTo>
                <a:cubicBezTo>
                  <a:pt x="0" y="74560"/>
                  <a:pt x="0" y="74560"/>
                  <a:pt x="0" y="74560"/>
                </a:cubicBezTo>
                <a:cubicBezTo>
                  <a:pt x="0" y="67840"/>
                  <a:pt x="0" y="67840"/>
                  <a:pt x="0" y="67840"/>
                </a:cubicBezTo>
                <a:cubicBezTo>
                  <a:pt x="0" y="49600"/>
                  <a:pt x="0" y="49600"/>
                  <a:pt x="0" y="49600"/>
                </a:cubicBezTo>
                <a:cubicBezTo>
                  <a:pt x="0" y="45120"/>
                  <a:pt x="0" y="45120"/>
                  <a:pt x="0" y="45120"/>
                </a:cubicBezTo>
                <a:cubicBezTo>
                  <a:pt x="0" y="13440"/>
                  <a:pt x="0" y="13440"/>
                  <a:pt x="0" y="13440"/>
                </a:cubicBezTo>
                <a:cubicBezTo>
                  <a:pt x="0" y="8960"/>
                  <a:pt x="0" y="8960"/>
                  <a:pt x="0" y="8960"/>
                </a:cubicBezTo>
                <a:cubicBezTo>
                  <a:pt x="0" y="2240"/>
                  <a:pt x="2795" y="0"/>
                  <a:pt x="5590" y="0"/>
                </a:cubicBezTo>
                <a:cubicBezTo>
                  <a:pt x="8386" y="0"/>
                  <a:pt x="11181" y="2240"/>
                  <a:pt x="11181" y="8960"/>
                </a:cubicBezTo>
                <a:cubicBezTo>
                  <a:pt x="11181" y="13440"/>
                  <a:pt x="11181" y="13440"/>
                  <a:pt x="11181" y="13440"/>
                </a:cubicBezTo>
                <a:cubicBezTo>
                  <a:pt x="11181" y="45120"/>
                  <a:pt x="11181" y="45120"/>
                  <a:pt x="11181" y="45120"/>
                </a:cubicBezTo>
                <a:cubicBezTo>
                  <a:pt x="11181" y="49600"/>
                  <a:pt x="11181" y="49600"/>
                  <a:pt x="11181" y="49600"/>
                </a:cubicBezTo>
                <a:cubicBezTo>
                  <a:pt x="11181" y="67840"/>
                  <a:pt x="11181" y="67840"/>
                  <a:pt x="11181" y="67840"/>
                </a:cubicBezTo>
                <a:cubicBezTo>
                  <a:pt x="11181" y="74560"/>
                  <a:pt x="11181" y="74560"/>
                  <a:pt x="11181" y="74560"/>
                </a:cubicBezTo>
                <a:cubicBezTo>
                  <a:pt x="11181" y="104000"/>
                  <a:pt x="11181" y="104000"/>
                  <a:pt x="11181" y="104000"/>
                </a:cubicBezTo>
                <a:cubicBezTo>
                  <a:pt x="11181" y="110720"/>
                  <a:pt x="11181" y="110720"/>
                  <a:pt x="11181" y="110720"/>
                </a:cubicBezTo>
                <a:cubicBezTo>
                  <a:pt x="11181" y="115200"/>
                  <a:pt x="8386" y="119680"/>
                  <a:pt x="5590" y="11968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Shape 4949"/>
          <p:cNvSpPr/>
          <p:nvPr/>
        </p:nvSpPr>
        <p:spPr>
          <a:xfrm>
            <a:off x="4156200" y="3670200"/>
            <a:ext cx="284040" cy="125640"/>
          </a:xfrm>
          <a:custGeom>
            <a:avLst/>
            <a:gdLst>
              <a:gd name="textAreaLeft" fmla="*/ 0 w 284040"/>
              <a:gd name="textAreaRight" fmla="*/ 284400 w 28404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120000" h="120000">
                <a:moveTo>
                  <a:pt x="93044" y="119543"/>
                </a:moveTo>
                <a:lnTo>
                  <a:pt x="93044" y="119543"/>
                </a:lnTo>
                <a:cubicBezTo>
                  <a:pt x="25357" y="119543"/>
                  <a:pt x="25357" y="119543"/>
                  <a:pt x="25357" y="119543"/>
                </a:cubicBezTo>
                <a:cubicBezTo>
                  <a:pt x="11181" y="119543"/>
                  <a:pt x="0" y="93536"/>
                  <a:pt x="0" y="57946"/>
                </a:cubicBezTo>
                <a:cubicBezTo>
                  <a:pt x="0" y="26007"/>
                  <a:pt x="11181" y="0"/>
                  <a:pt x="25357" y="0"/>
                </a:cubicBezTo>
                <a:cubicBezTo>
                  <a:pt x="40732" y="0"/>
                  <a:pt x="52113" y="26007"/>
                  <a:pt x="52113" y="57946"/>
                </a:cubicBezTo>
                <a:cubicBezTo>
                  <a:pt x="52113" y="71178"/>
                  <a:pt x="50715" y="83954"/>
                  <a:pt x="47920" y="93536"/>
                </a:cubicBezTo>
                <a:cubicBezTo>
                  <a:pt x="71880" y="93536"/>
                  <a:pt x="71880" y="93536"/>
                  <a:pt x="71880" y="93536"/>
                </a:cubicBezTo>
                <a:cubicBezTo>
                  <a:pt x="69084" y="83954"/>
                  <a:pt x="67687" y="71178"/>
                  <a:pt x="67687" y="57946"/>
                </a:cubicBezTo>
                <a:cubicBezTo>
                  <a:pt x="67687" y="26007"/>
                  <a:pt x="78868" y="0"/>
                  <a:pt x="93044" y="0"/>
                </a:cubicBezTo>
                <a:cubicBezTo>
                  <a:pt x="108618" y="0"/>
                  <a:pt x="119800" y="26007"/>
                  <a:pt x="119800" y="57946"/>
                </a:cubicBezTo>
                <a:cubicBezTo>
                  <a:pt x="119800" y="93536"/>
                  <a:pt x="108618" y="119543"/>
                  <a:pt x="93044" y="119543"/>
                </a:cubicBezTo>
                <a:close/>
                <a:moveTo>
                  <a:pt x="40732" y="57946"/>
                </a:moveTo>
                <a:lnTo>
                  <a:pt x="40732" y="57946"/>
                </a:lnTo>
                <a:cubicBezTo>
                  <a:pt x="40732" y="38783"/>
                  <a:pt x="33743" y="26007"/>
                  <a:pt x="25357" y="26007"/>
                </a:cubicBezTo>
                <a:cubicBezTo>
                  <a:pt x="16772" y="26007"/>
                  <a:pt x="11181" y="38783"/>
                  <a:pt x="11181" y="57946"/>
                </a:cubicBezTo>
                <a:cubicBezTo>
                  <a:pt x="11181" y="77566"/>
                  <a:pt x="16772" y="93536"/>
                  <a:pt x="25357" y="93536"/>
                </a:cubicBezTo>
                <a:cubicBezTo>
                  <a:pt x="33743" y="93536"/>
                  <a:pt x="40732" y="77566"/>
                  <a:pt x="40732" y="57946"/>
                </a:cubicBezTo>
                <a:close/>
                <a:moveTo>
                  <a:pt x="93044" y="26007"/>
                </a:moveTo>
                <a:lnTo>
                  <a:pt x="93044" y="26007"/>
                </a:lnTo>
                <a:cubicBezTo>
                  <a:pt x="84658" y="26007"/>
                  <a:pt x="78868" y="38783"/>
                  <a:pt x="78868" y="57946"/>
                </a:cubicBezTo>
                <a:cubicBezTo>
                  <a:pt x="78868" y="77566"/>
                  <a:pt x="84658" y="93536"/>
                  <a:pt x="93044" y="93536"/>
                </a:cubicBezTo>
                <a:cubicBezTo>
                  <a:pt x="101430" y="93536"/>
                  <a:pt x="108618" y="77566"/>
                  <a:pt x="108618" y="57946"/>
                </a:cubicBezTo>
                <a:cubicBezTo>
                  <a:pt x="108618" y="38783"/>
                  <a:pt x="101430" y="26007"/>
                  <a:pt x="93044" y="26007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Shape 4950"/>
          <p:cNvSpPr/>
          <p:nvPr/>
        </p:nvSpPr>
        <p:spPr>
          <a:xfrm>
            <a:off x="3651120" y="3635280"/>
            <a:ext cx="289080" cy="198360"/>
          </a:xfrm>
          <a:custGeom>
            <a:avLst/>
            <a:gdLst>
              <a:gd name="textAreaLeft" fmla="*/ 0 w 289080"/>
              <a:gd name="textAreaRight" fmla="*/ 289440 w 2890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20000" h="120000">
                <a:moveTo>
                  <a:pt x="114285" y="119712"/>
                </a:moveTo>
                <a:lnTo>
                  <a:pt x="114285" y="119712"/>
                </a:lnTo>
                <a:cubicBezTo>
                  <a:pt x="5714" y="119712"/>
                  <a:pt x="5714" y="119712"/>
                  <a:pt x="5714" y="119712"/>
                </a:cubicBezTo>
                <a:cubicBezTo>
                  <a:pt x="2955" y="119712"/>
                  <a:pt x="0" y="115406"/>
                  <a:pt x="0" y="111387"/>
                </a:cubicBezTo>
                <a:cubicBezTo>
                  <a:pt x="0" y="48516"/>
                  <a:pt x="0" y="48516"/>
                  <a:pt x="0" y="48516"/>
                </a:cubicBezTo>
                <a:cubicBezTo>
                  <a:pt x="119802" y="48516"/>
                  <a:pt x="119802" y="48516"/>
                  <a:pt x="119802" y="48516"/>
                </a:cubicBezTo>
                <a:cubicBezTo>
                  <a:pt x="119802" y="111387"/>
                  <a:pt x="119802" y="111387"/>
                  <a:pt x="119802" y="111387"/>
                </a:cubicBezTo>
                <a:cubicBezTo>
                  <a:pt x="119802" y="115406"/>
                  <a:pt x="117044" y="119712"/>
                  <a:pt x="114285" y="119712"/>
                </a:cubicBezTo>
                <a:close/>
                <a:moveTo>
                  <a:pt x="11231" y="103349"/>
                </a:moveTo>
                <a:lnTo>
                  <a:pt x="11231" y="103349"/>
                </a:lnTo>
                <a:cubicBezTo>
                  <a:pt x="33497" y="103349"/>
                  <a:pt x="33497" y="103349"/>
                  <a:pt x="33497" y="103349"/>
                </a:cubicBezTo>
                <a:cubicBezTo>
                  <a:pt x="33497" y="95311"/>
                  <a:pt x="33497" y="95311"/>
                  <a:pt x="33497" y="95311"/>
                </a:cubicBezTo>
                <a:cubicBezTo>
                  <a:pt x="11231" y="95311"/>
                  <a:pt x="11231" y="95311"/>
                  <a:pt x="11231" y="95311"/>
                </a:cubicBezTo>
                <a:lnTo>
                  <a:pt x="11231" y="103349"/>
                </a:lnTo>
                <a:close/>
                <a:moveTo>
                  <a:pt x="66995" y="78947"/>
                </a:moveTo>
                <a:lnTo>
                  <a:pt x="66995" y="78947"/>
                </a:lnTo>
                <a:cubicBezTo>
                  <a:pt x="11231" y="78947"/>
                  <a:pt x="11231" y="78947"/>
                  <a:pt x="11231" y="78947"/>
                </a:cubicBezTo>
                <a:cubicBezTo>
                  <a:pt x="11231" y="87272"/>
                  <a:pt x="11231" y="87272"/>
                  <a:pt x="11231" y="87272"/>
                </a:cubicBezTo>
                <a:cubicBezTo>
                  <a:pt x="66995" y="87272"/>
                  <a:pt x="66995" y="87272"/>
                  <a:pt x="66995" y="87272"/>
                </a:cubicBezTo>
                <a:lnTo>
                  <a:pt x="66995" y="78947"/>
                </a:lnTo>
                <a:close/>
                <a:moveTo>
                  <a:pt x="0" y="8038"/>
                </a:moveTo>
                <a:lnTo>
                  <a:pt x="0" y="8038"/>
                </a:lnTo>
                <a:cubicBezTo>
                  <a:pt x="0" y="4019"/>
                  <a:pt x="2955" y="0"/>
                  <a:pt x="5714" y="0"/>
                </a:cubicBezTo>
                <a:cubicBezTo>
                  <a:pt x="114285" y="0"/>
                  <a:pt x="114285" y="0"/>
                  <a:pt x="114285" y="0"/>
                </a:cubicBezTo>
                <a:cubicBezTo>
                  <a:pt x="117044" y="0"/>
                  <a:pt x="119802" y="4019"/>
                  <a:pt x="119802" y="8038"/>
                </a:cubicBezTo>
                <a:cubicBezTo>
                  <a:pt x="119802" y="32440"/>
                  <a:pt x="119802" y="32440"/>
                  <a:pt x="119802" y="32440"/>
                </a:cubicBezTo>
                <a:cubicBezTo>
                  <a:pt x="0" y="32440"/>
                  <a:pt x="0" y="32440"/>
                  <a:pt x="0" y="32440"/>
                </a:cubicBezTo>
                <a:lnTo>
                  <a:pt x="0" y="8038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Shape 4951"/>
          <p:cNvSpPr/>
          <p:nvPr/>
        </p:nvSpPr>
        <p:spPr>
          <a:xfrm>
            <a:off x="3154320" y="3592440"/>
            <a:ext cx="287280" cy="273240"/>
          </a:xfrm>
          <a:custGeom>
            <a:avLst/>
            <a:gdLst>
              <a:gd name="textAreaLeft" fmla="*/ 0 w 287280"/>
              <a:gd name="textAreaRight" fmla="*/ 287640 w 2872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19800" y="63664"/>
                </a:moveTo>
                <a:lnTo>
                  <a:pt x="119800" y="63664"/>
                </a:lnTo>
                <a:cubicBezTo>
                  <a:pt x="119800" y="66596"/>
                  <a:pt x="118405" y="69528"/>
                  <a:pt x="114219" y="69528"/>
                </a:cubicBezTo>
                <a:cubicBezTo>
                  <a:pt x="112823" y="69528"/>
                  <a:pt x="111428" y="68062"/>
                  <a:pt x="111428" y="68062"/>
                </a:cubicBezTo>
                <a:lnTo>
                  <a:pt x="111428" y="68062"/>
                </a:lnTo>
                <a:cubicBezTo>
                  <a:pt x="60598" y="14869"/>
                  <a:pt x="60598" y="14869"/>
                  <a:pt x="60598" y="14869"/>
                </a:cubicBezTo>
                <a:lnTo>
                  <a:pt x="60598" y="14869"/>
                </a:lnTo>
                <a:lnTo>
                  <a:pt x="60598" y="14869"/>
                </a:lnTo>
                <a:lnTo>
                  <a:pt x="60598" y="14869"/>
                </a:lnTo>
                <a:cubicBezTo>
                  <a:pt x="9966" y="68062"/>
                  <a:pt x="9966" y="68062"/>
                  <a:pt x="9966" y="68062"/>
                </a:cubicBezTo>
                <a:lnTo>
                  <a:pt x="9966" y="68062"/>
                </a:lnTo>
                <a:cubicBezTo>
                  <a:pt x="8571" y="68062"/>
                  <a:pt x="7176" y="69528"/>
                  <a:pt x="5780" y="69528"/>
                </a:cubicBezTo>
                <a:cubicBezTo>
                  <a:pt x="2990" y="69528"/>
                  <a:pt x="0" y="66596"/>
                  <a:pt x="0" y="63664"/>
                </a:cubicBezTo>
                <a:cubicBezTo>
                  <a:pt x="0" y="62198"/>
                  <a:pt x="0" y="60523"/>
                  <a:pt x="1395" y="59057"/>
                </a:cubicBezTo>
                <a:cubicBezTo>
                  <a:pt x="56411" y="1465"/>
                  <a:pt x="56411" y="1465"/>
                  <a:pt x="56411" y="1465"/>
                </a:cubicBezTo>
                <a:cubicBezTo>
                  <a:pt x="57807" y="0"/>
                  <a:pt x="59202" y="0"/>
                  <a:pt x="60598" y="0"/>
                </a:cubicBezTo>
                <a:lnTo>
                  <a:pt x="60598" y="0"/>
                </a:lnTo>
                <a:lnTo>
                  <a:pt x="60598" y="0"/>
                </a:lnTo>
                <a:lnTo>
                  <a:pt x="60598" y="0"/>
                </a:lnTo>
                <a:lnTo>
                  <a:pt x="60598" y="0"/>
                </a:lnTo>
                <a:lnTo>
                  <a:pt x="60598" y="0"/>
                </a:lnTo>
                <a:lnTo>
                  <a:pt x="60598" y="0"/>
                </a:lnTo>
                <a:lnTo>
                  <a:pt x="60598" y="0"/>
                </a:lnTo>
                <a:cubicBezTo>
                  <a:pt x="61993" y="0"/>
                  <a:pt x="63388" y="1465"/>
                  <a:pt x="64784" y="1465"/>
                </a:cubicBezTo>
                <a:lnTo>
                  <a:pt x="64784" y="1465"/>
                </a:lnTo>
                <a:cubicBezTo>
                  <a:pt x="85913" y="25130"/>
                  <a:pt x="85913" y="25130"/>
                  <a:pt x="85913" y="25130"/>
                </a:cubicBezTo>
                <a:cubicBezTo>
                  <a:pt x="85913" y="19267"/>
                  <a:pt x="85913" y="19267"/>
                  <a:pt x="85913" y="19267"/>
                </a:cubicBezTo>
                <a:cubicBezTo>
                  <a:pt x="85913" y="16335"/>
                  <a:pt x="88903" y="13193"/>
                  <a:pt x="91694" y="13193"/>
                </a:cubicBezTo>
                <a:cubicBezTo>
                  <a:pt x="95880" y="13193"/>
                  <a:pt x="97275" y="16335"/>
                  <a:pt x="97275" y="19267"/>
                </a:cubicBezTo>
                <a:cubicBezTo>
                  <a:pt x="97275" y="36858"/>
                  <a:pt x="97275" y="36858"/>
                  <a:pt x="97275" y="36858"/>
                </a:cubicBezTo>
                <a:cubicBezTo>
                  <a:pt x="118405" y="59057"/>
                  <a:pt x="118405" y="59057"/>
                  <a:pt x="118405" y="59057"/>
                </a:cubicBezTo>
                <a:lnTo>
                  <a:pt x="118405" y="59057"/>
                </a:lnTo>
                <a:cubicBezTo>
                  <a:pt x="119800" y="60523"/>
                  <a:pt x="119800" y="62198"/>
                  <a:pt x="119800" y="63664"/>
                </a:cubicBezTo>
                <a:close/>
                <a:moveTo>
                  <a:pt x="108438" y="72460"/>
                </a:moveTo>
                <a:lnTo>
                  <a:pt x="108438" y="72460"/>
                </a:lnTo>
                <a:cubicBezTo>
                  <a:pt x="108438" y="90261"/>
                  <a:pt x="108438" y="90261"/>
                  <a:pt x="108438" y="90261"/>
                </a:cubicBezTo>
                <a:cubicBezTo>
                  <a:pt x="108438" y="99057"/>
                  <a:pt x="108438" y="99057"/>
                  <a:pt x="108438" y="99057"/>
                </a:cubicBezTo>
                <a:cubicBezTo>
                  <a:pt x="108438" y="113926"/>
                  <a:pt x="108438" y="113926"/>
                  <a:pt x="108438" y="113926"/>
                </a:cubicBezTo>
                <a:cubicBezTo>
                  <a:pt x="108438" y="118324"/>
                  <a:pt x="107043" y="119790"/>
                  <a:pt x="102857" y="119790"/>
                </a:cubicBezTo>
                <a:cubicBezTo>
                  <a:pt x="91694" y="119790"/>
                  <a:pt x="91694" y="119790"/>
                  <a:pt x="91694" y="119790"/>
                </a:cubicBezTo>
                <a:cubicBezTo>
                  <a:pt x="91694" y="72460"/>
                  <a:pt x="91694" y="72460"/>
                  <a:pt x="91694" y="72460"/>
                </a:cubicBezTo>
                <a:cubicBezTo>
                  <a:pt x="69169" y="72460"/>
                  <a:pt x="69169" y="72460"/>
                  <a:pt x="69169" y="72460"/>
                </a:cubicBezTo>
                <a:cubicBezTo>
                  <a:pt x="69169" y="119790"/>
                  <a:pt x="69169" y="119790"/>
                  <a:pt x="69169" y="119790"/>
                </a:cubicBezTo>
                <a:cubicBezTo>
                  <a:pt x="16943" y="119790"/>
                  <a:pt x="16943" y="119790"/>
                  <a:pt x="16943" y="119790"/>
                </a:cubicBezTo>
                <a:cubicBezTo>
                  <a:pt x="14152" y="119790"/>
                  <a:pt x="11362" y="118324"/>
                  <a:pt x="11362" y="113926"/>
                </a:cubicBezTo>
                <a:cubicBezTo>
                  <a:pt x="11362" y="99057"/>
                  <a:pt x="11362" y="99057"/>
                  <a:pt x="11362" y="99057"/>
                </a:cubicBezTo>
                <a:cubicBezTo>
                  <a:pt x="11362" y="90261"/>
                  <a:pt x="11362" y="90261"/>
                  <a:pt x="11362" y="90261"/>
                </a:cubicBezTo>
                <a:cubicBezTo>
                  <a:pt x="11362" y="72460"/>
                  <a:pt x="11362" y="72460"/>
                  <a:pt x="11362" y="72460"/>
                </a:cubicBezTo>
                <a:cubicBezTo>
                  <a:pt x="60598" y="22198"/>
                  <a:pt x="60598" y="22198"/>
                  <a:pt x="60598" y="22198"/>
                </a:cubicBezTo>
                <a:lnTo>
                  <a:pt x="108438" y="72460"/>
                </a:lnTo>
                <a:close/>
                <a:moveTo>
                  <a:pt x="50830" y="72460"/>
                </a:moveTo>
                <a:lnTo>
                  <a:pt x="50830" y="72460"/>
                </a:lnTo>
                <a:cubicBezTo>
                  <a:pt x="28305" y="72460"/>
                  <a:pt x="28305" y="72460"/>
                  <a:pt x="28305" y="72460"/>
                </a:cubicBezTo>
                <a:cubicBezTo>
                  <a:pt x="28305" y="96125"/>
                  <a:pt x="28305" y="96125"/>
                  <a:pt x="28305" y="96125"/>
                </a:cubicBezTo>
                <a:cubicBezTo>
                  <a:pt x="50830" y="96125"/>
                  <a:pt x="50830" y="96125"/>
                  <a:pt x="50830" y="96125"/>
                </a:cubicBezTo>
                <a:lnTo>
                  <a:pt x="50830" y="7246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Shape 4952"/>
          <p:cNvSpPr/>
          <p:nvPr/>
        </p:nvSpPr>
        <p:spPr>
          <a:xfrm>
            <a:off x="2655720" y="3603600"/>
            <a:ext cx="285840" cy="258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779"/>
                </a:moveTo>
                <a:lnTo>
                  <a:pt x="114219" y="119779"/>
                </a:lnTo>
                <a:cubicBezTo>
                  <a:pt x="104252" y="119779"/>
                  <a:pt x="104252" y="119779"/>
                  <a:pt x="104252" y="119779"/>
                </a:cubicBezTo>
                <a:cubicBezTo>
                  <a:pt x="104252" y="70018"/>
                  <a:pt x="104252" y="70018"/>
                  <a:pt x="104252" y="70018"/>
                </a:cubicBezTo>
                <a:cubicBezTo>
                  <a:pt x="104252" y="31045"/>
                  <a:pt x="104252" y="31045"/>
                  <a:pt x="104252" y="31045"/>
                </a:cubicBezTo>
                <a:cubicBezTo>
                  <a:pt x="114219" y="31045"/>
                  <a:pt x="114219" y="31045"/>
                  <a:pt x="114219" y="31045"/>
                </a:cubicBezTo>
                <a:cubicBezTo>
                  <a:pt x="117009" y="31045"/>
                  <a:pt x="119800" y="32587"/>
                  <a:pt x="119800" y="37431"/>
                </a:cubicBezTo>
                <a:cubicBezTo>
                  <a:pt x="119800" y="76183"/>
                  <a:pt x="119800" y="76183"/>
                  <a:pt x="119800" y="76183"/>
                </a:cubicBezTo>
                <a:cubicBezTo>
                  <a:pt x="119800" y="101064"/>
                  <a:pt x="119800" y="101064"/>
                  <a:pt x="119800" y="101064"/>
                </a:cubicBezTo>
                <a:cubicBezTo>
                  <a:pt x="119800" y="113614"/>
                  <a:pt x="119800" y="113614"/>
                  <a:pt x="119800" y="113614"/>
                </a:cubicBezTo>
                <a:cubicBezTo>
                  <a:pt x="119800" y="116697"/>
                  <a:pt x="117009" y="119779"/>
                  <a:pt x="114219" y="119779"/>
                </a:cubicBezTo>
                <a:close/>
                <a:moveTo>
                  <a:pt x="19734" y="119779"/>
                </a:moveTo>
                <a:lnTo>
                  <a:pt x="19734" y="119779"/>
                </a:lnTo>
                <a:cubicBezTo>
                  <a:pt x="19734" y="70018"/>
                  <a:pt x="19734" y="70018"/>
                  <a:pt x="19734" y="70018"/>
                </a:cubicBezTo>
                <a:cubicBezTo>
                  <a:pt x="19734" y="68477"/>
                  <a:pt x="19734" y="68477"/>
                  <a:pt x="19734" y="68477"/>
                </a:cubicBezTo>
                <a:cubicBezTo>
                  <a:pt x="19734" y="31045"/>
                  <a:pt x="19734" y="31045"/>
                  <a:pt x="19734" y="31045"/>
                </a:cubicBezTo>
                <a:cubicBezTo>
                  <a:pt x="31096" y="31045"/>
                  <a:pt x="31096" y="31045"/>
                  <a:pt x="31096" y="31045"/>
                </a:cubicBezTo>
                <a:cubicBezTo>
                  <a:pt x="31096" y="14091"/>
                  <a:pt x="43654" y="0"/>
                  <a:pt x="59202" y="0"/>
                </a:cubicBezTo>
                <a:cubicBezTo>
                  <a:pt x="74750" y="0"/>
                  <a:pt x="87308" y="14091"/>
                  <a:pt x="87308" y="31045"/>
                </a:cubicBezTo>
                <a:cubicBezTo>
                  <a:pt x="98671" y="31045"/>
                  <a:pt x="98671" y="31045"/>
                  <a:pt x="98671" y="31045"/>
                </a:cubicBezTo>
                <a:cubicBezTo>
                  <a:pt x="98671" y="70018"/>
                  <a:pt x="98671" y="70018"/>
                  <a:pt x="98671" y="70018"/>
                </a:cubicBezTo>
                <a:cubicBezTo>
                  <a:pt x="98671" y="119779"/>
                  <a:pt x="98671" y="119779"/>
                  <a:pt x="98671" y="119779"/>
                </a:cubicBezTo>
                <a:lnTo>
                  <a:pt x="19734" y="119779"/>
                </a:lnTo>
                <a:close/>
                <a:moveTo>
                  <a:pt x="59202" y="12550"/>
                </a:moveTo>
                <a:lnTo>
                  <a:pt x="59202" y="12550"/>
                </a:lnTo>
                <a:cubicBezTo>
                  <a:pt x="50830" y="12550"/>
                  <a:pt x="42259" y="20256"/>
                  <a:pt x="42259" y="31045"/>
                </a:cubicBezTo>
                <a:cubicBezTo>
                  <a:pt x="76146" y="31045"/>
                  <a:pt x="76146" y="31045"/>
                  <a:pt x="76146" y="31045"/>
                </a:cubicBezTo>
                <a:cubicBezTo>
                  <a:pt x="76146" y="20256"/>
                  <a:pt x="69169" y="12550"/>
                  <a:pt x="59202" y="12550"/>
                </a:cubicBezTo>
                <a:close/>
                <a:moveTo>
                  <a:pt x="0" y="113614"/>
                </a:moveTo>
                <a:lnTo>
                  <a:pt x="0" y="113614"/>
                </a:lnTo>
                <a:cubicBezTo>
                  <a:pt x="0" y="101064"/>
                  <a:pt x="0" y="101064"/>
                  <a:pt x="0" y="101064"/>
                </a:cubicBezTo>
                <a:cubicBezTo>
                  <a:pt x="0" y="76183"/>
                  <a:pt x="0" y="76183"/>
                  <a:pt x="0" y="76183"/>
                </a:cubicBezTo>
                <a:cubicBezTo>
                  <a:pt x="0" y="37431"/>
                  <a:pt x="0" y="37431"/>
                  <a:pt x="0" y="37431"/>
                </a:cubicBezTo>
                <a:cubicBezTo>
                  <a:pt x="0" y="32587"/>
                  <a:pt x="1395" y="31045"/>
                  <a:pt x="5780" y="31045"/>
                </a:cubicBezTo>
                <a:cubicBezTo>
                  <a:pt x="14152" y="31045"/>
                  <a:pt x="14152" y="31045"/>
                  <a:pt x="14152" y="31045"/>
                </a:cubicBezTo>
                <a:cubicBezTo>
                  <a:pt x="14152" y="68477"/>
                  <a:pt x="14152" y="68477"/>
                  <a:pt x="14152" y="68477"/>
                </a:cubicBezTo>
                <a:cubicBezTo>
                  <a:pt x="14152" y="70018"/>
                  <a:pt x="14152" y="70018"/>
                  <a:pt x="14152" y="70018"/>
                </a:cubicBezTo>
                <a:cubicBezTo>
                  <a:pt x="14152" y="119779"/>
                  <a:pt x="14152" y="119779"/>
                  <a:pt x="14152" y="119779"/>
                </a:cubicBezTo>
                <a:cubicBezTo>
                  <a:pt x="5780" y="119779"/>
                  <a:pt x="5780" y="119779"/>
                  <a:pt x="5780" y="119779"/>
                </a:cubicBezTo>
                <a:cubicBezTo>
                  <a:pt x="1395" y="119779"/>
                  <a:pt x="0" y="116697"/>
                  <a:pt x="0" y="11361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Shape 4953"/>
          <p:cNvSpPr/>
          <p:nvPr/>
        </p:nvSpPr>
        <p:spPr>
          <a:xfrm>
            <a:off x="2187720" y="3610080"/>
            <a:ext cx="222120" cy="242640"/>
          </a:xfrm>
          <a:custGeom>
            <a:avLst/>
            <a:gdLst>
              <a:gd name="textAreaLeft" fmla="*/ 0 w 222120"/>
              <a:gd name="textAreaRight" fmla="*/ 222480 w 2221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117944" y="58117"/>
                </a:moveTo>
                <a:lnTo>
                  <a:pt x="117944" y="58117"/>
                </a:lnTo>
                <a:lnTo>
                  <a:pt x="117944" y="58117"/>
                </a:lnTo>
                <a:lnTo>
                  <a:pt x="117944" y="58117"/>
                </a:lnTo>
                <a:cubicBezTo>
                  <a:pt x="59871" y="6588"/>
                  <a:pt x="59871" y="6588"/>
                  <a:pt x="59871" y="6588"/>
                </a:cubicBezTo>
                <a:cubicBezTo>
                  <a:pt x="16188" y="6588"/>
                  <a:pt x="16188" y="6588"/>
                  <a:pt x="16188" y="6588"/>
                </a:cubicBezTo>
                <a:cubicBezTo>
                  <a:pt x="7194" y="6588"/>
                  <a:pt x="7194" y="6588"/>
                  <a:pt x="7194" y="6588"/>
                </a:cubicBezTo>
                <a:cubicBezTo>
                  <a:pt x="7194" y="3294"/>
                  <a:pt x="8993" y="0"/>
                  <a:pt x="14389" y="0"/>
                </a:cubicBezTo>
                <a:lnTo>
                  <a:pt x="14389" y="0"/>
                </a:lnTo>
                <a:cubicBezTo>
                  <a:pt x="59871" y="0"/>
                  <a:pt x="59871" y="0"/>
                  <a:pt x="59871" y="0"/>
                </a:cubicBezTo>
                <a:lnTo>
                  <a:pt x="59871" y="0"/>
                </a:lnTo>
                <a:lnTo>
                  <a:pt x="59871" y="0"/>
                </a:lnTo>
                <a:cubicBezTo>
                  <a:pt x="61670" y="0"/>
                  <a:pt x="63468" y="1647"/>
                  <a:pt x="65267" y="3294"/>
                </a:cubicBezTo>
                <a:cubicBezTo>
                  <a:pt x="105353" y="38352"/>
                  <a:pt x="105353" y="38352"/>
                  <a:pt x="105353" y="38352"/>
                </a:cubicBezTo>
                <a:lnTo>
                  <a:pt x="105353" y="38352"/>
                </a:lnTo>
                <a:cubicBezTo>
                  <a:pt x="117944" y="48235"/>
                  <a:pt x="117944" y="48235"/>
                  <a:pt x="117944" y="48235"/>
                </a:cubicBezTo>
                <a:cubicBezTo>
                  <a:pt x="119743" y="49882"/>
                  <a:pt x="119743" y="51529"/>
                  <a:pt x="119743" y="53176"/>
                </a:cubicBezTo>
                <a:cubicBezTo>
                  <a:pt x="119743" y="54823"/>
                  <a:pt x="119743" y="56470"/>
                  <a:pt x="117944" y="58117"/>
                </a:cubicBezTo>
                <a:close/>
                <a:moveTo>
                  <a:pt x="52676" y="13411"/>
                </a:moveTo>
                <a:lnTo>
                  <a:pt x="52676" y="13411"/>
                </a:lnTo>
                <a:lnTo>
                  <a:pt x="52676" y="13411"/>
                </a:lnTo>
                <a:lnTo>
                  <a:pt x="52676" y="13411"/>
                </a:lnTo>
                <a:cubicBezTo>
                  <a:pt x="54475" y="13411"/>
                  <a:pt x="56274" y="15058"/>
                  <a:pt x="58072" y="16705"/>
                </a:cubicBezTo>
                <a:cubicBezTo>
                  <a:pt x="112548" y="64941"/>
                  <a:pt x="112548" y="64941"/>
                  <a:pt x="112548" y="64941"/>
                </a:cubicBezTo>
                <a:cubicBezTo>
                  <a:pt x="114346" y="64941"/>
                  <a:pt x="114346" y="66588"/>
                  <a:pt x="116145" y="68235"/>
                </a:cubicBezTo>
                <a:lnTo>
                  <a:pt x="116145" y="68235"/>
                </a:lnTo>
                <a:lnTo>
                  <a:pt x="116145" y="68235"/>
                </a:lnTo>
                <a:lnTo>
                  <a:pt x="116145" y="68235"/>
                </a:lnTo>
                <a:cubicBezTo>
                  <a:pt x="116145" y="68235"/>
                  <a:pt x="116145" y="68235"/>
                  <a:pt x="116145" y="69882"/>
                </a:cubicBezTo>
                <a:lnTo>
                  <a:pt x="116145" y="69882"/>
                </a:lnTo>
                <a:lnTo>
                  <a:pt x="116145" y="69882"/>
                </a:lnTo>
                <a:lnTo>
                  <a:pt x="116145" y="69882"/>
                </a:lnTo>
                <a:cubicBezTo>
                  <a:pt x="116145" y="71529"/>
                  <a:pt x="114346" y="73176"/>
                  <a:pt x="114346" y="73176"/>
                </a:cubicBezTo>
                <a:lnTo>
                  <a:pt x="114346" y="73176"/>
                </a:lnTo>
                <a:cubicBezTo>
                  <a:pt x="72719" y="118117"/>
                  <a:pt x="72719" y="118117"/>
                  <a:pt x="72719" y="118117"/>
                </a:cubicBezTo>
                <a:lnTo>
                  <a:pt x="72719" y="118117"/>
                </a:lnTo>
                <a:cubicBezTo>
                  <a:pt x="70663" y="119764"/>
                  <a:pt x="68865" y="119764"/>
                  <a:pt x="67066" y="119764"/>
                </a:cubicBezTo>
                <a:lnTo>
                  <a:pt x="67066" y="119764"/>
                </a:lnTo>
                <a:lnTo>
                  <a:pt x="67066" y="119764"/>
                </a:lnTo>
                <a:lnTo>
                  <a:pt x="67066" y="119764"/>
                </a:lnTo>
                <a:lnTo>
                  <a:pt x="65267" y="119764"/>
                </a:lnTo>
                <a:lnTo>
                  <a:pt x="65267" y="119764"/>
                </a:lnTo>
                <a:cubicBezTo>
                  <a:pt x="65267" y="119764"/>
                  <a:pt x="63468" y="119764"/>
                  <a:pt x="61670" y="118117"/>
                </a:cubicBezTo>
                <a:lnTo>
                  <a:pt x="61670" y="118117"/>
                </a:lnTo>
                <a:cubicBezTo>
                  <a:pt x="1798" y="68235"/>
                  <a:pt x="1798" y="68235"/>
                  <a:pt x="1798" y="68235"/>
                </a:cubicBezTo>
                <a:lnTo>
                  <a:pt x="1798" y="68235"/>
                </a:lnTo>
                <a:cubicBezTo>
                  <a:pt x="0" y="66588"/>
                  <a:pt x="0" y="64941"/>
                  <a:pt x="0" y="63294"/>
                </a:cubicBezTo>
                <a:lnTo>
                  <a:pt x="0" y="63294"/>
                </a:lnTo>
                <a:cubicBezTo>
                  <a:pt x="0" y="26588"/>
                  <a:pt x="0" y="26588"/>
                  <a:pt x="0" y="26588"/>
                </a:cubicBezTo>
                <a:cubicBezTo>
                  <a:pt x="0" y="20000"/>
                  <a:pt x="0" y="20000"/>
                  <a:pt x="0" y="20000"/>
                </a:cubicBezTo>
                <a:lnTo>
                  <a:pt x="0" y="20000"/>
                </a:lnTo>
                <a:lnTo>
                  <a:pt x="0" y="20000"/>
                </a:lnTo>
                <a:cubicBezTo>
                  <a:pt x="0" y="16705"/>
                  <a:pt x="1798" y="13411"/>
                  <a:pt x="7194" y="13411"/>
                </a:cubicBezTo>
                <a:lnTo>
                  <a:pt x="7194" y="13411"/>
                </a:lnTo>
                <a:lnTo>
                  <a:pt x="52676" y="13411"/>
                </a:lnTo>
                <a:close/>
                <a:moveTo>
                  <a:pt x="17987" y="40000"/>
                </a:moveTo>
                <a:lnTo>
                  <a:pt x="17987" y="40000"/>
                </a:lnTo>
                <a:cubicBezTo>
                  <a:pt x="23640" y="40000"/>
                  <a:pt x="29036" y="36705"/>
                  <a:pt x="29036" y="31529"/>
                </a:cubicBezTo>
                <a:cubicBezTo>
                  <a:pt x="29036" y="26588"/>
                  <a:pt x="23640" y="23294"/>
                  <a:pt x="17987" y="23294"/>
                </a:cubicBezTo>
                <a:cubicBezTo>
                  <a:pt x="12591" y="23294"/>
                  <a:pt x="8993" y="26588"/>
                  <a:pt x="8993" y="31529"/>
                </a:cubicBezTo>
                <a:cubicBezTo>
                  <a:pt x="8993" y="36705"/>
                  <a:pt x="12591" y="40000"/>
                  <a:pt x="17987" y="4000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Shape 4954"/>
          <p:cNvSpPr/>
          <p:nvPr/>
        </p:nvSpPr>
        <p:spPr>
          <a:xfrm>
            <a:off x="1690560" y="3624120"/>
            <a:ext cx="214560" cy="216000"/>
          </a:xfrm>
          <a:custGeom>
            <a:avLst/>
            <a:gdLst>
              <a:gd name="textAreaLeft" fmla="*/ 0 w 214560"/>
              <a:gd name="textAreaRight" fmla="*/ 214920 w 214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119735" y="61850"/>
                </a:moveTo>
                <a:lnTo>
                  <a:pt x="119735" y="61850"/>
                </a:lnTo>
                <a:lnTo>
                  <a:pt x="119735" y="61850"/>
                </a:lnTo>
                <a:lnTo>
                  <a:pt x="119735" y="61850"/>
                </a:lnTo>
                <a:lnTo>
                  <a:pt x="119735" y="61850"/>
                </a:lnTo>
                <a:cubicBezTo>
                  <a:pt x="119735" y="61850"/>
                  <a:pt x="119735" y="61850"/>
                  <a:pt x="119735" y="63700"/>
                </a:cubicBezTo>
                <a:lnTo>
                  <a:pt x="119735" y="63700"/>
                </a:lnTo>
                <a:lnTo>
                  <a:pt x="119735" y="63700"/>
                </a:lnTo>
                <a:lnTo>
                  <a:pt x="119735" y="63700"/>
                </a:lnTo>
                <a:cubicBezTo>
                  <a:pt x="119735" y="65550"/>
                  <a:pt x="117880" y="67400"/>
                  <a:pt x="117880" y="67400"/>
                </a:cubicBezTo>
                <a:lnTo>
                  <a:pt x="117880" y="67400"/>
                </a:lnTo>
                <a:cubicBezTo>
                  <a:pt x="74966" y="117885"/>
                  <a:pt x="74966" y="117885"/>
                  <a:pt x="74966" y="117885"/>
                </a:cubicBezTo>
                <a:lnTo>
                  <a:pt x="74966" y="117885"/>
                </a:lnTo>
                <a:cubicBezTo>
                  <a:pt x="72847" y="119735"/>
                  <a:pt x="70993" y="119735"/>
                  <a:pt x="69139" y="119735"/>
                </a:cubicBezTo>
                <a:lnTo>
                  <a:pt x="69139" y="119735"/>
                </a:lnTo>
                <a:lnTo>
                  <a:pt x="69139" y="119735"/>
                </a:lnTo>
                <a:lnTo>
                  <a:pt x="69139" y="119735"/>
                </a:lnTo>
                <a:lnTo>
                  <a:pt x="67284" y="119735"/>
                </a:lnTo>
                <a:lnTo>
                  <a:pt x="67284" y="119735"/>
                </a:lnTo>
                <a:cubicBezTo>
                  <a:pt x="67284" y="119735"/>
                  <a:pt x="65430" y="119735"/>
                  <a:pt x="63576" y="117885"/>
                </a:cubicBezTo>
                <a:lnTo>
                  <a:pt x="63576" y="117885"/>
                </a:lnTo>
                <a:cubicBezTo>
                  <a:pt x="1854" y="61850"/>
                  <a:pt x="1854" y="61850"/>
                  <a:pt x="1854" y="61850"/>
                </a:cubicBezTo>
                <a:lnTo>
                  <a:pt x="1854" y="61850"/>
                </a:lnTo>
                <a:cubicBezTo>
                  <a:pt x="0" y="59735"/>
                  <a:pt x="0" y="57885"/>
                  <a:pt x="0" y="56035"/>
                </a:cubicBezTo>
                <a:lnTo>
                  <a:pt x="0" y="56035"/>
                </a:lnTo>
                <a:cubicBezTo>
                  <a:pt x="0" y="15066"/>
                  <a:pt x="0" y="15066"/>
                  <a:pt x="0" y="15066"/>
                </a:cubicBezTo>
                <a:cubicBezTo>
                  <a:pt x="0" y="7665"/>
                  <a:pt x="0" y="7665"/>
                  <a:pt x="0" y="7665"/>
                </a:cubicBezTo>
                <a:lnTo>
                  <a:pt x="0" y="7665"/>
                </a:lnTo>
                <a:lnTo>
                  <a:pt x="0" y="7665"/>
                </a:lnTo>
                <a:cubicBezTo>
                  <a:pt x="0" y="3964"/>
                  <a:pt x="1854" y="0"/>
                  <a:pt x="7417" y="0"/>
                </a:cubicBezTo>
                <a:lnTo>
                  <a:pt x="7417" y="0"/>
                </a:lnTo>
                <a:cubicBezTo>
                  <a:pt x="54304" y="0"/>
                  <a:pt x="54304" y="0"/>
                  <a:pt x="54304" y="0"/>
                </a:cubicBezTo>
                <a:lnTo>
                  <a:pt x="54304" y="0"/>
                </a:lnTo>
                <a:lnTo>
                  <a:pt x="54304" y="0"/>
                </a:lnTo>
                <a:cubicBezTo>
                  <a:pt x="56158" y="0"/>
                  <a:pt x="58013" y="2114"/>
                  <a:pt x="59867" y="3964"/>
                </a:cubicBezTo>
                <a:cubicBezTo>
                  <a:pt x="116026" y="57885"/>
                  <a:pt x="116026" y="57885"/>
                  <a:pt x="116026" y="57885"/>
                </a:cubicBezTo>
                <a:cubicBezTo>
                  <a:pt x="117880" y="57885"/>
                  <a:pt x="117880" y="59735"/>
                  <a:pt x="119735" y="61850"/>
                </a:cubicBezTo>
                <a:close/>
                <a:moveTo>
                  <a:pt x="18543" y="11365"/>
                </a:moveTo>
                <a:lnTo>
                  <a:pt x="18543" y="11365"/>
                </a:lnTo>
                <a:cubicBezTo>
                  <a:pt x="12980" y="11365"/>
                  <a:pt x="9271" y="15066"/>
                  <a:pt x="9271" y="20616"/>
                </a:cubicBezTo>
                <a:cubicBezTo>
                  <a:pt x="9271" y="26167"/>
                  <a:pt x="12980" y="29867"/>
                  <a:pt x="18543" y="29867"/>
                </a:cubicBezTo>
                <a:cubicBezTo>
                  <a:pt x="24370" y="29867"/>
                  <a:pt x="29933" y="26167"/>
                  <a:pt x="29933" y="20616"/>
                </a:cubicBezTo>
                <a:cubicBezTo>
                  <a:pt x="29933" y="15066"/>
                  <a:pt x="24370" y="11365"/>
                  <a:pt x="18543" y="11365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Shape 4955"/>
          <p:cNvSpPr/>
          <p:nvPr/>
        </p:nvSpPr>
        <p:spPr>
          <a:xfrm>
            <a:off x="7155000" y="3112920"/>
            <a:ext cx="287280" cy="241560"/>
          </a:xfrm>
          <a:custGeom>
            <a:avLst/>
            <a:gdLst>
              <a:gd name="textAreaLeft" fmla="*/ 0 w 287280"/>
              <a:gd name="textAreaRight" fmla="*/ 287640 w 2872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95880" y="74823"/>
                </a:moveTo>
                <a:lnTo>
                  <a:pt x="95880" y="74823"/>
                </a:lnTo>
                <a:cubicBezTo>
                  <a:pt x="81727" y="74823"/>
                  <a:pt x="70365" y="63294"/>
                  <a:pt x="70365" y="46588"/>
                </a:cubicBezTo>
                <a:cubicBezTo>
                  <a:pt x="70365" y="29882"/>
                  <a:pt x="81727" y="18352"/>
                  <a:pt x="95880" y="18352"/>
                </a:cubicBezTo>
                <a:cubicBezTo>
                  <a:pt x="108438" y="18352"/>
                  <a:pt x="119800" y="29882"/>
                  <a:pt x="119800" y="46588"/>
                </a:cubicBezTo>
                <a:cubicBezTo>
                  <a:pt x="119800" y="63294"/>
                  <a:pt x="108438" y="74823"/>
                  <a:pt x="95880" y="74823"/>
                </a:cubicBezTo>
                <a:close/>
                <a:moveTo>
                  <a:pt x="107043" y="51529"/>
                </a:moveTo>
                <a:lnTo>
                  <a:pt x="107043" y="51529"/>
                </a:lnTo>
                <a:cubicBezTo>
                  <a:pt x="102857" y="46588"/>
                  <a:pt x="102857" y="46588"/>
                  <a:pt x="102857" y="46588"/>
                </a:cubicBezTo>
                <a:cubicBezTo>
                  <a:pt x="107043" y="41647"/>
                  <a:pt x="107043" y="41647"/>
                  <a:pt x="107043" y="41647"/>
                </a:cubicBezTo>
                <a:lnTo>
                  <a:pt x="107043" y="41647"/>
                </a:lnTo>
                <a:cubicBezTo>
                  <a:pt x="108438" y="41647"/>
                  <a:pt x="108438" y="40000"/>
                  <a:pt x="108438" y="38352"/>
                </a:cubicBezTo>
                <a:cubicBezTo>
                  <a:pt x="108438" y="33176"/>
                  <a:pt x="105647" y="31529"/>
                  <a:pt x="102857" y="31529"/>
                </a:cubicBezTo>
                <a:cubicBezTo>
                  <a:pt x="101461" y="31529"/>
                  <a:pt x="100066" y="31529"/>
                  <a:pt x="98671" y="33176"/>
                </a:cubicBezTo>
                <a:lnTo>
                  <a:pt x="98671" y="33176"/>
                </a:lnTo>
                <a:cubicBezTo>
                  <a:pt x="95880" y="36705"/>
                  <a:pt x="95880" y="36705"/>
                  <a:pt x="95880" y="36705"/>
                </a:cubicBezTo>
                <a:cubicBezTo>
                  <a:pt x="91495" y="33176"/>
                  <a:pt x="91495" y="33176"/>
                  <a:pt x="91495" y="33176"/>
                </a:cubicBezTo>
                <a:lnTo>
                  <a:pt x="91495" y="33176"/>
                </a:lnTo>
                <a:cubicBezTo>
                  <a:pt x="90099" y="31529"/>
                  <a:pt x="88704" y="31529"/>
                  <a:pt x="87308" y="31529"/>
                </a:cubicBezTo>
                <a:cubicBezTo>
                  <a:pt x="84518" y="31529"/>
                  <a:pt x="81727" y="33176"/>
                  <a:pt x="81727" y="38352"/>
                </a:cubicBezTo>
                <a:cubicBezTo>
                  <a:pt x="81727" y="40000"/>
                  <a:pt x="83122" y="41647"/>
                  <a:pt x="84518" y="41647"/>
                </a:cubicBezTo>
                <a:lnTo>
                  <a:pt x="84518" y="41647"/>
                </a:lnTo>
                <a:cubicBezTo>
                  <a:pt x="87308" y="46588"/>
                  <a:pt x="87308" y="46588"/>
                  <a:pt x="87308" y="46588"/>
                </a:cubicBezTo>
                <a:cubicBezTo>
                  <a:pt x="84518" y="51529"/>
                  <a:pt x="84518" y="51529"/>
                  <a:pt x="84518" y="51529"/>
                </a:cubicBezTo>
                <a:lnTo>
                  <a:pt x="84518" y="51529"/>
                </a:lnTo>
                <a:cubicBezTo>
                  <a:pt x="83122" y="51529"/>
                  <a:pt x="81727" y="53176"/>
                  <a:pt x="81727" y="54823"/>
                </a:cubicBezTo>
                <a:cubicBezTo>
                  <a:pt x="81727" y="59764"/>
                  <a:pt x="84518" y="61411"/>
                  <a:pt x="87308" y="61411"/>
                </a:cubicBezTo>
                <a:cubicBezTo>
                  <a:pt x="88704" y="61411"/>
                  <a:pt x="90099" y="61411"/>
                  <a:pt x="91495" y="59764"/>
                </a:cubicBezTo>
                <a:lnTo>
                  <a:pt x="91495" y="59764"/>
                </a:lnTo>
                <a:cubicBezTo>
                  <a:pt x="95880" y="56470"/>
                  <a:pt x="95880" y="56470"/>
                  <a:pt x="95880" y="56470"/>
                </a:cubicBezTo>
                <a:cubicBezTo>
                  <a:pt x="98671" y="59764"/>
                  <a:pt x="98671" y="59764"/>
                  <a:pt x="98671" y="59764"/>
                </a:cubicBezTo>
                <a:lnTo>
                  <a:pt x="98671" y="59764"/>
                </a:lnTo>
                <a:cubicBezTo>
                  <a:pt x="100066" y="61411"/>
                  <a:pt x="101461" y="61411"/>
                  <a:pt x="102857" y="61411"/>
                </a:cubicBezTo>
                <a:cubicBezTo>
                  <a:pt x="105647" y="61411"/>
                  <a:pt x="108438" y="59764"/>
                  <a:pt x="108438" y="54823"/>
                </a:cubicBezTo>
                <a:cubicBezTo>
                  <a:pt x="108438" y="53176"/>
                  <a:pt x="108438" y="51529"/>
                  <a:pt x="107043" y="51529"/>
                </a:cubicBezTo>
                <a:close/>
                <a:moveTo>
                  <a:pt x="71960" y="23294"/>
                </a:moveTo>
                <a:lnTo>
                  <a:pt x="71960" y="23294"/>
                </a:lnTo>
                <a:cubicBezTo>
                  <a:pt x="66179" y="9882"/>
                  <a:pt x="66179" y="9882"/>
                  <a:pt x="66179" y="9882"/>
                </a:cubicBezTo>
                <a:lnTo>
                  <a:pt x="66179" y="9882"/>
                </a:lnTo>
                <a:cubicBezTo>
                  <a:pt x="66179" y="8235"/>
                  <a:pt x="64784" y="8235"/>
                  <a:pt x="64784" y="6588"/>
                </a:cubicBezTo>
                <a:cubicBezTo>
                  <a:pt x="64784" y="3294"/>
                  <a:pt x="67574" y="0"/>
                  <a:pt x="70365" y="0"/>
                </a:cubicBezTo>
                <a:cubicBezTo>
                  <a:pt x="73355" y="0"/>
                  <a:pt x="74750" y="1647"/>
                  <a:pt x="76146" y="3294"/>
                </a:cubicBezTo>
                <a:lnTo>
                  <a:pt x="76146" y="3294"/>
                </a:lnTo>
                <a:cubicBezTo>
                  <a:pt x="81727" y="14823"/>
                  <a:pt x="81727" y="14823"/>
                  <a:pt x="81727" y="14823"/>
                </a:cubicBezTo>
                <a:cubicBezTo>
                  <a:pt x="77541" y="16705"/>
                  <a:pt x="74750" y="20000"/>
                  <a:pt x="71960" y="23294"/>
                </a:cubicBezTo>
                <a:close/>
                <a:moveTo>
                  <a:pt x="53621" y="9882"/>
                </a:moveTo>
                <a:lnTo>
                  <a:pt x="53621" y="9882"/>
                </a:lnTo>
                <a:cubicBezTo>
                  <a:pt x="40863" y="38352"/>
                  <a:pt x="40863" y="38352"/>
                  <a:pt x="40863" y="38352"/>
                </a:cubicBezTo>
                <a:cubicBezTo>
                  <a:pt x="28106" y="38352"/>
                  <a:pt x="28106" y="38352"/>
                  <a:pt x="28106" y="38352"/>
                </a:cubicBezTo>
                <a:cubicBezTo>
                  <a:pt x="43654" y="3294"/>
                  <a:pt x="43654" y="3294"/>
                  <a:pt x="43654" y="3294"/>
                </a:cubicBezTo>
                <a:lnTo>
                  <a:pt x="43654" y="3294"/>
                </a:lnTo>
                <a:cubicBezTo>
                  <a:pt x="43654" y="1647"/>
                  <a:pt x="46445" y="0"/>
                  <a:pt x="47840" y="0"/>
                </a:cubicBezTo>
                <a:cubicBezTo>
                  <a:pt x="52225" y="0"/>
                  <a:pt x="53621" y="3294"/>
                  <a:pt x="53621" y="6588"/>
                </a:cubicBezTo>
                <a:cubicBezTo>
                  <a:pt x="53621" y="8235"/>
                  <a:pt x="53621" y="8235"/>
                  <a:pt x="53621" y="9882"/>
                </a:cubicBezTo>
                <a:close/>
                <a:moveTo>
                  <a:pt x="45049" y="44941"/>
                </a:moveTo>
                <a:lnTo>
                  <a:pt x="45049" y="44941"/>
                </a:lnTo>
                <a:cubicBezTo>
                  <a:pt x="64784" y="44941"/>
                  <a:pt x="64784" y="44941"/>
                  <a:pt x="64784" y="44941"/>
                </a:cubicBezTo>
                <a:lnTo>
                  <a:pt x="64784" y="46588"/>
                </a:lnTo>
                <a:cubicBezTo>
                  <a:pt x="64784" y="58117"/>
                  <a:pt x="68970" y="68235"/>
                  <a:pt x="76146" y="74823"/>
                </a:cubicBezTo>
                <a:cubicBezTo>
                  <a:pt x="76146" y="99764"/>
                  <a:pt x="76146" y="99764"/>
                  <a:pt x="76146" y="99764"/>
                </a:cubicBezTo>
                <a:cubicBezTo>
                  <a:pt x="76146" y="103058"/>
                  <a:pt x="78936" y="106352"/>
                  <a:pt x="81727" y="106352"/>
                </a:cubicBezTo>
                <a:cubicBezTo>
                  <a:pt x="85913" y="106352"/>
                  <a:pt x="87308" y="103058"/>
                  <a:pt x="87308" y="99764"/>
                </a:cubicBezTo>
                <a:cubicBezTo>
                  <a:pt x="87308" y="81411"/>
                  <a:pt x="87308" y="81411"/>
                  <a:pt x="87308" y="81411"/>
                </a:cubicBezTo>
                <a:cubicBezTo>
                  <a:pt x="90099" y="81411"/>
                  <a:pt x="92890" y="81411"/>
                  <a:pt x="95880" y="81411"/>
                </a:cubicBezTo>
                <a:cubicBezTo>
                  <a:pt x="98671" y="81411"/>
                  <a:pt x="101461" y="81411"/>
                  <a:pt x="104252" y="79764"/>
                </a:cubicBezTo>
                <a:cubicBezTo>
                  <a:pt x="97275" y="114823"/>
                  <a:pt x="97275" y="114823"/>
                  <a:pt x="97275" y="114823"/>
                </a:cubicBezTo>
                <a:lnTo>
                  <a:pt x="97275" y="114823"/>
                </a:lnTo>
                <a:cubicBezTo>
                  <a:pt x="95880" y="118117"/>
                  <a:pt x="94485" y="119764"/>
                  <a:pt x="91495" y="119764"/>
                </a:cubicBezTo>
                <a:lnTo>
                  <a:pt x="91495" y="119764"/>
                </a:lnTo>
                <a:cubicBezTo>
                  <a:pt x="90099" y="119764"/>
                  <a:pt x="90099" y="119764"/>
                  <a:pt x="90099" y="119764"/>
                </a:cubicBezTo>
                <a:cubicBezTo>
                  <a:pt x="88704" y="119764"/>
                  <a:pt x="88704" y="119764"/>
                  <a:pt x="88704" y="119764"/>
                </a:cubicBezTo>
                <a:cubicBezTo>
                  <a:pt x="28106" y="119764"/>
                  <a:pt x="28106" y="119764"/>
                  <a:pt x="28106" y="119764"/>
                </a:cubicBezTo>
                <a:lnTo>
                  <a:pt x="28106" y="119764"/>
                </a:lnTo>
                <a:lnTo>
                  <a:pt x="28106" y="119764"/>
                </a:lnTo>
                <a:lnTo>
                  <a:pt x="28106" y="119764"/>
                </a:lnTo>
                <a:cubicBezTo>
                  <a:pt x="25315" y="119764"/>
                  <a:pt x="22524" y="118117"/>
                  <a:pt x="22524" y="114823"/>
                </a:cubicBezTo>
                <a:lnTo>
                  <a:pt x="22524" y="114823"/>
                </a:lnTo>
                <a:cubicBezTo>
                  <a:pt x="9966" y="58117"/>
                  <a:pt x="9966" y="58117"/>
                  <a:pt x="9966" y="58117"/>
                </a:cubicBezTo>
                <a:cubicBezTo>
                  <a:pt x="5581" y="58117"/>
                  <a:pt x="5581" y="58117"/>
                  <a:pt x="5581" y="58117"/>
                </a:cubicBezTo>
                <a:cubicBezTo>
                  <a:pt x="1395" y="58117"/>
                  <a:pt x="0" y="54823"/>
                  <a:pt x="0" y="51529"/>
                </a:cubicBezTo>
                <a:cubicBezTo>
                  <a:pt x="0" y="46588"/>
                  <a:pt x="1395" y="44941"/>
                  <a:pt x="5581" y="44941"/>
                </a:cubicBezTo>
                <a:cubicBezTo>
                  <a:pt x="26710" y="44941"/>
                  <a:pt x="26710" y="44941"/>
                  <a:pt x="26710" y="44941"/>
                </a:cubicBezTo>
                <a:cubicBezTo>
                  <a:pt x="45049" y="44941"/>
                  <a:pt x="45049" y="44941"/>
                  <a:pt x="45049" y="44941"/>
                </a:cubicBezTo>
                <a:close/>
                <a:moveTo>
                  <a:pt x="53621" y="99764"/>
                </a:moveTo>
                <a:lnTo>
                  <a:pt x="53621" y="99764"/>
                </a:lnTo>
                <a:cubicBezTo>
                  <a:pt x="53621" y="103058"/>
                  <a:pt x="56411" y="106352"/>
                  <a:pt x="59202" y="106352"/>
                </a:cubicBezTo>
                <a:cubicBezTo>
                  <a:pt x="63388" y="106352"/>
                  <a:pt x="64784" y="103058"/>
                  <a:pt x="64784" y="99764"/>
                </a:cubicBezTo>
                <a:cubicBezTo>
                  <a:pt x="64784" y="64941"/>
                  <a:pt x="64784" y="64941"/>
                  <a:pt x="64784" y="64941"/>
                </a:cubicBezTo>
                <a:cubicBezTo>
                  <a:pt x="64784" y="59764"/>
                  <a:pt x="63388" y="58117"/>
                  <a:pt x="59202" y="58117"/>
                </a:cubicBezTo>
                <a:cubicBezTo>
                  <a:pt x="56411" y="58117"/>
                  <a:pt x="53621" y="59764"/>
                  <a:pt x="53621" y="64941"/>
                </a:cubicBezTo>
                <a:lnTo>
                  <a:pt x="53621" y="99764"/>
                </a:lnTo>
                <a:close/>
                <a:moveTo>
                  <a:pt x="42259" y="64941"/>
                </a:moveTo>
                <a:lnTo>
                  <a:pt x="42259" y="64941"/>
                </a:lnTo>
                <a:cubicBezTo>
                  <a:pt x="42259" y="59764"/>
                  <a:pt x="40863" y="58117"/>
                  <a:pt x="36677" y="58117"/>
                </a:cubicBezTo>
                <a:cubicBezTo>
                  <a:pt x="33887" y="58117"/>
                  <a:pt x="30897" y="59764"/>
                  <a:pt x="30897" y="64941"/>
                </a:cubicBezTo>
                <a:cubicBezTo>
                  <a:pt x="30897" y="99764"/>
                  <a:pt x="30897" y="99764"/>
                  <a:pt x="30897" y="99764"/>
                </a:cubicBezTo>
                <a:cubicBezTo>
                  <a:pt x="30897" y="103058"/>
                  <a:pt x="33887" y="106352"/>
                  <a:pt x="36677" y="106352"/>
                </a:cubicBezTo>
                <a:cubicBezTo>
                  <a:pt x="40863" y="106352"/>
                  <a:pt x="42259" y="103058"/>
                  <a:pt x="42259" y="99764"/>
                </a:cubicBezTo>
                <a:lnTo>
                  <a:pt x="42259" y="64941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Shape 4956"/>
          <p:cNvSpPr/>
          <p:nvPr/>
        </p:nvSpPr>
        <p:spPr>
          <a:xfrm>
            <a:off x="6651720" y="3112920"/>
            <a:ext cx="288720" cy="241560"/>
          </a:xfrm>
          <a:custGeom>
            <a:avLst/>
            <a:gdLst>
              <a:gd name="textAreaLeft" fmla="*/ 0 w 288720"/>
              <a:gd name="textAreaRight" fmla="*/ 289080 w 28872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94581" y="74823"/>
                </a:moveTo>
                <a:lnTo>
                  <a:pt x="94581" y="74823"/>
                </a:lnTo>
                <a:cubicBezTo>
                  <a:pt x="82167" y="74823"/>
                  <a:pt x="70935" y="63294"/>
                  <a:pt x="70935" y="46588"/>
                </a:cubicBezTo>
                <a:cubicBezTo>
                  <a:pt x="70935" y="29882"/>
                  <a:pt x="82167" y="18352"/>
                  <a:pt x="94581" y="18352"/>
                </a:cubicBezTo>
                <a:cubicBezTo>
                  <a:pt x="108571" y="18352"/>
                  <a:pt x="119802" y="29882"/>
                  <a:pt x="119802" y="46588"/>
                </a:cubicBezTo>
                <a:cubicBezTo>
                  <a:pt x="119802" y="63294"/>
                  <a:pt x="108571" y="74823"/>
                  <a:pt x="94581" y="74823"/>
                </a:cubicBezTo>
                <a:close/>
                <a:moveTo>
                  <a:pt x="105812" y="33176"/>
                </a:moveTo>
                <a:lnTo>
                  <a:pt x="105812" y="33176"/>
                </a:lnTo>
                <a:cubicBezTo>
                  <a:pt x="104433" y="33176"/>
                  <a:pt x="103054" y="33176"/>
                  <a:pt x="103054" y="34823"/>
                </a:cubicBezTo>
                <a:cubicBezTo>
                  <a:pt x="91822" y="48235"/>
                  <a:pt x="91822" y="48235"/>
                  <a:pt x="91822" y="48235"/>
                </a:cubicBezTo>
                <a:cubicBezTo>
                  <a:pt x="87684" y="44941"/>
                  <a:pt x="87684" y="44941"/>
                  <a:pt x="87684" y="44941"/>
                </a:cubicBezTo>
                <a:cubicBezTo>
                  <a:pt x="86305" y="43294"/>
                  <a:pt x="84926" y="41647"/>
                  <a:pt x="83546" y="41647"/>
                </a:cubicBezTo>
                <a:cubicBezTo>
                  <a:pt x="80788" y="41647"/>
                  <a:pt x="78029" y="44941"/>
                  <a:pt x="78029" y="48235"/>
                </a:cubicBezTo>
                <a:cubicBezTo>
                  <a:pt x="78029" y="49882"/>
                  <a:pt x="79408" y="51529"/>
                  <a:pt x="80788" y="53176"/>
                </a:cubicBezTo>
                <a:cubicBezTo>
                  <a:pt x="87684" y="61411"/>
                  <a:pt x="87684" y="61411"/>
                  <a:pt x="87684" y="61411"/>
                </a:cubicBezTo>
                <a:cubicBezTo>
                  <a:pt x="89064" y="63294"/>
                  <a:pt x="90443" y="64941"/>
                  <a:pt x="91822" y="64941"/>
                </a:cubicBezTo>
                <a:cubicBezTo>
                  <a:pt x="93201" y="64941"/>
                  <a:pt x="94581" y="63294"/>
                  <a:pt x="94581" y="61411"/>
                </a:cubicBezTo>
                <a:cubicBezTo>
                  <a:pt x="109950" y="44941"/>
                  <a:pt x="109950" y="44941"/>
                  <a:pt x="109950" y="44941"/>
                </a:cubicBezTo>
                <a:cubicBezTo>
                  <a:pt x="111330" y="43294"/>
                  <a:pt x="111330" y="41647"/>
                  <a:pt x="111330" y="40000"/>
                </a:cubicBezTo>
                <a:cubicBezTo>
                  <a:pt x="111330" y="36705"/>
                  <a:pt x="109950" y="33176"/>
                  <a:pt x="105812" y="33176"/>
                </a:cubicBezTo>
                <a:close/>
                <a:moveTo>
                  <a:pt x="72315" y="23294"/>
                </a:moveTo>
                <a:lnTo>
                  <a:pt x="72315" y="23294"/>
                </a:lnTo>
                <a:cubicBezTo>
                  <a:pt x="66798" y="9882"/>
                  <a:pt x="66798" y="9882"/>
                  <a:pt x="66798" y="9882"/>
                </a:cubicBezTo>
                <a:lnTo>
                  <a:pt x="66798" y="9882"/>
                </a:lnTo>
                <a:cubicBezTo>
                  <a:pt x="65418" y="8235"/>
                  <a:pt x="65418" y="8235"/>
                  <a:pt x="65418" y="6588"/>
                </a:cubicBezTo>
                <a:cubicBezTo>
                  <a:pt x="65418" y="3294"/>
                  <a:pt x="68177" y="0"/>
                  <a:pt x="70935" y="0"/>
                </a:cubicBezTo>
                <a:cubicBezTo>
                  <a:pt x="73891" y="0"/>
                  <a:pt x="75270" y="1647"/>
                  <a:pt x="76650" y="3294"/>
                </a:cubicBezTo>
                <a:lnTo>
                  <a:pt x="76650" y="3294"/>
                </a:lnTo>
                <a:cubicBezTo>
                  <a:pt x="80788" y="14823"/>
                  <a:pt x="80788" y="14823"/>
                  <a:pt x="80788" y="14823"/>
                </a:cubicBezTo>
                <a:cubicBezTo>
                  <a:pt x="78029" y="16705"/>
                  <a:pt x="75270" y="20000"/>
                  <a:pt x="72315" y="23294"/>
                </a:cubicBezTo>
                <a:close/>
                <a:moveTo>
                  <a:pt x="53004" y="9882"/>
                </a:moveTo>
                <a:lnTo>
                  <a:pt x="53004" y="9882"/>
                </a:lnTo>
                <a:cubicBezTo>
                  <a:pt x="41773" y="38352"/>
                  <a:pt x="41773" y="38352"/>
                  <a:pt x="41773" y="38352"/>
                </a:cubicBezTo>
                <a:cubicBezTo>
                  <a:pt x="29162" y="38352"/>
                  <a:pt x="29162" y="38352"/>
                  <a:pt x="29162" y="38352"/>
                </a:cubicBezTo>
                <a:cubicBezTo>
                  <a:pt x="43152" y="3294"/>
                  <a:pt x="43152" y="3294"/>
                  <a:pt x="43152" y="3294"/>
                </a:cubicBezTo>
                <a:lnTo>
                  <a:pt x="43152" y="3294"/>
                </a:lnTo>
                <a:cubicBezTo>
                  <a:pt x="44532" y="1647"/>
                  <a:pt x="45911" y="0"/>
                  <a:pt x="48669" y="0"/>
                </a:cubicBezTo>
                <a:cubicBezTo>
                  <a:pt x="51625" y="0"/>
                  <a:pt x="54384" y="3294"/>
                  <a:pt x="54384" y="6588"/>
                </a:cubicBezTo>
                <a:cubicBezTo>
                  <a:pt x="54384" y="8235"/>
                  <a:pt x="54384" y="8235"/>
                  <a:pt x="53004" y="9882"/>
                </a:cubicBezTo>
                <a:close/>
                <a:moveTo>
                  <a:pt x="45911" y="44941"/>
                </a:moveTo>
                <a:lnTo>
                  <a:pt x="45911" y="44941"/>
                </a:lnTo>
                <a:cubicBezTo>
                  <a:pt x="65418" y="44941"/>
                  <a:pt x="65418" y="44941"/>
                  <a:pt x="65418" y="44941"/>
                </a:cubicBezTo>
                <a:lnTo>
                  <a:pt x="65418" y="46588"/>
                </a:lnTo>
                <a:cubicBezTo>
                  <a:pt x="65418" y="58117"/>
                  <a:pt x="69556" y="68235"/>
                  <a:pt x="76650" y="74823"/>
                </a:cubicBezTo>
                <a:cubicBezTo>
                  <a:pt x="76650" y="99764"/>
                  <a:pt x="76650" y="99764"/>
                  <a:pt x="76650" y="99764"/>
                </a:cubicBezTo>
                <a:cubicBezTo>
                  <a:pt x="76650" y="103058"/>
                  <a:pt x="79408" y="106352"/>
                  <a:pt x="82167" y="106352"/>
                </a:cubicBezTo>
                <a:cubicBezTo>
                  <a:pt x="84926" y="106352"/>
                  <a:pt x="87684" y="103058"/>
                  <a:pt x="87684" y="99764"/>
                </a:cubicBezTo>
                <a:cubicBezTo>
                  <a:pt x="87684" y="81411"/>
                  <a:pt x="87684" y="81411"/>
                  <a:pt x="87684" y="81411"/>
                </a:cubicBezTo>
                <a:cubicBezTo>
                  <a:pt x="90443" y="81411"/>
                  <a:pt x="91822" y="81411"/>
                  <a:pt x="94581" y="81411"/>
                </a:cubicBezTo>
                <a:cubicBezTo>
                  <a:pt x="98916" y="81411"/>
                  <a:pt x="101674" y="81411"/>
                  <a:pt x="104433" y="79764"/>
                </a:cubicBezTo>
                <a:cubicBezTo>
                  <a:pt x="97536" y="114823"/>
                  <a:pt x="97536" y="114823"/>
                  <a:pt x="97536" y="114823"/>
                </a:cubicBezTo>
                <a:lnTo>
                  <a:pt x="97536" y="114823"/>
                </a:lnTo>
                <a:cubicBezTo>
                  <a:pt x="96157" y="118117"/>
                  <a:pt x="94581" y="119764"/>
                  <a:pt x="91822" y="119764"/>
                </a:cubicBezTo>
                <a:lnTo>
                  <a:pt x="91822" y="119764"/>
                </a:lnTo>
                <a:cubicBezTo>
                  <a:pt x="90443" y="119764"/>
                  <a:pt x="90443" y="119764"/>
                  <a:pt x="90443" y="119764"/>
                </a:cubicBezTo>
                <a:cubicBezTo>
                  <a:pt x="89064" y="119764"/>
                  <a:pt x="89064" y="119764"/>
                  <a:pt x="89064" y="119764"/>
                </a:cubicBezTo>
                <a:cubicBezTo>
                  <a:pt x="27783" y="119764"/>
                  <a:pt x="27783" y="119764"/>
                  <a:pt x="27783" y="119764"/>
                </a:cubicBezTo>
                <a:lnTo>
                  <a:pt x="27783" y="119764"/>
                </a:lnTo>
                <a:lnTo>
                  <a:pt x="27783" y="119764"/>
                </a:lnTo>
                <a:lnTo>
                  <a:pt x="27783" y="119764"/>
                </a:lnTo>
                <a:cubicBezTo>
                  <a:pt x="25024" y="119764"/>
                  <a:pt x="23645" y="118117"/>
                  <a:pt x="22266" y="114823"/>
                </a:cubicBezTo>
                <a:lnTo>
                  <a:pt x="22266" y="114823"/>
                </a:lnTo>
                <a:cubicBezTo>
                  <a:pt x="11034" y="58117"/>
                  <a:pt x="11034" y="58117"/>
                  <a:pt x="11034" y="58117"/>
                </a:cubicBezTo>
                <a:cubicBezTo>
                  <a:pt x="5517" y="58117"/>
                  <a:pt x="5517" y="58117"/>
                  <a:pt x="5517" y="58117"/>
                </a:cubicBezTo>
                <a:cubicBezTo>
                  <a:pt x="2758" y="58117"/>
                  <a:pt x="0" y="54823"/>
                  <a:pt x="0" y="51529"/>
                </a:cubicBezTo>
                <a:cubicBezTo>
                  <a:pt x="0" y="46588"/>
                  <a:pt x="2758" y="44941"/>
                  <a:pt x="5517" y="44941"/>
                </a:cubicBezTo>
                <a:cubicBezTo>
                  <a:pt x="27783" y="44941"/>
                  <a:pt x="27783" y="44941"/>
                  <a:pt x="27783" y="44941"/>
                </a:cubicBezTo>
                <a:cubicBezTo>
                  <a:pt x="45911" y="44941"/>
                  <a:pt x="45911" y="44941"/>
                  <a:pt x="45911" y="44941"/>
                </a:cubicBezTo>
                <a:close/>
                <a:moveTo>
                  <a:pt x="54384" y="99764"/>
                </a:moveTo>
                <a:lnTo>
                  <a:pt x="54384" y="99764"/>
                </a:lnTo>
                <a:cubicBezTo>
                  <a:pt x="54384" y="103058"/>
                  <a:pt x="57142" y="106352"/>
                  <a:pt x="59901" y="106352"/>
                </a:cubicBezTo>
                <a:cubicBezTo>
                  <a:pt x="62660" y="106352"/>
                  <a:pt x="65418" y="103058"/>
                  <a:pt x="65418" y="99764"/>
                </a:cubicBezTo>
                <a:cubicBezTo>
                  <a:pt x="65418" y="64941"/>
                  <a:pt x="65418" y="64941"/>
                  <a:pt x="65418" y="64941"/>
                </a:cubicBezTo>
                <a:cubicBezTo>
                  <a:pt x="65418" y="59764"/>
                  <a:pt x="62660" y="58117"/>
                  <a:pt x="59901" y="58117"/>
                </a:cubicBezTo>
                <a:cubicBezTo>
                  <a:pt x="57142" y="58117"/>
                  <a:pt x="54384" y="59764"/>
                  <a:pt x="54384" y="64941"/>
                </a:cubicBezTo>
                <a:lnTo>
                  <a:pt x="54384" y="99764"/>
                </a:lnTo>
                <a:close/>
                <a:moveTo>
                  <a:pt x="43152" y="64941"/>
                </a:moveTo>
                <a:lnTo>
                  <a:pt x="43152" y="64941"/>
                </a:lnTo>
                <a:cubicBezTo>
                  <a:pt x="43152" y="59764"/>
                  <a:pt x="40394" y="58117"/>
                  <a:pt x="37635" y="58117"/>
                </a:cubicBezTo>
                <a:cubicBezTo>
                  <a:pt x="34876" y="58117"/>
                  <a:pt x="31921" y="59764"/>
                  <a:pt x="31921" y="64941"/>
                </a:cubicBezTo>
                <a:cubicBezTo>
                  <a:pt x="31921" y="99764"/>
                  <a:pt x="31921" y="99764"/>
                  <a:pt x="31921" y="99764"/>
                </a:cubicBezTo>
                <a:cubicBezTo>
                  <a:pt x="31921" y="103058"/>
                  <a:pt x="34876" y="106352"/>
                  <a:pt x="37635" y="106352"/>
                </a:cubicBezTo>
                <a:cubicBezTo>
                  <a:pt x="40394" y="106352"/>
                  <a:pt x="43152" y="103058"/>
                  <a:pt x="43152" y="99764"/>
                </a:cubicBezTo>
                <a:lnTo>
                  <a:pt x="43152" y="64941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Shape 4957"/>
          <p:cNvSpPr/>
          <p:nvPr/>
        </p:nvSpPr>
        <p:spPr>
          <a:xfrm>
            <a:off x="6154560" y="3112920"/>
            <a:ext cx="285840" cy="241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95681" y="74823"/>
                </a:moveTo>
                <a:lnTo>
                  <a:pt x="95681" y="74823"/>
                </a:lnTo>
                <a:cubicBezTo>
                  <a:pt x="81727" y="74823"/>
                  <a:pt x="71760" y="63294"/>
                  <a:pt x="71760" y="46588"/>
                </a:cubicBezTo>
                <a:cubicBezTo>
                  <a:pt x="71760" y="29882"/>
                  <a:pt x="81727" y="18352"/>
                  <a:pt x="95681" y="18352"/>
                </a:cubicBezTo>
                <a:cubicBezTo>
                  <a:pt x="109833" y="18352"/>
                  <a:pt x="119800" y="29882"/>
                  <a:pt x="119800" y="46588"/>
                </a:cubicBezTo>
                <a:cubicBezTo>
                  <a:pt x="119800" y="63294"/>
                  <a:pt x="109833" y="74823"/>
                  <a:pt x="95681" y="74823"/>
                </a:cubicBezTo>
                <a:close/>
                <a:moveTo>
                  <a:pt x="107043" y="40000"/>
                </a:moveTo>
                <a:lnTo>
                  <a:pt x="107043" y="40000"/>
                </a:lnTo>
                <a:cubicBezTo>
                  <a:pt x="84518" y="40000"/>
                  <a:pt x="84518" y="40000"/>
                  <a:pt x="84518" y="40000"/>
                </a:cubicBezTo>
                <a:cubicBezTo>
                  <a:pt x="81727" y="40000"/>
                  <a:pt x="78936" y="43294"/>
                  <a:pt x="78936" y="46588"/>
                </a:cubicBezTo>
                <a:cubicBezTo>
                  <a:pt x="78936" y="49882"/>
                  <a:pt x="81727" y="53176"/>
                  <a:pt x="84518" y="53176"/>
                </a:cubicBezTo>
                <a:cubicBezTo>
                  <a:pt x="107043" y="53176"/>
                  <a:pt x="107043" y="53176"/>
                  <a:pt x="107043" y="53176"/>
                </a:cubicBezTo>
                <a:cubicBezTo>
                  <a:pt x="109833" y="53176"/>
                  <a:pt x="112624" y="49882"/>
                  <a:pt x="112624" y="46588"/>
                </a:cubicBezTo>
                <a:cubicBezTo>
                  <a:pt x="112624" y="43294"/>
                  <a:pt x="109833" y="40000"/>
                  <a:pt x="107043" y="40000"/>
                </a:cubicBezTo>
                <a:close/>
                <a:moveTo>
                  <a:pt x="73156" y="23294"/>
                </a:moveTo>
                <a:lnTo>
                  <a:pt x="73156" y="23294"/>
                </a:lnTo>
                <a:cubicBezTo>
                  <a:pt x="66179" y="9882"/>
                  <a:pt x="66179" y="9882"/>
                  <a:pt x="66179" y="9882"/>
                </a:cubicBezTo>
                <a:lnTo>
                  <a:pt x="66179" y="9882"/>
                </a:lnTo>
                <a:cubicBezTo>
                  <a:pt x="66179" y="8235"/>
                  <a:pt x="66179" y="8235"/>
                  <a:pt x="66179" y="6588"/>
                </a:cubicBezTo>
                <a:cubicBezTo>
                  <a:pt x="66179" y="3294"/>
                  <a:pt x="67574" y="0"/>
                  <a:pt x="71760" y="0"/>
                </a:cubicBezTo>
                <a:cubicBezTo>
                  <a:pt x="73156" y="0"/>
                  <a:pt x="76146" y="1647"/>
                  <a:pt x="76146" y="3294"/>
                </a:cubicBezTo>
                <a:lnTo>
                  <a:pt x="76146" y="3294"/>
                </a:lnTo>
                <a:cubicBezTo>
                  <a:pt x="81727" y="14823"/>
                  <a:pt x="81727" y="14823"/>
                  <a:pt x="81727" y="14823"/>
                </a:cubicBezTo>
                <a:cubicBezTo>
                  <a:pt x="78936" y="16705"/>
                  <a:pt x="74551" y="20000"/>
                  <a:pt x="73156" y="23294"/>
                </a:cubicBezTo>
                <a:close/>
                <a:moveTo>
                  <a:pt x="53621" y="9882"/>
                </a:moveTo>
                <a:lnTo>
                  <a:pt x="53621" y="9882"/>
                </a:lnTo>
                <a:cubicBezTo>
                  <a:pt x="40863" y="38352"/>
                  <a:pt x="40863" y="38352"/>
                  <a:pt x="40863" y="38352"/>
                </a:cubicBezTo>
                <a:cubicBezTo>
                  <a:pt x="28106" y="38352"/>
                  <a:pt x="28106" y="38352"/>
                  <a:pt x="28106" y="38352"/>
                </a:cubicBezTo>
                <a:cubicBezTo>
                  <a:pt x="43654" y="3294"/>
                  <a:pt x="43654" y="3294"/>
                  <a:pt x="43654" y="3294"/>
                </a:cubicBezTo>
                <a:lnTo>
                  <a:pt x="43654" y="3294"/>
                </a:lnTo>
                <a:cubicBezTo>
                  <a:pt x="45049" y="1647"/>
                  <a:pt x="46445" y="0"/>
                  <a:pt x="49235" y="0"/>
                </a:cubicBezTo>
                <a:cubicBezTo>
                  <a:pt x="52026" y="0"/>
                  <a:pt x="55016" y="3294"/>
                  <a:pt x="55016" y="6588"/>
                </a:cubicBezTo>
                <a:cubicBezTo>
                  <a:pt x="55016" y="8235"/>
                  <a:pt x="53621" y="8235"/>
                  <a:pt x="53621" y="9882"/>
                </a:cubicBezTo>
                <a:close/>
                <a:moveTo>
                  <a:pt x="46445" y="44941"/>
                </a:moveTo>
                <a:lnTo>
                  <a:pt x="46445" y="44941"/>
                </a:lnTo>
                <a:cubicBezTo>
                  <a:pt x="66179" y="44941"/>
                  <a:pt x="66179" y="44941"/>
                  <a:pt x="66179" y="44941"/>
                </a:cubicBezTo>
                <a:lnTo>
                  <a:pt x="66179" y="46588"/>
                </a:lnTo>
                <a:cubicBezTo>
                  <a:pt x="66179" y="58117"/>
                  <a:pt x="70365" y="68235"/>
                  <a:pt x="77541" y="74823"/>
                </a:cubicBezTo>
                <a:cubicBezTo>
                  <a:pt x="77541" y="99764"/>
                  <a:pt x="77541" y="99764"/>
                  <a:pt x="77541" y="99764"/>
                </a:cubicBezTo>
                <a:cubicBezTo>
                  <a:pt x="77541" y="103058"/>
                  <a:pt x="78936" y="106352"/>
                  <a:pt x="83122" y="106352"/>
                </a:cubicBezTo>
                <a:cubicBezTo>
                  <a:pt x="85913" y="106352"/>
                  <a:pt x="88704" y="103058"/>
                  <a:pt x="88704" y="99764"/>
                </a:cubicBezTo>
                <a:cubicBezTo>
                  <a:pt x="88704" y="81411"/>
                  <a:pt x="88704" y="81411"/>
                  <a:pt x="88704" y="81411"/>
                </a:cubicBezTo>
                <a:cubicBezTo>
                  <a:pt x="90099" y="81411"/>
                  <a:pt x="92890" y="81411"/>
                  <a:pt x="95681" y="81411"/>
                </a:cubicBezTo>
                <a:cubicBezTo>
                  <a:pt x="98671" y="81411"/>
                  <a:pt x="101461" y="81411"/>
                  <a:pt x="104252" y="79764"/>
                </a:cubicBezTo>
                <a:cubicBezTo>
                  <a:pt x="97076" y="114823"/>
                  <a:pt x="97076" y="114823"/>
                  <a:pt x="97076" y="114823"/>
                </a:cubicBezTo>
                <a:lnTo>
                  <a:pt x="97076" y="114823"/>
                </a:lnTo>
                <a:cubicBezTo>
                  <a:pt x="97076" y="118117"/>
                  <a:pt x="94285" y="119764"/>
                  <a:pt x="91495" y="119764"/>
                </a:cubicBezTo>
                <a:lnTo>
                  <a:pt x="91495" y="119764"/>
                </a:lnTo>
                <a:lnTo>
                  <a:pt x="91495" y="119764"/>
                </a:lnTo>
                <a:cubicBezTo>
                  <a:pt x="90099" y="119764"/>
                  <a:pt x="90099" y="119764"/>
                  <a:pt x="90099" y="119764"/>
                </a:cubicBezTo>
                <a:cubicBezTo>
                  <a:pt x="28106" y="119764"/>
                  <a:pt x="28106" y="119764"/>
                  <a:pt x="28106" y="119764"/>
                </a:cubicBezTo>
                <a:lnTo>
                  <a:pt x="28106" y="119764"/>
                </a:lnTo>
                <a:lnTo>
                  <a:pt x="28106" y="119764"/>
                </a:lnTo>
                <a:lnTo>
                  <a:pt x="28106" y="119764"/>
                </a:lnTo>
                <a:cubicBezTo>
                  <a:pt x="25315" y="119764"/>
                  <a:pt x="23920" y="118117"/>
                  <a:pt x="22524" y="114823"/>
                </a:cubicBezTo>
                <a:lnTo>
                  <a:pt x="22524" y="114823"/>
                </a:lnTo>
                <a:cubicBezTo>
                  <a:pt x="11162" y="58117"/>
                  <a:pt x="11162" y="58117"/>
                  <a:pt x="11162" y="58117"/>
                </a:cubicBezTo>
                <a:cubicBezTo>
                  <a:pt x="5581" y="58117"/>
                  <a:pt x="5581" y="58117"/>
                  <a:pt x="5581" y="58117"/>
                </a:cubicBezTo>
                <a:cubicBezTo>
                  <a:pt x="2790" y="58117"/>
                  <a:pt x="0" y="54823"/>
                  <a:pt x="0" y="51529"/>
                </a:cubicBezTo>
                <a:cubicBezTo>
                  <a:pt x="0" y="46588"/>
                  <a:pt x="2790" y="44941"/>
                  <a:pt x="5581" y="44941"/>
                </a:cubicBezTo>
                <a:cubicBezTo>
                  <a:pt x="26710" y="44941"/>
                  <a:pt x="26710" y="44941"/>
                  <a:pt x="26710" y="44941"/>
                </a:cubicBezTo>
                <a:cubicBezTo>
                  <a:pt x="46445" y="44941"/>
                  <a:pt x="46445" y="44941"/>
                  <a:pt x="46445" y="44941"/>
                </a:cubicBezTo>
                <a:close/>
                <a:moveTo>
                  <a:pt x="55016" y="99764"/>
                </a:moveTo>
                <a:lnTo>
                  <a:pt x="55016" y="99764"/>
                </a:lnTo>
                <a:cubicBezTo>
                  <a:pt x="55016" y="103058"/>
                  <a:pt x="56411" y="106352"/>
                  <a:pt x="60598" y="106352"/>
                </a:cubicBezTo>
                <a:cubicBezTo>
                  <a:pt x="63388" y="106352"/>
                  <a:pt x="66179" y="103058"/>
                  <a:pt x="66179" y="99764"/>
                </a:cubicBezTo>
                <a:cubicBezTo>
                  <a:pt x="66179" y="64941"/>
                  <a:pt x="66179" y="64941"/>
                  <a:pt x="66179" y="64941"/>
                </a:cubicBezTo>
                <a:cubicBezTo>
                  <a:pt x="66179" y="59764"/>
                  <a:pt x="63388" y="58117"/>
                  <a:pt x="60598" y="58117"/>
                </a:cubicBezTo>
                <a:cubicBezTo>
                  <a:pt x="56411" y="58117"/>
                  <a:pt x="55016" y="59764"/>
                  <a:pt x="55016" y="64941"/>
                </a:cubicBezTo>
                <a:lnTo>
                  <a:pt x="55016" y="99764"/>
                </a:lnTo>
                <a:close/>
                <a:moveTo>
                  <a:pt x="43654" y="64941"/>
                </a:moveTo>
                <a:lnTo>
                  <a:pt x="43654" y="64941"/>
                </a:lnTo>
                <a:cubicBezTo>
                  <a:pt x="43654" y="59764"/>
                  <a:pt x="40863" y="58117"/>
                  <a:pt x="38073" y="58117"/>
                </a:cubicBezTo>
                <a:cubicBezTo>
                  <a:pt x="33687" y="58117"/>
                  <a:pt x="32292" y="59764"/>
                  <a:pt x="32292" y="64941"/>
                </a:cubicBezTo>
                <a:cubicBezTo>
                  <a:pt x="32292" y="99764"/>
                  <a:pt x="32292" y="99764"/>
                  <a:pt x="32292" y="99764"/>
                </a:cubicBezTo>
                <a:cubicBezTo>
                  <a:pt x="32292" y="103058"/>
                  <a:pt x="33687" y="106352"/>
                  <a:pt x="38073" y="106352"/>
                </a:cubicBezTo>
                <a:cubicBezTo>
                  <a:pt x="40863" y="106352"/>
                  <a:pt x="43654" y="103058"/>
                  <a:pt x="43654" y="99764"/>
                </a:cubicBezTo>
                <a:lnTo>
                  <a:pt x="43654" y="64941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Shape 4958"/>
          <p:cNvSpPr/>
          <p:nvPr/>
        </p:nvSpPr>
        <p:spPr>
          <a:xfrm>
            <a:off x="5654520" y="3112920"/>
            <a:ext cx="284400" cy="24156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95840" y="74823"/>
                </a:moveTo>
                <a:lnTo>
                  <a:pt x="95840" y="74823"/>
                </a:lnTo>
                <a:cubicBezTo>
                  <a:pt x="81863" y="74823"/>
                  <a:pt x="70482" y="63294"/>
                  <a:pt x="70482" y="46588"/>
                </a:cubicBezTo>
                <a:cubicBezTo>
                  <a:pt x="70482" y="29882"/>
                  <a:pt x="81863" y="18352"/>
                  <a:pt x="95840" y="18352"/>
                </a:cubicBezTo>
                <a:cubicBezTo>
                  <a:pt x="108618" y="18352"/>
                  <a:pt x="119800" y="29882"/>
                  <a:pt x="119800" y="46588"/>
                </a:cubicBezTo>
                <a:cubicBezTo>
                  <a:pt x="119800" y="63294"/>
                  <a:pt x="108618" y="74823"/>
                  <a:pt x="95840" y="74823"/>
                </a:cubicBezTo>
                <a:close/>
                <a:moveTo>
                  <a:pt x="107221" y="40000"/>
                </a:moveTo>
                <a:lnTo>
                  <a:pt x="107221" y="40000"/>
                </a:lnTo>
                <a:cubicBezTo>
                  <a:pt x="101630" y="40000"/>
                  <a:pt x="101630" y="40000"/>
                  <a:pt x="101630" y="40000"/>
                </a:cubicBezTo>
                <a:cubicBezTo>
                  <a:pt x="101630" y="33176"/>
                  <a:pt x="101630" y="33176"/>
                  <a:pt x="101630" y="33176"/>
                </a:cubicBezTo>
                <a:cubicBezTo>
                  <a:pt x="101630" y="29882"/>
                  <a:pt x="98635" y="26588"/>
                  <a:pt x="95840" y="26588"/>
                </a:cubicBezTo>
                <a:cubicBezTo>
                  <a:pt x="91647" y="26588"/>
                  <a:pt x="90249" y="29882"/>
                  <a:pt x="90249" y="33176"/>
                </a:cubicBezTo>
                <a:cubicBezTo>
                  <a:pt x="90249" y="40000"/>
                  <a:pt x="90249" y="40000"/>
                  <a:pt x="90249" y="40000"/>
                </a:cubicBezTo>
                <a:cubicBezTo>
                  <a:pt x="84658" y="40000"/>
                  <a:pt x="84658" y="40000"/>
                  <a:pt x="84658" y="40000"/>
                </a:cubicBezTo>
                <a:cubicBezTo>
                  <a:pt x="80465" y="40000"/>
                  <a:pt x="79068" y="43294"/>
                  <a:pt x="79068" y="46588"/>
                </a:cubicBezTo>
                <a:cubicBezTo>
                  <a:pt x="79068" y="49882"/>
                  <a:pt x="80465" y="53176"/>
                  <a:pt x="84658" y="53176"/>
                </a:cubicBezTo>
                <a:cubicBezTo>
                  <a:pt x="90249" y="53176"/>
                  <a:pt x="90249" y="53176"/>
                  <a:pt x="90249" y="53176"/>
                </a:cubicBezTo>
                <a:cubicBezTo>
                  <a:pt x="90249" y="59764"/>
                  <a:pt x="90249" y="59764"/>
                  <a:pt x="90249" y="59764"/>
                </a:cubicBezTo>
                <a:cubicBezTo>
                  <a:pt x="90249" y="63294"/>
                  <a:pt x="91647" y="66588"/>
                  <a:pt x="95840" y="66588"/>
                </a:cubicBezTo>
                <a:cubicBezTo>
                  <a:pt x="98635" y="66588"/>
                  <a:pt x="101630" y="63294"/>
                  <a:pt x="101630" y="59764"/>
                </a:cubicBezTo>
                <a:cubicBezTo>
                  <a:pt x="101630" y="53176"/>
                  <a:pt x="101630" y="53176"/>
                  <a:pt x="101630" y="53176"/>
                </a:cubicBezTo>
                <a:cubicBezTo>
                  <a:pt x="107221" y="53176"/>
                  <a:pt x="107221" y="53176"/>
                  <a:pt x="107221" y="53176"/>
                </a:cubicBezTo>
                <a:cubicBezTo>
                  <a:pt x="110016" y="53176"/>
                  <a:pt x="112811" y="49882"/>
                  <a:pt x="112811" y="46588"/>
                </a:cubicBezTo>
                <a:cubicBezTo>
                  <a:pt x="112811" y="43294"/>
                  <a:pt x="110016" y="40000"/>
                  <a:pt x="107221" y="40000"/>
                </a:cubicBezTo>
                <a:close/>
                <a:moveTo>
                  <a:pt x="71880" y="23294"/>
                </a:moveTo>
                <a:lnTo>
                  <a:pt x="71880" y="23294"/>
                </a:lnTo>
                <a:cubicBezTo>
                  <a:pt x="66289" y="9882"/>
                  <a:pt x="66289" y="9882"/>
                  <a:pt x="66289" y="9882"/>
                </a:cubicBezTo>
                <a:lnTo>
                  <a:pt x="66289" y="9882"/>
                </a:lnTo>
                <a:cubicBezTo>
                  <a:pt x="66289" y="8235"/>
                  <a:pt x="64891" y="8235"/>
                  <a:pt x="64891" y="6588"/>
                </a:cubicBezTo>
                <a:cubicBezTo>
                  <a:pt x="64891" y="3294"/>
                  <a:pt x="67687" y="0"/>
                  <a:pt x="70482" y="0"/>
                </a:cubicBezTo>
                <a:cubicBezTo>
                  <a:pt x="73277" y="0"/>
                  <a:pt x="74675" y="1647"/>
                  <a:pt x="76073" y="3294"/>
                </a:cubicBezTo>
                <a:lnTo>
                  <a:pt x="76073" y="3294"/>
                </a:lnTo>
                <a:cubicBezTo>
                  <a:pt x="81863" y="14823"/>
                  <a:pt x="81863" y="14823"/>
                  <a:pt x="81863" y="14823"/>
                </a:cubicBezTo>
                <a:cubicBezTo>
                  <a:pt x="77670" y="16705"/>
                  <a:pt x="74675" y="20000"/>
                  <a:pt x="71880" y="23294"/>
                </a:cubicBezTo>
                <a:close/>
                <a:moveTo>
                  <a:pt x="53510" y="9882"/>
                </a:moveTo>
                <a:lnTo>
                  <a:pt x="53510" y="9882"/>
                </a:lnTo>
                <a:cubicBezTo>
                  <a:pt x="40931" y="38352"/>
                  <a:pt x="40931" y="38352"/>
                  <a:pt x="40931" y="38352"/>
                </a:cubicBezTo>
                <a:cubicBezTo>
                  <a:pt x="28153" y="38352"/>
                  <a:pt x="28153" y="38352"/>
                  <a:pt x="28153" y="38352"/>
                </a:cubicBezTo>
                <a:cubicBezTo>
                  <a:pt x="43727" y="3294"/>
                  <a:pt x="43727" y="3294"/>
                  <a:pt x="43727" y="3294"/>
                </a:cubicBezTo>
                <a:lnTo>
                  <a:pt x="43727" y="3294"/>
                </a:lnTo>
                <a:cubicBezTo>
                  <a:pt x="43727" y="1647"/>
                  <a:pt x="46522" y="0"/>
                  <a:pt x="47920" y="0"/>
                </a:cubicBezTo>
                <a:cubicBezTo>
                  <a:pt x="52113" y="0"/>
                  <a:pt x="53510" y="3294"/>
                  <a:pt x="53510" y="6588"/>
                </a:cubicBezTo>
                <a:cubicBezTo>
                  <a:pt x="53510" y="8235"/>
                  <a:pt x="53510" y="8235"/>
                  <a:pt x="53510" y="9882"/>
                </a:cubicBezTo>
                <a:close/>
                <a:moveTo>
                  <a:pt x="45124" y="44941"/>
                </a:moveTo>
                <a:lnTo>
                  <a:pt x="45124" y="44941"/>
                </a:lnTo>
                <a:cubicBezTo>
                  <a:pt x="64891" y="44941"/>
                  <a:pt x="64891" y="44941"/>
                  <a:pt x="64891" y="44941"/>
                </a:cubicBezTo>
                <a:lnTo>
                  <a:pt x="64891" y="46588"/>
                </a:lnTo>
                <a:cubicBezTo>
                  <a:pt x="64891" y="58117"/>
                  <a:pt x="69084" y="68235"/>
                  <a:pt x="76073" y="74823"/>
                </a:cubicBezTo>
                <a:cubicBezTo>
                  <a:pt x="76073" y="99764"/>
                  <a:pt x="76073" y="99764"/>
                  <a:pt x="76073" y="99764"/>
                </a:cubicBezTo>
                <a:cubicBezTo>
                  <a:pt x="76073" y="103058"/>
                  <a:pt x="79068" y="106352"/>
                  <a:pt x="81863" y="106352"/>
                </a:cubicBezTo>
                <a:cubicBezTo>
                  <a:pt x="86056" y="106352"/>
                  <a:pt x="87454" y="103058"/>
                  <a:pt x="87454" y="99764"/>
                </a:cubicBezTo>
                <a:cubicBezTo>
                  <a:pt x="87454" y="81411"/>
                  <a:pt x="87454" y="81411"/>
                  <a:pt x="87454" y="81411"/>
                </a:cubicBezTo>
                <a:cubicBezTo>
                  <a:pt x="90249" y="81411"/>
                  <a:pt x="93044" y="81411"/>
                  <a:pt x="95840" y="81411"/>
                </a:cubicBezTo>
                <a:cubicBezTo>
                  <a:pt x="98635" y="81411"/>
                  <a:pt x="101630" y="81411"/>
                  <a:pt x="104425" y="79764"/>
                </a:cubicBezTo>
                <a:cubicBezTo>
                  <a:pt x="97237" y="114823"/>
                  <a:pt x="97237" y="114823"/>
                  <a:pt x="97237" y="114823"/>
                </a:cubicBezTo>
                <a:lnTo>
                  <a:pt x="97237" y="114823"/>
                </a:lnTo>
                <a:cubicBezTo>
                  <a:pt x="95840" y="118117"/>
                  <a:pt x="94442" y="119764"/>
                  <a:pt x="91647" y="119764"/>
                </a:cubicBezTo>
                <a:lnTo>
                  <a:pt x="91647" y="119764"/>
                </a:lnTo>
                <a:cubicBezTo>
                  <a:pt x="90249" y="119764"/>
                  <a:pt x="90249" y="119764"/>
                  <a:pt x="90249" y="119764"/>
                </a:cubicBezTo>
                <a:cubicBezTo>
                  <a:pt x="88851" y="119764"/>
                  <a:pt x="88851" y="119764"/>
                  <a:pt x="88851" y="119764"/>
                </a:cubicBezTo>
                <a:cubicBezTo>
                  <a:pt x="28153" y="119764"/>
                  <a:pt x="28153" y="119764"/>
                  <a:pt x="28153" y="119764"/>
                </a:cubicBezTo>
                <a:lnTo>
                  <a:pt x="28153" y="119764"/>
                </a:lnTo>
                <a:lnTo>
                  <a:pt x="28153" y="119764"/>
                </a:lnTo>
                <a:lnTo>
                  <a:pt x="28153" y="119764"/>
                </a:lnTo>
                <a:cubicBezTo>
                  <a:pt x="25357" y="119764"/>
                  <a:pt x="22562" y="118117"/>
                  <a:pt x="22562" y="114823"/>
                </a:cubicBezTo>
                <a:lnTo>
                  <a:pt x="22562" y="114823"/>
                </a:lnTo>
                <a:cubicBezTo>
                  <a:pt x="9783" y="58117"/>
                  <a:pt x="9783" y="58117"/>
                  <a:pt x="9783" y="58117"/>
                </a:cubicBezTo>
                <a:cubicBezTo>
                  <a:pt x="5590" y="58117"/>
                  <a:pt x="5590" y="58117"/>
                  <a:pt x="5590" y="58117"/>
                </a:cubicBezTo>
                <a:cubicBezTo>
                  <a:pt x="1397" y="58117"/>
                  <a:pt x="0" y="54823"/>
                  <a:pt x="0" y="51529"/>
                </a:cubicBezTo>
                <a:cubicBezTo>
                  <a:pt x="0" y="46588"/>
                  <a:pt x="1397" y="44941"/>
                  <a:pt x="5590" y="44941"/>
                </a:cubicBezTo>
                <a:cubicBezTo>
                  <a:pt x="26755" y="44941"/>
                  <a:pt x="26755" y="44941"/>
                  <a:pt x="26755" y="44941"/>
                </a:cubicBezTo>
                <a:cubicBezTo>
                  <a:pt x="45124" y="44941"/>
                  <a:pt x="45124" y="44941"/>
                  <a:pt x="45124" y="44941"/>
                </a:cubicBezTo>
                <a:close/>
                <a:moveTo>
                  <a:pt x="53510" y="99764"/>
                </a:moveTo>
                <a:lnTo>
                  <a:pt x="53510" y="99764"/>
                </a:lnTo>
                <a:cubicBezTo>
                  <a:pt x="53510" y="103058"/>
                  <a:pt x="56505" y="106352"/>
                  <a:pt x="59301" y="106352"/>
                </a:cubicBezTo>
                <a:cubicBezTo>
                  <a:pt x="63494" y="106352"/>
                  <a:pt x="64891" y="103058"/>
                  <a:pt x="64891" y="99764"/>
                </a:cubicBezTo>
                <a:cubicBezTo>
                  <a:pt x="64891" y="64941"/>
                  <a:pt x="64891" y="64941"/>
                  <a:pt x="64891" y="64941"/>
                </a:cubicBezTo>
                <a:cubicBezTo>
                  <a:pt x="64891" y="59764"/>
                  <a:pt x="63494" y="58117"/>
                  <a:pt x="59301" y="58117"/>
                </a:cubicBezTo>
                <a:cubicBezTo>
                  <a:pt x="56505" y="58117"/>
                  <a:pt x="53510" y="59764"/>
                  <a:pt x="53510" y="64941"/>
                </a:cubicBezTo>
                <a:lnTo>
                  <a:pt x="53510" y="99764"/>
                </a:lnTo>
                <a:close/>
                <a:moveTo>
                  <a:pt x="42329" y="64941"/>
                </a:moveTo>
                <a:lnTo>
                  <a:pt x="42329" y="64941"/>
                </a:lnTo>
                <a:cubicBezTo>
                  <a:pt x="42329" y="59764"/>
                  <a:pt x="40931" y="58117"/>
                  <a:pt x="36539" y="58117"/>
                </a:cubicBezTo>
                <a:cubicBezTo>
                  <a:pt x="33743" y="58117"/>
                  <a:pt x="30948" y="59764"/>
                  <a:pt x="30948" y="64941"/>
                </a:cubicBezTo>
                <a:cubicBezTo>
                  <a:pt x="30948" y="99764"/>
                  <a:pt x="30948" y="99764"/>
                  <a:pt x="30948" y="99764"/>
                </a:cubicBezTo>
                <a:cubicBezTo>
                  <a:pt x="30948" y="103058"/>
                  <a:pt x="33743" y="106352"/>
                  <a:pt x="36539" y="106352"/>
                </a:cubicBezTo>
                <a:cubicBezTo>
                  <a:pt x="40931" y="106352"/>
                  <a:pt x="42329" y="103058"/>
                  <a:pt x="42329" y="99764"/>
                </a:cubicBezTo>
                <a:lnTo>
                  <a:pt x="42329" y="64941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Shape 4959"/>
          <p:cNvSpPr/>
          <p:nvPr/>
        </p:nvSpPr>
        <p:spPr>
          <a:xfrm>
            <a:off x="5151600" y="3112920"/>
            <a:ext cx="288720" cy="241560"/>
          </a:xfrm>
          <a:custGeom>
            <a:avLst/>
            <a:gdLst>
              <a:gd name="textAreaLeft" fmla="*/ 0 w 288720"/>
              <a:gd name="textAreaRight" fmla="*/ 289080 w 28872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802" y="49882"/>
                </a:moveTo>
                <a:lnTo>
                  <a:pt x="119802" y="49882"/>
                </a:lnTo>
                <a:lnTo>
                  <a:pt x="119802" y="49882"/>
                </a:lnTo>
                <a:lnTo>
                  <a:pt x="119802" y="51529"/>
                </a:lnTo>
                <a:lnTo>
                  <a:pt x="119802" y="51529"/>
                </a:lnTo>
                <a:lnTo>
                  <a:pt x="119802" y="51529"/>
                </a:lnTo>
                <a:lnTo>
                  <a:pt x="119802" y="51529"/>
                </a:lnTo>
                <a:cubicBezTo>
                  <a:pt x="119802" y="54823"/>
                  <a:pt x="117039" y="58117"/>
                  <a:pt x="114276" y="58117"/>
                </a:cubicBezTo>
                <a:cubicBezTo>
                  <a:pt x="108750" y="58117"/>
                  <a:pt x="108750" y="58117"/>
                  <a:pt x="108750" y="58117"/>
                </a:cubicBezTo>
                <a:cubicBezTo>
                  <a:pt x="97500" y="114823"/>
                  <a:pt x="97500" y="114823"/>
                  <a:pt x="97500" y="114823"/>
                </a:cubicBezTo>
                <a:lnTo>
                  <a:pt x="97500" y="114823"/>
                </a:lnTo>
                <a:cubicBezTo>
                  <a:pt x="96118" y="118117"/>
                  <a:pt x="94736" y="119764"/>
                  <a:pt x="91973" y="119764"/>
                </a:cubicBezTo>
                <a:lnTo>
                  <a:pt x="91973" y="119764"/>
                </a:lnTo>
                <a:lnTo>
                  <a:pt x="91973" y="119764"/>
                </a:lnTo>
                <a:cubicBezTo>
                  <a:pt x="90592" y="119764"/>
                  <a:pt x="90592" y="119764"/>
                  <a:pt x="90592" y="119764"/>
                </a:cubicBezTo>
                <a:cubicBezTo>
                  <a:pt x="89210" y="119764"/>
                  <a:pt x="89210" y="119764"/>
                  <a:pt x="89210" y="119764"/>
                </a:cubicBezTo>
                <a:cubicBezTo>
                  <a:pt x="27828" y="119764"/>
                  <a:pt x="27828" y="119764"/>
                  <a:pt x="27828" y="119764"/>
                </a:cubicBezTo>
                <a:lnTo>
                  <a:pt x="27828" y="119764"/>
                </a:lnTo>
                <a:lnTo>
                  <a:pt x="27828" y="119764"/>
                </a:lnTo>
                <a:lnTo>
                  <a:pt x="27828" y="119764"/>
                </a:lnTo>
                <a:cubicBezTo>
                  <a:pt x="25065" y="119764"/>
                  <a:pt x="23684" y="118117"/>
                  <a:pt x="22302" y="114823"/>
                </a:cubicBezTo>
                <a:lnTo>
                  <a:pt x="22302" y="114823"/>
                </a:lnTo>
                <a:cubicBezTo>
                  <a:pt x="11052" y="58117"/>
                  <a:pt x="11052" y="58117"/>
                  <a:pt x="11052" y="58117"/>
                </a:cubicBezTo>
                <a:cubicBezTo>
                  <a:pt x="5526" y="58117"/>
                  <a:pt x="5526" y="58117"/>
                  <a:pt x="5526" y="58117"/>
                </a:cubicBezTo>
                <a:cubicBezTo>
                  <a:pt x="2763" y="58117"/>
                  <a:pt x="0" y="54823"/>
                  <a:pt x="0" y="51529"/>
                </a:cubicBezTo>
                <a:cubicBezTo>
                  <a:pt x="0" y="46588"/>
                  <a:pt x="2763" y="44941"/>
                  <a:pt x="5526" y="44941"/>
                </a:cubicBezTo>
                <a:cubicBezTo>
                  <a:pt x="27828" y="44941"/>
                  <a:pt x="27828" y="44941"/>
                  <a:pt x="27828" y="44941"/>
                </a:cubicBezTo>
                <a:lnTo>
                  <a:pt x="27828" y="44941"/>
                </a:lnTo>
                <a:cubicBezTo>
                  <a:pt x="45986" y="44941"/>
                  <a:pt x="45986" y="44941"/>
                  <a:pt x="45986" y="44941"/>
                </a:cubicBezTo>
                <a:lnTo>
                  <a:pt x="45986" y="44941"/>
                </a:lnTo>
                <a:cubicBezTo>
                  <a:pt x="69671" y="44941"/>
                  <a:pt x="69671" y="44941"/>
                  <a:pt x="69671" y="44941"/>
                </a:cubicBezTo>
                <a:lnTo>
                  <a:pt x="69671" y="44941"/>
                </a:lnTo>
                <a:cubicBezTo>
                  <a:pt x="83684" y="44941"/>
                  <a:pt x="83684" y="44941"/>
                  <a:pt x="83684" y="44941"/>
                </a:cubicBezTo>
                <a:lnTo>
                  <a:pt x="83684" y="44941"/>
                </a:lnTo>
                <a:cubicBezTo>
                  <a:pt x="91973" y="44941"/>
                  <a:pt x="91973" y="44941"/>
                  <a:pt x="91973" y="44941"/>
                </a:cubicBezTo>
                <a:lnTo>
                  <a:pt x="91973" y="44941"/>
                </a:lnTo>
                <a:lnTo>
                  <a:pt x="91973" y="44941"/>
                </a:lnTo>
                <a:cubicBezTo>
                  <a:pt x="114276" y="44941"/>
                  <a:pt x="114276" y="44941"/>
                  <a:pt x="114276" y="44941"/>
                </a:cubicBezTo>
                <a:lnTo>
                  <a:pt x="114276" y="44941"/>
                </a:lnTo>
                <a:lnTo>
                  <a:pt x="114276" y="44941"/>
                </a:lnTo>
                <a:cubicBezTo>
                  <a:pt x="117039" y="44941"/>
                  <a:pt x="118421" y="46588"/>
                  <a:pt x="119802" y="49882"/>
                </a:cubicBezTo>
                <a:close/>
                <a:moveTo>
                  <a:pt x="43223" y="64941"/>
                </a:moveTo>
                <a:lnTo>
                  <a:pt x="43223" y="64941"/>
                </a:lnTo>
                <a:cubicBezTo>
                  <a:pt x="43223" y="59764"/>
                  <a:pt x="40460" y="58117"/>
                  <a:pt x="37500" y="58117"/>
                </a:cubicBezTo>
                <a:cubicBezTo>
                  <a:pt x="34736" y="58117"/>
                  <a:pt x="31973" y="59764"/>
                  <a:pt x="31973" y="64941"/>
                </a:cubicBezTo>
                <a:cubicBezTo>
                  <a:pt x="31973" y="99764"/>
                  <a:pt x="31973" y="99764"/>
                  <a:pt x="31973" y="99764"/>
                </a:cubicBezTo>
                <a:cubicBezTo>
                  <a:pt x="31973" y="103058"/>
                  <a:pt x="34736" y="106352"/>
                  <a:pt x="37500" y="106352"/>
                </a:cubicBezTo>
                <a:cubicBezTo>
                  <a:pt x="40460" y="106352"/>
                  <a:pt x="43223" y="103058"/>
                  <a:pt x="43223" y="99764"/>
                </a:cubicBezTo>
                <a:lnTo>
                  <a:pt x="43223" y="64941"/>
                </a:lnTo>
                <a:close/>
                <a:moveTo>
                  <a:pt x="65526" y="64941"/>
                </a:moveTo>
                <a:lnTo>
                  <a:pt x="65526" y="64941"/>
                </a:lnTo>
                <a:cubicBezTo>
                  <a:pt x="65526" y="59764"/>
                  <a:pt x="62763" y="58117"/>
                  <a:pt x="60000" y="58117"/>
                </a:cubicBezTo>
                <a:cubicBezTo>
                  <a:pt x="57236" y="58117"/>
                  <a:pt x="54276" y="59764"/>
                  <a:pt x="54276" y="64941"/>
                </a:cubicBezTo>
                <a:cubicBezTo>
                  <a:pt x="54276" y="99764"/>
                  <a:pt x="54276" y="99764"/>
                  <a:pt x="54276" y="99764"/>
                </a:cubicBezTo>
                <a:cubicBezTo>
                  <a:pt x="54276" y="103058"/>
                  <a:pt x="57236" y="106352"/>
                  <a:pt x="60000" y="106352"/>
                </a:cubicBezTo>
                <a:cubicBezTo>
                  <a:pt x="62763" y="106352"/>
                  <a:pt x="65526" y="103058"/>
                  <a:pt x="65526" y="99764"/>
                </a:cubicBezTo>
                <a:lnTo>
                  <a:pt x="65526" y="64941"/>
                </a:lnTo>
                <a:close/>
                <a:moveTo>
                  <a:pt x="87828" y="64941"/>
                </a:moveTo>
                <a:lnTo>
                  <a:pt x="87828" y="64941"/>
                </a:lnTo>
                <a:cubicBezTo>
                  <a:pt x="87828" y="59764"/>
                  <a:pt x="85065" y="58117"/>
                  <a:pt x="82302" y="58117"/>
                </a:cubicBezTo>
                <a:cubicBezTo>
                  <a:pt x="79539" y="58117"/>
                  <a:pt x="76578" y="59764"/>
                  <a:pt x="76578" y="64941"/>
                </a:cubicBezTo>
                <a:cubicBezTo>
                  <a:pt x="76578" y="99764"/>
                  <a:pt x="76578" y="99764"/>
                  <a:pt x="76578" y="99764"/>
                </a:cubicBezTo>
                <a:cubicBezTo>
                  <a:pt x="76578" y="103058"/>
                  <a:pt x="79539" y="106352"/>
                  <a:pt x="82302" y="106352"/>
                </a:cubicBezTo>
                <a:cubicBezTo>
                  <a:pt x="85065" y="106352"/>
                  <a:pt x="87828" y="103058"/>
                  <a:pt x="87828" y="99764"/>
                </a:cubicBezTo>
                <a:lnTo>
                  <a:pt x="87828" y="64941"/>
                </a:lnTo>
                <a:close/>
                <a:moveTo>
                  <a:pt x="66907" y="9882"/>
                </a:moveTo>
                <a:lnTo>
                  <a:pt x="66907" y="9882"/>
                </a:lnTo>
                <a:lnTo>
                  <a:pt x="66907" y="9882"/>
                </a:lnTo>
                <a:cubicBezTo>
                  <a:pt x="65526" y="8235"/>
                  <a:pt x="65526" y="8235"/>
                  <a:pt x="65526" y="6588"/>
                </a:cubicBezTo>
                <a:cubicBezTo>
                  <a:pt x="65526" y="3294"/>
                  <a:pt x="68289" y="0"/>
                  <a:pt x="71052" y="0"/>
                </a:cubicBezTo>
                <a:cubicBezTo>
                  <a:pt x="73815" y="0"/>
                  <a:pt x="75197" y="1647"/>
                  <a:pt x="76578" y="3294"/>
                </a:cubicBezTo>
                <a:lnTo>
                  <a:pt x="76578" y="3294"/>
                </a:lnTo>
                <a:cubicBezTo>
                  <a:pt x="90592" y="38352"/>
                  <a:pt x="90592" y="38352"/>
                  <a:pt x="90592" y="38352"/>
                </a:cubicBezTo>
                <a:cubicBezTo>
                  <a:pt x="77960" y="38352"/>
                  <a:pt x="77960" y="38352"/>
                  <a:pt x="77960" y="38352"/>
                </a:cubicBezTo>
                <a:lnTo>
                  <a:pt x="66907" y="9882"/>
                </a:lnTo>
                <a:close/>
                <a:moveTo>
                  <a:pt x="52894" y="9882"/>
                </a:moveTo>
                <a:lnTo>
                  <a:pt x="52894" y="9882"/>
                </a:lnTo>
                <a:cubicBezTo>
                  <a:pt x="41842" y="38352"/>
                  <a:pt x="41842" y="38352"/>
                  <a:pt x="41842" y="38352"/>
                </a:cubicBezTo>
                <a:cubicBezTo>
                  <a:pt x="29210" y="38352"/>
                  <a:pt x="29210" y="38352"/>
                  <a:pt x="29210" y="38352"/>
                </a:cubicBezTo>
                <a:cubicBezTo>
                  <a:pt x="43223" y="3294"/>
                  <a:pt x="43223" y="3294"/>
                  <a:pt x="43223" y="3294"/>
                </a:cubicBezTo>
                <a:lnTo>
                  <a:pt x="43223" y="3294"/>
                </a:lnTo>
                <a:cubicBezTo>
                  <a:pt x="44605" y="1647"/>
                  <a:pt x="45986" y="0"/>
                  <a:pt x="48750" y="0"/>
                </a:cubicBezTo>
                <a:cubicBezTo>
                  <a:pt x="51513" y="0"/>
                  <a:pt x="54276" y="3294"/>
                  <a:pt x="54276" y="6588"/>
                </a:cubicBezTo>
                <a:cubicBezTo>
                  <a:pt x="54276" y="8235"/>
                  <a:pt x="54276" y="8235"/>
                  <a:pt x="52894" y="988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Shape 4960"/>
          <p:cNvSpPr/>
          <p:nvPr/>
        </p:nvSpPr>
        <p:spPr>
          <a:xfrm>
            <a:off x="4680000" y="3087720"/>
            <a:ext cx="231840" cy="288720"/>
          </a:xfrm>
          <a:custGeom>
            <a:avLst/>
            <a:gdLst>
              <a:gd name="textAreaLeft" fmla="*/ 0 w 231840"/>
              <a:gd name="textAreaRight" fmla="*/ 232200 w 2318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2638" y="119802"/>
                </a:moveTo>
                <a:lnTo>
                  <a:pt x="112638" y="119802"/>
                </a:lnTo>
                <a:cubicBezTo>
                  <a:pt x="6871" y="119802"/>
                  <a:pt x="6871" y="119802"/>
                  <a:pt x="6871" y="119802"/>
                </a:cubicBezTo>
                <a:cubicBezTo>
                  <a:pt x="3435" y="119802"/>
                  <a:pt x="0" y="117044"/>
                  <a:pt x="0" y="114285"/>
                </a:cubicBezTo>
                <a:cubicBezTo>
                  <a:pt x="0" y="108768"/>
                  <a:pt x="0" y="108768"/>
                  <a:pt x="0" y="108768"/>
                </a:cubicBezTo>
                <a:cubicBezTo>
                  <a:pt x="119754" y="108768"/>
                  <a:pt x="119754" y="108768"/>
                  <a:pt x="119754" y="108768"/>
                </a:cubicBezTo>
                <a:cubicBezTo>
                  <a:pt x="119754" y="114285"/>
                  <a:pt x="119754" y="114285"/>
                  <a:pt x="119754" y="114285"/>
                </a:cubicBezTo>
                <a:cubicBezTo>
                  <a:pt x="119754" y="117044"/>
                  <a:pt x="118036" y="119802"/>
                  <a:pt x="112638" y="119802"/>
                </a:cubicBezTo>
                <a:close/>
                <a:moveTo>
                  <a:pt x="0" y="33497"/>
                </a:moveTo>
                <a:lnTo>
                  <a:pt x="0" y="33497"/>
                </a:lnTo>
                <a:cubicBezTo>
                  <a:pt x="0" y="30738"/>
                  <a:pt x="3435" y="27980"/>
                  <a:pt x="6871" y="27980"/>
                </a:cubicBezTo>
                <a:cubicBezTo>
                  <a:pt x="26012" y="27980"/>
                  <a:pt x="26012" y="27980"/>
                  <a:pt x="26012" y="27980"/>
                </a:cubicBezTo>
                <a:cubicBezTo>
                  <a:pt x="26012" y="12610"/>
                  <a:pt x="41717" y="0"/>
                  <a:pt x="60858" y="0"/>
                </a:cubicBezTo>
                <a:cubicBezTo>
                  <a:pt x="79754" y="0"/>
                  <a:pt x="95460" y="12610"/>
                  <a:pt x="95460" y="27980"/>
                </a:cubicBezTo>
                <a:cubicBezTo>
                  <a:pt x="112638" y="27980"/>
                  <a:pt x="112638" y="27980"/>
                  <a:pt x="112638" y="27980"/>
                </a:cubicBezTo>
                <a:cubicBezTo>
                  <a:pt x="118036" y="27980"/>
                  <a:pt x="119754" y="30738"/>
                  <a:pt x="119754" y="33497"/>
                </a:cubicBezTo>
                <a:cubicBezTo>
                  <a:pt x="119754" y="103251"/>
                  <a:pt x="119754" y="103251"/>
                  <a:pt x="119754" y="103251"/>
                </a:cubicBezTo>
                <a:cubicBezTo>
                  <a:pt x="0" y="103251"/>
                  <a:pt x="0" y="103251"/>
                  <a:pt x="0" y="103251"/>
                </a:cubicBezTo>
                <a:lnTo>
                  <a:pt x="0" y="33497"/>
                </a:lnTo>
                <a:close/>
                <a:moveTo>
                  <a:pt x="81472" y="27980"/>
                </a:moveTo>
                <a:lnTo>
                  <a:pt x="81472" y="27980"/>
                </a:lnTo>
                <a:cubicBezTo>
                  <a:pt x="81472" y="19507"/>
                  <a:pt x="71165" y="11231"/>
                  <a:pt x="60858" y="11231"/>
                </a:cubicBezTo>
                <a:cubicBezTo>
                  <a:pt x="48588" y="11231"/>
                  <a:pt x="40000" y="19507"/>
                  <a:pt x="40000" y="27980"/>
                </a:cubicBezTo>
                <a:lnTo>
                  <a:pt x="81472" y="2798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Shape 4961"/>
          <p:cNvSpPr/>
          <p:nvPr/>
        </p:nvSpPr>
        <p:spPr>
          <a:xfrm>
            <a:off x="4156200" y="3102120"/>
            <a:ext cx="284040" cy="261720"/>
          </a:xfrm>
          <a:custGeom>
            <a:avLst/>
            <a:gdLst>
              <a:gd name="textAreaLeft" fmla="*/ 0 w 284040"/>
              <a:gd name="textAreaRight" fmla="*/ 284400 w 2840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19800" y="49130"/>
                </a:moveTo>
                <a:lnTo>
                  <a:pt x="119800" y="49130"/>
                </a:lnTo>
                <a:cubicBezTo>
                  <a:pt x="119800" y="58260"/>
                  <a:pt x="112811" y="66086"/>
                  <a:pt x="104226" y="66086"/>
                </a:cubicBezTo>
                <a:cubicBezTo>
                  <a:pt x="95840" y="66086"/>
                  <a:pt x="90249" y="58260"/>
                  <a:pt x="90249" y="49130"/>
                </a:cubicBezTo>
                <a:lnTo>
                  <a:pt x="90249" y="49130"/>
                </a:lnTo>
                <a:lnTo>
                  <a:pt x="90249" y="49130"/>
                </a:lnTo>
                <a:lnTo>
                  <a:pt x="90249" y="49130"/>
                </a:lnTo>
                <a:cubicBezTo>
                  <a:pt x="90249" y="58260"/>
                  <a:pt x="83261" y="66086"/>
                  <a:pt x="74675" y="66086"/>
                </a:cubicBezTo>
                <a:cubicBezTo>
                  <a:pt x="66289" y="66086"/>
                  <a:pt x="59101" y="58260"/>
                  <a:pt x="59101" y="49130"/>
                </a:cubicBezTo>
                <a:lnTo>
                  <a:pt x="59101" y="49130"/>
                </a:lnTo>
                <a:lnTo>
                  <a:pt x="59101" y="49130"/>
                </a:lnTo>
                <a:lnTo>
                  <a:pt x="59101" y="49130"/>
                </a:lnTo>
                <a:lnTo>
                  <a:pt x="59101" y="49130"/>
                </a:lnTo>
                <a:cubicBezTo>
                  <a:pt x="59101" y="58260"/>
                  <a:pt x="53510" y="66086"/>
                  <a:pt x="45124" y="66086"/>
                </a:cubicBezTo>
                <a:cubicBezTo>
                  <a:pt x="36539" y="66086"/>
                  <a:pt x="29550" y="58260"/>
                  <a:pt x="29550" y="49130"/>
                </a:cubicBezTo>
                <a:lnTo>
                  <a:pt x="29550" y="49130"/>
                </a:lnTo>
                <a:lnTo>
                  <a:pt x="29550" y="49130"/>
                </a:lnTo>
                <a:lnTo>
                  <a:pt x="29550" y="49130"/>
                </a:lnTo>
                <a:lnTo>
                  <a:pt x="29550" y="49130"/>
                </a:lnTo>
                <a:cubicBezTo>
                  <a:pt x="29550" y="58260"/>
                  <a:pt x="22562" y="66086"/>
                  <a:pt x="13976" y="66086"/>
                </a:cubicBezTo>
                <a:cubicBezTo>
                  <a:pt x="5590" y="66086"/>
                  <a:pt x="0" y="58260"/>
                  <a:pt x="0" y="49130"/>
                </a:cubicBezTo>
                <a:lnTo>
                  <a:pt x="0" y="49130"/>
                </a:lnTo>
                <a:lnTo>
                  <a:pt x="0" y="49130"/>
                </a:lnTo>
                <a:lnTo>
                  <a:pt x="0" y="49130"/>
                </a:lnTo>
                <a:cubicBezTo>
                  <a:pt x="9783" y="18260"/>
                  <a:pt x="9783" y="18260"/>
                  <a:pt x="9783" y="18260"/>
                </a:cubicBezTo>
                <a:cubicBezTo>
                  <a:pt x="110016" y="18260"/>
                  <a:pt x="110016" y="18260"/>
                  <a:pt x="110016" y="18260"/>
                </a:cubicBezTo>
                <a:cubicBezTo>
                  <a:pt x="119800" y="49130"/>
                  <a:pt x="119800" y="49130"/>
                  <a:pt x="119800" y="49130"/>
                </a:cubicBezTo>
                <a:close/>
                <a:moveTo>
                  <a:pt x="101430" y="12173"/>
                </a:moveTo>
                <a:lnTo>
                  <a:pt x="101430" y="12173"/>
                </a:lnTo>
                <a:cubicBezTo>
                  <a:pt x="18169" y="12173"/>
                  <a:pt x="18169" y="12173"/>
                  <a:pt x="18169" y="12173"/>
                </a:cubicBezTo>
                <a:cubicBezTo>
                  <a:pt x="15374" y="12173"/>
                  <a:pt x="12579" y="10652"/>
                  <a:pt x="12579" y="6086"/>
                </a:cubicBezTo>
                <a:cubicBezTo>
                  <a:pt x="12579" y="3043"/>
                  <a:pt x="15374" y="0"/>
                  <a:pt x="18169" y="0"/>
                </a:cubicBezTo>
                <a:cubicBezTo>
                  <a:pt x="101430" y="0"/>
                  <a:pt x="101430" y="0"/>
                  <a:pt x="101430" y="0"/>
                </a:cubicBezTo>
                <a:cubicBezTo>
                  <a:pt x="104226" y="0"/>
                  <a:pt x="107221" y="3043"/>
                  <a:pt x="107221" y="6086"/>
                </a:cubicBezTo>
                <a:cubicBezTo>
                  <a:pt x="107221" y="10652"/>
                  <a:pt x="104226" y="12173"/>
                  <a:pt x="101430" y="12173"/>
                </a:cubicBezTo>
                <a:close/>
                <a:moveTo>
                  <a:pt x="16772" y="72173"/>
                </a:moveTo>
                <a:lnTo>
                  <a:pt x="16772" y="72173"/>
                </a:lnTo>
                <a:lnTo>
                  <a:pt x="16772" y="72173"/>
                </a:lnTo>
                <a:cubicBezTo>
                  <a:pt x="16772" y="72173"/>
                  <a:pt x="16772" y="72173"/>
                  <a:pt x="18169" y="72173"/>
                </a:cubicBezTo>
                <a:lnTo>
                  <a:pt x="18169" y="72173"/>
                </a:lnTo>
                <a:cubicBezTo>
                  <a:pt x="18169" y="72173"/>
                  <a:pt x="18169" y="72173"/>
                  <a:pt x="19567" y="72173"/>
                </a:cubicBezTo>
                <a:cubicBezTo>
                  <a:pt x="19567" y="70652"/>
                  <a:pt x="21164" y="70652"/>
                  <a:pt x="22562" y="70652"/>
                </a:cubicBezTo>
                <a:lnTo>
                  <a:pt x="22562" y="70652"/>
                </a:lnTo>
                <a:lnTo>
                  <a:pt x="22562" y="70652"/>
                </a:lnTo>
                <a:cubicBezTo>
                  <a:pt x="22562" y="101304"/>
                  <a:pt x="22562" y="101304"/>
                  <a:pt x="22562" y="101304"/>
                </a:cubicBezTo>
                <a:cubicBezTo>
                  <a:pt x="97237" y="101304"/>
                  <a:pt x="97237" y="101304"/>
                  <a:pt x="97237" y="101304"/>
                </a:cubicBezTo>
                <a:cubicBezTo>
                  <a:pt x="97237" y="70652"/>
                  <a:pt x="97237" y="70652"/>
                  <a:pt x="97237" y="70652"/>
                </a:cubicBezTo>
                <a:lnTo>
                  <a:pt x="97237" y="70652"/>
                </a:lnTo>
                <a:lnTo>
                  <a:pt x="97237" y="70652"/>
                </a:lnTo>
                <a:cubicBezTo>
                  <a:pt x="98635" y="70652"/>
                  <a:pt x="98635" y="70652"/>
                  <a:pt x="100033" y="72173"/>
                </a:cubicBezTo>
                <a:cubicBezTo>
                  <a:pt x="100033" y="72173"/>
                  <a:pt x="100033" y="72173"/>
                  <a:pt x="101430" y="72173"/>
                </a:cubicBezTo>
                <a:lnTo>
                  <a:pt x="101430" y="72173"/>
                </a:lnTo>
                <a:lnTo>
                  <a:pt x="102828" y="72173"/>
                </a:lnTo>
                <a:lnTo>
                  <a:pt x="102828" y="72173"/>
                </a:lnTo>
                <a:lnTo>
                  <a:pt x="104226" y="72173"/>
                </a:lnTo>
                <a:cubicBezTo>
                  <a:pt x="105823" y="72173"/>
                  <a:pt x="107221" y="72173"/>
                  <a:pt x="108618" y="72173"/>
                </a:cubicBezTo>
                <a:cubicBezTo>
                  <a:pt x="108618" y="113695"/>
                  <a:pt x="108618" y="113695"/>
                  <a:pt x="108618" y="113695"/>
                </a:cubicBezTo>
                <a:cubicBezTo>
                  <a:pt x="108618" y="116739"/>
                  <a:pt x="105823" y="119782"/>
                  <a:pt x="102828" y="119782"/>
                </a:cubicBezTo>
                <a:cubicBezTo>
                  <a:pt x="16772" y="119782"/>
                  <a:pt x="16772" y="119782"/>
                  <a:pt x="16772" y="119782"/>
                </a:cubicBezTo>
                <a:cubicBezTo>
                  <a:pt x="12579" y="119782"/>
                  <a:pt x="11181" y="116739"/>
                  <a:pt x="11181" y="113695"/>
                </a:cubicBezTo>
                <a:cubicBezTo>
                  <a:pt x="11181" y="72173"/>
                  <a:pt x="11181" y="72173"/>
                  <a:pt x="11181" y="72173"/>
                </a:cubicBezTo>
                <a:cubicBezTo>
                  <a:pt x="12579" y="72173"/>
                  <a:pt x="12579" y="72173"/>
                  <a:pt x="13976" y="72173"/>
                </a:cubicBezTo>
                <a:cubicBezTo>
                  <a:pt x="15374" y="72173"/>
                  <a:pt x="15374" y="72173"/>
                  <a:pt x="16772" y="72173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Shape 4962"/>
          <p:cNvSpPr/>
          <p:nvPr/>
        </p:nvSpPr>
        <p:spPr>
          <a:xfrm>
            <a:off x="3651120" y="3095640"/>
            <a:ext cx="289080" cy="255600"/>
          </a:xfrm>
          <a:custGeom>
            <a:avLst/>
            <a:gdLst>
              <a:gd name="textAreaLeft" fmla="*/ 0 w 289080"/>
              <a:gd name="textAreaRight" fmla="*/ 289440 w 289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4778" y="53531"/>
                </a:moveTo>
                <a:lnTo>
                  <a:pt x="94778" y="53531"/>
                </a:lnTo>
                <a:cubicBezTo>
                  <a:pt x="82167" y="53531"/>
                  <a:pt x="71133" y="42602"/>
                  <a:pt x="71133" y="26765"/>
                </a:cubicBezTo>
                <a:cubicBezTo>
                  <a:pt x="71133" y="10929"/>
                  <a:pt x="82167" y="0"/>
                  <a:pt x="94778" y="0"/>
                </a:cubicBezTo>
                <a:cubicBezTo>
                  <a:pt x="108768" y="0"/>
                  <a:pt x="119802" y="10929"/>
                  <a:pt x="119802" y="26765"/>
                </a:cubicBezTo>
                <a:cubicBezTo>
                  <a:pt x="119802" y="42602"/>
                  <a:pt x="108768" y="53531"/>
                  <a:pt x="94778" y="53531"/>
                </a:cubicBezTo>
                <a:close/>
                <a:moveTo>
                  <a:pt x="87881" y="12490"/>
                </a:moveTo>
                <a:lnTo>
                  <a:pt x="87881" y="12490"/>
                </a:lnTo>
                <a:close/>
                <a:moveTo>
                  <a:pt x="103054" y="12490"/>
                </a:moveTo>
                <a:lnTo>
                  <a:pt x="103054" y="12490"/>
                </a:lnTo>
                <a:close/>
                <a:moveTo>
                  <a:pt x="108768" y="18736"/>
                </a:moveTo>
                <a:lnTo>
                  <a:pt x="108768" y="18736"/>
                </a:lnTo>
                <a:lnTo>
                  <a:pt x="108768" y="18736"/>
                </a:lnTo>
                <a:cubicBezTo>
                  <a:pt x="108768" y="14052"/>
                  <a:pt x="105812" y="12490"/>
                  <a:pt x="103054" y="12490"/>
                </a:cubicBezTo>
                <a:cubicBezTo>
                  <a:pt x="101674" y="12490"/>
                  <a:pt x="100295" y="12490"/>
                  <a:pt x="98916" y="14052"/>
                </a:cubicBezTo>
                <a:lnTo>
                  <a:pt x="98916" y="14052"/>
                </a:lnTo>
                <a:cubicBezTo>
                  <a:pt x="94778" y="17174"/>
                  <a:pt x="94778" y="17174"/>
                  <a:pt x="94778" y="17174"/>
                </a:cubicBezTo>
                <a:cubicBezTo>
                  <a:pt x="92019" y="14052"/>
                  <a:pt x="92019" y="14052"/>
                  <a:pt x="92019" y="14052"/>
                </a:cubicBezTo>
                <a:lnTo>
                  <a:pt x="92019" y="14052"/>
                </a:lnTo>
                <a:cubicBezTo>
                  <a:pt x="90640" y="12490"/>
                  <a:pt x="89261" y="12490"/>
                  <a:pt x="87881" y="12490"/>
                </a:cubicBezTo>
                <a:cubicBezTo>
                  <a:pt x="85123" y="12490"/>
                  <a:pt x="82167" y="14052"/>
                  <a:pt x="82167" y="18736"/>
                </a:cubicBezTo>
                <a:cubicBezTo>
                  <a:pt x="82167" y="20297"/>
                  <a:pt x="82167" y="21858"/>
                  <a:pt x="83546" y="21858"/>
                </a:cubicBezTo>
                <a:lnTo>
                  <a:pt x="83546" y="21858"/>
                </a:lnTo>
                <a:cubicBezTo>
                  <a:pt x="87881" y="26765"/>
                  <a:pt x="87881" y="26765"/>
                  <a:pt x="87881" y="26765"/>
                </a:cubicBezTo>
                <a:cubicBezTo>
                  <a:pt x="83546" y="31449"/>
                  <a:pt x="83546" y="31449"/>
                  <a:pt x="83546" y="31449"/>
                </a:cubicBezTo>
                <a:lnTo>
                  <a:pt x="83546" y="31449"/>
                </a:lnTo>
                <a:cubicBezTo>
                  <a:pt x="82167" y="31449"/>
                  <a:pt x="82167" y="33011"/>
                  <a:pt x="82167" y="34572"/>
                </a:cubicBezTo>
                <a:cubicBezTo>
                  <a:pt x="82167" y="39256"/>
                  <a:pt x="85123" y="40817"/>
                  <a:pt x="87881" y="40817"/>
                </a:cubicBezTo>
                <a:cubicBezTo>
                  <a:pt x="89261" y="40817"/>
                  <a:pt x="90640" y="40817"/>
                  <a:pt x="92019" y="39256"/>
                </a:cubicBezTo>
                <a:lnTo>
                  <a:pt x="92019" y="39256"/>
                </a:lnTo>
                <a:cubicBezTo>
                  <a:pt x="94778" y="36133"/>
                  <a:pt x="94778" y="36133"/>
                  <a:pt x="94778" y="36133"/>
                </a:cubicBezTo>
                <a:cubicBezTo>
                  <a:pt x="98916" y="39256"/>
                  <a:pt x="98916" y="39256"/>
                  <a:pt x="98916" y="39256"/>
                </a:cubicBezTo>
                <a:lnTo>
                  <a:pt x="98916" y="39256"/>
                </a:lnTo>
                <a:cubicBezTo>
                  <a:pt x="100295" y="40817"/>
                  <a:pt x="101674" y="40817"/>
                  <a:pt x="103054" y="40817"/>
                </a:cubicBezTo>
                <a:cubicBezTo>
                  <a:pt x="105812" y="40817"/>
                  <a:pt x="108768" y="39256"/>
                  <a:pt x="108768" y="34572"/>
                </a:cubicBezTo>
                <a:cubicBezTo>
                  <a:pt x="108768" y="33011"/>
                  <a:pt x="107389" y="31449"/>
                  <a:pt x="105812" y="31449"/>
                </a:cubicBezTo>
                <a:lnTo>
                  <a:pt x="105812" y="31449"/>
                </a:lnTo>
                <a:cubicBezTo>
                  <a:pt x="103054" y="26765"/>
                  <a:pt x="103054" y="26765"/>
                  <a:pt x="103054" y="26765"/>
                </a:cubicBezTo>
                <a:cubicBezTo>
                  <a:pt x="105812" y="21858"/>
                  <a:pt x="105812" y="21858"/>
                  <a:pt x="105812" y="21858"/>
                </a:cubicBezTo>
                <a:lnTo>
                  <a:pt x="105812" y="21858"/>
                </a:lnTo>
                <a:cubicBezTo>
                  <a:pt x="107389" y="21858"/>
                  <a:pt x="108768" y="20297"/>
                  <a:pt x="108768" y="18736"/>
                </a:cubicBezTo>
                <a:close/>
                <a:moveTo>
                  <a:pt x="108768" y="37695"/>
                </a:moveTo>
                <a:lnTo>
                  <a:pt x="108768" y="37695"/>
                </a:lnTo>
                <a:close/>
                <a:moveTo>
                  <a:pt x="46108" y="72490"/>
                </a:moveTo>
                <a:lnTo>
                  <a:pt x="46108" y="72490"/>
                </a:lnTo>
                <a:cubicBezTo>
                  <a:pt x="93399" y="69368"/>
                  <a:pt x="93399" y="69368"/>
                  <a:pt x="93399" y="69368"/>
                </a:cubicBezTo>
                <a:cubicBezTo>
                  <a:pt x="97536" y="59776"/>
                  <a:pt x="97536" y="59776"/>
                  <a:pt x="97536" y="59776"/>
                </a:cubicBezTo>
                <a:cubicBezTo>
                  <a:pt x="101674" y="59776"/>
                  <a:pt x="107389" y="58215"/>
                  <a:pt x="111527" y="55092"/>
                </a:cubicBezTo>
                <a:cubicBezTo>
                  <a:pt x="101674" y="77174"/>
                  <a:pt x="101674" y="77174"/>
                  <a:pt x="101674" y="77174"/>
                </a:cubicBezTo>
                <a:lnTo>
                  <a:pt x="101674" y="77174"/>
                </a:lnTo>
                <a:cubicBezTo>
                  <a:pt x="101674" y="80297"/>
                  <a:pt x="98916" y="81858"/>
                  <a:pt x="97536" y="81858"/>
                </a:cubicBezTo>
                <a:lnTo>
                  <a:pt x="97536" y="81858"/>
                </a:lnTo>
                <a:cubicBezTo>
                  <a:pt x="48866" y="84981"/>
                  <a:pt x="48866" y="84981"/>
                  <a:pt x="48866" y="84981"/>
                </a:cubicBezTo>
                <a:cubicBezTo>
                  <a:pt x="51625" y="94572"/>
                  <a:pt x="51625" y="94572"/>
                  <a:pt x="51625" y="94572"/>
                </a:cubicBezTo>
                <a:cubicBezTo>
                  <a:pt x="104433" y="94572"/>
                  <a:pt x="104433" y="94572"/>
                  <a:pt x="104433" y="94572"/>
                </a:cubicBezTo>
                <a:cubicBezTo>
                  <a:pt x="110147" y="94572"/>
                  <a:pt x="115665" y="99256"/>
                  <a:pt x="115665" y="107063"/>
                </a:cubicBezTo>
                <a:cubicBezTo>
                  <a:pt x="115665" y="113531"/>
                  <a:pt x="110147" y="119776"/>
                  <a:pt x="104433" y="119776"/>
                </a:cubicBezTo>
                <a:cubicBezTo>
                  <a:pt x="98916" y="119776"/>
                  <a:pt x="93399" y="113531"/>
                  <a:pt x="93399" y="107063"/>
                </a:cubicBezTo>
                <a:cubicBezTo>
                  <a:pt x="41773" y="107063"/>
                  <a:pt x="41773" y="107063"/>
                  <a:pt x="41773" y="107063"/>
                </a:cubicBezTo>
                <a:cubicBezTo>
                  <a:pt x="41773" y="113531"/>
                  <a:pt x="36256" y="119776"/>
                  <a:pt x="30738" y="119776"/>
                </a:cubicBezTo>
                <a:cubicBezTo>
                  <a:pt x="23842" y="119776"/>
                  <a:pt x="19507" y="113531"/>
                  <a:pt x="19507" y="107063"/>
                </a:cubicBezTo>
                <a:cubicBezTo>
                  <a:pt x="19507" y="99256"/>
                  <a:pt x="23842" y="94572"/>
                  <a:pt x="30738" y="94572"/>
                </a:cubicBezTo>
                <a:cubicBezTo>
                  <a:pt x="40394" y="94572"/>
                  <a:pt x="40394" y="94572"/>
                  <a:pt x="40394" y="94572"/>
                </a:cubicBezTo>
                <a:cubicBezTo>
                  <a:pt x="18128" y="25204"/>
                  <a:pt x="18128" y="25204"/>
                  <a:pt x="18128" y="25204"/>
                </a:cubicBezTo>
                <a:cubicBezTo>
                  <a:pt x="5714" y="25204"/>
                  <a:pt x="5714" y="25204"/>
                  <a:pt x="5714" y="25204"/>
                </a:cubicBezTo>
                <a:cubicBezTo>
                  <a:pt x="2955" y="25204"/>
                  <a:pt x="0" y="21858"/>
                  <a:pt x="0" y="18736"/>
                </a:cubicBezTo>
                <a:cubicBezTo>
                  <a:pt x="0" y="14052"/>
                  <a:pt x="2955" y="12490"/>
                  <a:pt x="5714" y="12490"/>
                </a:cubicBezTo>
                <a:cubicBezTo>
                  <a:pt x="22266" y="12490"/>
                  <a:pt x="22266" y="12490"/>
                  <a:pt x="22266" y="12490"/>
                </a:cubicBezTo>
                <a:cubicBezTo>
                  <a:pt x="25221" y="12490"/>
                  <a:pt x="27980" y="14052"/>
                  <a:pt x="27980" y="15613"/>
                </a:cubicBezTo>
                <a:lnTo>
                  <a:pt x="27980" y="15613"/>
                </a:lnTo>
                <a:cubicBezTo>
                  <a:pt x="30738" y="26765"/>
                  <a:pt x="30738" y="26765"/>
                  <a:pt x="30738" y="26765"/>
                </a:cubicBezTo>
                <a:cubicBezTo>
                  <a:pt x="65615" y="26765"/>
                  <a:pt x="65615" y="26765"/>
                  <a:pt x="65615" y="26765"/>
                </a:cubicBezTo>
                <a:cubicBezTo>
                  <a:pt x="65615" y="31449"/>
                  <a:pt x="66995" y="36133"/>
                  <a:pt x="68374" y="39256"/>
                </a:cubicBezTo>
                <a:cubicBezTo>
                  <a:pt x="34876" y="39256"/>
                  <a:pt x="34876" y="39256"/>
                  <a:pt x="34876" y="39256"/>
                </a:cubicBezTo>
                <a:lnTo>
                  <a:pt x="46108" y="7249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Shape 4963"/>
          <p:cNvSpPr/>
          <p:nvPr/>
        </p:nvSpPr>
        <p:spPr>
          <a:xfrm>
            <a:off x="3154320" y="3095640"/>
            <a:ext cx="287280" cy="255600"/>
          </a:xfrm>
          <a:custGeom>
            <a:avLst/>
            <a:gdLst>
              <a:gd name="textAreaLeft" fmla="*/ 0 w 287280"/>
              <a:gd name="textAreaRight" fmla="*/ 287640 w 2872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5880" y="53531"/>
                </a:moveTo>
                <a:lnTo>
                  <a:pt x="95880" y="53531"/>
                </a:lnTo>
                <a:cubicBezTo>
                  <a:pt x="81727" y="53531"/>
                  <a:pt x="71960" y="42602"/>
                  <a:pt x="71960" y="26765"/>
                </a:cubicBezTo>
                <a:cubicBezTo>
                  <a:pt x="71960" y="10929"/>
                  <a:pt x="81727" y="0"/>
                  <a:pt x="95880" y="0"/>
                </a:cubicBezTo>
                <a:cubicBezTo>
                  <a:pt x="110033" y="0"/>
                  <a:pt x="119800" y="10929"/>
                  <a:pt x="119800" y="26765"/>
                </a:cubicBezTo>
                <a:cubicBezTo>
                  <a:pt x="119800" y="42602"/>
                  <a:pt x="110033" y="53531"/>
                  <a:pt x="95880" y="53531"/>
                </a:cubicBezTo>
                <a:close/>
                <a:moveTo>
                  <a:pt x="107043" y="14052"/>
                </a:moveTo>
                <a:lnTo>
                  <a:pt x="107043" y="14052"/>
                </a:lnTo>
                <a:cubicBezTo>
                  <a:pt x="105647" y="14052"/>
                  <a:pt x="104252" y="14052"/>
                  <a:pt x="102857" y="15613"/>
                </a:cubicBezTo>
                <a:cubicBezTo>
                  <a:pt x="91694" y="28327"/>
                  <a:pt x="91694" y="28327"/>
                  <a:pt x="91694" y="28327"/>
                </a:cubicBezTo>
                <a:cubicBezTo>
                  <a:pt x="88903" y="25204"/>
                  <a:pt x="88903" y="25204"/>
                  <a:pt x="88903" y="25204"/>
                </a:cubicBezTo>
                <a:cubicBezTo>
                  <a:pt x="87508" y="23643"/>
                  <a:pt x="85913" y="21858"/>
                  <a:pt x="84518" y="21858"/>
                </a:cubicBezTo>
                <a:cubicBezTo>
                  <a:pt x="81727" y="21858"/>
                  <a:pt x="78936" y="25204"/>
                  <a:pt x="78936" y="28327"/>
                </a:cubicBezTo>
                <a:cubicBezTo>
                  <a:pt x="78936" y="29888"/>
                  <a:pt x="78936" y="31449"/>
                  <a:pt x="80332" y="33011"/>
                </a:cubicBezTo>
                <a:cubicBezTo>
                  <a:pt x="88903" y="40817"/>
                  <a:pt x="88903" y="40817"/>
                  <a:pt x="88903" y="40817"/>
                </a:cubicBezTo>
                <a:cubicBezTo>
                  <a:pt x="88903" y="42602"/>
                  <a:pt x="90299" y="44163"/>
                  <a:pt x="91694" y="44163"/>
                </a:cubicBezTo>
                <a:cubicBezTo>
                  <a:pt x="93089" y="44163"/>
                  <a:pt x="94485" y="42602"/>
                  <a:pt x="95880" y="40817"/>
                </a:cubicBezTo>
                <a:cubicBezTo>
                  <a:pt x="111428" y="25204"/>
                  <a:pt x="111428" y="25204"/>
                  <a:pt x="111428" y="25204"/>
                </a:cubicBezTo>
                <a:cubicBezTo>
                  <a:pt x="112823" y="23643"/>
                  <a:pt x="112823" y="21858"/>
                  <a:pt x="112823" y="20297"/>
                </a:cubicBezTo>
                <a:cubicBezTo>
                  <a:pt x="112823" y="17174"/>
                  <a:pt x="110033" y="14052"/>
                  <a:pt x="107043" y="14052"/>
                </a:cubicBezTo>
                <a:close/>
                <a:moveTo>
                  <a:pt x="45049" y="72490"/>
                </a:moveTo>
                <a:lnTo>
                  <a:pt x="45049" y="72490"/>
                </a:lnTo>
                <a:cubicBezTo>
                  <a:pt x="94485" y="69368"/>
                  <a:pt x="94485" y="69368"/>
                  <a:pt x="94485" y="69368"/>
                </a:cubicBezTo>
                <a:cubicBezTo>
                  <a:pt x="97275" y="59776"/>
                  <a:pt x="97275" y="59776"/>
                  <a:pt x="97275" y="59776"/>
                </a:cubicBezTo>
                <a:cubicBezTo>
                  <a:pt x="102857" y="59776"/>
                  <a:pt x="107043" y="58215"/>
                  <a:pt x="111428" y="55092"/>
                </a:cubicBezTo>
                <a:cubicBezTo>
                  <a:pt x="102857" y="77174"/>
                  <a:pt x="102857" y="77174"/>
                  <a:pt x="102857" y="77174"/>
                </a:cubicBezTo>
                <a:lnTo>
                  <a:pt x="102857" y="77174"/>
                </a:lnTo>
                <a:cubicBezTo>
                  <a:pt x="101461" y="80297"/>
                  <a:pt x="100066" y="81858"/>
                  <a:pt x="98671" y="81858"/>
                </a:cubicBezTo>
                <a:lnTo>
                  <a:pt x="98671" y="81858"/>
                </a:lnTo>
                <a:cubicBezTo>
                  <a:pt x="49435" y="84981"/>
                  <a:pt x="49435" y="84981"/>
                  <a:pt x="49435" y="84981"/>
                </a:cubicBezTo>
                <a:cubicBezTo>
                  <a:pt x="52225" y="94572"/>
                  <a:pt x="52225" y="94572"/>
                  <a:pt x="52225" y="94572"/>
                </a:cubicBezTo>
                <a:cubicBezTo>
                  <a:pt x="105647" y="94572"/>
                  <a:pt x="105647" y="94572"/>
                  <a:pt x="105647" y="94572"/>
                </a:cubicBezTo>
                <a:cubicBezTo>
                  <a:pt x="111428" y="94572"/>
                  <a:pt x="117009" y="99256"/>
                  <a:pt x="117009" y="107063"/>
                </a:cubicBezTo>
                <a:cubicBezTo>
                  <a:pt x="117009" y="113531"/>
                  <a:pt x="111428" y="119776"/>
                  <a:pt x="105647" y="119776"/>
                </a:cubicBezTo>
                <a:cubicBezTo>
                  <a:pt x="98671" y="119776"/>
                  <a:pt x="94485" y="113531"/>
                  <a:pt x="94485" y="107063"/>
                </a:cubicBezTo>
                <a:cubicBezTo>
                  <a:pt x="40863" y="107063"/>
                  <a:pt x="40863" y="107063"/>
                  <a:pt x="40863" y="107063"/>
                </a:cubicBezTo>
                <a:cubicBezTo>
                  <a:pt x="40863" y="113531"/>
                  <a:pt x="36677" y="119776"/>
                  <a:pt x="29700" y="119776"/>
                </a:cubicBezTo>
                <a:cubicBezTo>
                  <a:pt x="23920" y="119776"/>
                  <a:pt x="18338" y="113531"/>
                  <a:pt x="18338" y="107063"/>
                </a:cubicBezTo>
                <a:cubicBezTo>
                  <a:pt x="18338" y="99256"/>
                  <a:pt x="23920" y="94572"/>
                  <a:pt x="29700" y="94572"/>
                </a:cubicBezTo>
                <a:cubicBezTo>
                  <a:pt x="40863" y="94572"/>
                  <a:pt x="40863" y="94572"/>
                  <a:pt x="40863" y="94572"/>
                </a:cubicBezTo>
                <a:cubicBezTo>
                  <a:pt x="18338" y="25204"/>
                  <a:pt x="18338" y="25204"/>
                  <a:pt x="18338" y="25204"/>
                </a:cubicBezTo>
                <a:cubicBezTo>
                  <a:pt x="5780" y="25204"/>
                  <a:pt x="5780" y="25204"/>
                  <a:pt x="5780" y="25204"/>
                </a:cubicBezTo>
                <a:cubicBezTo>
                  <a:pt x="2990" y="25204"/>
                  <a:pt x="0" y="21858"/>
                  <a:pt x="0" y="18736"/>
                </a:cubicBezTo>
                <a:cubicBezTo>
                  <a:pt x="0" y="14052"/>
                  <a:pt x="2990" y="12490"/>
                  <a:pt x="5780" y="12490"/>
                </a:cubicBezTo>
                <a:cubicBezTo>
                  <a:pt x="22524" y="12490"/>
                  <a:pt x="22524" y="12490"/>
                  <a:pt x="22524" y="12490"/>
                </a:cubicBezTo>
                <a:cubicBezTo>
                  <a:pt x="25514" y="12490"/>
                  <a:pt x="26910" y="14052"/>
                  <a:pt x="28305" y="15613"/>
                </a:cubicBezTo>
                <a:lnTo>
                  <a:pt x="28305" y="15613"/>
                </a:lnTo>
                <a:cubicBezTo>
                  <a:pt x="31096" y="26765"/>
                  <a:pt x="31096" y="26765"/>
                  <a:pt x="31096" y="26765"/>
                </a:cubicBezTo>
                <a:cubicBezTo>
                  <a:pt x="66378" y="26765"/>
                  <a:pt x="66378" y="26765"/>
                  <a:pt x="66378" y="26765"/>
                </a:cubicBezTo>
                <a:cubicBezTo>
                  <a:pt x="66378" y="31449"/>
                  <a:pt x="66378" y="36133"/>
                  <a:pt x="67774" y="39256"/>
                </a:cubicBezTo>
                <a:cubicBezTo>
                  <a:pt x="35282" y="39256"/>
                  <a:pt x="35282" y="39256"/>
                  <a:pt x="35282" y="39256"/>
                </a:cubicBezTo>
                <a:lnTo>
                  <a:pt x="45049" y="7249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Shape 4964"/>
          <p:cNvSpPr/>
          <p:nvPr/>
        </p:nvSpPr>
        <p:spPr>
          <a:xfrm>
            <a:off x="2655720" y="3095640"/>
            <a:ext cx="285840" cy="255600"/>
          </a:xfrm>
          <a:custGeom>
            <a:avLst/>
            <a:gdLst>
              <a:gd name="textAreaLeft" fmla="*/ 0 w 285840"/>
              <a:gd name="textAreaRight" fmla="*/ 286200 w 2858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5880" y="53531"/>
                </a:moveTo>
                <a:lnTo>
                  <a:pt x="95880" y="53531"/>
                </a:lnTo>
                <a:cubicBezTo>
                  <a:pt x="81727" y="53531"/>
                  <a:pt x="70564" y="42602"/>
                  <a:pt x="70564" y="26765"/>
                </a:cubicBezTo>
                <a:cubicBezTo>
                  <a:pt x="70564" y="10929"/>
                  <a:pt x="81727" y="0"/>
                  <a:pt x="95880" y="0"/>
                </a:cubicBezTo>
                <a:cubicBezTo>
                  <a:pt x="108438" y="0"/>
                  <a:pt x="119800" y="10929"/>
                  <a:pt x="119800" y="26765"/>
                </a:cubicBezTo>
                <a:cubicBezTo>
                  <a:pt x="119800" y="42602"/>
                  <a:pt x="108438" y="53531"/>
                  <a:pt x="95880" y="53531"/>
                </a:cubicBezTo>
                <a:close/>
                <a:moveTo>
                  <a:pt x="107043" y="20297"/>
                </a:moveTo>
                <a:lnTo>
                  <a:pt x="107043" y="20297"/>
                </a:lnTo>
                <a:cubicBezTo>
                  <a:pt x="84518" y="20297"/>
                  <a:pt x="84518" y="20297"/>
                  <a:pt x="84518" y="20297"/>
                </a:cubicBezTo>
                <a:cubicBezTo>
                  <a:pt x="80332" y="20297"/>
                  <a:pt x="78936" y="23643"/>
                  <a:pt x="78936" y="26765"/>
                </a:cubicBezTo>
                <a:cubicBezTo>
                  <a:pt x="78936" y="29888"/>
                  <a:pt x="80332" y="33011"/>
                  <a:pt x="84518" y="33011"/>
                </a:cubicBezTo>
                <a:cubicBezTo>
                  <a:pt x="107043" y="33011"/>
                  <a:pt x="107043" y="33011"/>
                  <a:pt x="107043" y="33011"/>
                </a:cubicBezTo>
                <a:cubicBezTo>
                  <a:pt x="109833" y="33011"/>
                  <a:pt x="112823" y="29888"/>
                  <a:pt x="112823" y="26765"/>
                </a:cubicBezTo>
                <a:cubicBezTo>
                  <a:pt x="112823" y="23643"/>
                  <a:pt x="109833" y="20297"/>
                  <a:pt x="107043" y="20297"/>
                </a:cubicBezTo>
                <a:close/>
                <a:moveTo>
                  <a:pt x="45049" y="72490"/>
                </a:moveTo>
                <a:lnTo>
                  <a:pt x="45049" y="72490"/>
                </a:lnTo>
                <a:cubicBezTo>
                  <a:pt x="93089" y="69368"/>
                  <a:pt x="93089" y="69368"/>
                  <a:pt x="93089" y="69368"/>
                </a:cubicBezTo>
                <a:cubicBezTo>
                  <a:pt x="97275" y="59776"/>
                  <a:pt x="97275" y="59776"/>
                  <a:pt x="97275" y="59776"/>
                </a:cubicBezTo>
                <a:cubicBezTo>
                  <a:pt x="102857" y="59776"/>
                  <a:pt x="107043" y="58215"/>
                  <a:pt x="111428" y="55092"/>
                </a:cubicBezTo>
                <a:cubicBezTo>
                  <a:pt x="102857" y="77174"/>
                  <a:pt x="102857" y="77174"/>
                  <a:pt x="102857" y="77174"/>
                </a:cubicBezTo>
                <a:lnTo>
                  <a:pt x="102857" y="77174"/>
                </a:lnTo>
                <a:cubicBezTo>
                  <a:pt x="101461" y="80297"/>
                  <a:pt x="100066" y="81858"/>
                  <a:pt x="97275" y="81858"/>
                </a:cubicBezTo>
                <a:lnTo>
                  <a:pt x="97275" y="81858"/>
                </a:lnTo>
                <a:cubicBezTo>
                  <a:pt x="49435" y="84981"/>
                  <a:pt x="49435" y="84981"/>
                  <a:pt x="49435" y="84981"/>
                </a:cubicBezTo>
                <a:cubicBezTo>
                  <a:pt x="52225" y="94572"/>
                  <a:pt x="52225" y="94572"/>
                  <a:pt x="52225" y="94572"/>
                </a:cubicBezTo>
                <a:cubicBezTo>
                  <a:pt x="104252" y="94572"/>
                  <a:pt x="104252" y="94572"/>
                  <a:pt x="104252" y="94572"/>
                </a:cubicBezTo>
                <a:cubicBezTo>
                  <a:pt x="111428" y="94572"/>
                  <a:pt x="115614" y="99256"/>
                  <a:pt x="115614" y="107063"/>
                </a:cubicBezTo>
                <a:cubicBezTo>
                  <a:pt x="115614" y="113531"/>
                  <a:pt x="111428" y="119776"/>
                  <a:pt x="104252" y="119776"/>
                </a:cubicBezTo>
                <a:cubicBezTo>
                  <a:pt x="98671" y="119776"/>
                  <a:pt x="93089" y="113531"/>
                  <a:pt x="93089" y="107063"/>
                </a:cubicBezTo>
                <a:cubicBezTo>
                  <a:pt x="40863" y="107063"/>
                  <a:pt x="40863" y="107063"/>
                  <a:pt x="40863" y="107063"/>
                </a:cubicBezTo>
                <a:cubicBezTo>
                  <a:pt x="40863" y="113531"/>
                  <a:pt x="35282" y="119776"/>
                  <a:pt x="29700" y="119776"/>
                </a:cubicBezTo>
                <a:cubicBezTo>
                  <a:pt x="23920" y="119776"/>
                  <a:pt x="18338" y="113531"/>
                  <a:pt x="18338" y="107063"/>
                </a:cubicBezTo>
                <a:cubicBezTo>
                  <a:pt x="18338" y="99256"/>
                  <a:pt x="23920" y="94572"/>
                  <a:pt x="29700" y="94572"/>
                </a:cubicBezTo>
                <a:cubicBezTo>
                  <a:pt x="39468" y="94572"/>
                  <a:pt x="39468" y="94572"/>
                  <a:pt x="39468" y="94572"/>
                </a:cubicBezTo>
                <a:cubicBezTo>
                  <a:pt x="18338" y="25204"/>
                  <a:pt x="18338" y="25204"/>
                  <a:pt x="18338" y="25204"/>
                </a:cubicBezTo>
                <a:cubicBezTo>
                  <a:pt x="5780" y="25204"/>
                  <a:pt x="5780" y="25204"/>
                  <a:pt x="5780" y="25204"/>
                </a:cubicBezTo>
                <a:cubicBezTo>
                  <a:pt x="1395" y="25204"/>
                  <a:pt x="0" y="21858"/>
                  <a:pt x="0" y="18736"/>
                </a:cubicBezTo>
                <a:cubicBezTo>
                  <a:pt x="0" y="14052"/>
                  <a:pt x="1395" y="12490"/>
                  <a:pt x="5780" y="12490"/>
                </a:cubicBezTo>
                <a:cubicBezTo>
                  <a:pt x="22524" y="12490"/>
                  <a:pt x="22524" y="12490"/>
                  <a:pt x="22524" y="12490"/>
                </a:cubicBezTo>
                <a:cubicBezTo>
                  <a:pt x="23920" y="12490"/>
                  <a:pt x="26910" y="14052"/>
                  <a:pt x="26910" y="15613"/>
                </a:cubicBezTo>
                <a:lnTo>
                  <a:pt x="26910" y="15613"/>
                </a:lnTo>
                <a:cubicBezTo>
                  <a:pt x="31096" y="26765"/>
                  <a:pt x="31096" y="26765"/>
                  <a:pt x="31096" y="26765"/>
                </a:cubicBezTo>
                <a:cubicBezTo>
                  <a:pt x="64784" y="26765"/>
                  <a:pt x="64784" y="26765"/>
                  <a:pt x="64784" y="26765"/>
                </a:cubicBezTo>
                <a:cubicBezTo>
                  <a:pt x="64784" y="31449"/>
                  <a:pt x="66179" y="36133"/>
                  <a:pt x="67774" y="39256"/>
                </a:cubicBezTo>
                <a:cubicBezTo>
                  <a:pt x="35282" y="39256"/>
                  <a:pt x="35282" y="39256"/>
                  <a:pt x="35282" y="39256"/>
                </a:cubicBezTo>
                <a:lnTo>
                  <a:pt x="45049" y="7249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Shape 4965"/>
          <p:cNvSpPr/>
          <p:nvPr/>
        </p:nvSpPr>
        <p:spPr>
          <a:xfrm>
            <a:off x="2154240" y="3095640"/>
            <a:ext cx="289080" cy="255600"/>
          </a:xfrm>
          <a:custGeom>
            <a:avLst/>
            <a:gdLst>
              <a:gd name="textAreaLeft" fmla="*/ 0 w 289080"/>
              <a:gd name="textAreaRight" fmla="*/ 289440 w 289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4778" y="53531"/>
                </a:moveTo>
                <a:lnTo>
                  <a:pt x="94778" y="53531"/>
                </a:lnTo>
                <a:cubicBezTo>
                  <a:pt x="82167" y="53531"/>
                  <a:pt x="71133" y="42602"/>
                  <a:pt x="71133" y="26765"/>
                </a:cubicBezTo>
                <a:cubicBezTo>
                  <a:pt x="71133" y="10929"/>
                  <a:pt x="82167" y="0"/>
                  <a:pt x="94778" y="0"/>
                </a:cubicBezTo>
                <a:cubicBezTo>
                  <a:pt x="108571" y="0"/>
                  <a:pt x="119802" y="10929"/>
                  <a:pt x="119802" y="26765"/>
                </a:cubicBezTo>
                <a:cubicBezTo>
                  <a:pt x="119802" y="42602"/>
                  <a:pt x="108571" y="53531"/>
                  <a:pt x="94778" y="53531"/>
                </a:cubicBezTo>
                <a:close/>
                <a:moveTo>
                  <a:pt x="105812" y="20297"/>
                </a:moveTo>
                <a:lnTo>
                  <a:pt x="105812" y="20297"/>
                </a:lnTo>
                <a:cubicBezTo>
                  <a:pt x="100295" y="20297"/>
                  <a:pt x="100295" y="20297"/>
                  <a:pt x="100295" y="20297"/>
                </a:cubicBezTo>
                <a:cubicBezTo>
                  <a:pt x="100295" y="14052"/>
                  <a:pt x="100295" y="14052"/>
                  <a:pt x="100295" y="14052"/>
                </a:cubicBezTo>
                <a:cubicBezTo>
                  <a:pt x="100295" y="10929"/>
                  <a:pt x="98916" y="7806"/>
                  <a:pt x="94778" y="7806"/>
                </a:cubicBezTo>
                <a:cubicBezTo>
                  <a:pt x="92019" y="7806"/>
                  <a:pt x="89064" y="10929"/>
                  <a:pt x="89064" y="14052"/>
                </a:cubicBezTo>
                <a:cubicBezTo>
                  <a:pt x="89064" y="20297"/>
                  <a:pt x="89064" y="20297"/>
                  <a:pt x="89064" y="20297"/>
                </a:cubicBezTo>
                <a:cubicBezTo>
                  <a:pt x="83546" y="20297"/>
                  <a:pt x="83546" y="20297"/>
                  <a:pt x="83546" y="20297"/>
                </a:cubicBezTo>
                <a:cubicBezTo>
                  <a:pt x="80788" y="20297"/>
                  <a:pt x="78029" y="23643"/>
                  <a:pt x="78029" y="26765"/>
                </a:cubicBezTo>
                <a:cubicBezTo>
                  <a:pt x="78029" y="29888"/>
                  <a:pt x="80788" y="33011"/>
                  <a:pt x="83546" y="33011"/>
                </a:cubicBezTo>
                <a:cubicBezTo>
                  <a:pt x="89064" y="33011"/>
                  <a:pt x="89064" y="33011"/>
                  <a:pt x="89064" y="33011"/>
                </a:cubicBezTo>
                <a:cubicBezTo>
                  <a:pt x="89064" y="39256"/>
                  <a:pt x="89064" y="39256"/>
                  <a:pt x="89064" y="39256"/>
                </a:cubicBezTo>
                <a:cubicBezTo>
                  <a:pt x="89064" y="42602"/>
                  <a:pt x="92019" y="45724"/>
                  <a:pt x="94778" y="45724"/>
                </a:cubicBezTo>
                <a:cubicBezTo>
                  <a:pt x="98916" y="45724"/>
                  <a:pt x="100295" y="42602"/>
                  <a:pt x="100295" y="39256"/>
                </a:cubicBezTo>
                <a:cubicBezTo>
                  <a:pt x="100295" y="33011"/>
                  <a:pt x="100295" y="33011"/>
                  <a:pt x="100295" y="33011"/>
                </a:cubicBezTo>
                <a:cubicBezTo>
                  <a:pt x="105812" y="33011"/>
                  <a:pt x="105812" y="33011"/>
                  <a:pt x="105812" y="33011"/>
                </a:cubicBezTo>
                <a:cubicBezTo>
                  <a:pt x="109950" y="33011"/>
                  <a:pt x="111330" y="29888"/>
                  <a:pt x="111330" y="26765"/>
                </a:cubicBezTo>
                <a:cubicBezTo>
                  <a:pt x="111330" y="23643"/>
                  <a:pt x="109950" y="20297"/>
                  <a:pt x="105812" y="20297"/>
                </a:cubicBezTo>
                <a:close/>
                <a:moveTo>
                  <a:pt x="45911" y="72490"/>
                </a:moveTo>
                <a:lnTo>
                  <a:pt x="45911" y="72490"/>
                </a:lnTo>
                <a:cubicBezTo>
                  <a:pt x="93399" y="69368"/>
                  <a:pt x="93399" y="69368"/>
                  <a:pt x="93399" y="69368"/>
                </a:cubicBezTo>
                <a:cubicBezTo>
                  <a:pt x="97536" y="59776"/>
                  <a:pt x="97536" y="59776"/>
                  <a:pt x="97536" y="59776"/>
                </a:cubicBezTo>
                <a:cubicBezTo>
                  <a:pt x="101674" y="59776"/>
                  <a:pt x="107192" y="58215"/>
                  <a:pt x="111330" y="55092"/>
                </a:cubicBezTo>
                <a:cubicBezTo>
                  <a:pt x="101674" y="77174"/>
                  <a:pt x="101674" y="77174"/>
                  <a:pt x="101674" y="77174"/>
                </a:cubicBezTo>
                <a:lnTo>
                  <a:pt x="101674" y="77174"/>
                </a:lnTo>
                <a:cubicBezTo>
                  <a:pt x="101674" y="80297"/>
                  <a:pt x="98916" y="81858"/>
                  <a:pt x="97536" y="81858"/>
                </a:cubicBezTo>
                <a:lnTo>
                  <a:pt x="97536" y="81858"/>
                </a:lnTo>
                <a:cubicBezTo>
                  <a:pt x="48669" y="84981"/>
                  <a:pt x="48669" y="84981"/>
                  <a:pt x="48669" y="84981"/>
                </a:cubicBezTo>
                <a:cubicBezTo>
                  <a:pt x="51625" y="94572"/>
                  <a:pt x="51625" y="94572"/>
                  <a:pt x="51625" y="94572"/>
                </a:cubicBezTo>
                <a:cubicBezTo>
                  <a:pt x="104433" y="94572"/>
                  <a:pt x="104433" y="94572"/>
                  <a:pt x="104433" y="94572"/>
                </a:cubicBezTo>
                <a:cubicBezTo>
                  <a:pt x="109950" y="94572"/>
                  <a:pt x="115665" y="99256"/>
                  <a:pt x="115665" y="107063"/>
                </a:cubicBezTo>
                <a:cubicBezTo>
                  <a:pt x="115665" y="113531"/>
                  <a:pt x="109950" y="119776"/>
                  <a:pt x="104433" y="119776"/>
                </a:cubicBezTo>
                <a:cubicBezTo>
                  <a:pt x="98916" y="119776"/>
                  <a:pt x="93399" y="113531"/>
                  <a:pt x="93399" y="107063"/>
                </a:cubicBezTo>
                <a:cubicBezTo>
                  <a:pt x="41773" y="107063"/>
                  <a:pt x="41773" y="107063"/>
                  <a:pt x="41773" y="107063"/>
                </a:cubicBezTo>
                <a:cubicBezTo>
                  <a:pt x="41773" y="113531"/>
                  <a:pt x="36256" y="119776"/>
                  <a:pt x="30738" y="119776"/>
                </a:cubicBezTo>
                <a:cubicBezTo>
                  <a:pt x="23645" y="119776"/>
                  <a:pt x="19507" y="113531"/>
                  <a:pt x="19507" y="107063"/>
                </a:cubicBezTo>
                <a:cubicBezTo>
                  <a:pt x="19507" y="99256"/>
                  <a:pt x="23645" y="94572"/>
                  <a:pt x="30738" y="94572"/>
                </a:cubicBezTo>
                <a:cubicBezTo>
                  <a:pt x="40394" y="94572"/>
                  <a:pt x="40394" y="94572"/>
                  <a:pt x="40394" y="94572"/>
                </a:cubicBezTo>
                <a:cubicBezTo>
                  <a:pt x="18128" y="25204"/>
                  <a:pt x="18128" y="25204"/>
                  <a:pt x="18128" y="25204"/>
                </a:cubicBezTo>
                <a:cubicBezTo>
                  <a:pt x="5517" y="25204"/>
                  <a:pt x="5517" y="25204"/>
                  <a:pt x="5517" y="25204"/>
                </a:cubicBezTo>
                <a:cubicBezTo>
                  <a:pt x="2758" y="25204"/>
                  <a:pt x="0" y="21858"/>
                  <a:pt x="0" y="18736"/>
                </a:cubicBezTo>
                <a:cubicBezTo>
                  <a:pt x="0" y="14052"/>
                  <a:pt x="2758" y="12490"/>
                  <a:pt x="5517" y="12490"/>
                </a:cubicBezTo>
                <a:cubicBezTo>
                  <a:pt x="22266" y="12490"/>
                  <a:pt x="22266" y="12490"/>
                  <a:pt x="22266" y="12490"/>
                </a:cubicBezTo>
                <a:cubicBezTo>
                  <a:pt x="25024" y="12490"/>
                  <a:pt x="27783" y="14052"/>
                  <a:pt x="27783" y="15613"/>
                </a:cubicBezTo>
                <a:lnTo>
                  <a:pt x="27783" y="15613"/>
                </a:lnTo>
                <a:cubicBezTo>
                  <a:pt x="30738" y="26765"/>
                  <a:pt x="30738" y="26765"/>
                  <a:pt x="30738" y="26765"/>
                </a:cubicBezTo>
                <a:cubicBezTo>
                  <a:pt x="65418" y="26765"/>
                  <a:pt x="65418" y="26765"/>
                  <a:pt x="65418" y="26765"/>
                </a:cubicBezTo>
                <a:cubicBezTo>
                  <a:pt x="65418" y="31449"/>
                  <a:pt x="66798" y="36133"/>
                  <a:pt x="68177" y="39256"/>
                </a:cubicBezTo>
                <a:cubicBezTo>
                  <a:pt x="34876" y="39256"/>
                  <a:pt x="34876" y="39256"/>
                  <a:pt x="34876" y="39256"/>
                </a:cubicBezTo>
                <a:lnTo>
                  <a:pt x="45911" y="7249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Shape 4966"/>
          <p:cNvSpPr/>
          <p:nvPr/>
        </p:nvSpPr>
        <p:spPr>
          <a:xfrm>
            <a:off x="1654200" y="3121200"/>
            <a:ext cx="287280" cy="226800"/>
          </a:xfrm>
          <a:custGeom>
            <a:avLst/>
            <a:gdLst>
              <a:gd name="textAreaLeft" fmla="*/ 0 w 287280"/>
              <a:gd name="textAreaRight" fmla="*/ 287640 w 2872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800" y="26390"/>
                </a:moveTo>
                <a:lnTo>
                  <a:pt x="119800" y="26390"/>
                </a:lnTo>
                <a:lnTo>
                  <a:pt x="119800" y="26390"/>
                </a:lnTo>
                <a:cubicBezTo>
                  <a:pt x="102857" y="72199"/>
                  <a:pt x="102857" y="72199"/>
                  <a:pt x="102857" y="72199"/>
                </a:cubicBezTo>
                <a:lnTo>
                  <a:pt x="102857" y="72199"/>
                </a:lnTo>
                <a:cubicBezTo>
                  <a:pt x="101461" y="75684"/>
                  <a:pt x="100066" y="77427"/>
                  <a:pt x="98671" y="77427"/>
                </a:cubicBezTo>
                <a:lnTo>
                  <a:pt x="98671" y="77427"/>
                </a:lnTo>
                <a:cubicBezTo>
                  <a:pt x="49235" y="80912"/>
                  <a:pt x="49235" y="80912"/>
                  <a:pt x="49235" y="80912"/>
                </a:cubicBezTo>
                <a:cubicBezTo>
                  <a:pt x="52026" y="91618"/>
                  <a:pt x="52026" y="91618"/>
                  <a:pt x="52026" y="91618"/>
                </a:cubicBezTo>
                <a:cubicBezTo>
                  <a:pt x="105647" y="91618"/>
                  <a:pt x="105647" y="91618"/>
                  <a:pt x="105647" y="91618"/>
                </a:cubicBezTo>
                <a:cubicBezTo>
                  <a:pt x="111229" y="91618"/>
                  <a:pt x="117009" y="96846"/>
                  <a:pt x="117009" y="105560"/>
                </a:cubicBezTo>
                <a:cubicBezTo>
                  <a:pt x="117009" y="112780"/>
                  <a:pt x="111229" y="119751"/>
                  <a:pt x="105647" y="119751"/>
                </a:cubicBezTo>
                <a:cubicBezTo>
                  <a:pt x="98671" y="119751"/>
                  <a:pt x="94485" y="112780"/>
                  <a:pt x="94485" y="105560"/>
                </a:cubicBezTo>
                <a:cubicBezTo>
                  <a:pt x="40863" y="105560"/>
                  <a:pt x="40863" y="105560"/>
                  <a:pt x="40863" y="105560"/>
                </a:cubicBezTo>
                <a:cubicBezTo>
                  <a:pt x="40863" y="112780"/>
                  <a:pt x="36677" y="119751"/>
                  <a:pt x="29501" y="119751"/>
                </a:cubicBezTo>
                <a:cubicBezTo>
                  <a:pt x="23920" y="119751"/>
                  <a:pt x="18338" y="112780"/>
                  <a:pt x="18338" y="105560"/>
                </a:cubicBezTo>
                <a:cubicBezTo>
                  <a:pt x="18338" y="96846"/>
                  <a:pt x="23920" y="91618"/>
                  <a:pt x="29501" y="91618"/>
                </a:cubicBezTo>
                <a:cubicBezTo>
                  <a:pt x="40863" y="91618"/>
                  <a:pt x="40863" y="91618"/>
                  <a:pt x="40863" y="91618"/>
                </a:cubicBezTo>
                <a:cubicBezTo>
                  <a:pt x="18338" y="14190"/>
                  <a:pt x="18338" y="14190"/>
                  <a:pt x="18338" y="14190"/>
                </a:cubicBezTo>
                <a:cubicBezTo>
                  <a:pt x="5581" y="14190"/>
                  <a:pt x="5581" y="14190"/>
                  <a:pt x="5581" y="14190"/>
                </a:cubicBezTo>
                <a:cubicBezTo>
                  <a:pt x="2790" y="14190"/>
                  <a:pt x="0" y="10456"/>
                  <a:pt x="0" y="6970"/>
                </a:cubicBezTo>
                <a:cubicBezTo>
                  <a:pt x="0" y="1742"/>
                  <a:pt x="2790" y="0"/>
                  <a:pt x="5581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25315" y="0"/>
                  <a:pt x="26710" y="1742"/>
                  <a:pt x="28106" y="3485"/>
                </a:cubicBezTo>
                <a:lnTo>
                  <a:pt x="28106" y="3485"/>
                </a:lnTo>
                <a:cubicBezTo>
                  <a:pt x="31096" y="15933"/>
                  <a:pt x="31096" y="15933"/>
                  <a:pt x="31096" y="15933"/>
                </a:cubicBezTo>
                <a:cubicBezTo>
                  <a:pt x="114019" y="15933"/>
                  <a:pt x="114019" y="15933"/>
                  <a:pt x="114019" y="15933"/>
                </a:cubicBezTo>
                <a:cubicBezTo>
                  <a:pt x="118405" y="15933"/>
                  <a:pt x="119800" y="19419"/>
                  <a:pt x="119800" y="22904"/>
                </a:cubicBezTo>
                <a:cubicBezTo>
                  <a:pt x="119800" y="24647"/>
                  <a:pt x="119800" y="24647"/>
                  <a:pt x="119800" y="26390"/>
                </a:cubicBezTo>
                <a:close/>
                <a:moveTo>
                  <a:pt x="35282" y="29875"/>
                </a:moveTo>
                <a:lnTo>
                  <a:pt x="35282" y="29875"/>
                </a:lnTo>
                <a:cubicBezTo>
                  <a:pt x="45049" y="66970"/>
                  <a:pt x="45049" y="66970"/>
                  <a:pt x="45049" y="66970"/>
                </a:cubicBezTo>
                <a:cubicBezTo>
                  <a:pt x="94485" y="63485"/>
                  <a:pt x="94485" y="63485"/>
                  <a:pt x="94485" y="63485"/>
                </a:cubicBezTo>
                <a:cubicBezTo>
                  <a:pt x="105647" y="29875"/>
                  <a:pt x="105647" y="29875"/>
                  <a:pt x="105647" y="29875"/>
                </a:cubicBezTo>
                <a:lnTo>
                  <a:pt x="35282" y="2987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Shape 4967"/>
          <p:cNvSpPr/>
          <p:nvPr/>
        </p:nvSpPr>
        <p:spPr>
          <a:xfrm>
            <a:off x="7155000" y="2614680"/>
            <a:ext cx="287280" cy="233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754"/>
                </a:moveTo>
                <a:lnTo>
                  <a:pt x="114219" y="119754"/>
                </a:lnTo>
                <a:cubicBezTo>
                  <a:pt x="5581" y="119754"/>
                  <a:pt x="5581" y="119754"/>
                  <a:pt x="5581" y="119754"/>
                </a:cubicBezTo>
                <a:cubicBezTo>
                  <a:pt x="1395" y="119754"/>
                  <a:pt x="0" y="118032"/>
                  <a:pt x="0" y="112868"/>
                </a:cubicBezTo>
                <a:cubicBezTo>
                  <a:pt x="0" y="20901"/>
                  <a:pt x="0" y="20901"/>
                  <a:pt x="0" y="20901"/>
                </a:cubicBezTo>
                <a:cubicBezTo>
                  <a:pt x="0" y="17459"/>
                  <a:pt x="1395" y="13770"/>
                  <a:pt x="5581" y="13770"/>
                </a:cubicBezTo>
                <a:cubicBezTo>
                  <a:pt x="29501" y="13770"/>
                  <a:pt x="29501" y="13770"/>
                  <a:pt x="29501" y="13770"/>
                </a:cubicBezTo>
                <a:cubicBezTo>
                  <a:pt x="38073" y="3442"/>
                  <a:pt x="38073" y="3442"/>
                  <a:pt x="38073" y="3442"/>
                </a:cubicBezTo>
                <a:cubicBezTo>
                  <a:pt x="39468" y="1721"/>
                  <a:pt x="40863" y="0"/>
                  <a:pt x="42259" y="0"/>
                </a:cubicBezTo>
                <a:cubicBezTo>
                  <a:pt x="76146" y="0"/>
                  <a:pt x="76146" y="0"/>
                  <a:pt x="76146" y="0"/>
                </a:cubicBezTo>
                <a:cubicBezTo>
                  <a:pt x="77541" y="0"/>
                  <a:pt x="78936" y="0"/>
                  <a:pt x="80332" y="1721"/>
                </a:cubicBezTo>
                <a:lnTo>
                  <a:pt x="80332" y="1721"/>
                </a:lnTo>
                <a:cubicBezTo>
                  <a:pt x="90099" y="13770"/>
                  <a:pt x="90099" y="13770"/>
                  <a:pt x="90099" y="13770"/>
                </a:cubicBezTo>
                <a:cubicBezTo>
                  <a:pt x="114219" y="13770"/>
                  <a:pt x="114219" y="13770"/>
                  <a:pt x="114219" y="13770"/>
                </a:cubicBezTo>
                <a:cubicBezTo>
                  <a:pt x="117009" y="13770"/>
                  <a:pt x="119800" y="17459"/>
                  <a:pt x="119800" y="20901"/>
                </a:cubicBezTo>
                <a:cubicBezTo>
                  <a:pt x="119800" y="112868"/>
                  <a:pt x="119800" y="112868"/>
                  <a:pt x="119800" y="112868"/>
                </a:cubicBezTo>
                <a:cubicBezTo>
                  <a:pt x="119800" y="118032"/>
                  <a:pt x="117009" y="119754"/>
                  <a:pt x="114219" y="119754"/>
                </a:cubicBezTo>
                <a:close/>
                <a:moveTo>
                  <a:pt x="59202" y="22622"/>
                </a:moveTo>
                <a:lnTo>
                  <a:pt x="59202" y="22622"/>
                </a:lnTo>
                <a:cubicBezTo>
                  <a:pt x="40863" y="22622"/>
                  <a:pt x="25315" y="41557"/>
                  <a:pt x="25315" y="64180"/>
                </a:cubicBezTo>
                <a:cubicBezTo>
                  <a:pt x="25315" y="88524"/>
                  <a:pt x="40863" y="105983"/>
                  <a:pt x="59202" y="105983"/>
                </a:cubicBezTo>
                <a:cubicBezTo>
                  <a:pt x="78936" y="105983"/>
                  <a:pt x="92890" y="88524"/>
                  <a:pt x="92890" y="64180"/>
                </a:cubicBezTo>
                <a:cubicBezTo>
                  <a:pt x="92890" y="41557"/>
                  <a:pt x="78936" y="22622"/>
                  <a:pt x="59202" y="22622"/>
                </a:cubicBezTo>
                <a:close/>
                <a:moveTo>
                  <a:pt x="59202" y="91967"/>
                </a:moveTo>
                <a:lnTo>
                  <a:pt x="59202" y="91967"/>
                </a:lnTo>
                <a:cubicBezTo>
                  <a:pt x="46445" y="91967"/>
                  <a:pt x="36677" y="79918"/>
                  <a:pt x="36677" y="64180"/>
                </a:cubicBezTo>
                <a:cubicBezTo>
                  <a:pt x="36677" y="48688"/>
                  <a:pt x="46445" y="36393"/>
                  <a:pt x="59202" y="36393"/>
                </a:cubicBezTo>
                <a:cubicBezTo>
                  <a:pt x="71960" y="36393"/>
                  <a:pt x="81727" y="48688"/>
                  <a:pt x="81727" y="64180"/>
                </a:cubicBezTo>
                <a:cubicBezTo>
                  <a:pt x="81727" y="79918"/>
                  <a:pt x="71960" y="91967"/>
                  <a:pt x="59202" y="91967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Shape 4968"/>
          <p:cNvSpPr/>
          <p:nvPr/>
        </p:nvSpPr>
        <p:spPr>
          <a:xfrm>
            <a:off x="6651720" y="2587680"/>
            <a:ext cx="277560" cy="287280"/>
          </a:xfrm>
          <a:custGeom>
            <a:avLst/>
            <a:gdLst>
              <a:gd name="textAreaLeft" fmla="*/ 0 w 277560"/>
              <a:gd name="textAreaRight" fmla="*/ 277920 w 2775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119795" y="91694"/>
                </a:moveTo>
                <a:lnTo>
                  <a:pt x="119795" y="91694"/>
                </a:lnTo>
                <a:cubicBezTo>
                  <a:pt x="119795" y="98671"/>
                  <a:pt x="109591" y="102857"/>
                  <a:pt x="97959" y="102857"/>
                </a:cubicBezTo>
                <a:cubicBezTo>
                  <a:pt x="86530" y="102857"/>
                  <a:pt x="77959" y="98671"/>
                  <a:pt x="77959" y="91694"/>
                </a:cubicBezTo>
                <a:cubicBezTo>
                  <a:pt x="77959" y="85913"/>
                  <a:pt x="86530" y="80332"/>
                  <a:pt x="97959" y="80332"/>
                </a:cubicBezTo>
                <a:cubicBezTo>
                  <a:pt x="102448" y="80332"/>
                  <a:pt x="105306" y="81727"/>
                  <a:pt x="108163" y="81727"/>
                </a:cubicBezTo>
                <a:cubicBezTo>
                  <a:pt x="108163" y="71960"/>
                  <a:pt x="108163" y="71960"/>
                  <a:pt x="108163" y="71960"/>
                </a:cubicBezTo>
                <a:cubicBezTo>
                  <a:pt x="108163" y="35282"/>
                  <a:pt x="108163" y="35282"/>
                  <a:pt x="108163" y="35282"/>
                </a:cubicBezTo>
                <a:cubicBezTo>
                  <a:pt x="43265" y="49435"/>
                  <a:pt x="43265" y="49435"/>
                  <a:pt x="43265" y="49435"/>
                </a:cubicBezTo>
                <a:cubicBezTo>
                  <a:pt x="43265" y="108438"/>
                  <a:pt x="43265" y="108438"/>
                  <a:pt x="43265" y="108438"/>
                </a:cubicBezTo>
                <a:cubicBezTo>
                  <a:pt x="43265" y="115614"/>
                  <a:pt x="33061" y="119800"/>
                  <a:pt x="21632" y="119800"/>
                </a:cubicBezTo>
                <a:cubicBezTo>
                  <a:pt x="10000" y="119800"/>
                  <a:pt x="0" y="115614"/>
                  <a:pt x="0" y="108438"/>
                </a:cubicBezTo>
                <a:cubicBezTo>
                  <a:pt x="0" y="102857"/>
                  <a:pt x="10000" y="97275"/>
                  <a:pt x="21632" y="97275"/>
                </a:cubicBezTo>
                <a:cubicBezTo>
                  <a:pt x="24489" y="97275"/>
                  <a:pt x="28775" y="98671"/>
                  <a:pt x="31632" y="98671"/>
                </a:cubicBezTo>
                <a:cubicBezTo>
                  <a:pt x="31632" y="90299"/>
                  <a:pt x="31632" y="90299"/>
                  <a:pt x="31632" y="90299"/>
                </a:cubicBezTo>
                <a:cubicBezTo>
                  <a:pt x="31632" y="22524"/>
                  <a:pt x="31632" y="22524"/>
                  <a:pt x="31632" y="22524"/>
                </a:cubicBezTo>
                <a:cubicBezTo>
                  <a:pt x="31632" y="18338"/>
                  <a:pt x="37551" y="16943"/>
                  <a:pt x="37551" y="16943"/>
                </a:cubicBezTo>
                <a:cubicBezTo>
                  <a:pt x="113877" y="0"/>
                  <a:pt x="113877" y="0"/>
                  <a:pt x="113877" y="0"/>
                </a:cubicBezTo>
                <a:cubicBezTo>
                  <a:pt x="116734" y="0"/>
                  <a:pt x="119795" y="2990"/>
                  <a:pt x="119795" y="5780"/>
                </a:cubicBezTo>
                <a:cubicBezTo>
                  <a:pt x="119795" y="85913"/>
                  <a:pt x="119795" y="85913"/>
                  <a:pt x="119795" y="85913"/>
                </a:cubicBezTo>
                <a:cubicBezTo>
                  <a:pt x="119795" y="90299"/>
                  <a:pt x="119795" y="90299"/>
                  <a:pt x="119795" y="90299"/>
                </a:cubicBezTo>
                <a:cubicBezTo>
                  <a:pt x="119795" y="91694"/>
                  <a:pt x="119795" y="91694"/>
                  <a:pt x="119795" y="91694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Shape 4969"/>
          <p:cNvSpPr/>
          <p:nvPr/>
        </p:nvSpPr>
        <p:spPr>
          <a:xfrm>
            <a:off x="6205680" y="2670120"/>
            <a:ext cx="187200" cy="171360"/>
          </a:xfrm>
          <a:custGeom>
            <a:avLst/>
            <a:gdLst>
              <a:gd name="textAreaLeft" fmla="*/ 0 w 187200"/>
              <a:gd name="textAreaRight" fmla="*/ 187560 w 18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20000" h="120000">
                <a:moveTo>
                  <a:pt x="110931" y="119667"/>
                </a:moveTo>
                <a:lnTo>
                  <a:pt x="110931" y="119667"/>
                </a:lnTo>
                <a:cubicBezTo>
                  <a:pt x="104584" y="119667"/>
                  <a:pt x="102468" y="115013"/>
                  <a:pt x="102468" y="110360"/>
                </a:cubicBezTo>
                <a:cubicBezTo>
                  <a:pt x="102468" y="9307"/>
                  <a:pt x="102468" y="9307"/>
                  <a:pt x="102468" y="9307"/>
                </a:cubicBezTo>
                <a:cubicBezTo>
                  <a:pt x="102468" y="4653"/>
                  <a:pt x="104584" y="0"/>
                  <a:pt x="110931" y="0"/>
                </a:cubicBezTo>
                <a:cubicBezTo>
                  <a:pt x="115163" y="0"/>
                  <a:pt x="119697" y="4653"/>
                  <a:pt x="119697" y="9307"/>
                </a:cubicBezTo>
                <a:cubicBezTo>
                  <a:pt x="119697" y="110360"/>
                  <a:pt x="119697" y="110360"/>
                  <a:pt x="119697" y="110360"/>
                </a:cubicBezTo>
                <a:cubicBezTo>
                  <a:pt x="119697" y="115013"/>
                  <a:pt x="115163" y="119667"/>
                  <a:pt x="110931" y="119667"/>
                </a:cubicBezTo>
                <a:close/>
                <a:moveTo>
                  <a:pt x="76775" y="119667"/>
                </a:moveTo>
                <a:lnTo>
                  <a:pt x="76775" y="119667"/>
                </a:lnTo>
                <a:cubicBezTo>
                  <a:pt x="70428" y="119667"/>
                  <a:pt x="68312" y="115013"/>
                  <a:pt x="68312" y="110360"/>
                </a:cubicBezTo>
                <a:cubicBezTo>
                  <a:pt x="68312" y="35235"/>
                  <a:pt x="68312" y="35235"/>
                  <a:pt x="68312" y="35235"/>
                </a:cubicBezTo>
                <a:cubicBezTo>
                  <a:pt x="68312" y="28254"/>
                  <a:pt x="70428" y="25927"/>
                  <a:pt x="76775" y="25927"/>
                </a:cubicBezTo>
                <a:cubicBezTo>
                  <a:pt x="81007" y="25927"/>
                  <a:pt x="85541" y="28254"/>
                  <a:pt x="85541" y="35235"/>
                </a:cubicBezTo>
                <a:cubicBezTo>
                  <a:pt x="85541" y="110360"/>
                  <a:pt x="85541" y="110360"/>
                  <a:pt x="85541" y="110360"/>
                </a:cubicBezTo>
                <a:cubicBezTo>
                  <a:pt x="85541" y="115013"/>
                  <a:pt x="81007" y="119667"/>
                  <a:pt x="76775" y="119667"/>
                </a:cubicBezTo>
                <a:close/>
                <a:moveTo>
                  <a:pt x="42619" y="119667"/>
                </a:moveTo>
                <a:lnTo>
                  <a:pt x="42619" y="119667"/>
                </a:lnTo>
                <a:cubicBezTo>
                  <a:pt x="36272" y="119667"/>
                  <a:pt x="34156" y="115013"/>
                  <a:pt x="34156" y="110360"/>
                </a:cubicBezTo>
                <a:cubicBezTo>
                  <a:pt x="34156" y="58836"/>
                  <a:pt x="34156" y="58836"/>
                  <a:pt x="34156" y="58836"/>
                </a:cubicBezTo>
                <a:cubicBezTo>
                  <a:pt x="34156" y="54182"/>
                  <a:pt x="36272" y="49196"/>
                  <a:pt x="42619" y="49196"/>
                </a:cubicBezTo>
                <a:cubicBezTo>
                  <a:pt x="46851" y="49196"/>
                  <a:pt x="51385" y="54182"/>
                  <a:pt x="51385" y="58836"/>
                </a:cubicBezTo>
                <a:cubicBezTo>
                  <a:pt x="51385" y="110360"/>
                  <a:pt x="51385" y="110360"/>
                  <a:pt x="51385" y="110360"/>
                </a:cubicBezTo>
                <a:cubicBezTo>
                  <a:pt x="51385" y="115013"/>
                  <a:pt x="46851" y="119667"/>
                  <a:pt x="42619" y="119667"/>
                </a:cubicBezTo>
                <a:close/>
                <a:moveTo>
                  <a:pt x="8463" y="119667"/>
                </a:moveTo>
                <a:lnTo>
                  <a:pt x="8463" y="119667"/>
                </a:lnTo>
                <a:cubicBezTo>
                  <a:pt x="2115" y="119667"/>
                  <a:pt x="0" y="115013"/>
                  <a:pt x="0" y="110360"/>
                </a:cubicBezTo>
                <a:cubicBezTo>
                  <a:pt x="0" y="84432"/>
                  <a:pt x="0" y="84432"/>
                  <a:pt x="0" y="84432"/>
                </a:cubicBezTo>
                <a:cubicBezTo>
                  <a:pt x="0" y="79778"/>
                  <a:pt x="2115" y="75124"/>
                  <a:pt x="8463" y="75124"/>
                </a:cubicBezTo>
                <a:cubicBezTo>
                  <a:pt x="12695" y="75124"/>
                  <a:pt x="16926" y="79778"/>
                  <a:pt x="16926" y="84432"/>
                </a:cubicBezTo>
                <a:cubicBezTo>
                  <a:pt x="16926" y="110360"/>
                  <a:pt x="16926" y="110360"/>
                  <a:pt x="16926" y="110360"/>
                </a:cubicBezTo>
                <a:cubicBezTo>
                  <a:pt x="16926" y="115013"/>
                  <a:pt x="12695" y="119667"/>
                  <a:pt x="8463" y="119667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Shape 4970"/>
          <p:cNvSpPr/>
          <p:nvPr/>
        </p:nvSpPr>
        <p:spPr>
          <a:xfrm>
            <a:off x="5654520" y="2625840"/>
            <a:ext cx="284400" cy="215640"/>
          </a:xfrm>
          <a:custGeom>
            <a:avLst/>
            <a:gdLst>
              <a:gd name="textAreaLeft" fmla="*/ 0 w 284400"/>
              <a:gd name="textAreaRight" fmla="*/ 284760 w 2844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20000" h="120000">
                <a:moveTo>
                  <a:pt x="118402" y="65695"/>
                </a:moveTo>
                <a:lnTo>
                  <a:pt x="118402" y="65695"/>
                </a:lnTo>
                <a:lnTo>
                  <a:pt x="118402" y="65695"/>
                </a:lnTo>
                <a:cubicBezTo>
                  <a:pt x="95840" y="95629"/>
                  <a:pt x="95840" y="95629"/>
                  <a:pt x="95840" y="95629"/>
                </a:cubicBezTo>
                <a:lnTo>
                  <a:pt x="95840" y="95629"/>
                </a:lnTo>
                <a:cubicBezTo>
                  <a:pt x="94442" y="95629"/>
                  <a:pt x="93044" y="97483"/>
                  <a:pt x="91647" y="97483"/>
                </a:cubicBezTo>
                <a:cubicBezTo>
                  <a:pt x="88851" y="97483"/>
                  <a:pt x="86056" y="93509"/>
                  <a:pt x="86056" y="89801"/>
                </a:cubicBezTo>
                <a:cubicBezTo>
                  <a:pt x="86056" y="87947"/>
                  <a:pt x="86056" y="86092"/>
                  <a:pt x="87454" y="84238"/>
                </a:cubicBezTo>
                <a:lnTo>
                  <a:pt x="87454" y="84238"/>
                </a:lnTo>
                <a:cubicBezTo>
                  <a:pt x="105823" y="59867"/>
                  <a:pt x="105823" y="59867"/>
                  <a:pt x="105823" y="59867"/>
                </a:cubicBezTo>
                <a:cubicBezTo>
                  <a:pt x="87454" y="35496"/>
                  <a:pt x="87454" y="35496"/>
                  <a:pt x="87454" y="35496"/>
                </a:cubicBezTo>
                <a:lnTo>
                  <a:pt x="87454" y="35496"/>
                </a:lnTo>
                <a:cubicBezTo>
                  <a:pt x="86056" y="33642"/>
                  <a:pt x="86056" y="31788"/>
                  <a:pt x="86056" y="29933"/>
                </a:cubicBezTo>
                <a:cubicBezTo>
                  <a:pt x="86056" y="24370"/>
                  <a:pt x="88851" y="22516"/>
                  <a:pt x="91647" y="22516"/>
                </a:cubicBezTo>
                <a:cubicBezTo>
                  <a:pt x="93044" y="22516"/>
                  <a:pt x="94442" y="22516"/>
                  <a:pt x="95840" y="24370"/>
                </a:cubicBezTo>
                <a:lnTo>
                  <a:pt x="95840" y="24370"/>
                </a:lnTo>
                <a:cubicBezTo>
                  <a:pt x="118402" y="54304"/>
                  <a:pt x="118402" y="54304"/>
                  <a:pt x="118402" y="54304"/>
                </a:cubicBezTo>
                <a:cubicBezTo>
                  <a:pt x="118402" y="54304"/>
                  <a:pt x="119800" y="56158"/>
                  <a:pt x="119800" y="59867"/>
                </a:cubicBezTo>
                <a:cubicBezTo>
                  <a:pt x="119800" y="61721"/>
                  <a:pt x="119800" y="63576"/>
                  <a:pt x="118402" y="65695"/>
                </a:cubicBezTo>
                <a:close/>
                <a:moveTo>
                  <a:pt x="49317" y="114172"/>
                </a:moveTo>
                <a:lnTo>
                  <a:pt x="49317" y="114172"/>
                </a:lnTo>
                <a:cubicBezTo>
                  <a:pt x="49317" y="117880"/>
                  <a:pt x="46522" y="119735"/>
                  <a:pt x="45124" y="119735"/>
                </a:cubicBezTo>
                <a:cubicBezTo>
                  <a:pt x="40931" y="119735"/>
                  <a:pt x="39534" y="116026"/>
                  <a:pt x="39534" y="112317"/>
                </a:cubicBezTo>
                <a:cubicBezTo>
                  <a:pt x="39534" y="110463"/>
                  <a:pt x="39534" y="110463"/>
                  <a:pt x="39534" y="108609"/>
                </a:cubicBezTo>
                <a:cubicBezTo>
                  <a:pt x="69084" y="3708"/>
                  <a:pt x="69084" y="3708"/>
                  <a:pt x="69084" y="3708"/>
                </a:cubicBezTo>
                <a:cubicBezTo>
                  <a:pt x="70482" y="1854"/>
                  <a:pt x="71880" y="0"/>
                  <a:pt x="74675" y="0"/>
                </a:cubicBezTo>
                <a:cubicBezTo>
                  <a:pt x="77670" y="0"/>
                  <a:pt x="80465" y="1854"/>
                  <a:pt x="80465" y="7417"/>
                </a:cubicBezTo>
                <a:lnTo>
                  <a:pt x="80465" y="9271"/>
                </a:lnTo>
                <a:lnTo>
                  <a:pt x="49317" y="114172"/>
                </a:lnTo>
                <a:close/>
                <a:moveTo>
                  <a:pt x="30948" y="35496"/>
                </a:moveTo>
                <a:lnTo>
                  <a:pt x="30948" y="35496"/>
                </a:lnTo>
                <a:cubicBezTo>
                  <a:pt x="12579" y="59867"/>
                  <a:pt x="12579" y="59867"/>
                  <a:pt x="12579" y="59867"/>
                </a:cubicBezTo>
                <a:cubicBezTo>
                  <a:pt x="32346" y="84238"/>
                  <a:pt x="32346" y="84238"/>
                  <a:pt x="32346" y="84238"/>
                </a:cubicBezTo>
                <a:lnTo>
                  <a:pt x="32346" y="84238"/>
                </a:lnTo>
                <a:cubicBezTo>
                  <a:pt x="32346" y="86092"/>
                  <a:pt x="33743" y="87947"/>
                  <a:pt x="33743" y="89801"/>
                </a:cubicBezTo>
                <a:cubicBezTo>
                  <a:pt x="33743" y="93509"/>
                  <a:pt x="30948" y="97483"/>
                  <a:pt x="28153" y="97483"/>
                </a:cubicBezTo>
                <a:cubicBezTo>
                  <a:pt x="26755" y="97483"/>
                  <a:pt x="25357" y="95629"/>
                  <a:pt x="23960" y="95629"/>
                </a:cubicBezTo>
                <a:lnTo>
                  <a:pt x="23960" y="95629"/>
                </a:lnTo>
                <a:cubicBezTo>
                  <a:pt x="1397" y="65695"/>
                  <a:pt x="1397" y="65695"/>
                  <a:pt x="1397" y="65695"/>
                </a:cubicBezTo>
                <a:lnTo>
                  <a:pt x="1397" y="65695"/>
                </a:lnTo>
                <a:cubicBezTo>
                  <a:pt x="0" y="63576"/>
                  <a:pt x="0" y="61721"/>
                  <a:pt x="0" y="59867"/>
                </a:cubicBezTo>
                <a:cubicBezTo>
                  <a:pt x="0" y="56158"/>
                  <a:pt x="0" y="54304"/>
                  <a:pt x="1397" y="54304"/>
                </a:cubicBezTo>
                <a:cubicBezTo>
                  <a:pt x="23960" y="24370"/>
                  <a:pt x="23960" y="24370"/>
                  <a:pt x="23960" y="24370"/>
                </a:cubicBezTo>
                <a:lnTo>
                  <a:pt x="23960" y="24370"/>
                </a:lnTo>
                <a:cubicBezTo>
                  <a:pt x="25357" y="22516"/>
                  <a:pt x="26755" y="22516"/>
                  <a:pt x="28153" y="22516"/>
                </a:cubicBezTo>
                <a:cubicBezTo>
                  <a:pt x="30948" y="22516"/>
                  <a:pt x="33743" y="24370"/>
                  <a:pt x="33743" y="29933"/>
                </a:cubicBezTo>
                <a:cubicBezTo>
                  <a:pt x="33743" y="31788"/>
                  <a:pt x="32346" y="33642"/>
                  <a:pt x="30948" y="35496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Shape 4971"/>
          <p:cNvSpPr/>
          <p:nvPr/>
        </p:nvSpPr>
        <p:spPr>
          <a:xfrm>
            <a:off x="5156280" y="2592360"/>
            <a:ext cx="277560" cy="277920"/>
          </a:xfrm>
          <a:custGeom>
            <a:avLst/>
            <a:gdLst>
              <a:gd name="textAreaLeft" fmla="*/ 0 w 277560"/>
              <a:gd name="textAreaRight" fmla="*/ 277920 w 277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1209" y="41836"/>
                </a:moveTo>
                <a:lnTo>
                  <a:pt x="111209" y="41836"/>
                </a:lnTo>
                <a:cubicBezTo>
                  <a:pt x="95264" y="57755"/>
                  <a:pt x="95264" y="57755"/>
                  <a:pt x="95264" y="57755"/>
                </a:cubicBezTo>
                <a:cubicBezTo>
                  <a:pt x="89540" y="63469"/>
                  <a:pt x="80954" y="65102"/>
                  <a:pt x="73594" y="63469"/>
                </a:cubicBezTo>
                <a:cubicBezTo>
                  <a:pt x="86678" y="49183"/>
                  <a:pt x="86678" y="49183"/>
                  <a:pt x="86678" y="49183"/>
                </a:cubicBezTo>
                <a:cubicBezTo>
                  <a:pt x="86678" y="49183"/>
                  <a:pt x="86678" y="49183"/>
                  <a:pt x="88109" y="49183"/>
                </a:cubicBezTo>
                <a:cubicBezTo>
                  <a:pt x="104054" y="33265"/>
                  <a:pt x="104054" y="33265"/>
                  <a:pt x="104054" y="33265"/>
                </a:cubicBezTo>
                <a:cubicBezTo>
                  <a:pt x="108347" y="28979"/>
                  <a:pt x="108347" y="21632"/>
                  <a:pt x="104054" y="17346"/>
                </a:cubicBezTo>
                <a:cubicBezTo>
                  <a:pt x="99557" y="13061"/>
                  <a:pt x="92402" y="13061"/>
                  <a:pt x="88109" y="17346"/>
                </a:cubicBezTo>
                <a:cubicBezTo>
                  <a:pt x="70732" y="33265"/>
                  <a:pt x="70732" y="33265"/>
                  <a:pt x="70732" y="33265"/>
                </a:cubicBezTo>
                <a:lnTo>
                  <a:pt x="70732" y="33265"/>
                </a:lnTo>
                <a:lnTo>
                  <a:pt x="70732" y="33265"/>
                </a:lnTo>
                <a:cubicBezTo>
                  <a:pt x="57853" y="47755"/>
                  <a:pt x="57853" y="47755"/>
                  <a:pt x="57853" y="47755"/>
                </a:cubicBezTo>
                <a:cubicBezTo>
                  <a:pt x="54787" y="38979"/>
                  <a:pt x="57853" y="30408"/>
                  <a:pt x="63577" y="24693"/>
                </a:cubicBezTo>
                <a:cubicBezTo>
                  <a:pt x="79318" y="8775"/>
                  <a:pt x="79318" y="8775"/>
                  <a:pt x="79318" y="8775"/>
                </a:cubicBezTo>
                <a:cubicBezTo>
                  <a:pt x="88109" y="0"/>
                  <a:pt x="102419" y="0"/>
                  <a:pt x="111209" y="8775"/>
                </a:cubicBezTo>
                <a:cubicBezTo>
                  <a:pt x="119795" y="17346"/>
                  <a:pt x="119795" y="31836"/>
                  <a:pt x="111209" y="41836"/>
                </a:cubicBezTo>
                <a:close/>
                <a:moveTo>
                  <a:pt x="46201" y="83673"/>
                </a:moveTo>
                <a:lnTo>
                  <a:pt x="46201" y="83673"/>
                </a:lnTo>
                <a:lnTo>
                  <a:pt x="46201" y="83673"/>
                </a:lnTo>
                <a:cubicBezTo>
                  <a:pt x="44770" y="85102"/>
                  <a:pt x="43339" y="85102"/>
                  <a:pt x="41908" y="85102"/>
                </a:cubicBezTo>
                <a:cubicBezTo>
                  <a:pt x="37410" y="85102"/>
                  <a:pt x="35979" y="82244"/>
                  <a:pt x="35979" y="79387"/>
                </a:cubicBezTo>
                <a:cubicBezTo>
                  <a:pt x="35979" y="77959"/>
                  <a:pt x="35979" y="76530"/>
                  <a:pt x="37410" y="75102"/>
                </a:cubicBezTo>
                <a:cubicBezTo>
                  <a:pt x="75025" y="37551"/>
                  <a:pt x="75025" y="37551"/>
                  <a:pt x="75025" y="37551"/>
                </a:cubicBezTo>
                <a:cubicBezTo>
                  <a:pt x="76456" y="36122"/>
                  <a:pt x="77887" y="34693"/>
                  <a:pt x="79318" y="34693"/>
                </a:cubicBezTo>
                <a:cubicBezTo>
                  <a:pt x="83816" y="34693"/>
                  <a:pt x="85247" y="37551"/>
                  <a:pt x="85247" y="40408"/>
                </a:cubicBezTo>
                <a:cubicBezTo>
                  <a:pt x="85247" y="41836"/>
                  <a:pt x="85247" y="43265"/>
                  <a:pt x="83816" y="44693"/>
                </a:cubicBezTo>
                <a:lnTo>
                  <a:pt x="83816" y="44693"/>
                </a:lnTo>
                <a:lnTo>
                  <a:pt x="46201" y="83673"/>
                </a:lnTo>
                <a:close/>
                <a:moveTo>
                  <a:pt x="33117" y="70816"/>
                </a:moveTo>
                <a:lnTo>
                  <a:pt x="33117" y="70816"/>
                </a:lnTo>
                <a:cubicBezTo>
                  <a:pt x="17376" y="86530"/>
                  <a:pt x="17376" y="86530"/>
                  <a:pt x="17376" y="86530"/>
                </a:cubicBezTo>
                <a:cubicBezTo>
                  <a:pt x="12879" y="91020"/>
                  <a:pt x="12879" y="98163"/>
                  <a:pt x="17376" y="102448"/>
                </a:cubicBezTo>
                <a:cubicBezTo>
                  <a:pt x="21669" y="108163"/>
                  <a:pt x="28824" y="108163"/>
                  <a:pt x="33117" y="102448"/>
                </a:cubicBezTo>
                <a:cubicBezTo>
                  <a:pt x="49063" y="86530"/>
                  <a:pt x="49063" y="86530"/>
                  <a:pt x="49063" y="86530"/>
                </a:cubicBezTo>
                <a:lnTo>
                  <a:pt x="50494" y="86530"/>
                </a:lnTo>
                <a:cubicBezTo>
                  <a:pt x="63577" y="73673"/>
                  <a:pt x="63577" y="73673"/>
                  <a:pt x="63577" y="73673"/>
                </a:cubicBezTo>
                <a:cubicBezTo>
                  <a:pt x="65008" y="80816"/>
                  <a:pt x="63577" y="89591"/>
                  <a:pt x="57853" y="95306"/>
                </a:cubicBezTo>
                <a:cubicBezTo>
                  <a:pt x="41908" y="111224"/>
                  <a:pt x="41908" y="111224"/>
                  <a:pt x="41908" y="111224"/>
                </a:cubicBezTo>
                <a:cubicBezTo>
                  <a:pt x="33117" y="119795"/>
                  <a:pt x="18807" y="119795"/>
                  <a:pt x="10017" y="111224"/>
                </a:cubicBezTo>
                <a:cubicBezTo>
                  <a:pt x="0" y="102448"/>
                  <a:pt x="0" y="88163"/>
                  <a:pt x="10017" y="79387"/>
                </a:cubicBezTo>
                <a:cubicBezTo>
                  <a:pt x="25962" y="63469"/>
                  <a:pt x="25962" y="63469"/>
                  <a:pt x="25962" y="63469"/>
                </a:cubicBezTo>
                <a:cubicBezTo>
                  <a:pt x="31686" y="56326"/>
                  <a:pt x="40477" y="54897"/>
                  <a:pt x="47632" y="56326"/>
                </a:cubicBezTo>
                <a:cubicBezTo>
                  <a:pt x="33117" y="70816"/>
                  <a:pt x="33117" y="70816"/>
                  <a:pt x="33117" y="70816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Shape 4972"/>
          <p:cNvSpPr/>
          <p:nvPr/>
        </p:nvSpPr>
        <p:spPr>
          <a:xfrm>
            <a:off x="4691160" y="2603520"/>
            <a:ext cx="214200" cy="258840"/>
          </a:xfrm>
          <a:custGeom>
            <a:avLst/>
            <a:gdLst>
              <a:gd name="textAreaLeft" fmla="*/ 0 w 214200"/>
              <a:gd name="textAreaRight" fmla="*/ 214560 w 21420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0" y="18495"/>
                </a:moveTo>
                <a:lnTo>
                  <a:pt x="0" y="18495"/>
                </a:lnTo>
                <a:cubicBezTo>
                  <a:pt x="0" y="15412"/>
                  <a:pt x="1850" y="12330"/>
                  <a:pt x="7665" y="12330"/>
                </a:cubicBezTo>
                <a:cubicBezTo>
                  <a:pt x="44933" y="12330"/>
                  <a:pt x="44933" y="12330"/>
                  <a:pt x="44933" y="12330"/>
                </a:cubicBezTo>
                <a:cubicBezTo>
                  <a:pt x="44933" y="6165"/>
                  <a:pt x="44933" y="6165"/>
                  <a:pt x="44933" y="6165"/>
                </a:cubicBezTo>
                <a:cubicBezTo>
                  <a:pt x="44933" y="3082"/>
                  <a:pt x="46784" y="0"/>
                  <a:pt x="52334" y="0"/>
                </a:cubicBezTo>
                <a:cubicBezTo>
                  <a:pt x="67400" y="0"/>
                  <a:pt x="67400" y="0"/>
                  <a:pt x="67400" y="0"/>
                </a:cubicBezTo>
                <a:cubicBezTo>
                  <a:pt x="71101" y="0"/>
                  <a:pt x="74801" y="3082"/>
                  <a:pt x="74801" y="6165"/>
                </a:cubicBezTo>
                <a:cubicBezTo>
                  <a:pt x="74801" y="12330"/>
                  <a:pt x="74801" y="12330"/>
                  <a:pt x="74801" y="12330"/>
                </a:cubicBezTo>
                <a:cubicBezTo>
                  <a:pt x="112070" y="12330"/>
                  <a:pt x="112070" y="12330"/>
                  <a:pt x="112070" y="12330"/>
                </a:cubicBezTo>
                <a:cubicBezTo>
                  <a:pt x="115770" y="12330"/>
                  <a:pt x="119735" y="15412"/>
                  <a:pt x="119735" y="18495"/>
                </a:cubicBezTo>
                <a:cubicBezTo>
                  <a:pt x="119735" y="24880"/>
                  <a:pt x="119735" y="24880"/>
                  <a:pt x="119735" y="24880"/>
                </a:cubicBezTo>
                <a:cubicBezTo>
                  <a:pt x="0" y="24880"/>
                  <a:pt x="0" y="24880"/>
                  <a:pt x="0" y="24880"/>
                </a:cubicBezTo>
                <a:lnTo>
                  <a:pt x="0" y="18495"/>
                </a:lnTo>
                <a:close/>
                <a:moveTo>
                  <a:pt x="112070" y="37211"/>
                </a:moveTo>
                <a:lnTo>
                  <a:pt x="112070" y="37211"/>
                </a:lnTo>
                <a:cubicBezTo>
                  <a:pt x="112070" y="49761"/>
                  <a:pt x="112070" y="49761"/>
                  <a:pt x="112070" y="49761"/>
                </a:cubicBezTo>
                <a:cubicBezTo>
                  <a:pt x="112070" y="113394"/>
                  <a:pt x="112070" y="113394"/>
                  <a:pt x="112070" y="113394"/>
                </a:cubicBezTo>
                <a:cubicBezTo>
                  <a:pt x="112070" y="118238"/>
                  <a:pt x="108370" y="119779"/>
                  <a:pt x="104669" y="119779"/>
                </a:cubicBezTo>
                <a:cubicBezTo>
                  <a:pt x="15066" y="119779"/>
                  <a:pt x="15066" y="119779"/>
                  <a:pt x="15066" y="119779"/>
                </a:cubicBezTo>
                <a:cubicBezTo>
                  <a:pt x="9515" y="119779"/>
                  <a:pt x="7665" y="118238"/>
                  <a:pt x="7665" y="113394"/>
                </a:cubicBezTo>
                <a:cubicBezTo>
                  <a:pt x="7665" y="49761"/>
                  <a:pt x="7665" y="49761"/>
                  <a:pt x="7665" y="49761"/>
                </a:cubicBezTo>
                <a:cubicBezTo>
                  <a:pt x="7665" y="37211"/>
                  <a:pt x="7665" y="37211"/>
                  <a:pt x="7665" y="37211"/>
                </a:cubicBezTo>
                <a:cubicBezTo>
                  <a:pt x="7665" y="31045"/>
                  <a:pt x="7665" y="31045"/>
                  <a:pt x="7665" y="31045"/>
                </a:cubicBezTo>
                <a:cubicBezTo>
                  <a:pt x="112070" y="31045"/>
                  <a:pt x="112070" y="31045"/>
                  <a:pt x="112070" y="31045"/>
                </a:cubicBezTo>
                <a:lnTo>
                  <a:pt x="112070" y="37211"/>
                </a:lnTo>
                <a:close/>
                <a:moveTo>
                  <a:pt x="37533" y="49761"/>
                </a:moveTo>
                <a:lnTo>
                  <a:pt x="37533" y="49761"/>
                </a:lnTo>
                <a:cubicBezTo>
                  <a:pt x="37533" y="46678"/>
                  <a:pt x="33568" y="43376"/>
                  <a:pt x="29867" y="43376"/>
                </a:cubicBezTo>
                <a:cubicBezTo>
                  <a:pt x="24317" y="43376"/>
                  <a:pt x="22466" y="46678"/>
                  <a:pt x="22466" y="49761"/>
                </a:cubicBezTo>
                <a:cubicBezTo>
                  <a:pt x="22466" y="101064"/>
                  <a:pt x="22466" y="101064"/>
                  <a:pt x="22466" y="101064"/>
                </a:cubicBezTo>
                <a:cubicBezTo>
                  <a:pt x="22466" y="105688"/>
                  <a:pt x="24317" y="107229"/>
                  <a:pt x="29867" y="107229"/>
                </a:cubicBezTo>
                <a:cubicBezTo>
                  <a:pt x="33568" y="107229"/>
                  <a:pt x="37533" y="105688"/>
                  <a:pt x="37533" y="101064"/>
                </a:cubicBezTo>
                <a:lnTo>
                  <a:pt x="37533" y="49761"/>
                </a:lnTo>
                <a:close/>
                <a:moveTo>
                  <a:pt x="67400" y="49761"/>
                </a:moveTo>
                <a:lnTo>
                  <a:pt x="67400" y="49761"/>
                </a:lnTo>
                <a:cubicBezTo>
                  <a:pt x="67400" y="46678"/>
                  <a:pt x="63700" y="43376"/>
                  <a:pt x="60000" y="43376"/>
                </a:cubicBezTo>
                <a:cubicBezTo>
                  <a:pt x="54185" y="43376"/>
                  <a:pt x="52334" y="46678"/>
                  <a:pt x="52334" y="49761"/>
                </a:cubicBezTo>
                <a:cubicBezTo>
                  <a:pt x="52334" y="101064"/>
                  <a:pt x="52334" y="101064"/>
                  <a:pt x="52334" y="101064"/>
                </a:cubicBezTo>
                <a:cubicBezTo>
                  <a:pt x="52334" y="105688"/>
                  <a:pt x="54185" y="107229"/>
                  <a:pt x="60000" y="107229"/>
                </a:cubicBezTo>
                <a:cubicBezTo>
                  <a:pt x="63700" y="107229"/>
                  <a:pt x="67400" y="105688"/>
                  <a:pt x="67400" y="101064"/>
                </a:cubicBezTo>
                <a:lnTo>
                  <a:pt x="67400" y="49761"/>
                </a:lnTo>
                <a:close/>
                <a:moveTo>
                  <a:pt x="97268" y="49761"/>
                </a:moveTo>
                <a:lnTo>
                  <a:pt x="97268" y="49761"/>
                </a:lnTo>
                <a:cubicBezTo>
                  <a:pt x="97268" y="46678"/>
                  <a:pt x="93568" y="43376"/>
                  <a:pt x="89867" y="43376"/>
                </a:cubicBezTo>
                <a:cubicBezTo>
                  <a:pt x="84052" y="43376"/>
                  <a:pt x="82202" y="46678"/>
                  <a:pt x="82202" y="49761"/>
                </a:cubicBezTo>
                <a:cubicBezTo>
                  <a:pt x="82202" y="101064"/>
                  <a:pt x="82202" y="101064"/>
                  <a:pt x="82202" y="101064"/>
                </a:cubicBezTo>
                <a:cubicBezTo>
                  <a:pt x="82202" y="105688"/>
                  <a:pt x="84052" y="107229"/>
                  <a:pt x="89867" y="107229"/>
                </a:cubicBezTo>
                <a:cubicBezTo>
                  <a:pt x="93568" y="107229"/>
                  <a:pt x="97268" y="105688"/>
                  <a:pt x="97268" y="101064"/>
                </a:cubicBezTo>
                <a:lnTo>
                  <a:pt x="97268" y="49761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Shape 4973"/>
          <p:cNvSpPr/>
          <p:nvPr/>
        </p:nvSpPr>
        <p:spPr>
          <a:xfrm>
            <a:off x="4172040" y="2587680"/>
            <a:ext cx="250560" cy="287280"/>
          </a:xfrm>
          <a:custGeom>
            <a:avLst/>
            <a:gdLst>
              <a:gd name="textAreaLeft" fmla="*/ 0 w 250560"/>
              <a:gd name="textAreaRight" fmla="*/ 250920 w 2505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113446" y="61993"/>
                </a:moveTo>
                <a:lnTo>
                  <a:pt x="113446" y="61993"/>
                </a:lnTo>
                <a:cubicBezTo>
                  <a:pt x="100564" y="61993"/>
                  <a:pt x="100564" y="61993"/>
                  <a:pt x="100564" y="61993"/>
                </a:cubicBezTo>
                <a:cubicBezTo>
                  <a:pt x="95819" y="61993"/>
                  <a:pt x="94237" y="59202"/>
                  <a:pt x="94237" y="56411"/>
                </a:cubicBezTo>
                <a:cubicBezTo>
                  <a:pt x="94237" y="33887"/>
                  <a:pt x="94237" y="33887"/>
                  <a:pt x="94237" y="33887"/>
                </a:cubicBezTo>
                <a:cubicBezTo>
                  <a:pt x="94237" y="31096"/>
                  <a:pt x="95819" y="28305"/>
                  <a:pt x="100564" y="28305"/>
                </a:cubicBezTo>
                <a:cubicBezTo>
                  <a:pt x="113446" y="28305"/>
                  <a:pt x="113446" y="28305"/>
                  <a:pt x="113446" y="28305"/>
                </a:cubicBezTo>
                <a:cubicBezTo>
                  <a:pt x="116610" y="28305"/>
                  <a:pt x="119774" y="31096"/>
                  <a:pt x="119774" y="33887"/>
                </a:cubicBezTo>
                <a:cubicBezTo>
                  <a:pt x="119774" y="56411"/>
                  <a:pt x="119774" y="56411"/>
                  <a:pt x="119774" y="56411"/>
                </a:cubicBezTo>
                <a:cubicBezTo>
                  <a:pt x="119774" y="59202"/>
                  <a:pt x="116610" y="61993"/>
                  <a:pt x="113446" y="61993"/>
                </a:cubicBezTo>
                <a:close/>
                <a:moveTo>
                  <a:pt x="100564" y="5780"/>
                </a:moveTo>
                <a:lnTo>
                  <a:pt x="100564" y="5780"/>
                </a:lnTo>
                <a:cubicBezTo>
                  <a:pt x="100564" y="2990"/>
                  <a:pt x="102146" y="0"/>
                  <a:pt x="106892" y="0"/>
                </a:cubicBezTo>
                <a:cubicBezTo>
                  <a:pt x="110056" y="0"/>
                  <a:pt x="113446" y="2990"/>
                  <a:pt x="113446" y="5780"/>
                </a:cubicBezTo>
                <a:cubicBezTo>
                  <a:pt x="113446" y="22524"/>
                  <a:pt x="113446" y="22524"/>
                  <a:pt x="113446" y="22524"/>
                </a:cubicBezTo>
                <a:cubicBezTo>
                  <a:pt x="100564" y="22524"/>
                  <a:pt x="100564" y="22524"/>
                  <a:pt x="100564" y="22524"/>
                </a:cubicBezTo>
                <a:lnTo>
                  <a:pt x="100564" y="5780"/>
                </a:lnTo>
                <a:close/>
                <a:moveTo>
                  <a:pt x="65536" y="91694"/>
                </a:moveTo>
                <a:lnTo>
                  <a:pt x="65536" y="91694"/>
                </a:lnTo>
                <a:cubicBezTo>
                  <a:pt x="52655" y="91694"/>
                  <a:pt x="52655" y="91694"/>
                  <a:pt x="52655" y="91694"/>
                </a:cubicBezTo>
                <a:cubicBezTo>
                  <a:pt x="49491" y="91694"/>
                  <a:pt x="46327" y="90299"/>
                  <a:pt x="46327" y="85913"/>
                </a:cubicBezTo>
                <a:cubicBezTo>
                  <a:pt x="46327" y="63388"/>
                  <a:pt x="46327" y="63388"/>
                  <a:pt x="46327" y="63388"/>
                </a:cubicBezTo>
                <a:cubicBezTo>
                  <a:pt x="46327" y="60598"/>
                  <a:pt x="49491" y="57807"/>
                  <a:pt x="52655" y="57807"/>
                </a:cubicBezTo>
                <a:cubicBezTo>
                  <a:pt x="65536" y="57807"/>
                  <a:pt x="65536" y="57807"/>
                  <a:pt x="65536" y="57807"/>
                </a:cubicBezTo>
                <a:cubicBezTo>
                  <a:pt x="70282" y="57807"/>
                  <a:pt x="71864" y="60598"/>
                  <a:pt x="71864" y="63388"/>
                </a:cubicBezTo>
                <a:cubicBezTo>
                  <a:pt x="71864" y="85913"/>
                  <a:pt x="71864" y="85913"/>
                  <a:pt x="71864" y="85913"/>
                </a:cubicBezTo>
                <a:cubicBezTo>
                  <a:pt x="71864" y="90299"/>
                  <a:pt x="70282" y="91694"/>
                  <a:pt x="65536" y="91694"/>
                </a:cubicBezTo>
                <a:close/>
                <a:moveTo>
                  <a:pt x="52655" y="5780"/>
                </a:moveTo>
                <a:lnTo>
                  <a:pt x="52655" y="5780"/>
                </a:lnTo>
                <a:cubicBezTo>
                  <a:pt x="52655" y="2990"/>
                  <a:pt x="55819" y="0"/>
                  <a:pt x="58983" y="0"/>
                </a:cubicBezTo>
                <a:cubicBezTo>
                  <a:pt x="63954" y="0"/>
                  <a:pt x="65536" y="2990"/>
                  <a:pt x="65536" y="5780"/>
                </a:cubicBezTo>
                <a:cubicBezTo>
                  <a:pt x="65536" y="52225"/>
                  <a:pt x="65536" y="52225"/>
                  <a:pt x="65536" y="52225"/>
                </a:cubicBezTo>
                <a:cubicBezTo>
                  <a:pt x="52655" y="52225"/>
                  <a:pt x="52655" y="52225"/>
                  <a:pt x="52655" y="52225"/>
                </a:cubicBezTo>
                <a:lnTo>
                  <a:pt x="52655" y="5780"/>
                </a:lnTo>
                <a:close/>
                <a:moveTo>
                  <a:pt x="19209" y="77541"/>
                </a:moveTo>
                <a:lnTo>
                  <a:pt x="19209" y="77541"/>
                </a:lnTo>
                <a:cubicBezTo>
                  <a:pt x="6327" y="77541"/>
                  <a:pt x="6327" y="77541"/>
                  <a:pt x="6327" y="77541"/>
                </a:cubicBezTo>
                <a:cubicBezTo>
                  <a:pt x="3163" y="77541"/>
                  <a:pt x="0" y="74750"/>
                  <a:pt x="0" y="71960"/>
                </a:cubicBezTo>
                <a:cubicBezTo>
                  <a:pt x="0" y="49435"/>
                  <a:pt x="0" y="49435"/>
                  <a:pt x="0" y="49435"/>
                </a:cubicBezTo>
                <a:cubicBezTo>
                  <a:pt x="0" y="45049"/>
                  <a:pt x="3163" y="43654"/>
                  <a:pt x="6327" y="43654"/>
                </a:cubicBezTo>
                <a:cubicBezTo>
                  <a:pt x="19209" y="43654"/>
                  <a:pt x="19209" y="43654"/>
                  <a:pt x="19209" y="43654"/>
                </a:cubicBezTo>
                <a:cubicBezTo>
                  <a:pt x="22372" y="43654"/>
                  <a:pt x="25536" y="45049"/>
                  <a:pt x="25536" y="49435"/>
                </a:cubicBezTo>
                <a:cubicBezTo>
                  <a:pt x="25536" y="71960"/>
                  <a:pt x="25536" y="71960"/>
                  <a:pt x="25536" y="71960"/>
                </a:cubicBezTo>
                <a:cubicBezTo>
                  <a:pt x="25536" y="74750"/>
                  <a:pt x="22372" y="77541"/>
                  <a:pt x="19209" y="77541"/>
                </a:cubicBezTo>
                <a:close/>
                <a:moveTo>
                  <a:pt x="6327" y="5780"/>
                </a:moveTo>
                <a:lnTo>
                  <a:pt x="6327" y="5780"/>
                </a:lnTo>
                <a:cubicBezTo>
                  <a:pt x="6327" y="2990"/>
                  <a:pt x="9491" y="0"/>
                  <a:pt x="12655" y="0"/>
                </a:cubicBezTo>
                <a:cubicBezTo>
                  <a:pt x="16045" y="0"/>
                  <a:pt x="19209" y="2990"/>
                  <a:pt x="19209" y="5780"/>
                </a:cubicBezTo>
                <a:cubicBezTo>
                  <a:pt x="19209" y="38073"/>
                  <a:pt x="19209" y="38073"/>
                  <a:pt x="19209" y="38073"/>
                </a:cubicBezTo>
                <a:cubicBezTo>
                  <a:pt x="6327" y="38073"/>
                  <a:pt x="6327" y="38073"/>
                  <a:pt x="6327" y="38073"/>
                </a:cubicBezTo>
                <a:lnTo>
                  <a:pt x="6327" y="5780"/>
                </a:lnTo>
                <a:close/>
                <a:moveTo>
                  <a:pt x="19209" y="114219"/>
                </a:moveTo>
                <a:lnTo>
                  <a:pt x="19209" y="114219"/>
                </a:lnTo>
                <a:cubicBezTo>
                  <a:pt x="19209" y="118405"/>
                  <a:pt x="16045" y="119800"/>
                  <a:pt x="12655" y="119800"/>
                </a:cubicBezTo>
                <a:cubicBezTo>
                  <a:pt x="9491" y="119800"/>
                  <a:pt x="6327" y="118405"/>
                  <a:pt x="6327" y="114219"/>
                </a:cubicBezTo>
                <a:cubicBezTo>
                  <a:pt x="6327" y="83122"/>
                  <a:pt x="6327" y="83122"/>
                  <a:pt x="6327" y="83122"/>
                </a:cubicBezTo>
                <a:cubicBezTo>
                  <a:pt x="19209" y="83122"/>
                  <a:pt x="19209" y="83122"/>
                  <a:pt x="19209" y="83122"/>
                </a:cubicBezTo>
                <a:lnTo>
                  <a:pt x="19209" y="114219"/>
                </a:lnTo>
                <a:close/>
                <a:moveTo>
                  <a:pt x="65536" y="114219"/>
                </a:moveTo>
                <a:lnTo>
                  <a:pt x="65536" y="114219"/>
                </a:lnTo>
                <a:cubicBezTo>
                  <a:pt x="65536" y="118405"/>
                  <a:pt x="63954" y="119800"/>
                  <a:pt x="58983" y="119800"/>
                </a:cubicBezTo>
                <a:cubicBezTo>
                  <a:pt x="55819" y="119800"/>
                  <a:pt x="52655" y="118405"/>
                  <a:pt x="52655" y="114219"/>
                </a:cubicBezTo>
                <a:cubicBezTo>
                  <a:pt x="52655" y="97275"/>
                  <a:pt x="52655" y="97275"/>
                  <a:pt x="52655" y="97275"/>
                </a:cubicBezTo>
                <a:cubicBezTo>
                  <a:pt x="65536" y="97275"/>
                  <a:pt x="65536" y="97275"/>
                  <a:pt x="65536" y="97275"/>
                </a:cubicBezTo>
                <a:lnTo>
                  <a:pt x="65536" y="114219"/>
                </a:lnTo>
                <a:close/>
                <a:moveTo>
                  <a:pt x="113446" y="114219"/>
                </a:moveTo>
                <a:lnTo>
                  <a:pt x="113446" y="114219"/>
                </a:lnTo>
                <a:cubicBezTo>
                  <a:pt x="113446" y="118405"/>
                  <a:pt x="110056" y="119800"/>
                  <a:pt x="106892" y="119800"/>
                </a:cubicBezTo>
                <a:cubicBezTo>
                  <a:pt x="102146" y="119800"/>
                  <a:pt x="100564" y="118405"/>
                  <a:pt x="100564" y="114219"/>
                </a:cubicBezTo>
                <a:cubicBezTo>
                  <a:pt x="100564" y="67774"/>
                  <a:pt x="100564" y="67774"/>
                  <a:pt x="100564" y="67774"/>
                </a:cubicBezTo>
                <a:cubicBezTo>
                  <a:pt x="113446" y="67774"/>
                  <a:pt x="113446" y="67774"/>
                  <a:pt x="113446" y="67774"/>
                </a:cubicBezTo>
                <a:lnTo>
                  <a:pt x="113446" y="114219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Shape 4974"/>
          <p:cNvSpPr/>
          <p:nvPr/>
        </p:nvSpPr>
        <p:spPr>
          <a:xfrm>
            <a:off x="3772080" y="2619360"/>
            <a:ext cx="53640" cy="223920"/>
          </a:xfrm>
          <a:custGeom>
            <a:avLst/>
            <a:gdLst>
              <a:gd name="textAreaLeft" fmla="*/ 0 w 53640"/>
              <a:gd name="textAreaRight" fmla="*/ 54000 w 5364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20000" h="120000">
                <a:moveTo>
                  <a:pt x="0" y="105569"/>
                </a:moveTo>
                <a:lnTo>
                  <a:pt x="0" y="105569"/>
                </a:lnTo>
                <a:cubicBezTo>
                  <a:pt x="0" y="98481"/>
                  <a:pt x="29473" y="91139"/>
                  <a:pt x="58947" y="91139"/>
                </a:cubicBezTo>
                <a:cubicBezTo>
                  <a:pt x="89473" y="91139"/>
                  <a:pt x="118947" y="98481"/>
                  <a:pt x="118947" y="105569"/>
                </a:cubicBezTo>
                <a:cubicBezTo>
                  <a:pt x="118947" y="112658"/>
                  <a:pt x="89473" y="119746"/>
                  <a:pt x="58947" y="119746"/>
                </a:cubicBezTo>
                <a:cubicBezTo>
                  <a:pt x="29473" y="119746"/>
                  <a:pt x="0" y="112658"/>
                  <a:pt x="0" y="105569"/>
                </a:cubicBezTo>
                <a:close/>
                <a:moveTo>
                  <a:pt x="0" y="60759"/>
                </a:moveTo>
                <a:lnTo>
                  <a:pt x="0" y="60759"/>
                </a:lnTo>
                <a:cubicBezTo>
                  <a:pt x="0" y="51898"/>
                  <a:pt x="29473" y="46582"/>
                  <a:pt x="58947" y="46582"/>
                </a:cubicBezTo>
                <a:cubicBezTo>
                  <a:pt x="89473" y="46582"/>
                  <a:pt x="118947" y="51898"/>
                  <a:pt x="118947" y="60759"/>
                </a:cubicBezTo>
                <a:cubicBezTo>
                  <a:pt x="118947" y="68101"/>
                  <a:pt x="89473" y="75189"/>
                  <a:pt x="58947" y="75189"/>
                </a:cubicBezTo>
                <a:cubicBezTo>
                  <a:pt x="29473" y="75189"/>
                  <a:pt x="0" y="68101"/>
                  <a:pt x="0" y="60759"/>
                </a:cubicBezTo>
                <a:close/>
                <a:moveTo>
                  <a:pt x="0" y="14177"/>
                </a:moveTo>
                <a:lnTo>
                  <a:pt x="0" y="14177"/>
                </a:lnTo>
                <a:cubicBezTo>
                  <a:pt x="0" y="7088"/>
                  <a:pt x="29473" y="0"/>
                  <a:pt x="58947" y="0"/>
                </a:cubicBezTo>
                <a:cubicBezTo>
                  <a:pt x="89473" y="0"/>
                  <a:pt x="118947" y="7088"/>
                  <a:pt x="118947" y="14177"/>
                </a:cubicBezTo>
                <a:cubicBezTo>
                  <a:pt x="118947" y="23291"/>
                  <a:pt x="89473" y="28607"/>
                  <a:pt x="58947" y="28607"/>
                </a:cubicBezTo>
                <a:cubicBezTo>
                  <a:pt x="29473" y="28607"/>
                  <a:pt x="0" y="23291"/>
                  <a:pt x="0" y="14177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Shape 4975"/>
          <p:cNvSpPr/>
          <p:nvPr/>
        </p:nvSpPr>
        <p:spPr>
          <a:xfrm>
            <a:off x="3154320" y="2612880"/>
            <a:ext cx="287280" cy="243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114219" y="13176"/>
                </a:moveTo>
                <a:lnTo>
                  <a:pt x="114219" y="13176"/>
                </a:lnTo>
                <a:cubicBezTo>
                  <a:pt x="5780" y="13176"/>
                  <a:pt x="5780" y="13176"/>
                  <a:pt x="5780" y="13176"/>
                </a:cubicBezTo>
                <a:cubicBezTo>
                  <a:pt x="2990" y="13176"/>
                  <a:pt x="0" y="9882"/>
                  <a:pt x="0" y="6588"/>
                </a:cubicBezTo>
                <a:cubicBezTo>
                  <a:pt x="0" y="1647"/>
                  <a:pt x="2990" y="0"/>
                  <a:pt x="5780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1647"/>
                  <a:pt x="119800" y="6588"/>
                </a:cubicBezTo>
                <a:cubicBezTo>
                  <a:pt x="119800" y="9882"/>
                  <a:pt x="118405" y="13176"/>
                  <a:pt x="114219" y="13176"/>
                </a:cubicBezTo>
                <a:close/>
                <a:moveTo>
                  <a:pt x="39468" y="48235"/>
                </a:moveTo>
                <a:lnTo>
                  <a:pt x="39468" y="48235"/>
                </a:lnTo>
                <a:lnTo>
                  <a:pt x="39468" y="48235"/>
                </a:lnTo>
                <a:cubicBezTo>
                  <a:pt x="28305" y="48235"/>
                  <a:pt x="28305" y="48235"/>
                  <a:pt x="28305" y="48235"/>
                </a:cubicBezTo>
                <a:cubicBezTo>
                  <a:pt x="25514" y="48235"/>
                  <a:pt x="22524" y="44941"/>
                  <a:pt x="22524" y="41411"/>
                </a:cubicBezTo>
                <a:cubicBezTo>
                  <a:pt x="22524" y="38117"/>
                  <a:pt x="25514" y="34823"/>
                  <a:pt x="28305" y="34823"/>
                </a:cubicBezTo>
                <a:cubicBezTo>
                  <a:pt x="52225" y="34823"/>
                  <a:pt x="52225" y="34823"/>
                  <a:pt x="52225" y="34823"/>
                </a:cubicBezTo>
                <a:lnTo>
                  <a:pt x="52225" y="34823"/>
                </a:lnTo>
                <a:cubicBezTo>
                  <a:pt x="57807" y="34823"/>
                  <a:pt x="57807" y="34823"/>
                  <a:pt x="57807" y="34823"/>
                </a:cubicBezTo>
                <a:cubicBezTo>
                  <a:pt x="83122" y="34823"/>
                  <a:pt x="83122" y="34823"/>
                  <a:pt x="83122" y="34823"/>
                </a:cubicBezTo>
                <a:cubicBezTo>
                  <a:pt x="114219" y="34823"/>
                  <a:pt x="114219" y="34823"/>
                  <a:pt x="114219" y="34823"/>
                </a:cubicBezTo>
                <a:cubicBezTo>
                  <a:pt x="118405" y="34823"/>
                  <a:pt x="119800" y="38117"/>
                  <a:pt x="119800" y="41411"/>
                </a:cubicBezTo>
                <a:cubicBezTo>
                  <a:pt x="119800" y="44941"/>
                  <a:pt x="118405" y="48235"/>
                  <a:pt x="114219" y="48235"/>
                </a:cubicBezTo>
                <a:cubicBezTo>
                  <a:pt x="83122" y="48235"/>
                  <a:pt x="83122" y="48235"/>
                  <a:pt x="83122" y="48235"/>
                </a:cubicBezTo>
                <a:lnTo>
                  <a:pt x="83122" y="48235"/>
                </a:lnTo>
                <a:lnTo>
                  <a:pt x="39468" y="48235"/>
                </a:lnTo>
                <a:close/>
                <a:moveTo>
                  <a:pt x="5780" y="69882"/>
                </a:moveTo>
                <a:lnTo>
                  <a:pt x="5780" y="69882"/>
                </a:lnTo>
                <a:cubicBezTo>
                  <a:pt x="114219" y="69882"/>
                  <a:pt x="114219" y="69882"/>
                  <a:pt x="114219" y="69882"/>
                </a:cubicBezTo>
                <a:cubicBezTo>
                  <a:pt x="118405" y="69882"/>
                  <a:pt x="119800" y="73176"/>
                  <a:pt x="119800" y="76470"/>
                </a:cubicBezTo>
                <a:cubicBezTo>
                  <a:pt x="119800" y="81411"/>
                  <a:pt x="118405" y="83058"/>
                  <a:pt x="114219" y="83058"/>
                </a:cubicBezTo>
                <a:cubicBezTo>
                  <a:pt x="5780" y="83058"/>
                  <a:pt x="5780" y="83058"/>
                  <a:pt x="5780" y="83058"/>
                </a:cubicBezTo>
                <a:cubicBezTo>
                  <a:pt x="2990" y="83058"/>
                  <a:pt x="0" y="81411"/>
                  <a:pt x="0" y="76470"/>
                </a:cubicBezTo>
                <a:cubicBezTo>
                  <a:pt x="0" y="73176"/>
                  <a:pt x="2990" y="69882"/>
                  <a:pt x="5780" y="69882"/>
                </a:cubicBezTo>
                <a:close/>
                <a:moveTo>
                  <a:pt x="39468" y="106352"/>
                </a:moveTo>
                <a:lnTo>
                  <a:pt x="39468" y="106352"/>
                </a:lnTo>
                <a:cubicBezTo>
                  <a:pt x="57807" y="106352"/>
                  <a:pt x="57807" y="106352"/>
                  <a:pt x="57807" y="106352"/>
                </a:cubicBezTo>
                <a:cubicBezTo>
                  <a:pt x="83122" y="106352"/>
                  <a:pt x="83122" y="106352"/>
                  <a:pt x="83122" y="106352"/>
                </a:cubicBezTo>
                <a:cubicBezTo>
                  <a:pt x="114219" y="106352"/>
                  <a:pt x="114219" y="106352"/>
                  <a:pt x="114219" y="106352"/>
                </a:cubicBezTo>
                <a:cubicBezTo>
                  <a:pt x="118405" y="106352"/>
                  <a:pt x="119800" y="108000"/>
                  <a:pt x="119800" y="112941"/>
                </a:cubicBezTo>
                <a:cubicBezTo>
                  <a:pt x="119800" y="116235"/>
                  <a:pt x="118405" y="119764"/>
                  <a:pt x="114219" y="119764"/>
                </a:cubicBezTo>
                <a:cubicBezTo>
                  <a:pt x="57807" y="119764"/>
                  <a:pt x="57807" y="119764"/>
                  <a:pt x="57807" y="119764"/>
                </a:cubicBezTo>
                <a:lnTo>
                  <a:pt x="57807" y="119764"/>
                </a:lnTo>
                <a:cubicBezTo>
                  <a:pt x="39468" y="119764"/>
                  <a:pt x="39468" y="119764"/>
                  <a:pt x="39468" y="119764"/>
                </a:cubicBezTo>
                <a:cubicBezTo>
                  <a:pt x="36677" y="119764"/>
                  <a:pt x="33887" y="116235"/>
                  <a:pt x="33887" y="112941"/>
                </a:cubicBezTo>
                <a:cubicBezTo>
                  <a:pt x="33887" y="108000"/>
                  <a:pt x="36677" y="106352"/>
                  <a:pt x="39468" y="10635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Shape 4976"/>
          <p:cNvSpPr/>
          <p:nvPr/>
        </p:nvSpPr>
        <p:spPr>
          <a:xfrm>
            <a:off x="2655720" y="2612880"/>
            <a:ext cx="285840" cy="243000"/>
          </a:xfrm>
          <a:custGeom>
            <a:avLst/>
            <a:gdLst>
              <a:gd name="textAreaLeft" fmla="*/ 0 w 285840"/>
              <a:gd name="textAreaRight" fmla="*/ 286200 w 2858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114219" y="13176"/>
                </a:moveTo>
                <a:lnTo>
                  <a:pt x="114219" y="13176"/>
                </a:lnTo>
                <a:cubicBezTo>
                  <a:pt x="5780" y="13176"/>
                  <a:pt x="5780" y="13176"/>
                  <a:pt x="5780" y="13176"/>
                </a:cubicBezTo>
                <a:cubicBezTo>
                  <a:pt x="1395" y="13176"/>
                  <a:pt x="0" y="9882"/>
                  <a:pt x="0" y="6588"/>
                </a:cubicBezTo>
                <a:cubicBezTo>
                  <a:pt x="0" y="1647"/>
                  <a:pt x="1395" y="0"/>
                  <a:pt x="5780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647"/>
                  <a:pt x="119800" y="6588"/>
                </a:cubicBezTo>
                <a:cubicBezTo>
                  <a:pt x="119800" y="9882"/>
                  <a:pt x="117009" y="13176"/>
                  <a:pt x="114219" y="13176"/>
                </a:cubicBezTo>
                <a:close/>
                <a:moveTo>
                  <a:pt x="80332" y="48235"/>
                </a:moveTo>
                <a:lnTo>
                  <a:pt x="80332" y="48235"/>
                </a:lnTo>
                <a:lnTo>
                  <a:pt x="80332" y="48235"/>
                </a:lnTo>
                <a:cubicBezTo>
                  <a:pt x="70564" y="48235"/>
                  <a:pt x="70564" y="48235"/>
                  <a:pt x="70564" y="48235"/>
                </a:cubicBezTo>
                <a:cubicBezTo>
                  <a:pt x="47840" y="48235"/>
                  <a:pt x="47840" y="48235"/>
                  <a:pt x="47840" y="48235"/>
                </a:cubicBezTo>
                <a:cubicBezTo>
                  <a:pt x="39468" y="48235"/>
                  <a:pt x="39468" y="48235"/>
                  <a:pt x="39468" y="48235"/>
                </a:cubicBezTo>
                <a:lnTo>
                  <a:pt x="39468" y="48235"/>
                </a:lnTo>
                <a:cubicBezTo>
                  <a:pt x="28305" y="48235"/>
                  <a:pt x="28305" y="48235"/>
                  <a:pt x="28305" y="48235"/>
                </a:cubicBezTo>
                <a:cubicBezTo>
                  <a:pt x="23920" y="48235"/>
                  <a:pt x="22524" y="44941"/>
                  <a:pt x="22524" y="41411"/>
                </a:cubicBezTo>
                <a:cubicBezTo>
                  <a:pt x="22524" y="38117"/>
                  <a:pt x="23920" y="34823"/>
                  <a:pt x="28305" y="34823"/>
                </a:cubicBezTo>
                <a:cubicBezTo>
                  <a:pt x="91694" y="34823"/>
                  <a:pt x="91694" y="34823"/>
                  <a:pt x="91694" y="34823"/>
                </a:cubicBezTo>
                <a:cubicBezTo>
                  <a:pt x="94485" y="34823"/>
                  <a:pt x="97275" y="38117"/>
                  <a:pt x="97275" y="41411"/>
                </a:cubicBezTo>
                <a:cubicBezTo>
                  <a:pt x="97275" y="44941"/>
                  <a:pt x="94485" y="48235"/>
                  <a:pt x="91694" y="48235"/>
                </a:cubicBezTo>
                <a:lnTo>
                  <a:pt x="80332" y="48235"/>
                </a:lnTo>
                <a:close/>
                <a:moveTo>
                  <a:pt x="5780" y="69882"/>
                </a:moveTo>
                <a:lnTo>
                  <a:pt x="5780" y="69882"/>
                </a:lnTo>
                <a:cubicBezTo>
                  <a:pt x="114219" y="69882"/>
                  <a:pt x="114219" y="69882"/>
                  <a:pt x="114219" y="69882"/>
                </a:cubicBezTo>
                <a:cubicBezTo>
                  <a:pt x="117009" y="69882"/>
                  <a:pt x="119800" y="73176"/>
                  <a:pt x="119800" y="76470"/>
                </a:cubicBezTo>
                <a:cubicBezTo>
                  <a:pt x="119800" y="81411"/>
                  <a:pt x="117009" y="83058"/>
                  <a:pt x="114219" y="83058"/>
                </a:cubicBezTo>
                <a:cubicBezTo>
                  <a:pt x="5780" y="83058"/>
                  <a:pt x="5780" y="83058"/>
                  <a:pt x="5780" y="83058"/>
                </a:cubicBezTo>
                <a:cubicBezTo>
                  <a:pt x="1395" y="83058"/>
                  <a:pt x="0" y="81411"/>
                  <a:pt x="0" y="76470"/>
                </a:cubicBezTo>
                <a:cubicBezTo>
                  <a:pt x="0" y="73176"/>
                  <a:pt x="1395" y="69882"/>
                  <a:pt x="5780" y="69882"/>
                </a:cubicBezTo>
                <a:close/>
                <a:moveTo>
                  <a:pt x="39468" y="106352"/>
                </a:moveTo>
                <a:lnTo>
                  <a:pt x="39468" y="106352"/>
                </a:lnTo>
                <a:cubicBezTo>
                  <a:pt x="50830" y="106352"/>
                  <a:pt x="50830" y="106352"/>
                  <a:pt x="50830" y="106352"/>
                </a:cubicBezTo>
                <a:cubicBezTo>
                  <a:pt x="57807" y="106352"/>
                  <a:pt x="57807" y="106352"/>
                  <a:pt x="57807" y="106352"/>
                </a:cubicBezTo>
                <a:cubicBezTo>
                  <a:pt x="61993" y="106352"/>
                  <a:pt x="61993" y="106352"/>
                  <a:pt x="61993" y="106352"/>
                </a:cubicBezTo>
                <a:cubicBezTo>
                  <a:pt x="70564" y="106352"/>
                  <a:pt x="70564" y="106352"/>
                  <a:pt x="70564" y="106352"/>
                </a:cubicBezTo>
                <a:cubicBezTo>
                  <a:pt x="80332" y="106352"/>
                  <a:pt x="80332" y="106352"/>
                  <a:pt x="80332" y="106352"/>
                </a:cubicBezTo>
                <a:cubicBezTo>
                  <a:pt x="83122" y="106352"/>
                  <a:pt x="85913" y="108000"/>
                  <a:pt x="85913" y="112941"/>
                </a:cubicBezTo>
                <a:cubicBezTo>
                  <a:pt x="85913" y="116235"/>
                  <a:pt x="83122" y="119764"/>
                  <a:pt x="80332" y="119764"/>
                </a:cubicBezTo>
                <a:cubicBezTo>
                  <a:pt x="70564" y="119764"/>
                  <a:pt x="70564" y="119764"/>
                  <a:pt x="70564" y="119764"/>
                </a:cubicBezTo>
                <a:lnTo>
                  <a:pt x="70564" y="119764"/>
                </a:lnTo>
                <a:cubicBezTo>
                  <a:pt x="61993" y="119764"/>
                  <a:pt x="61993" y="119764"/>
                  <a:pt x="61993" y="119764"/>
                </a:cubicBezTo>
                <a:cubicBezTo>
                  <a:pt x="57807" y="119764"/>
                  <a:pt x="57807" y="119764"/>
                  <a:pt x="57807" y="119764"/>
                </a:cubicBezTo>
                <a:cubicBezTo>
                  <a:pt x="50830" y="119764"/>
                  <a:pt x="50830" y="119764"/>
                  <a:pt x="50830" y="119764"/>
                </a:cubicBezTo>
                <a:lnTo>
                  <a:pt x="50830" y="119764"/>
                </a:lnTo>
                <a:cubicBezTo>
                  <a:pt x="39468" y="119764"/>
                  <a:pt x="39468" y="119764"/>
                  <a:pt x="39468" y="119764"/>
                </a:cubicBezTo>
                <a:cubicBezTo>
                  <a:pt x="35282" y="119764"/>
                  <a:pt x="33887" y="116235"/>
                  <a:pt x="33887" y="112941"/>
                </a:cubicBezTo>
                <a:cubicBezTo>
                  <a:pt x="33887" y="108000"/>
                  <a:pt x="35282" y="106352"/>
                  <a:pt x="39468" y="10635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Shape 4977"/>
          <p:cNvSpPr/>
          <p:nvPr/>
        </p:nvSpPr>
        <p:spPr>
          <a:xfrm>
            <a:off x="2154240" y="2612880"/>
            <a:ext cx="289080" cy="243000"/>
          </a:xfrm>
          <a:custGeom>
            <a:avLst/>
            <a:gdLst>
              <a:gd name="textAreaLeft" fmla="*/ 0 w 289080"/>
              <a:gd name="textAreaRight" fmla="*/ 289440 w 2890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114285" y="13176"/>
                </a:moveTo>
                <a:lnTo>
                  <a:pt x="114285" y="13176"/>
                </a:lnTo>
                <a:cubicBezTo>
                  <a:pt x="5517" y="13176"/>
                  <a:pt x="5517" y="13176"/>
                  <a:pt x="5517" y="13176"/>
                </a:cubicBezTo>
                <a:cubicBezTo>
                  <a:pt x="2758" y="13176"/>
                  <a:pt x="0" y="9882"/>
                  <a:pt x="0" y="6588"/>
                </a:cubicBezTo>
                <a:cubicBezTo>
                  <a:pt x="0" y="1647"/>
                  <a:pt x="2758" y="0"/>
                  <a:pt x="5517" y="0"/>
                </a:cubicBezTo>
                <a:cubicBezTo>
                  <a:pt x="114285" y="0"/>
                  <a:pt x="114285" y="0"/>
                  <a:pt x="114285" y="0"/>
                </a:cubicBezTo>
                <a:cubicBezTo>
                  <a:pt x="117044" y="0"/>
                  <a:pt x="119802" y="1647"/>
                  <a:pt x="119802" y="6588"/>
                </a:cubicBezTo>
                <a:cubicBezTo>
                  <a:pt x="119802" y="9882"/>
                  <a:pt x="117044" y="13176"/>
                  <a:pt x="114285" y="13176"/>
                </a:cubicBezTo>
                <a:close/>
                <a:moveTo>
                  <a:pt x="5517" y="34823"/>
                </a:moveTo>
                <a:lnTo>
                  <a:pt x="5517" y="34823"/>
                </a:lnTo>
                <a:cubicBezTo>
                  <a:pt x="37635" y="34823"/>
                  <a:pt x="37635" y="34823"/>
                  <a:pt x="37635" y="34823"/>
                </a:cubicBezTo>
                <a:cubicBezTo>
                  <a:pt x="61280" y="34823"/>
                  <a:pt x="61280" y="34823"/>
                  <a:pt x="61280" y="34823"/>
                </a:cubicBezTo>
                <a:cubicBezTo>
                  <a:pt x="66798" y="34823"/>
                  <a:pt x="66798" y="34823"/>
                  <a:pt x="66798" y="34823"/>
                </a:cubicBezTo>
                <a:lnTo>
                  <a:pt x="66798" y="34823"/>
                </a:lnTo>
                <a:cubicBezTo>
                  <a:pt x="92019" y="34823"/>
                  <a:pt x="92019" y="34823"/>
                  <a:pt x="92019" y="34823"/>
                </a:cubicBezTo>
                <a:cubicBezTo>
                  <a:pt x="94778" y="34823"/>
                  <a:pt x="97536" y="38117"/>
                  <a:pt x="97536" y="41411"/>
                </a:cubicBezTo>
                <a:cubicBezTo>
                  <a:pt x="97536" y="44941"/>
                  <a:pt x="94778" y="48235"/>
                  <a:pt x="92019" y="48235"/>
                </a:cubicBezTo>
                <a:cubicBezTo>
                  <a:pt x="80788" y="48235"/>
                  <a:pt x="80788" y="48235"/>
                  <a:pt x="80788" y="48235"/>
                </a:cubicBezTo>
                <a:lnTo>
                  <a:pt x="80788" y="48235"/>
                </a:lnTo>
                <a:cubicBezTo>
                  <a:pt x="37635" y="48235"/>
                  <a:pt x="37635" y="48235"/>
                  <a:pt x="37635" y="48235"/>
                </a:cubicBezTo>
                <a:lnTo>
                  <a:pt x="37635" y="48235"/>
                </a:lnTo>
                <a:cubicBezTo>
                  <a:pt x="5517" y="48235"/>
                  <a:pt x="5517" y="48235"/>
                  <a:pt x="5517" y="48235"/>
                </a:cubicBezTo>
                <a:cubicBezTo>
                  <a:pt x="2758" y="48235"/>
                  <a:pt x="0" y="44941"/>
                  <a:pt x="0" y="41411"/>
                </a:cubicBezTo>
                <a:cubicBezTo>
                  <a:pt x="0" y="38117"/>
                  <a:pt x="2758" y="34823"/>
                  <a:pt x="5517" y="34823"/>
                </a:cubicBezTo>
                <a:close/>
                <a:moveTo>
                  <a:pt x="5517" y="69882"/>
                </a:moveTo>
                <a:lnTo>
                  <a:pt x="5517" y="69882"/>
                </a:lnTo>
                <a:cubicBezTo>
                  <a:pt x="114285" y="69882"/>
                  <a:pt x="114285" y="69882"/>
                  <a:pt x="114285" y="69882"/>
                </a:cubicBezTo>
                <a:cubicBezTo>
                  <a:pt x="117044" y="69882"/>
                  <a:pt x="119802" y="73176"/>
                  <a:pt x="119802" y="76470"/>
                </a:cubicBezTo>
                <a:cubicBezTo>
                  <a:pt x="119802" y="81411"/>
                  <a:pt x="117044" y="83058"/>
                  <a:pt x="114285" y="83058"/>
                </a:cubicBezTo>
                <a:cubicBezTo>
                  <a:pt x="5517" y="83058"/>
                  <a:pt x="5517" y="83058"/>
                  <a:pt x="5517" y="83058"/>
                </a:cubicBezTo>
                <a:cubicBezTo>
                  <a:pt x="2758" y="83058"/>
                  <a:pt x="0" y="81411"/>
                  <a:pt x="0" y="76470"/>
                </a:cubicBezTo>
                <a:cubicBezTo>
                  <a:pt x="0" y="73176"/>
                  <a:pt x="2758" y="69882"/>
                  <a:pt x="5517" y="69882"/>
                </a:cubicBezTo>
                <a:close/>
                <a:moveTo>
                  <a:pt x="5517" y="106352"/>
                </a:moveTo>
                <a:lnTo>
                  <a:pt x="5517" y="106352"/>
                </a:lnTo>
                <a:cubicBezTo>
                  <a:pt x="37635" y="106352"/>
                  <a:pt x="37635" y="106352"/>
                  <a:pt x="37635" y="106352"/>
                </a:cubicBezTo>
                <a:cubicBezTo>
                  <a:pt x="61280" y="106352"/>
                  <a:pt x="61280" y="106352"/>
                  <a:pt x="61280" y="106352"/>
                </a:cubicBezTo>
                <a:cubicBezTo>
                  <a:pt x="80788" y="106352"/>
                  <a:pt x="80788" y="106352"/>
                  <a:pt x="80788" y="106352"/>
                </a:cubicBezTo>
                <a:cubicBezTo>
                  <a:pt x="83546" y="106352"/>
                  <a:pt x="86305" y="108000"/>
                  <a:pt x="86305" y="112941"/>
                </a:cubicBezTo>
                <a:cubicBezTo>
                  <a:pt x="86305" y="116235"/>
                  <a:pt x="83546" y="119764"/>
                  <a:pt x="80788" y="119764"/>
                </a:cubicBezTo>
                <a:cubicBezTo>
                  <a:pt x="61280" y="119764"/>
                  <a:pt x="61280" y="119764"/>
                  <a:pt x="61280" y="119764"/>
                </a:cubicBezTo>
                <a:lnTo>
                  <a:pt x="61280" y="119764"/>
                </a:lnTo>
                <a:cubicBezTo>
                  <a:pt x="5517" y="119764"/>
                  <a:pt x="5517" y="119764"/>
                  <a:pt x="5517" y="119764"/>
                </a:cubicBezTo>
                <a:cubicBezTo>
                  <a:pt x="2758" y="119764"/>
                  <a:pt x="0" y="116235"/>
                  <a:pt x="0" y="112941"/>
                </a:cubicBezTo>
                <a:cubicBezTo>
                  <a:pt x="0" y="108000"/>
                  <a:pt x="2758" y="106352"/>
                  <a:pt x="5517" y="10635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Shape 4978"/>
          <p:cNvSpPr/>
          <p:nvPr/>
        </p:nvSpPr>
        <p:spPr>
          <a:xfrm>
            <a:off x="1654200" y="2612880"/>
            <a:ext cx="287280" cy="243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114019" y="83058"/>
                </a:moveTo>
                <a:lnTo>
                  <a:pt x="114019" y="83058"/>
                </a:lnTo>
                <a:cubicBezTo>
                  <a:pt x="5581" y="83058"/>
                  <a:pt x="5581" y="83058"/>
                  <a:pt x="5581" y="83058"/>
                </a:cubicBezTo>
                <a:cubicBezTo>
                  <a:pt x="2790" y="83058"/>
                  <a:pt x="0" y="81411"/>
                  <a:pt x="0" y="76470"/>
                </a:cubicBezTo>
                <a:cubicBezTo>
                  <a:pt x="0" y="73176"/>
                  <a:pt x="2790" y="69882"/>
                  <a:pt x="5581" y="69882"/>
                </a:cubicBezTo>
                <a:cubicBezTo>
                  <a:pt x="114019" y="69882"/>
                  <a:pt x="114019" y="69882"/>
                  <a:pt x="114019" y="69882"/>
                </a:cubicBezTo>
                <a:cubicBezTo>
                  <a:pt x="118405" y="69882"/>
                  <a:pt x="119800" y="73176"/>
                  <a:pt x="119800" y="76470"/>
                </a:cubicBezTo>
                <a:cubicBezTo>
                  <a:pt x="119800" y="81411"/>
                  <a:pt x="118405" y="83058"/>
                  <a:pt x="114019" y="83058"/>
                </a:cubicBezTo>
                <a:close/>
                <a:moveTo>
                  <a:pt x="114019" y="48235"/>
                </a:moveTo>
                <a:lnTo>
                  <a:pt x="114019" y="48235"/>
                </a:lnTo>
                <a:cubicBezTo>
                  <a:pt x="5581" y="48235"/>
                  <a:pt x="5581" y="48235"/>
                  <a:pt x="5581" y="48235"/>
                </a:cubicBezTo>
                <a:cubicBezTo>
                  <a:pt x="2790" y="48235"/>
                  <a:pt x="0" y="44941"/>
                  <a:pt x="0" y="41411"/>
                </a:cubicBezTo>
                <a:cubicBezTo>
                  <a:pt x="0" y="38117"/>
                  <a:pt x="2790" y="34823"/>
                  <a:pt x="5581" y="34823"/>
                </a:cubicBezTo>
                <a:cubicBezTo>
                  <a:pt x="114019" y="34823"/>
                  <a:pt x="114019" y="34823"/>
                  <a:pt x="114019" y="34823"/>
                </a:cubicBezTo>
                <a:cubicBezTo>
                  <a:pt x="118405" y="34823"/>
                  <a:pt x="119800" y="38117"/>
                  <a:pt x="119800" y="41411"/>
                </a:cubicBezTo>
                <a:cubicBezTo>
                  <a:pt x="119800" y="44941"/>
                  <a:pt x="118405" y="48235"/>
                  <a:pt x="114019" y="48235"/>
                </a:cubicBezTo>
                <a:close/>
                <a:moveTo>
                  <a:pt x="114019" y="13176"/>
                </a:moveTo>
                <a:lnTo>
                  <a:pt x="114019" y="13176"/>
                </a:lnTo>
                <a:cubicBezTo>
                  <a:pt x="5581" y="13176"/>
                  <a:pt x="5581" y="13176"/>
                  <a:pt x="5581" y="13176"/>
                </a:cubicBezTo>
                <a:cubicBezTo>
                  <a:pt x="2790" y="13176"/>
                  <a:pt x="0" y="9882"/>
                  <a:pt x="0" y="6588"/>
                </a:cubicBezTo>
                <a:cubicBezTo>
                  <a:pt x="0" y="1647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1647"/>
                  <a:pt x="119800" y="6588"/>
                </a:cubicBezTo>
                <a:cubicBezTo>
                  <a:pt x="119800" y="9882"/>
                  <a:pt x="118405" y="13176"/>
                  <a:pt x="114019" y="13176"/>
                </a:cubicBezTo>
                <a:close/>
                <a:moveTo>
                  <a:pt x="5581" y="106352"/>
                </a:moveTo>
                <a:lnTo>
                  <a:pt x="5581" y="106352"/>
                </a:ln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8000"/>
                  <a:pt x="119800" y="112941"/>
                </a:cubicBezTo>
                <a:cubicBezTo>
                  <a:pt x="119800" y="116235"/>
                  <a:pt x="118405" y="119764"/>
                  <a:pt x="114019" y="119764"/>
                </a:cubicBez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6235"/>
                  <a:pt x="0" y="112941"/>
                </a:cubicBezTo>
                <a:cubicBezTo>
                  <a:pt x="0" y="108000"/>
                  <a:pt x="2790" y="106352"/>
                  <a:pt x="5581" y="10635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Shape 4979"/>
          <p:cNvSpPr/>
          <p:nvPr/>
        </p:nvSpPr>
        <p:spPr>
          <a:xfrm>
            <a:off x="7155000" y="2163600"/>
            <a:ext cx="287280" cy="133560"/>
          </a:xfrm>
          <a:custGeom>
            <a:avLst/>
            <a:gdLst>
              <a:gd name="textAreaLeft" fmla="*/ 0 w 287280"/>
              <a:gd name="textAreaRight" fmla="*/ 287640 w 287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20000" h="120000">
                <a:moveTo>
                  <a:pt x="114219" y="83957"/>
                </a:moveTo>
                <a:lnTo>
                  <a:pt x="114219" y="83957"/>
                </a:lnTo>
                <a:cubicBezTo>
                  <a:pt x="114219" y="107703"/>
                  <a:pt x="114219" y="107703"/>
                  <a:pt x="114219" y="107703"/>
                </a:cubicBezTo>
                <a:cubicBezTo>
                  <a:pt x="114219" y="116607"/>
                  <a:pt x="111229" y="119575"/>
                  <a:pt x="108438" y="119575"/>
                </a:cubicBezTo>
                <a:cubicBezTo>
                  <a:pt x="5581" y="119575"/>
                  <a:pt x="5581" y="119575"/>
                  <a:pt x="5581" y="119575"/>
                </a:cubicBezTo>
                <a:cubicBezTo>
                  <a:pt x="1395" y="119575"/>
                  <a:pt x="0" y="116607"/>
                  <a:pt x="0" y="107703"/>
                </a:cubicBezTo>
                <a:cubicBezTo>
                  <a:pt x="0" y="11872"/>
                  <a:pt x="0" y="11872"/>
                  <a:pt x="0" y="11872"/>
                </a:cubicBezTo>
                <a:cubicBezTo>
                  <a:pt x="0" y="5936"/>
                  <a:pt x="1395" y="0"/>
                  <a:pt x="5581" y="0"/>
                </a:cubicBezTo>
                <a:cubicBezTo>
                  <a:pt x="108438" y="0"/>
                  <a:pt x="108438" y="0"/>
                  <a:pt x="108438" y="0"/>
                </a:cubicBezTo>
                <a:cubicBezTo>
                  <a:pt x="111229" y="0"/>
                  <a:pt x="114219" y="5936"/>
                  <a:pt x="114219" y="11872"/>
                </a:cubicBezTo>
                <a:cubicBezTo>
                  <a:pt x="114219" y="35618"/>
                  <a:pt x="114219" y="35618"/>
                  <a:pt x="114219" y="35618"/>
                </a:cubicBezTo>
                <a:cubicBezTo>
                  <a:pt x="117009" y="35618"/>
                  <a:pt x="119800" y="41978"/>
                  <a:pt x="119800" y="47915"/>
                </a:cubicBezTo>
                <a:cubicBezTo>
                  <a:pt x="119800" y="71660"/>
                  <a:pt x="119800" y="71660"/>
                  <a:pt x="119800" y="71660"/>
                </a:cubicBezTo>
                <a:cubicBezTo>
                  <a:pt x="119800" y="80565"/>
                  <a:pt x="117009" y="83957"/>
                  <a:pt x="114219" y="83957"/>
                </a:cubicBezTo>
                <a:close/>
                <a:moveTo>
                  <a:pt x="102857" y="71660"/>
                </a:moveTo>
                <a:lnTo>
                  <a:pt x="102857" y="71660"/>
                </a:lnTo>
                <a:cubicBezTo>
                  <a:pt x="102857" y="47915"/>
                  <a:pt x="102857" y="47915"/>
                  <a:pt x="102857" y="47915"/>
                </a:cubicBezTo>
                <a:cubicBezTo>
                  <a:pt x="102857" y="23745"/>
                  <a:pt x="102857" y="23745"/>
                  <a:pt x="102857" y="23745"/>
                </a:cubicBezTo>
                <a:cubicBezTo>
                  <a:pt x="11362" y="23745"/>
                  <a:pt x="11362" y="23745"/>
                  <a:pt x="11362" y="23745"/>
                </a:cubicBezTo>
                <a:cubicBezTo>
                  <a:pt x="11362" y="95830"/>
                  <a:pt x="11362" y="95830"/>
                  <a:pt x="11362" y="95830"/>
                </a:cubicBezTo>
                <a:cubicBezTo>
                  <a:pt x="102857" y="95830"/>
                  <a:pt x="102857" y="95830"/>
                  <a:pt x="102857" y="95830"/>
                </a:cubicBezTo>
                <a:lnTo>
                  <a:pt x="102857" y="71660"/>
                </a:lnTo>
                <a:close/>
                <a:moveTo>
                  <a:pt x="97275" y="83957"/>
                </a:moveTo>
                <a:lnTo>
                  <a:pt x="97275" y="83957"/>
                </a:lnTo>
                <a:cubicBezTo>
                  <a:pt x="16943" y="83957"/>
                  <a:pt x="16943" y="83957"/>
                  <a:pt x="16943" y="83957"/>
                </a:cubicBezTo>
                <a:cubicBezTo>
                  <a:pt x="16943" y="35618"/>
                  <a:pt x="16943" y="35618"/>
                  <a:pt x="16943" y="35618"/>
                </a:cubicBezTo>
                <a:cubicBezTo>
                  <a:pt x="97275" y="35618"/>
                  <a:pt x="97275" y="35618"/>
                  <a:pt x="97275" y="35618"/>
                </a:cubicBezTo>
                <a:lnTo>
                  <a:pt x="97275" y="83957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Shape 4980"/>
          <p:cNvSpPr/>
          <p:nvPr/>
        </p:nvSpPr>
        <p:spPr>
          <a:xfrm>
            <a:off x="6651720" y="2163600"/>
            <a:ext cx="288720" cy="133560"/>
          </a:xfrm>
          <a:custGeom>
            <a:avLst/>
            <a:gdLst>
              <a:gd name="textAreaLeft" fmla="*/ 0 w 288720"/>
              <a:gd name="textAreaRight" fmla="*/ 289080 w 2887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20000" h="120000">
                <a:moveTo>
                  <a:pt x="114088" y="83957"/>
                </a:moveTo>
                <a:lnTo>
                  <a:pt x="114088" y="83957"/>
                </a:lnTo>
                <a:cubicBezTo>
                  <a:pt x="114088" y="107703"/>
                  <a:pt x="114088" y="107703"/>
                  <a:pt x="114088" y="107703"/>
                </a:cubicBezTo>
                <a:cubicBezTo>
                  <a:pt x="114088" y="116607"/>
                  <a:pt x="111330" y="119575"/>
                  <a:pt x="108571" y="119575"/>
                </a:cubicBezTo>
                <a:cubicBezTo>
                  <a:pt x="5517" y="119575"/>
                  <a:pt x="5517" y="119575"/>
                  <a:pt x="5517" y="119575"/>
                </a:cubicBezTo>
                <a:cubicBezTo>
                  <a:pt x="2758" y="119575"/>
                  <a:pt x="0" y="116607"/>
                  <a:pt x="0" y="107703"/>
                </a:cubicBezTo>
                <a:cubicBezTo>
                  <a:pt x="0" y="11872"/>
                  <a:pt x="0" y="11872"/>
                  <a:pt x="0" y="11872"/>
                </a:cubicBezTo>
                <a:cubicBezTo>
                  <a:pt x="0" y="5936"/>
                  <a:pt x="2758" y="0"/>
                  <a:pt x="5517" y="0"/>
                </a:cubicBezTo>
                <a:cubicBezTo>
                  <a:pt x="108571" y="0"/>
                  <a:pt x="108571" y="0"/>
                  <a:pt x="108571" y="0"/>
                </a:cubicBezTo>
                <a:cubicBezTo>
                  <a:pt x="111330" y="0"/>
                  <a:pt x="114088" y="5936"/>
                  <a:pt x="114088" y="11872"/>
                </a:cubicBezTo>
                <a:cubicBezTo>
                  <a:pt x="114088" y="35618"/>
                  <a:pt x="114088" y="35618"/>
                  <a:pt x="114088" y="35618"/>
                </a:cubicBezTo>
                <a:cubicBezTo>
                  <a:pt x="117044" y="35618"/>
                  <a:pt x="119802" y="41978"/>
                  <a:pt x="119802" y="47915"/>
                </a:cubicBezTo>
                <a:cubicBezTo>
                  <a:pt x="119802" y="71660"/>
                  <a:pt x="119802" y="71660"/>
                  <a:pt x="119802" y="71660"/>
                </a:cubicBezTo>
                <a:cubicBezTo>
                  <a:pt x="119802" y="80565"/>
                  <a:pt x="117044" y="83957"/>
                  <a:pt x="114088" y="83957"/>
                </a:cubicBezTo>
                <a:close/>
                <a:moveTo>
                  <a:pt x="103054" y="71660"/>
                </a:moveTo>
                <a:lnTo>
                  <a:pt x="103054" y="71660"/>
                </a:lnTo>
                <a:cubicBezTo>
                  <a:pt x="103054" y="47915"/>
                  <a:pt x="103054" y="47915"/>
                  <a:pt x="103054" y="47915"/>
                </a:cubicBezTo>
                <a:cubicBezTo>
                  <a:pt x="103054" y="23745"/>
                  <a:pt x="103054" y="23745"/>
                  <a:pt x="103054" y="23745"/>
                </a:cubicBezTo>
                <a:cubicBezTo>
                  <a:pt x="11034" y="23745"/>
                  <a:pt x="11034" y="23745"/>
                  <a:pt x="11034" y="23745"/>
                </a:cubicBezTo>
                <a:cubicBezTo>
                  <a:pt x="11034" y="95830"/>
                  <a:pt x="11034" y="95830"/>
                  <a:pt x="11034" y="95830"/>
                </a:cubicBezTo>
                <a:cubicBezTo>
                  <a:pt x="103054" y="95830"/>
                  <a:pt x="103054" y="95830"/>
                  <a:pt x="103054" y="95830"/>
                </a:cubicBezTo>
                <a:lnTo>
                  <a:pt x="103054" y="71660"/>
                </a:lnTo>
                <a:close/>
                <a:moveTo>
                  <a:pt x="69556" y="83957"/>
                </a:moveTo>
                <a:lnTo>
                  <a:pt x="69556" y="83957"/>
                </a:lnTo>
                <a:lnTo>
                  <a:pt x="69556" y="83957"/>
                </a:lnTo>
                <a:cubicBezTo>
                  <a:pt x="16748" y="83957"/>
                  <a:pt x="16748" y="83957"/>
                  <a:pt x="16748" y="83957"/>
                </a:cubicBezTo>
                <a:cubicBezTo>
                  <a:pt x="16748" y="35618"/>
                  <a:pt x="16748" y="35618"/>
                  <a:pt x="16748" y="35618"/>
                </a:cubicBezTo>
                <a:cubicBezTo>
                  <a:pt x="69556" y="35618"/>
                  <a:pt x="69556" y="35618"/>
                  <a:pt x="69556" y="35618"/>
                </a:cubicBezTo>
                <a:lnTo>
                  <a:pt x="69556" y="83957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Shape 4981"/>
          <p:cNvSpPr/>
          <p:nvPr/>
        </p:nvSpPr>
        <p:spPr>
          <a:xfrm>
            <a:off x="6154560" y="2163600"/>
            <a:ext cx="285840" cy="133560"/>
          </a:xfrm>
          <a:custGeom>
            <a:avLst/>
            <a:gdLst>
              <a:gd name="textAreaLeft" fmla="*/ 0 w 285840"/>
              <a:gd name="textAreaRight" fmla="*/ 286200 w 285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20000" h="120000">
                <a:moveTo>
                  <a:pt x="114019" y="83957"/>
                </a:moveTo>
                <a:lnTo>
                  <a:pt x="114019" y="83957"/>
                </a:lnTo>
                <a:cubicBezTo>
                  <a:pt x="114019" y="107703"/>
                  <a:pt x="114019" y="107703"/>
                  <a:pt x="114019" y="107703"/>
                </a:cubicBezTo>
                <a:cubicBezTo>
                  <a:pt x="114019" y="116607"/>
                  <a:pt x="112624" y="119575"/>
                  <a:pt x="108438" y="119575"/>
                </a:cubicBezTo>
                <a:cubicBezTo>
                  <a:pt x="5581" y="119575"/>
                  <a:pt x="5581" y="119575"/>
                  <a:pt x="5581" y="119575"/>
                </a:cubicBezTo>
                <a:cubicBezTo>
                  <a:pt x="2790" y="119575"/>
                  <a:pt x="0" y="116607"/>
                  <a:pt x="0" y="107703"/>
                </a:cubicBezTo>
                <a:cubicBezTo>
                  <a:pt x="0" y="11872"/>
                  <a:pt x="0" y="11872"/>
                  <a:pt x="0" y="11872"/>
                </a:cubicBezTo>
                <a:cubicBezTo>
                  <a:pt x="0" y="5936"/>
                  <a:pt x="2790" y="0"/>
                  <a:pt x="5581" y="0"/>
                </a:cubicBezTo>
                <a:cubicBezTo>
                  <a:pt x="108438" y="0"/>
                  <a:pt x="108438" y="0"/>
                  <a:pt x="108438" y="0"/>
                </a:cubicBezTo>
                <a:cubicBezTo>
                  <a:pt x="112624" y="0"/>
                  <a:pt x="114019" y="5936"/>
                  <a:pt x="114019" y="11872"/>
                </a:cubicBezTo>
                <a:cubicBezTo>
                  <a:pt x="114019" y="35618"/>
                  <a:pt x="114019" y="35618"/>
                  <a:pt x="114019" y="35618"/>
                </a:cubicBezTo>
                <a:cubicBezTo>
                  <a:pt x="118405" y="35618"/>
                  <a:pt x="119800" y="41978"/>
                  <a:pt x="119800" y="47915"/>
                </a:cubicBezTo>
                <a:cubicBezTo>
                  <a:pt x="119800" y="71660"/>
                  <a:pt x="119800" y="71660"/>
                  <a:pt x="119800" y="71660"/>
                </a:cubicBezTo>
                <a:cubicBezTo>
                  <a:pt x="119800" y="80565"/>
                  <a:pt x="118405" y="83957"/>
                  <a:pt x="114019" y="83957"/>
                </a:cubicBezTo>
                <a:close/>
                <a:moveTo>
                  <a:pt x="102857" y="71660"/>
                </a:moveTo>
                <a:lnTo>
                  <a:pt x="102857" y="71660"/>
                </a:lnTo>
                <a:cubicBezTo>
                  <a:pt x="102857" y="47915"/>
                  <a:pt x="102857" y="47915"/>
                  <a:pt x="102857" y="47915"/>
                </a:cubicBezTo>
                <a:cubicBezTo>
                  <a:pt x="102857" y="23745"/>
                  <a:pt x="102857" y="23745"/>
                  <a:pt x="102857" y="23745"/>
                </a:cubicBezTo>
                <a:cubicBezTo>
                  <a:pt x="101461" y="23745"/>
                  <a:pt x="101461" y="23745"/>
                  <a:pt x="101461" y="23745"/>
                </a:cubicBezTo>
                <a:lnTo>
                  <a:pt x="101461" y="23745"/>
                </a:lnTo>
                <a:cubicBezTo>
                  <a:pt x="68970" y="23745"/>
                  <a:pt x="68970" y="23745"/>
                  <a:pt x="68970" y="23745"/>
                </a:cubicBezTo>
                <a:lnTo>
                  <a:pt x="68970" y="23745"/>
                </a:lnTo>
                <a:cubicBezTo>
                  <a:pt x="11162" y="23745"/>
                  <a:pt x="11162" y="23745"/>
                  <a:pt x="11162" y="23745"/>
                </a:cubicBezTo>
                <a:cubicBezTo>
                  <a:pt x="11162" y="95830"/>
                  <a:pt x="11162" y="95830"/>
                  <a:pt x="11162" y="95830"/>
                </a:cubicBezTo>
                <a:cubicBezTo>
                  <a:pt x="102857" y="95830"/>
                  <a:pt x="102857" y="95830"/>
                  <a:pt x="102857" y="95830"/>
                </a:cubicBezTo>
                <a:lnTo>
                  <a:pt x="102857" y="71660"/>
                </a:lnTo>
                <a:close/>
                <a:moveTo>
                  <a:pt x="40863" y="83957"/>
                </a:moveTo>
                <a:lnTo>
                  <a:pt x="40863" y="83957"/>
                </a:lnTo>
                <a:cubicBezTo>
                  <a:pt x="16943" y="83957"/>
                  <a:pt x="16943" y="83957"/>
                  <a:pt x="16943" y="83957"/>
                </a:cubicBezTo>
                <a:cubicBezTo>
                  <a:pt x="16943" y="35618"/>
                  <a:pt x="16943" y="35618"/>
                  <a:pt x="16943" y="35618"/>
                </a:cubicBezTo>
                <a:cubicBezTo>
                  <a:pt x="40863" y="35618"/>
                  <a:pt x="40863" y="35618"/>
                  <a:pt x="40863" y="35618"/>
                </a:cubicBezTo>
                <a:lnTo>
                  <a:pt x="40863" y="83957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Shape 4982"/>
          <p:cNvSpPr/>
          <p:nvPr/>
        </p:nvSpPr>
        <p:spPr>
          <a:xfrm>
            <a:off x="5654520" y="2163600"/>
            <a:ext cx="284400" cy="133560"/>
          </a:xfrm>
          <a:custGeom>
            <a:avLst/>
            <a:gdLst>
              <a:gd name="textAreaLeft" fmla="*/ 0 w 284400"/>
              <a:gd name="textAreaRight" fmla="*/ 284760 w 284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20000" h="120000">
                <a:moveTo>
                  <a:pt x="114209" y="83957"/>
                </a:moveTo>
                <a:lnTo>
                  <a:pt x="114209" y="83957"/>
                </a:lnTo>
                <a:cubicBezTo>
                  <a:pt x="114209" y="107703"/>
                  <a:pt x="114209" y="107703"/>
                  <a:pt x="114209" y="107703"/>
                </a:cubicBezTo>
                <a:cubicBezTo>
                  <a:pt x="114209" y="116607"/>
                  <a:pt x="111414" y="119575"/>
                  <a:pt x="108618" y="119575"/>
                </a:cubicBezTo>
                <a:cubicBezTo>
                  <a:pt x="5590" y="119575"/>
                  <a:pt x="5590" y="119575"/>
                  <a:pt x="5590" y="119575"/>
                </a:cubicBezTo>
                <a:cubicBezTo>
                  <a:pt x="1397" y="119575"/>
                  <a:pt x="0" y="116607"/>
                  <a:pt x="0" y="107703"/>
                </a:cubicBezTo>
                <a:cubicBezTo>
                  <a:pt x="0" y="11872"/>
                  <a:pt x="0" y="11872"/>
                  <a:pt x="0" y="11872"/>
                </a:cubicBezTo>
                <a:cubicBezTo>
                  <a:pt x="0" y="5936"/>
                  <a:pt x="1397" y="0"/>
                  <a:pt x="5590" y="0"/>
                </a:cubicBezTo>
                <a:cubicBezTo>
                  <a:pt x="108618" y="0"/>
                  <a:pt x="108618" y="0"/>
                  <a:pt x="108618" y="0"/>
                </a:cubicBezTo>
                <a:cubicBezTo>
                  <a:pt x="111414" y="0"/>
                  <a:pt x="114209" y="5936"/>
                  <a:pt x="114209" y="11872"/>
                </a:cubicBezTo>
                <a:cubicBezTo>
                  <a:pt x="114209" y="35618"/>
                  <a:pt x="114209" y="35618"/>
                  <a:pt x="114209" y="35618"/>
                </a:cubicBezTo>
                <a:cubicBezTo>
                  <a:pt x="117004" y="35618"/>
                  <a:pt x="119800" y="41978"/>
                  <a:pt x="119800" y="47915"/>
                </a:cubicBezTo>
                <a:cubicBezTo>
                  <a:pt x="119800" y="71660"/>
                  <a:pt x="119800" y="71660"/>
                  <a:pt x="119800" y="71660"/>
                </a:cubicBezTo>
                <a:cubicBezTo>
                  <a:pt x="119800" y="80565"/>
                  <a:pt x="117004" y="83957"/>
                  <a:pt x="114209" y="83957"/>
                </a:cubicBezTo>
                <a:close/>
                <a:moveTo>
                  <a:pt x="103028" y="23745"/>
                </a:moveTo>
                <a:lnTo>
                  <a:pt x="103028" y="23745"/>
                </a:lnTo>
                <a:cubicBezTo>
                  <a:pt x="11181" y="23745"/>
                  <a:pt x="11181" y="23745"/>
                  <a:pt x="11181" y="23745"/>
                </a:cubicBezTo>
                <a:cubicBezTo>
                  <a:pt x="11181" y="95830"/>
                  <a:pt x="11181" y="95830"/>
                  <a:pt x="11181" y="95830"/>
                </a:cubicBezTo>
                <a:lnTo>
                  <a:pt x="11181" y="95830"/>
                </a:lnTo>
                <a:lnTo>
                  <a:pt x="11181" y="95830"/>
                </a:lnTo>
                <a:cubicBezTo>
                  <a:pt x="103028" y="95830"/>
                  <a:pt x="103028" y="95830"/>
                  <a:pt x="103028" y="95830"/>
                </a:cubicBezTo>
                <a:lnTo>
                  <a:pt x="103028" y="95830"/>
                </a:lnTo>
                <a:lnTo>
                  <a:pt x="103028" y="95830"/>
                </a:lnTo>
                <a:lnTo>
                  <a:pt x="103028" y="2374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Shape 4983"/>
          <p:cNvSpPr/>
          <p:nvPr/>
        </p:nvSpPr>
        <p:spPr>
          <a:xfrm>
            <a:off x="5151600" y="2097000"/>
            <a:ext cx="288720" cy="276480"/>
          </a:xfrm>
          <a:custGeom>
            <a:avLst/>
            <a:gdLst>
              <a:gd name="textAreaLeft" fmla="*/ 0 w 288720"/>
              <a:gd name="textAreaRight" fmla="*/ 289080 w 28872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120000" h="120000">
                <a:moveTo>
                  <a:pt x="117039" y="52667"/>
                </a:moveTo>
                <a:lnTo>
                  <a:pt x="117039" y="52667"/>
                </a:lnTo>
                <a:lnTo>
                  <a:pt x="117039" y="52667"/>
                </a:lnTo>
                <a:cubicBezTo>
                  <a:pt x="87828" y="74561"/>
                  <a:pt x="87828" y="74561"/>
                  <a:pt x="87828" y="74561"/>
                </a:cubicBezTo>
                <a:cubicBezTo>
                  <a:pt x="98881" y="110912"/>
                  <a:pt x="98881" y="110912"/>
                  <a:pt x="98881" y="110912"/>
                </a:cubicBezTo>
                <a:cubicBezTo>
                  <a:pt x="98881" y="112564"/>
                  <a:pt x="98881" y="112564"/>
                  <a:pt x="98881" y="114010"/>
                </a:cubicBezTo>
                <a:cubicBezTo>
                  <a:pt x="98881" y="116901"/>
                  <a:pt x="96118" y="119793"/>
                  <a:pt x="93355" y="119793"/>
                </a:cubicBezTo>
                <a:cubicBezTo>
                  <a:pt x="91973" y="119793"/>
                  <a:pt x="90592" y="118347"/>
                  <a:pt x="90592" y="118347"/>
                </a:cubicBezTo>
                <a:lnTo>
                  <a:pt x="90592" y="118347"/>
                </a:lnTo>
                <a:cubicBezTo>
                  <a:pt x="60000" y="95008"/>
                  <a:pt x="60000" y="95008"/>
                  <a:pt x="60000" y="95008"/>
                </a:cubicBezTo>
                <a:cubicBezTo>
                  <a:pt x="29210" y="118347"/>
                  <a:pt x="29210" y="118347"/>
                  <a:pt x="29210" y="118347"/>
                </a:cubicBezTo>
                <a:lnTo>
                  <a:pt x="29210" y="118347"/>
                </a:lnTo>
                <a:cubicBezTo>
                  <a:pt x="29210" y="118347"/>
                  <a:pt x="27828" y="119793"/>
                  <a:pt x="26447" y="119793"/>
                </a:cubicBezTo>
                <a:cubicBezTo>
                  <a:pt x="23684" y="119793"/>
                  <a:pt x="20921" y="116901"/>
                  <a:pt x="20921" y="114010"/>
                </a:cubicBezTo>
                <a:cubicBezTo>
                  <a:pt x="20921" y="112564"/>
                  <a:pt x="20921" y="112564"/>
                  <a:pt x="20921" y="110912"/>
                </a:cubicBezTo>
                <a:cubicBezTo>
                  <a:pt x="31973" y="74561"/>
                  <a:pt x="31973" y="74561"/>
                  <a:pt x="31973" y="74561"/>
                </a:cubicBezTo>
                <a:cubicBezTo>
                  <a:pt x="2763" y="52667"/>
                  <a:pt x="2763" y="52667"/>
                  <a:pt x="2763" y="52667"/>
                </a:cubicBezTo>
                <a:lnTo>
                  <a:pt x="2763" y="52667"/>
                </a:lnTo>
                <a:cubicBezTo>
                  <a:pt x="1381" y="51222"/>
                  <a:pt x="0" y="49776"/>
                  <a:pt x="0" y="46678"/>
                </a:cubicBezTo>
                <a:cubicBezTo>
                  <a:pt x="0" y="43786"/>
                  <a:pt x="2763" y="40895"/>
                  <a:pt x="5526" y="40895"/>
                </a:cubicBezTo>
                <a:lnTo>
                  <a:pt x="5526" y="40895"/>
                </a:lnTo>
                <a:cubicBezTo>
                  <a:pt x="43223" y="40895"/>
                  <a:pt x="43223" y="40895"/>
                  <a:pt x="43223" y="40895"/>
                </a:cubicBezTo>
                <a:cubicBezTo>
                  <a:pt x="54276" y="4543"/>
                  <a:pt x="54276" y="4543"/>
                  <a:pt x="54276" y="4543"/>
                </a:cubicBezTo>
                <a:cubicBezTo>
                  <a:pt x="55657" y="2891"/>
                  <a:pt x="57236" y="0"/>
                  <a:pt x="60000" y="0"/>
                </a:cubicBezTo>
                <a:cubicBezTo>
                  <a:pt x="62763" y="0"/>
                  <a:pt x="64144" y="2891"/>
                  <a:pt x="65526" y="4543"/>
                </a:cubicBezTo>
                <a:cubicBezTo>
                  <a:pt x="76578" y="40895"/>
                  <a:pt x="76578" y="40895"/>
                  <a:pt x="76578" y="40895"/>
                </a:cubicBezTo>
                <a:cubicBezTo>
                  <a:pt x="114276" y="40895"/>
                  <a:pt x="114276" y="40895"/>
                  <a:pt x="114276" y="40895"/>
                </a:cubicBezTo>
                <a:lnTo>
                  <a:pt x="114276" y="40895"/>
                </a:lnTo>
                <a:cubicBezTo>
                  <a:pt x="117039" y="40895"/>
                  <a:pt x="119802" y="43786"/>
                  <a:pt x="119802" y="46678"/>
                </a:cubicBezTo>
                <a:cubicBezTo>
                  <a:pt x="119802" y="49776"/>
                  <a:pt x="118421" y="51222"/>
                  <a:pt x="117039" y="52667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Shape 4984"/>
          <p:cNvSpPr/>
          <p:nvPr/>
        </p:nvSpPr>
        <p:spPr>
          <a:xfrm>
            <a:off x="4654440" y="2097000"/>
            <a:ext cx="282600" cy="2764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120000" h="120000">
                <a:moveTo>
                  <a:pt x="114141" y="70223"/>
                </a:moveTo>
                <a:lnTo>
                  <a:pt x="114141" y="70223"/>
                </a:lnTo>
                <a:cubicBezTo>
                  <a:pt x="112727" y="70223"/>
                  <a:pt x="112727" y="70223"/>
                  <a:pt x="112727" y="70223"/>
                </a:cubicBezTo>
                <a:lnTo>
                  <a:pt x="112727" y="70223"/>
                </a:lnTo>
                <a:cubicBezTo>
                  <a:pt x="109898" y="70223"/>
                  <a:pt x="109898" y="70223"/>
                  <a:pt x="109898" y="70223"/>
                </a:cubicBezTo>
                <a:cubicBezTo>
                  <a:pt x="109898" y="80344"/>
                  <a:pt x="109898" y="80344"/>
                  <a:pt x="109898" y="80344"/>
                </a:cubicBezTo>
                <a:lnTo>
                  <a:pt x="109898" y="80344"/>
                </a:lnTo>
                <a:lnTo>
                  <a:pt x="109898" y="81790"/>
                </a:lnTo>
                <a:lnTo>
                  <a:pt x="109898" y="81790"/>
                </a:lnTo>
                <a:cubicBezTo>
                  <a:pt x="109898" y="81790"/>
                  <a:pt x="109898" y="81790"/>
                  <a:pt x="109898" y="83235"/>
                </a:cubicBezTo>
                <a:lnTo>
                  <a:pt x="109898" y="83235"/>
                </a:lnTo>
                <a:lnTo>
                  <a:pt x="109898" y="83235"/>
                </a:lnTo>
                <a:lnTo>
                  <a:pt x="108484" y="84681"/>
                </a:lnTo>
                <a:lnTo>
                  <a:pt x="108484" y="84681"/>
                </a:lnTo>
                <a:cubicBezTo>
                  <a:pt x="107070" y="86127"/>
                  <a:pt x="105656" y="86127"/>
                  <a:pt x="104040" y="86127"/>
                </a:cubicBezTo>
                <a:lnTo>
                  <a:pt x="104040" y="86127"/>
                </a:lnTo>
                <a:lnTo>
                  <a:pt x="104040" y="86127"/>
                </a:lnTo>
                <a:lnTo>
                  <a:pt x="104040" y="86127"/>
                </a:lnTo>
                <a:cubicBezTo>
                  <a:pt x="102626" y="86127"/>
                  <a:pt x="101212" y="86127"/>
                  <a:pt x="101212" y="84681"/>
                </a:cubicBezTo>
                <a:cubicBezTo>
                  <a:pt x="87070" y="70223"/>
                  <a:pt x="87070" y="70223"/>
                  <a:pt x="87070" y="70223"/>
                </a:cubicBezTo>
                <a:lnTo>
                  <a:pt x="87070" y="70223"/>
                </a:lnTo>
                <a:lnTo>
                  <a:pt x="87070" y="70223"/>
                </a:lnTo>
                <a:cubicBezTo>
                  <a:pt x="34141" y="70223"/>
                  <a:pt x="34141" y="70223"/>
                  <a:pt x="34141" y="70223"/>
                </a:cubicBezTo>
                <a:cubicBezTo>
                  <a:pt x="31313" y="70223"/>
                  <a:pt x="28484" y="68571"/>
                  <a:pt x="28484" y="64234"/>
                </a:cubicBezTo>
                <a:cubicBezTo>
                  <a:pt x="28484" y="5989"/>
                  <a:pt x="28484" y="5989"/>
                  <a:pt x="28484" y="5989"/>
                </a:cubicBezTo>
                <a:cubicBezTo>
                  <a:pt x="28484" y="2891"/>
                  <a:pt x="31313" y="0"/>
                  <a:pt x="34141" y="0"/>
                </a:cubicBezTo>
                <a:cubicBezTo>
                  <a:pt x="114141" y="0"/>
                  <a:pt x="114141" y="0"/>
                  <a:pt x="114141" y="0"/>
                </a:cubicBezTo>
                <a:cubicBezTo>
                  <a:pt x="116969" y="0"/>
                  <a:pt x="119797" y="2891"/>
                  <a:pt x="119797" y="5989"/>
                </a:cubicBezTo>
                <a:cubicBezTo>
                  <a:pt x="119797" y="64234"/>
                  <a:pt x="119797" y="64234"/>
                  <a:pt x="119797" y="64234"/>
                </a:cubicBezTo>
                <a:cubicBezTo>
                  <a:pt x="119797" y="68571"/>
                  <a:pt x="116969" y="70223"/>
                  <a:pt x="114141" y="70223"/>
                </a:cubicBezTo>
                <a:close/>
                <a:moveTo>
                  <a:pt x="84242" y="76006"/>
                </a:moveTo>
                <a:lnTo>
                  <a:pt x="84242" y="76006"/>
                </a:lnTo>
                <a:cubicBezTo>
                  <a:pt x="96969" y="89225"/>
                  <a:pt x="96969" y="89225"/>
                  <a:pt x="96969" y="89225"/>
                </a:cubicBezTo>
                <a:lnTo>
                  <a:pt x="96969" y="89225"/>
                </a:lnTo>
                <a:cubicBezTo>
                  <a:pt x="98383" y="90671"/>
                  <a:pt x="101212" y="92117"/>
                  <a:pt x="104040" y="92117"/>
                </a:cubicBezTo>
                <a:cubicBezTo>
                  <a:pt x="104040" y="96454"/>
                  <a:pt x="104040" y="96454"/>
                  <a:pt x="104040" y="96454"/>
                </a:cubicBezTo>
                <a:cubicBezTo>
                  <a:pt x="104040" y="99345"/>
                  <a:pt x="102626" y="102237"/>
                  <a:pt x="98383" y="102237"/>
                </a:cubicBezTo>
                <a:lnTo>
                  <a:pt x="98383" y="102237"/>
                </a:lnTo>
                <a:cubicBezTo>
                  <a:pt x="58383" y="102237"/>
                  <a:pt x="58383" y="102237"/>
                  <a:pt x="58383" y="102237"/>
                </a:cubicBezTo>
                <a:lnTo>
                  <a:pt x="58383" y="102237"/>
                </a:lnTo>
                <a:cubicBezTo>
                  <a:pt x="45656" y="102237"/>
                  <a:pt x="45656" y="102237"/>
                  <a:pt x="45656" y="102237"/>
                </a:cubicBezTo>
                <a:lnTo>
                  <a:pt x="45656" y="102237"/>
                </a:lnTo>
                <a:cubicBezTo>
                  <a:pt x="39797" y="102237"/>
                  <a:pt x="39797" y="102237"/>
                  <a:pt x="39797" y="102237"/>
                </a:cubicBezTo>
                <a:lnTo>
                  <a:pt x="39797" y="102237"/>
                </a:lnTo>
                <a:cubicBezTo>
                  <a:pt x="38383" y="102237"/>
                  <a:pt x="38383" y="102237"/>
                  <a:pt x="38383" y="102237"/>
                </a:cubicBezTo>
                <a:cubicBezTo>
                  <a:pt x="22828" y="116901"/>
                  <a:pt x="22828" y="116901"/>
                  <a:pt x="22828" y="116901"/>
                </a:cubicBezTo>
                <a:cubicBezTo>
                  <a:pt x="21414" y="118347"/>
                  <a:pt x="20000" y="119793"/>
                  <a:pt x="18383" y="119793"/>
                </a:cubicBezTo>
                <a:lnTo>
                  <a:pt x="18383" y="119793"/>
                </a:lnTo>
                <a:lnTo>
                  <a:pt x="18383" y="119793"/>
                </a:lnTo>
                <a:lnTo>
                  <a:pt x="18383" y="119793"/>
                </a:lnTo>
                <a:cubicBezTo>
                  <a:pt x="16969" y="119793"/>
                  <a:pt x="15555" y="118347"/>
                  <a:pt x="15555" y="116901"/>
                </a:cubicBezTo>
                <a:cubicBezTo>
                  <a:pt x="14141" y="116901"/>
                  <a:pt x="14141" y="116901"/>
                  <a:pt x="14141" y="116901"/>
                </a:cubicBezTo>
                <a:lnTo>
                  <a:pt x="14141" y="116901"/>
                </a:lnTo>
                <a:lnTo>
                  <a:pt x="14141" y="116901"/>
                </a:lnTo>
                <a:lnTo>
                  <a:pt x="14141" y="115456"/>
                </a:lnTo>
                <a:lnTo>
                  <a:pt x="14141" y="115456"/>
                </a:lnTo>
                <a:cubicBezTo>
                  <a:pt x="14141" y="115456"/>
                  <a:pt x="12727" y="115456"/>
                  <a:pt x="12727" y="114010"/>
                </a:cubicBezTo>
                <a:lnTo>
                  <a:pt x="12727" y="114010"/>
                </a:lnTo>
                <a:lnTo>
                  <a:pt x="12727" y="114010"/>
                </a:lnTo>
                <a:cubicBezTo>
                  <a:pt x="12727" y="102237"/>
                  <a:pt x="12727" y="102237"/>
                  <a:pt x="12727" y="102237"/>
                </a:cubicBezTo>
                <a:lnTo>
                  <a:pt x="12727" y="102237"/>
                </a:lnTo>
                <a:lnTo>
                  <a:pt x="12727" y="102237"/>
                </a:lnTo>
                <a:cubicBezTo>
                  <a:pt x="5656" y="102237"/>
                  <a:pt x="5656" y="102237"/>
                  <a:pt x="5656" y="102237"/>
                </a:cubicBezTo>
                <a:cubicBezTo>
                  <a:pt x="2828" y="102237"/>
                  <a:pt x="0" y="99345"/>
                  <a:pt x="0" y="96454"/>
                </a:cubicBezTo>
                <a:cubicBezTo>
                  <a:pt x="0" y="29328"/>
                  <a:pt x="0" y="29328"/>
                  <a:pt x="0" y="29328"/>
                </a:cubicBezTo>
                <a:lnTo>
                  <a:pt x="0" y="29328"/>
                </a:lnTo>
                <a:cubicBezTo>
                  <a:pt x="0" y="26437"/>
                  <a:pt x="2828" y="23339"/>
                  <a:pt x="5656" y="23339"/>
                </a:cubicBezTo>
                <a:cubicBezTo>
                  <a:pt x="22828" y="23339"/>
                  <a:pt x="22828" y="23339"/>
                  <a:pt x="22828" y="23339"/>
                </a:cubicBezTo>
                <a:cubicBezTo>
                  <a:pt x="22828" y="64234"/>
                  <a:pt x="22828" y="64234"/>
                  <a:pt x="22828" y="64234"/>
                </a:cubicBezTo>
                <a:cubicBezTo>
                  <a:pt x="22828" y="71669"/>
                  <a:pt x="28484" y="76006"/>
                  <a:pt x="34141" y="76006"/>
                </a:cubicBezTo>
                <a:lnTo>
                  <a:pt x="84242" y="76006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Shape 4985"/>
          <p:cNvSpPr/>
          <p:nvPr/>
        </p:nvSpPr>
        <p:spPr>
          <a:xfrm>
            <a:off x="4156200" y="2103480"/>
            <a:ext cx="284040" cy="258840"/>
          </a:xfrm>
          <a:custGeom>
            <a:avLst/>
            <a:gdLst>
              <a:gd name="textAreaLeft" fmla="*/ 0 w 284040"/>
              <a:gd name="textAreaRight" fmla="*/ 284400 w 2840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09" y="101098"/>
                </a:moveTo>
                <a:lnTo>
                  <a:pt x="114209" y="101098"/>
                </a:lnTo>
                <a:cubicBezTo>
                  <a:pt x="87454" y="101098"/>
                  <a:pt x="87454" y="101098"/>
                  <a:pt x="87454" y="101098"/>
                </a:cubicBezTo>
                <a:lnTo>
                  <a:pt x="87454" y="101098"/>
                </a:lnTo>
                <a:cubicBezTo>
                  <a:pt x="45124" y="101098"/>
                  <a:pt x="45124" y="101098"/>
                  <a:pt x="45124" y="101098"/>
                </a:cubicBezTo>
                <a:lnTo>
                  <a:pt x="45124" y="101098"/>
                </a:lnTo>
                <a:cubicBezTo>
                  <a:pt x="39334" y="101098"/>
                  <a:pt x="39334" y="101098"/>
                  <a:pt x="39334" y="101098"/>
                </a:cubicBezTo>
                <a:lnTo>
                  <a:pt x="39334" y="101098"/>
                </a:lnTo>
                <a:cubicBezTo>
                  <a:pt x="37936" y="101098"/>
                  <a:pt x="37936" y="101098"/>
                  <a:pt x="37936" y="101098"/>
                </a:cubicBezTo>
                <a:cubicBezTo>
                  <a:pt x="22562" y="118241"/>
                  <a:pt x="22562" y="118241"/>
                  <a:pt x="22562" y="118241"/>
                </a:cubicBezTo>
                <a:cubicBezTo>
                  <a:pt x="21164" y="119780"/>
                  <a:pt x="19567" y="119780"/>
                  <a:pt x="18169" y="119780"/>
                </a:cubicBezTo>
                <a:lnTo>
                  <a:pt x="18169" y="119780"/>
                </a:lnTo>
                <a:lnTo>
                  <a:pt x="18169" y="119780"/>
                </a:lnTo>
                <a:lnTo>
                  <a:pt x="18169" y="119780"/>
                </a:lnTo>
                <a:cubicBezTo>
                  <a:pt x="16772" y="119780"/>
                  <a:pt x="15374" y="119780"/>
                  <a:pt x="13976" y="118241"/>
                </a:cubicBezTo>
                <a:lnTo>
                  <a:pt x="13976" y="118241"/>
                </a:lnTo>
                <a:lnTo>
                  <a:pt x="13976" y="116703"/>
                </a:lnTo>
                <a:lnTo>
                  <a:pt x="13976" y="116703"/>
                </a:lnTo>
                <a:cubicBezTo>
                  <a:pt x="12579" y="116703"/>
                  <a:pt x="12579" y="116703"/>
                  <a:pt x="12579" y="116703"/>
                </a:cubicBezTo>
                <a:cubicBezTo>
                  <a:pt x="12579" y="114945"/>
                  <a:pt x="12579" y="114945"/>
                  <a:pt x="12579" y="114945"/>
                </a:cubicBezTo>
                <a:lnTo>
                  <a:pt x="12579" y="114945"/>
                </a:lnTo>
                <a:lnTo>
                  <a:pt x="12579" y="113406"/>
                </a:lnTo>
                <a:lnTo>
                  <a:pt x="12579" y="113406"/>
                </a:lnTo>
                <a:cubicBezTo>
                  <a:pt x="12579" y="101098"/>
                  <a:pt x="12579" y="101098"/>
                  <a:pt x="12579" y="101098"/>
                </a:cubicBezTo>
                <a:cubicBezTo>
                  <a:pt x="11181" y="101098"/>
                  <a:pt x="11181" y="101098"/>
                  <a:pt x="11181" y="101098"/>
                </a:cubicBezTo>
                <a:lnTo>
                  <a:pt x="11181" y="101098"/>
                </a:lnTo>
                <a:cubicBezTo>
                  <a:pt x="5590" y="101098"/>
                  <a:pt x="5590" y="101098"/>
                  <a:pt x="5590" y="101098"/>
                </a:cubicBezTo>
                <a:cubicBezTo>
                  <a:pt x="1397" y="101098"/>
                  <a:pt x="0" y="98021"/>
                  <a:pt x="0" y="94945"/>
                </a:cubicBezTo>
                <a:cubicBezTo>
                  <a:pt x="0" y="6373"/>
                  <a:pt x="0" y="6373"/>
                  <a:pt x="0" y="6373"/>
                </a:cubicBezTo>
                <a:cubicBezTo>
                  <a:pt x="0" y="1758"/>
                  <a:pt x="1397" y="0"/>
                  <a:pt x="5590" y="0"/>
                </a:cubicBezTo>
                <a:cubicBezTo>
                  <a:pt x="114209" y="0"/>
                  <a:pt x="114209" y="0"/>
                  <a:pt x="114209" y="0"/>
                </a:cubicBezTo>
                <a:cubicBezTo>
                  <a:pt x="117004" y="0"/>
                  <a:pt x="119800" y="1758"/>
                  <a:pt x="119800" y="6373"/>
                </a:cubicBezTo>
                <a:cubicBezTo>
                  <a:pt x="119800" y="94945"/>
                  <a:pt x="119800" y="94945"/>
                  <a:pt x="119800" y="94945"/>
                </a:cubicBezTo>
                <a:cubicBezTo>
                  <a:pt x="119800" y="98021"/>
                  <a:pt x="117004" y="101098"/>
                  <a:pt x="114209" y="101098"/>
                </a:cubicBezTo>
                <a:close/>
                <a:moveTo>
                  <a:pt x="30948" y="38901"/>
                </a:moveTo>
                <a:lnTo>
                  <a:pt x="30948" y="38901"/>
                </a:lnTo>
                <a:cubicBezTo>
                  <a:pt x="25357" y="38901"/>
                  <a:pt x="19567" y="45054"/>
                  <a:pt x="19567" y="51428"/>
                </a:cubicBezTo>
                <a:cubicBezTo>
                  <a:pt x="19567" y="57582"/>
                  <a:pt x="25357" y="63736"/>
                  <a:pt x="30948" y="63736"/>
                </a:cubicBezTo>
                <a:cubicBezTo>
                  <a:pt x="37936" y="63736"/>
                  <a:pt x="42129" y="57582"/>
                  <a:pt x="42129" y="51428"/>
                </a:cubicBezTo>
                <a:cubicBezTo>
                  <a:pt x="42129" y="45054"/>
                  <a:pt x="37936" y="38901"/>
                  <a:pt x="30948" y="38901"/>
                </a:cubicBezTo>
                <a:close/>
                <a:moveTo>
                  <a:pt x="59101" y="38901"/>
                </a:moveTo>
                <a:lnTo>
                  <a:pt x="59101" y="38901"/>
                </a:lnTo>
                <a:cubicBezTo>
                  <a:pt x="53510" y="38901"/>
                  <a:pt x="47920" y="45054"/>
                  <a:pt x="47920" y="51428"/>
                </a:cubicBezTo>
                <a:cubicBezTo>
                  <a:pt x="47920" y="57582"/>
                  <a:pt x="53510" y="63736"/>
                  <a:pt x="59101" y="63736"/>
                </a:cubicBezTo>
                <a:cubicBezTo>
                  <a:pt x="66289" y="63736"/>
                  <a:pt x="70482" y="57582"/>
                  <a:pt x="70482" y="51428"/>
                </a:cubicBezTo>
                <a:cubicBezTo>
                  <a:pt x="70482" y="45054"/>
                  <a:pt x="66289" y="38901"/>
                  <a:pt x="59101" y="38901"/>
                </a:cubicBezTo>
                <a:close/>
                <a:moveTo>
                  <a:pt x="87454" y="38901"/>
                </a:moveTo>
                <a:lnTo>
                  <a:pt x="87454" y="38901"/>
                </a:lnTo>
                <a:cubicBezTo>
                  <a:pt x="81663" y="38901"/>
                  <a:pt x="76073" y="45054"/>
                  <a:pt x="76073" y="51428"/>
                </a:cubicBezTo>
                <a:cubicBezTo>
                  <a:pt x="76073" y="57582"/>
                  <a:pt x="81663" y="63736"/>
                  <a:pt x="87454" y="63736"/>
                </a:cubicBezTo>
                <a:cubicBezTo>
                  <a:pt x="94442" y="63736"/>
                  <a:pt x="98635" y="57582"/>
                  <a:pt x="98635" y="51428"/>
                </a:cubicBezTo>
                <a:cubicBezTo>
                  <a:pt x="98635" y="45054"/>
                  <a:pt x="94442" y="38901"/>
                  <a:pt x="87454" y="3890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Shape 4986"/>
          <p:cNvSpPr/>
          <p:nvPr/>
        </p:nvSpPr>
        <p:spPr>
          <a:xfrm>
            <a:off x="3651120" y="2103480"/>
            <a:ext cx="289080" cy="258840"/>
          </a:xfrm>
          <a:custGeom>
            <a:avLst/>
            <a:gdLst>
              <a:gd name="textAreaLeft" fmla="*/ 0 w 289080"/>
              <a:gd name="textAreaRight" fmla="*/ 289440 w 2890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85" y="101098"/>
                </a:moveTo>
                <a:lnTo>
                  <a:pt x="114285" y="101098"/>
                </a:lnTo>
                <a:cubicBezTo>
                  <a:pt x="66995" y="101098"/>
                  <a:pt x="66995" y="101098"/>
                  <a:pt x="66995" y="101098"/>
                </a:cubicBezTo>
                <a:lnTo>
                  <a:pt x="66995" y="101098"/>
                </a:lnTo>
                <a:cubicBezTo>
                  <a:pt x="44532" y="101098"/>
                  <a:pt x="44532" y="101098"/>
                  <a:pt x="44532" y="101098"/>
                </a:cubicBezTo>
                <a:lnTo>
                  <a:pt x="44532" y="101098"/>
                </a:lnTo>
                <a:cubicBezTo>
                  <a:pt x="39014" y="101098"/>
                  <a:pt x="39014" y="101098"/>
                  <a:pt x="39014" y="101098"/>
                </a:cubicBezTo>
                <a:lnTo>
                  <a:pt x="39014" y="101098"/>
                </a:lnTo>
                <a:cubicBezTo>
                  <a:pt x="37635" y="101098"/>
                  <a:pt x="37635" y="101098"/>
                  <a:pt x="37635" y="101098"/>
                </a:cubicBezTo>
                <a:cubicBezTo>
                  <a:pt x="22266" y="118241"/>
                  <a:pt x="22266" y="118241"/>
                  <a:pt x="22266" y="118241"/>
                </a:cubicBezTo>
                <a:cubicBezTo>
                  <a:pt x="22266" y="119780"/>
                  <a:pt x="20886" y="119780"/>
                  <a:pt x="19507" y="119780"/>
                </a:cubicBezTo>
                <a:lnTo>
                  <a:pt x="19507" y="119780"/>
                </a:lnTo>
                <a:lnTo>
                  <a:pt x="19507" y="119780"/>
                </a:lnTo>
                <a:lnTo>
                  <a:pt x="19507" y="119780"/>
                </a:lnTo>
                <a:cubicBezTo>
                  <a:pt x="18128" y="119780"/>
                  <a:pt x="16748" y="119780"/>
                  <a:pt x="15369" y="118241"/>
                </a:cubicBezTo>
                <a:lnTo>
                  <a:pt x="15369" y="118241"/>
                </a:lnTo>
                <a:lnTo>
                  <a:pt x="13990" y="116703"/>
                </a:lnTo>
                <a:lnTo>
                  <a:pt x="13990" y="116703"/>
                </a:lnTo>
                <a:lnTo>
                  <a:pt x="13990" y="116703"/>
                </a:lnTo>
                <a:cubicBezTo>
                  <a:pt x="13990" y="114945"/>
                  <a:pt x="13990" y="114945"/>
                  <a:pt x="13990" y="114945"/>
                </a:cubicBezTo>
                <a:lnTo>
                  <a:pt x="13990" y="114945"/>
                </a:lnTo>
                <a:lnTo>
                  <a:pt x="13990" y="113406"/>
                </a:lnTo>
                <a:lnTo>
                  <a:pt x="13990" y="113406"/>
                </a:lnTo>
                <a:cubicBezTo>
                  <a:pt x="13990" y="101098"/>
                  <a:pt x="13990" y="101098"/>
                  <a:pt x="13990" y="101098"/>
                </a:cubicBezTo>
                <a:cubicBezTo>
                  <a:pt x="12610" y="101098"/>
                  <a:pt x="12610" y="101098"/>
                  <a:pt x="12610" y="101098"/>
                </a:cubicBezTo>
                <a:lnTo>
                  <a:pt x="12610" y="101098"/>
                </a:lnTo>
                <a:cubicBezTo>
                  <a:pt x="5714" y="101098"/>
                  <a:pt x="5714" y="101098"/>
                  <a:pt x="5714" y="101098"/>
                </a:cubicBezTo>
                <a:cubicBezTo>
                  <a:pt x="2955" y="101098"/>
                  <a:pt x="0" y="98021"/>
                  <a:pt x="0" y="94945"/>
                </a:cubicBezTo>
                <a:cubicBezTo>
                  <a:pt x="0" y="6373"/>
                  <a:pt x="0" y="6373"/>
                  <a:pt x="0" y="6373"/>
                </a:cubicBezTo>
                <a:cubicBezTo>
                  <a:pt x="0" y="1758"/>
                  <a:pt x="2955" y="0"/>
                  <a:pt x="5714" y="0"/>
                </a:cubicBezTo>
                <a:cubicBezTo>
                  <a:pt x="114285" y="0"/>
                  <a:pt x="114285" y="0"/>
                  <a:pt x="114285" y="0"/>
                </a:cubicBezTo>
                <a:cubicBezTo>
                  <a:pt x="117044" y="0"/>
                  <a:pt x="119802" y="1758"/>
                  <a:pt x="119802" y="6373"/>
                </a:cubicBezTo>
                <a:cubicBezTo>
                  <a:pt x="119802" y="94945"/>
                  <a:pt x="119802" y="94945"/>
                  <a:pt x="119802" y="94945"/>
                </a:cubicBezTo>
                <a:cubicBezTo>
                  <a:pt x="119802" y="98021"/>
                  <a:pt x="117044" y="101098"/>
                  <a:pt x="114285" y="101098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Shape 4987"/>
          <p:cNvSpPr/>
          <p:nvPr/>
        </p:nvSpPr>
        <p:spPr>
          <a:xfrm>
            <a:off x="3154320" y="210348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101098"/>
                </a:moveTo>
                <a:lnTo>
                  <a:pt x="114219" y="101098"/>
                </a:lnTo>
                <a:cubicBezTo>
                  <a:pt x="39468" y="101098"/>
                  <a:pt x="39468" y="101098"/>
                  <a:pt x="39468" y="101098"/>
                </a:cubicBezTo>
                <a:lnTo>
                  <a:pt x="39468" y="101098"/>
                </a:lnTo>
                <a:cubicBezTo>
                  <a:pt x="38073" y="101098"/>
                  <a:pt x="38073" y="101098"/>
                  <a:pt x="38073" y="101098"/>
                </a:cubicBezTo>
                <a:cubicBezTo>
                  <a:pt x="22524" y="118241"/>
                  <a:pt x="22524" y="118241"/>
                  <a:pt x="22524" y="118241"/>
                </a:cubicBezTo>
                <a:cubicBezTo>
                  <a:pt x="21129" y="119780"/>
                  <a:pt x="19734" y="119780"/>
                  <a:pt x="18338" y="119780"/>
                </a:cubicBezTo>
                <a:lnTo>
                  <a:pt x="18338" y="119780"/>
                </a:lnTo>
                <a:lnTo>
                  <a:pt x="18338" y="119780"/>
                </a:lnTo>
                <a:lnTo>
                  <a:pt x="18338" y="119780"/>
                </a:lnTo>
                <a:cubicBezTo>
                  <a:pt x="16943" y="119780"/>
                  <a:pt x="15548" y="119780"/>
                  <a:pt x="15548" y="118241"/>
                </a:cubicBezTo>
                <a:cubicBezTo>
                  <a:pt x="14152" y="118241"/>
                  <a:pt x="14152" y="118241"/>
                  <a:pt x="14152" y="118241"/>
                </a:cubicBezTo>
                <a:lnTo>
                  <a:pt x="14152" y="116703"/>
                </a:lnTo>
                <a:lnTo>
                  <a:pt x="14152" y="116703"/>
                </a:lnTo>
                <a:lnTo>
                  <a:pt x="14152" y="116703"/>
                </a:lnTo>
                <a:cubicBezTo>
                  <a:pt x="14152" y="114945"/>
                  <a:pt x="14152" y="114945"/>
                  <a:pt x="14152" y="114945"/>
                </a:cubicBezTo>
                <a:lnTo>
                  <a:pt x="12757" y="114945"/>
                </a:lnTo>
                <a:lnTo>
                  <a:pt x="12757" y="113406"/>
                </a:lnTo>
                <a:lnTo>
                  <a:pt x="12757" y="113406"/>
                </a:lnTo>
                <a:cubicBezTo>
                  <a:pt x="12757" y="101098"/>
                  <a:pt x="12757" y="101098"/>
                  <a:pt x="12757" y="101098"/>
                </a:cubicBezTo>
                <a:cubicBezTo>
                  <a:pt x="5780" y="101098"/>
                  <a:pt x="5780" y="101098"/>
                  <a:pt x="5780" y="101098"/>
                </a:cubicBezTo>
                <a:cubicBezTo>
                  <a:pt x="2990" y="101098"/>
                  <a:pt x="0" y="98021"/>
                  <a:pt x="0" y="94945"/>
                </a:cubicBezTo>
                <a:cubicBezTo>
                  <a:pt x="0" y="6373"/>
                  <a:pt x="0" y="6373"/>
                  <a:pt x="0" y="6373"/>
                </a:cubicBezTo>
                <a:cubicBezTo>
                  <a:pt x="0" y="1758"/>
                  <a:pt x="2990" y="0"/>
                  <a:pt x="5780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1758"/>
                  <a:pt x="119800" y="6373"/>
                </a:cubicBezTo>
                <a:cubicBezTo>
                  <a:pt x="119800" y="94945"/>
                  <a:pt x="119800" y="94945"/>
                  <a:pt x="119800" y="94945"/>
                </a:cubicBezTo>
                <a:cubicBezTo>
                  <a:pt x="119800" y="98021"/>
                  <a:pt x="118405" y="101098"/>
                  <a:pt x="114219" y="101098"/>
                </a:cubicBezTo>
                <a:close/>
                <a:moveTo>
                  <a:pt x="108438" y="12527"/>
                </a:moveTo>
                <a:lnTo>
                  <a:pt x="108438" y="12527"/>
                </a:lnTo>
                <a:cubicBezTo>
                  <a:pt x="11362" y="12527"/>
                  <a:pt x="11362" y="12527"/>
                  <a:pt x="11362" y="12527"/>
                </a:cubicBezTo>
                <a:cubicBezTo>
                  <a:pt x="11362" y="88571"/>
                  <a:pt x="11362" y="88571"/>
                  <a:pt x="11362" y="88571"/>
                </a:cubicBezTo>
                <a:cubicBezTo>
                  <a:pt x="18338" y="88571"/>
                  <a:pt x="18338" y="88571"/>
                  <a:pt x="18338" y="88571"/>
                </a:cubicBezTo>
                <a:lnTo>
                  <a:pt x="18338" y="88571"/>
                </a:lnTo>
                <a:cubicBezTo>
                  <a:pt x="23920" y="88571"/>
                  <a:pt x="23920" y="88571"/>
                  <a:pt x="23920" y="88571"/>
                </a:cubicBezTo>
                <a:cubicBezTo>
                  <a:pt x="23920" y="98021"/>
                  <a:pt x="23920" y="98021"/>
                  <a:pt x="23920" y="98021"/>
                </a:cubicBezTo>
                <a:cubicBezTo>
                  <a:pt x="33887" y="88571"/>
                  <a:pt x="33887" y="88571"/>
                  <a:pt x="33887" y="88571"/>
                </a:cubicBezTo>
                <a:cubicBezTo>
                  <a:pt x="49435" y="88571"/>
                  <a:pt x="49435" y="88571"/>
                  <a:pt x="49435" y="88571"/>
                </a:cubicBezTo>
                <a:lnTo>
                  <a:pt x="49435" y="88571"/>
                </a:lnTo>
                <a:cubicBezTo>
                  <a:pt x="108438" y="88571"/>
                  <a:pt x="108438" y="88571"/>
                  <a:pt x="108438" y="88571"/>
                </a:cubicBezTo>
                <a:lnTo>
                  <a:pt x="108438" y="12527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Shape 4988"/>
          <p:cNvSpPr/>
          <p:nvPr/>
        </p:nvSpPr>
        <p:spPr>
          <a:xfrm>
            <a:off x="2655720" y="2092320"/>
            <a:ext cx="285840" cy="282600"/>
          </a:xfrm>
          <a:custGeom>
            <a:avLst/>
            <a:gdLst>
              <a:gd name="textAreaLeft" fmla="*/ 0 w 285840"/>
              <a:gd name="textAreaRight" fmla="*/ 286200 w 2858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05647" y="48605"/>
                </a:moveTo>
                <a:lnTo>
                  <a:pt x="105647" y="48605"/>
                </a:lnTo>
                <a:cubicBezTo>
                  <a:pt x="104252" y="50016"/>
                  <a:pt x="104252" y="58487"/>
                  <a:pt x="114219" y="64134"/>
                </a:cubicBezTo>
                <a:cubicBezTo>
                  <a:pt x="114219" y="64134"/>
                  <a:pt x="100066" y="66957"/>
                  <a:pt x="90299" y="54252"/>
                </a:cubicBezTo>
                <a:cubicBezTo>
                  <a:pt x="87308" y="54252"/>
                  <a:pt x="84518" y="55663"/>
                  <a:pt x="81727" y="55663"/>
                </a:cubicBezTo>
                <a:cubicBezTo>
                  <a:pt x="60598" y="55663"/>
                  <a:pt x="47840" y="42756"/>
                  <a:pt x="47840" y="27226"/>
                </a:cubicBezTo>
                <a:cubicBezTo>
                  <a:pt x="47840" y="12907"/>
                  <a:pt x="60598" y="0"/>
                  <a:pt x="81727" y="0"/>
                </a:cubicBezTo>
                <a:cubicBezTo>
                  <a:pt x="102857" y="0"/>
                  <a:pt x="119800" y="12907"/>
                  <a:pt x="119800" y="27226"/>
                </a:cubicBezTo>
                <a:cubicBezTo>
                  <a:pt x="119800" y="35697"/>
                  <a:pt x="114219" y="44168"/>
                  <a:pt x="105647" y="48605"/>
                </a:cubicBezTo>
                <a:close/>
                <a:moveTo>
                  <a:pt x="40863" y="30050"/>
                </a:moveTo>
                <a:lnTo>
                  <a:pt x="40863" y="30050"/>
                </a:lnTo>
                <a:cubicBezTo>
                  <a:pt x="42259" y="46991"/>
                  <a:pt x="56411" y="61310"/>
                  <a:pt x="78936" y="62722"/>
                </a:cubicBezTo>
                <a:cubicBezTo>
                  <a:pt x="81727" y="62722"/>
                  <a:pt x="84518" y="62722"/>
                  <a:pt x="87308" y="61310"/>
                </a:cubicBezTo>
                <a:lnTo>
                  <a:pt x="87308" y="61310"/>
                </a:lnTo>
                <a:lnTo>
                  <a:pt x="87308" y="61310"/>
                </a:lnTo>
                <a:cubicBezTo>
                  <a:pt x="94485" y="68369"/>
                  <a:pt x="102857" y="69983"/>
                  <a:pt x="107043" y="69983"/>
                </a:cubicBezTo>
                <a:cubicBezTo>
                  <a:pt x="102857" y="88537"/>
                  <a:pt x="84518" y="102655"/>
                  <a:pt x="56411" y="102655"/>
                </a:cubicBezTo>
                <a:cubicBezTo>
                  <a:pt x="53621" y="102655"/>
                  <a:pt x="49435" y="101243"/>
                  <a:pt x="45049" y="99831"/>
                </a:cubicBezTo>
                <a:cubicBezTo>
                  <a:pt x="31096" y="119798"/>
                  <a:pt x="7176" y="115563"/>
                  <a:pt x="7176" y="115563"/>
                </a:cubicBezTo>
                <a:cubicBezTo>
                  <a:pt x="23920" y="108302"/>
                  <a:pt x="23920" y="94184"/>
                  <a:pt x="19734" y="92773"/>
                </a:cubicBezTo>
                <a:cubicBezTo>
                  <a:pt x="7176" y="85512"/>
                  <a:pt x="0" y="72806"/>
                  <a:pt x="0" y="59899"/>
                </a:cubicBezTo>
                <a:cubicBezTo>
                  <a:pt x="0" y="39932"/>
                  <a:pt x="18338" y="22789"/>
                  <a:pt x="43654" y="18554"/>
                </a:cubicBezTo>
                <a:cubicBezTo>
                  <a:pt x="42259" y="22789"/>
                  <a:pt x="40863" y="25815"/>
                  <a:pt x="40863" y="3005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Shape 4989"/>
          <p:cNvSpPr/>
          <p:nvPr/>
        </p:nvSpPr>
        <p:spPr>
          <a:xfrm>
            <a:off x="2154240" y="2108160"/>
            <a:ext cx="289080" cy="265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62660" y="98533"/>
                </a:moveTo>
                <a:lnTo>
                  <a:pt x="62660" y="98533"/>
                </a:lnTo>
                <a:cubicBezTo>
                  <a:pt x="58522" y="98533"/>
                  <a:pt x="54384" y="97030"/>
                  <a:pt x="50049" y="97030"/>
                </a:cubicBezTo>
                <a:cubicBezTo>
                  <a:pt x="34876" y="119785"/>
                  <a:pt x="8472" y="115277"/>
                  <a:pt x="8472" y="115277"/>
                </a:cubicBezTo>
                <a:cubicBezTo>
                  <a:pt x="26403" y="106046"/>
                  <a:pt x="26403" y="89516"/>
                  <a:pt x="23645" y="88014"/>
                </a:cubicBezTo>
                <a:cubicBezTo>
                  <a:pt x="8472" y="78783"/>
                  <a:pt x="0" y="65044"/>
                  <a:pt x="0" y="50017"/>
                </a:cubicBezTo>
                <a:cubicBezTo>
                  <a:pt x="0" y="22754"/>
                  <a:pt x="27783" y="0"/>
                  <a:pt x="62660" y="0"/>
                </a:cubicBezTo>
                <a:cubicBezTo>
                  <a:pt x="97536" y="0"/>
                  <a:pt x="119802" y="22754"/>
                  <a:pt x="119802" y="50017"/>
                </a:cubicBezTo>
                <a:cubicBezTo>
                  <a:pt x="119802" y="77280"/>
                  <a:pt x="97536" y="98533"/>
                  <a:pt x="62660" y="98533"/>
                </a:cubicBezTo>
                <a:close/>
                <a:moveTo>
                  <a:pt x="32118" y="37781"/>
                </a:moveTo>
                <a:lnTo>
                  <a:pt x="32118" y="37781"/>
                </a:lnTo>
                <a:cubicBezTo>
                  <a:pt x="26403" y="37781"/>
                  <a:pt x="20886" y="43792"/>
                  <a:pt x="20886" y="50017"/>
                </a:cubicBezTo>
                <a:cubicBezTo>
                  <a:pt x="20886" y="57531"/>
                  <a:pt x="26403" y="62039"/>
                  <a:pt x="32118" y="62039"/>
                </a:cubicBezTo>
                <a:cubicBezTo>
                  <a:pt x="37635" y="62039"/>
                  <a:pt x="43152" y="57531"/>
                  <a:pt x="43152" y="50017"/>
                </a:cubicBezTo>
                <a:cubicBezTo>
                  <a:pt x="43152" y="43792"/>
                  <a:pt x="37635" y="37781"/>
                  <a:pt x="32118" y="37781"/>
                </a:cubicBezTo>
                <a:close/>
                <a:moveTo>
                  <a:pt x="59901" y="37781"/>
                </a:moveTo>
                <a:lnTo>
                  <a:pt x="59901" y="37781"/>
                </a:lnTo>
                <a:cubicBezTo>
                  <a:pt x="54384" y="37781"/>
                  <a:pt x="48669" y="43792"/>
                  <a:pt x="48669" y="50017"/>
                </a:cubicBezTo>
                <a:cubicBezTo>
                  <a:pt x="48669" y="57531"/>
                  <a:pt x="54384" y="62039"/>
                  <a:pt x="59901" y="62039"/>
                </a:cubicBezTo>
                <a:cubicBezTo>
                  <a:pt x="65418" y="62039"/>
                  <a:pt x="71133" y="57531"/>
                  <a:pt x="71133" y="50017"/>
                </a:cubicBezTo>
                <a:cubicBezTo>
                  <a:pt x="71133" y="43792"/>
                  <a:pt x="65418" y="37781"/>
                  <a:pt x="59901" y="37781"/>
                </a:cubicBezTo>
                <a:close/>
                <a:moveTo>
                  <a:pt x="87684" y="37781"/>
                </a:moveTo>
                <a:lnTo>
                  <a:pt x="87684" y="37781"/>
                </a:lnTo>
                <a:cubicBezTo>
                  <a:pt x="82167" y="37781"/>
                  <a:pt x="76650" y="43792"/>
                  <a:pt x="76650" y="50017"/>
                </a:cubicBezTo>
                <a:cubicBezTo>
                  <a:pt x="76650" y="57531"/>
                  <a:pt x="82167" y="62039"/>
                  <a:pt x="87684" y="62039"/>
                </a:cubicBezTo>
                <a:cubicBezTo>
                  <a:pt x="93399" y="62039"/>
                  <a:pt x="98916" y="57531"/>
                  <a:pt x="98916" y="50017"/>
                </a:cubicBezTo>
                <a:cubicBezTo>
                  <a:pt x="98916" y="43792"/>
                  <a:pt x="93399" y="37781"/>
                  <a:pt x="87684" y="3778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Shape 4990"/>
          <p:cNvSpPr/>
          <p:nvPr/>
        </p:nvSpPr>
        <p:spPr>
          <a:xfrm>
            <a:off x="1654200" y="2108160"/>
            <a:ext cx="287280" cy="265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63388" y="0"/>
                </a:moveTo>
                <a:lnTo>
                  <a:pt x="63388" y="0"/>
                </a:lnTo>
                <a:cubicBezTo>
                  <a:pt x="98671" y="0"/>
                  <a:pt x="119800" y="22754"/>
                  <a:pt x="119800" y="50017"/>
                </a:cubicBezTo>
                <a:cubicBezTo>
                  <a:pt x="119800" y="77280"/>
                  <a:pt x="98671" y="98533"/>
                  <a:pt x="63388" y="98533"/>
                </a:cubicBezTo>
                <a:cubicBezTo>
                  <a:pt x="59202" y="98533"/>
                  <a:pt x="55016" y="97030"/>
                  <a:pt x="50631" y="97030"/>
                </a:cubicBezTo>
                <a:cubicBezTo>
                  <a:pt x="33887" y="119785"/>
                  <a:pt x="8372" y="115277"/>
                  <a:pt x="8372" y="115277"/>
                </a:cubicBezTo>
                <a:cubicBezTo>
                  <a:pt x="26710" y="106046"/>
                  <a:pt x="26710" y="89516"/>
                  <a:pt x="22524" y="88014"/>
                </a:cubicBezTo>
                <a:cubicBezTo>
                  <a:pt x="8372" y="78783"/>
                  <a:pt x="0" y="65044"/>
                  <a:pt x="0" y="50017"/>
                </a:cubicBezTo>
                <a:cubicBezTo>
                  <a:pt x="0" y="22754"/>
                  <a:pt x="28106" y="0"/>
                  <a:pt x="63388" y="0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Shape 4991"/>
          <p:cNvSpPr/>
          <p:nvPr/>
        </p:nvSpPr>
        <p:spPr>
          <a:xfrm>
            <a:off x="7155000" y="1596960"/>
            <a:ext cx="282600" cy="255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13949" y="36424"/>
                </a:moveTo>
                <a:lnTo>
                  <a:pt x="113949" y="36424"/>
                </a:lnTo>
                <a:cubicBezTo>
                  <a:pt x="99831" y="22122"/>
                  <a:pt x="81277" y="12737"/>
                  <a:pt x="59899" y="12737"/>
                </a:cubicBezTo>
                <a:cubicBezTo>
                  <a:pt x="39932" y="12737"/>
                  <a:pt x="21378" y="22122"/>
                  <a:pt x="7058" y="36424"/>
                </a:cubicBezTo>
                <a:cubicBezTo>
                  <a:pt x="0" y="26815"/>
                  <a:pt x="0" y="26815"/>
                  <a:pt x="0" y="26815"/>
                </a:cubicBezTo>
                <a:cubicBezTo>
                  <a:pt x="15731" y="9608"/>
                  <a:pt x="37109" y="0"/>
                  <a:pt x="59899" y="0"/>
                </a:cubicBezTo>
                <a:cubicBezTo>
                  <a:pt x="84100" y="0"/>
                  <a:pt x="105478" y="9608"/>
                  <a:pt x="119798" y="26815"/>
                </a:cubicBezTo>
                <a:lnTo>
                  <a:pt x="113949" y="36424"/>
                </a:lnTo>
                <a:close/>
                <a:moveTo>
                  <a:pt x="59899" y="31731"/>
                </a:moveTo>
                <a:lnTo>
                  <a:pt x="59899" y="31731"/>
                </a:lnTo>
                <a:cubicBezTo>
                  <a:pt x="77042" y="31731"/>
                  <a:pt x="92571" y="39553"/>
                  <a:pt x="102655" y="52067"/>
                </a:cubicBezTo>
                <a:cubicBezTo>
                  <a:pt x="95596" y="61675"/>
                  <a:pt x="95596" y="61675"/>
                  <a:pt x="95596" y="61675"/>
                </a:cubicBezTo>
                <a:cubicBezTo>
                  <a:pt x="86924" y="50502"/>
                  <a:pt x="74218" y="44245"/>
                  <a:pt x="59899" y="44245"/>
                </a:cubicBezTo>
                <a:cubicBezTo>
                  <a:pt x="45579" y="44245"/>
                  <a:pt x="34285" y="50502"/>
                  <a:pt x="25613" y="61675"/>
                </a:cubicBezTo>
                <a:cubicBezTo>
                  <a:pt x="18554" y="52067"/>
                  <a:pt x="18554" y="52067"/>
                  <a:pt x="18554" y="52067"/>
                </a:cubicBezTo>
                <a:cubicBezTo>
                  <a:pt x="28436" y="39553"/>
                  <a:pt x="44168" y="31731"/>
                  <a:pt x="59899" y="31731"/>
                </a:cubicBezTo>
                <a:close/>
                <a:moveTo>
                  <a:pt x="59899" y="63240"/>
                </a:moveTo>
                <a:lnTo>
                  <a:pt x="59899" y="63240"/>
                </a:lnTo>
                <a:cubicBezTo>
                  <a:pt x="69781" y="63240"/>
                  <a:pt x="79865" y="69273"/>
                  <a:pt x="85512" y="77094"/>
                </a:cubicBezTo>
                <a:cubicBezTo>
                  <a:pt x="78453" y="86703"/>
                  <a:pt x="78453" y="86703"/>
                  <a:pt x="78453" y="86703"/>
                </a:cubicBezTo>
                <a:cubicBezTo>
                  <a:pt x="74218" y="80446"/>
                  <a:pt x="68369" y="75530"/>
                  <a:pt x="59899" y="75530"/>
                </a:cubicBezTo>
                <a:cubicBezTo>
                  <a:pt x="52840" y="75530"/>
                  <a:pt x="45579" y="80446"/>
                  <a:pt x="41344" y="86703"/>
                </a:cubicBezTo>
                <a:cubicBezTo>
                  <a:pt x="35697" y="77094"/>
                  <a:pt x="35697" y="77094"/>
                  <a:pt x="35697" y="77094"/>
                </a:cubicBezTo>
                <a:cubicBezTo>
                  <a:pt x="41344" y="69273"/>
                  <a:pt x="50016" y="63240"/>
                  <a:pt x="59899" y="63240"/>
                </a:cubicBezTo>
                <a:close/>
                <a:moveTo>
                  <a:pt x="59899" y="94525"/>
                </a:moveTo>
                <a:lnTo>
                  <a:pt x="59899" y="94525"/>
                </a:lnTo>
                <a:cubicBezTo>
                  <a:pt x="66957" y="94525"/>
                  <a:pt x="71193" y="101005"/>
                  <a:pt x="71193" y="107262"/>
                </a:cubicBezTo>
                <a:cubicBezTo>
                  <a:pt x="71193" y="113519"/>
                  <a:pt x="66957" y="119776"/>
                  <a:pt x="59899" y="119776"/>
                </a:cubicBezTo>
                <a:cubicBezTo>
                  <a:pt x="54252" y="119776"/>
                  <a:pt x="48403" y="113519"/>
                  <a:pt x="48403" y="107262"/>
                </a:cubicBezTo>
                <a:cubicBezTo>
                  <a:pt x="48403" y="101005"/>
                  <a:pt x="54252" y="94525"/>
                  <a:pt x="59899" y="94525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Shape 4992"/>
          <p:cNvSpPr/>
          <p:nvPr/>
        </p:nvSpPr>
        <p:spPr>
          <a:xfrm>
            <a:off x="6696000" y="1665360"/>
            <a:ext cx="200160" cy="187200"/>
          </a:xfrm>
          <a:custGeom>
            <a:avLst/>
            <a:gdLst>
              <a:gd name="textAreaLeft" fmla="*/ 0 w 200160"/>
              <a:gd name="textAreaRight" fmla="*/ 200520 w 2001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59858" y="0"/>
                </a:moveTo>
                <a:lnTo>
                  <a:pt x="59858" y="0"/>
                </a:lnTo>
                <a:cubicBezTo>
                  <a:pt x="83858" y="0"/>
                  <a:pt x="103623" y="10632"/>
                  <a:pt x="119717" y="27645"/>
                </a:cubicBezTo>
                <a:cubicBezTo>
                  <a:pt x="109552" y="40708"/>
                  <a:pt x="109552" y="40708"/>
                  <a:pt x="109552" y="40708"/>
                </a:cubicBezTo>
                <a:cubicBezTo>
                  <a:pt x="97694" y="25518"/>
                  <a:pt x="79905" y="17012"/>
                  <a:pt x="59858" y="17012"/>
                </a:cubicBezTo>
                <a:cubicBezTo>
                  <a:pt x="39811" y="17012"/>
                  <a:pt x="21741" y="25518"/>
                  <a:pt x="9882" y="40708"/>
                </a:cubicBezTo>
                <a:cubicBezTo>
                  <a:pt x="0" y="27645"/>
                  <a:pt x="0" y="27645"/>
                  <a:pt x="0" y="27645"/>
                </a:cubicBezTo>
                <a:cubicBezTo>
                  <a:pt x="15811" y="10632"/>
                  <a:pt x="35858" y="0"/>
                  <a:pt x="59858" y="0"/>
                </a:cubicBezTo>
                <a:close/>
                <a:moveTo>
                  <a:pt x="59858" y="42835"/>
                </a:moveTo>
                <a:lnTo>
                  <a:pt x="59858" y="42835"/>
                </a:lnTo>
                <a:cubicBezTo>
                  <a:pt x="73694" y="42835"/>
                  <a:pt x="85835" y="51037"/>
                  <a:pt x="93741" y="61670"/>
                </a:cubicBezTo>
                <a:cubicBezTo>
                  <a:pt x="85835" y="74734"/>
                  <a:pt x="85835" y="74734"/>
                  <a:pt x="85835" y="74734"/>
                </a:cubicBezTo>
                <a:cubicBezTo>
                  <a:pt x="79905" y="66227"/>
                  <a:pt x="69741" y="59544"/>
                  <a:pt x="59858" y="59544"/>
                </a:cubicBezTo>
                <a:cubicBezTo>
                  <a:pt x="49976" y="59544"/>
                  <a:pt x="39811" y="66227"/>
                  <a:pt x="33882" y="74734"/>
                </a:cubicBezTo>
                <a:cubicBezTo>
                  <a:pt x="25976" y="61670"/>
                  <a:pt x="25976" y="61670"/>
                  <a:pt x="25976" y="61670"/>
                </a:cubicBezTo>
                <a:cubicBezTo>
                  <a:pt x="33882" y="51037"/>
                  <a:pt x="45741" y="42835"/>
                  <a:pt x="59858" y="42835"/>
                </a:cubicBezTo>
                <a:close/>
                <a:moveTo>
                  <a:pt x="59858" y="85367"/>
                </a:moveTo>
                <a:lnTo>
                  <a:pt x="59858" y="85367"/>
                </a:lnTo>
                <a:cubicBezTo>
                  <a:pt x="67764" y="85367"/>
                  <a:pt x="75670" y="94177"/>
                  <a:pt x="75670" y="102683"/>
                </a:cubicBezTo>
                <a:cubicBezTo>
                  <a:pt x="75670" y="111189"/>
                  <a:pt x="67764" y="119696"/>
                  <a:pt x="59858" y="119696"/>
                </a:cubicBezTo>
                <a:cubicBezTo>
                  <a:pt x="51952" y="119696"/>
                  <a:pt x="43764" y="111189"/>
                  <a:pt x="43764" y="102683"/>
                </a:cubicBezTo>
                <a:cubicBezTo>
                  <a:pt x="43764" y="94177"/>
                  <a:pt x="51952" y="85367"/>
                  <a:pt x="59858" y="85367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Shape 4993"/>
          <p:cNvSpPr/>
          <p:nvPr/>
        </p:nvSpPr>
        <p:spPr>
          <a:xfrm>
            <a:off x="6238800" y="1731960"/>
            <a:ext cx="115920" cy="120600"/>
          </a:xfrm>
          <a:custGeom>
            <a:avLst/>
            <a:gdLst>
              <a:gd name="textAreaLeft" fmla="*/ 0 w 115920"/>
              <a:gd name="textAreaRight" fmla="*/ 116280 w 1159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61686" y="0"/>
                </a:moveTo>
                <a:lnTo>
                  <a:pt x="61686" y="0"/>
                </a:lnTo>
                <a:cubicBezTo>
                  <a:pt x="85301" y="0"/>
                  <a:pt x="106024" y="12755"/>
                  <a:pt x="119518" y="29291"/>
                </a:cubicBezTo>
                <a:cubicBezTo>
                  <a:pt x="106024" y="49606"/>
                  <a:pt x="106024" y="49606"/>
                  <a:pt x="106024" y="49606"/>
                </a:cubicBezTo>
                <a:cubicBezTo>
                  <a:pt x="95421" y="36377"/>
                  <a:pt x="78554" y="25984"/>
                  <a:pt x="61686" y="25984"/>
                </a:cubicBezTo>
                <a:cubicBezTo>
                  <a:pt x="40963" y="25984"/>
                  <a:pt x="27469" y="36377"/>
                  <a:pt x="17349" y="49606"/>
                </a:cubicBezTo>
                <a:cubicBezTo>
                  <a:pt x="0" y="29291"/>
                  <a:pt x="0" y="29291"/>
                  <a:pt x="0" y="29291"/>
                </a:cubicBezTo>
                <a:cubicBezTo>
                  <a:pt x="13975" y="12755"/>
                  <a:pt x="37590" y="0"/>
                  <a:pt x="61686" y="0"/>
                </a:cubicBezTo>
                <a:close/>
                <a:moveTo>
                  <a:pt x="61686" y="66141"/>
                </a:moveTo>
                <a:lnTo>
                  <a:pt x="61686" y="66141"/>
                </a:lnTo>
                <a:cubicBezTo>
                  <a:pt x="75180" y="66141"/>
                  <a:pt x="88674" y="79842"/>
                  <a:pt x="88674" y="93070"/>
                </a:cubicBezTo>
                <a:cubicBezTo>
                  <a:pt x="88674" y="106299"/>
                  <a:pt x="75180" y="119527"/>
                  <a:pt x="61686" y="119527"/>
                </a:cubicBezTo>
                <a:cubicBezTo>
                  <a:pt x="44819" y="119527"/>
                  <a:pt x="34216" y="106299"/>
                  <a:pt x="34216" y="93070"/>
                </a:cubicBezTo>
                <a:cubicBezTo>
                  <a:pt x="34216" y="79842"/>
                  <a:pt x="44819" y="66141"/>
                  <a:pt x="61686" y="6614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Shape 4994"/>
          <p:cNvSpPr/>
          <p:nvPr/>
        </p:nvSpPr>
        <p:spPr>
          <a:xfrm>
            <a:off x="5651640" y="1646280"/>
            <a:ext cx="287280" cy="166680"/>
          </a:xfrm>
          <a:custGeom>
            <a:avLst/>
            <a:gdLst>
              <a:gd name="textAreaLeft" fmla="*/ 0 w 287280"/>
              <a:gd name="textAreaRight" fmla="*/ 287640 w 287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119802" y="59999"/>
                </a:moveTo>
                <a:lnTo>
                  <a:pt x="119802" y="59999"/>
                </a:lnTo>
                <a:cubicBezTo>
                  <a:pt x="119802" y="62372"/>
                  <a:pt x="119802" y="62372"/>
                  <a:pt x="119802" y="62372"/>
                </a:cubicBezTo>
                <a:lnTo>
                  <a:pt x="119802" y="62372"/>
                </a:lnTo>
                <a:lnTo>
                  <a:pt x="119802" y="62372"/>
                </a:lnTo>
                <a:lnTo>
                  <a:pt x="119802" y="62372"/>
                </a:lnTo>
                <a:lnTo>
                  <a:pt x="119802" y="62372"/>
                </a:lnTo>
                <a:cubicBezTo>
                  <a:pt x="119802" y="64406"/>
                  <a:pt x="119802" y="64406"/>
                  <a:pt x="118421" y="66779"/>
                </a:cubicBezTo>
                <a:cubicBezTo>
                  <a:pt x="117039" y="69152"/>
                  <a:pt x="115657" y="71525"/>
                  <a:pt x="114276" y="73898"/>
                </a:cubicBezTo>
                <a:cubicBezTo>
                  <a:pt x="107368" y="86101"/>
                  <a:pt x="98881" y="97966"/>
                  <a:pt x="89210" y="105084"/>
                </a:cubicBezTo>
                <a:cubicBezTo>
                  <a:pt x="83684" y="112203"/>
                  <a:pt x="76578" y="114576"/>
                  <a:pt x="71052" y="117288"/>
                </a:cubicBezTo>
                <a:cubicBezTo>
                  <a:pt x="62763" y="119661"/>
                  <a:pt x="55855" y="119661"/>
                  <a:pt x="48750" y="117288"/>
                </a:cubicBezTo>
                <a:cubicBezTo>
                  <a:pt x="43223" y="114576"/>
                  <a:pt x="37500" y="112203"/>
                  <a:pt x="31973" y="107457"/>
                </a:cubicBezTo>
                <a:lnTo>
                  <a:pt x="31973" y="107457"/>
                </a:lnTo>
                <a:cubicBezTo>
                  <a:pt x="47368" y="90847"/>
                  <a:pt x="47368" y="90847"/>
                  <a:pt x="47368" y="90847"/>
                </a:cubicBezTo>
                <a:cubicBezTo>
                  <a:pt x="51513" y="95593"/>
                  <a:pt x="55855" y="97966"/>
                  <a:pt x="60000" y="97966"/>
                </a:cubicBezTo>
                <a:cubicBezTo>
                  <a:pt x="72434" y="97966"/>
                  <a:pt x="82302" y="81016"/>
                  <a:pt x="82302" y="59999"/>
                </a:cubicBezTo>
                <a:cubicBezTo>
                  <a:pt x="82302" y="55254"/>
                  <a:pt x="82302" y="52881"/>
                  <a:pt x="82302" y="50508"/>
                </a:cubicBezTo>
                <a:cubicBezTo>
                  <a:pt x="101842" y="28813"/>
                  <a:pt x="101842" y="28813"/>
                  <a:pt x="101842" y="28813"/>
                </a:cubicBezTo>
                <a:cubicBezTo>
                  <a:pt x="103223" y="31186"/>
                  <a:pt x="104605" y="31186"/>
                  <a:pt x="105986" y="33559"/>
                </a:cubicBezTo>
                <a:cubicBezTo>
                  <a:pt x="110131" y="40677"/>
                  <a:pt x="114276" y="48135"/>
                  <a:pt x="118421" y="55254"/>
                </a:cubicBezTo>
                <a:cubicBezTo>
                  <a:pt x="119802" y="57627"/>
                  <a:pt x="119802" y="57627"/>
                  <a:pt x="119802" y="59999"/>
                </a:cubicBezTo>
                <a:close/>
                <a:moveTo>
                  <a:pt x="60000" y="78644"/>
                </a:moveTo>
                <a:lnTo>
                  <a:pt x="60000" y="78644"/>
                </a:lnTo>
                <a:lnTo>
                  <a:pt x="58618" y="78644"/>
                </a:lnTo>
                <a:cubicBezTo>
                  <a:pt x="71052" y="62372"/>
                  <a:pt x="71052" y="62372"/>
                  <a:pt x="71052" y="62372"/>
                </a:cubicBezTo>
                <a:cubicBezTo>
                  <a:pt x="69671" y="71525"/>
                  <a:pt x="65526" y="78644"/>
                  <a:pt x="60000" y="78644"/>
                </a:cubicBezTo>
                <a:close/>
                <a:moveTo>
                  <a:pt x="108750" y="9830"/>
                </a:moveTo>
                <a:lnTo>
                  <a:pt x="108750" y="9830"/>
                </a:lnTo>
                <a:cubicBezTo>
                  <a:pt x="12434" y="119661"/>
                  <a:pt x="12434" y="119661"/>
                  <a:pt x="12434" y="119661"/>
                </a:cubicBezTo>
                <a:lnTo>
                  <a:pt x="12434" y="119661"/>
                </a:lnTo>
                <a:lnTo>
                  <a:pt x="12434" y="119661"/>
                </a:lnTo>
                <a:lnTo>
                  <a:pt x="11052" y="119661"/>
                </a:lnTo>
                <a:cubicBezTo>
                  <a:pt x="9671" y="119661"/>
                  <a:pt x="8289" y="117288"/>
                  <a:pt x="8289" y="114576"/>
                </a:cubicBezTo>
                <a:cubicBezTo>
                  <a:pt x="8289" y="112203"/>
                  <a:pt x="8289" y="112203"/>
                  <a:pt x="9671" y="109830"/>
                </a:cubicBezTo>
                <a:lnTo>
                  <a:pt x="9671" y="109830"/>
                </a:lnTo>
                <a:cubicBezTo>
                  <a:pt x="105986" y="2372"/>
                  <a:pt x="105986" y="2372"/>
                  <a:pt x="105986" y="2372"/>
                </a:cubicBezTo>
                <a:lnTo>
                  <a:pt x="105986" y="2372"/>
                </a:lnTo>
                <a:lnTo>
                  <a:pt x="105986" y="2372"/>
                </a:lnTo>
                <a:cubicBezTo>
                  <a:pt x="107368" y="2372"/>
                  <a:pt x="107368" y="2372"/>
                  <a:pt x="107368" y="2372"/>
                </a:cubicBezTo>
                <a:cubicBezTo>
                  <a:pt x="108750" y="2372"/>
                  <a:pt x="110131" y="4745"/>
                  <a:pt x="110131" y="7118"/>
                </a:cubicBezTo>
                <a:cubicBezTo>
                  <a:pt x="110131" y="7118"/>
                  <a:pt x="110131" y="9830"/>
                  <a:pt x="108750" y="9830"/>
                </a:cubicBezTo>
                <a:close/>
                <a:moveTo>
                  <a:pt x="60000" y="40677"/>
                </a:moveTo>
                <a:lnTo>
                  <a:pt x="60000" y="40677"/>
                </a:lnTo>
                <a:cubicBezTo>
                  <a:pt x="61381" y="40677"/>
                  <a:pt x="62763" y="40677"/>
                  <a:pt x="64144" y="40677"/>
                </a:cubicBezTo>
                <a:cubicBezTo>
                  <a:pt x="48750" y="57627"/>
                  <a:pt x="48750" y="57627"/>
                  <a:pt x="48750" y="57627"/>
                </a:cubicBezTo>
                <a:cubicBezTo>
                  <a:pt x="50131" y="48135"/>
                  <a:pt x="54276" y="40677"/>
                  <a:pt x="60000" y="40677"/>
                </a:cubicBezTo>
                <a:close/>
                <a:moveTo>
                  <a:pt x="73815" y="28813"/>
                </a:moveTo>
                <a:lnTo>
                  <a:pt x="73815" y="28813"/>
                </a:lnTo>
                <a:cubicBezTo>
                  <a:pt x="69671" y="24067"/>
                  <a:pt x="65526" y="21694"/>
                  <a:pt x="60000" y="21694"/>
                </a:cubicBezTo>
                <a:cubicBezTo>
                  <a:pt x="47368" y="21694"/>
                  <a:pt x="37500" y="38305"/>
                  <a:pt x="37500" y="59999"/>
                </a:cubicBezTo>
                <a:cubicBezTo>
                  <a:pt x="37500" y="62372"/>
                  <a:pt x="39078" y="64406"/>
                  <a:pt x="39078" y="69152"/>
                </a:cubicBezTo>
                <a:cubicBezTo>
                  <a:pt x="19539" y="90847"/>
                  <a:pt x="19539" y="90847"/>
                  <a:pt x="19539" y="90847"/>
                </a:cubicBezTo>
                <a:cubicBezTo>
                  <a:pt x="18157" y="90847"/>
                  <a:pt x="18157" y="90847"/>
                  <a:pt x="18157" y="90847"/>
                </a:cubicBezTo>
                <a:cubicBezTo>
                  <a:pt x="16776" y="90847"/>
                  <a:pt x="16776" y="88474"/>
                  <a:pt x="15197" y="88474"/>
                </a:cubicBezTo>
                <a:cubicBezTo>
                  <a:pt x="11052" y="81016"/>
                  <a:pt x="5526" y="73898"/>
                  <a:pt x="2763" y="66779"/>
                </a:cubicBezTo>
                <a:cubicBezTo>
                  <a:pt x="0" y="62372"/>
                  <a:pt x="0" y="57627"/>
                  <a:pt x="2763" y="55254"/>
                </a:cubicBezTo>
                <a:cubicBezTo>
                  <a:pt x="2763" y="52881"/>
                  <a:pt x="4144" y="50508"/>
                  <a:pt x="5526" y="48135"/>
                </a:cubicBezTo>
                <a:cubicBezTo>
                  <a:pt x="13815" y="35932"/>
                  <a:pt x="22302" y="24067"/>
                  <a:pt x="31973" y="14576"/>
                </a:cubicBezTo>
                <a:cubicBezTo>
                  <a:pt x="37500" y="9830"/>
                  <a:pt x="43223" y="4745"/>
                  <a:pt x="50131" y="2372"/>
                </a:cubicBezTo>
                <a:cubicBezTo>
                  <a:pt x="57236" y="0"/>
                  <a:pt x="64144" y="0"/>
                  <a:pt x="72434" y="4745"/>
                </a:cubicBezTo>
                <a:cubicBezTo>
                  <a:pt x="78157" y="4745"/>
                  <a:pt x="82302" y="9830"/>
                  <a:pt x="87828" y="14576"/>
                </a:cubicBezTo>
                <a:cubicBezTo>
                  <a:pt x="86447" y="14576"/>
                  <a:pt x="86447" y="14576"/>
                  <a:pt x="86447" y="14576"/>
                </a:cubicBezTo>
                <a:lnTo>
                  <a:pt x="73815" y="28813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Shape 4995"/>
          <p:cNvSpPr/>
          <p:nvPr/>
        </p:nvSpPr>
        <p:spPr>
          <a:xfrm>
            <a:off x="5151600" y="1646280"/>
            <a:ext cx="288720" cy="166680"/>
          </a:xfrm>
          <a:custGeom>
            <a:avLst/>
            <a:gdLst>
              <a:gd name="textAreaLeft" fmla="*/ 0 w 288720"/>
              <a:gd name="textAreaRight" fmla="*/ 289080 w 2887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119802" y="59999"/>
                </a:moveTo>
                <a:lnTo>
                  <a:pt x="119802" y="59999"/>
                </a:lnTo>
                <a:cubicBezTo>
                  <a:pt x="119802" y="62372"/>
                  <a:pt x="119802" y="62372"/>
                  <a:pt x="119802" y="62372"/>
                </a:cubicBezTo>
                <a:lnTo>
                  <a:pt x="119802" y="62372"/>
                </a:lnTo>
                <a:lnTo>
                  <a:pt x="119802" y="62372"/>
                </a:lnTo>
                <a:lnTo>
                  <a:pt x="119802" y="62372"/>
                </a:lnTo>
                <a:lnTo>
                  <a:pt x="119802" y="62372"/>
                </a:lnTo>
                <a:cubicBezTo>
                  <a:pt x="119802" y="64406"/>
                  <a:pt x="118421" y="64406"/>
                  <a:pt x="118421" y="66779"/>
                </a:cubicBezTo>
                <a:cubicBezTo>
                  <a:pt x="117039" y="69152"/>
                  <a:pt x="115657" y="71525"/>
                  <a:pt x="114276" y="73898"/>
                </a:cubicBezTo>
                <a:cubicBezTo>
                  <a:pt x="107368" y="86101"/>
                  <a:pt x="97500" y="97966"/>
                  <a:pt x="89210" y="105084"/>
                </a:cubicBezTo>
                <a:cubicBezTo>
                  <a:pt x="83684" y="112203"/>
                  <a:pt x="76578" y="114576"/>
                  <a:pt x="69671" y="117288"/>
                </a:cubicBezTo>
                <a:cubicBezTo>
                  <a:pt x="62763" y="119661"/>
                  <a:pt x="55657" y="119661"/>
                  <a:pt x="48750" y="117288"/>
                </a:cubicBezTo>
                <a:cubicBezTo>
                  <a:pt x="36118" y="112203"/>
                  <a:pt x="25065" y="100338"/>
                  <a:pt x="13815" y="88474"/>
                </a:cubicBezTo>
                <a:cubicBezTo>
                  <a:pt x="9671" y="81016"/>
                  <a:pt x="5526" y="73898"/>
                  <a:pt x="1381" y="66779"/>
                </a:cubicBezTo>
                <a:cubicBezTo>
                  <a:pt x="0" y="62372"/>
                  <a:pt x="0" y="57627"/>
                  <a:pt x="1381" y="55254"/>
                </a:cubicBezTo>
                <a:cubicBezTo>
                  <a:pt x="2763" y="52881"/>
                  <a:pt x="4144" y="50508"/>
                  <a:pt x="5526" y="48135"/>
                </a:cubicBezTo>
                <a:cubicBezTo>
                  <a:pt x="12434" y="35932"/>
                  <a:pt x="22302" y="24067"/>
                  <a:pt x="30592" y="14576"/>
                </a:cubicBezTo>
                <a:cubicBezTo>
                  <a:pt x="36118" y="9830"/>
                  <a:pt x="43223" y="4745"/>
                  <a:pt x="50131" y="2372"/>
                </a:cubicBezTo>
                <a:cubicBezTo>
                  <a:pt x="57236" y="0"/>
                  <a:pt x="64144" y="0"/>
                  <a:pt x="71052" y="4745"/>
                </a:cubicBezTo>
                <a:cubicBezTo>
                  <a:pt x="83684" y="7118"/>
                  <a:pt x="94736" y="19322"/>
                  <a:pt x="104605" y="33559"/>
                </a:cubicBezTo>
                <a:cubicBezTo>
                  <a:pt x="110131" y="40677"/>
                  <a:pt x="114276" y="48135"/>
                  <a:pt x="118421" y="55254"/>
                </a:cubicBezTo>
                <a:cubicBezTo>
                  <a:pt x="118421" y="57627"/>
                  <a:pt x="119802" y="57627"/>
                  <a:pt x="119802" y="59999"/>
                </a:cubicBezTo>
                <a:close/>
                <a:moveTo>
                  <a:pt x="60000" y="21694"/>
                </a:moveTo>
                <a:lnTo>
                  <a:pt x="60000" y="21694"/>
                </a:lnTo>
                <a:cubicBezTo>
                  <a:pt x="47368" y="21694"/>
                  <a:pt x="37500" y="38305"/>
                  <a:pt x="37500" y="59999"/>
                </a:cubicBezTo>
                <a:cubicBezTo>
                  <a:pt x="37500" y="81016"/>
                  <a:pt x="47368" y="97966"/>
                  <a:pt x="60000" y="97966"/>
                </a:cubicBezTo>
                <a:cubicBezTo>
                  <a:pt x="72434" y="97966"/>
                  <a:pt x="82302" y="81016"/>
                  <a:pt x="82302" y="59999"/>
                </a:cubicBezTo>
                <a:cubicBezTo>
                  <a:pt x="82302" y="38305"/>
                  <a:pt x="72434" y="21694"/>
                  <a:pt x="60000" y="21694"/>
                </a:cubicBezTo>
                <a:close/>
                <a:moveTo>
                  <a:pt x="60000" y="78644"/>
                </a:moveTo>
                <a:lnTo>
                  <a:pt x="60000" y="78644"/>
                </a:lnTo>
                <a:cubicBezTo>
                  <a:pt x="54276" y="78644"/>
                  <a:pt x="48750" y="69152"/>
                  <a:pt x="48750" y="59999"/>
                </a:cubicBezTo>
                <a:cubicBezTo>
                  <a:pt x="48750" y="48135"/>
                  <a:pt x="54276" y="40677"/>
                  <a:pt x="60000" y="40677"/>
                </a:cubicBezTo>
                <a:cubicBezTo>
                  <a:pt x="65526" y="40677"/>
                  <a:pt x="71052" y="48135"/>
                  <a:pt x="71052" y="59999"/>
                </a:cubicBezTo>
                <a:cubicBezTo>
                  <a:pt x="71052" y="69152"/>
                  <a:pt x="65526" y="78644"/>
                  <a:pt x="60000" y="7864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Shape 4996"/>
          <p:cNvSpPr/>
          <p:nvPr/>
        </p:nvSpPr>
        <p:spPr>
          <a:xfrm>
            <a:off x="4654440" y="1596960"/>
            <a:ext cx="284400" cy="268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98635" y="119787"/>
                </a:moveTo>
                <a:lnTo>
                  <a:pt x="98635" y="119787"/>
                </a:lnTo>
                <a:cubicBezTo>
                  <a:pt x="93044" y="113639"/>
                  <a:pt x="93044" y="113639"/>
                  <a:pt x="93044" y="113639"/>
                </a:cubicBezTo>
                <a:cubicBezTo>
                  <a:pt x="105823" y="98798"/>
                  <a:pt x="112811" y="80777"/>
                  <a:pt x="112811" y="60000"/>
                </a:cubicBezTo>
                <a:cubicBezTo>
                  <a:pt x="112811" y="39010"/>
                  <a:pt x="105823" y="20989"/>
                  <a:pt x="93044" y="5936"/>
                </a:cubicBezTo>
                <a:cubicBezTo>
                  <a:pt x="98635" y="0"/>
                  <a:pt x="98635" y="0"/>
                  <a:pt x="98635" y="0"/>
                </a:cubicBezTo>
                <a:cubicBezTo>
                  <a:pt x="112811" y="16537"/>
                  <a:pt x="119800" y="37526"/>
                  <a:pt x="119800" y="60000"/>
                </a:cubicBezTo>
                <a:cubicBezTo>
                  <a:pt x="119800" y="82261"/>
                  <a:pt x="112811" y="103250"/>
                  <a:pt x="98635" y="119787"/>
                </a:cubicBezTo>
                <a:close/>
                <a:moveTo>
                  <a:pt x="84658" y="103250"/>
                </a:moveTo>
                <a:lnTo>
                  <a:pt x="84658" y="103250"/>
                </a:lnTo>
                <a:cubicBezTo>
                  <a:pt x="78868" y="97314"/>
                  <a:pt x="78868" y="97314"/>
                  <a:pt x="78868" y="97314"/>
                </a:cubicBezTo>
                <a:cubicBezTo>
                  <a:pt x="87454" y="88197"/>
                  <a:pt x="91647" y="74840"/>
                  <a:pt x="91647" y="60000"/>
                </a:cubicBezTo>
                <a:cubicBezTo>
                  <a:pt x="91647" y="44946"/>
                  <a:pt x="87454" y="31590"/>
                  <a:pt x="78868" y="22473"/>
                </a:cubicBezTo>
                <a:cubicBezTo>
                  <a:pt x="84658" y="16537"/>
                  <a:pt x="84658" y="16537"/>
                  <a:pt x="84658" y="16537"/>
                </a:cubicBezTo>
                <a:cubicBezTo>
                  <a:pt x="93044" y="28621"/>
                  <a:pt x="100033" y="43462"/>
                  <a:pt x="100033" y="60000"/>
                </a:cubicBezTo>
                <a:cubicBezTo>
                  <a:pt x="100033" y="76325"/>
                  <a:pt x="93044" y="91166"/>
                  <a:pt x="84658" y="103250"/>
                </a:cubicBezTo>
                <a:close/>
                <a:moveTo>
                  <a:pt x="69084" y="88197"/>
                </a:moveTo>
                <a:lnTo>
                  <a:pt x="69084" y="88197"/>
                </a:lnTo>
                <a:cubicBezTo>
                  <a:pt x="63494" y="82261"/>
                  <a:pt x="63494" y="82261"/>
                  <a:pt x="63494" y="82261"/>
                </a:cubicBezTo>
                <a:cubicBezTo>
                  <a:pt x="69084" y="76325"/>
                  <a:pt x="71880" y="68692"/>
                  <a:pt x="71880" y="60000"/>
                </a:cubicBezTo>
                <a:cubicBezTo>
                  <a:pt x="71880" y="51095"/>
                  <a:pt x="69084" y="43462"/>
                  <a:pt x="63494" y="37526"/>
                </a:cubicBezTo>
                <a:cubicBezTo>
                  <a:pt x="69084" y="31590"/>
                  <a:pt x="69084" y="31590"/>
                  <a:pt x="69084" y="31590"/>
                </a:cubicBezTo>
                <a:cubicBezTo>
                  <a:pt x="74675" y="39010"/>
                  <a:pt x="78868" y="49399"/>
                  <a:pt x="78868" y="60000"/>
                </a:cubicBezTo>
                <a:cubicBezTo>
                  <a:pt x="78868" y="70176"/>
                  <a:pt x="74675" y="80777"/>
                  <a:pt x="69084" y="88197"/>
                </a:cubicBezTo>
                <a:close/>
                <a:moveTo>
                  <a:pt x="46522" y="91166"/>
                </a:moveTo>
                <a:lnTo>
                  <a:pt x="46522" y="91166"/>
                </a:lnTo>
                <a:cubicBezTo>
                  <a:pt x="45124" y="91166"/>
                  <a:pt x="45124" y="91166"/>
                  <a:pt x="43727" y="91166"/>
                </a:cubicBezTo>
                <a:lnTo>
                  <a:pt x="43727" y="91166"/>
                </a:lnTo>
                <a:cubicBezTo>
                  <a:pt x="23960" y="76325"/>
                  <a:pt x="23960" y="76325"/>
                  <a:pt x="23960" y="76325"/>
                </a:cubicBezTo>
                <a:cubicBezTo>
                  <a:pt x="5590" y="76325"/>
                  <a:pt x="5590" y="76325"/>
                  <a:pt x="5590" y="76325"/>
                </a:cubicBezTo>
                <a:cubicBezTo>
                  <a:pt x="2795" y="76325"/>
                  <a:pt x="0" y="73144"/>
                  <a:pt x="0" y="70176"/>
                </a:cubicBezTo>
                <a:cubicBezTo>
                  <a:pt x="0" y="49399"/>
                  <a:pt x="0" y="49399"/>
                  <a:pt x="0" y="49399"/>
                </a:cubicBezTo>
                <a:cubicBezTo>
                  <a:pt x="0" y="46431"/>
                  <a:pt x="2795" y="43462"/>
                  <a:pt x="5590" y="43462"/>
                </a:cubicBezTo>
                <a:lnTo>
                  <a:pt x="5590" y="43462"/>
                </a:lnTo>
                <a:cubicBezTo>
                  <a:pt x="23960" y="43462"/>
                  <a:pt x="23960" y="43462"/>
                  <a:pt x="23960" y="43462"/>
                </a:cubicBezTo>
                <a:cubicBezTo>
                  <a:pt x="43727" y="27137"/>
                  <a:pt x="43727" y="27137"/>
                  <a:pt x="43727" y="27137"/>
                </a:cubicBezTo>
                <a:lnTo>
                  <a:pt x="43727" y="27137"/>
                </a:lnTo>
                <a:cubicBezTo>
                  <a:pt x="45124" y="27137"/>
                  <a:pt x="45124" y="25441"/>
                  <a:pt x="46522" y="25441"/>
                </a:cubicBezTo>
                <a:cubicBezTo>
                  <a:pt x="50715" y="25441"/>
                  <a:pt x="52113" y="28621"/>
                  <a:pt x="52113" y="31590"/>
                </a:cubicBezTo>
                <a:cubicBezTo>
                  <a:pt x="52113" y="49399"/>
                  <a:pt x="52113" y="49399"/>
                  <a:pt x="52113" y="49399"/>
                </a:cubicBezTo>
                <a:cubicBezTo>
                  <a:pt x="52113" y="64240"/>
                  <a:pt x="52113" y="64240"/>
                  <a:pt x="52113" y="64240"/>
                </a:cubicBezTo>
                <a:cubicBezTo>
                  <a:pt x="52113" y="70176"/>
                  <a:pt x="52113" y="70176"/>
                  <a:pt x="52113" y="70176"/>
                </a:cubicBezTo>
                <a:cubicBezTo>
                  <a:pt x="52113" y="76325"/>
                  <a:pt x="52113" y="76325"/>
                  <a:pt x="52113" y="76325"/>
                </a:cubicBezTo>
                <a:cubicBezTo>
                  <a:pt x="52113" y="85229"/>
                  <a:pt x="52113" y="85229"/>
                  <a:pt x="52113" y="85229"/>
                </a:cubicBezTo>
                <a:cubicBezTo>
                  <a:pt x="52113" y="89681"/>
                  <a:pt x="50715" y="91166"/>
                  <a:pt x="46522" y="91166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Shape 4997"/>
          <p:cNvSpPr/>
          <p:nvPr/>
        </p:nvSpPr>
        <p:spPr>
          <a:xfrm>
            <a:off x="4156200" y="1635120"/>
            <a:ext cx="233280" cy="195120"/>
          </a:xfrm>
          <a:custGeom>
            <a:avLst/>
            <a:gdLst>
              <a:gd name="textAreaLeft" fmla="*/ 0 w 233280"/>
              <a:gd name="textAreaRight" fmla="*/ 233640 w 2332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1090" y="119707"/>
                </a:moveTo>
                <a:lnTo>
                  <a:pt x="101090" y="119707"/>
                </a:lnTo>
                <a:cubicBezTo>
                  <a:pt x="94060" y="111512"/>
                  <a:pt x="94060" y="111512"/>
                  <a:pt x="94060" y="111512"/>
                </a:cubicBezTo>
                <a:cubicBezTo>
                  <a:pt x="104484" y="98926"/>
                  <a:pt x="111272" y="80487"/>
                  <a:pt x="111272" y="60000"/>
                </a:cubicBezTo>
                <a:cubicBezTo>
                  <a:pt x="111272" y="39219"/>
                  <a:pt x="104484" y="20780"/>
                  <a:pt x="94060" y="8195"/>
                </a:cubicBezTo>
                <a:cubicBezTo>
                  <a:pt x="101090" y="0"/>
                  <a:pt x="101090" y="0"/>
                  <a:pt x="101090" y="0"/>
                </a:cubicBezTo>
                <a:cubicBezTo>
                  <a:pt x="112969" y="16682"/>
                  <a:pt x="119757" y="37170"/>
                  <a:pt x="119757" y="60000"/>
                </a:cubicBezTo>
                <a:cubicBezTo>
                  <a:pt x="119757" y="82536"/>
                  <a:pt x="112969" y="103024"/>
                  <a:pt x="101090" y="119707"/>
                </a:cubicBezTo>
                <a:close/>
                <a:moveTo>
                  <a:pt x="83878" y="98926"/>
                </a:moveTo>
                <a:lnTo>
                  <a:pt x="83878" y="98926"/>
                </a:lnTo>
                <a:cubicBezTo>
                  <a:pt x="77090" y="90731"/>
                  <a:pt x="77090" y="90731"/>
                  <a:pt x="77090" y="90731"/>
                </a:cubicBezTo>
                <a:cubicBezTo>
                  <a:pt x="82181" y="82536"/>
                  <a:pt x="85575" y="72000"/>
                  <a:pt x="85575" y="60000"/>
                </a:cubicBezTo>
                <a:cubicBezTo>
                  <a:pt x="85575" y="47707"/>
                  <a:pt x="82181" y="37170"/>
                  <a:pt x="77090" y="28975"/>
                </a:cubicBezTo>
                <a:cubicBezTo>
                  <a:pt x="83878" y="20780"/>
                  <a:pt x="83878" y="20780"/>
                  <a:pt x="83878" y="20780"/>
                </a:cubicBezTo>
                <a:cubicBezTo>
                  <a:pt x="90666" y="31024"/>
                  <a:pt x="95757" y="45365"/>
                  <a:pt x="95757" y="60000"/>
                </a:cubicBezTo>
                <a:cubicBezTo>
                  <a:pt x="95757" y="74048"/>
                  <a:pt x="90666" y="88682"/>
                  <a:pt x="83878" y="98926"/>
                </a:cubicBezTo>
                <a:close/>
                <a:moveTo>
                  <a:pt x="56484" y="103024"/>
                </a:moveTo>
                <a:lnTo>
                  <a:pt x="56484" y="103024"/>
                </a:lnTo>
                <a:cubicBezTo>
                  <a:pt x="54787" y="103024"/>
                  <a:pt x="53090" y="103024"/>
                  <a:pt x="53090" y="103024"/>
                </a:cubicBezTo>
                <a:lnTo>
                  <a:pt x="53090" y="103024"/>
                </a:lnTo>
                <a:cubicBezTo>
                  <a:pt x="29090" y="82536"/>
                  <a:pt x="29090" y="82536"/>
                  <a:pt x="29090" y="82536"/>
                </a:cubicBezTo>
                <a:cubicBezTo>
                  <a:pt x="6787" y="82536"/>
                  <a:pt x="6787" y="82536"/>
                  <a:pt x="6787" y="82536"/>
                </a:cubicBezTo>
                <a:cubicBezTo>
                  <a:pt x="1696" y="82536"/>
                  <a:pt x="0" y="78146"/>
                  <a:pt x="0" y="74048"/>
                </a:cubicBezTo>
                <a:cubicBezTo>
                  <a:pt x="0" y="45365"/>
                  <a:pt x="0" y="45365"/>
                  <a:pt x="0" y="45365"/>
                </a:cubicBezTo>
                <a:cubicBezTo>
                  <a:pt x="0" y="41268"/>
                  <a:pt x="1696" y="37170"/>
                  <a:pt x="6787" y="37170"/>
                </a:cubicBezTo>
                <a:lnTo>
                  <a:pt x="6787" y="37170"/>
                </a:lnTo>
                <a:cubicBezTo>
                  <a:pt x="29090" y="37170"/>
                  <a:pt x="29090" y="37170"/>
                  <a:pt x="29090" y="37170"/>
                </a:cubicBezTo>
                <a:cubicBezTo>
                  <a:pt x="51151" y="14634"/>
                  <a:pt x="51151" y="14634"/>
                  <a:pt x="51151" y="14634"/>
                </a:cubicBezTo>
                <a:lnTo>
                  <a:pt x="51151" y="14634"/>
                </a:lnTo>
                <a:cubicBezTo>
                  <a:pt x="53090" y="14634"/>
                  <a:pt x="54787" y="12292"/>
                  <a:pt x="56484" y="12292"/>
                </a:cubicBezTo>
                <a:cubicBezTo>
                  <a:pt x="59878" y="12292"/>
                  <a:pt x="63272" y="16682"/>
                  <a:pt x="63272" y="20780"/>
                </a:cubicBezTo>
                <a:cubicBezTo>
                  <a:pt x="63272" y="45365"/>
                  <a:pt x="63272" y="45365"/>
                  <a:pt x="63272" y="45365"/>
                </a:cubicBezTo>
                <a:cubicBezTo>
                  <a:pt x="63272" y="65853"/>
                  <a:pt x="63272" y="65853"/>
                  <a:pt x="63272" y="65853"/>
                </a:cubicBezTo>
                <a:cubicBezTo>
                  <a:pt x="63272" y="74048"/>
                  <a:pt x="63272" y="74048"/>
                  <a:pt x="63272" y="74048"/>
                </a:cubicBezTo>
                <a:cubicBezTo>
                  <a:pt x="63272" y="82536"/>
                  <a:pt x="63272" y="82536"/>
                  <a:pt x="63272" y="82536"/>
                </a:cubicBezTo>
                <a:cubicBezTo>
                  <a:pt x="63272" y="94829"/>
                  <a:pt x="63272" y="94829"/>
                  <a:pt x="63272" y="94829"/>
                </a:cubicBezTo>
                <a:cubicBezTo>
                  <a:pt x="63272" y="100975"/>
                  <a:pt x="59878" y="103024"/>
                  <a:pt x="56484" y="10302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Shape 4998"/>
          <p:cNvSpPr/>
          <p:nvPr/>
        </p:nvSpPr>
        <p:spPr>
          <a:xfrm>
            <a:off x="3651120" y="1654200"/>
            <a:ext cx="189000" cy="147600"/>
          </a:xfrm>
          <a:custGeom>
            <a:avLst/>
            <a:gdLst>
              <a:gd name="textAreaLeft" fmla="*/ 0 w 189000"/>
              <a:gd name="textAreaRight" fmla="*/ 189360 w 18900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20000" h="120000">
                <a:moveTo>
                  <a:pt x="107002" y="114212"/>
                </a:moveTo>
                <a:lnTo>
                  <a:pt x="107002" y="114212"/>
                </a:lnTo>
                <a:cubicBezTo>
                  <a:pt x="98539" y="103408"/>
                  <a:pt x="98539" y="103408"/>
                  <a:pt x="98539" y="103408"/>
                </a:cubicBezTo>
                <a:cubicBezTo>
                  <a:pt x="104886" y="92604"/>
                  <a:pt x="109118" y="78713"/>
                  <a:pt x="109118" y="62893"/>
                </a:cubicBezTo>
                <a:cubicBezTo>
                  <a:pt x="109118" y="46688"/>
                  <a:pt x="104886" y="32797"/>
                  <a:pt x="98539" y="21993"/>
                </a:cubicBezTo>
                <a:cubicBezTo>
                  <a:pt x="107002" y="11189"/>
                  <a:pt x="107002" y="11189"/>
                  <a:pt x="107002" y="11189"/>
                </a:cubicBezTo>
                <a:cubicBezTo>
                  <a:pt x="115465" y="24694"/>
                  <a:pt x="119697" y="43601"/>
                  <a:pt x="119697" y="62893"/>
                </a:cubicBezTo>
                <a:cubicBezTo>
                  <a:pt x="119697" y="81414"/>
                  <a:pt x="115465" y="100707"/>
                  <a:pt x="107002" y="114212"/>
                </a:cubicBezTo>
                <a:close/>
                <a:moveTo>
                  <a:pt x="72846" y="119614"/>
                </a:moveTo>
                <a:lnTo>
                  <a:pt x="72846" y="119614"/>
                </a:lnTo>
                <a:cubicBezTo>
                  <a:pt x="70730" y="119614"/>
                  <a:pt x="68312" y="119614"/>
                  <a:pt x="66196" y="119614"/>
                </a:cubicBezTo>
                <a:lnTo>
                  <a:pt x="66196" y="119614"/>
                </a:lnTo>
                <a:cubicBezTo>
                  <a:pt x="38690" y="92604"/>
                  <a:pt x="38690" y="92604"/>
                  <a:pt x="38690" y="92604"/>
                </a:cubicBezTo>
                <a:cubicBezTo>
                  <a:pt x="8765" y="92604"/>
                  <a:pt x="8765" y="92604"/>
                  <a:pt x="8765" y="92604"/>
                </a:cubicBezTo>
                <a:cubicBezTo>
                  <a:pt x="4534" y="92604"/>
                  <a:pt x="0" y="86816"/>
                  <a:pt x="0" y="81414"/>
                </a:cubicBezTo>
                <a:cubicBezTo>
                  <a:pt x="0" y="43601"/>
                  <a:pt x="0" y="43601"/>
                  <a:pt x="0" y="43601"/>
                </a:cubicBezTo>
                <a:cubicBezTo>
                  <a:pt x="0" y="38199"/>
                  <a:pt x="4534" y="32797"/>
                  <a:pt x="8765" y="32797"/>
                </a:cubicBezTo>
                <a:lnTo>
                  <a:pt x="8765" y="32797"/>
                </a:lnTo>
                <a:cubicBezTo>
                  <a:pt x="38690" y="32797"/>
                  <a:pt x="38690" y="32797"/>
                  <a:pt x="38690" y="32797"/>
                </a:cubicBezTo>
                <a:cubicBezTo>
                  <a:pt x="66196" y="3086"/>
                  <a:pt x="66196" y="3086"/>
                  <a:pt x="66196" y="3086"/>
                </a:cubicBezTo>
                <a:lnTo>
                  <a:pt x="66196" y="3086"/>
                </a:lnTo>
                <a:cubicBezTo>
                  <a:pt x="68312" y="3086"/>
                  <a:pt x="70730" y="0"/>
                  <a:pt x="72846" y="0"/>
                </a:cubicBezTo>
                <a:cubicBezTo>
                  <a:pt x="77078" y="0"/>
                  <a:pt x="81309" y="5787"/>
                  <a:pt x="81309" y="11189"/>
                </a:cubicBezTo>
                <a:cubicBezTo>
                  <a:pt x="81309" y="43601"/>
                  <a:pt x="81309" y="43601"/>
                  <a:pt x="81309" y="43601"/>
                </a:cubicBezTo>
                <a:cubicBezTo>
                  <a:pt x="81309" y="70610"/>
                  <a:pt x="81309" y="70610"/>
                  <a:pt x="81309" y="70610"/>
                </a:cubicBezTo>
                <a:cubicBezTo>
                  <a:pt x="81309" y="81414"/>
                  <a:pt x="81309" y="81414"/>
                  <a:pt x="81309" y="81414"/>
                </a:cubicBezTo>
                <a:cubicBezTo>
                  <a:pt x="81309" y="92604"/>
                  <a:pt x="81309" y="92604"/>
                  <a:pt x="81309" y="92604"/>
                </a:cubicBezTo>
                <a:cubicBezTo>
                  <a:pt x="81309" y="108810"/>
                  <a:pt x="81309" y="108810"/>
                  <a:pt x="81309" y="108810"/>
                </a:cubicBezTo>
                <a:cubicBezTo>
                  <a:pt x="81309" y="116913"/>
                  <a:pt x="77078" y="119614"/>
                  <a:pt x="72846" y="11961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Shape 4999"/>
          <p:cNvSpPr/>
          <p:nvPr/>
        </p:nvSpPr>
        <p:spPr>
          <a:xfrm>
            <a:off x="3181320" y="1654200"/>
            <a:ext cx="231840" cy="147600"/>
          </a:xfrm>
          <a:custGeom>
            <a:avLst/>
            <a:gdLst>
              <a:gd name="textAreaLeft" fmla="*/ 0 w 231840"/>
              <a:gd name="textAreaRight" fmla="*/ 232200 w 231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20000" h="120000">
                <a:moveTo>
                  <a:pt x="118032" y="49389"/>
                </a:moveTo>
                <a:lnTo>
                  <a:pt x="118032" y="49389"/>
                </a:lnTo>
                <a:cubicBezTo>
                  <a:pt x="109426" y="62893"/>
                  <a:pt x="109426" y="62893"/>
                  <a:pt x="109426" y="62893"/>
                </a:cubicBezTo>
                <a:cubicBezTo>
                  <a:pt x="118032" y="76012"/>
                  <a:pt x="118032" y="76012"/>
                  <a:pt x="118032" y="76012"/>
                </a:cubicBezTo>
                <a:lnTo>
                  <a:pt x="118032" y="76012"/>
                </a:lnTo>
                <a:cubicBezTo>
                  <a:pt x="119754" y="78713"/>
                  <a:pt x="119754" y="81414"/>
                  <a:pt x="119754" y="84115"/>
                </a:cubicBezTo>
                <a:cubicBezTo>
                  <a:pt x="119754" y="89903"/>
                  <a:pt x="118032" y="95305"/>
                  <a:pt x="112868" y="95305"/>
                </a:cubicBezTo>
                <a:cubicBezTo>
                  <a:pt x="111147" y="95305"/>
                  <a:pt x="109426" y="95305"/>
                  <a:pt x="109426" y="92604"/>
                </a:cubicBezTo>
                <a:lnTo>
                  <a:pt x="109426" y="92604"/>
                </a:lnTo>
                <a:cubicBezTo>
                  <a:pt x="99098" y="78713"/>
                  <a:pt x="99098" y="78713"/>
                  <a:pt x="99098" y="78713"/>
                </a:cubicBezTo>
                <a:cubicBezTo>
                  <a:pt x="90245" y="92604"/>
                  <a:pt x="90245" y="92604"/>
                  <a:pt x="90245" y="92604"/>
                </a:cubicBezTo>
                <a:lnTo>
                  <a:pt x="90245" y="92604"/>
                </a:lnTo>
                <a:cubicBezTo>
                  <a:pt x="88524" y="95305"/>
                  <a:pt x="86803" y="95305"/>
                  <a:pt x="85081" y="95305"/>
                </a:cubicBezTo>
                <a:cubicBezTo>
                  <a:pt x="81639" y="95305"/>
                  <a:pt x="78196" y="89903"/>
                  <a:pt x="78196" y="84115"/>
                </a:cubicBezTo>
                <a:cubicBezTo>
                  <a:pt x="78196" y="81414"/>
                  <a:pt x="79918" y="78713"/>
                  <a:pt x="81639" y="76012"/>
                </a:cubicBezTo>
                <a:lnTo>
                  <a:pt x="81639" y="76012"/>
                </a:lnTo>
                <a:cubicBezTo>
                  <a:pt x="90245" y="62893"/>
                  <a:pt x="90245" y="62893"/>
                  <a:pt x="90245" y="62893"/>
                </a:cubicBezTo>
                <a:cubicBezTo>
                  <a:pt x="81639" y="49389"/>
                  <a:pt x="81639" y="49389"/>
                  <a:pt x="81639" y="49389"/>
                </a:cubicBezTo>
                <a:lnTo>
                  <a:pt x="81639" y="49389"/>
                </a:lnTo>
                <a:cubicBezTo>
                  <a:pt x="79918" y="46688"/>
                  <a:pt x="78196" y="43601"/>
                  <a:pt x="78196" y="40900"/>
                </a:cubicBezTo>
                <a:cubicBezTo>
                  <a:pt x="78196" y="35498"/>
                  <a:pt x="81639" y="30096"/>
                  <a:pt x="85081" y="30096"/>
                </a:cubicBezTo>
                <a:cubicBezTo>
                  <a:pt x="86803" y="30096"/>
                  <a:pt x="88524" y="30096"/>
                  <a:pt x="90245" y="32797"/>
                </a:cubicBezTo>
                <a:lnTo>
                  <a:pt x="90245" y="32797"/>
                </a:lnTo>
                <a:cubicBezTo>
                  <a:pt x="99098" y="46688"/>
                  <a:pt x="99098" y="46688"/>
                  <a:pt x="99098" y="46688"/>
                </a:cubicBezTo>
                <a:cubicBezTo>
                  <a:pt x="109426" y="32797"/>
                  <a:pt x="109426" y="32797"/>
                  <a:pt x="109426" y="32797"/>
                </a:cubicBezTo>
                <a:lnTo>
                  <a:pt x="109426" y="32797"/>
                </a:lnTo>
                <a:cubicBezTo>
                  <a:pt x="109426" y="30096"/>
                  <a:pt x="111147" y="30096"/>
                  <a:pt x="112868" y="30096"/>
                </a:cubicBezTo>
                <a:cubicBezTo>
                  <a:pt x="118032" y="30096"/>
                  <a:pt x="119754" y="35498"/>
                  <a:pt x="119754" y="40900"/>
                </a:cubicBezTo>
                <a:cubicBezTo>
                  <a:pt x="119754" y="43601"/>
                  <a:pt x="119754" y="46688"/>
                  <a:pt x="118032" y="49389"/>
                </a:cubicBezTo>
                <a:close/>
                <a:moveTo>
                  <a:pt x="57295" y="119614"/>
                </a:moveTo>
                <a:lnTo>
                  <a:pt x="57295" y="119614"/>
                </a:lnTo>
                <a:cubicBezTo>
                  <a:pt x="55573" y="119614"/>
                  <a:pt x="55573" y="119614"/>
                  <a:pt x="53852" y="119614"/>
                </a:cubicBezTo>
                <a:lnTo>
                  <a:pt x="53852" y="119614"/>
                </a:lnTo>
                <a:cubicBezTo>
                  <a:pt x="29508" y="92604"/>
                  <a:pt x="29508" y="92604"/>
                  <a:pt x="29508" y="92604"/>
                </a:cubicBezTo>
                <a:cubicBezTo>
                  <a:pt x="6885" y="92604"/>
                  <a:pt x="6885" y="92604"/>
                  <a:pt x="6885" y="92604"/>
                </a:cubicBezTo>
                <a:cubicBezTo>
                  <a:pt x="3442" y="92604"/>
                  <a:pt x="0" y="86816"/>
                  <a:pt x="0" y="81414"/>
                </a:cubicBezTo>
                <a:cubicBezTo>
                  <a:pt x="0" y="43601"/>
                  <a:pt x="0" y="43601"/>
                  <a:pt x="0" y="43601"/>
                </a:cubicBezTo>
                <a:cubicBezTo>
                  <a:pt x="0" y="38199"/>
                  <a:pt x="3442" y="32797"/>
                  <a:pt x="6885" y="32797"/>
                </a:cubicBezTo>
                <a:lnTo>
                  <a:pt x="6885" y="32797"/>
                </a:lnTo>
                <a:cubicBezTo>
                  <a:pt x="29508" y="32797"/>
                  <a:pt x="29508" y="32797"/>
                  <a:pt x="29508" y="32797"/>
                </a:cubicBezTo>
                <a:cubicBezTo>
                  <a:pt x="53852" y="3086"/>
                  <a:pt x="53852" y="3086"/>
                  <a:pt x="53852" y="3086"/>
                </a:cubicBezTo>
                <a:lnTo>
                  <a:pt x="53852" y="3086"/>
                </a:lnTo>
                <a:cubicBezTo>
                  <a:pt x="55573" y="3086"/>
                  <a:pt x="55573" y="0"/>
                  <a:pt x="57295" y="0"/>
                </a:cubicBezTo>
                <a:cubicBezTo>
                  <a:pt x="62459" y="0"/>
                  <a:pt x="64180" y="5787"/>
                  <a:pt x="64180" y="11189"/>
                </a:cubicBezTo>
                <a:cubicBezTo>
                  <a:pt x="64180" y="43601"/>
                  <a:pt x="64180" y="43601"/>
                  <a:pt x="64180" y="43601"/>
                </a:cubicBezTo>
                <a:cubicBezTo>
                  <a:pt x="64180" y="70610"/>
                  <a:pt x="64180" y="70610"/>
                  <a:pt x="64180" y="70610"/>
                </a:cubicBezTo>
                <a:cubicBezTo>
                  <a:pt x="64180" y="81414"/>
                  <a:pt x="64180" y="81414"/>
                  <a:pt x="64180" y="81414"/>
                </a:cubicBezTo>
                <a:cubicBezTo>
                  <a:pt x="64180" y="92604"/>
                  <a:pt x="64180" y="92604"/>
                  <a:pt x="64180" y="92604"/>
                </a:cubicBezTo>
                <a:cubicBezTo>
                  <a:pt x="64180" y="108810"/>
                  <a:pt x="64180" y="108810"/>
                  <a:pt x="64180" y="108810"/>
                </a:cubicBezTo>
                <a:cubicBezTo>
                  <a:pt x="64180" y="116913"/>
                  <a:pt x="62459" y="119614"/>
                  <a:pt x="57295" y="11961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Shape 5000"/>
          <p:cNvSpPr/>
          <p:nvPr/>
        </p:nvSpPr>
        <p:spPr>
          <a:xfrm>
            <a:off x="2682720" y="1654200"/>
            <a:ext cx="231840" cy="147600"/>
          </a:xfrm>
          <a:custGeom>
            <a:avLst/>
            <a:gdLst>
              <a:gd name="textAreaLeft" fmla="*/ 0 w 231840"/>
              <a:gd name="textAreaRight" fmla="*/ 232200 w 231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20000" h="120000">
                <a:moveTo>
                  <a:pt x="112868" y="73311"/>
                </a:moveTo>
                <a:lnTo>
                  <a:pt x="112868" y="73311"/>
                </a:lnTo>
                <a:cubicBezTo>
                  <a:pt x="85081" y="73311"/>
                  <a:pt x="85081" y="73311"/>
                  <a:pt x="85081" y="73311"/>
                </a:cubicBezTo>
                <a:cubicBezTo>
                  <a:pt x="81639" y="73311"/>
                  <a:pt x="78196" y="67909"/>
                  <a:pt x="78196" y="62893"/>
                </a:cubicBezTo>
                <a:cubicBezTo>
                  <a:pt x="78196" y="57491"/>
                  <a:pt x="81639" y="52090"/>
                  <a:pt x="85081" y="52090"/>
                </a:cubicBezTo>
                <a:cubicBezTo>
                  <a:pt x="112868" y="52090"/>
                  <a:pt x="112868" y="52090"/>
                  <a:pt x="112868" y="52090"/>
                </a:cubicBezTo>
                <a:cubicBezTo>
                  <a:pt x="116311" y="52090"/>
                  <a:pt x="119754" y="57491"/>
                  <a:pt x="119754" y="62893"/>
                </a:cubicBezTo>
                <a:cubicBezTo>
                  <a:pt x="119754" y="67909"/>
                  <a:pt x="116311" y="73311"/>
                  <a:pt x="112868" y="73311"/>
                </a:cubicBezTo>
                <a:close/>
                <a:moveTo>
                  <a:pt x="57295" y="119614"/>
                </a:moveTo>
                <a:lnTo>
                  <a:pt x="57295" y="119614"/>
                </a:lnTo>
                <a:cubicBezTo>
                  <a:pt x="55573" y="119614"/>
                  <a:pt x="53852" y="119614"/>
                  <a:pt x="53852" y="119614"/>
                </a:cubicBezTo>
                <a:lnTo>
                  <a:pt x="53852" y="119614"/>
                </a:lnTo>
                <a:cubicBezTo>
                  <a:pt x="29508" y="92604"/>
                  <a:pt x="29508" y="92604"/>
                  <a:pt x="29508" y="92604"/>
                </a:cubicBezTo>
                <a:cubicBezTo>
                  <a:pt x="6885" y="92604"/>
                  <a:pt x="6885" y="92604"/>
                  <a:pt x="6885" y="92604"/>
                </a:cubicBezTo>
                <a:cubicBezTo>
                  <a:pt x="1721" y="92604"/>
                  <a:pt x="0" y="86816"/>
                  <a:pt x="0" y="81414"/>
                </a:cubicBezTo>
                <a:cubicBezTo>
                  <a:pt x="0" y="43601"/>
                  <a:pt x="0" y="43601"/>
                  <a:pt x="0" y="43601"/>
                </a:cubicBezTo>
                <a:cubicBezTo>
                  <a:pt x="0" y="38199"/>
                  <a:pt x="1721" y="32797"/>
                  <a:pt x="6885" y="32797"/>
                </a:cubicBezTo>
                <a:lnTo>
                  <a:pt x="6885" y="32797"/>
                </a:lnTo>
                <a:cubicBezTo>
                  <a:pt x="29508" y="32797"/>
                  <a:pt x="29508" y="32797"/>
                  <a:pt x="29508" y="32797"/>
                </a:cubicBezTo>
                <a:cubicBezTo>
                  <a:pt x="52131" y="3086"/>
                  <a:pt x="52131" y="3086"/>
                  <a:pt x="52131" y="3086"/>
                </a:cubicBezTo>
                <a:lnTo>
                  <a:pt x="52131" y="3086"/>
                </a:lnTo>
                <a:cubicBezTo>
                  <a:pt x="53852" y="3086"/>
                  <a:pt x="55573" y="0"/>
                  <a:pt x="57295" y="0"/>
                </a:cubicBezTo>
                <a:cubicBezTo>
                  <a:pt x="60737" y="0"/>
                  <a:pt x="64180" y="5787"/>
                  <a:pt x="64180" y="11189"/>
                </a:cubicBezTo>
                <a:cubicBezTo>
                  <a:pt x="64180" y="43601"/>
                  <a:pt x="64180" y="43601"/>
                  <a:pt x="64180" y="43601"/>
                </a:cubicBezTo>
                <a:cubicBezTo>
                  <a:pt x="64180" y="70610"/>
                  <a:pt x="64180" y="70610"/>
                  <a:pt x="64180" y="70610"/>
                </a:cubicBezTo>
                <a:cubicBezTo>
                  <a:pt x="64180" y="81414"/>
                  <a:pt x="64180" y="81414"/>
                  <a:pt x="64180" y="81414"/>
                </a:cubicBezTo>
                <a:cubicBezTo>
                  <a:pt x="64180" y="92604"/>
                  <a:pt x="64180" y="92604"/>
                  <a:pt x="64180" y="92604"/>
                </a:cubicBezTo>
                <a:cubicBezTo>
                  <a:pt x="64180" y="108810"/>
                  <a:pt x="64180" y="108810"/>
                  <a:pt x="64180" y="108810"/>
                </a:cubicBezTo>
                <a:cubicBezTo>
                  <a:pt x="64180" y="116913"/>
                  <a:pt x="60737" y="119614"/>
                  <a:pt x="57295" y="11961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Shape 5001"/>
          <p:cNvSpPr/>
          <p:nvPr/>
        </p:nvSpPr>
        <p:spPr>
          <a:xfrm>
            <a:off x="2179800" y="1654200"/>
            <a:ext cx="233280" cy="147600"/>
          </a:xfrm>
          <a:custGeom>
            <a:avLst/>
            <a:gdLst>
              <a:gd name="textAreaLeft" fmla="*/ 0 w 233280"/>
              <a:gd name="textAreaRight" fmla="*/ 233640 w 23328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20000" h="120000">
                <a:moveTo>
                  <a:pt x="112969" y="73311"/>
                </a:moveTo>
                <a:lnTo>
                  <a:pt x="112969" y="73311"/>
                </a:lnTo>
                <a:cubicBezTo>
                  <a:pt x="106181" y="73311"/>
                  <a:pt x="106181" y="73311"/>
                  <a:pt x="106181" y="73311"/>
                </a:cubicBezTo>
                <a:cubicBezTo>
                  <a:pt x="106181" y="84115"/>
                  <a:pt x="106181" y="84115"/>
                  <a:pt x="106181" y="84115"/>
                </a:cubicBezTo>
                <a:cubicBezTo>
                  <a:pt x="106181" y="89903"/>
                  <a:pt x="102787" y="95305"/>
                  <a:pt x="99393" y="95305"/>
                </a:cubicBezTo>
                <a:cubicBezTo>
                  <a:pt x="94060" y="95305"/>
                  <a:pt x="92363" y="89903"/>
                  <a:pt x="92363" y="84115"/>
                </a:cubicBezTo>
                <a:cubicBezTo>
                  <a:pt x="92363" y="73311"/>
                  <a:pt x="92363" y="73311"/>
                  <a:pt x="92363" y="73311"/>
                </a:cubicBezTo>
                <a:cubicBezTo>
                  <a:pt x="85575" y="73311"/>
                  <a:pt x="85575" y="73311"/>
                  <a:pt x="85575" y="73311"/>
                </a:cubicBezTo>
                <a:cubicBezTo>
                  <a:pt x="80484" y="73311"/>
                  <a:pt x="78787" y="67909"/>
                  <a:pt x="78787" y="62893"/>
                </a:cubicBezTo>
                <a:cubicBezTo>
                  <a:pt x="78787" y="57491"/>
                  <a:pt x="80484" y="52090"/>
                  <a:pt x="85575" y="52090"/>
                </a:cubicBezTo>
                <a:cubicBezTo>
                  <a:pt x="92363" y="52090"/>
                  <a:pt x="92363" y="52090"/>
                  <a:pt x="92363" y="52090"/>
                </a:cubicBezTo>
                <a:cubicBezTo>
                  <a:pt x="92363" y="40900"/>
                  <a:pt x="92363" y="40900"/>
                  <a:pt x="92363" y="40900"/>
                </a:cubicBezTo>
                <a:cubicBezTo>
                  <a:pt x="92363" y="35498"/>
                  <a:pt x="94060" y="30096"/>
                  <a:pt x="99393" y="30096"/>
                </a:cubicBezTo>
                <a:cubicBezTo>
                  <a:pt x="102787" y="30096"/>
                  <a:pt x="106181" y="35498"/>
                  <a:pt x="106181" y="40900"/>
                </a:cubicBezTo>
                <a:cubicBezTo>
                  <a:pt x="106181" y="52090"/>
                  <a:pt x="106181" y="52090"/>
                  <a:pt x="106181" y="52090"/>
                </a:cubicBezTo>
                <a:cubicBezTo>
                  <a:pt x="112969" y="52090"/>
                  <a:pt x="112969" y="52090"/>
                  <a:pt x="112969" y="52090"/>
                </a:cubicBezTo>
                <a:cubicBezTo>
                  <a:pt x="116363" y="52090"/>
                  <a:pt x="119757" y="57491"/>
                  <a:pt x="119757" y="62893"/>
                </a:cubicBezTo>
                <a:cubicBezTo>
                  <a:pt x="119757" y="67909"/>
                  <a:pt x="116363" y="73311"/>
                  <a:pt x="112969" y="73311"/>
                </a:cubicBezTo>
                <a:close/>
                <a:moveTo>
                  <a:pt x="58181" y="119614"/>
                </a:moveTo>
                <a:lnTo>
                  <a:pt x="58181" y="119614"/>
                </a:lnTo>
                <a:cubicBezTo>
                  <a:pt x="56484" y="119614"/>
                  <a:pt x="54787" y="119614"/>
                  <a:pt x="53090" y="119614"/>
                </a:cubicBezTo>
                <a:lnTo>
                  <a:pt x="53090" y="119614"/>
                </a:lnTo>
                <a:cubicBezTo>
                  <a:pt x="30787" y="92604"/>
                  <a:pt x="30787" y="92604"/>
                  <a:pt x="30787" y="92604"/>
                </a:cubicBezTo>
                <a:cubicBezTo>
                  <a:pt x="6787" y="92604"/>
                  <a:pt x="6787" y="92604"/>
                  <a:pt x="6787" y="92604"/>
                </a:cubicBezTo>
                <a:cubicBezTo>
                  <a:pt x="3393" y="92604"/>
                  <a:pt x="0" y="86816"/>
                  <a:pt x="0" y="81414"/>
                </a:cubicBezTo>
                <a:cubicBezTo>
                  <a:pt x="0" y="43601"/>
                  <a:pt x="0" y="43601"/>
                  <a:pt x="0" y="43601"/>
                </a:cubicBezTo>
                <a:cubicBezTo>
                  <a:pt x="0" y="38199"/>
                  <a:pt x="3393" y="32797"/>
                  <a:pt x="6787" y="32797"/>
                </a:cubicBezTo>
                <a:lnTo>
                  <a:pt x="6787" y="32797"/>
                </a:lnTo>
                <a:cubicBezTo>
                  <a:pt x="30787" y="32797"/>
                  <a:pt x="30787" y="32797"/>
                  <a:pt x="30787" y="32797"/>
                </a:cubicBezTo>
                <a:cubicBezTo>
                  <a:pt x="53090" y="3086"/>
                  <a:pt x="53090" y="3086"/>
                  <a:pt x="53090" y="3086"/>
                </a:cubicBezTo>
                <a:lnTo>
                  <a:pt x="53090" y="3086"/>
                </a:lnTo>
                <a:cubicBezTo>
                  <a:pt x="54787" y="3086"/>
                  <a:pt x="56484" y="0"/>
                  <a:pt x="58181" y="0"/>
                </a:cubicBezTo>
                <a:cubicBezTo>
                  <a:pt x="61575" y="0"/>
                  <a:pt x="64969" y="5787"/>
                  <a:pt x="64969" y="11189"/>
                </a:cubicBezTo>
                <a:cubicBezTo>
                  <a:pt x="64969" y="43601"/>
                  <a:pt x="64969" y="43601"/>
                  <a:pt x="64969" y="43601"/>
                </a:cubicBezTo>
                <a:cubicBezTo>
                  <a:pt x="64969" y="70610"/>
                  <a:pt x="64969" y="70610"/>
                  <a:pt x="64969" y="70610"/>
                </a:cubicBezTo>
                <a:cubicBezTo>
                  <a:pt x="64969" y="81414"/>
                  <a:pt x="64969" y="81414"/>
                  <a:pt x="64969" y="81414"/>
                </a:cubicBezTo>
                <a:cubicBezTo>
                  <a:pt x="64969" y="92604"/>
                  <a:pt x="64969" y="92604"/>
                  <a:pt x="64969" y="92604"/>
                </a:cubicBezTo>
                <a:cubicBezTo>
                  <a:pt x="64969" y="108810"/>
                  <a:pt x="64969" y="108810"/>
                  <a:pt x="64969" y="108810"/>
                </a:cubicBezTo>
                <a:cubicBezTo>
                  <a:pt x="64969" y="116913"/>
                  <a:pt x="61575" y="119614"/>
                  <a:pt x="58181" y="11961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Shape 5002"/>
          <p:cNvSpPr/>
          <p:nvPr/>
        </p:nvSpPr>
        <p:spPr>
          <a:xfrm>
            <a:off x="1711440" y="1654200"/>
            <a:ext cx="177840" cy="147600"/>
          </a:xfrm>
          <a:custGeom>
            <a:avLst/>
            <a:gdLst>
              <a:gd name="textAreaLeft" fmla="*/ 0 w 177840"/>
              <a:gd name="textAreaRight" fmla="*/ 178200 w 177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20000" h="120000">
                <a:moveTo>
                  <a:pt x="117446" y="19292"/>
                </a:moveTo>
                <a:lnTo>
                  <a:pt x="117446" y="19292"/>
                </a:lnTo>
                <a:cubicBezTo>
                  <a:pt x="6702" y="111511"/>
                  <a:pt x="6702" y="111511"/>
                  <a:pt x="6702" y="111511"/>
                </a:cubicBezTo>
                <a:cubicBezTo>
                  <a:pt x="4468" y="111511"/>
                  <a:pt x="4468" y="111511"/>
                  <a:pt x="4468" y="111511"/>
                </a:cubicBezTo>
                <a:cubicBezTo>
                  <a:pt x="0" y="111511"/>
                  <a:pt x="0" y="108810"/>
                  <a:pt x="0" y="106109"/>
                </a:cubicBezTo>
                <a:lnTo>
                  <a:pt x="0" y="103408"/>
                </a:lnTo>
                <a:cubicBezTo>
                  <a:pt x="112978" y="11189"/>
                  <a:pt x="112978" y="11189"/>
                  <a:pt x="112978" y="11189"/>
                </a:cubicBezTo>
                <a:lnTo>
                  <a:pt x="115212" y="11189"/>
                </a:lnTo>
                <a:cubicBezTo>
                  <a:pt x="117446" y="11189"/>
                  <a:pt x="119680" y="13890"/>
                  <a:pt x="119680" y="16591"/>
                </a:cubicBezTo>
                <a:cubicBezTo>
                  <a:pt x="119680" y="16591"/>
                  <a:pt x="119680" y="19292"/>
                  <a:pt x="117446" y="19292"/>
                </a:cubicBezTo>
                <a:close/>
                <a:moveTo>
                  <a:pt x="13723" y="43601"/>
                </a:moveTo>
                <a:lnTo>
                  <a:pt x="13723" y="43601"/>
                </a:lnTo>
                <a:cubicBezTo>
                  <a:pt x="13723" y="38199"/>
                  <a:pt x="15957" y="32797"/>
                  <a:pt x="22659" y="32797"/>
                </a:cubicBezTo>
                <a:lnTo>
                  <a:pt x="22659" y="32797"/>
                </a:lnTo>
                <a:cubicBezTo>
                  <a:pt x="52021" y="32797"/>
                  <a:pt x="52021" y="32797"/>
                  <a:pt x="52021" y="32797"/>
                </a:cubicBezTo>
                <a:cubicBezTo>
                  <a:pt x="81382" y="3086"/>
                  <a:pt x="81382" y="3086"/>
                  <a:pt x="81382" y="3086"/>
                </a:cubicBezTo>
                <a:lnTo>
                  <a:pt x="81382" y="3086"/>
                </a:lnTo>
                <a:cubicBezTo>
                  <a:pt x="83617" y="3086"/>
                  <a:pt x="85851" y="0"/>
                  <a:pt x="88085" y="0"/>
                </a:cubicBezTo>
                <a:cubicBezTo>
                  <a:pt x="92553" y="0"/>
                  <a:pt x="97021" y="5787"/>
                  <a:pt x="97021" y="11189"/>
                </a:cubicBezTo>
                <a:cubicBezTo>
                  <a:pt x="13723" y="78713"/>
                  <a:pt x="13723" y="78713"/>
                  <a:pt x="13723" y="78713"/>
                </a:cubicBezTo>
                <a:lnTo>
                  <a:pt x="13723" y="43601"/>
                </a:lnTo>
                <a:close/>
                <a:moveTo>
                  <a:pt x="97021" y="70610"/>
                </a:moveTo>
                <a:lnTo>
                  <a:pt x="97021" y="70610"/>
                </a:lnTo>
                <a:cubicBezTo>
                  <a:pt x="97021" y="81414"/>
                  <a:pt x="97021" y="81414"/>
                  <a:pt x="97021" y="81414"/>
                </a:cubicBezTo>
                <a:cubicBezTo>
                  <a:pt x="97021" y="92604"/>
                  <a:pt x="97021" y="92604"/>
                  <a:pt x="97021" y="92604"/>
                </a:cubicBezTo>
                <a:cubicBezTo>
                  <a:pt x="97021" y="108810"/>
                  <a:pt x="97021" y="108810"/>
                  <a:pt x="97021" y="108810"/>
                </a:cubicBezTo>
                <a:cubicBezTo>
                  <a:pt x="97021" y="116913"/>
                  <a:pt x="92553" y="119614"/>
                  <a:pt x="88085" y="119614"/>
                </a:cubicBezTo>
                <a:cubicBezTo>
                  <a:pt x="85851" y="119614"/>
                  <a:pt x="83617" y="119614"/>
                  <a:pt x="83617" y="119614"/>
                </a:cubicBezTo>
                <a:lnTo>
                  <a:pt x="83617" y="119614"/>
                </a:lnTo>
                <a:cubicBezTo>
                  <a:pt x="52021" y="92604"/>
                  <a:pt x="52021" y="92604"/>
                  <a:pt x="52021" y="92604"/>
                </a:cubicBezTo>
                <a:cubicBezTo>
                  <a:pt x="45000" y="92604"/>
                  <a:pt x="45000" y="92604"/>
                  <a:pt x="45000" y="92604"/>
                </a:cubicBezTo>
                <a:cubicBezTo>
                  <a:pt x="97021" y="49389"/>
                  <a:pt x="97021" y="49389"/>
                  <a:pt x="97021" y="49389"/>
                </a:cubicBezTo>
                <a:lnTo>
                  <a:pt x="97021" y="7061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Shape 5003"/>
          <p:cNvSpPr/>
          <p:nvPr/>
        </p:nvSpPr>
        <p:spPr>
          <a:xfrm>
            <a:off x="7155000" y="1090440"/>
            <a:ext cx="287280" cy="285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20000" h="120000">
                <a:moveTo>
                  <a:pt x="114219" y="91495"/>
                </a:moveTo>
                <a:lnTo>
                  <a:pt x="114219" y="91495"/>
                </a:lnTo>
                <a:cubicBezTo>
                  <a:pt x="95880" y="91495"/>
                  <a:pt x="95880" y="91495"/>
                  <a:pt x="95880" y="91495"/>
                </a:cubicBezTo>
                <a:cubicBezTo>
                  <a:pt x="95880" y="85913"/>
                  <a:pt x="95880" y="85913"/>
                  <a:pt x="95880" y="85913"/>
                </a:cubicBezTo>
                <a:cubicBezTo>
                  <a:pt x="95880" y="84518"/>
                  <a:pt x="95880" y="84518"/>
                  <a:pt x="95880" y="84518"/>
                </a:cubicBezTo>
                <a:cubicBezTo>
                  <a:pt x="95880" y="74551"/>
                  <a:pt x="95880" y="74551"/>
                  <a:pt x="95880" y="74551"/>
                </a:cubicBezTo>
                <a:cubicBezTo>
                  <a:pt x="95880" y="68970"/>
                  <a:pt x="95880" y="68970"/>
                  <a:pt x="95880" y="68970"/>
                </a:cubicBezTo>
                <a:cubicBezTo>
                  <a:pt x="95880" y="63388"/>
                  <a:pt x="95880" y="63388"/>
                  <a:pt x="95880" y="63388"/>
                </a:cubicBezTo>
                <a:cubicBezTo>
                  <a:pt x="23920" y="63388"/>
                  <a:pt x="23920" y="63388"/>
                  <a:pt x="23920" y="63388"/>
                </a:cubicBezTo>
                <a:cubicBezTo>
                  <a:pt x="23920" y="68970"/>
                  <a:pt x="23920" y="68970"/>
                  <a:pt x="23920" y="68970"/>
                </a:cubicBezTo>
                <a:cubicBezTo>
                  <a:pt x="23920" y="74551"/>
                  <a:pt x="23920" y="74551"/>
                  <a:pt x="23920" y="74551"/>
                </a:cubicBezTo>
                <a:cubicBezTo>
                  <a:pt x="23920" y="84518"/>
                  <a:pt x="23920" y="84518"/>
                  <a:pt x="23920" y="84518"/>
                </a:cubicBezTo>
                <a:cubicBezTo>
                  <a:pt x="23920" y="85913"/>
                  <a:pt x="23920" y="85913"/>
                  <a:pt x="23920" y="85913"/>
                </a:cubicBezTo>
                <a:cubicBezTo>
                  <a:pt x="23920" y="91495"/>
                  <a:pt x="23920" y="91495"/>
                  <a:pt x="23920" y="91495"/>
                </a:cubicBezTo>
                <a:cubicBezTo>
                  <a:pt x="5581" y="91495"/>
                  <a:pt x="5581" y="91495"/>
                  <a:pt x="5581" y="91495"/>
                </a:cubicBezTo>
                <a:cubicBezTo>
                  <a:pt x="1395" y="91495"/>
                  <a:pt x="0" y="90099"/>
                  <a:pt x="0" y="85913"/>
                </a:cubicBezTo>
                <a:cubicBezTo>
                  <a:pt x="0" y="33687"/>
                  <a:pt x="0" y="33687"/>
                  <a:pt x="0" y="33687"/>
                </a:cubicBezTo>
                <a:cubicBezTo>
                  <a:pt x="0" y="30897"/>
                  <a:pt x="1395" y="28106"/>
                  <a:pt x="5581" y="28106"/>
                </a:cubicBezTo>
                <a:cubicBezTo>
                  <a:pt x="114219" y="28106"/>
                  <a:pt x="114219" y="28106"/>
                  <a:pt x="114219" y="28106"/>
                </a:cubicBezTo>
                <a:cubicBezTo>
                  <a:pt x="117009" y="28106"/>
                  <a:pt x="119800" y="30897"/>
                  <a:pt x="119800" y="33687"/>
                </a:cubicBezTo>
                <a:cubicBezTo>
                  <a:pt x="119800" y="85913"/>
                  <a:pt x="119800" y="85913"/>
                  <a:pt x="119800" y="85913"/>
                </a:cubicBezTo>
                <a:cubicBezTo>
                  <a:pt x="119800" y="90099"/>
                  <a:pt x="117009" y="91495"/>
                  <a:pt x="114219" y="91495"/>
                </a:cubicBezTo>
                <a:close/>
                <a:moveTo>
                  <a:pt x="16943" y="39468"/>
                </a:moveTo>
                <a:lnTo>
                  <a:pt x="16943" y="39468"/>
                </a:lnTo>
                <a:cubicBezTo>
                  <a:pt x="12757" y="39468"/>
                  <a:pt x="11362" y="42259"/>
                  <a:pt x="11362" y="45049"/>
                </a:cubicBezTo>
                <a:cubicBezTo>
                  <a:pt x="11362" y="47840"/>
                  <a:pt x="12757" y="50631"/>
                  <a:pt x="16943" y="50631"/>
                </a:cubicBezTo>
                <a:cubicBezTo>
                  <a:pt x="19734" y="50631"/>
                  <a:pt x="22524" y="47840"/>
                  <a:pt x="22524" y="45049"/>
                </a:cubicBezTo>
                <a:cubicBezTo>
                  <a:pt x="22524" y="42259"/>
                  <a:pt x="19734" y="39468"/>
                  <a:pt x="16943" y="39468"/>
                </a:cubicBezTo>
                <a:close/>
                <a:moveTo>
                  <a:pt x="90099" y="22524"/>
                </a:moveTo>
                <a:lnTo>
                  <a:pt x="90099" y="22524"/>
                </a:lnTo>
                <a:cubicBezTo>
                  <a:pt x="29501" y="22524"/>
                  <a:pt x="29501" y="22524"/>
                  <a:pt x="29501" y="22524"/>
                </a:cubicBezTo>
                <a:lnTo>
                  <a:pt x="29501" y="22524"/>
                </a:lnTo>
                <a:cubicBezTo>
                  <a:pt x="29501" y="16943"/>
                  <a:pt x="29501" y="16943"/>
                  <a:pt x="29501" y="16943"/>
                </a:cubicBezTo>
                <a:lnTo>
                  <a:pt x="29501" y="16943"/>
                </a:lnTo>
                <a:cubicBezTo>
                  <a:pt x="29501" y="5581"/>
                  <a:pt x="29501" y="5581"/>
                  <a:pt x="29501" y="5581"/>
                </a:cubicBezTo>
                <a:cubicBezTo>
                  <a:pt x="29501" y="4186"/>
                  <a:pt x="29501" y="4186"/>
                  <a:pt x="29501" y="2790"/>
                </a:cubicBezTo>
                <a:cubicBezTo>
                  <a:pt x="30897" y="1395"/>
                  <a:pt x="32491" y="0"/>
                  <a:pt x="35282" y="0"/>
                </a:cubicBezTo>
                <a:cubicBezTo>
                  <a:pt x="84518" y="0"/>
                  <a:pt x="84518" y="0"/>
                  <a:pt x="84518" y="0"/>
                </a:cubicBezTo>
                <a:lnTo>
                  <a:pt x="84518" y="0"/>
                </a:lnTo>
                <a:lnTo>
                  <a:pt x="84518" y="0"/>
                </a:lnTo>
                <a:lnTo>
                  <a:pt x="84518" y="0"/>
                </a:lnTo>
                <a:cubicBezTo>
                  <a:pt x="85913" y="0"/>
                  <a:pt x="85913" y="0"/>
                  <a:pt x="87308" y="1395"/>
                </a:cubicBezTo>
                <a:lnTo>
                  <a:pt x="87308" y="1395"/>
                </a:lnTo>
                <a:lnTo>
                  <a:pt x="87308" y="1395"/>
                </a:lnTo>
                <a:lnTo>
                  <a:pt x="87308" y="1395"/>
                </a:lnTo>
                <a:lnTo>
                  <a:pt x="87308" y="1395"/>
                </a:lnTo>
                <a:lnTo>
                  <a:pt x="87308" y="1395"/>
                </a:lnTo>
                <a:cubicBezTo>
                  <a:pt x="88704" y="1395"/>
                  <a:pt x="88704" y="2790"/>
                  <a:pt x="88704" y="2790"/>
                </a:cubicBezTo>
                <a:lnTo>
                  <a:pt x="88704" y="2790"/>
                </a:lnTo>
                <a:cubicBezTo>
                  <a:pt x="88704" y="2790"/>
                  <a:pt x="90099" y="4186"/>
                  <a:pt x="90099" y="5581"/>
                </a:cubicBezTo>
                <a:lnTo>
                  <a:pt x="90099" y="5581"/>
                </a:lnTo>
                <a:lnTo>
                  <a:pt x="90099" y="5581"/>
                </a:lnTo>
                <a:cubicBezTo>
                  <a:pt x="90099" y="22524"/>
                  <a:pt x="90099" y="22524"/>
                  <a:pt x="90099" y="22524"/>
                </a:cubicBezTo>
                <a:close/>
                <a:moveTo>
                  <a:pt x="90099" y="80332"/>
                </a:moveTo>
                <a:lnTo>
                  <a:pt x="90099" y="80332"/>
                </a:lnTo>
                <a:cubicBezTo>
                  <a:pt x="90099" y="108438"/>
                  <a:pt x="90099" y="108438"/>
                  <a:pt x="90099" y="108438"/>
                </a:cubicBezTo>
                <a:cubicBezTo>
                  <a:pt x="90099" y="111229"/>
                  <a:pt x="90099" y="111229"/>
                  <a:pt x="90099" y="111229"/>
                </a:cubicBezTo>
                <a:cubicBezTo>
                  <a:pt x="90099" y="114019"/>
                  <a:pt x="90099" y="114019"/>
                  <a:pt x="90099" y="114019"/>
                </a:cubicBezTo>
                <a:cubicBezTo>
                  <a:pt x="90099" y="118405"/>
                  <a:pt x="87308" y="119800"/>
                  <a:pt x="84518" y="119800"/>
                </a:cubicBezTo>
                <a:cubicBezTo>
                  <a:pt x="35282" y="119800"/>
                  <a:pt x="35282" y="119800"/>
                  <a:pt x="35282" y="119800"/>
                </a:cubicBezTo>
                <a:cubicBezTo>
                  <a:pt x="32491" y="119800"/>
                  <a:pt x="29501" y="118405"/>
                  <a:pt x="29501" y="114019"/>
                </a:cubicBezTo>
                <a:cubicBezTo>
                  <a:pt x="29501" y="111229"/>
                  <a:pt x="29501" y="111229"/>
                  <a:pt x="29501" y="111229"/>
                </a:cubicBezTo>
                <a:cubicBezTo>
                  <a:pt x="29501" y="108438"/>
                  <a:pt x="29501" y="108438"/>
                  <a:pt x="29501" y="108438"/>
                </a:cubicBezTo>
                <a:cubicBezTo>
                  <a:pt x="29501" y="80332"/>
                  <a:pt x="29501" y="80332"/>
                  <a:pt x="29501" y="80332"/>
                </a:cubicBezTo>
                <a:cubicBezTo>
                  <a:pt x="29501" y="68970"/>
                  <a:pt x="29501" y="68970"/>
                  <a:pt x="29501" y="68970"/>
                </a:cubicBezTo>
                <a:cubicBezTo>
                  <a:pt x="90099" y="68970"/>
                  <a:pt x="90099" y="68970"/>
                  <a:pt x="90099" y="68970"/>
                </a:cubicBezTo>
                <a:lnTo>
                  <a:pt x="90099" y="80332"/>
                </a:lnTo>
                <a:close/>
                <a:moveTo>
                  <a:pt x="78936" y="80332"/>
                </a:moveTo>
                <a:lnTo>
                  <a:pt x="78936" y="80332"/>
                </a:lnTo>
                <a:cubicBezTo>
                  <a:pt x="40863" y="80332"/>
                  <a:pt x="40863" y="80332"/>
                  <a:pt x="40863" y="80332"/>
                </a:cubicBezTo>
                <a:cubicBezTo>
                  <a:pt x="40863" y="85913"/>
                  <a:pt x="40863" y="85913"/>
                  <a:pt x="40863" y="85913"/>
                </a:cubicBezTo>
                <a:cubicBezTo>
                  <a:pt x="78936" y="85913"/>
                  <a:pt x="78936" y="85913"/>
                  <a:pt x="78936" y="85913"/>
                </a:cubicBezTo>
                <a:lnTo>
                  <a:pt x="78936" y="80332"/>
                </a:lnTo>
                <a:close/>
                <a:moveTo>
                  <a:pt x="78936" y="91495"/>
                </a:moveTo>
                <a:lnTo>
                  <a:pt x="78936" y="91495"/>
                </a:lnTo>
                <a:cubicBezTo>
                  <a:pt x="40863" y="91495"/>
                  <a:pt x="40863" y="91495"/>
                  <a:pt x="40863" y="91495"/>
                </a:cubicBezTo>
                <a:cubicBezTo>
                  <a:pt x="40863" y="97076"/>
                  <a:pt x="40863" y="97076"/>
                  <a:pt x="40863" y="97076"/>
                </a:cubicBezTo>
                <a:cubicBezTo>
                  <a:pt x="78936" y="97076"/>
                  <a:pt x="78936" y="97076"/>
                  <a:pt x="78936" y="97076"/>
                </a:cubicBezTo>
                <a:lnTo>
                  <a:pt x="78936" y="91495"/>
                </a:lnTo>
                <a:close/>
                <a:moveTo>
                  <a:pt x="78936" y="102857"/>
                </a:moveTo>
                <a:lnTo>
                  <a:pt x="78936" y="102857"/>
                </a:lnTo>
                <a:cubicBezTo>
                  <a:pt x="40863" y="102857"/>
                  <a:pt x="40863" y="102857"/>
                  <a:pt x="40863" y="102857"/>
                </a:cubicBezTo>
                <a:cubicBezTo>
                  <a:pt x="40863" y="108438"/>
                  <a:pt x="40863" y="108438"/>
                  <a:pt x="40863" y="108438"/>
                </a:cubicBezTo>
                <a:cubicBezTo>
                  <a:pt x="78936" y="108438"/>
                  <a:pt x="78936" y="108438"/>
                  <a:pt x="78936" y="108438"/>
                </a:cubicBezTo>
                <a:lnTo>
                  <a:pt x="78936" y="102857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Shape 5004"/>
          <p:cNvSpPr/>
          <p:nvPr/>
        </p:nvSpPr>
        <p:spPr>
          <a:xfrm>
            <a:off x="6651720" y="1101600"/>
            <a:ext cx="288720" cy="260640"/>
          </a:xfrm>
          <a:custGeom>
            <a:avLst/>
            <a:gdLst>
              <a:gd name="textAreaLeft" fmla="*/ 0 w 288720"/>
              <a:gd name="textAreaRight" fmla="*/ 289080 w 28872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120000" h="120000">
                <a:moveTo>
                  <a:pt x="118423" y="118238"/>
                </a:moveTo>
                <a:lnTo>
                  <a:pt x="118423" y="118238"/>
                </a:lnTo>
                <a:cubicBezTo>
                  <a:pt x="80788" y="70018"/>
                  <a:pt x="80788" y="70018"/>
                  <a:pt x="80788" y="70018"/>
                </a:cubicBezTo>
                <a:cubicBezTo>
                  <a:pt x="117044" y="31045"/>
                  <a:pt x="117044" y="31045"/>
                  <a:pt x="117044" y="31045"/>
                </a:cubicBezTo>
                <a:cubicBezTo>
                  <a:pt x="118423" y="32587"/>
                  <a:pt x="119802" y="34348"/>
                  <a:pt x="119802" y="35889"/>
                </a:cubicBezTo>
                <a:cubicBezTo>
                  <a:pt x="119802" y="113614"/>
                  <a:pt x="119802" y="113614"/>
                  <a:pt x="119802" y="113614"/>
                </a:cubicBezTo>
                <a:cubicBezTo>
                  <a:pt x="119802" y="115155"/>
                  <a:pt x="118423" y="116697"/>
                  <a:pt x="118423" y="118238"/>
                </a:cubicBezTo>
                <a:close/>
                <a:moveTo>
                  <a:pt x="2758" y="31045"/>
                </a:moveTo>
                <a:lnTo>
                  <a:pt x="2758" y="31045"/>
                </a:lnTo>
                <a:cubicBezTo>
                  <a:pt x="2758" y="29504"/>
                  <a:pt x="4137" y="29504"/>
                  <a:pt x="5517" y="29504"/>
                </a:cubicBezTo>
                <a:cubicBezTo>
                  <a:pt x="39014" y="29504"/>
                  <a:pt x="39014" y="29504"/>
                  <a:pt x="39014" y="29504"/>
                </a:cubicBezTo>
                <a:cubicBezTo>
                  <a:pt x="40394" y="31045"/>
                  <a:pt x="43152" y="32587"/>
                  <a:pt x="47290" y="32587"/>
                </a:cubicBezTo>
                <a:lnTo>
                  <a:pt x="48669" y="32587"/>
                </a:lnTo>
                <a:cubicBezTo>
                  <a:pt x="48669" y="49761"/>
                  <a:pt x="48669" y="49761"/>
                  <a:pt x="48669" y="49761"/>
                </a:cubicBezTo>
                <a:cubicBezTo>
                  <a:pt x="48669" y="56146"/>
                  <a:pt x="54384" y="62311"/>
                  <a:pt x="59901" y="62311"/>
                </a:cubicBezTo>
                <a:cubicBezTo>
                  <a:pt x="65418" y="62311"/>
                  <a:pt x="70935" y="56146"/>
                  <a:pt x="70935" y="49761"/>
                </a:cubicBezTo>
                <a:cubicBezTo>
                  <a:pt x="70935" y="32587"/>
                  <a:pt x="70935" y="32587"/>
                  <a:pt x="70935" y="32587"/>
                </a:cubicBezTo>
                <a:lnTo>
                  <a:pt x="72315" y="32587"/>
                </a:lnTo>
                <a:cubicBezTo>
                  <a:pt x="76650" y="32587"/>
                  <a:pt x="79408" y="31045"/>
                  <a:pt x="80788" y="29504"/>
                </a:cubicBezTo>
                <a:cubicBezTo>
                  <a:pt x="114088" y="29504"/>
                  <a:pt x="114088" y="29504"/>
                  <a:pt x="114088" y="29504"/>
                </a:cubicBezTo>
                <a:cubicBezTo>
                  <a:pt x="115665" y="29504"/>
                  <a:pt x="117044" y="29504"/>
                  <a:pt x="117044" y="31045"/>
                </a:cubicBezTo>
                <a:cubicBezTo>
                  <a:pt x="59901" y="81027"/>
                  <a:pt x="59901" y="81027"/>
                  <a:pt x="59901" y="81027"/>
                </a:cubicBezTo>
                <a:lnTo>
                  <a:pt x="2758" y="31045"/>
                </a:lnTo>
                <a:close/>
                <a:moveTo>
                  <a:pt x="72315" y="26422"/>
                </a:moveTo>
                <a:lnTo>
                  <a:pt x="72315" y="26422"/>
                </a:lnTo>
                <a:cubicBezTo>
                  <a:pt x="70935" y="26422"/>
                  <a:pt x="69556" y="26422"/>
                  <a:pt x="69556" y="24880"/>
                </a:cubicBezTo>
                <a:cubicBezTo>
                  <a:pt x="65418" y="21798"/>
                  <a:pt x="65418" y="21798"/>
                  <a:pt x="65418" y="21798"/>
                </a:cubicBezTo>
                <a:cubicBezTo>
                  <a:pt x="65418" y="49761"/>
                  <a:pt x="65418" y="49761"/>
                  <a:pt x="65418" y="49761"/>
                </a:cubicBezTo>
                <a:cubicBezTo>
                  <a:pt x="65418" y="53064"/>
                  <a:pt x="62660" y="56146"/>
                  <a:pt x="59901" y="56146"/>
                </a:cubicBezTo>
                <a:cubicBezTo>
                  <a:pt x="57142" y="56146"/>
                  <a:pt x="54384" y="53064"/>
                  <a:pt x="54384" y="49761"/>
                </a:cubicBezTo>
                <a:cubicBezTo>
                  <a:pt x="54384" y="21798"/>
                  <a:pt x="54384" y="21798"/>
                  <a:pt x="54384" y="21798"/>
                </a:cubicBezTo>
                <a:cubicBezTo>
                  <a:pt x="50049" y="24880"/>
                  <a:pt x="50049" y="24880"/>
                  <a:pt x="50049" y="24880"/>
                </a:cubicBezTo>
                <a:cubicBezTo>
                  <a:pt x="50049" y="26422"/>
                  <a:pt x="48669" y="26422"/>
                  <a:pt x="47290" y="26422"/>
                </a:cubicBezTo>
                <a:cubicBezTo>
                  <a:pt x="43152" y="26422"/>
                  <a:pt x="41773" y="24880"/>
                  <a:pt x="41773" y="20256"/>
                </a:cubicBezTo>
                <a:cubicBezTo>
                  <a:pt x="41773" y="18715"/>
                  <a:pt x="41773" y="17174"/>
                  <a:pt x="43152" y="17174"/>
                </a:cubicBezTo>
                <a:cubicBezTo>
                  <a:pt x="55763" y="1541"/>
                  <a:pt x="55763" y="1541"/>
                  <a:pt x="55763" y="1541"/>
                </a:cubicBezTo>
                <a:cubicBezTo>
                  <a:pt x="57142" y="0"/>
                  <a:pt x="58522" y="0"/>
                  <a:pt x="59901" y="0"/>
                </a:cubicBezTo>
                <a:cubicBezTo>
                  <a:pt x="61280" y="0"/>
                  <a:pt x="62660" y="0"/>
                  <a:pt x="64039" y="1541"/>
                </a:cubicBezTo>
                <a:cubicBezTo>
                  <a:pt x="76650" y="17174"/>
                  <a:pt x="76650" y="17174"/>
                  <a:pt x="76650" y="17174"/>
                </a:cubicBezTo>
                <a:cubicBezTo>
                  <a:pt x="78029" y="17174"/>
                  <a:pt x="78029" y="18715"/>
                  <a:pt x="78029" y="20256"/>
                </a:cubicBezTo>
                <a:cubicBezTo>
                  <a:pt x="78029" y="24880"/>
                  <a:pt x="76650" y="26422"/>
                  <a:pt x="72315" y="26422"/>
                </a:cubicBezTo>
                <a:close/>
                <a:moveTo>
                  <a:pt x="1379" y="118238"/>
                </a:moveTo>
                <a:lnTo>
                  <a:pt x="1379" y="118238"/>
                </a:lnTo>
                <a:cubicBezTo>
                  <a:pt x="1379" y="116697"/>
                  <a:pt x="0" y="115155"/>
                  <a:pt x="0" y="113614"/>
                </a:cubicBezTo>
                <a:cubicBezTo>
                  <a:pt x="0" y="35889"/>
                  <a:pt x="0" y="35889"/>
                  <a:pt x="0" y="35889"/>
                </a:cubicBezTo>
                <a:cubicBezTo>
                  <a:pt x="0" y="34348"/>
                  <a:pt x="1379" y="32587"/>
                  <a:pt x="2758" y="31045"/>
                </a:cubicBezTo>
                <a:cubicBezTo>
                  <a:pt x="39014" y="70018"/>
                  <a:pt x="39014" y="70018"/>
                  <a:pt x="39014" y="70018"/>
                </a:cubicBezTo>
                <a:lnTo>
                  <a:pt x="1379" y="118238"/>
                </a:lnTo>
                <a:close/>
                <a:moveTo>
                  <a:pt x="59901" y="93357"/>
                </a:moveTo>
                <a:lnTo>
                  <a:pt x="59901" y="93357"/>
                </a:lnTo>
                <a:cubicBezTo>
                  <a:pt x="75270" y="76183"/>
                  <a:pt x="75270" y="76183"/>
                  <a:pt x="75270" y="76183"/>
                </a:cubicBezTo>
                <a:cubicBezTo>
                  <a:pt x="117044" y="118238"/>
                  <a:pt x="117044" y="118238"/>
                  <a:pt x="117044" y="118238"/>
                </a:cubicBezTo>
                <a:cubicBezTo>
                  <a:pt x="117044" y="119779"/>
                  <a:pt x="115665" y="119779"/>
                  <a:pt x="114088" y="119779"/>
                </a:cubicBezTo>
                <a:cubicBezTo>
                  <a:pt x="5517" y="119779"/>
                  <a:pt x="5517" y="119779"/>
                  <a:pt x="5517" y="119779"/>
                </a:cubicBezTo>
                <a:cubicBezTo>
                  <a:pt x="4137" y="119779"/>
                  <a:pt x="2758" y="119779"/>
                  <a:pt x="2758" y="118238"/>
                </a:cubicBezTo>
                <a:cubicBezTo>
                  <a:pt x="44532" y="76183"/>
                  <a:pt x="44532" y="76183"/>
                  <a:pt x="44532" y="76183"/>
                </a:cubicBezTo>
                <a:lnTo>
                  <a:pt x="59901" y="93357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Shape 5005"/>
          <p:cNvSpPr/>
          <p:nvPr/>
        </p:nvSpPr>
        <p:spPr>
          <a:xfrm>
            <a:off x="6154560" y="1101600"/>
            <a:ext cx="285840" cy="260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120000" h="120000">
                <a:moveTo>
                  <a:pt x="118405" y="118238"/>
                </a:moveTo>
                <a:lnTo>
                  <a:pt x="118405" y="118238"/>
                </a:lnTo>
                <a:cubicBezTo>
                  <a:pt x="81727" y="70018"/>
                  <a:pt x="81727" y="70018"/>
                  <a:pt x="81727" y="70018"/>
                </a:cubicBezTo>
                <a:cubicBezTo>
                  <a:pt x="118405" y="31045"/>
                  <a:pt x="118405" y="31045"/>
                  <a:pt x="118405" y="31045"/>
                </a:cubicBezTo>
                <a:cubicBezTo>
                  <a:pt x="119800" y="32587"/>
                  <a:pt x="119800" y="34348"/>
                  <a:pt x="119800" y="35889"/>
                </a:cubicBezTo>
                <a:cubicBezTo>
                  <a:pt x="119800" y="113614"/>
                  <a:pt x="119800" y="113614"/>
                  <a:pt x="119800" y="113614"/>
                </a:cubicBezTo>
                <a:cubicBezTo>
                  <a:pt x="119800" y="115155"/>
                  <a:pt x="119800" y="116697"/>
                  <a:pt x="118405" y="118238"/>
                </a:cubicBezTo>
                <a:close/>
                <a:moveTo>
                  <a:pt x="1395" y="31045"/>
                </a:moveTo>
                <a:lnTo>
                  <a:pt x="1395" y="31045"/>
                </a:lnTo>
                <a:cubicBezTo>
                  <a:pt x="2790" y="29504"/>
                  <a:pt x="4186" y="29504"/>
                  <a:pt x="5581" y="29504"/>
                </a:cubicBezTo>
                <a:cubicBezTo>
                  <a:pt x="36677" y="29504"/>
                  <a:pt x="36677" y="29504"/>
                  <a:pt x="36677" y="29504"/>
                </a:cubicBezTo>
                <a:cubicBezTo>
                  <a:pt x="36677" y="31045"/>
                  <a:pt x="35083" y="32587"/>
                  <a:pt x="35083" y="35889"/>
                </a:cubicBezTo>
                <a:cubicBezTo>
                  <a:pt x="35083" y="38972"/>
                  <a:pt x="36677" y="42055"/>
                  <a:pt x="39468" y="43596"/>
                </a:cubicBezTo>
                <a:lnTo>
                  <a:pt x="39468" y="43596"/>
                </a:lnTo>
                <a:cubicBezTo>
                  <a:pt x="52026" y="59229"/>
                  <a:pt x="52026" y="59229"/>
                  <a:pt x="52026" y="59229"/>
                </a:cubicBezTo>
                <a:lnTo>
                  <a:pt x="52026" y="59229"/>
                </a:lnTo>
                <a:cubicBezTo>
                  <a:pt x="53621" y="60770"/>
                  <a:pt x="56411" y="62311"/>
                  <a:pt x="60598" y="62311"/>
                </a:cubicBezTo>
                <a:cubicBezTo>
                  <a:pt x="63388" y="62311"/>
                  <a:pt x="66179" y="60770"/>
                  <a:pt x="67574" y="59229"/>
                </a:cubicBezTo>
                <a:lnTo>
                  <a:pt x="67574" y="59229"/>
                </a:lnTo>
                <a:cubicBezTo>
                  <a:pt x="81727" y="43596"/>
                  <a:pt x="81727" y="43596"/>
                  <a:pt x="81727" y="43596"/>
                </a:cubicBezTo>
                <a:lnTo>
                  <a:pt x="81727" y="43596"/>
                </a:lnTo>
                <a:cubicBezTo>
                  <a:pt x="83122" y="42055"/>
                  <a:pt x="84518" y="38972"/>
                  <a:pt x="84518" y="35889"/>
                </a:cubicBezTo>
                <a:cubicBezTo>
                  <a:pt x="84518" y="32587"/>
                  <a:pt x="84518" y="31045"/>
                  <a:pt x="83122" y="29504"/>
                </a:cubicBezTo>
                <a:cubicBezTo>
                  <a:pt x="114019" y="29504"/>
                  <a:pt x="114019" y="29504"/>
                  <a:pt x="114019" y="29504"/>
                </a:cubicBezTo>
                <a:cubicBezTo>
                  <a:pt x="115415" y="29504"/>
                  <a:pt x="116810" y="29504"/>
                  <a:pt x="118405" y="31045"/>
                </a:cubicBezTo>
                <a:cubicBezTo>
                  <a:pt x="60598" y="81027"/>
                  <a:pt x="60598" y="81027"/>
                  <a:pt x="60598" y="81027"/>
                </a:cubicBezTo>
                <a:lnTo>
                  <a:pt x="1395" y="31045"/>
                </a:lnTo>
                <a:close/>
                <a:moveTo>
                  <a:pt x="63388" y="54605"/>
                </a:moveTo>
                <a:lnTo>
                  <a:pt x="63388" y="54605"/>
                </a:lnTo>
                <a:cubicBezTo>
                  <a:pt x="63388" y="56146"/>
                  <a:pt x="61993" y="56146"/>
                  <a:pt x="60598" y="56146"/>
                </a:cubicBezTo>
                <a:cubicBezTo>
                  <a:pt x="59202" y="56146"/>
                  <a:pt x="57807" y="56146"/>
                  <a:pt x="56411" y="54605"/>
                </a:cubicBezTo>
                <a:cubicBezTo>
                  <a:pt x="43654" y="38972"/>
                  <a:pt x="43654" y="38972"/>
                  <a:pt x="43654" y="38972"/>
                </a:cubicBezTo>
                <a:cubicBezTo>
                  <a:pt x="42259" y="38972"/>
                  <a:pt x="40863" y="37431"/>
                  <a:pt x="40863" y="35889"/>
                </a:cubicBezTo>
                <a:cubicBezTo>
                  <a:pt x="40863" y="31045"/>
                  <a:pt x="43654" y="29504"/>
                  <a:pt x="46445" y="29504"/>
                </a:cubicBezTo>
                <a:cubicBezTo>
                  <a:pt x="47840" y="29504"/>
                  <a:pt x="49235" y="29504"/>
                  <a:pt x="50631" y="31045"/>
                </a:cubicBezTo>
                <a:cubicBezTo>
                  <a:pt x="55016" y="34348"/>
                  <a:pt x="55016" y="34348"/>
                  <a:pt x="55016" y="34348"/>
                </a:cubicBezTo>
                <a:cubicBezTo>
                  <a:pt x="55016" y="6165"/>
                  <a:pt x="55016" y="6165"/>
                  <a:pt x="55016" y="6165"/>
                </a:cubicBezTo>
                <a:cubicBezTo>
                  <a:pt x="55016" y="3082"/>
                  <a:pt x="56411" y="0"/>
                  <a:pt x="60598" y="0"/>
                </a:cubicBezTo>
                <a:cubicBezTo>
                  <a:pt x="63388" y="0"/>
                  <a:pt x="66179" y="3082"/>
                  <a:pt x="66179" y="6165"/>
                </a:cubicBezTo>
                <a:cubicBezTo>
                  <a:pt x="66179" y="34348"/>
                  <a:pt x="66179" y="34348"/>
                  <a:pt x="66179" y="34348"/>
                </a:cubicBezTo>
                <a:cubicBezTo>
                  <a:pt x="68970" y="31045"/>
                  <a:pt x="68970" y="31045"/>
                  <a:pt x="68970" y="31045"/>
                </a:cubicBezTo>
                <a:cubicBezTo>
                  <a:pt x="70365" y="29504"/>
                  <a:pt x="71760" y="29504"/>
                  <a:pt x="73156" y="29504"/>
                </a:cubicBezTo>
                <a:cubicBezTo>
                  <a:pt x="76146" y="29504"/>
                  <a:pt x="78936" y="31045"/>
                  <a:pt x="78936" y="35889"/>
                </a:cubicBezTo>
                <a:cubicBezTo>
                  <a:pt x="78936" y="37431"/>
                  <a:pt x="78936" y="38972"/>
                  <a:pt x="77541" y="38972"/>
                </a:cubicBezTo>
                <a:lnTo>
                  <a:pt x="63388" y="54605"/>
                </a:lnTo>
                <a:close/>
                <a:moveTo>
                  <a:pt x="1395" y="118238"/>
                </a:moveTo>
                <a:lnTo>
                  <a:pt x="1395" y="118238"/>
                </a:lnTo>
                <a:cubicBezTo>
                  <a:pt x="0" y="116697"/>
                  <a:pt x="0" y="115155"/>
                  <a:pt x="0" y="113614"/>
                </a:cubicBezTo>
                <a:cubicBezTo>
                  <a:pt x="0" y="35889"/>
                  <a:pt x="0" y="35889"/>
                  <a:pt x="0" y="35889"/>
                </a:cubicBezTo>
                <a:cubicBezTo>
                  <a:pt x="0" y="34348"/>
                  <a:pt x="0" y="32587"/>
                  <a:pt x="1395" y="31045"/>
                </a:cubicBezTo>
                <a:cubicBezTo>
                  <a:pt x="38073" y="70018"/>
                  <a:pt x="38073" y="70018"/>
                  <a:pt x="38073" y="70018"/>
                </a:cubicBezTo>
                <a:lnTo>
                  <a:pt x="1395" y="118238"/>
                </a:lnTo>
                <a:close/>
                <a:moveTo>
                  <a:pt x="60598" y="93357"/>
                </a:moveTo>
                <a:lnTo>
                  <a:pt x="60598" y="93357"/>
                </a:lnTo>
                <a:cubicBezTo>
                  <a:pt x="76146" y="76183"/>
                  <a:pt x="76146" y="76183"/>
                  <a:pt x="76146" y="76183"/>
                </a:cubicBezTo>
                <a:cubicBezTo>
                  <a:pt x="118405" y="118238"/>
                  <a:pt x="118405" y="118238"/>
                  <a:pt x="118405" y="118238"/>
                </a:cubicBezTo>
                <a:cubicBezTo>
                  <a:pt x="116810" y="119779"/>
                  <a:pt x="115415" y="119779"/>
                  <a:pt x="114019" y="119779"/>
                </a:cubicBezTo>
                <a:cubicBezTo>
                  <a:pt x="5581" y="119779"/>
                  <a:pt x="5581" y="119779"/>
                  <a:pt x="5581" y="119779"/>
                </a:cubicBezTo>
                <a:cubicBezTo>
                  <a:pt x="4186" y="119779"/>
                  <a:pt x="2790" y="119779"/>
                  <a:pt x="1395" y="118238"/>
                </a:cubicBezTo>
                <a:cubicBezTo>
                  <a:pt x="45049" y="76183"/>
                  <a:pt x="45049" y="76183"/>
                  <a:pt x="45049" y="76183"/>
                </a:cubicBezTo>
                <a:lnTo>
                  <a:pt x="60598" y="93357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Shape 5006"/>
          <p:cNvSpPr/>
          <p:nvPr/>
        </p:nvSpPr>
        <p:spPr>
          <a:xfrm>
            <a:off x="5654520" y="1133640"/>
            <a:ext cx="284400" cy="198360"/>
          </a:xfrm>
          <a:custGeom>
            <a:avLst/>
            <a:gdLst>
              <a:gd name="textAreaLeft" fmla="*/ 0 w 284400"/>
              <a:gd name="textAreaRight" fmla="*/ 284760 w 2844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20000" h="120000">
                <a:moveTo>
                  <a:pt x="81863" y="54832"/>
                </a:moveTo>
                <a:lnTo>
                  <a:pt x="81863" y="54832"/>
                </a:lnTo>
                <a:cubicBezTo>
                  <a:pt x="118402" y="2009"/>
                  <a:pt x="118402" y="2009"/>
                  <a:pt x="118402" y="2009"/>
                </a:cubicBezTo>
                <a:cubicBezTo>
                  <a:pt x="119800" y="4019"/>
                  <a:pt x="119800" y="6028"/>
                  <a:pt x="119800" y="8038"/>
                </a:cubicBezTo>
                <a:cubicBezTo>
                  <a:pt x="119800" y="111387"/>
                  <a:pt x="119800" y="111387"/>
                  <a:pt x="119800" y="111387"/>
                </a:cubicBezTo>
                <a:cubicBezTo>
                  <a:pt x="119800" y="113397"/>
                  <a:pt x="119800" y="115693"/>
                  <a:pt x="118402" y="117703"/>
                </a:cubicBezTo>
                <a:lnTo>
                  <a:pt x="81863" y="54832"/>
                </a:lnTo>
                <a:close/>
                <a:moveTo>
                  <a:pt x="1397" y="2009"/>
                </a:moveTo>
                <a:lnTo>
                  <a:pt x="1397" y="2009"/>
                </a:lnTo>
                <a:cubicBezTo>
                  <a:pt x="2795" y="2009"/>
                  <a:pt x="4193" y="0"/>
                  <a:pt x="5590" y="0"/>
                </a:cubicBezTo>
                <a:cubicBezTo>
                  <a:pt x="114209" y="0"/>
                  <a:pt x="114209" y="0"/>
                  <a:pt x="114209" y="0"/>
                </a:cubicBezTo>
                <a:cubicBezTo>
                  <a:pt x="115607" y="0"/>
                  <a:pt x="117004" y="2009"/>
                  <a:pt x="118402" y="2009"/>
                </a:cubicBezTo>
                <a:cubicBezTo>
                  <a:pt x="59301" y="68899"/>
                  <a:pt x="59301" y="68899"/>
                  <a:pt x="59301" y="68899"/>
                </a:cubicBezTo>
                <a:lnTo>
                  <a:pt x="1397" y="2009"/>
                </a:lnTo>
                <a:close/>
                <a:moveTo>
                  <a:pt x="1397" y="117703"/>
                </a:moveTo>
                <a:lnTo>
                  <a:pt x="1397" y="117703"/>
                </a:lnTo>
                <a:cubicBezTo>
                  <a:pt x="0" y="115693"/>
                  <a:pt x="0" y="113397"/>
                  <a:pt x="0" y="111387"/>
                </a:cubicBezTo>
                <a:cubicBezTo>
                  <a:pt x="0" y="8038"/>
                  <a:pt x="0" y="8038"/>
                  <a:pt x="0" y="8038"/>
                </a:cubicBezTo>
                <a:cubicBezTo>
                  <a:pt x="0" y="6028"/>
                  <a:pt x="0" y="4019"/>
                  <a:pt x="1397" y="2009"/>
                </a:cubicBezTo>
                <a:cubicBezTo>
                  <a:pt x="38136" y="54832"/>
                  <a:pt x="38136" y="54832"/>
                  <a:pt x="38136" y="54832"/>
                </a:cubicBezTo>
                <a:lnTo>
                  <a:pt x="1397" y="117703"/>
                </a:lnTo>
                <a:close/>
                <a:moveTo>
                  <a:pt x="59301" y="85263"/>
                </a:moveTo>
                <a:lnTo>
                  <a:pt x="59301" y="85263"/>
                </a:lnTo>
                <a:cubicBezTo>
                  <a:pt x="74675" y="62870"/>
                  <a:pt x="74675" y="62870"/>
                  <a:pt x="74675" y="62870"/>
                </a:cubicBezTo>
                <a:cubicBezTo>
                  <a:pt x="118402" y="117703"/>
                  <a:pt x="118402" y="117703"/>
                  <a:pt x="118402" y="117703"/>
                </a:cubicBezTo>
                <a:cubicBezTo>
                  <a:pt x="117004" y="119712"/>
                  <a:pt x="115607" y="119712"/>
                  <a:pt x="114209" y="119712"/>
                </a:cubicBezTo>
                <a:cubicBezTo>
                  <a:pt x="5590" y="119712"/>
                  <a:pt x="5590" y="119712"/>
                  <a:pt x="5590" y="119712"/>
                </a:cubicBezTo>
                <a:cubicBezTo>
                  <a:pt x="4193" y="119712"/>
                  <a:pt x="2795" y="119712"/>
                  <a:pt x="1397" y="117703"/>
                </a:cubicBezTo>
                <a:cubicBezTo>
                  <a:pt x="43727" y="62870"/>
                  <a:pt x="43727" y="62870"/>
                  <a:pt x="43727" y="62870"/>
                </a:cubicBezTo>
                <a:lnTo>
                  <a:pt x="59301" y="85263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Shape 5007"/>
          <p:cNvSpPr/>
          <p:nvPr/>
        </p:nvSpPr>
        <p:spPr>
          <a:xfrm>
            <a:off x="5151600" y="1106640"/>
            <a:ext cx="288720" cy="250560"/>
          </a:xfrm>
          <a:custGeom>
            <a:avLst/>
            <a:gdLst>
              <a:gd name="textAreaLeft" fmla="*/ 0 w 288720"/>
              <a:gd name="textAreaRight" fmla="*/ 289080 w 28872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74"/>
                </a:moveTo>
                <a:lnTo>
                  <a:pt x="114276" y="119774"/>
                </a:lnTo>
                <a:cubicBezTo>
                  <a:pt x="5526" y="119774"/>
                  <a:pt x="5526" y="119774"/>
                  <a:pt x="5526" y="119774"/>
                </a:cubicBezTo>
                <a:cubicBezTo>
                  <a:pt x="2763" y="119774"/>
                  <a:pt x="0" y="116610"/>
                  <a:pt x="0" y="113446"/>
                </a:cubicBezTo>
                <a:cubicBezTo>
                  <a:pt x="0" y="6327"/>
                  <a:pt x="0" y="6327"/>
                  <a:pt x="0" y="6327"/>
                </a:cubicBezTo>
                <a:cubicBezTo>
                  <a:pt x="0" y="3163"/>
                  <a:pt x="2763" y="0"/>
                  <a:pt x="5526" y="0"/>
                </a:cubicBezTo>
                <a:cubicBezTo>
                  <a:pt x="114276" y="0"/>
                  <a:pt x="114276" y="0"/>
                  <a:pt x="114276" y="0"/>
                </a:cubicBezTo>
                <a:cubicBezTo>
                  <a:pt x="117039" y="0"/>
                  <a:pt x="119802" y="3163"/>
                  <a:pt x="119802" y="6327"/>
                </a:cubicBezTo>
                <a:cubicBezTo>
                  <a:pt x="119802" y="113446"/>
                  <a:pt x="119802" y="113446"/>
                  <a:pt x="119802" y="113446"/>
                </a:cubicBezTo>
                <a:cubicBezTo>
                  <a:pt x="119802" y="116610"/>
                  <a:pt x="117039" y="119774"/>
                  <a:pt x="114276" y="119774"/>
                </a:cubicBezTo>
                <a:close/>
                <a:moveTo>
                  <a:pt x="11052" y="6327"/>
                </a:moveTo>
                <a:lnTo>
                  <a:pt x="11052" y="6327"/>
                </a:lnTo>
                <a:cubicBezTo>
                  <a:pt x="8289" y="6327"/>
                  <a:pt x="5526" y="9717"/>
                  <a:pt x="5526" y="12881"/>
                </a:cubicBezTo>
                <a:cubicBezTo>
                  <a:pt x="5526" y="17627"/>
                  <a:pt x="8289" y="19209"/>
                  <a:pt x="11052" y="19209"/>
                </a:cubicBezTo>
                <a:cubicBezTo>
                  <a:pt x="15197" y="19209"/>
                  <a:pt x="16578" y="17627"/>
                  <a:pt x="16578" y="12881"/>
                </a:cubicBezTo>
                <a:cubicBezTo>
                  <a:pt x="16578" y="9717"/>
                  <a:pt x="15197" y="6327"/>
                  <a:pt x="11052" y="6327"/>
                </a:cubicBezTo>
                <a:close/>
                <a:moveTo>
                  <a:pt x="27828" y="6327"/>
                </a:moveTo>
                <a:lnTo>
                  <a:pt x="27828" y="6327"/>
                </a:lnTo>
                <a:cubicBezTo>
                  <a:pt x="25065" y="6327"/>
                  <a:pt x="22302" y="9717"/>
                  <a:pt x="22302" y="12881"/>
                </a:cubicBezTo>
                <a:cubicBezTo>
                  <a:pt x="22302" y="17627"/>
                  <a:pt x="25065" y="19209"/>
                  <a:pt x="27828" y="19209"/>
                </a:cubicBezTo>
                <a:cubicBezTo>
                  <a:pt x="31973" y="19209"/>
                  <a:pt x="33355" y="17627"/>
                  <a:pt x="33355" y="12881"/>
                </a:cubicBezTo>
                <a:cubicBezTo>
                  <a:pt x="33355" y="9717"/>
                  <a:pt x="31973" y="6327"/>
                  <a:pt x="27828" y="6327"/>
                </a:cubicBezTo>
                <a:close/>
                <a:moveTo>
                  <a:pt x="44605" y="6327"/>
                </a:moveTo>
                <a:lnTo>
                  <a:pt x="44605" y="6327"/>
                </a:lnTo>
                <a:cubicBezTo>
                  <a:pt x="41842" y="6327"/>
                  <a:pt x="38881" y="9717"/>
                  <a:pt x="38881" y="12881"/>
                </a:cubicBezTo>
                <a:cubicBezTo>
                  <a:pt x="38881" y="17627"/>
                  <a:pt x="41842" y="19209"/>
                  <a:pt x="44605" y="19209"/>
                </a:cubicBezTo>
                <a:cubicBezTo>
                  <a:pt x="48750" y="19209"/>
                  <a:pt x="50131" y="17627"/>
                  <a:pt x="50131" y="12881"/>
                </a:cubicBezTo>
                <a:cubicBezTo>
                  <a:pt x="50131" y="9717"/>
                  <a:pt x="48750" y="6327"/>
                  <a:pt x="44605" y="6327"/>
                </a:cubicBezTo>
                <a:close/>
                <a:moveTo>
                  <a:pt x="114276" y="25536"/>
                </a:moveTo>
                <a:lnTo>
                  <a:pt x="114276" y="25536"/>
                </a:lnTo>
                <a:cubicBezTo>
                  <a:pt x="108750" y="25536"/>
                  <a:pt x="108750" y="25536"/>
                  <a:pt x="108750" y="25536"/>
                </a:cubicBezTo>
                <a:cubicBezTo>
                  <a:pt x="11052" y="25536"/>
                  <a:pt x="11052" y="25536"/>
                  <a:pt x="11052" y="25536"/>
                </a:cubicBezTo>
                <a:cubicBezTo>
                  <a:pt x="5526" y="25536"/>
                  <a:pt x="5526" y="25536"/>
                  <a:pt x="5526" y="25536"/>
                </a:cubicBezTo>
                <a:cubicBezTo>
                  <a:pt x="5526" y="113446"/>
                  <a:pt x="5526" y="113446"/>
                  <a:pt x="5526" y="113446"/>
                </a:cubicBezTo>
                <a:cubicBezTo>
                  <a:pt x="114276" y="113446"/>
                  <a:pt x="114276" y="113446"/>
                  <a:pt x="114276" y="113446"/>
                </a:cubicBezTo>
                <a:lnTo>
                  <a:pt x="114276" y="25536"/>
                </a:lnTo>
                <a:close/>
                <a:moveTo>
                  <a:pt x="43223" y="51073"/>
                </a:moveTo>
                <a:lnTo>
                  <a:pt x="43223" y="51073"/>
                </a:lnTo>
                <a:cubicBezTo>
                  <a:pt x="44605" y="49491"/>
                  <a:pt x="48750" y="49491"/>
                  <a:pt x="50131" y="51073"/>
                </a:cubicBezTo>
                <a:cubicBezTo>
                  <a:pt x="60000" y="62372"/>
                  <a:pt x="60000" y="62372"/>
                  <a:pt x="60000" y="62372"/>
                </a:cubicBezTo>
                <a:cubicBezTo>
                  <a:pt x="69671" y="51073"/>
                  <a:pt x="69671" y="51073"/>
                  <a:pt x="69671" y="51073"/>
                </a:cubicBezTo>
                <a:cubicBezTo>
                  <a:pt x="71052" y="49491"/>
                  <a:pt x="75197" y="49491"/>
                  <a:pt x="76578" y="51073"/>
                </a:cubicBezTo>
                <a:cubicBezTo>
                  <a:pt x="79539" y="54463"/>
                  <a:pt x="79539" y="57627"/>
                  <a:pt x="76578" y="60790"/>
                </a:cubicBezTo>
                <a:cubicBezTo>
                  <a:pt x="68289" y="70282"/>
                  <a:pt x="68289" y="70282"/>
                  <a:pt x="68289" y="70282"/>
                </a:cubicBezTo>
                <a:cubicBezTo>
                  <a:pt x="76578" y="81581"/>
                  <a:pt x="76578" y="81581"/>
                  <a:pt x="76578" y="81581"/>
                </a:cubicBezTo>
                <a:cubicBezTo>
                  <a:pt x="79539" y="83163"/>
                  <a:pt x="79539" y="87909"/>
                  <a:pt x="76578" y="91073"/>
                </a:cubicBezTo>
                <a:cubicBezTo>
                  <a:pt x="75197" y="92655"/>
                  <a:pt x="71052" y="92655"/>
                  <a:pt x="69671" y="91073"/>
                </a:cubicBezTo>
                <a:cubicBezTo>
                  <a:pt x="60000" y="80000"/>
                  <a:pt x="60000" y="80000"/>
                  <a:pt x="60000" y="80000"/>
                </a:cubicBezTo>
                <a:cubicBezTo>
                  <a:pt x="50131" y="91073"/>
                  <a:pt x="50131" y="91073"/>
                  <a:pt x="50131" y="91073"/>
                </a:cubicBezTo>
                <a:cubicBezTo>
                  <a:pt x="48750" y="92655"/>
                  <a:pt x="44605" y="92655"/>
                  <a:pt x="43223" y="91073"/>
                </a:cubicBezTo>
                <a:cubicBezTo>
                  <a:pt x="40460" y="87909"/>
                  <a:pt x="40460" y="83163"/>
                  <a:pt x="43223" y="81581"/>
                </a:cubicBezTo>
                <a:cubicBezTo>
                  <a:pt x="51513" y="70282"/>
                  <a:pt x="51513" y="70282"/>
                  <a:pt x="51513" y="70282"/>
                </a:cubicBezTo>
                <a:cubicBezTo>
                  <a:pt x="43223" y="60790"/>
                  <a:pt x="43223" y="60790"/>
                  <a:pt x="43223" y="60790"/>
                </a:cubicBezTo>
                <a:cubicBezTo>
                  <a:pt x="40460" y="57627"/>
                  <a:pt x="40460" y="54463"/>
                  <a:pt x="43223" y="51073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Shape 5008"/>
          <p:cNvSpPr/>
          <p:nvPr/>
        </p:nvSpPr>
        <p:spPr>
          <a:xfrm>
            <a:off x="4654440" y="1106640"/>
            <a:ext cx="284400" cy="250560"/>
          </a:xfrm>
          <a:custGeom>
            <a:avLst/>
            <a:gdLst>
              <a:gd name="textAreaLeft" fmla="*/ 0 w 284400"/>
              <a:gd name="textAreaRight" fmla="*/ 284760 w 2844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774"/>
                </a:moveTo>
                <a:lnTo>
                  <a:pt x="114209" y="119774"/>
                </a:lnTo>
                <a:cubicBezTo>
                  <a:pt x="5590" y="119774"/>
                  <a:pt x="5590" y="119774"/>
                  <a:pt x="5590" y="119774"/>
                </a:cubicBezTo>
                <a:cubicBezTo>
                  <a:pt x="2795" y="119774"/>
                  <a:pt x="0" y="116610"/>
                  <a:pt x="0" y="113446"/>
                </a:cubicBezTo>
                <a:cubicBezTo>
                  <a:pt x="0" y="6327"/>
                  <a:pt x="0" y="6327"/>
                  <a:pt x="0" y="6327"/>
                </a:cubicBezTo>
                <a:cubicBezTo>
                  <a:pt x="0" y="3163"/>
                  <a:pt x="2795" y="0"/>
                  <a:pt x="5590" y="0"/>
                </a:cubicBezTo>
                <a:cubicBezTo>
                  <a:pt x="114209" y="0"/>
                  <a:pt x="114209" y="0"/>
                  <a:pt x="114209" y="0"/>
                </a:cubicBezTo>
                <a:cubicBezTo>
                  <a:pt x="118402" y="0"/>
                  <a:pt x="119800" y="3163"/>
                  <a:pt x="119800" y="6327"/>
                </a:cubicBezTo>
                <a:cubicBezTo>
                  <a:pt x="119800" y="113446"/>
                  <a:pt x="119800" y="113446"/>
                  <a:pt x="119800" y="113446"/>
                </a:cubicBezTo>
                <a:cubicBezTo>
                  <a:pt x="119800" y="116610"/>
                  <a:pt x="118402" y="119774"/>
                  <a:pt x="114209" y="119774"/>
                </a:cubicBezTo>
                <a:close/>
                <a:moveTo>
                  <a:pt x="11181" y="6327"/>
                </a:moveTo>
                <a:lnTo>
                  <a:pt x="11181" y="6327"/>
                </a:lnTo>
                <a:cubicBezTo>
                  <a:pt x="8386" y="6327"/>
                  <a:pt x="5590" y="9717"/>
                  <a:pt x="5590" y="12881"/>
                </a:cubicBezTo>
                <a:cubicBezTo>
                  <a:pt x="5590" y="17627"/>
                  <a:pt x="8386" y="19209"/>
                  <a:pt x="11181" y="19209"/>
                </a:cubicBezTo>
                <a:cubicBezTo>
                  <a:pt x="13976" y="19209"/>
                  <a:pt x="16772" y="17627"/>
                  <a:pt x="16772" y="12881"/>
                </a:cubicBezTo>
                <a:cubicBezTo>
                  <a:pt x="16772" y="9717"/>
                  <a:pt x="13976" y="6327"/>
                  <a:pt x="11181" y="6327"/>
                </a:cubicBezTo>
                <a:close/>
                <a:moveTo>
                  <a:pt x="28153" y="6327"/>
                </a:moveTo>
                <a:lnTo>
                  <a:pt x="28153" y="6327"/>
                </a:lnTo>
                <a:cubicBezTo>
                  <a:pt x="25357" y="6327"/>
                  <a:pt x="22562" y="9717"/>
                  <a:pt x="22562" y="12881"/>
                </a:cubicBezTo>
                <a:cubicBezTo>
                  <a:pt x="22562" y="17627"/>
                  <a:pt x="25357" y="19209"/>
                  <a:pt x="28153" y="19209"/>
                </a:cubicBezTo>
                <a:cubicBezTo>
                  <a:pt x="30948" y="19209"/>
                  <a:pt x="33743" y="17627"/>
                  <a:pt x="33743" y="12881"/>
                </a:cubicBezTo>
                <a:cubicBezTo>
                  <a:pt x="33743" y="9717"/>
                  <a:pt x="30948" y="6327"/>
                  <a:pt x="28153" y="6327"/>
                </a:cubicBezTo>
                <a:close/>
                <a:moveTo>
                  <a:pt x="45124" y="6327"/>
                </a:moveTo>
                <a:lnTo>
                  <a:pt x="45124" y="6327"/>
                </a:lnTo>
                <a:cubicBezTo>
                  <a:pt x="42329" y="6327"/>
                  <a:pt x="39334" y="9717"/>
                  <a:pt x="39334" y="12881"/>
                </a:cubicBezTo>
                <a:cubicBezTo>
                  <a:pt x="39334" y="17627"/>
                  <a:pt x="42329" y="19209"/>
                  <a:pt x="45124" y="19209"/>
                </a:cubicBezTo>
                <a:cubicBezTo>
                  <a:pt x="47920" y="19209"/>
                  <a:pt x="50715" y="17627"/>
                  <a:pt x="50715" y="12881"/>
                </a:cubicBezTo>
                <a:cubicBezTo>
                  <a:pt x="50715" y="9717"/>
                  <a:pt x="47920" y="6327"/>
                  <a:pt x="45124" y="6327"/>
                </a:cubicBezTo>
                <a:close/>
                <a:moveTo>
                  <a:pt x="114209" y="25536"/>
                </a:moveTo>
                <a:lnTo>
                  <a:pt x="114209" y="25536"/>
                </a:lnTo>
                <a:cubicBezTo>
                  <a:pt x="108618" y="25536"/>
                  <a:pt x="108618" y="25536"/>
                  <a:pt x="108618" y="25536"/>
                </a:cubicBezTo>
                <a:cubicBezTo>
                  <a:pt x="11181" y="25536"/>
                  <a:pt x="11181" y="25536"/>
                  <a:pt x="11181" y="25536"/>
                </a:cubicBezTo>
                <a:cubicBezTo>
                  <a:pt x="5590" y="25536"/>
                  <a:pt x="5590" y="25536"/>
                  <a:pt x="5590" y="25536"/>
                </a:cubicBezTo>
                <a:cubicBezTo>
                  <a:pt x="5590" y="113446"/>
                  <a:pt x="5590" y="113446"/>
                  <a:pt x="5590" y="113446"/>
                </a:cubicBezTo>
                <a:cubicBezTo>
                  <a:pt x="114209" y="113446"/>
                  <a:pt x="114209" y="113446"/>
                  <a:pt x="114209" y="113446"/>
                </a:cubicBezTo>
                <a:lnTo>
                  <a:pt x="114209" y="25536"/>
                </a:lnTo>
                <a:close/>
                <a:moveTo>
                  <a:pt x="43727" y="63954"/>
                </a:moveTo>
                <a:lnTo>
                  <a:pt x="43727" y="63954"/>
                </a:lnTo>
                <a:cubicBezTo>
                  <a:pt x="45124" y="63954"/>
                  <a:pt x="46522" y="65536"/>
                  <a:pt x="46522" y="67118"/>
                </a:cubicBezTo>
                <a:lnTo>
                  <a:pt x="46522" y="67118"/>
                </a:lnTo>
                <a:cubicBezTo>
                  <a:pt x="54908" y="75028"/>
                  <a:pt x="54908" y="75028"/>
                  <a:pt x="54908" y="75028"/>
                </a:cubicBezTo>
                <a:cubicBezTo>
                  <a:pt x="73277" y="54463"/>
                  <a:pt x="73277" y="54463"/>
                  <a:pt x="73277" y="54463"/>
                </a:cubicBezTo>
                <a:lnTo>
                  <a:pt x="73277" y="54463"/>
                </a:lnTo>
                <a:cubicBezTo>
                  <a:pt x="74675" y="52881"/>
                  <a:pt x="76073" y="51073"/>
                  <a:pt x="77470" y="51073"/>
                </a:cubicBezTo>
                <a:cubicBezTo>
                  <a:pt x="80266" y="51073"/>
                  <a:pt x="83261" y="54463"/>
                  <a:pt x="83261" y="57627"/>
                </a:cubicBezTo>
                <a:cubicBezTo>
                  <a:pt x="83261" y="59209"/>
                  <a:pt x="81863" y="60790"/>
                  <a:pt x="80266" y="62372"/>
                </a:cubicBezTo>
                <a:lnTo>
                  <a:pt x="80266" y="62372"/>
                </a:lnTo>
                <a:cubicBezTo>
                  <a:pt x="57703" y="87909"/>
                  <a:pt x="57703" y="87909"/>
                  <a:pt x="57703" y="87909"/>
                </a:cubicBezTo>
                <a:lnTo>
                  <a:pt x="57703" y="87909"/>
                </a:lnTo>
                <a:cubicBezTo>
                  <a:pt x="57703" y="89491"/>
                  <a:pt x="56306" y="89491"/>
                  <a:pt x="54908" y="89491"/>
                </a:cubicBezTo>
                <a:cubicBezTo>
                  <a:pt x="53510" y="89491"/>
                  <a:pt x="52113" y="89491"/>
                  <a:pt x="50715" y="87909"/>
                </a:cubicBezTo>
                <a:lnTo>
                  <a:pt x="50715" y="87909"/>
                </a:lnTo>
                <a:cubicBezTo>
                  <a:pt x="39334" y="75028"/>
                  <a:pt x="39334" y="75028"/>
                  <a:pt x="39334" y="75028"/>
                </a:cubicBezTo>
                <a:lnTo>
                  <a:pt x="39334" y="75028"/>
                </a:lnTo>
                <a:cubicBezTo>
                  <a:pt x="37936" y="73446"/>
                  <a:pt x="37936" y="71864"/>
                  <a:pt x="37936" y="70282"/>
                </a:cubicBezTo>
                <a:cubicBezTo>
                  <a:pt x="37936" y="67118"/>
                  <a:pt x="39334" y="63954"/>
                  <a:pt x="43727" y="6395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Shape 5009"/>
          <p:cNvSpPr/>
          <p:nvPr/>
        </p:nvSpPr>
        <p:spPr>
          <a:xfrm>
            <a:off x="4156200" y="1106640"/>
            <a:ext cx="284040" cy="250560"/>
          </a:xfrm>
          <a:custGeom>
            <a:avLst/>
            <a:gdLst>
              <a:gd name="textAreaLeft" fmla="*/ 0 w 284040"/>
              <a:gd name="textAreaRight" fmla="*/ 284400 w 2840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774"/>
                </a:moveTo>
                <a:lnTo>
                  <a:pt x="114209" y="119774"/>
                </a:lnTo>
                <a:cubicBezTo>
                  <a:pt x="5590" y="119774"/>
                  <a:pt x="5590" y="119774"/>
                  <a:pt x="5590" y="119774"/>
                </a:cubicBezTo>
                <a:cubicBezTo>
                  <a:pt x="1397" y="119774"/>
                  <a:pt x="0" y="116610"/>
                  <a:pt x="0" y="113446"/>
                </a:cubicBezTo>
                <a:cubicBezTo>
                  <a:pt x="0" y="6327"/>
                  <a:pt x="0" y="6327"/>
                  <a:pt x="0" y="6327"/>
                </a:cubicBezTo>
                <a:cubicBezTo>
                  <a:pt x="0" y="3163"/>
                  <a:pt x="1397" y="0"/>
                  <a:pt x="5590" y="0"/>
                </a:cubicBezTo>
                <a:cubicBezTo>
                  <a:pt x="114209" y="0"/>
                  <a:pt x="114209" y="0"/>
                  <a:pt x="114209" y="0"/>
                </a:cubicBezTo>
                <a:cubicBezTo>
                  <a:pt x="117004" y="0"/>
                  <a:pt x="119800" y="3163"/>
                  <a:pt x="119800" y="6327"/>
                </a:cubicBezTo>
                <a:cubicBezTo>
                  <a:pt x="119800" y="113446"/>
                  <a:pt x="119800" y="113446"/>
                  <a:pt x="119800" y="113446"/>
                </a:cubicBezTo>
                <a:cubicBezTo>
                  <a:pt x="119800" y="116610"/>
                  <a:pt x="117004" y="119774"/>
                  <a:pt x="114209" y="119774"/>
                </a:cubicBezTo>
                <a:close/>
                <a:moveTo>
                  <a:pt x="11181" y="6327"/>
                </a:moveTo>
                <a:lnTo>
                  <a:pt x="11181" y="6327"/>
                </a:lnTo>
                <a:cubicBezTo>
                  <a:pt x="6988" y="6327"/>
                  <a:pt x="5590" y="9717"/>
                  <a:pt x="5590" y="12881"/>
                </a:cubicBezTo>
                <a:cubicBezTo>
                  <a:pt x="5590" y="17627"/>
                  <a:pt x="6988" y="19209"/>
                  <a:pt x="11181" y="19209"/>
                </a:cubicBezTo>
                <a:cubicBezTo>
                  <a:pt x="13976" y="19209"/>
                  <a:pt x="16772" y="17627"/>
                  <a:pt x="16772" y="12881"/>
                </a:cubicBezTo>
                <a:cubicBezTo>
                  <a:pt x="16772" y="9717"/>
                  <a:pt x="13976" y="6327"/>
                  <a:pt x="11181" y="6327"/>
                </a:cubicBezTo>
                <a:close/>
                <a:moveTo>
                  <a:pt x="28153" y="6327"/>
                </a:moveTo>
                <a:lnTo>
                  <a:pt x="28153" y="6327"/>
                </a:lnTo>
                <a:cubicBezTo>
                  <a:pt x="23960" y="6327"/>
                  <a:pt x="22562" y="9717"/>
                  <a:pt x="22562" y="12881"/>
                </a:cubicBezTo>
                <a:cubicBezTo>
                  <a:pt x="22562" y="17627"/>
                  <a:pt x="23960" y="19209"/>
                  <a:pt x="28153" y="19209"/>
                </a:cubicBezTo>
                <a:cubicBezTo>
                  <a:pt x="30948" y="19209"/>
                  <a:pt x="33743" y="17627"/>
                  <a:pt x="33743" y="12881"/>
                </a:cubicBezTo>
                <a:cubicBezTo>
                  <a:pt x="33743" y="9717"/>
                  <a:pt x="30948" y="6327"/>
                  <a:pt x="28153" y="6327"/>
                </a:cubicBezTo>
                <a:close/>
                <a:moveTo>
                  <a:pt x="45124" y="6327"/>
                </a:moveTo>
                <a:lnTo>
                  <a:pt x="45124" y="6327"/>
                </a:lnTo>
                <a:cubicBezTo>
                  <a:pt x="40732" y="6327"/>
                  <a:pt x="39334" y="9717"/>
                  <a:pt x="39334" y="12881"/>
                </a:cubicBezTo>
                <a:cubicBezTo>
                  <a:pt x="39334" y="17627"/>
                  <a:pt x="40732" y="19209"/>
                  <a:pt x="45124" y="19209"/>
                </a:cubicBezTo>
                <a:cubicBezTo>
                  <a:pt x="47920" y="19209"/>
                  <a:pt x="50715" y="17627"/>
                  <a:pt x="50715" y="12881"/>
                </a:cubicBezTo>
                <a:cubicBezTo>
                  <a:pt x="50715" y="9717"/>
                  <a:pt x="47920" y="6327"/>
                  <a:pt x="45124" y="6327"/>
                </a:cubicBezTo>
                <a:close/>
                <a:moveTo>
                  <a:pt x="114209" y="25536"/>
                </a:moveTo>
                <a:lnTo>
                  <a:pt x="114209" y="25536"/>
                </a:lnTo>
                <a:cubicBezTo>
                  <a:pt x="108618" y="25536"/>
                  <a:pt x="108618" y="25536"/>
                  <a:pt x="108618" y="25536"/>
                </a:cubicBezTo>
                <a:cubicBezTo>
                  <a:pt x="11181" y="25536"/>
                  <a:pt x="11181" y="25536"/>
                  <a:pt x="11181" y="25536"/>
                </a:cubicBezTo>
                <a:cubicBezTo>
                  <a:pt x="5590" y="25536"/>
                  <a:pt x="5590" y="25536"/>
                  <a:pt x="5590" y="25536"/>
                </a:cubicBezTo>
                <a:cubicBezTo>
                  <a:pt x="5590" y="113446"/>
                  <a:pt x="5590" y="113446"/>
                  <a:pt x="5590" y="113446"/>
                </a:cubicBezTo>
                <a:cubicBezTo>
                  <a:pt x="114209" y="113446"/>
                  <a:pt x="114209" y="113446"/>
                  <a:pt x="114209" y="113446"/>
                </a:cubicBezTo>
                <a:lnTo>
                  <a:pt x="114209" y="25536"/>
                </a:lnTo>
                <a:close/>
                <a:moveTo>
                  <a:pt x="40732" y="63954"/>
                </a:moveTo>
                <a:lnTo>
                  <a:pt x="40732" y="63954"/>
                </a:lnTo>
                <a:cubicBezTo>
                  <a:pt x="53510" y="63954"/>
                  <a:pt x="53510" y="63954"/>
                  <a:pt x="53510" y="63954"/>
                </a:cubicBezTo>
                <a:lnTo>
                  <a:pt x="53510" y="63954"/>
                </a:lnTo>
                <a:cubicBezTo>
                  <a:pt x="64891" y="63954"/>
                  <a:pt x="64891" y="63954"/>
                  <a:pt x="64891" y="63954"/>
                </a:cubicBezTo>
                <a:lnTo>
                  <a:pt x="64891" y="63954"/>
                </a:lnTo>
                <a:cubicBezTo>
                  <a:pt x="78868" y="63954"/>
                  <a:pt x="78868" y="63954"/>
                  <a:pt x="78868" y="63954"/>
                </a:cubicBezTo>
                <a:cubicBezTo>
                  <a:pt x="81663" y="63954"/>
                  <a:pt x="84658" y="67118"/>
                  <a:pt x="84658" y="70282"/>
                </a:cubicBezTo>
                <a:cubicBezTo>
                  <a:pt x="84658" y="75028"/>
                  <a:pt x="81663" y="76610"/>
                  <a:pt x="78868" y="76610"/>
                </a:cubicBezTo>
                <a:lnTo>
                  <a:pt x="78868" y="76610"/>
                </a:lnTo>
                <a:cubicBezTo>
                  <a:pt x="47920" y="76610"/>
                  <a:pt x="47920" y="76610"/>
                  <a:pt x="47920" y="76610"/>
                </a:cubicBezTo>
                <a:lnTo>
                  <a:pt x="47920" y="76610"/>
                </a:lnTo>
                <a:cubicBezTo>
                  <a:pt x="40732" y="76610"/>
                  <a:pt x="40732" y="76610"/>
                  <a:pt x="40732" y="76610"/>
                </a:cubicBezTo>
                <a:cubicBezTo>
                  <a:pt x="37936" y="76610"/>
                  <a:pt x="35141" y="75028"/>
                  <a:pt x="35141" y="70282"/>
                </a:cubicBezTo>
                <a:cubicBezTo>
                  <a:pt x="35141" y="67118"/>
                  <a:pt x="37936" y="63954"/>
                  <a:pt x="40732" y="6395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Shape 5010"/>
          <p:cNvSpPr/>
          <p:nvPr/>
        </p:nvSpPr>
        <p:spPr>
          <a:xfrm>
            <a:off x="3651120" y="1106640"/>
            <a:ext cx="289080" cy="250560"/>
          </a:xfrm>
          <a:custGeom>
            <a:avLst/>
            <a:gdLst>
              <a:gd name="textAreaLeft" fmla="*/ 0 w 289080"/>
              <a:gd name="textAreaRight" fmla="*/ 289440 w 28908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285" y="119774"/>
                </a:moveTo>
                <a:lnTo>
                  <a:pt x="114285" y="119774"/>
                </a:lnTo>
                <a:cubicBezTo>
                  <a:pt x="5714" y="119774"/>
                  <a:pt x="5714" y="119774"/>
                  <a:pt x="5714" y="119774"/>
                </a:cubicBezTo>
                <a:cubicBezTo>
                  <a:pt x="2955" y="119774"/>
                  <a:pt x="0" y="116610"/>
                  <a:pt x="0" y="113446"/>
                </a:cubicBezTo>
                <a:cubicBezTo>
                  <a:pt x="0" y="6327"/>
                  <a:pt x="0" y="6327"/>
                  <a:pt x="0" y="6327"/>
                </a:cubicBezTo>
                <a:cubicBezTo>
                  <a:pt x="0" y="3163"/>
                  <a:pt x="2955" y="0"/>
                  <a:pt x="5714" y="0"/>
                </a:cubicBezTo>
                <a:cubicBezTo>
                  <a:pt x="114285" y="0"/>
                  <a:pt x="114285" y="0"/>
                  <a:pt x="114285" y="0"/>
                </a:cubicBezTo>
                <a:cubicBezTo>
                  <a:pt x="117044" y="0"/>
                  <a:pt x="119802" y="3163"/>
                  <a:pt x="119802" y="6327"/>
                </a:cubicBezTo>
                <a:cubicBezTo>
                  <a:pt x="119802" y="113446"/>
                  <a:pt x="119802" y="113446"/>
                  <a:pt x="119802" y="113446"/>
                </a:cubicBezTo>
                <a:cubicBezTo>
                  <a:pt x="119802" y="116610"/>
                  <a:pt x="117044" y="119774"/>
                  <a:pt x="114285" y="119774"/>
                </a:cubicBezTo>
                <a:close/>
                <a:moveTo>
                  <a:pt x="11231" y="6327"/>
                </a:moveTo>
                <a:lnTo>
                  <a:pt x="11231" y="6327"/>
                </a:lnTo>
                <a:cubicBezTo>
                  <a:pt x="8472" y="6327"/>
                  <a:pt x="5714" y="9717"/>
                  <a:pt x="5714" y="12881"/>
                </a:cubicBezTo>
                <a:cubicBezTo>
                  <a:pt x="5714" y="17627"/>
                  <a:pt x="8472" y="19209"/>
                  <a:pt x="11231" y="19209"/>
                </a:cubicBezTo>
                <a:cubicBezTo>
                  <a:pt x="15369" y="19209"/>
                  <a:pt x="16748" y="17627"/>
                  <a:pt x="16748" y="12881"/>
                </a:cubicBezTo>
                <a:cubicBezTo>
                  <a:pt x="16748" y="9717"/>
                  <a:pt x="15369" y="6327"/>
                  <a:pt x="11231" y="6327"/>
                </a:cubicBezTo>
                <a:close/>
                <a:moveTo>
                  <a:pt x="27980" y="6327"/>
                </a:moveTo>
                <a:lnTo>
                  <a:pt x="27980" y="6327"/>
                </a:lnTo>
                <a:cubicBezTo>
                  <a:pt x="25221" y="6327"/>
                  <a:pt x="22266" y="9717"/>
                  <a:pt x="22266" y="12881"/>
                </a:cubicBezTo>
                <a:cubicBezTo>
                  <a:pt x="22266" y="17627"/>
                  <a:pt x="25221" y="19209"/>
                  <a:pt x="27980" y="19209"/>
                </a:cubicBezTo>
                <a:cubicBezTo>
                  <a:pt x="32118" y="19209"/>
                  <a:pt x="33497" y="17627"/>
                  <a:pt x="33497" y="12881"/>
                </a:cubicBezTo>
                <a:cubicBezTo>
                  <a:pt x="33497" y="9717"/>
                  <a:pt x="32118" y="6327"/>
                  <a:pt x="27980" y="6327"/>
                </a:cubicBezTo>
                <a:close/>
                <a:moveTo>
                  <a:pt x="44532" y="6327"/>
                </a:moveTo>
                <a:lnTo>
                  <a:pt x="44532" y="6327"/>
                </a:lnTo>
                <a:cubicBezTo>
                  <a:pt x="41773" y="6327"/>
                  <a:pt x="39014" y="9717"/>
                  <a:pt x="39014" y="12881"/>
                </a:cubicBezTo>
                <a:cubicBezTo>
                  <a:pt x="39014" y="17627"/>
                  <a:pt x="41773" y="19209"/>
                  <a:pt x="44532" y="19209"/>
                </a:cubicBezTo>
                <a:cubicBezTo>
                  <a:pt x="48866" y="19209"/>
                  <a:pt x="50246" y="17627"/>
                  <a:pt x="50246" y="12881"/>
                </a:cubicBezTo>
                <a:cubicBezTo>
                  <a:pt x="50246" y="9717"/>
                  <a:pt x="48866" y="6327"/>
                  <a:pt x="44532" y="6327"/>
                </a:cubicBezTo>
                <a:close/>
                <a:moveTo>
                  <a:pt x="114285" y="25536"/>
                </a:moveTo>
                <a:lnTo>
                  <a:pt x="114285" y="25536"/>
                </a:lnTo>
                <a:cubicBezTo>
                  <a:pt x="108768" y="25536"/>
                  <a:pt x="108768" y="25536"/>
                  <a:pt x="108768" y="25536"/>
                </a:cubicBezTo>
                <a:cubicBezTo>
                  <a:pt x="11231" y="25536"/>
                  <a:pt x="11231" y="25536"/>
                  <a:pt x="11231" y="25536"/>
                </a:cubicBezTo>
                <a:cubicBezTo>
                  <a:pt x="5714" y="25536"/>
                  <a:pt x="5714" y="25536"/>
                  <a:pt x="5714" y="25536"/>
                </a:cubicBezTo>
                <a:cubicBezTo>
                  <a:pt x="5714" y="113446"/>
                  <a:pt x="5714" y="113446"/>
                  <a:pt x="5714" y="113446"/>
                </a:cubicBezTo>
                <a:cubicBezTo>
                  <a:pt x="114285" y="113446"/>
                  <a:pt x="114285" y="113446"/>
                  <a:pt x="114285" y="113446"/>
                </a:cubicBezTo>
                <a:lnTo>
                  <a:pt x="114285" y="25536"/>
                </a:lnTo>
                <a:close/>
                <a:moveTo>
                  <a:pt x="41773" y="63954"/>
                </a:moveTo>
                <a:lnTo>
                  <a:pt x="41773" y="63954"/>
                </a:lnTo>
                <a:cubicBezTo>
                  <a:pt x="54384" y="63954"/>
                  <a:pt x="54384" y="63954"/>
                  <a:pt x="54384" y="63954"/>
                </a:cubicBezTo>
                <a:cubicBezTo>
                  <a:pt x="54384" y="49491"/>
                  <a:pt x="54384" y="49491"/>
                  <a:pt x="54384" y="49491"/>
                </a:cubicBezTo>
                <a:cubicBezTo>
                  <a:pt x="54384" y="46327"/>
                  <a:pt x="57142" y="43163"/>
                  <a:pt x="59901" y="43163"/>
                </a:cubicBezTo>
                <a:cubicBezTo>
                  <a:pt x="62660" y="43163"/>
                  <a:pt x="65615" y="46327"/>
                  <a:pt x="65615" y="49491"/>
                </a:cubicBezTo>
                <a:cubicBezTo>
                  <a:pt x="65615" y="63954"/>
                  <a:pt x="65615" y="63954"/>
                  <a:pt x="65615" y="63954"/>
                </a:cubicBezTo>
                <a:cubicBezTo>
                  <a:pt x="78029" y="63954"/>
                  <a:pt x="78029" y="63954"/>
                  <a:pt x="78029" y="63954"/>
                </a:cubicBezTo>
                <a:cubicBezTo>
                  <a:pt x="82167" y="63954"/>
                  <a:pt x="83546" y="67118"/>
                  <a:pt x="83546" y="70282"/>
                </a:cubicBezTo>
                <a:cubicBezTo>
                  <a:pt x="83546" y="75028"/>
                  <a:pt x="82167" y="76610"/>
                  <a:pt x="78029" y="76610"/>
                </a:cubicBezTo>
                <a:cubicBezTo>
                  <a:pt x="65615" y="76610"/>
                  <a:pt x="65615" y="76610"/>
                  <a:pt x="65615" y="76610"/>
                </a:cubicBezTo>
                <a:cubicBezTo>
                  <a:pt x="65615" y="92655"/>
                  <a:pt x="65615" y="92655"/>
                  <a:pt x="65615" y="92655"/>
                </a:cubicBezTo>
                <a:cubicBezTo>
                  <a:pt x="65615" y="95819"/>
                  <a:pt x="62660" y="98983"/>
                  <a:pt x="59901" y="98983"/>
                </a:cubicBezTo>
                <a:cubicBezTo>
                  <a:pt x="57142" y="98983"/>
                  <a:pt x="54384" y="95819"/>
                  <a:pt x="54384" y="92655"/>
                </a:cubicBezTo>
                <a:cubicBezTo>
                  <a:pt x="54384" y="76610"/>
                  <a:pt x="54384" y="76610"/>
                  <a:pt x="54384" y="76610"/>
                </a:cubicBezTo>
                <a:cubicBezTo>
                  <a:pt x="41773" y="76610"/>
                  <a:pt x="41773" y="76610"/>
                  <a:pt x="41773" y="76610"/>
                </a:cubicBezTo>
                <a:cubicBezTo>
                  <a:pt x="37635" y="76610"/>
                  <a:pt x="36256" y="75028"/>
                  <a:pt x="36256" y="70282"/>
                </a:cubicBezTo>
                <a:cubicBezTo>
                  <a:pt x="36256" y="67118"/>
                  <a:pt x="37635" y="63954"/>
                  <a:pt x="41773" y="6395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Shape 5011"/>
          <p:cNvSpPr/>
          <p:nvPr/>
        </p:nvSpPr>
        <p:spPr>
          <a:xfrm>
            <a:off x="3154320" y="1106640"/>
            <a:ext cx="287280" cy="250560"/>
          </a:xfrm>
          <a:custGeom>
            <a:avLst/>
            <a:gdLst>
              <a:gd name="textAreaLeft" fmla="*/ 0 w 287280"/>
              <a:gd name="textAreaRight" fmla="*/ 287640 w 28728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774"/>
                </a:moveTo>
                <a:lnTo>
                  <a:pt x="114219" y="119774"/>
                </a:lnTo>
                <a:cubicBezTo>
                  <a:pt x="5780" y="119774"/>
                  <a:pt x="5780" y="119774"/>
                  <a:pt x="5780" y="119774"/>
                </a:cubicBezTo>
                <a:cubicBezTo>
                  <a:pt x="2990" y="119774"/>
                  <a:pt x="0" y="116610"/>
                  <a:pt x="0" y="113446"/>
                </a:cubicBezTo>
                <a:cubicBezTo>
                  <a:pt x="0" y="6327"/>
                  <a:pt x="0" y="6327"/>
                  <a:pt x="0" y="6327"/>
                </a:cubicBezTo>
                <a:cubicBezTo>
                  <a:pt x="0" y="3163"/>
                  <a:pt x="2990" y="0"/>
                  <a:pt x="5780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3163"/>
                  <a:pt x="119800" y="6327"/>
                </a:cubicBezTo>
                <a:cubicBezTo>
                  <a:pt x="119800" y="113446"/>
                  <a:pt x="119800" y="113446"/>
                  <a:pt x="119800" y="113446"/>
                </a:cubicBezTo>
                <a:cubicBezTo>
                  <a:pt x="119800" y="116610"/>
                  <a:pt x="118405" y="119774"/>
                  <a:pt x="114219" y="119774"/>
                </a:cubicBezTo>
                <a:close/>
                <a:moveTo>
                  <a:pt x="91694" y="113446"/>
                </a:moveTo>
                <a:lnTo>
                  <a:pt x="91694" y="113446"/>
                </a:lnTo>
                <a:cubicBezTo>
                  <a:pt x="114219" y="113446"/>
                  <a:pt x="114219" y="113446"/>
                  <a:pt x="114219" y="113446"/>
                </a:cubicBezTo>
                <a:cubicBezTo>
                  <a:pt x="114219" y="57627"/>
                  <a:pt x="114219" y="57627"/>
                  <a:pt x="114219" y="57627"/>
                </a:cubicBezTo>
                <a:cubicBezTo>
                  <a:pt x="112823" y="57627"/>
                  <a:pt x="112823" y="57627"/>
                  <a:pt x="112823" y="57627"/>
                </a:cubicBezTo>
                <a:lnTo>
                  <a:pt x="112823" y="57627"/>
                </a:lnTo>
                <a:cubicBezTo>
                  <a:pt x="91694" y="57627"/>
                  <a:pt x="91694" y="57627"/>
                  <a:pt x="91694" y="57627"/>
                </a:cubicBezTo>
                <a:lnTo>
                  <a:pt x="91694" y="113446"/>
                </a:lnTo>
                <a:close/>
                <a:moveTo>
                  <a:pt x="33887" y="113446"/>
                </a:moveTo>
                <a:lnTo>
                  <a:pt x="33887" y="113446"/>
                </a:lnTo>
                <a:cubicBezTo>
                  <a:pt x="85913" y="113446"/>
                  <a:pt x="85913" y="113446"/>
                  <a:pt x="85913" y="113446"/>
                </a:cubicBezTo>
                <a:cubicBezTo>
                  <a:pt x="85913" y="57627"/>
                  <a:pt x="85913" y="57627"/>
                  <a:pt x="85913" y="57627"/>
                </a:cubicBezTo>
                <a:cubicBezTo>
                  <a:pt x="33887" y="57627"/>
                  <a:pt x="33887" y="57627"/>
                  <a:pt x="33887" y="57627"/>
                </a:cubicBezTo>
                <a:lnTo>
                  <a:pt x="33887" y="113446"/>
                </a:lnTo>
                <a:close/>
                <a:moveTo>
                  <a:pt x="5780" y="113446"/>
                </a:moveTo>
                <a:lnTo>
                  <a:pt x="5780" y="113446"/>
                </a:lnTo>
                <a:cubicBezTo>
                  <a:pt x="28305" y="113446"/>
                  <a:pt x="28305" y="113446"/>
                  <a:pt x="28305" y="113446"/>
                </a:cubicBezTo>
                <a:cubicBezTo>
                  <a:pt x="28305" y="57627"/>
                  <a:pt x="28305" y="57627"/>
                  <a:pt x="28305" y="57627"/>
                </a:cubicBezTo>
                <a:cubicBezTo>
                  <a:pt x="5780" y="57627"/>
                  <a:pt x="5780" y="57627"/>
                  <a:pt x="5780" y="57627"/>
                </a:cubicBezTo>
                <a:lnTo>
                  <a:pt x="5780" y="113446"/>
                </a:lnTo>
                <a:close/>
                <a:moveTo>
                  <a:pt x="11362" y="6327"/>
                </a:moveTo>
                <a:lnTo>
                  <a:pt x="11362" y="6327"/>
                </a:lnTo>
                <a:cubicBezTo>
                  <a:pt x="8571" y="6327"/>
                  <a:pt x="5780" y="9717"/>
                  <a:pt x="5780" y="12881"/>
                </a:cubicBezTo>
                <a:cubicBezTo>
                  <a:pt x="5780" y="17627"/>
                  <a:pt x="8571" y="19209"/>
                  <a:pt x="11362" y="19209"/>
                </a:cubicBezTo>
                <a:cubicBezTo>
                  <a:pt x="14152" y="19209"/>
                  <a:pt x="16943" y="17627"/>
                  <a:pt x="16943" y="12881"/>
                </a:cubicBezTo>
                <a:cubicBezTo>
                  <a:pt x="16943" y="9717"/>
                  <a:pt x="14152" y="6327"/>
                  <a:pt x="11362" y="6327"/>
                </a:cubicBezTo>
                <a:close/>
                <a:moveTo>
                  <a:pt x="28305" y="6327"/>
                </a:moveTo>
                <a:lnTo>
                  <a:pt x="28305" y="6327"/>
                </a:lnTo>
                <a:cubicBezTo>
                  <a:pt x="25514" y="6327"/>
                  <a:pt x="22524" y="9717"/>
                  <a:pt x="22524" y="12881"/>
                </a:cubicBezTo>
                <a:cubicBezTo>
                  <a:pt x="22524" y="17627"/>
                  <a:pt x="25514" y="19209"/>
                  <a:pt x="28305" y="19209"/>
                </a:cubicBezTo>
                <a:cubicBezTo>
                  <a:pt x="31096" y="19209"/>
                  <a:pt x="33887" y="17627"/>
                  <a:pt x="33887" y="12881"/>
                </a:cubicBezTo>
                <a:cubicBezTo>
                  <a:pt x="33887" y="9717"/>
                  <a:pt x="31096" y="6327"/>
                  <a:pt x="28305" y="6327"/>
                </a:cubicBezTo>
                <a:close/>
                <a:moveTo>
                  <a:pt x="45049" y="6327"/>
                </a:moveTo>
                <a:lnTo>
                  <a:pt x="45049" y="6327"/>
                </a:lnTo>
                <a:cubicBezTo>
                  <a:pt x="42259" y="6327"/>
                  <a:pt x="39468" y="9717"/>
                  <a:pt x="39468" y="12881"/>
                </a:cubicBezTo>
                <a:cubicBezTo>
                  <a:pt x="39468" y="17627"/>
                  <a:pt x="42259" y="19209"/>
                  <a:pt x="45049" y="19209"/>
                </a:cubicBezTo>
                <a:cubicBezTo>
                  <a:pt x="48039" y="19209"/>
                  <a:pt x="50830" y="17627"/>
                  <a:pt x="50830" y="12881"/>
                </a:cubicBezTo>
                <a:cubicBezTo>
                  <a:pt x="50830" y="9717"/>
                  <a:pt x="48039" y="6327"/>
                  <a:pt x="45049" y="6327"/>
                </a:cubicBezTo>
                <a:close/>
                <a:moveTo>
                  <a:pt x="108438" y="25536"/>
                </a:moveTo>
                <a:lnTo>
                  <a:pt x="108438" y="25536"/>
                </a:lnTo>
                <a:cubicBezTo>
                  <a:pt x="11362" y="25536"/>
                  <a:pt x="11362" y="25536"/>
                  <a:pt x="11362" y="25536"/>
                </a:cubicBezTo>
                <a:cubicBezTo>
                  <a:pt x="5780" y="25536"/>
                  <a:pt x="5780" y="25536"/>
                  <a:pt x="5780" y="25536"/>
                </a:cubicBezTo>
                <a:cubicBezTo>
                  <a:pt x="5780" y="51073"/>
                  <a:pt x="5780" y="51073"/>
                  <a:pt x="5780" y="51073"/>
                </a:cubicBezTo>
                <a:cubicBezTo>
                  <a:pt x="28305" y="51073"/>
                  <a:pt x="28305" y="51073"/>
                  <a:pt x="28305" y="51073"/>
                </a:cubicBezTo>
                <a:cubicBezTo>
                  <a:pt x="33887" y="51073"/>
                  <a:pt x="33887" y="51073"/>
                  <a:pt x="33887" y="51073"/>
                </a:cubicBezTo>
                <a:cubicBezTo>
                  <a:pt x="85913" y="51073"/>
                  <a:pt x="85913" y="51073"/>
                  <a:pt x="85913" y="51073"/>
                </a:cubicBezTo>
                <a:cubicBezTo>
                  <a:pt x="91694" y="51073"/>
                  <a:pt x="91694" y="51073"/>
                  <a:pt x="91694" y="51073"/>
                </a:cubicBezTo>
                <a:cubicBezTo>
                  <a:pt x="112823" y="51073"/>
                  <a:pt x="112823" y="51073"/>
                  <a:pt x="112823" y="51073"/>
                </a:cubicBezTo>
                <a:lnTo>
                  <a:pt x="112823" y="51073"/>
                </a:lnTo>
                <a:cubicBezTo>
                  <a:pt x="114219" y="51073"/>
                  <a:pt x="114219" y="51073"/>
                  <a:pt x="114219" y="51073"/>
                </a:cubicBezTo>
                <a:cubicBezTo>
                  <a:pt x="114219" y="25536"/>
                  <a:pt x="114219" y="25536"/>
                  <a:pt x="114219" y="25536"/>
                </a:cubicBezTo>
                <a:lnTo>
                  <a:pt x="108438" y="25536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Shape 5012"/>
          <p:cNvSpPr/>
          <p:nvPr/>
        </p:nvSpPr>
        <p:spPr>
          <a:xfrm>
            <a:off x="2655720" y="1106640"/>
            <a:ext cx="285840" cy="250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774"/>
                </a:moveTo>
                <a:lnTo>
                  <a:pt x="114219" y="119774"/>
                </a:lnTo>
                <a:cubicBezTo>
                  <a:pt x="5780" y="119774"/>
                  <a:pt x="5780" y="119774"/>
                  <a:pt x="5780" y="119774"/>
                </a:cubicBezTo>
                <a:cubicBezTo>
                  <a:pt x="1395" y="119774"/>
                  <a:pt x="0" y="116610"/>
                  <a:pt x="0" y="113446"/>
                </a:cubicBezTo>
                <a:cubicBezTo>
                  <a:pt x="0" y="6327"/>
                  <a:pt x="0" y="6327"/>
                  <a:pt x="0" y="6327"/>
                </a:cubicBezTo>
                <a:cubicBezTo>
                  <a:pt x="0" y="3163"/>
                  <a:pt x="1395" y="0"/>
                  <a:pt x="5780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3163"/>
                  <a:pt x="119800" y="6327"/>
                </a:cubicBezTo>
                <a:cubicBezTo>
                  <a:pt x="119800" y="113446"/>
                  <a:pt x="119800" y="113446"/>
                  <a:pt x="119800" y="113446"/>
                </a:cubicBezTo>
                <a:cubicBezTo>
                  <a:pt x="119800" y="116610"/>
                  <a:pt x="117009" y="119774"/>
                  <a:pt x="114219" y="119774"/>
                </a:cubicBezTo>
                <a:close/>
                <a:moveTo>
                  <a:pt x="91694" y="113446"/>
                </a:moveTo>
                <a:lnTo>
                  <a:pt x="91694" y="113446"/>
                </a:lnTo>
                <a:cubicBezTo>
                  <a:pt x="114219" y="113446"/>
                  <a:pt x="114219" y="113446"/>
                  <a:pt x="114219" y="113446"/>
                </a:cubicBezTo>
                <a:cubicBezTo>
                  <a:pt x="114219" y="57627"/>
                  <a:pt x="114219" y="57627"/>
                  <a:pt x="114219" y="57627"/>
                </a:cubicBezTo>
                <a:cubicBezTo>
                  <a:pt x="111428" y="57627"/>
                  <a:pt x="111428" y="57627"/>
                  <a:pt x="111428" y="57627"/>
                </a:cubicBezTo>
                <a:lnTo>
                  <a:pt x="111428" y="57627"/>
                </a:lnTo>
                <a:cubicBezTo>
                  <a:pt x="91694" y="57627"/>
                  <a:pt x="91694" y="57627"/>
                  <a:pt x="91694" y="57627"/>
                </a:cubicBezTo>
                <a:lnTo>
                  <a:pt x="91694" y="113446"/>
                </a:lnTo>
                <a:close/>
                <a:moveTo>
                  <a:pt x="5780" y="113446"/>
                </a:moveTo>
                <a:lnTo>
                  <a:pt x="5780" y="113446"/>
                </a:lnTo>
                <a:cubicBezTo>
                  <a:pt x="85913" y="113446"/>
                  <a:pt x="85913" y="113446"/>
                  <a:pt x="85913" y="113446"/>
                </a:cubicBezTo>
                <a:cubicBezTo>
                  <a:pt x="85913" y="57627"/>
                  <a:pt x="85913" y="57627"/>
                  <a:pt x="85913" y="57627"/>
                </a:cubicBezTo>
                <a:cubicBezTo>
                  <a:pt x="5780" y="57627"/>
                  <a:pt x="5780" y="57627"/>
                  <a:pt x="5780" y="57627"/>
                </a:cubicBezTo>
                <a:lnTo>
                  <a:pt x="5780" y="113446"/>
                </a:lnTo>
                <a:close/>
                <a:moveTo>
                  <a:pt x="11362" y="6327"/>
                </a:moveTo>
                <a:lnTo>
                  <a:pt x="11362" y="6327"/>
                </a:lnTo>
                <a:cubicBezTo>
                  <a:pt x="7176" y="6327"/>
                  <a:pt x="5780" y="9717"/>
                  <a:pt x="5780" y="12881"/>
                </a:cubicBezTo>
                <a:cubicBezTo>
                  <a:pt x="5780" y="17627"/>
                  <a:pt x="7176" y="19209"/>
                  <a:pt x="11362" y="19209"/>
                </a:cubicBezTo>
                <a:cubicBezTo>
                  <a:pt x="14152" y="19209"/>
                  <a:pt x="16943" y="17627"/>
                  <a:pt x="16943" y="12881"/>
                </a:cubicBezTo>
                <a:cubicBezTo>
                  <a:pt x="16943" y="9717"/>
                  <a:pt x="14152" y="6327"/>
                  <a:pt x="11362" y="6327"/>
                </a:cubicBezTo>
                <a:close/>
                <a:moveTo>
                  <a:pt x="28305" y="6327"/>
                </a:moveTo>
                <a:lnTo>
                  <a:pt x="28305" y="6327"/>
                </a:lnTo>
                <a:cubicBezTo>
                  <a:pt x="23920" y="6327"/>
                  <a:pt x="22524" y="9717"/>
                  <a:pt x="22524" y="12881"/>
                </a:cubicBezTo>
                <a:cubicBezTo>
                  <a:pt x="22524" y="17627"/>
                  <a:pt x="23920" y="19209"/>
                  <a:pt x="28305" y="19209"/>
                </a:cubicBezTo>
                <a:cubicBezTo>
                  <a:pt x="31096" y="19209"/>
                  <a:pt x="33887" y="17627"/>
                  <a:pt x="33887" y="12881"/>
                </a:cubicBezTo>
                <a:cubicBezTo>
                  <a:pt x="33887" y="9717"/>
                  <a:pt x="31096" y="6327"/>
                  <a:pt x="28305" y="6327"/>
                </a:cubicBezTo>
                <a:close/>
                <a:moveTo>
                  <a:pt x="45049" y="6327"/>
                </a:moveTo>
                <a:lnTo>
                  <a:pt x="45049" y="6327"/>
                </a:lnTo>
                <a:cubicBezTo>
                  <a:pt x="40863" y="6327"/>
                  <a:pt x="39468" y="9717"/>
                  <a:pt x="39468" y="12881"/>
                </a:cubicBezTo>
                <a:cubicBezTo>
                  <a:pt x="39468" y="17627"/>
                  <a:pt x="40863" y="19209"/>
                  <a:pt x="45049" y="19209"/>
                </a:cubicBezTo>
                <a:cubicBezTo>
                  <a:pt x="47840" y="19209"/>
                  <a:pt x="50830" y="17627"/>
                  <a:pt x="50830" y="12881"/>
                </a:cubicBezTo>
                <a:cubicBezTo>
                  <a:pt x="50830" y="9717"/>
                  <a:pt x="47840" y="6327"/>
                  <a:pt x="45049" y="6327"/>
                </a:cubicBezTo>
                <a:close/>
                <a:moveTo>
                  <a:pt x="108438" y="25536"/>
                </a:moveTo>
                <a:lnTo>
                  <a:pt x="108438" y="25536"/>
                </a:lnTo>
                <a:cubicBezTo>
                  <a:pt x="11362" y="25536"/>
                  <a:pt x="11362" y="25536"/>
                  <a:pt x="11362" y="25536"/>
                </a:cubicBezTo>
                <a:cubicBezTo>
                  <a:pt x="5780" y="25536"/>
                  <a:pt x="5780" y="25536"/>
                  <a:pt x="5780" y="25536"/>
                </a:cubicBezTo>
                <a:cubicBezTo>
                  <a:pt x="5780" y="51073"/>
                  <a:pt x="5780" y="51073"/>
                  <a:pt x="5780" y="51073"/>
                </a:cubicBezTo>
                <a:cubicBezTo>
                  <a:pt x="85913" y="51073"/>
                  <a:pt x="85913" y="51073"/>
                  <a:pt x="85913" y="51073"/>
                </a:cubicBezTo>
                <a:cubicBezTo>
                  <a:pt x="91694" y="51073"/>
                  <a:pt x="91694" y="51073"/>
                  <a:pt x="91694" y="51073"/>
                </a:cubicBezTo>
                <a:cubicBezTo>
                  <a:pt x="111428" y="51073"/>
                  <a:pt x="111428" y="51073"/>
                  <a:pt x="111428" y="51073"/>
                </a:cubicBezTo>
                <a:lnTo>
                  <a:pt x="111428" y="51073"/>
                </a:lnTo>
                <a:cubicBezTo>
                  <a:pt x="114219" y="51073"/>
                  <a:pt x="114219" y="51073"/>
                  <a:pt x="114219" y="51073"/>
                </a:cubicBezTo>
                <a:cubicBezTo>
                  <a:pt x="114219" y="25536"/>
                  <a:pt x="114219" y="25536"/>
                  <a:pt x="114219" y="25536"/>
                </a:cubicBezTo>
                <a:lnTo>
                  <a:pt x="108438" y="25536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Shape 5013"/>
          <p:cNvSpPr/>
          <p:nvPr/>
        </p:nvSpPr>
        <p:spPr>
          <a:xfrm>
            <a:off x="2154240" y="1106640"/>
            <a:ext cx="289080" cy="250560"/>
          </a:xfrm>
          <a:custGeom>
            <a:avLst/>
            <a:gdLst>
              <a:gd name="textAreaLeft" fmla="*/ 0 w 289080"/>
              <a:gd name="textAreaRight" fmla="*/ 289440 w 28908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285" y="119774"/>
                </a:moveTo>
                <a:lnTo>
                  <a:pt x="114285" y="119774"/>
                </a:lnTo>
                <a:cubicBezTo>
                  <a:pt x="5517" y="119774"/>
                  <a:pt x="5517" y="119774"/>
                  <a:pt x="5517" y="119774"/>
                </a:cubicBezTo>
                <a:cubicBezTo>
                  <a:pt x="2758" y="119774"/>
                  <a:pt x="0" y="116610"/>
                  <a:pt x="0" y="113446"/>
                </a:cubicBezTo>
                <a:cubicBezTo>
                  <a:pt x="0" y="6327"/>
                  <a:pt x="0" y="6327"/>
                  <a:pt x="0" y="6327"/>
                </a:cubicBezTo>
                <a:cubicBezTo>
                  <a:pt x="0" y="3163"/>
                  <a:pt x="2758" y="0"/>
                  <a:pt x="5517" y="0"/>
                </a:cubicBezTo>
                <a:cubicBezTo>
                  <a:pt x="114285" y="0"/>
                  <a:pt x="114285" y="0"/>
                  <a:pt x="114285" y="0"/>
                </a:cubicBezTo>
                <a:cubicBezTo>
                  <a:pt x="117044" y="0"/>
                  <a:pt x="119802" y="3163"/>
                  <a:pt x="119802" y="6327"/>
                </a:cubicBezTo>
                <a:cubicBezTo>
                  <a:pt x="119802" y="113446"/>
                  <a:pt x="119802" y="113446"/>
                  <a:pt x="119802" y="113446"/>
                </a:cubicBezTo>
                <a:cubicBezTo>
                  <a:pt x="119802" y="116610"/>
                  <a:pt x="117044" y="119774"/>
                  <a:pt x="114285" y="119774"/>
                </a:cubicBezTo>
                <a:close/>
                <a:moveTo>
                  <a:pt x="33497" y="113446"/>
                </a:moveTo>
                <a:lnTo>
                  <a:pt x="33497" y="113446"/>
                </a:lnTo>
                <a:cubicBezTo>
                  <a:pt x="114285" y="113446"/>
                  <a:pt x="114285" y="113446"/>
                  <a:pt x="114285" y="113446"/>
                </a:cubicBezTo>
                <a:cubicBezTo>
                  <a:pt x="114285" y="57627"/>
                  <a:pt x="114285" y="57627"/>
                  <a:pt x="114285" y="57627"/>
                </a:cubicBezTo>
                <a:cubicBezTo>
                  <a:pt x="112906" y="57627"/>
                  <a:pt x="112906" y="57627"/>
                  <a:pt x="112906" y="57627"/>
                </a:cubicBezTo>
                <a:lnTo>
                  <a:pt x="112906" y="57627"/>
                </a:lnTo>
                <a:cubicBezTo>
                  <a:pt x="33497" y="57627"/>
                  <a:pt x="33497" y="57627"/>
                  <a:pt x="33497" y="57627"/>
                </a:cubicBezTo>
                <a:lnTo>
                  <a:pt x="33497" y="113446"/>
                </a:lnTo>
                <a:close/>
                <a:moveTo>
                  <a:pt x="5517" y="113446"/>
                </a:moveTo>
                <a:lnTo>
                  <a:pt x="5517" y="113446"/>
                </a:lnTo>
                <a:cubicBezTo>
                  <a:pt x="27783" y="113446"/>
                  <a:pt x="27783" y="113446"/>
                  <a:pt x="27783" y="113446"/>
                </a:cubicBezTo>
                <a:cubicBezTo>
                  <a:pt x="27783" y="57627"/>
                  <a:pt x="27783" y="57627"/>
                  <a:pt x="27783" y="57627"/>
                </a:cubicBezTo>
                <a:cubicBezTo>
                  <a:pt x="5517" y="57627"/>
                  <a:pt x="5517" y="57627"/>
                  <a:pt x="5517" y="57627"/>
                </a:cubicBezTo>
                <a:lnTo>
                  <a:pt x="5517" y="113446"/>
                </a:lnTo>
                <a:close/>
                <a:moveTo>
                  <a:pt x="11231" y="6327"/>
                </a:moveTo>
                <a:lnTo>
                  <a:pt x="11231" y="6327"/>
                </a:lnTo>
                <a:cubicBezTo>
                  <a:pt x="8472" y="6327"/>
                  <a:pt x="5517" y="9717"/>
                  <a:pt x="5517" y="12881"/>
                </a:cubicBezTo>
                <a:cubicBezTo>
                  <a:pt x="5517" y="17627"/>
                  <a:pt x="8472" y="19209"/>
                  <a:pt x="11231" y="19209"/>
                </a:cubicBezTo>
                <a:cubicBezTo>
                  <a:pt x="15369" y="19209"/>
                  <a:pt x="16748" y="17627"/>
                  <a:pt x="16748" y="12881"/>
                </a:cubicBezTo>
                <a:cubicBezTo>
                  <a:pt x="16748" y="9717"/>
                  <a:pt x="15369" y="6327"/>
                  <a:pt x="11231" y="6327"/>
                </a:cubicBezTo>
                <a:close/>
                <a:moveTo>
                  <a:pt x="27783" y="6327"/>
                </a:moveTo>
                <a:lnTo>
                  <a:pt x="27783" y="6327"/>
                </a:lnTo>
                <a:cubicBezTo>
                  <a:pt x="25024" y="6327"/>
                  <a:pt x="22266" y="9717"/>
                  <a:pt x="22266" y="12881"/>
                </a:cubicBezTo>
                <a:cubicBezTo>
                  <a:pt x="22266" y="17627"/>
                  <a:pt x="25024" y="19209"/>
                  <a:pt x="27783" y="19209"/>
                </a:cubicBezTo>
                <a:cubicBezTo>
                  <a:pt x="32118" y="19209"/>
                  <a:pt x="33497" y="17627"/>
                  <a:pt x="33497" y="12881"/>
                </a:cubicBezTo>
                <a:cubicBezTo>
                  <a:pt x="33497" y="9717"/>
                  <a:pt x="32118" y="6327"/>
                  <a:pt x="27783" y="6327"/>
                </a:cubicBezTo>
                <a:close/>
                <a:moveTo>
                  <a:pt x="44532" y="6327"/>
                </a:moveTo>
                <a:lnTo>
                  <a:pt x="44532" y="6327"/>
                </a:lnTo>
                <a:cubicBezTo>
                  <a:pt x="41773" y="6327"/>
                  <a:pt x="39014" y="9717"/>
                  <a:pt x="39014" y="12881"/>
                </a:cubicBezTo>
                <a:cubicBezTo>
                  <a:pt x="39014" y="17627"/>
                  <a:pt x="41773" y="19209"/>
                  <a:pt x="44532" y="19209"/>
                </a:cubicBezTo>
                <a:cubicBezTo>
                  <a:pt x="48669" y="19209"/>
                  <a:pt x="50049" y="17627"/>
                  <a:pt x="50049" y="12881"/>
                </a:cubicBezTo>
                <a:cubicBezTo>
                  <a:pt x="50049" y="9717"/>
                  <a:pt x="48669" y="6327"/>
                  <a:pt x="44532" y="6327"/>
                </a:cubicBezTo>
                <a:close/>
                <a:moveTo>
                  <a:pt x="108571" y="25536"/>
                </a:moveTo>
                <a:lnTo>
                  <a:pt x="108571" y="25536"/>
                </a:lnTo>
                <a:cubicBezTo>
                  <a:pt x="11231" y="25536"/>
                  <a:pt x="11231" y="25536"/>
                  <a:pt x="11231" y="25536"/>
                </a:cubicBezTo>
                <a:cubicBezTo>
                  <a:pt x="5517" y="25536"/>
                  <a:pt x="5517" y="25536"/>
                  <a:pt x="5517" y="25536"/>
                </a:cubicBezTo>
                <a:cubicBezTo>
                  <a:pt x="5517" y="51073"/>
                  <a:pt x="5517" y="51073"/>
                  <a:pt x="5517" y="51073"/>
                </a:cubicBezTo>
                <a:cubicBezTo>
                  <a:pt x="27783" y="51073"/>
                  <a:pt x="27783" y="51073"/>
                  <a:pt x="27783" y="51073"/>
                </a:cubicBezTo>
                <a:cubicBezTo>
                  <a:pt x="33497" y="51073"/>
                  <a:pt x="33497" y="51073"/>
                  <a:pt x="33497" y="51073"/>
                </a:cubicBezTo>
                <a:cubicBezTo>
                  <a:pt x="112906" y="51073"/>
                  <a:pt x="112906" y="51073"/>
                  <a:pt x="112906" y="51073"/>
                </a:cubicBezTo>
                <a:lnTo>
                  <a:pt x="112906" y="51073"/>
                </a:lnTo>
                <a:cubicBezTo>
                  <a:pt x="114285" y="51073"/>
                  <a:pt x="114285" y="51073"/>
                  <a:pt x="114285" y="51073"/>
                </a:cubicBezTo>
                <a:cubicBezTo>
                  <a:pt x="114285" y="25536"/>
                  <a:pt x="114285" y="25536"/>
                  <a:pt x="114285" y="25536"/>
                </a:cubicBezTo>
                <a:lnTo>
                  <a:pt x="108571" y="25536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Shape 5014"/>
          <p:cNvSpPr/>
          <p:nvPr/>
        </p:nvSpPr>
        <p:spPr>
          <a:xfrm>
            <a:off x="1654200" y="1106640"/>
            <a:ext cx="287280" cy="250560"/>
          </a:xfrm>
          <a:custGeom>
            <a:avLst/>
            <a:gdLst>
              <a:gd name="textAreaLeft" fmla="*/ 0 w 287280"/>
              <a:gd name="textAreaRight" fmla="*/ 287640 w 28728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74"/>
                </a:moveTo>
                <a:lnTo>
                  <a:pt x="114019" y="119774"/>
                </a:lnTo>
                <a:cubicBezTo>
                  <a:pt x="5581" y="119774"/>
                  <a:pt x="5581" y="119774"/>
                  <a:pt x="5581" y="119774"/>
                </a:cubicBezTo>
                <a:cubicBezTo>
                  <a:pt x="2790" y="119774"/>
                  <a:pt x="0" y="116610"/>
                  <a:pt x="0" y="113446"/>
                </a:cubicBezTo>
                <a:cubicBezTo>
                  <a:pt x="0" y="6327"/>
                  <a:pt x="0" y="6327"/>
                  <a:pt x="0" y="6327"/>
                </a:cubicBezTo>
                <a:cubicBezTo>
                  <a:pt x="0" y="316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3163"/>
                  <a:pt x="119800" y="6327"/>
                </a:cubicBezTo>
                <a:cubicBezTo>
                  <a:pt x="119800" y="113446"/>
                  <a:pt x="119800" y="113446"/>
                  <a:pt x="119800" y="113446"/>
                </a:cubicBezTo>
                <a:cubicBezTo>
                  <a:pt x="119800" y="116610"/>
                  <a:pt x="118405" y="119774"/>
                  <a:pt x="114019" y="119774"/>
                </a:cubicBezTo>
                <a:close/>
                <a:moveTo>
                  <a:pt x="11362" y="6327"/>
                </a:moveTo>
                <a:lnTo>
                  <a:pt x="11362" y="6327"/>
                </a:lnTo>
                <a:cubicBezTo>
                  <a:pt x="8372" y="6327"/>
                  <a:pt x="5581" y="9717"/>
                  <a:pt x="5581" y="12881"/>
                </a:cubicBezTo>
                <a:cubicBezTo>
                  <a:pt x="5581" y="17627"/>
                  <a:pt x="8372" y="19209"/>
                  <a:pt x="11362" y="19209"/>
                </a:cubicBezTo>
                <a:cubicBezTo>
                  <a:pt x="14152" y="19209"/>
                  <a:pt x="16943" y="17627"/>
                  <a:pt x="16943" y="12881"/>
                </a:cubicBezTo>
                <a:cubicBezTo>
                  <a:pt x="16943" y="9717"/>
                  <a:pt x="14152" y="6327"/>
                  <a:pt x="11362" y="6327"/>
                </a:cubicBezTo>
                <a:close/>
                <a:moveTo>
                  <a:pt x="28106" y="6327"/>
                </a:moveTo>
                <a:lnTo>
                  <a:pt x="28106" y="6327"/>
                </a:lnTo>
                <a:cubicBezTo>
                  <a:pt x="25315" y="6327"/>
                  <a:pt x="22524" y="9717"/>
                  <a:pt x="22524" y="12881"/>
                </a:cubicBezTo>
                <a:cubicBezTo>
                  <a:pt x="22524" y="17627"/>
                  <a:pt x="25315" y="19209"/>
                  <a:pt x="28106" y="19209"/>
                </a:cubicBezTo>
                <a:cubicBezTo>
                  <a:pt x="31096" y="19209"/>
                  <a:pt x="33887" y="17627"/>
                  <a:pt x="33887" y="12881"/>
                </a:cubicBezTo>
                <a:cubicBezTo>
                  <a:pt x="33887" y="9717"/>
                  <a:pt x="31096" y="6327"/>
                  <a:pt x="28106" y="6327"/>
                </a:cubicBezTo>
                <a:close/>
                <a:moveTo>
                  <a:pt x="45049" y="6327"/>
                </a:moveTo>
                <a:lnTo>
                  <a:pt x="45049" y="6327"/>
                </a:lnTo>
                <a:cubicBezTo>
                  <a:pt x="42259" y="6327"/>
                  <a:pt x="39468" y="9717"/>
                  <a:pt x="39468" y="12881"/>
                </a:cubicBezTo>
                <a:cubicBezTo>
                  <a:pt x="39468" y="17627"/>
                  <a:pt x="42259" y="19209"/>
                  <a:pt x="45049" y="19209"/>
                </a:cubicBezTo>
                <a:cubicBezTo>
                  <a:pt x="47840" y="19209"/>
                  <a:pt x="50631" y="17627"/>
                  <a:pt x="50631" y="12881"/>
                </a:cubicBezTo>
                <a:cubicBezTo>
                  <a:pt x="50631" y="9717"/>
                  <a:pt x="47840" y="6327"/>
                  <a:pt x="45049" y="6327"/>
                </a:cubicBezTo>
                <a:close/>
                <a:moveTo>
                  <a:pt x="114019" y="25536"/>
                </a:moveTo>
                <a:lnTo>
                  <a:pt x="114019" y="25536"/>
                </a:lnTo>
                <a:cubicBezTo>
                  <a:pt x="108438" y="25536"/>
                  <a:pt x="108438" y="25536"/>
                  <a:pt x="108438" y="25536"/>
                </a:cubicBezTo>
                <a:cubicBezTo>
                  <a:pt x="11362" y="25536"/>
                  <a:pt x="11362" y="25536"/>
                  <a:pt x="11362" y="25536"/>
                </a:cubicBezTo>
                <a:cubicBezTo>
                  <a:pt x="5581" y="25536"/>
                  <a:pt x="5581" y="25536"/>
                  <a:pt x="5581" y="25536"/>
                </a:cubicBezTo>
                <a:cubicBezTo>
                  <a:pt x="5581" y="113446"/>
                  <a:pt x="5581" y="113446"/>
                  <a:pt x="5581" y="113446"/>
                </a:cubicBezTo>
                <a:cubicBezTo>
                  <a:pt x="114019" y="113446"/>
                  <a:pt x="114019" y="113446"/>
                  <a:pt x="114019" y="113446"/>
                </a:cubicBezTo>
                <a:lnTo>
                  <a:pt x="114019" y="25536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Shape 5015"/>
          <p:cNvSpPr/>
          <p:nvPr/>
        </p:nvSpPr>
        <p:spPr>
          <a:xfrm>
            <a:off x="10202760" y="2075040"/>
            <a:ext cx="284400" cy="287280"/>
          </a:xfrm>
          <a:custGeom>
            <a:avLst/>
            <a:gdLst>
              <a:gd name="textAreaLeft" fmla="*/ 0 w 284400"/>
              <a:gd name="textAreaRight" fmla="*/ 284760 w 2844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83261" y="80788"/>
                </a:moveTo>
                <a:lnTo>
                  <a:pt x="83261" y="80788"/>
                </a:lnTo>
                <a:cubicBezTo>
                  <a:pt x="80266" y="83546"/>
                  <a:pt x="77470" y="86305"/>
                  <a:pt x="73277" y="87684"/>
                </a:cubicBezTo>
                <a:cubicBezTo>
                  <a:pt x="70482" y="89064"/>
                  <a:pt x="64891" y="89064"/>
                  <a:pt x="59101" y="89064"/>
                </a:cubicBezTo>
                <a:cubicBezTo>
                  <a:pt x="53510" y="89064"/>
                  <a:pt x="47920" y="89064"/>
                  <a:pt x="43727" y="86305"/>
                </a:cubicBezTo>
                <a:cubicBezTo>
                  <a:pt x="40732" y="84926"/>
                  <a:pt x="37936" y="82167"/>
                  <a:pt x="36539" y="80788"/>
                </a:cubicBezTo>
                <a:cubicBezTo>
                  <a:pt x="33743" y="78029"/>
                  <a:pt x="33743" y="75270"/>
                  <a:pt x="33743" y="72315"/>
                </a:cubicBezTo>
                <a:cubicBezTo>
                  <a:pt x="33743" y="70935"/>
                  <a:pt x="33743" y="69556"/>
                  <a:pt x="35141" y="68177"/>
                </a:cubicBezTo>
                <a:cubicBezTo>
                  <a:pt x="36539" y="66798"/>
                  <a:pt x="37936" y="66798"/>
                  <a:pt x="39334" y="66798"/>
                </a:cubicBezTo>
                <a:cubicBezTo>
                  <a:pt x="40732" y="66798"/>
                  <a:pt x="42129" y="66798"/>
                  <a:pt x="43727" y="68177"/>
                </a:cubicBezTo>
                <a:cubicBezTo>
                  <a:pt x="45124" y="68177"/>
                  <a:pt x="45124" y="69556"/>
                  <a:pt x="46522" y="72315"/>
                </a:cubicBezTo>
                <a:cubicBezTo>
                  <a:pt x="47920" y="73891"/>
                  <a:pt x="47920" y="75270"/>
                  <a:pt x="49317" y="76650"/>
                </a:cubicBezTo>
                <a:cubicBezTo>
                  <a:pt x="49317" y="76650"/>
                  <a:pt x="50715" y="78029"/>
                  <a:pt x="52113" y="79408"/>
                </a:cubicBezTo>
                <a:cubicBezTo>
                  <a:pt x="54908" y="79408"/>
                  <a:pt x="56306" y="79408"/>
                  <a:pt x="59101" y="79408"/>
                </a:cubicBezTo>
                <a:cubicBezTo>
                  <a:pt x="63494" y="79408"/>
                  <a:pt x="66289" y="79408"/>
                  <a:pt x="69084" y="78029"/>
                </a:cubicBezTo>
                <a:cubicBezTo>
                  <a:pt x="70482" y="76650"/>
                  <a:pt x="71880" y="75270"/>
                  <a:pt x="71880" y="72315"/>
                </a:cubicBezTo>
                <a:cubicBezTo>
                  <a:pt x="71880" y="70935"/>
                  <a:pt x="70482" y="69556"/>
                  <a:pt x="70482" y="68177"/>
                </a:cubicBezTo>
                <a:cubicBezTo>
                  <a:pt x="69084" y="66798"/>
                  <a:pt x="67687" y="66798"/>
                  <a:pt x="64891" y="65418"/>
                </a:cubicBezTo>
                <a:cubicBezTo>
                  <a:pt x="63494" y="65418"/>
                  <a:pt x="60499" y="64039"/>
                  <a:pt x="56306" y="64039"/>
                </a:cubicBezTo>
                <a:cubicBezTo>
                  <a:pt x="52113" y="62660"/>
                  <a:pt x="47920" y="61280"/>
                  <a:pt x="45124" y="59901"/>
                </a:cubicBezTo>
                <a:cubicBezTo>
                  <a:pt x="42129" y="59901"/>
                  <a:pt x="39334" y="57142"/>
                  <a:pt x="37936" y="55763"/>
                </a:cubicBezTo>
                <a:cubicBezTo>
                  <a:pt x="35141" y="53004"/>
                  <a:pt x="35141" y="50049"/>
                  <a:pt x="35141" y="45911"/>
                </a:cubicBezTo>
                <a:cubicBezTo>
                  <a:pt x="35141" y="43152"/>
                  <a:pt x="35141" y="40394"/>
                  <a:pt x="37936" y="37635"/>
                </a:cubicBezTo>
                <a:cubicBezTo>
                  <a:pt x="39334" y="34876"/>
                  <a:pt x="42129" y="33300"/>
                  <a:pt x="46522" y="31921"/>
                </a:cubicBezTo>
                <a:cubicBezTo>
                  <a:pt x="50715" y="30541"/>
                  <a:pt x="54908" y="30541"/>
                  <a:pt x="59101" y="30541"/>
                </a:cubicBezTo>
                <a:cubicBezTo>
                  <a:pt x="63494" y="30541"/>
                  <a:pt x="67687" y="30541"/>
                  <a:pt x="70482" y="31921"/>
                </a:cubicBezTo>
                <a:cubicBezTo>
                  <a:pt x="73277" y="31921"/>
                  <a:pt x="76073" y="33300"/>
                  <a:pt x="77470" y="34876"/>
                </a:cubicBezTo>
                <a:cubicBezTo>
                  <a:pt x="78868" y="36256"/>
                  <a:pt x="80266" y="37635"/>
                  <a:pt x="81663" y="40394"/>
                </a:cubicBezTo>
                <a:cubicBezTo>
                  <a:pt x="83261" y="41773"/>
                  <a:pt x="83261" y="43152"/>
                  <a:pt x="83261" y="44532"/>
                </a:cubicBezTo>
                <a:cubicBezTo>
                  <a:pt x="83261" y="45911"/>
                  <a:pt x="83261" y="47290"/>
                  <a:pt x="81663" y="48669"/>
                </a:cubicBezTo>
                <a:cubicBezTo>
                  <a:pt x="80266" y="50049"/>
                  <a:pt x="78868" y="50049"/>
                  <a:pt x="76073" y="50049"/>
                </a:cubicBezTo>
                <a:cubicBezTo>
                  <a:pt x="74675" y="50049"/>
                  <a:pt x="73277" y="50049"/>
                  <a:pt x="73277" y="48669"/>
                </a:cubicBezTo>
                <a:cubicBezTo>
                  <a:pt x="71880" y="48669"/>
                  <a:pt x="70482" y="47290"/>
                  <a:pt x="70482" y="45911"/>
                </a:cubicBezTo>
                <a:cubicBezTo>
                  <a:pt x="69084" y="44532"/>
                  <a:pt x="67687" y="41773"/>
                  <a:pt x="66289" y="41773"/>
                </a:cubicBezTo>
                <a:cubicBezTo>
                  <a:pt x="64891" y="40394"/>
                  <a:pt x="62096" y="39014"/>
                  <a:pt x="59101" y="39014"/>
                </a:cubicBezTo>
                <a:cubicBezTo>
                  <a:pt x="54908" y="39014"/>
                  <a:pt x="52113" y="40394"/>
                  <a:pt x="50715" y="41773"/>
                </a:cubicBezTo>
                <a:cubicBezTo>
                  <a:pt x="49317" y="43152"/>
                  <a:pt x="47920" y="44532"/>
                  <a:pt x="47920" y="45911"/>
                </a:cubicBezTo>
                <a:cubicBezTo>
                  <a:pt x="47920" y="45911"/>
                  <a:pt x="47920" y="47290"/>
                  <a:pt x="49317" y="47290"/>
                </a:cubicBezTo>
                <a:cubicBezTo>
                  <a:pt x="49317" y="48669"/>
                  <a:pt x="50715" y="48669"/>
                  <a:pt x="52113" y="50049"/>
                </a:cubicBezTo>
                <a:cubicBezTo>
                  <a:pt x="52113" y="50049"/>
                  <a:pt x="53510" y="51428"/>
                  <a:pt x="54908" y="51428"/>
                </a:cubicBezTo>
                <a:cubicBezTo>
                  <a:pt x="56306" y="51428"/>
                  <a:pt x="59101" y="51428"/>
                  <a:pt x="62096" y="53004"/>
                </a:cubicBezTo>
                <a:cubicBezTo>
                  <a:pt x="64891" y="53004"/>
                  <a:pt x="69084" y="54384"/>
                  <a:pt x="71880" y="55763"/>
                </a:cubicBezTo>
                <a:cubicBezTo>
                  <a:pt x="74675" y="55763"/>
                  <a:pt x="77470" y="57142"/>
                  <a:pt x="78868" y="58522"/>
                </a:cubicBezTo>
                <a:cubicBezTo>
                  <a:pt x="81663" y="59901"/>
                  <a:pt x="83261" y="61280"/>
                  <a:pt x="84658" y="64039"/>
                </a:cubicBezTo>
                <a:cubicBezTo>
                  <a:pt x="86056" y="65418"/>
                  <a:pt x="86056" y="68177"/>
                  <a:pt x="86056" y="70935"/>
                </a:cubicBezTo>
                <a:cubicBezTo>
                  <a:pt x="86056" y="75270"/>
                  <a:pt x="84658" y="78029"/>
                  <a:pt x="83261" y="80788"/>
                </a:cubicBezTo>
                <a:close/>
                <a:moveTo>
                  <a:pt x="119800" y="89064"/>
                </a:moveTo>
                <a:lnTo>
                  <a:pt x="119800" y="89064"/>
                </a:lnTo>
                <a:cubicBezTo>
                  <a:pt x="119800" y="105812"/>
                  <a:pt x="105823" y="119802"/>
                  <a:pt x="90249" y="119802"/>
                </a:cubicBezTo>
                <a:cubicBezTo>
                  <a:pt x="81663" y="119802"/>
                  <a:pt x="74675" y="115665"/>
                  <a:pt x="69084" y="111330"/>
                </a:cubicBezTo>
                <a:cubicBezTo>
                  <a:pt x="66289" y="111330"/>
                  <a:pt x="63494" y="111330"/>
                  <a:pt x="59101" y="111330"/>
                </a:cubicBezTo>
                <a:cubicBezTo>
                  <a:pt x="30948" y="111330"/>
                  <a:pt x="6988" y="89064"/>
                  <a:pt x="6988" y="59901"/>
                </a:cubicBezTo>
                <a:cubicBezTo>
                  <a:pt x="6988" y="57142"/>
                  <a:pt x="6988" y="54384"/>
                  <a:pt x="8386" y="50049"/>
                </a:cubicBezTo>
                <a:cubicBezTo>
                  <a:pt x="2795" y="45911"/>
                  <a:pt x="0" y="37635"/>
                  <a:pt x="0" y="30541"/>
                </a:cubicBezTo>
                <a:cubicBezTo>
                  <a:pt x="0" y="13990"/>
                  <a:pt x="12579" y="0"/>
                  <a:pt x="29550" y="0"/>
                </a:cubicBezTo>
                <a:cubicBezTo>
                  <a:pt x="37936" y="0"/>
                  <a:pt x="45124" y="4137"/>
                  <a:pt x="50715" y="8275"/>
                </a:cubicBezTo>
                <a:cubicBezTo>
                  <a:pt x="53510" y="8275"/>
                  <a:pt x="56306" y="8275"/>
                  <a:pt x="59101" y="8275"/>
                </a:cubicBezTo>
                <a:cubicBezTo>
                  <a:pt x="88851" y="8275"/>
                  <a:pt x="112811" y="30541"/>
                  <a:pt x="112811" y="59901"/>
                </a:cubicBezTo>
                <a:cubicBezTo>
                  <a:pt x="112811" y="62660"/>
                  <a:pt x="111414" y="65418"/>
                  <a:pt x="111414" y="69556"/>
                </a:cubicBezTo>
                <a:cubicBezTo>
                  <a:pt x="117004" y="73891"/>
                  <a:pt x="119800" y="82167"/>
                  <a:pt x="119800" y="8906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Shape 5016"/>
          <p:cNvSpPr/>
          <p:nvPr/>
        </p:nvSpPr>
        <p:spPr>
          <a:xfrm>
            <a:off x="9699480" y="2097000"/>
            <a:ext cx="289080" cy="243000"/>
          </a:xfrm>
          <a:custGeom>
            <a:avLst/>
            <a:gdLst>
              <a:gd name="textAreaLeft" fmla="*/ 0 w 289080"/>
              <a:gd name="textAreaRight" fmla="*/ 289440 w 2890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78029" y="49882"/>
                </a:moveTo>
                <a:lnTo>
                  <a:pt x="78029" y="49882"/>
                </a:lnTo>
                <a:cubicBezTo>
                  <a:pt x="62660" y="31764"/>
                  <a:pt x="62660" y="31764"/>
                  <a:pt x="62660" y="31764"/>
                </a:cubicBezTo>
                <a:cubicBezTo>
                  <a:pt x="58522" y="26588"/>
                  <a:pt x="51625" y="26588"/>
                  <a:pt x="47487" y="31764"/>
                </a:cubicBezTo>
                <a:cubicBezTo>
                  <a:pt x="43152" y="36705"/>
                  <a:pt x="43152" y="36705"/>
                  <a:pt x="43152" y="36705"/>
                </a:cubicBezTo>
                <a:cubicBezTo>
                  <a:pt x="39014" y="31764"/>
                  <a:pt x="33497" y="28235"/>
                  <a:pt x="27980" y="28235"/>
                </a:cubicBezTo>
                <a:cubicBezTo>
                  <a:pt x="12610" y="28235"/>
                  <a:pt x="0" y="43294"/>
                  <a:pt x="0" y="61647"/>
                </a:cubicBezTo>
                <a:cubicBezTo>
                  <a:pt x="0" y="78352"/>
                  <a:pt x="12610" y="93176"/>
                  <a:pt x="27980" y="93176"/>
                </a:cubicBezTo>
                <a:cubicBezTo>
                  <a:pt x="29359" y="93176"/>
                  <a:pt x="29359" y="91529"/>
                  <a:pt x="30738" y="91529"/>
                </a:cubicBezTo>
                <a:cubicBezTo>
                  <a:pt x="55763" y="119764"/>
                  <a:pt x="55763" y="119764"/>
                  <a:pt x="55763" y="119764"/>
                </a:cubicBezTo>
                <a:cubicBezTo>
                  <a:pt x="119802" y="51764"/>
                  <a:pt x="119802" y="51764"/>
                  <a:pt x="119802" y="51764"/>
                </a:cubicBezTo>
                <a:cubicBezTo>
                  <a:pt x="119802" y="0"/>
                  <a:pt x="119802" y="0"/>
                  <a:pt x="119802" y="0"/>
                </a:cubicBezTo>
                <a:lnTo>
                  <a:pt x="78029" y="49882"/>
                </a:lnTo>
                <a:close/>
                <a:moveTo>
                  <a:pt x="27980" y="84941"/>
                </a:moveTo>
                <a:lnTo>
                  <a:pt x="27980" y="84941"/>
                </a:lnTo>
                <a:lnTo>
                  <a:pt x="27980" y="84941"/>
                </a:lnTo>
                <a:cubicBezTo>
                  <a:pt x="16748" y="84941"/>
                  <a:pt x="7093" y="73176"/>
                  <a:pt x="7093" y="61647"/>
                </a:cubicBezTo>
                <a:cubicBezTo>
                  <a:pt x="7093" y="48235"/>
                  <a:pt x="16748" y="36705"/>
                  <a:pt x="27980" y="36705"/>
                </a:cubicBezTo>
                <a:cubicBezTo>
                  <a:pt x="32118" y="36705"/>
                  <a:pt x="36256" y="38352"/>
                  <a:pt x="39014" y="41647"/>
                </a:cubicBezTo>
                <a:cubicBezTo>
                  <a:pt x="44532" y="46588"/>
                  <a:pt x="47487" y="53411"/>
                  <a:pt x="47487" y="61647"/>
                </a:cubicBezTo>
                <a:cubicBezTo>
                  <a:pt x="47487" y="73176"/>
                  <a:pt x="39014" y="84941"/>
                  <a:pt x="27980" y="84941"/>
                </a:cubicBezTo>
                <a:close/>
                <a:moveTo>
                  <a:pt x="111527" y="49882"/>
                </a:moveTo>
                <a:lnTo>
                  <a:pt x="111527" y="49882"/>
                </a:lnTo>
                <a:cubicBezTo>
                  <a:pt x="90640" y="73176"/>
                  <a:pt x="90640" y="73176"/>
                  <a:pt x="90640" y="73176"/>
                </a:cubicBezTo>
                <a:cubicBezTo>
                  <a:pt x="57142" y="109882"/>
                  <a:pt x="57142" y="109882"/>
                  <a:pt x="57142" y="109882"/>
                </a:cubicBezTo>
                <a:cubicBezTo>
                  <a:pt x="39014" y="89882"/>
                  <a:pt x="39014" y="89882"/>
                  <a:pt x="39014" y="89882"/>
                </a:cubicBezTo>
                <a:cubicBezTo>
                  <a:pt x="43152" y="86588"/>
                  <a:pt x="47487" y="83294"/>
                  <a:pt x="50246" y="76705"/>
                </a:cubicBezTo>
                <a:cubicBezTo>
                  <a:pt x="57142" y="86588"/>
                  <a:pt x="57142" y="86588"/>
                  <a:pt x="57142" y="86588"/>
                </a:cubicBezTo>
                <a:cubicBezTo>
                  <a:pt x="82167" y="55058"/>
                  <a:pt x="82167" y="55058"/>
                  <a:pt x="82167" y="55058"/>
                </a:cubicBezTo>
                <a:cubicBezTo>
                  <a:pt x="111527" y="20000"/>
                  <a:pt x="111527" y="20000"/>
                  <a:pt x="111527" y="20000"/>
                </a:cubicBezTo>
                <a:lnTo>
                  <a:pt x="111527" y="49882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Shape 5017"/>
          <p:cNvSpPr/>
          <p:nvPr/>
        </p:nvSpPr>
        <p:spPr>
          <a:xfrm>
            <a:off x="9202680" y="2085840"/>
            <a:ext cx="285840" cy="266760"/>
          </a:xfrm>
          <a:custGeom>
            <a:avLst/>
            <a:gdLst>
              <a:gd name="textAreaLeft" fmla="*/ 0 w 285840"/>
              <a:gd name="textAreaRight" fmla="*/ 286200 w 285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60598" y="22714"/>
                </a:moveTo>
                <a:lnTo>
                  <a:pt x="84518" y="0"/>
                </a:lnTo>
                <a:lnTo>
                  <a:pt x="119800" y="25714"/>
                </a:lnTo>
                <a:lnTo>
                  <a:pt x="95880" y="45428"/>
                </a:lnTo>
                <a:lnTo>
                  <a:pt x="60598" y="22714"/>
                </a:lnTo>
                <a:close/>
                <a:moveTo>
                  <a:pt x="119800" y="66642"/>
                </a:moveTo>
                <a:lnTo>
                  <a:pt x="84518" y="90857"/>
                </a:lnTo>
                <a:lnTo>
                  <a:pt x="60598" y="69642"/>
                </a:lnTo>
                <a:lnTo>
                  <a:pt x="95880" y="45428"/>
                </a:lnTo>
                <a:lnTo>
                  <a:pt x="119800" y="66642"/>
                </a:lnTo>
                <a:close/>
                <a:moveTo>
                  <a:pt x="35282" y="90857"/>
                </a:moveTo>
                <a:lnTo>
                  <a:pt x="0" y="66642"/>
                </a:lnTo>
                <a:lnTo>
                  <a:pt x="23920" y="45428"/>
                </a:lnTo>
                <a:lnTo>
                  <a:pt x="60598" y="69642"/>
                </a:lnTo>
                <a:lnTo>
                  <a:pt x="35282" y="90857"/>
                </a:lnTo>
                <a:close/>
                <a:moveTo>
                  <a:pt x="0" y="25714"/>
                </a:moveTo>
                <a:lnTo>
                  <a:pt x="35282" y="0"/>
                </a:lnTo>
                <a:lnTo>
                  <a:pt x="60598" y="22714"/>
                </a:lnTo>
                <a:lnTo>
                  <a:pt x="23920" y="45428"/>
                </a:lnTo>
                <a:lnTo>
                  <a:pt x="0" y="25714"/>
                </a:lnTo>
                <a:close/>
                <a:moveTo>
                  <a:pt x="60598" y="74357"/>
                </a:moveTo>
                <a:lnTo>
                  <a:pt x="84518" y="95357"/>
                </a:lnTo>
                <a:lnTo>
                  <a:pt x="95880" y="89357"/>
                </a:lnTo>
                <a:lnTo>
                  <a:pt x="95880" y="96857"/>
                </a:lnTo>
                <a:lnTo>
                  <a:pt x="60598" y="119785"/>
                </a:lnTo>
                <a:lnTo>
                  <a:pt x="25514" y="96857"/>
                </a:lnTo>
                <a:lnTo>
                  <a:pt x="25514" y="89357"/>
                </a:lnTo>
                <a:lnTo>
                  <a:pt x="35282" y="95357"/>
                </a:lnTo>
                <a:lnTo>
                  <a:pt x="60598" y="74357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Shape 5018"/>
          <p:cNvSpPr/>
          <p:nvPr/>
        </p:nvSpPr>
        <p:spPr>
          <a:xfrm>
            <a:off x="8758080" y="2075040"/>
            <a:ext cx="177840" cy="287280"/>
          </a:xfrm>
          <a:custGeom>
            <a:avLst/>
            <a:gdLst>
              <a:gd name="textAreaLeft" fmla="*/ 0 w 177840"/>
              <a:gd name="textAreaRight" fmla="*/ 178200 w 177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119680" y="112709"/>
                </a:moveTo>
                <a:lnTo>
                  <a:pt x="119680" y="112709"/>
                </a:lnTo>
                <a:cubicBezTo>
                  <a:pt x="110744" y="115665"/>
                  <a:pt x="103723" y="117044"/>
                  <a:pt x="97021" y="118423"/>
                </a:cubicBezTo>
                <a:cubicBezTo>
                  <a:pt x="90319" y="118423"/>
                  <a:pt x="83617" y="119802"/>
                  <a:pt x="76914" y="119802"/>
                </a:cubicBezTo>
                <a:cubicBezTo>
                  <a:pt x="67659" y="119802"/>
                  <a:pt x="60957" y="118423"/>
                  <a:pt x="54255" y="117044"/>
                </a:cubicBezTo>
                <a:cubicBezTo>
                  <a:pt x="49787" y="115665"/>
                  <a:pt x="43085" y="114285"/>
                  <a:pt x="38297" y="111330"/>
                </a:cubicBezTo>
                <a:cubicBezTo>
                  <a:pt x="33829" y="108571"/>
                  <a:pt x="29361" y="105812"/>
                  <a:pt x="27127" y="103054"/>
                </a:cubicBezTo>
                <a:cubicBezTo>
                  <a:pt x="27127" y="100295"/>
                  <a:pt x="24893" y="96157"/>
                  <a:pt x="24893" y="90443"/>
                </a:cubicBezTo>
                <a:cubicBezTo>
                  <a:pt x="24893" y="48669"/>
                  <a:pt x="24893" y="48669"/>
                  <a:pt x="24893" y="48669"/>
                </a:cubicBezTo>
                <a:cubicBezTo>
                  <a:pt x="0" y="48669"/>
                  <a:pt x="0" y="48669"/>
                  <a:pt x="0" y="48669"/>
                </a:cubicBezTo>
                <a:cubicBezTo>
                  <a:pt x="0" y="31921"/>
                  <a:pt x="0" y="31921"/>
                  <a:pt x="0" y="31921"/>
                </a:cubicBezTo>
                <a:cubicBezTo>
                  <a:pt x="7021" y="30541"/>
                  <a:pt x="15957" y="29162"/>
                  <a:pt x="20425" y="26403"/>
                </a:cubicBezTo>
                <a:cubicBezTo>
                  <a:pt x="27127" y="22266"/>
                  <a:pt x="31595" y="19507"/>
                  <a:pt x="33829" y="15369"/>
                </a:cubicBezTo>
                <a:cubicBezTo>
                  <a:pt x="36063" y="11034"/>
                  <a:pt x="38297" y="6896"/>
                  <a:pt x="40531" y="0"/>
                </a:cubicBezTo>
                <a:cubicBezTo>
                  <a:pt x="67659" y="0"/>
                  <a:pt x="67659" y="0"/>
                  <a:pt x="67659" y="0"/>
                </a:cubicBezTo>
                <a:cubicBezTo>
                  <a:pt x="67659" y="27783"/>
                  <a:pt x="67659" y="27783"/>
                  <a:pt x="67659" y="27783"/>
                </a:cubicBezTo>
                <a:cubicBezTo>
                  <a:pt x="112978" y="27783"/>
                  <a:pt x="112978" y="27783"/>
                  <a:pt x="112978" y="27783"/>
                </a:cubicBezTo>
                <a:cubicBezTo>
                  <a:pt x="112978" y="48669"/>
                  <a:pt x="112978" y="48669"/>
                  <a:pt x="112978" y="48669"/>
                </a:cubicBezTo>
                <a:cubicBezTo>
                  <a:pt x="67659" y="48669"/>
                  <a:pt x="67659" y="48669"/>
                  <a:pt x="67659" y="48669"/>
                </a:cubicBezTo>
                <a:cubicBezTo>
                  <a:pt x="67659" y="79408"/>
                  <a:pt x="67659" y="79408"/>
                  <a:pt x="67659" y="79408"/>
                </a:cubicBezTo>
                <a:cubicBezTo>
                  <a:pt x="67659" y="86305"/>
                  <a:pt x="67659" y="90443"/>
                  <a:pt x="69893" y="91822"/>
                </a:cubicBezTo>
                <a:cubicBezTo>
                  <a:pt x="69893" y="94581"/>
                  <a:pt x="72446" y="96157"/>
                  <a:pt x="76914" y="97536"/>
                </a:cubicBezTo>
                <a:cubicBezTo>
                  <a:pt x="81382" y="98916"/>
                  <a:pt x="85851" y="100295"/>
                  <a:pt x="90319" y="100295"/>
                </a:cubicBezTo>
                <a:cubicBezTo>
                  <a:pt x="101489" y="100295"/>
                  <a:pt x="110744" y="97536"/>
                  <a:pt x="119680" y="94581"/>
                </a:cubicBezTo>
                <a:lnTo>
                  <a:pt x="119680" y="112709"/>
                </a:ln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Shape 5019"/>
          <p:cNvSpPr/>
          <p:nvPr/>
        </p:nvSpPr>
        <p:spPr>
          <a:xfrm>
            <a:off x="8202600" y="207504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104433" y="119802"/>
                </a:moveTo>
                <a:lnTo>
                  <a:pt x="104433" y="119802"/>
                </a:lnTo>
                <a:cubicBezTo>
                  <a:pt x="15369" y="119802"/>
                  <a:pt x="15369" y="119802"/>
                  <a:pt x="15369" y="119802"/>
                </a:cubicBezTo>
                <a:cubicBezTo>
                  <a:pt x="7093" y="119802"/>
                  <a:pt x="0" y="112709"/>
                  <a:pt x="0" y="104433"/>
                </a:cubicBezTo>
                <a:cubicBezTo>
                  <a:pt x="0" y="15369"/>
                  <a:pt x="0" y="15369"/>
                  <a:pt x="0" y="15369"/>
                </a:cubicBezTo>
                <a:cubicBezTo>
                  <a:pt x="0" y="6896"/>
                  <a:pt x="7093" y="0"/>
                  <a:pt x="15369" y="0"/>
                </a:cubicBezTo>
                <a:cubicBezTo>
                  <a:pt x="104433" y="0"/>
                  <a:pt x="104433" y="0"/>
                  <a:pt x="104433" y="0"/>
                </a:cubicBezTo>
                <a:cubicBezTo>
                  <a:pt x="112906" y="0"/>
                  <a:pt x="119802" y="6896"/>
                  <a:pt x="119802" y="15369"/>
                </a:cubicBezTo>
                <a:cubicBezTo>
                  <a:pt x="119802" y="104433"/>
                  <a:pt x="119802" y="104433"/>
                  <a:pt x="119802" y="104433"/>
                </a:cubicBezTo>
                <a:cubicBezTo>
                  <a:pt x="119802" y="112709"/>
                  <a:pt x="112906" y="119802"/>
                  <a:pt x="104433" y="119802"/>
                </a:cubicBezTo>
                <a:close/>
                <a:moveTo>
                  <a:pt x="59901" y="36256"/>
                </a:moveTo>
                <a:lnTo>
                  <a:pt x="59901" y="36256"/>
                </a:lnTo>
                <a:cubicBezTo>
                  <a:pt x="50049" y="36256"/>
                  <a:pt x="43152" y="41773"/>
                  <a:pt x="39014" y="50049"/>
                </a:cubicBezTo>
                <a:lnTo>
                  <a:pt x="39014" y="50049"/>
                </a:lnTo>
                <a:lnTo>
                  <a:pt x="39014" y="50049"/>
                </a:lnTo>
                <a:cubicBezTo>
                  <a:pt x="39014" y="51428"/>
                  <a:pt x="39014" y="51428"/>
                  <a:pt x="37635" y="51428"/>
                </a:cubicBezTo>
                <a:lnTo>
                  <a:pt x="37635" y="53004"/>
                </a:lnTo>
                <a:lnTo>
                  <a:pt x="37635" y="54384"/>
                </a:lnTo>
                <a:cubicBezTo>
                  <a:pt x="37635" y="54384"/>
                  <a:pt x="37635" y="54384"/>
                  <a:pt x="37635" y="55763"/>
                </a:cubicBezTo>
                <a:cubicBezTo>
                  <a:pt x="37635" y="55763"/>
                  <a:pt x="37635" y="55763"/>
                  <a:pt x="37635" y="57142"/>
                </a:cubicBezTo>
                <a:lnTo>
                  <a:pt x="37635" y="57142"/>
                </a:lnTo>
                <a:cubicBezTo>
                  <a:pt x="37635" y="58522"/>
                  <a:pt x="36256" y="58522"/>
                  <a:pt x="36256" y="59901"/>
                </a:cubicBezTo>
                <a:cubicBezTo>
                  <a:pt x="36256" y="72315"/>
                  <a:pt x="47290" y="83546"/>
                  <a:pt x="59901" y="83546"/>
                </a:cubicBezTo>
                <a:cubicBezTo>
                  <a:pt x="72512" y="83546"/>
                  <a:pt x="83546" y="72315"/>
                  <a:pt x="83546" y="59901"/>
                </a:cubicBezTo>
                <a:cubicBezTo>
                  <a:pt x="83546" y="58522"/>
                  <a:pt x="82167" y="58522"/>
                  <a:pt x="82167" y="57142"/>
                </a:cubicBezTo>
                <a:lnTo>
                  <a:pt x="82167" y="57142"/>
                </a:lnTo>
                <a:cubicBezTo>
                  <a:pt x="82167" y="55763"/>
                  <a:pt x="82167" y="55763"/>
                  <a:pt x="82167" y="55763"/>
                </a:cubicBezTo>
                <a:cubicBezTo>
                  <a:pt x="82167" y="54384"/>
                  <a:pt x="82167" y="54384"/>
                  <a:pt x="82167" y="54384"/>
                </a:cubicBezTo>
                <a:lnTo>
                  <a:pt x="82167" y="53004"/>
                </a:lnTo>
                <a:lnTo>
                  <a:pt x="82167" y="51428"/>
                </a:lnTo>
                <a:cubicBezTo>
                  <a:pt x="80788" y="51428"/>
                  <a:pt x="80788" y="51428"/>
                  <a:pt x="80788" y="50049"/>
                </a:cubicBezTo>
                <a:lnTo>
                  <a:pt x="80788" y="50049"/>
                </a:lnTo>
                <a:lnTo>
                  <a:pt x="80788" y="50049"/>
                </a:lnTo>
                <a:cubicBezTo>
                  <a:pt x="76650" y="41773"/>
                  <a:pt x="69753" y="36256"/>
                  <a:pt x="59901" y="36256"/>
                </a:cubicBezTo>
                <a:close/>
                <a:moveTo>
                  <a:pt x="105812" y="19507"/>
                </a:moveTo>
                <a:lnTo>
                  <a:pt x="105812" y="19507"/>
                </a:lnTo>
                <a:cubicBezTo>
                  <a:pt x="105812" y="16748"/>
                  <a:pt x="103054" y="13990"/>
                  <a:pt x="100295" y="13990"/>
                </a:cubicBezTo>
                <a:cubicBezTo>
                  <a:pt x="87684" y="13990"/>
                  <a:pt x="87684" y="13990"/>
                  <a:pt x="87684" y="13990"/>
                </a:cubicBezTo>
                <a:cubicBezTo>
                  <a:pt x="84926" y="13990"/>
                  <a:pt x="82167" y="16748"/>
                  <a:pt x="82167" y="19507"/>
                </a:cubicBezTo>
                <a:cubicBezTo>
                  <a:pt x="82167" y="31921"/>
                  <a:pt x="82167" y="31921"/>
                  <a:pt x="82167" y="31921"/>
                </a:cubicBezTo>
                <a:cubicBezTo>
                  <a:pt x="82167" y="34876"/>
                  <a:pt x="84926" y="37635"/>
                  <a:pt x="87684" y="37635"/>
                </a:cubicBezTo>
                <a:cubicBezTo>
                  <a:pt x="100295" y="37635"/>
                  <a:pt x="100295" y="37635"/>
                  <a:pt x="100295" y="37635"/>
                </a:cubicBezTo>
                <a:cubicBezTo>
                  <a:pt x="103054" y="37635"/>
                  <a:pt x="105812" y="34876"/>
                  <a:pt x="105812" y="31921"/>
                </a:cubicBezTo>
                <a:lnTo>
                  <a:pt x="105812" y="19507"/>
                </a:lnTo>
                <a:close/>
                <a:moveTo>
                  <a:pt x="105812" y="50049"/>
                </a:moveTo>
                <a:lnTo>
                  <a:pt x="105812" y="50049"/>
                </a:lnTo>
                <a:cubicBezTo>
                  <a:pt x="94778" y="50049"/>
                  <a:pt x="94778" y="50049"/>
                  <a:pt x="94778" y="50049"/>
                </a:cubicBezTo>
                <a:cubicBezTo>
                  <a:pt x="96157" y="53004"/>
                  <a:pt x="96157" y="57142"/>
                  <a:pt x="96157" y="59901"/>
                </a:cubicBezTo>
                <a:cubicBezTo>
                  <a:pt x="96157" y="79408"/>
                  <a:pt x="79408" y="96157"/>
                  <a:pt x="59901" y="96157"/>
                </a:cubicBezTo>
                <a:cubicBezTo>
                  <a:pt x="40394" y="96157"/>
                  <a:pt x="23645" y="79408"/>
                  <a:pt x="23645" y="59901"/>
                </a:cubicBezTo>
                <a:cubicBezTo>
                  <a:pt x="23645" y="57142"/>
                  <a:pt x="23645" y="53004"/>
                  <a:pt x="25024" y="50049"/>
                </a:cubicBezTo>
                <a:cubicBezTo>
                  <a:pt x="13990" y="50049"/>
                  <a:pt x="13990" y="50049"/>
                  <a:pt x="13990" y="50049"/>
                </a:cubicBezTo>
                <a:cubicBezTo>
                  <a:pt x="13990" y="100295"/>
                  <a:pt x="13990" y="100295"/>
                  <a:pt x="13990" y="100295"/>
                </a:cubicBezTo>
                <a:cubicBezTo>
                  <a:pt x="13990" y="103054"/>
                  <a:pt x="16748" y="105812"/>
                  <a:pt x="19507" y="105812"/>
                </a:cubicBezTo>
                <a:cubicBezTo>
                  <a:pt x="100295" y="105812"/>
                  <a:pt x="100295" y="105812"/>
                  <a:pt x="100295" y="105812"/>
                </a:cubicBezTo>
                <a:cubicBezTo>
                  <a:pt x="103054" y="105812"/>
                  <a:pt x="105812" y="103054"/>
                  <a:pt x="105812" y="100295"/>
                </a:cubicBezTo>
                <a:lnTo>
                  <a:pt x="105812" y="50049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Shape 5020"/>
          <p:cNvSpPr/>
          <p:nvPr/>
        </p:nvSpPr>
        <p:spPr>
          <a:xfrm>
            <a:off x="7702560" y="2098800"/>
            <a:ext cx="285840" cy="234720"/>
          </a:xfrm>
          <a:custGeom>
            <a:avLst/>
            <a:gdLst>
              <a:gd name="textAreaLeft" fmla="*/ 0 w 285840"/>
              <a:gd name="textAreaRight" fmla="*/ 286200 w 2858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81727" y="0"/>
                </a:moveTo>
                <a:lnTo>
                  <a:pt x="81727" y="0"/>
                </a:lnTo>
                <a:cubicBezTo>
                  <a:pt x="91495" y="0"/>
                  <a:pt x="95880" y="5322"/>
                  <a:pt x="101461" y="10403"/>
                </a:cubicBezTo>
                <a:cubicBezTo>
                  <a:pt x="105647" y="10403"/>
                  <a:pt x="111229" y="7016"/>
                  <a:pt x="114019" y="5322"/>
                </a:cubicBezTo>
                <a:cubicBezTo>
                  <a:pt x="115614" y="3629"/>
                  <a:pt x="115614" y="3629"/>
                  <a:pt x="117009" y="3629"/>
                </a:cubicBezTo>
                <a:cubicBezTo>
                  <a:pt x="115614" y="8709"/>
                  <a:pt x="112624" y="13790"/>
                  <a:pt x="108438" y="17177"/>
                </a:cubicBezTo>
                <a:cubicBezTo>
                  <a:pt x="108438" y="17177"/>
                  <a:pt x="107043" y="18870"/>
                  <a:pt x="105647" y="18870"/>
                </a:cubicBezTo>
                <a:lnTo>
                  <a:pt x="105647" y="18870"/>
                </a:lnTo>
                <a:cubicBezTo>
                  <a:pt x="111229" y="18870"/>
                  <a:pt x="115614" y="15483"/>
                  <a:pt x="119800" y="15483"/>
                </a:cubicBezTo>
                <a:lnTo>
                  <a:pt x="119800" y="15483"/>
                </a:lnTo>
                <a:cubicBezTo>
                  <a:pt x="118405" y="18870"/>
                  <a:pt x="115614" y="23951"/>
                  <a:pt x="111229" y="25645"/>
                </a:cubicBezTo>
                <a:cubicBezTo>
                  <a:pt x="109833" y="27338"/>
                  <a:pt x="109833" y="29274"/>
                  <a:pt x="108438" y="30967"/>
                </a:cubicBezTo>
                <a:cubicBezTo>
                  <a:pt x="108438" y="37741"/>
                  <a:pt x="108438" y="42822"/>
                  <a:pt x="107043" y="49596"/>
                </a:cubicBezTo>
                <a:cubicBezTo>
                  <a:pt x="100066" y="82258"/>
                  <a:pt x="84518" y="106209"/>
                  <a:pt x="59202" y="116370"/>
                </a:cubicBezTo>
                <a:cubicBezTo>
                  <a:pt x="49235" y="119758"/>
                  <a:pt x="33887" y="119758"/>
                  <a:pt x="23920" y="118064"/>
                </a:cubicBezTo>
                <a:cubicBezTo>
                  <a:pt x="18338" y="116370"/>
                  <a:pt x="14152" y="114677"/>
                  <a:pt x="8372" y="111290"/>
                </a:cubicBezTo>
                <a:cubicBezTo>
                  <a:pt x="6976" y="109596"/>
                  <a:pt x="4186" y="109596"/>
                  <a:pt x="2790" y="107903"/>
                </a:cubicBezTo>
                <a:cubicBezTo>
                  <a:pt x="1395" y="106209"/>
                  <a:pt x="1395" y="106209"/>
                  <a:pt x="0" y="106209"/>
                </a:cubicBezTo>
                <a:cubicBezTo>
                  <a:pt x="2790" y="106209"/>
                  <a:pt x="5581" y="106209"/>
                  <a:pt x="8372" y="106209"/>
                </a:cubicBezTo>
                <a:cubicBezTo>
                  <a:pt x="9966" y="106209"/>
                  <a:pt x="12757" y="106209"/>
                  <a:pt x="15548" y="104516"/>
                </a:cubicBezTo>
                <a:cubicBezTo>
                  <a:pt x="21129" y="102580"/>
                  <a:pt x="25315" y="100887"/>
                  <a:pt x="29501" y="99193"/>
                </a:cubicBezTo>
                <a:cubicBezTo>
                  <a:pt x="32491" y="97500"/>
                  <a:pt x="35282" y="95806"/>
                  <a:pt x="36677" y="92419"/>
                </a:cubicBezTo>
                <a:cubicBezTo>
                  <a:pt x="33887" y="92419"/>
                  <a:pt x="31096" y="92419"/>
                  <a:pt x="29501" y="92419"/>
                </a:cubicBezTo>
                <a:cubicBezTo>
                  <a:pt x="21129" y="89032"/>
                  <a:pt x="16943" y="82258"/>
                  <a:pt x="14152" y="71854"/>
                </a:cubicBezTo>
                <a:cubicBezTo>
                  <a:pt x="15548" y="73548"/>
                  <a:pt x="22524" y="73548"/>
                  <a:pt x="23920" y="71854"/>
                </a:cubicBezTo>
                <a:cubicBezTo>
                  <a:pt x="21129" y="71854"/>
                  <a:pt x="18338" y="70161"/>
                  <a:pt x="16943" y="68467"/>
                </a:cubicBezTo>
                <a:cubicBezTo>
                  <a:pt x="9966" y="63387"/>
                  <a:pt x="4186" y="54919"/>
                  <a:pt x="4186" y="42822"/>
                </a:cubicBezTo>
                <a:cubicBezTo>
                  <a:pt x="5581" y="42822"/>
                  <a:pt x="6976" y="42822"/>
                  <a:pt x="6976" y="44516"/>
                </a:cubicBezTo>
                <a:cubicBezTo>
                  <a:pt x="8372" y="44516"/>
                  <a:pt x="9966" y="44516"/>
                  <a:pt x="12757" y="46209"/>
                </a:cubicBezTo>
                <a:lnTo>
                  <a:pt x="15548" y="46209"/>
                </a:lnTo>
                <a:lnTo>
                  <a:pt x="15548" y="46209"/>
                </a:lnTo>
                <a:cubicBezTo>
                  <a:pt x="14152" y="44516"/>
                  <a:pt x="12757" y="42822"/>
                  <a:pt x="11362" y="41129"/>
                </a:cubicBezTo>
                <a:cubicBezTo>
                  <a:pt x="6976" y="34354"/>
                  <a:pt x="2790" y="25645"/>
                  <a:pt x="5581" y="13790"/>
                </a:cubicBezTo>
                <a:cubicBezTo>
                  <a:pt x="5581" y="10403"/>
                  <a:pt x="6976" y="8709"/>
                  <a:pt x="8372" y="7016"/>
                </a:cubicBezTo>
                <a:lnTo>
                  <a:pt x="8372" y="7016"/>
                </a:lnTo>
                <a:cubicBezTo>
                  <a:pt x="8372" y="7016"/>
                  <a:pt x="9966" y="8709"/>
                  <a:pt x="11362" y="8709"/>
                </a:cubicBezTo>
                <a:cubicBezTo>
                  <a:pt x="12757" y="12096"/>
                  <a:pt x="15548" y="15483"/>
                  <a:pt x="18338" y="17177"/>
                </a:cubicBezTo>
                <a:cubicBezTo>
                  <a:pt x="26710" y="25645"/>
                  <a:pt x="35282" y="30967"/>
                  <a:pt x="47840" y="36048"/>
                </a:cubicBezTo>
                <a:cubicBezTo>
                  <a:pt x="52026" y="36048"/>
                  <a:pt x="55016" y="37741"/>
                  <a:pt x="59202" y="37741"/>
                </a:cubicBezTo>
                <a:cubicBezTo>
                  <a:pt x="57807" y="32661"/>
                  <a:pt x="57807" y="27338"/>
                  <a:pt x="59202" y="23951"/>
                </a:cubicBezTo>
                <a:cubicBezTo>
                  <a:pt x="61993" y="13790"/>
                  <a:pt x="66179" y="7016"/>
                  <a:pt x="73355" y="3629"/>
                </a:cubicBezTo>
                <a:cubicBezTo>
                  <a:pt x="74750" y="1935"/>
                  <a:pt x="77541" y="1935"/>
                  <a:pt x="78936" y="1935"/>
                </a:cubicBezTo>
                <a:cubicBezTo>
                  <a:pt x="80332" y="1935"/>
                  <a:pt x="80332" y="0"/>
                  <a:pt x="81727" y="0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Shape 5021"/>
          <p:cNvSpPr/>
          <p:nvPr/>
        </p:nvSpPr>
        <p:spPr>
          <a:xfrm>
            <a:off x="10202760" y="1627200"/>
            <a:ext cx="289080" cy="183960"/>
          </a:xfrm>
          <a:custGeom>
            <a:avLst/>
            <a:gdLst>
              <a:gd name="textAreaLeft" fmla="*/ 0 w 289080"/>
              <a:gd name="textAreaRight" fmla="*/ 289440 w 289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77960" y="10769"/>
                </a:moveTo>
                <a:lnTo>
                  <a:pt x="77960" y="10769"/>
                </a:lnTo>
                <a:cubicBezTo>
                  <a:pt x="107368" y="10769"/>
                  <a:pt x="107368" y="10769"/>
                  <a:pt x="107368" y="10769"/>
                </a:cubicBezTo>
                <a:cubicBezTo>
                  <a:pt x="107368" y="24000"/>
                  <a:pt x="107368" y="24000"/>
                  <a:pt x="107368" y="24000"/>
                </a:cubicBezTo>
                <a:cubicBezTo>
                  <a:pt x="77960" y="24000"/>
                  <a:pt x="77960" y="24000"/>
                  <a:pt x="77960" y="24000"/>
                </a:cubicBezTo>
                <a:lnTo>
                  <a:pt x="77960" y="10769"/>
                </a:lnTo>
                <a:close/>
                <a:moveTo>
                  <a:pt x="118421" y="80307"/>
                </a:moveTo>
                <a:lnTo>
                  <a:pt x="118421" y="80307"/>
                </a:lnTo>
                <a:cubicBezTo>
                  <a:pt x="79342" y="80307"/>
                  <a:pt x="79342" y="80307"/>
                  <a:pt x="79342" y="80307"/>
                </a:cubicBezTo>
                <a:cubicBezTo>
                  <a:pt x="80723" y="95692"/>
                  <a:pt x="85065" y="102153"/>
                  <a:pt x="93355" y="102153"/>
                </a:cubicBezTo>
                <a:cubicBezTo>
                  <a:pt x="98881" y="102153"/>
                  <a:pt x="103026" y="97846"/>
                  <a:pt x="104605" y="93538"/>
                </a:cubicBezTo>
                <a:cubicBezTo>
                  <a:pt x="117039" y="93538"/>
                  <a:pt x="117039" y="93538"/>
                  <a:pt x="117039" y="93538"/>
                </a:cubicBezTo>
                <a:cubicBezTo>
                  <a:pt x="112894" y="112923"/>
                  <a:pt x="104605" y="119692"/>
                  <a:pt x="91973" y="119692"/>
                </a:cubicBezTo>
                <a:cubicBezTo>
                  <a:pt x="75197" y="119692"/>
                  <a:pt x="65526" y="100000"/>
                  <a:pt x="65526" y="73846"/>
                </a:cubicBezTo>
                <a:cubicBezTo>
                  <a:pt x="65526" y="49846"/>
                  <a:pt x="76578" y="30461"/>
                  <a:pt x="91973" y="30461"/>
                </a:cubicBezTo>
                <a:cubicBezTo>
                  <a:pt x="110131" y="30461"/>
                  <a:pt x="119802" y="56615"/>
                  <a:pt x="118421" y="80307"/>
                </a:cubicBezTo>
                <a:close/>
                <a:moveTo>
                  <a:pt x="79342" y="65230"/>
                </a:moveTo>
                <a:lnTo>
                  <a:pt x="79342" y="65230"/>
                </a:lnTo>
                <a:cubicBezTo>
                  <a:pt x="103026" y="65230"/>
                  <a:pt x="103026" y="65230"/>
                  <a:pt x="103026" y="65230"/>
                </a:cubicBezTo>
                <a:cubicBezTo>
                  <a:pt x="103026" y="52000"/>
                  <a:pt x="98881" y="47692"/>
                  <a:pt x="91973" y="47692"/>
                </a:cubicBezTo>
                <a:cubicBezTo>
                  <a:pt x="82302" y="47692"/>
                  <a:pt x="79342" y="58769"/>
                  <a:pt x="79342" y="65230"/>
                </a:cubicBezTo>
                <a:close/>
                <a:moveTo>
                  <a:pt x="61381" y="82769"/>
                </a:moveTo>
                <a:lnTo>
                  <a:pt x="61381" y="82769"/>
                </a:lnTo>
                <a:cubicBezTo>
                  <a:pt x="61381" y="106461"/>
                  <a:pt x="48750" y="117538"/>
                  <a:pt x="34736" y="117538"/>
                </a:cubicBezTo>
                <a:cubicBezTo>
                  <a:pt x="0" y="117538"/>
                  <a:pt x="0" y="117538"/>
                  <a:pt x="0" y="117538"/>
                </a:cubicBezTo>
                <a:cubicBezTo>
                  <a:pt x="0" y="0"/>
                  <a:pt x="0" y="0"/>
                  <a:pt x="0" y="0"/>
                </a:cubicBezTo>
                <a:cubicBezTo>
                  <a:pt x="34736" y="0"/>
                  <a:pt x="34736" y="0"/>
                  <a:pt x="34736" y="0"/>
                </a:cubicBezTo>
                <a:cubicBezTo>
                  <a:pt x="48750" y="0"/>
                  <a:pt x="58421" y="8615"/>
                  <a:pt x="58421" y="30461"/>
                </a:cubicBezTo>
                <a:cubicBezTo>
                  <a:pt x="58421" y="41230"/>
                  <a:pt x="54276" y="47692"/>
                  <a:pt x="47368" y="54153"/>
                </a:cubicBezTo>
                <a:cubicBezTo>
                  <a:pt x="57039" y="58769"/>
                  <a:pt x="61381" y="69538"/>
                  <a:pt x="61381" y="82769"/>
                </a:cubicBezTo>
                <a:close/>
                <a:moveTo>
                  <a:pt x="29210" y="19384"/>
                </a:moveTo>
                <a:lnTo>
                  <a:pt x="29210" y="19384"/>
                </a:lnTo>
                <a:cubicBezTo>
                  <a:pt x="13815" y="19384"/>
                  <a:pt x="13815" y="19384"/>
                  <a:pt x="13815" y="19384"/>
                </a:cubicBezTo>
                <a:cubicBezTo>
                  <a:pt x="13815" y="45538"/>
                  <a:pt x="13815" y="45538"/>
                  <a:pt x="13815" y="45538"/>
                </a:cubicBezTo>
                <a:cubicBezTo>
                  <a:pt x="30592" y="45538"/>
                  <a:pt x="30592" y="45538"/>
                  <a:pt x="30592" y="45538"/>
                </a:cubicBezTo>
                <a:cubicBezTo>
                  <a:pt x="36118" y="45538"/>
                  <a:pt x="40263" y="43384"/>
                  <a:pt x="40263" y="32615"/>
                </a:cubicBezTo>
                <a:cubicBezTo>
                  <a:pt x="40263" y="21846"/>
                  <a:pt x="34736" y="19384"/>
                  <a:pt x="29210" y="19384"/>
                </a:cubicBezTo>
                <a:close/>
                <a:moveTo>
                  <a:pt x="31973" y="63076"/>
                </a:moveTo>
                <a:lnTo>
                  <a:pt x="31973" y="63076"/>
                </a:lnTo>
                <a:cubicBezTo>
                  <a:pt x="13815" y="63076"/>
                  <a:pt x="13815" y="63076"/>
                  <a:pt x="13815" y="63076"/>
                </a:cubicBezTo>
                <a:cubicBezTo>
                  <a:pt x="13815" y="95692"/>
                  <a:pt x="13815" y="95692"/>
                  <a:pt x="13815" y="95692"/>
                </a:cubicBezTo>
                <a:cubicBezTo>
                  <a:pt x="31973" y="95692"/>
                  <a:pt x="31973" y="95692"/>
                  <a:pt x="31973" y="95692"/>
                </a:cubicBezTo>
                <a:cubicBezTo>
                  <a:pt x="37500" y="95692"/>
                  <a:pt x="43223" y="93538"/>
                  <a:pt x="43223" y="80307"/>
                </a:cubicBezTo>
                <a:cubicBezTo>
                  <a:pt x="43223" y="69538"/>
                  <a:pt x="38881" y="63076"/>
                  <a:pt x="31973" y="63076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Shape 5022"/>
          <p:cNvSpPr/>
          <p:nvPr/>
        </p:nvSpPr>
        <p:spPr>
          <a:xfrm>
            <a:off x="9699480" y="1574640"/>
            <a:ext cx="289080" cy="284400"/>
          </a:xfrm>
          <a:custGeom>
            <a:avLst/>
            <a:gdLst>
              <a:gd name="textAreaLeft" fmla="*/ 0 w 289080"/>
              <a:gd name="textAreaRight" fmla="*/ 289440 w 2890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0" y="103028"/>
                </a:moveTo>
                <a:lnTo>
                  <a:pt x="48866" y="110016"/>
                </a:lnTo>
                <a:lnTo>
                  <a:pt x="48866" y="63494"/>
                </a:lnTo>
                <a:lnTo>
                  <a:pt x="0" y="63494"/>
                </a:lnTo>
                <a:lnTo>
                  <a:pt x="0" y="103028"/>
                </a:lnTo>
                <a:close/>
                <a:moveTo>
                  <a:pt x="0" y="56306"/>
                </a:moveTo>
                <a:lnTo>
                  <a:pt x="48866" y="56306"/>
                </a:lnTo>
                <a:lnTo>
                  <a:pt x="48866" y="9783"/>
                </a:lnTo>
                <a:lnTo>
                  <a:pt x="0" y="16971"/>
                </a:lnTo>
                <a:lnTo>
                  <a:pt x="0" y="56306"/>
                </a:lnTo>
                <a:close/>
                <a:moveTo>
                  <a:pt x="54384" y="111414"/>
                </a:moveTo>
                <a:lnTo>
                  <a:pt x="119802" y="119800"/>
                </a:lnTo>
                <a:lnTo>
                  <a:pt x="119802" y="63494"/>
                </a:lnTo>
                <a:lnTo>
                  <a:pt x="54384" y="63494"/>
                </a:lnTo>
                <a:lnTo>
                  <a:pt x="54384" y="111414"/>
                </a:lnTo>
                <a:close/>
                <a:moveTo>
                  <a:pt x="54384" y="9783"/>
                </a:moveTo>
                <a:lnTo>
                  <a:pt x="54384" y="56306"/>
                </a:lnTo>
                <a:lnTo>
                  <a:pt x="119802" y="56306"/>
                </a:lnTo>
                <a:lnTo>
                  <a:pt x="119802" y="0"/>
                </a:lnTo>
                <a:lnTo>
                  <a:pt x="54384" y="9783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Shape 5023"/>
          <p:cNvSpPr/>
          <p:nvPr/>
        </p:nvSpPr>
        <p:spPr>
          <a:xfrm>
            <a:off x="9202680" y="1582560"/>
            <a:ext cx="285840" cy="271800"/>
          </a:xfrm>
          <a:custGeom>
            <a:avLst/>
            <a:gdLst>
              <a:gd name="textAreaLeft" fmla="*/ 0 w 285840"/>
              <a:gd name="textAreaRight" fmla="*/ 286200 w 28584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20000" h="120000">
                <a:moveTo>
                  <a:pt x="108438" y="60732"/>
                </a:moveTo>
                <a:lnTo>
                  <a:pt x="108438" y="60732"/>
                </a:lnTo>
                <a:lnTo>
                  <a:pt x="108438" y="60732"/>
                </a:lnTo>
                <a:lnTo>
                  <a:pt x="108438" y="60732"/>
                </a:lnTo>
                <a:cubicBezTo>
                  <a:pt x="101461" y="63664"/>
                  <a:pt x="94485" y="66596"/>
                  <a:pt x="87508" y="66596"/>
                </a:cubicBezTo>
                <a:cubicBezTo>
                  <a:pt x="77541" y="66596"/>
                  <a:pt x="70564" y="62198"/>
                  <a:pt x="63388" y="57801"/>
                </a:cubicBezTo>
                <a:lnTo>
                  <a:pt x="63388" y="57801"/>
                </a:lnTo>
                <a:cubicBezTo>
                  <a:pt x="74750" y="13403"/>
                  <a:pt x="74750" y="13403"/>
                  <a:pt x="74750" y="13403"/>
                </a:cubicBezTo>
                <a:cubicBezTo>
                  <a:pt x="78936" y="16335"/>
                  <a:pt x="85913" y="22198"/>
                  <a:pt x="98671" y="22198"/>
                </a:cubicBezTo>
                <a:cubicBezTo>
                  <a:pt x="104252" y="22198"/>
                  <a:pt x="112823" y="20732"/>
                  <a:pt x="119800" y="16335"/>
                </a:cubicBezTo>
                <a:lnTo>
                  <a:pt x="108438" y="60732"/>
                </a:lnTo>
                <a:close/>
                <a:moveTo>
                  <a:pt x="35282" y="42931"/>
                </a:moveTo>
                <a:lnTo>
                  <a:pt x="35282" y="42931"/>
                </a:lnTo>
                <a:lnTo>
                  <a:pt x="35282" y="42931"/>
                </a:lnTo>
                <a:cubicBezTo>
                  <a:pt x="29700" y="42931"/>
                  <a:pt x="22524" y="44397"/>
                  <a:pt x="14152" y="48795"/>
                </a:cubicBezTo>
                <a:cubicBezTo>
                  <a:pt x="23920" y="4397"/>
                  <a:pt x="23920" y="4397"/>
                  <a:pt x="23920" y="4397"/>
                </a:cubicBezTo>
                <a:cubicBezTo>
                  <a:pt x="32491" y="1465"/>
                  <a:pt x="39468" y="0"/>
                  <a:pt x="45049" y="0"/>
                </a:cubicBezTo>
                <a:lnTo>
                  <a:pt x="45049" y="0"/>
                </a:lnTo>
                <a:cubicBezTo>
                  <a:pt x="49435" y="0"/>
                  <a:pt x="52225" y="0"/>
                  <a:pt x="55016" y="0"/>
                </a:cubicBezTo>
                <a:cubicBezTo>
                  <a:pt x="60598" y="2931"/>
                  <a:pt x="67774" y="7329"/>
                  <a:pt x="67774" y="7329"/>
                </a:cubicBezTo>
                <a:lnTo>
                  <a:pt x="67774" y="7329"/>
                </a:lnTo>
                <a:cubicBezTo>
                  <a:pt x="66378" y="16335"/>
                  <a:pt x="59202" y="42931"/>
                  <a:pt x="56411" y="51727"/>
                </a:cubicBezTo>
                <a:cubicBezTo>
                  <a:pt x="50830" y="47329"/>
                  <a:pt x="43654" y="42931"/>
                  <a:pt x="35282" y="42931"/>
                </a:cubicBezTo>
                <a:close/>
                <a:moveTo>
                  <a:pt x="31096" y="53193"/>
                </a:moveTo>
                <a:lnTo>
                  <a:pt x="31096" y="53193"/>
                </a:lnTo>
                <a:cubicBezTo>
                  <a:pt x="32491" y="53193"/>
                  <a:pt x="32491" y="53193"/>
                  <a:pt x="33887" y="53193"/>
                </a:cubicBezTo>
                <a:cubicBezTo>
                  <a:pt x="39468" y="53193"/>
                  <a:pt x="45049" y="56125"/>
                  <a:pt x="49435" y="57801"/>
                </a:cubicBezTo>
                <a:cubicBezTo>
                  <a:pt x="50830" y="59267"/>
                  <a:pt x="53621" y="60732"/>
                  <a:pt x="55016" y="62198"/>
                </a:cubicBezTo>
                <a:cubicBezTo>
                  <a:pt x="53621" y="68062"/>
                  <a:pt x="45049" y="97591"/>
                  <a:pt x="43654" y="106596"/>
                </a:cubicBezTo>
                <a:cubicBezTo>
                  <a:pt x="36677" y="102198"/>
                  <a:pt x="31096" y="97591"/>
                  <a:pt x="21129" y="97591"/>
                </a:cubicBezTo>
                <a:cubicBezTo>
                  <a:pt x="15548" y="97591"/>
                  <a:pt x="8571" y="99267"/>
                  <a:pt x="0" y="102198"/>
                </a:cubicBezTo>
                <a:cubicBezTo>
                  <a:pt x="11362" y="59267"/>
                  <a:pt x="11362" y="59267"/>
                  <a:pt x="11362" y="59267"/>
                </a:cubicBezTo>
                <a:cubicBezTo>
                  <a:pt x="12757" y="59267"/>
                  <a:pt x="14152" y="57801"/>
                  <a:pt x="15548" y="57801"/>
                </a:cubicBezTo>
                <a:cubicBezTo>
                  <a:pt x="18338" y="56125"/>
                  <a:pt x="25514" y="54659"/>
                  <a:pt x="31096" y="53193"/>
                </a:cubicBezTo>
                <a:close/>
                <a:moveTo>
                  <a:pt x="84518" y="75602"/>
                </a:moveTo>
                <a:lnTo>
                  <a:pt x="84518" y="75602"/>
                </a:lnTo>
                <a:cubicBezTo>
                  <a:pt x="91694" y="75602"/>
                  <a:pt x="98671" y="75602"/>
                  <a:pt x="105647" y="70994"/>
                </a:cubicBezTo>
                <a:cubicBezTo>
                  <a:pt x="95880" y="113926"/>
                  <a:pt x="95880" y="113926"/>
                  <a:pt x="95880" y="113926"/>
                </a:cubicBezTo>
                <a:cubicBezTo>
                  <a:pt x="85913" y="118324"/>
                  <a:pt x="78936" y="119790"/>
                  <a:pt x="73355" y="119790"/>
                </a:cubicBezTo>
                <a:cubicBezTo>
                  <a:pt x="63388" y="119790"/>
                  <a:pt x="50830" y="110994"/>
                  <a:pt x="50830" y="110994"/>
                </a:cubicBezTo>
                <a:cubicBezTo>
                  <a:pt x="60598" y="66596"/>
                  <a:pt x="60598" y="66596"/>
                  <a:pt x="60598" y="66596"/>
                </a:cubicBezTo>
                <a:cubicBezTo>
                  <a:pt x="64784" y="69528"/>
                  <a:pt x="71960" y="75602"/>
                  <a:pt x="84518" y="7560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Shape 5024"/>
          <p:cNvSpPr/>
          <p:nvPr/>
        </p:nvSpPr>
        <p:spPr>
          <a:xfrm>
            <a:off x="8702640" y="1581120"/>
            <a:ext cx="287280" cy="271440"/>
          </a:xfrm>
          <a:custGeom>
            <a:avLst/>
            <a:gdLst>
              <a:gd name="textAreaLeft" fmla="*/ 0 w 287280"/>
              <a:gd name="textAreaRight" fmla="*/ 287640 w 2872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7009" y="75392"/>
                </a:moveTo>
                <a:lnTo>
                  <a:pt x="117009" y="75392"/>
                </a:lnTo>
                <a:cubicBezTo>
                  <a:pt x="104252" y="75392"/>
                  <a:pt x="104252" y="75392"/>
                  <a:pt x="104252" y="75392"/>
                </a:cubicBezTo>
                <a:cubicBezTo>
                  <a:pt x="102857" y="73926"/>
                  <a:pt x="102857" y="73926"/>
                  <a:pt x="102857" y="72460"/>
                </a:cubicBezTo>
                <a:cubicBezTo>
                  <a:pt x="102857" y="72460"/>
                  <a:pt x="101461" y="69528"/>
                  <a:pt x="100066" y="66596"/>
                </a:cubicBezTo>
                <a:cubicBezTo>
                  <a:pt x="98671" y="63664"/>
                  <a:pt x="95880" y="57591"/>
                  <a:pt x="93089" y="51727"/>
                </a:cubicBezTo>
                <a:cubicBezTo>
                  <a:pt x="117009" y="51727"/>
                  <a:pt x="117009" y="51727"/>
                  <a:pt x="117009" y="51727"/>
                </a:cubicBezTo>
                <a:cubicBezTo>
                  <a:pt x="118405" y="51727"/>
                  <a:pt x="119800" y="53193"/>
                  <a:pt x="119800" y="54659"/>
                </a:cubicBezTo>
                <a:cubicBezTo>
                  <a:pt x="119800" y="72460"/>
                  <a:pt x="119800" y="72460"/>
                  <a:pt x="119800" y="72460"/>
                </a:cubicBezTo>
                <a:cubicBezTo>
                  <a:pt x="119800" y="73926"/>
                  <a:pt x="118405" y="75392"/>
                  <a:pt x="117009" y="75392"/>
                </a:cubicBezTo>
                <a:close/>
                <a:moveTo>
                  <a:pt x="93089" y="65130"/>
                </a:moveTo>
                <a:lnTo>
                  <a:pt x="93089" y="65130"/>
                </a:lnTo>
                <a:lnTo>
                  <a:pt x="93089" y="65130"/>
                </a:lnTo>
                <a:cubicBezTo>
                  <a:pt x="94485" y="65130"/>
                  <a:pt x="94485" y="65130"/>
                  <a:pt x="94485" y="65130"/>
                </a:cubicBezTo>
                <a:cubicBezTo>
                  <a:pt x="95880" y="69528"/>
                  <a:pt x="97275" y="73926"/>
                  <a:pt x="98671" y="75392"/>
                </a:cubicBezTo>
                <a:lnTo>
                  <a:pt x="98671" y="75392"/>
                </a:lnTo>
                <a:cubicBezTo>
                  <a:pt x="100066" y="78534"/>
                  <a:pt x="97275" y="81465"/>
                  <a:pt x="94485" y="82931"/>
                </a:cubicBezTo>
                <a:cubicBezTo>
                  <a:pt x="93089" y="82931"/>
                  <a:pt x="91694" y="84397"/>
                  <a:pt x="88903" y="82931"/>
                </a:cubicBezTo>
                <a:cubicBezTo>
                  <a:pt x="85913" y="81465"/>
                  <a:pt x="71960" y="45863"/>
                  <a:pt x="67774" y="37068"/>
                </a:cubicBezTo>
                <a:cubicBezTo>
                  <a:pt x="64784" y="26596"/>
                  <a:pt x="53621" y="2931"/>
                  <a:pt x="56411" y="1465"/>
                </a:cubicBezTo>
                <a:cubicBezTo>
                  <a:pt x="59202" y="0"/>
                  <a:pt x="69169" y="19267"/>
                  <a:pt x="74750" y="30994"/>
                </a:cubicBezTo>
                <a:cubicBezTo>
                  <a:pt x="78936" y="37068"/>
                  <a:pt x="85913" y="48795"/>
                  <a:pt x="90299" y="59267"/>
                </a:cubicBezTo>
                <a:lnTo>
                  <a:pt x="91694" y="60732"/>
                </a:lnTo>
                <a:cubicBezTo>
                  <a:pt x="91694" y="60732"/>
                  <a:pt x="91694" y="60732"/>
                  <a:pt x="91694" y="62198"/>
                </a:cubicBezTo>
                <a:lnTo>
                  <a:pt x="91694" y="62198"/>
                </a:lnTo>
                <a:cubicBezTo>
                  <a:pt x="91694" y="62198"/>
                  <a:pt x="91694" y="62198"/>
                  <a:pt x="93089" y="63664"/>
                </a:cubicBezTo>
                <a:lnTo>
                  <a:pt x="93089" y="63664"/>
                </a:lnTo>
                <a:cubicBezTo>
                  <a:pt x="93089" y="63664"/>
                  <a:pt x="93089" y="63664"/>
                  <a:pt x="93089" y="65130"/>
                </a:cubicBezTo>
                <a:close/>
                <a:moveTo>
                  <a:pt x="59202" y="40000"/>
                </a:moveTo>
                <a:lnTo>
                  <a:pt x="59202" y="40000"/>
                </a:lnTo>
                <a:cubicBezTo>
                  <a:pt x="49435" y="57591"/>
                  <a:pt x="49435" y="57591"/>
                  <a:pt x="49435" y="57591"/>
                </a:cubicBezTo>
                <a:cubicBezTo>
                  <a:pt x="39468" y="75392"/>
                  <a:pt x="39468" y="75392"/>
                  <a:pt x="39468" y="75392"/>
                </a:cubicBezTo>
                <a:cubicBezTo>
                  <a:pt x="25315" y="100732"/>
                  <a:pt x="25315" y="100732"/>
                  <a:pt x="25315" y="100732"/>
                </a:cubicBezTo>
                <a:cubicBezTo>
                  <a:pt x="25315" y="102198"/>
                  <a:pt x="22524" y="102198"/>
                  <a:pt x="21129" y="102198"/>
                </a:cubicBezTo>
                <a:cubicBezTo>
                  <a:pt x="14152" y="97591"/>
                  <a:pt x="14152" y="97591"/>
                  <a:pt x="14152" y="97591"/>
                </a:cubicBezTo>
                <a:cubicBezTo>
                  <a:pt x="12757" y="96125"/>
                  <a:pt x="12757" y="94659"/>
                  <a:pt x="14152" y="93193"/>
                </a:cubicBezTo>
                <a:cubicBezTo>
                  <a:pt x="23920" y="75392"/>
                  <a:pt x="23920" y="75392"/>
                  <a:pt x="23920" y="75392"/>
                </a:cubicBezTo>
                <a:cubicBezTo>
                  <a:pt x="36677" y="51727"/>
                  <a:pt x="36677" y="51727"/>
                  <a:pt x="36677" y="51727"/>
                </a:cubicBezTo>
                <a:cubicBezTo>
                  <a:pt x="46445" y="32460"/>
                  <a:pt x="46445" y="32460"/>
                  <a:pt x="46445" y="32460"/>
                </a:cubicBezTo>
                <a:cubicBezTo>
                  <a:pt x="47840" y="30994"/>
                  <a:pt x="49435" y="29528"/>
                  <a:pt x="50830" y="30994"/>
                </a:cubicBezTo>
                <a:cubicBezTo>
                  <a:pt x="57807" y="35602"/>
                  <a:pt x="57807" y="35602"/>
                  <a:pt x="57807" y="35602"/>
                </a:cubicBezTo>
                <a:cubicBezTo>
                  <a:pt x="59202" y="35602"/>
                  <a:pt x="60598" y="38534"/>
                  <a:pt x="59202" y="40000"/>
                </a:cubicBezTo>
                <a:close/>
                <a:moveTo>
                  <a:pt x="1395" y="75392"/>
                </a:moveTo>
                <a:lnTo>
                  <a:pt x="1395" y="75392"/>
                </a:lnTo>
                <a:cubicBezTo>
                  <a:pt x="0" y="75392"/>
                  <a:pt x="0" y="73926"/>
                  <a:pt x="0" y="72460"/>
                </a:cubicBezTo>
                <a:cubicBezTo>
                  <a:pt x="0" y="54659"/>
                  <a:pt x="0" y="54659"/>
                  <a:pt x="0" y="54659"/>
                </a:cubicBezTo>
                <a:cubicBezTo>
                  <a:pt x="0" y="53193"/>
                  <a:pt x="0" y="51727"/>
                  <a:pt x="1395" y="51727"/>
                </a:cubicBezTo>
                <a:cubicBezTo>
                  <a:pt x="29700" y="51727"/>
                  <a:pt x="29700" y="51727"/>
                  <a:pt x="29700" y="51727"/>
                </a:cubicBezTo>
                <a:cubicBezTo>
                  <a:pt x="18338" y="75392"/>
                  <a:pt x="18338" y="75392"/>
                  <a:pt x="18338" y="75392"/>
                </a:cubicBezTo>
                <a:lnTo>
                  <a:pt x="1395" y="75392"/>
                </a:lnTo>
                <a:close/>
                <a:moveTo>
                  <a:pt x="12757" y="100732"/>
                </a:moveTo>
                <a:lnTo>
                  <a:pt x="12757" y="100732"/>
                </a:lnTo>
                <a:cubicBezTo>
                  <a:pt x="19734" y="105130"/>
                  <a:pt x="19734" y="105130"/>
                  <a:pt x="19734" y="105130"/>
                </a:cubicBezTo>
                <a:cubicBezTo>
                  <a:pt x="21129" y="106596"/>
                  <a:pt x="21129" y="108062"/>
                  <a:pt x="19734" y="108062"/>
                </a:cubicBezTo>
                <a:cubicBezTo>
                  <a:pt x="9966" y="115392"/>
                  <a:pt x="9966" y="115392"/>
                  <a:pt x="9966" y="115392"/>
                </a:cubicBezTo>
                <a:cubicBezTo>
                  <a:pt x="8571" y="115392"/>
                  <a:pt x="8571" y="115392"/>
                  <a:pt x="8571" y="113926"/>
                </a:cubicBezTo>
                <a:cubicBezTo>
                  <a:pt x="9966" y="102198"/>
                  <a:pt x="9966" y="102198"/>
                  <a:pt x="9966" y="102198"/>
                </a:cubicBezTo>
                <a:cubicBezTo>
                  <a:pt x="9966" y="100732"/>
                  <a:pt x="11362" y="100732"/>
                  <a:pt x="12757" y="100732"/>
                </a:cubicBezTo>
                <a:close/>
                <a:moveTo>
                  <a:pt x="69169" y="51727"/>
                </a:moveTo>
                <a:lnTo>
                  <a:pt x="69169" y="51727"/>
                </a:lnTo>
                <a:cubicBezTo>
                  <a:pt x="73355" y="62198"/>
                  <a:pt x="76146" y="69528"/>
                  <a:pt x="78936" y="75392"/>
                </a:cubicBezTo>
                <a:cubicBezTo>
                  <a:pt x="45049" y="75392"/>
                  <a:pt x="45049" y="75392"/>
                  <a:pt x="45049" y="75392"/>
                </a:cubicBezTo>
                <a:cubicBezTo>
                  <a:pt x="57807" y="51727"/>
                  <a:pt x="57807" y="51727"/>
                  <a:pt x="57807" y="51727"/>
                </a:cubicBezTo>
                <a:lnTo>
                  <a:pt x="69169" y="51727"/>
                </a:lnTo>
                <a:close/>
                <a:moveTo>
                  <a:pt x="94485" y="87329"/>
                </a:moveTo>
                <a:lnTo>
                  <a:pt x="94485" y="87329"/>
                </a:lnTo>
                <a:cubicBezTo>
                  <a:pt x="98671" y="84397"/>
                  <a:pt x="98671" y="84397"/>
                  <a:pt x="98671" y="84397"/>
                </a:cubicBezTo>
                <a:cubicBezTo>
                  <a:pt x="100066" y="84397"/>
                  <a:pt x="102857" y="84397"/>
                  <a:pt x="102857" y="85863"/>
                </a:cubicBezTo>
                <a:cubicBezTo>
                  <a:pt x="107043" y="93193"/>
                  <a:pt x="107043" y="93193"/>
                  <a:pt x="107043" y="93193"/>
                </a:cubicBezTo>
                <a:cubicBezTo>
                  <a:pt x="107043" y="94659"/>
                  <a:pt x="107043" y="96125"/>
                  <a:pt x="105647" y="97591"/>
                </a:cubicBezTo>
                <a:cubicBezTo>
                  <a:pt x="102857" y="99057"/>
                  <a:pt x="102857" y="99057"/>
                  <a:pt x="102857" y="99057"/>
                </a:cubicBezTo>
                <a:cubicBezTo>
                  <a:pt x="101461" y="100732"/>
                  <a:pt x="98671" y="100732"/>
                  <a:pt x="98671" y="99057"/>
                </a:cubicBezTo>
                <a:cubicBezTo>
                  <a:pt x="94485" y="91727"/>
                  <a:pt x="94485" y="91727"/>
                  <a:pt x="94485" y="91727"/>
                </a:cubicBezTo>
                <a:cubicBezTo>
                  <a:pt x="93089" y="90261"/>
                  <a:pt x="93089" y="87329"/>
                  <a:pt x="94485" y="87329"/>
                </a:cubicBezTo>
                <a:close/>
                <a:moveTo>
                  <a:pt x="115614" y="119790"/>
                </a:moveTo>
                <a:lnTo>
                  <a:pt x="115614" y="119790"/>
                </a:lnTo>
                <a:cubicBezTo>
                  <a:pt x="115614" y="116858"/>
                  <a:pt x="108438" y="115392"/>
                  <a:pt x="105647" y="110994"/>
                </a:cubicBezTo>
                <a:cubicBezTo>
                  <a:pt x="101461" y="106596"/>
                  <a:pt x="104252" y="105130"/>
                  <a:pt x="105647" y="103664"/>
                </a:cubicBezTo>
                <a:cubicBezTo>
                  <a:pt x="118405" y="96125"/>
                  <a:pt x="115614" y="119790"/>
                  <a:pt x="115614" y="11979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Shape 5025"/>
          <p:cNvSpPr/>
          <p:nvPr/>
        </p:nvSpPr>
        <p:spPr>
          <a:xfrm>
            <a:off x="8204040" y="1574640"/>
            <a:ext cx="265320" cy="289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01753" y="62660"/>
                </a:moveTo>
                <a:lnTo>
                  <a:pt x="101753" y="62660"/>
                </a:lnTo>
                <a:cubicBezTo>
                  <a:pt x="101753" y="80788"/>
                  <a:pt x="119785" y="87684"/>
                  <a:pt x="119785" y="87684"/>
                </a:cubicBezTo>
                <a:cubicBezTo>
                  <a:pt x="119785" y="87684"/>
                  <a:pt x="116779" y="95960"/>
                  <a:pt x="110769" y="104433"/>
                </a:cubicBezTo>
                <a:cubicBezTo>
                  <a:pt x="104758" y="111330"/>
                  <a:pt x="98747" y="118226"/>
                  <a:pt x="89516" y="118226"/>
                </a:cubicBezTo>
                <a:cubicBezTo>
                  <a:pt x="80500" y="118226"/>
                  <a:pt x="77495" y="114088"/>
                  <a:pt x="66762" y="114088"/>
                </a:cubicBezTo>
                <a:cubicBezTo>
                  <a:pt x="56243" y="114088"/>
                  <a:pt x="53023" y="118226"/>
                  <a:pt x="44007" y="118226"/>
                </a:cubicBezTo>
                <a:cubicBezTo>
                  <a:pt x="34991" y="119802"/>
                  <a:pt x="27262" y="111330"/>
                  <a:pt x="21252" y="104433"/>
                </a:cubicBezTo>
                <a:cubicBezTo>
                  <a:pt x="9230" y="89064"/>
                  <a:pt x="0" y="62660"/>
                  <a:pt x="13738" y="44532"/>
                </a:cubicBezTo>
                <a:cubicBezTo>
                  <a:pt x="19749" y="34679"/>
                  <a:pt x="30483" y="29162"/>
                  <a:pt x="41001" y="29162"/>
                </a:cubicBezTo>
                <a:cubicBezTo>
                  <a:pt x="50017" y="29162"/>
                  <a:pt x="59248" y="34679"/>
                  <a:pt x="65259" y="34679"/>
                </a:cubicBezTo>
                <a:cubicBezTo>
                  <a:pt x="69767" y="34679"/>
                  <a:pt x="80500" y="27783"/>
                  <a:pt x="91019" y="29162"/>
                </a:cubicBezTo>
                <a:cubicBezTo>
                  <a:pt x="95527" y="29162"/>
                  <a:pt x="109266" y="30541"/>
                  <a:pt x="116779" y="40394"/>
                </a:cubicBezTo>
                <a:cubicBezTo>
                  <a:pt x="116779" y="40394"/>
                  <a:pt x="101753" y="48669"/>
                  <a:pt x="101753" y="62660"/>
                </a:cubicBezTo>
                <a:close/>
                <a:moveTo>
                  <a:pt x="63756" y="27783"/>
                </a:moveTo>
                <a:lnTo>
                  <a:pt x="63756" y="27783"/>
                </a:lnTo>
                <a:cubicBezTo>
                  <a:pt x="62254" y="20886"/>
                  <a:pt x="66762" y="13990"/>
                  <a:pt x="71270" y="8275"/>
                </a:cubicBezTo>
                <a:cubicBezTo>
                  <a:pt x="75992" y="4137"/>
                  <a:pt x="85008" y="0"/>
                  <a:pt x="91019" y="0"/>
                </a:cubicBezTo>
                <a:cubicBezTo>
                  <a:pt x="92522" y="6896"/>
                  <a:pt x="89516" y="13990"/>
                  <a:pt x="83506" y="19507"/>
                </a:cubicBezTo>
                <a:cubicBezTo>
                  <a:pt x="78998" y="23645"/>
                  <a:pt x="71270" y="27783"/>
                  <a:pt x="63756" y="27783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Shape 5026"/>
          <p:cNvSpPr/>
          <p:nvPr/>
        </p:nvSpPr>
        <p:spPr>
          <a:xfrm>
            <a:off x="7732800" y="1574640"/>
            <a:ext cx="237960" cy="284400"/>
          </a:xfrm>
          <a:custGeom>
            <a:avLst/>
            <a:gdLst>
              <a:gd name="textAreaLeft" fmla="*/ 0 w 237960"/>
              <a:gd name="textAreaRight" fmla="*/ 238320 w 23796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111394" y="81863"/>
                </a:moveTo>
                <a:lnTo>
                  <a:pt x="111394" y="81863"/>
                </a:lnTo>
                <a:cubicBezTo>
                  <a:pt x="108047" y="81863"/>
                  <a:pt x="103027" y="79068"/>
                  <a:pt x="103027" y="74675"/>
                </a:cubicBezTo>
                <a:cubicBezTo>
                  <a:pt x="103027" y="45124"/>
                  <a:pt x="103027" y="45124"/>
                  <a:pt x="103027" y="45124"/>
                </a:cubicBezTo>
                <a:cubicBezTo>
                  <a:pt x="103027" y="40931"/>
                  <a:pt x="108047" y="38136"/>
                  <a:pt x="111394" y="38136"/>
                </a:cubicBezTo>
                <a:cubicBezTo>
                  <a:pt x="116414" y="38136"/>
                  <a:pt x="119760" y="40931"/>
                  <a:pt x="119760" y="45124"/>
                </a:cubicBezTo>
                <a:cubicBezTo>
                  <a:pt x="119760" y="74675"/>
                  <a:pt x="119760" y="74675"/>
                  <a:pt x="119760" y="74675"/>
                </a:cubicBezTo>
                <a:cubicBezTo>
                  <a:pt x="119760" y="79068"/>
                  <a:pt x="116414" y="81863"/>
                  <a:pt x="111394" y="81863"/>
                </a:cubicBezTo>
                <a:close/>
                <a:moveTo>
                  <a:pt x="89402" y="97237"/>
                </a:moveTo>
                <a:lnTo>
                  <a:pt x="89402" y="97237"/>
                </a:lnTo>
                <a:cubicBezTo>
                  <a:pt x="82709" y="97237"/>
                  <a:pt x="82709" y="97237"/>
                  <a:pt x="82709" y="97237"/>
                </a:cubicBezTo>
                <a:cubicBezTo>
                  <a:pt x="84382" y="97237"/>
                  <a:pt x="84382" y="97237"/>
                  <a:pt x="84382" y="98835"/>
                </a:cubicBezTo>
                <a:lnTo>
                  <a:pt x="84382" y="98835"/>
                </a:lnTo>
                <a:cubicBezTo>
                  <a:pt x="84382" y="101630"/>
                  <a:pt x="84382" y="101630"/>
                  <a:pt x="84382" y="101630"/>
                </a:cubicBezTo>
                <a:cubicBezTo>
                  <a:pt x="84382" y="112811"/>
                  <a:pt x="84382" y="112811"/>
                  <a:pt x="84382" y="112811"/>
                </a:cubicBezTo>
                <a:cubicBezTo>
                  <a:pt x="84382" y="117004"/>
                  <a:pt x="79362" y="119800"/>
                  <a:pt x="76015" y="119800"/>
                </a:cubicBezTo>
                <a:cubicBezTo>
                  <a:pt x="70996" y="119800"/>
                  <a:pt x="67410" y="117004"/>
                  <a:pt x="67410" y="112811"/>
                </a:cubicBezTo>
                <a:cubicBezTo>
                  <a:pt x="67410" y="101630"/>
                  <a:pt x="67410" y="101630"/>
                  <a:pt x="67410" y="101630"/>
                </a:cubicBezTo>
                <a:cubicBezTo>
                  <a:pt x="67410" y="98835"/>
                  <a:pt x="67410" y="98835"/>
                  <a:pt x="67410" y="98835"/>
                </a:cubicBezTo>
                <a:lnTo>
                  <a:pt x="67410" y="98835"/>
                </a:lnTo>
                <a:cubicBezTo>
                  <a:pt x="67410" y="97237"/>
                  <a:pt x="67410" y="97237"/>
                  <a:pt x="67410" y="97237"/>
                </a:cubicBezTo>
                <a:cubicBezTo>
                  <a:pt x="52350" y="97237"/>
                  <a:pt x="52350" y="97237"/>
                  <a:pt x="52350" y="97237"/>
                </a:cubicBezTo>
                <a:cubicBezTo>
                  <a:pt x="52350" y="97237"/>
                  <a:pt x="52350" y="97237"/>
                  <a:pt x="52350" y="98835"/>
                </a:cubicBezTo>
                <a:lnTo>
                  <a:pt x="52350" y="98835"/>
                </a:lnTo>
                <a:cubicBezTo>
                  <a:pt x="52350" y="101630"/>
                  <a:pt x="52350" y="101630"/>
                  <a:pt x="52350" y="101630"/>
                </a:cubicBezTo>
                <a:cubicBezTo>
                  <a:pt x="52350" y="112811"/>
                  <a:pt x="52350" y="112811"/>
                  <a:pt x="52350" y="112811"/>
                </a:cubicBezTo>
                <a:cubicBezTo>
                  <a:pt x="52350" y="117004"/>
                  <a:pt x="49003" y="119800"/>
                  <a:pt x="45418" y="119800"/>
                </a:cubicBezTo>
                <a:cubicBezTo>
                  <a:pt x="40398" y="119800"/>
                  <a:pt x="37051" y="117004"/>
                  <a:pt x="37051" y="112811"/>
                </a:cubicBezTo>
                <a:cubicBezTo>
                  <a:pt x="37051" y="101630"/>
                  <a:pt x="37051" y="101630"/>
                  <a:pt x="37051" y="101630"/>
                </a:cubicBezTo>
                <a:cubicBezTo>
                  <a:pt x="37051" y="98835"/>
                  <a:pt x="37051" y="98835"/>
                  <a:pt x="37051" y="98835"/>
                </a:cubicBezTo>
                <a:lnTo>
                  <a:pt x="37051" y="98835"/>
                </a:lnTo>
                <a:cubicBezTo>
                  <a:pt x="37051" y="97237"/>
                  <a:pt x="37051" y="97237"/>
                  <a:pt x="37051" y="97237"/>
                </a:cubicBezTo>
                <a:cubicBezTo>
                  <a:pt x="30358" y="97237"/>
                  <a:pt x="30358" y="97237"/>
                  <a:pt x="30358" y="97237"/>
                </a:cubicBezTo>
                <a:cubicBezTo>
                  <a:pt x="25338" y="97237"/>
                  <a:pt x="21992" y="93044"/>
                  <a:pt x="21992" y="88851"/>
                </a:cubicBezTo>
                <a:cubicBezTo>
                  <a:pt x="21992" y="47920"/>
                  <a:pt x="21992" y="47920"/>
                  <a:pt x="21992" y="47920"/>
                </a:cubicBezTo>
                <a:cubicBezTo>
                  <a:pt x="21992" y="43727"/>
                  <a:pt x="21992" y="43727"/>
                  <a:pt x="21992" y="43727"/>
                </a:cubicBezTo>
                <a:cubicBezTo>
                  <a:pt x="21992" y="38136"/>
                  <a:pt x="21992" y="38136"/>
                  <a:pt x="21992" y="38136"/>
                </a:cubicBezTo>
                <a:cubicBezTo>
                  <a:pt x="23665" y="38136"/>
                  <a:pt x="23665" y="38136"/>
                  <a:pt x="23665" y="38136"/>
                </a:cubicBezTo>
                <a:cubicBezTo>
                  <a:pt x="98007" y="38136"/>
                  <a:pt x="98007" y="38136"/>
                  <a:pt x="98007" y="38136"/>
                </a:cubicBezTo>
                <a:lnTo>
                  <a:pt x="98007" y="38136"/>
                </a:lnTo>
                <a:cubicBezTo>
                  <a:pt x="98007" y="43727"/>
                  <a:pt x="98007" y="43727"/>
                  <a:pt x="98007" y="43727"/>
                </a:cubicBezTo>
                <a:cubicBezTo>
                  <a:pt x="98007" y="47920"/>
                  <a:pt x="98007" y="47920"/>
                  <a:pt x="98007" y="47920"/>
                </a:cubicBezTo>
                <a:cubicBezTo>
                  <a:pt x="98007" y="88851"/>
                  <a:pt x="98007" y="88851"/>
                  <a:pt x="98007" y="88851"/>
                </a:cubicBezTo>
                <a:cubicBezTo>
                  <a:pt x="98007" y="93044"/>
                  <a:pt x="94422" y="97237"/>
                  <a:pt x="89402" y="97237"/>
                </a:cubicBezTo>
                <a:close/>
                <a:moveTo>
                  <a:pt x="42071" y="9783"/>
                </a:moveTo>
                <a:lnTo>
                  <a:pt x="42071" y="9783"/>
                </a:lnTo>
                <a:cubicBezTo>
                  <a:pt x="40398" y="8386"/>
                  <a:pt x="40398" y="8386"/>
                  <a:pt x="40398" y="8386"/>
                </a:cubicBezTo>
                <a:cubicBezTo>
                  <a:pt x="38725" y="5590"/>
                  <a:pt x="38725" y="5590"/>
                  <a:pt x="38725" y="5590"/>
                </a:cubicBezTo>
                <a:cubicBezTo>
                  <a:pt x="35378" y="1397"/>
                  <a:pt x="35378" y="1397"/>
                  <a:pt x="35378" y="1397"/>
                </a:cubicBezTo>
                <a:lnTo>
                  <a:pt x="35378" y="0"/>
                </a:lnTo>
                <a:lnTo>
                  <a:pt x="37051" y="0"/>
                </a:lnTo>
                <a:cubicBezTo>
                  <a:pt x="40398" y="5590"/>
                  <a:pt x="40398" y="5590"/>
                  <a:pt x="40398" y="5590"/>
                </a:cubicBezTo>
                <a:cubicBezTo>
                  <a:pt x="42071" y="6988"/>
                  <a:pt x="42071" y="6988"/>
                  <a:pt x="42071" y="6988"/>
                </a:cubicBezTo>
                <a:cubicBezTo>
                  <a:pt x="43745" y="8386"/>
                  <a:pt x="43745" y="8386"/>
                  <a:pt x="43745" y="8386"/>
                </a:cubicBezTo>
                <a:cubicBezTo>
                  <a:pt x="49003" y="6988"/>
                  <a:pt x="54023" y="6988"/>
                  <a:pt x="60717" y="6988"/>
                </a:cubicBezTo>
                <a:cubicBezTo>
                  <a:pt x="65737" y="6988"/>
                  <a:pt x="70996" y="6988"/>
                  <a:pt x="76015" y="8386"/>
                </a:cubicBezTo>
                <a:cubicBezTo>
                  <a:pt x="77689" y="6988"/>
                  <a:pt x="77689" y="6988"/>
                  <a:pt x="77689" y="6988"/>
                </a:cubicBezTo>
                <a:cubicBezTo>
                  <a:pt x="79362" y="5590"/>
                  <a:pt x="79362" y="5590"/>
                  <a:pt x="79362" y="5590"/>
                </a:cubicBezTo>
                <a:cubicBezTo>
                  <a:pt x="82709" y="0"/>
                  <a:pt x="82709" y="0"/>
                  <a:pt x="82709" y="0"/>
                </a:cubicBezTo>
                <a:lnTo>
                  <a:pt x="84382" y="0"/>
                </a:lnTo>
                <a:cubicBezTo>
                  <a:pt x="86055" y="0"/>
                  <a:pt x="86055" y="1397"/>
                  <a:pt x="86055" y="1397"/>
                </a:cubicBezTo>
                <a:cubicBezTo>
                  <a:pt x="82709" y="5590"/>
                  <a:pt x="82709" y="5590"/>
                  <a:pt x="82709" y="5590"/>
                </a:cubicBezTo>
                <a:cubicBezTo>
                  <a:pt x="81035" y="8386"/>
                  <a:pt x="81035" y="8386"/>
                  <a:pt x="81035" y="8386"/>
                </a:cubicBezTo>
                <a:cubicBezTo>
                  <a:pt x="79362" y="9783"/>
                  <a:pt x="79362" y="9783"/>
                  <a:pt x="79362" y="9783"/>
                </a:cubicBezTo>
                <a:cubicBezTo>
                  <a:pt x="91075" y="14176"/>
                  <a:pt x="98007" y="23960"/>
                  <a:pt x="98007" y="33743"/>
                </a:cubicBezTo>
                <a:cubicBezTo>
                  <a:pt x="21992" y="33743"/>
                  <a:pt x="21992" y="33743"/>
                  <a:pt x="21992" y="33743"/>
                </a:cubicBezTo>
                <a:cubicBezTo>
                  <a:pt x="21992" y="23960"/>
                  <a:pt x="30358" y="14176"/>
                  <a:pt x="42071" y="9783"/>
                </a:cubicBezTo>
                <a:close/>
                <a:moveTo>
                  <a:pt x="76015" y="23960"/>
                </a:moveTo>
                <a:lnTo>
                  <a:pt x="76015" y="23960"/>
                </a:lnTo>
                <a:cubicBezTo>
                  <a:pt x="79362" y="23960"/>
                  <a:pt x="81035" y="22562"/>
                  <a:pt x="81035" y="21164"/>
                </a:cubicBezTo>
                <a:cubicBezTo>
                  <a:pt x="81035" y="18369"/>
                  <a:pt x="79362" y="16971"/>
                  <a:pt x="76015" y="16971"/>
                </a:cubicBezTo>
                <a:cubicBezTo>
                  <a:pt x="74342" y="16971"/>
                  <a:pt x="72669" y="18369"/>
                  <a:pt x="72669" y="21164"/>
                </a:cubicBezTo>
                <a:cubicBezTo>
                  <a:pt x="72669" y="22562"/>
                  <a:pt x="74342" y="23960"/>
                  <a:pt x="76015" y="23960"/>
                </a:cubicBezTo>
                <a:close/>
                <a:moveTo>
                  <a:pt x="43745" y="23960"/>
                </a:moveTo>
                <a:lnTo>
                  <a:pt x="43745" y="23960"/>
                </a:lnTo>
                <a:cubicBezTo>
                  <a:pt x="45418" y="23960"/>
                  <a:pt x="47091" y="22562"/>
                  <a:pt x="47091" y="21164"/>
                </a:cubicBezTo>
                <a:cubicBezTo>
                  <a:pt x="47091" y="18369"/>
                  <a:pt x="45418" y="16971"/>
                  <a:pt x="43745" y="16971"/>
                </a:cubicBezTo>
                <a:cubicBezTo>
                  <a:pt x="42071" y="16971"/>
                  <a:pt x="40398" y="18369"/>
                  <a:pt x="40398" y="21164"/>
                </a:cubicBezTo>
                <a:cubicBezTo>
                  <a:pt x="40398" y="22562"/>
                  <a:pt x="42071" y="23960"/>
                  <a:pt x="43745" y="23960"/>
                </a:cubicBezTo>
                <a:close/>
                <a:moveTo>
                  <a:pt x="8366" y="81863"/>
                </a:moveTo>
                <a:lnTo>
                  <a:pt x="8366" y="81863"/>
                </a:lnTo>
                <a:cubicBezTo>
                  <a:pt x="5019" y="81863"/>
                  <a:pt x="0" y="79068"/>
                  <a:pt x="0" y="74675"/>
                </a:cubicBezTo>
                <a:cubicBezTo>
                  <a:pt x="0" y="45124"/>
                  <a:pt x="0" y="45124"/>
                  <a:pt x="0" y="45124"/>
                </a:cubicBezTo>
                <a:cubicBezTo>
                  <a:pt x="0" y="40931"/>
                  <a:pt x="5019" y="38136"/>
                  <a:pt x="8366" y="38136"/>
                </a:cubicBezTo>
                <a:cubicBezTo>
                  <a:pt x="13386" y="38136"/>
                  <a:pt x="16733" y="40931"/>
                  <a:pt x="16733" y="45124"/>
                </a:cubicBezTo>
                <a:cubicBezTo>
                  <a:pt x="16733" y="74675"/>
                  <a:pt x="16733" y="74675"/>
                  <a:pt x="16733" y="74675"/>
                </a:cubicBezTo>
                <a:cubicBezTo>
                  <a:pt x="16733" y="79068"/>
                  <a:pt x="13386" y="81863"/>
                  <a:pt x="8366" y="81863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Shape 5027"/>
          <p:cNvSpPr/>
          <p:nvPr/>
        </p:nvSpPr>
        <p:spPr>
          <a:xfrm>
            <a:off x="10220400" y="358776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117044" y="57142"/>
                </a:moveTo>
                <a:lnTo>
                  <a:pt x="117044" y="57142"/>
                </a:lnTo>
                <a:cubicBezTo>
                  <a:pt x="112906" y="78029"/>
                  <a:pt x="96157" y="91822"/>
                  <a:pt x="73891" y="91822"/>
                </a:cubicBezTo>
                <a:cubicBezTo>
                  <a:pt x="62660" y="91822"/>
                  <a:pt x="62660" y="91822"/>
                  <a:pt x="62660" y="91822"/>
                </a:cubicBezTo>
                <a:cubicBezTo>
                  <a:pt x="57142" y="112709"/>
                  <a:pt x="57142" y="112709"/>
                  <a:pt x="57142" y="112709"/>
                </a:cubicBezTo>
                <a:cubicBezTo>
                  <a:pt x="55763" y="119802"/>
                  <a:pt x="55763" y="119802"/>
                  <a:pt x="55763" y="119802"/>
                </a:cubicBezTo>
                <a:cubicBezTo>
                  <a:pt x="50246" y="119802"/>
                  <a:pt x="50246" y="119802"/>
                  <a:pt x="50246" y="119802"/>
                </a:cubicBezTo>
                <a:cubicBezTo>
                  <a:pt x="23645" y="119802"/>
                  <a:pt x="23645" y="119802"/>
                  <a:pt x="23645" y="119802"/>
                </a:cubicBezTo>
                <a:cubicBezTo>
                  <a:pt x="13990" y="119802"/>
                  <a:pt x="13990" y="119802"/>
                  <a:pt x="13990" y="119802"/>
                </a:cubicBezTo>
                <a:cubicBezTo>
                  <a:pt x="16748" y="108571"/>
                  <a:pt x="16748" y="108571"/>
                  <a:pt x="16748" y="108571"/>
                </a:cubicBezTo>
                <a:cubicBezTo>
                  <a:pt x="18128" y="100295"/>
                  <a:pt x="18128" y="100295"/>
                  <a:pt x="18128" y="100295"/>
                </a:cubicBezTo>
                <a:cubicBezTo>
                  <a:pt x="9852" y="100295"/>
                  <a:pt x="9852" y="100295"/>
                  <a:pt x="9852" y="100295"/>
                </a:cubicBezTo>
                <a:cubicBezTo>
                  <a:pt x="0" y="100295"/>
                  <a:pt x="0" y="100295"/>
                  <a:pt x="0" y="100295"/>
                </a:cubicBezTo>
                <a:cubicBezTo>
                  <a:pt x="1379" y="90443"/>
                  <a:pt x="1379" y="90443"/>
                  <a:pt x="1379" y="90443"/>
                </a:cubicBezTo>
                <a:cubicBezTo>
                  <a:pt x="20886" y="6896"/>
                  <a:pt x="20886" y="6896"/>
                  <a:pt x="20886" y="6896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29162" y="0"/>
                  <a:pt x="29162" y="0"/>
                  <a:pt x="29162" y="0"/>
                </a:cubicBezTo>
                <a:cubicBezTo>
                  <a:pt x="72512" y="0"/>
                  <a:pt x="72512" y="0"/>
                  <a:pt x="72512" y="0"/>
                </a:cubicBezTo>
                <a:cubicBezTo>
                  <a:pt x="82167" y="0"/>
                  <a:pt x="91822" y="4137"/>
                  <a:pt x="97536" y="12610"/>
                </a:cubicBezTo>
                <a:cubicBezTo>
                  <a:pt x="100295" y="15369"/>
                  <a:pt x="101674" y="18128"/>
                  <a:pt x="103054" y="23645"/>
                </a:cubicBezTo>
                <a:cubicBezTo>
                  <a:pt x="107192" y="25024"/>
                  <a:pt x="109950" y="27783"/>
                  <a:pt x="111330" y="30541"/>
                </a:cubicBezTo>
                <a:cubicBezTo>
                  <a:pt x="115665" y="36256"/>
                  <a:pt x="119802" y="44532"/>
                  <a:pt x="117044" y="57142"/>
                </a:cubicBezTo>
                <a:close/>
                <a:moveTo>
                  <a:pt x="96157" y="29162"/>
                </a:moveTo>
                <a:lnTo>
                  <a:pt x="96157" y="29162"/>
                </a:lnTo>
                <a:cubicBezTo>
                  <a:pt x="94778" y="25024"/>
                  <a:pt x="94778" y="22266"/>
                  <a:pt x="93399" y="19507"/>
                </a:cubicBezTo>
                <a:cubicBezTo>
                  <a:pt x="89064" y="12610"/>
                  <a:pt x="79408" y="8275"/>
                  <a:pt x="72512" y="8275"/>
                </a:cubicBezTo>
                <a:cubicBezTo>
                  <a:pt x="29162" y="8275"/>
                  <a:pt x="29162" y="8275"/>
                  <a:pt x="29162" y="8275"/>
                </a:cubicBezTo>
                <a:cubicBezTo>
                  <a:pt x="9852" y="91822"/>
                  <a:pt x="9852" y="91822"/>
                  <a:pt x="9852" y="91822"/>
                </a:cubicBezTo>
                <a:cubicBezTo>
                  <a:pt x="19507" y="91822"/>
                  <a:pt x="19507" y="91822"/>
                  <a:pt x="19507" y="91822"/>
                </a:cubicBezTo>
                <a:cubicBezTo>
                  <a:pt x="29162" y="91822"/>
                  <a:pt x="29162" y="91822"/>
                  <a:pt x="29162" y="91822"/>
                </a:cubicBezTo>
                <a:cubicBezTo>
                  <a:pt x="34876" y="91822"/>
                  <a:pt x="34876" y="91822"/>
                  <a:pt x="34876" y="91822"/>
                </a:cubicBezTo>
                <a:cubicBezTo>
                  <a:pt x="41773" y="64039"/>
                  <a:pt x="41773" y="64039"/>
                  <a:pt x="41773" y="64039"/>
                </a:cubicBezTo>
                <a:cubicBezTo>
                  <a:pt x="59901" y="64039"/>
                  <a:pt x="59901" y="64039"/>
                  <a:pt x="59901" y="64039"/>
                </a:cubicBezTo>
                <a:lnTo>
                  <a:pt x="59901" y="64039"/>
                </a:lnTo>
                <a:cubicBezTo>
                  <a:pt x="69556" y="64039"/>
                  <a:pt x="79408" y="61280"/>
                  <a:pt x="86305" y="54384"/>
                </a:cubicBezTo>
                <a:cubicBezTo>
                  <a:pt x="90443" y="50049"/>
                  <a:pt x="93399" y="44532"/>
                  <a:pt x="94778" y="37635"/>
                </a:cubicBezTo>
                <a:cubicBezTo>
                  <a:pt x="96157" y="34876"/>
                  <a:pt x="96157" y="31921"/>
                  <a:pt x="96157" y="29162"/>
                </a:cubicBezTo>
                <a:close/>
                <a:moveTo>
                  <a:pt x="104433" y="33300"/>
                </a:moveTo>
                <a:lnTo>
                  <a:pt x="104433" y="33300"/>
                </a:lnTo>
                <a:cubicBezTo>
                  <a:pt x="103054" y="36256"/>
                  <a:pt x="103054" y="37635"/>
                  <a:pt x="103054" y="39014"/>
                </a:cubicBezTo>
                <a:cubicBezTo>
                  <a:pt x="98916" y="59901"/>
                  <a:pt x="80788" y="72315"/>
                  <a:pt x="59901" y="72315"/>
                </a:cubicBezTo>
                <a:cubicBezTo>
                  <a:pt x="47290" y="72315"/>
                  <a:pt x="47290" y="72315"/>
                  <a:pt x="47290" y="72315"/>
                </a:cubicBezTo>
                <a:cubicBezTo>
                  <a:pt x="43152" y="94581"/>
                  <a:pt x="43152" y="94581"/>
                  <a:pt x="43152" y="94581"/>
                </a:cubicBezTo>
                <a:cubicBezTo>
                  <a:pt x="41773" y="100295"/>
                  <a:pt x="41773" y="100295"/>
                  <a:pt x="41773" y="100295"/>
                </a:cubicBezTo>
                <a:cubicBezTo>
                  <a:pt x="34876" y="100295"/>
                  <a:pt x="34876" y="100295"/>
                  <a:pt x="34876" y="100295"/>
                </a:cubicBezTo>
                <a:cubicBezTo>
                  <a:pt x="26403" y="100295"/>
                  <a:pt x="26403" y="100295"/>
                  <a:pt x="26403" y="100295"/>
                </a:cubicBezTo>
                <a:cubicBezTo>
                  <a:pt x="23645" y="111330"/>
                  <a:pt x="23645" y="111330"/>
                  <a:pt x="23645" y="111330"/>
                </a:cubicBezTo>
                <a:cubicBezTo>
                  <a:pt x="50246" y="111330"/>
                  <a:pt x="50246" y="111330"/>
                  <a:pt x="50246" y="111330"/>
                </a:cubicBezTo>
                <a:cubicBezTo>
                  <a:pt x="55763" y="83546"/>
                  <a:pt x="55763" y="83546"/>
                  <a:pt x="55763" y="83546"/>
                </a:cubicBezTo>
                <a:cubicBezTo>
                  <a:pt x="73891" y="83546"/>
                  <a:pt x="73891" y="83546"/>
                  <a:pt x="73891" y="83546"/>
                </a:cubicBezTo>
                <a:cubicBezTo>
                  <a:pt x="90443" y="83546"/>
                  <a:pt x="105812" y="73891"/>
                  <a:pt x="108571" y="55763"/>
                </a:cubicBezTo>
                <a:cubicBezTo>
                  <a:pt x="111330" y="45911"/>
                  <a:pt x="108571" y="39014"/>
                  <a:pt x="104433" y="33300"/>
                </a:cubicBezTo>
                <a:close/>
                <a:moveTo>
                  <a:pt x="66798" y="44532"/>
                </a:moveTo>
                <a:lnTo>
                  <a:pt x="66798" y="44532"/>
                </a:lnTo>
                <a:cubicBezTo>
                  <a:pt x="65418" y="44532"/>
                  <a:pt x="65418" y="45911"/>
                  <a:pt x="64039" y="45911"/>
                </a:cubicBezTo>
                <a:cubicBezTo>
                  <a:pt x="62660" y="47290"/>
                  <a:pt x="59901" y="48669"/>
                  <a:pt x="57142" y="48669"/>
                </a:cubicBezTo>
                <a:cubicBezTo>
                  <a:pt x="44532" y="48669"/>
                  <a:pt x="44532" y="48669"/>
                  <a:pt x="44532" y="48669"/>
                </a:cubicBezTo>
                <a:cubicBezTo>
                  <a:pt x="50246" y="27783"/>
                  <a:pt x="50246" y="27783"/>
                  <a:pt x="50246" y="27783"/>
                </a:cubicBezTo>
                <a:cubicBezTo>
                  <a:pt x="50246" y="25024"/>
                  <a:pt x="50246" y="25024"/>
                  <a:pt x="50246" y="25024"/>
                </a:cubicBezTo>
                <a:cubicBezTo>
                  <a:pt x="62660" y="25024"/>
                  <a:pt x="62660" y="25024"/>
                  <a:pt x="62660" y="25024"/>
                </a:cubicBezTo>
                <a:cubicBezTo>
                  <a:pt x="65418" y="25024"/>
                  <a:pt x="66798" y="26403"/>
                  <a:pt x="68177" y="27783"/>
                </a:cubicBezTo>
                <a:cubicBezTo>
                  <a:pt x="71133" y="29162"/>
                  <a:pt x="72512" y="33300"/>
                  <a:pt x="71133" y="37635"/>
                </a:cubicBezTo>
                <a:cubicBezTo>
                  <a:pt x="71133" y="40394"/>
                  <a:pt x="68177" y="43152"/>
                  <a:pt x="66798" y="44532"/>
                </a:cubicBezTo>
                <a:close/>
                <a:moveTo>
                  <a:pt x="62660" y="33300"/>
                </a:moveTo>
                <a:lnTo>
                  <a:pt x="62660" y="33300"/>
                </a:lnTo>
                <a:lnTo>
                  <a:pt x="62660" y="33300"/>
                </a:lnTo>
                <a:cubicBezTo>
                  <a:pt x="57142" y="33300"/>
                  <a:pt x="57142" y="33300"/>
                  <a:pt x="57142" y="33300"/>
                </a:cubicBezTo>
                <a:cubicBezTo>
                  <a:pt x="55763" y="40394"/>
                  <a:pt x="55763" y="40394"/>
                  <a:pt x="55763" y="40394"/>
                </a:cubicBezTo>
                <a:cubicBezTo>
                  <a:pt x="57142" y="40394"/>
                  <a:pt x="57142" y="40394"/>
                  <a:pt x="57142" y="40394"/>
                </a:cubicBezTo>
                <a:cubicBezTo>
                  <a:pt x="59901" y="40394"/>
                  <a:pt x="62660" y="37635"/>
                  <a:pt x="62660" y="34876"/>
                </a:cubicBezTo>
                <a:lnTo>
                  <a:pt x="62660" y="34876"/>
                </a:lnTo>
                <a:lnTo>
                  <a:pt x="62660" y="34876"/>
                </a:lnTo>
                <a:cubicBezTo>
                  <a:pt x="62660" y="34876"/>
                  <a:pt x="62660" y="34876"/>
                  <a:pt x="62660" y="3330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Shape 5028"/>
          <p:cNvSpPr/>
          <p:nvPr/>
        </p:nvSpPr>
        <p:spPr>
          <a:xfrm>
            <a:off x="9717120" y="3595680"/>
            <a:ext cx="287280" cy="271440"/>
          </a:xfrm>
          <a:custGeom>
            <a:avLst/>
            <a:gdLst>
              <a:gd name="textAreaLeft" fmla="*/ 0 w 287280"/>
              <a:gd name="textAreaRight" fmla="*/ 287640 w 2872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3201" y="119790"/>
                </a:moveTo>
                <a:lnTo>
                  <a:pt x="93201" y="119790"/>
                </a:lnTo>
                <a:cubicBezTo>
                  <a:pt x="93201" y="76933"/>
                  <a:pt x="93201" y="76933"/>
                  <a:pt x="93201" y="76933"/>
                </a:cubicBezTo>
                <a:cubicBezTo>
                  <a:pt x="93201" y="67944"/>
                  <a:pt x="90443" y="59163"/>
                  <a:pt x="80788" y="59163"/>
                </a:cubicBezTo>
                <a:cubicBezTo>
                  <a:pt x="70935" y="59163"/>
                  <a:pt x="66798" y="67944"/>
                  <a:pt x="66798" y="76933"/>
                </a:cubicBezTo>
                <a:cubicBezTo>
                  <a:pt x="66798" y="119790"/>
                  <a:pt x="66798" y="119790"/>
                  <a:pt x="66798" y="119790"/>
                </a:cubicBezTo>
                <a:cubicBezTo>
                  <a:pt x="40394" y="119790"/>
                  <a:pt x="40394" y="119790"/>
                  <a:pt x="40394" y="119790"/>
                </a:cubicBezTo>
                <a:cubicBezTo>
                  <a:pt x="40394" y="39930"/>
                  <a:pt x="40394" y="39930"/>
                  <a:pt x="40394" y="39930"/>
                </a:cubicBezTo>
                <a:cubicBezTo>
                  <a:pt x="66798" y="39930"/>
                  <a:pt x="66798" y="39930"/>
                  <a:pt x="66798" y="39930"/>
                </a:cubicBezTo>
                <a:cubicBezTo>
                  <a:pt x="66798" y="50174"/>
                  <a:pt x="66798" y="50174"/>
                  <a:pt x="66798" y="50174"/>
                </a:cubicBezTo>
                <a:cubicBezTo>
                  <a:pt x="73891" y="41393"/>
                  <a:pt x="79408" y="37003"/>
                  <a:pt x="90443" y="37003"/>
                </a:cubicBezTo>
                <a:cubicBezTo>
                  <a:pt x="101674" y="37003"/>
                  <a:pt x="119802" y="42857"/>
                  <a:pt x="119802" y="75470"/>
                </a:cubicBezTo>
                <a:cubicBezTo>
                  <a:pt x="119802" y="119790"/>
                  <a:pt x="119802" y="119790"/>
                  <a:pt x="119802" y="119790"/>
                </a:cubicBezTo>
                <a:lnTo>
                  <a:pt x="93201" y="119790"/>
                </a:lnTo>
                <a:close/>
                <a:moveTo>
                  <a:pt x="15369" y="28013"/>
                </a:moveTo>
                <a:lnTo>
                  <a:pt x="15369" y="28013"/>
                </a:lnTo>
                <a:cubicBezTo>
                  <a:pt x="6896" y="28013"/>
                  <a:pt x="0" y="22160"/>
                  <a:pt x="0" y="14843"/>
                </a:cubicBezTo>
                <a:cubicBezTo>
                  <a:pt x="0" y="5853"/>
                  <a:pt x="6896" y="0"/>
                  <a:pt x="15369" y="0"/>
                </a:cubicBezTo>
                <a:cubicBezTo>
                  <a:pt x="23645" y="0"/>
                  <a:pt x="30541" y="5853"/>
                  <a:pt x="30541" y="14843"/>
                </a:cubicBezTo>
                <a:cubicBezTo>
                  <a:pt x="30541" y="22160"/>
                  <a:pt x="23645" y="28013"/>
                  <a:pt x="15369" y="28013"/>
                </a:cubicBezTo>
                <a:close/>
                <a:moveTo>
                  <a:pt x="27783" y="119790"/>
                </a:moveTo>
                <a:lnTo>
                  <a:pt x="27783" y="119790"/>
                </a:lnTo>
                <a:cubicBezTo>
                  <a:pt x="1379" y="119790"/>
                  <a:pt x="1379" y="119790"/>
                  <a:pt x="1379" y="119790"/>
                </a:cubicBezTo>
                <a:cubicBezTo>
                  <a:pt x="1379" y="39930"/>
                  <a:pt x="1379" y="39930"/>
                  <a:pt x="1379" y="39930"/>
                </a:cubicBezTo>
                <a:cubicBezTo>
                  <a:pt x="27783" y="39930"/>
                  <a:pt x="27783" y="39930"/>
                  <a:pt x="27783" y="39930"/>
                </a:cubicBezTo>
                <a:lnTo>
                  <a:pt x="27783" y="11979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Shape 5029"/>
          <p:cNvSpPr/>
          <p:nvPr/>
        </p:nvSpPr>
        <p:spPr>
          <a:xfrm>
            <a:off x="9218520" y="358776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20000" h="120000">
                <a:moveTo>
                  <a:pt x="92890" y="109950"/>
                </a:moveTo>
                <a:lnTo>
                  <a:pt x="92890" y="109950"/>
                </a:lnTo>
                <a:cubicBezTo>
                  <a:pt x="84518" y="96157"/>
                  <a:pt x="68970" y="86305"/>
                  <a:pt x="50631" y="86305"/>
                </a:cubicBezTo>
                <a:cubicBezTo>
                  <a:pt x="36677" y="86305"/>
                  <a:pt x="23920" y="91822"/>
                  <a:pt x="15548" y="100295"/>
                </a:cubicBezTo>
                <a:cubicBezTo>
                  <a:pt x="5581" y="89064"/>
                  <a:pt x="0" y="75270"/>
                  <a:pt x="0" y="59901"/>
                </a:cubicBezTo>
                <a:cubicBezTo>
                  <a:pt x="0" y="26403"/>
                  <a:pt x="26710" y="0"/>
                  <a:pt x="60598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80788"/>
                  <a:pt x="109833" y="98916"/>
                  <a:pt x="92890" y="109950"/>
                </a:cubicBezTo>
                <a:close/>
                <a:moveTo>
                  <a:pt x="30897" y="76650"/>
                </a:moveTo>
                <a:lnTo>
                  <a:pt x="30897" y="76650"/>
                </a:lnTo>
                <a:lnTo>
                  <a:pt x="30897" y="76650"/>
                </a:lnTo>
                <a:cubicBezTo>
                  <a:pt x="30897" y="76650"/>
                  <a:pt x="63388" y="68177"/>
                  <a:pt x="83122" y="83546"/>
                </a:cubicBezTo>
                <a:cubicBezTo>
                  <a:pt x="83122" y="83546"/>
                  <a:pt x="85913" y="84926"/>
                  <a:pt x="87308" y="83546"/>
                </a:cubicBezTo>
                <a:cubicBezTo>
                  <a:pt x="88704" y="82167"/>
                  <a:pt x="88704" y="82167"/>
                  <a:pt x="88704" y="79408"/>
                </a:cubicBezTo>
                <a:cubicBezTo>
                  <a:pt x="88704" y="79408"/>
                  <a:pt x="88704" y="78029"/>
                  <a:pt x="87308" y="76650"/>
                </a:cubicBezTo>
                <a:cubicBezTo>
                  <a:pt x="64784" y="61280"/>
                  <a:pt x="30897" y="68177"/>
                  <a:pt x="29501" y="68177"/>
                </a:cubicBezTo>
                <a:cubicBezTo>
                  <a:pt x="26710" y="69556"/>
                  <a:pt x="26710" y="72315"/>
                  <a:pt x="26710" y="72315"/>
                </a:cubicBezTo>
                <a:cubicBezTo>
                  <a:pt x="26710" y="73891"/>
                  <a:pt x="28106" y="76650"/>
                  <a:pt x="30897" y="76650"/>
                </a:cubicBezTo>
                <a:close/>
                <a:moveTo>
                  <a:pt x="28106" y="59901"/>
                </a:moveTo>
                <a:lnTo>
                  <a:pt x="28106" y="59901"/>
                </a:lnTo>
                <a:cubicBezTo>
                  <a:pt x="29501" y="58522"/>
                  <a:pt x="29501" y="58522"/>
                  <a:pt x="29501" y="58522"/>
                </a:cubicBezTo>
                <a:cubicBezTo>
                  <a:pt x="33687" y="58522"/>
                  <a:pt x="64784" y="50049"/>
                  <a:pt x="90099" y="65418"/>
                </a:cubicBezTo>
                <a:lnTo>
                  <a:pt x="90099" y="65418"/>
                </a:lnTo>
                <a:cubicBezTo>
                  <a:pt x="91495" y="66798"/>
                  <a:pt x="91495" y="66798"/>
                  <a:pt x="92890" y="66798"/>
                </a:cubicBezTo>
                <a:cubicBezTo>
                  <a:pt x="95681" y="66798"/>
                  <a:pt x="97076" y="64039"/>
                  <a:pt x="97076" y="61280"/>
                </a:cubicBezTo>
                <a:cubicBezTo>
                  <a:pt x="97076" y="59901"/>
                  <a:pt x="95681" y="57142"/>
                  <a:pt x="94285" y="57142"/>
                </a:cubicBezTo>
                <a:lnTo>
                  <a:pt x="94285" y="57142"/>
                </a:lnTo>
                <a:cubicBezTo>
                  <a:pt x="63388" y="39014"/>
                  <a:pt x="29501" y="50049"/>
                  <a:pt x="26710" y="50049"/>
                </a:cubicBezTo>
                <a:cubicBezTo>
                  <a:pt x="25315" y="50049"/>
                  <a:pt x="23920" y="53004"/>
                  <a:pt x="23920" y="54384"/>
                </a:cubicBezTo>
                <a:cubicBezTo>
                  <a:pt x="23920" y="57142"/>
                  <a:pt x="25315" y="59901"/>
                  <a:pt x="28106" y="59901"/>
                </a:cubicBezTo>
                <a:close/>
                <a:moveTo>
                  <a:pt x="102857" y="39014"/>
                </a:moveTo>
                <a:lnTo>
                  <a:pt x="102857" y="39014"/>
                </a:lnTo>
                <a:cubicBezTo>
                  <a:pt x="70365" y="18128"/>
                  <a:pt x="26710" y="29162"/>
                  <a:pt x="23920" y="29162"/>
                </a:cubicBezTo>
                <a:cubicBezTo>
                  <a:pt x="21129" y="29162"/>
                  <a:pt x="19734" y="31921"/>
                  <a:pt x="19734" y="34876"/>
                </a:cubicBezTo>
                <a:cubicBezTo>
                  <a:pt x="19734" y="37635"/>
                  <a:pt x="22524" y="40394"/>
                  <a:pt x="25315" y="40394"/>
                </a:cubicBezTo>
                <a:lnTo>
                  <a:pt x="26710" y="40394"/>
                </a:lnTo>
                <a:lnTo>
                  <a:pt x="26710" y="40394"/>
                </a:lnTo>
                <a:cubicBezTo>
                  <a:pt x="26710" y="40394"/>
                  <a:pt x="67574" y="29162"/>
                  <a:pt x="97076" y="47290"/>
                </a:cubicBezTo>
                <a:cubicBezTo>
                  <a:pt x="98671" y="48669"/>
                  <a:pt x="100066" y="48669"/>
                  <a:pt x="100066" y="48669"/>
                </a:cubicBezTo>
                <a:cubicBezTo>
                  <a:pt x="104252" y="48669"/>
                  <a:pt x="105647" y="45911"/>
                  <a:pt x="105647" y="43152"/>
                </a:cubicBezTo>
                <a:cubicBezTo>
                  <a:pt x="105647" y="41773"/>
                  <a:pt x="105647" y="39014"/>
                  <a:pt x="102857" y="39014"/>
                </a:cubicBezTo>
                <a:close/>
                <a:moveTo>
                  <a:pt x="73156" y="117044"/>
                </a:moveTo>
                <a:lnTo>
                  <a:pt x="73156" y="117044"/>
                </a:lnTo>
                <a:cubicBezTo>
                  <a:pt x="68970" y="118423"/>
                  <a:pt x="66179" y="119802"/>
                  <a:pt x="60598" y="119802"/>
                </a:cubicBezTo>
                <a:cubicBezTo>
                  <a:pt x="49235" y="119802"/>
                  <a:pt x="39468" y="117044"/>
                  <a:pt x="30897" y="111330"/>
                </a:cubicBezTo>
                <a:cubicBezTo>
                  <a:pt x="36677" y="105812"/>
                  <a:pt x="42259" y="104433"/>
                  <a:pt x="50631" y="104433"/>
                </a:cubicBezTo>
                <a:cubicBezTo>
                  <a:pt x="60598" y="104433"/>
                  <a:pt x="68970" y="108571"/>
                  <a:pt x="73156" y="11704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Shape 5030"/>
          <p:cNvSpPr/>
          <p:nvPr/>
        </p:nvSpPr>
        <p:spPr>
          <a:xfrm>
            <a:off x="8720280" y="3632040"/>
            <a:ext cx="284040" cy="195480"/>
          </a:xfrm>
          <a:custGeom>
            <a:avLst/>
            <a:gdLst>
              <a:gd name="textAreaLeft" fmla="*/ 0 w 284040"/>
              <a:gd name="textAreaRight" fmla="*/ 284400 w 28404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101630" y="0"/>
                </a:moveTo>
                <a:lnTo>
                  <a:pt x="101630" y="0"/>
                </a:lnTo>
                <a:cubicBezTo>
                  <a:pt x="62096" y="0"/>
                  <a:pt x="62096" y="0"/>
                  <a:pt x="62096" y="0"/>
                </a:cubicBezTo>
                <a:cubicBezTo>
                  <a:pt x="21164" y="0"/>
                  <a:pt x="21164" y="0"/>
                  <a:pt x="21164" y="0"/>
                </a:cubicBezTo>
                <a:cubicBezTo>
                  <a:pt x="11181" y="0"/>
                  <a:pt x="0" y="10218"/>
                  <a:pt x="0" y="24817"/>
                </a:cubicBezTo>
                <a:cubicBezTo>
                  <a:pt x="0" y="96934"/>
                  <a:pt x="0" y="96934"/>
                  <a:pt x="0" y="96934"/>
                </a:cubicBezTo>
                <a:cubicBezTo>
                  <a:pt x="0" y="111240"/>
                  <a:pt x="11181" y="119708"/>
                  <a:pt x="21164" y="119708"/>
                </a:cubicBezTo>
                <a:cubicBezTo>
                  <a:pt x="63494" y="119708"/>
                  <a:pt x="63494" y="119708"/>
                  <a:pt x="63494" y="119708"/>
                </a:cubicBezTo>
                <a:cubicBezTo>
                  <a:pt x="101630" y="119708"/>
                  <a:pt x="101630" y="119708"/>
                  <a:pt x="101630" y="119708"/>
                </a:cubicBezTo>
                <a:cubicBezTo>
                  <a:pt x="111414" y="119708"/>
                  <a:pt x="119800" y="111240"/>
                  <a:pt x="119800" y="96934"/>
                </a:cubicBezTo>
                <a:cubicBezTo>
                  <a:pt x="119800" y="24817"/>
                  <a:pt x="119800" y="24817"/>
                  <a:pt x="119800" y="24817"/>
                </a:cubicBezTo>
                <a:cubicBezTo>
                  <a:pt x="119800" y="10218"/>
                  <a:pt x="111414" y="0"/>
                  <a:pt x="101630" y="0"/>
                </a:cubicBezTo>
                <a:close/>
                <a:moveTo>
                  <a:pt x="52113" y="88759"/>
                </a:moveTo>
                <a:lnTo>
                  <a:pt x="52113" y="88759"/>
                </a:lnTo>
                <a:cubicBezTo>
                  <a:pt x="52113" y="32992"/>
                  <a:pt x="52113" y="32992"/>
                  <a:pt x="52113" y="32992"/>
                </a:cubicBezTo>
                <a:cubicBezTo>
                  <a:pt x="77670" y="59854"/>
                  <a:pt x="77670" y="59854"/>
                  <a:pt x="77670" y="59854"/>
                </a:cubicBezTo>
                <a:lnTo>
                  <a:pt x="52113" y="88759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Shape 5031"/>
          <p:cNvSpPr/>
          <p:nvPr/>
        </p:nvSpPr>
        <p:spPr>
          <a:xfrm>
            <a:off x="8209080" y="3570120"/>
            <a:ext cx="299880" cy="289080"/>
          </a:xfrm>
          <a:custGeom>
            <a:avLst/>
            <a:gdLst>
              <a:gd name="textAreaLeft" fmla="*/ 0 w 299880"/>
              <a:gd name="textAreaRight" fmla="*/ 300240 w 2998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02641" y="76578"/>
                </a:moveTo>
                <a:lnTo>
                  <a:pt x="102641" y="76578"/>
                </a:lnTo>
                <a:cubicBezTo>
                  <a:pt x="95849" y="86447"/>
                  <a:pt x="86603" y="98881"/>
                  <a:pt x="78490" y="105986"/>
                </a:cubicBezTo>
                <a:cubicBezTo>
                  <a:pt x="71886" y="111513"/>
                  <a:pt x="61320" y="119802"/>
                  <a:pt x="53207" y="118421"/>
                </a:cubicBezTo>
                <a:cubicBezTo>
                  <a:pt x="30566" y="114276"/>
                  <a:pt x="34528" y="57039"/>
                  <a:pt x="19811" y="44605"/>
                </a:cubicBezTo>
                <a:cubicBezTo>
                  <a:pt x="13207" y="43223"/>
                  <a:pt x="9245" y="52894"/>
                  <a:pt x="6603" y="47368"/>
                </a:cubicBezTo>
                <a:cubicBezTo>
                  <a:pt x="0" y="41842"/>
                  <a:pt x="11886" y="33355"/>
                  <a:pt x="17169" y="27828"/>
                </a:cubicBezTo>
                <a:cubicBezTo>
                  <a:pt x="25283" y="20921"/>
                  <a:pt x="33207" y="12434"/>
                  <a:pt x="43962" y="16578"/>
                </a:cubicBezTo>
                <a:cubicBezTo>
                  <a:pt x="62641" y="23684"/>
                  <a:pt x="49245" y="71052"/>
                  <a:pt x="66603" y="80921"/>
                </a:cubicBezTo>
                <a:cubicBezTo>
                  <a:pt x="75849" y="73815"/>
                  <a:pt x="86603" y="60000"/>
                  <a:pt x="83962" y="44605"/>
                </a:cubicBezTo>
                <a:cubicBezTo>
                  <a:pt x="82641" y="38881"/>
                  <a:pt x="73207" y="40263"/>
                  <a:pt x="69245" y="41842"/>
                </a:cubicBezTo>
                <a:cubicBezTo>
                  <a:pt x="69245" y="17960"/>
                  <a:pt x="114528" y="0"/>
                  <a:pt x="118490" y="31973"/>
                </a:cubicBezTo>
                <a:cubicBezTo>
                  <a:pt x="119811" y="52894"/>
                  <a:pt x="102641" y="76578"/>
                  <a:pt x="102641" y="76578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Shape 5032"/>
          <p:cNvSpPr/>
          <p:nvPr/>
        </p:nvSpPr>
        <p:spPr>
          <a:xfrm>
            <a:off x="7719840" y="3610080"/>
            <a:ext cx="284400" cy="244440"/>
          </a:xfrm>
          <a:custGeom>
            <a:avLst/>
            <a:gdLst>
              <a:gd name="textAreaLeft" fmla="*/ 0 w 284400"/>
              <a:gd name="textAreaRight" fmla="*/ 284760 w 284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1430" y="29709"/>
                </a:moveTo>
                <a:lnTo>
                  <a:pt x="101430" y="29709"/>
                </a:lnTo>
                <a:cubicBezTo>
                  <a:pt x="101430" y="51063"/>
                  <a:pt x="101430" y="51063"/>
                  <a:pt x="101430" y="51063"/>
                </a:cubicBezTo>
                <a:cubicBezTo>
                  <a:pt x="94442" y="51063"/>
                  <a:pt x="94442" y="51063"/>
                  <a:pt x="94442" y="51063"/>
                </a:cubicBezTo>
                <a:cubicBezTo>
                  <a:pt x="94442" y="29709"/>
                  <a:pt x="94442" y="29709"/>
                  <a:pt x="94442" y="29709"/>
                </a:cubicBezTo>
                <a:cubicBezTo>
                  <a:pt x="74675" y="29709"/>
                  <a:pt x="74675" y="29709"/>
                  <a:pt x="74675" y="29709"/>
                </a:cubicBezTo>
                <a:cubicBezTo>
                  <a:pt x="74675" y="21353"/>
                  <a:pt x="74675" y="21353"/>
                  <a:pt x="74675" y="21353"/>
                </a:cubicBezTo>
                <a:cubicBezTo>
                  <a:pt x="94442" y="21353"/>
                  <a:pt x="94442" y="21353"/>
                  <a:pt x="94442" y="21353"/>
                </a:cubicBezTo>
                <a:cubicBezTo>
                  <a:pt x="94442" y="0"/>
                  <a:pt x="94442" y="0"/>
                  <a:pt x="94442" y="0"/>
                </a:cubicBezTo>
                <a:cubicBezTo>
                  <a:pt x="101430" y="0"/>
                  <a:pt x="101430" y="0"/>
                  <a:pt x="101430" y="0"/>
                </a:cubicBezTo>
                <a:cubicBezTo>
                  <a:pt x="101430" y="21353"/>
                  <a:pt x="101430" y="21353"/>
                  <a:pt x="101430" y="21353"/>
                </a:cubicBezTo>
                <a:cubicBezTo>
                  <a:pt x="119800" y="21353"/>
                  <a:pt x="119800" y="21353"/>
                  <a:pt x="119800" y="21353"/>
                </a:cubicBezTo>
                <a:cubicBezTo>
                  <a:pt x="119800" y="29709"/>
                  <a:pt x="119800" y="29709"/>
                  <a:pt x="119800" y="29709"/>
                </a:cubicBezTo>
                <a:lnTo>
                  <a:pt x="101430" y="29709"/>
                </a:lnTo>
                <a:close/>
                <a:moveTo>
                  <a:pt x="49317" y="8355"/>
                </a:moveTo>
                <a:lnTo>
                  <a:pt x="49317" y="8355"/>
                </a:lnTo>
                <a:cubicBezTo>
                  <a:pt x="56306" y="13230"/>
                  <a:pt x="60698" y="19729"/>
                  <a:pt x="60698" y="29709"/>
                </a:cubicBezTo>
                <a:cubicBezTo>
                  <a:pt x="60698" y="36208"/>
                  <a:pt x="56306" y="42707"/>
                  <a:pt x="50715" y="47582"/>
                </a:cubicBezTo>
                <a:cubicBezTo>
                  <a:pt x="45124" y="52688"/>
                  <a:pt x="45124" y="54313"/>
                  <a:pt x="45124" y="57562"/>
                </a:cubicBezTo>
                <a:cubicBezTo>
                  <a:pt x="45124" y="60812"/>
                  <a:pt x="50715" y="67311"/>
                  <a:pt x="53510" y="68936"/>
                </a:cubicBezTo>
                <a:cubicBezTo>
                  <a:pt x="62096" y="75667"/>
                  <a:pt x="63494" y="82166"/>
                  <a:pt x="63494" y="91914"/>
                </a:cubicBezTo>
                <a:cubicBezTo>
                  <a:pt x="63494" y="105145"/>
                  <a:pt x="53510" y="119767"/>
                  <a:pt x="32346" y="119767"/>
                </a:cubicBezTo>
                <a:cubicBezTo>
                  <a:pt x="15374" y="119767"/>
                  <a:pt x="0" y="110019"/>
                  <a:pt x="0" y="96789"/>
                </a:cubicBezTo>
                <a:cubicBezTo>
                  <a:pt x="0" y="83791"/>
                  <a:pt x="13976" y="70560"/>
                  <a:pt x="30948" y="70560"/>
                </a:cubicBezTo>
                <a:cubicBezTo>
                  <a:pt x="33743" y="70560"/>
                  <a:pt x="35141" y="70560"/>
                  <a:pt x="36539" y="70560"/>
                </a:cubicBezTo>
                <a:cubicBezTo>
                  <a:pt x="35141" y="68936"/>
                  <a:pt x="32346" y="65686"/>
                  <a:pt x="32346" y="60812"/>
                </a:cubicBezTo>
                <a:cubicBezTo>
                  <a:pt x="32346" y="59187"/>
                  <a:pt x="33743" y="55938"/>
                  <a:pt x="33743" y="54313"/>
                </a:cubicBezTo>
                <a:cubicBezTo>
                  <a:pt x="33743" y="54313"/>
                  <a:pt x="32346" y="54313"/>
                  <a:pt x="30948" y="54313"/>
                </a:cubicBezTo>
                <a:cubicBezTo>
                  <a:pt x="16772" y="54313"/>
                  <a:pt x="6988" y="42707"/>
                  <a:pt x="6988" y="27852"/>
                </a:cubicBezTo>
                <a:cubicBezTo>
                  <a:pt x="6988" y="13230"/>
                  <a:pt x="21164" y="0"/>
                  <a:pt x="35141" y="0"/>
                </a:cubicBezTo>
                <a:cubicBezTo>
                  <a:pt x="42329" y="0"/>
                  <a:pt x="66289" y="0"/>
                  <a:pt x="66289" y="0"/>
                </a:cubicBezTo>
                <a:cubicBezTo>
                  <a:pt x="59301" y="8355"/>
                  <a:pt x="59301" y="8355"/>
                  <a:pt x="59301" y="8355"/>
                </a:cubicBezTo>
                <a:lnTo>
                  <a:pt x="49317" y="8355"/>
                </a:lnTo>
                <a:close/>
                <a:moveTo>
                  <a:pt x="35141" y="75667"/>
                </a:moveTo>
                <a:lnTo>
                  <a:pt x="35141" y="75667"/>
                </a:lnTo>
                <a:cubicBezTo>
                  <a:pt x="22562" y="73810"/>
                  <a:pt x="11181" y="83791"/>
                  <a:pt x="11181" y="93539"/>
                </a:cubicBezTo>
                <a:cubicBezTo>
                  <a:pt x="11181" y="103520"/>
                  <a:pt x="21164" y="111644"/>
                  <a:pt x="32346" y="111644"/>
                </a:cubicBezTo>
                <a:cubicBezTo>
                  <a:pt x="49317" y="111644"/>
                  <a:pt x="56306" y="105145"/>
                  <a:pt x="56306" y="93539"/>
                </a:cubicBezTo>
                <a:cubicBezTo>
                  <a:pt x="56306" y="93539"/>
                  <a:pt x="56306" y="91914"/>
                  <a:pt x="54908" y="90290"/>
                </a:cubicBezTo>
                <a:cubicBezTo>
                  <a:pt x="53510" y="83791"/>
                  <a:pt x="49317" y="82166"/>
                  <a:pt x="42329" y="75667"/>
                </a:cubicBezTo>
                <a:cubicBezTo>
                  <a:pt x="40732" y="75667"/>
                  <a:pt x="37936" y="75667"/>
                  <a:pt x="35141" y="75667"/>
                </a:cubicBezTo>
                <a:close/>
                <a:moveTo>
                  <a:pt x="49317" y="29709"/>
                </a:moveTo>
                <a:lnTo>
                  <a:pt x="49317" y="29709"/>
                </a:lnTo>
                <a:cubicBezTo>
                  <a:pt x="47920" y="16479"/>
                  <a:pt x="39334" y="6731"/>
                  <a:pt x="30948" y="6731"/>
                </a:cubicBezTo>
                <a:cubicBezTo>
                  <a:pt x="22562" y="6731"/>
                  <a:pt x="16772" y="16479"/>
                  <a:pt x="18169" y="27852"/>
                </a:cubicBezTo>
                <a:cubicBezTo>
                  <a:pt x="19767" y="41083"/>
                  <a:pt x="28153" y="51063"/>
                  <a:pt x="36539" y="51063"/>
                </a:cubicBezTo>
                <a:cubicBezTo>
                  <a:pt x="43727" y="51063"/>
                  <a:pt x="50715" y="41083"/>
                  <a:pt x="49317" y="29709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Shape 5033"/>
          <p:cNvSpPr/>
          <p:nvPr/>
        </p:nvSpPr>
        <p:spPr>
          <a:xfrm>
            <a:off x="10220400" y="3087720"/>
            <a:ext cx="285840" cy="2840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9833" y="119800"/>
                </a:moveTo>
                <a:lnTo>
                  <a:pt x="109833" y="119800"/>
                </a:lnTo>
                <a:cubicBezTo>
                  <a:pt x="8372" y="119800"/>
                  <a:pt x="8372" y="119800"/>
                  <a:pt x="8372" y="119800"/>
                </a:cubicBezTo>
                <a:cubicBezTo>
                  <a:pt x="4186" y="119800"/>
                  <a:pt x="0" y="117004"/>
                  <a:pt x="0" y="111414"/>
                </a:cubicBezTo>
                <a:cubicBezTo>
                  <a:pt x="0" y="9783"/>
                  <a:pt x="0" y="9783"/>
                  <a:pt x="0" y="9783"/>
                </a:cubicBezTo>
                <a:cubicBezTo>
                  <a:pt x="0" y="4193"/>
                  <a:pt x="4186" y="0"/>
                  <a:pt x="8372" y="0"/>
                </a:cubicBezTo>
                <a:cubicBezTo>
                  <a:pt x="109833" y="0"/>
                  <a:pt x="109833" y="0"/>
                  <a:pt x="109833" y="0"/>
                </a:cubicBezTo>
                <a:cubicBezTo>
                  <a:pt x="115614" y="0"/>
                  <a:pt x="119800" y="4193"/>
                  <a:pt x="119800" y="9783"/>
                </a:cubicBezTo>
                <a:cubicBezTo>
                  <a:pt x="119800" y="111414"/>
                  <a:pt x="119800" y="111414"/>
                  <a:pt x="119800" y="111414"/>
                </a:cubicBezTo>
                <a:cubicBezTo>
                  <a:pt x="119800" y="117004"/>
                  <a:pt x="115614" y="119800"/>
                  <a:pt x="109833" y="119800"/>
                </a:cubicBezTo>
                <a:close/>
                <a:moveTo>
                  <a:pt x="50830" y="22562"/>
                </a:moveTo>
                <a:lnTo>
                  <a:pt x="50830" y="22562"/>
                </a:lnTo>
                <a:cubicBezTo>
                  <a:pt x="45049" y="22562"/>
                  <a:pt x="39468" y="23960"/>
                  <a:pt x="36677" y="25357"/>
                </a:cubicBezTo>
                <a:cubicBezTo>
                  <a:pt x="32491" y="28153"/>
                  <a:pt x="29501" y="30948"/>
                  <a:pt x="28106" y="33743"/>
                </a:cubicBezTo>
                <a:cubicBezTo>
                  <a:pt x="28106" y="36738"/>
                  <a:pt x="26710" y="39534"/>
                  <a:pt x="26710" y="45124"/>
                </a:cubicBezTo>
                <a:cubicBezTo>
                  <a:pt x="26710" y="50715"/>
                  <a:pt x="26710" y="50715"/>
                  <a:pt x="26710" y="50715"/>
                </a:cubicBezTo>
                <a:cubicBezTo>
                  <a:pt x="18338" y="50715"/>
                  <a:pt x="18338" y="50715"/>
                  <a:pt x="18338" y="50715"/>
                </a:cubicBezTo>
                <a:cubicBezTo>
                  <a:pt x="18338" y="64891"/>
                  <a:pt x="18338" y="64891"/>
                  <a:pt x="18338" y="64891"/>
                </a:cubicBezTo>
                <a:cubicBezTo>
                  <a:pt x="26710" y="64891"/>
                  <a:pt x="26710" y="64891"/>
                  <a:pt x="26710" y="64891"/>
                </a:cubicBezTo>
                <a:cubicBezTo>
                  <a:pt x="26710" y="111414"/>
                  <a:pt x="26710" y="111414"/>
                  <a:pt x="26710" y="111414"/>
                </a:cubicBezTo>
                <a:cubicBezTo>
                  <a:pt x="46445" y="111414"/>
                  <a:pt x="46445" y="111414"/>
                  <a:pt x="46445" y="111414"/>
                </a:cubicBezTo>
                <a:cubicBezTo>
                  <a:pt x="46445" y="64891"/>
                  <a:pt x="46445" y="64891"/>
                  <a:pt x="46445" y="64891"/>
                </a:cubicBezTo>
                <a:cubicBezTo>
                  <a:pt x="57807" y="64891"/>
                  <a:pt x="57807" y="64891"/>
                  <a:pt x="57807" y="64891"/>
                </a:cubicBezTo>
                <a:cubicBezTo>
                  <a:pt x="61993" y="50715"/>
                  <a:pt x="61993" y="50715"/>
                  <a:pt x="61993" y="50715"/>
                </a:cubicBezTo>
                <a:cubicBezTo>
                  <a:pt x="46445" y="50715"/>
                  <a:pt x="46445" y="50715"/>
                  <a:pt x="46445" y="50715"/>
                </a:cubicBezTo>
                <a:cubicBezTo>
                  <a:pt x="46445" y="45124"/>
                  <a:pt x="46445" y="45124"/>
                  <a:pt x="46445" y="45124"/>
                </a:cubicBezTo>
                <a:cubicBezTo>
                  <a:pt x="46445" y="42329"/>
                  <a:pt x="46445" y="39534"/>
                  <a:pt x="47840" y="38136"/>
                </a:cubicBezTo>
                <a:cubicBezTo>
                  <a:pt x="49435" y="38136"/>
                  <a:pt x="52225" y="36738"/>
                  <a:pt x="55016" y="36738"/>
                </a:cubicBezTo>
                <a:cubicBezTo>
                  <a:pt x="57807" y="36738"/>
                  <a:pt x="59202" y="38136"/>
                  <a:pt x="61993" y="39534"/>
                </a:cubicBezTo>
                <a:cubicBezTo>
                  <a:pt x="66179" y="26755"/>
                  <a:pt x="66179" y="26755"/>
                  <a:pt x="66179" y="26755"/>
                </a:cubicBezTo>
                <a:cubicBezTo>
                  <a:pt x="60598" y="25357"/>
                  <a:pt x="56411" y="22562"/>
                  <a:pt x="50830" y="2256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Shape 5034"/>
          <p:cNvSpPr/>
          <p:nvPr/>
        </p:nvSpPr>
        <p:spPr>
          <a:xfrm>
            <a:off x="9798120" y="3083040"/>
            <a:ext cx="133200" cy="288720"/>
          </a:xfrm>
          <a:custGeom>
            <a:avLst/>
            <a:gdLst>
              <a:gd name="textAreaLeft" fmla="*/ 0 w 133200"/>
              <a:gd name="textAreaRight" fmla="*/ 133560 w 1332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577" y="1381"/>
                </a:moveTo>
                <a:lnTo>
                  <a:pt x="119577" y="1381"/>
                </a:lnTo>
                <a:cubicBezTo>
                  <a:pt x="119577" y="8289"/>
                  <a:pt x="119577" y="20921"/>
                  <a:pt x="119577" y="20921"/>
                </a:cubicBezTo>
                <a:cubicBezTo>
                  <a:pt x="119577" y="20921"/>
                  <a:pt x="90000" y="19539"/>
                  <a:pt x="83661" y="25065"/>
                </a:cubicBezTo>
                <a:cubicBezTo>
                  <a:pt x="77746" y="27828"/>
                  <a:pt x="80704" y="36118"/>
                  <a:pt x="80704" y="41842"/>
                </a:cubicBezTo>
                <a:cubicBezTo>
                  <a:pt x="92957" y="41842"/>
                  <a:pt x="107746" y="41842"/>
                  <a:pt x="119577" y="41842"/>
                </a:cubicBezTo>
                <a:cubicBezTo>
                  <a:pt x="116619" y="50131"/>
                  <a:pt x="113661" y="54276"/>
                  <a:pt x="113661" y="61381"/>
                </a:cubicBezTo>
                <a:cubicBezTo>
                  <a:pt x="101830" y="61381"/>
                  <a:pt x="80704" y="61381"/>
                  <a:pt x="80704" y="61381"/>
                </a:cubicBezTo>
                <a:cubicBezTo>
                  <a:pt x="80704" y="119802"/>
                  <a:pt x="80704" y="119802"/>
                  <a:pt x="80704" y="119802"/>
                </a:cubicBezTo>
                <a:cubicBezTo>
                  <a:pt x="80704" y="119802"/>
                  <a:pt x="42253" y="119802"/>
                  <a:pt x="24084" y="119802"/>
                </a:cubicBezTo>
                <a:cubicBezTo>
                  <a:pt x="24084" y="101842"/>
                  <a:pt x="24084" y="80921"/>
                  <a:pt x="24084" y="61381"/>
                </a:cubicBezTo>
                <a:cubicBezTo>
                  <a:pt x="15211" y="61381"/>
                  <a:pt x="9295" y="61381"/>
                  <a:pt x="0" y="61381"/>
                </a:cubicBezTo>
                <a:cubicBezTo>
                  <a:pt x="0" y="54276"/>
                  <a:pt x="0" y="48750"/>
                  <a:pt x="0" y="41842"/>
                </a:cubicBezTo>
                <a:cubicBezTo>
                  <a:pt x="9295" y="41842"/>
                  <a:pt x="15211" y="41842"/>
                  <a:pt x="24084" y="41842"/>
                </a:cubicBezTo>
                <a:cubicBezTo>
                  <a:pt x="27042" y="29210"/>
                  <a:pt x="27042" y="15394"/>
                  <a:pt x="42253" y="8289"/>
                </a:cubicBezTo>
                <a:cubicBezTo>
                  <a:pt x="57042" y="0"/>
                  <a:pt x="71830" y="1381"/>
                  <a:pt x="119577" y="1381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Shape 5035"/>
          <p:cNvSpPr/>
          <p:nvPr/>
        </p:nvSpPr>
        <p:spPr>
          <a:xfrm>
            <a:off x="9218520" y="3087720"/>
            <a:ext cx="287280" cy="284040"/>
          </a:xfrm>
          <a:custGeom>
            <a:avLst/>
            <a:gdLst>
              <a:gd name="textAreaLeft" fmla="*/ 0 w 287280"/>
              <a:gd name="textAreaRight" fmla="*/ 287640 w 2872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60598" y="0"/>
                </a:moveTo>
                <a:lnTo>
                  <a:pt x="60598" y="0"/>
                </a:lnTo>
                <a:cubicBezTo>
                  <a:pt x="26710" y="0"/>
                  <a:pt x="0" y="26755"/>
                  <a:pt x="0" y="60698"/>
                </a:cubicBezTo>
                <a:cubicBezTo>
                  <a:pt x="0" y="84658"/>
                  <a:pt x="15548" y="105823"/>
                  <a:pt x="36677" y="115607"/>
                </a:cubicBezTo>
                <a:cubicBezTo>
                  <a:pt x="36677" y="111414"/>
                  <a:pt x="36677" y="105823"/>
                  <a:pt x="38073" y="101630"/>
                </a:cubicBezTo>
                <a:cubicBezTo>
                  <a:pt x="38073" y="97237"/>
                  <a:pt x="45049" y="69084"/>
                  <a:pt x="45049" y="69084"/>
                </a:cubicBezTo>
                <a:cubicBezTo>
                  <a:pt x="45049" y="69084"/>
                  <a:pt x="43654" y="64891"/>
                  <a:pt x="43654" y="59301"/>
                </a:cubicBezTo>
                <a:cubicBezTo>
                  <a:pt x="43654" y="50715"/>
                  <a:pt x="47840" y="43727"/>
                  <a:pt x="55016" y="43727"/>
                </a:cubicBezTo>
                <a:cubicBezTo>
                  <a:pt x="60598" y="43727"/>
                  <a:pt x="63388" y="47920"/>
                  <a:pt x="63388" y="52113"/>
                </a:cubicBezTo>
                <a:cubicBezTo>
                  <a:pt x="63388" y="57703"/>
                  <a:pt x="59202" y="66289"/>
                  <a:pt x="57807" y="74675"/>
                </a:cubicBezTo>
                <a:cubicBezTo>
                  <a:pt x="56411" y="80465"/>
                  <a:pt x="60598" y="86056"/>
                  <a:pt x="67574" y="86056"/>
                </a:cubicBezTo>
                <a:cubicBezTo>
                  <a:pt x="78936" y="86056"/>
                  <a:pt x="85913" y="70482"/>
                  <a:pt x="85913" y="53510"/>
                </a:cubicBezTo>
                <a:cubicBezTo>
                  <a:pt x="85913" y="40931"/>
                  <a:pt x="77541" y="30948"/>
                  <a:pt x="60598" y="30948"/>
                </a:cubicBezTo>
                <a:cubicBezTo>
                  <a:pt x="42259" y="30948"/>
                  <a:pt x="30897" y="43727"/>
                  <a:pt x="30897" y="59301"/>
                </a:cubicBezTo>
                <a:cubicBezTo>
                  <a:pt x="30897" y="64891"/>
                  <a:pt x="32292" y="69084"/>
                  <a:pt x="35083" y="71880"/>
                </a:cubicBezTo>
                <a:cubicBezTo>
                  <a:pt x="36677" y="71880"/>
                  <a:pt x="36677" y="73277"/>
                  <a:pt x="36677" y="74675"/>
                </a:cubicBezTo>
                <a:cubicBezTo>
                  <a:pt x="36677" y="76272"/>
                  <a:pt x="35083" y="79068"/>
                  <a:pt x="35083" y="79068"/>
                </a:cubicBezTo>
                <a:cubicBezTo>
                  <a:pt x="35083" y="80465"/>
                  <a:pt x="33687" y="81863"/>
                  <a:pt x="32292" y="80465"/>
                </a:cubicBezTo>
                <a:cubicBezTo>
                  <a:pt x="23920" y="77670"/>
                  <a:pt x="19734" y="67687"/>
                  <a:pt x="19734" y="57703"/>
                </a:cubicBezTo>
                <a:cubicBezTo>
                  <a:pt x="19734" y="40931"/>
                  <a:pt x="33687" y="19767"/>
                  <a:pt x="63388" y="19767"/>
                </a:cubicBezTo>
                <a:cubicBezTo>
                  <a:pt x="85913" y="19767"/>
                  <a:pt x="101461" y="36738"/>
                  <a:pt x="101461" y="54908"/>
                </a:cubicBezTo>
                <a:cubicBezTo>
                  <a:pt x="101461" y="79068"/>
                  <a:pt x="87308" y="95840"/>
                  <a:pt x="68970" y="95840"/>
                </a:cubicBezTo>
                <a:cubicBezTo>
                  <a:pt x="61993" y="95840"/>
                  <a:pt x="56411" y="93044"/>
                  <a:pt x="53621" y="88851"/>
                </a:cubicBezTo>
                <a:cubicBezTo>
                  <a:pt x="53621" y="88851"/>
                  <a:pt x="50631" y="103028"/>
                  <a:pt x="49235" y="105823"/>
                </a:cubicBezTo>
                <a:cubicBezTo>
                  <a:pt x="47840" y="110016"/>
                  <a:pt x="46445" y="114209"/>
                  <a:pt x="43654" y="118402"/>
                </a:cubicBezTo>
                <a:cubicBezTo>
                  <a:pt x="49235" y="119800"/>
                  <a:pt x="55016" y="119800"/>
                  <a:pt x="60598" y="119800"/>
                </a:cubicBezTo>
                <a:cubicBezTo>
                  <a:pt x="92890" y="119800"/>
                  <a:pt x="119800" y="93044"/>
                  <a:pt x="119800" y="60698"/>
                </a:cubicBezTo>
                <a:cubicBezTo>
                  <a:pt x="119800" y="26755"/>
                  <a:pt x="92890" y="0"/>
                  <a:pt x="60598" y="0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Shape 5036"/>
          <p:cNvSpPr/>
          <p:nvPr/>
        </p:nvSpPr>
        <p:spPr>
          <a:xfrm>
            <a:off x="8748720" y="3087720"/>
            <a:ext cx="220680" cy="288720"/>
          </a:xfrm>
          <a:custGeom>
            <a:avLst/>
            <a:gdLst>
              <a:gd name="textAreaLeft" fmla="*/ 0 w 220680"/>
              <a:gd name="textAreaRight" fmla="*/ 221040 w 2206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49718" y="78029"/>
                </a:moveTo>
                <a:lnTo>
                  <a:pt x="49718" y="78029"/>
                </a:lnTo>
                <a:cubicBezTo>
                  <a:pt x="47895" y="80788"/>
                  <a:pt x="47895" y="84926"/>
                  <a:pt x="46073" y="89064"/>
                </a:cubicBezTo>
                <a:cubicBezTo>
                  <a:pt x="44251" y="93201"/>
                  <a:pt x="44251" y="97536"/>
                  <a:pt x="42429" y="100295"/>
                </a:cubicBezTo>
                <a:cubicBezTo>
                  <a:pt x="38785" y="107192"/>
                  <a:pt x="35140" y="112709"/>
                  <a:pt x="29414" y="116847"/>
                </a:cubicBezTo>
                <a:cubicBezTo>
                  <a:pt x="25770" y="119802"/>
                  <a:pt x="25770" y="118226"/>
                  <a:pt x="25770" y="118226"/>
                </a:cubicBezTo>
                <a:cubicBezTo>
                  <a:pt x="23947" y="118226"/>
                  <a:pt x="23947" y="118226"/>
                  <a:pt x="23947" y="116847"/>
                </a:cubicBezTo>
                <a:cubicBezTo>
                  <a:pt x="23947" y="112709"/>
                  <a:pt x="23947" y="107192"/>
                  <a:pt x="23947" y="101674"/>
                </a:cubicBezTo>
                <a:cubicBezTo>
                  <a:pt x="23947" y="95960"/>
                  <a:pt x="25770" y="90443"/>
                  <a:pt x="27592" y="84926"/>
                </a:cubicBezTo>
                <a:cubicBezTo>
                  <a:pt x="31236" y="76650"/>
                  <a:pt x="33318" y="66798"/>
                  <a:pt x="36963" y="56945"/>
                </a:cubicBezTo>
                <a:cubicBezTo>
                  <a:pt x="36963" y="55566"/>
                  <a:pt x="36963" y="55566"/>
                  <a:pt x="36963" y="54187"/>
                </a:cubicBezTo>
                <a:cubicBezTo>
                  <a:pt x="36963" y="51428"/>
                  <a:pt x="35140" y="50049"/>
                  <a:pt x="35140" y="47290"/>
                </a:cubicBezTo>
                <a:cubicBezTo>
                  <a:pt x="35140" y="43152"/>
                  <a:pt x="35140" y="40394"/>
                  <a:pt x="35140" y="37635"/>
                </a:cubicBezTo>
                <a:cubicBezTo>
                  <a:pt x="36963" y="33300"/>
                  <a:pt x="40607" y="29162"/>
                  <a:pt x="47895" y="26403"/>
                </a:cubicBezTo>
                <a:cubicBezTo>
                  <a:pt x="51540" y="26403"/>
                  <a:pt x="55444" y="26403"/>
                  <a:pt x="57266" y="27783"/>
                </a:cubicBezTo>
                <a:cubicBezTo>
                  <a:pt x="60911" y="29162"/>
                  <a:pt x="62733" y="30541"/>
                  <a:pt x="62733" y="33300"/>
                </a:cubicBezTo>
                <a:cubicBezTo>
                  <a:pt x="64555" y="36256"/>
                  <a:pt x="62733" y="40394"/>
                  <a:pt x="62733" y="41773"/>
                </a:cubicBezTo>
                <a:cubicBezTo>
                  <a:pt x="60911" y="47290"/>
                  <a:pt x="59088" y="51428"/>
                  <a:pt x="57266" y="56945"/>
                </a:cubicBezTo>
                <a:cubicBezTo>
                  <a:pt x="55444" y="59901"/>
                  <a:pt x="55444" y="62660"/>
                  <a:pt x="55444" y="65418"/>
                </a:cubicBezTo>
                <a:cubicBezTo>
                  <a:pt x="57266" y="68177"/>
                  <a:pt x="59088" y="70935"/>
                  <a:pt x="60911" y="72315"/>
                </a:cubicBezTo>
                <a:cubicBezTo>
                  <a:pt x="64555" y="73694"/>
                  <a:pt x="66377" y="73694"/>
                  <a:pt x="70021" y="73694"/>
                </a:cubicBezTo>
                <a:cubicBezTo>
                  <a:pt x="79132" y="73694"/>
                  <a:pt x="82776" y="69556"/>
                  <a:pt x="86681" y="66798"/>
                </a:cubicBezTo>
                <a:cubicBezTo>
                  <a:pt x="92147" y="61280"/>
                  <a:pt x="95791" y="54187"/>
                  <a:pt x="97613" y="44532"/>
                </a:cubicBezTo>
                <a:cubicBezTo>
                  <a:pt x="97613" y="41773"/>
                  <a:pt x="97613" y="39014"/>
                  <a:pt x="97613" y="36256"/>
                </a:cubicBezTo>
                <a:cubicBezTo>
                  <a:pt x="97613" y="29162"/>
                  <a:pt x="95791" y="25024"/>
                  <a:pt x="90325" y="20886"/>
                </a:cubicBezTo>
                <a:cubicBezTo>
                  <a:pt x="86681" y="18128"/>
                  <a:pt x="82776" y="15369"/>
                  <a:pt x="75488" y="12413"/>
                </a:cubicBezTo>
                <a:cubicBezTo>
                  <a:pt x="70021" y="11034"/>
                  <a:pt x="60911" y="11034"/>
                  <a:pt x="53362" y="12413"/>
                </a:cubicBezTo>
                <a:cubicBezTo>
                  <a:pt x="38785" y="13990"/>
                  <a:pt x="27592" y="19507"/>
                  <a:pt x="22125" y="27783"/>
                </a:cubicBezTo>
                <a:cubicBezTo>
                  <a:pt x="18481" y="33300"/>
                  <a:pt x="16659" y="37635"/>
                  <a:pt x="16659" y="44532"/>
                </a:cubicBezTo>
                <a:cubicBezTo>
                  <a:pt x="16659" y="48669"/>
                  <a:pt x="18481" y="52807"/>
                  <a:pt x="22125" y="55566"/>
                </a:cubicBezTo>
                <a:cubicBezTo>
                  <a:pt x="22125" y="56945"/>
                  <a:pt x="23947" y="56945"/>
                  <a:pt x="23947" y="58522"/>
                </a:cubicBezTo>
                <a:cubicBezTo>
                  <a:pt x="25770" y="59901"/>
                  <a:pt x="23947" y="62660"/>
                  <a:pt x="23947" y="64039"/>
                </a:cubicBezTo>
                <a:cubicBezTo>
                  <a:pt x="22125" y="65418"/>
                  <a:pt x="22125" y="68177"/>
                  <a:pt x="20303" y="68177"/>
                </a:cubicBezTo>
                <a:cubicBezTo>
                  <a:pt x="18481" y="68177"/>
                  <a:pt x="16659" y="68177"/>
                  <a:pt x="16659" y="68177"/>
                </a:cubicBezTo>
                <a:cubicBezTo>
                  <a:pt x="7548" y="64039"/>
                  <a:pt x="3904" y="58522"/>
                  <a:pt x="0" y="50049"/>
                </a:cubicBezTo>
                <a:cubicBezTo>
                  <a:pt x="0" y="45911"/>
                  <a:pt x="0" y="40394"/>
                  <a:pt x="0" y="34679"/>
                </a:cubicBezTo>
                <a:cubicBezTo>
                  <a:pt x="1822" y="30541"/>
                  <a:pt x="3904" y="26403"/>
                  <a:pt x="7548" y="23645"/>
                </a:cubicBezTo>
                <a:cubicBezTo>
                  <a:pt x="11193" y="16748"/>
                  <a:pt x="18481" y="11034"/>
                  <a:pt x="27592" y="6896"/>
                </a:cubicBezTo>
                <a:cubicBezTo>
                  <a:pt x="35140" y="4137"/>
                  <a:pt x="42429" y="1379"/>
                  <a:pt x="51540" y="0"/>
                </a:cubicBezTo>
                <a:cubicBezTo>
                  <a:pt x="55444" y="0"/>
                  <a:pt x="59088" y="0"/>
                  <a:pt x="62733" y="0"/>
                </a:cubicBezTo>
                <a:cubicBezTo>
                  <a:pt x="71843" y="0"/>
                  <a:pt x="80954" y="1379"/>
                  <a:pt x="88503" y="4137"/>
                </a:cubicBezTo>
                <a:cubicBezTo>
                  <a:pt x="95791" y="6896"/>
                  <a:pt x="101258" y="9655"/>
                  <a:pt x="106724" y="13990"/>
                </a:cubicBezTo>
                <a:cubicBezTo>
                  <a:pt x="112190" y="18128"/>
                  <a:pt x="116095" y="22266"/>
                  <a:pt x="117917" y="29162"/>
                </a:cubicBezTo>
                <a:cubicBezTo>
                  <a:pt x="119739" y="31921"/>
                  <a:pt x="119739" y="36256"/>
                  <a:pt x="119739" y="40394"/>
                </a:cubicBezTo>
                <a:cubicBezTo>
                  <a:pt x="119739" y="43152"/>
                  <a:pt x="119739" y="47290"/>
                  <a:pt x="117917" y="50049"/>
                </a:cubicBezTo>
                <a:cubicBezTo>
                  <a:pt x="116095" y="64039"/>
                  <a:pt x="106724" y="75270"/>
                  <a:pt x="93969" y="80788"/>
                </a:cubicBezTo>
                <a:cubicBezTo>
                  <a:pt x="92147" y="82167"/>
                  <a:pt x="88503" y="83546"/>
                  <a:pt x="84859" y="84926"/>
                </a:cubicBezTo>
                <a:cubicBezTo>
                  <a:pt x="79132" y="84926"/>
                  <a:pt x="75488" y="86305"/>
                  <a:pt x="70021" y="86305"/>
                </a:cubicBezTo>
                <a:cubicBezTo>
                  <a:pt x="66377" y="84926"/>
                  <a:pt x="60911" y="84926"/>
                  <a:pt x="59088" y="83546"/>
                </a:cubicBezTo>
                <a:cubicBezTo>
                  <a:pt x="55444" y="82167"/>
                  <a:pt x="51540" y="79408"/>
                  <a:pt x="49718" y="78029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Shape 5037"/>
          <p:cNvSpPr/>
          <p:nvPr/>
        </p:nvSpPr>
        <p:spPr>
          <a:xfrm>
            <a:off x="8237520" y="3087720"/>
            <a:ext cx="244440" cy="284040"/>
          </a:xfrm>
          <a:custGeom>
            <a:avLst/>
            <a:gdLst>
              <a:gd name="textAreaLeft" fmla="*/ 0 w 244440"/>
              <a:gd name="textAreaRight" fmla="*/ 244800 w 2444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19767" y="118402"/>
                </a:moveTo>
                <a:lnTo>
                  <a:pt x="119767" y="118402"/>
                </a:lnTo>
                <a:cubicBezTo>
                  <a:pt x="118143" y="119800"/>
                  <a:pt x="118143" y="119800"/>
                  <a:pt x="116518" y="119800"/>
                </a:cubicBezTo>
                <a:cubicBezTo>
                  <a:pt x="68936" y="119800"/>
                  <a:pt x="68936" y="119800"/>
                  <a:pt x="68936" y="119800"/>
                </a:cubicBezTo>
                <a:cubicBezTo>
                  <a:pt x="68936" y="97237"/>
                  <a:pt x="68936" y="97237"/>
                  <a:pt x="68936" y="97237"/>
                </a:cubicBezTo>
                <a:cubicBezTo>
                  <a:pt x="90290" y="86056"/>
                  <a:pt x="90290" y="86056"/>
                  <a:pt x="90290" y="86056"/>
                </a:cubicBezTo>
                <a:cubicBezTo>
                  <a:pt x="91914" y="86056"/>
                  <a:pt x="93539" y="84658"/>
                  <a:pt x="93539" y="83261"/>
                </a:cubicBezTo>
                <a:cubicBezTo>
                  <a:pt x="93539" y="80465"/>
                  <a:pt x="91914" y="79068"/>
                  <a:pt x="90290" y="79068"/>
                </a:cubicBezTo>
                <a:cubicBezTo>
                  <a:pt x="68936" y="90249"/>
                  <a:pt x="68936" y="90249"/>
                  <a:pt x="68936" y="90249"/>
                </a:cubicBezTo>
                <a:cubicBezTo>
                  <a:pt x="68936" y="77670"/>
                  <a:pt x="68936" y="77670"/>
                  <a:pt x="68936" y="77670"/>
                </a:cubicBezTo>
                <a:cubicBezTo>
                  <a:pt x="80309" y="71880"/>
                  <a:pt x="80309" y="71880"/>
                  <a:pt x="80309" y="71880"/>
                </a:cubicBezTo>
                <a:cubicBezTo>
                  <a:pt x="83791" y="71880"/>
                  <a:pt x="85415" y="69084"/>
                  <a:pt x="85415" y="67687"/>
                </a:cubicBezTo>
                <a:cubicBezTo>
                  <a:pt x="85415" y="66289"/>
                  <a:pt x="83791" y="63494"/>
                  <a:pt x="80309" y="63494"/>
                </a:cubicBezTo>
                <a:cubicBezTo>
                  <a:pt x="68936" y="69084"/>
                  <a:pt x="68936" y="69084"/>
                  <a:pt x="68936" y="69084"/>
                </a:cubicBezTo>
                <a:cubicBezTo>
                  <a:pt x="68936" y="63494"/>
                  <a:pt x="68936" y="63494"/>
                  <a:pt x="68936" y="63494"/>
                </a:cubicBezTo>
                <a:cubicBezTo>
                  <a:pt x="68936" y="62096"/>
                  <a:pt x="65686" y="60698"/>
                  <a:pt x="64061" y="60698"/>
                </a:cubicBezTo>
                <a:cubicBezTo>
                  <a:pt x="55705" y="60698"/>
                  <a:pt x="55705" y="60698"/>
                  <a:pt x="55705" y="60698"/>
                </a:cubicBezTo>
                <a:cubicBezTo>
                  <a:pt x="52456" y="60698"/>
                  <a:pt x="50831" y="62096"/>
                  <a:pt x="50831" y="63494"/>
                </a:cubicBezTo>
                <a:cubicBezTo>
                  <a:pt x="50831" y="87454"/>
                  <a:pt x="50831" y="87454"/>
                  <a:pt x="50831" y="87454"/>
                </a:cubicBezTo>
                <a:cubicBezTo>
                  <a:pt x="34352" y="83261"/>
                  <a:pt x="34352" y="83261"/>
                  <a:pt x="34352" y="83261"/>
                </a:cubicBezTo>
                <a:cubicBezTo>
                  <a:pt x="31102" y="83261"/>
                  <a:pt x="29477" y="84658"/>
                  <a:pt x="29477" y="86056"/>
                </a:cubicBezTo>
                <a:cubicBezTo>
                  <a:pt x="29477" y="88851"/>
                  <a:pt x="31102" y="90249"/>
                  <a:pt x="34352" y="90249"/>
                </a:cubicBezTo>
                <a:cubicBezTo>
                  <a:pt x="50831" y="95840"/>
                  <a:pt x="50831" y="95840"/>
                  <a:pt x="50831" y="95840"/>
                </a:cubicBezTo>
                <a:cubicBezTo>
                  <a:pt x="50831" y="119800"/>
                  <a:pt x="50831" y="119800"/>
                  <a:pt x="50831" y="119800"/>
                </a:cubicBezTo>
                <a:cubicBezTo>
                  <a:pt x="3249" y="119800"/>
                  <a:pt x="3249" y="119800"/>
                  <a:pt x="3249" y="119800"/>
                </a:cubicBezTo>
                <a:cubicBezTo>
                  <a:pt x="1624" y="119800"/>
                  <a:pt x="0" y="119800"/>
                  <a:pt x="0" y="118402"/>
                </a:cubicBezTo>
                <a:lnTo>
                  <a:pt x="0" y="117004"/>
                </a:lnTo>
                <a:cubicBezTo>
                  <a:pt x="57562" y="1397"/>
                  <a:pt x="57562" y="1397"/>
                  <a:pt x="57562" y="1397"/>
                </a:cubicBezTo>
                <a:cubicBezTo>
                  <a:pt x="57562" y="0"/>
                  <a:pt x="59187" y="0"/>
                  <a:pt x="59187" y="0"/>
                </a:cubicBezTo>
                <a:cubicBezTo>
                  <a:pt x="60812" y="0"/>
                  <a:pt x="62437" y="0"/>
                  <a:pt x="62437" y="1397"/>
                </a:cubicBezTo>
                <a:cubicBezTo>
                  <a:pt x="119767" y="117004"/>
                  <a:pt x="119767" y="117004"/>
                  <a:pt x="119767" y="117004"/>
                </a:cubicBezTo>
                <a:lnTo>
                  <a:pt x="119767" y="118402"/>
                </a:ln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Shape 5038"/>
          <p:cNvSpPr/>
          <p:nvPr/>
        </p:nvSpPr>
        <p:spPr>
          <a:xfrm>
            <a:off x="7719840" y="3087720"/>
            <a:ext cx="284400" cy="284040"/>
          </a:xfrm>
          <a:custGeom>
            <a:avLst/>
            <a:gdLst>
              <a:gd name="textAreaLeft" fmla="*/ 0 w 284400"/>
              <a:gd name="textAreaRight" fmla="*/ 284760 w 28440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18402" y="47920"/>
                </a:moveTo>
                <a:lnTo>
                  <a:pt x="118402" y="47920"/>
                </a:lnTo>
                <a:cubicBezTo>
                  <a:pt x="118402" y="43727"/>
                  <a:pt x="117004" y="40931"/>
                  <a:pt x="115607" y="36738"/>
                </a:cubicBezTo>
                <a:cubicBezTo>
                  <a:pt x="114209" y="33743"/>
                  <a:pt x="112811" y="29550"/>
                  <a:pt x="110016" y="26755"/>
                </a:cubicBezTo>
                <a:cubicBezTo>
                  <a:pt x="108618" y="23960"/>
                  <a:pt x="105823" y="19767"/>
                  <a:pt x="102828" y="16971"/>
                </a:cubicBezTo>
                <a:cubicBezTo>
                  <a:pt x="100033" y="15574"/>
                  <a:pt x="97237" y="12579"/>
                  <a:pt x="94442" y="9783"/>
                </a:cubicBezTo>
                <a:cubicBezTo>
                  <a:pt x="90249" y="8386"/>
                  <a:pt x="87454" y="5590"/>
                  <a:pt x="83261" y="4193"/>
                </a:cubicBezTo>
                <a:cubicBezTo>
                  <a:pt x="80266" y="2795"/>
                  <a:pt x="76073" y="1397"/>
                  <a:pt x="71880" y="1397"/>
                </a:cubicBezTo>
                <a:cubicBezTo>
                  <a:pt x="67687" y="0"/>
                  <a:pt x="64891" y="0"/>
                  <a:pt x="60698" y="0"/>
                </a:cubicBezTo>
                <a:cubicBezTo>
                  <a:pt x="56306" y="0"/>
                  <a:pt x="52113" y="0"/>
                  <a:pt x="47920" y="1397"/>
                </a:cubicBezTo>
                <a:cubicBezTo>
                  <a:pt x="43727" y="1397"/>
                  <a:pt x="40732" y="2795"/>
                  <a:pt x="36539" y="4193"/>
                </a:cubicBezTo>
                <a:cubicBezTo>
                  <a:pt x="33743" y="5590"/>
                  <a:pt x="29550" y="8386"/>
                  <a:pt x="26755" y="9783"/>
                </a:cubicBezTo>
                <a:cubicBezTo>
                  <a:pt x="23960" y="12579"/>
                  <a:pt x="19767" y="15574"/>
                  <a:pt x="16772" y="16971"/>
                </a:cubicBezTo>
                <a:cubicBezTo>
                  <a:pt x="15374" y="19767"/>
                  <a:pt x="12579" y="23960"/>
                  <a:pt x="9783" y="26755"/>
                </a:cubicBezTo>
                <a:cubicBezTo>
                  <a:pt x="8386" y="29550"/>
                  <a:pt x="5590" y="33743"/>
                  <a:pt x="4193" y="36738"/>
                </a:cubicBezTo>
                <a:cubicBezTo>
                  <a:pt x="2795" y="40931"/>
                  <a:pt x="1397" y="43727"/>
                  <a:pt x="1397" y="47920"/>
                </a:cubicBezTo>
                <a:cubicBezTo>
                  <a:pt x="0" y="52113"/>
                  <a:pt x="0" y="56306"/>
                  <a:pt x="0" y="60698"/>
                </a:cubicBezTo>
                <a:cubicBezTo>
                  <a:pt x="0" y="64891"/>
                  <a:pt x="0" y="67687"/>
                  <a:pt x="1397" y="71880"/>
                </a:cubicBezTo>
                <a:cubicBezTo>
                  <a:pt x="1397" y="76272"/>
                  <a:pt x="2795" y="80465"/>
                  <a:pt x="4193" y="83261"/>
                </a:cubicBezTo>
                <a:cubicBezTo>
                  <a:pt x="5590" y="87454"/>
                  <a:pt x="8386" y="90249"/>
                  <a:pt x="9783" y="94442"/>
                </a:cubicBezTo>
                <a:cubicBezTo>
                  <a:pt x="12579" y="97237"/>
                  <a:pt x="15374" y="100232"/>
                  <a:pt x="16772" y="103028"/>
                </a:cubicBezTo>
                <a:cubicBezTo>
                  <a:pt x="19767" y="105823"/>
                  <a:pt x="23960" y="108618"/>
                  <a:pt x="26755" y="110016"/>
                </a:cubicBezTo>
                <a:cubicBezTo>
                  <a:pt x="29550" y="112811"/>
                  <a:pt x="33743" y="114209"/>
                  <a:pt x="36539" y="115607"/>
                </a:cubicBezTo>
                <a:cubicBezTo>
                  <a:pt x="40732" y="117004"/>
                  <a:pt x="43727" y="118402"/>
                  <a:pt x="47920" y="118402"/>
                </a:cubicBezTo>
                <a:cubicBezTo>
                  <a:pt x="52113" y="119800"/>
                  <a:pt x="56306" y="119800"/>
                  <a:pt x="60698" y="119800"/>
                </a:cubicBezTo>
                <a:cubicBezTo>
                  <a:pt x="64891" y="119800"/>
                  <a:pt x="67687" y="119800"/>
                  <a:pt x="71880" y="118402"/>
                </a:cubicBezTo>
                <a:cubicBezTo>
                  <a:pt x="76073" y="118402"/>
                  <a:pt x="80266" y="117004"/>
                  <a:pt x="83261" y="115607"/>
                </a:cubicBezTo>
                <a:cubicBezTo>
                  <a:pt x="87454" y="114209"/>
                  <a:pt x="90249" y="112811"/>
                  <a:pt x="94442" y="110016"/>
                </a:cubicBezTo>
                <a:cubicBezTo>
                  <a:pt x="97237" y="108618"/>
                  <a:pt x="100033" y="105823"/>
                  <a:pt x="102828" y="103028"/>
                </a:cubicBezTo>
                <a:cubicBezTo>
                  <a:pt x="105823" y="100232"/>
                  <a:pt x="108618" y="97237"/>
                  <a:pt x="110016" y="94442"/>
                </a:cubicBezTo>
                <a:cubicBezTo>
                  <a:pt x="112811" y="90249"/>
                  <a:pt x="114209" y="87454"/>
                  <a:pt x="115607" y="83261"/>
                </a:cubicBezTo>
                <a:cubicBezTo>
                  <a:pt x="117004" y="80465"/>
                  <a:pt x="118402" y="76272"/>
                  <a:pt x="118402" y="71880"/>
                </a:cubicBezTo>
                <a:cubicBezTo>
                  <a:pt x="119800" y="67687"/>
                  <a:pt x="119800" y="64891"/>
                  <a:pt x="119800" y="60698"/>
                </a:cubicBezTo>
                <a:cubicBezTo>
                  <a:pt x="119800" y="56306"/>
                  <a:pt x="119800" y="52113"/>
                  <a:pt x="118402" y="47920"/>
                </a:cubicBezTo>
                <a:close/>
                <a:moveTo>
                  <a:pt x="111414" y="59301"/>
                </a:moveTo>
                <a:lnTo>
                  <a:pt x="111414" y="59301"/>
                </a:lnTo>
                <a:cubicBezTo>
                  <a:pt x="111414" y="59301"/>
                  <a:pt x="93044" y="56306"/>
                  <a:pt x="76073" y="57703"/>
                </a:cubicBezTo>
                <a:cubicBezTo>
                  <a:pt x="74675" y="56306"/>
                  <a:pt x="74675" y="56306"/>
                  <a:pt x="74675" y="54908"/>
                </a:cubicBezTo>
                <a:cubicBezTo>
                  <a:pt x="73277" y="52113"/>
                  <a:pt x="71880" y="50715"/>
                  <a:pt x="71880" y="47920"/>
                </a:cubicBezTo>
                <a:cubicBezTo>
                  <a:pt x="91647" y="39534"/>
                  <a:pt x="100033" y="28153"/>
                  <a:pt x="100033" y="28153"/>
                </a:cubicBezTo>
                <a:cubicBezTo>
                  <a:pt x="107221" y="36738"/>
                  <a:pt x="111414" y="47920"/>
                  <a:pt x="111414" y="59301"/>
                </a:cubicBezTo>
                <a:close/>
                <a:moveTo>
                  <a:pt x="94442" y="21164"/>
                </a:moveTo>
                <a:lnTo>
                  <a:pt x="94442" y="21164"/>
                </a:lnTo>
                <a:cubicBezTo>
                  <a:pt x="94442" y="21164"/>
                  <a:pt x="86056" y="32346"/>
                  <a:pt x="67687" y="40931"/>
                </a:cubicBezTo>
                <a:cubicBezTo>
                  <a:pt x="57703" y="23960"/>
                  <a:pt x="49317" y="11181"/>
                  <a:pt x="47920" y="9783"/>
                </a:cubicBezTo>
                <a:cubicBezTo>
                  <a:pt x="52113" y="9783"/>
                  <a:pt x="56306" y="8386"/>
                  <a:pt x="60698" y="8386"/>
                </a:cubicBezTo>
                <a:cubicBezTo>
                  <a:pt x="73277" y="8386"/>
                  <a:pt x="84658" y="14176"/>
                  <a:pt x="94442" y="21164"/>
                </a:cubicBezTo>
                <a:close/>
                <a:moveTo>
                  <a:pt x="47920" y="9783"/>
                </a:moveTo>
                <a:lnTo>
                  <a:pt x="47920" y="9783"/>
                </a:lnTo>
                <a:close/>
                <a:moveTo>
                  <a:pt x="37936" y="14176"/>
                </a:moveTo>
                <a:lnTo>
                  <a:pt x="37936" y="14176"/>
                </a:lnTo>
                <a:cubicBezTo>
                  <a:pt x="39334" y="14176"/>
                  <a:pt x="47920" y="26755"/>
                  <a:pt x="57703" y="43727"/>
                </a:cubicBezTo>
                <a:cubicBezTo>
                  <a:pt x="32346" y="49317"/>
                  <a:pt x="11181" y="49317"/>
                  <a:pt x="9783" y="49317"/>
                </a:cubicBezTo>
                <a:cubicBezTo>
                  <a:pt x="12579" y="33743"/>
                  <a:pt x="23960" y="21164"/>
                  <a:pt x="37936" y="14176"/>
                </a:cubicBezTo>
                <a:close/>
                <a:moveTo>
                  <a:pt x="8386" y="60698"/>
                </a:moveTo>
                <a:lnTo>
                  <a:pt x="8386" y="60698"/>
                </a:lnTo>
                <a:cubicBezTo>
                  <a:pt x="8386" y="59301"/>
                  <a:pt x="8386" y="59301"/>
                  <a:pt x="8386" y="59301"/>
                </a:cubicBezTo>
                <a:cubicBezTo>
                  <a:pt x="9783" y="59301"/>
                  <a:pt x="35141" y="59301"/>
                  <a:pt x="62096" y="50715"/>
                </a:cubicBezTo>
                <a:cubicBezTo>
                  <a:pt x="63494" y="53510"/>
                  <a:pt x="64891" y="56306"/>
                  <a:pt x="66289" y="60698"/>
                </a:cubicBezTo>
                <a:cubicBezTo>
                  <a:pt x="64891" y="60698"/>
                  <a:pt x="64891" y="60698"/>
                  <a:pt x="63494" y="60698"/>
                </a:cubicBezTo>
                <a:cubicBezTo>
                  <a:pt x="36539" y="69084"/>
                  <a:pt x="22562" y="94442"/>
                  <a:pt x="22562" y="94442"/>
                </a:cubicBezTo>
                <a:lnTo>
                  <a:pt x="22562" y="94442"/>
                </a:lnTo>
                <a:cubicBezTo>
                  <a:pt x="13976" y="86056"/>
                  <a:pt x="8386" y="73277"/>
                  <a:pt x="8386" y="60698"/>
                </a:cubicBezTo>
                <a:close/>
                <a:moveTo>
                  <a:pt x="60698" y="111414"/>
                </a:moveTo>
                <a:lnTo>
                  <a:pt x="60698" y="111414"/>
                </a:lnTo>
                <a:cubicBezTo>
                  <a:pt x="47920" y="111414"/>
                  <a:pt x="36539" y="107221"/>
                  <a:pt x="26755" y="100232"/>
                </a:cubicBezTo>
                <a:cubicBezTo>
                  <a:pt x="28153" y="100232"/>
                  <a:pt x="28153" y="100232"/>
                  <a:pt x="28153" y="100232"/>
                </a:cubicBezTo>
                <a:cubicBezTo>
                  <a:pt x="28153" y="100232"/>
                  <a:pt x="37936" y="79068"/>
                  <a:pt x="69084" y="69084"/>
                </a:cubicBezTo>
                <a:lnTo>
                  <a:pt x="69084" y="69084"/>
                </a:lnTo>
                <a:cubicBezTo>
                  <a:pt x="76073" y="87454"/>
                  <a:pt x="78868" y="103028"/>
                  <a:pt x="80266" y="107221"/>
                </a:cubicBezTo>
                <a:cubicBezTo>
                  <a:pt x="74675" y="110016"/>
                  <a:pt x="67687" y="111414"/>
                  <a:pt x="60698" y="111414"/>
                </a:cubicBezTo>
                <a:close/>
                <a:moveTo>
                  <a:pt x="88851" y="103028"/>
                </a:moveTo>
                <a:lnTo>
                  <a:pt x="88851" y="103028"/>
                </a:lnTo>
                <a:cubicBezTo>
                  <a:pt x="88851" y="100232"/>
                  <a:pt x="86056" y="84658"/>
                  <a:pt x="78868" y="66289"/>
                </a:cubicBezTo>
                <a:cubicBezTo>
                  <a:pt x="95840" y="63494"/>
                  <a:pt x="110016" y="67687"/>
                  <a:pt x="111414" y="67687"/>
                </a:cubicBezTo>
                <a:cubicBezTo>
                  <a:pt x="108618" y="83261"/>
                  <a:pt x="100033" y="94442"/>
                  <a:pt x="88851" y="10302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Shape 5039"/>
          <p:cNvSpPr/>
          <p:nvPr/>
        </p:nvSpPr>
        <p:spPr>
          <a:xfrm>
            <a:off x="10220400" y="2606760"/>
            <a:ext cx="285840" cy="242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4186" y="119764"/>
                </a:moveTo>
                <a:lnTo>
                  <a:pt x="4186" y="119764"/>
                </a:lnTo>
                <a:cubicBezTo>
                  <a:pt x="115614" y="119764"/>
                  <a:pt x="115614" y="119764"/>
                  <a:pt x="115614" y="119764"/>
                </a:cubicBezTo>
                <a:cubicBezTo>
                  <a:pt x="118405" y="119764"/>
                  <a:pt x="119800" y="118117"/>
                  <a:pt x="119800" y="114823"/>
                </a:cubicBezTo>
                <a:cubicBezTo>
                  <a:pt x="119800" y="113176"/>
                  <a:pt x="119800" y="113176"/>
                  <a:pt x="119800" y="113176"/>
                </a:cubicBezTo>
                <a:cubicBezTo>
                  <a:pt x="119800" y="109882"/>
                  <a:pt x="118405" y="106352"/>
                  <a:pt x="115614" y="106352"/>
                </a:cubicBezTo>
                <a:cubicBezTo>
                  <a:pt x="4186" y="106352"/>
                  <a:pt x="4186" y="106352"/>
                  <a:pt x="4186" y="106352"/>
                </a:cubicBezTo>
                <a:cubicBezTo>
                  <a:pt x="1395" y="106352"/>
                  <a:pt x="0" y="109882"/>
                  <a:pt x="0" y="113176"/>
                </a:cubicBezTo>
                <a:cubicBezTo>
                  <a:pt x="0" y="114823"/>
                  <a:pt x="0" y="114823"/>
                  <a:pt x="0" y="114823"/>
                </a:cubicBezTo>
                <a:cubicBezTo>
                  <a:pt x="0" y="118117"/>
                  <a:pt x="1395" y="119764"/>
                  <a:pt x="4186" y="119764"/>
                </a:cubicBezTo>
                <a:close/>
                <a:moveTo>
                  <a:pt x="22524" y="99764"/>
                </a:moveTo>
                <a:lnTo>
                  <a:pt x="22524" y="99764"/>
                </a:lnTo>
                <a:cubicBezTo>
                  <a:pt x="33887" y="99764"/>
                  <a:pt x="33887" y="99764"/>
                  <a:pt x="33887" y="99764"/>
                </a:cubicBezTo>
                <a:cubicBezTo>
                  <a:pt x="36677" y="99764"/>
                  <a:pt x="39468" y="98117"/>
                  <a:pt x="39468" y="93176"/>
                </a:cubicBezTo>
                <a:cubicBezTo>
                  <a:pt x="39468" y="6588"/>
                  <a:pt x="39468" y="6588"/>
                  <a:pt x="39468" y="6588"/>
                </a:cubicBezTo>
                <a:cubicBezTo>
                  <a:pt x="39468" y="3294"/>
                  <a:pt x="36677" y="0"/>
                  <a:pt x="33887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18338" y="0"/>
                  <a:pt x="16943" y="3294"/>
                  <a:pt x="16943" y="6588"/>
                </a:cubicBezTo>
                <a:cubicBezTo>
                  <a:pt x="16943" y="93176"/>
                  <a:pt x="16943" y="93176"/>
                  <a:pt x="16943" y="93176"/>
                </a:cubicBezTo>
                <a:cubicBezTo>
                  <a:pt x="16943" y="98117"/>
                  <a:pt x="18338" y="99764"/>
                  <a:pt x="22524" y="99764"/>
                </a:cubicBezTo>
                <a:close/>
                <a:moveTo>
                  <a:pt x="53621" y="99764"/>
                </a:moveTo>
                <a:lnTo>
                  <a:pt x="53621" y="99764"/>
                </a:lnTo>
                <a:cubicBezTo>
                  <a:pt x="64784" y="99764"/>
                  <a:pt x="64784" y="99764"/>
                  <a:pt x="64784" y="99764"/>
                </a:cubicBezTo>
                <a:cubicBezTo>
                  <a:pt x="68970" y="99764"/>
                  <a:pt x="70365" y="98117"/>
                  <a:pt x="70365" y="93176"/>
                </a:cubicBezTo>
                <a:cubicBezTo>
                  <a:pt x="70365" y="38352"/>
                  <a:pt x="70365" y="38352"/>
                  <a:pt x="70365" y="38352"/>
                </a:cubicBezTo>
                <a:cubicBezTo>
                  <a:pt x="70365" y="35058"/>
                  <a:pt x="68970" y="31529"/>
                  <a:pt x="64784" y="31529"/>
                </a:cubicBezTo>
                <a:cubicBezTo>
                  <a:pt x="53621" y="31529"/>
                  <a:pt x="53621" y="31529"/>
                  <a:pt x="53621" y="31529"/>
                </a:cubicBezTo>
                <a:cubicBezTo>
                  <a:pt x="50830" y="31529"/>
                  <a:pt x="47840" y="35058"/>
                  <a:pt x="47840" y="38352"/>
                </a:cubicBezTo>
                <a:cubicBezTo>
                  <a:pt x="47840" y="93176"/>
                  <a:pt x="47840" y="93176"/>
                  <a:pt x="47840" y="93176"/>
                </a:cubicBezTo>
                <a:cubicBezTo>
                  <a:pt x="47840" y="98117"/>
                  <a:pt x="50830" y="99764"/>
                  <a:pt x="53621" y="99764"/>
                </a:cubicBezTo>
                <a:close/>
                <a:moveTo>
                  <a:pt x="85913" y="99764"/>
                </a:moveTo>
                <a:lnTo>
                  <a:pt x="85913" y="99764"/>
                </a:lnTo>
                <a:cubicBezTo>
                  <a:pt x="97275" y="99764"/>
                  <a:pt x="97275" y="99764"/>
                  <a:pt x="97275" y="99764"/>
                </a:cubicBezTo>
                <a:cubicBezTo>
                  <a:pt x="100066" y="99764"/>
                  <a:pt x="102857" y="98117"/>
                  <a:pt x="102857" y="93176"/>
                </a:cubicBezTo>
                <a:cubicBezTo>
                  <a:pt x="102857" y="69882"/>
                  <a:pt x="102857" y="69882"/>
                  <a:pt x="102857" y="69882"/>
                </a:cubicBezTo>
                <a:cubicBezTo>
                  <a:pt x="102857" y="64941"/>
                  <a:pt x="100066" y="63294"/>
                  <a:pt x="97275" y="63294"/>
                </a:cubicBezTo>
                <a:cubicBezTo>
                  <a:pt x="85913" y="63294"/>
                  <a:pt x="85913" y="63294"/>
                  <a:pt x="85913" y="63294"/>
                </a:cubicBezTo>
                <a:cubicBezTo>
                  <a:pt x="83122" y="63294"/>
                  <a:pt x="80332" y="64941"/>
                  <a:pt x="80332" y="69882"/>
                </a:cubicBezTo>
                <a:cubicBezTo>
                  <a:pt x="80332" y="93176"/>
                  <a:pt x="80332" y="93176"/>
                  <a:pt x="80332" y="93176"/>
                </a:cubicBezTo>
                <a:cubicBezTo>
                  <a:pt x="80332" y="98117"/>
                  <a:pt x="83122" y="99764"/>
                  <a:pt x="85913" y="9976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Shape 5040"/>
          <p:cNvSpPr/>
          <p:nvPr/>
        </p:nvSpPr>
        <p:spPr>
          <a:xfrm>
            <a:off x="9717120" y="2606760"/>
            <a:ext cx="287280" cy="242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764"/>
                </a:moveTo>
                <a:lnTo>
                  <a:pt x="114088" y="119764"/>
                </a:lnTo>
                <a:cubicBezTo>
                  <a:pt x="5517" y="119764"/>
                  <a:pt x="5517" y="119764"/>
                  <a:pt x="5517" y="119764"/>
                </a:cubicBezTo>
                <a:cubicBezTo>
                  <a:pt x="2758" y="119764"/>
                  <a:pt x="0" y="118117"/>
                  <a:pt x="0" y="114823"/>
                </a:cubicBezTo>
                <a:cubicBezTo>
                  <a:pt x="0" y="113176"/>
                  <a:pt x="0" y="113176"/>
                  <a:pt x="0" y="113176"/>
                </a:cubicBezTo>
                <a:cubicBezTo>
                  <a:pt x="0" y="109882"/>
                  <a:pt x="2758" y="106352"/>
                  <a:pt x="5517" y="106352"/>
                </a:cubicBezTo>
                <a:cubicBezTo>
                  <a:pt x="114088" y="106352"/>
                  <a:pt x="114088" y="106352"/>
                  <a:pt x="114088" y="106352"/>
                </a:cubicBezTo>
                <a:cubicBezTo>
                  <a:pt x="117044" y="106352"/>
                  <a:pt x="119802" y="109882"/>
                  <a:pt x="119802" y="113176"/>
                </a:cubicBezTo>
                <a:cubicBezTo>
                  <a:pt x="119802" y="114823"/>
                  <a:pt x="119802" y="114823"/>
                  <a:pt x="119802" y="114823"/>
                </a:cubicBezTo>
                <a:cubicBezTo>
                  <a:pt x="119802" y="118117"/>
                  <a:pt x="117044" y="119764"/>
                  <a:pt x="114088" y="119764"/>
                </a:cubicBezTo>
                <a:close/>
                <a:moveTo>
                  <a:pt x="103054" y="93176"/>
                </a:moveTo>
                <a:lnTo>
                  <a:pt x="103054" y="93176"/>
                </a:lnTo>
                <a:cubicBezTo>
                  <a:pt x="103054" y="98117"/>
                  <a:pt x="100295" y="99764"/>
                  <a:pt x="97536" y="99764"/>
                </a:cubicBezTo>
                <a:cubicBezTo>
                  <a:pt x="86305" y="99764"/>
                  <a:pt x="86305" y="99764"/>
                  <a:pt x="86305" y="99764"/>
                </a:cubicBezTo>
                <a:cubicBezTo>
                  <a:pt x="82167" y="99764"/>
                  <a:pt x="80788" y="98117"/>
                  <a:pt x="80788" y="93176"/>
                </a:cubicBezTo>
                <a:cubicBezTo>
                  <a:pt x="80788" y="46588"/>
                  <a:pt x="80788" y="46588"/>
                  <a:pt x="80788" y="46588"/>
                </a:cubicBezTo>
                <a:lnTo>
                  <a:pt x="80788" y="46588"/>
                </a:lnTo>
                <a:cubicBezTo>
                  <a:pt x="80788" y="33176"/>
                  <a:pt x="80788" y="33176"/>
                  <a:pt x="80788" y="33176"/>
                </a:cubicBezTo>
                <a:cubicBezTo>
                  <a:pt x="80788" y="29882"/>
                  <a:pt x="82167" y="26588"/>
                  <a:pt x="86305" y="26588"/>
                </a:cubicBezTo>
                <a:cubicBezTo>
                  <a:pt x="97536" y="26588"/>
                  <a:pt x="97536" y="26588"/>
                  <a:pt x="97536" y="26588"/>
                </a:cubicBezTo>
                <a:cubicBezTo>
                  <a:pt x="100295" y="26588"/>
                  <a:pt x="103054" y="29882"/>
                  <a:pt x="103054" y="33176"/>
                </a:cubicBezTo>
                <a:cubicBezTo>
                  <a:pt x="103054" y="79764"/>
                  <a:pt x="103054" y="79764"/>
                  <a:pt x="103054" y="79764"/>
                </a:cubicBezTo>
                <a:lnTo>
                  <a:pt x="103054" y="79764"/>
                </a:lnTo>
                <a:lnTo>
                  <a:pt x="103054" y="93176"/>
                </a:lnTo>
                <a:close/>
                <a:moveTo>
                  <a:pt x="65418" y="99764"/>
                </a:moveTo>
                <a:lnTo>
                  <a:pt x="65418" y="99764"/>
                </a:lnTo>
                <a:cubicBezTo>
                  <a:pt x="54384" y="99764"/>
                  <a:pt x="54384" y="99764"/>
                  <a:pt x="54384" y="99764"/>
                </a:cubicBezTo>
                <a:cubicBezTo>
                  <a:pt x="51625" y="99764"/>
                  <a:pt x="48669" y="98117"/>
                  <a:pt x="48669" y="93176"/>
                </a:cubicBezTo>
                <a:cubicBezTo>
                  <a:pt x="48669" y="79764"/>
                  <a:pt x="48669" y="79764"/>
                  <a:pt x="48669" y="79764"/>
                </a:cubicBezTo>
                <a:cubicBezTo>
                  <a:pt x="48669" y="20000"/>
                  <a:pt x="48669" y="20000"/>
                  <a:pt x="48669" y="20000"/>
                </a:cubicBezTo>
                <a:cubicBezTo>
                  <a:pt x="48669" y="6588"/>
                  <a:pt x="48669" y="6588"/>
                  <a:pt x="48669" y="6588"/>
                </a:cubicBezTo>
                <a:cubicBezTo>
                  <a:pt x="48669" y="3294"/>
                  <a:pt x="51625" y="0"/>
                  <a:pt x="54384" y="0"/>
                </a:cubicBezTo>
                <a:cubicBezTo>
                  <a:pt x="65418" y="0"/>
                  <a:pt x="65418" y="0"/>
                  <a:pt x="65418" y="0"/>
                </a:cubicBezTo>
                <a:cubicBezTo>
                  <a:pt x="68177" y="0"/>
                  <a:pt x="70935" y="3294"/>
                  <a:pt x="70935" y="6588"/>
                </a:cubicBezTo>
                <a:cubicBezTo>
                  <a:pt x="70935" y="20000"/>
                  <a:pt x="70935" y="20000"/>
                  <a:pt x="70935" y="20000"/>
                </a:cubicBezTo>
                <a:cubicBezTo>
                  <a:pt x="70935" y="79764"/>
                  <a:pt x="70935" y="79764"/>
                  <a:pt x="70935" y="79764"/>
                </a:cubicBezTo>
                <a:cubicBezTo>
                  <a:pt x="70935" y="93176"/>
                  <a:pt x="70935" y="93176"/>
                  <a:pt x="70935" y="93176"/>
                </a:cubicBezTo>
                <a:cubicBezTo>
                  <a:pt x="70935" y="98117"/>
                  <a:pt x="68177" y="99764"/>
                  <a:pt x="65418" y="99764"/>
                </a:cubicBezTo>
                <a:close/>
                <a:moveTo>
                  <a:pt x="33300" y="99764"/>
                </a:moveTo>
                <a:lnTo>
                  <a:pt x="33300" y="99764"/>
                </a:lnTo>
                <a:cubicBezTo>
                  <a:pt x="22266" y="99764"/>
                  <a:pt x="22266" y="99764"/>
                  <a:pt x="22266" y="99764"/>
                </a:cubicBezTo>
                <a:cubicBezTo>
                  <a:pt x="19507" y="99764"/>
                  <a:pt x="16748" y="98117"/>
                  <a:pt x="16748" y="93176"/>
                </a:cubicBezTo>
                <a:cubicBezTo>
                  <a:pt x="16748" y="79764"/>
                  <a:pt x="16748" y="79764"/>
                  <a:pt x="16748" y="79764"/>
                </a:cubicBezTo>
                <a:lnTo>
                  <a:pt x="16748" y="79764"/>
                </a:lnTo>
                <a:cubicBezTo>
                  <a:pt x="16748" y="66588"/>
                  <a:pt x="16748" y="66588"/>
                  <a:pt x="16748" y="66588"/>
                </a:cubicBezTo>
                <a:cubicBezTo>
                  <a:pt x="16748" y="63294"/>
                  <a:pt x="19507" y="59764"/>
                  <a:pt x="22266" y="59764"/>
                </a:cubicBezTo>
                <a:cubicBezTo>
                  <a:pt x="33300" y="59764"/>
                  <a:pt x="33300" y="59764"/>
                  <a:pt x="33300" y="59764"/>
                </a:cubicBezTo>
                <a:cubicBezTo>
                  <a:pt x="37635" y="59764"/>
                  <a:pt x="39014" y="63294"/>
                  <a:pt x="39014" y="66588"/>
                </a:cubicBezTo>
                <a:cubicBezTo>
                  <a:pt x="39014" y="79764"/>
                  <a:pt x="39014" y="79764"/>
                  <a:pt x="39014" y="79764"/>
                </a:cubicBezTo>
                <a:lnTo>
                  <a:pt x="39014" y="79764"/>
                </a:lnTo>
                <a:cubicBezTo>
                  <a:pt x="39014" y="93176"/>
                  <a:pt x="39014" y="93176"/>
                  <a:pt x="39014" y="93176"/>
                </a:cubicBezTo>
                <a:cubicBezTo>
                  <a:pt x="39014" y="98117"/>
                  <a:pt x="37635" y="99764"/>
                  <a:pt x="33300" y="9976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Shape 5041"/>
          <p:cNvSpPr/>
          <p:nvPr/>
        </p:nvSpPr>
        <p:spPr>
          <a:xfrm>
            <a:off x="9218520" y="2606760"/>
            <a:ext cx="287280" cy="242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115415" y="119764"/>
                </a:moveTo>
                <a:lnTo>
                  <a:pt x="115415" y="119764"/>
                </a:lnTo>
                <a:cubicBezTo>
                  <a:pt x="4186" y="119764"/>
                  <a:pt x="4186" y="119764"/>
                  <a:pt x="4186" y="119764"/>
                </a:cubicBezTo>
                <a:cubicBezTo>
                  <a:pt x="1395" y="119764"/>
                  <a:pt x="0" y="118117"/>
                  <a:pt x="0" y="114823"/>
                </a:cubicBezTo>
                <a:cubicBezTo>
                  <a:pt x="0" y="113176"/>
                  <a:pt x="0" y="113176"/>
                  <a:pt x="0" y="113176"/>
                </a:cubicBezTo>
                <a:cubicBezTo>
                  <a:pt x="0" y="109882"/>
                  <a:pt x="1395" y="106352"/>
                  <a:pt x="4186" y="106352"/>
                </a:cubicBezTo>
                <a:cubicBezTo>
                  <a:pt x="115415" y="106352"/>
                  <a:pt x="115415" y="106352"/>
                  <a:pt x="115415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4823"/>
                  <a:pt x="119800" y="114823"/>
                  <a:pt x="119800" y="114823"/>
                </a:cubicBezTo>
                <a:cubicBezTo>
                  <a:pt x="119800" y="118117"/>
                  <a:pt x="118405" y="119764"/>
                  <a:pt x="115415" y="119764"/>
                </a:cubicBezTo>
                <a:close/>
                <a:moveTo>
                  <a:pt x="97076" y="99764"/>
                </a:moveTo>
                <a:lnTo>
                  <a:pt x="97076" y="99764"/>
                </a:lnTo>
                <a:cubicBezTo>
                  <a:pt x="85913" y="99764"/>
                  <a:pt x="85913" y="99764"/>
                  <a:pt x="85913" y="99764"/>
                </a:cubicBezTo>
                <a:cubicBezTo>
                  <a:pt x="83122" y="99764"/>
                  <a:pt x="80332" y="98117"/>
                  <a:pt x="80332" y="93176"/>
                </a:cubicBezTo>
                <a:cubicBezTo>
                  <a:pt x="80332" y="6588"/>
                  <a:pt x="80332" y="6588"/>
                  <a:pt x="80332" y="6588"/>
                </a:cubicBezTo>
                <a:cubicBezTo>
                  <a:pt x="80332" y="3294"/>
                  <a:pt x="83122" y="0"/>
                  <a:pt x="85913" y="0"/>
                </a:cubicBezTo>
                <a:cubicBezTo>
                  <a:pt x="97076" y="0"/>
                  <a:pt x="97076" y="0"/>
                  <a:pt x="97076" y="0"/>
                </a:cubicBezTo>
                <a:cubicBezTo>
                  <a:pt x="101461" y="0"/>
                  <a:pt x="102857" y="3294"/>
                  <a:pt x="102857" y="6588"/>
                </a:cubicBezTo>
                <a:cubicBezTo>
                  <a:pt x="102857" y="93176"/>
                  <a:pt x="102857" y="93176"/>
                  <a:pt x="102857" y="93176"/>
                </a:cubicBezTo>
                <a:cubicBezTo>
                  <a:pt x="102857" y="98117"/>
                  <a:pt x="101461" y="99764"/>
                  <a:pt x="97076" y="99764"/>
                </a:cubicBezTo>
                <a:close/>
                <a:moveTo>
                  <a:pt x="66179" y="99764"/>
                </a:moveTo>
                <a:lnTo>
                  <a:pt x="66179" y="99764"/>
                </a:lnTo>
                <a:cubicBezTo>
                  <a:pt x="55016" y="99764"/>
                  <a:pt x="55016" y="99764"/>
                  <a:pt x="55016" y="99764"/>
                </a:cubicBezTo>
                <a:cubicBezTo>
                  <a:pt x="50631" y="99764"/>
                  <a:pt x="49235" y="98117"/>
                  <a:pt x="49235" y="93176"/>
                </a:cubicBezTo>
                <a:cubicBezTo>
                  <a:pt x="49235" y="38352"/>
                  <a:pt x="49235" y="38352"/>
                  <a:pt x="49235" y="38352"/>
                </a:cubicBezTo>
                <a:cubicBezTo>
                  <a:pt x="49235" y="35058"/>
                  <a:pt x="50631" y="31529"/>
                  <a:pt x="55016" y="31529"/>
                </a:cubicBezTo>
                <a:cubicBezTo>
                  <a:pt x="66179" y="31529"/>
                  <a:pt x="66179" y="31529"/>
                  <a:pt x="66179" y="31529"/>
                </a:cubicBezTo>
                <a:cubicBezTo>
                  <a:pt x="68970" y="31529"/>
                  <a:pt x="71760" y="35058"/>
                  <a:pt x="71760" y="38352"/>
                </a:cubicBezTo>
                <a:cubicBezTo>
                  <a:pt x="71760" y="93176"/>
                  <a:pt x="71760" y="93176"/>
                  <a:pt x="71760" y="93176"/>
                </a:cubicBezTo>
                <a:cubicBezTo>
                  <a:pt x="71760" y="98117"/>
                  <a:pt x="68970" y="99764"/>
                  <a:pt x="66179" y="99764"/>
                </a:cubicBezTo>
                <a:close/>
                <a:moveTo>
                  <a:pt x="33687" y="99764"/>
                </a:moveTo>
                <a:lnTo>
                  <a:pt x="33687" y="99764"/>
                </a:lnTo>
                <a:cubicBezTo>
                  <a:pt x="22524" y="99764"/>
                  <a:pt x="22524" y="99764"/>
                  <a:pt x="22524" y="99764"/>
                </a:cubicBezTo>
                <a:cubicBezTo>
                  <a:pt x="19734" y="99764"/>
                  <a:pt x="16943" y="98117"/>
                  <a:pt x="16943" y="93176"/>
                </a:cubicBezTo>
                <a:cubicBezTo>
                  <a:pt x="16943" y="69882"/>
                  <a:pt x="16943" y="69882"/>
                  <a:pt x="16943" y="69882"/>
                </a:cubicBezTo>
                <a:cubicBezTo>
                  <a:pt x="16943" y="64941"/>
                  <a:pt x="19734" y="63294"/>
                  <a:pt x="22524" y="63294"/>
                </a:cubicBezTo>
                <a:cubicBezTo>
                  <a:pt x="33687" y="63294"/>
                  <a:pt x="33687" y="63294"/>
                  <a:pt x="33687" y="63294"/>
                </a:cubicBezTo>
                <a:cubicBezTo>
                  <a:pt x="36677" y="63294"/>
                  <a:pt x="39468" y="64941"/>
                  <a:pt x="39468" y="69882"/>
                </a:cubicBezTo>
                <a:cubicBezTo>
                  <a:pt x="39468" y="93176"/>
                  <a:pt x="39468" y="93176"/>
                  <a:pt x="39468" y="93176"/>
                </a:cubicBezTo>
                <a:cubicBezTo>
                  <a:pt x="39468" y="98117"/>
                  <a:pt x="36677" y="99764"/>
                  <a:pt x="33687" y="9976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Shape 5042"/>
          <p:cNvSpPr/>
          <p:nvPr/>
        </p:nvSpPr>
        <p:spPr>
          <a:xfrm>
            <a:off x="8747280" y="2633760"/>
            <a:ext cx="231480" cy="188640"/>
          </a:xfrm>
          <a:custGeom>
            <a:avLst/>
            <a:gdLst>
              <a:gd name="textAreaLeft" fmla="*/ 0 w 231480"/>
              <a:gd name="textAreaRight" fmla="*/ 231840 w 23148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120000" h="120000">
                <a:moveTo>
                  <a:pt x="114601" y="119697"/>
                </a:moveTo>
                <a:lnTo>
                  <a:pt x="114601" y="119697"/>
                </a:lnTo>
                <a:cubicBezTo>
                  <a:pt x="60858" y="119697"/>
                  <a:pt x="60858" y="119697"/>
                  <a:pt x="60858" y="119697"/>
                </a:cubicBezTo>
                <a:cubicBezTo>
                  <a:pt x="57423" y="119697"/>
                  <a:pt x="55705" y="117581"/>
                  <a:pt x="55705" y="113350"/>
                </a:cubicBezTo>
                <a:cubicBezTo>
                  <a:pt x="55705" y="111234"/>
                  <a:pt x="55705" y="111234"/>
                  <a:pt x="55705" y="111234"/>
                </a:cubicBezTo>
                <a:cubicBezTo>
                  <a:pt x="55705" y="107002"/>
                  <a:pt x="57423" y="102770"/>
                  <a:pt x="60858" y="102770"/>
                </a:cubicBezTo>
                <a:cubicBezTo>
                  <a:pt x="114601" y="102770"/>
                  <a:pt x="114601" y="102770"/>
                  <a:pt x="114601" y="102770"/>
                </a:cubicBezTo>
                <a:cubicBezTo>
                  <a:pt x="118036" y="102770"/>
                  <a:pt x="119754" y="107002"/>
                  <a:pt x="119754" y="111234"/>
                </a:cubicBezTo>
                <a:cubicBezTo>
                  <a:pt x="119754" y="113350"/>
                  <a:pt x="119754" y="113350"/>
                  <a:pt x="119754" y="113350"/>
                </a:cubicBezTo>
                <a:cubicBezTo>
                  <a:pt x="119754" y="117581"/>
                  <a:pt x="118036" y="119697"/>
                  <a:pt x="114601" y="119697"/>
                </a:cubicBezTo>
                <a:close/>
                <a:moveTo>
                  <a:pt x="52024" y="66498"/>
                </a:moveTo>
                <a:lnTo>
                  <a:pt x="52024" y="66498"/>
                </a:lnTo>
                <a:lnTo>
                  <a:pt x="52024" y="66498"/>
                </a:lnTo>
                <a:cubicBezTo>
                  <a:pt x="10552" y="117581"/>
                  <a:pt x="10552" y="117581"/>
                  <a:pt x="10552" y="117581"/>
                </a:cubicBezTo>
                <a:lnTo>
                  <a:pt x="10552" y="117581"/>
                </a:lnTo>
                <a:cubicBezTo>
                  <a:pt x="10552" y="119697"/>
                  <a:pt x="8834" y="119697"/>
                  <a:pt x="7116" y="119697"/>
                </a:cubicBezTo>
                <a:cubicBezTo>
                  <a:pt x="1717" y="119697"/>
                  <a:pt x="0" y="117581"/>
                  <a:pt x="0" y="111234"/>
                </a:cubicBezTo>
                <a:cubicBezTo>
                  <a:pt x="0" y="109118"/>
                  <a:pt x="0" y="107002"/>
                  <a:pt x="1717" y="107002"/>
                </a:cubicBezTo>
                <a:lnTo>
                  <a:pt x="1717" y="107002"/>
                </a:lnTo>
                <a:cubicBezTo>
                  <a:pt x="38282" y="59848"/>
                  <a:pt x="38282" y="59848"/>
                  <a:pt x="38282" y="59848"/>
                </a:cubicBezTo>
                <a:cubicBezTo>
                  <a:pt x="1717" y="15113"/>
                  <a:pt x="1717" y="15113"/>
                  <a:pt x="1717" y="15113"/>
                </a:cubicBezTo>
                <a:cubicBezTo>
                  <a:pt x="0" y="15113"/>
                  <a:pt x="0" y="12997"/>
                  <a:pt x="0" y="8765"/>
                </a:cubicBezTo>
                <a:cubicBezTo>
                  <a:pt x="0" y="4534"/>
                  <a:pt x="1717" y="0"/>
                  <a:pt x="7116" y="0"/>
                </a:cubicBezTo>
                <a:cubicBezTo>
                  <a:pt x="8834" y="0"/>
                  <a:pt x="10552" y="2418"/>
                  <a:pt x="10552" y="2418"/>
                </a:cubicBezTo>
                <a:lnTo>
                  <a:pt x="10552" y="2418"/>
                </a:lnTo>
                <a:cubicBezTo>
                  <a:pt x="52024" y="53501"/>
                  <a:pt x="52024" y="53501"/>
                  <a:pt x="52024" y="53501"/>
                </a:cubicBezTo>
                <a:lnTo>
                  <a:pt x="52024" y="53501"/>
                </a:lnTo>
                <a:cubicBezTo>
                  <a:pt x="53987" y="55617"/>
                  <a:pt x="55705" y="57732"/>
                  <a:pt x="55705" y="59848"/>
                </a:cubicBezTo>
                <a:lnTo>
                  <a:pt x="55705" y="59848"/>
                </a:lnTo>
                <a:lnTo>
                  <a:pt x="55705" y="59848"/>
                </a:lnTo>
                <a:cubicBezTo>
                  <a:pt x="55705" y="62267"/>
                  <a:pt x="53987" y="64382"/>
                  <a:pt x="52024" y="6649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Shape 5043"/>
          <p:cNvSpPr/>
          <p:nvPr/>
        </p:nvSpPr>
        <p:spPr>
          <a:xfrm>
            <a:off x="8217000" y="2647800"/>
            <a:ext cx="287280" cy="162000"/>
          </a:xfrm>
          <a:custGeom>
            <a:avLst/>
            <a:gdLst>
              <a:gd name="textAreaLeft" fmla="*/ 0 w 287280"/>
              <a:gd name="textAreaRight" fmla="*/ 287640 w 28728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20000" h="120000">
                <a:moveTo>
                  <a:pt x="114276" y="19764"/>
                </a:moveTo>
                <a:lnTo>
                  <a:pt x="114276" y="19764"/>
                </a:lnTo>
                <a:cubicBezTo>
                  <a:pt x="58618" y="19764"/>
                  <a:pt x="58618" y="19764"/>
                  <a:pt x="58618" y="19764"/>
                </a:cubicBezTo>
                <a:cubicBezTo>
                  <a:pt x="54276" y="19764"/>
                  <a:pt x="52894" y="17294"/>
                  <a:pt x="52894" y="9882"/>
                </a:cubicBezTo>
                <a:cubicBezTo>
                  <a:pt x="52894" y="4941"/>
                  <a:pt x="54276" y="0"/>
                  <a:pt x="58618" y="0"/>
                </a:cubicBezTo>
                <a:cubicBezTo>
                  <a:pt x="114276" y="0"/>
                  <a:pt x="114276" y="0"/>
                  <a:pt x="114276" y="0"/>
                </a:cubicBezTo>
                <a:cubicBezTo>
                  <a:pt x="117039" y="0"/>
                  <a:pt x="119802" y="4941"/>
                  <a:pt x="119802" y="9882"/>
                </a:cubicBezTo>
                <a:cubicBezTo>
                  <a:pt x="119802" y="17294"/>
                  <a:pt x="117039" y="19764"/>
                  <a:pt x="114276" y="19764"/>
                </a:cubicBezTo>
                <a:close/>
                <a:moveTo>
                  <a:pt x="114276" y="99529"/>
                </a:moveTo>
                <a:lnTo>
                  <a:pt x="114276" y="99529"/>
                </a:lnTo>
                <a:cubicBezTo>
                  <a:pt x="117039" y="99529"/>
                  <a:pt x="119802" y="104823"/>
                  <a:pt x="119802" y="109764"/>
                </a:cubicBezTo>
                <a:cubicBezTo>
                  <a:pt x="119802" y="117176"/>
                  <a:pt x="117039" y="119647"/>
                  <a:pt x="114276" y="119647"/>
                </a:cubicBezTo>
                <a:cubicBezTo>
                  <a:pt x="58618" y="119647"/>
                  <a:pt x="58618" y="119647"/>
                  <a:pt x="58618" y="119647"/>
                </a:cubicBezTo>
                <a:cubicBezTo>
                  <a:pt x="55657" y="119647"/>
                  <a:pt x="54276" y="119647"/>
                  <a:pt x="52894" y="114705"/>
                </a:cubicBezTo>
                <a:lnTo>
                  <a:pt x="52894" y="114705"/>
                </a:lnTo>
                <a:cubicBezTo>
                  <a:pt x="19539" y="19764"/>
                  <a:pt x="19539" y="19764"/>
                  <a:pt x="19539" y="19764"/>
                </a:cubicBezTo>
                <a:cubicBezTo>
                  <a:pt x="5526" y="19764"/>
                  <a:pt x="5526" y="19764"/>
                  <a:pt x="5526" y="19764"/>
                </a:cubicBezTo>
                <a:cubicBezTo>
                  <a:pt x="2763" y="19764"/>
                  <a:pt x="0" y="17294"/>
                  <a:pt x="0" y="9882"/>
                </a:cubicBezTo>
                <a:cubicBezTo>
                  <a:pt x="0" y="4941"/>
                  <a:pt x="2763" y="0"/>
                  <a:pt x="5526" y="0"/>
                </a:cubicBezTo>
                <a:cubicBezTo>
                  <a:pt x="22302" y="0"/>
                  <a:pt x="22302" y="0"/>
                  <a:pt x="22302" y="0"/>
                </a:cubicBezTo>
                <a:lnTo>
                  <a:pt x="22302" y="0"/>
                </a:lnTo>
                <a:cubicBezTo>
                  <a:pt x="25065" y="0"/>
                  <a:pt x="26447" y="2470"/>
                  <a:pt x="27828" y="4941"/>
                </a:cubicBezTo>
                <a:lnTo>
                  <a:pt x="27828" y="4941"/>
                </a:lnTo>
                <a:cubicBezTo>
                  <a:pt x="61381" y="99529"/>
                  <a:pt x="61381" y="99529"/>
                  <a:pt x="61381" y="99529"/>
                </a:cubicBezTo>
                <a:lnTo>
                  <a:pt x="114276" y="99529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Shape 5044"/>
          <p:cNvSpPr/>
          <p:nvPr/>
        </p:nvSpPr>
        <p:spPr>
          <a:xfrm>
            <a:off x="7721640" y="2592360"/>
            <a:ext cx="277920" cy="277920"/>
          </a:xfrm>
          <a:custGeom>
            <a:avLst/>
            <a:gdLst>
              <a:gd name="textAreaLeft" fmla="*/ 0 w 277920"/>
              <a:gd name="textAreaRight" fmla="*/ 278280 w 2779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96695" y="46201"/>
                </a:moveTo>
                <a:lnTo>
                  <a:pt x="96695" y="46201"/>
                </a:lnTo>
                <a:cubicBezTo>
                  <a:pt x="85247" y="46201"/>
                  <a:pt x="85247" y="46201"/>
                  <a:pt x="85247" y="46201"/>
                </a:cubicBezTo>
                <a:cubicBezTo>
                  <a:pt x="85247" y="73594"/>
                  <a:pt x="85247" y="73594"/>
                  <a:pt x="85247" y="73594"/>
                </a:cubicBezTo>
                <a:cubicBezTo>
                  <a:pt x="96695" y="73594"/>
                  <a:pt x="96695" y="73594"/>
                  <a:pt x="96695" y="73594"/>
                </a:cubicBezTo>
                <a:cubicBezTo>
                  <a:pt x="109778" y="73594"/>
                  <a:pt x="119795" y="83816"/>
                  <a:pt x="119795" y="96695"/>
                </a:cubicBezTo>
                <a:cubicBezTo>
                  <a:pt x="119795" y="109778"/>
                  <a:pt x="109778" y="119795"/>
                  <a:pt x="96695" y="119795"/>
                </a:cubicBezTo>
                <a:cubicBezTo>
                  <a:pt x="83816" y="119795"/>
                  <a:pt x="73594" y="109778"/>
                  <a:pt x="73594" y="96695"/>
                </a:cubicBezTo>
                <a:cubicBezTo>
                  <a:pt x="73594" y="85247"/>
                  <a:pt x="73594" y="85247"/>
                  <a:pt x="73594" y="85247"/>
                </a:cubicBezTo>
                <a:cubicBezTo>
                  <a:pt x="46201" y="85247"/>
                  <a:pt x="46201" y="85247"/>
                  <a:pt x="46201" y="85247"/>
                </a:cubicBezTo>
                <a:cubicBezTo>
                  <a:pt x="46201" y="96695"/>
                  <a:pt x="46201" y="96695"/>
                  <a:pt x="46201" y="96695"/>
                </a:cubicBezTo>
                <a:cubicBezTo>
                  <a:pt x="46201" y="109778"/>
                  <a:pt x="35979" y="119795"/>
                  <a:pt x="23100" y="119795"/>
                </a:cubicBezTo>
                <a:cubicBezTo>
                  <a:pt x="10017" y="119795"/>
                  <a:pt x="0" y="109778"/>
                  <a:pt x="0" y="96695"/>
                </a:cubicBezTo>
                <a:cubicBezTo>
                  <a:pt x="0" y="83816"/>
                  <a:pt x="10017" y="73594"/>
                  <a:pt x="23100" y="73594"/>
                </a:cubicBezTo>
                <a:cubicBezTo>
                  <a:pt x="34548" y="73594"/>
                  <a:pt x="34548" y="73594"/>
                  <a:pt x="34548" y="73594"/>
                </a:cubicBezTo>
                <a:cubicBezTo>
                  <a:pt x="34548" y="46201"/>
                  <a:pt x="34548" y="46201"/>
                  <a:pt x="34548" y="46201"/>
                </a:cubicBezTo>
                <a:cubicBezTo>
                  <a:pt x="23100" y="46201"/>
                  <a:pt x="23100" y="46201"/>
                  <a:pt x="23100" y="46201"/>
                </a:cubicBezTo>
                <a:cubicBezTo>
                  <a:pt x="10017" y="46201"/>
                  <a:pt x="0" y="35979"/>
                  <a:pt x="0" y="23100"/>
                </a:cubicBezTo>
                <a:cubicBezTo>
                  <a:pt x="0" y="10017"/>
                  <a:pt x="10017" y="0"/>
                  <a:pt x="23100" y="0"/>
                </a:cubicBezTo>
                <a:cubicBezTo>
                  <a:pt x="35979" y="0"/>
                  <a:pt x="46201" y="10017"/>
                  <a:pt x="46201" y="23100"/>
                </a:cubicBezTo>
                <a:cubicBezTo>
                  <a:pt x="46201" y="34548"/>
                  <a:pt x="46201" y="34548"/>
                  <a:pt x="46201" y="34548"/>
                </a:cubicBezTo>
                <a:cubicBezTo>
                  <a:pt x="73594" y="34548"/>
                  <a:pt x="73594" y="34548"/>
                  <a:pt x="73594" y="34548"/>
                </a:cubicBezTo>
                <a:cubicBezTo>
                  <a:pt x="73594" y="23100"/>
                  <a:pt x="73594" y="23100"/>
                  <a:pt x="73594" y="23100"/>
                </a:cubicBezTo>
                <a:cubicBezTo>
                  <a:pt x="73594" y="10017"/>
                  <a:pt x="83816" y="0"/>
                  <a:pt x="96695" y="0"/>
                </a:cubicBezTo>
                <a:cubicBezTo>
                  <a:pt x="109778" y="0"/>
                  <a:pt x="119795" y="10017"/>
                  <a:pt x="119795" y="23100"/>
                </a:cubicBezTo>
                <a:cubicBezTo>
                  <a:pt x="119795" y="35979"/>
                  <a:pt x="109778" y="46201"/>
                  <a:pt x="96695" y="46201"/>
                </a:cubicBezTo>
                <a:close/>
                <a:moveTo>
                  <a:pt x="85247" y="96695"/>
                </a:moveTo>
                <a:lnTo>
                  <a:pt x="85247" y="96695"/>
                </a:lnTo>
                <a:cubicBezTo>
                  <a:pt x="85247" y="102623"/>
                  <a:pt x="90971" y="108347"/>
                  <a:pt x="96695" y="108347"/>
                </a:cubicBezTo>
                <a:cubicBezTo>
                  <a:pt x="102419" y="108347"/>
                  <a:pt x="108347" y="102623"/>
                  <a:pt x="108347" y="96695"/>
                </a:cubicBezTo>
                <a:cubicBezTo>
                  <a:pt x="108347" y="90971"/>
                  <a:pt x="103850" y="85247"/>
                  <a:pt x="98126" y="85247"/>
                </a:cubicBezTo>
                <a:lnTo>
                  <a:pt x="98126" y="85247"/>
                </a:lnTo>
                <a:cubicBezTo>
                  <a:pt x="85247" y="85247"/>
                  <a:pt x="85247" y="85247"/>
                  <a:pt x="85247" y="85247"/>
                </a:cubicBezTo>
                <a:lnTo>
                  <a:pt x="85247" y="96695"/>
                </a:lnTo>
                <a:close/>
                <a:moveTo>
                  <a:pt x="34548" y="23100"/>
                </a:moveTo>
                <a:lnTo>
                  <a:pt x="34548" y="23100"/>
                </a:lnTo>
                <a:cubicBezTo>
                  <a:pt x="34548" y="17172"/>
                  <a:pt x="30255" y="11448"/>
                  <a:pt x="23100" y="11448"/>
                </a:cubicBezTo>
                <a:cubicBezTo>
                  <a:pt x="17172" y="11448"/>
                  <a:pt x="11448" y="17172"/>
                  <a:pt x="11448" y="23100"/>
                </a:cubicBezTo>
                <a:cubicBezTo>
                  <a:pt x="11448" y="28824"/>
                  <a:pt x="17172" y="34548"/>
                  <a:pt x="23100" y="34548"/>
                </a:cubicBezTo>
                <a:cubicBezTo>
                  <a:pt x="34548" y="34548"/>
                  <a:pt x="34548" y="34548"/>
                  <a:pt x="34548" y="34548"/>
                </a:cubicBezTo>
                <a:lnTo>
                  <a:pt x="34548" y="23100"/>
                </a:lnTo>
                <a:close/>
                <a:moveTo>
                  <a:pt x="11448" y="96695"/>
                </a:moveTo>
                <a:lnTo>
                  <a:pt x="11448" y="96695"/>
                </a:lnTo>
                <a:cubicBezTo>
                  <a:pt x="11448" y="102623"/>
                  <a:pt x="17172" y="108347"/>
                  <a:pt x="23100" y="108347"/>
                </a:cubicBezTo>
                <a:cubicBezTo>
                  <a:pt x="30255" y="108347"/>
                  <a:pt x="34548" y="102623"/>
                  <a:pt x="34548" y="96695"/>
                </a:cubicBezTo>
                <a:cubicBezTo>
                  <a:pt x="34548" y="85247"/>
                  <a:pt x="34548" y="85247"/>
                  <a:pt x="34548" y="85247"/>
                </a:cubicBezTo>
                <a:cubicBezTo>
                  <a:pt x="23100" y="85247"/>
                  <a:pt x="23100" y="85247"/>
                  <a:pt x="23100" y="85247"/>
                </a:cubicBezTo>
                <a:cubicBezTo>
                  <a:pt x="17172" y="85247"/>
                  <a:pt x="11448" y="89540"/>
                  <a:pt x="11448" y="96695"/>
                </a:cubicBezTo>
                <a:close/>
                <a:moveTo>
                  <a:pt x="73594" y="46201"/>
                </a:moveTo>
                <a:lnTo>
                  <a:pt x="73594" y="46201"/>
                </a:lnTo>
                <a:cubicBezTo>
                  <a:pt x="46201" y="46201"/>
                  <a:pt x="46201" y="46201"/>
                  <a:pt x="46201" y="46201"/>
                </a:cubicBezTo>
                <a:cubicBezTo>
                  <a:pt x="46201" y="73594"/>
                  <a:pt x="46201" y="73594"/>
                  <a:pt x="46201" y="73594"/>
                </a:cubicBezTo>
                <a:cubicBezTo>
                  <a:pt x="73594" y="73594"/>
                  <a:pt x="73594" y="73594"/>
                  <a:pt x="73594" y="73594"/>
                </a:cubicBezTo>
                <a:lnTo>
                  <a:pt x="73594" y="46201"/>
                </a:lnTo>
                <a:close/>
                <a:moveTo>
                  <a:pt x="96695" y="11448"/>
                </a:moveTo>
                <a:lnTo>
                  <a:pt x="96695" y="11448"/>
                </a:lnTo>
                <a:cubicBezTo>
                  <a:pt x="90971" y="11448"/>
                  <a:pt x="85247" y="17172"/>
                  <a:pt x="85247" y="23100"/>
                </a:cubicBezTo>
                <a:cubicBezTo>
                  <a:pt x="85247" y="34548"/>
                  <a:pt x="85247" y="34548"/>
                  <a:pt x="85247" y="34548"/>
                </a:cubicBezTo>
                <a:cubicBezTo>
                  <a:pt x="96695" y="34548"/>
                  <a:pt x="96695" y="34548"/>
                  <a:pt x="96695" y="34548"/>
                </a:cubicBezTo>
                <a:cubicBezTo>
                  <a:pt x="102419" y="34548"/>
                  <a:pt x="108347" y="28824"/>
                  <a:pt x="108347" y="23100"/>
                </a:cubicBezTo>
                <a:cubicBezTo>
                  <a:pt x="108347" y="17172"/>
                  <a:pt x="102419" y="11448"/>
                  <a:pt x="96695" y="1144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Shape 5045"/>
          <p:cNvSpPr/>
          <p:nvPr/>
        </p:nvSpPr>
        <p:spPr>
          <a:xfrm>
            <a:off x="10202760" y="1144440"/>
            <a:ext cx="284400" cy="144720"/>
          </a:xfrm>
          <a:custGeom>
            <a:avLst/>
            <a:gdLst>
              <a:gd name="textAreaLeft" fmla="*/ 0 w 284400"/>
              <a:gd name="textAreaRight" fmla="*/ 284760 w 2844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20000" h="120000">
                <a:moveTo>
                  <a:pt x="114209" y="52721"/>
                </a:moveTo>
                <a:lnTo>
                  <a:pt x="114209" y="52721"/>
                </a:lnTo>
                <a:cubicBezTo>
                  <a:pt x="111414" y="52721"/>
                  <a:pt x="108618" y="55475"/>
                  <a:pt x="108618" y="64131"/>
                </a:cubicBezTo>
                <a:cubicBezTo>
                  <a:pt x="108618" y="80655"/>
                  <a:pt x="108618" y="80655"/>
                  <a:pt x="108618" y="80655"/>
                </a:cubicBezTo>
                <a:cubicBezTo>
                  <a:pt x="80266" y="25180"/>
                  <a:pt x="80266" y="25180"/>
                  <a:pt x="80266" y="25180"/>
                </a:cubicBezTo>
                <a:lnTo>
                  <a:pt x="80266" y="25180"/>
                </a:lnTo>
                <a:cubicBezTo>
                  <a:pt x="69084" y="2754"/>
                  <a:pt x="69084" y="2754"/>
                  <a:pt x="69084" y="2754"/>
                </a:cubicBezTo>
                <a:lnTo>
                  <a:pt x="69084" y="2754"/>
                </a:lnTo>
                <a:cubicBezTo>
                  <a:pt x="67687" y="0"/>
                  <a:pt x="66289" y="0"/>
                  <a:pt x="64891" y="0"/>
                </a:cubicBezTo>
                <a:cubicBezTo>
                  <a:pt x="63494" y="0"/>
                  <a:pt x="62096" y="0"/>
                  <a:pt x="62096" y="2754"/>
                </a:cubicBezTo>
                <a:lnTo>
                  <a:pt x="62096" y="2754"/>
                </a:lnTo>
                <a:cubicBezTo>
                  <a:pt x="35141" y="55475"/>
                  <a:pt x="35141" y="55475"/>
                  <a:pt x="35141" y="55475"/>
                </a:cubicBezTo>
                <a:cubicBezTo>
                  <a:pt x="8386" y="2754"/>
                  <a:pt x="8386" y="2754"/>
                  <a:pt x="8386" y="2754"/>
                </a:cubicBezTo>
                <a:lnTo>
                  <a:pt x="8386" y="2754"/>
                </a:lnTo>
                <a:cubicBezTo>
                  <a:pt x="8386" y="0"/>
                  <a:pt x="6988" y="0"/>
                  <a:pt x="5590" y="0"/>
                </a:cubicBezTo>
                <a:cubicBezTo>
                  <a:pt x="1397" y="0"/>
                  <a:pt x="0" y="5508"/>
                  <a:pt x="0" y="11016"/>
                </a:cubicBezTo>
                <a:cubicBezTo>
                  <a:pt x="0" y="13770"/>
                  <a:pt x="0" y="16918"/>
                  <a:pt x="1397" y="19672"/>
                </a:cubicBezTo>
                <a:lnTo>
                  <a:pt x="1397" y="19672"/>
                </a:lnTo>
                <a:cubicBezTo>
                  <a:pt x="30948" y="77901"/>
                  <a:pt x="30948" y="77901"/>
                  <a:pt x="30948" y="77901"/>
                </a:cubicBezTo>
                <a:lnTo>
                  <a:pt x="30948" y="77901"/>
                </a:lnTo>
                <a:cubicBezTo>
                  <a:pt x="32346" y="80655"/>
                  <a:pt x="33743" y="80655"/>
                  <a:pt x="35141" y="80655"/>
                </a:cubicBezTo>
                <a:cubicBezTo>
                  <a:pt x="36539" y="80655"/>
                  <a:pt x="37936" y="80655"/>
                  <a:pt x="39334" y="77901"/>
                </a:cubicBezTo>
                <a:lnTo>
                  <a:pt x="39334" y="77901"/>
                </a:lnTo>
                <a:cubicBezTo>
                  <a:pt x="64891" y="27934"/>
                  <a:pt x="64891" y="27934"/>
                  <a:pt x="64891" y="27934"/>
                </a:cubicBezTo>
                <a:cubicBezTo>
                  <a:pt x="71880" y="41704"/>
                  <a:pt x="71880" y="41704"/>
                  <a:pt x="71880" y="41704"/>
                </a:cubicBezTo>
                <a:lnTo>
                  <a:pt x="71880" y="41704"/>
                </a:lnTo>
                <a:cubicBezTo>
                  <a:pt x="73277" y="41704"/>
                  <a:pt x="73277" y="41704"/>
                  <a:pt x="73277" y="41704"/>
                </a:cubicBezTo>
                <a:cubicBezTo>
                  <a:pt x="76073" y="47213"/>
                  <a:pt x="76073" y="47213"/>
                  <a:pt x="76073" y="47213"/>
                </a:cubicBezTo>
                <a:lnTo>
                  <a:pt x="76073" y="47213"/>
                </a:lnTo>
                <a:cubicBezTo>
                  <a:pt x="100033" y="97180"/>
                  <a:pt x="100033" y="97180"/>
                  <a:pt x="100033" y="97180"/>
                </a:cubicBezTo>
                <a:cubicBezTo>
                  <a:pt x="91647" y="97180"/>
                  <a:pt x="91647" y="97180"/>
                  <a:pt x="91647" y="97180"/>
                </a:cubicBezTo>
                <a:cubicBezTo>
                  <a:pt x="88851" y="97180"/>
                  <a:pt x="86056" y="99934"/>
                  <a:pt x="86056" y="108590"/>
                </a:cubicBezTo>
                <a:cubicBezTo>
                  <a:pt x="86056" y="114098"/>
                  <a:pt x="88851" y="119606"/>
                  <a:pt x="91647" y="119606"/>
                </a:cubicBezTo>
                <a:cubicBezTo>
                  <a:pt x="114209" y="119606"/>
                  <a:pt x="114209" y="119606"/>
                  <a:pt x="114209" y="119606"/>
                </a:cubicBezTo>
                <a:cubicBezTo>
                  <a:pt x="117004" y="119606"/>
                  <a:pt x="119800" y="114098"/>
                  <a:pt x="119800" y="108590"/>
                </a:cubicBezTo>
                <a:cubicBezTo>
                  <a:pt x="119800" y="64131"/>
                  <a:pt x="119800" y="64131"/>
                  <a:pt x="119800" y="64131"/>
                </a:cubicBezTo>
                <a:cubicBezTo>
                  <a:pt x="119800" y="55475"/>
                  <a:pt x="117004" y="52721"/>
                  <a:pt x="114209" y="52721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Shape 5046"/>
          <p:cNvSpPr/>
          <p:nvPr/>
        </p:nvSpPr>
        <p:spPr>
          <a:xfrm>
            <a:off x="9699480" y="1144440"/>
            <a:ext cx="289080" cy="144720"/>
          </a:xfrm>
          <a:custGeom>
            <a:avLst/>
            <a:gdLst>
              <a:gd name="textAreaLeft" fmla="*/ 0 w 289080"/>
              <a:gd name="textAreaRight" fmla="*/ 289440 w 2890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20000" h="120000">
                <a:moveTo>
                  <a:pt x="114285" y="66885"/>
                </a:moveTo>
                <a:lnTo>
                  <a:pt x="114285" y="66885"/>
                </a:lnTo>
                <a:cubicBezTo>
                  <a:pt x="110147" y="66885"/>
                  <a:pt x="108768" y="61377"/>
                  <a:pt x="108768" y="55475"/>
                </a:cubicBezTo>
                <a:cubicBezTo>
                  <a:pt x="108768" y="38950"/>
                  <a:pt x="108768" y="38950"/>
                  <a:pt x="108768" y="38950"/>
                </a:cubicBezTo>
                <a:cubicBezTo>
                  <a:pt x="80788" y="94426"/>
                  <a:pt x="80788" y="94426"/>
                  <a:pt x="80788" y="94426"/>
                </a:cubicBezTo>
                <a:lnTo>
                  <a:pt x="80788" y="94426"/>
                </a:lnTo>
                <a:cubicBezTo>
                  <a:pt x="69753" y="114098"/>
                  <a:pt x="69753" y="114098"/>
                  <a:pt x="69753" y="114098"/>
                </a:cubicBezTo>
                <a:lnTo>
                  <a:pt x="69753" y="114098"/>
                </a:lnTo>
                <a:cubicBezTo>
                  <a:pt x="68374" y="116852"/>
                  <a:pt x="66995" y="119606"/>
                  <a:pt x="65615" y="119606"/>
                </a:cubicBezTo>
                <a:cubicBezTo>
                  <a:pt x="64236" y="119606"/>
                  <a:pt x="62660" y="116852"/>
                  <a:pt x="61280" y="114098"/>
                </a:cubicBezTo>
                <a:lnTo>
                  <a:pt x="61280" y="114098"/>
                </a:lnTo>
                <a:cubicBezTo>
                  <a:pt x="36256" y="64131"/>
                  <a:pt x="36256" y="64131"/>
                  <a:pt x="36256" y="64131"/>
                </a:cubicBezTo>
                <a:cubicBezTo>
                  <a:pt x="9852" y="114098"/>
                  <a:pt x="9852" y="114098"/>
                  <a:pt x="9852" y="114098"/>
                </a:cubicBezTo>
                <a:lnTo>
                  <a:pt x="9852" y="114098"/>
                </a:lnTo>
                <a:cubicBezTo>
                  <a:pt x="8472" y="116852"/>
                  <a:pt x="7093" y="119606"/>
                  <a:pt x="5714" y="119606"/>
                </a:cubicBezTo>
                <a:cubicBezTo>
                  <a:pt x="2955" y="119606"/>
                  <a:pt x="0" y="114098"/>
                  <a:pt x="0" y="108590"/>
                </a:cubicBezTo>
                <a:cubicBezTo>
                  <a:pt x="0" y="105836"/>
                  <a:pt x="1576" y="102688"/>
                  <a:pt x="2955" y="99934"/>
                </a:cubicBezTo>
                <a:lnTo>
                  <a:pt x="2955" y="99934"/>
                </a:lnTo>
                <a:cubicBezTo>
                  <a:pt x="32118" y="41704"/>
                  <a:pt x="32118" y="41704"/>
                  <a:pt x="32118" y="41704"/>
                </a:cubicBezTo>
                <a:lnTo>
                  <a:pt x="32118" y="41704"/>
                </a:lnTo>
                <a:cubicBezTo>
                  <a:pt x="33497" y="38950"/>
                  <a:pt x="34876" y="36196"/>
                  <a:pt x="36256" y="36196"/>
                </a:cubicBezTo>
                <a:cubicBezTo>
                  <a:pt x="37635" y="36196"/>
                  <a:pt x="39014" y="38950"/>
                  <a:pt x="39014" y="41704"/>
                </a:cubicBezTo>
                <a:lnTo>
                  <a:pt x="39014" y="41704"/>
                </a:lnTo>
                <a:cubicBezTo>
                  <a:pt x="65615" y="91672"/>
                  <a:pt x="65615" y="91672"/>
                  <a:pt x="65615" y="91672"/>
                </a:cubicBezTo>
                <a:cubicBezTo>
                  <a:pt x="72512" y="77901"/>
                  <a:pt x="72512" y="77901"/>
                  <a:pt x="72512" y="77901"/>
                </a:cubicBezTo>
                <a:lnTo>
                  <a:pt x="72512" y="77901"/>
                </a:lnTo>
                <a:cubicBezTo>
                  <a:pt x="73891" y="75147"/>
                  <a:pt x="73891" y="75147"/>
                  <a:pt x="73891" y="75147"/>
                </a:cubicBezTo>
                <a:cubicBezTo>
                  <a:pt x="76650" y="69639"/>
                  <a:pt x="76650" y="69639"/>
                  <a:pt x="76650" y="69639"/>
                </a:cubicBezTo>
                <a:lnTo>
                  <a:pt x="76650" y="69639"/>
                </a:lnTo>
                <a:cubicBezTo>
                  <a:pt x="100295" y="22426"/>
                  <a:pt x="100295" y="22426"/>
                  <a:pt x="100295" y="22426"/>
                </a:cubicBezTo>
                <a:cubicBezTo>
                  <a:pt x="92019" y="22426"/>
                  <a:pt x="92019" y="22426"/>
                  <a:pt x="92019" y="22426"/>
                </a:cubicBezTo>
                <a:cubicBezTo>
                  <a:pt x="87881" y="22426"/>
                  <a:pt x="86502" y="16918"/>
                  <a:pt x="86502" y="11016"/>
                </a:cubicBezTo>
                <a:cubicBezTo>
                  <a:pt x="86502" y="5508"/>
                  <a:pt x="87881" y="0"/>
                  <a:pt x="92019" y="0"/>
                </a:cubicBezTo>
                <a:cubicBezTo>
                  <a:pt x="114285" y="0"/>
                  <a:pt x="114285" y="0"/>
                  <a:pt x="114285" y="0"/>
                </a:cubicBezTo>
                <a:cubicBezTo>
                  <a:pt x="117044" y="0"/>
                  <a:pt x="119802" y="5508"/>
                  <a:pt x="119802" y="11016"/>
                </a:cubicBezTo>
                <a:cubicBezTo>
                  <a:pt x="119802" y="55475"/>
                  <a:pt x="119802" y="55475"/>
                  <a:pt x="119802" y="55475"/>
                </a:cubicBezTo>
                <a:cubicBezTo>
                  <a:pt x="119802" y="61377"/>
                  <a:pt x="117044" y="66885"/>
                  <a:pt x="114285" y="66885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Shape 5047"/>
          <p:cNvSpPr/>
          <p:nvPr/>
        </p:nvSpPr>
        <p:spPr>
          <a:xfrm>
            <a:off x="9202680" y="1104840"/>
            <a:ext cx="285840" cy="225360"/>
          </a:xfrm>
          <a:custGeom>
            <a:avLst/>
            <a:gdLst>
              <a:gd name="textAreaLeft" fmla="*/ 0 w 285840"/>
              <a:gd name="textAreaRight" fmla="*/ 286200 w 2858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85913" y="101810"/>
                </a:moveTo>
                <a:lnTo>
                  <a:pt x="85913" y="101810"/>
                </a:lnTo>
                <a:lnTo>
                  <a:pt x="85913" y="101810"/>
                </a:lnTo>
                <a:cubicBezTo>
                  <a:pt x="50830" y="101810"/>
                  <a:pt x="50830" y="101810"/>
                  <a:pt x="50830" y="101810"/>
                </a:cubicBezTo>
                <a:lnTo>
                  <a:pt x="50830" y="101810"/>
                </a:lnTo>
                <a:cubicBezTo>
                  <a:pt x="46445" y="101810"/>
                  <a:pt x="46445" y="101810"/>
                  <a:pt x="46445" y="101810"/>
                </a:cubicBezTo>
                <a:cubicBezTo>
                  <a:pt x="39468" y="101810"/>
                  <a:pt x="39468" y="101810"/>
                  <a:pt x="39468" y="101810"/>
                </a:cubicBezTo>
                <a:cubicBezTo>
                  <a:pt x="43654" y="107115"/>
                  <a:pt x="43654" y="107115"/>
                  <a:pt x="43654" y="107115"/>
                </a:cubicBezTo>
                <a:cubicBezTo>
                  <a:pt x="45049" y="108884"/>
                  <a:pt x="45049" y="110905"/>
                  <a:pt x="45049" y="112673"/>
                </a:cubicBezTo>
                <a:cubicBezTo>
                  <a:pt x="45049" y="116210"/>
                  <a:pt x="42259" y="119747"/>
                  <a:pt x="39468" y="119747"/>
                </a:cubicBezTo>
                <a:cubicBezTo>
                  <a:pt x="38073" y="119747"/>
                  <a:pt x="36677" y="117978"/>
                  <a:pt x="35282" y="116210"/>
                </a:cubicBezTo>
                <a:cubicBezTo>
                  <a:pt x="22524" y="100042"/>
                  <a:pt x="22524" y="100042"/>
                  <a:pt x="22524" y="100042"/>
                </a:cubicBezTo>
                <a:cubicBezTo>
                  <a:pt x="21129" y="98273"/>
                  <a:pt x="21129" y="96505"/>
                  <a:pt x="21129" y="94736"/>
                </a:cubicBezTo>
                <a:cubicBezTo>
                  <a:pt x="21129" y="92968"/>
                  <a:pt x="21129" y="91200"/>
                  <a:pt x="22524" y="91200"/>
                </a:cubicBezTo>
                <a:cubicBezTo>
                  <a:pt x="35282" y="73263"/>
                  <a:pt x="35282" y="73263"/>
                  <a:pt x="35282" y="73263"/>
                </a:cubicBezTo>
                <a:cubicBezTo>
                  <a:pt x="36677" y="71494"/>
                  <a:pt x="38073" y="71494"/>
                  <a:pt x="39468" y="71494"/>
                </a:cubicBezTo>
                <a:cubicBezTo>
                  <a:pt x="42259" y="71494"/>
                  <a:pt x="45049" y="75031"/>
                  <a:pt x="45049" y="78568"/>
                </a:cubicBezTo>
                <a:cubicBezTo>
                  <a:pt x="45049" y="80336"/>
                  <a:pt x="45049" y="82105"/>
                  <a:pt x="43654" y="83873"/>
                </a:cubicBezTo>
                <a:cubicBezTo>
                  <a:pt x="39468" y="87410"/>
                  <a:pt x="39468" y="87410"/>
                  <a:pt x="39468" y="87410"/>
                </a:cubicBezTo>
                <a:cubicBezTo>
                  <a:pt x="43654" y="87410"/>
                  <a:pt x="43654" y="87410"/>
                  <a:pt x="43654" y="87410"/>
                </a:cubicBezTo>
                <a:lnTo>
                  <a:pt x="43654" y="87410"/>
                </a:lnTo>
                <a:cubicBezTo>
                  <a:pt x="49435" y="87410"/>
                  <a:pt x="49435" y="87410"/>
                  <a:pt x="49435" y="87410"/>
                </a:cubicBezTo>
                <a:lnTo>
                  <a:pt x="49435" y="87410"/>
                </a:lnTo>
                <a:cubicBezTo>
                  <a:pt x="85913" y="87410"/>
                  <a:pt x="85913" y="87410"/>
                  <a:pt x="85913" y="87410"/>
                </a:cubicBezTo>
                <a:cubicBezTo>
                  <a:pt x="98671" y="87410"/>
                  <a:pt x="108438" y="75031"/>
                  <a:pt x="108438" y="58863"/>
                </a:cubicBezTo>
                <a:cubicBezTo>
                  <a:pt x="108438" y="42947"/>
                  <a:pt x="108438" y="42947"/>
                  <a:pt x="108438" y="42947"/>
                </a:cubicBezTo>
                <a:cubicBezTo>
                  <a:pt x="108438" y="39410"/>
                  <a:pt x="111428" y="35873"/>
                  <a:pt x="114219" y="35873"/>
                </a:cubicBezTo>
                <a:cubicBezTo>
                  <a:pt x="118405" y="35873"/>
                  <a:pt x="119800" y="39410"/>
                  <a:pt x="119800" y="42947"/>
                </a:cubicBezTo>
                <a:cubicBezTo>
                  <a:pt x="119800" y="58863"/>
                  <a:pt x="119800" y="58863"/>
                  <a:pt x="119800" y="58863"/>
                </a:cubicBezTo>
                <a:cubicBezTo>
                  <a:pt x="119800" y="83873"/>
                  <a:pt x="105647" y="101810"/>
                  <a:pt x="85913" y="101810"/>
                </a:cubicBezTo>
                <a:close/>
                <a:moveTo>
                  <a:pt x="84518" y="44715"/>
                </a:moveTo>
                <a:lnTo>
                  <a:pt x="84518" y="44715"/>
                </a:lnTo>
                <a:cubicBezTo>
                  <a:pt x="83122" y="46484"/>
                  <a:pt x="81727" y="48252"/>
                  <a:pt x="80332" y="48252"/>
                </a:cubicBezTo>
                <a:cubicBezTo>
                  <a:pt x="77541" y="48252"/>
                  <a:pt x="74750" y="44715"/>
                  <a:pt x="74750" y="41178"/>
                </a:cubicBezTo>
                <a:cubicBezTo>
                  <a:pt x="74750" y="39410"/>
                  <a:pt x="76146" y="37642"/>
                  <a:pt x="77541" y="35873"/>
                </a:cubicBezTo>
                <a:cubicBezTo>
                  <a:pt x="80332" y="30315"/>
                  <a:pt x="80332" y="30315"/>
                  <a:pt x="80332" y="30315"/>
                </a:cubicBezTo>
                <a:cubicBezTo>
                  <a:pt x="77541" y="30315"/>
                  <a:pt x="77541" y="30315"/>
                  <a:pt x="77541" y="30315"/>
                </a:cubicBezTo>
                <a:lnTo>
                  <a:pt x="77541" y="30315"/>
                </a:lnTo>
                <a:cubicBezTo>
                  <a:pt x="71960" y="30315"/>
                  <a:pt x="71960" y="30315"/>
                  <a:pt x="71960" y="30315"/>
                </a:cubicBezTo>
                <a:lnTo>
                  <a:pt x="71960" y="30315"/>
                </a:lnTo>
                <a:cubicBezTo>
                  <a:pt x="33887" y="30315"/>
                  <a:pt x="33887" y="30315"/>
                  <a:pt x="33887" y="30315"/>
                </a:cubicBezTo>
                <a:cubicBezTo>
                  <a:pt x="21129" y="30315"/>
                  <a:pt x="11362" y="42947"/>
                  <a:pt x="11362" y="58863"/>
                </a:cubicBezTo>
                <a:cubicBezTo>
                  <a:pt x="11362" y="76800"/>
                  <a:pt x="11362" y="76800"/>
                  <a:pt x="11362" y="76800"/>
                </a:cubicBezTo>
                <a:cubicBezTo>
                  <a:pt x="11362" y="80336"/>
                  <a:pt x="8571" y="83873"/>
                  <a:pt x="5780" y="83873"/>
                </a:cubicBezTo>
                <a:cubicBezTo>
                  <a:pt x="2990" y="83873"/>
                  <a:pt x="0" y="80336"/>
                  <a:pt x="0" y="76800"/>
                </a:cubicBezTo>
                <a:cubicBezTo>
                  <a:pt x="0" y="58863"/>
                  <a:pt x="0" y="58863"/>
                  <a:pt x="0" y="58863"/>
                </a:cubicBezTo>
                <a:cubicBezTo>
                  <a:pt x="0" y="35873"/>
                  <a:pt x="15548" y="16168"/>
                  <a:pt x="33887" y="16168"/>
                </a:cubicBezTo>
                <a:lnTo>
                  <a:pt x="33887" y="16168"/>
                </a:lnTo>
                <a:cubicBezTo>
                  <a:pt x="69169" y="16168"/>
                  <a:pt x="69169" y="16168"/>
                  <a:pt x="69169" y="16168"/>
                </a:cubicBezTo>
                <a:lnTo>
                  <a:pt x="69169" y="16168"/>
                </a:lnTo>
                <a:cubicBezTo>
                  <a:pt x="73355" y="16168"/>
                  <a:pt x="73355" y="16168"/>
                  <a:pt x="73355" y="16168"/>
                </a:cubicBezTo>
                <a:cubicBezTo>
                  <a:pt x="80332" y="16168"/>
                  <a:pt x="80332" y="16168"/>
                  <a:pt x="80332" y="16168"/>
                </a:cubicBezTo>
                <a:cubicBezTo>
                  <a:pt x="77541" y="12631"/>
                  <a:pt x="77541" y="12631"/>
                  <a:pt x="77541" y="12631"/>
                </a:cubicBezTo>
                <a:cubicBezTo>
                  <a:pt x="76146" y="10863"/>
                  <a:pt x="74750" y="8842"/>
                  <a:pt x="74750" y="7073"/>
                </a:cubicBezTo>
                <a:cubicBezTo>
                  <a:pt x="74750" y="3536"/>
                  <a:pt x="77541" y="0"/>
                  <a:pt x="80332" y="0"/>
                </a:cubicBezTo>
                <a:cubicBezTo>
                  <a:pt x="81727" y="0"/>
                  <a:pt x="83122" y="0"/>
                  <a:pt x="84518" y="1768"/>
                </a:cubicBezTo>
                <a:cubicBezTo>
                  <a:pt x="97275" y="19705"/>
                  <a:pt x="97275" y="19705"/>
                  <a:pt x="97275" y="19705"/>
                </a:cubicBezTo>
                <a:cubicBezTo>
                  <a:pt x="98671" y="19705"/>
                  <a:pt x="100066" y="21473"/>
                  <a:pt x="100066" y="23242"/>
                </a:cubicBezTo>
                <a:cubicBezTo>
                  <a:pt x="100066" y="25010"/>
                  <a:pt x="98671" y="26778"/>
                  <a:pt x="97275" y="28547"/>
                </a:cubicBezTo>
                <a:lnTo>
                  <a:pt x="84518" y="4471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Shape 5048"/>
          <p:cNvSpPr/>
          <p:nvPr/>
        </p:nvSpPr>
        <p:spPr>
          <a:xfrm>
            <a:off x="8702640" y="1074600"/>
            <a:ext cx="287280" cy="284400"/>
          </a:xfrm>
          <a:custGeom>
            <a:avLst/>
            <a:gdLst>
              <a:gd name="textAreaLeft" fmla="*/ 0 w 287280"/>
              <a:gd name="textAreaRight" fmla="*/ 287640 w 2872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114219" y="22562"/>
                </a:moveTo>
                <a:lnTo>
                  <a:pt x="114219" y="22562"/>
                </a:lnTo>
                <a:cubicBezTo>
                  <a:pt x="108438" y="22562"/>
                  <a:pt x="108438" y="22562"/>
                  <a:pt x="108438" y="22562"/>
                </a:cubicBezTo>
                <a:cubicBezTo>
                  <a:pt x="108438" y="53510"/>
                  <a:pt x="108438" y="53510"/>
                  <a:pt x="108438" y="53510"/>
                </a:cubicBezTo>
                <a:cubicBezTo>
                  <a:pt x="108438" y="80266"/>
                  <a:pt x="108438" y="80266"/>
                  <a:pt x="108438" y="80266"/>
                </a:cubicBezTo>
                <a:cubicBezTo>
                  <a:pt x="108438" y="86056"/>
                  <a:pt x="108438" y="86056"/>
                  <a:pt x="108438" y="86056"/>
                </a:cubicBezTo>
                <a:cubicBezTo>
                  <a:pt x="108438" y="88851"/>
                  <a:pt x="105647" y="91647"/>
                  <a:pt x="102857" y="91647"/>
                </a:cubicBezTo>
                <a:cubicBezTo>
                  <a:pt x="73355" y="91647"/>
                  <a:pt x="73355" y="91647"/>
                  <a:pt x="73355" y="91647"/>
                </a:cubicBezTo>
                <a:cubicBezTo>
                  <a:pt x="91694" y="110016"/>
                  <a:pt x="91694" y="110016"/>
                  <a:pt x="91694" y="110016"/>
                </a:cubicBezTo>
                <a:lnTo>
                  <a:pt x="91694" y="110016"/>
                </a:lnTo>
                <a:cubicBezTo>
                  <a:pt x="93089" y="111414"/>
                  <a:pt x="93089" y="112811"/>
                  <a:pt x="93089" y="114209"/>
                </a:cubicBezTo>
                <a:cubicBezTo>
                  <a:pt x="93089" y="117004"/>
                  <a:pt x="91694" y="119800"/>
                  <a:pt x="87308" y="119800"/>
                </a:cubicBezTo>
                <a:cubicBezTo>
                  <a:pt x="85913" y="119800"/>
                  <a:pt x="84518" y="119800"/>
                  <a:pt x="84518" y="118402"/>
                </a:cubicBezTo>
                <a:lnTo>
                  <a:pt x="84518" y="118402"/>
                </a:lnTo>
                <a:cubicBezTo>
                  <a:pt x="64784" y="100232"/>
                  <a:pt x="64784" y="100232"/>
                  <a:pt x="64784" y="100232"/>
                </a:cubicBezTo>
                <a:cubicBezTo>
                  <a:pt x="64784" y="114209"/>
                  <a:pt x="64784" y="114209"/>
                  <a:pt x="64784" y="114209"/>
                </a:cubicBezTo>
                <a:cubicBezTo>
                  <a:pt x="64784" y="117004"/>
                  <a:pt x="63388" y="119800"/>
                  <a:pt x="59202" y="119800"/>
                </a:cubicBezTo>
                <a:cubicBezTo>
                  <a:pt x="56411" y="119800"/>
                  <a:pt x="53621" y="117004"/>
                  <a:pt x="53621" y="114209"/>
                </a:cubicBezTo>
                <a:cubicBezTo>
                  <a:pt x="53621" y="100232"/>
                  <a:pt x="53621" y="100232"/>
                  <a:pt x="53621" y="100232"/>
                </a:cubicBezTo>
                <a:cubicBezTo>
                  <a:pt x="35282" y="118402"/>
                  <a:pt x="35282" y="118402"/>
                  <a:pt x="35282" y="118402"/>
                </a:cubicBezTo>
                <a:lnTo>
                  <a:pt x="35282" y="118402"/>
                </a:lnTo>
                <a:cubicBezTo>
                  <a:pt x="33887" y="119800"/>
                  <a:pt x="32491" y="119800"/>
                  <a:pt x="31096" y="119800"/>
                </a:cubicBezTo>
                <a:cubicBezTo>
                  <a:pt x="28305" y="119800"/>
                  <a:pt x="25315" y="117004"/>
                  <a:pt x="25315" y="114209"/>
                </a:cubicBezTo>
                <a:cubicBezTo>
                  <a:pt x="25315" y="112811"/>
                  <a:pt x="26910" y="111414"/>
                  <a:pt x="28305" y="110016"/>
                </a:cubicBezTo>
                <a:lnTo>
                  <a:pt x="28305" y="110016"/>
                </a:lnTo>
                <a:cubicBezTo>
                  <a:pt x="46445" y="91647"/>
                  <a:pt x="46445" y="91647"/>
                  <a:pt x="46445" y="91647"/>
                </a:cubicBezTo>
                <a:cubicBezTo>
                  <a:pt x="16943" y="91647"/>
                  <a:pt x="16943" y="91647"/>
                  <a:pt x="16943" y="91647"/>
                </a:cubicBezTo>
                <a:cubicBezTo>
                  <a:pt x="12757" y="91647"/>
                  <a:pt x="11362" y="88851"/>
                  <a:pt x="11362" y="86056"/>
                </a:cubicBezTo>
                <a:cubicBezTo>
                  <a:pt x="11362" y="80266"/>
                  <a:pt x="11362" y="80266"/>
                  <a:pt x="11362" y="80266"/>
                </a:cubicBezTo>
                <a:cubicBezTo>
                  <a:pt x="11362" y="53510"/>
                  <a:pt x="11362" y="53510"/>
                  <a:pt x="11362" y="53510"/>
                </a:cubicBezTo>
                <a:cubicBezTo>
                  <a:pt x="11362" y="22562"/>
                  <a:pt x="11362" y="22562"/>
                  <a:pt x="11362" y="22562"/>
                </a:cubicBezTo>
                <a:cubicBezTo>
                  <a:pt x="5780" y="22562"/>
                  <a:pt x="5780" y="22562"/>
                  <a:pt x="5780" y="22562"/>
                </a:cubicBezTo>
                <a:cubicBezTo>
                  <a:pt x="1395" y="22562"/>
                  <a:pt x="0" y="19567"/>
                  <a:pt x="0" y="16772"/>
                </a:cubicBezTo>
                <a:cubicBezTo>
                  <a:pt x="0" y="12579"/>
                  <a:pt x="1395" y="11181"/>
                  <a:pt x="5780" y="11181"/>
                </a:cubicBezTo>
                <a:cubicBezTo>
                  <a:pt x="53621" y="11181"/>
                  <a:pt x="53621" y="11181"/>
                  <a:pt x="53621" y="11181"/>
                </a:cubicBezTo>
                <a:cubicBezTo>
                  <a:pt x="53621" y="5590"/>
                  <a:pt x="53621" y="5590"/>
                  <a:pt x="53621" y="5590"/>
                </a:cubicBezTo>
                <a:cubicBezTo>
                  <a:pt x="53621" y="1397"/>
                  <a:pt x="56411" y="0"/>
                  <a:pt x="59202" y="0"/>
                </a:cubicBezTo>
                <a:cubicBezTo>
                  <a:pt x="63388" y="0"/>
                  <a:pt x="64784" y="1397"/>
                  <a:pt x="64784" y="5590"/>
                </a:cubicBezTo>
                <a:cubicBezTo>
                  <a:pt x="64784" y="11181"/>
                  <a:pt x="64784" y="11181"/>
                  <a:pt x="64784" y="11181"/>
                </a:cubicBezTo>
                <a:cubicBezTo>
                  <a:pt x="114219" y="11181"/>
                  <a:pt x="114219" y="11181"/>
                  <a:pt x="114219" y="11181"/>
                </a:cubicBezTo>
                <a:cubicBezTo>
                  <a:pt x="117009" y="11181"/>
                  <a:pt x="119800" y="12579"/>
                  <a:pt x="119800" y="16772"/>
                </a:cubicBezTo>
                <a:cubicBezTo>
                  <a:pt x="119800" y="19567"/>
                  <a:pt x="117009" y="22562"/>
                  <a:pt x="114219" y="22562"/>
                </a:cubicBezTo>
                <a:close/>
                <a:moveTo>
                  <a:pt x="97275" y="47920"/>
                </a:moveTo>
                <a:lnTo>
                  <a:pt x="97275" y="47920"/>
                </a:lnTo>
                <a:cubicBezTo>
                  <a:pt x="97275" y="42329"/>
                  <a:pt x="97275" y="42329"/>
                  <a:pt x="97275" y="42329"/>
                </a:cubicBezTo>
                <a:cubicBezTo>
                  <a:pt x="97275" y="22562"/>
                  <a:pt x="97275" y="22562"/>
                  <a:pt x="97275" y="22562"/>
                </a:cubicBezTo>
                <a:cubicBezTo>
                  <a:pt x="22524" y="22562"/>
                  <a:pt x="22524" y="22562"/>
                  <a:pt x="22524" y="22562"/>
                </a:cubicBezTo>
                <a:cubicBezTo>
                  <a:pt x="22524" y="42329"/>
                  <a:pt x="22524" y="42329"/>
                  <a:pt x="22524" y="42329"/>
                </a:cubicBezTo>
                <a:cubicBezTo>
                  <a:pt x="22524" y="47920"/>
                  <a:pt x="22524" y="47920"/>
                  <a:pt x="22524" y="47920"/>
                </a:cubicBezTo>
                <a:cubicBezTo>
                  <a:pt x="22524" y="80266"/>
                  <a:pt x="22524" y="80266"/>
                  <a:pt x="22524" y="80266"/>
                </a:cubicBezTo>
                <a:cubicBezTo>
                  <a:pt x="97275" y="80266"/>
                  <a:pt x="97275" y="80266"/>
                  <a:pt x="97275" y="80266"/>
                </a:cubicBezTo>
                <a:lnTo>
                  <a:pt x="97275" y="4792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Shape 5049"/>
          <p:cNvSpPr/>
          <p:nvPr/>
        </p:nvSpPr>
        <p:spPr>
          <a:xfrm>
            <a:off x="8202600" y="1074600"/>
            <a:ext cx="287280" cy="284400"/>
          </a:xfrm>
          <a:custGeom>
            <a:avLst/>
            <a:gdLst>
              <a:gd name="textAreaLeft" fmla="*/ 0 w 287280"/>
              <a:gd name="textAreaRight" fmla="*/ 287640 w 2872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5517" y="36539"/>
                </a:moveTo>
                <a:lnTo>
                  <a:pt x="5517" y="36539"/>
                </a:lnTo>
                <a:cubicBezTo>
                  <a:pt x="32118" y="36539"/>
                  <a:pt x="32118" y="36539"/>
                  <a:pt x="32118" y="36539"/>
                </a:cubicBezTo>
                <a:cubicBezTo>
                  <a:pt x="32118" y="47920"/>
                  <a:pt x="32118" y="47920"/>
                  <a:pt x="32118" y="47920"/>
                </a:cubicBezTo>
                <a:cubicBezTo>
                  <a:pt x="11231" y="47920"/>
                  <a:pt x="11231" y="47920"/>
                  <a:pt x="11231" y="47920"/>
                </a:cubicBezTo>
                <a:cubicBezTo>
                  <a:pt x="11231" y="108618"/>
                  <a:pt x="11231" y="108618"/>
                  <a:pt x="11231" y="108618"/>
                </a:cubicBezTo>
                <a:cubicBezTo>
                  <a:pt x="30738" y="108618"/>
                  <a:pt x="30738" y="108618"/>
                  <a:pt x="30738" y="108618"/>
                </a:cubicBezTo>
                <a:lnTo>
                  <a:pt x="30738" y="108618"/>
                </a:lnTo>
                <a:cubicBezTo>
                  <a:pt x="54384" y="108618"/>
                  <a:pt x="54384" y="108618"/>
                  <a:pt x="54384" y="108618"/>
                </a:cubicBezTo>
                <a:lnTo>
                  <a:pt x="54384" y="108618"/>
                </a:lnTo>
                <a:cubicBezTo>
                  <a:pt x="71133" y="108618"/>
                  <a:pt x="71133" y="108618"/>
                  <a:pt x="71133" y="108618"/>
                </a:cubicBezTo>
                <a:cubicBezTo>
                  <a:pt x="71133" y="87454"/>
                  <a:pt x="71133" y="87454"/>
                  <a:pt x="71133" y="87454"/>
                </a:cubicBezTo>
                <a:cubicBezTo>
                  <a:pt x="82167" y="87454"/>
                  <a:pt x="82167" y="87454"/>
                  <a:pt x="82167" y="87454"/>
                </a:cubicBezTo>
                <a:cubicBezTo>
                  <a:pt x="82167" y="114209"/>
                  <a:pt x="82167" y="114209"/>
                  <a:pt x="82167" y="114209"/>
                </a:cubicBezTo>
                <a:cubicBezTo>
                  <a:pt x="82167" y="117004"/>
                  <a:pt x="79408" y="119800"/>
                  <a:pt x="76650" y="119800"/>
                </a:cubicBezTo>
                <a:cubicBezTo>
                  <a:pt x="55763" y="119800"/>
                  <a:pt x="55763" y="119800"/>
                  <a:pt x="55763" y="119800"/>
                </a:cubicBezTo>
                <a:lnTo>
                  <a:pt x="55763" y="119800"/>
                </a:lnTo>
                <a:cubicBezTo>
                  <a:pt x="25024" y="119800"/>
                  <a:pt x="25024" y="119800"/>
                  <a:pt x="25024" y="119800"/>
                </a:cubicBezTo>
                <a:lnTo>
                  <a:pt x="25024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4"/>
                  <a:pt x="0" y="114209"/>
                </a:cubicBezTo>
                <a:cubicBezTo>
                  <a:pt x="0" y="42329"/>
                  <a:pt x="0" y="42329"/>
                  <a:pt x="0" y="42329"/>
                </a:cubicBezTo>
                <a:cubicBezTo>
                  <a:pt x="0" y="39534"/>
                  <a:pt x="2758" y="36539"/>
                  <a:pt x="5517" y="36539"/>
                </a:cubicBezTo>
                <a:close/>
                <a:moveTo>
                  <a:pt x="61280" y="81663"/>
                </a:moveTo>
                <a:lnTo>
                  <a:pt x="61280" y="81663"/>
                </a:lnTo>
                <a:lnTo>
                  <a:pt x="61280" y="81663"/>
                </a:lnTo>
                <a:cubicBezTo>
                  <a:pt x="43152" y="81663"/>
                  <a:pt x="43152" y="81663"/>
                  <a:pt x="43152" y="81663"/>
                </a:cubicBezTo>
                <a:cubicBezTo>
                  <a:pt x="40394" y="81663"/>
                  <a:pt x="37635" y="80266"/>
                  <a:pt x="37635" y="76073"/>
                </a:cubicBezTo>
                <a:cubicBezTo>
                  <a:pt x="37635" y="5590"/>
                  <a:pt x="37635" y="5590"/>
                  <a:pt x="37635" y="5590"/>
                </a:cubicBezTo>
                <a:cubicBezTo>
                  <a:pt x="37635" y="1397"/>
                  <a:pt x="40394" y="0"/>
                  <a:pt x="43152" y="0"/>
                </a:cubicBezTo>
                <a:cubicBezTo>
                  <a:pt x="114285" y="0"/>
                  <a:pt x="114285" y="0"/>
                  <a:pt x="114285" y="0"/>
                </a:cubicBezTo>
                <a:cubicBezTo>
                  <a:pt x="117044" y="0"/>
                  <a:pt x="119802" y="1397"/>
                  <a:pt x="119802" y="5590"/>
                </a:cubicBezTo>
                <a:cubicBezTo>
                  <a:pt x="119802" y="76073"/>
                  <a:pt x="119802" y="76073"/>
                  <a:pt x="119802" y="76073"/>
                </a:cubicBezTo>
                <a:cubicBezTo>
                  <a:pt x="119802" y="80266"/>
                  <a:pt x="117044" y="81663"/>
                  <a:pt x="114285" y="81663"/>
                </a:cubicBezTo>
                <a:cubicBezTo>
                  <a:pt x="93399" y="81663"/>
                  <a:pt x="93399" y="81663"/>
                  <a:pt x="93399" y="81663"/>
                </a:cubicBezTo>
                <a:lnTo>
                  <a:pt x="93399" y="81663"/>
                </a:lnTo>
                <a:lnTo>
                  <a:pt x="61280" y="81663"/>
                </a:lnTo>
                <a:close/>
                <a:moveTo>
                  <a:pt x="108571" y="70482"/>
                </a:moveTo>
                <a:lnTo>
                  <a:pt x="108571" y="70482"/>
                </a:lnTo>
                <a:cubicBezTo>
                  <a:pt x="108571" y="11181"/>
                  <a:pt x="108571" y="11181"/>
                  <a:pt x="108571" y="11181"/>
                </a:cubicBezTo>
                <a:cubicBezTo>
                  <a:pt x="48669" y="11181"/>
                  <a:pt x="48669" y="11181"/>
                  <a:pt x="48669" y="11181"/>
                </a:cubicBezTo>
                <a:cubicBezTo>
                  <a:pt x="48669" y="70482"/>
                  <a:pt x="48669" y="70482"/>
                  <a:pt x="48669" y="70482"/>
                </a:cubicBezTo>
                <a:cubicBezTo>
                  <a:pt x="66798" y="70482"/>
                  <a:pt x="66798" y="70482"/>
                  <a:pt x="66798" y="70482"/>
                </a:cubicBezTo>
                <a:lnTo>
                  <a:pt x="66798" y="70482"/>
                </a:lnTo>
                <a:cubicBezTo>
                  <a:pt x="92019" y="70482"/>
                  <a:pt x="92019" y="70482"/>
                  <a:pt x="92019" y="70482"/>
                </a:cubicBezTo>
                <a:lnTo>
                  <a:pt x="92019" y="70482"/>
                </a:lnTo>
                <a:lnTo>
                  <a:pt x="108571" y="70482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Shape 5050"/>
          <p:cNvSpPr/>
          <p:nvPr/>
        </p:nvSpPr>
        <p:spPr>
          <a:xfrm>
            <a:off x="7702560" y="1074600"/>
            <a:ext cx="285840" cy="284400"/>
          </a:xfrm>
          <a:custGeom>
            <a:avLst/>
            <a:gdLst>
              <a:gd name="textAreaLeft" fmla="*/ 0 w 285840"/>
              <a:gd name="textAreaRight" fmla="*/ 286200 w 28584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114019" y="81663"/>
                </a:moveTo>
                <a:lnTo>
                  <a:pt x="114019" y="81663"/>
                </a:lnTo>
                <a:cubicBezTo>
                  <a:pt x="88704" y="81663"/>
                  <a:pt x="88704" y="81663"/>
                  <a:pt x="88704" y="81663"/>
                </a:cubicBezTo>
                <a:cubicBezTo>
                  <a:pt x="88704" y="70482"/>
                  <a:pt x="88704" y="70482"/>
                  <a:pt x="88704" y="70482"/>
                </a:cubicBezTo>
                <a:cubicBezTo>
                  <a:pt x="108438" y="70482"/>
                  <a:pt x="108438" y="70482"/>
                  <a:pt x="108438" y="70482"/>
                </a:cubicBezTo>
                <a:cubicBezTo>
                  <a:pt x="108438" y="11181"/>
                  <a:pt x="108438" y="11181"/>
                  <a:pt x="108438" y="11181"/>
                </a:cubicBezTo>
                <a:cubicBezTo>
                  <a:pt x="90099" y="11181"/>
                  <a:pt x="90099" y="11181"/>
                  <a:pt x="90099" y="11181"/>
                </a:cubicBezTo>
                <a:lnTo>
                  <a:pt x="90099" y="11181"/>
                </a:lnTo>
                <a:cubicBezTo>
                  <a:pt x="66179" y="11181"/>
                  <a:pt x="66179" y="11181"/>
                  <a:pt x="66179" y="11181"/>
                </a:cubicBezTo>
                <a:lnTo>
                  <a:pt x="66179" y="11181"/>
                </a:lnTo>
                <a:cubicBezTo>
                  <a:pt x="49235" y="11181"/>
                  <a:pt x="49235" y="11181"/>
                  <a:pt x="49235" y="11181"/>
                </a:cubicBezTo>
                <a:cubicBezTo>
                  <a:pt x="49235" y="30948"/>
                  <a:pt x="49235" y="30948"/>
                  <a:pt x="49235" y="30948"/>
                </a:cubicBezTo>
                <a:cubicBezTo>
                  <a:pt x="38073" y="30948"/>
                  <a:pt x="38073" y="30948"/>
                  <a:pt x="38073" y="30948"/>
                </a:cubicBezTo>
                <a:cubicBezTo>
                  <a:pt x="38073" y="5590"/>
                  <a:pt x="38073" y="5590"/>
                  <a:pt x="38073" y="5590"/>
                </a:cubicBezTo>
                <a:cubicBezTo>
                  <a:pt x="38073" y="1397"/>
                  <a:pt x="39468" y="0"/>
                  <a:pt x="43654" y="0"/>
                </a:cubicBezTo>
                <a:cubicBezTo>
                  <a:pt x="63388" y="0"/>
                  <a:pt x="63388" y="0"/>
                  <a:pt x="63388" y="0"/>
                </a:cubicBezTo>
                <a:lnTo>
                  <a:pt x="63388" y="0"/>
                </a:lnTo>
                <a:cubicBezTo>
                  <a:pt x="95880" y="0"/>
                  <a:pt x="95880" y="0"/>
                  <a:pt x="95880" y="0"/>
                </a:cubicBezTo>
                <a:lnTo>
                  <a:pt x="95880" y="0"/>
                </a:ln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1397"/>
                  <a:pt x="119800" y="5590"/>
                </a:cubicBezTo>
                <a:cubicBezTo>
                  <a:pt x="119800" y="76073"/>
                  <a:pt x="119800" y="76073"/>
                  <a:pt x="119800" y="76073"/>
                </a:cubicBezTo>
                <a:cubicBezTo>
                  <a:pt x="119800" y="80266"/>
                  <a:pt x="118405" y="81663"/>
                  <a:pt x="114019" y="81663"/>
                </a:cubicBezTo>
                <a:close/>
                <a:moveTo>
                  <a:pt x="57807" y="36539"/>
                </a:moveTo>
                <a:lnTo>
                  <a:pt x="57807" y="36539"/>
                </a:lnTo>
                <a:lnTo>
                  <a:pt x="57807" y="36539"/>
                </a:lnTo>
                <a:cubicBezTo>
                  <a:pt x="77541" y="36539"/>
                  <a:pt x="77541" y="36539"/>
                  <a:pt x="77541" y="36539"/>
                </a:cubicBezTo>
                <a:cubicBezTo>
                  <a:pt x="80332" y="36539"/>
                  <a:pt x="83122" y="39534"/>
                  <a:pt x="83122" y="42329"/>
                </a:cubicBezTo>
                <a:cubicBezTo>
                  <a:pt x="83122" y="114209"/>
                  <a:pt x="83122" y="114209"/>
                  <a:pt x="83122" y="114209"/>
                </a:cubicBezTo>
                <a:cubicBezTo>
                  <a:pt x="83122" y="117004"/>
                  <a:pt x="80332" y="119800"/>
                  <a:pt x="77541" y="119800"/>
                </a:cubicBezTo>
                <a:cubicBezTo>
                  <a:pt x="5581" y="119800"/>
                  <a:pt x="5581" y="119800"/>
                  <a:pt x="5581" y="119800"/>
                </a:cubicBezTo>
                <a:cubicBezTo>
                  <a:pt x="2790" y="119800"/>
                  <a:pt x="0" y="117004"/>
                  <a:pt x="0" y="114209"/>
                </a:cubicBezTo>
                <a:cubicBezTo>
                  <a:pt x="0" y="42329"/>
                  <a:pt x="0" y="42329"/>
                  <a:pt x="0" y="42329"/>
                </a:cubicBezTo>
                <a:cubicBezTo>
                  <a:pt x="0" y="39534"/>
                  <a:pt x="2790" y="36539"/>
                  <a:pt x="5581" y="36539"/>
                </a:cubicBezTo>
                <a:cubicBezTo>
                  <a:pt x="26710" y="36539"/>
                  <a:pt x="26710" y="36539"/>
                  <a:pt x="26710" y="36539"/>
                </a:cubicBezTo>
                <a:lnTo>
                  <a:pt x="26710" y="36539"/>
                </a:lnTo>
                <a:lnTo>
                  <a:pt x="57807" y="36539"/>
                </a:lnTo>
                <a:close/>
                <a:moveTo>
                  <a:pt x="11362" y="47920"/>
                </a:moveTo>
                <a:lnTo>
                  <a:pt x="11362" y="47920"/>
                </a:lnTo>
                <a:cubicBezTo>
                  <a:pt x="11362" y="108618"/>
                  <a:pt x="11362" y="108618"/>
                  <a:pt x="11362" y="108618"/>
                </a:cubicBezTo>
                <a:cubicBezTo>
                  <a:pt x="71960" y="108618"/>
                  <a:pt x="71960" y="108618"/>
                  <a:pt x="71960" y="108618"/>
                </a:cubicBezTo>
                <a:cubicBezTo>
                  <a:pt x="71960" y="47920"/>
                  <a:pt x="71960" y="47920"/>
                  <a:pt x="71960" y="47920"/>
                </a:cubicBezTo>
                <a:cubicBezTo>
                  <a:pt x="52026" y="47920"/>
                  <a:pt x="52026" y="47920"/>
                  <a:pt x="52026" y="47920"/>
                </a:cubicBezTo>
                <a:lnTo>
                  <a:pt x="52026" y="47920"/>
                </a:lnTo>
                <a:cubicBezTo>
                  <a:pt x="28106" y="47920"/>
                  <a:pt x="28106" y="47920"/>
                  <a:pt x="28106" y="47920"/>
                </a:cubicBezTo>
                <a:lnTo>
                  <a:pt x="28106" y="47920"/>
                </a:lnTo>
                <a:lnTo>
                  <a:pt x="11362" y="4792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1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2042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9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2050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151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Rectangle 15"/>
          <p:cNvSpPr/>
          <p:nvPr/>
        </p:nvSpPr>
        <p:spPr>
          <a:xfrm>
            <a:off x="0" y="0"/>
            <a:ext cx="2638440" cy="34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4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375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0" name="Rectangle 11"/>
          <p:cNvSpPr/>
          <p:nvPr/>
        </p:nvSpPr>
        <p:spPr>
          <a:xfrm>
            <a:off x="6378480" y="1353960"/>
            <a:ext cx="2090880" cy="87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Text Placeholder 6"/>
          <p:cNvSpPr/>
          <p:nvPr/>
        </p:nvSpPr>
        <p:spPr>
          <a:xfrm>
            <a:off x="6576840" y="4319640"/>
            <a:ext cx="4430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TextBox 13"/>
          <p:cNvSpPr/>
          <p:nvPr/>
        </p:nvSpPr>
        <p:spPr>
          <a:xfrm>
            <a:off x="6576840" y="1430280"/>
            <a:ext cx="4021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OUR</a:t>
            </a: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BUSINESSNOW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14"/>
          <p:cNvSpPr/>
          <p:nvPr/>
        </p:nvSpPr>
        <p:spPr>
          <a:xfrm>
            <a:off x="6576840" y="384984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Rectangle 16"/>
          <p:cNvSpPr/>
          <p:nvPr/>
        </p:nvSpPr>
        <p:spPr>
          <a:xfrm>
            <a:off x="22320" y="5905440"/>
            <a:ext cx="5464080" cy="495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7"/>
          <p:cNvSpPr/>
          <p:nvPr/>
        </p:nvSpPr>
        <p:spPr>
          <a:xfrm>
            <a:off x="312840" y="5999040"/>
            <a:ext cx="50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1"/>
          <a:stretch/>
        </p:blipFill>
        <p:spPr>
          <a:xfrm>
            <a:off x="797040" y="1873080"/>
            <a:ext cx="4689360" cy="3111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7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388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3" name="Rectangle 9"/>
          <p:cNvSpPr/>
          <p:nvPr/>
        </p:nvSpPr>
        <p:spPr>
          <a:xfrm>
            <a:off x="6259680" y="1593720"/>
            <a:ext cx="2089080" cy="87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Text Placeholder 6"/>
          <p:cNvSpPr/>
          <p:nvPr/>
        </p:nvSpPr>
        <p:spPr>
          <a:xfrm>
            <a:off x="6458040" y="4559400"/>
            <a:ext cx="4430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TextBox 11"/>
          <p:cNvSpPr/>
          <p:nvPr/>
        </p:nvSpPr>
        <p:spPr>
          <a:xfrm>
            <a:off x="6458040" y="1670040"/>
            <a:ext cx="469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OUR</a:t>
            </a: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SECRETARY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TextBox 12"/>
          <p:cNvSpPr/>
          <p:nvPr/>
        </p:nvSpPr>
        <p:spPr>
          <a:xfrm>
            <a:off x="6458040" y="4089240"/>
            <a:ext cx="428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Rectangle 13"/>
          <p:cNvSpPr/>
          <p:nvPr/>
        </p:nvSpPr>
        <p:spPr>
          <a:xfrm>
            <a:off x="326880" y="4213080"/>
            <a:ext cx="2862360" cy="87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TextBox 14"/>
          <p:cNvSpPr/>
          <p:nvPr/>
        </p:nvSpPr>
        <p:spPr>
          <a:xfrm>
            <a:off x="438120" y="4270320"/>
            <a:ext cx="26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MELI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TextBox 15"/>
          <p:cNvSpPr/>
          <p:nvPr/>
        </p:nvSpPr>
        <p:spPr>
          <a:xfrm>
            <a:off x="438120" y="4775040"/>
            <a:ext cx="275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ontserrat"/>
                <a:ea typeface="Fashion Script Personal Use"/>
              </a:rPr>
              <a:t>SECRETARY DEFINIS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0" name="" descr=""/>
          <p:cNvPicPr/>
          <p:nvPr/>
        </p:nvPicPr>
        <p:blipFill>
          <a:blip r:embed="rId1"/>
          <a:stretch/>
        </p:blipFill>
        <p:spPr>
          <a:xfrm>
            <a:off x="240336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1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402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7" name="Rectangle 9"/>
          <p:cNvSpPr/>
          <p:nvPr/>
        </p:nvSpPr>
        <p:spPr>
          <a:xfrm>
            <a:off x="861840" y="1450800"/>
            <a:ext cx="2090880" cy="87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Text Placeholder 6"/>
          <p:cNvSpPr/>
          <p:nvPr/>
        </p:nvSpPr>
        <p:spPr>
          <a:xfrm>
            <a:off x="1060560" y="4416480"/>
            <a:ext cx="4430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TextBox 11"/>
          <p:cNvSpPr/>
          <p:nvPr/>
        </p:nvSpPr>
        <p:spPr>
          <a:xfrm>
            <a:off x="1060560" y="1527120"/>
            <a:ext cx="443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OUR</a:t>
            </a: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MANAG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OFFI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12"/>
          <p:cNvSpPr/>
          <p:nvPr/>
        </p:nvSpPr>
        <p:spPr>
          <a:xfrm>
            <a:off x="1060560" y="3946680"/>
            <a:ext cx="42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Rectangle 13"/>
          <p:cNvSpPr/>
          <p:nvPr/>
        </p:nvSpPr>
        <p:spPr>
          <a:xfrm>
            <a:off x="22320" y="5905440"/>
            <a:ext cx="5464080" cy="495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TextBox 14"/>
          <p:cNvSpPr/>
          <p:nvPr/>
        </p:nvSpPr>
        <p:spPr>
          <a:xfrm>
            <a:off x="312840" y="5999040"/>
            <a:ext cx="50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6607080" y="1909800"/>
            <a:ext cx="380520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4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415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0" name="Rectangle 9"/>
          <p:cNvSpPr/>
          <p:nvPr/>
        </p:nvSpPr>
        <p:spPr>
          <a:xfrm>
            <a:off x="487440" y="439560"/>
            <a:ext cx="2090520" cy="87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Text Placeholder 6"/>
          <p:cNvSpPr/>
          <p:nvPr/>
        </p:nvSpPr>
        <p:spPr>
          <a:xfrm>
            <a:off x="6851520" y="1319040"/>
            <a:ext cx="36324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TextBox 11"/>
          <p:cNvSpPr/>
          <p:nvPr/>
        </p:nvSpPr>
        <p:spPr>
          <a:xfrm>
            <a:off x="685800" y="515880"/>
            <a:ext cx="469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OUR</a:t>
            </a: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SECRETARYABOU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TextBox 12"/>
          <p:cNvSpPr/>
          <p:nvPr/>
        </p:nvSpPr>
        <p:spPr>
          <a:xfrm>
            <a:off x="685800" y="2935440"/>
            <a:ext cx="42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 Placeholder 6"/>
          <p:cNvSpPr/>
          <p:nvPr/>
        </p:nvSpPr>
        <p:spPr>
          <a:xfrm>
            <a:off x="6851520" y="3097080"/>
            <a:ext cx="3632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Straight Connector 15"/>
          <p:cNvSpPr/>
          <p:nvPr/>
        </p:nvSpPr>
        <p:spPr>
          <a:xfrm>
            <a:off x="6932520" y="2738520"/>
            <a:ext cx="35067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 Placeholder 6"/>
          <p:cNvSpPr/>
          <p:nvPr/>
        </p:nvSpPr>
        <p:spPr>
          <a:xfrm>
            <a:off x="6931080" y="5062680"/>
            <a:ext cx="3633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Straight Connector 17"/>
          <p:cNvSpPr/>
          <p:nvPr/>
        </p:nvSpPr>
        <p:spPr>
          <a:xfrm>
            <a:off x="7012080" y="4705200"/>
            <a:ext cx="35082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1"/>
          <a:stretch/>
        </p:blipFill>
        <p:spPr>
          <a:xfrm>
            <a:off x="0" y="3420720"/>
            <a:ext cx="6135840" cy="343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9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430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5" name="Rectangle 9"/>
          <p:cNvSpPr/>
          <p:nvPr/>
        </p:nvSpPr>
        <p:spPr>
          <a:xfrm>
            <a:off x="638280" y="1646280"/>
            <a:ext cx="2089080" cy="877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 Placeholder 6"/>
          <p:cNvSpPr/>
          <p:nvPr/>
        </p:nvSpPr>
        <p:spPr>
          <a:xfrm>
            <a:off x="836640" y="4611600"/>
            <a:ext cx="44305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TextBox 11"/>
          <p:cNvSpPr/>
          <p:nvPr/>
        </p:nvSpPr>
        <p:spPr>
          <a:xfrm>
            <a:off x="836640" y="1720800"/>
            <a:ext cx="443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OUR</a:t>
            </a: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ANALY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DAT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TextBox 12"/>
          <p:cNvSpPr/>
          <p:nvPr/>
        </p:nvSpPr>
        <p:spPr>
          <a:xfrm>
            <a:off x="836640" y="4141800"/>
            <a:ext cx="428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9" name="" descr=""/>
          <p:cNvPicPr/>
          <p:nvPr/>
        </p:nvPicPr>
        <p:blipFill>
          <a:blip r:embed="rId1"/>
          <a:stretch/>
        </p:blipFill>
        <p:spPr>
          <a:xfrm>
            <a:off x="5751360" y="0"/>
            <a:ext cx="4454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18"/>
          <p:cNvSpPr/>
          <p:nvPr/>
        </p:nvSpPr>
        <p:spPr>
          <a:xfrm>
            <a:off x="0" y="0"/>
            <a:ext cx="2338560" cy="34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1" name="Group 2"/>
          <p:cNvGrpSpPr/>
          <p:nvPr/>
        </p:nvGrpSpPr>
        <p:grpSpPr>
          <a:xfrm>
            <a:off x="11391840" y="0"/>
            <a:ext cx="800280" cy="6858000"/>
            <a:chOff x="11391840" y="0"/>
            <a:chExt cx="800280" cy="6858000"/>
          </a:xfrm>
        </p:grpSpPr>
        <p:sp>
          <p:nvSpPr>
            <p:cNvPr id="1442" name="Rectangle 3"/>
            <p:cNvSpPr/>
            <p:nvPr/>
          </p:nvSpPr>
          <p:spPr>
            <a:xfrm>
              <a:off x="11391840" y="0"/>
              <a:ext cx="80028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Rectangle 4"/>
            <p:cNvSpPr/>
            <p:nvPr/>
          </p:nvSpPr>
          <p:spPr>
            <a:xfrm>
              <a:off x="11391840" y="6116040"/>
              <a:ext cx="800280" cy="7419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Shape 4749"/>
            <p:cNvSpPr/>
            <p:nvPr/>
          </p:nvSpPr>
          <p:spPr>
            <a:xfrm>
              <a:off x="11646720" y="6400440"/>
              <a:ext cx="290160" cy="1735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14019" y="68144"/>
                  </a:moveTo>
                  <a:lnTo>
                    <a:pt x="114019" y="68144"/>
                  </a:lnTo>
                  <a:cubicBezTo>
                    <a:pt x="5581" y="68144"/>
                    <a:pt x="5581" y="68144"/>
                    <a:pt x="5581" y="68144"/>
                  </a:cubicBezTo>
                  <a:cubicBezTo>
                    <a:pt x="2790" y="68144"/>
                    <a:pt x="0" y="65817"/>
                    <a:pt x="0" y="58504"/>
                  </a:cubicBezTo>
                  <a:cubicBezTo>
                    <a:pt x="0" y="53850"/>
                    <a:pt x="2790" y="49196"/>
                    <a:pt x="5581" y="49196"/>
                  </a:cubicBezTo>
                  <a:cubicBezTo>
                    <a:pt x="114019" y="49196"/>
                    <a:pt x="114019" y="49196"/>
                    <a:pt x="114019" y="49196"/>
                  </a:cubicBezTo>
                  <a:cubicBezTo>
                    <a:pt x="118405" y="49196"/>
                    <a:pt x="119800" y="53850"/>
                    <a:pt x="119800" y="58504"/>
                  </a:cubicBezTo>
                  <a:cubicBezTo>
                    <a:pt x="119800" y="65817"/>
                    <a:pt x="118405" y="68144"/>
                    <a:pt x="114019" y="68144"/>
                  </a:cubicBezTo>
                  <a:close/>
                  <a:moveTo>
                    <a:pt x="114019" y="18614"/>
                  </a:moveTo>
                  <a:lnTo>
                    <a:pt x="114019" y="18614"/>
                  </a:lnTo>
                  <a:cubicBezTo>
                    <a:pt x="5581" y="18614"/>
                    <a:pt x="5581" y="18614"/>
                    <a:pt x="5581" y="18614"/>
                  </a:cubicBezTo>
                  <a:cubicBezTo>
                    <a:pt x="2790" y="18614"/>
                    <a:pt x="0" y="13961"/>
                    <a:pt x="0" y="9307"/>
                  </a:cubicBezTo>
                  <a:cubicBezTo>
                    <a:pt x="0" y="4653"/>
                    <a:pt x="2790" y="0"/>
                    <a:pt x="5581" y="0"/>
                  </a:cubicBezTo>
                  <a:cubicBezTo>
                    <a:pt x="114019" y="0"/>
                    <a:pt x="114019" y="0"/>
                    <a:pt x="114019" y="0"/>
                  </a:cubicBezTo>
                  <a:cubicBezTo>
                    <a:pt x="118405" y="0"/>
                    <a:pt x="119800" y="4653"/>
                    <a:pt x="119800" y="9307"/>
                  </a:cubicBezTo>
                  <a:cubicBezTo>
                    <a:pt x="119800" y="13961"/>
                    <a:pt x="118405" y="18614"/>
                    <a:pt x="114019" y="18614"/>
                  </a:cubicBezTo>
                  <a:close/>
                  <a:moveTo>
                    <a:pt x="5581" y="101052"/>
                  </a:moveTo>
                  <a:lnTo>
                    <a:pt x="5581" y="101052"/>
                  </a:lnTo>
                  <a:cubicBezTo>
                    <a:pt x="114019" y="101052"/>
                    <a:pt x="114019" y="101052"/>
                    <a:pt x="114019" y="101052"/>
                  </a:cubicBezTo>
                  <a:cubicBezTo>
                    <a:pt x="118405" y="101052"/>
                    <a:pt x="119800" y="103379"/>
                    <a:pt x="119800" y="110360"/>
                  </a:cubicBezTo>
                  <a:cubicBezTo>
                    <a:pt x="119800" y="115013"/>
                    <a:pt x="118405" y="119667"/>
                    <a:pt x="114019" y="119667"/>
                  </a:cubicBezTo>
                  <a:cubicBezTo>
                    <a:pt x="5581" y="119667"/>
                    <a:pt x="5581" y="119667"/>
                    <a:pt x="5581" y="119667"/>
                  </a:cubicBezTo>
                  <a:cubicBezTo>
                    <a:pt x="2790" y="119667"/>
                    <a:pt x="0" y="115013"/>
                    <a:pt x="0" y="110360"/>
                  </a:cubicBezTo>
                  <a:cubicBezTo>
                    <a:pt x="0" y="103379"/>
                    <a:pt x="2790" y="101052"/>
                    <a:pt x="5581" y="1010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Text Placeholder 6"/>
            <p:cNvSpPr/>
            <p:nvPr/>
          </p:nvSpPr>
          <p:spPr>
            <a:xfrm rot="16200000">
              <a:off x="11074680" y="3175920"/>
              <a:ext cx="15843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Text Placeholder 6"/>
            <p:cNvSpPr/>
            <p:nvPr/>
          </p:nvSpPr>
          <p:spPr>
            <a:xfrm>
              <a:off x="11469240" y="249480"/>
              <a:ext cx="636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Open Sans"/>
                  <a:ea typeface="Open San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7" name="Rectangle 9"/>
          <p:cNvSpPr/>
          <p:nvPr/>
        </p:nvSpPr>
        <p:spPr>
          <a:xfrm>
            <a:off x="6300720" y="1076400"/>
            <a:ext cx="2254320" cy="77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 Placeholder 6"/>
          <p:cNvSpPr/>
          <p:nvPr/>
        </p:nvSpPr>
        <p:spPr>
          <a:xfrm>
            <a:off x="6318360" y="3860640"/>
            <a:ext cx="44305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 is an association or collection of individuals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Box 11"/>
          <p:cNvSpPr/>
          <p:nvPr/>
        </p:nvSpPr>
        <p:spPr>
          <a:xfrm>
            <a:off x="6318360" y="1076400"/>
            <a:ext cx="495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Fashion Script Personal Use"/>
              </a:rPr>
              <a:t>TEAM</a:t>
            </a:r>
            <a:r>
              <a:rPr b="0" lang="en-US" sz="44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rial Black"/>
                <a:ea typeface="Fashion Script Personal Use"/>
              </a:rPr>
              <a:t>DISCUSSION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Box 12"/>
          <p:cNvSpPr/>
          <p:nvPr/>
        </p:nvSpPr>
        <p:spPr>
          <a:xfrm>
            <a:off x="6318360" y="3301920"/>
            <a:ext cx="428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Straight Connector 14"/>
          <p:cNvSpPr/>
          <p:nvPr/>
        </p:nvSpPr>
        <p:spPr>
          <a:xfrm>
            <a:off x="973080" y="5456160"/>
            <a:ext cx="48276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TextBox 15"/>
          <p:cNvSpPr/>
          <p:nvPr/>
        </p:nvSpPr>
        <p:spPr>
          <a:xfrm>
            <a:off x="973080" y="5045040"/>
            <a:ext cx="50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62626"/>
                </a:solidFill>
                <a:latin typeface="Montserrat"/>
                <a:ea typeface="Fashion Script Personal Use"/>
              </a:rPr>
              <a:t>BUSINESS PRESENTATION TEMPL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 Placeholder 6"/>
          <p:cNvSpPr/>
          <p:nvPr/>
        </p:nvSpPr>
        <p:spPr>
          <a:xfrm>
            <a:off x="973080" y="5638680"/>
            <a:ext cx="48276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Montserrat"/>
                <a:ea typeface="Open Sans"/>
              </a:rPr>
              <a:t>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1017720" y="1076400"/>
            <a:ext cx="3730320" cy="2595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19:56Z</dcterms:created>
  <dc:creator>user</dc:creator>
  <dc:description/>
  <dc:language>en-US</dc:language>
  <cp:lastModifiedBy>user</cp:lastModifiedBy>
  <dcterms:modified xsi:type="dcterms:W3CDTF">2020-05-04T17:07:41Z</dcterms:modified>
  <cp:revision>23</cp:revision>
  <dc:subject/>
  <dc:title>PowerPoint Presentation</dc:title>
</cp:coreProperties>
</file>