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8.xml" ContentType="application/vnd.openxmlformats-officedocument.presentationml.slideLayout+xml"/>
  <Override PartName="/ppt/slideLayouts/slideLayout2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176.xml" ContentType="application/vnd.openxmlformats-officedocument.presentationml.slideLayout+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388.xml.rels" ContentType="application/vnd.openxmlformats-package.relationships+xml"/>
  <Override PartName="/ppt/slideLayouts/_rels/slideLayout6.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xml.rels" ContentType="application/vnd.openxmlformats-package.relationships+xml"/>
  <Override PartName="/ppt/slideLayouts/_rels/slideLayout389.xml.rels" ContentType="application/vnd.openxmlformats-package.relationships+xml"/>
  <Override PartName="/ppt/slideLayouts/_rels/slideLayout15.xml.rels" ContentType="application/vnd.openxmlformats-package.relationships+xml"/>
  <Override PartName="/ppt/slideLayouts/_rels/slideLayout390.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0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9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1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91.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90.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Lst>
  <p:sldIdLst>
    <p:sldId id="256" r:id="rId36"/>
    <p:sldId id="257" r:id="rId37"/>
    <p:sldId id="258" r:id="rId38"/>
    <p:sldId id="259" r:id="rId39"/>
    <p:sldId id="260" r:id="rId40"/>
    <p:sldId id="261" r:id="rId41"/>
    <p:sldId id="262" r:id="rId42"/>
    <p:sldId id="263" r:id="rId43"/>
    <p:sldId id="264" r:id="rId44"/>
    <p:sldId id="265" r:id="rId45"/>
    <p:sldId id="266" r:id="rId46"/>
    <p:sldId id="267" r:id="rId47"/>
    <p:sldId id="268" r:id="rId48"/>
    <p:sldId id="269" r:id="rId49"/>
    <p:sldId id="270" r:id="rId50"/>
    <p:sldId id="271" r:id="rId51"/>
    <p:sldId id="272" r:id="rId52"/>
    <p:sldId id="273" r:id="rId53"/>
    <p:sldId id="274" r:id="rId54"/>
    <p:sldId id="275" r:id="rId55"/>
    <p:sldId id="276" r:id="rId56"/>
    <p:sldId id="277" r:id="rId57"/>
    <p:sldId id="278" r:id="rId58"/>
    <p:sldId id="279" r:id="rId59"/>
    <p:sldId id="280" r:id="rId60"/>
    <p:sldId id="281" r:id="rId61"/>
    <p:sldId id="282" r:id="rId62"/>
    <p:sldId id="283" r:id="rId63"/>
    <p:sldId id="284" r:id="rId64"/>
    <p:sldId id="285" r:id="rId6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 Target="slides/slide1.xml"/><Relationship Id="rId37" Type="http://schemas.openxmlformats.org/officeDocument/2006/relationships/slide" Target="slides/slide2.xml"/><Relationship Id="rId38" Type="http://schemas.openxmlformats.org/officeDocument/2006/relationships/slide" Target="slides/slide3.xml"/><Relationship Id="rId39" Type="http://schemas.openxmlformats.org/officeDocument/2006/relationships/slide" Target="slides/slide4.xml"/><Relationship Id="rId40" Type="http://schemas.openxmlformats.org/officeDocument/2006/relationships/slide" Target="slides/slide5.xml"/><Relationship Id="rId41" Type="http://schemas.openxmlformats.org/officeDocument/2006/relationships/slide" Target="slides/slide6.xml"/><Relationship Id="rId42" Type="http://schemas.openxmlformats.org/officeDocument/2006/relationships/slide" Target="slides/slide7.xml"/><Relationship Id="rId43" Type="http://schemas.openxmlformats.org/officeDocument/2006/relationships/slide" Target="slides/slide8.xml"/><Relationship Id="rId44" Type="http://schemas.openxmlformats.org/officeDocument/2006/relationships/slide" Target="slides/slide9.xml"/><Relationship Id="rId45" Type="http://schemas.openxmlformats.org/officeDocument/2006/relationships/slide" Target="slides/slide10.xml"/><Relationship Id="rId46" Type="http://schemas.openxmlformats.org/officeDocument/2006/relationships/slide" Target="slides/slide11.xml"/><Relationship Id="rId47" Type="http://schemas.openxmlformats.org/officeDocument/2006/relationships/slide" Target="slides/slide12.xml"/><Relationship Id="rId48" Type="http://schemas.openxmlformats.org/officeDocument/2006/relationships/slide" Target="slides/slide13.xml"/><Relationship Id="rId49" Type="http://schemas.openxmlformats.org/officeDocument/2006/relationships/slide" Target="slides/slide14.xml"/><Relationship Id="rId50" Type="http://schemas.openxmlformats.org/officeDocument/2006/relationships/slide" Target="slides/slide15.xml"/><Relationship Id="rId51" Type="http://schemas.openxmlformats.org/officeDocument/2006/relationships/slide" Target="slides/slide16.xml"/><Relationship Id="rId52" Type="http://schemas.openxmlformats.org/officeDocument/2006/relationships/slide" Target="slides/slide17.xml"/><Relationship Id="rId53" Type="http://schemas.openxmlformats.org/officeDocument/2006/relationships/slide" Target="slides/slide18.xml"/><Relationship Id="rId54" Type="http://schemas.openxmlformats.org/officeDocument/2006/relationships/slide" Target="slides/slide19.xml"/><Relationship Id="rId55" Type="http://schemas.openxmlformats.org/officeDocument/2006/relationships/slide" Target="slides/slide20.xml"/><Relationship Id="rId56" Type="http://schemas.openxmlformats.org/officeDocument/2006/relationships/slide" Target="slides/slide21.xml"/><Relationship Id="rId57" Type="http://schemas.openxmlformats.org/officeDocument/2006/relationships/slide" Target="slides/slide22.xml"/><Relationship Id="rId58" Type="http://schemas.openxmlformats.org/officeDocument/2006/relationships/slide" Target="slides/slide23.xml"/><Relationship Id="rId59" Type="http://schemas.openxmlformats.org/officeDocument/2006/relationships/slide" Target="slides/slide24.xml"/><Relationship Id="rId60" Type="http://schemas.openxmlformats.org/officeDocument/2006/relationships/slide" Target="slides/slide25.xml"/><Relationship Id="rId61" Type="http://schemas.openxmlformats.org/officeDocument/2006/relationships/slide" Target="slides/slide26.xml"/><Relationship Id="rId62" Type="http://schemas.openxmlformats.org/officeDocument/2006/relationships/slide" Target="slides/slide27.xml"/><Relationship Id="rId63" Type="http://schemas.openxmlformats.org/officeDocument/2006/relationships/slide" Target="slides/slide28.xml"/><Relationship Id="rId64" Type="http://schemas.openxmlformats.org/officeDocument/2006/relationships/slide" Target="slides/slide29.xml"/><Relationship Id="rId65" Type="http://schemas.openxmlformats.org/officeDocument/2006/relationships/slide" Target="slides/slide30.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2FF33-6578-4FC2-9C6F-64B7239CD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7048C-E006-4C50-9252-EFD40D8C7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1C8F5-DADC-4F75-ABCF-D628B4FAF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004BC-0804-49FB-9802-07A916052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C11E9-0208-4228-B070-CDB414E42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3E768-8208-41A9-A7D7-05184DDEF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62C7D-7A69-4D2C-A572-454F34C20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C6864-CF96-45B9-8FD0-598FF5472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71DEA-4019-448B-AE02-FFB29E516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5B92B-8E56-44A2-96DF-A21A41414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8CD83-3B98-4D8C-9E76-9C4AB46A2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D2DD1-3B64-4001-9772-989E6597F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5C06-9ED4-48D2-96E0-A9D513E604F0}" type="slidenum">
              <a:rPr b="0" lang="en-US" sz="1200" spc="-1" strike="noStrike">
                <a:solidFill>
                  <a:srgbClr val="898989"/>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Rectangle: Rounded Corners 4"/>
          <p:cNvSpPr/>
          <p:nvPr/>
        </p:nvSpPr>
        <p:spPr>
          <a:xfrm>
            <a:off x="8175600" y="2330280"/>
            <a:ext cx="2438280" cy="2035440"/>
          </a:xfrm>
          <a:prstGeom prst="roundRect">
            <a:avLst>
              <a:gd name="adj" fmla="val 5199"/>
            </a:avLst>
          </a:prstGeom>
          <a:solidFill>
            <a:srgbClr val="eafff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Rectangle: Rounded Corners 5"/>
          <p:cNvSpPr/>
          <p:nvPr/>
        </p:nvSpPr>
        <p:spPr>
          <a:xfrm>
            <a:off x="4876920" y="2330280"/>
            <a:ext cx="2438280" cy="2035440"/>
          </a:xfrm>
          <a:prstGeom prst="roundRect">
            <a:avLst>
              <a:gd name="adj" fmla="val 5509"/>
            </a:avLst>
          </a:prstGeom>
          <a:solidFill>
            <a:srgbClr val="eafff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Rectangle: Rounded Corners 6"/>
          <p:cNvSpPr/>
          <p:nvPr/>
        </p:nvSpPr>
        <p:spPr>
          <a:xfrm>
            <a:off x="1577880" y="2330280"/>
            <a:ext cx="2438640" cy="2035440"/>
          </a:xfrm>
          <a:prstGeom prst="roundRect">
            <a:avLst>
              <a:gd name="adj" fmla="val 5352"/>
            </a:avLst>
          </a:prstGeom>
          <a:solidFill>
            <a:srgbClr val="eafff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0" name="Group 6"/>
          <p:cNvGrpSpPr/>
          <p:nvPr/>
        </p:nvGrpSpPr>
        <p:grpSpPr>
          <a:xfrm>
            <a:off x="-167760" y="-1783800"/>
            <a:ext cx="12527640" cy="10432440"/>
            <a:chOff x="-167760" y="-1783800"/>
            <a:chExt cx="12527640" cy="10432440"/>
          </a:xfrm>
        </p:grpSpPr>
        <p:grpSp>
          <p:nvGrpSpPr>
            <p:cNvPr id="541" name="Group 7"/>
            <p:cNvGrpSpPr/>
            <p:nvPr/>
          </p:nvGrpSpPr>
          <p:grpSpPr>
            <a:xfrm>
              <a:off x="-167760" y="3962880"/>
              <a:ext cx="9721800" cy="4685760"/>
              <a:chOff x="-167760" y="3962880"/>
              <a:chExt cx="9721800" cy="4685760"/>
            </a:xfrm>
          </p:grpSpPr>
          <p:sp>
            <p:nvSpPr>
              <p:cNvPr id="542" name="Freeform: Shape 10"/>
              <p:cNvSpPr/>
              <p:nvPr/>
            </p:nvSpPr>
            <p:spPr>
              <a:xfrm flipH="1" flipV="1" rot="20938200">
                <a:off x="28440" y="4827240"/>
                <a:ext cx="9328680" cy="2955600"/>
              </a:xfrm>
              <a:custGeom>
                <a:avLst/>
                <a:gdLst/>
                <a:ahLst/>
                <a:rect l="l" t="t" r="r" b="b"/>
                <a:pathLst>
                  <a:path w="9328215" h="2954913">
                    <a:moveTo>
                      <a:pt x="9328215" y="1816883"/>
                    </a:moveTo>
                    <a:lnTo>
                      <a:pt x="0" y="0"/>
                    </a:lnTo>
                    <a:lnTo>
                      <a:pt x="124960" y="150941"/>
                    </a:lnTo>
                    <a:cubicBezTo>
                      <a:pt x="913888" y="1064327"/>
                      <a:pt x="1973800" y="1863911"/>
                      <a:pt x="3396704" y="2465499"/>
                    </a:cubicBezTo>
                    <a:cubicBezTo>
                      <a:pt x="5466385" y="3340536"/>
                      <a:pt x="7675698" y="2983695"/>
                      <a:pt x="9271399" y="1859645"/>
                    </a:cubicBezTo>
                    <a:lnTo>
                      <a:pt x="9328215" y="1816883"/>
                    </a:lnTo>
                    <a:close/>
                  </a:path>
                </a:pathLst>
              </a:custGeom>
              <a:solidFill>
                <a:srgbClr val="eafff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3" name="Freeform: Shape 11"/>
              <p:cNvSpPr/>
              <p:nvPr/>
            </p:nvSpPr>
            <p:spPr>
              <a:xfrm flipV="1">
                <a:off x="0" y="4578480"/>
                <a:ext cx="4657320" cy="2286000"/>
              </a:xfrm>
              <a:custGeom>
                <a:avLst/>
                <a:gdLst/>
                <a:ahLst/>
                <a:rect l="l" t="t" r="r" b="b"/>
                <a:pathLst>
                  <a:path w="4657196" h="2285703">
                    <a:moveTo>
                      <a:pt x="0" y="0"/>
                    </a:moveTo>
                    <a:lnTo>
                      <a:pt x="4657196" y="0"/>
                    </a:lnTo>
                    <a:lnTo>
                      <a:pt x="4656605" y="52031"/>
                    </a:lnTo>
                    <a:cubicBezTo>
                      <a:pt x="4576256" y="1688790"/>
                      <a:pt x="2734303" y="2765480"/>
                      <a:pt x="1093046" y="2071576"/>
                    </a:cubicBezTo>
                    <a:cubicBezTo>
                      <a:pt x="753476" y="1928009"/>
                      <a:pt x="461156" y="1758670"/>
                      <a:pt x="209555" y="1569535"/>
                    </a:cubicBezTo>
                    <a:lnTo>
                      <a:pt x="0" y="1397585"/>
                    </a:lnTo>
                    <a:lnTo>
                      <a:pt x="0" y="0"/>
                    </a:lnTo>
                    <a:close/>
                  </a:path>
                </a:pathLst>
              </a:custGeom>
              <a:solidFill>
                <a:srgbClr val="7c8f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544" name="Group 8"/>
            <p:cNvGrpSpPr/>
            <p:nvPr/>
          </p:nvGrpSpPr>
          <p:grpSpPr>
            <a:xfrm>
              <a:off x="2638080" y="-1783800"/>
              <a:ext cx="9721800" cy="4685760"/>
              <a:chOff x="2638080" y="-1783800"/>
              <a:chExt cx="9721800" cy="4685760"/>
            </a:xfrm>
          </p:grpSpPr>
          <p:sp>
            <p:nvSpPr>
              <p:cNvPr id="545" name="Freeform: Shape 8"/>
              <p:cNvSpPr/>
              <p:nvPr/>
            </p:nvSpPr>
            <p:spPr>
              <a:xfrm flipH="1" flipV="1" rot="10138200">
                <a:off x="2833920" y="-918720"/>
                <a:ext cx="9328680" cy="2955600"/>
              </a:xfrm>
              <a:custGeom>
                <a:avLst/>
                <a:gdLst/>
                <a:ahLst/>
                <a:rect l="l" t="t" r="r" b="b"/>
                <a:pathLst>
                  <a:path w="9328215" h="2954913">
                    <a:moveTo>
                      <a:pt x="9328215" y="1816883"/>
                    </a:moveTo>
                    <a:lnTo>
                      <a:pt x="0" y="0"/>
                    </a:lnTo>
                    <a:lnTo>
                      <a:pt x="124960" y="150941"/>
                    </a:lnTo>
                    <a:cubicBezTo>
                      <a:pt x="913888" y="1064327"/>
                      <a:pt x="1973800" y="1863911"/>
                      <a:pt x="3396704" y="2465499"/>
                    </a:cubicBezTo>
                    <a:cubicBezTo>
                      <a:pt x="5466385" y="3340536"/>
                      <a:pt x="7675698" y="2983695"/>
                      <a:pt x="9271399" y="1859645"/>
                    </a:cubicBezTo>
                    <a:lnTo>
                      <a:pt x="9328215" y="1816883"/>
                    </a:lnTo>
                    <a:close/>
                  </a:path>
                </a:pathLst>
              </a:custGeom>
              <a:solidFill>
                <a:srgbClr val="eafff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6" name="Freeform: Shape 9"/>
              <p:cNvSpPr/>
              <p:nvPr/>
            </p:nvSpPr>
            <p:spPr>
              <a:xfrm flipV="1" rot="10800000">
                <a:off x="8420040" y="0"/>
                <a:ext cx="3772080" cy="1851480"/>
              </a:xfrm>
              <a:custGeom>
                <a:avLst/>
                <a:gdLst/>
                <a:ahLst/>
                <a:rect l="l" t="t" r="r" b="b"/>
                <a:pathLst>
                  <a:path w="4657196" h="2285703">
                    <a:moveTo>
                      <a:pt x="0" y="0"/>
                    </a:moveTo>
                    <a:lnTo>
                      <a:pt x="4657196" y="0"/>
                    </a:lnTo>
                    <a:lnTo>
                      <a:pt x="4656605" y="52031"/>
                    </a:lnTo>
                    <a:cubicBezTo>
                      <a:pt x="4576256" y="1688790"/>
                      <a:pt x="2734303" y="2765480"/>
                      <a:pt x="1093046" y="2071576"/>
                    </a:cubicBezTo>
                    <a:cubicBezTo>
                      <a:pt x="753476" y="1928009"/>
                      <a:pt x="461156" y="1758670"/>
                      <a:pt x="209555" y="1569535"/>
                    </a:cubicBezTo>
                    <a:lnTo>
                      <a:pt x="0" y="1397585"/>
                    </a:lnTo>
                    <a:lnTo>
                      <a:pt x="0" y="0"/>
                    </a:lnTo>
                    <a:close/>
                  </a:path>
                </a:pathLst>
              </a:custGeom>
              <a:solidFill>
                <a:srgbClr val="eefa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5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fffd"/>
        </a:solidFill>
      </p:bgPr>
    </p:bg>
    <p:spTree>
      <p:nvGrpSpPr>
        <p:cNvPr id="1" name=""/>
        <p:cNvGrpSpPr/>
        <p:nvPr/>
      </p:nvGrpSpPr>
      <p:grpSpPr>
        <a:xfrm>
          <a:off x="0" y="0"/>
          <a:ext cx="0" cy="0"/>
          <a:chOff x="0" y="0"/>
          <a:chExt cx="0" cy="0"/>
        </a:xfrm>
      </p:grpSpPr>
      <p:sp>
        <p:nvSpPr>
          <p:cNvPr id="623" name="Rectangle 6"/>
          <p:cNvSpPr/>
          <p:nvPr/>
        </p:nvSpPr>
        <p:spPr>
          <a:xfrm>
            <a:off x="6765840" y="1581120"/>
            <a:ext cx="2360520" cy="457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Rectangle 7"/>
          <p:cNvSpPr/>
          <p:nvPr/>
        </p:nvSpPr>
        <p:spPr>
          <a:xfrm>
            <a:off x="4273560" y="704880"/>
            <a:ext cx="2360520" cy="457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Rectangle 8"/>
          <p:cNvSpPr/>
          <p:nvPr/>
        </p:nvSpPr>
        <p:spPr>
          <a:xfrm>
            <a:off x="9259920" y="704880"/>
            <a:ext cx="2360520" cy="457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Rectangle 9"/>
          <p:cNvSpPr/>
          <p:nvPr/>
        </p:nvSpPr>
        <p:spPr>
          <a:xfrm>
            <a:off x="571680" y="704880"/>
            <a:ext cx="3568680" cy="544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fffd"/>
        </a:solidFill>
      </p:bgPr>
    </p:bg>
    <p:spTree>
      <p:nvGrpSpPr>
        <p:cNvPr id="1" name=""/>
        <p:cNvGrpSpPr/>
        <p:nvPr/>
      </p:nvGrpSpPr>
      <p:grpSpPr>
        <a:xfrm>
          <a:off x="0" y="0"/>
          <a:ext cx="0" cy="0"/>
          <a:chOff x="0" y="0"/>
          <a:chExt cx="0" cy="0"/>
        </a:xfrm>
      </p:grpSpPr>
      <p:sp>
        <p:nvSpPr>
          <p:cNvPr id="665" name="Rectangle 6"/>
          <p:cNvSpPr/>
          <p:nvPr/>
        </p:nvSpPr>
        <p:spPr>
          <a:xfrm>
            <a:off x="1055520" y="1000080"/>
            <a:ext cx="2360880" cy="485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Rectangle 7"/>
          <p:cNvSpPr/>
          <p:nvPr/>
        </p:nvSpPr>
        <p:spPr>
          <a:xfrm>
            <a:off x="3616200" y="1000080"/>
            <a:ext cx="2360880" cy="485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Rectangle 8"/>
          <p:cNvSpPr/>
          <p:nvPr/>
        </p:nvSpPr>
        <p:spPr>
          <a:xfrm>
            <a:off x="6178680" y="1000080"/>
            <a:ext cx="2360520" cy="485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8" name="Rectangle 9"/>
          <p:cNvSpPr/>
          <p:nvPr/>
        </p:nvSpPr>
        <p:spPr>
          <a:xfrm>
            <a:off x="8739360" y="1000080"/>
            <a:ext cx="2360520" cy="485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Freeform: Shape 6"/>
          <p:cNvSpPr/>
          <p:nvPr/>
        </p:nvSpPr>
        <p:spPr>
          <a:xfrm>
            <a:off x="0" y="4152960"/>
            <a:ext cx="1809720" cy="2705040"/>
          </a:xfrm>
          <a:custGeom>
            <a:avLst/>
            <a:gdLst/>
            <a:ahLst/>
            <a:rect l="l" t="t" r="r" b="b"/>
            <a:pathLst>
              <a:path w="1809004" h="2705512">
                <a:moveTo>
                  <a:pt x="1809005" y="2705512"/>
                </a:moveTo>
                <a:lnTo>
                  <a:pt x="0" y="2705512"/>
                </a:lnTo>
                <a:lnTo>
                  <a:pt x="0" y="0"/>
                </a:lnTo>
                <a:cubicBezTo>
                  <a:pt x="975309" y="264384"/>
                  <a:pt x="1723351" y="1359608"/>
                  <a:pt x="1809005" y="2705512"/>
                </a:cubicBezTo>
                <a:close/>
              </a:path>
            </a:pathLst>
          </a:custGeom>
          <a:solidFill>
            <a:srgbClr val="7c8f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46" name="Freeform: Shape 7"/>
          <p:cNvSpPr/>
          <p:nvPr/>
        </p:nvSpPr>
        <p:spPr>
          <a:xfrm>
            <a:off x="10039320" y="3240"/>
            <a:ext cx="2152800" cy="1957320"/>
          </a:xfrm>
          <a:custGeom>
            <a:avLst/>
            <a:gdLst/>
            <a:ahLst/>
            <a:rect l="l" t="t" r="r" b="b"/>
            <a:pathLst>
              <a:path w="2153332" h="1958041">
                <a:moveTo>
                  <a:pt x="2153332" y="0"/>
                </a:moveTo>
                <a:lnTo>
                  <a:pt x="2153332" y="1958042"/>
                </a:lnTo>
                <a:cubicBezTo>
                  <a:pt x="1429273" y="1751902"/>
                  <a:pt x="711496" y="1204290"/>
                  <a:pt x="216989" y="401430"/>
                </a:cubicBezTo>
                <a:cubicBezTo>
                  <a:pt x="135903" y="269523"/>
                  <a:pt x="63954" y="135904"/>
                  <a:pt x="0" y="571"/>
                </a:cubicBezTo>
                <a:lnTo>
                  <a:pt x="2153332" y="571"/>
                </a:lnTo>
                <a:lnTo>
                  <a:pt x="2153332" y="0"/>
                </a:lnTo>
                <a:close/>
              </a:path>
            </a:pathLst>
          </a:custGeom>
          <a:solidFill>
            <a:srgbClr val="eefa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747" name="Group 8"/>
          <p:cNvGrpSpPr/>
          <p:nvPr/>
        </p:nvGrpSpPr>
        <p:grpSpPr>
          <a:xfrm>
            <a:off x="6829560" y="5938920"/>
            <a:ext cx="3495600" cy="919080"/>
            <a:chOff x="6829560" y="5938920"/>
            <a:chExt cx="3495600" cy="919080"/>
          </a:xfrm>
        </p:grpSpPr>
        <p:sp>
          <p:nvSpPr>
            <p:cNvPr id="748" name="Freeform: Shape 10"/>
            <p:cNvSpPr/>
            <p:nvPr/>
          </p:nvSpPr>
          <p:spPr>
            <a:xfrm>
              <a:off x="7641720" y="5938920"/>
              <a:ext cx="2683440" cy="919080"/>
            </a:xfrm>
            <a:custGeom>
              <a:avLst/>
              <a:gdLst/>
              <a:ahLst/>
              <a:rect l="l" t="t" r="r" b="b"/>
              <a:pathLst>
                <a:path w="2201869" h="753751">
                  <a:moveTo>
                    <a:pt x="2201869" y="753752"/>
                  </a:moveTo>
                  <a:lnTo>
                    <a:pt x="0" y="753752"/>
                  </a:lnTo>
                  <a:cubicBezTo>
                    <a:pt x="170736" y="312350"/>
                    <a:pt x="599575" y="0"/>
                    <a:pt x="1100935" y="0"/>
                  </a:cubicBezTo>
                  <a:cubicBezTo>
                    <a:pt x="1602865" y="0"/>
                    <a:pt x="2031133" y="312350"/>
                    <a:pt x="2201869" y="753752"/>
                  </a:cubicBezTo>
                  <a:close/>
                </a:path>
              </a:pathLst>
            </a:custGeom>
            <a:solidFill>
              <a:srgbClr val="7c8f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49" name="Freeform: Shape 11"/>
            <p:cNvSpPr/>
            <p:nvPr/>
          </p:nvSpPr>
          <p:spPr>
            <a:xfrm>
              <a:off x="6829560" y="5986800"/>
              <a:ext cx="510840" cy="5112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eefa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50" name="Freeform: Shape 9"/>
          <p:cNvSpPr/>
          <p:nvPr/>
        </p:nvSpPr>
        <p:spPr>
          <a:xfrm>
            <a:off x="1055520" y="692280"/>
            <a:ext cx="465480" cy="46512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eefa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168120" y="-1784160"/>
            <a:ext cx="12527640" cy="10432800"/>
            <a:chOff x="-168120" y="-1784160"/>
            <a:chExt cx="12527640" cy="10432800"/>
          </a:xfrm>
        </p:grpSpPr>
        <p:grpSp>
          <p:nvGrpSpPr>
            <p:cNvPr id="42" name="Group 7"/>
            <p:cNvGrpSpPr/>
            <p:nvPr/>
          </p:nvGrpSpPr>
          <p:grpSpPr>
            <a:xfrm>
              <a:off x="2637720" y="-1784160"/>
              <a:ext cx="9721800" cy="4685760"/>
              <a:chOff x="2637720" y="-1784160"/>
              <a:chExt cx="9721800" cy="4685760"/>
            </a:xfrm>
          </p:grpSpPr>
          <p:sp>
            <p:nvSpPr>
              <p:cNvPr id="43" name="Freeform: Shape 10"/>
              <p:cNvSpPr/>
              <p:nvPr/>
            </p:nvSpPr>
            <p:spPr>
              <a:xfrm rot="20938200">
                <a:off x="2834280" y="-918720"/>
                <a:ext cx="9328680" cy="2955600"/>
              </a:xfrm>
              <a:custGeom>
                <a:avLst/>
                <a:gdLst/>
                <a:ahLst/>
                <a:rect l="l" t="t" r="r" b="b"/>
                <a:pathLst>
                  <a:path w="9328215" h="2954913">
                    <a:moveTo>
                      <a:pt x="9328215" y="1816883"/>
                    </a:moveTo>
                    <a:lnTo>
                      <a:pt x="0" y="0"/>
                    </a:lnTo>
                    <a:lnTo>
                      <a:pt x="124960" y="150941"/>
                    </a:lnTo>
                    <a:cubicBezTo>
                      <a:pt x="913888" y="1064327"/>
                      <a:pt x="1973800" y="1863911"/>
                      <a:pt x="3396704" y="2465499"/>
                    </a:cubicBezTo>
                    <a:cubicBezTo>
                      <a:pt x="5466385" y="3340536"/>
                      <a:pt x="7675698" y="2983695"/>
                      <a:pt x="9271399" y="1859645"/>
                    </a:cubicBezTo>
                    <a:lnTo>
                      <a:pt x="9328215" y="1816883"/>
                    </a:lnTo>
                    <a:close/>
                  </a:path>
                </a:pathLst>
              </a:custGeom>
              <a:solidFill>
                <a:srgbClr val="eafff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 name="Freeform: Shape 11"/>
              <p:cNvSpPr/>
              <p:nvPr/>
            </p:nvSpPr>
            <p:spPr>
              <a:xfrm flipH="1">
                <a:off x="7534080" y="0"/>
                <a:ext cx="4657320" cy="2286000"/>
              </a:xfrm>
              <a:custGeom>
                <a:avLst/>
                <a:gdLst/>
                <a:ahLst/>
                <a:rect l="l" t="t" r="r" b="b"/>
                <a:pathLst>
                  <a:path w="4657196" h="2285703">
                    <a:moveTo>
                      <a:pt x="0" y="0"/>
                    </a:moveTo>
                    <a:lnTo>
                      <a:pt x="4657196" y="0"/>
                    </a:lnTo>
                    <a:lnTo>
                      <a:pt x="4656605" y="52031"/>
                    </a:lnTo>
                    <a:cubicBezTo>
                      <a:pt x="4576256" y="1688790"/>
                      <a:pt x="2734303" y="2765480"/>
                      <a:pt x="1093046" y="2071576"/>
                    </a:cubicBezTo>
                    <a:cubicBezTo>
                      <a:pt x="753476" y="1928009"/>
                      <a:pt x="461156" y="1758670"/>
                      <a:pt x="209555" y="1569535"/>
                    </a:cubicBezTo>
                    <a:lnTo>
                      <a:pt x="0" y="1397585"/>
                    </a:lnTo>
                    <a:lnTo>
                      <a:pt x="0" y="0"/>
                    </a:lnTo>
                    <a:close/>
                  </a:path>
                </a:pathLst>
              </a:custGeom>
              <a:solidFill>
                <a:srgbClr val="7c8f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5" name="Group 8"/>
            <p:cNvGrpSpPr/>
            <p:nvPr/>
          </p:nvGrpSpPr>
          <p:grpSpPr>
            <a:xfrm>
              <a:off x="-168120" y="3962880"/>
              <a:ext cx="9721800" cy="4685760"/>
              <a:chOff x="-168120" y="3962880"/>
              <a:chExt cx="9721800" cy="4685760"/>
            </a:xfrm>
          </p:grpSpPr>
          <p:sp>
            <p:nvSpPr>
              <p:cNvPr id="46" name="Freeform: Shape 8"/>
              <p:cNvSpPr/>
              <p:nvPr/>
            </p:nvSpPr>
            <p:spPr>
              <a:xfrm rot="10138200">
                <a:off x="28080" y="4827600"/>
                <a:ext cx="9328680" cy="2955600"/>
              </a:xfrm>
              <a:custGeom>
                <a:avLst/>
                <a:gdLst/>
                <a:ahLst/>
                <a:rect l="l" t="t" r="r" b="b"/>
                <a:pathLst>
                  <a:path w="9328215" h="2954913">
                    <a:moveTo>
                      <a:pt x="9328215" y="1816883"/>
                    </a:moveTo>
                    <a:lnTo>
                      <a:pt x="0" y="0"/>
                    </a:lnTo>
                    <a:lnTo>
                      <a:pt x="124960" y="150941"/>
                    </a:lnTo>
                    <a:cubicBezTo>
                      <a:pt x="913888" y="1064327"/>
                      <a:pt x="1973800" y="1863911"/>
                      <a:pt x="3396704" y="2465499"/>
                    </a:cubicBezTo>
                    <a:cubicBezTo>
                      <a:pt x="5466385" y="3340536"/>
                      <a:pt x="7675698" y="2983695"/>
                      <a:pt x="9271399" y="1859645"/>
                    </a:cubicBezTo>
                    <a:lnTo>
                      <a:pt x="9328215" y="1816883"/>
                    </a:lnTo>
                    <a:close/>
                  </a:path>
                </a:pathLst>
              </a:custGeom>
              <a:solidFill>
                <a:srgbClr val="eafff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 name="Freeform: Shape 9"/>
              <p:cNvSpPr/>
              <p:nvPr/>
            </p:nvSpPr>
            <p:spPr>
              <a:xfrm flipH="1" rot="10800000">
                <a:off x="-720" y="4578840"/>
                <a:ext cx="4657320" cy="2286000"/>
              </a:xfrm>
              <a:custGeom>
                <a:avLst/>
                <a:gdLst/>
                <a:ahLst/>
                <a:rect l="l" t="t" r="r" b="b"/>
                <a:pathLst>
                  <a:path w="4657196" h="2285703">
                    <a:moveTo>
                      <a:pt x="0" y="0"/>
                    </a:moveTo>
                    <a:lnTo>
                      <a:pt x="4657196" y="0"/>
                    </a:lnTo>
                    <a:lnTo>
                      <a:pt x="4656605" y="52031"/>
                    </a:lnTo>
                    <a:cubicBezTo>
                      <a:pt x="4576256" y="1688790"/>
                      <a:pt x="2734303" y="2765480"/>
                      <a:pt x="1093046" y="2071576"/>
                    </a:cubicBezTo>
                    <a:cubicBezTo>
                      <a:pt x="753476" y="1928009"/>
                      <a:pt x="461156" y="1758670"/>
                      <a:pt x="209555" y="1569535"/>
                    </a:cubicBezTo>
                    <a:lnTo>
                      <a:pt x="0" y="1397585"/>
                    </a:lnTo>
                    <a:lnTo>
                      <a:pt x="0" y="0"/>
                    </a:lnTo>
                    <a:close/>
                  </a:path>
                </a:pathLst>
              </a:custGeom>
              <a:solidFill>
                <a:srgbClr val="eefa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5" name="Group 6"/>
          <p:cNvGrpSpPr/>
          <p:nvPr/>
        </p:nvGrpSpPr>
        <p:grpSpPr>
          <a:xfrm>
            <a:off x="0" y="3240"/>
            <a:ext cx="12192120" cy="6854760"/>
            <a:chOff x="0" y="3240"/>
            <a:chExt cx="12192120" cy="6854760"/>
          </a:xfrm>
        </p:grpSpPr>
        <p:sp>
          <p:nvSpPr>
            <p:cNvPr id="866" name="Freeform: Shape 5"/>
            <p:cNvSpPr/>
            <p:nvPr/>
          </p:nvSpPr>
          <p:spPr>
            <a:xfrm>
              <a:off x="9855360" y="3240"/>
              <a:ext cx="2336760" cy="2124720"/>
            </a:xfrm>
            <a:custGeom>
              <a:avLst/>
              <a:gdLst/>
              <a:ahLst/>
              <a:rect l="l" t="t" r="r" b="b"/>
              <a:pathLst>
                <a:path w="2153332" h="1958041">
                  <a:moveTo>
                    <a:pt x="2153332" y="0"/>
                  </a:moveTo>
                  <a:lnTo>
                    <a:pt x="2153332" y="1958042"/>
                  </a:lnTo>
                  <a:cubicBezTo>
                    <a:pt x="1429273" y="1751902"/>
                    <a:pt x="711496" y="1204290"/>
                    <a:pt x="216989" y="401430"/>
                  </a:cubicBezTo>
                  <a:cubicBezTo>
                    <a:pt x="135903" y="269523"/>
                    <a:pt x="63954" y="135904"/>
                    <a:pt x="0" y="571"/>
                  </a:cubicBezTo>
                  <a:lnTo>
                    <a:pt x="2153332" y="571"/>
                  </a:lnTo>
                  <a:lnTo>
                    <a:pt x="2153332" y="0"/>
                  </a:lnTo>
                  <a:close/>
                </a:path>
              </a:pathLst>
            </a:custGeom>
            <a:solidFill>
              <a:srgbClr val="eefa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7" name="Freeform: Shape 6"/>
            <p:cNvSpPr/>
            <p:nvPr/>
          </p:nvSpPr>
          <p:spPr>
            <a:xfrm>
              <a:off x="0" y="5065560"/>
              <a:ext cx="1198440" cy="1792440"/>
            </a:xfrm>
            <a:custGeom>
              <a:avLst/>
              <a:gdLst/>
              <a:ahLst/>
              <a:rect l="l" t="t" r="r" b="b"/>
              <a:pathLst>
                <a:path w="1809004" h="2705512">
                  <a:moveTo>
                    <a:pt x="1809005" y="2705512"/>
                  </a:moveTo>
                  <a:lnTo>
                    <a:pt x="0" y="2705512"/>
                  </a:lnTo>
                  <a:lnTo>
                    <a:pt x="0" y="0"/>
                  </a:lnTo>
                  <a:cubicBezTo>
                    <a:pt x="975309" y="264384"/>
                    <a:pt x="1723351" y="1359608"/>
                    <a:pt x="1809005" y="2705512"/>
                  </a:cubicBezTo>
                  <a:close/>
                </a:path>
              </a:pathLst>
            </a:custGeom>
            <a:solidFill>
              <a:srgbClr val="7c8f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8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Rectangle 6"/>
          <p:cNvSpPr/>
          <p:nvPr/>
        </p:nvSpPr>
        <p:spPr>
          <a:xfrm>
            <a:off x="0" y="0"/>
            <a:ext cx="2425680" cy="6858000"/>
          </a:xfrm>
          <a:prstGeom prst="rect">
            <a:avLst/>
          </a:prstGeom>
          <a:solidFill>
            <a:srgbClr val="7c8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3" name="Group 6"/>
          <p:cNvGrpSpPr/>
          <p:nvPr/>
        </p:nvGrpSpPr>
        <p:grpSpPr>
          <a:xfrm>
            <a:off x="0" y="3240"/>
            <a:ext cx="12192120" cy="6854760"/>
            <a:chOff x="0" y="3240"/>
            <a:chExt cx="12192120" cy="6854760"/>
          </a:xfrm>
        </p:grpSpPr>
        <p:sp>
          <p:nvSpPr>
            <p:cNvPr id="984" name="Rectangle: Top Corners Rounded 5"/>
            <p:cNvSpPr/>
            <p:nvPr/>
          </p:nvSpPr>
          <p:spPr>
            <a:xfrm>
              <a:off x="0" y="5004000"/>
              <a:ext cx="12192120" cy="1854000"/>
            </a:xfrm>
            <a:custGeom>
              <a:avLst/>
              <a:gdLst/>
              <a:ahLst/>
              <a:rect l="l" t="t" r="r" b="b"/>
              <a:pathLst>
                <a:path w="12192000" h="1854186">
                  <a:moveTo>
                    <a:pt x="0" y="0"/>
                  </a:moveTo>
                  <a:lnTo>
                    <a:pt x="12192000" y="0"/>
                  </a:lnTo>
                  <a:lnTo>
                    <a:pt x="12192000" y="0"/>
                  </a:lnTo>
                  <a:lnTo>
                    <a:pt x="12192000" y="1854186"/>
                  </a:lnTo>
                  <a:lnTo>
                    <a:pt x="12192000" y="1854186"/>
                  </a:lnTo>
                  <a:lnTo>
                    <a:pt x="0" y="1854186"/>
                  </a:lnTo>
                  <a:lnTo>
                    <a:pt x="0" y="1854186"/>
                  </a:lnTo>
                  <a:lnTo>
                    <a:pt x="0" y="0"/>
                  </a:lnTo>
                  <a:lnTo>
                    <a:pt x="0" y="0"/>
                  </a:lnTo>
                  <a:close/>
                </a:path>
              </a:pathLst>
            </a:custGeom>
            <a:solidFill>
              <a:srgbClr val="7c8f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985" name="Group 8"/>
            <p:cNvGrpSpPr/>
            <p:nvPr/>
          </p:nvGrpSpPr>
          <p:grpSpPr>
            <a:xfrm>
              <a:off x="0" y="3240"/>
              <a:ext cx="12192120" cy="6854760"/>
              <a:chOff x="0" y="3240"/>
              <a:chExt cx="12192120" cy="6854760"/>
            </a:xfrm>
          </p:grpSpPr>
          <p:sp>
            <p:nvSpPr>
              <p:cNvPr id="986" name="Freeform: Shape 7"/>
              <p:cNvSpPr/>
              <p:nvPr/>
            </p:nvSpPr>
            <p:spPr>
              <a:xfrm>
                <a:off x="0" y="4152600"/>
                <a:ext cx="1809000" cy="2705400"/>
              </a:xfrm>
              <a:custGeom>
                <a:avLst/>
                <a:gdLst/>
                <a:ahLst/>
                <a:rect l="l" t="t" r="r" b="b"/>
                <a:pathLst>
                  <a:path w="1809004" h="2705512">
                    <a:moveTo>
                      <a:pt x="1809005" y="2705512"/>
                    </a:moveTo>
                    <a:lnTo>
                      <a:pt x="0" y="2705512"/>
                    </a:lnTo>
                    <a:lnTo>
                      <a:pt x="0" y="0"/>
                    </a:lnTo>
                    <a:cubicBezTo>
                      <a:pt x="975309" y="264384"/>
                      <a:pt x="1723351" y="1359608"/>
                      <a:pt x="1809005" y="2705512"/>
                    </a:cubicBezTo>
                    <a:close/>
                  </a:path>
                </a:pathLst>
              </a:custGeom>
              <a:solidFill>
                <a:srgbClr val="7c8f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7" name="Freeform: Shape 8"/>
              <p:cNvSpPr/>
              <p:nvPr/>
            </p:nvSpPr>
            <p:spPr>
              <a:xfrm>
                <a:off x="10038960" y="3240"/>
                <a:ext cx="2153160" cy="1957680"/>
              </a:xfrm>
              <a:custGeom>
                <a:avLst/>
                <a:gdLst/>
                <a:ahLst/>
                <a:rect l="l" t="t" r="r" b="b"/>
                <a:pathLst>
                  <a:path w="2153332" h="1958041">
                    <a:moveTo>
                      <a:pt x="2153332" y="0"/>
                    </a:moveTo>
                    <a:lnTo>
                      <a:pt x="2153332" y="1958042"/>
                    </a:lnTo>
                    <a:cubicBezTo>
                      <a:pt x="1429273" y="1751902"/>
                      <a:pt x="711496" y="1204290"/>
                      <a:pt x="216989" y="401430"/>
                    </a:cubicBezTo>
                    <a:cubicBezTo>
                      <a:pt x="135903" y="269523"/>
                      <a:pt x="63954" y="135904"/>
                      <a:pt x="0" y="571"/>
                    </a:cubicBezTo>
                    <a:lnTo>
                      <a:pt x="2153332" y="571"/>
                    </a:lnTo>
                    <a:lnTo>
                      <a:pt x="2153332" y="0"/>
                    </a:lnTo>
                    <a:close/>
                  </a:path>
                </a:pathLst>
              </a:custGeom>
              <a:solidFill>
                <a:srgbClr val="eefa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8" name="Freeform: Shape 12"/>
              <p:cNvSpPr/>
              <p:nvPr/>
            </p:nvSpPr>
            <p:spPr>
              <a:xfrm>
                <a:off x="1055520" y="692280"/>
                <a:ext cx="465840" cy="46584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eefa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9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2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Graphic 56"/>
          <p:cNvSpPr/>
          <p:nvPr/>
        </p:nvSpPr>
        <p:spPr>
          <a:xfrm flipH="1" flipV="1" rot="7200000">
            <a:off x="5077800" y="726120"/>
            <a:ext cx="5899680" cy="5724720"/>
          </a:xfrm>
          <a:custGeom>
            <a:avLst/>
            <a:gdLst/>
            <a:ahLst/>
            <a:rect l="l" t="t" r="r" b="b"/>
            <a:pathLst>
              <a:path w="2093953" h="2031646">
                <a:moveTo>
                  <a:pt x="326637" y="120110"/>
                </a:moveTo>
                <a:cubicBezTo>
                  <a:pt x="356165" y="186785"/>
                  <a:pt x="458082" y="825913"/>
                  <a:pt x="916235" y="725900"/>
                </a:cubicBezTo>
                <a:cubicBezTo>
                  <a:pt x="1239133" y="656368"/>
                  <a:pt x="1972558" y="441103"/>
                  <a:pt x="2081142" y="1064038"/>
                </a:cubicBezTo>
                <a:cubicBezTo>
                  <a:pt x="2199252" y="1737455"/>
                  <a:pt x="1478210" y="2225135"/>
                  <a:pt x="842892" y="1956530"/>
                </a:cubicBezTo>
                <a:cubicBezTo>
                  <a:pt x="207575" y="1687925"/>
                  <a:pt x="43745" y="1162145"/>
                  <a:pt x="3740" y="697325"/>
                </a:cubicBezTo>
                <a:cubicBezTo>
                  <a:pt x="-29598" y="310610"/>
                  <a:pt x="166617" y="-247555"/>
                  <a:pt x="326637" y="120110"/>
                </a:cubicBezTo>
                <a:close/>
              </a:path>
            </a:pathLst>
          </a:custGeom>
          <a:solidFill>
            <a:srgbClr val="f4fcb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Group 6"/>
          <p:cNvGrpSpPr/>
          <p:nvPr/>
        </p:nvGrpSpPr>
        <p:grpSpPr>
          <a:xfrm>
            <a:off x="0" y="3240"/>
            <a:ext cx="12192120" cy="6854760"/>
            <a:chOff x="0" y="3240"/>
            <a:chExt cx="12192120" cy="6854760"/>
          </a:xfrm>
        </p:grpSpPr>
        <p:sp>
          <p:nvSpPr>
            <p:cNvPr id="87" name="Freeform: Shape 3"/>
            <p:cNvSpPr/>
            <p:nvPr/>
          </p:nvSpPr>
          <p:spPr>
            <a:xfrm>
              <a:off x="10276200" y="3240"/>
              <a:ext cx="1915920" cy="1742040"/>
            </a:xfrm>
            <a:custGeom>
              <a:avLst/>
              <a:gdLst/>
              <a:ahLst/>
              <a:rect l="l" t="t" r="r" b="b"/>
              <a:pathLst>
                <a:path w="2153332" h="1958041">
                  <a:moveTo>
                    <a:pt x="2153332" y="0"/>
                  </a:moveTo>
                  <a:lnTo>
                    <a:pt x="2153332" y="1958042"/>
                  </a:lnTo>
                  <a:cubicBezTo>
                    <a:pt x="1429273" y="1751902"/>
                    <a:pt x="711496" y="1204290"/>
                    <a:pt x="216989" y="401430"/>
                  </a:cubicBezTo>
                  <a:cubicBezTo>
                    <a:pt x="135903" y="269523"/>
                    <a:pt x="63954" y="135904"/>
                    <a:pt x="0" y="571"/>
                  </a:cubicBezTo>
                  <a:lnTo>
                    <a:pt x="2153332" y="571"/>
                  </a:lnTo>
                  <a:lnTo>
                    <a:pt x="2153332" y="0"/>
                  </a:lnTo>
                  <a:close/>
                </a:path>
              </a:pathLst>
            </a:custGeom>
            <a:solidFill>
              <a:srgbClr val="eefa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8" name="Group 8"/>
            <p:cNvGrpSpPr/>
            <p:nvPr/>
          </p:nvGrpSpPr>
          <p:grpSpPr>
            <a:xfrm>
              <a:off x="1161000" y="1004040"/>
              <a:ext cx="1018800" cy="138600"/>
              <a:chOff x="1161000" y="1004040"/>
              <a:chExt cx="1018800" cy="138600"/>
            </a:xfrm>
          </p:grpSpPr>
          <p:sp>
            <p:nvSpPr>
              <p:cNvPr id="89" name="Freeform: Shape 25"/>
              <p:cNvSpPr/>
              <p:nvPr/>
            </p:nvSpPr>
            <p:spPr>
              <a:xfrm>
                <a:off x="1161000" y="1004040"/>
                <a:ext cx="138600" cy="1386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4fcb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 name="Freeform: Shape 26"/>
              <p:cNvSpPr/>
              <p:nvPr/>
            </p:nvSpPr>
            <p:spPr>
              <a:xfrm>
                <a:off x="1454400" y="1004040"/>
                <a:ext cx="138600" cy="1386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bbbcf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 name="Freeform: Shape 27"/>
              <p:cNvSpPr/>
              <p:nvPr/>
            </p:nvSpPr>
            <p:spPr>
              <a:xfrm>
                <a:off x="1747800" y="1004040"/>
                <a:ext cx="138600" cy="1386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ec2e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 name="Freeform: Shape 28"/>
              <p:cNvSpPr/>
              <p:nvPr/>
            </p:nvSpPr>
            <p:spPr>
              <a:xfrm>
                <a:off x="2041200" y="1004040"/>
                <a:ext cx="138600" cy="1386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97fff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93" name="Freeform: Shape 5"/>
            <p:cNvSpPr/>
            <p:nvPr/>
          </p:nvSpPr>
          <p:spPr>
            <a:xfrm>
              <a:off x="0" y="4717440"/>
              <a:ext cx="1431360" cy="2140560"/>
            </a:xfrm>
            <a:custGeom>
              <a:avLst/>
              <a:gdLst/>
              <a:ahLst/>
              <a:rect l="l" t="t" r="r" b="b"/>
              <a:pathLst>
                <a:path w="1809004" h="2705512">
                  <a:moveTo>
                    <a:pt x="1809005" y="2705512"/>
                  </a:moveTo>
                  <a:lnTo>
                    <a:pt x="0" y="2705512"/>
                  </a:lnTo>
                  <a:lnTo>
                    <a:pt x="0" y="0"/>
                  </a:lnTo>
                  <a:cubicBezTo>
                    <a:pt x="975309" y="264384"/>
                    <a:pt x="1723351" y="1359608"/>
                    <a:pt x="1809005" y="2705512"/>
                  </a:cubicBezTo>
                  <a:close/>
                </a:path>
              </a:pathLst>
            </a:custGeom>
            <a:solidFill>
              <a:srgbClr val="7c8f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94" name="Graphic 1" descr=""/>
            <p:cNvPicPr/>
            <p:nvPr/>
          </p:nvPicPr>
          <p:blipFill>
            <a:blip r:embed="rId2"/>
            <a:stretch/>
          </p:blipFill>
          <p:spPr>
            <a:xfrm>
              <a:off x="9931680" y="5486760"/>
              <a:ext cx="1739880" cy="609480"/>
            </a:xfrm>
            <a:prstGeom prst="rect">
              <a:avLst/>
            </a:prstGeom>
            <a:ln w="0">
              <a:noFill/>
            </a:ln>
          </p:spPr>
        </p:pic>
      </p:grpSp>
      <p:sp>
        <p:nvSpPr>
          <p:cNvPr id="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Rectangle 6"/>
          <p:cNvSpPr/>
          <p:nvPr/>
        </p:nvSpPr>
        <p:spPr>
          <a:xfrm flipH="1">
            <a:off x="4856040" y="563400"/>
            <a:ext cx="3345120" cy="5731200"/>
          </a:xfrm>
          <a:prstGeom prst="rect">
            <a:avLst/>
          </a:prstGeom>
          <a:solidFill>
            <a:srgbClr val="eafff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Rectangle 6"/>
          <p:cNvSpPr/>
          <p:nvPr/>
        </p:nvSpPr>
        <p:spPr>
          <a:xfrm>
            <a:off x="6129360" y="0"/>
            <a:ext cx="6062760" cy="6858000"/>
          </a:xfrm>
          <a:prstGeom prst="rect">
            <a:avLst/>
          </a:prstGeom>
          <a:solidFill>
            <a:srgbClr val="eafff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Rectangle 6"/>
          <p:cNvSpPr/>
          <p:nvPr/>
        </p:nvSpPr>
        <p:spPr>
          <a:xfrm>
            <a:off x="11099880" y="692280"/>
            <a:ext cx="1092240" cy="547344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6"/>
          <p:cNvGrpSpPr/>
          <p:nvPr/>
        </p:nvGrpSpPr>
        <p:grpSpPr>
          <a:xfrm>
            <a:off x="-167760" y="-1784160"/>
            <a:ext cx="12527640" cy="10432800"/>
            <a:chOff x="-167760" y="-1784160"/>
            <a:chExt cx="12527640" cy="10432800"/>
          </a:xfrm>
        </p:grpSpPr>
        <p:pic>
          <p:nvPicPr>
            <p:cNvPr id="172" name="Graphic 1" descr=""/>
            <p:cNvPicPr/>
            <p:nvPr/>
          </p:nvPicPr>
          <p:blipFill>
            <a:blip r:embed="rId2"/>
            <a:stretch/>
          </p:blipFill>
          <p:spPr>
            <a:xfrm>
              <a:off x="11112840" y="4572360"/>
              <a:ext cx="609480" cy="1739880"/>
            </a:xfrm>
            <a:prstGeom prst="rect">
              <a:avLst/>
            </a:prstGeom>
            <a:ln w="0">
              <a:noFill/>
            </a:ln>
          </p:spPr>
        </p:pic>
        <p:grpSp>
          <p:nvGrpSpPr>
            <p:cNvPr id="173" name="Group 8"/>
            <p:cNvGrpSpPr/>
            <p:nvPr/>
          </p:nvGrpSpPr>
          <p:grpSpPr>
            <a:xfrm>
              <a:off x="-167760" y="-1784160"/>
              <a:ext cx="12527640" cy="10432800"/>
              <a:chOff x="-167760" y="-1784160"/>
              <a:chExt cx="12527640" cy="10432800"/>
            </a:xfrm>
          </p:grpSpPr>
          <p:grpSp>
            <p:nvGrpSpPr>
              <p:cNvPr id="174" name="Group 14"/>
              <p:cNvGrpSpPr/>
              <p:nvPr/>
            </p:nvGrpSpPr>
            <p:grpSpPr>
              <a:xfrm>
                <a:off x="-167760" y="3962880"/>
                <a:ext cx="9721800" cy="4685760"/>
                <a:chOff x="-167760" y="3962880"/>
                <a:chExt cx="9721800" cy="4685760"/>
              </a:xfrm>
            </p:grpSpPr>
            <p:sp>
              <p:nvSpPr>
                <p:cNvPr id="175" name="Freeform: Shape 17"/>
                <p:cNvSpPr/>
                <p:nvPr/>
              </p:nvSpPr>
              <p:spPr>
                <a:xfrm flipH="1" flipV="1" rot="20938200">
                  <a:off x="28440" y="4827240"/>
                  <a:ext cx="9328680" cy="2955600"/>
                </a:xfrm>
                <a:custGeom>
                  <a:avLst/>
                  <a:gdLst/>
                  <a:ahLst/>
                  <a:rect l="l" t="t" r="r" b="b"/>
                  <a:pathLst>
                    <a:path w="9328215" h="2954913">
                      <a:moveTo>
                        <a:pt x="9328215" y="1816883"/>
                      </a:moveTo>
                      <a:lnTo>
                        <a:pt x="0" y="0"/>
                      </a:lnTo>
                      <a:lnTo>
                        <a:pt x="124960" y="150941"/>
                      </a:lnTo>
                      <a:cubicBezTo>
                        <a:pt x="913888" y="1064327"/>
                        <a:pt x="1973800" y="1863911"/>
                        <a:pt x="3396704" y="2465499"/>
                      </a:cubicBezTo>
                      <a:cubicBezTo>
                        <a:pt x="5466385" y="3340536"/>
                        <a:pt x="7675698" y="2983695"/>
                        <a:pt x="9271399" y="1859645"/>
                      </a:cubicBezTo>
                      <a:lnTo>
                        <a:pt x="9328215" y="1816883"/>
                      </a:lnTo>
                      <a:close/>
                    </a:path>
                  </a:pathLst>
                </a:custGeom>
                <a:solidFill>
                  <a:srgbClr val="eafff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6" name="Freeform: Shape 18"/>
                <p:cNvSpPr/>
                <p:nvPr/>
              </p:nvSpPr>
              <p:spPr>
                <a:xfrm flipV="1">
                  <a:off x="0" y="4578480"/>
                  <a:ext cx="4657320" cy="2286000"/>
                </a:xfrm>
                <a:custGeom>
                  <a:avLst/>
                  <a:gdLst/>
                  <a:ahLst/>
                  <a:rect l="l" t="t" r="r" b="b"/>
                  <a:pathLst>
                    <a:path w="4657196" h="2285703">
                      <a:moveTo>
                        <a:pt x="0" y="0"/>
                      </a:moveTo>
                      <a:lnTo>
                        <a:pt x="4657196" y="0"/>
                      </a:lnTo>
                      <a:lnTo>
                        <a:pt x="4656605" y="52031"/>
                      </a:lnTo>
                      <a:cubicBezTo>
                        <a:pt x="4576256" y="1688790"/>
                        <a:pt x="2734303" y="2765480"/>
                        <a:pt x="1093046" y="2071576"/>
                      </a:cubicBezTo>
                      <a:cubicBezTo>
                        <a:pt x="753476" y="1928009"/>
                        <a:pt x="461156" y="1758670"/>
                        <a:pt x="209555" y="1569535"/>
                      </a:cubicBezTo>
                      <a:lnTo>
                        <a:pt x="0" y="1397585"/>
                      </a:lnTo>
                      <a:lnTo>
                        <a:pt x="0" y="0"/>
                      </a:lnTo>
                      <a:close/>
                    </a:path>
                  </a:pathLst>
                </a:custGeom>
                <a:solidFill>
                  <a:srgbClr val="7c8f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77" name="Group 15"/>
              <p:cNvGrpSpPr/>
              <p:nvPr/>
            </p:nvGrpSpPr>
            <p:grpSpPr>
              <a:xfrm>
                <a:off x="2638080" y="-1784160"/>
                <a:ext cx="9721800" cy="4685760"/>
                <a:chOff x="2638080" y="-1784160"/>
                <a:chExt cx="9721800" cy="4685760"/>
              </a:xfrm>
            </p:grpSpPr>
            <p:sp>
              <p:nvSpPr>
                <p:cNvPr id="178" name="Freeform: Shape 15"/>
                <p:cNvSpPr/>
                <p:nvPr/>
              </p:nvSpPr>
              <p:spPr>
                <a:xfrm flipH="1" flipV="1" rot="10138200">
                  <a:off x="2833920" y="-919080"/>
                  <a:ext cx="9328680" cy="2955600"/>
                </a:xfrm>
                <a:custGeom>
                  <a:avLst/>
                  <a:gdLst/>
                  <a:ahLst/>
                  <a:rect l="l" t="t" r="r" b="b"/>
                  <a:pathLst>
                    <a:path w="9328215" h="2954913">
                      <a:moveTo>
                        <a:pt x="9328215" y="1816883"/>
                      </a:moveTo>
                      <a:lnTo>
                        <a:pt x="0" y="0"/>
                      </a:lnTo>
                      <a:lnTo>
                        <a:pt x="124960" y="150941"/>
                      </a:lnTo>
                      <a:cubicBezTo>
                        <a:pt x="913888" y="1064327"/>
                        <a:pt x="1973800" y="1863911"/>
                        <a:pt x="3396704" y="2465499"/>
                      </a:cubicBezTo>
                      <a:cubicBezTo>
                        <a:pt x="5466385" y="3340536"/>
                        <a:pt x="7675698" y="2983695"/>
                        <a:pt x="9271399" y="1859645"/>
                      </a:cubicBezTo>
                      <a:lnTo>
                        <a:pt x="9328215" y="1816883"/>
                      </a:lnTo>
                      <a:close/>
                    </a:path>
                  </a:pathLst>
                </a:custGeom>
                <a:solidFill>
                  <a:srgbClr val="eafff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9" name="Freeform: Shape 16"/>
                <p:cNvSpPr/>
                <p:nvPr/>
              </p:nvSpPr>
              <p:spPr>
                <a:xfrm flipV="1" rot="10800000">
                  <a:off x="7534800" y="-360"/>
                  <a:ext cx="4657320" cy="2286000"/>
                </a:xfrm>
                <a:custGeom>
                  <a:avLst/>
                  <a:gdLst/>
                  <a:ahLst/>
                  <a:rect l="l" t="t" r="r" b="b"/>
                  <a:pathLst>
                    <a:path w="4657196" h="2285703">
                      <a:moveTo>
                        <a:pt x="0" y="0"/>
                      </a:moveTo>
                      <a:lnTo>
                        <a:pt x="4657196" y="0"/>
                      </a:lnTo>
                      <a:lnTo>
                        <a:pt x="4656605" y="52031"/>
                      </a:lnTo>
                      <a:cubicBezTo>
                        <a:pt x="4576256" y="1688790"/>
                        <a:pt x="2734303" y="2765480"/>
                        <a:pt x="1093046" y="2071576"/>
                      </a:cubicBezTo>
                      <a:cubicBezTo>
                        <a:pt x="753476" y="1928009"/>
                        <a:pt x="461156" y="1758670"/>
                        <a:pt x="209555" y="1569535"/>
                      </a:cubicBezTo>
                      <a:lnTo>
                        <a:pt x="0" y="1397585"/>
                      </a:lnTo>
                      <a:lnTo>
                        <a:pt x="0" y="0"/>
                      </a:lnTo>
                      <a:close/>
                    </a:path>
                  </a:pathLst>
                </a:custGeom>
                <a:solidFill>
                  <a:srgbClr val="eefa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180" name="Group 9"/>
            <p:cNvGrpSpPr/>
            <p:nvPr/>
          </p:nvGrpSpPr>
          <p:grpSpPr>
            <a:xfrm>
              <a:off x="1055520" y="691920"/>
              <a:ext cx="1018800" cy="138600"/>
              <a:chOff x="1055520" y="691920"/>
              <a:chExt cx="1018800" cy="138600"/>
            </a:xfrm>
          </p:grpSpPr>
          <p:sp>
            <p:nvSpPr>
              <p:cNvPr id="181" name="Freeform: Shape 9"/>
              <p:cNvSpPr/>
              <p:nvPr/>
            </p:nvSpPr>
            <p:spPr>
              <a:xfrm>
                <a:off x="1055520" y="691920"/>
                <a:ext cx="138600" cy="1386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4fcb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2" name="Freeform: Shape 10"/>
              <p:cNvSpPr/>
              <p:nvPr/>
            </p:nvSpPr>
            <p:spPr>
              <a:xfrm>
                <a:off x="1348920" y="691920"/>
                <a:ext cx="138600" cy="1386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bbbcf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3" name="Freeform: Shape 11"/>
              <p:cNvSpPr/>
              <p:nvPr/>
            </p:nvSpPr>
            <p:spPr>
              <a:xfrm>
                <a:off x="1642320" y="691920"/>
                <a:ext cx="138600" cy="1386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ec2e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 name="Freeform: Shape 12"/>
              <p:cNvSpPr/>
              <p:nvPr/>
            </p:nvSpPr>
            <p:spPr>
              <a:xfrm>
                <a:off x="1935720" y="691920"/>
                <a:ext cx="138600" cy="1386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97fff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Group 6"/>
          <p:cNvGrpSpPr/>
          <p:nvPr/>
        </p:nvGrpSpPr>
        <p:grpSpPr>
          <a:xfrm>
            <a:off x="-360" y="119160"/>
            <a:ext cx="12192480" cy="4798800"/>
            <a:chOff x="-360" y="119160"/>
            <a:chExt cx="12192480" cy="4798800"/>
          </a:xfrm>
        </p:grpSpPr>
        <p:pic>
          <p:nvPicPr>
            <p:cNvPr id="224" name="Graphic 1" descr=""/>
            <p:cNvPicPr/>
            <p:nvPr/>
          </p:nvPicPr>
          <p:blipFill>
            <a:blip r:embed="rId2"/>
            <a:stretch/>
          </p:blipFill>
          <p:spPr>
            <a:xfrm>
              <a:off x="6908760" y="443880"/>
              <a:ext cx="444240" cy="1257480"/>
            </a:xfrm>
            <a:prstGeom prst="rect">
              <a:avLst/>
            </a:prstGeom>
            <a:ln w="0">
              <a:noFill/>
            </a:ln>
          </p:spPr>
        </p:pic>
        <p:grpSp>
          <p:nvGrpSpPr>
            <p:cNvPr id="225" name="Group 8"/>
            <p:cNvGrpSpPr/>
            <p:nvPr/>
          </p:nvGrpSpPr>
          <p:grpSpPr>
            <a:xfrm>
              <a:off x="10738080" y="119160"/>
              <a:ext cx="1454040" cy="4798800"/>
              <a:chOff x="10738080" y="119160"/>
              <a:chExt cx="1454040" cy="4798800"/>
            </a:xfrm>
          </p:grpSpPr>
          <p:sp>
            <p:nvSpPr>
              <p:cNvPr id="226" name="Freeform: Shape 11"/>
              <p:cNvSpPr/>
              <p:nvPr/>
            </p:nvSpPr>
            <p:spPr>
              <a:xfrm rot="16200000">
                <a:off x="9340560" y="1516320"/>
                <a:ext cx="4248720" cy="1454040"/>
              </a:xfrm>
              <a:custGeom>
                <a:avLst/>
                <a:gdLst/>
                <a:ahLst/>
                <a:rect l="l" t="t" r="r" b="b"/>
                <a:pathLst>
                  <a:path w="2201869" h="753751">
                    <a:moveTo>
                      <a:pt x="2201869" y="753752"/>
                    </a:moveTo>
                    <a:lnTo>
                      <a:pt x="0" y="753752"/>
                    </a:lnTo>
                    <a:cubicBezTo>
                      <a:pt x="170736" y="312350"/>
                      <a:pt x="599575" y="0"/>
                      <a:pt x="1100935" y="0"/>
                    </a:cubicBezTo>
                    <a:cubicBezTo>
                      <a:pt x="1602865" y="0"/>
                      <a:pt x="2031133" y="312350"/>
                      <a:pt x="2201869" y="753752"/>
                    </a:cubicBezTo>
                    <a:close/>
                  </a:path>
                </a:pathLst>
              </a:custGeom>
              <a:solidFill>
                <a:srgbClr val="7c8f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7" name="Freeform: Shape 12"/>
              <p:cNvSpPr/>
              <p:nvPr/>
            </p:nvSpPr>
            <p:spPr>
              <a:xfrm rot="16200000">
                <a:off x="10753920" y="4195800"/>
                <a:ext cx="722160" cy="72216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eefa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28" name="Group 9"/>
            <p:cNvGrpSpPr/>
            <p:nvPr/>
          </p:nvGrpSpPr>
          <p:grpSpPr>
            <a:xfrm>
              <a:off x="-360" y="702000"/>
              <a:ext cx="1585080" cy="2879640"/>
              <a:chOff x="-360" y="702000"/>
              <a:chExt cx="1585080" cy="2879640"/>
            </a:xfrm>
          </p:grpSpPr>
          <p:sp>
            <p:nvSpPr>
              <p:cNvPr id="229" name="Freeform: Shape 9"/>
              <p:cNvSpPr/>
              <p:nvPr/>
            </p:nvSpPr>
            <p:spPr>
              <a:xfrm rot="5400000">
                <a:off x="-905040" y="1735200"/>
                <a:ext cx="2751120" cy="941400"/>
              </a:xfrm>
              <a:custGeom>
                <a:avLst/>
                <a:gdLst/>
                <a:ahLst/>
                <a:rect l="l" t="t" r="r" b="b"/>
                <a:pathLst>
                  <a:path w="2201869" h="753751">
                    <a:moveTo>
                      <a:pt x="2201869" y="753752"/>
                    </a:moveTo>
                    <a:lnTo>
                      <a:pt x="0" y="753752"/>
                    </a:lnTo>
                    <a:cubicBezTo>
                      <a:pt x="170736" y="312350"/>
                      <a:pt x="599575" y="0"/>
                      <a:pt x="1100935" y="0"/>
                    </a:cubicBezTo>
                    <a:cubicBezTo>
                      <a:pt x="1602865" y="0"/>
                      <a:pt x="2031133" y="312350"/>
                      <a:pt x="2201869" y="753752"/>
                    </a:cubicBezTo>
                    <a:close/>
                  </a:path>
                </a:pathLst>
              </a:custGeom>
              <a:solidFill>
                <a:srgbClr val="7c8f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0" name="Freeform: Shape 10"/>
              <p:cNvSpPr/>
              <p:nvPr/>
            </p:nvSpPr>
            <p:spPr>
              <a:xfrm rot="5400000">
                <a:off x="1055520" y="702000"/>
                <a:ext cx="529200" cy="5292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eefa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6"/>
          <p:cNvSpPr/>
          <p:nvPr/>
        </p:nvSpPr>
        <p:spPr>
          <a:xfrm>
            <a:off x="1055520" y="3429000"/>
            <a:ext cx="6112080" cy="2444760"/>
          </a:xfrm>
          <a:prstGeom prst="rect">
            <a:avLst/>
          </a:prstGeom>
          <a:solidFill>
            <a:srgbClr val="eafff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Rectangle 6"/>
          <p:cNvSpPr/>
          <p:nvPr/>
        </p:nvSpPr>
        <p:spPr>
          <a:xfrm>
            <a:off x="0" y="2752560"/>
            <a:ext cx="3763800" cy="4105440"/>
          </a:xfrm>
          <a:prstGeom prst="rect">
            <a:avLst/>
          </a:prstGeom>
          <a:solidFill>
            <a:srgbClr val="eafff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9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29.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4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30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25.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9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TextBox 2"/>
          <p:cNvSpPr/>
          <p:nvPr/>
        </p:nvSpPr>
        <p:spPr>
          <a:xfrm>
            <a:off x="944640" y="5594400"/>
            <a:ext cx="2354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boto"/>
                <a:ea typeface="Roboto"/>
              </a:rPr>
              <a:t>Online Education Presentation Template</a:t>
            </a:r>
            <a:endParaRPr b="0" lang="en-US" sz="1600" spc="-1" strike="noStrike">
              <a:solidFill>
                <a:srgbClr val="000000"/>
              </a:solidFill>
              <a:latin typeface="Calibri"/>
            </a:endParaRPr>
          </a:p>
        </p:txBody>
      </p:sp>
      <p:sp>
        <p:nvSpPr>
          <p:cNvPr id="1374" name="TextBox 4"/>
          <p:cNvSpPr/>
          <p:nvPr/>
        </p:nvSpPr>
        <p:spPr>
          <a:xfrm>
            <a:off x="944640" y="2509920"/>
            <a:ext cx="5335560" cy="103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000000"/>
                </a:solidFill>
                <a:latin typeface="Roboto Slab"/>
                <a:ea typeface="Roboto Slab"/>
              </a:rPr>
              <a:t>Educationaly </a:t>
            </a:r>
            <a:endParaRPr b="0" lang="en-US" sz="6200" spc="-1" strike="noStrike">
              <a:solidFill>
                <a:srgbClr val="000000"/>
              </a:solidFill>
              <a:latin typeface="Calibri"/>
            </a:endParaRPr>
          </a:p>
        </p:txBody>
      </p:sp>
      <p:sp>
        <p:nvSpPr>
          <p:cNvPr id="1375" name="Graphic 1031"/>
          <p:cNvSpPr/>
          <p:nvPr/>
        </p:nvSpPr>
        <p:spPr>
          <a:xfrm>
            <a:off x="1027080" y="3581280"/>
            <a:ext cx="1455840" cy="252360"/>
          </a:xfrm>
          <a:custGeom>
            <a:avLst/>
            <a:gdLst/>
            <a:ahLst/>
            <a:rect l="l" t="t" r="r" b="b"/>
            <a:pathLst>
              <a:path w="760911" h="132655">
                <a:moveTo>
                  <a:pt x="0" y="132656"/>
                </a:moveTo>
                <a:cubicBezTo>
                  <a:pt x="55245" y="99318"/>
                  <a:pt x="113348" y="71696"/>
                  <a:pt x="174308" y="50741"/>
                </a:cubicBezTo>
                <a:cubicBezTo>
                  <a:pt x="235268" y="29786"/>
                  <a:pt x="298133" y="14546"/>
                  <a:pt x="361950" y="6926"/>
                </a:cubicBezTo>
                <a:cubicBezTo>
                  <a:pt x="490538" y="-9267"/>
                  <a:pt x="622935" y="3116"/>
                  <a:pt x="747713" y="42168"/>
                </a:cubicBezTo>
                <a:cubicBezTo>
                  <a:pt x="758190" y="45026"/>
                  <a:pt x="762953" y="55503"/>
                  <a:pt x="760095" y="65981"/>
                </a:cubicBezTo>
                <a:cubicBezTo>
                  <a:pt x="757238" y="76458"/>
                  <a:pt x="746760" y="81221"/>
                  <a:pt x="736283" y="78363"/>
                </a:cubicBezTo>
                <a:cubicBezTo>
                  <a:pt x="736283" y="78363"/>
                  <a:pt x="735330" y="78363"/>
                  <a:pt x="735330" y="78363"/>
                </a:cubicBezTo>
                <a:cubicBezTo>
                  <a:pt x="617220" y="35501"/>
                  <a:pt x="490538" y="16451"/>
                  <a:pt x="363855" y="26928"/>
                </a:cubicBezTo>
                <a:cubicBezTo>
                  <a:pt x="300990" y="30738"/>
                  <a:pt x="238125" y="42168"/>
                  <a:pt x="177165" y="60266"/>
                </a:cubicBezTo>
                <a:cubicBezTo>
                  <a:pt x="115253" y="78363"/>
                  <a:pt x="56198" y="103128"/>
                  <a:pt x="0" y="132656"/>
                </a:cubicBezTo>
                <a:close/>
              </a:path>
            </a:pathLst>
          </a:custGeom>
          <a:gradFill rotWithShape="0">
            <a:gsLst>
              <a:gs pos="0">
                <a:srgbClr val="a2afff"/>
              </a:gs>
              <a:gs pos="100000">
                <a:srgbClr val="e2e6ff"/>
              </a:gs>
            </a:gsLst>
            <a:lin ang="108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TextBox 1"/>
          <p:cNvSpPr/>
          <p:nvPr/>
        </p:nvSpPr>
        <p:spPr>
          <a:xfrm>
            <a:off x="949320" y="790560"/>
            <a:ext cx="3962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Slab"/>
                <a:ea typeface="Roboto Slab"/>
              </a:rPr>
              <a:t>Pricing </a:t>
            </a:r>
            <a:r>
              <a:rPr b="0" lang="en-US" sz="3600" spc="-1" strike="noStrike">
                <a:solidFill>
                  <a:srgbClr val="000000"/>
                </a:solidFill>
                <a:latin typeface="Roboto Slab Medium"/>
                <a:ea typeface="Roboto Slab Medium"/>
              </a:rPr>
              <a:t>Plans</a:t>
            </a:r>
            <a:endParaRPr b="0" lang="en-US" sz="3600" spc="-1" strike="noStrike">
              <a:solidFill>
                <a:srgbClr val="000000"/>
              </a:solidFill>
              <a:latin typeface="Calibri"/>
            </a:endParaRPr>
          </a:p>
        </p:txBody>
      </p:sp>
      <p:sp>
        <p:nvSpPr>
          <p:cNvPr id="1538" name="Rectangle: Rounded Corners 55"/>
          <p:cNvSpPr/>
          <p:nvPr/>
        </p:nvSpPr>
        <p:spPr>
          <a:xfrm>
            <a:off x="7259760" y="2324160"/>
            <a:ext cx="2452680" cy="3693960"/>
          </a:xfrm>
          <a:custGeom>
            <a:avLst/>
            <a:gdLst>
              <a:gd name="textAreaLeft" fmla="*/ 11520 w 2452680"/>
              <a:gd name="textAreaRight" fmla="*/ 2441160 w 2452680"/>
              <a:gd name="textAreaTop" fmla="*/ 11520 h 3693960"/>
              <a:gd name="textAreaBottom" fmla="*/ 3682440 h 3693960"/>
            </a:gdLst>
            <a:ahLst/>
            <a:rect l="textAreaLeft" t="textAreaTop" r="textAreaRight" b="textAreaBottom"/>
            <a:pathLst>
              <a:path w="21600" h="32530">
                <a:moveTo>
                  <a:pt x="347" y="0"/>
                </a:moveTo>
                <a:arcTo wR="347" hR="347" stAng="16200000" swAng="-5400000"/>
                <a:lnTo>
                  <a:pt x="0" y="32183"/>
                </a:lnTo>
                <a:arcTo wR="347" hR="347" stAng="10800000" swAng="-5400000"/>
                <a:lnTo>
                  <a:pt x="21253" y="32530"/>
                </a:lnTo>
                <a:arcTo wR="347" hR="347" stAng="5400000" swAng="-5400000"/>
                <a:lnTo>
                  <a:pt x="21600" y="347"/>
                </a:lnTo>
                <a:arcTo wR="347" hR="347" stAng="0" swAng="-5400000"/>
                <a:close/>
              </a:path>
            </a:pathLst>
          </a:custGeom>
          <a:solidFill>
            <a:srgbClr val="7c8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9" name="Rectangle: Rounded Corners 56"/>
          <p:cNvSpPr/>
          <p:nvPr/>
        </p:nvSpPr>
        <p:spPr>
          <a:xfrm>
            <a:off x="7107120" y="2206800"/>
            <a:ext cx="2238480" cy="3504960"/>
          </a:xfrm>
          <a:custGeom>
            <a:avLst/>
            <a:gdLst>
              <a:gd name="textAreaLeft" fmla="*/ 10440 w 2238480"/>
              <a:gd name="textAreaRight" fmla="*/ 2228040 w 2238480"/>
              <a:gd name="textAreaTop" fmla="*/ 10440 h 3504960"/>
              <a:gd name="textAreaBottom" fmla="*/ 3494520 h 3504960"/>
            </a:gdLst>
            <a:ahLst/>
            <a:rect l="textAreaLeft" t="textAreaTop" r="textAreaRight" b="textAreaBottom"/>
            <a:pathLst>
              <a:path w="21600" h="33819">
                <a:moveTo>
                  <a:pt x="347" y="0"/>
                </a:moveTo>
                <a:arcTo wR="347" hR="347" stAng="16200000" swAng="-5400000"/>
                <a:lnTo>
                  <a:pt x="0" y="33472"/>
                </a:lnTo>
                <a:arcTo wR="347" hR="347" stAng="10800000" swAng="-5400000"/>
                <a:lnTo>
                  <a:pt x="21253" y="33819"/>
                </a:lnTo>
                <a:arcTo wR="347" hR="347" stAng="5400000" swAng="-5400000"/>
                <a:lnTo>
                  <a:pt x="21600" y="347"/>
                </a:lnTo>
                <a:arcTo wR="347" hR="347" stAng="0" swAng="-5400000"/>
                <a:close/>
              </a:path>
            </a:pathLst>
          </a:custGeom>
          <a:solidFill>
            <a:srgbClr val="ffffff"/>
          </a:solidFill>
          <a:ln w="0">
            <a:noFill/>
          </a:ln>
          <a:effectLst>
            <a:outerShdw dist="26676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0" name="Rectangle: Rounded Corners 52"/>
          <p:cNvSpPr/>
          <p:nvPr/>
        </p:nvSpPr>
        <p:spPr>
          <a:xfrm>
            <a:off x="4237200" y="2324160"/>
            <a:ext cx="2454120" cy="3693960"/>
          </a:xfrm>
          <a:custGeom>
            <a:avLst/>
            <a:gdLst>
              <a:gd name="textAreaLeft" fmla="*/ 11520 w 2454120"/>
              <a:gd name="textAreaRight" fmla="*/ 2442600 w 2454120"/>
              <a:gd name="textAreaTop" fmla="*/ 11520 h 3693960"/>
              <a:gd name="textAreaBottom" fmla="*/ 3682440 h 3693960"/>
            </a:gdLst>
            <a:ahLst/>
            <a:rect l="textAreaLeft" t="textAreaTop" r="textAreaRight" b="textAreaBottom"/>
            <a:pathLst>
              <a:path w="21600" h="32511">
                <a:moveTo>
                  <a:pt x="347" y="0"/>
                </a:moveTo>
                <a:arcTo wR="347" hR="347" stAng="16200000" swAng="-5400000"/>
                <a:lnTo>
                  <a:pt x="0" y="32164"/>
                </a:lnTo>
                <a:arcTo wR="347" hR="347" stAng="10800000" swAng="-5400000"/>
                <a:lnTo>
                  <a:pt x="21253" y="32511"/>
                </a:lnTo>
                <a:arcTo wR="347" hR="347" stAng="5400000" swAng="-5400000"/>
                <a:lnTo>
                  <a:pt x="21600" y="347"/>
                </a:lnTo>
                <a:arcTo wR="347" hR="347" stAng="0" swAng="-5400000"/>
                <a:close/>
              </a:path>
            </a:pathLst>
          </a:cu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1" name="Rectangle: Rounded Corners 53"/>
          <p:cNvSpPr/>
          <p:nvPr/>
        </p:nvSpPr>
        <p:spPr>
          <a:xfrm>
            <a:off x="4084560" y="2206800"/>
            <a:ext cx="2238480" cy="3504960"/>
          </a:xfrm>
          <a:custGeom>
            <a:avLst/>
            <a:gdLst>
              <a:gd name="textAreaLeft" fmla="*/ 10440 w 2238480"/>
              <a:gd name="textAreaRight" fmla="*/ 2228040 w 2238480"/>
              <a:gd name="textAreaTop" fmla="*/ 10440 h 3504960"/>
              <a:gd name="textAreaBottom" fmla="*/ 3494520 h 3504960"/>
            </a:gdLst>
            <a:ahLst/>
            <a:rect l="textAreaLeft" t="textAreaTop" r="textAreaRight" b="textAreaBottom"/>
            <a:pathLst>
              <a:path w="21600" h="33819">
                <a:moveTo>
                  <a:pt x="347" y="0"/>
                </a:moveTo>
                <a:arcTo wR="347" hR="347" stAng="16200000" swAng="-5400000"/>
                <a:lnTo>
                  <a:pt x="0" y="33472"/>
                </a:lnTo>
                <a:arcTo wR="347" hR="347" stAng="10800000" swAng="-5400000"/>
                <a:lnTo>
                  <a:pt x="21253" y="33819"/>
                </a:lnTo>
                <a:arcTo wR="347" hR="347" stAng="5400000" swAng="-5400000"/>
                <a:lnTo>
                  <a:pt x="21600" y="347"/>
                </a:lnTo>
                <a:arcTo wR="347" hR="347" stAng="0" swAng="-5400000"/>
                <a:close/>
              </a:path>
            </a:pathLst>
          </a:custGeom>
          <a:solidFill>
            <a:srgbClr val="ffffff"/>
          </a:solidFill>
          <a:ln w="0">
            <a:noFill/>
          </a:ln>
          <a:effectLst>
            <a:outerShdw dist="26676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ectangle: Rounded Corners 11"/>
          <p:cNvSpPr/>
          <p:nvPr/>
        </p:nvSpPr>
        <p:spPr>
          <a:xfrm>
            <a:off x="1216080" y="2324160"/>
            <a:ext cx="2454120" cy="3693960"/>
          </a:xfrm>
          <a:custGeom>
            <a:avLst/>
            <a:gdLst>
              <a:gd name="textAreaLeft" fmla="*/ 11520 w 2454120"/>
              <a:gd name="textAreaRight" fmla="*/ 2442600 w 2454120"/>
              <a:gd name="textAreaTop" fmla="*/ 11520 h 3693960"/>
              <a:gd name="textAreaBottom" fmla="*/ 3682440 h 3693960"/>
            </a:gdLst>
            <a:ahLst/>
            <a:rect l="textAreaLeft" t="textAreaTop" r="textAreaRight" b="textAreaBottom"/>
            <a:pathLst>
              <a:path w="21600" h="32511">
                <a:moveTo>
                  <a:pt x="347" y="0"/>
                </a:moveTo>
                <a:arcTo wR="347" hR="347" stAng="16200000" swAng="-5400000"/>
                <a:lnTo>
                  <a:pt x="0" y="32164"/>
                </a:lnTo>
                <a:arcTo wR="347" hR="347" stAng="10800000" swAng="-5400000"/>
                <a:lnTo>
                  <a:pt x="21253" y="32511"/>
                </a:lnTo>
                <a:arcTo wR="347" hR="347" stAng="5400000" swAng="-5400000"/>
                <a:lnTo>
                  <a:pt x="21600" y="347"/>
                </a:lnTo>
                <a:arcTo wR="347" hR="347"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3" name="Rectangle: Rounded Corners 49"/>
          <p:cNvSpPr/>
          <p:nvPr/>
        </p:nvSpPr>
        <p:spPr>
          <a:xfrm>
            <a:off x="1063800" y="2206800"/>
            <a:ext cx="2238120" cy="3504960"/>
          </a:xfrm>
          <a:custGeom>
            <a:avLst/>
            <a:gdLst>
              <a:gd name="textAreaLeft" fmla="*/ 10440 w 2238120"/>
              <a:gd name="textAreaRight" fmla="*/ 2227680 w 2238120"/>
              <a:gd name="textAreaTop" fmla="*/ 10440 h 3504960"/>
              <a:gd name="textAreaBottom" fmla="*/ 3494520 h 3504960"/>
            </a:gdLst>
            <a:ahLst/>
            <a:rect l="textAreaLeft" t="textAreaTop" r="textAreaRight" b="textAreaBottom"/>
            <a:pathLst>
              <a:path w="21600" h="33824">
                <a:moveTo>
                  <a:pt x="347" y="0"/>
                </a:moveTo>
                <a:arcTo wR="347" hR="347" stAng="16200000" swAng="-5400000"/>
                <a:lnTo>
                  <a:pt x="0" y="33477"/>
                </a:lnTo>
                <a:arcTo wR="347" hR="347" stAng="10800000" swAng="-5400000"/>
                <a:lnTo>
                  <a:pt x="21253" y="33824"/>
                </a:lnTo>
                <a:arcTo wR="347" hR="347" stAng="5400000" swAng="-5400000"/>
                <a:lnTo>
                  <a:pt x="21600" y="347"/>
                </a:lnTo>
                <a:arcTo wR="347" hR="347" stAng="0" swAng="-5400000"/>
                <a:close/>
              </a:path>
            </a:pathLst>
          </a:custGeom>
          <a:solidFill>
            <a:srgbClr val="ffffff"/>
          </a:solidFill>
          <a:ln w="0">
            <a:noFill/>
          </a:ln>
          <a:effectLst>
            <a:outerShdw dist="26676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4" name="Persegi Panjang 24"/>
          <p:cNvSpPr/>
          <p:nvPr/>
        </p:nvSpPr>
        <p:spPr>
          <a:xfrm>
            <a:off x="7534440" y="2544840"/>
            <a:ext cx="170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Roboto"/>
                <a:ea typeface="Roboto"/>
              </a:rPr>
              <a:t>Advanced Plan </a:t>
            </a:r>
            <a:endParaRPr b="0" lang="en-US" sz="1200" spc="-1" strike="noStrike">
              <a:solidFill>
                <a:srgbClr val="000000"/>
              </a:solidFill>
              <a:latin typeface="Calibri"/>
            </a:endParaRPr>
          </a:p>
        </p:txBody>
      </p:sp>
      <p:sp>
        <p:nvSpPr>
          <p:cNvPr id="1545" name="Persegi Panjang 24"/>
          <p:cNvSpPr/>
          <p:nvPr/>
        </p:nvSpPr>
        <p:spPr>
          <a:xfrm>
            <a:off x="7534440" y="2867040"/>
            <a:ext cx="161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Roboto Slab"/>
                <a:ea typeface="Roboto Slab"/>
              </a:rPr>
              <a:t>$</a:t>
            </a:r>
            <a:r>
              <a:rPr b="1" lang="en-US" sz="3600" spc="-1" strike="noStrike">
                <a:solidFill>
                  <a:srgbClr val="000000"/>
                </a:solidFill>
                <a:latin typeface="Roboto Slab"/>
                <a:ea typeface="Roboto Slab"/>
              </a:rPr>
              <a:t>700</a:t>
            </a:r>
            <a:endParaRPr b="0" lang="en-US" sz="3600" spc="-1" strike="noStrike">
              <a:solidFill>
                <a:srgbClr val="000000"/>
              </a:solidFill>
              <a:latin typeface="Calibri"/>
            </a:endParaRPr>
          </a:p>
        </p:txBody>
      </p:sp>
      <p:sp>
        <p:nvSpPr>
          <p:cNvPr id="1546" name="Persegi Panjang 24"/>
          <p:cNvSpPr/>
          <p:nvPr/>
        </p:nvSpPr>
        <p:spPr>
          <a:xfrm>
            <a:off x="7534440" y="3433680"/>
            <a:ext cx="103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Slab"/>
                <a:ea typeface="Roboto Slab"/>
              </a:rPr>
              <a:t>/ month</a:t>
            </a:r>
            <a:endParaRPr b="0" lang="en-US" sz="1200" spc="-1" strike="noStrike">
              <a:solidFill>
                <a:srgbClr val="000000"/>
              </a:solidFill>
              <a:latin typeface="Calibri"/>
            </a:endParaRPr>
          </a:p>
        </p:txBody>
      </p:sp>
      <p:grpSp>
        <p:nvGrpSpPr>
          <p:cNvPr id="1547" name="Group 19"/>
          <p:cNvGrpSpPr/>
          <p:nvPr/>
        </p:nvGrpSpPr>
        <p:grpSpPr>
          <a:xfrm>
            <a:off x="7534440" y="4013280"/>
            <a:ext cx="1611000" cy="1359000"/>
            <a:chOff x="7534440" y="4013280"/>
            <a:chExt cx="1611000" cy="1359000"/>
          </a:xfrm>
        </p:grpSpPr>
        <p:sp>
          <p:nvSpPr>
            <p:cNvPr id="1548" name="TextBox 20"/>
            <p:cNvSpPr/>
            <p:nvPr/>
          </p:nvSpPr>
          <p:spPr>
            <a:xfrm>
              <a:off x="7534440" y="4013280"/>
              <a:ext cx="1611000" cy="261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Service 1</a:t>
              </a:r>
              <a:endParaRPr b="0" lang="en-US" sz="1100" spc="-1" strike="noStrike">
                <a:solidFill>
                  <a:srgbClr val="000000"/>
                </a:solidFill>
                <a:latin typeface="Calibri"/>
              </a:endParaRPr>
            </a:p>
          </p:txBody>
        </p:sp>
        <p:sp>
          <p:nvSpPr>
            <p:cNvPr id="1549" name="TextBox 21"/>
            <p:cNvSpPr/>
            <p:nvPr/>
          </p:nvSpPr>
          <p:spPr>
            <a:xfrm>
              <a:off x="7534440" y="4287600"/>
              <a:ext cx="1611000" cy="261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Service 2</a:t>
              </a:r>
              <a:endParaRPr b="0" lang="en-US" sz="1100" spc="-1" strike="noStrike">
                <a:solidFill>
                  <a:srgbClr val="000000"/>
                </a:solidFill>
                <a:latin typeface="Calibri"/>
              </a:endParaRPr>
            </a:p>
          </p:txBody>
        </p:sp>
        <p:sp>
          <p:nvSpPr>
            <p:cNvPr id="1550" name="TextBox 22"/>
            <p:cNvSpPr/>
            <p:nvPr/>
          </p:nvSpPr>
          <p:spPr>
            <a:xfrm>
              <a:off x="7534440" y="4561920"/>
              <a:ext cx="1611000" cy="261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Service 3</a:t>
              </a:r>
              <a:endParaRPr b="0" lang="en-US" sz="1100" spc="-1" strike="noStrike">
                <a:solidFill>
                  <a:srgbClr val="000000"/>
                </a:solidFill>
                <a:latin typeface="Calibri"/>
              </a:endParaRPr>
            </a:p>
          </p:txBody>
        </p:sp>
        <p:sp>
          <p:nvSpPr>
            <p:cNvPr id="1551" name="TextBox 23"/>
            <p:cNvSpPr/>
            <p:nvPr/>
          </p:nvSpPr>
          <p:spPr>
            <a:xfrm>
              <a:off x="7534440" y="4836600"/>
              <a:ext cx="1611000" cy="261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Service 4</a:t>
              </a:r>
              <a:endParaRPr b="0" lang="en-US" sz="1100" spc="-1" strike="noStrike">
                <a:solidFill>
                  <a:srgbClr val="000000"/>
                </a:solidFill>
                <a:latin typeface="Calibri"/>
              </a:endParaRPr>
            </a:p>
          </p:txBody>
        </p:sp>
        <p:sp>
          <p:nvSpPr>
            <p:cNvPr id="1552" name="TextBox 24"/>
            <p:cNvSpPr/>
            <p:nvPr/>
          </p:nvSpPr>
          <p:spPr>
            <a:xfrm>
              <a:off x="7534440" y="5110920"/>
              <a:ext cx="1611000" cy="261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Service 5</a:t>
              </a:r>
              <a:endParaRPr b="0" lang="en-US" sz="1100" spc="-1" strike="noStrike">
                <a:solidFill>
                  <a:srgbClr val="000000"/>
                </a:solidFill>
                <a:latin typeface="Calibri"/>
              </a:endParaRPr>
            </a:p>
          </p:txBody>
        </p:sp>
      </p:grpSp>
      <p:sp>
        <p:nvSpPr>
          <p:cNvPr id="1553" name="Straight Connector 60"/>
          <p:cNvSpPr/>
          <p:nvPr/>
        </p:nvSpPr>
        <p:spPr>
          <a:xfrm>
            <a:off x="7608960" y="3862440"/>
            <a:ext cx="1376280" cy="0"/>
          </a:xfrm>
          <a:prstGeom prst="line">
            <a:avLst/>
          </a:prstGeom>
          <a:ln w="1260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4" name="Persegi Panjang 24"/>
          <p:cNvSpPr/>
          <p:nvPr/>
        </p:nvSpPr>
        <p:spPr>
          <a:xfrm>
            <a:off x="4513320" y="2544840"/>
            <a:ext cx="170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Roboto"/>
                <a:ea typeface="Roboto"/>
              </a:rPr>
              <a:t>Standard Plan </a:t>
            </a:r>
            <a:endParaRPr b="0" lang="en-US" sz="1200" spc="-1" strike="noStrike">
              <a:solidFill>
                <a:srgbClr val="000000"/>
              </a:solidFill>
              <a:latin typeface="Calibri"/>
            </a:endParaRPr>
          </a:p>
        </p:txBody>
      </p:sp>
      <p:sp>
        <p:nvSpPr>
          <p:cNvPr id="1555" name="Persegi Panjang 24"/>
          <p:cNvSpPr/>
          <p:nvPr/>
        </p:nvSpPr>
        <p:spPr>
          <a:xfrm>
            <a:off x="4513320" y="2867040"/>
            <a:ext cx="160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Roboto Slab"/>
                <a:ea typeface="Roboto Slab"/>
              </a:rPr>
              <a:t>$</a:t>
            </a:r>
            <a:r>
              <a:rPr b="1" lang="en-US" sz="3600" spc="-1" strike="noStrike">
                <a:solidFill>
                  <a:srgbClr val="000000"/>
                </a:solidFill>
                <a:latin typeface="Roboto Slab"/>
                <a:ea typeface="Roboto Slab"/>
              </a:rPr>
              <a:t>500</a:t>
            </a:r>
            <a:endParaRPr b="0" lang="en-US" sz="3600" spc="-1" strike="noStrike">
              <a:solidFill>
                <a:srgbClr val="000000"/>
              </a:solidFill>
              <a:latin typeface="Calibri"/>
            </a:endParaRPr>
          </a:p>
        </p:txBody>
      </p:sp>
      <p:sp>
        <p:nvSpPr>
          <p:cNvPr id="1556" name="Persegi Panjang 24"/>
          <p:cNvSpPr/>
          <p:nvPr/>
        </p:nvSpPr>
        <p:spPr>
          <a:xfrm>
            <a:off x="4513320" y="3433680"/>
            <a:ext cx="103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Slab"/>
                <a:ea typeface="Roboto Slab"/>
              </a:rPr>
              <a:t>/ month</a:t>
            </a:r>
            <a:endParaRPr b="0" lang="en-US" sz="1200" spc="-1" strike="noStrike">
              <a:solidFill>
                <a:srgbClr val="000000"/>
              </a:solidFill>
              <a:latin typeface="Calibri"/>
            </a:endParaRPr>
          </a:p>
        </p:txBody>
      </p:sp>
      <p:grpSp>
        <p:nvGrpSpPr>
          <p:cNvPr id="1557" name="Group 28"/>
          <p:cNvGrpSpPr/>
          <p:nvPr/>
        </p:nvGrpSpPr>
        <p:grpSpPr>
          <a:xfrm>
            <a:off x="4513320" y="4013280"/>
            <a:ext cx="1609560" cy="1084320"/>
            <a:chOff x="4513320" y="4013280"/>
            <a:chExt cx="1609560" cy="1084320"/>
          </a:xfrm>
        </p:grpSpPr>
        <p:sp>
          <p:nvSpPr>
            <p:cNvPr id="1558" name="TextBox 29"/>
            <p:cNvSpPr/>
            <p:nvPr/>
          </p:nvSpPr>
          <p:spPr>
            <a:xfrm>
              <a:off x="4513320" y="4013280"/>
              <a:ext cx="1609560" cy="261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Service 1</a:t>
              </a:r>
              <a:endParaRPr b="0" lang="en-US" sz="1100" spc="-1" strike="noStrike">
                <a:solidFill>
                  <a:srgbClr val="000000"/>
                </a:solidFill>
                <a:latin typeface="Calibri"/>
              </a:endParaRPr>
            </a:p>
          </p:txBody>
        </p:sp>
        <p:sp>
          <p:nvSpPr>
            <p:cNvPr id="1559" name="TextBox 30"/>
            <p:cNvSpPr/>
            <p:nvPr/>
          </p:nvSpPr>
          <p:spPr>
            <a:xfrm>
              <a:off x="4513320" y="4287600"/>
              <a:ext cx="1609560" cy="261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Service 2</a:t>
              </a:r>
              <a:endParaRPr b="0" lang="en-US" sz="1100" spc="-1" strike="noStrike">
                <a:solidFill>
                  <a:srgbClr val="000000"/>
                </a:solidFill>
                <a:latin typeface="Calibri"/>
              </a:endParaRPr>
            </a:p>
          </p:txBody>
        </p:sp>
        <p:sp>
          <p:nvSpPr>
            <p:cNvPr id="1560" name="TextBox 31"/>
            <p:cNvSpPr/>
            <p:nvPr/>
          </p:nvSpPr>
          <p:spPr>
            <a:xfrm>
              <a:off x="4513320" y="4561920"/>
              <a:ext cx="1609560" cy="261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Service 3</a:t>
              </a:r>
              <a:endParaRPr b="0" lang="en-US" sz="1100" spc="-1" strike="noStrike">
                <a:solidFill>
                  <a:srgbClr val="000000"/>
                </a:solidFill>
                <a:latin typeface="Calibri"/>
              </a:endParaRPr>
            </a:p>
          </p:txBody>
        </p:sp>
        <p:sp>
          <p:nvSpPr>
            <p:cNvPr id="1561" name="TextBox 32"/>
            <p:cNvSpPr/>
            <p:nvPr/>
          </p:nvSpPr>
          <p:spPr>
            <a:xfrm>
              <a:off x="4513320" y="4836240"/>
              <a:ext cx="1609560" cy="261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Service 4</a:t>
              </a:r>
              <a:endParaRPr b="0" lang="en-US" sz="1100" spc="-1" strike="noStrike">
                <a:solidFill>
                  <a:srgbClr val="000000"/>
                </a:solidFill>
                <a:latin typeface="Calibri"/>
              </a:endParaRPr>
            </a:p>
          </p:txBody>
        </p:sp>
      </p:grpSp>
      <p:sp>
        <p:nvSpPr>
          <p:cNvPr id="1562" name="Straight Connector 62"/>
          <p:cNvSpPr/>
          <p:nvPr/>
        </p:nvSpPr>
        <p:spPr>
          <a:xfrm>
            <a:off x="4599000" y="3862440"/>
            <a:ext cx="1338120" cy="0"/>
          </a:xfrm>
          <a:prstGeom prst="line">
            <a:avLst/>
          </a:prstGeom>
          <a:ln w="1260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3" name="Persegi Panjang 24"/>
          <p:cNvSpPr/>
          <p:nvPr/>
        </p:nvSpPr>
        <p:spPr>
          <a:xfrm>
            <a:off x="1492200" y="2544840"/>
            <a:ext cx="1706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Roboto"/>
                <a:ea typeface="Roboto"/>
              </a:rPr>
              <a:t>Basic Plan </a:t>
            </a:r>
            <a:endParaRPr b="0" lang="en-US" sz="1200" spc="-1" strike="noStrike">
              <a:solidFill>
                <a:srgbClr val="000000"/>
              </a:solidFill>
              <a:latin typeface="Calibri"/>
            </a:endParaRPr>
          </a:p>
        </p:txBody>
      </p:sp>
      <p:sp>
        <p:nvSpPr>
          <p:cNvPr id="1564" name="Persegi Panjang 24"/>
          <p:cNvSpPr/>
          <p:nvPr/>
        </p:nvSpPr>
        <p:spPr>
          <a:xfrm>
            <a:off x="1492200" y="2867040"/>
            <a:ext cx="160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Roboto Slab"/>
                <a:ea typeface="Roboto Slab"/>
              </a:rPr>
              <a:t>$</a:t>
            </a:r>
            <a:r>
              <a:rPr b="1" lang="en-US" sz="3600" spc="-1" strike="noStrike">
                <a:solidFill>
                  <a:srgbClr val="000000"/>
                </a:solidFill>
                <a:latin typeface="Roboto Slab"/>
                <a:ea typeface="Roboto Slab"/>
              </a:rPr>
              <a:t>300</a:t>
            </a:r>
            <a:endParaRPr b="0" lang="en-US" sz="3600" spc="-1" strike="noStrike">
              <a:solidFill>
                <a:srgbClr val="000000"/>
              </a:solidFill>
              <a:latin typeface="Calibri"/>
            </a:endParaRPr>
          </a:p>
        </p:txBody>
      </p:sp>
      <p:sp>
        <p:nvSpPr>
          <p:cNvPr id="1565" name="Persegi Panjang 24"/>
          <p:cNvSpPr/>
          <p:nvPr/>
        </p:nvSpPr>
        <p:spPr>
          <a:xfrm>
            <a:off x="1492200" y="3433680"/>
            <a:ext cx="103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Slab"/>
                <a:ea typeface="Roboto Slab"/>
              </a:rPr>
              <a:t>/ month</a:t>
            </a:r>
            <a:endParaRPr b="0" lang="en-US" sz="1200" spc="-1" strike="noStrike">
              <a:solidFill>
                <a:srgbClr val="000000"/>
              </a:solidFill>
              <a:latin typeface="Calibri"/>
            </a:endParaRPr>
          </a:p>
        </p:txBody>
      </p:sp>
      <p:grpSp>
        <p:nvGrpSpPr>
          <p:cNvPr id="1566" name="Group 39"/>
          <p:cNvGrpSpPr/>
          <p:nvPr/>
        </p:nvGrpSpPr>
        <p:grpSpPr>
          <a:xfrm>
            <a:off x="1492200" y="4013280"/>
            <a:ext cx="1609920" cy="810000"/>
            <a:chOff x="1492200" y="4013280"/>
            <a:chExt cx="1609920" cy="810000"/>
          </a:xfrm>
        </p:grpSpPr>
        <p:sp>
          <p:nvSpPr>
            <p:cNvPr id="1567" name="TextBox 40"/>
            <p:cNvSpPr/>
            <p:nvPr/>
          </p:nvSpPr>
          <p:spPr>
            <a:xfrm>
              <a:off x="1492200" y="4013280"/>
              <a:ext cx="1609920" cy="261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Service 1</a:t>
              </a:r>
              <a:endParaRPr b="0" lang="en-US" sz="1100" spc="-1" strike="noStrike">
                <a:solidFill>
                  <a:srgbClr val="000000"/>
                </a:solidFill>
                <a:latin typeface="Calibri"/>
              </a:endParaRPr>
            </a:p>
          </p:txBody>
        </p:sp>
        <p:sp>
          <p:nvSpPr>
            <p:cNvPr id="1568" name="TextBox 41"/>
            <p:cNvSpPr/>
            <p:nvPr/>
          </p:nvSpPr>
          <p:spPr>
            <a:xfrm>
              <a:off x="1492200" y="4287600"/>
              <a:ext cx="1609920" cy="261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Service 2</a:t>
              </a:r>
              <a:endParaRPr b="0" lang="en-US" sz="1100" spc="-1" strike="noStrike">
                <a:solidFill>
                  <a:srgbClr val="000000"/>
                </a:solidFill>
                <a:latin typeface="Calibri"/>
              </a:endParaRPr>
            </a:p>
          </p:txBody>
        </p:sp>
        <p:sp>
          <p:nvSpPr>
            <p:cNvPr id="1569" name="TextBox 42"/>
            <p:cNvSpPr/>
            <p:nvPr/>
          </p:nvSpPr>
          <p:spPr>
            <a:xfrm>
              <a:off x="1492200" y="4561920"/>
              <a:ext cx="1609920" cy="261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Light"/>
                  <a:ea typeface="Roboto Light"/>
                </a:rPr>
                <a:t>Service 3</a:t>
              </a:r>
              <a:endParaRPr b="0" lang="en-US" sz="1100" spc="-1" strike="noStrike">
                <a:solidFill>
                  <a:srgbClr val="000000"/>
                </a:solidFill>
                <a:latin typeface="Calibri"/>
              </a:endParaRPr>
            </a:p>
          </p:txBody>
        </p:sp>
      </p:grpSp>
      <p:sp>
        <p:nvSpPr>
          <p:cNvPr id="1570" name="Straight Connector 63"/>
          <p:cNvSpPr/>
          <p:nvPr/>
        </p:nvSpPr>
        <p:spPr>
          <a:xfrm>
            <a:off x="1581120" y="3862440"/>
            <a:ext cx="1278000" cy="0"/>
          </a:xfrm>
          <a:prstGeom prst="line">
            <a:avLst/>
          </a:prstGeom>
          <a:ln w="1260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1" name="TextBox 68"/>
          <p:cNvSpPr/>
          <p:nvPr/>
        </p:nvSpPr>
        <p:spPr>
          <a:xfrm>
            <a:off x="4494240" y="839880"/>
            <a:ext cx="3732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a:t>
            </a:r>
            <a:endParaRPr b="0" lang="en-US" sz="1100" spc="-1" strike="noStrike">
              <a:solidFill>
                <a:srgbClr val="000000"/>
              </a:solidFill>
              <a:latin typeface="Calibri"/>
            </a:endParaRPr>
          </a:p>
        </p:txBody>
      </p:sp>
      <p:sp>
        <p:nvSpPr>
          <p:cNvPr id="1572" name="Straight Connector 69"/>
          <p:cNvSpPr/>
          <p:nvPr/>
        </p:nvSpPr>
        <p:spPr>
          <a:xfrm>
            <a:off x="1054080" y="1582560"/>
            <a:ext cx="488880" cy="0"/>
          </a:xfrm>
          <a:prstGeom prst="line">
            <a:avLst/>
          </a:prstGeom>
          <a:ln w="3816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TextBox 19"/>
          <p:cNvSpPr/>
          <p:nvPr/>
        </p:nvSpPr>
        <p:spPr>
          <a:xfrm>
            <a:off x="4486320" y="3408480"/>
            <a:ext cx="85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c8ffb"/>
                </a:solidFill>
                <a:latin typeface="Roboto Slab"/>
                <a:ea typeface="Roboto Slab"/>
              </a:rPr>
              <a:t>#01</a:t>
            </a:r>
            <a:endParaRPr b="0" lang="en-US" sz="2400" spc="-1" strike="noStrike">
              <a:solidFill>
                <a:srgbClr val="000000"/>
              </a:solidFill>
              <a:latin typeface="Calibri"/>
            </a:endParaRPr>
          </a:p>
        </p:txBody>
      </p:sp>
      <p:sp>
        <p:nvSpPr>
          <p:cNvPr id="1574" name="TextBox 24"/>
          <p:cNvSpPr/>
          <p:nvPr/>
        </p:nvSpPr>
        <p:spPr>
          <a:xfrm>
            <a:off x="4486320" y="3805200"/>
            <a:ext cx="13269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Subtitle</a:t>
            </a:r>
            <a:endParaRPr b="0" lang="en-US" sz="1400" spc="-1" strike="noStrike">
              <a:solidFill>
                <a:srgbClr val="000000"/>
              </a:solidFill>
              <a:latin typeface="Calibri"/>
            </a:endParaRPr>
          </a:p>
        </p:txBody>
      </p:sp>
      <p:sp>
        <p:nvSpPr>
          <p:cNvPr id="1575" name="TextBox 25"/>
          <p:cNvSpPr/>
          <p:nvPr/>
        </p:nvSpPr>
        <p:spPr>
          <a:xfrm>
            <a:off x="4486320" y="4194000"/>
            <a:ext cx="19987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p:txBody>
      </p:sp>
      <p:grpSp>
        <p:nvGrpSpPr>
          <p:cNvPr id="1576" name="Group 59"/>
          <p:cNvGrpSpPr/>
          <p:nvPr/>
        </p:nvGrpSpPr>
        <p:grpSpPr>
          <a:xfrm>
            <a:off x="5815080" y="2792520"/>
            <a:ext cx="511200" cy="511200"/>
            <a:chOff x="5815080" y="2792520"/>
            <a:chExt cx="511200" cy="511200"/>
          </a:xfrm>
        </p:grpSpPr>
        <p:sp>
          <p:nvSpPr>
            <p:cNvPr id="1577" name="Oval 43"/>
            <p:cNvSpPr/>
            <p:nvPr/>
          </p:nvSpPr>
          <p:spPr>
            <a:xfrm>
              <a:off x="5815080" y="2792520"/>
              <a:ext cx="511200" cy="511200"/>
            </a:xfrm>
            <a:prstGeom prst="ellipse">
              <a:avLst/>
            </a:prstGeom>
            <a:solidFill>
              <a:srgbClr val="bad0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78" name="Graphic 32" descr="Cube"/>
            <p:cNvPicPr/>
            <p:nvPr/>
          </p:nvPicPr>
          <p:blipFill>
            <a:blip r:embed="rId1"/>
            <a:stretch/>
          </p:blipFill>
          <p:spPr>
            <a:xfrm>
              <a:off x="5955840" y="2933640"/>
              <a:ext cx="228960" cy="228960"/>
            </a:xfrm>
            <a:prstGeom prst="rect">
              <a:avLst/>
            </a:prstGeom>
            <a:ln w="0">
              <a:noFill/>
            </a:ln>
          </p:spPr>
        </p:pic>
      </p:grpSp>
      <p:sp>
        <p:nvSpPr>
          <p:cNvPr id="1579" name="TextBox 33"/>
          <p:cNvSpPr/>
          <p:nvPr/>
        </p:nvSpPr>
        <p:spPr>
          <a:xfrm>
            <a:off x="6978600" y="4284720"/>
            <a:ext cx="8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c8ffb"/>
                </a:solidFill>
                <a:latin typeface="Roboto Slab"/>
                <a:ea typeface="Roboto Slab"/>
              </a:rPr>
              <a:t>#02</a:t>
            </a:r>
            <a:endParaRPr b="0" lang="en-US" sz="2400" spc="-1" strike="noStrike">
              <a:solidFill>
                <a:srgbClr val="000000"/>
              </a:solidFill>
              <a:latin typeface="Calibri"/>
            </a:endParaRPr>
          </a:p>
        </p:txBody>
      </p:sp>
      <p:sp>
        <p:nvSpPr>
          <p:cNvPr id="1580" name="TextBox 34"/>
          <p:cNvSpPr/>
          <p:nvPr/>
        </p:nvSpPr>
        <p:spPr>
          <a:xfrm>
            <a:off x="6978600" y="4681440"/>
            <a:ext cx="132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Subtitle</a:t>
            </a:r>
            <a:endParaRPr b="0" lang="en-US" sz="1400" spc="-1" strike="noStrike">
              <a:solidFill>
                <a:srgbClr val="000000"/>
              </a:solidFill>
              <a:latin typeface="Calibri"/>
            </a:endParaRPr>
          </a:p>
        </p:txBody>
      </p:sp>
      <p:sp>
        <p:nvSpPr>
          <p:cNvPr id="1581" name="TextBox 35"/>
          <p:cNvSpPr/>
          <p:nvPr/>
        </p:nvSpPr>
        <p:spPr>
          <a:xfrm>
            <a:off x="6978600" y="5070600"/>
            <a:ext cx="20001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p:txBody>
      </p:sp>
      <p:grpSp>
        <p:nvGrpSpPr>
          <p:cNvPr id="1582" name="Group 77"/>
          <p:cNvGrpSpPr/>
          <p:nvPr/>
        </p:nvGrpSpPr>
        <p:grpSpPr>
          <a:xfrm>
            <a:off x="8283600" y="3665520"/>
            <a:ext cx="515880" cy="515880"/>
            <a:chOff x="8283600" y="3665520"/>
            <a:chExt cx="515880" cy="515880"/>
          </a:xfrm>
        </p:grpSpPr>
        <p:sp>
          <p:nvSpPr>
            <p:cNvPr id="1583" name="Oval 78"/>
            <p:cNvSpPr/>
            <p:nvPr/>
          </p:nvSpPr>
          <p:spPr>
            <a:xfrm>
              <a:off x="8283600" y="3665520"/>
              <a:ext cx="515880" cy="515880"/>
            </a:xfrm>
            <a:prstGeom prst="ellipse">
              <a:avLst/>
            </a:prstGeom>
            <a:solidFill>
              <a:srgbClr val="bad0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4" name="Graphic 82"/>
            <p:cNvSpPr/>
            <p:nvPr/>
          </p:nvSpPr>
          <p:spPr>
            <a:xfrm>
              <a:off x="8409600" y="3812400"/>
              <a:ext cx="263520" cy="221760"/>
            </a:xfrm>
            <a:custGeom>
              <a:avLst/>
              <a:gdLst/>
              <a:ahLst/>
              <a:rect l="l" t="t" r="r" b="b"/>
              <a:pathLst>
                <a:path w="838200" h="704922">
                  <a:moveTo>
                    <a:pt x="800100" y="647772"/>
                  </a:moveTo>
                  <a:lnTo>
                    <a:pt x="800100" y="114372"/>
                  </a:lnTo>
                  <a:lnTo>
                    <a:pt x="762000" y="114372"/>
                  </a:lnTo>
                  <a:lnTo>
                    <a:pt x="762000" y="200097"/>
                  </a:lnTo>
                  <a:lnTo>
                    <a:pt x="704850" y="200097"/>
                  </a:lnTo>
                  <a:lnTo>
                    <a:pt x="704850" y="66747"/>
                  </a:lnTo>
                  <a:cubicBezTo>
                    <a:pt x="704850" y="46745"/>
                    <a:pt x="708660" y="39125"/>
                    <a:pt x="709613" y="37220"/>
                  </a:cubicBezTo>
                  <a:cubicBezTo>
                    <a:pt x="718185" y="35315"/>
                    <a:pt x="723900" y="27695"/>
                    <a:pt x="723900" y="18170"/>
                  </a:cubicBezTo>
                  <a:cubicBezTo>
                    <a:pt x="723900" y="7692"/>
                    <a:pt x="715328" y="-880"/>
                    <a:pt x="704850" y="72"/>
                  </a:cubicBezTo>
                  <a:lnTo>
                    <a:pt x="704850" y="72"/>
                  </a:lnTo>
                  <a:lnTo>
                    <a:pt x="553403" y="72"/>
                  </a:lnTo>
                  <a:cubicBezTo>
                    <a:pt x="542925" y="-880"/>
                    <a:pt x="534353" y="7692"/>
                    <a:pt x="533400" y="18170"/>
                  </a:cubicBezTo>
                  <a:cubicBezTo>
                    <a:pt x="533400" y="26742"/>
                    <a:pt x="539115" y="34362"/>
                    <a:pt x="547688" y="37220"/>
                  </a:cubicBezTo>
                  <a:cubicBezTo>
                    <a:pt x="548640" y="39125"/>
                    <a:pt x="552450" y="46745"/>
                    <a:pt x="552450" y="66747"/>
                  </a:cubicBezTo>
                  <a:lnTo>
                    <a:pt x="552450" y="200097"/>
                  </a:lnTo>
                  <a:lnTo>
                    <a:pt x="495300" y="200097"/>
                  </a:lnTo>
                  <a:lnTo>
                    <a:pt x="495300" y="66747"/>
                  </a:lnTo>
                  <a:cubicBezTo>
                    <a:pt x="495300" y="46745"/>
                    <a:pt x="499110" y="39125"/>
                    <a:pt x="500063" y="37220"/>
                  </a:cubicBezTo>
                  <a:cubicBezTo>
                    <a:pt x="508635" y="35315"/>
                    <a:pt x="514350" y="27695"/>
                    <a:pt x="514350" y="18170"/>
                  </a:cubicBezTo>
                  <a:cubicBezTo>
                    <a:pt x="514350" y="7692"/>
                    <a:pt x="505778" y="-880"/>
                    <a:pt x="495300" y="72"/>
                  </a:cubicBezTo>
                  <a:lnTo>
                    <a:pt x="495300" y="72"/>
                  </a:lnTo>
                  <a:lnTo>
                    <a:pt x="343853" y="72"/>
                  </a:lnTo>
                  <a:cubicBezTo>
                    <a:pt x="333375" y="-880"/>
                    <a:pt x="324803" y="7692"/>
                    <a:pt x="323850" y="18170"/>
                  </a:cubicBezTo>
                  <a:cubicBezTo>
                    <a:pt x="323850" y="26742"/>
                    <a:pt x="329565" y="34362"/>
                    <a:pt x="338138" y="37220"/>
                  </a:cubicBezTo>
                  <a:cubicBezTo>
                    <a:pt x="339090" y="39125"/>
                    <a:pt x="342900" y="46745"/>
                    <a:pt x="342900" y="66747"/>
                  </a:cubicBezTo>
                  <a:lnTo>
                    <a:pt x="342900" y="200097"/>
                  </a:lnTo>
                  <a:lnTo>
                    <a:pt x="285750" y="200097"/>
                  </a:lnTo>
                  <a:lnTo>
                    <a:pt x="285750" y="66747"/>
                  </a:lnTo>
                  <a:cubicBezTo>
                    <a:pt x="285750" y="46745"/>
                    <a:pt x="289560" y="39125"/>
                    <a:pt x="290513" y="37220"/>
                  </a:cubicBezTo>
                  <a:cubicBezTo>
                    <a:pt x="299085" y="35315"/>
                    <a:pt x="304800" y="27695"/>
                    <a:pt x="304800" y="18170"/>
                  </a:cubicBezTo>
                  <a:cubicBezTo>
                    <a:pt x="304800" y="7692"/>
                    <a:pt x="296228" y="-880"/>
                    <a:pt x="285750" y="72"/>
                  </a:cubicBezTo>
                  <a:lnTo>
                    <a:pt x="285750" y="72"/>
                  </a:lnTo>
                  <a:lnTo>
                    <a:pt x="134303" y="72"/>
                  </a:lnTo>
                  <a:cubicBezTo>
                    <a:pt x="123825" y="-880"/>
                    <a:pt x="115253" y="7692"/>
                    <a:pt x="114300" y="18170"/>
                  </a:cubicBezTo>
                  <a:cubicBezTo>
                    <a:pt x="114300" y="26742"/>
                    <a:pt x="120015" y="34362"/>
                    <a:pt x="128588" y="37220"/>
                  </a:cubicBezTo>
                  <a:cubicBezTo>
                    <a:pt x="129540" y="39125"/>
                    <a:pt x="133350" y="46745"/>
                    <a:pt x="133350" y="66747"/>
                  </a:cubicBezTo>
                  <a:lnTo>
                    <a:pt x="133350" y="200097"/>
                  </a:lnTo>
                  <a:lnTo>
                    <a:pt x="76200" y="200097"/>
                  </a:lnTo>
                  <a:lnTo>
                    <a:pt x="76200" y="114372"/>
                  </a:lnTo>
                  <a:lnTo>
                    <a:pt x="38100" y="114372"/>
                  </a:lnTo>
                  <a:lnTo>
                    <a:pt x="38100" y="647772"/>
                  </a:lnTo>
                  <a:lnTo>
                    <a:pt x="0" y="647772"/>
                  </a:lnTo>
                  <a:lnTo>
                    <a:pt x="0" y="704922"/>
                  </a:lnTo>
                  <a:lnTo>
                    <a:pt x="838200" y="704922"/>
                  </a:lnTo>
                  <a:lnTo>
                    <a:pt x="838200" y="647772"/>
                  </a:lnTo>
                  <a:lnTo>
                    <a:pt x="800100" y="647772"/>
                  </a:lnTo>
                  <a:close/>
                  <a:moveTo>
                    <a:pt x="669608" y="38172"/>
                  </a:moveTo>
                  <a:cubicBezTo>
                    <a:pt x="667703" y="45792"/>
                    <a:pt x="666750" y="55317"/>
                    <a:pt x="666750" y="66747"/>
                  </a:cubicBezTo>
                  <a:lnTo>
                    <a:pt x="666750" y="152472"/>
                  </a:lnTo>
                  <a:cubicBezTo>
                    <a:pt x="666750" y="152472"/>
                    <a:pt x="647700" y="142947"/>
                    <a:pt x="628650" y="142947"/>
                  </a:cubicBezTo>
                  <a:cubicBezTo>
                    <a:pt x="609600" y="142947"/>
                    <a:pt x="590550" y="152472"/>
                    <a:pt x="590550" y="152472"/>
                  </a:cubicBezTo>
                  <a:lnTo>
                    <a:pt x="590550" y="66747"/>
                  </a:lnTo>
                  <a:cubicBezTo>
                    <a:pt x="590550" y="55317"/>
                    <a:pt x="589598" y="45792"/>
                    <a:pt x="587693" y="38172"/>
                  </a:cubicBezTo>
                  <a:lnTo>
                    <a:pt x="669608" y="38172"/>
                  </a:lnTo>
                  <a:close/>
                  <a:moveTo>
                    <a:pt x="460058" y="38172"/>
                  </a:moveTo>
                  <a:cubicBezTo>
                    <a:pt x="458153" y="45792"/>
                    <a:pt x="457200" y="55317"/>
                    <a:pt x="457200" y="66747"/>
                  </a:cubicBezTo>
                  <a:lnTo>
                    <a:pt x="457200" y="152472"/>
                  </a:lnTo>
                  <a:cubicBezTo>
                    <a:pt x="457200" y="152472"/>
                    <a:pt x="438150" y="142947"/>
                    <a:pt x="419100" y="142947"/>
                  </a:cubicBezTo>
                  <a:cubicBezTo>
                    <a:pt x="400050" y="142947"/>
                    <a:pt x="381000" y="152472"/>
                    <a:pt x="381000" y="152472"/>
                  </a:cubicBezTo>
                  <a:lnTo>
                    <a:pt x="381000" y="66747"/>
                  </a:lnTo>
                  <a:cubicBezTo>
                    <a:pt x="381000" y="55317"/>
                    <a:pt x="380048" y="45792"/>
                    <a:pt x="378143" y="38172"/>
                  </a:cubicBezTo>
                  <a:lnTo>
                    <a:pt x="460058" y="38172"/>
                  </a:lnTo>
                  <a:close/>
                  <a:moveTo>
                    <a:pt x="250508" y="38172"/>
                  </a:moveTo>
                  <a:cubicBezTo>
                    <a:pt x="248603" y="45792"/>
                    <a:pt x="247650" y="55317"/>
                    <a:pt x="247650" y="66747"/>
                  </a:cubicBezTo>
                  <a:lnTo>
                    <a:pt x="247650" y="152472"/>
                  </a:lnTo>
                  <a:cubicBezTo>
                    <a:pt x="247650" y="152472"/>
                    <a:pt x="228600" y="142947"/>
                    <a:pt x="209550" y="142947"/>
                  </a:cubicBezTo>
                  <a:cubicBezTo>
                    <a:pt x="190500" y="142947"/>
                    <a:pt x="171450" y="152472"/>
                    <a:pt x="171450" y="152472"/>
                  </a:cubicBezTo>
                  <a:lnTo>
                    <a:pt x="171450" y="66747"/>
                  </a:lnTo>
                  <a:cubicBezTo>
                    <a:pt x="171450" y="55317"/>
                    <a:pt x="170498" y="45792"/>
                    <a:pt x="168593" y="38172"/>
                  </a:cubicBezTo>
                  <a:lnTo>
                    <a:pt x="250508" y="38172"/>
                  </a:lnTo>
                  <a:close/>
                  <a:moveTo>
                    <a:pt x="762000" y="647772"/>
                  </a:moveTo>
                  <a:lnTo>
                    <a:pt x="76200" y="647772"/>
                  </a:lnTo>
                  <a:lnTo>
                    <a:pt x="76200" y="238197"/>
                  </a:lnTo>
                  <a:lnTo>
                    <a:pt x="133350" y="238197"/>
                  </a:lnTo>
                  <a:lnTo>
                    <a:pt x="133350" y="533472"/>
                  </a:lnTo>
                  <a:cubicBezTo>
                    <a:pt x="133350" y="575382"/>
                    <a:pt x="167640" y="609672"/>
                    <a:pt x="209550" y="609672"/>
                  </a:cubicBezTo>
                  <a:cubicBezTo>
                    <a:pt x="251460" y="609672"/>
                    <a:pt x="285750" y="575382"/>
                    <a:pt x="285750" y="533472"/>
                  </a:cubicBezTo>
                  <a:lnTo>
                    <a:pt x="285750" y="238197"/>
                  </a:lnTo>
                  <a:lnTo>
                    <a:pt x="342900" y="238197"/>
                  </a:lnTo>
                  <a:lnTo>
                    <a:pt x="342900" y="533472"/>
                  </a:lnTo>
                  <a:cubicBezTo>
                    <a:pt x="342900" y="575382"/>
                    <a:pt x="377190" y="609672"/>
                    <a:pt x="419100" y="609672"/>
                  </a:cubicBezTo>
                  <a:cubicBezTo>
                    <a:pt x="461010" y="609672"/>
                    <a:pt x="495300" y="575382"/>
                    <a:pt x="495300" y="533472"/>
                  </a:cubicBezTo>
                  <a:lnTo>
                    <a:pt x="495300" y="238197"/>
                  </a:lnTo>
                  <a:lnTo>
                    <a:pt x="552450" y="238197"/>
                  </a:lnTo>
                  <a:lnTo>
                    <a:pt x="552450" y="533472"/>
                  </a:lnTo>
                  <a:cubicBezTo>
                    <a:pt x="552450" y="575382"/>
                    <a:pt x="586740" y="609672"/>
                    <a:pt x="628650" y="609672"/>
                  </a:cubicBezTo>
                  <a:cubicBezTo>
                    <a:pt x="670560" y="609672"/>
                    <a:pt x="704850" y="575382"/>
                    <a:pt x="704850" y="533472"/>
                  </a:cubicBezTo>
                  <a:lnTo>
                    <a:pt x="704850" y="238197"/>
                  </a:lnTo>
                  <a:lnTo>
                    <a:pt x="762000" y="238197"/>
                  </a:lnTo>
                  <a:lnTo>
                    <a:pt x="762000" y="64777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585" name="TextBox 39"/>
          <p:cNvSpPr/>
          <p:nvPr/>
        </p:nvSpPr>
        <p:spPr>
          <a:xfrm>
            <a:off x="9472680" y="3408480"/>
            <a:ext cx="8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c8ffb"/>
                </a:solidFill>
                <a:latin typeface="Roboto Slab"/>
                <a:ea typeface="Roboto Slab"/>
              </a:rPr>
              <a:t>#03</a:t>
            </a:r>
            <a:endParaRPr b="0" lang="en-US" sz="2400" spc="-1" strike="noStrike">
              <a:solidFill>
                <a:srgbClr val="000000"/>
              </a:solidFill>
              <a:latin typeface="Calibri"/>
            </a:endParaRPr>
          </a:p>
        </p:txBody>
      </p:sp>
      <p:sp>
        <p:nvSpPr>
          <p:cNvPr id="1586" name="TextBox 40"/>
          <p:cNvSpPr/>
          <p:nvPr/>
        </p:nvSpPr>
        <p:spPr>
          <a:xfrm>
            <a:off x="9472680" y="3805200"/>
            <a:ext cx="13269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Subtitle</a:t>
            </a:r>
            <a:endParaRPr b="0" lang="en-US" sz="1400" spc="-1" strike="noStrike">
              <a:solidFill>
                <a:srgbClr val="000000"/>
              </a:solidFill>
              <a:latin typeface="Calibri"/>
            </a:endParaRPr>
          </a:p>
        </p:txBody>
      </p:sp>
      <p:sp>
        <p:nvSpPr>
          <p:cNvPr id="1587" name="TextBox 41"/>
          <p:cNvSpPr/>
          <p:nvPr/>
        </p:nvSpPr>
        <p:spPr>
          <a:xfrm>
            <a:off x="9472680" y="4194000"/>
            <a:ext cx="20001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p:txBody>
      </p:sp>
      <p:grpSp>
        <p:nvGrpSpPr>
          <p:cNvPr id="1588" name="Group 80"/>
          <p:cNvGrpSpPr/>
          <p:nvPr/>
        </p:nvGrpSpPr>
        <p:grpSpPr>
          <a:xfrm>
            <a:off x="10802880" y="2789280"/>
            <a:ext cx="515880" cy="515880"/>
            <a:chOff x="10802880" y="2789280"/>
            <a:chExt cx="515880" cy="515880"/>
          </a:xfrm>
        </p:grpSpPr>
        <p:sp>
          <p:nvSpPr>
            <p:cNvPr id="1589" name="Oval 81"/>
            <p:cNvSpPr/>
            <p:nvPr/>
          </p:nvSpPr>
          <p:spPr>
            <a:xfrm>
              <a:off x="10802880" y="2789280"/>
              <a:ext cx="515880" cy="515880"/>
            </a:xfrm>
            <a:prstGeom prst="ellipse">
              <a:avLst/>
            </a:prstGeom>
            <a:solidFill>
              <a:srgbClr val="bad0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0" name="Graphic 84"/>
            <p:cNvSpPr/>
            <p:nvPr/>
          </p:nvSpPr>
          <p:spPr>
            <a:xfrm>
              <a:off x="10942920" y="2937240"/>
              <a:ext cx="235800" cy="219960"/>
            </a:xfrm>
            <a:custGeom>
              <a:avLst/>
              <a:gdLst/>
              <a:ahLst/>
              <a:rect l="l" t="t" r="r" b="b"/>
              <a:pathLst>
                <a:path w="749617" h="699135">
                  <a:moveTo>
                    <a:pt x="337185" y="641985"/>
                  </a:moveTo>
                  <a:lnTo>
                    <a:pt x="278130" y="641985"/>
                  </a:lnTo>
                  <a:lnTo>
                    <a:pt x="78105" y="441960"/>
                  </a:lnTo>
                  <a:lnTo>
                    <a:pt x="260032" y="260032"/>
                  </a:lnTo>
                  <a:lnTo>
                    <a:pt x="488633" y="488633"/>
                  </a:lnTo>
                  <a:lnTo>
                    <a:pt x="337185" y="641985"/>
                  </a:lnTo>
                  <a:close/>
                  <a:moveTo>
                    <a:pt x="738188" y="280988"/>
                  </a:moveTo>
                  <a:lnTo>
                    <a:pt x="469583" y="11430"/>
                  </a:lnTo>
                  <a:cubicBezTo>
                    <a:pt x="454343" y="-3810"/>
                    <a:pt x="430530" y="-3810"/>
                    <a:pt x="415290" y="11430"/>
                  </a:cubicBezTo>
                  <a:lnTo>
                    <a:pt x="11430" y="415290"/>
                  </a:lnTo>
                  <a:cubicBezTo>
                    <a:pt x="-3810" y="430530"/>
                    <a:pt x="-3810" y="454343"/>
                    <a:pt x="11430" y="469583"/>
                  </a:cubicBezTo>
                  <a:lnTo>
                    <a:pt x="240982" y="699135"/>
                  </a:lnTo>
                  <a:lnTo>
                    <a:pt x="644842" y="699135"/>
                  </a:lnTo>
                  <a:lnTo>
                    <a:pt x="644842" y="641985"/>
                  </a:lnTo>
                  <a:lnTo>
                    <a:pt x="431483" y="641985"/>
                  </a:lnTo>
                  <a:lnTo>
                    <a:pt x="738188" y="335280"/>
                  </a:lnTo>
                  <a:cubicBezTo>
                    <a:pt x="753428" y="320040"/>
                    <a:pt x="753428" y="295275"/>
                    <a:pt x="738188" y="28098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591" name="TextBox 2"/>
          <p:cNvSpPr/>
          <p:nvPr/>
        </p:nvSpPr>
        <p:spPr>
          <a:xfrm>
            <a:off x="1015920" y="1098720"/>
            <a:ext cx="241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Slab"/>
                <a:ea typeface="Roboto Slab"/>
              </a:rPr>
              <a:t>Our </a:t>
            </a:r>
            <a:r>
              <a:rPr b="0" lang="en-US" sz="3600" spc="-1" strike="noStrike">
                <a:solidFill>
                  <a:srgbClr val="000000"/>
                </a:solidFill>
                <a:latin typeface="Roboto Slab Medium"/>
                <a:ea typeface="Roboto Slab Medium"/>
              </a:rPr>
              <a:t>History</a:t>
            </a:r>
            <a:endParaRPr b="0" lang="en-US" sz="3600" spc="-1" strike="noStrike">
              <a:solidFill>
                <a:srgbClr val="000000"/>
              </a:solidFill>
              <a:latin typeface="Calibri"/>
            </a:endParaRPr>
          </a:p>
        </p:txBody>
      </p:sp>
      <p:sp>
        <p:nvSpPr>
          <p:cNvPr id="1592" name="TextBox 28"/>
          <p:cNvSpPr/>
          <p:nvPr/>
        </p:nvSpPr>
        <p:spPr>
          <a:xfrm>
            <a:off x="1015920" y="3321000"/>
            <a:ext cx="2679840" cy="1850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Ut enim ad minim veniam, quis nostrud exercitation ullamco laboris nisi ut aliquip ex ea commodo consequat. </a:t>
            </a:r>
            <a:endParaRPr b="0" lang="en-US" sz="1100" spc="-1" strike="noStrike">
              <a:solidFill>
                <a:srgbClr val="000000"/>
              </a:solidFill>
              <a:latin typeface="Calibri"/>
            </a:endParaRPr>
          </a:p>
        </p:txBody>
      </p:sp>
      <p:sp>
        <p:nvSpPr>
          <p:cNvPr id="1593" name="TextBox 83"/>
          <p:cNvSpPr/>
          <p:nvPr/>
        </p:nvSpPr>
        <p:spPr>
          <a:xfrm>
            <a:off x="1039680" y="5419800"/>
            <a:ext cx="256068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boto Slab Medium"/>
                <a:ea typeface="Roboto Slab Medium"/>
              </a:rPr>
              <a:t>Lorem ipsum dolor sit</a:t>
            </a:r>
            <a:endParaRPr b="0" lang="en-US" sz="1200" spc="-1" strike="noStrike">
              <a:solidFill>
                <a:srgbClr val="000000"/>
              </a:solidFill>
              <a:latin typeface="Calibri"/>
            </a:endParaRPr>
          </a:p>
        </p:txBody>
      </p:sp>
      <p:sp>
        <p:nvSpPr>
          <p:cNvPr id="1594" name="Straight Connector 141"/>
          <p:cNvSpPr/>
          <p:nvPr/>
        </p:nvSpPr>
        <p:spPr>
          <a:xfrm>
            <a:off x="1133640" y="5276880"/>
            <a:ext cx="2398680" cy="0"/>
          </a:xfrm>
          <a:prstGeom prst="line">
            <a:avLst/>
          </a:prstGeom>
          <a:ln w="1260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95" name="Graphic 34" descr="Globe"/>
          <p:cNvPicPr/>
          <p:nvPr/>
        </p:nvPicPr>
        <p:blipFill>
          <a:blip r:embed="rId2"/>
          <a:stretch/>
        </p:blipFill>
        <p:spPr>
          <a:xfrm>
            <a:off x="1104840" y="2743200"/>
            <a:ext cx="381240" cy="44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TextBox 9"/>
          <p:cNvSpPr/>
          <p:nvPr/>
        </p:nvSpPr>
        <p:spPr>
          <a:xfrm>
            <a:off x="1268280" y="4772160"/>
            <a:ext cx="200052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597" name="TextBox 29"/>
          <p:cNvSpPr/>
          <p:nvPr/>
        </p:nvSpPr>
        <p:spPr>
          <a:xfrm>
            <a:off x="3830760" y="4772160"/>
            <a:ext cx="199872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598" name="TextBox 35"/>
          <p:cNvSpPr/>
          <p:nvPr/>
        </p:nvSpPr>
        <p:spPr>
          <a:xfrm>
            <a:off x="6391440" y="4772160"/>
            <a:ext cx="199836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599" name="TextBox 7"/>
          <p:cNvSpPr/>
          <p:nvPr/>
        </p:nvSpPr>
        <p:spPr>
          <a:xfrm>
            <a:off x="1268280" y="3911760"/>
            <a:ext cx="8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c8ffb"/>
                </a:solidFill>
                <a:latin typeface="Roboto Slab Medium"/>
                <a:ea typeface="Roboto Slab Medium"/>
              </a:rPr>
              <a:t>#04</a:t>
            </a:r>
            <a:endParaRPr b="0" lang="en-US" sz="2400" spc="-1" strike="noStrike">
              <a:solidFill>
                <a:srgbClr val="000000"/>
              </a:solidFill>
              <a:latin typeface="Calibri"/>
            </a:endParaRPr>
          </a:p>
        </p:txBody>
      </p:sp>
      <p:sp>
        <p:nvSpPr>
          <p:cNvPr id="1600" name="TextBox 8"/>
          <p:cNvSpPr/>
          <p:nvPr/>
        </p:nvSpPr>
        <p:spPr>
          <a:xfrm>
            <a:off x="1268280" y="4321080"/>
            <a:ext cx="10130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Subtitle</a:t>
            </a:r>
            <a:endParaRPr b="0" lang="en-US" sz="1400" spc="-1" strike="noStrike">
              <a:solidFill>
                <a:srgbClr val="000000"/>
              </a:solidFill>
              <a:latin typeface="Calibri"/>
            </a:endParaRPr>
          </a:p>
        </p:txBody>
      </p:sp>
      <p:sp>
        <p:nvSpPr>
          <p:cNvPr id="1601" name="TextBox 27"/>
          <p:cNvSpPr/>
          <p:nvPr/>
        </p:nvSpPr>
        <p:spPr>
          <a:xfrm>
            <a:off x="3830760" y="3911760"/>
            <a:ext cx="85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c8ffb"/>
                </a:solidFill>
                <a:latin typeface="Roboto Slab Medium"/>
                <a:ea typeface="Roboto Slab Medium"/>
              </a:rPr>
              <a:t>#05</a:t>
            </a:r>
            <a:endParaRPr b="0" lang="en-US" sz="2400" spc="-1" strike="noStrike">
              <a:solidFill>
                <a:srgbClr val="000000"/>
              </a:solidFill>
              <a:latin typeface="Calibri"/>
            </a:endParaRPr>
          </a:p>
        </p:txBody>
      </p:sp>
      <p:sp>
        <p:nvSpPr>
          <p:cNvPr id="1602" name="TextBox 28"/>
          <p:cNvSpPr/>
          <p:nvPr/>
        </p:nvSpPr>
        <p:spPr>
          <a:xfrm>
            <a:off x="3830760" y="4321080"/>
            <a:ext cx="10112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Subtitle</a:t>
            </a:r>
            <a:endParaRPr b="0" lang="en-US" sz="1400" spc="-1" strike="noStrike">
              <a:solidFill>
                <a:srgbClr val="000000"/>
              </a:solidFill>
              <a:latin typeface="Calibri"/>
            </a:endParaRPr>
          </a:p>
        </p:txBody>
      </p:sp>
      <p:sp>
        <p:nvSpPr>
          <p:cNvPr id="1603" name="TextBox 33"/>
          <p:cNvSpPr/>
          <p:nvPr/>
        </p:nvSpPr>
        <p:spPr>
          <a:xfrm>
            <a:off x="6391440" y="3911760"/>
            <a:ext cx="85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c8ffb"/>
                </a:solidFill>
                <a:latin typeface="Roboto Slab Medium"/>
                <a:ea typeface="Roboto Slab Medium"/>
              </a:rPr>
              <a:t>#06</a:t>
            </a:r>
            <a:endParaRPr b="0" lang="en-US" sz="2400" spc="-1" strike="noStrike">
              <a:solidFill>
                <a:srgbClr val="000000"/>
              </a:solidFill>
              <a:latin typeface="Calibri"/>
            </a:endParaRPr>
          </a:p>
        </p:txBody>
      </p:sp>
      <p:sp>
        <p:nvSpPr>
          <p:cNvPr id="1604" name="TextBox 34"/>
          <p:cNvSpPr/>
          <p:nvPr/>
        </p:nvSpPr>
        <p:spPr>
          <a:xfrm>
            <a:off x="6391440" y="4321080"/>
            <a:ext cx="10126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Subtitle</a:t>
            </a:r>
            <a:endParaRPr b="0" lang="en-US" sz="1400" spc="-1" strike="noStrike">
              <a:solidFill>
                <a:srgbClr val="000000"/>
              </a:solidFill>
              <a:latin typeface="Calibri"/>
            </a:endParaRPr>
          </a:p>
        </p:txBody>
      </p:sp>
      <p:sp>
        <p:nvSpPr>
          <p:cNvPr id="1605" name="TextBox 41"/>
          <p:cNvSpPr/>
          <p:nvPr/>
        </p:nvSpPr>
        <p:spPr>
          <a:xfrm>
            <a:off x="8951760" y="3911760"/>
            <a:ext cx="8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c8ffb"/>
                </a:solidFill>
                <a:latin typeface="Roboto Slab Medium"/>
                <a:ea typeface="Roboto Slab Medium"/>
              </a:rPr>
              <a:t>#07</a:t>
            </a:r>
            <a:endParaRPr b="0" lang="en-US" sz="2400" spc="-1" strike="noStrike">
              <a:solidFill>
                <a:srgbClr val="000000"/>
              </a:solidFill>
              <a:latin typeface="Calibri"/>
            </a:endParaRPr>
          </a:p>
        </p:txBody>
      </p:sp>
      <p:sp>
        <p:nvSpPr>
          <p:cNvPr id="1606" name="TextBox 42"/>
          <p:cNvSpPr/>
          <p:nvPr/>
        </p:nvSpPr>
        <p:spPr>
          <a:xfrm>
            <a:off x="8951760" y="4321080"/>
            <a:ext cx="10130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Subtitle</a:t>
            </a:r>
            <a:endParaRPr b="0" lang="en-US" sz="1400" spc="-1" strike="noStrike">
              <a:solidFill>
                <a:srgbClr val="000000"/>
              </a:solidFill>
              <a:latin typeface="Calibri"/>
            </a:endParaRPr>
          </a:p>
        </p:txBody>
      </p:sp>
      <p:sp>
        <p:nvSpPr>
          <p:cNvPr id="1607" name="TextBox 43"/>
          <p:cNvSpPr/>
          <p:nvPr/>
        </p:nvSpPr>
        <p:spPr>
          <a:xfrm>
            <a:off x="8951760" y="4772160"/>
            <a:ext cx="200052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nvGrpSpPr>
          <p:cNvPr id="1608" name="Group 86"/>
          <p:cNvGrpSpPr/>
          <p:nvPr/>
        </p:nvGrpSpPr>
        <p:grpSpPr>
          <a:xfrm>
            <a:off x="2633760" y="4025880"/>
            <a:ext cx="509400" cy="511200"/>
            <a:chOff x="2633760" y="4025880"/>
            <a:chExt cx="509400" cy="511200"/>
          </a:xfrm>
        </p:grpSpPr>
        <p:sp>
          <p:nvSpPr>
            <p:cNvPr id="1609" name="Oval 87"/>
            <p:cNvSpPr/>
            <p:nvPr/>
          </p:nvSpPr>
          <p:spPr>
            <a:xfrm>
              <a:off x="2633760" y="4025880"/>
              <a:ext cx="509400" cy="511200"/>
            </a:xfrm>
            <a:prstGeom prst="ellipse">
              <a:avLst/>
            </a:prstGeom>
            <a:solidFill>
              <a:srgbClr val="bad0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10" name="Graphic 32" descr="Cube"/>
            <p:cNvPicPr/>
            <p:nvPr/>
          </p:nvPicPr>
          <p:blipFill>
            <a:blip r:embed="rId1"/>
            <a:stretch/>
          </p:blipFill>
          <p:spPr>
            <a:xfrm>
              <a:off x="2769120" y="4165200"/>
              <a:ext cx="228240" cy="228960"/>
            </a:xfrm>
            <a:prstGeom prst="rect">
              <a:avLst/>
            </a:prstGeom>
            <a:ln w="0">
              <a:noFill/>
            </a:ln>
          </p:spPr>
        </p:pic>
      </p:grpSp>
      <p:grpSp>
        <p:nvGrpSpPr>
          <p:cNvPr id="1611" name="Group 103"/>
          <p:cNvGrpSpPr/>
          <p:nvPr/>
        </p:nvGrpSpPr>
        <p:grpSpPr>
          <a:xfrm>
            <a:off x="5189400" y="4024440"/>
            <a:ext cx="516240" cy="515880"/>
            <a:chOff x="5189400" y="4024440"/>
            <a:chExt cx="516240" cy="515880"/>
          </a:xfrm>
        </p:grpSpPr>
        <p:sp>
          <p:nvSpPr>
            <p:cNvPr id="1612" name="Oval 104"/>
            <p:cNvSpPr/>
            <p:nvPr/>
          </p:nvSpPr>
          <p:spPr>
            <a:xfrm>
              <a:off x="5189400" y="4024440"/>
              <a:ext cx="516240" cy="515880"/>
            </a:xfrm>
            <a:prstGeom prst="ellipse">
              <a:avLst/>
            </a:prstGeom>
            <a:solidFill>
              <a:srgbClr val="bad0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3" name="Graphic 82"/>
            <p:cNvSpPr/>
            <p:nvPr/>
          </p:nvSpPr>
          <p:spPr>
            <a:xfrm>
              <a:off x="5315400" y="4171320"/>
              <a:ext cx="263880" cy="221760"/>
            </a:xfrm>
            <a:custGeom>
              <a:avLst/>
              <a:gdLst/>
              <a:ahLst/>
              <a:rect l="l" t="t" r="r" b="b"/>
              <a:pathLst>
                <a:path w="838200" h="704922">
                  <a:moveTo>
                    <a:pt x="800100" y="647772"/>
                  </a:moveTo>
                  <a:lnTo>
                    <a:pt x="800100" y="114372"/>
                  </a:lnTo>
                  <a:lnTo>
                    <a:pt x="762000" y="114372"/>
                  </a:lnTo>
                  <a:lnTo>
                    <a:pt x="762000" y="200097"/>
                  </a:lnTo>
                  <a:lnTo>
                    <a:pt x="704850" y="200097"/>
                  </a:lnTo>
                  <a:lnTo>
                    <a:pt x="704850" y="66747"/>
                  </a:lnTo>
                  <a:cubicBezTo>
                    <a:pt x="704850" y="46745"/>
                    <a:pt x="708660" y="39125"/>
                    <a:pt x="709613" y="37220"/>
                  </a:cubicBezTo>
                  <a:cubicBezTo>
                    <a:pt x="718185" y="35315"/>
                    <a:pt x="723900" y="27695"/>
                    <a:pt x="723900" y="18170"/>
                  </a:cubicBezTo>
                  <a:cubicBezTo>
                    <a:pt x="723900" y="7692"/>
                    <a:pt x="715328" y="-880"/>
                    <a:pt x="704850" y="72"/>
                  </a:cubicBezTo>
                  <a:lnTo>
                    <a:pt x="704850" y="72"/>
                  </a:lnTo>
                  <a:lnTo>
                    <a:pt x="553403" y="72"/>
                  </a:lnTo>
                  <a:cubicBezTo>
                    <a:pt x="542925" y="-880"/>
                    <a:pt x="534353" y="7692"/>
                    <a:pt x="533400" y="18170"/>
                  </a:cubicBezTo>
                  <a:cubicBezTo>
                    <a:pt x="533400" y="26742"/>
                    <a:pt x="539115" y="34362"/>
                    <a:pt x="547688" y="37220"/>
                  </a:cubicBezTo>
                  <a:cubicBezTo>
                    <a:pt x="548640" y="39125"/>
                    <a:pt x="552450" y="46745"/>
                    <a:pt x="552450" y="66747"/>
                  </a:cubicBezTo>
                  <a:lnTo>
                    <a:pt x="552450" y="200097"/>
                  </a:lnTo>
                  <a:lnTo>
                    <a:pt x="495300" y="200097"/>
                  </a:lnTo>
                  <a:lnTo>
                    <a:pt x="495300" y="66747"/>
                  </a:lnTo>
                  <a:cubicBezTo>
                    <a:pt x="495300" y="46745"/>
                    <a:pt x="499110" y="39125"/>
                    <a:pt x="500063" y="37220"/>
                  </a:cubicBezTo>
                  <a:cubicBezTo>
                    <a:pt x="508635" y="35315"/>
                    <a:pt x="514350" y="27695"/>
                    <a:pt x="514350" y="18170"/>
                  </a:cubicBezTo>
                  <a:cubicBezTo>
                    <a:pt x="514350" y="7692"/>
                    <a:pt x="505778" y="-880"/>
                    <a:pt x="495300" y="72"/>
                  </a:cubicBezTo>
                  <a:lnTo>
                    <a:pt x="495300" y="72"/>
                  </a:lnTo>
                  <a:lnTo>
                    <a:pt x="343853" y="72"/>
                  </a:lnTo>
                  <a:cubicBezTo>
                    <a:pt x="333375" y="-880"/>
                    <a:pt x="324803" y="7692"/>
                    <a:pt x="323850" y="18170"/>
                  </a:cubicBezTo>
                  <a:cubicBezTo>
                    <a:pt x="323850" y="26742"/>
                    <a:pt x="329565" y="34362"/>
                    <a:pt x="338138" y="37220"/>
                  </a:cubicBezTo>
                  <a:cubicBezTo>
                    <a:pt x="339090" y="39125"/>
                    <a:pt x="342900" y="46745"/>
                    <a:pt x="342900" y="66747"/>
                  </a:cubicBezTo>
                  <a:lnTo>
                    <a:pt x="342900" y="200097"/>
                  </a:lnTo>
                  <a:lnTo>
                    <a:pt x="285750" y="200097"/>
                  </a:lnTo>
                  <a:lnTo>
                    <a:pt x="285750" y="66747"/>
                  </a:lnTo>
                  <a:cubicBezTo>
                    <a:pt x="285750" y="46745"/>
                    <a:pt x="289560" y="39125"/>
                    <a:pt x="290513" y="37220"/>
                  </a:cubicBezTo>
                  <a:cubicBezTo>
                    <a:pt x="299085" y="35315"/>
                    <a:pt x="304800" y="27695"/>
                    <a:pt x="304800" y="18170"/>
                  </a:cubicBezTo>
                  <a:cubicBezTo>
                    <a:pt x="304800" y="7692"/>
                    <a:pt x="296228" y="-880"/>
                    <a:pt x="285750" y="72"/>
                  </a:cubicBezTo>
                  <a:lnTo>
                    <a:pt x="285750" y="72"/>
                  </a:lnTo>
                  <a:lnTo>
                    <a:pt x="134303" y="72"/>
                  </a:lnTo>
                  <a:cubicBezTo>
                    <a:pt x="123825" y="-880"/>
                    <a:pt x="115253" y="7692"/>
                    <a:pt x="114300" y="18170"/>
                  </a:cubicBezTo>
                  <a:cubicBezTo>
                    <a:pt x="114300" y="26742"/>
                    <a:pt x="120015" y="34362"/>
                    <a:pt x="128588" y="37220"/>
                  </a:cubicBezTo>
                  <a:cubicBezTo>
                    <a:pt x="129540" y="39125"/>
                    <a:pt x="133350" y="46745"/>
                    <a:pt x="133350" y="66747"/>
                  </a:cubicBezTo>
                  <a:lnTo>
                    <a:pt x="133350" y="200097"/>
                  </a:lnTo>
                  <a:lnTo>
                    <a:pt x="76200" y="200097"/>
                  </a:lnTo>
                  <a:lnTo>
                    <a:pt x="76200" y="114372"/>
                  </a:lnTo>
                  <a:lnTo>
                    <a:pt x="38100" y="114372"/>
                  </a:lnTo>
                  <a:lnTo>
                    <a:pt x="38100" y="647772"/>
                  </a:lnTo>
                  <a:lnTo>
                    <a:pt x="0" y="647772"/>
                  </a:lnTo>
                  <a:lnTo>
                    <a:pt x="0" y="704922"/>
                  </a:lnTo>
                  <a:lnTo>
                    <a:pt x="838200" y="704922"/>
                  </a:lnTo>
                  <a:lnTo>
                    <a:pt x="838200" y="647772"/>
                  </a:lnTo>
                  <a:lnTo>
                    <a:pt x="800100" y="647772"/>
                  </a:lnTo>
                  <a:close/>
                  <a:moveTo>
                    <a:pt x="669608" y="38172"/>
                  </a:moveTo>
                  <a:cubicBezTo>
                    <a:pt x="667703" y="45792"/>
                    <a:pt x="666750" y="55317"/>
                    <a:pt x="666750" y="66747"/>
                  </a:cubicBezTo>
                  <a:lnTo>
                    <a:pt x="666750" y="152472"/>
                  </a:lnTo>
                  <a:cubicBezTo>
                    <a:pt x="666750" y="152472"/>
                    <a:pt x="647700" y="142947"/>
                    <a:pt x="628650" y="142947"/>
                  </a:cubicBezTo>
                  <a:cubicBezTo>
                    <a:pt x="609600" y="142947"/>
                    <a:pt x="590550" y="152472"/>
                    <a:pt x="590550" y="152472"/>
                  </a:cubicBezTo>
                  <a:lnTo>
                    <a:pt x="590550" y="66747"/>
                  </a:lnTo>
                  <a:cubicBezTo>
                    <a:pt x="590550" y="55317"/>
                    <a:pt x="589598" y="45792"/>
                    <a:pt x="587693" y="38172"/>
                  </a:cubicBezTo>
                  <a:lnTo>
                    <a:pt x="669608" y="38172"/>
                  </a:lnTo>
                  <a:close/>
                  <a:moveTo>
                    <a:pt x="460058" y="38172"/>
                  </a:moveTo>
                  <a:cubicBezTo>
                    <a:pt x="458153" y="45792"/>
                    <a:pt x="457200" y="55317"/>
                    <a:pt x="457200" y="66747"/>
                  </a:cubicBezTo>
                  <a:lnTo>
                    <a:pt x="457200" y="152472"/>
                  </a:lnTo>
                  <a:cubicBezTo>
                    <a:pt x="457200" y="152472"/>
                    <a:pt x="438150" y="142947"/>
                    <a:pt x="419100" y="142947"/>
                  </a:cubicBezTo>
                  <a:cubicBezTo>
                    <a:pt x="400050" y="142947"/>
                    <a:pt x="381000" y="152472"/>
                    <a:pt x="381000" y="152472"/>
                  </a:cubicBezTo>
                  <a:lnTo>
                    <a:pt x="381000" y="66747"/>
                  </a:lnTo>
                  <a:cubicBezTo>
                    <a:pt x="381000" y="55317"/>
                    <a:pt x="380048" y="45792"/>
                    <a:pt x="378143" y="38172"/>
                  </a:cubicBezTo>
                  <a:lnTo>
                    <a:pt x="460058" y="38172"/>
                  </a:lnTo>
                  <a:close/>
                  <a:moveTo>
                    <a:pt x="250508" y="38172"/>
                  </a:moveTo>
                  <a:cubicBezTo>
                    <a:pt x="248603" y="45792"/>
                    <a:pt x="247650" y="55317"/>
                    <a:pt x="247650" y="66747"/>
                  </a:cubicBezTo>
                  <a:lnTo>
                    <a:pt x="247650" y="152472"/>
                  </a:lnTo>
                  <a:cubicBezTo>
                    <a:pt x="247650" y="152472"/>
                    <a:pt x="228600" y="142947"/>
                    <a:pt x="209550" y="142947"/>
                  </a:cubicBezTo>
                  <a:cubicBezTo>
                    <a:pt x="190500" y="142947"/>
                    <a:pt x="171450" y="152472"/>
                    <a:pt x="171450" y="152472"/>
                  </a:cubicBezTo>
                  <a:lnTo>
                    <a:pt x="171450" y="66747"/>
                  </a:lnTo>
                  <a:cubicBezTo>
                    <a:pt x="171450" y="55317"/>
                    <a:pt x="170498" y="45792"/>
                    <a:pt x="168593" y="38172"/>
                  </a:cubicBezTo>
                  <a:lnTo>
                    <a:pt x="250508" y="38172"/>
                  </a:lnTo>
                  <a:close/>
                  <a:moveTo>
                    <a:pt x="762000" y="647772"/>
                  </a:moveTo>
                  <a:lnTo>
                    <a:pt x="76200" y="647772"/>
                  </a:lnTo>
                  <a:lnTo>
                    <a:pt x="76200" y="238197"/>
                  </a:lnTo>
                  <a:lnTo>
                    <a:pt x="133350" y="238197"/>
                  </a:lnTo>
                  <a:lnTo>
                    <a:pt x="133350" y="533472"/>
                  </a:lnTo>
                  <a:cubicBezTo>
                    <a:pt x="133350" y="575382"/>
                    <a:pt x="167640" y="609672"/>
                    <a:pt x="209550" y="609672"/>
                  </a:cubicBezTo>
                  <a:cubicBezTo>
                    <a:pt x="251460" y="609672"/>
                    <a:pt x="285750" y="575382"/>
                    <a:pt x="285750" y="533472"/>
                  </a:cubicBezTo>
                  <a:lnTo>
                    <a:pt x="285750" y="238197"/>
                  </a:lnTo>
                  <a:lnTo>
                    <a:pt x="342900" y="238197"/>
                  </a:lnTo>
                  <a:lnTo>
                    <a:pt x="342900" y="533472"/>
                  </a:lnTo>
                  <a:cubicBezTo>
                    <a:pt x="342900" y="575382"/>
                    <a:pt x="377190" y="609672"/>
                    <a:pt x="419100" y="609672"/>
                  </a:cubicBezTo>
                  <a:cubicBezTo>
                    <a:pt x="461010" y="609672"/>
                    <a:pt x="495300" y="575382"/>
                    <a:pt x="495300" y="533472"/>
                  </a:cubicBezTo>
                  <a:lnTo>
                    <a:pt x="495300" y="238197"/>
                  </a:lnTo>
                  <a:lnTo>
                    <a:pt x="552450" y="238197"/>
                  </a:lnTo>
                  <a:lnTo>
                    <a:pt x="552450" y="533472"/>
                  </a:lnTo>
                  <a:cubicBezTo>
                    <a:pt x="552450" y="575382"/>
                    <a:pt x="586740" y="609672"/>
                    <a:pt x="628650" y="609672"/>
                  </a:cubicBezTo>
                  <a:cubicBezTo>
                    <a:pt x="670560" y="609672"/>
                    <a:pt x="704850" y="575382"/>
                    <a:pt x="704850" y="533472"/>
                  </a:cubicBezTo>
                  <a:lnTo>
                    <a:pt x="704850" y="238197"/>
                  </a:lnTo>
                  <a:lnTo>
                    <a:pt x="762000" y="238197"/>
                  </a:lnTo>
                  <a:lnTo>
                    <a:pt x="762000" y="64777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614" name="Group 106"/>
          <p:cNvGrpSpPr/>
          <p:nvPr/>
        </p:nvGrpSpPr>
        <p:grpSpPr>
          <a:xfrm>
            <a:off x="7813800" y="4024440"/>
            <a:ext cx="515880" cy="515880"/>
            <a:chOff x="7813800" y="4024440"/>
            <a:chExt cx="515880" cy="515880"/>
          </a:xfrm>
        </p:grpSpPr>
        <p:sp>
          <p:nvSpPr>
            <p:cNvPr id="1615" name="Oval 107"/>
            <p:cNvSpPr/>
            <p:nvPr/>
          </p:nvSpPr>
          <p:spPr>
            <a:xfrm>
              <a:off x="7813800" y="4024440"/>
              <a:ext cx="515880" cy="515880"/>
            </a:xfrm>
            <a:prstGeom prst="ellipse">
              <a:avLst/>
            </a:prstGeom>
            <a:solidFill>
              <a:srgbClr val="bad0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6" name="Graphic 84"/>
            <p:cNvSpPr/>
            <p:nvPr/>
          </p:nvSpPr>
          <p:spPr>
            <a:xfrm>
              <a:off x="7953840" y="4172400"/>
              <a:ext cx="235800" cy="219960"/>
            </a:xfrm>
            <a:custGeom>
              <a:avLst/>
              <a:gdLst/>
              <a:ahLst/>
              <a:rect l="l" t="t" r="r" b="b"/>
              <a:pathLst>
                <a:path w="749617" h="699135">
                  <a:moveTo>
                    <a:pt x="337185" y="641985"/>
                  </a:moveTo>
                  <a:lnTo>
                    <a:pt x="278130" y="641985"/>
                  </a:lnTo>
                  <a:lnTo>
                    <a:pt x="78105" y="441960"/>
                  </a:lnTo>
                  <a:lnTo>
                    <a:pt x="260032" y="260032"/>
                  </a:lnTo>
                  <a:lnTo>
                    <a:pt x="488633" y="488633"/>
                  </a:lnTo>
                  <a:lnTo>
                    <a:pt x="337185" y="641985"/>
                  </a:lnTo>
                  <a:close/>
                  <a:moveTo>
                    <a:pt x="738188" y="280988"/>
                  </a:moveTo>
                  <a:lnTo>
                    <a:pt x="469583" y="11430"/>
                  </a:lnTo>
                  <a:cubicBezTo>
                    <a:pt x="454343" y="-3810"/>
                    <a:pt x="430530" y="-3810"/>
                    <a:pt x="415290" y="11430"/>
                  </a:cubicBezTo>
                  <a:lnTo>
                    <a:pt x="11430" y="415290"/>
                  </a:lnTo>
                  <a:cubicBezTo>
                    <a:pt x="-3810" y="430530"/>
                    <a:pt x="-3810" y="454343"/>
                    <a:pt x="11430" y="469583"/>
                  </a:cubicBezTo>
                  <a:lnTo>
                    <a:pt x="240982" y="699135"/>
                  </a:lnTo>
                  <a:lnTo>
                    <a:pt x="644842" y="699135"/>
                  </a:lnTo>
                  <a:lnTo>
                    <a:pt x="644842" y="641985"/>
                  </a:lnTo>
                  <a:lnTo>
                    <a:pt x="431483" y="641985"/>
                  </a:lnTo>
                  <a:lnTo>
                    <a:pt x="738188" y="335280"/>
                  </a:lnTo>
                  <a:cubicBezTo>
                    <a:pt x="753428" y="320040"/>
                    <a:pt x="753428" y="295275"/>
                    <a:pt x="738188" y="28098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617" name="Group 109"/>
          <p:cNvGrpSpPr/>
          <p:nvPr/>
        </p:nvGrpSpPr>
        <p:grpSpPr>
          <a:xfrm>
            <a:off x="10333080" y="4025880"/>
            <a:ext cx="509400" cy="511200"/>
            <a:chOff x="10333080" y="4025880"/>
            <a:chExt cx="509400" cy="511200"/>
          </a:xfrm>
        </p:grpSpPr>
        <p:sp>
          <p:nvSpPr>
            <p:cNvPr id="1618" name="Oval 110"/>
            <p:cNvSpPr/>
            <p:nvPr/>
          </p:nvSpPr>
          <p:spPr>
            <a:xfrm>
              <a:off x="10333080" y="4025880"/>
              <a:ext cx="509400" cy="511200"/>
            </a:xfrm>
            <a:prstGeom prst="ellipse">
              <a:avLst/>
            </a:prstGeom>
            <a:solidFill>
              <a:srgbClr val="bad0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19" name="Graphic 32" descr="Cube"/>
            <p:cNvPicPr/>
            <p:nvPr/>
          </p:nvPicPr>
          <p:blipFill>
            <a:blip r:embed="rId2"/>
            <a:stretch/>
          </p:blipFill>
          <p:spPr>
            <a:xfrm>
              <a:off x="10477440" y="4165200"/>
              <a:ext cx="215640" cy="228960"/>
            </a:xfrm>
            <a:prstGeom prst="rect">
              <a:avLst/>
            </a:prstGeom>
            <a:ln w="0">
              <a:noFill/>
            </a:ln>
          </p:spPr>
        </p:pic>
      </p:grpSp>
      <p:sp>
        <p:nvSpPr>
          <p:cNvPr id="1620" name="Straight Connector 127"/>
          <p:cNvSpPr/>
          <p:nvPr/>
        </p:nvSpPr>
        <p:spPr>
          <a:xfrm>
            <a:off x="1357200" y="4726080"/>
            <a:ext cx="1785960" cy="0"/>
          </a:xfrm>
          <a:prstGeom prst="line">
            <a:avLst/>
          </a:prstGeom>
          <a:ln w="1260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1" name="Straight Connector 129"/>
          <p:cNvSpPr/>
          <p:nvPr/>
        </p:nvSpPr>
        <p:spPr>
          <a:xfrm>
            <a:off x="3919680" y="4726080"/>
            <a:ext cx="1785960" cy="0"/>
          </a:xfrm>
          <a:prstGeom prst="line">
            <a:avLst/>
          </a:prstGeom>
          <a:ln w="1260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2" name="Straight Connector 130"/>
          <p:cNvSpPr/>
          <p:nvPr/>
        </p:nvSpPr>
        <p:spPr>
          <a:xfrm>
            <a:off x="6494400" y="4726080"/>
            <a:ext cx="1785960" cy="0"/>
          </a:xfrm>
          <a:prstGeom prst="line">
            <a:avLst/>
          </a:prstGeom>
          <a:ln w="1260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3" name="Straight Connector 131"/>
          <p:cNvSpPr/>
          <p:nvPr/>
        </p:nvSpPr>
        <p:spPr>
          <a:xfrm>
            <a:off x="9056520" y="4726080"/>
            <a:ext cx="1785960" cy="0"/>
          </a:xfrm>
          <a:prstGeom prst="line">
            <a:avLst/>
          </a:prstGeom>
          <a:ln w="1260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TextBox 1"/>
          <p:cNvSpPr/>
          <p:nvPr/>
        </p:nvSpPr>
        <p:spPr>
          <a:xfrm>
            <a:off x="7080120" y="1384200"/>
            <a:ext cx="4127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Slab"/>
                <a:ea typeface="Roboto Slab"/>
              </a:rPr>
              <a:t>Course </a:t>
            </a:r>
            <a:r>
              <a:rPr b="0" lang="en-US" sz="3600" spc="-1" strike="noStrike">
                <a:solidFill>
                  <a:srgbClr val="000000"/>
                </a:solidFill>
                <a:latin typeface="Roboto Slab Medium"/>
                <a:ea typeface="Roboto Slab Medium"/>
              </a:rPr>
              <a:t>Categories</a:t>
            </a:r>
            <a:endParaRPr b="0" lang="en-US" sz="3600" spc="-1" strike="noStrike">
              <a:solidFill>
                <a:srgbClr val="000000"/>
              </a:solidFill>
              <a:latin typeface="Calibri"/>
            </a:endParaRPr>
          </a:p>
        </p:txBody>
      </p:sp>
      <p:sp>
        <p:nvSpPr>
          <p:cNvPr id="1625" name="Rectangle: Rounded Corners 4"/>
          <p:cNvSpPr/>
          <p:nvPr/>
        </p:nvSpPr>
        <p:spPr>
          <a:xfrm>
            <a:off x="1055520" y="4295880"/>
            <a:ext cx="3057840" cy="1869840"/>
          </a:xfrm>
          <a:prstGeom prst="roundRect">
            <a:avLst>
              <a:gd name="adj" fmla="val 2440"/>
            </a:avLst>
          </a:prstGeom>
          <a:solidFill>
            <a:srgbClr val="7c8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6" name="Rectangle: Rounded Corners 5"/>
          <p:cNvSpPr/>
          <p:nvPr/>
        </p:nvSpPr>
        <p:spPr>
          <a:xfrm>
            <a:off x="8042400" y="4295880"/>
            <a:ext cx="3057480" cy="1869840"/>
          </a:xfrm>
          <a:prstGeom prst="roundRect">
            <a:avLst>
              <a:gd name="adj" fmla="val 2440"/>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7" name="Rectangle: Rounded Corners 6"/>
          <p:cNvSpPr/>
          <p:nvPr/>
        </p:nvSpPr>
        <p:spPr>
          <a:xfrm>
            <a:off x="4549680" y="4295880"/>
            <a:ext cx="3056040" cy="1869840"/>
          </a:xfrm>
          <a:prstGeom prst="roundRect">
            <a:avLst>
              <a:gd name="adj" fmla="val 2440"/>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8" name="TextBox 7"/>
          <p:cNvSpPr/>
          <p:nvPr/>
        </p:nvSpPr>
        <p:spPr>
          <a:xfrm>
            <a:off x="1440000" y="4959360"/>
            <a:ext cx="20001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p:txBody>
      </p:sp>
      <p:sp>
        <p:nvSpPr>
          <p:cNvPr id="1629" name="TextBox 8"/>
          <p:cNvSpPr/>
          <p:nvPr/>
        </p:nvSpPr>
        <p:spPr>
          <a:xfrm>
            <a:off x="1440000" y="4676760"/>
            <a:ext cx="10126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Slab Medium"/>
                <a:ea typeface="Roboto Slab Medium"/>
              </a:rPr>
              <a:t>Subtitle</a:t>
            </a:r>
            <a:endParaRPr b="0" lang="en-US" sz="1400" spc="-1" strike="noStrike">
              <a:solidFill>
                <a:srgbClr val="000000"/>
              </a:solidFill>
              <a:latin typeface="Calibri"/>
            </a:endParaRPr>
          </a:p>
        </p:txBody>
      </p:sp>
      <p:sp>
        <p:nvSpPr>
          <p:cNvPr id="1630" name="TextBox 10"/>
          <p:cNvSpPr/>
          <p:nvPr/>
        </p:nvSpPr>
        <p:spPr>
          <a:xfrm>
            <a:off x="5022720" y="4959360"/>
            <a:ext cx="19987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p:txBody>
      </p:sp>
      <p:sp>
        <p:nvSpPr>
          <p:cNvPr id="1631" name="TextBox 11"/>
          <p:cNvSpPr/>
          <p:nvPr/>
        </p:nvSpPr>
        <p:spPr>
          <a:xfrm>
            <a:off x="5022720" y="4676760"/>
            <a:ext cx="10130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Slab Medium"/>
                <a:ea typeface="Roboto Slab Medium"/>
              </a:rPr>
              <a:t>Subtitle</a:t>
            </a:r>
            <a:endParaRPr b="0" lang="en-US" sz="1400" spc="-1" strike="noStrike">
              <a:solidFill>
                <a:srgbClr val="000000"/>
              </a:solidFill>
              <a:latin typeface="Calibri"/>
            </a:endParaRPr>
          </a:p>
        </p:txBody>
      </p:sp>
      <p:sp>
        <p:nvSpPr>
          <p:cNvPr id="1632" name="TextBox 13"/>
          <p:cNvSpPr/>
          <p:nvPr/>
        </p:nvSpPr>
        <p:spPr>
          <a:xfrm>
            <a:off x="8593200" y="4959360"/>
            <a:ext cx="20001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p:txBody>
      </p:sp>
      <p:sp>
        <p:nvSpPr>
          <p:cNvPr id="1633" name="TextBox 14"/>
          <p:cNvSpPr/>
          <p:nvPr/>
        </p:nvSpPr>
        <p:spPr>
          <a:xfrm>
            <a:off x="8593200" y="4676760"/>
            <a:ext cx="10126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Slab Medium"/>
                <a:ea typeface="Roboto Slab Medium"/>
              </a:rPr>
              <a:t>Subtitle</a:t>
            </a:r>
            <a:endParaRPr b="0" lang="en-US" sz="1400" spc="-1" strike="noStrike">
              <a:solidFill>
                <a:srgbClr val="000000"/>
              </a:solidFill>
              <a:latin typeface="Calibri"/>
            </a:endParaRPr>
          </a:p>
        </p:txBody>
      </p:sp>
      <p:sp>
        <p:nvSpPr>
          <p:cNvPr id="1634" name="TextBox 17"/>
          <p:cNvSpPr/>
          <p:nvPr/>
        </p:nvSpPr>
        <p:spPr>
          <a:xfrm>
            <a:off x="6095880" y="2411280"/>
            <a:ext cx="5112000" cy="15994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a:t>
            </a:r>
            <a:endParaRPr b="0" lang="en-US" sz="1100" spc="-1" strike="noStrike">
              <a:solidFill>
                <a:srgbClr val="000000"/>
              </a:solidFill>
              <a:latin typeface="Calibri"/>
            </a:endParaRPr>
          </a:p>
        </p:txBody>
      </p:sp>
      <p:sp>
        <p:nvSpPr>
          <p:cNvPr id="1635" name="Straight Connector 18"/>
          <p:cNvSpPr/>
          <p:nvPr/>
        </p:nvSpPr>
        <p:spPr>
          <a:xfrm>
            <a:off x="10611000" y="2144880"/>
            <a:ext cx="488880" cy="0"/>
          </a:xfrm>
          <a:prstGeom prst="line">
            <a:avLst/>
          </a:prstGeom>
          <a:ln w="3816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36" name="Graphic 32" descr="Cube"/>
          <p:cNvPicPr/>
          <p:nvPr/>
        </p:nvPicPr>
        <p:blipFill>
          <a:blip r:embed="rId1"/>
          <a:stretch/>
        </p:blipFill>
        <p:spPr>
          <a:xfrm>
            <a:off x="3479760" y="4533840"/>
            <a:ext cx="330120" cy="343080"/>
          </a:xfrm>
          <a:prstGeom prst="rect">
            <a:avLst/>
          </a:prstGeom>
          <a:ln w="0">
            <a:noFill/>
          </a:ln>
        </p:spPr>
      </p:pic>
      <p:sp>
        <p:nvSpPr>
          <p:cNvPr id="1637" name="Graphic 82"/>
          <p:cNvSpPr/>
          <p:nvPr/>
        </p:nvSpPr>
        <p:spPr>
          <a:xfrm>
            <a:off x="6908760" y="4533840"/>
            <a:ext cx="405000" cy="339840"/>
          </a:xfrm>
          <a:custGeom>
            <a:avLst/>
            <a:gdLst/>
            <a:ahLst/>
            <a:rect l="l" t="t" r="r" b="b"/>
            <a:pathLst>
              <a:path w="838200" h="704922">
                <a:moveTo>
                  <a:pt x="800100" y="647772"/>
                </a:moveTo>
                <a:lnTo>
                  <a:pt x="800100" y="114372"/>
                </a:lnTo>
                <a:lnTo>
                  <a:pt x="762000" y="114372"/>
                </a:lnTo>
                <a:lnTo>
                  <a:pt x="762000" y="200097"/>
                </a:lnTo>
                <a:lnTo>
                  <a:pt x="704850" y="200097"/>
                </a:lnTo>
                <a:lnTo>
                  <a:pt x="704850" y="66747"/>
                </a:lnTo>
                <a:cubicBezTo>
                  <a:pt x="704850" y="46745"/>
                  <a:pt x="708660" y="39125"/>
                  <a:pt x="709613" y="37220"/>
                </a:cubicBezTo>
                <a:cubicBezTo>
                  <a:pt x="718185" y="35315"/>
                  <a:pt x="723900" y="27695"/>
                  <a:pt x="723900" y="18170"/>
                </a:cubicBezTo>
                <a:cubicBezTo>
                  <a:pt x="723900" y="7692"/>
                  <a:pt x="715328" y="-880"/>
                  <a:pt x="704850" y="72"/>
                </a:cubicBezTo>
                <a:lnTo>
                  <a:pt x="704850" y="72"/>
                </a:lnTo>
                <a:lnTo>
                  <a:pt x="553403" y="72"/>
                </a:lnTo>
                <a:cubicBezTo>
                  <a:pt x="542925" y="-880"/>
                  <a:pt x="534353" y="7692"/>
                  <a:pt x="533400" y="18170"/>
                </a:cubicBezTo>
                <a:cubicBezTo>
                  <a:pt x="533400" y="26742"/>
                  <a:pt x="539115" y="34362"/>
                  <a:pt x="547688" y="37220"/>
                </a:cubicBezTo>
                <a:cubicBezTo>
                  <a:pt x="548640" y="39125"/>
                  <a:pt x="552450" y="46745"/>
                  <a:pt x="552450" y="66747"/>
                </a:cubicBezTo>
                <a:lnTo>
                  <a:pt x="552450" y="200097"/>
                </a:lnTo>
                <a:lnTo>
                  <a:pt x="495300" y="200097"/>
                </a:lnTo>
                <a:lnTo>
                  <a:pt x="495300" y="66747"/>
                </a:lnTo>
                <a:cubicBezTo>
                  <a:pt x="495300" y="46745"/>
                  <a:pt x="499110" y="39125"/>
                  <a:pt x="500063" y="37220"/>
                </a:cubicBezTo>
                <a:cubicBezTo>
                  <a:pt x="508635" y="35315"/>
                  <a:pt x="514350" y="27695"/>
                  <a:pt x="514350" y="18170"/>
                </a:cubicBezTo>
                <a:cubicBezTo>
                  <a:pt x="514350" y="7692"/>
                  <a:pt x="505778" y="-880"/>
                  <a:pt x="495300" y="72"/>
                </a:cubicBezTo>
                <a:lnTo>
                  <a:pt x="495300" y="72"/>
                </a:lnTo>
                <a:lnTo>
                  <a:pt x="343853" y="72"/>
                </a:lnTo>
                <a:cubicBezTo>
                  <a:pt x="333375" y="-880"/>
                  <a:pt x="324803" y="7692"/>
                  <a:pt x="323850" y="18170"/>
                </a:cubicBezTo>
                <a:cubicBezTo>
                  <a:pt x="323850" y="26742"/>
                  <a:pt x="329565" y="34362"/>
                  <a:pt x="338138" y="37220"/>
                </a:cubicBezTo>
                <a:cubicBezTo>
                  <a:pt x="339090" y="39125"/>
                  <a:pt x="342900" y="46745"/>
                  <a:pt x="342900" y="66747"/>
                </a:cubicBezTo>
                <a:lnTo>
                  <a:pt x="342900" y="200097"/>
                </a:lnTo>
                <a:lnTo>
                  <a:pt x="285750" y="200097"/>
                </a:lnTo>
                <a:lnTo>
                  <a:pt x="285750" y="66747"/>
                </a:lnTo>
                <a:cubicBezTo>
                  <a:pt x="285750" y="46745"/>
                  <a:pt x="289560" y="39125"/>
                  <a:pt x="290513" y="37220"/>
                </a:cubicBezTo>
                <a:cubicBezTo>
                  <a:pt x="299085" y="35315"/>
                  <a:pt x="304800" y="27695"/>
                  <a:pt x="304800" y="18170"/>
                </a:cubicBezTo>
                <a:cubicBezTo>
                  <a:pt x="304800" y="7692"/>
                  <a:pt x="296228" y="-880"/>
                  <a:pt x="285750" y="72"/>
                </a:cubicBezTo>
                <a:lnTo>
                  <a:pt x="285750" y="72"/>
                </a:lnTo>
                <a:lnTo>
                  <a:pt x="134303" y="72"/>
                </a:lnTo>
                <a:cubicBezTo>
                  <a:pt x="123825" y="-880"/>
                  <a:pt x="115253" y="7692"/>
                  <a:pt x="114300" y="18170"/>
                </a:cubicBezTo>
                <a:cubicBezTo>
                  <a:pt x="114300" y="26742"/>
                  <a:pt x="120015" y="34362"/>
                  <a:pt x="128588" y="37220"/>
                </a:cubicBezTo>
                <a:cubicBezTo>
                  <a:pt x="129540" y="39125"/>
                  <a:pt x="133350" y="46745"/>
                  <a:pt x="133350" y="66747"/>
                </a:cubicBezTo>
                <a:lnTo>
                  <a:pt x="133350" y="200097"/>
                </a:lnTo>
                <a:lnTo>
                  <a:pt x="76200" y="200097"/>
                </a:lnTo>
                <a:lnTo>
                  <a:pt x="76200" y="114372"/>
                </a:lnTo>
                <a:lnTo>
                  <a:pt x="38100" y="114372"/>
                </a:lnTo>
                <a:lnTo>
                  <a:pt x="38100" y="647772"/>
                </a:lnTo>
                <a:lnTo>
                  <a:pt x="0" y="647772"/>
                </a:lnTo>
                <a:lnTo>
                  <a:pt x="0" y="704922"/>
                </a:lnTo>
                <a:lnTo>
                  <a:pt x="838200" y="704922"/>
                </a:lnTo>
                <a:lnTo>
                  <a:pt x="838200" y="647772"/>
                </a:lnTo>
                <a:lnTo>
                  <a:pt x="800100" y="647772"/>
                </a:lnTo>
                <a:close/>
                <a:moveTo>
                  <a:pt x="669608" y="38172"/>
                </a:moveTo>
                <a:cubicBezTo>
                  <a:pt x="667703" y="45792"/>
                  <a:pt x="666750" y="55317"/>
                  <a:pt x="666750" y="66747"/>
                </a:cubicBezTo>
                <a:lnTo>
                  <a:pt x="666750" y="152472"/>
                </a:lnTo>
                <a:cubicBezTo>
                  <a:pt x="666750" y="152472"/>
                  <a:pt x="647700" y="142947"/>
                  <a:pt x="628650" y="142947"/>
                </a:cubicBezTo>
                <a:cubicBezTo>
                  <a:pt x="609600" y="142947"/>
                  <a:pt x="590550" y="152472"/>
                  <a:pt x="590550" y="152472"/>
                </a:cubicBezTo>
                <a:lnTo>
                  <a:pt x="590550" y="66747"/>
                </a:lnTo>
                <a:cubicBezTo>
                  <a:pt x="590550" y="55317"/>
                  <a:pt x="589598" y="45792"/>
                  <a:pt x="587693" y="38172"/>
                </a:cubicBezTo>
                <a:lnTo>
                  <a:pt x="669608" y="38172"/>
                </a:lnTo>
                <a:close/>
                <a:moveTo>
                  <a:pt x="460058" y="38172"/>
                </a:moveTo>
                <a:cubicBezTo>
                  <a:pt x="458153" y="45792"/>
                  <a:pt x="457200" y="55317"/>
                  <a:pt x="457200" y="66747"/>
                </a:cubicBezTo>
                <a:lnTo>
                  <a:pt x="457200" y="152472"/>
                </a:lnTo>
                <a:cubicBezTo>
                  <a:pt x="457200" y="152472"/>
                  <a:pt x="438150" y="142947"/>
                  <a:pt x="419100" y="142947"/>
                </a:cubicBezTo>
                <a:cubicBezTo>
                  <a:pt x="400050" y="142947"/>
                  <a:pt x="381000" y="152472"/>
                  <a:pt x="381000" y="152472"/>
                </a:cubicBezTo>
                <a:lnTo>
                  <a:pt x="381000" y="66747"/>
                </a:lnTo>
                <a:cubicBezTo>
                  <a:pt x="381000" y="55317"/>
                  <a:pt x="380048" y="45792"/>
                  <a:pt x="378143" y="38172"/>
                </a:cubicBezTo>
                <a:lnTo>
                  <a:pt x="460058" y="38172"/>
                </a:lnTo>
                <a:close/>
                <a:moveTo>
                  <a:pt x="250508" y="38172"/>
                </a:moveTo>
                <a:cubicBezTo>
                  <a:pt x="248603" y="45792"/>
                  <a:pt x="247650" y="55317"/>
                  <a:pt x="247650" y="66747"/>
                </a:cubicBezTo>
                <a:lnTo>
                  <a:pt x="247650" y="152472"/>
                </a:lnTo>
                <a:cubicBezTo>
                  <a:pt x="247650" y="152472"/>
                  <a:pt x="228600" y="142947"/>
                  <a:pt x="209550" y="142947"/>
                </a:cubicBezTo>
                <a:cubicBezTo>
                  <a:pt x="190500" y="142947"/>
                  <a:pt x="171450" y="152472"/>
                  <a:pt x="171450" y="152472"/>
                </a:cubicBezTo>
                <a:lnTo>
                  <a:pt x="171450" y="66747"/>
                </a:lnTo>
                <a:cubicBezTo>
                  <a:pt x="171450" y="55317"/>
                  <a:pt x="170498" y="45792"/>
                  <a:pt x="168593" y="38172"/>
                </a:cubicBezTo>
                <a:lnTo>
                  <a:pt x="250508" y="38172"/>
                </a:lnTo>
                <a:close/>
                <a:moveTo>
                  <a:pt x="762000" y="647772"/>
                </a:moveTo>
                <a:lnTo>
                  <a:pt x="76200" y="647772"/>
                </a:lnTo>
                <a:lnTo>
                  <a:pt x="76200" y="238197"/>
                </a:lnTo>
                <a:lnTo>
                  <a:pt x="133350" y="238197"/>
                </a:lnTo>
                <a:lnTo>
                  <a:pt x="133350" y="533472"/>
                </a:lnTo>
                <a:cubicBezTo>
                  <a:pt x="133350" y="575382"/>
                  <a:pt x="167640" y="609672"/>
                  <a:pt x="209550" y="609672"/>
                </a:cubicBezTo>
                <a:cubicBezTo>
                  <a:pt x="251460" y="609672"/>
                  <a:pt x="285750" y="575382"/>
                  <a:pt x="285750" y="533472"/>
                </a:cubicBezTo>
                <a:lnTo>
                  <a:pt x="285750" y="238197"/>
                </a:lnTo>
                <a:lnTo>
                  <a:pt x="342900" y="238197"/>
                </a:lnTo>
                <a:lnTo>
                  <a:pt x="342900" y="533472"/>
                </a:lnTo>
                <a:cubicBezTo>
                  <a:pt x="342900" y="575382"/>
                  <a:pt x="377190" y="609672"/>
                  <a:pt x="419100" y="609672"/>
                </a:cubicBezTo>
                <a:cubicBezTo>
                  <a:pt x="461010" y="609672"/>
                  <a:pt x="495300" y="575382"/>
                  <a:pt x="495300" y="533472"/>
                </a:cubicBezTo>
                <a:lnTo>
                  <a:pt x="495300" y="238197"/>
                </a:lnTo>
                <a:lnTo>
                  <a:pt x="552450" y="238197"/>
                </a:lnTo>
                <a:lnTo>
                  <a:pt x="552450" y="533472"/>
                </a:lnTo>
                <a:cubicBezTo>
                  <a:pt x="552450" y="575382"/>
                  <a:pt x="586740" y="609672"/>
                  <a:pt x="628650" y="609672"/>
                </a:cubicBezTo>
                <a:cubicBezTo>
                  <a:pt x="670560" y="609672"/>
                  <a:pt x="704850" y="575382"/>
                  <a:pt x="704850" y="533472"/>
                </a:cubicBezTo>
                <a:lnTo>
                  <a:pt x="704850" y="238197"/>
                </a:lnTo>
                <a:lnTo>
                  <a:pt x="762000" y="238197"/>
                </a:lnTo>
                <a:lnTo>
                  <a:pt x="762000" y="647772"/>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38" name="Graphic 84"/>
          <p:cNvSpPr/>
          <p:nvPr/>
        </p:nvSpPr>
        <p:spPr>
          <a:xfrm>
            <a:off x="10417320" y="4535640"/>
            <a:ext cx="361800" cy="338040"/>
          </a:xfrm>
          <a:custGeom>
            <a:avLst/>
            <a:gdLst/>
            <a:ahLst/>
            <a:rect l="l" t="t" r="r" b="b"/>
            <a:pathLst>
              <a:path w="749617" h="699135">
                <a:moveTo>
                  <a:pt x="337185" y="641985"/>
                </a:moveTo>
                <a:lnTo>
                  <a:pt x="278130" y="641985"/>
                </a:lnTo>
                <a:lnTo>
                  <a:pt x="78105" y="441960"/>
                </a:lnTo>
                <a:lnTo>
                  <a:pt x="260032" y="260032"/>
                </a:lnTo>
                <a:lnTo>
                  <a:pt x="488633" y="488633"/>
                </a:lnTo>
                <a:lnTo>
                  <a:pt x="337185" y="641985"/>
                </a:lnTo>
                <a:close/>
                <a:moveTo>
                  <a:pt x="738188" y="280988"/>
                </a:moveTo>
                <a:lnTo>
                  <a:pt x="469583" y="11430"/>
                </a:lnTo>
                <a:cubicBezTo>
                  <a:pt x="454343" y="-3810"/>
                  <a:pt x="430530" y="-3810"/>
                  <a:pt x="415290" y="11430"/>
                </a:cubicBezTo>
                <a:lnTo>
                  <a:pt x="11430" y="415290"/>
                </a:lnTo>
                <a:cubicBezTo>
                  <a:pt x="-3810" y="430530"/>
                  <a:pt x="-3810" y="454343"/>
                  <a:pt x="11430" y="469583"/>
                </a:cubicBezTo>
                <a:lnTo>
                  <a:pt x="240982" y="699135"/>
                </a:lnTo>
                <a:lnTo>
                  <a:pt x="644842" y="699135"/>
                </a:lnTo>
                <a:lnTo>
                  <a:pt x="644842" y="641985"/>
                </a:lnTo>
                <a:lnTo>
                  <a:pt x="431483" y="641985"/>
                </a:lnTo>
                <a:lnTo>
                  <a:pt x="738188" y="335280"/>
                </a:lnTo>
                <a:cubicBezTo>
                  <a:pt x="753428" y="320040"/>
                  <a:pt x="753428" y="295275"/>
                  <a:pt x="738188" y="280988"/>
                </a:cubicBez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639" name="Group 60"/>
          <p:cNvGrpSpPr/>
          <p:nvPr/>
        </p:nvGrpSpPr>
        <p:grpSpPr>
          <a:xfrm>
            <a:off x="10625040" y="692280"/>
            <a:ext cx="474840" cy="64800"/>
            <a:chOff x="10625040" y="692280"/>
            <a:chExt cx="474840" cy="64800"/>
          </a:xfrm>
        </p:grpSpPr>
        <p:sp>
          <p:nvSpPr>
            <p:cNvPr id="1640" name="Freeform: Shape 61"/>
            <p:cNvSpPr/>
            <p:nvPr/>
          </p:nvSpPr>
          <p:spPr>
            <a:xfrm>
              <a:off x="106250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4fcb6"/>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641" name="Freeform: Shape 62"/>
            <p:cNvSpPr/>
            <p:nvPr/>
          </p:nvSpPr>
          <p:spPr>
            <a:xfrm>
              <a:off x="107618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bbbcfc"/>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642" name="Freeform: Shape 63"/>
            <p:cNvSpPr/>
            <p:nvPr/>
          </p:nvSpPr>
          <p:spPr>
            <a:xfrm>
              <a:off x="108986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ec2e1"/>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643" name="Freeform: Shape 64"/>
            <p:cNvSpPr/>
            <p:nvPr/>
          </p:nvSpPr>
          <p:spPr>
            <a:xfrm>
              <a:off x="110354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97fff7"/>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4" name="Group 88"/>
          <p:cNvGrpSpPr/>
          <p:nvPr/>
        </p:nvGrpSpPr>
        <p:grpSpPr>
          <a:xfrm>
            <a:off x="2255760" y="1165320"/>
            <a:ext cx="3840120" cy="1555200"/>
            <a:chOff x="2255760" y="1165320"/>
            <a:chExt cx="3840120" cy="1555200"/>
          </a:xfrm>
        </p:grpSpPr>
        <p:grpSp>
          <p:nvGrpSpPr>
            <p:cNvPr id="1645" name="Group 82"/>
            <p:cNvGrpSpPr/>
            <p:nvPr/>
          </p:nvGrpSpPr>
          <p:grpSpPr>
            <a:xfrm>
              <a:off x="2255760" y="1165320"/>
              <a:ext cx="1410840" cy="1411200"/>
              <a:chOff x="2255760" y="1165320"/>
              <a:chExt cx="1410840" cy="1411200"/>
            </a:xfrm>
          </p:grpSpPr>
          <p:sp>
            <p:nvSpPr>
              <p:cNvPr id="1646" name="Oval 9"/>
              <p:cNvSpPr/>
              <p:nvPr/>
            </p:nvSpPr>
            <p:spPr>
              <a:xfrm>
                <a:off x="2255760" y="1165320"/>
                <a:ext cx="1410840" cy="1411200"/>
              </a:xfrm>
              <a:prstGeom prst="ellipse">
                <a:avLst/>
              </a:prstGeom>
              <a:solidFill>
                <a:srgbClr val="c1f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7" name="Arc 7"/>
              <p:cNvSpPr/>
              <p:nvPr/>
            </p:nvSpPr>
            <p:spPr>
              <a:xfrm>
                <a:off x="2343600" y="1253160"/>
                <a:ext cx="1235160" cy="1235520"/>
              </a:xfrm>
              <a:custGeom>
                <a:avLst/>
                <a:gdLst/>
                <a:ahLst/>
                <a:rect l="l" t="t" r="r" b="b"/>
                <a:pathLst>
                  <a:path stroke="0" w="1235124" h="1235123">
                    <a:moveTo>
                      <a:pt x="617562" y="0"/>
                    </a:moveTo>
                    <a:cubicBezTo>
                      <a:pt x="925218" y="0"/>
                      <a:pt x="1185952" y="226451"/>
                      <a:pt x="1229038" y="531076"/>
                    </a:cubicBezTo>
                    <a:lnTo>
                      <a:pt x="617562" y="617562"/>
                    </a:lnTo>
                    <a:lnTo>
                      <a:pt x="617562" y="0"/>
                    </a:lnTo>
                    <a:close/>
                  </a:path>
                  <a:path fill="none" w="1235124" h="1235123">
                    <a:moveTo>
                      <a:pt x="617562" y="0"/>
                    </a:moveTo>
                    <a:cubicBezTo>
                      <a:pt x="925218" y="0"/>
                      <a:pt x="1185952" y="226451"/>
                      <a:pt x="1229038" y="531076"/>
                    </a:cubicBezTo>
                  </a:path>
                </a:pathLst>
              </a:custGeom>
              <a:noFill/>
              <a:ln cap="rnd" w="190440">
                <a:solidFill>
                  <a:srgbClr val="7c8ff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48" name="Oval 10"/>
              <p:cNvSpPr/>
              <p:nvPr/>
            </p:nvSpPr>
            <p:spPr>
              <a:xfrm>
                <a:off x="2421000" y="1330920"/>
                <a:ext cx="1080000" cy="1080000"/>
              </a:xfrm>
              <a:prstGeom prst="ellipse">
                <a:avLst/>
              </a:prstGeom>
              <a:solidFill>
                <a:srgbClr val="ffffff"/>
              </a:solidFill>
              <a:ln w="0">
                <a:noFill/>
              </a:ln>
              <a:effectLst>
                <a:outerShdw dist="3818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49" name="Group 13"/>
            <p:cNvGrpSpPr/>
            <p:nvPr/>
          </p:nvGrpSpPr>
          <p:grpSpPr>
            <a:xfrm>
              <a:off x="2530800" y="1574640"/>
              <a:ext cx="860400" cy="613440"/>
              <a:chOff x="2530800" y="1574640"/>
              <a:chExt cx="860400" cy="613440"/>
            </a:xfrm>
          </p:grpSpPr>
          <p:sp>
            <p:nvSpPr>
              <p:cNvPr id="1650" name="TextBox 11"/>
              <p:cNvSpPr/>
              <p:nvPr/>
            </p:nvSpPr>
            <p:spPr>
              <a:xfrm>
                <a:off x="2631600" y="1574640"/>
                <a:ext cx="65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c8ffb"/>
                    </a:solidFill>
                    <a:latin typeface="Roboto Slab"/>
                    <a:ea typeface="Roboto Slab"/>
                  </a:rPr>
                  <a:t>#1</a:t>
                </a:r>
                <a:endParaRPr b="0" lang="en-US" sz="2400" spc="-1" strike="noStrike">
                  <a:solidFill>
                    <a:srgbClr val="000000"/>
                  </a:solidFill>
                  <a:latin typeface="Calibri"/>
                </a:endParaRPr>
              </a:p>
            </p:txBody>
          </p:sp>
          <p:sp>
            <p:nvSpPr>
              <p:cNvPr id="1651" name="TextBox 12"/>
              <p:cNvSpPr/>
              <p:nvPr/>
            </p:nvSpPr>
            <p:spPr>
              <a:xfrm>
                <a:off x="2530800" y="1911600"/>
                <a:ext cx="86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oboto Light"/>
                    <a:ea typeface="Roboto Light"/>
                  </a:rPr>
                  <a:t>Step</a:t>
                </a:r>
                <a:endParaRPr b="0" lang="en-US" sz="1200" spc="-1" strike="noStrike">
                  <a:solidFill>
                    <a:srgbClr val="000000"/>
                  </a:solidFill>
                  <a:latin typeface="Calibri"/>
                </a:endParaRPr>
              </a:p>
            </p:txBody>
          </p:sp>
        </p:grpSp>
        <p:grpSp>
          <p:nvGrpSpPr>
            <p:cNvPr id="1652" name="Group 35"/>
            <p:cNvGrpSpPr/>
            <p:nvPr/>
          </p:nvGrpSpPr>
          <p:grpSpPr>
            <a:xfrm>
              <a:off x="4096440" y="1292400"/>
              <a:ext cx="1999440" cy="1428120"/>
              <a:chOff x="4096440" y="1292400"/>
              <a:chExt cx="1999440" cy="1428120"/>
            </a:xfrm>
          </p:grpSpPr>
          <p:sp>
            <p:nvSpPr>
              <p:cNvPr id="1653" name="TextBox 33"/>
              <p:cNvSpPr/>
              <p:nvPr/>
            </p:nvSpPr>
            <p:spPr>
              <a:xfrm>
                <a:off x="4096440" y="1622880"/>
                <a:ext cx="19994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p:txBody>
          </p:sp>
          <p:sp>
            <p:nvSpPr>
              <p:cNvPr id="1654" name="TextBox 34"/>
              <p:cNvSpPr/>
              <p:nvPr/>
            </p:nvSpPr>
            <p:spPr>
              <a:xfrm>
                <a:off x="4096440" y="1292400"/>
                <a:ext cx="15292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Your title here</a:t>
                </a:r>
                <a:endParaRPr b="0" lang="en-US" sz="1400" spc="-1" strike="noStrike">
                  <a:solidFill>
                    <a:srgbClr val="000000"/>
                  </a:solidFill>
                  <a:latin typeface="Calibri"/>
                </a:endParaRPr>
              </a:p>
            </p:txBody>
          </p:sp>
        </p:grpSp>
      </p:grpSp>
      <p:grpSp>
        <p:nvGrpSpPr>
          <p:cNvPr id="1655" name="Group 87"/>
          <p:cNvGrpSpPr/>
          <p:nvPr/>
        </p:nvGrpSpPr>
        <p:grpSpPr>
          <a:xfrm>
            <a:off x="2171880" y="2724120"/>
            <a:ext cx="3836880" cy="1554840"/>
            <a:chOff x="2171880" y="2724120"/>
            <a:chExt cx="3836880" cy="1554840"/>
          </a:xfrm>
        </p:grpSpPr>
        <p:grpSp>
          <p:nvGrpSpPr>
            <p:cNvPr id="1656" name="Group 83"/>
            <p:cNvGrpSpPr/>
            <p:nvPr/>
          </p:nvGrpSpPr>
          <p:grpSpPr>
            <a:xfrm>
              <a:off x="4597560" y="2724120"/>
              <a:ext cx="1411200" cy="1409760"/>
              <a:chOff x="4597560" y="2724120"/>
              <a:chExt cx="1411200" cy="1409760"/>
            </a:xfrm>
          </p:grpSpPr>
          <p:sp>
            <p:nvSpPr>
              <p:cNvPr id="1657" name="Oval 21"/>
              <p:cNvSpPr/>
              <p:nvPr/>
            </p:nvSpPr>
            <p:spPr>
              <a:xfrm>
                <a:off x="4597560" y="2724120"/>
                <a:ext cx="1411200" cy="1409760"/>
              </a:xfrm>
              <a:prstGeom prst="ellipse">
                <a:avLst/>
              </a:prstGeom>
              <a:solidFill>
                <a:srgbClr val="c1f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8" name="Arc 22"/>
              <p:cNvSpPr/>
              <p:nvPr/>
            </p:nvSpPr>
            <p:spPr>
              <a:xfrm>
                <a:off x="4685400" y="2811960"/>
                <a:ext cx="1235520" cy="1234080"/>
              </a:xfrm>
              <a:custGeom>
                <a:avLst/>
                <a:gdLst/>
                <a:ahLst/>
                <a:rect l="l" t="t" r="r" b="b"/>
                <a:pathLst>
                  <a:path stroke="0" w="1235124" h="1235124">
                    <a:moveTo>
                      <a:pt x="617562" y="0"/>
                    </a:moveTo>
                    <a:cubicBezTo>
                      <a:pt x="841920" y="0"/>
                      <a:pt x="1048630" y="121679"/>
                      <a:pt x="1157517" y="317843"/>
                    </a:cubicBezTo>
                    <a:cubicBezTo>
                      <a:pt x="1266404" y="514007"/>
                      <a:pt x="1260338" y="753794"/>
                      <a:pt x="1141671" y="944201"/>
                    </a:cubicBezTo>
                    <a:cubicBezTo>
                      <a:pt x="1023004" y="1134608"/>
                      <a:pt x="810406" y="1245679"/>
                      <a:pt x="586335" y="1234334"/>
                    </a:cubicBezTo>
                    <a:lnTo>
                      <a:pt x="617562" y="617562"/>
                    </a:lnTo>
                    <a:lnTo>
                      <a:pt x="617562" y="0"/>
                    </a:lnTo>
                    <a:close/>
                  </a:path>
                  <a:path fill="none" w="1235124" h="1235124">
                    <a:moveTo>
                      <a:pt x="617562" y="0"/>
                    </a:moveTo>
                    <a:cubicBezTo>
                      <a:pt x="841920" y="0"/>
                      <a:pt x="1048630" y="121679"/>
                      <a:pt x="1157517" y="317843"/>
                    </a:cubicBezTo>
                    <a:cubicBezTo>
                      <a:pt x="1266404" y="514007"/>
                      <a:pt x="1260338" y="753794"/>
                      <a:pt x="1141671" y="944201"/>
                    </a:cubicBezTo>
                    <a:cubicBezTo>
                      <a:pt x="1023004" y="1134608"/>
                      <a:pt x="810406" y="1245679"/>
                      <a:pt x="586335" y="1234334"/>
                    </a:cubicBezTo>
                  </a:path>
                </a:pathLst>
              </a:custGeom>
              <a:noFill/>
              <a:ln cap="rnd" w="190440">
                <a:solidFill>
                  <a:srgbClr val="7c8ff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59" name="Oval 23"/>
              <p:cNvSpPr/>
              <p:nvPr/>
            </p:nvSpPr>
            <p:spPr>
              <a:xfrm>
                <a:off x="4763160" y="2889360"/>
                <a:ext cx="1080000" cy="1078920"/>
              </a:xfrm>
              <a:prstGeom prst="ellipse">
                <a:avLst/>
              </a:prstGeom>
              <a:solidFill>
                <a:srgbClr val="ffffff"/>
              </a:solidFill>
              <a:ln w="0">
                <a:noFill/>
              </a:ln>
              <a:effectLst>
                <a:outerShdw dist="3818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60" name="Group 18"/>
            <p:cNvGrpSpPr/>
            <p:nvPr/>
          </p:nvGrpSpPr>
          <p:grpSpPr>
            <a:xfrm>
              <a:off x="4872960" y="3132720"/>
              <a:ext cx="860400" cy="613440"/>
              <a:chOff x="4872960" y="3132720"/>
              <a:chExt cx="860400" cy="613440"/>
            </a:xfrm>
          </p:grpSpPr>
          <p:sp>
            <p:nvSpPr>
              <p:cNvPr id="1661" name="TextBox 19"/>
              <p:cNvSpPr/>
              <p:nvPr/>
            </p:nvSpPr>
            <p:spPr>
              <a:xfrm>
                <a:off x="4973760" y="3132720"/>
                <a:ext cx="65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c8ffb"/>
                    </a:solidFill>
                    <a:latin typeface="Roboto Slab"/>
                    <a:ea typeface="Roboto Slab"/>
                  </a:rPr>
                  <a:t>#2</a:t>
                </a:r>
                <a:endParaRPr b="0" lang="en-US" sz="2400" spc="-1" strike="noStrike">
                  <a:solidFill>
                    <a:srgbClr val="000000"/>
                  </a:solidFill>
                  <a:latin typeface="Calibri"/>
                </a:endParaRPr>
              </a:p>
            </p:txBody>
          </p:sp>
          <p:sp>
            <p:nvSpPr>
              <p:cNvPr id="1662" name="TextBox 20"/>
              <p:cNvSpPr/>
              <p:nvPr/>
            </p:nvSpPr>
            <p:spPr>
              <a:xfrm>
                <a:off x="4872960" y="3469680"/>
                <a:ext cx="86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oboto Light"/>
                    <a:ea typeface="Roboto Light"/>
                  </a:rPr>
                  <a:t>Step</a:t>
                </a:r>
                <a:endParaRPr b="0" lang="en-US" sz="1200" spc="-1" strike="noStrike">
                  <a:solidFill>
                    <a:srgbClr val="000000"/>
                  </a:solidFill>
                  <a:latin typeface="Calibri"/>
                </a:endParaRPr>
              </a:p>
            </p:txBody>
          </p:sp>
        </p:grpSp>
        <p:grpSp>
          <p:nvGrpSpPr>
            <p:cNvPr id="1663" name="Group 36"/>
            <p:cNvGrpSpPr/>
            <p:nvPr/>
          </p:nvGrpSpPr>
          <p:grpSpPr>
            <a:xfrm>
              <a:off x="2171880" y="2851200"/>
              <a:ext cx="1999800" cy="1427760"/>
              <a:chOff x="2171880" y="2851200"/>
              <a:chExt cx="1999800" cy="1427760"/>
            </a:xfrm>
          </p:grpSpPr>
          <p:sp>
            <p:nvSpPr>
              <p:cNvPr id="1664" name="TextBox 37"/>
              <p:cNvSpPr/>
              <p:nvPr/>
            </p:nvSpPr>
            <p:spPr>
              <a:xfrm>
                <a:off x="2171880" y="3181320"/>
                <a:ext cx="19998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p:txBody>
          </p:sp>
          <p:sp>
            <p:nvSpPr>
              <p:cNvPr id="1665" name="TextBox 38"/>
              <p:cNvSpPr/>
              <p:nvPr/>
            </p:nvSpPr>
            <p:spPr>
              <a:xfrm>
                <a:off x="2171880" y="2851200"/>
                <a:ext cx="15292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Your title here</a:t>
                </a:r>
                <a:endParaRPr b="0" lang="en-US" sz="1400" spc="-1" strike="noStrike">
                  <a:solidFill>
                    <a:srgbClr val="000000"/>
                  </a:solidFill>
                  <a:latin typeface="Calibri"/>
                </a:endParaRPr>
              </a:p>
            </p:txBody>
          </p:sp>
        </p:grpSp>
      </p:grpSp>
      <p:grpSp>
        <p:nvGrpSpPr>
          <p:cNvPr id="1666" name="Group 86"/>
          <p:cNvGrpSpPr/>
          <p:nvPr/>
        </p:nvGrpSpPr>
        <p:grpSpPr>
          <a:xfrm>
            <a:off x="2255760" y="4281480"/>
            <a:ext cx="3840120" cy="1555200"/>
            <a:chOff x="2255760" y="4281480"/>
            <a:chExt cx="3840120" cy="1555200"/>
          </a:xfrm>
        </p:grpSpPr>
        <p:grpSp>
          <p:nvGrpSpPr>
            <p:cNvPr id="1667" name="Group 84"/>
            <p:cNvGrpSpPr/>
            <p:nvPr/>
          </p:nvGrpSpPr>
          <p:grpSpPr>
            <a:xfrm>
              <a:off x="2255760" y="4281480"/>
              <a:ext cx="1410840" cy="1411200"/>
              <a:chOff x="2255760" y="4281480"/>
              <a:chExt cx="1410840" cy="1411200"/>
            </a:xfrm>
          </p:grpSpPr>
          <p:sp>
            <p:nvSpPr>
              <p:cNvPr id="1668" name="Oval 29"/>
              <p:cNvSpPr/>
              <p:nvPr/>
            </p:nvSpPr>
            <p:spPr>
              <a:xfrm>
                <a:off x="2255760" y="4281480"/>
                <a:ext cx="1410840" cy="1411200"/>
              </a:xfrm>
              <a:prstGeom prst="ellipse">
                <a:avLst/>
              </a:prstGeom>
              <a:solidFill>
                <a:srgbClr val="c1ff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9" name="Arc 30"/>
              <p:cNvSpPr/>
              <p:nvPr/>
            </p:nvSpPr>
            <p:spPr>
              <a:xfrm>
                <a:off x="2343600" y="4369320"/>
                <a:ext cx="1235160" cy="1235520"/>
              </a:xfrm>
              <a:custGeom>
                <a:avLst/>
                <a:gdLst/>
                <a:ahLst/>
                <a:rect l="l" t="t" r="r" b="b"/>
                <a:pathLst>
                  <a:path stroke="0" w="1235124" h="1235124">
                    <a:moveTo>
                      <a:pt x="617562" y="0"/>
                    </a:moveTo>
                    <a:cubicBezTo>
                      <a:pt x="954119" y="0"/>
                      <a:pt x="1228705" y="269486"/>
                      <a:pt x="1235015" y="605983"/>
                    </a:cubicBezTo>
                    <a:cubicBezTo>
                      <a:pt x="1241325" y="942481"/>
                      <a:pt x="977035" y="1222072"/>
                      <a:pt x="640715" y="1234689"/>
                    </a:cubicBezTo>
                    <a:cubicBezTo>
                      <a:pt x="304395" y="1247307"/>
                      <a:pt x="19898" y="988305"/>
                      <a:pt x="977" y="652281"/>
                    </a:cubicBezTo>
                    <a:cubicBezTo>
                      <a:pt x="-17944" y="316257"/>
                      <a:pt x="235678" y="26954"/>
                      <a:pt x="571288" y="1735"/>
                    </a:cubicBezTo>
                    <a:lnTo>
                      <a:pt x="617562" y="617562"/>
                    </a:lnTo>
                    <a:lnTo>
                      <a:pt x="617562" y="0"/>
                    </a:lnTo>
                    <a:close/>
                  </a:path>
                  <a:path fill="none" w="1235124" h="1235124">
                    <a:moveTo>
                      <a:pt x="617562" y="0"/>
                    </a:moveTo>
                    <a:cubicBezTo>
                      <a:pt x="954119" y="0"/>
                      <a:pt x="1228705" y="269486"/>
                      <a:pt x="1235015" y="605983"/>
                    </a:cubicBezTo>
                    <a:cubicBezTo>
                      <a:pt x="1241325" y="942481"/>
                      <a:pt x="977035" y="1222072"/>
                      <a:pt x="640715" y="1234689"/>
                    </a:cubicBezTo>
                    <a:cubicBezTo>
                      <a:pt x="304395" y="1247307"/>
                      <a:pt x="19898" y="988305"/>
                      <a:pt x="977" y="652281"/>
                    </a:cubicBezTo>
                    <a:cubicBezTo>
                      <a:pt x="-17944" y="316257"/>
                      <a:pt x="235678" y="26954"/>
                      <a:pt x="571288" y="1735"/>
                    </a:cubicBezTo>
                  </a:path>
                </a:pathLst>
              </a:custGeom>
              <a:noFill/>
              <a:ln cap="rnd" w="190440">
                <a:solidFill>
                  <a:srgbClr val="7c8ff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70" name="Oval 31"/>
              <p:cNvSpPr/>
              <p:nvPr/>
            </p:nvSpPr>
            <p:spPr>
              <a:xfrm>
                <a:off x="2421000" y="4447080"/>
                <a:ext cx="1080000" cy="1080000"/>
              </a:xfrm>
              <a:prstGeom prst="ellipse">
                <a:avLst/>
              </a:prstGeom>
              <a:solidFill>
                <a:srgbClr val="ffffff"/>
              </a:solidFill>
              <a:ln w="0">
                <a:noFill/>
              </a:ln>
              <a:effectLst>
                <a:outerShdw dist="3818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71" name="Group 26"/>
            <p:cNvGrpSpPr/>
            <p:nvPr/>
          </p:nvGrpSpPr>
          <p:grpSpPr>
            <a:xfrm>
              <a:off x="2530800" y="4690800"/>
              <a:ext cx="860400" cy="613440"/>
              <a:chOff x="2530800" y="4690800"/>
              <a:chExt cx="860400" cy="613440"/>
            </a:xfrm>
          </p:grpSpPr>
          <p:sp>
            <p:nvSpPr>
              <p:cNvPr id="1672" name="TextBox 27"/>
              <p:cNvSpPr/>
              <p:nvPr/>
            </p:nvSpPr>
            <p:spPr>
              <a:xfrm>
                <a:off x="2631600" y="4690800"/>
                <a:ext cx="65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c8ffb"/>
                    </a:solidFill>
                    <a:latin typeface="Roboto Slab"/>
                    <a:ea typeface="Roboto Slab"/>
                  </a:rPr>
                  <a:t>#3</a:t>
                </a:r>
                <a:endParaRPr b="0" lang="en-US" sz="2400" spc="-1" strike="noStrike">
                  <a:solidFill>
                    <a:srgbClr val="000000"/>
                  </a:solidFill>
                  <a:latin typeface="Calibri"/>
                </a:endParaRPr>
              </a:p>
            </p:txBody>
          </p:sp>
          <p:sp>
            <p:nvSpPr>
              <p:cNvPr id="1673" name="TextBox 28"/>
              <p:cNvSpPr/>
              <p:nvPr/>
            </p:nvSpPr>
            <p:spPr>
              <a:xfrm>
                <a:off x="2530800" y="5027760"/>
                <a:ext cx="86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oboto Light"/>
                    <a:ea typeface="Roboto Light"/>
                  </a:rPr>
                  <a:t>Step</a:t>
                </a:r>
                <a:endParaRPr b="0" lang="en-US" sz="1200" spc="-1" strike="noStrike">
                  <a:solidFill>
                    <a:srgbClr val="000000"/>
                  </a:solidFill>
                  <a:latin typeface="Calibri"/>
                </a:endParaRPr>
              </a:p>
            </p:txBody>
          </p:sp>
        </p:grpSp>
        <p:grpSp>
          <p:nvGrpSpPr>
            <p:cNvPr id="1674" name="Group 39"/>
            <p:cNvGrpSpPr/>
            <p:nvPr/>
          </p:nvGrpSpPr>
          <p:grpSpPr>
            <a:xfrm>
              <a:off x="4096440" y="4408560"/>
              <a:ext cx="1999440" cy="1428120"/>
              <a:chOff x="4096440" y="4408560"/>
              <a:chExt cx="1999440" cy="1428120"/>
            </a:xfrm>
          </p:grpSpPr>
          <p:sp>
            <p:nvSpPr>
              <p:cNvPr id="1675" name="TextBox 40"/>
              <p:cNvSpPr/>
              <p:nvPr/>
            </p:nvSpPr>
            <p:spPr>
              <a:xfrm>
                <a:off x="4096440" y="4739040"/>
                <a:ext cx="19994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p:txBody>
          </p:sp>
          <p:sp>
            <p:nvSpPr>
              <p:cNvPr id="1676" name="TextBox 41"/>
              <p:cNvSpPr/>
              <p:nvPr/>
            </p:nvSpPr>
            <p:spPr>
              <a:xfrm>
                <a:off x="4096440" y="4408560"/>
                <a:ext cx="15292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Your title here</a:t>
                </a:r>
                <a:endParaRPr b="0" lang="en-US" sz="1400" spc="-1" strike="noStrike">
                  <a:solidFill>
                    <a:srgbClr val="000000"/>
                  </a:solidFill>
                  <a:latin typeface="Calibri"/>
                </a:endParaRPr>
              </a:p>
            </p:txBody>
          </p:sp>
        </p:grpSp>
      </p:grpSp>
      <p:grpSp>
        <p:nvGrpSpPr>
          <p:cNvPr id="1677" name="Group 74"/>
          <p:cNvGrpSpPr/>
          <p:nvPr/>
        </p:nvGrpSpPr>
        <p:grpSpPr>
          <a:xfrm>
            <a:off x="7604280" y="1330200"/>
            <a:ext cx="2679480" cy="4338000"/>
            <a:chOff x="7604280" y="1330200"/>
            <a:chExt cx="2679480" cy="4338000"/>
          </a:xfrm>
        </p:grpSpPr>
        <p:sp>
          <p:nvSpPr>
            <p:cNvPr id="1678" name="TextBox 1"/>
            <p:cNvSpPr/>
            <p:nvPr/>
          </p:nvSpPr>
          <p:spPr>
            <a:xfrm>
              <a:off x="7604280" y="1787760"/>
              <a:ext cx="26395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boto Slab Medium"/>
                  <a:ea typeface="Roboto Slab Medium"/>
                </a:rPr>
                <a:t>How to Enroll </a:t>
              </a:r>
              <a:r>
                <a:rPr b="0" lang="en-US" sz="4000" spc="-1" strike="noStrike">
                  <a:solidFill>
                    <a:srgbClr val="000000"/>
                  </a:solidFill>
                  <a:latin typeface="Roboto Slab"/>
                  <a:ea typeface="Roboto Slab"/>
                </a:rPr>
                <a:t>for a Course?</a:t>
              </a:r>
              <a:endParaRPr b="0" lang="en-US" sz="4000" spc="-1" strike="noStrike">
                <a:solidFill>
                  <a:srgbClr val="000000"/>
                </a:solidFill>
                <a:latin typeface="Calibri"/>
              </a:endParaRPr>
            </a:p>
          </p:txBody>
        </p:sp>
        <p:sp>
          <p:nvSpPr>
            <p:cNvPr id="1679" name="TextBox 5"/>
            <p:cNvSpPr/>
            <p:nvPr/>
          </p:nvSpPr>
          <p:spPr>
            <a:xfrm>
              <a:off x="7604280" y="3817800"/>
              <a:ext cx="2679480" cy="1850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Ut enim ad minim veniam, quis nostrud exercitation ullamco laboris nisi ut aliquip ex ea commodo consequat. </a:t>
              </a:r>
              <a:endParaRPr b="0" lang="en-US" sz="1100" spc="-1" strike="noStrike">
                <a:solidFill>
                  <a:srgbClr val="000000"/>
                </a:solidFill>
                <a:latin typeface="Calibri"/>
              </a:endParaRPr>
            </a:p>
          </p:txBody>
        </p:sp>
        <p:grpSp>
          <p:nvGrpSpPr>
            <p:cNvPr id="1680" name="Group 69"/>
            <p:cNvGrpSpPr/>
            <p:nvPr/>
          </p:nvGrpSpPr>
          <p:grpSpPr>
            <a:xfrm>
              <a:off x="7604280" y="1330200"/>
              <a:ext cx="1213200" cy="276480"/>
              <a:chOff x="7604280" y="1330200"/>
              <a:chExt cx="1213200" cy="276480"/>
            </a:xfrm>
          </p:grpSpPr>
          <p:sp>
            <p:nvSpPr>
              <p:cNvPr id="1681" name="TextBox 70"/>
              <p:cNvSpPr/>
              <p:nvPr/>
            </p:nvSpPr>
            <p:spPr>
              <a:xfrm>
                <a:off x="7604280" y="1330200"/>
                <a:ext cx="121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boto Slab Medium"/>
                    <a:ea typeface="Roboto Slab Medium"/>
                  </a:rPr>
                  <a:t>Educationaly </a:t>
                </a:r>
                <a:endParaRPr b="0" lang="en-US" sz="1200" spc="-1" strike="noStrike">
                  <a:solidFill>
                    <a:srgbClr val="000000"/>
                  </a:solidFill>
                  <a:latin typeface="Calibri"/>
                </a:endParaRPr>
              </a:p>
            </p:txBody>
          </p:sp>
          <p:sp>
            <p:nvSpPr>
              <p:cNvPr id="1682" name="Graphic 1031"/>
              <p:cNvSpPr/>
              <p:nvPr/>
            </p:nvSpPr>
            <p:spPr>
              <a:xfrm>
                <a:off x="7666920" y="1404720"/>
                <a:ext cx="299160" cy="52200"/>
              </a:xfrm>
              <a:custGeom>
                <a:avLst/>
                <a:gdLst/>
                <a:ahLst/>
                <a:rect l="l" t="t" r="r" b="b"/>
                <a:pathLst>
                  <a:path w="760911" h="132655">
                    <a:moveTo>
                      <a:pt x="0" y="132656"/>
                    </a:moveTo>
                    <a:cubicBezTo>
                      <a:pt x="55245" y="99318"/>
                      <a:pt x="113348" y="71696"/>
                      <a:pt x="174308" y="50741"/>
                    </a:cubicBezTo>
                    <a:cubicBezTo>
                      <a:pt x="235268" y="29786"/>
                      <a:pt x="298133" y="14546"/>
                      <a:pt x="361950" y="6926"/>
                    </a:cubicBezTo>
                    <a:cubicBezTo>
                      <a:pt x="490538" y="-9267"/>
                      <a:pt x="622935" y="3116"/>
                      <a:pt x="747713" y="42168"/>
                    </a:cubicBezTo>
                    <a:cubicBezTo>
                      <a:pt x="758190" y="45026"/>
                      <a:pt x="762953" y="55503"/>
                      <a:pt x="760095" y="65981"/>
                    </a:cubicBezTo>
                    <a:cubicBezTo>
                      <a:pt x="757238" y="76458"/>
                      <a:pt x="746760" y="81221"/>
                      <a:pt x="736283" y="78363"/>
                    </a:cubicBezTo>
                    <a:cubicBezTo>
                      <a:pt x="736283" y="78363"/>
                      <a:pt x="735330" y="78363"/>
                      <a:pt x="735330" y="78363"/>
                    </a:cubicBezTo>
                    <a:cubicBezTo>
                      <a:pt x="617220" y="35501"/>
                      <a:pt x="490538" y="16451"/>
                      <a:pt x="363855" y="26928"/>
                    </a:cubicBezTo>
                    <a:cubicBezTo>
                      <a:pt x="300990" y="30738"/>
                      <a:pt x="238125" y="42168"/>
                      <a:pt x="177165" y="60266"/>
                    </a:cubicBezTo>
                    <a:cubicBezTo>
                      <a:pt x="115253" y="78363"/>
                      <a:pt x="56198" y="103128"/>
                      <a:pt x="0" y="132656"/>
                    </a:cubicBezTo>
                    <a:close/>
                  </a:path>
                </a:pathLst>
              </a:custGeom>
              <a:solidFill>
                <a:srgbClr val="7c8ffb"/>
              </a:solidFill>
              <a:ln w="0">
                <a:noFill/>
              </a:ln>
            </p:spPr>
            <p:style>
              <a:lnRef idx="0"/>
              <a:fillRef idx="0"/>
              <a:effectRef idx="0"/>
              <a:fontRef idx="minor"/>
            </p:style>
            <p:txBody>
              <a:bodyPr lIns="90000" rIns="90000" tIns="5400" bIns="5400" anchor="ctr">
                <a:noAutofit/>
              </a:bodyPr>
              <a:p>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3" name="Group 14"/>
          <p:cNvGrpSpPr/>
          <p:nvPr/>
        </p:nvGrpSpPr>
        <p:grpSpPr>
          <a:xfrm>
            <a:off x="974880" y="622440"/>
            <a:ext cx="1212840" cy="293400"/>
            <a:chOff x="974880" y="622440"/>
            <a:chExt cx="1212840" cy="293400"/>
          </a:xfrm>
        </p:grpSpPr>
        <p:sp>
          <p:nvSpPr>
            <p:cNvPr id="1684" name="TextBox 15"/>
            <p:cNvSpPr/>
            <p:nvPr/>
          </p:nvSpPr>
          <p:spPr>
            <a:xfrm>
              <a:off x="974880" y="622440"/>
              <a:ext cx="121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boto Slab Medium"/>
                  <a:ea typeface="Roboto Slab Medium"/>
                </a:rPr>
                <a:t>Educationaly </a:t>
              </a:r>
              <a:endParaRPr b="0" lang="en-US" sz="1200" spc="-1" strike="noStrike">
                <a:solidFill>
                  <a:srgbClr val="000000"/>
                </a:solidFill>
                <a:latin typeface="Calibri"/>
              </a:endParaRPr>
            </a:p>
          </p:txBody>
        </p:sp>
        <p:sp>
          <p:nvSpPr>
            <p:cNvPr id="1685" name="Graphic 1031"/>
            <p:cNvSpPr/>
            <p:nvPr/>
          </p:nvSpPr>
          <p:spPr>
            <a:xfrm>
              <a:off x="1037520" y="863640"/>
              <a:ext cx="299160" cy="52200"/>
            </a:xfrm>
            <a:custGeom>
              <a:avLst/>
              <a:gdLst/>
              <a:ahLst/>
              <a:rect l="l" t="t" r="r" b="b"/>
              <a:pathLst>
                <a:path w="760911" h="132655">
                  <a:moveTo>
                    <a:pt x="0" y="132656"/>
                  </a:moveTo>
                  <a:cubicBezTo>
                    <a:pt x="55245" y="99318"/>
                    <a:pt x="113348" y="71696"/>
                    <a:pt x="174308" y="50741"/>
                  </a:cubicBezTo>
                  <a:cubicBezTo>
                    <a:pt x="235268" y="29786"/>
                    <a:pt x="298133" y="14546"/>
                    <a:pt x="361950" y="6926"/>
                  </a:cubicBezTo>
                  <a:cubicBezTo>
                    <a:pt x="490538" y="-9267"/>
                    <a:pt x="622935" y="3116"/>
                    <a:pt x="747713" y="42168"/>
                  </a:cubicBezTo>
                  <a:cubicBezTo>
                    <a:pt x="758190" y="45026"/>
                    <a:pt x="762953" y="55503"/>
                    <a:pt x="760095" y="65981"/>
                  </a:cubicBezTo>
                  <a:cubicBezTo>
                    <a:pt x="757238" y="76458"/>
                    <a:pt x="746760" y="81221"/>
                    <a:pt x="736283" y="78363"/>
                  </a:cubicBezTo>
                  <a:cubicBezTo>
                    <a:pt x="736283" y="78363"/>
                    <a:pt x="735330" y="78363"/>
                    <a:pt x="735330" y="78363"/>
                  </a:cubicBezTo>
                  <a:cubicBezTo>
                    <a:pt x="617220" y="35501"/>
                    <a:pt x="490538" y="16451"/>
                    <a:pt x="363855" y="26928"/>
                  </a:cubicBezTo>
                  <a:cubicBezTo>
                    <a:pt x="300990" y="30738"/>
                    <a:pt x="238125" y="42168"/>
                    <a:pt x="177165" y="60266"/>
                  </a:cubicBezTo>
                  <a:cubicBezTo>
                    <a:pt x="115253" y="78363"/>
                    <a:pt x="56198" y="103128"/>
                    <a:pt x="0" y="132656"/>
                  </a:cubicBezTo>
                  <a:close/>
                </a:path>
              </a:pathLst>
            </a:custGeom>
            <a:solidFill>
              <a:srgbClr val="7c8ffb"/>
            </a:solidFill>
            <a:ln w="0">
              <a:noFill/>
            </a:ln>
          </p:spPr>
          <p:style>
            <a:lnRef idx="0"/>
            <a:fillRef idx="0"/>
            <a:effectRef idx="0"/>
            <a:fontRef idx="minor"/>
          </p:style>
          <p:txBody>
            <a:bodyPr lIns="90000" rIns="90000" tIns="5400" bIns="5400" anchor="ctr">
              <a:noAutofit/>
            </a:bodyPr>
            <a:p>
              <a:endParaRPr b="0" lang="en-US" sz="1800" spc="-1" strike="noStrike">
                <a:solidFill>
                  <a:srgbClr val="000000"/>
                </a:solidFill>
                <a:latin typeface="Calibri"/>
              </a:endParaRPr>
            </a:p>
          </p:txBody>
        </p:sp>
      </p:grpSp>
      <p:grpSp>
        <p:nvGrpSpPr>
          <p:cNvPr id="1686" name="Group 17"/>
          <p:cNvGrpSpPr/>
          <p:nvPr/>
        </p:nvGrpSpPr>
        <p:grpSpPr>
          <a:xfrm>
            <a:off x="10625040" y="692280"/>
            <a:ext cx="474840" cy="64800"/>
            <a:chOff x="10625040" y="692280"/>
            <a:chExt cx="474840" cy="64800"/>
          </a:xfrm>
        </p:grpSpPr>
        <p:sp>
          <p:nvSpPr>
            <p:cNvPr id="1687" name="Freeform: Shape 18"/>
            <p:cNvSpPr/>
            <p:nvPr/>
          </p:nvSpPr>
          <p:spPr>
            <a:xfrm>
              <a:off x="106250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4fcb6"/>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688" name="Freeform: Shape 19"/>
            <p:cNvSpPr/>
            <p:nvPr/>
          </p:nvSpPr>
          <p:spPr>
            <a:xfrm>
              <a:off x="107618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bbbcfc"/>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689" name="Freeform: Shape 20"/>
            <p:cNvSpPr/>
            <p:nvPr/>
          </p:nvSpPr>
          <p:spPr>
            <a:xfrm>
              <a:off x="108986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ec2e1"/>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690" name="Freeform: Shape 21"/>
            <p:cNvSpPr/>
            <p:nvPr/>
          </p:nvSpPr>
          <p:spPr>
            <a:xfrm>
              <a:off x="110354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97fff7"/>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grpSp>
      <p:sp>
        <p:nvSpPr>
          <p:cNvPr id="1691" name="TextBox 3"/>
          <p:cNvSpPr/>
          <p:nvPr/>
        </p:nvSpPr>
        <p:spPr>
          <a:xfrm>
            <a:off x="995400" y="1752480"/>
            <a:ext cx="2638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boto Slab"/>
                <a:ea typeface="Roboto Slab"/>
              </a:rPr>
              <a:t>Our</a:t>
            </a:r>
            <a:r>
              <a:rPr b="0" lang="en-US" sz="4000" spc="-1" strike="noStrike">
                <a:solidFill>
                  <a:srgbClr val="000000"/>
                </a:solidFill>
                <a:latin typeface="Roboto Slab Medium"/>
                <a:ea typeface="Roboto Slab Medium"/>
              </a:rPr>
              <a:t> Partners</a:t>
            </a:r>
            <a:endParaRPr b="0" lang="en-US" sz="4000" spc="-1" strike="noStrike">
              <a:solidFill>
                <a:srgbClr val="000000"/>
              </a:solidFill>
              <a:latin typeface="Calibri"/>
            </a:endParaRPr>
          </a:p>
        </p:txBody>
      </p:sp>
      <p:sp>
        <p:nvSpPr>
          <p:cNvPr id="1692" name="TextBox 4"/>
          <p:cNvSpPr/>
          <p:nvPr/>
        </p:nvSpPr>
        <p:spPr>
          <a:xfrm>
            <a:off x="995400" y="3651120"/>
            <a:ext cx="2679840" cy="1850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Ut enim ad minim veniam, quis nostrud exercitation ullamco laboris nisi ut aliquip ex ea commodo consequat. </a:t>
            </a:r>
            <a:endParaRPr b="0" lang="en-US" sz="1100" spc="-1" strike="noStrike">
              <a:solidFill>
                <a:srgbClr val="000000"/>
              </a:solidFill>
              <a:latin typeface="Calibri"/>
            </a:endParaRPr>
          </a:p>
        </p:txBody>
      </p:sp>
      <p:sp>
        <p:nvSpPr>
          <p:cNvPr id="1693" name="TextBox 10"/>
          <p:cNvSpPr/>
          <p:nvPr/>
        </p:nvSpPr>
        <p:spPr>
          <a:xfrm>
            <a:off x="4780080" y="3441600"/>
            <a:ext cx="20462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2f2f2"/>
                </a:solidFill>
                <a:latin typeface="Roboto Slab"/>
                <a:ea typeface="Roboto Slab"/>
              </a:rPr>
              <a:t>N</a:t>
            </a:r>
            <a:r>
              <a:rPr b="1" lang="en-US" sz="6000" spc="-1" strike="noStrike" baseline="30000">
                <a:solidFill>
                  <a:srgbClr val="f2f2f2"/>
                </a:solidFill>
                <a:latin typeface="Roboto Slab"/>
                <a:ea typeface="Roboto Slab"/>
              </a:rPr>
              <a:t>o</a:t>
            </a:r>
            <a:r>
              <a:rPr b="1" lang="en-US" sz="6000" spc="-1" strike="noStrike">
                <a:solidFill>
                  <a:srgbClr val="f2f2f2"/>
                </a:solidFill>
                <a:latin typeface="Roboto Slab"/>
                <a:ea typeface="Roboto Slab"/>
              </a:rPr>
              <a:t>01</a:t>
            </a:r>
            <a:endParaRPr b="0" lang="en-US" sz="6000" spc="-1" strike="noStrike">
              <a:solidFill>
                <a:srgbClr val="000000"/>
              </a:solidFill>
              <a:latin typeface="Calibri"/>
            </a:endParaRPr>
          </a:p>
        </p:txBody>
      </p:sp>
      <p:sp>
        <p:nvSpPr>
          <p:cNvPr id="1694" name="TextBox 28"/>
          <p:cNvSpPr/>
          <p:nvPr/>
        </p:nvSpPr>
        <p:spPr>
          <a:xfrm>
            <a:off x="4780080" y="4411800"/>
            <a:ext cx="19987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p:txBody>
      </p:sp>
      <p:sp>
        <p:nvSpPr>
          <p:cNvPr id="1695" name="TextBox 29"/>
          <p:cNvSpPr/>
          <p:nvPr/>
        </p:nvSpPr>
        <p:spPr>
          <a:xfrm>
            <a:off x="4780080" y="3865680"/>
            <a:ext cx="10112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Subtitle</a:t>
            </a:r>
            <a:endParaRPr b="0" lang="en-US" sz="1400" spc="-1" strike="noStrike">
              <a:solidFill>
                <a:srgbClr val="000000"/>
              </a:solidFill>
              <a:latin typeface="Calibri"/>
            </a:endParaRPr>
          </a:p>
        </p:txBody>
      </p:sp>
      <p:sp>
        <p:nvSpPr>
          <p:cNvPr id="1696" name="Straight Connector 30"/>
          <p:cNvSpPr/>
          <p:nvPr/>
        </p:nvSpPr>
        <p:spPr>
          <a:xfrm>
            <a:off x="4867200" y="4270320"/>
            <a:ext cx="1785960" cy="0"/>
          </a:xfrm>
          <a:prstGeom prst="line">
            <a:avLst/>
          </a:prstGeom>
          <a:ln w="1260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7" name="TextBox 11"/>
          <p:cNvSpPr/>
          <p:nvPr/>
        </p:nvSpPr>
        <p:spPr>
          <a:xfrm>
            <a:off x="6988320" y="3441600"/>
            <a:ext cx="2163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2f2f2"/>
                </a:solidFill>
                <a:latin typeface="Roboto Slab"/>
                <a:ea typeface="Roboto Slab"/>
              </a:rPr>
              <a:t>N</a:t>
            </a:r>
            <a:r>
              <a:rPr b="1" lang="en-US" sz="6000" spc="-1" strike="noStrike" baseline="30000">
                <a:solidFill>
                  <a:srgbClr val="f2f2f2"/>
                </a:solidFill>
                <a:latin typeface="Roboto Slab"/>
                <a:ea typeface="Roboto Slab"/>
              </a:rPr>
              <a:t>o</a:t>
            </a:r>
            <a:r>
              <a:rPr b="1" lang="en-US" sz="6000" spc="-1" strike="noStrike">
                <a:solidFill>
                  <a:srgbClr val="f2f2f2"/>
                </a:solidFill>
                <a:latin typeface="Roboto Slab"/>
                <a:ea typeface="Roboto Slab"/>
              </a:rPr>
              <a:t>02</a:t>
            </a:r>
            <a:endParaRPr b="0" lang="en-US" sz="6000" spc="-1" strike="noStrike">
              <a:solidFill>
                <a:srgbClr val="000000"/>
              </a:solidFill>
              <a:latin typeface="Calibri"/>
            </a:endParaRPr>
          </a:p>
        </p:txBody>
      </p:sp>
      <p:sp>
        <p:nvSpPr>
          <p:cNvPr id="1698" name="TextBox 33"/>
          <p:cNvSpPr/>
          <p:nvPr/>
        </p:nvSpPr>
        <p:spPr>
          <a:xfrm>
            <a:off x="6988320" y="4411800"/>
            <a:ext cx="20001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p:txBody>
      </p:sp>
      <p:sp>
        <p:nvSpPr>
          <p:cNvPr id="1699" name="TextBox 34"/>
          <p:cNvSpPr/>
          <p:nvPr/>
        </p:nvSpPr>
        <p:spPr>
          <a:xfrm>
            <a:off x="6988320" y="3865680"/>
            <a:ext cx="10126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Subtitle</a:t>
            </a:r>
            <a:endParaRPr b="0" lang="en-US" sz="1400" spc="-1" strike="noStrike">
              <a:solidFill>
                <a:srgbClr val="000000"/>
              </a:solidFill>
              <a:latin typeface="Calibri"/>
            </a:endParaRPr>
          </a:p>
        </p:txBody>
      </p:sp>
      <p:sp>
        <p:nvSpPr>
          <p:cNvPr id="1700" name="Straight Connector 35"/>
          <p:cNvSpPr/>
          <p:nvPr/>
        </p:nvSpPr>
        <p:spPr>
          <a:xfrm>
            <a:off x="7077240" y="4270320"/>
            <a:ext cx="1785600" cy="0"/>
          </a:xfrm>
          <a:prstGeom prst="line">
            <a:avLst/>
          </a:prstGeom>
          <a:ln w="1260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1" name="TextBox 12"/>
          <p:cNvSpPr/>
          <p:nvPr/>
        </p:nvSpPr>
        <p:spPr>
          <a:xfrm>
            <a:off x="9198000" y="3441600"/>
            <a:ext cx="2162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2f2f2"/>
                </a:solidFill>
                <a:latin typeface="Roboto Slab"/>
                <a:ea typeface="Roboto Slab"/>
              </a:rPr>
              <a:t>N</a:t>
            </a:r>
            <a:r>
              <a:rPr b="1" lang="en-US" sz="6000" spc="-1" strike="noStrike" baseline="30000">
                <a:solidFill>
                  <a:srgbClr val="f2f2f2"/>
                </a:solidFill>
                <a:latin typeface="Roboto Slab"/>
                <a:ea typeface="Roboto Slab"/>
              </a:rPr>
              <a:t>o</a:t>
            </a:r>
            <a:r>
              <a:rPr b="1" lang="en-US" sz="6000" spc="-1" strike="noStrike">
                <a:solidFill>
                  <a:srgbClr val="f2f2f2"/>
                </a:solidFill>
                <a:latin typeface="Roboto Slab"/>
                <a:ea typeface="Roboto Slab"/>
              </a:rPr>
              <a:t>03</a:t>
            </a:r>
            <a:endParaRPr b="0" lang="en-US" sz="6000" spc="-1" strike="noStrike">
              <a:solidFill>
                <a:srgbClr val="000000"/>
              </a:solidFill>
              <a:latin typeface="Calibri"/>
            </a:endParaRPr>
          </a:p>
        </p:txBody>
      </p:sp>
      <p:sp>
        <p:nvSpPr>
          <p:cNvPr id="1702" name="TextBox 37"/>
          <p:cNvSpPr/>
          <p:nvPr/>
        </p:nvSpPr>
        <p:spPr>
          <a:xfrm>
            <a:off x="9198000" y="4411800"/>
            <a:ext cx="19987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p:txBody>
      </p:sp>
      <p:sp>
        <p:nvSpPr>
          <p:cNvPr id="1703" name="TextBox 38"/>
          <p:cNvSpPr/>
          <p:nvPr/>
        </p:nvSpPr>
        <p:spPr>
          <a:xfrm>
            <a:off x="9198000" y="3865680"/>
            <a:ext cx="10112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Subtitle</a:t>
            </a:r>
            <a:endParaRPr b="0" lang="en-US" sz="1400" spc="-1" strike="noStrike">
              <a:solidFill>
                <a:srgbClr val="000000"/>
              </a:solidFill>
              <a:latin typeface="Calibri"/>
            </a:endParaRPr>
          </a:p>
        </p:txBody>
      </p:sp>
      <p:sp>
        <p:nvSpPr>
          <p:cNvPr id="1704" name="Straight Connector 39"/>
          <p:cNvSpPr/>
          <p:nvPr/>
        </p:nvSpPr>
        <p:spPr>
          <a:xfrm>
            <a:off x="9285120" y="4270320"/>
            <a:ext cx="1785960" cy="0"/>
          </a:xfrm>
          <a:prstGeom prst="line">
            <a:avLst/>
          </a:prstGeom>
          <a:ln w="1260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5" name="Straight Connector 43"/>
          <p:cNvSpPr/>
          <p:nvPr/>
        </p:nvSpPr>
        <p:spPr>
          <a:xfrm>
            <a:off x="1092240" y="3357720"/>
            <a:ext cx="488880" cy="0"/>
          </a:xfrm>
          <a:prstGeom prst="line">
            <a:avLst/>
          </a:prstGeom>
          <a:ln w="3816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706" name="Group 1"/>
          <p:cNvGrpSpPr/>
          <p:nvPr/>
        </p:nvGrpSpPr>
        <p:grpSpPr>
          <a:xfrm>
            <a:off x="5894280" y="2697120"/>
            <a:ext cx="660600" cy="660600"/>
            <a:chOff x="5894280" y="2697120"/>
            <a:chExt cx="660600" cy="660600"/>
          </a:xfrm>
        </p:grpSpPr>
        <p:sp>
          <p:nvSpPr>
            <p:cNvPr id="1707" name="Oval 131"/>
            <p:cNvSpPr/>
            <p:nvPr/>
          </p:nvSpPr>
          <p:spPr>
            <a:xfrm>
              <a:off x="5894280" y="2697120"/>
              <a:ext cx="660600" cy="660600"/>
            </a:xfrm>
            <a:prstGeom prst="ellipse">
              <a:avLst/>
            </a:prstGeom>
            <a:solidFill>
              <a:srgbClr val="ffffff"/>
            </a:solidFill>
            <a:ln w="0">
              <a:noFill/>
            </a:ln>
            <a:effectLst>
              <a:outerShdw dist="38183" dir="2700000" blurRad="0" rotWithShape="0">
                <a:srgbClr val="000000">
                  <a:alpha val="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08" name="Group 121"/>
            <p:cNvGrpSpPr/>
            <p:nvPr/>
          </p:nvGrpSpPr>
          <p:grpSpPr>
            <a:xfrm>
              <a:off x="5969160" y="2772000"/>
              <a:ext cx="510840" cy="510840"/>
              <a:chOff x="5969160" y="2772000"/>
              <a:chExt cx="510840" cy="510840"/>
            </a:xfrm>
          </p:grpSpPr>
          <p:sp>
            <p:nvSpPr>
              <p:cNvPr id="1709" name="Oval 59"/>
              <p:cNvSpPr/>
              <p:nvPr/>
            </p:nvSpPr>
            <p:spPr>
              <a:xfrm>
                <a:off x="5969160" y="2772000"/>
                <a:ext cx="510840" cy="510840"/>
              </a:xfrm>
              <a:prstGeom prst="ellipse">
                <a:avLst/>
              </a:prstGeom>
              <a:solidFill>
                <a:srgbClr val="bad0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10" name="Graphic 111" descr="Female Profile"/>
              <p:cNvPicPr/>
              <p:nvPr/>
            </p:nvPicPr>
            <p:blipFill>
              <a:blip r:embed="rId1"/>
              <a:stretch/>
            </p:blipFill>
            <p:spPr>
              <a:xfrm>
                <a:off x="6146280" y="2921040"/>
                <a:ext cx="152640" cy="190800"/>
              </a:xfrm>
              <a:prstGeom prst="rect">
                <a:avLst/>
              </a:prstGeom>
              <a:ln w="0">
                <a:noFill/>
              </a:ln>
            </p:spPr>
          </p:pic>
        </p:grpSp>
      </p:grpSp>
      <p:grpSp>
        <p:nvGrpSpPr>
          <p:cNvPr id="1711" name="Group 2"/>
          <p:cNvGrpSpPr/>
          <p:nvPr/>
        </p:nvGrpSpPr>
        <p:grpSpPr>
          <a:xfrm>
            <a:off x="8202600" y="2697120"/>
            <a:ext cx="660240" cy="660600"/>
            <a:chOff x="8202600" y="2697120"/>
            <a:chExt cx="660240" cy="660600"/>
          </a:xfrm>
        </p:grpSpPr>
        <p:sp>
          <p:nvSpPr>
            <p:cNvPr id="1712" name="Oval 132"/>
            <p:cNvSpPr/>
            <p:nvPr/>
          </p:nvSpPr>
          <p:spPr>
            <a:xfrm>
              <a:off x="8202600" y="2697120"/>
              <a:ext cx="660240" cy="660600"/>
            </a:xfrm>
            <a:prstGeom prst="ellipse">
              <a:avLst/>
            </a:prstGeom>
            <a:solidFill>
              <a:srgbClr val="ffffff"/>
            </a:solidFill>
            <a:ln w="0">
              <a:noFill/>
            </a:ln>
            <a:effectLst>
              <a:outerShdw dist="38183" dir="2700000" blurRad="0" rotWithShape="0">
                <a:srgbClr val="000000">
                  <a:alpha val="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3" name="Group 123"/>
            <p:cNvGrpSpPr/>
            <p:nvPr/>
          </p:nvGrpSpPr>
          <p:grpSpPr>
            <a:xfrm>
              <a:off x="8277480" y="2772000"/>
              <a:ext cx="510480" cy="510840"/>
              <a:chOff x="8277480" y="2772000"/>
              <a:chExt cx="510480" cy="510840"/>
            </a:xfrm>
          </p:grpSpPr>
          <p:sp>
            <p:nvSpPr>
              <p:cNvPr id="1714" name="Oval 122"/>
              <p:cNvSpPr/>
              <p:nvPr/>
            </p:nvSpPr>
            <p:spPr>
              <a:xfrm>
                <a:off x="8277480" y="2772000"/>
                <a:ext cx="510480" cy="510840"/>
              </a:xfrm>
              <a:prstGeom prst="ellipse">
                <a:avLst/>
              </a:prstGeom>
              <a:solidFill>
                <a:srgbClr val="7c8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15" name="Graphic 109" descr="Male profile"/>
              <p:cNvPicPr/>
              <p:nvPr/>
            </p:nvPicPr>
            <p:blipFill>
              <a:blip r:embed="rId2"/>
              <a:stretch/>
            </p:blipFill>
            <p:spPr>
              <a:xfrm>
                <a:off x="8457840" y="2933640"/>
                <a:ext cx="152280" cy="177840"/>
              </a:xfrm>
              <a:prstGeom prst="rect">
                <a:avLst/>
              </a:prstGeom>
              <a:ln w="0">
                <a:noFill/>
              </a:ln>
            </p:spPr>
          </p:pic>
        </p:grpSp>
      </p:grpSp>
      <p:grpSp>
        <p:nvGrpSpPr>
          <p:cNvPr id="1716" name="Group 5"/>
          <p:cNvGrpSpPr/>
          <p:nvPr/>
        </p:nvGrpSpPr>
        <p:grpSpPr>
          <a:xfrm>
            <a:off x="10468080" y="2697120"/>
            <a:ext cx="660240" cy="660600"/>
            <a:chOff x="10468080" y="2697120"/>
            <a:chExt cx="660240" cy="660600"/>
          </a:xfrm>
        </p:grpSpPr>
        <p:sp>
          <p:nvSpPr>
            <p:cNvPr id="1717" name="Oval 133"/>
            <p:cNvSpPr/>
            <p:nvPr/>
          </p:nvSpPr>
          <p:spPr>
            <a:xfrm>
              <a:off x="10468080" y="2697120"/>
              <a:ext cx="660240" cy="660600"/>
            </a:xfrm>
            <a:prstGeom prst="ellipse">
              <a:avLst/>
            </a:prstGeom>
            <a:solidFill>
              <a:srgbClr val="ffffff"/>
            </a:solidFill>
            <a:ln w="0">
              <a:noFill/>
            </a:ln>
            <a:effectLst>
              <a:outerShdw dist="38183" dir="2700000" blurRad="0" rotWithShape="0">
                <a:srgbClr val="000000">
                  <a:alpha val="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8" name="Group 124"/>
            <p:cNvGrpSpPr/>
            <p:nvPr/>
          </p:nvGrpSpPr>
          <p:grpSpPr>
            <a:xfrm>
              <a:off x="10542960" y="2772000"/>
              <a:ext cx="510480" cy="510840"/>
              <a:chOff x="10542960" y="2772000"/>
              <a:chExt cx="510480" cy="510840"/>
            </a:xfrm>
          </p:grpSpPr>
          <p:sp>
            <p:nvSpPr>
              <p:cNvPr id="1719" name="Oval 125"/>
              <p:cNvSpPr/>
              <p:nvPr/>
            </p:nvSpPr>
            <p:spPr>
              <a:xfrm>
                <a:off x="10542960" y="2772000"/>
                <a:ext cx="510480" cy="510840"/>
              </a:xfrm>
              <a:prstGeom prst="ellipse">
                <a:avLst/>
              </a:prstGeom>
              <a:solidFill>
                <a:srgbClr val="bad0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20" name="Graphic 111" descr="Female Profile"/>
              <p:cNvPicPr/>
              <p:nvPr/>
            </p:nvPicPr>
            <p:blipFill>
              <a:blip r:embed="rId3"/>
              <a:stretch/>
            </p:blipFill>
            <p:spPr>
              <a:xfrm>
                <a:off x="10718280" y="2921040"/>
                <a:ext cx="165240" cy="1908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Freeform: Shape 17"/>
          <p:cNvSpPr/>
          <p:nvPr/>
        </p:nvSpPr>
        <p:spPr>
          <a:xfrm>
            <a:off x="8354880" y="1351080"/>
            <a:ext cx="2506680" cy="2678040"/>
          </a:xfrm>
          <a:custGeom>
            <a:avLst/>
            <a:gdLst/>
            <a:ahLst/>
            <a:rect l="l" t="t" r="r" b="b"/>
            <a:pathLst>
              <a:path w="2507742" h="2677849">
                <a:moveTo>
                  <a:pt x="0" y="0"/>
                </a:moveTo>
                <a:lnTo>
                  <a:pt x="2507742" y="0"/>
                </a:lnTo>
                <a:lnTo>
                  <a:pt x="2507742" y="2677849"/>
                </a:lnTo>
                <a:lnTo>
                  <a:pt x="0" y="2677849"/>
                </a:lnTo>
                <a:lnTo>
                  <a:pt x="0" y="0"/>
                </a:lnTo>
                <a:close/>
              </a:path>
            </a:pathLst>
          </a:custGeom>
          <a:solidFill>
            <a:srgbClr val="ffffff"/>
          </a:solidFill>
          <a:ln w="0">
            <a:noFill/>
          </a:ln>
          <a:effectLst>
            <a:outerShdw dist="76367" dir="2700000" blurRad="0" rotWithShape="0">
              <a:srgbClr val="000000">
                <a:alpha val="12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22" name="Rectangle 14"/>
          <p:cNvSpPr/>
          <p:nvPr/>
        </p:nvSpPr>
        <p:spPr>
          <a:xfrm flipH="1">
            <a:off x="0" y="3487680"/>
            <a:ext cx="6486480" cy="2678040"/>
          </a:xfrm>
          <a:prstGeom prst="rect">
            <a:avLst/>
          </a:prstGeom>
          <a:solidFill>
            <a:srgbClr val="7c8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3" name="TextBox 18"/>
          <p:cNvSpPr/>
          <p:nvPr/>
        </p:nvSpPr>
        <p:spPr>
          <a:xfrm>
            <a:off x="976320" y="1428840"/>
            <a:ext cx="45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boto Slab"/>
                <a:ea typeface="Roboto Slab"/>
              </a:rPr>
              <a:t>Student </a:t>
            </a:r>
            <a:r>
              <a:rPr b="0" lang="en-US" sz="4000" spc="-1" strike="noStrike">
                <a:solidFill>
                  <a:srgbClr val="000000"/>
                </a:solidFill>
                <a:latin typeface="Roboto Slab Medium"/>
                <a:ea typeface="Roboto Slab Medium"/>
              </a:rPr>
              <a:t>Careers</a:t>
            </a:r>
            <a:endParaRPr b="0" lang="en-US" sz="4000" spc="-1" strike="noStrike">
              <a:solidFill>
                <a:srgbClr val="000000"/>
              </a:solidFill>
              <a:latin typeface="Calibri"/>
            </a:endParaRPr>
          </a:p>
        </p:txBody>
      </p:sp>
      <p:sp>
        <p:nvSpPr>
          <p:cNvPr id="1724" name="Straight Connector 20"/>
          <p:cNvSpPr/>
          <p:nvPr/>
        </p:nvSpPr>
        <p:spPr>
          <a:xfrm>
            <a:off x="1092240" y="3557520"/>
            <a:ext cx="488880" cy="0"/>
          </a:xfrm>
          <a:prstGeom prst="line">
            <a:avLst/>
          </a:prstGeom>
          <a:ln w="3816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5" name="TextBox 27"/>
          <p:cNvSpPr/>
          <p:nvPr/>
        </p:nvSpPr>
        <p:spPr>
          <a:xfrm>
            <a:off x="992160" y="2116080"/>
            <a:ext cx="48751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Ut enim ad minim veniam, quis nostrud exercitation ullamco laboris nisi ut aliquip ex ea</a:t>
            </a:r>
            <a:endParaRPr b="0" lang="en-US" sz="1100" spc="-1" strike="noStrike">
              <a:solidFill>
                <a:srgbClr val="000000"/>
              </a:solidFill>
              <a:latin typeface="Calibri"/>
            </a:endParaRPr>
          </a:p>
        </p:txBody>
      </p:sp>
      <p:grpSp>
        <p:nvGrpSpPr>
          <p:cNvPr id="1726" name="Group 24"/>
          <p:cNvGrpSpPr/>
          <p:nvPr/>
        </p:nvGrpSpPr>
        <p:grpSpPr>
          <a:xfrm>
            <a:off x="8677440" y="2471760"/>
            <a:ext cx="2000160" cy="1427760"/>
            <a:chOff x="8677440" y="2471760"/>
            <a:chExt cx="2000160" cy="1427760"/>
          </a:xfrm>
        </p:grpSpPr>
        <p:sp>
          <p:nvSpPr>
            <p:cNvPr id="1727" name="TextBox 25"/>
            <p:cNvSpPr/>
            <p:nvPr/>
          </p:nvSpPr>
          <p:spPr>
            <a:xfrm>
              <a:off x="8677440" y="2801880"/>
              <a:ext cx="20001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p:txBody>
        </p:sp>
        <p:sp>
          <p:nvSpPr>
            <p:cNvPr id="1728" name="TextBox 26"/>
            <p:cNvSpPr/>
            <p:nvPr/>
          </p:nvSpPr>
          <p:spPr>
            <a:xfrm>
              <a:off x="8677440" y="2471760"/>
              <a:ext cx="10126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Subtitle</a:t>
              </a:r>
              <a:endParaRPr b="0" lang="en-US" sz="1400" spc="-1" strike="noStrike">
                <a:solidFill>
                  <a:srgbClr val="000000"/>
                </a:solidFill>
                <a:latin typeface="Calibri"/>
              </a:endParaRPr>
            </a:p>
          </p:txBody>
        </p:sp>
      </p:grpSp>
      <p:sp>
        <p:nvSpPr>
          <p:cNvPr id="1729" name="TextBox 19"/>
          <p:cNvSpPr/>
          <p:nvPr/>
        </p:nvSpPr>
        <p:spPr>
          <a:xfrm>
            <a:off x="992160" y="4938840"/>
            <a:ext cx="44560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Light"/>
                <a:ea typeface="Roboto Light"/>
              </a:rPr>
              <a:t>Lorem ipsum dolor sit amet, consectetur adipiscing elit, sed do eiusmod tempor incididunt ut labore et dolore magna aliqua. Ut enim ad minim veniam, quis nostrud exercitation ullamco laboris nisi ut</a:t>
            </a:r>
            <a:endParaRPr b="0" lang="en-US" sz="1100" spc="-1" strike="noStrike">
              <a:solidFill>
                <a:srgbClr val="000000"/>
              </a:solidFill>
              <a:latin typeface="Calibri"/>
            </a:endParaRPr>
          </a:p>
        </p:txBody>
      </p:sp>
      <p:grpSp>
        <p:nvGrpSpPr>
          <p:cNvPr id="1730" name="Group 23"/>
          <p:cNvGrpSpPr/>
          <p:nvPr/>
        </p:nvGrpSpPr>
        <p:grpSpPr>
          <a:xfrm>
            <a:off x="6889680" y="4608360"/>
            <a:ext cx="2000160" cy="1428480"/>
            <a:chOff x="6889680" y="4608360"/>
            <a:chExt cx="2000160" cy="1428480"/>
          </a:xfrm>
        </p:grpSpPr>
        <p:sp>
          <p:nvSpPr>
            <p:cNvPr id="1731" name="TextBox 21"/>
            <p:cNvSpPr/>
            <p:nvPr/>
          </p:nvSpPr>
          <p:spPr>
            <a:xfrm>
              <a:off x="6889680" y="4939200"/>
              <a:ext cx="20001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p:txBody>
        </p:sp>
        <p:sp>
          <p:nvSpPr>
            <p:cNvPr id="1732" name="TextBox 22"/>
            <p:cNvSpPr/>
            <p:nvPr/>
          </p:nvSpPr>
          <p:spPr>
            <a:xfrm>
              <a:off x="6889680" y="4608360"/>
              <a:ext cx="10126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Subtitle</a:t>
              </a:r>
              <a:endParaRPr b="0" lang="en-US" sz="1400" spc="-1" strike="noStrike">
                <a:solidFill>
                  <a:srgbClr val="000000"/>
                </a:solidFill>
                <a:latin typeface="Calibri"/>
              </a:endParaRPr>
            </a:p>
          </p:txBody>
        </p:sp>
      </p:grpSp>
      <p:grpSp>
        <p:nvGrpSpPr>
          <p:cNvPr id="1733" name="Group 28"/>
          <p:cNvGrpSpPr/>
          <p:nvPr/>
        </p:nvGrpSpPr>
        <p:grpSpPr>
          <a:xfrm>
            <a:off x="6962760" y="3889440"/>
            <a:ext cx="509760" cy="509400"/>
            <a:chOff x="6962760" y="3889440"/>
            <a:chExt cx="509760" cy="509400"/>
          </a:xfrm>
        </p:grpSpPr>
        <p:sp>
          <p:nvSpPr>
            <p:cNvPr id="1734" name="Oval 29"/>
            <p:cNvSpPr/>
            <p:nvPr/>
          </p:nvSpPr>
          <p:spPr>
            <a:xfrm>
              <a:off x="6962760" y="3889440"/>
              <a:ext cx="509760" cy="509400"/>
            </a:xfrm>
            <a:prstGeom prst="ellipse">
              <a:avLst/>
            </a:prstGeom>
            <a:solidFill>
              <a:srgbClr val="bad0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35" name="Graphic 111" descr="Female Profile"/>
            <p:cNvPicPr/>
            <p:nvPr/>
          </p:nvPicPr>
          <p:blipFill>
            <a:blip r:embed="rId1"/>
            <a:stretch/>
          </p:blipFill>
          <p:spPr>
            <a:xfrm>
              <a:off x="7137360" y="4039200"/>
              <a:ext cx="164880" cy="190080"/>
            </a:xfrm>
            <a:prstGeom prst="rect">
              <a:avLst/>
            </a:prstGeom>
            <a:ln w="0">
              <a:noFill/>
            </a:ln>
          </p:spPr>
        </p:pic>
      </p:grpSp>
      <p:grpSp>
        <p:nvGrpSpPr>
          <p:cNvPr id="1736" name="Group 46"/>
          <p:cNvGrpSpPr/>
          <p:nvPr/>
        </p:nvGrpSpPr>
        <p:grpSpPr>
          <a:xfrm>
            <a:off x="1092240" y="3889440"/>
            <a:ext cx="511200" cy="509400"/>
            <a:chOff x="1092240" y="3889440"/>
            <a:chExt cx="511200" cy="509400"/>
          </a:xfrm>
        </p:grpSpPr>
        <p:sp>
          <p:nvSpPr>
            <p:cNvPr id="1737" name="Oval 47"/>
            <p:cNvSpPr/>
            <p:nvPr/>
          </p:nvSpPr>
          <p:spPr>
            <a:xfrm>
              <a:off x="1092240" y="3889440"/>
              <a:ext cx="511200" cy="509400"/>
            </a:xfrm>
            <a:prstGeom prst="ellipse">
              <a:avLst/>
            </a:prstGeom>
            <a:solidFill>
              <a:srgbClr val="bad009"/>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38" name="Graphic 111" descr="Female Profile"/>
            <p:cNvPicPr/>
            <p:nvPr/>
          </p:nvPicPr>
          <p:blipFill>
            <a:blip r:embed="rId2"/>
            <a:stretch/>
          </p:blipFill>
          <p:spPr>
            <a:xfrm>
              <a:off x="1270080" y="4039200"/>
              <a:ext cx="152640" cy="190080"/>
            </a:xfrm>
            <a:prstGeom prst="rect">
              <a:avLst/>
            </a:prstGeom>
            <a:ln w="0">
              <a:noFill/>
            </a:ln>
          </p:spPr>
        </p:pic>
      </p:grpSp>
      <p:sp>
        <p:nvSpPr>
          <p:cNvPr id="1739" name="TextBox 52"/>
          <p:cNvSpPr/>
          <p:nvPr/>
        </p:nvSpPr>
        <p:spPr>
          <a:xfrm>
            <a:off x="992160" y="4608360"/>
            <a:ext cx="19130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Slab Medium"/>
                <a:ea typeface="Roboto Slab Medium"/>
              </a:rPr>
              <a:t>Subtitle here</a:t>
            </a:r>
            <a:endParaRPr b="0" lang="en-US" sz="1400" spc="-1" strike="noStrike">
              <a:solidFill>
                <a:srgbClr val="000000"/>
              </a:solidFill>
              <a:latin typeface="Calibri"/>
            </a:endParaRPr>
          </a:p>
        </p:txBody>
      </p:sp>
      <p:grpSp>
        <p:nvGrpSpPr>
          <p:cNvPr id="1740" name="Group 55"/>
          <p:cNvGrpSpPr/>
          <p:nvPr/>
        </p:nvGrpSpPr>
        <p:grpSpPr>
          <a:xfrm>
            <a:off x="10625040" y="692280"/>
            <a:ext cx="474840" cy="64800"/>
            <a:chOff x="10625040" y="692280"/>
            <a:chExt cx="474840" cy="64800"/>
          </a:xfrm>
        </p:grpSpPr>
        <p:sp>
          <p:nvSpPr>
            <p:cNvPr id="1741" name="Freeform: Shape 56"/>
            <p:cNvSpPr/>
            <p:nvPr/>
          </p:nvSpPr>
          <p:spPr>
            <a:xfrm>
              <a:off x="106250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4fcb6"/>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742" name="Freeform: Shape 57"/>
            <p:cNvSpPr/>
            <p:nvPr/>
          </p:nvSpPr>
          <p:spPr>
            <a:xfrm>
              <a:off x="107618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bbbcfc"/>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743" name="Freeform: Shape 58"/>
            <p:cNvSpPr/>
            <p:nvPr/>
          </p:nvSpPr>
          <p:spPr>
            <a:xfrm>
              <a:off x="108986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ec2e1"/>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744" name="Freeform: Shape 59"/>
            <p:cNvSpPr/>
            <p:nvPr/>
          </p:nvSpPr>
          <p:spPr>
            <a:xfrm>
              <a:off x="110354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97fff7"/>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grpSp>
      <p:grpSp>
        <p:nvGrpSpPr>
          <p:cNvPr id="1745" name="Group 60"/>
          <p:cNvGrpSpPr/>
          <p:nvPr/>
        </p:nvGrpSpPr>
        <p:grpSpPr>
          <a:xfrm>
            <a:off x="974880" y="622440"/>
            <a:ext cx="1212840" cy="293400"/>
            <a:chOff x="974880" y="622440"/>
            <a:chExt cx="1212840" cy="293400"/>
          </a:xfrm>
        </p:grpSpPr>
        <p:sp>
          <p:nvSpPr>
            <p:cNvPr id="1746" name="TextBox 61"/>
            <p:cNvSpPr/>
            <p:nvPr/>
          </p:nvSpPr>
          <p:spPr>
            <a:xfrm>
              <a:off x="974880" y="622440"/>
              <a:ext cx="121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boto Slab Medium"/>
                  <a:ea typeface="Roboto Slab Medium"/>
                </a:rPr>
                <a:t>Educationaly </a:t>
              </a:r>
              <a:endParaRPr b="0" lang="en-US" sz="1200" spc="-1" strike="noStrike">
                <a:solidFill>
                  <a:srgbClr val="000000"/>
                </a:solidFill>
                <a:latin typeface="Calibri"/>
              </a:endParaRPr>
            </a:p>
          </p:txBody>
        </p:sp>
        <p:sp>
          <p:nvSpPr>
            <p:cNvPr id="1747" name="Graphic 1031"/>
            <p:cNvSpPr/>
            <p:nvPr/>
          </p:nvSpPr>
          <p:spPr>
            <a:xfrm>
              <a:off x="1037520" y="863640"/>
              <a:ext cx="299160" cy="52200"/>
            </a:xfrm>
            <a:custGeom>
              <a:avLst/>
              <a:gdLst/>
              <a:ahLst/>
              <a:rect l="l" t="t" r="r" b="b"/>
              <a:pathLst>
                <a:path w="760911" h="132655">
                  <a:moveTo>
                    <a:pt x="0" y="132656"/>
                  </a:moveTo>
                  <a:cubicBezTo>
                    <a:pt x="55245" y="99318"/>
                    <a:pt x="113348" y="71696"/>
                    <a:pt x="174308" y="50741"/>
                  </a:cubicBezTo>
                  <a:cubicBezTo>
                    <a:pt x="235268" y="29786"/>
                    <a:pt x="298133" y="14546"/>
                    <a:pt x="361950" y="6926"/>
                  </a:cubicBezTo>
                  <a:cubicBezTo>
                    <a:pt x="490538" y="-9267"/>
                    <a:pt x="622935" y="3116"/>
                    <a:pt x="747713" y="42168"/>
                  </a:cubicBezTo>
                  <a:cubicBezTo>
                    <a:pt x="758190" y="45026"/>
                    <a:pt x="762953" y="55503"/>
                    <a:pt x="760095" y="65981"/>
                  </a:cubicBezTo>
                  <a:cubicBezTo>
                    <a:pt x="757238" y="76458"/>
                    <a:pt x="746760" y="81221"/>
                    <a:pt x="736283" y="78363"/>
                  </a:cubicBezTo>
                  <a:cubicBezTo>
                    <a:pt x="736283" y="78363"/>
                    <a:pt x="735330" y="78363"/>
                    <a:pt x="735330" y="78363"/>
                  </a:cubicBezTo>
                  <a:cubicBezTo>
                    <a:pt x="617220" y="35501"/>
                    <a:pt x="490538" y="16451"/>
                    <a:pt x="363855" y="26928"/>
                  </a:cubicBezTo>
                  <a:cubicBezTo>
                    <a:pt x="300990" y="30738"/>
                    <a:pt x="238125" y="42168"/>
                    <a:pt x="177165" y="60266"/>
                  </a:cubicBezTo>
                  <a:cubicBezTo>
                    <a:pt x="115253" y="78363"/>
                    <a:pt x="56198" y="103128"/>
                    <a:pt x="0" y="132656"/>
                  </a:cubicBezTo>
                  <a:close/>
                </a:path>
              </a:pathLst>
            </a:custGeom>
            <a:solidFill>
              <a:srgbClr val="7c8ffb"/>
            </a:solidFill>
            <a:ln w="0">
              <a:noFill/>
            </a:ln>
          </p:spPr>
          <p:style>
            <a:lnRef idx="0"/>
            <a:fillRef idx="0"/>
            <a:effectRef idx="0"/>
            <a:fontRef idx="minor"/>
          </p:style>
          <p:txBody>
            <a:bodyPr lIns="90000" rIns="90000" tIns="5400" bIns="5400" anchor="ctr">
              <a:noAutofit/>
            </a:bodyPr>
            <a:p>
              <a:endParaRPr b="0" lang="en-US" sz="1800" spc="-1" strike="noStrike">
                <a:solidFill>
                  <a:srgbClr val="000000"/>
                </a:solidFill>
                <a:latin typeface="Calibri"/>
              </a:endParaRPr>
            </a:p>
          </p:txBody>
        </p:sp>
      </p:grpSp>
      <p:grpSp>
        <p:nvGrpSpPr>
          <p:cNvPr id="1748" name="Group 77"/>
          <p:cNvGrpSpPr/>
          <p:nvPr/>
        </p:nvGrpSpPr>
        <p:grpSpPr>
          <a:xfrm>
            <a:off x="8758080" y="1738440"/>
            <a:ext cx="511200" cy="509400"/>
            <a:chOff x="8758080" y="1738440"/>
            <a:chExt cx="511200" cy="509400"/>
          </a:xfrm>
        </p:grpSpPr>
        <p:sp>
          <p:nvSpPr>
            <p:cNvPr id="1749" name="Oval 78"/>
            <p:cNvSpPr/>
            <p:nvPr/>
          </p:nvSpPr>
          <p:spPr>
            <a:xfrm>
              <a:off x="8758080" y="1738440"/>
              <a:ext cx="511200" cy="509400"/>
            </a:xfrm>
            <a:prstGeom prst="ellipse">
              <a:avLst/>
            </a:prstGeom>
            <a:solidFill>
              <a:srgbClr val="7c8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50" name="Graphic 111" descr="Female Profile"/>
            <p:cNvPicPr/>
            <p:nvPr/>
          </p:nvPicPr>
          <p:blipFill>
            <a:blip r:embed="rId3"/>
            <a:stretch/>
          </p:blipFill>
          <p:spPr>
            <a:xfrm>
              <a:off x="8928000" y="1892880"/>
              <a:ext cx="165240" cy="1900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TextBox 2"/>
          <p:cNvSpPr/>
          <p:nvPr/>
        </p:nvSpPr>
        <p:spPr>
          <a:xfrm>
            <a:off x="958680" y="4278240"/>
            <a:ext cx="271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boto Slab"/>
                <a:ea typeface="Roboto Slab"/>
              </a:rPr>
              <a:t>Student </a:t>
            </a:r>
            <a:r>
              <a:rPr b="0" lang="en-US" sz="4000" spc="-1" strike="noStrike">
                <a:solidFill>
                  <a:srgbClr val="000000"/>
                </a:solidFill>
                <a:latin typeface="Roboto Slab Medium"/>
                <a:ea typeface="Roboto Slab Medium"/>
              </a:rPr>
              <a:t>Projects</a:t>
            </a:r>
            <a:endParaRPr b="0" lang="en-US" sz="4000" spc="-1" strike="noStrike">
              <a:solidFill>
                <a:srgbClr val="000000"/>
              </a:solidFill>
              <a:latin typeface="Calibri"/>
            </a:endParaRPr>
          </a:p>
        </p:txBody>
      </p:sp>
      <p:sp>
        <p:nvSpPr>
          <p:cNvPr id="1752" name="TextBox 3"/>
          <p:cNvSpPr/>
          <p:nvPr/>
        </p:nvSpPr>
        <p:spPr>
          <a:xfrm>
            <a:off x="7470720" y="1938240"/>
            <a:ext cx="31003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a:t>
            </a:r>
            <a:endParaRPr b="0" lang="en-US" sz="1100" spc="-1" strike="noStrike">
              <a:solidFill>
                <a:srgbClr val="000000"/>
              </a:solidFill>
              <a:latin typeface="Calibri"/>
            </a:endParaRPr>
          </a:p>
        </p:txBody>
      </p:sp>
      <p:sp>
        <p:nvSpPr>
          <p:cNvPr id="1753" name="TextBox 11"/>
          <p:cNvSpPr/>
          <p:nvPr/>
        </p:nvSpPr>
        <p:spPr>
          <a:xfrm>
            <a:off x="7470720" y="1378080"/>
            <a:ext cx="12765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Project N</a:t>
            </a:r>
            <a:r>
              <a:rPr b="0" lang="en-US" sz="1400" spc="-1" strike="noStrike" baseline="30000">
                <a:solidFill>
                  <a:srgbClr val="000000"/>
                </a:solidFill>
                <a:latin typeface="Roboto Slab Medium"/>
                <a:ea typeface="Roboto Slab Medium"/>
              </a:rPr>
              <a:t>o</a:t>
            </a:r>
            <a:r>
              <a:rPr b="0" lang="en-US" sz="1400" spc="-1" strike="noStrike">
                <a:solidFill>
                  <a:srgbClr val="000000"/>
                </a:solidFill>
                <a:latin typeface="Roboto Slab Medium"/>
                <a:ea typeface="Roboto Slab Medium"/>
              </a:rPr>
              <a:t>02</a:t>
            </a:r>
            <a:endParaRPr b="0" lang="en-US" sz="1400" spc="-1" strike="noStrike">
              <a:solidFill>
                <a:srgbClr val="000000"/>
              </a:solidFill>
              <a:latin typeface="Calibri"/>
            </a:endParaRPr>
          </a:p>
        </p:txBody>
      </p:sp>
      <p:sp>
        <p:nvSpPr>
          <p:cNvPr id="1754" name="TextBox 12"/>
          <p:cNvSpPr/>
          <p:nvPr/>
        </p:nvSpPr>
        <p:spPr>
          <a:xfrm>
            <a:off x="8069400" y="1665360"/>
            <a:ext cx="820440" cy="294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Slab"/>
                <a:ea typeface="Roboto Slab"/>
              </a:rPr>
              <a:t>/ 2022</a:t>
            </a:r>
            <a:endParaRPr b="0" lang="en-US" sz="1100" spc="-1" strike="noStrike">
              <a:solidFill>
                <a:srgbClr val="000000"/>
              </a:solidFill>
              <a:latin typeface="Calibri"/>
            </a:endParaRPr>
          </a:p>
        </p:txBody>
      </p:sp>
      <p:sp>
        <p:nvSpPr>
          <p:cNvPr id="1755" name="Straight Connector 13"/>
          <p:cNvSpPr/>
          <p:nvPr/>
        </p:nvSpPr>
        <p:spPr>
          <a:xfrm>
            <a:off x="7574040" y="1814400"/>
            <a:ext cx="488880" cy="0"/>
          </a:xfrm>
          <a:prstGeom prst="line">
            <a:avLst/>
          </a:prstGeom>
          <a:ln w="1260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756" name="Group 33"/>
          <p:cNvGrpSpPr/>
          <p:nvPr/>
        </p:nvGrpSpPr>
        <p:grpSpPr>
          <a:xfrm>
            <a:off x="4097160" y="4278240"/>
            <a:ext cx="1998720" cy="1663920"/>
            <a:chOff x="4097160" y="4278240"/>
            <a:chExt cx="1998720" cy="1663920"/>
          </a:xfrm>
        </p:grpSpPr>
        <p:sp>
          <p:nvSpPr>
            <p:cNvPr id="1757" name="TextBox 9"/>
            <p:cNvSpPr/>
            <p:nvPr/>
          </p:nvSpPr>
          <p:spPr>
            <a:xfrm>
              <a:off x="4097160" y="4844520"/>
              <a:ext cx="19987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p:txBody>
        </p:sp>
        <p:sp>
          <p:nvSpPr>
            <p:cNvPr id="1758" name="TextBox 30"/>
            <p:cNvSpPr/>
            <p:nvPr/>
          </p:nvSpPr>
          <p:spPr>
            <a:xfrm>
              <a:off x="4097160" y="4278240"/>
              <a:ext cx="12772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Project N</a:t>
              </a:r>
              <a:r>
                <a:rPr b="0" lang="en-US" sz="1400" spc="-1" strike="noStrike" baseline="30000">
                  <a:solidFill>
                    <a:srgbClr val="000000"/>
                  </a:solidFill>
                  <a:latin typeface="Roboto Slab Medium"/>
                  <a:ea typeface="Roboto Slab Medium"/>
                </a:rPr>
                <a:t>o</a:t>
              </a:r>
              <a:r>
                <a:rPr b="0" lang="en-US" sz="1400" spc="-1" strike="noStrike">
                  <a:solidFill>
                    <a:srgbClr val="000000"/>
                  </a:solidFill>
                  <a:latin typeface="Roboto Slab Medium"/>
                  <a:ea typeface="Roboto Slab Medium"/>
                </a:rPr>
                <a:t>01</a:t>
              </a:r>
              <a:endParaRPr b="0" lang="en-US" sz="1400" spc="-1" strike="noStrike">
                <a:solidFill>
                  <a:srgbClr val="000000"/>
                </a:solidFill>
                <a:latin typeface="Calibri"/>
              </a:endParaRPr>
            </a:p>
          </p:txBody>
        </p:sp>
        <p:sp>
          <p:nvSpPr>
            <p:cNvPr id="1759" name="TextBox 31"/>
            <p:cNvSpPr/>
            <p:nvPr/>
          </p:nvSpPr>
          <p:spPr>
            <a:xfrm>
              <a:off x="4696200" y="4564800"/>
              <a:ext cx="821160" cy="294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Slab"/>
                  <a:ea typeface="Roboto Slab"/>
                </a:rPr>
                <a:t>/ 2022</a:t>
              </a:r>
              <a:endParaRPr b="0" lang="en-US" sz="1100" spc="-1" strike="noStrike">
                <a:solidFill>
                  <a:srgbClr val="000000"/>
                </a:solidFill>
                <a:latin typeface="Calibri"/>
              </a:endParaRPr>
            </a:p>
          </p:txBody>
        </p:sp>
        <p:sp>
          <p:nvSpPr>
            <p:cNvPr id="1760" name="Straight Connector 32"/>
            <p:cNvSpPr/>
            <p:nvPr/>
          </p:nvSpPr>
          <p:spPr>
            <a:xfrm>
              <a:off x="4201200" y="4714920"/>
              <a:ext cx="488520" cy="0"/>
            </a:xfrm>
            <a:prstGeom prst="line">
              <a:avLst/>
            </a:prstGeom>
            <a:ln w="1260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TextBox 2"/>
          <p:cNvSpPr/>
          <p:nvPr/>
        </p:nvSpPr>
        <p:spPr>
          <a:xfrm rot="16200000">
            <a:off x="-150480" y="4038120"/>
            <a:ext cx="2716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boto Slab"/>
                <a:ea typeface="Roboto Slab"/>
              </a:rPr>
              <a:t>Student </a:t>
            </a:r>
            <a:r>
              <a:rPr b="0" lang="en-US" sz="4000" spc="-1" strike="noStrike">
                <a:solidFill>
                  <a:srgbClr val="ffffff"/>
                </a:solidFill>
                <a:latin typeface="Roboto Slab Medium"/>
                <a:ea typeface="Roboto Slab Medium"/>
              </a:rPr>
              <a:t>Projects</a:t>
            </a:r>
            <a:endParaRPr b="0" lang="en-US" sz="4000" spc="-1" strike="noStrike">
              <a:solidFill>
                <a:srgbClr val="000000"/>
              </a:solidFill>
              <a:latin typeface="Calibri"/>
            </a:endParaRPr>
          </a:p>
        </p:txBody>
      </p:sp>
      <p:sp>
        <p:nvSpPr>
          <p:cNvPr id="1762" name="Straight Connector 5"/>
          <p:cNvSpPr/>
          <p:nvPr/>
        </p:nvSpPr>
        <p:spPr>
          <a:xfrm>
            <a:off x="1212840" y="1152360"/>
            <a:ext cx="0" cy="2267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763" name="Group 16"/>
          <p:cNvGrpSpPr/>
          <p:nvPr/>
        </p:nvGrpSpPr>
        <p:grpSpPr>
          <a:xfrm>
            <a:off x="7261200" y="852480"/>
            <a:ext cx="3102120" cy="1493640"/>
            <a:chOff x="7261200" y="852480"/>
            <a:chExt cx="3102120" cy="1493640"/>
          </a:xfrm>
        </p:grpSpPr>
        <p:sp>
          <p:nvSpPr>
            <p:cNvPr id="1764" name="TextBox 10"/>
            <p:cNvSpPr/>
            <p:nvPr/>
          </p:nvSpPr>
          <p:spPr>
            <a:xfrm>
              <a:off x="7261200" y="1153080"/>
              <a:ext cx="310212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a:ea typeface="Roboto Slab"/>
                </a:rPr>
                <a:t>Lorem ipsum dolor sit amet, consectetur adipiscing elit, sed do </a:t>
              </a:r>
              <a:r>
                <a:rPr b="1" lang="en-US" sz="1400" spc="-1" strike="noStrike">
                  <a:solidFill>
                    <a:srgbClr val="000000"/>
                  </a:solidFill>
                  <a:latin typeface="Roboto Slab"/>
                  <a:ea typeface="Roboto Slab"/>
                </a:rPr>
                <a:t>eiusmod tempor incididunt ut</a:t>
              </a:r>
              <a:endParaRPr b="0" lang="en-US" sz="1400" spc="-1" strike="noStrike">
                <a:solidFill>
                  <a:srgbClr val="000000"/>
                </a:solidFill>
                <a:latin typeface="Calibri"/>
              </a:endParaRPr>
            </a:p>
          </p:txBody>
        </p:sp>
        <p:sp>
          <p:nvSpPr>
            <p:cNvPr id="1765" name="TextBox 12"/>
            <p:cNvSpPr/>
            <p:nvPr/>
          </p:nvSpPr>
          <p:spPr>
            <a:xfrm>
              <a:off x="7261200" y="2001240"/>
              <a:ext cx="310212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a:t>
              </a:r>
              <a:endParaRPr b="0" lang="en-US" sz="1100" spc="-1" strike="noStrike">
                <a:solidFill>
                  <a:srgbClr val="000000"/>
                </a:solidFill>
                <a:latin typeface="Calibri"/>
              </a:endParaRPr>
            </a:p>
          </p:txBody>
        </p:sp>
        <p:sp>
          <p:nvSpPr>
            <p:cNvPr id="1766" name="TextBox 13"/>
            <p:cNvSpPr/>
            <p:nvPr/>
          </p:nvSpPr>
          <p:spPr>
            <a:xfrm>
              <a:off x="7261200" y="852480"/>
              <a:ext cx="127836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c8ffb"/>
                  </a:solidFill>
                  <a:latin typeface="Roboto Slab Medium"/>
                  <a:ea typeface="Roboto Slab Medium"/>
                </a:rPr>
                <a:t>Project N</a:t>
              </a:r>
              <a:r>
                <a:rPr b="0" lang="en-US" sz="1000" spc="-1" strike="noStrike" baseline="30000">
                  <a:solidFill>
                    <a:srgbClr val="7c8ffb"/>
                  </a:solidFill>
                  <a:latin typeface="Roboto Slab Medium"/>
                  <a:ea typeface="Roboto Slab Medium"/>
                </a:rPr>
                <a:t>o</a:t>
              </a:r>
              <a:r>
                <a:rPr b="0" lang="en-US" sz="1000" spc="-1" strike="noStrike">
                  <a:solidFill>
                    <a:srgbClr val="7c8ffb"/>
                  </a:solidFill>
                  <a:latin typeface="Roboto Slab Medium"/>
                  <a:ea typeface="Roboto Slab Medium"/>
                </a:rPr>
                <a:t>03</a:t>
              </a:r>
              <a:endParaRPr b="0" lang="en-US" sz="1000" spc="-1" strike="noStrike">
                <a:solidFill>
                  <a:srgbClr val="000000"/>
                </a:solidFill>
                <a:latin typeface="Calibri"/>
              </a:endParaRPr>
            </a:p>
          </p:txBody>
        </p:sp>
      </p:grpSp>
      <p:grpSp>
        <p:nvGrpSpPr>
          <p:cNvPr id="1767" name="Group 21"/>
          <p:cNvGrpSpPr/>
          <p:nvPr/>
        </p:nvGrpSpPr>
        <p:grpSpPr>
          <a:xfrm>
            <a:off x="7261200" y="2695680"/>
            <a:ext cx="3102120" cy="1493640"/>
            <a:chOff x="7261200" y="2695680"/>
            <a:chExt cx="3102120" cy="1493640"/>
          </a:xfrm>
        </p:grpSpPr>
        <p:sp>
          <p:nvSpPr>
            <p:cNvPr id="1768" name="TextBox 22"/>
            <p:cNvSpPr/>
            <p:nvPr/>
          </p:nvSpPr>
          <p:spPr>
            <a:xfrm>
              <a:off x="7261200" y="2996280"/>
              <a:ext cx="310212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a:ea typeface="Roboto Slab"/>
                </a:rPr>
                <a:t>Lorem ipsum dolor sit amet, consectetur adipiscing elit, sed do </a:t>
              </a:r>
              <a:r>
                <a:rPr b="1" lang="en-US" sz="1400" spc="-1" strike="noStrike">
                  <a:solidFill>
                    <a:srgbClr val="000000"/>
                  </a:solidFill>
                  <a:latin typeface="Roboto Slab"/>
                  <a:ea typeface="Roboto Slab"/>
                </a:rPr>
                <a:t>eiusmod tempor incididunt ut</a:t>
              </a:r>
              <a:endParaRPr b="0" lang="en-US" sz="1400" spc="-1" strike="noStrike">
                <a:solidFill>
                  <a:srgbClr val="000000"/>
                </a:solidFill>
                <a:latin typeface="Calibri"/>
              </a:endParaRPr>
            </a:p>
          </p:txBody>
        </p:sp>
        <p:sp>
          <p:nvSpPr>
            <p:cNvPr id="1769" name="TextBox 23"/>
            <p:cNvSpPr/>
            <p:nvPr/>
          </p:nvSpPr>
          <p:spPr>
            <a:xfrm>
              <a:off x="7261200" y="3844440"/>
              <a:ext cx="310212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a:t>
              </a:r>
              <a:endParaRPr b="0" lang="en-US" sz="1100" spc="-1" strike="noStrike">
                <a:solidFill>
                  <a:srgbClr val="000000"/>
                </a:solidFill>
                <a:latin typeface="Calibri"/>
              </a:endParaRPr>
            </a:p>
          </p:txBody>
        </p:sp>
        <p:sp>
          <p:nvSpPr>
            <p:cNvPr id="1770" name="TextBox 24"/>
            <p:cNvSpPr/>
            <p:nvPr/>
          </p:nvSpPr>
          <p:spPr>
            <a:xfrm>
              <a:off x="7261200" y="2695680"/>
              <a:ext cx="127836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c8ffb"/>
                  </a:solidFill>
                  <a:latin typeface="Roboto Slab Medium"/>
                  <a:ea typeface="Roboto Slab Medium"/>
                </a:rPr>
                <a:t>Project N</a:t>
              </a:r>
              <a:r>
                <a:rPr b="0" lang="en-US" sz="1000" spc="-1" strike="noStrike" baseline="30000">
                  <a:solidFill>
                    <a:srgbClr val="7c8ffb"/>
                  </a:solidFill>
                  <a:latin typeface="Roboto Slab Medium"/>
                  <a:ea typeface="Roboto Slab Medium"/>
                </a:rPr>
                <a:t>o</a:t>
              </a:r>
              <a:r>
                <a:rPr b="0" lang="en-US" sz="1000" spc="-1" strike="noStrike">
                  <a:solidFill>
                    <a:srgbClr val="7c8ffb"/>
                  </a:solidFill>
                  <a:latin typeface="Roboto Slab Medium"/>
                  <a:ea typeface="Roboto Slab Medium"/>
                </a:rPr>
                <a:t>04</a:t>
              </a:r>
              <a:endParaRPr b="0" lang="en-US" sz="1000" spc="-1" strike="noStrike">
                <a:solidFill>
                  <a:srgbClr val="000000"/>
                </a:solidFill>
                <a:latin typeface="Calibri"/>
              </a:endParaRPr>
            </a:p>
          </p:txBody>
        </p:sp>
      </p:grpSp>
      <p:grpSp>
        <p:nvGrpSpPr>
          <p:cNvPr id="1771" name="Group 25"/>
          <p:cNvGrpSpPr/>
          <p:nvPr/>
        </p:nvGrpSpPr>
        <p:grpSpPr>
          <a:xfrm>
            <a:off x="7261200" y="4538520"/>
            <a:ext cx="3102120" cy="1493640"/>
            <a:chOff x="7261200" y="4538520"/>
            <a:chExt cx="3102120" cy="1493640"/>
          </a:xfrm>
        </p:grpSpPr>
        <p:sp>
          <p:nvSpPr>
            <p:cNvPr id="1772" name="TextBox 26"/>
            <p:cNvSpPr/>
            <p:nvPr/>
          </p:nvSpPr>
          <p:spPr>
            <a:xfrm>
              <a:off x="7261200" y="4839120"/>
              <a:ext cx="310212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a:ea typeface="Roboto Slab"/>
                </a:rPr>
                <a:t>Lorem ipsum dolor sit amet, consectetur adipiscing elit, sed do </a:t>
              </a:r>
              <a:r>
                <a:rPr b="1" lang="en-US" sz="1400" spc="-1" strike="noStrike">
                  <a:solidFill>
                    <a:srgbClr val="000000"/>
                  </a:solidFill>
                  <a:latin typeface="Roboto Slab"/>
                  <a:ea typeface="Roboto Slab"/>
                </a:rPr>
                <a:t>eiusmod tempor incididunt ut</a:t>
              </a:r>
              <a:endParaRPr b="0" lang="en-US" sz="1400" spc="-1" strike="noStrike">
                <a:solidFill>
                  <a:srgbClr val="000000"/>
                </a:solidFill>
                <a:latin typeface="Calibri"/>
              </a:endParaRPr>
            </a:p>
          </p:txBody>
        </p:sp>
        <p:sp>
          <p:nvSpPr>
            <p:cNvPr id="1773" name="TextBox 27"/>
            <p:cNvSpPr/>
            <p:nvPr/>
          </p:nvSpPr>
          <p:spPr>
            <a:xfrm>
              <a:off x="7261200" y="5687280"/>
              <a:ext cx="310212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a:t>
              </a:r>
              <a:endParaRPr b="0" lang="en-US" sz="1100" spc="-1" strike="noStrike">
                <a:solidFill>
                  <a:srgbClr val="000000"/>
                </a:solidFill>
                <a:latin typeface="Calibri"/>
              </a:endParaRPr>
            </a:p>
          </p:txBody>
        </p:sp>
        <p:sp>
          <p:nvSpPr>
            <p:cNvPr id="1774" name="TextBox 28"/>
            <p:cNvSpPr/>
            <p:nvPr/>
          </p:nvSpPr>
          <p:spPr>
            <a:xfrm>
              <a:off x="7261200" y="4538520"/>
              <a:ext cx="127836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c8ffb"/>
                  </a:solidFill>
                  <a:latin typeface="Roboto Slab Medium"/>
                  <a:ea typeface="Roboto Slab Medium"/>
                </a:rPr>
                <a:t>Project N</a:t>
              </a:r>
              <a:r>
                <a:rPr b="0" lang="en-US" sz="1000" spc="-1" strike="noStrike" baseline="30000">
                  <a:solidFill>
                    <a:srgbClr val="7c8ffb"/>
                  </a:solidFill>
                  <a:latin typeface="Roboto Slab Medium"/>
                  <a:ea typeface="Roboto Slab Medium"/>
                </a:rPr>
                <a:t>o</a:t>
              </a:r>
              <a:r>
                <a:rPr b="0" lang="en-US" sz="1000" spc="-1" strike="noStrike">
                  <a:solidFill>
                    <a:srgbClr val="7c8ffb"/>
                  </a:solidFill>
                  <a:latin typeface="Roboto Slab Medium"/>
                  <a:ea typeface="Roboto Slab Medium"/>
                </a:rPr>
                <a:t>05</a:t>
              </a:r>
              <a:endParaRPr b="0" lang="en-US" sz="1000" spc="-1" strike="noStrike">
                <a:solidFill>
                  <a:srgbClr val="000000"/>
                </a:solidFill>
                <a:latin typeface="Calibri"/>
              </a:endParaRPr>
            </a:p>
          </p:txBody>
        </p:sp>
      </p:grpSp>
      <p:sp>
        <p:nvSpPr>
          <p:cNvPr id="1775" name="Rectangle 29"/>
          <p:cNvSpPr/>
          <p:nvPr/>
        </p:nvSpPr>
        <p:spPr>
          <a:xfrm>
            <a:off x="11099880" y="0"/>
            <a:ext cx="1092240" cy="6858000"/>
          </a:xfrm>
          <a:prstGeom prst="rect">
            <a:avLst/>
          </a:prstGeom>
          <a:solidFill>
            <a:srgbClr val="eafff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6" name="TextBox 31"/>
          <p:cNvSpPr/>
          <p:nvPr/>
        </p:nvSpPr>
        <p:spPr>
          <a:xfrm>
            <a:off x="606600" y="677880"/>
            <a:ext cx="121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Slab Medium"/>
                <a:ea typeface="Roboto Slab Medium"/>
              </a:rPr>
              <a:t>Educationaly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TextBox 3"/>
          <p:cNvSpPr/>
          <p:nvPr/>
        </p:nvSpPr>
        <p:spPr>
          <a:xfrm>
            <a:off x="6126120" y="4811760"/>
            <a:ext cx="5111640" cy="159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a:t>
            </a:r>
            <a:endParaRPr b="0" lang="en-US" sz="1100" spc="-1" strike="noStrike">
              <a:solidFill>
                <a:srgbClr val="000000"/>
              </a:solidFill>
              <a:latin typeface="Calibri"/>
            </a:endParaRPr>
          </a:p>
        </p:txBody>
      </p:sp>
      <p:grpSp>
        <p:nvGrpSpPr>
          <p:cNvPr id="1778" name="Group 11"/>
          <p:cNvGrpSpPr/>
          <p:nvPr/>
        </p:nvGrpSpPr>
        <p:grpSpPr>
          <a:xfrm>
            <a:off x="941400" y="4811760"/>
            <a:ext cx="2946240" cy="824040"/>
            <a:chOff x="941400" y="4811760"/>
            <a:chExt cx="2946240" cy="824040"/>
          </a:xfrm>
        </p:grpSpPr>
        <p:sp>
          <p:nvSpPr>
            <p:cNvPr id="1779" name="TextBox 4"/>
            <p:cNvSpPr/>
            <p:nvPr/>
          </p:nvSpPr>
          <p:spPr>
            <a:xfrm>
              <a:off x="941400" y="4811760"/>
              <a:ext cx="294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boto Slab Medium"/>
                  <a:ea typeface="Roboto Slab Medium"/>
                </a:rPr>
                <a:t>Certificates</a:t>
              </a:r>
              <a:endParaRPr b="0" lang="en-US" sz="4000" spc="-1" strike="noStrike">
                <a:solidFill>
                  <a:srgbClr val="000000"/>
                </a:solidFill>
                <a:latin typeface="Calibri"/>
              </a:endParaRPr>
            </a:p>
          </p:txBody>
        </p:sp>
        <p:sp>
          <p:nvSpPr>
            <p:cNvPr id="1780" name="Straight Connector 5"/>
            <p:cNvSpPr/>
            <p:nvPr/>
          </p:nvSpPr>
          <p:spPr>
            <a:xfrm>
              <a:off x="1055520" y="5635800"/>
              <a:ext cx="488520" cy="0"/>
            </a:xfrm>
            <a:prstGeom prst="line">
              <a:avLst/>
            </a:prstGeom>
            <a:ln w="3816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781" name="TextBox 18"/>
          <p:cNvSpPr/>
          <p:nvPr/>
        </p:nvSpPr>
        <p:spPr>
          <a:xfrm>
            <a:off x="4716360" y="3924360"/>
            <a:ext cx="12589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Slab Medium"/>
                <a:ea typeface="Roboto Slab Medium"/>
              </a:rPr>
              <a:t>02 / Subtitle</a:t>
            </a:r>
            <a:endParaRPr b="0" lang="en-US" sz="1400" spc="-1" strike="noStrike">
              <a:solidFill>
                <a:srgbClr val="000000"/>
              </a:solidFill>
              <a:latin typeface="Calibri"/>
            </a:endParaRPr>
          </a:p>
        </p:txBody>
      </p:sp>
      <p:sp>
        <p:nvSpPr>
          <p:cNvPr id="1782" name="TextBox 19"/>
          <p:cNvSpPr/>
          <p:nvPr/>
        </p:nvSpPr>
        <p:spPr>
          <a:xfrm>
            <a:off x="1736640" y="3460680"/>
            <a:ext cx="11970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Slab Medium"/>
                <a:ea typeface="Roboto Slab Medium"/>
              </a:rPr>
              <a:t>01 / Subtitle</a:t>
            </a:r>
            <a:endParaRPr b="0" lang="en-US" sz="1400" spc="-1" strike="noStrike">
              <a:solidFill>
                <a:srgbClr val="000000"/>
              </a:solidFill>
              <a:latin typeface="Calibri"/>
            </a:endParaRPr>
          </a:p>
        </p:txBody>
      </p:sp>
      <p:sp>
        <p:nvSpPr>
          <p:cNvPr id="1783" name="TextBox 20"/>
          <p:cNvSpPr/>
          <p:nvPr/>
        </p:nvSpPr>
        <p:spPr>
          <a:xfrm>
            <a:off x="9347040" y="3772080"/>
            <a:ext cx="13179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Slab Medium"/>
                <a:ea typeface="Roboto Slab Medium"/>
              </a:rPr>
              <a:t>04 / Subtitle</a:t>
            </a:r>
            <a:endParaRPr b="0" lang="en-US" sz="1400" spc="-1" strike="noStrike">
              <a:solidFill>
                <a:srgbClr val="000000"/>
              </a:solidFill>
              <a:latin typeface="Calibri"/>
            </a:endParaRPr>
          </a:p>
        </p:txBody>
      </p:sp>
      <p:sp>
        <p:nvSpPr>
          <p:cNvPr id="1784" name="Freeform: Shape 38"/>
          <p:cNvSpPr/>
          <p:nvPr/>
        </p:nvSpPr>
        <p:spPr>
          <a:xfrm>
            <a:off x="5975280" y="2198520"/>
            <a:ext cx="3283200" cy="1764000"/>
          </a:xfrm>
          <a:custGeom>
            <a:avLst/>
            <a:gdLst/>
            <a:ahLst/>
            <a:rect l="l" t="t" r="r" b="b"/>
            <a:pathLst>
              <a:path w="2507742" h="2677849">
                <a:moveTo>
                  <a:pt x="0" y="0"/>
                </a:moveTo>
                <a:lnTo>
                  <a:pt x="2507742" y="0"/>
                </a:lnTo>
                <a:lnTo>
                  <a:pt x="2507742" y="2677849"/>
                </a:lnTo>
                <a:lnTo>
                  <a:pt x="0" y="2677849"/>
                </a:lnTo>
                <a:lnTo>
                  <a:pt x="0" y="0"/>
                </a:lnTo>
                <a:close/>
              </a:path>
            </a:pathLst>
          </a:custGeom>
          <a:solidFill>
            <a:srgbClr val="7c8ffb"/>
          </a:solidFill>
          <a:ln w="0">
            <a:noFill/>
          </a:ln>
          <a:effectLst>
            <a:outerShdw dist="76367" dir="2700000" blurRad="0" rotWithShape="0">
              <a:srgbClr val="000000">
                <a:alpha val="12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785" name="Group 21"/>
          <p:cNvGrpSpPr/>
          <p:nvPr/>
        </p:nvGrpSpPr>
        <p:grpSpPr>
          <a:xfrm>
            <a:off x="6627960" y="2560680"/>
            <a:ext cx="1998360" cy="1380240"/>
            <a:chOff x="6627960" y="2560680"/>
            <a:chExt cx="1998360" cy="1380240"/>
          </a:xfrm>
        </p:grpSpPr>
        <p:sp>
          <p:nvSpPr>
            <p:cNvPr id="1786" name="TextBox 13"/>
            <p:cNvSpPr/>
            <p:nvPr/>
          </p:nvSpPr>
          <p:spPr>
            <a:xfrm>
              <a:off x="6627960" y="2843280"/>
              <a:ext cx="199836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Light"/>
                  <a:ea typeface="Roboto Light"/>
                </a:rPr>
                <a:t>Lorem ipsum dolor sit amet, consectetur adipiscing elit, sed do eiusmod tempor </a:t>
              </a:r>
              <a:endParaRPr b="0" lang="en-US" sz="1100" spc="-1" strike="noStrike">
                <a:solidFill>
                  <a:srgbClr val="000000"/>
                </a:solidFill>
                <a:latin typeface="Calibri"/>
              </a:endParaRPr>
            </a:p>
          </p:txBody>
        </p:sp>
        <p:sp>
          <p:nvSpPr>
            <p:cNvPr id="1787" name="TextBox 14"/>
            <p:cNvSpPr/>
            <p:nvPr/>
          </p:nvSpPr>
          <p:spPr>
            <a:xfrm>
              <a:off x="6956640" y="2560680"/>
              <a:ext cx="134100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Slab Medium"/>
                  <a:ea typeface="Roboto Slab Medium"/>
                </a:rPr>
                <a:t>03 / Subtitle</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6" name="TextBox 17" descr=""/>
          <p:cNvPicPr/>
          <p:nvPr/>
        </p:nvPicPr>
        <p:blipFill>
          <a:blip r:embed="rId1"/>
          <a:stretch/>
        </p:blipFill>
        <p:spPr>
          <a:xfrm>
            <a:off x="584280" y="406440"/>
            <a:ext cx="1346040" cy="1574640"/>
          </a:xfrm>
          <a:prstGeom prst="rect">
            <a:avLst/>
          </a:prstGeom>
          <a:ln w="0">
            <a:noFill/>
          </a:ln>
        </p:spPr>
      </p:pic>
      <p:sp>
        <p:nvSpPr>
          <p:cNvPr id="1377" name="TextBox 6"/>
          <p:cNvSpPr/>
          <p:nvPr/>
        </p:nvSpPr>
        <p:spPr>
          <a:xfrm>
            <a:off x="5591160" y="3884760"/>
            <a:ext cx="517068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a:t>
            </a:r>
            <a:endParaRPr b="0" lang="en-US" sz="1100" spc="-1" strike="noStrike">
              <a:solidFill>
                <a:srgbClr val="000000"/>
              </a:solidFill>
              <a:latin typeface="Calibri"/>
            </a:endParaRPr>
          </a:p>
        </p:txBody>
      </p:sp>
      <p:sp>
        <p:nvSpPr>
          <p:cNvPr id="1378" name="TextBox 1"/>
          <p:cNvSpPr/>
          <p:nvPr/>
        </p:nvSpPr>
        <p:spPr>
          <a:xfrm>
            <a:off x="966960" y="880920"/>
            <a:ext cx="2639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boto Slab"/>
                <a:ea typeface="Roboto Slab"/>
              </a:rPr>
              <a:t>About </a:t>
            </a:r>
            <a:r>
              <a:rPr b="1" lang="en-US" sz="4000" spc="-1" strike="noStrike">
                <a:solidFill>
                  <a:srgbClr val="000000"/>
                </a:solidFill>
                <a:latin typeface="Roboto Slab Medium"/>
                <a:ea typeface="Roboto Slab Medium"/>
              </a:rPr>
              <a:t>Us</a:t>
            </a:r>
            <a:endParaRPr b="0" lang="en-US" sz="4000" spc="-1" strike="noStrike">
              <a:solidFill>
                <a:srgbClr val="000000"/>
              </a:solidFill>
              <a:latin typeface="Calibri"/>
            </a:endParaRPr>
          </a:p>
        </p:txBody>
      </p:sp>
      <p:sp>
        <p:nvSpPr>
          <p:cNvPr id="1379" name="Straight Connector 241"/>
          <p:cNvSpPr/>
          <p:nvPr/>
        </p:nvSpPr>
        <p:spPr>
          <a:xfrm>
            <a:off x="5695920" y="3570120"/>
            <a:ext cx="488880" cy="0"/>
          </a:xfrm>
          <a:prstGeom prst="line">
            <a:avLst/>
          </a:prstGeom>
          <a:ln w="3816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0" name="TextBox 251"/>
          <p:cNvSpPr/>
          <p:nvPr/>
        </p:nvSpPr>
        <p:spPr>
          <a:xfrm>
            <a:off x="5591160" y="2141640"/>
            <a:ext cx="376884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boto Slab"/>
                <a:ea typeface="Roboto Slab"/>
              </a:rPr>
              <a:t>Lorem ipsum dolor sit amet, consectetur adipiscing elit, </a:t>
            </a:r>
            <a:r>
              <a:rPr b="1" lang="en-US" sz="2000" spc="-1" strike="noStrike">
                <a:solidFill>
                  <a:srgbClr val="000000"/>
                </a:solidFill>
                <a:latin typeface="Roboto Slab"/>
                <a:ea typeface="Roboto Slab"/>
              </a:rPr>
              <a:t>sed do eiusmod tempor.</a:t>
            </a:r>
            <a:endParaRPr b="0" lang="en-US" sz="2000" spc="-1" strike="noStrike">
              <a:solidFill>
                <a:srgbClr val="000000"/>
              </a:solidFill>
              <a:latin typeface="Calibri"/>
            </a:endParaRPr>
          </a:p>
        </p:txBody>
      </p:sp>
      <p:sp>
        <p:nvSpPr>
          <p:cNvPr id="1381" name="TextBox 266"/>
          <p:cNvSpPr/>
          <p:nvPr/>
        </p:nvSpPr>
        <p:spPr>
          <a:xfrm>
            <a:off x="5591160" y="1838160"/>
            <a:ext cx="165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c8ffb"/>
                </a:solidFill>
                <a:latin typeface="Roboto Slab"/>
                <a:ea typeface="Roboto Slab"/>
              </a:rPr>
              <a:t>Educationaly </a:t>
            </a:r>
            <a:endParaRPr b="0" lang="en-US" sz="1200" spc="-1" strike="noStrike">
              <a:solidFill>
                <a:srgbClr val="000000"/>
              </a:solidFill>
              <a:latin typeface="Calibri"/>
            </a:endParaRPr>
          </a:p>
        </p:txBody>
      </p:sp>
      <p:grpSp>
        <p:nvGrpSpPr>
          <p:cNvPr id="1382" name="Group 12"/>
          <p:cNvGrpSpPr/>
          <p:nvPr/>
        </p:nvGrpSpPr>
        <p:grpSpPr>
          <a:xfrm>
            <a:off x="10625040" y="692280"/>
            <a:ext cx="474840" cy="64800"/>
            <a:chOff x="10625040" y="692280"/>
            <a:chExt cx="474840" cy="64800"/>
          </a:xfrm>
        </p:grpSpPr>
        <p:sp>
          <p:nvSpPr>
            <p:cNvPr id="1383" name="Freeform: Shape 13"/>
            <p:cNvSpPr/>
            <p:nvPr/>
          </p:nvSpPr>
          <p:spPr>
            <a:xfrm>
              <a:off x="106250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4fcb6"/>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384" name="Freeform: Shape 14"/>
            <p:cNvSpPr/>
            <p:nvPr/>
          </p:nvSpPr>
          <p:spPr>
            <a:xfrm>
              <a:off x="107618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bbbcfc"/>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385" name="Freeform: Shape 15"/>
            <p:cNvSpPr/>
            <p:nvPr/>
          </p:nvSpPr>
          <p:spPr>
            <a:xfrm>
              <a:off x="108986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ec2e1"/>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386" name="Freeform: Shape 16"/>
            <p:cNvSpPr/>
            <p:nvPr/>
          </p:nvSpPr>
          <p:spPr>
            <a:xfrm>
              <a:off x="110354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97fff7"/>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TextBox 2"/>
          <p:cNvSpPr/>
          <p:nvPr/>
        </p:nvSpPr>
        <p:spPr>
          <a:xfrm>
            <a:off x="1847880" y="5457960"/>
            <a:ext cx="283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boto Slab"/>
                <a:ea typeface="Roboto Slab"/>
              </a:rPr>
              <a:t>Frequently Asked </a:t>
            </a:r>
            <a:r>
              <a:rPr b="0" lang="en-US" sz="2400" spc="-1" strike="noStrike">
                <a:solidFill>
                  <a:srgbClr val="ffffff"/>
                </a:solidFill>
                <a:latin typeface="Roboto Slab Medium"/>
                <a:ea typeface="Roboto Slab Medium"/>
              </a:rPr>
              <a:t>Questions</a:t>
            </a:r>
            <a:endParaRPr b="0" lang="en-US" sz="2400" spc="-1" strike="noStrike">
              <a:solidFill>
                <a:srgbClr val="000000"/>
              </a:solidFill>
              <a:latin typeface="Calibri"/>
            </a:endParaRPr>
          </a:p>
        </p:txBody>
      </p:sp>
      <p:sp>
        <p:nvSpPr>
          <p:cNvPr id="1789" name="TextBox 9"/>
          <p:cNvSpPr/>
          <p:nvPr/>
        </p:nvSpPr>
        <p:spPr>
          <a:xfrm>
            <a:off x="6124680" y="5396040"/>
            <a:ext cx="41148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Light"/>
                <a:ea typeface="Roboto Light"/>
              </a:rPr>
              <a:t>Lorem ipsum dolor sit amet, consectetur adipiscing elit, sed do eiusmod tempor incididunt ut labore et dolore magna aliqua. Ut enim ad minim veniam, quis nostrud exercitation ullamco laboris</a:t>
            </a:r>
            <a:endParaRPr b="0" lang="en-US" sz="1100" spc="-1" strike="noStrike">
              <a:solidFill>
                <a:srgbClr val="000000"/>
              </a:solidFill>
              <a:latin typeface="Calibri"/>
            </a:endParaRPr>
          </a:p>
        </p:txBody>
      </p:sp>
      <p:grpSp>
        <p:nvGrpSpPr>
          <p:cNvPr id="1790" name="Group 59"/>
          <p:cNvGrpSpPr/>
          <p:nvPr/>
        </p:nvGrpSpPr>
        <p:grpSpPr>
          <a:xfrm>
            <a:off x="1969920" y="2697120"/>
            <a:ext cx="8331480" cy="2302560"/>
            <a:chOff x="1969920" y="2697120"/>
            <a:chExt cx="8331480" cy="2302560"/>
          </a:xfrm>
        </p:grpSpPr>
        <p:sp>
          <p:nvSpPr>
            <p:cNvPr id="1791" name="TextBox 18"/>
            <p:cNvSpPr/>
            <p:nvPr/>
          </p:nvSpPr>
          <p:spPr>
            <a:xfrm>
              <a:off x="2040480" y="2697120"/>
              <a:ext cx="6418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c8ffb"/>
                  </a:solidFill>
                  <a:latin typeface="Roboto Slab Medium"/>
                  <a:ea typeface="Roboto Slab Medium"/>
                </a:rPr>
                <a:t>N</a:t>
              </a:r>
              <a:r>
                <a:rPr b="0" lang="en-US" sz="1400" spc="-1" strike="noStrike" baseline="30000">
                  <a:solidFill>
                    <a:srgbClr val="7c8ffb"/>
                  </a:solidFill>
                  <a:latin typeface="Roboto Slab Medium"/>
                  <a:ea typeface="Roboto Slab Medium"/>
                </a:rPr>
                <a:t>o.</a:t>
              </a:r>
              <a:r>
                <a:rPr b="0" lang="en-US" sz="1400" spc="-1" strike="noStrike">
                  <a:solidFill>
                    <a:srgbClr val="7c8ffb"/>
                  </a:solidFill>
                  <a:latin typeface="Roboto Slab Medium"/>
                  <a:ea typeface="Roboto Slab Medium"/>
                </a:rPr>
                <a:t>01</a:t>
              </a:r>
              <a:endParaRPr b="0" lang="en-US" sz="1400" spc="-1" strike="noStrike">
                <a:solidFill>
                  <a:srgbClr val="000000"/>
                </a:solidFill>
                <a:latin typeface="Calibri"/>
              </a:endParaRPr>
            </a:p>
          </p:txBody>
        </p:sp>
        <p:sp>
          <p:nvSpPr>
            <p:cNvPr id="1792" name="TextBox 21"/>
            <p:cNvSpPr/>
            <p:nvPr/>
          </p:nvSpPr>
          <p:spPr>
            <a:xfrm>
              <a:off x="5100480" y="2697120"/>
              <a:ext cx="6418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c8ffb"/>
                  </a:solidFill>
                  <a:latin typeface="Roboto Slab Medium"/>
                  <a:ea typeface="Roboto Slab Medium"/>
                </a:rPr>
                <a:t>N</a:t>
              </a:r>
              <a:r>
                <a:rPr b="0" lang="en-US" sz="1400" spc="-1" strike="noStrike" baseline="30000">
                  <a:solidFill>
                    <a:srgbClr val="7c8ffb"/>
                  </a:solidFill>
                  <a:latin typeface="Roboto Slab Medium"/>
                  <a:ea typeface="Roboto Slab Medium"/>
                </a:rPr>
                <a:t>o.</a:t>
              </a:r>
              <a:r>
                <a:rPr b="0" lang="en-US" sz="1400" spc="-1" strike="noStrike">
                  <a:solidFill>
                    <a:srgbClr val="7c8ffb"/>
                  </a:solidFill>
                  <a:latin typeface="Roboto Slab Medium"/>
                  <a:ea typeface="Roboto Slab Medium"/>
                </a:rPr>
                <a:t>02</a:t>
              </a:r>
              <a:endParaRPr b="0" lang="en-US" sz="1400" spc="-1" strike="noStrike">
                <a:solidFill>
                  <a:srgbClr val="000000"/>
                </a:solidFill>
                <a:latin typeface="Calibri"/>
              </a:endParaRPr>
            </a:p>
          </p:txBody>
        </p:sp>
        <p:sp>
          <p:nvSpPr>
            <p:cNvPr id="1793" name="TextBox 24"/>
            <p:cNvSpPr/>
            <p:nvPr/>
          </p:nvSpPr>
          <p:spPr>
            <a:xfrm>
              <a:off x="8203320" y="2697120"/>
              <a:ext cx="6418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c8ffb"/>
                  </a:solidFill>
                  <a:latin typeface="Roboto Slab Medium"/>
                  <a:ea typeface="Roboto Slab Medium"/>
                </a:rPr>
                <a:t>N</a:t>
              </a:r>
              <a:r>
                <a:rPr b="0" lang="en-US" sz="1400" spc="-1" strike="noStrike" baseline="30000">
                  <a:solidFill>
                    <a:srgbClr val="7c8ffb"/>
                  </a:solidFill>
                  <a:latin typeface="Roboto Slab Medium"/>
                  <a:ea typeface="Roboto Slab Medium"/>
                </a:rPr>
                <a:t>o.</a:t>
              </a:r>
              <a:r>
                <a:rPr b="0" lang="en-US" sz="1400" spc="-1" strike="noStrike">
                  <a:solidFill>
                    <a:srgbClr val="7c8ffb"/>
                  </a:solidFill>
                  <a:latin typeface="Roboto Slab Medium"/>
                  <a:ea typeface="Roboto Slab Medium"/>
                </a:rPr>
                <a:t>03</a:t>
              </a:r>
              <a:endParaRPr b="0" lang="en-US" sz="1400" spc="-1" strike="noStrike">
                <a:solidFill>
                  <a:srgbClr val="000000"/>
                </a:solidFill>
                <a:latin typeface="Calibri"/>
              </a:endParaRPr>
            </a:p>
          </p:txBody>
        </p:sp>
        <p:sp>
          <p:nvSpPr>
            <p:cNvPr id="1794" name="TextBox 16"/>
            <p:cNvSpPr/>
            <p:nvPr/>
          </p:nvSpPr>
          <p:spPr>
            <a:xfrm>
              <a:off x="2040480" y="3159360"/>
              <a:ext cx="2118600" cy="495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Roboto Slab"/>
                  <a:ea typeface="Roboto Slab"/>
                </a:rPr>
                <a:t>Lorem ipsum dolor sit amet, consectetur </a:t>
              </a:r>
              <a:r>
                <a:rPr b="1" lang="en-US" sz="1100" spc="-1" strike="noStrike">
                  <a:solidFill>
                    <a:srgbClr val="000000"/>
                  </a:solidFill>
                  <a:latin typeface="Roboto Slab"/>
                  <a:ea typeface="Roboto Slab"/>
                </a:rPr>
                <a:t>adipiscing elit</a:t>
              </a:r>
              <a:endParaRPr b="0" lang="en-US" sz="1100" spc="-1" strike="noStrike">
                <a:solidFill>
                  <a:srgbClr val="000000"/>
                </a:solidFill>
                <a:latin typeface="Calibri"/>
              </a:endParaRPr>
            </a:p>
          </p:txBody>
        </p:sp>
        <p:sp>
          <p:nvSpPr>
            <p:cNvPr id="1795" name="TextBox 19"/>
            <p:cNvSpPr/>
            <p:nvPr/>
          </p:nvSpPr>
          <p:spPr>
            <a:xfrm>
              <a:off x="2040480" y="3651120"/>
              <a:ext cx="21186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a:t>
              </a:r>
              <a:endParaRPr b="0" lang="en-US" sz="1100" spc="-1" strike="noStrike">
                <a:solidFill>
                  <a:srgbClr val="000000"/>
                </a:solidFill>
                <a:latin typeface="Calibri"/>
              </a:endParaRPr>
            </a:p>
          </p:txBody>
        </p:sp>
        <p:sp>
          <p:nvSpPr>
            <p:cNvPr id="1796" name="TextBox 20"/>
            <p:cNvSpPr/>
            <p:nvPr/>
          </p:nvSpPr>
          <p:spPr>
            <a:xfrm>
              <a:off x="5100480" y="3159360"/>
              <a:ext cx="2118600" cy="495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Roboto Slab"/>
                  <a:ea typeface="Roboto Slab"/>
                </a:rPr>
                <a:t>Lorem ipsum dolor sit amet, consectetur </a:t>
              </a:r>
              <a:r>
                <a:rPr b="1" lang="en-US" sz="1100" spc="-1" strike="noStrike">
                  <a:solidFill>
                    <a:srgbClr val="000000"/>
                  </a:solidFill>
                  <a:latin typeface="Roboto Slab"/>
                  <a:ea typeface="Roboto Slab"/>
                </a:rPr>
                <a:t>adipiscing elit</a:t>
              </a:r>
              <a:endParaRPr b="0" lang="en-US" sz="1100" spc="-1" strike="noStrike">
                <a:solidFill>
                  <a:srgbClr val="000000"/>
                </a:solidFill>
                <a:latin typeface="Calibri"/>
              </a:endParaRPr>
            </a:p>
          </p:txBody>
        </p:sp>
        <p:sp>
          <p:nvSpPr>
            <p:cNvPr id="1797" name="TextBox 22"/>
            <p:cNvSpPr/>
            <p:nvPr/>
          </p:nvSpPr>
          <p:spPr>
            <a:xfrm>
              <a:off x="5100480" y="3651120"/>
              <a:ext cx="21186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a:t>
              </a:r>
              <a:endParaRPr b="0" lang="en-US" sz="1100" spc="-1" strike="noStrike">
                <a:solidFill>
                  <a:srgbClr val="000000"/>
                </a:solidFill>
                <a:latin typeface="Calibri"/>
              </a:endParaRPr>
            </a:p>
          </p:txBody>
        </p:sp>
        <p:sp>
          <p:nvSpPr>
            <p:cNvPr id="1798" name="TextBox 23"/>
            <p:cNvSpPr/>
            <p:nvPr/>
          </p:nvSpPr>
          <p:spPr>
            <a:xfrm>
              <a:off x="8182800" y="3159360"/>
              <a:ext cx="2118600" cy="495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Roboto Slab"/>
                  <a:ea typeface="Roboto Slab"/>
                </a:rPr>
                <a:t>Lorem ipsum dolor sit amet, consectetur </a:t>
              </a:r>
              <a:r>
                <a:rPr b="1" lang="en-US" sz="1100" spc="-1" strike="noStrike">
                  <a:solidFill>
                    <a:srgbClr val="000000"/>
                  </a:solidFill>
                  <a:latin typeface="Roboto Slab"/>
                  <a:ea typeface="Roboto Slab"/>
                </a:rPr>
                <a:t>adipiscing elit</a:t>
              </a:r>
              <a:endParaRPr b="0" lang="en-US" sz="1100" spc="-1" strike="noStrike">
                <a:solidFill>
                  <a:srgbClr val="000000"/>
                </a:solidFill>
                <a:latin typeface="Calibri"/>
              </a:endParaRPr>
            </a:p>
          </p:txBody>
        </p:sp>
        <p:sp>
          <p:nvSpPr>
            <p:cNvPr id="1799" name="TextBox 25"/>
            <p:cNvSpPr/>
            <p:nvPr/>
          </p:nvSpPr>
          <p:spPr>
            <a:xfrm>
              <a:off x="8182800" y="3651120"/>
              <a:ext cx="21186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a:t>
              </a:r>
              <a:endParaRPr b="0" lang="en-US" sz="1100" spc="-1" strike="noStrike">
                <a:solidFill>
                  <a:srgbClr val="000000"/>
                </a:solidFill>
                <a:latin typeface="Calibri"/>
              </a:endParaRPr>
            </a:p>
          </p:txBody>
        </p:sp>
        <p:grpSp>
          <p:nvGrpSpPr>
            <p:cNvPr id="1800" name="Group 58"/>
            <p:cNvGrpSpPr/>
            <p:nvPr/>
          </p:nvGrpSpPr>
          <p:grpSpPr>
            <a:xfrm>
              <a:off x="1969920" y="2757240"/>
              <a:ext cx="6144840" cy="1854000"/>
              <a:chOff x="1969920" y="2757240"/>
              <a:chExt cx="6144840" cy="1854000"/>
            </a:xfrm>
          </p:grpSpPr>
          <p:sp>
            <p:nvSpPr>
              <p:cNvPr id="1801" name="Straight Connector 41"/>
              <p:cNvSpPr/>
              <p:nvPr/>
            </p:nvSpPr>
            <p:spPr>
              <a:xfrm>
                <a:off x="1969920" y="2757240"/>
                <a:ext cx="0" cy="1854000"/>
              </a:xfrm>
              <a:prstGeom prst="line">
                <a:avLst/>
              </a:prstGeom>
              <a:ln w="648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2" name="Straight Connector 47"/>
              <p:cNvSpPr/>
              <p:nvPr/>
            </p:nvSpPr>
            <p:spPr>
              <a:xfrm>
                <a:off x="5029920" y="2757240"/>
                <a:ext cx="0" cy="1854000"/>
              </a:xfrm>
              <a:prstGeom prst="line">
                <a:avLst/>
              </a:prstGeom>
              <a:ln w="648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3" name="Straight Connector 48"/>
              <p:cNvSpPr/>
              <p:nvPr/>
            </p:nvSpPr>
            <p:spPr>
              <a:xfrm>
                <a:off x="8114760" y="2757240"/>
                <a:ext cx="0" cy="1854000"/>
              </a:xfrm>
              <a:prstGeom prst="line">
                <a:avLst/>
              </a:prstGeom>
              <a:ln w="648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804" name="Straight Connector 53"/>
          <p:cNvSpPr/>
          <p:nvPr/>
        </p:nvSpPr>
        <p:spPr>
          <a:xfrm>
            <a:off x="3700440" y="6086520"/>
            <a:ext cx="541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5" name="Group 2"/>
          <p:cNvGrpSpPr/>
          <p:nvPr/>
        </p:nvGrpSpPr>
        <p:grpSpPr>
          <a:xfrm>
            <a:off x="2670120" y="2666880"/>
            <a:ext cx="6851880" cy="1524240"/>
            <a:chOff x="2670120" y="2666880"/>
            <a:chExt cx="6851880" cy="1524240"/>
          </a:xfrm>
        </p:grpSpPr>
        <p:sp>
          <p:nvSpPr>
            <p:cNvPr id="1806" name="TextBox 81"/>
            <p:cNvSpPr/>
            <p:nvPr/>
          </p:nvSpPr>
          <p:spPr>
            <a:xfrm>
              <a:off x="2670120" y="2666880"/>
              <a:ext cx="538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Roboto Slab"/>
                  <a:ea typeface="Roboto Slab"/>
                </a:rPr>
                <a:t>Break Slide</a:t>
              </a:r>
              <a:endParaRPr b="0" lang="en-US" sz="7200" spc="-1" strike="noStrike">
                <a:solidFill>
                  <a:srgbClr val="000000"/>
                </a:solidFill>
                <a:latin typeface="Calibri"/>
              </a:endParaRPr>
            </a:p>
          </p:txBody>
        </p:sp>
        <p:sp>
          <p:nvSpPr>
            <p:cNvPr id="1807" name="Graphic 1031"/>
            <p:cNvSpPr/>
            <p:nvPr/>
          </p:nvSpPr>
          <p:spPr>
            <a:xfrm>
              <a:off x="2766600" y="3904560"/>
              <a:ext cx="1641600" cy="286560"/>
            </a:xfrm>
            <a:custGeom>
              <a:avLst/>
              <a:gdLst/>
              <a:ahLst/>
              <a:rect l="l" t="t" r="r" b="b"/>
              <a:pathLst>
                <a:path w="760911" h="132655">
                  <a:moveTo>
                    <a:pt x="0" y="132656"/>
                  </a:moveTo>
                  <a:cubicBezTo>
                    <a:pt x="55245" y="99318"/>
                    <a:pt x="113348" y="71696"/>
                    <a:pt x="174308" y="50741"/>
                  </a:cubicBezTo>
                  <a:cubicBezTo>
                    <a:pt x="235268" y="29786"/>
                    <a:pt x="298133" y="14546"/>
                    <a:pt x="361950" y="6926"/>
                  </a:cubicBezTo>
                  <a:cubicBezTo>
                    <a:pt x="490538" y="-9267"/>
                    <a:pt x="622935" y="3116"/>
                    <a:pt x="747713" y="42168"/>
                  </a:cubicBezTo>
                  <a:cubicBezTo>
                    <a:pt x="758190" y="45026"/>
                    <a:pt x="762953" y="55503"/>
                    <a:pt x="760095" y="65981"/>
                  </a:cubicBezTo>
                  <a:cubicBezTo>
                    <a:pt x="757238" y="76458"/>
                    <a:pt x="746760" y="81221"/>
                    <a:pt x="736283" y="78363"/>
                  </a:cubicBezTo>
                  <a:cubicBezTo>
                    <a:pt x="736283" y="78363"/>
                    <a:pt x="735330" y="78363"/>
                    <a:pt x="735330" y="78363"/>
                  </a:cubicBezTo>
                  <a:cubicBezTo>
                    <a:pt x="617220" y="35501"/>
                    <a:pt x="490538" y="16451"/>
                    <a:pt x="363855" y="26928"/>
                  </a:cubicBezTo>
                  <a:cubicBezTo>
                    <a:pt x="300990" y="30738"/>
                    <a:pt x="238125" y="42168"/>
                    <a:pt x="177165" y="60266"/>
                  </a:cubicBezTo>
                  <a:cubicBezTo>
                    <a:pt x="115253" y="78363"/>
                    <a:pt x="56198" y="103128"/>
                    <a:pt x="0" y="132656"/>
                  </a:cubicBezTo>
                  <a:close/>
                </a:path>
              </a:pathLst>
            </a:custGeom>
            <a:gradFill rotWithShape="0">
              <a:gsLst>
                <a:gs pos="0">
                  <a:srgbClr val="a2afff"/>
                </a:gs>
                <a:gs pos="100000">
                  <a:srgbClr val="e2e6ff"/>
                </a:gs>
              </a:gsLst>
              <a:lin ang="108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08" name="TextBox 88"/>
            <p:cNvSpPr/>
            <p:nvPr/>
          </p:nvSpPr>
          <p:spPr>
            <a:xfrm>
              <a:off x="7974720" y="2921760"/>
              <a:ext cx="1547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Roboto"/>
                  <a:ea typeface="Roboto"/>
                </a:rPr>
                <a:t>Online Education Presentation Template</a:t>
              </a:r>
              <a:endParaRPr b="0" lang="en-US" sz="1400" spc="-1" strike="noStrike">
                <a:solidFill>
                  <a:srgbClr val="000000"/>
                </a:solidFill>
                <a:latin typeface="Calibri"/>
              </a:endParaRPr>
            </a:p>
          </p:txBody>
        </p:sp>
      </p:grpSp>
      <p:sp>
        <p:nvSpPr>
          <p:cNvPr id="1809" name="Graphic 1034"/>
          <p:cNvSpPr/>
          <p:nvPr/>
        </p:nvSpPr>
        <p:spPr>
          <a:xfrm>
            <a:off x="1055520" y="692280"/>
            <a:ext cx="557280" cy="520560"/>
          </a:xfrm>
          <a:custGeom>
            <a:avLst/>
            <a:gdLst/>
            <a:ahLst/>
            <a:rect l="l" t="t" r="r" b="b"/>
            <a:pathLst>
              <a:path w="811529" h="757237">
                <a:moveTo>
                  <a:pt x="811530" y="266700"/>
                </a:moveTo>
                <a:lnTo>
                  <a:pt x="762000" y="248603"/>
                </a:lnTo>
                <a:lnTo>
                  <a:pt x="762000" y="144780"/>
                </a:lnTo>
                <a:lnTo>
                  <a:pt x="811530" y="123825"/>
                </a:lnTo>
                <a:lnTo>
                  <a:pt x="476250" y="0"/>
                </a:lnTo>
                <a:lnTo>
                  <a:pt x="68580" y="142875"/>
                </a:lnTo>
                <a:cubicBezTo>
                  <a:pt x="29528" y="161925"/>
                  <a:pt x="28575" y="214312"/>
                  <a:pt x="28575" y="257175"/>
                </a:cubicBezTo>
                <a:cubicBezTo>
                  <a:pt x="28575" y="271463"/>
                  <a:pt x="30480" y="285750"/>
                  <a:pt x="33337" y="299085"/>
                </a:cubicBezTo>
                <a:cubicBezTo>
                  <a:pt x="952" y="320040"/>
                  <a:pt x="0" y="368618"/>
                  <a:pt x="0" y="409575"/>
                </a:cubicBezTo>
                <a:cubicBezTo>
                  <a:pt x="0" y="442913"/>
                  <a:pt x="7620" y="473393"/>
                  <a:pt x="28575" y="492443"/>
                </a:cubicBezTo>
                <a:cubicBezTo>
                  <a:pt x="23813" y="508635"/>
                  <a:pt x="26670" y="528638"/>
                  <a:pt x="26670" y="552450"/>
                </a:cubicBezTo>
                <a:cubicBezTo>
                  <a:pt x="26670" y="595313"/>
                  <a:pt x="38100" y="634365"/>
                  <a:pt x="76200" y="647700"/>
                </a:cubicBezTo>
                <a:lnTo>
                  <a:pt x="340995" y="757238"/>
                </a:lnTo>
                <a:lnTo>
                  <a:pt x="809625" y="562928"/>
                </a:lnTo>
                <a:lnTo>
                  <a:pt x="760095" y="544830"/>
                </a:lnTo>
                <a:lnTo>
                  <a:pt x="760095" y="440055"/>
                </a:lnTo>
                <a:lnTo>
                  <a:pt x="809625" y="419100"/>
                </a:lnTo>
                <a:lnTo>
                  <a:pt x="733425" y="390525"/>
                </a:lnTo>
                <a:lnTo>
                  <a:pt x="733425" y="299085"/>
                </a:lnTo>
                <a:lnTo>
                  <a:pt x="811530" y="266700"/>
                </a:lnTo>
                <a:close/>
                <a:moveTo>
                  <a:pt x="80010" y="209550"/>
                </a:moveTo>
                <a:lnTo>
                  <a:pt x="344805" y="313373"/>
                </a:lnTo>
                <a:lnTo>
                  <a:pt x="724853" y="160020"/>
                </a:lnTo>
                <a:lnTo>
                  <a:pt x="724853" y="241935"/>
                </a:lnTo>
                <a:lnTo>
                  <a:pt x="344805" y="400050"/>
                </a:lnTo>
                <a:lnTo>
                  <a:pt x="80010" y="295275"/>
                </a:lnTo>
                <a:lnTo>
                  <a:pt x="80010" y="209550"/>
                </a:lnTo>
                <a:close/>
                <a:moveTo>
                  <a:pt x="722948" y="538163"/>
                </a:moveTo>
                <a:lnTo>
                  <a:pt x="342900" y="695325"/>
                </a:lnTo>
                <a:lnTo>
                  <a:pt x="77153" y="590550"/>
                </a:lnTo>
                <a:lnTo>
                  <a:pt x="77153" y="516255"/>
                </a:lnTo>
                <a:lnTo>
                  <a:pt x="314325" y="613410"/>
                </a:lnTo>
                <a:lnTo>
                  <a:pt x="723900" y="451485"/>
                </a:lnTo>
                <a:lnTo>
                  <a:pt x="722948" y="538163"/>
                </a:lnTo>
                <a:close/>
                <a:moveTo>
                  <a:pt x="696278" y="395288"/>
                </a:moveTo>
                <a:lnTo>
                  <a:pt x="316230" y="552450"/>
                </a:lnTo>
                <a:lnTo>
                  <a:pt x="51435" y="447675"/>
                </a:lnTo>
                <a:lnTo>
                  <a:pt x="51435" y="361950"/>
                </a:lnTo>
                <a:lnTo>
                  <a:pt x="323850" y="470535"/>
                </a:lnTo>
                <a:lnTo>
                  <a:pt x="697230" y="314325"/>
                </a:lnTo>
                <a:lnTo>
                  <a:pt x="697230" y="395288"/>
                </a:lnTo>
                <a:lnTo>
                  <a:pt x="696278" y="395288"/>
                </a:lnTo>
                <a:close/>
              </a:path>
            </a:pathLst>
          </a:custGeom>
          <a:solidFill>
            <a:srgbClr val="c7e8a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810" name="Graphic 1" descr=""/>
          <p:cNvPicPr/>
          <p:nvPr/>
        </p:nvPicPr>
        <p:blipFill>
          <a:blip r:embed="rId1"/>
          <a:stretch/>
        </p:blipFill>
        <p:spPr>
          <a:xfrm>
            <a:off x="10287000" y="5740560"/>
            <a:ext cx="1434960" cy="50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1" name="Group 8"/>
          <p:cNvGrpSpPr/>
          <p:nvPr/>
        </p:nvGrpSpPr>
        <p:grpSpPr>
          <a:xfrm>
            <a:off x="10625040" y="692280"/>
            <a:ext cx="474840" cy="64800"/>
            <a:chOff x="10625040" y="692280"/>
            <a:chExt cx="474840" cy="64800"/>
          </a:xfrm>
        </p:grpSpPr>
        <p:sp>
          <p:nvSpPr>
            <p:cNvPr id="1812" name="Freeform: Shape 9"/>
            <p:cNvSpPr/>
            <p:nvPr/>
          </p:nvSpPr>
          <p:spPr>
            <a:xfrm>
              <a:off x="106250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4fcb6"/>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813" name="Freeform: Shape 10"/>
            <p:cNvSpPr/>
            <p:nvPr/>
          </p:nvSpPr>
          <p:spPr>
            <a:xfrm>
              <a:off x="107618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bbbcfc"/>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814" name="Freeform: Shape 11"/>
            <p:cNvSpPr/>
            <p:nvPr/>
          </p:nvSpPr>
          <p:spPr>
            <a:xfrm>
              <a:off x="108986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ec2e1"/>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815" name="Freeform: Shape 12"/>
            <p:cNvSpPr/>
            <p:nvPr/>
          </p:nvSpPr>
          <p:spPr>
            <a:xfrm>
              <a:off x="110354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97fff7"/>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grpSp>
      <p:grpSp>
        <p:nvGrpSpPr>
          <p:cNvPr id="1816" name="Group 13"/>
          <p:cNvGrpSpPr/>
          <p:nvPr/>
        </p:nvGrpSpPr>
        <p:grpSpPr>
          <a:xfrm>
            <a:off x="4032360" y="574560"/>
            <a:ext cx="4127400" cy="774720"/>
            <a:chOff x="4032360" y="574560"/>
            <a:chExt cx="4127400" cy="774720"/>
          </a:xfrm>
        </p:grpSpPr>
        <p:sp>
          <p:nvSpPr>
            <p:cNvPr id="1817" name="TextBox 6"/>
            <p:cNvSpPr/>
            <p:nvPr/>
          </p:nvSpPr>
          <p:spPr>
            <a:xfrm>
              <a:off x="4032360" y="574560"/>
              <a:ext cx="412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Slab"/>
                  <a:ea typeface="Roboto Slab"/>
                </a:rPr>
                <a:t>Learning </a:t>
              </a:r>
              <a:r>
                <a:rPr b="0" lang="en-US" sz="3600" spc="-1" strike="noStrike">
                  <a:solidFill>
                    <a:srgbClr val="000000"/>
                  </a:solidFill>
                  <a:latin typeface="Roboto Slab Medium"/>
                  <a:ea typeface="Roboto Slab Medium"/>
                </a:rPr>
                <a:t>Process</a:t>
              </a:r>
              <a:endParaRPr b="0" lang="en-US" sz="3600" spc="-1" strike="noStrike">
                <a:solidFill>
                  <a:srgbClr val="000000"/>
                </a:solidFill>
                <a:latin typeface="Calibri"/>
              </a:endParaRPr>
            </a:p>
          </p:txBody>
        </p:sp>
        <p:sp>
          <p:nvSpPr>
            <p:cNvPr id="1818" name="Straight Connector 7"/>
            <p:cNvSpPr/>
            <p:nvPr/>
          </p:nvSpPr>
          <p:spPr>
            <a:xfrm>
              <a:off x="5851440" y="1349280"/>
              <a:ext cx="488880" cy="0"/>
            </a:xfrm>
            <a:prstGeom prst="line">
              <a:avLst/>
            </a:prstGeom>
            <a:ln w="3816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19" name="Group 19"/>
          <p:cNvGrpSpPr/>
          <p:nvPr/>
        </p:nvGrpSpPr>
        <p:grpSpPr>
          <a:xfrm>
            <a:off x="4032360" y="1893960"/>
            <a:ext cx="4127400" cy="4133880"/>
            <a:chOff x="4032360" y="1893960"/>
            <a:chExt cx="4127400" cy="4133880"/>
          </a:xfrm>
        </p:grpSpPr>
        <p:sp>
          <p:nvSpPr>
            <p:cNvPr id="1820" name="Google Shape;65;p7"/>
            <p:cNvSpPr/>
            <p:nvPr/>
          </p:nvSpPr>
          <p:spPr>
            <a:xfrm>
              <a:off x="4032360" y="1893960"/>
              <a:ext cx="3063960" cy="1938240"/>
            </a:xfrm>
            <a:custGeom>
              <a:avLst/>
              <a:gdLst/>
              <a:ahLst/>
              <a:rect l="l" t="t" r="r" b="b"/>
              <a:pathLst>
                <a:path w="21576" h="21549">
                  <a:moveTo>
                    <a:pt x="21534" y="20729"/>
                  </a:moveTo>
                  <a:lnTo>
                    <a:pt x="21070" y="19928"/>
                  </a:lnTo>
                  <a:cubicBezTo>
                    <a:pt x="20982" y="19788"/>
                    <a:pt x="20850" y="19858"/>
                    <a:pt x="20828" y="20032"/>
                  </a:cubicBezTo>
                  <a:lnTo>
                    <a:pt x="20806" y="20241"/>
                  </a:lnTo>
                  <a:cubicBezTo>
                    <a:pt x="18489" y="19335"/>
                    <a:pt x="16680" y="16409"/>
                    <a:pt x="16194" y="12716"/>
                  </a:cubicBezTo>
                  <a:cubicBezTo>
                    <a:pt x="16150" y="12437"/>
                    <a:pt x="16128" y="12124"/>
                    <a:pt x="16106" y="11845"/>
                  </a:cubicBezTo>
                  <a:cubicBezTo>
                    <a:pt x="16084" y="11566"/>
                    <a:pt x="16062" y="11253"/>
                    <a:pt x="16062" y="10974"/>
                  </a:cubicBezTo>
                  <a:cubicBezTo>
                    <a:pt x="16062" y="10870"/>
                    <a:pt x="16062" y="10730"/>
                    <a:pt x="16062" y="10626"/>
                  </a:cubicBezTo>
                  <a:cubicBezTo>
                    <a:pt x="16062" y="10521"/>
                    <a:pt x="16062" y="10382"/>
                    <a:pt x="16062" y="10277"/>
                  </a:cubicBezTo>
                  <a:lnTo>
                    <a:pt x="15621" y="10277"/>
                  </a:lnTo>
                  <a:lnTo>
                    <a:pt x="13437" y="10277"/>
                  </a:lnTo>
                  <a:cubicBezTo>
                    <a:pt x="13437" y="9999"/>
                    <a:pt x="13415" y="9685"/>
                    <a:pt x="13392" y="9406"/>
                  </a:cubicBezTo>
                  <a:cubicBezTo>
                    <a:pt x="13370" y="9128"/>
                    <a:pt x="13348" y="8814"/>
                    <a:pt x="13304" y="8535"/>
                  </a:cubicBezTo>
                  <a:cubicBezTo>
                    <a:pt x="13238" y="8083"/>
                    <a:pt x="13172" y="7630"/>
                    <a:pt x="13084" y="7177"/>
                  </a:cubicBezTo>
                  <a:cubicBezTo>
                    <a:pt x="13084" y="7142"/>
                    <a:pt x="13061" y="7107"/>
                    <a:pt x="13061" y="7072"/>
                  </a:cubicBezTo>
                  <a:cubicBezTo>
                    <a:pt x="13039" y="6968"/>
                    <a:pt x="13017" y="6863"/>
                    <a:pt x="12995" y="6759"/>
                  </a:cubicBezTo>
                  <a:cubicBezTo>
                    <a:pt x="12973" y="6689"/>
                    <a:pt x="12951" y="6619"/>
                    <a:pt x="12951" y="6550"/>
                  </a:cubicBezTo>
                  <a:cubicBezTo>
                    <a:pt x="12929" y="6480"/>
                    <a:pt x="12907" y="6410"/>
                    <a:pt x="12907" y="6341"/>
                  </a:cubicBezTo>
                  <a:cubicBezTo>
                    <a:pt x="12885" y="6236"/>
                    <a:pt x="12841" y="6132"/>
                    <a:pt x="12819" y="6027"/>
                  </a:cubicBezTo>
                  <a:cubicBezTo>
                    <a:pt x="12819" y="5992"/>
                    <a:pt x="12797" y="5957"/>
                    <a:pt x="12797" y="5957"/>
                  </a:cubicBezTo>
                  <a:cubicBezTo>
                    <a:pt x="12488" y="4912"/>
                    <a:pt x="12047" y="3972"/>
                    <a:pt x="11517" y="3101"/>
                  </a:cubicBezTo>
                  <a:cubicBezTo>
                    <a:pt x="10988" y="2265"/>
                    <a:pt x="10370" y="1568"/>
                    <a:pt x="9708" y="1080"/>
                  </a:cubicBezTo>
                  <a:cubicBezTo>
                    <a:pt x="9686" y="1080"/>
                    <a:pt x="9664" y="1045"/>
                    <a:pt x="9642" y="1045"/>
                  </a:cubicBezTo>
                  <a:cubicBezTo>
                    <a:pt x="9575" y="1010"/>
                    <a:pt x="9509" y="941"/>
                    <a:pt x="9443" y="906"/>
                  </a:cubicBezTo>
                  <a:cubicBezTo>
                    <a:pt x="9399" y="871"/>
                    <a:pt x="9355" y="836"/>
                    <a:pt x="9311" y="801"/>
                  </a:cubicBezTo>
                  <a:cubicBezTo>
                    <a:pt x="9267" y="766"/>
                    <a:pt x="9222" y="732"/>
                    <a:pt x="9178" y="732"/>
                  </a:cubicBezTo>
                  <a:cubicBezTo>
                    <a:pt x="9112" y="697"/>
                    <a:pt x="9046" y="662"/>
                    <a:pt x="8980" y="627"/>
                  </a:cubicBezTo>
                  <a:cubicBezTo>
                    <a:pt x="8958" y="627"/>
                    <a:pt x="8936" y="592"/>
                    <a:pt x="8914" y="592"/>
                  </a:cubicBezTo>
                  <a:cubicBezTo>
                    <a:pt x="8230" y="209"/>
                    <a:pt x="7502" y="0"/>
                    <a:pt x="6729" y="0"/>
                  </a:cubicBezTo>
                  <a:cubicBezTo>
                    <a:pt x="5957" y="0"/>
                    <a:pt x="5229" y="209"/>
                    <a:pt x="4545" y="592"/>
                  </a:cubicBezTo>
                  <a:cubicBezTo>
                    <a:pt x="4523" y="592"/>
                    <a:pt x="4501" y="627"/>
                    <a:pt x="4501" y="627"/>
                  </a:cubicBezTo>
                  <a:cubicBezTo>
                    <a:pt x="4435" y="662"/>
                    <a:pt x="4369" y="697"/>
                    <a:pt x="4302" y="732"/>
                  </a:cubicBezTo>
                  <a:cubicBezTo>
                    <a:pt x="4258" y="766"/>
                    <a:pt x="4214" y="766"/>
                    <a:pt x="4170" y="801"/>
                  </a:cubicBezTo>
                  <a:cubicBezTo>
                    <a:pt x="4126" y="836"/>
                    <a:pt x="4082" y="871"/>
                    <a:pt x="4038" y="906"/>
                  </a:cubicBezTo>
                  <a:cubicBezTo>
                    <a:pt x="3971" y="941"/>
                    <a:pt x="3905" y="1010"/>
                    <a:pt x="3839" y="1045"/>
                  </a:cubicBezTo>
                  <a:cubicBezTo>
                    <a:pt x="3817" y="1045"/>
                    <a:pt x="3795" y="1080"/>
                    <a:pt x="3773" y="1080"/>
                  </a:cubicBezTo>
                  <a:cubicBezTo>
                    <a:pt x="3133" y="1568"/>
                    <a:pt x="2515" y="2265"/>
                    <a:pt x="1964" y="3101"/>
                  </a:cubicBezTo>
                  <a:lnTo>
                    <a:pt x="1964" y="3101"/>
                  </a:lnTo>
                  <a:cubicBezTo>
                    <a:pt x="750" y="5017"/>
                    <a:pt x="0" y="7665"/>
                    <a:pt x="0" y="10591"/>
                  </a:cubicBezTo>
                  <a:cubicBezTo>
                    <a:pt x="0" y="13517"/>
                    <a:pt x="750" y="16165"/>
                    <a:pt x="1964" y="18081"/>
                  </a:cubicBezTo>
                  <a:lnTo>
                    <a:pt x="1964" y="18081"/>
                  </a:lnTo>
                  <a:cubicBezTo>
                    <a:pt x="2493" y="18917"/>
                    <a:pt x="3111" y="19614"/>
                    <a:pt x="3773" y="20102"/>
                  </a:cubicBezTo>
                  <a:cubicBezTo>
                    <a:pt x="3795" y="20102"/>
                    <a:pt x="3817" y="20137"/>
                    <a:pt x="3839" y="20137"/>
                  </a:cubicBezTo>
                  <a:cubicBezTo>
                    <a:pt x="3905" y="20172"/>
                    <a:pt x="3971" y="20241"/>
                    <a:pt x="4038" y="20276"/>
                  </a:cubicBezTo>
                  <a:cubicBezTo>
                    <a:pt x="4082" y="20311"/>
                    <a:pt x="4126" y="20346"/>
                    <a:pt x="4170" y="20346"/>
                  </a:cubicBezTo>
                  <a:cubicBezTo>
                    <a:pt x="4214" y="20381"/>
                    <a:pt x="4258" y="20415"/>
                    <a:pt x="4302" y="20415"/>
                  </a:cubicBezTo>
                  <a:cubicBezTo>
                    <a:pt x="4369" y="20450"/>
                    <a:pt x="4435" y="20485"/>
                    <a:pt x="4501" y="20520"/>
                  </a:cubicBezTo>
                  <a:cubicBezTo>
                    <a:pt x="4523" y="20520"/>
                    <a:pt x="4545" y="20555"/>
                    <a:pt x="4567" y="20555"/>
                  </a:cubicBezTo>
                  <a:cubicBezTo>
                    <a:pt x="4766" y="20659"/>
                    <a:pt x="4964" y="20764"/>
                    <a:pt x="5163" y="20834"/>
                  </a:cubicBezTo>
                  <a:cubicBezTo>
                    <a:pt x="5295" y="20868"/>
                    <a:pt x="5428" y="20729"/>
                    <a:pt x="5428" y="20485"/>
                  </a:cubicBezTo>
                  <a:lnTo>
                    <a:pt x="5428" y="20485"/>
                  </a:lnTo>
                  <a:cubicBezTo>
                    <a:pt x="5428" y="20311"/>
                    <a:pt x="5361" y="20172"/>
                    <a:pt x="5251" y="20137"/>
                  </a:cubicBezTo>
                  <a:cubicBezTo>
                    <a:pt x="5075" y="20067"/>
                    <a:pt x="4898" y="19997"/>
                    <a:pt x="4722" y="19893"/>
                  </a:cubicBezTo>
                  <a:cubicBezTo>
                    <a:pt x="4699" y="19893"/>
                    <a:pt x="4677" y="19858"/>
                    <a:pt x="4655" y="19858"/>
                  </a:cubicBezTo>
                  <a:cubicBezTo>
                    <a:pt x="4589" y="19823"/>
                    <a:pt x="4545" y="19788"/>
                    <a:pt x="4479" y="19754"/>
                  </a:cubicBezTo>
                  <a:cubicBezTo>
                    <a:pt x="4435" y="19719"/>
                    <a:pt x="4391" y="19719"/>
                    <a:pt x="4346" y="19684"/>
                  </a:cubicBezTo>
                  <a:cubicBezTo>
                    <a:pt x="4302" y="19649"/>
                    <a:pt x="4280" y="19649"/>
                    <a:pt x="4236" y="19614"/>
                  </a:cubicBezTo>
                  <a:cubicBezTo>
                    <a:pt x="4170" y="19579"/>
                    <a:pt x="4104" y="19510"/>
                    <a:pt x="4038" y="19475"/>
                  </a:cubicBezTo>
                  <a:cubicBezTo>
                    <a:pt x="4016" y="19475"/>
                    <a:pt x="4016" y="19440"/>
                    <a:pt x="3993" y="19440"/>
                  </a:cubicBezTo>
                  <a:cubicBezTo>
                    <a:pt x="1897" y="17837"/>
                    <a:pt x="463" y="14458"/>
                    <a:pt x="463" y="10521"/>
                  </a:cubicBezTo>
                  <a:cubicBezTo>
                    <a:pt x="463" y="6585"/>
                    <a:pt x="1897" y="3240"/>
                    <a:pt x="3993" y="1603"/>
                  </a:cubicBezTo>
                  <a:cubicBezTo>
                    <a:pt x="4016" y="1603"/>
                    <a:pt x="4016" y="1568"/>
                    <a:pt x="4038" y="1568"/>
                  </a:cubicBezTo>
                  <a:cubicBezTo>
                    <a:pt x="4104" y="1533"/>
                    <a:pt x="4170" y="1463"/>
                    <a:pt x="4236" y="1428"/>
                  </a:cubicBezTo>
                  <a:cubicBezTo>
                    <a:pt x="4280" y="1394"/>
                    <a:pt x="4302" y="1394"/>
                    <a:pt x="4346" y="1359"/>
                  </a:cubicBezTo>
                  <a:cubicBezTo>
                    <a:pt x="4391" y="1324"/>
                    <a:pt x="4435" y="1289"/>
                    <a:pt x="4479" y="1289"/>
                  </a:cubicBezTo>
                  <a:cubicBezTo>
                    <a:pt x="4545" y="1254"/>
                    <a:pt x="4589" y="1219"/>
                    <a:pt x="4655" y="1185"/>
                  </a:cubicBezTo>
                  <a:cubicBezTo>
                    <a:pt x="4677" y="1185"/>
                    <a:pt x="4700" y="1150"/>
                    <a:pt x="4722" y="1150"/>
                  </a:cubicBezTo>
                  <a:cubicBezTo>
                    <a:pt x="6045" y="453"/>
                    <a:pt x="7479" y="453"/>
                    <a:pt x="8781" y="1150"/>
                  </a:cubicBezTo>
                  <a:cubicBezTo>
                    <a:pt x="8803" y="1150"/>
                    <a:pt x="8825" y="1185"/>
                    <a:pt x="8847" y="1185"/>
                  </a:cubicBezTo>
                  <a:cubicBezTo>
                    <a:pt x="8914" y="1219"/>
                    <a:pt x="8958" y="1254"/>
                    <a:pt x="9024" y="1289"/>
                  </a:cubicBezTo>
                  <a:cubicBezTo>
                    <a:pt x="9068" y="1324"/>
                    <a:pt x="9112" y="1359"/>
                    <a:pt x="9156" y="1359"/>
                  </a:cubicBezTo>
                  <a:cubicBezTo>
                    <a:pt x="9200" y="1394"/>
                    <a:pt x="9222" y="1394"/>
                    <a:pt x="9267" y="1428"/>
                  </a:cubicBezTo>
                  <a:cubicBezTo>
                    <a:pt x="9333" y="1463"/>
                    <a:pt x="9399" y="1533"/>
                    <a:pt x="9465" y="1568"/>
                  </a:cubicBezTo>
                  <a:cubicBezTo>
                    <a:pt x="9487" y="1568"/>
                    <a:pt x="9487" y="1603"/>
                    <a:pt x="9509" y="1603"/>
                  </a:cubicBezTo>
                  <a:cubicBezTo>
                    <a:pt x="10767" y="2578"/>
                    <a:pt x="11804" y="4181"/>
                    <a:pt x="12400" y="6166"/>
                  </a:cubicBezTo>
                  <a:cubicBezTo>
                    <a:pt x="12400" y="6201"/>
                    <a:pt x="12422" y="6201"/>
                    <a:pt x="12422" y="6236"/>
                  </a:cubicBezTo>
                  <a:cubicBezTo>
                    <a:pt x="12444" y="6341"/>
                    <a:pt x="12488" y="6445"/>
                    <a:pt x="12510" y="6550"/>
                  </a:cubicBezTo>
                  <a:cubicBezTo>
                    <a:pt x="12532" y="6619"/>
                    <a:pt x="12532" y="6654"/>
                    <a:pt x="12554" y="6724"/>
                  </a:cubicBezTo>
                  <a:cubicBezTo>
                    <a:pt x="12576" y="6794"/>
                    <a:pt x="12598" y="6863"/>
                    <a:pt x="12598" y="6933"/>
                  </a:cubicBezTo>
                  <a:cubicBezTo>
                    <a:pt x="12620" y="7037"/>
                    <a:pt x="12642" y="7107"/>
                    <a:pt x="12664" y="7212"/>
                  </a:cubicBezTo>
                  <a:cubicBezTo>
                    <a:pt x="12664" y="7246"/>
                    <a:pt x="12686" y="7281"/>
                    <a:pt x="12686" y="7316"/>
                  </a:cubicBezTo>
                  <a:cubicBezTo>
                    <a:pt x="12708" y="7455"/>
                    <a:pt x="12731" y="7560"/>
                    <a:pt x="12753" y="7699"/>
                  </a:cubicBezTo>
                  <a:cubicBezTo>
                    <a:pt x="12753" y="7699"/>
                    <a:pt x="12753" y="7699"/>
                    <a:pt x="12753" y="7699"/>
                  </a:cubicBezTo>
                  <a:cubicBezTo>
                    <a:pt x="12797" y="7943"/>
                    <a:pt x="12841" y="8187"/>
                    <a:pt x="12863" y="8431"/>
                  </a:cubicBezTo>
                  <a:cubicBezTo>
                    <a:pt x="12907" y="8710"/>
                    <a:pt x="12929" y="9023"/>
                    <a:pt x="12951" y="9302"/>
                  </a:cubicBezTo>
                  <a:cubicBezTo>
                    <a:pt x="12973" y="9581"/>
                    <a:pt x="12995" y="9894"/>
                    <a:pt x="12995" y="10173"/>
                  </a:cubicBezTo>
                  <a:cubicBezTo>
                    <a:pt x="12995" y="10417"/>
                    <a:pt x="12995" y="10626"/>
                    <a:pt x="12995" y="10870"/>
                  </a:cubicBezTo>
                  <a:lnTo>
                    <a:pt x="13437" y="10870"/>
                  </a:lnTo>
                  <a:lnTo>
                    <a:pt x="15621" y="10870"/>
                  </a:lnTo>
                  <a:cubicBezTo>
                    <a:pt x="15621" y="11148"/>
                    <a:pt x="15643" y="11462"/>
                    <a:pt x="15665" y="11741"/>
                  </a:cubicBezTo>
                  <a:cubicBezTo>
                    <a:pt x="15687" y="12019"/>
                    <a:pt x="15709" y="12333"/>
                    <a:pt x="15753" y="12612"/>
                  </a:cubicBezTo>
                  <a:cubicBezTo>
                    <a:pt x="16261" y="16653"/>
                    <a:pt x="18224" y="19858"/>
                    <a:pt x="20762" y="20834"/>
                  </a:cubicBezTo>
                  <a:lnTo>
                    <a:pt x="20717" y="21286"/>
                  </a:lnTo>
                  <a:cubicBezTo>
                    <a:pt x="20695" y="21461"/>
                    <a:pt x="20828" y="21600"/>
                    <a:pt x="20938" y="21530"/>
                  </a:cubicBezTo>
                  <a:lnTo>
                    <a:pt x="21534" y="21008"/>
                  </a:lnTo>
                  <a:cubicBezTo>
                    <a:pt x="21578" y="21008"/>
                    <a:pt x="21600" y="20834"/>
                    <a:pt x="21534" y="20729"/>
                  </a:cubicBezTo>
                  <a:close/>
                </a:path>
              </a:pathLst>
            </a:custGeom>
            <a:solidFill>
              <a:srgbClr val="c7e8ae"/>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821" name="Google Shape;66;p7"/>
            <p:cNvSpPr/>
            <p:nvPr/>
          </p:nvSpPr>
          <p:spPr>
            <a:xfrm>
              <a:off x="6225480" y="1893960"/>
              <a:ext cx="1934280" cy="3058560"/>
            </a:xfrm>
            <a:custGeom>
              <a:avLst/>
              <a:gdLst/>
              <a:ahLst/>
              <a:rect l="l" t="t" r="r" b="b"/>
              <a:pathLst>
                <a:path w="21198" h="21362">
                  <a:moveTo>
                    <a:pt x="11522" y="18"/>
                  </a:moveTo>
                  <a:cubicBezTo>
                    <a:pt x="6268" y="-223"/>
                    <a:pt x="1769" y="2009"/>
                    <a:pt x="601" y="5073"/>
                  </a:cubicBezTo>
                  <a:cubicBezTo>
                    <a:pt x="533" y="5204"/>
                    <a:pt x="704" y="5336"/>
                    <a:pt x="945" y="5336"/>
                  </a:cubicBezTo>
                  <a:lnTo>
                    <a:pt x="945" y="5336"/>
                  </a:lnTo>
                  <a:cubicBezTo>
                    <a:pt x="1117" y="5336"/>
                    <a:pt x="1254" y="5270"/>
                    <a:pt x="1288" y="5161"/>
                  </a:cubicBezTo>
                  <a:cubicBezTo>
                    <a:pt x="2387" y="2294"/>
                    <a:pt x="6611" y="193"/>
                    <a:pt x="11556" y="434"/>
                  </a:cubicBezTo>
                  <a:cubicBezTo>
                    <a:pt x="16295" y="674"/>
                    <a:pt x="20175" y="3125"/>
                    <a:pt x="20519" y="6145"/>
                  </a:cubicBezTo>
                  <a:cubicBezTo>
                    <a:pt x="20897" y="9341"/>
                    <a:pt x="17463" y="12076"/>
                    <a:pt x="12827" y="12711"/>
                  </a:cubicBezTo>
                  <a:cubicBezTo>
                    <a:pt x="12552" y="12755"/>
                    <a:pt x="12243" y="12776"/>
                    <a:pt x="11968" y="12798"/>
                  </a:cubicBezTo>
                  <a:cubicBezTo>
                    <a:pt x="11693" y="12820"/>
                    <a:pt x="11384" y="12842"/>
                    <a:pt x="11110" y="12842"/>
                  </a:cubicBezTo>
                  <a:cubicBezTo>
                    <a:pt x="11007" y="12842"/>
                    <a:pt x="10869" y="12842"/>
                    <a:pt x="10766" y="12842"/>
                  </a:cubicBezTo>
                  <a:cubicBezTo>
                    <a:pt x="10663" y="12842"/>
                    <a:pt x="10526" y="12842"/>
                    <a:pt x="10423" y="12842"/>
                  </a:cubicBezTo>
                  <a:lnTo>
                    <a:pt x="10423" y="13280"/>
                  </a:lnTo>
                  <a:lnTo>
                    <a:pt x="10423" y="15446"/>
                  </a:lnTo>
                  <a:cubicBezTo>
                    <a:pt x="10148" y="15446"/>
                    <a:pt x="9839" y="15468"/>
                    <a:pt x="9564" y="15490"/>
                  </a:cubicBezTo>
                  <a:cubicBezTo>
                    <a:pt x="9290" y="15512"/>
                    <a:pt x="8980" y="15534"/>
                    <a:pt x="8706" y="15578"/>
                  </a:cubicBezTo>
                  <a:cubicBezTo>
                    <a:pt x="4722" y="16081"/>
                    <a:pt x="1563" y="18029"/>
                    <a:pt x="601" y="20524"/>
                  </a:cubicBezTo>
                  <a:lnTo>
                    <a:pt x="258" y="20480"/>
                  </a:lnTo>
                  <a:cubicBezTo>
                    <a:pt x="86" y="20458"/>
                    <a:pt x="-51" y="20589"/>
                    <a:pt x="18" y="20699"/>
                  </a:cubicBezTo>
                  <a:lnTo>
                    <a:pt x="533" y="21289"/>
                  </a:lnTo>
                  <a:cubicBezTo>
                    <a:pt x="601" y="21377"/>
                    <a:pt x="773" y="21377"/>
                    <a:pt x="876" y="21333"/>
                  </a:cubicBezTo>
                  <a:lnTo>
                    <a:pt x="1666" y="20874"/>
                  </a:lnTo>
                  <a:cubicBezTo>
                    <a:pt x="1803" y="20786"/>
                    <a:pt x="1735" y="20655"/>
                    <a:pt x="1563" y="20633"/>
                  </a:cubicBezTo>
                  <a:lnTo>
                    <a:pt x="1254" y="20611"/>
                  </a:lnTo>
                  <a:cubicBezTo>
                    <a:pt x="2147" y="18335"/>
                    <a:pt x="5031" y="16541"/>
                    <a:pt x="8671" y="16037"/>
                  </a:cubicBezTo>
                  <a:cubicBezTo>
                    <a:pt x="8946" y="15993"/>
                    <a:pt x="9255" y="15972"/>
                    <a:pt x="9530" y="15950"/>
                  </a:cubicBezTo>
                  <a:cubicBezTo>
                    <a:pt x="9805" y="15928"/>
                    <a:pt x="10114" y="15906"/>
                    <a:pt x="10388" y="15906"/>
                  </a:cubicBezTo>
                  <a:cubicBezTo>
                    <a:pt x="10491" y="15906"/>
                    <a:pt x="10629" y="15906"/>
                    <a:pt x="10732" y="15906"/>
                  </a:cubicBezTo>
                  <a:cubicBezTo>
                    <a:pt x="10835" y="15906"/>
                    <a:pt x="10972" y="15906"/>
                    <a:pt x="11075" y="15906"/>
                  </a:cubicBezTo>
                  <a:lnTo>
                    <a:pt x="11075" y="15468"/>
                  </a:lnTo>
                  <a:lnTo>
                    <a:pt x="11075" y="13302"/>
                  </a:lnTo>
                  <a:cubicBezTo>
                    <a:pt x="11350" y="13302"/>
                    <a:pt x="11659" y="13280"/>
                    <a:pt x="11934" y="13258"/>
                  </a:cubicBezTo>
                  <a:cubicBezTo>
                    <a:pt x="12208" y="13236"/>
                    <a:pt x="12518" y="13214"/>
                    <a:pt x="12792" y="13170"/>
                  </a:cubicBezTo>
                  <a:cubicBezTo>
                    <a:pt x="17806" y="12536"/>
                    <a:pt x="21549" y="9581"/>
                    <a:pt x="21171" y="6145"/>
                  </a:cubicBezTo>
                  <a:cubicBezTo>
                    <a:pt x="20794" y="2906"/>
                    <a:pt x="16638" y="258"/>
                    <a:pt x="11522" y="18"/>
                  </a:cubicBezTo>
                  <a:close/>
                </a:path>
              </a:pathLst>
            </a:custGeom>
            <a:solidFill>
              <a:srgbClr val="f4fcb6"/>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822" name="Google Shape;67;p7"/>
            <p:cNvSpPr/>
            <p:nvPr/>
          </p:nvSpPr>
          <p:spPr>
            <a:xfrm>
              <a:off x="5066280" y="4087440"/>
              <a:ext cx="3071160" cy="1940400"/>
            </a:xfrm>
            <a:custGeom>
              <a:avLst/>
              <a:gdLst/>
              <a:ahLst/>
              <a:rect l="l" t="t" r="r" b="b"/>
              <a:pathLst>
                <a:path w="21363" h="21199">
                  <a:moveTo>
                    <a:pt x="16049" y="977"/>
                  </a:moveTo>
                  <a:lnTo>
                    <a:pt x="16049" y="977"/>
                  </a:lnTo>
                  <a:cubicBezTo>
                    <a:pt x="16049" y="1148"/>
                    <a:pt x="16114" y="1285"/>
                    <a:pt x="16223" y="1319"/>
                  </a:cubicBezTo>
                  <a:cubicBezTo>
                    <a:pt x="19078" y="2415"/>
                    <a:pt x="21171" y="6625"/>
                    <a:pt x="20931" y="11554"/>
                  </a:cubicBezTo>
                  <a:cubicBezTo>
                    <a:pt x="20691" y="16278"/>
                    <a:pt x="18250" y="20147"/>
                    <a:pt x="15242" y="20489"/>
                  </a:cubicBezTo>
                  <a:cubicBezTo>
                    <a:pt x="12060" y="20865"/>
                    <a:pt x="9336" y="17442"/>
                    <a:pt x="8703" y="12821"/>
                  </a:cubicBezTo>
                  <a:cubicBezTo>
                    <a:pt x="8660" y="12547"/>
                    <a:pt x="8638" y="12239"/>
                    <a:pt x="8616" y="11965"/>
                  </a:cubicBezTo>
                  <a:cubicBezTo>
                    <a:pt x="8594" y="11691"/>
                    <a:pt x="8573" y="11383"/>
                    <a:pt x="8573" y="11109"/>
                  </a:cubicBezTo>
                  <a:cubicBezTo>
                    <a:pt x="8573" y="11007"/>
                    <a:pt x="8573" y="10870"/>
                    <a:pt x="8573" y="10767"/>
                  </a:cubicBezTo>
                  <a:cubicBezTo>
                    <a:pt x="8573" y="10664"/>
                    <a:pt x="8573" y="10528"/>
                    <a:pt x="8573" y="10425"/>
                  </a:cubicBezTo>
                  <a:lnTo>
                    <a:pt x="8137" y="10425"/>
                  </a:lnTo>
                  <a:lnTo>
                    <a:pt x="5979" y="10425"/>
                  </a:lnTo>
                  <a:cubicBezTo>
                    <a:pt x="5979" y="10151"/>
                    <a:pt x="5957" y="9843"/>
                    <a:pt x="5935" y="9569"/>
                  </a:cubicBezTo>
                  <a:cubicBezTo>
                    <a:pt x="5914" y="9295"/>
                    <a:pt x="5892" y="8987"/>
                    <a:pt x="5848" y="8713"/>
                  </a:cubicBezTo>
                  <a:cubicBezTo>
                    <a:pt x="5347" y="4708"/>
                    <a:pt x="3363" y="1525"/>
                    <a:pt x="835" y="635"/>
                  </a:cubicBezTo>
                  <a:lnTo>
                    <a:pt x="879" y="258"/>
                  </a:lnTo>
                  <a:cubicBezTo>
                    <a:pt x="900" y="87"/>
                    <a:pt x="770" y="-50"/>
                    <a:pt x="661" y="18"/>
                  </a:cubicBezTo>
                  <a:lnTo>
                    <a:pt x="72" y="532"/>
                  </a:lnTo>
                  <a:cubicBezTo>
                    <a:pt x="-15" y="600"/>
                    <a:pt x="-15" y="772"/>
                    <a:pt x="29" y="874"/>
                  </a:cubicBezTo>
                  <a:lnTo>
                    <a:pt x="486" y="1662"/>
                  </a:lnTo>
                  <a:cubicBezTo>
                    <a:pt x="573" y="1798"/>
                    <a:pt x="704" y="1730"/>
                    <a:pt x="726" y="1559"/>
                  </a:cubicBezTo>
                  <a:lnTo>
                    <a:pt x="748" y="1285"/>
                  </a:lnTo>
                  <a:cubicBezTo>
                    <a:pt x="3058" y="2141"/>
                    <a:pt x="4867" y="5050"/>
                    <a:pt x="5369" y="8713"/>
                  </a:cubicBezTo>
                  <a:cubicBezTo>
                    <a:pt x="5412" y="8987"/>
                    <a:pt x="5434" y="9295"/>
                    <a:pt x="5456" y="9569"/>
                  </a:cubicBezTo>
                  <a:cubicBezTo>
                    <a:pt x="5478" y="9843"/>
                    <a:pt x="5499" y="10151"/>
                    <a:pt x="5499" y="10425"/>
                  </a:cubicBezTo>
                  <a:cubicBezTo>
                    <a:pt x="5499" y="10527"/>
                    <a:pt x="5499" y="10664"/>
                    <a:pt x="5499" y="10767"/>
                  </a:cubicBezTo>
                  <a:cubicBezTo>
                    <a:pt x="5499" y="10870"/>
                    <a:pt x="5499" y="11007"/>
                    <a:pt x="5499" y="11109"/>
                  </a:cubicBezTo>
                  <a:lnTo>
                    <a:pt x="5935" y="11109"/>
                  </a:lnTo>
                  <a:lnTo>
                    <a:pt x="8093" y="11109"/>
                  </a:lnTo>
                  <a:cubicBezTo>
                    <a:pt x="8093" y="11383"/>
                    <a:pt x="8115" y="11691"/>
                    <a:pt x="8137" y="11965"/>
                  </a:cubicBezTo>
                  <a:cubicBezTo>
                    <a:pt x="8159" y="12239"/>
                    <a:pt x="8180" y="12547"/>
                    <a:pt x="8224" y="12821"/>
                  </a:cubicBezTo>
                  <a:cubicBezTo>
                    <a:pt x="8856" y="17819"/>
                    <a:pt x="11799" y="21550"/>
                    <a:pt x="15221" y="21173"/>
                  </a:cubicBezTo>
                  <a:cubicBezTo>
                    <a:pt x="18468" y="20797"/>
                    <a:pt x="21105" y="16655"/>
                    <a:pt x="21345" y="11554"/>
                  </a:cubicBezTo>
                  <a:cubicBezTo>
                    <a:pt x="21585" y="6317"/>
                    <a:pt x="19362" y="1833"/>
                    <a:pt x="16310" y="669"/>
                  </a:cubicBezTo>
                  <a:cubicBezTo>
                    <a:pt x="16180" y="600"/>
                    <a:pt x="16049" y="772"/>
                    <a:pt x="16049" y="977"/>
                  </a:cubicBezTo>
                  <a:close/>
                </a:path>
              </a:pathLst>
            </a:custGeom>
            <a:solidFill>
              <a:srgbClr val="7c8ffb"/>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823" name="Google Shape;68;p7"/>
            <p:cNvSpPr/>
            <p:nvPr/>
          </p:nvSpPr>
          <p:spPr>
            <a:xfrm>
              <a:off x="4032360" y="2959200"/>
              <a:ext cx="1938600" cy="3058560"/>
            </a:xfrm>
            <a:custGeom>
              <a:avLst/>
              <a:gdLst/>
              <a:ahLst/>
              <a:rect l="l" t="t" r="r" b="b"/>
              <a:pathLst>
                <a:path w="21181" h="21362">
                  <a:moveTo>
                    <a:pt x="21147" y="663"/>
                  </a:moveTo>
                  <a:lnTo>
                    <a:pt x="20634" y="73"/>
                  </a:lnTo>
                  <a:cubicBezTo>
                    <a:pt x="20565" y="-15"/>
                    <a:pt x="20394" y="-15"/>
                    <a:pt x="20292" y="29"/>
                  </a:cubicBezTo>
                  <a:lnTo>
                    <a:pt x="19504" y="488"/>
                  </a:lnTo>
                  <a:cubicBezTo>
                    <a:pt x="19367" y="576"/>
                    <a:pt x="19436" y="707"/>
                    <a:pt x="19607" y="729"/>
                  </a:cubicBezTo>
                  <a:lnTo>
                    <a:pt x="19847" y="751"/>
                  </a:lnTo>
                  <a:cubicBezTo>
                    <a:pt x="19436" y="1801"/>
                    <a:pt x="18580" y="2808"/>
                    <a:pt x="17313" y="3618"/>
                  </a:cubicBezTo>
                  <a:cubicBezTo>
                    <a:pt x="15944" y="4493"/>
                    <a:pt x="14267" y="5062"/>
                    <a:pt x="12487" y="5303"/>
                  </a:cubicBezTo>
                  <a:cubicBezTo>
                    <a:pt x="12213" y="5347"/>
                    <a:pt x="11905" y="5369"/>
                    <a:pt x="11631" y="5390"/>
                  </a:cubicBezTo>
                  <a:cubicBezTo>
                    <a:pt x="11357" y="5412"/>
                    <a:pt x="11049" y="5434"/>
                    <a:pt x="10775" y="5434"/>
                  </a:cubicBezTo>
                  <a:cubicBezTo>
                    <a:pt x="10536" y="5434"/>
                    <a:pt x="10330" y="5434"/>
                    <a:pt x="10091" y="5434"/>
                  </a:cubicBezTo>
                  <a:lnTo>
                    <a:pt x="10091" y="5872"/>
                  </a:lnTo>
                  <a:lnTo>
                    <a:pt x="10091" y="8038"/>
                  </a:lnTo>
                  <a:cubicBezTo>
                    <a:pt x="9817" y="8038"/>
                    <a:pt x="9509" y="8060"/>
                    <a:pt x="9235" y="8082"/>
                  </a:cubicBezTo>
                  <a:cubicBezTo>
                    <a:pt x="8961" y="8104"/>
                    <a:pt x="8653" y="8126"/>
                    <a:pt x="8379" y="8170"/>
                  </a:cubicBezTo>
                  <a:cubicBezTo>
                    <a:pt x="3381" y="8804"/>
                    <a:pt x="-350" y="11759"/>
                    <a:pt x="27" y="15195"/>
                  </a:cubicBezTo>
                  <a:cubicBezTo>
                    <a:pt x="403" y="18456"/>
                    <a:pt x="4545" y="21104"/>
                    <a:pt x="9646" y="21344"/>
                  </a:cubicBezTo>
                  <a:cubicBezTo>
                    <a:pt x="14883" y="21585"/>
                    <a:pt x="19367" y="19353"/>
                    <a:pt x="20531" y="16289"/>
                  </a:cubicBezTo>
                  <a:cubicBezTo>
                    <a:pt x="20600" y="16158"/>
                    <a:pt x="20428" y="16026"/>
                    <a:pt x="20189" y="16026"/>
                  </a:cubicBezTo>
                  <a:lnTo>
                    <a:pt x="20189" y="16026"/>
                  </a:lnTo>
                  <a:cubicBezTo>
                    <a:pt x="20018" y="16026"/>
                    <a:pt x="19881" y="16092"/>
                    <a:pt x="19847" y="16201"/>
                  </a:cubicBezTo>
                  <a:cubicBezTo>
                    <a:pt x="18751" y="19068"/>
                    <a:pt x="14541" y="21169"/>
                    <a:pt x="9611" y="20928"/>
                  </a:cubicBezTo>
                  <a:cubicBezTo>
                    <a:pt x="4887" y="20688"/>
                    <a:pt x="1019" y="18237"/>
                    <a:pt x="677" y="15217"/>
                  </a:cubicBezTo>
                  <a:cubicBezTo>
                    <a:pt x="300" y="12021"/>
                    <a:pt x="3724" y="9286"/>
                    <a:pt x="8345" y="8651"/>
                  </a:cubicBezTo>
                  <a:cubicBezTo>
                    <a:pt x="8619" y="8607"/>
                    <a:pt x="8927" y="8586"/>
                    <a:pt x="9201" y="8564"/>
                  </a:cubicBezTo>
                  <a:cubicBezTo>
                    <a:pt x="9474" y="8542"/>
                    <a:pt x="9782" y="8520"/>
                    <a:pt x="10056" y="8520"/>
                  </a:cubicBezTo>
                  <a:cubicBezTo>
                    <a:pt x="10159" y="8520"/>
                    <a:pt x="10296" y="8520"/>
                    <a:pt x="10399" y="8520"/>
                  </a:cubicBezTo>
                  <a:cubicBezTo>
                    <a:pt x="10501" y="8520"/>
                    <a:pt x="10638" y="8520"/>
                    <a:pt x="10741" y="8520"/>
                  </a:cubicBezTo>
                  <a:lnTo>
                    <a:pt x="10741" y="8082"/>
                  </a:lnTo>
                  <a:lnTo>
                    <a:pt x="10741" y="5916"/>
                  </a:lnTo>
                  <a:cubicBezTo>
                    <a:pt x="11015" y="5916"/>
                    <a:pt x="11323" y="5894"/>
                    <a:pt x="11597" y="5872"/>
                  </a:cubicBezTo>
                  <a:cubicBezTo>
                    <a:pt x="11871" y="5850"/>
                    <a:pt x="12179" y="5828"/>
                    <a:pt x="12453" y="5784"/>
                  </a:cubicBezTo>
                  <a:cubicBezTo>
                    <a:pt x="14404" y="5544"/>
                    <a:pt x="16252" y="4931"/>
                    <a:pt x="17758" y="3968"/>
                  </a:cubicBezTo>
                  <a:cubicBezTo>
                    <a:pt x="19162" y="3071"/>
                    <a:pt x="20052" y="1998"/>
                    <a:pt x="20497" y="860"/>
                  </a:cubicBezTo>
                  <a:lnTo>
                    <a:pt x="20873" y="904"/>
                  </a:lnTo>
                  <a:cubicBezTo>
                    <a:pt x="21113" y="904"/>
                    <a:pt x="21250" y="773"/>
                    <a:pt x="21147" y="663"/>
                  </a:cubicBezTo>
                  <a:close/>
                </a:path>
              </a:pathLst>
            </a:custGeom>
            <a:solidFill>
              <a:srgbClr val="97fff7"/>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grpSp>
      <p:grpSp>
        <p:nvGrpSpPr>
          <p:cNvPr id="1824" name="Group 40"/>
          <p:cNvGrpSpPr/>
          <p:nvPr/>
        </p:nvGrpSpPr>
        <p:grpSpPr>
          <a:xfrm>
            <a:off x="1461960" y="2259000"/>
            <a:ext cx="2148120" cy="1428480"/>
            <a:chOff x="1461960" y="2259000"/>
            <a:chExt cx="2148120" cy="1428480"/>
          </a:xfrm>
        </p:grpSpPr>
        <p:sp>
          <p:nvSpPr>
            <p:cNvPr id="1825" name="TextBox 20"/>
            <p:cNvSpPr/>
            <p:nvPr/>
          </p:nvSpPr>
          <p:spPr>
            <a:xfrm>
              <a:off x="1461960" y="2589840"/>
              <a:ext cx="2148120" cy="1097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Viverra orci sagittis eu volutpat facilisis mauris sit amet massa commodo sed egestas egestas</a:t>
              </a:r>
              <a:endParaRPr b="0" lang="en-US" sz="1100" spc="-1" strike="noStrike">
                <a:solidFill>
                  <a:srgbClr val="000000"/>
                </a:solidFill>
                <a:latin typeface="Calibri"/>
              </a:endParaRPr>
            </a:p>
          </p:txBody>
        </p:sp>
        <p:sp>
          <p:nvSpPr>
            <p:cNvPr id="1826" name="TextBox 28"/>
            <p:cNvSpPr/>
            <p:nvPr/>
          </p:nvSpPr>
          <p:spPr>
            <a:xfrm>
              <a:off x="2597760" y="2259000"/>
              <a:ext cx="10123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Subtitle 1</a:t>
              </a:r>
              <a:endParaRPr b="0" lang="en-US" sz="1400" spc="-1" strike="noStrike">
                <a:solidFill>
                  <a:srgbClr val="000000"/>
                </a:solidFill>
                <a:latin typeface="Calibri"/>
              </a:endParaRPr>
            </a:p>
          </p:txBody>
        </p:sp>
      </p:grpSp>
      <p:grpSp>
        <p:nvGrpSpPr>
          <p:cNvPr id="1827" name="Group 39"/>
          <p:cNvGrpSpPr/>
          <p:nvPr/>
        </p:nvGrpSpPr>
        <p:grpSpPr>
          <a:xfrm>
            <a:off x="8582040" y="2259000"/>
            <a:ext cx="2147760" cy="1428480"/>
            <a:chOff x="8582040" y="2259000"/>
            <a:chExt cx="2147760" cy="1428480"/>
          </a:xfrm>
        </p:grpSpPr>
        <p:sp>
          <p:nvSpPr>
            <p:cNvPr id="1828" name="TextBox 24"/>
            <p:cNvSpPr/>
            <p:nvPr/>
          </p:nvSpPr>
          <p:spPr>
            <a:xfrm>
              <a:off x="8582040" y="2589840"/>
              <a:ext cx="21477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Viverra orci sagittis eu volutpat facilisis mauris sit amet massa commodo sed egestas egestas</a:t>
              </a:r>
              <a:endParaRPr b="0" lang="en-US" sz="1100" spc="-1" strike="noStrike">
                <a:solidFill>
                  <a:srgbClr val="000000"/>
                </a:solidFill>
                <a:latin typeface="Calibri"/>
              </a:endParaRPr>
            </a:p>
          </p:txBody>
        </p:sp>
        <p:sp>
          <p:nvSpPr>
            <p:cNvPr id="1829" name="TextBox 29"/>
            <p:cNvSpPr/>
            <p:nvPr/>
          </p:nvSpPr>
          <p:spPr>
            <a:xfrm>
              <a:off x="8582040" y="2259000"/>
              <a:ext cx="1012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Subtitle 2</a:t>
              </a:r>
              <a:endParaRPr b="0" lang="en-US" sz="1400" spc="-1" strike="noStrike">
                <a:solidFill>
                  <a:srgbClr val="000000"/>
                </a:solidFill>
                <a:latin typeface="Calibri"/>
              </a:endParaRPr>
            </a:p>
          </p:txBody>
        </p:sp>
      </p:grpSp>
      <p:grpSp>
        <p:nvGrpSpPr>
          <p:cNvPr id="1830" name="Group 37"/>
          <p:cNvGrpSpPr/>
          <p:nvPr/>
        </p:nvGrpSpPr>
        <p:grpSpPr>
          <a:xfrm>
            <a:off x="1461960" y="4505400"/>
            <a:ext cx="2148120" cy="1427760"/>
            <a:chOff x="1461960" y="4505400"/>
            <a:chExt cx="2148120" cy="1427760"/>
          </a:xfrm>
        </p:grpSpPr>
        <p:sp>
          <p:nvSpPr>
            <p:cNvPr id="1831" name="TextBox 22"/>
            <p:cNvSpPr/>
            <p:nvPr/>
          </p:nvSpPr>
          <p:spPr>
            <a:xfrm>
              <a:off x="1461960" y="4835520"/>
              <a:ext cx="2148120" cy="1097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Viverra orci sagittis eu volutpat facilisis mauris sit amet massa commodo sed egestas egestas</a:t>
              </a:r>
              <a:endParaRPr b="0" lang="en-US" sz="1100" spc="-1" strike="noStrike">
                <a:solidFill>
                  <a:srgbClr val="000000"/>
                </a:solidFill>
                <a:latin typeface="Calibri"/>
              </a:endParaRPr>
            </a:p>
          </p:txBody>
        </p:sp>
        <p:sp>
          <p:nvSpPr>
            <p:cNvPr id="1832" name="TextBox 30"/>
            <p:cNvSpPr/>
            <p:nvPr/>
          </p:nvSpPr>
          <p:spPr>
            <a:xfrm>
              <a:off x="2597760" y="4505400"/>
              <a:ext cx="10123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Subtitle 4</a:t>
              </a:r>
              <a:endParaRPr b="0" lang="en-US" sz="1400" spc="-1" strike="noStrike">
                <a:solidFill>
                  <a:srgbClr val="000000"/>
                </a:solidFill>
                <a:latin typeface="Calibri"/>
              </a:endParaRPr>
            </a:p>
          </p:txBody>
        </p:sp>
      </p:grpSp>
      <p:grpSp>
        <p:nvGrpSpPr>
          <p:cNvPr id="1833" name="Group 38"/>
          <p:cNvGrpSpPr/>
          <p:nvPr/>
        </p:nvGrpSpPr>
        <p:grpSpPr>
          <a:xfrm>
            <a:off x="8582040" y="4505400"/>
            <a:ext cx="2147760" cy="1427760"/>
            <a:chOff x="8582040" y="4505400"/>
            <a:chExt cx="2147760" cy="1427760"/>
          </a:xfrm>
        </p:grpSpPr>
        <p:sp>
          <p:nvSpPr>
            <p:cNvPr id="1834" name="TextBox 26"/>
            <p:cNvSpPr/>
            <p:nvPr/>
          </p:nvSpPr>
          <p:spPr>
            <a:xfrm>
              <a:off x="8582040" y="4835520"/>
              <a:ext cx="21477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Viverra orci sagittis eu volutpat facilisis mauris sit amet massa commodo sed egestas egestas</a:t>
              </a:r>
              <a:endParaRPr b="0" lang="en-US" sz="1100" spc="-1" strike="noStrike">
                <a:solidFill>
                  <a:srgbClr val="000000"/>
                </a:solidFill>
                <a:latin typeface="Calibri"/>
              </a:endParaRPr>
            </a:p>
          </p:txBody>
        </p:sp>
        <p:sp>
          <p:nvSpPr>
            <p:cNvPr id="1835" name="TextBox 31"/>
            <p:cNvSpPr/>
            <p:nvPr/>
          </p:nvSpPr>
          <p:spPr>
            <a:xfrm>
              <a:off x="8582040" y="4505400"/>
              <a:ext cx="1012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Subtitle 3</a:t>
              </a:r>
              <a:endParaRPr b="0" lang="en-US" sz="1400" spc="-1" strike="noStrike">
                <a:solidFill>
                  <a:srgbClr val="000000"/>
                </a:solidFill>
                <a:latin typeface="Calibri"/>
              </a:endParaRPr>
            </a:p>
          </p:txBody>
        </p:sp>
      </p:grpSp>
      <p:grpSp>
        <p:nvGrpSpPr>
          <p:cNvPr id="1836" name="Group 34"/>
          <p:cNvGrpSpPr/>
          <p:nvPr/>
        </p:nvGrpSpPr>
        <p:grpSpPr>
          <a:xfrm>
            <a:off x="974880" y="622440"/>
            <a:ext cx="1212840" cy="293400"/>
            <a:chOff x="974880" y="622440"/>
            <a:chExt cx="1212840" cy="293400"/>
          </a:xfrm>
        </p:grpSpPr>
        <p:sp>
          <p:nvSpPr>
            <p:cNvPr id="1837" name="TextBox 35"/>
            <p:cNvSpPr/>
            <p:nvPr/>
          </p:nvSpPr>
          <p:spPr>
            <a:xfrm>
              <a:off x="974880" y="622440"/>
              <a:ext cx="121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boto Slab Medium"/>
                  <a:ea typeface="Roboto Slab Medium"/>
                </a:rPr>
                <a:t>Educationaly </a:t>
              </a:r>
              <a:endParaRPr b="0" lang="en-US" sz="1200" spc="-1" strike="noStrike">
                <a:solidFill>
                  <a:srgbClr val="000000"/>
                </a:solidFill>
                <a:latin typeface="Calibri"/>
              </a:endParaRPr>
            </a:p>
          </p:txBody>
        </p:sp>
        <p:sp>
          <p:nvSpPr>
            <p:cNvPr id="1838" name="Graphic 1031"/>
            <p:cNvSpPr/>
            <p:nvPr/>
          </p:nvSpPr>
          <p:spPr>
            <a:xfrm>
              <a:off x="1037520" y="863640"/>
              <a:ext cx="299160" cy="52200"/>
            </a:xfrm>
            <a:custGeom>
              <a:avLst/>
              <a:gdLst/>
              <a:ahLst/>
              <a:rect l="l" t="t" r="r" b="b"/>
              <a:pathLst>
                <a:path w="760911" h="132655">
                  <a:moveTo>
                    <a:pt x="0" y="132656"/>
                  </a:moveTo>
                  <a:cubicBezTo>
                    <a:pt x="55245" y="99318"/>
                    <a:pt x="113348" y="71696"/>
                    <a:pt x="174308" y="50741"/>
                  </a:cubicBezTo>
                  <a:cubicBezTo>
                    <a:pt x="235268" y="29786"/>
                    <a:pt x="298133" y="14546"/>
                    <a:pt x="361950" y="6926"/>
                  </a:cubicBezTo>
                  <a:cubicBezTo>
                    <a:pt x="490538" y="-9267"/>
                    <a:pt x="622935" y="3116"/>
                    <a:pt x="747713" y="42168"/>
                  </a:cubicBezTo>
                  <a:cubicBezTo>
                    <a:pt x="758190" y="45026"/>
                    <a:pt x="762953" y="55503"/>
                    <a:pt x="760095" y="65981"/>
                  </a:cubicBezTo>
                  <a:cubicBezTo>
                    <a:pt x="757238" y="76458"/>
                    <a:pt x="746760" y="81221"/>
                    <a:pt x="736283" y="78363"/>
                  </a:cubicBezTo>
                  <a:cubicBezTo>
                    <a:pt x="736283" y="78363"/>
                    <a:pt x="735330" y="78363"/>
                    <a:pt x="735330" y="78363"/>
                  </a:cubicBezTo>
                  <a:cubicBezTo>
                    <a:pt x="617220" y="35501"/>
                    <a:pt x="490538" y="16451"/>
                    <a:pt x="363855" y="26928"/>
                  </a:cubicBezTo>
                  <a:cubicBezTo>
                    <a:pt x="300990" y="30738"/>
                    <a:pt x="238125" y="42168"/>
                    <a:pt x="177165" y="60266"/>
                  </a:cubicBezTo>
                  <a:cubicBezTo>
                    <a:pt x="115253" y="78363"/>
                    <a:pt x="56198" y="103128"/>
                    <a:pt x="0" y="132656"/>
                  </a:cubicBezTo>
                  <a:close/>
                </a:path>
              </a:pathLst>
            </a:custGeom>
            <a:solidFill>
              <a:srgbClr val="7c8ffb"/>
            </a:solidFill>
            <a:ln w="0">
              <a:noFill/>
            </a:ln>
          </p:spPr>
          <p:style>
            <a:lnRef idx="0"/>
            <a:fillRef idx="0"/>
            <a:effectRef idx="0"/>
            <a:fontRef idx="minor"/>
          </p:style>
          <p:txBody>
            <a:bodyPr lIns="90000" rIns="90000" tIns="5400" bIns="5400" anchor="ctr">
              <a:noAutofit/>
            </a:bodyPr>
            <a:p>
              <a:endParaRPr b="0" lang="en-US" sz="1800" spc="-1" strike="noStrike">
                <a:solidFill>
                  <a:srgbClr val="000000"/>
                </a:solidFill>
                <a:latin typeface="Calibri"/>
              </a:endParaRPr>
            </a:p>
          </p:txBody>
        </p:sp>
      </p:grpSp>
      <p:grpSp>
        <p:nvGrpSpPr>
          <p:cNvPr id="1839" name="Group 92"/>
          <p:cNvGrpSpPr/>
          <p:nvPr/>
        </p:nvGrpSpPr>
        <p:grpSpPr>
          <a:xfrm>
            <a:off x="3979800" y="1901880"/>
            <a:ext cx="658800" cy="660240"/>
            <a:chOff x="3979800" y="1901880"/>
            <a:chExt cx="658800" cy="660240"/>
          </a:xfrm>
        </p:grpSpPr>
        <p:sp>
          <p:nvSpPr>
            <p:cNvPr id="1840" name="Oval 61"/>
            <p:cNvSpPr/>
            <p:nvPr/>
          </p:nvSpPr>
          <p:spPr>
            <a:xfrm>
              <a:off x="3979800" y="1901880"/>
              <a:ext cx="658800" cy="660240"/>
            </a:xfrm>
            <a:prstGeom prst="ellipse">
              <a:avLst/>
            </a:prstGeom>
            <a:solidFill>
              <a:srgbClr val="ffffff"/>
            </a:solidFill>
            <a:ln w="0">
              <a:noFill/>
            </a:ln>
            <a:effectLst>
              <a:outerShdw dist="38183" dir="2700000" blurRad="0" rotWithShape="0">
                <a:srgbClr val="000000">
                  <a:alpha val="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41" name="Group 62"/>
            <p:cNvGrpSpPr/>
            <p:nvPr/>
          </p:nvGrpSpPr>
          <p:grpSpPr>
            <a:xfrm>
              <a:off x="4054320" y="1976760"/>
              <a:ext cx="509400" cy="510480"/>
              <a:chOff x="4054320" y="1976760"/>
              <a:chExt cx="509400" cy="510480"/>
            </a:xfrm>
          </p:grpSpPr>
          <p:sp>
            <p:nvSpPr>
              <p:cNvPr id="1842" name="Oval 63"/>
              <p:cNvSpPr/>
              <p:nvPr/>
            </p:nvSpPr>
            <p:spPr>
              <a:xfrm>
                <a:off x="4054320" y="1976760"/>
                <a:ext cx="509400" cy="510480"/>
              </a:xfrm>
              <a:prstGeom prst="ellipse">
                <a:avLst/>
              </a:prstGeom>
              <a:solidFill>
                <a:srgbClr val="c7e8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43" name="Graphic 111" descr="Female Profile"/>
              <p:cNvPicPr/>
              <p:nvPr/>
            </p:nvPicPr>
            <p:blipFill>
              <a:blip r:embed="rId1"/>
              <a:stretch/>
            </p:blipFill>
            <p:spPr>
              <a:xfrm>
                <a:off x="4228560" y="2133360"/>
                <a:ext cx="164880" cy="177840"/>
              </a:xfrm>
              <a:prstGeom prst="rect">
                <a:avLst/>
              </a:prstGeom>
              <a:ln w="0">
                <a:noFill/>
              </a:ln>
            </p:spPr>
          </p:pic>
        </p:grpSp>
      </p:grpSp>
      <p:grpSp>
        <p:nvGrpSpPr>
          <p:cNvPr id="1844" name="Group 104"/>
          <p:cNvGrpSpPr/>
          <p:nvPr/>
        </p:nvGrpSpPr>
        <p:grpSpPr>
          <a:xfrm>
            <a:off x="7488360" y="1901880"/>
            <a:ext cx="658800" cy="660240"/>
            <a:chOff x="7488360" y="1901880"/>
            <a:chExt cx="658800" cy="660240"/>
          </a:xfrm>
        </p:grpSpPr>
        <p:sp>
          <p:nvSpPr>
            <p:cNvPr id="1845" name="Oval 94"/>
            <p:cNvSpPr/>
            <p:nvPr/>
          </p:nvSpPr>
          <p:spPr>
            <a:xfrm>
              <a:off x="7488360" y="1901880"/>
              <a:ext cx="658800" cy="660240"/>
            </a:xfrm>
            <a:prstGeom prst="ellipse">
              <a:avLst/>
            </a:prstGeom>
            <a:solidFill>
              <a:srgbClr val="ffffff"/>
            </a:solidFill>
            <a:ln w="0">
              <a:noFill/>
            </a:ln>
            <a:effectLst>
              <a:outerShdw dist="38183" dir="2700000" blurRad="0" rotWithShape="0">
                <a:srgbClr val="000000">
                  <a:alpha val="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6" name="Oval 96"/>
            <p:cNvSpPr/>
            <p:nvPr/>
          </p:nvSpPr>
          <p:spPr>
            <a:xfrm>
              <a:off x="7562880" y="1976760"/>
              <a:ext cx="509400" cy="510480"/>
            </a:xfrm>
            <a:prstGeom prst="ellipse">
              <a:avLst/>
            </a:prstGeom>
            <a:solidFill>
              <a:srgbClr val="f4fcb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47" name="Graphic 36" descr="Closed book"/>
            <p:cNvPicPr/>
            <p:nvPr/>
          </p:nvPicPr>
          <p:blipFill>
            <a:blip r:embed="rId2"/>
            <a:stretch/>
          </p:blipFill>
          <p:spPr>
            <a:xfrm>
              <a:off x="7734600" y="2120760"/>
              <a:ext cx="164880" cy="216000"/>
            </a:xfrm>
            <a:prstGeom prst="rect">
              <a:avLst/>
            </a:prstGeom>
            <a:ln w="0">
              <a:noFill/>
            </a:ln>
          </p:spPr>
        </p:pic>
      </p:grpSp>
      <p:grpSp>
        <p:nvGrpSpPr>
          <p:cNvPr id="1848" name="Group 114"/>
          <p:cNvGrpSpPr/>
          <p:nvPr/>
        </p:nvGrpSpPr>
        <p:grpSpPr>
          <a:xfrm>
            <a:off x="7488360" y="5330880"/>
            <a:ext cx="658800" cy="660240"/>
            <a:chOff x="7488360" y="5330880"/>
            <a:chExt cx="658800" cy="660240"/>
          </a:xfrm>
        </p:grpSpPr>
        <p:sp>
          <p:nvSpPr>
            <p:cNvPr id="1849" name="Oval 106"/>
            <p:cNvSpPr/>
            <p:nvPr/>
          </p:nvSpPr>
          <p:spPr>
            <a:xfrm>
              <a:off x="7488360" y="5330880"/>
              <a:ext cx="658800" cy="660240"/>
            </a:xfrm>
            <a:prstGeom prst="ellipse">
              <a:avLst/>
            </a:prstGeom>
            <a:solidFill>
              <a:srgbClr val="ffffff"/>
            </a:solidFill>
            <a:ln w="0">
              <a:noFill/>
            </a:ln>
            <a:effectLst>
              <a:outerShdw dist="38183" dir="2700000" blurRad="0" rotWithShape="0">
                <a:srgbClr val="000000">
                  <a:alpha val="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0" name="Oval 107"/>
            <p:cNvSpPr/>
            <p:nvPr/>
          </p:nvSpPr>
          <p:spPr>
            <a:xfrm>
              <a:off x="7562880" y="5405760"/>
              <a:ext cx="509400" cy="510480"/>
            </a:xfrm>
            <a:prstGeom prst="ellipse">
              <a:avLst/>
            </a:prstGeom>
            <a:solidFill>
              <a:srgbClr val="7c8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1" name="Graphic 34" descr="Globe"/>
            <p:cNvPicPr/>
            <p:nvPr/>
          </p:nvPicPr>
          <p:blipFill>
            <a:blip r:embed="rId3"/>
            <a:stretch/>
          </p:blipFill>
          <p:spPr>
            <a:xfrm>
              <a:off x="7722000" y="5549760"/>
              <a:ext cx="190080" cy="228600"/>
            </a:xfrm>
            <a:prstGeom prst="rect">
              <a:avLst/>
            </a:prstGeom>
            <a:ln w="0">
              <a:noFill/>
            </a:ln>
          </p:spPr>
        </p:pic>
      </p:grpSp>
      <p:grpSp>
        <p:nvGrpSpPr>
          <p:cNvPr id="1852" name="Group 121"/>
          <p:cNvGrpSpPr/>
          <p:nvPr/>
        </p:nvGrpSpPr>
        <p:grpSpPr>
          <a:xfrm>
            <a:off x="3979800" y="5330880"/>
            <a:ext cx="658800" cy="660240"/>
            <a:chOff x="3979800" y="5330880"/>
            <a:chExt cx="658800" cy="660240"/>
          </a:xfrm>
        </p:grpSpPr>
        <p:sp>
          <p:nvSpPr>
            <p:cNvPr id="1853" name="Oval 116"/>
            <p:cNvSpPr/>
            <p:nvPr/>
          </p:nvSpPr>
          <p:spPr>
            <a:xfrm>
              <a:off x="3979800" y="5330880"/>
              <a:ext cx="658800" cy="660240"/>
            </a:xfrm>
            <a:prstGeom prst="ellipse">
              <a:avLst/>
            </a:prstGeom>
            <a:solidFill>
              <a:srgbClr val="ffffff"/>
            </a:solidFill>
            <a:ln w="0">
              <a:noFill/>
            </a:ln>
            <a:effectLst>
              <a:outerShdw dist="38183" dir="2700000" blurRad="0" rotWithShape="0">
                <a:srgbClr val="000000">
                  <a:alpha val="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4" name="Oval 117"/>
            <p:cNvSpPr/>
            <p:nvPr/>
          </p:nvSpPr>
          <p:spPr>
            <a:xfrm>
              <a:off x="4054320" y="5405760"/>
              <a:ext cx="509400" cy="510480"/>
            </a:xfrm>
            <a:prstGeom prst="ellipse">
              <a:avLst/>
            </a:prstGeom>
            <a:solidFill>
              <a:srgbClr val="97fff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5" name="Graphic 32" descr="Cube"/>
            <p:cNvPicPr/>
            <p:nvPr/>
          </p:nvPicPr>
          <p:blipFill>
            <a:blip r:embed="rId4"/>
            <a:stretch/>
          </p:blipFill>
          <p:spPr>
            <a:xfrm>
              <a:off x="4203360" y="5549760"/>
              <a:ext cx="215640" cy="2286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6" name="Picture 1" descr=""/>
          <p:cNvPicPr/>
          <p:nvPr/>
        </p:nvPicPr>
        <p:blipFill>
          <a:blip r:embed="rId1"/>
          <a:srcRect l="-429" t="0" r="0" b="0"/>
          <a:stretch/>
        </p:blipFill>
        <p:spPr>
          <a:xfrm>
            <a:off x="4073400" y="1584360"/>
            <a:ext cx="7077240" cy="4078080"/>
          </a:xfrm>
          <a:prstGeom prst="rect">
            <a:avLst/>
          </a:prstGeom>
          <a:ln w="0">
            <a:noFill/>
          </a:ln>
        </p:spPr>
      </p:pic>
      <p:sp>
        <p:nvSpPr>
          <p:cNvPr id="1857" name="Freeform: Shape 7"/>
          <p:cNvSpPr/>
          <p:nvPr/>
        </p:nvSpPr>
        <p:spPr>
          <a:xfrm>
            <a:off x="4073400" y="1076400"/>
            <a:ext cx="1602000" cy="1198440"/>
          </a:xfrm>
          <a:custGeom>
            <a:avLst/>
            <a:gdLst/>
            <a:ahLst/>
            <a:rect l="l" t="t" r="r" b="b"/>
            <a:pathLst>
              <a:path w="2507742" h="2677849">
                <a:moveTo>
                  <a:pt x="0" y="0"/>
                </a:moveTo>
                <a:lnTo>
                  <a:pt x="2507742" y="0"/>
                </a:lnTo>
                <a:lnTo>
                  <a:pt x="2507742" y="2677849"/>
                </a:lnTo>
                <a:lnTo>
                  <a:pt x="0" y="2677849"/>
                </a:lnTo>
                <a:lnTo>
                  <a:pt x="0" y="0"/>
                </a:lnTo>
                <a:close/>
              </a:path>
            </a:pathLst>
          </a:custGeom>
          <a:solidFill>
            <a:srgbClr val="7c8ffb"/>
          </a:solidFill>
          <a:ln w="0">
            <a:noFill/>
          </a:ln>
          <a:effectLst>
            <a:outerShdw dist="76367" dir="2700000" blurRad="0" rotWithShape="0">
              <a:srgbClr val="000000">
                <a:alpha val="12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58" name="TextBox 2"/>
          <p:cNvSpPr/>
          <p:nvPr/>
        </p:nvSpPr>
        <p:spPr>
          <a:xfrm>
            <a:off x="1041480" y="1765440"/>
            <a:ext cx="2730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Slab"/>
                <a:ea typeface="Roboto Slab"/>
              </a:rPr>
              <a:t>Choose your </a:t>
            </a:r>
            <a:r>
              <a:rPr b="0" lang="en-US" sz="3600" spc="-1" strike="noStrike">
                <a:solidFill>
                  <a:srgbClr val="000000"/>
                </a:solidFill>
                <a:latin typeface="Roboto Slab Medium"/>
                <a:ea typeface="Roboto Slab Medium"/>
              </a:rPr>
              <a:t>Future Career</a:t>
            </a:r>
            <a:endParaRPr b="0" lang="en-US" sz="3600" spc="-1" strike="noStrike">
              <a:solidFill>
                <a:srgbClr val="000000"/>
              </a:solidFill>
              <a:latin typeface="Calibri"/>
            </a:endParaRPr>
          </a:p>
        </p:txBody>
      </p:sp>
      <p:sp>
        <p:nvSpPr>
          <p:cNvPr id="1859" name="TextBox 3"/>
          <p:cNvSpPr/>
          <p:nvPr/>
        </p:nvSpPr>
        <p:spPr>
          <a:xfrm>
            <a:off x="1041480" y="1393920"/>
            <a:ext cx="256068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Slab"/>
                <a:ea typeface="Roboto Slab"/>
              </a:rPr>
              <a:t>Device Mockup</a:t>
            </a:r>
            <a:endParaRPr b="0" lang="en-US" sz="1200" spc="-1" strike="noStrike">
              <a:solidFill>
                <a:srgbClr val="000000"/>
              </a:solidFill>
              <a:latin typeface="Calibri"/>
            </a:endParaRPr>
          </a:p>
        </p:txBody>
      </p:sp>
      <p:sp>
        <p:nvSpPr>
          <p:cNvPr id="1860" name="Straight Connector 4"/>
          <p:cNvSpPr/>
          <p:nvPr/>
        </p:nvSpPr>
        <p:spPr>
          <a:xfrm>
            <a:off x="1165320" y="3753000"/>
            <a:ext cx="488880" cy="0"/>
          </a:xfrm>
          <a:prstGeom prst="line">
            <a:avLst/>
          </a:prstGeom>
          <a:ln w="3816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1" name="TextBox 5"/>
          <p:cNvSpPr/>
          <p:nvPr/>
        </p:nvSpPr>
        <p:spPr>
          <a:xfrm>
            <a:off x="1041480" y="4027320"/>
            <a:ext cx="2979720" cy="159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Ut enim ad minim veniam, quis nostrud exercitation ullamco laboris nisi ut aliquip </a:t>
            </a:r>
            <a:endParaRPr b="0" lang="en-US" sz="1100" spc="-1" strike="noStrike">
              <a:solidFill>
                <a:srgbClr val="000000"/>
              </a:solidFill>
              <a:latin typeface="Calibri"/>
            </a:endParaRPr>
          </a:p>
        </p:txBody>
      </p:sp>
      <p:sp>
        <p:nvSpPr>
          <p:cNvPr id="1862" name="Freeform: Shape 9"/>
          <p:cNvSpPr/>
          <p:nvPr/>
        </p:nvSpPr>
        <p:spPr>
          <a:xfrm>
            <a:off x="5846760" y="1076400"/>
            <a:ext cx="1601640" cy="1198440"/>
          </a:xfrm>
          <a:custGeom>
            <a:avLst/>
            <a:gdLst/>
            <a:ahLst/>
            <a:rect l="l" t="t" r="r" b="b"/>
            <a:pathLst>
              <a:path w="2507742" h="2677849">
                <a:moveTo>
                  <a:pt x="0" y="0"/>
                </a:moveTo>
                <a:lnTo>
                  <a:pt x="2507742" y="0"/>
                </a:lnTo>
                <a:lnTo>
                  <a:pt x="2507742" y="2677849"/>
                </a:lnTo>
                <a:lnTo>
                  <a:pt x="0" y="2677849"/>
                </a:lnTo>
                <a:lnTo>
                  <a:pt x="0" y="0"/>
                </a:lnTo>
                <a:close/>
              </a:path>
            </a:pathLst>
          </a:custGeom>
          <a:solidFill>
            <a:srgbClr val="c7e8ae"/>
          </a:solidFill>
          <a:ln w="0">
            <a:noFill/>
          </a:ln>
          <a:effectLst>
            <a:outerShdw dist="76367" dir="2700000" blurRad="0" rotWithShape="0">
              <a:srgbClr val="000000">
                <a:alpha val="12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3" name="Freeform: Shape 12"/>
          <p:cNvSpPr/>
          <p:nvPr/>
        </p:nvSpPr>
        <p:spPr>
          <a:xfrm>
            <a:off x="7620120" y="1076400"/>
            <a:ext cx="1601640" cy="1198440"/>
          </a:xfrm>
          <a:custGeom>
            <a:avLst/>
            <a:gdLst/>
            <a:ahLst/>
            <a:rect l="l" t="t" r="r" b="b"/>
            <a:pathLst>
              <a:path w="2507742" h="2677849">
                <a:moveTo>
                  <a:pt x="0" y="0"/>
                </a:moveTo>
                <a:lnTo>
                  <a:pt x="2507742" y="0"/>
                </a:lnTo>
                <a:lnTo>
                  <a:pt x="2507742" y="2677849"/>
                </a:lnTo>
                <a:lnTo>
                  <a:pt x="0" y="2677849"/>
                </a:lnTo>
                <a:lnTo>
                  <a:pt x="0" y="0"/>
                </a:lnTo>
                <a:close/>
              </a:path>
            </a:pathLst>
          </a:custGeom>
          <a:solidFill>
            <a:srgbClr val="bbbcfc"/>
          </a:solidFill>
          <a:ln w="0">
            <a:noFill/>
          </a:ln>
          <a:effectLst>
            <a:outerShdw dist="76367" dir="2700000" blurRad="0" rotWithShape="0">
              <a:srgbClr val="000000">
                <a:alpha val="12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4" name="TextBox 6"/>
          <p:cNvSpPr/>
          <p:nvPr/>
        </p:nvSpPr>
        <p:spPr>
          <a:xfrm>
            <a:off x="4192560" y="1273320"/>
            <a:ext cx="1363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boto Slab"/>
                <a:ea typeface="Roboto Slab"/>
              </a:rPr>
              <a:t>15,120</a:t>
            </a:r>
            <a:endParaRPr b="0" lang="en-US" sz="2800" spc="-1" strike="noStrike">
              <a:solidFill>
                <a:srgbClr val="000000"/>
              </a:solidFill>
              <a:latin typeface="Calibri"/>
            </a:endParaRPr>
          </a:p>
        </p:txBody>
      </p:sp>
      <p:sp>
        <p:nvSpPr>
          <p:cNvPr id="1865" name="TextBox 8"/>
          <p:cNvSpPr/>
          <p:nvPr/>
        </p:nvSpPr>
        <p:spPr>
          <a:xfrm>
            <a:off x="4110120" y="1797120"/>
            <a:ext cx="1528560" cy="294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Slab"/>
                <a:ea typeface="Roboto Slab"/>
              </a:rPr>
              <a:t>Your title here</a:t>
            </a:r>
            <a:endParaRPr b="0" lang="en-US" sz="1100" spc="-1" strike="noStrike">
              <a:solidFill>
                <a:srgbClr val="000000"/>
              </a:solidFill>
              <a:latin typeface="Calibri"/>
            </a:endParaRPr>
          </a:p>
        </p:txBody>
      </p:sp>
      <p:sp>
        <p:nvSpPr>
          <p:cNvPr id="1866" name="TextBox 10"/>
          <p:cNvSpPr/>
          <p:nvPr/>
        </p:nvSpPr>
        <p:spPr>
          <a:xfrm>
            <a:off x="5965920" y="1273320"/>
            <a:ext cx="1363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boto Slab"/>
                <a:ea typeface="Roboto Slab"/>
              </a:rPr>
              <a:t>1,100+</a:t>
            </a:r>
            <a:endParaRPr b="0" lang="en-US" sz="2800" spc="-1" strike="noStrike">
              <a:solidFill>
                <a:srgbClr val="000000"/>
              </a:solidFill>
              <a:latin typeface="Calibri"/>
            </a:endParaRPr>
          </a:p>
        </p:txBody>
      </p:sp>
      <p:sp>
        <p:nvSpPr>
          <p:cNvPr id="1867" name="TextBox 11"/>
          <p:cNvSpPr/>
          <p:nvPr/>
        </p:nvSpPr>
        <p:spPr>
          <a:xfrm>
            <a:off x="5883120" y="1797120"/>
            <a:ext cx="1528920" cy="294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Slab"/>
                <a:ea typeface="Roboto Slab"/>
              </a:rPr>
              <a:t>Your title here</a:t>
            </a:r>
            <a:endParaRPr b="0" lang="en-US" sz="1100" spc="-1" strike="noStrike">
              <a:solidFill>
                <a:srgbClr val="000000"/>
              </a:solidFill>
              <a:latin typeface="Calibri"/>
            </a:endParaRPr>
          </a:p>
        </p:txBody>
      </p:sp>
      <p:sp>
        <p:nvSpPr>
          <p:cNvPr id="1868" name="TextBox 13"/>
          <p:cNvSpPr/>
          <p:nvPr/>
        </p:nvSpPr>
        <p:spPr>
          <a:xfrm>
            <a:off x="7738920" y="1273320"/>
            <a:ext cx="1363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boto Slab"/>
                <a:ea typeface="Roboto Slab"/>
              </a:rPr>
              <a:t>50%</a:t>
            </a:r>
            <a:endParaRPr b="0" lang="en-US" sz="2800" spc="-1" strike="noStrike">
              <a:solidFill>
                <a:srgbClr val="000000"/>
              </a:solidFill>
              <a:latin typeface="Calibri"/>
            </a:endParaRPr>
          </a:p>
        </p:txBody>
      </p:sp>
      <p:sp>
        <p:nvSpPr>
          <p:cNvPr id="1869" name="TextBox 14"/>
          <p:cNvSpPr/>
          <p:nvPr/>
        </p:nvSpPr>
        <p:spPr>
          <a:xfrm>
            <a:off x="7656480" y="1797120"/>
            <a:ext cx="1528920" cy="294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Slab"/>
                <a:ea typeface="Roboto Slab"/>
              </a:rPr>
              <a:t>Your title her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0" name="Picture 1" descr=""/>
          <p:cNvPicPr/>
          <p:nvPr/>
        </p:nvPicPr>
        <p:blipFill>
          <a:blip r:embed="rId1"/>
          <a:srcRect l="0" t="12755" r="0" b="2041"/>
          <a:stretch/>
        </p:blipFill>
        <p:spPr>
          <a:xfrm>
            <a:off x="6208560" y="1138320"/>
            <a:ext cx="5241960" cy="4581360"/>
          </a:xfrm>
          <a:prstGeom prst="rect">
            <a:avLst/>
          </a:prstGeom>
          <a:ln w="0">
            <a:noFill/>
          </a:ln>
        </p:spPr>
      </p:pic>
      <p:sp>
        <p:nvSpPr>
          <p:cNvPr id="1871" name="TextBox 2"/>
          <p:cNvSpPr/>
          <p:nvPr/>
        </p:nvSpPr>
        <p:spPr>
          <a:xfrm>
            <a:off x="741240" y="1941480"/>
            <a:ext cx="2903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boto Slab"/>
                <a:ea typeface="Roboto Slab"/>
              </a:rPr>
              <a:t>Choose your </a:t>
            </a:r>
            <a:r>
              <a:rPr b="0" lang="en-US" sz="3200" spc="-1" strike="noStrike">
                <a:solidFill>
                  <a:srgbClr val="000000"/>
                </a:solidFill>
                <a:latin typeface="Roboto Slab Medium"/>
                <a:ea typeface="Roboto Slab Medium"/>
              </a:rPr>
              <a:t>Future Career</a:t>
            </a:r>
            <a:endParaRPr b="0" lang="en-US" sz="3200" spc="-1" strike="noStrike">
              <a:solidFill>
                <a:srgbClr val="000000"/>
              </a:solidFill>
              <a:latin typeface="Calibri"/>
            </a:endParaRPr>
          </a:p>
        </p:txBody>
      </p:sp>
      <p:sp>
        <p:nvSpPr>
          <p:cNvPr id="1872" name="TextBox 3"/>
          <p:cNvSpPr/>
          <p:nvPr/>
        </p:nvSpPr>
        <p:spPr>
          <a:xfrm>
            <a:off x="758880" y="1623960"/>
            <a:ext cx="256068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Slab"/>
                <a:ea typeface="Roboto Slab"/>
              </a:rPr>
              <a:t>Device Mockup</a:t>
            </a:r>
            <a:endParaRPr b="0" lang="en-US" sz="1200" spc="-1" strike="noStrike">
              <a:solidFill>
                <a:srgbClr val="000000"/>
              </a:solidFill>
              <a:latin typeface="Calibri"/>
            </a:endParaRPr>
          </a:p>
        </p:txBody>
      </p:sp>
      <p:sp>
        <p:nvSpPr>
          <p:cNvPr id="1873" name="Straight Connector 4"/>
          <p:cNvSpPr/>
          <p:nvPr/>
        </p:nvSpPr>
        <p:spPr>
          <a:xfrm>
            <a:off x="0" y="3222720"/>
            <a:ext cx="4162320" cy="0"/>
          </a:xfrm>
          <a:prstGeom prst="line">
            <a:avLst/>
          </a:prstGeom>
          <a:ln w="3816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4" name="TextBox 6"/>
          <p:cNvSpPr/>
          <p:nvPr/>
        </p:nvSpPr>
        <p:spPr>
          <a:xfrm>
            <a:off x="1695600" y="3454560"/>
            <a:ext cx="20462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2f2f2"/>
                </a:solidFill>
                <a:latin typeface="Roboto Slab"/>
                <a:ea typeface="Roboto Slab"/>
              </a:rPr>
              <a:t>N</a:t>
            </a:r>
            <a:r>
              <a:rPr b="1" lang="en-US" sz="6000" spc="-1" strike="noStrike" baseline="30000">
                <a:solidFill>
                  <a:srgbClr val="f2f2f2"/>
                </a:solidFill>
                <a:latin typeface="Roboto Slab"/>
                <a:ea typeface="Roboto Slab"/>
              </a:rPr>
              <a:t>o</a:t>
            </a:r>
            <a:r>
              <a:rPr b="1" lang="en-US" sz="6000" spc="-1" strike="noStrike">
                <a:solidFill>
                  <a:srgbClr val="f2f2f2"/>
                </a:solidFill>
                <a:latin typeface="Roboto Slab"/>
                <a:ea typeface="Roboto Slab"/>
              </a:rPr>
              <a:t>01</a:t>
            </a:r>
            <a:endParaRPr b="0" lang="en-US" sz="6000" spc="-1" strike="noStrike">
              <a:solidFill>
                <a:srgbClr val="000000"/>
              </a:solidFill>
              <a:latin typeface="Calibri"/>
            </a:endParaRPr>
          </a:p>
        </p:txBody>
      </p:sp>
      <p:sp>
        <p:nvSpPr>
          <p:cNvPr id="1875" name="TextBox 7"/>
          <p:cNvSpPr/>
          <p:nvPr/>
        </p:nvSpPr>
        <p:spPr>
          <a:xfrm>
            <a:off x="1695600" y="4424400"/>
            <a:ext cx="199836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a:t>
            </a:r>
            <a:endParaRPr b="0" lang="en-US" sz="1100" spc="-1" strike="noStrike">
              <a:solidFill>
                <a:srgbClr val="000000"/>
              </a:solidFill>
              <a:latin typeface="Calibri"/>
            </a:endParaRPr>
          </a:p>
        </p:txBody>
      </p:sp>
      <p:sp>
        <p:nvSpPr>
          <p:cNvPr id="1876" name="TextBox 8"/>
          <p:cNvSpPr/>
          <p:nvPr/>
        </p:nvSpPr>
        <p:spPr>
          <a:xfrm>
            <a:off x="1695600" y="3876840"/>
            <a:ext cx="10112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Subtitle</a:t>
            </a:r>
            <a:endParaRPr b="0" lang="en-US" sz="1400" spc="-1" strike="noStrike">
              <a:solidFill>
                <a:srgbClr val="000000"/>
              </a:solidFill>
              <a:latin typeface="Calibri"/>
            </a:endParaRPr>
          </a:p>
        </p:txBody>
      </p:sp>
      <p:sp>
        <p:nvSpPr>
          <p:cNvPr id="1877" name="Straight Connector 9"/>
          <p:cNvSpPr/>
          <p:nvPr/>
        </p:nvSpPr>
        <p:spPr>
          <a:xfrm>
            <a:off x="1784520" y="4281480"/>
            <a:ext cx="1785600" cy="0"/>
          </a:xfrm>
          <a:prstGeom prst="line">
            <a:avLst/>
          </a:prstGeom>
          <a:ln w="1260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8" name="TextBox 10"/>
          <p:cNvSpPr/>
          <p:nvPr/>
        </p:nvSpPr>
        <p:spPr>
          <a:xfrm>
            <a:off x="3870360" y="3454560"/>
            <a:ext cx="2162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2f2f2"/>
                </a:solidFill>
                <a:latin typeface="Roboto Slab"/>
                <a:ea typeface="Roboto Slab"/>
              </a:rPr>
              <a:t>N</a:t>
            </a:r>
            <a:r>
              <a:rPr b="1" lang="en-US" sz="6000" spc="-1" strike="noStrike" baseline="30000">
                <a:solidFill>
                  <a:srgbClr val="f2f2f2"/>
                </a:solidFill>
                <a:latin typeface="Roboto Slab"/>
                <a:ea typeface="Roboto Slab"/>
              </a:rPr>
              <a:t>o</a:t>
            </a:r>
            <a:r>
              <a:rPr b="1" lang="en-US" sz="6000" spc="-1" strike="noStrike">
                <a:solidFill>
                  <a:srgbClr val="f2f2f2"/>
                </a:solidFill>
                <a:latin typeface="Roboto Slab"/>
                <a:ea typeface="Roboto Slab"/>
              </a:rPr>
              <a:t>02</a:t>
            </a:r>
            <a:endParaRPr b="0" lang="en-US" sz="6000" spc="-1" strike="noStrike">
              <a:solidFill>
                <a:srgbClr val="000000"/>
              </a:solidFill>
              <a:latin typeface="Calibri"/>
            </a:endParaRPr>
          </a:p>
        </p:txBody>
      </p:sp>
      <p:sp>
        <p:nvSpPr>
          <p:cNvPr id="1879" name="TextBox 11"/>
          <p:cNvSpPr/>
          <p:nvPr/>
        </p:nvSpPr>
        <p:spPr>
          <a:xfrm>
            <a:off x="3870360" y="4424400"/>
            <a:ext cx="199872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a:t>
            </a:r>
            <a:endParaRPr b="0" lang="en-US" sz="1100" spc="-1" strike="noStrike">
              <a:solidFill>
                <a:srgbClr val="000000"/>
              </a:solidFill>
              <a:latin typeface="Calibri"/>
            </a:endParaRPr>
          </a:p>
        </p:txBody>
      </p:sp>
      <p:sp>
        <p:nvSpPr>
          <p:cNvPr id="1880" name="TextBox 12"/>
          <p:cNvSpPr/>
          <p:nvPr/>
        </p:nvSpPr>
        <p:spPr>
          <a:xfrm>
            <a:off x="3870360" y="3876840"/>
            <a:ext cx="10112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Subtitle</a:t>
            </a:r>
            <a:endParaRPr b="0" lang="en-US" sz="1400" spc="-1" strike="noStrike">
              <a:solidFill>
                <a:srgbClr val="000000"/>
              </a:solidFill>
              <a:latin typeface="Calibri"/>
            </a:endParaRPr>
          </a:p>
        </p:txBody>
      </p:sp>
      <p:sp>
        <p:nvSpPr>
          <p:cNvPr id="1881" name="Straight Connector 13"/>
          <p:cNvSpPr/>
          <p:nvPr/>
        </p:nvSpPr>
        <p:spPr>
          <a:xfrm>
            <a:off x="3957480" y="4281480"/>
            <a:ext cx="1785960" cy="0"/>
          </a:xfrm>
          <a:prstGeom prst="line">
            <a:avLst/>
          </a:prstGeom>
          <a:ln w="12600">
            <a:solidFill>
              <a:srgbClr val="e7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2" name="Freeform: Shape 18"/>
          <p:cNvSpPr/>
          <p:nvPr/>
        </p:nvSpPr>
        <p:spPr>
          <a:xfrm>
            <a:off x="4125960" y="2043000"/>
            <a:ext cx="1601640" cy="1198800"/>
          </a:xfrm>
          <a:custGeom>
            <a:avLst/>
            <a:gdLst/>
            <a:ahLst/>
            <a:rect l="l" t="t" r="r" b="b"/>
            <a:pathLst>
              <a:path w="2507742" h="2677849">
                <a:moveTo>
                  <a:pt x="0" y="0"/>
                </a:moveTo>
                <a:lnTo>
                  <a:pt x="2507742" y="0"/>
                </a:lnTo>
                <a:lnTo>
                  <a:pt x="2507742" y="2677849"/>
                </a:lnTo>
                <a:lnTo>
                  <a:pt x="0" y="2677849"/>
                </a:lnTo>
                <a:lnTo>
                  <a:pt x="0" y="0"/>
                </a:lnTo>
                <a:close/>
              </a:path>
            </a:pathLst>
          </a:custGeom>
          <a:solidFill>
            <a:srgbClr val="7c8ffb"/>
          </a:solidFill>
          <a:ln w="0">
            <a:noFill/>
          </a:ln>
          <a:effectLst>
            <a:outerShdw dist="76367" dir="2700000" blurRad="0" rotWithShape="0">
              <a:srgbClr val="000000">
                <a:alpha val="12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83" name="TextBox 19"/>
          <p:cNvSpPr/>
          <p:nvPr/>
        </p:nvSpPr>
        <p:spPr>
          <a:xfrm>
            <a:off x="4245120" y="2241720"/>
            <a:ext cx="1363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boto Slab"/>
                <a:ea typeface="Roboto Slab"/>
              </a:rPr>
              <a:t>15,120</a:t>
            </a:r>
            <a:endParaRPr b="0" lang="en-US" sz="2800" spc="-1" strike="noStrike">
              <a:solidFill>
                <a:srgbClr val="000000"/>
              </a:solidFill>
              <a:latin typeface="Calibri"/>
            </a:endParaRPr>
          </a:p>
        </p:txBody>
      </p:sp>
      <p:sp>
        <p:nvSpPr>
          <p:cNvPr id="1884" name="TextBox 20"/>
          <p:cNvSpPr/>
          <p:nvPr/>
        </p:nvSpPr>
        <p:spPr>
          <a:xfrm>
            <a:off x="4162320" y="2763720"/>
            <a:ext cx="1528920" cy="294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Slab"/>
                <a:ea typeface="Roboto Slab"/>
              </a:rPr>
              <a:t>Your title her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TextBox 2"/>
          <p:cNvSpPr/>
          <p:nvPr/>
        </p:nvSpPr>
        <p:spPr>
          <a:xfrm>
            <a:off x="876240" y="1084320"/>
            <a:ext cx="2678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Slab Medium"/>
                <a:ea typeface="Roboto Slab Medium"/>
              </a:rPr>
              <a:t>Gallery</a:t>
            </a:r>
            <a:endParaRPr b="0" lang="en-US" sz="3600" spc="-1" strike="noStrike">
              <a:solidFill>
                <a:srgbClr val="000000"/>
              </a:solidFill>
              <a:latin typeface="Calibri"/>
            </a:endParaRPr>
          </a:p>
        </p:txBody>
      </p:sp>
      <p:sp>
        <p:nvSpPr>
          <p:cNvPr id="1886" name="Rectangle 7"/>
          <p:cNvSpPr/>
          <p:nvPr/>
        </p:nvSpPr>
        <p:spPr>
          <a:xfrm flipH="1">
            <a:off x="1055520" y="4352760"/>
            <a:ext cx="1943280" cy="1812960"/>
          </a:xfrm>
          <a:prstGeom prst="rect">
            <a:avLst/>
          </a:prstGeom>
          <a:solidFill>
            <a:srgbClr val="7c8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7" name="TextBox 9"/>
          <p:cNvSpPr/>
          <p:nvPr/>
        </p:nvSpPr>
        <p:spPr>
          <a:xfrm>
            <a:off x="923760" y="3016080"/>
            <a:ext cx="46371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Ut enim ad minim veniam, quis nostrud exercitation ullamco laboris nisi ut aliquip </a:t>
            </a:r>
            <a:endParaRPr b="0" lang="en-US" sz="1100" spc="-1" strike="noStrike">
              <a:solidFill>
                <a:srgbClr val="000000"/>
              </a:solidFill>
              <a:latin typeface="Calibri"/>
            </a:endParaRPr>
          </a:p>
        </p:txBody>
      </p:sp>
      <p:sp>
        <p:nvSpPr>
          <p:cNvPr id="1888" name="TextBox 10"/>
          <p:cNvSpPr/>
          <p:nvPr/>
        </p:nvSpPr>
        <p:spPr>
          <a:xfrm>
            <a:off x="923760" y="2324160"/>
            <a:ext cx="451656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a:ea typeface="Roboto Slab"/>
              </a:rPr>
              <a:t>Lorem ipsum dolor sit amet, consectetur adipiscing elit, sed do eiusmod </a:t>
            </a:r>
            <a:r>
              <a:rPr b="1" lang="en-US" sz="1400" spc="-1" strike="noStrike">
                <a:solidFill>
                  <a:srgbClr val="000000"/>
                </a:solidFill>
                <a:latin typeface="Roboto Slab"/>
                <a:ea typeface="Roboto Slab"/>
              </a:rPr>
              <a:t>tempor incididunt </a:t>
            </a:r>
            <a:endParaRPr b="0" lang="en-US" sz="1400" spc="-1" strike="noStrike">
              <a:solidFill>
                <a:srgbClr val="000000"/>
              </a:solidFill>
              <a:latin typeface="Calibri"/>
            </a:endParaRPr>
          </a:p>
        </p:txBody>
      </p:sp>
      <p:sp>
        <p:nvSpPr>
          <p:cNvPr id="1889" name="Straight Connector 12"/>
          <p:cNvSpPr/>
          <p:nvPr/>
        </p:nvSpPr>
        <p:spPr>
          <a:xfrm>
            <a:off x="1038240" y="1884240"/>
            <a:ext cx="488880" cy="0"/>
          </a:xfrm>
          <a:prstGeom prst="line">
            <a:avLst/>
          </a:prstGeom>
          <a:ln w="3816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0" name="TextBox 14"/>
          <p:cNvSpPr/>
          <p:nvPr/>
        </p:nvSpPr>
        <p:spPr>
          <a:xfrm>
            <a:off x="1206360" y="4562640"/>
            <a:ext cx="136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boto Slab"/>
                <a:ea typeface="Roboto Slab"/>
              </a:rPr>
              <a:t>75%</a:t>
            </a:r>
            <a:endParaRPr b="0" lang="en-US" sz="2800" spc="-1" strike="noStrike">
              <a:solidFill>
                <a:srgbClr val="000000"/>
              </a:solidFill>
              <a:latin typeface="Calibri"/>
            </a:endParaRPr>
          </a:p>
        </p:txBody>
      </p:sp>
      <p:sp>
        <p:nvSpPr>
          <p:cNvPr id="1891" name="TextBox 15"/>
          <p:cNvSpPr/>
          <p:nvPr/>
        </p:nvSpPr>
        <p:spPr>
          <a:xfrm>
            <a:off x="1206360" y="5005440"/>
            <a:ext cx="1679760" cy="294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Slab"/>
                <a:ea typeface="Roboto Slab"/>
              </a:rPr>
              <a:t>Photos Activities</a:t>
            </a:r>
            <a:endParaRPr b="0" lang="en-US" sz="1100" spc="-1" strike="noStrike">
              <a:solidFill>
                <a:srgbClr val="000000"/>
              </a:solidFill>
              <a:latin typeface="Calibri"/>
            </a:endParaRPr>
          </a:p>
        </p:txBody>
      </p:sp>
      <p:sp>
        <p:nvSpPr>
          <p:cNvPr id="1892" name="TextBox 20"/>
          <p:cNvSpPr/>
          <p:nvPr/>
        </p:nvSpPr>
        <p:spPr>
          <a:xfrm>
            <a:off x="1206360" y="5292720"/>
            <a:ext cx="16797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Light"/>
                <a:ea typeface="Roboto Light"/>
              </a:rPr>
              <a:t>Lorem ipsum dolor sit amet, consectetur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3" name="Group 31"/>
          <p:cNvGrpSpPr/>
          <p:nvPr/>
        </p:nvGrpSpPr>
        <p:grpSpPr>
          <a:xfrm>
            <a:off x="5183280" y="1708200"/>
            <a:ext cx="2857320" cy="3921480"/>
            <a:chOff x="5183280" y="1708200"/>
            <a:chExt cx="2857320" cy="3921480"/>
          </a:xfrm>
        </p:grpSpPr>
        <p:sp>
          <p:nvSpPr>
            <p:cNvPr id="1894" name="TextBox 13"/>
            <p:cNvSpPr/>
            <p:nvPr/>
          </p:nvSpPr>
          <p:spPr>
            <a:xfrm>
              <a:off x="5183280" y="1708200"/>
              <a:ext cx="2678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Slab Medium"/>
                  <a:ea typeface="Roboto Slab Medium"/>
                </a:rPr>
                <a:t>Gallery</a:t>
              </a:r>
              <a:endParaRPr b="0" lang="en-US" sz="3600" spc="-1" strike="noStrike">
                <a:solidFill>
                  <a:srgbClr val="000000"/>
                </a:solidFill>
                <a:latin typeface="Calibri"/>
              </a:endParaRPr>
            </a:p>
          </p:txBody>
        </p:sp>
        <p:sp>
          <p:nvSpPr>
            <p:cNvPr id="1895" name="TextBox 14"/>
            <p:cNvSpPr/>
            <p:nvPr/>
          </p:nvSpPr>
          <p:spPr>
            <a:xfrm>
              <a:off x="5207040" y="4030200"/>
              <a:ext cx="2833560" cy="159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ni adipiscing elit, sed do eiusmod temporme incididunt ut labore et dolore magna aliqu Ut enim ad minim veniam, quis nostrude exercitation ullamco laboris nisi utmes </a:t>
              </a:r>
              <a:endParaRPr b="0" lang="en-US" sz="1100" spc="-1" strike="noStrike">
                <a:solidFill>
                  <a:srgbClr val="000000"/>
                </a:solidFill>
                <a:latin typeface="Calibri"/>
              </a:endParaRPr>
            </a:p>
          </p:txBody>
        </p:sp>
        <p:sp>
          <p:nvSpPr>
            <p:cNvPr id="1896" name="TextBox 15"/>
            <p:cNvSpPr/>
            <p:nvPr/>
          </p:nvSpPr>
          <p:spPr>
            <a:xfrm>
              <a:off x="5207040" y="2805480"/>
              <a:ext cx="236592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a:ea typeface="Roboto Slab"/>
                </a:rPr>
                <a:t>Lorem ipsum dolor sit amet, consectetur adipiscing elit, </a:t>
              </a:r>
              <a:r>
                <a:rPr b="1" lang="en-US" sz="1400" spc="-1" strike="noStrike">
                  <a:solidFill>
                    <a:srgbClr val="000000"/>
                  </a:solidFill>
                  <a:latin typeface="Roboto Slab"/>
                  <a:ea typeface="Roboto Slab"/>
                </a:rPr>
                <a:t>sed do eiusmod tempor</a:t>
              </a:r>
              <a:endParaRPr b="0" lang="en-US" sz="1400" spc="-1" strike="noStrike">
                <a:solidFill>
                  <a:srgbClr val="000000"/>
                </a:solidFill>
                <a:latin typeface="Calibri"/>
              </a:endParaRPr>
            </a:p>
          </p:txBody>
        </p:sp>
        <p:sp>
          <p:nvSpPr>
            <p:cNvPr id="1897" name="Straight Connector 16"/>
            <p:cNvSpPr/>
            <p:nvPr/>
          </p:nvSpPr>
          <p:spPr>
            <a:xfrm>
              <a:off x="5321520" y="2512800"/>
              <a:ext cx="488520" cy="0"/>
            </a:xfrm>
            <a:prstGeom prst="line">
              <a:avLst/>
            </a:prstGeom>
            <a:ln w="3816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fffd"/>
        </a:solidFill>
      </p:bgPr>
    </p:bg>
    <p:spTree>
      <p:nvGrpSpPr>
        <p:cNvPr id="1" name=""/>
        <p:cNvGrpSpPr/>
        <p:nvPr/>
      </p:nvGrpSpPr>
      <p:grpSpPr>
        <a:xfrm>
          <a:off x="0" y="0"/>
          <a:ext cx="0" cy="0"/>
          <a:chOff x="0" y="0"/>
          <a:chExt cx="0" cy="0"/>
        </a:xfrm>
      </p:grpSpPr>
      <p:sp>
        <p:nvSpPr>
          <p:cNvPr id="1898" name="TextBox 9"/>
          <p:cNvSpPr/>
          <p:nvPr/>
        </p:nvSpPr>
        <p:spPr>
          <a:xfrm>
            <a:off x="7337520" y="124632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Slab Medium"/>
                <a:ea typeface="Roboto Slab Medium"/>
              </a:rPr>
              <a:t>Gallery</a:t>
            </a:r>
            <a:endParaRPr b="0" lang="en-US" sz="3600" spc="-1" strike="noStrike">
              <a:solidFill>
                <a:srgbClr val="000000"/>
              </a:solidFill>
              <a:latin typeface="Calibri"/>
            </a:endParaRPr>
          </a:p>
        </p:txBody>
      </p:sp>
      <p:sp>
        <p:nvSpPr>
          <p:cNvPr id="1899" name="Straight Connector 12"/>
          <p:cNvSpPr/>
          <p:nvPr/>
        </p:nvSpPr>
        <p:spPr>
          <a:xfrm>
            <a:off x="9280440" y="1616040"/>
            <a:ext cx="1271520" cy="0"/>
          </a:xfrm>
          <a:prstGeom prst="line">
            <a:avLst/>
          </a:prstGeom>
          <a:ln w="3816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0" name="TextBox 13"/>
          <p:cNvSpPr/>
          <p:nvPr/>
        </p:nvSpPr>
        <p:spPr>
          <a:xfrm>
            <a:off x="7516800" y="4532400"/>
            <a:ext cx="352728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Ut enim ad minim veniam, quis nostrud exercitation ullamco laboris nisi ut aliquip </a:t>
            </a:r>
            <a:endParaRPr b="0" lang="en-US" sz="1100" spc="-1" strike="noStrike">
              <a:solidFill>
                <a:srgbClr val="000000"/>
              </a:solidFill>
              <a:latin typeface="Calibri"/>
            </a:endParaRPr>
          </a:p>
        </p:txBody>
      </p:sp>
      <p:sp>
        <p:nvSpPr>
          <p:cNvPr id="1901" name="TextBox 19"/>
          <p:cNvSpPr/>
          <p:nvPr/>
        </p:nvSpPr>
        <p:spPr>
          <a:xfrm>
            <a:off x="8651880" y="2625840"/>
            <a:ext cx="267804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Slab"/>
                <a:ea typeface="Roboto Slab"/>
              </a:rPr>
              <a:t>Lorem ipsum dolor sit amet, consectetur </a:t>
            </a:r>
            <a:r>
              <a:rPr b="1" lang="en-US" sz="1600" spc="-1" strike="noStrike">
                <a:solidFill>
                  <a:srgbClr val="000000"/>
                </a:solidFill>
                <a:latin typeface="Roboto Slab"/>
                <a:ea typeface="Roboto Slab"/>
              </a:rPr>
              <a:t>adipiscing elit sed do</a:t>
            </a:r>
            <a:endParaRPr b="0" lang="en-US" sz="1600" spc="-1" strike="noStrike">
              <a:solidFill>
                <a:srgbClr val="000000"/>
              </a:solidFill>
              <a:latin typeface="Calibri"/>
            </a:endParaRPr>
          </a:p>
        </p:txBody>
      </p:sp>
      <p:sp>
        <p:nvSpPr>
          <p:cNvPr id="1902" name="Rectangle 14"/>
          <p:cNvSpPr/>
          <p:nvPr/>
        </p:nvSpPr>
        <p:spPr>
          <a:xfrm flipH="1">
            <a:off x="6433560" y="2197080"/>
            <a:ext cx="1941480" cy="1812960"/>
          </a:xfrm>
          <a:prstGeom prst="rect">
            <a:avLst/>
          </a:prstGeom>
          <a:solidFill>
            <a:srgbClr val="7c8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3" name="TextBox 15"/>
          <p:cNvSpPr/>
          <p:nvPr/>
        </p:nvSpPr>
        <p:spPr>
          <a:xfrm>
            <a:off x="6585120" y="2406600"/>
            <a:ext cx="136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boto Slab"/>
                <a:ea typeface="Roboto Slab"/>
              </a:rPr>
              <a:t>75%</a:t>
            </a:r>
            <a:endParaRPr b="0" lang="en-US" sz="2800" spc="-1" strike="noStrike">
              <a:solidFill>
                <a:srgbClr val="000000"/>
              </a:solidFill>
              <a:latin typeface="Calibri"/>
            </a:endParaRPr>
          </a:p>
        </p:txBody>
      </p:sp>
      <p:sp>
        <p:nvSpPr>
          <p:cNvPr id="1904" name="TextBox 16"/>
          <p:cNvSpPr/>
          <p:nvPr/>
        </p:nvSpPr>
        <p:spPr>
          <a:xfrm>
            <a:off x="6585120" y="2849400"/>
            <a:ext cx="1677960" cy="294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Slab"/>
                <a:ea typeface="Roboto Slab"/>
              </a:rPr>
              <a:t>Photos Activities</a:t>
            </a:r>
            <a:endParaRPr b="0" lang="en-US" sz="1100" spc="-1" strike="noStrike">
              <a:solidFill>
                <a:srgbClr val="000000"/>
              </a:solidFill>
              <a:latin typeface="Calibri"/>
            </a:endParaRPr>
          </a:p>
        </p:txBody>
      </p:sp>
      <p:sp>
        <p:nvSpPr>
          <p:cNvPr id="1905" name="TextBox 17"/>
          <p:cNvSpPr/>
          <p:nvPr/>
        </p:nvSpPr>
        <p:spPr>
          <a:xfrm>
            <a:off x="6585120" y="3137040"/>
            <a:ext cx="16779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Light"/>
                <a:ea typeface="Roboto Light"/>
              </a:rPr>
              <a:t>Lorem ipsum dolor sit amet, consectetur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TextBox 11"/>
          <p:cNvSpPr/>
          <p:nvPr/>
        </p:nvSpPr>
        <p:spPr>
          <a:xfrm>
            <a:off x="879480" y="1468440"/>
            <a:ext cx="218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Slab Medium"/>
                <a:ea typeface="Roboto Slab Medium"/>
              </a:rPr>
              <a:t>Gallery</a:t>
            </a:r>
            <a:endParaRPr b="0" lang="en-US" sz="3600" spc="-1" strike="noStrike">
              <a:solidFill>
                <a:srgbClr val="000000"/>
              </a:solidFill>
              <a:latin typeface="Calibri"/>
            </a:endParaRPr>
          </a:p>
        </p:txBody>
      </p:sp>
      <p:sp>
        <p:nvSpPr>
          <p:cNvPr id="1907" name="TextBox 13"/>
          <p:cNvSpPr/>
          <p:nvPr/>
        </p:nvSpPr>
        <p:spPr>
          <a:xfrm>
            <a:off x="927000" y="2401920"/>
            <a:ext cx="288792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a:ea typeface="Roboto Slab"/>
              </a:rPr>
              <a:t>Lorem ipsum dolor sit amet, consectetur </a:t>
            </a:r>
            <a:r>
              <a:rPr b="1" lang="en-US" sz="1400" spc="-1" strike="noStrike">
                <a:solidFill>
                  <a:srgbClr val="000000"/>
                </a:solidFill>
                <a:latin typeface="Roboto Slab"/>
                <a:ea typeface="Roboto Slab"/>
              </a:rPr>
              <a:t>adipiscing elit</a:t>
            </a:r>
            <a:endParaRPr b="0" lang="en-US" sz="1400" spc="-1" strike="noStrike">
              <a:solidFill>
                <a:srgbClr val="000000"/>
              </a:solidFill>
              <a:latin typeface="Calibri"/>
            </a:endParaRPr>
          </a:p>
        </p:txBody>
      </p:sp>
      <p:sp>
        <p:nvSpPr>
          <p:cNvPr id="1908" name="Straight Connector 14"/>
          <p:cNvSpPr/>
          <p:nvPr/>
        </p:nvSpPr>
        <p:spPr>
          <a:xfrm>
            <a:off x="1025640" y="2239920"/>
            <a:ext cx="488880" cy="0"/>
          </a:xfrm>
          <a:prstGeom prst="line">
            <a:avLst/>
          </a:prstGeom>
          <a:ln w="3816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9" name="Rectangle 41"/>
          <p:cNvSpPr/>
          <p:nvPr/>
        </p:nvSpPr>
        <p:spPr>
          <a:xfrm flipH="1">
            <a:off x="8200440" y="3225960"/>
            <a:ext cx="3368520" cy="3632040"/>
          </a:xfrm>
          <a:prstGeom prst="rect">
            <a:avLst/>
          </a:prstGeom>
          <a:solidFill>
            <a:srgbClr val="7c8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0" name="TextBox 10"/>
          <p:cNvSpPr/>
          <p:nvPr/>
        </p:nvSpPr>
        <p:spPr>
          <a:xfrm>
            <a:off x="8889840" y="4846680"/>
            <a:ext cx="21798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Light"/>
                <a:ea typeface="Roboto Light"/>
              </a:rPr>
              <a:t>Lorem ipsum dolor sit amet, consectetur adipiscing elit, sed do eiusmod tempor incididunt ut labore et dolore magna aliqua.</a:t>
            </a:r>
            <a:endParaRPr b="0" lang="en-US" sz="1100" spc="-1" strike="noStrike">
              <a:solidFill>
                <a:srgbClr val="000000"/>
              </a:solidFill>
              <a:latin typeface="Calibri"/>
            </a:endParaRPr>
          </a:p>
        </p:txBody>
      </p:sp>
      <p:grpSp>
        <p:nvGrpSpPr>
          <p:cNvPr id="1911" name="Group 27656"/>
          <p:cNvGrpSpPr/>
          <p:nvPr/>
        </p:nvGrpSpPr>
        <p:grpSpPr>
          <a:xfrm>
            <a:off x="8858160" y="3855960"/>
            <a:ext cx="1562040" cy="841320"/>
            <a:chOff x="8858160" y="3855960"/>
            <a:chExt cx="1562040" cy="841320"/>
          </a:xfrm>
        </p:grpSpPr>
        <p:sp>
          <p:nvSpPr>
            <p:cNvPr id="1912" name="TextBox 46"/>
            <p:cNvSpPr/>
            <p:nvPr/>
          </p:nvSpPr>
          <p:spPr>
            <a:xfrm>
              <a:off x="8858160" y="3855960"/>
              <a:ext cx="124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0bcfd"/>
                  </a:solidFill>
                  <a:latin typeface="Roboto Slab"/>
                  <a:ea typeface="Roboto Slab"/>
                </a:rPr>
                <a:t>N</a:t>
              </a:r>
              <a:r>
                <a:rPr b="1" lang="en-US" sz="3200" spc="-1" strike="noStrike" baseline="30000">
                  <a:solidFill>
                    <a:srgbClr val="b0bcfd"/>
                  </a:solidFill>
                  <a:latin typeface="Roboto Slab"/>
                  <a:ea typeface="Roboto Slab"/>
                </a:rPr>
                <a:t>o</a:t>
              </a:r>
              <a:r>
                <a:rPr b="1" lang="en-US" sz="3200" spc="-1" strike="noStrike">
                  <a:solidFill>
                    <a:srgbClr val="b0bcfd"/>
                  </a:solidFill>
                  <a:latin typeface="Roboto Slab"/>
                  <a:ea typeface="Roboto Slab"/>
                </a:rPr>
                <a:t>01</a:t>
              </a:r>
              <a:endParaRPr b="0" lang="en-US" sz="3200" spc="-1" strike="noStrike">
                <a:solidFill>
                  <a:srgbClr val="000000"/>
                </a:solidFill>
                <a:latin typeface="Calibri"/>
              </a:endParaRPr>
            </a:p>
          </p:txBody>
        </p:sp>
        <p:sp>
          <p:nvSpPr>
            <p:cNvPr id="1913" name="TextBox 49"/>
            <p:cNvSpPr/>
            <p:nvPr/>
          </p:nvSpPr>
          <p:spPr>
            <a:xfrm>
              <a:off x="8890920" y="4347720"/>
              <a:ext cx="15292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Slab Medium"/>
                  <a:ea typeface="Roboto Slab Medium"/>
                </a:rPr>
                <a:t>Your title here</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TextBox 14"/>
          <p:cNvSpPr/>
          <p:nvPr/>
        </p:nvSpPr>
        <p:spPr>
          <a:xfrm>
            <a:off x="888840" y="1612800"/>
            <a:ext cx="4721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boto Slab"/>
                <a:ea typeface="Roboto Slab"/>
              </a:rPr>
              <a:t>Contact </a:t>
            </a:r>
            <a:r>
              <a:rPr b="0" lang="en-US" sz="4000" spc="-1" strike="noStrike">
                <a:solidFill>
                  <a:srgbClr val="000000"/>
                </a:solidFill>
                <a:latin typeface="Roboto Slab Medium"/>
                <a:ea typeface="Roboto Slab Medium"/>
              </a:rPr>
              <a:t>Us Today Educationaly </a:t>
            </a:r>
            <a:endParaRPr b="0" lang="en-US" sz="4000" spc="-1" strike="noStrike">
              <a:solidFill>
                <a:srgbClr val="000000"/>
              </a:solidFill>
              <a:latin typeface="Calibri"/>
            </a:endParaRPr>
          </a:p>
        </p:txBody>
      </p:sp>
      <p:grpSp>
        <p:nvGrpSpPr>
          <p:cNvPr id="1915" name="Group 18"/>
          <p:cNvGrpSpPr/>
          <p:nvPr/>
        </p:nvGrpSpPr>
        <p:grpSpPr>
          <a:xfrm>
            <a:off x="925560" y="3760920"/>
            <a:ext cx="7543800" cy="1403280"/>
            <a:chOff x="925560" y="3760920"/>
            <a:chExt cx="7543800" cy="1403280"/>
          </a:xfrm>
        </p:grpSpPr>
        <p:sp>
          <p:nvSpPr>
            <p:cNvPr id="1916" name="Freeform: Shape 17"/>
            <p:cNvSpPr/>
            <p:nvPr/>
          </p:nvSpPr>
          <p:spPr>
            <a:xfrm>
              <a:off x="5920560" y="3760920"/>
              <a:ext cx="2369880" cy="1403280"/>
            </a:xfrm>
            <a:custGeom>
              <a:avLst/>
              <a:gdLst/>
              <a:ahLst/>
              <a:rect l="l" t="t" r="r" b="b"/>
              <a:pathLst>
                <a:path w="2507742" h="2677849">
                  <a:moveTo>
                    <a:pt x="0" y="0"/>
                  </a:moveTo>
                  <a:lnTo>
                    <a:pt x="2507742" y="0"/>
                  </a:lnTo>
                  <a:lnTo>
                    <a:pt x="2507742" y="2677849"/>
                  </a:lnTo>
                  <a:lnTo>
                    <a:pt x="0" y="2677849"/>
                  </a:lnTo>
                  <a:lnTo>
                    <a:pt x="0" y="0"/>
                  </a:lnTo>
                  <a:close/>
                </a:path>
              </a:pathLst>
            </a:custGeom>
            <a:solidFill>
              <a:srgbClr val="ffffff"/>
            </a:solidFill>
            <a:ln w="0">
              <a:noFill/>
            </a:ln>
            <a:effectLst>
              <a:outerShdw dist="76367" dir="2700000" blurRad="0" rotWithShape="0">
                <a:srgbClr val="000000">
                  <a:alpha val="12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17" name="TextBox 2"/>
            <p:cNvSpPr/>
            <p:nvPr/>
          </p:nvSpPr>
          <p:spPr>
            <a:xfrm>
              <a:off x="925560" y="3869280"/>
              <a:ext cx="1977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Slab"/>
                  <a:ea typeface="Roboto Slab"/>
                </a:rPr>
                <a:t>We Offer 24/7 Customer Support!</a:t>
              </a:r>
              <a:endParaRPr b="0" lang="en-US" sz="1600" spc="-1" strike="noStrike">
                <a:solidFill>
                  <a:srgbClr val="000000"/>
                </a:solidFill>
                <a:latin typeface="Calibri"/>
              </a:endParaRPr>
            </a:p>
          </p:txBody>
        </p:sp>
        <p:pic>
          <p:nvPicPr>
            <p:cNvPr id="1918" name="Group 8" descr=""/>
            <p:cNvPicPr/>
            <p:nvPr/>
          </p:nvPicPr>
          <p:blipFill>
            <a:blip r:embed="rId1"/>
            <a:stretch/>
          </p:blipFill>
          <p:spPr>
            <a:xfrm>
              <a:off x="1065960" y="4902480"/>
              <a:ext cx="1206720" cy="177840"/>
            </a:xfrm>
            <a:prstGeom prst="rect">
              <a:avLst/>
            </a:prstGeom>
            <a:ln w="0">
              <a:noFill/>
            </a:ln>
          </p:spPr>
        </p:pic>
        <p:sp>
          <p:nvSpPr>
            <p:cNvPr id="1919" name="TextBox 9"/>
            <p:cNvSpPr/>
            <p:nvPr/>
          </p:nvSpPr>
          <p:spPr>
            <a:xfrm>
              <a:off x="949320" y="4520160"/>
              <a:ext cx="21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oboto Light"/>
                  <a:ea typeface="Roboto Light"/>
                </a:rPr>
                <a:t>Connect With Us on Social </a:t>
              </a:r>
              <a:endParaRPr b="0" lang="en-US" sz="1200" spc="-1" strike="noStrike">
                <a:solidFill>
                  <a:srgbClr val="000000"/>
                </a:solidFill>
                <a:latin typeface="Calibri"/>
              </a:endParaRPr>
            </a:p>
          </p:txBody>
        </p:sp>
        <p:sp>
          <p:nvSpPr>
            <p:cNvPr id="1920" name="Freeform: Shape 16"/>
            <p:cNvSpPr/>
            <p:nvPr/>
          </p:nvSpPr>
          <p:spPr>
            <a:xfrm>
              <a:off x="3314880" y="3760920"/>
              <a:ext cx="2369880" cy="1403280"/>
            </a:xfrm>
            <a:custGeom>
              <a:avLst/>
              <a:gdLst/>
              <a:ahLst/>
              <a:rect l="l" t="t" r="r" b="b"/>
              <a:pathLst>
                <a:path w="2507742" h="2677849">
                  <a:moveTo>
                    <a:pt x="0" y="0"/>
                  </a:moveTo>
                  <a:lnTo>
                    <a:pt x="2507742" y="0"/>
                  </a:lnTo>
                  <a:lnTo>
                    <a:pt x="2507742" y="2677849"/>
                  </a:lnTo>
                  <a:lnTo>
                    <a:pt x="0" y="2677849"/>
                  </a:lnTo>
                  <a:lnTo>
                    <a:pt x="0" y="0"/>
                  </a:lnTo>
                  <a:close/>
                </a:path>
              </a:pathLst>
            </a:custGeom>
            <a:solidFill>
              <a:srgbClr val="7c8ffb"/>
            </a:solidFill>
            <a:ln w="0">
              <a:noFill/>
            </a:ln>
            <a:effectLst>
              <a:outerShdw dist="76367" dir="2700000" blurRad="0" rotWithShape="0">
                <a:srgbClr val="000000">
                  <a:alpha val="12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21" name="TextBox 3"/>
            <p:cNvSpPr/>
            <p:nvPr/>
          </p:nvSpPr>
          <p:spPr>
            <a:xfrm>
              <a:off x="3636720" y="4343040"/>
              <a:ext cx="1926000" cy="805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Light"/>
                  <a:ea typeface="Roboto Light"/>
                </a:rPr>
                <a:t>59 West 46th Street, New York City, NY 10036</a:t>
              </a:r>
              <a:endParaRPr b="0" lang="en-US" sz="1200" spc="-1" strike="noStrike">
                <a:solidFill>
                  <a:srgbClr val="000000"/>
                </a:solidFill>
                <a:latin typeface="Calibri"/>
              </a:endParaRPr>
            </a:p>
          </p:txBody>
        </p:sp>
        <p:sp>
          <p:nvSpPr>
            <p:cNvPr id="1922" name="TextBox 4"/>
            <p:cNvSpPr/>
            <p:nvPr/>
          </p:nvSpPr>
          <p:spPr>
            <a:xfrm>
              <a:off x="3636720" y="4035240"/>
              <a:ext cx="1501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Slab Medium"/>
                  <a:ea typeface="Roboto Slab Medium"/>
                </a:rPr>
                <a:t>Our Address </a:t>
              </a:r>
              <a:endParaRPr b="0" lang="en-US" sz="1400" spc="-1" strike="noStrike">
                <a:solidFill>
                  <a:srgbClr val="000000"/>
                </a:solidFill>
                <a:latin typeface="Calibri"/>
              </a:endParaRPr>
            </a:p>
          </p:txBody>
        </p:sp>
        <p:sp>
          <p:nvSpPr>
            <p:cNvPr id="1923" name="TextBox 5"/>
            <p:cNvSpPr/>
            <p:nvPr/>
          </p:nvSpPr>
          <p:spPr>
            <a:xfrm>
              <a:off x="6237000" y="4343040"/>
              <a:ext cx="223236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oboto Light"/>
                  <a:ea typeface="Roboto Light"/>
                </a:rPr>
                <a:t>+99 345 7681</a:t>
              </a:r>
              <a:endParaRPr b="0" lang="en-US" sz="1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oboto Light"/>
                  <a:ea typeface="Roboto Light"/>
                </a:rPr>
                <a:t>info@educationaly.com</a:t>
              </a:r>
              <a:endParaRPr b="0" lang="en-US" sz="1200" spc="-1" strike="noStrike">
                <a:solidFill>
                  <a:srgbClr val="000000"/>
                </a:solidFill>
                <a:latin typeface="Calibri"/>
              </a:endParaRPr>
            </a:p>
          </p:txBody>
        </p:sp>
        <p:sp>
          <p:nvSpPr>
            <p:cNvPr id="1924" name="TextBox 6"/>
            <p:cNvSpPr/>
            <p:nvPr/>
          </p:nvSpPr>
          <p:spPr>
            <a:xfrm>
              <a:off x="6237000" y="4035240"/>
              <a:ext cx="1501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Phone &amp; Email</a:t>
              </a:r>
              <a:endParaRPr b="0" lang="en-US" sz="1400" spc="-1" strike="noStrike">
                <a:solidFill>
                  <a:srgbClr val="000000"/>
                </a:solidFill>
                <a:latin typeface="Calibri"/>
              </a:endParaRPr>
            </a:p>
          </p:txBody>
        </p:sp>
      </p:grpSp>
      <p:sp>
        <p:nvSpPr>
          <p:cNvPr id="1925" name="Straight Connector 21"/>
          <p:cNvSpPr/>
          <p:nvPr/>
        </p:nvSpPr>
        <p:spPr>
          <a:xfrm>
            <a:off x="4419720" y="2671920"/>
            <a:ext cx="1068120" cy="0"/>
          </a:xfrm>
          <a:prstGeom prst="line">
            <a:avLst/>
          </a:prstGeom>
          <a:ln w="3816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7" name="TextBox 96" descr=""/>
          <p:cNvPicPr/>
          <p:nvPr/>
        </p:nvPicPr>
        <p:blipFill>
          <a:blip r:embed="rId1"/>
          <a:stretch/>
        </p:blipFill>
        <p:spPr>
          <a:xfrm>
            <a:off x="660240" y="1295280"/>
            <a:ext cx="1346400" cy="1587600"/>
          </a:xfrm>
          <a:prstGeom prst="rect">
            <a:avLst/>
          </a:prstGeom>
          <a:ln w="0">
            <a:noFill/>
          </a:ln>
        </p:spPr>
      </p:pic>
      <p:sp>
        <p:nvSpPr>
          <p:cNvPr id="1388" name="TextBox 20"/>
          <p:cNvSpPr/>
          <p:nvPr/>
        </p:nvSpPr>
        <p:spPr>
          <a:xfrm>
            <a:off x="981000" y="1811160"/>
            <a:ext cx="356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boto Slab"/>
                <a:ea typeface="Roboto Slab"/>
              </a:rPr>
              <a:t>Our </a:t>
            </a:r>
            <a:r>
              <a:rPr b="0" lang="en-US" sz="4000" spc="-1" strike="noStrike">
                <a:solidFill>
                  <a:srgbClr val="000000"/>
                </a:solidFill>
                <a:latin typeface="Roboto Slab Medium"/>
                <a:ea typeface="Roboto Slab Medium"/>
              </a:rPr>
              <a:t>Mission</a:t>
            </a:r>
            <a:endParaRPr b="0" lang="en-US" sz="4000" spc="-1" strike="noStrike">
              <a:solidFill>
                <a:srgbClr val="000000"/>
              </a:solidFill>
              <a:latin typeface="Calibri"/>
            </a:endParaRPr>
          </a:p>
        </p:txBody>
      </p:sp>
      <p:sp>
        <p:nvSpPr>
          <p:cNvPr id="1389" name="TextBox 34"/>
          <p:cNvSpPr/>
          <p:nvPr/>
        </p:nvSpPr>
        <p:spPr>
          <a:xfrm>
            <a:off x="1003320" y="2935440"/>
            <a:ext cx="25606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Lorem ipsum dolor sit amet</a:t>
            </a:r>
            <a:endParaRPr b="0" lang="en-US" sz="1400" spc="-1" strike="noStrike">
              <a:solidFill>
                <a:srgbClr val="000000"/>
              </a:solidFill>
              <a:latin typeface="Calibri"/>
            </a:endParaRPr>
          </a:p>
        </p:txBody>
      </p:sp>
      <p:sp>
        <p:nvSpPr>
          <p:cNvPr id="1390" name="Straight Connector 39"/>
          <p:cNvSpPr/>
          <p:nvPr/>
        </p:nvSpPr>
        <p:spPr>
          <a:xfrm>
            <a:off x="3564000" y="3125880"/>
            <a:ext cx="365040" cy="0"/>
          </a:xfrm>
          <a:prstGeom prst="line">
            <a:avLst/>
          </a:prstGeom>
          <a:ln w="3816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1" name="TextBox 7"/>
          <p:cNvSpPr/>
          <p:nvPr/>
        </p:nvSpPr>
        <p:spPr>
          <a:xfrm>
            <a:off x="1366920" y="4282920"/>
            <a:ext cx="299412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Ut enim ad minim veniam, quis nostrud exercitation ullamco laboris nisi </a:t>
            </a:r>
            <a:endParaRPr b="0" lang="en-US" sz="1100" spc="-1" strike="noStrike">
              <a:solidFill>
                <a:srgbClr val="000000"/>
              </a:solidFill>
              <a:latin typeface="Calibri"/>
            </a:endParaRPr>
          </a:p>
        </p:txBody>
      </p:sp>
      <p:sp>
        <p:nvSpPr>
          <p:cNvPr id="1392" name="TextBox 26"/>
          <p:cNvSpPr/>
          <p:nvPr/>
        </p:nvSpPr>
        <p:spPr>
          <a:xfrm>
            <a:off x="4255920" y="4282920"/>
            <a:ext cx="299412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Ut enim ad minim veniam, quis nostrud exercitation ullamco laboris nisi </a:t>
            </a:r>
            <a:endParaRPr b="0" lang="en-US" sz="1100" spc="-1" strike="noStrike">
              <a:solidFill>
                <a:srgbClr val="000000"/>
              </a:solidFill>
              <a:latin typeface="Calibri"/>
            </a:endParaRPr>
          </a:p>
        </p:txBody>
      </p:sp>
      <p:sp>
        <p:nvSpPr>
          <p:cNvPr id="1393" name="TextBox 60"/>
          <p:cNvSpPr/>
          <p:nvPr/>
        </p:nvSpPr>
        <p:spPr>
          <a:xfrm>
            <a:off x="1366920" y="3940200"/>
            <a:ext cx="256212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boto Slab Medium"/>
                <a:ea typeface="Roboto Slab Medium"/>
              </a:rPr>
              <a:t>Your title here</a:t>
            </a:r>
            <a:endParaRPr b="0" lang="en-US" sz="1200" spc="-1" strike="noStrike">
              <a:solidFill>
                <a:srgbClr val="000000"/>
              </a:solidFill>
              <a:latin typeface="Calibri"/>
            </a:endParaRPr>
          </a:p>
        </p:txBody>
      </p:sp>
      <p:sp>
        <p:nvSpPr>
          <p:cNvPr id="1394" name="TextBox 61"/>
          <p:cNvSpPr/>
          <p:nvPr/>
        </p:nvSpPr>
        <p:spPr>
          <a:xfrm>
            <a:off x="4255920" y="3940200"/>
            <a:ext cx="256068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boto Slab Medium"/>
                <a:ea typeface="Roboto Slab Medium"/>
              </a:rPr>
              <a:t>Your title here</a:t>
            </a:r>
            <a:endParaRPr b="0" lang="en-US" sz="1200" spc="-1" strike="noStrike">
              <a:solidFill>
                <a:srgbClr val="000000"/>
              </a:solidFill>
              <a:latin typeface="Calibri"/>
            </a:endParaRPr>
          </a:p>
        </p:txBody>
      </p:sp>
      <p:grpSp>
        <p:nvGrpSpPr>
          <p:cNvPr id="1395" name="Group 1043"/>
          <p:cNvGrpSpPr/>
          <p:nvPr/>
        </p:nvGrpSpPr>
        <p:grpSpPr>
          <a:xfrm>
            <a:off x="974880" y="622440"/>
            <a:ext cx="1212840" cy="293400"/>
            <a:chOff x="974880" y="622440"/>
            <a:chExt cx="1212840" cy="293400"/>
          </a:xfrm>
        </p:grpSpPr>
        <p:sp>
          <p:nvSpPr>
            <p:cNvPr id="1396" name="TextBox 84"/>
            <p:cNvSpPr/>
            <p:nvPr/>
          </p:nvSpPr>
          <p:spPr>
            <a:xfrm>
              <a:off x="974880" y="622440"/>
              <a:ext cx="121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boto Slab Medium"/>
                  <a:ea typeface="Roboto Slab Medium"/>
                </a:rPr>
                <a:t>Educationaly </a:t>
              </a:r>
              <a:endParaRPr b="0" lang="en-US" sz="1200" spc="-1" strike="noStrike">
                <a:solidFill>
                  <a:srgbClr val="000000"/>
                </a:solidFill>
                <a:latin typeface="Calibri"/>
              </a:endParaRPr>
            </a:p>
          </p:txBody>
        </p:sp>
        <p:sp>
          <p:nvSpPr>
            <p:cNvPr id="1397" name="Graphic 1031"/>
            <p:cNvSpPr/>
            <p:nvPr/>
          </p:nvSpPr>
          <p:spPr>
            <a:xfrm>
              <a:off x="1037520" y="863640"/>
              <a:ext cx="299160" cy="52200"/>
            </a:xfrm>
            <a:custGeom>
              <a:avLst/>
              <a:gdLst/>
              <a:ahLst/>
              <a:rect l="l" t="t" r="r" b="b"/>
              <a:pathLst>
                <a:path w="760911" h="132655">
                  <a:moveTo>
                    <a:pt x="0" y="132656"/>
                  </a:moveTo>
                  <a:cubicBezTo>
                    <a:pt x="55245" y="99318"/>
                    <a:pt x="113348" y="71696"/>
                    <a:pt x="174308" y="50741"/>
                  </a:cubicBezTo>
                  <a:cubicBezTo>
                    <a:pt x="235268" y="29786"/>
                    <a:pt x="298133" y="14546"/>
                    <a:pt x="361950" y="6926"/>
                  </a:cubicBezTo>
                  <a:cubicBezTo>
                    <a:pt x="490538" y="-9267"/>
                    <a:pt x="622935" y="3116"/>
                    <a:pt x="747713" y="42168"/>
                  </a:cubicBezTo>
                  <a:cubicBezTo>
                    <a:pt x="758190" y="45026"/>
                    <a:pt x="762953" y="55503"/>
                    <a:pt x="760095" y="65981"/>
                  </a:cubicBezTo>
                  <a:cubicBezTo>
                    <a:pt x="757238" y="76458"/>
                    <a:pt x="746760" y="81221"/>
                    <a:pt x="736283" y="78363"/>
                  </a:cubicBezTo>
                  <a:cubicBezTo>
                    <a:pt x="736283" y="78363"/>
                    <a:pt x="735330" y="78363"/>
                    <a:pt x="735330" y="78363"/>
                  </a:cubicBezTo>
                  <a:cubicBezTo>
                    <a:pt x="617220" y="35501"/>
                    <a:pt x="490538" y="16451"/>
                    <a:pt x="363855" y="26928"/>
                  </a:cubicBezTo>
                  <a:cubicBezTo>
                    <a:pt x="300990" y="30738"/>
                    <a:pt x="238125" y="42168"/>
                    <a:pt x="177165" y="60266"/>
                  </a:cubicBezTo>
                  <a:cubicBezTo>
                    <a:pt x="115253" y="78363"/>
                    <a:pt x="56198" y="103128"/>
                    <a:pt x="0" y="132656"/>
                  </a:cubicBezTo>
                  <a:close/>
                </a:path>
              </a:pathLst>
            </a:custGeom>
            <a:solidFill>
              <a:srgbClr val="7c8ffb"/>
            </a:solidFill>
            <a:ln w="0">
              <a:noFill/>
            </a:ln>
          </p:spPr>
          <p:style>
            <a:lnRef idx="0"/>
            <a:fillRef idx="0"/>
            <a:effectRef idx="0"/>
            <a:fontRef idx="minor"/>
          </p:style>
          <p:txBody>
            <a:bodyPr lIns="90000" rIns="90000" tIns="5400" bIns="5400" anchor="ctr">
              <a:noAutofit/>
            </a:bodyPr>
            <a:p>
              <a:endParaRPr b="0" lang="en-US" sz="1800" spc="-1" strike="noStrike">
                <a:solidFill>
                  <a:srgbClr val="000000"/>
                </a:solidFill>
                <a:latin typeface="Calibri"/>
              </a:endParaRPr>
            </a:p>
          </p:txBody>
        </p:sp>
      </p:grpSp>
      <p:grpSp>
        <p:nvGrpSpPr>
          <p:cNvPr id="1398" name="Group 91"/>
          <p:cNvGrpSpPr/>
          <p:nvPr/>
        </p:nvGrpSpPr>
        <p:grpSpPr>
          <a:xfrm>
            <a:off x="6243480" y="2131920"/>
            <a:ext cx="474840" cy="65160"/>
            <a:chOff x="6243480" y="2131920"/>
            <a:chExt cx="474840" cy="65160"/>
          </a:xfrm>
        </p:grpSpPr>
        <p:sp>
          <p:nvSpPr>
            <p:cNvPr id="1399" name="Freeform: Shape 92"/>
            <p:cNvSpPr/>
            <p:nvPr/>
          </p:nvSpPr>
          <p:spPr>
            <a:xfrm>
              <a:off x="6243480" y="2131920"/>
              <a:ext cx="64440" cy="6516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4fcb6"/>
            </a:solidFill>
            <a:ln w="0">
              <a:noFill/>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Calibri"/>
              </a:endParaRPr>
            </a:p>
          </p:txBody>
        </p:sp>
        <p:sp>
          <p:nvSpPr>
            <p:cNvPr id="1400" name="Freeform: Shape 93"/>
            <p:cNvSpPr/>
            <p:nvPr/>
          </p:nvSpPr>
          <p:spPr>
            <a:xfrm>
              <a:off x="6380280" y="2131920"/>
              <a:ext cx="64440" cy="6516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bbbcfc"/>
            </a:solidFill>
            <a:ln w="0">
              <a:noFill/>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Calibri"/>
              </a:endParaRPr>
            </a:p>
          </p:txBody>
        </p:sp>
        <p:sp>
          <p:nvSpPr>
            <p:cNvPr id="1401" name="Freeform: Shape 94"/>
            <p:cNvSpPr/>
            <p:nvPr/>
          </p:nvSpPr>
          <p:spPr>
            <a:xfrm>
              <a:off x="6517080" y="2131920"/>
              <a:ext cx="64440" cy="6516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ec2e1"/>
            </a:solidFill>
            <a:ln w="0">
              <a:noFill/>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Calibri"/>
              </a:endParaRPr>
            </a:p>
          </p:txBody>
        </p:sp>
        <p:sp>
          <p:nvSpPr>
            <p:cNvPr id="1402" name="Freeform: Shape 95"/>
            <p:cNvSpPr/>
            <p:nvPr/>
          </p:nvSpPr>
          <p:spPr>
            <a:xfrm>
              <a:off x="6653880" y="2131920"/>
              <a:ext cx="64440" cy="6516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97fff7"/>
            </a:solidFill>
            <a:ln w="0">
              <a:noFill/>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Calibri"/>
              </a:endParaRPr>
            </a:p>
          </p:txBody>
        </p:sp>
      </p:grpSp>
      <p:pic>
        <p:nvPicPr>
          <p:cNvPr id="1403" name="" descr=""/>
          <p:cNvPicPr/>
          <p:nvPr/>
        </p:nvPicPr>
        <p:blipFill>
          <a:blip r:embed="rId2"/>
          <a:stretch/>
        </p:blipFill>
        <p:spPr>
          <a:xfrm>
            <a:off x="7249680" y="0"/>
            <a:ext cx="3884760" cy="5873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TextBox 39"/>
          <p:cNvSpPr/>
          <p:nvPr/>
        </p:nvSpPr>
        <p:spPr>
          <a:xfrm>
            <a:off x="1204920" y="3714840"/>
            <a:ext cx="42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Roboto"/>
                <a:ea typeface="Roboto"/>
              </a:rPr>
              <a:t>Online Education Presentation Template</a:t>
            </a:r>
            <a:endParaRPr b="0" lang="en-US" sz="1600" spc="-1" strike="noStrike">
              <a:solidFill>
                <a:srgbClr val="000000"/>
              </a:solidFill>
              <a:latin typeface="Calibri"/>
            </a:endParaRPr>
          </a:p>
        </p:txBody>
      </p:sp>
      <p:sp>
        <p:nvSpPr>
          <p:cNvPr id="1927" name="TextBox 21"/>
          <p:cNvSpPr/>
          <p:nvPr/>
        </p:nvSpPr>
        <p:spPr>
          <a:xfrm>
            <a:off x="1049400" y="2630520"/>
            <a:ext cx="43876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Roboto Slab"/>
                <a:ea typeface="Roboto Slab"/>
              </a:rPr>
              <a:t>Thank You</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TextBox 1"/>
          <p:cNvSpPr/>
          <p:nvPr/>
        </p:nvSpPr>
        <p:spPr>
          <a:xfrm>
            <a:off x="974880" y="4943520"/>
            <a:ext cx="2671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boto Slab Medium"/>
                <a:ea typeface="Roboto Slab Medium"/>
              </a:rPr>
              <a:t>Features</a:t>
            </a:r>
            <a:endParaRPr b="0" lang="en-US" sz="4000" spc="-1" strike="noStrike">
              <a:solidFill>
                <a:srgbClr val="000000"/>
              </a:solidFill>
              <a:latin typeface="Calibri"/>
            </a:endParaRPr>
          </a:p>
        </p:txBody>
      </p:sp>
      <p:sp>
        <p:nvSpPr>
          <p:cNvPr id="1405" name="TextBox 6"/>
          <p:cNvSpPr/>
          <p:nvPr/>
        </p:nvSpPr>
        <p:spPr>
          <a:xfrm>
            <a:off x="8369280" y="1670040"/>
            <a:ext cx="25606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a:t>
            </a:r>
            <a:endParaRPr b="0" lang="en-US" sz="1100" spc="-1" strike="noStrike">
              <a:solidFill>
                <a:srgbClr val="000000"/>
              </a:solidFill>
              <a:latin typeface="Calibri"/>
            </a:endParaRPr>
          </a:p>
        </p:txBody>
      </p:sp>
      <p:grpSp>
        <p:nvGrpSpPr>
          <p:cNvPr id="1406" name="Group 26"/>
          <p:cNvGrpSpPr/>
          <p:nvPr/>
        </p:nvGrpSpPr>
        <p:grpSpPr>
          <a:xfrm>
            <a:off x="974880" y="622440"/>
            <a:ext cx="1212840" cy="293400"/>
            <a:chOff x="974880" y="622440"/>
            <a:chExt cx="1212840" cy="293400"/>
          </a:xfrm>
        </p:grpSpPr>
        <p:sp>
          <p:nvSpPr>
            <p:cNvPr id="1407" name="TextBox 27"/>
            <p:cNvSpPr/>
            <p:nvPr/>
          </p:nvSpPr>
          <p:spPr>
            <a:xfrm>
              <a:off x="974880" y="622440"/>
              <a:ext cx="121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boto Slab Medium"/>
                  <a:ea typeface="Roboto Slab Medium"/>
                </a:rPr>
                <a:t>Educationaly </a:t>
              </a:r>
              <a:endParaRPr b="0" lang="en-US" sz="1200" spc="-1" strike="noStrike">
                <a:solidFill>
                  <a:srgbClr val="000000"/>
                </a:solidFill>
                <a:latin typeface="Calibri"/>
              </a:endParaRPr>
            </a:p>
          </p:txBody>
        </p:sp>
        <p:sp>
          <p:nvSpPr>
            <p:cNvPr id="1408" name="Graphic 1031"/>
            <p:cNvSpPr/>
            <p:nvPr/>
          </p:nvSpPr>
          <p:spPr>
            <a:xfrm>
              <a:off x="1037520" y="863640"/>
              <a:ext cx="299160" cy="52200"/>
            </a:xfrm>
            <a:custGeom>
              <a:avLst/>
              <a:gdLst/>
              <a:ahLst/>
              <a:rect l="l" t="t" r="r" b="b"/>
              <a:pathLst>
                <a:path w="760911" h="132655">
                  <a:moveTo>
                    <a:pt x="0" y="132656"/>
                  </a:moveTo>
                  <a:cubicBezTo>
                    <a:pt x="55245" y="99318"/>
                    <a:pt x="113348" y="71696"/>
                    <a:pt x="174308" y="50741"/>
                  </a:cubicBezTo>
                  <a:cubicBezTo>
                    <a:pt x="235268" y="29786"/>
                    <a:pt x="298133" y="14546"/>
                    <a:pt x="361950" y="6926"/>
                  </a:cubicBezTo>
                  <a:cubicBezTo>
                    <a:pt x="490538" y="-9267"/>
                    <a:pt x="622935" y="3116"/>
                    <a:pt x="747713" y="42168"/>
                  </a:cubicBezTo>
                  <a:cubicBezTo>
                    <a:pt x="758190" y="45026"/>
                    <a:pt x="762953" y="55503"/>
                    <a:pt x="760095" y="65981"/>
                  </a:cubicBezTo>
                  <a:cubicBezTo>
                    <a:pt x="757238" y="76458"/>
                    <a:pt x="746760" y="81221"/>
                    <a:pt x="736283" y="78363"/>
                  </a:cubicBezTo>
                  <a:cubicBezTo>
                    <a:pt x="736283" y="78363"/>
                    <a:pt x="735330" y="78363"/>
                    <a:pt x="735330" y="78363"/>
                  </a:cubicBezTo>
                  <a:cubicBezTo>
                    <a:pt x="617220" y="35501"/>
                    <a:pt x="490538" y="16451"/>
                    <a:pt x="363855" y="26928"/>
                  </a:cubicBezTo>
                  <a:cubicBezTo>
                    <a:pt x="300990" y="30738"/>
                    <a:pt x="238125" y="42168"/>
                    <a:pt x="177165" y="60266"/>
                  </a:cubicBezTo>
                  <a:cubicBezTo>
                    <a:pt x="115253" y="78363"/>
                    <a:pt x="56198" y="103128"/>
                    <a:pt x="0" y="132656"/>
                  </a:cubicBezTo>
                  <a:close/>
                </a:path>
              </a:pathLst>
            </a:custGeom>
            <a:solidFill>
              <a:srgbClr val="7c8ffb"/>
            </a:solidFill>
            <a:ln w="0">
              <a:noFill/>
            </a:ln>
          </p:spPr>
          <p:style>
            <a:lnRef idx="0"/>
            <a:fillRef idx="0"/>
            <a:effectRef idx="0"/>
            <a:fontRef idx="minor"/>
          </p:style>
          <p:txBody>
            <a:bodyPr lIns="90000" rIns="90000" tIns="5400" bIns="5400" anchor="ctr">
              <a:noAutofit/>
            </a:bodyPr>
            <a:p>
              <a:endParaRPr b="0" lang="en-US" sz="1800" spc="-1" strike="noStrike">
                <a:solidFill>
                  <a:srgbClr val="000000"/>
                </a:solidFill>
                <a:latin typeface="Calibri"/>
              </a:endParaRPr>
            </a:p>
          </p:txBody>
        </p:sp>
      </p:grpSp>
      <p:sp>
        <p:nvSpPr>
          <p:cNvPr id="1409" name="Straight Connector 29"/>
          <p:cNvSpPr/>
          <p:nvPr/>
        </p:nvSpPr>
        <p:spPr>
          <a:xfrm>
            <a:off x="1079640" y="4616280"/>
            <a:ext cx="488880" cy="0"/>
          </a:xfrm>
          <a:prstGeom prst="line">
            <a:avLst/>
          </a:prstGeom>
          <a:ln w="3816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0" name="TextBox 30"/>
          <p:cNvSpPr/>
          <p:nvPr/>
        </p:nvSpPr>
        <p:spPr>
          <a:xfrm>
            <a:off x="5419800" y="4245120"/>
            <a:ext cx="299412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Ut enim ad minim veniam, quis nostrud </a:t>
            </a:r>
            <a:endParaRPr b="0" lang="en-US" sz="1100" spc="-1" strike="noStrike">
              <a:solidFill>
                <a:srgbClr val="000000"/>
              </a:solidFill>
              <a:latin typeface="Calibri"/>
            </a:endParaRPr>
          </a:p>
        </p:txBody>
      </p:sp>
      <p:sp>
        <p:nvSpPr>
          <p:cNvPr id="1411" name="TextBox 31"/>
          <p:cNvSpPr/>
          <p:nvPr/>
        </p:nvSpPr>
        <p:spPr>
          <a:xfrm>
            <a:off x="5419800" y="3949560"/>
            <a:ext cx="256212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boto Slab Medium"/>
                <a:ea typeface="Roboto Slab Medium"/>
              </a:rPr>
              <a:t>Your title here</a:t>
            </a:r>
            <a:endParaRPr b="0" lang="en-US" sz="1200" spc="-1" strike="noStrike">
              <a:solidFill>
                <a:srgbClr val="000000"/>
              </a:solidFill>
              <a:latin typeface="Calibri"/>
            </a:endParaRPr>
          </a:p>
        </p:txBody>
      </p:sp>
      <p:sp>
        <p:nvSpPr>
          <p:cNvPr id="1412" name="TextBox 48"/>
          <p:cNvSpPr/>
          <p:nvPr/>
        </p:nvSpPr>
        <p:spPr>
          <a:xfrm>
            <a:off x="8369280" y="1373040"/>
            <a:ext cx="256068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boto Slab Medium"/>
                <a:ea typeface="Roboto Slab Medium"/>
              </a:rPr>
              <a:t>Your title here</a:t>
            </a:r>
            <a:endParaRPr b="0" lang="en-US" sz="1200" spc="-1" strike="noStrike">
              <a:solidFill>
                <a:srgbClr val="000000"/>
              </a:solidFill>
              <a:latin typeface="Calibri"/>
            </a:endParaRPr>
          </a:p>
        </p:txBody>
      </p:sp>
      <p:grpSp>
        <p:nvGrpSpPr>
          <p:cNvPr id="1413" name="Group 49"/>
          <p:cNvGrpSpPr/>
          <p:nvPr/>
        </p:nvGrpSpPr>
        <p:grpSpPr>
          <a:xfrm>
            <a:off x="10625040" y="692280"/>
            <a:ext cx="474840" cy="64800"/>
            <a:chOff x="10625040" y="692280"/>
            <a:chExt cx="474840" cy="64800"/>
          </a:xfrm>
        </p:grpSpPr>
        <p:sp>
          <p:nvSpPr>
            <p:cNvPr id="1414" name="Freeform: Shape 50"/>
            <p:cNvSpPr/>
            <p:nvPr/>
          </p:nvSpPr>
          <p:spPr>
            <a:xfrm>
              <a:off x="106250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4fcb6"/>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415" name="Freeform: Shape 51"/>
            <p:cNvSpPr/>
            <p:nvPr/>
          </p:nvSpPr>
          <p:spPr>
            <a:xfrm>
              <a:off x="107618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bbbcfc"/>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416" name="Freeform: Shape 52"/>
            <p:cNvSpPr/>
            <p:nvPr/>
          </p:nvSpPr>
          <p:spPr>
            <a:xfrm>
              <a:off x="108986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ec2e1"/>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417" name="Freeform: Shape 53"/>
            <p:cNvSpPr/>
            <p:nvPr/>
          </p:nvSpPr>
          <p:spPr>
            <a:xfrm>
              <a:off x="110354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97fff7"/>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grpSp>
      <p:sp>
        <p:nvSpPr>
          <p:cNvPr id="1418" name="TextBox 54"/>
          <p:cNvSpPr/>
          <p:nvPr/>
        </p:nvSpPr>
        <p:spPr>
          <a:xfrm>
            <a:off x="974880" y="5594400"/>
            <a:ext cx="256032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Slab"/>
                <a:ea typeface="Roboto Slab"/>
              </a:rPr>
              <a:t>Lorem ipsum dolor sit ame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9" name="TextBox 80" descr=""/>
          <p:cNvPicPr/>
          <p:nvPr/>
        </p:nvPicPr>
        <p:blipFill>
          <a:blip r:embed="rId1"/>
          <a:stretch/>
        </p:blipFill>
        <p:spPr>
          <a:xfrm>
            <a:off x="1295280" y="419040"/>
            <a:ext cx="1346400" cy="1575000"/>
          </a:xfrm>
          <a:prstGeom prst="rect">
            <a:avLst/>
          </a:prstGeom>
          <a:ln w="0">
            <a:noFill/>
          </a:ln>
        </p:spPr>
      </p:pic>
      <p:sp>
        <p:nvSpPr>
          <p:cNvPr id="1420" name="TextBox 1"/>
          <p:cNvSpPr/>
          <p:nvPr/>
        </p:nvSpPr>
        <p:spPr>
          <a:xfrm>
            <a:off x="1587600" y="971640"/>
            <a:ext cx="31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Slab"/>
                <a:ea typeface="Roboto Slab"/>
              </a:rPr>
              <a:t>Our</a:t>
            </a:r>
            <a:r>
              <a:rPr b="1" lang="en-US" sz="3600" spc="-1" strike="noStrike">
                <a:solidFill>
                  <a:srgbClr val="000000"/>
                </a:solidFill>
                <a:latin typeface="Roboto Slab"/>
                <a:ea typeface="Roboto Slab"/>
              </a:rPr>
              <a:t> </a:t>
            </a:r>
            <a:r>
              <a:rPr b="0" lang="en-US" sz="3600" spc="-1" strike="noStrike">
                <a:solidFill>
                  <a:srgbClr val="000000"/>
                </a:solidFill>
                <a:latin typeface="Roboto Slab Medium"/>
                <a:ea typeface="Roboto Slab Medium"/>
              </a:rPr>
              <a:t>Teachers</a:t>
            </a:r>
            <a:endParaRPr b="0" lang="en-US" sz="3600" spc="-1" strike="noStrike">
              <a:solidFill>
                <a:srgbClr val="000000"/>
              </a:solidFill>
              <a:latin typeface="Calibri"/>
            </a:endParaRPr>
          </a:p>
        </p:txBody>
      </p:sp>
      <p:sp>
        <p:nvSpPr>
          <p:cNvPr id="1421" name="TextBox 12"/>
          <p:cNvSpPr/>
          <p:nvPr/>
        </p:nvSpPr>
        <p:spPr>
          <a:xfrm>
            <a:off x="1619280" y="1697040"/>
            <a:ext cx="33814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Ut enim ad minim veniam, quis</a:t>
            </a:r>
            <a:endParaRPr b="0" lang="en-US" sz="1100" spc="-1" strike="noStrike">
              <a:solidFill>
                <a:srgbClr val="000000"/>
              </a:solidFill>
              <a:latin typeface="Calibri"/>
            </a:endParaRPr>
          </a:p>
        </p:txBody>
      </p:sp>
      <p:sp>
        <p:nvSpPr>
          <p:cNvPr id="1422" name="TextBox 17"/>
          <p:cNvSpPr/>
          <p:nvPr/>
        </p:nvSpPr>
        <p:spPr>
          <a:xfrm>
            <a:off x="5519880" y="4629240"/>
            <a:ext cx="2131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Mary Sleek </a:t>
            </a:r>
            <a:r>
              <a:rPr b="1" lang="en-US" sz="1400" spc="-1" strike="noStrike">
                <a:solidFill>
                  <a:srgbClr val="000000"/>
                </a:solidFill>
                <a:latin typeface="Roboto Slab"/>
                <a:ea typeface="Roboto Slab"/>
              </a:rPr>
              <a:t>| </a:t>
            </a:r>
            <a:r>
              <a:rPr b="0" lang="en-US" sz="1400" spc="-1" strike="noStrike">
                <a:solidFill>
                  <a:srgbClr val="000000"/>
                </a:solidFill>
                <a:latin typeface="Roboto Slab"/>
                <a:ea typeface="Roboto Slab"/>
              </a:rPr>
              <a:t>Teacher</a:t>
            </a:r>
            <a:endParaRPr b="0" lang="en-US" sz="1400" spc="-1" strike="noStrike">
              <a:solidFill>
                <a:srgbClr val="000000"/>
              </a:solidFill>
              <a:latin typeface="Calibri"/>
            </a:endParaRPr>
          </a:p>
        </p:txBody>
      </p:sp>
      <p:sp>
        <p:nvSpPr>
          <p:cNvPr id="1423" name="TextBox 19"/>
          <p:cNvSpPr/>
          <p:nvPr/>
        </p:nvSpPr>
        <p:spPr>
          <a:xfrm>
            <a:off x="5519880" y="4960800"/>
            <a:ext cx="2993760" cy="159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a:t>
            </a: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Ut enim ad minim veniam, quis</a:t>
            </a: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24" name="TextBox 20"/>
          <p:cNvSpPr/>
          <p:nvPr/>
        </p:nvSpPr>
        <p:spPr>
          <a:xfrm>
            <a:off x="8483760" y="4960800"/>
            <a:ext cx="26161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a:t>
            </a:r>
            <a:endParaRPr b="0" lang="en-US" sz="1100" spc="-1" strike="noStrike">
              <a:solidFill>
                <a:srgbClr val="000000"/>
              </a:solidFill>
              <a:latin typeface="Calibri"/>
            </a:endParaRPr>
          </a:p>
        </p:txBody>
      </p:sp>
      <p:sp>
        <p:nvSpPr>
          <p:cNvPr id="1425" name="Rectangle: Diagonal Corners Rounded 21"/>
          <p:cNvSpPr/>
          <p:nvPr/>
        </p:nvSpPr>
        <p:spPr>
          <a:xfrm>
            <a:off x="5519880" y="2936880"/>
            <a:ext cx="1863720" cy="492120"/>
          </a:xfrm>
          <a:custGeom>
            <a:avLst/>
            <a:gdLst/>
            <a:ahLst/>
            <a:rect l="l" t="t" r="r" b="b"/>
            <a:pathLst>
              <a:path w="1863408" h="492121">
                <a:moveTo>
                  <a:pt x="0" y="0"/>
                </a:moveTo>
                <a:lnTo>
                  <a:pt x="1823536" y="0"/>
                </a:lnTo>
                <a:cubicBezTo>
                  <a:pt x="1845557" y="0"/>
                  <a:pt x="1863408" y="17851"/>
                  <a:pt x="1863408" y="39872"/>
                </a:cubicBezTo>
                <a:lnTo>
                  <a:pt x="1863408" y="492121"/>
                </a:lnTo>
                <a:lnTo>
                  <a:pt x="1863408" y="492121"/>
                </a:lnTo>
                <a:lnTo>
                  <a:pt x="39872" y="492121"/>
                </a:lnTo>
                <a:cubicBezTo>
                  <a:pt x="17851" y="492121"/>
                  <a:pt x="0" y="474270"/>
                  <a:pt x="0" y="452249"/>
                </a:cubicBezTo>
                <a:lnTo>
                  <a:pt x="0" y="0"/>
                </a:lnTo>
                <a:lnTo>
                  <a:pt x="0" y="0"/>
                </a:lnTo>
                <a:close/>
              </a:path>
            </a:pathLst>
          </a:custGeom>
          <a:solidFill>
            <a:srgbClr val="7c8f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6" name="TextBox 15"/>
          <p:cNvSpPr/>
          <p:nvPr/>
        </p:nvSpPr>
        <p:spPr>
          <a:xfrm>
            <a:off x="5802480" y="3029040"/>
            <a:ext cx="129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Slab Medium"/>
                <a:ea typeface="Roboto Slab Medium"/>
              </a:rPr>
              <a:t>Jeff Davids</a:t>
            </a:r>
            <a:endParaRPr b="0" lang="en-US" sz="1400" spc="-1" strike="noStrike">
              <a:solidFill>
                <a:srgbClr val="000000"/>
              </a:solidFill>
              <a:latin typeface="Calibri"/>
            </a:endParaRPr>
          </a:p>
        </p:txBody>
      </p:sp>
      <p:sp>
        <p:nvSpPr>
          <p:cNvPr id="1427" name="Rectangle: Diagonal Corners Rounded 25"/>
          <p:cNvSpPr/>
          <p:nvPr/>
        </p:nvSpPr>
        <p:spPr>
          <a:xfrm>
            <a:off x="8569440" y="2936880"/>
            <a:ext cx="1863720" cy="492120"/>
          </a:xfrm>
          <a:custGeom>
            <a:avLst/>
            <a:gdLst/>
            <a:ahLst/>
            <a:rect l="l" t="t" r="r" b="b"/>
            <a:pathLst>
              <a:path w="1863408" h="492121">
                <a:moveTo>
                  <a:pt x="0" y="0"/>
                </a:moveTo>
                <a:lnTo>
                  <a:pt x="1823536" y="0"/>
                </a:lnTo>
                <a:cubicBezTo>
                  <a:pt x="1845557" y="0"/>
                  <a:pt x="1863408" y="17851"/>
                  <a:pt x="1863408" y="39872"/>
                </a:cubicBezTo>
                <a:lnTo>
                  <a:pt x="1863408" y="492121"/>
                </a:lnTo>
                <a:lnTo>
                  <a:pt x="1863408" y="492121"/>
                </a:lnTo>
                <a:lnTo>
                  <a:pt x="39872" y="492121"/>
                </a:lnTo>
                <a:cubicBezTo>
                  <a:pt x="17851" y="492121"/>
                  <a:pt x="0" y="474270"/>
                  <a:pt x="0" y="452249"/>
                </a:cubicBezTo>
                <a:lnTo>
                  <a:pt x="0" y="0"/>
                </a:lnTo>
                <a:lnTo>
                  <a:pt x="0" y="0"/>
                </a:lnTo>
                <a:close/>
              </a:path>
            </a:pathLst>
          </a:cu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8" name="TextBox 13"/>
          <p:cNvSpPr/>
          <p:nvPr/>
        </p:nvSpPr>
        <p:spPr>
          <a:xfrm>
            <a:off x="8710560" y="3029040"/>
            <a:ext cx="1581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boto Slab Medium"/>
                <a:ea typeface="Roboto Slab Medium"/>
              </a:rPr>
              <a:t>Tanya Hall</a:t>
            </a:r>
            <a:endParaRPr b="0" lang="en-US" sz="1400" spc="-1" strike="noStrike">
              <a:solidFill>
                <a:srgbClr val="000000"/>
              </a:solidFill>
              <a:latin typeface="Calibri"/>
            </a:endParaRPr>
          </a:p>
        </p:txBody>
      </p:sp>
      <p:sp>
        <p:nvSpPr>
          <p:cNvPr id="1429" name="Straight Connector 69"/>
          <p:cNvSpPr/>
          <p:nvPr/>
        </p:nvSpPr>
        <p:spPr>
          <a:xfrm>
            <a:off x="709560" y="1327320"/>
            <a:ext cx="488880" cy="0"/>
          </a:xfrm>
          <a:prstGeom prst="line">
            <a:avLst/>
          </a:prstGeom>
          <a:ln w="3816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30" name="Group 70"/>
          <p:cNvGrpSpPr/>
          <p:nvPr/>
        </p:nvGrpSpPr>
        <p:grpSpPr>
          <a:xfrm>
            <a:off x="8569440" y="4719600"/>
            <a:ext cx="474480" cy="63360"/>
            <a:chOff x="8569440" y="4719600"/>
            <a:chExt cx="474480" cy="63360"/>
          </a:xfrm>
        </p:grpSpPr>
        <p:sp>
          <p:nvSpPr>
            <p:cNvPr id="1431" name="Freeform: Shape 71"/>
            <p:cNvSpPr/>
            <p:nvPr/>
          </p:nvSpPr>
          <p:spPr>
            <a:xfrm>
              <a:off x="8569440" y="4719600"/>
              <a:ext cx="64440" cy="6336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4fcb6"/>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1432" name="Freeform: Shape 72"/>
            <p:cNvSpPr/>
            <p:nvPr/>
          </p:nvSpPr>
          <p:spPr>
            <a:xfrm>
              <a:off x="8705880" y="4719600"/>
              <a:ext cx="64440" cy="6336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bbbcfc"/>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1433" name="Freeform: Shape 73"/>
            <p:cNvSpPr/>
            <p:nvPr/>
          </p:nvSpPr>
          <p:spPr>
            <a:xfrm>
              <a:off x="8842680" y="4719600"/>
              <a:ext cx="64440" cy="6336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ec2e1"/>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1434" name="Freeform: Shape 74"/>
            <p:cNvSpPr/>
            <p:nvPr/>
          </p:nvSpPr>
          <p:spPr>
            <a:xfrm>
              <a:off x="8979480" y="4719600"/>
              <a:ext cx="64440" cy="6336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97fff7"/>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5" name="TextBox 103" descr=""/>
          <p:cNvPicPr/>
          <p:nvPr/>
        </p:nvPicPr>
        <p:blipFill>
          <a:blip r:embed="rId1"/>
          <a:stretch/>
        </p:blipFill>
        <p:spPr>
          <a:xfrm>
            <a:off x="660240" y="1295280"/>
            <a:ext cx="1346400" cy="1587600"/>
          </a:xfrm>
          <a:prstGeom prst="rect">
            <a:avLst/>
          </a:prstGeom>
          <a:ln w="0">
            <a:noFill/>
          </a:ln>
        </p:spPr>
      </p:pic>
      <p:sp>
        <p:nvSpPr>
          <p:cNvPr id="1436" name="Rectangle: Diagonal Corners Rounded 72"/>
          <p:cNvSpPr/>
          <p:nvPr/>
        </p:nvSpPr>
        <p:spPr>
          <a:xfrm>
            <a:off x="3905280" y="2871720"/>
            <a:ext cx="1581120" cy="492120"/>
          </a:xfrm>
          <a:custGeom>
            <a:avLst/>
            <a:gdLst/>
            <a:ahLst/>
            <a:rect l="l" t="t" r="r" b="b"/>
            <a:pathLst>
              <a:path w="1581106" h="492121">
                <a:moveTo>
                  <a:pt x="0" y="0"/>
                </a:moveTo>
                <a:lnTo>
                  <a:pt x="1541234" y="0"/>
                </a:lnTo>
                <a:cubicBezTo>
                  <a:pt x="1563255" y="0"/>
                  <a:pt x="1581106" y="17851"/>
                  <a:pt x="1581106" y="39872"/>
                </a:cubicBezTo>
                <a:lnTo>
                  <a:pt x="1581106" y="492121"/>
                </a:lnTo>
                <a:lnTo>
                  <a:pt x="1581106" y="492121"/>
                </a:lnTo>
                <a:lnTo>
                  <a:pt x="39872" y="492121"/>
                </a:lnTo>
                <a:cubicBezTo>
                  <a:pt x="17851" y="492121"/>
                  <a:pt x="0" y="474270"/>
                  <a:pt x="0" y="452249"/>
                </a:cubicBezTo>
                <a:lnTo>
                  <a:pt x="0" y="0"/>
                </a:lnTo>
                <a:lnTo>
                  <a:pt x="0" y="0"/>
                </a:lnTo>
                <a:close/>
              </a:path>
            </a:pathLst>
          </a:custGeom>
          <a:solidFill>
            <a:srgbClr val="7c8f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37" name="TextBox 73"/>
          <p:cNvSpPr/>
          <p:nvPr/>
        </p:nvSpPr>
        <p:spPr>
          <a:xfrm>
            <a:off x="3905280" y="2979720"/>
            <a:ext cx="15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Slab Medium"/>
                <a:ea typeface="Roboto Slab Medium"/>
              </a:rPr>
              <a:t>Mary Sleek</a:t>
            </a:r>
            <a:endParaRPr b="0" lang="en-US" sz="1200" spc="-1" strike="noStrike">
              <a:solidFill>
                <a:srgbClr val="000000"/>
              </a:solidFill>
              <a:latin typeface="Calibri"/>
            </a:endParaRPr>
          </a:p>
        </p:txBody>
      </p:sp>
      <p:sp>
        <p:nvSpPr>
          <p:cNvPr id="1438" name="Rectangle: Diagonal Corners Rounded 75"/>
          <p:cNvSpPr/>
          <p:nvPr/>
        </p:nvSpPr>
        <p:spPr>
          <a:xfrm>
            <a:off x="6356520" y="2871720"/>
            <a:ext cx="1581120" cy="492120"/>
          </a:xfrm>
          <a:custGeom>
            <a:avLst/>
            <a:gdLst/>
            <a:ahLst/>
            <a:rect l="l" t="t" r="r" b="b"/>
            <a:pathLst>
              <a:path w="1581106" h="492121">
                <a:moveTo>
                  <a:pt x="0" y="0"/>
                </a:moveTo>
                <a:lnTo>
                  <a:pt x="1541234" y="0"/>
                </a:lnTo>
                <a:cubicBezTo>
                  <a:pt x="1563255" y="0"/>
                  <a:pt x="1581106" y="17851"/>
                  <a:pt x="1581106" y="39872"/>
                </a:cubicBezTo>
                <a:lnTo>
                  <a:pt x="1581106" y="492121"/>
                </a:lnTo>
                <a:lnTo>
                  <a:pt x="1581106" y="492121"/>
                </a:lnTo>
                <a:lnTo>
                  <a:pt x="39872" y="492121"/>
                </a:lnTo>
                <a:cubicBezTo>
                  <a:pt x="17851" y="492121"/>
                  <a:pt x="0" y="474270"/>
                  <a:pt x="0" y="452249"/>
                </a:cubicBez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39" name="TextBox 76"/>
          <p:cNvSpPr/>
          <p:nvPr/>
        </p:nvSpPr>
        <p:spPr>
          <a:xfrm>
            <a:off x="6356520" y="2979720"/>
            <a:ext cx="15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boto Slab Medium"/>
                <a:ea typeface="Roboto Slab Medium"/>
              </a:rPr>
              <a:t>Jeef Davids</a:t>
            </a:r>
            <a:endParaRPr b="0" lang="en-US" sz="1200" spc="-1" strike="noStrike">
              <a:solidFill>
                <a:srgbClr val="000000"/>
              </a:solidFill>
              <a:latin typeface="Calibri"/>
            </a:endParaRPr>
          </a:p>
        </p:txBody>
      </p:sp>
      <p:sp>
        <p:nvSpPr>
          <p:cNvPr id="1440" name="Rectangle: Diagonal Corners Rounded 77"/>
          <p:cNvSpPr/>
          <p:nvPr/>
        </p:nvSpPr>
        <p:spPr>
          <a:xfrm>
            <a:off x="8807400" y="2871720"/>
            <a:ext cx="1581120" cy="492120"/>
          </a:xfrm>
          <a:custGeom>
            <a:avLst/>
            <a:gdLst/>
            <a:ahLst/>
            <a:rect l="l" t="t" r="r" b="b"/>
            <a:pathLst>
              <a:path w="1581106" h="492121">
                <a:moveTo>
                  <a:pt x="0" y="0"/>
                </a:moveTo>
                <a:lnTo>
                  <a:pt x="1541234" y="0"/>
                </a:lnTo>
                <a:cubicBezTo>
                  <a:pt x="1563255" y="0"/>
                  <a:pt x="1581106" y="17851"/>
                  <a:pt x="1581106" y="39872"/>
                </a:cubicBezTo>
                <a:lnTo>
                  <a:pt x="1581106" y="492121"/>
                </a:lnTo>
                <a:lnTo>
                  <a:pt x="1581106" y="492121"/>
                </a:lnTo>
                <a:lnTo>
                  <a:pt x="39872" y="492121"/>
                </a:lnTo>
                <a:cubicBezTo>
                  <a:pt x="17851" y="492121"/>
                  <a:pt x="0" y="474270"/>
                  <a:pt x="0" y="452249"/>
                </a:cubicBez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41" name="TextBox 78"/>
          <p:cNvSpPr/>
          <p:nvPr/>
        </p:nvSpPr>
        <p:spPr>
          <a:xfrm>
            <a:off x="8807400" y="2979720"/>
            <a:ext cx="15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boto Slab Medium"/>
                <a:ea typeface="Roboto Slab Medium"/>
              </a:rPr>
              <a:t>Amelia Singer</a:t>
            </a:r>
            <a:endParaRPr b="0" lang="en-US" sz="1200" spc="-1" strike="noStrike">
              <a:solidFill>
                <a:srgbClr val="000000"/>
              </a:solidFill>
              <a:latin typeface="Calibri"/>
            </a:endParaRPr>
          </a:p>
        </p:txBody>
      </p:sp>
      <p:sp>
        <p:nvSpPr>
          <p:cNvPr id="1442" name="Rectangle: Diagonal Corners Rounded 79"/>
          <p:cNvSpPr/>
          <p:nvPr/>
        </p:nvSpPr>
        <p:spPr>
          <a:xfrm>
            <a:off x="3905280" y="5060880"/>
            <a:ext cx="1581120" cy="492120"/>
          </a:xfrm>
          <a:custGeom>
            <a:avLst/>
            <a:gdLst/>
            <a:ahLst/>
            <a:rect l="l" t="t" r="r" b="b"/>
            <a:pathLst>
              <a:path w="1581106" h="492121">
                <a:moveTo>
                  <a:pt x="0" y="0"/>
                </a:moveTo>
                <a:lnTo>
                  <a:pt x="1541234" y="0"/>
                </a:lnTo>
                <a:cubicBezTo>
                  <a:pt x="1563255" y="0"/>
                  <a:pt x="1581106" y="17851"/>
                  <a:pt x="1581106" y="39872"/>
                </a:cubicBezTo>
                <a:lnTo>
                  <a:pt x="1581106" y="492121"/>
                </a:lnTo>
                <a:lnTo>
                  <a:pt x="1581106" y="492121"/>
                </a:lnTo>
                <a:lnTo>
                  <a:pt x="39872" y="492121"/>
                </a:lnTo>
                <a:cubicBezTo>
                  <a:pt x="17851" y="492121"/>
                  <a:pt x="0" y="474270"/>
                  <a:pt x="0" y="452249"/>
                </a:cubicBez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43" name="TextBox 80"/>
          <p:cNvSpPr/>
          <p:nvPr/>
        </p:nvSpPr>
        <p:spPr>
          <a:xfrm>
            <a:off x="3905280" y="5167440"/>
            <a:ext cx="15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boto Slab Medium"/>
                <a:ea typeface="Roboto Slab Medium"/>
              </a:rPr>
              <a:t>Paula Keene</a:t>
            </a:r>
            <a:endParaRPr b="0" lang="en-US" sz="1200" spc="-1" strike="noStrike">
              <a:solidFill>
                <a:srgbClr val="000000"/>
              </a:solidFill>
              <a:latin typeface="Calibri"/>
            </a:endParaRPr>
          </a:p>
        </p:txBody>
      </p:sp>
      <p:sp>
        <p:nvSpPr>
          <p:cNvPr id="1444" name="Rectangle: Diagonal Corners Rounded 81"/>
          <p:cNvSpPr/>
          <p:nvPr/>
        </p:nvSpPr>
        <p:spPr>
          <a:xfrm>
            <a:off x="6356520" y="5060880"/>
            <a:ext cx="1581120" cy="492120"/>
          </a:xfrm>
          <a:custGeom>
            <a:avLst/>
            <a:gdLst/>
            <a:ahLst/>
            <a:rect l="l" t="t" r="r" b="b"/>
            <a:pathLst>
              <a:path w="1581106" h="492121">
                <a:moveTo>
                  <a:pt x="0" y="0"/>
                </a:moveTo>
                <a:lnTo>
                  <a:pt x="1541234" y="0"/>
                </a:lnTo>
                <a:cubicBezTo>
                  <a:pt x="1563255" y="0"/>
                  <a:pt x="1581106" y="17851"/>
                  <a:pt x="1581106" y="39872"/>
                </a:cubicBezTo>
                <a:lnTo>
                  <a:pt x="1581106" y="492121"/>
                </a:lnTo>
                <a:lnTo>
                  <a:pt x="1581106" y="492121"/>
                </a:lnTo>
                <a:lnTo>
                  <a:pt x="39872" y="492121"/>
                </a:lnTo>
                <a:cubicBezTo>
                  <a:pt x="17851" y="492121"/>
                  <a:pt x="0" y="474270"/>
                  <a:pt x="0" y="452249"/>
                </a:cubicBez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45" name="TextBox 82"/>
          <p:cNvSpPr/>
          <p:nvPr/>
        </p:nvSpPr>
        <p:spPr>
          <a:xfrm>
            <a:off x="6356520" y="5167440"/>
            <a:ext cx="15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boto Slab Medium"/>
                <a:ea typeface="Roboto Slab Medium"/>
              </a:rPr>
              <a:t>Alfonso Jones</a:t>
            </a:r>
            <a:endParaRPr b="0" lang="en-US" sz="1200" spc="-1" strike="noStrike">
              <a:solidFill>
                <a:srgbClr val="000000"/>
              </a:solidFill>
              <a:latin typeface="Calibri"/>
            </a:endParaRPr>
          </a:p>
        </p:txBody>
      </p:sp>
      <p:sp>
        <p:nvSpPr>
          <p:cNvPr id="1446" name="Rectangle: Diagonal Corners Rounded 83"/>
          <p:cNvSpPr/>
          <p:nvPr/>
        </p:nvSpPr>
        <p:spPr>
          <a:xfrm>
            <a:off x="8807400" y="5060880"/>
            <a:ext cx="1581120" cy="492120"/>
          </a:xfrm>
          <a:custGeom>
            <a:avLst/>
            <a:gdLst/>
            <a:ahLst/>
            <a:rect l="l" t="t" r="r" b="b"/>
            <a:pathLst>
              <a:path w="1581106" h="492121">
                <a:moveTo>
                  <a:pt x="0" y="0"/>
                </a:moveTo>
                <a:lnTo>
                  <a:pt x="1541234" y="0"/>
                </a:lnTo>
                <a:cubicBezTo>
                  <a:pt x="1563255" y="0"/>
                  <a:pt x="1581106" y="17851"/>
                  <a:pt x="1581106" y="39872"/>
                </a:cubicBezTo>
                <a:lnTo>
                  <a:pt x="1581106" y="492121"/>
                </a:lnTo>
                <a:lnTo>
                  <a:pt x="1581106" y="492121"/>
                </a:lnTo>
                <a:lnTo>
                  <a:pt x="39872" y="492121"/>
                </a:lnTo>
                <a:cubicBezTo>
                  <a:pt x="17851" y="492121"/>
                  <a:pt x="0" y="474270"/>
                  <a:pt x="0" y="452249"/>
                </a:cubicBezTo>
                <a:lnTo>
                  <a:pt x="0" y="0"/>
                </a:lnTo>
                <a:lnTo>
                  <a:pt x="0" y="0"/>
                </a:lnTo>
                <a:close/>
              </a:path>
            </a:pathLst>
          </a:cu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47" name="TextBox 84"/>
          <p:cNvSpPr/>
          <p:nvPr/>
        </p:nvSpPr>
        <p:spPr>
          <a:xfrm>
            <a:off x="8807400" y="5167440"/>
            <a:ext cx="15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Slab Medium"/>
                <a:ea typeface="Roboto Slab Medium"/>
              </a:rPr>
              <a:t>Jennifer Rye</a:t>
            </a:r>
            <a:endParaRPr b="0" lang="en-US" sz="1200" spc="-1" strike="noStrike">
              <a:solidFill>
                <a:srgbClr val="000000"/>
              </a:solidFill>
              <a:latin typeface="Calibri"/>
            </a:endParaRPr>
          </a:p>
        </p:txBody>
      </p:sp>
      <p:sp>
        <p:nvSpPr>
          <p:cNvPr id="1448" name="TextBox 1"/>
          <p:cNvSpPr/>
          <p:nvPr/>
        </p:nvSpPr>
        <p:spPr>
          <a:xfrm>
            <a:off x="974880" y="1938240"/>
            <a:ext cx="227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Slab"/>
                <a:ea typeface="Roboto Slab"/>
              </a:rPr>
              <a:t>Our</a:t>
            </a:r>
            <a:r>
              <a:rPr b="1" lang="en-US" sz="3600" spc="-1" strike="noStrike">
                <a:solidFill>
                  <a:srgbClr val="000000"/>
                </a:solidFill>
                <a:latin typeface="Roboto Slab"/>
                <a:ea typeface="Roboto Slab"/>
              </a:rPr>
              <a:t> </a:t>
            </a:r>
            <a:r>
              <a:rPr b="0" lang="en-US" sz="3600" spc="-1" strike="noStrike">
                <a:solidFill>
                  <a:srgbClr val="000000"/>
                </a:solidFill>
                <a:latin typeface="Roboto Slab Medium"/>
                <a:ea typeface="Roboto Slab Medium"/>
              </a:rPr>
              <a:t>Teachers</a:t>
            </a:r>
            <a:endParaRPr b="0" lang="en-US" sz="3600" spc="-1" strike="noStrike">
              <a:solidFill>
                <a:srgbClr val="000000"/>
              </a:solidFill>
              <a:latin typeface="Calibri"/>
            </a:endParaRPr>
          </a:p>
        </p:txBody>
      </p:sp>
      <p:sp>
        <p:nvSpPr>
          <p:cNvPr id="1449" name="TextBox 25"/>
          <p:cNvSpPr/>
          <p:nvPr/>
        </p:nvSpPr>
        <p:spPr>
          <a:xfrm>
            <a:off x="792000" y="4284720"/>
            <a:ext cx="2643480" cy="159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Ut enim ad minim veniam, quis nostrud exercitation</a:t>
            </a:r>
            <a:endParaRPr b="0" lang="en-US" sz="1100" spc="-1" strike="noStrike">
              <a:solidFill>
                <a:srgbClr val="000000"/>
              </a:solidFill>
              <a:latin typeface="Calibri"/>
            </a:endParaRPr>
          </a:p>
        </p:txBody>
      </p:sp>
      <p:sp>
        <p:nvSpPr>
          <p:cNvPr id="1450" name="Straight Connector 26"/>
          <p:cNvSpPr/>
          <p:nvPr/>
        </p:nvSpPr>
        <p:spPr>
          <a:xfrm>
            <a:off x="887400" y="4137120"/>
            <a:ext cx="488880" cy="0"/>
          </a:xfrm>
          <a:prstGeom prst="line">
            <a:avLst/>
          </a:prstGeom>
          <a:ln w="3816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51" name="Group 87"/>
          <p:cNvGrpSpPr/>
          <p:nvPr/>
        </p:nvGrpSpPr>
        <p:grpSpPr>
          <a:xfrm>
            <a:off x="792000" y="692280"/>
            <a:ext cx="1212840" cy="291960"/>
            <a:chOff x="792000" y="692280"/>
            <a:chExt cx="1212840" cy="291960"/>
          </a:xfrm>
        </p:grpSpPr>
        <p:sp>
          <p:nvSpPr>
            <p:cNvPr id="1452" name="TextBox 88"/>
            <p:cNvSpPr/>
            <p:nvPr/>
          </p:nvSpPr>
          <p:spPr>
            <a:xfrm>
              <a:off x="792000" y="692280"/>
              <a:ext cx="121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boto Slab Medium"/>
                  <a:ea typeface="Roboto Slab Medium"/>
                </a:rPr>
                <a:t>Educationaly </a:t>
              </a:r>
              <a:endParaRPr b="0" lang="en-US" sz="1200" spc="-1" strike="noStrike">
                <a:solidFill>
                  <a:srgbClr val="000000"/>
                </a:solidFill>
                <a:latin typeface="Calibri"/>
              </a:endParaRPr>
            </a:p>
          </p:txBody>
        </p:sp>
        <p:sp>
          <p:nvSpPr>
            <p:cNvPr id="1453" name="Graphic 1031"/>
            <p:cNvSpPr/>
            <p:nvPr/>
          </p:nvSpPr>
          <p:spPr>
            <a:xfrm>
              <a:off x="854640" y="932400"/>
              <a:ext cx="299160" cy="51840"/>
            </a:xfrm>
            <a:custGeom>
              <a:avLst/>
              <a:gdLst/>
              <a:ahLst/>
              <a:rect l="l" t="t" r="r" b="b"/>
              <a:pathLst>
                <a:path w="760911" h="132655">
                  <a:moveTo>
                    <a:pt x="0" y="132656"/>
                  </a:moveTo>
                  <a:cubicBezTo>
                    <a:pt x="55245" y="99318"/>
                    <a:pt x="113348" y="71696"/>
                    <a:pt x="174308" y="50741"/>
                  </a:cubicBezTo>
                  <a:cubicBezTo>
                    <a:pt x="235268" y="29786"/>
                    <a:pt x="298133" y="14546"/>
                    <a:pt x="361950" y="6926"/>
                  </a:cubicBezTo>
                  <a:cubicBezTo>
                    <a:pt x="490538" y="-9267"/>
                    <a:pt x="622935" y="3116"/>
                    <a:pt x="747713" y="42168"/>
                  </a:cubicBezTo>
                  <a:cubicBezTo>
                    <a:pt x="758190" y="45026"/>
                    <a:pt x="762953" y="55503"/>
                    <a:pt x="760095" y="65981"/>
                  </a:cubicBezTo>
                  <a:cubicBezTo>
                    <a:pt x="757238" y="76458"/>
                    <a:pt x="746760" y="81221"/>
                    <a:pt x="736283" y="78363"/>
                  </a:cubicBezTo>
                  <a:cubicBezTo>
                    <a:pt x="736283" y="78363"/>
                    <a:pt x="735330" y="78363"/>
                    <a:pt x="735330" y="78363"/>
                  </a:cubicBezTo>
                  <a:cubicBezTo>
                    <a:pt x="617220" y="35501"/>
                    <a:pt x="490538" y="16451"/>
                    <a:pt x="363855" y="26928"/>
                  </a:cubicBezTo>
                  <a:cubicBezTo>
                    <a:pt x="300990" y="30738"/>
                    <a:pt x="238125" y="42168"/>
                    <a:pt x="177165" y="60266"/>
                  </a:cubicBezTo>
                  <a:cubicBezTo>
                    <a:pt x="115253" y="78363"/>
                    <a:pt x="56198" y="103128"/>
                    <a:pt x="0" y="132656"/>
                  </a:cubicBezTo>
                  <a:close/>
                </a:path>
              </a:pathLst>
            </a:custGeom>
            <a:solidFill>
              <a:srgbClr val="7c8ffb"/>
            </a:solidFill>
            <a:ln w="0">
              <a:noFill/>
            </a:ln>
          </p:spPr>
          <p:style>
            <a:lnRef idx="0"/>
            <a:fillRef idx="0"/>
            <a:effectRef idx="0"/>
            <a:fontRef idx="minor"/>
          </p:style>
          <p:txBody>
            <a:bodyPr lIns="90000" rIns="90000" tIns="5040" bIns="5040" anchor="ctr">
              <a:noAutofit/>
            </a:bodyPr>
            <a:p>
              <a:endParaRPr b="0" lang="en-US" sz="1800" spc="-1" strike="noStrike">
                <a:solidFill>
                  <a:srgbClr val="000000"/>
                </a:solidFill>
                <a:latin typeface="Calibri"/>
              </a:endParaRPr>
            </a:p>
          </p:txBody>
        </p:sp>
      </p:grpSp>
      <p:grpSp>
        <p:nvGrpSpPr>
          <p:cNvPr id="1454" name="Group 98"/>
          <p:cNvGrpSpPr/>
          <p:nvPr/>
        </p:nvGrpSpPr>
        <p:grpSpPr>
          <a:xfrm>
            <a:off x="10625040" y="692280"/>
            <a:ext cx="474840" cy="64800"/>
            <a:chOff x="10625040" y="692280"/>
            <a:chExt cx="474840" cy="64800"/>
          </a:xfrm>
        </p:grpSpPr>
        <p:sp>
          <p:nvSpPr>
            <p:cNvPr id="1455" name="Freeform: Shape 99"/>
            <p:cNvSpPr/>
            <p:nvPr/>
          </p:nvSpPr>
          <p:spPr>
            <a:xfrm>
              <a:off x="106250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4fcb6"/>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456" name="Freeform: Shape 100"/>
            <p:cNvSpPr/>
            <p:nvPr/>
          </p:nvSpPr>
          <p:spPr>
            <a:xfrm>
              <a:off x="107618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bbbcfc"/>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457" name="Freeform: Shape 101"/>
            <p:cNvSpPr/>
            <p:nvPr/>
          </p:nvSpPr>
          <p:spPr>
            <a:xfrm>
              <a:off x="108986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ec2e1"/>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458" name="Freeform: Shape 102"/>
            <p:cNvSpPr/>
            <p:nvPr/>
          </p:nvSpPr>
          <p:spPr>
            <a:xfrm>
              <a:off x="110354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97fff7"/>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1055520" y="1270080"/>
            <a:ext cx="936720" cy="4895640"/>
          </a:xfrm>
          <a:prstGeom prst="rect">
            <a:avLst/>
          </a:prstGeom>
          <a:solidFill>
            <a:srgbClr val="7c8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0" name="TextBox 4"/>
          <p:cNvSpPr/>
          <p:nvPr/>
        </p:nvSpPr>
        <p:spPr>
          <a:xfrm>
            <a:off x="6486480" y="1665360"/>
            <a:ext cx="4549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boto Slab"/>
                <a:ea typeface="Roboto Slab"/>
              </a:rPr>
              <a:t>Jennifer</a:t>
            </a:r>
            <a:r>
              <a:rPr b="1" lang="en-US" sz="4400" spc="-1" strike="noStrike">
                <a:solidFill>
                  <a:srgbClr val="000000"/>
                </a:solidFill>
                <a:latin typeface="Roboto Slab"/>
                <a:ea typeface="Roboto Slab"/>
              </a:rPr>
              <a:t> </a:t>
            </a:r>
            <a:r>
              <a:rPr b="0" lang="en-US" sz="4400" spc="-1" strike="noStrike">
                <a:solidFill>
                  <a:srgbClr val="000000"/>
                </a:solidFill>
                <a:latin typeface="Roboto Slab Medium"/>
                <a:ea typeface="Roboto Slab Medium"/>
              </a:rPr>
              <a:t>Rye</a:t>
            </a:r>
            <a:endParaRPr b="0" lang="en-US" sz="4400" spc="-1" strike="noStrike">
              <a:solidFill>
                <a:srgbClr val="000000"/>
              </a:solidFill>
              <a:latin typeface="Calibri"/>
            </a:endParaRPr>
          </a:p>
        </p:txBody>
      </p:sp>
      <p:pic>
        <p:nvPicPr>
          <p:cNvPr id="1461" name="TextBox 6" descr=""/>
          <p:cNvPicPr/>
          <p:nvPr/>
        </p:nvPicPr>
        <p:blipFill>
          <a:blip r:embed="rId1"/>
          <a:stretch/>
        </p:blipFill>
        <p:spPr>
          <a:xfrm>
            <a:off x="1320840" y="2540160"/>
            <a:ext cx="419040" cy="2361960"/>
          </a:xfrm>
          <a:prstGeom prst="rect">
            <a:avLst/>
          </a:prstGeom>
          <a:ln w="0">
            <a:noFill/>
          </a:ln>
        </p:spPr>
      </p:pic>
      <p:sp>
        <p:nvSpPr>
          <p:cNvPr id="1462" name="TextBox 9"/>
          <p:cNvSpPr/>
          <p:nvPr/>
        </p:nvSpPr>
        <p:spPr>
          <a:xfrm>
            <a:off x="7459560" y="2517840"/>
            <a:ext cx="31086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a:t>
            </a:r>
            <a:endParaRPr b="0" lang="en-US" sz="1100" spc="-1" strike="noStrike">
              <a:solidFill>
                <a:srgbClr val="000000"/>
              </a:solidFill>
              <a:latin typeface="Calibri"/>
            </a:endParaRPr>
          </a:p>
        </p:txBody>
      </p:sp>
      <p:sp>
        <p:nvSpPr>
          <p:cNvPr id="1463" name="Straight Connector 10"/>
          <p:cNvSpPr/>
          <p:nvPr/>
        </p:nvSpPr>
        <p:spPr>
          <a:xfrm>
            <a:off x="6645240" y="2967120"/>
            <a:ext cx="587520" cy="0"/>
          </a:xfrm>
          <a:prstGeom prst="line">
            <a:avLst/>
          </a:prstGeom>
          <a:ln w="38160">
            <a:solidFill>
              <a:srgbClr val="7c8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4" name="TextBox 16"/>
          <p:cNvSpPr/>
          <p:nvPr/>
        </p:nvSpPr>
        <p:spPr>
          <a:xfrm>
            <a:off x="7472520" y="3741840"/>
            <a:ext cx="2462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Roboto Slab"/>
                <a:ea typeface="Roboto Slab"/>
              </a:rPr>
              <a:t>Skills &amp; Qualifications </a:t>
            </a:r>
            <a:endParaRPr b="0" lang="en-US" sz="1200" spc="-1" strike="noStrike">
              <a:solidFill>
                <a:srgbClr val="000000"/>
              </a:solidFill>
              <a:latin typeface="Calibri"/>
            </a:endParaRPr>
          </a:p>
        </p:txBody>
      </p:sp>
      <p:grpSp>
        <p:nvGrpSpPr>
          <p:cNvPr id="1465" name="Group 17"/>
          <p:cNvGrpSpPr/>
          <p:nvPr/>
        </p:nvGrpSpPr>
        <p:grpSpPr>
          <a:xfrm>
            <a:off x="7605720" y="4487760"/>
            <a:ext cx="3370320" cy="0"/>
            <a:chOff x="7605720" y="4487760"/>
            <a:chExt cx="3370320" cy="0"/>
          </a:xfrm>
        </p:grpSpPr>
        <p:sp>
          <p:nvSpPr>
            <p:cNvPr id="1466" name="Straight Connector 18"/>
            <p:cNvSpPr/>
            <p:nvPr/>
          </p:nvSpPr>
          <p:spPr>
            <a:xfrm>
              <a:off x="7605720" y="4487760"/>
              <a:ext cx="3370320" cy="0"/>
            </a:xfrm>
            <a:prstGeom prst="line">
              <a:avLst/>
            </a:prstGeom>
            <a:ln cap="sq" w="76320">
              <a:solidFill>
                <a:srgbClr val="f2f2f2"/>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7" name="Straight Connector 19"/>
            <p:cNvSpPr/>
            <p:nvPr/>
          </p:nvSpPr>
          <p:spPr>
            <a:xfrm>
              <a:off x="7605720" y="4487760"/>
              <a:ext cx="2461320" cy="0"/>
            </a:xfrm>
            <a:prstGeom prst="line">
              <a:avLst/>
            </a:prstGeom>
            <a:ln cap="sq" w="76320">
              <a:solidFill>
                <a:srgbClr val="bad0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68" name="TextBox 20"/>
          <p:cNvSpPr/>
          <p:nvPr/>
        </p:nvSpPr>
        <p:spPr>
          <a:xfrm>
            <a:off x="7459560" y="4141800"/>
            <a:ext cx="2432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Communication Skills</a:t>
            </a:r>
            <a:endParaRPr b="0" lang="en-US" sz="1100" spc="-1" strike="noStrike">
              <a:solidFill>
                <a:srgbClr val="000000"/>
              </a:solidFill>
              <a:latin typeface="Calibri"/>
            </a:endParaRPr>
          </a:p>
        </p:txBody>
      </p:sp>
      <p:sp>
        <p:nvSpPr>
          <p:cNvPr id="1469" name="TextBox 21"/>
          <p:cNvSpPr/>
          <p:nvPr/>
        </p:nvSpPr>
        <p:spPr>
          <a:xfrm>
            <a:off x="10485360" y="4141800"/>
            <a:ext cx="61452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80%</a:t>
            </a:r>
            <a:endParaRPr b="0" lang="en-US" sz="1100" spc="-1" strike="noStrike">
              <a:solidFill>
                <a:srgbClr val="000000"/>
              </a:solidFill>
              <a:latin typeface="Calibri"/>
            </a:endParaRPr>
          </a:p>
        </p:txBody>
      </p:sp>
      <p:grpSp>
        <p:nvGrpSpPr>
          <p:cNvPr id="1470" name="Group 22"/>
          <p:cNvGrpSpPr/>
          <p:nvPr/>
        </p:nvGrpSpPr>
        <p:grpSpPr>
          <a:xfrm>
            <a:off x="7605720" y="5003640"/>
            <a:ext cx="3370320" cy="0"/>
            <a:chOff x="7605720" y="5003640"/>
            <a:chExt cx="3370320" cy="0"/>
          </a:xfrm>
        </p:grpSpPr>
        <p:sp>
          <p:nvSpPr>
            <p:cNvPr id="1471" name="Straight Connector 23"/>
            <p:cNvSpPr/>
            <p:nvPr/>
          </p:nvSpPr>
          <p:spPr>
            <a:xfrm>
              <a:off x="7605720" y="5003640"/>
              <a:ext cx="3370320" cy="0"/>
            </a:xfrm>
            <a:prstGeom prst="line">
              <a:avLst/>
            </a:prstGeom>
            <a:ln cap="sq" w="76320">
              <a:solidFill>
                <a:srgbClr val="f2f2f2"/>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2" name="Straight Connector 24"/>
            <p:cNvSpPr/>
            <p:nvPr/>
          </p:nvSpPr>
          <p:spPr>
            <a:xfrm>
              <a:off x="7605720" y="5003640"/>
              <a:ext cx="3008160" cy="0"/>
            </a:xfrm>
            <a:prstGeom prst="line">
              <a:avLst/>
            </a:prstGeom>
            <a:ln cap="sq" w="76320">
              <a:solidFill>
                <a:srgbClr val="bad0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73" name="TextBox 25"/>
          <p:cNvSpPr/>
          <p:nvPr/>
        </p:nvSpPr>
        <p:spPr>
          <a:xfrm>
            <a:off x="7459560" y="4657680"/>
            <a:ext cx="2432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Digital Marketing Software Skills</a:t>
            </a:r>
            <a:endParaRPr b="0" lang="en-US" sz="1100" spc="-1" strike="noStrike">
              <a:solidFill>
                <a:srgbClr val="000000"/>
              </a:solidFill>
              <a:latin typeface="Calibri"/>
            </a:endParaRPr>
          </a:p>
        </p:txBody>
      </p:sp>
      <p:sp>
        <p:nvSpPr>
          <p:cNvPr id="1474" name="TextBox 26"/>
          <p:cNvSpPr/>
          <p:nvPr/>
        </p:nvSpPr>
        <p:spPr>
          <a:xfrm>
            <a:off x="10485360" y="4657680"/>
            <a:ext cx="61452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90%</a:t>
            </a:r>
            <a:endParaRPr b="0" lang="en-US" sz="1100" spc="-1" strike="noStrike">
              <a:solidFill>
                <a:srgbClr val="000000"/>
              </a:solidFill>
              <a:latin typeface="Calibri"/>
            </a:endParaRPr>
          </a:p>
        </p:txBody>
      </p:sp>
      <p:grpSp>
        <p:nvGrpSpPr>
          <p:cNvPr id="1475" name="Group 27"/>
          <p:cNvGrpSpPr/>
          <p:nvPr/>
        </p:nvGrpSpPr>
        <p:grpSpPr>
          <a:xfrm>
            <a:off x="7605720" y="5527800"/>
            <a:ext cx="3370320" cy="0"/>
            <a:chOff x="7605720" y="5527800"/>
            <a:chExt cx="3370320" cy="0"/>
          </a:xfrm>
        </p:grpSpPr>
        <p:sp>
          <p:nvSpPr>
            <p:cNvPr id="1476" name="Straight Connector 28"/>
            <p:cNvSpPr/>
            <p:nvPr/>
          </p:nvSpPr>
          <p:spPr>
            <a:xfrm>
              <a:off x="7605720" y="5527800"/>
              <a:ext cx="3370320" cy="0"/>
            </a:xfrm>
            <a:prstGeom prst="line">
              <a:avLst/>
            </a:prstGeom>
            <a:ln cap="sq" w="76320">
              <a:solidFill>
                <a:srgbClr val="f2f2f2"/>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7" name="Straight Connector 29"/>
            <p:cNvSpPr/>
            <p:nvPr/>
          </p:nvSpPr>
          <p:spPr>
            <a:xfrm>
              <a:off x="7605720" y="5527800"/>
              <a:ext cx="2165760" cy="0"/>
            </a:xfrm>
            <a:prstGeom prst="line">
              <a:avLst/>
            </a:prstGeom>
            <a:ln cap="sq" w="76320">
              <a:solidFill>
                <a:srgbClr val="bad0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78" name="TextBox 30"/>
          <p:cNvSpPr/>
          <p:nvPr/>
        </p:nvSpPr>
        <p:spPr>
          <a:xfrm>
            <a:off x="7459560" y="5181480"/>
            <a:ext cx="2432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Leadership Skills</a:t>
            </a:r>
            <a:endParaRPr b="0" lang="en-US" sz="1100" spc="-1" strike="noStrike">
              <a:solidFill>
                <a:srgbClr val="000000"/>
              </a:solidFill>
              <a:latin typeface="Calibri"/>
            </a:endParaRPr>
          </a:p>
        </p:txBody>
      </p:sp>
      <p:sp>
        <p:nvSpPr>
          <p:cNvPr id="1479" name="TextBox 31"/>
          <p:cNvSpPr/>
          <p:nvPr/>
        </p:nvSpPr>
        <p:spPr>
          <a:xfrm>
            <a:off x="10485360" y="5181480"/>
            <a:ext cx="61452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70%</a:t>
            </a:r>
            <a:endParaRPr b="0" lang="en-US" sz="1100" spc="-1" strike="noStrike">
              <a:solidFill>
                <a:srgbClr val="000000"/>
              </a:solidFill>
              <a:latin typeface="Calibri"/>
            </a:endParaRPr>
          </a:p>
        </p:txBody>
      </p:sp>
      <p:grpSp>
        <p:nvGrpSpPr>
          <p:cNvPr id="1480" name="Group 32"/>
          <p:cNvGrpSpPr/>
          <p:nvPr/>
        </p:nvGrpSpPr>
        <p:grpSpPr>
          <a:xfrm>
            <a:off x="7605720" y="6056280"/>
            <a:ext cx="3370320" cy="0"/>
            <a:chOff x="7605720" y="6056280"/>
            <a:chExt cx="3370320" cy="0"/>
          </a:xfrm>
        </p:grpSpPr>
        <p:sp>
          <p:nvSpPr>
            <p:cNvPr id="1481" name="Straight Connector 33"/>
            <p:cNvSpPr/>
            <p:nvPr/>
          </p:nvSpPr>
          <p:spPr>
            <a:xfrm>
              <a:off x="7605720" y="6056280"/>
              <a:ext cx="3370320" cy="0"/>
            </a:xfrm>
            <a:prstGeom prst="line">
              <a:avLst/>
            </a:prstGeom>
            <a:ln cap="sq" w="76320">
              <a:solidFill>
                <a:srgbClr val="f2f2f2"/>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2" name="Straight Connector 34"/>
            <p:cNvSpPr/>
            <p:nvPr/>
          </p:nvSpPr>
          <p:spPr>
            <a:xfrm>
              <a:off x="7605720" y="6056280"/>
              <a:ext cx="2778120" cy="0"/>
            </a:xfrm>
            <a:prstGeom prst="line">
              <a:avLst/>
            </a:prstGeom>
            <a:ln cap="sq" w="76320">
              <a:solidFill>
                <a:srgbClr val="bad0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83" name="TextBox 35"/>
          <p:cNvSpPr/>
          <p:nvPr/>
        </p:nvSpPr>
        <p:spPr>
          <a:xfrm>
            <a:off x="7459560" y="5710320"/>
            <a:ext cx="2432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Online Teaching Skills</a:t>
            </a:r>
            <a:endParaRPr b="0" lang="en-US" sz="1100" spc="-1" strike="noStrike">
              <a:solidFill>
                <a:srgbClr val="000000"/>
              </a:solidFill>
              <a:latin typeface="Calibri"/>
            </a:endParaRPr>
          </a:p>
        </p:txBody>
      </p:sp>
      <p:sp>
        <p:nvSpPr>
          <p:cNvPr id="1484" name="TextBox 36"/>
          <p:cNvSpPr/>
          <p:nvPr/>
        </p:nvSpPr>
        <p:spPr>
          <a:xfrm>
            <a:off x="10485360" y="5710320"/>
            <a:ext cx="61452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Roboto"/>
                <a:ea typeface="Roboto"/>
              </a:rPr>
              <a:t>87%</a:t>
            </a:r>
            <a:endParaRPr b="0" lang="en-US" sz="1100" spc="-1" strike="noStrike">
              <a:solidFill>
                <a:srgbClr val="000000"/>
              </a:solidFill>
              <a:latin typeface="Calibri"/>
            </a:endParaRPr>
          </a:p>
        </p:txBody>
      </p:sp>
      <p:grpSp>
        <p:nvGrpSpPr>
          <p:cNvPr id="1485" name="Group 42"/>
          <p:cNvGrpSpPr/>
          <p:nvPr/>
        </p:nvGrpSpPr>
        <p:grpSpPr>
          <a:xfrm>
            <a:off x="974880" y="622440"/>
            <a:ext cx="1212840" cy="293400"/>
            <a:chOff x="974880" y="622440"/>
            <a:chExt cx="1212840" cy="293400"/>
          </a:xfrm>
        </p:grpSpPr>
        <p:sp>
          <p:nvSpPr>
            <p:cNvPr id="1486" name="TextBox 43"/>
            <p:cNvSpPr/>
            <p:nvPr/>
          </p:nvSpPr>
          <p:spPr>
            <a:xfrm>
              <a:off x="974880" y="622440"/>
              <a:ext cx="121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boto Slab Medium"/>
                  <a:ea typeface="Roboto Slab Medium"/>
                </a:rPr>
                <a:t>Educationaly </a:t>
              </a:r>
              <a:endParaRPr b="0" lang="en-US" sz="1200" spc="-1" strike="noStrike">
                <a:solidFill>
                  <a:srgbClr val="000000"/>
                </a:solidFill>
                <a:latin typeface="Calibri"/>
              </a:endParaRPr>
            </a:p>
          </p:txBody>
        </p:sp>
        <p:sp>
          <p:nvSpPr>
            <p:cNvPr id="1487" name="Graphic 1031"/>
            <p:cNvSpPr/>
            <p:nvPr/>
          </p:nvSpPr>
          <p:spPr>
            <a:xfrm>
              <a:off x="1037520" y="863640"/>
              <a:ext cx="299160" cy="52200"/>
            </a:xfrm>
            <a:custGeom>
              <a:avLst/>
              <a:gdLst/>
              <a:ahLst/>
              <a:rect l="l" t="t" r="r" b="b"/>
              <a:pathLst>
                <a:path w="760911" h="132655">
                  <a:moveTo>
                    <a:pt x="0" y="132656"/>
                  </a:moveTo>
                  <a:cubicBezTo>
                    <a:pt x="55245" y="99318"/>
                    <a:pt x="113348" y="71696"/>
                    <a:pt x="174308" y="50741"/>
                  </a:cubicBezTo>
                  <a:cubicBezTo>
                    <a:pt x="235268" y="29786"/>
                    <a:pt x="298133" y="14546"/>
                    <a:pt x="361950" y="6926"/>
                  </a:cubicBezTo>
                  <a:cubicBezTo>
                    <a:pt x="490538" y="-9267"/>
                    <a:pt x="622935" y="3116"/>
                    <a:pt x="747713" y="42168"/>
                  </a:cubicBezTo>
                  <a:cubicBezTo>
                    <a:pt x="758190" y="45026"/>
                    <a:pt x="762953" y="55503"/>
                    <a:pt x="760095" y="65981"/>
                  </a:cubicBezTo>
                  <a:cubicBezTo>
                    <a:pt x="757238" y="76458"/>
                    <a:pt x="746760" y="81221"/>
                    <a:pt x="736283" y="78363"/>
                  </a:cubicBezTo>
                  <a:cubicBezTo>
                    <a:pt x="736283" y="78363"/>
                    <a:pt x="735330" y="78363"/>
                    <a:pt x="735330" y="78363"/>
                  </a:cubicBezTo>
                  <a:cubicBezTo>
                    <a:pt x="617220" y="35501"/>
                    <a:pt x="490538" y="16451"/>
                    <a:pt x="363855" y="26928"/>
                  </a:cubicBezTo>
                  <a:cubicBezTo>
                    <a:pt x="300990" y="30738"/>
                    <a:pt x="238125" y="42168"/>
                    <a:pt x="177165" y="60266"/>
                  </a:cubicBezTo>
                  <a:cubicBezTo>
                    <a:pt x="115253" y="78363"/>
                    <a:pt x="56198" y="103128"/>
                    <a:pt x="0" y="132656"/>
                  </a:cubicBezTo>
                  <a:close/>
                </a:path>
              </a:pathLst>
            </a:custGeom>
            <a:solidFill>
              <a:srgbClr val="7c8ffb"/>
            </a:solidFill>
            <a:ln w="0">
              <a:noFill/>
            </a:ln>
          </p:spPr>
          <p:style>
            <a:lnRef idx="0"/>
            <a:fillRef idx="0"/>
            <a:effectRef idx="0"/>
            <a:fontRef idx="minor"/>
          </p:style>
          <p:txBody>
            <a:bodyPr lIns="90000" rIns="90000" tIns="5400" bIns="5400" anchor="ctr">
              <a:noAutofit/>
            </a:bodyPr>
            <a:p>
              <a:endParaRPr b="0" lang="en-US" sz="1800" spc="-1" strike="noStrike">
                <a:solidFill>
                  <a:srgbClr val="000000"/>
                </a:solidFill>
                <a:latin typeface="Calibri"/>
              </a:endParaRPr>
            </a:p>
          </p:txBody>
        </p:sp>
      </p:grpSp>
      <p:grpSp>
        <p:nvGrpSpPr>
          <p:cNvPr id="1488" name="Group 45"/>
          <p:cNvGrpSpPr/>
          <p:nvPr/>
        </p:nvGrpSpPr>
        <p:grpSpPr>
          <a:xfrm>
            <a:off x="10625040" y="692280"/>
            <a:ext cx="474840" cy="64800"/>
            <a:chOff x="10625040" y="692280"/>
            <a:chExt cx="474840" cy="64800"/>
          </a:xfrm>
        </p:grpSpPr>
        <p:sp>
          <p:nvSpPr>
            <p:cNvPr id="1489" name="Freeform: Shape 46"/>
            <p:cNvSpPr/>
            <p:nvPr/>
          </p:nvSpPr>
          <p:spPr>
            <a:xfrm>
              <a:off x="106250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4fcb6"/>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490" name="Freeform: Shape 47"/>
            <p:cNvSpPr/>
            <p:nvPr/>
          </p:nvSpPr>
          <p:spPr>
            <a:xfrm>
              <a:off x="107618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bbbcfc"/>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491" name="Freeform: Shape 48"/>
            <p:cNvSpPr/>
            <p:nvPr/>
          </p:nvSpPr>
          <p:spPr>
            <a:xfrm>
              <a:off x="108986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ec2e1"/>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492" name="Freeform: Shape 49"/>
            <p:cNvSpPr/>
            <p:nvPr/>
          </p:nvSpPr>
          <p:spPr>
            <a:xfrm>
              <a:off x="110354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97fff7"/>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TextBox 2"/>
          <p:cNvSpPr/>
          <p:nvPr/>
        </p:nvSpPr>
        <p:spPr>
          <a:xfrm>
            <a:off x="1468440" y="1322280"/>
            <a:ext cx="584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boto Slab"/>
                <a:ea typeface="Roboto Slab"/>
              </a:rPr>
              <a:t>Educational </a:t>
            </a:r>
            <a:r>
              <a:rPr b="0" lang="en-US" sz="4000" spc="-1" strike="noStrike">
                <a:solidFill>
                  <a:srgbClr val="000000"/>
                </a:solidFill>
                <a:latin typeface="Roboto Slab Medium"/>
                <a:ea typeface="Roboto Slab Medium"/>
              </a:rPr>
              <a:t>Program</a:t>
            </a:r>
            <a:endParaRPr b="0" lang="en-US" sz="4000" spc="-1" strike="noStrike">
              <a:solidFill>
                <a:srgbClr val="000000"/>
              </a:solidFill>
              <a:latin typeface="Calibri"/>
            </a:endParaRPr>
          </a:p>
        </p:txBody>
      </p:sp>
      <p:sp>
        <p:nvSpPr>
          <p:cNvPr id="1494" name="TextBox 10"/>
          <p:cNvSpPr/>
          <p:nvPr/>
        </p:nvSpPr>
        <p:spPr>
          <a:xfrm>
            <a:off x="4821120" y="4662360"/>
            <a:ext cx="2594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N</a:t>
            </a:r>
            <a:r>
              <a:rPr b="0" lang="en-US" sz="1400" spc="-1" strike="noStrike" baseline="30000">
                <a:solidFill>
                  <a:srgbClr val="000000"/>
                </a:solidFill>
                <a:latin typeface="Roboto Slab Medium"/>
                <a:ea typeface="Roboto Slab Medium"/>
              </a:rPr>
              <a:t>o. </a:t>
            </a:r>
            <a:r>
              <a:rPr b="0" lang="en-US" sz="1400" spc="-1" strike="noStrike">
                <a:solidFill>
                  <a:srgbClr val="000000"/>
                </a:solidFill>
                <a:latin typeface="Roboto Slab Medium"/>
                <a:ea typeface="Roboto Slab Medium"/>
              </a:rPr>
              <a:t>02 Course</a:t>
            </a:r>
            <a:endParaRPr b="0" lang="en-US" sz="1400" spc="-1" strike="noStrike">
              <a:solidFill>
                <a:srgbClr val="000000"/>
              </a:solidFill>
              <a:latin typeface="Calibri"/>
            </a:endParaRPr>
          </a:p>
        </p:txBody>
      </p:sp>
      <p:sp>
        <p:nvSpPr>
          <p:cNvPr id="1495" name="TextBox 11"/>
          <p:cNvSpPr/>
          <p:nvPr/>
        </p:nvSpPr>
        <p:spPr>
          <a:xfrm>
            <a:off x="8175600" y="4662360"/>
            <a:ext cx="2594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N</a:t>
            </a:r>
            <a:r>
              <a:rPr b="0" lang="en-US" sz="1400" spc="-1" strike="noStrike" baseline="30000">
                <a:solidFill>
                  <a:srgbClr val="000000"/>
                </a:solidFill>
                <a:latin typeface="Roboto Slab Medium"/>
                <a:ea typeface="Roboto Slab Medium"/>
              </a:rPr>
              <a:t>o. </a:t>
            </a:r>
            <a:r>
              <a:rPr b="0" lang="en-US" sz="1400" spc="-1" strike="noStrike">
                <a:solidFill>
                  <a:srgbClr val="000000"/>
                </a:solidFill>
                <a:latin typeface="Roboto Slab Medium"/>
                <a:ea typeface="Roboto Slab Medium"/>
              </a:rPr>
              <a:t>03 Course</a:t>
            </a:r>
            <a:endParaRPr b="0" lang="en-US" sz="1400" spc="-1" strike="noStrike">
              <a:solidFill>
                <a:srgbClr val="000000"/>
              </a:solidFill>
              <a:latin typeface="Calibri"/>
            </a:endParaRPr>
          </a:p>
        </p:txBody>
      </p:sp>
      <p:grpSp>
        <p:nvGrpSpPr>
          <p:cNvPr id="1496" name="Group 12"/>
          <p:cNvGrpSpPr/>
          <p:nvPr/>
        </p:nvGrpSpPr>
        <p:grpSpPr>
          <a:xfrm>
            <a:off x="10625040" y="692280"/>
            <a:ext cx="474840" cy="64800"/>
            <a:chOff x="10625040" y="692280"/>
            <a:chExt cx="474840" cy="64800"/>
          </a:xfrm>
        </p:grpSpPr>
        <p:sp>
          <p:nvSpPr>
            <p:cNvPr id="1497" name="Freeform: Shape 13"/>
            <p:cNvSpPr/>
            <p:nvPr/>
          </p:nvSpPr>
          <p:spPr>
            <a:xfrm>
              <a:off x="106250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4fcb6"/>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498" name="Freeform: Shape 14"/>
            <p:cNvSpPr/>
            <p:nvPr/>
          </p:nvSpPr>
          <p:spPr>
            <a:xfrm>
              <a:off x="107618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bbbcfc"/>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499" name="Freeform: Shape 15"/>
            <p:cNvSpPr/>
            <p:nvPr/>
          </p:nvSpPr>
          <p:spPr>
            <a:xfrm>
              <a:off x="108986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fec2e1"/>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sp>
          <p:nvSpPr>
            <p:cNvPr id="1500" name="Freeform: Shape 16"/>
            <p:cNvSpPr/>
            <p:nvPr/>
          </p:nvSpPr>
          <p:spPr>
            <a:xfrm>
              <a:off x="11035440" y="692280"/>
              <a:ext cx="64440" cy="64800"/>
            </a:xfrm>
            <a:custGeom>
              <a:avLst/>
              <a:gdLst/>
              <a:ahLst/>
              <a:rect l="l" t="t" r="r" b="b"/>
              <a:pathLst>
                <a:path w="419131" h="419131">
                  <a:moveTo>
                    <a:pt x="419132" y="209566"/>
                  </a:moveTo>
                  <a:cubicBezTo>
                    <a:pt x="419132" y="325305"/>
                    <a:pt x="325306" y="419131"/>
                    <a:pt x="209566" y="419131"/>
                  </a:cubicBezTo>
                  <a:cubicBezTo>
                    <a:pt x="93827" y="419131"/>
                    <a:pt x="0" y="325305"/>
                    <a:pt x="0" y="209566"/>
                  </a:cubicBezTo>
                  <a:cubicBezTo>
                    <a:pt x="0" y="93826"/>
                    <a:pt x="93826" y="0"/>
                    <a:pt x="209566" y="0"/>
                  </a:cubicBezTo>
                  <a:cubicBezTo>
                    <a:pt x="325306" y="0"/>
                    <a:pt x="419132" y="93826"/>
                    <a:pt x="419132" y="209566"/>
                  </a:cubicBezTo>
                  <a:close/>
                </a:path>
              </a:pathLst>
            </a:custGeom>
            <a:solidFill>
              <a:srgbClr val="97fff7"/>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Calibri"/>
              </a:endParaRPr>
            </a:p>
          </p:txBody>
        </p:sp>
      </p:grpSp>
      <p:sp>
        <p:nvSpPr>
          <p:cNvPr id="1501" name="TextBox 9"/>
          <p:cNvSpPr/>
          <p:nvPr/>
        </p:nvSpPr>
        <p:spPr>
          <a:xfrm>
            <a:off x="1468440" y="4662360"/>
            <a:ext cx="2593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N</a:t>
            </a:r>
            <a:r>
              <a:rPr b="0" lang="en-US" sz="1400" spc="-1" strike="noStrike" baseline="30000">
                <a:solidFill>
                  <a:srgbClr val="000000"/>
                </a:solidFill>
                <a:latin typeface="Roboto Slab Medium"/>
                <a:ea typeface="Roboto Slab Medium"/>
              </a:rPr>
              <a:t>o. </a:t>
            </a:r>
            <a:r>
              <a:rPr b="0" lang="en-US" sz="1400" spc="-1" strike="noStrike">
                <a:solidFill>
                  <a:srgbClr val="000000"/>
                </a:solidFill>
                <a:latin typeface="Roboto Slab Medium"/>
                <a:ea typeface="Roboto Slab Medium"/>
              </a:rPr>
              <a:t>01 Course</a:t>
            </a:r>
            <a:endParaRPr b="0" lang="en-US" sz="1400" spc="-1" strike="noStrike">
              <a:solidFill>
                <a:srgbClr val="000000"/>
              </a:solidFill>
              <a:latin typeface="Calibri"/>
            </a:endParaRPr>
          </a:p>
        </p:txBody>
      </p:sp>
      <p:sp>
        <p:nvSpPr>
          <p:cNvPr id="1502" name="TextBox 17"/>
          <p:cNvSpPr/>
          <p:nvPr/>
        </p:nvSpPr>
        <p:spPr>
          <a:xfrm>
            <a:off x="1468440" y="4992840"/>
            <a:ext cx="27050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Ut enim ad minim veniam</a:t>
            </a:r>
            <a:endParaRPr b="0" lang="en-US" sz="1100" spc="-1" strike="noStrike">
              <a:solidFill>
                <a:srgbClr val="000000"/>
              </a:solidFill>
              <a:latin typeface="Calibri"/>
            </a:endParaRPr>
          </a:p>
        </p:txBody>
      </p:sp>
      <p:sp>
        <p:nvSpPr>
          <p:cNvPr id="1503" name="TextBox 18"/>
          <p:cNvSpPr/>
          <p:nvPr/>
        </p:nvSpPr>
        <p:spPr>
          <a:xfrm>
            <a:off x="4821120" y="4992840"/>
            <a:ext cx="27050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Ut enim ad minim veniam</a:t>
            </a:r>
            <a:endParaRPr b="0" lang="en-US" sz="1100" spc="-1" strike="noStrike">
              <a:solidFill>
                <a:srgbClr val="000000"/>
              </a:solidFill>
              <a:latin typeface="Calibri"/>
            </a:endParaRPr>
          </a:p>
        </p:txBody>
      </p:sp>
      <p:sp>
        <p:nvSpPr>
          <p:cNvPr id="1504" name="TextBox 19"/>
          <p:cNvSpPr/>
          <p:nvPr/>
        </p:nvSpPr>
        <p:spPr>
          <a:xfrm>
            <a:off x="8175600" y="4992840"/>
            <a:ext cx="27050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 incididunt ut labore et dolore magna aliqua. Ut enim ad minim veniam</a:t>
            </a:r>
            <a:endParaRPr b="0" lang="en-US" sz="1100" spc="-1" strike="noStrike">
              <a:solidFill>
                <a:srgbClr val="000000"/>
              </a:solidFill>
              <a:latin typeface="Calibri"/>
            </a:endParaRPr>
          </a:p>
        </p:txBody>
      </p:sp>
      <p:grpSp>
        <p:nvGrpSpPr>
          <p:cNvPr id="1505" name="Group 24"/>
          <p:cNvGrpSpPr/>
          <p:nvPr/>
        </p:nvGrpSpPr>
        <p:grpSpPr>
          <a:xfrm>
            <a:off x="974880" y="622440"/>
            <a:ext cx="1212840" cy="293400"/>
            <a:chOff x="974880" y="622440"/>
            <a:chExt cx="1212840" cy="293400"/>
          </a:xfrm>
        </p:grpSpPr>
        <p:sp>
          <p:nvSpPr>
            <p:cNvPr id="1506" name="TextBox 25"/>
            <p:cNvSpPr/>
            <p:nvPr/>
          </p:nvSpPr>
          <p:spPr>
            <a:xfrm>
              <a:off x="974880" y="622440"/>
              <a:ext cx="121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boto Slab Medium"/>
                  <a:ea typeface="Roboto Slab Medium"/>
                </a:rPr>
                <a:t>Educationaly </a:t>
              </a:r>
              <a:endParaRPr b="0" lang="en-US" sz="1200" spc="-1" strike="noStrike">
                <a:solidFill>
                  <a:srgbClr val="000000"/>
                </a:solidFill>
                <a:latin typeface="Calibri"/>
              </a:endParaRPr>
            </a:p>
          </p:txBody>
        </p:sp>
        <p:sp>
          <p:nvSpPr>
            <p:cNvPr id="1507" name="Graphic 1031"/>
            <p:cNvSpPr/>
            <p:nvPr/>
          </p:nvSpPr>
          <p:spPr>
            <a:xfrm>
              <a:off x="1037520" y="863640"/>
              <a:ext cx="299160" cy="52200"/>
            </a:xfrm>
            <a:custGeom>
              <a:avLst/>
              <a:gdLst/>
              <a:ahLst/>
              <a:rect l="l" t="t" r="r" b="b"/>
              <a:pathLst>
                <a:path w="760911" h="132655">
                  <a:moveTo>
                    <a:pt x="0" y="132656"/>
                  </a:moveTo>
                  <a:cubicBezTo>
                    <a:pt x="55245" y="99318"/>
                    <a:pt x="113348" y="71696"/>
                    <a:pt x="174308" y="50741"/>
                  </a:cubicBezTo>
                  <a:cubicBezTo>
                    <a:pt x="235268" y="29786"/>
                    <a:pt x="298133" y="14546"/>
                    <a:pt x="361950" y="6926"/>
                  </a:cubicBezTo>
                  <a:cubicBezTo>
                    <a:pt x="490538" y="-9267"/>
                    <a:pt x="622935" y="3116"/>
                    <a:pt x="747713" y="42168"/>
                  </a:cubicBezTo>
                  <a:cubicBezTo>
                    <a:pt x="758190" y="45026"/>
                    <a:pt x="762953" y="55503"/>
                    <a:pt x="760095" y="65981"/>
                  </a:cubicBezTo>
                  <a:cubicBezTo>
                    <a:pt x="757238" y="76458"/>
                    <a:pt x="746760" y="81221"/>
                    <a:pt x="736283" y="78363"/>
                  </a:cubicBezTo>
                  <a:cubicBezTo>
                    <a:pt x="736283" y="78363"/>
                    <a:pt x="735330" y="78363"/>
                    <a:pt x="735330" y="78363"/>
                  </a:cubicBezTo>
                  <a:cubicBezTo>
                    <a:pt x="617220" y="35501"/>
                    <a:pt x="490538" y="16451"/>
                    <a:pt x="363855" y="26928"/>
                  </a:cubicBezTo>
                  <a:cubicBezTo>
                    <a:pt x="300990" y="30738"/>
                    <a:pt x="238125" y="42168"/>
                    <a:pt x="177165" y="60266"/>
                  </a:cubicBezTo>
                  <a:cubicBezTo>
                    <a:pt x="115253" y="78363"/>
                    <a:pt x="56198" y="103128"/>
                    <a:pt x="0" y="132656"/>
                  </a:cubicBezTo>
                  <a:close/>
                </a:path>
              </a:pathLst>
            </a:custGeom>
            <a:solidFill>
              <a:srgbClr val="7c8ffb"/>
            </a:solidFill>
            <a:ln w="0">
              <a:noFill/>
            </a:ln>
          </p:spPr>
          <p:style>
            <a:lnRef idx="0"/>
            <a:fillRef idx="0"/>
            <a:effectRef idx="0"/>
            <a:fontRef idx="minor"/>
          </p:style>
          <p:txBody>
            <a:bodyPr lIns="90000" rIns="90000" tIns="5400" bIns="5400" anchor="ctr">
              <a:noAutofit/>
            </a:bodyPr>
            <a:p>
              <a:endParaRPr b="0" lang="en-US" sz="1800" spc="-1" strike="noStrike">
                <a:solidFill>
                  <a:srgbClr val="000000"/>
                </a:solidFill>
                <a:latin typeface="Calibri"/>
              </a:endParaRPr>
            </a:p>
          </p:txBody>
        </p:sp>
      </p:grpSp>
      <p:sp>
        <p:nvSpPr>
          <p:cNvPr id="1508" name="Oval 21"/>
          <p:cNvSpPr/>
          <p:nvPr/>
        </p:nvSpPr>
        <p:spPr>
          <a:xfrm>
            <a:off x="3033720" y="3375000"/>
            <a:ext cx="728640" cy="728640"/>
          </a:xfrm>
          <a:prstGeom prst="ellipse">
            <a:avLst/>
          </a:prstGeom>
          <a:solidFill>
            <a:srgbClr val="7c8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09" name="Graphic 32" descr="Cube"/>
          <p:cNvPicPr/>
          <p:nvPr/>
        </p:nvPicPr>
        <p:blipFill>
          <a:blip r:embed="rId1"/>
          <a:stretch/>
        </p:blipFill>
        <p:spPr>
          <a:xfrm>
            <a:off x="3238560" y="3581280"/>
            <a:ext cx="317520" cy="317520"/>
          </a:xfrm>
          <a:prstGeom prst="rect">
            <a:avLst/>
          </a:prstGeom>
          <a:ln w="0">
            <a:noFill/>
          </a:ln>
        </p:spPr>
      </p:pic>
      <p:sp>
        <p:nvSpPr>
          <p:cNvPr id="1510" name="Oval 23"/>
          <p:cNvSpPr/>
          <p:nvPr/>
        </p:nvSpPr>
        <p:spPr>
          <a:xfrm>
            <a:off x="9658440" y="3375000"/>
            <a:ext cx="726840" cy="728640"/>
          </a:xfrm>
          <a:prstGeom prst="ellipse">
            <a:avLst/>
          </a:prstGeom>
          <a:solidFill>
            <a:srgbClr val="7c8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11" name="Graphic 34" descr="Globe"/>
          <p:cNvPicPr/>
          <p:nvPr/>
        </p:nvPicPr>
        <p:blipFill>
          <a:blip r:embed="rId2"/>
          <a:stretch/>
        </p:blipFill>
        <p:spPr>
          <a:xfrm>
            <a:off x="9867960" y="3556080"/>
            <a:ext cx="304920" cy="368280"/>
          </a:xfrm>
          <a:prstGeom prst="rect">
            <a:avLst/>
          </a:prstGeom>
          <a:ln w="0">
            <a:noFill/>
          </a:ln>
        </p:spPr>
      </p:pic>
      <p:sp>
        <p:nvSpPr>
          <p:cNvPr id="1512" name="Oval 22"/>
          <p:cNvSpPr/>
          <p:nvPr/>
        </p:nvSpPr>
        <p:spPr>
          <a:xfrm>
            <a:off x="6332400" y="3375000"/>
            <a:ext cx="727200" cy="728640"/>
          </a:xfrm>
          <a:prstGeom prst="ellipse">
            <a:avLst/>
          </a:prstGeom>
          <a:solidFill>
            <a:srgbClr val="7c8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13" name="Graphic 36" descr="Closed book"/>
          <p:cNvPicPr/>
          <p:nvPr/>
        </p:nvPicPr>
        <p:blipFill>
          <a:blip r:embed="rId3"/>
          <a:stretch/>
        </p:blipFill>
        <p:spPr>
          <a:xfrm>
            <a:off x="6578640" y="3568680"/>
            <a:ext cx="241200" cy="3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TextBox 2"/>
          <p:cNvSpPr/>
          <p:nvPr/>
        </p:nvSpPr>
        <p:spPr>
          <a:xfrm>
            <a:off x="917640" y="1225440"/>
            <a:ext cx="4473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Roboto Slab"/>
                <a:ea typeface="Roboto Slab"/>
              </a:rPr>
              <a:t>Educational </a:t>
            </a:r>
            <a:r>
              <a:rPr b="0" lang="en-US" sz="3000" spc="-1" strike="noStrike">
                <a:solidFill>
                  <a:srgbClr val="000000"/>
                </a:solidFill>
                <a:latin typeface="Roboto Slab Medium"/>
                <a:ea typeface="Roboto Slab Medium"/>
              </a:rPr>
              <a:t>Programs</a:t>
            </a:r>
            <a:endParaRPr b="0" lang="en-US" sz="3000" spc="-1" strike="noStrike">
              <a:solidFill>
                <a:srgbClr val="000000"/>
              </a:solidFill>
              <a:latin typeface="Calibri"/>
            </a:endParaRPr>
          </a:p>
        </p:txBody>
      </p:sp>
      <p:pic>
        <p:nvPicPr>
          <p:cNvPr id="1515" name="Group 3" descr=""/>
          <p:cNvPicPr/>
          <p:nvPr/>
        </p:nvPicPr>
        <p:blipFill>
          <a:blip r:embed="rId1"/>
          <a:stretch/>
        </p:blipFill>
        <p:spPr>
          <a:xfrm>
            <a:off x="10617120" y="685800"/>
            <a:ext cx="495360" cy="76320"/>
          </a:xfrm>
          <a:prstGeom prst="rect">
            <a:avLst/>
          </a:prstGeom>
          <a:ln w="0">
            <a:noFill/>
          </a:ln>
        </p:spPr>
      </p:pic>
      <p:grpSp>
        <p:nvGrpSpPr>
          <p:cNvPr id="1516" name="Group 8"/>
          <p:cNvGrpSpPr/>
          <p:nvPr/>
        </p:nvGrpSpPr>
        <p:grpSpPr>
          <a:xfrm>
            <a:off x="917640" y="622440"/>
            <a:ext cx="1212840" cy="293400"/>
            <a:chOff x="917640" y="622440"/>
            <a:chExt cx="1212840" cy="293400"/>
          </a:xfrm>
        </p:grpSpPr>
        <p:sp>
          <p:nvSpPr>
            <p:cNvPr id="1517" name="TextBox 9"/>
            <p:cNvSpPr/>
            <p:nvPr/>
          </p:nvSpPr>
          <p:spPr>
            <a:xfrm>
              <a:off x="917640" y="622440"/>
              <a:ext cx="121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boto Slab Medium"/>
                  <a:ea typeface="Roboto Slab Medium"/>
                </a:rPr>
                <a:t>Educationaly </a:t>
              </a:r>
              <a:endParaRPr b="0" lang="en-US" sz="1200" spc="-1" strike="noStrike">
                <a:solidFill>
                  <a:srgbClr val="000000"/>
                </a:solidFill>
                <a:latin typeface="Calibri"/>
              </a:endParaRPr>
            </a:p>
          </p:txBody>
        </p:sp>
        <p:sp>
          <p:nvSpPr>
            <p:cNvPr id="1518" name="Graphic 1031"/>
            <p:cNvSpPr/>
            <p:nvPr/>
          </p:nvSpPr>
          <p:spPr>
            <a:xfrm>
              <a:off x="980280" y="863640"/>
              <a:ext cx="299160" cy="52200"/>
            </a:xfrm>
            <a:custGeom>
              <a:avLst/>
              <a:gdLst/>
              <a:ahLst/>
              <a:rect l="l" t="t" r="r" b="b"/>
              <a:pathLst>
                <a:path w="760911" h="132655">
                  <a:moveTo>
                    <a:pt x="0" y="132656"/>
                  </a:moveTo>
                  <a:cubicBezTo>
                    <a:pt x="55245" y="99318"/>
                    <a:pt x="113348" y="71696"/>
                    <a:pt x="174308" y="50741"/>
                  </a:cubicBezTo>
                  <a:cubicBezTo>
                    <a:pt x="235268" y="29786"/>
                    <a:pt x="298133" y="14546"/>
                    <a:pt x="361950" y="6926"/>
                  </a:cubicBezTo>
                  <a:cubicBezTo>
                    <a:pt x="490538" y="-9267"/>
                    <a:pt x="622935" y="3116"/>
                    <a:pt x="747713" y="42168"/>
                  </a:cubicBezTo>
                  <a:cubicBezTo>
                    <a:pt x="758190" y="45026"/>
                    <a:pt x="762953" y="55503"/>
                    <a:pt x="760095" y="65981"/>
                  </a:cubicBezTo>
                  <a:cubicBezTo>
                    <a:pt x="757238" y="76458"/>
                    <a:pt x="746760" y="81221"/>
                    <a:pt x="736283" y="78363"/>
                  </a:cubicBezTo>
                  <a:cubicBezTo>
                    <a:pt x="736283" y="78363"/>
                    <a:pt x="735330" y="78363"/>
                    <a:pt x="735330" y="78363"/>
                  </a:cubicBezTo>
                  <a:cubicBezTo>
                    <a:pt x="617220" y="35501"/>
                    <a:pt x="490538" y="16451"/>
                    <a:pt x="363855" y="26928"/>
                  </a:cubicBezTo>
                  <a:cubicBezTo>
                    <a:pt x="300990" y="30738"/>
                    <a:pt x="238125" y="42168"/>
                    <a:pt x="177165" y="60266"/>
                  </a:cubicBezTo>
                  <a:cubicBezTo>
                    <a:pt x="115253" y="78363"/>
                    <a:pt x="56198" y="103128"/>
                    <a:pt x="0" y="132656"/>
                  </a:cubicBezTo>
                  <a:close/>
                </a:path>
              </a:pathLst>
            </a:custGeom>
            <a:solidFill>
              <a:srgbClr val="7c8ffb"/>
            </a:solidFill>
            <a:ln w="0">
              <a:noFill/>
            </a:ln>
          </p:spPr>
          <p:style>
            <a:lnRef idx="0"/>
            <a:fillRef idx="0"/>
            <a:effectRef idx="0"/>
            <a:fontRef idx="minor"/>
          </p:style>
          <p:txBody>
            <a:bodyPr lIns="90000" rIns="90000" tIns="5400" bIns="5400" anchor="ctr">
              <a:noAutofit/>
            </a:bodyPr>
            <a:p>
              <a:endParaRPr b="0" lang="en-US" sz="1800" spc="-1" strike="noStrike">
                <a:solidFill>
                  <a:srgbClr val="000000"/>
                </a:solidFill>
                <a:latin typeface="Calibri"/>
              </a:endParaRPr>
            </a:p>
          </p:txBody>
        </p:sp>
      </p:grpSp>
      <p:grpSp>
        <p:nvGrpSpPr>
          <p:cNvPr id="1519" name="Group 40"/>
          <p:cNvGrpSpPr/>
          <p:nvPr/>
        </p:nvGrpSpPr>
        <p:grpSpPr>
          <a:xfrm>
            <a:off x="8058240" y="2595600"/>
            <a:ext cx="2705040" cy="1177560"/>
            <a:chOff x="8058240" y="2595600"/>
            <a:chExt cx="2705040" cy="1177560"/>
          </a:xfrm>
        </p:grpSpPr>
        <p:sp>
          <p:nvSpPr>
            <p:cNvPr id="1520" name="TextBox 12"/>
            <p:cNvSpPr/>
            <p:nvPr/>
          </p:nvSpPr>
          <p:spPr>
            <a:xfrm>
              <a:off x="8058240" y="2595600"/>
              <a:ext cx="25945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N</a:t>
              </a:r>
              <a:r>
                <a:rPr b="0" lang="en-US" sz="1400" spc="-1" strike="noStrike" baseline="30000">
                  <a:solidFill>
                    <a:srgbClr val="000000"/>
                  </a:solidFill>
                  <a:latin typeface="Roboto Slab Medium"/>
                  <a:ea typeface="Roboto Slab Medium"/>
                </a:rPr>
                <a:t>o. </a:t>
              </a:r>
              <a:r>
                <a:rPr b="0" lang="en-US" sz="1400" spc="-1" strike="noStrike">
                  <a:solidFill>
                    <a:srgbClr val="000000"/>
                  </a:solidFill>
                  <a:latin typeface="Roboto Slab Medium"/>
                  <a:ea typeface="Roboto Slab Medium"/>
                </a:rPr>
                <a:t>01 Subtitle</a:t>
              </a:r>
              <a:endParaRPr b="0" lang="en-US" sz="1400" spc="-1" strike="noStrike">
                <a:solidFill>
                  <a:srgbClr val="000000"/>
                </a:solidFill>
                <a:latin typeface="Calibri"/>
              </a:endParaRPr>
            </a:p>
          </p:txBody>
        </p:sp>
        <p:sp>
          <p:nvSpPr>
            <p:cNvPr id="1521" name="TextBox 13"/>
            <p:cNvSpPr/>
            <p:nvPr/>
          </p:nvSpPr>
          <p:spPr>
            <a:xfrm>
              <a:off x="8058240" y="2926440"/>
              <a:ext cx="27050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p:txBody>
        </p:sp>
      </p:grpSp>
      <p:grpSp>
        <p:nvGrpSpPr>
          <p:cNvPr id="1522" name="Group 111"/>
          <p:cNvGrpSpPr/>
          <p:nvPr/>
        </p:nvGrpSpPr>
        <p:grpSpPr>
          <a:xfrm>
            <a:off x="7093080" y="2595600"/>
            <a:ext cx="814320" cy="815760"/>
            <a:chOff x="7093080" y="2595600"/>
            <a:chExt cx="814320" cy="815760"/>
          </a:xfrm>
        </p:grpSpPr>
        <p:sp>
          <p:nvSpPr>
            <p:cNvPr id="1523" name="Oval 14"/>
            <p:cNvSpPr/>
            <p:nvPr/>
          </p:nvSpPr>
          <p:spPr>
            <a:xfrm>
              <a:off x="7093080" y="2595600"/>
              <a:ext cx="814320" cy="815760"/>
            </a:xfrm>
            <a:prstGeom prst="ellipse">
              <a:avLst/>
            </a:prstGeom>
            <a:solidFill>
              <a:srgbClr val="ffffff"/>
            </a:solidFill>
            <a:ln w="19080">
              <a:solidFill>
                <a:srgbClr val="7c8f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24" name="Graphic 32" descr="Cube"/>
            <p:cNvPicPr/>
            <p:nvPr/>
          </p:nvPicPr>
          <p:blipFill>
            <a:blip r:embed="rId2"/>
            <a:stretch/>
          </p:blipFill>
          <p:spPr>
            <a:xfrm>
              <a:off x="7315560" y="2831760"/>
              <a:ext cx="355320" cy="355680"/>
            </a:xfrm>
            <a:prstGeom prst="rect">
              <a:avLst/>
            </a:prstGeom>
            <a:ln w="0">
              <a:noFill/>
            </a:ln>
          </p:spPr>
        </p:pic>
      </p:grpSp>
      <p:grpSp>
        <p:nvGrpSpPr>
          <p:cNvPr id="1525" name="Group 41"/>
          <p:cNvGrpSpPr/>
          <p:nvPr/>
        </p:nvGrpSpPr>
        <p:grpSpPr>
          <a:xfrm>
            <a:off x="8058240" y="3828960"/>
            <a:ext cx="2705040" cy="1177560"/>
            <a:chOff x="8058240" y="3828960"/>
            <a:chExt cx="2705040" cy="1177560"/>
          </a:xfrm>
        </p:grpSpPr>
        <p:sp>
          <p:nvSpPr>
            <p:cNvPr id="1526" name="TextBox 42"/>
            <p:cNvSpPr/>
            <p:nvPr/>
          </p:nvSpPr>
          <p:spPr>
            <a:xfrm>
              <a:off x="8058240" y="3828960"/>
              <a:ext cx="25945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N</a:t>
              </a:r>
              <a:r>
                <a:rPr b="0" lang="en-US" sz="1400" spc="-1" strike="noStrike" baseline="30000">
                  <a:solidFill>
                    <a:srgbClr val="000000"/>
                  </a:solidFill>
                  <a:latin typeface="Roboto Slab Medium"/>
                  <a:ea typeface="Roboto Slab Medium"/>
                </a:rPr>
                <a:t>o. </a:t>
              </a:r>
              <a:r>
                <a:rPr b="0" lang="en-US" sz="1400" spc="-1" strike="noStrike">
                  <a:solidFill>
                    <a:srgbClr val="000000"/>
                  </a:solidFill>
                  <a:latin typeface="Roboto Slab Medium"/>
                  <a:ea typeface="Roboto Slab Medium"/>
                </a:rPr>
                <a:t>02 Subtitle</a:t>
              </a:r>
              <a:endParaRPr b="0" lang="en-US" sz="1400" spc="-1" strike="noStrike">
                <a:solidFill>
                  <a:srgbClr val="000000"/>
                </a:solidFill>
                <a:latin typeface="Calibri"/>
              </a:endParaRPr>
            </a:p>
          </p:txBody>
        </p:sp>
        <p:sp>
          <p:nvSpPr>
            <p:cNvPr id="1527" name="TextBox 43"/>
            <p:cNvSpPr/>
            <p:nvPr/>
          </p:nvSpPr>
          <p:spPr>
            <a:xfrm>
              <a:off x="8058240" y="4159800"/>
              <a:ext cx="27050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p:txBody>
        </p:sp>
      </p:grpSp>
      <p:grpSp>
        <p:nvGrpSpPr>
          <p:cNvPr id="1528" name="Group 61"/>
          <p:cNvGrpSpPr/>
          <p:nvPr/>
        </p:nvGrpSpPr>
        <p:grpSpPr>
          <a:xfrm>
            <a:off x="8058240" y="5072040"/>
            <a:ext cx="2705040" cy="1176840"/>
            <a:chOff x="8058240" y="5072040"/>
            <a:chExt cx="2705040" cy="1176840"/>
          </a:xfrm>
        </p:grpSpPr>
        <p:sp>
          <p:nvSpPr>
            <p:cNvPr id="1529" name="TextBox 62"/>
            <p:cNvSpPr/>
            <p:nvPr/>
          </p:nvSpPr>
          <p:spPr>
            <a:xfrm>
              <a:off x="8058240" y="5072040"/>
              <a:ext cx="25945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boto Slab Medium"/>
                  <a:ea typeface="Roboto Slab Medium"/>
                </a:rPr>
                <a:t>N</a:t>
              </a:r>
              <a:r>
                <a:rPr b="0" lang="en-US" sz="1400" spc="-1" strike="noStrike" baseline="30000">
                  <a:solidFill>
                    <a:srgbClr val="000000"/>
                  </a:solidFill>
                  <a:latin typeface="Roboto Slab Medium"/>
                  <a:ea typeface="Roboto Slab Medium"/>
                </a:rPr>
                <a:t>o. </a:t>
              </a:r>
              <a:r>
                <a:rPr b="0" lang="en-US" sz="1400" spc="-1" strike="noStrike">
                  <a:solidFill>
                    <a:srgbClr val="000000"/>
                  </a:solidFill>
                  <a:latin typeface="Roboto Slab Medium"/>
                  <a:ea typeface="Roboto Slab Medium"/>
                </a:rPr>
                <a:t>03 Subtitle</a:t>
              </a:r>
              <a:endParaRPr b="0" lang="en-US" sz="1400" spc="-1" strike="noStrike">
                <a:solidFill>
                  <a:srgbClr val="000000"/>
                </a:solidFill>
                <a:latin typeface="Calibri"/>
              </a:endParaRPr>
            </a:p>
          </p:txBody>
        </p:sp>
        <p:sp>
          <p:nvSpPr>
            <p:cNvPr id="1530" name="TextBox 63"/>
            <p:cNvSpPr/>
            <p:nvPr/>
          </p:nvSpPr>
          <p:spPr>
            <a:xfrm>
              <a:off x="8058240" y="5402160"/>
              <a:ext cx="27050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Light"/>
                  <a:ea typeface="Roboto Light"/>
                </a:rPr>
                <a:t>Lorem ipsum dolor sit amet, consectetur adipiscing elit, sed do eiusmod tempor</a:t>
              </a:r>
              <a:endParaRPr b="0" lang="en-US" sz="1100" spc="-1" strike="noStrike">
                <a:solidFill>
                  <a:srgbClr val="000000"/>
                </a:solidFill>
                <a:latin typeface="Calibri"/>
              </a:endParaRPr>
            </a:p>
          </p:txBody>
        </p:sp>
      </p:grpSp>
      <p:grpSp>
        <p:nvGrpSpPr>
          <p:cNvPr id="1531" name="Group 109"/>
          <p:cNvGrpSpPr/>
          <p:nvPr/>
        </p:nvGrpSpPr>
        <p:grpSpPr>
          <a:xfrm>
            <a:off x="7093080" y="3828960"/>
            <a:ext cx="814320" cy="816120"/>
            <a:chOff x="7093080" y="3828960"/>
            <a:chExt cx="814320" cy="816120"/>
          </a:xfrm>
        </p:grpSpPr>
        <p:sp>
          <p:nvSpPr>
            <p:cNvPr id="1532" name="Oval 45"/>
            <p:cNvSpPr/>
            <p:nvPr/>
          </p:nvSpPr>
          <p:spPr>
            <a:xfrm>
              <a:off x="7093080" y="3828960"/>
              <a:ext cx="814320" cy="816120"/>
            </a:xfrm>
            <a:prstGeom prst="ellipse">
              <a:avLst/>
            </a:prstGeom>
            <a:solidFill>
              <a:srgbClr val="ffffff"/>
            </a:solidFill>
            <a:ln w="19080">
              <a:solidFill>
                <a:srgbClr val="7c8f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3" name="Graphic 82"/>
            <p:cNvSpPr/>
            <p:nvPr/>
          </p:nvSpPr>
          <p:spPr>
            <a:xfrm>
              <a:off x="7292160" y="4061520"/>
              <a:ext cx="416160" cy="350640"/>
            </a:xfrm>
            <a:custGeom>
              <a:avLst/>
              <a:gdLst/>
              <a:ahLst/>
              <a:rect l="l" t="t" r="r" b="b"/>
              <a:pathLst>
                <a:path w="838200" h="704922">
                  <a:moveTo>
                    <a:pt x="800100" y="647772"/>
                  </a:moveTo>
                  <a:lnTo>
                    <a:pt x="800100" y="114372"/>
                  </a:lnTo>
                  <a:lnTo>
                    <a:pt x="762000" y="114372"/>
                  </a:lnTo>
                  <a:lnTo>
                    <a:pt x="762000" y="200097"/>
                  </a:lnTo>
                  <a:lnTo>
                    <a:pt x="704850" y="200097"/>
                  </a:lnTo>
                  <a:lnTo>
                    <a:pt x="704850" y="66747"/>
                  </a:lnTo>
                  <a:cubicBezTo>
                    <a:pt x="704850" y="46745"/>
                    <a:pt x="708660" y="39125"/>
                    <a:pt x="709613" y="37220"/>
                  </a:cubicBezTo>
                  <a:cubicBezTo>
                    <a:pt x="718185" y="35315"/>
                    <a:pt x="723900" y="27695"/>
                    <a:pt x="723900" y="18170"/>
                  </a:cubicBezTo>
                  <a:cubicBezTo>
                    <a:pt x="723900" y="7692"/>
                    <a:pt x="715328" y="-880"/>
                    <a:pt x="704850" y="72"/>
                  </a:cubicBezTo>
                  <a:lnTo>
                    <a:pt x="704850" y="72"/>
                  </a:lnTo>
                  <a:lnTo>
                    <a:pt x="553403" y="72"/>
                  </a:lnTo>
                  <a:cubicBezTo>
                    <a:pt x="542925" y="-880"/>
                    <a:pt x="534353" y="7692"/>
                    <a:pt x="533400" y="18170"/>
                  </a:cubicBezTo>
                  <a:cubicBezTo>
                    <a:pt x="533400" y="26742"/>
                    <a:pt x="539115" y="34362"/>
                    <a:pt x="547688" y="37220"/>
                  </a:cubicBezTo>
                  <a:cubicBezTo>
                    <a:pt x="548640" y="39125"/>
                    <a:pt x="552450" y="46745"/>
                    <a:pt x="552450" y="66747"/>
                  </a:cubicBezTo>
                  <a:lnTo>
                    <a:pt x="552450" y="200097"/>
                  </a:lnTo>
                  <a:lnTo>
                    <a:pt x="495300" y="200097"/>
                  </a:lnTo>
                  <a:lnTo>
                    <a:pt x="495300" y="66747"/>
                  </a:lnTo>
                  <a:cubicBezTo>
                    <a:pt x="495300" y="46745"/>
                    <a:pt x="499110" y="39125"/>
                    <a:pt x="500063" y="37220"/>
                  </a:cubicBezTo>
                  <a:cubicBezTo>
                    <a:pt x="508635" y="35315"/>
                    <a:pt x="514350" y="27695"/>
                    <a:pt x="514350" y="18170"/>
                  </a:cubicBezTo>
                  <a:cubicBezTo>
                    <a:pt x="514350" y="7692"/>
                    <a:pt x="505778" y="-880"/>
                    <a:pt x="495300" y="72"/>
                  </a:cubicBezTo>
                  <a:lnTo>
                    <a:pt x="495300" y="72"/>
                  </a:lnTo>
                  <a:lnTo>
                    <a:pt x="343853" y="72"/>
                  </a:lnTo>
                  <a:cubicBezTo>
                    <a:pt x="333375" y="-880"/>
                    <a:pt x="324803" y="7692"/>
                    <a:pt x="323850" y="18170"/>
                  </a:cubicBezTo>
                  <a:cubicBezTo>
                    <a:pt x="323850" y="26742"/>
                    <a:pt x="329565" y="34362"/>
                    <a:pt x="338138" y="37220"/>
                  </a:cubicBezTo>
                  <a:cubicBezTo>
                    <a:pt x="339090" y="39125"/>
                    <a:pt x="342900" y="46745"/>
                    <a:pt x="342900" y="66747"/>
                  </a:cubicBezTo>
                  <a:lnTo>
                    <a:pt x="342900" y="200097"/>
                  </a:lnTo>
                  <a:lnTo>
                    <a:pt x="285750" y="200097"/>
                  </a:lnTo>
                  <a:lnTo>
                    <a:pt x="285750" y="66747"/>
                  </a:lnTo>
                  <a:cubicBezTo>
                    <a:pt x="285750" y="46745"/>
                    <a:pt x="289560" y="39125"/>
                    <a:pt x="290513" y="37220"/>
                  </a:cubicBezTo>
                  <a:cubicBezTo>
                    <a:pt x="299085" y="35315"/>
                    <a:pt x="304800" y="27695"/>
                    <a:pt x="304800" y="18170"/>
                  </a:cubicBezTo>
                  <a:cubicBezTo>
                    <a:pt x="304800" y="7692"/>
                    <a:pt x="296228" y="-880"/>
                    <a:pt x="285750" y="72"/>
                  </a:cubicBezTo>
                  <a:lnTo>
                    <a:pt x="285750" y="72"/>
                  </a:lnTo>
                  <a:lnTo>
                    <a:pt x="134303" y="72"/>
                  </a:lnTo>
                  <a:cubicBezTo>
                    <a:pt x="123825" y="-880"/>
                    <a:pt x="115253" y="7692"/>
                    <a:pt x="114300" y="18170"/>
                  </a:cubicBezTo>
                  <a:cubicBezTo>
                    <a:pt x="114300" y="26742"/>
                    <a:pt x="120015" y="34362"/>
                    <a:pt x="128588" y="37220"/>
                  </a:cubicBezTo>
                  <a:cubicBezTo>
                    <a:pt x="129540" y="39125"/>
                    <a:pt x="133350" y="46745"/>
                    <a:pt x="133350" y="66747"/>
                  </a:cubicBezTo>
                  <a:lnTo>
                    <a:pt x="133350" y="200097"/>
                  </a:lnTo>
                  <a:lnTo>
                    <a:pt x="76200" y="200097"/>
                  </a:lnTo>
                  <a:lnTo>
                    <a:pt x="76200" y="114372"/>
                  </a:lnTo>
                  <a:lnTo>
                    <a:pt x="38100" y="114372"/>
                  </a:lnTo>
                  <a:lnTo>
                    <a:pt x="38100" y="647772"/>
                  </a:lnTo>
                  <a:lnTo>
                    <a:pt x="0" y="647772"/>
                  </a:lnTo>
                  <a:lnTo>
                    <a:pt x="0" y="704922"/>
                  </a:lnTo>
                  <a:lnTo>
                    <a:pt x="838200" y="704922"/>
                  </a:lnTo>
                  <a:lnTo>
                    <a:pt x="838200" y="647772"/>
                  </a:lnTo>
                  <a:lnTo>
                    <a:pt x="800100" y="647772"/>
                  </a:lnTo>
                  <a:close/>
                  <a:moveTo>
                    <a:pt x="669608" y="38172"/>
                  </a:moveTo>
                  <a:cubicBezTo>
                    <a:pt x="667703" y="45792"/>
                    <a:pt x="666750" y="55317"/>
                    <a:pt x="666750" y="66747"/>
                  </a:cubicBezTo>
                  <a:lnTo>
                    <a:pt x="666750" y="152472"/>
                  </a:lnTo>
                  <a:cubicBezTo>
                    <a:pt x="666750" y="152472"/>
                    <a:pt x="647700" y="142947"/>
                    <a:pt x="628650" y="142947"/>
                  </a:cubicBezTo>
                  <a:cubicBezTo>
                    <a:pt x="609600" y="142947"/>
                    <a:pt x="590550" y="152472"/>
                    <a:pt x="590550" y="152472"/>
                  </a:cubicBezTo>
                  <a:lnTo>
                    <a:pt x="590550" y="66747"/>
                  </a:lnTo>
                  <a:cubicBezTo>
                    <a:pt x="590550" y="55317"/>
                    <a:pt x="589598" y="45792"/>
                    <a:pt x="587693" y="38172"/>
                  </a:cubicBezTo>
                  <a:lnTo>
                    <a:pt x="669608" y="38172"/>
                  </a:lnTo>
                  <a:close/>
                  <a:moveTo>
                    <a:pt x="460058" y="38172"/>
                  </a:moveTo>
                  <a:cubicBezTo>
                    <a:pt x="458153" y="45792"/>
                    <a:pt x="457200" y="55317"/>
                    <a:pt x="457200" y="66747"/>
                  </a:cubicBezTo>
                  <a:lnTo>
                    <a:pt x="457200" y="152472"/>
                  </a:lnTo>
                  <a:cubicBezTo>
                    <a:pt x="457200" y="152472"/>
                    <a:pt x="438150" y="142947"/>
                    <a:pt x="419100" y="142947"/>
                  </a:cubicBezTo>
                  <a:cubicBezTo>
                    <a:pt x="400050" y="142947"/>
                    <a:pt x="381000" y="152472"/>
                    <a:pt x="381000" y="152472"/>
                  </a:cubicBezTo>
                  <a:lnTo>
                    <a:pt x="381000" y="66747"/>
                  </a:lnTo>
                  <a:cubicBezTo>
                    <a:pt x="381000" y="55317"/>
                    <a:pt x="380048" y="45792"/>
                    <a:pt x="378143" y="38172"/>
                  </a:cubicBezTo>
                  <a:lnTo>
                    <a:pt x="460058" y="38172"/>
                  </a:lnTo>
                  <a:close/>
                  <a:moveTo>
                    <a:pt x="250508" y="38172"/>
                  </a:moveTo>
                  <a:cubicBezTo>
                    <a:pt x="248603" y="45792"/>
                    <a:pt x="247650" y="55317"/>
                    <a:pt x="247650" y="66747"/>
                  </a:cubicBezTo>
                  <a:lnTo>
                    <a:pt x="247650" y="152472"/>
                  </a:lnTo>
                  <a:cubicBezTo>
                    <a:pt x="247650" y="152472"/>
                    <a:pt x="228600" y="142947"/>
                    <a:pt x="209550" y="142947"/>
                  </a:cubicBezTo>
                  <a:cubicBezTo>
                    <a:pt x="190500" y="142947"/>
                    <a:pt x="171450" y="152472"/>
                    <a:pt x="171450" y="152472"/>
                  </a:cubicBezTo>
                  <a:lnTo>
                    <a:pt x="171450" y="66747"/>
                  </a:lnTo>
                  <a:cubicBezTo>
                    <a:pt x="171450" y="55317"/>
                    <a:pt x="170498" y="45792"/>
                    <a:pt x="168593" y="38172"/>
                  </a:cubicBezTo>
                  <a:lnTo>
                    <a:pt x="250508" y="38172"/>
                  </a:lnTo>
                  <a:close/>
                  <a:moveTo>
                    <a:pt x="762000" y="647772"/>
                  </a:moveTo>
                  <a:lnTo>
                    <a:pt x="76200" y="647772"/>
                  </a:lnTo>
                  <a:lnTo>
                    <a:pt x="76200" y="238197"/>
                  </a:lnTo>
                  <a:lnTo>
                    <a:pt x="133350" y="238197"/>
                  </a:lnTo>
                  <a:lnTo>
                    <a:pt x="133350" y="533472"/>
                  </a:lnTo>
                  <a:cubicBezTo>
                    <a:pt x="133350" y="575382"/>
                    <a:pt x="167640" y="609672"/>
                    <a:pt x="209550" y="609672"/>
                  </a:cubicBezTo>
                  <a:cubicBezTo>
                    <a:pt x="251460" y="609672"/>
                    <a:pt x="285750" y="575382"/>
                    <a:pt x="285750" y="533472"/>
                  </a:cubicBezTo>
                  <a:lnTo>
                    <a:pt x="285750" y="238197"/>
                  </a:lnTo>
                  <a:lnTo>
                    <a:pt x="342900" y="238197"/>
                  </a:lnTo>
                  <a:lnTo>
                    <a:pt x="342900" y="533472"/>
                  </a:lnTo>
                  <a:cubicBezTo>
                    <a:pt x="342900" y="575382"/>
                    <a:pt x="377190" y="609672"/>
                    <a:pt x="419100" y="609672"/>
                  </a:cubicBezTo>
                  <a:cubicBezTo>
                    <a:pt x="461010" y="609672"/>
                    <a:pt x="495300" y="575382"/>
                    <a:pt x="495300" y="533472"/>
                  </a:cubicBezTo>
                  <a:lnTo>
                    <a:pt x="495300" y="238197"/>
                  </a:lnTo>
                  <a:lnTo>
                    <a:pt x="552450" y="238197"/>
                  </a:lnTo>
                  <a:lnTo>
                    <a:pt x="552450" y="533472"/>
                  </a:lnTo>
                  <a:cubicBezTo>
                    <a:pt x="552450" y="575382"/>
                    <a:pt x="586740" y="609672"/>
                    <a:pt x="628650" y="609672"/>
                  </a:cubicBezTo>
                  <a:cubicBezTo>
                    <a:pt x="670560" y="609672"/>
                    <a:pt x="704850" y="575382"/>
                    <a:pt x="704850" y="533472"/>
                  </a:cubicBezTo>
                  <a:lnTo>
                    <a:pt x="704850" y="238197"/>
                  </a:lnTo>
                  <a:lnTo>
                    <a:pt x="762000" y="238197"/>
                  </a:lnTo>
                  <a:lnTo>
                    <a:pt x="762000" y="647772"/>
                  </a:lnTo>
                  <a:close/>
                </a:path>
              </a:pathLst>
            </a:custGeom>
            <a:solidFill>
              <a:srgbClr val="7c8f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534" name="Group 110"/>
          <p:cNvGrpSpPr/>
          <p:nvPr/>
        </p:nvGrpSpPr>
        <p:grpSpPr>
          <a:xfrm>
            <a:off x="7093080" y="5072040"/>
            <a:ext cx="814320" cy="814320"/>
            <a:chOff x="7093080" y="5072040"/>
            <a:chExt cx="814320" cy="814320"/>
          </a:xfrm>
        </p:grpSpPr>
        <p:sp>
          <p:nvSpPr>
            <p:cNvPr id="1535" name="Oval 65"/>
            <p:cNvSpPr/>
            <p:nvPr/>
          </p:nvSpPr>
          <p:spPr>
            <a:xfrm>
              <a:off x="7093080" y="5072040"/>
              <a:ext cx="814320" cy="814320"/>
            </a:xfrm>
            <a:prstGeom prst="ellipse">
              <a:avLst/>
            </a:prstGeom>
            <a:solidFill>
              <a:srgbClr val="ffffff"/>
            </a:solidFill>
            <a:ln w="19080">
              <a:solidFill>
                <a:srgbClr val="7c8f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6" name="Graphic 84"/>
            <p:cNvSpPr/>
            <p:nvPr/>
          </p:nvSpPr>
          <p:spPr>
            <a:xfrm>
              <a:off x="7314120" y="5305680"/>
              <a:ext cx="371880" cy="347040"/>
            </a:xfrm>
            <a:custGeom>
              <a:avLst/>
              <a:gdLst/>
              <a:ahLst/>
              <a:rect l="l" t="t" r="r" b="b"/>
              <a:pathLst>
                <a:path w="749617" h="699135">
                  <a:moveTo>
                    <a:pt x="337185" y="641985"/>
                  </a:moveTo>
                  <a:lnTo>
                    <a:pt x="278130" y="641985"/>
                  </a:lnTo>
                  <a:lnTo>
                    <a:pt x="78105" y="441960"/>
                  </a:lnTo>
                  <a:lnTo>
                    <a:pt x="260032" y="260032"/>
                  </a:lnTo>
                  <a:lnTo>
                    <a:pt x="488633" y="488633"/>
                  </a:lnTo>
                  <a:lnTo>
                    <a:pt x="337185" y="641985"/>
                  </a:lnTo>
                  <a:close/>
                  <a:moveTo>
                    <a:pt x="738188" y="280988"/>
                  </a:moveTo>
                  <a:lnTo>
                    <a:pt x="469583" y="11430"/>
                  </a:lnTo>
                  <a:cubicBezTo>
                    <a:pt x="454343" y="-3810"/>
                    <a:pt x="430530" y="-3810"/>
                    <a:pt x="415290" y="11430"/>
                  </a:cubicBezTo>
                  <a:lnTo>
                    <a:pt x="11430" y="415290"/>
                  </a:lnTo>
                  <a:cubicBezTo>
                    <a:pt x="-3810" y="430530"/>
                    <a:pt x="-3810" y="454343"/>
                    <a:pt x="11430" y="469583"/>
                  </a:cubicBezTo>
                  <a:lnTo>
                    <a:pt x="240982" y="699135"/>
                  </a:lnTo>
                  <a:lnTo>
                    <a:pt x="644842" y="699135"/>
                  </a:lnTo>
                  <a:lnTo>
                    <a:pt x="644842" y="641985"/>
                  </a:lnTo>
                  <a:lnTo>
                    <a:pt x="431483" y="641985"/>
                  </a:lnTo>
                  <a:lnTo>
                    <a:pt x="738188" y="335280"/>
                  </a:lnTo>
                  <a:cubicBezTo>
                    <a:pt x="753428" y="320040"/>
                    <a:pt x="753428" y="295275"/>
                    <a:pt x="738188" y="280988"/>
                  </a:cubicBezTo>
                  <a:close/>
                </a:path>
              </a:pathLst>
            </a:custGeom>
            <a:solidFill>
              <a:srgbClr val="7c8f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0T14:31:21Z</dcterms:created>
  <dc:creator>Yossy Made Yulian</dc:creator>
  <dc:description/>
  <dc:language>en-US</dc:language>
  <cp:lastModifiedBy>Virgiawan Listanto</cp:lastModifiedBy>
  <dcterms:modified xsi:type="dcterms:W3CDTF">2020-12-10T09:39:19Z</dcterms:modified>
  <cp:revision>1022</cp:revision>
  <dc:subject/>
  <dc:title>PowerPoint Presentation</dc:title>
</cp:coreProperties>
</file>