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B3DB-AE29-4F40-B19C-B02B01A35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5730-2EA0-4BB0-A67D-44B612B2F5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42F-1BDA-45CF-B349-46F3C3C86C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4AC8-6C81-4201-8660-0245D22D38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AF8C-DC82-429E-870F-D448EC26BA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2B06-84F0-4BE7-8717-23B7F62B68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5508-93A0-4DC2-A249-EC12DC93A7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51F7-28D9-4C03-9DD2-AE55CA13AF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7E81-E6B3-41BD-94C4-14C0D11C78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910-0ADD-4248-921A-9C865970E3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1026-96FB-4EB4-BEA8-C891EDA835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720-C0FF-43DB-AA07-9A568EE822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877E-6B64-433A-929A-96E416C567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539-7394-47B0-8412-A8FEC02C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DFD-771F-4603-A993-44453CF4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7D3-D9CB-4954-9C19-19BBB54D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BE6-48A7-4103-AC4D-1FC8588B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81D-8CEE-45AE-B9CA-B0075FCB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E9F-C19D-4263-85A2-FF14DE78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16B-CDFF-4A79-BCD6-62EC22DB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811-F5EB-4004-A247-FDAF0846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90B-0ED7-43DF-8A0E-157C8032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07D-2908-49F7-915F-0CFD9DB0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4F6-BF56-40B9-AA89-2A205C2A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AB2-6B23-494F-8537-61C3E10E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45F3-2327-4BFC-9C25-7026C1A215D1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ed216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fed216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ed216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ed216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fed21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f1c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fe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ed2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fed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fed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fede5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fede5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fee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fee6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fee682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fee682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fdd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dd4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fdd427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fdd427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fed216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fed216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fed216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fede5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fed216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fed2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d216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de58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682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427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fffff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fdd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fed21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fed21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fed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fed21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fed21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fed2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fed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6:24Z</dcterms:modified>
  <cp:revision>692</cp:revision>
  <dc:subject/>
  <dc:title>ICONIC</dc:title>
</cp:coreProperties>
</file>