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8BD-817D-40DF-9DF5-796D66843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A548-9463-49AB-B428-A17FA69CFCEE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913C-7DE9-47A0-91BB-2E1226B899B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9E9C-2192-4E45-98CC-5EEC204FBA5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BE7-2315-41AC-B8D4-3CEB4D617595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DD2-B724-48CC-9267-2D3F8D0516B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1D4-7F34-43A2-8642-630BEB82CDF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1AA-4907-4E47-9F1A-D6A379C4B254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18FB-4EF0-498E-9768-7395F443D23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435-E3C3-4A2C-8706-35B60CDC6559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C05-3EBC-4145-816E-01BC9FDAB9EB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9ED-7B68-461E-8E03-E95BA2B36E6F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7C4A-5706-49DC-8460-AF913AFBBD0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EF8-6DDE-4659-86D3-56749EE1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BEB-A721-4E34-9565-C13B162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E94-861D-4DAA-AB40-B33A8E42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B1F-4097-40E0-915E-54CE42B3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739-B66F-4B89-A419-3A8CF2F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CD1-867C-479C-A90D-D1DFF19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843-3066-465F-8873-51344D90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E14-5541-4568-AB67-82E54EF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105-5BFE-480D-9FAC-245D20DF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4D4-4A7C-4554-8C0D-718A7DF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8C0-0883-45B8-8ADC-1FAD1A0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B44-E51A-4D4B-B212-313943E6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A25-EF77-4CA6-8DD7-4FF59E7F8D27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ed216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ed21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f1c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ed2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fed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fed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fee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fee6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fee682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fee682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fdd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dd4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fdd42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fdd42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ed21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ed2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d216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de58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682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427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3f3f3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35Z</dcterms:modified>
  <cp:revision>691</cp:revision>
  <dc:subject/>
  <dc:title>ICONIC</dc:title>
</cp:coreProperties>
</file>