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817D-B243-4880-BCA9-876707500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7C3E-C69F-4D8F-A5A0-A9D47A4EB1D7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A5D0-95DE-426F-8FD9-DB2FB053F1A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4677-660E-49B1-8E4B-4B0A5FE8AD57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AC6-68F1-4E2B-B84A-00F2E1D95730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E31A-10CB-4599-8F7C-55A83C074652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F5A1-33EE-4BFC-BB20-0CF324399639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29E2-1FEB-43B0-A3C7-B29BFFD72961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5B67-2A19-4BA9-B6E0-E6B6902B1C1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D091-8118-4B1D-9ED1-66CE27214DC9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FAB-58B9-4ACA-AB19-D9354C169856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1350-4AF2-4B98-B706-EDF532A6BA8E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F415-0D4E-44D6-98DF-0E35767779D1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283-680B-41BA-8BBE-03BE25F2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D4A-419B-42D1-BC15-419536CF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A5E-429E-4178-8B58-187AD20A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C91-87D9-4FB2-B2B1-5CC30E21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22F-8E46-4A85-AF3D-7AE4949D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A94-39EF-4E81-A9B0-AE127066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07B-22F1-4527-BCC7-58E3512E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879-A016-4BDB-A455-455D1DA6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26B-0710-4974-A716-74BD801E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B8E-7BFE-44B3-A16D-D2CE0B2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CD0-739C-43B2-A576-FB9ECEE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0F1-8453-488F-8A19-B68731F7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925-9B64-4EF8-8EEE-7B89DE1DDFF8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284ad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f284ad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284ad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284ad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f284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875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b19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875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284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e92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e92f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e92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e92f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bd1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bd14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bd145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bd145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f284ad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f284ad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f284ad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f284ad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f284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84ad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2f74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2f74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d1453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3f3f3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f284a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f284a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f284a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5:51Z</dcterms:modified>
  <cp:revision>693</cp:revision>
  <dc:subject/>
  <dc:title>ICONIC</dc:title>
</cp:coreProperties>
</file>