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move the slide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DF6B-D6C5-4B3B-9217-B3CDC1E3A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BC24-FD57-4A51-9184-DB0DB7C4FB7E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07F5-7300-48F7-B728-4F55ED70EB18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64A9-C66C-400F-A1A1-7D44B764D161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3384-38A8-4073-8739-DA03D7BD135E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B28C-5851-452F-9385-58CCFE887400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477A-680D-4C94-AD67-168AE1628F1F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0163-784A-4C39-A7C2-F84D3080D7F3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9532-6344-4F19-AF72-268AADFD89A3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B981-BD5A-4E77-A4B3-69E962177B07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B2F7-19EF-44A5-9B12-2BD2E6D1BB05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6BC5-4FC4-467D-A591-4F3C194AE2D8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C03F-C1DD-487B-A4BC-E03B0A3B037F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CEC8-F0D9-4C40-BD1E-34257039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2A0-D1F1-414C-B432-37EAEF32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9987-F0D4-490D-9059-D4DCBB9D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E10F-2C41-44CE-B276-191EDFE1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290-6502-4735-BF42-2526F9E8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319E-0A4B-4AF1-A26A-6E900859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837E-AD6F-4F4E-B347-32F08837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CE0-4B2A-40E0-A480-2081A5FE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879-95FD-4A94-BAF6-D3D40AE0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14C-CC50-4D27-AF7E-EE6A18C1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B41-6499-4332-8590-F4B86C71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CD4E-C6FD-4F1B-B46F-B5436CC1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6183-DCCE-4062-9CF7-665678F85B1C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36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6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6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6"/>
          <p:cNvGrpSpPr/>
          <p:nvPr/>
        </p:nvGrpSpPr>
        <p:grpSpPr>
          <a:xfrm>
            <a:off x="801720" y="2852640"/>
            <a:ext cx="2160720" cy="71640"/>
            <a:chOff x="801720" y="2852640"/>
            <a:chExt cx="2160720" cy="71640"/>
          </a:xfrm>
        </p:grpSpPr>
        <p:sp>
          <p:nvSpPr>
            <p:cNvPr id="408" name="Rectangle 7"/>
            <p:cNvSpPr/>
            <p:nvPr/>
          </p:nvSpPr>
          <p:spPr>
            <a:xfrm>
              <a:off x="1522080" y="2852640"/>
              <a:ext cx="720360" cy="7164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09" name="Rectangle 8"/>
            <p:cNvSpPr/>
            <p:nvPr/>
          </p:nvSpPr>
          <p:spPr>
            <a:xfrm>
              <a:off x="801720" y="285264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10" name="Rectangle 9"/>
            <p:cNvSpPr/>
            <p:nvPr/>
          </p:nvSpPr>
          <p:spPr>
            <a:xfrm>
              <a:off x="2242080" y="285264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45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5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5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49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9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9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57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7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7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6"/>
          <p:cNvGrpSpPr/>
          <p:nvPr/>
        </p:nvGrpSpPr>
        <p:grpSpPr>
          <a:xfrm>
            <a:off x="8837640" y="3578400"/>
            <a:ext cx="2158920" cy="71280"/>
            <a:chOff x="8837640" y="3578400"/>
            <a:chExt cx="2158920" cy="71280"/>
          </a:xfrm>
        </p:grpSpPr>
        <p:sp>
          <p:nvSpPr>
            <p:cNvPr id="614" name="Rectangle 7"/>
            <p:cNvSpPr/>
            <p:nvPr/>
          </p:nvSpPr>
          <p:spPr>
            <a:xfrm>
              <a:off x="9557280" y="3578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15" name="Rectangle 8"/>
            <p:cNvSpPr/>
            <p:nvPr/>
          </p:nvSpPr>
          <p:spPr>
            <a:xfrm>
              <a:off x="8837640" y="3578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16" name="Rectangle 9"/>
            <p:cNvSpPr/>
            <p:nvPr/>
          </p:nvSpPr>
          <p:spPr>
            <a:xfrm>
              <a:off x="10276920" y="3578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6"/>
          <p:cNvGrpSpPr/>
          <p:nvPr/>
        </p:nvGrpSpPr>
        <p:grpSpPr>
          <a:xfrm>
            <a:off x="5316480" y="1703520"/>
            <a:ext cx="2158920" cy="71280"/>
            <a:chOff x="5316480" y="1703520"/>
            <a:chExt cx="2158920" cy="71280"/>
          </a:xfrm>
        </p:grpSpPr>
        <p:sp>
          <p:nvSpPr>
            <p:cNvPr id="656" name="Rectangle 7"/>
            <p:cNvSpPr/>
            <p:nvPr/>
          </p:nvSpPr>
          <p:spPr>
            <a:xfrm>
              <a:off x="6036120" y="170352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57" name="Rectangle 8"/>
            <p:cNvSpPr/>
            <p:nvPr/>
          </p:nvSpPr>
          <p:spPr>
            <a:xfrm>
              <a:off x="5316480" y="170352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58" name="Rectangle 9"/>
            <p:cNvSpPr/>
            <p:nvPr/>
          </p:nvSpPr>
          <p:spPr>
            <a:xfrm>
              <a:off x="6755760" y="170352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6"/>
          <p:cNvGrpSpPr/>
          <p:nvPr/>
        </p:nvGrpSpPr>
        <p:grpSpPr>
          <a:xfrm>
            <a:off x="5288040" y="2259000"/>
            <a:ext cx="2160360" cy="71280"/>
            <a:chOff x="5288040" y="2259000"/>
            <a:chExt cx="2160360" cy="71280"/>
          </a:xfrm>
        </p:grpSpPr>
        <p:sp>
          <p:nvSpPr>
            <p:cNvPr id="698" name="Rectangle 7"/>
            <p:cNvSpPr/>
            <p:nvPr/>
          </p:nvSpPr>
          <p:spPr>
            <a:xfrm>
              <a:off x="6008040" y="2259000"/>
              <a:ext cx="72000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699" name="Rectangle 8"/>
            <p:cNvSpPr/>
            <p:nvPr/>
          </p:nvSpPr>
          <p:spPr>
            <a:xfrm>
              <a:off x="5288040" y="2259000"/>
              <a:ext cx="72000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700" name="Rectangle 9"/>
            <p:cNvSpPr/>
            <p:nvPr/>
          </p:nvSpPr>
          <p:spPr>
            <a:xfrm>
              <a:off x="6728400" y="2259000"/>
              <a:ext cx="72000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85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5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5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3" name="Group 6"/>
          <p:cNvGrpSpPr/>
          <p:nvPr/>
        </p:nvGrpSpPr>
        <p:grpSpPr>
          <a:xfrm>
            <a:off x="6470640" y="1782720"/>
            <a:ext cx="2160720" cy="71640"/>
            <a:chOff x="6470640" y="1782720"/>
            <a:chExt cx="2160720" cy="71640"/>
          </a:xfrm>
        </p:grpSpPr>
        <p:sp>
          <p:nvSpPr>
            <p:cNvPr id="934" name="Rectangle 7"/>
            <p:cNvSpPr/>
            <p:nvPr/>
          </p:nvSpPr>
          <p:spPr>
            <a:xfrm>
              <a:off x="7191000" y="1782720"/>
              <a:ext cx="720360" cy="7164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935" name="Rectangle 8"/>
            <p:cNvSpPr/>
            <p:nvPr/>
          </p:nvSpPr>
          <p:spPr>
            <a:xfrm>
              <a:off x="6470640" y="178272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936" name="Rectangle 9"/>
            <p:cNvSpPr/>
            <p:nvPr/>
          </p:nvSpPr>
          <p:spPr>
            <a:xfrm>
              <a:off x="7911000" y="178272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97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97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97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018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019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020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06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06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06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10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10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10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14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14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14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8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2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6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20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32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1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21.png"/><Relationship Id="rId9" Type="http://schemas.openxmlformats.org/officeDocument/2006/relationships/package" Target="../embeddings/oleObject5.xlsx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0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27.png"/><Relationship Id="rId6" Type="http://schemas.openxmlformats.org/officeDocument/2006/relationships/package" Target="../embeddings/oleObject3.xlsx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25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" descr=""/>
          <p:cNvPicPr/>
          <p:nvPr/>
        </p:nvPicPr>
        <p:blipFill>
          <a:blip r:embed="rId1"/>
          <a:stretch/>
        </p:blipFill>
        <p:spPr>
          <a:xfrm>
            <a:off x="141120" y="136080"/>
            <a:ext cx="11909520" cy="5380200"/>
          </a:xfrm>
          <a:prstGeom prst="rect">
            <a:avLst/>
          </a:prstGeom>
          <a:ln w="0">
            <a:noFill/>
          </a:ln>
        </p:spPr>
      </p:pic>
      <p:sp>
        <p:nvSpPr>
          <p:cNvPr id="1231" name="Rectangle 20"/>
          <p:cNvSpPr/>
          <p:nvPr/>
        </p:nvSpPr>
        <p:spPr>
          <a:xfrm>
            <a:off x="3809880" y="0"/>
            <a:ext cx="4572000" cy="187020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828520" y="136440"/>
            <a:ext cx="6534360" cy="14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ID" sz="4000" spc="-1" strike="noStrike">
                <a:solidFill>
                  <a:srgbClr val="ffffff"/>
                </a:solidFill>
                <a:latin typeface="Roboto Slab"/>
                <a:ea typeface="Roboto Slab"/>
              </a:rPr>
              <a:t>CORPORATE</a:t>
            </a:r>
            <a:br>
              <a:rPr sz="4000"/>
            </a:br>
            <a:r>
              <a:rPr b="1" lang="en-ID" sz="4000" spc="-1" strike="noStrike">
                <a:solidFill>
                  <a:srgbClr val="ffffff"/>
                </a:solidFill>
                <a:latin typeface="Roboto Slab"/>
                <a:ea typeface="Roboto Slab"/>
              </a:rPr>
              <a:t>PRESENTATION</a:t>
            </a:r>
            <a:endParaRPr b="0" lang="en-US" sz="4000" spc="-1" strike="noStrike">
              <a:solidFill>
                <a:srgbClr val="3f3f3f"/>
              </a:solidFill>
              <a:latin typeface="Roboto Slab"/>
            </a:endParaRPr>
          </a:p>
        </p:txBody>
      </p:sp>
      <p:grpSp>
        <p:nvGrpSpPr>
          <p:cNvPr id="1233" name="Group 28"/>
          <p:cNvGrpSpPr/>
          <p:nvPr/>
        </p:nvGrpSpPr>
        <p:grpSpPr>
          <a:xfrm>
            <a:off x="3854520" y="6750000"/>
            <a:ext cx="4483080" cy="108000"/>
            <a:chOff x="3854520" y="6750000"/>
            <a:chExt cx="4483080" cy="108000"/>
          </a:xfrm>
        </p:grpSpPr>
        <p:sp>
          <p:nvSpPr>
            <p:cNvPr id="1234" name="Rectangle 15"/>
            <p:cNvSpPr/>
            <p:nvPr/>
          </p:nvSpPr>
          <p:spPr>
            <a:xfrm>
              <a:off x="5348880" y="6750000"/>
              <a:ext cx="1494360" cy="10800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35" name="Rectangle 16"/>
            <p:cNvSpPr/>
            <p:nvPr/>
          </p:nvSpPr>
          <p:spPr>
            <a:xfrm>
              <a:off x="3854520" y="6750000"/>
              <a:ext cx="1494360" cy="108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36" name="Rectangle 17"/>
            <p:cNvSpPr/>
            <p:nvPr/>
          </p:nvSpPr>
          <p:spPr>
            <a:xfrm>
              <a:off x="6843240" y="6750000"/>
              <a:ext cx="1494360" cy="108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237" name="Freeform 60"/>
          <p:cNvSpPr/>
          <p:nvPr/>
        </p:nvSpPr>
        <p:spPr>
          <a:xfrm>
            <a:off x="4830840" y="5865840"/>
            <a:ext cx="480960" cy="4824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1"/>
                </a:moveTo>
                <a:cubicBezTo>
                  <a:pt x="126" y="0"/>
                  <a:pt x="125" y="0"/>
                  <a:pt x="124" y="0"/>
                </a:cubicBezTo>
                <a:cubicBezTo>
                  <a:pt x="123" y="0"/>
                  <a:pt x="122" y="0"/>
                  <a:pt x="122" y="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81"/>
                  <a:pt x="0" y="83"/>
                  <a:pt x="0" y="84"/>
                </a:cubicBezTo>
                <a:cubicBezTo>
                  <a:pt x="0" y="86"/>
                  <a:pt x="1" y="87"/>
                  <a:pt x="3" y="88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49" y="126"/>
                  <a:pt x="49" y="126"/>
                  <a:pt x="49" y="126"/>
                </a:cubicBezTo>
                <a:cubicBezTo>
                  <a:pt x="49" y="127"/>
                  <a:pt x="51" y="128"/>
                  <a:pt x="52" y="128"/>
                </a:cubicBezTo>
                <a:cubicBezTo>
                  <a:pt x="52" y="128"/>
                  <a:pt x="52" y="128"/>
                  <a:pt x="52" y="128"/>
                </a:cubicBezTo>
                <a:cubicBezTo>
                  <a:pt x="53" y="128"/>
                  <a:pt x="55" y="127"/>
                  <a:pt x="55" y="126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4" y="128"/>
                </a:cubicBezTo>
                <a:cubicBezTo>
                  <a:pt x="105" y="128"/>
                  <a:pt x="105" y="128"/>
                  <a:pt x="106" y="127"/>
                </a:cubicBezTo>
                <a:cubicBezTo>
                  <a:pt x="107" y="127"/>
                  <a:pt x="108" y="126"/>
                  <a:pt x="108" y="125"/>
                </a:cubicBezTo>
                <a:cubicBezTo>
                  <a:pt x="128" y="5"/>
                  <a:pt x="128" y="5"/>
                  <a:pt x="128" y="5"/>
                </a:cubicBezTo>
                <a:cubicBezTo>
                  <a:pt x="128" y="3"/>
                  <a:pt x="128" y="2"/>
                  <a:pt x="126" y="1"/>
                </a:cubicBezTo>
                <a:close/>
                <a:moveTo>
                  <a:pt x="13" y="83"/>
                </a:moveTo>
                <a:cubicBezTo>
                  <a:pt x="105" y="21"/>
                  <a:pt x="105" y="21"/>
                  <a:pt x="105" y="21"/>
                </a:cubicBezTo>
                <a:cubicBezTo>
                  <a:pt x="38" y="93"/>
                  <a:pt x="38" y="93"/>
                  <a:pt x="38" y="93"/>
                </a:cubicBezTo>
                <a:cubicBezTo>
                  <a:pt x="37" y="93"/>
                  <a:pt x="37" y="93"/>
                  <a:pt x="37" y="93"/>
                </a:cubicBezTo>
                <a:lnTo>
                  <a:pt x="13" y="83"/>
                </a:lnTo>
                <a:close/>
                <a:moveTo>
                  <a:pt x="41" y="96"/>
                </a:moveTo>
                <a:cubicBezTo>
                  <a:pt x="41" y="96"/>
                  <a:pt x="41" y="96"/>
                  <a:pt x="41" y="96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52" y="116"/>
                  <a:pt x="52" y="116"/>
                  <a:pt x="52" y="116"/>
                </a:cubicBezTo>
                <a:lnTo>
                  <a:pt x="41" y="96"/>
                </a:lnTo>
                <a:close/>
                <a:moveTo>
                  <a:pt x="101" y="118"/>
                </a:moveTo>
                <a:cubicBezTo>
                  <a:pt x="67" y="105"/>
                  <a:pt x="67" y="105"/>
                  <a:pt x="67" y="105"/>
                </a:cubicBezTo>
                <a:cubicBezTo>
                  <a:pt x="66" y="104"/>
                  <a:pt x="65" y="104"/>
                  <a:pt x="64" y="104"/>
                </a:cubicBezTo>
                <a:cubicBezTo>
                  <a:pt x="117" y="23"/>
                  <a:pt x="117" y="23"/>
                  <a:pt x="117" y="23"/>
                </a:cubicBezTo>
                <a:lnTo>
                  <a:pt x="101" y="118"/>
                </a:lnTo>
                <a:close/>
              </a:path>
            </a:pathLst>
          </a:cu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38" name="Group 30" descr=""/>
          <p:cNvPicPr/>
          <p:nvPr/>
        </p:nvPicPr>
        <p:blipFill>
          <a:blip r:embed="rId2"/>
          <a:stretch/>
        </p:blipFill>
        <p:spPr>
          <a:xfrm>
            <a:off x="785880" y="5864400"/>
            <a:ext cx="482400" cy="480960"/>
          </a:xfrm>
          <a:prstGeom prst="rect">
            <a:avLst/>
          </a:prstGeom>
          <a:ln w="0">
            <a:noFill/>
          </a:ln>
        </p:spPr>
      </p:pic>
      <p:pic>
        <p:nvPicPr>
          <p:cNvPr id="1239" name="Group 44" descr=""/>
          <p:cNvPicPr/>
          <p:nvPr/>
        </p:nvPicPr>
        <p:blipFill>
          <a:blip r:embed="rId3"/>
          <a:stretch/>
        </p:blipFill>
        <p:spPr>
          <a:xfrm>
            <a:off x="8656560" y="5864400"/>
            <a:ext cx="358920" cy="48096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47"/>
          <p:cNvSpPr/>
          <p:nvPr/>
        </p:nvSpPr>
        <p:spPr>
          <a:xfrm>
            <a:off x="1339560" y="5845320"/>
            <a:ext cx="239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 Slab"/>
              </a:rPr>
              <a:t>Slidefactory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 Slab"/>
              </a:rPr>
              <a:t>Proposal for your projec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1" name="Rectangle 49"/>
          <p:cNvSpPr/>
          <p:nvPr/>
        </p:nvSpPr>
        <p:spPr>
          <a:xfrm>
            <a:off x="5365800" y="6033960"/>
            <a:ext cx="21938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Your Date and hou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2" name="TextBox 50"/>
          <p:cNvSpPr/>
          <p:nvPr/>
        </p:nvSpPr>
        <p:spPr>
          <a:xfrm>
            <a:off x="5385240" y="583884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 Slab"/>
              </a:rPr>
              <a:t>PRESENTED ON: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3" name="Rectangle 52"/>
          <p:cNvSpPr/>
          <p:nvPr/>
        </p:nvSpPr>
        <p:spPr>
          <a:xfrm>
            <a:off x="9112320" y="6033960"/>
            <a:ext cx="2195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Your Company Loc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4" name="TextBox 53"/>
          <p:cNvSpPr/>
          <p:nvPr/>
        </p:nvSpPr>
        <p:spPr>
          <a:xfrm>
            <a:off x="9129240" y="5838840"/>
            <a:ext cx="194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 Slab"/>
              </a:rPr>
              <a:t>COMPANY ADDRES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1"/>
          <a:stretch/>
        </p:blipFill>
        <p:spPr>
          <a:xfrm>
            <a:off x="-360" y="342864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Pricelis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63" name="Rectangle 6"/>
          <p:cNvSpPr/>
          <p:nvPr/>
        </p:nvSpPr>
        <p:spPr>
          <a:xfrm>
            <a:off x="4599000" y="1703520"/>
            <a:ext cx="3005280" cy="419400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4" name="Rectangle 62"/>
          <p:cNvSpPr/>
          <p:nvPr/>
        </p:nvSpPr>
        <p:spPr>
          <a:xfrm>
            <a:off x="1501920" y="1886040"/>
            <a:ext cx="2743200" cy="382896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5" name="Rectangle 75"/>
          <p:cNvSpPr/>
          <p:nvPr/>
        </p:nvSpPr>
        <p:spPr>
          <a:xfrm>
            <a:off x="7959600" y="1886040"/>
            <a:ext cx="2743200" cy="3828960"/>
          </a:xfrm>
          <a:prstGeom prst="rect">
            <a:avLst/>
          </a:pr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6" name="Rectangle 8"/>
          <p:cNvSpPr/>
          <p:nvPr/>
        </p:nvSpPr>
        <p:spPr>
          <a:xfrm>
            <a:off x="1501920" y="2289240"/>
            <a:ext cx="2743200" cy="990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7" name="Rectangle 77"/>
          <p:cNvSpPr/>
          <p:nvPr/>
        </p:nvSpPr>
        <p:spPr>
          <a:xfrm>
            <a:off x="4599000" y="2289240"/>
            <a:ext cx="3005280" cy="990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8" name="Rectangle 78"/>
          <p:cNvSpPr/>
          <p:nvPr/>
        </p:nvSpPr>
        <p:spPr>
          <a:xfrm>
            <a:off x="7959600" y="2289240"/>
            <a:ext cx="2743200" cy="990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9" name="TextBox 79"/>
          <p:cNvSpPr/>
          <p:nvPr/>
        </p:nvSpPr>
        <p:spPr>
          <a:xfrm>
            <a:off x="2014560" y="2430360"/>
            <a:ext cx="17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$499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0" name="TextBox 80"/>
          <p:cNvSpPr/>
          <p:nvPr/>
        </p:nvSpPr>
        <p:spPr>
          <a:xfrm>
            <a:off x="5162400" y="2368440"/>
            <a:ext cx="188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$699</a:t>
            </a:r>
            <a:endParaRPr b="0" lang="en-US" sz="4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1" name="TextBox 82"/>
          <p:cNvSpPr/>
          <p:nvPr/>
        </p:nvSpPr>
        <p:spPr>
          <a:xfrm>
            <a:off x="8474040" y="24303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$899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2" name="TextBox 84"/>
          <p:cNvSpPr/>
          <p:nvPr/>
        </p:nvSpPr>
        <p:spPr>
          <a:xfrm>
            <a:off x="1647720" y="3875040"/>
            <a:ext cx="2449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3" name="TextBox 86"/>
          <p:cNvSpPr/>
          <p:nvPr/>
        </p:nvSpPr>
        <p:spPr>
          <a:xfrm>
            <a:off x="1554120" y="3470400"/>
            <a:ext cx="26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4" name="TextBox 92"/>
          <p:cNvSpPr/>
          <p:nvPr/>
        </p:nvSpPr>
        <p:spPr>
          <a:xfrm>
            <a:off x="8012160" y="3470400"/>
            <a:ext cx="26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5" name="TextBox 93"/>
          <p:cNvSpPr/>
          <p:nvPr/>
        </p:nvSpPr>
        <p:spPr>
          <a:xfrm>
            <a:off x="8107200" y="3875040"/>
            <a:ext cx="24498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6" name="TextBox 96"/>
          <p:cNvSpPr/>
          <p:nvPr/>
        </p:nvSpPr>
        <p:spPr>
          <a:xfrm>
            <a:off x="4776840" y="3470400"/>
            <a:ext cx="26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7" name="TextBox 97"/>
          <p:cNvSpPr/>
          <p:nvPr/>
        </p:nvSpPr>
        <p:spPr>
          <a:xfrm>
            <a:off x="4729320" y="3875040"/>
            <a:ext cx="2733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6095880" y="712800"/>
            <a:ext cx="5432400" cy="5432400"/>
          </a:xfrm>
          <a:prstGeom prst="rect">
            <a:avLst/>
          </a:prstGeom>
          <a:ln w="0">
            <a:noFill/>
          </a:ln>
        </p:spPr>
      </p:pic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63480" y="1931760"/>
            <a:ext cx="92743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Meet The Team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80" name="Rectangle 71"/>
          <p:cNvSpPr/>
          <p:nvPr/>
        </p:nvSpPr>
        <p:spPr>
          <a:xfrm>
            <a:off x="663480" y="712800"/>
            <a:ext cx="979560" cy="97956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1" name="Freeform 66"/>
          <p:cNvSpPr/>
          <p:nvPr/>
        </p:nvSpPr>
        <p:spPr>
          <a:xfrm>
            <a:off x="868320" y="917640"/>
            <a:ext cx="571680" cy="56988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39" y="119"/>
                </a:moveTo>
                <a:cubicBezTo>
                  <a:pt x="43" y="115"/>
                  <a:pt x="43" y="115"/>
                  <a:pt x="43" y="115"/>
                </a:cubicBezTo>
                <a:cubicBezTo>
                  <a:pt x="44" y="114"/>
                  <a:pt x="44" y="113"/>
                  <a:pt x="44" y="112"/>
                </a:cubicBezTo>
                <a:cubicBezTo>
                  <a:pt x="44" y="110"/>
                  <a:pt x="42" y="108"/>
                  <a:pt x="40" y="108"/>
                </a:cubicBezTo>
                <a:cubicBezTo>
                  <a:pt x="39" y="108"/>
                  <a:pt x="38" y="108"/>
                  <a:pt x="37" y="109"/>
                </a:cubicBezTo>
                <a:cubicBezTo>
                  <a:pt x="33" y="113"/>
                  <a:pt x="33" y="113"/>
                  <a:pt x="33" y="113"/>
                </a:cubicBezTo>
                <a:cubicBezTo>
                  <a:pt x="32" y="114"/>
                  <a:pt x="32" y="115"/>
                  <a:pt x="32" y="116"/>
                </a:cubicBezTo>
                <a:cubicBezTo>
                  <a:pt x="32" y="118"/>
                  <a:pt x="34" y="120"/>
                  <a:pt x="36" y="120"/>
                </a:cubicBezTo>
                <a:cubicBezTo>
                  <a:pt x="37" y="120"/>
                  <a:pt x="38" y="120"/>
                  <a:pt x="39" y="119"/>
                </a:cubicBezTo>
                <a:moveTo>
                  <a:pt x="64" y="116"/>
                </a:moveTo>
                <a:cubicBezTo>
                  <a:pt x="64" y="114"/>
                  <a:pt x="62" y="112"/>
                  <a:pt x="60" y="112"/>
                </a:cubicBezTo>
                <a:cubicBezTo>
                  <a:pt x="59" y="112"/>
                  <a:pt x="58" y="112"/>
                  <a:pt x="57" y="113"/>
                </a:cubicBezTo>
                <a:cubicBezTo>
                  <a:pt x="17" y="153"/>
                  <a:pt x="17" y="153"/>
                  <a:pt x="17" y="153"/>
                </a:cubicBezTo>
                <a:cubicBezTo>
                  <a:pt x="16" y="154"/>
                  <a:pt x="16" y="155"/>
                  <a:pt x="16" y="156"/>
                </a:cubicBezTo>
                <a:cubicBezTo>
                  <a:pt x="16" y="158"/>
                  <a:pt x="18" y="160"/>
                  <a:pt x="20" y="160"/>
                </a:cubicBezTo>
                <a:cubicBezTo>
                  <a:pt x="21" y="160"/>
                  <a:pt x="22" y="160"/>
                  <a:pt x="23" y="159"/>
                </a:cubicBezTo>
                <a:cubicBezTo>
                  <a:pt x="63" y="119"/>
                  <a:pt x="63" y="119"/>
                  <a:pt x="63" y="119"/>
                </a:cubicBezTo>
                <a:cubicBezTo>
                  <a:pt x="64" y="118"/>
                  <a:pt x="64" y="117"/>
                  <a:pt x="64" y="116"/>
                </a:cubicBezTo>
                <a:moveTo>
                  <a:pt x="64" y="132"/>
                </a:moveTo>
                <a:cubicBezTo>
                  <a:pt x="63" y="132"/>
                  <a:pt x="62" y="132"/>
                  <a:pt x="61" y="133"/>
                </a:cubicBezTo>
                <a:cubicBezTo>
                  <a:pt x="49" y="145"/>
                  <a:pt x="49" y="145"/>
                  <a:pt x="49" y="145"/>
                </a:cubicBezTo>
                <a:cubicBezTo>
                  <a:pt x="48" y="146"/>
                  <a:pt x="48" y="147"/>
                  <a:pt x="48" y="148"/>
                </a:cubicBezTo>
                <a:cubicBezTo>
                  <a:pt x="48" y="150"/>
                  <a:pt x="50" y="152"/>
                  <a:pt x="52" y="152"/>
                </a:cubicBezTo>
                <a:cubicBezTo>
                  <a:pt x="53" y="152"/>
                  <a:pt x="54" y="152"/>
                  <a:pt x="55" y="151"/>
                </a:cubicBezTo>
                <a:cubicBezTo>
                  <a:pt x="67" y="139"/>
                  <a:pt x="67" y="139"/>
                  <a:pt x="67" y="139"/>
                </a:cubicBezTo>
                <a:cubicBezTo>
                  <a:pt x="68" y="138"/>
                  <a:pt x="68" y="137"/>
                  <a:pt x="68" y="136"/>
                </a:cubicBezTo>
                <a:cubicBezTo>
                  <a:pt x="68" y="134"/>
                  <a:pt x="66" y="132"/>
                  <a:pt x="64" y="132"/>
                </a:cubicBezTo>
                <a:moveTo>
                  <a:pt x="176" y="4"/>
                </a:moveTo>
                <a:cubicBezTo>
                  <a:pt x="176" y="2"/>
                  <a:pt x="174" y="0"/>
                  <a:pt x="172" y="0"/>
                </a:cubicBezTo>
                <a:cubicBezTo>
                  <a:pt x="171" y="0"/>
                  <a:pt x="171" y="0"/>
                  <a:pt x="170" y="0"/>
                </a:cubicBezTo>
                <a:cubicBezTo>
                  <a:pt x="170" y="0"/>
                  <a:pt x="170" y="0"/>
                  <a:pt x="170" y="0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6"/>
                </a:cubicBezTo>
                <a:cubicBezTo>
                  <a:pt x="0" y="78"/>
                  <a:pt x="1" y="79"/>
                  <a:pt x="3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96" y="173"/>
                  <a:pt x="96" y="173"/>
                  <a:pt x="96" y="173"/>
                </a:cubicBezTo>
                <a:cubicBezTo>
                  <a:pt x="96" y="173"/>
                  <a:pt x="96" y="173"/>
                  <a:pt x="96" y="173"/>
                </a:cubicBezTo>
                <a:cubicBezTo>
                  <a:pt x="97" y="175"/>
                  <a:pt x="98" y="176"/>
                  <a:pt x="100" y="176"/>
                </a:cubicBezTo>
                <a:cubicBezTo>
                  <a:pt x="102" y="176"/>
                  <a:pt x="103" y="175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76" y="6"/>
                  <a:pt x="176" y="6"/>
                  <a:pt x="176" y="6"/>
                </a:cubicBezTo>
                <a:cubicBezTo>
                  <a:pt x="176" y="6"/>
                  <a:pt x="176" y="6"/>
                  <a:pt x="176" y="6"/>
                </a:cubicBezTo>
                <a:cubicBezTo>
                  <a:pt x="176" y="5"/>
                  <a:pt x="176" y="5"/>
                  <a:pt x="176" y="4"/>
                </a:cubicBezTo>
                <a:moveTo>
                  <a:pt x="14" y="76"/>
                </a:moveTo>
                <a:cubicBezTo>
                  <a:pt x="154" y="16"/>
                  <a:pt x="154" y="16"/>
                  <a:pt x="154" y="16"/>
                </a:cubicBezTo>
                <a:cubicBezTo>
                  <a:pt x="71" y="99"/>
                  <a:pt x="71" y="99"/>
                  <a:pt x="71" y="99"/>
                </a:cubicBezTo>
                <a:lnTo>
                  <a:pt x="14" y="76"/>
                </a:lnTo>
                <a:close/>
                <a:moveTo>
                  <a:pt x="100" y="162"/>
                </a:moveTo>
                <a:cubicBezTo>
                  <a:pt x="77" y="105"/>
                  <a:pt x="77" y="105"/>
                  <a:pt x="77" y="105"/>
                </a:cubicBezTo>
                <a:cubicBezTo>
                  <a:pt x="160" y="22"/>
                  <a:pt x="160" y="22"/>
                  <a:pt x="160" y="22"/>
                </a:cubicBezTo>
                <a:lnTo>
                  <a:pt x="10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2" name="TextBox 83"/>
          <p:cNvSpPr/>
          <p:nvPr/>
        </p:nvSpPr>
        <p:spPr>
          <a:xfrm>
            <a:off x="663480" y="3833640"/>
            <a:ext cx="5432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 dolore magna aliquam erat volutpat elit, sed diam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ed diam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3" name="TextBox 84"/>
          <p:cNvSpPr/>
          <p:nvPr/>
        </p:nvSpPr>
        <p:spPr>
          <a:xfrm>
            <a:off x="663480" y="313992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John Stark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4" name="TextBox 85"/>
          <p:cNvSpPr/>
          <p:nvPr/>
        </p:nvSpPr>
        <p:spPr>
          <a:xfrm>
            <a:off x="663480" y="352728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CEO &amp; Found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385" name="Group 86"/>
          <p:cNvGrpSpPr/>
          <p:nvPr/>
        </p:nvGrpSpPr>
        <p:grpSpPr>
          <a:xfrm>
            <a:off x="4762440" y="5284800"/>
            <a:ext cx="1076400" cy="277920"/>
            <a:chOff x="4762440" y="5284800"/>
            <a:chExt cx="1076400" cy="277920"/>
          </a:xfrm>
        </p:grpSpPr>
        <p:sp>
          <p:nvSpPr>
            <p:cNvPr id="1386" name="Freeform 71"/>
            <p:cNvSpPr/>
            <p:nvPr/>
          </p:nvSpPr>
          <p:spPr>
            <a:xfrm>
              <a:off x="4762440" y="5286960"/>
              <a:ext cx="279720" cy="2757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7" name="Freeform 79"/>
            <p:cNvSpPr/>
            <p:nvPr/>
          </p:nvSpPr>
          <p:spPr>
            <a:xfrm>
              <a:off x="5166360" y="5284800"/>
              <a:ext cx="273960" cy="2725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8" name="Freeform 86"/>
            <p:cNvSpPr/>
            <p:nvPr/>
          </p:nvSpPr>
          <p:spPr>
            <a:xfrm>
              <a:off x="5564880" y="5286600"/>
              <a:ext cx="273960" cy="2707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389" name="Rectangle 90"/>
          <p:cNvSpPr/>
          <p:nvPr/>
        </p:nvSpPr>
        <p:spPr>
          <a:xfrm>
            <a:off x="10549080" y="5165640"/>
            <a:ext cx="979200" cy="97956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90" name="Freeform 81"/>
          <p:cNvSpPr/>
          <p:nvPr/>
        </p:nvSpPr>
        <p:spPr>
          <a:xfrm>
            <a:off x="10755360" y="5423040"/>
            <a:ext cx="566640" cy="46332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44" y="56"/>
                </a:moveTo>
                <a:cubicBezTo>
                  <a:pt x="52" y="56"/>
                  <a:pt x="52" y="56"/>
                  <a:pt x="52" y="56"/>
                </a:cubicBezTo>
                <a:cubicBezTo>
                  <a:pt x="54" y="56"/>
                  <a:pt x="56" y="54"/>
                  <a:pt x="56" y="52"/>
                </a:cubicBezTo>
                <a:cubicBezTo>
                  <a:pt x="56" y="50"/>
                  <a:pt x="54" y="48"/>
                  <a:pt x="52" y="48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0" y="50"/>
                  <a:pt x="40" y="52"/>
                </a:cubicBezTo>
                <a:cubicBezTo>
                  <a:pt x="40" y="54"/>
                  <a:pt x="42" y="56"/>
                  <a:pt x="44" y="56"/>
                </a:cubicBezTo>
                <a:moveTo>
                  <a:pt x="168" y="16"/>
                </a:moveTo>
                <a:cubicBezTo>
                  <a:pt x="120" y="16"/>
                  <a:pt x="120" y="16"/>
                  <a:pt x="120" y="16"/>
                </a:cubicBezTo>
                <a:cubicBezTo>
                  <a:pt x="120" y="7"/>
                  <a:pt x="113" y="0"/>
                  <a:pt x="104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63" y="0"/>
                  <a:pt x="56" y="7"/>
                  <a:pt x="56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4" y="16"/>
                  <a:pt x="0" y="20"/>
                  <a:pt x="0" y="24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40"/>
                  <a:pt x="4" y="144"/>
                  <a:pt x="8" y="144"/>
                </a:cubicBezTo>
                <a:cubicBezTo>
                  <a:pt x="168" y="144"/>
                  <a:pt x="168" y="144"/>
                  <a:pt x="168" y="144"/>
                </a:cubicBezTo>
                <a:cubicBezTo>
                  <a:pt x="172" y="144"/>
                  <a:pt x="176" y="140"/>
                  <a:pt x="176" y="136"/>
                </a:cubicBezTo>
                <a:cubicBezTo>
                  <a:pt x="176" y="24"/>
                  <a:pt x="176" y="24"/>
                  <a:pt x="176" y="24"/>
                </a:cubicBezTo>
                <a:cubicBezTo>
                  <a:pt x="176" y="20"/>
                  <a:pt x="172" y="16"/>
                  <a:pt x="168" y="16"/>
                </a:cubicBezTo>
                <a:moveTo>
                  <a:pt x="72" y="8"/>
                </a:moveTo>
                <a:cubicBezTo>
                  <a:pt x="104" y="8"/>
                  <a:pt x="104" y="8"/>
                  <a:pt x="104" y="8"/>
                </a:cubicBezTo>
                <a:cubicBezTo>
                  <a:pt x="108" y="8"/>
                  <a:pt x="112" y="12"/>
                  <a:pt x="112" y="16"/>
                </a:cubicBezTo>
                <a:cubicBezTo>
                  <a:pt x="64" y="16"/>
                  <a:pt x="64" y="16"/>
                  <a:pt x="64" y="16"/>
                </a:cubicBezTo>
                <a:cubicBezTo>
                  <a:pt x="64" y="12"/>
                  <a:pt x="68" y="8"/>
                  <a:pt x="72" y="8"/>
                </a:cubicBezTo>
                <a:moveTo>
                  <a:pt x="24" y="112"/>
                </a:moveTo>
                <a:cubicBezTo>
                  <a:pt x="22" y="112"/>
                  <a:pt x="20" y="114"/>
                  <a:pt x="20" y="116"/>
                </a:cubicBezTo>
                <a:cubicBezTo>
                  <a:pt x="20" y="118"/>
                  <a:pt x="22" y="120"/>
                  <a:pt x="24" y="120"/>
                </a:cubicBezTo>
                <a:cubicBezTo>
                  <a:pt x="24" y="136"/>
                  <a:pt x="24" y="136"/>
                  <a:pt x="24" y="136"/>
                </a:cubicBezTo>
                <a:cubicBezTo>
                  <a:pt x="8" y="136"/>
                  <a:pt x="8" y="136"/>
                  <a:pt x="8" y="136"/>
                </a:cubicBezTo>
                <a:cubicBezTo>
                  <a:pt x="8" y="24"/>
                  <a:pt x="8" y="24"/>
                  <a:pt x="8" y="24"/>
                </a:cubicBezTo>
                <a:cubicBezTo>
                  <a:pt x="24" y="24"/>
                  <a:pt x="24" y="24"/>
                  <a:pt x="24" y="24"/>
                </a:cubicBezTo>
                <a:lnTo>
                  <a:pt x="24" y="112"/>
                </a:lnTo>
                <a:close/>
                <a:moveTo>
                  <a:pt x="144" y="112"/>
                </a:moveTo>
                <a:cubicBezTo>
                  <a:pt x="142" y="112"/>
                  <a:pt x="140" y="114"/>
                  <a:pt x="140" y="116"/>
                </a:cubicBezTo>
                <a:cubicBezTo>
                  <a:pt x="140" y="118"/>
                  <a:pt x="142" y="120"/>
                  <a:pt x="144" y="120"/>
                </a:cubicBezTo>
                <a:cubicBezTo>
                  <a:pt x="144" y="136"/>
                  <a:pt x="144" y="136"/>
                  <a:pt x="144" y="136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2" y="120"/>
                  <a:pt x="32" y="120"/>
                  <a:pt x="32" y="120"/>
                </a:cubicBezTo>
                <a:cubicBezTo>
                  <a:pt x="34" y="120"/>
                  <a:pt x="36" y="118"/>
                  <a:pt x="36" y="116"/>
                </a:cubicBezTo>
                <a:cubicBezTo>
                  <a:pt x="36" y="114"/>
                  <a:pt x="34" y="112"/>
                  <a:pt x="32" y="112"/>
                </a:cubicBezTo>
                <a:cubicBezTo>
                  <a:pt x="32" y="24"/>
                  <a:pt x="32" y="24"/>
                  <a:pt x="32" y="24"/>
                </a:cubicBezTo>
                <a:cubicBezTo>
                  <a:pt x="144" y="24"/>
                  <a:pt x="144" y="24"/>
                  <a:pt x="144" y="24"/>
                </a:cubicBezTo>
                <a:lnTo>
                  <a:pt x="144" y="112"/>
                </a:lnTo>
                <a:close/>
                <a:moveTo>
                  <a:pt x="168" y="136"/>
                </a:moveTo>
                <a:cubicBezTo>
                  <a:pt x="152" y="136"/>
                  <a:pt x="152" y="136"/>
                  <a:pt x="152" y="136"/>
                </a:cubicBezTo>
                <a:cubicBezTo>
                  <a:pt x="152" y="120"/>
                  <a:pt x="152" y="120"/>
                  <a:pt x="152" y="120"/>
                </a:cubicBezTo>
                <a:cubicBezTo>
                  <a:pt x="154" y="120"/>
                  <a:pt x="156" y="118"/>
                  <a:pt x="156" y="116"/>
                </a:cubicBezTo>
                <a:cubicBezTo>
                  <a:pt x="156" y="114"/>
                  <a:pt x="154" y="112"/>
                  <a:pt x="152" y="112"/>
                </a:cubicBezTo>
                <a:cubicBezTo>
                  <a:pt x="152" y="24"/>
                  <a:pt x="152" y="24"/>
                  <a:pt x="152" y="24"/>
                </a:cubicBezTo>
                <a:cubicBezTo>
                  <a:pt x="168" y="24"/>
                  <a:pt x="168" y="24"/>
                  <a:pt x="168" y="24"/>
                </a:cubicBezTo>
                <a:lnTo>
                  <a:pt x="168" y="136"/>
                </a:lnTo>
                <a:close/>
                <a:moveTo>
                  <a:pt x="44" y="40"/>
                </a:moveTo>
                <a:cubicBezTo>
                  <a:pt x="68" y="40"/>
                  <a:pt x="68" y="40"/>
                  <a:pt x="68" y="40"/>
                </a:cubicBezTo>
                <a:cubicBezTo>
                  <a:pt x="70" y="40"/>
                  <a:pt x="72" y="38"/>
                  <a:pt x="72" y="36"/>
                </a:cubicBezTo>
                <a:cubicBezTo>
                  <a:pt x="72" y="34"/>
                  <a:pt x="70" y="32"/>
                  <a:pt x="68" y="32"/>
                </a:cubicBezTo>
                <a:cubicBezTo>
                  <a:pt x="44" y="32"/>
                  <a:pt x="44" y="32"/>
                  <a:pt x="44" y="32"/>
                </a:cubicBezTo>
                <a:cubicBezTo>
                  <a:pt x="42" y="32"/>
                  <a:pt x="40" y="34"/>
                  <a:pt x="40" y="36"/>
                </a:cubicBezTo>
                <a:cubicBezTo>
                  <a:pt x="40" y="38"/>
                  <a:pt x="42" y="40"/>
                  <a:pt x="44" y="4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Meet The Team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92" name="Rectangle 28"/>
          <p:cNvSpPr/>
          <p:nvPr/>
        </p:nvSpPr>
        <p:spPr>
          <a:xfrm>
            <a:off x="3498840" y="1620720"/>
            <a:ext cx="2525760" cy="391968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93" name="TextBox 22"/>
          <p:cNvSpPr/>
          <p:nvPr/>
        </p:nvSpPr>
        <p:spPr>
          <a:xfrm>
            <a:off x="118440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Alice Stark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94" name="TextBox 27"/>
          <p:cNvSpPr/>
          <p:nvPr/>
        </p:nvSpPr>
        <p:spPr>
          <a:xfrm>
            <a:off x="118440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395" name="Group 44"/>
          <p:cNvGrpSpPr/>
          <p:nvPr/>
        </p:nvGrpSpPr>
        <p:grpSpPr>
          <a:xfrm>
            <a:off x="1555920" y="5272200"/>
            <a:ext cx="1076040" cy="276120"/>
            <a:chOff x="1555920" y="5272200"/>
            <a:chExt cx="1076040" cy="276120"/>
          </a:xfrm>
        </p:grpSpPr>
        <p:sp>
          <p:nvSpPr>
            <p:cNvPr id="1396" name="Freeform 71"/>
            <p:cNvSpPr/>
            <p:nvPr/>
          </p:nvSpPr>
          <p:spPr>
            <a:xfrm>
              <a:off x="155592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7" name="Freeform 79"/>
            <p:cNvSpPr/>
            <p:nvPr/>
          </p:nvSpPr>
          <p:spPr>
            <a:xfrm>
              <a:off x="195984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8" name="Freeform 86"/>
            <p:cNvSpPr/>
            <p:nvPr/>
          </p:nvSpPr>
          <p:spPr>
            <a:xfrm>
              <a:off x="235800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399" name="TextBox 47"/>
          <p:cNvSpPr/>
          <p:nvPr/>
        </p:nvSpPr>
        <p:spPr>
          <a:xfrm>
            <a:off x="651996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Molly Stark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00" name="TextBox 48"/>
          <p:cNvSpPr/>
          <p:nvPr/>
        </p:nvSpPr>
        <p:spPr>
          <a:xfrm>
            <a:off x="651996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01" name="Group 49"/>
          <p:cNvGrpSpPr/>
          <p:nvPr/>
        </p:nvGrpSpPr>
        <p:grpSpPr>
          <a:xfrm>
            <a:off x="6889680" y="5272200"/>
            <a:ext cx="1076400" cy="276120"/>
            <a:chOff x="6889680" y="5272200"/>
            <a:chExt cx="1076400" cy="276120"/>
          </a:xfrm>
        </p:grpSpPr>
        <p:sp>
          <p:nvSpPr>
            <p:cNvPr id="1402" name="Freeform 71"/>
            <p:cNvSpPr/>
            <p:nvPr/>
          </p:nvSpPr>
          <p:spPr>
            <a:xfrm>
              <a:off x="688968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3" name="Freeform 79"/>
            <p:cNvSpPr/>
            <p:nvPr/>
          </p:nvSpPr>
          <p:spPr>
            <a:xfrm>
              <a:off x="729360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4" name="Freeform 86"/>
            <p:cNvSpPr/>
            <p:nvPr/>
          </p:nvSpPr>
          <p:spPr>
            <a:xfrm>
              <a:off x="769212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405" name="TextBox 54"/>
          <p:cNvSpPr/>
          <p:nvPr/>
        </p:nvSpPr>
        <p:spPr>
          <a:xfrm>
            <a:off x="918684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Anna Stark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06" name="TextBox 55"/>
          <p:cNvSpPr/>
          <p:nvPr/>
        </p:nvSpPr>
        <p:spPr>
          <a:xfrm>
            <a:off x="918684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07" name="Group 56"/>
          <p:cNvGrpSpPr/>
          <p:nvPr/>
        </p:nvGrpSpPr>
        <p:grpSpPr>
          <a:xfrm>
            <a:off x="9556920" y="5272200"/>
            <a:ext cx="1076040" cy="276120"/>
            <a:chOff x="9556920" y="5272200"/>
            <a:chExt cx="1076040" cy="276120"/>
          </a:xfrm>
        </p:grpSpPr>
        <p:sp>
          <p:nvSpPr>
            <p:cNvPr id="1408" name="Freeform 71"/>
            <p:cNvSpPr/>
            <p:nvPr/>
          </p:nvSpPr>
          <p:spPr>
            <a:xfrm>
              <a:off x="955692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9" name="Freeform 79"/>
            <p:cNvSpPr/>
            <p:nvPr/>
          </p:nvSpPr>
          <p:spPr>
            <a:xfrm>
              <a:off x="996084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0" name="Freeform 86"/>
            <p:cNvSpPr/>
            <p:nvPr/>
          </p:nvSpPr>
          <p:spPr>
            <a:xfrm>
              <a:off x="1035900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411" name="TextBox 38"/>
          <p:cNvSpPr/>
          <p:nvPr/>
        </p:nvSpPr>
        <p:spPr>
          <a:xfrm>
            <a:off x="3498840" y="2197080"/>
            <a:ext cx="252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CHECK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OUR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DESIGNER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12" name="TextBox 60"/>
          <p:cNvSpPr/>
          <p:nvPr/>
        </p:nvSpPr>
        <p:spPr>
          <a:xfrm>
            <a:off x="3537000" y="3767040"/>
            <a:ext cx="2449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1"/>
          <a:stretch/>
        </p:blipFill>
        <p:spPr>
          <a:xfrm>
            <a:off x="846000" y="1620720"/>
            <a:ext cx="2495520" cy="276552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2"/>
          <a:stretch/>
        </p:blipFill>
        <p:spPr>
          <a:xfrm>
            <a:off x="6180120" y="1620720"/>
            <a:ext cx="2495520" cy="2765520"/>
          </a:xfrm>
          <a:prstGeom prst="rect">
            <a:avLst/>
          </a:prstGeom>
          <a:ln w="0">
            <a:noFill/>
          </a:ln>
        </p:spPr>
      </p:pic>
      <p:pic>
        <p:nvPicPr>
          <p:cNvPr id="1415" name="" descr=""/>
          <p:cNvPicPr/>
          <p:nvPr/>
        </p:nvPicPr>
        <p:blipFill>
          <a:blip r:embed="rId3"/>
          <a:stretch/>
        </p:blipFill>
        <p:spPr>
          <a:xfrm>
            <a:off x="8847000" y="1620720"/>
            <a:ext cx="24955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279240" cy="68580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6"/>
          <p:cNvSpPr/>
          <p:nvPr/>
        </p:nvSpPr>
        <p:spPr>
          <a:xfrm>
            <a:off x="0" y="0"/>
            <a:ext cx="12279240" cy="6858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18" name="Rectangle 31"/>
          <p:cNvSpPr/>
          <p:nvPr/>
        </p:nvSpPr>
        <p:spPr>
          <a:xfrm>
            <a:off x="1397160" y="2494080"/>
            <a:ext cx="4570200" cy="186984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-1574640" y="2960640"/>
            <a:ext cx="1051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Break Section</a:t>
            </a:r>
            <a:endParaRPr b="0" lang="en-US" sz="40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20" name="TextBox 28"/>
          <p:cNvSpPr/>
          <p:nvPr/>
        </p:nvSpPr>
        <p:spPr>
          <a:xfrm>
            <a:off x="6507000" y="2973240"/>
            <a:ext cx="4375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8035560" y="1488600"/>
            <a:ext cx="3760920" cy="21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</a:t>
            </a:r>
            <a:br>
              <a:rPr sz="4800"/>
            </a:b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Company</a:t>
            </a:r>
            <a:br>
              <a:rPr sz="4800"/>
            </a:b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Portfolio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22" name="TextBox 9"/>
          <p:cNvSpPr/>
          <p:nvPr/>
        </p:nvSpPr>
        <p:spPr>
          <a:xfrm>
            <a:off x="8010360" y="3929040"/>
            <a:ext cx="3813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424" name="" descr=""/>
          <p:cNvPicPr/>
          <p:nvPr/>
        </p:nvPicPr>
        <p:blipFill>
          <a:blip r:embed="rId2"/>
          <a:stretch/>
        </p:blipFill>
        <p:spPr>
          <a:xfrm>
            <a:off x="0" y="2928960"/>
            <a:ext cx="2427120" cy="3929040"/>
          </a:xfrm>
          <a:prstGeom prst="rect">
            <a:avLst/>
          </a:prstGeom>
          <a:ln w="0">
            <a:noFill/>
          </a:ln>
        </p:spPr>
      </p:pic>
      <p:pic>
        <p:nvPicPr>
          <p:cNvPr id="1425" name="" descr=""/>
          <p:cNvPicPr/>
          <p:nvPr/>
        </p:nvPicPr>
        <p:blipFill>
          <a:blip r:embed="rId3"/>
          <a:stretch/>
        </p:blipFill>
        <p:spPr>
          <a:xfrm>
            <a:off x="2602080" y="411480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426" name="" descr=""/>
          <p:cNvPicPr/>
          <p:nvPr/>
        </p:nvPicPr>
        <p:blipFill>
          <a:blip r:embed="rId4"/>
          <a:stretch/>
        </p:blipFill>
        <p:spPr>
          <a:xfrm>
            <a:off x="2602080" y="0"/>
            <a:ext cx="2427120" cy="3929040"/>
          </a:xfrm>
          <a:prstGeom prst="rect">
            <a:avLst/>
          </a:prstGeom>
          <a:ln w="0">
            <a:noFill/>
          </a:ln>
        </p:spPr>
      </p:pic>
      <p:pic>
        <p:nvPicPr>
          <p:cNvPr id="1427" name="" descr=""/>
          <p:cNvPicPr/>
          <p:nvPr/>
        </p:nvPicPr>
        <p:blipFill>
          <a:blip r:embed="rId5"/>
          <a:stretch/>
        </p:blipFill>
        <p:spPr>
          <a:xfrm>
            <a:off x="5203440" y="3614400"/>
            <a:ext cx="2427480" cy="3243240"/>
          </a:xfrm>
          <a:prstGeom prst="rect">
            <a:avLst/>
          </a:prstGeom>
          <a:ln w="0">
            <a:noFill/>
          </a:ln>
        </p:spPr>
      </p:pic>
      <p:pic>
        <p:nvPicPr>
          <p:cNvPr id="1428" name="" descr=""/>
          <p:cNvPicPr/>
          <p:nvPr/>
        </p:nvPicPr>
        <p:blipFill>
          <a:blip r:embed="rId6"/>
          <a:stretch/>
        </p:blipFill>
        <p:spPr>
          <a:xfrm>
            <a:off x="5203440" y="-360"/>
            <a:ext cx="2427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176800" y="784080"/>
            <a:ext cx="92757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Portfolio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30" name="TextBox 57"/>
          <p:cNvSpPr/>
          <p:nvPr/>
        </p:nvSpPr>
        <p:spPr>
          <a:xfrm>
            <a:off x="5176800" y="1995480"/>
            <a:ext cx="5322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31" name="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4556160" cy="612792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2"/>
          <a:stretch/>
        </p:blipFill>
        <p:spPr>
          <a:xfrm>
            <a:off x="5285880" y="3193920"/>
            <a:ext cx="3087720" cy="3299040"/>
          </a:xfrm>
          <a:prstGeom prst="rect">
            <a:avLst/>
          </a:prstGeom>
          <a:ln w="0">
            <a:noFill/>
          </a:ln>
        </p:spPr>
      </p:pic>
      <p:pic>
        <p:nvPicPr>
          <p:cNvPr id="1433" name="" descr=""/>
          <p:cNvPicPr/>
          <p:nvPr/>
        </p:nvPicPr>
        <p:blipFill>
          <a:blip r:embed="rId3"/>
          <a:stretch/>
        </p:blipFill>
        <p:spPr>
          <a:xfrm>
            <a:off x="8739360" y="3193920"/>
            <a:ext cx="308736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4" name="Group 424"/>
          <p:cNvGrpSpPr/>
          <p:nvPr/>
        </p:nvGrpSpPr>
        <p:grpSpPr>
          <a:xfrm>
            <a:off x="-716040" y="1243080"/>
            <a:ext cx="5622840" cy="4476600"/>
            <a:chOff x="-716040" y="1243080"/>
            <a:chExt cx="5622840" cy="4476600"/>
          </a:xfrm>
        </p:grpSpPr>
        <p:sp>
          <p:nvSpPr>
            <p:cNvPr id="1435" name="Freeform 5"/>
            <p:cNvSpPr/>
            <p:nvPr/>
          </p:nvSpPr>
          <p:spPr>
            <a:xfrm>
              <a:off x="1099440" y="5093280"/>
              <a:ext cx="2035800" cy="626400"/>
            </a:xfrm>
            <a:custGeom>
              <a:avLst/>
              <a:gdLst/>
              <a:ahLst/>
              <a:rect l="l" t="t" r="r" b="b"/>
              <a:pathLst>
                <a:path w="468" h="144">
                  <a:moveTo>
                    <a:pt x="395" y="91"/>
                  </a:moveTo>
                  <a:cubicBezTo>
                    <a:pt x="367" y="62"/>
                    <a:pt x="366" y="0"/>
                    <a:pt x="366" y="0"/>
                  </a:cubicBezTo>
                  <a:cubicBezTo>
                    <a:pt x="239" y="0"/>
                    <a:pt x="239" y="0"/>
                    <a:pt x="239" y="0"/>
                  </a:cubicBezTo>
                  <a:cubicBezTo>
                    <a:pt x="229" y="0"/>
                    <a:pt x="229" y="0"/>
                    <a:pt x="229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02" y="0"/>
                    <a:pt x="101" y="62"/>
                    <a:pt x="72" y="91"/>
                  </a:cubicBezTo>
                  <a:cubicBezTo>
                    <a:pt x="44" y="120"/>
                    <a:pt x="0" y="144"/>
                    <a:pt x="77" y="144"/>
                  </a:cubicBezTo>
                  <a:cubicBezTo>
                    <a:pt x="138" y="144"/>
                    <a:pt x="205" y="144"/>
                    <a:pt x="229" y="144"/>
                  </a:cubicBezTo>
                  <a:cubicBezTo>
                    <a:pt x="235" y="144"/>
                    <a:pt x="239" y="144"/>
                    <a:pt x="239" y="144"/>
                  </a:cubicBezTo>
                  <a:cubicBezTo>
                    <a:pt x="263" y="144"/>
                    <a:pt x="329" y="144"/>
                    <a:pt x="391" y="144"/>
                  </a:cubicBezTo>
                  <a:cubicBezTo>
                    <a:pt x="468" y="144"/>
                    <a:pt x="423" y="120"/>
                    <a:pt x="395" y="91"/>
                  </a:cubicBezTo>
                  <a:close/>
                </a:path>
              </a:pathLst>
            </a:custGeom>
            <a:gradFill rotWithShape="0">
              <a:gsLst>
                <a:gs pos="0">
                  <a:srgbClr val="6d6f73"/>
                </a:gs>
                <a:gs pos="100000">
                  <a:srgbClr val="a7a9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6" name="Freeform 11"/>
            <p:cNvSpPr/>
            <p:nvPr/>
          </p:nvSpPr>
          <p:spPr>
            <a:xfrm>
              <a:off x="-716040" y="1243080"/>
              <a:ext cx="5622840" cy="3363120"/>
            </a:xfrm>
            <a:custGeom>
              <a:avLst/>
              <a:gdLst/>
              <a:ahLst/>
              <a:rect l="l" t="t" r="r" b="b"/>
              <a:pathLst>
                <a:path w="1292" h="772">
                  <a:moveTo>
                    <a:pt x="1254" y="0"/>
                  </a:moveTo>
                  <a:cubicBezTo>
                    <a:pt x="658" y="0"/>
                    <a:pt x="658" y="0"/>
                    <a:pt x="658" y="0"/>
                  </a:cubicBezTo>
                  <a:cubicBezTo>
                    <a:pt x="637" y="0"/>
                    <a:pt x="637" y="0"/>
                    <a:pt x="637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0" y="0"/>
                    <a:pt x="0" y="15"/>
                    <a:pt x="0" y="36"/>
                  </a:cubicBezTo>
                  <a:cubicBezTo>
                    <a:pt x="0" y="772"/>
                    <a:pt x="0" y="772"/>
                    <a:pt x="0" y="772"/>
                  </a:cubicBezTo>
                  <a:cubicBezTo>
                    <a:pt x="1292" y="772"/>
                    <a:pt x="1292" y="772"/>
                    <a:pt x="1292" y="772"/>
                  </a:cubicBezTo>
                  <a:cubicBezTo>
                    <a:pt x="1292" y="36"/>
                    <a:pt x="1292" y="36"/>
                    <a:pt x="1292" y="36"/>
                  </a:cubicBezTo>
                  <a:cubicBezTo>
                    <a:pt x="1292" y="15"/>
                    <a:pt x="1275" y="0"/>
                    <a:pt x="1254" y="0"/>
                  </a:cubicBezTo>
                  <a:close/>
                  <a:moveTo>
                    <a:pt x="1236" y="716"/>
                  </a:moveTo>
                  <a:cubicBezTo>
                    <a:pt x="56" y="716"/>
                    <a:pt x="56" y="716"/>
                    <a:pt x="56" y="716"/>
                  </a:cubicBezTo>
                  <a:cubicBezTo>
                    <a:pt x="56" y="48"/>
                    <a:pt x="56" y="48"/>
                    <a:pt x="56" y="48"/>
                  </a:cubicBezTo>
                  <a:cubicBezTo>
                    <a:pt x="1236" y="48"/>
                    <a:pt x="1236" y="48"/>
                    <a:pt x="1236" y="48"/>
                  </a:cubicBezTo>
                  <a:lnTo>
                    <a:pt x="1236" y="71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7" name="Freeform 12"/>
            <p:cNvSpPr/>
            <p:nvPr/>
          </p:nvSpPr>
          <p:spPr>
            <a:xfrm>
              <a:off x="-716040" y="4606200"/>
              <a:ext cx="5622840" cy="486720"/>
            </a:xfrm>
            <a:custGeom>
              <a:avLst/>
              <a:gdLst/>
              <a:ahLst/>
              <a:rect l="l" t="t" r="r" b="b"/>
              <a:pathLst>
                <a:path w="1292" h="112">
                  <a:moveTo>
                    <a:pt x="0" y="70"/>
                  </a:moveTo>
                  <a:cubicBezTo>
                    <a:pt x="0" y="91"/>
                    <a:pt x="20" y="112"/>
                    <a:pt x="41" y="112"/>
                  </a:cubicBezTo>
                  <a:cubicBezTo>
                    <a:pt x="637" y="112"/>
                    <a:pt x="637" y="112"/>
                    <a:pt x="637" y="112"/>
                  </a:cubicBezTo>
                  <a:cubicBezTo>
                    <a:pt x="658" y="112"/>
                    <a:pt x="658" y="112"/>
                    <a:pt x="658" y="112"/>
                  </a:cubicBezTo>
                  <a:cubicBezTo>
                    <a:pt x="1254" y="112"/>
                    <a:pt x="1254" y="112"/>
                    <a:pt x="1254" y="112"/>
                  </a:cubicBezTo>
                  <a:cubicBezTo>
                    <a:pt x="1275" y="112"/>
                    <a:pt x="1292" y="91"/>
                    <a:pt x="1292" y="70"/>
                  </a:cubicBezTo>
                  <a:cubicBezTo>
                    <a:pt x="1292" y="0"/>
                    <a:pt x="1292" y="0"/>
                    <a:pt x="129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70"/>
                  </a:lnTo>
                  <a:close/>
                </a:path>
              </a:pathLst>
            </a:custGeom>
            <a:gradFill rotWithShape="0">
              <a:gsLst>
                <a:gs pos="0">
                  <a:srgbClr val="898a8f"/>
                </a:gs>
                <a:gs pos="100000">
                  <a:srgbClr val="dbdd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149800" y="1339560"/>
            <a:ext cx="92743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39" name="TextBox 32"/>
          <p:cNvSpPr/>
          <p:nvPr/>
        </p:nvSpPr>
        <p:spPr>
          <a:xfrm>
            <a:off x="5149800" y="2558880"/>
            <a:ext cx="6703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0" name="Title 1"/>
          <p:cNvSpPr/>
          <p:nvPr/>
        </p:nvSpPr>
        <p:spPr>
          <a:xfrm>
            <a:off x="8675640" y="376884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1" name="TextBox 35"/>
          <p:cNvSpPr/>
          <p:nvPr/>
        </p:nvSpPr>
        <p:spPr>
          <a:xfrm>
            <a:off x="8675640" y="4129200"/>
            <a:ext cx="3301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edummy nibh euismod tincidunt ut laoreet dolo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edummy nibh magn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a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2" name="Title 1"/>
          <p:cNvSpPr/>
          <p:nvPr/>
        </p:nvSpPr>
        <p:spPr>
          <a:xfrm>
            <a:off x="5149800" y="3768840"/>
            <a:ext cx="243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3" name="TextBox 37"/>
          <p:cNvSpPr/>
          <p:nvPr/>
        </p:nvSpPr>
        <p:spPr>
          <a:xfrm>
            <a:off x="5149800" y="4130640"/>
            <a:ext cx="3303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edummy nibh euismod tincidunt ut laoreet dolo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edummy nibh magn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a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44" name="" descr=""/>
          <p:cNvPicPr/>
          <p:nvPr/>
        </p:nvPicPr>
        <p:blipFill>
          <a:blip r:embed="rId1"/>
          <a:stretch/>
        </p:blipFill>
        <p:spPr>
          <a:xfrm>
            <a:off x="-473400" y="1436760"/>
            <a:ext cx="5157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Picture 38" descr=""/>
          <p:cNvPicPr/>
          <p:nvPr/>
        </p:nvPicPr>
        <p:blipFill>
          <a:blip r:embed="rId1"/>
          <a:stretch/>
        </p:blipFill>
        <p:spPr>
          <a:xfrm>
            <a:off x="3287880" y="674640"/>
            <a:ext cx="3606480" cy="5340240"/>
          </a:xfrm>
          <a:prstGeom prst="rect">
            <a:avLst/>
          </a:prstGeom>
          <a:ln w="0">
            <a:noFill/>
          </a:ln>
        </p:spPr>
      </p:pic>
      <p:pic>
        <p:nvPicPr>
          <p:cNvPr id="1446" name="" descr=""/>
          <p:cNvPicPr/>
          <p:nvPr/>
        </p:nvPicPr>
        <p:blipFill>
          <a:blip r:embed="rId2"/>
          <a:stretch/>
        </p:blipFill>
        <p:spPr>
          <a:xfrm>
            <a:off x="3499920" y="1179000"/>
            <a:ext cx="3178440" cy="425772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Placeholder 8" descr=""/>
          <p:cNvPicPr/>
          <p:nvPr/>
        </p:nvPicPr>
        <p:blipFill>
          <a:blip r:embed="rId3"/>
          <a:srcRect l="20378" t="0" r="20378" b="0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1448" name="Rectangle 15"/>
          <p:cNvSpPr/>
          <p:nvPr/>
        </p:nvSpPr>
        <p:spPr>
          <a:xfrm>
            <a:off x="6095880" y="-1440"/>
            <a:ext cx="6096240" cy="6858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372000" y="377640"/>
            <a:ext cx="92739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cad82a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pic>
        <p:nvPicPr>
          <p:cNvPr id="1450" name="Picture 39" descr=""/>
          <p:cNvPicPr/>
          <p:nvPr/>
        </p:nvPicPr>
        <p:blipFill>
          <a:blip r:embed="rId4"/>
          <a:stretch/>
        </p:blipFill>
        <p:spPr>
          <a:xfrm>
            <a:off x="533520" y="1062000"/>
            <a:ext cx="3606840" cy="5340240"/>
          </a:xfrm>
          <a:prstGeom prst="rect">
            <a:avLst/>
          </a:prstGeom>
          <a:ln w="0">
            <a:noFill/>
          </a:ln>
        </p:spPr>
      </p:pic>
      <p:sp>
        <p:nvSpPr>
          <p:cNvPr id="1451" name="Rectangle 34"/>
          <p:cNvSpPr/>
          <p:nvPr/>
        </p:nvSpPr>
        <p:spPr>
          <a:xfrm>
            <a:off x="11212560" y="5880240"/>
            <a:ext cx="979560" cy="97920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2" name="Freeform 12"/>
          <p:cNvSpPr/>
          <p:nvPr/>
        </p:nvSpPr>
        <p:spPr>
          <a:xfrm>
            <a:off x="11469600" y="6086520"/>
            <a:ext cx="463680" cy="566640"/>
          </a:xfrm>
          <a:custGeom>
            <a:avLst/>
            <a:gdLst/>
            <a:ahLst/>
            <a:rect l="l" t="t" r="r" b="b"/>
            <a:pathLst>
              <a:path w="144" h="176">
                <a:moveTo>
                  <a:pt x="76" y="120"/>
                </a:moveTo>
                <a:cubicBezTo>
                  <a:pt x="28" y="120"/>
                  <a:pt x="28" y="120"/>
                  <a:pt x="28" y="120"/>
                </a:cubicBezTo>
                <a:cubicBezTo>
                  <a:pt x="26" y="120"/>
                  <a:pt x="24" y="122"/>
                  <a:pt x="24" y="124"/>
                </a:cubicBezTo>
                <a:cubicBezTo>
                  <a:pt x="24" y="126"/>
                  <a:pt x="26" y="128"/>
                  <a:pt x="28" y="128"/>
                </a:cubicBezTo>
                <a:cubicBezTo>
                  <a:pt x="76" y="128"/>
                  <a:pt x="76" y="128"/>
                  <a:pt x="76" y="128"/>
                </a:cubicBezTo>
                <a:cubicBezTo>
                  <a:pt x="78" y="128"/>
                  <a:pt x="80" y="126"/>
                  <a:pt x="80" y="124"/>
                </a:cubicBezTo>
                <a:cubicBezTo>
                  <a:pt x="80" y="122"/>
                  <a:pt x="78" y="120"/>
                  <a:pt x="76" y="120"/>
                </a:cubicBezTo>
                <a:moveTo>
                  <a:pt x="60" y="144"/>
                </a:moveTo>
                <a:cubicBezTo>
                  <a:pt x="28" y="144"/>
                  <a:pt x="28" y="144"/>
                  <a:pt x="28" y="144"/>
                </a:cubicBezTo>
                <a:cubicBezTo>
                  <a:pt x="26" y="144"/>
                  <a:pt x="24" y="146"/>
                  <a:pt x="24" y="148"/>
                </a:cubicBezTo>
                <a:cubicBezTo>
                  <a:pt x="24" y="150"/>
                  <a:pt x="26" y="152"/>
                  <a:pt x="28" y="152"/>
                </a:cubicBezTo>
                <a:cubicBezTo>
                  <a:pt x="60" y="152"/>
                  <a:pt x="60" y="152"/>
                  <a:pt x="60" y="152"/>
                </a:cubicBezTo>
                <a:cubicBezTo>
                  <a:pt x="62" y="152"/>
                  <a:pt x="64" y="150"/>
                  <a:pt x="64" y="148"/>
                </a:cubicBezTo>
                <a:cubicBezTo>
                  <a:pt x="64" y="146"/>
                  <a:pt x="62" y="144"/>
                  <a:pt x="60" y="144"/>
                </a:cubicBezTo>
                <a:moveTo>
                  <a:pt x="28" y="80"/>
                </a:moveTo>
                <a:cubicBezTo>
                  <a:pt x="44" y="80"/>
                  <a:pt x="44" y="80"/>
                  <a:pt x="44" y="80"/>
                </a:cubicBezTo>
                <a:cubicBezTo>
                  <a:pt x="46" y="80"/>
                  <a:pt x="48" y="78"/>
                  <a:pt x="48" y="76"/>
                </a:cubicBezTo>
                <a:cubicBezTo>
                  <a:pt x="48" y="74"/>
                  <a:pt x="46" y="72"/>
                  <a:pt x="44" y="72"/>
                </a:cubicBezTo>
                <a:cubicBezTo>
                  <a:pt x="28" y="72"/>
                  <a:pt x="28" y="72"/>
                  <a:pt x="28" y="72"/>
                </a:cubicBezTo>
                <a:cubicBezTo>
                  <a:pt x="26" y="72"/>
                  <a:pt x="24" y="74"/>
                  <a:pt x="24" y="76"/>
                </a:cubicBezTo>
                <a:cubicBezTo>
                  <a:pt x="24" y="78"/>
                  <a:pt x="26" y="80"/>
                  <a:pt x="28" y="80"/>
                </a:cubicBezTo>
                <a:moveTo>
                  <a:pt x="24" y="100"/>
                </a:moveTo>
                <a:cubicBezTo>
                  <a:pt x="24" y="102"/>
                  <a:pt x="26" y="104"/>
                  <a:pt x="28" y="104"/>
                </a:cubicBezTo>
                <a:cubicBezTo>
                  <a:pt x="76" y="104"/>
                  <a:pt x="76" y="104"/>
                  <a:pt x="76" y="104"/>
                </a:cubicBezTo>
                <a:cubicBezTo>
                  <a:pt x="78" y="104"/>
                  <a:pt x="80" y="102"/>
                  <a:pt x="80" y="100"/>
                </a:cubicBezTo>
                <a:cubicBezTo>
                  <a:pt x="80" y="98"/>
                  <a:pt x="78" y="96"/>
                  <a:pt x="76" y="96"/>
                </a:cubicBezTo>
                <a:cubicBezTo>
                  <a:pt x="28" y="96"/>
                  <a:pt x="28" y="96"/>
                  <a:pt x="28" y="96"/>
                </a:cubicBezTo>
                <a:cubicBezTo>
                  <a:pt x="26" y="96"/>
                  <a:pt x="24" y="98"/>
                  <a:pt x="24" y="100"/>
                </a:cubicBezTo>
                <a:moveTo>
                  <a:pt x="116" y="0"/>
                </a:moveTo>
                <a:cubicBezTo>
                  <a:pt x="56" y="0"/>
                  <a:pt x="56" y="0"/>
                  <a:pt x="56" y="0"/>
                </a:cubicBezTo>
                <a:cubicBezTo>
                  <a:pt x="47" y="0"/>
                  <a:pt x="40" y="7"/>
                  <a:pt x="40" y="16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30"/>
                  <a:pt x="42" y="32"/>
                  <a:pt x="44" y="32"/>
                </a:cubicBezTo>
                <a:cubicBezTo>
                  <a:pt x="46" y="32"/>
                  <a:pt x="48" y="30"/>
                  <a:pt x="48" y="28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2"/>
                  <a:pt x="52" y="8"/>
                  <a:pt x="56" y="8"/>
                </a:cubicBezTo>
                <a:cubicBezTo>
                  <a:pt x="104" y="8"/>
                  <a:pt x="104" y="8"/>
                  <a:pt x="104" y="8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6"/>
                  <a:pt x="108" y="40"/>
                  <a:pt x="112" y="40"/>
                </a:cubicBezTo>
                <a:cubicBezTo>
                  <a:pt x="136" y="40"/>
                  <a:pt x="136" y="40"/>
                  <a:pt x="136" y="40"/>
                </a:cubicBezTo>
                <a:cubicBezTo>
                  <a:pt x="136" y="120"/>
                  <a:pt x="136" y="120"/>
                  <a:pt x="136" y="120"/>
                </a:cubicBezTo>
                <a:cubicBezTo>
                  <a:pt x="136" y="124"/>
                  <a:pt x="132" y="128"/>
                  <a:pt x="128" y="128"/>
                </a:cubicBezTo>
                <a:cubicBezTo>
                  <a:pt x="116" y="128"/>
                  <a:pt x="116" y="128"/>
                  <a:pt x="116" y="128"/>
                </a:cubicBezTo>
                <a:cubicBezTo>
                  <a:pt x="114" y="128"/>
                  <a:pt x="112" y="130"/>
                  <a:pt x="112" y="132"/>
                </a:cubicBezTo>
                <a:cubicBezTo>
                  <a:pt x="112" y="134"/>
                  <a:pt x="114" y="136"/>
                  <a:pt x="116" y="136"/>
                </a:cubicBezTo>
                <a:cubicBezTo>
                  <a:pt x="128" y="136"/>
                  <a:pt x="128" y="136"/>
                  <a:pt x="128" y="136"/>
                </a:cubicBezTo>
                <a:cubicBezTo>
                  <a:pt x="137" y="136"/>
                  <a:pt x="144" y="129"/>
                  <a:pt x="144" y="120"/>
                </a:cubicBezTo>
                <a:cubicBezTo>
                  <a:pt x="144" y="32"/>
                  <a:pt x="144" y="32"/>
                  <a:pt x="144" y="32"/>
                </a:cubicBezTo>
                <a:lnTo>
                  <a:pt x="116" y="0"/>
                </a:lnTo>
                <a:close/>
                <a:moveTo>
                  <a:pt x="112" y="32"/>
                </a:moveTo>
                <a:cubicBezTo>
                  <a:pt x="112" y="9"/>
                  <a:pt x="112" y="9"/>
                  <a:pt x="112" y="9"/>
                </a:cubicBezTo>
                <a:cubicBezTo>
                  <a:pt x="133" y="32"/>
                  <a:pt x="133" y="32"/>
                  <a:pt x="133" y="32"/>
                </a:cubicBezTo>
                <a:lnTo>
                  <a:pt x="112" y="32"/>
                </a:lnTo>
                <a:close/>
                <a:moveTo>
                  <a:pt x="16" y="40"/>
                </a:moveTo>
                <a:cubicBezTo>
                  <a:pt x="7" y="40"/>
                  <a:pt x="0" y="47"/>
                  <a:pt x="0" y="56"/>
                </a:cubicBezTo>
                <a:cubicBezTo>
                  <a:pt x="0" y="160"/>
                  <a:pt x="0" y="160"/>
                  <a:pt x="0" y="160"/>
                </a:cubicBezTo>
                <a:cubicBezTo>
                  <a:pt x="0" y="169"/>
                  <a:pt x="7" y="176"/>
                  <a:pt x="16" y="176"/>
                </a:cubicBezTo>
                <a:cubicBezTo>
                  <a:pt x="88" y="176"/>
                  <a:pt x="88" y="176"/>
                  <a:pt x="88" y="176"/>
                </a:cubicBezTo>
                <a:cubicBezTo>
                  <a:pt x="97" y="176"/>
                  <a:pt x="104" y="169"/>
                  <a:pt x="104" y="160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76" y="40"/>
                  <a:pt x="76" y="40"/>
                  <a:pt x="76" y="40"/>
                </a:cubicBezTo>
                <a:lnTo>
                  <a:pt x="16" y="40"/>
                </a:lnTo>
                <a:close/>
                <a:moveTo>
                  <a:pt x="96" y="160"/>
                </a:moveTo>
                <a:cubicBezTo>
                  <a:pt x="96" y="164"/>
                  <a:pt x="92" y="168"/>
                  <a:pt x="88" y="168"/>
                </a:cubicBezTo>
                <a:cubicBezTo>
                  <a:pt x="16" y="168"/>
                  <a:pt x="16" y="168"/>
                  <a:pt x="16" y="168"/>
                </a:cubicBezTo>
                <a:cubicBezTo>
                  <a:pt x="12" y="168"/>
                  <a:pt x="8" y="164"/>
                  <a:pt x="8" y="160"/>
                </a:cubicBezTo>
                <a:cubicBezTo>
                  <a:pt x="8" y="56"/>
                  <a:pt x="8" y="56"/>
                  <a:pt x="8" y="56"/>
                </a:cubicBezTo>
                <a:cubicBezTo>
                  <a:pt x="8" y="52"/>
                  <a:pt x="12" y="48"/>
                  <a:pt x="16" y="48"/>
                </a:cubicBezTo>
                <a:cubicBezTo>
                  <a:pt x="64" y="48"/>
                  <a:pt x="64" y="48"/>
                  <a:pt x="64" y="48"/>
                </a:cubicBezTo>
                <a:cubicBezTo>
                  <a:pt x="64" y="72"/>
                  <a:pt x="64" y="72"/>
                  <a:pt x="64" y="72"/>
                </a:cubicBezTo>
                <a:cubicBezTo>
                  <a:pt x="64" y="76"/>
                  <a:pt x="68" y="80"/>
                  <a:pt x="72" y="80"/>
                </a:cubicBezTo>
                <a:cubicBezTo>
                  <a:pt x="96" y="80"/>
                  <a:pt x="96" y="80"/>
                  <a:pt x="96" y="80"/>
                </a:cubicBezTo>
                <a:lnTo>
                  <a:pt x="96" y="160"/>
                </a:lnTo>
                <a:close/>
                <a:moveTo>
                  <a:pt x="72" y="72"/>
                </a:moveTo>
                <a:cubicBezTo>
                  <a:pt x="72" y="49"/>
                  <a:pt x="72" y="49"/>
                  <a:pt x="72" y="49"/>
                </a:cubicBezTo>
                <a:cubicBezTo>
                  <a:pt x="93" y="72"/>
                  <a:pt x="93" y="72"/>
                  <a:pt x="93" y="72"/>
                </a:cubicBezTo>
                <a:lnTo>
                  <a:pt x="72" y="72"/>
                </a:lnTo>
                <a:close/>
              </a:path>
            </a:pathLst>
          </a:cu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3" name="Title 1"/>
          <p:cNvSpPr/>
          <p:nvPr/>
        </p:nvSpPr>
        <p:spPr>
          <a:xfrm>
            <a:off x="6315120" y="2036880"/>
            <a:ext cx="3276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boto Slab"/>
              </a:rPr>
              <a:t>Slide</a:t>
            </a:r>
            <a:r>
              <a:rPr b="1" lang="en-US" sz="2800" spc="-1" strike="noStrike">
                <a:solidFill>
                  <a:srgbClr val="cad82a"/>
                </a:solidFill>
                <a:latin typeface="Roboto Slab"/>
              </a:rPr>
              <a:t> Layou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4" name="TextBox 23"/>
          <p:cNvSpPr/>
          <p:nvPr/>
        </p:nvSpPr>
        <p:spPr>
          <a:xfrm>
            <a:off x="6315120" y="2538360"/>
            <a:ext cx="5657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5" name="Rectangle 10"/>
          <p:cNvSpPr/>
          <p:nvPr/>
        </p:nvSpPr>
        <p:spPr>
          <a:xfrm>
            <a:off x="6432480" y="4079880"/>
            <a:ext cx="3862440" cy="239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6" name="Rectangle 18"/>
          <p:cNvSpPr/>
          <p:nvPr/>
        </p:nvSpPr>
        <p:spPr>
          <a:xfrm>
            <a:off x="6432480" y="4079880"/>
            <a:ext cx="3040200" cy="23976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7" name="Rectangle 19"/>
          <p:cNvSpPr/>
          <p:nvPr/>
        </p:nvSpPr>
        <p:spPr>
          <a:xfrm>
            <a:off x="6432480" y="4886280"/>
            <a:ext cx="3862440" cy="239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8" name="Rectangle 20"/>
          <p:cNvSpPr/>
          <p:nvPr/>
        </p:nvSpPr>
        <p:spPr>
          <a:xfrm>
            <a:off x="6432480" y="4886280"/>
            <a:ext cx="2040120" cy="23976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9" name="Title 1"/>
          <p:cNvSpPr/>
          <p:nvPr/>
        </p:nvSpPr>
        <p:spPr>
          <a:xfrm>
            <a:off x="6432480" y="3697200"/>
            <a:ext cx="2044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0" name="Title 1"/>
          <p:cNvSpPr/>
          <p:nvPr/>
        </p:nvSpPr>
        <p:spPr>
          <a:xfrm>
            <a:off x="6429240" y="4484520"/>
            <a:ext cx="2043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1" name="Title 1"/>
          <p:cNvSpPr/>
          <p:nvPr/>
        </p:nvSpPr>
        <p:spPr>
          <a:xfrm>
            <a:off x="10339560" y="4040280"/>
            <a:ext cx="733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70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2" name="Title 1"/>
          <p:cNvSpPr/>
          <p:nvPr/>
        </p:nvSpPr>
        <p:spPr>
          <a:xfrm>
            <a:off x="10331280" y="4842000"/>
            <a:ext cx="731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40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63" name="Group 32"/>
          <p:cNvGrpSpPr/>
          <p:nvPr/>
        </p:nvGrpSpPr>
        <p:grpSpPr>
          <a:xfrm>
            <a:off x="6510240" y="1297080"/>
            <a:ext cx="2158920" cy="71280"/>
            <a:chOff x="6510240" y="1297080"/>
            <a:chExt cx="2158920" cy="71280"/>
          </a:xfrm>
        </p:grpSpPr>
        <p:sp>
          <p:nvSpPr>
            <p:cNvPr id="1464" name="Rectangle 35"/>
            <p:cNvSpPr/>
            <p:nvPr/>
          </p:nvSpPr>
          <p:spPr>
            <a:xfrm>
              <a:off x="7229880" y="129708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5" name="Rectangle 36"/>
            <p:cNvSpPr/>
            <p:nvPr/>
          </p:nvSpPr>
          <p:spPr>
            <a:xfrm>
              <a:off x="6510240" y="129708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6" name="Rectangle 37"/>
            <p:cNvSpPr/>
            <p:nvPr/>
          </p:nvSpPr>
          <p:spPr>
            <a:xfrm>
              <a:off x="7949520" y="1297080"/>
              <a:ext cx="719640" cy="71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pic>
        <p:nvPicPr>
          <p:cNvPr id="1467" name="" descr=""/>
          <p:cNvPicPr/>
          <p:nvPr/>
        </p:nvPicPr>
        <p:blipFill>
          <a:blip r:embed="rId5"/>
          <a:stretch/>
        </p:blipFill>
        <p:spPr>
          <a:xfrm>
            <a:off x="728280" y="1566360"/>
            <a:ext cx="3267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500"/>
                            </p:stCondLst>
                            <p:childTnLst>
                              <p:par>
                                <p:cTn id="74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0"/>
                            </p:stCondLst>
                            <p:childTnLst>
                              <p:par>
                                <p:cTn id="7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469" name="Rectangle 29"/>
          <p:cNvSpPr/>
          <p:nvPr/>
        </p:nvSpPr>
        <p:spPr>
          <a:xfrm>
            <a:off x="0" y="0"/>
            <a:ext cx="12192120" cy="3429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470" name="Picture 3" descr=""/>
          <p:cNvPicPr/>
          <p:nvPr/>
        </p:nvPicPr>
        <p:blipFill>
          <a:blip r:embed="rId2"/>
          <a:stretch/>
        </p:blipFill>
        <p:spPr>
          <a:xfrm>
            <a:off x="5324400" y="1077840"/>
            <a:ext cx="8353440" cy="4800600"/>
          </a:xfrm>
          <a:prstGeom prst="rect">
            <a:avLst/>
          </a:prstGeom>
          <a:ln w="0">
            <a:noFill/>
          </a:ln>
        </p:spPr>
      </p:pic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41080" y="779400"/>
            <a:ext cx="92739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cad82a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72" name="TextBox 24"/>
          <p:cNvSpPr/>
          <p:nvPr/>
        </p:nvSpPr>
        <p:spPr>
          <a:xfrm>
            <a:off x="1528920" y="4081320"/>
            <a:ext cx="402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3" name="Title 1"/>
          <p:cNvSpPr/>
          <p:nvPr/>
        </p:nvSpPr>
        <p:spPr>
          <a:xfrm>
            <a:off x="1528920" y="375444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4" name="TextBox 27"/>
          <p:cNvSpPr/>
          <p:nvPr/>
        </p:nvSpPr>
        <p:spPr>
          <a:xfrm>
            <a:off x="1528920" y="5232240"/>
            <a:ext cx="402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5" name="Title 1"/>
          <p:cNvSpPr/>
          <p:nvPr/>
        </p:nvSpPr>
        <p:spPr>
          <a:xfrm>
            <a:off x="1528920" y="49053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6" name="Rectangle 30"/>
          <p:cNvSpPr/>
          <p:nvPr/>
        </p:nvSpPr>
        <p:spPr>
          <a:xfrm>
            <a:off x="541440" y="5003640"/>
            <a:ext cx="777600" cy="77652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7" name="Freeform 45"/>
          <p:cNvSpPr/>
          <p:nvPr/>
        </p:nvSpPr>
        <p:spPr>
          <a:xfrm>
            <a:off x="676440" y="5184720"/>
            <a:ext cx="507960" cy="41436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124" y="96"/>
                </a:moveTo>
                <a:cubicBezTo>
                  <a:pt x="131" y="96"/>
                  <a:pt x="136" y="91"/>
                  <a:pt x="136" y="84"/>
                </a:cubicBezTo>
                <a:cubicBezTo>
                  <a:pt x="136" y="77"/>
                  <a:pt x="131" y="72"/>
                  <a:pt x="124" y="72"/>
                </a:cubicBezTo>
                <a:cubicBezTo>
                  <a:pt x="117" y="72"/>
                  <a:pt x="112" y="77"/>
                  <a:pt x="112" y="84"/>
                </a:cubicBezTo>
                <a:cubicBezTo>
                  <a:pt x="112" y="91"/>
                  <a:pt x="117" y="96"/>
                  <a:pt x="124" y="96"/>
                </a:cubicBezTo>
                <a:moveTo>
                  <a:pt x="124" y="80"/>
                </a:moveTo>
                <a:cubicBezTo>
                  <a:pt x="126" y="80"/>
                  <a:pt x="128" y="82"/>
                  <a:pt x="128" y="84"/>
                </a:cubicBezTo>
                <a:cubicBezTo>
                  <a:pt x="128" y="86"/>
                  <a:pt x="126" y="88"/>
                  <a:pt x="124" y="88"/>
                </a:cubicBezTo>
                <a:cubicBezTo>
                  <a:pt x="122" y="88"/>
                  <a:pt x="120" y="86"/>
                  <a:pt x="120" y="84"/>
                </a:cubicBezTo>
                <a:cubicBezTo>
                  <a:pt x="120" y="82"/>
                  <a:pt x="122" y="80"/>
                  <a:pt x="124" y="80"/>
                </a:cubicBezTo>
                <a:moveTo>
                  <a:pt x="88" y="96"/>
                </a:moveTo>
                <a:cubicBezTo>
                  <a:pt x="95" y="96"/>
                  <a:pt x="100" y="91"/>
                  <a:pt x="100" y="84"/>
                </a:cubicBezTo>
                <a:cubicBezTo>
                  <a:pt x="100" y="77"/>
                  <a:pt x="95" y="72"/>
                  <a:pt x="88" y="72"/>
                </a:cubicBezTo>
                <a:cubicBezTo>
                  <a:pt x="81" y="72"/>
                  <a:pt x="76" y="77"/>
                  <a:pt x="76" y="84"/>
                </a:cubicBezTo>
                <a:cubicBezTo>
                  <a:pt x="76" y="91"/>
                  <a:pt x="81" y="96"/>
                  <a:pt x="88" y="96"/>
                </a:cubicBezTo>
                <a:moveTo>
                  <a:pt x="88" y="80"/>
                </a:moveTo>
                <a:cubicBezTo>
                  <a:pt x="90" y="80"/>
                  <a:pt x="92" y="82"/>
                  <a:pt x="92" y="84"/>
                </a:cubicBezTo>
                <a:cubicBezTo>
                  <a:pt x="92" y="86"/>
                  <a:pt x="90" y="88"/>
                  <a:pt x="88" y="88"/>
                </a:cubicBezTo>
                <a:cubicBezTo>
                  <a:pt x="86" y="88"/>
                  <a:pt x="84" y="86"/>
                  <a:pt x="84" y="84"/>
                </a:cubicBezTo>
                <a:cubicBezTo>
                  <a:pt x="84" y="82"/>
                  <a:pt x="86" y="80"/>
                  <a:pt x="88" y="80"/>
                </a:cubicBezTo>
                <a:moveTo>
                  <a:pt x="168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8"/>
                  <a:pt x="4" y="32"/>
                  <a:pt x="8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136"/>
                  <a:pt x="16" y="136"/>
                  <a:pt x="16" y="136"/>
                </a:cubicBezTo>
                <a:cubicBezTo>
                  <a:pt x="16" y="140"/>
                  <a:pt x="20" y="144"/>
                  <a:pt x="24" y="144"/>
                </a:cubicBezTo>
                <a:cubicBezTo>
                  <a:pt x="152" y="144"/>
                  <a:pt x="152" y="144"/>
                  <a:pt x="152" y="144"/>
                </a:cubicBezTo>
                <a:cubicBezTo>
                  <a:pt x="156" y="144"/>
                  <a:pt x="160" y="140"/>
                  <a:pt x="160" y="136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68" y="32"/>
                  <a:pt x="168" y="32"/>
                  <a:pt x="168" y="32"/>
                </a:cubicBezTo>
                <a:cubicBezTo>
                  <a:pt x="172" y="32"/>
                  <a:pt x="176" y="28"/>
                  <a:pt x="176" y="24"/>
                </a:cubicBezTo>
                <a:cubicBezTo>
                  <a:pt x="176" y="8"/>
                  <a:pt x="176" y="8"/>
                  <a:pt x="176" y="8"/>
                </a:cubicBezTo>
                <a:cubicBezTo>
                  <a:pt x="176" y="4"/>
                  <a:pt x="172" y="0"/>
                  <a:pt x="168" y="0"/>
                </a:cubicBezTo>
                <a:moveTo>
                  <a:pt x="152" y="136"/>
                </a:moveTo>
                <a:cubicBezTo>
                  <a:pt x="24" y="136"/>
                  <a:pt x="24" y="136"/>
                  <a:pt x="24" y="136"/>
                </a:cubicBezTo>
                <a:cubicBezTo>
                  <a:pt x="24" y="32"/>
                  <a:pt x="24" y="32"/>
                  <a:pt x="24" y="32"/>
                </a:cubicBezTo>
                <a:cubicBezTo>
                  <a:pt x="152" y="32"/>
                  <a:pt x="152" y="32"/>
                  <a:pt x="152" y="32"/>
                </a:cubicBezTo>
                <a:lnTo>
                  <a:pt x="152" y="136"/>
                </a:lnTo>
                <a:close/>
                <a:moveTo>
                  <a:pt x="168" y="24"/>
                </a:moveTo>
                <a:cubicBezTo>
                  <a:pt x="8" y="24"/>
                  <a:pt x="8" y="24"/>
                  <a:pt x="8" y="24"/>
                </a:cubicBezTo>
                <a:cubicBezTo>
                  <a:pt x="8" y="8"/>
                  <a:pt x="8" y="8"/>
                  <a:pt x="8" y="8"/>
                </a:cubicBezTo>
                <a:cubicBezTo>
                  <a:pt x="168" y="8"/>
                  <a:pt x="168" y="8"/>
                  <a:pt x="168" y="8"/>
                </a:cubicBezTo>
                <a:lnTo>
                  <a:pt x="168" y="24"/>
                </a:lnTo>
                <a:close/>
                <a:moveTo>
                  <a:pt x="52" y="96"/>
                </a:moveTo>
                <a:cubicBezTo>
                  <a:pt x="59" y="96"/>
                  <a:pt x="64" y="91"/>
                  <a:pt x="64" y="84"/>
                </a:cubicBezTo>
                <a:cubicBezTo>
                  <a:pt x="64" y="77"/>
                  <a:pt x="59" y="72"/>
                  <a:pt x="52" y="72"/>
                </a:cubicBezTo>
                <a:cubicBezTo>
                  <a:pt x="45" y="72"/>
                  <a:pt x="40" y="77"/>
                  <a:pt x="40" y="84"/>
                </a:cubicBezTo>
                <a:cubicBezTo>
                  <a:pt x="40" y="91"/>
                  <a:pt x="45" y="96"/>
                  <a:pt x="52" y="96"/>
                </a:cubicBezTo>
                <a:moveTo>
                  <a:pt x="52" y="80"/>
                </a:moveTo>
                <a:cubicBezTo>
                  <a:pt x="54" y="80"/>
                  <a:pt x="56" y="82"/>
                  <a:pt x="56" y="84"/>
                </a:cubicBezTo>
                <a:cubicBezTo>
                  <a:pt x="56" y="86"/>
                  <a:pt x="54" y="88"/>
                  <a:pt x="52" y="88"/>
                </a:cubicBezTo>
                <a:cubicBezTo>
                  <a:pt x="50" y="88"/>
                  <a:pt x="48" y="86"/>
                  <a:pt x="48" y="84"/>
                </a:cubicBezTo>
                <a:cubicBezTo>
                  <a:pt x="48" y="82"/>
                  <a:pt x="50" y="80"/>
                  <a:pt x="52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8" name="Rectangle 32"/>
          <p:cNvSpPr/>
          <p:nvPr/>
        </p:nvSpPr>
        <p:spPr>
          <a:xfrm>
            <a:off x="541440" y="3851280"/>
            <a:ext cx="777600" cy="77796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9" name="Freeform 76"/>
          <p:cNvSpPr/>
          <p:nvPr/>
        </p:nvSpPr>
        <p:spPr>
          <a:xfrm>
            <a:off x="674640" y="4030560"/>
            <a:ext cx="511200" cy="41904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116" y="80"/>
                </a:moveTo>
                <a:cubicBezTo>
                  <a:pt x="148" y="80"/>
                  <a:pt x="148" y="80"/>
                  <a:pt x="148" y="80"/>
                </a:cubicBezTo>
                <a:cubicBezTo>
                  <a:pt x="150" y="80"/>
                  <a:pt x="152" y="78"/>
                  <a:pt x="152" y="76"/>
                </a:cubicBezTo>
                <a:cubicBezTo>
                  <a:pt x="152" y="74"/>
                  <a:pt x="150" y="72"/>
                  <a:pt x="148" y="72"/>
                </a:cubicBezTo>
                <a:cubicBezTo>
                  <a:pt x="116" y="72"/>
                  <a:pt x="116" y="72"/>
                  <a:pt x="116" y="72"/>
                </a:cubicBezTo>
                <a:cubicBezTo>
                  <a:pt x="114" y="72"/>
                  <a:pt x="112" y="74"/>
                  <a:pt x="112" y="76"/>
                </a:cubicBezTo>
                <a:cubicBezTo>
                  <a:pt x="112" y="78"/>
                  <a:pt x="114" y="80"/>
                  <a:pt x="116" y="80"/>
                </a:cubicBezTo>
                <a:moveTo>
                  <a:pt x="116" y="64"/>
                </a:moveTo>
                <a:cubicBezTo>
                  <a:pt x="132" y="64"/>
                  <a:pt x="132" y="64"/>
                  <a:pt x="132" y="64"/>
                </a:cubicBezTo>
                <a:cubicBezTo>
                  <a:pt x="134" y="64"/>
                  <a:pt x="136" y="62"/>
                  <a:pt x="136" y="60"/>
                </a:cubicBezTo>
                <a:cubicBezTo>
                  <a:pt x="136" y="58"/>
                  <a:pt x="134" y="56"/>
                  <a:pt x="132" y="56"/>
                </a:cubicBezTo>
                <a:cubicBezTo>
                  <a:pt x="116" y="56"/>
                  <a:pt x="116" y="56"/>
                  <a:pt x="116" y="56"/>
                </a:cubicBezTo>
                <a:cubicBezTo>
                  <a:pt x="114" y="56"/>
                  <a:pt x="112" y="58"/>
                  <a:pt x="112" y="60"/>
                </a:cubicBezTo>
                <a:cubicBezTo>
                  <a:pt x="112" y="62"/>
                  <a:pt x="114" y="64"/>
                  <a:pt x="116" y="64"/>
                </a:cubicBezTo>
                <a:moveTo>
                  <a:pt x="116" y="96"/>
                </a:moveTo>
                <a:cubicBezTo>
                  <a:pt x="132" y="96"/>
                  <a:pt x="132" y="96"/>
                  <a:pt x="132" y="96"/>
                </a:cubicBezTo>
                <a:cubicBezTo>
                  <a:pt x="134" y="96"/>
                  <a:pt x="136" y="94"/>
                  <a:pt x="136" y="92"/>
                </a:cubicBezTo>
                <a:cubicBezTo>
                  <a:pt x="136" y="90"/>
                  <a:pt x="134" y="88"/>
                  <a:pt x="132" y="88"/>
                </a:cubicBezTo>
                <a:cubicBezTo>
                  <a:pt x="116" y="88"/>
                  <a:pt x="116" y="88"/>
                  <a:pt x="116" y="88"/>
                </a:cubicBezTo>
                <a:cubicBezTo>
                  <a:pt x="114" y="88"/>
                  <a:pt x="112" y="90"/>
                  <a:pt x="112" y="92"/>
                </a:cubicBezTo>
                <a:cubicBezTo>
                  <a:pt x="112" y="94"/>
                  <a:pt x="114" y="96"/>
                  <a:pt x="116" y="96"/>
                </a:cubicBezTo>
                <a:moveTo>
                  <a:pt x="20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8"/>
                  <a:pt x="8" y="8"/>
                  <a:pt x="8" y="8"/>
                </a:cubicBezTo>
                <a:cubicBezTo>
                  <a:pt x="136" y="8"/>
                  <a:pt x="136" y="8"/>
                  <a:pt x="136" y="8"/>
                </a:cubicBezTo>
                <a:cubicBezTo>
                  <a:pt x="136" y="20"/>
                  <a:pt x="136" y="20"/>
                  <a:pt x="136" y="20"/>
                </a:cubicBezTo>
                <a:cubicBezTo>
                  <a:pt x="136" y="22"/>
                  <a:pt x="138" y="24"/>
                  <a:pt x="140" y="24"/>
                </a:cubicBezTo>
                <a:cubicBezTo>
                  <a:pt x="142" y="24"/>
                  <a:pt x="144" y="22"/>
                  <a:pt x="144" y="20"/>
                </a:cubicBezTo>
                <a:cubicBezTo>
                  <a:pt x="144" y="8"/>
                  <a:pt x="144" y="8"/>
                  <a:pt x="144" y="8"/>
                </a:cubicBezTo>
                <a:cubicBezTo>
                  <a:pt x="144" y="4"/>
                  <a:pt x="140" y="0"/>
                  <a:pt x="136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08"/>
                  <a:pt x="4" y="112"/>
                  <a:pt x="8" y="112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22" y="112"/>
                  <a:pt x="24" y="110"/>
                  <a:pt x="24" y="108"/>
                </a:cubicBezTo>
                <a:cubicBezTo>
                  <a:pt x="24" y="106"/>
                  <a:pt x="22" y="104"/>
                  <a:pt x="20" y="104"/>
                </a:cubicBezTo>
                <a:moveTo>
                  <a:pt x="60" y="96"/>
                </a:moveTo>
                <a:cubicBezTo>
                  <a:pt x="92" y="96"/>
                  <a:pt x="92" y="96"/>
                  <a:pt x="92" y="96"/>
                </a:cubicBezTo>
                <a:cubicBezTo>
                  <a:pt x="94" y="96"/>
                  <a:pt x="96" y="94"/>
                  <a:pt x="96" y="92"/>
                </a:cubicBezTo>
                <a:cubicBezTo>
                  <a:pt x="96" y="90"/>
                  <a:pt x="94" y="88"/>
                  <a:pt x="92" y="88"/>
                </a:cubicBezTo>
                <a:cubicBezTo>
                  <a:pt x="60" y="88"/>
                  <a:pt x="60" y="88"/>
                  <a:pt x="60" y="88"/>
                </a:cubicBezTo>
                <a:cubicBezTo>
                  <a:pt x="58" y="88"/>
                  <a:pt x="56" y="90"/>
                  <a:pt x="56" y="92"/>
                </a:cubicBezTo>
                <a:cubicBezTo>
                  <a:pt x="56" y="94"/>
                  <a:pt x="58" y="96"/>
                  <a:pt x="60" y="96"/>
                </a:cubicBezTo>
                <a:moveTo>
                  <a:pt x="168" y="32"/>
                </a:moveTo>
                <a:cubicBezTo>
                  <a:pt x="40" y="32"/>
                  <a:pt x="40" y="32"/>
                  <a:pt x="40" y="32"/>
                </a:cubicBezTo>
                <a:cubicBezTo>
                  <a:pt x="36" y="32"/>
                  <a:pt x="32" y="36"/>
                  <a:pt x="32" y="40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2" y="140"/>
                  <a:pt x="36" y="144"/>
                  <a:pt x="40" y="144"/>
                </a:cubicBezTo>
                <a:cubicBezTo>
                  <a:pt x="168" y="144"/>
                  <a:pt x="168" y="144"/>
                  <a:pt x="168" y="144"/>
                </a:cubicBezTo>
                <a:cubicBezTo>
                  <a:pt x="172" y="144"/>
                  <a:pt x="176" y="140"/>
                  <a:pt x="176" y="136"/>
                </a:cubicBezTo>
                <a:cubicBezTo>
                  <a:pt x="176" y="40"/>
                  <a:pt x="176" y="40"/>
                  <a:pt x="176" y="40"/>
                </a:cubicBezTo>
                <a:cubicBezTo>
                  <a:pt x="176" y="36"/>
                  <a:pt x="172" y="32"/>
                  <a:pt x="168" y="32"/>
                </a:cubicBezTo>
                <a:moveTo>
                  <a:pt x="168" y="136"/>
                </a:moveTo>
                <a:cubicBezTo>
                  <a:pt x="136" y="136"/>
                  <a:pt x="136" y="136"/>
                  <a:pt x="136" y="136"/>
                </a:cubicBezTo>
                <a:cubicBezTo>
                  <a:pt x="136" y="128"/>
                  <a:pt x="136" y="128"/>
                  <a:pt x="136" y="128"/>
                </a:cubicBezTo>
                <a:cubicBezTo>
                  <a:pt x="140" y="128"/>
                  <a:pt x="140" y="128"/>
                  <a:pt x="140" y="128"/>
                </a:cubicBezTo>
                <a:cubicBezTo>
                  <a:pt x="142" y="128"/>
                  <a:pt x="144" y="126"/>
                  <a:pt x="144" y="124"/>
                </a:cubicBezTo>
                <a:cubicBezTo>
                  <a:pt x="144" y="122"/>
                  <a:pt x="142" y="120"/>
                  <a:pt x="140" y="120"/>
                </a:cubicBezTo>
                <a:cubicBezTo>
                  <a:pt x="124" y="120"/>
                  <a:pt x="124" y="120"/>
                  <a:pt x="124" y="120"/>
                </a:cubicBezTo>
                <a:cubicBezTo>
                  <a:pt x="122" y="120"/>
                  <a:pt x="120" y="122"/>
                  <a:pt x="120" y="124"/>
                </a:cubicBezTo>
                <a:cubicBezTo>
                  <a:pt x="120" y="126"/>
                  <a:pt x="122" y="128"/>
                  <a:pt x="124" y="128"/>
                </a:cubicBezTo>
                <a:cubicBezTo>
                  <a:pt x="128" y="128"/>
                  <a:pt x="128" y="128"/>
                  <a:pt x="128" y="128"/>
                </a:cubicBezTo>
                <a:cubicBezTo>
                  <a:pt x="128" y="136"/>
                  <a:pt x="128" y="136"/>
                  <a:pt x="128" y="136"/>
                </a:cubicBezTo>
                <a:cubicBezTo>
                  <a:pt x="80" y="136"/>
                  <a:pt x="80" y="136"/>
                  <a:pt x="80" y="136"/>
                </a:cubicBezTo>
                <a:cubicBezTo>
                  <a:pt x="80" y="128"/>
                  <a:pt x="80" y="128"/>
                  <a:pt x="80" y="128"/>
                </a:cubicBezTo>
                <a:cubicBezTo>
                  <a:pt x="84" y="128"/>
                  <a:pt x="84" y="128"/>
                  <a:pt x="84" y="128"/>
                </a:cubicBezTo>
                <a:cubicBezTo>
                  <a:pt x="86" y="128"/>
                  <a:pt x="88" y="126"/>
                  <a:pt x="88" y="124"/>
                </a:cubicBezTo>
                <a:cubicBezTo>
                  <a:pt x="88" y="122"/>
                  <a:pt x="86" y="120"/>
                  <a:pt x="84" y="120"/>
                </a:cubicBezTo>
                <a:cubicBezTo>
                  <a:pt x="68" y="120"/>
                  <a:pt x="68" y="120"/>
                  <a:pt x="68" y="120"/>
                </a:cubicBezTo>
                <a:cubicBezTo>
                  <a:pt x="66" y="120"/>
                  <a:pt x="64" y="122"/>
                  <a:pt x="64" y="124"/>
                </a:cubicBezTo>
                <a:cubicBezTo>
                  <a:pt x="64" y="126"/>
                  <a:pt x="66" y="128"/>
                  <a:pt x="68" y="128"/>
                </a:cubicBezTo>
                <a:cubicBezTo>
                  <a:pt x="72" y="128"/>
                  <a:pt x="72" y="128"/>
                  <a:pt x="72" y="128"/>
                </a:cubicBezTo>
                <a:cubicBezTo>
                  <a:pt x="72" y="136"/>
                  <a:pt x="72" y="136"/>
                  <a:pt x="72" y="136"/>
                </a:cubicBezTo>
                <a:cubicBezTo>
                  <a:pt x="40" y="136"/>
                  <a:pt x="40" y="136"/>
                  <a:pt x="40" y="136"/>
                </a:cubicBezTo>
                <a:cubicBezTo>
                  <a:pt x="40" y="40"/>
                  <a:pt x="40" y="40"/>
                  <a:pt x="40" y="40"/>
                </a:cubicBezTo>
                <a:cubicBezTo>
                  <a:pt x="168" y="40"/>
                  <a:pt x="168" y="40"/>
                  <a:pt x="168" y="40"/>
                </a:cubicBezTo>
                <a:lnTo>
                  <a:pt x="168" y="136"/>
                </a:lnTo>
                <a:close/>
                <a:moveTo>
                  <a:pt x="60" y="80"/>
                </a:moveTo>
                <a:cubicBezTo>
                  <a:pt x="76" y="80"/>
                  <a:pt x="76" y="80"/>
                  <a:pt x="76" y="80"/>
                </a:cubicBezTo>
                <a:cubicBezTo>
                  <a:pt x="78" y="80"/>
                  <a:pt x="80" y="78"/>
                  <a:pt x="80" y="76"/>
                </a:cubicBezTo>
                <a:cubicBezTo>
                  <a:pt x="80" y="74"/>
                  <a:pt x="78" y="72"/>
                  <a:pt x="76" y="72"/>
                </a:cubicBezTo>
                <a:cubicBezTo>
                  <a:pt x="60" y="72"/>
                  <a:pt x="60" y="72"/>
                  <a:pt x="60" y="72"/>
                </a:cubicBezTo>
                <a:cubicBezTo>
                  <a:pt x="58" y="72"/>
                  <a:pt x="56" y="74"/>
                  <a:pt x="56" y="76"/>
                </a:cubicBezTo>
                <a:cubicBezTo>
                  <a:pt x="56" y="78"/>
                  <a:pt x="58" y="80"/>
                  <a:pt x="60" y="80"/>
                </a:cubicBezTo>
                <a:moveTo>
                  <a:pt x="60" y="64"/>
                </a:moveTo>
                <a:cubicBezTo>
                  <a:pt x="92" y="64"/>
                  <a:pt x="92" y="64"/>
                  <a:pt x="92" y="64"/>
                </a:cubicBezTo>
                <a:cubicBezTo>
                  <a:pt x="94" y="64"/>
                  <a:pt x="96" y="62"/>
                  <a:pt x="96" y="60"/>
                </a:cubicBezTo>
                <a:cubicBezTo>
                  <a:pt x="96" y="58"/>
                  <a:pt x="94" y="56"/>
                  <a:pt x="92" y="56"/>
                </a:cubicBezTo>
                <a:cubicBezTo>
                  <a:pt x="60" y="56"/>
                  <a:pt x="60" y="56"/>
                  <a:pt x="60" y="56"/>
                </a:cubicBezTo>
                <a:cubicBezTo>
                  <a:pt x="58" y="56"/>
                  <a:pt x="56" y="58"/>
                  <a:pt x="56" y="60"/>
                </a:cubicBezTo>
                <a:cubicBezTo>
                  <a:pt x="56" y="62"/>
                  <a:pt x="58" y="64"/>
                  <a:pt x="60" y="6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80" name="TextBox 34"/>
          <p:cNvSpPr/>
          <p:nvPr/>
        </p:nvSpPr>
        <p:spPr>
          <a:xfrm>
            <a:off x="541440" y="2014560"/>
            <a:ext cx="5013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81" name="Group 35"/>
          <p:cNvGrpSpPr/>
          <p:nvPr/>
        </p:nvGrpSpPr>
        <p:grpSpPr>
          <a:xfrm>
            <a:off x="679320" y="1698480"/>
            <a:ext cx="2160720" cy="71640"/>
            <a:chOff x="679320" y="1698480"/>
            <a:chExt cx="2160720" cy="71640"/>
          </a:xfrm>
        </p:grpSpPr>
        <p:sp>
          <p:nvSpPr>
            <p:cNvPr id="1482" name="Rectangle 36"/>
            <p:cNvSpPr/>
            <p:nvPr/>
          </p:nvSpPr>
          <p:spPr>
            <a:xfrm>
              <a:off x="1399680" y="1698480"/>
              <a:ext cx="720360" cy="7164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3" name="Rectangle 37"/>
            <p:cNvSpPr/>
            <p:nvPr/>
          </p:nvSpPr>
          <p:spPr>
            <a:xfrm>
              <a:off x="679320" y="169848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4" name="Rectangle 38"/>
            <p:cNvSpPr/>
            <p:nvPr/>
          </p:nvSpPr>
          <p:spPr>
            <a:xfrm>
              <a:off x="2119680" y="1698480"/>
              <a:ext cx="720360" cy="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pic>
        <p:nvPicPr>
          <p:cNvPr id="1485" name="" descr=""/>
          <p:cNvPicPr/>
          <p:nvPr/>
        </p:nvPicPr>
        <p:blipFill>
          <a:blip r:embed="rId3"/>
          <a:stretch/>
        </p:blipFill>
        <p:spPr>
          <a:xfrm>
            <a:off x="6378480" y="1393560"/>
            <a:ext cx="62373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0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500"/>
                            </p:stCondLst>
                            <p:childTnLst>
                              <p:par>
                                <p:cTn id="7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4430880"/>
          </a:xfrm>
          <a:prstGeom prst="rect">
            <a:avLst/>
          </a:prstGeom>
          <a:ln w="0">
            <a:noFill/>
          </a:ln>
        </p:spPr>
      </p:pic>
      <p:sp>
        <p:nvSpPr>
          <p:cNvPr id="1487" name="Rectangle 2"/>
          <p:cNvSpPr/>
          <p:nvPr/>
        </p:nvSpPr>
        <p:spPr>
          <a:xfrm>
            <a:off x="4941720" y="2122560"/>
            <a:ext cx="4616640" cy="4616280"/>
          </a:xfrm>
          <a:prstGeom prst="rect">
            <a:avLst/>
          </a:prstGeom>
          <a:noFill/>
          <a:ln w="28440">
            <a:solidFill>
              <a:srgbClr val="cad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88" name="Rectangle 7"/>
          <p:cNvSpPr/>
          <p:nvPr/>
        </p:nvSpPr>
        <p:spPr>
          <a:xfrm>
            <a:off x="3254400" y="3189240"/>
            <a:ext cx="7989840" cy="24829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89" name="TextBox 8"/>
          <p:cNvSpPr/>
          <p:nvPr/>
        </p:nvSpPr>
        <p:spPr>
          <a:xfrm>
            <a:off x="4286160" y="4424400"/>
            <a:ext cx="5927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2857320" y="3489120"/>
            <a:ext cx="87850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cad82a"/>
                </a:solidFill>
                <a:latin typeface="Roboto Slab"/>
              </a:rPr>
              <a:t>This Is A Break Slid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46" name="Rectangle 5"/>
          <p:cNvSpPr/>
          <p:nvPr/>
        </p:nvSpPr>
        <p:spPr>
          <a:xfrm>
            <a:off x="3220920" y="0"/>
            <a:ext cx="5749920" cy="4094280"/>
          </a:xfrm>
          <a:prstGeom prst="rect">
            <a:avLst/>
          </a:prstGeom>
          <a:solidFill>
            <a:srgbClr val="cad82a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7" name="Title 12"/>
          <p:cNvSpPr/>
          <p:nvPr/>
        </p:nvSpPr>
        <p:spPr>
          <a:xfrm>
            <a:off x="3220920" y="639720"/>
            <a:ext cx="574992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5400" spc="-1" strike="noStrike">
                <a:solidFill>
                  <a:srgbClr val="ffffff"/>
                </a:solidFill>
                <a:latin typeface="Roboto Slab"/>
                <a:ea typeface="Roboto Slab"/>
              </a:rPr>
              <a:t>Be a Voice.</a:t>
            </a:r>
            <a:endParaRPr b="0" lang="en-US" sz="5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5400" spc="-1" strike="noStrike">
                <a:solidFill>
                  <a:srgbClr val="ffffff"/>
                </a:solidFill>
                <a:latin typeface="Roboto Slab"/>
                <a:ea typeface="Roboto Slab"/>
              </a:rPr>
              <a:t>Not an Echo</a:t>
            </a:r>
            <a:endParaRPr b="0" lang="en-US" sz="5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8" name="Rectangle 7"/>
          <p:cNvSpPr/>
          <p:nvPr/>
        </p:nvSpPr>
        <p:spPr>
          <a:xfrm>
            <a:off x="3716280" y="2108160"/>
            <a:ext cx="4759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id-ID" sz="1600" spc="-1" strike="noStrike">
                <a:solidFill>
                  <a:srgbClr val="ffffff"/>
                </a:solidFill>
                <a:latin typeface="Open Sans"/>
              </a:rPr>
              <a:t>beatae vitae dicta sunt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that </a:t>
            </a: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we will bring the best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of the market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Social Media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492" name="Rectangle 5"/>
          <p:cNvSpPr/>
          <p:nvPr/>
        </p:nvSpPr>
        <p:spPr>
          <a:xfrm>
            <a:off x="7950240" y="5113440"/>
            <a:ext cx="595440" cy="595080"/>
          </a:xfrm>
          <a:prstGeom prst="rect">
            <a:avLst/>
          </a:pr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3" name="Freeform 6"/>
          <p:cNvSpPr/>
          <p:nvPr/>
        </p:nvSpPr>
        <p:spPr>
          <a:xfrm>
            <a:off x="8080200" y="5275440"/>
            <a:ext cx="335160" cy="271440"/>
          </a:xfrm>
          <a:custGeom>
            <a:avLst/>
            <a:gdLst/>
            <a:ahLst/>
            <a:rect l="l" t="t" r="r" b="b"/>
            <a:pathLst>
              <a:path w="287" h="234">
                <a:moveTo>
                  <a:pt x="287" y="28"/>
                </a:moveTo>
                <a:cubicBezTo>
                  <a:pt x="276" y="33"/>
                  <a:pt x="265" y="36"/>
                  <a:pt x="253" y="37"/>
                </a:cubicBezTo>
                <a:cubicBezTo>
                  <a:pt x="265" y="30"/>
                  <a:pt x="275" y="19"/>
                  <a:pt x="279" y="5"/>
                </a:cubicBezTo>
                <a:cubicBezTo>
                  <a:pt x="268" y="12"/>
                  <a:pt x="255" y="16"/>
                  <a:pt x="242" y="19"/>
                </a:cubicBezTo>
                <a:cubicBezTo>
                  <a:pt x="231" y="8"/>
                  <a:pt x="216" y="0"/>
                  <a:pt x="199" y="0"/>
                </a:cubicBezTo>
                <a:cubicBezTo>
                  <a:pt x="166" y="0"/>
                  <a:pt x="140" y="27"/>
                  <a:pt x="140" y="59"/>
                </a:cubicBezTo>
                <a:cubicBezTo>
                  <a:pt x="140" y="64"/>
                  <a:pt x="140" y="68"/>
                  <a:pt x="141" y="73"/>
                </a:cubicBezTo>
                <a:cubicBezTo>
                  <a:pt x="93" y="70"/>
                  <a:pt x="49" y="47"/>
                  <a:pt x="20" y="11"/>
                </a:cubicBezTo>
                <a:cubicBezTo>
                  <a:pt x="15" y="20"/>
                  <a:pt x="12" y="30"/>
                  <a:pt x="12" y="41"/>
                </a:cubicBezTo>
                <a:cubicBezTo>
                  <a:pt x="12" y="61"/>
                  <a:pt x="23" y="79"/>
                  <a:pt x="38" y="90"/>
                </a:cubicBezTo>
                <a:cubicBezTo>
                  <a:pt x="29" y="89"/>
                  <a:pt x="20" y="87"/>
                  <a:pt x="12" y="82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112"/>
                  <a:pt x="32" y="135"/>
                  <a:pt x="59" y="141"/>
                </a:cubicBezTo>
                <a:cubicBezTo>
                  <a:pt x="54" y="142"/>
                  <a:pt x="49" y="143"/>
                  <a:pt x="43" y="143"/>
                </a:cubicBezTo>
                <a:cubicBezTo>
                  <a:pt x="40" y="143"/>
                  <a:pt x="36" y="143"/>
                  <a:pt x="32" y="142"/>
                </a:cubicBezTo>
                <a:cubicBezTo>
                  <a:pt x="40" y="165"/>
                  <a:pt x="62" y="182"/>
                  <a:pt x="87" y="183"/>
                </a:cubicBezTo>
                <a:cubicBezTo>
                  <a:pt x="67" y="198"/>
                  <a:pt x="42" y="208"/>
                  <a:pt x="14" y="208"/>
                </a:cubicBezTo>
                <a:cubicBezTo>
                  <a:pt x="10" y="208"/>
                  <a:pt x="5" y="208"/>
                  <a:pt x="0" y="207"/>
                </a:cubicBezTo>
                <a:cubicBezTo>
                  <a:pt x="26" y="224"/>
                  <a:pt x="57" y="234"/>
                  <a:pt x="90" y="234"/>
                </a:cubicBezTo>
                <a:cubicBezTo>
                  <a:pt x="199" y="234"/>
                  <a:pt x="258" y="144"/>
                  <a:pt x="258" y="66"/>
                </a:cubicBezTo>
                <a:cubicBezTo>
                  <a:pt x="258" y="64"/>
                  <a:pt x="258" y="61"/>
                  <a:pt x="258" y="59"/>
                </a:cubicBezTo>
                <a:cubicBezTo>
                  <a:pt x="269" y="50"/>
                  <a:pt x="279" y="40"/>
                  <a:pt x="28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4" name="Freeform 258"/>
          <p:cNvSpPr/>
          <p:nvPr/>
        </p:nvSpPr>
        <p:spPr>
          <a:xfrm>
            <a:off x="3809880" y="4281480"/>
            <a:ext cx="333360" cy="746280"/>
          </a:xfrm>
          <a:custGeom>
            <a:avLst/>
            <a:gdLst/>
            <a:ahLst/>
            <a:rect l="l" t="t" r="r" b="b"/>
            <a:pathLst>
              <a:path w="829" h="1846">
                <a:moveTo>
                  <a:pt x="40" y="1845"/>
                </a:moveTo>
                <a:lnTo>
                  <a:pt x="40" y="1845"/>
                </a:lnTo>
                <a:lnTo>
                  <a:pt x="34" y="1845"/>
                </a:lnTo>
                <a:cubicBezTo>
                  <a:pt x="17" y="1840"/>
                  <a:pt x="0" y="1823"/>
                  <a:pt x="6" y="1805"/>
                </a:cubicBezTo>
                <a:cubicBezTo>
                  <a:pt x="17" y="1771"/>
                  <a:pt x="17" y="1771"/>
                  <a:pt x="17" y="1771"/>
                </a:cubicBezTo>
                <a:cubicBezTo>
                  <a:pt x="17" y="1748"/>
                  <a:pt x="40" y="1737"/>
                  <a:pt x="57" y="1742"/>
                </a:cubicBezTo>
                <a:cubicBezTo>
                  <a:pt x="74" y="1748"/>
                  <a:pt x="86" y="1765"/>
                  <a:pt x="86" y="1788"/>
                </a:cubicBezTo>
                <a:cubicBezTo>
                  <a:pt x="74" y="1823"/>
                  <a:pt x="74" y="1823"/>
                  <a:pt x="74" y="1823"/>
                </a:cubicBezTo>
                <a:cubicBezTo>
                  <a:pt x="74" y="1834"/>
                  <a:pt x="57" y="1845"/>
                  <a:pt x="40" y="1845"/>
                </a:cubicBezTo>
                <a:close/>
                <a:moveTo>
                  <a:pt x="86" y="1680"/>
                </a:moveTo>
                <a:lnTo>
                  <a:pt x="86" y="1680"/>
                </a:lnTo>
                <a:cubicBezTo>
                  <a:pt x="80" y="1680"/>
                  <a:pt x="80" y="1680"/>
                  <a:pt x="74" y="1680"/>
                </a:cubicBezTo>
                <a:cubicBezTo>
                  <a:pt x="57" y="1674"/>
                  <a:pt x="46" y="1657"/>
                  <a:pt x="51" y="1634"/>
                </a:cubicBezTo>
                <a:cubicBezTo>
                  <a:pt x="57" y="1600"/>
                  <a:pt x="57" y="1600"/>
                  <a:pt x="57" y="1600"/>
                </a:cubicBezTo>
                <a:cubicBezTo>
                  <a:pt x="63" y="1582"/>
                  <a:pt x="80" y="1571"/>
                  <a:pt x="103" y="1577"/>
                </a:cubicBezTo>
                <a:cubicBezTo>
                  <a:pt x="120" y="1582"/>
                  <a:pt x="131" y="1600"/>
                  <a:pt x="126" y="1623"/>
                </a:cubicBezTo>
                <a:cubicBezTo>
                  <a:pt x="120" y="1651"/>
                  <a:pt x="120" y="1651"/>
                  <a:pt x="120" y="1651"/>
                </a:cubicBezTo>
                <a:cubicBezTo>
                  <a:pt x="114" y="1668"/>
                  <a:pt x="97" y="1680"/>
                  <a:pt x="86" y="1680"/>
                </a:cubicBezTo>
                <a:close/>
                <a:moveTo>
                  <a:pt x="131" y="1514"/>
                </a:moveTo>
                <a:lnTo>
                  <a:pt x="131" y="1514"/>
                </a:lnTo>
                <a:cubicBezTo>
                  <a:pt x="126" y="1514"/>
                  <a:pt x="126" y="1514"/>
                  <a:pt x="120" y="1514"/>
                </a:cubicBezTo>
                <a:cubicBezTo>
                  <a:pt x="103" y="1508"/>
                  <a:pt x="91" y="1485"/>
                  <a:pt x="97" y="1468"/>
                </a:cubicBezTo>
                <a:cubicBezTo>
                  <a:pt x="108" y="1434"/>
                  <a:pt x="108" y="1434"/>
                  <a:pt x="108" y="1434"/>
                </a:cubicBezTo>
                <a:cubicBezTo>
                  <a:pt x="114" y="1417"/>
                  <a:pt x="131" y="1405"/>
                  <a:pt x="148" y="1411"/>
                </a:cubicBezTo>
                <a:cubicBezTo>
                  <a:pt x="171" y="1417"/>
                  <a:pt x="177" y="1440"/>
                  <a:pt x="171" y="1457"/>
                </a:cubicBezTo>
                <a:cubicBezTo>
                  <a:pt x="166" y="1491"/>
                  <a:pt x="166" y="1491"/>
                  <a:pt x="166" y="1491"/>
                </a:cubicBezTo>
                <a:cubicBezTo>
                  <a:pt x="160" y="1503"/>
                  <a:pt x="143" y="1514"/>
                  <a:pt x="131" y="1514"/>
                </a:cubicBezTo>
                <a:close/>
                <a:moveTo>
                  <a:pt x="183" y="1348"/>
                </a:moveTo>
                <a:lnTo>
                  <a:pt x="183" y="1348"/>
                </a:lnTo>
                <a:cubicBezTo>
                  <a:pt x="177" y="1348"/>
                  <a:pt x="171" y="1348"/>
                  <a:pt x="171" y="1348"/>
                </a:cubicBezTo>
                <a:cubicBezTo>
                  <a:pt x="154" y="1343"/>
                  <a:pt x="143" y="1320"/>
                  <a:pt x="148" y="1303"/>
                </a:cubicBezTo>
                <a:cubicBezTo>
                  <a:pt x="160" y="1268"/>
                  <a:pt x="160" y="1268"/>
                  <a:pt x="160" y="1268"/>
                </a:cubicBezTo>
                <a:cubicBezTo>
                  <a:pt x="166" y="1251"/>
                  <a:pt x="183" y="1240"/>
                  <a:pt x="206" y="1245"/>
                </a:cubicBezTo>
                <a:cubicBezTo>
                  <a:pt x="223" y="1251"/>
                  <a:pt x="234" y="1274"/>
                  <a:pt x="229" y="1291"/>
                </a:cubicBezTo>
                <a:cubicBezTo>
                  <a:pt x="217" y="1325"/>
                  <a:pt x="217" y="1325"/>
                  <a:pt x="217" y="1325"/>
                </a:cubicBezTo>
                <a:cubicBezTo>
                  <a:pt x="211" y="1343"/>
                  <a:pt x="194" y="1348"/>
                  <a:pt x="183" y="1348"/>
                </a:cubicBezTo>
                <a:close/>
                <a:moveTo>
                  <a:pt x="240" y="1188"/>
                </a:moveTo>
                <a:lnTo>
                  <a:pt x="240" y="1188"/>
                </a:lnTo>
                <a:cubicBezTo>
                  <a:pt x="234" y="1188"/>
                  <a:pt x="229" y="1188"/>
                  <a:pt x="229" y="1183"/>
                </a:cubicBezTo>
                <a:cubicBezTo>
                  <a:pt x="206" y="1177"/>
                  <a:pt x="200" y="1160"/>
                  <a:pt x="206" y="1137"/>
                </a:cubicBezTo>
                <a:cubicBezTo>
                  <a:pt x="217" y="1108"/>
                  <a:pt x="217" y="1108"/>
                  <a:pt x="217" y="1108"/>
                </a:cubicBezTo>
                <a:cubicBezTo>
                  <a:pt x="223" y="1085"/>
                  <a:pt x="246" y="1080"/>
                  <a:pt x="263" y="1085"/>
                </a:cubicBezTo>
                <a:cubicBezTo>
                  <a:pt x="280" y="1091"/>
                  <a:pt x="291" y="1114"/>
                  <a:pt x="286" y="1131"/>
                </a:cubicBezTo>
                <a:cubicBezTo>
                  <a:pt x="274" y="1165"/>
                  <a:pt x="274" y="1165"/>
                  <a:pt x="274" y="1165"/>
                </a:cubicBezTo>
                <a:cubicBezTo>
                  <a:pt x="268" y="1177"/>
                  <a:pt x="251" y="1188"/>
                  <a:pt x="240" y="1188"/>
                </a:cubicBezTo>
                <a:close/>
                <a:moveTo>
                  <a:pt x="297" y="1023"/>
                </a:moveTo>
                <a:lnTo>
                  <a:pt x="297" y="1023"/>
                </a:lnTo>
                <a:cubicBezTo>
                  <a:pt x="297" y="1023"/>
                  <a:pt x="291" y="1023"/>
                  <a:pt x="286" y="1023"/>
                </a:cubicBezTo>
                <a:cubicBezTo>
                  <a:pt x="268" y="1017"/>
                  <a:pt x="257" y="994"/>
                  <a:pt x="268" y="977"/>
                </a:cubicBezTo>
                <a:cubicBezTo>
                  <a:pt x="280" y="943"/>
                  <a:pt x="280" y="943"/>
                  <a:pt x="280" y="943"/>
                </a:cubicBezTo>
                <a:cubicBezTo>
                  <a:pt x="286" y="925"/>
                  <a:pt x="308" y="920"/>
                  <a:pt x="326" y="925"/>
                </a:cubicBezTo>
                <a:cubicBezTo>
                  <a:pt x="343" y="931"/>
                  <a:pt x="354" y="954"/>
                  <a:pt x="343" y="971"/>
                </a:cubicBezTo>
                <a:cubicBezTo>
                  <a:pt x="331" y="1006"/>
                  <a:pt x="331" y="1006"/>
                  <a:pt x="331" y="1006"/>
                </a:cubicBezTo>
                <a:cubicBezTo>
                  <a:pt x="326" y="1017"/>
                  <a:pt x="314" y="1023"/>
                  <a:pt x="297" y="1023"/>
                </a:cubicBezTo>
                <a:close/>
                <a:moveTo>
                  <a:pt x="366" y="868"/>
                </a:moveTo>
                <a:lnTo>
                  <a:pt x="366" y="868"/>
                </a:lnTo>
                <a:cubicBezTo>
                  <a:pt x="360" y="868"/>
                  <a:pt x="354" y="863"/>
                  <a:pt x="354" y="863"/>
                </a:cubicBezTo>
                <a:cubicBezTo>
                  <a:pt x="331" y="857"/>
                  <a:pt x="326" y="834"/>
                  <a:pt x="331" y="817"/>
                </a:cubicBezTo>
                <a:cubicBezTo>
                  <a:pt x="348" y="783"/>
                  <a:pt x="348" y="783"/>
                  <a:pt x="348" y="783"/>
                </a:cubicBezTo>
                <a:cubicBezTo>
                  <a:pt x="354" y="766"/>
                  <a:pt x="377" y="760"/>
                  <a:pt x="394" y="766"/>
                </a:cubicBezTo>
                <a:cubicBezTo>
                  <a:pt x="411" y="777"/>
                  <a:pt x="423" y="794"/>
                  <a:pt x="411" y="811"/>
                </a:cubicBezTo>
                <a:cubicBezTo>
                  <a:pt x="400" y="846"/>
                  <a:pt x="400" y="846"/>
                  <a:pt x="400" y="846"/>
                </a:cubicBezTo>
                <a:cubicBezTo>
                  <a:pt x="394" y="857"/>
                  <a:pt x="377" y="868"/>
                  <a:pt x="366" y="868"/>
                </a:cubicBezTo>
                <a:close/>
                <a:moveTo>
                  <a:pt x="440" y="708"/>
                </a:moveTo>
                <a:lnTo>
                  <a:pt x="440" y="708"/>
                </a:lnTo>
                <a:cubicBezTo>
                  <a:pt x="434" y="708"/>
                  <a:pt x="428" y="708"/>
                  <a:pt x="423" y="708"/>
                </a:cubicBezTo>
                <a:cubicBezTo>
                  <a:pt x="406" y="697"/>
                  <a:pt x="394" y="674"/>
                  <a:pt x="406" y="657"/>
                </a:cubicBezTo>
                <a:cubicBezTo>
                  <a:pt x="423" y="628"/>
                  <a:pt x="423" y="628"/>
                  <a:pt x="423" y="628"/>
                </a:cubicBezTo>
                <a:cubicBezTo>
                  <a:pt x="428" y="611"/>
                  <a:pt x="451" y="600"/>
                  <a:pt x="468" y="611"/>
                </a:cubicBezTo>
                <a:cubicBezTo>
                  <a:pt x="486" y="617"/>
                  <a:pt x="491" y="640"/>
                  <a:pt x="486" y="657"/>
                </a:cubicBezTo>
                <a:cubicBezTo>
                  <a:pt x="468" y="691"/>
                  <a:pt x="468" y="691"/>
                  <a:pt x="468" y="691"/>
                </a:cubicBezTo>
                <a:cubicBezTo>
                  <a:pt x="463" y="703"/>
                  <a:pt x="451" y="708"/>
                  <a:pt x="440" y="708"/>
                </a:cubicBezTo>
                <a:close/>
                <a:moveTo>
                  <a:pt x="514" y="554"/>
                </a:moveTo>
                <a:lnTo>
                  <a:pt x="514" y="554"/>
                </a:lnTo>
                <a:cubicBezTo>
                  <a:pt x="508" y="554"/>
                  <a:pt x="503" y="554"/>
                  <a:pt x="497" y="549"/>
                </a:cubicBezTo>
                <a:cubicBezTo>
                  <a:pt x="480" y="543"/>
                  <a:pt x="474" y="520"/>
                  <a:pt x="480" y="503"/>
                </a:cubicBezTo>
                <a:cubicBezTo>
                  <a:pt x="497" y="474"/>
                  <a:pt x="497" y="474"/>
                  <a:pt x="497" y="474"/>
                </a:cubicBezTo>
                <a:cubicBezTo>
                  <a:pt x="508" y="457"/>
                  <a:pt x="526" y="446"/>
                  <a:pt x="543" y="457"/>
                </a:cubicBezTo>
                <a:cubicBezTo>
                  <a:pt x="560" y="463"/>
                  <a:pt x="571" y="486"/>
                  <a:pt x="560" y="503"/>
                </a:cubicBezTo>
                <a:cubicBezTo>
                  <a:pt x="543" y="537"/>
                  <a:pt x="543" y="537"/>
                  <a:pt x="543" y="537"/>
                </a:cubicBezTo>
                <a:cubicBezTo>
                  <a:pt x="537" y="549"/>
                  <a:pt x="526" y="554"/>
                  <a:pt x="514" y="554"/>
                </a:cubicBezTo>
                <a:close/>
                <a:moveTo>
                  <a:pt x="594" y="400"/>
                </a:moveTo>
                <a:lnTo>
                  <a:pt x="594" y="400"/>
                </a:lnTo>
                <a:cubicBezTo>
                  <a:pt x="588" y="400"/>
                  <a:pt x="583" y="400"/>
                  <a:pt x="577" y="400"/>
                </a:cubicBezTo>
                <a:cubicBezTo>
                  <a:pt x="560" y="389"/>
                  <a:pt x="554" y="366"/>
                  <a:pt x="560" y="349"/>
                </a:cubicBezTo>
                <a:cubicBezTo>
                  <a:pt x="577" y="320"/>
                  <a:pt x="577" y="320"/>
                  <a:pt x="577" y="320"/>
                </a:cubicBezTo>
                <a:cubicBezTo>
                  <a:pt x="588" y="303"/>
                  <a:pt x="611" y="297"/>
                  <a:pt x="628" y="303"/>
                </a:cubicBezTo>
                <a:cubicBezTo>
                  <a:pt x="646" y="314"/>
                  <a:pt x="651" y="337"/>
                  <a:pt x="640" y="354"/>
                </a:cubicBezTo>
                <a:cubicBezTo>
                  <a:pt x="623" y="383"/>
                  <a:pt x="623" y="383"/>
                  <a:pt x="623" y="383"/>
                </a:cubicBezTo>
                <a:cubicBezTo>
                  <a:pt x="617" y="394"/>
                  <a:pt x="606" y="400"/>
                  <a:pt x="594" y="400"/>
                </a:cubicBezTo>
                <a:close/>
                <a:moveTo>
                  <a:pt x="680" y="251"/>
                </a:moveTo>
                <a:lnTo>
                  <a:pt x="680" y="251"/>
                </a:lnTo>
                <a:cubicBezTo>
                  <a:pt x="674" y="251"/>
                  <a:pt x="668" y="251"/>
                  <a:pt x="663" y="246"/>
                </a:cubicBezTo>
                <a:cubicBezTo>
                  <a:pt x="646" y="234"/>
                  <a:pt x="640" y="217"/>
                  <a:pt x="646" y="200"/>
                </a:cubicBezTo>
                <a:cubicBezTo>
                  <a:pt x="663" y="166"/>
                  <a:pt x="663" y="166"/>
                  <a:pt x="663" y="166"/>
                </a:cubicBezTo>
                <a:cubicBezTo>
                  <a:pt x="674" y="154"/>
                  <a:pt x="697" y="149"/>
                  <a:pt x="714" y="154"/>
                </a:cubicBezTo>
                <a:cubicBezTo>
                  <a:pt x="731" y="166"/>
                  <a:pt x="737" y="189"/>
                  <a:pt x="725" y="206"/>
                </a:cubicBezTo>
                <a:cubicBezTo>
                  <a:pt x="708" y="234"/>
                  <a:pt x="708" y="234"/>
                  <a:pt x="708" y="234"/>
                </a:cubicBezTo>
                <a:cubicBezTo>
                  <a:pt x="703" y="246"/>
                  <a:pt x="691" y="251"/>
                  <a:pt x="680" y="251"/>
                </a:cubicBezTo>
                <a:close/>
                <a:moveTo>
                  <a:pt x="765" y="103"/>
                </a:moveTo>
                <a:lnTo>
                  <a:pt x="765" y="103"/>
                </a:lnTo>
                <a:cubicBezTo>
                  <a:pt x="760" y="103"/>
                  <a:pt x="754" y="103"/>
                  <a:pt x="748" y="97"/>
                </a:cubicBezTo>
                <a:cubicBezTo>
                  <a:pt x="731" y="86"/>
                  <a:pt x="725" y="69"/>
                  <a:pt x="737" y="51"/>
                </a:cubicBezTo>
                <a:cubicBezTo>
                  <a:pt x="754" y="23"/>
                  <a:pt x="754" y="23"/>
                  <a:pt x="754" y="23"/>
                </a:cubicBezTo>
                <a:cubicBezTo>
                  <a:pt x="765" y="6"/>
                  <a:pt x="788" y="0"/>
                  <a:pt x="805" y="11"/>
                </a:cubicBezTo>
                <a:cubicBezTo>
                  <a:pt x="823" y="23"/>
                  <a:pt x="828" y="40"/>
                  <a:pt x="817" y="57"/>
                </a:cubicBezTo>
                <a:cubicBezTo>
                  <a:pt x="800" y="86"/>
                  <a:pt x="800" y="86"/>
                  <a:pt x="800" y="86"/>
                </a:cubicBezTo>
                <a:cubicBezTo>
                  <a:pt x="788" y="97"/>
                  <a:pt x="777" y="103"/>
                  <a:pt x="765" y="103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5" name="Freeform 261"/>
          <p:cNvSpPr/>
          <p:nvPr/>
        </p:nvSpPr>
        <p:spPr>
          <a:xfrm>
            <a:off x="4834080" y="3257640"/>
            <a:ext cx="765000" cy="333360"/>
          </a:xfrm>
          <a:custGeom>
            <a:avLst/>
            <a:gdLst/>
            <a:ahLst/>
            <a:rect l="l" t="t" r="r" b="b"/>
            <a:pathLst>
              <a:path w="1897" h="829">
                <a:moveTo>
                  <a:pt x="40" y="828"/>
                </a:moveTo>
                <a:lnTo>
                  <a:pt x="40" y="828"/>
                </a:lnTo>
                <a:cubicBezTo>
                  <a:pt x="28" y="828"/>
                  <a:pt x="17" y="822"/>
                  <a:pt x="11" y="811"/>
                </a:cubicBezTo>
                <a:cubicBezTo>
                  <a:pt x="0" y="794"/>
                  <a:pt x="6" y="771"/>
                  <a:pt x="23" y="759"/>
                </a:cubicBezTo>
                <a:cubicBezTo>
                  <a:pt x="51" y="742"/>
                  <a:pt x="51" y="742"/>
                  <a:pt x="51" y="742"/>
                </a:cubicBezTo>
                <a:cubicBezTo>
                  <a:pt x="68" y="731"/>
                  <a:pt x="91" y="736"/>
                  <a:pt x="97" y="754"/>
                </a:cubicBezTo>
                <a:cubicBezTo>
                  <a:pt x="108" y="771"/>
                  <a:pt x="103" y="794"/>
                  <a:pt x="85" y="805"/>
                </a:cubicBezTo>
                <a:cubicBezTo>
                  <a:pt x="57" y="822"/>
                  <a:pt x="57" y="822"/>
                  <a:pt x="57" y="822"/>
                </a:cubicBezTo>
                <a:cubicBezTo>
                  <a:pt x="51" y="828"/>
                  <a:pt x="45" y="828"/>
                  <a:pt x="40" y="828"/>
                </a:cubicBezTo>
                <a:close/>
                <a:moveTo>
                  <a:pt x="188" y="736"/>
                </a:moveTo>
                <a:lnTo>
                  <a:pt x="188" y="736"/>
                </a:lnTo>
                <a:cubicBezTo>
                  <a:pt x="177" y="736"/>
                  <a:pt x="166" y="731"/>
                  <a:pt x="160" y="719"/>
                </a:cubicBezTo>
                <a:cubicBezTo>
                  <a:pt x="148" y="702"/>
                  <a:pt x="154" y="679"/>
                  <a:pt x="171" y="668"/>
                </a:cubicBezTo>
                <a:cubicBezTo>
                  <a:pt x="200" y="651"/>
                  <a:pt x="200" y="651"/>
                  <a:pt x="200" y="651"/>
                </a:cubicBezTo>
                <a:cubicBezTo>
                  <a:pt x="217" y="639"/>
                  <a:pt x="240" y="645"/>
                  <a:pt x="251" y="662"/>
                </a:cubicBezTo>
                <a:cubicBezTo>
                  <a:pt x="263" y="679"/>
                  <a:pt x="257" y="702"/>
                  <a:pt x="240" y="714"/>
                </a:cubicBezTo>
                <a:cubicBezTo>
                  <a:pt x="205" y="731"/>
                  <a:pt x="205" y="731"/>
                  <a:pt x="205" y="731"/>
                </a:cubicBezTo>
                <a:cubicBezTo>
                  <a:pt x="200" y="736"/>
                  <a:pt x="194" y="736"/>
                  <a:pt x="188" y="736"/>
                </a:cubicBezTo>
                <a:close/>
                <a:moveTo>
                  <a:pt x="342" y="645"/>
                </a:moveTo>
                <a:lnTo>
                  <a:pt x="342" y="645"/>
                </a:lnTo>
                <a:cubicBezTo>
                  <a:pt x="331" y="645"/>
                  <a:pt x="320" y="639"/>
                  <a:pt x="314" y="628"/>
                </a:cubicBezTo>
                <a:cubicBezTo>
                  <a:pt x="303" y="611"/>
                  <a:pt x="308" y="588"/>
                  <a:pt x="325" y="582"/>
                </a:cubicBezTo>
                <a:cubicBezTo>
                  <a:pt x="354" y="565"/>
                  <a:pt x="354" y="565"/>
                  <a:pt x="354" y="565"/>
                </a:cubicBezTo>
                <a:cubicBezTo>
                  <a:pt x="371" y="554"/>
                  <a:pt x="394" y="559"/>
                  <a:pt x="405" y="576"/>
                </a:cubicBezTo>
                <a:cubicBezTo>
                  <a:pt x="417" y="594"/>
                  <a:pt x="405" y="617"/>
                  <a:pt x="388" y="628"/>
                </a:cubicBezTo>
                <a:cubicBezTo>
                  <a:pt x="360" y="645"/>
                  <a:pt x="360" y="645"/>
                  <a:pt x="360" y="645"/>
                </a:cubicBezTo>
                <a:cubicBezTo>
                  <a:pt x="354" y="645"/>
                  <a:pt x="348" y="645"/>
                  <a:pt x="342" y="645"/>
                </a:cubicBezTo>
                <a:close/>
                <a:moveTo>
                  <a:pt x="497" y="565"/>
                </a:moveTo>
                <a:lnTo>
                  <a:pt x="497" y="565"/>
                </a:lnTo>
                <a:cubicBezTo>
                  <a:pt x="485" y="565"/>
                  <a:pt x="474" y="559"/>
                  <a:pt x="468" y="548"/>
                </a:cubicBezTo>
                <a:cubicBezTo>
                  <a:pt x="457" y="531"/>
                  <a:pt x="463" y="508"/>
                  <a:pt x="480" y="497"/>
                </a:cubicBezTo>
                <a:cubicBezTo>
                  <a:pt x="514" y="479"/>
                  <a:pt x="514" y="479"/>
                  <a:pt x="514" y="479"/>
                </a:cubicBezTo>
                <a:cubicBezTo>
                  <a:pt x="531" y="474"/>
                  <a:pt x="554" y="479"/>
                  <a:pt x="560" y="497"/>
                </a:cubicBezTo>
                <a:cubicBezTo>
                  <a:pt x="571" y="514"/>
                  <a:pt x="565" y="536"/>
                  <a:pt x="548" y="542"/>
                </a:cubicBezTo>
                <a:cubicBezTo>
                  <a:pt x="514" y="559"/>
                  <a:pt x="514" y="559"/>
                  <a:pt x="514" y="559"/>
                </a:cubicBezTo>
                <a:cubicBezTo>
                  <a:pt x="508" y="565"/>
                  <a:pt x="502" y="565"/>
                  <a:pt x="497" y="565"/>
                </a:cubicBezTo>
                <a:close/>
                <a:moveTo>
                  <a:pt x="657" y="485"/>
                </a:moveTo>
                <a:lnTo>
                  <a:pt x="657" y="485"/>
                </a:lnTo>
                <a:cubicBezTo>
                  <a:pt x="645" y="485"/>
                  <a:pt x="628" y="479"/>
                  <a:pt x="623" y="468"/>
                </a:cubicBezTo>
                <a:cubicBezTo>
                  <a:pt x="617" y="451"/>
                  <a:pt x="623" y="428"/>
                  <a:pt x="640" y="417"/>
                </a:cubicBezTo>
                <a:cubicBezTo>
                  <a:pt x="674" y="405"/>
                  <a:pt x="674" y="405"/>
                  <a:pt x="674" y="405"/>
                </a:cubicBezTo>
                <a:cubicBezTo>
                  <a:pt x="691" y="394"/>
                  <a:pt x="714" y="405"/>
                  <a:pt x="720" y="422"/>
                </a:cubicBezTo>
                <a:cubicBezTo>
                  <a:pt x="731" y="439"/>
                  <a:pt x="720" y="462"/>
                  <a:pt x="702" y="468"/>
                </a:cubicBezTo>
                <a:cubicBezTo>
                  <a:pt x="674" y="485"/>
                  <a:pt x="674" y="485"/>
                  <a:pt x="674" y="485"/>
                </a:cubicBezTo>
                <a:cubicBezTo>
                  <a:pt x="668" y="485"/>
                  <a:pt x="662" y="485"/>
                  <a:pt x="657" y="485"/>
                </a:cubicBezTo>
                <a:close/>
                <a:moveTo>
                  <a:pt x="817" y="411"/>
                </a:moveTo>
                <a:lnTo>
                  <a:pt x="817" y="411"/>
                </a:lnTo>
                <a:cubicBezTo>
                  <a:pt x="805" y="411"/>
                  <a:pt x="788" y="405"/>
                  <a:pt x="783" y="394"/>
                </a:cubicBezTo>
                <a:cubicBezTo>
                  <a:pt x="777" y="376"/>
                  <a:pt x="783" y="354"/>
                  <a:pt x="805" y="348"/>
                </a:cubicBezTo>
                <a:cubicBezTo>
                  <a:pt x="834" y="331"/>
                  <a:pt x="834" y="331"/>
                  <a:pt x="834" y="331"/>
                </a:cubicBezTo>
                <a:cubicBezTo>
                  <a:pt x="851" y="325"/>
                  <a:pt x="874" y="331"/>
                  <a:pt x="880" y="348"/>
                </a:cubicBezTo>
                <a:cubicBezTo>
                  <a:pt x="891" y="365"/>
                  <a:pt x="880" y="388"/>
                  <a:pt x="862" y="394"/>
                </a:cubicBezTo>
                <a:cubicBezTo>
                  <a:pt x="834" y="411"/>
                  <a:pt x="834" y="411"/>
                  <a:pt x="834" y="411"/>
                </a:cubicBezTo>
                <a:cubicBezTo>
                  <a:pt x="828" y="411"/>
                  <a:pt x="822" y="411"/>
                  <a:pt x="817" y="411"/>
                </a:cubicBezTo>
                <a:close/>
                <a:moveTo>
                  <a:pt x="982" y="348"/>
                </a:moveTo>
                <a:lnTo>
                  <a:pt x="982" y="348"/>
                </a:lnTo>
                <a:cubicBezTo>
                  <a:pt x="965" y="348"/>
                  <a:pt x="954" y="337"/>
                  <a:pt x="948" y="325"/>
                </a:cubicBezTo>
                <a:cubicBezTo>
                  <a:pt x="937" y="302"/>
                  <a:pt x="948" y="285"/>
                  <a:pt x="965" y="279"/>
                </a:cubicBezTo>
                <a:cubicBezTo>
                  <a:pt x="1000" y="262"/>
                  <a:pt x="1000" y="262"/>
                  <a:pt x="1000" y="262"/>
                </a:cubicBezTo>
                <a:cubicBezTo>
                  <a:pt x="1017" y="257"/>
                  <a:pt x="1040" y="268"/>
                  <a:pt x="1045" y="285"/>
                </a:cubicBezTo>
                <a:cubicBezTo>
                  <a:pt x="1051" y="302"/>
                  <a:pt x="1045" y="325"/>
                  <a:pt x="1028" y="331"/>
                </a:cubicBezTo>
                <a:cubicBezTo>
                  <a:pt x="994" y="342"/>
                  <a:pt x="994" y="342"/>
                  <a:pt x="994" y="342"/>
                </a:cubicBezTo>
                <a:cubicBezTo>
                  <a:pt x="988" y="342"/>
                  <a:pt x="982" y="348"/>
                  <a:pt x="982" y="348"/>
                </a:cubicBezTo>
                <a:close/>
                <a:moveTo>
                  <a:pt x="1142" y="279"/>
                </a:moveTo>
                <a:lnTo>
                  <a:pt x="1142" y="279"/>
                </a:lnTo>
                <a:cubicBezTo>
                  <a:pt x="1131" y="279"/>
                  <a:pt x="1114" y="274"/>
                  <a:pt x="1114" y="257"/>
                </a:cubicBezTo>
                <a:cubicBezTo>
                  <a:pt x="1102" y="239"/>
                  <a:pt x="1114" y="222"/>
                  <a:pt x="1131" y="211"/>
                </a:cubicBezTo>
                <a:cubicBezTo>
                  <a:pt x="1165" y="200"/>
                  <a:pt x="1165" y="200"/>
                  <a:pt x="1165" y="200"/>
                </a:cubicBezTo>
                <a:cubicBezTo>
                  <a:pt x="1182" y="194"/>
                  <a:pt x="1205" y="205"/>
                  <a:pt x="1211" y="222"/>
                </a:cubicBezTo>
                <a:cubicBezTo>
                  <a:pt x="1217" y="239"/>
                  <a:pt x="1211" y="262"/>
                  <a:pt x="1188" y="268"/>
                </a:cubicBezTo>
                <a:cubicBezTo>
                  <a:pt x="1159" y="279"/>
                  <a:pt x="1159" y="279"/>
                  <a:pt x="1159" y="279"/>
                </a:cubicBezTo>
                <a:cubicBezTo>
                  <a:pt x="1154" y="279"/>
                  <a:pt x="1148" y="279"/>
                  <a:pt x="1142" y="279"/>
                </a:cubicBezTo>
                <a:close/>
                <a:moveTo>
                  <a:pt x="1314" y="222"/>
                </a:moveTo>
                <a:lnTo>
                  <a:pt x="1314" y="222"/>
                </a:lnTo>
                <a:cubicBezTo>
                  <a:pt x="1297" y="222"/>
                  <a:pt x="1285" y="217"/>
                  <a:pt x="1279" y="200"/>
                </a:cubicBezTo>
                <a:cubicBezTo>
                  <a:pt x="1274" y="182"/>
                  <a:pt x="1279" y="159"/>
                  <a:pt x="1302" y="154"/>
                </a:cubicBezTo>
                <a:cubicBezTo>
                  <a:pt x="1337" y="142"/>
                  <a:pt x="1337" y="142"/>
                  <a:pt x="1337" y="142"/>
                </a:cubicBezTo>
                <a:cubicBezTo>
                  <a:pt x="1354" y="137"/>
                  <a:pt x="1371" y="148"/>
                  <a:pt x="1377" y="165"/>
                </a:cubicBezTo>
                <a:cubicBezTo>
                  <a:pt x="1382" y="188"/>
                  <a:pt x="1377" y="205"/>
                  <a:pt x="1354" y="211"/>
                </a:cubicBezTo>
                <a:cubicBezTo>
                  <a:pt x="1319" y="222"/>
                  <a:pt x="1319" y="222"/>
                  <a:pt x="1319" y="222"/>
                </a:cubicBezTo>
                <a:lnTo>
                  <a:pt x="1314" y="222"/>
                </a:lnTo>
                <a:close/>
                <a:moveTo>
                  <a:pt x="1479" y="171"/>
                </a:moveTo>
                <a:lnTo>
                  <a:pt x="1479" y="171"/>
                </a:lnTo>
                <a:cubicBezTo>
                  <a:pt x="1462" y="171"/>
                  <a:pt x="1451" y="159"/>
                  <a:pt x="1445" y="148"/>
                </a:cubicBezTo>
                <a:cubicBezTo>
                  <a:pt x="1439" y="125"/>
                  <a:pt x="1451" y="108"/>
                  <a:pt x="1468" y="102"/>
                </a:cubicBezTo>
                <a:cubicBezTo>
                  <a:pt x="1502" y="91"/>
                  <a:pt x="1502" y="91"/>
                  <a:pt x="1502" y="91"/>
                </a:cubicBezTo>
                <a:cubicBezTo>
                  <a:pt x="1525" y="85"/>
                  <a:pt x="1542" y="97"/>
                  <a:pt x="1548" y="114"/>
                </a:cubicBezTo>
                <a:cubicBezTo>
                  <a:pt x="1554" y="137"/>
                  <a:pt x="1542" y="154"/>
                  <a:pt x="1525" y="159"/>
                </a:cubicBezTo>
                <a:cubicBezTo>
                  <a:pt x="1491" y="171"/>
                  <a:pt x="1491" y="171"/>
                  <a:pt x="1491" y="171"/>
                </a:cubicBezTo>
                <a:cubicBezTo>
                  <a:pt x="1485" y="171"/>
                  <a:pt x="1485" y="171"/>
                  <a:pt x="1479" y="171"/>
                </a:cubicBezTo>
                <a:close/>
                <a:moveTo>
                  <a:pt x="1651" y="125"/>
                </a:moveTo>
                <a:lnTo>
                  <a:pt x="1651" y="125"/>
                </a:lnTo>
                <a:cubicBezTo>
                  <a:pt x="1634" y="125"/>
                  <a:pt x="1617" y="114"/>
                  <a:pt x="1617" y="97"/>
                </a:cubicBezTo>
                <a:cubicBezTo>
                  <a:pt x="1611" y="79"/>
                  <a:pt x="1622" y="57"/>
                  <a:pt x="1639" y="51"/>
                </a:cubicBezTo>
                <a:cubicBezTo>
                  <a:pt x="1674" y="45"/>
                  <a:pt x="1674" y="45"/>
                  <a:pt x="1674" y="45"/>
                </a:cubicBezTo>
                <a:cubicBezTo>
                  <a:pt x="1691" y="40"/>
                  <a:pt x="1714" y="51"/>
                  <a:pt x="1719" y="68"/>
                </a:cubicBezTo>
                <a:cubicBezTo>
                  <a:pt x="1725" y="91"/>
                  <a:pt x="1714" y="108"/>
                  <a:pt x="1691" y="114"/>
                </a:cubicBezTo>
                <a:cubicBezTo>
                  <a:pt x="1657" y="125"/>
                  <a:pt x="1657" y="125"/>
                  <a:pt x="1657" y="125"/>
                </a:cubicBezTo>
                <a:lnTo>
                  <a:pt x="1651" y="125"/>
                </a:lnTo>
                <a:close/>
                <a:moveTo>
                  <a:pt x="1822" y="79"/>
                </a:moveTo>
                <a:lnTo>
                  <a:pt x="1822" y="79"/>
                </a:lnTo>
                <a:cubicBezTo>
                  <a:pt x="1805" y="79"/>
                  <a:pt x="1788" y="68"/>
                  <a:pt x="1788" y="51"/>
                </a:cubicBezTo>
                <a:cubicBezTo>
                  <a:pt x="1782" y="34"/>
                  <a:pt x="1794" y="17"/>
                  <a:pt x="1811" y="11"/>
                </a:cubicBezTo>
                <a:cubicBezTo>
                  <a:pt x="1845" y="5"/>
                  <a:pt x="1845" y="5"/>
                  <a:pt x="1845" y="5"/>
                </a:cubicBezTo>
                <a:cubicBezTo>
                  <a:pt x="1868" y="0"/>
                  <a:pt x="1885" y="11"/>
                  <a:pt x="1891" y="28"/>
                </a:cubicBezTo>
                <a:cubicBezTo>
                  <a:pt x="1896" y="51"/>
                  <a:pt x="1879" y="68"/>
                  <a:pt x="1862" y="74"/>
                </a:cubicBezTo>
                <a:cubicBezTo>
                  <a:pt x="1828" y="79"/>
                  <a:pt x="1828" y="79"/>
                  <a:pt x="1828" y="79"/>
                </a:cubicBezTo>
                <a:lnTo>
                  <a:pt x="1822" y="79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6" name="Freeform 264"/>
          <p:cNvSpPr/>
          <p:nvPr/>
        </p:nvSpPr>
        <p:spPr>
          <a:xfrm>
            <a:off x="6576840" y="3252960"/>
            <a:ext cx="777960" cy="334800"/>
          </a:xfrm>
          <a:custGeom>
            <a:avLst/>
            <a:gdLst/>
            <a:ahLst/>
            <a:rect l="l" t="t" r="r" b="b"/>
            <a:pathLst>
              <a:path w="1926" h="835">
                <a:moveTo>
                  <a:pt x="1885" y="834"/>
                </a:moveTo>
                <a:lnTo>
                  <a:pt x="1885" y="834"/>
                </a:lnTo>
                <a:cubicBezTo>
                  <a:pt x="1880" y="834"/>
                  <a:pt x="1874" y="834"/>
                  <a:pt x="1868" y="829"/>
                </a:cubicBezTo>
                <a:cubicBezTo>
                  <a:pt x="1840" y="811"/>
                  <a:pt x="1840" y="811"/>
                  <a:pt x="1840" y="811"/>
                </a:cubicBezTo>
                <a:cubicBezTo>
                  <a:pt x="1823" y="800"/>
                  <a:pt x="1817" y="777"/>
                  <a:pt x="1828" y="760"/>
                </a:cubicBezTo>
                <a:cubicBezTo>
                  <a:pt x="1840" y="743"/>
                  <a:pt x="1857" y="737"/>
                  <a:pt x="1874" y="748"/>
                </a:cubicBezTo>
                <a:cubicBezTo>
                  <a:pt x="1908" y="766"/>
                  <a:pt x="1908" y="766"/>
                  <a:pt x="1908" y="766"/>
                </a:cubicBezTo>
                <a:cubicBezTo>
                  <a:pt x="1925" y="777"/>
                  <a:pt x="1925" y="800"/>
                  <a:pt x="1920" y="817"/>
                </a:cubicBezTo>
                <a:cubicBezTo>
                  <a:pt x="1908" y="829"/>
                  <a:pt x="1897" y="834"/>
                  <a:pt x="1885" y="834"/>
                </a:cubicBezTo>
                <a:close/>
                <a:moveTo>
                  <a:pt x="1737" y="737"/>
                </a:moveTo>
                <a:lnTo>
                  <a:pt x="1737" y="737"/>
                </a:lnTo>
                <a:cubicBezTo>
                  <a:pt x="1731" y="737"/>
                  <a:pt x="1720" y="737"/>
                  <a:pt x="1714" y="737"/>
                </a:cubicBezTo>
                <a:cubicBezTo>
                  <a:pt x="1685" y="714"/>
                  <a:pt x="1685" y="714"/>
                  <a:pt x="1685" y="714"/>
                </a:cubicBezTo>
                <a:cubicBezTo>
                  <a:pt x="1668" y="708"/>
                  <a:pt x="1663" y="686"/>
                  <a:pt x="1674" y="669"/>
                </a:cubicBezTo>
                <a:cubicBezTo>
                  <a:pt x="1685" y="651"/>
                  <a:pt x="1703" y="646"/>
                  <a:pt x="1720" y="657"/>
                </a:cubicBezTo>
                <a:cubicBezTo>
                  <a:pt x="1754" y="674"/>
                  <a:pt x="1754" y="674"/>
                  <a:pt x="1754" y="674"/>
                </a:cubicBezTo>
                <a:cubicBezTo>
                  <a:pt x="1771" y="686"/>
                  <a:pt x="1777" y="703"/>
                  <a:pt x="1765" y="720"/>
                </a:cubicBezTo>
                <a:cubicBezTo>
                  <a:pt x="1760" y="731"/>
                  <a:pt x="1748" y="737"/>
                  <a:pt x="1737" y="737"/>
                </a:cubicBezTo>
                <a:close/>
                <a:moveTo>
                  <a:pt x="1577" y="651"/>
                </a:moveTo>
                <a:lnTo>
                  <a:pt x="1577" y="651"/>
                </a:lnTo>
                <a:cubicBezTo>
                  <a:pt x="1571" y="651"/>
                  <a:pt x="1565" y="651"/>
                  <a:pt x="1560" y="646"/>
                </a:cubicBezTo>
                <a:cubicBezTo>
                  <a:pt x="1531" y="629"/>
                  <a:pt x="1531" y="629"/>
                  <a:pt x="1531" y="629"/>
                </a:cubicBezTo>
                <a:cubicBezTo>
                  <a:pt x="1514" y="623"/>
                  <a:pt x="1508" y="600"/>
                  <a:pt x="1514" y="583"/>
                </a:cubicBezTo>
                <a:cubicBezTo>
                  <a:pt x="1525" y="566"/>
                  <a:pt x="1548" y="560"/>
                  <a:pt x="1565" y="566"/>
                </a:cubicBezTo>
                <a:cubicBezTo>
                  <a:pt x="1594" y="583"/>
                  <a:pt x="1594" y="583"/>
                  <a:pt x="1594" y="583"/>
                </a:cubicBezTo>
                <a:cubicBezTo>
                  <a:pt x="1611" y="594"/>
                  <a:pt x="1617" y="617"/>
                  <a:pt x="1611" y="634"/>
                </a:cubicBezTo>
                <a:cubicBezTo>
                  <a:pt x="1605" y="646"/>
                  <a:pt x="1594" y="651"/>
                  <a:pt x="1577" y="651"/>
                </a:cubicBezTo>
                <a:close/>
                <a:moveTo>
                  <a:pt x="1423" y="566"/>
                </a:moveTo>
                <a:lnTo>
                  <a:pt x="1423" y="566"/>
                </a:lnTo>
                <a:cubicBezTo>
                  <a:pt x="1417" y="566"/>
                  <a:pt x="1411" y="566"/>
                  <a:pt x="1406" y="566"/>
                </a:cubicBezTo>
                <a:cubicBezTo>
                  <a:pt x="1371" y="548"/>
                  <a:pt x="1371" y="548"/>
                  <a:pt x="1371" y="548"/>
                </a:cubicBezTo>
                <a:cubicBezTo>
                  <a:pt x="1354" y="537"/>
                  <a:pt x="1348" y="520"/>
                  <a:pt x="1354" y="503"/>
                </a:cubicBezTo>
                <a:cubicBezTo>
                  <a:pt x="1365" y="480"/>
                  <a:pt x="1388" y="474"/>
                  <a:pt x="1406" y="486"/>
                </a:cubicBezTo>
                <a:cubicBezTo>
                  <a:pt x="1434" y="503"/>
                  <a:pt x="1434" y="503"/>
                  <a:pt x="1434" y="503"/>
                </a:cubicBezTo>
                <a:cubicBezTo>
                  <a:pt x="1451" y="509"/>
                  <a:pt x="1463" y="531"/>
                  <a:pt x="1451" y="548"/>
                </a:cubicBezTo>
                <a:cubicBezTo>
                  <a:pt x="1445" y="560"/>
                  <a:pt x="1434" y="566"/>
                  <a:pt x="1423" y="566"/>
                </a:cubicBezTo>
                <a:close/>
                <a:moveTo>
                  <a:pt x="1257" y="491"/>
                </a:moveTo>
                <a:lnTo>
                  <a:pt x="1257" y="491"/>
                </a:lnTo>
                <a:cubicBezTo>
                  <a:pt x="1257" y="491"/>
                  <a:pt x="1251" y="486"/>
                  <a:pt x="1246" y="486"/>
                </a:cubicBezTo>
                <a:cubicBezTo>
                  <a:pt x="1211" y="469"/>
                  <a:pt x="1211" y="469"/>
                  <a:pt x="1211" y="469"/>
                </a:cubicBezTo>
                <a:cubicBezTo>
                  <a:pt x="1194" y="463"/>
                  <a:pt x="1188" y="440"/>
                  <a:pt x="1194" y="423"/>
                </a:cubicBezTo>
                <a:cubicBezTo>
                  <a:pt x="1206" y="406"/>
                  <a:pt x="1223" y="400"/>
                  <a:pt x="1240" y="406"/>
                </a:cubicBezTo>
                <a:cubicBezTo>
                  <a:pt x="1274" y="423"/>
                  <a:pt x="1274" y="423"/>
                  <a:pt x="1274" y="423"/>
                </a:cubicBezTo>
                <a:cubicBezTo>
                  <a:pt x="1291" y="429"/>
                  <a:pt x="1303" y="451"/>
                  <a:pt x="1291" y="469"/>
                </a:cubicBezTo>
                <a:cubicBezTo>
                  <a:pt x="1285" y="480"/>
                  <a:pt x="1274" y="491"/>
                  <a:pt x="1257" y="491"/>
                </a:cubicBezTo>
                <a:close/>
                <a:moveTo>
                  <a:pt x="1097" y="417"/>
                </a:moveTo>
                <a:lnTo>
                  <a:pt x="1097" y="417"/>
                </a:lnTo>
                <a:cubicBezTo>
                  <a:pt x="1091" y="417"/>
                  <a:pt x="1086" y="417"/>
                  <a:pt x="1080" y="411"/>
                </a:cubicBezTo>
                <a:cubicBezTo>
                  <a:pt x="1051" y="400"/>
                  <a:pt x="1051" y="400"/>
                  <a:pt x="1051" y="400"/>
                </a:cubicBezTo>
                <a:cubicBezTo>
                  <a:pt x="1034" y="388"/>
                  <a:pt x="1023" y="371"/>
                  <a:pt x="1028" y="354"/>
                </a:cubicBezTo>
                <a:cubicBezTo>
                  <a:pt x="1040" y="331"/>
                  <a:pt x="1057" y="326"/>
                  <a:pt x="1080" y="331"/>
                </a:cubicBezTo>
                <a:cubicBezTo>
                  <a:pt x="1108" y="349"/>
                  <a:pt x="1108" y="349"/>
                  <a:pt x="1108" y="349"/>
                </a:cubicBezTo>
                <a:cubicBezTo>
                  <a:pt x="1125" y="354"/>
                  <a:pt x="1137" y="377"/>
                  <a:pt x="1131" y="394"/>
                </a:cubicBezTo>
                <a:cubicBezTo>
                  <a:pt x="1125" y="406"/>
                  <a:pt x="1108" y="417"/>
                  <a:pt x="1097" y="417"/>
                </a:cubicBezTo>
                <a:close/>
                <a:moveTo>
                  <a:pt x="931" y="349"/>
                </a:moveTo>
                <a:lnTo>
                  <a:pt x="931" y="349"/>
                </a:lnTo>
                <a:cubicBezTo>
                  <a:pt x="926" y="349"/>
                  <a:pt x="920" y="349"/>
                  <a:pt x="920" y="343"/>
                </a:cubicBezTo>
                <a:cubicBezTo>
                  <a:pt x="886" y="331"/>
                  <a:pt x="886" y="331"/>
                  <a:pt x="886" y="331"/>
                </a:cubicBezTo>
                <a:cubicBezTo>
                  <a:pt x="868" y="326"/>
                  <a:pt x="857" y="303"/>
                  <a:pt x="863" y="286"/>
                </a:cubicBezTo>
                <a:cubicBezTo>
                  <a:pt x="874" y="269"/>
                  <a:pt x="891" y="257"/>
                  <a:pt x="908" y="263"/>
                </a:cubicBezTo>
                <a:cubicBezTo>
                  <a:pt x="943" y="280"/>
                  <a:pt x="943" y="280"/>
                  <a:pt x="943" y="280"/>
                </a:cubicBezTo>
                <a:cubicBezTo>
                  <a:pt x="960" y="286"/>
                  <a:pt x="971" y="309"/>
                  <a:pt x="965" y="326"/>
                </a:cubicBezTo>
                <a:cubicBezTo>
                  <a:pt x="960" y="337"/>
                  <a:pt x="943" y="349"/>
                  <a:pt x="931" y="349"/>
                </a:cubicBezTo>
                <a:close/>
                <a:moveTo>
                  <a:pt x="766" y="286"/>
                </a:moveTo>
                <a:lnTo>
                  <a:pt x="766" y="286"/>
                </a:lnTo>
                <a:cubicBezTo>
                  <a:pt x="760" y="286"/>
                  <a:pt x="754" y="286"/>
                  <a:pt x="748" y="280"/>
                </a:cubicBezTo>
                <a:cubicBezTo>
                  <a:pt x="720" y="269"/>
                  <a:pt x="720" y="269"/>
                  <a:pt x="720" y="269"/>
                </a:cubicBezTo>
                <a:cubicBezTo>
                  <a:pt x="697" y="263"/>
                  <a:pt x="691" y="246"/>
                  <a:pt x="697" y="223"/>
                </a:cubicBezTo>
                <a:cubicBezTo>
                  <a:pt x="703" y="206"/>
                  <a:pt x="720" y="194"/>
                  <a:pt x="743" y="200"/>
                </a:cubicBezTo>
                <a:cubicBezTo>
                  <a:pt x="777" y="217"/>
                  <a:pt x="777" y="217"/>
                  <a:pt x="777" y="217"/>
                </a:cubicBezTo>
                <a:cubicBezTo>
                  <a:pt x="794" y="223"/>
                  <a:pt x="806" y="240"/>
                  <a:pt x="794" y="263"/>
                </a:cubicBezTo>
                <a:cubicBezTo>
                  <a:pt x="794" y="274"/>
                  <a:pt x="777" y="286"/>
                  <a:pt x="766" y="286"/>
                </a:cubicBezTo>
                <a:close/>
                <a:moveTo>
                  <a:pt x="594" y="229"/>
                </a:moveTo>
                <a:lnTo>
                  <a:pt x="594" y="229"/>
                </a:lnTo>
                <a:cubicBezTo>
                  <a:pt x="589" y="229"/>
                  <a:pt x="589" y="223"/>
                  <a:pt x="583" y="223"/>
                </a:cubicBezTo>
                <a:cubicBezTo>
                  <a:pt x="548" y="212"/>
                  <a:pt x="548" y="212"/>
                  <a:pt x="548" y="212"/>
                </a:cubicBezTo>
                <a:cubicBezTo>
                  <a:pt x="531" y="206"/>
                  <a:pt x="520" y="189"/>
                  <a:pt x="526" y="166"/>
                </a:cubicBezTo>
                <a:cubicBezTo>
                  <a:pt x="531" y="149"/>
                  <a:pt x="554" y="137"/>
                  <a:pt x="571" y="143"/>
                </a:cubicBezTo>
                <a:cubicBezTo>
                  <a:pt x="606" y="154"/>
                  <a:pt x="606" y="154"/>
                  <a:pt x="606" y="154"/>
                </a:cubicBezTo>
                <a:cubicBezTo>
                  <a:pt x="623" y="160"/>
                  <a:pt x="634" y="183"/>
                  <a:pt x="629" y="200"/>
                </a:cubicBezTo>
                <a:cubicBezTo>
                  <a:pt x="623" y="217"/>
                  <a:pt x="611" y="229"/>
                  <a:pt x="594" y="229"/>
                </a:cubicBezTo>
                <a:close/>
                <a:moveTo>
                  <a:pt x="423" y="171"/>
                </a:moveTo>
                <a:lnTo>
                  <a:pt x="423" y="171"/>
                </a:lnTo>
                <a:cubicBezTo>
                  <a:pt x="417" y="171"/>
                  <a:pt x="417" y="171"/>
                  <a:pt x="411" y="171"/>
                </a:cubicBezTo>
                <a:cubicBezTo>
                  <a:pt x="377" y="160"/>
                  <a:pt x="377" y="160"/>
                  <a:pt x="377" y="160"/>
                </a:cubicBezTo>
                <a:cubicBezTo>
                  <a:pt x="360" y="154"/>
                  <a:pt x="348" y="137"/>
                  <a:pt x="354" y="120"/>
                </a:cubicBezTo>
                <a:cubicBezTo>
                  <a:pt x="360" y="97"/>
                  <a:pt x="377" y="86"/>
                  <a:pt x="400" y="91"/>
                </a:cubicBezTo>
                <a:cubicBezTo>
                  <a:pt x="434" y="103"/>
                  <a:pt x="434" y="103"/>
                  <a:pt x="434" y="103"/>
                </a:cubicBezTo>
                <a:cubicBezTo>
                  <a:pt x="451" y="109"/>
                  <a:pt x="463" y="131"/>
                  <a:pt x="457" y="149"/>
                </a:cubicBezTo>
                <a:cubicBezTo>
                  <a:pt x="451" y="166"/>
                  <a:pt x="440" y="171"/>
                  <a:pt x="423" y="171"/>
                </a:cubicBezTo>
                <a:close/>
                <a:moveTo>
                  <a:pt x="251" y="126"/>
                </a:moveTo>
                <a:lnTo>
                  <a:pt x="251" y="126"/>
                </a:lnTo>
                <a:cubicBezTo>
                  <a:pt x="246" y="126"/>
                  <a:pt x="246" y="126"/>
                  <a:pt x="240" y="126"/>
                </a:cubicBezTo>
                <a:cubicBezTo>
                  <a:pt x="206" y="114"/>
                  <a:pt x="206" y="114"/>
                  <a:pt x="206" y="114"/>
                </a:cubicBezTo>
                <a:cubicBezTo>
                  <a:pt x="189" y="109"/>
                  <a:pt x="177" y="91"/>
                  <a:pt x="183" y="74"/>
                </a:cubicBezTo>
                <a:cubicBezTo>
                  <a:pt x="183" y="52"/>
                  <a:pt x="206" y="40"/>
                  <a:pt x="223" y="46"/>
                </a:cubicBezTo>
                <a:cubicBezTo>
                  <a:pt x="257" y="57"/>
                  <a:pt x="257" y="57"/>
                  <a:pt x="257" y="57"/>
                </a:cubicBezTo>
                <a:cubicBezTo>
                  <a:pt x="280" y="63"/>
                  <a:pt x="291" y="80"/>
                  <a:pt x="286" y="97"/>
                </a:cubicBezTo>
                <a:cubicBezTo>
                  <a:pt x="280" y="114"/>
                  <a:pt x="263" y="126"/>
                  <a:pt x="251" y="126"/>
                </a:cubicBezTo>
                <a:close/>
                <a:moveTo>
                  <a:pt x="74" y="86"/>
                </a:moveTo>
                <a:lnTo>
                  <a:pt x="74" y="86"/>
                </a:lnTo>
                <a:lnTo>
                  <a:pt x="69" y="86"/>
                </a:lnTo>
                <a:cubicBezTo>
                  <a:pt x="34" y="74"/>
                  <a:pt x="34" y="74"/>
                  <a:pt x="34" y="74"/>
                </a:cubicBezTo>
                <a:cubicBezTo>
                  <a:pt x="12" y="69"/>
                  <a:pt x="0" y="52"/>
                  <a:pt x="6" y="34"/>
                </a:cubicBezTo>
                <a:cubicBezTo>
                  <a:pt x="12" y="12"/>
                  <a:pt x="29" y="0"/>
                  <a:pt x="46" y="6"/>
                </a:cubicBezTo>
                <a:cubicBezTo>
                  <a:pt x="86" y="12"/>
                  <a:pt x="86" y="12"/>
                  <a:pt x="86" y="12"/>
                </a:cubicBezTo>
                <a:cubicBezTo>
                  <a:pt x="103" y="17"/>
                  <a:pt x="114" y="34"/>
                  <a:pt x="109" y="57"/>
                </a:cubicBezTo>
                <a:cubicBezTo>
                  <a:pt x="109" y="74"/>
                  <a:pt x="91" y="86"/>
                  <a:pt x="74" y="86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7" name="Freeform 267"/>
          <p:cNvSpPr/>
          <p:nvPr/>
        </p:nvSpPr>
        <p:spPr>
          <a:xfrm>
            <a:off x="8039160" y="4264200"/>
            <a:ext cx="349200" cy="785520"/>
          </a:xfrm>
          <a:custGeom>
            <a:avLst/>
            <a:gdLst/>
            <a:ahLst/>
            <a:rect l="l" t="t" r="r" b="b"/>
            <a:pathLst>
              <a:path w="869" h="1949">
                <a:moveTo>
                  <a:pt x="828" y="1948"/>
                </a:moveTo>
                <a:lnTo>
                  <a:pt x="828" y="1948"/>
                </a:lnTo>
                <a:cubicBezTo>
                  <a:pt x="811" y="1948"/>
                  <a:pt x="794" y="1937"/>
                  <a:pt x="794" y="1920"/>
                </a:cubicBezTo>
                <a:cubicBezTo>
                  <a:pt x="782" y="1886"/>
                  <a:pt x="782" y="1886"/>
                  <a:pt x="782" y="1886"/>
                </a:cubicBezTo>
                <a:cubicBezTo>
                  <a:pt x="782" y="1869"/>
                  <a:pt x="794" y="1846"/>
                  <a:pt x="811" y="1840"/>
                </a:cubicBezTo>
                <a:cubicBezTo>
                  <a:pt x="828" y="1840"/>
                  <a:pt x="851" y="1851"/>
                  <a:pt x="857" y="1869"/>
                </a:cubicBezTo>
                <a:cubicBezTo>
                  <a:pt x="862" y="1903"/>
                  <a:pt x="862" y="1903"/>
                  <a:pt x="862" y="1903"/>
                </a:cubicBezTo>
                <a:cubicBezTo>
                  <a:pt x="868" y="1926"/>
                  <a:pt x="857" y="1943"/>
                  <a:pt x="834" y="1948"/>
                </a:cubicBezTo>
                <a:lnTo>
                  <a:pt x="828" y="1948"/>
                </a:lnTo>
                <a:close/>
                <a:moveTo>
                  <a:pt x="782" y="1771"/>
                </a:moveTo>
                <a:lnTo>
                  <a:pt x="782" y="1771"/>
                </a:lnTo>
                <a:cubicBezTo>
                  <a:pt x="771" y="1771"/>
                  <a:pt x="754" y="1760"/>
                  <a:pt x="748" y="1743"/>
                </a:cubicBezTo>
                <a:cubicBezTo>
                  <a:pt x="742" y="1709"/>
                  <a:pt x="742" y="1709"/>
                  <a:pt x="742" y="1709"/>
                </a:cubicBezTo>
                <a:cubicBezTo>
                  <a:pt x="737" y="1691"/>
                  <a:pt x="748" y="1669"/>
                  <a:pt x="765" y="1669"/>
                </a:cubicBezTo>
                <a:cubicBezTo>
                  <a:pt x="788" y="1663"/>
                  <a:pt x="805" y="1674"/>
                  <a:pt x="811" y="1691"/>
                </a:cubicBezTo>
                <a:cubicBezTo>
                  <a:pt x="817" y="1726"/>
                  <a:pt x="817" y="1726"/>
                  <a:pt x="817" y="1726"/>
                </a:cubicBezTo>
                <a:cubicBezTo>
                  <a:pt x="822" y="1743"/>
                  <a:pt x="811" y="1766"/>
                  <a:pt x="794" y="1771"/>
                </a:cubicBezTo>
                <a:cubicBezTo>
                  <a:pt x="788" y="1771"/>
                  <a:pt x="788" y="1771"/>
                  <a:pt x="782" y="1771"/>
                </a:cubicBezTo>
                <a:close/>
                <a:moveTo>
                  <a:pt x="737" y="1594"/>
                </a:moveTo>
                <a:lnTo>
                  <a:pt x="737" y="1594"/>
                </a:lnTo>
                <a:cubicBezTo>
                  <a:pt x="720" y="1594"/>
                  <a:pt x="708" y="1583"/>
                  <a:pt x="702" y="1571"/>
                </a:cubicBezTo>
                <a:cubicBezTo>
                  <a:pt x="691" y="1537"/>
                  <a:pt x="691" y="1537"/>
                  <a:pt x="691" y="1537"/>
                </a:cubicBezTo>
                <a:cubicBezTo>
                  <a:pt x="685" y="1514"/>
                  <a:pt x="697" y="1497"/>
                  <a:pt x="714" y="1491"/>
                </a:cubicBezTo>
                <a:cubicBezTo>
                  <a:pt x="737" y="1486"/>
                  <a:pt x="754" y="1497"/>
                  <a:pt x="759" y="1514"/>
                </a:cubicBezTo>
                <a:cubicBezTo>
                  <a:pt x="771" y="1549"/>
                  <a:pt x="771" y="1549"/>
                  <a:pt x="771" y="1549"/>
                </a:cubicBezTo>
                <a:cubicBezTo>
                  <a:pt x="777" y="1571"/>
                  <a:pt x="765" y="1588"/>
                  <a:pt x="748" y="1594"/>
                </a:cubicBezTo>
                <a:cubicBezTo>
                  <a:pt x="742" y="1594"/>
                  <a:pt x="742" y="1594"/>
                  <a:pt x="737" y="1594"/>
                </a:cubicBezTo>
                <a:close/>
                <a:moveTo>
                  <a:pt x="685" y="1423"/>
                </a:moveTo>
                <a:lnTo>
                  <a:pt x="685" y="1423"/>
                </a:lnTo>
                <a:cubicBezTo>
                  <a:pt x="668" y="1423"/>
                  <a:pt x="657" y="1411"/>
                  <a:pt x="651" y="1394"/>
                </a:cubicBezTo>
                <a:cubicBezTo>
                  <a:pt x="639" y="1360"/>
                  <a:pt x="639" y="1360"/>
                  <a:pt x="639" y="1360"/>
                </a:cubicBezTo>
                <a:cubicBezTo>
                  <a:pt x="634" y="1343"/>
                  <a:pt x="639" y="1326"/>
                  <a:pt x="662" y="1320"/>
                </a:cubicBezTo>
                <a:cubicBezTo>
                  <a:pt x="679" y="1309"/>
                  <a:pt x="697" y="1320"/>
                  <a:pt x="708" y="1337"/>
                </a:cubicBezTo>
                <a:cubicBezTo>
                  <a:pt x="720" y="1377"/>
                  <a:pt x="720" y="1377"/>
                  <a:pt x="720" y="1377"/>
                </a:cubicBezTo>
                <a:cubicBezTo>
                  <a:pt x="725" y="1394"/>
                  <a:pt x="714" y="1411"/>
                  <a:pt x="697" y="1417"/>
                </a:cubicBezTo>
                <a:cubicBezTo>
                  <a:pt x="691" y="1423"/>
                  <a:pt x="685" y="1423"/>
                  <a:pt x="685" y="1423"/>
                </a:cubicBezTo>
                <a:close/>
                <a:moveTo>
                  <a:pt x="622" y="1252"/>
                </a:moveTo>
                <a:lnTo>
                  <a:pt x="622" y="1252"/>
                </a:lnTo>
                <a:cubicBezTo>
                  <a:pt x="611" y="1252"/>
                  <a:pt x="594" y="1240"/>
                  <a:pt x="588" y="1223"/>
                </a:cubicBezTo>
                <a:cubicBezTo>
                  <a:pt x="577" y="1194"/>
                  <a:pt x="577" y="1194"/>
                  <a:pt x="577" y="1194"/>
                </a:cubicBezTo>
                <a:cubicBezTo>
                  <a:pt x="571" y="1171"/>
                  <a:pt x="582" y="1154"/>
                  <a:pt x="599" y="1149"/>
                </a:cubicBezTo>
                <a:cubicBezTo>
                  <a:pt x="617" y="1137"/>
                  <a:pt x="639" y="1149"/>
                  <a:pt x="645" y="1166"/>
                </a:cubicBezTo>
                <a:cubicBezTo>
                  <a:pt x="657" y="1200"/>
                  <a:pt x="657" y="1200"/>
                  <a:pt x="657" y="1200"/>
                </a:cubicBezTo>
                <a:cubicBezTo>
                  <a:pt x="662" y="1217"/>
                  <a:pt x="657" y="1240"/>
                  <a:pt x="634" y="1246"/>
                </a:cubicBezTo>
                <a:cubicBezTo>
                  <a:pt x="634" y="1246"/>
                  <a:pt x="628" y="1252"/>
                  <a:pt x="622" y="1252"/>
                </a:cubicBezTo>
                <a:close/>
                <a:moveTo>
                  <a:pt x="560" y="1080"/>
                </a:moveTo>
                <a:lnTo>
                  <a:pt x="560" y="1080"/>
                </a:lnTo>
                <a:cubicBezTo>
                  <a:pt x="548" y="1080"/>
                  <a:pt x="531" y="1069"/>
                  <a:pt x="525" y="1057"/>
                </a:cubicBezTo>
                <a:cubicBezTo>
                  <a:pt x="514" y="1023"/>
                  <a:pt x="514" y="1023"/>
                  <a:pt x="514" y="1023"/>
                </a:cubicBezTo>
                <a:cubicBezTo>
                  <a:pt x="508" y="1006"/>
                  <a:pt x="514" y="983"/>
                  <a:pt x="531" y="977"/>
                </a:cubicBezTo>
                <a:cubicBezTo>
                  <a:pt x="554" y="971"/>
                  <a:pt x="571" y="977"/>
                  <a:pt x="577" y="994"/>
                </a:cubicBezTo>
                <a:cubicBezTo>
                  <a:pt x="594" y="1029"/>
                  <a:pt x="594" y="1029"/>
                  <a:pt x="594" y="1029"/>
                </a:cubicBezTo>
                <a:cubicBezTo>
                  <a:pt x="599" y="1046"/>
                  <a:pt x="594" y="1069"/>
                  <a:pt x="571" y="1074"/>
                </a:cubicBezTo>
                <a:cubicBezTo>
                  <a:pt x="571" y="1080"/>
                  <a:pt x="565" y="1080"/>
                  <a:pt x="560" y="1080"/>
                </a:cubicBezTo>
                <a:close/>
                <a:moveTo>
                  <a:pt x="491" y="909"/>
                </a:moveTo>
                <a:lnTo>
                  <a:pt x="491" y="909"/>
                </a:lnTo>
                <a:cubicBezTo>
                  <a:pt x="474" y="909"/>
                  <a:pt x="462" y="903"/>
                  <a:pt x="457" y="892"/>
                </a:cubicBezTo>
                <a:cubicBezTo>
                  <a:pt x="445" y="857"/>
                  <a:pt x="445" y="857"/>
                  <a:pt x="445" y="857"/>
                </a:cubicBezTo>
                <a:cubicBezTo>
                  <a:pt x="434" y="840"/>
                  <a:pt x="445" y="817"/>
                  <a:pt x="462" y="812"/>
                </a:cubicBezTo>
                <a:cubicBezTo>
                  <a:pt x="480" y="800"/>
                  <a:pt x="502" y="812"/>
                  <a:pt x="508" y="829"/>
                </a:cubicBezTo>
                <a:cubicBezTo>
                  <a:pt x="520" y="863"/>
                  <a:pt x="520" y="863"/>
                  <a:pt x="520" y="863"/>
                </a:cubicBezTo>
                <a:cubicBezTo>
                  <a:pt x="531" y="880"/>
                  <a:pt x="520" y="897"/>
                  <a:pt x="502" y="909"/>
                </a:cubicBezTo>
                <a:cubicBezTo>
                  <a:pt x="497" y="909"/>
                  <a:pt x="497" y="909"/>
                  <a:pt x="491" y="909"/>
                </a:cubicBezTo>
                <a:close/>
                <a:moveTo>
                  <a:pt x="417" y="743"/>
                </a:moveTo>
                <a:lnTo>
                  <a:pt x="417" y="743"/>
                </a:lnTo>
                <a:cubicBezTo>
                  <a:pt x="400" y="743"/>
                  <a:pt x="388" y="737"/>
                  <a:pt x="382" y="726"/>
                </a:cubicBezTo>
                <a:cubicBezTo>
                  <a:pt x="365" y="692"/>
                  <a:pt x="365" y="692"/>
                  <a:pt x="365" y="692"/>
                </a:cubicBezTo>
                <a:cubicBezTo>
                  <a:pt x="360" y="674"/>
                  <a:pt x="365" y="652"/>
                  <a:pt x="382" y="646"/>
                </a:cubicBezTo>
                <a:cubicBezTo>
                  <a:pt x="400" y="635"/>
                  <a:pt x="422" y="646"/>
                  <a:pt x="428" y="663"/>
                </a:cubicBezTo>
                <a:cubicBezTo>
                  <a:pt x="445" y="692"/>
                  <a:pt x="445" y="692"/>
                  <a:pt x="445" y="692"/>
                </a:cubicBezTo>
                <a:cubicBezTo>
                  <a:pt x="457" y="714"/>
                  <a:pt x="445" y="732"/>
                  <a:pt x="428" y="743"/>
                </a:cubicBezTo>
                <a:cubicBezTo>
                  <a:pt x="422" y="743"/>
                  <a:pt x="422" y="743"/>
                  <a:pt x="417" y="743"/>
                </a:cubicBezTo>
                <a:close/>
                <a:moveTo>
                  <a:pt x="337" y="583"/>
                </a:moveTo>
                <a:lnTo>
                  <a:pt x="337" y="583"/>
                </a:lnTo>
                <a:cubicBezTo>
                  <a:pt x="320" y="583"/>
                  <a:pt x="308" y="577"/>
                  <a:pt x="302" y="560"/>
                </a:cubicBezTo>
                <a:cubicBezTo>
                  <a:pt x="285" y="532"/>
                  <a:pt x="285" y="532"/>
                  <a:pt x="285" y="532"/>
                </a:cubicBezTo>
                <a:cubicBezTo>
                  <a:pt x="280" y="514"/>
                  <a:pt x="285" y="492"/>
                  <a:pt x="302" y="480"/>
                </a:cubicBezTo>
                <a:cubicBezTo>
                  <a:pt x="320" y="475"/>
                  <a:pt x="342" y="480"/>
                  <a:pt x="348" y="497"/>
                </a:cubicBezTo>
                <a:cubicBezTo>
                  <a:pt x="365" y="532"/>
                  <a:pt x="365" y="532"/>
                  <a:pt x="365" y="532"/>
                </a:cubicBezTo>
                <a:cubicBezTo>
                  <a:pt x="377" y="549"/>
                  <a:pt x="365" y="572"/>
                  <a:pt x="348" y="577"/>
                </a:cubicBezTo>
                <a:cubicBezTo>
                  <a:pt x="342" y="583"/>
                  <a:pt x="337" y="583"/>
                  <a:pt x="337" y="583"/>
                </a:cubicBezTo>
                <a:close/>
                <a:moveTo>
                  <a:pt x="251" y="423"/>
                </a:moveTo>
                <a:lnTo>
                  <a:pt x="251" y="423"/>
                </a:lnTo>
                <a:cubicBezTo>
                  <a:pt x="234" y="423"/>
                  <a:pt x="222" y="412"/>
                  <a:pt x="217" y="400"/>
                </a:cubicBezTo>
                <a:cubicBezTo>
                  <a:pt x="200" y="372"/>
                  <a:pt x="200" y="372"/>
                  <a:pt x="200" y="372"/>
                </a:cubicBezTo>
                <a:cubicBezTo>
                  <a:pt x="188" y="354"/>
                  <a:pt x="194" y="332"/>
                  <a:pt x="211" y="320"/>
                </a:cubicBezTo>
                <a:cubicBezTo>
                  <a:pt x="228" y="315"/>
                  <a:pt x="251" y="320"/>
                  <a:pt x="263" y="337"/>
                </a:cubicBezTo>
                <a:cubicBezTo>
                  <a:pt x="280" y="366"/>
                  <a:pt x="280" y="366"/>
                  <a:pt x="280" y="366"/>
                </a:cubicBezTo>
                <a:cubicBezTo>
                  <a:pt x="291" y="383"/>
                  <a:pt x="285" y="406"/>
                  <a:pt x="268" y="417"/>
                </a:cubicBezTo>
                <a:cubicBezTo>
                  <a:pt x="263" y="417"/>
                  <a:pt x="257" y="423"/>
                  <a:pt x="251" y="423"/>
                </a:cubicBezTo>
                <a:close/>
                <a:moveTo>
                  <a:pt x="160" y="263"/>
                </a:moveTo>
                <a:lnTo>
                  <a:pt x="160" y="263"/>
                </a:lnTo>
                <a:cubicBezTo>
                  <a:pt x="148" y="263"/>
                  <a:pt x="137" y="257"/>
                  <a:pt x="125" y="246"/>
                </a:cubicBezTo>
                <a:cubicBezTo>
                  <a:pt x="108" y="217"/>
                  <a:pt x="108" y="217"/>
                  <a:pt x="108" y="217"/>
                </a:cubicBezTo>
                <a:cubicBezTo>
                  <a:pt x="97" y="200"/>
                  <a:pt x="103" y="178"/>
                  <a:pt x="120" y="166"/>
                </a:cubicBezTo>
                <a:cubicBezTo>
                  <a:pt x="137" y="155"/>
                  <a:pt x="160" y="160"/>
                  <a:pt x="171" y="178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200" y="229"/>
                  <a:pt x="194" y="246"/>
                  <a:pt x="177" y="257"/>
                </a:cubicBezTo>
                <a:cubicBezTo>
                  <a:pt x="171" y="263"/>
                  <a:pt x="165" y="263"/>
                  <a:pt x="160" y="263"/>
                </a:cubicBezTo>
                <a:close/>
                <a:moveTo>
                  <a:pt x="63" y="109"/>
                </a:moveTo>
                <a:lnTo>
                  <a:pt x="63" y="109"/>
                </a:lnTo>
                <a:cubicBezTo>
                  <a:pt x="51" y="109"/>
                  <a:pt x="40" y="103"/>
                  <a:pt x="34" y="92"/>
                </a:cubicBezTo>
                <a:cubicBezTo>
                  <a:pt x="11" y="63"/>
                  <a:pt x="11" y="63"/>
                  <a:pt x="11" y="63"/>
                </a:cubicBezTo>
                <a:cubicBezTo>
                  <a:pt x="0" y="46"/>
                  <a:pt x="5" y="23"/>
                  <a:pt x="22" y="12"/>
                </a:cubicBezTo>
                <a:cubicBezTo>
                  <a:pt x="40" y="0"/>
                  <a:pt x="63" y="6"/>
                  <a:pt x="74" y="23"/>
                </a:cubicBezTo>
                <a:cubicBezTo>
                  <a:pt x="91" y="52"/>
                  <a:pt x="91" y="52"/>
                  <a:pt x="91" y="52"/>
                </a:cubicBezTo>
                <a:cubicBezTo>
                  <a:pt x="103" y="69"/>
                  <a:pt x="97" y="92"/>
                  <a:pt x="80" y="103"/>
                </a:cubicBezTo>
                <a:cubicBezTo>
                  <a:pt x="74" y="109"/>
                  <a:pt x="68" y="109"/>
                  <a:pt x="63" y="109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8" name="Freeform 39"/>
          <p:cNvSpPr/>
          <p:nvPr/>
        </p:nvSpPr>
        <p:spPr>
          <a:xfrm>
            <a:off x="4319640" y="3745080"/>
            <a:ext cx="277920" cy="279360"/>
          </a:xfrm>
          <a:custGeom>
            <a:avLst/>
            <a:gdLst/>
            <a:ahLst/>
            <a:rect l="l" t="t" r="r" b="b"/>
            <a:pathLst>
              <a:path w="444" h="444">
                <a:moveTo>
                  <a:pt x="399" y="53"/>
                </a:moveTo>
                <a:lnTo>
                  <a:pt x="399" y="53"/>
                </a:lnTo>
                <a:cubicBezTo>
                  <a:pt x="372" y="53"/>
                  <a:pt x="372" y="53"/>
                  <a:pt x="372" y="53"/>
                </a:cubicBezTo>
                <a:cubicBezTo>
                  <a:pt x="372" y="98"/>
                  <a:pt x="372" y="98"/>
                  <a:pt x="372" y="98"/>
                </a:cubicBezTo>
                <a:cubicBezTo>
                  <a:pt x="293" y="98"/>
                  <a:pt x="293" y="98"/>
                  <a:pt x="293" y="98"/>
                </a:cubicBezTo>
                <a:cubicBezTo>
                  <a:pt x="293" y="53"/>
                  <a:pt x="293" y="53"/>
                  <a:pt x="293" y="53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151" y="98"/>
                  <a:pt x="151" y="98"/>
                  <a:pt x="151" y="98"/>
                </a:cubicBezTo>
                <a:cubicBezTo>
                  <a:pt x="71" y="98"/>
                  <a:pt x="71" y="98"/>
                  <a:pt x="71" y="98"/>
                </a:cubicBezTo>
                <a:cubicBezTo>
                  <a:pt x="71" y="53"/>
                  <a:pt x="71" y="53"/>
                  <a:pt x="71" y="53"/>
                </a:cubicBezTo>
                <a:cubicBezTo>
                  <a:pt x="45" y="53"/>
                  <a:pt x="45" y="53"/>
                  <a:pt x="45" y="53"/>
                </a:cubicBezTo>
                <a:cubicBezTo>
                  <a:pt x="18" y="53"/>
                  <a:pt x="0" y="71"/>
                  <a:pt x="0" y="98"/>
                </a:cubicBezTo>
                <a:cubicBezTo>
                  <a:pt x="0" y="399"/>
                  <a:pt x="0" y="399"/>
                  <a:pt x="0" y="399"/>
                </a:cubicBezTo>
                <a:cubicBezTo>
                  <a:pt x="0" y="425"/>
                  <a:pt x="18" y="443"/>
                  <a:pt x="45" y="443"/>
                </a:cubicBezTo>
                <a:cubicBezTo>
                  <a:pt x="399" y="443"/>
                  <a:pt x="399" y="443"/>
                  <a:pt x="399" y="443"/>
                </a:cubicBezTo>
                <a:cubicBezTo>
                  <a:pt x="425" y="443"/>
                  <a:pt x="443" y="425"/>
                  <a:pt x="443" y="399"/>
                </a:cubicBezTo>
                <a:cubicBezTo>
                  <a:pt x="443" y="98"/>
                  <a:pt x="443" y="98"/>
                  <a:pt x="443" y="98"/>
                </a:cubicBezTo>
                <a:cubicBezTo>
                  <a:pt x="443" y="71"/>
                  <a:pt x="425" y="53"/>
                  <a:pt x="399" y="53"/>
                </a:cubicBezTo>
                <a:close/>
                <a:moveTo>
                  <a:pt x="399" y="399"/>
                </a:moveTo>
                <a:lnTo>
                  <a:pt x="399" y="399"/>
                </a:lnTo>
                <a:cubicBezTo>
                  <a:pt x="45" y="399"/>
                  <a:pt x="45" y="399"/>
                  <a:pt x="45" y="399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399" y="196"/>
                  <a:pt x="399" y="196"/>
                  <a:pt x="399" y="196"/>
                </a:cubicBezTo>
                <a:lnTo>
                  <a:pt x="399" y="399"/>
                </a:lnTo>
                <a:close/>
                <a:moveTo>
                  <a:pt x="124" y="0"/>
                </a:moveTo>
                <a:lnTo>
                  <a:pt x="124" y="0"/>
                </a:lnTo>
                <a:cubicBezTo>
                  <a:pt x="89" y="0"/>
                  <a:pt x="89" y="0"/>
                  <a:pt x="89" y="0"/>
                </a:cubicBezTo>
                <a:cubicBezTo>
                  <a:pt x="89" y="89"/>
                  <a:pt x="89" y="89"/>
                  <a:pt x="89" y="89"/>
                </a:cubicBezTo>
                <a:cubicBezTo>
                  <a:pt x="124" y="89"/>
                  <a:pt x="124" y="89"/>
                  <a:pt x="124" y="89"/>
                </a:cubicBezTo>
                <a:lnTo>
                  <a:pt x="124" y="0"/>
                </a:lnTo>
                <a:close/>
                <a:moveTo>
                  <a:pt x="354" y="0"/>
                </a:moveTo>
                <a:lnTo>
                  <a:pt x="354" y="0"/>
                </a:lnTo>
                <a:cubicBezTo>
                  <a:pt x="319" y="0"/>
                  <a:pt x="319" y="0"/>
                  <a:pt x="319" y="0"/>
                </a:cubicBezTo>
                <a:cubicBezTo>
                  <a:pt x="319" y="89"/>
                  <a:pt x="319" y="89"/>
                  <a:pt x="319" y="89"/>
                </a:cubicBezTo>
                <a:cubicBezTo>
                  <a:pt x="354" y="89"/>
                  <a:pt x="354" y="89"/>
                  <a:pt x="354" y="89"/>
                </a:cubicBezTo>
                <a:lnTo>
                  <a:pt x="3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9" name="Freeform 226"/>
          <p:cNvSpPr/>
          <p:nvPr/>
        </p:nvSpPr>
        <p:spPr>
          <a:xfrm>
            <a:off x="5775480" y="1987560"/>
            <a:ext cx="583920" cy="1584360"/>
          </a:xfrm>
          <a:custGeom>
            <a:avLst/>
            <a:gdLst/>
            <a:ahLst/>
            <a:rect l="l" t="t" r="r" b="b"/>
            <a:pathLst>
              <a:path w="310" h="910">
                <a:moveTo>
                  <a:pt x="279" y="203"/>
                </a:moveTo>
                <a:lnTo>
                  <a:pt x="279" y="203"/>
                </a:lnTo>
                <a:cubicBezTo>
                  <a:pt x="255" y="179"/>
                  <a:pt x="225" y="179"/>
                  <a:pt x="217" y="179"/>
                </a:cubicBezTo>
                <a:cubicBezTo>
                  <a:pt x="89" y="179"/>
                  <a:pt x="89" y="179"/>
                  <a:pt x="89" y="179"/>
                </a:cubicBezTo>
                <a:cubicBezTo>
                  <a:pt x="84" y="179"/>
                  <a:pt x="54" y="179"/>
                  <a:pt x="30" y="203"/>
                </a:cubicBezTo>
                <a:cubicBezTo>
                  <a:pt x="11" y="219"/>
                  <a:pt x="0" y="246"/>
                  <a:pt x="0" y="279"/>
                </a:cubicBezTo>
                <a:cubicBezTo>
                  <a:pt x="0" y="490"/>
                  <a:pt x="0" y="490"/>
                  <a:pt x="0" y="490"/>
                </a:cubicBezTo>
                <a:cubicBezTo>
                  <a:pt x="0" y="503"/>
                  <a:pt x="11" y="517"/>
                  <a:pt x="27" y="517"/>
                </a:cubicBezTo>
                <a:cubicBezTo>
                  <a:pt x="41" y="517"/>
                  <a:pt x="52" y="503"/>
                  <a:pt x="52" y="490"/>
                </a:cubicBezTo>
                <a:cubicBezTo>
                  <a:pt x="52" y="279"/>
                  <a:pt x="52" y="279"/>
                  <a:pt x="52" y="279"/>
                </a:cubicBezTo>
                <a:cubicBezTo>
                  <a:pt x="52" y="259"/>
                  <a:pt x="57" y="246"/>
                  <a:pt x="65" y="241"/>
                </a:cubicBezTo>
                <a:cubicBezTo>
                  <a:pt x="68" y="238"/>
                  <a:pt x="68" y="236"/>
                  <a:pt x="70" y="236"/>
                </a:cubicBezTo>
                <a:cubicBezTo>
                  <a:pt x="70" y="877"/>
                  <a:pt x="70" y="877"/>
                  <a:pt x="70" y="877"/>
                </a:cubicBezTo>
                <a:cubicBezTo>
                  <a:pt x="70" y="896"/>
                  <a:pt x="87" y="909"/>
                  <a:pt x="103" y="909"/>
                </a:cubicBezTo>
                <a:cubicBezTo>
                  <a:pt x="122" y="909"/>
                  <a:pt x="136" y="896"/>
                  <a:pt x="136" y="877"/>
                </a:cubicBezTo>
                <a:cubicBezTo>
                  <a:pt x="136" y="560"/>
                  <a:pt x="136" y="560"/>
                  <a:pt x="136" y="560"/>
                </a:cubicBezTo>
                <a:cubicBezTo>
                  <a:pt x="173" y="560"/>
                  <a:pt x="173" y="560"/>
                  <a:pt x="173" y="560"/>
                </a:cubicBezTo>
                <a:cubicBezTo>
                  <a:pt x="173" y="877"/>
                  <a:pt x="173" y="877"/>
                  <a:pt x="173" y="877"/>
                </a:cubicBezTo>
                <a:cubicBezTo>
                  <a:pt x="173" y="896"/>
                  <a:pt x="187" y="909"/>
                  <a:pt x="206" y="909"/>
                </a:cubicBezTo>
                <a:cubicBezTo>
                  <a:pt x="222" y="909"/>
                  <a:pt x="238" y="896"/>
                  <a:pt x="238" y="877"/>
                </a:cubicBezTo>
                <a:cubicBezTo>
                  <a:pt x="238" y="236"/>
                  <a:pt x="238" y="236"/>
                  <a:pt x="238" y="236"/>
                </a:cubicBezTo>
                <a:cubicBezTo>
                  <a:pt x="238" y="236"/>
                  <a:pt x="241" y="238"/>
                  <a:pt x="244" y="238"/>
                </a:cubicBezTo>
                <a:cubicBezTo>
                  <a:pt x="252" y="246"/>
                  <a:pt x="255" y="259"/>
                  <a:pt x="255" y="279"/>
                </a:cubicBezTo>
                <a:cubicBezTo>
                  <a:pt x="255" y="490"/>
                  <a:pt x="255" y="490"/>
                  <a:pt x="255" y="490"/>
                </a:cubicBezTo>
                <a:cubicBezTo>
                  <a:pt x="255" y="503"/>
                  <a:pt x="268" y="517"/>
                  <a:pt x="282" y="517"/>
                </a:cubicBezTo>
                <a:cubicBezTo>
                  <a:pt x="295" y="517"/>
                  <a:pt x="309" y="503"/>
                  <a:pt x="309" y="490"/>
                </a:cubicBezTo>
                <a:cubicBezTo>
                  <a:pt x="309" y="279"/>
                  <a:pt x="309" y="279"/>
                  <a:pt x="309" y="279"/>
                </a:cubicBezTo>
                <a:cubicBezTo>
                  <a:pt x="309" y="246"/>
                  <a:pt x="298" y="219"/>
                  <a:pt x="279" y="203"/>
                </a:cubicBezTo>
                <a:close/>
                <a:moveTo>
                  <a:pt x="154" y="149"/>
                </a:moveTo>
                <a:lnTo>
                  <a:pt x="154" y="149"/>
                </a:lnTo>
                <a:cubicBezTo>
                  <a:pt x="190" y="149"/>
                  <a:pt x="220" y="113"/>
                  <a:pt x="220" y="73"/>
                </a:cubicBezTo>
                <a:cubicBezTo>
                  <a:pt x="220" y="35"/>
                  <a:pt x="190" y="0"/>
                  <a:pt x="154" y="0"/>
                </a:cubicBezTo>
                <a:cubicBezTo>
                  <a:pt x="119" y="0"/>
                  <a:pt x="89" y="35"/>
                  <a:pt x="89" y="73"/>
                </a:cubicBezTo>
                <a:cubicBezTo>
                  <a:pt x="89" y="113"/>
                  <a:pt x="119" y="149"/>
                  <a:pt x="154" y="149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3720" rIns="243720" tIns="121680" bIns="1216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0" name="Rectangle 10"/>
          <p:cNvSpPr/>
          <p:nvPr/>
        </p:nvSpPr>
        <p:spPr>
          <a:xfrm>
            <a:off x="4238640" y="3637080"/>
            <a:ext cx="595440" cy="59364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1" name="Freeform 11"/>
          <p:cNvSpPr/>
          <p:nvPr/>
        </p:nvSpPr>
        <p:spPr>
          <a:xfrm>
            <a:off x="4368960" y="3767040"/>
            <a:ext cx="333360" cy="33192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271" y="0"/>
                </a:moveTo>
                <a:cubicBezTo>
                  <a:pt x="16" y="0"/>
                  <a:pt x="16" y="0"/>
                  <a:pt x="16" y="0"/>
                </a:cubicBezTo>
                <a:cubicBezTo>
                  <a:pt x="8" y="0"/>
                  <a:pt x="0" y="7"/>
                  <a:pt x="0" y="15"/>
                </a:cubicBezTo>
                <a:cubicBezTo>
                  <a:pt x="0" y="271"/>
                  <a:pt x="0" y="271"/>
                  <a:pt x="0" y="271"/>
                </a:cubicBezTo>
                <a:cubicBezTo>
                  <a:pt x="0" y="279"/>
                  <a:pt x="8" y="286"/>
                  <a:pt x="16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175"/>
                  <a:pt x="154" y="175"/>
                  <a:pt x="154" y="175"/>
                </a:cubicBezTo>
                <a:cubicBezTo>
                  <a:pt x="116" y="175"/>
                  <a:pt x="116" y="175"/>
                  <a:pt x="116" y="175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54" y="132"/>
                  <a:pt x="154" y="132"/>
                  <a:pt x="154" y="132"/>
                </a:cubicBezTo>
                <a:cubicBezTo>
                  <a:pt x="154" y="100"/>
                  <a:pt x="154" y="100"/>
                  <a:pt x="154" y="100"/>
                </a:cubicBezTo>
                <a:cubicBezTo>
                  <a:pt x="154" y="63"/>
                  <a:pt x="176" y="43"/>
                  <a:pt x="209" y="43"/>
                </a:cubicBezTo>
                <a:cubicBezTo>
                  <a:pt x="225" y="43"/>
                  <a:pt x="239" y="44"/>
                  <a:pt x="243" y="45"/>
                </a:cubicBezTo>
                <a:cubicBezTo>
                  <a:pt x="243" y="83"/>
                  <a:pt x="243" y="83"/>
                  <a:pt x="243" y="83"/>
                </a:cubicBezTo>
                <a:cubicBezTo>
                  <a:pt x="220" y="83"/>
                  <a:pt x="220" y="83"/>
                  <a:pt x="220" y="83"/>
                </a:cubicBezTo>
                <a:cubicBezTo>
                  <a:pt x="202" y="83"/>
                  <a:pt x="198" y="92"/>
                  <a:pt x="198" y="104"/>
                </a:cubicBezTo>
                <a:cubicBezTo>
                  <a:pt x="198" y="132"/>
                  <a:pt x="198" y="132"/>
                  <a:pt x="198" y="132"/>
                </a:cubicBezTo>
                <a:cubicBezTo>
                  <a:pt x="241" y="132"/>
                  <a:pt x="241" y="132"/>
                  <a:pt x="241" y="132"/>
                </a:cubicBezTo>
                <a:cubicBezTo>
                  <a:pt x="236" y="175"/>
                  <a:pt x="236" y="175"/>
                  <a:pt x="236" y="175"/>
                </a:cubicBezTo>
                <a:cubicBezTo>
                  <a:pt x="198" y="175"/>
                  <a:pt x="198" y="175"/>
                  <a:pt x="198" y="175"/>
                </a:cubicBezTo>
                <a:cubicBezTo>
                  <a:pt x="198" y="286"/>
                  <a:pt x="198" y="286"/>
                  <a:pt x="198" y="286"/>
                </a:cubicBezTo>
                <a:cubicBezTo>
                  <a:pt x="271" y="286"/>
                  <a:pt x="271" y="286"/>
                  <a:pt x="271" y="286"/>
                </a:cubicBezTo>
                <a:cubicBezTo>
                  <a:pt x="280" y="286"/>
                  <a:pt x="287" y="279"/>
                  <a:pt x="287" y="271"/>
                </a:cubicBezTo>
                <a:cubicBezTo>
                  <a:pt x="287" y="15"/>
                  <a:pt x="287" y="15"/>
                  <a:pt x="287" y="15"/>
                </a:cubicBezTo>
                <a:cubicBezTo>
                  <a:pt x="287" y="7"/>
                  <a:pt x="280" y="0"/>
                  <a:pt x="27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2" name="Rectangle 15"/>
          <p:cNvSpPr/>
          <p:nvPr/>
        </p:nvSpPr>
        <p:spPr>
          <a:xfrm>
            <a:off x="7358040" y="3637080"/>
            <a:ext cx="595440" cy="593640"/>
          </a:xfrm>
          <a:prstGeom prst="rect">
            <a:avLst/>
          </a:pr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3" name="Freeform 16"/>
          <p:cNvSpPr/>
          <p:nvPr/>
        </p:nvSpPr>
        <p:spPr>
          <a:xfrm>
            <a:off x="7489800" y="3767040"/>
            <a:ext cx="331920" cy="3333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253" y="121"/>
                </a:moveTo>
                <a:cubicBezTo>
                  <a:pt x="228" y="121"/>
                  <a:pt x="228" y="121"/>
                  <a:pt x="228" y="121"/>
                </a:cubicBezTo>
                <a:cubicBezTo>
                  <a:pt x="230" y="128"/>
                  <a:pt x="231" y="135"/>
                  <a:pt x="231" y="143"/>
                </a:cubicBezTo>
                <a:cubicBezTo>
                  <a:pt x="231" y="192"/>
                  <a:pt x="192" y="231"/>
                  <a:pt x="143" y="231"/>
                </a:cubicBezTo>
                <a:cubicBezTo>
                  <a:pt x="94" y="231"/>
                  <a:pt x="55" y="192"/>
                  <a:pt x="55" y="143"/>
                </a:cubicBezTo>
                <a:cubicBezTo>
                  <a:pt x="55" y="135"/>
                  <a:pt x="56" y="128"/>
                  <a:pt x="58" y="121"/>
                </a:cubicBezTo>
                <a:cubicBezTo>
                  <a:pt x="33" y="121"/>
                  <a:pt x="33" y="121"/>
                  <a:pt x="33" y="121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3" y="248"/>
                  <a:pt x="38" y="253"/>
                  <a:pt x="44" y="253"/>
                </a:cubicBezTo>
                <a:cubicBezTo>
                  <a:pt x="242" y="253"/>
                  <a:pt x="242" y="253"/>
                  <a:pt x="242" y="253"/>
                </a:cubicBezTo>
                <a:cubicBezTo>
                  <a:pt x="248" y="253"/>
                  <a:pt x="253" y="248"/>
                  <a:pt x="253" y="242"/>
                </a:cubicBezTo>
                <a:lnTo>
                  <a:pt x="253" y="121"/>
                </a:lnTo>
                <a:close/>
                <a:moveTo>
                  <a:pt x="253" y="44"/>
                </a:moveTo>
                <a:cubicBezTo>
                  <a:pt x="253" y="38"/>
                  <a:pt x="248" y="33"/>
                  <a:pt x="242" y="33"/>
                </a:cubicBezTo>
                <a:cubicBezTo>
                  <a:pt x="209" y="33"/>
                  <a:pt x="209" y="33"/>
                  <a:pt x="209" y="33"/>
                </a:cubicBezTo>
                <a:cubicBezTo>
                  <a:pt x="203" y="33"/>
                  <a:pt x="198" y="38"/>
                  <a:pt x="198" y="44"/>
                </a:cubicBezTo>
                <a:cubicBezTo>
                  <a:pt x="198" y="77"/>
                  <a:pt x="198" y="77"/>
                  <a:pt x="198" y="77"/>
                </a:cubicBezTo>
                <a:cubicBezTo>
                  <a:pt x="198" y="83"/>
                  <a:pt x="203" y="88"/>
                  <a:pt x="209" y="88"/>
                </a:cubicBezTo>
                <a:cubicBezTo>
                  <a:pt x="242" y="88"/>
                  <a:pt x="242" y="88"/>
                  <a:pt x="242" y="88"/>
                </a:cubicBezTo>
                <a:cubicBezTo>
                  <a:pt x="248" y="88"/>
                  <a:pt x="253" y="83"/>
                  <a:pt x="253" y="77"/>
                </a:cubicBezTo>
                <a:lnTo>
                  <a:pt x="253" y="44"/>
                </a:lnTo>
                <a:close/>
                <a:moveTo>
                  <a:pt x="143" y="88"/>
                </a:moveTo>
                <a:cubicBezTo>
                  <a:pt x="113" y="88"/>
                  <a:pt x="88" y="113"/>
                  <a:pt x="88" y="143"/>
                </a:cubicBezTo>
                <a:cubicBezTo>
                  <a:pt x="88" y="173"/>
                  <a:pt x="113" y="198"/>
                  <a:pt x="143" y="198"/>
                </a:cubicBezTo>
                <a:cubicBezTo>
                  <a:pt x="173" y="198"/>
                  <a:pt x="198" y="173"/>
                  <a:pt x="198" y="143"/>
                </a:cubicBezTo>
                <a:cubicBezTo>
                  <a:pt x="198" y="113"/>
                  <a:pt x="173" y="88"/>
                  <a:pt x="143" y="88"/>
                </a:cubicBezTo>
                <a:moveTo>
                  <a:pt x="253" y="286"/>
                </a:moveTo>
                <a:cubicBezTo>
                  <a:pt x="33" y="286"/>
                  <a:pt x="33" y="286"/>
                  <a:pt x="33" y="286"/>
                </a:cubicBezTo>
                <a:cubicBezTo>
                  <a:pt x="14" y="286"/>
                  <a:pt x="0" y="272"/>
                  <a:pt x="0" y="25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4"/>
                  <a:pt x="14" y="0"/>
                  <a:pt x="33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72" y="0"/>
                  <a:pt x="286" y="14"/>
                  <a:pt x="286" y="33"/>
                </a:cubicBezTo>
                <a:cubicBezTo>
                  <a:pt x="286" y="253"/>
                  <a:pt x="286" y="253"/>
                  <a:pt x="286" y="253"/>
                </a:cubicBezTo>
                <a:cubicBezTo>
                  <a:pt x="286" y="272"/>
                  <a:pt x="272" y="286"/>
                  <a:pt x="253" y="28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4" name="Rectangle 20"/>
          <p:cNvSpPr/>
          <p:nvPr/>
        </p:nvSpPr>
        <p:spPr>
          <a:xfrm>
            <a:off x="3643200" y="5113440"/>
            <a:ext cx="595440" cy="59508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505" name="Group 1"/>
          <p:cNvGrpSpPr/>
          <p:nvPr/>
        </p:nvGrpSpPr>
        <p:grpSpPr>
          <a:xfrm>
            <a:off x="3772080" y="5243400"/>
            <a:ext cx="333360" cy="331920"/>
            <a:chOff x="3772080" y="5243400"/>
            <a:chExt cx="333360" cy="331920"/>
          </a:xfrm>
        </p:grpSpPr>
        <p:sp>
          <p:nvSpPr>
            <p:cNvPr id="1506" name="Freeform 21"/>
            <p:cNvSpPr/>
            <p:nvPr/>
          </p:nvSpPr>
          <p:spPr>
            <a:xfrm>
              <a:off x="3772080" y="5243400"/>
              <a:ext cx="80280" cy="331920"/>
            </a:xfrm>
            <a:custGeom>
              <a:avLst/>
              <a:gdLst/>
              <a:ahLst/>
              <a:rect l="l" t="t" r="r" b="b"/>
              <a:pathLst>
                <a:path w="69" h="286">
                  <a:moveTo>
                    <a:pt x="5" y="95"/>
                  </a:moveTo>
                  <a:cubicBezTo>
                    <a:pt x="64" y="95"/>
                    <a:pt x="64" y="95"/>
                    <a:pt x="64" y="95"/>
                  </a:cubicBezTo>
                  <a:cubicBezTo>
                    <a:pt x="64" y="286"/>
                    <a:pt x="64" y="286"/>
                    <a:pt x="64" y="286"/>
                  </a:cubicBezTo>
                  <a:cubicBezTo>
                    <a:pt x="5" y="286"/>
                    <a:pt x="5" y="286"/>
                    <a:pt x="5" y="286"/>
                  </a:cubicBezTo>
                  <a:lnTo>
                    <a:pt x="5" y="95"/>
                  </a:lnTo>
                  <a:close/>
                  <a:moveTo>
                    <a:pt x="35" y="0"/>
                  </a:moveTo>
                  <a:cubicBezTo>
                    <a:pt x="54" y="0"/>
                    <a:pt x="69" y="16"/>
                    <a:pt x="69" y="35"/>
                  </a:cubicBezTo>
                  <a:cubicBezTo>
                    <a:pt x="69" y="54"/>
                    <a:pt x="54" y="69"/>
                    <a:pt x="35" y="69"/>
                  </a:cubicBezTo>
                  <a:cubicBezTo>
                    <a:pt x="16" y="69"/>
                    <a:pt x="0" y="54"/>
                    <a:pt x="0" y="35"/>
                  </a:cubicBezTo>
                  <a:cubicBezTo>
                    <a:pt x="0" y="16"/>
                    <a:pt x="16" y="0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07" name="Freeform 22"/>
            <p:cNvSpPr/>
            <p:nvPr/>
          </p:nvSpPr>
          <p:spPr>
            <a:xfrm>
              <a:off x="3890520" y="5349240"/>
              <a:ext cx="214920" cy="226080"/>
            </a:xfrm>
            <a:custGeom>
              <a:avLst/>
              <a:gdLst/>
              <a:ahLst/>
              <a:rect l="l" t="t" r="r" b="b"/>
              <a:pathLst>
                <a:path w="185" h="195">
                  <a:moveTo>
                    <a:pt x="0" y="4"/>
                  </a:moveTo>
                  <a:cubicBezTo>
                    <a:pt x="57" y="4"/>
                    <a:pt x="57" y="4"/>
                    <a:pt x="57" y="4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65" y="15"/>
                    <a:pt x="85" y="0"/>
                    <a:pt x="114" y="0"/>
                  </a:cubicBezTo>
                  <a:cubicBezTo>
                    <a:pt x="174" y="0"/>
                    <a:pt x="185" y="39"/>
                    <a:pt x="185" y="91"/>
                  </a:cubicBezTo>
                  <a:cubicBezTo>
                    <a:pt x="185" y="195"/>
                    <a:pt x="185" y="195"/>
                    <a:pt x="185" y="195"/>
                  </a:cubicBezTo>
                  <a:cubicBezTo>
                    <a:pt x="125" y="195"/>
                    <a:pt x="125" y="195"/>
                    <a:pt x="125" y="195"/>
                  </a:cubicBezTo>
                  <a:cubicBezTo>
                    <a:pt x="125" y="102"/>
                    <a:pt x="125" y="102"/>
                    <a:pt x="125" y="102"/>
                  </a:cubicBezTo>
                  <a:cubicBezTo>
                    <a:pt x="125" y="80"/>
                    <a:pt x="125" y="52"/>
                    <a:pt x="95" y="52"/>
                  </a:cubicBezTo>
                  <a:cubicBezTo>
                    <a:pt x="64" y="52"/>
                    <a:pt x="59" y="76"/>
                    <a:pt x="59" y="101"/>
                  </a:cubicBezTo>
                  <a:cubicBezTo>
                    <a:pt x="59" y="195"/>
                    <a:pt x="59" y="195"/>
                    <a:pt x="59" y="195"/>
                  </a:cubicBezTo>
                  <a:cubicBezTo>
                    <a:pt x="0" y="195"/>
                    <a:pt x="0" y="195"/>
                    <a:pt x="0" y="195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508" name="TextBox 169"/>
          <p:cNvSpPr/>
          <p:nvPr/>
        </p:nvSpPr>
        <p:spPr>
          <a:xfrm>
            <a:off x="2649600" y="31291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8M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9" name="TextBox 170"/>
          <p:cNvSpPr/>
          <p:nvPr/>
        </p:nvSpPr>
        <p:spPr>
          <a:xfrm>
            <a:off x="939960" y="363708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0" name="TextBox 171"/>
          <p:cNvSpPr/>
          <p:nvPr/>
        </p:nvSpPr>
        <p:spPr>
          <a:xfrm>
            <a:off x="2066760" y="4564080"/>
            <a:ext cx="15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2M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1" name="TextBox 172"/>
          <p:cNvSpPr/>
          <p:nvPr/>
        </p:nvSpPr>
        <p:spPr>
          <a:xfrm>
            <a:off x="351000" y="506088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2" name="TextBox 173"/>
          <p:cNvSpPr/>
          <p:nvPr/>
        </p:nvSpPr>
        <p:spPr>
          <a:xfrm>
            <a:off x="7948440" y="3129120"/>
            <a:ext cx="19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248K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3" name="TextBox 174"/>
          <p:cNvSpPr/>
          <p:nvPr/>
        </p:nvSpPr>
        <p:spPr>
          <a:xfrm>
            <a:off x="7950240" y="3637080"/>
            <a:ext cx="329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4" name="TextBox 175"/>
          <p:cNvSpPr/>
          <p:nvPr/>
        </p:nvSpPr>
        <p:spPr>
          <a:xfrm>
            <a:off x="8540640" y="4562640"/>
            <a:ext cx="19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Roboto Slab"/>
              </a:rPr>
              <a:t>58K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5" name="TextBox 176"/>
          <p:cNvSpPr/>
          <p:nvPr/>
        </p:nvSpPr>
        <p:spPr>
          <a:xfrm>
            <a:off x="8543880" y="507060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6" name="TextBox 29"/>
          <p:cNvSpPr/>
          <p:nvPr/>
        </p:nvSpPr>
        <p:spPr>
          <a:xfrm>
            <a:off x="4994280" y="3745080"/>
            <a:ext cx="2203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2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35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8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9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500"/>
                            </p:stCondLst>
                            <p:childTnLst>
                              <p:par>
                                <p:cTn id="9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0"/>
                            </p:stCondLst>
                            <p:childTnLst>
                              <p:par>
                                <p:cTn id="9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Problem/Solution Slid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18" name="Figure"/>
          <p:cNvSpPr/>
          <p:nvPr/>
        </p:nvSpPr>
        <p:spPr>
          <a:xfrm>
            <a:off x="4386240" y="3895560"/>
            <a:ext cx="2897280" cy="21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742" y="21600"/>
                </a:moveTo>
                <a:lnTo>
                  <a:pt x="345" y="21600"/>
                </a:lnTo>
                <a:cubicBezTo>
                  <a:pt x="156" y="21600"/>
                  <a:pt x="0" y="21386"/>
                  <a:pt x="0" y="21129"/>
                </a:cubicBezTo>
                <a:lnTo>
                  <a:pt x="0" y="15012"/>
                </a:lnTo>
                <a:cubicBezTo>
                  <a:pt x="0" y="14754"/>
                  <a:pt x="156" y="14540"/>
                  <a:pt x="345" y="14540"/>
                </a:cubicBezTo>
                <a:lnTo>
                  <a:pt x="4610" y="14540"/>
                </a:lnTo>
                <a:lnTo>
                  <a:pt x="4610" y="8323"/>
                </a:lnTo>
                <a:cubicBezTo>
                  <a:pt x="4610" y="8065"/>
                  <a:pt x="4766" y="7852"/>
                  <a:pt x="4955" y="7852"/>
                </a:cubicBezTo>
                <a:cubicBezTo>
                  <a:pt x="5144" y="7852"/>
                  <a:pt x="5300" y="8065"/>
                  <a:pt x="5300" y="8323"/>
                </a:cubicBezTo>
                <a:lnTo>
                  <a:pt x="5300" y="15012"/>
                </a:lnTo>
                <a:cubicBezTo>
                  <a:pt x="5300" y="15270"/>
                  <a:pt x="5144" y="15483"/>
                  <a:pt x="4955" y="15483"/>
                </a:cubicBezTo>
                <a:lnTo>
                  <a:pt x="690" y="15483"/>
                </a:lnTo>
                <a:lnTo>
                  <a:pt x="690" y="20657"/>
                </a:lnTo>
                <a:lnTo>
                  <a:pt x="13402" y="20657"/>
                </a:lnTo>
                <a:lnTo>
                  <a:pt x="13402" y="13509"/>
                </a:lnTo>
                <a:cubicBezTo>
                  <a:pt x="13402" y="13252"/>
                  <a:pt x="13558" y="13038"/>
                  <a:pt x="13747" y="13038"/>
                </a:cubicBezTo>
                <a:lnTo>
                  <a:pt x="17708" y="13038"/>
                </a:lnTo>
                <a:cubicBezTo>
                  <a:pt x="17896" y="13038"/>
                  <a:pt x="18053" y="13252"/>
                  <a:pt x="18053" y="13509"/>
                </a:cubicBezTo>
                <a:lnTo>
                  <a:pt x="18053" y="20123"/>
                </a:lnTo>
                <a:lnTo>
                  <a:pt x="20910" y="20123"/>
                </a:lnTo>
                <a:lnTo>
                  <a:pt x="20878" y="471"/>
                </a:lnTo>
                <a:cubicBezTo>
                  <a:pt x="20878" y="214"/>
                  <a:pt x="21030" y="0"/>
                  <a:pt x="21223" y="0"/>
                </a:cubicBezTo>
                <a:cubicBezTo>
                  <a:pt x="21223" y="0"/>
                  <a:pt x="21223" y="0"/>
                  <a:pt x="21223" y="0"/>
                </a:cubicBezTo>
                <a:cubicBezTo>
                  <a:pt x="21411" y="0"/>
                  <a:pt x="21568" y="207"/>
                  <a:pt x="21568" y="471"/>
                </a:cubicBezTo>
                <a:lnTo>
                  <a:pt x="21600" y="20594"/>
                </a:lnTo>
                <a:cubicBezTo>
                  <a:pt x="21600" y="20720"/>
                  <a:pt x="21563" y="20839"/>
                  <a:pt x="21499" y="20927"/>
                </a:cubicBezTo>
                <a:cubicBezTo>
                  <a:pt x="21434" y="21015"/>
                  <a:pt x="21347" y="21066"/>
                  <a:pt x="21255" y="21066"/>
                </a:cubicBezTo>
                <a:lnTo>
                  <a:pt x="17708" y="21066"/>
                </a:lnTo>
                <a:cubicBezTo>
                  <a:pt x="17519" y="21066"/>
                  <a:pt x="17363" y="20852"/>
                  <a:pt x="17363" y="20594"/>
                </a:cubicBezTo>
                <a:lnTo>
                  <a:pt x="17363" y="13981"/>
                </a:lnTo>
                <a:lnTo>
                  <a:pt x="14092" y="13981"/>
                </a:lnTo>
                <a:lnTo>
                  <a:pt x="14092" y="21135"/>
                </a:lnTo>
                <a:cubicBezTo>
                  <a:pt x="14087" y="21393"/>
                  <a:pt x="13935" y="21600"/>
                  <a:pt x="13742" y="21600"/>
                </a:cubicBezTo>
                <a:close/>
              </a:path>
            </a:pathLst>
          </a:cu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9" name="Figure"/>
          <p:cNvSpPr/>
          <p:nvPr/>
        </p:nvSpPr>
        <p:spPr>
          <a:xfrm>
            <a:off x="6934320" y="2846520"/>
            <a:ext cx="591840" cy="544320"/>
          </a:xfrm>
          <a:custGeom>
            <a:avLst/>
            <a:gdLst/>
            <a:ahLst/>
            <a:rect l="l" t="t" r="r" b="b"/>
            <a:pathLst>
              <a:path w="21249" h="21577">
                <a:moveTo>
                  <a:pt x="20139" y="806"/>
                </a:moveTo>
                <a:cubicBezTo>
                  <a:pt x="19230" y="244"/>
                  <a:pt x="17655" y="195"/>
                  <a:pt x="16213" y="1906"/>
                </a:cubicBezTo>
                <a:cubicBezTo>
                  <a:pt x="15637" y="2590"/>
                  <a:pt x="15149" y="3690"/>
                  <a:pt x="14750" y="5009"/>
                </a:cubicBezTo>
                <a:cubicBezTo>
                  <a:pt x="14040" y="4960"/>
                  <a:pt x="13331" y="4862"/>
                  <a:pt x="12687" y="4691"/>
                </a:cubicBezTo>
                <a:cubicBezTo>
                  <a:pt x="13685" y="3910"/>
                  <a:pt x="13796" y="3005"/>
                  <a:pt x="13752" y="2566"/>
                </a:cubicBezTo>
                <a:cubicBezTo>
                  <a:pt x="13685" y="1295"/>
                  <a:pt x="12222" y="0"/>
                  <a:pt x="10625" y="0"/>
                </a:cubicBezTo>
                <a:cubicBezTo>
                  <a:pt x="9028" y="0"/>
                  <a:pt x="7565" y="1295"/>
                  <a:pt x="7498" y="2566"/>
                </a:cubicBezTo>
                <a:cubicBezTo>
                  <a:pt x="7476" y="3005"/>
                  <a:pt x="7565" y="3910"/>
                  <a:pt x="8563" y="4691"/>
                </a:cubicBezTo>
                <a:cubicBezTo>
                  <a:pt x="7919" y="4838"/>
                  <a:pt x="7210" y="4960"/>
                  <a:pt x="6500" y="5009"/>
                </a:cubicBezTo>
                <a:cubicBezTo>
                  <a:pt x="6101" y="3690"/>
                  <a:pt x="5613" y="2590"/>
                  <a:pt x="5037" y="1906"/>
                </a:cubicBezTo>
                <a:cubicBezTo>
                  <a:pt x="3595" y="195"/>
                  <a:pt x="2020" y="244"/>
                  <a:pt x="1111" y="806"/>
                </a:cubicBezTo>
                <a:cubicBezTo>
                  <a:pt x="246" y="1344"/>
                  <a:pt x="-175" y="2321"/>
                  <a:pt x="69" y="3274"/>
                </a:cubicBezTo>
                <a:cubicBezTo>
                  <a:pt x="335" y="4374"/>
                  <a:pt x="1023" y="5278"/>
                  <a:pt x="2020" y="5889"/>
                </a:cubicBezTo>
                <a:cubicBezTo>
                  <a:pt x="2952" y="6451"/>
                  <a:pt x="4105" y="6719"/>
                  <a:pt x="5325" y="6793"/>
                </a:cubicBezTo>
                <a:cubicBezTo>
                  <a:pt x="6367" y="11167"/>
                  <a:pt x="6766" y="17788"/>
                  <a:pt x="6833" y="20720"/>
                </a:cubicBezTo>
                <a:cubicBezTo>
                  <a:pt x="6855" y="21209"/>
                  <a:pt x="7210" y="21600"/>
                  <a:pt x="7653" y="21576"/>
                </a:cubicBezTo>
                <a:cubicBezTo>
                  <a:pt x="8097" y="21551"/>
                  <a:pt x="8452" y="21160"/>
                  <a:pt x="8430" y="20671"/>
                </a:cubicBezTo>
                <a:cubicBezTo>
                  <a:pt x="8407" y="19548"/>
                  <a:pt x="8163" y="12119"/>
                  <a:pt x="6944" y="6768"/>
                </a:cubicBezTo>
                <a:cubicBezTo>
                  <a:pt x="8008" y="6671"/>
                  <a:pt x="9028" y="6451"/>
                  <a:pt x="9938" y="6157"/>
                </a:cubicBezTo>
                <a:cubicBezTo>
                  <a:pt x="10181" y="6084"/>
                  <a:pt x="10403" y="5986"/>
                  <a:pt x="10625" y="5864"/>
                </a:cubicBezTo>
                <a:cubicBezTo>
                  <a:pt x="10847" y="5962"/>
                  <a:pt x="11069" y="6060"/>
                  <a:pt x="11312" y="6157"/>
                </a:cubicBezTo>
                <a:cubicBezTo>
                  <a:pt x="12200" y="6475"/>
                  <a:pt x="13242" y="6695"/>
                  <a:pt x="14306" y="6768"/>
                </a:cubicBezTo>
                <a:cubicBezTo>
                  <a:pt x="13087" y="12144"/>
                  <a:pt x="12865" y="19572"/>
                  <a:pt x="12820" y="20671"/>
                </a:cubicBezTo>
                <a:cubicBezTo>
                  <a:pt x="12798" y="21160"/>
                  <a:pt x="13153" y="21576"/>
                  <a:pt x="13597" y="21576"/>
                </a:cubicBezTo>
                <a:cubicBezTo>
                  <a:pt x="14040" y="21600"/>
                  <a:pt x="14417" y="21209"/>
                  <a:pt x="14417" y="20720"/>
                </a:cubicBezTo>
                <a:cubicBezTo>
                  <a:pt x="14484" y="17788"/>
                  <a:pt x="14905" y="11167"/>
                  <a:pt x="15925" y="6793"/>
                </a:cubicBezTo>
                <a:cubicBezTo>
                  <a:pt x="17123" y="6719"/>
                  <a:pt x="18298" y="6451"/>
                  <a:pt x="19230" y="5889"/>
                </a:cubicBezTo>
                <a:cubicBezTo>
                  <a:pt x="20227" y="5278"/>
                  <a:pt x="20893" y="4374"/>
                  <a:pt x="21181" y="3274"/>
                </a:cubicBezTo>
                <a:cubicBezTo>
                  <a:pt x="21425" y="2321"/>
                  <a:pt x="21004" y="1344"/>
                  <a:pt x="20139" y="806"/>
                </a:cubicBezTo>
                <a:close/>
                <a:moveTo>
                  <a:pt x="2797" y="4325"/>
                </a:moveTo>
                <a:cubicBezTo>
                  <a:pt x="2176" y="3958"/>
                  <a:pt x="1799" y="3445"/>
                  <a:pt x="1621" y="2810"/>
                </a:cubicBezTo>
                <a:cubicBezTo>
                  <a:pt x="1599" y="2663"/>
                  <a:pt x="1710" y="2492"/>
                  <a:pt x="1887" y="2370"/>
                </a:cubicBezTo>
                <a:cubicBezTo>
                  <a:pt x="2287" y="2126"/>
                  <a:pt x="3041" y="2175"/>
                  <a:pt x="3861" y="3128"/>
                </a:cubicBezTo>
                <a:cubicBezTo>
                  <a:pt x="4216" y="3543"/>
                  <a:pt x="4526" y="4178"/>
                  <a:pt x="4793" y="4985"/>
                </a:cubicBezTo>
                <a:cubicBezTo>
                  <a:pt x="4061" y="4862"/>
                  <a:pt x="3351" y="4667"/>
                  <a:pt x="2797" y="4325"/>
                </a:cubicBezTo>
                <a:close/>
                <a:moveTo>
                  <a:pt x="10625" y="3836"/>
                </a:moveTo>
                <a:cubicBezTo>
                  <a:pt x="9494" y="3421"/>
                  <a:pt x="9073" y="2932"/>
                  <a:pt x="9095" y="2688"/>
                </a:cubicBezTo>
                <a:cubicBezTo>
                  <a:pt x="9117" y="2419"/>
                  <a:pt x="9960" y="1808"/>
                  <a:pt x="10625" y="1808"/>
                </a:cubicBezTo>
                <a:cubicBezTo>
                  <a:pt x="11290" y="1808"/>
                  <a:pt x="12133" y="2419"/>
                  <a:pt x="12155" y="2688"/>
                </a:cubicBezTo>
                <a:cubicBezTo>
                  <a:pt x="12177" y="2932"/>
                  <a:pt x="11756" y="3445"/>
                  <a:pt x="10625" y="3836"/>
                </a:cubicBezTo>
                <a:close/>
                <a:moveTo>
                  <a:pt x="18476" y="4325"/>
                </a:moveTo>
                <a:cubicBezTo>
                  <a:pt x="17899" y="4667"/>
                  <a:pt x="17211" y="4862"/>
                  <a:pt x="16480" y="4960"/>
                </a:cubicBezTo>
                <a:cubicBezTo>
                  <a:pt x="16746" y="4154"/>
                  <a:pt x="17056" y="3519"/>
                  <a:pt x="17411" y="3103"/>
                </a:cubicBezTo>
                <a:cubicBezTo>
                  <a:pt x="18209" y="2150"/>
                  <a:pt x="18963" y="2101"/>
                  <a:pt x="19385" y="2346"/>
                </a:cubicBezTo>
                <a:cubicBezTo>
                  <a:pt x="19584" y="2468"/>
                  <a:pt x="19695" y="2639"/>
                  <a:pt x="19651" y="2786"/>
                </a:cubicBezTo>
                <a:cubicBezTo>
                  <a:pt x="19473" y="3445"/>
                  <a:pt x="19096" y="3934"/>
                  <a:pt x="18476" y="4325"/>
                </a:cubicBezTo>
                <a:close/>
              </a:path>
            </a:pathLst>
          </a:cu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0" name="Figure"/>
          <p:cNvSpPr/>
          <p:nvPr/>
        </p:nvSpPr>
        <p:spPr>
          <a:xfrm>
            <a:off x="6607080" y="2309760"/>
            <a:ext cx="1247760" cy="1093680"/>
          </a:xfrm>
          <a:custGeom>
            <a:avLst/>
            <a:gdLst/>
            <a:ahLst/>
            <a:rect l="l" t="t" r="r" b="b"/>
            <a:pathLst>
              <a:path w="21600" h="21576">
                <a:moveTo>
                  <a:pt x="4074" y="21576"/>
                </a:moveTo>
                <a:cubicBezTo>
                  <a:pt x="3850" y="21576"/>
                  <a:pt x="3625" y="21478"/>
                  <a:pt x="3454" y="21296"/>
                </a:cubicBezTo>
                <a:cubicBezTo>
                  <a:pt x="1262" y="18984"/>
                  <a:pt x="0" y="15698"/>
                  <a:pt x="0" y="12291"/>
                </a:cubicBezTo>
                <a:cubicBezTo>
                  <a:pt x="0" y="5513"/>
                  <a:pt x="4844" y="0"/>
                  <a:pt x="10800" y="0"/>
                </a:cubicBezTo>
                <a:cubicBezTo>
                  <a:pt x="16756" y="0"/>
                  <a:pt x="21600" y="5513"/>
                  <a:pt x="21600" y="12291"/>
                </a:cubicBezTo>
                <a:cubicBezTo>
                  <a:pt x="21600" y="15698"/>
                  <a:pt x="20402" y="18862"/>
                  <a:pt x="18232" y="21198"/>
                </a:cubicBezTo>
                <a:cubicBezTo>
                  <a:pt x="17868" y="21600"/>
                  <a:pt x="17280" y="21576"/>
                  <a:pt x="16938" y="21162"/>
                </a:cubicBezTo>
                <a:cubicBezTo>
                  <a:pt x="16585" y="20748"/>
                  <a:pt x="16606" y="20079"/>
                  <a:pt x="16970" y="19689"/>
                </a:cubicBezTo>
                <a:cubicBezTo>
                  <a:pt x="18766" y="17742"/>
                  <a:pt x="19761" y="15114"/>
                  <a:pt x="19761" y="12291"/>
                </a:cubicBezTo>
                <a:cubicBezTo>
                  <a:pt x="19761" y="6669"/>
                  <a:pt x="15740" y="2093"/>
                  <a:pt x="10800" y="2093"/>
                </a:cubicBezTo>
                <a:cubicBezTo>
                  <a:pt x="5860" y="2093"/>
                  <a:pt x="1839" y="6669"/>
                  <a:pt x="1839" y="12291"/>
                </a:cubicBezTo>
                <a:cubicBezTo>
                  <a:pt x="1839" y="15114"/>
                  <a:pt x="2887" y="17840"/>
                  <a:pt x="4705" y="19762"/>
                </a:cubicBezTo>
                <a:cubicBezTo>
                  <a:pt x="5079" y="20152"/>
                  <a:pt x="5101" y="20821"/>
                  <a:pt x="4748" y="21235"/>
                </a:cubicBezTo>
                <a:cubicBezTo>
                  <a:pt x="4566" y="21466"/>
                  <a:pt x="4320" y="21576"/>
                  <a:pt x="4074" y="21576"/>
                </a:cubicBez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1" name="Figure"/>
          <p:cNvSpPr/>
          <p:nvPr/>
        </p:nvSpPr>
        <p:spPr>
          <a:xfrm>
            <a:off x="6927840" y="3419640"/>
            <a:ext cx="60804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843"/>
                  <a:pt x="20765" y="21600"/>
                  <a:pt x="19732" y="21600"/>
                </a:cubicBezTo>
                <a:lnTo>
                  <a:pt x="1868" y="21600"/>
                </a:lnTo>
                <a:cubicBezTo>
                  <a:pt x="835" y="21600"/>
                  <a:pt x="0" y="16714"/>
                  <a:pt x="0" y="10800"/>
                </a:cubicBezTo>
                <a:lnTo>
                  <a:pt x="0" y="10800"/>
                </a:lnTo>
                <a:cubicBezTo>
                  <a:pt x="0" y="4757"/>
                  <a:pt x="835" y="0"/>
                  <a:pt x="1868" y="0"/>
                </a:cubicBezTo>
                <a:lnTo>
                  <a:pt x="19732" y="0"/>
                </a:lnTo>
                <a:cubicBezTo>
                  <a:pt x="20787" y="0"/>
                  <a:pt x="21600" y="4757"/>
                  <a:pt x="21600" y="10800"/>
                </a:cubicBezTo>
                <a:lnTo>
                  <a:pt x="21600" y="10800"/>
                </a:ln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2" name="Figure"/>
          <p:cNvSpPr/>
          <p:nvPr/>
        </p:nvSpPr>
        <p:spPr>
          <a:xfrm>
            <a:off x="6927840" y="3556080"/>
            <a:ext cx="608040" cy="104760"/>
          </a:xfrm>
          <a:custGeom>
            <a:avLst/>
            <a:gdLst/>
            <a:ahLst/>
            <a:rect l="l" t="t" r="r" b="b"/>
            <a:pathLst>
              <a:path w="21600" h="21475">
                <a:moveTo>
                  <a:pt x="21600" y="10675"/>
                </a:moveTo>
                <a:cubicBezTo>
                  <a:pt x="21600" y="16647"/>
                  <a:pt x="20765" y="21475"/>
                  <a:pt x="19732" y="21475"/>
                </a:cubicBezTo>
                <a:lnTo>
                  <a:pt x="1868" y="21475"/>
                </a:lnTo>
                <a:cubicBezTo>
                  <a:pt x="835" y="21475"/>
                  <a:pt x="0" y="16647"/>
                  <a:pt x="0" y="10675"/>
                </a:cubicBezTo>
                <a:lnTo>
                  <a:pt x="0" y="10675"/>
                </a:lnTo>
                <a:cubicBezTo>
                  <a:pt x="0" y="4703"/>
                  <a:pt x="835" y="2"/>
                  <a:pt x="1868" y="2"/>
                </a:cubicBezTo>
                <a:lnTo>
                  <a:pt x="19732" y="2"/>
                </a:lnTo>
                <a:cubicBezTo>
                  <a:pt x="20787" y="-125"/>
                  <a:pt x="21600" y="4703"/>
                  <a:pt x="21600" y="10675"/>
                </a:cubicBezTo>
                <a:lnTo>
                  <a:pt x="21600" y="10675"/>
                </a:ln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3" name="Figure"/>
          <p:cNvSpPr/>
          <p:nvPr/>
        </p:nvSpPr>
        <p:spPr>
          <a:xfrm>
            <a:off x="6927840" y="3686040"/>
            <a:ext cx="608040" cy="103320"/>
          </a:xfrm>
          <a:custGeom>
            <a:avLst/>
            <a:gdLst/>
            <a:ahLst/>
            <a:rect l="l" t="t" r="r" b="b"/>
            <a:pathLst>
              <a:path w="21600" h="21475">
                <a:moveTo>
                  <a:pt x="21600" y="10739"/>
                </a:moveTo>
                <a:cubicBezTo>
                  <a:pt x="21600" y="16746"/>
                  <a:pt x="20765" y="21475"/>
                  <a:pt x="19732" y="21475"/>
                </a:cubicBezTo>
                <a:lnTo>
                  <a:pt x="1868" y="21475"/>
                </a:lnTo>
                <a:cubicBezTo>
                  <a:pt x="835" y="21475"/>
                  <a:pt x="0" y="16618"/>
                  <a:pt x="0" y="10739"/>
                </a:cubicBezTo>
                <a:lnTo>
                  <a:pt x="0" y="10739"/>
                </a:lnTo>
                <a:cubicBezTo>
                  <a:pt x="0" y="4732"/>
                  <a:pt x="835" y="3"/>
                  <a:pt x="1868" y="3"/>
                </a:cubicBezTo>
                <a:lnTo>
                  <a:pt x="19732" y="3"/>
                </a:lnTo>
                <a:cubicBezTo>
                  <a:pt x="20787" y="-125"/>
                  <a:pt x="21600" y="4732"/>
                  <a:pt x="21600" y="10739"/>
                </a:cubicBezTo>
                <a:lnTo>
                  <a:pt x="21600" y="10739"/>
                </a:ln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4" name="Figure"/>
          <p:cNvSpPr/>
          <p:nvPr/>
        </p:nvSpPr>
        <p:spPr>
          <a:xfrm>
            <a:off x="7039080" y="3821040"/>
            <a:ext cx="38088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49"/>
                </a:lnTo>
                <a:cubicBezTo>
                  <a:pt x="0" y="13701"/>
                  <a:pt x="3436" y="21600"/>
                  <a:pt x="7679" y="21600"/>
                </a:cubicBezTo>
                <a:lnTo>
                  <a:pt x="13921" y="21600"/>
                </a:lnTo>
                <a:cubicBezTo>
                  <a:pt x="18164" y="21600"/>
                  <a:pt x="21600" y="13701"/>
                  <a:pt x="21600" y="3949"/>
                </a:cubicBez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5" name="Figure"/>
          <p:cNvSpPr/>
          <p:nvPr/>
        </p:nvSpPr>
        <p:spPr>
          <a:xfrm>
            <a:off x="7947000" y="2951280"/>
            <a:ext cx="30168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294" y="21600"/>
                </a:moveTo>
                <a:cubicBezTo>
                  <a:pt x="18294" y="21600"/>
                  <a:pt x="18294" y="21600"/>
                  <a:pt x="18294" y="21600"/>
                </a:cubicBezTo>
                <a:lnTo>
                  <a:pt x="3306" y="21457"/>
                </a:lnTo>
                <a:cubicBezTo>
                  <a:pt x="1499" y="21457"/>
                  <a:pt x="0" y="16593"/>
                  <a:pt x="0" y="10728"/>
                </a:cubicBezTo>
                <a:cubicBezTo>
                  <a:pt x="0" y="4864"/>
                  <a:pt x="1499" y="0"/>
                  <a:pt x="3306" y="0"/>
                </a:cubicBezTo>
                <a:cubicBezTo>
                  <a:pt x="3306" y="0"/>
                  <a:pt x="3306" y="0"/>
                  <a:pt x="3306" y="0"/>
                </a:cubicBezTo>
                <a:lnTo>
                  <a:pt x="18294" y="143"/>
                </a:lnTo>
                <a:cubicBezTo>
                  <a:pt x="20101" y="143"/>
                  <a:pt x="21600" y="5007"/>
                  <a:pt x="21600" y="10872"/>
                </a:cubicBezTo>
                <a:cubicBezTo>
                  <a:pt x="21600" y="16736"/>
                  <a:pt x="20101" y="21600"/>
                  <a:pt x="18294" y="21600"/>
                </a:cubicBez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6" name="Figure"/>
          <p:cNvSpPr/>
          <p:nvPr/>
        </p:nvSpPr>
        <p:spPr>
          <a:xfrm>
            <a:off x="6200640" y="2951280"/>
            <a:ext cx="30816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354" y="21600"/>
                </a:moveTo>
                <a:cubicBezTo>
                  <a:pt x="18354" y="21600"/>
                  <a:pt x="18354" y="21600"/>
                  <a:pt x="18354" y="21600"/>
                </a:cubicBezTo>
                <a:lnTo>
                  <a:pt x="3246" y="21457"/>
                </a:lnTo>
                <a:cubicBezTo>
                  <a:pt x="1472" y="21457"/>
                  <a:pt x="0" y="16593"/>
                  <a:pt x="0" y="10728"/>
                </a:cubicBezTo>
                <a:cubicBezTo>
                  <a:pt x="0" y="4864"/>
                  <a:pt x="1472" y="0"/>
                  <a:pt x="3246" y="0"/>
                </a:cubicBezTo>
                <a:cubicBezTo>
                  <a:pt x="3246" y="0"/>
                  <a:pt x="3246" y="0"/>
                  <a:pt x="3246" y="0"/>
                </a:cubicBezTo>
                <a:lnTo>
                  <a:pt x="18354" y="143"/>
                </a:lnTo>
                <a:cubicBezTo>
                  <a:pt x="20128" y="143"/>
                  <a:pt x="21600" y="5007"/>
                  <a:pt x="21600" y="10872"/>
                </a:cubicBezTo>
                <a:cubicBezTo>
                  <a:pt x="21600" y="16736"/>
                  <a:pt x="20128" y="21600"/>
                  <a:pt x="18354" y="21600"/>
                </a:cubicBez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7" name="Figure"/>
          <p:cNvSpPr/>
          <p:nvPr/>
        </p:nvSpPr>
        <p:spPr>
          <a:xfrm>
            <a:off x="7182000" y="1927080"/>
            <a:ext cx="9180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600"/>
                </a:moveTo>
                <a:cubicBezTo>
                  <a:pt x="10800" y="21600"/>
                  <a:pt x="10800" y="21600"/>
                  <a:pt x="10800" y="21600"/>
                </a:cubicBezTo>
                <a:cubicBezTo>
                  <a:pt x="4752" y="21600"/>
                  <a:pt x="0" y="20037"/>
                  <a:pt x="0" y="18153"/>
                </a:cubicBezTo>
                <a:lnTo>
                  <a:pt x="0" y="3447"/>
                </a:lnTo>
                <a:cubicBezTo>
                  <a:pt x="0" y="1563"/>
                  <a:pt x="4896" y="0"/>
                  <a:pt x="10800" y="0"/>
                </a:cubicBezTo>
                <a:cubicBezTo>
                  <a:pt x="10800" y="0"/>
                  <a:pt x="10800" y="0"/>
                  <a:pt x="10800" y="0"/>
                </a:cubicBezTo>
                <a:cubicBezTo>
                  <a:pt x="16704" y="0"/>
                  <a:pt x="21600" y="1563"/>
                  <a:pt x="21600" y="3447"/>
                </a:cubicBezTo>
                <a:lnTo>
                  <a:pt x="21600" y="18153"/>
                </a:lnTo>
                <a:cubicBezTo>
                  <a:pt x="21600" y="20037"/>
                  <a:pt x="16704" y="21600"/>
                  <a:pt x="10800" y="21600"/>
                </a:cubicBez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8" name="Figure"/>
          <p:cNvSpPr/>
          <p:nvPr/>
        </p:nvSpPr>
        <p:spPr>
          <a:xfrm>
            <a:off x="7754760" y="2235240"/>
            <a:ext cx="223920" cy="223920"/>
          </a:xfrm>
          <a:custGeom>
            <a:avLst/>
            <a:gdLst/>
            <a:ahLst/>
            <a:rect l="l" t="t" r="r" b="b"/>
            <a:pathLst>
              <a:path w="20769" h="21176">
                <a:moveTo>
                  <a:pt x="4283" y="21176"/>
                </a:moveTo>
                <a:cubicBezTo>
                  <a:pt x="3195" y="21176"/>
                  <a:pt x="2106" y="20766"/>
                  <a:pt x="1247" y="19888"/>
                </a:cubicBezTo>
                <a:cubicBezTo>
                  <a:pt x="-415" y="18191"/>
                  <a:pt x="-415" y="15381"/>
                  <a:pt x="1247" y="13683"/>
                </a:cubicBezTo>
                <a:lnTo>
                  <a:pt x="13450" y="1274"/>
                </a:lnTo>
                <a:cubicBezTo>
                  <a:pt x="15112" y="-424"/>
                  <a:pt x="17862" y="-424"/>
                  <a:pt x="19523" y="1274"/>
                </a:cubicBezTo>
                <a:cubicBezTo>
                  <a:pt x="21185" y="2971"/>
                  <a:pt x="21185" y="5781"/>
                  <a:pt x="19523" y="7478"/>
                </a:cubicBezTo>
                <a:lnTo>
                  <a:pt x="7320" y="19888"/>
                </a:lnTo>
                <a:cubicBezTo>
                  <a:pt x="6518" y="20766"/>
                  <a:pt x="5372" y="21176"/>
                  <a:pt x="4283" y="21176"/>
                </a:cubicBez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9" name="Figure"/>
          <p:cNvSpPr/>
          <p:nvPr/>
        </p:nvSpPr>
        <p:spPr>
          <a:xfrm>
            <a:off x="6472080" y="2297160"/>
            <a:ext cx="222480" cy="222120"/>
          </a:xfrm>
          <a:custGeom>
            <a:avLst/>
            <a:gdLst/>
            <a:ahLst/>
            <a:rect l="l" t="t" r="r" b="b"/>
            <a:pathLst>
              <a:path w="20767" h="21174">
                <a:moveTo>
                  <a:pt x="16473" y="21174"/>
                </a:moveTo>
                <a:cubicBezTo>
                  <a:pt x="15382" y="21174"/>
                  <a:pt x="14290" y="20763"/>
                  <a:pt x="13429" y="19883"/>
                </a:cubicBezTo>
                <a:lnTo>
                  <a:pt x="1250" y="7498"/>
                </a:lnTo>
                <a:cubicBezTo>
                  <a:pt x="-416" y="5796"/>
                  <a:pt x="-416" y="2978"/>
                  <a:pt x="1250" y="1276"/>
                </a:cubicBezTo>
                <a:cubicBezTo>
                  <a:pt x="2916" y="-426"/>
                  <a:pt x="5673" y="-426"/>
                  <a:pt x="7339" y="1276"/>
                </a:cubicBezTo>
                <a:lnTo>
                  <a:pt x="19518" y="13661"/>
                </a:lnTo>
                <a:cubicBezTo>
                  <a:pt x="21184" y="15363"/>
                  <a:pt x="21184" y="18181"/>
                  <a:pt x="19518" y="19883"/>
                </a:cubicBezTo>
                <a:cubicBezTo>
                  <a:pt x="18714" y="20763"/>
                  <a:pt x="17565" y="21174"/>
                  <a:pt x="16473" y="21174"/>
                </a:cubicBez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0" name="Figure"/>
          <p:cNvSpPr/>
          <p:nvPr/>
        </p:nvSpPr>
        <p:spPr>
          <a:xfrm>
            <a:off x="4238640" y="3481560"/>
            <a:ext cx="1922400" cy="1620720"/>
          </a:xfrm>
          <a:custGeom>
            <a:avLst/>
            <a:gdLst/>
            <a:ahLst/>
            <a:rect l="l" t="t" r="r" b="b"/>
            <a:pathLst>
              <a:path w="21130" h="21600">
                <a:moveTo>
                  <a:pt x="12917" y="21600"/>
                </a:moveTo>
                <a:cubicBezTo>
                  <a:pt x="12632" y="21600"/>
                  <a:pt x="12347" y="21559"/>
                  <a:pt x="12063" y="21485"/>
                </a:cubicBezTo>
                <a:cubicBezTo>
                  <a:pt x="11032" y="21213"/>
                  <a:pt x="10157" y="20464"/>
                  <a:pt x="9587" y="19387"/>
                </a:cubicBezTo>
                <a:cubicBezTo>
                  <a:pt x="9126" y="18514"/>
                  <a:pt x="8916" y="17510"/>
                  <a:pt x="8977" y="16498"/>
                </a:cubicBezTo>
                <a:cubicBezTo>
                  <a:pt x="8346" y="16729"/>
                  <a:pt x="7661" y="16762"/>
                  <a:pt x="7003" y="16581"/>
                </a:cubicBezTo>
                <a:cubicBezTo>
                  <a:pt x="5945" y="16301"/>
                  <a:pt x="5044" y="15511"/>
                  <a:pt x="4487" y="14400"/>
                </a:cubicBezTo>
                <a:cubicBezTo>
                  <a:pt x="4026" y="14474"/>
                  <a:pt x="3558" y="14458"/>
                  <a:pt x="3097" y="14334"/>
                </a:cubicBezTo>
                <a:cubicBezTo>
                  <a:pt x="2066" y="14063"/>
                  <a:pt x="1185" y="13322"/>
                  <a:pt x="622" y="12244"/>
                </a:cubicBezTo>
                <a:cubicBezTo>
                  <a:pt x="52" y="11166"/>
                  <a:pt x="-131" y="9883"/>
                  <a:pt x="93" y="8640"/>
                </a:cubicBezTo>
                <a:cubicBezTo>
                  <a:pt x="405" y="6912"/>
                  <a:pt x="1463" y="5563"/>
                  <a:pt x="2839" y="5077"/>
                </a:cubicBezTo>
                <a:cubicBezTo>
                  <a:pt x="2853" y="4880"/>
                  <a:pt x="2880" y="4690"/>
                  <a:pt x="2914" y="4501"/>
                </a:cubicBezTo>
                <a:cubicBezTo>
                  <a:pt x="3307" y="2320"/>
                  <a:pt x="4928" y="741"/>
                  <a:pt x="6766" y="741"/>
                </a:cubicBezTo>
                <a:cubicBezTo>
                  <a:pt x="7051" y="741"/>
                  <a:pt x="7336" y="782"/>
                  <a:pt x="7621" y="856"/>
                </a:cubicBezTo>
                <a:cubicBezTo>
                  <a:pt x="7716" y="880"/>
                  <a:pt x="7810" y="913"/>
                  <a:pt x="7905" y="946"/>
                </a:cubicBezTo>
                <a:cubicBezTo>
                  <a:pt x="8584" y="329"/>
                  <a:pt x="9411" y="0"/>
                  <a:pt x="10259" y="0"/>
                </a:cubicBezTo>
                <a:cubicBezTo>
                  <a:pt x="10544" y="0"/>
                  <a:pt x="10828" y="41"/>
                  <a:pt x="11113" y="115"/>
                </a:cubicBezTo>
                <a:cubicBezTo>
                  <a:pt x="11886" y="321"/>
                  <a:pt x="12592" y="806"/>
                  <a:pt x="13134" y="1506"/>
                </a:cubicBezTo>
                <a:cubicBezTo>
                  <a:pt x="13867" y="1152"/>
                  <a:pt x="14674" y="1070"/>
                  <a:pt x="15447" y="1275"/>
                </a:cubicBezTo>
                <a:cubicBezTo>
                  <a:pt x="17183" y="1736"/>
                  <a:pt x="18431" y="3538"/>
                  <a:pt x="18539" y="5653"/>
                </a:cubicBezTo>
                <a:cubicBezTo>
                  <a:pt x="20384" y="6468"/>
                  <a:pt x="21469" y="8805"/>
                  <a:pt x="21035" y="11183"/>
                </a:cubicBezTo>
                <a:cubicBezTo>
                  <a:pt x="20893" y="11956"/>
                  <a:pt x="20608" y="12664"/>
                  <a:pt x="20187" y="13256"/>
                </a:cubicBezTo>
                <a:cubicBezTo>
                  <a:pt x="20682" y="14293"/>
                  <a:pt x="20845" y="15519"/>
                  <a:pt x="20635" y="16696"/>
                </a:cubicBezTo>
                <a:cubicBezTo>
                  <a:pt x="20241" y="18876"/>
                  <a:pt x="18621" y="20456"/>
                  <a:pt x="16783" y="20456"/>
                </a:cubicBezTo>
                <a:cubicBezTo>
                  <a:pt x="16783" y="20456"/>
                  <a:pt x="16783" y="20456"/>
                  <a:pt x="16783" y="20456"/>
                </a:cubicBezTo>
                <a:cubicBezTo>
                  <a:pt x="16498" y="20456"/>
                  <a:pt x="16213" y="20415"/>
                  <a:pt x="15928" y="20341"/>
                </a:cubicBezTo>
                <a:cubicBezTo>
                  <a:pt x="15847" y="20316"/>
                  <a:pt x="15759" y="20292"/>
                  <a:pt x="15677" y="20259"/>
                </a:cubicBezTo>
                <a:cubicBezTo>
                  <a:pt x="14931" y="21115"/>
                  <a:pt x="13948" y="21600"/>
                  <a:pt x="12917" y="21600"/>
                </a:cubicBezTo>
                <a:close/>
                <a:moveTo>
                  <a:pt x="9662" y="14836"/>
                </a:moveTo>
                <a:cubicBezTo>
                  <a:pt x="9777" y="14836"/>
                  <a:pt x="9886" y="14885"/>
                  <a:pt x="9981" y="14968"/>
                </a:cubicBezTo>
                <a:cubicBezTo>
                  <a:pt x="10150" y="15132"/>
                  <a:pt x="10211" y="15404"/>
                  <a:pt x="10143" y="15651"/>
                </a:cubicBezTo>
                <a:cubicBezTo>
                  <a:pt x="10103" y="15791"/>
                  <a:pt x="10076" y="15914"/>
                  <a:pt x="10048" y="16046"/>
                </a:cubicBezTo>
                <a:cubicBezTo>
                  <a:pt x="9879" y="16976"/>
                  <a:pt x="10021" y="17922"/>
                  <a:pt x="10442" y="18720"/>
                </a:cubicBezTo>
                <a:cubicBezTo>
                  <a:pt x="10862" y="19518"/>
                  <a:pt x="11513" y="20069"/>
                  <a:pt x="12280" y="20275"/>
                </a:cubicBezTo>
                <a:cubicBezTo>
                  <a:pt x="12490" y="20333"/>
                  <a:pt x="12700" y="20357"/>
                  <a:pt x="12910" y="20357"/>
                </a:cubicBezTo>
                <a:cubicBezTo>
                  <a:pt x="13765" y="20357"/>
                  <a:pt x="14572" y="19905"/>
                  <a:pt x="15128" y="19115"/>
                </a:cubicBezTo>
                <a:cubicBezTo>
                  <a:pt x="15270" y="18917"/>
                  <a:pt x="15494" y="18843"/>
                  <a:pt x="15698" y="18942"/>
                </a:cubicBezTo>
                <a:cubicBezTo>
                  <a:pt x="15840" y="19008"/>
                  <a:pt x="15983" y="19066"/>
                  <a:pt x="16132" y="19099"/>
                </a:cubicBezTo>
                <a:cubicBezTo>
                  <a:pt x="16342" y="19156"/>
                  <a:pt x="16552" y="19181"/>
                  <a:pt x="16762" y="19181"/>
                </a:cubicBezTo>
                <a:cubicBezTo>
                  <a:pt x="18126" y="19181"/>
                  <a:pt x="19326" y="18004"/>
                  <a:pt x="19618" y="16391"/>
                </a:cubicBezTo>
                <a:cubicBezTo>
                  <a:pt x="19801" y="15387"/>
                  <a:pt x="19618" y="14342"/>
                  <a:pt x="19109" y="13511"/>
                </a:cubicBezTo>
                <a:cubicBezTo>
                  <a:pt x="18953" y="13256"/>
                  <a:pt x="18980" y="12911"/>
                  <a:pt x="19170" y="12697"/>
                </a:cubicBezTo>
                <a:cubicBezTo>
                  <a:pt x="19597" y="12203"/>
                  <a:pt x="19889" y="11578"/>
                  <a:pt x="20018" y="10878"/>
                </a:cubicBezTo>
                <a:cubicBezTo>
                  <a:pt x="20357" y="8994"/>
                  <a:pt x="19421" y="7151"/>
                  <a:pt x="17881" y="6673"/>
                </a:cubicBezTo>
                <a:cubicBezTo>
                  <a:pt x="17651" y="6599"/>
                  <a:pt x="17488" y="6344"/>
                  <a:pt x="17502" y="6048"/>
                </a:cubicBezTo>
                <a:cubicBezTo>
                  <a:pt x="17556" y="4328"/>
                  <a:pt x="16593" y="2814"/>
                  <a:pt x="15203" y="2444"/>
                </a:cubicBezTo>
                <a:cubicBezTo>
                  <a:pt x="14531" y="2263"/>
                  <a:pt x="13819" y="2378"/>
                  <a:pt x="13209" y="2773"/>
                </a:cubicBezTo>
                <a:cubicBezTo>
                  <a:pt x="12992" y="2913"/>
                  <a:pt x="12720" y="2839"/>
                  <a:pt x="12565" y="2600"/>
                </a:cubicBezTo>
                <a:cubicBezTo>
                  <a:pt x="12144" y="1934"/>
                  <a:pt x="11540" y="1473"/>
                  <a:pt x="10869" y="1292"/>
                </a:cubicBezTo>
                <a:cubicBezTo>
                  <a:pt x="10659" y="1234"/>
                  <a:pt x="10449" y="1210"/>
                  <a:pt x="10238" y="1210"/>
                </a:cubicBezTo>
                <a:cubicBezTo>
                  <a:pt x="9533" y="1210"/>
                  <a:pt x="8855" y="1522"/>
                  <a:pt x="8319" y="2082"/>
                </a:cubicBezTo>
                <a:cubicBezTo>
                  <a:pt x="8177" y="2230"/>
                  <a:pt x="7980" y="2271"/>
                  <a:pt x="7804" y="2189"/>
                </a:cubicBezTo>
                <a:cubicBezTo>
                  <a:pt x="7668" y="2123"/>
                  <a:pt x="7526" y="2074"/>
                  <a:pt x="7376" y="2032"/>
                </a:cubicBezTo>
                <a:cubicBezTo>
                  <a:pt x="7166" y="1975"/>
                  <a:pt x="6956" y="1950"/>
                  <a:pt x="6746" y="1950"/>
                </a:cubicBezTo>
                <a:cubicBezTo>
                  <a:pt x="5383" y="1950"/>
                  <a:pt x="4182" y="3127"/>
                  <a:pt x="3891" y="4740"/>
                </a:cubicBezTo>
                <a:cubicBezTo>
                  <a:pt x="3843" y="5003"/>
                  <a:pt x="3823" y="5266"/>
                  <a:pt x="3823" y="5538"/>
                </a:cubicBezTo>
                <a:cubicBezTo>
                  <a:pt x="3823" y="5834"/>
                  <a:pt x="3646" y="6097"/>
                  <a:pt x="3402" y="6147"/>
                </a:cubicBezTo>
                <a:cubicBezTo>
                  <a:pt x="2236" y="6402"/>
                  <a:pt x="1320" y="7480"/>
                  <a:pt x="1063" y="8879"/>
                </a:cubicBezTo>
                <a:cubicBezTo>
                  <a:pt x="893" y="9808"/>
                  <a:pt x="1035" y="10755"/>
                  <a:pt x="1456" y="11553"/>
                </a:cubicBezTo>
                <a:cubicBezTo>
                  <a:pt x="1876" y="12351"/>
                  <a:pt x="2527" y="12902"/>
                  <a:pt x="3294" y="13108"/>
                </a:cubicBezTo>
                <a:cubicBezTo>
                  <a:pt x="3728" y="13223"/>
                  <a:pt x="4182" y="13215"/>
                  <a:pt x="4609" y="13092"/>
                </a:cubicBezTo>
                <a:cubicBezTo>
                  <a:pt x="4840" y="13026"/>
                  <a:pt x="5084" y="13157"/>
                  <a:pt x="5186" y="13421"/>
                </a:cubicBezTo>
                <a:cubicBezTo>
                  <a:pt x="5579" y="14408"/>
                  <a:pt x="6312" y="15116"/>
                  <a:pt x="7193" y="15346"/>
                </a:cubicBezTo>
                <a:cubicBezTo>
                  <a:pt x="7404" y="15404"/>
                  <a:pt x="7614" y="15429"/>
                  <a:pt x="7824" y="15429"/>
                </a:cubicBezTo>
                <a:cubicBezTo>
                  <a:pt x="8367" y="15429"/>
                  <a:pt x="8902" y="15239"/>
                  <a:pt x="9370" y="14894"/>
                </a:cubicBezTo>
                <a:cubicBezTo>
                  <a:pt x="9479" y="14861"/>
                  <a:pt x="9574" y="14836"/>
                  <a:pt x="9662" y="14836"/>
                </a:cubicBez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1" name="Figure"/>
          <p:cNvSpPr/>
          <p:nvPr/>
        </p:nvSpPr>
        <p:spPr>
          <a:xfrm>
            <a:off x="4552920" y="3137040"/>
            <a:ext cx="231840" cy="320400"/>
          </a:xfrm>
          <a:custGeom>
            <a:avLst/>
            <a:gdLst/>
            <a:ahLst/>
            <a:rect l="l" t="t" r="r" b="b"/>
            <a:pathLst>
              <a:path w="20415" h="21156">
                <a:moveTo>
                  <a:pt x="16340" y="21156"/>
                </a:moveTo>
                <a:cubicBezTo>
                  <a:pt x="14983" y="21156"/>
                  <a:pt x="13626" y="20627"/>
                  <a:pt x="12866" y="19692"/>
                </a:cubicBezTo>
                <a:lnTo>
                  <a:pt x="601" y="4641"/>
                </a:lnTo>
                <a:cubicBezTo>
                  <a:pt x="-593" y="3217"/>
                  <a:pt x="58" y="1305"/>
                  <a:pt x="1958" y="451"/>
                </a:cubicBezTo>
                <a:cubicBezTo>
                  <a:pt x="3857" y="-444"/>
                  <a:pt x="6408" y="44"/>
                  <a:pt x="7548" y="1468"/>
                </a:cubicBezTo>
                <a:lnTo>
                  <a:pt x="19813" y="16519"/>
                </a:lnTo>
                <a:cubicBezTo>
                  <a:pt x="21007" y="17942"/>
                  <a:pt x="20356" y="19854"/>
                  <a:pt x="18456" y="20709"/>
                </a:cubicBezTo>
                <a:cubicBezTo>
                  <a:pt x="17805" y="21034"/>
                  <a:pt x="17099" y="21156"/>
                  <a:pt x="16340" y="21156"/>
                </a:cubicBez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2" name="Figure"/>
          <p:cNvSpPr/>
          <p:nvPr/>
        </p:nvSpPr>
        <p:spPr>
          <a:xfrm>
            <a:off x="5367240" y="3062160"/>
            <a:ext cx="139680" cy="357480"/>
          </a:xfrm>
          <a:custGeom>
            <a:avLst/>
            <a:gdLst/>
            <a:ahLst/>
            <a:rect l="l" t="t" r="r" b="b"/>
            <a:pathLst>
              <a:path w="20530" h="21383">
                <a:moveTo>
                  <a:pt x="6816" y="21383"/>
                </a:moveTo>
                <a:cubicBezTo>
                  <a:pt x="6453" y="21383"/>
                  <a:pt x="5999" y="21383"/>
                  <a:pt x="5636" y="21346"/>
                </a:cubicBezTo>
                <a:cubicBezTo>
                  <a:pt x="1915" y="21088"/>
                  <a:pt x="-535" y="19651"/>
                  <a:pt x="100" y="18139"/>
                </a:cubicBezTo>
                <a:lnTo>
                  <a:pt x="6998" y="2289"/>
                </a:lnTo>
                <a:cubicBezTo>
                  <a:pt x="7633" y="778"/>
                  <a:pt x="11173" y="-217"/>
                  <a:pt x="14894" y="41"/>
                </a:cubicBezTo>
                <a:cubicBezTo>
                  <a:pt x="18615" y="299"/>
                  <a:pt x="21065" y="1737"/>
                  <a:pt x="20430" y="3248"/>
                </a:cubicBezTo>
                <a:lnTo>
                  <a:pt x="13532" y="19098"/>
                </a:lnTo>
                <a:cubicBezTo>
                  <a:pt x="12988" y="20425"/>
                  <a:pt x="10083" y="21383"/>
                  <a:pt x="6816" y="21383"/>
                </a:cubicBez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3" name="Figure"/>
          <p:cNvSpPr/>
          <p:nvPr/>
        </p:nvSpPr>
        <p:spPr>
          <a:xfrm>
            <a:off x="5861160" y="3333600"/>
            <a:ext cx="277560" cy="290520"/>
          </a:xfrm>
          <a:custGeom>
            <a:avLst/>
            <a:gdLst/>
            <a:ahLst/>
            <a:rect l="l" t="t" r="r" b="b"/>
            <a:pathLst>
              <a:path w="20831" h="21224">
                <a:moveTo>
                  <a:pt x="10784" y="15136"/>
                </a:moveTo>
                <a:lnTo>
                  <a:pt x="5984" y="20142"/>
                </a:lnTo>
                <a:cubicBezTo>
                  <a:pt x="5292" y="20863"/>
                  <a:pt x="4369" y="21224"/>
                  <a:pt x="3446" y="21224"/>
                </a:cubicBezTo>
                <a:cubicBezTo>
                  <a:pt x="2615" y="21224"/>
                  <a:pt x="1738" y="20908"/>
                  <a:pt x="1092" y="20322"/>
                </a:cubicBezTo>
                <a:cubicBezTo>
                  <a:pt x="-293" y="19059"/>
                  <a:pt x="-385" y="16895"/>
                  <a:pt x="953" y="15542"/>
                </a:cubicBezTo>
                <a:lnTo>
                  <a:pt x="14846" y="1067"/>
                </a:lnTo>
                <a:cubicBezTo>
                  <a:pt x="16138" y="-286"/>
                  <a:pt x="18353" y="-376"/>
                  <a:pt x="19738" y="932"/>
                </a:cubicBezTo>
                <a:cubicBezTo>
                  <a:pt x="21123" y="2194"/>
                  <a:pt x="21215" y="4359"/>
                  <a:pt x="19877" y="5712"/>
                </a:cubicBezTo>
                <a:lnTo>
                  <a:pt x="10784" y="15136"/>
                </a:lnTo>
              </a:path>
            </a:pathLst>
          </a:cu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4" name="Figure"/>
          <p:cNvSpPr/>
          <p:nvPr/>
        </p:nvSpPr>
        <p:spPr>
          <a:xfrm>
            <a:off x="6175440" y="3975120"/>
            <a:ext cx="355680" cy="119160"/>
          </a:xfrm>
          <a:custGeom>
            <a:avLst/>
            <a:gdLst/>
            <a:ahLst/>
            <a:rect l="l" t="t" r="r" b="b"/>
            <a:pathLst>
              <a:path w="21331" h="21199">
                <a:moveTo>
                  <a:pt x="2787" y="21199"/>
                </a:moveTo>
                <a:cubicBezTo>
                  <a:pt x="1381" y="21199"/>
                  <a:pt x="161" y="18003"/>
                  <a:pt x="13" y="13705"/>
                </a:cubicBezTo>
                <a:cubicBezTo>
                  <a:pt x="-135" y="9187"/>
                  <a:pt x="975" y="5109"/>
                  <a:pt x="2491" y="4668"/>
                </a:cubicBezTo>
                <a:lnTo>
                  <a:pt x="18284" y="40"/>
                </a:lnTo>
                <a:cubicBezTo>
                  <a:pt x="19801" y="-401"/>
                  <a:pt x="21169" y="2905"/>
                  <a:pt x="21317" y="7423"/>
                </a:cubicBezTo>
                <a:cubicBezTo>
                  <a:pt x="21465" y="11942"/>
                  <a:pt x="20355" y="16019"/>
                  <a:pt x="18839" y="16460"/>
                </a:cubicBezTo>
                <a:lnTo>
                  <a:pt x="3046" y="21089"/>
                </a:lnTo>
                <a:cubicBezTo>
                  <a:pt x="2972" y="21199"/>
                  <a:pt x="2861" y="21199"/>
                  <a:pt x="2787" y="21199"/>
                </a:cubicBez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5" name="Figure"/>
          <p:cNvSpPr/>
          <p:nvPr/>
        </p:nvSpPr>
        <p:spPr>
          <a:xfrm>
            <a:off x="3954600" y="3697200"/>
            <a:ext cx="301320" cy="196920"/>
          </a:xfrm>
          <a:custGeom>
            <a:avLst/>
            <a:gdLst/>
            <a:ahLst/>
            <a:rect l="l" t="t" r="r" b="b"/>
            <a:pathLst>
              <a:path w="20719" h="20915">
                <a:moveTo>
                  <a:pt x="17560" y="20915"/>
                </a:moveTo>
                <a:cubicBezTo>
                  <a:pt x="17094" y="20915"/>
                  <a:pt x="16628" y="20783"/>
                  <a:pt x="16162" y="20388"/>
                </a:cubicBezTo>
                <a:lnTo>
                  <a:pt x="1762" y="9325"/>
                </a:lnTo>
                <a:cubicBezTo>
                  <a:pt x="195" y="8139"/>
                  <a:pt x="-440" y="5176"/>
                  <a:pt x="322" y="2739"/>
                </a:cubicBezTo>
                <a:cubicBezTo>
                  <a:pt x="1085" y="303"/>
                  <a:pt x="2991" y="-685"/>
                  <a:pt x="4558" y="500"/>
                </a:cubicBezTo>
                <a:lnTo>
                  <a:pt x="18958" y="11564"/>
                </a:lnTo>
                <a:cubicBezTo>
                  <a:pt x="20525" y="12749"/>
                  <a:pt x="21160" y="15713"/>
                  <a:pt x="20398" y="18149"/>
                </a:cubicBezTo>
                <a:cubicBezTo>
                  <a:pt x="19889" y="19927"/>
                  <a:pt x="18746" y="20915"/>
                  <a:pt x="17560" y="20915"/>
                </a:cubicBez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6" name="Figure"/>
          <p:cNvSpPr/>
          <p:nvPr/>
        </p:nvSpPr>
        <p:spPr>
          <a:xfrm>
            <a:off x="3978360" y="4556160"/>
            <a:ext cx="307800" cy="182520"/>
          </a:xfrm>
          <a:custGeom>
            <a:avLst/>
            <a:gdLst/>
            <a:ahLst/>
            <a:rect l="l" t="t" r="r" b="b"/>
            <a:pathLst>
              <a:path w="20766" h="20899">
                <a:moveTo>
                  <a:pt x="3127" y="20899"/>
                </a:moveTo>
                <a:cubicBezTo>
                  <a:pt x="1918" y="20899"/>
                  <a:pt x="751" y="19707"/>
                  <a:pt x="250" y="17743"/>
                </a:cubicBezTo>
                <a:cubicBezTo>
                  <a:pt x="-417" y="15078"/>
                  <a:pt x="292" y="11992"/>
                  <a:pt x="1876" y="10870"/>
                </a:cubicBezTo>
                <a:lnTo>
                  <a:pt x="16429" y="421"/>
                </a:lnTo>
                <a:cubicBezTo>
                  <a:pt x="18014" y="-701"/>
                  <a:pt x="19849" y="491"/>
                  <a:pt x="20516" y="3156"/>
                </a:cubicBezTo>
                <a:cubicBezTo>
                  <a:pt x="21183" y="5821"/>
                  <a:pt x="20474" y="8907"/>
                  <a:pt x="18890" y="10029"/>
                </a:cubicBezTo>
                <a:lnTo>
                  <a:pt x="4337" y="20478"/>
                </a:lnTo>
                <a:cubicBezTo>
                  <a:pt x="3961" y="20759"/>
                  <a:pt x="3544" y="20899"/>
                  <a:pt x="3127" y="20899"/>
                </a:cubicBez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7" name="Figure"/>
          <p:cNvSpPr/>
          <p:nvPr/>
        </p:nvSpPr>
        <p:spPr>
          <a:xfrm>
            <a:off x="5373720" y="3968640"/>
            <a:ext cx="600120" cy="60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56" y="9098"/>
                </a:moveTo>
                <a:cubicBezTo>
                  <a:pt x="19711" y="7786"/>
                  <a:pt x="19200" y="6585"/>
                  <a:pt x="18467" y="5517"/>
                </a:cubicBezTo>
                <a:lnTo>
                  <a:pt x="19600" y="4382"/>
                </a:lnTo>
                <a:lnTo>
                  <a:pt x="17200" y="1980"/>
                </a:lnTo>
                <a:lnTo>
                  <a:pt x="16067" y="3114"/>
                </a:lnTo>
                <a:cubicBezTo>
                  <a:pt x="15000" y="2380"/>
                  <a:pt x="13800" y="1869"/>
                  <a:pt x="12489" y="1624"/>
                </a:cubicBezTo>
                <a:lnTo>
                  <a:pt x="12489" y="0"/>
                </a:lnTo>
                <a:lnTo>
                  <a:pt x="10778" y="0"/>
                </a:lnTo>
                <a:lnTo>
                  <a:pt x="9089" y="0"/>
                </a:lnTo>
                <a:lnTo>
                  <a:pt x="9089" y="1624"/>
                </a:lnTo>
                <a:cubicBezTo>
                  <a:pt x="7778" y="1869"/>
                  <a:pt x="6578" y="2380"/>
                  <a:pt x="5511" y="3114"/>
                </a:cubicBezTo>
                <a:lnTo>
                  <a:pt x="4378" y="1980"/>
                </a:lnTo>
                <a:lnTo>
                  <a:pt x="1978" y="4382"/>
                </a:lnTo>
                <a:lnTo>
                  <a:pt x="3111" y="5517"/>
                </a:lnTo>
                <a:cubicBezTo>
                  <a:pt x="2378" y="6562"/>
                  <a:pt x="1867" y="7786"/>
                  <a:pt x="1622" y="9098"/>
                </a:cubicBezTo>
                <a:lnTo>
                  <a:pt x="0" y="9098"/>
                </a:lnTo>
                <a:lnTo>
                  <a:pt x="0" y="12502"/>
                </a:lnTo>
                <a:lnTo>
                  <a:pt x="1622" y="12502"/>
                </a:lnTo>
                <a:cubicBezTo>
                  <a:pt x="1867" y="13814"/>
                  <a:pt x="2378" y="15015"/>
                  <a:pt x="3111" y="16083"/>
                </a:cubicBezTo>
                <a:lnTo>
                  <a:pt x="1978" y="17218"/>
                </a:lnTo>
                <a:lnTo>
                  <a:pt x="4378" y="19620"/>
                </a:lnTo>
                <a:lnTo>
                  <a:pt x="5511" y="18486"/>
                </a:lnTo>
                <a:cubicBezTo>
                  <a:pt x="6556" y="19220"/>
                  <a:pt x="7778" y="19731"/>
                  <a:pt x="9089" y="19976"/>
                </a:cubicBezTo>
                <a:lnTo>
                  <a:pt x="9089" y="21600"/>
                </a:lnTo>
                <a:lnTo>
                  <a:pt x="10800" y="21600"/>
                </a:lnTo>
                <a:lnTo>
                  <a:pt x="12511" y="21600"/>
                </a:lnTo>
                <a:lnTo>
                  <a:pt x="12511" y="19976"/>
                </a:lnTo>
                <a:cubicBezTo>
                  <a:pt x="13822" y="19731"/>
                  <a:pt x="15022" y="19220"/>
                  <a:pt x="16089" y="18486"/>
                </a:cubicBezTo>
                <a:lnTo>
                  <a:pt x="17222" y="19620"/>
                </a:lnTo>
                <a:lnTo>
                  <a:pt x="19622" y="17218"/>
                </a:lnTo>
                <a:lnTo>
                  <a:pt x="18489" y="16083"/>
                </a:lnTo>
                <a:cubicBezTo>
                  <a:pt x="19222" y="15015"/>
                  <a:pt x="19733" y="13814"/>
                  <a:pt x="19978" y="12502"/>
                </a:cubicBezTo>
                <a:lnTo>
                  <a:pt x="21600" y="12502"/>
                </a:lnTo>
                <a:lnTo>
                  <a:pt x="21600" y="9098"/>
                </a:lnTo>
                <a:lnTo>
                  <a:pt x="19956" y="9098"/>
                </a:lnTo>
                <a:close/>
                <a:moveTo>
                  <a:pt x="10800" y="16862"/>
                </a:moveTo>
                <a:lnTo>
                  <a:pt x="10800" y="16862"/>
                </a:lnTo>
                <a:cubicBezTo>
                  <a:pt x="7444" y="16862"/>
                  <a:pt x="4733" y="14148"/>
                  <a:pt x="4733" y="10789"/>
                </a:cubicBezTo>
                <a:cubicBezTo>
                  <a:pt x="4733" y="7430"/>
                  <a:pt x="7444" y="4716"/>
                  <a:pt x="10800" y="4716"/>
                </a:cubicBezTo>
                <a:lnTo>
                  <a:pt x="10800" y="4716"/>
                </a:lnTo>
                <a:cubicBezTo>
                  <a:pt x="14156" y="4716"/>
                  <a:pt x="16867" y="7430"/>
                  <a:pt x="16867" y="10789"/>
                </a:cubicBezTo>
                <a:cubicBezTo>
                  <a:pt x="16867" y="14148"/>
                  <a:pt x="14133" y="16862"/>
                  <a:pt x="10800" y="16862"/>
                </a:cubicBezTo>
                <a:close/>
              </a:path>
            </a:pathLst>
          </a:cu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8" name="Figure"/>
          <p:cNvSpPr/>
          <p:nvPr/>
        </p:nvSpPr>
        <p:spPr>
          <a:xfrm>
            <a:off x="5521320" y="3722760"/>
            <a:ext cx="21600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95" y="9072"/>
                </a:moveTo>
                <a:cubicBezTo>
                  <a:pt x="19749" y="7776"/>
                  <a:pt x="19255" y="6542"/>
                  <a:pt x="18514" y="5493"/>
                </a:cubicBezTo>
                <a:lnTo>
                  <a:pt x="19687" y="4320"/>
                </a:lnTo>
                <a:lnTo>
                  <a:pt x="17280" y="1913"/>
                </a:lnTo>
                <a:lnTo>
                  <a:pt x="16107" y="3086"/>
                </a:lnTo>
                <a:cubicBezTo>
                  <a:pt x="15058" y="2345"/>
                  <a:pt x="13824" y="1851"/>
                  <a:pt x="12528" y="1605"/>
                </a:cubicBezTo>
                <a:lnTo>
                  <a:pt x="12528" y="0"/>
                </a:lnTo>
                <a:lnTo>
                  <a:pt x="10800" y="0"/>
                </a:lnTo>
                <a:lnTo>
                  <a:pt x="9072" y="0"/>
                </a:lnTo>
                <a:lnTo>
                  <a:pt x="9072" y="1605"/>
                </a:lnTo>
                <a:cubicBezTo>
                  <a:pt x="7776" y="1851"/>
                  <a:pt x="6542" y="2345"/>
                  <a:pt x="5493" y="3086"/>
                </a:cubicBezTo>
                <a:lnTo>
                  <a:pt x="4320" y="1913"/>
                </a:lnTo>
                <a:lnTo>
                  <a:pt x="1913" y="4320"/>
                </a:lnTo>
                <a:lnTo>
                  <a:pt x="3086" y="5493"/>
                </a:lnTo>
                <a:cubicBezTo>
                  <a:pt x="2345" y="6542"/>
                  <a:pt x="1851" y="7776"/>
                  <a:pt x="1605" y="9072"/>
                </a:cubicBezTo>
                <a:lnTo>
                  <a:pt x="0" y="9072"/>
                </a:lnTo>
                <a:lnTo>
                  <a:pt x="0" y="12528"/>
                </a:lnTo>
                <a:lnTo>
                  <a:pt x="1605" y="12528"/>
                </a:lnTo>
                <a:cubicBezTo>
                  <a:pt x="1851" y="13824"/>
                  <a:pt x="2345" y="15058"/>
                  <a:pt x="3086" y="16107"/>
                </a:cubicBezTo>
                <a:lnTo>
                  <a:pt x="1913" y="17280"/>
                </a:lnTo>
                <a:lnTo>
                  <a:pt x="4320" y="19687"/>
                </a:lnTo>
                <a:lnTo>
                  <a:pt x="5493" y="18514"/>
                </a:lnTo>
                <a:cubicBezTo>
                  <a:pt x="6542" y="19255"/>
                  <a:pt x="7776" y="19749"/>
                  <a:pt x="9072" y="19995"/>
                </a:cubicBezTo>
                <a:lnTo>
                  <a:pt x="9072" y="21600"/>
                </a:lnTo>
                <a:lnTo>
                  <a:pt x="10800" y="21600"/>
                </a:lnTo>
                <a:lnTo>
                  <a:pt x="12528" y="21600"/>
                </a:lnTo>
                <a:lnTo>
                  <a:pt x="12528" y="19995"/>
                </a:lnTo>
                <a:cubicBezTo>
                  <a:pt x="13824" y="19749"/>
                  <a:pt x="15058" y="19255"/>
                  <a:pt x="16107" y="18514"/>
                </a:cubicBezTo>
                <a:lnTo>
                  <a:pt x="17280" y="19687"/>
                </a:lnTo>
                <a:lnTo>
                  <a:pt x="19687" y="17280"/>
                </a:lnTo>
                <a:lnTo>
                  <a:pt x="18514" y="16107"/>
                </a:lnTo>
                <a:cubicBezTo>
                  <a:pt x="19255" y="15058"/>
                  <a:pt x="19749" y="13824"/>
                  <a:pt x="19995" y="12528"/>
                </a:cubicBezTo>
                <a:lnTo>
                  <a:pt x="21600" y="12528"/>
                </a:lnTo>
                <a:lnTo>
                  <a:pt x="21600" y="9072"/>
                </a:lnTo>
                <a:lnTo>
                  <a:pt x="19995" y="9072"/>
                </a:lnTo>
                <a:close/>
                <a:moveTo>
                  <a:pt x="10800" y="17712"/>
                </a:moveTo>
                <a:lnTo>
                  <a:pt x="10800" y="17712"/>
                </a:lnTo>
                <a:cubicBezTo>
                  <a:pt x="6974" y="17712"/>
                  <a:pt x="3888" y="14626"/>
                  <a:pt x="3888" y="10800"/>
                </a:cubicBezTo>
                <a:cubicBezTo>
                  <a:pt x="3888" y="6974"/>
                  <a:pt x="6974" y="3888"/>
                  <a:pt x="10800" y="3888"/>
                </a:cubicBezTo>
                <a:lnTo>
                  <a:pt x="10800" y="3888"/>
                </a:lnTo>
                <a:cubicBezTo>
                  <a:pt x="14626" y="3888"/>
                  <a:pt x="17712" y="6974"/>
                  <a:pt x="17712" y="10800"/>
                </a:cubicBezTo>
                <a:cubicBezTo>
                  <a:pt x="17712" y="14626"/>
                  <a:pt x="14626" y="17712"/>
                  <a:pt x="10800" y="17712"/>
                </a:cubicBez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9" name="Figure"/>
          <p:cNvSpPr/>
          <p:nvPr/>
        </p:nvSpPr>
        <p:spPr>
          <a:xfrm>
            <a:off x="4687920" y="4246560"/>
            <a:ext cx="21600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48" y="12325"/>
                </a:moveTo>
                <a:cubicBezTo>
                  <a:pt x="20297" y="11018"/>
                  <a:pt x="20172" y="9648"/>
                  <a:pt x="19862" y="8403"/>
                </a:cubicBezTo>
                <a:lnTo>
                  <a:pt x="21352" y="7719"/>
                </a:lnTo>
                <a:lnTo>
                  <a:pt x="19924" y="4606"/>
                </a:lnTo>
                <a:lnTo>
                  <a:pt x="18434" y="5291"/>
                </a:lnTo>
                <a:cubicBezTo>
                  <a:pt x="17690" y="4233"/>
                  <a:pt x="16697" y="3361"/>
                  <a:pt x="15579" y="2677"/>
                </a:cubicBezTo>
                <a:lnTo>
                  <a:pt x="16138" y="1120"/>
                </a:lnTo>
                <a:lnTo>
                  <a:pt x="14524" y="560"/>
                </a:lnTo>
                <a:lnTo>
                  <a:pt x="12910" y="0"/>
                </a:lnTo>
                <a:lnTo>
                  <a:pt x="12352" y="1556"/>
                </a:lnTo>
                <a:cubicBezTo>
                  <a:pt x="11048" y="1307"/>
                  <a:pt x="9683" y="1432"/>
                  <a:pt x="8441" y="1743"/>
                </a:cubicBezTo>
                <a:lnTo>
                  <a:pt x="7759" y="249"/>
                </a:lnTo>
                <a:lnTo>
                  <a:pt x="4655" y="1681"/>
                </a:lnTo>
                <a:lnTo>
                  <a:pt x="5338" y="3175"/>
                </a:lnTo>
                <a:cubicBezTo>
                  <a:pt x="4283" y="3922"/>
                  <a:pt x="3414" y="4918"/>
                  <a:pt x="2731" y="6038"/>
                </a:cubicBezTo>
                <a:lnTo>
                  <a:pt x="1179" y="5478"/>
                </a:lnTo>
                <a:lnTo>
                  <a:pt x="0" y="8715"/>
                </a:lnTo>
                <a:lnTo>
                  <a:pt x="1552" y="9275"/>
                </a:lnTo>
                <a:cubicBezTo>
                  <a:pt x="1303" y="10582"/>
                  <a:pt x="1428" y="11952"/>
                  <a:pt x="1738" y="13197"/>
                </a:cubicBezTo>
                <a:lnTo>
                  <a:pt x="248" y="13881"/>
                </a:lnTo>
                <a:lnTo>
                  <a:pt x="1676" y="16994"/>
                </a:lnTo>
                <a:lnTo>
                  <a:pt x="3166" y="16309"/>
                </a:lnTo>
                <a:cubicBezTo>
                  <a:pt x="3910" y="17367"/>
                  <a:pt x="4903" y="18239"/>
                  <a:pt x="6021" y="18923"/>
                </a:cubicBezTo>
                <a:lnTo>
                  <a:pt x="5462" y="20480"/>
                </a:lnTo>
                <a:lnTo>
                  <a:pt x="7076" y="21040"/>
                </a:lnTo>
                <a:lnTo>
                  <a:pt x="8690" y="21600"/>
                </a:lnTo>
                <a:lnTo>
                  <a:pt x="9248" y="20044"/>
                </a:lnTo>
                <a:cubicBezTo>
                  <a:pt x="10552" y="20293"/>
                  <a:pt x="11917" y="20168"/>
                  <a:pt x="13159" y="19857"/>
                </a:cubicBezTo>
                <a:lnTo>
                  <a:pt x="13841" y="21351"/>
                </a:lnTo>
                <a:lnTo>
                  <a:pt x="16945" y="19919"/>
                </a:lnTo>
                <a:lnTo>
                  <a:pt x="16262" y="18425"/>
                </a:lnTo>
                <a:cubicBezTo>
                  <a:pt x="17317" y="17678"/>
                  <a:pt x="18186" y="16682"/>
                  <a:pt x="18869" y="15562"/>
                </a:cubicBezTo>
                <a:lnTo>
                  <a:pt x="20421" y="16122"/>
                </a:lnTo>
                <a:lnTo>
                  <a:pt x="21600" y="12885"/>
                </a:lnTo>
                <a:lnTo>
                  <a:pt x="20048" y="12325"/>
                </a:lnTo>
                <a:close/>
                <a:moveTo>
                  <a:pt x="8441" y="17305"/>
                </a:moveTo>
                <a:lnTo>
                  <a:pt x="8441" y="17305"/>
                </a:lnTo>
                <a:cubicBezTo>
                  <a:pt x="4841" y="15998"/>
                  <a:pt x="2979" y="12014"/>
                  <a:pt x="4283" y="8403"/>
                </a:cubicBezTo>
                <a:cubicBezTo>
                  <a:pt x="5586" y="4793"/>
                  <a:pt x="9559" y="2926"/>
                  <a:pt x="13159" y="4233"/>
                </a:cubicBezTo>
                <a:lnTo>
                  <a:pt x="13159" y="4233"/>
                </a:lnTo>
                <a:cubicBezTo>
                  <a:pt x="16759" y="5540"/>
                  <a:pt x="18621" y="9524"/>
                  <a:pt x="17317" y="13134"/>
                </a:cubicBezTo>
                <a:cubicBezTo>
                  <a:pt x="16014" y="16745"/>
                  <a:pt x="12041" y="18612"/>
                  <a:pt x="8441" y="17305"/>
                </a:cubicBezTo>
                <a:close/>
              </a:path>
            </a:pathLst>
          </a:cu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0" name="Figure"/>
          <p:cNvSpPr/>
          <p:nvPr/>
        </p:nvSpPr>
        <p:spPr>
          <a:xfrm>
            <a:off x="4935600" y="4141800"/>
            <a:ext cx="426960" cy="428760"/>
          </a:xfrm>
          <a:custGeom>
            <a:avLst/>
            <a:gdLst/>
            <a:ahLst/>
            <a:rect l="l" t="t" r="r" b="b"/>
            <a:pathLst>
              <a:path w="21420" h="21420">
                <a:moveTo>
                  <a:pt x="18451" y="6059"/>
                </a:moveTo>
                <a:lnTo>
                  <a:pt x="19903" y="5194"/>
                </a:lnTo>
                <a:cubicBezTo>
                  <a:pt x="19162" y="3989"/>
                  <a:pt x="18204" y="2938"/>
                  <a:pt x="17091" y="2104"/>
                </a:cubicBezTo>
                <a:lnTo>
                  <a:pt x="16071" y="3464"/>
                </a:lnTo>
                <a:cubicBezTo>
                  <a:pt x="15144" y="2753"/>
                  <a:pt x="14063" y="2258"/>
                  <a:pt x="12889" y="1949"/>
                </a:cubicBezTo>
                <a:lnTo>
                  <a:pt x="13290" y="312"/>
                </a:lnTo>
                <a:cubicBezTo>
                  <a:pt x="11962" y="-28"/>
                  <a:pt x="10540" y="-90"/>
                  <a:pt x="9119" y="126"/>
                </a:cubicBezTo>
                <a:lnTo>
                  <a:pt x="9366" y="1795"/>
                </a:lnTo>
                <a:cubicBezTo>
                  <a:pt x="8377" y="1949"/>
                  <a:pt x="7450" y="2258"/>
                  <a:pt x="6616" y="2660"/>
                </a:cubicBezTo>
                <a:cubicBezTo>
                  <a:pt x="6430" y="2753"/>
                  <a:pt x="6245" y="2846"/>
                  <a:pt x="6059" y="2969"/>
                </a:cubicBezTo>
                <a:lnTo>
                  <a:pt x="5194" y="1517"/>
                </a:lnTo>
                <a:cubicBezTo>
                  <a:pt x="3989" y="2258"/>
                  <a:pt x="2938" y="3216"/>
                  <a:pt x="2104" y="4329"/>
                </a:cubicBezTo>
                <a:lnTo>
                  <a:pt x="3464" y="5349"/>
                </a:lnTo>
                <a:cubicBezTo>
                  <a:pt x="2753" y="6307"/>
                  <a:pt x="2259" y="7357"/>
                  <a:pt x="1949" y="8531"/>
                </a:cubicBezTo>
                <a:lnTo>
                  <a:pt x="312" y="8130"/>
                </a:lnTo>
                <a:cubicBezTo>
                  <a:pt x="-28" y="9458"/>
                  <a:pt x="-90" y="10880"/>
                  <a:pt x="126" y="12301"/>
                </a:cubicBezTo>
                <a:lnTo>
                  <a:pt x="1795" y="12054"/>
                </a:lnTo>
                <a:cubicBezTo>
                  <a:pt x="1980" y="13259"/>
                  <a:pt x="2382" y="14372"/>
                  <a:pt x="2969" y="15361"/>
                </a:cubicBezTo>
                <a:lnTo>
                  <a:pt x="1517" y="16226"/>
                </a:lnTo>
                <a:cubicBezTo>
                  <a:pt x="2258" y="17431"/>
                  <a:pt x="3216" y="18482"/>
                  <a:pt x="4329" y="19316"/>
                </a:cubicBezTo>
                <a:lnTo>
                  <a:pt x="5349" y="17956"/>
                </a:lnTo>
                <a:cubicBezTo>
                  <a:pt x="6276" y="18667"/>
                  <a:pt x="7357" y="19162"/>
                  <a:pt x="8531" y="19471"/>
                </a:cubicBezTo>
                <a:lnTo>
                  <a:pt x="8130" y="21108"/>
                </a:lnTo>
                <a:cubicBezTo>
                  <a:pt x="9459" y="21448"/>
                  <a:pt x="10880" y="21510"/>
                  <a:pt x="12301" y="21294"/>
                </a:cubicBezTo>
                <a:lnTo>
                  <a:pt x="12054" y="19625"/>
                </a:lnTo>
                <a:cubicBezTo>
                  <a:pt x="13043" y="19471"/>
                  <a:pt x="13970" y="19162"/>
                  <a:pt x="14804" y="18760"/>
                </a:cubicBezTo>
                <a:cubicBezTo>
                  <a:pt x="14990" y="18667"/>
                  <a:pt x="15175" y="18574"/>
                  <a:pt x="15361" y="18451"/>
                </a:cubicBezTo>
                <a:lnTo>
                  <a:pt x="16226" y="19903"/>
                </a:lnTo>
                <a:cubicBezTo>
                  <a:pt x="17431" y="19162"/>
                  <a:pt x="18482" y="18204"/>
                  <a:pt x="19316" y="17091"/>
                </a:cubicBezTo>
                <a:lnTo>
                  <a:pt x="17956" y="16071"/>
                </a:lnTo>
                <a:cubicBezTo>
                  <a:pt x="18667" y="15144"/>
                  <a:pt x="19162" y="14063"/>
                  <a:pt x="19471" y="12889"/>
                </a:cubicBezTo>
                <a:lnTo>
                  <a:pt x="21108" y="13290"/>
                </a:lnTo>
                <a:cubicBezTo>
                  <a:pt x="21448" y="11962"/>
                  <a:pt x="21510" y="10540"/>
                  <a:pt x="21294" y="9119"/>
                </a:cubicBezTo>
                <a:lnTo>
                  <a:pt x="19625" y="9366"/>
                </a:lnTo>
                <a:cubicBezTo>
                  <a:pt x="19471" y="8161"/>
                  <a:pt x="19038" y="7048"/>
                  <a:pt x="18451" y="6059"/>
                </a:cubicBezTo>
                <a:close/>
                <a:moveTo>
                  <a:pt x="15052" y="10046"/>
                </a:moveTo>
                <a:cubicBezTo>
                  <a:pt x="15330" y="11962"/>
                  <a:pt x="14341" y="13754"/>
                  <a:pt x="12703" y="14588"/>
                </a:cubicBezTo>
                <a:cubicBezTo>
                  <a:pt x="12301" y="14804"/>
                  <a:pt x="11838" y="14928"/>
                  <a:pt x="11374" y="15021"/>
                </a:cubicBezTo>
                <a:cubicBezTo>
                  <a:pt x="8995" y="15361"/>
                  <a:pt x="6770" y="13723"/>
                  <a:pt x="6430" y="11343"/>
                </a:cubicBezTo>
                <a:cubicBezTo>
                  <a:pt x="6152" y="9428"/>
                  <a:pt x="7141" y="7635"/>
                  <a:pt x="8779" y="6801"/>
                </a:cubicBezTo>
                <a:cubicBezTo>
                  <a:pt x="9180" y="6585"/>
                  <a:pt x="9644" y="6461"/>
                  <a:pt x="10107" y="6368"/>
                </a:cubicBezTo>
                <a:cubicBezTo>
                  <a:pt x="12456" y="6028"/>
                  <a:pt x="14681" y="7666"/>
                  <a:pt x="15052" y="10046"/>
                </a:cubicBez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1" name="Figure"/>
          <p:cNvSpPr/>
          <p:nvPr/>
        </p:nvSpPr>
        <p:spPr>
          <a:xfrm>
            <a:off x="5200560" y="4500720"/>
            <a:ext cx="447840" cy="44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2" y="10173"/>
                </a:moveTo>
                <a:lnTo>
                  <a:pt x="21600" y="10054"/>
                </a:lnTo>
                <a:cubicBezTo>
                  <a:pt x="21511" y="8622"/>
                  <a:pt x="21123" y="7250"/>
                  <a:pt x="20498" y="5967"/>
                </a:cubicBezTo>
                <a:lnTo>
                  <a:pt x="18948" y="6743"/>
                </a:lnTo>
                <a:cubicBezTo>
                  <a:pt x="18412" y="5668"/>
                  <a:pt x="17697" y="4714"/>
                  <a:pt x="16774" y="3938"/>
                </a:cubicBezTo>
                <a:lnTo>
                  <a:pt x="17906" y="2625"/>
                </a:lnTo>
                <a:cubicBezTo>
                  <a:pt x="16863" y="1730"/>
                  <a:pt x="15641" y="985"/>
                  <a:pt x="14241" y="537"/>
                </a:cubicBezTo>
                <a:lnTo>
                  <a:pt x="13705" y="2178"/>
                </a:lnTo>
                <a:cubicBezTo>
                  <a:pt x="12751" y="1850"/>
                  <a:pt x="11768" y="1701"/>
                  <a:pt x="10815" y="1701"/>
                </a:cubicBezTo>
                <a:cubicBezTo>
                  <a:pt x="10606" y="1701"/>
                  <a:pt x="10398" y="1701"/>
                  <a:pt x="10159" y="1730"/>
                </a:cubicBezTo>
                <a:lnTo>
                  <a:pt x="10040" y="0"/>
                </a:lnTo>
                <a:cubicBezTo>
                  <a:pt x="8610" y="89"/>
                  <a:pt x="7240" y="477"/>
                  <a:pt x="5959" y="1104"/>
                </a:cubicBezTo>
                <a:lnTo>
                  <a:pt x="6733" y="2655"/>
                </a:lnTo>
                <a:cubicBezTo>
                  <a:pt x="5661" y="3192"/>
                  <a:pt x="4707" y="3908"/>
                  <a:pt x="3933" y="4833"/>
                </a:cubicBezTo>
                <a:lnTo>
                  <a:pt x="2622" y="3699"/>
                </a:lnTo>
                <a:cubicBezTo>
                  <a:pt x="1728" y="4744"/>
                  <a:pt x="983" y="5967"/>
                  <a:pt x="536" y="7369"/>
                </a:cubicBezTo>
                <a:lnTo>
                  <a:pt x="2175" y="7906"/>
                </a:lnTo>
                <a:cubicBezTo>
                  <a:pt x="1788" y="9070"/>
                  <a:pt x="1639" y="10263"/>
                  <a:pt x="1728" y="11427"/>
                </a:cubicBezTo>
                <a:lnTo>
                  <a:pt x="0" y="11546"/>
                </a:lnTo>
                <a:cubicBezTo>
                  <a:pt x="89" y="12978"/>
                  <a:pt x="477" y="14350"/>
                  <a:pt x="1102" y="15633"/>
                </a:cubicBezTo>
                <a:lnTo>
                  <a:pt x="2652" y="14857"/>
                </a:lnTo>
                <a:cubicBezTo>
                  <a:pt x="3188" y="15931"/>
                  <a:pt x="3903" y="16886"/>
                  <a:pt x="4826" y="17662"/>
                </a:cubicBezTo>
                <a:lnTo>
                  <a:pt x="3694" y="18975"/>
                </a:lnTo>
                <a:cubicBezTo>
                  <a:pt x="4737" y="19870"/>
                  <a:pt x="5959" y="20615"/>
                  <a:pt x="7359" y="21063"/>
                </a:cubicBezTo>
                <a:lnTo>
                  <a:pt x="7895" y="19422"/>
                </a:lnTo>
                <a:cubicBezTo>
                  <a:pt x="8849" y="19750"/>
                  <a:pt x="9832" y="19899"/>
                  <a:pt x="10785" y="19899"/>
                </a:cubicBezTo>
                <a:cubicBezTo>
                  <a:pt x="10994" y="19899"/>
                  <a:pt x="11202" y="19899"/>
                  <a:pt x="11441" y="19870"/>
                </a:cubicBezTo>
                <a:lnTo>
                  <a:pt x="11560" y="21600"/>
                </a:lnTo>
                <a:cubicBezTo>
                  <a:pt x="12990" y="21511"/>
                  <a:pt x="14360" y="21123"/>
                  <a:pt x="15641" y="20496"/>
                </a:cubicBezTo>
                <a:lnTo>
                  <a:pt x="14867" y="18945"/>
                </a:lnTo>
                <a:cubicBezTo>
                  <a:pt x="15939" y="18408"/>
                  <a:pt x="16893" y="17692"/>
                  <a:pt x="17667" y="16767"/>
                </a:cubicBezTo>
                <a:lnTo>
                  <a:pt x="18978" y="17901"/>
                </a:lnTo>
                <a:cubicBezTo>
                  <a:pt x="19872" y="16856"/>
                  <a:pt x="20617" y="15633"/>
                  <a:pt x="21064" y="14231"/>
                </a:cubicBezTo>
                <a:lnTo>
                  <a:pt x="19425" y="13694"/>
                </a:lnTo>
                <a:cubicBezTo>
                  <a:pt x="19812" y="12530"/>
                  <a:pt x="19961" y="11337"/>
                  <a:pt x="19872" y="10173"/>
                </a:cubicBezTo>
                <a:close/>
                <a:moveTo>
                  <a:pt x="14986" y="12202"/>
                </a:moveTo>
                <a:cubicBezTo>
                  <a:pt x="14360" y="14052"/>
                  <a:pt x="12662" y="15215"/>
                  <a:pt x="10815" y="15215"/>
                </a:cubicBezTo>
                <a:cubicBezTo>
                  <a:pt x="10368" y="15215"/>
                  <a:pt x="9891" y="15156"/>
                  <a:pt x="9415" y="14977"/>
                </a:cubicBezTo>
                <a:cubicBezTo>
                  <a:pt x="7121" y="14201"/>
                  <a:pt x="5869" y="11695"/>
                  <a:pt x="6644" y="9398"/>
                </a:cubicBezTo>
                <a:cubicBezTo>
                  <a:pt x="7270" y="7548"/>
                  <a:pt x="8968" y="6385"/>
                  <a:pt x="10815" y="6385"/>
                </a:cubicBezTo>
                <a:cubicBezTo>
                  <a:pt x="11292" y="6385"/>
                  <a:pt x="11738" y="6444"/>
                  <a:pt x="12215" y="6623"/>
                </a:cubicBezTo>
                <a:cubicBezTo>
                  <a:pt x="14509" y="7399"/>
                  <a:pt x="15731" y="9905"/>
                  <a:pt x="14986" y="12202"/>
                </a:cubicBezTo>
                <a:close/>
              </a:path>
            </a:pathLst>
          </a:cu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2" name="Figure"/>
          <p:cNvSpPr/>
          <p:nvPr/>
        </p:nvSpPr>
        <p:spPr>
          <a:xfrm>
            <a:off x="5670720" y="4537080"/>
            <a:ext cx="311040" cy="31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92" y="8947"/>
                </a:moveTo>
                <a:lnTo>
                  <a:pt x="21600" y="8606"/>
                </a:lnTo>
                <a:cubicBezTo>
                  <a:pt x="21301" y="7200"/>
                  <a:pt x="20746" y="5837"/>
                  <a:pt x="19935" y="4644"/>
                </a:cubicBezTo>
                <a:lnTo>
                  <a:pt x="18484" y="5624"/>
                </a:lnTo>
                <a:cubicBezTo>
                  <a:pt x="17801" y="4644"/>
                  <a:pt x="16947" y="3749"/>
                  <a:pt x="15923" y="3067"/>
                </a:cubicBezTo>
                <a:lnTo>
                  <a:pt x="16904" y="1619"/>
                </a:lnTo>
                <a:cubicBezTo>
                  <a:pt x="15709" y="852"/>
                  <a:pt x="14386" y="298"/>
                  <a:pt x="12934" y="0"/>
                </a:cubicBezTo>
                <a:lnTo>
                  <a:pt x="12593" y="1704"/>
                </a:lnTo>
                <a:cubicBezTo>
                  <a:pt x="11568" y="1491"/>
                  <a:pt x="10587" y="1491"/>
                  <a:pt x="9605" y="1619"/>
                </a:cubicBezTo>
                <a:cubicBezTo>
                  <a:pt x="9391" y="1662"/>
                  <a:pt x="9178" y="1704"/>
                  <a:pt x="8964" y="1747"/>
                </a:cubicBezTo>
                <a:lnTo>
                  <a:pt x="8623" y="43"/>
                </a:lnTo>
                <a:cubicBezTo>
                  <a:pt x="7214" y="341"/>
                  <a:pt x="5848" y="895"/>
                  <a:pt x="4653" y="1704"/>
                </a:cubicBezTo>
                <a:lnTo>
                  <a:pt x="5635" y="3153"/>
                </a:lnTo>
                <a:cubicBezTo>
                  <a:pt x="4653" y="3834"/>
                  <a:pt x="3757" y="4686"/>
                  <a:pt x="3074" y="5709"/>
                </a:cubicBezTo>
                <a:lnTo>
                  <a:pt x="1622" y="4729"/>
                </a:lnTo>
                <a:cubicBezTo>
                  <a:pt x="854" y="5922"/>
                  <a:pt x="299" y="7243"/>
                  <a:pt x="0" y="8691"/>
                </a:cubicBezTo>
                <a:lnTo>
                  <a:pt x="1708" y="9032"/>
                </a:lnTo>
                <a:cubicBezTo>
                  <a:pt x="1451" y="10267"/>
                  <a:pt x="1494" y="11503"/>
                  <a:pt x="1708" y="12653"/>
                </a:cubicBezTo>
                <a:lnTo>
                  <a:pt x="0" y="12994"/>
                </a:lnTo>
                <a:cubicBezTo>
                  <a:pt x="299" y="14400"/>
                  <a:pt x="854" y="15763"/>
                  <a:pt x="1665" y="16956"/>
                </a:cubicBezTo>
                <a:lnTo>
                  <a:pt x="3116" y="15976"/>
                </a:lnTo>
                <a:cubicBezTo>
                  <a:pt x="3799" y="16956"/>
                  <a:pt x="4653" y="17851"/>
                  <a:pt x="5677" y="18533"/>
                </a:cubicBezTo>
                <a:lnTo>
                  <a:pt x="4696" y="19981"/>
                </a:lnTo>
                <a:cubicBezTo>
                  <a:pt x="5848" y="20748"/>
                  <a:pt x="7214" y="21302"/>
                  <a:pt x="8666" y="21600"/>
                </a:cubicBezTo>
                <a:lnTo>
                  <a:pt x="9007" y="19896"/>
                </a:lnTo>
                <a:cubicBezTo>
                  <a:pt x="10032" y="20109"/>
                  <a:pt x="11013" y="20109"/>
                  <a:pt x="11995" y="19981"/>
                </a:cubicBezTo>
                <a:cubicBezTo>
                  <a:pt x="12209" y="19938"/>
                  <a:pt x="12422" y="19896"/>
                  <a:pt x="12636" y="19853"/>
                </a:cubicBezTo>
                <a:lnTo>
                  <a:pt x="12977" y="21557"/>
                </a:lnTo>
                <a:cubicBezTo>
                  <a:pt x="14386" y="21259"/>
                  <a:pt x="15752" y="20705"/>
                  <a:pt x="16947" y="19896"/>
                </a:cubicBezTo>
                <a:lnTo>
                  <a:pt x="15965" y="18447"/>
                </a:lnTo>
                <a:cubicBezTo>
                  <a:pt x="16947" y="17766"/>
                  <a:pt x="17843" y="16914"/>
                  <a:pt x="18526" y="15891"/>
                </a:cubicBezTo>
                <a:lnTo>
                  <a:pt x="19978" y="16871"/>
                </a:lnTo>
                <a:cubicBezTo>
                  <a:pt x="20746" y="15678"/>
                  <a:pt x="21301" y="14357"/>
                  <a:pt x="21600" y="12909"/>
                </a:cubicBezTo>
                <a:lnTo>
                  <a:pt x="19892" y="12568"/>
                </a:lnTo>
                <a:cubicBezTo>
                  <a:pt x="20149" y="11333"/>
                  <a:pt x="20106" y="10097"/>
                  <a:pt x="19892" y="8947"/>
                </a:cubicBezTo>
                <a:close/>
                <a:moveTo>
                  <a:pt x="15197" y="11631"/>
                </a:moveTo>
                <a:cubicBezTo>
                  <a:pt x="14813" y="13591"/>
                  <a:pt x="13233" y="14996"/>
                  <a:pt x="11398" y="15209"/>
                </a:cubicBezTo>
                <a:cubicBezTo>
                  <a:pt x="10928" y="15252"/>
                  <a:pt x="10458" y="15252"/>
                  <a:pt x="9946" y="15167"/>
                </a:cubicBezTo>
                <a:cubicBezTo>
                  <a:pt x="7513" y="14698"/>
                  <a:pt x="5934" y="12355"/>
                  <a:pt x="6403" y="9927"/>
                </a:cubicBezTo>
                <a:cubicBezTo>
                  <a:pt x="6787" y="7967"/>
                  <a:pt x="8367" y="6561"/>
                  <a:pt x="10202" y="6348"/>
                </a:cubicBezTo>
                <a:cubicBezTo>
                  <a:pt x="10672" y="6305"/>
                  <a:pt x="11142" y="6305"/>
                  <a:pt x="11654" y="6391"/>
                </a:cubicBezTo>
                <a:cubicBezTo>
                  <a:pt x="14087" y="6859"/>
                  <a:pt x="15666" y="9202"/>
                  <a:pt x="15197" y="11631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3" name="Figure"/>
          <p:cNvSpPr/>
          <p:nvPr/>
        </p:nvSpPr>
        <p:spPr>
          <a:xfrm>
            <a:off x="4373640" y="4030560"/>
            <a:ext cx="323640" cy="3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2" y="10140"/>
                </a:moveTo>
                <a:lnTo>
                  <a:pt x="21600" y="10017"/>
                </a:lnTo>
                <a:cubicBezTo>
                  <a:pt x="21518" y="8574"/>
                  <a:pt x="21106" y="7214"/>
                  <a:pt x="20489" y="5936"/>
                </a:cubicBezTo>
                <a:lnTo>
                  <a:pt x="18967" y="6719"/>
                </a:lnTo>
                <a:cubicBezTo>
                  <a:pt x="18432" y="5647"/>
                  <a:pt x="17691" y="4699"/>
                  <a:pt x="16786" y="3916"/>
                </a:cubicBezTo>
                <a:lnTo>
                  <a:pt x="17897" y="2597"/>
                </a:lnTo>
                <a:cubicBezTo>
                  <a:pt x="16869" y="1690"/>
                  <a:pt x="15634" y="989"/>
                  <a:pt x="14235" y="495"/>
                </a:cubicBezTo>
                <a:lnTo>
                  <a:pt x="13701" y="2144"/>
                </a:lnTo>
                <a:cubicBezTo>
                  <a:pt x="12754" y="1814"/>
                  <a:pt x="11767" y="1690"/>
                  <a:pt x="10821" y="1690"/>
                </a:cubicBezTo>
                <a:cubicBezTo>
                  <a:pt x="10615" y="1690"/>
                  <a:pt x="10409" y="1690"/>
                  <a:pt x="10162" y="1731"/>
                </a:cubicBezTo>
                <a:lnTo>
                  <a:pt x="10039" y="0"/>
                </a:lnTo>
                <a:cubicBezTo>
                  <a:pt x="8599" y="82"/>
                  <a:pt x="7241" y="495"/>
                  <a:pt x="5966" y="1113"/>
                </a:cubicBezTo>
                <a:lnTo>
                  <a:pt x="6747" y="2638"/>
                </a:lnTo>
                <a:cubicBezTo>
                  <a:pt x="5678" y="3174"/>
                  <a:pt x="4731" y="3916"/>
                  <a:pt x="3950" y="4823"/>
                </a:cubicBezTo>
                <a:lnTo>
                  <a:pt x="2633" y="3710"/>
                </a:lnTo>
                <a:cubicBezTo>
                  <a:pt x="1728" y="4740"/>
                  <a:pt x="1029" y="5977"/>
                  <a:pt x="535" y="7379"/>
                </a:cubicBezTo>
                <a:lnTo>
                  <a:pt x="2181" y="7914"/>
                </a:lnTo>
                <a:cubicBezTo>
                  <a:pt x="1810" y="9069"/>
                  <a:pt x="1646" y="10264"/>
                  <a:pt x="1728" y="11460"/>
                </a:cubicBezTo>
                <a:lnTo>
                  <a:pt x="0" y="11583"/>
                </a:lnTo>
                <a:cubicBezTo>
                  <a:pt x="82" y="13026"/>
                  <a:pt x="494" y="14386"/>
                  <a:pt x="1111" y="15664"/>
                </a:cubicBezTo>
                <a:lnTo>
                  <a:pt x="2633" y="14881"/>
                </a:lnTo>
                <a:cubicBezTo>
                  <a:pt x="3168" y="15953"/>
                  <a:pt x="3909" y="16901"/>
                  <a:pt x="4814" y="17684"/>
                </a:cubicBezTo>
                <a:lnTo>
                  <a:pt x="3703" y="19003"/>
                </a:lnTo>
                <a:cubicBezTo>
                  <a:pt x="4731" y="19910"/>
                  <a:pt x="5966" y="20611"/>
                  <a:pt x="7365" y="21105"/>
                </a:cubicBezTo>
                <a:lnTo>
                  <a:pt x="7899" y="19456"/>
                </a:lnTo>
                <a:cubicBezTo>
                  <a:pt x="8846" y="19786"/>
                  <a:pt x="9833" y="19910"/>
                  <a:pt x="10779" y="19910"/>
                </a:cubicBezTo>
                <a:cubicBezTo>
                  <a:pt x="10985" y="19910"/>
                  <a:pt x="11191" y="19910"/>
                  <a:pt x="11438" y="19869"/>
                </a:cubicBezTo>
                <a:lnTo>
                  <a:pt x="11561" y="21600"/>
                </a:lnTo>
                <a:cubicBezTo>
                  <a:pt x="13001" y="21518"/>
                  <a:pt x="14359" y="21105"/>
                  <a:pt x="15634" y="20487"/>
                </a:cubicBezTo>
                <a:lnTo>
                  <a:pt x="14853" y="18962"/>
                </a:lnTo>
                <a:cubicBezTo>
                  <a:pt x="15922" y="18426"/>
                  <a:pt x="16869" y="17684"/>
                  <a:pt x="17650" y="16777"/>
                </a:cubicBezTo>
                <a:lnTo>
                  <a:pt x="18967" y="17890"/>
                </a:lnTo>
                <a:cubicBezTo>
                  <a:pt x="19872" y="16860"/>
                  <a:pt x="20571" y="15623"/>
                  <a:pt x="21065" y="14221"/>
                </a:cubicBezTo>
                <a:lnTo>
                  <a:pt x="19419" y="13686"/>
                </a:lnTo>
                <a:cubicBezTo>
                  <a:pt x="19831" y="12490"/>
                  <a:pt x="19954" y="11295"/>
                  <a:pt x="19872" y="10140"/>
                </a:cubicBezTo>
                <a:close/>
                <a:moveTo>
                  <a:pt x="14565" y="12037"/>
                </a:moveTo>
                <a:cubicBezTo>
                  <a:pt x="14030" y="13686"/>
                  <a:pt x="12466" y="14757"/>
                  <a:pt x="10821" y="14757"/>
                </a:cubicBezTo>
                <a:cubicBezTo>
                  <a:pt x="10409" y="14757"/>
                  <a:pt x="9998" y="14675"/>
                  <a:pt x="9586" y="14551"/>
                </a:cubicBezTo>
                <a:cubicBezTo>
                  <a:pt x="7529" y="13850"/>
                  <a:pt x="6377" y="11624"/>
                  <a:pt x="7077" y="9522"/>
                </a:cubicBezTo>
                <a:cubicBezTo>
                  <a:pt x="7611" y="7873"/>
                  <a:pt x="9175" y="6802"/>
                  <a:pt x="10821" y="6802"/>
                </a:cubicBezTo>
                <a:cubicBezTo>
                  <a:pt x="11232" y="6802"/>
                  <a:pt x="11643" y="6884"/>
                  <a:pt x="12055" y="7008"/>
                </a:cubicBezTo>
                <a:cubicBezTo>
                  <a:pt x="14153" y="7750"/>
                  <a:pt x="15264" y="9976"/>
                  <a:pt x="14565" y="12037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4" name="Figure"/>
          <p:cNvSpPr/>
          <p:nvPr/>
        </p:nvSpPr>
        <p:spPr>
          <a:xfrm>
            <a:off x="5132520" y="3710160"/>
            <a:ext cx="371520" cy="37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8" y="9401"/>
                </a:moveTo>
                <a:lnTo>
                  <a:pt x="21600" y="9149"/>
                </a:lnTo>
                <a:cubicBezTo>
                  <a:pt x="21385" y="7714"/>
                  <a:pt x="20882" y="6351"/>
                  <a:pt x="20129" y="5131"/>
                </a:cubicBezTo>
                <a:lnTo>
                  <a:pt x="18658" y="6028"/>
                </a:lnTo>
                <a:cubicBezTo>
                  <a:pt x="18048" y="4987"/>
                  <a:pt x="17223" y="4090"/>
                  <a:pt x="16218" y="3373"/>
                </a:cubicBezTo>
                <a:lnTo>
                  <a:pt x="17258" y="1973"/>
                </a:lnTo>
                <a:cubicBezTo>
                  <a:pt x="16146" y="1148"/>
                  <a:pt x="14819" y="538"/>
                  <a:pt x="13383" y="179"/>
                </a:cubicBezTo>
                <a:lnTo>
                  <a:pt x="12989" y="1866"/>
                </a:lnTo>
                <a:cubicBezTo>
                  <a:pt x="11984" y="1615"/>
                  <a:pt x="11015" y="1543"/>
                  <a:pt x="10047" y="1650"/>
                </a:cubicBezTo>
                <a:cubicBezTo>
                  <a:pt x="9831" y="1686"/>
                  <a:pt x="9616" y="1686"/>
                  <a:pt x="9401" y="1722"/>
                </a:cubicBezTo>
                <a:lnTo>
                  <a:pt x="9149" y="0"/>
                </a:lnTo>
                <a:cubicBezTo>
                  <a:pt x="7714" y="215"/>
                  <a:pt x="6351" y="718"/>
                  <a:pt x="5131" y="1471"/>
                </a:cubicBezTo>
                <a:lnTo>
                  <a:pt x="6028" y="2942"/>
                </a:lnTo>
                <a:cubicBezTo>
                  <a:pt x="4987" y="3552"/>
                  <a:pt x="4090" y="4377"/>
                  <a:pt x="3373" y="5382"/>
                </a:cubicBezTo>
                <a:lnTo>
                  <a:pt x="1973" y="4342"/>
                </a:lnTo>
                <a:cubicBezTo>
                  <a:pt x="1148" y="5454"/>
                  <a:pt x="538" y="6781"/>
                  <a:pt x="179" y="8217"/>
                </a:cubicBezTo>
                <a:lnTo>
                  <a:pt x="1866" y="8611"/>
                </a:lnTo>
                <a:cubicBezTo>
                  <a:pt x="1579" y="9831"/>
                  <a:pt x="1543" y="11051"/>
                  <a:pt x="1722" y="12199"/>
                </a:cubicBezTo>
                <a:lnTo>
                  <a:pt x="0" y="12451"/>
                </a:lnTo>
                <a:cubicBezTo>
                  <a:pt x="215" y="13886"/>
                  <a:pt x="718" y="15249"/>
                  <a:pt x="1471" y="16469"/>
                </a:cubicBezTo>
                <a:lnTo>
                  <a:pt x="2942" y="15572"/>
                </a:lnTo>
                <a:cubicBezTo>
                  <a:pt x="3552" y="16613"/>
                  <a:pt x="4377" y="17510"/>
                  <a:pt x="5382" y="18227"/>
                </a:cubicBezTo>
                <a:lnTo>
                  <a:pt x="4342" y="19627"/>
                </a:lnTo>
                <a:cubicBezTo>
                  <a:pt x="5454" y="20452"/>
                  <a:pt x="6781" y="21062"/>
                  <a:pt x="8217" y="21421"/>
                </a:cubicBezTo>
                <a:lnTo>
                  <a:pt x="8611" y="19734"/>
                </a:lnTo>
                <a:cubicBezTo>
                  <a:pt x="9616" y="19985"/>
                  <a:pt x="10585" y="20057"/>
                  <a:pt x="11553" y="19950"/>
                </a:cubicBezTo>
                <a:cubicBezTo>
                  <a:pt x="11769" y="19914"/>
                  <a:pt x="11984" y="19914"/>
                  <a:pt x="12199" y="19878"/>
                </a:cubicBezTo>
                <a:lnTo>
                  <a:pt x="12450" y="21600"/>
                </a:lnTo>
                <a:cubicBezTo>
                  <a:pt x="13886" y="21385"/>
                  <a:pt x="15249" y="20882"/>
                  <a:pt x="16469" y="20129"/>
                </a:cubicBezTo>
                <a:lnTo>
                  <a:pt x="15572" y="18658"/>
                </a:lnTo>
                <a:cubicBezTo>
                  <a:pt x="16613" y="18048"/>
                  <a:pt x="17510" y="17223"/>
                  <a:pt x="18227" y="16218"/>
                </a:cubicBezTo>
                <a:lnTo>
                  <a:pt x="19627" y="17258"/>
                </a:lnTo>
                <a:cubicBezTo>
                  <a:pt x="20452" y="16146"/>
                  <a:pt x="21062" y="14819"/>
                  <a:pt x="21421" y="13383"/>
                </a:cubicBezTo>
                <a:lnTo>
                  <a:pt x="19734" y="12989"/>
                </a:lnTo>
                <a:cubicBezTo>
                  <a:pt x="20021" y="11769"/>
                  <a:pt x="20057" y="10549"/>
                  <a:pt x="19878" y="9401"/>
                </a:cubicBezTo>
                <a:close/>
                <a:moveTo>
                  <a:pt x="15106" y="11841"/>
                </a:moveTo>
                <a:cubicBezTo>
                  <a:pt x="14639" y="13742"/>
                  <a:pt x="13025" y="15070"/>
                  <a:pt x="11159" y="15213"/>
                </a:cubicBezTo>
                <a:cubicBezTo>
                  <a:pt x="10692" y="15249"/>
                  <a:pt x="10226" y="15213"/>
                  <a:pt x="9724" y="15106"/>
                </a:cubicBezTo>
                <a:cubicBezTo>
                  <a:pt x="7320" y="14532"/>
                  <a:pt x="5884" y="12128"/>
                  <a:pt x="6458" y="9724"/>
                </a:cubicBezTo>
                <a:cubicBezTo>
                  <a:pt x="6925" y="7822"/>
                  <a:pt x="8540" y="6494"/>
                  <a:pt x="10405" y="6351"/>
                </a:cubicBezTo>
                <a:cubicBezTo>
                  <a:pt x="10872" y="6315"/>
                  <a:pt x="11338" y="6351"/>
                  <a:pt x="11841" y="6458"/>
                </a:cubicBezTo>
                <a:cubicBezTo>
                  <a:pt x="14245" y="7068"/>
                  <a:pt x="15680" y="9472"/>
                  <a:pt x="15106" y="11841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5" name="Figure"/>
          <p:cNvSpPr/>
          <p:nvPr/>
        </p:nvSpPr>
        <p:spPr>
          <a:xfrm>
            <a:off x="5040360" y="3611520"/>
            <a:ext cx="155520" cy="15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86" y="10200"/>
                </a:moveTo>
                <a:lnTo>
                  <a:pt x="21600" y="10114"/>
                </a:lnTo>
                <a:cubicBezTo>
                  <a:pt x="21514" y="8657"/>
                  <a:pt x="21086" y="7286"/>
                  <a:pt x="20486" y="6000"/>
                </a:cubicBezTo>
                <a:lnTo>
                  <a:pt x="18943" y="6771"/>
                </a:lnTo>
                <a:cubicBezTo>
                  <a:pt x="18429" y="5743"/>
                  <a:pt x="17657" y="4714"/>
                  <a:pt x="16800" y="3943"/>
                </a:cubicBezTo>
                <a:lnTo>
                  <a:pt x="17914" y="2657"/>
                </a:lnTo>
                <a:cubicBezTo>
                  <a:pt x="16886" y="1714"/>
                  <a:pt x="15600" y="1029"/>
                  <a:pt x="14229" y="600"/>
                </a:cubicBezTo>
                <a:lnTo>
                  <a:pt x="13714" y="2229"/>
                </a:lnTo>
                <a:cubicBezTo>
                  <a:pt x="12771" y="1886"/>
                  <a:pt x="11743" y="1714"/>
                  <a:pt x="10800" y="1714"/>
                </a:cubicBezTo>
                <a:cubicBezTo>
                  <a:pt x="10543" y="1714"/>
                  <a:pt x="10371" y="1714"/>
                  <a:pt x="10114" y="1714"/>
                </a:cubicBezTo>
                <a:lnTo>
                  <a:pt x="10029" y="0"/>
                </a:lnTo>
                <a:cubicBezTo>
                  <a:pt x="8571" y="86"/>
                  <a:pt x="7200" y="514"/>
                  <a:pt x="5914" y="1114"/>
                </a:cubicBezTo>
                <a:lnTo>
                  <a:pt x="6686" y="2657"/>
                </a:lnTo>
                <a:cubicBezTo>
                  <a:pt x="5657" y="3171"/>
                  <a:pt x="4629" y="3943"/>
                  <a:pt x="3857" y="4800"/>
                </a:cubicBezTo>
                <a:lnTo>
                  <a:pt x="2571" y="3686"/>
                </a:lnTo>
                <a:cubicBezTo>
                  <a:pt x="1629" y="4714"/>
                  <a:pt x="943" y="6000"/>
                  <a:pt x="514" y="7371"/>
                </a:cubicBezTo>
                <a:lnTo>
                  <a:pt x="2143" y="7886"/>
                </a:lnTo>
                <a:cubicBezTo>
                  <a:pt x="1714" y="9086"/>
                  <a:pt x="1629" y="10286"/>
                  <a:pt x="1714" y="11400"/>
                </a:cubicBezTo>
                <a:lnTo>
                  <a:pt x="0" y="11486"/>
                </a:lnTo>
                <a:cubicBezTo>
                  <a:pt x="86" y="12943"/>
                  <a:pt x="514" y="14314"/>
                  <a:pt x="1114" y="15600"/>
                </a:cubicBezTo>
                <a:lnTo>
                  <a:pt x="2657" y="14829"/>
                </a:lnTo>
                <a:cubicBezTo>
                  <a:pt x="3171" y="15857"/>
                  <a:pt x="3943" y="16886"/>
                  <a:pt x="4800" y="17657"/>
                </a:cubicBezTo>
                <a:lnTo>
                  <a:pt x="3686" y="18943"/>
                </a:lnTo>
                <a:cubicBezTo>
                  <a:pt x="4714" y="19886"/>
                  <a:pt x="6000" y="20571"/>
                  <a:pt x="7371" y="21000"/>
                </a:cubicBezTo>
                <a:lnTo>
                  <a:pt x="7886" y="19371"/>
                </a:lnTo>
                <a:cubicBezTo>
                  <a:pt x="8829" y="19714"/>
                  <a:pt x="9857" y="19886"/>
                  <a:pt x="10800" y="19886"/>
                </a:cubicBezTo>
                <a:cubicBezTo>
                  <a:pt x="11057" y="19886"/>
                  <a:pt x="11229" y="19886"/>
                  <a:pt x="11486" y="19886"/>
                </a:cubicBezTo>
                <a:lnTo>
                  <a:pt x="11571" y="21600"/>
                </a:lnTo>
                <a:cubicBezTo>
                  <a:pt x="13029" y="21514"/>
                  <a:pt x="14400" y="21086"/>
                  <a:pt x="15686" y="20486"/>
                </a:cubicBezTo>
                <a:lnTo>
                  <a:pt x="14914" y="18943"/>
                </a:lnTo>
                <a:cubicBezTo>
                  <a:pt x="15943" y="18429"/>
                  <a:pt x="16971" y="17657"/>
                  <a:pt x="17743" y="16800"/>
                </a:cubicBezTo>
                <a:lnTo>
                  <a:pt x="19029" y="17914"/>
                </a:lnTo>
                <a:cubicBezTo>
                  <a:pt x="19971" y="16886"/>
                  <a:pt x="20657" y="15600"/>
                  <a:pt x="21086" y="14229"/>
                </a:cubicBezTo>
                <a:lnTo>
                  <a:pt x="19457" y="13714"/>
                </a:lnTo>
                <a:cubicBezTo>
                  <a:pt x="19886" y="12600"/>
                  <a:pt x="19971" y="11400"/>
                  <a:pt x="19886" y="10200"/>
                </a:cubicBezTo>
                <a:close/>
                <a:moveTo>
                  <a:pt x="15000" y="12257"/>
                </a:moveTo>
                <a:cubicBezTo>
                  <a:pt x="14400" y="14143"/>
                  <a:pt x="12686" y="15257"/>
                  <a:pt x="10800" y="15257"/>
                </a:cubicBezTo>
                <a:cubicBezTo>
                  <a:pt x="10371" y="15257"/>
                  <a:pt x="9857" y="15171"/>
                  <a:pt x="9429" y="15000"/>
                </a:cubicBezTo>
                <a:cubicBezTo>
                  <a:pt x="7114" y="14229"/>
                  <a:pt x="5829" y="11743"/>
                  <a:pt x="6600" y="9429"/>
                </a:cubicBezTo>
                <a:cubicBezTo>
                  <a:pt x="7200" y="7543"/>
                  <a:pt x="8914" y="6429"/>
                  <a:pt x="10800" y="6429"/>
                </a:cubicBezTo>
                <a:cubicBezTo>
                  <a:pt x="11229" y="6429"/>
                  <a:pt x="11743" y="6514"/>
                  <a:pt x="12171" y="6686"/>
                </a:cubicBezTo>
                <a:cubicBezTo>
                  <a:pt x="14486" y="7457"/>
                  <a:pt x="15771" y="9943"/>
                  <a:pt x="15000" y="12257"/>
                </a:cubicBezTo>
                <a:close/>
              </a:path>
            </a:pathLst>
          </a:cu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6" name="Figure"/>
          <p:cNvSpPr/>
          <p:nvPr/>
        </p:nvSpPr>
        <p:spPr>
          <a:xfrm>
            <a:off x="4627440" y="3710160"/>
            <a:ext cx="48744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32" y="8957"/>
                </a:moveTo>
                <a:cubicBezTo>
                  <a:pt x="19686" y="7646"/>
                  <a:pt x="19139" y="6444"/>
                  <a:pt x="18401" y="5407"/>
                </a:cubicBezTo>
                <a:lnTo>
                  <a:pt x="19522" y="4260"/>
                </a:lnTo>
                <a:lnTo>
                  <a:pt x="17089" y="1884"/>
                </a:lnTo>
                <a:lnTo>
                  <a:pt x="15968" y="3031"/>
                </a:lnTo>
                <a:cubicBezTo>
                  <a:pt x="14901" y="2321"/>
                  <a:pt x="13671" y="1830"/>
                  <a:pt x="12358" y="1611"/>
                </a:cubicBezTo>
                <a:lnTo>
                  <a:pt x="12331" y="0"/>
                </a:lnTo>
                <a:lnTo>
                  <a:pt x="10636" y="27"/>
                </a:lnTo>
                <a:lnTo>
                  <a:pt x="8941" y="55"/>
                </a:lnTo>
                <a:lnTo>
                  <a:pt x="8968" y="1666"/>
                </a:lnTo>
                <a:cubicBezTo>
                  <a:pt x="7656" y="1912"/>
                  <a:pt x="6453" y="2458"/>
                  <a:pt x="5414" y="3195"/>
                </a:cubicBezTo>
                <a:lnTo>
                  <a:pt x="4265" y="2075"/>
                </a:lnTo>
                <a:lnTo>
                  <a:pt x="1887" y="4506"/>
                </a:lnTo>
                <a:lnTo>
                  <a:pt x="3035" y="5625"/>
                </a:lnTo>
                <a:cubicBezTo>
                  <a:pt x="2324" y="6690"/>
                  <a:pt x="1832" y="7919"/>
                  <a:pt x="1613" y="9230"/>
                </a:cubicBezTo>
                <a:lnTo>
                  <a:pt x="0" y="9257"/>
                </a:lnTo>
                <a:lnTo>
                  <a:pt x="55" y="12671"/>
                </a:lnTo>
                <a:lnTo>
                  <a:pt x="1668" y="12643"/>
                </a:lnTo>
                <a:cubicBezTo>
                  <a:pt x="1914" y="13954"/>
                  <a:pt x="2461" y="15156"/>
                  <a:pt x="3199" y="16193"/>
                </a:cubicBezTo>
                <a:lnTo>
                  <a:pt x="2078" y="17340"/>
                </a:lnTo>
                <a:lnTo>
                  <a:pt x="4511" y="19716"/>
                </a:lnTo>
                <a:lnTo>
                  <a:pt x="5632" y="18569"/>
                </a:lnTo>
                <a:cubicBezTo>
                  <a:pt x="6699" y="19279"/>
                  <a:pt x="7929" y="19770"/>
                  <a:pt x="9242" y="19989"/>
                </a:cubicBezTo>
                <a:lnTo>
                  <a:pt x="9269" y="21600"/>
                </a:lnTo>
                <a:lnTo>
                  <a:pt x="10964" y="21573"/>
                </a:lnTo>
                <a:lnTo>
                  <a:pt x="12659" y="21545"/>
                </a:lnTo>
                <a:lnTo>
                  <a:pt x="12632" y="19934"/>
                </a:lnTo>
                <a:cubicBezTo>
                  <a:pt x="13944" y="19688"/>
                  <a:pt x="15147" y="19142"/>
                  <a:pt x="16186" y="18405"/>
                </a:cubicBezTo>
                <a:lnTo>
                  <a:pt x="17335" y="19525"/>
                </a:lnTo>
                <a:lnTo>
                  <a:pt x="19713" y="17094"/>
                </a:lnTo>
                <a:lnTo>
                  <a:pt x="18565" y="15975"/>
                </a:lnTo>
                <a:cubicBezTo>
                  <a:pt x="19276" y="14910"/>
                  <a:pt x="19768" y="13681"/>
                  <a:pt x="19987" y="12370"/>
                </a:cubicBezTo>
                <a:lnTo>
                  <a:pt x="21600" y="12343"/>
                </a:lnTo>
                <a:lnTo>
                  <a:pt x="21545" y="8929"/>
                </a:lnTo>
                <a:lnTo>
                  <a:pt x="19932" y="8957"/>
                </a:lnTo>
                <a:close/>
                <a:moveTo>
                  <a:pt x="10882" y="17640"/>
                </a:moveTo>
                <a:lnTo>
                  <a:pt x="10882" y="17640"/>
                </a:lnTo>
                <a:cubicBezTo>
                  <a:pt x="7082" y="17695"/>
                  <a:pt x="3965" y="14664"/>
                  <a:pt x="3910" y="10841"/>
                </a:cubicBezTo>
                <a:cubicBezTo>
                  <a:pt x="3855" y="7045"/>
                  <a:pt x="6890" y="3932"/>
                  <a:pt x="10718" y="3878"/>
                </a:cubicBezTo>
                <a:lnTo>
                  <a:pt x="10718" y="3878"/>
                </a:lnTo>
                <a:cubicBezTo>
                  <a:pt x="14518" y="3823"/>
                  <a:pt x="17635" y="6854"/>
                  <a:pt x="17690" y="10677"/>
                </a:cubicBezTo>
                <a:cubicBezTo>
                  <a:pt x="17745" y="14473"/>
                  <a:pt x="14683" y="17613"/>
                  <a:pt x="10882" y="17640"/>
                </a:cubicBezTo>
                <a:close/>
              </a:path>
            </a:pathLst>
          </a:cu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7" name="Title 1"/>
          <p:cNvSpPr/>
          <p:nvPr/>
        </p:nvSpPr>
        <p:spPr>
          <a:xfrm>
            <a:off x="1641600" y="3333600"/>
            <a:ext cx="2044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Problem (s)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8" name="TextBox 65"/>
          <p:cNvSpPr/>
          <p:nvPr/>
        </p:nvSpPr>
        <p:spPr>
          <a:xfrm>
            <a:off x="345960" y="3665520"/>
            <a:ext cx="3340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sit amet, elit, sedummy nibh magna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9" name="Title 1"/>
          <p:cNvSpPr/>
          <p:nvPr/>
        </p:nvSpPr>
        <p:spPr>
          <a:xfrm>
            <a:off x="8505720" y="1927080"/>
            <a:ext cx="2044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Solution (s)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0" name="TextBox 69"/>
          <p:cNvSpPr/>
          <p:nvPr/>
        </p:nvSpPr>
        <p:spPr>
          <a:xfrm>
            <a:off x="8505720" y="2260440"/>
            <a:ext cx="3340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sit amet, elit, sedummy nibh magna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4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Work Process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52" name="Straight Connector 5"/>
          <p:cNvSpPr/>
          <p:nvPr/>
        </p:nvSpPr>
        <p:spPr>
          <a:xfrm>
            <a:off x="1744560" y="3722760"/>
            <a:ext cx="8783640" cy="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3" name="Rectangle 12"/>
          <p:cNvSpPr/>
          <p:nvPr/>
        </p:nvSpPr>
        <p:spPr>
          <a:xfrm>
            <a:off x="10296360" y="3444840"/>
            <a:ext cx="555840" cy="555840"/>
          </a:xfrm>
          <a:prstGeom prst="rect">
            <a:avLst/>
          </a:prstGeom>
          <a:solidFill>
            <a:srgbClr val="378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4" name="Rectangle 13"/>
          <p:cNvSpPr/>
          <p:nvPr/>
        </p:nvSpPr>
        <p:spPr>
          <a:xfrm>
            <a:off x="8107200" y="3444840"/>
            <a:ext cx="555840" cy="555840"/>
          </a:xfrm>
          <a:prstGeom prst="rect">
            <a:avLst/>
          </a:pr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5" name="Rectangle 15"/>
          <p:cNvSpPr/>
          <p:nvPr/>
        </p:nvSpPr>
        <p:spPr>
          <a:xfrm>
            <a:off x="3605040" y="3438360"/>
            <a:ext cx="554040" cy="55584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6" name="Rectangle 16"/>
          <p:cNvSpPr/>
          <p:nvPr/>
        </p:nvSpPr>
        <p:spPr>
          <a:xfrm>
            <a:off x="1339920" y="3438360"/>
            <a:ext cx="555480" cy="55584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7" name="TextBox 19"/>
          <p:cNvSpPr/>
          <p:nvPr/>
        </p:nvSpPr>
        <p:spPr>
          <a:xfrm>
            <a:off x="1359000" y="348624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1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8" name="TextBox 20"/>
          <p:cNvSpPr/>
          <p:nvPr/>
        </p:nvSpPr>
        <p:spPr>
          <a:xfrm>
            <a:off x="3624120" y="3486240"/>
            <a:ext cx="5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9" name="TextBox 22"/>
          <p:cNvSpPr/>
          <p:nvPr/>
        </p:nvSpPr>
        <p:spPr>
          <a:xfrm>
            <a:off x="8126280" y="348624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4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0" name="TextBox 23"/>
          <p:cNvSpPr/>
          <p:nvPr/>
        </p:nvSpPr>
        <p:spPr>
          <a:xfrm>
            <a:off x="10315440" y="348624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5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1" name="TextBox 37"/>
          <p:cNvSpPr/>
          <p:nvPr/>
        </p:nvSpPr>
        <p:spPr>
          <a:xfrm>
            <a:off x="67464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562" name="Group 49"/>
          <p:cNvGrpSpPr/>
          <p:nvPr/>
        </p:nvGrpSpPr>
        <p:grpSpPr>
          <a:xfrm>
            <a:off x="1297080" y="2490840"/>
            <a:ext cx="641160" cy="639720"/>
            <a:chOff x="1297080" y="2490840"/>
            <a:chExt cx="641160" cy="639720"/>
          </a:xfrm>
        </p:grpSpPr>
        <p:sp>
          <p:nvSpPr>
            <p:cNvPr id="1563" name="Freeform 17"/>
            <p:cNvSpPr/>
            <p:nvPr/>
          </p:nvSpPr>
          <p:spPr>
            <a:xfrm>
              <a:off x="1297080" y="2490840"/>
              <a:ext cx="641160" cy="6397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20"/>
                  </a:moveTo>
                  <a:cubicBezTo>
                    <a:pt x="200" y="9"/>
                    <a:pt x="191" y="0"/>
                    <a:pt x="18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191"/>
                    <a:pt x="9" y="200"/>
                    <a:pt x="20" y="200"/>
                  </a:cubicBezTo>
                  <a:cubicBezTo>
                    <a:pt x="180" y="200"/>
                    <a:pt x="180" y="200"/>
                    <a:pt x="180" y="200"/>
                  </a:cubicBezTo>
                  <a:cubicBezTo>
                    <a:pt x="191" y="200"/>
                    <a:pt x="200" y="191"/>
                    <a:pt x="200" y="180"/>
                  </a:cubicBezTo>
                  <a:lnTo>
                    <a:pt x="200" y="20"/>
                  </a:lnTo>
                  <a:close/>
                </a:path>
              </a:pathLst>
            </a:custGeom>
            <a:noFill/>
            <a:ln cap="rnd" w="3492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4" name="Oval 18"/>
            <p:cNvSpPr/>
            <p:nvPr/>
          </p:nvSpPr>
          <p:spPr>
            <a:xfrm>
              <a:off x="1347840" y="2541600"/>
              <a:ext cx="539640" cy="538200"/>
            </a:xfrm>
            <a:prstGeom prst="ellipse">
              <a:avLst/>
            </a:prstGeom>
            <a:noFill/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5" name="Oval 19"/>
            <p:cNvSpPr/>
            <p:nvPr/>
          </p:nvSpPr>
          <p:spPr>
            <a:xfrm>
              <a:off x="1400040" y="2592360"/>
              <a:ext cx="435240" cy="435240"/>
            </a:xfrm>
            <a:prstGeom prst="ellipse">
              <a:avLst/>
            </a:prstGeom>
            <a:noFill/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6" name="Line 20"/>
            <p:cNvSpPr/>
            <p:nvPr/>
          </p:nvSpPr>
          <p:spPr>
            <a:xfrm>
              <a:off x="1409400" y="2746080"/>
              <a:ext cx="416520" cy="0"/>
            </a:xfrm>
            <a:prstGeom prst="line">
              <a:avLst/>
            </a:prstGeom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7" name="Line 21"/>
            <p:cNvSpPr/>
            <p:nvPr/>
          </p:nvSpPr>
          <p:spPr>
            <a:xfrm>
              <a:off x="1409400" y="2875320"/>
              <a:ext cx="416520" cy="0"/>
            </a:xfrm>
            <a:prstGeom prst="line">
              <a:avLst/>
            </a:prstGeom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8" name="Oval 22"/>
            <p:cNvSpPr/>
            <p:nvPr/>
          </p:nvSpPr>
          <p:spPr>
            <a:xfrm>
              <a:off x="1553760" y="2746080"/>
              <a:ext cx="127800" cy="51840"/>
            </a:xfrm>
            <a:prstGeom prst="ellipse">
              <a:avLst/>
            </a:prstGeom>
            <a:noFill/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69" name="Line 23"/>
            <p:cNvSpPr/>
            <p:nvPr/>
          </p:nvSpPr>
          <p:spPr>
            <a:xfrm>
              <a:off x="1501560" y="2746080"/>
              <a:ext cx="0" cy="128880"/>
            </a:xfrm>
            <a:prstGeom prst="line">
              <a:avLst/>
            </a:prstGeom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70" name="Line 24"/>
            <p:cNvSpPr/>
            <p:nvPr/>
          </p:nvSpPr>
          <p:spPr>
            <a:xfrm>
              <a:off x="1732320" y="2746080"/>
              <a:ext cx="0" cy="128880"/>
            </a:xfrm>
            <a:prstGeom prst="line">
              <a:avLst/>
            </a:prstGeom>
            <a:ln cap="rnd" w="3492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571" name="TextBox 50"/>
          <p:cNvSpPr/>
          <p:nvPr/>
        </p:nvSpPr>
        <p:spPr>
          <a:xfrm>
            <a:off x="2940120" y="40863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2" name="TextBox 52"/>
          <p:cNvSpPr/>
          <p:nvPr/>
        </p:nvSpPr>
        <p:spPr>
          <a:xfrm>
            <a:off x="7442280" y="40863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3" name="TextBox 53"/>
          <p:cNvSpPr/>
          <p:nvPr/>
        </p:nvSpPr>
        <p:spPr>
          <a:xfrm>
            <a:off x="963144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574" name="Group 60"/>
          <p:cNvGrpSpPr/>
          <p:nvPr/>
        </p:nvGrpSpPr>
        <p:grpSpPr>
          <a:xfrm>
            <a:off x="3562200" y="2490840"/>
            <a:ext cx="640080" cy="639720"/>
            <a:chOff x="3562200" y="2490840"/>
            <a:chExt cx="640080" cy="639720"/>
          </a:xfrm>
        </p:grpSpPr>
        <p:sp>
          <p:nvSpPr>
            <p:cNvPr id="1575" name="Oval 28"/>
            <p:cNvSpPr/>
            <p:nvPr/>
          </p:nvSpPr>
          <p:spPr>
            <a:xfrm>
              <a:off x="3656520" y="2585160"/>
              <a:ext cx="451440" cy="451080"/>
            </a:xfrm>
            <a:prstGeom prst="ellipse">
              <a:avLst/>
            </a:prstGeom>
            <a:noFill/>
            <a:ln cap="rnd" w="3348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76" name="Freeform 29"/>
            <p:cNvSpPr/>
            <p:nvPr/>
          </p:nvSpPr>
          <p:spPr>
            <a:xfrm>
              <a:off x="3562200" y="2490840"/>
              <a:ext cx="640080" cy="639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38"/>
                  </a:moveTo>
                  <a:cubicBezTo>
                    <a:pt x="200" y="165"/>
                    <a:pt x="200" y="165"/>
                    <a:pt x="200" y="165"/>
                  </a:cubicBezTo>
                  <a:cubicBezTo>
                    <a:pt x="181" y="168"/>
                    <a:pt x="181" y="168"/>
                    <a:pt x="181" y="168"/>
                  </a:cubicBezTo>
                  <a:cubicBezTo>
                    <a:pt x="181" y="168"/>
                    <a:pt x="174" y="169"/>
                    <a:pt x="171" y="172"/>
                  </a:cubicBezTo>
                  <a:cubicBezTo>
                    <a:pt x="165" y="178"/>
                    <a:pt x="173" y="182"/>
                    <a:pt x="173" y="182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159" y="204"/>
                    <a:pt x="159" y="204"/>
                    <a:pt x="159" y="204"/>
                  </a:cubicBezTo>
                  <a:cubicBezTo>
                    <a:pt x="142" y="196"/>
                    <a:pt x="142" y="196"/>
                    <a:pt x="142" y="196"/>
                  </a:cubicBezTo>
                  <a:cubicBezTo>
                    <a:pt x="142" y="196"/>
                    <a:pt x="135" y="194"/>
                    <a:pt x="130" y="195"/>
                  </a:cubicBezTo>
                  <a:cubicBezTo>
                    <a:pt x="122" y="197"/>
                    <a:pt x="128" y="205"/>
                    <a:pt x="128" y="205"/>
                  </a:cubicBezTo>
                  <a:cubicBezTo>
                    <a:pt x="136" y="216"/>
                    <a:pt x="136" y="216"/>
                    <a:pt x="136" y="216"/>
                  </a:cubicBezTo>
                  <a:cubicBezTo>
                    <a:pt x="136" y="216"/>
                    <a:pt x="136" y="216"/>
                    <a:pt x="136" y="216"/>
                  </a:cubicBezTo>
                  <a:cubicBezTo>
                    <a:pt x="104" y="216"/>
                    <a:pt x="104" y="216"/>
                    <a:pt x="104" y="216"/>
                  </a:cubicBezTo>
                  <a:cubicBezTo>
                    <a:pt x="93" y="201"/>
                    <a:pt x="93" y="201"/>
                    <a:pt x="93" y="201"/>
                  </a:cubicBezTo>
                  <a:cubicBezTo>
                    <a:pt x="93" y="201"/>
                    <a:pt x="89" y="196"/>
                    <a:pt x="84" y="194"/>
                  </a:cubicBezTo>
                  <a:cubicBezTo>
                    <a:pt x="76" y="192"/>
                    <a:pt x="77" y="202"/>
                    <a:pt x="77" y="202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51" y="200"/>
                    <a:pt x="51" y="200"/>
                    <a:pt x="51" y="200"/>
                  </a:cubicBezTo>
                  <a:cubicBezTo>
                    <a:pt x="48" y="181"/>
                    <a:pt x="48" y="181"/>
                    <a:pt x="48" y="181"/>
                  </a:cubicBezTo>
                  <a:cubicBezTo>
                    <a:pt x="48" y="181"/>
                    <a:pt x="47" y="174"/>
                    <a:pt x="44" y="171"/>
                  </a:cubicBezTo>
                  <a:cubicBezTo>
                    <a:pt x="38" y="165"/>
                    <a:pt x="34" y="173"/>
                    <a:pt x="34" y="173"/>
                  </a:cubicBezTo>
                  <a:cubicBezTo>
                    <a:pt x="28" y="186"/>
                    <a:pt x="28" y="186"/>
                    <a:pt x="28" y="186"/>
                  </a:cubicBezTo>
                  <a:cubicBezTo>
                    <a:pt x="12" y="159"/>
                    <a:pt x="12" y="159"/>
                    <a:pt x="12" y="159"/>
                  </a:cubicBezTo>
                  <a:cubicBezTo>
                    <a:pt x="20" y="142"/>
                    <a:pt x="20" y="142"/>
                    <a:pt x="20" y="142"/>
                  </a:cubicBezTo>
                  <a:cubicBezTo>
                    <a:pt x="20" y="142"/>
                    <a:pt x="22" y="135"/>
                    <a:pt x="21" y="130"/>
                  </a:cubicBezTo>
                  <a:cubicBezTo>
                    <a:pt x="19" y="122"/>
                    <a:pt x="11" y="128"/>
                    <a:pt x="11" y="128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15" y="93"/>
                    <a:pt x="15" y="93"/>
                    <a:pt x="15" y="93"/>
                  </a:cubicBezTo>
                  <a:cubicBezTo>
                    <a:pt x="15" y="93"/>
                    <a:pt x="20" y="89"/>
                    <a:pt x="22" y="84"/>
                  </a:cubicBezTo>
                  <a:cubicBezTo>
                    <a:pt x="24" y="76"/>
                    <a:pt x="14" y="77"/>
                    <a:pt x="14" y="77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35" y="48"/>
                    <a:pt x="35" y="48"/>
                    <a:pt x="35" y="48"/>
                  </a:cubicBezTo>
                  <a:cubicBezTo>
                    <a:pt x="35" y="48"/>
                    <a:pt x="42" y="47"/>
                    <a:pt x="45" y="44"/>
                  </a:cubicBezTo>
                  <a:cubicBezTo>
                    <a:pt x="51" y="38"/>
                    <a:pt x="43" y="34"/>
                    <a:pt x="43" y="34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57" y="12"/>
                    <a:pt x="57" y="12"/>
                    <a:pt x="57" y="12"/>
                  </a:cubicBezTo>
                  <a:cubicBezTo>
                    <a:pt x="74" y="20"/>
                    <a:pt x="74" y="20"/>
                    <a:pt x="74" y="20"/>
                  </a:cubicBezTo>
                  <a:cubicBezTo>
                    <a:pt x="74" y="20"/>
                    <a:pt x="81" y="22"/>
                    <a:pt x="86" y="21"/>
                  </a:cubicBezTo>
                  <a:cubicBezTo>
                    <a:pt x="94" y="19"/>
                    <a:pt x="88" y="11"/>
                    <a:pt x="88" y="11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23" y="15"/>
                    <a:pt x="123" y="15"/>
                    <a:pt x="123" y="15"/>
                  </a:cubicBezTo>
                  <a:cubicBezTo>
                    <a:pt x="123" y="15"/>
                    <a:pt x="127" y="20"/>
                    <a:pt x="132" y="22"/>
                  </a:cubicBezTo>
                  <a:cubicBezTo>
                    <a:pt x="140" y="24"/>
                    <a:pt x="139" y="14"/>
                    <a:pt x="139" y="14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68" y="35"/>
                    <a:pt x="168" y="35"/>
                    <a:pt x="168" y="35"/>
                  </a:cubicBezTo>
                  <a:cubicBezTo>
                    <a:pt x="168" y="35"/>
                    <a:pt x="169" y="42"/>
                    <a:pt x="172" y="45"/>
                  </a:cubicBezTo>
                  <a:cubicBezTo>
                    <a:pt x="178" y="51"/>
                    <a:pt x="182" y="43"/>
                    <a:pt x="182" y="43"/>
                  </a:cubicBezTo>
                  <a:cubicBezTo>
                    <a:pt x="188" y="30"/>
                    <a:pt x="188" y="30"/>
                    <a:pt x="188" y="30"/>
                  </a:cubicBezTo>
                  <a:cubicBezTo>
                    <a:pt x="188" y="30"/>
                    <a:pt x="188" y="30"/>
                    <a:pt x="188" y="30"/>
                  </a:cubicBezTo>
                  <a:cubicBezTo>
                    <a:pt x="204" y="57"/>
                    <a:pt x="204" y="57"/>
                    <a:pt x="204" y="57"/>
                  </a:cubicBezTo>
                  <a:cubicBezTo>
                    <a:pt x="196" y="74"/>
                    <a:pt x="196" y="74"/>
                    <a:pt x="196" y="74"/>
                  </a:cubicBezTo>
                  <a:cubicBezTo>
                    <a:pt x="196" y="74"/>
                    <a:pt x="194" y="81"/>
                    <a:pt x="195" y="86"/>
                  </a:cubicBezTo>
                  <a:cubicBezTo>
                    <a:pt x="197" y="94"/>
                    <a:pt x="205" y="88"/>
                    <a:pt x="205" y="88"/>
                  </a:cubicBezTo>
                  <a:cubicBezTo>
                    <a:pt x="216" y="80"/>
                    <a:pt x="216" y="80"/>
                    <a:pt x="216" y="80"/>
                  </a:cubicBezTo>
                  <a:cubicBezTo>
                    <a:pt x="216" y="112"/>
                    <a:pt x="216" y="112"/>
                    <a:pt x="216" y="112"/>
                  </a:cubicBezTo>
                  <a:cubicBezTo>
                    <a:pt x="201" y="123"/>
                    <a:pt x="201" y="123"/>
                    <a:pt x="201" y="123"/>
                  </a:cubicBezTo>
                  <a:cubicBezTo>
                    <a:pt x="201" y="123"/>
                    <a:pt x="196" y="127"/>
                    <a:pt x="194" y="132"/>
                  </a:cubicBezTo>
                  <a:cubicBezTo>
                    <a:pt x="192" y="140"/>
                    <a:pt x="202" y="139"/>
                    <a:pt x="202" y="139"/>
                  </a:cubicBezTo>
                  <a:lnTo>
                    <a:pt x="216" y="138"/>
                  </a:lnTo>
                  <a:close/>
                </a:path>
              </a:pathLst>
            </a:custGeom>
            <a:noFill/>
            <a:ln cap="rnd" w="3348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77" name="Oval 30"/>
            <p:cNvSpPr/>
            <p:nvPr/>
          </p:nvSpPr>
          <p:spPr>
            <a:xfrm>
              <a:off x="3822480" y="2750760"/>
              <a:ext cx="118440" cy="118440"/>
            </a:xfrm>
            <a:prstGeom prst="ellipse">
              <a:avLst/>
            </a:prstGeom>
            <a:noFill/>
            <a:ln cap="rnd" w="3348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578" name="Shape 2833"/>
          <p:cNvSpPr/>
          <p:nvPr/>
        </p:nvSpPr>
        <p:spPr>
          <a:xfrm>
            <a:off x="8064360" y="2489040"/>
            <a:ext cx="640080" cy="64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382" y="1964"/>
                </a:moveTo>
                <a:cubicBezTo>
                  <a:pt x="6111" y="1964"/>
                  <a:pt x="5891" y="2184"/>
                  <a:pt x="5891" y="2455"/>
                </a:cubicBezTo>
                <a:cubicBezTo>
                  <a:pt x="5891" y="2726"/>
                  <a:pt x="6111" y="2945"/>
                  <a:pt x="6382" y="2945"/>
                </a:cubicBezTo>
                <a:cubicBezTo>
                  <a:pt x="6653" y="2945"/>
                  <a:pt x="6873" y="2726"/>
                  <a:pt x="6873" y="2455"/>
                </a:cubicBezTo>
                <a:cubicBezTo>
                  <a:pt x="6873" y="2184"/>
                  <a:pt x="6653" y="1964"/>
                  <a:pt x="6382" y="1964"/>
                </a:cubicBezTo>
                <a:moveTo>
                  <a:pt x="4418" y="1964"/>
                </a:moveTo>
                <a:cubicBezTo>
                  <a:pt x="4147" y="1964"/>
                  <a:pt x="3927" y="2184"/>
                  <a:pt x="3927" y="2455"/>
                </a:cubicBezTo>
                <a:cubicBezTo>
                  <a:pt x="3927" y="2726"/>
                  <a:pt x="4147" y="2945"/>
                  <a:pt x="4418" y="2945"/>
                </a:cubicBezTo>
                <a:cubicBezTo>
                  <a:pt x="4689" y="2945"/>
                  <a:pt x="4909" y="2726"/>
                  <a:pt x="4909" y="2455"/>
                </a:cubicBezTo>
                <a:cubicBezTo>
                  <a:pt x="4909" y="2184"/>
                  <a:pt x="4689" y="1964"/>
                  <a:pt x="4418" y="1964"/>
                </a:cubicBezTo>
                <a:moveTo>
                  <a:pt x="19145" y="1964"/>
                </a:moveTo>
                <a:lnTo>
                  <a:pt x="8345" y="1964"/>
                </a:lnTo>
                <a:cubicBezTo>
                  <a:pt x="8075" y="1964"/>
                  <a:pt x="7855" y="2184"/>
                  <a:pt x="7855" y="2455"/>
                </a:cubicBezTo>
                <a:cubicBezTo>
                  <a:pt x="7855" y="2726"/>
                  <a:pt x="8075" y="2945"/>
                  <a:pt x="8345" y="2945"/>
                </a:cubicBezTo>
                <a:lnTo>
                  <a:pt x="19145" y="2945"/>
                </a:lnTo>
                <a:cubicBezTo>
                  <a:pt x="19416" y="2945"/>
                  <a:pt x="19636" y="2726"/>
                  <a:pt x="19636" y="2455"/>
                </a:cubicBezTo>
                <a:cubicBezTo>
                  <a:pt x="19636" y="2184"/>
                  <a:pt x="19416" y="1964"/>
                  <a:pt x="19145" y="1964"/>
                </a:cubicBezTo>
                <a:moveTo>
                  <a:pt x="20618" y="3927"/>
                </a:moveTo>
                <a:lnTo>
                  <a:pt x="982" y="3927"/>
                </a:lnTo>
                <a:lnTo>
                  <a:pt x="982" y="1964"/>
                </a:lnTo>
                <a:cubicBezTo>
                  <a:pt x="982" y="1422"/>
                  <a:pt x="1422" y="982"/>
                  <a:pt x="1964" y="982"/>
                </a:cubicBezTo>
                <a:lnTo>
                  <a:pt x="19636" y="982"/>
                </a:lnTo>
                <a:cubicBezTo>
                  <a:pt x="20178" y="982"/>
                  <a:pt x="20618" y="1422"/>
                  <a:pt x="20618" y="1964"/>
                </a:cubicBezTo>
                <a:cubicBezTo>
                  <a:pt x="20618" y="1964"/>
                  <a:pt x="20618" y="3927"/>
                  <a:pt x="20618" y="3927"/>
                </a:cubicBezTo>
                <a:close/>
                <a:moveTo>
                  <a:pt x="20618" y="19636"/>
                </a:moveTo>
                <a:cubicBezTo>
                  <a:pt x="20618" y="20178"/>
                  <a:pt x="20178" y="20618"/>
                  <a:pt x="19636" y="20618"/>
                </a:cubicBezTo>
                <a:lnTo>
                  <a:pt x="1964" y="20618"/>
                </a:lnTo>
                <a:cubicBezTo>
                  <a:pt x="1422" y="20618"/>
                  <a:pt x="982" y="20178"/>
                  <a:pt x="982" y="19636"/>
                </a:cubicBezTo>
                <a:lnTo>
                  <a:pt x="982" y="4909"/>
                </a:lnTo>
                <a:lnTo>
                  <a:pt x="20618" y="4909"/>
                </a:lnTo>
                <a:cubicBezTo>
                  <a:pt x="20618" y="4909"/>
                  <a:pt x="20618" y="19636"/>
                  <a:pt x="20618" y="19636"/>
                </a:cubicBezTo>
                <a:close/>
                <a:moveTo>
                  <a:pt x="19636" y="0"/>
                </a:moveTo>
                <a:lnTo>
                  <a:pt x="1964" y="0"/>
                </a:lnTo>
                <a:cubicBezTo>
                  <a:pt x="879" y="0"/>
                  <a:pt x="0" y="879"/>
                  <a:pt x="0" y="1964"/>
                </a:cubicBezTo>
                <a:lnTo>
                  <a:pt x="0" y="19636"/>
                </a:lnTo>
                <a:cubicBezTo>
                  <a:pt x="0" y="20721"/>
                  <a:pt x="879" y="21600"/>
                  <a:pt x="1964" y="21600"/>
                </a:cubicBezTo>
                <a:lnTo>
                  <a:pt x="19636" y="21600"/>
                </a:lnTo>
                <a:cubicBezTo>
                  <a:pt x="20721" y="21600"/>
                  <a:pt x="21600" y="20721"/>
                  <a:pt x="21600" y="19636"/>
                </a:cubicBezTo>
                <a:lnTo>
                  <a:pt x="21600" y="1964"/>
                </a:lnTo>
                <a:cubicBezTo>
                  <a:pt x="21600" y="879"/>
                  <a:pt x="20721" y="0"/>
                  <a:pt x="19636" y="0"/>
                </a:cubicBezTo>
                <a:moveTo>
                  <a:pt x="2455" y="1964"/>
                </a:moveTo>
                <a:cubicBezTo>
                  <a:pt x="2184" y="1964"/>
                  <a:pt x="1964" y="2184"/>
                  <a:pt x="1964" y="2455"/>
                </a:cubicBezTo>
                <a:cubicBezTo>
                  <a:pt x="1964" y="2726"/>
                  <a:pt x="2184" y="2945"/>
                  <a:pt x="2455" y="2945"/>
                </a:cubicBezTo>
                <a:cubicBezTo>
                  <a:pt x="2725" y="2945"/>
                  <a:pt x="2945" y="2726"/>
                  <a:pt x="2945" y="2455"/>
                </a:cubicBezTo>
                <a:cubicBezTo>
                  <a:pt x="2945" y="2184"/>
                  <a:pt x="2725" y="1964"/>
                  <a:pt x="2455" y="1964"/>
                </a:cubicBezTo>
                <a:moveTo>
                  <a:pt x="7140" y="14181"/>
                </a:moveTo>
                <a:cubicBezTo>
                  <a:pt x="6970" y="13741"/>
                  <a:pt x="6873" y="13264"/>
                  <a:pt x="6873" y="12764"/>
                </a:cubicBezTo>
                <a:cubicBezTo>
                  <a:pt x="6873" y="10595"/>
                  <a:pt x="8631" y="8836"/>
                  <a:pt x="10800" y="8836"/>
                </a:cubicBezTo>
                <a:cubicBezTo>
                  <a:pt x="11300" y="8836"/>
                  <a:pt x="11777" y="8934"/>
                  <a:pt x="12217" y="9104"/>
                </a:cubicBezTo>
                <a:lnTo>
                  <a:pt x="13217" y="8494"/>
                </a:lnTo>
                <a:cubicBezTo>
                  <a:pt x="12503" y="8089"/>
                  <a:pt x="11680" y="7855"/>
                  <a:pt x="10800" y="7855"/>
                </a:cubicBezTo>
                <a:cubicBezTo>
                  <a:pt x="8089" y="7855"/>
                  <a:pt x="5891" y="10053"/>
                  <a:pt x="5891" y="12764"/>
                </a:cubicBezTo>
                <a:cubicBezTo>
                  <a:pt x="5891" y="13643"/>
                  <a:pt x="6125" y="14467"/>
                  <a:pt x="6530" y="15181"/>
                </a:cubicBezTo>
                <a:cubicBezTo>
                  <a:pt x="6530" y="15181"/>
                  <a:pt x="7140" y="14181"/>
                  <a:pt x="7140" y="14181"/>
                </a:cubicBezTo>
                <a:close/>
                <a:moveTo>
                  <a:pt x="14460" y="11347"/>
                </a:moveTo>
                <a:cubicBezTo>
                  <a:pt x="14630" y="11787"/>
                  <a:pt x="14727" y="12263"/>
                  <a:pt x="14727" y="12764"/>
                </a:cubicBezTo>
                <a:cubicBezTo>
                  <a:pt x="14727" y="14932"/>
                  <a:pt x="12969" y="16691"/>
                  <a:pt x="10800" y="16691"/>
                </a:cubicBezTo>
                <a:cubicBezTo>
                  <a:pt x="10300" y="16691"/>
                  <a:pt x="9823" y="16594"/>
                  <a:pt x="9383" y="16423"/>
                </a:cubicBezTo>
                <a:lnTo>
                  <a:pt x="8383" y="17034"/>
                </a:lnTo>
                <a:cubicBezTo>
                  <a:pt x="9097" y="17439"/>
                  <a:pt x="9920" y="17673"/>
                  <a:pt x="10800" y="17673"/>
                </a:cubicBezTo>
                <a:cubicBezTo>
                  <a:pt x="13511" y="17673"/>
                  <a:pt x="15709" y="15475"/>
                  <a:pt x="15709" y="12764"/>
                </a:cubicBezTo>
                <a:cubicBezTo>
                  <a:pt x="15709" y="11884"/>
                  <a:pt x="15475" y="11061"/>
                  <a:pt x="15070" y="10346"/>
                </a:cubicBezTo>
                <a:cubicBezTo>
                  <a:pt x="15070" y="10346"/>
                  <a:pt x="14460" y="11347"/>
                  <a:pt x="14460" y="11347"/>
                </a:cubicBezTo>
                <a:close/>
                <a:moveTo>
                  <a:pt x="10453" y="12417"/>
                </a:moveTo>
                <a:cubicBezTo>
                  <a:pt x="10645" y="12225"/>
                  <a:pt x="10955" y="12225"/>
                  <a:pt x="11147" y="12417"/>
                </a:cubicBezTo>
                <a:cubicBezTo>
                  <a:pt x="11339" y="12609"/>
                  <a:pt x="11339" y="12919"/>
                  <a:pt x="11147" y="13111"/>
                </a:cubicBezTo>
                <a:cubicBezTo>
                  <a:pt x="10955" y="13303"/>
                  <a:pt x="10645" y="13303"/>
                  <a:pt x="10453" y="13111"/>
                </a:cubicBezTo>
                <a:cubicBezTo>
                  <a:pt x="10261" y="12919"/>
                  <a:pt x="10261" y="12609"/>
                  <a:pt x="10453" y="12417"/>
                </a:cubicBezTo>
                <a:moveTo>
                  <a:pt x="6144" y="17420"/>
                </a:moveTo>
                <a:lnTo>
                  <a:pt x="11842" y="13805"/>
                </a:lnTo>
                <a:lnTo>
                  <a:pt x="15456" y="8107"/>
                </a:lnTo>
                <a:lnTo>
                  <a:pt x="9759" y="11722"/>
                </a:lnTo>
                <a:cubicBezTo>
                  <a:pt x="9759" y="11722"/>
                  <a:pt x="6144" y="17420"/>
                  <a:pt x="6144" y="17420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9" name="Shape 2824"/>
          <p:cNvSpPr/>
          <p:nvPr/>
        </p:nvSpPr>
        <p:spPr>
          <a:xfrm>
            <a:off x="10253520" y="2489040"/>
            <a:ext cx="641520" cy="641520"/>
          </a:xfrm>
          <a:custGeom>
            <a:avLst/>
            <a:gdLst/>
            <a:ahLst/>
            <a:rect l="l" t="t" r="r" b="b"/>
            <a:pathLst>
              <a:path w="21600" h="21388">
                <a:moveTo>
                  <a:pt x="10309" y="9720"/>
                </a:moveTo>
                <a:lnTo>
                  <a:pt x="9327" y="9720"/>
                </a:lnTo>
                <a:cubicBezTo>
                  <a:pt x="9056" y="9720"/>
                  <a:pt x="8836" y="9937"/>
                  <a:pt x="8836" y="10206"/>
                </a:cubicBezTo>
                <a:cubicBezTo>
                  <a:pt x="8836" y="10475"/>
                  <a:pt x="9056" y="10692"/>
                  <a:pt x="9327" y="10692"/>
                </a:cubicBezTo>
                <a:lnTo>
                  <a:pt x="10309" y="10692"/>
                </a:lnTo>
                <a:cubicBezTo>
                  <a:pt x="10580" y="10692"/>
                  <a:pt x="10800" y="10475"/>
                  <a:pt x="10800" y="10206"/>
                </a:cubicBezTo>
                <a:cubicBezTo>
                  <a:pt x="10800" y="9937"/>
                  <a:pt x="10580" y="9720"/>
                  <a:pt x="10309" y="9720"/>
                </a:cubicBezTo>
                <a:moveTo>
                  <a:pt x="13255" y="18471"/>
                </a:moveTo>
                <a:lnTo>
                  <a:pt x="12273" y="18471"/>
                </a:lnTo>
                <a:cubicBezTo>
                  <a:pt x="12002" y="18471"/>
                  <a:pt x="11782" y="18689"/>
                  <a:pt x="11782" y="18957"/>
                </a:cubicBezTo>
                <a:cubicBezTo>
                  <a:pt x="11782" y="19226"/>
                  <a:pt x="12002" y="19443"/>
                  <a:pt x="12273" y="19443"/>
                </a:cubicBezTo>
                <a:lnTo>
                  <a:pt x="13255" y="19443"/>
                </a:lnTo>
                <a:cubicBezTo>
                  <a:pt x="13525" y="19443"/>
                  <a:pt x="13745" y="19226"/>
                  <a:pt x="13745" y="18957"/>
                </a:cubicBezTo>
                <a:cubicBezTo>
                  <a:pt x="13745" y="18689"/>
                  <a:pt x="13525" y="18471"/>
                  <a:pt x="13255" y="18471"/>
                </a:cubicBezTo>
                <a:moveTo>
                  <a:pt x="10309" y="18471"/>
                </a:moveTo>
                <a:lnTo>
                  <a:pt x="9327" y="18471"/>
                </a:lnTo>
                <a:cubicBezTo>
                  <a:pt x="9056" y="18471"/>
                  <a:pt x="8836" y="18689"/>
                  <a:pt x="8836" y="18957"/>
                </a:cubicBezTo>
                <a:cubicBezTo>
                  <a:pt x="8836" y="19226"/>
                  <a:pt x="9056" y="19443"/>
                  <a:pt x="9327" y="19443"/>
                </a:cubicBezTo>
                <a:lnTo>
                  <a:pt x="10309" y="19443"/>
                </a:lnTo>
                <a:cubicBezTo>
                  <a:pt x="10580" y="19443"/>
                  <a:pt x="10800" y="19226"/>
                  <a:pt x="10800" y="18957"/>
                </a:cubicBezTo>
                <a:cubicBezTo>
                  <a:pt x="10800" y="18689"/>
                  <a:pt x="10580" y="18471"/>
                  <a:pt x="10309" y="18471"/>
                </a:cubicBezTo>
                <a:moveTo>
                  <a:pt x="20618" y="15554"/>
                </a:moveTo>
                <a:cubicBezTo>
                  <a:pt x="20618" y="16091"/>
                  <a:pt x="20178" y="16526"/>
                  <a:pt x="19636" y="16526"/>
                </a:cubicBezTo>
                <a:lnTo>
                  <a:pt x="16691" y="16526"/>
                </a:lnTo>
                <a:cubicBezTo>
                  <a:pt x="16149" y="16526"/>
                  <a:pt x="15709" y="16091"/>
                  <a:pt x="15709" y="15554"/>
                </a:cubicBezTo>
                <a:lnTo>
                  <a:pt x="15709" y="13609"/>
                </a:lnTo>
                <a:cubicBezTo>
                  <a:pt x="15709" y="13073"/>
                  <a:pt x="16149" y="12637"/>
                  <a:pt x="16691" y="12637"/>
                </a:cubicBezTo>
                <a:lnTo>
                  <a:pt x="19636" y="12637"/>
                </a:lnTo>
                <a:cubicBezTo>
                  <a:pt x="20178" y="12637"/>
                  <a:pt x="20618" y="13073"/>
                  <a:pt x="20618" y="13609"/>
                </a:cubicBezTo>
                <a:cubicBezTo>
                  <a:pt x="20618" y="13609"/>
                  <a:pt x="20618" y="15554"/>
                  <a:pt x="20618" y="15554"/>
                </a:cubicBezTo>
                <a:close/>
                <a:moveTo>
                  <a:pt x="18655" y="19443"/>
                </a:moveTo>
                <a:cubicBezTo>
                  <a:pt x="18655" y="19980"/>
                  <a:pt x="18215" y="20416"/>
                  <a:pt x="17673" y="20416"/>
                </a:cubicBezTo>
                <a:lnTo>
                  <a:pt x="1964" y="20416"/>
                </a:lnTo>
                <a:cubicBezTo>
                  <a:pt x="1422" y="20416"/>
                  <a:pt x="982" y="19980"/>
                  <a:pt x="982" y="19443"/>
                </a:cubicBezTo>
                <a:lnTo>
                  <a:pt x="982" y="9720"/>
                </a:lnTo>
                <a:cubicBezTo>
                  <a:pt x="982" y="9183"/>
                  <a:pt x="1422" y="8747"/>
                  <a:pt x="1964" y="8747"/>
                </a:cubicBezTo>
                <a:lnTo>
                  <a:pt x="17673" y="8747"/>
                </a:lnTo>
                <a:cubicBezTo>
                  <a:pt x="18215" y="8747"/>
                  <a:pt x="18655" y="9183"/>
                  <a:pt x="18655" y="9720"/>
                </a:cubicBezTo>
                <a:lnTo>
                  <a:pt x="18655" y="11664"/>
                </a:lnTo>
                <a:lnTo>
                  <a:pt x="16691" y="11664"/>
                </a:lnTo>
                <a:cubicBezTo>
                  <a:pt x="15606" y="11664"/>
                  <a:pt x="14727" y="12535"/>
                  <a:pt x="14727" y="13609"/>
                </a:cubicBezTo>
                <a:lnTo>
                  <a:pt x="14727" y="15554"/>
                </a:lnTo>
                <a:cubicBezTo>
                  <a:pt x="14727" y="16628"/>
                  <a:pt x="15606" y="17499"/>
                  <a:pt x="16691" y="17499"/>
                </a:cubicBezTo>
                <a:lnTo>
                  <a:pt x="18655" y="17499"/>
                </a:lnTo>
                <a:cubicBezTo>
                  <a:pt x="18655" y="17499"/>
                  <a:pt x="18655" y="19443"/>
                  <a:pt x="18655" y="19443"/>
                </a:cubicBezTo>
                <a:close/>
                <a:moveTo>
                  <a:pt x="982" y="7775"/>
                </a:moveTo>
                <a:cubicBezTo>
                  <a:pt x="982" y="7238"/>
                  <a:pt x="1422" y="6803"/>
                  <a:pt x="1964" y="6803"/>
                </a:cubicBezTo>
                <a:lnTo>
                  <a:pt x="2555" y="6803"/>
                </a:lnTo>
                <a:lnTo>
                  <a:pt x="2817" y="7775"/>
                </a:lnTo>
                <a:lnTo>
                  <a:pt x="1964" y="7775"/>
                </a:lnTo>
                <a:cubicBezTo>
                  <a:pt x="1604" y="7775"/>
                  <a:pt x="1271" y="7878"/>
                  <a:pt x="982" y="8045"/>
                </a:cubicBezTo>
                <a:cubicBezTo>
                  <a:pt x="982" y="8045"/>
                  <a:pt x="982" y="7775"/>
                  <a:pt x="982" y="7775"/>
                </a:cubicBezTo>
                <a:close/>
                <a:moveTo>
                  <a:pt x="3721" y="3600"/>
                </a:moveTo>
                <a:lnTo>
                  <a:pt x="13629" y="1005"/>
                </a:lnTo>
                <a:cubicBezTo>
                  <a:pt x="14152" y="866"/>
                  <a:pt x="14690" y="1174"/>
                  <a:pt x="14831" y="1693"/>
                </a:cubicBezTo>
                <a:lnTo>
                  <a:pt x="15085" y="2631"/>
                </a:lnTo>
                <a:lnTo>
                  <a:pt x="3281" y="5731"/>
                </a:lnTo>
                <a:lnTo>
                  <a:pt x="3026" y="4791"/>
                </a:lnTo>
                <a:cubicBezTo>
                  <a:pt x="2886" y="4272"/>
                  <a:pt x="3197" y="3739"/>
                  <a:pt x="3721" y="3600"/>
                </a:cubicBezTo>
                <a:moveTo>
                  <a:pt x="15847" y="5448"/>
                </a:moveTo>
                <a:lnTo>
                  <a:pt x="16476" y="7775"/>
                </a:lnTo>
                <a:lnTo>
                  <a:pt x="6989" y="7775"/>
                </a:lnTo>
                <a:cubicBezTo>
                  <a:pt x="6989" y="7775"/>
                  <a:pt x="15847" y="5448"/>
                  <a:pt x="15847" y="5448"/>
                </a:cubicBezTo>
                <a:close/>
                <a:moveTo>
                  <a:pt x="17673" y="6803"/>
                </a:moveTo>
                <a:cubicBezTo>
                  <a:pt x="18215" y="6803"/>
                  <a:pt x="18655" y="7238"/>
                  <a:pt x="18655" y="7775"/>
                </a:cubicBezTo>
                <a:lnTo>
                  <a:pt x="18655" y="8045"/>
                </a:lnTo>
                <a:cubicBezTo>
                  <a:pt x="18365" y="7878"/>
                  <a:pt x="18032" y="7775"/>
                  <a:pt x="17673" y="7775"/>
                </a:cubicBezTo>
                <a:lnTo>
                  <a:pt x="17493" y="7775"/>
                </a:lnTo>
                <a:lnTo>
                  <a:pt x="17230" y="6803"/>
                </a:lnTo>
                <a:cubicBezTo>
                  <a:pt x="17230" y="6803"/>
                  <a:pt x="17673" y="6803"/>
                  <a:pt x="17673" y="6803"/>
                </a:cubicBezTo>
                <a:close/>
                <a:moveTo>
                  <a:pt x="19636" y="11664"/>
                </a:moveTo>
                <a:lnTo>
                  <a:pt x="19636" y="7775"/>
                </a:lnTo>
                <a:cubicBezTo>
                  <a:pt x="19636" y="6701"/>
                  <a:pt x="18757" y="5830"/>
                  <a:pt x="17673" y="5830"/>
                </a:cubicBezTo>
                <a:lnTo>
                  <a:pt x="16967" y="5830"/>
                </a:lnTo>
                <a:lnTo>
                  <a:pt x="15779" y="1441"/>
                </a:lnTo>
                <a:cubicBezTo>
                  <a:pt x="15498" y="404"/>
                  <a:pt x="14422" y="-212"/>
                  <a:pt x="13374" y="66"/>
                </a:cubicBezTo>
                <a:lnTo>
                  <a:pt x="3467" y="2660"/>
                </a:lnTo>
                <a:cubicBezTo>
                  <a:pt x="2419" y="2939"/>
                  <a:pt x="1798" y="4005"/>
                  <a:pt x="2078" y="5042"/>
                </a:cubicBezTo>
                <a:lnTo>
                  <a:pt x="2291" y="5830"/>
                </a:lnTo>
                <a:lnTo>
                  <a:pt x="1964" y="5830"/>
                </a:lnTo>
                <a:cubicBezTo>
                  <a:pt x="879" y="5830"/>
                  <a:pt x="0" y="6701"/>
                  <a:pt x="0" y="7775"/>
                </a:cubicBezTo>
                <a:lnTo>
                  <a:pt x="0" y="19443"/>
                </a:lnTo>
                <a:cubicBezTo>
                  <a:pt x="0" y="20517"/>
                  <a:pt x="879" y="21388"/>
                  <a:pt x="1964" y="21388"/>
                </a:cubicBezTo>
                <a:lnTo>
                  <a:pt x="17673" y="21388"/>
                </a:lnTo>
                <a:cubicBezTo>
                  <a:pt x="18757" y="21388"/>
                  <a:pt x="19636" y="20517"/>
                  <a:pt x="19636" y="19443"/>
                </a:cubicBezTo>
                <a:lnTo>
                  <a:pt x="19636" y="17499"/>
                </a:lnTo>
                <a:cubicBezTo>
                  <a:pt x="20721" y="17499"/>
                  <a:pt x="21600" y="16628"/>
                  <a:pt x="21600" y="15554"/>
                </a:cubicBezTo>
                <a:lnTo>
                  <a:pt x="21600" y="13609"/>
                </a:lnTo>
                <a:cubicBezTo>
                  <a:pt x="21600" y="12535"/>
                  <a:pt x="20721" y="11664"/>
                  <a:pt x="19636" y="11664"/>
                </a:cubicBezTo>
                <a:moveTo>
                  <a:pt x="13255" y="9720"/>
                </a:moveTo>
                <a:lnTo>
                  <a:pt x="12273" y="9720"/>
                </a:lnTo>
                <a:cubicBezTo>
                  <a:pt x="12002" y="9720"/>
                  <a:pt x="11782" y="9937"/>
                  <a:pt x="11782" y="10206"/>
                </a:cubicBezTo>
                <a:cubicBezTo>
                  <a:pt x="11782" y="10475"/>
                  <a:pt x="12002" y="10692"/>
                  <a:pt x="12273" y="10692"/>
                </a:cubicBezTo>
                <a:lnTo>
                  <a:pt x="13255" y="10692"/>
                </a:lnTo>
                <a:cubicBezTo>
                  <a:pt x="13525" y="10692"/>
                  <a:pt x="13745" y="10475"/>
                  <a:pt x="13745" y="10206"/>
                </a:cubicBezTo>
                <a:cubicBezTo>
                  <a:pt x="13745" y="9937"/>
                  <a:pt x="13525" y="9720"/>
                  <a:pt x="13255" y="9720"/>
                </a:cubicBezTo>
                <a:moveTo>
                  <a:pt x="7364" y="9720"/>
                </a:moveTo>
                <a:lnTo>
                  <a:pt x="6382" y="9720"/>
                </a:lnTo>
                <a:cubicBezTo>
                  <a:pt x="6111" y="9720"/>
                  <a:pt x="5891" y="9937"/>
                  <a:pt x="5891" y="10206"/>
                </a:cubicBezTo>
                <a:cubicBezTo>
                  <a:pt x="5891" y="10475"/>
                  <a:pt x="6111" y="10692"/>
                  <a:pt x="6382" y="10692"/>
                </a:cubicBezTo>
                <a:lnTo>
                  <a:pt x="7364" y="10692"/>
                </a:lnTo>
                <a:cubicBezTo>
                  <a:pt x="7634" y="10692"/>
                  <a:pt x="7855" y="10475"/>
                  <a:pt x="7855" y="10206"/>
                </a:cubicBezTo>
                <a:cubicBezTo>
                  <a:pt x="7855" y="9937"/>
                  <a:pt x="7634" y="9720"/>
                  <a:pt x="7364" y="9720"/>
                </a:cubicBezTo>
                <a:moveTo>
                  <a:pt x="17182" y="14095"/>
                </a:moveTo>
                <a:cubicBezTo>
                  <a:pt x="16911" y="14095"/>
                  <a:pt x="16691" y="14313"/>
                  <a:pt x="16691" y="14581"/>
                </a:cubicBezTo>
                <a:cubicBezTo>
                  <a:pt x="16691" y="14850"/>
                  <a:pt x="16911" y="15068"/>
                  <a:pt x="17182" y="15068"/>
                </a:cubicBezTo>
                <a:cubicBezTo>
                  <a:pt x="17453" y="15068"/>
                  <a:pt x="17673" y="14850"/>
                  <a:pt x="17673" y="14581"/>
                </a:cubicBezTo>
                <a:cubicBezTo>
                  <a:pt x="17673" y="14313"/>
                  <a:pt x="17453" y="14095"/>
                  <a:pt x="17182" y="14095"/>
                </a:cubicBezTo>
                <a:moveTo>
                  <a:pt x="16200" y="18471"/>
                </a:moveTo>
                <a:lnTo>
                  <a:pt x="15218" y="18471"/>
                </a:lnTo>
                <a:cubicBezTo>
                  <a:pt x="14947" y="18471"/>
                  <a:pt x="14727" y="18689"/>
                  <a:pt x="14727" y="18957"/>
                </a:cubicBezTo>
                <a:cubicBezTo>
                  <a:pt x="14727" y="19226"/>
                  <a:pt x="14947" y="19443"/>
                  <a:pt x="15218" y="19443"/>
                </a:cubicBezTo>
                <a:lnTo>
                  <a:pt x="16200" y="19443"/>
                </a:lnTo>
                <a:cubicBezTo>
                  <a:pt x="16471" y="19443"/>
                  <a:pt x="16691" y="19226"/>
                  <a:pt x="16691" y="18957"/>
                </a:cubicBezTo>
                <a:cubicBezTo>
                  <a:pt x="16691" y="18689"/>
                  <a:pt x="16471" y="18471"/>
                  <a:pt x="16200" y="18471"/>
                </a:cubicBezTo>
                <a:moveTo>
                  <a:pt x="15218" y="10692"/>
                </a:moveTo>
                <a:lnTo>
                  <a:pt x="16200" y="10692"/>
                </a:lnTo>
                <a:cubicBezTo>
                  <a:pt x="16471" y="10692"/>
                  <a:pt x="16691" y="10475"/>
                  <a:pt x="16691" y="10206"/>
                </a:cubicBezTo>
                <a:cubicBezTo>
                  <a:pt x="16691" y="9937"/>
                  <a:pt x="16471" y="9720"/>
                  <a:pt x="16200" y="9720"/>
                </a:cubicBezTo>
                <a:lnTo>
                  <a:pt x="15218" y="9720"/>
                </a:lnTo>
                <a:cubicBezTo>
                  <a:pt x="14947" y="9720"/>
                  <a:pt x="14727" y="9937"/>
                  <a:pt x="14727" y="10206"/>
                </a:cubicBezTo>
                <a:cubicBezTo>
                  <a:pt x="14727" y="10475"/>
                  <a:pt x="14947" y="10692"/>
                  <a:pt x="15218" y="10692"/>
                </a:cubicBezTo>
                <a:moveTo>
                  <a:pt x="4418" y="18471"/>
                </a:moveTo>
                <a:lnTo>
                  <a:pt x="3436" y="18471"/>
                </a:lnTo>
                <a:cubicBezTo>
                  <a:pt x="3166" y="18471"/>
                  <a:pt x="2945" y="18689"/>
                  <a:pt x="2945" y="18957"/>
                </a:cubicBezTo>
                <a:cubicBezTo>
                  <a:pt x="2945" y="19226"/>
                  <a:pt x="3166" y="19443"/>
                  <a:pt x="3436" y="19443"/>
                </a:cubicBezTo>
                <a:lnTo>
                  <a:pt x="4418" y="19443"/>
                </a:lnTo>
                <a:cubicBezTo>
                  <a:pt x="4689" y="19443"/>
                  <a:pt x="4909" y="19226"/>
                  <a:pt x="4909" y="18957"/>
                </a:cubicBezTo>
                <a:cubicBezTo>
                  <a:pt x="4909" y="18689"/>
                  <a:pt x="4689" y="18471"/>
                  <a:pt x="4418" y="18471"/>
                </a:cubicBezTo>
                <a:moveTo>
                  <a:pt x="7364" y="18471"/>
                </a:moveTo>
                <a:lnTo>
                  <a:pt x="6382" y="18471"/>
                </a:lnTo>
                <a:cubicBezTo>
                  <a:pt x="6111" y="18471"/>
                  <a:pt x="5891" y="18689"/>
                  <a:pt x="5891" y="18957"/>
                </a:cubicBezTo>
                <a:cubicBezTo>
                  <a:pt x="5891" y="19226"/>
                  <a:pt x="6111" y="19443"/>
                  <a:pt x="6382" y="19443"/>
                </a:cubicBezTo>
                <a:lnTo>
                  <a:pt x="7364" y="19443"/>
                </a:lnTo>
                <a:cubicBezTo>
                  <a:pt x="7634" y="19443"/>
                  <a:pt x="7855" y="19226"/>
                  <a:pt x="7855" y="18957"/>
                </a:cubicBezTo>
                <a:cubicBezTo>
                  <a:pt x="7855" y="18689"/>
                  <a:pt x="7634" y="18471"/>
                  <a:pt x="7364" y="18471"/>
                </a:cubicBezTo>
                <a:moveTo>
                  <a:pt x="4418" y="9720"/>
                </a:moveTo>
                <a:lnTo>
                  <a:pt x="3436" y="9720"/>
                </a:lnTo>
                <a:cubicBezTo>
                  <a:pt x="3166" y="9720"/>
                  <a:pt x="2945" y="9937"/>
                  <a:pt x="2945" y="10206"/>
                </a:cubicBezTo>
                <a:cubicBezTo>
                  <a:pt x="2945" y="10475"/>
                  <a:pt x="3166" y="10692"/>
                  <a:pt x="3436" y="10692"/>
                </a:cubicBezTo>
                <a:lnTo>
                  <a:pt x="4418" y="10692"/>
                </a:lnTo>
                <a:cubicBezTo>
                  <a:pt x="4689" y="10692"/>
                  <a:pt x="4909" y="10475"/>
                  <a:pt x="4909" y="10206"/>
                </a:cubicBezTo>
                <a:cubicBezTo>
                  <a:pt x="4909" y="9937"/>
                  <a:pt x="4689" y="9720"/>
                  <a:pt x="4418" y="9720"/>
                </a:cubicBezTo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0" name="TextBox 38"/>
          <p:cNvSpPr/>
          <p:nvPr/>
        </p:nvSpPr>
        <p:spPr>
          <a:xfrm>
            <a:off x="61596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1" name="TextBox 39"/>
          <p:cNvSpPr/>
          <p:nvPr/>
        </p:nvSpPr>
        <p:spPr>
          <a:xfrm>
            <a:off x="2881440" y="4410000"/>
            <a:ext cx="2001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2" name="Rectangle 14"/>
          <p:cNvSpPr/>
          <p:nvPr/>
        </p:nvSpPr>
        <p:spPr>
          <a:xfrm>
            <a:off x="5826240" y="3444840"/>
            <a:ext cx="555480" cy="555840"/>
          </a:xfrm>
          <a:prstGeom prst="rect">
            <a:avLst/>
          </a:pr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3" name="TextBox 21"/>
          <p:cNvSpPr/>
          <p:nvPr/>
        </p:nvSpPr>
        <p:spPr>
          <a:xfrm>
            <a:off x="5845320" y="348624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3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4" name="TextBox 51"/>
          <p:cNvSpPr/>
          <p:nvPr/>
        </p:nvSpPr>
        <p:spPr>
          <a:xfrm>
            <a:off x="516096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585" name="Group 66"/>
          <p:cNvGrpSpPr/>
          <p:nvPr/>
        </p:nvGrpSpPr>
        <p:grpSpPr>
          <a:xfrm>
            <a:off x="5713560" y="2490840"/>
            <a:ext cx="780840" cy="639720"/>
            <a:chOff x="5713560" y="2490840"/>
            <a:chExt cx="780840" cy="639720"/>
          </a:xfrm>
        </p:grpSpPr>
        <p:sp>
          <p:nvSpPr>
            <p:cNvPr id="1586" name="Freeform 34"/>
            <p:cNvSpPr/>
            <p:nvPr/>
          </p:nvSpPr>
          <p:spPr>
            <a:xfrm>
              <a:off x="5713560" y="2490840"/>
              <a:ext cx="780840" cy="63972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200" y="184"/>
                  </a:moveTo>
                  <a:cubicBezTo>
                    <a:pt x="213" y="184"/>
                    <a:pt x="224" y="173"/>
                    <a:pt x="224" y="160"/>
                  </a:cubicBezTo>
                  <a:cubicBezTo>
                    <a:pt x="224" y="155"/>
                    <a:pt x="221" y="149"/>
                    <a:pt x="221" y="149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27" y="4"/>
                    <a:pt x="120" y="0"/>
                    <a:pt x="112" y="0"/>
                  </a:cubicBezTo>
                  <a:cubicBezTo>
                    <a:pt x="104" y="0"/>
                    <a:pt x="97" y="4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3" y="149"/>
                    <a:pt x="3" y="149"/>
                    <a:pt x="3" y="149"/>
                  </a:cubicBezTo>
                  <a:cubicBezTo>
                    <a:pt x="3" y="149"/>
                    <a:pt x="0" y="155"/>
                    <a:pt x="0" y="160"/>
                  </a:cubicBezTo>
                  <a:cubicBezTo>
                    <a:pt x="0" y="173"/>
                    <a:pt x="11" y="184"/>
                    <a:pt x="24" y="184"/>
                  </a:cubicBezTo>
                  <a:lnTo>
                    <a:pt x="200" y="184"/>
                  </a:lnTo>
                  <a:close/>
                </a:path>
              </a:pathLst>
            </a:custGeom>
            <a:noFill/>
            <a:ln cap="rnd" w="3348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587" name="Freeform 35"/>
            <p:cNvSpPr/>
            <p:nvPr/>
          </p:nvSpPr>
          <p:spPr>
            <a:xfrm>
              <a:off x="5964840" y="2658240"/>
              <a:ext cx="251280" cy="389880"/>
            </a:xfrm>
            <a:custGeom>
              <a:avLst/>
              <a:gdLst/>
              <a:ahLst/>
              <a:rect l="l" t="t" r="r" b="b"/>
              <a:pathLst>
                <a:path w="195" h="303">
                  <a:moveTo>
                    <a:pt x="130" y="0"/>
                  </a:moveTo>
                  <a:lnTo>
                    <a:pt x="0" y="173"/>
                  </a:lnTo>
                  <a:lnTo>
                    <a:pt x="86" y="173"/>
                  </a:lnTo>
                  <a:lnTo>
                    <a:pt x="43" y="303"/>
                  </a:lnTo>
                  <a:lnTo>
                    <a:pt x="195" y="130"/>
                  </a:lnTo>
                  <a:lnTo>
                    <a:pt x="108" y="130"/>
                  </a:lnTo>
                  <a:lnTo>
                    <a:pt x="130" y="0"/>
                  </a:lnTo>
                  <a:close/>
                </a:path>
              </a:pathLst>
            </a:custGeom>
            <a:noFill/>
            <a:ln cap="rnd" w="3348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588" name="TextBox 40"/>
          <p:cNvSpPr/>
          <p:nvPr/>
        </p:nvSpPr>
        <p:spPr>
          <a:xfrm>
            <a:off x="510228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9" name="TextBox 54"/>
          <p:cNvSpPr/>
          <p:nvPr/>
        </p:nvSpPr>
        <p:spPr>
          <a:xfrm>
            <a:off x="738360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0" name="TextBox 55"/>
          <p:cNvSpPr/>
          <p:nvPr/>
        </p:nvSpPr>
        <p:spPr>
          <a:xfrm>
            <a:off x="957276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Flowchart Slid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592" name="Freeform: Shape 118"/>
          <p:cNvSpPr/>
          <p:nvPr/>
        </p:nvSpPr>
        <p:spPr>
          <a:xfrm rot="13500000">
            <a:off x="5855400" y="1994400"/>
            <a:ext cx="2340000" cy="3583080"/>
          </a:xfrm>
          <a:custGeom>
            <a:avLst/>
            <a:gdLst/>
            <a:ahLst/>
            <a:rect l="l" t="t" r="r" b="b"/>
            <a:pathLst>
              <a:path w="2340286" h="3584292">
                <a:moveTo>
                  <a:pt x="2340286" y="2539157"/>
                </a:moveTo>
                <a:lnTo>
                  <a:pt x="1229950" y="3584292"/>
                </a:lnTo>
                <a:lnTo>
                  <a:pt x="0" y="2539157"/>
                </a:lnTo>
                <a:lnTo>
                  <a:pt x="485578" y="2539157"/>
                </a:lnTo>
                <a:lnTo>
                  <a:pt x="485578" y="0"/>
                </a:lnTo>
                <a:lnTo>
                  <a:pt x="1866322" y="0"/>
                </a:lnTo>
                <a:lnTo>
                  <a:pt x="1866322" y="2539156"/>
                </a:lnTo>
                <a:lnTo>
                  <a:pt x="2340286" y="2539157"/>
                </a:lnTo>
                <a:close/>
              </a:path>
            </a:pathLst>
          </a:custGeom>
          <a:solidFill>
            <a:srgbClr val="197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3" name="Freeform: Shape 117"/>
          <p:cNvSpPr/>
          <p:nvPr/>
        </p:nvSpPr>
        <p:spPr>
          <a:xfrm rot="13500000">
            <a:off x="5670000" y="3584160"/>
            <a:ext cx="1376280" cy="17064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880047" y="1377464"/>
                </a:ln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4" name="Freeform: Shape 112"/>
          <p:cNvSpPr/>
          <p:nvPr/>
        </p:nvSpPr>
        <p:spPr>
          <a:xfrm rot="18900000">
            <a:off x="4700160" y="2846160"/>
            <a:ext cx="137628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6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378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5" name="Freeform: Shape 113"/>
          <p:cNvSpPr/>
          <p:nvPr/>
        </p:nvSpPr>
        <p:spPr>
          <a:xfrm rot="13500000">
            <a:off x="3725640" y="3585960"/>
            <a:ext cx="1378080" cy="17082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6" name="Freeform: Shape 114"/>
          <p:cNvSpPr/>
          <p:nvPr/>
        </p:nvSpPr>
        <p:spPr>
          <a:xfrm rot="18900000">
            <a:off x="2752200" y="2846160"/>
            <a:ext cx="137664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6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7" name="Freeform: Shape 117"/>
          <p:cNvSpPr/>
          <p:nvPr/>
        </p:nvSpPr>
        <p:spPr>
          <a:xfrm rot="13500000">
            <a:off x="1777680" y="3585960"/>
            <a:ext cx="1378080" cy="17082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880047" y="1377464"/>
                </a:ln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8" name="Freeform: Shape 116"/>
          <p:cNvSpPr/>
          <p:nvPr/>
        </p:nvSpPr>
        <p:spPr>
          <a:xfrm rot="18900000">
            <a:off x="803160" y="2846520"/>
            <a:ext cx="137808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7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9" name="Title 1"/>
          <p:cNvSpPr/>
          <p:nvPr/>
        </p:nvSpPr>
        <p:spPr>
          <a:xfrm>
            <a:off x="353880" y="3716280"/>
            <a:ext cx="2043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0" name="Freeform 5"/>
          <p:cNvSpPr/>
          <p:nvPr/>
        </p:nvSpPr>
        <p:spPr>
          <a:xfrm>
            <a:off x="1127160" y="3146400"/>
            <a:ext cx="496800" cy="49680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175" y="85"/>
                </a:moveTo>
                <a:cubicBezTo>
                  <a:pt x="144" y="54"/>
                  <a:pt x="144" y="54"/>
                  <a:pt x="144" y="54"/>
                </a:cubicBezTo>
                <a:cubicBezTo>
                  <a:pt x="144" y="12"/>
                  <a:pt x="144" y="12"/>
                  <a:pt x="144" y="12"/>
                </a:cubicBezTo>
                <a:cubicBezTo>
                  <a:pt x="144" y="10"/>
                  <a:pt x="142" y="8"/>
                  <a:pt x="140" y="8"/>
                </a:cubicBezTo>
                <a:cubicBezTo>
                  <a:pt x="116" y="8"/>
                  <a:pt x="116" y="8"/>
                  <a:pt x="116" y="8"/>
                </a:cubicBezTo>
                <a:cubicBezTo>
                  <a:pt x="114" y="8"/>
                  <a:pt x="112" y="10"/>
                  <a:pt x="112" y="12"/>
                </a:cubicBezTo>
                <a:cubicBezTo>
                  <a:pt x="112" y="22"/>
                  <a:pt x="112" y="22"/>
                  <a:pt x="112" y="22"/>
                </a:cubicBezTo>
                <a:cubicBezTo>
                  <a:pt x="91" y="1"/>
                  <a:pt x="91" y="1"/>
                  <a:pt x="91" y="1"/>
                </a:cubicBezTo>
                <a:cubicBezTo>
                  <a:pt x="90" y="0"/>
                  <a:pt x="89" y="0"/>
                  <a:pt x="88" y="0"/>
                </a:cubicBezTo>
                <a:cubicBezTo>
                  <a:pt x="87" y="0"/>
                  <a:pt x="86" y="0"/>
                  <a:pt x="85" y="1"/>
                </a:cubicBezTo>
                <a:cubicBezTo>
                  <a:pt x="1" y="85"/>
                  <a:pt x="1" y="85"/>
                  <a:pt x="1" y="85"/>
                </a:cubicBezTo>
                <a:cubicBezTo>
                  <a:pt x="0" y="86"/>
                  <a:pt x="0" y="87"/>
                  <a:pt x="0" y="88"/>
                </a:cubicBezTo>
                <a:cubicBezTo>
                  <a:pt x="0" y="90"/>
                  <a:pt x="2" y="92"/>
                  <a:pt x="4" y="92"/>
                </a:cubicBezTo>
                <a:cubicBezTo>
                  <a:pt x="5" y="92"/>
                  <a:pt x="6" y="92"/>
                  <a:pt x="7" y="91"/>
                </a:cubicBezTo>
                <a:cubicBezTo>
                  <a:pt x="24" y="74"/>
                  <a:pt x="24" y="74"/>
                  <a:pt x="24" y="74"/>
                </a:cubicBezTo>
                <a:cubicBezTo>
                  <a:pt x="24" y="172"/>
                  <a:pt x="24" y="172"/>
                  <a:pt x="24" y="172"/>
                </a:cubicBezTo>
                <a:cubicBezTo>
                  <a:pt x="24" y="174"/>
                  <a:pt x="26" y="176"/>
                  <a:pt x="28" y="176"/>
                </a:cubicBezTo>
                <a:cubicBezTo>
                  <a:pt x="148" y="176"/>
                  <a:pt x="148" y="176"/>
                  <a:pt x="148" y="176"/>
                </a:cubicBezTo>
                <a:cubicBezTo>
                  <a:pt x="150" y="176"/>
                  <a:pt x="152" y="174"/>
                  <a:pt x="152" y="172"/>
                </a:cubicBezTo>
                <a:cubicBezTo>
                  <a:pt x="152" y="74"/>
                  <a:pt x="152" y="74"/>
                  <a:pt x="152" y="74"/>
                </a:cubicBezTo>
                <a:cubicBezTo>
                  <a:pt x="169" y="91"/>
                  <a:pt x="169" y="91"/>
                  <a:pt x="169" y="91"/>
                </a:cubicBezTo>
                <a:cubicBezTo>
                  <a:pt x="170" y="92"/>
                  <a:pt x="171" y="92"/>
                  <a:pt x="172" y="92"/>
                </a:cubicBezTo>
                <a:cubicBezTo>
                  <a:pt x="174" y="92"/>
                  <a:pt x="176" y="90"/>
                  <a:pt x="176" y="88"/>
                </a:cubicBezTo>
                <a:cubicBezTo>
                  <a:pt x="176" y="87"/>
                  <a:pt x="176" y="86"/>
                  <a:pt x="175" y="85"/>
                </a:cubicBezTo>
                <a:moveTo>
                  <a:pt x="120" y="16"/>
                </a:moveTo>
                <a:cubicBezTo>
                  <a:pt x="136" y="16"/>
                  <a:pt x="136" y="16"/>
                  <a:pt x="136" y="16"/>
                </a:cubicBezTo>
                <a:cubicBezTo>
                  <a:pt x="136" y="46"/>
                  <a:pt x="136" y="46"/>
                  <a:pt x="136" y="46"/>
                </a:cubicBezTo>
                <a:cubicBezTo>
                  <a:pt x="120" y="30"/>
                  <a:pt x="120" y="30"/>
                  <a:pt x="120" y="30"/>
                </a:cubicBezTo>
                <a:lnTo>
                  <a:pt x="120" y="16"/>
                </a:lnTo>
                <a:close/>
                <a:moveTo>
                  <a:pt x="64" y="168"/>
                </a:moveTo>
                <a:cubicBezTo>
                  <a:pt x="32" y="168"/>
                  <a:pt x="32" y="168"/>
                  <a:pt x="32" y="168"/>
                </a:cubicBezTo>
                <a:cubicBezTo>
                  <a:pt x="32" y="160"/>
                  <a:pt x="32" y="160"/>
                  <a:pt x="32" y="160"/>
                </a:cubicBezTo>
                <a:cubicBezTo>
                  <a:pt x="64" y="160"/>
                  <a:pt x="64" y="160"/>
                  <a:pt x="64" y="160"/>
                </a:cubicBezTo>
                <a:lnTo>
                  <a:pt x="64" y="168"/>
                </a:lnTo>
                <a:close/>
                <a:moveTo>
                  <a:pt x="104" y="168"/>
                </a:moveTo>
                <a:cubicBezTo>
                  <a:pt x="72" y="168"/>
                  <a:pt x="72" y="168"/>
                  <a:pt x="72" y="168"/>
                </a:cubicBezTo>
                <a:cubicBezTo>
                  <a:pt x="72" y="104"/>
                  <a:pt x="72" y="104"/>
                  <a:pt x="72" y="104"/>
                </a:cubicBezTo>
                <a:cubicBezTo>
                  <a:pt x="104" y="104"/>
                  <a:pt x="104" y="104"/>
                  <a:pt x="104" y="104"/>
                </a:cubicBezTo>
                <a:lnTo>
                  <a:pt x="104" y="168"/>
                </a:lnTo>
                <a:close/>
                <a:moveTo>
                  <a:pt x="144" y="168"/>
                </a:moveTo>
                <a:cubicBezTo>
                  <a:pt x="112" y="168"/>
                  <a:pt x="112" y="168"/>
                  <a:pt x="112" y="168"/>
                </a:cubicBezTo>
                <a:cubicBezTo>
                  <a:pt x="112" y="160"/>
                  <a:pt x="112" y="160"/>
                  <a:pt x="112" y="160"/>
                </a:cubicBezTo>
                <a:cubicBezTo>
                  <a:pt x="144" y="160"/>
                  <a:pt x="144" y="160"/>
                  <a:pt x="144" y="160"/>
                </a:cubicBezTo>
                <a:lnTo>
                  <a:pt x="144" y="168"/>
                </a:lnTo>
                <a:close/>
                <a:moveTo>
                  <a:pt x="144" y="152"/>
                </a:moveTo>
                <a:cubicBezTo>
                  <a:pt x="112" y="152"/>
                  <a:pt x="112" y="152"/>
                  <a:pt x="112" y="152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8"/>
                  <a:pt x="110" y="96"/>
                  <a:pt x="108" y="96"/>
                </a:cubicBezTo>
                <a:cubicBezTo>
                  <a:pt x="68" y="96"/>
                  <a:pt x="68" y="96"/>
                  <a:pt x="68" y="96"/>
                </a:cubicBezTo>
                <a:cubicBezTo>
                  <a:pt x="66" y="96"/>
                  <a:pt x="64" y="98"/>
                  <a:pt x="64" y="100"/>
                </a:cubicBezTo>
                <a:cubicBezTo>
                  <a:pt x="64" y="152"/>
                  <a:pt x="64" y="152"/>
                  <a:pt x="64" y="152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2" y="66"/>
                  <a:pt x="32" y="66"/>
                  <a:pt x="32" y="66"/>
                </a:cubicBezTo>
                <a:cubicBezTo>
                  <a:pt x="88" y="10"/>
                  <a:pt x="88" y="10"/>
                  <a:pt x="88" y="10"/>
                </a:cubicBezTo>
                <a:cubicBezTo>
                  <a:pt x="144" y="66"/>
                  <a:pt x="144" y="66"/>
                  <a:pt x="144" y="66"/>
                </a:cubicBezTo>
                <a:lnTo>
                  <a:pt x="144" y="152"/>
                </a:lnTo>
                <a:close/>
                <a:moveTo>
                  <a:pt x="92" y="144"/>
                </a:moveTo>
                <a:cubicBezTo>
                  <a:pt x="94" y="144"/>
                  <a:pt x="96" y="142"/>
                  <a:pt x="96" y="140"/>
                </a:cubicBezTo>
                <a:cubicBezTo>
                  <a:pt x="96" y="138"/>
                  <a:pt x="94" y="136"/>
                  <a:pt x="92" y="136"/>
                </a:cubicBezTo>
                <a:cubicBezTo>
                  <a:pt x="90" y="136"/>
                  <a:pt x="88" y="138"/>
                  <a:pt x="88" y="140"/>
                </a:cubicBezTo>
                <a:cubicBezTo>
                  <a:pt x="88" y="142"/>
                  <a:pt x="90" y="144"/>
                  <a:pt x="92" y="14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601" name="Group 19" descr=""/>
          <p:cNvPicPr/>
          <p:nvPr/>
        </p:nvPicPr>
        <p:blipFill>
          <a:blip r:embed="rId1"/>
          <a:stretch/>
        </p:blipFill>
        <p:spPr>
          <a:xfrm>
            <a:off x="3067200" y="3017880"/>
            <a:ext cx="511200" cy="493560"/>
          </a:xfrm>
          <a:prstGeom prst="rect">
            <a:avLst/>
          </a:prstGeom>
          <a:ln w="0">
            <a:noFill/>
          </a:ln>
        </p:spPr>
      </p:pic>
      <p:pic>
        <p:nvPicPr>
          <p:cNvPr id="1602" name="Group 27" descr=""/>
          <p:cNvPicPr/>
          <p:nvPr/>
        </p:nvPicPr>
        <p:blipFill>
          <a:blip r:embed="rId2"/>
          <a:stretch/>
        </p:blipFill>
        <p:spPr>
          <a:xfrm>
            <a:off x="2120760" y="429084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603" name="Group 30" descr=""/>
          <p:cNvPicPr/>
          <p:nvPr/>
        </p:nvPicPr>
        <p:blipFill>
          <a:blip r:embed="rId3"/>
          <a:stretch/>
        </p:blipFill>
        <p:spPr>
          <a:xfrm>
            <a:off x="4011480" y="4267080"/>
            <a:ext cx="536760" cy="493920"/>
          </a:xfrm>
          <a:prstGeom prst="rect">
            <a:avLst/>
          </a:prstGeom>
          <a:ln w="0">
            <a:noFill/>
          </a:ln>
        </p:spPr>
      </p:pic>
      <p:sp>
        <p:nvSpPr>
          <p:cNvPr id="1604" name="Freeform 12"/>
          <p:cNvSpPr/>
          <p:nvPr/>
        </p:nvSpPr>
        <p:spPr>
          <a:xfrm>
            <a:off x="5016600" y="3019320"/>
            <a:ext cx="504720" cy="493920"/>
          </a:xfrm>
          <a:custGeom>
            <a:avLst/>
            <a:gdLst/>
            <a:ahLst/>
            <a:rect l="l" t="t" r="r" b="b"/>
            <a:pathLst>
              <a:path w="2506" h="2453">
                <a:moveTo>
                  <a:pt x="2384" y="735"/>
                </a:moveTo>
                <a:cubicBezTo>
                  <a:pt x="2384" y="122"/>
                  <a:pt x="2384" y="122"/>
                  <a:pt x="2384" y="122"/>
                </a:cubicBezTo>
                <a:cubicBezTo>
                  <a:pt x="2384" y="54"/>
                  <a:pt x="2329" y="0"/>
                  <a:pt x="2261" y="0"/>
                </a:cubicBezTo>
                <a:cubicBezTo>
                  <a:pt x="2190" y="0"/>
                  <a:pt x="2190" y="0"/>
                  <a:pt x="2190" y="0"/>
                </a:cubicBezTo>
                <a:cubicBezTo>
                  <a:pt x="2138" y="0"/>
                  <a:pt x="2094" y="32"/>
                  <a:pt x="2076" y="78"/>
                </a:cubicBezTo>
                <a:cubicBezTo>
                  <a:pt x="1389" y="432"/>
                  <a:pt x="1389" y="432"/>
                  <a:pt x="1389" y="432"/>
                </a:cubicBezTo>
                <a:cubicBezTo>
                  <a:pt x="1248" y="432"/>
                  <a:pt x="1248" y="432"/>
                  <a:pt x="1248" y="432"/>
                </a:cubicBezTo>
                <a:cubicBezTo>
                  <a:pt x="1224" y="401"/>
                  <a:pt x="1186" y="382"/>
                  <a:pt x="1145" y="382"/>
                </a:cubicBezTo>
                <a:cubicBezTo>
                  <a:pt x="476" y="382"/>
                  <a:pt x="476" y="382"/>
                  <a:pt x="476" y="382"/>
                </a:cubicBezTo>
                <a:cubicBezTo>
                  <a:pt x="382" y="382"/>
                  <a:pt x="291" y="416"/>
                  <a:pt x="220" y="477"/>
                </a:cubicBezTo>
                <a:cubicBezTo>
                  <a:pt x="166" y="523"/>
                  <a:pt x="126" y="583"/>
                  <a:pt x="104" y="650"/>
                </a:cubicBezTo>
                <a:cubicBezTo>
                  <a:pt x="42" y="682"/>
                  <a:pt x="0" y="746"/>
                  <a:pt x="0" y="819"/>
                </a:cubicBezTo>
                <a:cubicBezTo>
                  <a:pt x="0" y="1219"/>
                  <a:pt x="0" y="1219"/>
                  <a:pt x="0" y="1219"/>
                </a:cubicBezTo>
                <a:cubicBezTo>
                  <a:pt x="0" y="1293"/>
                  <a:pt x="42" y="1357"/>
                  <a:pt x="104" y="1388"/>
                </a:cubicBezTo>
                <a:cubicBezTo>
                  <a:pt x="126" y="1455"/>
                  <a:pt x="166" y="1515"/>
                  <a:pt x="220" y="1561"/>
                </a:cubicBezTo>
                <a:cubicBezTo>
                  <a:pt x="280" y="1613"/>
                  <a:pt x="355" y="1646"/>
                  <a:pt x="434" y="1654"/>
                </a:cubicBezTo>
                <a:cubicBezTo>
                  <a:pt x="642" y="2317"/>
                  <a:pt x="642" y="2317"/>
                  <a:pt x="642" y="2317"/>
                </a:cubicBezTo>
                <a:cubicBezTo>
                  <a:pt x="668" y="2398"/>
                  <a:pt x="744" y="2453"/>
                  <a:pt x="833" y="2453"/>
                </a:cubicBezTo>
                <a:cubicBezTo>
                  <a:pt x="855" y="2453"/>
                  <a:pt x="876" y="2450"/>
                  <a:pt x="897" y="2443"/>
                </a:cubicBezTo>
                <a:cubicBezTo>
                  <a:pt x="1168" y="2358"/>
                  <a:pt x="1168" y="2358"/>
                  <a:pt x="1168" y="2358"/>
                </a:cubicBezTo>
                <a:cubicBezTo>
                  <a:pt x="1219" y="2342"/>
                  <a:pt x="1262" y="2308"/>
                  <a:pt x="1288" y="2263"/>
                </a:cubicBezTo>
                <a:cubicBezTo>
                  <a:pt x="1315" y="2216"/>
                  <a:pt x="1321" y="2160"/>
                  <a:pt x="1305" y="2109"/>
                </a:cubicBezTo>
                <a:cubicBezTo>
                  <a:pt x="1246" y="1921"/>
                  <a:pt x="1246" y="1921"/>
                  <a:pt x="1246" y="1921"/>
                </a:cubicBezTo>
                <a:cubicBezTo>
                  <a:pt x="1274" y="1904"/>
                  <a:pt x="1274" y="1904"/>
                  <a:pt x="1274" y="1904"/>
                </a:cubicBezTo>
                <a:cubicBezTo>
                  <a:pt x="1330" y="1869"/>
                  <a:pt x="1347" y="1795"/>
                  <a:pt x="1313" y="1739"/>
                </a:cubicBezTo>
                <a:cubicBezTo>
                  <a:pt x="1312" y="1739"/>
                  <a:pt x="1312" y="1739"/>
                  <a:pt x="1312" y="1739"/>
                </a:cubicBezTo>
                <a:cubicBezTo>
                  <a:pt x="1312" y="1739"/>
                  <a:pt x="1312" y="1739"/>
                  <a:pt x="1312" y="1739"/>
                </a:cubicBezTo>
                <a:cubicBezTo>
                  <a:pt x="1237" y="1618"/>
                  <a:pt x="1237" y="1618"/>
                  <a:pt x="1237" y="1618"/>
                </a:cubicBezTo>
                <a:cubicBezTo>
                  <a:pt x="1241" y="1614"/>
                  <a:pt x="1244" y="1611"/>
                  <a:pt x="1248" y="1606"/>
                </a:cubicBezTo>
                <a:cubicBezTo>
                  <a:pt x="1389" y="1606"/>
                  <a:pt x="1389" y="1606"/>
                  <a:pt x="1389" y="1606"/>
                </a:cubicBezTo>
                <a:cubicBezTo>
                  <a:pt x="2072" y="1958"/>
                  <a:pt x="2072" y="1958"/>
                  <a:pt x="2072" y="1958"/>
                </a:cubicBezTo>
                <a:cubicBezTo>
                  <a:pt x="2085" y="2011"/>
                  <a:pt x="2133" y="2051"/>
                  <a:pt x="2190" y="2051"/>
                </a:cubicBezTo>
                <a:cubicBezTo>
                  <a:pt x="2261" y="2051"/>
                  <a:pt x="2261" y="2051"/>
                  <a:pt x="2261" y="2051"/>
                </a:cubicBezTo>
                <a:cubicBezTo>
                  <a:pt x="2329" y="2051"/>
                  <a:pt x="2384" y="1996"/>
                  <a:pt x="2384" y="1928"/>
                </a:cubicBezTo>
                <a:cubicBezTo>
                  <a:pt x="2384" y="1299"/>
                  <a:pt x="2384" y="1299"/>
                  <a:pt x="2384" y="1299"/>
                </a:cubicBezTo>
                <a:cubicBezTo>
                  <a:pt x="2461" y="1226"/>
                  <a:pt x="2506" y="1124"/>
                  <a:pt x="2506" y="1017"/>
                </a:cubicBezTo>
                <a:cubicBezTo>
                  <a:pt x="2506" y="909"/>
                  <a:pt x="2461" y="807"/>
                  <a:pt x="2384" y="735"/>
                </a:cubicBezTo>
                <a:close/>
                <a:moveTo>
                  <a:pt x="833" y="2318"/>
                </a:moveTo>
                <a:cubicBezTo>
                  <a:pt x="804" y="2318"/>
                  <a:pt x="779" y="2301"/>
                  <a:pt x="771" y="2276"/>
                </a:cubicBezTo>
                <a:cubicBezTo>
                  <a:pt x="556" y="1592"/>
                  <a:pt x="556" y="1592"/>
                  <a:pt x="556" y="1592"/>
                </a:cubicBezTo>
                <a:cubicBezTo>
                  <a:pt x="1001" y="1592"/>
                  <a:pt x="1001" y="1592"/>
                  <a:pt x="1001" y="1592"/>
                </a:cubicBezTo>
                <a:cubicBezTo>
                  <a:pt x="1176" y="2149"/>
                  <a:pt x="1176" y="2149"/>
                  <a:pt x="1176" y="2149"/>
                </a:cubicBezTo>
                <a:cubicBezTo>
                  <a:pt x="1181" y="2164"/>
                  <a:pt x="1179" y="2181"/>
                  <a:pt x="1170" y="2196"/>
                </a:cubicBezTo>
                <a:cubicBezTo>
                  <a:pt x="1161" y="2212"/>
                  <a:pt x="1146" y="2223"/>
                  <a:pt x="1128" y="2229"/>
                </a:cubicBezTo>
                <a:cubicBezTo>
                  <a:pt x="856" y="2314"/>
                  <a:pt x="856" y="2314"/>
                  <a:pt x="856" y="2314"/>
                </a:cubicBezTo>
                <a:cubicBezTo>
                  <a:pt x="849" y="2317"/>
                  <a:pt x="841" y="2318"/>
                  <a:pt x="833" y="2318"/>
                </a:cubicBezTo>
                <a:close/>
                <a:moveTo>
                  <a:pt x="136" y="1219"/>
                </a:moveTo>
                <a:cubicBezTo>
                  <a:pt x="136" y="819"/>
                  <a:pt x="136" y="819"/>
                  <a:pt x="136" y="819"/>
                </a:cubicBezTo>
                <a:cubicBezTo>
                  <a:pt x="136" y="806"/>
                  <a:pt x="140" y="795"/>
                  <a:pt x="147" y="785"/>
                </a:cubicBezTo>
                <a:cubicBezTo>
                  <a:pt x="147" y="1253"/>
                  <a:pt x="147" y="1253"/>
                  <a:pt x="147" y="1253"/>
                </a:cubicBezTo>
                <a:cubicBezTo>
                  <a:pt x="140" y="1244"/>
                  <a:pt x="136" y="1232"/>
                  <a:pt x="136" y="1219"/>
                </a:cubicBezTo>
                <a:close/>
                <a:moveTo>
                  <a:pt x="219" y="1264"/>
                </a:moveTo>
                <a:cubicBezTo>
                  <a:pt x="219" y="774"/>
                  <a:pt x="219" y="774"/>
                  <a:pt x="219" y="774"/>
                </a:cubicBezTo>
                <a:cubicBezTo>
                  <a:pt x="219" y="632"/>
                  <a:pt x="334" y="517"/>
                  <a:pt x="476" y="517"/>
                </a:cubicBezTo>
                <a:cubicBezTo>
                  <a:pt x="1140" y="517"/>
                  <a:pt x="1140" y="517"/>
                  <a:pt x="1140" y="517"/>
                </a:cubicBezTo>
                <a:cubicBezTo>
                  <a:pt x="1140" y="1521"/>
                  <a:pt x="1140" y="1521"/>
                  <a:pt x="1140" y="1521"/>
                </a:cubicBezTo>
                <a:cubicBezTo>
                  <a:pt x="1054" y="1521"/>
                  <a:pt x="1054" y="1521"/>
                  <a:pt x="1054" y="1521"/>
                </a:cubicBezTo>
                <a:cubicBezTo>
                  <a:pt x="476" y="1521"/>
                  <a:pt x="476" y="1521"/>
                  <a:pt x="476" y="1521"/>
                </a:cubicBezTo>
                <a:cubicBezTo>
                  <a:pt x="334" y="1521"/>
                  <a:pt x="219" y="1406"/>
                  <a:pt x="219" y="1264"/>
                </a:cubicBezTo>
                <a:close/>
                <a:moveTo>
                  <a:pt x="1090" y="1638"/>
                </a:moveTo>
                <a:cubicBezTo>
                  <a:pt x="1189" y="1797"/>
                  <a:pt x="1189" y="1797"/>
                  <a:pt x="1189" y="1797"/>
                </a:cubicBezTo>
                <a:cubicBezTo>
                  <a:pt x="1148" y="1823"/>
                  <a:pt x="1148" y="1823"/>
                  <a:pt x="1148" y="1823"/>
                </a:cubicBezTo>
                <a:lnTo>
                  <a:pt x="1090" y="1638"/>
                </a:lnTo>
                <a:close/>
                <a:moveTo>
                  <a:pt x="1212" y="567"/>
                </a:moveTo>
                <a:cubicBezTo>
                  <a:pt x="1421" y="567"/>
                  <a:pt x="1421" y="567"/>
                  <a:pt x="1421" y="567"/>
                </a:cubicBezTo>
                <a:cubicBezTo>
                  <a:pt x="2132" y="201"/>
                  <a:pt x="2132" y="201"/>
                  <a:pt x="2132" y="201"/>
                </a:cubicBezTo>
                <a:cubicBezTo>
                  <a:pt x="2132" y="1837"/>
                  <a:pt x="2132" y="1837"/>
                  <a:pt x="2132" y="1837"/>
                </a:cubicBezTo>
                <a:cubicBezTo>
                  <a:pt x="1421" y="1471"/>
                  <a:pt x="1421" y="1471"/>
                  <a:pt x="1421" y="1471"/>
                </a:cubicBezTo>
                <a:cubicBezTo>
                  <a:pt x="1212" y="1471"/>
                  <a:pt x="1212" y="1471"/>
                  <a:pt x="1212" y="1471"/>
                </a:cubicBezTo>
                <a:lnTo>
                  <a:pt x="1212" y="567"/>
                </a:lnTo>
                <a:close/>
                <a:moveTo>
                  <a:pt x="2203" y="135"/>
                </a:moveTo>
                <a:cubicBezTo>
                  <a:pt x="2248" y="135"/>
                  <a:pt x="2248" y="135"/>
                  <a:pt x="2248" y="135"/>
                </a:cubicBezTo>
                <a:cubicBezTo>
                  <a:pt x="2248" y="1915"/>
                  <a:pt x="2248" y="1915"/>
                  <a:pt x="2248" y="1915"/>
                </a:cubicBezTo>
                <a:cubicBezTo>
                  <a:pt x="2203" y="1915"/>
                  <a:pt x="2203" y="1915"/>
                  <a:pt x="2203" y="1915"/>
                </a:cubicBezTo>
                <a:lnTo>
                  <a:pt x="2203" y="135"/>
                </a:lnTo>
                <a:close/>
                <a:moveTo>
                  <a:pt x="2319" y="1169"/>
                </a:moveTo>
                <a:cubicBezTo>
                  <a:pt x="2319" y="865"/>
                  <a:pt x="2319" y="865"/>
                  <a:pt x="2319" y="865"/>
                </a:cubicBezTo>
                <a:cubicBezTo>
                  <a:pt x="2352" y="907"/>
                  <a:pt x="2371" y="960"/>
                  <a:pt x="2371" y="1017"/>
                </a:cubicBezTo>
                <a:cubicBezTo>
                  <a:pt x="2371" y="1074"/>
                  <a:pt x="2352" y="1126"/>
                  <a:pt x="2319" y="11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605" name="Group 37" descr=""/>
          <p:cNvPicPr/>
          <p:nvPr/>
        </p:nvPicPr>
        <p:blipFill>
          <a:blip r:embed="rId4"/>
          <a:stretch/>
        </p:blipFill>
        <p:spPr>
          <a:xfrm>
            <a:off x="6022800" y="4267080"/>
            <a:ext cx="420840" cy="493920"/>
          </a:xfrm>
          <a:prstGeom prst="rect">
            <a:avLst/>
          </a:prstGeom>
          <a:ln w="0">
            <a:noFill/>
          </a:ln>
        </p:spPr>
      </p:pic>
      <p:pic>
        <p:nvPicPr>
          <p:cNvPr id="1606" name="Group 51" descr=""/>
          <p:cNvPicPr/>
          <p:nvPr/>
        </p:nvPicPr>
        <p:blipFill>
          <a:blip r:embed="rId5"/>
          <a:stretch/>
        </p:blipFill>
        <p:spPr>
          <a:xfrm>
            <a:off x="7077240" y="3017880"/>
            <a:ext cx="493560" cy="493560"/>
          </a:xfrm>
          <a:prstGeom prst="rect">
            <a:avLst/>
          </a:prstGeom>
          <a:ln w="0">
            <a:noFill/>
          </a:ln>
        </p:spPr>
      </p:pic>
      <p:sp>
        <p:nvSpPr>
          <p:cNvPr id="1607" name="TextBox 47"/>
          <p:cNvSpPr/>
          <p:nvPr/>
        </p:nvSpPr>
        <p:spPr>
          <a:xfrm>
            <a:off x="374760" y="194328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8" name="TextBox 50"/>
          <p:cNvSpPr/>
          <p:nvPr/>
        </p:nvSpPr>
        <p:spPr>
          <a:xfrm>
            <a:off x="1353960" y="5541840"/>
            <a:ext cx="200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9" name="TextBox 48"/>
          <p:cNvSpPr/>
          <p:nvPr/>
        </p:nvSpPr>
        <p:spPr>
          <a:xfrm>
            <a:off x="2319480" y="1943280"/>
            <a:ext cx="200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0" name="TextBox 53"/>
          <p:cNvSpPr/>
          <p:nvPr/>
        </p:nvSpPr>
        <p:spPr>
          <a:xfrm>
            <a:off x="4267080" y="194328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1" name="TextBox 54"/>
          <p:cNvSpPr/>
          <p:nvPr/>
        </p:nvSpPr>
        <p:spPr>
          <a:xfrm>
            <a:off x="3297240" y="5541840"/>
            <a:ext cx="200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2" name="Title 1"/>
          <p:cNvSpPr/>
          <p:nvPr/>
        </p:nvSpPr>
        <p:spPr>
          <a:xfrm>
            <a:off x="1330200" y="4808520"/>
            <a:ext cx="2043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3" name="TextBox 57"/>
          <p:cNvSpPr/>
          <p:nvPr/>
        </p:nvSpPr>
        <p:spPr>
          <a:xfrm>
            <a:off x="5243400" y="554184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4" name="Title 1"/>
          <p:cNvSpPr/>
          <p:nvPr/>
        </p:nvSpPr>
        <p:spPr>
          <a:xfrm>
            <a:off x="2300400" y="35877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5" name="Title 1"/>
          <p:cNvSpPr/>
          <p:nvPr/>
        </p:nvSpPr>
        <p:spPr>
          <a:xfrm>
            <a:off x="4248000" y="3587760"/>
            <a:ext cx="2043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6" name="Title 1"/>
          <p:cNvSpPr/>
          <p:nvPr/>
        </p:nvSpPr>
        <p:spPr>
          <a:xfrm>
            <a:off x="6303960" y="35877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7" name="Title 1"/>
          <p:cNvSpPr/>
          <p:nvPr/>
        </p:nvSpPr>
        <p:spPr>
          <a:xfrm>
            <a:off x="3278160" y="480852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8" name="Title 1"/>
          <p:cNvSpPr/>
          <p:nvPr/>
        </p:nvSpPr>
        <p:spPr>
          <a:xfrm>
            <a:off x="5226120" y="480852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9" name="TextBox 62"/>
          <p:cNvSpPr/>
          <p:nvPr/>
        </p:nvSpPr>
        <p:spPr>
          <a:xfrm>
            <a:off x="8609040" y="2744640"/>
            <a:ext cx="32288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amet, elit, sed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0" name="TextBox 67"/>
          <p:cNvSpPr/>
          <p:nvPr/>
        </p:nvSpPr>
        <p:spPr>
          <a:xfrm>
            <a:off x="8609040" y="23749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0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Progress Slid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622" name="Title 1"/>
          <p:cNvSpPr/>
          <p:nvPr/>
        </p:nvSpPr>
        <p:spPr>
          <a:xfrm>
            <a:off x="923760" y="1820880"/>
            <a:ext cx="204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IDEA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23" name="Group 45"/>
          <p:cNvGrpSpPr/>
          <p:nvPr/>
        </p:nvGrpSpPr>
        <p:grpSpPr>
          <a:xfrm>
            <a:off x="1339920" y="2886120"/>
            <a:ext cx="1217520" cy="1216080"/>
            <a:chOff x="1339920" y="2886120"/>
            <a:chExt cx="1217520" cy="1216080"/>
          </a:xfrm>
        </p:grpSpPr>
        <p:sp>
          <p:nvSpPr>
            <p:cNvPr id="1624" name="Rectangle 43"/>
            <p:cNvSpPr/>
            <p:nvPr/>
          </p:nvSpPr>
          <p:spPr>
            <a:xfrm>
              <a:off x="1384920" y="2931120"/>
              <a:ext cx="1127520" cy="11260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25" name="Rectangle 44"/>
            <p:cNvSpPr/>
            <p:nvPr/>
          </p:nvSpPr>
          <p:spPr>
            <a:xfrm>
              <a:off x="1339920" y="2886120"/>
              <a:ext cx="1217520" cy="1216080"/>
            </a:xfrm>
            <a:prstGeom prst="rect">
              <a:avLst/>
            </a:prstGeom>
            <a:noFill/>
            <a:ln w="28440">
              <a:solidFill>
                <a:srgbClr val="cad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26" name="Straight Connector 46"/>
          <p:cNvSpPr/>
          <p:nvPr/>
        </p:nvSpPr>
        <p:spPr>
          <a:xfrm flipV="1">
            <a:off x="1947960" y="4102200"/>
            <a:ext cx="0" cy="552240"/>
          </a:xfrm>
          <a:prstGeom prst="line">
            <a:avLst/>
          </a:prstGeom>
          <a:ln w="28440">
            <a:solidFill>
              <a:srgbClr val="cad82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7" name="Straight Connector 48"/>
          <p:cNvSpPr/>
          <p:nvPr/>
        </p:nvSpPr>
        <p:spPr>
          <a:xfrm>
            <a:off x="1947960" y="2335320"/>
            <a:ext cx="0" cy="550800"/>
          </a:xfrm>
          <a:prstGeom prst="line">
            <a:avLst/>
          </a:prstGeom>
          <a:ln w="28440">
            <a:solidFill>
              <a:srgbClr val="cad82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28" name="Group 1"/>
          <p:cNvGrpSpPr/>
          <p:nvPr/>
        </p:nvGrpSpPr>
        <p:grpSpPr>
          <a:xfrm>
            <a:off x="4105440" y="2886120"/>
            <a:ext cx="1215720" cy="1216080"/>
            <a:chOff x="4105440" y="2886120"/>
            <a:chExt cx="1215720" cy="1216080"/>
          </a:xfrm>
        </p:grpSpPr>
        <p:sp>
          <p:nvSpPr>
            <p:cNvPr id="1629" name="Rectangle 54"/>
            <p:cNvSpPr/>
            <p:nvPr/>
          </p:nvSpPr>
          <p:spPr>
            <a:xfrm>
              <a:off x="4150440" y="2931120"/>
              <a:ext cx="1125720" cy="1126080"/>
            </a:xfrm>
            <a:prstGeom prst="rect">
              <a:avLst/>
            </a:prstGeom>
            <a:solidFill>
              <a:srgbClr val="b2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30" name="Rectangle 55"/>
            <p:cNvSpPr/>
            <p:nvPr/>
          </p:nvSpPr>
          <p:spPr>
            <a:xfrm>
              <a:off x="4105440" y="2886120"/>
              <a:ext cx="1215720" cy="1216080"/>
            </a:xfrm>
            <a:prstGeom prst="rect">
              <a:avLst/>
            </a:prstGeom>
            <a:noFill/>
            <a:ln w="28440">
              <a:solidFill>
                <a:srgbClr val="b2c4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31" name="Straight Connector 52"/>
          <p:cNvSpPr/>
          <p:nvPr/>
        </p:nvSpPr>
        <p:spPr>
          <a:xfrm flipV="1">
            <a:off x="4713120" y="4102200"/>
            <a:ext cx="0" cy="552240"/>
          </a:xfrm>
          <a:prstGeom prst="line">
            <a:avLst/>
          </a:prstGeom>
          <a:ln w="28440">
            <a:solidFill>
              <a:srgbClr val="b2c441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2" name="Straight Connector 53"/>
          <p:cNvSpPr/>
          <p:nvPr/>
        </p:nvSpPr>
        <p:spPr>
          <a:xfrm>
            <a:off x="4713120" y="2335320"/>
            <a:ext cx="0" cy="550800"/>
          </a:xfrm>
          <a:prstGeom prst="line">
            <a:avLst/>
          </a:prstGeom>
          <a:ln w="28440">
            <a:solidFill>
              <a:srgbClr val="b2c441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33" name="Group 3"/>
          <p:cNvGrpSpPr/>
          <p:nvPr/>
        </p:nvGrpSpPr>
        <p:grpSpPr>
          <a:xfrm>
            <a:off x="6870600" y="2886120"/>
            <a:ext cx="1216080" cy="1216080"/>
            <a:chOff x="6870600" y="2886120"/>
            <a:chExt cx="1216080" cy="1216080"/>
          </a:xfrm>
        </p:grpSpPr>
        <p:sp>
          <p:nvSpPr>
            <p:cNvPr id="1634" name="Rectangle 60"/>
            <p:cNvSpPr/>
            <p:nvPr/>
          </p:nvSpPr>
          <p:spPr>
            <a:xfrm>
              <a:off x="6915600" y="2931120"/>
              <a:ext cx="1126080" cy="1126080"/>
            </a:xfrm>
            <a:prstGeom prst="rect">
              <a:avLst/>
            </a:prstGeom>
            <a:solidFill>
              <a:srgbClr val="8eb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35" name="Rectangle 61"/>
            <p:cNvSpPr/>
            <p:nvPr/>
          </p:nvSpPr>
          <p:spPr>
            <a:xfrm>
              <a:off x="6870600" y="2886120"/>
              <a:ext cx="1216080" cy="1216080"/>
            </a:xfrm>
            <a:prstGeom prst="rect">
              <a:avLst/>
            </a:prstGeom>
            <a:noFill/>
            <a:ln w="28440">
              <a:solidFill>
                <a:srgbClr val="8eb2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36" name="Straight Connector 58"/>
          <p:cNvSpPr/>
          <p:nvPr/>
        </p:nvSpPr>
        <p:spPr>
          <a:xfrm flipV="1">
            <a:off x="7478640" y="4102200"/>
            <a:ext cx="0" cy="552240"/>
          </a:xfrm>
          <a:prstGeom prst="line">
            <a:avLst/>
          </a:prstGeom>
          <a:ln w="28440">
            <a:solidFill>
              <a:srgbClr val="8eb24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7" name="Straight Connector 59"/>
          <p:cNvSpPr/>
          <p:nvPr/>
        </p:nvSpPr>
        <p:spPr>
          <a:xfrm>
            <a:off x="7478640" y="2335320"/>
            <a:ext cx="0" cy="550800"/>
          </a:xfrm>
          <a:prstGeom prst="line">
            <a:avLst/>
          </a:prstGeom>
          <a:ln w="28440">
            <a:solidFill>
              <a:srgbClr val="8eb24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38" name="Group 4"/>
          <p:cNvGrpSpPr/>
          <p:nvPr/>
        </p:nvGrpSpPr>
        <p:grpSpPr>
          <a:xfrm>
            <a:off x="9634680" y="2886120"/>
            <a:ext cx="1217520" cy="1216080"/>
            <a:chOff x="9634680" y="2886120"/>
            <a:chExt cx="1217520" cy="1216080"/>
          </a:xfrm>
        </p:grpSpPr>
        <p:sp>
          <p:nvSpPr>
            <p:cNvPr id="1639" name="Rectangle 66"/>
            <p:cNvSpPr/>
            <p:nvPr/>
          </p:nvSpPr>
          <p:spPr>
            <a:xfrm>
              <a:off x="9679680" y="2931120"/>
              <a:ext cx="1127520" cy="1126080"/>
            </a:xfrm>
            <a:prstGeom prst="rect">
              <a:avLst/>
            </a:prstGeom>
            <a:solidFill>
              <a:srgbClr val="64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40" name="Rectangle 67"/>
            <p:cNvSpPr/>
            <p:nvPr/>
          </p:nvSpPr>
          <p:spPr>
            <a:xfrm>
              <a:off x="9634680" y="2886120"/>
              <a:ext cx="1217520" cy="1216080"/>
            </a:xfrm>
            <a:prstGeom prst="rect">
              <a:avLst/>
            </a:prstGeom>
            <a:noFill/>
            <a:ln w="28440">
              <a:solidFill>
                <a:srgbClr val="649e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41" name="Straight Connector 64"/>
          <p:cNvSpPr/>
          <p:nvPr/>
        </p:nvSpPr>
        <p:spPr>
          <a:xfrm flipV="1">
            <a:off x="10244160" y="4102200"/>
            <a:ext cx="0" cy="552240"/>
          </a:xfrm>
          <a:prstGeom prst="line">
            <a:avLst/>
          </a:prstGeom>
          <a:ln w="28440">
            <a:solidFill>
              <a:srgbClr val="649e4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2" name="Straight Connector 65"/>
          <p:cNvSpPr/>
          <p:nvPr/>
        </p:nvSpPr>
        <p:spPr>
          <a:xfrm>
            <a:off x="10244160" y="2335320"/>
            <a:ext cx="0" cy="550800"/>
          </a:xfrm>
          <a:prstGeom prst="line">
            <a:avLst/>
          </a:prstGeom>
          <a:ln w="28440">
            <a:solidFill>
              <a:srgbClr val="649e4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3" name="Title 1"/>
          <p:cNvSpPr/>
          <p:nvPr/>
        </p:nvSpPr>
        <p:spPr>
          <a:xfrm>
            <a:off x="3691080" y="1820880"/>
            <a:ext cx="2044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RESEARCH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4" name="Title 1"/>
          <p:cNvSpPr/>
          <p:nvPr/>
        </p:nvSpPr>
        <p:spPr>
          <a:xfrm>
            <a:off x="6456240" y="1820880"/>
            <a:ext cx="204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SKECTH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5" name="Title 1"/>
          <p:cNvSpPr/>
          <p:nvPr/>
        </p:nvSpPr>
        <p:spPr>
          <a:xfrm>
            <a:off x="9221760" y="1820880"/>
            <a:ext cx="2043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END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6" name="TextBox 74"/>
          <p:cNvSpPr/>
          <p:nvPr/>
        </p:nvSpPr>
        <p:spPr>
          <a:xfrm>
            <a:off x="622440" y="5208480"/>
            <a:ext cx="264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7" name="Title 1"/>
          <p:cNvSpPr/>
          <p:nvPr/>
        </p:nvSpPr>
        <p:spPr>
          <a:xfrm>
            <a:off x="72720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8" name="TextBox 78"/>
          <p:cNvSpPr/>
          <p:nvPr/>
        </p:nvSpPr>
        <p:spPr>
          <a:xfrm>
            <a:off x="3389400" y="5208480"/>
            <a:ext cx="264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9" name="Title 1"/>
          <p:cNvSpPr/>
          <p:nvPr/>
        </p:nvSpPr>
        <p:spPr>
          <a:xfrm>
            <a:off x="349560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0" name="TextBox 81"/>
          <p:cNvSpPr/>
          <p:nvPr/>
        </p:nvSpPr>
        <p:spPr>
          <a:xfrm>
            <a:off x="6154560" y="5208480"/>
            <a:ext cx="2648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1" name="Title 1"/>
          <p:cNvSpPr/>
          <p:nvPr/>
        </p:nvSpPr>
        <p:spPr>
          <a:xfrm>
            <a:off x="6259680" y="4840200"/>
            <a:ext cx="2436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2" name="TextBox 84"/>
          <p:cNvSpPr/>
          <p:nvPr/>
        </p:nvSpPr>
        <p:spPr>
          <a:xfrm>
            <a:off x="8920080" y="5208480"/>
            <a:ext cx="264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3" name="Title 1"/>
          <p:cNvSpPr/>
          <p:nvPr/>
        </p:nvSpPr>
        <p:spPr>
          <a:xfrm>
            <a:off x="902484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4" name="Straight Connector 90"/>
          <p:cNvSpPr/>
          <p:nvPr/>
        </p:nvSpPr>
        <p:spPr>
          <a:xfrm>
            <a:off x="2557440" y="3494160"/>
            <a:ext cx="1548000" cy="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5" name="Straight Connector 93"/>
          <p:cNvSpPr/>
          <p:nvPr/>
        </p:nvSpPr>
        <p:spPr>
          <a:xfrm>
            <a:off x="5321160" y="3494160"/>
            <a:ext cx="1549440" cy="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6" name="Straight Connector 95"/>
          <p:cNvSpPr/>
          <p:nvPr/>
        </p:nvSpPr>
        <p:spPr>
          <a:xfrm>
            <a:off x="8086680" y="3494160"/>
            <a:ext cx="1548000" cy="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657" name="Group 97" descr=""/>
          <p:cNvPicPr/>
          <p:nvPr/>
        </p:nvPicPr>
        <p:blipFill>
          <a:blip r:embed="rId1"/>
          <a:stretch/>
        </p:blipFill>
        <p:spPr>
          <a:xfrm>
            <a:off x="1646280" y="3187800"/>
            <a:ext cx="603360" cy="609480"/>
          </a:xfrm>
          <a:prstGeom prst="rect">
            <a:avLst/>
          </a:prstGeom>
          <a:ln w="0">
            <a:noFill/>
          </a:ln>
        </p:spPr>
      </p:pic>
      <p:pic>
        <p:nvPicPr>
          <p:cNvPr id="1658" name="Group 105" descr=""/>
          <p:cNvPicPr/>
          <p:nvPr/>
        </p:nvPicPr>
        <p:blipFill>
          <a:blip r:embed="rId2"/>
          <a:stretch/>
        </p:blipFill>
        <p:spPr>
          <a:xfrm>
            <a:off x="7242120" y="3187800"/>
            <a:ext cx="469800" cy="603000"/>
          </a:xfrm>
          <a:prstGeom prst="rect">
            <a:avLst/>
          </a:prstGeom>
          <a:ln w="0">
            <a:noFill/>
          </a:ln>
        </p:spPr>
      </p:pic>
      <p:pic>
        <p:nvPicPr>
          <p:cNvPr id="1659" name="Group 118" descr=""/>
          <p:cNvPicPr/>
          <p:nvPr/>
        </p:nvPicPr>
        <p:blipFill>
          <a:blip r:embed="rId3"/>
          <a:stretch/>
        </p:blipFill>
        <p:spPr>
          <a:xfrm>
            <a:off x="4376880" y="319392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1660" name="Group 125" descr=""/>
          <p:cNvPicPr/>
          <p:nvPr/>
        </p:nvPicPr>
        <p:blipFill>
          <a:blip r:embed="rId4"/>
          <a:stretch/>
        </p:blipFill>
        <p:spPr>
          <a:xfrm>
            <a:off x="9985320" y="3193920"/>
            <a:ext cx="5176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5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Sample Char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graphicFrame>
        <p:nvGraphicFramePr>
          <p:cNvPr id="1662" name="차트 337"/>
          <p:cNvGraphicFramePr/>
          <p:nvPr/>
        </p:nvGraphicFramePr>
        <p:xfrm>
          <a:off x="541440" y="1928880"/>
          <a:ext cx="529884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3" name="차트 3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928880"/>
                    <a:ext cx="529884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4" name="Chart 7"/>
          <p:cNvGraphicFramePr/>
          <p:nvPr/>
        </p:nvGraphicFramePr>
        <p:xfrm>
          <a:off x="6267600" y="3656160"/>
          <a:ext cx="1177920" cy="121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65" name="Char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67600" y="3656160"/>
                    <a:ext cx="117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6" name="Chart 7"/>
          <p:cNvGraphicFramePr/>
          <p:nvPr/>
        </p:nvGraphicFramePr>
        <p:xfrm>
          <a:off x="8105760" y="3656160"/>
          <a:ext cx="1179360" cy="121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67" name="Char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05760" y="3656160"/>
                    <a:ext cx="1179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8" name="Chart 7"/>
          <p:cNvGraphicFramePr/>
          <p:nvPr/>
        </p:nvGraphicFramePr>
        <p:xfrm>
          <a:off x="9921960" y="3656160"/>
          <a:ext cx="1177920" cy="1218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669" name="Char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21960" y="3656160"/>
                    <a:ext cx="117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0" name="Title 1"/>
          <p:cNvSpPr/>
          <p:nvPr/>
        </p:nvSpPr>
        <p:spPr>
          <a:xfrm>
            <a:off x="762156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1" name="Title 1"/>
          <p:cNvSpPr/>
          <p:nvPr/>
        </p:nvSpPr>
        <p:spPr>
          <a:xfrm>
            <a:off x="944892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2" name="Title 1"/>
          <p:cNvSpPr/>
          <p:nvPr/>
        </p:nvSpPr>
        <p:spPr>
          <a:xfrm>
            <a:off x="581976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3" name="TextBox 62"/>
          <p:cNvSpPr/>
          <p:nvPr/>
        </p:nvSpPr>
        <p:spPr>
          <a:xfrm>
            <a:off x="6448320" y="4841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  <a:ea typeface="Arial"/>
              </a:rPr>
              <a:t>7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4" name="TextBox 84"/>
          <p:cNvSpPr/>
          <p:nvPr/>
        </p:nvSpPr>
        <p:spPr>
          <a:xfrm>
            <a:off x="595296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5" name="TextBox 61"/>
          <p:cNvSpPr/>
          <p:nvPr/>
        </p:nvSpPr>
        <p:spPr>
          <a:xfrm>
            <a:off x="8263080" y="4841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  <a:ea typeface="Arial"/>
              </a:rPr>
              <a:t>4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6" name="TextBox 85"/>
          <p:cNvSpPr/>
          <p:nvPr/>
        </p:nvSpPr>
        <p:spPr>
          <a:xfrm>
            <a:off x="775800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7" name="TextBox 63"/>
          <p:cNvSpPr/>
          <p:nvPr/>
        </p:nvSpPr>
        <p:spPr>
          <a:xfrm>
            <a:off x="10078920" y="4841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Open Sans"/>
                <a:ea typeface="Arial"/>
              </a:rPr>
              <a:t>35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8" name="TextBox 86"/>
          <p:cNvSpPr/>
          <p:nvPr/>
        </p:nvSpPr>
        <p:spPr>
          <a:xfrm>
            <a:off x="958356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9" name="Rounded Rectangle 25"/>
          <p:cNvSpPr/>
          <p:nvPr/>
        </p:nvSpPr>
        <p:spPr>
          <a:xfrm>
            <a:off x="10304640" y="4114800"/>
            <a:ext cx="412560" cy="301680"/>
          </a:xfrm>
          <a:custGeom>
            <a:avLst/>
            <a:gdLst/>
            <a:ahLst/>
            <a:rect l="l" t="t" r="r" b="b"/>
            <a:pathLst>
              <a:path w="3248842" h="2380886">
                <a:moveTo>
                  <a:pt x="1194785" y="1472263"/>
                </a:moveTo>
                <a:cubicBezTo>
                  <a:pt x="1150014" y="1472263"/>
                  <a:pt x="1113720" y="1508557"/>
                  <a:pt x="1113720" y="1553328"/>
                </a:cubicBezTo>
                <a:lnTo>
                  <a:pt x="1113720" y="1600880"/>
                </a:lnTo>
                <a:cubicBezTo>
                  <a:pt x="1113720" y="1645651"/>
                  <a:pt x="1150014" y="1681945"/>
                  <a:pt x="1194785" y="1681945"/>
                </a:cubicBezTo>
                <a:lnTo>
                  <a:pt x="2067186" y="1681945"/>
                </a:lnTo>
                <a:cubicBezTo>
                  <a:pt x="2111957" y="1681945"/>
                  <a:pt x="2148251" y="1645651"/>
                  <a:pt x="2148251" y="1600880"/>
                </a:cubicBezTo>
                <a:lnTo>
                  <a:pt x="2148251" y="1553328"/>
                </a:lnTo>
                <a:cubicBezTo>
                  <a:pt x="2148251" y="1508557"/>
                  <a:pt x="2111957" y="1472263"/>
                  <a:pt x="2067186" y="1472263"/>
                </a:cubicBezTo>
                <a:lnTo>
                  <a:pt x="1194785" y="1472263"/>
                </a:lnTo>
                <a:close/>
                <a:moveTo>
                  <a:pt x="2582402" y="986449"/>
                </a:moveTo>
                <a:cubicBezTo>
                  <a:pt x="2477247" y="986449"/>
                  <a:pt x="2392002" y="1071694"/>
                  <a:pt x="2392002" y="1176848"/>
                </a:cubicBezTo>
                <a:cubicBezTo>
                  <a:pt x="2392002" y="1282003"/>
                  <a:pt x="2477247" y="1367248"/>
                  <a:pt x="2582402" y="1367248"/>
                </a:cubicBezTo>
                <a:cubicBezTo>
                  <a:pt x="2687557" y="1367248"/>
                  <a:pt x="2772801" y="1282003"/>
                  <a:pt x="2772801" y="1176848"/>
                </a:cubicBezTo>
                <a:cubicBezTo>
                  <a:pt x="2772801" y="1071694"/>
                  <a:pt x="2687557" y="986449"/>
                  <a:pt x="2582402" y="986449"/>
                </a:cubicBezTo>
                <a:close/>
                <a:moveTo>
                  <a:pt x="679570" y="986449"/>
                </a:moveTo>
                <a:cubicBezTo>
                  <a:pt x="574415" y="986449"/>
                  <a:pt x="489171" y="1071694"/>
                  <a:pt x="489171" y="1176848"/>
                </a:cubicBezTo>
                <a:cubicBezTo>
                  <a:pt x="489171" y="1282003"/>
                  <a:pt x="574415" y="1367248"/>
                  <a:pt x="679570" y="1367248"/>
                </a:cubicBezTo>
                <a:cubicBezTo>
                  <a:pt x="784725" y="1367248"/>
                  <a:pt x="869970" y="1282003"/>
                  <a:pt x="869970" y="1176848"/>
                </a:cubicBezTo>
                <a:cubicBezTo>
                  <a:pt x="869970" y="1071694"/>
                  <a:pt x="784725" y="986449"/>
                  <a:pt x="679570" y="986449"/>
                </a:cubicBezTo>
                <a:close/>
                <a:moveTo>
                  <a:pt x="867954" y="155801"/>
                </a:moveTo>
                <a:lnTo>
                  <a:pt x="726849" y="858549"/>
                </a:lnTo>
                <a:lnTo>
                  <a:pt x="2535122" y="858549"/>
                </a:lnTo>
                <a:lnTo>
                  <a:pt x="2394017" y="155801"/>
                </a:lnTo>
                <a:lnTo>
                  <a:pt x="867954" y="155801"/>
                </a:lnTo>
                <a:close/>
                <a:moveTo>
                  <a:pt x="677268" y="0"/>
                </a:moveTo>
                <a:lnTo>
                  <a:pt x="2584703" y="0"/>
                </a:lnTo>
                <a:lnTo>
                  <a:pt x="2736658" y="607820"/>
                </a:lnTo>
                <a:cubicBezTo>
                  <a:pt x="2766265" y="579906"/>
                  <a:pt x="2806392" y="564164"/>
                  <a:pt x="2850195" y="564164"/>
                </a:cubicBezTo>
                <a:lnTo>
                  <a:pt x="3069929" y="564164"/>
                </a:lnTo>
                <a:cubicBezTo>
                  <a:pt x="3168740" y="564164"/>
                  <a:pt x="3248842" y="644266"/>
                  <a:pt x="3248842" y="743077"/>
                </a:cubicBezTo>
                <a:lnTo>
                  <a:pt x="3248842" y="792706"/>
                </a:lnTo>
                <a:cubicBezTo>
                  <a:pt x="3248842" y="891517"/>
                  <a:pt x="3168740" y="971619"/>
                  <a:pt x="3069929" y="971619"/>
                </a:cubicBezTo>
                <a:lnTo>
                  <a:pt x="3054536" y="971619"/>
                </a:lnTo>
                <a:cubicBezTo>
                  <a:pt x="3060628" y="989042"/>
                  <a:pt x="3063411" y="1007758"/>
                  <a:pt x="3063411" y="1027125"/>
                </a:cubicBezTo>
                <a:lnTo>
                  <a:pt x="3063411" y="2015961"/>
                </a:lnTo>
                <a:lnTo>
                  <a:pt x="2889080" y="2015961"/>
                </a:lnTo>
                <a:lnTo>
                  <a:pt x="2889080" y="2260325"/>
                </a:lnTo>
                <a:cubicBezTo>
                  <a:pt x="2889080" y="2326909"/>
                  <a:pt x="2835102" y="2380886"/>
                  <a:pt x="2768518" y="2380886"/>
                </a:cubicBezTo>
                <a:lnTo>
                  <a:pt x="2286284" y="2380886"/>
                </a:lnTo>
                <a:cubicBezTo>
                  <a:pt x="2219700" y="2380886"/>
                  <a:pt x="2165723" y="2326909"/>
                  <a:pt x="2165723" y="2260325"/>
                </a:cubicBezTo>
                <a:lnTo>
                  <a:pt x="2165723" y="2015961"/>
                </a:lnTo>
                <a:lnTo>
                  <a:pt x="1096248" y="2015961"/>
                </a:lnTo>
                <a:lnTo>
                  <a:pt x="1096248" y="2260325"/>
                </a:lnTo>
                <a:cubicBezTo>
                  <a:pt x="1096248" y="2326909"/>
                  <a:pt x="1042270" y="2380886"/>
                  <a:pt x="975686" y="2380886"/>
                </a:cubicBezTo>
                <a:lnTo>
                  <a:pt x="493453" y="2380886"/>
                </a:lnTo>
                <a:cubicBezTo>
                  <a:pt x="426869" y="2380886"/>
                  <a:pt x="372891" y="2326909"/>
                  <a:pt x="372891" y="2260325"/>
                </a:cubicBezTo>
                <a:lnTo>
                  <a:pt x="372891" y="2015961"/>
                </a:lnTo>
                <a:lnTo>
                  <a:pt x="198560" y="2015961"/>
                </a:lnTo>
                <a:lnTo>
                  <a:pt x="198560" y="1027125"/>
                </a:lnTo>
                <a:cubicBezTo>
                  <a:pt x="198560" y="1007758"/>
                  <a:pt x="201343" y="989042"/>
                  <a:pt x="207435" y="971619"/>
                </a:cubicBezTo>
                <a:lnTo>
                  <a:pt x="178913" y="971619"/>
                </a:lnTo>
                <a:cubicBezTo>
                  <a:pt x="80102" y="971619"/>
                  <a:pt x="0" y="891517"/>
                  <a:pt x="0" y="792706"/>
                </a:cubicBezTo>
                <a:lnTo>
                  <a:pt x="0" y="743077"/>
                </a:lnTo>
                <a:cubicBezTo>
                  <a:pt x="0" y="644266"/>
                  <a:pt x="80102" y="564164"/>
                  <a:pt x="178913" y="564164"/>
                </a:cubicBezTo>
                <a:lnTo>
                  <a:pt x="398647" y="564164"/>
                </a:lnTo>
                <a:cubicBezTo>
                  <a:pt x="447310" y="564164"/>
                  <a:pt x="491436" y="583593"/>
                  <a:pt x="523419" y="615395"/>
                </a:cubicBezTo>
                <a:lnTo>
                  <a:pt x="677268" y="0"/>
                </a:ln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0" name="Trapezoid 22"/>
          <p:cNvSpPr/>
          <p:nvPr/>
        </p:nvSpPr>
        <p:spPr>
          <a:xfrm>
            <a:off x="8402760" y="4122720"/>
            <a:ext cx="560160" cy="285840"/>
          </a:xfrm>
          <a:custGeom>
            <a:avLst/>
            <a:gdLst/>
            <a:ahLst/>
            <a:rect l="l" t="t" r="r" b="b"/>
            <a:pathLst>
              <a:path w="3261500" h="1659188">
                <a:moveTo>
                  <a:pt x="121102" y="1436888"/>
                </a:moveTo>
                <a:lnTo>
                  <a:pt x="3045452" y="1436888"/>
                </a:lnTo>
                <a:cubicBezTo>
                  <a:pt x="3001437" y="1508238"/>
                  <a:pt x="2956882" y="1580993"/>
                  <a:pt x="2918729" y="1659188"/>
                </a:cubicBezTo>
                <a:lnTo>
                  <a:pt x="202648" y="1659188"/>
                </a:lnTo>
                <a:cubicBezTo>
                  <a:pt x="188127" y="1585004"/>
                  <a:pt x="156049" y="1510828"/>
                  <a:pt x="121102" y="1436888"/>
                </a:cubicBezTo>
                <a:close/>
                <a:moveTo>
                  <a:pt x="2814967" y="1119413"/>
                </a:moveTo>
                <a:lnTo>
                  <a:pt x="2814967" y="1227413"/>
                </a:lnTo>
                <a:lnTo>
                  <a:pt x="2922967" y="1227413"/>
                </a:lnTo>
                <a:lnTo>
                  <a:pt x="2922967" y="1119413"/>
                </a:lnTo>
                <a:lnTo>
                  <a:pt x="2814967" y="1119413"/>
                </a:lnTo>
                <a:close/>
                <a:moveTo>
                  <a:pt x="2600074" y="1119413"/>
                </a:moveTo>
                <a:lnTo>
                  <a:pt x="2600074" y="1227413"/>
                </a:lnTo>
                <a:lnTo>
                  <a:pt x="2708074" y="1227413"/>
                </a:lnTo>
                <a:lnTo>
                  <a:pt x="2708074" y="1119413"/>
                </a:lnTo>
                <a:lnTo>
                  <a:pt x="2600074" y="1119413"/>
                </a:lnTo>
                <a:close/>
                <a:moveTo>
                  <a:pt x="2385182" y="1119413"/>
                </a:moveTo>
                <a:lnTo>
                  <a:pt x="2385182" y="1227413"/>
                </a:lnTo>
                <a:lnTo>
                  <a:pt x="2493182" y="1227413"/>
                </a:lnTo>
                <a:lnTo>
                  <a:pt x="2493182" y="1119413"/>
                </a:lnTo>
                <a:lnTo>
                  <a:pt x="2385182" y="1119413"/>
                </a:lnTo>
                <a:close/>
                <a:moveTo>
                  <a:pt x="1716569" y="1119413"/>
                </a:moveTo>
                <a:lnTo>
                  <a:pt x="1716569" y="1227413"/>
                </a:lnTo>
                <a:lnTo>
                  <a:pt x="1824569" y="1227413"/>
                </a:lnTo>
                <a:lnTo>
                  <a:pt x="1824569" y="1119413"/>
                </a:lnTo>
                <a:lnTo>
                  <a:pt x="1716569" y="1119413"/>
                </a:lnTo>
                <a:close/>
                <a:moveTo>
                  <a:pt x="1501676" y="1119413"/>
                </a:moveTo>
                <a:lnTo>
                  <a:pt x="1501676" y="1227413"/>
                </a:lnTo>
                <a:lnTo>
                  <a:pt x="1609676" y="1227413"/>
                </a:lnTo>
                <a:lnTo>
                  <a:pt x="1609676" y="1119413"/>
                </a:lnTo>
                <a:lnTo>
                  <a:pt x="1501676" y="1119413"/>
                </a:lnTo>
                <a:close/>
                <a:moveTo>
                  <a:pt x="1286784" y="1119413"/>
                </a:moveTo>
                <a:lnTo>
                  <a:pt x="1286784" y="1227413"/>
                </a:lnTo>
                <a:lnTo>
                  <a:pt x="1394784" y="1227413"/>
                </a:lnTo>
                <a:lnTo>
                  <a:pt x="1394784" y="1119413"/>
                </a:lnTo>
                <a:lnTo>
                  <a:pt x="1286784" y="1119413"/>
                </a:lnTo>
                <a:close/>
                <a:moveTo>
                  <a:pt x="1071892" y="1119413"/>
                </a:moveTo>
                <a:lnTo>
                  <a:pt x="1071892" y="1227413"/>
                </a:lnTo>
                <a:lnTo>
                  <a:pt x="1179892" y="1227413"/>
                </a:lnTo>
                <a:lnTo>
                  <a:pt x="1179892" y="1119413"/>
                </a:lnTo>
                <a:lnTo>
                  <a:pt x="1071892" y="1119413"/>
                </a:lnTo>
                <a:close/>
                <a:moveTo>
                  <a:pt x="857000" y="1119413"/>
                </a:moveTo>
                <a:lnTo>
                  <a:pt x="857000" y="1227413"/>
                </a:lnTo>
                <a:lnTo>
                  <a:pt x="965000" y="1227413"/>
                </a:lnTo>
                <a:lnTo>
                  <a:pt x="965000" y="1119413"/>
                </a:lnTo>
                <a:lnTo>
                  <a:pt x="857000" y="1119413"/>
                </a:lnTo>
                <a:close/>
                <a:moveTo>
                  <a:pt x="642108" y="1119413"/>
                </a:moveTo>
                <a:lnTo>
                  <a:pt x="642108" y="1227413"/>
                </a:lnTo>
                <a:lnTo>
                  <a:pt x="750108" y="1227413"/>
                </a:lnTo>
                <a:lnTo>
                  <a:pt x="750108" y="1119413"/>
                </a:lnTo>
                <a:lnTo>
                  <a:pt x="642108" y="1119413"/>
                </a:lnTo>
                <a:close/>
                <a:moveTo>
                  <a:pt x="427216" y="1119413"/>
                </a:moveTo>
                <a:lnTo>
                  <a:pt x="427216" y="1227413"/>
                </a:lnTo>
                <a:lnTo>
                  <a:pt x="535216" y="1227413"/>
                </a:lnTo>
                <a:lnTo>
                  <a:pt x="535216" y="1119413"/>
                </a:lnTo>
                <a:lnTo>
                  <a:pt x="427216" y="1119413"/>
                </a:lnTo>
                <a:close/>
                <a:moveTo>
                  <a:pt x="356387" y="794045"/>
                </a:moveTo>
                <a:lnTo>
                  <a:pt x="310667" y="896924"/>
                </a:lnTo>
                <a:lnTo>
                  <a:pt x="2620886" y="908354"/>
                </a:lnTo>
                <a:lnTo>
                  <a:pt x="2540130" y="801665"/>
                </a:lnTo>
                <a:lnTo>
                  <a:pt x="356387" y="794045"/>
                </a:lnTo>
                <a:close/>
                <a:moveTo>
                  <a:pt x="382676" y="631248"/>
                </a:moveTo>
                <a:lnTo>
                  <a:pt x="363625" y="730317"/>
                </a:lnTo>
                <a:lnTo>
                  <a:pt x="2492522" y="737937"/>
                </a:lnTo>
                <a:lnTo>
                  <a:pt x="2418771" y="631248"/>
                </a:lnTo>
                <a:lnTo>
                  <a:pt x="382676" y="631248"/>
                </a:lnTo>
                <a:close/>
                <a:moveTo>
                  <a:pt x="1756650" y="318899"/>
                </a:moveTo>
                <a:lnTo>
                  <a:pt x="1756650" y="477608"/>
                </a:lnTo>
                <a:lnTo>
                  <a:pt x="1900650" y="477608"/>
                </a:lnTo>
                <a:lnTo>
                  <a:pt x="1900650" y="318899"/>
                </a:lnTo>
                <a:lnTo>
                  <a:pt x="1756650" y="318899"/>
                </a:lnTo>
                <a:close/>
                <a:moveTo>
                  <a:pt x="1470038" y="318899"/>
                </a:moveTo>
                <a:lnTo>
                  <a:pt x="1470038" y="477608"/>
                </a:lnTo>
                <a:lnTo>
                  <a:pt x="1614038" y="477608"/>
                </a:lnTo>
                <a:lnTo>
                  <a:pt x="1614038" y="318899"/>
                </a:lnTo>
                <a:lnTo>
                  <a:pt x="1470038" y="318899"/>
                </a:lnTo>
                <a:close/>
                <a:moveTo>
                  <a:pt x="1183427" y="318899"/>
                </a:moveTo>
                <a:lnTo>
                  <a:pt x="1183427" y="477608"/>
                </a:lnTo>
                <a:lnTo>
                  <a:pt x="1327427" y="477608"/>
                </a:lnTo>
                <a:lnTo>
                  <a:pt x="1327427" y="318899"/>
                </a:lnTo>
                <a:lnTo>
                  <a:pt x="1183427" y="318899"/>
                </a:lnTo>
                <a:close/>
                <a:moveTo>
                  <a:pt x="896816" y="318899"/>
                </a:moveTo>
                <a:lnTo>
                  <a:pt x="896816" y="477608"/>
                </a:lnTo>
                <a:lnTo>
                  <a:pt x="1040816" y="477608"/>
                </a:lnTo>
                <a:lnTo>
                  <a:pt x="1040816" y="318899"/>
                </a:lnTo>
                <a:lnTo>
                  <a:pt x="896816" y="318899"/>
                </a:lnTo>
                <a:close/>
                <a:moveTo>
                  <a:pt x="1190618" y="0"/>
                </a:moveTo>
                <a:lnTo>
                  <a:pt x="1271830" y="0"/>
                </a:lnTo>
                <a:lnTo>
                  <a:pt x="1308266" y="193836"/>
                </a:lnTo>
                <a:lnTo>
                  <a:pt x="1977660" y="193836"/>
                </a:lnTo>
                <a:lnTo>
                  <a:pt x="2138144" y="525639"/>
                </a:lnTo>
                <a:lnTo>
                  <a:pt x="2421400" y="525639"/>
                </a:lnTo>
                <a:lnTo>
                  <a:pt x="2750195" y="950920"/>
                </a:lnTo>
                <a:lnTo>
                  <a:pt x="3261500" y="937238"/>
                </a:lnTo>
                <a:cubicBezTo>
                  <a:pt x="3244841" y="1097170"/>
                  <a:pt x="3172191" y="1230845"/>
                  <a:pt x="3089450" y="1364888"/>
                </a:cubicBezTo>
                <a:lnTo>
                  <a:pt x="88044" y="1364888"/>
                </a:lnTo>
                <a:cubicBezTo>
                  <a:pt x="35437" y="1251413"/>
                  <a:pt x="-11245" y="1137942"/>
                  <a:pt x="2399" y="1024450"/>
                </a:cubicBezTo>
                <a:lnTo>
                  <a:pt x="197767" y="1019222"/>
                </a:lnTo>
                <a:lnTo>
                  <a:pt x="321162" y="525639"/>
                </a:lnTo>
                <a:lnTo>
                  <a:pt x="681951" y="525639"/>
                </a:lnTo>
                <a:lnTo>
                  <a:pt x="764901" y="193836"/>
                </a:lnTo>
                <a:lnTo>
                  <a:pt x="930048" y="193836"/>
                </a:lnTo>
                <a:lnTo>
                  <a:pt x="966373" y="588"/>
                </a:lnTo>
                <a:lnTo>
                  <a:pt x="1047585" y="588"/>
                </a:lnTo>
                <a:lnTo>
                  <a:pt x="1083910" y="193836"/>
                </a:lnTo>
                <a:lnTo>
                  <a:pt x="1154183" y="193836"/>
                </a:lnTo>
                <a:lnTo>
                  <a:pt x="1190618" y="0"/>
                </a:lnTo>
                <a:close/>
              </a:path>
            </a:pathLst>
          </a:cu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1" name="Freeform 53"/>
          <p:cNvSpPr/>
          <p:nvPr/>
        </p:nvSpPr>
        <p:spPr>
          <a:xfrm>
            <a:off x="6689880" y="4068720"/>
            <a:ext cx="382320" cy="393840"/>
          </a:xfrm>
          <a:custGeom>
            <a:avLst/>
            <a:gdLst/>
            <a:ahLst/>
            <a:rect l="l" t="t" r="r" b="b"/>
            <a:pathLst>
              <a:path w="2296594" h="2354614">
                <a:moveTo>
                  <a:pt x="2279828" y="1747911"/>
                </a:moveTo>
                <a:lnTo>
                  <a:pt x="1827734" y="1826397"/>
                </a:lnTo>
                <a:cubicBezTo>
                  <a:pt x="1873911" y="1907728"/>
                  <a:pt x="1985925" y="2047581"/>
                  <a:pt x="1955292" y="2095993"/>
                </a:cubicBezTo>
                <a:cubicBezTo>
                  <a:pt x="1897354" y="2139325"/>
                  <a:pt x="1773581" y="2007092"/>
                  <a:pt x="1682725" y="1962642"/>
                </a:cubicBezTo>
                <a:lnTo>
                  <a:pt x="1528801" y="2354614"/>
                </a:lnTo>
                <a:lnTo>
                  <a:pt x="1380670" y="2120909"/>
                </a:lnTo>
                <a:lnTo>
                  <a:pt x="1495730" y="1788220"/>
                </a:lnTo>
                <a:lnTo>
                  <a:pt x="856016" y="1302141"/>
                </a:lnTo>
                <a:lnTo>
                  <a:pt x="415139" y="2322305"/>
                </a:lnTo>
                <a:lnTo>
                  <a:pt x="293372" y="2052938"/>
                </a:lnTo>
                <a:cubicBezTo>
                  <a:pt x="369114" y="1624466"/>
                  <a:pt x="437192" y="1303314"/>
                  <a:pt x="512934" y="874842"/>
                </a:cubicBezTo>
                <a:cubicBezTo>
                  <a:pt x="317583" y="650129"/>
                  <a:pt x="-71270" y="102295"/>
                  <a:pt x="11355" y="5598"/>
                </a:cubicBezTo>
                <a:cubicBezTo>
                  <a:pt x="111253" y="-52136"/>
                  <a:pt x="623957" y="350637"/>
                  <a:pt x="840899" y="570880"/>
                </a:cubicBezTo>
                <a:lnTo>
                  <a:pt x="2041628" y="514690"/>
                </a:lnTo>
                <a:lnTo>
                  <a:pt x="2296594" y="662822"/>
                </a:lnTo>
                <a:lnTo>
                  <a:pt x="1209417" y="996610"/>
                </a:lnTo>
                <a:lnTo>
                  <a:pt x="1676705" y="1608616"/>
                </a:lnTo>
                <a:cubicBezTo>
                  <a:pt x="1795450" y="1589109"/>
                  <a:pt x="2095119" y="1557409"/>
                  <a:pt x="2095119" y="1557409"/>
                </a:cubicBezTo>
              </a:path>
            </a:pathLst>
          </a:cu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2" name="Title 1"/>
          <p:cNvSpPr/>
          <p:nvPr/>
        </p:nvSpPr>
        <p:spPr>
          <a:xfrm>
            <a:off x="5927760" y="1798560"/>
            <a:ext cx="2124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Sales Chart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3" name="TextBox 90"/>
          <p:cNvSpPr/>
          <p:nvPr/>
        </p:nvSpPr>
        <p:spPr>
          <a:xfrm>
            <a:off x="5927760" y="2082960"/>
            <a:ext cx="5672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olor amet, elit, sed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684" name="Chart 7"/>
          <p:cNvGraphicFramePr/>
          <p:nvPr/>
        </p:nvGraphicFramePr>
        <p:xfrm>
          <a:off x="6291360" y="3656160"/>
          <a:ext cx="1179360" cy="12189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685" name="Char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91360" y="3656160"/>
                    <a:ext cx="1179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3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Line Chart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graphicFrame>
        <p:nvGraphicFramePr>
          <p:cNvPr id="1687" name="Chart 3"/>
          <p:cNvGraphicFramePr/>
          <p:nvPr/>
        </p:nvGraphicFramePr>
        <p:xfrm>
          <a:off x="685800" y="3348000"/>
          <a:ext cx="10820520" cy="30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8" name="Char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48000"/>
                    <a:ext cx="1082052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9" name="Freeform: Shape 31"/>
          <p:cNvSpPr/>
          <p:nvPr/>
        </p:nvSpPr>
        <p:spPr>
          <a:xfrm flipV="1">
            <a:off x="5711760" y="331956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0" name="Rectangle 5"/>
          <p:cNvSpPr/>
          <p:nvPr/>
        </p:nvSpPr>
        <p:spPr>
          <a:xfrm>
            <a:off x="5843520" y="334476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1" name="Freeform: Shape 33"/>
          <p:cNvSpPr/>
          <p:nvPr/>
        </p:nvSpPr>
        <p:spPr>
          <a:xfrm flipV="1">
            <a:off x="9964800" y="314964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2" name="Rectangle 7"/>
          <p:cNvSpPr/>
          <p:nvPr/>
        </p:nvSpPr>
        <p:spPr>
          <a:xfrm>
            <a:off x="10096560" y="317484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3" name="Rectangle 20"/>
          <p:cNvSpPr/>
          <p:nvPr/>
        </p:nvSpPr>
        <p:spPr>
          <a:xfrm>
            <a:off x="507960" y="1911240"/>
            <a:ext cx="195480" cy="19368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4" name="Title 1"/>
          <p:cNvSpPr/>
          <p:nvPr/>
        </p:nvSpPr>
        <p:spPr>
          <a:xfrm>
            <a:off x="73008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5" name="TextBox 22"/>
          <p:cNvSpPr/>
          <p:nvPr/>
        </p:nvSpPr>
        <p:spPr>
          <a:xfrm>
            <a:off x="730080" y="2209680"/>
            <a:ext cx="250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6" name="Rectangle 25"/>
          <p:cNvSpPr/>
          <p:nvPr/>
        </p:nvSpPr>
        <p:spPr>
          <a:xfrm>
            <a:off x="3324240" y="1911240"/>
            <a:ext cx="193680" cy="19368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7" name="Title 1"/>
          <p:cNvSpPr/>
          <p:nvPr/>
        </p:nvSpPr>
        <p:spPr>
          <a:xfrm>
            <a:off x="354492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8" name="TextBox 27"/>
          <p:cNvSpPr/>
          <p:nvPr/>
        </p:nvSpPr>
        <p:spPr>
          <a:xfrm>
            <a:off x="3544920" y="2209680"/>
            <a:ext cx="2508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9" name="Rectangle 42"/>
          <p:cNvSpPr/>
          <p:nvPr/>
        </p:nvSpPr>
        <p:spPr>
          <a:xfrm>
            <a:off x="6138720" y="1911240"/>
            <a:ext cx="193680" cy="193680"/>
          </a:xfrm>
          <a:prstGeom prst="rect">
            <a:avLst/>
          </a:pr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0" name="Title 1"/>
          <p:cNvSpPr/>
          <p:nvPr/>
        </p:nvSpPr>
        <p:spPr>
          <a:xfrm>
            <a:off x="636120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1" name="TextBox 44"/>
          <p:cNvSpPr/>
          <p:nvPr/>
        </p:nvSpPr>
        <p:spPr>
          <a:xfrm>
            <a:off x="6361200" y="2209680"/>
            <a:ext cx="2506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2" name="Rectangle 45"/>
          <p:cNvSpPr/>
          <p:nvPr/>
        </p:nvSpPr>
        <p:spPr>
          <a:xfrm>
            <a:off x="8953560" y="1911240"/>
            <a:ext cx="195120" cy="193680"/>
          </a:xfrm>
          <a:prstGeom prst="rect">
            <a:avLst/>
          </a:pr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3" name="Title 1"/>
          <p:cNvSpPr/>
          <p:nvPr/>
        </p:nvSpPr>
        <p:spPr>
          <a:xfrm>
            <a:off x="917568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4" name="TextBox 47"/>
          <p:cNvSpPr/>
          <p:nvPr/>
        </p:nvSpPr>
        <p:spPr>
          <a:xfrm>
            <a:off x="9175680" y="2209680"/>
            <a:ext cx="250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5" name="Freeform: Shape 31"/>
          <p:cNvSpPr/>
          <p:nvPr/>
        </p:nvSpPr>
        <p:spPr>
          <a:xfrm flipV="1">
            <a:off x="2351160" y="462924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6" name="Rectangle 51"/>
          <p:cNvSpPr/>
          <p:nvPr/>
        </p:nvSpPr>
        <p:spPr>
          <a:xfrm>
            <a:off x="2482920" y="465444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7" name="Freeform: Shape 31"/>
          <p:cNvSpPr/>
          <p:nvPr/>
        </p:nvSpPr>
        <p:spPr>
          <a:xfrm flipV="1">
            <a:off x="3192480" y="331956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8" name="Rectangle 53"/>
          <p:cNvSpPr/>
          <p:nvPr/>
        </p:nvSpPr>
        <p:spPr>
          <a:xfrm>
            <a:off x="3324240" y="334476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0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1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Analysis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pic>
        <p:nvPicPr>
          <p:cNvPr id="1710" name="Group 50" descr=""/>
          <p:cNvPicPr/>
          <p:nvPr/>
        </p:nvPicPr>
        <p:blipFill>
          <a:blip r:embed="rId1"/>
          <a:stretch/>
        </p:blipFill>
        <p:spPr>
          <a:xfrm>
            <a:off x="706320" y="2316240"/>
            <a:ext cx="3537000" cy="3535200"/>
          </a:xfrm>
          <a:prstGeom prst="rect">
            <a:avLst/>
          </a:prstGeom>
          <a:ln w="0">
            <a:noFill/>
          </a:ln>
        </p:spPr>
      </p:pic>
      <p:sp>
        <p:nvSpPr>
          <p:cNvPr id="1711" name="Teardrop 55"/>
          <p:cNvSpPr/>
          <p:nvPr/>
        </p:nvSpPr>
        <p:spPr>
          <a:xfrm rot="8100000">
            <a:off x="1550160" y="1862280"/>
            <a:ext cx="1839960" cy="183960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2" name="Teardrop 56"/>
          <p:cNvSpPr/>
          <p:nvPr/>
        </p:nvSpPr>
        <p:spPr>
          <a:xfrm rot="18900000">
            <a:off x="1550880" y="447948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3" name="Teardrop 57"/>
          <p:cNvSpPr/>
          <p:nvPr/>
        </p:nvSpPr>
        <p:spPr>
          <a:xfrm rot="13500000">
            <a:off x="2852280" y="316944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4" name="Teardrop 58"/>
          <p:cNvSpPr/>
          <p:nvPr/>
        </p:nvSpPr>
        <p:spPr>
          <a:xfrm rot="2700000">
            <a:off x="248760" y="317016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5" name="TextBox 60"/>
          <p:cNvSpPr/>
          <p:nvPr/>
        </p:nvSpPr>
        <p:spPr>
          <a:xfrm>
            <a:off x="771840" y="3367080"/>
            <a:ext cx="79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S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6" name="TextBox 61"/>
          <p:cNvSpPr/>
          <p:nvPr/>
        </p:nvSpPr>
        <p:spPr>
          <a:xfrm>
            <a:off x="1840320" y="2058840"/>
            <a:ext cx="12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W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7" name="TextBox 62"/>
          <p:cNvSpPr/>
          <p:nvPr/>
        </p:nvSpPr>
        <p:spPr>
          <a:xfrm>
            <a:off x="3238200" y="33670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O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8" name="TextBox 63"/>
          <p:cNvSpPr/>
          <p:nvPr/>
        </p:nvSpPr>
        <p:spPr>
          <a:xfrm>
            <a:off x="2058120" y="4676760"/>
            <a:ext cx="8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T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9" name="TextBox 64"/>
          <p:cNvSpPr/>
          <p:nvPr/>
        </p:nvSpPr>
        <p:spPr>
          <a:xfrm>
            <a:off x="5070600" y="2878200"/>
            <a:ext cx="3431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0" name="TextBox 65"/>
          <p:cNvSpPr/>
          <p:nvPr/>
        </p:nvSpPr>
        <p:spPr>
          <a:xfrm>
            <a:off x="5070600" y="25099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Strength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1" name="TextBox 66"/>
          <p:cNvSpPr/>
          <p:nvPr/>
        </p:nvSpPr>
        <p:spPr>
          <a:xfrm>
            <a:off x="8502480" y="2878200"/>
            <a:ext cx="3432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2" name="TextBox 67"/>
          <p:cNvSpPr/>
          <p:nvPr/>
        </p:nvSpPr>
        <p:spPr>
          <a:xfrm>
            <a:off x="8502480" y="250992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Weaknes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3" name="TextBox 68"/>
          <p:cNvSpPr/>
          <p:nvPr/>
        </p:nvSpPr>
        <p:spPr>
          <a:xfrm>
            <a:off x="5078520" y="4749840"/>
            <a:ext cx="3432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4" name="TextBox 69"/>
          <p:cNvSpPr/>
          <p:nvPr/>
        </p:nvSpPr>
        <p:spPr>
          <a:xfrm>
            <a:off x="5078520" y="43797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Opportunitie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5" name="TextBox 70"/>
          <p:cNvSpPr/>
          <p:nvPr/>
        </p:nvSpPr>
        <p:spPr>
          <a:xfrm>
            <a:off x="8510760" y="4749840"/>
            <a:ext cx="3431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6" name="TextBox 71"/>
          <p:cNvSpPr/>
          <p:nvPr/>
        </p:nvSpPr>
        <p:spPr>
          <a:xfrm>
            <a:off x="8510760" y="43797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Thread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0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5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8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1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8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1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8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7" name="Group 83" descr=""/>
          <p:cNvPicPr/>
          <p:nvPr/>
        </p:nvPicPr>
        <p:blipFill>
          <a:blip r:embed="rId1"/>
          <a:stretch/>
        </p:blipFill>
        <p:spPr>
          <a:xfrm>
            <a:off x="609480" y="1566720"/>
            <a:ext cx="5767560" cy="3517920"/>
          </a:xfrm>
          <a:prstGeom prst="rect">
            <a:avLst/>
          </a:prstGeom>
          <a:ln w="0">
            <a:noFill/>
          </a:ln>
        </p:spPr>
      </p:pic>
      <p:sp>
        <p:nvSpPr>
          <p:cNvPr id="1728" name="Straight Connector 77"/>
          <p:cNvSpPr/>
          <p:nvPr/>
        </p:nvSpPr>
        <p:spPr>
          <a:xfrm>
            <a:off x="4270320" y="2517840"/>
            <a:ext cx="0" cy="588960"/>
          </a:xfrm>
          <a:prstGeom prst="line">
            <a:avLst/>
          </a:prstGeom>
          <a:ln w="28440">
            <a:solidFill>
              <a:srgbClr val="cad82a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9" name="Rectangle 78"/>
          <p:cNvSpPr/>
          <p:nvPr/>
        </p:nvSpPr>
        <p:spPr>
          <a:xfrm>
            <a:off x="3965400" y="1890720"/>
            <a:ext cx="632160" cy="631800"/>
          </a:xfrm>
          <a:prstGeom prst="rect">
            <a:avLst/>
          </a:pr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0" name="Rectangle 94"/>
          <p:cNvSpPr/>
          <p:nvPr/>
        </p:nvSpPr>
        <p:spPr>
          <a:xfrm>
            <a:off x="3840120" y="203832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United State Map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32" name="Title 1"/>
          <p:cNvSpPr/>
          <p:nvPr/>
        </p:nvSpPr>
        <p:spPr>
          <a:xfrm>
            <a:off x="2625840" y="5537160"/>
            <a:ext cx="18777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3" name="TextBox 99"/>
          <p:cNvSpPr/>
          <p:nvPr/>
        </p:nvSpPr>
        <p:spPr>
          <a:xfrm>
            <a:off x="262584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4" name="Rectangle 101"/>
          <p:cNvSpPr/>
          <p:nvPr/>
        </p:nvSpPr>
        <p:spPr>
          <a:xfrm>
            <a:off x="2443320" y="5594400"/>
            <a:ext cx="182520" cy="18252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5" name="Title 1"/>
          <p:cNvSpPr/>
          <p:nvPr/>
        </p:nvSpPr>
        <p:spPr>
          <a:xfrm>
            <a:off x="5056200" y="5537160"/>
            <a:ext cx="1878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6" name="TextBox 121"/>
          <p:cNvSpPr/>
          <p:nvPr/>
        </p:nvSpPr>
        <p:spPr>
          <a:xfrm>
            <a:off x="505620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7" name="Rectangle 122"/>
          <p:cNvSpPr/>
          <p:nvPr/>
        </p:nvSpPr>
        <p:spPr>
          <a:xfrm>
            <a:off x="4873680" y="5594400"/>
            <a:ext cx="182520" cy="18252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8" name="Title 1"/>
          <p:cNvSpPr/>
          <p:nvPr/>
        </p:nvSpPr>
        <p:spPr>
          <a:xfrm>
            <a:off x="7486560" y="5537160"/>
            <a:ext cx="1878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9" name="TextBox 124"/>
          <p:cNvSpPr/>
          <p:nvPr/>
        </p:nvSpPr>
        <p:spPr>
          <a:xfrm>
            <a:off x="748656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0" name="Rectangle 125"/>
          <p:cNvSpPr/>
          <p:nvPr/>
        </p:nvSpPr>
        <p:spPr>
          <a:xfrm>
            <a:off x="7304040" y="5594400"/>
            <a:ext cx="182520" cy="182520"/>
          </a:xfrm>
          <a:prstGeom prst="rect">
            <a:avLst/>
          </a:pr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1" name="Shape 1409"/>
          <p:cNvSpPr/>
          <p:nvPr/>
        </p:nvSpPr>
        <p:spPr>
          <a:xfrm>
            <a:off x="6119640" y="262404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20000" h="120000">
                <a:moveTo>
                  <a:pt x="30000" y="120000"/>
                </a:moveTo>
                <a:cubicBezTo>
                  <a:pt x="70000" y="120000"/>
                  <a:pt x="70000" y="120000"/>
                  <a:pt x="70000" y="120000"/>
                </a:cubicBezTo>
                <a:cubicBezTo>
                  <a:pt x="100000" y="80000"/>
                  <a:pt x="100000" y="80000"/>
                  <a:pt x="100000" y="80000"/>
                </a:cubicBezTo>
                <a:cubicBezTo>
                  <a:pt x="120000" y="53333"/>
                  <a:pt x="120000" y="53333"/>
                  <a:pt x="120000" y="53333"/>
                </a:cubicBezTo>
                <a:cubicBezTo>
                  <a:pt x="80000" y="26666"/>
                  <a:pt x="80000" y="26666"/>
                  <a:pt x="80000" y="26666"/>
                </a:cubicBezTo>
                <a:cubicBezTo>
                  <a:pt x="80000" y="26666"/>
                  <a:pt x="50000" y="0"/>
                  <a:pt x="40000" y="13333"/>
                </a:cubicBezTo>
                <a:cubicBezTo>
                  <a:pt x="40000" y="26666"/>
                  <a:pt x="0" y="93333"/>
                  <a:pt x="0" y="93333"/>
                </a:cubicBezTo>
                <a:lnTo>
                  <a:pt x="30000" y="120000"/>
                </a:lnTo>
                <a:close/>
              </a:path>
            </a:pathLst>
          </a:custGeom>
          <a:solidFill>
            <a:srgbClr val="d9d9d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1440" bIns="14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cxnSp>
        <p:nvCxnSpPr>
          <p:cNvPr id="1742" name="Shape 1428"/>
          <p:cNvCxnSpPr/>
          <p:nvPr/>
        </p:nvCxnSpPr>
        <p:spPr>
          <a:xfrm>
            <a:off x="3951000" y="2246040"/>
            <a:ext cx="1080" cy="1080"/>
          </a:xfrm>
          <a:prstGeom prst="straightConnector1">
            <a:avLst/>
          </a:prstGeom>
          <a:ln w="3240">
            <a:solidFill>
              <a:srgbClr val="000000"/>
            </a:solidFill>
            <a:miter/>
          </a:ln>
        </p:spPr>
      </p:cxnSp>
      <p:cxnSp>
        <p:nvCxnSpPr>
          <p:cNvPr id="1743" name="Shape 1429"/>
          <p:cNvCxnSpPr/>
          <p:nvPr/>
        </p:nvCxnSpPr>
        <p:spPr>
          <a:xfrm>
            <a:off x="3951000" y="2246040"/>
            <a:ext cx="1080" cy="1080"/>
          </a:xfrm>
          <a:prstGeom prst="straightConnector1">
            <a:avLst/>
          </a:prstGeom>
          <a:ln w="3240">
            <a:solidFill>
              <a:srgbClr val="ffffff"/>
            </a:solidFill>
            <a:miter/>
          </a:ln>
        </p:spPr>
      </p:cxnSp>
      <p:sp>
        <p:nvSpPr>
          <p:cNvPr id="1744" name="Straight Connector 65"/>
          <p:cNvSpPr/>
          <p:nvPr/>
        </p:nvSpPr>
        <p:spPr>
          <a:xfrm>
            <a:off x="1947960" y="2206800"/>
            <a:ext cx="0" cy="833400"/>
          </a:xfrm>
          <a:prstGeom prst="line">
            <a:avLst/>
          </a:prstGeom>
          <a:ln w="28440">
            <a:solidFill>
              <a:srgbClr val="cad82a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5" name="Rectangle 58"/>
          <p:cNvSpPr/>
          <p:nvPr/>
        </p:nvSpPr>
        <p:spPr>
          <a:xfrm>
            <a:off x="1631880" y="1573200"/>
            <a:ext cx="631800" cy="63180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6" name="Rectangle 81"/>
          <p:cNvSpPr/>
          <p:nvPr/>
        </p:nvSpPr>
        <p:spPr>
          <a:xfrm>
            <a:off x="1508040" y="171936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7" name="Straight Connector 79"/>
          <p:cNvSpPr/>
          <p:nvPr/>
        </p:nvSpPr>
        <p:spPr>
          <a:xfrm>
            <a:off x="3306600" y="3957480"/>
            <a:ext cx="0" cy="408240"/>
          </a:xfrm>
          <a:prstGeom prst="line">
            <a:avLst/>
          </a:prstGeom>
          <a:ln w="28440">
            <a:solidFill>
              <a:srgbClr val="cad82a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8" name="Rectangle 80"/>
          <p:cNvSpPr/>
          <p:nvPr/>
        </p:nvSpPr>
        <p:spPr>
          <a:xfrm>
            <a:off x="2990880" y="3321000"/>
            <a:ext cx="630360" cy="63180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9" name="Rectangle 95"/>
          <p:cNvSpPr/>
          <p:nvPr/>
        </p:nvSpPr>
        <p:spPr>
          <a:xfrm>
            <a:off x="2865600" y="346716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0" name="TextBox 82"/>
          <p:cNvSpPr/>
          <p:nvPr/>
        </p:nvSpPr>
        <p:spPr>
          <a:xfrm>
            <a:off x="6413400" y="2139840"/>
            <a:ext cx="5043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itah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euismod nonummy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751" name="Chart 7"/>
          <p:cNvGraphicFramePr/>
          <p:nvPr/>
        </p:nvGraphicFramePr>
        <p:xfrm>
          <a:off x="6362640" y="3333600"/>
          <a:ext cx="1579680" cy="1633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2" name="Char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62640" y="3333600"/>
                    <a:ext cx="15796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3" name="Rectangle 109"/>
          <p:cNvSpPr/>
          <p:nvPr/>
        </p:nvSpPr>
        <p:spPr>
          <a:xfrm>
            <a:off x="6750000" y="375300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7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4" name="Rectangle 111"/>
          <p:cNvSpPr/>
          <p:nvPr/>
        </p:nvSpPr>
        <p:spPr>
          <a:xfrm>
            <a:off x="6541920" y="4141800"/>
            <a:ext cx="122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755" name="Chart 7"/>
          <p:cNvGraphicFramePr/>
          <p:nvPr/>
        </p:nvGraphicFramePr>
        <p:xfrm>
          <a:off x="8182080" y="3333600"/>
          <a:ext cx="1577880" cy="16336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56" name="Char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82080" y="3333600"/>
                    <a:ext cx="15778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7" name="Rectangle 129"/>
          <p:cNvSpPr/>
          <p:nvPr/>
        </p:nvSpPr>
        <p:spPr>
          <a:xfrm>
            <a:off x="8569440" y="375300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4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8" name="Rectangle 130"/>
          <p:cNvSpPr/>
          <p:nvPr/>
        </p:nvSpPr>
        <p:spPr>
          <a:xfrm>
            <a:off x="8361360" y="41418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759" name="Chart 7"/>
          <p:cNvGraphicFramePr/>
          <p:nvPr/>
        </p:nvGraphicFramePr>
        <p:xfrm>
          <a:off x="10128240" y="3333600"/>
          <a:ext cx="1579680" cy="16336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760" name="Char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128240" y="3333600"/>
                    <a:ext cx="15796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1" name="Rectangle 133"/>
          <p:cNvSpPr/>
          <p:nvPr/>
        </p:nvSpPr>
        <p:spPr>
          <a:xfrm>
            <a:off x="10515600" y="375300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90%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62" name="Rectangle 134"/>
          <p:cNvSpPr/>
          <p:nvPr/>
        </p:nvSpPr>
        <p:spPr>
          <a:xfrm>
            <a:off x="10307520" y="414180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fill="hold">
                      <p:stCondLst>
                        <p:cond delay="0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6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9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2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8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2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7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5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Australia Map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764" name="Title 1"/>
          <p:cNvSpPr/>
          <p:nvPr/>
        </p:nvSpPr>
        <p:spPr>
          <a:xfrm>
            <a:off x="2751120" y="1490760"/>
            <a:ext cx="17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765" name="Group 23"/>
          <p:cNvGrpSpPr/>
          <p:nvPr/>
        </p:nvGrpSpPr>
        <p:grpSpPr>
          <a:xfrm>
            <a:off x="1512720" y="2411280"/>
            <a:ext cx="4314960" cy="4070520"/>
            <a:chOff x="1512720" y="2411280"/>
            <a:chExt cx="4314960" cy="4070520"/>
          </a:xfrm>
        </p:grpSpPr>
        <p:sp>
          <p:nvSpPr>
            <p:cNvPr id="1766" name="Freeform 1"/>
            <p:cNvSpPr/>
            <p:nvPr/>
          </p:nvSpPr>
          <p:spPr>
            <a:xfrm>
              <a:off x="1512720" y="2800800"/>
              <a:ext cx="1704600" cy="2507400"/>
            </a:xfrm>
            <a:custGeom>
              <a:avLst/>
              <a:gdLst/>
              <a:ahLst/>
              <a:rect l="l" t="t" r="r" b="b"/>
              <a:pathLst>
                <a:path w="7738" h="11380">
                  <a:moveTo>
                    <a:pt x="7713" y="576"/>
                  </a:moveTo>
                  <a:lnTo>
                    <a:pt x="7713" y="576"/>
                  </a:lnTo>
                  <a:cubicBezTo>
                    <a:pt x="7684" y="559"/>
                    <a:pt x="7649" y="553"/>
                    <a:pt x="7614" y="541"/>
                  </a:cubicBezTo>
                  <a:cubicBezTo>
                    <a:pt x="7574" y="535"/>
                    <a:pt x="7556" y="512"/>
                    <a:pt x="7516" y="512"/>
                  </a:cubicBezTo>
                  <a:cubicBezTo>
                    <a:pt x="7498" y="512"/>
                    <a:pt x="7486" y="518"/>
                    <a:pt x="7463" y="518"/>
                  </a:cubicBezTo>
                  <a:cubicBezTo>
                    <a:pt x="7463" y="547"/>
                    <a:pt x="7469" y="570"/>
                    <a:pt x="7486" y="593"/>
                  </a:cubicBezTo>
                  <a:cubicBezTo>
                    <a:pt x="7481" y="599"/>
                    <a:pt x="7481" y="599"/>
                    <a:pt x="7481" y="599"/>
                  </a:cubicBezTo>
                  <a:cubicBezTo>
                    <a:pt x="7469" y="599"/>
                    <a:pt x="7463" y="593"/>
                    <a:pt x="7451" y="588"/>
                  </a:cubicBezTo>
                  <a:cubicBezTo>
                    <a:pt x="7440" y="593"/>
                    <a:pt x="7440" y="593"/>
                    <a:pt x="7440" y="593"/>
                  </a:cubicBezTo>
                  <a:cubicBezTo>
                    <a:pt x="7440" y="599"/>
                    <a:pt x="7446" y="605"/>
                    <a:pt x="7451" y="611"/>
                  </a:cubicBezTo>
                  <a:cubicBezTo>
                    <a:pt x="7446" y="622"/>
                    <a:pt x="7446" y="622"/>
                    <a:pt x="7446" y="622"/>
                  </a:cubicBezTo>
                  <a:cubicBezTo>
                    <a:pt x="7428" y="617"/>
                    <a:pt x="7416" y="605"/>
                    <a:pt x="7405" y="593"/>
                  </a:cubicBezTo>
                  <a:cubicBezTo>
                    <a:pt x="7393" y="599"/>
                    <a:pt x="7393" y="599"/>
                    <a:pt x="7393" y="599"/>
                  </a:cubicBezTo>
                  <a:cubicBezTo>
                    <a:pt x="7393" y="622"/>
                    <a:pt x="7405" y="628"/>
                    <a:pt x="7405" y="652"/>
                  </a:cubicBezTo>
                  <a:cubicBezTo>
                    <a:pt x="7405" y="657"/>
                    <a:pt x="7399" y="657"/>
                    <a:pt x="7393" y="657"/>
                  </a:cubicBezTo>
                  <a:cubicBezTo>
                    <a:pt x="7364" y="617"/>
                    <a:pt x="7364" y="617"/>
                    <a:pt x="7364" y="617"/>
                  </a:cubicBezTo>
                  <a:cubicBezTo>
                    <a:pt x="7347" y="640"/>
                    <a:pt x="7335" y="652"/>
                    <a:pt x="7335" y="681"/>
                  </a:cubicBezTo>
                  <a:cubicBezTo>
                    <a:pt x="7335" y="722"/>
                    <a:pt x="7376" y="826"/>
                    <a:pt x="7312" y="722"/>
                  </a:cubicBezTo>
                  <a:cubicBezTo>
                    <a:pt x="7300" y="751"/>
                    <a:pt x="7288" y="791"/>
                    <a:pt x="7288" y="815"/>
                  </a:cubicBezTo>
                  <a:cubicBezTo>
                    <a:pt x="7288" y="826"/>
                    <a:pt x="7300" y="855"/>
                    <a:pt x="7288" y="832"/>
                  </a:cubicBezTo>
                  <a:cubicBezTo>
                    <a:pt x="7259" y="785"/>
                    <a:pt x="7259" y="785"/>
                    <a:pt x="7259" y="785"/>
                  </a:cubicBezTo>
                  <a:cubicBezTo>
                    <a:pt x="7224" y="780"/>
                    <a:pt x="7195" y="756"/>
                    <a:pt x="7253" y="756"/>
                  </a:cubicBezTo>
                  <a:cubicBezTo>
                    <a:pt x="7277" y="756"/>
                    <a:pt x="7294" y="739"/>
                    <a:pt x="7294" y="716"/>
                  </a:cubicBezTo>
                  <a:cubicBezTo>
                    <a:pt x="7294" y="681"/>
                    <a:pt x="7277" y="663"/>
                    <a:pt x="7277" y="622"/>
                  </a:cubicBezTo>
                  <a:cubicBezTo>
                    <a:pt x="7277" y="593"/>
                    <a:pt x="7271" y="576"/>
                    <a:pt x="7283" y="553"/>
                  </a:cubicBezTo>
                  <a:cubicBezTo>
                    <a:pt x="7294" y="535"/>
                    <a:pt x="7318" y="529"/>
                    <a:pt x="7318" y="506"/>
                  </a:cubicBezTo>
                  <a:cubicBezTo>
                    <a:pt x="7318" y="454"/>
                    <a:pt x="7271" y="436"/>
                    <a:pt x="7230" y="413"/>
                  </a:cubicBezTo>
                  <a:cubicBezTo>
                    <a:pt x="7190" y="390"/>
                    <a:pt x="7178" y="372"/>
                    <a:pt x="7155" y="337"/>
                  </a:cubicBezTo>
                  <a:cubicBezTo>
                    <a:pt x="7149" y="320"/>
                    <a:pt x="7125" y="320"/>
                    <a:pt x="7125" y="308"/>
                  </a:cubicBezTo>
                  <a:cubicBezTo>
                    <a:pt x="7125" y="296"/>
                    <a:pt x="7131" y="296"/>
                    <a:pt x="7131" y="291"/>
                  </a:cubicBezTo>
                  <a:cubicBezTo>
                    <a:pt x="7131" y="250"/>
                    <a:pt x="7090" y="244"/>
                    <a:pt x="7056" y="221"/>
                  </a:cubicBezTo>
                  <a:cubicBezTo>
                    <a:pt x="7038" y="209"/>
                    <a:pt x="7027" y="198"/>
                    <a:pt x="7003" y="186"/>
                  </a:cubicBezTo>
                  <a:cubicBezTo>
                    <a:pt x="6986" y="174"/>
                    <a:pt x="6957" y="174"/>
                    <a:pt x="6957" y="157"/>
                  </a:cubicBezTo>
                  <a:cubicBezTo>
                    <a:pt x="6957" y="128"/>
                    <a:pt x="6957" y="99"/>
                    <a:pt x="6933" y="99"/>
                  </a:cubicBezTo>
                  <a:cubicBezTo>
                    <a:pt x="6904" y="99"/>
                    <a:pt x="6887" y="104"/>
                    <a:pt x="6858" y="104"/>
                  </a:cubicBezTo>
                  <a:cubicBezTo>
                    <a:pt x="6799" y="104"/>
                    <a:pt x="6764" y="58"/>
                    <a:pt x="6747" y="0"/>
                  </a:cubicBezTo>
                  <a:cubicBezTo>
                    <a:pt x="6724" y="11"/>
                    <a:pt x="6712" y="23"/>
                    <a:pt x="6695" y="35"/>
                  </a:cubicBezTo>
                  <a:cubicBezTo>
                    <a:pt x="6648" y="17"/>
                    <a:pt x="6648" y="17"/>
                    <a:pt x="6648" y="17"/>
                  </a:cubicBezTo>
                  <a:cubicBezTo>
                    <a:pt x="6636" y="17"/>
                    <a:pt x="6636" y="17"/>
                    <a:pt x="6636" y="17"/>
                  </a:cubicBezTo>
                  <a:cubicBezTo>
                    <a:pt x="6666" y="58"/>
                    <a:pt x="6677" y="87"/>
                    <a:pt x="6712" y="104"/>
                  </a:cubicBezTo>
                  <a:cubicBezTo>
                    <a:pt x="6706" y="116"/>
                    <a:pt x="6706" y="116"/>
                    <a:pt x="6706" y="116"/>
                  </a:cubicBezTo>
                  <a:cubicBezTo>
                    <a:pt x="6689" y="116"/>
                    <a:pt x="6677" y="116"/>
                    <a:pt x="6654" y="116"/>
                  </a:cubicBezTo>
                  <a:cubicBezTo>
                    <a:pt x="6654" y="163"/>
                    <a:pt x="6631" y="192"/>
                    <a:pt x="6590" y="221"/>
                  </a:cubicBezTo>
                  <a:cubicBezTo>
                    <a:pt x="6572" y="227"/>
                    <a:pt x="6572" y="250"/>
                    <a:pt x="6555" y="250"/>
                  </a:cubicBezTo>
                  <a:cubicBezTo>
                    <a:pt x="6508" y="250"/>
                    <a:pt x="6508" y="192"/>
                    <a:pt x="6508" y="145"/>
                  </a:cubicBezTo>
                  <a:cubicBezTo>
                    <a:pt x="6508" y="81"/>
                    <a:pt x="6514" y="133"/>
                    <a:pt x="6468" y="157"/>
                  </a:cubicBezTo>
                  <a:cubicBezTo>
                    <a:pt x="6450" y="168"/>
                    <a:pt x="6421" y="163"/>
                    <a:pt x="6421" y="186"/>
                  </a:cubicBezTo>
                  <a:cubicBezTo>
                    <a:pt x="6421" y="203"/>
                    <a:pt x="6450" y="203"/>
                    <a:pt x="6456" y="221"/>
                  </a:cubicBezTo>
                  <a:cubicBezTo>
                    <a:pt x="6427" y="227"/>
                    <a:pt x="6415" y="250"/>
                    <a:pt x="6392" y="250"/>
                  </a:cubicBezTo>
                  <a:cubicBezTo>
                    <a:pt x="6322" y="250"/>
                    <a:pt x="6386" y="168"/>
                    <a:pt x="6305" y="256"/>
                  </a:cubicBezTo>
                  <a:cubicBezTo>
                    <a:pt x="6310" y="279"/>
                    <a:pt x="6310" y="279"/>
                    <a:pt x="6310" y="279"/>
                  </a:cubicBezTo>
                  <a:cubicBezTo>
                    <a:pt x="6299" y="296"/>
                    <a:pt x="6275" y="308"/>
                    <a:pt x="6275" y="331"/>
                  </a:cubicBezTo>
                  <a:cubicBezTo>
                    <a:pt x="6275" y="349"/>
                    <a:pt x="6287" y="355"/>
                    <a:pt x="6287" y="372"/>
                  </a:cubicBezTo>
                  <a:cubicBezTo>
                    <a:pt x="6287" y="396"/>
                    <a:pt x="6252" y="390"/>
                    <a:pt x="6229" y="396"/>
                  </a:cubicBezTo>
                  <a:cubicBezTo>
                    <a:pt x="6235" y="413"/>
                    <a:pt x="6235" y="425"/>
                    <a:pt x="6241" y="442"/>
                  </a:cubicBezTo>
                  <a:cubicBezTo>
                    <a:pt x="6235" y="436"/>
                    <a:pt x="6235" y="436"/>
                    <a:pt x="6235" y="436"/>
                  </a:cubicBezTo>
                  <a:cubicBezTo>
                    <a:pt x="6223" y="419"/>
                    <a:pt x="6206" y="419"/>
                    <a:pt x="6200" y="401"/>
                  </a:cubicBezTo>
                  <a:cubicBezTo>
                    <a:pt x="6188" y="390"/>
                    <a:pt x="6194" y="361"/>
                    <a:pt x="6171" y="361"/>
                  </a:cubicBezTo>
                  <a:cubicBezTo>
                    <a:pt x="6095" y="361"/>
                    <a:pt x="6112" y="483"/>
                    <a:pt x="6112" y="285"/>
                  </a:cubicBezTo>
                  <a:lnTo>
                    <a:pt x="6118" y="279"/>
                  </a:lnTo>
                  <a:cubicBezTo>
                    <a:pt x="6118" y="256"/>
                    <a:pt x="6095" y="256"/>
                    <a:pt x="6078" y="244"/>
                  </a:cubicBezTo>
                  <a:cubicBezTo>
                    <a:pt x="6078" y="349"/>
                    <a:pt x="6078" y="349"/>
                    <a:pt x="6078" y="349"/>
                  </a:cubicBezTo>
                  <a:cubicBezTo>
                    <a:pt x="6078" y="372"/>
                    <a:pt x="6078" y="384"/>
                    <a:pt x="6072" y="407"/>
                  </a:cubicBezTo>
                  <a:cubicBezTo>
                    <a:pt x="6037" y="407"/>
                    <a:pt x="6008" y="407"/>
                    <a:pt x="5990" y="442"/>
                  </a:cubicBezTo>
                  <a:cubicBezTo>
                    <a:pt x="5984" y="436"/>
                    <a:pt x="5984" y="430"/>
                    <a:pt x="5979" y="430"/>
                  </a:cubicBezTo>
                  <a:cubicBezTo>
                    <a:pt x="5979" y="419"/>
                    <a:pt x="5979" y="419"/>
                    <a:pt x="5979" y="419"/>
                  </a:cubicBezTo>
                  <a:cubicBezTo>
                    <a:pt x="5955" y="419"/>
                    <a:pt x="5955" y="419"/>
                    <a:pt x="5955" y="419"/>
                  </a:cubicBezTo>
                  <a:cubicBezTo>
                    <a:pt x="5949" y="419"/>
                    <a:pt x="5944" y="413"/>
                    <a:pt x="5938" y="413"/>
                  </a:cubicBezTo>
                  <a:cubicBezTo>
                    <a:pt x="5932" y="413"/>
                    <a:pt x="5932" y="419"/>
                    <a:pt x="5926" y="419"/>
                  </a:cubicBezTo>
                  <a:cubicBezTo>
                    <a:pt x="5932" y="454"/>
                    <a:pt x="5880" y="459"/>
                    <a:pt x="5880" y="494"/>
                  </a:cubicBezTo>
                  <a:cubicBezTo>
                    <a:pt x="5880" y="529"/>
                    <a:pt x="5915" y="547"/>
                    <a:pt x="5944" y="547"/>
                  </a:cubicBezTo>
                  <a:cubicBezTo>
                    <a:pt x="5944" y="553"/>
                    <a:pt x="5949" y="553"/>
                    <a:pt x="5949" y="559"/>
                  </a:cubicBezTo>
                  <a:cubicBezTo>
                    <a:pt x="5949" y="576"/>
                    <a:pt x="5938" y="588"/>
                    <a:pt x="5926" y="599"/>
                  </a:cubicBezTo>
                  <a:cubicBezTo>
                    <a:pt x="5932" y="611"/>
                    <a:pt x="5932" y="611"/>
                    <a:pt x="5932" y="611"/>
                  </a:cubicBezTo>
                  <a:cubicBezTo>
                    <a:pt x="5938" y="611"/>
                    <a:pt x="5938" y="617"/>
                    <a:pt x="5944" y="617"/>
                  </a:cubicBezTo>
                  <a:cubicBezTo>
                    <a:pt x="5949" y="617"/>
                    <a:pt x="5955" y="611"/>
                    <a:pt x="5961" y="605"/>
                  </a:cubicBezTo>
                  <a:cubicBezTo>
                    <a:pt x="5967" y="611"/>
                    <a:pt x="5973" y="622"/>
                    <a:pt x="5979" y="622"/>
                  </a:cubicBezTo>
                  <a:cubicBezTo>
                    <a:pt x="5990" y="622"/>
                    <a:pt x="5996" y="628"/>
                    <a:pt x="6002" y="628"/>
                  </a:cubicBezTo>
                  <a:cubicBezTo>
                    <a:pt x="5990" y="634"/>
                    <a:pt x="5984" y="640"/>
                    <a:pt x="5984" y="652"/>
                  </a:cubicBezTo>
                  <a:cubicBezTo>
                    <a:pt x="5984" y="669"/>
                    <a:pt x="6008" y="675"/>
                    <a:pt x="6025" y="692"/>
                  </a:cubicBezTo>
                  <a:cubicBezTo>
                    <a:pt x="6002" y="698"/>
                    <a:pt x="5990" y="710"/>
                    <a:pt x="5967" y="710"/>
                  </a:cubicBezTo>
                  <a:cubicBezTo>
                    <a:pt x="5932" y="710"/>
                    <a:pt x="5915" y="687"/>
                    <a:pt x="5886" y="675"/>
                  </a:cubicBezTo>
                  <a:cubicBezTo>
                    <a:pt x="5886" y="687"/>
                    <a:pt x="5880" y="692"/>
                    <a:pt x="5874" y="704"/>
                  </a:cubicBezTo>
                  <a:cubicBezTo>
                    <a:pt x="5816" y="675"/>
                    <a:pt x="5816" y="570"/>
                    <a:pt x="5810" y="687"/>
                  </a:cubicBezTo>
                  <a:cubicBezTo>
                    <a:pt x="5786" y="687"/>
                    <a:pt x="5769" y="687"/>
                    <a:pt x="5746" y="687"/>
                  </a:cubicBezTo>
                  <a:cubicBezTo>
                    <a:pt x="5746" y="698"/>
                    <a:pt x="5746" y="704"/>
                    <a:pt x="5746" y="716"/>
                  </a:cubicBezTo>
                  <a:cubicBezTo>
                    <a:pt x="5769" y="716"/>
                    <a:pt x="5769" y="716"/>
                    <a:pt x="5769" y="716"/>
                  </a:cubicBezTo>
                  <a:cubicBezTo>
                    <a:pt x="5786" y="716"/>
                    <a:pt x="5798" y="704"/>
                    <a:pt x="5821" y="704"/>
                  </a:cubicBezTo>
                  <a:cubicBezTo>
                    <a:pt x="5798" y="722"/>
                    <a:pt x="5786" y="733"/>
                    <a:pt x="5763" y="739"/>
                  </a:cubicBezTo>
                  <a:cubicBezTo>
                    <a:pt x="5769" y="762"/>
                    <a:pt x="5786" y="768"/>
                    <a:pt x="5810" y="768"/>
                  </a:cubicBezTo>
                  <a:cubicBezTo>
                    <a:pt x="5821" y="768"/>
                    <a:pt x="5833" y="756"/>
                    <a:pt x="5845" y="756"/>
                  </a:cubicBezTo>
                  <a:cubicBezTo>
                    <a:pt x="5839" y="774"/>
                    <a:pt x="5839" y="785"/>
                    <a:pt x="5839" y="809"/>
                  </a:cubicBezTo>
                  <a:cubicBezTo>
                    <a:pt x="5839" y="838"/>
                    <a:pt x="5932" y="919"/>
                    <a:pt x="5909" y="914"/>
                  </a:cubicBezTo>
                  <a:cubicBezTo>
                    <a:pt x="5862" y="896"/>
                    <a:pt x="5874" y="867"/>
                    <a:pt x="5839" y="867"/>
                  </a:cubicBezTo>
                  <a:cubicBezTo>
                    <a:pt x="5827" y="867"/>
                    <a:pt x="5821" y="879"/>
                    <a:pt x="5816" y="885"/>
                  </a:cubicBezTo>
                  <a:cubicBezTo>
                    <a:pt x="5792" y="873"/>
                    <a:pt x="5775" y="873"/>
                    <a:pt x="5769" y="855"/>
                  </a:cubicBezTo>
                  <a:cubicBezTo>
                    <a:pt x="5757" y="838"/>
                    <a:pt x="5775" y="815"/>
                    <a:pt x="5763" y="797"/>
                  </a:cubicBezTo>
                  <a:cubicBezTo>
                    <a:pt x="5746" y="785"/>
                    <a:pt x="5728" y="803"/>
                    <a:pt x="5711" y="797"/>
                  </a:cubicBezTo>
                  <a:cubicBezTo>
                    <a:pt x="5699" y="791"/>
                    <a:pt x="5699" y="780"/>
                    <a:pt x="5687" y="780"/>
                  </a:cubicBezTo>
                  <a:cubicBezTo>
                    <a:pt x="5658" y="780"/>
                    <a:pt x="5653" y="815"/>
                    <a:pt x="5629" y="826"/>
                  </a:cubicBezTo>
                  <a:cubicBezTo>
                    <a:pt x="5641" y="850"/>
                    <a:pt x="5641" y="850"/>
                    <a:pt x="5641" y="850"/>
                  </a:cubicBezTo>
                  <a:cubicBezTo>
                    <a:pt x="5629" y="867"/>
                    <a:pt x="5618" y="879"/>
                    <a:pt x="5594" y="879"/>
                  </a:cubicBezTo>
                  <a:cubicBezTo>
                    <a:pt x="5583" y="879"/>
                    <a:pt x="5571" y="867"/>
                    <a:pt x="5565" y="855"/>
                  </a:cubicBezTo>
                  <a:cubicBezTo>
                    <a:pt x="5554" y="879"/>
                    <a:pt x="5519" y="879"/>
                    <a:pt x="5519" y="908"/>
                  </a:cubicBezTo>
                  <a:cubicBezTo>
                    <a:pt x="5519" y="914"/>
                    <a:pt x="5524" y="919"/>
                    <a:pt x="5530" y="925"/>
                  </a:cubicBezTo>
                  <a:cubicBezTo>
                    <a:pt x="5507" y="943"/>
                    <a:pt x="5501" y="972"/>
                    <a:pt x="5501" y="1001"/>
                  </a:cubicBezTo>
                  <a:cubicBezTo>
                    <a:pt x="5501" y="1018"/>
                    <a:pt x="5513" y="1030"/>
                    <a:pt x="5530" y="1030"/>
                  </a:cubicBezTo>
                  <a:cubicBezTo>
                    <a:pt x="5530" y="1030"/>
                    <a:pt x="5536" y="1030"/>
                    <a:pt x="5542" y="1030"/>
                  </a:cubicBezTo>
                  <a:cubicBezTo>
                    <a:pt x="5554" y="1030"/>
                    <a:pt x="5554" y="1030"/>
                    <a:pt x="5554" y="1030"/>
                  </a:cubicBezTo>
                  <a:cubicBezTo>
                    <a:pt x="5554" y="1042"/>
                    <a:pt x="5554" y="1053"/>
                    <a:pt x="5554" y="1071"/>
                  </a:cubicBezTo>
                  <a:cubicBezTo>
                    <a:pt x="5618" y="1042"/>
                    <a:pt x="5629" y="1001"/>
                    <a:pt x="5676" y="954"/>
                  </a:cubicBezTo>
                  <a:cubicBezTo>
                    <a:pt x="5676" y="1013"/>
                    <a:pt x="5676" y="1013"/>
                    <a:pt x="5676" y="1013"/>
                  </a:cubicBezTo>
                  <a:cubicBezTo>
                    <a:pt x="5676" y="1048"/>
                    <a:pt x="5612" y="1048"/>
                    <a:pt x="5612" y="1088"/>
                  </a:cubicBezTo>
                  <a:cubicBezTo>
                    <a:pt x="5612" y="1094"/>
                    <a:pt x="5618" y="1100"/>
                    <a:pt x="5618" y="1111"/>
                  </a:cubicBezTo>
                  <a:cubicBezTo>
                    <a:pt x="5606" y="1117"/>
                    <a:pt x="5594" y="1123"/>
                    <a:pt x="5594" y="1135"/>
                  </a:cubicBezTo>
                  <a:cubicBezTo>
                    <a:pt x="5594" y="1152"/>
                    <a:pt x="5606" y="1158"/>
                    <a:pt x="5606" y="1176"/>
                  </a:cubicBezTo>
                  <a:cubicBezTo>
                    <a:pt x="5606" y="1193"/>
                    <a:pt x="5583" y="1193"/>
                    <a:pt x="5571" y="1211"/>
                  </a:cubicBezTo>
                  <a:cubicBezTo>
                    <a:pt x="5554" y="1205"/>
                    <a:pt x="5548" y="1199"/>
                    <a:pt x="5530" y="1193"/>
                  </a:cubicBezTo>
                  <a:cubicBezTo>
                    <a:pt x="5524" y="1228"/>
                    <a:pt x="5524" y="1245"/>
                    <a:pt x="5513" y="1274"/>
                  </a:cubicBezTo>
                  <a:cubicBezTo>
                    <a:pt x="5524" y="1280"/>
                    <a:pt x="5530" y="1286"/>
                    <a:pt x="5542" y="1286"/>
                  </a:cubicBezTo>
                  <a:cubicBezTo>
                    <a:pt x="5554" y="1286"/>
                    <a:pt x="5559" y="1280"/>
                    <a:pt x="5571" y="1280"/>
                  </a:cubicBezTo>
                  <a:cubicBezTo>
                    <a:pt x="5589" y="1280"/>
                    <a:pt x="5757" y="1333"/>
                    <a:pt x="5723" y="1344"/>
                  </a:cubicBezTo>
                  <a:cubicBezTo>
                    <a:pt x="5658" y="1327"/>
                    <a:pt x="5623" y="1344"/>
                    <a:pt x="5565" y="1333"/>
                  </a:cubicBezTo>
                  <a:cubicBezTo>
                    <a:pt x="5536" y="1327"/>
                    <a:pt x="5519" y="1304"/>
                    <a:pt x="5490" y="1304"/>
                  </a:cubicBezTo>
                  <a:lnTo>
                    <a:pt x="5484" y="1309"/>
                  </a:lnTo>
                  <a:cubicBezTo>
                    <a:pt x="5484" y="1333"/>
                    <a:pt x="5501" y="1350"/>
                    <a:pt x="5524" y="1350"/>
                  </a:cubicBezTo>
                  <a:cubicBezTo>
                    <a:pt x="5524" y="1368"/>
                    <a:pt x="5519" y="1374"/>
                    <a:pt x="5513" y="1385"/>
                  </a:cubicBezTo>
                  <a:cubicBezTo>
                    <a:pt x="5495" y="1374"/>
                    <a:pt x="5490" y="1356"/>
                    <a:pt x="5466" y="1356"/>
                  </a:cubicBezTo>
                  <a:cubicBezTo>
                    <a:pt x="5460" y="1356"/>
                    <a:pt x="5455" y="1362"/>
                    <a:pt x="5449" y="1362"/>
                  </a:cubicBezTo>
                  <a:cubicBezTo>
                    <a:pt x="5408" y="1362"/>
                    <a:pt x="5408" y="1315"/>
                    <a:pt x="5385" y="1286"/>
                  </a:cubicBezTo>
                  <a:cubicBezTo>
                    <a:pt x="5361" y="1257"/>
                    <a:pt x="5332" y="1263"/>
                    <a:pt x="5297" y="1263"/>
                  </a:cubicBezTo>
                  <a:cubicBezTo>
                    <a:pt x="5292" y="1263"/>
                    <a:pt x="5292" y="1263"/>
                    <a:pt x="5286" y="1263"/>
                  </a:cubicBezTo>
                  <a:cubicBezTo>
                    <a:pt x="5297" y="1286"/>
                    <a:pt x="5315" y="1286"/>
                    <a:pt x="5315" y="1309"/>
                  </a:cubicBezTo>
                  <a:cubicBezTo>
                    <a:pt x="5315" y="1315"/>
                    <a:pt x="5309" y="1315"/>
                    <a:pt x="5309" y="1321"/>
                  </a:cubicBezTo>
                  <a:cubicBezTo>
                    <a:pt x="5286" y="1321"/>
                    <a:pt x="5286" y="1321"/>
                    <a:pt x="5286" y="1321"/>
                  </a:cubicBezTo>
                  <a:cubicBezTo>
                    <a:pt x="5274" y="1321"/>
                    <a:pt x="5268" y="1333"/>
                    <a:pt x="5257" y="1333"/>
                  </a:cubicBezTo>
                  <a:cubicBezTo>
                    <a:pt x="5245" y="1333"/>
                    <a:pt x="5239" y="1315"/>
                    <a:pt x="5228" y="1309"/>
                  </a:cubicBezTo>
                  <a:cubicBezTo>
                    <a:pt x="5204" y="1280"/>
                    <a:pt x="5175" y="1269"/>
                    <a:pt x="5175" y="1228"/>
                  </a:cubicBezTo>
                  <a:cubicBezTo>
                    <a:pt x="5175" y="1222"/>
                    <a:pt x="5181" y="1216"/>
                    <a:pt x="5181" y="1205"/>
                  </a:cubicBezTo>
                  <a:cubicBezTo>
                    <a:pt x="5158" y="1211"/>
                    <a:pt x="5158" y="1211"/>
                    <a:pt x="5158" y="1211"/>
                  </a:cubicBezTo>
                  <a:cubicBezTo>
                    <a:pt x="5152" y="1211"/>
                    <a:pt x="5152" y="1205"/>
                    <a:pt x="5146" y="1205"/>
                  </a:cubicBezTo>
                  <a:cubicBezTo>
                    <a:pt x="5140" y="1205"/>
                    <a:pt x="5140" y="1211"/>
                    <a:pt x="5134" y="1211"/>
                  </a:cubicBezTo>
                  <a:cubicBezTo>
                    <a:pt x="5134" y="1228"/>
                    <a:pt x="5129" y="1234"/>
                    <a:pt x="5129" y="1251"/>
                  </a:cubicBezTo>
                  <a:cubicBezTo>
                    <a:pt x="5129" y="1257"/>
                    <a:pt x="5134" y="1257"/>
                    <a:pt x="5134" y="1263"/>
                  </a:cubicBezTo>
                  <a:cubicBezTo>
                    <a:pt x="5169" y="1263"/>
                    <a:pt x="5169" y="1263"/>
                    <a:pt x="5169" y="1263"/>
                  </a:cubicBezTo>
                  <a:cubicBezTo>
                    <a:pt x="5169" y="1327"/>
                    <a:pt x="5169" y="1327"/>
                    <a:pt x="5169" y="1327"/>
                  </a:cubicBezTo>
                  <a:cubicBezTo>
                    <a:pt x="5158" y="1339"/>
                    <a:pt x="5134" y="1339"/>
                    <a:pt x="5134" y="1350"/>
                  </a:cubicBezTo>
                  <a:cubicBezTo>
                    <a:pt x="5134" y="1368"/>
                    <a:pt x="5146" y="1374"/>
                    <a:pt x="5146" y="1385"/>
                  </a:cubicBezTo>
                  <a:cubicBezTo>
                    <a:pt x="5146" y="1408"/>
                    <a:pt x="5111" y="1414"/>
                    <a:pt x="5111" y="1437"/>
                  </a:cubicBezTo>
                  <a:cubicBezTo>
                    <a:pt x="5111" y="1472"/>
                    <a:pt x="5158" y="1455"/>
                    <a:pt x="5181" y="1472"/>
                  </a:cubicBezTo>
                  <a:cubicBezTo>
                    <a:pt x="5204" y="1502"/>
                    <a:pt x="5198" y="1537"/>
                    <a:pt x="5210" y="1571"/>
                  </a:cubicBezTo>
                  <a:cubicBezTo>
                    <a:pt x="5228" y="1566"/>
                    <a:pt x="5245" y="1571"/>
                    <a:pt x="5263" y="1560"/>
                  </a:cubicBezTo>
                  <a:cubicBezTo>
                    <a:pt x="5274" y="1566"/>
                    <a:pt x="5274" y="1566"/>
                    <a:pt x="5274" y="1566"/>
                  </a:cubicBezTo>
                  <a:cubicBezTo>
                    <a:pt x="5257" y="1583"/>
                    <a:pt x="5245" y="1589"/>
                    <a:pt x="5222" y="1600"/>
                  </a:cubicBezTo>
                  <a:cubicBezTo>
                    <a:pt x="5251" y="1641"/>
                    <a:pt x="5280" y="1665"/>
                    <a:pt x="5216" y="1624"/>
                  </a:cubicBezTo>
                  <a:cubicBezTo>
                    <a:pt x="5233" y="1670"/>
                    <a:pt x="5245" y="1700"/>
                    <a:pt x="5274" y="1740"/>
                  </a:cubicBezTo>
                  <a:cubicBezTo>
                    <a:pt x="5268" y="1752"/>
                    <a:pt x="5268" y="1752"/>
                    <a:pt x="5268" y="1752"/>
                  </a:cubicBezTo>
                  <a:cubicBezTo>
                    <a:pt x="5233" y="1729"/>
                    <a:pt x="5210" y="1717"/>
                    <a:pt x="5181" y="1694"/>
                  </a:cubicBezTo>
                  <a:cubicBezTo>
                    <a:pt x="5158" y="1670"/>
                    <a:pt x="5164" y="1630"/>
                    <a:pt x="5134" y="1630"/>
                  </a:cubicBezTo>
                  <a:cubicBezTo>
                    <a:pt x="5117" y="1630"/>
                    <a:pt x="5129" y="1659"/>
                    <a:pt x="5129" y="1676"/>
                  </a:cubicBezTo>
                  <a:cubicBezTo>
                    <a:pt x="5129" y="1705"/>
                    <a:pt x="5152" y="1717"/>
                    <a:pt x="5164" y="1746"/>
                  </a:cubicBezTo>
                  <a:cubicBezTo>
                    <a:pt x="5158" y="1752"/>
                    <a:pt x="5146" y="1758"/>
                    <a:pt x="5134" y="1758"/>
                  </a:cubicBezTo>
                  <a:cubicBezTo>
                    <a:pt x="5134" y="1787"/>
                    <a:pt x="5105" y="1793"/>
                    <a:pt x="5105" y="1822"/>
                  </a:cubicBezTo>
                  <a:cubicBezTo>
                    <a:pt x="5105" y="1833"/>
                    <a:pt x="5111" y="1839"/>
                    <a:pt x="5111" y="1851"/>
                  </a:cubicBezTo>
                  <a:cubicBezTo>
                    <a:pt x="5111" y="1886"/>
                    <a:pt x="5094" y="2031"/>
                    <a:pt x="5094" y="1926"/>
                  </a:cubicBezTo>
                  <a:cubicBezTo>
                    <a:pt x="5094" y="1909"/>
                    <a:pt x="5100" y="1897"/>
                    <a:pt x="5100" y="1880"/>
                  </a:cubicBezTo>
                  <a:cubicBezTo>
                    <a:pt x="5100" y="1839"/>
                    <a:pt x="5065" y="1828"/>
                    <a:pt x="5030" y="1804"/>
                  </a:cubicBezTo>
                  <a:cubicBezTo>
                    <a:pt x="4989" y="1763"/>
                    <a:pt x="5006" y="1717"/>
                    <a:pt x="4977" y="1665"/>
                  </a:cubicBezTo>
                  <a:cubicBezTo>
                    <a:pt x="4954" y="1624"/>
                    <a:pt x="4902" y="1618"/>
                    <a:pt x="4902" y="1571"/>
                  </a:cubicBezTo>
                  <a:cubicBezTo>
                    <a:pt x="4902" y="1554"/>
                    <a:pt x="4907" y="1548"/>
                    <a:pt x="4907" y="1531"/>
                  </a:cubicBezTo>
                  <a:cubicBezTo>
                    <a:pt x="4907" y="1513"/>
                    <a:pt x="4907" y="1513"/>
                    <a:pt x="4907" y="1513"/>
                  </a:cubicBezTo>
                  <a:cubicBezTo>
                    <a:pt x="4896" y="1507"/>
                    <a:pt x="4890" y="1507"/>
                    <a:pt x="4872" y="1502"/>
                  </a:cubicBezTo>
                  <a:cubicBezTo>
                    <a:pt x="4878" y="1478"/>
                    <a:pt x="4878" y="1478"/>
                    <a:pt x="4878" y="1478"/>
                  </a:cubicBezTo>
                  <a:cubicBezTo>
                    <a:pt x="4855" y="1449"/>
                    <a:pt x="4808" y="1443"/>
                    <a:pt x="4808" y="1403"/>
                  </a:cubicBezTo>
                  <a:cubicBezTo>
                    <a:pt x="4808" y="1374"/>
                    <a:pt x="4826" y="1362"/>
                    <a:pt x="4832" y="1333"/>
                  </a:cubicBezTo>
                  <a:cubicBezTo>
                    <a:pt x="4814" y="1333"/>
                    <a:pt x="4808" y="1333"/>
                    <a:pt x="4791" y="1333"/>
                  </a:cubicBezTo>
                  <a:cubicBezTo>
                    <a:pt x="4779" y="1374"/>
                    <a:pt x="4756" y="1391"/>
                    <a:pt x="4715" y="1397"/>
                  </a:cubicBezTo>
                  <a:cubicBezTo>
                    <a:pt x="4721" y="1420"/>
                    <a:pt x="4715" y="1432"/>
                    <a:pt x="4715" y="1455"/>
                  </a:cubicBezTo>
                  <a:cubicBezTo>
                    <a:pt x="4715" y="1478"/>
                    <a:pt x="4733" y="1490"/>
                    <a:pt x="4756" y="1496"/>
                  </a:cubicBezTo>
                  <a:cubicBezTo>
                    <a:pt x="4750" y="1502"/>
                    <a:pt x="4750" y="1507"/>
                    <a:pt x="4750" y="1513"/>
                  </a:cubicBezTo>
                  <a:cubicBezTo>
                    <a:pt x="4715" y="1513"/>
                    <a:pt x="4692" y="1525"/>
                    <a:pt x="4657" y="1525"/>
                  </a:cubicBezTo>
                  <a:cubicBezTo>
                    <a:pt x="4640" y="1525"/>
                    <a:pt x="4634" y="1507"/>
                    <a:pt x="4622" y="1502"/>
                  </a:cubicBezTo>
                  <a:cubicBezTo>
                    <a:pt x="4616" y="1542"/>
                    <a:pt x="4622" y="1560"/>
                    <a:pt x="4622" y="1600"/>
                  </a:cubicBezTo>
                  <a:cubicBezTo>
                    <a:pt x="4611" y="1600"/>
                    <a:pt x="4611" y="1600"/>
                    <a:pt x="4611" y="1600"/>
                  </a:cubicBezTo>
                  <a:cubicBezTo>
                    <a:pt x="4552" y="1612"/>
                    <a:pt x="4535" y="1647"/>
                    <a:pt x="4500" y="1694"/>
                  </a:cubicBezTo>
                  <a:cubicBezTo>
                    <a:pt x="4471" y="1740"/>
                    <a:pt x="4436" y="1763"/>
                    <a:pt x="4436" y="1816"/>
                  </a:cubicBezTo>
                  <a:cubicBezTo>
                    <a:pt x="4436" y="1886"/>
                    <a:pt x="4453" y="1926"/>
                    <a:pt x="4459" y="1991"/>
                  </a:cubicBezTo>
                  <a:cubicBezTo>
                    <a:pt x="4459" y="2031"/>
                    <a:pt x="4442" y="2060"/>
                    <a:pt x="4471" y="2089"/>
                  </a:cubicBezTo>
                  <a:cubicBezTo>
                    <a:pt x="4488" y="2113"/>
                    <a:pt x="4552" y="2095"/>
                    <a:pt x="4552" y="2130"/>
                  </a:cubicBezTo>
                  <a:cubicBezTo>
                    <a:pt x="4552" y="2206"/>
                    <a:pt x="4482" y="2241"/>
                    <a:pt x="4412" y="2282"/>
                  </a:cubicBezTo>
                  <a:cubicBezTo>
                    <a:pt x="4360" y="2311"/>
                    <a:pt x="4337" y="2346"/>
                    <a:pt x="4273" y="2357"/>
                  </a:cubicBezTo>
                  <a:cubicBezTo>
                    <a:pt x="4249" y="2363"/>
                    <a:pt x="4255" y="2392"/>
                    <a:pt x="4238" y="2404"/>
                  </a:cubicBezTo>
                  <a:cubicBezTo>
                    <a:pt x="4244" y="2421"/>
                    <a:pt x="4255" y="2427"/>
                    <a:pt x="4255" y="2450"/>
                  </a:cubicBezTo>
                  <a:cubicBezTo>
                    <a:pt x="4255" y="2474"/>
                    <a:pt x="4232" y="2491"/>
                    <a:pt x="4209" y="2491"/>
                  </a:cubicBezTo>
                  <a:cubicBezTo>
                    <a:pt x="4203" y="2491"/>
                    <a:pt x="4197" y="2497"/>
                    <a:pt x="4186" y="2497"/>
                  </a:cubicBezTo>
                  <a:cubicBezTo>
                    <a:pt x="4191" y="2509"/>
                    <a:pt x="4191" y="2509"/>
                    <a:pt x="4191" y="2520"/>
                  </a:cubicBezTo>
                  <a:cubicBezTo>
                    <a:pt x="4191" y="2619"/>
                    <a:pt x="4139" y="2666"/>
                    <a:pt x="4086" y="2741"/>
                  </a:cubicBezTo>
                  <a:cubicBezTo>
                    <a:pt x="4023" y="2817"/>
                    <a:pt x="3988" y="2870"/>
                    <a:pt x="3906" y="2928"/>
                  </a:cubicBezTo>
                  <a:cubicBezTo>
                    <a:pt x="3825" y="2980"/>
                    <a:pt x="3766" y="2998"/>
                    <a:pt x="3673" y="3033"/>
                  </a:cubicBezTo>
                  <a:cubicBezTo>
                    <a:pt x="3592" y="3067"/>
                    <a:pt x="3551" y="3108"/>
                    <a:pt x="3464" y="3108"/>
                  </a:cubicBezTo>
                  <a:cubicBezTo>
                    <a:pt x="3400" y="3108"/>
                    <a:pt x="3400" y="3108"/>
                    <a:pt x="3400" y="3108"/>
                  </a:cubicBezTo>
                  <a:cubicBezTo>
                    <a:pt x="3306" y="3108"/>
                    <a:pt x="3260" y="3178"/>
                    <a:pt x="3167" y="3178"/>
                  </a:cubicBezTo>
                  <a:cubicBezTo>
                    <a:pt x="3103" y="3178"/>
                    <a:pt x="3074" y="3126"/>
                    <a:pt x="3010" y="3126"/>
                  </a:cubicBezTo>
                  <a:cubicBezTo>
                    <a:pt x="2998" y="3126"/>
                    <a:pt x="2998" y="3132"/>
                    <a:pt x="2992" y="3132"/>
                  </a:cubicBezTo>
                  <a:cubicBezTo>
                    <a:pt x="2992" y="3143"/>
                    <a:pt x="2992" y="3149"/>
                    <a:pt x="2992" y="3161"/>
                  </a:cubicBezTo>
                  <a:cubicBezTo>
                    <a:pt x="2975" y="3161"/>
                    <a:pt x="2969" y="3149"/>
                    <a:pt x="2957" y="3149"/>
                  </a:cubicBezTo>
                  <a:cubicBezTo>
                    <a:pt x="2887" y="3149"/>
                    <a:pt x="2882" y="3225"/>
                    <a:pt x="2829" y="3271"/>
                  </a:cubicBezTo>
                  <a:cubicBezTo>
                    <a:pt x="2777" y="3312"/>
                    <a:pt x="2730" y="3324"/>
                    <a:pt x="2666" y="3324"/>
                  </a:cubicBezTo>
                  <a:cubicBezTo>
                    <a:pt x="2619" y="3324"/>
                    <a:pt x="2619" y="3324"/>
                    <a:pt x="2619" y="3324"/>
                  </a:cubicBezTo>
                  <a:cubicBezTo>
                    <a:pt x="2550" y="3341"/>
                    <a:pt x="2497" y="3341"/>
                    <a:pt x="2433" y="3376"/>
                  </a:cubicBezTo>
                  <a:cubicBezTo>
                    <a:pt x="2387" y="3405"/>
                    <a:pt x="2375" y="3440"/>
                    <a:pt x="2334" y="3469"/>
                  </a:cubicBezTo>
                  <a:cubicBezTo>
                    <a:pt x="2264" y="3522"/>
                    <a:pt x="2206" y="3539"/>
                    <a:pt x="2119" y="3539"/>
                  </a:cubicBezTo>
                  <a:cubicBezTo>
                    <a:pt x="2072" y="3539"/>
                    <a:pt x="2055" y="3481"/>
                    <a:pt x="2002" y="3481"/>
                  </a:cubicBezTo>
                  <a:cubicBezTo>
                    <a:pt x="1944" y="3481"/>
                    <a:pt x="1915" y="3527"/>
                    <a:pt x="1863" y="3527"/>
                  </a:cubicBezTo>
                  <a:cubicBezTo>
                    <a:pt x="1845" y="3527"/>
                    <a:pt x="1839" y="3522"/>
                    <a:pt x="1828" y="3522"/>
                  </a:cubicBezTo>
                  <a:cubicBezTo>
                    <a:pt x="1828" y="3516"/>
                    <a:pt x="1857" y="3411"/>
                    <a:pt x="1839" y="3446"/>
                  </a:cubicBezTo>
                  <a:cubicBezTo>
                    <a:pt x="1775" y="3533"/>
                    <a:pt x="1705" y="3556"/>
                    <a:pt x="1607" y="3603"/>
                  </a:cubicBezTo>
                  <a:cubicBezTo>
                    <a:pt x="1589" y="3591"/>
                    <a:pt x="1589" y="3591"/>
                    <a:pt x="1589" y="3591"/>
                  </a:cubicBezTo>
                  <a:cubicBezTo>
                    <a:pt x="1572" y="3615"/>
                    <a:pt x="1577" y="3644"/>
                    <a:pt x="1554" y="3656"/>
                  </a:cubicBezTo>
                  <a:cubicBezTo>
                    <a:pt x="1508" y="3685"/>
                    <a:pt x="1455" y="3679"/>
                    <a:pt x="1420" y="3719"/>
                  </a:cubicBezTo>
                  <a:cubicBezTo>
                    <a:pt x="1356" y="3784"/>
                    <a:pt x="1333" y="3830"/>
                    <a:pt x="1263" y="3888"/>
                  </a:cubicBezTo>
                  <a:cubicBezTo>
                    <a:pt x="1164" y="3976"/>
                    <a:pt x="1088" y="3999"/>
                    <a:pt x="960" y="4028"/>
                  </a:cubicBezTo>
                  <a:cubicBezTo>
                    <a:pt x="925" y="4040"/>
                    <a:pt x="914" y="4075"/>
                    <a:pt x="879" y="4075"/>
                  </a:cubicBezTo>
                  <a:cubicBezTo>
                    <a:pt x="867" y="4075"/>
                    <a:pt x="856" y="4075"/>
                    <a:pt x="844" y="4075"/>
                  </a:cubicBezTo>
                  <a:cubicBezTo>
                    <a:pt x="821" y="4110"/>
                    <a:pt x="826" y="4145"/>
                    <a:pt x="803" y="4179"/>
                  </a:cubicBezTo>
                  <a:cubicBezTo>
                    <a:pt x="780" y="4220"/>
                    <a:pt x="751" y="4238"/>
                    <a:pt x="739" y="4284"/>
                  </a:cubicBezTo>
                  <a:cubicBezTo>
                    <a:pt x="727" y="4342"/>
                    <a:pt x="733" y="4389"/>
                    <a:pt x="687" y="4424"/>
                  </a:cubicBezTo>
                  <a:cubicBezTo>
                    <a:pt x="681" y="4412"/>
                    <a:pt x="669" y="4406"/>
                    <a:pt x="658" y="4401"/>
                  </a:cubicBezTo>
                  <a:cubicBezTo>
                    <a:pt x="646" y="4430"/>
                    <a:pt x="623" y="4436"/>
                    <a:pt x="593" y="4447"/>
                  </a:cubicBezTo>
                  <a:cubicBezTo>
                    <a:pt x="588" y="4436"/>
                    <a:pt x="582" y="4424"/>
                    <a:pt x="582" y="4406"/>
                  </a:cubicBezTo>
                  <a:cubicBezTo>
                    <a:pt x="582" y="4383"/>
                    <a:pt x="593" y="4371"/>
                    <a:pt x="593" y="4342"/>
                  </a:cubicBezTo>
                  <a:cubicBezTo>
                    <a:pt x="559" y="4249"/>
                    <a:pt x="559" y="4249"/>
                    <a:pt x="559" y="4249"/>
                  </a:cubicBezTo>
                  <a:cubicBezTo>
                    <a:pt x="564" y="4232"/>
                    <a:pt x="564" y="4226"/>
                    <a:pt x="564" y="4208"/>
                  </a:cubicBezTo>
                  <a:cubicBezTo>
                    <a:pt x="553" y="4139"/>
                    <a:pt x="553" y="4139"/>
                    <a:pt x="553" y="4139"/>
                  </a:cubicBezTo>
                  <a:cubicBezTo>
                    <a:pt x="559" y="4121"/>
                    <a:pt x="582" y="4110"/>
                    <a:pt x="582" y="4086"/>
                  </a:cubicBezTo>
                  <a:cubicBezTo>
                    <a:pt x="582" y="4080"/>
                    <a:pt x="576" y="4069"/>
                    <a:pt x="570" y="4069"/>
                  </a:cubicBezTo>
                  <a:cubicBezTo>
                    <a:pt x="524" y="4069"/>
                    <a:pt x="512" y="4121"/>
                    <a:pt x="495" y="4162"/>
                  </a:cubicBezTo>
                  <a:cubicBezTo>
                    <a:pt x="477" y="4208"/>
                    <a:pt x="466" y="4238"/>
                    <a:pt x="442" y="4278"/>
                  </a:cubicBezTo>
                  <a:cubicBezTo>
                    <a:pt x="425" y="4319"/>
                    <a:pt x="425" y="4342"/>
                    <a:pt x="413" y="4377"/>
                  </a:cubicBezTo>
                  <a:cubicBezTo>
                    <a:pt x="396" y="4424"/>
                    <a:pt x="372" y="4447"/>
                    <a:pt x="372" y="4494"/>
                  </a:cubicBezTo>
                  <a:cubicBezTo>
                    <a:pt x="372" y="4581"/>
                    <a:pt x="442" y="4622"/>
                    <a:pt x="442" y="4709"/>
                  </a:cubicBezTo>
                  <a:cubicBezTo>
                    <a:pt x="442" y="4732"/>
                    <a:pt x="419" y="4738"/>
                    <a:pt x="419" y="4762"/>
                  </a:cubicBezTo>
                  <a:cubicBezTo>
                    <a:pt x="419" y="4797"/>
                    <a:pt x="425" y="4814"/>
                    <a:pt x="425" y="4843"/>
                  </a:cubicBezTo>
                  <a:cubicBezTo>
                    <a:pt x="425" y="4925"/>
                    <a:pt x="372" y="4960"/>
                    <a:pt x="332" y="5035"/>
                  </a:cubicBezTo>
                  <a:cubicBezTo>
                    <a:pt x="267" y="5157"/>
                    <a:pt x="233" y="5239"/>
                    <a:pt x="233" y="5379"/>
                  </a:cubicBezTo>
                  <a:cubicBezTo>
                    <a:pt x="233" y="5524"/>
                    <a:pt x="384" y="5582"/>
                    <a:pt x="361" y="5728"/>
                  </a:cubicBezTo>
                  <a:cubicBezTo>
                    <a:pt x="361" y="5757"/>
                    <a:pt x="361" y="5786"/>
                    <a:pt x="390" y="5804"/>
                  </a:cubicBezTo>
                  <a:cubicBezTo>
                    <a:pt x="413" y="5815"/>
                    <a:pt x="436" y="5821"/>
                    <a:pt x="448" y="5844"/>
                  </a:cubicBezTo>
                  <a:cubicBezTo>
                    <a:pt x="477" y="5926"/>
                    <a:pt x="477" y="5984"/>
                    <a:pt x="530" y="6054"/>
                  </a:cubicBezTo>
                  <a:cubicBezTo>
                    <a:pt x="564" y="6095"/>
                    <a:pt x="576" y="6124"/>
                    <a:pt x="611" y="6159"/>
                  </a:cubicBezTo>
                  <a:cubicBezTo>
                    <a:pt x="629" y="6188"/>
                    <a:pt x="658" y="6199"/>
                    <a:pt x="658" y="6229"/>
                  </a:cubicBezTo>
                  <a:cubicBezTo>
                    <a:pt x="658" y="6234"/>
                    <a:pt x="646" y="6240"/>
                    <a:pt x="646" y="6246"/>
                  </a:cubicBezTo>
                  <a:cubicBezTo>
                    <a:pt x="646" y="6258"/>
                    <a:pt x="652" y="6264"/>
                    <a:pt x="652" y="6275"/>
                  </a:cubicBezTo>
                  <a:cubicBezTo>
                    <a:pt x="652" y="6281"/>
                    <a:pt x="634" y="6281"/>
                    <a:pt x="634" y="6287"/>
                  </a:cubicBezTo>
                  <a:cubicBezTo>
                    <a:pt x="629" y="6310"/>
                    <a:pt x="634" y="6322"/>
                    <a:pt x="634" y="6339"/>
                  </a:cubicBezTo>
                  <a:cubicBezTo>
                    <a:pt x="629" y="6357"/>
                    <a:pt x="611" y="6362"/>
                    <a:pt x="611" y="6386"/>
                  </a:cubicBezTo>
                  <a:cubicBezTo>
                    <a:pt x="611" y="6409"/>
                    <a:pt x="629" y="6421"/>
                    <a:pt x="629" y="6444"/>
                  </a:cubicBezTo>
                  <a:cubicBezTo>
                    <a:pt x="629" y="6479"/>
                    <a:pt x="599" y="6520"/>
                    <a:pt x="559" y="6520"/>
                  </a:cubicBezTo>
                  <a:cubicBezTo>
                    <a:pt x="524" y="6520"/>
                    <a:pt x="530" y="6473"/>
                    <a:pt x="512" y="6444"/>
                  </a:cubicBezTo>
                  <a:cubicBezTo>
                    <a:pt x="495" y="6409"/>
                    <a:pt x="471" y="6397"/>
                    <a:pt x="460" y="6362"/>
                  </a:cubicBezTo>
                  <a:cubicBezTo>
                    <a:pt x="448" y="6362"/>
                    <a:pt x="448" y="6362"/>
                    <a:pt x="448" y="6362"/>
                  </a:cubicBezTo>
                  <a:cubicBezTo>
                    <a:pt x="425" y="6386"/>
                    <a:pt x="396" y="6397"/>
                    <a:pt x="355" y="6351"/>
                  </a:cubicBezTo>
                  <a:cubicBezTo>
                    <a:pt x="355" y="6304"/>
                    <a:pt x="384" y="6275"/>
                    <a:pt x="384" y="6229"/>
                  </a:cubicBezTo>
                  <a:cubicBezTo>
                    <a:pt x="384" y="6194"/>
                    <a:pt x="355" y="6182"/>
                    <a:pt x="337" y="6153"/>
                  </a:cubicBezTo>
                  <a:cubicBezTo>
                    <a:pt x="308" y="6112"/>
                    <a:pt x="303" y="6089"/>
                    <a:pt x="267" y="6054"/>
                  </a:cubicBezTo>
                  <a:cubicBezTo>
                    <a:pt x="250" y="6060"/>
                    <a:pt x="250" y="6060"/>
                    <a:pt x="250" y="6060"/>
                  </a:cubicBezTo>
                  <a:cubicBezTo>
                    <a:pt x="244" y="6077"/>
                    <a:pt x="244" y="6083"/>
                    <a:pt x="244" y="6101"/>
                  </a:cubicBezTo>
                  <a:cubicBezTo>
                    <a:pt x="244" y="6135"/>
                    <a:pt x="244" y="6135"/>
                    <a:pt x="244" y="6135"/>
                  </a:cubicBezTo>
                  <a:cubicBezTo>
                    <a:pt x="244" y="6176"/>
                    <a:pt x="273" y="6188"/>
                    <a:pt x="291" y="6229"/>
                  </a:cubicBezTo>
                  <a:cubicBezTo>
                    <a:pt x="308" y="6281"/>
                    <a:pt x="308" y="6316"/>
                    <a:pt x="343" y="6362"/>
                  </a:cubicBezTo>
                  <a:cubicBezTo>
                    <a:pt x="367" y="6403"/>
                    <a:pt x="401" y="6409"/>
                    <a:pt x="442" y="6438"/>
                  </a:cubicBezTo>
                  <a:cubicBezTo>
                    <a:pt x="471" y="6461"/>
                    <a:pt x="466" y="6502"/>
                    <a:pt x="466" y="6543"/>
                  </a:cubicBezTo>
                  <a:cubicBezTo>
                    <a:pt x="466" y="6566"/>
                    <a:pt x="448" y="6578"/>
                    <a:pt x="436" y="6595"/>
                  </a:cubicBezTo>
                  <a:cubicBezTo>
                    <a:pt x="413" y="6619"/>
                    <a:pt x="407" y="6648"/>
                    <a:pt x="378" y="6648"/>
                  </a:cubicBezTo>
                  <a:cubicBezTo>
                    <a:pt x="361" y="6648"/>
                    <a:pt x="355" y="6630"/>
                    <a:pt x="343" y="6624"/>
                  </a:cubicBezTo>
                  <a:cubicBezTo>
                    <a:pt x="320" y="6613"/>
                    <a:pt x="291" y="6607"/>
                    <a:pt x="291" y="6584"/>
                  </a:cubicBezTo>
                  <a:cubicBezTo>
                    <a:pt x="291" y="6560"/>
                    <a:pt x="297" y="6549"/>
                    <a:pt x="297" y="6525"/>
                  </a:cubicBezTo>
                  <a:cubicBezTo>
                    <a:pt x="279" y="6514"/>
                    <a:pt x="262" y="6508"/>
                    <a:pt x="250" y="6490"/>
                  </a:cubicBezTo>
                  <a:cubicBezTo>
                    <a:pt x="256" y="6473"/>
                    <a:pt x="262" y="6461"/>
                    <a:pt x="262" y="6444"/>
                  </a:cubicBezTo>
                  <a:cubicBezTo>
                    <a:pt x="262" y="6421"/>
                    <a:pt x="250" y="6403"/>
                    <a:pt x="233" y="6392"/>
                  </a:cubicBezTo>
                  <a:cubicBezTo>
                    <a:pt x="215" y="6392"/>
                    <a:pt x="215" y="6392"/>
                    <a:pt x="215" y="6392"/>
                  </a:cubicBezTo>
                  <a:cubicBezTo>
                    <a:pt x="215" y="6421"/>
                    <a:pt x="215" y="6421"/>
                    <a:pt x="215" y="6421"/>
                  </a:cubicBezTo>
                  <a:cubicBezTo>
                    <a:pt x="227" y="6461"/>
                    <a:pt x="227" y="6461"/>
                    <a:pt x="227" y="6461"/>
                  </a:cubicBezTo>
                  <a:cubicBezTo>
                    <a:pt x="227" y="6502"/>
                    <a:pt x="227" y="6502"/>
                    <a:pt x="227" y="6502"/>
                  </a:cubicBezTo>
                  <a:cubicBezTo>
                    <a:pt x="215" y="6508"/>
                    <a:pt x="215" y="6508"/>
                    <a:pt x="215" y="6508"/>
                  </a:cubicBezTo>
                  <a:cubicBezTo>
                    <a:pt x="209" y="6490"/>
                    <a:pt x="204" y="6473"/>
                    <a:pt x="186" y="6461"/>
                  </a:cubicBezTo>
                  <a:cubicBezTo>
                    <a:pt x="180" y="6461"/>
                    <a:pt x="180" y="6461"/>
                    <a:pt x="180" y="6461"/>
                  </a:cubicBezTo>
                  <a:cubicBezTo>
                    <a:pt x="186" y="6496"/>
                    <a:pt x="215" y="6502"/>
                    <a:pt x="238" y="6537"/>
                  </a:cubicBezTo>
                  <a:cubicBezTo>
                    <a:pt x="273" y="6601"/>
                    <a:pt x="308" y="6630"/>
                    <a:pt x="355" y="6688"/>
                  </a:cubicBezTo>
                  <a:cubicBezTo>
                    <a:pt x="407" y="6747"/>
                    <a:pt x="419" y="6787"/>
                    <a:pt x="454" y="6851"/>
                  </a:cubicBezTo>
                  <a:cubicBezTo>
                    <a:pt x="524" y="6956"/>
                    <a:pt x="570" y="7020"/>
                    <a:pt x="582" y="7148"/>
                  </a:cubicBezTo>
                  <a:cubicBezTo>
                    <a:pt x="588" y="7148"/>
                    <a:pt x="593" y="7148"/>
                    <a:pt x="599" y="7148"/>
                  </a:cubicBezTo>
                  <a:cubicBezTo>
                    <a:pt x="605" y="7160"/>
                    <a:pt x="605" y="7160"/>
                    <a:pt x="605" y="7160"/>
                  </a:cubicBezTo>
                  <a:cubicBezTo>
                    <a:pt x="570" y="7195"/>
                    <a:pt x="576" y="7230"/>
                    <a:pt x="576" y="7276"/>
                  </a:cubicBezTo>
                  <a:cubicBezTo>
                    <a:pt x="576" y="7335"/>
                    <a:pt x="570" y="7375"/>
                    <a:pt x="599" y="7428"/>
                  </a:cubicBezTo>
                  <a:cubicBezTo>
                    <a:pt x="611" y="7445"/>
                    <a:pt x="634" y="7439"/>
                    <a:pt x="646" y="7457"/>
                  </a:cubicBezTo>
                  <a:cubicBezTo>
                    <a:pt x="669" y="7479"/>
                    <a:pt x="669" y="7497"/>
                    <a:pt x="687" y="7520"/>
                  </a:cubicBezTo>
                  <a:cubicBezTo>
                    <a:pt x="733" y="7578"/>
                    <a:pt x="768" y="7607"/>
                    <a:pt x="786" y="7677"/>
                  </a:cubicBezTo>
                  <a:cubicBezTo>
                    <a:pt x="815" y="7747"/>
                    <a:pt x="803" y="7793"/>
                    <a:pt x="838" y="7858"/>
                  </a:cubicBezTo>
                  <a:cubicBezTo>
                    <a:pt x="861" y="7898"/>
                    <a:pt x="896" y="7904"/>
                    <a:pt x="925" y="7939"/>
                  </a:cubicBezTo>
                  <a:cubicBezTo>
                    <a:pt x="989" y="8026"/>
                    <a:pt x="995" y="8096"/>
                    <a:pt x="995" y="8207"/>
                  </a:cubicBezTo>
                  <a:cubicBezTo>
                    <a:pt x="995" y="8242"/>
                    <a:pt x="978" y="8265"/>
                    <a:pt x="978" y="8306"/>
                  </a:cubicBezTo>
                  <a:cubicBezTo>
                    <a:pt x="978" y="8393"/>
                    <a:pt x="978" y="8393"/>
                    <a:pt x="978" y="8393"/>
                  </a:cubicBezTo>
                  <a:cubicBezTo>
                    <a:pt x="978" y="8416"/>
                    <a:pt x="972" y="8434"/>
                    <a:pt x="972" y="8463"/>
                  </a:cubicBezTo>
                  <a:cubicBezTo>
                    <a:pt x="972" y="8498"/>
                    <a:pt x="995" y="8510"/>
                    <a:pt x="1001" y="8539"/>
                  </a:cubicBezTo>
                  <a:cubicBezTo>
                    <a:pt x="1024" y="8608"/>
                    <a:pt x="1013" y="8649"/>
                    <a:pt x="1024" y="8719"/>
                  </a:cubicBezTo>
                  <a:cubicBezTo>
                    <a:pt x="1042" y="8824"/>
                    <a:pt x="1083" y="8876"/>
                    <a:pt x="1129" y="8969"/>
                  </a:cubicBezTo>
                  <a:cubicBezTo>
                    <a:pt x="1199" y="9092"/>
                    <a:pt x="1228" y="9167"/>
                    <a:pt x="1281" y="9295"/>
                  </a:cubicBezTo>
                  <a:cubicBezTo>
                    <a:pt x="1310" y="9360"/>
                    <a:pt x="1356" y="9389"/>
                    <a:pt x="1356" y="9458"/>
                  </a:cubicBezTo>
                  <a:cubicBezTo>
                    <a:pt x="1356" y="9534"/>
                    <a:pt x="1356" y="9534"/>
                    <a:pt x="1356" y="9534"/>
                  </a:cubicBezTo>
                  <a:cubicBezTo>
                    <a:pt x="1356" y="9546"/>
                    <a:pt x="1350" y="9552"/>
                    <a:pt x="1350" y="9563"/>
                  </a:cubicBezTo>
                  <a:cubicBezTo>
                    <a:pt x="1350" y="9604"/>
                    <a:pt x="1368" y="9627"/>
                    <a:pt x="1368" y="9674"/>
                  </a:cubicBezTo>
                  <a:cubicBezTo>
                    <a:pt x="1368" y="9703"/>
                    <a:pt x="1362" y="9720"/>
                    <a:pt x="1350" y="9744"/>
                  </a:cubicBezTo>
                  <a:cubicBezTo>
                    <a:pt x="1362" y="9784"/>
                    <a:pt x="1362" y="9784"/>
                    <a:pt x="1362" y="9784"/>
                  </a:cubicBezTo>
                  <a:cubicBezTo>
                    <a:pt x="1350" y="9819"/>
                    <a:pt x="1356" y="9843"/>
                    <a:pt x="1345" y="9872"/>
                  </a:cubicBezTo>
                  <a:cubicBezTo>
                    <a:pt x="1339" y="9883"/>
                    <a:pt x="1321" y="9883"/>
                    <a:pt x="1310" y="9889"/>
                  </a:cubicBezTo>
                  <a:cubicBezTo>
                    <a:pt x="1292" y="9907"/>
                    <a:pt x="1292" y="9930"/>
                    <a:pt x="1286" y="9959"/>
                  </a:cubicBezTo>
                  <a:cubicBezTo>
                    <a:pt x="1327" y="10209"/>
                    <a:pt x="1327" y="10209"/>
                    <a:pt x="1327" y="10209"/>
                  </a:cubicBezTo>
                  <a:cubicBezTo>
                    <a:pt x="1327" y="10291"/>
                    <a:pt x="1304" y="10338"/>
                    <a:pt x="1263" y="10413"/>
                  </a:cubicBezTo>
                  <a:cubicBezTo>
                    <a:pt x="1228" y="10483"/>
                    <a:pt x="1187" y="10535"/>
                    <a:pt x="1106" y="10535"/>
                  </a:cubicBezTo>
                  <a:cubicBezTo>
                    <a:pt x="1065" y="10535"/>
                    <a:pt x="1053" y="10495"/>
                    <a:pt x="1013" y="10471"/>
                  </a:cubicBezTo>
                  <a:cubicBezTo>
                    <a:pt x="1013" y="10518"/>
                    <a:pt x="1013" y="10518"/>
                    <a:pt x="1013" y="10518"/>
                  </a:cubicBezTo>
                  <a:cubicBezTo>
                    <a:pt x="1013" y="10541"/>
                    <a:pt x="1001" y="10547"/>
                    <a:pt x="1001" y="10564"/>
                  </a:cubicBezTo>
                  <a:cubicBezTo>
                    <a:pt x="1001" y="10704"/>
                    <a:pt x="1001" y="10704"/>
                    <a:pt x="1001" y="10704"/>
                  </a:cubicBezTo>
                  <a:cubicBezTo>
                    <a:pt x="1001" y="10751"/>
                    <a:pt x="1013" y="10780"/>
                    <a:pt x="1024" y="10827"/>
                  </a:cubicBezTo>
                  <a:cubicBezTo>
                    <a:pt x="1036" y="10873"/>
                    <a:pt x="1036" y="10902"/>
                    <a:pt x="1071" y="10931"/>
                  </a:cubicBezTo>
                  <a:cubicBezTo>
                    <a:pt x="1077" y="10914"/>
                    <a:pt x="1083" y="10902"/>
                    <a:pt x="1094" y="10885"/>
                  </a:cubicBezTo>
                  <a:cubicBezTo>
                    <a:pt x="1199" y="10925"/>
                    <a:pt x="1263" y="10954"/>
                    <a:pt x="1345" y="11036"/>
                  </a:cubicBezTo>
                  <a:cubicBezTo>
                    <a:pt x="1391" y="11083"/>
                    <a:pt x="1438" y="11100"/>
                    <a:pt x="1461" y="11158"/>
                  </a:cubicBezTo>
                  <a:cubicBezTo>
                    <a:pt x="1478" y="11187"/>
                    <a:pt x="1461" y="11211"/>
                    <a:pt x="1484" y="11228"/>
                  </a:cubicBezTo>
                  <a:cubicBezTo>
                    <a:pt x="1519" y="11251"/>
                    <a:pt x="1548" y="11234"/>
                    <a:pt x="1583" y="11246"/>
                  </a:cubicBezTo>
                  <a:cubicBezTo>
                    <a:pt x="1671" y="11275"/>
                    <a:pt x="1717" y="11298"/>
                    <a:pt x="1793" y="11345"/>
                  </a:cubicBezTo>
                  <a:cubicBezTo>
                    <a:pt x="1799" y="11327"/>
                    <a:pt x="1804" y="11316"/>
                    <a:pt x="1810" y="11298"/>
                  </a:cubicBezTo>
                  <a:cubicBezTo>
                    <a:pt x="1909" y="11345"/>
                    <a:pt x="1909" y="11345"/>
                    <a:pt x="1909" y="11345"/>
                  </a:cubicBezTo>
                  <a:cubicBezTo>
                    <a:pt x="1927" y="11333"/>
                    <a:pt x="1933" y="11316"/>
                    <a:pt x="1944" y="11298"/>
                  </a:cubicBezTo>
                  <a:cubicBezTo>
                    <a:pt x="1967" y="11316"/>
                    <a:pt x="1985" y="11327"/>
                    <a:pt x="2014" y="11327"/>
                  </a:cubicBezTo>
                  <a:cubicBezTo>
                    <a:pt x="2043" y="11327"/>
                    <a:pt x="2061" y="11333"/>
                    <a:pt x="2090" y="11333"/>
                  </a:cubicBezTo>
                  <a:cubicBezTo>
                    <a:pt x="2107" y="11333"/>
                    <a:pt x="2113" y="11310"/>
                    <a:pt x="2136" y="11310"/>
                  </a:cubicBezTo>
                  <a:cubicBezTo>
                    <a:pt x="2154" y="11310"/>
                    <a:pt x="2165" y="11316"/>
                    <a:pt x="2183" y="11310"/>
                  </a:cubicBezTo>
                  <a:cubicBezTo>
                    <a:pt x="2183" y="11321"/>
                    <a:pt x="2177" y="11327"/>
                    <a:pt x="2177" y="11339"/>
                  </a:cubicBezTo>
                  <a:cubicBezTo>
                    <a:pt x="2177" y="11350"/>
                    <a:pt x="2194" y="11345"/>
                    <a:pt x="2206" y="11350"/>
                  </a:cubicBezTo>
                  <a:cubicBezTo>
                    <a:pt x="2224" y="11356"/>
                    <a:pt x="2235" y="11374"/>
                    <a:pt x="2259" y="11374"/>
                  </a:cubicBezTo>
                  <a:cubicBezTo>
                    <a:pt x="2282" y="11374"/>
                    <a:pt x="2282" y="11333"/>
                    <a:pt x="2305" y="11333"/>
                  </a:cubicBezTo>
                  <a:cubicBezTo>
                    <a:pt x="2346" y="11333"/>
                    <a:pt x="2363" y="11374"/>
                    <a:pt x="2404" y="11379"/>
                  </a:cubicBezTo>
                  <a:cubicBezTo>
                    <a:pt x="2404" y="11316"/>
                    <a:pt x="2474" y="11304"/>
                    <a:pt x="2532" y="11269"/>
                  </a:cubicBezTo>
                  <a:cubicBezTo>
                    <a:pt x="2567" y="11251"/>
                    <a:pt x="2590" y="11251"/>
                    <a:pt x="2625" y="11228"/>
                  </a:cubicBezTo>
                  <a:cubicBezTo>
                    <a:pt x="2649" y="11211"/>
                    <a:pt x="2643" y="11182"/>
                    <a:pt x="2672" y="11170"/>
                  </a:cubicBezTo>
                  <a:cubicBezTo>
                    <a:pt x="2695" y="11153"/>
                    <a:pt x="2701" y="11135"/>
                    <a:pt x="2730" y="11123"/>
                  </a:cubicBezTo>
                  <a:cubicBezTo>
                    <a:pt x="2759" y="11112"/>
                    <a:pt x="2782" y="11117"/>
                    <a:pt x="2806" y="11094"/>
                  </a:cubicBezTo>
                  <a:cubicBezTo>
                    <a:pt x="2817" y="11083"/>
                    <a:pt x="2806" y="11059"/>
                    <a:pt x="2817" y="11042"/>
                  </a:cubicBezTo>
                  <a:cubicBezTo>
                    <a:pt x="2847" y="10995"/>
                    <a:pt x="2899" y="10995"/>
                    <a:pt x="2951" y="10995"/>
                  </a:cubicBezTo>
                  <a:cubicBezTo>
                    <a:pt x="2992" y="10995"/>
                    <a:pt x="3010" y="11013"/>
                    <a:pt x="3050" y="11019"/>
                  </a:cubicBezTo>
                  <a:cubicBezTo>
                    <a:pt x="3056" y="10995"/>
                    <a:pt x="3079" y="10995"/>
                    <a:pt x="3103" y="10990"/>
                  </a:cubicBezTo>
                  <a:cubicBezTo>
                    <a:pt x="3184" y="10827"/>
                    <a:pt x="3271" y="10687"/>
                    <a:pt x="3452" y="10687"/>
                  </a:cubicBezTo>
                  <a:cubicBezTo>
                    <a:pt x="3469" y="10687"/>
                    <a:pt x="3475" y="10698"/>
                    <a:pt x="3487" y="10698"/>
                  </a:cubicBezTo>
                  <a:cubicBezTo>
                    <a:pt x="3510" y="10698"/>
                    <a:pt x="3516" y="10687"/>
                    <a:pt x="3539" y="10687"/>
                  </a:cubicBezTo>
                  <a:cubicBezTo>
                    <a:pt x="3574" y="10687"/>
                    <a:pt x="3592" y="10704"/>
                    <a:pt x="3627" y="10704"/>
                  </a:cubicBezTo>
                  <a:cubicBezTo>
                    <a:pt x="3656" y="10704"/>
                    <a:pt x="3650" y="10664"/>
                    <a:pt x="3679" y="10658"/>
                  </a:cubicBezTo>
                  <a:cubicBezTo>
                    <a:pt x="3731" y="10646"/>
                    <a:pt x="3766" y="10646"/>
                    <a:pt x="3825" y="10646"/>
                  </a:cubicBezTo>
                  <a:cubicBezTo>
                    <a:pt x="3918" y="10646"/>
                    <a:pt x="3918" y="10646"/>
                    <a:pt x="3918" y="10646"/>
                  </a:cubicBezTo>
                  <a:cubicBezTo>
                    <a:pt x="3982" y="10646"/>
                    <a:pt x="4017" y="10617"/>
                    <a:pt x="4081" y="10617"/>
                  </a:cubicBezTo>
                  <a:cubicBezTo>
                    <a:pt x="4162" y="10617"/>
                    <a:pt x="4203" y="10664"/>
                    <a:pt x="4285" y="10664"/>
                  </a:cubicBezTo>
                  <a:cubicBezTo>
                    <a:pt x="4314" y="10664"/>
                    <a:pt x="4325" y="10640"/>
                    <a:pt x="4354" y="10640"/>
                  </a:cubicBezTo>
                  <a:cubicBezTo>
                    <a:pt x="4383" y="10640"/>
                    <a:pt x="4401" y="10652"/>
                    <a:pt x="4418" y="10681"/>
                  </a:cubicBezTo>
                  <a:cubicBezTo>
                    <a:pt x="4424" y="10698"/>
                    <a:pt x="4424" y="10722"/>
                    <a:pt x="4442" y="10722"/>
                  </a:cubicBezTo>
                  <a:cubicBezTo>
                    <a:pt x="4465" y="10722"/>
                    <a:pt x="4482" y="10727"/>
                    <a:pt x="4500" y="10716"/>
                  </a:cubicBezTo>
                  <a:cubicBezTo>
                    <a:pt x="4523" y="10704"/>
                    <a:pt x="4523" y="10664"/>
                    <a:pt x="4552" y="10664"/>
                  </a:cubicBezTo>
                  <a:cubicBezTo>
                    <a:pt x="4581" y="10664"/>
                    <a:pt x="4593" y="10687"/>
                    <a:pt x="4622" y="10687"/>
                  </a:cubicBezTo>
                  <a:cubicBezTo>
                    <a:pt x="4640" y="10687"/>
                    <a:pt x="4645" y="10675"/>
                    <a:pt x="4657" y="10669"/>
                  </a:cubicBezTo>
                  <a:cubicBezTo>
                    <a:pt x="4709" y="10669"/>
                    <a:pt x="4709" y="10669"/>
                    <a:pt x="4709" y="10669"/>
                  </a:cubicBezTo>
                  <a:cubicBezTo>
                    <a:pt x="4768" y="10669"/>
                    <a:pt x="4797" y="10658"/>
                    <a:pt x="4855" y="10658"/>
                  </a:cubicBezTo>
                  <a:cubicBezTo>
                    <a:pt x="4902" y="10658"/>
                    <a:pt x="4907" y="10722"/>
                    <a:pt x="4954" y="10722"/>
                  </a:cubicBezTo>
                  <a:cubicBezTo>
                    <a:pt x="5012" y="10722"/>
                    <a:pt x="5041" y="10693"/>
                    <a:pt x="5094" y="10664"/>
                  </a:cubicBezTo>
                  <a:cubicBezTo>
                    <a:pt x="5117" y="10652"/>
                    <a:pt x="5134" y="10652"/>
                    <a:pt x="5164" y="10646"/>
                  </a:cubicBezTo>
                  <a:cubicBezTo>
                    <a:pt x="5187" y="10640"/>
                    <a:pt x="5210" y="10640"/>
                    <a:pt x="5210" y="10623"/>
                  </a:cubicBezTo>
                  <a:cubicBezTo>
                    <a:pt x="5210" y="10605"/>
                    <a:pt x="5198" y="10599"/>
                    <a:pt x="5198" y="10582"/>
                  </a:cubicBezTo>
                  <a:cubicBezTo>
                    <a:pt x="5198" y="10518"/>
                    <a:pt x="5280" y="10518"/>
                    <a:pt x="5315" y="10465"/>
                  </a:cubicBezTo>
                  <a:cubicBezTo>
                    <a:pt x="5350" y="10413"/>
                    <a:pt x="5344" y="10372"/>
                    <a:pt x="5356" y="10314"/>
                  </a:cubicBezTo>
                  <a:cubicBezTo>
                    <a:pt x="5373" y="10244"/>
                    <a:pt x="5396" y="10204"/>
                    <a:pt x="5455" y="10169"/>
                  </a:cubicBezTo>
                  <a:cubicBezTo>
                    <a:pt x="5507" y="10139"/>
                    <a:pt x="5530" y="10105"/>
                    <a:pt x="5583" y="10105"/>
                  </a:cubicBezTo>
                  <a:cubicBezTo>
                    <a:pt x="5635" y="10105"/>
                    <a:pt x="5635" y="10105"/>
                    <a:pt x="5635" y="10105"/>
                  </a:cubicBezTo>
                  <a:cubicBezTo>
                    <a:pt x="5693" y="10105"/>
                    <a:pt x="5717" y="10070"/>
                    <a:pt x="5763" y="10041"/>
                  </a:cubicBezTo>
                  <a:cubicBezTo>
                    <a:pt x="5856" y="9982"/>
                    <a:pt x="5909" y="9942"/>
                    <a:pt x="6013" y="9918"/>
                  </a:cubicBezTo>
                  <a:cubicBezTo>
                    <a:pt x="6153" y="9907"/>
                    <a:pt x="6188" y="9761"/>
                    <a:pt x="6322" y="9726"/>
                  </a:cubicBezTo>
                  <a:cubicBezTo>
                    <a:pt x="6345" y="9732"/>
                    <a:pt x="6345" y="9732"/>
                    <a:pt x="6345" y="9732"/>
                  </a:cubicBezTo>
                  <a:cubicBezTo>
                    <a:pt x="6363" y="9720"/>
                    <a:pt x="6375" y="9709"/>
                    <a:pt x="6398" y="9709"/>
                  </a:cubicBezTo>
                  <a:cubicBezTo>
                    <a:pt x="6485" y="9709"/>
                    <a:pt x="6526" y="9761"/>
                    <a:pt x="6607" y="9761"/>
                  </a:cubicBezTo>
                  <a:cubicBezTo>
                    <a:pt x="6764" y="9761"/>
                    <a:pt x="6852" y="9744"/>
                    <a:pt x="7009" y="9709"/>
                  </a:cubicBezTo>
                  <a:cubicBezTo>
                    <a:pt x="7079" y="9691"/>
                    <a:pt x="7108" y="9656"/>
                    <a:pt x="7178" y="9639"/>
                  </a:cubicBezTo>
                  <a:cubicBezTo>
                    <a:pt x="7300" y="9610"/>
                    <a:pt x="7364" y="9581"/>
                    <a:pt x="7481" y="9528"/>
                  </a:cubicBezTo>
                  <a:cubicBezTo>
                    <a:pt x="7585" y="9487"/>
                    <a:pt x="7626" y="9406"/>
                    <a:pt x="7737" y="9406"/>
                  </a:cubicBezTo>
                  <a:lnTo>
                    <a:pt x="7737" y="9406"/>
                  </a:lnTo>
                  <a:cubicBezTo>
                    <a:pt x="7737" y="6258"/>
                    <a:pt x="7737" y="6258"/>
                    <a:pt x="7737" y="6258"/>
                  </a:cubicBezTo>
                  <a:lnTo>
                    <a:pt x="7737" y="6258"/>
                  </a:lnTo>
                  <a:cubicBezTo>
                    <a:pt x="7713" y="576"/>
                    <a:pt x="7713" y="576"/>
                    <a:pt x="7713" y="576"/>
                  </a:cubicBezTo>
                  <a:close/>
                  <a:moveTo>
                    <a:pt x="1123" y="3580"/>
                  </a:moveTo>
                  <a:lnTo>
                    <a:pt x="1123" y="3580"/>
                  </a:lnTo>
                  <a:cubicBezTo>
                    <a:pt x="1141" y="3539"/>
                    <a:pt x="1164" y="3510"/>
                    <a:pt x="1205" y="3498"/>
                  </a:cubicBezTo>
                  <a:cubicBezTo>
                    <a:pt x="1205" y="3539"/>
                    <a:pt x="1187" y="3586"/>
                    <a:pt x="1147" y="3586"/>
                  </a:cubicBezTo>
                  <a:cubicBezTo>
                    <a:pt x="1135" y="3586"/>
                    <a:pt x="1129" y="3586"/>
                    <a:pt x="1123" y="3580"/>
                  </a:cubicBezTo>
                  <a:close/>
                  <a:moveTo>
                    <a:pt x="29" y="6019"/>
                  </a:moveTo>
                  <a:lnTo>
                    <a:pt x="29" y="6019"/>
                  </a:lnTo>
                  <a:cubicBezTo>
                    <a:pt x="23" y="6019"/>
                    <a:pt x="17" y="6013"/>
                    <a:pt x="6" y="6013"/>
                  </a:cubicBezTo>
                  <a:cubicBezTo>
                    <a:pt x="6" y="6019"/>
                    <a:pt x="0" y="6025"/>
                    <a:pt x="0" y="6036"/>
                  </a:cubicBezTo>
                  <a:cubicBezTo>
                    <a:pt x="0" y="6118"/>
                    <a:pt x="29" y="6164"/>
                    <a:pt x="70" y="6234"/>
                  </a:cubicBezTo>
                  <a:cubicBezTo>
                    <a:pt x="93" y="6275"/>
                    <a:pt x="99" y="6304"/>
                    <a:pt x="122" y="6339"/>
                  </a:cubicBezTo>
                  <a:cubicBezTo>
                    <a:pt x="116" y="6223"/>
                    <a:pt x="29" y="6170"/>
                    <a:pt x="29" y="6054"/>
                  </a:cubicBezTo>
                  <a:lnTo>
                    <a:pt x="29" y="6019"/>
                  </a:lnTo>
                  <a:close/>
                </a:path>
              </a:pathLst>
            </a:custGeom>
            <a:solidFill>
              <a:srgbClr val="d9d9d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67" name="Freeform 2"/>
            <p:cNvSpPr/>
            <p:nvPr/>
          </p:nvSpPr>
          <p:spPr>
            <a:xfrm>
              <a:off x="3211560" y="2508120"/>
              <a:ext cx="959760" cy="1674720"/>
            </a:xfrm>
            <a:custGeom>
              <a:avLst/>
              <a:gdLst/>
              <a:ahLst/>
              <a:rect l="l" t="t" r="r" b="b"/>
              <a:pathLst>
                <a:path w="4355" h="7604">
                  <a:moveTo>
                    <a:pt x="1089" y="59"/>
                  </a:moveTo>
                  <a:lnTo>
                    <a:pt x="1089" y="59"/>
                  </a:lnTo>
                  <a:cubicBezTo>
                    <a:pt x="1083" y="105"/>
                    <a:pt x="1089" y="128"/>
                    <a:pt x="1089" y="175"/>
                  </a:cubicBezTo>
                  <a:cubicBezTo>
                    <a:pt x="1077" y="146"/>
                    <a:pt x="1072" y="117"/>
                    <a:pt x="1043" y="117"/>
                  </a:cubicBezTo>
                  <a:cubicBezTo>
                    <a:pt x="1013" y="117"/>
                    <a:pt x="984" y="128"/>
                    <a:pt x="984" y="157"/>
                  </a:cubicBezTo>
                  <a:cubicBezTo>
                    <a:pt x="984" y="181"/>
                    <a:pt x="984" y="192"/>
                    <a:pt x="984" y="210"/>
                  </a:cubicBezTo>
                  <a:cubicBezTo>
                    <a:pt x="967" y="181"/>
                    <a:pt x="978" y="128"/>
                    <a:pt x="944" y="128"/>
                  </a:cubicBezTo>
                  <a:cubicBezTo>
                    <a:pt x="909" y="128"/>
                    <a:pt x="891" y="157"/>
                    <a:pt x="856" y="163"/>
                  </a:cubicBezTo>
                  <a:cubicBezTo>
                    <a:pt x="862" y="187"/>
                    <a:pt x="874" y="198"/>
                    <a:pt x="885" y="227"/>
                  </a:cubicBezTo>
                  <a:cubicBezTo>
                    <a:pt x="874" y="227"/>
                    <a:pt x="874" y="227"/>
                    <a:pt x="874" y="227"/>
                  </a:cubicBezTo>
                  <a:cubicBezTo>
                    <a:pt x="845" y="210"/>
                    <a:pt x="833" y="187"/>
                    <a:pt x="798" y="169"/>
                  </a:cubicBezTo>
                  <a:cubicBezTo>
                    <a:pt x="775" y="163"/>
                    <a:pt x="751" y="157"/>
                    <a:pt x="746" y="128"/>
                  </a:cubicBezTo>
                  <a:cubicBezTo>
                    <a:pt x="769" y="128"/>
                    <a:pt x="769" y="128"/>
                    <a:pt x="769" y="128"/>
                  </a:cubicBezTo>
                  <a:cubicBezTo>
                    <a:pt x="769" y="123"/>
                    <a:pt x="769" y="117"/>
                    <a:pt x="775" y="111"/>
                  </a:cubicBezTo>
                  <a:cubicBezTo>
                    <a:pt x="734" y="105"/>
                    <a:pt x="717" y="76"/>
                    <a:pt x="676" y="59"/>
                  </a:cubicBezTo>
                  <a:cubicBezTo>
                    <a:pt x="676" y="59"/>
                    <a:pt x="670" y="64"/>
                    <a:pt x="670" y="70"/>
                  </a:cubicBezTo>
                  <a:cubicBezTo>
                    <a:pt x="670" y="157"/>
                    <a:pt x="722" y="198"/>
                    <a:pt x="722" y="291"/>
                  </a:cubicBezTo>
                  <a:cubicBezTo>
                    <a:pt x="751" y="291"/>
                    <a:pt x="769" y="297"/>
                    <a:pt x="786" y="309"/>
                  </a:cubicBezTo>
                  <a:cubicBezTo>
                    <a:pt x="815" y="320"/>
                    <a:pt x="804" y="355"/>
                    <a:pt x="827" y="373"/>
                  </a:cubicBezTo>
                  <a:cubicBezTo>
                    <a:pt x="850" y="385"/>
                    <a:pt x="868" y="373"/>
                    <a:pt x="897" y="379"/>
                  </a:cubicBezTo>
                  <a:cubicBezTo>
                    <a:pt x="920" y="390"/>
                    <a:pt x="932" y="408"/>
                    <a:pt x="949" y="431"/>
                  </a:cubicBezTo>
                  <a:cubicBezTo>
                    <a:pt x="967" y="420"/>
                    <a:pt x="967" y="396"/>
                    <a:pt x="984" y="385"/>
                  </a:cubicBezTo>
                  <a:cubicBezTo>
                    <a:pt x="1008" y="367"/>
                    <a:pt x="1037" y="373"/>
                    <a:pt x="1060" y="350"/>
                  </a:cubicBezTo>
                  <a:cubicBezTo>
                    <a:pt x="1095" y="320"/>
                    <a:pt x="1095" y="262"/>
                    <a:pt x="1141" y="262"/>
                  </a:cubicBezTo>
                  <a:cubicBezTo>
                    <a:pt x="1153" y="262"/>
                    <a:pt x="1159" y="268"/>
                    <a:pt x="1171" y="268"/>
                  </a:cubicBezTo>
                  <a:cubicBezTo>
                    <a:pt x="1188" y="233"/>
                    <a:pt x="1217" y="216"/>
                    <a:pt x="1217" y="181"/>
                  </a:cubicBezTo>
                  <a:cubicBezTo>
                    <a:pt x="1217" y="152"/>
                    <a:pt x="1182" y="157"/>
                    <a:pt x="1171" y="134"/>
                  </a:cubicBezTo>
                  <a:cubicBezTo>
                    <a:pt x="1141" y="99"/>
                    <a:pt x="1130" y="76"/>
                    <a:pt x="1089" y="59"/>
                  </a:cubicBezTo>
                  <a:close/>
                  <a:moveTo>
                    <a:pt x="664" y="169"/>
                  </a:moveTo>
                  <a:lnTo>
                    <a:pt x="664" y="169"/>
                  </a:lnTo>
                  <a:cubicBezTo>
                    <a:pt x="676" y="210"/>
                    <a:pt x="652" y="227"/>
                    <a:pt x="647" y="268"/>
                  </a:cubicBezTo>
                  <a:cubicBezTo>
                    <a:pt x="664" y="268"/>
                    <a:pt x="682" y="262"/>
                    <a:pt x="693" y="274"/>
                  </a:cubicBezTo>
                  <a:cubicBezTo>
                    <a:pt x="687" y="297"/>
                    <a:pt x="687" y="297"/>
                    <a:pt x="687" y="297"/>
                  </a:cubicBezTo>
                  <a:cubicBezTo>
                    <a:pt x="687" y="303"/>
                    <a:pt x="687" y="309"/>
                    <a:pt x="687" y="315"/>
                  </a:cubicBezTo>
                  <a:cubicBezTo>
                    <a:pt x="728" y="320"/>
                    <a:pt x="751" y="332"/>
                    <a:pt x="781" y="361"/>
                  </a:cubicBezTo>
                  <a:cubicBezTo>
                    <a:pt x="769" y="367"/>
                    <a:pt x="757" y="379"/>
                    <a:pt x="740" y="379"/>
                  </a:cubicBezTo>
                  <a:cubicBezTo>
                    <a:pt x="687" y="379"/>
                    <a:pt x="658" y="350"/>
                    <a:pt x="606" y="350"/>
                  </a:cubicBezTo>
                  <a:cubicBezTo>
                    <a:pt x="571" y="350"/>
                    <a:pt x="554" y="361"/>
                    <a:pt x="524" y="367"/>
                  </a:cubicBezTo>
                  <a:cubicBezTo>
                    <a:pt x="530" y="350"/>
                    <a:pt x="530" y="332"/>
                    <a:pt x="536" y="315"/>
                  </a:cubicBezTo>
                  <a:cubicBezTo>
                    <a:pt x="554" y="315"/>
                    <a:pt x="554" y="315"/>
                    <a:pt x="554" y="315"/>
                  </a:cubicBezTo>
                  <a:cubicBezTo>
                    <a:pt x="559" y="315"/>
                    <a:pt x="565" y="320"/>
                    <a:pt x="571" y="320"/>
                  </a:cubicBezTo>
                  <a:cubicBezTo>
                    <a:pt x="594" y="320"/>
                    <a:pt x="623" y="326"/>
                    <a:pt x="623" y="303"/>
                  </a:cubicBezTo>
                  <a:cubicBezTo>
                    <a:pt x="623" y="268"/>
                    <a:pt x="594" y="262"/>
                    <a:pt x="583" y="233"/>
                  </a:cubicBezTo>
                  <a:cubicBezTo>
                    <a:pt x="594" y="210"/>
                    <a:pt x="594" y="210"/>
                    <a:pt x="594" y="210"/>
                  </a:cubicBezTo>
                  <a:cubicBezTo>
                    <a:pt x="583" y="210"/>
                    <a:pt x="577" y="204"/>
                    <a:pt x="571" y="204"/>
                  </a:cubicBezTo>
                  <a:cubicBezTo>
                    <a:pt x="577" y="192"/>
                    <a:pt x="577" y="192"/>
                    <a:pt x="577" y="192"/>
                  </a:cubicBezTo>
                  <a:cubicBezTo>
                    <a:pt x="612" y="175"/>
                    <a:pt x="623" y="152"/>
                    <a:pt x="647" y="128"/>
                  </a:cubicBezTo>
                  <a:cubicBezTo>
                    <a:pt x="658" y="140"/>
                    <a:pt x="664" y="152"/>
                    <a:pt x="664" y="169"/>
                  </a:cubicBezTo>
                  <a:close/>
                  <a:moveTo>
                    <a:pt x="3591" y="1374"/>
                  </a:moveTo>
                  <a:lnTo>
                    <a:pt x="3591" y="1374"/>
                  </a:lnTo>
                  <a:cubicBezTo>
                    <a:pt x="3591" y="1392"/>
                    <a:pt x="3597" y="1403"/>
                    <a:pt x="3597" y="1421"/>
                  </a:cubicBezTo>
                  <a:cubicBezTo>
                    <a:pt x="3597" y="1467"/>
                    <a:pt x="3591" y="1496"/>
                    <a:pt x="3586" y="1549"/>
                  </a:cubicBezTo>
                  <a:cubicBezTo>
                    <a:pt x="3667" y="1549"/>
                    <a:pt x="3708" y="1595"/>
                    <a:pt x="3789" y="1595"/>
                  </a:cubicBezTo>
                  <a:cubicBezTo>
                    <a:pt x="3801" y="1595"/>
                    <a:pt x="3813" y="1590"/>
                    <a:pt x="3824" y="1595"/>
                  </a:cubicBezTo>
                  <a:cubicBezTo>
                    <a:pt x="3824" y="1578"/>
                    <a:pt x="3824" y="1566"/>
                    <a:pt x="3824" y="1549"/>
                  </a:cubicBezTo>
                  <a:cubicBezTo>
                    <a:pt x="3818" y="1543"/>
                    <a:pt x="3818" y="1543"/>
                    <a:pt x="3818" y="1543"/>
                  </a:cubicBezTo>
                  <a:cubicBezTo>
                    <a:pt x="3807" y="1555"/>
                    <a:pt x="3801" y="1566"/>
                    <a:pt x="3784" y="1566"/>
                  </a:cubicBezTo>
                  <a:cubicBezTo>
                    <a:pt x="3772" y="1566"/>
                    <a:pt x="3772" y="1549"/>
                    <a:pt x="3766" y="1549"/>
                  </a:cubicBezTo>
                  <a:cubicBezTo>
                    <a:pt x="3754" y="1549"/>
                    <a:pt x="3749" y="1555"/>
                    <a:pt x="3743" y="1555"/>
                  </a:cubicBezTo>
                  <a:cubicBezTo>
                    <a:pt x="3720" y="1555"/>
                    <a:pt x="3708" y="1537"/>
                    <a:pt x="3708" y="1520"/>
                  </a:cubicBezTo>
                  <a:cubicBezTo>
                    <a:pt x="3708" y="1491"/>
                    <a:pt x="3731" y="1491"/>
                    <a:pt x="3743" y="1467"/>
                  </a:cubicBezTo>
                  <a:cubicBezTo>
                    <a:pt x="3725" y="1461"/>
                    <a:pt x="3708" y="1450"/>
                    <a:pt x="3708" y="1432"/>
                  </a:cubicBezTo>
                  <a:cubicBezTo>
                    <a:pt x="3708" y="1421"/>
                    <a:pt x="3714" y="1415"/>
                    <a:pt x="3714" y="1403"/>
                  </a:cubicBezTo>
                  <a:cubicBezTo>
                    <a:pt x="3725" y="1403"/>
                    <a:pt x="3731" y="1403"/>
                    <a:pt x="3743" y="1403"/>
                  </a:cubicBezTo>
                  <a:cubicBezTo>
                    <a:pt x="3778" y="1403"/>
                    <a:pt x="3824" y="1386"/>
                    <a:pt x="3754" y="1386"/>
                  </a:cubicBezTo>
                  <a:cubicBezTo>
                    <a:pt x="3731" y="1386"/>
                    <a:pt x="3708" y="1368"/>
                    <a:pt x="3708" y="1345"/>
                  </a:cubicBezTo>
                  <a:cubicBezTo>
                    <a:pt x="3708" y="1328"/>
                    <a:pt x="3720" y="1322"/>
                    <a:pt x="3720" y="1304"/>
                  </a:cubicBezTo>
                  <a:cubicBezTo>
                    <a:pt x="3720" y="1281"/>
                    <a:pt x="3690" y="1328"/>
                    <a:pt x="3679" y="1345"/>
                  </a:cubicBezTo>
                  <a:cubicBezTo>
                    <a:pt x="3661" y="1374"/>
                    <a:pt x="3626" y="1374"/>
                    <a:pt x="3591" y="1374"/>
                  </a:cubicBezTo>
                  <a:close/>
                  <a:moveTo>
                    <a:pt x="3498" y="1298"/>
                  </a:moveTo>
                  <a:lnTo>
                    <a:pt x="3498" y="1298"/>
                  </a:lnTo>
                  <a:cubicBezTo>
                    <a:pt x="3487" y="1293"/>
                    <a:pt x="3481" y="1293"/>
                    <a:pt x="3469" y="1287"/>
                  </a:cubicBezTo>
                  <a:cubicBezTo>
                    <a:pt x="3463" y="1298"/>
                    <a:pt x="3463" y="1304"/>
                    <a:pt x="3463" y="1310"/>
                  </a:cubicBezTo>
                  <a:cubicBezTo>
                    <a:pt x="3463" y="1339"/>
                    <a:pt x="3475" y="1351"/>
                    <a:pt x="3492" y="1374"/>
                  </a:cubicBezTo>
                  <a:cubicBezTo>
                    <a:pt x="3492" y="1345"/>
                    <a:pt x="3504" y="1328"/>
                    <a:pt x="3498" y="1298"/>
                  </a:cubicBezTo>
                  <a:close/>
                  <a:moveTo>
                    <a:pt x="3894" y="2306"/>
                  </a:moveTo>
                  <a:lnTo>
                    <a:pt x="3894" y="2306"/>
                  </a:lnTo>
                  <a:cubicBezTo>
                    <a:pt x="3883" y="2288"/>
                    <a:pt x="3883" y="2265"/>
                    <a:pt x="3859" y="2265"/>
                  </a:cubicBezTo>
                  <a:cubicBezTo>
                    <a:pt x="3847" y="2265"/>
                    <a:pt x="3836" y="2271"/>
                    <a:pt x="3824" y="2282"/>
                  </a:cubicBezTo>
                  <a:cubicBezTo>
                    <a:pt x="3847" y="2317"/>
                    <a:pt x="3865" y="2329"/>
                    <a:pt x="3894" y="2352"/>
                  </a:cubicBezTo>
                  <a:cubicBezTo>
                    <a:pt x="3894" y="2346"/>
                    <a:pt x="3900" y="2341"/>
                    <a:pt x="3900" y="2335"/>
                  </a:cubicBezTo>
                  <a:cubicBezTo>
                    <a:pt x="3900" y="2329"/>
                    <a:pt x="3894" y="2311"/>
                    <a:pt x="3894" y="2306"/>
                  </a:cubicBezTo>
                  <a:close/>
                  <a:moveTo>
                    <a:pt x="4348" y="2742"/>
                  </a:moveTo>
                  <a:lnTo>
                    <a:pt x="4348" y="2742"/>
                  </a:lnTo>
                  <a:lnTo>
                    <a:pt x="4348" y="2742"/>
                  </a:lnTo>
                  <a:cubicBezTo>
                    <a:pt x="4354" y="7603"/>
                    <a:pt x="4354" y="7603"/>
                    <a:pt x="4354" y="7603"/>
                  </a:cubicBezTo>
                  <a:lnTo>
                    <a:pt x="4354" y="7603"/>
                  </a:lnTo>
                  <a:cubicBezTo>
                    <a:pt x="24" y="7586"/>
                    <a:pt x="24" y="7586"/>
                    <a:pt x="24" y="7586"/>
                  </a:cubicBezTo>
                  <a:lnTo>
                    <a:pt x="24" y="7586"/>
                  </a:lnTo>
                  <a:cubicBezTo>
                    <a:pt x="0" y="1904"/>
                    <a:pt x="0" y="1904"/>
                    <a:pt x="0" y="1904"/>
                  </a:cubicBezTo>
                  <a:lnTo>
                    <a:pt x="0" y="1904"/>
                  </a:lnTo>
                  <a:cubicBezTo>
                    <a:pt x="53" y="1921"/>
                    <a:pt x="88" y="1956"/>
                    <a:pt x="88" y="2015"/>
                  </a:cubicBezTo>
                  <a:cubicBezTo>
                    <a:pt x="88" y="2137"/>
                    <a:pt x="88" y="2015"/>
                    <a:pt x="146" y="2015"/>
                  </a:cubicBezTo>
                  <a:cubicBezTo>
                    <a:pt x="140" y="1980"/>
                    <a:pt x="117" y="1962"/>
                    <a:pt x="117" y="1927"/>
                  </a:cubicBezTo>
                  <a:cubicBezTo>
                    <a:pt x="117" y="1916"/>
                    <a:pt x="117" y="1910"/>
                    <a:pt x="117" y="1898"/>
                  </a:cubicBezTo>
                  <a:cubicBezTo>
                    <a:pt x="123" y="1892"/>
                    <a:pt x="129" y="1892"/>
                    <a:pt x="134" y="1892"/>
                  </a:cubicBezTo>
                  <a:cubicBezTo>
                    <a:pt x="140" y="1892"/>
                    <a:pt x="146" y="1898"/>
                    <a:pt x="152" y="1898"/>
                  </a:cubicBezTo>
                  <a:cubicBezTo>
                    <a:pt x="175" y="1892"/>
                    <a:pt x="175" y="1892"/>
                    <a:pt x="175" y="1892"/>
                  </a:cubicBezTo>
                  <a:cubicBezTo>
                    <a:pt x="192" y="1921"/>
                    <a:pt x="210" y="1933"/>
                    <a:pt x="245" y="1945"/>
                  </a:cubicBezTo>
                  <a:cubicBezTo>
                    <a:pt x="268" y="1956"/>
                    <a:pt x="268" y="1985"/>
                    <a:pt x="292" y="1997"/>
                  </a:cubicBezTo>
                  <a:cubicBezTo>
                    <a:pt x="338" y="2038"/>
                    <a:pt x="402" y="2050"/>
                    <a:pt x="379" y="2044"/>
                  </a:cubicBezTo>
                  <a:cubicBezTo>
                    <a:pt x="379" y="2026"/>
                    <a:pt x="355" y="2032"/>
                    <a:pt x="344" y="2015"/>
                  </a:cubicBezTo>
                  <a:cubicBezTo>
                    <a:pt x="321" y="1997"/>
                    <a:pt x="326" y="1974"/>
                    <a:pt x="321" y="1945"/>
                  </a:cubicBezTo>
                  <a:cubicBezTo>
                    <a:pt x="315" y="1927"/>
                    <a:pt x="297" y="1916"/>
                    <a:pt x="297" y="1898"/>
                  </a:cubicBezTo>
                  <a:cubicBezTo>
                    <a:pt x="297" y="1881"/>
                    <a:pt x="297" y="1881"/>
                    <a:pt x="297" y="1881"/>
                  </a:cubicBezTo>
                  <a:cubicBezTo>
                    <a:pt x="367" y="1881"/>
                    <a:pt x="367" y="1881"/>
                    <a:pt x="367" y="1881"/>
                  </a:cubicBezTo>
                  <a:cubicBezTo>
                    <a:pt x="379" y="1881"/>
                    <a:pt x="385" y="1869"/>
                    <a:pt x="391" y="1869"/>
                  </a:cubicBezTo>
                  <a:cubicBezTo>
                    <a:pt x="396" y="1869"/>
                    <a:pt x="402" y="1875"/>
                    <a:pt x="408" y="1875"/>
                  </a:cubicBezTo>
                  <a:cubicBezTo>
                    <a:pt x="431" y="1875"/>
                    <a:pt x="443" y="1846"/>
                    <a:pt x="466" y="1846"/>
                  </a:cubicBezTo>
                  <a:cubicBezTo>
                    <a:pt x="460" y="1840"/>
                    <a:pt x="460" y="1828"/>
                    <a:pt x="449" y="1828"/>
                  </a:cubicBezTo>
                  <a:cubicBezTo>
                    <a:pt x="420" y="1828"/>
                    <a:pt x="408" y="1840"/>
                    <a:pt x="379" y="1840"/>
                  </a:cubicBezTo>
                  <a:cubicBezTo>
                    <a:pt x="361" y="1840"/>
                    <a:pt x="350" y="1840"/>
                    <a:pt x="332" y="1840"/>
                  </a:cubicBezTo>
                  <a:cubicBezTo>
                    <a:pt x="332" y="1822"/>
                    <a:pt x="332" y="1811"/>
                    <a:pt x="332" y="1793"/>
                  </a:cubicBezTo>
                  <a:cubicBezTo>
                    <a:pt x="332" y="1758"/>
                    <a:pt x="367" y="1758"/>
                    <a:pt x="379" y="1729"/>
                  </a:cubicBezTo>
                  <a:cubicBezTo>
                    <a:pt x="373" y="1729"/>
                    <a:pt x="367" y="1724"/>
                    <a:pt x="361" y="1724"/>
                  </a:cubicBezTo>
                  <a:cubicBezTo>
                    <a:pt x="350" y="1724"/>
                    <a:pt x="338" y="1729"/>
                    <a:pt x="326" y="1735"/>
                  </a:cubicBezTo>
                  <a:cubicBezTo>
                    <a:pt x="309" y="1706"/>
                    <a:pt x="280" y="1712"/>
                    <a:pt x="251" y="1694"/>
                  </a:cubicBezTo>
                  <a:cubicBezTo>
                    <a:pt x="216" y="1671"/>
                    <a:pt x="198" y="1636"/>
                    <a:pt x="198" y="1590"/>
                  </a:cubicBezTo>
                  <a:cubicBezTo>
                    <a:pt x="198" y="1561"/>
                    <a:pt x="216" y="1537"/>
                    <a:pt x="245" y="1520"/>
                  </a:cubicBezTo>
                  <a:cubicBezTo>
                    <a:pt x="268" y="1531"/>
                    <a:pt x="268" y="1531"/>
                    <a:pt x="268" y="1531"/>
                  </a:cubicBezTo>
                  <a:cubicBezTo>
                    <a:pt x="292" y="1479"/>
                    <a:pt x="367" y="1473"/>
                    <a:pt x="367" y="1415"/>
                  </a:cubicBezTo>
                  <a:cubicBezTo>
                    <a:pt x="367" y="1386"/>
                    <a:pt x="385" y="1374"/>
                    <a:pt x="396" y="1351"/>
                  </a:cubicBezTo>
                  <a:cubicBezTo>
                    <a:pt x="408" y="1310"/>
                    <a:pt x="396" y="1287"/>
                    <a:pt x="396" y="1246"/>
                  </a:cubicBezTo>
                  <a:cubicBezTo>
                    <a:pt x="396" y="1223"/>
                    <a:pt x="402" y="1205"/>
                    <a:pt x="420" y="1194"/>
                  </a:cubicBezTo>
                  <a:cubicBezTo>
                    <a:pt x="437" y="1205"/>
                    <a:pt x="449" y="1217"/>
                    <a:pt x="466" y="1217"/>
                  </a:cubicBezTo>
                  <a:cubicBezTo>
                    <a:pt x="524" y="1217"/>
                    <a:pt x="542" y="1159"/>
                    <a:pt x="594" y="1141"/>
                  </a:cubicBezTo>
                  <a:cubicBezTo>
                    <a:pt x="606" y="1159"/>
                    <a:pt x="612" y="1165"/>
                    <a:pt x="623" y="1182"/>
                  </a:cubicBezTo>
                  <a:cubicBezTo>
                    <a:pt x="635" y="1182"/>
                    <a:pt x="635" y="1182"/>
                    <a:pt x="635" y="1182"/>
                  </a:cubicBezTo>
                  <a:cubicBezTo>
                    <a:pt x="629" y="1170"/>
                    <a:pt x="618" y="1159"/>
                    <a:pt x="618" y="1141"/>
                  </a:cubicBezTo>
                  <a:cubicBezTo>
                    <a:pt x="618" y="1130"/>
                    <a:pt x="629" y="1124"/>
                    <a:pt x="629" y="1112"/>
                  </a:cubicBezTo>
                  <a:cubicBezTo>
                    <a:pt x="629" y="1054"/>
                    <a:pt x="554" y="1042"/>
                    <a:pt x="554" y="984"/>
                  </a:cubicBezTo>
                  <a:cubicBezTo>
                    <a:pt x="554" y="961"/>
                    <a:pt x="565" y="943"/>
                    <a:pt x="565" y="920"/>
                  </a:cubicBezTo>
                  <a:lnTo>
                    <a:pt x="571" y="914"/>
                  </a:lnTo>
                  <a:cubicBezTo>
                    <a:pt x="588" y="914"/>
                    <a:pt x="594" y="926"/>
                    <a:pt x="606" y="926"/>
                  </a:cubicBezTo>
                  <a:cubicBezTo>
                    <a:pt x="658" y="926"/>
                    <a:pt x="664" y="862"/>
                    <a:pt x="664" y="815"/>
                  </a:cubicBezTo>
                  <a:cubicBezTo>
                    <a:pt x="676" y="804"/>
                    <a:pt x="682" y="786"/>
                    <a:pt x="693" y="786"/>
                  </a:cubicBezTo>
                  <a:cubicBezTo>
                    <a:pt x="740" y="786"/>
                    <a:pt x="751" y="833"/>
                    <a:pt x="792" y="833"/>
                  </a:cubicBezTo>
                  <a:cubicBezTo>
                    <a:pt x="810" y="833"/>
                    <a:pt x="821" y="833"/>
                    <a:pt x="839" y="833"/>
                  </a:cubicBezTo>
                  <a:cubicBezTo>
                    <a:pt x="845" y="827"/>
                    <a:pt x="845" y="821"/>
                    <a:pt x="850" y="821"/>
                  </a:cubicBezTo>
                  <a:cubicBezTo>
                    <a:pt x="827" y="792"/>
                    <a:pt x="781" y="798"/>
                    <a:pt x="781" y="763"/>
                  </a:cubicBezTo>
                  <a:cubicBezTo>
                    <a:pt x="781" y="751"/>
                    <a:pt x="763" y="751"/>
                    <a:pt x="763" y="740"/>
                  </a:cubicBezTo>
                  <a:cubicBezTo>
                    <a:pt x="763" y="711"/>
                    <a:pt x="781" y="699"/>
                    <a:pt x="781" y="670"/>
                  </a:cubicBezTo>
                  <a:cubicBezTo>
                    <a:pt x="821" y="681"/>
                    <a:pt x="850" y="705"/>
                    <a:pt x="868" y="746"/>
                  </a:cubicBezTo>
                  <a:cubicBezTo>
                    <a:pt x="874" y="746"/>
                    <a:pt x="874" y="746"/>
                    <a:pt x="874" y="746"/>
                  </a:cubicBezTo>
                  <a:cubicBezTo>
                    <a:pt x="880" y="740"/>
                    <a:pt x="880" y="740"/>
                    <a:pt x="880" y="740"/>
                  </a:cubicBezTo>
                  <a:cubicBezTo>
                    <a:pt x="891" y="746"/>
                    <a:pt x="897" y="751"/>
                    <a:pt x="909" y="763"/>
                  </a:cubicBezTo>
                  <a:cubicBezTo>
                    <a:pt x="920" y="769"/>
                    <a:pt x="920" y="769"/>
                    <a:pt x="920" y="769"/>
                  </a:cubicBezTo>
                  <a:cubicBezTo>
                    <a:pt x="920" y="757"/>
                    <a:pt x="920" y="751"/>
                    <a:pt x="920" y="746"/>
                  </a:cubicBezTo>
                  <a:cubicBezTo>
                    <a:pt x="926" y="740"/>
                    <a:pt x="926" y="740"/>
                    <a:pt x="926" y="740"/>
                  </a:cubicBezTo>
                  <a:cubicBezTo>
                    <a:pt x="938" y="746"/>
                    <a:pt x="944" y="746"/>
                    <a:pt x="949" y="751"/>
                  </a:cubicBezTo>
                  <a:cubicBezTo>
                    <a:pt x="955" y="746"/>
                    <a:pt x="955" y="740"/>
                    <a:pt x="955" y="734"/>
                  </a:cubicBezTo>
                  <a:cubicBezTo>
                    <a:pt x="955" y="693"/>
                    <a:pt x="920" y="681"/>
                    <a:pt x="920" y="641"/>
                  </a:cubicBezTo>
                  <a:cubicBezTo>
                    <a:pt x="920" y="623"/>
                    <a:pt x="920" y="623"/>
                    <a:pt x="920" y="623"/>
                  </a:cubicBezTo>
                  <a:cubicBezTo>
                    <a:pt x="955" y="617"/>
                    <a:pt x="973" y="606"/>
                    <a:pt x="1008" y="600"/>
                  </a:cubicBezTo>
                  <a:cubicBezTo>
                    <a:pt x="1025" y="600"/>
                    <a:pt x="1043" y="606"/>
                    <a:pt x="1060" y="588"/>
                  </a:cubicBezTo>
                  <a:cubicBezTo>
                    <a:pt x="1077" y="565"/>
                    <a:pt x="1072" y="542"/>
                    <a:pt x="1095" y="518"/>
                  </a:cubicBezTo>
                  <a:cubicBezTo>
                    <a:pt x="1095" y="577"/>
                    <a:pt x="1159" y="594"/>
                    <a:pt x="1217" y="594"/>
                  </a:cubicBezTo>
                  <a:cubicBezTo>
                    <a:pt x="1270" y="594"/>
                    <a:pt x="1270" y="594"/>
                    <a:pt x="1270" y="594"/>
                  </a:cubicBezTo>
                  <a:cubicBezTo>
                    <a:pt x="1281" y="594"/>
                    <a:pt x="1287" y="600"/>
                    <a:pt x="1304" y="600"/>
                  </a:cubicBezTo>
                  <a:cubicBezTo>
                    <a:pt x="1334" y="600"/>
                    <a:pt x="1345" y="588"/>
                    <a:pt x="1369" y="588"/>
                  </a:cubicBezTo>
                  <a:cubicBezTo>
                    <a:pt x="1403" y="588"/>
                    <a:pt x="1415" y="617"/>
                    <a:pt x="1444" y="617"/>
                  </a:cubicBezTo>
                  <a:cubicBezTo>
                    <a:pt x="1497" y="617"/>
                    <a:pt x="1520" y="571"/>
                    <a:pt x="1572" y="559"/>
                  </a:cubicBezTo>
                  <a:cubicBezTo>
                    <a:pt x="1613" y="548"/>
                    <a:pt x="1636" y="536"/>
                    <a:pt x="1677" y="530"/>
                  </a:cubicBezTo>
                  <a:cubicBezTo>
                    <a:pt x="1706" y="524"/>
                    <a:pt x="1741" y="530"/>
                    <a:pt x="1753" y="507"/>
                  </a:cubicBezTo>
                  <a:cubicBezTo>
                    <a:pt x="1758" y="478"/>
                    <a:pt x="1753" y="454"/>
                    <a:pt x="1753" y="425"/>
                  </a:cubicBezTo>
                  <a:cubicBezTo>
                    <a:pt x="1753" y="344"/>
                    <a:pt x="1753" y="344"/>
                    <a:pt x="1753" y="344"/>
                  </a:cubicBezTo>
                  <a:cubicBezTo>
                    <a:pt x="1753" y="315"/>
                    <a:pt x="1776" y="303"/>
                    <a:pt x="1799" y="280"/>
                  </a:cubicBezTo>
                  <a:cubicBezTo>
                    <a:pt x="1793" y="280"/>
                    <a:pt x="1793" y="274"/>
                    <a:pt x="1788" y="274"/>
                  </a:cubicBezTo>
                  <a:cubicBezTo>
                    <a:pt x="1758" y="274"/>
                    <a:pt x="1747" y="297"/>
                    <a:pt x="1724" y="303"/>
                  </a:cubicBezTo>
                  <a:lnTo>
                    <a:pt x="1718" y="297"/>
                  </a:lnTo>
                  <a:cubicBezTo>
                    <a:pt x="1718" y="274"/>
                    <a:pt x="1735" y="262"/>
                    <a:pt x="1735" y="245"/>
                  </a:cubicBezTo>
                  <a:cubicBezTo>
                    <a:pt x="1735" y="192"/>
                    <a:pt x="1677" y="181"/>
                    <a:pt x="1630" y="181"/>
                  </a:cubicBezTo>
                  <a:cubicBezTo>
                    <a:pt x="1572" y="181"/>
                    <a:pt x="1543" y="210"/>
                    <a:pt x="1485" y="239"/>
                  </a:cubicBezTo>
                  <a:cubicBezTo>
                    <a:pt x="1479" y="192"/>
                    <a:pt x="1456" y="169"/>
                    <a:pt x="1421" y="140"/>
                  </a:cubicBezTo>
                  <a:cubicBezTo>
                    <a:pt x="1403" y="123"/>
                    <a:pt x="1374" y="117"/>
                    <a:pt x="1374" y="94"/>
                  </a:cubicBezTo>
                  <a:cubicBezTo>
                    <a:pt x="1374" y="82"/>
                    <a:pt x="1374" y="76"/>
                    <a:pt x="1374" y="64"/>
                  </a:cubicBezTo>
                  <a:cubicBezTo>
                    <a:pt x="1398" y="64"/>
                    <a:pt x="1398" y="64"/>
                    <a:pt x="1398" y="64"/>
                  </a:cubicBezTo>
                  <a:cubicBezTo>
                    <a:pt x="1409" y="64"/>
                    <a:pt x="1415" y="70"/>
                    <a:pt x="1421" y="70"/>
                  </a:cubicBezTo>
                  <a:cubicBezTo>
                    <a:pt x="1438" y="70"/>
                    <a:pt x="1438" y="47"/>
                    <a:pt x="1456" y="47"/>
                  </a:cubicBezTo>
                  <a:cubicBezTo>
                    <a:pt x="1497" y="47"/>
                    <a:pt x="1497" y="99"/>
                    <a:pt x="1526" y="128"/>
                  </a:cubicBezTo>
                  <a:lnTo>
                    <a:pt x="1532" y="123"/>
                  </a:lnTo>
                  <a:cubicBezTo>
                    <a:pt x="1532" y="111"/>
                    <a:pt x="1526" y="105"/>
                    <a:pt x="1526" y="94"/>
                  </a:cubicBezTo>
                  <a:cubicBezTo>
                    <a:pt x="1526" y="70"/>
                    <a:pt x="1532" y="53"/>
                    <a:pt x="1549" y="35"/>
                  </a:cubicBezTo>
                  <a:cubicBezTo>
                    <a:pt x="1561" y="47"/>
                    <a:pt x="1566" y="53"/>
                    <a:pt x="1578" y="53"/>
                  </a:cubicBezTo>
                  <a:cubicBezTo>
                    <a:pt x="1590" y="53"/>
                    <a:pt x="1601" y="41"/>
                    <a:pt x="1613" y="41"/>
                  </a:cubicBezTo>
                  <a:cubicBezTo>
                    <a:pt x="1636" y="41"/>
                    <a:pt x="1630" y="64"/>
                    <a:pt x="1642" y="82"/>
                  </a:cubicBezTo>
                  <a:cubicBezTo>
                    <a:pt x="1660" y="99"/>
                    <a:pt x="1677" y="94"/>
                    <a:pt x="1695" y="105"/>
                  </a:cubicBezTo>
                  <a:cubicBezTo>
                    <a:pt x="1695" y="99"/>
                    <a:pt x="1700" y="99"/>
                    <a:pt x="1700" y="94"/>
                  </a:cubicBezTo>
                  <a:cubicBezTo>
                    <a:pt x="1700" y="70"/>
                    <a:pt x="1683" y="59"/>
                    <a:pt x="1683" y="29"/>
                  </a:cubicBezTo>
                  <a:cubicBezTo>
                    <a:pt x="1683" y="18"/>
                    <a:pt x="1700" y="12"/>
                    <a:pt x="1712" y="0"/>
                  </a:cubicBezTo>
                  <a:cubicBezTo>
                    <a:pt x="1729" y="18"/>
                    <a:pt x="1724" y="35"/>
                    <a:pt x="1724" y="53"/>
                  </a:cubicBezTo>
                  <a:cubicBezTo>
                    <a:pt x="1724" y="117"/>
                    <a:pt x="1724" y="117"/>
                    <a:pt x="1724" y="117"/>
                  </a:cubicBezTo>
                  <a:cubicBezTo>
                    <a:pt x="1724" y="140"/>
                    <a:pt x="1729" y="157"/>
                    <a:pt x="1747" y="169"/>
                  </a:cubicBezTo>
                  <a:cubicBezTo>
                    <a:pt x="1770" y="181"/>
                    <a:pt x="1753" y="216"/>
                    <a:pt x="1776" y="216"/>
                  </a:cubicBezTo>
                  <a:cubicBezTo>
                    <a:pt x="1805" y="216"/>
                    <a:pt x="1823" y="222"/>
                    <a:pt x="1840" y="204"/>
                  </a:cubicBezTo>
                  <a:cubicBezTo>
                    <a:pt x="1858" y="192"/>
                    <a:pt x="1846" y="157"/>
                    <a:pt x="1869" y="157"/>
                  </a:cubicBezTo>
                  <a:cubicBezTo>
                    <a:pt x="1968" y="157"/>
                    <a:pt x="1945" y="332"/>
                    <a:pt x="2044" y="332"/>
                  </a:cubicBezTo>
                  <a:cubicBezTo>
                    <a:pt x="2061" y="332"/>
                    <a:pt x="2073" y="332"/>
                    <a:pt x="2089" y="332"/>
                  </a:cubicBezTo>
                  <a:cubicBezTo>
                    <a:pt x="2107" y="332"/>
                    <a:pt x="2118" y="350"/>
                    <a:pt x="2136" y="361"/>
                  </a:cubicBezTo>
                  <a:cubicBezTo>
                    <a:pt x="2171" y="379"/>
                    <a:pt x="2194" y="385"/>
                    <a:pt x="2235" y="385"/>
                  </a:cubicBezTo>
                  <a:cubicBezTo>
                    <a:pt x="2252" y="385"/>
                    <a:pt x="2252" y="373"/>
                    <a:pt x="2264" y="361"/>
                  </a:cubicBezTo>
                  <a:cubicBezTo>
                    <a:pt x="2282" y="332"/>
                    <a:pt x="2305" y="338"/>
                    <a:pt x="2340" y="332"/>
                  </a:cubicBezTo>
                  <a:cubicBezTo>
                    <a:pt x="2340" y="338"/>
                    <a:pt x="2346" y="338"/>
                    <a:pt x="2346" y="344"/>
                  </a:cubicBezTo>
                  <a:cubicBezTo>
                    <a:pt x="2346" y="361"/>
                    <a:pt x="2317" y="367"/>
                    <a:pt x="2317" y="390"/>
                  </a:cubicBezTo>
                  <a:cubicBezTo>
                    <a:pt x="2317" y="420"/>
                    <a:pt x="2346" y="437"/>
                    <a:pt x="2375" y="437"/>
                  </a:cubicBezTo>
                  <a:cubicBezTo>
                    <a:pt x="2398" y="437"/>
                    <a:pt x="2404" y="414"/>
                    <a:pt x="2421" y="414"/>
                  </a:cubicBezTo>
                  <a:cubicBezTo>
                    <a:pt x="2462" y="414"/>
                    <a:pt x="2485" y="460"/>
                    <a:pt x="2485" y="507"/>
                  </a:cubicBezTo>
                  <a:cubicBezTo>
                    <a:pt x="2485" y="507"/>
                    <a:pt x="2491" y="513"/>
                    <a:pt x="2497" y="513"/>
                  </a:cubicBezTo>
                  <a:cubicBezTo>
                    <a:pt x="2503" y="495"/>
                    <a:pt x="2503" y="466"/>
                    <a:pt x="2526" y="466"/>
                  </a:cubicBezTo>
                  <a:cubicBezTo>
                    <a:pt x="2567" y="466"/>
                    <a:pt x="2584" y="507"/>
                    <a:pt x="2631" y="507"/>
                  </a:cubicBezTo>
                  <a:cubicBezTo>
                    <a:pt x="2683" y="507"/>
                    <a:pt x="2683" y="507"/>
                    <a:pt x="2683" y="507"/>
                  </a:cubicBezTo>
                  <a:cubicBezTo>
                    <a:pt x="2718" y="507"/>
                    <a:pt x="2724" y="466"/>
                    <a:pt x="2759" y="449"/>
                  </a:cubicBezTo>
                  <a:cubicBezTo>
                    <a:pt x="2794" y="507"/>
                    <a:pt x="2840" y="518"/>
                    <a:pt x="2887" y="553"/>
                  </a:cubicBezTo>
                  <a:cubicBezTo>
                    <a:pt x="2904" y="565"/>
                    <a:pt x="2899" y="594"/>
                    <a:pt x="2922" y="594"/>
                  </a:cubicBezTo>
                  <a:cubicBezTo>
                    <a:pt x="2934" y="594"/>
                    <a:pt x="2939" y="583"/>
                    <a:pt x="2957" y="583"/>
                  </a:cubicBezTo>
                  <a:cubicBezTo>
                    <a:pt x="2980" y="583"/>
                    <a:pt x="2992" y="612"/>
                    <a:pt x="3015" y="612"/>
                  </a:cubicBezTo>
                  <a:cubicBezTo>
                    <a:pt x="3038" y="612"/>
                    <a:pt x="3044" y="588"/>
                    <a:pt x="3062" y="577"/>
                  </a:cubicBezTo>
                  <a:cubicBezTo>
                    <a:pt x="3050" y="571"/>
                    <a:pt x="3038" y="571"/>
                    <a:pt x="3027" y="577"/>
                  </a:cubicBezTo>
                  <a:cubicBezTo>
                    <a:pt x="3032" y="548"/>
                    <a:pt x="3056" y="548"/>
                    <a:pt x="3067" y="524"/>
                  </a:cubicBezTo>
                  <a:cubicBezTo>
                    <a:pt x="3079" y="530"/>
                    <a:pt x="3085" y="536"/>
                    <a:pt x="3097" y="536"/>
                  </a:cubicBezTo>
                  <a:cubicBezTo>
                    <a:pt x="3120" y="536"/>
                    <a:pt x="3120" y="489"/>
                    <a:pt x="3143" y="489"/>
                  </a:cubicBezTo>
                  <a:cubicBezTo>
                    <a:pt x="3155" y="489"/>
                    <a:pt x="3155" y="495"/>
                    <a:pt x="3166" y="495"/>
                  </a:cubicBezTo>
                  <a:cubicBezTo>
                    <a:pt x="3184" y="495"/>
                    <a:pt x="3195" y="483"/>
                    <a:pt x="3207" y="478"/>
                  </a:cubicBezTo>
                  <a:cubicBezTo>
                    <a:pt x="3201" y="472"/>
                    <a:pt x="3195" y="472"/>
                    <a:pt x="3184" y="466"/>
                  </a:cubicBezTo>
                  <a:cubicBezTo>
                    <a:pt x="3230" y="449"/>
                    <a:pt x="3254" y="443"/>
                    <a:pt x="3295" y="425"/>
                  </a:cubicBezTo>
                  <a:cubicBezTo>
                    <a:pt x="3300" y="425"/>
                    <a:pt x="3300" y="425"/>
                    <a:pt x="3300" y="425"/>
                  </a:cubicBezTo>
                  <a:cubicBezTo>
                    <a:pt x="3283" y="472"/>
                    <a:pt x="3283" y="507"/>
                    <a:pt x="3242" y="536"/>
                  </a:cubicBezTo>
                  <a:cubicBezTo>
                    <a:pt x="3230" y="548"/>
                    <a:pt x="3225" y="553"/>
                    <a:pt x="3225" y="571"/>
                  </a:cubicBezTo>
                  <a:cubicBezTo>
                    <a:pt x="3225" y="594"/>
                    <a:pt x="3225" y="594"/>
                    <a:pt x="3225" y="594"/>
                  </a:cubicBezTo>
                  <a:cubicBezTo>
                    <a:pt x="3230" y="594"/>
                    <a:pt x="3236" y="594"/>
                    <a:pt x="3242" y="594"/>
                  </a:cubicBezTo>
                  <a:cubicBezTo>
                    <a:pt x="3271" y="594"/>
                    <a:pt x="3277" y="553"/>
                    <a:pt x="3306" y="553"/>
                  </a:cubicBezTo>
                  <a:cubicBezTo>
                    <a:pt x="3318" y="553"/>
                    <a:pt x="3312" y="571"/>
                    <a:pt x="3324" y="571"/>
                  </a:cubicBezTo>
                  <a:cubicBezTo>
                    <a:pt x="3347" y="583"/>
                    <a:pt x="3382" y="583"/>
                    <a:pt x="3382" y="612"/>
                  </a:cubicBezTo>
                  <a:cubicBezTo>
                    <a:pt x="3382" y="635"/>
                    <a:pt x="3358" y="641"/>
                    <a:pt x="3358" y="670"/>
                  </a:cubicBezTo>
                  <a:cubicBezTo>
                    <a:pt x="3358" y="676"/>
                    <a:pt x="3358" y="681"/>
                    <a:pt x="3358" y="693"/>
                  </a:cubicBezTo>
                  <a:cubicBezTo>
                    <a:pt x="3446" y="693"/>
                    <a:pt x="3446" y="693"/>
                    <a:pt x="3446" y="693"/>
                  </a:cubicBezTo>
                  <a:cubicBezTo>
                    <a:pt x="3452" y="693"/>
                    <a:pt x="3458" y="699"/>
                    <a:pt x="3463" y="699"/>
                  </a:cubicBezTo>
                  <a:cubicBezTo>
                    <a:pt x="3498" y="699"/>
                    <a:pt x="3510" y="664"/>
                    <a:pt x="3527" y="629"/>
                  </a:cubicBezTo>
                  <a:cubicBezTo>
                    <a:pt x="3533" y="612"/>
                    <a:pt x="3556" y="600"/>
                    <a:pt x="3556" y="577"/>
                  </a:cubicBezTo>
                  <a:cubicBezTo>
                    <a:pt x="3556" y="542"/>
                    <a:pt x="3504" y="553"/>
                    <a:pt x="3469" y="542"/>
                  </a:cubicBezTo>
                  <a:cubicBezTo>
                    <a:pt x="3481" y="513"/>
                    <a:pt x="3504" y="501"/>
                    <a:pt x="3533" y="495"/>
                  </a:cubicBezTo>
                  <a:cubicBezTo>
                    <a:pt x="3568" y="483"/>
                    <a:pt x="3580" y="460"/>
                    <a:pt x="3609" y="449"/>
                  </a:cubicBezTo>
                  <a:cubicBezTo>
                    <a:pt x="3615" y="507"/>
                    <a:pt x="3638" y="542"/>
                    <a:pt x="3679" y="571"/>
                  </a:cubicBezTo>
                  <a:cubicBezTo>
                    <a:pt x="3702" y="583"/>
                    <a:pt x="3702" y="606"/>
                    <a:pt x="3725" y="606"/>
                  </a:cubicBezTo>
                  <a:cubicBezTo>
                    <a:pt x="3737" y="606"/>
                    <a:pt x="3737" y="594"/>
                    <a:pt x="3737" y="583"/>
                  </a:cubicBezTo>
                  <a:cubicBezTo>
                    <a:pt x="3737" y="571"/>
                    <a:pt x="3731" y="559"/>
                    <a:pt x="3731" y="548"/>
                  </a:cubicBezTo>
                  <a:cubicBezTo>
                    <a:pt x="3737" y="548"/>
                    <a:pt x="3737" y="542"/>
                    <a:pt x="3743" y="542"/>
                  </a:cubicBezTo>
                  <a:cubicBezTo>
                    <a:pt x="3778" y="542"/>
                    <a:pt x="3801" y="571"/>
                    <a:pt x="3801" y="606"/>
                  </a:cubicBezTo>
                  <a:cubicBezTo>
                    <a:pt x="3801" y="641"/>
                    <a:pt x="3801" y="693"/>
                    <a:pt x="3766" y="693"/>
                  </a:cubicBezTo>
                  <a:cubicBezTo>
                    <a:pt x="3754" y="693"/>
                    <a:pt x="3749" y="681"/>
                    <a:pt x="3743" y="681"/>
                  </a:cubicBezTo>
                  <a:cubicBezTo>
                    <a:pt x="3720" y="681"/>
                    <a:pt x="3720" y="681"/>
                    <a:pt x="3720" y="681"/>
                  </a:cubicBezTo>
                  <a:cubicBezTo>
                    <a:pt x="3714" y="746"/>
                    <a:pt x="3702" y="786"/>
                    <a:pt x="3661" y="833"/>
                  </a:cubicBezTo>
                  <a:cubicBezTo>
                    <a:pt x="3638" y="827"/>
                    <a:pt x="3638" y="827"/>
                    <a:pt x="3638" y="827"/>
                  </a:cubicBezTo>
                  <a:cubicBezTo>
                    <a:pt x="3626" y="839"/>
                    <a:pt x="3615" y="844"/>
                    <a:pt x="3597" y="850"/>
                  </a:cubicBezTo>
                  <a:cubicBezTo>
                    <a:pt x="3615" y="885"/>
                    <a:pt x="3638" y="897"/>
                    <a:pt x="3650" y="932"/>
                  </a:cubicBezTo>
                  <a:cubicBezTo>
                    <a:pt x="3620" y="938"/>
                    <a:pt x="3603" y="938"/>
                    <a:pt x="3586" y="949"/>
                  </a:cubicBezTo>
                  <a:cubicBezTo>
                    <a:pt x="3603" y="967"/>
                    <a:pt x="3615" y="978"/>
                    <a:pt x="3626" y="996"/>
                  </a:cubicBezTo>
                  <a:cubicBezTo>
                    <a:pt x="3597" y="1013"/>
                    <a:pt x="3597" y="1037"/>
                    <a:pt x="3574" y="1060"/>
                  </a:cubicBezTo>
                  <a:cubicBezTo>
                    <a:pt x="3556" y="1037"/>
                    <a:pt x="3562" y="1013"/>
                    <a:pt x="3551" y="978"/>
                  </a:cubicBezTo>
                  <a:cubicBezTo>
                    <a:pt x="3539" y="978"/>
                    <a:pt x="3539" y="978"/>
                    <a:pt x="3539" y="978"/>
                  </a:cubicBezTo>
                  <a:cubicBezTo>
                    <a:pt x="3533" y="1002"/>
                    <a:pt x="3516" y="1019"/>
                    <a:pt x="3492" y="1019"/>
                  </a:cubicBezTo>
                  <a:cubicBezTo>
                    <a:pt x="3492" y="1025"/>
                    <a:pt x="3492" y="1025"/>
                    <a:pt x="3492" y="1025"/>
                  </a:cubicBezTo>
                  <a:cubicBezTo>
                    <a:pt x="3492" y="1031"/>
                    <a:pt x="3498" y="1037"/>
                    <a:pt x="3498" y="1037"/>
                  </a:cubicBezTo>
                  <a:cubicBezTo>
                    <a:pt x="3498" y="1060"/>
                    <a:pt x="3469" y="1060"/>
                    <a:pt x="3446" y="1077"/>
                  </a:cubicBezTo>
                  <a:cubicBezTo>
                    <a:pt x="3440" y="1048"/>
                    <a:pt x="3452" y="1031"/>
                    <a:pt x="3428" y="1007"/>
                  </a:cubicBezTo>
                  <a:cubicBezTo>
                    <a:pt x="3417" y="1037"/>
                    <a:pt x="3417" y="1054"/>
                    <a:pt x="3393" y="1066"/>
                  </a:cubicBezTo>
                  <a:cubicBezTo>
                    <a:pt x="3388" y="1066"/>
                    <a:pt x="3388" y="1054"/>
                    <a:pt x="3382" y="1054"/>
                  </a:cubicBezTo>
                  <a:cubicBezTo>
                    <a:pt x="3347" y="1054"/>
                    <a:pt x="3312" y="1083"/>
                    <a:pt x="3312" y="1118"/>
                  </a:cubicBezTo>
                  <a:cubicBezTo>
                    <a:pt x="3312" y="1141"/>
                    <a:pt x="3329" y="1147"/>
                    <a:pt x="3341" y="1165"/>
                  </a:cubicBezTo>
                  <a:cubicBezTo>
                    <a:pt x="3329" y="1165"/>
                    <a:pt x="3329" y="1165"/>
                    <a:pt x="3329" y="1165"/>
                  </a:cubicBezTo>
                  <a:cubicBezTo>
                    <a:pt x="3312" y="1159"/>
                    <a:pt x="3312" y="1159"/>
                    <a:pt x="3312" y="1159"/>
                  </a:cubicBezTo>
                  <a:cubicBezTo>
                    <a:pt x="3306" y="1188"/>
                    <a:pt x="3300" y="1211"/>
                    <a:pt x="3300" y="1240"/>
                  </a:cubicBezTo>
                  <a:cubicBezTo>
                    <a:pt x="3300" y="1281"/>
                    <a:pt x="3318" y="1322"/>
                    <a:pt x="3358" y="1322"/>
                  </a:cubicBezTo>
                  <a:cubicBezTo>
                    <a:pt x="3411" y="1322"/>
                    <a:pt x="3364" y="1438"/>
                    <a:pt x="3329" y="1508"/>
                  </a:cubicBezTo>
                  <a:cubicBezTo>
                    <a:pt x="3306" y="1555"/>
                    <a:pt x="3254" y="1555"/>
                    <a:pt x="3230" y="1601"/>
                  </a:cubicBezTo>
                  <a:cubicBezTo>
                    <a:pt x="3195" y="1671"/>
                    <a:pt x="3184" y="1712"/>
                    <a:pt x="3137" y="1770"/>
                  </a:cubicBezTo>
                  <a:cubicBezTo>
                    <a:pt x="3120" y="1793"/>
                    <a:pt x="3097" y="1799"/>
                    <a:pt x="3085" y="1828"/>
                  </a:cubicBezTo>
                  <a:cubicBezTo>
                    <a:pt x="3085" y="1892"/>
                    <a:pt x="3085" y="1892"/>
                    <a:pt x="3085" y="1892"/>
                  </a:cubicBezTo>
                  <a:cubicBezTo>
                    <a:pt x="3085" y="1916"/>
                    <a:pt x="3108" y="1910"/>
                    <a:pt x="3126" y="1927"/>
                  </a:cubicBezTo>
                  <a:cubicBezTo>
                    <a:pt x="3230" y="1991"/>
                    <a:pt x="3166" y="2015"/>
                    <a:pt x="3242" y="2015"/>
                  </a:cubicBezTo>
                  <a:cubicBezTo>
                    <a:pt x="3277" y="2015"/>
                    <a:pt x="3283" y="2050"/>
                    <a:pt x="3312" y="2067"/>
                  </a:cubicBezTo>
                  <a:cubicBezTo>
                    <a:pt x="3382" y="2102"/>
                    <a:pt x="3434" y="2108"/>
                    <a:pt x="3492" y="2166"/>
                  </a:cubicBezTo>
                  <a:cubicBezTo>
                    <a:pt x="3510" y="2189"/>
                    <a:pt x="3504" y="2213"/>
                    <a:pt x="3527" y="2242"/>
                  </a:cubicBezTo>
                  <a:cubicBezTo>
                    <a:pt x="3603" y="2329"/>
                    <a:pt x="3720" y="2271"/>
                    <a:pt x="3679" y="2358"/>
                  </a:cubicBezTo>
                  <a:cubicBezTo>
                    <a:pt x="3702" y="2364"/>
                    <a:pt x="3708" y="2387"/>
                    <a:pt x="3725" y="2410"/>
                  </a:cubicBezTo>
                  <a:cubicBezTo>
                    <a:pt x="3737" y="2405"/>
                    <a:pt x="3743" y="2399"/>
                    <a:pt x="3754" y="2399"/>
                  </a:cubicBezTo>
                  <a:cubicBezTo>
                    <a:pt x="3772" y="2399"/>
                    <a:pt x="3784" y="2410"/>
                    <a:pt x="3801" y="2410"/>
                  </a:cubicBezTo>
                  <a:cubicBezTo>
                    <a:pt x="3813" y="2410"/>
                    <a:pt x="3818" y="2405"/>
                    <a:pt x="3824" y="2399"/>
                  </a:cubicBezTo>
                  <a:cubicBezTo>
                    <a:pt x="3836" y="2399"/>
                    <a:pt x="3842" y="2399"/>
                    <a:pt x="3853" y="2399"/>
                  </a:cubicBezTo>
                  <a:cubicBezTo>
                    <a:pt x="3906" y="2399"/>
                    <a:pt x="3935" y="2428"/>
                    <a:pt x="3964" y="2474"/>
                  </a:cubicBezTo>
                  <a:cubicBezTo>
                    <a:pt x="3981" y="2504"/>
                    <a:pt x="4016" y="2492"/>
                    <a:pt x="4046" y="2515"/>
                  </a:cubicBezTo>
                  <a:cubicBezTo>
                    <a:pt x="4104" y="2556"/>
                    <a:pt x="4139" y="2591"/>
                    <a:pt x="4209" y="2591"/>
                  </a:cubicBezTo>
                  <a:cubicBezTo>
                    <a:pt x="4209" y="2591"/>
                    <a:pt x="4209" y="2597"/>
                    <a:pt x="4209" y="2602"/>
                  </a:cubicBezTo>
                  <a:cubicBezTo>
                    <a:pt x="4209" y="2608"/>
                    <a:pt x="4203" y="2608"/>
                    <a:pt x="4203" y="2614"/>
                  </a:cubicBezTo>
                  <a:cubicBezTo>
                    <a:pt x="4203" y="2620"/>
                    <a:pt x="4220" y="2620"/>
                    <a:pt x="4226" y="2626"/>
                  </a:cubicBezTo>
                  <a:cubicBezTo>
                    <a:pt x="4249" y="2643"/>
                    <a:pt x="4261" y="2649"/>
                    <a:pt x="4278" y="2672"/>
                  </a:cubicBezTo>
                  <a:cubicBezTo>
                    <a:pt x="4302" y="2702"/>
                    <a:pt x="4325" y="2725"/>
                    <a:pt x="4348" y="2742"/>
                  </a:cubicBezTo>
                  <a:close/>
                </a:path>
              </a:pathLst>
            </a:custGeom>
            <a:solidFill>
              <a:srgbClr val="d9d9d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68" name="Freeform 3"/>
            <p:cNvSpPr/>
            <p:nvPr/>
          </p:nvSpPr>
          <p:spPr>
            <a:xfrm>
              <a:off x="4169520" y="2411280"/>
              <a:ext cx="1652400" cy="2155680"/>
            </a:xfrm>
            <a:custGeom>
              <a:avLst/>
              <a:gdLst/>
              <a:ahLst/>
              <a:rect l="l" t="t" r="r" b="b"/>
              <a:pathLst>
                <a:path w="7500" h="9786">
                  <a:moveTo>
                    <a:pt x="559" y="3219"/>
                  </a:moveTo>
                  <a:lnTo>
                    <a:pt x="559" y="3219"/>
                  </a:lnTo>
                  <a:cubicBezTo>
                    <a:pt x="559" y="3242"/>
                    <a:pt x="588" y="3248"/>
                    <a:pt x="611" y="3248"/>
                  </a:cubicBezTo>
                  <a:cubicBezTo>
                    <a:pt x="629" y="3248"/>
                    <a:pt x="629" y="3225"/>
                    <a:pt x="641" y="3213"/>
                  </a:cubicBezTo>
                  <a:cubicBezTo>
                    <a:pt x="658" y="3202"/>
                    <a:pt x="670" y="3207"/>
                    <a:pt x="687" y="3207"/>
                  </a:cubicBezTo>
                  <a:cubicBezTo>
                    <a:pt x="687" y="3173"/>
                    <a:pt x="705" y="3126"/>
                    <a:pt x="740" y="3126"/>
                  </a:cubicBezTo>
                  <a:cubicBezTo>
                    <a:pt x="757" y="3126"/>
                    <a:pt x="763" y="3149"/>
                    <a:pt x="780" y="3149"/>
                  </a:cubicBezTo>
                  <a:cubicBezTo>
                    <a:pt x="786" y="3149"/>
                    <a:pt x="798" y="3138"/>
                    <a:pt x="798" y="3126"/>
                  </a:cubicBezTo>
                  <a:cubicBezTo>
                    <a:pt x="798" y="3091"/>
                    <a:pt x="740" y="3097"/>
                    <a:pt x="705" y="3109"/>
                  </a:cubicBezTo>
                  <a:cubicBezTo>
                    <a:pt x="641" y="3138"/>
                    <a:pt x="559" y="3149"/>
                    <a:pt x="559" y="3219"/>
                  </a:cubicBezTo>
                  <a:close/>
                  <a:moveTo>
                    <a:pt x="716" y="3394"/>
                  </a:moveTo>
                  <a:lnTo>
                    <a:pt x="716" y="3394"/>
                  </a:lnTo>
                  <a:cubicBezTo>
                    <a:pt x="705" y="3411"/>
                    <a:pt x="693" y="3417"/>
                    <a:pt x="681" y="3435"/>
                  </a:cubicBezTo>
                  <a:cubicBezTo>
                    <a:pt x="699" y="3440"/>
                    <a:pt x="710" y="3440"/>
                    <a:pt x="734" y="3440"/>
                  </a:cubicBezTo>
                  <a:cubicBezTo>
                    <a:pt x="734" y="3423"/>
                    <a:pt x="728" y="3405"/>
                    <a:pt x="716" y="3394"/>
                  </a:cubicBezTo>
                  <a:close/>
                  <a:moveTo>
                    <a:pt x="2038" y="233"/>
                  </a:moveTo>
                  <a:lnTo>
                    <a:pt x="2038" y="233"/>
                  </a:lnTo>
                  <a:cubicBezTo>
                    <a:pt x="2020" y="244"/>
                    <a:pt x="2009" y="256"/>
                    <a:pt x="2009" y="279"/>
                  </a:cubicBezTo>
                  <a:cubicBezTo>
                    <a:pt x="2009" y="291"/>
                    <a:pt x="2014" y="291"/>
                    <a:pt x="2014" y="303"/>
                  </a:cubicBezTo>
                  <a:cubicBezTo>
                    <a:pt x="2020" y="285"/>
                    <a:pt x="2038" y="279"/>
                    <a:pt x="2055" y="279"/>
                  </a:cubicBezTo>
                  <a:cubicBezTo>
                    <a:pt x="2055" y="273"/>
                    <a:pt x="2055" y="273"/>
                    <a:pt x="2055" y="268"/>
                  </a:cubicBezTo>
                  <a:cubicBezTo>
                    <a:pt x="2055" y="250"/>
                    <a:pt x="2049" y="244"/>
                    <a:pt x="2038" y="233"/>
                  </a:cubicBezTo>
                  <a:close/>
                  <a:moveTo>
                    <a:pt x="2049" y="17"/>
                  </a:moveTo>
                  <a:lnTo>
                    <a:pt x="2049" y="17"/>
                  </a:lnTo>
                  <a:cubicBezTo>
                    <a:pt x="2049" y="35"/>
                    <a:pt x="2067" y="41"/>
                    <a:pt x="2073" y="52"/>
                  </a:cubicBezTo>
                  <a:cubicBezTo>
                    <a:pt x="2090" y="41"/>
                    <a:pt x="2096" y="29"/>
                    <a:pt x="2102" y="12"/>
                  </a:cubicBezTo>
                  <a:cubicBezTo>
                    <a:pt x="2084" y="0"/>
                    <a:pt x="2049" y="0"/>
                    <a:pt x="2049" y="17"/>
                  </a:cubicBezTo>
                  <a:close/>
                  <a:moveTo>
                    <a:pt x="6293" y="6718"/>
                  </a:moveTo>
                  <a:lnTo>
                    <a:pt x="6293" y="6718"/>
                  </a:lnTo>
                  <a:cubicBezTo>
                    <a:pt x="6305" y="6805"/>
                    <a:pt x="6363" y="6840"/>
                    <a:pt x="6427" y="6898"/>
                  </a:cubicBezTo>
                  <a:cubicBezTo>
                    <a:pt x="6427" y="6893"/>
                    <a:pt x="6433" y="6893"/>
                    <a:pt x="6433" y="6887"/>
                  </a:cubicBezTo>
                  <a:cubicBezTo>
                    <a:pt x="6433" y="6852"/>
                    <a:pt x="6404" y="6840"/>
                    <a:pt x="6381" y="6811"/>
                  </a:cubicBezTo>
                  <a:cubicBezTo>
                    <a:pt x="6352" y="6770"/>
                    <a:pt x="6340" y="6724"/>
                    <a:pt x="6293" y="6718"/>
                  </a:cubicBezTo>
                  <a:close/>
                  <a:moveTo>
                    <a:pt x="7359" y="7434"/>
                  </a:moveTo>
                  <a:lnTo>
                    <a:pt x="7359" y="7434"/>
                  </a:lnTo>
                  <a:cubicBezTo>
                    <a:pt x="7353" y="7428"/>
                    <a:pt x="7353" y="7428"/>
                    <a:pt x="7353" y="7428"/>
                  </a:cubicBezTo>
                  <a:cubicBezTo>
                    <a:pt x="7353" y="7451"/>
                    <a:pt x="7359" y="7463"/>
                    <a:pt x="7359" y="7486"/>
                  </a:cubicBezTo>
                  <a:cubicBezTo>
                    <a:pt x="7359" y="7533"/>
                    <a:pt x="7336" y="7562"/>
                    <a:pt x="7300" y="7591"/>
                  </a:cubicBezTo>
                  <a:cubicBezTo>
                    <a:pt x="7283" y="7597"/>
                    <a:pt x="7266" y="7603"/>
                    <a:pt x="7266" y="7614"/>
                  </a:cubicBezTo>
                  <a:cubicBezTo>
                    <a:pt x="7266" y="7632"/>
                    <a:pt x="7271" y="7643"/>
                    <a:pt x="7271" y="7661"/>
                  </a:cubicBezTo>
                  <a:cubicBezTo>
                    <a:pt x="7271" y="7731"/>
                    <a:pt x="7271" y="7731"/>
                    <a:pt x="7271" y="7731"/>
                  </a:cubicBezTo>
                  <a:cubicBezTo>
                    <a:pt x="7271" y="7771"/>
                    <a:pt x="7242" y="7789"/>
                    <a:pt x="7213" y="7824"/>
                  </a:cubicBezTo>
                  <a:cubicBezTo>
                    <a:pt x="7248" y="7836"/>
                    <a:pt x="7237" y="7871"/>
                    <a:pt x="7248" y="7900"/>
                  </a:cubicBezTo>
                  <a:cubicBezTo>
                    <a:pt x="7254" y="7917"/>
                    <a:pt x="7271" y="7923"/>
                    <a:pt x="7283" y="7934"/>
                  </a:cubicBezTo>
                  <a:cubicBezTo>
                    <a:pt x="7318" y="7894"/>
                    <a:pt x="7283" y="7847"/>
                    <a:pt x="7312" y="7795"/>
                  </a:cubicBezTo>
                  <a:cubicBezTo>
                    <a:pt x="7336" y="7742"/>
                    <a:pt x="7341" y="7708"/>
                    <a:pt x="7359" y="7655"/>
                  </a:cubicBezTo>
                  <a:cubicBezTo>
                    <a:pt x="7382" y="7603"/>
                    <a:pt x="7411" y="7579"/>
                    <a:pt x="7411" y="7527"/>
                  </a:cubicBezTo>
                  <a:cubicBezTo>
                    <a:pt x="7411" y="7486"/>
                    <a:pt x="7376" y="7469"/>
                    <a:pt x="7359" y="7434"/>
                  </a:cubicBezTo>
                  <a:close/>
                  <a:moveTo>
                    <a:pt x="7499" y="9221"/>
                  </a:moveTo>
                  <a:lnTo>
                    <a:pt x="7499" y="9221"/>
                  </a:lnTo>
                  <a:lnTo>
                    <a:pt x="7499" y="9221"/>
                  </a:lnTo>
                  <a:cubicBezTo>
                    <a:pt x="7464" y="9243"/>
                    <a:pt x="7446" y="9255"/>
                    <a:pt x="7411" y="9267"/>
                  </a:cubicBezTo>
                  <a:cubicBezTo>
                    <a:pt x="7388" y="9272"/>
                    <a:pt x="7365" y="9261"/>
                    <a:pt x="7347" y="9272"/>
                  </a:cubicBezTo>
                  <a:cubicBezTo>
                    <a:pt x="7318" y="9284"/>
                    <a:pt x="7318" y="9331"/>
                    <a:pt x="7289" y="9331"/>
                  </a:cubicBezTo>
                  <a:cubicBezTo>
                    <a:pt x="7271" y="9331"/>
                    <a:pt x="7266" y="9319"/>
                    <a:pt x="7248" y="9319"/>
                  </a:cubicBezTo>
                  <a:cubicBezTo>
                    <a:pt x="7213" y="9313"/>
                    <a:pt x="7184" y="9325"/>
                    <a:pt x="7149" y="9325"/>
                  </a:cubicBezTo>
                  <a:cubicBezTo>
                    <a:pt x="7091" y="9325"/>
                    <a:pt x="7068" y="9278"/>
                    <a:pt x="7010" y="9278"/>
                  </a:cubicBezTo>
                  <a:cubicBezTo>
                    <a:pt x="6963" y="9278"/>
                    <a:pt x="6957" y="9325"/>
                    <a:pt x="6922" y="9354"/>
                  </a:cubicBezTo>
                  <a:cubicBezTo>
                    <a:pt x="6905" y="9366"/>
                    <a:pt x="6887" y="9354"/>
                    <a:pt x="6864" y="9366"/>
                  </a:cubicBezTo>
                  <a:cubicBezTo>
                    <a:pt x="6811" y="9383"/>
                    <a:pt x="6794" y="9418"/>
                    <a:pt x="6742" y="9435"/>
                  </a:cubicBezTo>
                  <a:cubicBezTo>
                    <a:pt x="6753" y="9465"/>
                    <a:pt x="6759" y="9482"/>
                    <a:pt x="6777" y="9500"/>
                  </a:cubicBezTo>
                  <a:cubicBezTo>
                    <a:pt x="6782" y="9505"/>
                    <a:pt x="6800" y="9505"/>
                    <a:pt x="6800" y="9517"/>
                  </a:cubicBezTo>
                  <a:cubicBezTo>
                    <a:pt x="6800" y="9581"/>
                    <a:pt x="6753" y="9639"/>
                    <a:pt x="6689" y="9639"/>
                  </a:cubicBezTo>
                  <a:cubicBezTo>
                    <a:pt x="6689" y="9651"/>
                    <a:pt x="6689" y="9657"/>
                    <a:pt x="6683" y="9668"/>
                  </a:cubicBezTo>
                  <a:cubicBezTo>
                    <a:pt x="6654" y="9668"/>
                    <a:pt x="6643" y="9628"/>
                    <a:pt x="6614" y="9628"/>
                  </a:cubicBezTo>
                  <a:cubicBezTo>
                    <a:pt x="6550" y="9628"/>
                    <a:pt x="6526" y="9686"/>
                    <a:pt x="6497" y="9744"/>
                  </a:cubicBezTo>
                  <a:cubicBezTo>
                    <a:pt x="6485" y="9761"/>
                    <a:pt x="6491" y="9785"/>
                    <a:pt x="6474" y="9785"/>
                  </a:cubicBezTo>
                  <a:cubicBezTo>
                    <a:pt x="6392" y="9785"/>
                    <a:pt x="6439" y="9645"/>
                    <a:pt x="6369" y="9610"/>
                  </a:cubicBezTo>
                  <a:cubicBezTo>
                    <a:pt x="6305" y="9581"/>
                    <a:pt x="6282" y="9546"/>
                    <a:pt x="6224" y="9511"/>
                  </a:cubicBezTo>
                  <a:cubicBezTo>
                    <a:pt x="6206" y="9500"/>
                    <a:pt x="6206" y="9476"/>
                    <a:pt x="6183" y="9476"/>
                  </a:cubicBezTo>
                  <a:cubicBezTo>
                    <a:pt x="6159" y="9476"/>
                    <a:pt x="6148" y="9494"/>
                    <a:pt x="6119" y="9494"/>
                  </a:cubicBezTo>
                  <a:cubicBezTo>
                    <a:pt x="6066" y="9494"/>
                    <a:pt x="6066" y="9494"/>
                    <a:pt x="6066" y="9494"/>
                  </a:cubicBezTo>
                  <a:cubicBezTo>
                    <a:pt x="6061" y="9494"/>
                    <a:pt x="6055" y="9500"/>
                    <a:pt x="6043" y="9500"/>
                  </a:cubicBezTo>
                  <a:cubicBezTo>
                    <a:pt x="5996" y="9500"/>
                    <a:pt x="5991" y="9435"/>
                    <a:pt x="5944" y="9435"/>
                  </a:cubicBezTo>
                  <a:cubicBezTo>
                    <a:pt x="5868" y="9435"/>
                    <a:pt x="5833" y="9482"/>
                    <a:pt x="5758" y="9482"/>
                  </a:cubicBezTo>
                  <a:cubicBezTo>
                    <a:pt x="5740" y="9482"/>
                    <a:pt x="5735" y="9476"/>
                    <a:pt x="5717" y="9476"/>
                  </a:cubicBezTo>
                  <a:cubicBezTo>
                    <a:pt x="5665" y="9476"/>
                    <a:pt x="5665" y="9476"/>
                    <a:pt x="5665" y="9476"/>
                  </a:cubicBezTo>
                  <a:cubicBezTo>
                    <a:pt x="5630" y="9476"/>
                    <a:pt x="5612" y="9453"/>
                    <a:pt x="5577" y="9453"/>
                  </a:cubicBezTo>
                  <a:cubicBezTo>
                    <a:pt x="5531" y="9453"/>
                    <a:pt x="5513" y="9500"/>
                    <a:pt x="5473" y="9529"/>
                  </a:cubicBezTo>
                  <a:cubicBezTo>
                    <a:pt x="5426" y="9563"/>
                    <a:pt x="5385" y="9563"/>
                    <a:pt x="5350" y="9610"/>
                  </a:cubicBezTo>
                  <a:cubicBezTo>
                    <a:pt x="5333" y="9628"/>
                    <a:pt x="5344" y="9663"/>
                    <a:pt x="5321" y="9668"/>
                  </a:cubicBezTo>
                  <a:cubicBezTo>
                    <a:pt x="1467" y="9680"/>
                    <a:pt x="1467" y="9680"/>
                    <a:pt x="1467" y="9680"/>
                  </a:cubicBezTo>
                  <a:lnTo>
                    <a:pt x="1467" y="9680"/>
                  </a:lnTo>
                  <a:cubicBezTo>
                    <a:pt x="1467" y="8051"/>
                    <a:pt x="1467" y="8051"/>
                    <a:pt x="1467" y="8051"/>
                  </a:cubicBezTo>
                  <a:cubicBezTo>
                    <a:pt x="6" y="8045"/>
                    <a:pt x="6" y="8045"/>
                    <a:pt x="6" y="8045"/>
                  </a:cubicBezTo>
                  <a:lnTo>
                    <a:pt x="6" y="8045"/>
                  </a:lnTo>
                  <a:cubicBezTo>
                    <a:pt x="0" y="3184"/>
                    <a:pt x="0" y="3184"/>
                    <a:pt x="0" y="3184"/>
                  </a:cubicBezTo>
                  <a:lnTo>
                    <a:pt x="0" y="3184"/>
                  </a:lnTo>
                  <a:cubicBezTo>
                    <a:pt x="35" y="3219"/>
                    <a:pt x="70" y="3237"/>
                    <a:pt x="128" y="3254"/>
                  </a:cubicBezTo>
                  <a:cubicBezTo>
                    <a:pt x="233" y="3289"/>
                    <a:pt x="291" y="3307"/>
                    <a:pt x="402" y="3341"/>
                  </a:cubicBezTo>
                  <a:cubicBezTo>
                    <a:pt x="454" y="3353"/>
                    <a:pt x="501" y="3359"/>
                    <a:pt x="530" y="3405"/>
                  </a:cubicBezTo>
                  <a:cubicBezTo>
                    <a:pt x="565" y="3464"/>
                    <a:pt x="536" y="3522"/>
                    <a:pt x="582" y="3568"/>
                  </a:cubicBezTo>
                  <a:cubicBezTo>
                    <a:pt x="617" y="3603"/>
                    <a:pt x="664" y="3580"/>
                    <a:pt x="710" y="3598"/>
                  </a:cubicBezTo>
                  <a:cubicBezTo>
                    <a:pt x="740" y="3603"/>
                    <a:pt x="745" y="3627"/>
                    <a:pt x="769" y="3644"/>
                  </a:cubicBezTo>
                  <a:cubicBezTo>
                    <a:pt x="844" y="3708"/>
                    <a:pt x="792" y="3691"/>
                    <a:pt x="856" y="3691"/>
                  </a:cubicBezTo>
                  <a:cubicBezTo>
                    <a:pt x="920" y="3691"/>
                    <a:pt x="937" y="3761"/>
                    <a:pt x="1002" y="3761"/>
                  </a:cubicBezTo>
                  <a:cubicBezTo>
                    <a:pt x="1054" y="3761"/>
                    <a:pt x="1054" y="3761"/>
                    <a:pt x="1054" y="3761"/>
                  </a:cubicBezTo>
                  <a:cubicBezTo>
                    <a:pt x="1153" y="3761"/>
                    <a:pt x="1194" y="3679"/>
                    <a:pt x="1293" y="3679"/>
                  </a:cubicBezTo>
                  <a:cubicBezTo>
                    <a:pt x="1299" y="3679"/>
                    <a:pt x="1304" y="3691"/>
                    <a:pt x="1310" y="3696"/>
                  </a:cubicBezTo>
                  <a:cubicBezTo>
                    <a:pt x="1310" y="3656"/>
                    <a:pt x="1310" y="3656"/>
                    <a:pt x="1310" y="3656"/>
                  </a:cubicBezTo>
                  <a:cubicBezTo>
                    <a:pt x="1316" y="3656"/>
                    <a:pt x="1316" y="3650"/>
                    <a:pt x="1322" y="3650"/>
                  </a:cubicBezTo>
                  <a:cubicBezTo>
                    <a:pt x="1328" y="3650"/>
                    <a:pt x="1333" y="3656"/>
                    <a:pt x="1345" y="3656"/>
                  </a:cubicBezTo>
                  <a:cubicBezTo>
                    <a:pt x="1345" y="3603"/>
                    <a:pt x="1380" y="3586"/>
                    <a:pt x="1403" y="3539"/>
                  </a:cubicBezTo>
                  <a:cubicBezTo>
                    <a:pt x="1415" y="3551"/>
                    <a:pt x="1415" y="3551"/>
                    <a:pt x="1415" y="3551"/>
                  </a:cubicBezTo>
                  <a:cubicBezTo>
                    <a:pt x="1444" y="3487"/>
                    <a:pt x="1467" y="3446"/>
                    <a:pt x="1456" y="3382"/>
                  </a:cubicBezTo>
                  <a:cubicBezTo>
                    <a:pt x="1479" y="3370"/>
                    <a:pt x="1491" y="3353"/>
                    <a:pt x="1502" y="3330"/>
                  </a:cubicBezTo>
                  <a:cubicBezTo>
                    <a:pt x="1508" y="3318"/>
                    <a:pt x="1508" y="3295"/>
                    <a:pt x="1520" y="3295"/>
                  </a:cubicBezTo>
                  <a:cubicBezTo>
                    <a:pt x="1525" y="3295"/>
                    <a:pt x="1525" y="3307"/>
                    <a:pt x="1531" y="3307"/>
                  </a:cubicBezTo>
                  <a:cubicBezTo>
                    <a:pt x="1531" y="3295"/>
                    <a:pt x="1531" y="3283"/>
                    <a:pt x="1531" y="3266"/>
                  </a:cubicBezTo>
                  <a:cubicBezTo>
                    <a:pt x="1549" y="3266"/>
                    <a:pt x="1560" y="3266"/>
                    <a:pt x="1584" y="3266"/>
                  </a:cubicBezTo>
                  <a:cubicBezTo>
                    <a:pt x="1572" y="3260"/>
                    <a:pt x="1566" y="3254"/>
                    <a:pt x="1566" y="3237"/>
                  </a:cubicBezTo>
                  <a:cubicBezTo>
                    <a:pt x="1566" y="3225"/>
                    <a:pt x="1572" y="3213"/>
                    <a:pt x="1584" y="3213"/>
                  </a:cubicBezTo>
                  <a:cubicBezTo>
                    <a:pt x="1590" y="3213"/>
                    <a:pt x="1590" y="3219"/>
                    <a:pt x="1595" y="3219"/>
                  </a:cubicBezTo>
                  <a:cubicBezTo>
                    <a:pt x="1595" y="3184"/>
                    <a:pt x="1595" y="3184"/>
                    <a:pt x="1595" y="3184"/>
                  </a:cubicBezTo>
                  <a:cubicBezTo>
                    <a:pt x="1595" y="3074"/>
                    <a:pt x="1665" y="3021"/>
                    <a:pt x="1665" y="2916"/>
                  </a:cubicBezTo>
                  <a:cubicBezTo>
                    <a:pt x="1665" y="2899"/>
                    <a:pt x="1654" y="2887"/>
                    <a:pt x="1654" y="2870"/>
                  </a:cubicBezTo>
                  <a:cubicBezTo>
                    <a:pt x="1654" y="2841"/>
                    <a:pt x="1665" y="2829"/>
                    <a:pt x="1665" y="2800"/>
                  </a:cubicBezTo>
                  <a:cubicBezTo>
                    <a:pt x="1665" y="2730"/>
                    <a:pt x="1688" y="2689"/>
                    <a:pt x="1712" y="2620"/>
                  </a:cubicBezTo>
                  <a:cubicBezTo>
                    <a:pt x="1723" y="2585"/>
                    <a:pt x="1718" y="2544"/>
                    <a:pt x="1753" y="2521"/>
                  </a:cubicBezTo>
                  <a:cubicBezTo>
                    <a:pt x="1805" y="2521"/>
                    <a:pt x="1753" y="2526"/>
                    <a:pt x="1753" y="2497"/>
                  </a:cubicBezTo>
                  <a:cubicBezTo>
                    <a:pt x="1753" y="2486"/>
                    <a:pt x="1764" y="2480"/>
                    <a:pt x="1770" y="2474"/>
                  </a:cubicBezTo>
                  <a:cubicBezTo>
                    <a:pt x="1788" y="2451"/>
                    <a:pt x="1782" y="2433"/>
                    <a:pt x="1788" y="2410"/>
                  </a:cubicBezTo>
                  <a:cubicBezTo>
                    <a:pt x="1729" y="2317"/>
                    <a:pt x="1712" y="2253"/>
                    <a:pt x="1712" y="2142"/>
                  </a:cubicBezTo>
                  <a:cubicBezTo>
                    <a:pt x="1712" y="2090"/>
                    <a:pt x="1753" y="2061"/>
                    <a:pt x="1753" y="2008"/>
                  </a:cubicBezTo>
                  <a:cubicBezTo>
                    <a:pt x="1753" y="1956"/>
                    <a:pt x="1753" y="1956"/>
                    <a:pt x="1753" y="1956"/>
                  </a:cubicBezTo>
                  <a:cubicBezTo>
                    <a:pt x="1753" y="1909"/>
                    <a:pt x="1683" y="1909"/>
                    <a:pt x="1683" y="1863"/>
                  </a:cubicBezTo>
                  <a:cubicBezTo>
                    <a:pt x="1683" y="1834"/>
                    <a:pt x="1700" y="1822"/>
                    <a:pt x="1700" y="1793"/>
                  </a:cubicBezTo>
                  <a:cubicBezTo>
                    <a:pt x="1706" y="1752"/>
                    <a:pt x="1706" y="1723"/>
                    <a:pt x="1729" y="1688"/>
                  </a:cubicBezTo>
                  <a:cubicBezTo>
                    <a:pt x="1753" y="1659"/>
                    <a:pt x="1735" y="1624"/>
                    <a:pt x="1758" y="1595"/>
                  </a:cubicBezTo>
                  <a:cubicBezTo>
                    <a:pt x="1776" y="1601"/>
                    <a:pt x="1776" y="1618"/>
                    <a:pt x="1793" y="1636"/>
                  </a:cubicBezTo>
                  <a:cubicBezTo>
                    <a:pt x="1799" y="1642"/>
                    <a:pt x="1799" y="1642"/>
                    <a:pt x="1799" y="1642"/>
                  </a:cubicBezTo>
                  <a:cubicBezTo>
                    <a:pt x="1799" y="1612"/>
                    <a:pt x="1817" y="1601"/>
                    <a:pt x="1828" y="1577"/>
                  </a:cubicBezTo>
                  <a:cubicBezTo>
                    <a:pt x="1793" y="1566"/>
                    <a:pt x="1788" y="1525"/>
                    <a:pt x="1776" y="1496"/>
                  </a:cubicBezTo>
                  <a:cubicBezTo>
                    <a:pt x="1758" y="1455"/>
                    <a:pt x="1747" y="1438"/>
                    <a:pt x="1747" y="1397"/>
                  </a:cubicBezTo>
                  <a:cubicBezTo>
                    <a:pt x="1747" y="1362"/>
                    <a:pt x="1782" y="1362"/>
                    <a:pt x="1811" y="1339"/>
                  </a:cubicBezTo>
                  <a:cubicBezTo>
                    <a:pt x="1834" y="1321"/>
                    <a:pt x="1834" y="1292"/>
                    <a:pt x="1851" y="1263"/>
                  </a:cubicBezTo>
                  <a:cubicBezTo>
                    <a:pt x="1910" y="1310"/>
                    <a:pt x="1933" y="1414"/>
                    <a:pt x="1904" y="1275"/>
                  </a:cubicBezTo>
                  <a:cubicBezTo>
                    <a:pt x="1985" y="1281"/>
                    <a:pt x="1904" y="1257"/>
                    <a:pt x="1875" y="1240"/>
                  </a:cubicBezTo>
                  <a:cubicBezTo>
                    <a:pt x="2020" y="1164"/>
                    <a:pt x="1793" y="1240"/>
                    <a:pt x="1793" y="1094"/>
                  </a:cubicBezTo>
                  <a:cubicBezTo>
                    <a:pt x="1793" y="1065"/>
                    <a:pt x="1793" y="1048"/>
                    <a:pt x="1817" y="1036"/>
                  </a:cubicBezTo>
                  <a:cubicBezTo>
                    <a:pt x="1834" y="1036"/>
                    <a:pt x="1834" y="1036"/>
                    <a:pt x="1834" y="1036"/>
                  </a:cubicBezTo>
                  <a:cubicBezTo>
                    <a:pt x="1828" y="1025"/>
                    <a:pt x="1828" y="1019"/>
                    <a:pt x="1828" y="1007"/>
                  </a:cubicBezTo>
                  <a:cubicBezTo>
                    <a:pt x="1828" y="972"/>
                    <a:pt x="1851" y="960"/>
                    <a:pt x="1881" y="937"/>
                  </a:cubicBezTo>
                  <a:cubicBezTo>
                    <a:pt x="1892" y="960"/>
                    <a:pt x="1904" y="978"/>
                    <a:pt x="1910" y="1007"/>
                  </a:cubicBezTo>
                  <a:cubicBezTo>
                    <a:pt x="1910" y="1013"/>
                    <a:pt x="1916" y="1025"/>
                    <a:pt x="1916" y="1007"/>
                  </a:cubicBezTo>
                  <a:cubicBezTo>
                    <a:pt x="1916" y="990"/>
                    <a:pt x="1910" y="978"/>
                    <a:pt x="1910" y="960"/>
                  </a:cubicBezTo>
                  <a:cubicBezTo>
                    <a:pt x="1910" y="949"/>
                    <a:pt x="1910" y="949"/>
                    <a:pt x="1910" y="949"/>
                  </a:cubicBezTo>
                  <a:cubicBezTo>
                    <a:pt x="1956" y="949"/>
                    <a:pt x="1956" y="949"/>
                    <a:pt x="1956" y="949"/>
                  </a:cubicBezTo>
                  <a:cubicBezTo>
                    <a:pt x="1956" y="937"/>
                    <a:pt x="1956" y="937"/>
                    <a:pt x="1956" y="925"/>
                  </a:cubicBezTo>
                  <a:cubicBezTo>
                    <a:pt x="1956" y="902"/>
                    <a:pt x="1910" y="908"/>
                    <a:pt x="1910" y="879"/>
                  </a:cubicBezTo>
                  <a:cubicBezTo>
                    <a:pt x="1910" y="832"/>
                    <a:pt x="1945" y="815"/>
                    <a:pt x="1974" y="780"/>
                  </a:cubicBezTo>
                  <a:cubicBezTo>
                    <a:pt x="1968" y="774"/>
                    <a:pt x="1962" y="762"/>
                    <a:pt x="1962" y="751"/>
                  </a:cubicBezTo>
                  <a:cubicBezTo>
                    <a:pt x="1962" y="687"/>
                    <a:pt x="2003" y="658"/>
                    <a:pt x="2003" y="594"/>
                  </a:cubicBezTo>
                  <a:cubicBezTo>
                    <a:pt x="2003" y="530"/>
                    <a:pt x="2003" y="530"/>
                    <a:pt x="2003" y="530"/>
                  </a:cubicBezTo>
                  <a:cubicBezTo>
                    <a:pt x="2003" y="501"/>
                    <a:pt x="2009" y="483"/>
                    <a:pt x="2009" y="448"/>
                  </a:cubicBezTo>
                  <a:cubicBezTo>
                    <a:pt x="2009" y="431"/>
                    <a:pt x="2009" y="419"/>
                    <a:pt x="2009" y="402"/>
                  </a:cubicBezTo>
                  <a:cubicBezTo>
                    <a:pt x="2020" y="402"/>
                    <a:pt x="2032" y="402"/>
                    <a:pt x="2044" y="402"/>
                  </a:cubicBezTo>
                  <a:cubicBezTo>
                    <a:pt x="2084" y="402"/>
                    <a:pt x="2114" y="373"/>
                    <a:pt x="2131" y="338"/>
                  </a:cubicBezTo>
                  <a:cubicBezTo>
                    <a:pt x="2137" y="320"/>
                    <a:pt x="2131" y="285"/>
                    <a:pt x="2154" y="285"/>
                  </a:cubicBezTo>
                  <a:cubicBezTo>
                    <a:pt x="2172" y="285"/>
                    <a:pt x="2177" y="291"/>
                    <a:pt x="2195" y="285"/>
                  </a:cubicBezTo>
                  <a:cubicBezTo>
                    <a:pt x="2195" y="291"/>
                    <a:pt x="2201" y="297"/>
                    <a:pt x="2201" y="303"/>
                  </a:cubicBezTo>
                  <a:cubicBezTo>
                    <a:pt x="2201" y="338"/>
                    <a:pt x="2177" y="361"/>
                    <a:pt x="2172" y="396"/>
                  </a:cubicBezTo>
                  <a:cubicBezTo>
                    <a:pt x="2177" y="396"/>
                    <a:pt x="2177" y="396"/>
                    <a:pt x="2183" y="396"/>
                  </a:cubicBezTo>
                  <a:cubicBezTo>
                    <a:pt x="2207" y="396"/>
                    <a:pt x="2218" y="390"/>
                    <a:pt x="2236" y="390"/>
                  </a:cubicBezTo>
                  <a:cubicBezTo>
                    <a:pt x="2247" y="390"/>
                    <a:pt x="2247" y="407"/>
                    <a:pt x="2259" y="413"/>
                  </a:cubicBezTo>
                  <a:cubicBezTo>
                    <a:pt x="2282" y="413"/>
                    <a:pt x="2311" y="413"/>
                    <a:pt x="2311" y="436"/>
                  </a:cubicBezTo>
                  <a:cubicBezTo>
                    <a:pt x="2311" y="460"/>
                    <a:pt x="2300" y="471"/>
                    <a:pt x="2300" y="495"/>
                  </a:cubicBezTo>
                  <a:cubicBezTo>
                    <a:pt x="2300" y="530"/>
                    <a:pt x="2323" y="541"/>
                    <a:pt x="2335" y="576"/>
                  </a:cubicBezTo>
                  <a:cubicBezTo>
                    <a:pt x="2358" y="640"/>
                    <a:pt x="2358" y="687"/>
                    <a:pt x="2358" y="757"/>
                  </a:cubicBezTo>
                  <a:cubicBezTo>
                    <a:pt x="2358" y="780"/>
                    <a:pt x="2346" y="792"/>
                    <a:pt x="2346" y="821"/>
                  </a:cubicBezTo>
                  <a:cubicBezTo>
                    <a:pt x="2346" y="856"/>
                    <a:pt x="2375" y="891"/>
                    <a:pt x="2410" y="891"/>
                  </a:cubicBezTo>
                  <a:cubicBezTo>
                    <a:pt x="2434" y="891"/>
                    <a:pt x="2445" y="873"/>
                    <a:pt x="2469" y="873"/>
                  </a:cubicBezTo>
                  <a:cubicBezTo>
                    <a:pt x="2486" y="873"/>
                    <a:pt x="2492" y="896"/>
                    <a:pt x="2492" y="920"/>
                  </a:cubicBezTo>
                  <a:cubicBezTo>
                    <a:pt x="2492" y="955"/>
                    <a:pt x="2451" y="972"/>
                    <a:pt x="2451" y="1013"/>
                  </a:cubicBezTo>
                  <a:cubicBezTo>
                    <a:pt x="2451" y="1042"/>
                    <a:pt x="2451" y="1071"/>
                    <a:pt x="2474" y="1088"/>
                  </a:cubicBezTo>
                  <a:cubicBezTo>
                    <a:pt x="2498" y="1100"/>
                    <a:pt x="2521" y="1088"/>
                    <a:pt x="2538" y="1112"/>
                  </a:cubicBezTo>
                  <a:cubicBezTo>
                    <a:pt x="2550" y="1135"/>
                    <a:pt x="2538" y="1158"/>
                    <a:pt x="2556" y="1176"/>
                  </a:cubicBezTo>
                  <a:cubicBezTo>
                    <a:pt x="2579" y="1199"/>
                    <a:pt x="2620" y="1188"/>
                    <a:pt x="2620" y="1217"/>
                  </a:cubicBezTo>
                  <a:cubicBezTo>
                    <a:pt x="2620" y="1263"/>
                    <a:pt x="2579" y="1286"/>
                    <a:pt x="2579" y="1333"/>
                  </a:cubicBezTo>
                  <a:cubicBezTo>
                    <a:pt x="2579" y="1345"/>
                    <a:pt x="2585" y="1356"/>
                    <a:pt x="2591" y="1356"/>
                  </a:cubicBezTo>
                  <a:cubicBezTo>
                    <a:pt x="2608" y="1356"/>
                    <a:pt x="2620" y="1351"/>
                    <a:pt x="2632" y="1333"/>
                  </a:cubicBezTo>
                  <a:cubicBezTo>
                    <a:pt x="2655" y="1339"/>
                    <a:pt x="2655" y="1339"/>
                    <a:pt x="2655" y="1339"/>
                  </a:cubicBezTo>
                  <a:cubicBezTo>
                    <a:pt x="2655" y="1374"/>
                    <a:pt x="2649" y="1391"/>
                    <a:pt x="2649" y="1432"/>
                  </a:cubicBezTo>
                  <a:cubicBezTo>
                    <a:pt x="2649" y="1519"/>
                    <a:pt x="2701" y="1560"/>
                    <a:pt x="2701" y="1653"/>
                  </a:cubicBezTo>
                  <a:cubicBezTo>
                    <a:pt x="2701" y="1700"/>
                    <a:pt x="2661" y="1717"/>
                    <a:pt x="2661" y="1758"/>
                  </a:cubicBezTo>
                  <a:cubicBezTo>
                    <a:pt x="2661" y="1805"/>
                    <a:pt x="2690" y="1822"/>
                    <a:pt x="2713" y="1857"/>
                  </a:cubicBezTo>
                  <a:cubicBezTo>
                    <a:pt x="2736" y="1915"/>
                    <a:pt x="2725" y="1962"/>
                    <a:pt x="2748" y="2026"/>
                  </a:cubicBezTo>
                  <a:cubicBezTo>
                    <a:pt x="2777" y="2090"/>
                    <a:pt x="2818" y="2113"/>
                    <a:pt x="2864" y="2166"/>
                  </a:cubicBezTo>
                  <a:cubicBezTo>
                    <a:pt x="2923" y="2119"/>
                    <a:pt x="2940" y="2043"/>
                    <a:pt x="3010" y="2043"/>
                  </a:cubicBezTo>
                  <a:cubicBezTo>
                    <a:pt x="3027" y="2043"/>
                    <a:pt x="3033" y="2055"/>
                    <a:pt x="3051" y="2055"/>
                  </a:cubicBezTo>
                  <a:cubicBezTo>
                    <a:pt x="3092" y="2055"/>
                    <a:pt x="3097" y="2008"/>
                    <a:pt x="3132" y="1997"/>
                  </a:cubicBezTo>
                  <a:cubicBezTo>
                    <a:pt x="3144" y="2020"/>
                    <a:pt x="3173" y="2020"/>
                    <a:pt x="3173" y="2043"/>
                  </a:cubicBezTo>
                  <a:cubicBezTo>
                    <a:pt x="3173" y="2049"/>
                    <a:pt x="3167" y="2049"/>
                    <a:pt x="3167" y="2055"/>
                  </a:cubicBezTo>
                  <a:cubicBezTo>
                    <a:pt x="3167" y="2066"/>
                    <a:pt x="3185" y="2066"/>
                    <a:pt x="3191" y="2078"/>
                  </a:cubicBezTo>
                  <a:cubicBezTo>
                    <a:pt x="3214" y="2119"/>
                    <a:pt x="3202" y="2166"/>
                    <a:pt x="3243" y="2189"/>
                  </a:cubicBezTo>
                  <a:cubicBezTo>
                    <a:pt x="3284" y="2206"/>
                    <a:pt x="3330" y="2189"/>
                    <a:pt x="3348" y="2224"/>
                  </a:cubicBezTo>
                  <a:cubicBezTo>
                    <a:pt x="3354" y="2247"/>
                    <a:pt x="3348" y="2264"/>
                    <a:pt x="3365" y="2282"/>
                  </a:cubicBezTo>
                  <a:cubicBezTo>
                    <a:pt x="3400" y="2317"/>
                    <a:pt x="3441" y="2311"/>
                    <a:pt x="3476" y="2340"/>
                  </a:cubicBezTo>
                  <a:cubicBezTo>
                    <a:pt x="3499" y="2358"/>
                    <a:pt x="3534" y="2358"/>
                    <a:pt x="3534" y="2387"/>
                  </a:cubicBezTo>
                  <a:cubicBezTo>
                    <a:pt x="3534" y="2422"/>
                    <a:pt x="3499" y="2433"/>
                    <a:pt x="3499" y="2474"/>
                  </a:cubicBezTo>
                  <a:cubicBezTo>
                    <a:pt x="3499" y="2503"/>
                    <a:pt x="3511" y="2526"/>
                    <a:pt x="3534" y="2550"/>
                  </a:cubicBezTo>
                  <a:cubicBezTo>
                    <a:pt x="3511" y="2573"/>
                    <a:pt x="3493" y="2596"/>
                    <a:pt x="3493" y="2625"/>
                  </a:cubicBezTo>
                  <a:cubicBezTo>
                    <a:pt x="3493" y="2695"/>
                    <a:pt x="3563" y="2718"/>
                    <a:pt x="3563" y="2788"/>
                  </a:cubicBezTo>
                  <a:cubicBezTo>
                    <a:pt x="3563" y="2806"/>
                    <a:pt x="3557" y="2818"/>
                    <a:pt x="3557" y="2835"/>
                  </a:cubicBezTo>
                  <a:cubicBezTo>
                    <a:pt x="3557" y="2870"/>
                    <a:pt x="3610" y="2876"/>
                    <a:pt x="3610" y="2911"/>
                  </a:cubicBezTo>
                  <a:cubicBezTo>
                    <a:pt x="3610" y="2940"/>
                    <a:pt x="3592" y="2957"/>
                    <a:pt x="3592" y="2992"/>
                  </a:cubicBezTo>
                  <a:cubicBezTo>
                    <a:pt x="3592" y="3004"/>
                    <a:pt x="3598" y="3010"/>
                    <a:pt x="3598" y="3027"/>
                  </a:cubicBezTo>
                  <a:cubicBezTo>
                    <a:pt x="3598" y="3050"/>
                    <a:pt x="3569" y="3056"/>
                    <a:pt x="3569" y="3085"/>
                  </a:cubicBezTo>
                  <a:cubicBezTo>
                    <a:pt x="3569" y="3138"/>
                    <a:pt x="3621" y="3155"/>
                    <a:pt x="3650" y="3196"/>
                  </a:cubicBezTo>
                  <a:cubicBezTo>
                    <a:pt x="3703" y="3272"/>
                    <a:pt x="3726" y="3324"/>
                    <a:pt x="3802" y="3376"/>
                  </a:cubicBezTo>
                  <a:cubicBezTo>
                    <a:pt x="3819" y="3370"/>
                    <a:pt x="3819" y="3370"/>
                    <a:pt x="3819" y="3370"/>
                  </a:cubicBezTo>
                  <a:cubicBezTo>
                    <a:pt x="3819" y="3382"/>
                    <a:pt x="3813" y="3394"/>
                    <a:pt x="3813" y="3405"/>
                  </a:cubicBezTo>
                  <a:cubicBezTo>
                    <a:pt x="3813" y="3429"/>
                    <a:pt x="3831" y="3440"/>
                    <a:pt x="3837" y="3464"/>
                  </a:cubicBezTo>
                  <a:cubicBezTo>
                    <a:pt x="3866" y="3539"/>
                    <a:pt x="3877" y="3586"/>
                    <a:pt x="3895" y="3673"/>
                  </a:cubicBezTo>
                  <a:cubicBezTo>
                    <a:pt x="3901" y="3685"/>
                    <a:pt x="3907" y="3691"/>
                    <a:pt x="3907" y="3702"/>
                  </a:cubicBezTo>
                  <a:cubicBezTo>
                    <a:pt x="3907" y="3766"/>
                    <a:pt x="3907" y="3807"/>
                    <a:pt x="3907" y="3871"/>
                  </a:cubicBezTo>
                  <a:cubicBezTo>
                    <a:pt x="3860" y="3982"/>
                    <a:pt x="3860" y="3982"/>
                    <a:pt x="3860" y="3982"/>
                  </a:cubicBezTo>
                  <a:cubicBezTo>
                    <a:pt x="3866" y="4034"/>
                    <a:pt x="3877" y="4069"/>
                    <a:pt x="3912" y="4104"/>
                  </a:cubicBezTo>
                  <a:cubicBezTo>
                    <a:pt x="3947" y="4133"/>
                    <a:pt x="3959" y="4151"/>
                    <a:pt x="3988" y="4180"/>
                  </a:cubicBezTo>
                  <a:cubicBezTo>
                    <a:pt x="4000" y="4185"/>
                    <a:pt x="4011" y="4191"/>
                    <a:pt x="4011" y="4203"/>
                  </a:cubicBezTo>
                  <a:cubicBezTo>
                    <a:pt x="4011" y="4244"/>
                    <a:pt x="3994" y="4267"/>
                    <a:pt x="3994" y="4308"/>
                  </a:cubicBezTo>
                  <a:cubicBezTo>
                    <a:pt x="3994" y="4348"/>
                    <a:pt x="4011" y="4372"/>
                    <a:pt x="4035" y="4407"/>
                  </a:cubicBezTo>
                  <a:cubicBezTo>
                    <a:pt x="4104" y="4465"/>
                    <a:pt x="4157" y="4488"/>
                    <a:pt x="4238" y="4529"/>
                  </a:cubicBezTo>
                  <a:cubicBezTo>
                    <a:pt x="4279" y="4546"/>
                    <a:pt x="4285" y="4581"/>
                    <a:pt x="4326" y="4599"/>
                  </a:cubicBezTo>
                  <a:cubicBezTo>
                    <a:pt x="4332" y="4564"/>
                    <a:pt x="4343" y="4546"/>
                    <a:pt x="4372" y="4529"/>
                  </a:cubicBezTo>
                  <a:cubicBezTo>
                    <a:pt x="4372" y="4541"/>
                    <a:pt x="4372" y="4541"/>
                    <a:pt x="4372" y="4541"/>
                  </a:cubicBezTo>
                  <a:cubicBezTo>
                    <a:pt x="4361" y="4558"/>
                    <a:pt x="4361" y="4558"/>
                    <a:pt x="4361" y="4558"/>
                  </a:cubicBezTo>
                  <a:cubicBezTo>
                    <a:pt x="4378" y="4611"/>
                    <a:pt x="4430" y="4634"/>
                    <a:pt x="4489" y="4634"/>
                  </a:cubicBezTo>
                  <a:cubicBezTo>
                    <a:pt x="4518" y="4634"/>
                    <a:pt x="4535" y="4622"/>
                    <a:pt x="4570" y="4616"/>
                  </a:cubicBezTo>
                  <a:cubicBezTo>
                    <a:pt x="4588" y="4651"/>
                    <a:pt x="4611" y="4663"/>
                    <a:pt x="4611" y="4704"/>
                  </a:cubicBezTo>
                  <a:cubicBezTo>
                    <a:pt x="4611" y="4715"/>
                    <a:pt x="4605" y="4721"/>
                    <a:pt x="4605" y="4739"/>
                  </a:cubicBezTo>
                  <a:cubicBezTo>
                    <a:pt x="4605" y="4797"/>
                    <a:pt x="4658" y="4814"/>
                    <a:pt x="4698" y="4855"/>
                  </a:cubicBezTo>
                  <a:cubicBezTo>
                    <a:pt x="4710" y="4826"/>
                    <a:pt x="4710" y="4808"/>
                    <a:pt x="4727" y="4779"/>
                  </a:cubicBezTo>
                  <a:cubicBezTo>
                    <a:pt x="4751" y="4785"/>
                    <a:pt x="4751" y="4785"/>
                    <a:pt x="4751" y="4785"/>
                  </a:cubicBezTo>
                  <a:cubicBezTo>
                    <a:pt x="4751" y="4837"/>
                    <a:pt x="4774" y="4902"/>
                    <a:pt x="4826" y="4902"/>
                  </a:cubicBezTo>
                  <a:cubicBezTo>
                    <a:pt x="4844" y="4902"/>
                    <a:pt x="4844" y="4867"/>
                    <a:pt x="4861" y="4867"/>
                  </a:cubicBezTo>
                  <a:cubicBezTo>
                    <a:pt x="4896" y="4867"/>
                    <a:pt x="4902" y="4902"/>
                    <a:pt x="4925" y="4925"/>
                  </a:cubicBezTo>
                  <a:cubicBezTo>
                    <a:pt x="4972" y="4960"/>
                    <a:pt x="4989" y="4995"/>
                    <a:pt x="5048" y="5012"/>
                  </a:cubicBezTo>
                  <a:cubicBezTo>
                    <a:pt x="5048" y="4995"/>
                    <a:pt x="5059" y="4983"/>
                    <a:pt x="5071" y="4977"/>
                  </a:cubicBezTo>
                  <a:cubicBezTo>
                    <a:pt x="5082" y="5000"/>
                    <a:pt x="5082" y="5018"/>
                    <a:pt x="5100" y="5030"/>
                  </a:cubicBezTo>
                  <a:cubicBezTo>
                    <a:pt x="5118" y="5041"/>
                    <a:pt x="5135" y="5035"/>
                    <a:pt x="5147" y="5053"/>
                  </a:cubicBezTo>
                  <a:cubicBezTo>
                    <a:pt x="5152" y="5059"/>
                    <a:pt x="5147" y="5076"/>
                    <a:pt x="5158" y="5082"/>
                  </a:cubicBezTo>
                  <a:cubicBezTo>
                    <a:pt x="5187" y="5100"/>
                    <a:pt x="5222" y="5100"/>
                    <a:pt x="5222" y="5129"/>
                  </a:cubicBezTo>
                  <a:cubicBezTo>
                    <a:pt x="5222" y="5146"/>
                    <a:pt x="5205" y="5163"/>
                    <a:pt x="5181" y="5163"/>
                  </a:cubicBezTo>
                  <a:cubicBezTo>
                    <a:pt x="5170" y="5163"/>
                    <a:pt x="5164" y="5152"/>
                    <a:pt x="5152" y="5146"/>
                  </a:cubicBezTo>
                  <a:cubicBezTo>
                    <a:pt x="5152" y="5152"/>
                    <a:pt x="5147" y="5158"/>
                    <a:pt x="5147" y="5158"/>
                  </a:cubicBezTo>
                  <a:cubicBezTo>
                    <a:pt x="5147" y="5169"/>
                    <a:pt x="5158" y="5169"/>
                    <a:pt x="5158" y="5181"/>
                  </a:cubicBezTo>
                  <a:cubicBezTo>
                    <a:pt x="5158" y="5193"/>
                    <a:pt x="5141" y="5198"/>
                    <a:pt x="5141" y="5210"/>
                  </a:cubicBezTo>
                  <a:cubicBezTo>
                    <a:pt x="5141" y="5233"/>
                    <a:pt x="5158" y="5245"/>
                    <a:pt x="5170" y="5268"/>
                  </a:cubicBezTo>
                  <a:cubicBezTo>
                    <a:pt x="5222" y="5321"/>
                    <a:pt x="5234" y="5402"/>
                    <a:pt x="5310" y="5391"/>
                  </a:cubicBezTo>
                  <a:cubicBezTo>
                    <a:pt x="5310" y="5408"/>
                    <a:pt x="5310" y="5414"/>
                    <a:pt x="5310" y="5431"/>
                  </a:cubicBezTo>
                  <a:cubicBezTo>
                    <a:pt x="5321" y="5437"/>
                    <a:pt x="5321" y="5437"/>
                    <a:pt x="5321" y="5437"/>
                  </a:cubicBezTo>
                  <a:cubicBezTo>
                    <a:pt x="5327" y="5431"/>
                    <a:pt x="5327" y="5431"/>
                    <a:pt x="5333" y="5431"/>
                  </a:cubicBezTo>
                  <a:cubicBezTo>
                    <a:pt x="5350" y="5431"/>
                    <a:pt x="5350" y="5449"/>
                    <a:pt x="5362" y="5466"/>
                  </a:cubicBezTo>
                  <a:cubicBezTo>
                    <a:pt x="5374" y="5484"/>
                    <a:pt x="5403" y="5484"/>
                    <a:pt x="5403" y="5501"/>
                  </a:cubicBezTo>
                  <a:cubicBezTo>
                    <a:pt x="5403" y="5524"/>
                    <a:pt x="5385" y="5530"/>
                    <a:pt x="5385" y="5548"/>
                  </a:cubicBezTo>
                  <a:cubicBezTo>
                    <a:pt x="5385" y="5559"/>
                    <a:pt x="5391" y="5565"/>
                    <a:pt x="5391" y="5571"/>
                  </a:cubicBezTo>
                  <a:cubicBezTo>
                    <a:pt x="5397" y="5571"/>
                    <a:pt x="5403" y="5565"/>
                    <a:pt x="5414" y="5565"/>
                  </a:cubicBezTo>
                  <a:cubicBezTo>
                    <a:pt x="5432" y="5565"/>
                    <a:pt x="5432" y="5594"/>
                    <a:pt x="5432" y="5618"/>
                  </a:cubicBezTo>
                  <a:cubicBezTo>
                    <a:pt x="5438" y="5658"/>
                    <a:pt x="5432" y="5717"/>
                    <a:pt x="5473" y="5717"/>
                  </a:cubicBezTo>
                  <a:cubicBezTo>
                    <a:pt x="5478" y="5717"/>
                    <a:pt x="5484" y="5717"/>
                    <a:pt x="5490" y="5711"/>
                  </a:cubicBezTo>
                  <a:cubicBezTo>
                    <a:pt x="5496" y="5728"/>
                    <a:pt x="5519" y="5734"/>
                    <a:pt x="5519" y="5757"/>
                  </a:cubicBezTo>
                  <a:cubicBezTo>
                    <a:pt x="5519" y="5781"/>
                    <a:pt x="5507" y="5792"/>
                    <a:pt x="5507" y="5815"/>
                  </a:cubicBezTo>
                  <a:cubicBezTo>
                    <a:pt x="5507" y="5926"/>
                    <a:pt x="5595" y="5973"/>
                    <a:pt x="5595" y="6089"/>
                  </a:cubicBezTo>
                  <a:cubicBezTo>
                    <a:pt x="5595" y="6101"/>
                    <a:pt x="5583" y="6107"/>
                    <a:pt x="5583" y="6118"/>
                  </a:cubicBezTo>
                  <a:cubicBezTo>
                    <a:pt x="5583" y="6136"/>
                    <a:pt x="5601" y="6136"/>
                    <a:pt x="5607" y="6141"/>
                  </a:cubicBezTo>
                  <a:cubicBezTo>
                    <a:pt x="5624" y="6159"/>
                    <a:pt x="5624" y="6188"/>
                    <a:pt x="5647" y="6188"/>
                  </a:cubicBezTo>
                  <a:cubicBezTo>
                    <a:pt x="5659" y="6188"/>
                    <a:pt x="5659" y="6171"/>
                    <a:pt x="5670" y="6171"/>
                  </a:cubicBezTo>
                  <a:cubicBezTo>
                    <a:pt x="5781" y="6171"/>
                    <a:pt x="5822" y="6380"/>
                    <a:pt x="5764" y="6141"/>
                  </a:cubicBezTo>
                  <a:cubicBezTo>
                    <a:pt x="5775" y="6124"/>
                    <a:pt x="5775" y="6124"/>
                    <a:pt x="5775" y="6124"/>
                  </a:cubicBezTo>
                  <a:cubicBezTo>
                    <a:pt x="5770" y="6112"/>
                    <a:pt x="5764" y="6107"/>
                    <a:pt x="5764" y="6095"/>
                  </a:cubicBezTo>
                  <a:cubicBezTo>
                    <a:pt x="5764" y="6066"/>
                    <a:pt x="5770" y="6037"/>
                    <a:pt x="5793" y="6037"/>
                  </a:cubicBezTo>
                  <a:cubicBezTo>
                    <a:pt x="5833" y="6037"/>
                    <a:pt x="5822" y="6083"/>
                    <a:pt x="5851" y="6112"/>
                  </a:cubicBezTo>
                  <a:cubicBezTo>
                    <a:pt x="5892" y="6159"/>
                    <a:pt x="5927" y="6182"/>
                    <a:pt x="5973" y="6229"/>
                  </a:cubicBezTo>
                  <a:cubicBezTo>
                    <a:pt x="6008" y="6258"/>
                    <a:pt x="6026" y="6281"/>
                    <a:pt x="6072" y="6287"/>
                  </a:cubicBezTo>
                  <a:cubicBezTo>
                    <a:pt x="6072" y="6223"/>
                    <a:pt x="6072" y="6223"/>
                    <a:pt x="6072" y="6223"/>
                  </a:cubicBezTo>
                  <a:cubicBezTo>
                    <a:pt x="6072" y="6194"/>
                    <a:pt x="6055" y="6176"/>
                    <a:pt x="6055" y="6147"/>
                  </a:cubicBezTo>
                  <a:cubicBezTo>
                    <a:pt x="6055" y="6130"/>
                    <a:pt x="6055" y="6130"/>
                    <a:pt x="6055" y="6130"/>
                  </a:cubicBezTo>
                  <a:cubicBezTo>
                    <a:pt x="6061" y="6130"/>
                    <a:pt x="6061" y="6124"/>
                    <a:pt x="6066" y="6124"/>
                  </a:cubicBezTo>
                  <a:cubicBezTo>
                    <a:pt x="6090" y="6124"/>
                    <a:pt x="6084" y="6165"/>
                    <a:pt x="6101" y="6182"/>
                  </a:cubicBezTo>
                  <a:cubicBezTo>
                    <a:pt x="6130" y="6217"/>
                    <a:pt x="6125" y="6246"/>
                    <a:pt x="6142" y="6281"/>
                  </a:cubicBezTo>
                  <a:cubicBezTo>
                    <a:pt x="6154" y="6310"/>
                    <a:pt x="6177" y="6328"/>
                    <a:pt x="6177" y="6357"/>
                  </a:cubicBezTo>
                  <a:cubicBezTo>
                    <a:pt x="6177" y="6380"/>
                    <a:pt x="6154" y="6392"/>
                    <a:pt x="6154" y="6415"/>
                  </a:cubicBezTo>
                  <a:cubicBezTo>
                    <a:pt x="6154" y="6438"/>
                    <a:pt x="6171" y="6456"/>
                    <a:pt x="6177" y="6479"/>
                  </a:cubicBezTo>
                  <a:cubicBezTo>
                    <a:pt x="6189" y="6561"/>
                    <a:pt x="6194" y="6601"/>
                    <a:pt x="6194" y="6683"/>
                  </a:cubicBezTo>
                  <a:cubicBezTo>
                    <a:pt x="6194" y="6706"/>
                    <a:pt x="6194" y="6706"/>
                    <a:pt x="6194" y="6706"/>
                  </a:cubicBezTo>
                  <a:cubicBezTo>
                    <a:pt x="6189" y="6706"/>
                    <a:pt x="6189" y="6706"/>
                    <a:pt x="6183" y="6706"/>
                  </a:cubicBezTo>
                  <a:cubicBezTo>
                    <a:pt x="6177" y="6706"/>
                    <a:pt x="6171" y="6700"/>
                    <a:pt x="6165" y="6700"/>
                  </a:cubicBezTo>
                  <a:cubicBezTo>
                    <a:pt x="6148" y="6700"/>
                    <a:pt x="6119" y="6706"/>
                    <a:pt x="6119" y="6724"/>
                  </a:cubicBezTo>
                  <a:cubicBezTo>
                    <a:pt x="6119" y="6747"/>
                    <a:pt x="6142" y="6747"/>
                    <a:pt x="6154" y="6764"/>
                  </a:cubicBezTo>
                  <a:cubicBezTo>
                    <a:pt x="6183" y="6793"/>
                    <a:pt x="6212" y="6793"/>
                    <a:pt x="6241" y="6823"/>
                  </a:cubicBezTo>
                  <a:cubicBezTo>
                    <a:pt x="6259" y="6811"/>
                    <a:pt x="6253" y="6793"/>
                    <a:pt x="6264" y="6776"/>
                  </a:cubicBezTo>
                  <a:cubicBezTo>
                    <a:pt x="6322" y="6805"/>
                    <a:pt x="6328" y="6858"/>
                    <a:pt x="6363" y="6916"/>
                  </a:cubicBezTo>
                  <a:cubicBezTo>
                    <a:pt x="6381" y="6939"/>
                    <a:pt x="6410" y="6939"/>
                    <a:pt x="6439" y="6962"/>
                  </a:cubicBezTo>
                  <a:cubicBezTo>
                    <a:pt x="6456" y="6974"/>
                    <a:pt x="6462" y="6991"/>
                    <a:pt x="6474" y="7015"/>
                  </a:cubicBezTo>
                  <a:cubicBezTo>
                    <a:pt x="6491" y="7044"/>
                    <a:pt x="6520" y="7044"/>
                    <a:pt x="6555" y="7056"/>
                  </a:cubicBezTo>
                  <a:cubicBezTo>
                    <a:pt x="6567" y="7044"/>
                    <a:pt x="6573" y="7032"/>
                    <a:pt x="6585" y="7032"/>
                  </a:cubicBezTo>
                  <a:cubicBezTo>
                    <a:pt x="6602" y="7032"/>
                    <a:pt x="6608" y="7044"/>
                    <a:pt x="6625" y="7056"/>
                  </a:cubicBezTo>
                  <a:cubicBezTo>
                    <a:pt x="6678" y="7073"/>
                    <a:pt x="6713" y="7090"/>
                    <a:pt x="6736" y="7143"/>
                  </a:cubicBezTo>
                  <a:cubicBezTo>
                    <a:pt x="6753" y="7184"/>
                    <a:pt x="6765" y="7213"/>
                    <a:pt x="6759" y="7259"/>
                  </a:cubicBezTo>
                  <a:cubicBezTo>
                    <a:pt x="6771" y="7259"/>
                    <a:pt x="6771" y="7259"/>
                    <a:pt x="6771" y="7259"/>
                  </a:cubicBezTo>
                  <a:cubicBezTo>
                    <a:pt x="6806" y="7288"/>
                    <a:pt x="6800" y="7329"/>
                    <a:pt x="6835" y="7358"/>
                  </a:cubicBezTo>
                  <a:cubicBezTo>
                    <a:pt x="6870" y="7393"/>
                    <a:pt x="6916" y="7376"/>
                    <a:pt x="6951" y="7411"/>
                  </a:cubicBezTo>
                  <a:cubicBezTo>
                    <a:pt x="6974" y="7434"/>
                    <a:pt x="6957" y="7463"/>
                    <a:pt x="6963" y="7492"/>
                  </a:cubicBezTo>
                  <a:cubicBezTo>
                    <a:pt x="6974" y="7533"/>
                    <a:pt x="7010" y="7545"/>
                    <a:pt x="7021" y="7579"/>
                  </a:cubicBezTo>
                  <a:cubicBezTo>
                    <a:pt x="7027" y="7608"/>
                    <a:pt x="7033" y="7626"/>
                    <a:pt x="7056" y="7638"/>
                  </a:cubicBezTo>
                  <a:cubicBezTo>
                    <a:pt x="7091" y="7655"/>
                    <a:pt x="7108" y="7667"/>
                    <a:pt x="7143" y="7673"/>
                  </a:cubicBezTo>
                  <a:cubicBezTo>
                    <a:pt x="7161" y="7678"/>
                    <a:pt x="7190" y="7678"/>
                    <a:pt x="7190" y="7696"/>
                  </a:cubicBezTo>
                  <a:cubicBezTo>
                    <a:pt x="7190" y="7754"/>
                    <a:pt x="7161" y="7777"/>
                    <a:pt x="7161" y="7830"/>
                  </a:cubicBezTo>
                  <a:cubicBezTo>
                    <a:pt x="7161" y="7905"/>
                    <a:pt x="7207" y="7940"/>
                    <a:pt x="7260" y="7987"/>
                  </a:cubicBezTo>
                  <a:cubicBezTo>
                    <a:pt x="7277" y="8010"/>
                    <a:pt x="7312" y="8010"/>
                    <a:pt x="7312" y="8039"/>
                  </a:cubicBezTo>
                  <a:cubicBezTo>
                    <a:pt x="7312" y="8115"/>
                    <a:pt x="7260" y="8150"/>
                    <a:pt x="7260" y="8226"/>
                  </a:cubicBezTo>
                  <a:cubicBezTo>
                    <a:pt x="7260" y="8249"/>
                    <a:pt x="7271" y="8260"/>
                    <a:pt x="7271" y="8284"/>
                  </a:cubicBezTo>
                  <a:cubicBezTo>
                    <a:pt x="7277" y="8284"/>
                    <a:pt x="7277" y="8284"/>
                    <a:pt x="7283" y="8284"/>
                  </a:cubicBezTo>
                  <a:cubicBezTo>
                    <a:pt x="7289" y="8284"/>
                    <a:pt x="7289" y="8278"/>
                    <a:pt x="7295" y="8278"/>
                  </a:cubicBezTo>
                  <a:cubicBezTo>
                    <a:pt x="7306" y="8301"/>
                    <a:pt x="7306" y="8319"/>
                    <a:pt x="7306" y="8342"/>
                  </a:cubicBezTo>
                  <a:cubicBezTo>
                    <a:pt x="7306" y="8377"/>
                    <a:pt x="7306" y="8377"/>
                    <a:pt x="7306" y="8377"/>
                  </a:cubicBezTo>
                  <a:cubicBezTo>
                    <a:pt x="7306" y="8406"/>
                    <a:pt x="7318" y="8423"/>
                    <a:pt x="7336" y="8447"/>
                  </a:cubicBezTo>
                  <a:cubicBezTo>
                    <a:pt x="7289" y="8482"/>
                    <a:pt x="7266" y="8523"/>
                    <a:pt x="7266" y="8581"/>
                  </a:cubicBezTo>
                  <a:cubicBezTo>
                    <a:pt x="7266" y="8604"/>
                    <a:pt x="7289" y="8610"/>
                    <a:pt x="7306" y="8627"/>
                  </a:cubicBezTo>
                  <a:cubicBezTo>
                    <a:pt x="7295" y="8645"/>
                    <a:pt x="7266" y="8645"/>
                    <a:pt x="7266" y="8668"/>
                  </a:cubicBezTo>
                  <a:cubicBezTo>
                    <a:pt x="7266" y="8697"/>
                    <a:pt x="7300" y="8703"/>
                    <a:pt x="7312" y="8738"/>
                  </a:cubicBezTo>
                  <a:cubicBezTo>
                    <a:pt x="7324" y="8761"/>
                    <a:pt x="7318" y="8784"/>
                    <a:pt x="7330" y="8808"/>
                  </a:cubicBezTo>
                  <a:cubicBezTo>
                    <a:pt x="7341" y="8854"/>
                    <a:pt x="7376" y="8860"/>
                    <a:pt x="7399" y="8901"/>
                  </a:cubicBezTo>
                  <a:cubicBezTo>
                    <a:pt x="7394" y="8924"/>
                    <a:pt x="7388" y="8936"/>
                    <a:pt x="7388" y="8965"/>
                  </a:cubicBezTo>
                  <a:cubicBezTo>
                    <a:pt x="7388" y="9075"/>
                    <a:pt x="7469" y="9134"/>
                    <a:pt x="7499" y="9221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69" name="Freeform 4"/>
            <p:cNvSpPr/>
            <p:nvPr/>
          </p:nvSpPr>
          <p:spPr>
            <a:xfrm>
              <a:off x="3217320" y="4179240"/>
              <a:ext cx="1275480" cy="1524240"/>
            </a:xfrm>
            <a:custGeom>
              <a:avLst/>
              <a:gdLst/>
              <a:ahLst/>
              <a:rect l="l" t="t" r="r" b="b"/>
              <a:pathLst>
                <a:path w="5792" h="6921">
                  <a:moveTo>
                    <a:pt x="4336" y="5506"/>
                  </a:moveTo>
                  <a:lnTo>
                    <a:pt x="4336" y="5506"/>
                  </a:lnTo>
                  <a:cubicBezTo>
                    <a:pt x="4295" y="5511"/>
                    <a:pt x="4278" y="5535"/>
                    <a:pt x="4254" y="5564"/>
                  </a:cubicBezTo>
                  <a:cubicBezTo>
                    <a:pt x="4283" y="5599"/>
                    <a:pt x="4318" y="5599"/>
                    <a:pt x="4365" y="5599"/>
                  </a:cubicBezTo>
                  <a:cubicBezTo>
                    <a:pt x="4377" y="5599"/>
                    <a:pt x="4382" y="5581"/>
                    <a:pt x="4400" y="5576"/>
                  </a:cubicBezTo>
                  <a:cubicBezTo>
                    <a:pt x="4382" y="5547"/>
                    <a:pt x="4365" y="5523"/>
                    <a:pt x="4336" y="5506"/>
                  </a:cubicBezTo>
                  <a:close/>
                  <a:moveTo>
                    <a:pt x="3643" y="5605"/>
                  </a:moveTo>
                  <a:lnTo>
                    <a:pt x="3643" y="5605"/>
                  </a:lnTo>
                  <a:cubicBezTo>
                    <a:pt x="3643" y="5634"/>
                    <a:pt x="3678" y="5628"/>
                    <a:pt x="3696" y="5640"/>
                  </a:cubicBezTo>
                  <a:cubicBezTo>
                    <a:pt x="3713" y="5651"/>
                    <a:pt x="3719" y="5674"/>
                    <a:pt x="3736" y="5674"/>
                  </a:cubicBezTo>
                  <a:cubicBezTo>
                    <a:pt x="3800" y="5674"/>
                    <a:pt x="3800" y="5674"/>
                    <a:pt x="3800" y="5674"/>
                  </a:cubicBezTo>
                  <a:cubicBezTo>
                    <a:pt x="3853" y="5686"/>
                    <a:pt x="3853" y="5686"/>
                    <a:pt x="3853" y="5686"/>
                  </a:cubicBezTo>
                  <a:cubicBezTo>
                    <a:pt x="3893" y="5686"/>
                    <a:pt x="3917" y="5686"/>
                    <a:pt x="3957" y="5680"/>
                  </a:cubicBezTo>
                  <a:cubicBezTo>
                    <a:pt x="3957" y="5674"/>
                    <a:pt x="3963" y="5669"/>
                    <a:pt x="3963" y="5663"/>
                  </a:cubicBezTo>
                  <a:cubicBezTo>
                    <a:pt x="3963" y="5657"/>
                    <a:pt x="3957" y="5657"/>
                    <a:pt x="3957" y="5651"/>
                  </a:cubicBezTo>
                  <a:cubicBezTo>
                    <a:pt x="3969" y="5645"/>
                    <a:pt x="3969" y="5645"/>
                    <a:pt x="3969" y="5645"/>
                  </a:cubicBezTo>
                  <a:cubicBezTo>
                    <a:pt x="4033" y="5645"/>
                    <a:pt x="4033" y="5645"/>
                    <a:pt x="4033" y="5645"/>
                  </a:cubicBezTo>
                  <a:cubicBezTo>
                    <a:pt x="4056" y="5674"/>
                    <a:pt x="4074" y="5692"/>
                    <a:pt x="4109" y="5715"/>
                  </a:cubicBezTo>
                  <a:cubicBezTo>
                    <a:pt x="4126" y="5674"/>
                    <a:pt x="4149" y="5657"/>
                    <a:pt x="4149" y="5616"/>
                  </a:cubicBezTo>
                  <a:cubicBezTo>
                    <a:pt x="4149" y="5593"/>
                    <a:pt x="4185" y="5605"/>
                    <a:pt x="4202" y="5593"/>
                  </a:cubicBezTo>
                  <a:cubicBezTo>
                    <a:pt x="4225" y="5576"/>
                    <a:pt x="4214" y="5552"/>
                    <a:pt x="4219" y="5523"/>
                  </a:cubicBezTo>
                  <a:cubicBezTo>
                    <a:pt x="4208" y="5523"/>
                    <a:pt x="4202" y="5523"/>
                    <a:pt x="4190" y="5523"/>
                  </a:cubicBezTo>
                  <a:cubicBezTo>
                    <a:pt x="4167" y="5523"/>
                    <a:pt x="4132" y="5523"/>
                    <a:pt x="4132" y="5494"/>
                  </a:cubicBezTo>
                  <a:cubicBezTo>
                    <a:pt x="4132" y="5477"/>
                    <a:pt x="4149" y="5471"/>
                    <a:pt x="4149" y="5453"/>
                  </a:cubicBezTo>
                  <a:cubicBezTo>
                    <a:pt x="4149" y="5436"/>
                    <a:pt x="4126" y="5424"/>
                    <a:pt x="4109" y="5424"/>
                  </a:cubicBezTo>
                  <a:cubicBezTo>
                    <a:pt x="3992" y="5424"/>
                    <a:pt x="3923" y="5442"/>
                    <a:pt x="3812" y="5482"/>
                  </a:cubicBezTo>
                  <a:cubicBezTo>
                    <a:pt x="3760" y="5506"/>
                    <a:pt x="3713" y="5482"/>
                    <a:pt x="3672" y="5517"/>
                  </a:cubicBezTo>
                  <a:cubicBezTo>
                    <a:pt x="3649" y="5541"/>
                    <a:pt x="3643" y="5570"/>
                    <a:pt x="3643" y="5605"/>
                  </a:cubicBezTo>
                  <a:close/>
                  <a:moveTo>
                    <a:pt x="0" y="3148"/>
                  </a:moveTo>
                  <a:lnTo>
                    <a:pt x="0" y="3148"/>
                  </a:lnTo>
                  <a:lnTo>
                    <a:pt x="0" y="3148"/>
                  </a:lnTo>
                  <a:cubicBezTo>
                    <a:pt x="0" y="0"/>
                    <a:pt x="0" y="0"/>
                    <a:pt x="0" y="0"/>
                  </a:cubicBezTo>
                  <a:lnTo>
                    <a:pt x="0" y="0"/>
                  </a:lnTo>
                  <a:cubicBezTo>
                    <a:pt x="4330" y="17"/>
                    <a:pt x="4330" y="17"/>
                    <a:pt x="4330" y="17"/>
                  </a:cubicBezTo>
                  <a:lnTo>
                    <a:pt x="4330" y="17"/>
                  </a:lnTo>
                  <a:cubicBezTo>
                    <a:pt x="5791" y="23"/>
                    <a:pt x="5791" y="23"/>
                    <a:pt x="5791" y="23"/>
                  </a:cubicBezTo>
                  <a:cubicBezTo>
                    <a:pt x="5791" y="1652"/>
                    <a:pt x="5791" y="1652"/>
                    <a:pt x="5791" y="1652"/>
                  </a:cubicBezTo>
                  <a:lnTo>
                    <a:pt x="5791" y="1652"/>
                  </a:lnTo>
                  <a:cubicBezTo>
                    <a:pt x="5780" y="4504"/>
                    <a:pt x="5780" y="4504"/>
                    <a:pt x="5780" y="4504"/>
                  </a:cubicBezTo>
                  <a:lnTo>
                    <a:pt x="5780" y="4504"/>
                  </a:lnTo>
                  <a:cubicBezTo>
                    <a:pt x="5774" y="6914"/>
                    <a:pt x="5774" y="6914"/>
                    <a:pt x="5774" y="6914"/>
                  </a:cubicBezTo>
                  <a:lnTo>
                    <a:pt x="5774" y="6914"/>
                  </a:lnTo>
                  <a:cubicBezTo>
                    <a:pt x="5756" y="6909"/>
                    <a:pt x="5739" y="6909"/>
                    <a:pt x="5716" y="6909"/>
                  </a:cubicBezTo>
                  <a:cubicBezTo>
                    <a:pt x="5686" y="6909"/>
                    <a:pt x="5669" y="6920"/>
                    <a:pt x="5634" y="6920"/>
                  </a:cubicBezTo>
                  <a:cubicBezTo>
                    <a:pt x="5593" y="6920"/>
                    <a:pt x="5582" y="6880"/>
                    <a:pt x="5553" y="6856"/>
                  </a:cubicBezTo>
                  <a:cubicBezTo>
                    <a:pt x="5477" y="6798"/>
                    <a:pt x="5454" y="6746"/>
                    <a:pt x="5413" y="6658"/>
                  </a:cubicBezTo>
                  <a:cubicBezTo>
                    <a:pt x="5401" y="6635"/>
                    <a:pt x="5384" y="6618"/>
                    <a:pt x="5366" y="6594"/>
                  </a:cubicBezTo>
                  <a:cubicBezTo>
                    <a:pt x="5355" y="6577"/>
                    <a:pt x="5355" y="6559"/>
                    <a:pt x="5337" y="6554"/>
                  </a:cubicBezTo>
                  <a:cubicBezTo>
                    <a:pt x="5314" y="6548"/>
                    <a:pt x="5297" y="6559"/>
                    <a:pt x="5279" y="6548"/>
                  </a:cubicBezTo>
                  <a:cubicBezTo>
                    <a:pt x="5232" y="6495"/>
                    <a:pt x="5250" y="6431"/>
                    <a:pt x="5192" y="6385"/>
                  </a:cubicBezTo>
                  <a:cubicBezTo>
                    <a:pt x="5197" y="6367"/>
                    <a:pt x="5215" y="6367"/>
                    <a:pt x="5215" y="6350"/>
                  </a:cubicBezTo>
                  <a:cubicBezTo>
                    <a:pt x="5215" y="6297"/>
                    <a:pt x="5192" y="6257"/>
                    <a:pt x="5139" y="6245"/>
                  </a:cubicBezTo>
                  <a:cubicBezTo>
                    <a:pt x="5203" y="6216"/>
                    <a:pt x="5250" y="6181"/>
                    <a:pt x="5250" y="6111"/>
                  </a:cubicBezTo>
                  <a:cubicBezTo>
                    <a:pt x="5250" y="6036"/>
                    <a:pt x="5250" y="6036"/>
                    <a:pt x="5250" y="6036"/>
                  </a:cubicBezTo>
                  <a:cubicBezTo>
                    <a:pt x="5250" y="5890"/>
                    <a:pt x="5168" y="5820"/>
                    <a:pt x="5110" y="5680"/>
                  </a:cubicBezTo>
                  <a:cubicBezTo>
                    <a:pt x="5081" y="5645"/>
                    <a:pt x="5046" y="5645"/>
                    <a:pt x="5017" y="5605"/>
                  </a:cubicBezTo>
                  <a:cubicBezTo>
                    <a:pt x="4976" y="5541"/>
                    <a:pt x="4935" y="5511"/>
                    <a:pt x="4895" y="5442"/>
                  </a:cubicBezTo>
                  <a:cubicBezTo>
                    <a:pt x="4889" y="5430"/>
                    <a:pt x="4866" y="5424"/>
                    <a:pt x="4866" y="5407"/>
                  </a:cubicBezTo>
                  <a:cubicBezTo>
                    <a:pt x="4866" y="5395"/>
                    <a:pt x="4866" y="5389"/>
                    <a:pt x="4871" y="5384"/>
                  </a:cubicBezTo>
                  <a:cubicBezTo>
                    <a:pt x="4889" y="5378"/>
                    <a:pt x="4901" y="5366"/>
                    <a:pt x="4924" y="5366"/>
                  </a:cubicBezTo>
                  <a:cubicBezTo>
                    <a:pt x="4941" y="5366"/>
                    <a:pt x="4959" y="5378"/>
                    <a:pt x="4959" y="5395"/>
                  </a:cubicBezTo>
                  <a:cubicBezTo>
                    <a:pt x="4959" y="5424"/>
                    <a:pt x="4930" y="5442"/>
                    <a:pt x="4930" y="5471"/>
                  </a:cubicBezTo>
                  <a:cubicBezTo>
                    <a:pt x="4930" y="5482"/>
                    <a:pt x="4947" y="5488"/>
                    <a:pt x="4953" y="5500"/>
                  </a:cubicBezTo>
                  <a:cubicBezTo>
                    <a:pt x="5011" y="5488"/>
                    <a:pt x="5005" y="5418"/>
                    <a:pt x="5005" y="5354"/>
                  </a:cubicBezTo>
                  <a:cubicBezTo>
                    <a:pt x="5005" y="5308"/>
                    <a:pt x="4976" y="5261"/>
                    <a:pt x="4930" y="5261"/>
                  </a:cubicBezTo>
                  <a:cubicBezTo>
                    <a:pt x="4883" y="5261"/>
                    <a:pt x="4866" y="5302"/>
                    <a:pt x="4825" y="5319"/>
                  </a:cubicBezTo>
                  <a:cubicBezTo>
                    <a:pt x="4802" y="5325"/>
                    <a:pt x="4784" y="5319"/>
                    <a:pt x="4761" y="5319"/>
                  </a:cubicBezTo>
                  <a:cubicBezTo>
                    <a:pt x="4720" y="5325"/>
                    <a:pt x="4714" y="5366"/>
                    <a:pt x="4674" y="5384"/>
                  </a:cubicBezTo>
                  <a:cubicBezTo>
                    <a:pt x="4609" y="5424"/>
                    <a:pt x="4569" y="5442"/>
                    <a:pt x="4493" y="5459"/>
                  </a:cubicBezTo>
                  <a:cubicBezTo>
                    <a:pt x="4412" y="5447"/>
                    <a:pt x="4412" y="5447"/>
                    <a:pt x="4412" y="5447"/>
                  </a:cubicBezTo>
                  <a:cubicBezTo>
                    <a:pt x="4406" y="5436"/>
                    <a:pt x="4406" y="5436"/>
                    <a:pt x="4406" y="5436"/>
                  </a:cubicBezTo>
                  <a:cubicBezTo>
                    <a:pt x="4423" y="5401"/>
                    <a:pt x="4464" y="5401"/>
                    <a:pt x="4481" y="5366"/>
                  </a:cubicBezTo>
                  <a:cubicBezTo>
                    <a:pt x="4534" y="5273"/>
                    <a:pt x="4557" y="5209"/>
                    <a:pt x="4592" y="5110"/>
                  </a:cubicBezTo>
                  <a:cubicBezTo>
                    <a:pt x="4609" y="5058"/>
                    <a:pt x="4633" y="5034"/>
                    <a:pt x="4633" y="4982"/>
                  </a:cubicBezTo>
                  <a:cubicBezTo>
                    <a:pt x="4633" y="4895"/>
                    <a:pt x="4551" y="4871"/>
                    <a:pt x="4505" y="4801"/>
                  </a:cubicBezTo>
                  <a:cubicBezTo>
                    <a:pt x="4470" y="4749"/>
                    <a:pt x="4470" y="4708"/>
                    <a:pt x="4452" y="4650"/>
                  </a:cubicBezTo>
                  <a:cubicBezTo>
                    <a:pt x="4441" y="4615"/>
                    <a:pt x="4417" y="4598"/>
                    <a:pt x="4412" y="4557"/>
                  </a:cubicBezTo>
                  <a:cubicBezTo>
                    <a:pt x="4377" y="4592"/>
                    <a:pt x="4371" y="4621"/>
                    <a:pt x="4342" y="4662"/>
                  </a:cubicBezTo>
                  <a:cubicBezTo>
                    <a:pt x="4295" y="4720"/>
                    <a:pt x="4278" y="4766"/>
                    <a:pt x="4272" y="4842"/>
                  </a:cubicBezTo>
                  <a:cubicBezTo>
                    <a:pt x="4272" y="4906"/>
                    <a:pt x="4249" y="4941"/>
                    <a:pt x="4237" y="4999"/>
                  </a:cubicBezTo>
                  <a:cubicBezTo>
                    <a:pt x="4237" y="5028"/>
                    <a:pt x="4225" y="5040"/>
                    <a:pt x="4225" y="5063"/>
                  </a:cubicBezTo>
                  <a:cubicBezTo>
                    <a:pt x="4219" y="5098"/>
                    <a:pt x="4214" y="5133"/>
                    <a:pt x="4179" y="5133"/>
                  </a:cubicBezTo>
                  <a:cubicBezTo>
                    <a:pt x="4144" y="5133"/>
                    <a:pt x="4126" y="5116"/>
                    <a:pt x="4091" y="5116"/>
                  </a:cubicBezTo>
                  <a:cubicBezTo>
                    <a:pt x="3969" y="5116"/>
                    <a:pt x="3923" y="5232"/>
                    <a:pt x="3800" y="5232"/>
                  </a:cubicBezTo>
                  <a:cubicBezTo>
                    <a:pt x="3783" y="5232"/>
                    <a:pt x="3783" y="5232"/>
                    <a:pt x="3783" y="5232"/>
                  </a:cubicBezTo>
                  <a:cubicBezTo>
                    <a:pt x="3783" y="5209"/>
                    <a:pt x="3783" y="5209"/>
                    <a:pt x="3783" y="5209"/>
                  </a:cubicBezTo>
                  <a:cubicBezTo>
                    <a:pt x="3783" y="5174"/>
                    <a:pt x="3806" y="5156"/>
                    <a:pt x="3818" y="5127"/>
                  </a:cubicBezTo>
                  <a:cubicBezTo>
                    <a:pt x="3835" y="5087"/>
                    <a:pt x="3823" y="5046"/>
                    <a:pt x="3864" y="5028"/>
                  </a:cubicBezTo>
                  <a:cubicBezTo>
                    <a:pt x="3888" y="5017"/>
                    <a:pt x="3911" y="5017"/>
                    <a:pt x="3940" y="5017"/>
                  </a:cubicBezTo>
                  <a:cubicBezTo>
                    <a:pt x="4010" y="5017"/>
                    <a:pt x="4010" y="5017"/>
                    <a:pt x="4010" y="5017"/>
                  </a:cubicBezTo>
                  <a:cubicBezTo>
                    <a:pt x="4086" y="5017"/>
                    <a:pt x="4097" y="4924"/>
                    <a:pt x="4097" y="4848"/>
                  </a:cubicBezTo>
                  <a:cubicBezTo>
                    <a:pt x="4097" y="4801"/>
                    <a:pt x="4086" y="4772"/>
                    <a:pt x="4074" y="4726"/>
                  </a:cubicBezTo>
                  <a:cubicBezTo>
                    <a:pt x="4103" y="4609"/>
                    <a:pt x="4103" y="4609"/>
                    <a:pt x="4103" y="4609"/>
                  </a:cubicBezTo>
                  <a:cubicBezTo>
                    <a:pt x="4103" y="4598"/>
                    <a:pt x="4091" y="4586"/>
                    <a:pt x="4091" y="4574"/>
                  </a:cubicBezTo>
                  <a:cubicBezTo>
                    <a:pt x="4091" y="4533"/>
                    <a:pt x="4132" y="4528"/>
                    <a:pt x="4132" y="4487"/>
                  </a:cubicBezTo>
                  <a:cubicBezTo>
                    <a:pt x="4132" y="4481"/>
                    <a:pt x="4120" y="4481"/>
                    <a:pt x="4120" y="4469"/>
                  </a:cubicBezTo>
                  <a:cubicBezTo>
                    <a:pt x="4120" y="4440"/>
                    <a:pt x="4167" y="4435"/>
                    <a:pt x="4167" y="4406"/>
                  </a:cubicBezTo>
                  <a:cubicBezTo>
                    <a:pt x="4167" y="4394"/>
                    <a:pt x="4155" y="4394"/>
                    <a:pt x="4144" y="4388"/>
                  </a:cubicBezTo>
                  <a:cubicBezTo>
                    <a:pt x="4167" y="4353"/>
                    <a:pt x="4196" y="4341"/>
                    <a:pt x="4231" y="4312"/>
                  </a:cubicBezTo>
                  <a:cubicBezTo>
                    <a:pt x="4254" y="4295"/>
                    <a:pt x="4254" y="4266"/>
                    <a:pt x="4278" y="4254"/>
                  </a:cubicBezTo>
                  <a:cubicBezTo>
                    <a:pt x="4295" y="4248"/>
                    <a:pt x="4318" y="4237"/>
                    <a:pt x="4318" y="4219"/>
                  </a:cubicBezTo>
                  <a:cubicBezTo>
                    <a:pt x="4318" y="4155"/>
                    <a:pt x="4260" y="4126"/>
                    <a:pt x="4260" y="4062"/>
                  </a:cubicBezTo>
                  <a:cubicBezTo>
                    <a:pt x="4260" y="4044"/>
                    <a:pt x="4266" y="4044"/>
                    <a:pt x="4266" y="4027"/>
                  </a:cubicBezTo>
                  <a:cubicBezTo>
                    <a:pt x="4266" y="4021"/>
                    <a:pt x="4260" y="4021"/>
                    <a:pt x="4260" y="4015"/>
                  </a:cubicBezTo>
                  <a:cubicBezTo>
                    <a:pt x="4260" y="4010"/>
                    <a:pt x="4260" y="4010"/>
                    <a:pt x="4266" y="4004"/>
                  </a:cubicBezTo>
                  <a:cubicBezTo>
                    <a:pt x="4289" y="4004"/>
                    <a:pt x="4301" y="3980"/>
                    <a:pt x="4330" y="3980"/>
                  </a:cubicBezTo>
                  <a:cubicBezTo>
                    <a:pt x="4336" y="3980"/>
                    <a:pt x="4342" y="3992"/>
                    <a:pt x="4348" y="3992"/>
                  </a:cubicBezTo>
                  <a:cubicBezTo>
                    <a:pt x="4353" y="3992"/>
                    <a:pt x="4359" y="3986"/>
                    <a:pt x="4359" y="3986"/>
                  </a:cubicBezTo>
                  <a:cubicBezTo>
                    <a:pt x="4359" y="3963"/>
                    <a:pt x="4359" y="3963"/>
                    <a:pt x="4359" y="3963"/>
                  </a:cubicBezTo>
                  <a:cubicBezTo>
                    <a:pt x="4359" y="3928"/>
                    <a:pt x="4324" y="3917"/>
                    <a:pt x="4313" y="3881"/>
                  </a:cubicBezTo>
                  <a:cubicBezTo>
                    <a:pt x="4272" y="3777"/>
                    <a:pt x="4301" y="3689"/>
                    <a:pt x="4225" y="3608"/>
                  </a:cubicBezTo>
                  <a:cubicBezTo>
                    <a:pt x="4219" y="3643"/>
                    <a:pt x="4214" y="3666"/>
                    <a:pt x="4214" y="3701"/>
                  </a:cubicBezTo>
                  <a:cubicBezTo>
                    <a:pt x="4214" y="3736"/>
                    <a:pt x="4225" y="3754"/>
                    <a:pt x="4225" y="3783"/>
                  </a:cubicBezTo>
                  <a:cubicBezTo>
                    <a:pt x="4225" y="3817"/>
                    <a:pt x="4231" y="3852"/>
                    <a:pt x="4202" y="3870"/>
                  </a:cubicBezTo>
                  <a:cubicBezTo>
                    <a:pt x="4185" y="3887"/>
                    <a:pt x="4161" y="3870"/>
                    <a:pt x="4138" y="3876"/>
                  </a:cubicBezTo>
                  <a:cubicBezTo>
                    <a:pt x="4115" y="3893"/>
                    <a:pt x="4126" y="3928"/>
                    <a:pt x="4103" y="3946"/>
                  </a:cubicBezTo>
                  <a:cubicBezTo>
                    <a:pt x="4091" y="3951"/>
                    <a:pt x="4074" y="3946"/>
                    <a:pt x="4062" y="3957"/>
                  </a:cubicBezTo>
                  <a:cubicBezTo>
                    <a:pt x="4051" y="3975"/>
                    <a:pt x="4056" y="3992"/>
                    <a:pt x="4056" y="4015"/>
                  </a:cubicBezTo>
                  <a:cubicBezTo>
                    <a:pt x="4051" y="4027"/>
                    <a:pt x="4039" y="4039"/>
                    <a:pt x="4033" y="4050"/>
                  </a:cubicBezTo>
                  <a:cubicBezTo>
                    <a:pt x="4027" y="4085"/>
                    <a:pt x="4045" y="4103"/>
                    <a:pt x="4033" y="4132"/>
                  </a:cubicBezTo>
                  <a:cubicBezTo>
                    <a:pt x="4016" y="4155"/>
                    <a:pt x="3998" y="4161"/>
                    <a:pt x="3992" y="4184"/>
                  </a:cubicBezTo>
                  <a:cubicBezTo>
                    <a:pt x="3969" y="4243"/>
                    <a:pt x="3957" y="4306"/>
                    <a:pt x="3893" y="4306"/>
                  </a:cubicBezTo>
                  <a:cubicBezTo>
                    <a:pt x="3864" y="4306"/>
                    <a:pt x="3847" y="4301"/>
                    <a:pt x="3812" y="4301"/>
                  </a:cubicBezTo>
                  <a:cubicBezTo>
                    <a:pt x="3794" y="4301"/>
                    <a:pt x="3794" y="4318"/>
                    <a:pt x="3783" y="4336"/>
                  </a:cubicBezTo>
                  <a:cubicBezTo>
                    <a:pt x="3771" y="4353"/>
                    <a:pt x="3754" y="4365"/>
                    <a:pt x="3736" y="4382"/>
                  </a:cubicBezTo>
                  <a:cubicBezTo>
                    <a:pt x="3713" y="4400"/>
                    <a:pt x="3696" y="4394"/>
                    <a:pt x="3666" y="4406"/>
                  </a:cubicBezTo>
                  <a:cubicBezTo>
                    <a:pt x="3626" y="4423"/>
                    <a:pt x="3614" y="4452"/>
                    <a:pt x="3573" y="4481"/>
                  </a:cubicBezTo>
                  <a:cubicBezTo>
                    <a:pt x="3527" y="4522"/>
                    <a:pt x="3527" y="4569"/>
                    <a:pt x="3492" y="4627"/>
                  </a:cubicBezTo>
                  <a:cubicBezTo>
                    <a:pt x="3474" y="4667"/>
                    <a:pt x="3416" y="4667"/>
                    <a:pt x="3416" y="4714"/>
                  </a:cubicBezTo>
                  <a:cubicBezTo>
                    <a:pt x="3416" y="4726"/>
                    <a:pt x="3422" y="4732"/>
                    <a:pt x="3422" y="4743"/>
                  </a:cubicBezTo>
                  <a:cubicBezTo>
                    <a:pt x="3422" y="4778"/>
                    <a:pt x="3381" y="4772"/>
                    <a:pt x="3358" y="4790"/>
                  </a:cubicBezTo>
                  <a:cubicBezTo>
                    <a:pt x="3317" y="4813"/>
                    <a:pt x="3300" y="4848"/>
                    <a:pt x="3300" y="4889"/>
                  </a:cubicBezTo>
                  <a:cubicBezTo>
                    <a:pt x="3300" y="4895"/>
                    <a:pt x="3305" y="4895"/>
                    <a:pt x="3305" y="4900"/>
                  </a:cubicBezTo>
                  <a:cubicBezTo>
                    <a:pt x="3305" y="4918"/>
                    <a:pt x="3282" y="4924"/>
                    <a:pt x="3282" y="4941"/>
                  </a:cubicBezTo>
                  <a:cubicBezTo>
                    <a:pt x="3282" y="4953"/>
                    <a:pt x="3288" y="4953"/>
                    <a:pt x="3288" y="4964"/>
                  </a:cubicBezTo>
                  <a:cubicBezTo>
                    <a:pt x="3311" y="4958"/>
                    <a:pt x="3329" y="4958"/>
                    <a:pt x="3346" y="4941"/>
                  </a:cubicBezTo>
                  <a:cubicBezTo>
                    <a:pt x="3340" y="4976"/>
                    <a:pt x="3334" y="4999"/>
                    <a:pt x="3334" y="5028"/>
                  </a:cubicBezTo>
                  <a:cubicBezTo>
                    <a:pt x="3294" y="4999"/>
                    <a:pt x="3271" y="4970"/>
                    <a:pt x="3218" y="4970"/>
                  </a:cubicBezTo>
                  <a:cubicBezTo>
                    <a:pt x="3201" y="4970"/>
                    <a:pt x="3201" y="5005"/>
                    <a:pt x="3195" y="5028"/>
                  </a:cubicBezTo>
                  <a:cubicBezTo>
                    <a:pt x="3189" y="5022"/>
                    <a:pt x="3189" y="5022"/>
                    <a:pt x="3189" y="5022"/>
                  </a:cubicBezTo>
                  <a:cubicBezTo>
                    <a:pt x="3166" y="4976"/>
                    <a:pt x="3166" y="4941"/>
                    <a:pt x="3131" y="4906"/>
                  </a:cubicBezTo>
                  <a:cubicBezTo>
                    <a:pt x="2985" y="4761"/>
                    <a:pt x="3049" y="4854"/>
                    <a:pt x="3108" y="4854"/>
                  </a:cubicBezTo>
                  <a:cubicBezTo>
                    <a:pt x="3119" y="4854"/>
                    <a:pt x="3119" y="4854"/>
                    <a:pt x="3119" y="4854"/>
                  </a:cubicBezTo>
                  <a:cubicBezTo>
                    <a:pt x="3119" y="4825"/>
                    <a:pt x="3119" y="4825"/>
                    <a:pt x="3119" y="4825"/>
                  </a:cubicBezTo>
                  <a:cubicBezTo>
                    <a:pt x="3073" y="4702"/>
                    <a:pt x="3073" y="4702"/>
                    <a:pt x="3073" y="4702"/>
                  </a:cubicBezTo>
                  <a:cubicBezTo>
                    <a:pt x="3073" y="4667"/>
                    <a:pt x="3078" y="4644"/>
                    <a:pt x="3061" y="4615"/>
                  </a:cubicBezTo>
                  <a:cubicBezTo>
                    <a:pt x="3049" y="4592"/>
                    <a:pt x="3026" y="4586"/>
                    <a:pt x="3026" y="4557"/>
                  </a:cubicBezTo>
                  <a:cubicBezTo>
                    <a:pt x="3026" y="4551"/>
                    <a:pt x="3032" y="4545"/>
                    <a:pt x="3032" y="4533"/>
                  </a:cubicBezTo>
                  <a:cubicBezTo>
                    <a:pt x="3032" y="4504"/>
                    <a:pt x="3014" y="4493"/>
                    <a:pt x="3008" y="4464"/>
                  </a:cubicBezTo>
                  <a:cubicBezTo>
                    <a:pt x="2997" y="4435"/>
                    <a:pt x="2997" y="4406"/>
                    <a:pt x="2968" y="4388"/>
                  </a:cubicBezTo>
                  <a:cubicBezTo>
                    <a:pt x="2933" y="4370"/>
                    <a:pt x="2910" y="4359"/>
                    <a:pt x="2892" y="4324"/>
                  </a:cubicBezTo>
                  <a:cubicBezTo>
                    <a:pt x="2869" y="4289"/>
                    <a:pt x="2845" y="4277"/>
                    <a:pt x="2834" y="4243"/>
                  </a:cubicBezTo>
                  <a:cubicBezTo>
                    <a:pt x="2811" y="4178"/>
                    <a:pt x="2828" y="4138"/>
                    <a:pt x="2805" y="4080"/>
                  </a:cubicBezTo>
                  <a:cubicBezTo>
                    <a:pt x="2793" y="4050"/>
                    <a:pt x="2752" y="4050"/>
                    <a:pt x="2752" y="4021"/>
                  </a:cubicBezTo>
                  <a:cubicBezTo>
                    <a:pt x="2752" y="4015"/>
                    <a:pt x="2758" y="4010"/>
                    <a:pt x="2758" y="4004"/>
                  </a:cubicBezTo>
                  <a:cubicBezTo>
                    <a:pt x="2758" y="3951"/>
                    <a:pt x="2671" y="3980"/>
                    <a:pt x="2619" y="3969"/>
                  </a:cubicBezTo>
                  <a:cubicBezTo>
                    <a:pt x="2560" y="3963"/>
                    <a:pt x="2549" y="3893"/>
                    <a:pt x="2496" y="3893"/>
                  </a:cubicBezTo>
                  <a:cubicBezTo>
                    <a:pt x="2496" y="3870"/>
                    <a:pt x="2496" y="3870"/>
                    <a:pt x="2496" y="3870"/>
                  </a:cubicBezTo>
                  <a:cubicBezTo>
                    <a:pt x="2496" y="3864"/>
                    <a:pt x="2502" y="3858"/>
                    <a:pt x="2502" y="3847"/>
                  </a:cubicBezTo>
                  <a:cubicBezTo>
                    <a:pt x="2502" y="3823"/>
                    <a:pt x="2473" y="3829"/>
                    <a:pt x="2450" y="3817"/>
                  </a:cubicBezTo>
                  <a:cubicBezTo>
                    <a:pt x="2479" y="3800"/>
                    <a:pt x="2473" y="3777"/>
                    <a:pt x="2490" y="3748"/>
                  </a:cubicBezTo>
                  <a:cubicBezTo>
                    <a:pt x="2508" y="3754"/>
                    <a:pt x="2508" y="3765"/>
                    <a:pt x="2514" y="3783"/>
                  </a:cubicBezTo>
                  <a:cubicBezTo>
                    <a:pt x="2531" y="3754"/>
                    <a:pt x="2554" y="3742"/>
                    <a:pt x="2554" y="3707"/>
                  </a:cubicBezTo>
                  <a:cubicBezTo>
                    <a:pt x="2554" y="3643"/>
                    <a:pt x="2537" y="3573"/>
                    <a:pt x="2473" y="3573"/>
                  </a:cubicBezTo>
                  <a:cubicBezTo>
                    <a:pt x="2415" y="3573"/>
                    <a:pt x="2397" y="3614"/>
                    <a:pt x="2345" y="3625"/>
                  </a:cubicBezTo>
                  <a:cubicBezTo>
                    <a:pt x="2339" y="3620"/>
                    <a:pt x="2333" y="3620"/>
                    <a:pt x="2333" y="3614"/>
                  </a:cubicBezTo>
                  <a:cubicBezTo>
                    <a:pt x="2333" y="3602"/>
                    <a:pt x="2351" y="3596"/>
                    <a:pt x="2351" y="3585"/>
                  </a:cubicBezTo>
                  <a:cubicBezTo>
                    <a:pt x="2351" y="3573"/>
                    <a:pt x="2345" y="3573"/>
                    <a:pt x="2345" y="3561"/>
                  </a:cubicBezTo>
                  <a:cubicBezTo>
                    <a:pt x="2356" y="3567"/>
                    <a:pt x="2362" y="3573"/>
                    <a:pt x="2374" y="3579"/>
                  </a:cubicBezTo>
                  <a:cubicBezTo>
                    <a:pt x="2385" y="3573"/>
                    <a:pt x="2385" y="3573"/>
                    <a:pt x="2385" y="3573"/>
                  </a:cubicBezTo>
                  <a:cubicBezTo>
                    <a:pt x="2368" y="3503"/>
                    <a:pt x="2310" y="3486"/>
                    <a:pt x="2269" y="3428"/>
                  </a:cubicBezTo>
                  <a:cubicBezTo>
                    <a:pt x="2252" y="3404"/>
                    <a:pt x="2246" y="3369"/>
                    <a:pt x="2217" y="3369"/>
                  </a:cubicBezTo>
                  <a:cubicBezTo>
                    <a:pt x="2199" y="3369"/>
                    <a:pt x="2199" y="3398"/>
                    <a:pt x="2182" y="3398"/>
                  </a:cubicBezTo>
                  <a:cubicBezTo>
                    <a:pt x="2170" y="3398"/>
                    <a:pt x="2164" y="3392"/>
                    <a:pt x="2153" y="3381"/>
                  </a:cubicBezTo>
                  <a:cubicBezTo>
                    <a:pt x="2124" y="3398"/>
                    <a:pt x="2112" y="3433"/>
                    <a:pt x="2077" y="3433"/>
                  </a:cubicBezTo>
                  <a:cubicBezTo>
                    <a:pt x="2026" y="3433"/>
                    <a:pt x="2002" y="3404"/>
                    <a:pt x="1956" y="3375"/>
                  </a:cubicBezTo>
                  <a:cubicBezTo>
                    <a:pt x="1938" y="3363"/>
                    <a:pt x="1921" y="3369"/>
                    <a:pt x="1903" y="3358"/>
                  </a:cubicBezTo>
                  <a:cubicBezTo>
                    <a:pt x="1828" y="3311"/>
                    <a:pt x="1781" y="3270"/>
                    <a:pt x="1694" y="3270"/>
                  </a:cubicBezTo>
                  <a:cubicBezTo>
                    <a:pt x="1665" y="3270"/>
                    <a:pt x="1653" y="3299"/>
                    <a:pt x="1630" y="3317"/>
                  </a:cubicBezTo>
                  <a:cubicBezTo>
                    <a:pt x="1595" y="3328"/>
                    <a:pt x="1566" y="3328"/>
                    <a:pt x="1531" y="3334"/>
                  </a:cubicBezTo>
                  <a:cubicBezTo>
                    <a:pt x="1525" y="3247"/>
                    <a:pt x="1432" y="3241"/>
                    <a:pt x="1368" y="3177"/>
                  </a:cubicBezTo>
                  <a:cubicBezTo>
                    <a:pt x="1304" y="3131"/>
                    <a:pt x="1257" y="3113"/>
                    <a:pt x="1187" y="3072"/>
                  </a:cubicBezTo>
                  <a:cubicBezTo>
                    <a:pt x="1135" y="3043"/>
                    <a:pt x="1112" y="3008"/>
                    <a:pt x="1053" y="3008"/>
                  </a:cubicBezTo>
                  <a:cubicBezTo>
                    <a:pt x="1019" y="3008"/>
                    <a:pt x="1001" y="3037"/>
                    <a:pt x="972" y="3055"/>
                  </a:cubicBezTo>
                  <a:cubicBezTo>
                    <a:pt x="925" y="3078"/>
                    <a:pt x="890" y="3090"/>
                    <a:pt x="832" y="3090"/>
                  </a:cubicBezTo>
                  <a:cubicBezTo>
                    <a:pt x="780" y="3090"/>
                    <a:pt x="751" y="3084"/>
                    <a:pt x="693" y="3084"/>
                  </a:cubicBezTo>
                  <a:cubicBezTo>
                    <a:pt x="646" y="3084"/>
                    <a:pt x="623" y="3090"/>
                    <a:pt x="576" y="3090"/>
                  </a:cubicBezTo>
                  <a:cubicBezTo>
                    <a:pt x="361" y="3090"/>
                    <a:pt x="361" y="3090"/>
                    <a:pt x="361" y="3090"/>
                  </a:cubicBezTo>
                  <a:cubicBezTo>
                    <a:pt x="64" y="3148"/>
                    <a:pt x="64" y="3148"/>
                    <a:pt x="64" y="3148"/>
                  </a:cubicBezTo>
                  <a:cubicBezTo>
                    <a:pt x="5" y="3148"/>
                    <a:pt x="5" y="3148"/>
                    <a:pt x="5" y="3148"/>
                  </a:cubicBezTo>
                  <a:lnTo>
                    <a:pt x="0" y="3148"/>
                  </a:lnTo>
                  <a:close/>
                </a:path>
              </a:pathLst>
            </a:custGeom>
            <a:solidFill>
              <a:srgbClr val="d9d9d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70" name="Freeform 5"/>
            <p:cNvSpPr/>
            <p:nvPr/>
          </p:nvSpPr>
          <p:spPr>
            <a:xfrm>
              <a:off x="4489200" y="5171400"/>
              <a:ext cx="953640" cy="677160"/>
            </a:xfrm>
            <a:custGeom>
              <a:avLst/>
              <a:gdLst/>
              <a:ahLst/>
              <a:rect l="l" t="t" r="r" b="b"/>
              <a:pathLst>
                <a:path w="4332" h="3074">
                  <a:moveTo>
                    <a:pt x="2072" y="2642"/>
                  </a:moveTo>
                  <a:lnTo>
                    <a:pt x="2072" y="2642"/>
                  </a:lnTo>
                  <a:cubicBezTo>
                    <a:pt x="2049" y="2648"/>
                    <a:pt x="2037" y="2666"/>
                    <a:pt x="2026" y="2683"/>
                  </a:cubicBezTo>
                  <a:cubicBezTo>
                    <a:pt x="2043" y="2683"/>
                    <a:pt x="2055" y="2683"/>
                    <a:pt x="2078" y="2683"/>
                  </a:cubicBezTo>
                  <a:cubicBezTo>
                    <a:pt x="2078" y="2672"/>
                    <a:pt x="2072" y="2660"/>
                    <a:pt x="2072" y="2642"/>
                  </a:cubicBezTo>
                  <a:close/>
                  <a:moveTo>
                    <a:pt x="0" y="2415"/>
                  </a:moveTo>
                  <a:lnTo>
                    <a:pt x="0" y="2415"/>
                  </a:lnTo>
                  <a:lnTo>
                    <a:pt x="0" y="2415"/>
                  </a:lnTo>
                  <a:cubicBezTo>
                    <a:pt x="6" y="5"/>
                    <a:pt x="6" y="5"/>
                    <a:pt x="6" y="5"/>
                  </a:cubicBezTo>
                  <a:lnTo>
                    <a:pt x="6" y="5"/>
                  </a:lnTo>
                  <a:cubicBezTo>
                    <a:pt x="29" y="0"/>
                    <a:pt x="29" y="0"/>
                    <a:pt x="29" y="0"/>
                  </a:cubicBezTo>
                  <a:cubicBezTo>
                    <a:pt x="70" y="23"/>
                    <a:pt x="99" y="17"/>
                    <a:pt x="145" y="34"/>
                  </a:cubicBezTo>
                  <a:cubicBezTo>
                    <a:pt x="204" y="58"/>
                    <a:pt x="221" y="104"/>
                    <a:pt x="285" y="104"/>
                  </a:cubicBezTo>
                  <a:cubicBezTo>
                    <a:pt x="320" y="104"/>
                    <a:pt x="314" y="40"/>
                    <a:pt x="349" y="40"/>
                  </a:cubicBezTo>
                  <a:cubicBezTo>
                    <a:pt x="384" y="40"/>
                    <a:pt x="407" y="58"/>
                    <a:pt x="442" y="58"/>
                  </a:cubicBezTo>
                  <a:cubicBezTo>
                    <a:pt x="466" y="58"/>
                    <a:pt x="477" y="52"/>
                    <a:pt x="501" y="52"/>
                  </a:cubicBezTo>
                  <a:cubicBezTo>
                    <a:pt x="547" y="52"/>
                    <a:pt x="570" y="93"/>
                    <a:pt x="599" y="133"/>
                  </a:cubicBezTo>
                  <a:cubicBezTo>
                    <a:pt x="605" y="145"/>
                    <a:pt x="611" y="157"/>
                    <a:pt x="623" y="168"/>
                  </a:cubicBezTo>
                  <a:cubicBezTo>
                    <a:pt x="646" y="186"/>
                    <a:pt x="693" y="168"/>
                    <a:pt x="693" y="197"/>
                  </a:cubicBezTo>
                  <a:cubicBezTo>
                    <a:pt x="693" y="221"/>
                    <a:pt x="681" y="238"/>
                    <a:pt x="681" y="267"/>
                  </a:cubicBezTo>
                  <a:cubicBezTo>
                    <a:pt x="681" y="296"/>
                    <a:pt x="704" y="308"/>
                    <a:pt x="716" y="331"/>
                  </a:cubicBezTo>
                  <a:cubicBezTo>
                    <a:pt x="739" y="384"/>
                    <a:pt x="745" y="442"/>
                    <a:pt x="797" y="442"/>
                  </a:cubicBezTo>
                  <a:cubicBezTo>
                    <a:pt x="832" y="442"/>
                    <a:pt x="838" y="396"/>
                    <a:pt x="838" y="360"/>
                  </a:cubicBezTo>
                  <a:cubicBezTo>
                    <a:pt x="844" y="331"/>
                    <a:pt x="873" y="326"/>
                    <a:pt x="879" y="296"/>
                  </a:cubicBezTo>
                  <a:cubicBezTo>
                    <a:pt x="902" y="366"/>
                    <a:pt x="972" y="372"/>
                    <a:pt x="1036" y="390"/>
                  </a:cubicBezTo>
                  <a:cubicBezTo>
                    <a:pt x="1088" y="401"/>
                    <a:pt x="1106" y="430"/>
                    <a:pt x="1153" y="448"/>
                  </a:cubicBezTo>
                  <a:cubicBezTo>
                    <a:pt x="1147" y="477"/>
                    <a:pt x="1129" y="489"/>
                    <a:pt x="1129" y="518"/>
                  </a:cubicBezTo>
                  <a:cubicBezTo>
                    <a:pt x="1129" y="576"/>
                    <a:pt x="1129" y="622"/>
                    <a:pt x="1170" y="663"/>
                  </a:cubicBezTo>
                  <a:cubicBezTo>
                    <a:pt x="1199" y="692"/>
                    <a:pt x="1257" y="686"/>
                    <a:pt x="1257" y="727"/>
                  </a:cubicBezTo>
                  <a:cubicBezTo>
                    <a:pt x="1257" y="768"/>
                    <a:pt x="1257" y="768"/>
                    <a:pt x="1257" y="768"/>
                  </a:cubicBezTo>
                  <a:cubicBezTo>
                    <a:pt x="1257" y="797"/>
                    <a:pt x="1298" y="791"/>
                    <a:pt x="1321" y="797"/>
                  </a:cubicBezTo>
                  <a:cubicBezTo>
                    <a:pt x="1362" y="809"/>
                    <a:pt x="1379" y="838"/>
                    <a:pt x="1414" y="861"/>
                  </a:cubicBezTo>
                  <a:cubicBezTo>
                    <a:pt x="1479" y="902"/>
                    <a:pt x="1525" y="919"/>
                    <a:pt x="1560" y="983"/>
                  </a:cubicBezTo>
                  <a:cubicBezTo>
                    <a:pt x="1572" y="1007"/>
                    <a:pt x="1595" y="1007"/>
                    <a:pt x="1612" y="1024"/>
                  </a:cubicBezTo>
                  <a:cubicBezTo>
                    <a:pt x="1647" y="1082"/>
                    <a:pt x="1665" y="1123"/>
                    <a:pt x="1723" y="1164"/>
                  </a:cubicBezTo>
                  <a:cubicBezTo>
                    <a:pt x="1764" y="1199"/>
                    <a:pt x="1787" y="1240"/>
                    <a:pt x="1845" y="1240"/>
                  </a:cubicBezTo>
                  <a:cubicBezTo>
                    <a:pt x="1857" y="1240"/>
                    <a:pt x="1857" y="1228"/>
                    <a:pt x="1868" y="1222"/>
                  </a:cubicBezTo>
                  <a:cubicBezTo>
                    <a:pt x="1892" y="1216"/>
                    <a:pt x="1909" y="1222"/>
                    <a:pt x="1933" y="1216"/>
                  </a:cubicBezTo>
                  <a:cubicBezTo>
                    <a:pt x="1927" y="1193"/>
                    <a:pt x="1915" y="1187"/>
                    <a:pt x="1915" y="1164"/>
                  </a:cubicBezTo>
                  <a:cubicBezTo>
                    <a:pt x="1915" y="1117"/>
                    <a:pt x="1962" y="1082"/>
                    <a:pt x="2008" y="1082"/>
                  </a:cubicBezTo>
                  <a:cubicBezTo>
                    <a:pt x="2049" y="1082"/>
                    <a:pt x="2072" y="1094"/>
                    <a:pt x="2113" y="1094"/>
                  </a:cubicBezTo>
                  <a:cubicBezTo>
                    <a:pt x="2142" y="1094"/>
                    <a:pt x="2148" y="1071"/>
                    <a:pt x="2171" y="1071"/>
                  </a:cubicBezTo>
                  <a:cubicBezTo>
                    <a:pt x="2253" y="1071"/>
                    <a:pt x="2270" y="1164"/>
                    <a:pt x="2346" y="1164"/>
                  </a:cubicBezTo>
                  <a:cubicBezTo>
                    <a:pt x="2358" y="1164"/>
                    <a:pt x="2358" y="1152"/>
                    <a:pt x="2369" y="1152"/>
                  </a:cubicBezTo>
                  <a:cubicBezTo>
                    <a:pt x="2393" y="1152"/>
                    <a:pt x="2398" y="1170"/>
                    <a:pt x="2427" y="1170"/>
                  </a:cubicBezTo>
                  <a:cubicBezTo>
                    <a:pt x="2439" y="1170"/>
                    <a:pt x="2445" y="1164"/>
                    <a:pt x="2462" y="1164"/>
                  </a:cubicBezTo>
                  <a:cubicBezTo>
                    <a:pt x="2480" y="1164"/>
                    <a:pt x="2486" y="1181"/>
                    <a:pt x="2497" y="1187"/>
                  </a:cubicBezTo>
                  <a:cubicBezTo>
                    <a:pt x="2532" y="1199"/>
                    <a:pt x="2561" y="1193"/>
                    <a:pt x="2596" y="1193"/>
                  </a:cubicBezTo>
                  <a:cubicBezTo>
                    <a:pt x="2620" y="1193"/>
                    <a:pt x="2620" y="1193"/>
                    <a:pt x="2620" y="1193"/>
                  </a:cubicBezTo>
                  <a:cubicBezTo>
                    <a:pt x="2620" y="1170"/>
                    <a:pt x="2620" y="1170"/>
                    <a:pt x="2620" y="1170"/>
                  </a:cubicBezTo>
                  <a:cubicBezTo>
                    <a:pt x="2625" y="1164"/>
                    <a:pt x="2631" y="1158"/>
                    <a:pt x="2637" y="1158"/>
                  </a:cubicBezTo>
                  <a:cubicBezTo>
                    <a:pt x="2649" y="1158"/>
                    <a:pt x="2654" y="1164"/>
                    <a:pt x="2666" y="1164"/>
                  </a:cubicBezTo>
                  <a:cubicBezTo>
                    <a:pt x="2678" y="1164"/>
                    <a:pt x="2684" y="1164"/>
                    <a:pt x="2695" y="1164"/>
                  </a:cubicBezTo>
                  <a:cubicBezTo>
                    <a:pt x="2719" y="1164"/>
                    <a:pt x="2730" y="1187"/>
                    <a:pt x="2753" y="1193"/>
                  </a:cubicBezTo>
                  <a:cubicBezTo>
                    <a:pt x="2812" y="1216"/>
                    <a:pt x="2847" y="1240"/>
                    <a:pt x="2911" y="1240"/>
                  </a:cubicBezTo>
                  <a:cubicBezTo>
                    <a:pt x="2940" y="1240"/>
                    <a:pt x="2934" y="1187"/>
                    <a:pt x="2963" y="1181"/>
                  </a:cubicBezTo>
                  <a:cubicBezTo>
                    <a:pt x="3050" y="1158"/>
                    <a:pt x="3097" y="1135"/>
                    <a:pt x="3184" y="1135"/>
                  </a:cubicBezTo>
                  <a:cubicBezTo>
                    <a:pt x="3260" y="1135"/>
                    <a:pt x="3306" y="1146"/>
                    <a:pt x="3365" y="1193"/>
                  </a:cubicBezTo>
                  <a:cubicBezTo>
                    <a:pt x="3411" y="1222"/>
                    <a:pt x="3405" y="1274"/>
                    <a:pt x="3405" y="1333"/>
                  </a:cubicBezTo>
                  <a:cubicBezTo>
                    <a:pt x="3405" y="1385"/>
                    <a:pt x="3405" y="1385"/>
                    <a:pt x="3405" y="1385"/>
                  </a:cubicBezTo>
                  <a:cubicBezTo>
                    <a:pt x="3405" y="1467"/>
                    <a:pt x="3469" y="1496"/>
                    <a:pt x="3469" y="1577"/>
                  </a:cubicBezTo>
                  <a:cubicBezTo>
                    <a:pt x="3469" y="1595"/>
                    <a:pt x="3464" y="1600"/>
                    <a:pt x="3464" y="1618"/>
                  </a:cubicBezTo>
                  <a:cubicBezTo>
                    <a:pt x="3464" y="1647"/>
                    <a:pt x="3493" y="1653"/>
                    <a:pt x="3522" y="1664"/>
                  </a:cubicBezTo>
                  <a:cubicBezTo>
                    <a:pt x="3568" y="1682"/>
                    <a:pt x="3592" y="1705"/>
                    <a:pt x="3638" y="1723"/>
                  </a:cubicBezTo>
                  <a:cubicBezTo>
                    <a:pt x="4331" y="2072"/>
                    <a:pt x="4331" y="2072"/>
                    <a:pt x="4331" y="2072"/>
                  </a:cubicBezTo>
                  <a:lnTo>
                    <a:pt x="4331" y="2072"/>
                  </a:lnTo>
                  <a:cubicBezTo>
                    <a:pt x="4331" y="2084"/>
                    <a:pt x="4320" y="2101"/>
                    <a:pt x="4302" y="2101"/>
                  </a:cubicBezTo>
                  <a:cubicBezTo>
                    <a:pt x="4273" y="2101"/>
                    <a:pt x="4261" y="2078"/>
                    <a:pt x="4255" y="2055"/>
                  </a:cubicBezTo>
                  <a:cubicBezTo>
                    <a:pt x="4244" y="2060"/>
                    <a:pt x="4238" y="2066"/>
                    <a:pt x="4226" y="2066"/>
                  </a:cubicBezTo>
                  <a:cubicBezTo>
                    <a:pt x="4186" y="2031"/>
                    <a:pt x="4191" y="2037"/>
                    <a:pt x="4226" y="2107"/>
                  </a:cubicBezTo>
                  <a:cubicBezTo>
                    <a:pt x="4226" y="2183"/>
                    <a:pt x="4145" y="2194"/>
                    <a:pt x="4081" y="2223"/>
                  </a:cubicBezTo>
                  <a:cubicBezTo>
                    <a:pt x="4063" y="2223"/>
                    <a:pt x="4063" y="2223"/>
                    <a:pt x="4063" y="2223"/>
                  </a:cubicBezTo>
                  <a:cubicBezTo>
                    <a:pt x="4034" y="2229"/>
                    <a:pt x="4017" y="2235"/>
                    <a:pt x="3982" y="2235"/>
                  </a:cubicBezTo>
                  <a:cubicBezTo>
                    <a:pt x="3959" y="2235"/>
                    <a:pt x="3947" y="2223"/>
                    <a:pt x="3924" y="2223"/>
                  </a:cubicBezTo>
                  <a:cubicBezTo>
                    <a:pt x="3912" y="2223"/>
                    <a:pt x="3906" y="2235"/>
                    <a:pt x="3894" y="2235"/>
                  </a:cubicBezTo>
                  <a:cubicBezTo>
                    <a:pt x="3877" y="2235"/>
                    <a:pt x="3877" y="2223"/>
                    <a:pt x="3860" y="2223"/>
                  </a:cubicBezTo>
                  <a:cubicBezTo>
                    <a:pt x="3790" y="2223"/>
                    <a:pt x="3749" y="2252"/>
                    <a:pt x="3673" y="2252"/>
                  </a:cubicBezTo>
                  <a:cubicBezTo>
                    <a:pt x="3650" y="2252"/>
                    <a:pt x="3632" y="2252"/>
                    <a:pt x="3621" y="2235"/>
                  </a:cubicBezTo>
                  <a:cubicBezTo>
                    <a:pt x="3603" y="2258"/>
                    <a:pt x="3574" y="2252"/>
                    <a:pt x="3539" y="2258"/>
                  </a:cubicBezTo>
                  <a:cubicBezTo>
                    <a:pt x="3510" y="2264"/>
                    <a:pt x="3493" y="2276"/>
                    <a:pt x="3464" y="2276"/>
                  </a:cubicBezTo>
                  <a:cubicBezTo>
                    <a:pt x="3452" y="2276"/>
                    <a:pt x="3452" y="2258"/>
                    <a:pt x="3446" y="2247"/>
                  </a:cubicBezTo>
                  <a:cubicBezTo>
                    <a:pt x="3429" y="2287"/>
                    <a:pt x="3382" y="2293"/>
                    <a:pt x="3336" y="2293"/>
                  </a:cubicBezTo>
                  <a:cubicBezTo>
                    <a:pt x="3318" y="2293"/>
                    <a:pt x="3312" y="2264"/>
                    <a:pt x="3295" y="2264"/>
                  </a:cubicBezTo>
                  <a:cubicBezTo>
                    <a:pt x="3260" y="2264"/>
                    <a:pt x="3242" y="2270"/>
                    <a:pt x="3208" y="2276"/>
                  </a:cubicBezTo>
                  <a:cubicBezTo>
                    <a:pt x="3208" y="2282"/>
                    <a:pt x="3208" y="2287"/>
                    <a:pt x="3208" y="2293"/>
                  </a:cubicBezTo>
                  <a:cubicBezTo>
                    <a:pt x="3208" y="2316"/>
                    <a:pt x="3213" y="2334"/>
                    <a:pt x="3225" y="2352"/>
                  </a:cubicBezTo>
                  <a:cubicBezTo>
                    <a:pt x="3184" y="2375"/>
                    <a:pt x="3126" y="2375"/>
                    <a:pt x="3126" y="2421"/>
                  </a:cubicBezTo>
                  <a:cubicBezTo>
                    <a:pt x="3126" y="2427"/>
                    <a:pt x="3126" y="2427"/>
                    <a:pt x="3126" y="2433"/>
                  </a:cubicBezTo>
                  <a:cubicBezTo>
                    <a:pt x="3155" y="2415"/>
                    <a:pt x="3167" y="2404"/>
                    <a:pt x="3202" y="2398"/>
                  </a:cubicBezTo>
                  <a:cubicBezTo>
                    <a:pt x="3143" y="2456"/>
                    <a:pt x="3126" y="2497"/>
                    <a:pt x="3068" y="2555"/>
                  </a:cubicBezTo>
                  <a:cubicBezTo>
                    <a:pt x="3015" y="2608"/>
                    <a:pt x="2986" y="2637"/>
                    <a:pt x="2928" y="2683"/>
                  </a:cubicBezTo>
                  <a:cubicBezTo>
                    <a:pt x="2899" y="2707"/>
                    <a:pt x="2887" y="2724"/>
                    <a:pt x="2852" y="2736"/>
                  </a:cubicBezTo>
                  <a:cubicBezTo>
                    <a:pt x="2800" y="2753"/>
                    <a:pt x="2765" y="2741"/>
                    <a:pt x="2719" y="2759"/>
                  </a:cubicBezTo>
                  <a:cubicBezTo>
                    <a:pt x="2660" y="2782"/>
                    <a:pt x="2625" y="2805"/>
                    <a:pt x="2567" y="2805"/>
                  </a:cubicBezTo>
                  <a:cubicBezTo>
                    <a:pt x="2550" y="2805"/>
                    <a:pt x="2538" y="2805"/>
                    <a:pt x="2521" y="2805"/>
                  </a:cubicBezTo>
                  <a:cubicBezTo>
                    <a:pt x="2526" y="2835"/>
                    <a:pt x="2538" y="2852"/>
                    <a:pt x="2556" y="2881"/>
                  </a:cubicBezTo>
                  <a:cubicBezTo>
                    <a:pt x="2561" y="2899"/>
                    <a:pt x="2567" y="2922"/>
                    <a:pt x="2585" y="2922"/>
                  </a:cubicBezTo>
                  <a:cubicBezTo>
                    <a:pt x="2608" y="2922"/>
                    <a:pt x="2625" y="2910"/>
                    <a:pt x="2643" y="2899"/>
                  </a:cubicBezTo>
                  <a:cubicBezTo>
                    <a:pt x="2643" y="2904"/>
                    <a:pt x="2643" y="2910"/>
                    <a:pt x="2643" y="2916"/>
                  </a:cubicBezTo>
                  <a:cubicBezTo>
                    <a:pt x="2643" y="2980"/>
                    <a:pt x="2637" y="3015"/>
                    <a:pt x="2631" y="3073"/>
                  </a:cubicBezTo>
                  <a:cubicBezTo>
                    <a:pt x="2590" y="3062"/>
                    <a:pt x="2590" y="3021"/>
                    <a:pt x="2573" y="2980"/>
                  </a:cubicBezTo>
                  <a:cubicBezTo>
                    <a:pt x="2556" y="2945"/>
                    <a:pt x="2532" y="2928"/>
                    <a:pt x="2532" y="2887"/>
                  </a:cubicBezTo>
                  <a:cubicBezTo>
                    <a:pt x="2497" y="2881"/>
                    <a:pt x="2480" y="2864"/>
                    <a:pt x="2445" y="2864"/>
                  </a:cubicBezTo>
                  <a:cubicBezTo>
                    <a:pt x="2416" y="2864"/>
                    <a:pt x="2422" y="2904"/>
                    <a:pt x="2416" y="2934"/>
                  </a:cubicBezTo>
                  <a:cubicBezTo>
                    <a:pt x="2387" y="2904"/>
                    <a:pt x="2387" y="2881"/>
                    <a:pt x="2369" y="2846"/>
                  </a:cubicBezTo>
                  <a:cubicBezTo>
                    <a:pt x="2358" y="2835"/>
                    <a:pt x="2340" y="2829"/>
                    <a:pt x="2340" y="2811"/>
                  </a:cubicBezTo>
                  <a:cubicBezTo>
                    <a:pt x="2340" y="2800"/>
                    <a:pt x="2352" y="2800"/>
                    <a:pt x="2358" y="2794"/>
                  </a:cubicBezTo>
                  <a:cubicBezTo>
                    <a:pt x="2352" y="2776"/>
                    <a:pt x="2358" y="2753"/>
                    <a:pt x="2340" y="2753"/>
                  </a:cubicBezTo>
                  <a:cubicBezTo>
                    <a:pt x="2311" y="2753"/>
                    <a:pt x="2299" y="2776"/>
                    <a:pt x="2276" y="2782"/>
                  </a:cubicBezTo>
                  <a:cubicBezTo>
                    <a:pt x="2259" y="2788"/>
                    <a:pt x="2253" y="2788"/>
                    <a:pt x="2235" y="2788"/>
                  </a:cubicBezTo>
                  <a:cubicBezTo>
                    <a:pt x="2206" y="2788"/>
                    <a:pt x="2206" y="2759"/>
                    <a:pt x="2189" y="2730"/>
                  </a:cubicBezTo>
                  <a:cubicBezTo>
                    <a:pt x="2165" y="2707"/>
                    <a:pt x="2136" y="2695"/>
                    <a:pt x="2136" y="2660"/>
                  </a:cubicBezTo>
                  <a:cubicBezTo>
                    <a:pt x="2136" y="2648"/>
                    <a:pt x="2148" y="2637"/>
                    <a:pt x="2148" y="2625"/>
                  </a:cubicBezTo>
                  <a:cubicBezTo>
                    <a:pt x="2148" y="2619"/>
                    <a:pt x="2142" y="2619"/>
                    <a:pt x="2142" y="2613"/>
                  </a:cubicBezTo>
                  <a:cubicBezTo>
                    <a:pt x="2136" y="2613"/>
                    <a:pt x="2136" y="2613"/>
                    <a:pt x="2136" y="2613"/>
                  </a:cubicBezTo>
                  <a:cubicBezTo>
                    <a:pt x="2119" y="2613"/>
                    <a:pt x="2113" y="2619"/>
                    <a:pt x="2096" y="2619"/>
                  </a:cubicBezTo>
                  <a:cubicBezTo>
                    <a:pt x="2043" y="2613"/>
                    <a:pt x="2043" y="2613"/>
                    <a:pt x="2043" y="2613"/>
                  </a:cubicBezTo>
                  <a:cubicBezTo>
                    <a:pt x="2008" y="2613"/>
                    <a:pt x="1985" y="2613"/>
                    <a:pt x="1956" y="2637"/>
                  </a:cubicBezTo>
                  <a:cubicBezTo>
                    <a:pt x="1933" y="2648"/>
                    <a:pt x="1927" y="2672"/>
                    <a:pt x="1904" y="2672"/>
                  </a:cubicBezTo>
                  <a:cubicBezTo>
                    <a:pt x="1868" y="2672"/>
                    <a:pt x="1851" y="2642"/>
                    <a:pt x="1851" y="2613"/>
                  </a:cubicBezTo>
                  <a:cubicBezTo>
                    <a:pt x="1851" y="2578"/>
                    <a:pt x="1898" y="2590"/>
                    <a:pt x="1921" y="2567"/>
                  </a:cubicBezTo>
                  <a:cubicBezTo>
                    <a:pt x="1962" y="2526"/>
                    <a:pt x="1991" y="2497"/>
                    <a:pt x="1991" y="2439"/>
                  </a:cubicBezTo>
                  <a:cubicBezTo>
                    <a:pt x="1991" y="2392"/>
                    <a:pt x="1973" y="2369"/>
                    <a:pt x="1944" y="2334"/>
                  </a:cubicBezTo>
                  <a:cubicBezTo>
                    <a:pt x="1927" y="2311"/>
                    <a:pt x="1927" y="2282"/>
                    <a:pt x="1898" y="2282"/>
                  </a:cubicBezTo>
                  <a:cubicBezTo>
                    <a:pt x="1874" y="2282"/>
                    <a:pt x="1868" y="2305"/>
                    <a:pt x="1851" y="2322"/>
                  </a:cubicBezTo>
                  <a:cubicBezTo>
                    <a:pt x="1816" y="2346"/>
                    <a:pt x="1787" y="2352"/>
                    <a:pt x="1746" y="2381"/>
                  </a:cubicBezTo>
                  <a:cubicBezTo>
                    <a:pt x="1723" y="2392"/>
                    <a:pt x="1705" y="2404"/>
                    <a:pt x="1688" y="2421"/>
                  </a:cubicBezTo>
                  <a:cubicBezTo>
                    <a:pt x="1676" y="2439"/>
                    <a:pt x="1653" y="2439"/>
                    <a:pt x="1653" y="2456"/>
                  </a:cubicBezTo>
                  <a:cubicBezTo>
                    <a:pt x="1653" y="2479"/>
                    <a:pt x="1682" y="2491"/>
                    <a:pt x="1705" y="2491"/>
                  </a:cubicBezTo>
                  <a:cubicBezTo>
                    <a:pt x="1741" y="2491"/>
                    <a:pt x="1758" y="2468"/>
                    <a:pt x="1787" y="2450"/>
                  </a:cubicBezTo>
                  <a:cubicBezTo>
                    <a:pt x="1793" y="2456"/>
                    <a:pt x="1799" y="2462"/>
                    <a:pt x="1799" y="2468"/>
                  </a:cubicBezTo>
                  <a:cubicBezTo>
                    <a:pt x="1799" y="2515"/>
                    <a:pt x="1752" y="2520"/>
                    <a:pt x="1711" y="2538"/>
                  </a:cubicBezTo>
                  <a:cubicBezTo>
                    <a:pt x="1642" y="2578"/>
                    <a:pt x="1601" y="2608"/>
                    <a:pt x="1525" y="2642"/>
                  </a:cubicBezTo>
                  <a:cubicBezTo>
                    <a:pt x="1444" y="2683"/>
                    <a:pt x="1426" y="2741"/>
                    <a:pt x="1356" y="2794"/>
                  </a:cubicBezTo>
                  <a:cubicBezTo>
                    <a:pt x="1339" y="2805"/>
                    <a:pt x="1321" y="2805"/>
                    <a:pt x="1304" y="2817"/>
                  </a:cubicBezTo>
                  <a:cubicBezTo>
                    <a:pt x="1281" y="2841"/>
                    <a:pt x="1286" y="2893"/>
                    <a:pt x="1251" y="2893"/>
                  </a:cubicBezTo>
                  <a:cubicBezTo>
                    <a:pt x="1193" y="2893"/>
                    <a:pt x="1176" y="2829"/>
                    <a:pt x="1123" y="2829"/>
                  </a:cubicBezTo>
                  <a:cubicBezTo>
                    <a:pt x="1118" y="2829"/>
                    <a:pt x="1112" y="2841"/>
                    <a:pt x="1106" y="2841"/>
                  </a:cubicBezTo>
                  <a:cubicBezTo>
                    <a:pt x="1059" y="2841"/>
                    <a:pt x="1048" y="2794"/>
                    <a:pt x="1001" y="2771"/>
                  </a:cubicBezTo>
                  <a:cubicBezTo>
                    <a:pt x="960" y="2753"/>
                    <a:pt x="925" y="2759"/>
                    <a:pt x="885" y="2730"/>
                  </a:cubicBezTo>
                  <a:cubicBezTo>
                    <a:pt x="809" y="2672"/>
                    <a:pt x="780" y="2596"/>
                    <a:pt x="681" y="2596"/>
                  </a:cubicBezTo>
                  <a:cubicBezTo>
                    <a:pt x="646" y="2596"/>
                    <a:pt x="629" y="2619"/>
                    <a:pt x="588" y="2619"/>
                  </a:cubicBezTo>
                  <a:cubicBezTo>
                    <a:pt x="570" y="2619"/>
                    <a:pt x="564" y="2602"/>
                    <a:pt x="547" y="2590"/>
                  </a:cubicBezTo>
                  <a:cubicBezTo>
                    <a:pt x="501" y="2555"/>
                    <a:pt x="466" y="2532"/>
                    <a:pt x="401" y="2532"/>
                  </a:cubicBezTo>
                  <a:cubicBezTo>
                    <a:pt x="384" y="2532"/>
                    <a:pt x="378" y="2544"/>
                    <a:pt x="361" y="2549"/>
                  </a:cubicBezTo>
                  <a:cubicBezTo>
                    <a:pt x="338" y="2555"/>
                    <a:pt x="303" y="2549"/>
                    <a:pt x="303" y="2573"/>
                  </a:cubicBezTo>
                  <a:cubicBezTo>
                    <a:pt x="303" y="2584"/>
                    <a:pt x="308" y="2590"/>
                    <a:pt x="308" y="2602"/>
                  </a:cubicBezTo>
                  <a:cubicBezTo>
                    <a:pt x="308" y="2619"/>
                    <a:pt x="308" y="2619"/>
                    <a:pt x="308" y="2619"/>
                  </a:cubicBezTo>
                  <a:cubicBezTo>
                    <a:pt x="291" y="2619"/>
                    <a:pt x="291" y="2619"/>
                    <a:pt x="291" y="2619"/>
                  </a:cubicBezTo>
                  <a:cubicBezTo>
                    <a:pt x="233" y="2596"/>
                    <a:pt x="215" y="2561"/>
                    <a:pt x="169" y="2515"/>
                  </a:cubicBezTo>
                  <a:cubicBezTo>
                    <a:pt x="116" y="2456"/>
                    <a:pt x="70" y="2427"/>
                    <a:pt x="0" y="2415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71" name="Freeform 6"/>
            <p:cNvSpPr/>
            <p:nvPr/>
          </p:nvSpPr>
          <p:spPr>
            <a:xfrm>
              <a:off x="4491000" y="4442760"/>
              <a:ext cx="1336680" cy="1185120"/>
            </a:xfrm>
            <a:custGeom>
              <a:avLst/>
              <a:gdLst/>
              <a:ahLst/>
              <a:rect l="l" t="t" r="r" b="b"/>
              <a:pathLst>
                <a:path w="6067" h="5379">
                  <a:moveTo>
                    <a:pt x="4325" y="5378"/>
                  </a:moveTo>
                  <a:lnTo>
                    <a:pt x="4325" y="5378"/>
                  </a:lnTo>
                  <a:cubicBezTo>
                    <a:pt x="4331" y="5372"/>
                    <a:pt x="4331" y="5366"/>
                    <a:pt x="4331" y="5361"/>
                  </a:cubicBezTo>
                  <a:cubicBezTo>
                    <a:pt x="4331" y="5314"/>
                    <a:pt x="4331" y="5314"/>
                    <a:pt x="4331" y="5314"/>
                  </a:cubicBezTo>
                  <a:cubicBezTo>
                    <a:pt x="4331" y="5273"/>
                    <a:pt x="4343" y="5250"/>
                    <a:pt x="4343" y="5215"/>
                  </a:cubicBezTo>
                  <a:cubicBezTo>
                    <a:pt x="4343" y="5180"/>
                    <a:pt x="4337" y="5163"/>
                    <a:pt x="4337" y="5133"/>
                  </a:cubicBezTo>
                  <a:cubicBezTo>
                    <a:pt x="4314" y="5133"/>
                    <a:pt x="4314" y="5133"/>
                    <a:pt x="4314" y="5133"/>
                  </a:cubicBezTo>
                  <a:cubicBezTo>
                    <a:pt x="4302" y="5133"/>
                    <a:pt x="4302" y="5139"/>
                    <a:pt x="4290" y="5145"/>
                  </a:cubicBezTo>
                  <a:cubicBezTo>
                    <a:pt x="4290" y="5122"/>
                    <a:pt x="4290" y="5122"/>
                    <a:pt x="4290" y="5122"/>
                  </a:cubicBezTo>
                  <a:cubicBezTo>
                    <a:pt x="4308" y="5064"/>
                    <a:pt x="4308" y="5064"/>
                    <a:pt x="4308" y="5064"/>
                  </a:cubicBezTo>
                  <a:cubicBezTo>
                    <a:pt x="4302" y="5052"/>
                    <a:pt x="4296" y="5046"/>
                    <a:pt x="4296" y="5035"/>
                  </a:cubicBezTo>
                  <a:cubicBezTo>
                    <a:pt x="4296" y="4988"/>
                    <a:pt x="4343" y="4965"/>
                    <a:pt x="4343" y="4912"/>
                  </a:cubicBezTo>
                  <a:cubicBezTo>
                    <a:pt x="4343" y="4906"/>
                    <a:pt x="4337" y="4906"/>
                    <a:pt x="4337" y="4906"/>
                  </a:cubicBezTo>
                  <a:cubicBezTo>
                    <a:pt x="4337" y="4854"/>
                    <a:pt x="4377" y="4831"/>
                    <a:pt x="4377" y="4784"/>
                  </a:cubicBezTo>
                  <a:cubicBezTo>
                    <a:pt x="4377" y="4703"/>
                    <a:pt x="4377" y="4703"/>
                    <a:pt x="4377" y="4703"/>
                  </a:cubicBezTo>
                  <a:cubicBezTo>
                    <a:pt x="4377" y="4668"/>
                    <a:pt x="4412" y="4650"/>
                    <a:pt x="4412" y="4615"/>
                  </a:cubicBezTo>
                  <a:cubicBezTo>
                    <a:pt x="4412" y="4569"/>
                    <a:pt x="4389" y="4551"/>
                    <a:pt x="4389" y="4505"/>
                  </a:cubicBezTo>
                  <a:cubicBezTo>
                    <a:pt x="4389" y="4476"/>
                    <a:pt x="4424" y="4470"/>
                    <a:pt x="4424" y="4441"/>
                  </a:cubicBezTo>
                  <a:cubicBezTo>
                    <a:pt x="4424" y="4435"/>
                    <a:pt x="4412" y="4441"/>
                    <a:pt x="4412" y="4435"/>
                  </a:cubicBezTo>
                  <a:cubicBezTo>
                    <a:pt x="4412" y="4383"/>
                    <a:pt x="4453" y="4359"/>
                    <a:pt x="4453" y="4307"/>
                  </a:cubicBezTo>
                  <a:cubicBezTo>
                    <a:pt x="4471" y="4313"/>
                    <a:pt x="4482" y="4295"/>
                    <a:pt x="4488" y="4272"/>
                  </a:cubicBezTo>
                  <a:cubicBezTo>
                    <a:pt x="4500" y="4249"/>
                    <a:pt x="4523" y="4237"/>
                    <a:pt x="4523" y="4208"/>
                  </a:cubicBezTo>
                  <a:cubicBezTo>
                    <a:pt x="4523" y="4150"/>
                    <a:pt x="4558" y="4126"/>
                    <a:pt x="4570" y="4074"/>
                  </a:cubicBezTo>
                  <a:cubicBezTo>
                    <a:pt x="4575" y="4045"/>
                    <a:pt x="4587" y="4016"/>
                    <a:pt x="4605" y="3992"/>
                  </a:cubicBezTo>
                  <a:lnTo>
                    <a:pt x="4605" y="3992"/>
                  </a:lnTo>
                  <a:cubicBezTo>
                    <a:pt x="4599" y="3987"/>
                    <a:pt x="4593" y="3987"/>
                    <a:pt x="4593" y="3975"/>
                  </a:cubicBezTo>
                  <a:cubicBezTo>
                    <a:pt x="4593" y="3958"/>
                    <a:pt x="4634" y="3934"/>
                    <a:pt x="4651" y="3969"/>
                  </a:cubicBezTo>
                  <a:lnTo>
                    <a:pt x="4651" y="3969"/>
                  </a:lnTo>
                  <a:cubicBezTo>
                    <a:pt x="4657" y="3969"/>
                    <a:pt x="4657" y="3969"/>
                    <a:pt x="4663" y="3969"/>
                  </a:cubicBezTo>
                  <a:cubicBezTo>
                    <a:pt x="4669" y="3969"/>
                    <a:pt x="4674" y="3975"/>
                    <a:pt x="4680" y="3975"/>
                  </a:cubicBezTo>
                  <a:cubicBezTo>
                    <a:pt x="4686" y="3975"/>
                    <a:pt x="4692" y="3969"/>
                    <a:pt x="4692" y="3969"/>
                  </a:cubicBezTo>
                  <a:cubicBezTo>
                    <a:pt x="4680" y="3946"/>
                    <a:pt x="4674" y="3928"/>
                    <a:pt x="4674" y="3894"/>
                  </a:cubicBezTo>
                  <a:cubicBezTo>
                    <a:pt x="4674" y="3882"/>
                    <a:pt x="4692" y="3876"/>
                    <a:pt x="4703" y="3876"/>
                  </a:cubicBezTo>
                  <a:cubicBezTo>
                    <a:pt x="4733" y="3894"/>
                    <a:pt x="4738" y="3940"/>
                    <a:pt x="4709" y="3818"/>
                  </a:cubicBezTo>
                  <a:cubicBezTo>
                    <a:pt x="4703" y="3812"/>
                    <a:pt x="4703" y="3800"/>
                    <a:pt x="4698" y="3789"/>
                  </a:cubicBezTo>
                  <a:cubicBezTo>
                    <a:pt x="4738" y="3754"/>
                    <a:pt x="4762" y="3719"/>
                    <a:pt x="4762" y="3666"/>
                  </a:cubicBezTo>
                  <a:cubicBezTo>
                    <a:pt x="4762" y="3608"/>
                    <a:pt x="4762" y="3608"/>
                    <a:pt x="4762" y="3608"/>
                  </a:cubicBezTo>
                  <a:cubicBezTo>
                    <a:pt x="4762" y="3597"/>
                    <a:pt x="4744" y="3591"/>
                    <a:pt x="4744" y="3579"/>
                  </a:cubicBezTo>
                  <a:cubicBezTo>
                    <a:pt x="4744" y="3550"/>
                    <a:pt x="4768" y="3539"/>
                    <a:pt x="4779" y="3515"/>
                  </a:cubicBezTo>
                  <a:cubicBezTo>
                    <a:pt x="4803" y="3463"/>
                    <a:pt x="4832" y="3434"/>
                    <a:pt x="4866" y="3387"/>
                  </a:cubicBezTo>
                  <a:cubicBezTo>
                    <a:pt x="4936" y="3288"/>
                    <a:pt x="4971" y="3213"/>
                    <a:pt x="4971" y="3090"/>
                  </a:cubicBezTo>
                  <a:cubicBezTo>
                    <a:pt x="4971" y="3079"/>
                    <a:pt x="4966" y="3067"/>
                    <a:pt x="4954" y="3067"/>
                  </a:cubicBezTo>
                  <a:cubicBezTo>
                    <a:pt x="4931" y="3067"/>
                    <a:pt x="4925" y="3084"/>
                    <a:pt x="4901" y="3090"/>
                  </a:cubicBezTo>
                  <a:cubicBezTo>
                    <a:pt x="4901" y="3067"/>
                    <a:pt x="4901" y="3055"/>
                    <a:pt x="4901" y="3038"/>
                  </a:cubicBezTo>
                  <a:cubicBezTo>
                    <a:pt x="4901" y="3014"/>
                    <a:pt x="4884" y="3003"/>
                    <a:pt x="4884" y="2985"/>
                  </a:cubicBezTo>
                  <a:cubicBezTo>
                    <a:pt x="4884" y="2980"/>
                    <a:pt x="4890" y="2980"/>
                    <a:pt x="4890" y="2974"/>
                  </a:cubicBezTo>
                  <a:cubicBezTo>
                    <a:pt x="4901" y="2980"/>
                    <a:pt x="4907" y="2991"/>
                    <a:pt x="4919" y="2991"/>
                  </a:cubicBezTo>
                  <a:cubicBezTo>
                    <a:pt x="4931" y="2991"/>
                    <a:pt x="4936" y="2974"/>
                    <a:pt x="4948" y="2974"/>
                  </a:cubicBezTo>
                  <a:cubicBezTo>
                    <a:pt x="4960" y="2974"/>
                    <a:pt x="4966" y="2991"/>
                    <a:pt x="4983" y="2991"/>
                  </a:cubicBezTo>
                  <a:cubicBezTo>
                    <a:pt x="5006" y="2991"/>
                    <a:pt x="5035" y="2980"/>
                    <a:pt x="5035" y="2950"/>
                  </a:cubicBezTo>
                  <a:cubicBezTo>
                    <a:pt x="5035" y="2939"/>
                    <a:pt x="5029" y="2939"/>
                    <a:pt x="5029" y="2927"/>
                  </a:cubicBezTo>
                  <a:cubicBezTo>
                    <a:pt x="5029" y="2881"/>
                    <a:pt x="5082" y="2875"/>
                    <a:pt x="5082" y="2828"/>
                  </a:cubicBezTo>
                  <a:cubicBezTo>
                    <a:pt x="5082" y="2758"/>
                    <a:pt x="5082" y="2758"/>
                    <a:pt x="5082" y="2758"/>
                  </a:cubicBezTo>
                  <a:cubicBezTo>
                    <a:pt x="5082" y="2741"/>
                    <a:pt x="5094" y="2735"/>
                    <a:pt x="5105" y="2735"/>
                  </a:cubicBezTo>
                  <a:cubicBezTo>
                    <a:pt x="5123" y="2735"/>
                    <a:pt x="5123" y="2735"/>
                    <a:pt x="5123" y="2735"/>
                  </a:cubicBezTo>
                  <a:cubicBezTo>
                    <a:pt x="5123" y="2758"/>
                    <a:pt x="5117" y="2776"/>
                    <a:pt x="5123" y="2799"/>
                  </a:cubicBezTo>
                  <a:cubicBezTo>
                    <a:pt x="5140" y="2764"/>
                    <a:pt x="5140" y="2741"/>
                    <a:pt x="5163" y="2706"/>
                  </a:cubicBezTo>
                  <a:cubicBezTo>
                    <a:pt x="5198" y="2648"/>
                    <a:pt x="5251" y="2642"/>
                    <a:pt x="5286" y="2584"/>
                  </a:cubicBezTo>
                  <a:cubicBezTo>
                    <a:pt x="5292" y="2566"/>
                    <a:pt x="5286" y="2555"/>
                    <a:pt x="5297" y="2537"/>
                  </a:cubicBezTo>
                  <a:cubicBezTo>
                    <a:pt x="5321" y="2496"/>
                    <a:pt x="5367" y="2514"/>
                    <a:pt x="5414" y="2496"/>
                  </a:cubicBezTo>
                  <a:cubicBezTo>
                    <a:pt x="5455" y="2479"/>
                    <a:pt x="5466" y="2444"/>
                    <a:pt x="5507" y="2421"/>
                  </a:cubicBezTo>
                  <a:cubicBezTo>
                    <a:pt x="5524" y="2409"/>
                    <a:pt x="5548" y="2398"/>
                    <a:pt x="5548" y="2374"/>
                  </a:cubicBezTo>
                  <a:cubicBezTo>
                    <a:pt x="5548" y="2345"/>
                    <a:pt x="5542" y="2304"/>
                    <a:pt x="5513" y="2304"/>
                  </a:cubicBezTo>
                  <a:cubicBezTo>
                    <a:pt x="5507" y="2304"/>
                    <a:pt x="5507" y="2310"/>
                    <a:pt x="5501" y="2310"/>
                  </a:cubicBezTo>
                  <a:cubicBezTo>
                    <a:pt x="5501" y="2287"/>
                    <a:pt x="5489" y="2275"/>
                    <a:pt x="5489" y="2246"/>
                  </a:cubicBezTo>
                  <a:cubicBezTo>
                    <a:pt x="5489" y="2217"/>
                    <a:pt x="5542" y="2229"/>
                    <a:pt x="5554" y="2205"/>
                  </a:cubicBezTo>
                  <a:cubicBezTo>
                    <a:pt x="5565" y="2182"/>
                    <a:pt x="5559" y="2170"/>
                    <a:pt x="5571" y="2153"/>
                  </a:cubicBezTo>
                  <a:cubicBezTo>
                    <a:pt x="5600" y="2101"/>
                    <a:pt x="5647" y="2089"/>
                    <a:pt x="5670" y="2031"/>
                  </a:cubicBezTo>
                  <a:cubicBezTo>
                    <a:pt x="5687" y="1978"/>
                    <a:pt x="5699" y="1949"/>
                    <a:pt x="5705" y="1891"/>
                  </a:cubicBezTo>
                  <a:cubicBezTo>
                    <a:pt x="5711" y="1879"/>
                    <a:pt x="5722" y="1874"/>
                    <a:pt x="5734" y="1862"/>
                  </a:cubicBezTo>
                  <a:cubicBezTo>
                    <a:pt x="5757" y="1827"/>
                    <a:pt x="5763" y="1804"/>
                    <a:pt x="5769" y="1763"/>
                  </a:cubicBezTo>
                  <a:cubicBezTo>
                    <a:pt x="5781" y="1693"/>
                    <a:pt x="5821" y="1652"/>
                    <a:pt x="5821" y="1583"/>
                  </a:cubicBezTo>
                  <a:cubicBezTo>
                    <a:pt x="5821" y="1559"/>
                    <a:pt x="5821" y="1548"/>
                    <a:pt x="5821" y="1530"/>
                  </a:cubicBezTo>
                  <a:cubicBezTo>
                    <a:pt x="5781" y="1524"/>
                    <a:pt x="5792" y="1478"/>
                    <a:pt x="5792" y="1437"/>
                  </a:cubicBezTo>
                  <a:cubicBezTo>
                    <a:pt x="5792" y="1396"/>
                    <a:pt x="5810" y="1373"/>
                    <a:pt x="5815" y="1332"/>
                  </a:cubicBezTo>
                  <a:cubicBezTo>
                    <a:pt x="5839" y="1257"/>
                    <a:pt x="5839" y="1216"/>
                    <a:pt x="5862" y="1140"/>
                  </a:cubicBezTo>
                  <a:cubicBezTo>
                    <a:pt x="5868" y="1111"/>
                    <a:pt x="5897" y="1099"/>
                    <a:pt x="5897" y="1059"/>
                  </a:cubicBezTo>
                  <a:cubicBezTo>
                    <a:pt x="5897" y="1047"/>
                    <a:pt x="5897" y="1041"/>
                    <a:pt x="5897" y="1029"/>
                  </a:cubicBezTo>
                  <a:cubicBezTo>
                    <a:pt x="5897" y="1000"/>
                    <a:pt x="5926" y="989"/>
                    <a:pt x="5926" y="960"/>
                  </a:cubicBezTo>
                  <a:cubicBezTo>
                    <a:pt x="5926" y="948"/>
                    <a:pt x="5914" y="942"/>
                    <a:pt x="5914" y="936"/>
                  </a:cubicBezTo>
                  <a:cubicBezTo>
                    <a:pt x="5914" y="860"/>
                    <a:pt x="5961" y="826"/>
                    <a:pt x="5961" y="756"/>
                  </a:cubicBezTo>
                  <a:cubicBezTo>
                    <a:pt x="5961" y="721"/>
                    <a:pt x="5932" y="703"/>
                    <a:pt x="5897" y="703"/>
                  </a:cubicBezTo>
                  <a:cubicBezTo>
                    <a:pt x="5885" y="703"/>
                    <a:pt x="5874" y="709"/>
                    <a:pt x="5862" y="715"/>
                  </a:cubicBezTo>
                  <a:cubicBezTo>
                    <a:pt x="5868" y="703"/>
                    <a:pt x="5868" y="703"/>
                    <a:pt x="5868" y="703"/>
                  </a:cubicBezTo>
                  <a:cubicBezTo>
                    <a:pt x="5885" y="663"/>
                    <a:pt x="5938" y="668"/>
                    <a:pt x="5967" y="634"/>
                  </a:cubicBezTo>
                  <a:cubicBezTo>
                    <a:pt x="6008" y="581"/>
                    <a:pt x="5984" y="529"/>
                    <a:pt x="6008" y="465"/>
                  </a:cubicBezTo>
                  <a:cubicBezTo>
                    <a:pt x="6025" y="418"/>
                    <a:pt x="6066" y="395"/>
                    <a:pt x="6066" y="348"/>
                  </a:cubicBezTo>
                  <a:cubicBezTo>
                    <a:pt x="6066" y="279"/>
                    <a:pt x="6043" y="238"/>
                    <a:pt x="6043" y="174"/>
                  </a:cubicBezTo>
                  <a:cubicBezTo>
                    <a:pt x="6043" y="133"/>
                    <a:pt x="6054" y="110"/>
                    <a:pt x="6054" y="69"/>
                  </a:cubicBezTo>
                  <a:cubicBezTo>
                    <a:pt x="6054" y="46"/>
                    <a:pt x="6048" y="22"/>
                    <a:pt x="6043" y="0"/>
                  </a:cubicBezTo>
                  <a:lnTo>
                    <a:pt x="6043" y="0"/>
                  </a:lnTo>
                  <a:cubicBezTo>
                    <a:pt x="6008" y="22"/>
                    <a:pt x="5990" y="34"/>
                    <a:pt x="5955" y="46"/>
                  </a:cubicBezTo>
                  <a:cubicBezTo>
                    <a:pt x="5932" y="51"/>
                    <a:pt x="5909" y="40"/>
                    <a:pt x="5891" y="51"/>
                  </a:cubicBezTo>
                  <a:cubicBezTo>
                    <a:pt x="5862" y="63"/>
                    <a:pt x="5862" y="110"/>
                    <a:pt x="5833" y="110"/>
                  </a:cubicBezTo>
                  <a:cubicBezTo>
                    <a:pt x="5815" y="110"/>
                    <a:pt x="5810" y="98"/>
                    <a:pt x="5792" y="98"/>
                  </a:cubicBezTo>
                  <a:cubicBezTo>
                    <a:pt x="5757" y="92"/>
                    <a:pt x="5728" y="104"/>
                    <a:pt x="5693" y="104"/>
                  </a:cubicBezTo>
                  <a:cubicBezTo>
                    <a:pt x="5635" y="104"/>
                    <a:pt x="5612" y="57"/>
                    <a:pt x="5554" y="57"/>
                  </a:cubicBezTo>
                  <a:cubicBezTo>
                    <a:pt x="5507" y="57"/>
                    <a:pt x="5501" y="104"/>
                    <a:pt x="5466" y="133"/>
                  </a:cubicBezTo>
                  <a:cubicBezTo>
                    <a:pt x="5449" y="145"/>
                    <a:pt x="5431" y="133"/>
                    <a:pt x="5408" y="145"/>
                  </a:cubicBezTo>
                  <a:cubicBezTo>
                    <a:pt x="5355" y="162"/>
                    <a:pt x="5338" y="197"/>
                    <a:pt x="5286" y="214"/>
                  </a:cubicBezTo>
                  <a:cubicBezTo>
                    <a:pt x="5297" y="244"/>
                    <a:pt x="5303" y="261"/>
                    <a:pt x="5321" y="279"/>
                  </a:cubicBezTo>
                  <a:cubicBezTo>
                    <a:pt x="5326" y="284"/>
                    <a:pt x="5344" y="284"/>
                    <a:pt x="5344" y="296"/>
                  </a:cubicBezTo>
                  <a:cubicBezTo>
                    <a:pt x="5344" y="360"/>
                    <a:pt x="5297" y="418"/>
                    <a:pt x="5233" y="418"/>
                  </a:cubicBezTo>
                  <a:cubicBezTo>
                    <a:pt x="5233" y="430"/>
                    <a:pt x="5233" y="436"/>
                    <a:pt x="5227" y="447"/>
                  </a:cubicBezTo>
                  <a:cubicBezTo>
                    <a:pt x="5198" y="447"/>
                    <a:pt x="5187" y="407"/>
                    <a:pt x="5158" y="407"/>
                  </a:cubicBezTo>
                  <a:cubicBezTo>
                    <a:pt x="5094" y="407"/>
                    <a:pt x="5070" y="465"/>
                    <a:pt x="5041" y="523"/>
                  </a:cubicBezTo>
                  <a:cubicBezTo>
                    <a:pt x="5029" y="540"/>
                    <a:pt x="5035" y="564"/>
                    <a:pt x="5018" y="564"/>
                  </a:cubicBezTo>
                  <a:cubicBezTo>
                    <a:pt x="4936" y="564"/>
                    <a:pt x="4983" y="424"/>
                    <a:pt x="4913" y="389"/>
                  </a:cubicBezTo>
                  <a:cubicBezTo>
                    <a:pt x="4849" y="360"/>
                    <a:pt x="4826" y="325"/>
                    <a:pt x="4768" y="290"/>
                  </a:cubicBezTo>
                  <a:cubicBezTo>
                    <a:pt x="4750" y="279"/>
                    <a:pt x="4750" y="255"/>
                    <a:pt x="4727" y="255"/>
                  </a:cubicBezTo>
                  <a:cubicBezTo>
                    <a:pt x="4703" y="255"/>
                    <a:pt x="4692" y="273"/>
                    <a:pt x="4663" y="273"/>
                  </a:cubicBezTo>
                  <a:cubicBezTo>
                    <a:pt x="4610" y="273"/>
                    <a:pt x="4610" y="273"/>
                    <a:pt x="4610" y="273"/>
                  </a:cubicBezTo>
                  <a:cubicBezTo>
                    <a:pt x="4605" y="273"/>
                    <a:pt x="4599" y="279"/>
                    <a:pt x="4587" y="279"/>
                  </a:cubicBezTo>
                  <a:cubicBezTo>
                    <a:pt x="4540" y="279"/>
                    <a:pt x="4535" y="214"/>
                    <a:pt x="4488" y="214"/>
                  </a:cubicBezTo>
                  <a:cubicBezTo>
                    <a:pt x="4412" y="214"/>
                    <a:pt x="4377" y="261"/>
                    <a:pt x="4302" y="261"/>
                  </a:cubicBezTo>
                  <a:cubicBezTo>
                    <a:pt x="4284" y="261"/>
                    <a:pt x="4279" y="255"/>
                    <a:pt x="4261" y="255"/>
                  </a:cubicBezTo>
                  <a:cubicBezTo>
                    <a:pt x="4209" y="255"/>
                    <a:pt x="4209" y="255"/>
                    <a:pt x="4209" y="255"/>
                  </a:cubicBezTo>
                  <a:cubicBezTo>
                    <a:pt x="4174" y="255"/>
                    <a:pt x="4156" y="232"/>
                    <a:pt x="4121" y="232"/>
                  </a:cubicBezTo>
                  <a:cubicBezTo>
                    <a:pt x="4075" y="232"/>
                    <a:pt x="4057" y="279"/>
                    <a:pt x="4017" y="308"/>
                  </a:cubicBezTo>
                  <a:cubicBezTo>
                    <a:pt x="3970" y="342"/>
                    <a:pt x="3929" y="342"/>
                    <a:pt x="3894" y="389"/>
                  </a:cubicBezTo>
                  <a:cubicBezTo>
                    <a:pt x="3877" y="407"/>
                    <a:pt x="3888" y="442"/>
                    <a:pt x="3865" y="447"/>
                  </a:cubicBezTo>
                  <a:cubicBezTo>
                    <a:pt x="11" y="459"/>
                    <a:pt x="11" y="459"/>
                    <a:pt x="11" y="459"/>
                  </a:cubicBezTo>
                  <a:lnTo>
                    <a:pt x="11" y="459"/>
                  </a:lnTo>
                  <a:cubicBezTo>
                    <a:pt x="0" y="3311"/>
                    <a:pt x="0" y="3311"/>
                    <a:pt x="0" y="3311"/>
                  </a:cubicBezTo>
                  <a:lnTo>
                    <a:pt x="0" y="3311"/>
                  </a:lnTo>
                  <a:cubicBezTo>
                    <a:pt x="23" y="3306"/>
                    <a:pt x="23" y="3306"/>
                    <a:pt x="23" y="3306"/>
                  </a:cubicBezTo>
                  <a:cubicBezTo>
                    <a:pt x="64" y="3329"/>
                    <a:pt x="93" y="3323"/>
                    <a:pt x="139" y="3340"/>
                  </a:cubicBezTo>
                  <a:cubicBezTo>
                    <a:pt x="198" y="3364"/>
                    <a:pt x="215" y="3410"/>
                    <a:pt x="279" y="3410"/>
                  </a:cubicBezTo>
                  <a:cubicBezTo>
                    <a:pt x="314" y="3410"/>
                    <a:pt x="308" y="3346"/>
                    <a:pt x="343" y="3346"/>
                  </a:cubicBezTo>
                  <a:cubicBezTo>
                    <a:pt x="378" y="3346"/>
                    <a:pt x="401" y="3364"/>
                    <a:pt x="436" y="3364"/>
                  </a:cubicBezTo>
                  <a:cubicBezTo>
                    <a:pt x="460" y="3364"/>
                    <a:pt x="471" y="3358"/>
                    <a:pt x="495" y="3358"/>
                  </a:cubicBezTo>
                  <a:cubicBezTo>
                    <a:pt x="541" y="3358"/>
                    <a:pt x="564" y="3399"/>
                    <a:pt x="593" y="3439"/>
                  </a:cubicBezTo>
                  <a:cubicBezTo>
                    <a:pt x="599" y="3451"/>
                    <a:pt x="605" y="3463"/>
                    <a:pt x="617" y="3474"/>
                  </a:cubicBezTo>
                  <a:cubicBezTo>
                    <a:pt x="640" y="3492"/>
                    <a:pt x="687" y="3474"/>
                    <a:pt x="687" y="3503"/>
                  </a:cubicBezTo>
                  <a:cubicBezTo>
                    <a:pt x="687" y="3527"/>
                    <a:pt x="675" y="3544"/>
                    <a:pt x="675" y="3573"/>
                  </a:cubicBezTo>
                  <a:cubicBezTo>
                    <a:pt x="675" y="3602"/>
                    <a:pt x="698" y="3614"/>
                    <a:pt x="710" y="3637"/>
                  </a:cubicBezTo>
                  <a:cubicBezTo>
                    <a:pt x="733" y="3690"/>
                    <a:pt x="739" y="3748"/>
                    <a:pt x="791" y="3748"/>
                  </a:cubicBezTo>
                  <a:cubicBezTo>
                    <a:pt x="826" y="3748"/>
                    <a:pt x="832" y="3702"/>
                    <a:pt x="832" y="3666"/>
                  </a:cubicBezTo>
                  <a:cubicBezTo>
                    <a:pt x="838" y="3637"/>
                    <a:pt x="867" y="3632"/>
                    <a:pt x="873" y="3602"/>
                  </a:cubicBezTo>
                  <a:cubicBezTo>
                    <a:pt x="896" y="3672"/>
                    <a:pt x="966" y="3678"/>
                    <a:pt x="1030" y="3696"/>
                  </a:cubicBezTo>
                  <a:cubicBezTo>
                    <a:pt x="1082" y="3707"/>
                    <a:pt x="1100" y="3736"/>
                    <a:pt x="1147" y="3754"/>
                  </a:cubicBezTo>
                  <a:cubicBezTo>
                    <a:pt x="1141" y="3783"/>
                    <a:pt x="1123" y="3795"/>
                    <a:pt x="1123" y="3824"/>
                  </a:cubicBezTo>
                  <a:cubicBezTo>
                    <a:pt x="1123" y="3882"/>
                    <a:pt x="1123" y="3928"/>
                    <a:pt x="1164" y="3969"/>
                  </a:cubicBezTo>
                  <a:cubicBezTo>
                    <a:pt x="1193" y="3998"/>
                    <a:pt x="1251" y="3992"/>
                    <a:pt x="1251" y="4033"/>
                  </a:cubicBezTo>
                  <a:cubicBezTo>
                    <a:pt x="1251" y="4074"/>
                    <a:pt x="1251" y="4074"/>
                    <a:pt x="1251" y="4074"/>
                  </a:cubicBezTo>
                  <a:cubicBezTo>
                    <a:pt x="1251" y="4103"/>
                    <a:pt x="1292" y="4097"/>
                    <a:pt x="1315" y="4103"/>
                  </a:cubicBezTo>
                  <a:cubicBezTo>
                    <a:pt x="1356" y="4115"/>
                    <a:pt x="1373" y="4144"/>
                    <a:pt x="1408" y="4167"/>
                  </a:cubicBezTo>
                  <a:cubicBezTo>
                    <a:pt x="1473" y="4208"/>
                    <a:pt x="1519" y="4225"/>
                    <a:pt x="1554" y="4289"/>
                  </a:cubicBezTo>
                  <a:cubicBezTo>
                    <a:pt x="1566" y="4313"/>
                    <a:pt x="1589" y="4313"/>
                    <a:pt x="1606" y="4330"/>
                  </a:cubicBezTo>
                  <a:cubicBezTo>
                    <a:pt x="1641" y="4388"/>
                    <a:pt x="1659" y="4429"/>
                    <a:pt x="1717" y="4470"/>
                  </a:cubicBezTo>
                  <a:cubicBezTo>
                    <a:pt x="1758" y="4505"/>
                    <a:pt x="1781" y="4546"/>
                    <a:pt x="1839" y="4546"/>
                  </a:cubicBezTo>
                  <a:cubicBezTo>
                    <a:pt x="1851" y="4546"/>
                    <a:pt x="1851" y="4534"/>
                    <a:pt x="1862" y="4528"/>
                  </a:cubicBezTo>
                  <a:cubicBezTo>
                    <a:pt x="1886" y="4522"/>
                    <a:pt x="1903" y="4528"/>
                    <a:pt x="1927" y="4522"/>
                  </a:cubicBezTo>
                  <a:cubicBezTo>
                    <a:pt x="1921" y="4499"/>
                    <a:pt x="1909" y="4493"/>
                    <a:pt x="1909" y="4470"/>
                  </a:cubicBezTo>
                  <a:cubicBezTo>
                    <a:pt x="1909" y="4423"/>
                    <a:pt x="1956" y="4388"/>
                    <a:pt x="2002" y="4388"/>
                  </a:cubicBezTo>
                  <a:cubicBezTo>
                    <a:pt x="2043" y="4388"/>
                    <a:pt x="2066" y="4400"/>
                    <a:pt x="2107" y="4400"/>
                  </a:cubicBezTo>
                  <a:cubicBezTo>
                    <a:pt x="2136" y="4400"/>
                    <a:pt x="2142" y="4377"/>
                    <a:pt x="2165" y="4377"/>
                  </a:cubicBezTo>
                  <a:cubicBezTo>
                    <a:pt x="2247" y="4377"/>
                    <a:pt x="2264" y="4470"/>
                    <a:pt x="2340" y="4470"/>
                  </a:cubicBezTo>
                  <a:cubicBezTo>
                    <a:pt x="2352" y="4470"/>
                    <a:pt x="2352" y="4458"/>
                    <a:pt x="2363" y="4458"/>
                  </a:cubicBezTo>
                  <a:cubicBezTo>
                    <a:pt x="2387" y="4458"/>
                    <a:pt x="2392" y="4476"/>
                    <a:pt x="2421" y="4476"/>
                  </a:cubicBezTo>
                  <a:cubicBezTo>
                    <a:pt x="2433" y="4476"/>
                    <a:pt x="2439" y="4470"/>
                    <a:pt x="2456" y="4470"/>
                  </a:cubicBezTo>
                  <a:cubicBezTo>
                    <a:pt x="2474" y="4470"/>
                    <a:pt x="2480" y="4487"/>
                    <a:pt x="2491" y="4493"/>
                  </a:cubicBezTo>
                  <a:cubicBezTo>
                    <a:pt x="2526" y="4505"/>
                    <a:pt x="2555" y="4499"/>
                    <a:pt x="2590" y="4499"/>
                  </a:cubicBezTo>
                  <a:cubicBezTo>
                    <a:pt x="2614" y="4499"/>
                    <a:pt x="2614" y="4499"/>
                    <a:pt x="2614" y="4499"/>
                  </a:cubicBezTo>
                  <a:cubicBezTo>
                    <a:pt x="2614" y="4476"/>
                    <a:pt x="2614" y="4476"/>
                    <a:pt x="2614" y="4476"/>
                  </a:cubicBezTo>
                  <a:cubicBezTo>
                    <a:pt x="2619" y="4470"/>
                    <a:pt x="2625" y="4464"/>
                    <a:pt x="2631" y="4464"/>
                  </a:cubicBezTo>
                  <a:cubicBezTo>
                    <a:pt x="2643" y="4464"/>
                    <a:pt x="2648" y="4470"/>
                    <a:pt x="2660" y="4470"/>
                  </a:cubicBezTo>
                  <a:cubicBezTo>
                    <a:pt x="2672" y="4470"/>
                    <a:pt x="2678" y="4470"/>
                    <a:pt x="2689" y="4470"/>
                  </a:cubicBezTo>
                  <a:cubicBezTo>
                    <a:pt x="2713" y="4470"/>
                    <a:pt x="2724" y="4493"/>
                    <a:pt x="2747" y="4499"/>
                  </a:cubicBezTo>
                  <a:cubicBezTo>
                    <a:pt x="2806" y="4522"/>
                    <a:pt x="2841" y="4546"/>
                    <a:pt x="2905" y="4546"/>
                  </a:cubicBezTo>
                  <a:cubicBezTo>
                    <a:pt x="2934" y="4546"/>
                    <a:pt x="2928" y="4493"/>
                    <a:pt x="2957" y="4487"/>
                  </a:cubicBezTo>
                  <a:cubicBezTo>
                    <a:pt x="3044" y="4464"/>
                    <a:pt x="3091" y="4441"/>
                    <a:pt x="3178" y="4441"/>
                  </a:cubicBezTo>
                  <a:cubicBezTo>
                    <a:pt x="3254" y="4441"/>
                    <a:pt x="3300" y="4452"/>
                    <a:pt x="3359" y="4499"/>
                  </a:cubicBezTo>
                  <a:cubicBezTo>
                    <a:pt x="3405" y="4528"/>
                    <a:pt x="3399" y="4580"/>
                    <a:pt x="3399" y="4639"/>
                  </a:cubicBezTo>
                  <a:cubicBezTo>
                    <a:pt x="3399" y="4691"/>
                    <a:pt x="3399" y="4691"/>
                    <a:pt x="3399" y="4691"/>
                  </a:cubicBezTo>
                  <a:cubicBezTo>
                    <a:pt x="3399" y="4773"/>
                    <a:pt x="3463" y="4802"/>
                    <a:pt x="3463" y="4883"/>
                  </a:cubicBezTo>
                  <a:cubicBezTo>
                    <a:pt x="3463" y="4901"/>
                    <a:pt x="3458" y="4906"/>
                    <a:pt x="3458" y="4924"/>
                  </a:cubicBezTo>
                  <a:cubicBezTo>
                    <a:pt x="3458" y="4953"/>
                    <a:pt x="3487" y="4959"/>
                    <a:pt x="3516" y="4970"/>
                  </a:cubicBezTo>
                  <a:cubicBezTo>
                    <a:pt x="3562" y="4988"/>
                    <a:pt x="3586" y="5011"/>
                    <a:pt x="3632" y="5029"/>
                  </a:cubicBezTo>
                  <a:cubicBezTo>
                    <a:pt x="4325" y="5378"/>
                    <a:pt x="4325" y="5378"/>
                    <a:pt x="4325" y="5378"/>
                  </a:cubicBezTo>
                  <a:close/>
                  <a:moveTo>
                    <a:pt x="3859" y="3987"/>
                  </a:moveTo>
                  <a:lnTo>
                    <a:pt x="3859" y="3987"/>
                  </a:lnTo>
                  <a:cubicBezTo>
                    <a:pt x="3883" y="3969"/>
                    <a:pt x="3900" y="3952"/>
                    <a:pt x="3929" y="3952"/>
                  </a:cubicBezTo>
                  <a:cubicBezTo>
                    <a:pt x="3993" y="3952"/>
                    <a:pt x="3988" y="4039"/>
                    <a:pt x="4046" y="4068"/>
                  </a:cubicBezTo>
                  <a:cubicBezTo>
                    <a:pt x="4011" y="4097"/>
                    <a:pt x="3970" y="4074"/>
                    <a:pt x="3935" y="4103"/>
                  </a:cubicBezTo>
                  <a:cubicBezTo>
                    <a:pt x="3918" y="4115"/>
                    <a:pt x="3923" y="4144"/>
                    <a:pt x="3918" y="4167"/>
                  </a:cubicBezTo>
                  <a:cubicBezTo>
                    <a:pt x="3912" y="4196"/>
                    <a:pt x="3900" y="4220"/>
                    <a:pt x="3900" y="4249"/>
                  </a:cubicBezTo>
                  <a:cubicBezTo>
                    <a:pt x="3900" y="4289"/>
                    <a:pt x="3912" y="4307"/>
                    <a:pt x="3912" y="4348"/>
                  </a:cubicBezTo>
                  <a:cubicBezTo>
                    <a:pt x="3912" y="4365"/>
                    <a:pt x="3906" y="4377"/>
                    <a:pt x="3906" y="4394"/>
                  </a:cubicBezTo>
                  <a:cubicBezTo>
                    <a:pt x="3906" y="4412"/>
                    <a:pt x="3918" y="4435"/>
                    <a:pt x="3900" y="4435"/>
                  </a:cubicBezTo>
                  <a:cubicBezTo>
                    <a:pt x="3848" y="4435"/>
                    <a:pt x="3830" y="4388"/>
                    <a:pt x="3801" y="4348"/>
                  </a:cubicBezTo>
                  <a:cubicBezTo>
                    <a:pt x="3766" y="4301"/>
                    <a:pt x="3731" y="4278"/>
                    <a:pt x="3731" y="4220"/>
                  </a:cubicBezTo>
                  <a:cubicBezTo>
                    <a:pt x="3731" y="4173"/>
                    <a:pt x="3766" y="4155"/>
                    <a:pt x="3766" y="4109"/>
                  </a:cubicBezTo>
                  <a:cubicBezTo>
                    <a:pt x="3766" y="4068"/>
                    <a:pt x="3766" y="4068"/>
                    <a:pt x="3766" y="4068"/>
                  </a:cubicBezTo>
                  <a:cubicBezTo>
                    <a:pt x="3766" y="4022"/>
                    <a:pt x="3848" y="4039"/>
                    <a:pt x="3859" y="3987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72" name="Freeform 7"/>
            <p:cNvSpPr/>
            <p:nvPr/>
          </p:nvSpPr>
          <p:spPr>
            <a:xfrm>
              <a:off x="4794120" y="5909760"/>
              <a:ext cx="487440" cy="572040"/>
            </a:xfrm>
            <a:custGeom>
              <a:avLst/>
              <a:gdLst/>
              <a:ahLst/>
              <a:rect l="l" t="t" r="r" b="b"/>
              <a:pathLst>
                <a:path w="2214" h="2597">
                  <a:moveTo>
                    <a:pt x="2009" y="1769"/>
                  </a:moveTo>
                  <a:lnTo>
                    <a:pt x="2009" y="1769"/>
                  </a:lnTo>
                  <a:cubicBezTo>
                    <a:pt x="2009" y="1828"/>
                    <a:pt x="1991" y="1868"/>
                    <a:pt x="1945" y="1915"/>
                  </a:cubicBezTo>
                  <a:cubicBezTo>
                    <a:pt x="1974" y="1985"/>
                    <a:pt x="1974" y="1985"/>
                    <a:pt x="1974" y="1985"/>
                  </a:cubicBezTo>
                  <a:cubicBezTo>
                    <a:pt x="1968" y="2031"/>
                    <a:pt x="1927" y="2055"/>
                    <a:pt x="1927" y="2101"/>
                  </a:cubicBezTo>
                  <a:cubicBezTo>
                    <a:pt x="1927" y="2136"/>
                    <a:pt x="1997" y="2119"/>
                    <a:pt x="1997" y="2154"/>
                  </a:cubicBezTo>
                  <a:cubicBezTo>
                    <a:pt x="1997" y="2177"/>
                    <a:pt x="1980" y="2183"/>
                    <a:pt x="1968" y="2200"/>
                  </a:cubicBezTo>
                  <a:cubicBezTo>
                    <a:pt x="1980" y="2282"/>
                    <a:pt x="1980" y="2282"/>
                    <a:pt x="1980" y="2282"/>
                  </a:cubicBezTo>
                  <a:cubicBezTo>
                    <a:pt x="1980" y="2293"/>
                    <a:pt x="1974" y="2299"/>
                    <a:pt x="1968" y="2305"/>
                  </a:cubicBezTo>
                  <a:cubicBezTo>
                    <a:pt x="1951" y="2293"/>
                    <a:pt x="1945" y="2276"/>
                    <a:pt x="1939" y="2258"/>
                  </a:cubicBezTo>
                  <a:cubicBezTo>
                    <a:pt x="1927" y="2282"/>
                    <a:pt x="1921" y="2311"/>
                    <a:pt x="1898" y="2311"/>
                  </a:cubicBezTo>
                  <a:cubicBezTo>
                    <a:pt x="1887" y="2311"/>
                    <a:pt x="1869" y="2299"/>
                    <a:pt x="1869" y="2288"/>
                  </a:cubicBezTo>
                  <a:cubicBezTo>
                    <a:pt x="1869" y="2264"/>
                    <a:pt x="1869" y="2258"/>
                    <a:pt x="1869" y="2235"/>
                  </a:cubicBezTo>
                  <a:cubicBezTo>
                    <a:pt x="1852" y="2235"/>
                    <a:pt x="1840" y="2235"/>
                    <a:pt x="1823" y="2223"/>
                  </a:cubicBezTo>
                  <a:cubicBezTo>
                    <a:pt x="1834" y="2212"/>
                    <a:pt x="1834" y="2200"/>
                    <a:pt x="1834" y="2183"/>
                  </a:cubicBezTo>
                  <a:cubicBezTo>
                    <a:pt x="1846" y="2183"/>
                    <a:pt x="1846" y="2183"/>
                    <a:pt x="1846" y="2183"/>
                  </a:cubicBezTo>
                  <a:cubicBezTo>
                    <a:pt x="1863" y="2200"/>
                    <a:pt x="1869" y="2229"/>
                    <a:pt x="1898" y="2229"/>
                  </a:cubicBezTo>
                  <a:cubicBezTo>
                    <a:pt x="1916" y="2229"/>
                    <a:pt x="1939" y="2223"/>
                    <a:pt x="1939" y="2206"/>
                  </a:cubicBezTo>
                  <a:cubicBezTo>
                    <a:pt x="1939" y="2130"/>
                    <a:pt x="1863" y="2078"/>
                    <a:pt x="1788" y="2078"/>
                  </a:cubicBezTo>
                  <a:cubicBezTo>
                    <a:pt x="1747" y="2078"/>
                    <a:pt x="1747" y="2276"/>
                    <a:pt x="1747" y="2171"/>
                  </a:cubicBezTo>
                  <a:cubicBezTo>
                    <a:pt x="1747" y="2159"/>
                    <a:pt x="1741" y="2136"/>
                    <a:pt x="1724" y="2136"/>
                  </a:cubicBezTo>
                  <a:cubicBezTo>
                    <a:pt x="1689" y="2136"/>
                    <a:pt x="1665" y="2165"/>
                    <a:pt x="1665" y="2200"/>
                  </a:cubicBezTo>
                  <a:cubicBezTo>
                    <a:pt x="1665" y="2223"/>
                    <a:pt x="1665" y="2223"/>
                    <a:pt x="1665" y="2223"/>
                  </a:cubicBezTo>
                  <a:cubicBezTo>
                    <a:pt x="1654" y="2218"/>
                    <a:pt x="1648" y="2218"/>
                    <a:pt x="1636" y="2212"/>
                  </a:cubicBezTo>
                  <a:cubicBezTo>
                    <a:pt x="1642" y="2241"/>
                    <a:pt x="1654" y="2258"/>
                    <a:pt x="1654" y="2288"/>
                  </a:cubicBezTo>
                  <a:cubicBezTo>
                    <a:pt x="1654" y="2322"/>
                    <a:pt x="1660" y="2369"/>
                    <a:pt x="1625" y="2369"/>
                  </a:cubicBezTo>
                  <a:cubicBezTo>
                    <a:pt x="1595" y="2369"/>
                    <a:pt x="1572" y="2357"/>
                    <a:pt x="1561" y="2328"/>
                  </a:cubicBezTo>
                  <a:cubicBezTo>
                    <a:pt x="1561" y="2317"/>
                    <a:pt x="1561" y="2317"/>
                    <a:pt x="1561" y="2317"/>
                  </a:cubicBezTo>
                  <a:cubicBezTo>
                    <a:pt x="1537" y="2322"/>
                    <a:pt x="1520" y="2311"/>
                    <a:pt x="1497" y="2305"/>
                  </a:cubicBezTo>
                  <a:cubicBezTo>
                    <a:pt x="1520" y="2334"/>
                    <a:pt x="1537" y="2352"/>
                    <a:pt x="1537" y="2386"/>
                  </a:cubicBezTo>
                  <a:cubicBezTo>
                    <a:pt x="1537" y="2398"/>
                    <a:pt x="1531" y="2404"/>
                    <a:pt x="1520" y="2410"/>
                  </a:cubicBezTo>
                  <a:cubicBezTo>
                    <a:pt x="1520" y="2416"/>
                    <a:pt x="1531" y="2421"/>
                    <a:pt x="1531" y="2427"/>
                  </a:cubicBezTo>
                  <a:cubicBezTo>
                    <a:pt x="1531" y="2456"/>
                    <a:pt x="1502" y="2468"/>
                    <a:pt x="1479" y="2491"/>
                  </a:cubicBezTo>
                  <a:cubicBezTo>
                    <a:pt x="1456" y="2526"/>
                    <a:pt x="1473" y="2596"/>
                    <a:pt x="1427" y="2596"/>
                  </a:cubicBezTo>
                  <a:cubicBezTo>
                    <a:pt x="1368" y="2596"/>
                    <a:pt x="1351" y="2538"/>
                    <a:pt x="1293" y="2538"/>
                  </a:cubicBezTo>
                  <a:cubicBezTo>
                    <a:pt x="1252" y="2538"/>
                    <a:pt x="1235" y="2538"/>
                    <a:pt x="1194" y="2538"/>
                  </a:cubicBezTo>
                  <a:cubicBezTo>
                    <a:pt x="1176" y="2538"/>
                    <a:pt x="1171" y="2526"/>
                    <a:pt x="1153" y="2526"/>
                  </a:cubicBezTo>
                  <a:cubicBezTo>
                    <a:pt x="1124" y="2526"/>
                    <a:pt x="1118" y="2567"/>
                    <a:pt x="1083" y="2567"/>
                  </a:cubicBezTo>
                  <a:cubicBezTo>
                    <a:pt x="1037" y="2567"/>
                    <a:pt x="1060" y="2497"/>
                    <a:pt x="1031" y="2456"/>
                  </a:cubicBezTo>
                  <a:cubicBezTo>
                    <a:pt x="1002" y="2416"/>
                    <a:pt x="978" y="2386"/>
                    <a:pt x="943" y="2346"/>
                  </a:cubicBezTo>
                  <a:cubicBezTo>
                    <a:pt x="909" y="2264"/>
                    <a:pt x="845" y="2247"/>
                    <a:pt x="804" y="2165"/>
                  </a:cubicBezTo>
                  <a:cubicBezTo>
                    <a:pt x="769" y="2101"/>
                    <a:pt x="769" y="2060"/>
                    <a:pt x="751" y="1996"/>
                  </a:cubicBezTo>
                  <a:cubicBezTo>
                    <a:pt x="740" y="1967"/>
                    <a:pt x="722" y="1956"/>
                    <a:pt x="711" y="1927"/>
                  </a:cubicBezTo>
                  <a:cubicBezTo>
                    <a:pt x="699" y="1897"/>
                    <a:pt x="711" y="1880"/>
                    <a:pt x="705" y="1845"/>
                  </a:cubicBezTo>
                  <a:cubicBezTo>
                    <a:pt x="699" y="1787"/>
                    <a:pt x="670" y="1758"/>
                    <a:pt x="664" y="1700"/>
                  </a:cubicBezTo>
                  <a:cubicBezTo>
                    <a:pt x="670" y="1705"/>
                    <a:pt x="670" y="1705"/>
                    <a:pt x="670" y="1705"/>
                  </a:cubicBezTo>
                  <a:cubicBezTo>
                    <a:pt x="693" y="1746"/>
                    <a:pt x="722" y="1758"/>
                    <a:pt x="757" y="1787"/>
                  </a:cubicBezTo>
                  <a:cubicBezTo>
                    <a:pt x="786" y="1810"/>
                    <a:pt x="763" y="1880"/>
                    <a:pt x="780" y="1828"/>
                  </a:cubicBezTo>
                  <a:cubicBezTo>
                    <a:pt x="798" y="1833"/>
                    <a:pt x="804" y="1839"/>
                    <a:pt x="821" y="1851"/>
                  </a:cubicBezTo>
                  <a:cubicBezTo>
                    <a:pt x="821" y="1828"/>
                    <a:pt x="821" y="1828"/>
                    <a:pt x="821" y="1828"/>
                  </a:cubicBezTo>
                  <a:cubicBezTo>
                    <a:pt x="821" y="1769"/>
                    <a:pt x="769" y="1746"/>
                    <a:pt x="746" y="1694"/>
                  </a:cubicBezTo>
                  <a:cubicBezTo>
                    <a:pt x="734" y="1659"/>
                    <a:pt x="722" y="1624"/>
                    <a:pt x="687" y="1624"/>
                  </a:cubicBezTo>
                  <a:cubicBezTo>
                    <a:pt x="687" y="1478"/>
                    <a:pt x="583" y="1420"/>
                    <a:pt x="519" y="1286"/>
                  </a:cubicBezTo>
                  <a:cubicBezTo>
                    <a:pt x="489" y="1234"/>
                    <a:pt x="449" y="1216"/>
                    <a:pt x="449" y="1158"/>
                  </a:cubicBezTo>
                  <a:cubicBezTo>
                    <a:pt x="449" y="1152"/>
                    <a:pt x="460" y="1152"/>
                    <a:pt x="460" y="1147"/>
                  </a:cubicBezTo>
                  <a:cubicBezTo>
                    <a:pt x="460" y="1059"/>
                    <a:pt x="420" y="1007"/>
                    <a:pt x="396" y="919"/>
                  </a:cubicBezTo>
                  <a:cubicBezTo>
                    <a:pt x="396" y="908"/>
                    <a:pt x="379" y="908"/>
                    <a:pt x="379" y="890"/>
                  </a:cubicBezTo>
                  <a:cubicBezTo>
                    <a:pt x="379" y="838"/>
                    <a:pt x="420" y="821"/>
                    <a:pt x="425" y="768"/>
                  </a:cubicBezTo>
                  <a:cubicBezTo>
                    <a:pt x="414" y="698"/>
                    <a:pt x="414" y="698"/>
                    <a:pt x="414" y="698"/>
                  </a:cubicBezTo>
                  <a:cubicBezTo>
                    <a:pt x="425" y="698"/>
                    <a:pt x="425" y="698"/>
                    <a:pt x="425" y="698"/>
                  </a:cubicBezTo>
                  <a:cubicBezTo>
                    <a:pt x="431" y="704"/>
                    <a:pt x="437" y="710"/>
                    <a:pt x="443" y="716"/>
                  </a:cubicBezTo>
                  <a:cubicBezTo>
                    <a:pt x="478" y="733"/>
                    <a:pt x="501" y="733"/>
                    <a:pt x="536" y="739"/>
                  </a:cubicBezTo>
                  <a:cubicBezTo>
                    <a:pt x="565" y="751"/>
                    <a:pt x="571" y="774"/>
                    <a:pt x="600" y="774"/>
                  </a:cubicBezTo>
                  <a:cubicBezTo>
                    <a:pt x="617" y="774"/>
                    <a:pt x="623" y="762"/>
                    <a:pt x="641" y="762"/>
                  </a:cubicBezTo>
                  <a:cubicBezTo>
                    <a:pt x="699" y="762"/>
                    <a:pt x="722" y="797"/>
                    <a:pt x="775" y="815"/>
                  </a:cubicBezTo>
                  <a:cubicBezTo>
                    <a:pt x="879" y="861"/>
                    <a:pt x="938" y="890"/>
                    <a:pt x="1042" y="937"/>
                  </a:cubicBezTo>
                  <a:cubicBezTo>
                    <a:pt x="1095" y="954"/>
                    <a:pt x="1130" y="984"/>
                    <a:pt x="1188" y="984"/>
                  </a:cubicBezTo>
                  <a:cubicBezTo>
                    <a:pt x="1240" y="984"/>
                    <a:pt x="1240" y="984"/>
                    <a:pt x="1240" y="984"/>
                  </a:cubicBezTo>
                  <a:cubicBezTo>
                    <a:pt x="1275" y="984"/>
                    <a:pt x="1287" y="1013"/>
                    <a:pt x="1322" y="1030"/>
                  </a:cubicBezTo>
                  <a:cubicBezTo>
                    <a:pt x="1328" y="989"/>
                    <a:pt x="1328" y="937"/>
                    <a:pt x="1368" y="937"/>
                  </a:cubicBezTo>
                  <a:cubicBezTo>
                    <a:pt x="1398" y="937"/>
                    <a:pt x="1415" y="960"/>
                    <a:pt x="1438" y="978"/>
                  </a:cubicBezTo>
                  <a:cubicBezTo>
                    <a:pt x="1473" y="1007"/>
                    <a:pt x="1485" y="1030"/>
                    <a:pt x="1514" y="1065"/>
                  </a:cubicBezTo>
                  <a:cubicBezTo>
                    <a:pt x="1526" y="1094"/>
                    <a:pt x="1462" y="937"/>
                    <a:pt x="1462" y="914"/>
                  </a:cubicBezTo>
                  <a:cubicBezTo>
                    <a:pt x="1462" y="890"/>
                    <a:pt x="1462" y="890"/>
                    <a:pt x="1462" y="890"/>
                  </a:cubicBezTo>
                  <a:cubicBezTo>
                    <a:pt x="1467" y="890"/>
                    <a:pt x="1473" y="890"/>
                    <a:pt x="1473" y="890"/>
                  </a:cubicBezTo>
                  <a:cubicBezTo>
                    <a:pt x="1508" y="890"/>
                    <a:pt x="1526" y="914"/>
                    <a:pt x="1561" y="914"/>
                  </a:cubicBezTo>
                  <a:cubicBezTo>
                    <a:pt x="1595" y="914"/>
                    <a:pt x="1607" y="873"/>
                    <a:pt x="1636" y="873"/>
                  </a:cubicBezTo>
                  <a:cubicBezTo>
                    <a:pt x="1660" y="873"/>
                    <a:pt x="1671" y="908"/>
                    <a:pt x="1694" y="908"/>
                  </a:cubicBezTo>
                  <a:cubicBezTo>
                    <a:pt x="1758" y="908"/>
                    <a:pt x="1788" y="850"/>
                    <a:pt x="1817" y="791"/>
                  </a:cubicBezTo>
                  <a:cubicBezTo>
                    <a:pt x="1852" y="809"/>
                    <a:pt x="1863" y="832"/>
                    <a:pt x="1904" y="832"/>
                  </a:cubicBezTo>
                  <a:cubicBezTo>
                    <a:pt x="1951" y="832"/>
                    <a:pt x="1986" y="797"/>
                    <a:pt x="1986" y="751"/>
                  </a:cubicBezTo>
                  <a:cubicBezTo>
                    <a:pt x="1986" y="704"/>
                    <a:pt x="2160" y="844"/>
                    <a:pt x="2160" y="885"/>
                  </a:cubicBezTo>
                  <a:cubicBezTo>
                    <a:pt x="2160" y="908"/>
                    <a:pt x="2120" y="908"/>
                    <a:pt x="2120" y="931"/>
                  </a:cubicBezTo>
                  <a:cubicBezTo>
                    <a:pt x="2120" y="937"/>
                    <a:pt x="2125" y="937"/>
                    <a:pt x="2125" y="943"/>
                  </a:cubicBezTo>
                  <a:cubicBezTo>
                    <a:pt x="2125" y="1018"/>
                    <a:pt x="2125" y="1018"/>
                    <a:pt x="2125" y="1018"/>
                  </a:cubicBezTo>
                  <a:cubicBezTo>
                    <a:pt x="2125" y="1042"/>
                    <a:pt x="2143" y="1053"/>
                    <a:pt x="2143" y="1077"/>
                  </a:cubicBezTo>
                  <a:cubicBezTo>
                    <a:pt x="2143" y="1100"/>
                    <a:pt x="2131" y="1117"/>
                    <a:pt x="2131" y="1141"/>
                  </a:cubicBezTo>
                  <a:cubicBezTo>
                    <a:pt x="2131" y="1199"/>
                    <a:pt x="2131" y="1199"/>
                    <a:pt x="2131" y="1199"/>
                  </a:cubicBezTo>
                  <a:cubicBezTo>
                    <a:pt x="2131" y="1234"/>
                    <a:pt x="2160" y="1251"/>
                    <a:pt x="2160" y="1292"/>
                  </a:cubicBezTo>
                  <a:cubicBezTo>
                    <a:pt x="2160" y="1327"/>
                    <a:pt x="2137" y="1350"/>
                    <a:pt x="2137" y="1385"/>
                  </a:cubicBezTo>
                  <a:cubicBezTo>
                    <a:pt x="2137" y="1420"/>
                    <a:pt x="2143" y="1438"/>
                    <a:pt x="2143" y="1473"/>
                  </a:cubicBezTo>
                  <a:cubicBezTo>
                    <a:pt x="2143" y="1502"/>
                    <a:pt x="2125" y="1519"/>
                    <a:pt x="2125" y="1548"/>
                  </a:cubicBezTo>
                  <a:cubicBezTo>
                    <a:pt x="2125" y="1566"/>
                    <a:pt x="2143" y="1577"/>
                    <a:pt x="2149" y="1595"/>
                  </a:cubicBezTo>
                  <a:cubicBezTo>
                    <a:pt x="2131" y="1595"/>
                    <a:pt x="2125" y="1577"/>
                    <a:pt x="2102" y="1577"/>
                  </a:cubicBezTo>
                  <a:cubicBezTo>
                    <a:pt x="2102" y="1571"/>
                    <a:pt x="2102" y="1571"/>
                    <a:pt x="2102" y="1566"/>
                  </a:cubicBezTo>
                  <a:cubicBezTo>
                    <a:pt x="2102" y="1554"/>
                    <a:pt x="2108" y="1548"/>
                    <a:pt x="2108" y="1531"/>
                  </a:cubicBezTo>
                  <a:cubicBezTo>
                    <a:pt x="2061" y="1554"/>
                    <a:pt x="2050" y="1601"/>
                    <a:pt x="2038" y="1653"/>
                  </a:cubicBezTo>
                  <a:cubicBezTo>
                    <a:pt x="2026" y="1694"/>
                    <a:pt x="2003" y="1711"/>
                    <a:pt x="2003" y="1758"/>
                  </a:cubicBezTo>
                  <a:cubicBezTo>
                    <a:pt x="2003" y="1764"/>
                    <a:pt x="2009" y="1764"/>
                    <a:pt x="2009" y="1769"/>
                  </a:cubicBezTo>
                  <a:close/>
                  <a:moveTo>
                    <a:pt x="1677" y="2386"/>
                  </a:moveTo>
                  <a:lnTo>
                    <a:pt x="1677" y="2386"/>
                  </a:lnTo>
                  <a:cubicBezTo>
                    <a:pt x="1671" y="2381"/>
                    <a:pt x="1671" y="2381"/>
                    <a:pt x="1665" y="2381"/>
                  </a:cubicBezTo>
                  <a:cubicBezTo>
                    <a:pt x="1630" y="2381"/>
                    <a:pt x="1636" y="2427"/>
                    <a:pt x="1619" y="2456"/>
                  </a:cubicBezTo>
                  <a:cubicBezTo>
                    <a:pt x="1636" y="2474"/>
                    <a:pt x="1636" y="2497"/>
                    <a:pt x="1654" y="2515"/>
                  </a:cubicBezTo>
                  <a:cubicBezTo>
                    <a:pt x="1677" y="2491"/>
                    <a:pt x="1671" y="2468"/>
                    <a:pt x="1683" y="2451"/>
                  </a:cubicBezTo>
                  <a:cubicBezTo>
                    <a:pt x="1677" y="2427"/>
                    <a:pt x="1677" y="2427"/>
                    <a:pt x="1677" y="2427"/>
                  </a:cubicBezTo>
                  <a:cubicBezTo>
                    <a:pt x="1677" y="2386"/>
                    <a:pt x="1677" y="2386"/>
                    <a:pt x="1677" y="2386"/>
                  </a:cubicBezTo>
                  <a:close/>
                  <a:moveTo>
                    <a:pt x="2055" y="1932"/>
                  </a:moveTo>
                  <a:lnTo>
                    <a:pt x="2055" y="1932"/>
                  </a:lnTo>
                  <a:cubicBezTo>
                    <a:pt x="2055" y="1927"/>
                    <a:pt x="2055" y="1927"/>
                    <a:pt x="2055" y="1927"/>
                  </a:cubicBezTo>
                  <a:cubicBezTo>
                    <a:pt x="2044" y="1921"/>
                    <a:pt x="2044" y="1921"/>
                    <a:pt x="2044" y="1921"/>
                  </a:cubicBezTo>
                  <a:cubicBezTo>
                    <a:pt x="2032" y="1944"/>
                    <a:pt x="2032" y="1956"/>
                    <a:pt x="2026" y="1973"/>
                  </a:cubicBezTo>
                  <a:cubicBezTo>
                    <a:pt x="2032" y="1973"/>
                    <a:pt x="2038" y="1979"/>
                    <a:pt x="2044" y="1979"/>
                  </a:cubicBezTo>
                  <a:cubicBezTo>
                    <a:pt x="2050" y="1979"/>
                    <a:pt x="2055" y="1973"/>
                    <a:pt x="2061" y="1973"/>
                  </a:cubicBezTo>
                  <a:cubicBezTo>
                    <a:pt x="2055" y="1932"/>
                    <a:pt x="2055" y="1932"/>
                    <a:pt x="2055" y="1932"/>
                  </a:cubicBezTo>
                  <a:close/>
                  <a:moveTo>
                    <a:pt x="513" y="669"/>
                  </a:moveTo>
                  <a:lnTo>
                    <a:pt x="513" y="669"/>
                  </a:lnTo>
                  <a:cubicBezTo>
                    <a:pt x="507" y="687"/>
                    <a:pt x="507" y="698"/>
                    <a:pt x="501" y="710"/>
                  </a:cubicBezTo>
                  <a:cubicBezTo>
                    <a:pt x="513" y="716"/>
                    <a:pt x="513" y="716"/>
                    <a:pt x="513" y="716"/>
                  </a:cubicBezTo>
                  <a:cubicBezTo>
                    <a:pt x="536" y="710"/>
                    <a:pt x="548" y="704"/>
                    <a:pt x="559" y="687"/>
                  </a:cubicBezTo>
                  <a:cubicBezTo>
                    <a:pt x="542" y="681"/>
                    <a:pt x="530" y="675"/>
                    <a:pt x="513" y="669"/>
                  </a:cubicBezTo>
                  <a:close/>
                  <a:moveTo>
                    <a:pt x="1916" y="169"/>
                  </a:moveTo>
                  <a:lnTo>
                    <a:pt x="1916" y="169"/>
                  </a:lnTo>
                  <a:cubicBezTo>
                    <a:pt x="1945" y="186"/>
                    <a:pt x="1957" y="215"/>
                    <a:pt x="1957" y="250"/>
                  </a:cubicBezTo>
                  <a:cubicBezTo>
                    <a:pt x="1957" y="256"/>
                    <a:pt x="1951" y="256"/>
                    <a:pt x="1945" y="262"/>
                  </a:cubicBezTo>
                  <a:cubicBezTo>
                    <a:pt x="1951" y="273"/>
                    <a:pt x="1951" y="273"/>
                    <a:pt x="1951" y="273"/>
                  </a:cubicBezTo>
                  <a:cubicBezTo>
                    <a:pt x="1991" y="273"/>
                    <a:pt x="1997" y="314"/>
                    <a:pt x="2015" y="355"/>
                  </a:cubicBezTo>
                  <a:cubicBezTo>
                    <a:pt x="2026" y="384"/>
                    <a:pt x="2038" y="396"/>
                    <a:pt x="2050" y="425"/>
                  </a:cubicBezTo>
                  <a:cubicBezTo>
                    <a:pt x="2073" y="419"/>
                    <a:pt x="2073" y="390"/>
                    <a:pt x="2096" y="390"/>
                  </a:cubicBezTo>
                  <a:cubicBezTo>
                    <a:pt x="2114" y="390"/>
                    <a:pt x="2125" y="396"/>
                    <a:pt x="2143" y="401"/>
                  </a:cubicBezTo>
                  <a:cubicBezTo>
                    <a:pt x="2143" y="396"/>
                    <a:pt x="2143" y="396"/>
                    <a:pt x="2143" y="384"/>
                  </a:cubicBezTo>
                  <a:cubicBezTo>
                    <a:pt x="2143" y="372"/>
                    <a:pt x="2143" y="361"/>
                    <a:pt x="2143" y="343"/>
                  </a:cubicBezTo>
                  <a:cubicBezTo>
                    <a:pt x="2137" y="343"/>
                    <a:pt x="2131" y="343"/>
                    <a:pt x="2120" y="343"/>
                  </a:cubicBezTo>
                  <a:cubicBezTo>
                    <a:pt x="2114" y="343"/>
                    <a:pt x="2114" y="337"/>
                    <a:pt x="2108" y="337"/>
                  </a:cubicBezTo>
                  <a:cubicBezTo>
                    <a:pt x="2120" y="320"/>
                    <a:pt x="2131" y="314"/>
                    <a:pt x="2131" y="297"/>
                  </a:cubicBezTo>
                  <a:cubicBezTo>
                    <a:pt x="2131" y="238"/>
                    <a:pt x="2131" y="238"/>
                    <a:pt x="2131" y="238"/>
                  </a:cubicBezTo>
                  <a:cubicBezTo>
                    <a:pt x="2044" y="238"/>
                    <a:pt x="2032" y="151"/>
                    <a:pt x="1968" y="93"/>
                  </a:cubicBezTo>
                  <a:cubicBezTo>
                    <a:pt x="1957" y="128"/>
                    <a:pt x="1945" y="151"/>
                    <a:pt x="1916" y="169"/>
                  </a:cubicBezTo>
                  <a:close/>
                  <a:moveTo>
                    <a:pt x="2084" y="483"/>
                  </a:moveTo>
                  <a:lnTo>
                    <a:pt x="2084" y="483"/>
                  </a:lnTo>
                  <a:cubicBezTo>
                    <a:pt x="2073" y="483"/>
                    <a:pt x="2061" y="477"/>
                    <a:pt x="2050" y="477"/>
                  </a:cubicBezTo>
                  <a:cubicBezTo>
                    <a:pt x="2026" y="477"/>
                    <a:pt x="2003" y="495"/>
                    <a:pt x="2003" y="512"/>
                  </a:cubicBezTo>
                  <a:cubicBezTo>
                    <a:pt x="2026" y="529"/>
                    <a:pt x="2044" y="535"/>
                    <a:pt x="2073" y="535"/>
                  </a:cubicBezTo>
                  <a:cubicBezTo>
                    <a:pt x="2096" y="535"/>
                    <a:pt x="2114" y="529"/>
                    <a:pt x="2137" y="518"/>
                  </a:cubicBezTo>
                  <a:cubicBezTo>
                    <a:pt x="2149" y="529"/>
                    <a:pt x="2154" y="541"/>
                    <a:pt x="2166" y="559"/>
                  </a:cubicBezTo>
                  <a:cubicBezTo>
                    <a:pt x="2183" y="547"/>
                    <a:pt x="2195" y="541"/>
                    <a:pt x="2213" y="524"/>
                  </a:cubicBezTo>
                  <a:cubicBezTo>
                    <a:pt x="2195" y="500"/>
                    <a:pt x="2183" y="483"/>
                    <a:pt x="2172" y="454"/>
                  </a:cubicBezTo>
                  <a:cubicBezTo>
                    <a:pt x="2160" y="448"/>
                    <a:pt x="2160" y="448"/>
                    <a:pt x="2160" y="448"/>
                  </a:cubicBezTo>
                  <a:cubicBezTo>
                    <a:pt x="2143" y="477"/>
                    <a:pt x="2114" y="483"/>
                    <a:pt x="2084" y="483"/>
                  </a:cubicBezTo>
                  <a:close/>
                  <a:moveTo>
                    <a:pt x="2067" y="599"/>
                  </a:moveTo>
                  <a:lnTo>
                    <a:pt x="2067" y="599"/>
                  </a:lnTo>
                  <a:cubicBezTo>
                    <a:pt x="2067" y="605"/>
                    <a:pt x="2067" y="611"/>
                    <a:pt x="2067" y="617"/>
                  </a:cubicBezTo>
                  <a:cubicBezTo>
                    <a:pt x="2090" y="611"/>
                    <a:pt x="2102" y="599"/>
                    <a:pt x="2114" y="582"/>
                  </a:cubicBezTo>
                  <a:cubicBezTo>
                    <a:pt x="2096" y="576"/>
                    <a:pt x="2067" y="582"/>
                    <a:pt x="2067" y="599"/>
                  </a:cubicBezTo>
                  <a:close/>
                  <a:moveTo>
                    <a:pt x="483" y="541"/>
                  </a:moveTo>
                  <a:lnTo>
                    <a:pt x="483" y="541"/>
                  </a:lnTo>
                  <a:cubicBezTo>
                    <a:pt x="536" y="541"/>
                    <a:pt x="536" y="541"/>
                    <a:pt x="536" y="541"/>
                  </a:cubicBezTo>
                  <a:cubicBezTo>
                    <a:pt x="536" y="529"/>
                    <a:pt x="536" y="524"/>
                    <a:pt x="536" y="506"/>
                  </a:cubicBezTo>
                  <a:cubicBezTo>
                    <a:pt x="513" y="512"/>
                    <a:pt x="501" y="529"/>
                    <a:pt x="483" y="541"/>
                  </a:cubicBezTo>
                  <a:close/>
                  <a:moveTo>
                    <a:pt x="82" y="23"/>
                  </a:moveTo>
                  <a:lnTo>
                    <a:pt x="82" y="23"/>
                  </a:lnTo>
                  <a:cubicBezTo>
                    <a:pt x="76" y="17"/>
                    <a:pt x="70" y="11"/>
                    <a:pt x="59" y="6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17"/>
                    <a:pt x="59" y="29"/>
                    <a:pt x="53" y="46"/>
                  </a:cubicBezTo>
                  <a:cubicBezTo>
                    <a:pt x="41" y="64"/>
                    <a:pt x="12" y="58"/>
                    <a:pt x="12" y="75"/>
                  </a:cubicBezTo>
                  <a:cubicBezTo>
                    <a:pt x="12" y="93"/>
                    <a:pt x="24" y="99"/>
                    <a:pt x="24" y="116"/>
                  </a:cubicBezTo>
                  <a:cubicBezTo>
                    <a:pt x="24" y="145"/>
                    <a:pt x="0" y="157"/>
                    <a:pt x="0" y="186"/>
                  </a:cubicBezTo>
                  <a:cubicBezTo>
                    <a:pt x="0" y="209"/>
                    <a:pt x="0" y="209"/>
                    <a:pt x="0" y="209"/>
                  </a:cubicBezTo>
                  <a:cubicBezTo>
                    <a:pt x="12" y="209"/>
                    <a:pt x="18" y="209"/>
                    <a:pt x="29" y="209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35" y="332"/>
                    <a:pt x="41" y="332"/>
                  </a:cubicBezTo>
                  <a:cubicBezTo>
                    <a:pt x="59" y="332"/>
                    <a:pt x="59" y="314"/>
                    <a:pt x="70" y="302"/>
                  </a:cubicBezTo>
                  <a:cubicBezTo>
                    <a:pt x="105" y="285"/>
                    <a:pt x="134" y="262"/>
                    <a:pt x="134" y="221"/>
                  </a:cubicBezTo>
                  <a:cubicBezTo>
                    <a:pt x="134" y="180"/>
                    <a:pt x="117" y="163"/>
                    <a:pt x="117" y="128"/>
                  </a:cubicBezTo>
                  <a:cubicBezTo>
                    <a:pt x="117" y="99"/>
                    <a:pt x="128" y="81"/>
                    <a:pt x="128" y="46"/>
                  </a:cubicBezTo>
                  <a:cubicBezTo>
                    <a:pt x="128" y="29"/>
                    <a:pt x="99" y="29"/>
                    <a:pt x="82" y="23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773" name="Straight Connector 63"/>
          <p:cNvSpPr/>
          <p:nvPr/>
        </p:nvSpPr>
        <p:spPr>
          <a:xfrm>
            <a:off x="2741760" y="4502160"/>
            <a:ext cx="0" cy="757080"/>
          </a:xfrm>
          <a:prstGeom prst="line">
            <a:avLst/>
          </a:prstGeom>
          <a:ln w="28440">
            <a:solidFill>
              <a:srgbClr val="b2c441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74" name="Title 1"/>
          <p:cNvSpPr/>
          <p:nvPr/>
        </p:nvSpPr>
        <p:spPr>
          <a:xfrm>
            <a:off x="1874880" y="5318280"/>
            <a:ext cx="173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75" name="TextBox 17"/>
          <p:cNvSpPr/>
          <p:nvPr/>
        </p:nvSpPr>
        <p:spPr>
          <a:xfrm>
            <a:off x="1812960" y="5614920"/>
            <a:ext cx="185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76" name="TextBox 19"/>
          <p:cNvSpPr/>
          <p:nvPr/>
        </p:nvSpPr>
        <p:spPr>
          <a:xfrm>
            <a:off x="2054160" y="1787400"/>
            <a:ext cx="2435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777" name="Group 43"/>
          <p:cNvGrpSpPr/>
          <p:nvPr/>
        </p:nvGrpSpPr>
        <p:grpSpPr>
          <a:xfrm>
            <a:off x="4616280" y="1663560"/>
            <a:ext cx="192240" cy="1517760"/>
            <a:chOff x="4616280" y="1663560"/>
            <a:chExt cx="192240" cy="1517760"/>
          </a:xfrm>
        </p:grpSpPr>
        <p:sp>
          <p:nvSpPr>
            <p:cNvPr id="1778" name="Straight Connector 15"/>
            <p:cNvSpPr/>
            <p:nvPr/>
          </p:nvSpPr>
          <p:spPr>
            <a:xfrm flipV="1">
              <a:off x="4782600" y="1663560"/>
              <a:ext cx="20880" cy="1517760"/>
            </a:xfrm>
            <a:prstGeom prst="line">
              <a:avLst/>
            </a:prstGeom>
            <a:ln w="28440">
              <a:solidFill>
                <a:srgbClr val="cad82a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779" name="Straight Connector 42"/>
            <p:cNvSpPr/>
            <p:nvPr/>
          </p:nvSpPr>
          <p:spPr>
            <a:xfrm flipH="1">
              <a:off x="4616280" y="1663560"/>
              <a:ext cx="192240" cy="0"/>
            </a:xfrm>
            <a:prstGeom prst="line">
              <a:avLst/>
            </a:prstGeom>
            <a:ln w="28440">
              <a:solidFill>
                <a:srgbClr val="cad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780" name="Rectangle 34"/>
          <p:cNvSpPr/>
          <p:nvPr/>
        </p:nvSpPr>
        <p:spPr>
          <a:xfrm>
            <a:off x="6567480" y="349740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ad82a"/>
                </a:solidFill>
                <a:latin typeface="Open Sans"/>
              </a:rPr>
              <a:t>145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1" name="Rectangle 20"/>
          <p:cNvSpPr/>
          <p:nvPr/>
        </p:nvSpPr>
        <p:spPr>
          <a:xfrm>
            <a:off x="7664400" y="3900600"/>
            <a:ext cx="3014640" cy="110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2" name="Rectangle 31"/>
          <p:cNvSpPr/>
          <p:nvPr/>
        </p:nvSpPr>
        <p:spPr>
          <a:xfrm>
            <a:off x="7664400" y="3900600"/>
            <a:ext cx="2173320" cy="11088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3" name="Title 1"/>
          <p:cNvSpPr/>
          <p:nvPr/>
        </p:nvSpPr>
        <p:spPr>
          <a:xfrm>
            <a:off x="7562880" y="363204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4" name="TextBox 37"/>
          <p:cNvSpPr/>
          <p:nvPr/>
        </p:nvSpPr>
        <p:spPr>
          <a:xfrm>
            <a:off x="6567480" y="2316240"/>
            <a:ext cx="4111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ese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nonummy nibh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5" name="TextBox 38"/>
          <p:cNvSpPr/>
          <p:nvPr/>
        </p:nvSpPr>
        <p:spPr>
          <a:xfrm>
            <a:off x="6567480" y="194328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6" name="Rectangle 49"/>
          <p:cNvSpPr/>
          <p:nvPr/>
        </p:nvSpPr>
        <p:spPr>
          <a:xfrm>
            <a:off x="6567480" y="414324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c441"/>
                </a:solidFill>
                <a:latin typeface="Open Sans"/>
              </a:rPr>
              <a:t>60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7" name="Rectangle 51"/>
          <p:cNvSpPr/>
          <p:nvPr/>
        </p:nvSpPr>
        <p:spPr>
          <a:xfrm>
            <a:off x="7664400" y="454824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8" name="Rectangle 52"/>
          <p:cNvSpPr/>
          <p:nvPr/>
        </p:nvSpPr>
        <p:spPr>
          <a:xfrm>
            <a:off x="7664400" y="4548240"/>
            <a:ext cx="1548000" cy="10944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9" name="Title 1"/>
          <p:cNvSpPr/>
          <p:nvPr/>
        </p:nvSpPr>
        <p:spPr>
          <a:xfrm>
            <a:off x="7562880" y="427824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0" name="Rectangle 54"/>
          <p:cNvSpPr/>
          <p:nvPr/>
        </p:nvSpPr>
        <p:spPr>
          <a:xfrm>
            <a:off x="6567480" y="479412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eb240"/>
                </a:solidFill>
                <a:latin typeface="Open Sans"/>
              </a:rPr>
              <a:t>25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1" name="Rectangle 56"/>
          <p:cNvSpPr/>
          <p:nvPr/>
        </p:nvSpPr>
        <p:spPr>
          <a:xfrm>
            <a:off x="7664400" y="519912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2" name="Rectangle 57"/>
          <p:cNvSpPr/>
          <p:nvPr/>
        </p:nvSpPr>
        <p:spPr>
          <a:xfrm>
            <a:off x="7664400" y="5199120"/>
            <a:ext cx="863640" cy="109440"/>
          </a:xfrm>
          <a:prstGeom prst="rect">
            <a:avLst/>
          </a:pr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3" name="Title 1"/>
          <p:cNvSpPr/>
          <p:nvPr/>
        </p:nvSpPr>
        <p:spPr>
          <a:xfrm>
            <a:off x="7562880" y="4929120"/>
            <a:ext cx="12193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4" name="Rectangle 59"/>
          <p:cNvSpPr/>
          <p:nvPr/>
        </p:nvSpPr>
        <p:spPr>
          <a:xfrm>
            <a:off x="6567480" y="544500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49e4a"/>
                </a:solidFill>
                <a:latin typeface="Open Sans"/>
              </a:rPr>
              <a:t>200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5" name="Rectangle 61"/>
          <p:cNvSpPr/>
          <p:nvPr/>
        </p:nvSpPr>
        <p:spPr>
          <a:xfrm>
            <a:off x="7664400" y="584532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6" name="Rectangle 62"/>
          <p:cNvSpPr/>
          <p:nvPr/>
        </p:nvSpPr>
        <p:spPr>
          <a:xfrm>
            <a:off x="7664400" y="5845320"/>
            <a:ext cx="2772000" cy="109440"/>
          </a:xfrm>
          <a:prstGeom prst="rect">
            <a:avLst/>
          </a:pr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7" name="Title 1"/>
          <p:cNvSpPr/>
          <p:nvPr/>
        </p:nvSpPr>
        <p:spPr>
          <a:xfrm>
            <a:off x="7562880" y="557532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0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500"/>
                            </p:stCondLst>
                            <p:childTnLst>
                              <p:par>
                                <p:cTn id="17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5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2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5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3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0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0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21"/>
          <p:cNvSpPr/>
          <p:nvPr/>
        </p:nvSpPr>
        <p:spPr>
          <a:xfrm>
            <a:off x="1065240" y="3760920"/>
            <a:ext cx="10061640" cy="236700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ID" sz="4800" spc="-1" strike="noStrike">
                <a:solidFill>
                  <a:srgbClr val="3f3f3f"/>
                </a:solidFill>
                <a:latin typeface="Roboto Slab"/>
              </a:rPr>
              <a:t>About Our Company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51" name="TextBox 16"/>
          <p:cNvSpPr/>
          <p:nvPr/>
        </p:nvSpPr>
        <p:spPr>
          <a:xfrm>
            <a:off x="1065240" y="2475000"/>
            <a:ext cx="6110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m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nonummy nibh euismod tincidunt ut laoreet dolore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2" name="Title 1"/>
          <p:cNvSpPr/>
          <p:nvPr/>
        </p:nvSpPr>
        <p:spPr>
          <a:xfrm>
            <a:off x="1065240" y="2111400"/>
            <a:ext cx="5030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Introduc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3" name="Freeform 5"/>
          <p:cNvSpPr/>
          <p:nvPr/>
        </p:nvSpPr>
        <p:spPr>
          <a:xfrm>
            <a:off x="1836720" y="4016520"/>
            <a:ext cx="733320" cy="731520"/>
          </a:xfrm>
          <a:custGeom>
            <a:avLst/>
            <a:gdLst/>
            <a:ahLst/>
            <a:rect l="l" t="t" r="r" b="b"/>
            <a:pathLst>
              <a:path w="120" h="120">
                <a:moveTo>
                  <a:pt x="46" y="83"/>
                </a:moveTo>
                <a:cubicBezTo>
                  <a:pt x="50" y="64"/>
                  <a:pt x="50" y="64"/>
                  <a:pt x="50" y="64"/>
                </a:cubicBezTo>
                <a:cubicBezTo>
                  <a:pt x="43" y="60"/>
                  <a:pt x="43" y="60"/>
                  <a:pt x="43" y="60"/>
                </a:cubicBezTo>
                <a:cubicBezTo>
                  <a:pt x="38" y="97"/>
                  <a:pt x="38" y="97"/>
                  <a:pt x="38" y="97"/>
                </a:cubicBezTo>
                <a:cubicBezTo>
                  <a:pt x="67" y="74"/>
                  <a:pt x="67" y="74"/>
                  <a:pt x="67" y="74"/>
                </a:cubicBezTo>
                <a:cubicBezTo>
                  <a:pt x="60" y="70"/>
                  <a:pt x="60" y="70"/>
                  <a:pt x="60" y="70"/>
                </a:cubicBezTo>
                <a:lnTo>
                  <a:pt x="46" y="83"/>
                </a:lnTo>
                <a:close/>
                <a:moveTo>
                  <a:pt x="64" y="62"/>
                </a:moveTo>
                <a:cubicBezTo>
                  <a:pt x="64" y="59"/>
                  <a:pt x="61" y="56"/>
                  <a:pt x="58" y="56"/>
                </a:cubicBezTo>
                <a:cubicBezTo>
                  <a:pt x="55" y="56"/>
                  <a:pt x="52" y="59"/>
                  <a:pt x="52" y="62"/>
                </a:cubicBezTo>
                <a:cubicBezTo>
                  <a:pt x="52" y="65"/>
                  <a:pt x="55" y="68"/>
                  <a:pt x="58" y="68"/>
                </a:cubicBezTo>
                <a:cubicBezTo>
                  <a:pt x="61" y="68"/>
                  <a:pt x="64" y="65"/>
                  <a:pt x="64" y="62"/>
                </a:cubicBezTo>
                <a:close/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60" y="112"/>
                </a:moveTo>
                <a:cubicBezTo>
                  <a:pt x="31" y="112"/>
                  <a:pt x="8" y="89"/>
                  <a:pt x="8" y="60"/>
                </a:cubicBezTo>
                <a:cubicBezTo>
                  <a:pt x="8" y="31"/>
                  <a:pt x="31" y="8"/>
                  <a:pt x="60" y="8"/>
                </a:cubicBezTo>
                <a:cubicBezTo>
                  <a:pt x="89" y="8"/>
                  <a:pt x="112" y="31"/>
                  <a:pt x="112" y="60"/>
                </a:cubicBezTo>
                <a:cubicBezTo>
                  <a:pt x="112" y="89"/>
                  <a:pt x="89" y="112"/>
                  <a:pt x="60" y="112"/>
                </a:cubicBezTo>
                <a:close/>
                <a:moveTo>
                  <a:pt x="56" y="54"/>
                </a:moveTo>
                <a:cubicBezTo>
                  <a:pt x="70" y="41"/>
                  <a:pt x="70" y="41"/>
                  <a:pt x="70" y="41"/>
                </a:cubicBezTo>
                <a:cubicBezTo>
                  <a:pt x="66" y="60"/>
                  <a:pt x="66" y="60"/>
                  <a:pt x="66" y="60"/>
                </a:cubicBezTo>
                <a:cubicBezTo>
                  <a:pt x="73" y="64"/>
                  <a:pt x="73" y="64"/>
                  <a:pt x="73" y="64"/>
                </a:cubicBezTo>
                <a:cubicBezTo>
                  <a:pt x="78" y="27"/>
                  <a:pt x="78" y="27"/>
                  <a:pt x="78" y="27"/>
                </a:cubicBezTo>
                <a:cubicBezTo>
                  <a:pt x="49" y="50"/>
                  <a:pt x="49" y="50"/>
                  <a:pt x="49" y="50"/>
                </a:cubicBezTo>
                <a:lnTo>
                  <a:pt x="56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4" name="Freeform 9"/>
          <p:cNvSpPr/>
          <p:nvPr/>
        </p:nvSpPr>
        <p:spPr>
          <a:xfrm>
            <a:off x="3794040" y="4017960"/>
            <a:ext cx="731880" cy="7286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0" y="0"/>
                </a:moveTo>
                <a:cubicBezTo>
                  <a:pt x="52" y="0"/>
                  <a:pt x="52" y="0"/>
                  <a:pt x="52" y="0"/>
                </a:cubicBezTo>
                <a:cubicBezTo>
                  <a:pt x="52" y="12"/>
                  <a:pt x="52" y="12"/>
                  <a:pt x="52" y="12"/>
                </a:cubicBezTo>
                <a:cubicBezTo>
                  <a:pt x="23" y="15"/>
                  <a:pt x="0" y="40"/>
                  <a:pt x="0" y="70"/>
                </a:cubicBezTo>
                <a:cubicBezTo>
                  <a:pt x="0" y="102"/>
                  <a:pt x="26" y="128"/>
                  <a:pt x="58" y="128"/>
                </a:cubicBezTo>
                <a:cubicBezTo>
                  <a:pt x="82" y="128"/>
                  <a:pt x="102" y="114"/>
                  <a:pt x="111" y="94"/>
                </a:cubicBezTo>
                <a:cubicBezTo>
                  <a:pt x="120" y="96"/>
                  <a:pt x="120" y="96"/>
                  <a:pt x="120" y="96"/>
                </a:cubicBezTo>
                <a:cubicBezTo>
                  <a:pt x="124" y="89"/>
                  <a:pt x="128" y="79"/>
                  <a:pt x="128" y="66"/>
                </a:cubicBezTo>
                <a:cubicBezTo>
                  <a:pt x="128" y="30"/>
                  <a:pt x="96" y="0"/>
                  <a:pt x="60" y="0"/>
                </a:cubicBezTo>
                <a:close/>
                <a:moveTo>
                  <a:pt x="58" y="120"/>
                </a:moveTo>
                <a:cubicBezTo>
                  <a:pt x="30" y="120"/>
                  <a:pt x="8" y="98"/>
                  <a:pt x="8" y="70"/>
                </a:cubicBezTo>
                <a:cubicBezTo>
                  <a:pt x="8" y="45"/>
                  <a:pt x="28" y="24"/>
                  <a:pt x="52" y="20"/>
                </a:cubicBezTo>
                <a:cubicBezTo>
                  <a:pt x="52" y="74"/>
                  <a:pt x="52" y="74"/>
                  <a:pt x="52" y="74"/>
                </a:cubicBezTo>
                <a:cubicBezTo>
                  <a:pt x="103" y="91"/>
                  <a:pt x="103" y="91"/>
                  <a:pt x="103" y="91"/>
                </a:cubicBezTo>
                <a:cubicBezTo>
                  <a:pt x="96" y="109"/>
                  <a:pt x="77" y="120"/>
                  <a:pt x="58" y="120"/>
                </a:cubicBezTo>
                <a:close/>
                <a:moveTo>
                  <a:pt x="114" y="86"/>
                </a:moveTo>
                <a:cubicBezTo>
                  <a:pt x="60" y="68"/>
                  <a:pt x="60" y="68"/>
                  <a:pt x="60" y="68"/>
                </a:cubicBezTo>
                <a:cubicBezTo>
                  <a:pt x="60" y="8"/>
                  <a:pt x="60" y="8"/>
                  <a:pt x="60" y="8"/>
                </a:cubicBezTo>
                <a:cubicBezTo>
                  <a:pt x="91" y="8"/>
                  <a:pt x="120" y="35"/>
                  <a:pt x="120" y="66"/>
                </a:cubicBezTo>
                <a:cubicBezTo>
                  <a:pt x="120" y="75"/>
                  <a:pt x="117" y="81"/>
                  <a:pt x="114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5" name="Freeform 13"/>
          <p:cNvSpPr/>
          <p:nvPr/>
        </p:nvSpPr>
        <p:spPr>
          <a:xfrm>
            <a:off x="5748480" y="4017960"/>
            <a:ext cx="730080" cy="7286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4" y="0"/>
                </a:moveTo>
                <a:cubicBezTo>
                  <a:pt x="29" y="0"/>
                  <a:pt x="0" y="29"/>
                  <a:pt x="0" y="64"/>
                </a:cubicBezTo>
                <a:cubicBezTo>
                  <a:pt x="0" y="99"/>
                  <a:pt x="29" y="128"/>
                  <a:pt x="64" y="128"/>
                </a:cubicBezTo>
                <a:cubicBezTo>
                  <a:pt x="99" y="128"/>
                  <a:pt x="128" y="99"/>
                  <a:pt x="128" y="64"/>
                </a:cubicBezTo>
                <a:cubicBezTo>
                  <a:pt x="128" y="29"/>
                  <a:pt x="99" y="0"/>
                  <a:pt x="64" y="0"/>
                </a:cubicBezTo>
                <a:close/>
                <a:moveTo>
                  <a:pt x="110" y="33"/>
                </a:moveTo>
                <a:cubicBezTo>
                  <a:pt x="116" y="41"/>
                  <a:pt x="119" y="50"/>
                  <a:pt x="120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8" y="53"/>
                  <a:pt x="87" y="45"/>
                  <a:pt x="86" y="38"/>
                </a:cubicBezTo>
                <a:cubicBezTo>
                  <a:pt x="94" y="37"/>
                  <a:pt x="103" y="35"/>
                  <a:pt x="110" y="33"/>
                </a:cubicBezTo>
                <a:close/>
                <a:moveTo>
                  <a:pt x="105" y="26"/>
                </a:moveTo>
                <a:cubicBezTo>
                  <a:pt x="98" y="28"/>
                  <a:pt x="91" y="29"/>
                  <a:pt x="84" y="30"/>
                </a:cubicBezTo>
                <a:cubicBezTo>
                  <a:pt x="83" y="23"/>
                  <a:pt x="80" y="16"/>
                  <a:pt x="78" y="10"/>
                </a:cubicBezTo>
                <a:cubicBezTo>
                  <a:pt x="88" y="12"/>
                  <a:pt x="98" y="18"/>
                  <a:pt x="105" y="26"/>
                </a:cubicBezTo>
                <a:close/>
                <a:moveTo>
                  <a:pt x="48" y="60"/>
                </a:moveTo>
                <a:cubicBezTo>
                  <a:pt x="48" y="53"/>
                  <a:pt x="49" y="46"/>
                  <a:pt x="50" y="39"/>
                </a:cubicBezTo>
                <a:cubicBezTo>
                  <a:pt x="55" y="40"/>
                  <a:pt x="59" y="40"/>
                  <a:pt x="64" y="40"/>
                </a:cubicBezTo>
                <a:cubicBezTo>
                  <a:pt x="69" y="40"/>
                  <a:pt x="73" y="40"/>
                  <a:pt x="78" y="39"/>
                </a:cubicBezTo>
                <a:cubicBezTo>
                  <a:pt x="79" y="46"/>
                  <a:pt x="80" y="53"/>
                  <a:pt x="80" y="60"/>
                </a:cubicBezTo>
                <a:lnTo>
                  <a:pt x="48" y="60"/>
                </a:lnTo>
                <a:close/>
                <a:moveTo>
                  <a:pt x="80" y="68"/>
                </a:moveTo>
                <a:cubicBezTo>
                  <a:pt x="80" y="75"/>
                  <a:pt x="79" y="82"/>
                  <a:pt x="78" y="89"/>
                </a:cubicBezTo>
                <a:cubicBezTo>
                  <a:pt x="73" y="88"/>
                  <a:pt x="69" y="88"/>
                  <a:pt x="64" y="88"/>
                </a:cubicBezTo>
                <a:cubicBezTo>
                  <a:pt x="59" y="88"/>
                  <a:pt x="55" y="88"/>
                  <a:pt x="50" y="89"/>
                </a:cubicBezTo>
                <a:cubicBezTo>
                  <a:pt x="49" y="82"/>
                  <a:pt x="48" y="75"/>
                  <a:pt x="48" y="68"/>
                </a:cubicBezTo>
                <a:lnTo>
                  <a:pt x="80" y="68"/>
                </a:lnTo>
                <a:close/>
                <a:moveTo>
                  <a:pt x="60" y="8"/>
                </a:moveTo>
                <a:cubicBezTo>
                  <a:pt x="61" y="8"/>
                  <a:pt x="63" y="8"/>
                  <a:pt x="64" y="8"/>
                </a:cubicBezTo>
                <a:cubicBezTo>
                  <a:pt x="65" y="8"/>
                  <a:pt x="67" y="8"/>
                  <a:pt x="68" y="8"/>
                </a:cubicBezTo>
                <a:cubicBezTo>
                  <a:pt x="71" y="15"/>
                  <a:pt x="74" y="23"/>
                  <a:pt x="76" y="32"/>
                </a:cubicBezTo>
                <a:cubicBezTo>
                  <a:pt x="72" y="32"/>
                  <a:pt x="68" y="32"/>
                  <a:pt x="64" y="32"/>
                </a:cubicBezTo>
                <a:cubicBezTo>
                  <a:pt x="60" y="32"/>
                  <a:pt x="56" y="32"/>
                  <a:pt x="52" y="32"/>
                </a:cubicBezTo>
                <a:cubicBezTo>
                  <a:pt x="54" y="23"/>
                  <a:pt x="57" y="15"/>
                  <a:pt x="60" y="8"/>
                </a:cubicBezTo>
                <a:close/>
                <a:moveTo>
                  <a:pt x="50" y="10"/>
                </a:moveTo>
                <a:cubicBezTo>
                  <a:pt x="48" y="16"/>
                  <a:pt x="45" y="23"/>
                  <a:pt x="44" y="30"/>
                </a:cubicBezTo>
                <a:cubicBezTo>
                  <a:pt x="37" y="29"/>
                  <a:pt x="30" y="28"/>
                  <a:pt x="23" y="26"/>
                </a:cubicBezTo>
                <a:cubicBezTo>
                  <a:pt x="30" y="18"/>
                  <a:pt x="40" y="12"/>
                  <a:pt x="50" y="10"/>
                </a:cubicBezTo>
                <a:close/>
                <a:moveTo>
                  <a:pt x="18" y="33"/>
                </a:moveTo>
                <a:cubicBezTo>
                  <a:pt x="25" y="35"/>
                  <a:pt x="34" y="37"/>
                  <a:pt x="42" y="38"/>
                </a:cubicBezTo>
                <a:cubicBezTo>
                  <a:pt x="41" y="45"/>
                  <a:pt x="40" y="53"/>
                  <a:pt x="40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9" y="50"/>
                  <a:pt x="12" y="41"/>
                  <a:pt x="18" y="33"/>
                </a:cubicBezTo>
                <a:close/>
                <a:moveTo>
                  <a:pt x="18" y="95"/>
                </a:moveTo>
                <a:cubicBezTo>
                  <a:pt x="12" y="87"/>
                  <a:pt x="9" y="78"/>
                  <a:pt x="8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75"/>
                  <a:pt x="41" y="83"/>
                  <a:pt x="42" y="90"/>
                </a:cubicBezTo>
                <a:cubicBezTo>
                  <a:pt x="34" y="91"/>
                  <a:pt x="25" y="93"/>
                  <a:pt x="18" y="95"/>
                </a:cubicBezTo>
                <a:close/>
                <a:moveTo>
                  <a:pt x="23" y="102"/>
                </a:moveTo>
                <a:cubicBezTo>
                  <a:pt x="30" y="100"/>
                  <a:pt x="37" y="99"/>
                  <a:pt x="44" y="98"/>
                </a:cubicBezTo>
                <a:cubicBezTo>
                  <a:pt x="45" y="105"/>
                  <a:pt x="48" y="112"/>
                  <a:pt x="50" y="118"/>
                </a:cubicBezTo>
                <a:cubicBezTo>
                  <a:pt x="40" y="116"/>
                  <a:pt x="30" y="110"/>
                  <a:pt x="23" y="102"/>
                </a:cubicBezTo>
                <a:close/>
                <a:moveTo>
                  <a:pt x="68" y="120"/>
                </a:moveTo>
                <a:cubicBezTo>
                  <a:pt x="67" y="120"/>
                  <a:pt x="65" y="120"/>
                  <a:pt x="64" y="120"/>
                </a:cubicBezTo>
                <a:cubicBezTo>
                  <a:pt x="63" y="120"/>
                  <a:pt x="61" y="120"/>
                  <a:pt x="60" y="120"/>
                </a:cubicBezTo>
                <a:cubicBezTo>
                  <a:pt x="57" y="113"/>
                  <a:pt x="54" y="105"/>
                  <a:pt x="52" y="96"/>
                </a:cubicBezTo>
                <a:cubicBezTo>
                  <a:pt x="56" y="96"/>
                  <a:pt x="60" y="96"/>
                  <a:pt x="64" y="96"/>
                </a:cubicBezTo>
                <a:cubicBezTo>
                  <a:pt x="68" y="96"/>
                  <a:pt x="72" y="96"/>
                  <a:pt x="76" y="96"/>
                </a:cubicBezTo>
                <a:cubicBezTo>
                  <a:pt x="74" y="105"/>
                  <a:pt x="71" y="113"/>
                  <a:pt x="68" y="120"/>
                </a:cubicBezTo>
                <a:close/>
                <a:moveTo>
                  <a:pt x="78" y="118"/>
                </a:moveTo>
                <a:cubicBezTo>
                  <a:pt x="80" y="112"/>
                  <a:pt x="83" y="105"/>
                  <a:pt x="84" y="98"/>
                </a:cubicBezTo>
                <a:cubicBezTo>
                  <a:pt x="91" y="99"/>
                  <a:pt x="98" y="100"/>
                  <a:pt x="105" y="102"/>
                </a:cubicBezTo>
                <a:cubicBezTo>
                  <a:pt x="98" y="110"/>
                  <a:pt x="88" y="116"/>
                  <a:pt x="78" y="118"/>
                </a:cubicBezTo>
                <a:close/>
                <a:moveTo>
                  <a:pt x="110" y="95"/>
                </a:moveTo>
                <a:cubicBezTo>
                  <a:pt x="103" y="93"/>
                  <a:pt x="94" y="91"/>
                  <a:pt x="86" y="90"/>
                </a:cubicBezTo>
                <a:cubicBezTo>
                  <a:pt x="87" y="83"/>
                  <a:pt x="88" y="75"/>
                  <a:pt x="88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19" y="78"/>
                  <a:pt x="116" y="87"/>
                  <a:pt x="110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128736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7" name="Title 1"/>
          <p:cNvSpPr/>
          <p:nvPr/>
        </p:nvSpPr>
        <p:spPr>
          <a:xfrm>
            <a:off x="1249200" y="4943520"/>
            <a:ext cx="19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8" name="TextBox 41"/>
          <p:cNvSpPr/>
          <p:nvPr/>
        </p:nvSpPr>
        <p:spPr>
          <a:xfrm>
            <a:off x="324468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9" name="Title 1"/>
          <p:cNvSpPr/>
          <p:nvPr/>
        </p:nvSpPr>
        <p:spPr>
          <a:xfrm>
            <a:off x="3206880" y="4943520"/>
            <a:ext cx="1908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0" name="TextBox 44"/>
          <p:cNvSpPr/>
          <p:nvPr/>
        </p:nvSpPr>
        <p:spPr>
          <a:xfrm>
            <a:off x="519732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1" name="Title 1"/>
          <p:cNvSpPr/>
          <p:nvPr/>
        </p:nvSpPr>
        <p:spPr>
          <a:xfrm>
            <a:off x="5159520" y="4943520"/>
            <a:ext cx="1908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7175520" y="1969920"/>
            <a:ext cx="359712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8" name="" descr=""/>
          <p:cNvPicPr/>
          <p:nvPr/>
        </p:nvPicPr>
        <p:blipFill>
          <a:blip r:embed="rId1"/>
          <a:stretch/>
        </p:blipFill>
        <p:spPr>
          <a:xfrm>
            <a:off x="-360" y="342864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799" name="Rectangle 7"/>
          <p:cNvSpPr/>
          <p:nvPr/>
        </p:nvSpPr>
        <p:spPr>
          <a:xfrm>
            <a:off x="1474920" y="2814480"/>
            <a:ext cx="9242280" cy="122904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8080" y="2960640"/>
            <a:ext cx="1051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Thank You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801" name="TextBox 10"/>
          <p:cNvSpPr/>
          <p:nvPr/>
        </p:nvSpPr>
        <p:spPr>
          <a:xfrm>
            <a:off x="5132520" y="104292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Roboto Slab"/>
              </a:rPr>
              <a:t>Contact Us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2" name="Freeform 171"/>
          <p:cNvSpPr/>
          <p:nvPr/>
        </p:nvSpPr>
        <p:spPr>
          <a:xfrm>
            <a:off x="1109520" y="1825560"/>
            <a:ext cx="516240" cy="478080"/>
          </a:xfrm>
          <a:custGeom>
            <a:avLst/>
            <a:gdLst/>
            <a:ahLst/>
            <a:rect l="l" t="t" r="r" b="b"/>
            <a:pathLst>
              <a:path w="146" h="135">
                <a:moveTo>
                  <a:pt x="120" y="35"/>
                </a:moveTo>
                <a:lnTo>
                  <a:pt x="120" y="2"/>
                </a:lnTo>
                <a:lnTo>
                  <a:pt x="102" y="2"/>
                </a:lnTo>
                <a:lnTo>
                  <a:pt x="102" y="21"/>
                </a:lnTo>
                <a:lnTo>
                  <a:pt x="73" y="0"/>
                </a:lnTo>
                <a:lnTo>
                  <a:pt x="0" y="56"/>
                </a:lnTo>
                <a:lnTo>
                  <a:pt x="12" y="71"/>
                </a:lnTo>
                <a:lnTo>
                  <a:pt x="19" y="66"/>
                </a:lnTo>
                <a:lnTo>
                  <a:pt x="19" y="135"/>
                </a:lnTo>
                <a:lnTo>
                  <a:pt x="128" y="135"/>
                </a:lnTo>
                <a:lnTo>
                  <a:pt x="128" y="66"/>
                </a:lnTo>
                <a:lnTo>
                  <a:pt x="135" y="71"/>
                </a:lnTo>
                <a:lnTo>
                  <a:pt x="146" y="56"/>
                </a:lnTo>
                <a:lnTo>
                  <a:pt x="120" y="35"/>
                </a:lnTo>
                <a:close/>
                <a:moveTo>
                  <a:pt x="116" y="125"/>
                </a:moveTo>
                <a:lnTo>
                  <a:pt x="92" y="125"/>
                </a:lnTo>
                <a:lnTo>
                  <a:pt x="92" y="85"/>
                </a:lnTo>
                <a:lnTo>
                  <a:pt x="54" y="85"/>
                </a:lnTo>
                <a:lnTo>
                  <a:pt x="54" y="125"/>
                </a:lnTo>
                <a:lnTo>
                  <a:pt x="31" y="125"/>
                </a:lnTo>
                <a:lnTo>
                  <a:pt x="31" y="59"/>
                </a:lnTo>
                <a:lnTo>
                  <a:pt x="73" y="26"/>
                </a:lnTo>
                <a:lnTo>
                  <a:pt x="116" y="59"/>
                </a:lnTo>
                <a:lnTo>
                  <a:pt x="116" y="125"/>
                </a:lnTo>
                <a:close/>
              </a:path>
            </a:pathLst>
          </a:cu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3" name="TextBox 12"/>
          <p:cNvSpPr/>
          <p:nvPr/>
        </p:nvSpPr>
        <p:spPr>
          <a:xfrm>
            <a:off x="1809720" y="1741320"/>
            <a:ext cx="2297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804" name="Group 13" descr=""/>
          <p:cNvPicPr/>
          <p:nvPr/>
        </p:nvPicPr>
        <p:blipFill>
          <a:blip r:embed="rId2"/>
          <a:stretch/>
        </p:blipFill>
        <p:spPr>
          <a:xfrm>
            <a:off x="4548240" y="1908000"/>
            <a:ext cx="487440" cy="311400"/>
          </a:xfrm>
          <a:prstGeom prst="rect">
            <a:avLst/>
          </a:prstGeom>
          <a:ln w="0">
            <a:noFill/>
          </a:ln>
        </p:spPr>
      </p:pic>
      <p:sp>
        <p:nvSpPr>
          <p:cNvPr id="1805" name="TextBox 18"/>
          <p:cNvSpPr/>
          <p:nvPr/>
        </p:nvSpPr>
        <p:spPr>
          <a:xfrm>
            <a:off x="5194440" y="1741320"/>
            <a:ext cx="229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6" name="Freeform 107"/>
          <p:cNvSpPr/>
          <p:nvPr/>
        </p:nvSpPr>
        <p:spPr>
          <a:xfrm>
            <a:off x="8167680" y="1825560"/>
            <a:ext cx="453960" cy="476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57" y="48"/>
                </a:moveTo>
                <a:cubicBezTo>
                  <a:pt x="56" y="48"/>
                  <a:pt x="56" y="48"/>
                  <a:pt x="56" y="48"/>
                </a:cubicBezTo>
                <a:cubicBezTo>
                  <a:pt x="55" y="45"/>
                  <a:pt x="44" y="42"/>
                  <a:pt x="43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2"/>
                  <a:pt x="38" y="44"/>
                  <a:pt x="35" y="47"/>
                </a:cubicBezTo>
                <a:cubicBezTo>
                  <a:pt x="31" y="45"/>
                  <a:pt x="25" y="40"/>
                  <a:pt x="22" y="37"/>
                </a:cubicBezTo>
                <a:cubicBezTo>
                  <a:pt x="19" y="34"/>
                  <a:pt x="15" y="28"/>
                  <a:pt x="14" y="24"/>
                </a:cubicBezTo>
                <a:cubicBezTo>
                  <a:pt x="18" y="20"/>
                  <a:pt x="20" y="18"/>
                  <a:pt x="20" y="17"/>
                </a:cubicBezTo>
                <a:cubicBezTo>
                  <a:pt x="20" y="16"/>
                  <a:pt x="18" y="3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4" y="1"/>
                  <a:pt x="12" y="0"/>
                  <a:pt x="10" y="0"/>
                </a:cubicBezTo>
                <a:cubicBezTo>
                  <a:pt x="9" y="0"/>
                  <a:pt x="9" y="0"/>
                  <a:pt x="8" y="1"/>
                </a:cubicBezTo>
                <a:cubicBezTo>
                  <a:pt x="7" y="2"/>
                  <a:pt x="3" y="4"/>
                  <a:pt x="1" y="8"/>
                </a:cubicBezTo>
                <a:cubicBezTo>
                  <a:pt x="0" y="10"/>
                  <a:pt x="0" y="29"/>
                  <a:pt x="14" y="46"/>
                </a:cubicBezTo>
                <a:cubicBezTo>
                  <a:pt x="29" y="62"/>
                  <a:pt x="46" y="62"/>
                  <a:pt x="49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53" y="61"/>
                  <a:pt x="56" y="57"/>
                  <a:pt x="57" y="56"/>
                </a:cubicBezTo>
                <a:cubicBezTo>
                  <a:pt x="59" y="53"/>
                  <a:pt x="58" y="50"/>
                  <a:pt x="57" y="48"/>
                </a:cubicBezTo>
                <a:close/>
              </a:path>
            </a:pathLst>
          </a:cu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7" name="TextBox 20"/>
          <p:cNvSpPr/>
          <p:nvPr/>
        </p:nvSpPr>
        <p:spPr>
          <a:xfrm>
            <a:off x="8786880" y="1741320"/>
            <a:ext cx="229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3" dur="indefinite" restart="never" nodeType="tmRoot">
          <p:childTnLst>
            <p:seq>
              <p:cTn id="1874" dur="indefinite" nodeType="mainSeq">
                <p:childTnLst>
                  <p:par>
                    <p:cTn id="1875" fill="hold">
                      <p:stCondLst>
                        <p:cond delay="0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3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7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3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Mission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64" name="Rectangle 5"/>
          <p:cNvSpPr/>
          <p:nvPr/>
        </p:nvSpPr>
        <p:spPr>
          <a:xfrm>
            <a:off x="3772080" y="1873080"/>
            <a:ext cx="3092400" cy="404676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5" name="TextBox 12"/>
          <p:cNvSpPr/>
          <p:nvPr/>
        </p:nvSpPr>
        <p:spPr>
          <a:xfrm>
            <a:off x="3951360" y="2225520"/>
            <a:ext cx="2732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  <a:ea typeface="Helvetica Neue Thin"/>
              </a:rPr>
              <a:t>Company Objectiv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6" name="TextBox 13"/>
          <p:cNvSpPr/>
          <p:nvPr/>
        </p:nvSpPr>
        <p:spPr>
          <a:xfrm>
            <a:off x="3951360" y="2773440"/>
            <a:ext cx="27320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 non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7" name="Freeform 5"/>
          <p:cNvSpPr/>
          <p:nvPr/>
        </p:nvSpPr>
        <p:spPr>
          <a:xfrm>
            <a:off x="7253280" y="2225520"/>
            <a:ext cx="547560" cy="5479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4" y="96"/>
                </a:moveTo>
                <a:cubicBezTo>
                  <a:pt x="59" y="96"/>
                  <a:pt x="59" y="96"/>
                  <a:pt x="59" y="96"/>
                </a:cubicBezTo>
                <a:cubicBezTo>
                  <a:pt x="58" y="89"/>
                  <a:pt x="51" y="84"/>
                  <a:pt x="44" y="84"/>
                </a:cubicBezTo>
                <a:cubicBezTo>
                  <a:pt x="37" y="84"/>
                  <a:pt x="30" y="89"/>
                  <a:pt x="29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2" y="96"/>
                  <a:pt x="20" y="98"/>
                  <a:pt x="20" y="100"/>
                </a:cubicBezTo>
                <a:cubicBezTo>
                  <a:pt x="20" y="102"/>
                  <a:pt x="22" y="104"/>
                  <a:pt x="2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30" y="111"/>
                  <a:pt x="37" y="116"/>
                  <a:pt x="44" y="116"/>
                </a:cubicBezTo>
                <a:cubicBezTo>
                  <a:pt x="51" y="116"/>
                  <a:pt x="58" y="111"/>
                  <a:pt x="59" y="10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106" y="104"/>
                  <a:pt x="108" y="102"/>
                  <a:pt x="108" y="100"/>
                </a:cubicBezTo>
                <a:cubicBezTo>
                  <a:pt x="108" y="98"/>
                  <a:pt x="106" y="96"/>
                  <a:pt x="104" y="96"/>
                </a:cubicBezTo>
                <a:close/>
                <a:moveTo>
                  <a:pt x="44" y="110"/>
                </a:moveTo>
                <a:cubicBezTo>
                  <a:pt x="39" y="110"/>
                  <a:pt x="34" y="105"/>
                  <a:pt x="34" y="100"/>
                </a:cubicBezTo>
                <a:cubicBezTo>
                  <a:pt x="34" y="95"/>
                  <a:pt x="39" y="90"/>
                  <a:pt x="44" y="90"/>
                </a:cubicBezTo>
                <a:cubicBezTo>
                  <a:pt x="49" y="90"/>
                  <a:pt x="54" y="95"/>
                  <a:pt x="54" y="100"/>
                </a:cubicBezTo>
                <a:cubicBezTo>
                  <a:pt x="54" y="105"/>
                  <a:pt x="49" y="110"/>
                  <a:pt x="44" y="110"/>
                </a:cubicBezTo>
                <a:close/>
                <a:moveTo>
                  <a:pt x="104" y="32"/>
                </a:moveTo>
                <a:cubicBezTo>
                  <a:pt x="59" y="32"/>
                  <a:pt x="59" y="32"/>
                  <a:pt x="59" y="32"/>
                </a:cubicBezTo>
                <a:cubicBezTo>
                  <a:pt x="58" y="25"/>
                  <a:pt x="51" y="20"/>
                  <a:pt x="44" y="20"/>
                </a:cubicBezTo>
                <a:cubicBezTo>
                  <a:pt x="37" y="20"/>
                  <a:pt x="30" y="25"/>
                  <a:pt x="29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2" y="32"/>
                  <a:pt x="20" y="34"/>
                  <a:pt x="20" y="36"/>
                </a:cubicBezTo>
                <a:cubicBezTo>
                  <a:pt x="20" y="38"/>
                  <a:pt x="22" y="40"/>
                  <a:pt x="24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7"/>
                  <a:pt x="37" y="52"/>
                  <a:pt x="44" y="52"/>
                </a:cubicBezTo>
                <a:cubicBezTo>
                  <a:pt x="51" y="52"/>
                  <a:pt x="58" y="47"/>
                  <a:pt x="59" y="40"/>
                </a:cubicBezTo>
                <a:cubicBezTo>
                  <a:pt x="104" y="40"/>
                  <a:pt x="104" y="40"/>
                  <a:pt x="104" y="40"/>
                </a:cubicBezTo>
                <a:cubicBezTo>
                  <a:pt x="106" y="40"/>
                  <a:pt x="108" y="38"/>
                  <a:pt x="108" y="36"/>
                </a:cubicBezTo>
                <a:cubicBezTo>
                  <a:pt x="108" y="34"/>
                  <a:pt x="106" y="32"/>
                  <a:pt x="104" y="32"/>
                </a:cubicBezTo>
                <a:close/>
                <a:moveTo>
                  <a:pt x="44" y="46"/>
                </a:moveTo>
                <a:cubicBezTo>
                  <a:pt x="39" y="46"/>
                  <a:pt x="34" y="41"/>
                  <a:pt x="34" y="36"/>
                </a:cubicBezTo>
                <a:cubicBezTo>
                  <a:pt x="34" y="31"/>
                  <a:pt x="39" y="26"/>
                  <a:pt x="44" y="26"/>
                </a:cubicBezTo>
                <a:cubicBezTo>
                  <a:pt x="49" y="26"/>
                  <a:pt x="54" y="31"/>
                  <a:pt x="54" y="36"/>
                </a:cubicBezTo>
                <a:cubicBezTo>
                  <a:pt x="54" y="41"/>
                  <a:pt x="49" y="46"/>
                  <a:pt x="44" y="46"/>
                </a:cubicBezTo>
                <a:close/>
                <a:moveTo>
                  <a:pt x="104" y="64"/>
                </a:moveTo>
                <a:cubicBezTo>
                  <a:pt x="95" y="64"/>
                  <a:pt x="95" y="64"/>
                  <a:pt x="95" y="64"/>
                </a:cubicBezTo>
                <a:cubicBezTo>
                  <a:pt x="94" y="57"/>
                  <a:pt x="87" y="52"/>
                  <a:pt x="80" y="52"/>
                </a:cubicBezTo>
                <a:cubicBezTo>
                  <a:pt x="73" y="52"/>
                  <a:pt x="66" y="57"/>
                  <a:pt x="65" y="64"/>
                </a:cubicBezTo>
                <a:cubicBezTo>
                  <a:pt x="24" y="64"/>
                  <a:pt x="24" y="64"/>
                  <a:pt x="24" y="64"/>
                </a:cubicBezTo>
                <a:cubicBezTo>
                  <a:pt x="22" y="64"/>
                  <a:pt x="20" y="66"/>
                  <a:pt x="20" y="68"/>
                </a:cubicBezTo>
                <a:cubicBezTo>
                  <a:pt x="20" y="70"/>
                  <a:pt x="22" y="72"/>
                  <a:pt x="24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6" y="79"/>
                  <a:pt x="73" y="84"/>
                  <a:pt x="80" y="84"/>
                </a:cubicBezTo>
                <a:cubicBezTo>
                  <a:pt x="87" y="84"/>
                  <a:pt x="94" y="79"/>
                  <a:pt x="95" y="72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106" y="72"/>
                  <a:pt x="108" y="70"/>
                  <a:pt x="108" y="68"/>
                </a:cubicBezTo>
                <a:cubicBezTo>
                  <a:pt x="108" y="66"/>
                  <a:pt x="106" y="64"/>
                  <a:pt x="104" y="64"/>
                </a:cubicBezTo>
                <a:close/>
                <a:moveTo>
                  <a:pt x="80" y="78"/>
                </a:moveTo>
                <a:cubicBezTo>
                  <a:pt x="75" y="78"/>
                  <a:pt x="70" y="73"/>
                  <a:pt x="70" y="68"/>
                </a:cubicBezTo>
                <a:cubicBezTo>
                  <a:pt x="70" y="63"/>
                  <a:pt x="75" y="58"/>
                  <a:pt x="80" y="58"/>
                </a:cubicBezTo>
                <a:cubicBezTo>
                  <a:pt x="85" y="58"/>
                  <a:pt x="90" y="63"/>
                  <a:pt x="90" y="68"/>
                </a:cubicBezTo>
                <a:cubicBezTo>
                  <a:pt x="90" y="73"/>
                  <a:pt x="85" y="78"/>
                  <a:pt x="80" y="78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8" name="Freeform 9"/>
          <p:cNvSpPr/>
          <p:nvPr/>
        </p:nvSpPr>
        <p:spPr>
          <a:xfrm>
            <a:off x="7253280" y="3387600"/>
            <a:ext cx="547560" cy="584280"/>
          </a:xfrm>
          <a:custGeom>
            <a:avLst/>
            <a:gdLst/>
            <a:ahLst/>
            <a:rect l="l" t="t" r="r" b="b"/>
            <a:pathLst>
              <a:path w="120" h="128">
                <a:moveTo>
                  <a:pt x="88" y="112"/>
                </a:moveTo>
                <a:cubicBezTo>
                  <a:pt x="96" y="112"/>
                  <a:pt x="96" y="112"/>
                  <a:pt x="96" y="112"/>
                </a:cubicBezTo>
                <a:cubicBezTo>
                  <a:pt x="100" y="112"/>
                  <a:pt x="104" y="108"/>
                  <a:pt x="104" y="104"/>
                </a:cubicBezTo>
                <a:cubicBezTo>
                  <a:pt x="104" y="96"/>
                  <a:pt x="104" y="96"/>
                  <a:pt x="104" y="96"/>
                </a:cubicBezTo>
                <a:cubicBezTo>
                  <a:pt x="104" y="92"/>
                  <a:pt x="100" y="88"/>
                  <a:pt x="96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84" y="88"/>
                  <a:pt x="80" y="92"/>
                  <a:pt x="80" y="96"/>
                </a:cubicBezTo>
                <a:cubicBezTo>
                  <a:pt x="80" y="104"/>
                  <a:pt x="80" y="104"/>
                  <a:pt x="80" y="104"/>
                </a:cubicBezTo>
                <a:cubicBezTo>
                  <a:pt x="80" y="108"/>
                  <a:pt x="84" y="112"/>
                  <a:pt x="88" y="112"/>
                </a:cubicBezTo>
                <a:close/>
                <a:moveTo>
                  <a:pt x="88" y="96"/>
                </a:moveTo>
                <a:cubicBezTo>
                  <a:pt x="96" y="96"/>
                  <a:pt x="96" y="96"/>
                  <a:pt x="96" y="96"/>
                </a:cubicBezTo>
                <a:cubicBezTo>
                  <a:pt x="96" y="104"/>
                  <a:pt x="96" y="104"/>
                  <a:pt x="96" y="104"/>
                </a:cubicBezTo>
                <a:cubicBezTo>
                  <a:pt x="88" y="104"/>
                  <a:pt x="88" y="104"/>
                  <a:pt x="88" y="104"/>
                </a:cubicBezTo>
                <a:lnTo>
                  <a:pt x="88" y="96"/>
                </a:lnTo>
                <a:close/>
                <a:moveTo>
                  <a:pt x="88" y="80"/>
                </a:moveTo>
                <a:cubicBezTo>
                  <a:pt x="96" y="80"/>
                  <a:pt x="96" y="80"/>
                  <a:pt x="96" y="80"/>
                </a:cubicBezTo>
                <a:cubicBezTo>
                  <a:pt x="100" y="80"/>
                  <a:pt x="104" y="76"/>
                  <a:pt x="104" y="72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0"/>
                  <a:pt x="100" y="56"/>
                  <a:pt x="96" y="56"/>
                </a:cubicBezTo>
                <a:cubicBezTo>
                  <a:pt x="88" y="56"/>
                  <a:pt x="88" y="56"/>
                  <a:pt x="88" y="56"/>
                </a:cubicBezTo>
                <a:cubicBezTo>
                  <a:pt x="84" y="56"/>
                  <a:pt x="80" y="60"/>
                  <a:pt x="80" y="64"/>
                </a:cubicBezTo>
                <a:cubicBezTo>
                  <a:pt x="80" y="72"/>
                  <a:pt x="80" y="72"/>
                  <a:pt x="80" y="72"/>
                </a:cubicBezTo>
                <a:cubicBezTo>
                  <a:pt x="80" y="76"/>
                  <a:pt x="84" y="80"/>
                  <a:pt x="88" y="80"/>
                </a:cubicBezTo>
                <a:close/>
                <a:moveTo>
                  <a:pt x="88" y="64"/>
                </a:moveTo>
                <a:cubicBezTo>
                  <a:pt x="96" y="64"/>
                  <a:pt x="96" y="64"/>
                  <a:pt x="96" y="64"/>
                </a:cubicBezTo>
                <a:cubicBezTo>
                  <a:pt x="96" y="72"/>
                  <a:pt x="96" y="72"/>
                  <a:pt x="96" y="72"/>
                </a:cubicBezTo>
                <a:cubicBezTo>
                  <a:pt x="88" y="72"/>
                  <a:pt x="88" y="72"/>
                  <a:pt x="88" y="72"/>
                </a:cubicBezTo>
                <a:lnTo>
                  <a:pt x="88" y="64"/>
                </a:lnTo>
                <a:close/>
                <a:moveTo>
                  <a:pt x="104" y="8"/>
                </a:moveTo>
                <a:cubicBezTo>
                  <a:pt x="88" y="8"/>
                  <a:pt x="88" y="8"/>
                  <a:pt x="88" y="8"/>
                </a:cubicBezTo>
                <a:cubicBezTo>
                  <a:pt x="88" y="4"/>
                  <a:pt x="88" y="4"/>
                  <a:pt x="88" y="4"/>
                </a:cubicBezTo>
                <a:cubicBezTo>
                  <a:pt x="88" y="2"/>
                  <a:pt x="86" y="0"/>
                  <a:pt x="84" y="0"/>
                </a:cubicBezTo>
                <a:cubicBezTo>
                  <a:pt x="82" y="0"/>
                  <a:pt x="80" y="2"/>
                  <a:pt x="80" y="4"/>
                </a:cubicBezTo>
                <a:cubicBezTo>
                  <a:pt x="80" y="8"/>
                  <a:pt x="80" y="8"/>
                  <a:pt x="80" y="8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2"/>
                  <a:pt x="38" y="0"/>
                  <a:pt x="36" y="0"/>
                </a:cubicBezTo>
                <a:cubicBezTo>
                  <a:pt x="34" y="0"/>
                  <a:pt x="32" y="2"/>
                  <a:pt x="32" y="4"/>
                </a:cubicBezTo>
                <a:cubicBezTo>
                  <a:pt x="32" y="8"/>
                  <a:pt x="32" y="8"/>
                  <a:pt x="32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7" y="8"/>
                  <a:pt x="0" y="15"/>
                  <a:pt x="0" y="24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04" y="128"/>
                  <a:pt x="104" y="128"/>
                  <a:pt x="104" y="128"/>
                </a:cubicBezTo>
                <a:cubicBezTo>
                  <a:pt x="113" y="128"/>
                  <a:pt x="120" y="121"/>
                  <a:pt x="120" y="112"/>
                </a:cubicBezTo>
                <a:cubicBezTo>
                  <a:pt x="120" y="24"/>
                  <a:pt x="120" y="24"/>
                  <a:pt x="120" y="24"/>
                </a:cubicBezTo>
                <a:cubicBezTo>
                  <a:pt x="120" y="15"/>
                  <a:pt x="113" y="8"/>
                  <a:pt x="104" y="8"/>
                </a:cubicBezTo>
                <a:close/>
                <a:moveTo>
                  <a:pt x="112" y="112"/>
                </a:moveTo>
                <a:cubicBezTo>
                  <a:pt x="112" y="116"/>
                  <a:pt x="108" y="120"/>
                  <a:pt x="104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40"/>
                  <a:pt x="8" y="40"/>
                  <a:pt x="8" y="40"/>
                </a:cubicBezTo>
                <a:cubicBezTo>
                  <a:pt x="112" y="40"/>
                  <a:pt x="112" y="40"/>
                  <a:pt x="112" y="40"/>
                </a:cubicBezTo>
                <a:lnTo>
                  <a:pt x="112" y="112"/>
                </a:lnTo>
                <a:close/>
                <a:moveTo>
                  <a:pt x="112" y="32"/>
                </a:moveTo>
                <a:cubicBezTo>
                  <a:pt x="8" y="32"/>
                  <a:pt x="8" y="32"/>
                  <a:pt x="8" y="32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0"/>
                  <a:pt x="12" y="16"/>
                  <a:pt x="16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22"/>
                  <a:pt x="34" y="24"/>
                  <a:pt x="36" y="24"/>
                </a:cubicBezTo>
                <a:cubicBezTo>
                  <a:pt x="38" y="24"/>
                  <a:pt x="40" y="22"/>
                  <a:pt x="40" y="20"/>
                </a:cubicBezTo>
                <a:cubicBezTo>
                  <a:pt x="40" y="16"/>
                  <a:pt x="40" y="16"/>
                  <a:pt x="40" y="16"/>
                </a:cubicBezTo>
                <a:cubicBezTo>
                  <a:pt x="80" y="16"/>
                  <a:pt x="80" y="16"/>
                  <a:pt x="80" y="16"/>
                </a:cubicBezTo>
                <a:cubicBezTo>
                  <a:pt x="80" y="20"/>
                  <a:pt x="80" y="20"/>
                  <a:pt x="80" y="20"/>
                </a:cubicBezTo>
                <a:cubicBezTo>
                  <a:pt x="80" y="22"/>
                  <a:pt x="82" y="24"/>
                  <a:pt x="84" y="24"/>
                </a:cubicBezTo>
                <a:cubicBezTo>
                  <a:pt x="86" y="24"/>
                  <a:pt x="88" y="22"/>
                  <a:pt x="88" y="20"/>
                </a:cubicBezTo>
                <a:cubicBezTo>
                  <a:pt x="88" y="16"/>
                  <a:pt x="88" y="16"/>
                  <a:pt x="88" y="16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08" y="16"/>
                  <a:pt x="112" y="20"/>
                  <a:pt x="112" y="24"/>
                </a:cubicBezTo>
                <a:lnTo>
                  <a:pt x="112" y="32"/>
                </a:lnTo>
                <a:close/>
                <a:moveTo>
                  <a:pt x="24" y="80"/>
                </a:moveTo>
                <a:cubicBezTo>
                  <a:pt x="32" y="80"/>
                  <a:pt x="32" y="80"/>
                  <a:pt x="32" y="80"/>
                </a:cubicBezTo>
                <a:cubicBezTo>
                  <a:pt x="36" y="80"/>
                  <a:pt x="40" y="76"/>
                  <a:pt x="40" y="72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60"/>
                  <a:pt x="36" y="56"/>
                  <a:pt x="32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0" y="56"/>
                  <a:pt x="16" y="60"/>
                  <a:pt x="16" y="64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6"/>
                  <a:pt x="20" y="80"/>
                  <a:pt x="24" y="80"/>
                </a:cubicBezTo>
                <a:close/>
                <a:moveTo>
                  <a:pt x="24" y="64"/>
                </a:moveTo>
                <a:cubicBezTo>
                  <a:pt x="32" y="64"/>
                  <a:pt x="32" y="64"/>
                  <a:pt x="32" y="64"/>
                </a:cubicBezTo>
                <a:cubicBezTo>
                  <a:pt x="32" y="72"/>
                  <a:pt x="32" y="72"/>
                  <a:pt x="32" y="72"/>
                </a:cubicBezTo>
                <a:cubicBezTo>
                  <a:pt x="24" y="72"/>
                  <a:pt x="24" y="72"/>
                  <a:pt x="24" y="72"/>
                </a:cubicBezTo>
                <a:lnTo>
                  <a:pt x="24" y="64"/>
                </a:lnTo>
                <a:close/>
                <a:moveTo>
                  <a:pt x="56" y="80"/>
                </a:moveTo>
                <a:cubicBezTo>
                  <a:pt x="64" y="80"/>
                  <a:pt x="64" y="80"/>
                  <a:pt x="64" y="80"/>
                </a:cubicBezTo>
                <a:cubicBezTo>
                  <a:pt x="68" y="80"/>
                  <a:pt x="72" y="76"/>
                  <a:pt x="72" y="72"/>
                </a:cubicBezTo>
                <a:cubicBezTo>
                  <a:pt x="72" y="64"/>
                  <a:pt x="72" y="64"/>
                  <a:pt x="72" y="64"/>
                </a:cubicBezTo>
                <a:cubicBezTo>
                  <a:pt x="72" y="60"/>
                  <a:pt x="68" y="56"/>
                  <a:pt x="64" y="56"/>
                </a:cubicBezTo>
                <a:cubicBezTo>
                  <a:pt x="56" y="56"/>
                  <a:pt x="56" y="56"/>
                  <a:pt x="56" y="56"/>
                </a:cubicBezTo>
                <a:cubicBezTo>
                  <a:pt x="52" y="56"/>
                  <a:pt x="48" y="60"/>
                  <a:pt x="48" y="64"/>
                </a:cubicBezTo>
                <a:cubicBezTo>
                  <a:pt x="48" y="72"/>
                  <a:pt x="48" y="72"/>
                  <a:pt x="48" y="72"/>
                </a:cubicBezTo>
                <a:cubicBezTo>
                  <a:pt x="48" y="76"/>
                  <a:pt x="52" y="80"/>
                  <a:pt x="56" y="80"/>
                </a:cubicBezTo>
                <a:close/>
                <a:moveTo>
                  <a:pt x="56" y="64"/>
                </a:moveTo>
                <a:cubicBezTo>
                  <a:pt x="64" y="64"/>
                  <a:pt x="64" y="64"/>
                  <a:pt x="64" y="64"/>
                </a:cubicBezTo>
                <a:cubicBezTo>
                  <a:pt x="64" y="72"/>
                  <a:pt x="64" y="72"/>
                  <a:pt x="64" y="72"/>
                </a:cubicBezTo>
                <a:cubicBezTo>
                  <a:pt x="56" y="72"/>
                  <a:pt x="56" y="72"/>
                  <a:pt x="56" y="72"/>
                </a:cubicBezTo>
                <a:lnTo>
                  <a:pt x="56" y="64"/>
                </a:lnTo>
                <a:close/>
                <a:moveTo>
                  <a:pt x="24" y="112"/>
                </a:moveTo>
                <a:cubicBezTo>
                  <a:pt x="32" y="112"/>
                  <a:pt x="32" y="112"/>
                  <a:pt x="32" y="112"/>
                </a:cubicBezTo>
                <a:cubicBezTo>
                  <a:pt x="36" y="112"/>
                  <a:pt x="40" y="108"/>
                  <a:pt x="40" y="104"/>
                </a:cubicBezTo>
                <a:cubicBezTo>
                  <a:pt x="40" y="96"/>
                  <a:pt x="40" y="96"/>
                  <a:pt x="40" y="96"/>
                </a:cubicBezTo>
                <a:cubicBezTo>
                  <a:pt x="40" y="92"/>
                  <a:pt x="36" y="88"/>
                  <a:pt x="32" y="88"/>
                </a:cubicBezTo>
                <a:cubicBezTo>
                  <a:pt x="24" y="88"/>
                  <a:pt x="24" y="88"/>
                  <a:pt x="24" y="88"/>
                </a:cubicBezTo>
                <a:cubicBezTo>
                  <a:pt x="20" y="88"/>
                  <a:pt x="16" y="92"/>
                  <a:pt x="16" y="96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8"/>
                  <a:pt x="20" y="112"/>
                  <a:pt x="24" y="112"/>
                </a:cubicBezTo>
                <a:close/>
                <a:moveTo>
                  <a:pt x="24" y="96"/>
                </a:moveTo>
                <a:cubicBezTo>
                  <a:pt x="32" y="96"/>
                  <a:pt x="32" y="96"/>
                  <a:pt x="32" y="96"/>
                </a:cubicBezTo>
                <a:cubicBezTo>
                  <a:pt x="32" y="104"/>
                  <a:pt x="32" y="104"/>
                  <a:pt x="32" y="104"/>
                </a:cubicBezTo>
                <a:cubicBezTo>
                  <a:pt x="24" y="104"/>
                  <a:pt x="24" y="104"/>
                  <a:pt x="24" y="104"/>
                </a:cubicBezTo>
                <a:lnTo>
                  <a:pt x="24" y="96"/>
                </a:lnTo>
                <a:close/>
                <a:moveTo>
                  <a:pt x="56" y="112"/>
                </a:moveTo>
                <a:cubicBezTo>
                  <a:pt x="64" y="112"/>
                  <a:pt x="64" y="112"/>
                  <a:pt x="64" y="112"/>
                </a:cubicBezTo>
                <a:cubicBezTo>
                  <a:pt x="68" y="112"/>
                  <a:pt x="72" y="108"/>
                  <a:pt x="72" y="104"/>
                </a:cubicBezTo>
                <a:cubicBezTo>
                  <a:pt x="72" y="96"/>
                  <a:pt x="72" y="96"/>
                  <a:pt x="72" y="96"/>
                </a:cubicBezTo>
                <a:cubicBezTo>
                  <a:pt x="72" y="92"/>
                  <a:pt x="68" y="88"/>
                  <a:pt x="64" y="88"/>
                </a:cubicBezTo>
                <a:cubicBezTo>
                  <a:pt x="56" y="88"/>
                  <a:pt x="56" y="88"/>
                  <a:pt x="56" y="88"/>
                </a:cubicBezTo>
                <a:cubicBezTo>
                  <a:pt x="52" y="88"/>
                  <a:pt x="48" y="92"/>
                  <a:pt x="48" y="96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8"/>
                  <a:pt x="52" y="112"/>
                  <a:pt x="56" y="112"/>
                </a:cubicBezTo>
                <a:close/>
                <a:moveTo>
                  <a:pt x="56" y="96"/>
                </a:moveTo>
                <a:cubicBezTo>
                  <a:pt x="64" y="96"/>
                  <a:pt x="64" y="96"/>
                  <a:pt x="64" y="96"/>
                </a:cubicBezTo>
                <a:cubicBezTo>
                  <a:pt x="64" y="104"/>
                  <a:pt x="64" y="104"/>
                  <a:pt x="64" y="104"/>
                </a:cubicBezTo>
                <a:cubicBezTo>
                  <a:pt x="56" y="104"/>
                  <a:pt x="56" y="104"/>
                  <a:pt x="56" y="104"/>
                </a:cubicBezTo>
                <a:lnTo>
                  <a:pt x="56" y="96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9" name="Freeform 13"/>
          <p:cNvSpPr/>
          <p:nvPr/>
        </p:nvSpPr>
        <p:spPr>
          <a:xfrm>
            <a:off x="7253280" y="4586400"/>
            <a:ext cx="547560" cy="512640"/>
          </a:xfrm>
          <a:custGeom>
            <a:avLst/>
            <a:gdLst/>
            <a:ahLst/>
            <a:rect l="l" t="t" r="r" b="b"/>
            <a:pathLst>
              <a:path w="129" h="121">
                <a:moveTo>
                  <a:pt x="65" y="8"/>
                </a:moveTo>
                <a:cubicBezTo>
                  <a:pt x="65" y="8"/>
                  <a:pt x="65" y="8"/>
                  <a:pt x="65" y="8"/>
                </a:cubicBezTo>
                <a:close/>
                <a:moveTo>
                  <a:pt x="5" y="44"/>
                </a:moveTo>
                <a:cubicBezTo>
                  <a:pt x="59" y="68"/>
                  <a:pt x="59" y="68"/>
                  <a:pt x="59" y="68"/>
                </a:cubicBezTo>
                <a:cubicBezTo>
                  <a:pt x="64" y="70"/>
                  <a:pt x="66" y="70"/>
                  <a:pt x="71" y="68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9" y="42"/>
                  <a:pt x="129" y="34"/>
                  <a:pt x="125" y="32"/>
                </a:cubicBezTo>
                <a:cubicBezTo>
                  <a:pt x="71" y="3"/>
                  <a:pt x="71" y="3"/>
                  <a:pt x="71" y="3"/>
                </a:cubicBezTo>
                <a:cubicBezTo>
                  <a:pt x="67" y="0"/>
                  <a:pt x="64" y="1"/>
                  <a:pt x="59" y="3"/>
                </a:cubicBezTo>
                <a:cubicBezTo>
                  <a:pt x="5" y="32"/>
                  <a:pt x="5" y="32"/>
                  <a:pt x="5" y="32"/>
                </a:cubicBezTo>
                <a:cubicBezTo>
                  <a:pt x="1" y="34"/>
                  <a:pt x="0" y="41"/>
                  <a:pt x="5" y="44"/>
                </a:cubicBezTo>
                <a:close/>
                <a:moveTo>
                  <a:pt x="65" y="8"/>
                </a:moveTo>
                <a:cubicBezTo>
                  <a:pt x="120" y="38"/>
                  <a:pt x="120" y="38"/>
                  <a:pt x="120" y="38"/>
                </a:cubicBezTo>
                <a:cubicBezTo>
                  <a:pt x="65" y="61"/>
                  <a:pt x="65" y="61"/>
                  <a:pt x="65" y="61"/>
                </a:cubicBezTo>
                <a:cubicBezTo>
                  <a:pt x="10" y="38"/>
                  <a:pt x="10" y="38"/>
                  <a:pt x="10" y="38"/>
                </a:cubicBezTo>
                <a:lnTo>
                  <a:pt x="65" y="8"/>
                </a:lnTo>
                <a:close/>
                <a:moveTo>
                  <a:pt x="65" y="114"/>
                </a:moveTo>
                <a:cubicBezTo>
                  <a:pt x="10" y="89"/>
                  <a:pt x="10" y="89"/>
                  <a:pt x="10" y="89"/>
                </a:cubicBezTo>
                <a:cubicBezTo>
                  <a:pt x="10" y="89"/>
                  <a:pt x="5" y="87"/>
                  <a:pt x="1" y="85"/>
                </a:cubicBezTo>
                <a:cubicBezTo>
                  <a:pt x="1" y="88"/>
                  <a:pt x="2" y="93"/>
                  <a:pt x="5" y="95"/>
                </a:cubicBezTo>
                <a:cubicBezTo>
                  <a:pt x="59" y="119"/>
                  <a:pt x="59" y="119"/>
                  <a:pt x="59" y="119"/>
                </a:cubicBezTo>
                <a:cubicBezTo>
                  <a:pt x="64" y="121"/>
                  <a:pt x="66" y="121"/>
                  <a:pt x="71" y="119"/>
                </a:cubicBezTo>
                <a:cubicBezTo>
                  <a:pt x="125" y="95"/>
                  <a:pt x="125" y="95"/>
                  <a:pt x="125" y="95"/>
                </a:cubicBezTo>
                <a:cubicBezTo>
                  <a:pt x="128" y="94"/>
                  <a:pt x="129" y="88"/>
                  <a:pt x="129" y="85"/>
                </a:cubicBezTo>
                <a:cubicBezTo>
                  <a:pt x="126" y="86"/>
                  <a:pt x="121" y="89"/>
                  <a:pt x="120" y="89"/>
                </a:cubicBezTo>
                <a:lnTo>
                  <a:pt x="65" y="114"/>
                </a:lnTo>
                <a:close/>
                <a:moveTo>
                  <a:pt x="5" y="69"/>
                </a:moveTo>
                <a:cubicBezTo>
                  <a:pt x="59" y="94"/>
                  <a:pt x="59" y="94"/>
                  <a:pt x="59" y="94"/>
                </a:cubicBezTo>
                <a:cubicBezTo>
                  <a:pt x="64" y="96"/>
                  <a:pt x="66" y="96"/>
                  <a:pt x="71" y="94"/>
                </a:cubicBezTo>
                <a:cubicBezTo>
                  <a:pt x="125" y="69"/>
                  <a:pt x="125" y="69"/>
                  <a:pt x="125" y="69"/>
                </a:cubicBezTo>
                <a:cubicBezTo>
                  <a:pt x="128" y="68"/>
                  <a:pt x="129" y="62"/>
                  <a:pt x="129" y="59"/>
                </a:cubicBezTo>
                <a:cubicBezTo>
                  <a:pt x="126" y="61"/>
                  <a:pt x="121" y="63"/>
                  <a:pt x="120" y="63"/>
                </a:cubicBezTo>
                <a:cubicBezTo>
                  <a:pt x="65" y="89"/>
                  <a:pt x="65" y="89"/>
                  <a:pt x="65" y="89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3"/>
                  <a:pt x="5" y="61"/>
                  <a:pt x="1" y="59"/>
                </a:cubicBezTo>
                <a:cubicBezTo>
                  <a:pt x="1" y="62"/>
                  <a:pt x="2" y="68"/>
                  <a:pt x="5" y="69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0" name="TextBox 25"/>
          <p:cNvSpPr/>
          <p:nvPr/>
        </p:nvSpPr>
        <p:spPr>
          <a:xfrm>
            <a:off x="7966080" y="250020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1" name="Title 1"/>
          <p:cNvSpPr/>
          <p:nvPr/>
        </p:nvSpPr>
        <p:spPr>
          <a:xfrm>
            <a:off x="7966080" y="22255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2" name="TextBox 27"/>
          <p:cNvSpPr/>
          <p:nvPr/>
        </p:nvSpPr>
        <p:spPr>
          <a:xfrm>
            <a:off x="7966080" y="366084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3" name="Title 1"/>
          <p:cNvSpPr/>
          <p:nvPr/>
        </p:nvSpPr>
        <p:spPr>
          <a:xfrm>
            <a:off x="7966080" y="33876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4" name="TextBox 29"/>
          <p:cNvSpPr/>
          <p:nvPr/>
        </p:nvSpPr>
        <p:spPr>
          <a:xfrm>
            <a:off x="7966080" y="4859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5" name="Title 1"/>
          <p:cNvSpPr/>
          <p:nvPr/>
        </p:nvSpPr>
        <p:spPr>
          <a:xfrm>
            <a:off x="7966080" y="45864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76" name="" descr=""/>
          <p:cNvPicPr/>
          <p:nvPr/>
        </p:nvPicPr>
        <p:blipFill>
          <a:blip r:embed="rId1"/>
          <a:stretch/>
        </p:blipFill>
        <p:spPr>
          <a:xfrm>
            <a:off x="837720" y="1872720"/>
            <a:ext cx="267012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-360" y="3635280"/>
            <a:ext cx="12192120" cy="3222720"/>
          </a:xfrm>
          <a:prstGeom prst="rect">
            <a:avLst/>
          </a:prstGeom>
          <a:ln w="0">
            <a:noFill/>
          </a:ln>
        </p:spPr>
      </p:pic>
      <p:sp>
        <p:nvSpPr>
          <p:cNvPr id="1278" name="Rectangle 7"/>
          <p:cNvSpPr/>
          <p:nvPr/>
        </p:nvSpPr>
        <p:spPr>
          <a:xfrm>
            <a:off x="0" y="3635280"/>
            <a:ext cx="12192120" cy="3227400"/>
          </a:xfrm>
          <a:prstGeom prst="rect">
            <a:avLst/>
          </a:prstGeom>
          <a:solidFill>
            <a:srgbClr val="313c4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Vision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80" name="TextBox 21"/>
          <p:cNvSpPr/>
          <p:nvPr/>
        </p:nvSpPr>
        <p:spPr>
          <a:xfrm>
            <a:off x="2395440" y="1693800"/>
            <a:ext cx="7400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sed diam non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ipsum dolor si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1" name="Rectangle 18"/>
          <p:cNvSpPr/>
          <p:nvPr/>
        </p:nvSpPr>
        <p:spPr>
          <a:xfrm>
            <a:off x="4054320" y="3009960"/>
            <a:ext cx="1225800" cy="122544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2" name="Rectangle 19"/>
          <p:cNvSpPr/>
          <p:nvPr/>
        </p:nvSpPr>
        <p:spPr>
          <a:xfrm>
            <a:off x="6926400" y="3009960"/>
            <a:ext cx="1225440" cy="1225440"/>
          </a:xfrm>
          <a:prstGeom prst="rect">
            <a:avLst/>
          </a:pr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3" name="Rectangle 22"/>
          <p:cNvSpPr/>
          <p:nvPr/>
        </p:nvSpPr>
        <p:spPr>
          <a:xfrm>
            <a:off x="9796320" y="3009960"/>
            <a:ext cx="1225800" cy="1225440"/>
          </a:xfrm>
          <a:prstGeom prst="rect">
            <a:avLst/>
          </a:pr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4" name="Rectangle 8"/>
          <p:cNvSpPr/>
          <p:nvPr/>
        </p:nvSpPr>
        <p:spPr>
          <a:xfrm>
            <a:off x="1154160" y="3009960"/>
            <a:ext cx="1225440" cy="122544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5" name="Freeform 5"/>
          <p:cNvSpPr/>
          <p:nvPr/>
        </p:nvSpPr>
        <p:spPr>
          <a:xfrm>
            <a:off x="1514520" y="3360600"/>
            <a:ext cx="5032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6" name="TextBox 26"/>
          <p:cNvSpPr/>
          <p:nvPr/>
        </p:nvSpPr>
        <p:spPr>
          <a:xfrm>
            <a:off x="619200" y="4805280"/>
            <a:ext cx="232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7" name="Title 1"/>
          <p:cNvSpPr/>
          <p:nvPr/>
        </p:nvSpPr>
        <p:spPr>
          <a:xfrm>
            <a:off x="56520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8" name="Freeform 9"/>
          <p:cNvSpPr/>
          <p:nvPr/>
        </p:nvSpPr>
        <p:spPr>
          <a:xfrm>
            <a:off x="4416480" y="3360600"/>
            <a:ext cx="5014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96" y="56"/>
                </a:moveTo>
                <a:cubicBezTo>
                  <a:pt x="32" y="56"/>
                  <a:pt x="32" y="56"/>
                  <a:pt x="32" y="56"/>
                </a:cubicBezTo>
                <a:cubicBezTo>
                  <a:pt x="30" y="56"/>
                  <a:pt x="28" y="58"/>
                  <a:pt x="28" y="60"/>
                </a:cubicBezTo>
                <a:cubicBezTo>
                  <a:pt x="28" y="62"/>
                  <a:pt x="30" y="64"/>
                  <a:pt x="32" y="64"/>
                </a:cubicBezTo>
                <a:cubicBezTo>
                  <a:pt x="96" y="64"/>
                  <a:pt x="96" y="64"/>
                  <a:pt x="96" y="64"/>
                </a:cubicBezTo>
                <a:cubicBezTo>
                  <a:pt x="98" y="64"/>
                  <a:pt x="100" y="62"/>
                  <a:pt x="100" y="60"/>
                </a:cubicBezTo>
                <a:cubicBezTo>
                  <a:pt x="100" y="58"/>
                  <a:pt x="98" y="56"/>
                  <a:pt x="96" y="56"/>
                </a:cubicBezTo>
                <a:close/>
                <a:moveTo>
                  <a:pt x="96" y="80"/>
                </a:moveTo>
                <a:cubicBezTo>
                  <a:pt x="32" y="80"/>
                  <a:pt x="32" y="80"/>
                  <a:pt x="32" y="80"/>
                </a:cubicBezTo>
                <a:cubicBezTo>
                  <a:pt x="30" y="80"/>
                  <a:pt x="28" y="82"/>
                  <a:pt x="28" y="84"/>
                </a:cubicBezTo>
                <a:cubicBezTo>
                  <a:pt x="28" y="86"/>
                  <a:pt x="30" y="88"/>
                  <a:pt x="32" y="88"/>
                </a:cubicBezTo>
                <a:cubicBezTo>
                  <a:pt x="96" y="88"/>
                  <a:pt x="96" y="88"/>
                  <a:pt x="96" y="88"/>
                </a:cubicBezTo>
                <a:cubicBezTo>
                  <a:pt x="98" y="88"/>
                  <a:pt x="100" y="86"/>
                  <a:pt x="100" y="84"/>
                </a:cubicBezTo>
                <a:cubicBezTo>
                  <a:pt x="100" y="82"/>
                  <a:pt x="98" y="80"/>
                  <a:pt x="96" y="80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  <a:moveTo>
                  <a:pt x="96" y="32"/>
                </a:moveTo>
                <a:cubicBezTo>
                  <a:pt x="32" y="32"/>
                  <a:pt x="32" y="32"/>
                  <a:pt x="32" y="32"/>
                </a:cubicBezTo>
                <a:cubicBezTo>
                  <a:pt x="30" y="32"/>
                  <a:pt x="28" y="34"/>
                  <a:pt x="28" y="36"/>
                </a:cubicBezTo>
                <a:cubicBezTo>
                  <a:pt x="28" y="38"/>
                  <a:pt x="30" y="40"/>
                  <a:pt x="32" y="40"/>
                </a:cubicBezTo>
                <a:cubicBezTo>
                  <a:pt x="96" y="40"/>
                  <a:pt x="96" y="40"/>
                  <a:pt x="96" y="40"/>
                </a:cubicBezTo>
                <a:cubicBezTo>
                  <a:pt x="98" y="40"/>
                  <a:pt x="100" y="38"/>
                  <a:pt x="100" y="36"/>
                </a:cubicBezTo>
                <a:cubicBezTo>
                  <a:pt x="100" y="34"/>
                  <a:pt x="98" y="32"/>
                  <a:pt x="96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9" name="Freeform 13"/>
          <p:cNvSpPr/>
          <p:nvPr/>
        </p:nvSpPr>
        <p:spPr>
          <a:xfrm>
            <a:off x="7286760" y="3360600"/>
            <a:ext cx="5032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4" y="104"/>
                </a:moveTo>
                <a:cubicBezTo>
                  <a:pt x="112" y="104"/>
                  <a:pt x="112" y="104"/>
                  <a:pt x="112" y="104"/>
                </a:cubicBezTo>
                <a:cubicBezTo>
                  <a:pt x="112" y="36"/>
                  <a:pt x="112" y="36"/>
                  <a:pt x="112" y="36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117" y="13"/>
                  <a:pt x="117" y="13"/>
                  <a:pt x="117" y="13"/>
                </a:cubicBezTo>
                <a:cubicBezTo>
                  <a:pt x="111" y="7"/>
                  <a:pt x="111" y="7"/>
                  <a:pt x="111" y="7"/>
                </a:cubicBezTo>
                <a:cubicBezTo>
                  <a:pt x="24" y="98"/>
                  <a:pt x="24" y="98"/>
                  <a:pt x="24" y="98"/>
                </a:cubicBezTo>
                <a:cubicBezTo>
                  <a:pt x="24" y="24"/>
                  <a:pt x="24" y="24"/>
                  <a:pt x="24" y="24"/>
                </a:cubicBezTo>
                <a:cubicBezTo>
                  <a:pt x="80" y="24"/>
                  <a:pt x="80" y="24"/>
                  <a:pt x="80" y="24"/>
                </a:cubicBezTo>
                <a:cubicBezTo>
                  <a:pt x="87" y="16"/>
                  <a:pt x="87" y="16"/>
                  <a:pt x="87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2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22"/>
                  <a:pt x="2" y="24"/>
                  <a:pt x="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24" y="112"/>
                  <a:pt x="24" y="112"/>
                  <a:pt x="24" y="112"/>
                </a:cubicBezTo>
                <a:cubicBezTo>
                  <a:pt x="104" y="112"/>
                  <a:pt x="104" y="112"/>
                  <a:pt x="104" y="112"/>
                </a:cubicBezTo>
                <a:cubicBezTo>
                  <a:pt x="104" y="124"/>
                  <a:pt x="104" y="124"/>
                  <a:pt x="104" y="124"/>
                </a:cubicBezTo>
                <a:cubicBezTo>
                  <a:pt x="104" y="126"/>
                  <a:pt x="106" y="128"/>
                  <a:pt x="108" y="128"/>
                </a:cubicBezTo>
                <a:cubicBezTo>
                  <a:pt x="110" y="128"/>
                  <a:pt x="112" y="126"/>
                  <a:pt x="112" y="124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24" y="112"/>
                  <a:pt x="124" y="112"/>
                  <a:pt x="124" y="112"/>
                </a:cubicBezTo>
                <a:cubicBezTo>
                  <a:pt x="126" y="112"/>
                  <a:pt x="128" y="110"/>
                  <a:pt x="128" y="108"/>
                </a:cubicBezTo>
                <a:cubicBezTo>
                  <a:pt x="128" y="106"/>
                  <a:pt x="126" y="104"/>
                  <a:pt x="124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0" name="Freeform 17"/>
          <p:cNvSpPr/>
          <p:nvPr/>
        </p:nvSpPr>
        <p:spPr>
          <a:xfrm>
            <a:off x="10155240" y="3360600"/>
            <a:ext cx="50472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56" y="104"/>
                </a:moveTo>
                <a:cubicBezTo>
                  <a:pt x="29" y="104"/>
                  <a:pt x="29" y="104"/>
                  <a:pt x="29" y="104"/>
                </a:cubicBezTo>
                <a:cubicBezTo>
                  <a:pt x="57" y="77"/>
                  <a:pt x="57" y="77"/>
                  <a:pt x="57" y="77"/>
                </a:cubicBezTo>
                <a:cubicBezTo>
                  <a:pt x="51" y="71"/>
                  <a:pt x="51" y="71"/>
                  <a:pt x="51" y="71"/>
                </a:cubicBezTo>
                <a:cubicBezTo>
                  <a:pt x="24" y="98"/>
                  <a:pt x="24" y="98"/>
                  <a:pt x="24" y="98"/>
                </a:cubicBezTo>
                <a:cubicBezTo>
                  <a:pt x="24" y="72"/>
                  <a:pt x="24" y="72"/>
                  <a:pt x="24" y="72"/>
                </a:cubicBezTo>
                <a:cubicBezTo>
                  <a:pt x="24" y="70"/>
                  <a:pt x="22" y="68"/>
                  <a:pt x="20" y="68"/>
                </a:cubicBezTo>
                <a:cubicBezTo>
                  <a:pt x="18" y="68"/>
                  <a:pt x="16" y="70"/>
                  <a:pt x="16" y="72"/>
                </a:cubicBezTo>
                <a:cubicBezTo>
                  <a:pt x="16" y="108"/>
                  <a:pt x="16" y="108"/>
                  <a:pt x="16" y="108"/>
                </a:cubicBezTo>
                <a:cubicBezTo>
                  <a:pt x="16" y="109"/>
                  <a:pt x="16" y="110"/>
                  <a:pt x="17" y="111"/>
                </a:cubicBezTo>
                <a:cubicBezTo>
                  <a:pt x="18" y="112"/>
                  <a:pt x="19" y="112"/>
                  <a:pt x="20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8" y="112"/>
                  <a:pt x="60" y="110"/>
                  <a:pt x="60" y="108"/>
                </a:cubicBezTo>
                <a:cubicBezTo>
                  <a:pt x="60" y="106"/>
                  <a:pt x="58" y="104"/>
                  <a:pt x="56" y="104"/>
                </a:cubicBezTo>
                <a:close/>
                <a:moveTo>
                  <a:pt x="108" y="16"/>
                </a:moveTo>
                <a:cubicBezTo>
                  <a:pt x="72" y="16"/>
                  <a:pt x="72" y="16"/>
                  <a:pt x="72" y="16"/>
                </a:cubicBezTo>
                <a:cubicBezTo>
                  <a:pt x="70" y="16"/>
                  <a:pt x="68" y="18"/>
                  <a:pt x="68" y="20"/>
                </a:cubicBezTo>
                <a:cubicBezTo>
                  <a:pt x="68" y="22"/>
                  <a:pt x="70" y="24"/>
                  <a:pt x="72" y="24"/>
                </a:cubicBezTo>
                <a:cubicBezTo>
                  <a:pt x="99" y="24"/>
                  <a:pt x="99" y="24"/>
                  <a:pt x="99" y="24"/>
                </a:cubicBezTo>
                <a:cubicBezTo>
                  <a:pt x="71" y="51"/>
                  <a:pt x="71" y="51"/>
                  <a:pt x="71" y="51"/>
                </a:cubicBezTo>
                <a:cubicBezTo>
                  <a:pt x="77" y="57"/>
                  <a:pt x="77" y="57"/>
                  <a:pt x="77" y="57"/>
                </a:cubicBezTo>
                <a:cubicBezTo>
                  <a:pt x="104" y="30"/>
                  <a:pt x="104" y="30"/>
                  <a:pt x="104" y="30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4" y="58"/>
                  <a:pt x="106" y="60"/>
                  <a:pt x="108" y="60"/>
                </a:cubicBezTo>
                <a:cubicBezTo>
                  <a:pt x="110" y="60"/>
                  <a:pt x="112" y="58"/>
                  <a:pt x="112" y="56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2" y="19"/>
                  <a:pt x="112" y="18"/>
                  <a:pt x="111" y="17"/>
                </a:cubicBezTo>
                <a:cubicBezTo>
                  <a:pt x="110" y="16"/>
                  <a:pt x="109" y="16"/>
                  <a:pt x="108" y="16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1" name="TextBox 31"/>
          <p:cNvSpPr/>
          <p:nvPr/>
        </p:nvSpPr>
        <p:spPr>
          <a:xfrm>
            <a:off x="3503520" y="4805280"/>
            <a:ext cx="232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2" name="Title 1"/>
          <p:cNvSpPr/>
          <p:nvPr/>
        </p:nvSpPr>
        <p:spPr>
          <a:xfrm>
            <a:off x="344952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3" name="TextBox 37"/>
          <p:cNvSpPr/>
          <p:nvPr/>
        </p:nvSpPr>
        <p:spPr>
          <a:xfrm>
            <a:off x="6375240" y="4805280"/>
            <a:ext cx="232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4" name="Title 1"/>
          <p:cNvSpPr/>
          <p:nvPr/>
        </p:nvSpPr>
        <p:spPr>
          <a:xfrm>
            <a:off x="6321600" y="4441680"/>
            <a:ext cx="2436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5" name="TextBox 42"/>
          <p:cNvSpPr/>
          <p:nvPr/>
        </p:nvSpPr>
        <p:spPr>
          <a:xfrm>
            <a:off x="9244080" y="4805280"/>
            <a:ext cx="232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6" name="Title 1"/>
          <p:cNvSpPr/>
          <p:nvPr/>
        </p:nvSpPr>
        <p:spPr>
          <a:xfrm>
            <a:off x="919008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History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298" name="TextBox 35"/>
          <p:cNvSpPr/>
          <p:nvPr/>
        </p:nvSpPr>
        <p:spPr>
          <a:xfrm>
            <a:off x="1349280" y="48880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9" name="Title 1"/>
          <p:cNvSpPr/>
          <p:nvPr/>
        </p:nvSpPr>
        <p:spPr>
          <a:xfrm>
            <a:off x="1349280" y="45925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0" name="TextBox 37"/>
          <p:cNvSpPr/>
          <p:nvPr/>
        </p:nvSpPr>
        <p:spPr>
          <a:xfrm>
            <a:off x="7331040" y="552456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1" name="Title 1"/>
          <p:cNvSpPr/>
          <p:nvPr/>
        </p:nvSpPr>
        <p:spPr>
          <a:xfrm>
            <a:off x="7331040" y="5229360"/>
            <a:ext cx="24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2" name="Straight Connector 40"/>
          <p:cNvSpPr/>
          <p:nvPr/>
        </p:nvSpPr>
        <p:spPr>
          <a:xfrm flipH="1">
            <a:off x="6093000" y="2224080"/>
            <a:ext cx="2880" cy="431640"/>
          </a:xfrm>
          <a:prstGeom prst="line">
            <a:avLst/>
          </a:prstGeom>
          <a:ln w="28440">
            <a:solidFill>
              <a:srgbClr val="cad82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3" name="Straight Connector 41"/>
          <p:cNvSpPr/>
          <p:nvPr/>
        </p:nvSpPr>
        <p:spPr>
          <a:xfrm>
            <a:off x="5051520" y="3546360"/>
            <a:ext cx="1057320" cy="0"/>
          </a:xfrm>
          <a:prstGeom prst="line">
            <a:avLst/>
          </a:prstGeom>
          <a:ln w="28440">
            <a:solidFill>
              <a:srgbClr val="cad82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4" name="Straight Connector 42"/>
          <p:cNvSpPr/>
          <p:nvPr/>
        </p:nvSpPr>
        <p:spPr>
          <a:xfrm>
            <a:off x="6108840" y="4181400"/>
            <a:ext cx="1055520" cy="0"/>
          </a:xfrm>
          <a:prstGeom prst="line">
            <a:avLst/>
          </a:prstGeom>
          <a:ln w="28440">
            <a:solidFill>
              <a:srgbClr val="cad82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5" name="Title 1"/>
          <p:cNvSpPr/>
          <p:nvPr/>
        </p:nvSpPr>
        <p:spPr>
          <a:xfrm>
            <a:off x="4883040" y="267660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2010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6" name="Straight Connector 14"/>
          <p:cNvSpPr/>
          <p:nvPr/>
        </p:nvSpPr>
        <p:spPr>
          <a:xfrm>
            <a:off x="6095880" y="3108240"/>
            <a:ext cx="0" cy="3749760"/>
          </a:xfrm>
          <a:prstGeom prst="line">
            <a:avLst/>
          </a:prstGeom>
          <a:ln w="28440">
            <a:solidFill>
              <a:srgbClr val="cad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07" name="" descr=""/>
          <p:cNvPicPr/>
          <p:nvPr/>
        </p:nvPicPr>
        <p:blipFill>
          <a:blip r:embed="rId1"/>
          <a:stretch/>
        </p:blipFill>
        <p:spPr>
          <a:xfrm>
            <a:off x="1349280" y="260964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08" name="" descr=""/>
          <p:cNvPicPr/>
          <p:nvPr/>
        </p:nvPicPr>
        <p:blipFill>
          <a:blip r:embed="rId2"/>
          <a:stretch/>
        </p:blipFill>
        <p:spPr>
          <a:xfrm>
            <a:off x="7331040" y="3246120"/>
            <a:ext cx="3524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Box 23"/>
          <p:cNvSpPr/>
          <p:nvPr/>
        </p:nvSpPr>
        <p:spPr>
          <a:xfrm>
            <a:off x="7331040" y="474012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0" name="Title 1"/>
          <p:cNvSpPr/>
          <p:nvPr/>
        </p:nvSpPr>
        <p:spPr>
          <a:xfrm>
            <a:off x="7331040" y="44449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1" name="TextBox 25"/>
          <p:cNvSpPr/>
          <p:nvPr/>
        </p:nvSpPr>
        <p:spPr>
          <a:xfrm>
            <a:off x="1349280" y="59356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2" name="Title 1"/>
          <p:cNvSpPr/>
          <p:nvPr/>
        </p:nvSpPr>
        <p:spPr>
          <a:xfrm>
            <a:off x="1349280" y="56404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3" name="TextBox 27"/>
          <p:cNvSpPr/>
          <p:nvPr/>
        </p:nvSpPr>
        <p:spPr>
          <a:xfrm>
            <a:off x="1349280" y="2789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4" name="Title 1"/>
          <p:cNvSpPr/>
          <p:nvPr/>
        </p:nvSpPr>
        <p:spPr>
          <a:xfrm>
            <a:off x="1349280" y="24940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5" name="Straight Connector 29"/>
          <p:cNvSpPr/>
          <p:nvPr/>
        </p:nvSpPr>
        <p:spPr>
          <a:xfrm>
            <a:off x="5051520" y="1447920"/>
            <a:ext cx="1057320" cy="0"/>
          </a:xfrm>
          <a:prstGeom prst="line">
            <a:avLst/>
          </a:prstGeom>
          <a:ln w="28440">
            <a:solidFill>
              <a:srgbClr val="cad82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6" name="Straight Connector 31"/>
          <p:cNvSpPr/>
          <p:nvPr/>
        </p:nvSpPr>
        <p:spPr>
          <a:xfrm>
            <a:off x="6108840" y="3398760"/>
            <a:ext cx="1055520" cy="0"/>
          </a:xfrm>
          <a:prstGeom prst="line">
            <a:avLst/>
          </a:prstGeom>
          <a:ln w="28440">
            <a:solidFill>
              <a:srgbClr val="cad82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7" name="Straight Connector 32"/>
          <p:cNvSpPr/>
          <p:nvPr/>
        </p:nvSpPr>
        <p:spPr>
          <a:xfrm>
            <a:off x="5051520" y="4592520"/>
            <a:ext cx="1057320" cy="0"/>
          </a:xfrm>
          <a:prstGeom prst="line">
            <a:avLst/>
          </a:prstGeom>
          <a:ln w="28440">
            <a:solidFill>
              <a:srgbClr val="cad82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8" name="Straight Connector 39"/>
          <p:cNvSpPr/>
          <p:nvPr/>
        </p:nvSpPr>
        <p:spPr>
          <a:xfrm>
            <a:off x="6095880" y="1197000"/>
            <a:ext cx="0" cy="5661000"/>
          </a:xfrm>
          <a:prstGeom prst="line">
            <a:avLst/>
          </a:prstGeom>
          <a:ln w="28440">
            <a:solidFill>
              <a:srgbClr val="cad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9" name="Straight Connector 42"/>
          <p:cNvSpPr/>
          <p:nvPr/>
        </p:nvSpPr>
        <p:spPr>
          <a:xfrm>
            <a:off x="6095880" y="0"/>
            <a:ext cx="0" cy="658800"/>
          </a:xfrm>
          <a:prstGeom prst="line">
            <a:avLst/>
          </a:prstGeom>
          <a:ln w="28440">
            <a:solidFill>
              <a:srgbClr val="cad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0" name="Title 1"/>
          <p:cNvSpPr/>
          <p:nvPr/>
        </p:nvSpPr>
        <p:spPr>
          <a:xfrm>
            <a:off x="4883040" y="74304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2013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21" name="" descr=""/>
          <p:cNvPicPr/>
          <p:nvPr/>
        </p:nvPicPr>
        <p:blipFill>
          <a:blip r:embed="rId1"/>
          <a:stretch/>
        </p:blipFill>
        <p:spPr>
          <a:xfrm>
            <a:off x="1349280" y="51084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2"/>
          <a:stretch/>
        </p:blipFill>
        <p:spPr>
          <a:xfrm>
            <a:off x="7331040" y="24634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23" name="" descr=""/>
          <p:cNvPicPr/>
          <p:nvPr/>
        </p:nvPicPr>
        <p:blipFill>
          <a:blip r:embed="rId3"/>
          <a:stretch/>
        </p:blipFill>
        <p:spPr>
          <a:xfrm>
            <a:off x="1349280" y="3657240"/>
            <a:ext cx="3524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TextBox 47"/>
          <p:cNvSpPr/>
          <p:nvPr/>
        </p:nvSpPr>
        <p:spPr>
          <a:xfrm>
            <a:off x="1349280" y="2897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5" name="Title 1"/>
          <p:cNvSpPr/>
          <p:nvPr/>
        </p:nvSpPr>
        <p:spPr>
          <a:xfrm>
            <a:off x="1349280" y="2602080"/>
            <a:ext cx="24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6" name="TextBox 50"/>
          <p:cNvSpPr/>
          <p:nvPr/>
        </p:nvSpPr>
        <p:spPr>
          <a:xfrm>
            <a:off x="7331040" y="2978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7" name="Title 1"/>
          <p:cNvSpPr/>
          <p:nvPr/>
        </p:nvSpPr>
        <p:spPr>
          <a:xfrm>
            <a:off x="7331040" y="26827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8" name="Straight Connector 17"/>
          <p:cNvSpPr/>
          <p:nvPr/>
        </p:nvSpPr>
        <p:spPr>
          <a:xfrm flipV="1">
            <a:off x="6095880" y="991800"/>
            <a:ext cx="0" cy="2436840"/>
          </a:xfrm>
          <a:prstGeom prst="line">
            <a:avLst/>
          </a:prstGeom>
          <a:ln w="28440">
            <a:solidFill>
              <a:srgbClr val="cad82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9" name="Straight Connector 18"/>
          <p:cNvSpPr/>
          <p:nvPr/>
        </p:nvSpPr>
        <p:spPr>
          <a:xfrm flipV="1">
            <a:off x="6095880" y="-11160"/>
            <a:ext cx="0" cy="493920"/>
          </a:xfrm>
          <a:prstGeom prst="line">
            <a:avLst/>
          </a:prstGeom>
          <a:ln w="28440">
            <a:solidFill>
              <a:srgbClr val="cad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0" name="Title 1"/>
          <p:cNvSpPr/>
          <p:nvPr/>
        </p:nvSpPr>
        <p:spPr>
          <a:xfrm>
            <a:off x="4884840" y="55080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Roboto Slab"/>
              </a:rPr>
              <a:t>2018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1" name="Straight Connector 28"/>
          <p:cNvSpPr/>
          <p:nvPr/>
        </p:nvSpPr>
        <p:spPr>
          <a:xfrm>
            <a:off x="5051520" y="1504800"/>
            <a:ext cx="1057320" cy="0"/>
          </a:xfrm>
          <a:prstGeom prst="line">
            <a:avLst/>
          </a:prstGeom>
          <a:ln w="28440">
            <a:solidFill>
              <a:srgbClr val="cad82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2" name="Straight Connector 29"/>
          <p:cNvSpPr/>
          <p:nvPr/>
        </p:nvSpPr>
        <p:spPr>
          <a:xfrm>
            <a:off x="6108840" y="1585800"/>
            <a:ext cx="1055520" cy="0"/>
          </a:xfrm>
          <a:prstGeom prst="line">
            <a:avLst/>
          </a:prstGeom>
          <a:ln w="28440">
            <a:solidFill>
              <a:srgbClr val="cad82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33" name="" descr=""/>
          <p:cNvPicPr/>
          <p:nvPr/>
        </p:nvPicPr>
        <p:blipFill>
          <a:blip r:embed="rId1"/>
          <a:stretch/>
        </p:blipFill>
        <p:spPr>
          <a:xfrm>
            <a:off x="1349280" y="5680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7331040" y="6490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35" name="" descr=""/>
          <p:cNvPicPr/>
          <p:nvPr/>
        </p:nvPicPr>
        <p:blipFill>
          <a:blip r:embed="rId3"/>
          <a:stretch/>
        </p:blipFill>
        <p:spPr>
          <a:xfrm>
            <a:off x="4338360" y="3785760"/>
            <a:ext cx="3524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110"/>
          <p:cNvSpPr/>
          <p:nvPr/>
        </p:nvSpPr>
        <p:spPr>
          <a:xfrm>
            <a:off x="3173400" y="1908000"/>
            <a:ext cx="2854440" cy="400068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7" name="Rectangle 123"/>
          <p:cNvSpPr/>
          <p:nvPr/>
        </p:nvSpPr>
        <p:spPr>
          <a:xfrm>
            <a:off x="6164280" y="1908000"/>
            <a:ext cx="2854440" cy="400068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8" name="Rectangle 124"/>
          <p:cNvSpPr/>
          <p:nvPr/>
        </p:nvSpPr>
        <p:spPr>
          <a:xfrm>
            <a:off x="9155160" y="1908000"/>
            <a:ext cx="2854440" cy="4000680"/>
          </a:xfrm>
          <a:prstGeom prst="rect">
            <a:avLst/>
          </a:pr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oboto Slab"/>
              </a:rPr>
              <a:t>Our Company Service</a:t>
            </a:r>
            <a:endParaRPr b="0" lang="en-US" sz="4800" spc="-1" strike="noStrike">
              <a:solidFill>
                <a:srgbClr val="3f3f3f"/>
              </a:solidFill>
              <a:latin typeface="Roboto Slab"/>
            </a:endParaRPr>
          </a:p>
        </p:txBody>
      </p:sp>
      <p:sp>
        <p:nvSpPr>
          <p:cNvPr id="1340" name="TextBox 104"/>
          <p:cNvSpPr/>
          <p:nvPr/>
        </p:nvSpPr>
        <p:spPr>
          <a:xfrm>
            <a:off x="3267000" y="4214880"/>
            <a:ext cx="266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41" name="Group 54" descr=""/>
          <p:cNvPicPr/>
          <p:nvPr/>
        </p:nvPicPr>
        <p:blipFill>
          <a:blip r:embed="rId1"/>
          <a:stretch/>
        </p:blipFill>
        <p:spPr>
          <a:xfrm>
            <a:off x="4059360" y="2352600"/>
            <a:ext cx="1079280" cy="689040"/>
          </a:xfrm>
          <a:prstGeom prst="rect">
            <a:avLst/>
          </a:prstGeom>
          <a:ln w="0">
            <a:noFill/>
          </a:ln>
        </p:spPr>
      </p:pic>
      <p:grpSp>
        <p:nvGrpSpPr>
          <p:cNvPr id="1342" name="Group 125"/>
          <p:cNvGrpSpPr/>
          <p:nvPr/>
        </p:nvGrpSpPr>
        <p:grpSpPr>
          <a:xfrm>
            <a:off x="7300800" y="2371680"/>
            <a:ext cx="581040" cy="649440"/>
            <a:chOff x="7300800" y="2371680"/>
            <a:chExt cx="581040" cy="649440"/>
          </a:xfrm>
        </p:grpSpPr>
        <p:sp>
          <p:nvSpPr>
            <p:cNvPr id="1343" name="Freeform 5"/>
            <p:cNvSpPr/>
            <p:nvPr/>
          </p:nvSpPr>
          <p:spPr>
            <a:xfrm>
              <a:off x="7591320" y="2660760"/>
              <a:ext cx="290520" cy="360360"/>
            </a:xfrm>
            <a:custGeom>
              <a:avLst/>
              <a:gdLst/>
              <a:ahLst/>
              <a:rect l="l" t="t" r="r" b="b"/>
              <a:pathLst>
                <a:path w="96" h="120">
                  <a:moveTo>
                    <a:pt x="0" y="96"/>
                  </a:moveTo>
                  <a:cubicBezTo>
                    <a:pt x="0" y="109"/>
                    <a:pt x="11" y="120"/>
                    <a:pt x="24" y="120"/>
                  </a:cubicBezTo>
                  <a:cubicBezTo>
                    <a:pt x="96" y="120"/>
                    <a:pt x="96" y="120"/>
                    <a:pt x="96" y="120"/>
                  </a:cubicBezTo>
                  <a:cubicBezTo>
                    <a:pt x="96" y="0"/>
                    <a:pt x="96" y="0"/>
                    <a:pt x="96" y="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4" name="Freeform 6"/>
            <p:cNvSpPr/>
            <p:nvPr/>
          </p:nvSpPr>
          <p:spPr>
            <a:xfrm>
              <a:off x="7300800" y="2371680"/>
              <a:ext cx="581040" cy="649440"/>
            </a:xfrm>
            <a:custGeom>
              <a:avLst/>
              <a:gdLst/>
              <a:ahLst/>
              <a:rect l="l" t="t" r="r" b="b"/>
              <a:pathLst>
                <a:path w="192" h="216">
                  <a:moveTo>
                    <a:pt x="0" y="96"/>
                  </a:moveTo>
                  <a:cubicBezTo>
                    <a:pt x="0" y="216"/>
                    <a:pt x="0" y="216"/>
                    <a:pt x="0" y="216"/>
                  </a:cubicBezTo>
                  <a:cubicBezTo>
                    <a:pt x="72" y="216"/>
                    <a:pt x="72" y="216"/>
                    <a:pt x="72" y="216"/>
                  </a:cubicBezTo>
                  <a:cubicBezTo>
                    <a:pt x="85" y="216"/>
                    <a:pt x="96" y="205"/>
                    <a:pt x="96" y="192"/>
                  </a:cubicBezTo>
                  <a:cubicBezTo>
                    <a:pt x="96" y="80"/>
                    <a:pt x="96" y="80"/>
                    <a:pt x="96" y="80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64"/>
                    <a:pt x="160" y="64"/>
                    <a:pt x="160" y="64"/>
                  </a:cubicBezTo>
                  <a:cubicBezTo>
                    <a:pt x="160" y="82"/>
                    <a:pt x="174" y="96"/>
                    <a:pt x="192" y="96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5" name="Freeform 7"/>
            <p:cNvSpPr/>
            <p:nvPr/>
          </p:nvSpPr>
          <p:spPr>
            <a:xfrm>
              <a:off x="7300800" y="2371680"/>
              <a:ext cx="290520" cy="289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8" y="96"/>
                    <a:pt x="32" y="82"/>
                    <a:pt x="32" y="64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96" y="80"/>
                    <a:pt x="96" y="80"/>
                    <a:pt x="96" y="8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6" name="Freeform 8"/>
            <p:cNvSpPr/>
            <p:nvPr/>
          </p:nvSpPr>
          <p:spPr>
            <a:xfrm>
              <a:off x="7494120" y="2371680"/>
              <a:ext cx="169920" cy="23400"/>
            </a:xfrm>
            <a:custGeom>
              <a:avLst/>
              <a:gdLst/>
              <a:ahLst/>
              <a:rect l="l" t="t" r="r" b="b"/>
              <a:pathLst>
                <a:path w="56" h="8">
                  <a:moveTo>
                    <a:pt x="56" y="0"/>
                  </a:moveTo>
                  <a:cubicBezTo>
                    <a:pt x="56" y="4"/>
                    <a:pt x="43" y="8"/>
                    <a:pt x="28" y="8"/>
                  </a:cubicBezTo>
                  <a:cubicBezTo>
                    <a:pt x="13" y="8"/>
                    <a:pt x="0" y="4"/>
                    <a:pt x="0" y="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320" bIns="-223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7" name="Line 9"/>
            <p:cNvSpPr/>
            <p:nvPr/>
          </p:nvSpPr>
          <p:spPr>
            <a:xfrm>
              <a:off x="7300800" y="273204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8" name="Line 10"/>
            <p:cNvSpPr/>
            <p:nvPr/>
          </p:nvSpPr>
          <p:spPr>
            <a:xfrm>
              <a:off x="7300800" y="280476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9" name="Line 11"/>
            <p:cNvSpPr/>
            <p:nvPr/>
          </p:nvSpPr>
          <p:spPr>
            <a:xfrm>
              <a:off x="7300800" y="287712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0" name="Line 12"/>
            <p:cNvSpPr/>
            <p:nvPr/>
          </p:nvSpPr>
          <p:spPr>
            <a:xfrm>
              <a:off x="7300800" y="294984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pic>
        <p:nvPicPr>
          <p:cNvPr id="1351" name="Group 134" descr=""/>
          <p:cNvPicPr/>
          <p:nvPr/>
        </p:nvPicPr>
        <p:blipFill>
          <a:blip r:embed="rId2"/>
          <a:stretch/>
        </p:blipFill>
        <p:spPr>
          <a:xfrm>
            <a:off x="10223640" y="2359080"/>
            <a:ext cx="712800" cy="682560"/>
          </a:xfrm>
          <a:prstGeom prst="rect">
            <a:avLst/>
          </a:prstGeom>
          <a:ln w="0">
            <a:noFill/>
          </a:ln>
        </p:spPr>
      </p:pic>
      <p:sp>
        <p:nvSpPr>
          <p:cNvPr id="1352" name="Title 1"/>
          <p:cNvSpPr/>
          <p:nvPr/>
        </p:nvSpPr>
        <p:spPr>
          <a:xfrm>
            <a:off x="3578400" y="3887640"/>
            <a:ext cx="2044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3" name="TextBox 101"/>
          <p:cNvSpPr/>
          <p:nvPr/>
        </p:nvSpPr>
        <p:spPr>
          <a:xfrm>
            <a:off x="3746520" y="31780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3584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4" name="TextBox 144"/>
          <p:cNvSpPr/>
          <p:nvPr/>
        </p:nvSpPr>
        <p:spPr>
          <a:xfrm>
            <a:off x="6257880" y="4213080"/>
            <a:ext cx="2666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5" name="Title 1"/>
          <p:cNvSpPr/>
          <p:nvPr/>
        </p:nvSpPr>
        <p:spPr>
          <a:xfrm>
            <a:off x="6568920" y="3886200"/>
            <a:ext cx="2044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6" name="TextBox 146"/>
          <p:cNvSpPr/>
          <p:nvPr/>
        </p:nvSpPr>
        <p:spPr>
          <a:xfrm>
            <a:off x="6886440" y="3178080"/>
            <a:ext cx="14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450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7" name="TextBox 147"/>
          <p:cNvSpPr/>
          <p:nvPr/>
        </p:nvSpPr>
        <p:spPr>
          <a:xfrm>
            <a:off x="9242280" y="4210200"/>
            <a:ext cx="266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8" name="Title 1"/>
          <p:cNvSpPr/>
          <p:nvPr/>
        </p:nvSpPr>
        <p:spPr>
          <a:xfrm>
            <a:off x="9555120" y="3882960"/>
            <a:ext cx="20430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9" name="TextBox 149"/>
          <p:cNvSpPr/>
          <p:nvPr/>
        </p:nvSpPr>
        <p:spPr>
          <a:xfrm>
            <a:off x="9740880" y="3174840"/>
            <a:ext cx="167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854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60" name="" descr=""/>
          <p:cNvPicPr/>
          <p:nvPr/>
        </p:nvPicPr>
        <p:blipFill>
          <a:blip r:embed="rId3"/>
          <a:stretch/>
        </p:blipFill>
        <p:spPr>
          <a:xfrm>
            <a:off x="182160" y="1907640"/>
            <a:ext cx="28544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dc:language>en-US</dc:language>
  <cp:lastModifiedBy>muse</cp:lastModifiedBy>
  <dcterms:modified xsi:type="dcterms:W3CDTF">2018-05-24T06:56:07Z</dcterms:modified>
  <cp:revision>690</cp:revision>
  <dc:subject/>
  <dc:title>ICONIC</dc:title>
</cp:coreProperties>
</file>