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B509-B39A-4886-8AC1-4A6EB6948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DCF-AC2B-412B-BF23-C40073AC34EC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E3B-54D7-4099-8192-1C4F3C3FFCDC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3CA2-278F-4432-9E72-5CAF4D0B3822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0791-0FA6-4226-8F81-00C1B15A39BC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0AC-E32D-455E-AC8C-86ABC32CB4A7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E344-11F0-4BD8-8605-C8F866B97F7F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F88B-D885-462A-ACCD-75D79B784A33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D798-1B3D-4352-8F7C-41937993103D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89A-7918-4065-B50D-69617809778A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DE16-AE28-4563-B1EF-A414A3A5790B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DF6F-FE82-4E2D-AF47-B3337F152057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489B-7F5E-4ED4-BDD2-59E02B2896B4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F2F-5573-47CB-A7D6-1DC4764E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FF7-41A4-45F4-BCF5-F93B42B3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4AB-0CCD-43D3-9282-C5040293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7C7-9C8A-4173-AF4A-0E1D18BC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B9E-939B-4FD0-A64C-03FBE6FF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C6E-AC56-4DE0-BFAA-4B9A62B2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354-0B3E-4BB2-8F26-F672BD07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D9C-F9D7-428F-BF55-BF6459DD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B2A-0927-4D22-BC7C-20A2825F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59A-2BE9-40E9-A9B8-3550D35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55C-60E3-4716-BCC9-CE651ED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737-A1D6-44BB-B185-FB54197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4AC-6D06-455A-A0C0-18E14ED6EDB2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79e45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f79e45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79e45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79e45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f79e4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f05a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e64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05a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79e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f38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f38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f38b4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f38b4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ef7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ef7c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ef7c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ef7c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f06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067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f0674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f0674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f79e45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f79e45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f79e45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f38b4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f79e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f79e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e45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8b49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7c4f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74d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3f3f3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f79e45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f79e45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f79e45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5:18Z</dcterms:modified>
  <cp:revision>689</cp:revision>
  <dc:subject/>
  <dc:title>ICONIC</dc:title>
</cp:coreProperties>
</file>