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embeddings/oleObject1.xlsx" ContentType="application/vnd.openxmlformats-officedocument.spreadsheetml.sheet"/>
  <Override PartName="/ppt/embeddings/oleObject7.xlsx" ContentType="application/vnd.openxmlformats-officedocument.spreadsheetml.sheet"/>
  <Override PartName="/ppt/embeddings/oleObject2.xlsx" ContentType="application/vnd.openxmlformats-officedocument.spreadsheetml.sheet"/>
  <Override PartName="/ppt/embeddings/oleObject8.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embeddings/oleObject5.xlsx" ContentType="application/vnd.openxmlformats-officedocument.spreadsheetml.sheet"/>
  <Override PartName="/ppt/embeddings/oleObject6.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TextBox 1" descr=""/>
          <p:cNvPicPr/>
          <p:nvPr/>
        </p:nvPicPr>
        <p:blipFill>
          <a:blip r:embed="rId2"/>
          <a:stretch/>
        </p:blipFill>
        <p:spPr>
          <a:xfrm>
            <a:off x="-2365200" y="2371680"/>
            <a:ext cx="12698280" cy="7662960"/>
          </a:xfrm>
          <a:prstGeom prst="rect">
            <a:avLst/>
          </a:prstGeom>
          <a:ln w="0">
            <a:noFill/>
          </a:ln>
        </p:spPr>
      </p:pic>
      <p:sp>
        <p:nvSpPr>
          <p:cNvPr id="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ng"/><Relationship Id="rId3" Type="http://schemas.openxmlformats.org/officeDocument/2006/relationships/package" Target="../embeddings/oleObject2.xlsx"/><Relationship Id="rId4" Type="http://schemas.openxmlformats.org/officeDocument/2006/relationships/image" Target="../media/image3.png"/><Relationship Id="rId5" Type="http://schemas.openxmlformats.org/officeDocument/2006/relationships/package" Target="../embeddings/oleObject3.xlsx"/><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4.png"/><Relationship Id="rId3" Type="http://schemas.openxmlformats.org/officeDocument/2006/relationships/image" Target="../media/image39.png"/><Relationship Id="rId4" Type="http://schemas.openxmlformats.org/officeDocument/2006/relationships/image" Target="../media/image38.png"/><Relationship Id="rId5"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5.png"/><Relationship Id="rId3" Type="http://schemas.openxmlformats.org/officeDocument/2006/relationships/package" Target="../embeddings/oleObject2.xlsx"/><Relationship Id="rId4" Type="http://schemas.openxmlformats.org/officeDocument/2006/relationships/image" Target="../media/image46.png"/><Relationship Id="rId5" Type="http://schemas.openxmlformats.org/officeDocument/2006/relationships/package" Target="../embeddings/oleObject3.xlsx"/><Relationship Id="rId6" Type="http://schemas.openxmlformats.org/officeDocument/2006/relationships/image" Target="../media/image47.png"/><Relationship Id="rId7" Type="http://schemas.openxmlformats.org/officeDocument/2006/relationships/package" Target="../embeddings/oleObject4.xlsx"/><Relationship Id="rId8" Type="http://schemas.openxmlformats.org/officeDocument/2006/relationships/image" Target="../media/image48.png"/><Relationship Id="rId9" Type="http://schemas.openxmlformats.org/officeDocument/2006/relationships/package" Target="../embeddings/oleObject5.xlsx"/><Relationship Id="rId10" Type="http://schemas.openxmlformats.org/officeDocument/2006/relationships/image" Target="../media/image49.png"/><Relationship Id="rId11" Type="http://schemas.openxmlformats.org/officeDocument/2006/relationships/package" Target="../embeddings/oleObject6.xlsx"/><Relationship Id="rId12" Type="http://schemas.openxmlformats.org/officeDocument/2006/relationships/image" Target="../media/image50.png"/><Relationship Id="rId13" Type="http://schemas.openxmlformats.org/officeDocument/2006/relationships/package" Target="../embeddings/oleObject7.xlsx"/><Relationship Id="rId14" Type="http://schemas.openxmlformats.org/officeDocument/2006/relationships/image" Target="../media/image51.png"/><Relationship Id="rId15" Type="http://schemas.openxmlformats.org/officeDocument/2006/relationships/package" Target="../embeddings/oleObject8.xlsx"/><Relationship Id="rId16" Type="http://schemas.openxmlformats.org/officeDocument/2006/relationships/image" Target="../media/image52.png"/><Relationship Id="rId17"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pn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image" Target="../media/image59.png"/><Relationship Id="rId8"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package" Target="../embeddings/oleObject2.xlsx"/><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0.png"/><Relationship Id="rId3" Type="http://schemas.openxmlformats.org/officeDocument/2006/relationships/package" Target="../embeddings/oleObject2.xlsx"/><Relationship Id="rId4" Type="http://schemas.openxmlformats.org/officeDocument/2006/relationships/image" Target="../media/image61.png"/><Relationship Id="rId5" Type="http://schemas.openxmlformats.org/officeDocument/2006/relationships/package" Target="../embeddings/oleObject3.xlsx"/><Relationship Id="rId6" Type="http://schemas.openxmlformats.org/officeDocument/2006/relationships/image" Target="../media/image62.png"/><Relationship Id="rId7" Type="http://schemas.openxmlformats.org/officeDocument/2006/relationships/package" Target="../embeddings/oleObject4.xlsx"/><Relationship Id="rId8" Type="http://schemas.openxmlformats.org/officeDocument/2006/relationships/image" Target="../media/image63.png"/><Relationship Id="rId9"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png"/><Relationship Id="rId3" Type="http://schemas.openxmlformats.org/officeDocument/2006/relationships/package" Target="../embeddings/oleObject2.xlsx"/><Relationship Id="rId4" Type="http://schemas.openxmlformats.org/officeDocument/2006/relationships/image" Target="../media/image23.png"/><Relationship Id="rId5" Type="http://schemas.openxmlformats.org/officeDocument/2006/relationships/package" Target="../embeddings/oleObject3.xlsx"/><Relationship Id="rId6" Type="http://schemas.openxmlformats.org/officeDocument/2006/relationships/image" Target="../media/image24.png"/><Relationship Id="rId7" Type="http://schemas.openxmlformats.org/officeDocument/2006/relationships/package" Target="../embeddings/oleObject4.xlsx"/><Relationship Id="rId8" Type="http://schemas.openxmlformats.org/officeDocument/2006/relationships/image" Target="../media/image25.png"/><Relationship Id="rId9" Type="http://schemas.openxmlformats.org/officeDocument/2006/relationships/package" Target="../embeddings/oleObject5.xlsx"/><Relationship Id="rId10" Type="http://schemas.openxmlformats.org/officeDocument/2006/relationships/image" Target="../media/image26.png"/><Relationship Id="rId11" Type="http://schemas.openxmlformats.org/officeDocument/2006/relationships/package" Target="../embeddings/oleObject6.xlsx"/><Relationship Id="rId12" Type="http://schemas.openxmlformats.org/officeDocument/2006/relationships/image" Target="../media/image27.png"/><Relationship Id="rId13" Type="http://schemas.openxmlformats.org/officeDocument/2006/relationships/package" Target="../embeddings/oleObject7.xlsx"/><Relationship Id="rId14" Type="http://schemas.openxmlformats.org/officeDocument/2006/relationships/image" Target="../media/image28.png"/><Relationship Id="rId15" Type="http://schemas.openxmlformats.org/officeDocument/2006/relationships/package" Target="../embeddings/oleObject8.xlsx"/><Relationship Id="rId16" Type="http://schemas.openxmlformats.org/officeDocument/2006/relationships/image" Target="../media/image29.png"/><Relationship Id="rId17"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 name="Chart 48"/>
          <p:cNvGraphicFramePr/>
          <p:nvPr/>
        </p:nvGraphicFramePr>
        <p:xfrm>
          <a:off x="8204040" y="2371680"/>
          <a:ext cx="3144960" cy="2114640"/>
        </p:xfrm>
        <a:graphic>
          <a:graphicData uri="http://schemas.openxmlformats.org/presentationml/2006/ole">
            <p:oleObj progId="Excel.Sheet.12" r:id="rId1" spid="">
              <p:embed/>
              <p:pic>
                <p:nvPicPr>
                  <p:cNvPr id="76" name="Chart 48" descr=""/>
                  <p:cNvPicPr/>
                  <p:nvPr/>
                </p:nvPicPr>
                <p:blipFill>
                  <a:blip r:embed="rId2"/>
                  <a:stretch/>
                </p:blipFill>
                <p:spPr>
                  <a:xfrm>
                    <a:off x="8204040" y="2371680"/>
                    <a:ext cx="3144960" cy="2114640"/>
                  </a:xfrm>
                  <a:prstGeom prst="rect">
                    <a:avLst/>
                  </a:prstGeom>
                  <a:ln w="0">
                    <a:noFill/>
                  </a:ln>
                </p:spPr>
              </p:pic>
            </p:oleObj>
          </a:graphicData>
        </a:graphic>
      </p:graphicFrame>
      <p:sp>
        <p:nvSpPr>
          <p:cNvPr id="77" name="Rectangle: Rounded Corners 38"/>
          <p:cNvSpPr/>
          <p:nvPr/>
        </p:nvSpPr>
        <p:spPr>
          <a:xfrm>
            <a:off x="830160" y="4797360"/>
            <a:ext cx="3152880" cy="1042920"/>
          </a:xfrm>
          <a:prstGeom prst="roundRect">
            <a:avLst>
              <a:gd name="adj" fmla="val 17343"/>
            </a:avLst>
          </a:prstGeom>
          <a:solidFill>
            <a:srgbClr val="f2f2f2">
              <a:alpha val="8000"/>
            </a:srgbClr>
          </a:solidFill>
          <a:ln w="19080">
            <a:solidFill>
              <a:srgbClr val="7f7f7f">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TextBox 43"/>
          <p:cNvSpPr/>
          <p:nvPr/>
        </p:nvSpPr>
        <p:spPr>
          <a:xfrm>
            <a:off x="1844640" y="4956120"/>
            <a:ext cx="1123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e08b"/>
                </a:solidFill>
                <a:latin typeface="Raleway SemiBold"/>
              </a:rPr>
              <a:t>Sells 2023</a:t>
            </a:r>
            <a:endParaRPr b="0" lang="en-US" sz="1600" spc="-1" strike="noStrike">
              <a:solidFill>
                <a:srgbClr val="000000"/>
              </a:solidFill>
              <a:latin typeface="Calibri"/>
            </a:endParaRPr>
          </a:p>
        </p:txBody>
      </p:sp>
      <p:sp>
        <p:nvSpPr>
          <p:cNvPr id="79" name="TextBox 46"/>
          <p:cNvSpPr/>
          <p:nvPr/>
        </p:nvSpPr>
        <p:spPr>
          <a:xfrm>
            <a:off x="905040" y="5292720"/>
            <a:ext cx="30034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bfbfbf"/>
                </a:solidFill>
                <a:latin typeface="Open Sans"/>
                <a:ea typeface="Open Sans"/>
              </a:rPr>
              <a:t>Lorem ipsum dolor sit amet, consectetur adipiscing elit, sed do eiusmod</a:t>
            </a:r>
            <a:endParaRPr b="0" lang="en-US" sz="1100" spc="-1" strike="noStrike">
              <a:solidFill>
                <a:srgbClr val="000000"/>
              </a:solidFill>
              <a:latin typeface="Calibri"/>
            </a:endParaRPr>
          </a:p>
        </p:txBody>
      </p:sp>
      <p:sp>
        <p:nvSpPr>
          <p:cNvPr id="80" name="Rectangle: Rounded Corners 53"/>
          <p:cNvSpPr/>
          <p:nvPr/>
        </p:nvSpPr>
        <p:spPr>
          <a:xfrm>
            <a:off x="4518000" y="4797360"/>
            <a:ext cx="3152880" cy="1042920"/>
          </a:xfrm>
          <a:prstGeom prst="roundRect">
            <a:avLst>
              <a:gd name="adj" fmla="val 17343"/>
            </a:avLst>
          </a:prstGeom>
          <a:solidFill>
            <a:srgbClr val="f2f2f2">
              <a:alpha val="8000"/>
            </a:srgbClr>
          </a:solidFill>
          <a:ln w="19080">
            <a:solidFill>
              <a:srgbClr val="7f7f7f">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TextBox 54"/>
          <p:cNvSpPr/>
          <p:nvPr/>
        </p:nvSpPr>
        <p:spPr>
          <a:xfrm>
            <a:off x="5305320" y="4956120"/>
            <a:ext cx="157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6d6ff"/>
                </a:solidFill>
                <a:latin typeface="Raleway SemiBold"/>
              </a:rPr>
              <a:t>Purchase 2023</a:t>
            </a:r>
            <a:endParaRPr b="0" lang="en-US" sz="1600" spc="-1" strike="noStrike">
              <a:solidFill>
                <a:srgbClr val="000000"/>
              </a:solidFill>
              <a:latin typeface="Calibri"/>
            </a:endParaRPr>
          </a:p>
        </p:txBody>
      </p:sp>
      <p:sp>
        <p:nvSpPr>
          <p:cNvPr id="82" name="TextBox 55"/>
          <p:cNvSpPr/>
          <p:nvPr/>
        </p:nvSpPr>
        <p:spPr>
          <a:xfrm>
            <a:off x="4591080" y="5292720"/>
            <a:ext cx="30052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bfbfbf"/>
                </a:solidFill>
                <a:latin typeface="Open Sans"/>
                <a:ea typeface="Open Sans"/>
              </a:rPr>
              <a:t>Lorem ipsum dolor sit amet, consectetur adipiscing elit, sed do eiusmod</a:t>
            </a:r>
            <a:endParaRPr b="0" lang="en-US" sz="1100" spc="-1" strike="noStrike">
              <a:solidFill>
                <a:srgbClr val="000000"/>
              </a:solidFill>
              <a:latin typeface="Calibri"/>
            </a:endParaRPr>
          </a:p>
        </p:txBody>
      </p:sp>
      <p:sp>
        <p:nvSpPr>
          <p:cNvPr id="83" name="Rectangle: Rounded Corners 56"/>
          <p:cNvSpPr/>
          <p:nvPr/>
        </p:nvSpPr>
        <p:spPr>
          <a:xfrm>
            <a:off x="8294760" y="4797360"/>
            <a:ext cx="3152880" cy="1042920"/>
          </a:xfrm>
          <a:prstGeom prst="roundRect">
            <a:avLst>
              <a:gd name="adj" fmla="val 17343"/>
            </a:avLst>
          </a:prstGeom>
          <a:solidFill>
            <a:srgbClr val="f2f2f2">
              <a:alpha val="8000"/>
            </a:srgbClr>
          </a:solidFill>
          <a:ln w="19080">
            <a:solidFill>
              <a:srgbClr val="7f7f7f">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TextBox 57"/>
          <p:cNvSpPr/>
          <p:nvPr/>
        </p:nvSpPr>
        <p:spPr>
          <a:xfrm>
            <a:off x="9123840" y="4929120"/>
            <a:ext cx="134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4e95"/>
                </a:solidFill>
                <a:latin typeface="Raleway SemiBold"/>
              </a:rPr>
              <a:t>Return 2023</a:t>
            </a:r>
            <a:endParaRPr b="0" lang="en-US" sz="1600" spc="-1" strike="noStrike">
              <a:solidFill>
                <a:srgbClr val="000000"/>
              </a:solidFill>
              <a:latin typeface="Calibri"/>
            </a:endParaRPr>
          </a:p>
        </p:txBody>
      </p:sp>
      <p:sp>
        <p:nvSpPr>
          <p:cNvPr id="85" name="TextBox 58"/>
          <p:cNvSpPr/>
          <p:nvPr/>
        </p:nvSpPr>
        <p:spPr>
          <a:xfrm>
            <a:off x="8294760" y="5292720"/>
            <a:ext cx="30034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bfbfbf"/>
                </a:solidFill>
                <a:latin typeface="Open Sans"/>
                <a:ea typeface="Open Sans"/>
              </a:rPr>
              <a:t>Lorem ipsum dolor sit amet, consectetur adipiscing elit, sed do eiusmod</a:t>
            </a:r>
            <a:endParaRPr b="0" lang="en-US" sz="1100" spc="-1" strike="noStrike">
              <a:solidFill>
                <a:srgbClr val="000000"/>
              </a:solidFill>
              <a:latin typeface="Calibri"/>
            </a:endParaRPr>
          </a:p>
        </p:txBody>
      </p:sp>
      <p:graphicFrame>
        <p:nvGraphicFramePr>
          <p:cNvPr id="86" name="Chart 59"/>
          <p:cNvGraphicFramePr/>
          <p:nvPr/>
        </p:nvGraphicFramePr>
        <p:xfrm>
          <a:off x="4518000" y="2371680"/>
          <a:ext cx="3144960" cy="2114640"/>
        </p:xfrm>
        <a:graphic>
          <a:graphicData uri="http://schemas.openxmlformats.org/presentationml/2006/ole">
            <p:oleObj progId="Excel.Sheet.12" r:id="rId3" spid="">
              <p:embed/>
              <p:pic>
                <p:nvPicPr>
                  <p:cNvPr id="87" name="Chart 59" descr=""/>
                  <p:cNvPicPr/>
                  <p:nvPr/>
                </p:nvPicPr>
                <p:blipFill>
                  <a:blip r:embed="rId4"/>
                  <a:stretch/>
                </p:blipFill>
                <p:spPr>
                  <a:xfrm>
                    <a:off x="4518000" y="2371680"/>
                    <a:ext cx="3144960" cy="2114640"/>
                  </a:xfrm>
                  <a:prstGeom prst="rect">
                    <a:avLst/>
                  </a:prstGeom>
                  <a:ln w="0">
                    <a:noFill/>
                  </a:ln>
                </p:spPr>
              </p:pic>
            </p:oleObj>
          </a:graphicData>
        </a:graphic>
      </p:graphicFrame>
      <p:graphicFrame>
        <p:nvGraphicFramePr>
          <p:cNvPr id="88" name="Chart 60"/>
          <p:cNvGraphicFramePr/>
          <p:nvPr/>
        </p:nvGraphicFramePr>
        <p:xfrm>
          <a:off x="882720" y="2443320"/>
          <a:ext cx="3144600" cy="2116080"/>
        </p:xfrm>
        <a:graphic>
          <a:graphicData uri="http://schemas.openxmlformats.org/presentationml/2006/ole">
            <p:oleObj progId="Excel.Sheet.12" r:id="rId5" spid="">
              <p:embed/>
              <p:pic>
                <p:nvPicPr>
                  <p:cNvPr id="89" name="Chart 60" descr=""/>
                  <p:cNvPicPr/>
                  <p:nvPr/>
                </p:nvPicPr>
                <p:blipFill>
                  <a:blip r:embed="rId6"/>
                  <a:stretch/>
                </p:blipFill>
                <p:spPr>
                  <a:xfrm>
                    <a:off x="882720" y="2443320"/>
                    <a:ext cx="3144600" cy="2116080"/>
                  </a:xfrm>
                  <a:prstGeom prst="rect">
                    <a:avLst/>
                  </a:prstGeom>
                  <a:ln w="0">
                    <a:noFill/>
                  </a:ln>
                </p:spPr>
              </p:pic>
            </p:oleObj>
          </a:graphicData>
        </a:graphic>
      </p:graphicFrame>
      <p:sp>
        <p:nvSpPr>
          <p:cNvPr id="90" name="Straight Connector 51"/>
          <p:cNvSpPr/>
          <p:nvPr/>
        </p:nvSpPr>
        <p:spPr>
          <a:xfrm flipH="1">
            <a:off x="11297880" y="-19080"/>
            <a:ext cx="322200" cy="331920"/>
          </a:xfrm>
          <a:prstGeom prst="line">
            <a:avLst/>
          </a:prstGeom>
          <a:ln w="6480">
            <a:solidFill>
              <a:srgbClr val="06d6ff">
                <a:alpha val="36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Rectangle: Rounded Corners 52"/>
          <p:cNvSpPr/>
          <p:nvPr/>
        </p:nvSpPr>
        <p:spPr>
          <a:xfrm rot="2700000">
            <a:off x="964080" y="702360"/>
            <a:ext cx="144360" cy="142920"/>
          </a:xfrm>
          <a:prstGeom prst="roundRect">
            <a:avLst>
              <a:gd name="adj" fmla="val 16667"/>
            </a:avLst>
          </a:prstGeom>
          <a:solidFill>
            <a:srgbClr val="06d6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TextBox 17"/>
          <p:cNvSpPr/>
          <p:nvPr/>
        </p:nvSpPr>
        <p:spPr>
          <a:xfrm>
            <a:off x="3195720" y="406440"/>
            <a:ext cx="5993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d6ff"/>
                </a:solidFill>
                <a:latin typeface="Raleway SemiBold"/>
                <a:ea typeface="Open Sans"/>
              </a:rPr>
              <a:t>Comparison Infographic</a:t>
            </a:r>
            <a:endParaRPr b="0" lang="en-US" sz="4000" spc="-1" strike="noStrike">
              <a:solidFill>
                <a:srgbClr val="000000"/>
              </a:solidFill>
              <a:latin typeface="Calibri"/>
            </a:endParaRPr>
          </a:p>
        </p:txBody>
      </p:sp>
      <p:sp>
        <p:nvSpPr>
          <p:cNvPr id="93" name="TextBox 18"/>
          <p:cNvSpPr/>
          <p:nvPr/>
        </p:nvSpPr>
        <p:spPr>
          <a:xfrm>
            <a:off x="2703600" y="1190520"/>
            <a:ext cx="697680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44546a"/>
                </a:solidFill>
                <a:latin typeface="Open Sans"/>
                <a:ea typeface="Open Sans"/>
              </a:rPr>
              <a:t>Lorem ipsum dolor sit amet, consectetur adipiscing elit, sed do eiusmod tempor incididunt ut labore et dolore magna aliqua. Ut enim ad minim veniam,</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ounded Rectangle"/>
          <p:cNvSpPr/>
          <p:nvPr/>
        </p:nvSpPr>
        <p:spPr>
          <a:xfrm>
            <a:off x="8454960" y="2436840"/>
            <a:ext cx="3070440" cy="3583080"/>
          </a:xfrm>
          <a:custGeom>
            <a:avLst/>
            <a:gdLst>
              <a:gd name="textAreaLeft" fmla="*/ 34920 w 3070440"/>
              <a:gd name="textAreaRight" fmla="*/ 3035520 w 3070440"/>
              <a:gd name="textAreaTop" fmla="*/ 34920 h 3583080"/>
              <a:gd name="textAreaBottom" fmla="*/ 3548160 h 3583080"/>
            </a:gdLst>
            <a:ahLst/>
            <a:rect l="textAreaLeft" t="textAreaTop" r="textAreaRight" b="textAreaBottom"/>
            <a:pathLst>
              <a:path w="21600" h="25206">
                <a:moveTo>
                  <a:pt x="845" y="0"/>
                </a:moveTo>
                <a:arcTo wR="845" hR="845" stAng="16200000" swAng="-5400000"/>
                <a:lnTo>
                  <a:pt x="0" y="24361"/>
                </a:lnTo>
                <a:arcTo wR="845" hR="845" stAng="10800000" swAng="-5400000"/>
                <a:lnTo>
                  <a:pt x="20755" y="25206"/>
                </a:lnTo>
                <a:arcTo wR="845" hR="845" stAng="5400000" swAng="-5400000"/>
                <a:lnTo>
                  <a:pt x="21600" y="845"/>
                </a:lnTo>
                <a:arcTo wR="845" hR="845" stAng="0" swAng="-5400000"/>
                <a:close/>
              </a:path>
            </a:pathLst>
          </a:custGeom>
          <a:noFill/>
          <a:ln w="3240">
            <a:solidFill>
              <a:srgbClr val="37e08b">
                <a:alpha val="23000"/>
              </a:srgbClr>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502" name="Rounded Rectangle"/>
          <p:cNvSpPr/>
          <p:nvPr/>
        </p:nvSpPr>
        <p:spPr>
          <a:xfrm>
            <a:off x="596880" y="2525760"/>
            <a:ext cx="3068640" cy="3494160"/>
          </a:xfrm>
          <a:custGeom>
            <a:avLst/>
            <a:gdLst>
              <a:gd name="textAreaLeft" fmla="*/ 34920 w 3068640"/>
              <a:gd name="textAreaRight" fmla="*/ 3033720 w 3068640"/>
              <a:gd name="textAreaTop" fmla="*/ 34920 h 3494160"/>
              <a:gd name="textAreaBottom" fmla="*/ 3459240 h 3494160"/>
            </a:gdLst>
            <a:ahLst/>
            <a:rect l="textAreaLeft" t="textAreaTop" r="textAreaRight" b="textAreaBottom"/>
            <a:pathLst>
              <a:path w="21600" h="24595">
                <a:moveTo>
                  <a:pt x="845" y="0"/>
                </a:moveTo>
                <a:arcTo wR="845" hR="845" stAng="16200000" swAng="-5400000"/>
                <a:lnTo>
                  <a:pt x="0" y="23750"/>
                </a:lnTo>
                <a:arcTo wR="845" hR="845" stAng="10800000" swAng="-5400000"/>
                <a:lnTo>
                  <a:pt x="20755" y="24595"/>
                </a:lnTo>
                <a:arcTo wR="845" hR="845" stAng="5400000" swAng="-5400000"/>
                <a:lnTo>
                  <a:pt x="21600" y="845"/>
                </a:lnTo>
                <a:arcTo wR="845" hR="845" stAng="0" swAng="-5400000"/>
                <a:close/>
              </a:path>
            </a:pathLst>
          </a:custGeom>
          <a:noFill/>
          <a:ln w="3240">
            <a:solidFill>
              <a:srgbClr val="ff4e95">
                <a:alpha val="23000"/>
              </a:srgbClr>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503" name="Rectangle: Rounded Corners 14"/>
          <p:cNvSpPr/>
          <p:nvPr/>
        </p:nvSpPr>
        <p:spPr>
          <a:xfrm>
            <a:off x="6327720" y="3002040"/>
            <a:ext cx="2381400" cy="708120"/>
          </a:xfrm>
          <a:prstGeom prst="roundRect">
            <a:avLst>
              <a:gd name="adj" fmla="val 50000"/>
            </a:avLst>
          </a:prstGeom>
          <a:solidFill>
            <a:srgbClr val="37e08b">
              <a:alpha val="7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4" name="Rectangle: Rounded Corners 13"/>
          <p:cNvSpPr/>
          <p:nvPr/>
        </p:nvSpPr>
        <p:spPr>
          <a:xfrm>
            <a:off x="3168720" y="2374920"/>
            <a:ext cx="2381040" cy="706320"/>
          </a:xfrm>
          <a:prstGeom prst="roundRect">
            <a:avLst>
              <a:gd name="adj" fmla="val 50000"/>
            </a:avLst>
          </a:prstGeom>
          <a:solidFill>
            <a:srgbClr val="ff4e95">
              <a:alpha val="7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05" name="2D Pie Chart"/>
          <p:cNvGraphicFramePr/>
          <p:nvPr/>
        </p:nvGraphicFramePr>
        <p:xfrm>
          <a:off x="4179960" y="1120680"/>
          <a:ext cx="3832200" cy="5241960"/>
        </p:xfrm>
        <a:graphic>
          <a:graphicData uri="http://schemas.openxmlformats.org/presentationml/2006/ole">
            <p:oleObj progId="Excel.Sheet.12" r:id="rId1" spid="">
              <p:embed/>
              <p:pic>
                <p:nvPicPr>
                  <p:cNvPr id="506" name="2D Pie Chart" descr=""/>
                  <p:cNvPicPr/>
                  <p:nvPr/>
                </p:nvPicPr>
                <p:blipFill>
                  <a:blip r:embed="rId2"/>
                  <a:stretch/>
                </p:blipFill>
                <p:spPr>
                  <a:xfrm>
                    <a:off x="4179960" y="1120680"/>
                    <a:ext cx="3832200" cy="5241960"/>
                  </a:xfrm>
                  <a:prstGeom prst="rect">
                    <a:avLst/>
                  </a:prstGeom>
                  <a:ln w="0">
                    <a:noFill/>
                  </a:ln>
                </p:spPr>
              </p:pic>
            </p:oleObj>
          </a:graphicData>
        </a:graphic>
      </p:graphicFrame>
      <p:sp>
        <p:nvSpPr>
          <p:cNvPr id="507" name="TextBox 15"/>
          <p:cNvSpPr/>
          <p:nvPr/>
        </p:nvSpPr>
        <p:spPr>
          <a:xfrm>
            <a:off x="3099600" y="420840"/>
            <a:ext cx="5993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d6ff"/>
                </a:solidFill>
                <a:latin typeface="Raleway SemiBold"/>
                <a:ea typeface="Open Sans"/>
              </a:rPr>
              <a:t>Comparison Infographic</a:t>
            </a:r>
            <a:endParaRPr b="0" lang="en-US" sz="4000" spc="-1" strike="noStrike">
              <a:solidFill>
                <a:srgbClr val="000000"/>
              </a:solidFill>
              <a:latin typeface="Calibri"/>
            </a:endParaRPr>
          </a:p>
        </p:txBody>
      </p:sp>
      <p:sp>
        <p:nvSpPr>
          <p:cNvPr id="508" name="Oval 16"/>
          <p:cNvSpPr/>
          <p:nvPr/>
        </p:nvSpPr>
        <p:spPr>
          <a:xfrm>
            <a:off x="3255840" y="2436840"/>
            <a:ext cx="577800" cy="577800"/>
          </a:xfrm>
          <a:prstGeom prst="ellipse">
            <a:avLst/>
          </a:prstGeom>
          <a:solidFill>
            <a:srgbClr val="03022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9" name="TextBox 17"/>
          <p:cNvSpPr/>
          <p:nvPr/>
        </p:nvSpPr>
        <p:spPr>
          <a:xfrm>
            <a:off x="3380760" y="2525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Raleway Medium"/>
              </a:rPr>
              <a:t>1</a:t>
            </a:r>
            <a:endParaRPr b="0" lang="en-US" sz="2000" spc="-1" strike="noStrike">
              <a:solidFill>
                <a:srgbClr val="000000"/>
              </a:solidFill>
              <a:latin typeface="Calibri"/>
            </a:endParaRPr>
          </a:p>
        </p:txBody>
      </p:sp>
      <p:sp>
        <p:nvSpPr>
          <p:cNvPr id="510" name="Oval 18"/>
          <p:cNvSpPr/>
          <p:nvPr/>
        </p:nvSpPr>
        <p:spPr>
          <a:xfrm>
            <a:off x="8064360" y="3068640"/>
            <a:ext cx="578160" cy="577800"/>
          </a:xfrm>
          <a:prstGeom prst="ellipse">
            <a:avLst/>
          </a:prstGeom>
          <a:solidFill>
            <a:srgbClr val="03022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TextBox 19"/>
          <p:cNvSpPr/>
          <p:nvPr/>
        </p:nvSpPr>
        <p:spPr>
          <a:xfrm>
            <a:off x="8201880" y="31575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Raleway Medium"/>
              </a:rPr>
              <a:t>2</a:t>
            </a:r>
            <a:endParaRPr b="0" lang="en-US" sz="2000" spc="-1" strike="noStrike">
              <a:solidFill>
                <a:srgbClr val="000000"/>
              </a:solidFill>
              <a:latin typeface="Calibri"/>
            </a:endParaRPr>
          </a:p>
        </p:txBody>
      </p:sp>
      <p:sp>
        <p:nvSpPr>
          <p:cNvPr id="512" name="TextBox 23"/>
          <p:cNvSpPr/>
          <p:nvPr/>
        </p:nvSpPr>
        <p:spPr>
          <a:xfrm>
            <a:off x="368280" y="3098880"/>
            <a:ext cx="2652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Raleway"/>
              </a:rPr>
              <a:t>Product 1 Sel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Raleway"/>
              </a:rPr>
              <a:t>This Year</a:t>
            </a:r>
            <a:endParaRPr b="0" lang="en-US" sz="1800" spc="-1" strike="noStrike">
              <a:solidFill>
                <a:srgbClr val="000000"/>
              </a:solidFill>
              <a:latin typeface="Calibri"/>
            </a:endParaRPr>
          </a:p>
        </p:txBody>
      </p:sp>
      <p:sp>
        <p:nvSpPr>
          <p:cNvPr id="513" name="TextBox 25"/>
          <p:cNvSpPr/>
          <p:nvPr/>
        </p:nvSpPr>
        <p:spPr>
          <a:xfrm>
            <a:off x="882720" y="3780000"/>
            <a:ext cx="2950920" cy="10069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D" sz="1000" spc="-1" strike="noStrike">
                <a:solidFill>
                  <a:srgbClr val="bfbfbf"/>
                </a:solidFill>
                <a:latin typeface="Open Sans"/>
                <a:ea typeface="Open Sans"/>
              </a:rPr>
              <a:t>laboris nisi ut aliquip ex ea commodo consequat. </a:t>
            </a:r>
            <a:endParaRPr b="0" lang="en-US" sz="1000" spc="-1" strike="noStrike">
              <a:solidFill>
                <a:srgbClr val="000000"/>
              </a:solidFill>
              <a:latin typeface="Calibri"/>
            </a:endParaRPr>
          </a:p>
          <a:p>
            <a:pPr marL="171360" indent="-171360">
              <a:lnSpc>
                <a:spcPct val="150000"/>
              </a:lnSpc>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D" sz="1000" spc="-1" strike="noStrike">
                <a:solidFill>
                  <a:srgbClr val="bfbfbf"/>
                </a:solidFill>
                <a:latin typeface="Open Sans"/>
                <a:ea typeface="Open Sans"/>
              </a:rPr>
              <a:t>Excepteur sint occaecat cupidatat non proident, sunt in culpa qui</a:t>
            </a:r>
            <a:endParaRPr b="0" lang="en-US" sz="1000" spc="-1" strike="noStrike">
              <a:solidFill>
                <a:srgbClr val="000000"/>
              </a:solidFill>
              <a:latin typeface="Calibri"/>
            </a:endParaRPr>
          </a:p>
        </p:txBody>
      </p:sp>
      <p:sp>
        <p:nvSpPr>
          <p:cNvPr id="514" name="TextBox 26"/>
          <p:cNvSpPr/>
          <p:nvPr/>
        </p:nvSpPr>
        <p:spPr>
          <a:xfrm>
            <a:off x="8847000" y="3763800"/>
            <a:ext cx="2397240" cy="10069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D" sz="1000" spc="-1" strike="noStrike">
                <a:solidFill>
                  <a:srgbClr val="bfbfbf"/>
                </a:solidFill>
                <a:latin typeface="Open Sans"/>
                <a:ea typeface="Open Sans"/>
              </a:rPr>
              <a:t>laboris nisi ut aliquip ex ea commodo consequat. </a:t>
            </a:r>
            <a:endParaRPr b="0" lang="en-US" sz="1000" spc="-1" strike="noStrike">
              <a:solidFill>
                <a:srgbClr val="000000"/>
              </a:solidFill>
              <a:latin typeface="Calibri"/>
            </a:endParaRPr>
          </a:p>
          <a:p>
            <a:pPr marL="171360" indent="-171360">
              <a:lnSpc>
                <a:spcPct val="150000"/>
              </a:lnSpc>
              <a:buClr>
                <a:srgbClr val="bfbfb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D" sz="1000" spc="-1" strike="noStrike">
                <a:solidFill>
                  <a:srgbClr val="bfbfbf"/>
                </a:solidFill>
                <a:latin typeface="Open Sans"/>
                <a:ea typeface="Open Sans"/>
              </a:rPr>
              <a:t>Excepteur sint occaecat cupidatat non proident, sunt in culpa qui</a:t>
            </a:r>
            <a:endParaRPr b="0" lang="en-US" sz="1000" spc="-1" strike="noStrike">
              <a:solidFill>
                <a:srgbClr val="000000"/>
              </a:solidFill>
              <a:latin typeface="Calibri"/>
            </a:endParaRPr>
          </a:p>
        </p:txBody>
      </p:sp>
      <p:sp>
        <p:nvSpPr>
          <p:cNvPr id="515" name="TextBox 27"/>
          <p:cNvSpPr/>
          <p:nvPr/>
        </p:nvSpPr>
        <p:spPr>
          <a:xfrm>
            <a:off x="8364600" y="3009960"/>
            <a:ext cx="2654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Raleway"/>
              </a:rPr>
              <a:t>Product 2 Sel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Raleway"/>
              </a:rPr>
              <a:t>This Year</a:t>
            </a:r>
            <a:endParaRPr b="0" lang="en-US" sz="1800" spc="-1" strike="noStrike">
              <a:solidFill>
                <a:srgbClr val="000000"/>
              </a:solidFill>
              <a:latin typeface="Calibri"/>
            </a:endParaRPr>
          </a:p>
        </p:txBody>
      </p:sp>
      <p:sp>
        <p:nvSpPr>
          <p:cNvPr id="516"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1928880" y="5437080"/>
            <a:ext cx="531720" cy="25416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7a7"/>
                </a:solidFill>
                <a:latin typeface="Barlow Medium"/>
                <a:ea typeface="Barlow Medium"/>
              </a:rPr>
              <a:t>Plan</a:t>
            </a:r>
            <a:endParaRPr b="0" lang="en-US" sz="1000" spc="-1" strike="noStrike">
              <a:solidFill>
                <a:srgbClr val="000000"/>
              </a:solidFill>
              <a:latin typeface="Calibri"/>
            </a:endParaRPr>
          </a:p>
        </p:txBody>
      </p:sp>
      <p:sp>
        <p:nvSpPr>
          <p:cNvPr id="517" name="Rectangle: Rounded Corners 35"/>
          <p:cNvSpPr/>
          <p:nvPr/>
        </p:nvSpPr>
        <p:spPr>
          <a:xfrm>
            <a:off x="1149480" y="5315040"/>
            <a:ext cx="2147760" cy="61920"/>
          </a:xfrm>
          <a:prstGeom prst="roundRect">
            <a:avLst>
              <a:gd name="adj" fmla="val 50000"/>
            </a:avLst>
          </a:prstGeom>
          <a:solidFill>
            <a:srgbClr val="ff4e95">
              <a:alpha val="50000"/>
            </a:srgbClr>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8" name="Rectangle: Rounded Corners 36"/>
          <p:cNvSpPr/>
          <p:nvPr/>
        </p:nvSpPr>
        <p:spPr>
          <a:xfrm>
            <a:off x="1149480" y="5315040"/>
            <a:ext cx="1176120" cy="61920"/>
          </a:xfrm>
          <a:prstGeom prst="roundRect">
            <a:avLst>
              <a:gd name="adj" fmla="val 50000"/>
            </a:avLst>
          </a:prstGeom>
          <a:solidFill>
            <a:srgbClr val="ff4e95">
              <a:alpha val="50000"/>
            </a:srgbClr>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Graphic 28"/>
          <p:cNvSpPr/>
          <p:nvPr/>
        </p:nvSpPr>
        <p:spPr>
          <a:xfrm>
            <a:off x="1785960" y="5062680"/>
            <a:ext cx="181080" cy="226800"/>
          </a:xfrm>
          <a:custGeom>
            <a:avLst/>
            <a:gdLst/>
            <a:ahLst/>
            <a:rect l="l" t="t" r="r" b="b"/>
            <a:pathLst>
              <a:path w="19390" h="20682">
                <a:moveTo>
                  <a:pt x="16168" y="2152"/>
                </a:moveTo>
                <a:cubicBezTo>
                  <a:pt x="12224" y="-917"/>
                  <a:pt x="6114" y="-675"/>
                  <a:pt x="2520" y="2694"/>
                </a:cubicBezTo>
                <a:cubicBezTo>
                  <a:pt x="-1074" y="6062"/>
                  <a:pt x="-790" y="11280"/>
                  <a:pt x="3153" y="14350"/>
                </a:cubicBezTo>
                <a:cubicBezTo>
                  <a:pt x="3254" y="14428"/>
                  <a:pt x="3357" y="14505"/>
                  <a:pt x="3462" y="14580"/>
                </a:cubicBezTo>
                <a:cubicBezTo>
                  <a:pt x="5717" y="16181"/>
                  <a:pt x="7601" y="18129"/>
                  <a:pt x="9017" y="20322"/>
                </a:cubicBezTo>
                <a:cubicBezTo>
                  <a:pt x="9158" y="20545"/>
                  <a:pt x="9431" y="20683"/>
                  <a:pt x="9727" y="20682"/>
                </a:cubicBezTo>
                <a:cubicBezTo>
                  <a:pt x="10023" y="20682"/>
                  <a:pt x="10295" y="20543"/>
                  <a:pt x="10436" y="20321"/>
                </a:cubicBezTo>
                <a:lnTo>
                  <a:pt x="10502" y="20215"/>
                </a:lnTo>
                <a:cubicBezTo>
                  <a:pt x="11928" y="18048"/>
                  <a:pt x="13808" y="16124"/>
                  <a:pt x="16049" y="14537"/>
                </a:cubicBezTo>
                <a:cubicBezTo>
                  <a:pt x="20082" y="11560"/>
                  <a:pt x="20526" y="6355"/>
                  <a:pt x="17040" y="2910"/>
                </a:cubicBezTo>
                <a:cubicBezTo>
                  <a:pt x="16769" y="2642"/>
                  <a:pt x="16477" y="2389"/>
                  <a:pt x="16168" y="2152"/>
                </a:cubicBezTo>
                <a:close/>
                <a:moveTo>
                  <a:pt x="9727" y="11744"/>
                </a:moveTo>
                <a:cubicBezTo>
                  <a:pt x="7504" y="11744"/>
                  <a:pt x="5702" y="10204"/>
                  <a:pt x="5702" y="8306"/>
                </a:cubicBezTo>
                <a:cubicBezTo>
                  <a:pt x="5702" y="6407"/>
                  <a:pt x="7504" y="4868"/>
                  <a:pt x="9727" y="4868"/>
                </a:cubicBezTo>
                <a:cubicBezTo>
                  <a:pt x="11950" y="4868"/>
                  <a:pt x="13753" y="6407"/>
                  <a:pt x="13753" y="8306"/>
                </a:cubicBezTo>
                <a:cubicBezTo>
                  <a:pt x="13750" y="10204"/>
                  <a:pt x="11949" y="11741"/>
                  <a:pt x="9727" y="11744"/>
                </a:cubicBezTo>
                <a:close/>
              </a:path>
            </a:pathLst>
          </a:custGeom>
          <a:solidFill>
            <a:srgbClr val="ff4e95"/>
          </a:solidFill>
          <a:ln w="0">
            <a:noFill/>
          </a:ln>
        </p:spPr>
        <p:style>
          <a:lnRef idx="0"/>
          <a:fillRef idx="0"/>
          <a:effectRef idx="0"/>
          <a:fontRef idx="minor"/>
        </p:style>
        <p:txBody>
          <a:bodyPr lIns="45360" rIns="45360" tIns="46800" bIns="46800" anchor="ctr">
            <a:noAutofit/>
          </a:bodyPr>
          <a:p>
            <a:endParaRPr b="0" lang="en-US" sz="1800" spc="-1" strike="noStrike">
              <a:solidFill>
                <a:srgbClr val="000000"/>
              </a:solidFill>
              <a:latin typeface="Calibri"/>
            </a:endParaRPr>
          </a:p>
        </p:txBody>
      </p:sp>
      <p:sp>
        <p:nvSpPr>
          <p:cNvPr id="520" name="Circle"/>
          <p:cNvSpPr/>
          <p:nvPr/>
        </p:nvSpPr>
        <p:spPr>
          <a:xfrm>
            <a:off x="1844640" y="5315040"/>
            <a:ext cx="61920" cy="60120"/>
          </a:xfrm>
          <a:prstGeom prst="ellipse">
            <a:avLst/>
          </a:prstGeom>
          <a:solidFill>
            <a:srgbClr val="ff4e95"/>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521" name="Graphic 28"/>
          <p:cNvSpPr/>
          <p:nvPr/>
        </p:nvSpPr>
        <p:spPr>
          <a:xfrm>
            <a:off x="2259000" y="5180040"/>
            <a:ext cx="108000" cy="135000"/>
          </a:xfrm>
          <a:custGeom>
            <a:avLst/>
            <a:gdLst/>
            <a:ahLst/>
            <a:rect l="l" t="t" r="r" b="b"/>
            <a:pathLst>
              <a:path w="19390" h="20682">
                <a:moveTo>
                  <a:pt x="16168" y="2152"/>
                </a:moveTo>
                <a:cubicBezTo>
                  <a:pt x="12224" y="-917"/>
                  <a:pt x="6114" y="-675"/>
                  <a:pt x="2520" y="2694"/>
                </a:cubicBezTo>
                <a:cubicBezTo>
                  <a:pt x="-1074" y="6062"/>
                  <a:pt x="-790" y="11280"/>
                  <a:pt x="3153" y="14350"/>
                </a:cubicBezTo>
                <a:cubicBezTo>
                  <a:pt x="3254" y="14428"/>
                  <a:pt x="3357" y="14505"/>
                  <a:pt x="3462" y="14580"/>
                </a:cubicBezTo>
                <a:cubicBezTo>
                  <a:pt x="5717" y="16181"/>
                  <a:pt x="7601" y="18129"/>
                  <a:pt x="9017" y="20322"/>
                </a:cubicBezTo>
                <a:cubicBezTo>
                  <a:pt x="9158" y="20545"/>
                  <a:pt x="9431" y="20683"/>
                  <a:pt x="9727" y="20682"/>
                </a:cubicBezTo>
                <a:cubicBezTo>
                  <a:pt x="10023" y="20682"/>
                  <a:pt x="10295" y="20543"/>
                  <a:pt x="10436" y="20321"/>
                </a:cubicBezTo>
                <a:lnTo>
                  <a:pt x="10502" y="20215"/>
                </a:lnTo>
                <a:cubicBezTo>
                  <a:pt x="11928" y="18048"/>
                  <a:pt x="13808" y="16124"/>
                  <a:pt x="16049" y="14537"/>
                </a:cubicBezTo>
                <a:cubicBezTo>
                  <a:pt x="20082" y="11560"/>
                  <a:pt x="20526" y="6355"/>
                  <a:pt x="17040" y="2910"/>
                </a:cubicBezTo>
                <a:cubicBezTo>
                  <a:pt x="16769" y="2642"/>
                  <a:pt x="16477" y="2389"/>
                  <a:pt x="16168" y="2152"/>
                </a:cubicBezTo>
                <a:close/>
                <a:moveTo>
                  <a:pt x="9727" y="11744"/>
                </a:moveTo>
                <a:cubicBezTo>
                  <a:pt x="7504" y="11744"/>
                  <a:pt x="5702" y="10204"/>
                  <a:pt x="5702" y="8306"/>
                </a:cubicBezTo>
                <a:cubicBezTo>
                  <a:pt x="5702" y="6407"/>
                  <a:pt x="7504" y="4868"/>
                  <a:pt x="9727" y="4868"/>
                </a:cubicBezTo>
                <a:cubicBezTo>
                  <a:pt x="11950" y="4868"/>
                  <a:pt x="13753" y="6407"/>
                  <a:pt x="13753" y="8306"/>
                </a:cubicBezTo>
                <a:cubicBezTo>
                  <a:pt x="13750" y="10204"/>
                  <a:pt x="11949" y="11741"/>
                  <a:pt x="9727" y="11744"/>
                </a:cubicBezTo>
                <a:close/>
              </a:path>
            </a:pathLst>
          </a:custGeom>
          <a:solidFill>
            <a:srgbClr val="ff4e95">
              <a:alpha val="50000"/>
            </a:srgbClr>
          </a:solidFill>
          <a:ln w="0">
            <a:noFill/>
          </a:ln>
        </p:spPr>
        <p:style>
          <a:lnRef idx="0"/>
          <a:fillRef idx="0"/>
          <a:effectRef idx="0"/>
          <a:fontRef idx="minor"/>
        </p:style>
        <p:txBody>
          <a:bodyPr lIns="45360" rIns="45360" tIns="46800" bIns="46800" anchor="ctr">
            <a:noAutofit/>
          </a:bodyPr>
          <a:p>
            <a:endParaRPr b="0" lang="en-US" sz="1800" spc="-1" strike="noStrike">
              <a:solidFill>
                <a:srgbClr val="000000"/>
              </a:solidFill>
              <a:latin typeface="Calibri"/>
            </a:endParaRPr>
          </a:p>
        </p:txBody>
      </p:sp>
      <p:sp>
        <p:nvSpPr>
          <p:cNvPr id="522"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9847440" y="5497560"/>
            <a:ext cx="531720" cy="25416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7a7"/>
                </a:solidFill>
                <a:latin typeface="Barlow Medium"/>
                <a:ea typeface="Barlow Medium"/>
              </a:rPr>
              <a:t>Plan</a:t>
            </a:r>
            <a:endParaRPr b="0" lang="en-US" sz="1000" spc="-1" strike="noStrike">
              <a:solidFill>
                <a:srgbClr val="000000"/>
              </a:solidFill>
              <a:latin typeface="Calibri"/>
            </a:endParaRPr>
          </a:p>
        </p:txBody>
      </p:sp>
      <p:sp>
        <p:nvSpPr>
          <p:cNvPr id="523" name="Rectangle: Rounded Corners 41"/>
          <p:cNvSpPr/>
          <p:nvPr/>
        </p:nvSpPr>
        <p:spPr>
          <a:xfrm>
            <a:off x="9067680" y="5375160"/>
            <a:ext cx="2148120" cy="61920"/>
          </a:xfrm>
          <a:prstGeom prst="roundRect">
            <a:avLst>
              <a:gd name="adj" fmla="val 50000"/>
            </a:avLst>
          </a:prstGeom>
          <a:solidFill>
            <a:srgbClr val="37e08b">
              <a:alpha val="50000"/>
            </a:srgbClr>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Rectangle: Rounded Corners 42"/>
          <p:cNvSpPr/>
          <p:nvPr/>
        </p:nvSpPr>
        <p:spPr>
          <a:xfrm>
            <a:off x="9067680" y="5375160"/>
            <a:ext cx="1176480" cy="61920"/>
          </a:xfrm>
          <a:prstGeom prst="roundRect">
            <a:avLst>
              <a:gd name="adj" fmla="val 50000"/>
            </a:avLst>
          </a:prstGeom>
          <a:solidFill>
            <a:srgbClr val="37e08b">
              <a:alpha val="50000"/>
            </a:srgbClr>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5" name="Graphic 28"/>
          <p:cNvSpPr/>
          <p:nvPr/>
        </p:nvSpPr>
        <p:spPr>
          <a:xfrm>
            <a:off x="10520280" y="5122800"/>
            <a:ext cx="182520" cy="227160"/>
          </a:xfrm>
          <a:custGeom>
            <a:avLst/>
            <a:gdLst/>
            <a:ahLst/>
            <a:rect l="l" t="t" r="r" b="b"/>
            <a:pathLst>
              <a:path w="19390" h="20682">
                <a:moveTo>
                  <a:pt x="16168" y="2152"/>
                </a:moveTo>
                <a:cubicBezTo>
                  <a:pt x="12224" y="-917"/>
                  <a:pt x="6114" y="-675"/>
                  <a:pt x="2520" y="2694"/>
                </a:cubicBezTo>
                <a:cubicBezTo>
                  <a:pt x="-1074" y="6062"/>
                  <a:pt x="-790" y="11280"/>
                  <a:pt x="3153" y="14350"/>
                </a:cubicBezTo>
                <a:cubicBezTo>
                  <a:pt x="3254" y="14428"/>
                  <a:pt x="3357" y="14505"/>
                  <a:pt x="3462" y="14580"/>
                </a:cubicBezTo>
                <a:cubicBezTo>
                  <a:pt x="5717" y="16181"/>
                  <a:pt x="7601" y="18129"/>
                  <a:pt x="9017" y="20322"/>
                </a:cubicBezTo>
                <a:cubicBezTo>
                  <a:pt x="9158" y="20545"/>
                  <a:pt x="9431" y="20683"/>
                  <a:pt x="9727" y="20682"/>
                </a:cubicBezTo>
                <a:cubicBezTo>
                  <a:pt x="10023" y="20682"/>
                  <a:pt x="10295" y="20543"/>
                  <a:pt x="10436" y="20321"/>
                </a:cubicBezTo>
                <a:lnTo>
                  <a:pt x="10502" y="20215"/>
                </a:lnTo>
                <a:cubicBezTo>
                  <a:pt x="11928" y="18048"/>
                  <a:pt x="13808" y="16124"/>
                  <a:pt x="16049" y="14537"/>
                </a:cubicBezTo>
                <a:cubicBezTo>
                  <a:pt x="20082" y="11560"/>
                  <a:pt x="20526" y="6355"/>
                  <a:pt x="17040" y="2910"/>
                </a:cubicBezTo>
                <a:cubicBezTo>
                  <a:pt x="16769" y="2642"/>
                  <a:pt x="16477" y="2389"/>
                  <a:pt x="16168" y="2152"/>
                </a:cubicBezTo>
                <a:close/>
                <a:moveTo>
                  <a:pt x="9727" y="11744"/>
                </a:moveTo>
                <a:cubicBezTo>
                  <a:pt x="7504" y="11744"/>
                  <a:pt x="5702" y="10204"/>
                  <a:pt x="5702" y="8306"/>
                </a:cubicBezTo>
                <a:cubicBezTo>
                  <a:pt x="5702" y="6407"/>
                  <a:pt x="7504" y="4868"/>
                  <a:pt x="9727" y="4868"/>
                </a:cubicBezTo>
                <a:cubicBezTo>
                  <a:pt x="11950" y="4868"/>
                  <a:pt x="13753" y="6407"/>
                  <a:pt x="13753" y="8306"/>
                </a:cubicBezTo>
                <a:cubicBezTo>
                  <a:pt x="13750" y="10204"/>
                  <a:pt x="11949" y="11741"/>
                  <a:pt x="9727" y="11744"/>
                </a:cubicBezTo>
                <a:close/>
              </a:path>
            </a:pathLst>
          </a:custGeom>
          <a:solidFill>
            <a:srgbClr val="37e08b"/>
          </a:solidFill>
          <a:ln w="0">
            <a:noFill/>
          </a:ln>
        </p:spPr>
        <p:style>
          <a:lnRef idx="0"/>
          <a:fillRef idx="0"/>
          <a:effectRef idx="0"/>
          <a:fontRef idx="minor"/>
        </p:style>
        <p:txBody>
          <a:bodyPr lIns="45360" rIns="45360" tIns="46800" bIns="46800" anchor="ctr">
            <a:noAutofit/>
          </a:bodyPr>
          <a:p>
            <a:endParaRPr b="0" lang="en-US" sz="1800" spc="-1" strike="noStrike">
              <a:solidFill>
                <a:srgbClr val="000000"/>
              </a:solidFill>
              <a:latin typeface="Calibri"/>
            </a:endParaRPr>
          </a:p>
        </p:txBody>
      </p:sp>
      <p:sp>
        <p:nvSpPr>
          <p:cNvPr id="526" name="Circle"/>
          <p:cNvSpPr/>
          <p:nvPr/>
        </p:nvSpPr>
        <p:spPr>
          <a:xfrm>
            <a:off x="9764640" y="5375160"/>
            <a:ext cx="60480" cy="61920"/>
          </a:xfrm>
          <a:prstGeom prst="ellipse">
            <a:avLst/>
          </a:prstGeom>
          <a:solidFill>
            <a:srgbClr val="37e08b"/>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527" name="Graphic 28"/>
          <p:cNvSpPr/>
          <p:nvPr/>
        </p:nvSpPr>
        <p:spPr>
          <a:xfrm>
            <a:off x="9740880" y="5240160"/>
            <a:ext cx="108000" cy="135000"/>
          </a:xfrm>
          <a:custGeom>
            <a:avLst/>
            <a:gdLst/>
            <a:ahLst/>
            <a:rect l="l" t="t" r="r" b="b"/>
            <a:pathLst>
              <a:path w="19390" h="20682">
                <a:moveTo>
                  <a:pt x="16168" y="2152"/>
                </a:moveTo>
                <a:cubicBezTo>
                  <a:pt x="12224" y="-917"/>
                  <a:pt x="6114" y="-675"/>
                  <a:pt x="2520" y="2694"/>
                </a:cubicBezTo>
                <a:cubicBezTo>
                  <a:pt x="-1074" y="6062"/>
                  <a:pt x="-790" y="11280"/>
                  <a:pt x="3153" y="14350"/>
                </a:cubicBezTo>
                <a:cubicBezTo>
                  <a:pt x="3254" y="14428"/>
                  <a:pt x="3357" y="14505"/>
                  <a:pt x="3462" y="14580"/>
                </a:cubicBezTo>
                <a:cubicBezTo>
                  <a:pt x="5717" y="16181"/>
                  <a:pt x="7601" y="18129"/>
                  <a:pt x="9017" y="20322"/>
                </a:cubicBezTo>
                <a:cubicBezTo>
                  <a:pt x="9158" y="20545"/>
                  <a:pt x="9431" y="20683"/>
                  <a:pt x="9727" y="20682"/>
                </a:cubicBezTo>
                <a:cubicBezTo>
                  <a:pt x="10023" y="20682"/>
                  <a:pt x="10295" y="20543"/>
                  <a:pt x="10436" y="20321"/>
                </a:cubicBezTo>
                <a:lnTo>
                  <a:pt x="10502" y="20215"/>
                </a:lnTo>
                <a:cubicBezTo>
                  <a:pt x="11928" y="18048"/>
                  <a:pt x="13808" y="16124"/>
                  <a:pt x="16049" y="14537"/>
                </a:cubicBezTo>
                <a:cubicBezTo>
                  <a:pt x="20082" y="11560"/>
                  <a:pt x="20526" y="6355"/>
                  <a:pt x="17040" y="2910"/>
                </a:cubicBezTo>
                <a:cubicBezTo>
                  <a:pt x="16769" y="2642"/>
                  <a:pt x="16477" y="2389"/>
                  <a:pt x="16168" y="2152"/>
                </a:cubicBezTo>
                <a:close/>
                <a:moveTo>
                  <a:pt x="9727" y="11744"/>
                </a:moveTo>
                <a:cubicBezTo>
                  <a:pt x="7504" y="11744"/>
                  <a:pt x="5702" y="10204"/>
                  <a:pt x="5702" y="8306"/>
                </a:cubicBezTo>
                <a:cubicBezTo>
                  <a:pt x="5702" y="6407"/>
                  <a:pt x="7504" y="4868"/>
                  <a:pt x="9727" y="4868"/>
                </a:cubicBezTo>
                <a:cubicBezTo>
                  <a:pt x="11950" y="4868"/>
                  <a:pt x="13753" y="6407"/>
                  <a:pt x="13753" y="8306"/>
                </a:cubicBezTo>
                <a:cubicBezTo>
                  <a:pt x="13750" y="10204"/>
                  <a:pt x="11949" y="11741"/>
                  <a:pt x="9727" y="11744"/>
                </a:cubicBezTo>
                <a:close/>
              </a:path>
            </a:pathLst>
          </a:custGeom>
          <a:solidFill>
            <a:srgbClr val="37e08b">
              <a:alpha val="50000"/>
            </a:srgbClr>
          </a:solidFill>
          <a:ln w="0">
            <a:noFill/>
          </a:ln>
        </p:spPr>
        <p:style>
          <a:lnRef idx="0"/>
          <a:fillRef idx="0"/>
          <a:effectRef idx="0"/>
          <a:fontRef idx="minor"/>
        </p:style>
        <p:txBody>
          <a:bodyPr lIns="45360" rIns="45360" tIns="46800" bIns="46800" anchor="ctr">
            <a:noAutofit/>
          </a:bodyPr>
          <a:p>
            <a:endParaRPr b="0" lang="en-US" sz="1800" spc="-1" strike="noStrike">
              <a:solidFill>
                <a:srgbClr val="000000"/>
              </a:solidFill>
              <a:latin typeface="Calibri"/>
            </a:endParaRPr>
          </a:p>
        </p:txBody>
      </p:sp>
      <p:grpSp>
        <p:nvGrpSpPr>
          <p:cNvPr id="528" name="Group 48"/>
          <p:cNvGrpSpPr/>
          <p:nvPr/>
        </p:nvGrpSpPr>
        <p:grpSpPr>
          <a:xfrm>
            <a:off x="9858240" y="-108360"/>
            <a:ext cx="2511720" cy="1887480"/>
            <a:chOff x="9858240" y="-108360"/>
            <a:chExt cx="2511720" cy="1887480"/>
          </a:xfrm>
        </p:grpSpPr>
        <p:sp>
          <p:nvSpPr>
            <p:cNvPr id="529" name="Isosceles Triangle 49"/>
            <p:cNvSpPr/>
            <p:nvPr/>
          </p:nvSpPr>
          <p:spPr>
            <a:xfrm flipV="1">
              <a:off x="9858240" y="-12960"/>
              <a:ext cx="2371320" cy="1791720"/>
            </a:xfrm>
            <a:prstGeom prst="triangle">
              <a:avLst>
                <a:gd name="adj" fmla="val 100000"/>
              </a:avLst>
            </a:prstGeom>
            <a:solidFill>
              <a:srgbClr val="f2f2f2">
                <a:alpha val="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0" name="Isosceles Triangle 50"/>
            <p:cNvSpPr/>
            <p:nvPr/>
          </p:nvSpPr>
          <p:spPr>
            <a:xfrm flipV="1">
              <a:off x="10720080" y="-108720"/>
              <a:ext cx="1649880" cy="1246680"/>
            </a:xfrm>
            <a:prstGeom prst="triangle">
              <a:avLst>
                <a:gd name="adj" fmla="val 100000"/>
              </a:avLst>
            </a:prstGeom>
            <a:solidFill>
              <a:srgbClr val="f2f2f2">
                <a:alpha val="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Rounded Corners 22"/>
          <p:cNvSpPr/>
          <p:nvPr/>
        </p:nvSpPr>
        <p:spPr>
          <a:xfrm>
            <a:off x="9290160" y="2809800"/>
            <a:ext cx="1911240" cy="692280"/>
          </a:xfrm>
          <a:prstGeom prst="roundRect">
            <a:avLst>
              <a:gd name="adj" fmla="val 50000"/>
            </a:avLst>
          </a:prstGeom>
          <a:solidFill>
            <a:srgbClr val="06d6ff">
              <a:alpha val="68000"/>
            </a:srgbClr>
          </a:solidFill>
          <a:ln w="12600">
            <a:solidFill>
              <a:srgbClr val="06d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2" name="Rectangle: Rounded Corners 20"/>
          <p:cNvSpPr/>
          <p:nvPr/>
        </p:nvSpPr>
        <p:spPr>
          <a:xfrm>
            <a:off x="1181160" y="2747880"/>
            <a:ext cx="1668240" cy="692280"/>
          </a:xfrm>
          <a:prstGeom prst="roundRect">
            <a:avLst>
              <a:gd name="adj" fmla="val 50000"/>
            </a:avLst>
          </a:prstGeom>
          <a:solidFill>
            <a:srgbClr val="37e08b">
              <a:alpha val="68000"/>
            </a:srgbClr>
          </a:solidFill>
          <a:ln w="12600">
            <a:solidFill>
              <a:srgbClr val="37e08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3" name="Rectangle: Rounded Corners 5"/>
          <p:cNvSpPr/>
          <p:nvPr/>
        </p:nvSpPr>
        <p:spPr>
          <a:xfrm>
            <a:off x="2865600" y="1978200"/>
            <a:ext cx="6414840" cy="2266920"/>
          </a:xfrm>
          <a:prstGeom prst="roundRect">
            <a:avLst>
              <a:gd name="adj" fmla="val 50000"/>
            </a:avLst>
          </a:prstGeom>
          <a:solidFill>
            <a:srgbClr val="595959">
              <a:alpha val="15000"/>
            </a:srgbClr>
          </a:solidFill>
          <a:ln w="12600">
            <a:solidFill>
              <a:srgbClr val="7f7f7f">
                <a:alpha val="26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4" name="Oval 9"/>
          <p:cNvSpPr/>
          <p:nvPr/>
        </p:nvSpPr>
        <p:spPr>
          <a:xfrm>
            <a:off x="5805360" y="2844720"/>
            <a:ext cx="533520" cy="533520"/>
          </a:xfrm>
          <a:prstGeom prst="ellipse">
            <a:avLst/>
          </a:prstGeom>
          <a:solidFill>
            <a:srgbClr val="03022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5" name="Graphic 2" descr="Earth Globe   Asia"/>
          <p:cNvPicPr/>
          <p:nvPr/>
        </p:nvPicPr>
        <p:blipFill>
          <a:blip r:embed="rId1"/>
          <a:stretch/>
        </p:blipFill>
        <p:spPr>
          <a:xfrm>
            <a:off x="2865600" y="1978200"/>
            <a:ext cx="2266920" cy="2266920"/>
          </a:xfrm>
          <a:prstGeom prst="rect">
            <a:avLst/>
          </a:prstGeom>
          <a:ln w="0">
            <a:noFill/>
          </a:ln>
        </p:spPr>
      </p:pic>
      <p:pic>
        <p:nvPicPr>
          <p:cNvPr id="536" name="Graphic 4" descr="Earth globe Americas"/>
          <p:cNvPicPr/>
          <p:nvPr/>
        </p:nvPicPr>
        <p:blipFill>
          <a:blip r:embed="rId2"/>
          <a:stretch/>
        </p:blipFill>
        <p:spPr>
          <a:xfrm>
            <a:off x="7013520" y="1978200"/>
            <a:ext cx="2266920" cy="2266920"/>
          </a:xfrm>
          <a:prstGeom prst="rect">
            <a:avLst/>
          </a:prstGeom>
          <a:ln w="0">
            <a:noFill/>
          </a:ln>
        </p:spPr>
      </p:pic>
      <p:sp>
        <p:nvSpPr>
          <p:cNvPr id="537" name="Straight Connector 7"/>
          <p:cNvSpPr/>
          <p:nvPr/>
        </p:nvSpPr>
        <p:spPr>
          <a:xfrm>
            <a:off x="6072120" y="1978200"/>
            <a:ext cx="0" cy="2266920"/>
          </a:xfrm>
          <a:prstGeom prst="line">
            <a:avLst/>
          </a:prstGeom>
          <a:ln w="6480">
            <a:solidFill>
              <a:srgbClr val="7f7f7f">
                <a:alpha val="1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8" name="TextBox 8"/>
          <p:cNvSpPr/>
          <p:nvPr/>
        </p:nvSpPr>
        <p:spPr>
          <a:xfrm>
            <a:off x="5673600" y="1995120"/>
            <a:ext cx="797040" cy="1287720"/>
          </a:xfrm>
          <a:prstGeom prst="rect">
            <a:avLst/>
          </a:prstGeom>
          <a:noFill/>
          <a:ln w="0">
            <a:noFill/>
          </a:ln>
        </p:spPr>
        <p:style>
          <a:lnRef idx="0"/>
          <a:fillRef idx="0"/>
          <a:effectRef idx="0"/>
          <a:fontRef idx="minor"/>
        </p:style>
        <p:txBody>
          <a:bodyPr lIns="90000" rIns="90000" tIns="46800" bIns="46800" anchor="b">
            <a:spAutoFit/>
          </a:bodyPr>
          <a:p>
            <a:pPr algn="ctr">
              <a:lnSpc>
                <a:spcPts val="9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9d9d9"/>
                </a:solidFill>
                <a:latin typeface="Raleway"/>
              </a:rPr>
              <a:t>VS</a:t>
            </a:r>
            <a:endParaRPr b="0" lang="en-US" sz="1400" spc="-1" strike="noStrike">
              <a:solidFill>
                <a:srgbClr val="000000"/>
              </a:solidFill>
              <a:latin typeface="Calibri"/>
            </a:endParaRPr>
          </a:p>
        </p:txBody>
      </p:sp>
      <p:sp>
        <p:nvSpPr>
          <p:cNvPr id="539" name="Circle"/>
          <p:cNvSpPr/>
          <p:nvPr/>
        </p:nvSpPr>
        <p:spPr>
          <a:xfrm>
            <a:off x="2249640" y="2844720"/>
            <a:ext cx="504720" cy="505080"/>
          </a:xfrm>
          <a:prstGeom prst="ellipse">
            <a:avLst/>
          </a:prstGeom>
          <a:solidFill>
            <a:srgbClr val="37e08b"/>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540" name="Circle"/>
          <p:cNvSpPr/>
          <p:nvPr/>
        </p:nvSpPr>
        <p:spPr>
          <a:xfrm>
            <a:off x="9416880" y="2909880"/>
            <a:ext cx="503280" cy="504720"/>
          </a:xfrm>
          <a:prstGeom prst="ellipse">
            <a:avLst/>
          </a:prstGeom>
          <a:solidFill>
            <a:srgbClr val="06d6ff"/>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541" name="Graphic 33"/>
          <p:cNvSpPr/>
          <p:nvPr/>
        </p:nvSpPr>
        <p:spPr>
          <a:xfrm flipH="1" rot="10800000">
            <a:off x="9587520" y="3108240"/>
            <a:ext cx="153720" cy="131760"/>
          </a:xfrm>
          <a:custGeom>
            <a:avLst/>
            <a:gdLst/>
            <a:ahLst/>
            <a:rect l="l" t="t" r="r" b="b"/>
            <a:pathLst>
              <a:path w="21600" h="21600">
                <a:moveTo>
                  <a:pt x="1093" y="0"/>
                </a:moveTo>
                <a:cubicBezTo>
                  <a:pt x="499" y="0"/>
                  <a:pt x="0" y="584"/>
                  <a:pt x="0" y="1283"/>
                </a:cubicBezTo>
                <a:cubicBezTo>
                  <a:pt x="0" y="1537"/>
                  <a:pt x="86" y="1788"/>
                  <a:pt x="205" y="1978"/>
                </a:cubicBezTo>
                <a:lnTo>
                  <a:pt x="5189" y="10800"/>
                </a:lnTo>
                <a:lnTo>
                  <a:pt x="205" y="19649"/>
                </a:lnTo>
                <a:cubicBezTo>
                  <a:pt x="86" y="19839"/>
                  <a:pt x="0" y="20089"/>
                  <a:pt x="0" y="20344"/>
                </a:cubicBezTo>
                <a:cubicBezTo>
                  <a:pt x="0" y="21042"/>
                  <a:pt x="499" y="21600"/>
                  <a:pt x="1093" y="21600"/>
                </a:cubicBezTo>
                <a:lnTo>
                  <a:pt x="4325" y="21600"/>
                </a:lnTo>
                <a:cubicBezTo>
                  <a:pt x="4702" y="21600"/>
                  <a:pt x="5041" y="21382"/>
                  <a:pt x="5235" y="21039"/>
                </a:cubicBezTo>
                <a:lnTo>
                  <a:pt x="10629" y="11495"/>
                </a:lnTo>
                <a:cubicBezTo>
                  <a:pt x="10748" y="11304"/>
                  <a:pt x="10811" y="11054"/>
                  <a:pt x="10811" y="10800"/>
                </a:cubicBezTo>
                <a:cubicBezTo>
                  <a:pt x="10811" y="10546"/>
                  <a:pt x="10748" y="10296"/>
                  <a:pt x="10629" y="10105"/>
                </a:cubicBezTo>
                <a:lnTo>
                  <a:pt x="5235" y="588"/>
                </a:lnTo>
                <a:cubicBezTo>
                  <a:pt x="5041" y="245"/>
                  <a:pt x="4702" y="0"/>
                  <a:pt x="4325" y="0"/>
                </a:cubicBezTo>
                <a:lnTo>
                  <a:pt x="1093" y="0"/>
                </a:lnTo>
                <a:close/>
                <a:moveTo>
                  <a:pt x="11881" y="0"/>
                </a:moveTo>
                <a:cubicBezTo>
                  <a:pt x="11287" y="0"/>
                  <a:pt x="10811" y="584"/>
                  <a:pt x="10811" y="1283"/>
                </a:cubicBezTo>
                <a:cubicBezTo>
                  <a:pt x="10811" y="1537"/>
                  <a:pt x="10875" y="1788"/>
                  <a:pt x="10993" y="1978"/>
                </a:cubicBezTo>
                <a:lnTo>
                  <a:pt x="15978" y="10800"/>
                </a:lnTo>
                <a:lnTo>
                  <a:pt x="10993" y="19649"/>
                </a:lnTo>
                <a:cubicBezTo>
                  <a:pt x="10875" y="19839"/>
                  <a:pt x="10811" y="20089"/>
                  <a:pt x="10811" y="20344"/>
                </a:cubicBezTo>
                <a:cubicBezTo>
                  <a:pt x="10811" y="21042"/>
                  <a:pt x="11287" y="21600"/>
                  <a:pt x="11881" y="21600"/>
                </a:cubicBezTo>
                <a:lnTo>
                  <a:pt x="15113" y="21600"/>
                </a:lnTo>
                <a:cubicBezTo>
                  <a:pt x="15491" y="21600"/>
                  <a:pt x="15829" y="21382"/>
                  <a:pt x="16024" y="21039"/>
                </a:cubicBezTo>
                <a:lnTo>
                  <a:pt x="21418" y="11495"/>
                </a:lnTo>
                <a:cubicBezTo>
                  <a:pt x="21537" y="11304"/>
                  <a:pt x="21600" y="11054"/>
                  <a:pt x="21600" y="10800"/>
                </a:cubicBezTo>
                <a:cubicBezTo>
                  <a:pt x="21600" y="10546"/>
                  <a:pt x="21537" y="10296"/>
                  <a:pt x="21418" y="10105"/>
                </a:cubicBezTo>
                <a:lnTo>
                  <a:pt x="16024" y="588"/>
                </a:lnTo>
                <a:cubicBezTo>
                  <a:pt x="15829" y="245"/>
                  <a:pt x="15491" y="0"/>
                  <a:pt x="15113" y="0"/>
                </a:cubicBezTo>
                <a:lnTo>
                  <a:pt x="11881" y="0"/>
                </a:lnTo>
                <a:close/>
              </a:path>
            </a:pathLst>
          </a:custGeom>
          <a:solidFill>
            <a:srgbClr val="030227"/>
          </a:solidFill>
          <a:ln w="0">
            <a:noFill/>
          </a:ln>
        </p:spPr>
        <p:style>
          <a:lnRef idx="0"/>
          <a:fillRef idx="0"/>
          <a:effectRef idx="0"/>
          <a:fontRef idx="minor"/>
        </p:style>
        <p:txBody>
          <a:bodyPr lIns="45360" rIns="45360" tIns="46800" bIns="46800" anchor="ctr">
            <a:noAutofit/>
          </a:bodyPr>
          <a:p>
            <a:endParaRPr b="0" lang="en-US" sz="1800" spc="-1" strike="noStrike">
              <a:solidFill>
                <a:srgbClr val="000000"/>
              </a:solidFill>
              <a:latin typeface="Calibri"/>
            </a:endParaRPr>
          </a:p>
        </p:txBody>
      </p:sp>
      <p:sp>
        <p:nvSpPr>
          <p:cNvPr id="542" name="TextBox 21"/>
          <p:cNvSpPr/>
          <p:nvPr/>
        </p:nvSpPr>
        <p:spPr>
          <a:xfrm>
            <a:off x="1481400" y="2909880"/>
            <a:ext cx="7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0227"/>
                </a:solidFill>
                <a:latin typeface="Raleway Medium"/>
              </a:rPr>
              <a:t>ASIA</a:t>
            </a:r>
            <a:endParaRPr b="0" lang="en-US" sz="1800" spc="-1" strike="noStrike">
              <a:solidFill>
                <a:srgbClr val="000000"/>
              </a:solidFill>
              <a:latin typeface="Calibri"/>
            </a:endParaRPr>
          </a:p>
        </p:txBody>
      </p:sp>
      <p:sp>
        <p:nvSpPr>
          <p:cNvPr id="543" name="Graphic 33"/>
          <p:cNvSpPr/>
          <p:nvPr/>
        </p:nvSpPr>
        <p:spPr>
          <a:xfrm flipH="1">
            <a:off x="2424960" y="3032280"/>
            <a:ext cx="152280" cy="129960"/>
          </a:xfrm>
          <a:custGeom>
            <a:avLst/>
            <a:gdLst/>
            <a:ahLst/>
            <a:rect l="l" t="t" r="r" b="b"/>
            <a:pathLst>
              <a:path w="21600" h="21600">
                <a:moveTo>
                  <a:pt x="1093" y="0"/>
                </a:moveTo>
                <a:cubicBezTo>
                  <a:pt x="499" y="0"/>
                  <a:pt x="0" y="584"/>
                  <a:pt x="0" y="1283"/>
                </a:cubicBezTo>
                <a:cubicBezTo>
                  <a:pt x="0" y="1537"/>
                  <a:pt x="86" y="1788"/>
                  <a:pt x="205" y="1978"/>
                </a:cubicBezTo>
                <a:lnTo>
                  <a:pt x="5189" y="10800"/>
                </a:lnTo>
                <a:lnTo>
                  <a:pt x="205" y="19649"/>
                </a:lnTo>
                <a:cubicBezTo>
                  <a:pt x="86" y="19839"/>
                  <a:pt x="0" y="20089"/>
                  <a:pt x="0" y="20344"/>
                </a:cubicBezTo>
                <a:cubicBezTo>
                  <a:pt x="0" y="21042"/>
                  <a:pt x="499" y="21600"/>
                  <a:pt x="1093" y="21600"/>
                </a:cubicBezTo>
                <a:lnTo>
                  <a:pt x="4325" y="21600"/>
                </a:lnTo>
                <a:cubicBezTo>
                  <a:pt x="4702" y="21600"/>
                  <a:pt x="5041" y="21382"/>
                  <a:pt x="5235" y="21039"/>
                </a:cubicBezTo>
                <a:lnTo>
                  <a:pt x="10629" y="11495"/>
                </a:lnTo>
                <a:cubicBezTo>
                  <a:pt x="10748" y="11304"/>
                  <a:pt x="10811" y="11054"/>
                  <a:pt x="10811" y="10800"/>
                </a:cubicBezTo>
                <a:cubicBezTo>
                  <a:pt x="10811" y="10546"/>
                  <a:pt x="10748" y="10296"/>
                  <a:pt x="10629" y="10105"/>
                </a:cubicBezTo>
                <a:lnTo>
                  <a:pt x="5235" y="588"/>
                </a:lnTo>
                <a:cubicBezTo>
                  <a:pt x="5041" y="245"/>
                  <a:pt x="4702" y="0"/>
                  <a:pt x="4325" y="0"/>
                </a:cubicBezTo>
                <a:lnTo>
                  <a:pt x="1093" y="0"/>
                </a:lnTo>
                <a:close/>
                <a:moveTo>
                  <a:pt x="11881" y="0"/>
                </a:moveTo>
                <a:cubicBezTo>
                  <a:pt x="11287" y="0"/>
                  <a:pt x="10811" y="584"/>
                  <a:pt x="10811" y="1283"/>
                </a:cubicBezTo>
                <a:cubicBezTo>
                  <a:pt x="10811" y="1537"/>
                  <a:pt x="10875" y="1788"/>
                  <a:pt x="10993" y="1978"/>
                </a:cubicBezTo>
                <a:lnTo>
                  <a:pt x="15978" y="10800"/>
                </a:lnTo>
                <a:lnTo>
                  <a:pt x="10993" y="19649"/>
                </a:lnTo>
                <a:cubicBezTo>
                  <a:pt x="10875" y="19839"/>
                  <a:pt x="10811" y="20089"/>
                  <a:pt x="10811" y="20344"/>
                </a:cubicBezTo>
                <a:cubicBezTo>
                  <a:pt x="10811" y="21042"/>
                  <a:pt x="11287" y="21600"/>
                  <a:pt x="11881" y="21600"/>
                </a:cubicBezTo>
                <a:lnTo>
                  <a:pt x="15113" y="21600"/>
                </a:lnTo>
                <a:cubicBezTo>
                  <a:pt x="15491" y="21600"/>
                  <a:pt x="15829" y="21382"/>
                  <a:pt x="16024" y="21039"/>
                </a:cubicBezTo>
                <a:lnTo>
                  <a:pt x="21418" y="11495"/>
                </a:lnTo>
                <a:cubicBezTo>
                  <a:pt x="21537" y="11304"/>
                  <a:pt x="21600" y="11054"/>
                  <a:pt x="21600" y="10800"/>
                </a:cubicBezTo>
                <a:cubicBezTo>
                  <a:pt x="21600" y="10546"/>
                  <a:pt x="21537" y="10296"/>
                  <a:pt x="21418" y="10105"/>
                </a:cubicBezTo>
                <a:lnTo>
                  <a:pt x="16024" y="588"/>
                </a:lnTo>
                <a:cubicBezTo>
                  <a:pt x="15829" y="245"/>
                  <a:pt x="15491" y="0"/>
                  <a:pt x="15113" y="0"/>
                </a:cubicBezTo>
                <a:lnTo>
                  <a:pt x="11881" y="0"/>
                </a:lnTo>
                <a:close/>
              </a:path>
            </a:pathLst>
          </a:custGeom>
          <a:solidFill>
            <a:srgbClr val="030227"/>
          </a:solidFill>
          <a:ln w="0">
            <a:noFill/>
          </a:ln>
        </p:spPr>
        <p:style>
          <a:lnRef idx="0"/>
          <a:fillRef idx="0"/>
          <a:effectRef idx="0"/>
          <a:fontRef idx="minor"/>
        </p:style>
        <p:txBody>
          <a:bodyPr lIns="45360" rIns="45360" tIns="46800" bIns="46800" anchor="ctr">
            <a:noAutofit/>
          </a:bodyPr>
          <a:p>
            <a:endParaRPr b="0" lang="en-US" sz="1800" spc="-1" strike="noStrike">
              <a:solidFill>
                <a:srgbClr val="000000"/>
              </a:solidFill>
              <a:latin typeface="Calibri"/>
            </a:endParaRPr>
          </a:p>
        </p:txBody>
      </p:sp>
      <p:sp>
        <p:nvSpPr>
          <p:cNvPr id="544" name="TextBox 24"/>
          <p:cNvSpPr/>
          <p:nvPr/>
        </p:nvSpPr>
        <p:spPr>
          <a:xfrm>
            <a:off x="10038240" y="3008160"/>
            <a:ext cx="997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0227"/>
                </a:solidFill>
                <a:latin typeface="Raleway Medium"/>
              </a:rPr>
              <a:t>AMERICA</a:t>
            </a:r>
            <a:endParaRPr b="0" lang="en-US" sz="1400" spc="-1" strike="noStrike">
              <a:solidFill>
                <a:srgbClr val="000000"/>
              </a:solidFill>
              <a:latin typeface="Calibri"/>
            </a:endParaRPr>
          </a:p>
        </p:txBody>
      </p:sp>
      <p:sp>
        <p:nvSpPr>
          <p:cNvPr id="545" name="TextBox 26"/>
          <p:cNvSpPr/>
          <p:nvPr/>
        </p:nvSpPr>
        <p:spPr>
          <a:xfrm>
            <a:off x="3099600" y="649440"/>
            <a:ext cx="5993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d6ff"/>
                </a:solidFill>
                <a:latin typeface="Raleway SemiBold"/>
                <a:ea typeface="Open Sans"/>
              </a:rPr>
              <a:t>Comparison Infographic</a:t>
            </a:r>
            <a:endParaRPr b="0" lang="en-US" sz="4000" spc="-1" strike="noStrike">
              <a:solidFill>
                <a:srgbClr val="000000"/>
              </a:solidFill>
              <a:latin typeface="Calibri"/>
            </a:endParaRPr>
          </a:p>
        </p:txBody>
      </p:sp>
      <p:grpSp>
        <p:nvGrpSpPr>
          <p:cNvPr id="546" name="Group 39"/>
          <p:cNvGrpSpPr/>
          <p:nvPr/>
        </p:nvGrpSpPr>
        <p:grpSpPr>
          <a:xfrm>
            <a:off x="1181160" y="4575240"/>
            <a:ext cx="2874960" cy="1822320"/>
            <a:chOff x="1181160" y="4575240"/>
            <a:chExt cx="2874960" cy="1822320"/>
          </a:xfrm>
        </p:grpSpPr>
        <p:sp>
          <p:nvSpPr>
            <p:cNvPr id="547"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1181160" y="4905000"/>
              <a:ext cx="2593440" cy="37620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4546a"/>
                  </a:solidFill>
                  <a:latin typeface="Open Sans"/>
                  <a:ea typeface="Open Sans"/>
                </a:rPr>
                <a:t>Lorem Ipsum is simply dummy text of the printing and typesetting industry. </a:t>
              </a:r>
              <a:endParaRPr b="0" lang="en-US" sz="900" spc="-1" strike="noStrike">
                <a:solidFill>
                  <a:srgbClr val="000000"/>
                </a:solidFill>
                <a:latin typeface="Calibri"/>
              </a:endParaRPr>
            </a:p>
          </p:txBody>
        </p:sp>
        <p:sp>
          <p:nvSpPr>
            <p:cNvPr id="548"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1188720" y="4575240"/>
              <a:ext cx="1284840" cy="28440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Raleway Medium"/>
                  <a:ea typeface="Barlow SemiBold"/>
                </a:rPr>
                <a:t>ITEM ONE</a:t>
              </a:r>
              <a:endParaRPr b="0" lang="en-US" sz="1200" spc="-1" strike="noStrike">
                <a:solidFill>
                  <a:srgbClr val="000000"/>
                </a:solidFill>
                <a:latin typeface="Calibri"/>
              </a:endParaRPr>
            </a:p>
          </p:txBody>
        </p:sp>
        <p:sp>
          <p:nvSpPr>
            <p:cNvPr id="549" name="Rounded Rectangle"/>
            <p:cNvSpPr/>
            <p:nvPr/>
          </p:nvSpPr>
          <p:spPr>
            <a:xfrm>
              <a:off x="1190880" y="5670360"/>
              <a:ext cx="2865240" cy="45720"/>
            </a:xfrm>
            <a:prstGeom prst="roundRect">
              <a:avLst>
                <a:gd name="adj" fmla="val 50000"/>
              </a:avLst>
            </a:prstGeom>
            <a:solidFill>
              <a:srgbClr val="7f7f7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0" name="Rounded Rectangle"/>
            <p:cNvSpPr/>
            <p:nvPr/>
          </p:nvSpPr>
          <p:spPr>
            <a:xfrm>
              <a:off x="1203480" y="5841000"/>
              <a:ext cx="1356480" cy="556560"/>
            </a:xfrm>
            <a:prstGeom prst="roundRect">
              <a:avLst>
                <a:gd name="adj" fmla="val 5778"/>
              </a:avLst>
            </a:prstGeom>
            <a:solidFill>
              <a:srgbClr val="37e08b"/>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1"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1266120" y="5841000"/>
              <a:ext cx="539640" cy="25416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30227"/>
                  </a:solidFill>
                  <a:latin typeface="Open Sans"/>
                  <a:ea typeface="Open Sans"/>
                </a:rPr>
                <a:t>ASIA</a:t>
              </a:r>
              <a:endParaRPr b="0" lang="en-US" sz="1000" spc="-1" strike="noStrike">
                <a:solidFill>
                  <a:srgbClr val="000000"/>
                </a:solidFill>
                <a:latin typeface="Calibri"/>
              </a:endParaRPr>
            </a:p>
          </p:txBody>
        </p:sp>
        <p:sp>
          <p:nvSpPr>
            <p:cNvPr id="552"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1504800" y="6069960"/>
              <a:ext cx="937080" cy="284400"/>
            </a:xfrm>
            <a:prstGeom prst="rect">
              <a:avLst/>
            </a:prstGeom>
            <a:noFill/>
            <a:ln w="0">
              <a:noFill/>
            </a:ln>
          </p:spPr>
          <p:style>
            <a:lnRef idx="0"/>
            <a:fillRef idx="0"/>
            <a:effectRef idx="0"/>
            <a:fontRef idx="minor"/>
          </p:style>
          <p:txBody>
            <a:bodyPr lIns="50760" rIns="50760" tIns="50760" bIns="507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rlow Medium"/>
                  <a:ea typeface="Barlow Medium"/>
                </a:rPr>
                <a:t>+21%</a:t>
              </a:r>
              <a:endParaRPr b="0" lang="en-US" sz="1200" spc="-1" strike="noStrike">
                <a:solidFill>
                  <a:srgbClr val="000000"/>
                </a:solidFill>
                <a:latin typeface="Calibri"/>
              </a:endParaRPr>
            </a:p>
          </p:txBody>
        </p:sp>
        <p:sp>
          <p:nvSpPr>
            <p:cNvPr id="553" name="Rounded Rectangle"/>
            <p:cNvSpPr/>
            <p:nvPr/>
          </p:nvSpPr>
          <p:spPr>
            <a:xfrm>
              <a:off x="2642400" y="5841000"/>
              <a:ext cx="1356480" cy="556560"/>
            </a:xfrm>
            <a:prstGeom prst="roundRect">
              <a:avLst>
                <a:gd name="adj" fmla="val 5778"/>
              </a:avLst>
            </a:prstGeom>
            <a:solidFill>
              <a:srgbClr val="06d6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4"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2705400" y="5832000"/>
              <a:ext cx="709920" cy="25416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30227"/>
                  </a:solidFill>
                  <a:latin typeface="Open Sans"/>
                  <a:ea typeface="Open Sans"/>
                </a:rPr>
                <a:t>AMERICA</a:t>
              </a:r>
              <a:endParaRPr b="0" lang="en-US" sz="1000" spc="-1" strike="noStrike">
                <a:solidFill>
                  <a:srgbClr val="000000"/>
                </a:solidFill>
                <a:latin typeface="Calibri"/>
              </a:endParaRPr>
            </a:p>
          </p:txBody>
        </p:sp>
        <p:sp>
          <p:nvSpPr>
            <p:cNvPr id="555" name="Graphic 8"/>
            <p:cNvSpPr/>
            <p:nvPr/>
          </p:nvSpPr>
          <p:spPr>
            <a:xfrm flipH="1" rot="10800000">
              <a:off x="2775960" y="6160320"/>
              <a:ext cx="97200" cy="136080"/>
            </a:xfrm>
            <a:custGeom>
              <a:avLst/>
              <a:gdLst/>
              <a:ahLst/>
              <a:rect l="l" t="t" r="r" b="b"/>
              <a:pathLst>
                <a:path w="21265" h="21600">
                  <a:moveTo>
                    <a:pt x="21104" y="8306"/>
                  </a:moveTo>
                  <a:cubicBezTo>
                    <a:pt x="20774" y="8882"/>
                    <a:pt x="19999" y="9258"/>
                    <a:pt x="19139" y="9258"/>
                  </a:cubicBezTo>
                  <a:lnTo>
                    <a:pt x="12759" y="9258"/>
                  </a:lnTo>
                  <a:lnTo>
                    <a:pt x="12759" y="20057"/>
                  </a:lnTo>
                  <a:cubicBezTo>
                    <a:pt x="12759" y="20909"/>
                    <a:pt x="11807" y="21600"/>
                    <a:pt x="10633" y="21600"/>
                  </a:cubicBezTo>
                  <a:cubicBezTo>
                    <a:pt x="9459" y="21600"/>
                    <a:pt x="8507" y="20909"/>
                    <a:pt x="8507" y="20057"/>
                  </a:cubicBezTo>
                  <a:lnTo>
                    <a:pt x="8507" y="9258"/>
                  </a:lnTo>
                  <a:lnTo>
                    <a:pt x="2127" y="9258"/>
                  </a:lnTo>
                  <a:cubicBezTo>
                    <a:pt x="1267" y="9258"/>
                    <a:pt x="492" y="8882"/>
                    <a:pt x="162" y="8306"/>
                  </a:cubicBezTo>
                  <a:cubicBezTo>
                    <a:pt x="-167" y="7729"/>
                    <a:pt x="15" y="7065"/>
                    <a:pt x="624" y="6624"/>
                  </a:cubicBezTo>
                  <a:lnTo>
                    <a:pt x="9130" y="453"/>
                  </a:lnTo>
                  <a:cubicBezTo>
                    <a:pt x="9545" y="151"/>
                    <a:pt x="10089" y="0"/>
                    <a:pt x="10633" y="0"/>
                  </a:cubicBezTo>
                  <a:cubicBezTo>
                    <a:pt x="11177" y="0"/>
                    <a:pt x="11721" y="151"/>
                    <a:pt x="12136" y="453"/>
                  </a:cubicBezTo>
                  <a:lnTo>
                    <a:pt x="20642" y="6624"/>
                  </a:lnTo>
                  <a:cubicBezTo>
                    <a:pt x="21251" y="7065"/>
                    <a:pt x="21433" y="7729"/>
                    <a:pt x="21104" y="8306"/>
                  </a:cubicBezTo>
                  <a:close/>
                </a:path>
              </a:pathLst>
            </a:custGeom>
            <a:solidFill>
              <a:srgbClr val="030227"/>
            </a:solidFill>
            <a:ln w="0">
              <a:noFill/>
            </a:ln>
          </p:spPr>
          <p:style>
            <a:lnRef idx="0"/>
            <a:fillRef idx="0"/>
            <a:effectRef idx="0"/>
            <a:fontRef idx="minor"/>
          </p:style>
          <p:txBody>
            <a:bodyPr lIns="45360" rIns="45360" tIns="45360" bIns="45360" anchor="ctr">
              <a:noAutofit/>
            </a:bodyPr>
            <a:p>
              <a:endParaRPr b="0" lang="en-US" sz="1800" spc="-1" strike="noStrike">
                <a:solidFill>
                  <a:srgbClr val="000000"/>
                </a:solidFill>
                <a:latin typeface="Calibri"/>
              </a:endParaRPr>
            </a:p>
          </p:txBody>
        </p:sp>
        <p:sp>
          <p:nvSpPr>
            <p:cNvPr id="556"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2955600" y="6110280"/>
              <a:ext cx="937080" cy="284400"/>
            </a:xfrm>
            <a:prstGeom prst="rect">
              <a:avLst/>
            </a:prstGeom>
            <a:noFill/>
            <a:ln w="0">
              <a:noFill/>
            </a:ln>
          </p:spPr>
          <p:style>
            <a:lnRef idx="0"/>
            <a:fillRef idx="0"/>
            <a:effectRef idx="0"/>
            <a:fontRef idx="minor"/>
          </p:style>
          <p:txBody>
            <a:bodyPr lIns="50760" rIns="50760" tIns="50760" bIns="507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ea typeface="Open Sans"/>
                </a:rPr>
                <a:t>-3%</a:t>
              </a:r>
              <a:endParaRPr b="0" lang="en-US" sz="1200" spc="-1" strike="noStrike">
                <a:solidFill>
                  <a:srgbClr val="000000"/>
                </a:solidFill>
                <a:latin typeface="Calibri"/>
              </a:endParaRPr>
            </a:p>
          </p:txBody>
        </p:sp>
      </p:grpSp>
      <p:sp>
        <p:nvSpPr>
          <p:cNvPr id="557" name="Graphic 8"/>
          <p:cNvSpPr/>
          <p:nvPr/>
        </p:nvSpPr>
        <p:spPr>
          <a:xfrm flipH="1" flipV="1" rot="10800000">
            <a:off x="1343520" y="6128280"/>
            <a:ext cx="96840" cy="136440"/>
          </a:xfrm>
          <a:custGeom>
            <a:avLst/>
            <a:gdLst/>
            <a:ahLst/>
            <a:rect l="l" t="t" r="r" b="b"/>
            <a:pathLst>
              <a:path w="21265" h="21600">
                <a:moveTo>
                  <a:pt x="21104" y="8306"/>
                </a:moveTo>
                <a:cubicBezTo>
                  <a:pt x="20774" y="8882"/>
                  <a:pt x="19999" y="9258"/>
                  <a:pt x="19139" y="9258"/>
                </a:cubicBezTo>
                <a:lnTo>
                  <a:pt x="12759" y="9258"/>
                </a:lnTo>
                <a:lnTo>
                  <a:pt x="12759" y="20057"/>
                </a:lnTo>
                <a:cubicBezTo>
                  <a:pt x="12759" y="20909"/>
                  <a:pt x="11807" y="21600"/>
                  <a:pt x="10633" y="21600"/>
                </a:cubicBezTo>
                <a:cubicBezTo>
                  <a:pt x="9459" y="21600"/>
                  <a:pt x="8507" y="20909"/>
                  <a:pt x="8507" y="20057"/>
                </a:cubicBezTo>
                <a:lnTo>
                  <a:pt x="8507" y="9258"/>
                </a:lnTo>
                <a:lnTo>
                  <a:pt x="2127" y="9258"/>
                </a:lnTo>
                <a:cubicBezTo>
                  <a:pt x="1267" y="9258"/>
                  <a:pt x="492" y="8882"/>
                  <a:pt x="162" y="8306"/>
                </a:cubicBezTo>
                <a:cubicBezTo>
                  <a:pt x="-167" y="7729"/>
                  <a:pt x="15" y="7065"/>
                  <a:pt x="624" y="6624"/>
                </a:cubicBezTo>
                <a:lnTo>
                  <a:pt x="9130" y="453"/>
                </a:lnTo>
                <a:cubicBezTo>
                  <a:pt x="9545" y="151"/>
                  <a:pt x="10089" y="0"/>
                  <a:pt x="10633" y="0"/>
                </a:cubicBezTo>
                <a:cubicBezTo>
                  <a:pt x="11177" y="0"/>
                  <a:pt x="11721" y="151"/>
                  <a:pt x="12136" y="453"/>
                </a:cubicBezTo>
                <a:lnTo>
                  <a:pt x="20642" y="6624"/>
                </a:lnTo>
                <a:cubicBezTo>
                  <a:pt x="21251" y="7065"/>
                  <a:pt x="21433" y="7729"/>
                  <a:pt x="21104" y="8306"/>
                </a:cubicBezTo>
                <a:close/>
              </a:path>
            </a:pathLst>
          </a:custGeom>
          <a:solidFill>
            <a:srgbClr val="030227"/>
          </a:solidFill>
          <a:ln w="0">
            <a:noFill/>
          </a:ln>
        </p:spPr>
        <p:style>
          <a:lnRef idx="0"/>
          <a:fillRef idx="0"/>
          <a:effectRef idx="0"/>
          <a:fontRef idx="minor"/>
        </p:style>
        <p:txBody>
          <a:bodyPr lIns="45360" rIns="45360" tIns="45360" bIns="45360" anchor="ctr">
            <a:noAutofit/>
          </a:bodyPr>
          <a:p>
            <a:endParaRPr b="0" lang="en-US" sz="1800" spc="-1" strike="noStrike">
              <a:solidFill>
                <a:srgbClr val="000000"/>
              </a:solidFill>
              <a:latin typeface="Calibri"/>
            </a:endParaRPr>
          </a:p>
        </p:txBody>
      </p:sp>
      <p:grpSp>
        <p:nvGrpSpPr>
          <p:cNvPr id="558" name="Group 65"/>
          <p:cNvGrpSpPr/>
          <p:nvPr/>
        </p:nvGrpSpPr>
        <p:grpSpPr>
          <a:xfrm>
            <a:off x="4773600" y="4586400"/>
            <a:ext cx="2874960" cy="1822320"/>
            <a:chOff x="4773600" y="4586400"/>
            <a:chExt cx="2874960" cy="1822320"/>
          </a:xfrm>
        </p:grpSpPr>
        <p:sp>
          <p:nvSpPr>
            <p:cNvPr id="559"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4773600" y="4916160"/>
              <a:ext cx="2593440" cy="37620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4546a"/>
                  </a:solidFill>
                  <a:latin typeface="Open Sans"/>
                  <a:ea typeface="Open Sans"/>
                </a:rPr>
                <a:t>Lorem Ipsum is simply dummy text of the printing and typesetting industry. </a:t>
              </a:r>
              <a:endParaRPr b="0" lang="en-US" sz="900" spc="-1" strike="noStrike">
                <a:solidFill>
                  <a:srgbClr val="000000"/>
                </a:solidFill>
                <a:latin typeface="Calibri"/>
              </a:endParaRPr>
            </a:p>
          </p:txBody>
        </p:sp>
        <p:sp>
          <p:nvSpPr>
            <p:cNvPr id="560"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4781160" y="4586400"/>
              <a:ext cx="1284840" cy="28440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Raleway Medium"/>
                  <a:ea typeface="Barlow SemiBold"/>
                </a:rPr>
                <a:t>ITEM TWO</a:t>
              </a:r>
              <a:endParaRPr b="0" lang="en-US" sz="1200" spc="-1" strike="noStrike">
                <a:solidFill>
                  <a:srgbClr val="000000"/>
                </a:solidFill>
                <a:latin typeface="Calibri"/>
              </a:endParaRPr>
            </a:p>
          </p:txBody>
        </p:sp>
        <p:sp>
          <p:nvSpPr>
            <p:cNvPr id="561" name="Rounded Rectangle"/>
            <p:cNvSpPr/>
            <p:nvPr/>
          </p:nvSpPr>
          <p:spPr>
            <a:xfrm>
              <a:off x="4783320" y="5681520"/>
              <a:ext cx="2865240" cy="45720"/>
            </a:xfrm>
            <a:prstGeom prst="roundRect">
              <a:avLst>
                <a:gd name="adj" fmla="val 50000"/>
              </a:avLst>
            </a:prstGeom>
            <a:solidFill>
              <a:srgbClr val="7f7f7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2" name="Rounded Rectangle"/>
            <p:cNvSpPr/>
            <p:nvPr/>
          </p:nvSpPr>
          <p:spPr>
            <a:xfrm>
              <a:off x="4795920" y="5852160"/>
              <a:ext cx="1356480" cy="556560"/>
            </a:xfrm>
            <a:prstGeom prst="roundRect">
              <a:avLst>
                <a:gd name="adj" fmla="val 5778"/>
              </a:avLst>
            </a:prstGeom>
            <a:solidFill>
              <a:srgbClr val="37e08b"/>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4858560" y="5852160"/>
              <a:ext cx="539640" cy="25416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30227"/>
                  </a:solidFill>
                  <a:latin typeface="Open Sans"/>
                  <a:ea typeface="Open Sans"/>
                </a:rPr>
                <a:t>ASIA</a:t>
              </a:r>
              <a:endParaRPr b="0" lang="en-US" sz="1000" spc="-1" strike="noStrike">
                <a:solidFill>
                  <a:srgbClr val="000000"/>
                </a:solidFill>
                <a:latin typeface="Calibri"/>
              </a:endParaRPr>
            </a:p>
          </p:txBody>
        </p:sp>
        <p:sp>
          <p:nvSpPr>
            <p:cNvPr id="564"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5097240" y="6081120"/>
              <a:ext cx="937080" cy="284400"/>
            </a:xfrm>
            <a:prstGeom prst="rect">
              <a:avLst/>
            </a:prstGeom>
            <a:noFill/>
            <a:ln w="0">
              <a:noFill/>
            </a:ln>
          </p:spPr>
          <p:style>
            <a:lnRef idx="0"/>
            <a:fillRef idx="0"/>
            <a:effectRef idx="0"/>
            <a:fontRef idx="minor"/>
          </p:style>
          <p:txBody>
            <a:bodyPr lIns="50760" rIns="50760" tIns="50760" bIns="507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rlow Medium"/>
                  <a:ea typeface="Barlow Medium"/>
                </a:rPr>
                <a:t>+21%</a:t>
              </a:r>
              <a:endParaRPr b="0" lang="en-US" sz="1200" spc="-1" strike="noStrike">
                <a:solidFill>
                  <a:srgbClr val="000000"/>
                </a:solidFill>
                <a:latin typeface="Calibri"/>
              </a:endParaRPr>
            </a:p>
          </p:txBody>
        </p:sp>
        <p:sp>
          <p:nvSpPr>
            <p:cNvPr id="565" name="Rounded Rectangle"/>
            <p:cNvSpPr/>
            <p:nvPr/>
          </p:nvSpPr>
          <p:spPr>
            <a:xfrm>
              <a:off x="6234840" y="5852160"/>
              <a:ext cx="1356480" cy="556560"/>
            </a:xfrm>
            <a:prstGeom prst="roundRect">
              <a:avLst>
                <a:gd name="adj" fmla="val 5778"/>
              </a:avLst>
            </a:prstGeom>
            <a:solidFill>
              <a:srgbClr val="06d6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6297840" y="5843160"/>
              <a:ext cx="709920" cy="25416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30227"/>
                  </a:solidFill>
                  <a:latin typeface="Open Sans"/>
                  <a:ea typeface="Open Sans"/>
                </a:rPr>
                <a:t>AMERICA</a:t>
              </a:r>
              <a:endParaRPr b="0" lang="en-US" sz="1000" spc="-1" strike="noStrike">
                <a:solidFill>
                  <a:srgbClr val="000000"/>
                </a:solidFill>
                <a:latin typeface="Calibri"/>
              </a:endParaRPr>
            </a:p>
          </p:txBody>
        </p:sp>
        <p:sp>
          <p:nvSpPr>
            <p:cNvPr id="567" name="Graphic 8"/>
            <p:cNvSpPr/>
            <p:nvPr/>
          </p:nvSpPr>
          <p:spPr>
            <a:xfrm flipH="1" rot="10800000">
              <a:off x="6368400" y="6190200"/>
              <a:ext cx="97200" cy="136080"/>
            </a:xfrm>
            <a:custGeom>
              <a:avLst/>
              <a:gdLst/>
              <a:ahLst/>
              <a:rect l="l" t="t" r="r" b="b"/>
              <a:pathLst>
                <a:path w="21265" h="21600">
                  <a:moveTo>
                    <a:pt x="21104" y="8306"/>
                  </a:moveTo>
                  <a:cubicBezTo>
                    <a:pt x="20774" y="8882"/>
                    <a:pt x="19999" y="9258"/>
                    <a:pt x="19139" y="9258"/>
                  </a:cubicBezTo>
                  <a:lnTo>
                    <a:pt x="12759" y="9258"/>
                  </a:lnTo>
                  <a:lnTo>
                    <a:pt x="12759" y="20057"/>
                  </a:lnTo>
                  <a:cubicBezTo>
                    <a:pt x="12759" y="20909"/>
                    <a:pt x="11807" y="21600"/>
                    <a:pt x="10633" y="21600"/>
                  </a:cubicBezTo>
                  <a:cubicBezTo>
                    <a:pt x="9459" y="21600"/>
                    <a:pt x="8507" y="20909"/>
                    <a:pt x="8507" y="20057"/>
                  </a:cubicBezTo>
                  <a:lnTo>
                    <a:pt x="8507" y="9258"/>
                  </a:lnTo>
                  <a:lnTo>
                    <a:pt x="2127" y="9258"/>
                  </a:lnTo>
                  <a:cubicBezTo>
                    <a:pt x="1267" y="9258"/>
                    <a:pt x="492" y="8882"/>
                    <a:pt x="162" y="8306"/>
                  </a:cubicBezTo>
                  <a:cubicBezTo>
                    <a:pt x="-167" y="7729"/>
                    <a:pt x="15" y="7065"/>
                    <a:pt x="624" y="6624"/>
                  </a:cubicBezTo>
                  <a:lnTo>
                    <a:pt x="9130" y="453"/>
                  </a:lnTo>
                  <a:cubicBezTo>
                    <a:pt x="9545" y="151"/>
                    <a:pt x="10089" y="0"/>
                    <a:pt x="10633" y="0"/>
                  </a:cubicBezTo>
                  <a:cubicBezTo>
                    <a:pt x="11177" y="0"/>
                    <a:pt x="11721" y="151"/>
                    <a:pt x="12136" y="453"/>
                  </a:cubicBezTo>
                  <a:lnTo>
                    <a:pt x="20642" y="6624"/>
                  </a:lnTo>
                  <a:cubicBezTo>
                    <a:pt x="21251" y="7065"/>
                    <a:pt x="21433" y="7729"/>
                    <a:pt x="21104" y="8306"/>
                  </a:cubicBezTo>
                  <a:close/>
                </a:path>
              </a:pathLst>
            </a:custGeom>
            <a:solidFill>
              <a:srgbClr val="030227"/>
            </a:solidFill>
            <a:ln w="0">
              <a:noFill/>
            </a:ln>
          </p:spPr>
          <p:style>
            <a:lnRef idx="0"/>
            <a:fillRef idx="0"/>
            <a:effectRef idx="0"/>
            <a:fontRef idx="minor"/>
          </p:style>
          <p:txBody>
            <a:bodyPr lIns="45360" rIns="45360" tIns="45360" bIns="45360" anchor="ctr">
              <a:noAutofit/>
            </a:bodyPr>
            <a:p>
              <a:endParaRPr b="0" lang="en-US" sz="1800" spc="-1" strike="noStrike">
                <a:solidFill>
                  <a:srgbClr val="000000"/>
                </a:solidFill>
                <a:latin typeface="Calibri"/>
              </a:endParaRPr>
            </a:p>
          </p:txBody>
        </p:sp>
        <p:sp>
          <p:nvSpPr>
            <p:cNvPr id="568"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6548040" y="6121440"/>
              <a:ext cx="937080" cy="284400"/>
            </a:xfrm>
            <a:prstGeom prst="rect">
              <a:avLst/>
            </a:prstGeom>
            <a:noFill/>
            <a:ln w="0">
              <a:noFill/>
            </a:ln>
          </p:spPr>
          <p:style>
            <a:lnRef idx="0"/>
            <a:fillRef idx="0"/>
            <a:effectRef idx="0"/>
            <a:fontRef idx="minor"/>
          </p:style>
          <p:txBody>
            <a:bodyPr lIns="50760" rIns="50760" tIns="50760" bIns="507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ea typeface="Open Sans"/>
                </a:rPr>
                <a:t>-3%</a:t>
              </a:r>
              <a:endParaRPr b="0" lang="en-US" sz="1200" spc="-1" strike="noStrike">
                <a:solidFill>
                  <a:srgbClr val="000000"/>
                </a:solidFill>
                <a:latin typeface="Calibri"/>
              </a:endParaRPr>
            </a:p>
          </p:txBody>
        </p:sp>
      </p:grpSp>
      <p:sp>
        <p:nvSpPr>
          <p:cNvPr id="569" name="Graphic 8"/>
          <p:cNvSpPr/>
          <p:nvPr/>
        </p:nvSpPr>
        <p:spPr>
          <a:xfrm flipH="1" flipV="1" rot="10800000">
            <a:off x="4937760" y="6139440"/>
            <a:ext cx="96840" cy="136440"/>
          </a:xfrm>
          <a:custGeom>
            <a:avLst/>
            <a:gdLst/>
            <a:ahLst/>
            <a:rect l="l" t="t" r="r" b="b"/>
            <a:pathLst>
              <a:path w="21265" h="21600">
                <a:moveTo>
                  <a:pt x="21104" y="8306"/>
                </a:moveTo>
                <a:cubicBezTo>
                  <a:pt x="20774" y="8882"/>
                  <a:pt x="19999" y="9258"/>
                  <a:pt x="19139" y="9258"/>
                </a:cubicBezTo>
                <a:lnTo>
                  <a:pt x="12759" y="9258"/>
                </a:lnTo>
                <a:lnTo>
                  <a:pt x="12759" y="20057"/>
                </a:lnTo>
                <a:cubicBezTo>
                  <a:pt x="12759" y="20909"/>
                  <a:pt x="11807" y="21600"/>
                  <a:pt x="10633" y="21600"/>
                </a:cubicBezTo>
                <a:cubicBezTo>
                  <a:pt x="9459" y="21600"/>
                  <a:pt x="8507" y="20909"/>
                  <a:pt x="8507" y="20057"/>
                </a:cubicBezTo>
                <a:lnTo>
                  <a:pt x="8507" y="9258"/>
                </a:lnTo>
                <a:lnTo>
                  <a:pt x="2127" y="9258"/>
                </a:lnTo>
                <a:cubicBezTo>
                  <a:pt x="1267" y="9258"/>
                  <a:pt x="492" y="8882"/>
                  <a:pt x="162" y="8306"/>
                </a:cubicBezTo>
                <a:cubicBezTo>
                  <a:pt x="-167" y="7729"/>
                  <a:pt x="15" y="7065"/>
                  <a:pt x="624" y="6624"/>
                </a:cubicBezTo>
                <a:lnTo>
                  <a:pt x="9130" y="453"/>
                </a:lnTo>
                <a:cubicBezTo>
                  <a:pt x="9545" y="151"/>
                  <a:pt x="10089" y="0"/>
                  <a:pt x="10633" y="0"/>
                </a:cubicBezTo>
                <a:cubicBezTo>
                  <a:pt x="11177" y="0"/>
                  <a:pt x="11721" y="151"/>
                  <a:pt x="12136" y="453"/>
                </a:cubicBezTo>
                <a:lnTo>
                  <a:pt x="20642" y="6624"/>
                </a:lnTo>
                <a:cubicBezTo>
                  <a:pt x="21251" y="7065"/>
                  <a:pt x="21433" y="7729"/>
                  <a:pt x="21104" y="8306"/>
                </a:cubicBezTo>
                <a:close/>
              </a:path>
            </a:pathLst>
          </a:custGeom>
          <a:solidFill>
            <a:srgbClr val="030227"/>
          </a:solidFill>
          <a:ln w="0">
            <a:noFill/>
          </a:ln>
        </p:spPr>
        <p:style>
          <a:lnRef idx="0"/>
          <a:fillRef idx="0"/>
          <a:effectRef idx="0"/>
          <a:fontRef idx="minor"/>
        </p:style>
        <p:txBody>
          <a:bodyPr lIns="45360" rIns="45360" tIns="45360" bIns="45360" anchor="ctr">
            <a:noAutofit/>
          </a:bodyPr>
          <a:p>
            <a:endParaRPr b="0" lang="en-US" sz="1800" spc="-1" strike="noStrike">
              <a:solidFill>
                <a:srgbClr val="000000"/>
              </a:solidFill>
              <a:latin typeface="Calibri"/>
            </a:endParaRPr>
          </a:p>
        </p:txBody>
      </p:sp>
      <p:grpSp>
        <p:nvGrpSpPr>
          <p:cNvPr id="570" name="Group 77"/>
          <p:cNvGrpSpPr/>
          <p:nvPr/>
        </p:nvGrpSpPr>
        <p:grpSpPr>
          <a:xfrm>
            <a:off x="8499600" y="4616280"/>
            <a:ext cx="2873160" cy="1822680"/>
            <a:chOff x="8499600" y="4616280"/>
            <a:chExt cx="2873160" cy="1822680"/>
          </a:xfrm>
        </p:grpSpPr>
        <p:sp>
          <p:nvSpPr>
            <p:cNvPr id="571"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8499600" y="4946040"/>
              <a:ext cx="2591640" cy="37620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4546a"/>
                  </a:solidFill>
                  <a:latin typeface="Open Sans"/>
                  <a:ea typeface="Open Sans"/>
                </a:rPr>
                <a:t>Lorem Ipsum is simply dummy text of the printing and typesetting industry. </a:t>
              </a:r>
              <a:endParaRPr b="0" lang="en-US" sz="900" spc="-1" strike="noStrike">
                <a:solidFill>
                  <a:srgbClr val="000000"/>
                </a:solidFill>
                <a:latin typeface="Calibri"/>
              </a:endParaRPr>
            </a:p>
          </p:txBody>
        </p:sp>
        <p:sp>
          <p:nvSpPr>
            <p:cNvPr id="572"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8507160" y="4616280"/>
              <a:ext cx="1283760" cy="28440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Raleway Medium"/>
                  <a:ea typeface="Barlow SemiBold"/>
                </a:rPr>
                <a:t>ITEM THREE</a:t>
              </a:r>
              <a:endParaRPr b="0" lang="en-US" sz="1200" spc="-1" strike="noStrike">
                <a:solidFill>
                  <a:srgbClr val="000000"/>
                </a:solidFill>
                <a:latin typeface="Calibri"/>
              </a:endParaRPr>
            </a:p>
          </p:txBody>
        </p:sp>
        <p:sp>
          <p:nvSpPr>
            <p:cNvPr id="573" name="Rounded Rectangle"/>
            <p:cNvSpPr/>
            <p:nvPr/>
          </p:nvSpPr>
          <p:spPr>
            <a:xfrm>
              <a:off x="8509320" y="5711400"/>
              <a:ext cx="2863440" cy="45720"/>
            </a:xfrm>
            <a:prstGeom prst="roundRect">
              <a:avLst>
                <a:gd name="adj" fmla="val 50000"/>
              </a:avLst>
            </a:prstGeom>
            <a:solidFill>
              <a:srgbClr val="7f7f7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4" name="Rounded Rectangle"/>
            <p:cNvSpPr/>
            <p:nvPr/>
          </p:nvSpPr>
          <p:spPr>
            <a:xfrm>
              <a:off x="8521920" y="5882400"/>
              <a:ext cx="1355760" cy="556560"/>
            </a:xfrm>
            <a:prstGeom prst="roundRect">
              <a:avLst>
                <a:gd name="adj" fmla="val 5778"/>
              </a:avLst>
            </a:prstGeom>
            <a:solidFill>
              <a:srgbClr val="37e08b"/>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8584560" y="5882400"/>
              <a:ext cx="539280" cy="25416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30227"/>
                  </a:solidFill>
                  <a:latin typeface="Open Sans"/>
                  <a:ea typeface="Open Sans"/>
                </a:rPr>
                <a:t>ASIA</a:t>
              </a:r>
              <a:endParaRPr b="0" lang="en-US" sz="1000" spc="-1" strike="noStrike">
                <a:solidFill>
                  <a:srgbClr val="000000"/>
                </a:solidFill>
                <a:latin typeface="Calibri"/>
              </a:endParaRPr>
            </a:p>
          </p:txBody>
        </p:sp>
        <p:sp>
          <p:nvSpPr>
            <p:cNvPr id="576"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8823240" y="6111360"/>
              <a:ext cx="936720" cy="284400"/>
            </a:xfrm>
            <a:prstGeom prst="rect">
              <a:avLst/>
            </a:prstGeom>
            <a:noFill/>
            <a:ln w="0">
              <a:noFill/>
            </a:ln>
          </p:spPr>
          <p:style>
            <a:lnRef idx="0"/>
            <a:fillRef idx="0"/>
            <a:effectRef idx="0"/>
            <a:fontRef idx="minor"/>
          </p:style>
          <p:txBody>
            <a:bodyPr lIns="50760" rIns="50760" tIns="50760" bIns="507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rlow Medium"/>
                  <a:ea typeface="Barlow Medium"/>
                </a:rPr>
                <a:t>+21%</a:t>
              </a:r>
              <a:endParaRPr b="0" lang="en-US" sz="1200" spc="-1" strike="noStrike">
                <a:solidFill>
                  <a:srgbClr val="000000"/>
                </a:solidFill>
                <a:latin typeface="Calibri"/>
              </a:endParaRPr>
            </a:p>
          </p:txBody>
        </p:sp>
        <p:sp>
          <p:nvSpPr>
            <p:cNvPr id="577" name="Rounded Rectangle"/>
            <p:cNvSpPr/>
            <p:nvPr/>
          </p:nvSpPr>
          <p:spPr>
            <a:xfrm>
              <a:off x="9960120" y="5882400"/>
              <a:ext cx="1355760" cy="556560"/>
            </a:xfrm>
            <a:prstGeom prst="roundRect">
              <a:avLst>
                <a:gd name="adj" fmla="val 5778"/>
              </a:avLst>
            </a:prstGeom>
            <a:solidFill>
              <a:srgbClr val="06d6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10022760" y="5873400"/>
              <a:ext cx="709560" cy="25416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30227"/>
                  </a:solidFill>
                  <a:latin typeface="Open Sans"/>
                  <a:ea typeface="Open Sans"/>
                </a:rPr>
                <a:t>AMERICA</a:t>
              </a:r>
              <a:endParaRPr b="0" lang="en-US" sz="1000" spc="-1" strike="noStrike">
                <a:solidFill>
                  <a:srgbClr val="000000"/>
                </a:solidFill>
                <a:latin typeface="Calibri"/>
              </a:endParaRPr>
            </a:p>
          </p:txBody>
        </p:sp>
        <p:sp>
          <p:nvSpPr>
            <p:cNvPr id="579" name="Graphic 8"/>
            <p:cNvSpPr/>
            <p:nvPr/>
          </p:nvSpPr>
          <p:spPr>
            <a:xfrm flipH="1" rot="10800000">
              <a:off x="10093320" y="6220080"/>
              <a:ext cx="97200" cy="136080"/>
            </a:xfrm>
            <a:custGeom>
              <a:avLst/>
              <a:gdLst/>
              <a:ahLst/>
              <a:rect l="l" t="t" r="r" b="b"/>
              <a:pathLst>
                <a:path w="21265" h="21600">
                  <a:moveTo>
                    <a:pt x="21104" y="8306"/>
                  </a:moveTo>
                  <a:cubicBezTo>
                    <a:pt x="20774" y="8882"/>
                    <a:pt x="19999" y="9258"/>
                    <a:pt x="19139" y="9258"/>
                  </a:cubicBezTo>
                  <a:lnTo>
                    <a:pt x="12759" y="9258"/>
                  </a:lnTo>
                  <a:lnTo>
                    <a:pt x="12759" y="20057"/>
                  </a:lnTo>
                  <a:cubicBezTo>
                    <a:pt x="12759" y="20909"/>
                    <a:pt x="11807" y="21600"/>
                    <a:pt x="10633" y="21600"/>
                  </a:cubicBezTo>
                  <a:cubicBezTo>
                    <a:pt x="9459" y="21600"/>
                    <a:pt x="8507" y="20909"/>
                    <a:pt x="8507" y="20057"/>
                  </a:cubicBezTo>
                  <a:lnTo>
                    <a:pt x="8507" y="9258"/>
                  </a:lnTo>
                  <a:lnTo>
                    <a:pt x="2127" y="9258"/>
                  </a:lnTo>
                  <a:cubicBezTo>
                    <a:pt x="1267" y="9258"/>
                    <a:pt x="492" y="8882"/>
                    <a:pt x="162" y="8306"/>
                  </a:cubicBezTo>
                  <a:cubicBezTo>
                    <a:pt x="-167" y="7729"/>
                    <a:pt x="15" y="7065"/>
                    <a:pt x="624" y="6624"/>
                  </a:cubicBezTo>
                  <a:lnTo>
                    <a:pt x="9130" y="453"/>
                  </a:lnTo>
                  <a:cubicBezTo>
                    <a:pt x="9545" y="151"/>
                    <a:pt x="10089" y="0"/>
                    <a:pt x="10633" y="0"/>
                  </a:cubicBezTo>
                  <a:cubicBezTo>
                    <a:pt x="11177" y="0"/>
                    <a:pt x="11721" y="151"/>
                    <a:pt x="12136" y="453"/>
                  </a:cubicBezTo>
                  <a:lnTo>
                    <a:pt x="20642" y="6624"/>
                  </a:lnTo>
                  <a:cubicBezTo>
                    <a:pt x="21251" y="7065"/>
                    <a:pt x="21433" y="7729"/>
                    <a:pt x="21104" y="8306"/>
                  </a:cubicBezTo>
                  <a:close/>
                </a:path>
              </a:pathLst>
            </a:custGeom>
            <a:solidFill>
              <a:srgbClr val="030227"/>
            </a:solidFill>
            <a:ln w="0">
              <a:noFill/>
            </a:ln>
          </p:spPr>
          <p:style>
            <a:lnRef idx="0"/>
            <a:fillRef idx="0"/>
            <a:effectRef idx="0"/>
            <a:fontRef idx="minor"/>
          </p:style>
          <p:txBody>
            <a:bodyPr lIns="45360" rIns="45360" tIns="45360" bIns="45360" anchor="ctr">
              <a:noAutofit/>
            </a:bodyPr>
            <a:p>
              <a:endParaRPr b="0" lang="en-US" sz="1800" spc="-1" strike="noStrike">
                <a:solidFill>
                  <a:srgbClr val="000000"/>
                </a:solidFill>
                <a:latin typeface="Calibri"/>
              </a:endParaRPr>
            </a:p>
          </p:txBody>
        </p:sp>
        <p:sp>
          <p:nvSpPr>
            <p:cNvPr id="580"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10272960" y="6151680"/>
              <a:ext cx="936720" cy="284400"/>
            </a:xfrm>
            <a:prstGeom prst="rect">
              <a:avLst/>
            </a:prstGeom>
            <a:noFill/>
            <a:ln w="0">
              <a:noFill/>
            </a:ln>
          </p:spPr>
          <p:style>
            <a:lnRef idx="0"/>
            <a:fillRef idx="0"/>
            <a:effectRef idx="0"/>
            <a:fontRef idx="minor"/>
          </p:style>
          <p:txBody>
            <a:bodyPr lIns="50760" rIns="50760" tIns="50760" bIns="507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ea typeface="Open Sans"/>
                </a:rPr>
                <a:t>-3%</a:t>
              </a:r>
              <a:endParaRPr b="0" lang="en-US" sz="1200" spc="-1" strike="noStrike">
                <a:solidFill>
                  <a:srgbClr val="000000"/>
                </a:solidFill>
                <a:latin typeface="Calibri"/>
              </a:endParaRPr>
            </a:p>
          </p:txBody>
        </p:sp>
      </p:grpSp>
      <p:sp>
        <p:nvSpPr>
          <p:cNvPr id="581" name="Graphic 8"/>
          <p:cNvSpPr/>
          <p:nvPr/>
        </p:nvSpPr>
        <p:spPr>
          <a:xfrm flipH="1" flipV="1" rot="10800000">
            <a:off x="8661960" y="6185520"/>
            <a:ext cx="96840" cy="136440"/>
          </a:xfrm>
          <a:custGeom>
            <a:avLst/>
            <a:gdLst/>
            <a:ahLst/>
            <a:rect l="l" t="t" r="r" b="b"/>
            <a:pathLst>
              <a:path w="21265" h="21600">
                <a:moveTo>
                  <a:pt x="21104" y="8306"/>
                </a:moveTo>
                <a:cubicBezTo>
                  <a:pt x="20774" y="8882"/>
                  <a:pt x="19999" y="9258"/>
                  <a:pt x="19139" y="9258"/>
                </a:cubicBezTo>
                <a:lnTo>
                  <a:pt x="12759" y="9258"/>
                </a:lnTo>
                <a:lnTo>
                  <a:pt x="12759" y="20057"/>
                </a:lnTo>
                <a:cubicBezTo>
                  <a:pt x="12759" y="20909"/>
                  <a:pt x="11807" y="21600"/>
                  <a:pt x="10633" y="21600"/>
                </a:cubicBezTo>
                <a:cubicBezTo>
                  <a:pt x="9459" y="21600"/>
                  <a:pt x="8507" y="20909"/>
                  <a:pt x="8507" y="20057"/>
                </a:cubicBezTo>
                <a:lnTo>
                  <a:pt x="8507" y="9258"/>
                </a:lnTo>
                <a:lnTo>
                  <a:pt x="2127" y="9258"/>
                </a:lnTo>
                <a:cubicBezTo>
                  <a:pt x="1267" y="9258"/>
                  <a:pt x="492" y="8882"/>
                  <a:pt x="162" y="8306"/>
                </a:cubicBezTo>
                <a:cubicBezTo>
                  <a:pt x="-167" y="7729"/>
                  <a:pt x="15" y="7065"/>
                  <a:pt x="624" y="6624"/>
                </a:cubicBezTo>
                <a:lnTo>
                  <a:pt x="9130" y="453"/>
                </a:lnTo>
                <a:cubicBezTo>
                  <a:pt x="9545" y="151"/>
                  <a:pt x="10089" y="0"/>
                  <a:pt x="10633" y="0"/>
                </a:cubicBezTo>
                <a:cubicBezTo>
                  <a:pt x="11177" y="0"/>
                  <a:pt x="11721" y="151"/>
                  <a:pt x="12136" y="453"/>
                </a:cubicBezTo>
                <a:lnTo>
                  <a:pt x="20642" y="6624"/>
                </a:lnTo>
                <a:cubicBezTo>
                  <a:pt x="21251" y="7065"/>
                  <a:pt x="21433" y="7729"/>
                  <a:pt x="21104" y="8306"/>
                </a:cubicBezTo>
                <a:close/>
              </a:path>
            </a:pathLst>
          </a:custGeom>
          <a:solidFill>
            <a:srgbClr val="030227"/>
          </a:solidFill>
          <a:ln w="0">
            <a:noFill/>
          </a:ln>
        </p:spPr>
        <p:style>
          <a:lnRef idx="0"/>
          <a:fillRef idx="0"/>
          <a:effectRef idx="0"/>
          <a:fontRef idx="minor"/>
        </p:style>
        <p:txBody>
          <a:bodyPr lIns="45360" rIns="45360" tIns="45360" bIns="45360" anchor="ctr">
            <a:noAutofit/>
          </a:bodyPr>
          <a:p>
            <a:endParaRPr b="0" lang="en-US" sz="1800" spc="-1" strike="noStrike">
              <a:solidFill>
                <a:srgbClr val="000000"/>
              </a:solidFill>
              <a:latin typeface="Calibri"/>
            </a:endParaRPr>
          </a:p>
        </p:txBody>
      </p:sp>
      <p:grpSp>
        <p:nvGrpSpPr>
          <p:cNvPr id="582" name="Group 89"/>
          <p:cNvGrpSpPr/>
          <p:nvPr/>
        </p:nvGrpSpPr>
        <p:grpSpPr>
          <a:xfrm>
            <a:off x="9858240" y="-108360"/>
            <a:ext cx="2511720" cy="1887480"/>
            <a:chOff x="9858240" y="-108360"/>
            <a:chExt cx="2511720" cy="1887480"/>
          </a:xfrm>
        </p:grpSpPr>
        <p:sp>
          <p:nvSpPr>
            <p:cNvPr id="583" name="Isosceles Triangle 90"/>
            <p:cNvSpPr/>
            <p:nvPr/>
          </p:nvSpPr>
          <p:spPr>
            <a:xfrm flipV="1">
              <a:off x="9858240" y="-12960"/>
              <a:ext cx="2371320" cy="1791720"/>
            </a:xfrm>
            <a:prstGeom prst="triangle">
              <a:avLst>
                <a:gd name="adj" fmla="val 100000"/>
              </a:avLst>
            </a:prstGeom>
            <a:solidFill>
              <a:srgbClr val="f2f2f2">
                <a:alpha val="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4" name="Isosceles Triangle 91"/>
            <p:cNvSpPr/>
            <p:nvPr/>
          </p:nvSpPr>
          <p:spPr>
            <a:xfrm flipV="1">
              <a:off x="10720080" y="-108720"/>
              <a:ext cx="1649880" cy="1246680"/>
            </a:xfrm>
            <a:prstGeom prst="triangle">
              <a:avLst>
                <a:gd name="adj" fmla="val 100000"/>
              </a:avLst>
            </a:prstGeom>
            <a:solidFill>
              <a:srgbClr val="f2f2f2">
                <a:alpha val="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5" name="Graphic 25"/>
          <p:cNvSpPr/>
          <p:nvPr/>
        </p:nvSpPr>
        <p:spPr>
          <a:xfrm>
            <a:off x="830160" y="4605480"/>
            <a:ext cx="249480" cy="228600"/>
          </a:xfrm>
          <a:custGeom>
            <a:avLst/>
            <a:gdLst/>
            <a:ahLst/>
            <a:rect l="l" t="t" r="r" b="b"/>
            <a:pathLst>
              <a:path w="21512" h="21600">
                <a:moveTo>
                  <a:pt x="9865" y="0"/>
                </a:moveTo>
                <a:cubicBezTo>
                  <a:pt x="4423" y="0"/>
                  <a:pt x="0" y="4822"/>
                  <a:pt x="0" y="10787"/>
                </a:cubicBezTo>
                <a:cubicBezTo>
                  <a:pt x="0" y="16752"/>
                  <a:pt x="4423" y="21600"/>
                  <a:pt x="9865" y="21600"/>
                </a:cubicBezTo>
                <a:cubicBezTo>
                  <a:pt x="15307" y="21600"/>
                  <a:pt x="19706" y="16752"/>
                  <a:pt x="19706" y="10787"/>
                </a:cubicBezTo>
                <a:cubicBezTo>
                  <a:pt x="19706" y="9670"/>
                  <a:pt x="19559" y="8601"/>
                  <a:pt x="19272" y="7588"/>
                </a:cubicBezTo>
                <a:lnTo>
                  <a:pt x="12880" y="14594"/>
                </a:lnTo>
                <a:cubicBezTo>
                  <a:pt x="12373" y="15151"/>
                  <a:pt x="11692" y="15466"/>
                  <a:pt x="10975" y="15466"/>
                </a:cubicBezTo>
                <a:cubicBezTo>
                  <a:pt x="10257" y="15466"/>
                  <a:pt x="9576" y="15151"/>
                  <a:pt x="9069" y="14594"/>
                </a:cubicBezTo>
                <a:lnTo>
                  <a:pt x="5258" y="10417"/>
                </a:lnTo>
                <a:cubicBezTo>
                  <a:pt x="4750" y="9861"/>
                  <a:pt x="4486" y="9115"/>
                  <a:pt x="4486" y="8328"/>
                </a:cubicBezTo>
                <a:cubicBezTo>
                  <a:pt x="4486" y="7541"/>
                  <a:pt x="4750" y="6822"/>
                  <a:pt x="5258" y="6266"/>
                </a:cubicBezTo>
                <a:cubicBezTo>
                  <a:pt x="5765" y="5709"/>
                  <a:pt x="6446" y="5393"/>
                  <a:pt x="7164" y="5393"/>
                </a:cubicBezTo>
                <a:cubicBezTo>
                  <a:pt x="7881" y="5393"/>
                  <a:pt x="8562" y="5709"/>
                  <a:pt x="9069" y="6266"/>
                </a:cubicBezTo>
                <a:lnTo>
                  <a:pt x="10975" y="8354"/>
                </a:lnTo>
                <a:lnTo>
                  <a:pt x="16233" y="2565"/>
                </a:lnTo>
                <a:cubicBezTo>
                  <a:pt x="14513" y="957"/>
                  <a:pt x="12302" y="0"/>
                  <a:pt x="9865" y="0"/>
                </a:cubicBezTo>
                <a:close/>
                <a:moveTo>
                  <a:pt x="20599" y="978"/>
                </a:moveTo>
                <a:cubicBezTo>
                  <a:pt x="20370" y="978"/>
                  <a:pt x="20147" y="1077"/>
                  <a:pt x="19972" y="1269"/>
                </a:cubicBezTo>
                <a:lnTo>
                  <a:pt x="10975" y="11130"/>
                </a:lnTo>
                <a:lnTo>
                  <a:pt x="7791" y="7641"/>
                </a:lnTo>
                <a:cubicBezTo>
                  <a:pt x="7440" y="7257"/>
                  <a:pt x="6887" y="7257"/>
                  <a:pt x="6537" y="7641"/>
                </a:cubicBezTo>
                <a:cubicBezTo>
                  <a:pt x="6186" y="8024"/>
                  <a:pt x="6186" y="8658"/>
                  <a:pt x="6537" y="9042"/>
                </a:cubicBezTo>
                <a:lnTo>
                  <a:pt x="10348" y="13193"/>
                </a:lnTo>
                <a:cubicBezTo>
                  <a:pt x="10522" y="13384"/>
                  <a:pt x="10745" y="13483"/>
                  <a:pt x="10975" y="13483"/>
                </a:cubicBezTo>
                <a:cubicBezTo>
                  <a:pt x="11204" y="13483"/>
                  <a:pt x="11427" y="13384"/>
                  <a:pt x="11602" y="13193"/>
                </a:cubicBezTo>
                <a:lnTo>
                  <a:pt x="21250" y="2644"/>
                </a:lnTo>
                <a:cubicBezTo>
                  <a:pt x="21600" y="2260"/>
                  <a:pt x="21600" y="1653"/>
                  <a:pt x="21250" y="1269"/>
                </a:cubicBezTo>
                <a:cubicBezTo>
                  <a:pt x="21075" y="1077"/>
                  <a:pt x="20828" y="978"/>
                  <a:pt x="20599" y="978"/>
                </a:cubicBezTo>
                <a:close/>
              </a:path>
            </a:pathLst>
          </a:custGeom>
          <a:solidFill>
            <a:srgbClr val="a6a6a6"/>
          </a:solidFill>
          <a:ln w="0">
            <a:noFill/>
          </a:ln>
        </p:spPr>
        <p:style>
          <a:lnRef idx="0"/>
          <a:fillRef idx="0"/>
          <a:effectRef idx="0"/>
          <a:fontRef idx="minor"/>
        </p:style>
        <p:txBody>
          <a:bodyPr lIns="45360" rIns="45360" tIns="46800" bIns="46800" anchor="ctr">
            <a:noAutofit/>
          </a:bodyPr>
          <a:p>
            <a:endParaRPr b="0" lang="en-US" sz="1800" spc="-1" strike="noStrike">
              <a:solidFill>
                <a:srgbClr val="000000"/>
              </a:solidFill>
              <a:latin typeface="Calibri"/>
            </a:endParaRPr>
          </a:p>
        </p:txBody>
      </p:sp>
      <p:sp>
        <p:nvSpPr>
          <p:cNvPr id="586" name="Graphic 25"/>
          <p:cNvSpPr/>
          <p:nvPr/>
        </p:nvSpPr>
        <p:spPr>
          <a:xfrm>
            <a:off x="4424400" y="4643280"/>
            <a:ext cx="249120" cy="228600"/>
          </a:xfrm>
          <a:custGeom>
            <a:avLst/>
            <a:gdLst/>
            <a:ahLst/>
            <a:rect l="l" t="t" r="r" b="b"/>
            <a:pathLst>
              <a:path w="21512" h="21600">
                <a:moveTo>
                  <a:pt x="9865" y="0"/>
                </a:moveTo>
                <a:cubicBezTo>
                  <a:pt x="4423" y="0"/>
                  <a:pt x="0" y="4822"/>
                  <a:pt x="0" y="10787"/>
                </a:cubicBezTo>
                <a:cubicBezTo>
                  <a:pt x="0" y="16752"/>
                  <a:pt x="4423" y="21600"/>
                  <a:pt x="9865" y="21600"/>
                </a:cubicBezTo>
                <a:cubicBezTo>
                  <a:pt x="15307" y="21600"/>
                  <a:pt x="19706" y="16752"/>
                  <a:pt x="19706" y="10787"/>
                </a:cubicBezTo>
                <a:cubicBezTo>
                  <a:pt x="19706" y="9670"/>
                  <a:pt x="19559" y="8601"/>
                  <a:pt x="19272" y="7588"/>
                </a:cubicBezTo>
                <a:lnTo>
                  <a:pt x="12880" y="14594"/>
                </a:lnTo>
                <a:cubicBezTo>
                  <a:pt x="12373" y="15151"/>
                  <a:pt x="11692" y="15466"/>
                  <a:pt x="10975" y="15466"/>
                </a:cubicBezTo>
                <a:cubicBezTo>
                  <a:pt x="10257" y="15466"/>
                  <a:pt x="9576" y="15151"/>
                  <a:pt x="9069" y="14594"/>
                </a:cubicBezTo>
                <a:lnTo>
                  <a:pt x="5258" y="10417"/>
                </a:lnTo>
                <a:cubicBezTo>
                  <a:pt x="4750" y="9861"/>
                  <a:pt x="4486" y="9115"/>
                  <a:pt x="4486" y="8328"/>
                </a:cubicBezTo>
                <a:cubicBezTo>
                  <a:pt x="4486" y="7541"/>
                  <a:pt x="4750" y="6822"/>
                  <a:pt x="5258" y="6266"/>
                </a:cubicBezTo>
                <a:cubicBezTo>
                  <a:pt x="5765" y="5709"/>
                  <a:pt x="6446" y="5393"/>
                  <a:pt x="7164" y="5393"/>
                </a:cubicBezTo>
                <a:cubicBezTo>
                  <a:pt x="7881" y="5393"/>
                  <a:pt x="8562" y="5709"/>
                  <a:pt x="9069" y="6266"/>
                </a:cubicBezTo>
                <a:lnTo>
                  <a:pt x="10975" y="8354"/>
                </a:lnTo>
                <a:lnTo>
                  <a:pt x="16233" y="2565"/>
                </a:lnTo>
                <a:cubicBezTo>
                  <a:pt x="14513" y="957"/>
                  <a:pt x="12302" y="0"/>
                  <a:pt x="9865" y="0"/>
                </a:cubicBezTo>
                <a:close/>
                <a:moveTo>
                  <a:pt x="20599" y="978"/>
                </a:moveTo>
                <a:cubicBezTo>
                  <a:pt x="20370" y="978"/>
                  <a:pt x="20147" y="1077"/>
                  <a:pt x="19972" y="1269"/>
                </a:cubicBezTo>
                <a:lnTo>
                  <a:pt x="10975" y="11130"/>
                </a:lnTo>
                <a:lnTo>
                  <a:pt x="7791" y="7641"/>
                </a:lnTo>
                <a:cubicBezTo>
                  <a:pt x="7440" y="7257"/>
                  <a:pt x="6887" y="7257"/>
                  <a:pt x="6537" y="7641"/>
                </a:cubicBezTo>
                <a:cubicBezTo>
                  <a:pt x="6186" y="8024"/>
                  <a:pt x="6186" y="8658"/>
                  <a:pt x="6537" y="9042"/>
                </a:cubicBezTo>
                <a:lnTo>
                  <a:pt x="10348" y="13193"/>
                </a:lnTo>
                <a:cubicBezTo>
                  <a:pt x="10522" y="13384"/>
                  <a:pt x="10745" y="13483"/>
                  <a:pt x="10975" y="13483"/>
                </a:cubicBezTo>
                <a:cubicBezTo>
                  <a:pt x="11204" y="13483"/>
                  <a:pt x="11427" y="13384"/>
                  <a:pt x="11602" y="13193"/>
                </a:cubicBezTo>
                <a:lnTo>
                  <a:pt x="21250" y="2644"/>
                </a:lnTo>
                <a:cubicBezTo>
                  <a:pt x="21600" y="2260"/>
                  <a:pt x="21600" y="1653"/>
                  <a:pt x="21250" y="1269"/>
                </a:cubicBezTo>
                <a:cubicBezTo>
                  <a:pt x="21075" y="1077"/>
                  <a:pt x="20828" y="978"/>
                  <a:pt x="20599" y="978"/>
                </a:cubicBezTo>
                <a:close/>
              </a:path>
            </a:pathLst>
          </a:custGeom>
          <a:solidFill>
            <a:srgbClr val="a6a6a6"/>
          </a:solidFill>
          <a:ln w="0">
            <a:noFill/>
          </a:ln>
        </p:spPr>
        <p:style>
          <a:lnRef idx="0"/>
          <a:fillRef idx="0"/>
          <a:effectRef idx="0"/>
          <a:fontRef idx="minor"/>
        </p:style>
        <p:txBody>
          <a:bodyPr lIns="45360" rIns="45360" tIns="46800" bIns="46800" anchor="ctr">
            <a:noAutofit/>
          </a:bodyPr>
          <a:p>
            <a:endParaRPr b="0" lang="en-US" sz="1800" spc="-1" strike="noStrike">
              <a:solidFill>
                <a:srgbClr val="000000"/>
              </a:solidFill>
              <a:latin typeface="Calibri"/>
            </a:endParaRPr>
          </a:p>
        </p:txBody>
      </p:sp>
      <p:sp>
        <p:nvSpPr>
          <p:cNvPr id="587" name="Graphic 25"/>
          <p:cNvSpPr/>
          <p:nvPr/>
        </p:nvSpPr>
        <p:spPr>
          <a:xfrm>
            <a:off x="8186760" y="4660920"/>
            <a:ext cx="249120" cy="227160"/>
          </a:xfrm>
          <a:custGeom>
            <a:avLst/>
            <a:gdLst/>
            <a:ahLst/>
            <a:rect l="l" t="t" r="r" b="b"/>
            <a:pathLst>
              <a:path w="21512" h="21600">
                <a:moveTo>
                  <a:pt x="9865" y="0"/>
                </a:moveTo>
                <a:cubicBezTo>
                  <a:pt x="4423" y="0"/>
                  <a:pt x="0" y="4822"/>
                  <a:pt x="0" y="10787"/>
                </a:cubicBezTo>
                <a:cubicBezTo>
                  <a:pt x="0" y="16752"/>
                  <a:pt x="4423" y="21600"/>
                  <a:pt x="9865" y="21600"/>
                </a:cubicBezTo>
                <a:cubicBezTo>
                  <a:pt x="15307" y="21600"/>
                  <a:pt x="19706" y="16752"/>
                  <a:pt x="19706" y="10787"/>
                </a:cubicBezTo>
                <a:cubicBezTo>
                  <a:pt x="19706" y="9670"/>
                  <a:pt x="19559" y="8601"/>
                  <a:pt x="19272" y="7588"/>
                </a:cubicBezTo>
                <a:lnTo>
                  <a:pt x="12880" y="14594"/>
                </a:lnTo>
                <a:cubicBezTo>
                  <a:pt x="12373" y="15151"/>
                  <a:pt x="11692" y="15466"/>
                  <a:pt x="10975" y="15466"/>
                </a:cubicBezTo>
                <a:cubicBezTo>
                  <a:pt x="10257" y="15466"/>
                  <a:pt x="9576" y="15151"/>
                  <a:pt x="9069" y="14594"/>
                </a:cubicBezTo>
                <a:lnTo>
                  <a:pt x="5258" y="10417"/>
                </a:lnTo>
                <a:cubicBezTo>
                  <a:pt x="4750" y="9861"/>
                  <a:pt x="4486" y="9115"/>
                  <a:pt x="4486" y="8328"/>
                </a:cubicBezTo>
                <a:cubicBezTo>
                  <a:pt x="4486" y="7541"/>
                  <a:pt x="4750" y="6822"/>
                  <a:pt x="5258" y="6266"/>
                </a:cubicBezTo>
                <a:cubicBezTo>
                  <a:pt x="5765" y="5709"/>
                  <a:pt x="6446" y="5393"/>
                  <a:pt x="7164" y="5393"/>
                </a:cubicBezTo>
                <a:cubicBezTo>
                  <a:pt x="7881" y="5393"/>
                  <a:pt x="8562" y="5709"/>
                  <a:pt x="9069" y="6266"/>
                </a:cubicBezTo>
                <a:lnTo>
                  <a:pt x="10975" y="8354"/>
                </a:lnTo>
                <a:lnTo>
                  <a:pt x="16233" y="2565"/>
                </a:lnTo>
                <a:cubicBezTo>
                  <a:pt x="14513" y="957"/>
                  <a:pt x="12302" y="0"/>
                  <a:pt x="9865" y="0"/>
                </a:cubicBezTo>
                <a:close/>
                <a:moveTo>
                  <a:pt x="20599" y="978"/>
                </a:moveTo>
                <a:cubicBezTo>
                  <a:pt x="20370" y="978"/>
                  <a:pt x="20147" y="1077"/>
                  <a:pt x="19972" y="1269"/>
                </a:cubicBezTo>
                <a:lnTo>
                  <a:pt x="10975" y="11130"/>
                </a:lnTo>
                <a:lnTo>
                  <a:pt x="7791" y="7641"/>
                </a:lnTo>
                <a:cubicBezTo>
                  <a:pt x="7440" y="7257"/>
                  <a:pt x="6887" y="7257"/>
                  <a:pt x="6537" y="7641"/>
                </a:cubicBezTo>
                <a:cubicBezTo>
                  <a:pt x="6186" y="8024"/>
                  <a:pt x="6186" y="8658"/>
                  <a:pt x="6537" y="9042"/>
                </a:cubicBezTo>
                <a:lnTo>
                  <a:pt x="10348" y="13193"/>
                </a:lnTo>
                <a:cubicBezTo>
                  <a:pt x="10522" y="13384"/>
                  <a:pt x="10745" y="13483"/>
                  <a:pt x="10975" y="13483"/>
                </a:cubicBezTo>
                <a:cubicBezTo>
                  <a:pt x="11204" y="13483"/>
                  <a:pt x="11427" y="13384"/>
                  <a:pt x="11602" y="13193"/>
                </a:cubicBezTo>
                <a:lnTo>
                  <a:pt x="21250" y="2644"/>
                </a:lnTo>
                <a:cubicBezTo>
                  <a:pt x="21600" y="2260"/>
                  <a:pt x="21600" y="1653"/>
                  <a:pt x="21250" y="1269"/>
                </a:cubicBezTo>
                <a:cubicBezTo>
                  <a:pt x="21075" y="1077"/>
                  <a:pt x="20828" y="978"/>
                  <a:pt x="20599" y="978"/>
                </a:cubicBezTo>
                <a:close/>
              </a:path>
            </a:pathLst>
          </a:custGeom>
          <a:solidFill>
            <a:srgbClr val="a6a6a6"/>
          </a:solidFill>
          <a:ln w="0">
            <a:noFill/>
          </a:ln>
        </p:spPr>
        <p:style>
          <a:lnRef idx="0"/>
          <a:fillRef idx="0"/>
          <a:effectRef idx="0"/>
          <a:fontRef idx="minor"/>
        </p:style>
        <p:txBody>
          <a:bodyPr lIns="45360" rIns="4536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8" name="Group 3"/>
          <p:cNvGrpSpPr/>
          <p:nvPr/>
        </p:nvGrpSpPr>
        <p:grpSpPr>
          <a:xfrm>
            <a:off x="4740120" y="2476440"/>
            <a:ext cx="2616480" cy="2616120"/>
            <a:chOff x="4740120" y="2476440"/>
            <a:chExt cx="2616480" cy="2616120"/>
          </a:xfrm>
        </p:grpSpPr>
        <p:sp>
          <p:nvSpPr>
            <p:cNvPr id="589" name="Freeform 2"/>
            <p:cNvSpPr/>
            <p:nvPr/>
          </p:nvSpPr>
          <p:spPr>
            <a:xfrm>
              <a:off x="4740120" y="2476440"/>
              <a:ext cx="2616480" cy="2616120"/>
            </a:xfrm>
            <a:custGeom>
              <a:avLst/>
              <a:gdLst/>
              <a:ahLst/>
              <a:rect l="l" t="t" r="r" b="b"/>
              <a:pathLst>
                <a:path w="7025" h="7025">
                  <a:moveTo>
                    <a:pt x="7024" y="3511"/>
                  </a:moveTo>
                  <a:lnTo>
                    <a:pt x="7024" y="3511"/>
                  </a:lnTo>
                  <a:cubicBezTo>
                    <a:pt x="7024" y="5451"/>
                    <a:pt x="5451" y="7024"/>
                    <a:pt x="3512" y="7024"/>
                  </a:cubicBezTo>
                  <a:lnTo>
                    <a:pt x="3512" y="7024"/>
                  </a:lnTo>
                  <a:cubicBezTo>
                    <a:pt x="1572" y="7024"/>
                    <a:pt x="0" y="5451"/>
                    <a:pt x="0" y="3511"/>
                  </a:cubicBezTo>
                  <a:lnTo>
                    <a:pt x="0" y="3511"/>
                  </a:lnTo>
                  <a:cubicBezTo>
                    <a:pt x="0" y="1573"/>
                    <a:pt x="1572" y="0"/>
                    <a:pt x="3512" y="0"/>
                  </a:cubicBezTo>
                  <a:lnTo>
                    <a:pt x="3512" y="0"/>
                  </a:lnTo>
                  <a:cubicBezTo>
                    <a:pt x="5451" y="0"/>
                    <a:pt x="7024" y="1573"/>
                    <a:pt x="7024" y="3511"/>
                  </a:cubicBezTo>
                </a:path>
              </a:pathLst>
            </a:custGeom>
            <a:solidFill>
              <a:srgbClr val="06d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90" name="Freeform: Shape 2"/>
            <p:cNvSpPr/>
            <p:nvPr/>
          </p:nvSpPr>
          <p:spPr>
            <a:xfrm>
              <a:off x="4846320" y="3016440"/>
              <a:ext cx="2463120" cy="1773000"/>
            </a:xfrm>
            <a:custGeom>
              <a:avLst/>
              <a:gdLst/>
              <a:ahLst/>
              <a:rect l="l" t="t" r="r" b="b"/>
              <a:pathLst>
                <a:path w="5976144" h="4302320">
                  <a:moveTo>
                    <a:pt x="5506603" y="2463200"/>
                  </a:moveTo>
                  <a:cubicBezTo>
                    <a:pt x="5512025" y="2479458"/>
                    <a:pt x="5516543" y="2493909"/>
                    <a:pt x="5519254" y="2509264"/>
                  </a:cubicBezTo>
                  <a:cubicBezTo>
                    <a:pt x="5523773" y="2538167"/>
                    <a:pt x="5521062" y="2566166"/>
                    <a:pt x="5555401" y="2585134"/>
                  </a:cubicBezTo>
                  <a:cubicBezTo>
                    <a:pt x="5568956" y="2594166"/>
                    <a:pt x="5568956" y="2631198"/>
                    <a:pt x="5569860" y="2654681"/>
                  </a:cubicBezTo>
                  <a:cubicBezTo>
                    <a:pt x="5569860" y="2694423"/>
                    <a:pt x="5568052" y="2733261"/>
                    <a:pt x="5614139" y="2752228"/>
                  </a:cubicBezTo>
                  <a:cubicBezTo>
                    <a:pt x="5619561" y="2754938"/>
                    <a:pt x="5621368" y="2765776"/>
                    <a:pt x="5624983" y="2773002"/>
                  </a:cubicBezTo>
                  <a:cubicBezTo>
                    <a:pt x="5636731" y="2792873"/>
                    <a:pt x="5647575" y="2812744"/>
                    <a:pt x="5661130" y="2830808"/>
                  </a:cubicBezTo>
                  <a:cubicBezTo>
                    <a:pt x="5686432" y="2866936"/>
                    <a:pt x="5702698" y="2922032"/>
                    <a:pt x="5699084" y="2967193"/>
                  </a:cubicBezTo>
                  <a:cubicBezTo>
                    <a:pt x="5691854" y="3046676"/>
                    <a:pt x="5656611" y="3118029"/>
                    <a:pt x="5584318" y="3168609"/>
                  </a:cubicBezTo>
                  <a:cubicBezTo>
                    <a:pt x="5544557" y="3197512"/>
                    <a:pt x="5517447" y="3244479"/>
                    <a:pt x="5482204" y="3280607"/>
                  </a:cubicBezTo>
                  <a:cubicBezTo>
                    <a:pt x="5464131" y="3297769"/>
                    <a:pt x="5441539" y="3310414"/>
                    <a:pt x="5419851" y="3323059"/>
                  </a:cubicBezTo>
                  <a:cubicBezTo>
                    <a:pt x="5409007" y="3330284"/>
                    <a:pt x="5393645" y="3332091"/>
                    <a:pt x="5381897" y="3338413"/>
                  </a:cubicBezTo>
                  <a:cubicBezTo>
                    <a:pt x="5346654" y="3356477"/>
                    <a:pt x="5346654" y="3357381"/>
                    <a:pt x="5314122" y="3329381"/>
                  </a:cubicBezTo>
                  <a:cubicBezTo>
                    <a:pt x="5290627" y="3370929"/>
                    <a:pt x="5260806" y="3342026"/>
                    <a:pt x="5235503" y="3332994"/>
                  </a:cubicBezTo>
                  <a:cubicBezTo>
                    <a:pt x="5221948" y="3328478"/>
                    <a:pt x="5214719" y="3302285"/>
                    <a:pt x="5209297" y="3283317"/>
                  </a:cubicBezTo>
                  <a:cubicBezTo>
                    <a:pt x="5202068" y="3263447"/>
                    <a:pt x="5201164" y="3239963"/>
                    <a:pt x="5198453" y="3219189"/>
                  </a:cubicBezTo>
                  <a:cubicBezTo>
                    <a:pt x="5196646" y="3202931"/>
                    <a:pt x="5196646" y="3187577"/>
                    <a:pt x="5195742" y="3172222"/>
                  </a:cubicBezTo>
                  <a:cubicBezTo>
                    <a:pt x="5176765" y="3186673"/>
                    <a:pt x="5155077" y="3204738"/>
                    <a:pt x="5129774" y="3224608"/>
                  </a:cubicBezTo>
                  <a:cubicBezTo>
                    <a:pt x="5127063" y="3213770"/>
                    <a:pt x="5124352" y="3207447"/>
                    <a:pt x="5123449" y="3201125"/>
                  </a:cubicBezTo>
                  <a:cubicBezTo>
                    <a:pt x="5118930" y="3139706"/>
                    <a:pt x="5094531" y="3113513"/>
                    <a:pt x="5034889" y="3122545"/>
                  </a:cubicBezTo>
                  <a:cubicBezTo>
                    <a:pt x="4963500" y="3135190"/>
                    <a:pt x="4885785" y="3135190"/>
                    <a:pt x="4826143" y="3187577"/>
                  </a:cubicBezTo>
                  <a:cubicBezTo>
                    <a:pt x="4818914" y="3193899"/>
                    <a:pt x="4804455" y="3196609"/>
                    <a:pt x="4794515" y="3194802"/>
                  </a:cubicBezTo>
                  <a:cubicBezTo>
                    <a:pt x="4747524" y="3189383"/>
                    <a:pt x="4705955" y="3204738"/>
                    <a:pt x="4666194" y="3227318"/>
                  </a:cubicBezTo>
                  <a:cubicBezTo>
                    <a:pt x="4638181" y="3244479"/>
                    <a:pt x="4617396" y="3233640"/>
                    <a:pt x="4601130" y="3213770"/>
                  </a:cubicBezTo>
                  <a:cubicBezTo>
                    <a:pt x="4595708" y="3207447"/>
                    <a:pt x="4597516" y="3190286"/>
                    <a:pt x="4601130" y="3179448"/>
                  </a:cubicBezTo>
                  <a:cubicBezTo>
                    <a:pt x="4611071" y="3154158"/>
                    <a:pt x="4630048" y="3130674"/>
                    <a:pt x="4634566" y="3105384"/>
                  </a:cubicBezTo>
                  <a:cubicBezTo>
                    <a:pt x="4638181" y="3072869"/>
                    <a:pt x="4629144" y="3038547"/>
                    <a:pt x="4629144" y="3006031"/>
                  </a:cubicBezTo>
                  <a:cubicBezTo>
                    <a:pt x="4628240" y="2984354"/>
                    <a:pt x="4605649" y="2958161"/>
                    <a:pt x="4638181" y="2940097"/>
                  </a:cubicBezTo>
                  <a:cubicBezTo>
                    <a:pt x="4640892" y="2939193"/>
                    <a:pt x="4636373" y="2922936"/>
                    <a:pt x="4634566" y="2913903"/>
                  </a:cubicBezTo>
                  <a:cubicBezTo>
                    <a:pt x="4625529" y="2866936"/>
                    <a:pt x="4644506" y="2839840"/>
                    <a:pt x="4682460" y="2810937"/>
                  </a:cubicBezTo>
                  <a:cubicBezTo>
                    <a:pt x="4729451" y="2776615"/>
                    <a:pt x="4780960" y="2765776"/>
                    <a:pt x="4835180" y="2754938"/>
                  </a:cubicBezTo>
                  <a:cubicBezTo>
                    <a:pt x="4871326" y="2748615"/>
                    <a:pt x="4889400" y="2721519"/>
                    <a:pt x="4901147" y="2688100"/>
                  </a:cubicBezTo>
                  <a:cubicBezTo>
                    <a:pt x="4906569" y="2670939"/>
                    <a:pt x="4908377" y="2638424"/>
                    <a:pt x="4943619" y="2661004"/>
                  </a:cubicBezTo>
                  <a:cubicBezTo>
                    <a:pt x="4949041" y="2663713"/>
                    <a:pt x="4970729" y="2638424"/>
                    <a:pt x="4983381" y="2624875"/>
                  </a:cubicBezTo>
                  <a:cubicBezTo>
                    <a:pt x="4998743" y="2610424"/>
                    <a:pt x="5013202" y="2592360"/>
                    <a:pt x="5028564" y="2578811"/>
                  </a:cubicBezTo>
                  <a:cubicBezTo>
                    <a:pt x="5047541" y="2560747"/>
                    <a:pt x="5066518" y="2560747"/>
                    <a:pt x="5085495" y="2582424"/>
                  </a:cubicBezTo>
                  <a:cubicBezTo>
                    <a:pt x="5106279" y="2606811"/>
                    <a:pt x="5124352" y="2603198"/>
                    <a:pt x="5132485" y="2571586"/>
                  </a:cubicBezTo>
                  <a:cubicBezTo>
                    <a:pt x="5144233" y="2523716"/>
                    <a:pt x="5184898" y="2505651"/>
                    <a:pt x="5221045" y="2485781"/>
                  </a:cubicBezTo>
                  <a:cubicBezTo>
                    <a:pt x="5235503" y="2477652"/>
                    <a:pt x="5262613" y="2492103"/>
                    <a:pt x="5284301" y="2494813"/>
                  </a:cubicBezTo>
                  <a:cubicBezTo>
                    <a:pt x="5301471" y="2497522"/>
                    <a:pt x="5318640" y="2498426"/>
                    <a:pt x="5341232" y="2500232"/>
                  </a:cubicBezTo>
                  <a:cubicBezTo>
                    <a:pt x="5339425" y="2505651"/>
                    <a:pt x="5340328" y="2516490"/>
                    <a:pt x="5335810" y="2523716"/>
                  </a:cubicBezTo>
                  <a:cubicBezTo>
                    <a:pt x="5327677" y="2539070"/>
                    <a:pt x="5315929" y="2553522"/>
                    <a:pt x="5305989" y="2567973"/>
                  </a:cubicBezTo>
                  <a:cubicBezTo>
                    <a:pt x="5290627" y="2591456"/>
                    <a:pt x="5296952" y="2609521"/>
                    <a:pt x="5320448" y="2623069"/>
                  </a:cubicBezTo>
                  <a:cubicBezTo>
                    <a:pt x="5341232" y="2633907"/>
                    <a:pt x="5361113" y="2646552"/>
                    <a:pt x="5378282" y="2661907"/>
                  </a:cubicBezTo>
                  <a:cubicBezTo>
                    <a:pt x="5404489" y="2685391"/>
                    <a:pt x="5425273" y="2678165"/>
                    <a:pt x="5436117" y="2650165"/>
                  </a:cubicBezTo>
                  <a:cubicBezTo>
                    <a:pt x="5453287" y="2608617"/>
                    <a:pt x="5464131" y="2564360"/>
                    <a:pt x="5477686" y="2521006"/>
                  </a:cubicBezTo>
                  <a:cubicBezTo>
                    <a:pt x="5483108" y="2501135"/>
                    <a:pt x="5491241" y="2482168"/>
                    <a:pt x="5506603" y="2463200"/>
                  </a:cubicBezTo>
                  <a:close/>
                  <a:moveTo>
                    <a:pt x="3875112" y="1914003"/>
                  </a:moveTo>
                  <a:cubicBezTo>
                    <a:pt x="3869692" y="1915809"/>
                    <a:pt x="3865175" y="1918519"/>
                    <a:pt x="3859755" y="1920326"/>
                  </a:cubicBezTo>
                  <a:lnTo>
                    <a:pt x="3859755" y="1932972"/>
                  </a:lnTo>
                  <a:cubicBezTo>
                    <a:pt x="3864272" y="1926649"/>
                    <a:pt x="3869692" y="1919422"/>
                    <a:pt x="3875112" y="1914003"/>
                  </a:cubicBezTo>
                  <a:close/>
                  <a:moveTo>
                    <a:pt x="3859755" y="1416297"/>
                  </a:moveTo>
                  <a:lnTo>
                    <a:pt x="3859755" y="1422620"/>
                  </a:lnTo>
                  <a:cubicBezTo>
                    <a:pt x="3860658" y="1425330"/>
                    <a:pt x="3862465" y="1427137"/>
                    <a:pt x="3864272" y="1430750"/>
                  </a:cubicBezTo>
                  <a:lnTo>
                    <a:pt x="3872402" y="1441589"/>
                  </a:lnTo>
                  <a:lnTo>
                    <a:pt x="3859755" y="1416297"/>
                  </a:lnTo>
                  <a:close/>
                  <a:moveTo>
                    <a:pt x="3363807" y="863492"/>
                  </a:moveTo>
                  <a:cubicBezTo>
                    <a:pt x="3342126" y="892397"/>
                    <a:pt x="3323155" y="911366"/>
                    <a:pt x="3311412" y="933947"/>
                  </a:cubicBezTo>
                  <a:cubicBezTo>
                    <a:pt x="3295151" y="969175"/>
                    <a:pt x="3257210" y="1007113"/>
                    <a:pt x="3316832" y="1048664"/>
                  </a:cubicBezTo>
                  <a:cubicBezTo>
                    <a:pt x="3282504" y="1053180"/>
                    <a:pt x="3252693" y="1053180"/>
                    <a:pt x="3222882" y="1054083"/>
                  </a:cubicBezTo>
                  <a:cubicBezTo>
                    <a:pt x="3214751" y="1054083"/>
                    <a:pt x="3206621" y="1057696"/>
                    <a:pt x="3199394" y="1060406"/>
                  </a:cubicBezTo>
                  <a:cubicBezTo>
                    <a:pt x="3187650" y="1066729"/>
                    <a:pt x="3175907" y="1073955"/>
                    <a:pt x="3157839" y="1084795"/>
                  </a:cubicBezTo>
                  <a:cubicBezTo>
                    <a:pt x="3168680" y="1099247"/>
                    <a:pt x="3183133" y="1117313"/>
                    <a:pt x="3198491" y="1138088"/>
                  </a:cubicBezTo>
                  <a:cubicBezTo>
                    <a:pt x="3135255" y="1143508"/>
                    <a:pt x="3086473" y="1110086"/>
                    <a:pt x="3072923" y="1057696"/>
                  </a:cubicBezTo>
                  <a:cubicBezTo>
                    <a:pt x="3068406" y="1038728"/>
                    <a:pt x="3053952" y="1017952"/>
                    <a:pt x="3037691" y="1005306"/>
                  </a:cubicBezTo>
                  <a:cubicBezTo>
                    <a:pt x="3001557" y="974595"/>
                    <a:pt x="2962712" y="948400"/>
                    <a:pt x="2923867" y="922205"/>
                  </a:cubicBezTo>
                  <a:cubicBezTo>
                    <a:pt x="2915737" y="916785"/>
                    <a:pt x="2905800" y="913172"/>
                    <a:pt x="2897670" y="909559"/>
                  </a:cubicBezTo>
                  <a:cubicBezTo>
                    <a:pt x="2898573" y="923108"/>
                    <a:pt x="2894056" y="941174"/>
                    <a:pt x="2900380" y="950206"/>
                  </a:cubicBezTo>
                  <a:cubicBezTo>
                    <a:pt x="2932901" y="991757"/>
                    <a:pt x="2969939" y="1028792"/>
                    <a:pt x="3018721" y="1050470"/>
                  </a:cubicBezTo>
                  <a:cubicBezTo>
                    <a:pt x="3030465" y="1056793"/>
                    <a:pt x="3040402" y="1069439"/>
                    <a:pt x="3049435" y="1079375"/>
                  </a:cubicBezTo>
                  <a:cubicBezTo>
                    <a:pt x="3048532" y="1081182"/>
                    <a:pt x="3045822" y="1082988"/>
                    <a:pt x="3044015" y="1084795"/>
                  </a:cubicBezTo>
                  <a:cubicBezTo>
                    <a:pt x="3033175" y="1077568"/>
                    <a:pt x="3021431" y="1072149"/>
                    <a:pt x="3010590" y="1064923"/>
                  </a:cubicBezTo>
                  <a:cubicBezTo>
                    <a:pt x="3030465" y="1120926"/>
                    <a:pt x="2977166" y="1144411"/>
                    <a:pt x="2961809" y="1188671"/>
                  </a:cubicBezTo>
                  <a:cubicBezTo>
                    <a:pt x="2938321" y="1176026"/>
                    <a:pt x="2917544" y="1164283"/>
                    <a:pt x="2891346" y="1148927"/>
                  </a:cubicBezTo>
                  <a:cubicBezTo>
                    <a:pt x="2901283" y="1144411"/>
                    <a:pt x="2904897" y="1140798"/>
                    <a:pt x="2906703" y="1141701"/>
                  </a:cubicBezTo>
                  <a:cubicBezTo>
                    <a:pt x="2938321" y="1146217"/>
                    <a:pt x="2980779" y="1150734"/>
                    <a:pt x="2986200" y="1115506"/>
                  </a:cubicBezTo>
                  <a:cubicBezTo>
                    <a:pt x="2988910" y="1095634"/>
                    <a:pt x="2951872" y="1061309"/>
                    <a:pt x="2925674" y="1048664"/>
                  </a:cubicBezTo>
                  <a:cubicBezTo>
                    <a:pt x="2886829" y="1029695"/>
                    <a:pt x="2861535" y="1001693"/>
                    <a:pt x="2838951" y="967369"/>
                  </a:cubicBezTo>
                  <a:cubicBezTo>
                    <a:pt x="2831724" y="955626"/>
                    <a:pt x="2801913" y="950206"/>
                    <a:pt x="2788362" y="955626"/>
                  </a:cubicBezTo>
                  <a:cubicBezTo>
                    <a:pt x="2759455" y="966465"/>
                    <a:pt x="2735967" y="989951"/>
                    <a:pt x="2698929" y="972788"/>
                  </a:cubicBezTo>
                  <a:cubicBezTo>
                    <a:pt x="2680862" y="964659"/>
                    <a:pt x="2651954" y="969175"/>
                    <a:pt x="2657374" y="1007113"/>
                  </a:cubicBezTo>
                  <a:cubicBezTo>
                    <a:pt x="2657374" y="1016146"/>
                    <a:pt x="2639307" y="1031501"/>
                    <a:pt x="2626660" y="1037824"/>
                  </a:cubicBezTo>
                  <a:cubicBezTo>
                    <a:pt x="2594138" y="1053180"/>
                    <a:pt x="2571554" y="1069439"/>
                    <a:pt x="2572458" y="1110990"/>
                  </a:cubicBezTo>
                  <a:cubicBezTo>
                    <a:pt x="2572458" y="1128152"/>
                    <a:pt x="2554390" y="1151637"/>
                    <a:pt x="2539033" y="1160670"/>
                  </a:cubicBezTo>
                  <a:cubicBezTo>
                    <a:pt x="2514642" y="1174219"/>
                    <a:pt x="2483928" y="1176026"/>
                    <a:pt x="2457730" y="1186865"/>
                  </a:cubicBezTo>
                  <a:cubicBezTo>
                    <a:pt x="2445083" y="1191381"/>
                    <a:pt x="2436953" y="1204027"/>
                    <a:pt x="2427016" y="1213060"/>
                  </a:cubicBezTo>
                  <a:cubicBezTo>
                    <a:pt x="2439663" y="1221189"/>
                    <a:pt x="2452310" y="1235642"/>
                    <a:pt x="2463150" y="1233835"/>
                  </a:cubicBezTo>
                  <a:cubicBezTo>
                    <a:pt x="2501995" y="1227512"/>
                    <a:pt x="2541743" y="1222093"/>
                    <a:pt x="2577878" y="1205834"/>
                  </a:cubicBezTo>
                  <a:cubicBezTo>
                    <a:pt x="2610399" y="1191381"/>
                    <a:pt x="2638403" y="1170606"/>
                    <a:pt x="2677248" y="1187768"/>
                  </a:cubicBezTo>
                  <a:cubicBezTo>
                    <a:pt x="2688089" y="1192285"/>
                    <a:pt x="2703446" y="1183252"/>
                    <a:pt x="2716996" y="1180542"/>
                  </a:cubicBezTo>
                  <a:cubicBezTo>
                    <a:pt x="2754938" y="1174219"/>
                    <a:pt x="2792879" y="1167896"/>
                    <a:pt x="2831724" y="1164283"/>
                  </a:cubicBezTo>
                  <a:cubicBezTo>
                    <a:pt x="2838047" y="1163380"/>
                    <a:pt x="2851598" y="1177832"/>
                    <a:pt x="2851598" y="1184155"/>
                  </a:cubicBezTo>
                  <a:cubicBezTo>
                    <a:pt x="2848888" y="1212157"/>
                    <a:pt x="2870569" y="1243771"/>
                    <a:pt x="2838047" y="1267257"/>
                  </a:cubicBezTo>
                  <a:cubicBezTo>
                    <a:pt x="2835337" y="1269063"/>
                    <a:pt x="2838951" y="1278096"/>
                    <a:pt x="2840758" y="1292548"/>
                  </a:cubicBezTo>
                  <a:cubicBezTo>
                    <a:pt x="2852501" y="1278999"/>
                    <a:pt x="2859728" y="1270870"/>
                    <a:pt x="2866052" y="1262740"/>
                  </a:cubicBezTo>
                  <a:cubicBezTo>
                    <a:pt x="2866052" y="1266353"/>
                    <a:pt x="2865148" y="1270870"/>
                    <a:pt x="2864245" y="1274483"/>
                  </a:cubicBezTo>
                  <a:cubicBezTo>
                    <a:pt x="2893153" y="1288032"/>
                    <a:pt x="2923867" y="1298871"/>
                    <a:pt x="2950065" y="1316033"/>
                  </a:cubicBezTo>
                  <a:cubicBezTo>
                    <a:pt x="2982586" y="1337712"/>
                    <a:pt x="3012397" y="1362101"/>
                    <a:pt x="3052145" y="1372037"/>
                  </a:cubicBezTo>
                  <a:cubicBezTo>
                    <a:pt x="3064792" y="1374746"/>
                    <a:pt x="3075633" y="1385586"/>
                    <a:pt x="3088280" y="1391909"/>
                  </a:cubicBezTo>
                  <a:cubicBezTo>
                    <a:pt x="3093700" y="1379263"/>
                    <a:pt x="3102734" y="1365714"/>
                    <a:pt x="3106347" y="1352165"/>
                  </a:cubicBezTo>
                  <a:cubicBezTo>
                    <a:pt x="3113574" y="1310614"/>
                    <a:pt x="3146095" y="1297968"/>
                    <a:pt x="3184940" y="1314227"/>
                  </a:cubicBezTo>
                  <a:cubicBezTo>
                    <a:pt x="3220171" y="1328679"/>
                    <a:pt x="3249079" y="1354874"/>
                    <a:pt x="3293344" y="1355778"/>
                  </a:cubicBezTo>
                  <a:cubicBezTo>
                    <a:pt x="3323155" y="1356681"/>
                    <a:pt x="3352063" y="1367520"/>
                    <a:pt x="3382777" y="1353971"/>
                  </a:cubicBezTo>
                  <a:cubicBezTo>
                    <a:pt x="3392715" y="1349455"/>
                    <a:pt x="3408072" y="1359391"/>
                    <a:pt x="3418912" y="1358488"/>
                  </a:cubicBezTo>
                  <a:cubicBezTo>
                    <a:pt x="3440593" y="1354874"/>
                    <a:pt x="3472211" y="1354874"/>
                    <a:pt x="3479438" y="1342229"/>
                  </a:cubicBezTo>
                  <a:cubicBezTo>
                    <a:pt x="3506539" y="1292548"/>
                    <a:pt x="3520993" y="1238352"/>
                    <a:pt x="3511056" y="1179639"/>
                  </a:cubicBezTo>
                  <a:cubicBezTo>
                    <a:pt x="3498408" y="1181445"/>
                    <a:pt x="3485761" y="1181445"/>
                    <a:pt x="3477631" y="1186865"/>
                  </a:cubicBezTo>
                  <a:cubicBezTo>
                    <a:pt x="3449627" y="1204027"/>
                    <a:pt x="3423429" y="1216673"/>
                    <a:pt x="3397231" y="1185058"/>
                  </a:cubicBezTo>
                  <a:cubicBezTo>
                    <a:pt x="3394521" y="1181445"/>
                    <a:pt x="3380067" y="1183252"/>
                    <a:pt x="3372840" y="1187768"/>
                  </a:cubicBezTo>
                  <a:cubicBezTo>
                    <a:pt x="3341223" y="1203124"/>
                    <a:pt x="3296958" y="1190478"/>
                    <a:pt x="3282504" y="1158863"/>
                  </a:cubicBezTo>
                  <a:cubicBezTo>
                    <a:pt x="3272567" y="1133572"/>
                    <a:pt x="3263533" y="1108280"/>
                    <a:pt x="3251789" y="1077568"/>
                  </a:cubicBezTo>
                  <a:cubicBezTo>
                    <a:pt x="3278890" y="1064923"/>
                    <a:pt x="3324059" y="1077568"/>
                    <a:pt x="3344836" y="1039631"/>
                  </a:cubicBezTo>
                  <a:cubicBezTo>
                    <a:pt x="3346643" y="1038728"/>
                    <a:pt x="3353870" y="1041437"/>
                    <a:pt x="3357483" y="1040534"/>
                  </a:cubicBezTo>
                  <a:cubicBezTo>
                    <a:pt x="3369227" y="1038728"/>
                    <a:pt x="3381874" y="1039631"/>
                    <a:pt x="3391811" y="1034211"/>
                  </a:cubicBezTo>
                  <a:cubicBezTo>
                    <a:pt x="3427946" y="1012533"/>
                    <a:pt x="3461370" y="1016146"/>
                    <a:pt x="3500215" y="1030598"/>
                  </a:cubicBezTo>
                  <a:cubicBezTo>
                    <a:pt x="3533640" y="1044147"/>
                    <a:pt x="3571581" y="1046857"/>
                    <a:pt x="3606812" y="1049567"/>
                  </a:cubicBezTo>
                  <a:cubicBezTo>
                    <a:pt x="3607716" y="1049567"/>
                    <a:pt x="3609522" y="1048664"/>
                    <a:pt x="3611329" y="1047760"/>
                  </a:cubicBezTo>
                  <a:cubicBezTo>
                    <a:pt x="3622170" y="1044147"/>
                    <a:pt x="3635720" y="1029695"/>
                    <a:pt x="3636623" y="1020662"/>
                  </a:cubicBezTo>
                  <a:cubicBezTo>
                    <a:pt x="3636623" y="1010726"/>
                    <a:pt x="3622170" y="997177"/>
                    <a:pt x="3611329" y="987241"/>
                  </a:cubicBezTo>
                  <a:cubicBezTo>
                    <a:pt x="3605006" y="980015"/>
                    <a:pt x="3595069" y="974595"/>
                    <a:pt x="3585132" y="970079"/>
                  </a:cubicBezTo>
                  <a:cubicBezTo>
                    <a:pt x="3542673" y="950206"/>
                    <a:pt x="3508345" y="900526"/>
                    <a:pt x="3450530" y="935754"/>
                  </a:cubicBezTo>
                  <a:cubicBezTo>
                    <a:pt x="3443303" y="940270"/>
                    <a:pt x="3422526" y="931238"/>
                    <a:pt x="3413492" y="922205"/>
                  </a:cubicBezTo>
                  <a:cubicBezTo>
                    <a:pt x="3397231" y="906849"/>
                    <a:pt x="3383681" y="886977"/>
                    <a:pt x="3363807" y="863492"/>
                  </a:cubicBezTo>
                  <a:close/>
                  <a:moveTo>
                    <a:pt x="1524772" y="491897"/>
                  </a:moveTo>
                  <a:cubicBezTo>
                    <a:pt x="1522964" y="491897"/>
                    <a:pt x="1521157" y="492801"/>
                    <a:pt x="1518446" y="493704"/>
                  </a:cubicBezTo>
                  <a:lnTo>
                    <a:pt x="1523868" y="493704"/>
                  </a:lnTo>
                  <a:cubicBezTo>
                    <a:pt x="1524772" y="493704"/>
                    <a:pt x="1524772" y="492801"/>
                    <a:pt x="1525676" y="491897"/>
                  </a:cubicBezTo>
                  <a:lnTo>
                    <a:pt x="1524772" y="491897"/>
                  </a:lnTo>
                  <a:close/>
                  <a:moveTo>
                    <a:pt x="1604301" y="266921"/>
                  </a:moveTo>
                  <a:cubicBezTo>
                    <a:pt x="1576285" y="279570"/>
                    <a:pt x="1545558" y="288605"/>
                    <a:pt x="1528387" y="310290"/>
                  </a:cubicBezTo>
                  <a:cubicBezTo>
                    <a:pt x="1520253" y="318421"/>
                    <a:pt x="1515734" y="330167"/>
                    <a:pt x="1513927" y="344623"/>
                  </a:cubicBezTo>
                  <a:lnTo>
                    <a:pt x="1513927" y="345527"/>
                  </a:lnTo>
                  <a:lnTo>
                    <a:pt x="1513927" y="366308"/>
                  </a:lnTo>
                  <a:lnTo>
                    <a:pt x="1520253" y="342816"/>
                  </a:lnTo>
                  <a:lnTo>
                    <a:pt x="1513927" y="344623"/>
                  </a:lnTo>
                  <a:cubicBezTo>
                    <a:pt x="1517542" y="339202"/>
                    <a:pt x="1520253" y="334685"/>
                    <a:pt x="1522964" y="331071"/>
                  </a:cubicBezTo>
                  <a:lnTo>
                    <a:pt x="1528387" y="310290"/>
                  </a:lnTo>
                  <a:lnTo>
                    <a:pt x="1550980" y="297640"/>
                  </a:lnTo>
                  <a:lnTo>
                    <a:pt x="1556403" y="292219"/>
                  </a:lnTo>
                  <a:cubicBezTo>
                    <a:pt x="1560921" y="289509"/>
                    <a:pt x="1566344" y="286798"/>
                    <a:pt x="1571766" y="284991"/>
                  </a:cubicBezTo>
                  <a:lnTo>
                    <a:pt x="1604301" y="266921"/>
                  </a:lnTo>
                  <a:close/>
                  <a:moveTo>
                    <a:pt x="1634124" y="249754"/>
                  </a:moveTo>
                  <a:lnTo>
                    <a:pt x="1704616" y="256079"/>
                  </a:lnTo>
                  <a:lnTo>
                    <a:pt x="1753418" y="264210"/>
                  </a:lnTo>
                  <a:cubicBezTo>
                    <a:pt x="1754322" y="264210"/>
                    <a:pt x="1756129" y="263307"/>
                    <a:pt x="1757936" y="262403"/>
                  </a:cubicBezTo>
                  <a:cubicBezTo>
                    <a:pt x="1776915" y="256982"/>
                    <a:pt x="1785952" y="259693"/>
                    <a:pt x="1787760" y="270535"/>
                  </a:cubicBezTo>
                  <a:lnTo>
                    <a:pt x="1800412" y="273245"/>
                  </a:lnTo>
                  <a:cubicBezTo>
                    <a:pt x="1823006" y="251561"/>
                    <a:pt x="1848310" y="260596"/>
                    <a:pt x="1868193" y="284088"/>
                  </a:cubicBezTo>
                  <a:lnTo>
                    <a:pt x="1926936" y="317518"/>
                  </a:lnTo>
                  <a:lnTo>
                    <a:pt x="1928743" y="317518"/>
                  </a:lnTo>
                  <a:cubicBezTo>
                    <a:pt x="1941395" y="312097"/>
                    <a:pt x="1965796" y="337395"/>
                    <a:pt x="1985679" y="350045"/>
                  </a:cubicBezTo>
                  <a:lnTo>
                    <a:pt x="2059785" y="443107"/>
                  </a:lnTo>
                  <a:cubicBezTo>
                    <a:pt x="2035384" y="455756"/>
                    <a:pt x="2010983" y="463888"/>
                    <a:pt x="1991101" y="477441"/>
                  </a:cubicBezTo>
                  <a:cubicBezTo>
                    <a:pt x="1947722" y="508160"/>
                    <a:pt x="1962181" y="435879"/>
                    <a:pt x="1926032" y="450335"/>
                  </a:cubicBezTo>
                  <a:cubicBezTo>
                    <a:pt x="1915187" y="462984"/>
                    <a:pt x="1910668" y="476537"/>
                    <a:pt x="1926936" y="500932"/>
                  </a:cubicBezTo>
                  <a:cubicBezTo>
                    <a:pt x="1935069" y="512678"/>
                    <a:pt x="1922417" y="539784"/>
                    <a:pt x="1918802" y="559661"/>
                  </a:cubicBezTo>
                  <a:cubicBezTo>
                    <a:pt x="1894401" y="547915"/>
                    <a:pt x="1874519" y="537977"/>
                    <a:pt x="1856444" y="528941"/>
                  </a:cubicBezTo>
                  <a:cubicBezTo>
                    <a:pt x="1854636" y="530748"/>
                    <a:pt x="1853733" y="532555"/>
                    <a:pt x="1852829" y="534362"/>
                  </a:cubicBezTo>
                  <a:lnTo>
                    <a:pt x="1884460" y="566889"/>
                  </a:lnTo>
                  <a:cubicBezTo>
                    <a:pt x="1881749" y="571407"/>
                    <a:pt x="1879941" y="575021"/>
                    <a:pt x="1877230" y="579538"/>
                  </a:cubicBezTo>
                  <a:cubicBezTo>
                    <a:pt x="1848310" y="571407"/>
                    <a:pt x="1819391" y="563275"/>
                    <a:pt x="1785049" y="553336"/>
                  </a:cubicBezTo>
                  <a:cubicBezTo>
                    <a:pt x="1779626" y="519003"/>
                    <a:pt x="1765166" y="491897"/>
                    <a:pt x="1715461" y="509967"/>
                  </a:cubicBezTo>
                  <a:cubicBezTo>
                    <a:pt x="1701001" y="515389"/>
                    <a:pt x="1683830" y="508160"/>
                    <a:pt x="1667563" y="506353"/>
                  </a:cubicBezTo>
                  <a:cubicBezTo>
                    <a:pt x="1667563" y="500029"/>
                    <a:pt x="1667563" y="492801"/>
                    <a:pt x="1668466" y="486476"/>
                  </a:cubicBezTo>
                  <a:cubicBezTo>
                    <a:pt x="1689252" y="486476"/>
                    <a:pt x="1710038" y="490090"/>
                    <a:pt x="1729921" y="485572"/>
                  </a:cubicBezTo>
                  <a:cubicBezTo>
                    <a:pt x="1729921" y="485572"/>
                    <a:pt x="1879037" y="384378"/>
                    <a:pt x="1729017" y="350045"/>
                  </a:cubicBezTo>
                  <a:cubicBezTo>
                    <a:pt x="1712750" y="350948"/>
                    <a:pt x="1696482" y="352755"/>
                    <a:pt x="1681119" y="354562"/>
                  </a:cubicBezTo>
                  <a:cubicBezTo>
                    <a:pt x="1684734" y="369922"/>
                    <a:pt x="1688349" y="385282"/>
                    <a:pt x="1694675" y="410580"/>
                  </a:cubicBezTo>
                  <a:cubicBezTo>
                    <a:pt x="1671178" y="455756"/>
                    <a:pt x="1609723" y="434072"/>
                    <a:pt x="1558210" y="452142"/>
                  </a:cubicBezTo>
                  <a:cubicBezTo>
                    <a:pt x="1584419" y="472020"/>
                    <a:pt x="1604301" y="487379"/>
                    <a:pt x="1623279" y="502739"/>
                  </a:cubicBezTo>
                  <a:cubicBezTo>
                    <a:pt x="1589841" y="556047"/>
                    <a:pt x="1542847" y="519906"/>
                    <a:pt x="1500371" y="526231"/>
                  </a:cubicBezTo>
                  <a:cubicBezTo>
                    <a:pt x="1503986" y="520810"/>
                    <a:pt x="1507601" y="515389"/>
                    <a:pt x="1512120" y="510871"/>
                  </a:cubicBezTo>
                  <a:cubicBezTo>
                    <a:pt x="1510312" y="509967"/>
                    <a:pt x="1508505" y="509967"/>
                    <a:pt x="1506697" y="509967"/>
                  </a:cubicBezTo>
                  <a:cubicBezTo>
                    <a:pt x="1492237" y="508160"/>
                    <a:pt x="1476874" y="506353"/>
                    <a:pt x="1461510" y="505450"/>
                  </a:cubicBezTo>
                  <a:cubicBezTo>
                    <a:pt x="1437109" y="511775"/>
                    <a:pt x="1413612" y="518099"/>
                    <a:pt x="1391019" y="528941"/>
                  </a:cubicBezTo>
                  <a:cubicBezTo>
                    <a:pt x="1333179" y="556047"/>
                    <a:pt x="1279859" y="593091"/>
                    <a:pt x="1225634" y="627425"/>
                  </a:cubicBezTo>
                  <a:cubicBezTo>
                    <a:pt x="1194003" y="648206"/>
                    <a:pt x="1208463" y="679829"/>
                    <a:pt x="1217501" y="705128"/>
                  </a:cubicBezTo>
                  <a:cubicBezTo>
                    <a:pt x="1220212" y="715970"/>
                    <a:pt x="1244613" y="720488"/>
                    <a:pt x="1259073" y="727716"/>
                  </a:cubicBezTo>
                  <a:cubicBezTo>
                    <a:pt x="1287992" y="742172"/>
                    <a:pt x="1316008" y="757532"/>
                    <a:pt x="1345832" y="768374"/>
                  </a:cubicBezTo>
                  <a:cubicBezTo>
                    <a:pt x="1366618" y="776506"/>
                    <a:pt x="1389211" y="776506"/>
                    <a:pt x="1412708" y="781023"/>
                  </a:cubicBezTo>
                  <a:cubicBezTo>
                    <a:pt x="1400056" y="809032"/>
                    <a:pt x="1388307" y="836138"/>
                    <a:pt x="1374751" y="866858"/>
                  </a:cubicBezTo>
                  <a:cubicBezTo>
                    <a:pt x="1381077" y="878603"/>
                    <a:pt x="1391922" y="893963"/>
                    <a:pt x="1400056" y="907516"/>
                  </a:cubicBezTo>
                  <a:cubicBezTo>
                    <a:pt x="1415419" y="894867"/>
                    <a:pt x="1438917" y="885832"/>
                    <a:pt x="1442532" y="871375"/>
                  </a:cubicBezTo>
                  <a:cubicBezTo>
                    <a:pt x="1457895" y="810839"/>
                    <a:pt x="1494948" y="779216"/>
                    <a:pt x="1550980" y="757532"/>
                  </a:cubicBezTo>
                  <a:cubicBezTo>
                    <a:pt x="1591649" y="741268"/>
                    <a:pt x="1595263" y="715066"/>
                    <a:pt x="1579900" y="679829"/>
                  </a:cubicBezTo>
                  <a:cubicBezTo>
                    <a:pt x="1604301" y="646399"/>
                    <a:pt x="1625087" y="612065"/>
                    <a:pt x="1650392" y="583153"/>
                  </a:cubicBezTo>
                  <a:cubicBezTo>
                    <a:pt x="1661236" y="572310"/>
                    <a:pt x="1682022" y="569600"/>
                    <a:pt x="1699193" y="565986"/>
                  </a:cubicBezTo>
                  <a:cubicBezTo>
                    <a:pt x="1710038" y="563275"/>
                    <a:pt x="1724498" y="569600"/>
                    <a:pt x="1734439" y="565986"/>
                  </a:cubicBezTo>
                  <a:cubicBezTo>
                    <a:pt x="1761551" y="556047"/>
                    <a:pt x="1778722" y="559661"/>
                    <a:pt x="1788664" y="590381"/>
                  </a:cubicBezTo>
                  <a:cubicBezTo>
                    <a:pt x="1792279" y="599416"/>
                    <a:pt x="1814872" y="602126"/>
                    <a:pt x="1831139" y="609355"/>
                  </a:cubicBezTo>
                  <a:cubicBezTo>
                    <a:pt x="1824813" y="620197"/>
                    <a:pt x="1812161" y="632846"/>
                    <a:pt x="1809450" y="648206"/>
                  </a:cubicBezTo>
                  <a:cubicBezTo>
                    <a:pt x="1807642" y="659952"/>
                    <a:pt x="1819391" y="674408"/>
                    <a:pt x="1826621" y="692478"/>
                  </a:cubicBezTo>
                  <a:cubicBezTo>
                    <a:pt x="1866385" y="667180"/>
                    <a:pt x="1900727" y="646399"/>
                    <a:pt x="1938684" y="622004"/>
                  </a:cubicBezTo>
                  <a:cubicBezTo>
                    <a:pt x="1934165" y="665373"/>
                    <a:pt x="1982064" y="698803"/>
                    <a:pt x="1950433" y="743075"/>
                  </a:cubicBezTo>
                  <a:cubicBezTo>
                    <a:pt x="1946818" y="748497"/>
                    <a:pt x="1953144" y="766567"/>
                    <a:pt x="1961278" y="771085"/>
                  </a:cubicBezTo>
                  <a:cubicBezTo>
                    <a:pt x="1989294" y="790962"/>
                    <a:pt x="2020021" y="809032"/>
                    <a:pt x="2047133" y="825296"/>
                  </a:cubicBezTo>
                  <a:cubicBezTo>
                    <a:pt x="2040807" y="868665"/>
                    <a:pt x="2012791" y="880410"/>
                    <a:pt x="1985679" y="893060"/>
                  </a:cubicBezTo>
                  <a:cubicBezTo>
                    <a:pt x="1971219" y="898481"/>
                    <a:pt x="1959470" y="912034"/>
                    <a:pt x="1946818" y="921972"/>
                  </a:cubicBezTo>
                  <a:cubicBezTo>
                    <a:pt x="1957663" y="929200"/>
                    <a:pt x="1976641" y="934622"/>
                    <a:pt x="1978449" y="944560"/>
                  </a:cubicBezTo>
                  <a:cubicBezTo>
                    <a:pt x="1985679" y="971666"/>
                    <a:pt x="1987486" y="1001482"/>
                    <a:pt x="1991101" y="1030395"/>
                  </a:cubicBezTo>
                  <a:cubicBezTo>
                    <a:pt x="1991101" y="1032202"/>
                    <a:pt x="1973930" y="1038526"/>
                    <a:pt x="1969411" y="1036719"/>
                  </a:cubicBezTo>
                  <a:cubicBezTo>
                    <a:pt x="1963989" y="1033105"/>
                    <a:pt x="1963085" y="1022263"/>
                    <a:pt x="1958566" y="1013228"/>
                  </a:cubicBezTo>
                  <a:cubicBezTo>
                    <a:pt x="1925128" y="1008710"/>
                    <a:pt x="1888075" y="1004193"/>
                    <a:pt x="1839273" y="997868"/>
                  </a:cubicBezTo>
                  <a:cubicBezTo>
                    <a:pt x="1860963" y="970762"/>
                    <a:pt x="1877230" y="951788"/>
                    <a:pt x="1892594" y="931911"/>
                  </a:cubicBezTo>
                  <a:cubicBezTo>
                    <a:pt x="1846503" y="916551"/>
                    <a:pt x="1824813" y="922876"/>
                    <a:pt x="1787760" y="955403"/>
                  </a:cubicBezTo>
                  <a:cubicBezTo>
                    <a:pt x="1783241" y="960824"/>
                    <a:pt x="1763359" y="957210"/>
                    <a:pt x="1756129" y="950885"/>
                  </a:cubicBezTo>
                  <a:cubicBezTo>
                    <a:pt x="1738958" y="934622"/>
                    <a:pt x="1724498" y="935525"/>
                    <a:pt x="1704616" y="947271"/>
                  </a:cubicBezTo>
                  <a:cubicBezTo>
                    <a:pt x="1671178" y="966245"/>
                    <a:pt x="1635028" y="982508"/>
                    <a:pt x="1604301" y="1007807"/>
                  </a:cubicBezTo>
                  <a:cubicBezTo>
                    <a:pt x="1631413" y="996061"/>
                    <a:pt x="1657621" y="984315"/>
                    <a:pt x="1686541" y="973473"/>
                  </a:cubicBezTo>
                  <a:cubicBezTo>
                    <a:pt x="1695579" y="969859"/>
                    <a:pt x="1707327" y="966245"/>
                    <a:pt x="1718172" y="967148"/>
                  </a:cubicBezTo>
                  <a:cubicBezTo>
                    <a:pt x="1730824" y="969859"/>
                    <a:pt x="1743477" y="975280"/>
                    <a:pt x="1757033" y="980701"/>
                  </a:cubicBezTo>
                  <a:cubicBezTo>
                    <a:pt x="1747995" y="989736"/>
                    <a:pt x="1738054" y="998771"/>
                    <a:pt x="1731728" y="1005096"/>
                  </a:cubicBezTo>
                  <a:cubicBezTo>
                    <a:pt x="1733536" y="1016842"/>
                    <a:pt x="1734439" y="1029491"/>
                    <a:pt x="1734439" y="1029491"/>
                  </a:cubicBezTo>
                  <a:cubicBezTo>
                    <a:pt x="1754322" y="1043947"/>
                    <a:pt x="1768781" y="1052983"/>
                    <a:pt x="1782337" y="1062921"/>
                  </a:cubicBezTo>
                  <a:cubicBezTo>
                    <a:pt x="1781434" y="1068342"/>
                    <a:pt x="1780530" y="1072860"/>
                    <a:pt x="1779626" y="1078281"/>
                  </a:cubicBezTo>
                  <a:cubicBezTo>
                    <a:pt x="1798605" y="1066535"/>
                    <a:pt x="1817583" y="1055693"/>
                    <a:pt x="1841984" y="1039430"/>
                  </a:cubicBezTo>
                  <a:cubicBezTo>
                    <a:pt x="1838369" y="1053886"/>
                    <a:pt x="1839273" y="1070150"/>
                    <a:pt x="1833851" y="1071957"/>
                  </a:cubicBezTo>
                  <a:cubicBezTo>
                    <a:pt x="1780530" y="1095448"/>
                    <a:pt x="1727209" y="1116229"/>
                    <a:pt x="1673889" y="1137010"/>
                  </a:cubicBezTo>
                  <a:lnTo>
                    <a:pt x="1665755" y="1127071"/>
                  </a:lnTo>
                  <a:cubicBezTo>
                    <a:pt x="1686541" y="1110808"/>
                    <a:pt x="1706423" y="1094545"/>
                    <a:pt x="1734439" y="1071957"/>
                  </a:cubicBezTo>
                  <a:cubicBezTo>
                    <a:pt x="1709135" y="1073764"/>
                    <a:pt x="1690156" y="1071957"/>
                    <a:pt x="1676600" y="1077378"/>
                  </a:cubicBezTo>
                  <a:cubicBezTo>
                    <a:pt x="1630509" y="1098159"/>
                    <a:pt x="1584419" y="1119843"/>
                    <a:pt x="1541943" y="1145142"/>
                  </a:cubicBezTo>
                  <a:cubicBezTo>
                    <a:pt x="1530194" y="1153273"/>
                    <a:pt x="1526579" y="1176765"/>
                    <a:pt x="1517542" y="1201160"/>
                  </a:cubicBezTo>
                  <a:cubicBezTo>
                    <a:pt x="1503082" y="1202967"/>
                    <a:pt x="1477777" y="1212906"/>
                    <a:pt x="1450665" y="1213809"/>
                  </a:cubicBezTo>
                  <a:cubicBezTo>
                    <a:pt x="1414516" y="1215616"/>
                    <a:pt x="1400960" y="1241818"/>
                    <a:pt x="1381981" y="1265310"/>
                  </a:cubicBezTo>
                  <a:cubicBezTo>
                    <a:pt x="1377462" y="1271634"/>
                    <a:pt x="1367521" y="1273441"/>
                    <a:pt x="1353965" y="1280670"/>
                  </a:cubicBezTo>
                  <a:cubicBezTo>
                    <a:pt x="1351254" y="1289705"/>
                    <a:pt x="1344024" y="1308679"/>
                    <a:pt x="1336794" y="1328556"/>
                  </a:cubicBezTo>
                  <a:cubicBezTo>
                    <a:pt x="1334987" y="1327653"/>
                    <a:pt x="1331372" y="1327653"/>
                    <a:pt x="1329564" y="1326749"/>
                  </a:cubicBezTo>
                  <a:lnTo>
                    <a:pt x="1325046" y="1287898"/>
                  </a:lnTo>
                  <a:cubicBezTo>
                    <a:pt x="1323238" y="1287898"/>
                    <a:pt x="1321431" y="1287898"/>
                    <a:pt x="1318719" y="1286994"/>
                  </a:cubicBezTo>
                  <a:cubicBezTo>
                    <a:pt x="1316008" y="1298740"/>
                    <a:pt x="1308778" y="1310486"/>
                    <a:pt x="1310586" y="1321328"/>
                  </a:cubicBezTo>
                  <a:cubicBezTo>
                    <a:pt x="1318719" y="1389092"/>
                    <a:pt x="1270821" y="1412583"/>
                    <a:pt x="1222923" y="1440592"/>
                  </a:cubicBezTo>
                  <a:cubicBezTo>
                    <a:pt x="1184966" y="1462277"/>
                    <a:pt x="1147913" y="1488479"/>
                    <a:pt x="1115378" y="1518295"/>
                  </a:cubicBezTo>
                  <a:cubicBezTo>
                    <a:pt x="1085555" y="1546304"/>
                    <a:pt x="1090977" y="1585156"/>
                    <a:pt x="1100015" y="1622200"/>
                  </a:cubicBezTo>
                  <a:cubicBezTo>
                    <a:pt x="1109052" y="1661955"/>
                    <a:pt x="1105437" y="1698096"/>
                    <a:pt x="1067480" y="1735140"/>
                  </a:cubicBezTo>
                  <a:cubicBezTo>
                    <a:pt x="1057539" y="1698096"/>
                    <a:pt x="1047598" y="1662858"/>
                    <a:pt x="1036753" y="1626717"/>
                  </a:cubicBezTo>
                  <a:cubicBezTo>
                    <a:pt x="1031330" y="1611358"/>
                    <a:pt x="1025908" y="1586059"/>
                    <a:pt x="1015967" y="1583349"/>
                  </a:cubicBezTo>
                  <a:cubicBezTo>
                    <a:pt x="965358" y="1569796"/>
                    <a:pt x="912941" y="1560761"/>
                    <a:pt x="858716" y="1551725"/>
                  </a:cubicBezTo>
                  <a:cubicBezTo>
                    <a:pt x="856909" y="1572506"/>
                    <a:pt x="855101" y="1586059"/>
                    <a:pt x="852390" y="1605033"/>
                  </a:cubicBezTo>
                  <a:cubicBezTo>
                    <a:pt x="841545" y="1603226"/>
                    <a:pt x="828893" y="1605033"/>
                    <a:pt x="818952" y="1599612"/>
                  </a:cubicBezTo>
                  <a:cubicBezTo>
                    <a:pt x="752979" y="1571603"/>
                    <a:pt x="692429" y="1595998"/>
                    <a:pt x="638204" y="1628525"/>
                  </a:cubicBezTo>
                  <a:cubicBezTo>
                    <a:pt x="619226" y="1640270"/>
                    <a:pt x="611092" y="1674604"/>
                    <a:pt x="601151" y="1700806"/>
                  </a:cubicBezTo>
                  <a:cubicBezTo>
                    <a:pt x="590306" y="1731526"/>
                    <a:pt x="574942" y="1764052"/>
                    <a:pt x="573135" y="1795676"/>
                  </a:cubicBezTo>
                  <a:cubicBezTo>
                    <a:pt x="571327" y="1830009"/>
                    <a:pt x="583076" y="1864343"/>
                    <a:pt x="590306" y="1897773"/>
                  </a:cubicBezTo>
                  <a:cubicBezTo>
                    <a:pt x="593017" y="1911326"/>
                    <a:pt x="597536" y="1923975"/>
                    <a:pt x="599343" y="1930300"/>
                  </a:cubicBezTo>
                  <a:cubicBezTo>
                    <a:pt x="615611" y="1935721"/>
                    <a:pt x="629167" y="1939335"/>
                    <a:pt x="642723" y="1944756"/>
                  </a:cubicBezTo>
                  <a:cubicBezTo>
                    <a:pt x="645434" y="1945660"/>
                    <a:pt x="649049" y="1951081"/>
                    <a:pt x="651760" y="1950177"/>
                  </a:cubicBezTo>
                  <a:cubicBezTo>
                    <a:pt x="679776" y="1945660"/>
                    <a:pt x="710503" y="1944756"/>
                    <a:pt x="734904" y="1932107"/>
                  </a:cubicBezTo>
                  <a:cubicBezTo>
                    <a:pt x="750268" y="1923975"/>
                    <a:pt x="755690" y="1895966"/>
                    <a:pt x="766535" y="1877896"/>
                  </a:cubicBezTo>
                  <a:cubicBezTo>
                    <a:pt x="771957" y="1868861"/>
                    <a:pt x="779187" y="1855308"/>
                    <a:pt x="786417" y="1853501"/>
                  </a:cubicBezTo>
                  <a:cubicBezTo>
                    <a:pt x="802685" y="1850790"/>
                    <a:pt x="819856" y="1848080"/>
                    <a:pt x="837027" y="1846273"/>
                  </a:cubicBezTo>
                  <a:cubicBezTo>
                    <a:pt x="837027" y="1846273"/>
                    <a:pt x="900288" y="1827299"/>
                    <a:pt x="903903" y="1838141"/>
                  </a:cubicBezTo>
                  <a:lnTo>
                    <a:pt x="906615" y="1848983"/>
                  </a:lnTo>
                  <a:lnTo>
                    <a:pt x="893058" y="1886028"/>
                  </a:lnTo>
                  <a:lnTo>
                    <a:pt x="872272" y="1914037"/>
                  </a:lnTo>
                  <a:lnTo>
                    <a:pt x="849679" y="1942949"/>
                  </a:lnTo>
                  <a:lnTo>
                    <a:pt x="824374" y="1968248"/>
                  </a:lnTo>
                  <a:lnTo>
                    <a:pt x="824374" y="2001678"/>
                  </a:lnTo>
                  <a:lnTo>
                    <a:pt x="809914" y="2018845"/>
                  </a:lnTo>
                  <a:lnTo>
                    <a:pt x="821663" y="2034205"/>
                  </a:lnTo>
                  <a:cubicBezTo>
                    <a:pt x="839738" y="2037819"/>
                    <a:pt x="857813" y="2041433"/>
                    <a:pt x="872272" y="2034205"/>
                  </a:cubicBezTo>
                  <a:cubicBezTo>
                    <a:pt x="913844" y="2013424"/>
                    <a:pt x="935534" y="2036012"/>
                    <a:pt x="958128" y="2054082"/>
                  </a:cubicBezTo>
                  <a:cubicBezTo>
                    <a:pt x="949994" y="2093837"/>
                    <a:pt x="937342" y="2130881"/>
                    <a:pt x="933727" y="2168829"/>
                  </a:cubicBezTo>
                  <a:cubicBezTo>
                    <a:pt x="928304" y="2230268"/>
                    <a:pt x="980721" y="2267313"/>
                    <a:pt x="1034945" y="2239304"/>
                  </a:cubicBezTo>
                  <a:cubicBezTo>
                    <a:pt x="1061154" y="2225751"/>
                    <a:pt x="1080132" y="2225751"/>
                    <a:pt x="1096400" y="2239304"/>
                  </a:cubicBezTo>
                  <a:cubicBezTo>
                    <a:pt x="1107245" y="2248339"/>
                    <a:pt x="1117186" y="2261892"/>
                    <a:pt x="1126223" y="2280866"/>
                  </a:cubicBezTo>
                  <a:cubicBezTo>
                    <a:pt x="1158758" y="2204066"/>
                    <a:pt x="1220212" y="2172443"/>
                    <a:pt x="1287992" y="2147145"/>
                  </a:cubicBezTo>
                  <a:cubicBezTo>
                    <a:pt x="1287992" y="2147145"/>
                    <a:pt x="1334083" y="2121846"/>
                    <a:pt x="1346735" y="2139013"/>
                  </a:cubicBezTo>
                  <a:cubicBezTo>
                    <a:pt x="1396441" y="2223944"/>
                    <a:pt x="1475970" y="2200452"/>
                    <a:pt x="1541039" y="2197742"/>
                  </a:cubicBezTo>
                  <a:cubicBezTo>
                    <a:pt x="1572670" y="2224847"/>
                    <a:pt x="1599782" y="2249242"/>
                    <a:pt x="1627798" y="2272734"/>
                  </a:cubicBezTo>
                  <a:cubicBezTo>
                    <a:pt x="1641354" y="2284480"/>
                    <a:pt x="1656718" y="2295322"/>
                    <a:pt x="1665755" y="2309778"/>
                  </a:cubicBezTo>
                  <a:cubicBezTo>
                    <a:pt x="1685637" y="2340498"/>
                    <a:pt x="1710038" y="2357665"/>
                    <a:pt x="1746188" y="2354051"/>
                  </a:cubicBezTo>
                  <a:cubicBezTo>
                    <a:pt x="1813065" y="2346822"/>
                    <a:pt x="1862770" y="2372121"/>
                    <a:pt x="1889882" y="2433560"/>
                  </a:cubicBezTo>
                  <a:cubicBezTo>
                    <a:pt x="1901631" y="2461569"/>
                    <a:pt x="1938684" y="2483254"/>
                    <a:pt x="1918802" y="2523912"/>
                  </a:cubicBezTo>
                  <a:cubicBezTo>
                    <a:pt x="1917898" y="2525719"/>
                    <a:pt x="1927839" y="2532947"/>
                    <a:pt x="1931454" y="2539272"/>
                  </a:cubicBezTo>
                  <a:cubicBezTo>
                    <a:pt x="1939588" y="2552825"/>
                    <a:pt x="1947722" y="2568185"/>
                    <a:pt x="1957663" y="2586255"/>
                  </a:cubicBezTo>
                  <a:cubicBezTo>
                    <a:pt x="1972123" y="2578123"/>
                    <a:pt x="1988390" y="2539272"/>
                    <a:pt x="2023636" y="2565474"/>
                  </a:cubicBezTo>
                  <a:cubicBezTo>
                    <a:pt x="2044422" y="2582641"/>
                    <a:pt x="2066111" y="2600711"/>
                    <a:pt x="2090512" y="2620589"/>
                  </a:cubicBezTo>
                  <a:cubicBezTo>
                    <a:pt x="2160100" y="2619685"/>
                    <a:pt x="2237822" y="2617878"/>
                    <a:pt x="2298372" y="2680221"/>
                  </a:cubicBezTo>
                  <a:cubicBezTo>
                    <a:pt x="2301987" y="2682932"/>
                    <a:pt x="2304698" y="2686546"/>
                    <a:pt x="2308313" y="2687449"/>
                  </a:cubicBezTo>
                  <a:cubicBezTo>
                    <a:pt x="2355308" y="2701002"/>
                    <a:pt x="2367056" y="2732625"/>
                    <a:pt x="2366153" y="2778705"/>
                  </a:cubicBezTo>
                  <a:cubicBezTo>
                    <a:pt x="2364345" y="2819363"/>
                    <a:pt x="2355308" y="2853697"/>
                    <a:pt x="2322773" y="2880802"/>
                  </a:cubicBezTo>
                  <a:cubicBezTo>
                    <a:pt x="2310121" y="2892548"/>
                    <a:pt x="2304698" y="2910619"/>
                    <a:pt x="2295661" y="2925978"/>
                  </a:cubicBezTo>
                  <a:cubicBezTo>
                    <a:pt x="2288431" y="2935917"/>
                    <a:pt x="2281201" y="2944952"/>
                    <a:pt x="2274875" y="2954891"/>
                  </a:cubicBezTo>
                  <a:cubicBezTo>
                    <a:pt x="2268549" y="2966637"/>
                    <a:pt x="2255897" y="2979286"/>
                    <a:pt x="2258608" y="2990128"/>
                  </a:cubicBezTo>
                  <a:cubicBezTo>
                    <a:pt x="2272164" y="3081384"/>
                    <a:pt x="2235111" y="3162700"/>
                    <a:pt x="2210710" y="3247631"/>
                  </a:cubicBezTo>
                  <a:cubicBezTo>
                    <a:pt x="2207095" y="3255763"/>
                    <a:pt x="2199865" y="3266605"/>
                    <a:pt x="2192635" y="3268412"/>
                  </a:cubicBezTo>
                  <a:cubicBezTo>
                    <a:pt x="2151063" y="3282868"/>
                    <a:pt x="2108587" y="3293711"/>
                    <a:pt x="2067015" y="3308167"/>
                  </a:cubicBezTo>
                  <a:cubicBezTo>
                    <a:pt x="2029962" y="3320816"/>
                    <a:pt x="2010983" y="3352440"/>
                    <a:pt x="2015502" y="3387677"/>
                  </a:cubicBezTo>
                  <a:cubicBezTo>
                    <a:pt x="2021828" y="3444598"/>
                    <a:pt x="2010983" y="3491582"/>
                    <a:pt x="1966700" y="3524108"/>
                  </a:cubicBezTo>
                  <a:cubicBezTo>
                    <a:pt x="1957663" y="3528626"/>
                    <a:pt x="1944107" y="3532240"/>
                    <a:pt x="1942299" y="3538564"/>
                  </a:cubicBezTo>
                  <a:cubicBezTo>
                    <a:pt x="1934165" y="3561152"/>
                    <a:pt x="1931454" y="3584644"/>
                    <a:pt x="1925128" y="3607232"/>
                  </a:cubicBezTo>
                  <a:cubicBezTo>
                    <a:pt x="1910668" y="3655118"/>
                    <a:pt x="1888979" y="3668671"/>
                    <a:pt x="1839273" y="3657829"/>
                  </a:cubicBezTo>
                  <a:cubicBezTo>
                    <a:pt x="1824813" y="3654215"/>
                    <a:pt x="1810353" y="3649697"/>
                    <a:pt x="1791375" y="3644276"/>
                  </a:cubicBezTo>
                  <a:cubicBezTo>
                    <a:pt x="1806738" y="3662346"/>
                    <a:pt x="1820294" y="3675900"/>
                    <a:pt x="1830236" y="3692163"/>
                  </a:cubicBezTo>
                  <a:cubicBezTo>
                    <a:pt x="1838369" y="3704812"/>
                    <a:pt x="1851925" y="3723786"/>
                    <a:pt x="1847407" y="3733725"/>
                  </a:cubicBezTo>
                  <a:cubicBezTo>
                    <a:pt x="1841080" y="3749988"/>
                    <a:pt x="1823006" y="3766251"/>
                    <a:pt x="1806738" y="3772576"/>
                  </a:cubicBezTo>
                  <a:cubicBezTo>
                    <a:pt x="1802220" y="3774383"/>
                    <a:pt x="1797701" y="3776190"/>
                    <a:pt x="1793182" y="3777094"/>
                  </a:cubicBezTo>
                  <a:lnTo>
                    <a:pt x="1773300" y="3791550"/>
                  </a:lnTo>
                  <a:lnTo>
                    <a:pt x="1746188" y="3791550"/>
                  </a:lnTo>
                  <a:lnTo>
                    <a:pt x="1740765" y="3813234"/>
                  </a:lnTo>
                  <a:lnTo>
                    <a:pt x="1729921" y="3854796"/>
                  </a:lnTo>
                  <a:lnTo>
                    <a:pt x="1706423" y="3865638"/>
                  </a:lnTo>
                  <a:lnTo>
                    <a:pt x="1686541" y="3882805"/>
                  </a:lnTo>
                  <a:lnTo>
                    <a:pt x="1704616" y="3896358"/>
                  </a:lnTo>
                  <a:cubicBezTo>
                    <a:pt x="1708231" y="3897262"/>
                    <a:pt x="1710038" y="3898165"/>
                    <a:pt x="1711846" y="3900876"/>
                  </a:cubicBezTo>
                  <a:lnTo>
                    <a:pt x="1706423" y="3915332"/>
                  </a:lnTo>
                  <a:lnTo>
                    <a:pt x="1706423" y="3916236"/>
                  </a:lnTo>
                  <a:lnTo>
                    <a:pt x="1706423" y="3953280"/>
                  </a:lnTo>
                  <a:lnTo>
                    <a:pt x="1676600" y="3997552"/>
                  </a:lnTo>
                  <a:lnTo>
                    <a:pt x="1676600" y="4019237"/>
                  </a:lnTo>
                  <a:lnTo>
                    <a:pt x="1690156" y="4038211"/>
                  </a:lnTo>
                  <a:cubicBezTo>
                    <a:pt x="1724498" y="4046342"/>
                    <a:pt x="1724498" y="4062606"/>
                    <a:pt x="1701001" y="4093325"/>
                  </a:cubicBezTo>
                  <a:lnTo>
                    <a:pt x="1698290" y="4124948"/>
                  </a:lnTo>
                  <a:lnTo>
                    <a:pt x="1698290" y="4147536"/>
                  </a:lnTo>
                  <a:lnTo>
                    <a:pt x="1717268" y="4189098"/>
                  </a:lnTo>
                  <a:lnTo>
                    <a:pt x="1723594" y="4209880"/>
                  </a:lnTo>
                  <a:lnTo>
                    <a:pt x="1815776" y="4281258"/>
                  </a:lnTo>
                  <a:cubicBezTo>
                    <a:pt x="1785952" y="4307460"/>
                    <a:pt x="1750707" y="4306556"/>
                    <a:pt x="1714557" y="4293003"/>
                  </a:cubicBezTo>
                  <a:cubicBezTo>
                    <a:pt x="1659429" y="4272222"/>
                    <a:pt x="1606108" y="4255055"/>
                    <a:pt x="1560921" y="4208976"/>
                  </a:cubicBezTo>
                  <a:cubicBezTo>
                    <a:pt x="1527483" y="4175546"/>
                    <a:pt x="1518446" y="4128563"/>
                    <a:pt x="1482296" y="4098746"/>
                  </a:cubicBezTo>
                  <a:cubicBezTo>
                    <a:pt x="1476874" y="4094229"/>
                    <a:pt x="1486815" y="4071641"/>
                    <a:pt x="1489526" y="4053570"/>
                  </a:cubicBezTo>
                  <a:cubicBezTo>
                    <a:pt x="1478681" y="4046342"/>
                    <a:pt x="1463318" y="4036404"/>
                    <a:pt x="1448858" y="4026465"/>
                  </a:cubicBezTo>
                  <a:cubicBezTo>
                    <a:pt x="1459703" y="4014719"/>
                    <a:pt x="1467836" y="4000263"/>
                    <a:pt x="1473259" y="3984000"/>
                  </a:cubicBezTo>
                  <a:lnTo>
                    <a:pt x="1477777" y="3963218"/>
                  </a:lnTo>
                  <a:lnTo>
                    <a:pt x="1450665" y="3933402"/>
                  </a:lnTo>
                  <a:lnTo>
                    <a:pt x="1430783" y="3903586"/>
                  </a:lnTo>
                  <a:lnTo>
                    <a:pt x="1405478" y="3875577"/>
                  </a:lnTo>
                  <a:lnTo>
                    <a:pt x="1413612" y="3840340"/>
                  </a:lnTo>
                  <a:cubicBezTo>
                    <a:pt x="1411805" y="3817752"/>
                    <a:pt x="1409093" y="3793357"/>
                    <a:pt x="1400056" y="3774383"/>
                  </a:cubicBezTo>
                  <a:cubicBezTo>
                    <a:pt x="1386500" y="3748181"/>
                    <a:pt x="1389211" y="3727400"/>
                    <a:pt x="1394633" y="3700294"/>
                  </a:cubicBezTo>
                  <a:cubicBezTo>
                    <a:pt x="1401863" y="3660540"/>
                    <a:pt x="1405478" y="3616267"/>
                    <a:pt x="1395537" y="3578319"/>
                  </a:cubicBezTo>
                  <a:cubicBezTo>
                    <a:pt x="1364810" y="3471704"/>
                    <a:pt x="1374751" y="3365089"/>
                    <a:pt x="1371136" y="3257570"/>
                  </a:cubicBezTo>
                  <a:cubicBezTo>
                    <a:pt x="1369329" y="3187999"/>
                    <a:pt x="1368425" y="3112103"/>
                    <a:pt x="1287089" y="3081384"/>
                  </a:cubicBezTo>
                  <a:cubicBezTo>
                    <a:pt x="1188581" y="3042532"/>
                    <a:pt x="1138875" y="2964830"/>
                    <a:pt x="1100918" y="2871767"/>
                  </a:cubicBezTo>
                  <a:cubicBezTo>
                    <a:pt x="1090977" y="2847372"/>
                    <a:pt x="1080132" y="2822977"/>
                    <a:pt x="1064769" y="2801293"/>
                  </a:cubicBezTo>
                  <a:lnTo>
                    <a:pt x="1019582" y="2774187"/>
                  </a:lnTo>
                  <a:lnTo>
                    <a:pt x="994277" y="2747082"/>
                  </a:lnTo>
                  <a:lnTo>
                    <a:pt x="990662" y="2696484"/>
                  </a:lnTo>
                  <a:cubicBezTo>
                    <a:pt x="989758" y="2684739"/>
                    <a:pt x="990662" y="2672089"/>
                    <a:pt x="996085" y="2662151"/>
                  </a:cubicBezTo>
                  <a:lnTo>
                    <a:pt x="997892" y="2637756"/>
                  </a:lnTo>
                  <a:lnTo>
                    <a:pt x="997892" y="2614264"/>
                  </a:lnTo>
                  <a:lnTo>
                    <a:pt x="1002411" y="2585352"/>
                  </a:lnTo>
                  <a:cubicBezTo>
                    <a:pt x="1002411" y="2572702"/>
                    <a:pt x="1005122" y="2558246"/>
                    <a:pt x="1010544" y="2544693"/>
                  </a:cubicBezTo>
                  <a:cubicBezTo>
                    <a:pt x="1015063" y="2534754"/>
                    <a:pt x="1021389" y="2524816"/>
                    <a:pt x="1028619" y="2516684"/>
                  </a:cubicBezTo>
                  <a:cubicBezTo>
                    <a:pt x="1050309" y="2493193"/>
                    <a:pt x="1071095" y="2470605"/>
                    <a:pt x="1091881" y="2448017"/>
                  </a:cubicBezTo>
                  <a:cubicBezTo>
                    <a:pt x="1109956" y="2427236"/>
                    <a:pt x="1107245" y="2331463"/>
                    <a:pt x="1090977" y="2307971"/>
                  </a:cubicBezTo>
                  <a:cubicBezTo>
                    <a:pt x="1086459" y="2301646"/>
                    <a:pt x="1085555" y="2290804"/>
                    <a:pt x="1083747" y="2276348"/>
                  </a:cubicBezTo>
                  <a:cubicBezTo>
                    <a:pt x="1062961" y="2240207"/>
                    <a:pt x="1077421" y="2263699"/>
                    <a:pt x="1046694" y="2288997"/>
                  </a:cubicBezTo>
                  <a:cubicBezTo>
                    <a:pt x="1036753" y="2297129"/>
                    <a:pt x="1026812" y="2300743"/>
                    <a:pt x="1017774" y="2301646"/>
                  </a:cubicBezTo>
                  <a:lnTo>
                    <a:pt x="1016871" y="2302550"/>
                  </a:lnTo>
                  <a:lnTo>
                    <a:pt x="1014159" y="2302550"/>
                  </a:lnTo>
                  <a:cubicBezTo>
                    <a:pt x="992470" y="2302550"/>
                    <a:pt x="977106" y="2288997"/>
                    <a:pt x="977106" y="2288997"/>
                  </a:cubicBezTo>
                  <a:cubicBezTo>
                    <a:pt x="963550" y="2284480"/>
                    <a:pt x="951801" y="2278155"/>
                    <a:pt x="944572" y="2269120"/>
                  </a:cubicBezTo>
                  <a:cubicBezTo>
                    <a:pt x="921978" y="2237497"/>
                    <a:pt x="861428" y="2240207"/>
                    <a:pt x="868657" y="2182382"/>
                  </a:cubicBezTo>
                  <a:cubicBezTo>
                    <a:pt x="870465" y="2172443"/>
                    <a:pt x="853294" y="2160697"/>
                    <a:pt x="846064" y="2149855"/>
                  </a:cubicBezTo>
                  <a:cubicBezTo>
                    <a:pt x="837930" y="2138109"/>
                    <a:pt x="828893" y="2126364"/>
                    <a:pt x="822567" y="2116425"/>
                  </a:cubicBezTo>
                  <a:cubicBezTo>
                    <a:pt x="806300" y="2113714"/>
                    <a:pt x="790032" y="2110100"/>
                    <a:pt x="773765" y="2106486"/>
                  </a:cubicBezTo>
                  <a:cubicBezTo>
                    <a:pt x="754787" y="2102872"/>
                    <a:pt x="734904" y="2099258"/>
                    <a:pt x="715926" y="2091126"/>
                  </a:cubicBezTo>
                  <a:cubicBezTo>
                    <a:pt x="704177" y="2085705"/>
                    <a:pt x="691525" y="2074863"/>
                    <a:pt x="684295" y="2064021"/>
                  </a:cubicBezTo>
                  <a:cubicBezTo>
                    <a:pt x="652664" y="2013424"/>
                    <a:pt x="647241" y="2010713"/>
                    <a:pt x="592113" y="2030591"/>
                  </a:cubicBezTo>
                  <a:cubicBezTo>
                    <a:pt x="582172" y="2034205"/>
                    <a:pt x="569520" y="2036012"/>
                    <a:pt x="560483" y="2031494"/>
                  </a:cubicBezTo>
                  <a:cubicBezTo>
                    <a:pt x="519814" y="2016134"/>
                    <a:pt x="480050" y="1997160"/>
                    <a:pt x="440285" y="1979994"/>
                  </a:cubicBezTo>
                  <a:cubicBezTo>
                    <a:pt x="423114" y="1972765"/>
                    <a:pt x="406847" y="1963730"/>
                    <a:pt x="389676" y="1958309"/>
                  </a:cubicBezTo>
                  <a:cubicBezTo>
                    <a:pt x="344489" y="1943853"/>
                    <a:pt x="328222" y="1910423"/>
                    <a:pt x="334548" y="1863440"/>
                  </a:cubicBezTo>
                  <a:cubicBezTo>
                    <a:pt x="338163" y="1841755"/>
                    <a:pt x="330933" y="1815553"/>
                    <a:pt x="320088" y="1795676"/>
                  </a:cubicBezTo>
                  <a:cubicBezTo>
                    <a:pt x="293880" y="1746886"/>
                    <a:pt x="265864" y="1697192"/>
                    <a:pt x="231522" y="1652920"/>
                  </a:cubicBezTo>
                  <a:cubicBezTo>
                    <a:pt x="203506" y="1618586"/>
                    <a:pt x="188142" y="1582445"/>
                    <a:pt x="187238" y="1539076"/>
                  </a:cubicBezTo>
                  <a:cubicBezTo>
                    <a:pt x="187238" y="1533655"/>
                    <a:pt x="179105" y="1527330"/>
                    <a:pt x="165549" y="1508356"/>
                  </a:cubicBezTo>
                  <a:cubicBezTo>
                    <a:pt x="159222" y="1533655"/>
                    <a:pt x="148378" y="1548111"/>
                    <a:pt x="151993" y="1560761"/>
                  </a:cubicBezTo>
                  <a:cubicBezTo>
                    <a:pt x="156511" y="1585156"/>
                    <a:pt x="168260" y="1610454"/>
                    <a:pt x="177297" y="1634849"/>
                  </a:cubicBezTo>
                  <a:cubicBezTo>
                    <a:pt x="194468" y="1682736"/>
                    <a:pt x="212543" y="1730622"/>
                    <a:pt x="230618" y="1778509"/>
                  </a:cubicBezTo>
                  <a:cubicBezTo>
                    <a:pt x="225195" y="1781219"/>
                    <a:pt x="219773" y="1784833"/>
                    <a:pt x="214351" y="1787544"/>
                  </a:cubicBezTo>
                  <a:cubicBezTo>
                    <a:pt x="184527" y="1739657"/>
                    <a:pt x="153800" y="1691771"/>
                    <a:pt x="120362" y="1640270"/>
                  </a:cubicBezTo>
                  <a:cubicBezTo>
                    <a:pt x="121266" y="1639367"/>
                    <a:pt x="128495" y="1634849"/>
                    <a:pt x="129399" y="1627621"/>
                  </a:cubicBezTo>
                  <a:cubicBezTo>
                    <a:pt x="139340" y="1594191"/>
                    <a:pt x="89635" y="1458663"/>
                    <a:pt x="61619" y="1436075"/>
                  </a:cubicBezTo>
                  <a:cubicBezTo>
                    <a:pt x="51678" y="1429750"/>
                    <a:pt x="37218" y="1420715"/>
                    <a:pt x="36314" y="1411680"/>
                  </a:cubicBezTo>
                  <a:cubicBezTo>
                    <a:pt x="31795" y="1351144"/>
                    <a:pt x="6491" y="1288801"/>
                    <a:pt x="40833" y="1230072"/>
                  </a:cubicBezTo>
                  <a:cubicBezTo>
                    <a:pt x="84212" y="1156887"/>
                    <a:pt x="130303" y="1085509"/>
                    <a:pt x="175490" y="1013228"/>
                  </a:cubicBezTo>
                  <a:lnTo>
                    <a:pt x="199891" y="908420"/>
                  </a:lnTo>
                  <a:lnTo>
                    <a:pt x="182720" y="874086"/>
                  </a:lnTo>
                  <a:cubicBezTo>
                    <a:pt x="171875" y="863244"/>
                    <a:pt x="167356" y="851498"/>
                    <a:pt x="167356" y="837945"/>
                  </a:cubicBezTo>
                  <a:lnTo>
                    <a:pt x="150185" y="801804"/>
                  </a:lnTo>
                  <a:lnTo>
                    <a:pt x="150185" y="762953"/>
                  </a:lnTo>
                  <a:cubicBezTo>
                    <a:pt x="149281" y="760242"/>
                    <a:pt x="148378" y="757532"/>
                    <a:pt x="148378" y="754821"/>
                  </a:cubicBezTo>
                  <a:lnTo>
                    <a:pt x="148378" y="740365"/>
                  </a:lnTo>
                  <a:lnTo>
                    <a:pt x="144763" y="685250"/>
                  </a:lnTo>
                  <a:cubicBezTo>
                    <a:pt x="137533" y="658145"/>
                    <a:pt x="117651" y="651820"/>
                    <a:pt x="61619" y="634653"/>
                  </a:cubicBezTo>
                  <a:cubicBezTo>
                    <a:pt x="46255" y="630136"/>
                    <a:pt x="31795" y="620197"/>
                    <a:pt x="17335" y="612065"/>
                  </a:cubicBezTo>
                  <a:lnTo>
                    <a:pt x="0" y="608903"/>
                  </a:lnTo>
                  <a:lnTo>
                    <a:pt x="124688" y="350118"/>
                  </a:lnTo>
                  <a:lnTo>
                    <a:pt x="136942" y="329950"/>
                  </a:lnTo>
                  <a:lnTo>
                    <a:pt x="141148" y="329264"/>
                  </a:lnTo>
                  <a:cubicBezTo>
                    <a:pt x="217965" y="322035"/>
                    <a:pt x="296591" y="336492"/>
                    <a:pt x="373409" y="341913"/>
                  </a:cubicBezTo>
                  <a:cubicBezTo>
                    <a:pt x="405039" y="344623"/>
                    <a:pt x="436670" y="349141"/>
                    <a:pt x="468301" y="354562"/>
                  </a:cubicBezTo>
                  <a:cubicBezTo>
                    <a:pt x="482761" y="356369"/>
                    <a:pt x="496317" y="362694"/>
                    <a:pt x="510777" y="365404"/>
                  </a:cubicBezTo>
                  <a:cubicBezTo>
                    <a:pt x="528852" y="368115"/>
                    <a:pt x="546926" y="369922"/>
                    <a:pt x="565001" y="371729"/>
                  </a:cubicBezTo>
                  <a:cubicBezTo>
                    <a:pt x="584883" y="373536"/>
                    <a:pt x="608381" y="346430"/>
                    <a:pt x="626456" y="381668"/>
                  </a:cubicBezTo>
                  <a:cubicBezTo>
                    <a:pt x="629167" y="387089"/>
                    <a:pt x="668027" y="378054"/>
                    <a:pt x="687910" y="369922"/>
                  </a:cubicBezTo>
                  <a:cubicBezTo>
                    <a:pt x="724963" y="354562"/>
                    <a:pt x="758401" y="336492"/>
                    <a:pt x="806300" y="351852"/>
                  </a:cubicBezTo>
                  <a:cubicBezTo>
                    <a:pt x="867754" y="370825"/>
                    <a:pt x="935534" y="369922"/>
                    <a:pt x="1011448" y="378957"/>
                  </a:cubicBezTo>
                  <a:cubicBezTo>
                    <a:pt x="992470" y="395221"/>
                    <a:pt x="985240" y="402449"/>
                    <a:pt x="978010" y="408773"/>
                  </a:cubicBezTo>
                  <a:cubicBezTo>
                    <a:pt x="978010" y="412387"/>
                    <a:pt x="978914" y="416001"/>
                    <a:pt x="979817" y="419616"/>
                  </a:cubicBezTo>
                  <a:cubicBezTo>
                    <a:pt x="1014159" y="415098"/>
                    <a:pt x="1048502" y="410580"/>
                    <a:pt x="1085555" y="405159"/>
                  </a:cubicBezTo>
                  <a:cubicBezTo>
                    <a:pt x="1086459" y="413291"/>
                    <a:pt x="1088266" y="423230"/>
                    <a:pt x="1090074" y="437686"/>
                  </a:cubicBezTo>
                  <a:cubicBezTo>
                    <a:pt x="1100918" y="425940"/>
                    <a:pt x="1108148" y="412387"/>
                    <a:pt x="1118089" y="408773"/>
                  </a:cubicBezTo>
                  <a:cubicBezTo>
                    <a:pt x="1137068" y="399738"/>
                    <a:pt x="1158758" y="390703"/>
                    <a:pt x="1177736" y="392510"/>
                  </a:cubicBezTo>
                  <a:cubicBezTo>
                    <a:pt x="1206656" y="393413"/>
                    <a:pt x="1236479" y="406063"/>
                    <a:pt x="1265399" y="410580"/>
                  </a:cubicBezTo>
                  <a:cubicBezTo>
                    <a:pt x="1295222" y="415098"/>
                    <a:pt x="1323238" y="417808"/>
                    <a:pt x="1342217" y="381668"/>
                  </a:cubicBezTo>
                  <a:cubicBezTo>
                    <a:pt x="1357580" y="354562"/>
                    <a:pt x="1389211" y="352755"/>
                    <a:pt x="1422649" y="371729"/>
                  </a:cubicBezTo>
                  <a:cubicBezTo>
                    <a:pt x="1402767" y="387089"/>
                    <a:pt x="1386500" y="399738"/>
                    <a:pt x="1369329" y="412387"/>
                  </a:cubicBezTo>
                  <a:cubicBezTo>
                    <a:pt x="1371136" y="416001"/>
                    <a:pt x="1373847" y="418712"/>
                    <a:pt x="1375655" y="422326"/>
                  </a:cubicBezTo>
                  <a:cubicBezTo>
                    <a:pt x="1409997" y="415098"/>
                    <a:pt x="1434398" y="392510"/>
                    <a:pt x="1447050" y="359983"/>
                  </a:cubicBezTo>
                  <a:cubicBezTo>
                    <a:pt x="1469644" y="303062"/>
                    <a:pt x="1564536" y="243429"/>
                    <a:pt x="1634124" y="249754"/>
                  </a:cubicBezTo>
                  <a:close/>
                  <a:moveTo>
                    <a:pt x="4128958" y="146290"/>
                  </a:moveTo>
                  <a:cubicBezTo>
                    <a:pt x="4147929" y="156226"/>
                    <a:pt x="4165996" y="165259"/>
                    <a:pt x="4184064" y="175195"/>
                  </a:cubicBezTo>
                  <a:cubicBezTo>
                    <a:pt x="4186774" y="169775"/>
                    <a:pt x="4189484" y="165259"/>
                    <a:pt x="4190387" y="159839"/>
                  </a:cubicBezTo>
                  <a:cubicBezTo>
                    <a:pt x="4173223" y="156226"/>
                    <a:pt x="4155156" y="151710"/>
                    <a:pt x="4128958" y="146290"/>
                  </a:cubicBezTo>
                  <a:close/>
                  <a:moveTo>
                    <a:pt x="4537280" y="863"/>
                  </a:moveTo>
                  <a:cubicBezTo>
                    <a:pt x="4595095" y="29767"/>
                    <a:pt x="4659234" y="17122"/>
                    <a:pt x="4719760" y="27961"/>
                  </a:cubicBezTo>
                  <a:cubicBezTo>
                    <a:pt x="4736021" y="30671"/>
                    <a:pt x="4751378" y="40607"/>
                    <a:pt x="4774865" y="50543"/>
                  </a:cubicBezTo>
                  <a:cubicBezTo>
                    <a:pt x="4739634" y="74931"/>
                    <a:pt x="4711630" y="93900"/>
                    <a:pt x="4683625" y="113772"/>
                  </a:cubicBezTo>
                  <a:cubicBezTo>
                    <a:pt x="4714340" y="93900"/>
                    <a:pt x="4766735" y="121902"/>
                    <a:pt x="4773962" y="74931"/>
                  </a:cubicBezTo>
                  <a:cubicBezTo>
                    <a:pt x="4805580" y="80351"/>
                    <a:pt x="4834488" y="86674"/>
                    <a:pt x="4864299" y="91190"/>
                  </a:cubicBezTo>
                  <a:cubicBezTo>
                    <a:pt x="4904950" y="98417"/>
                    <a:pt x="4947408" y="106546"/>
                    <a:pt x="4988963" y="110159"/>
                  </a:cubicBezTo>
                  <a:cubicBezTo>
                    <a:pt x="5008837" y="111966"/>
                    <a:pt x="5029614" y="103836"/>
                    <a:pt x="5048585" y="99320"/>
                  </a:cubicBezTo>
                  <a:cubicBezTo>
                    <a:pt x="5117241" y="82158"/>
                    <a:pt x="5158796" y="131838"/>
                    <a:pt x="5207578" y="162549"/>
                  </a:cubicBezTo>
                  <a:cubicBezTo>
                    <a:pt x="5227452" y="175195"/>
                    <a:pt x="5244616" y="186938"/>
                    <a:pt x="5245519" y="152613"/>
                  </a:cubicBezTo>
                  <a:lnTo>
                    <a:pt x="5387348" y="152613"/>
                  </a:lnTo>
                  <a:cubicBezTo>
                    <a:pt x="5378314" y="140871"/>
                    <a:pt x="5373797" y="134548"/>
                    <a:pt x="5363860" y="121902"/>
                  </a:cubicBezTo>
                  <a:cubicBezTo>
                    <a:pt x="5405415" y="121902"/>
                    <a:pt x="5441550" y="109256"/>
                    <a:pt x="5475878" y="136354"/>
                  </a:cubicBezTo>
                  <a:cubicBezTo>
                    <a:pt x="5482201" y="140871"/>
                    <a:pt x="5492138" y="146290"/>
                    <a:pt x="5497558" y="144484"/>
                  </a:cubicBezTo>
                  <a:cubicBezTo>
                    <a:pt x="5512916" y="138612"/>
                    <a:pt x="5527539" y="136016"/>
                    <a:pt x="5541654" y="135790"/>
                  </a:cubicBezTo>
                  <a:lnTo>
                    <a:pt x="5578870" y="140806"/>
                  </a:lnTo>
                  <a:lnTo>
                    <a:pt x="5706092" y="350117"/>
                  </a:lnTo>
                  <a:lnTo>
                    <a:pt x="5797826" y="540428"/>
                  </a:lnTo>
                  <a:lnTo>
                    <a:pt x="5796573" y="543732"/>
                  </a:lnTo>
                  <a:cubicBezTo>
                    <a:pt x="5786636" y="570830"/>
                    <a:pt x="5776699" y="597025"/>
                    <a:pt x="5766762" y="626833"/>
                  </a:cubicBezTo>
                  <a:cubicBezTo>
                    <a:pt x="5781216" y="629543"/>
                    <a:pt x="5797476" y="632253"/>
                    <a:pt x="5817350" y="637673"/>
                  </a:cubicBezTo>
                  <a:cubicBezTo>
                    <a:pt x="5815544" y="628640"/>
                    <a:pt x="5813737" y="621414"/>
                    <a:pt x="5811930" y="609671"/>
                  </a:cubicBezTo>
                  <a:cubicBezTo>
                    <a:pt x="5819157" y="613284"/>
                    <a:pt x="5824577" y="614188"/>
                    <a:pt x="5825480" y="617801"/>
                  </a:cubicBezTo>
                  <a:cubicBezTo>
                    <a:pt x="5829997" y="628640"/>
                    <a:pt x="5832707" y="641286"/>
                    <a:pt x="5839257" y="648286"/>
                  </a:cubicBezTo>
                  <a:lnTo>
                    <a:pt x="5848794" y="652081"/>
                  </a:lnTo>
                  <a:lnTo>
                    <a:pt x="5946529" y="918913"/>
                  </a:lnTo>
                  <a:lnTo>
                    <a:pt x="5968244" y="995321"/>
                  </a:lnTo>
                  <a:lnTo>
                    <a:pt x="5967888" y="995441"/>
                  </a:lnTo>
                  <a:cubicBezTo>
                    <a:pt x="5962454" y="995766"/>
                    <a:pt x="5956243" y="994693"/>
                    <a:pt x="5949242" y="991757"/>
                  </a:cubicBezTo>
                  <a:cubicBezTo>
                    <a:pt x="5920334" y="980015"/>
                    <a:pt x="5903170" y="997177"/>
                    <a:pt x="5898653" y="1026985"/>
                  </a:cubicBezTo>
                  <a:cubicBezTo>
                    <a:pt x="5896846" y="1050470"/>
                    <a:pt x="5886910" y="1072149"/>
                    <a:pt x="5878779" y="1101957"/>
                  </a:cubicBezTo>
                  <a:cubicBezTo>
                    <a:pt x="5895040" y="1115506"/>
                    <a:pt x="5921238" y="1135378"/>
                    <a:pt x="5945628" y="1157057"/>
                  </a:cubicBezTo>
                  <a:cubicBezTo>
                    <a:pt x="5954662" y="1166090"/>
                    <a:pt x="5961889" y="1175122"/>
                    <a:pt x="5967309" y="1186865"/>
                  </a:cubicBezTo>
                  <a:cubicBezTo>
                    <a:pt x="5984473" y="1222093"/>
                    <a:pt x="5977246" y="1236545"/>
                    <a:pt x="5940208" y="1250094"/>
                  </a:cubicBezTo>
                  <a:cubicBezTo>
                    <a:pt x="5931174" y="1252804"/>
                    <a:pt x="5923044" y="1257321"/>
                    <a:pt x="5911300" y="1260934"/>
                  </a:cubicBezTo>
                  <a:cubicBezTo>
                    <a:pt x="5901364" y="1235642"/>
                    <a:pt x="5885103" y="1210350"/>
                    <a:pt x="5884200" y="1184155"/>
                  </a:cubicBezTo>
                  <a:cubicBezTo>
                    <a:pt x="5882393" y="1154347"/>
                    <a:pt x="5865229" y="1154347"/>
                    <a:pt x="5845355" y="1148927"/>
                  </a:cubicBezTo>
                  <a:cubicBezTo>
                    <a:pt x="5837224" y="1145314"/>
                    <a:pt x="5824577" y="1135378"/>
                    <a:pt x="5822770" y="1128152"/>
                  </a:cubicBezTo>
                  <a:cubicBezTo>
                    <a:pt x="5817350" y="1091118"/>
                    <a:pt x="5790249" y="1076665"/>
                    <a:pt x="5756825" y="1095634"/>
                  </a:cubicBezTo>
                  <a:cubicBezTo>
                    <a:pt x="5730627" y="1110990"/>
                    <a:pt x="5708946" y="1123636"/>
                    <a:pt x="5718883" y="1074859"/>
                  </a:cubicBezTo>
                  <a:cubicBezTo>
                    <a:pt x="5719787" y="1069439"/>
                    <a:pt x="5711656" y="1058600"/>
                    <a:pt x="5706236" y="1057696"/>
                  </a:cubicBezTo>
                  <a:cubicBezTo>
                    <a:pt x="5699913" y="1056793"/>
                    <a:pt x="5689976" y="1060406"/>
                    <a:pt x="5684556" y="1064923"/>
                  </a:cubicBezTo>
                  <a:cubicBezTo>
                    <a:pt x="5667392" y="1082085"/>
                    <a:pt x="5652938" y="1099247"/>
                    <a:pt x="5631257" y="1121829"/>
                  </a:cubicBezTo>
                  <a:cubicBezTo>
                    <a:pt x="5633064" y="1123636"/>
                    <a:pt x="5644807" y="1138991"/>
                    <a:pt x="5648421" y="1137185"/>
                  </a:cubicBezTo>
                  <a:cubicBezTo>
                    <a:pt x="5674618" y="1122732"/>
                    <a:pt x="5689072" y="1204027"/>
                    <a:pt x="5716173" y="1145314"/>
                  </a:cubicBezTo>
                  <a:cubicBezTo>
                    <a:pt x="5737854" y="1154347"/>
                    <a:pt x="5756825" y="1160670"/>
                    <a:pt x="5773085" y="1166993"/>
                  </a:cubicBezTo>
                  <a:cubicBezTo>
                    <a:pt x="5751404" y="1187768"/>
                    <a:pt x="5728820" y="1208544"/>
                    <a:pt x="5708946" y="1227512"/>
                  </a:cubicBezTo>
                  <a:cubicBezTo>
                    <a:pt x="5746888" y="1265450"/>
                    <a:pt x="5783926" y="1297968"/>
                    <a:pt x="5815544" y="1334099"/>
                  </a:cubicBezTo>
                  <a:cubicBezTo>
                    <a:pt x="5823674" y="1344035"/>
                    <a:pt x="5820060" y="1365714"/>
                    <a:pt x="5822770" y="1388296"/>
                  </a:cubicBezTo>
                  <a:cubicBezTo>
                    <a:pt x="5858002" y="1395522"/>
                    <a:pt x="5850775" y="1423523"/>
                    <a:pt x="5836321" y="1453332"/>
                  </a:cubicBezTo>
                  <a:cubicBezTo>
                    <a:pt x="5811930" y="1503012"/>
                    <a:pt x="5809220" y="1563531"/>
                    <a:pt x="5760438" y="1599662"/>
                  </a:cubicBezTo>
                  <a:cubicBezTo>
                    <a:pt x="5747791" y="1610502"/>
                    <a:pt x="5734240" y="1619534"/>
                    <a:pt x="5719787" y="1624954"/>
                  </a:cubicBezTo>
                  <a:cubicBezTo>
                    <a:pt x="5671908" y="1643923"/>
                    <a:pt x="5619513" y="1652956"/>
                    <a:pt x="5583378" y="1700829"/>
                  </a:cubicBezTo>
                  <a:cubicBezTo>
                    <a:pt x="5566214" y="1675538"/>
                    <a:pt x="5554470" y="1642116"/>
                    <a:pt x="5515626" y="1671021"/>
                  </a:cubicBezTo>
                  <a:cubicBezTo>
                    <a:pt x="5477684" y="1699023"/>
                    <a:pt x="5467748" y="1737864"/>
                    <a:pt x="5491235" y="1773995"/>
                  </a:cubicBezTo>
                  <a:cubicBezTo>
                    <a:pt x="5500268" y="1787544"/>
                    <a:pt x="5508399" y="1804706"/>
                    <a:pt x="5521950" y="1811932"/>
                  </a:cubicBezTo>
                  <a:cubicBezTo>
                    <a:pt x="5584282" y="1844450"/>
                    <a:pt x="5594219" y="1901357"/>
                    <a:pt x="5594219" y="1962780"/>
                  </a:cubicBezTo>
                  <a:cubicBezTo>
                    <a:pt x="5594219" y="1969103"/>
                    <a:pt x="5594219" y="1979039"/>
                    <a:pt x="5590605" y="1982652"/>
                  </a:cubicBezTo>
                  <a:cubicBezTo>
                    <a:pt x="5554470" y="2013363"/>
                    <a:pt x="5516529" y="2041365"/>
                    <a:pt x="5472264" y="2076593"/>
                  </a:cubicBezTo>
                  <a:cubicBezTo>
                    <a:pt x="5474071" y="2054011"/>
                    <a:pt x="5474974" y="2041365"/>
                    <a:pt x="5475878" y="2035945"/>
                  </a:cubicBezTo>
                  <a:cubicBezTo>
                    <a:pt x="5428903" y="1996201"/>
                    <a:pt x="5278040" y="1900454"/>
                    <a:pt x="5247326" y="1826385"/>
                  </a:cubicBezTo>
                  <a:cubicBezTo>
                    <a:pt x="5245519" y="1821868"/>
                    <a:pt x="5241002" y="1818255"/>
                    <a:pt x="5239196" y="1817352"/>
                  </a:cubicBezTo>
                  <a:cubicBezTo>
                    <a:pt x="5215708" y="1826385"/>
                    <a:pt x="5094657" y="1701733"/>
                    <a:pt x="5065749" y="1638503"/>
                  </a:cubicBezTo>
                  <a:cubicBezTo>
                    <a:pt x="5034132" y="1645730"/>
                    <a:pt x="5007031" y="1651149"/>
                    <a:pt x="4979930" y="1657472"/>
                  </a:cubicBezTo>
                  <a:cubicBezTo>
                    <a:pt x="4969993" y="1660182"/>
                    <a:pt x="4960056" y="1662892"/>
                    <a:pt x="4954635" y="1669215"/>
                  </a:cubicBezTo>
                  <a:cubicBezTo>
                    <a:pt x="4913984" y="1717992"/>
                    <a:pt x="4875139" y="1769478"/>
                    <a:pt x="4833584" y="1817352"/>
                  </a:cubicBezTo>
                  <a:cubicBezTo>
                    <a:pt x="4819130" y="1834514"/>
                    <a:pt x="4795643" y="1846257"/>
                    <a:pt x="4786609" y="1860709"/>
                  </a:cubicBezTo>
                  <a:cubicBezTo>
                    <a:pt x="4780286" y="1921229"/>
                    <a:pt x="4773962" y="1981748"/>
                    <a:pt x="4768542" y="2042268"/>
                  </a:cubicBezTo>
                  <a:cubicBezTo>
                    <a:pt x="4767638" y="2046784"/>
                    <a:pt x="4770349" y="2052204"/>
                    <a:pt x="4771252" y="2057624"/>
                  </a:cubicBezTo>
                  <a:cubicBezTo>
                    <a:pt x="4751378" y="2069366"/>
                    <a:pt x="4730600" y="2082915"/>
                    <a:pt x="4701693" y="2099174"/>
                  </a:cubicBezTo>
                  <a:cubicBezTo>
                    <a:pt x="4655621" y="1951037"/>
                    <a:pt x="4555347" y="1824578"/>
                    <a:pt x="4545410" y="1654762"/>
                  </a:cubicBezTo>
                  <a:cubicBezTo>
                    <a:pt x="4521019" y="1702636"/>
                    <a:pt x="4497532" y="1682764"/>
                    <a:pt x="4473141" y="1666505"/>
                  </a:cubicBezTo>
                  <a:cubicBezTo>
                    <a:pt x="4451460" y="1652052"/>
                    <a:pt x="4448750" y="1638503"/>
                    <a:pt x="4470431" y="1629471"/>
                  </a:cubicBezTo>
                  <a:cubicBezTo>
                    <a:pt x="4442426" y="1610502"/>
                    <a:pt x="4410809" y="1596953"/>
                    <a:pt x="4390031" y="1573467"/>
                  </a:cubicBezTo>
                  <a:cubicBezTo>
                    <a:pt x="4360220" y="1539143"/>
                    <a:pt x="4321375" y="1542756"/>
                    <a:pt x="4287951" y="1549079"/>
                  </a:cubicBezTo>
                  <a:cubicBezTo>
                    <a:pt x="4238266" y="1557208"/>
                    <a:pt x="4191291" y="1554499"/>
                    <a:pt x="4145219" y="1536433"/>
                  </a:cubicBezTo>
                  <a:cubicBezTo>
                    <a:pt x="4130765" y="1531917"/>
                    <a:pt x="4119925" y="1520174"/>
                    <a:pt x="4106374" y="1508431"/>
                  </a:cubicBezTo>
                  <a:lnTo>
                    <a:pt x="4087403" y="1519271"/>
                  </a:lnTo>
                  <a:cubicBezTo>
                    <a:pt x="4096437" y="1559015"/>
                    <a:pt x="4112698" y="1586113"/>
                    <a:pt x="4153349" y="1597856"/>
                  </a:cubicBezTo>
                  <a:cubicBezTo>
                    <a:pt x="4170513" y="1602372"/>
                    <a:pt x="4193097" y="1629471"/>
                    <a:pt x="4190387" y="1639407"/>
                  </a:cubicBezTo>
                  <a:cubicBezTo>
                    <a:pt x="4185870" y="1661085"/>
                    <a:pt x="4191291" y="1690893"/>
                    <a:pt x="4157866" y="1703539"/>
                  </a:cubicBezTo>
                  <a:cubicBezTo>
                    <a:pt x="4141605" y="1709862"/>
                    <a:pt x="4137992" y="1742380"/>
                    <a:pt x="4122635" y="1756833"/>
                  </a:cubicBezTo>
                  <a:cubicBezTo>
                    <a:pt x="4099147" y="1778511"/>
                    <a:pt x="4071143" y="1794770"/>
                    <a:pt x="4043138" y="1812836"/>
                  </a:cubicBezTo>
                  <a:cubicBezTo>
                    <a:pt x="4003390" y="1838127"/>
                    <a:pt x="3962739" y="1865226"/>
                    <a:pt x="3921184" y="1888711"/>
                  </a:cubicBezTo>
                  <a:cubicBezTo>
                    <a:pt x="3913957" y="1904970"/>
                    <a:pt x="3906730" y="1919422"/>
                    <a:pt x="3898600" y="1935681"/>
                  </a:cubicBezTo>
                  <a:cubicBezTo>
                    <a:pt x="3897696" y="1957360"/>
                    <a:pt x="3891373" y="1978135"/>
                    <a:pt x="3881436" y="1997104"/>
                  </a:cubicBezTo>
                  <a:cubicBezTo>
                    <a:pt x="3911247" y="1990781"/>
                    <a:pt x="3940155" y="1983555"/>
                    <a:pt x="3969966" y="1977232"/>
                  </a:cubicBezTo>
                  <a:cubicBezTo>
                    <a:pt x="3969966" y="1990781"/>
                    <a:pt x="3974483" y="2007040"/>
                    <a:pt x="3969966" y="2019686"/>
                  </a:cubicBezTo>
                  <a:cubicBezTo>
                    <a:pt x="3951898" y="2072979"/>
                    <a:pt x="3936541" y="2128079"/>
                    <a:pt x="3911247" y="2177759"/>
                  </a:cubicBezTo>
                  <a:cubicBezTo>
                    <a:pt x="3894083" y="2208471"/>
                    <a:pt x="3865175" y="2235569"/>
                    <a:pt x="3836268" y="2257248"/>
                  </a:cubicBezTo>
                  <a:cubicBezTo>
                    <a:pt x="3789292" y="2292476"/>
                    <a:pt x="3745931" y="2328607"/>
                    <a:pt x="3720637" y="2383707"/>
                  </a:cubicBezTo>
                  <a:cubicBezTo>
                    <a:pt x="3699859" y="2427967"/>
                    <a:pt x="3675468" y="2470421"/>
                    <a:pt x="3654691" y="2513778"/>
                  </a:cubicBezTo>
                  <a:cubicBezTo>
                    <a:pt x="3631203" y="2560749"/>
                    <a:pt x="3646561" y="2648367"/>
                    <a:pt x="3684502" y="2687208"/>
                  </a:cubicBezTo>
                  <a:cubicBezTo>
                    <a:pt x="3687212" y="2689917"/>
                    <a:pt x="3693536" y="2693530"/>
                    <a:pt x="3693536" y="2695337"/>
                  </a:cubicBezTo>
                  <a:cubicBezTo>
                    <a:pt x="3691729" y="2726952"/>
                    <a:pt x="3686309" y="2758566"/>
                    <a:pt x="3689019" y="2790181"/>
                  </a:cubicBezTo>
                  <a:cubicBezTo>
                    <a:pt x="3692632" y="2825409"/>
                    <a:pt x="3675468" y="2843474"/>
                    <a:pt x="3648367" y="2863346"/>
                  </a:cubicBezTo>
                  <a:cubicBezTo>
                    <a:pt x="3605909" y="2894961"/>
                    <a:pt x="3568871" y="2933802"/>
                    <a:pt x="3530026" y="2970836"/>
                  </a:cubicBezTo>
                  <a:cubicBezTo>
                    <a:pt x="3524606" y="2976256"/>
                    <a:pt x="3523703" y="2987999"/>
                    <a:pt x="3523703" y="2997031"/>
                  </a:cubicBezTo>
                  <a:cubicBezTo>
                    <a:pt x="3522799" y="3003354"/>
                    <a:pt x="3527316" y="3009677"/>
                    <a:pt x="3530026" y="3016000"/>
                  </a:cubicBezTo>
                  <a:cubicBezTo>
                    <a:pt x="3543577" y="3069294"/>
                    <a:pt x="3528219" y="3109038"/>
                    <a:pt x="3484858" y="3139749"/>
                  </a:cubicBezTo>
                  <a:cubicBezTo>
                    <a:pt x="3466791" y="3151492"/>
                    <a:pt x="3452337" y="3159621"/>
                    <a:pt x="3455950" y="3192139"/>
                  </a:cubicBezTo>
                  <a:cubicBezTo>
                    <a:pt x="3458660" y="3219237"/>
                    <a:pt x="3454143" y="3267111"/>
                    <a:pt x="3408975" y="3284273"/>
                  </a:cubicBezTo>
                  <a:cubicBezTo>
                    <a:pt x="3392715" y="3290596"/>
                    <a:pt x="3383681" y="3314985"/>
                    <a:pt x="3368324" y="3328534"/>
                  </a:cubicBezTo>
                  <a:cubicBezTo>
                    <a:pt x="3331286" y="3361052"/>
                    <a:pt x="3293344" y="3392667"/>
                    <a:pt x="3255403" y="3423378"/>
                  </a:cubicBezTo>
                  <a:cubicBezTo>
                    <a:pt x="3247272" y="3429701"/>
                    <a:pt x="3234625" y="3433314"/>
                    <a:pt x="3224688" y="3432411"/>
                  </a:cubicBezTo>
                  <a:cubicBezTo>
                    <a:pt x="3190360" y="3429701"/>
                    <a:pt x="3157839" y="3431507"/>
                    <a:pt x="3126221" y="3451379"/>
                  </a:cubicBezTo>
                  <a:cubicBezTo>
                    <a:pt x="3113574" y="3458606"/>
                    <a:pt x="3082860" y="3452283"/>
                    <a:pt x="3070213" y="3442347"/>
                  </a:cubicBezTo>
                  <a:cubicBezTo>
                    <a:pt x="3057566" y="3429701"/>
                    <a:pt x="3059372" y="3403506"/>
                    <a:pt x="3053049" y="3384537"/>
                  </a:cubicBezTo>
                  <a:cubicBezTo>
                    <a:pt x="3040402" y="3346599"/>
                    <a:pt x="3026851" y="3308662"/>
                    <a:pt x="3015107" y="3270724"/>
                  </a:cubicBezTo>
                  <a:cubicBezTo>
                    <a:pt x="2996137" y="3212915"/>
                    <a:pt x="2978973" y="3154201"/>
                    <a:pt x="2960905" y="3095489"/>
                  </a:cubicBezTo>
                  <a:cubicBezTo>
                    <a:pt x="2953678" y="3072907"/>
                    <a:pt x="2950968" y="3046712"/>
                    <a:pt x="2938321" y="3027743"/>
                  </a:cubicBezTo>
                  <a:cubicBezTo>
                    <a:pt x="2873279" y="2929286"/>
                    <a:pt x="2866052" y="2830829"/>
                    <a:pt x="2926577" y="2728758"/>
                  </a:cubicBezTo>
                  <a:cubicBezTo>
                    <a:pt x="2930191" y="2722435"/>
                    <a:pt x="2934708" y="2715209"/>
                    <a:pt x="2933804" y="2708886"/>
                  </a:cubicBezTo>
                  <a:cubicBezTo>
                    <a:pt x="2924771" y="2659206"/>
                    <a:pt x="2922061" y="2606816"/>
                    <a:pt x="2903090" y="2559845"/>
                  </a:cubicBezTo>
                  <a:cubicBezTo>
                    <a:pt x="2878699" y="2502036"/>
                    <a:pt x="2839854" y="2450549"/>
                    <a:pt x="2807333" y="2396352"/>
                  </a:cubicBezTo>
                  <a:cubicBezTo>
                    <a:pt x="2803720" y="2389126"/>
                    <a:pt x="2800106" y="2380093"/>
                    <a:pt x="2801913" y="2373770"/>
                  </a:cubicBezTo>
                  <a:cubicBezTo>
                    <a:pt x="2809140" y="2341253"/>
                    <a:pt x="2816367" y="2307831"/>
                    <a:pt x="2827207" y="2276217"/>
                  </a:cubicBezTo>
                  <a:cubicBezTo>
                    <a:pt x="2837144" y="2243699"/>
                    <a:pt x="2823594" y="2224730"/>
                    <a:pt x="2794686" y="2215697"/>
                  </a:cubicBezTo>
                  <a:cubicBezTo>
                    <a:pt x="2778425" y="2210277"/>
                    <a:pt x="2759455" y="2212084"/>
                    <a:pt x="2742291" y="2205761"/>
                  </a:cubicBezTo>
                  <a:cubicBezTo>
                    <a:pt x="2727837" y="2200341"/>
                    <a:pt x="2715190" y="2188599"/>
                    <a:pt x="2702542" y="2179566"/>
                  </a:cubicBezTo>
                  <a:cubicBezTo>
                    <a:pt x="2685378" y="2167823"/>
                    <a:pt x="2667311" y="2145241"/>
                    <a:pt x="2652857" y="2147048"/>
                  </a:cubicBezTo>
                  <a:cubicBezTo>
                    <a:pt x="2609496" y="2152468"/>
                    <a:pt x="2566134" y="2167823"/>
                    <a:pt x="2522773" y="2178663"/>
                  </a:cubicBezTo>
                  <a:cubicBezTo>
                    <a:pt x="2508319" y="2181373"/>
                    <a:pt x="2492961" y="2181373"/>
                    <a:pt x="2478508" y="2182276"/>
                  </a:cubicBezTo>
                  <a:cubicBezTo>
                    <a:pt x="2450503" y="2184082"/>
                    <a:pt x="2416175" y="2175953"/>
                    <a:pt x="2397205" y="2189502"/>
                  </a:cubicBezTo>
                  <a:cubicBezTo>
                    <a:pt x="2357456" y="2218407"/>
                    <a:pt x="2330355" y="2202148"/>
                    <a:pt x="2298738" y="2180469"/>
                  </a:cubicBezTo>
                  <a:cubicBezTo>
                    <a:pt x="2222855" y="2129886"/>
                    <a:pt x="2165039" y="2065753"/>
                    <a:pt x="2129808" y="1979039"/>
                  </a:cubicBezTo>
                  <a:cubicBezTo>
                    <a:pt x="2123484" y="1963683"/>
                    <a:pt x="2106321" y="1950134"/>
                    <a:pt x="2099997" y="1933875"/>
                  </a:cubicBezTo>
                  <a:cubicBezTo>
                    <a:pt x="2086446" y="1900454"/>
                    <a:pt x="2081026" y="1867936"/>
                    <a:pt x="2100900" y="1832708"/>
                  </a:cubicBezTo>
                  <a:cubicBezTo>
                    <a:pt x="2109031" y="1818255"/>
                    <a:pt x="2102707" y="1794770"/>
                    <a:pt x="2102707" y="1775801"/>
                  </a:cubicBezTo>
                  <a:cubicBezTo>
                    <a:pt x="2101804" y="1742380"/>
                    <a:pt x="2090963" y="1705346"/>
                    <a:pt x="2099997" y="1676441"/>
                  </a:cubicBezTo>
                  <a:cubicBezTo>
                    <a:pt x="2115354" y="1626761"/>
                    <a:pt x="2141552" y="1580694"/>
                    <a:pt x="2165943" y="1536433"/>
                  </a:cubicBezTo>
                  <a:cubicBezTo>
                    <a:pt x="2184913" y="1501205"/>
                    <a:pt x="2205691" y="1468687"/>
                    <a:pt x="2250859" y="1454235"/>
                  </a:cubicBezTo>
                  <a:cubicBezTo>
                    <a:pt x="2269830" y="1447912"/>
                    <a:pt x="2284284" y="1412684"/>
                    <a:pt x="2293317" y="1388296"/>
                  </a:cubicBezTo>
                  <a:cubicBezTo>
                    <a:pt x="2305061" y="1353068"/>
                    <a:pt x="2313191" y="1321453"/>
                    <a:pt x="2347519" y="1296161"/>
                  </a:cubicBezTo>
                  <a:cubicBezTo>
                    <a:pt x="2376427" y="1275386"/>
                    <a:pt x="2391784" y="1235642"/>
                    <a:pt x="2413465" y="1203124"/>
                  </a:cubicBezTo>
                  <a:cubicBezTo>
                    <a:pt x="2405335" y="1158863"/>
                    <a:pt x="2365587" y="1176026"/>
                    <a:pt x="2343003" y="1170606"/>
                  </a:cubicBezTo>
                  <a:cubicBezTo>
                    <a:pt x="2338486" y="1150734"/>
                    <a:pt x="2334872" y="1136281"/>
                    <a:pt x="2332162" y="1121829"/>
                  </a:cubicBezTo>
                  <a:cubicBezTo>
                    <a:pt x="2331259" y="1113700"/>
                    <a:pt x="2332162" y="1104667"/>
                    <a:pt x="2333066" y="1096537"/>
                  </a:cubicBezTo>
                  <a:cubicBezTo>
                    <a:pt x="2340292" y="1058600"/>
                    <a:pt x="2347519" y="1021565"/>
                    <a:pt x="2354746" y="984531"/>
                  </a:cubicBezTo>
                  <a:cubicBezTo>
                    <a:pt x="2351133" y="980015"/>
                    <a:pt x="2347519" y="976401"/>
                    <a:pt x="2343003" y="972788"/>
                  </a:cubicBezTo>
                  <a:cubicBezTo>
                    <a:pt x="2371007" y="970079"/>
                    <a:pt x="2399915" y="963756"/>
                    <a:pt x="2427919" y="964659"/>
                  </a:cubicBezTo>
                  <a:cubicBezTo>
                    <a:pt x="2458633" y="966465"/>
                    <a:pt x="2489348" y="974595"/>
                    <a:pt x="2520062" y="977305"/>
                  </a:cubicBezTo>
                  <a:cubicBezTo>
                    <a:pt x="2526386" y="978208"/>
                    <a:pt x="2537226" y="973692"/>
                    <a:pt x="2540840" y="968272"/>
                  </a:cubicBezTo>
                  <a:cubicBezTo>
                    <a:pt x="2568844" y="923108"/>
                    <a:pt x="2548067" y="862589"/>
                    <a:pt x="2499285" y="840007"/>
                  </a:cubicBezTo>
                  <a:cubicBezTo>
                    <a:pt x="2489348" y="835490"/>
                    <a:pt x="2480314" y="830071"/>
                    <a:pt x="2459537" y="818328"/>
                  </a:cubicBezTo>
                  <a:cubicBezTo>
                    <a:pt x="2484831" y="813812"/>
                    <a:pt x="2502898" y="802972"/>
                    <a:pt x="2512835" y="808392"/>
                  </a:cubicBezTo>
                  <a:cubicBezTo>
                    <a:pt x="2548067" y="828264"/>
                    <a:pt x="2546260" y="804779"/>
                    <a:pt x="2548067" y="782197"/>
                  </a:cubicBezTo>
                  <a:cubicBezTo>
                    <a:pt x="2585105" y="797553"/>
                    <a:pt x="2626660" y="776777"/>
                    <a:pt x="2630273" y="734323"/>
                  </a:cubicBezTo>
                  <a:cubicBezTo>
                    <a:pt x="2661891" y="730710"/>
                    <a:pt x="2689895" y="726194"/>
                    <a:pt x="2703446" y="688256"/>
                  </a:cubicBezTo>
                  <a:cubicBezTo>
                    <a:pt x="2707963" y="674707"/>
                    <a:pt x="2736870" y="669287"/>
                    <a:pt x="2755841" y="662061"/>
                  </a:cubicBezTo>
                  <a:cubicBezTo>
                    <a:pt x="2768488" y="656642"/>
                    <a:pt x="2783845" y="654835"/>
                    <a:pt x="2798299" y="653028"/>
                  </a:cubicBezTo>
                  <a:cubicBezTo>
                    <a:pt x="2804623" y="559991"/>
                    <a:pt x="2804623" y="559991"/>
                    <a:pt x="2840758" y="540119"/>
                  </a:cubicBezTo>
                  <a:lnTo>
                    <a:pt x="2840758" y="638576"/>
                  </a:lnTo>
                  <a:cubicBezTo>
                    <a:pt x="2850695" y="638576"/>
                    <a:pt x="2866052" y="638576"/>
                    <a:pt x="2882312" y="641286"/>
                  </a:cubicBezTo>
                  <a:cubicBezTo>
                    <a:pt x="2896766" y="642189"/>
                    <a:pt x="2910317" y="648512"/>
                    <a:pt x="2924771" y="648512"/>
                  </a:cubicBezTo>
                  <a:cubicBezTo>
                    <a:pt x="2939224" y="649415"/>
                    <a:pt x="2956388" y="649415"/>
                    <a:pt x="2969036" y="643092"/>
                  </a:cubicBezTo>
                  <a:cubicBezTo>
                    <a:pt x="2994330" y="631350"/>
                    <a:pt x="3016011" y="618704"/>
                    <a:pt x="3045822" y="635866"/>
                  </a:cubicBezTo>
                  <a:cubicBezTo>
                    <a:pt x="3054855" y="641286"/>
                    <a:pt x="3076536" y="623220"/>
                    <a:pt x="3082860" y="620510"/>
                  </a:cubicBezTo>
                  <a:cubicBezTo>
                    <a:pt x="3088280" y="591606"/>
                    <a:pt x="3091893" y="568120"/>
                    <a:pt x="3094604" y="546442"/>
                  </a:cubicBezTo>
                  <a:cubicBezTo>
                    <a:pt x="3113574" y="550055"/>
                    <a:pt x="3132545" y="554571"/>
                    <a:pt x="3163259" y="562701"/>
                  </a:cubicBezTo>
                  <a:cubicBezTo>
                    <a:pt x="3153322" y="538312"/>
                    <a:pt x="3146095" y="519343"/>
                    <a:pt x="3135255" y="493148"/>
                  </a:cubicBezTo>
                  <a:cubicBezTo>
                    <a:pt x="3181327" y="485922"/>
                    <a:pt x="3227398" y="479599"/>
                    <a:pt x="3272567" y="472373"/>
                  </a:cubicBezTo>
                  <a:cubicBezTo>
                    <a:pt x="3272567" y="467857"/>
                    <a:pt x="3271663" y="462437"/>
                    <a:pt x="3270760" y="457017"/>
                  </a:cubicBezTo>
                  <a:cubicBezTo>
                    <a:pt x="3233722" y="460630"/>
                    <a:pt x="3197587" y="462437"/>
                    <a:pt x="3160549" y="467857"/>
                  </a:cubicBezTo>
                  <a:cubicBezTo>
                    <a:pt x="3104541" y="477793"/>
                    <a:pt x="3072019" y="452501"/>
                    <a:pt x="3075633" y="397401"/>
                  </a:cubicBezTo>
                  <a:cubicBezTo>
                    <a:pt x="3075633" y="390175"/>
                    <a:pt x="3084667" y="381142"/>
                    <a:pt x="3091893" y="375722"/>
                  </a:cubicBezTo>
                  <a:cubicBezTo>
                    <a:pt x="3113574" y="358560"/>
                    <a:pt x="3134352" y="343205"/>
                    <a:pt x="3156032" y="326042"/>
                  </a:cubicBezTo>
                  <a:cubicBezTo>
                    <a:pt x="3118994" y="292621"/>
                    <a:pt x="3093700" y="299847"/>
                    <a:pt x="3073826" y="342301"/>
                  </a:cubicBezTo>
                  <a:cubicBezTo>
                    <a:pt x="3069309" y="352237"/>
                    <a:pt x="3057566" y="360367"/>
                    <a:pt x="3048532" y="366690"/>
                  </a:cubicBezTo>
                  <a:cubicBezTo>
                    <a:pt x="3038595" y="373916"/>
                    <a:pt x="3025044" y="377529"/>
                    <a:pt x="3016011" y="384755"/>
                  </a:cubicBezTo>
                  <a:cubicBezTo>
                    <a:pt x="2984393" y="409144"/>
                    <a:pt x="2989813" y="442565"/>
                    <a:pt x="3032271" y="469663"/>
                  </a:cubicBezTo>
                  <a:cubicBezTo>
                    <a:pt x="3030465" y="507601"/>
                    <a:pt x="2950065" y="513021"/>
                    <a:pt x="2992523" y="569024"/>
                  </a:cubicBezTo>
                  <a:cubicBezTo>
                    <a:pt x="2957292" y="582573"/>
                    <a:pt x="2925674" y="595219"/>
                    <a:pt x="2894960" y="606961"/>
                  </a:cubicBezTo>
                  <a:lnTo>
                    <a:pt x="2892249" y="598832"/>
                  </a:lnTo>
                  <a:cubicBezTo>
                    <a:pt x="2886829" y="608768"/>
                    <a:pt x="2881409" y="618704"/>
                    <a:pt x="2874182" y="634963"/>
                  </a:cubicBezTo>
                  <a:cubicBezTo>
                    <a:pt x="2866955" y="619607"/>
                    <a:pt x="2863342" y="608768"/>
                    <a:pt x="2857018" y="596122"/>
                  </a:cubicBezTo>
                  <a:cubicBezTo>
                    <a:pt x="2870569" y="588896"/>
                    <a:pt x="2883216" y="582573"/>
                    <a:pt x="2894960" y="576250"/>
                  </a:cubicBezTo>
                  <a:cubicBezTo>
                    <a:pt x="2879602" y="546442"/>
                    <a:pt x="2866052" y="519343"/>
                    <a:pt x="2849791" y="487729"/>
                  </a:cubicBezTo>
                  <a:cubicBezTo>
                    <a:pt x="2836241" y="495858"/>
                    <a:pt x="2821787" y="502181"/>
                    <a:pt x="2809140" y="511214"/>
                  </a:cubicBezTo>
                  <a:cubicBezTo>
                    <a:pt x="2770295" y="538312"/>
                    <a:pt x="2736870" y="524763"/>
                    <a:pt x="2729643" y="476889"/>
                  </a:cubicBezTo>
                  <a:cubicBezTo>
                    <a:pt x="2719706" y="417273"/>
                    <a:pt x="2740484" y="393788"/>
                    <a:pt x="2803720" y="365786"/>
                  </a:cubicBezTo>
                  <a:cubicBezTo>
                    <a:pt x="2835337" y="353141"/>
                    <a:pt x="2858825" y="322429"/>
                    <a:pt x="2885022" y="299847"/>
                  </a:cubicBezTo>
                  <a:cubicBezTo>
                    <a:pt x="2906703" y="280878"/>
                    <a:pt x="2926577" y="261006"/>
                    <a:pt x="2955485" y="233005"/>
                  </a:cubicBezTo>
                  <a:cubicBezTo>
                    <a:pt x="2935611" y="236618"/>
                    <a:pt x="2917544" y="233908"/>
                    <a:pt x="2916640" y="229392"/>
                  </a:cubicBezTo>
                  <a:cubicBezTo>
                    <a:pt x="2932901" y="227585"/>
                    <a:pt x="2949162" y="224875"/>
                    <a:pt x="2964519" y="223069"/>
                  </a:cubicBezTo>
                  <a:cubicBezTo>
                    <a:pt x="2969939" y="223069"/>
                    <a:pt x="2978973" y="225779"/>
                    <a:pt x="2980779" y="223972"/>
                  </a:cubicBezTo>
                  <a:cubicBezTo>
                    <a:pt x="3015107" y="172485"/>
                    <a:pt x="3073826" y="188744"/>
                    <a:pt x="3120801" y="174292"/>
                  </a:cubicBezTo>
                  <a:cubicBezTo>
                    <a:pt x="3151516" y="164356"/>
                    <a:pt x="3187650" y="169775"/>
                    <a:pt x="3221075" y="171582"/>
                  </a:cubicBezTo>
                  <a:cubicBezTo>
                    <a:pt x="3242756" y="173388"/>
                    <a:pt x="3251789" y="195970"/>
                    <a:pt x="3278890" y="199584"/>
                  </a:cubicBezTo>
                  <a:cubicBezTo>
                    <a:pt x="3334899" y="204100"/>
                    <a:pt x="3389101" y="225779"/>
                    <a:pt x="3443303" y="242941"/>
                  </a:cubicBezTo>
                  <a:lnTo>
                    <a:pt x="3553514" y="259200"/>
                  </a:lnTo>
                  <a:cubicBezTo>
                    <a:pt x="3560741" y="246554"/>
                    <a:pt x="3574291" y="238424"/>
                    <a:pt x="3591455" y="242941"/>
                  </a:cubicBezTo>
                  <a:cubicBezTo>
                    <a:pt x="3574291" y="250167"/>
                    <a:pt x="3567064" y="253780"/>
                    <a:pt x="3556224" y="259200"/>
                  </a:cubicBezTo>
                  <a:lnTo>
                    <a:pt x="3644754" y="242941"/>
                  </a:lnTo>
                  <a:lnTo>
                    <a:pt x="3719733" y="217649"/>
                  </a:lnTo>
                  <a:lnTo>
                    <a:pt x="3766708" y="175195"/>
                  </a:lnTo>
                  <a:lnTo>
                    <a:pt x="3960932" y="170679"/>
                  </a:lnTo>
                  <a:cubicBezTo>
                    <a:pt x="3975386" y="143580"/>
                    <a:pt x="3986226" y="120998"/>
                    <a:pt x="3994357" y="105643"/>
                  </a:cubicBezTo>
                  <a:cubicBezTo>
                    <a:pt x="4015134" y="112869"/>
                    <a:pt x="4034105" y="118289"/>
                    <a:pt x="4044042" y="121902"/>
                  </a:cubicBezTo>
                  <a:cubicBezTo>
                    <a:pt x="4061206" y="148097"/>
                    <a:pt x="4076563" y="171582"/>
                    <a:pt x="4092824" y="195970"/>
                  </a:cubicBezTo>
                  <a:lnTo>
                    <a:pt x="4115408" y="184228"/>
                  </a:lnTo>
                  <a:cubicBezTo>
                    <a:pt x="4112698" y="171582"/>
                    <a:pt x="4091920" y="164356"/>
                    <a:pt x="4078370" y="152613"/>
                  </a:cubicBezTo>
                  <a:cubicBezTo>
                    <a:pt x="4087403" y="143580"/>
                    <a:pt x="4096437" y="135451"/>
                    <a:pt x="4100051" y="131838"/>
                  </a:cubicBezTo>
                  <a:cubicBezTo>
                    <a:pt x="4109988" y="137257"/>
                    <a:pt x="4119021" y="141774"/>
                    <a:pt x="4128055" y="146290"/>
                  </a:cubicBezTo>
                  <a:cubicBezTo>
                    <a:pt x="4173223" y="105643"/>
                    <a:pt x="4213875" y="141774"/>
                    <a:pt x="4260850" y="141774"/>
                  </a:cubicBezTo>
                  <a:cubicBezTo>
                    <a:pt x="4231039" y="129128"/>
                    <a:pt x="4209358" y="120095"/>
                    <a:pt x="4187677" y="111966"/>
                  </a:cubicBezTo>
                  <a:lnTo>
                    <a:pt x="4189484" y="98417"/>
                  </a:lnTo>
                  <a:cubicBezTo>
                    <a:pt x="4222908" y="96610"/>
                    <a:pt x="4256333" y="93900"/>
                    <a:pt x="4298791" y="92094"/>
                  </a:cubicBezTo>
                  <a:cubicBezTo>
                    <a:pt x="4287047" y="83964"/>
                    <a:pt x="4280724" y="80351"/>
                    <a:pt x="4268077" y="72221"/>
                  </a:cubicBezTo>
                  <a:cubicBezTo>
                    <a:pt x="4325892" y="47833"/>
                    <a:pt x="4376481" y="26154"/>
                    <a:pt x="4438813" y="36994"/>
                  </a:cubicBezTo>
                  <a:cubicBezTo>
                    <a:pt x="4456880" y="40607"/>
                    <a:pt x="4479464" y="23445"/>
                    <a:pt x="4498435" y="15315"/>
                  </a:cubicBezTo>
                  <a:cubicBezTo>
                    <a:pt x="4511986" y="10799"/>
                    <a:pt x="4529150" y="-3654"/>
                    <a:pt x="4537280" y="863"/>
                  </a:cubicBezTo>
                  <a:close/>
                </a:path>
              </a:pathLst>
            </a:custGeom>
            <a:solidFill>
              <a:srgbClr val="1d212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591" name="TextBox 4"/>
          <p:cNvSpPr/>
          <p:nvPr/>
        </p:nvSpPr>
        <p:spPr>
          <a:xfrm>
            <a:off x="3097800" y="399960"/>
            <a:ext cx="5993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d6ff"/>
                </a:solidFill>
                <a:latin typeface="Raleway SemiBold"/>
                <a:ea typeface="Open Sans"/>
              </a:rPr>
              <a:t>Comparison Infographic</a:t>
            </a:r>
            <a:endParaRPr b="0" lang="en-US" sz="4000" spc="-1" strike="noStrike">
              <a:solidFill>
                <a:srgbClr val="000000"/>
              </a:solidFill>
              <a:latin typeface="Calibri"/>
            </a:endParaRPr>
          </a:p>
        </p:txBody>
      </p:sp>
      <p:grpSp>
        <p:nvGrpSpPr>
          <p:cNvPr id="592" name="Group 41"/>
          <p:cNvGrpSpPr/>
          <p:nvPr/>
        </p:nvGrpSpPr>
        <p:grpSpPr>
          <a:xfrm>
            <a:off x="8621640" y="3247920"/>
            <a:ext cx="1683000" cy="2697120"/>
            <a:chOff x="8621640" y="3247920"/>
            <a:chExt cx="1683000" cy="2697120"/>
          </a:xfrm>
        </p:grpSpPr>
        <p:sp>
          <p:nvSpPr>
            <p:cNvPr id="593" name="Rectangle: Rounded Corners 17"/>
            <p:cNvSpPr/>
            <p:nvPr/>
          </p:nvSpPr>
          <p:spPr>
            <a:xfrm>
              <a:off x="8621640" y="3247920"/>
              <a:ext cx="818280" cy="122400"/>
            </a:xfrm>
            <a:prstGeom prst="roundRect">
              <a:avLst>
                <a:gd name="adj" fmla="val 50000"/>
              </a:avLst>
            </a:prstGeom>
            <a:solidFill>
              <a:srgbClr val="a6a6a6"/>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4" name="Rectangle: Rounded Corners 18"/>
            <p:cNvSpPr/>
            <p:nvPr/>
          </p:nvSpPr>
          <p:spPr>
            <a:xfrm>
              <a:off x="8621640" y="3480480"/>
              <a:ext cx="818280" cy="122400"/>
            </a:xfrm>
            <a:prstGeom prst="roundRect">
              <a:avLst>
                <a:gd name="adj" fmla="val 50000"/>
              </a:avLst>
            </a:prstGeom>
            <a:solidFill>
              <a:srgbClr val="a6a6a6"/>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5" name="Rectangle: Rounded Corners 19"/>
            <p:cNvSpPr/>
            <p:nvPr/>
          </p:nvSpPr>
          <p:spPr>
            <a:xfrm>
              <a:off x="8621640" y="3713040"/>
              <a:ext cx="818280" cy="122400"/>
            </a:xfrm>
            <a:prstGeom prst="roundRect">
              <a:avLst>
                <a:gd name="adj" fmla="val 50000"/>
              </a:avLst>
            </a:prstGeom>
            <a:solidFill>
              <a:srgbClr val="a6a6a6"/>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6" name="Rectangle: Rounded Corners 20"/>
            <p:cNvSpPr/>
            <p:nvPr/>
          </p:nvSpPr>
          <p:spPr>
            <a:xfrm>
              <a:off x="8621640" y="3951000"/>
              <a:ext cx="818280" cy="122400"/>
            </a:xfrm>
            <a:prstGeom prst="roundRect">
              <a:avLst>
                <a:gd name="adj" fmla="val 50000"/>
              </a:avLst>
            </a:prstGeom>
            <a:solidFill>
              <a:srgbClr val="a6a6a6"/>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7" name="Rectangle: Rounded Corners 21"/>
            <p:cNvSpPr/>
            <p:nvPr/>
          </p:nvSpPr>
          <p:spPr>
            <a:xfrm>
              <a:off x="8621640" y="4183560"/>
              <a:ext cx="818280" cy="122400"/>
            </a:xfrm>
            <a:prstGeom prst="roundRect">
              <a:avLst>
                <a:gd name="adj" fmla="val 50000"/>
              </a:avLst>
            </a:prstGeom>
            <a:solidFill>
              <a:srgbClr val="a6a6a6"/>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8" name="Rectangle: Rounded Corners 22"/>
            <p:cNvSpPr/>
            <p:nvPr/>
          </p:nvSpPr>
          <p:spPr>
            <a:xfrm>
              <a:off x="8621640" y="4416120"/>
              <a:ext cx="818280" cy="122400"/>
            </a:xfrm>
            <a:prstGeom prst="roundRect">
              <a:avLst>
                <a:gd name="adj" fmla="val 50000"/>
              </a:avLst>
            </a:prstGeom>
            <a:solidFill>
              <a:srgbClr val="a6a6a6"/>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9" name="Rectangle: Rounded Corners 23"/>
            <p:cNvSpPr/>
            <p:nvPr/>
          </p:nvSpPr>
          <p:spPr>
            <a:xfrm>
              <a:off x="8621640" y="4648680"/>
              <a:ext cx="818280" cy="122400"/>
            </a:xfrm>
            <a:prstGeom prst="roundRect">
              <a:avLst>
                <a:gd name="adj" fmla="val 50000"/>
              </a:avLst>
            </a:prstGeom>
            <a:solidFill>
              <a:srgbClr val="37e08b"/>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0" name="Rectangle: Rounded Corners 24"/>
            <p:cNvSpPr/>
            <p:nvPr/>
          </p:nvSpPr>
          <p:spPr>
            <a:xfrm>
              <a:off x="8621640" y="4881600"/>
              <a:ext cx="818280" cy="122400"/>
            </a:xfrm>
            <a:prstGeom prst="roundRect">
              <a:avLst>
                <a:gd name="adj" fmla="val 50000"/>
              </a:avLst>
            </a:prstGeom>
            <a:solidFill>
              <a:srgbClr val="37e08b"/>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1" name="Rectangle: Rounded Corners 25"/>
            <p:cNvSpPr/>
            <p:nvPr/>
          </p:nvSpPr>
          <p:spPr>
            <a:xfrm>
              <a:off x="8621640" y="5114160"/>
              <a:ext cx="818280" cy="122400"/>
            </a:xfrm>
            <a:prstGeom prst="roundRect">
              <a:avLst>
                <a:gd name="adj" fmla="val 50000"/>
              </a:avLst>
            </a:prstGeom>
            <a:solidFill>
              <a:srgbClr val="37e08b"/>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2" name="Rectangle: Rounded Corners 26"/>
            <p:cNvSpPr/>
            <p:nvPr/>
          </p:nvSpPr>
          <p:spPr>
            <a:xfrm>
              <a:off x="8621640" y="5352120"/>
              <a:ext cx="818280" cy="122400"/>
            </a:xfrm>
            <a:prstGeom prst="roundRect">
              <a:avLst>
                <a:gd name="adj" fmla="val 50000"/>
              </a:avLst>
            </a:prstGeom>
            <a:solidFill>
              <a:srgbClr val="37e08b"/>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3" name="Rectangle: Rounded Corners 27"/>
            <p:cNvSpPr/>
            <p:nvPr/>
          </p:nvSpPr>
          <p:spPr>
            <a:xfrm>
              <a:off x="8621640" y="5584680"/>
              <a:ext cx="818280" cy="122400"/>
            </a:xfrm>
            <a:prstGeom prst="roundRect">
              <a:avLst>
                <a:gd name="adj" fmla="val 50000"/>
              </a:avLst>
            </a:prstGeom>
            <a:solidFill>
              <a:srgbClr val="37e08b"/>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4" name="Rectangle: Rounded Corners 28"/>
            <p:cNvSpPr/>
            <p:nvPr/>
          </p:nvSpPr>
          <p:spPr>
            <a:xfrm>
              <a:off x="8621640" y="5817240"/>
              <a:ext cx="818280" cy="122400"/>
            </a:xfrm>
            <a:prstGeom prst="roundRect">
              <a:avLst>
                <a:gd name="adj" fmla="val 50000"/>
              </a:avLst>
            </a:prstGeom>
            <a:solidFill>
              <a:srgbClr val="37e08b"/>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Rectangle: Rounded Corners 29"/>
            <p:cNvSpPr/>
            <p:nvPr/>
          </p:nvSpPr>
          <p:spPr>
            <a:xfrm>
              <a:off x="9486360" y="3253320"/>
              <a:ext cx="818280" cy="122400"/>
            </a:xfrm>
            <a:prstGeom prst="roundRect">
              <a:avLst>
                <a:gd name="adj" fmla="val 50000"/>
              </a:avLst>
            </a:prstGeom>
            <a:solidFill>
              <a:srgbClr val="a6a6a6"/>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6" name="Rectangle: Rounded Corners 30"/>
            <p:cNvSpPr/>
            <p:nvPr/>
          </p:nvSpPr>
          <p:spPr>
            <a:xfrm>
              <a:off x="9486360" y="3485880"/>
              <a:ext cx="818280" cy="122400"/>
            </a:xfrm>
            <a:prstGeom prst="roundRect">
              <a:avLst>
                <a:gd name="adj" fmla="val 50000"/>
              </a:avLst>
            </a:prstGeom>
            <a:solidFill>
              <a:srgbClr val="a6a6a6"/>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7" name="Rectangle: Rounded Corners 31"/>
            <p:cNvSpPr/>
            <p:nvPr/>
          </p:nvSpPr>
          <p:spPr>
            <a:xfrm>
              <a:off x="9486360" y="3718440"/>
              <a:ext cx="818280" cy="122400"/>
            </a:xfrm>
            <a:prstGeom prst="roundRect">
              <a:avLst>
                <a:gd name="adj" fmla="val 50000"/>
              </a:avLst>
            </a:prstGeom>
            <a:solidFill>
              <a:srgbClr val="a6a6a6"/>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8" name="Rectangle: Rounded Corners 32"/>
            <p:cNvSpPr/>
            <p:nvPr/>
          </p:nvSpPr>
          <p:spPr>
            <a:xfrm>
              <a:off x="9486360" y="3956400"/>
              <a:ext cx="818280" cy="122400"/>
            </a:xfrm>
            <a:prstGeom prst="roundRect">
              <a:avLst>
                <a:gd name="adj" fmla="val 50000"/>
              </a:avLst>
            </a:prstGeom>
            <a:solidFill>
              <a:srgbClr val="a6a6a6"/>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9" name="Rectangle: Rounded Corners 33"/>
            <p:cNvSpPr/>
            <p:nvPr/>
          </p:nvSpPr>
          <p:spPr>
            <a:xfrm>
              <a:off x="9486360" y="4188960"/>
              <a:ext cx="818280" cy="122400"/>
            </a:xfrm>
            <a:prstGeom prst="roundRect">
              <a:avLst>
                <a:gd name="adj" fmla="val 50000"/>
              </a:avLst>
            </a:prstGeom>
            <a:solidFill>
              <a:srgbClr val="06d6ff"/>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0" name="Rectangle: Rounded Corners 34"/>
            <p:cNvSpPr/>
            <p:nvPr/>
          </p:nvSpPr>
          <p:spPr>
            <a:xfrm>
              <a:off x="9486360" y="4421520"/>
              <a:ext cx="818280" cy="122400"/>
            </a:xfrm>
            <a:prstGeom prst="roundRect">
              <a:avLst>
                <a:gd name="adj" fmla="val 50000"/>
              </a:avLst>
            </a:prstGeom>
            <a:solidFill>
              <a:srgbClr val="06d6ff"/>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1" name="Rectangle: Rounded Corners 35"/>
            <p:cNvSpPr/>
            <p:nvPr/>
          </p:nvSpPr>
          <p:spPr>
            <a:xfrm>
              <a:off x="9486360" y="4654440"/>
              <a:ext cx="818280" cy="122400"/>
            </a:xfrm>
            <a:prstGeom prst="roundRect">
              <a:avLst>
                <a:gd name="adj" fmla="val 50000"/>
              </a:avLst>
            </a:prstGeom>
            <a:solidFill>
              <a:srgbClr val="06d6ff"/>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2" name="Rectangle: Rounded Corners 36"/>
            <p:cNvSpPr/>
            <p:nvPr/>
          </p:nvSpPr>
          <p:spPr>
            <a:xfrm>
              <a:off x="9486360" y="4887000"/>
              <a:ext cx="818280" cy="122400"/>
            </a:xfrm>
            <a:prstGeom prst="roundRect">
              <a:avLst>
                <a:gd name="adj" fmla="val 50000"/>
              </a:avLst>
            </a:prstGeom>
            <a:solidFill>
              <a:srgbClr val="06d6ff"/>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Rectangle: Rounded Corners 37"/>
            <p:cNvSpPr/>
            <p:nvPr/>
          </p:nvSpPr>
          <p:spPr>
            <a:xfrm>
              <a:off x="9486360" y="5119560"/>
              <a:ext cx="818280" cy="122400"/>
            </a:xfrm>
            <a:prstGeom prst="roundRect">
              <a:avLst>
                <a:gd name="adj" fmla="val 50000"/>
              </a:avLst>
            </a:prstGeom>
            <a:solidFill>
              <a:srgbClr val="06d6ff"/>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4" name="Rectangle: Rounded Corners 38"/>
            <p:cNvSpPr/>
            <p:nvPr/>
          </p:nvSpPr>
          <p:spPr>
            <a:xfrm>
              <a:off x="9486360" y="5357520"/>
              <a:ext cx="818280" cy="122400"/>
            </a:xfrm>
            <a:prstGeom prst="roundRect">
              <a:avLst>
                <a:gd name="adj" fmla="val 50000"/>
              </a:avLst>
            </a:prstGeom>
            <a:solidFill>
              <a:srgbClr val="06d6ff"/>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5" name="Rectangle: Rounded Corners 39"/>
            <p:cNvSpPr/>
            <p:nvPr/>
          </p:nvSpPr>
          <p:spPr>
            <a:xfrm>
              <a:off x="9486360" y="5590080"/>
              <a:ext cx="818280" cy="122400"/>
            </a:xfrm>
            <a:prstGeom prst="roundRect">
              <a:avLst>
                <a:gd name="adj" fmla="val 50000"/>
              </a:avLst>
            </a:prstGeom>
            <a:solidFill>
              <a:srgbClr val="06d6ff"/>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6" name="Rectangle: Rounded Corners 40"/>
            <p:cNvSpPr/>
            <p:nvPr/>
          </p:nvSpPr>
          <p:spPr>
            <a:xfrm>
              <a:off x="9486360" y="5822640"/>
              <a:ext cx="818280" cy="122400"/>
            </a:xfrm>
            <a:prstGeom prst="roundRect">
              <a:avLst>
                <a:gd name="adj" fmla="val 50000"/>
              </a:avLst>
            </a:prstGeom>
            <a:solidFill>
              <a:srgbClr val="06d6ff"/>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17" name="Group 42"/>
          <p:cNvGrpSpPr/>
          <p:nvPr/>
        </p:nvGrpSpPr>
        <p:grpSpPr>
          <a:xfrm>
            <a:off x="1611360" y="3232080"/>
            <a:ext cx="1684440" cy="2695680"/>
            <a:chOff x="1611360" y="3232080"/>
            <a:chExt cx="1684440" cy="2695680"/>
          </a:xfrm>
        </p:grpSpPr>
        <p:sp>
          <p:nvSpPr>
            <p:cNvPr id="618" name="Rectangle: Rounded Corners 43"/>
            <p:cNvSpPr/>
            <p:nvPr/>
          </p:nvSpPr>
          <p:spPr>
            <a:xfrm>
              <a:off x="1611360" y="3232080"/>
              <a:ext cx="819000" cy="122400"/>
            </a:xfrm>
            <a:prstGeom prst="roundRect">
              <a:avLst>
                <a:gd name="adj" fmla="val 50000"/>
              </a:avLst>
            </a:prstGeom>
            <a:solidFill>
              <a:srgbClr val="a6a6a6"/>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Rectangle: Rounded Corners 44"/>
            <p:cNvSpPr/>
            <p:nvPr/>
          </p:nvSpPr>
          <p:spPr>
            <a:xfrm>
              <a:off x="1611360" y="3464280"/>
              <a:ext cx="819000" cy="122400"/>
            </a:xfrm>
            <a:prstGeom prst="roundRect">
              <a:avLst>
                <a:gd name="adj" fmla="val 50000"/>
              </a:avLst>
            </a:prstGeom>
            <a:solidFill>
              <a:srgbClr val="a6a6a6"/>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0" name="Rectangle: Rounded Corners 45"/>
            <p:cNvSpPr/>
            <p:nvPr/>
          </p:nvSpPr>
          <p:spPr>
            <a:xfrm>
              <a:off x="1611360" y="3696840"/>
              <a:ext cx="819000" cy="122400"/>
            </a:xfrm>
            <a:prstGeom prst="roundRect">
              <a:avLst>
                <a:gd name="adj" fmla="val 50000"/>
              </a:avLst>
            </a:prstGeom>
            <a:solidFill>
              <a:srgbClr val="a6a6a6"/>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1" name="Rectangle: Rounded Corners 46"/>
            <p:cNvSpPr/>
            <p:nvPr/>
          </p:nvSpPr>
          <p:spPr>
            <a:xfrm>
              <a:off x="1611360" y="3934800"/>
              <a:ext cx="819000" cy="122400"/>
            </a:xfrm>
            <a:prstGeom prst="roundRect">
              <a:avLst>
                <a:gd name="adj" fmla="val 50000"/>
              </a:avLst>
            </a:prstGeom>
            <a:solidFill>
              <a:srgbClr val="37e08b"/>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2" name="Rectangle: Rounded Corners 47"/>
            <p:cNvSpPr/>
            <p:nvPr/>
          </p:nvSpPr>
          <p:spPr>
            <a:xfrm>
              <a:off x="1611360" y="4167360"/>
              <a:ext cx="819000" cy="122400"/>
            </a:xfrm>
            <a:prstGeom prst="roundRect">
              <a:avLst>
                <a:gd name="adj" fmla="val 50000"/>
              </a:avLst>
            </a:prstGeom>
            <a:solidFill>
              <a:srgbClr val="37e08b"/>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3" name="Rectangle: Rounded Corners 48"/>
            <p:cNvSpPr/>
            <p:nvPr/>
          </p:nvSpPr>
          <p:spPr>
            <a:xfrm>
              <a:off x="1611360" y="4399560"/>
              <a:ext cx="819000" cy="122400"/>
            </a:xfrm>
            <a:prstGeom prst="roundRect">
              <a:avLst>
                <a:gd name="adj" fmla="val 50000"/>
              </a:avLst>
            </a:prstGeom>
            <a:solidFill>
              <a:srgbClr val="37e08b"/>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Rectangle: Rounded Corners 49"/>
            <p:cNvSpPr/>
            <p:nvPr/>
          </p:nvSpPr>
          <p:spPr>
            <a:xfrm>
              <a:off x="1611360" y="4632120"/>
              <a:ext cx="819000" cy="122400"/>
            </a:xfrm>
            <a:prstGeom prst="roundRect">
              <a:avLst>
                <a:gd name="adj" fmla="val 50000"/>
              </a:avLst>
            </a:prstGeom>
            <a:solidFill>
              <a:srgbClr val="37e08b"/>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5" name="Rectangle: Rounded Corners 50"/>
            <p:cNvSpPr/>
            <p:nvPr/>
          </p:nvSpPr>
          <p:spPr>
            <a:xfrm>
              <a:off x="1611360" y="4864680"/>
              <a:ext cx="819000" cy="122400"/>
            </a:xfrm>
            <a:prstGeom prst="roundRect">
              <a:avLst>
                <a:gd name="adj" fmla="val 50000"/>
              </a:avLst>
            </a:prstGeom>
            <a:solidFill>
              <a:srgbClr val="37e08b"/>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6" name="Rectangle: Rounded Corners 51"/>
            <p:cNvSpPr/>
            <p:nvPr/>
          </p:nvSpPr>
          <p:spPr>
            <a:xfrm>
              <a:off x="1611360" y="5097240"/>
              <a:ext cx="819000" cy="122400"/>
            </a:xfrm>
            <a:prstGeom prst="roundRect">
              <a:avLst>
                <a:gd name="adj" fmla="val 50000"/>
              </a:avLst>
            </a:prstGeom>
            <a:solidFill>
              <a:srgbClr val="37e08b"/>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7" name="Rectangle: Rounded Corners 52"/>
            <p:cNvSpPr/>
            <p:nvPr/>
          </p:nvSpPr>
          <p:spPr>
            <a:xfrm>
              <a:off x="1611360" y="5334840"/>
              <a:ext cx="819000" cy="122400"/>
            </a:xfrm>
            <a:prstGeom prst="roundRect">
              <a:avLst>
                <a:gd name="adj" fmla="val 50000"/>
              </a:avLst>
            </a:prstGeom>
            <a:solidFill>
              <a:srgbClr val="37e08b"/>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8" name="Rectangle: Rounded Corners 53"/>
            <p:cNvSpPr/>
            <p:nvPr/>
          </p:nvSpPr>
          <p:spPr>
            <a:xfrm>
              <a:off x="1611360" y="5567400"/>
              <a:ext cx="819000" cy="122400"/>
            </a:xfrm>
            <a:prstGeom prst="roundRect">
              <a:avLst>
                <a:gd name="adj" fmla="val 50000"/>
              </a:avLst>
            </a:prstGeom>
            <a:solidFill>
              <a:srgbClr val="37e08b"/>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9" name="Rectangle: Rounded Corners 54"/>
            <p:cNvSpPr/>
            <p:nvPr/>
          </p:nvSpPr>
          <p:spPr>
            <a:xfrm>
              <a:off x="1611360" y="5799960"/>
              <a:ext cx="819000" cy="122400"/>
            </a:xfrm>
            <a:prstGeom prst="roundRect">
              <a:avLst>
                <a:gd name="adj" fmla="val 50000"/>
              </a:avLst>
            </a:prstGeom>
            <a:solidFill>
              <a:srgbClr val="37e08b"/>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0" name="Rectangle: Rounded Corners 55"/>
            <p:cNvSpPr/>
            <p:nvPr/>
          </p:nvSpPr>
          <p:spPr>
            <a:xfrm>
              <a:off x="2476800" y="3237480"/>
              <a:ext cx="819000" cy="122400"/>
            </a:xfrm>
            <a:prstGeom prst="roundRect">
              <a:avLst>
                <a:gd name="adj" fmla="val 50000"/>
              </a:avLst>
            </a:prstGeom>
            <a:solidFill>
              <a:srgbClr val="a6a6a6"/>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1" name="Rectangle: Rounded Corners 56"/>
            <p:cNvSpPr/>
            <p:nvPr/>
          </p:nvSpPr>
          <p:spPr>
            <a:xfrm>
              <a:off x="2476800" y="3470040"/>
              <a:ext cx="819000" cy="122400"/>
            </a:xfrm>
            <a:prstGeom prst="roundRect">
              <a:avLst>
                <a:gd name="adj" fmla="val 50000"/>
              </a:avLst>
            </a:prstGeom>
            <a:solidFill>
              <a:srgbClr val="a6a6a6"/>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2" name="Rectangle: Rounded Corners 57"/>
            <p:cNvSpPr/>
            <p:nvPr/>
          </p:nvSpPr>
          <p:spPr>
            <a:xfrm>
              <a:off x="2476800" y="3702240"/>
              <a:ext cx="819000" cy="122400"/>
            </a:xfrm>
            <a:prstGeom prst="roundRect">
              <a:avLst>
                <a:gd name="adj" fmla="val 50000"/>
              </a:avLst>
            </a:prstGeom>
            <a:solidFill>
              <a:srgbClr val="06d6ff"/>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3" name="Rectangle: Rounded Corners 58"/>
            <p:cNvSpPr/>
            <p:nvPr/>
          </p:nvSpPr>
          <p:spPr>
            <a:xfrm>
              <a:off x="2476800" y="3940200"/>
              <a:ext cx="819000" cy="122400"/>
            </a:xfrm>
            <a:prstGeom prst="roundRect">
              <a:avLst>
                <a:gd name="adj" fmla="val 50000"/>
              </a:avLst>
            </a:prstGeom>
            <a:solidFill>
              <a:srgbClr val="06d6ff"/>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4" name="Rectangle: Rounded Corners 59"/>
            <p:cNvSpPr/>
            <p:nvPr/>
          </p:nvSpPr>
          <p:spPr>
            <a:xfrm>
              <a:off x="2476800" y="4172760"/>
              <a:ext cx="819000" cy="122400"/>
            </a:xfrm>
            <a:prstGeom prst="roundRect">
              <a:avLst>
                <a:gd name="adj" fmla="val 50000"/>
              </a:avLst>
            </a:prstGeom>
            <a:solidFill>
              <a:srgbClr val="06d6ff"/>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5" name="Rectangle: Rounded Corners 60"/>
            <p:cNvSpPr/>
            <p:nvPr/>
          </p:nvSpPr>
          <p:spPr>
            <a:xfrm>
              <a:off x="2476800" y="4405320"/>
              <a:ext cx="819000" cy="122400"/>
            </a:xfrm>
            <a:prstGeom prst="roundRect">
              <a:avLst>
                <a:gd name="adj" fmla="val 50000"/>
              </a:avLst>
            </a:prstGeom>
            <a:solidFill>
              <a:srgbClr val="06d6ff"/>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Rectangle: Rounded Corners 61"/>
            <p:cNvSpPr/>
            <p:nvPr/>
          </p:nvSpPr>
          <p:spPr>
            <a:xfrm>
              <a:off x="2476800" y="4637520"/>
              <a:ext cx="819000" cy="122400"/>
            </a:xfrm>
            <a:prstGeom prst="roundRect">
              <a:avLst>
                <a:gd name="adj" fmla="val 50000"/>
              </a:avLst>
            </a:prstGeom>
            <a:solidFill>
              <a:srgbClr val="06d6ff"/>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7" name="Rectangle: Rounded Corners 62"/>
            <p:cNvSpPr/>
            <p:nvPr/>
          </p:nvSpPr>
          <p:spPr>
            <a:xfrm>
              <a:off x="2476800" y="4870080"/>
              <a:ext cx="819000" cy="122400"/>
            </a:xfrm>
            <a:prstGeom prst="roundRect">
              <a:avLst>
                <a:gd name="adj" fmla="val 50000"/>
              </a:avLst>
            </a:prstGeom>
            <a:solidFill>
              <a:srgbClr val="06d6ff"/>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8" name="Rectangle: Rounded Corners 63"/>
            <p:cNvSpPr/>
            <p:nvPr/>
          </p:nvSpPr>
          <p:spPr>
            <a:xfrm>
              <a:off x="2476800" y="5102640"/>
              <a:ext cx="819000" cy="122400"/>
            </a:xfrm>
            <a:prstGeom prst="roundRect">
              <a:avLst>
                <a:gd name="adj" fmla="val 50000"/>
              </a:avLst>
            </a:prstGeom>
            <a:solidFill>
              <a:srgbClr val="06d6ff"/>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Rectangle: Rounded Corners 64"/>
            <p:cNvSpPr/>
            <p:nvPr/>
          </p:nvSpPr>
          <p:spPr>
            <a:xfrm>
              <a:off x="2476800" y="5340600"/>
              <a:ext cx="819000" cy="122400"/>
            </a:xfrm>
            <a:prstGeom prst="roundRect">
              <a:avLst>
                <a:gd name="adj" fmla="val 50000"/>
              </a:avLst>
            </a:prstGeom>
            <a:solidFill>
              <a:srgbClr val="06d6ff"/>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0" name="Rectangle: Rounded Corners 65"/>
            <p:cNvSpPr/>
            <p:nvPr/>
          </p:nvSpPr>
          <p:spPr>
            <a:xfrm>
              <a:off x="2476800" y="5572800"/>
              <a:ext cx="819000" cy="122400"/>
            </a:xfrm>
            <a:prstGeom prst="roundRect">
              <a:avLst>
                <a:gd name="adj" fmla="val 50000"/>
              </a:avLst>
            </a:prstGeom>
            <a:solidFill>
              <a:srgbClr val="06d6ff"/>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1" name="Rectangle: Rounded Corners 66"/>
            <p:cNvSpPr/>
            <p:nvPr/>
          </p:nvSpPr>
          <p:spPr>
            <a:xfrm>
              <a:off x="2476800" y="5805360"/>
              <a:ext cx="819000" cy="122400"/>
            </a:xfrm>
            <a:prstGeom prst="roundRect">
              <a:avLst>
                <a:gd name="adj" fmla="val 50000"/>
              </a:avLst>
            </a:prstGeom>
            <a:solidFill>
              <a:srgbClr val="06d6ff"/>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42" name="Oval 67"/>
          <p:cNvSpPr/>
          <p:nvPr/>
        </p:nvSpPr>
        <p:spPr>
          <a:xfrm>
            <a:off x="4629240" y="2365200"/>
            <a:ext cx="2838240" cy="2838600"/>
          </a:xfrm>
          <a:prstGeom prst="ellipse">
            <a:avLst/>
          </a:prstGeom>
          <a:noFill/>
          <a:ln w="3240">
            <a:solidFill>
              <a:srgbClr val="37e08b">
                <a:alpha val="5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3" name="TextBox 70"/>
          <p:cNvSpPr/>
          <p:nvPr/>
        </p:nvSpPr>
        <p:spPr>
          <a:xfrm>
            <a:off x="1860480" y="2395080"/>
            <a:ext cx="1041480" cy="3988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Raleway"/>
              </a:rPr>
              <a:t>2023</a:t>
            </a:r>
            <a:endParaRPr b="0" lang="en-US" sz="2000" spc="-1" strike="noStrike">
              <a:solidFill>
                <a:srgbClr val="000000"/>
              </a:solidFill>
              <a:latin typeface="Calibri"/>
            </a:endParaRPr>
          </a:p>
        </p:txBody>
      </p:sp>
      <p:sp>
        <p:nvSpPr>
          <p:cNvPr id="644" name="Freeform: Shape 72"/>
          <p:cNvSpPr/>
          <p:nvPr/>
        </p:nvSpPr>
        <p:spPr>
          <a:xfrm>
            <a:off x="1844640" y="2894040"/>
            <a:ext cx="1041480" cy="122040"/>
          </a:xfrm>
          <a:custGeom>
            <a:avLst/>
            <a:gdLst/>
            <a:ahLst/>
            <a:rect l="l" t="t" r="r" b="b"/>
            <a:pathLst>
              <a:path w="3621961" h="406400">
                <a:moveTo>
                  <a:pt x="556" y="406400"/>
                </a:moveTo>
                <a:cubicBezTo>
                  <a:pt x="2461" y="26881"/>
                  <a:pt x="-3889" y="255058"/>
                  <a:pt x="4366" y="635"/>
                </a:cubicBezTo>
                <a:lnTo>
                  <a:pt x="3621961" y="0"/>
                </a:lnTo>
                <a:cubicBezTo>
                  <a:pt x="3619209" y="228812"/>
                  <a:pt x="3620268" y="222885"/>
                  <a:pt x="3616881" y="394335"/>
                </a:cubicBezTo>
              </a:path>
            </a:pathLst>
          </a:custGeom>
          <a:noFill/>
          <a:ln w="12600">
            <a:solidFill>
              <a:srgbClr val="ff4e9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cxnSp>
        <p:nvCxnSpPr>
          <p:cNvPr id="645" name="Connector: Elbow 74"/>
          <p:cNvCxnSpPr>
            <a:stCxn id="644" idx="2"/>
            <a:endCxn id="642" idx="2"/>
          </p:cNvCxnSpPr>
          <p:nvPr/>
        </p:nvCxnSpPr>
        <p:spPr>
          <a:xfrm>
            <a:off x="2886120" y="2894040"/>
            <a:ext cx="1743840" cy="891360"/>
          </a:xfrm>
          <a:prstGeom prst="bentConnector3">
            <a:avLst>
              <a:gd name="adj1" fmla="val 49989"/>
            </a:avLst>
          </a:prstGeom>
          <a:ln w="6480">
            <a:solidFill>
              <a:srgbClr val="ff4e95">
                <a:alpha val="44000"/>
              </a:srgbClr>
            </a:solidFill>
            <a:prstDash val="dash"/>
            <a:miter/>
            <a:tailEnd len="med" type="triangle" w="med"/>
          </a:ln>
        </p:spPr>
      </p:cxnSp>
      <p:sp>
        <p:nvSpPr>
          <p:cNvPr id="646" name="Freeform: Shape 79"/>
          <p:cNvSpPr/>
          <p:nvPr/>
        </p:nvSpPr>
        <p:spPr>
          <a:xfrm>
            <a:off x="8799480" y="2984400"/>
            <a:ext cx="1041480" cy="122400"/>
          </a:xfrm>
          <a:custGeom>
            <a:avLst/>
            <a:gdLst/>
            <a:ahLst/>
            <a:rect l="l" t="t" r="r" b="b"/>
            <a:pathLst>
              <a:path w="3621961" h="406400">
                <a:moveTo>
                  <a:pt x="556" y="406400"/>
                </a:moveTo>
                <a:cubicBezTo>
                  <a:pt x="2461" y="26881"/>
                  <a:pt x="-3889" y="255058"/>
                  <a:pt x="4366" y="635"/>
                </a:cubicBezTo>
                <a:lnTo>
                  <a:pt x="3621961" y="0"/>
                </a:lnTo>
                <a:cubicBezTo>
                  <a:pt x="3619209" y="228812"/>
                  <a:pt x="3620268" y="222885"/>
                  <a:pt x="3616881" y="394335"/>
                </a:cubicBezTo>
              </a:path>
            </a:pathLst>
          </a:custGeom>
          <a:noFill/>
          <a:ln w="12600">
            <a:solidFill>
              <a:srgbClr val="ff4e9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cxnSp>
        <p:nvCxnSpPr>
          <p:cNvPr id="647" name="Connector: Elbow 80"/>
          <p:cNvCxnSpPr/>
          <p:nvPr/>
        </p:nvCxnSpPr>
        <p:spPr>
          <a:xfrm flipV="1" rot="10800000">
            <a:off x="7450920" y="2984040"/>
            <a:ext cx="1743840" cy="889920"/>
          </a:xfrm>
          <a:prstGeom prst="bentConnector3">
            <a:avLst>
              <a:gd name="adj1" fmla="val 49989"/>
            </a:avLst>
          </a:prstGeom>
          <a:ln w="6480">
            <a:solidFill>
              <a:srgbClr val="ff4e95">
                <a:alpha val="44000"/>
              </a:srgbClr>
            </a:solidFill>
            <a:prstDash val="dash"/>
            <a:miter/>
            <a:tailEnd len="med" type="triangle" w="med"/>
          </a:ln>
        </p:spPr>
      </p:cxnSp>
      <p:sp>
        <p:nvSpPr>
          <p:cNvPr id="648" name="TextBox 81"/>
          <p:cNvSpPr/>
          <p:nvPr/>
        </p:nvSpPr>
        <p:spPr>
          <a:xfrm>
            <a:off x="8793000" y="2472840"/>
            <a:ext cx="1041480" cy="3988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Raleway"/>
              </a:rPr>
              <a:t>2024</a:t>
            </a:r>
            <a:endParaRPr b="0" lang="en-US" sz="2000" spc="-1" strike="noStrike">
              <a:solidFill>
                <a:srgbClr val="000000"/>
              </a:solidFill>
              <a:latin typeface="Calibri"/>
            </a:endParaRPr>
          </a:p>
        </p:txBody>
      </p:sp>
      <p:sp>
        <p:nvSpPr>
          <p:cNvPr id="649" name="Oval 86"/>
          <p:cNvSpPr/>
          <p:nvPr/>
        </p:nvSpPr>
        <p:spPr>
          <a:xfrm>
            <a:off x="8158320" y="3686040"/>
            <a:ext cx="277560" cy="277920"/>
          </a:xfrm>
          <a:prstGeom prst="ellipse">
            <a:avLst/>
          </a:prstGeom>
          <a:solidFill>
            <a:srgbClr val="030227"/>
          </a:solidFill>
          <a:ln w="12600">
            <a:solidFill>
              <a:srgbClr val="ff4e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0" name="Oval 87"/>
          <p:cNvSpPr/>
          <p:nvPr/>
        </p:nvSpPr>
        <p:spPr>
          <a:xfrm>
            <a:off x="3625920" y="3637080"/>
            <a:ext cx="276120" cy="276120"/>
          </a:xfrm>
          <a:prstGeom prst="ellipse">
            <a:avLst/>
          </a:prstGeom>
          <a:solidFill>
            <a:srgbClr val="030227"/>
          </a:solidFill>
          <a:ln w="12600">
            <a:solidFill>
              <a:srgbClr val="ff4e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1" name="TextBox 88"/>
          <p:cNvSpPr/>
          <p:nvPr/>
        </p:nvSpPr>
        <p:spPr>
          <a:xfrm>
            <a:off x="2606760" y="1225440"/>
            <a:ext cx="697680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bfbfbf"/>
                </a:solidFill>
                <a:latin typeface="Open Sans"/>
                <a:ea typeface="Open Sans"/>
              </a:rPr>
              <a:t>Lorem ipsum dolor sit amet, consectetur adipiscing elit, sed do eiusmod tempor incididunt ut labore et dolore magna aliqua. Ut enim ad minim veniam,</a:t>
            </a:r>
            <a:endParaRPr b="0" lang="en-US" sz="1100" spc="-1" strike="noStrike">
              <a:solidFill>
                <a:srgbClr val="000000"/>
              </a:solidFill>
              <a:latin typeface="Calibri"/>
            </a:endParaRPr>
          </a:p>
        </p:txBody>
      </p:sp>
      <p:grpSp>
        <p:nvGrpSpPr>
          <p:cNvPr id="652" name="Group 89"/>
          <p:cNvGrpSpPr/>
          <p:nvPr/>
        </p:nvGrpSpPr>
        <p:grpSpPr>
          <a:xfrm>
            <a:off x="9858240" y="-108360"/>
            <a:ext cx="2511720" cy="1887480"/>
            <a:chOff x="9858240" y="-108360"/>
            <a:chExt cx="2511720" cy="1887480"/>
          </a:xfrm>
        </p:grpSpPr>
        <p:sp>
          <p:nvSpPr>
            <p:cNvPr id="653" name="Isosceles Triangle 90"/>
            <p:cNvSpPr/>
            <p:nvPr/>
          </p:nvSpPr>
          <p:spPr>
            <a:xfrm flipV="1">
              <a:off x="9858240" y="-12960"/>
              <a:ext cx="2371320" cy="1791720"/>
            </a:xfrm>
            <a:prstGeom prst="triangle">
              <a:avLst>
                <a:gd name="adj" fmla="val 100000"/>
              </a:avLst>
            </a:prstGeom>
            <a:solidFill>
              <a:srgbClr val="f2f2f2">
                <a:alpha val="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4" name="Isosceles Triangle 91"/>
            <p:cNvSpPr/>
            <p:nvPr/>
          </p:nvSpPr>
          <p:spPr>
            <a:xfrm flipV="1">
              <a:off x="10720080" y="-108720"/>
              <a:ext cx="1649880" cy="1246680"/>
            </a:xfrm>
            <a:prstGeom prst="triangle">
              <a:avLst>
                <a:gd name="adj" fmla="val 100000"/>
              </a:avLst>
            </a:prstGeom>
            <a:solidFill>
              <a:srgbClr val="f2f2f2">
                <a:alpha val="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5" name="Oval 95"/>
          <p:cNvSpPr/>
          <p:nvPr/>
        </p:nvSpPr>
        <p:spPr>
          <a:xfrm>
            <a:off x="4505400" y="5842080"/>
            <a:ext cx="231840" cy="231840"/>
          </a:xfrm>
          <a:prstGeom prst="ellipse">
            <a:avLst/>
          </a:prstGeom>
          <a:solidFill>
            <a:srgbClr val="37e08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6" name="TextBox 96"/>
          <p:cNvSpPr/>
          <p:nvPr/>
        </p:nvSpPr>
        <p:spPr>
          <a:xfrm>
            <a:off x="4832280" y="5772240"/>
            <a:ext cx="126216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200" spc="-1" strike="noStrike">
                <a:solidFill>
                  <a:srgbClr val="bfbfbf"/>
                </a:solidFill>
                <a:latin typeface="Open Sans"/>
                <a:ea typeface="Open Sans"/>
              </a:rPr>
              <a:t>Item one</a:t>
            </a:r>
            <a:endParaRPr b="0" lang="en-US" sz="1200" spc="-1" strike="noStrike">
              <a:solidFill>
                <a:srgbClr val="000000"/>
              </a:solidFill>
              <a:latin typeface="Calibri"/>
            </a:endParaRPr>
          </a:p>
        </p:txBody>
      </p:sp>
      <p:sp>
        <p:nvSpPr>
          <p:cNvPr id="657" name="Oval 97"/>
          <p:cNvSpPr/>
          <p:nvPr/>
        </p:nvSpPr>
        <p:spPr>
          <a:xfrm>
            <a:off x="6575400" y="5861160"/>
            <a:ext cx="230040" cy="231840"/>
          </a:xfrm>
          <a:prstGeom prst="ellipse">
            <a:avLst/>
          </a:prstGeom>
          <a:solidFill>
            <a:srgbClr val="06d6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8" name="TextBox 98"/>
          <p:cNvSpPr/>
          <p:nvPr/>
        </p:nvSpPr>
        <p:spPr>
          <a:xfrm>
            <a:off x="6902280" y="5791320"/>
            <a:ext cx="126216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200" spc="-1" strike="noStrike">
                <a:solidFill>
                  <a:srgbClr val="bfbfbf"/>
                </a:solidFill>
                <a:latin typeface="Open Sans"/>
                <a:ea typeface="Open Sans"/>
              </a:rPr>
              <a:t>Item Two</a:t>
            </a:r>
            <a:endParaRPr b="0" lang="en-US" sz="1200" spc="-1" strike="noStrike">
              <a:solidFill>
                <a:srgbClr val="000000"/>
              </a:solidFill>
              <a:latin typeface="Calibri"/>
            </a:endParaRPr>
          </a:p>
        </p:txBody>
      </p:sp>
      <p:sp>
        <p:nvSpPr>
          <p:cNvPr id="659" name="Straight Connector 73"/>
          <p:cNvSpPr/>
          <p:nvPr/>
        </p:nvSpPr>
        <p:spPr>
          <a:xfrm flipH="1">
            <a:off x="1018800" y="66600"/>
            <a:ext cx="320760" cy="333360"/>
          </a:xfrm>
          <a:prstGeom prst="line">
            <a:avLst/>
          </a:prstGeom>
          <a:ln w="6480">
            <a:solidFill>
              <a:srgbClr val="06d6ff">
                <a:alpha val="36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Freeform 2"/>
          <p:cNvSpPr/>
          <p:nvPr/>
        </p:nvSpPr>
        <p:spPr>
          <a:xfrm>
            <a:off x="5205240" y="1440"/>
            <a:ext cx="6986880" cy="6856560"/>
          </a:xfrm>
          <a:custGeom>
            <a:avLst/>
            <a:gdLst/>
            <a:ahLst/>
            <a:rect l="l" t="t" r="r" b="b"/>
            <a:pathLst>
              <a:path w="15148" h="15172">
                <a:moveTo>
                  <a:pt x="3390" y="0"/>
                </a:moveTo>
                <a:lnTo>
                  <a:pt x="0" y="15171"/>
                </a:lnTo>
                <a:lnTo>
                  <a:pt x="15147" y="15171"/>
                </a:lnTo>
                <a:lnTo>
                  <a:pt x="15147" y="0"/>
                </a:lnTo>
                <a:lnTo>
                  <a:pt x="3390" y="0"/>
                </a:lnTo>
              </a:path>
            </a:pathLst>
          </a:custGeom>
          <a:solidFill>
            <a:srgbClr val="bfbf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1" name="Hexagon 3"/>
          <p:cNvSpPr/>
          <p:nvPr/>
        </p:nvSpPr>
        <p:spPr>
          <a:xfrm>
            <a:off x="1798560" y="2101680"/>
            <a:ext cx="2549520" cy="2198880"/>
          </a:xfrm>
          <a:prstGeom prst="hexagon">
            <a:avLst>
              <a:gd name="adj" fmla="val 24987"/>
              <a:gd name="vf" fmla="val 115470"/>
            </a:avLst>
          </a:prstGeom>
          <a:solidFill>
            <a:srgbClr val="37e08b"/>
          </a:solidFill>
          <a:ln w="0">
            <a:noFill/>
          </a:ln>
          <a:effectLst>
            <a:outerShdw dist="685917" dir="1080421" blurRad="0" rotWithShape="0">
              <a:srgbClr val="000000">
                <a:alpha val="24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2" name="Hexagon 5"/>
          <p:cNvSpPr/>
          <p:nvPr/>
        </p:nvSpPr>
        <p:spPr>
          <a:xfrm>
            <a:off x="1582560" y="1920960"/>
            <a:ext cx="2543400" cy="2562120"/>
          </a:xfrm>
          <a:custGeom>
            <a:avLst/>
            <a:gdLst/>
            <a:ahLst/>
            <a:rect l="l" t="t" r="r" b="b"/>
            <a:pathLst>
              <a:path w="5413375" h="5452239">
                <a:moveTo>
                  <a:pt x="5405755" y="4556759"/>
                </a:moveTo>
                <a:lnTo>
                  <a:pt x="4961540" y="5452239"/>
                </a:lnTo>
                <a:lnTo>
                  <a:pt x="1363060" y="5452239"/>
                </a:lnTo>
                <a:lnTo>
                  <a:pt x="0" y="2726120"/>
                </a:lnTo>
                <a:lnTo>
                  <a:pt x="1363060" y="0"/>
                </a:lnTo>
                <a:lnTo>
                  <a:pt x="4961540" y="0"/>
                </a:lnTo>
                <a:lnTo>
                  <a:pt x="5413375" y="899159"/>
                </a:lnTo>
              </a:path>
            </a:pathLst>
          </a:custGeom>
          <a:noFill/>
          <a:ln cap="rnd" w="38160">
            <a:solidFill>
              <a:srgbClr val="37e08b"/>
            </a:solidFill>
            <a:round/>
            <a:headEnd len="lg" type="oval" w="lg"/>
            <a:tailEnd len="lg" type="oval"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63" name="TextBox 5"/>
          <p:cNvSpPr/>
          <p:nvPr/>
        </p:nvSpPr>
        <p:spPr>
          <a:xfrm>
            <a:off x="2073240" y="3543480"/>
            <a:ext cx="200016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30227"/>
                </a:solidFill>
                <a:latin typeface="Open Sans"/>
                <a:ea typeface="Open Sans"/>
              </a:rPr>
              <a:t>Globaly professional.</a:t>
            </a:r>
            <a:br>
              <a:rPr sz="1400"/>
            </a:br>
            <a:r>
              <a:rPr b="0" lang="en-US" sz="1400" spc="-1" strike="noStrike" baseline="30000">
                <a:solidFill>
                  <a:srgbClr val="030227"/>
                </a:solidFill>
                <a:latin typeface="Open Sans"/>
                <a:ea typeface="Open Sans"/>
              </a:rPr>
              <a:t>Complete disseminate back compatible</a:t>
            </a:r>
            <a:endParaRPr b="0" lang="en-US" sz="1400" spc="-1" strike="noStrike">
              <a:solidFill>
                <a:srgbClr val="000000"/>
              </a:solidFill>
              <a:latin typeface="Calibri"/>
            </a:endParaRPr>
          </a:p>
        </p:txBody>
      </p:sp>
      <p:sp>
        <p:nvSpPr>
          <p:cNvPr id="664" name="Rectangle 18"/>
          <p:cNvSpPr/>
          <p:nvPr/>
        </p:nvSpPr>
        <p:spPr>
          <a:xfrm>
            <a:off x="5699160" y="706320"/>
            <a:ext cx="1402920" cy="1287720"/>
          </a:xfrm>
          <a:prstGeom prst="rect">
            <a:avLst/>
          </a:prstGeom>
          <a:noFill/>
          <a:ln w="0">
            <a:noFill/>
          </a:ln>
        </p:spPr>
        <p:style>
          <a:lnRef idx="0"/>
          <a:fillRef idx="0"/>
          <a:effectRef idx="0"/>
          <a:fontRef idx="minor"/>
        </p:style>
        <p:txBody>
          <a:bodyPr wrap="none" lIns="90000" rIns="90000" tIns="46800" bIns="46800" anchor="t">
            <a:spAutoFit/>
          </a:bodyPr>
          <a:p>
            <a:pPr algn="ctr">
              <a:lnSpc>
                <a:spcPts val="9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37e08b"/>
                </a:solidFill>
                <a:latin typeface="Raleway"/>
              </a:rPr>
              <a:t>V</a:t>
            </a:r>
            <a:r>
              <a:rPr b="1" lang="en-US" sz="8000" spc="-1" strike="noStrike">
                <a:solidFill>
                  <a:srgbClr val="030227"/>
                </a:solidFill>
                <a:latin typeface="Raleway"/>
              </a:rPr>
              <a:t>S</a:t>
            </a:r>
            <a:endParaRPr b="0" lang="en-US" sz="8000" spc="-1" strike="noStrike">
              <a:solidFill>
                <a:srgbClr val="000000"/>
              </a:solidFill>
              <a:latin typeface="Calibri"/>
            </a:endParaRPr>
          </a:p>
        </p:txBody>
      </p:sp>
      <p:sp>
        <p:nvSpPr>
          <p:cNvPr id="665" name="Hexagon 19"/>
          <p:cNvSpPr/>
          <p:nvPr/>
        </p:nvSpPr>
        <p:spPr>
          <a:xfrm flipH="1">
            <a:off x="8141400" y="2170080"/>
            <a:ext cx="2551320" cy="2198880"/>
          </a:xfrm>
          <a:prstGeom prst="hexagon">
            <a:avLst>
              <a:gd name="adj" fmla="val 25005"/>
              <a:gd name="vf" fmla="val 115470"/>
            </a:avLst>
          </a:prstGeom>
          <a:solidFill>
            <a:srgbClr val="030227"/>
          </a:solidFill>
          <a:ln w="0">
            <a:noFill/>
          </a:ln>
          <a:effectLst>
            <a:outerShdw dist="685917" dir="1080421" blurRad="0" rotWithShape="0">
              <a:srgbClr val="000000">
                <a:alpha val="24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6" name="Hexagon 5"/>
          <p:cNvSpPr/>
          <p:nvPr/>
        </p:nvSpPr>
        <p:spPr>
          <a:xfrm flipH="1">
            <a:off x="8353440" y="1960560"/>
            <a:ext cx="2543040" cy="2560680"/>
          </a:xfrm>
          <a:custGeom>
            <a:avLst/>
            <a:gdLst/>
            <a:ahLst/>
            <a:rect l="l" t="t" r="r" b="b"/>
            <a:pathLst>
              <a:path w="5413375" h="5452239">
                <a:moveTo>
                  <a:pt x="5405755" y="4556759"/>
                </a:moveTo>
                <a:lnTo>
                  <a:pt x="4961540" y="5452239"/>
                </a:lnTo>
                <a:lnTo>
                  <a:pt x="1363060" y="5452239"/>
                </a:lnTo>
                <a:lnTo>
                  <a:pt x="0" y="2726120"/>
                </a:lnTo>
                <a:lnTo>
                  <a:pt x="1363060" y="0"/>
                </a:lnTo>
                <a:lnTo>
                  <a:pt x="4961540" y="0"/>
                </a:lnTo>
                <a:lnTo>
                  <a:pt x="5413375" y="899159"/>
                </a:lnTo>
              </a:path>
            </a:pathLst>
          </a:custGeom>
          <a:noFill/>
          <a:ln cap="rnd" w="38160">
            <a:solidFill>
              <a:srgbClr val="030227"/>
            </a:solidFill>
            <a:round/>
            <a:headEnd len="lg" type="oval" w="lg"/>
            <a:tailEnd len="lg" type="oval"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67" name="TextBox 21"/>
          <p:cNvSpPr/>
          <p:nvPr/>
        </p:nvSpPr>
        <p:spPr>
          <a:xfrm>
            <a:off x="8459640" y="3495600"/>
            <a:ext cx="195588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37e08b"/>
                </a:solidFill>
                <a:latin typeface="Open Sans"/>
                <a:ea typeface="Open Sans"/>
              </a:rPr>
              <a:t>Globaly professional.</a:t>
            </a:r>
            <a:br>
              <a:rPr sz="1400"/>
            </a:br>
            <a:r>
              <a:rPr b="0" lang="en-US" sz="1400" spc="-1" strike="noStrike" baseline="30000">
                <a:solidFill>
                  <a:srgbClr val="37e08b"/>
                </a:solidFill>
                <a:latin typeface="Open Sans"/>
                <a:ea typeface="Open Sans"/>
              </a:rPr>
              <a:t>Complete disseminate back compatible </a:t>
            </a:r>
            <a:endParaRPr b="0" lang="en-US" sz="1400" spc="-1" strike="noStrike">
              <a:solidFill>
                <a:srgbClr val="000000"/>
              </a:solidFill>
              <a:latin typeface="Calibri"/>
            </a:endParaRPr>
          </a:p>
        </p:txBody>
      </p:sp>
      <p:pic>
        <p:nvPicPr>
          <p:cNvPr id="668" name="Graphic 38" descr="Document"/>
          <p:cNvPicPr/>
          <p:nvPr/>
        </p:nvPicPr>
        <p:blipFill>
          <a:blip r:embed="rId1"/>
          <a:stretch/>
        </p:blipFill>
        <p:spPr>
          <a:xfrm>
            <a:off x="2654280" y="2297160"/>
            <a:ext cx="752400" cy="752400"/>
          </a:xfrm>
          <a:prstGeom prst="rect">
            <a:avLst/>
          </a:prstGeom>
          <a:ln w="0">
            <a:noFill/>
          </a:ln>
        </p:spPr>
      </p:pic>
      <p:pic>
        <p:nvPicPr>
          <p:cNvPr id="669" name="Graphic 40" descr="Laptop"/>
          <p:cNvPicPr/>
          <p:nvPr/>
        </p:nvPicPr>
        <p:blipFill>
          <a:blip r:embed="rId2"/>
          <a:stretch/>
        </p:blipFill>
        <p:spPr>
          <a:xfrm>
            <a:off x="8959680" y="2305080"/>
            <a:ext cx="914400" cy="914400"/>
          </a:xfrm>
          <a:prstGeom prst="rect">
            <a:avLst/>
          </a:prstGeom>
          <a:ln w="0">
            <a:noFill/>
          </a:ln>
        </p:spPr>
      </p:pic>
      <p:sp>
        <p:nvSpPr>
          <p:cNvPr id="670" name="TextBox 41"/>
          <p:cNvSpPr/>
          <p:nvPr/>
        </p:nvSpPr>
        <p:spPr>
          <a:xfrm>
            <a:off x="2200320" y="2979720"/>
            <a:ext cx="1660320" cy="53820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Raleway"/>
              </a:rPr>
              <a:t>Create</a:t>
            </a:r>
            <a:endParaRPr b="0" lang="en-US" sz="2000" spc="-1" strike="noStrike">
              <a:solidFill>
                <a:srgbClr val="000000"/>
              </a:solidFill>
              <a:latin typeface="Calibri"/>
            </a:endParaRPr>
          </a:p>
        </p:txBody>
      </p:sp>
      <p:sp>
        <p:nvSpPr>
          <p:cNvPr id="671" name="TextBox 43"/>
          <p:cNvSpPr/>
          <p:nvPr/>
        </p:nvSpPr>
        <p:spPr>
          <a:xfrm>
            <a:off x="8386920" y="2995560"/>
            <a:ext cx="2060280" cy="53820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e08b"/>
                </a:solidFill>
                <a:latin typeface="Raleway"/>
              </a:rPr>
              <a:t>Create</a:t>
            </a:r>
            <a:endParaRPr b="0" lang="en-US" sz="2000" spc="-1" strike="noStrike">
              <a:solidFill>
                <a:srgbClr val="000000"/>
              </a:solidFill>
              <a:latin typeface="Calibri"/>
            </a:endParaRPr>
          </a:p>
        </p:txBody>
      </p:sp>
      <p:sp>
        <p:nvSpPr>
          <p:cNvPr id="672" name="TextBox 44"/>
          <p:cNvSpPr/>
          <p:nvPr/>
        </p:nvSpPr>
        <p:spPr>
          <a:xfrm>
            <a:off x="8202600" y="5218200"/>
            <a:ext cx="159876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0227"/>
                </a:solidFill>
                <a:latin typeface="Raleway"/>
              </a:rPr>
              <a:t>Success</a:t>
            </a:r>
            <a:endParaRPr b="0" lang="en-US" sz="2000" spc="-1" strike="noStrike">
              <a:solidFill>
                <a:srgbClr val="000000"/>
              </a:solidFill>
              <a:latin typeface="Calibri"/>
            </a:endParaRPr>
          </a:p>
        </p:txBody>
      </p:sp>
      <p:sp>
        <p:nvSpPr>
          <p:cNvPr id="673" name="TextBox 45"/>
          <p:cNvSpPr/>
          <p:nvPr/>
        </p:nvSpPr>
        <p:spPr>
          <a:xfrm>
            <a:off x="1362240" y="1154160"/>
            <a:ext cx="3422520" cy="53820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e08b"/>
                </a:solidFill>
                <a:latin typeface="Raleway"/>
              </a:rPr>
              <a:t>Traditional</a:t>
            </a:r>
            <a:endParaRPr b="0" lang="en-US" sz="2400" spc="-1" strike="noStrike">
              <a:solidFill>
                <a:srgbClr val="000000"/>
              </a:solidFill>
              <a:latin typeface="Calibri"/>
            </a:endParaRPr>
          </a:p>
        </p:txBody>
      </p:sp>
      <p:sp>
        <p:nvSpPr>
          <p:cNvPr id="674" name="TextBox 46"/>
          <p:cNvSpPr/>
          <p:nvPr/>
        </p:nvSpPr>
        <p:spPr>
          <a:xfrm>
            <a:off x="7694640" y="1147680"/>
            <a:ext cx="3424320" cy="53820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0227"/>
                </a:solidFill>
                <a:latin typeface="Raleway"/>
              </a:rPr>
              <a:t>Programmatic</a:t>
            </a:r>
            <a:endParaRPr b="0" lang="en-US" sz="2400" spc="-1" strike="noStrike">
              <a:solidFill>
                <a:srgbClr val="000000"/>
              </a:solidFill>
              <a:latin typeface="Calibri"/>
            </a:endParaRPr>
          </a:p>
        </p:txBody>
      </p:sp>
      <p:sp>
        <p:nvSpPr>
          <p:cNvPr id="675" name="TextBox 47"/>
          <p:cNvSpPr/>
          <p:nvPr/>
        </p:nvSpPr>
        <p:spPr>
          <a:xfrm>
            <a:off x="2459160" y="4971960"/>
            <a:ext cx="1873080" cy="53820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e08b"/>
                </a:solidFill>
                <a:latin typeface="Raleway"/>
              </a:rPr>
              <a:t>Success</a:t>
            </a:r>
            <a:endParaRPr b="0" lang="en-US" sz="2000" spc="-1" strike="noStrike">
              <a:solidFill>
                <a:srgbClr val="000000"/>
              </a:solidFill>
              <a:latin typeface="Calibri"/>
            </a:endParaRPr>
          </a:p>
        </p:txBody>
      </p:sp>
      <p:pic>
        <p:nvPicPr>
          <p:cNvPr id="676" name="Group 51" descr=""/>
          <p:cNvPicPr/>
          <p:nvPr/>
        </p:nvPicPr>
        <p:blipFill>
          <a:blip r:embed="rId3"/>
          <a:stretch/>
        </p:blipFill>
        <p:spPr>
          <a:xfrm>
            <a:off x="1335240" y="5108400"/>
            <a:ext cx="1122120" cy="774720"/>
          </a:xfrm>
          <a:prstGeom prst="rect">
            <a:avLst/>
          </a:prstGeom>
          <a:ln w="0">
            <a:noFill/>
          </a:ln>
        </p:spPr>
      </p:pic>
      <p:pic>
        <p:nvPicPr>
          <p:cNvPr id="677" name="Group 52" descr=""/>
          <p:cNvPicPr/>
          <p:nvPr/>
        </p:nvPicPr>
        <p:blipFill>
          <a:blip r:embed="rId4"/>
          <a:stretch/>
        </p:blipFill>
        <p:spPr>
          <a:xfrm>
            <a:off x="9777240" y="5346720"/>
            <a:ext cx="1122480" cy="352440"/>
          </a:xfrm>
          <a:prstGeom prst="rect">
            <a:avLst/>
          </a:prstGeom>
          <a:ln w="0">
            <a:noFill/>
          </a:ln>
        </p:spPr>
      </p:pic>
      <p:sp>
        <p:nvSpPr>
          <p:cNvPr id="678"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2865600" y="5513400"/>
            <a:ext cx="2065320" cy="51336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4546a"/>
                </a:solidFill>
                <a:latin typeface="Open Sans"/>
                <a:ea typeface="Open Sans"/>
              </a:rPr>
              <a:t>Lorem Ipsum is simply dummy text of the printing and typesetting industry. </a:t>
            </a:r>
            <a:endParaRPr b="0" lang="en-US" sz="900" spc="-1" strike="noStrike">
              <a:solidFill>
                <a:srgbClr val="000000"/>
              </a:solidFill>
              <a:latin typeface="Calibri"/>
            </a:endParaRPr>
          </a:p>
        </p:txBody>
      </p:sp>
      <p:sp>
        <p:nvSpPr>
          <p:cNvPr id="679"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7261200" y="5772240"/>
            <a:ext cx="2065320" cy="513360"/>
          </a:xfrm>
          <a:prstGeom prst="rect">
            <a:avLst/>
          </a:prstGeom>
          <a:noFill/>
          <a:ln w="0">
            <a:noFill/>
          </a:ln>
        </p:spPr>
        <p:style>
          <a:lnRef idx="0"/>
          <a:fillRef idx="0"/>
          <a:effectRef idx="0"/>
          <a:fontRef idx="minor"/>
        </p:style>
        <p:txBody>
          <a:bodyPr lIns="50760" rIns="50760" tIns="50760" bIns="507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4546a"/>
                </a:solidFill>
                <a:latin typeface="Open Sans"/>
                <a:ea typeface="Open Sans"/>
              </a:rPr>
              <a:t>Lorem Ipsum is simply dummy text of the printing and typesetting industry. </a:t>
            </a:r>
            <a:endParaRPr b="0" lang="en-US" sz="900" spc="-1" strike="noStrike">
              <a:solidFill>
                <a:srgbClr val="000000"/>
              </a:solidFill>
              <a:latin typeface="Calibri"/>
            </a:endParaRPr>
          </a:p>
        </p:txBody>
      </p:sp>
      <p:sp>
        <p:nvSpPr>
          <p:cNvPr id="680" name="Straight Connector 26"/>
          <p:cNvSpPr/>
          <p:nvPr/>
        </p:nvSpPr>
        <p:spPr>
          <a:xfrm flipH="1">
            <a:off x="1039680" y="0"/>
            <a:ext cx="322560" cy="331920"/>
          </a:xfrm>
          <a:prstGeom prst="line">
            <a:avLst/>
          </a:prstGeom>
          <a:ln w="6480">
            <a:solidFill>
              <a:srgbClr val="37e08b">
                <a:alpha val="36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Freeform 2"/>
          <p:cNvSpPr/>
          <p:nvPr/>
        </p:nvSpPr>
        <p:spPr>
          <a:xfrm>
            <a:off x="0" y="0"/>
            <a:ext cx="60958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2" name="Freeform 2"/>
          <p:cNvSpPr/>
          <p:nvPr/>
        </p:nvSpPr>
        <p:spPr>
          <a:xfrm>
            <a:off x="6095880" y="0"/>
            <a:ext cx="6096240" cy="685800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83" name="Group 67"/>
          <p:cNvGrpSpPr/>
          <p:nvPr/>
        </p:nvGrpSpPr>
        <p:grpSpPr>
          <a:xfrm>
            <a:off x="789120" y="3657600"/>
            <a:ext cx="4748040" cy="746280"/>
            <a:chOff x="789120" y="3657600"/>
            <a:chExt cx="4748040" cy="746280"/>
          </a:xfrm>
        </p:grpSpPr>
        <p:sp>
          <p:nvSpPr>
            <p:cNvPr id="684" name="Freeform 20"/>
            <p:cNvSpPr/>
            <p:nvPr/>
          </p:nvSpPr>
          <p:spPr>
            <a:xfrm>
              <a:off x="78912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85" name="Freeform 21"/>
            <p:cNvSpPr/>
            <p:nvPr/>
          </p:nvSpPr>
          <p:spPr>
            <a:xfrm>
              <a:off x="104580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86" name="Freeform 22"/>
            <p:cNvSpPr/>
            <p:nvPr/>
          </p:nvSpPr>
          <p:spPr>
            <a:xfrm>
              <a:off x="130032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87" name="Freeform 23"/>
            <p:cNvSpPr/>
            <p:nvPr/>
          </p:nvSpPr>
          <p:spPr>
            <a:xfrm>
              <a:off x="1554840" y="3657600"/>
              <a:ext cx="160920" cy="321480"/>
            </a:xfrm>
            <a:custGeom>
              <a:avLst/>
              <a:gdLst/>
              <a:ahLst/>
              <a:rect l="l" t="t" r="r" b="b"/>
              <a:pathLst>
                <a:path w="328" h="826">
                  <a:moveTo>
                    <a:pt x="327" y="825"/>
                  </a:moveTo>
                  <a:lnTo>
                    <a:pt x="0" y="825"/>
                  </a:lnTo>
                  <a:lnTo>
                    <a:pt x="0" y="0"/>
                  </a:lnTo>
                  <a:lnTo>
                    <a:pt x="327" y="0"/>
                  </a:lnTo>
                  <a:lnTo>
                    <a:pt x="327" y="825"/>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88" name="Freeform 24"/>
            <p:cNvSpPr/>
            <p:nvPr/>
          </p:nvSpPr>
          <p:spPr>
            <a:xfrm>
              <a:off x="180972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89" name="Freeform 25"/>
            <p:cNvSpPr/>
            <p:nvPr/>
          </p:nvSpPr>
          <p:spPr>
            <a:xfrm>
              <a:off x="206424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90" name="Freeform 26"/>
            <p:cNvSpPr/>
            <p:nvPr/>
          </p:nvSpPr>
          <p:spPr>
            <a:xfrm>
              <a:off x="231876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91" name="Freeform 27"/>
            <p:cNvSpPr/>
            <p:nvPr/>
          </p:nvSpPr>
          <p:spPr>
            <a:xfrm>
              <a:off x="2573280" y="3657600"/>
              <a:ext cx="160920" cy="321480"/>
            </a:xfrm>
            <a:custGeom>
              <a:avLst/>
              <a:gdLst/>
              <a:ahLst/>
              <a:rect l="l" t="t" r="r" b="b"/>
              <a:pathLst>
                <a:path w="328" h="826">
                  <a:moveTo>
                    <a:pt x="327" y="825"/>
                  </a:moveTo>
                  <a:lnTo>
                    <a:pt x="0" y="825"/>
                  </a:lnTo>
                  <a:lnTo>
                    <a:pt x="0" y="0"/>
                  </a:lnTo>
                  <a:lnTo>
                    <a:pt x="327" y="0"/>
                  </a:lnTo>
                  <a:lnTo>
                    <a:pt x="327" y="825"/>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92" name="Freeform 28"/>
            <p:cNvSpPr/>
            <p:nvPr/>
          </p:nvSpPr>
          <p:spPr>
            <a:xfrm>
              <a:off x="282816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93" name="Freeform 29"/>
            <p:cNvSpPr/>
            <p:nvPr/>
          </p:nvSpPr>
          <p:spPr>
            <a:xfrm>
              <a:off x="308268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94" name="Freeform 30"/>
            <p:cNvSpPr/>
            <p:nvPr/>
          </p:nvSpPr>
          <p:spPr>
            <a:xfrm>
              <a:off x="333936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ffa7c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95" name="Freeform 31"/>
            <p:cNvSpPr/>
            <p:nvPr/>
          </p:nvSpPr>
          <p:spPr>
            <a:xfrm>
              <a:off x="359388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96" name="Freeform 32"/>
            <p:cNvSpPr/>
            <p:nvPr/>
          </p:nvSpPr>
          <p:spPr>
            <a:xfrm>
              <a:off x="384876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97" name="Freeform 33"/>
            <p:cNvSpPr/>
            <p:nvPr/>
          </p:nvSpPr>
          <p:spPr>
            <a:xfrm>
              <a:off x="410328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98" name="Freeform 34"/>
            <p:cNvSpPr/>
            <p:nvPr/>
          </p:nvSpPr>
          <p:spPr>
            <a:xfrm>
              <a:off x="435780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99" name="Freeform 35"/>
            <p:cNvSpPr/>
            <p:nvPr/>
          </p:nvSpPr>
          <p:spPr>
            <a:xfrm>
              <a:off x="461232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00" name="Freeform 36"/>
            <p:cNvSpPr/>
            <p:nvPr/>
          </p:nvSpPr>
          <p:spPr>
            <a:xfrm>
              <a:off x="486720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01" name="Freeform 37"/>
            <p:cNvSpPr/>
            <p:nvPr/>
          </p:nvSpPr>
          <p:spPr>
            <a:xfrm>
              <a:off x="512172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02" name="Freeform 38"/>
            <p:cNvSpPr/>
            <p:nvPr/>
          </p:nvSpPr>
          <p:spPr>
            <a:xfrm>
              <a:off x="537624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03" name="Freeform 39"/>
            <p:cNvSpPr/>
            <p:nvPr/>
          </p:nvSpPr>
          <p:spPr>
            <a:xfrm>
              <a:off x="78912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04" name="Freeform 40"/>
            <p:cNvSpPr/>
            <p:nvPr/>
          </p:nvSpPr>
          <p:spPr>
            <a:xfrm>
              <a:off x="104580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05" name="Freeform 41"/>
            <p:cNvSpPr/>
            <p:nvPr/>
          </p:nvSpPr>
          <p:spPr>
            <a:xfrm>
              <a:off x="130032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06" name="Freeform 42"/>
            <p:cNvSpPr/>
            <p:nvPr/>
          </p:nvSpPr>
          <p:spPr>
            <a:xfrm>
              <a:off x="1554840" y="4080600"/>
              <a:ext cx="160920" cy="323280"/>
            </a:xfrm>
            <a:custGeom>
              <a:avLst/>
              <a:gdLst/>
              <a:ahLst/>
              <a:rect l="l" t="t" r="r" b="b"/>
              <a:pathLst>
                <a:path w="328" h="827">
                  <a:moveTo>
                    <a:pt x="327" y="826"/>
                  </a:moveTo>
                  <a:lnTo>
                    <a:pt x="0" y="826"/>
                  </a:lnTo>
                  <a:lnTo>
                    <a:pt x="0" y="0"/>
                  </a:lnTo>
                  <a:lnTo>
                    <a:pt x="327" y="0"/>
                  </a:lnTo>
                  <a:lnTo>
                    <a:pt x="327" y="826"/>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07" name="Freeform 43"/>
            <p:cNvSpPr/>
            <p:nvPr/>
          </p:nvSpPr>
          <p:spPr>
            <a:xfrm>
              <a:off x="180972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08" name="Freeform 44"/>
            <p:cNvSpPr/>
            <p:nvPr/>
          </p:nvSpPr>
          <p:spPr>
            <a:xfrm>
              <a:off x="206424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09" name="Freeform 45"/>
            <p:cNvSpPr/>
            <p:nvPr/>
          </p:nvSpPr>
          <p:spPr>
            <a:xfrm>
              <a:off x="231876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10" name="Freeform 46"/>
            <p:cNvSpPr/>
            <p:nvPr/>
          </p:nvSpPr>
          <p:spPr>
            <a:xfrm>
              <a:off x="2573280" y="4080600"/>
              <a:ext cx="160920" cy="323280"/>
            </a:xfrm>
            <a:custGeom>
              <a:avLst/>
              <a:gdLst/>
              <a:ahLst/>
              <a:rect l="l" t="t" r="r" b="b"/>
              <a:pathLst>
                <a:path w="328" h="827">
                  <a:moveTo>
                    <a:pt x="327" y="826"/>
                  </a:moveTo>
                  <a:lnTo>
                    <a:pt x="0" y="826"/>
                  </a:lnTo>
                  <a:lnTo>
                    <a:pt x="0" y="0"/>
                  </a:lnTo>
                  <a:lnTo>
                    <a:pt x="327" y="0"/>
                  </a:lnTo>
                  <a:lnTo>
                    <a:pt x="327" y="826"/>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11" name="Freeform 47"/>
            <p:cNvSpPr/>
            <p:nvPr/>
          </p:nvSpPr>
          <p:spPr>
            <a:xfrm>
              <a:off x="282816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12" name="Freeform 48"/>
            <p:cNvSpPr/>
            <p:nvPr/>
          </p:nvSpPr>
          <p:spPr>
            <a:xfrm>
              <a:off x="308268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13" name="Freeform 49"/>
            <p:cNvSpPr/>
            <p:nvPr/>
          </p:nvSpPr>
          <p:spPr>
            <a:xfrm>
              <a:off x="333936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14" name="Freeform 50"/>
            <p:cNvSpPr/>
            <p:nvPr/>
          </p:nvSpPr>
          <p:spPr>
            <a:xfrm>
              <a:off x="359388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15" name="Freeform 51"/>
            <p:cNvSpPr/>
            <p:nvPr/>
          </p:nvSpPr>
          <p:spPr>
            <a:xfrm>
              <a:off x="384876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16" name="Freeform 52"/>
            <p:cNvSpPr/>
            <p:nvPr/>
          </p:nvSpPr>
          <p:spPr>
            <a:xfrm>
              <a:off x="410328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17" name="Freeform 53"/>
            <p:cNvSpPr/>
            <p:nvPr/>
          </p:nvSpPr>
          <p:spPr>
            <a:xfrm>
              <a:off x="435780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18" name="Freeform 54"/>
            <p:cNvSpPr/>
            <p:nvPr/>
          </p:nvSpPr>
          <p:spPr>
            <a:xfrm>
              <a:off x="461232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19" name="Freeform 55"/>
            <p:cNvSpPr/>
            <p:nvPr/>
          </p:nvSpPr>
          <p:spPr>
            <a:xfrm>
              <a:off x="486720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20" name="Freeform 56"/>
            <p:cNvSpPr/>
            <p:nvPr/>
          </p:nvSpPr>
          <p:spPr>
            <a:xfrm>
              <a:off x="512172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21" name="Freeform 57"/>
            <p:cNvSpPr/>
            <p:nvPr/>
          </p:nvSpPr>
          <p:spPr>
            <a:xfrm>
              <a:off x="537624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722" name="Freeform 8"/>
          <p:cNvSpPr/>
          <p:nvPr/>
        </p:nvSpPr>
        <p:spPr>
          <a:xfrm>
            <a:off x="2757600" y="4876920"/>
            <a:ext cx="895320" cy="895320"/>
          </a:xfrm>
          <a:custGeom>
            <a:avLst/>
            <a:gdLst/>
            <a:ahLst/>
            <a:rect l="l" t="t" r="r" b="b"/>
            <a:pathLst>
              <a:path w="2863" h="2862">
                <a:moveTo>
                  <a:pt x="1431" y="57"/>
                </a:moveTo>
                <a:lnTo>
                  <a:pt x="1431" y="57"/>
                </a:lnTo>
                <a:cubicBezTo>
                  <a:pt x="673" y="57"/>
                  <a:pt x="57" y="673"/>
                  <a:pt x="57" y="1431"/>
                </a:cubicBezTo>
                <a:lnTo>
                  <a:pt x="57" y="1431"/>
                </a:lnTo>
                <a:cubicBezTo>
                  <a:pt x="57" y="2189"/>
                  <a:pt x="673" y="2805"/>
                  <a:pt x="1431" y="2805"/>
                </a:cubicBezTo>
                <a:lnTo>
                  <a:pt x="1431" y="2805"/>
                </a:lnTo>
                <a:cubicBezTo>
                  <a:pt x="2189" y="2805"/>
                  <a:pt x="2806" y="2189"/>
                  <a:pt x="2806" y="1431"/>
                </a:cubicBezTo>
                <a:lnTo>
                  <a:pt x="2806" y="1431"/>
                </a:lnTo>
                <a:cubicBezTo>
                  <a:pt x="2806" y="673"/>
                  <a:pt x="2189" y="57"/>
                  <a:pt x="1431" y="57"/>
                </a:cubicBezTo>
                <a:close/>
                <a:moveTo>
                  <a:pt x="1431" y="2861"/>
                </a:moveTo>
                <a:lnTo>
                  <a:pt x="1431" y="2861"/>
                </a:lnTo>
                <a:cubicBezTo>
                  <a:pt x="642" y="2861"/>
                  <a:pt x="0" y="2220"/>
                  <a:pt x="0" y="1431"/>
                </a:cubicBezTo>
                <a:lnTo>
                  <a:pt x="0" y="1431"/>
                </a:lnTo>
                <a:cubicBezTo>
                  <a:pt x="0" y="642"/>
                  <a:pt x="642" y="0"/>
                  <a:pt x="1431" y="0"/>
                </a:cubicBezTo>
                <a:lnTo>
                  <a:pt x="1431" y="0"/>
                </a:lnTo>
                <a:cubicBezTo>
                  <a:pt x="2220" y="0"/>
                  <a:pt x="2862" y="642"/>
                  <a:pt x="2862" y="1431"/>
                </a:cubicBezTo>
                <a:lnTo>
                  <a:pt x="2862" y="1431"/>
                </a:lnTo>
                <a:cubicBezTo>
                  <a:pt x="2862" y="2220"/>
                  <a:pt x="2220" y="2861"/>
                  <a:pt x="1431" y="2861"/>
                </a:cubicBezTo>
                <a:close/>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23" name="Freeform 9"/>
          <p:cNvSpPr/>
          <p:nvPr/>
        </p:nvSpPr>
        <p:spPr>
          <a:xfrm>
            <a:off x="3071880" y="5172120"/>
            <a:ext cx="252360" cy="264960"/>
          </a:xfrm>
          <a:custGeom>
            <a:avLst/>
            <a:gdLst/>
            <a:ahLst/>
            <a:rect l="l" t="t" r="r" b="b"/>
            <a:pathLst>
              <a:path w="809" h="846">
                <a:moveTo>
                  <a:pt x="441" y="699"/>
                </a:moveTo>
                <a:lnTo>
                  <a:pt x="514" y="699"/>
                </a:lnTo>
                <a:lnTo>
                  <a:pt x="514" y="625"/>
                </a:lnTo>
                <a:lnTo>
                  <a:pt x="441" y="625"/>
                </a:lnTo>
                <a:lnTo>
                  <a:pt x="441" y="699"/>
                </a:lnTo>
                <a:close/>
                <a:moveTo>
                  <a:pt x="294" y="699"/>
                </a:moveTo>
                <a:lnTo>
                  <a:pt x="367" y="699"/>
                </a:lnTo>
                <a:lnTo>
                  <a:pt x="367" y="625"/>
                </a:lnTo>
                <a:lnTo>
                  <a:pt x="294" y="625"/>
                </a:lnTo>
                <a:lnTo>
                  <a:pt x="294" y="699"/>
                </a:lnTo>
                <a:close/>
                <a:moveTo>
                  <a:pt x="146" y="699"/>
                </a:moveTo>
                <a:lnTo>
                  <a:pt x="220" y="699"/>
                </a:lnTo>
                <a:lnTo>
                  <a:pt x="220" y="625"/>
                </a:lnTo>
                <a:lnTo>
                  <a:pt x="146" y="625"/>
                </a:lnTo>
                <a:lnTo>
                  <a:pt x="146" y="699"/>
                </a:lnTo>
                <a:close/>
                <a:moveTo>
                  <a:pt x="588" y="552"/>
                </a:moveTo>
                <a:lnTo>
                  <a:pt x="661" y="552"/>
                </a:lnTo>
                <a:lnTo>
                  <a:pt x="661" y="478"/>
                </a:lnTo>
                <a:lnTo>
                  <a:pt x="588" y="478"/>
                </a:lnTo>
                <a:lnTo>
                  <a:pt x="588" y="552"/>
                </a:lnTo>
                <a:close/>
                <a:moveTo>
                  <a:pt x="441" y="552"/>
                </a:moveTo>
                <a:lnTo>
                  <a:pt x="514" y="552"/>
                </a:lnTo>
                <a:lnTo>
                  <a:pt x="514" y="478"/>
                </a:lnTo>
                <a:lnTo>
                  <a:pt x="441" y="478"/>
                </a:lnTo>
                <a:lnTo>
                  <a:pt x="441" y="552"/>
                </a:lnTo>
                <a:close/>
                <a:moveTo>
                  <a:pt x="294" y="552"/>
                </a:moveTo>
                <a:lnTo>
                  <a:pt x="367" y="552"/>
                </a:lnTo>
                <a:lnTo>
                  <a:pt x="367" y="478"/>
                </a:lnTo>
                <a:lnTo>
                  <a:pt x="294" y="478"/>
                </a:lnTo>
                <a:lnTo>
                  <a:pt x="294" y="552"/>
                </a:lnTo>
                <a:close/>
                <a:moveTo>
                  <a:pt x="146" y="552"/>
                </a:moveTo>
                <a:lnTo>
                  <a:pt x="220" y="552"/>
                </a:lnTo>
                <a:lnTo>
                  <a:pt x="220" y="478"/>
                </a:lnTo>
                <a:lnTo>
                  <a:pt x="146" y="478"/>
                </a:lnTo>
                <a:lnTo>
                  <a:pt x="146" y="552"/>
                </a:lnTo>
                <a:close/>
                <a:moveTo>
                  <a:pt x="588" y="405"/>
                </a:moveTo>
                <a:lnTo>
                  <a:pt x="661" y="405"/>
                </a:lnTo>
                <a:lnTo>
                  <a:pt x="661" y="331"/>
                </a:lnTo>
                <a:lnTo>
                  <a:pt x="588" y="331"/>
                </a:lnTo>
                <a:lnTo>
                  <a:pt x="588" y="405"/>
                </a:lnTo>
                <a:close/>
                <a:moveTo>
                  <a:pt x="441" y="405"/>
                </a:moveTo>
                <a:lnTo>
                  <a:pt x="514" y="405"/>
                </a:lnTo>
                <a:lnTo>
                  <a:pt x="514" y="331"/>
                </a:lnTo>
                <a:lnTo>
                  <a:pt x="441" y="331"/>
                </a:lnTo>
                <a:lnTo>
                  <a:pt x="441" y="405"/>
                </a:lnTo>
                <a:close/>
                <a:moveTo>
                  <a:pt x="294" y="405"/>
                </a:moveTo>
                <a:lnTo>
                  <a:pt x="367" y="405"/>
                </a:lnTo>
                <a:lnTo>
                  <a:pt x="367" y="331"/>
                </a:lnTo>
                <a:lnTo>
                  <a:pt x="294" y="331"/>
                </a:lnTo>
                <a:lnTo>
                  <a:pt x="294" y="405"/>
                </a:lnTo>
                <a:close/>
                <a:moveTo>
                  <a:pt x="73" y="258"/>
                </a:moveTo>
                <a:lnTo>
                  <a:pt x="734" y="258"/>
                </a:lnTo>
                <a:lnTo>
                  <a:pt x="734" y="772"/>
                </a:lnTo>
                <a:lnTo>
                  <a:pt x="73" y="772"/>
                </a:lnTo>
                <a:lnTo>
                  <a:pt x="73" y="258"/>
                </a:lnTo>
                <a:close/>
                <a:moveTo>
                  <a:pt x="73" y="110"/>
                </a:moveTo>
                <a:lnTo>
                  <a:pt x="146" y="110"/>
                </a:lnTo>
                <a:lnTo>
                  <a:pt x="146" y="147"/>
                </a:lnTo>
                <a:lnTo>
                  <a:pt x="220" y="147"/>
                </a:lnTo>
                <a:lnTo>
                  <a:pt x="220" y="110"/>
                </a:lnTo>
                <a:lnTo>
                  <a:pt x="588" y="110"/>
                </a:lnTo>
                <a:lnTo>
                  <a:pt x="588" y="147"/>
                </a:lnTo>
                <a:lnTo>
                  <a:pt x="661" y="147"/>
                </a:lnTo>
                <a:lnTo>
                  <a:pt x="661" y="110"/>
                </a:lnTo>
                <a:lnTo>
                  <a:pt x="734" y="110"/>
                </a:lnTo>
                <a:lnTo>
                  <a:pt x="734" y="184"/>
                </a:lnTo>
                <a:lnTo>
                  <a:pt x="73" y="184"/>
                </a:lnTo>
                <a:lnTo>
                  <a:pt x="73" y="110"/>
                </a:lnTo>
                <a:close/>
                <a:moveTo>
                  <a:pt x="146" y="0"/>
                </a:moveTo>
                <a:lnTo>
                  <a:pt x="146" y="37"/>
                </a:lnTo>
                <a:lnTo>
                  <a:pt x="0" y="37"/>
                </a:lnTo>
                <a:lnTo>
                  <a:pt x="0" y="845"/>
                </a:lnTo>
                <a:lnTo>
                  <a:pt x="808" y="845"/>
                </a:lnTo>
                <a:lnTo>
                  <a:pt x="808" y="37"/>
                </a:lnTo>
                <a:lnTo>
                  <a:pt x="661" y="37"/>
                </a:lnTo>
                <a:lnTo>
                  <a:pt x="661" y="0"/>
                </a:lnTo>
                <a:lnTo>
                  <a:pt x="588" y="0"/>
                </a:lnTo>
                <a:lnTo>
                  <a:pt x="588" y="37"/>
                </a:lnTo>
                <a:lnTo>
                  <a:pt x="220" y="37"/>
                </a:lnTo>
                <a:lnTo>
                  <a:pt x="220" y="0"/>
                </a:lnTo>
                <a:lnTo>
                  <a:pt x="146" y="0"/>
                </a:lnTo>
                <a:close/>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24" name="Freeform 12"/>
          <p:cNvSpPr/>
          <p:nvPr/>
        </p:nvSpPr>
        <p:spPr>
          <a:xfrm>
            <a:off x="687240" y="4876920"/>
            <a:ext cx="895320" cy="895320"/>
          </a:xfrm>
          <a:custGeom>
            <a:avLst/>
            <a:gdLst/>
            <a:ahLst/>
            <a:rect l="l" t="t" r="r" b="b"/>
            <a:pathLst>
              <a:path w="2863" h="2862">
                <a:moveTo>
                  <a:pt x="1431" y="57"/>
                </a:moveTo>
                <a:lnTo>
                  <a:pt x="1431" y="57"/>
                </a:lnTo>
                <a:cubicBezTo>
                  <a:pt x="673" y="57"/>
                  <a:pt x="56" y="673"/>
                  <a:pt x="56" y="1431"/>
                </a:cubicBezTo>
                <a:lnTo>
                  <a:pt x="56" y="1431"/>
                </a:lnTo>
                <a:cubicBezTo>
                  <a:pt x="56" y="2189"/>
                  <a:pt x="673" y="2805"/>
                  <a:pt x="1431" y="2805"/>
                </a:cubicBezTo>
                <a:lnTo>
                  <a:pt x="1431" y="2805"/>
                </a:lnTo>
                <a:cubicBezTo>
                  <a:pt x="2189" y="2805"/>
                  <a:pt x="2805" y="2189"/>
                  <a:pt x="2805" y="1431"/>
                </a:cubicBezTo>
                <a:lnTo>
                  <a:pt x="2805" y="1431"/>
                </a:lnTo>
                <a:cubicBezTo>
                  <a:pt x="2805" y="673"/>
                  <a:pt x="2189" y="57"/>
                  <a:pt x="1431" y="57"/>
                </a:cubicBezTo>
                <a:close/>
                <a:moveTo>
                  <a:pt x="1431" y="2861"/>
                </a:moveTo>
                <a:lnTo>
                  <a:pt x="1431" y="2861"/>
                </a:lnTo>
                <a:cubicBezTo>
                  <a:pt x="642" y="2861"/>
                  <a:pt x="0" y="2220"/>
                  <a:pt x="0" y="1431"/>
                </a:cubicBezTo>
                <a:lnTo>
                  <a:pt x="0" y="1431"/>
                </a:lnTo>
                <a:cubicBezTo>
                  <a:pt x="0" y="642"/>
                  <a:pt x="642" y="0"/>
                  <a:pt x="1431" y="0"/>
                </a:cubicBezTo>
                <a:lnTo>
                  <a:pt x="1431" y="0"/>
                </a:lnTo>
                <a:cubicBezTo>
                  <a:pt x="2220" y="0"/>
                  <a:pt x="2862" y="642"/>
                  <a:pt x="2862" y="1431"/>
                </a:cubicBezTo>
                <a:lnTo>
                  <a:pt x="2862" y="1431"/>
                </a:lnTo>
                <a:cubicBezTo>
                  <a:pt x="2862" y="2220"/>
                  <a:pt x="2220" y="2861"/>
                  <a:pt x="1431" y="2861"/>
                </a:cubicBezTo>
                <a:close/>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25" name="Freeform 13"/>
          <p:cNvSpPr/>
          <p:nvPr/>
        </p:nvSpPr>
        <p:spPr>
          <a:xfrm>
            <a:off x="990720" y="5172120"/>
            <a:ext cx="280800" cy="299880"/>
          </a:xfrm>
          <a:custGeom>
            <a:avLst/>
            <a:gdLst/>
            <a:ahLst/>
            <a:rect l="l" t="t" r="r" b="b"/>
            <a:pathLst>
              <a:path w="895" h="957">
                <a:moveTo>
                  <a:pt x="193" y="636"/>
                </a:moveTo>
                <a:lnTo>
                  <a:pt x="193" y="636"/>
                </a:lnTo>
                <a:cubicBezTo>
                  <a:pt x="209" y="650"/>
                  <a:pt x="229" y="659"/>
                  <a:pt x="251" y="661"/>
                </a:cubicBezTo>
                <a:lnTo>
                  <a:pt x="252" y="661"/>
                </a:lnTo>
                <a:lnTo>
                  <a:pt x="322" y="671"/>
                </a:lnTo>
                <a:lnTo>
                  <a:pt x="338" y="683"/>
                </a:lnTo>
                <a:lnTo>
                  <a:pt x="259" y="802"/>
                </a:lnTo>
                <a:lnTo>
                  <a:pt x="235" y="744"/>
                </a:lnTo>
                <a:lnTo>
                  <a:pt x="226" y="720"/>
                </a:lnTo>
                <a:lnTo>
                  <a:pt x="137" y="720"/>
                </a:lnTo>
                <a:lnTo>
                  <a:pt x="193" y="636"/>
                </a:lnTo>
                <a:close/>
                <a:moveTo>
                  <a:pt x="701" y="634"/>
                </a:moveTo>
                <a:lnTo>
                  <a:pt x="757" y="720"/>
                </a:lnTo>
                <a:lnTo>
                  <a:pt x="669" y="720"/>
                </a:lnTo>
                <a:lnTo>
                  <a:pt x="660" y="744"/>
                </a:lnTo>
                <a:lnTo>
                  <a:pt x="634" y="802"/>
                </a:lnTo>
                <a:lnTo>
                  <a:pt x="556" y="683"/>
                </a:lnTo>
                <a:lnTo>
                  <a:pt x="574" y="670"/>
                </a:lnTo>
                <a:lnTo>
                  <a:pt x="645" y="658"/>
                </a:lnTo>
                <a:lnTo>
                  <a:pt x="645" y="658"/>
                </a:lnTo>
                <a:lnTo>
                  <a:pt x="645" y="658"/>
                </a:lnTo>
                <a:cubicBezTo>
                  <a:pt x="646" y="658"/>
                  <a:pt x="647" y="658"/>
                  <a:pt x="648" y="658"/>
                </a:cubicBezTo>
                <a:lnTo>
                  <a:pt x="648" y="658"/>
                </a:lnTo>
                <a:cubicBezTo>
                  <a:pt x="668" y="655"/>
                  <a:pt x="686" y="646"/>
                  <a:pt x="701" y="634"/>
                </a:cubicBezTo>
                <a:lnTo>
                  <a:pt x="447" y="75"/>
                </a:lnTo>
                <a:lnTo>
                  <a:pt x="447" y="75"/>
                </a:lnTo>
                <a:cubicBezTo>
                  <a:pt x="455" y="75"/>
                  <a:pt x="464" y="77"/>
                  <a:pt x="470" y="82"/>
                </a:cubicBezTo>
                <a:lnTo>
                  <a:pt x="536" y="129"/>
                </a:lnTo>
                <a:lnTo>
                  <a:pt x="543" y="135"/>
                </a:lnTo>
                <a:lnTo>
                  <a:pt x="553" y="135"/>
                </a:lnTo>
                <a:lnTo>
                  <a:pt x="633" y="147"/>
                </a:lnTo>
                <a:lnTo>
                  <a:pt x="634" y="147"/>
                </a:lnTo>
                <a:lnTo>
                  <a:pt x="634" y="147"/>
                </a:lnTo>
                <a:cubicBezTo>
                  <a:pt x="650" y="149"/>
                  <a:pt x="662" y="161"/>
                  <a:pt x="664" y="177"/>
                </a:cubicBezTo>
                <a:lnTo>
                  <a:pt x="664" y="179"/>
                </a:lnTo>
                <a:lnTo>
                  <a:pt x="679" y="261"/>
                </a:lnTo>
                <a:lnTo>
                  <a:pt x="680" y="269"/>
                </a:lnTo>
                <a:lnTo>
                  <a:pt x="686" y="276"/>
                </a:lnTo>
                <a:lnTo>
                  <a:pt x="733" y="341"/>
                </a:lnTo>
                <a:lnTo>
                  <a:pt x="733" y="341"/>
                </a:lnTo>
                <a:cubicBezTo>
                  <a:pt x="741" y="354"/>
                  <a:pt x="743" y="374"/>
                  <a:pt x="732" y="392"/>
                </a:cubicBezTo>
                <a:lnTo>
                  <a:pt x="680" y="464"/>
                </a:lnTo>
                <a:lnTo>
                  <a:pt x="679" y="474"/>
                </a:lnTo>
                <a:lnTo>
                  <a:pt x="667" y="554"/>
                </a:lnTo>
                <a:lnTo>
                  <a:pt x="667" y="555"/>
                </a:lnTo>
                <a:lnTo>
                  <a:pt x="667" y="555"/>
                </a:lnTo>
                <a:cubicBezTo>
                  <a:pt x="667" y="561"/>
                  <a:pt x="665" y="566"/>
                  <a:pt x="661" y="571"/>
                </a:cubicBezTo>
                <a:lnTo>
                  <a:pt x="660" y="572"/>
                </a:lnTo>
                <a:lnTo>
                  <a:pt x="660" y="573"/>
                </a:lnTo>
                <a:lnTo>
                  <a:pt x="660" y="573"/>
                </a:lnTo>
                <a:cubicBezTo>
                  <a:pt x="654" y="580"/>
                  <a:pt x="647" y="584"/>
                  <a:pt x="638" y="585"/>
                </a:cubicBezTo>
                <a:lnTo>
                  <a:pt x="635" y="585"/>
                </a:lnTo>
                <a:lnTo>
                  <a:pt x="552" y="600"/>
                </a:lnTo>
                <a:lnTo>
                  <a:pt x="542" y="601"/>
                </a:lnTo>
                <a:lnTo>
                  <a:pt x="536" y="607"/>
                </a:lnTo>
                <a:lnTo>
                  <a:pt x="470" y="654"/>
                </a:lnTo>
                <a:lnTo>
                  <a:pt x="470" y="654"/>
                </a:lnTo>
                <a:cubicBezTo>
                  <a:pt x="457" y="662"/>
                  <a:pt x="436" y="664"/>
                  <a:pt x="418" y="652"/>
                </a:cubicBezTo>
                <a:lnTo>
                  <a:pt x="359" y="607"/>
                </a:lnTo>
                <a:lnTo>
                  <a:pt x="352" y="601"/>
                </a:lnTo>
                <a:lnTo>
                  <a:pt x="341" y="600"/>
                </a:lnTo>
                <a:lnTo>
                  <a:pt x="261" y="588"/>
                </a:lnTo>
                <a:lnTo>
                  <a:pt x="259" y="588"/>
                </a:lnTo>
                <a:lnTo>
                  <a:pt x="259" y="588"/>
                </a:lnTo>
                <a:cubicBezTo>
                  <a:pt x="248" y="587"/>
                  <a:pt x="240" y="581"/>
                  <a:pt x="235" y="572"/>
                </a:cubicBezTo>
                <a:lnTo>
                  <a:pt x="235" y="572"/>
                </a:lnTo>
                <a:cubicBezTo>
                  <a:pt x="232" y="568"/>
                  <a:pt x="230" y="564"/>
                  <a:pt x="230" y="559"/>
                </a:cubicBezTo>
                <a:lnTo>
                  <a:pt x="230" y="556"/>
                </a:lnTo>
                <a:lnTo>
                  <a:pt x="215" y="472"/>
                </a:lnTo>
                <a:lnTo>
                  <a:pt x="214" y="464"/>
                </a:lnTo>
                <a:lnTo>
                  <a:pt x="208" y="456"/>
                </a:lnTo>
                <a:lnTo>
                  <a:pt x="161" y="391"/>
                </a:lnTo>
                <a:lnTo>
                  <a:pt x="161" y="391"/>
                </a:lnTo>
                <a:cubicBezTo>
                  <a:pt x="152" y="378"/>
                  <a:pt x="151" y="356"/>
                  <a:pt x="162" y="339"/>
                </a:cubicBezTo>
                <a:lnTo>
                  <a:pt x="208" y="280"/>
                </a:lnTo>
                <a:lnTo>
                  <a:pt x="214" y="272"/>
                </a:lnTo>
                <a:lnTo>
                  <a:pt x="215" y="262"/>
                </a:lnTo>
                <a:lnTo>
                  <a:pt x="226" y="185"/>
                </a:lnTo>
                <a:lnTo>
                  <a:pt x="226" y="185"/>
                </a:lnTo>
                <a:cubicBezTo>
                  <a:pt x="226" y="184"/>
                  <a:pt x="226" y="184"/>
                  <a:pt x="226" y="184"/>
                </a:cubicBezTo>
                <a:lnTo>
                  <a:pt x="226" y="184"/>
                </a:lnTo>
                <a:cubicBezTo>
                  <a:pt x="230" y="166"/>
                  <a:pt x="245" y="152"/>
                  <a:pt x="264" y="147"/>
                </a:cubicBezTo>
                <a:lnTo>
                  <a:pt x="264" y="147"/>
                </a:lnTo>
                <a:cubicBezTo>
                  <a:pt x="264" y="147"/>
                  <a:pt x="264" y="147"/>
                  <a:pt x="264" y="146"/>
                </a:cubicBezTo>
                <a:lnTo>
                  <a:pt x="341" y="135"/>
                </a:lnTo>
                <a:lnTo>
                  <a:pt x="350" y="135"/>
                </a:lnTo>
                <a:lnTo>
                  <a:pt x="359" y="129"/>
                </a:lnTo>
                <a:lnTo>
                  <a:pt x="424" y="82"/>
                </a:lnTo>
                <a:lnTo>
                  <a:pt x="424" y="82"/>
                </a:lnTo>
                <a:cubicBezTo>
                  <a:pt x="430" y="77"/>
                  <a:pt x="439" y="75"/>
                  <a:pt x="447" y="75"/>
                </a:cubicBezTo>
                <a:lnTo>
                  <a:pt x="701" y="634"/>
                </a:lnTo>
                <a:close/>
                <a:moveTo>
                  <a:pt x="447" y="0"/>
                </a:moveTo>
                <a:lnTo>
                  <a:pt x="447" y="0"/>
                </a:lnTo>
                <a:cubicBezTo>
                  <a:pt x="424" y="0"/>
                  <a:pt x="401" y="8"/>
                  <a:pt x="381" y="22"/>
                </a:cubicBezTo>
                <a:lnTo>
                  <a:pt x="321" y="65"/>
                </a:lnTo>
                <a:lnTo>
                  <a:pt x="251" y="74"/>
                </a:lnTo>
                <a:lnTo>
                  <a:pt x="249" y="74"/>
                </a:lnTo>
                <a:lnTo>
                  <a:pt x="248" y="75"/>
                </a:lnTo>
                <a:lnTo>
                  <a:pt x="248" y="75"/>
                </a:lnTo>
                <a:cubicBezTo>
                  <a:pt x="201" y="85"/>
                  <a:pt x="165" y="122"/>
                  <a:pt x="154" y="169"/>
                </a:cubicBezTo>
                <a:lnTo>
                  <a:pt x="153" y="170"/>
                </a:lnTo>
                <a:lnTo>
                  <a:pt x="153" y="171"/>
                </a:lnTo>
                <a:lnTo>
                  <a:pt x="144" y="243"/>
                </a:lnTo>
                <a:lnTo>
                  <a:pt x="101" y="298"/>
                </a:lnTo>
                <a:lnTo>
                  <a:pt x="100" y="299"/>
                </a:lnTo>
                <a:lnTo>
                  <a:pt x="100" y="300"/>
                </a:lnTo>
                <a:lnTo>
                  <a:pt x="100" y="300"/>
                </a:lnTo>
                <a:cubicBezTo>
                  <a:pt x="75" y="341"/>
                  <a:pt x="73" y="394"/>
                  <a:pt x="101" y="433"/>
                </a:cubicBezTo>
                <a:lnTo>
                  <a:pt x="144" y="494"/>
                </a:lnTo>
                <a:lnTo>
                  <a:pt x="156" y="557"/>
                </a:lnTo>
                <a:lnTo>
                  <a:pt x="38" y="738"/>
                </a:lnTo>
                <a:lnTo>
                  <a:pt x="0" y="794"/>
                </a:lnTo>
                <a:lnTo>
                  <a:pt x="176" y="794"/>
                </a:lnTo>
                <a:lnTo>
                  <a:pt x="218" y="892"/>
                </a:lnTo>
                <a:lnTo>
                  <a:pt x="245" y="956"/>
                </a:lnTo>
                <a:lnTo>
                  <a:pt x="283" y="898"/>
                </a:lnTo>
                <a:lnTo>
                  <a:pt x="399" y="724"/>
                </a:lnTo>
                <a:lnTo>
                  <a:pt x="399" y="724"/>
                </a:lnTo>
                <a:cubicBezTo>
                  <a:pt x="430" y="737"/>
                  <a:pt x="465" y="738"/>
                  <a:pt x="495" y="724"/>
                </a:cubicBezTo>
                <a:lnTo>
                  <a:pt x="611" y="898"/>
                </a:lnTo>
                <a:lnTo>
                  <a:pt x="649" y="956"/>
                </a:lnTo>
                <a:lnTo>
                  <a:pt x="676" y="892"/>
                </a:lnTo>
                <a:lnTo>
                  <a:pt x="718" y="794"/>
                </a:lnTo>
                <a:lnTo>
                  <a:pt x="894" y="794"/>
                </a:lnTo>
                <a:lnTo>
                  <a:pt x="856" y="738"/>
                </a:lnTo>
                <a:lnTo>
                  <a:pt x="741" y="563"/>
                </a:lnTo>
                <a:lnTo>
                  <a:pt x="750" y="494"/>
                </a:lnTo>
                <a:lnTo>
                  <a:pt x="793" y="433"/>
                </a:lnTo>
                <a:lnTo>
                  <a:pt x="794" y="432"/>
                </a:lnTo>
                <a:lnTo>
                  <a:pt x="794" y="431"/>
                </a:lnTo>
                <a:lnTo>
                  <a:pt x="794" y="431"/>
                </a:lnTo>
                <a:cubicBezTo>
                  <a:pt x="820" y="390"/>
                  <a:pt x="821" y="338"/>
                  <a:pt x="793" y="299"/>
                </a:cubicBezTo>
                <a:lnTo>
                  <a:pt x="750" y="237"/>
                </a:lnTo>
                <a:lnTo>
                  <a:pt x="736" y="169"/>
                </a:lnTo>
                <a:lnTo>
                  <a:pt x="737" y="169"/>
                </a:lnTo>
                <a:lnTo>
                  <a:pt x="737" y="169"/>
                </a:lnTo>
                <a:cubicBezTo>
                  <a:pt x="737" y="169"/>
                  <a:pt x="736" y="168"/>
                  <a:pt x="736" y="167"/>
                </a:cubicBezTo>
                <a:lnTo>
                  <a:pt x="736" y="167"/>
                </a:lnTo>
                <a:cubicBezTo>
                  <a:pt x="729" y="119"/>
                  <a:pt x="692" y="80"/>
                  <a:pt x="643" y="74"/>
                </a:cubicBezTo>
                <a:lnTo>
                  <a:pt x="642" y="74"/>
                </a:lnTo>
                <a:lnTo>
                  <a:pt x="574" y="65"/>
                </a:lnTo>
                <a:lnTo>
                  <a:pt x="512" y="22"/>
                </a:lnTo>
                <a:lnTo>
                  <a:pt x="512" y="22"/>
                </a:lnTo>
                <a:cubicBezTo>
                  <a:pt x="493" y="8"/>
                  <a:pt x="470" y="0"/>
                  <a:pt x="447" y="0"/>
                </a:cubicBezTo>
                <a:close/>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26" name="Freeform 16"/>
          <p:cNvSpPr/>
          <p:nvPr/>
        </p:nvSpPr>
        <p:spPr>
          <a:xfrm>
            <a:off x="1722600" y="4876920"/>
            <a:ext cx="895320" cy="895320"/>
          </a:xfrm>
          <a:custGeom>
            <a:avLst/>
            <a:gdLst/>
            <a:ahLst/>
            <a:rect l="l" t="t" r="r" b="b"/>
            <a:pathLst>
              <a:path w="2863" h="2862">
                <a:moveTo>
                  <a:pt x="1432" y="57"/>
                </a:moveTo>
                <a:lnTo>
                  <a:pt x="1432" y="57"/>
                </a:lnTo>
                <a:cubicBezTo>
                  <a:pt x="673" y="57"/>
                  <a:pt x="57" y="673"/>
                  <a:pt x="57" y="1431"/>
                </a:cubicBezTo>
                <a:lnTo>
                  <a:pt x="57" y="1431"/>
                </a:lnTo>
                <a:cubicBezTo>
                  <a:pt x="57" y="2189"/>
                  <a:pt x="673" y="2805"/>
                  <a:pt x="1432" y="2805"/>
                </a:cubicBezTo>
                <a:lnTo>
                  <a:pt x="1432" y="2805"/>
                </a:lnTo>
                <a:cubicBezTo>
                  <a:pt x="2189" y="2805"/>
                  <a:pt x="2805" y="2189"/>
                  <a:pt x="2805" y="1431"/>
                </a:cubicBezTo>
                <a:lnTo>
                  <a:pt x="2805" y="1431"/>
                </a:lnTo>
                <a:cubicBezTo>
                  <a:pt x="2805" y="673"/>
                  <a:pt x="2189" y="57"/>
                  <a:pt x="1432" y="57"/>
                </a:cubicBezTo>
                <a:close/>
                <a:moveTo>
                  <a:pt x="1432" y="2861"/>
                </a:moveTo>
                <a:lnTo>
                  <a:pt x="1432" y="2861"/>
                </a:lnTo>
                <a:cubicBezTo>
                  <a:pt x="643" y="2861"/>
                  <a:pt x="0" y="2220"/>
                  <a:pt x="0" y="1431"/>
                </a:cubicBezTo>
                <a:lnTo>
                  <a:pt x="0" y="1431"/>
                </a:lnTo>
                <a:cubicBezTo>
                  <a:pt x="0" y="642"/>
                  <a:pt x="643" y="0"/>
                  <a:pt x="1432" y="0"/>
                </a:cubicBezTo>
                <a:lnTo>
                  <a:pt x="1432" y="0"/>
                </a:lnTo>
                <a:cubicBezTo>
                  <a:pt x="2221" y="0"/>
                  <a:pt x="2862" y="642"/>
                  <a:pt x="2862" y="1431"/>
                </a:cubicBezTo>
                <a:lnTo>
                  <a:pt x="2862" y="1431"/>
                </a:lnTo>
                <a:cubicBezTo>
                  <a:pt x="2862" y="2220"/>
                  <a:pt x="2221" y="2861"/>
                  <a:pt x="1432" y="2861"/>
                </a:cubicBezTo>
                <a:close/>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27" name="Freeform 17"/>
          <p:cNvSpPr/>
          <p:nvPr/>
        </p:nvSpPr>
        <p:spPr>
          <a:xfrm>
            <a:off x="2019240" y="5172120"/>
            <a:ext cx="298440" cy="299880"/>
          </a:xfrm>
          <a:custGeom>
            <a:avLst/>
            <a:gdLst/>
            <a:ahLst/>
            <a:rect l="l" t="t" r="r" b="b"/>
            <a:pathLst>
              <a:path w="957" h="957">
                <a:moveTo>
                  <a:pt x="568" y="515"/>
                </a:moveTo>
                <a:lnTo>
                  <a:pt x="880" y="515"/>
                </a:lnTo>
                <a:lnTo>
                  <a:pt x="880" y="515"/>
                </a:lnTo>
                <a:cubicBezTo>
                  <a:pt x="872" y="599"/>
                  <a:pt x="840" y="677"/>
                  <a:pt x="790" y="738"/>
                </a:cubicBezTo>
                <a:lnTo>
                  <a:pt x="568" y="515"/>
                </a:lnTo>
                <a:close/>
                <a:moveTo>
                  <a:pt x="515" y="76"/>
                </a:moveTo>
                <a:lnTo>
                  <a:pt x="515" y="76"/>
                </a:lnTo>
                <a:cubicBezTo>
                  <a:pt x="709" y="94"/>
                  <a:pt x="862" y="247"/>
                  <a:pt x="880" y="442"/>
                </a:cubicBezTo>
                <a:lnTo>
                  <a:pt x="515" y="442"/>
                </a:lnTo>
                <a:lnTo>
                  <a:pt x="515" y="76"/>
                </a:lnTo>
                <a:close/>
                <a:moveTo>
                  <a:pt x="437" y="76"/>
                </a:moveTo>
                <a:lnTo>
                  <a:pt x="437" y="76"/>
                </a:lnTo>
                <a:cubicBezTo>
                  <a:pt x="438" y="76"/>
                  <a:pt x="440" y="76"/>
                  <a:pt x="442" y="76"/>
                </a:cubicBezTo>
                <a:lnTo>
                  <a:pt x="442" y="493"/>
                </a:lnTo>
                <a:lnTo>
                  <a:pt x="452" y="505"/>
                </a:lnTo>
                <a:lnTo>
                  <a:pt x="737" y="790"/>
                </a:lnTo>
                <a:lnTo>
                  <a:pt x="737" y="790"/>
                </a:lnTo>
                <a:cubicBezTo>
                  <a:pt x="668" y="848"/>
                  <a:pt x="576" y="882"/>
                  <a:pt x="478" y="882"/>
                </a:cubicBezTo>
                <a:lnTo>
                  <a:pt x="478" y="882"/>
                </a:lnTo>
                <a:cubicBezTo>
                  <a:pt x="255" y="882"/>
                  <a:pt x="74" y="702"/>
                  <a:pt x="74" y="478"/>
                </a:cubicBezTo>
                <a:lnTo>
                  <a:pt x="74" y="478"/>
                </a:lnTo>
                <a:cubicBezTo>
                  <a:pt x="74" y="268"/>
                  <a:pt x="233" y="97"/>
                  <a:pt x="437" y="76"/>
                </a:cubicBezTo>
                <a:close/>
                <a:moveTo>
                  <a:pt x="478" y="0"/>
                </a:moveTo>
                <a:lnTo>
                  <a:pt x="478" y="0"/>
                </a:lnTo>
                <a:cubicBezTo>
                  <a:pt x="215" y="0"/>
                  <a:pt x="0" y="215"/>
                  <a:pt x="0" y="478"/>
                </a:cubicBezTo>
                <a:lnTo>
                  <a:pt x="0" y="478"/>
                </a:lnTo>
                <a:cubicBezTo>
                  <a:pt x="0" y="742"/>
                  <a:pt x="215" y="956"/>
                  <a:pt x="478" y="956"/>
                </a:cubicBezTo>
                <a:lnTo>
                  <a:pt x="478" y="956"/>
                </a:lnTo>
                <a:cubicBezTo>
                  <a:pt x="742" y="956"/>
                  <a:pt x="956" y="742"/>
                  <a:pt x="956" y="478"/>
                </a:cubicBezTo>
                <a:lnTo>
                  <a:pt x="956" y="478"/>
                </a:lnTo>
                <a:cubicBezTo>
                  <a:pt x="956" y="215"/>
                  <a:pt x="742" y="0"/>
                  <a:pt x="478" y="0"/>
                </a:cubicBezTo>
                <a:close/>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28" name="TextBox 57"/>
          <p:cNvSpPr/>
          <p:nvPr/>
        </p:nvSpPr>
        <p:spPr>
          <a:xfrm>
            <a:off x="735120" y="5888160"/>
            <a:ext cx="806400" cy="53820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30227"/>
                </a:solidFill>
                <a:latin typeface="Raleway"/>
              </a:rPr>
              <a:t>Goals</a:t>
            </a:r>
            <a:endParaRPr b="0" lang="en-US" sz="1100" spc="-1" strike="noStrike">
              <a:solidFill>
                <a:srgbClr val="000000"/>
              </a:solidFill>
              <a:latin typeface="Calibri"/>
            </a:endParaRPr>
          </a:p>
        </p:txBody>
      </p:sp>
      <p:sp>
        <p:nvSpPr>
          <p:cNvPr id="729" name="TextBox 58"/>
          <p:cNvSpPr/>
          <p:nvPr/>
        </p:nvSpPr>
        <p:spPr>
          <a:xfrm>
            <a:off x="1766880" y="5888160"/>
            <a:ext cx="806400" cy="98244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30227"/>
                </a:solidFill>
                <a:latin typeface="Raleway"/>
              </a:rPr>
              <a:t>Marketing</a:t>
            </a:r>
            <a:endParaRPr b="0" lang="en-US" sz="1100" spc="-1" strike="noStrike">
              <a:solidFill>
                <a:srgbClr val="000000"/>
              </a:solidFill>
              <a:latin typeface="Calibri"/>
            </a:endParaRPr>
          </a:p>
        </p:txBody>
      </p:sp>
      <p:sp>
        <p:nvSpPr>
          <p:cNvPr id="730" name="TextBox 59"/>
          <p:cNvSpPr/>
          <p:nvPr/>
        </p:nvSpPr>
        <p:spPr>
          <a:xfrm>
            <a:off x="2803680" y="5886360"/>
            <a:ext cx="804600" cy="53820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30227"/>
                </a:solidFill>
                <a:latin typeface="Raleway"/>
              </a:rPr>
              <a:t>Planning</a:t>
            </a:r>
            <a:endParaRPr b="0" lang="en-US" sz="1100" spc="-1" strike="noStrike">
              <a:solidFill>
                <a:srgbClr val="000000"/>
              </a:solidFill>
              <a:latin typeface="Calibri"/>
            </a:endParaRPr>
          </a:p>
        </p:txBody>
      </p:sp>
      <p:sp>
        <p:nvSpPr>
          <p:cNvPr id="731" name="Rectangle: Rounded Corners 60"/>
          <p:cNvSpPr/>
          <p:nvPr/>
        </p:nvSpPr>
        <p:spPr>
          <a:xfrm>
            <a:off x="1722600" y="1501920"/>
            <a:ext cx="3936960" cy="671400"/>
          </a:xfrm>
          <a:prstGeom prst="roundRect">
            <a:avLst>
              <a:gd name="adj" fmla="val 50000"/>
            </a:avLst>
          </a:prstGeom>
          <a:solidFill>
            <a:srgbClr val="ff4e9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32" name="Group 61"/>
          <p:cNvGrpSpPr/>
          <p:nvPr/>
        </p:nvGrpSpPr>
        <p:grpSpPr>
          <a:xfrm>
            <a:off x="2351160" y="1649520"/>
            <a:ext cx="2090520" cy="345960"/>
            <a:chOff x="2351160" y="1649520"/>
            <a:chExt cx="2090520" cy="345960"/>
          </a:xfrm>
        </p:grpSpPr>
        <p:sp>
          <p:nvSpPr>
            <p:cNvPr id="733" name="Freeform 96"/>
            <p:cNvSpPr/>
            <p:nvPr/>
          </p:nvSpPr>
          <p:spPr>
            <a:xfrm>
              <a:off x="2351160" y="1649520"/>
              <a:ext cx="363240" cy="345960"/>
            </a:xfrm>
            <a:custGeom>
              <a:avLst/>
              <a:gdLst/>
              <a:ahLst/>
              <a:rect l="l" t="t" r="r" b="b"/>
              <a:pathLst>
                <a:path w="973" h="930">
                  <a:moveTo>
                    <a:pt x="972" y="360"/>
                  </a:moveTo>
                  <a:lnTo>
                    <a:pt x="638" y="307"/>
                  </a:lnTo>
                  <a:lnTo>
                    <a:pt x="492" y="0"/>
                  </a:lnTo>
                  <a:lnTo>
                    <a:pt x="337" y="302"/>
                  </a:lnTo>
                  <a:lnTo>
                    <a:pt x="0" y="345"/>
                  </a:lnTo>
                  <a:lnTo>
                    <a:pt x="239" y="586"/>
                  </a:lnTo>
                  <a:lnTo>
                    <a:pt x="177" y="920"/>
                  </a:lnTo>
                  <a:lnTo>
                    <a:pt x="480" y="766"/>
                  </a:lnTo>
                  <a:lnTo>
                    <a:pt x="778" y="929"/>
                  </a:lnTo>
                  <a:lnTo>
                    <a:pt x="725" y="594"/>
                  </a:lnTo>
                  <a:lnTo>
                    <a:pt x="972" y="360"/>
                  </a:lnTo>
                </a:path>
              </a:pathLst>
            </a:custGeom>
            <a:solidFill>
              <a:srgbClr val="ffdf8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34" name="Freeform 97"/>
            <p:cNvSpPr/>
            <p:nvPr/>
          </p:nvSpPr>
          <p:spPr>
            <a:xfrm>
              <a:off x="2783520" y="1649520"/>
              <a:ext cx="363240" cy="345960"/>
            </a:xfrm>
            <a:custGeom>
              <a:avLst/>
              <a:gdLst/>
              <a:ahLst/>
              <a:rect l="l" t="t" r="r" b="b"/>
              <a:pathLst>
                <a:path w="974" h="930">
                  <a:moveTo>
                    <a:pt x="973" y="360"/>
                  </a:moveTo>
                  <a:lnTo>
                    <a:pt x="637" y="307"/>
                  </a:lnTo>
                  <a:lnTo>
                    <a:pt x="492" y="0"/>
                  </a:lnTo>
                  <a:lnTo>
                    <a:pt x="337" y="302"/>
                  </a:lnTo>
                  <a:lnTo>
                    <a:pt x="0" y="345"/>
                  </a:lnTo>
                  <a:lnTo>
                    <a:pt x="239" y="586"/>
                  </a:lnTo>
                  <a:lnTo>
                    <a:pt x="177" y="920"/>
                  </a:lnTo>
                  <a:lnTo>
                    <a:pt x="479" y="766"/>
                  </a:lnTo>
                  <a:lnTo>
                    <a:pt x="778" y="929"/>
                  </a:lnTo>
                  <a:lnTo>
                    <a:pt x="726" y="594"/>
                  </a:lnTo>
                  <a:lnTo>
                    <a:pt x="973" y="360"/>
                  </a:lnTo>
                </a:path>
              </a:pathLst>
            </a:custGeom>
            <a:solidFill>
              <a:srgbClr val="ffdf8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35" name="Freeform 98"/>
            <p:cNvSpPr/>
            <p:nvPr/>
          </p:nvSpPr>
          <p:spPr>
            <a:xfrm>
              <a:off x="3214800" y="1649520"/>
              <a:ext cx="363240" cy="345960"/>
            </a:xfrm>
            <a:custGeom>
              <a:avLst/>
              <a:gdLst/>
              <a:ahLst/>
              <a:rect l="l" t="t" r="r" b="b"/>
              <a:pathLst>
                <a:path w="974" h="930">
                  <a:moveTo>
                    <a:pt x="973" y="360"/>
                  </a:moveTo>
                  <a:lnTo>
                    <a:pt x="637" y="307"/>
                  </a:lnTo>
                  <a:lnTo>
                    <a:pt x="491" y="0"/>
                  </a:lnTo>
                  <a:lnTo>
                    <a:pt x="337" y="302"/>
                  </a:lnTo>
                  <a:lnTo>
                    <a:pt x="0" y="345"/>
                  </a:lnTo>
                  <a:lnTo>
                    <a:pt x="239" y="586"/>
                  </a:lnTo>
                  <a:lnTo>
                    <a:pt x="176" y="920"/>
                  </a:lnTo>
                  <a:lnTo>
                    <a:pt x="480" y="766"/>
                  </a:lnTo>
                  <a:lnTo>
                    <a:pt x="778" y="929"/>
                  </a:lnTo>
                  <a:lnTo>
                    <a:pt x="726" y="594"/>
                  </a:lnTo>
                  <a:lnTo>
                    <a:pt x="973" y="360"/>
                  </a:lnTo>
                </a:path>
              </a:pathLst>
            </a:custGeom>
            <a:solidFill>
              <a:srgbClr val="ffdf8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36" name="Freeform 99"/>
            <p:cNvSpPr/>
            <p:nvPr/>
          </p:nvSpPr>
          <p:spPr>
            <a:xfrm>
              <a:off x="3647160" y="1649520"/>
              <a:ext cx="363240" cy="345960"/>
            </a:xfrm>
            <a:custGeom>
              <a:avLst/>
              <a:gdLst/>
              <a:ahLst/>
              <a:rect l="l" t="t" r="r" b="b"/>
              <a:pathLst>
                <a:path w="975" h="930">
                  <a:moveTo>
                    <a:pt x="974" y="360"/>
                  </a:moveTo>
                  <a:lnTo>
                    <a:pt x="639" y="307"/>
                  </a:lnTo>
                  <a:lnTo>
                    <a:pt x="492" y="0"/>
                  </a:lnTo>
                  <a:lnTo>
                    <a:pt x="338" y="302"/>
                  </a:lnTo>
                  <a:lnTo>
                    <a:pt x="0" y="345"/>
                  </a:lnTo>
                  <a:lnTo>
                    <a:pt x="241" y="586"/>
                  </a:lnTo>
                  <a:lnTo>
                    <a:pt x="177" y="920"/>
                  </a:lnTo>
                  <a:lnTo>
                    <a:pt x="481" y="766"/>
                  </a:lnTo>
                  <a:lnTo>
                    <a:pt x="779" y="929"/>
                  </a:lnTo>
                  <a:lnTo>
                    <a:pt x="727" y="594"/>
                  </a:lnTo>
                  <a:lnTo>
                    <a:pt x="974" y="360"/>
                  </a:lnTo>
                </a:path>
              </a:pathLst>
            </a:custGeom>
            <a:solidFill>
              <a:srgbClr val="ffdf8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37" name="Freeform 100"/>
            <p:cNvSpPr/>
            <p:nvPr/>
          </p:nvSpPr>
          <p:spPr>
            <a:xfrm>
              <a:off x="4078440" y="1649520"/>
              <a:ext cx="363240" cy="345960"/>
            </a:xfrm>
            <a:custGeom>
              <a:avLst/>
              <a:gdLst/>
              <a:ahLst/>
              <a:rect l="l" t="t" r="r" b="b"/>
              <a:pathLst>
                <a:path w="975" h="930">
                  <a:moveTo>
                    <a:pt x="974" y="360"/>
                  </a:moveTo>
                  <a:lnTo>
                    <a:pt x="639" y="307"/>
                  </a:lnTo>
                  <a:lnTo>
                    <a:pt x="493" y="0"/>
                  </a:lnTo>
                  <a:lnTo>
                    <a:pt x="338" y="302"/>
                  </a:lnTo>
                  <a:lnTo>
                    <a:pt x="0" y="345"/>
                  </a:lnTo>
                  <a:lnTo>
                    <a:pt x="240" y="586"/>
                  </a:lnTo>
                  <a:lnTo>
                    <a:pt x="178" y="920"/>
                  </a:lnTo>
                  <a:lnTo>
                    <a:pt x="481" y="766"/>
                  </a:lnTo>
                  <a:lnTo>
                    <a:pt x="779" y="929"/>
                  </a:lnTo>
                  <a:lnTo>
                    <a:pt x="727" y="594"/>
                  </a:lnTo>
                  <a:lnTo>
                    <a:pt x="974" y="360"/>
                  </a:lnTo>
                </a:path>
              </a:pathLst>
            </a:custGeom>
            <a:solidFill>
              <a:srgbClr val="ffdf82">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738" name="Oval 64"/>
          <p:cNvSpPr/>
          <p:nvPr/>
        </p:nvSpPr>
        <p:spPr>
          <a:xfrm>
            <a:off x="717480" y="1428840"/>
            <a:ext cx="746280" cy="744480"/>
          </a:xfrm>
          <a:prstGeom prst="ellipse">
            <a:avLst/>
          </a:prstGeom>
          <a:solidFill>
            <a:srgbClr val="03022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39" name="Graphic 63" descr="Female"/>
          <p:cNvPicPr/>
          <p:nvPr/>
        </p:nvPicPr>
        <p:blipFill>
          <a:blip r:embed="rId1"/>
          <a:stretch/>
        </p:blipFill>
        <p:spPr>
          <a:xfrm>
            <a:off x="789120" y="1521000"/>
            <a:ext cx="603000" cy="603000"/>
          </a:xfrm>
          <a:prstGeom prst="rect">
            <a:avLst/>
          </a:prstGeom>
          <a:ln w="0">
            <a:noFill/>
          </a:ln>
        </p:spPr>
      </p:pic>
      <p:sp>
        <p:nvSpPr>
          <p:cNvPr id="740" name="TextBox 107"/>
          <p:cNvSpPr/>
          <p:nvPr/>
        </p:nvSpPr>
        <p:spPr>
          <a:xfrm>
            <a:off x="735120" y="2422440"/>
            <a:ext cx="52527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a6a6a6"/>
                </a:solidFill>
                <a:latin typeface="Open Sans"/>
                <a:ea typeface="Open Sans"/>
              </a:rPr>
              <a:t>Lorem ipsum dolor sit amet, consectetur adipiscing elit, sed do eiusmod tempor incididunt ut labore et dolore magna aliqua. Ut enim ad minim veniam, dolore magna aliqua. Ut enim ad minim veniam,</a:t>
            </a:r>
            <a:endParaRPr b="0" lang="en-US" sz="1100" spc="-1" strike="noStrike">
              <a:solidFill>
                <a:srgbClr val="000000"/>
              </a:solidFill>
              <a:latin typeface="Calibri"/>
            </a:endParaRPr>
          </a:p>
        </p:txBody>
      </p:sp>
      <p:sp>
        <p:nvSpPr>
          <p:cNvPr id="741" name="Freeform 8"/>
          <p:cNvSpPr/>
          <p:nvPr/>
        </p:nvSpPr>
        <p:spPr>
          <a:xfrm>
            <a:off x="4851360" y="4876920"/>
            <a:ext cx="895320" cy="895320"/>
          </a:xfrm>
          <a:custGeom>
            <a:avLst/>
            <a:gdLst/>
            <a:ahLst/>
            <a:rect l="l" t="t" r="r" b="b"/>
            <a:pathLst>
              <a:path w="2863" h="2862">
                <a:moveTo>
                  <a:pt x="1431" y="57"/>
                </a:moveTo>
                <a:lnTo>
                  <a:pt x="1431" y="57"/>
                </a:lnTo>
                <a:cubicBezTo>
                  <a:pt x="673" y="57"/>
                  <a:pt x="57" y="673"/>
                  <a:pt x="57" y="1431"/>
                </a:cubicBezTo>
                <a:lnTo>
                  <a:pt x="57" y="1431"/>
                </a:lnTo>
                <a:cubicBezTo>
                  <a:pt x="57" y="2189"/>
                  <a:pt x="673" y="2805"/>
                  <a:pt x="1431" y="2805"/>
                </a:cubicBezTo>
                <a:lnTo>
                  <a:pt x="1431" y="2805"/>
                </a:lnTo>
                <a:cubicBezTo>
                  <a:pt x="2189" y="2805"/>
                  <a:pt x="2806" y="2189"/>
                  <a:pt x="2806" y="1431"/>
                </a:cubicBezTo>
                <a:lnTo>
                  <a:pt x="2806" y="1431"/>
                </a:lnTo>
                <a:cubicBezTo>
                  <a:pt x="2806" y="673"/>
                  <a:pt x="2189" y="57"/>
                  <a:pt x="1431" y="57"/>
                </a:cubicBezTo>
                <a:close/>
                <a:moveTo>
                  <a:pt x="1431" y="2861"/>
                </a:moveTo>
                <a:lnTo>
                  <a:pt x="1431" y="2861"/>
                </a:lnTo>
                <a:cubicBezTo>
                  <a:pt x="642" y="2861"/>
                  <a:pt x="0" y="2220"/>
                  <a:pt x="0" y="1431"/>
                </a:cubicBezTo>
                <a:lnTo>
                  <a:pt x="0" y="1431"/>
                </a:lnTo>
                <a:cubicBezTo>
                  <a:pt x="0" y="642"/>
                  <a:pt x="642" y="0"/>
                  <a:pt x="1431" y="0"/>
                </a:cubicBezTo>
                <a:lnTo>
                  <a:pt x="1431" y="0"/>
                </a:lnTo>
                <a:cubicBezTo>
                  <a:pt x="2220" y="0"/>
                  <a:pt x="2862" y="642"/>
                  <a:pt x="2862" y="1431"/>
                </a:cubicBezTo>
                <a:lnTo>
                  <a:pt x="2862" y="1431"/>
                </a:lnTo>
                <a:cubicBezTo>
                  <a:pt x="2862" y="2220"/>
                  <a:pt x="2220" y="2861"/>
                  <a:pt x="1431" y="2861"/>
                </a:cubicBezTo>
                <a:close/>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42" name="Freeform 16"/>
          <p:cNvSpPr/>
          <p:nvPr/>
        </p:nvSpPr>
        <p:spPr>
          <a:xfrm>
            <a:off x="3814920" y="4876920"/>
            <a:ext cx="895320" cy="895320"/>
          </a:xfrm>
          <a:custGeom>
            <a:avLst/>
            <a:gdLst/>
            <a:ahLst/>
            <a:rect l="l" t="t" r="r" b="b"/>
            <a:pathLst>
              <a:path w="2863" h="2862">
                <a:moveTo>
                  <a:pt x="1432" y="57"/>
                </a:moveTo>
                <a:lnTo>
                  <a:pt x="1432" y="57"/>
                </a:lnTo>
                <a:cubicBezTo>
                  <a:pt x="673" y="57"/>
                  <a:pt x="57" y="673"/>
                  <a:pt x="57" y="1431"/>
                </a:cubicBezTo>
                <a:lnTo>
                  <a:pt x="57" y="1431"/>
                </a:lnTo>
                <a:cubicBezTo>
                  <a:pt x="57" y="2189"/>
                  <a:pt x="673" y="2805"/>
                  <a:pt x="1432" y="2805"/>
                </a:cubicBezTo>
                <a:lnTo>
                  <a:pt x="1432" y="2805"/>
                </a:lnTo>
                <a:cubicBezTo>
                  <a:pt x="2189" y="2805"/>
                  <a:pt x="2805" y="2189"/>
                  <a:pt x="2805" y="1431"/>
                </a:cubicBezTo>
                <a:lnTo>
                  <a:pt x="2805" y="1431"/>
                </a:lnTo>
                <a:cubicBezTo>
                  <a:pt x="2805" y="673"/>
                  <a:pt x="2189" y="57"/>
                  <a:pt x="1432" y="57"/>
                </a:cubicBezTo>
                <a:close/>
                <a:moveTo>
                  <a:pt x="1432" y="2861"/>
                </a:moveTo>
                <a:lnTo>
                  <a:pt x="1432" y="2861"/>
                </a:lnTo>
                <a:cubicBezTo>
                  <a:pt x="643" y="2861"/>
                  <a:pt x="0" y="2220"/>
                  <a:pt x="0" y="1431"/>
                </a:cubicBezTo>
                <a:lnTo>
                  <a:pt x="0" y="1431"/>
                </a:lnTo>
                <a:cubicBezTo>
                  <a:pt x="0" y="642"/>
                  <a:pt x="643" y="0"/>
                  <a:pt x="1432" y="0"/>
                </a:cubicBezTo>
                <a:lnTo>
                  <a:pt x="1432" y="0"/>
                </a:lnTo>
                <a:cubicBezTo>
                  <a:pt x="2221" y="0"/>
                  <a:pt x="2862" y="642"/>
                  <a:pt x="2862" y="1431"/>
                </a:cubicBezTo>
                <a:lnTo>
                  <a:pt x="2862" y="1431"/>
                </a:lnTo>
                <a:cubicBezTo>
                  <a:pt x="2862" y="2220"/>
                  <a:pt x="2221" y="2861"/>
                  <a:pt x="1432" y="2861"/>
                </a:cubicBezTo>
                <a:close/>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43" name="TextBox 115"/>
          <p:cNvSpPr/>
          <p:nvPr/>
        </p:nvSpPr>
        <p:spPr>
          <a:xfrm>
            <a:off x="3859200" y="5888160"/>
            <a:ext cx="806400" cy="53820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30227"/>
                </a:solidFill>
                <a:latin typeface="Raleway"/>
              </a:rPr>
              <a:t>Music</a:t>
            </a:r>
            <a:endParaRPr b="0" lang="en-US" sz="1100" spc="-1" strike="noStrike">
              <a:solidFill>
                <a:srgbClr val="000000"/>
              </a:solidFill>
              <a:latin typeface="Calibri"/>
            </a:endParaRPr>
          </a:p>
        </p:txBody>
      </p:sp>
      <p:sp>
        <p:nvSpPr>
          <p:cNvPr id="744" name="TextBox 116"/>
          <p:cNvSpPr/>
          <p:nvPr/>
        </p:nvSpPr>
        <p:spPr>
          <a:xfrm>
            <a:off x="4896000" y="5886360"/>
            <a:ext cx="806400" cy="53820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30227"/>
                </a:solidFill>
                <a:latin typeface="Raleway"/>
              </a:rPr>
              <a:t>Time</a:t>
            </a:r>
            <a:endParaRPr b="0" lang="en-US" sz="1100" spc="-1" strike="noStrike">
              <a:solidFill>
                <a:srgbClr val="000000"/>
              </a:solidFill>
              <a:latin typeface="Calibri"/>
            </a:endParaRPr>
          </a:p>
        </p:txBody>
      </p:sp>
      <p:grpSp>
        <p:nvGrpSpPr>
          <p:cNvPr id="745" name="Group 117"/>
          <p:cNvGrpSpPr/>
          <p:nvPr/>
        </p:nvGrpSpPr>
        <p:grpSpPr>
          <a:xfrm>
            <a:off x="6653160" y="3657600"/>
            <a:ext cx="4748400" cy="746280"/>
            <a:chOff x="6653160" y="3657600"/>
            <a:chExt cx="4748400" cy="746280"/>
          </a:xfrm>
        </p:grpSpPr>
        <p:sp>
          <p:nvSpPr>
            <p:cNvPr id="746" name="Freeform 20"/>
            <p:cNvSpPr/>
            <p:nvPr/>
          </p:nvSpPr>
          <p:spPr>
            <a:xfrm>
              <a:off x="665316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47" name="Freeform 21"/>
            <p:cNvSpPr/>
            <p:nvPr/>
          </p:nvSpPr>
          <p:spPr>
            <a:xfrm>
              <a:off x="690984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48" name="Freeform 22"/>
            <p:cNvSpPr/>
            <p:nvPr/>
          </p:nvSpPr>
          <p:spPr>
            <a:xfrm>
              <a:off x="716436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49" name="Freeform 23"/>
            <p:cNvSpPr/>
            <p:nvPr/>
          </p:nvSpPr>
          <p:spPr>
            <a:xfrm>
              <a:off x="7418880" y="3657600"/>
              <a:ext cx="160920" cy="321480"/>
            </a:xfrm>
            <a:custGeom>
              <a:avLst/>
              <a:gdLst/>
              <a:ahLst/>
              <a:rect l="l" t="t" r="r" b="b"/>
              <a:pathLst>
                <a:path w="328" h="826">
                  <a:moveTo>
                    <a:pt x="327" y="825"/>
                  </a:moveTo>
                  <a:lnTo>
                    <a:pt x="0" y="825"/>
                  </a:lnTo>
                  <a:lnTo>
                    <a:pt x="0" y="0"/>
                  </a:lnTo>
                  <a:lnTo>
                    <a:pt x="327" y="0"/>
                  </a:lnTo>
                  <a:lnTo>
                    <a:pt x="327" y="825"/>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50" name="Freeform 24"/>
            <p:cNvSpPr/>
            <p:nvPr/>
          </p:nvSpPr>
          <p:spPr>
            <a:xfrm>
              <a:off x="767376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51" name="Freeform 25"/>
            <p:cNvSpPr/>
            <p:nvPr/>
          </p:nvSpPr>
          <p:spPr>
            <a:xfrm>
              <a:off x="792828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52" name="Freeform 26"/>
            <p:cNvSpPr/>
            <p:nvPr/>
          </p:nvSpPr>
          <p:spPr>
            <a:xfrm>
              <a:off x="818280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53" name="Freeform 27"/>
            <p:cNvSpPr/>
            <p:nvPr/>
          </p:nvSpPr>
          <p:spPr>
            <a:xfrm>
              <a:off x="8437680" y="3657600"/>
              <a:ext cx="160920" cy="321480"/>
            </a:xfrm>
            <a:custGeom>
              <a:avLst/>
              <a:gdLst/>
              <a:ahLst/>
              <a:rect l="l" t="t" r="r" b="b"/>
              <a:pathLst>
                <a:path w="328" h="826">
                  <a:moveTo>
                    <a:pt x="327" y="825"/>
                  </a:moveTo>
                  <a:lnTo>
                    <a:pt x="0" y="825"/>
                  </a:lnTo>
                  <a:lnTo>
                    <a:pt x="0" y="0"/>
                  </a:lnTo>
                  <a:lnTo>
                    <a:pt x="327" y="0"/>
                  </a:lnTo>
                  <a:lnTo>
                    <a:pt x="327" y="825"/>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54" name="Freeform 28"/>
            <p:cNvSpPr/>
            <p:nvPr/>
          </p:nvSpPr>
          <p:spPr>
            <a:xfrm>
              <a:off x="869220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55" name="Freeform 29"/>
            <p:cNvSpPr/>
            <p:nvPr/>
          </p:nvSpPr>
          <p:spPr>
            <a:xfrm>
              <a:off x="894672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56" name="Freeform 30"/>
            <p:cNvSpPr/>
            <p:nvPr/>
          </p:nvSpPr>
          <p:spPr>
            <a:xfrm>
              <a:off x="920376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06d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57" name="Freeform 31"/>
            <p:cNvSpPr/>
            <p:nvPr/>
          </p:nvSpPr>
          <p:spPr>
            <a:xfrm>
              <a:off x="945828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58" name="Freeform 32"/>
            <p:cNvSpPr/>
            <p:nvPr/>
          </p:nvSpPr>
          <p:spPr>
            <a:xfrm>
              <a:off x="971280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59" name="Freeform 33"/>
            <p:cNvSpPr/>
            <p:nvPr/>
          </p:nvSpPr>
          <p:spPr>
            <a:xfrm>
              <a:off x="996768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60" name="Freeform 34"/>
            <p:cNvSpPr/>
            <p:nvPr/>
          </p:nvSpPr>
          <p:spPr>
            <a:xfrm>
              <a:off x="1022220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61" name="Freeform 35"/>
            <p:cNvSpPr/>
            <p:nvPr/>
          </p:nvSpPr>
          <p:spPr>
            <a:xfrm>
              <a:off x="1047672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62" name="Freeform 36"/>
            <p:cNvSpPr/>
            <p:nvPr/>
          </p:nvSpPr>
          <p:spPr>
            <a:xfrm>
              <a:off x="1073160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63" name="Freeform 37"/>
            <p:cNvSpPr/>
            <p:nvPr/>
          </p:nvSpPr>
          <p:spPr>
            <a:xfrm>
              <a:off x="1098612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64" name="Freeform 38"/>
            <p:cNvSpPr/>
            <p:nvPr/>
          </p:nvSpPr>
          <p:spPr>
            <a:xfrm>
              <a:off x="1124064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65" name="Freeform 39"/>
            <p:cNvSpPr/>
            <p:nvPr/>
          </p:nvSpPr>
          <p:spPr>
            <a:xfrm>
              <a:off x="665316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66" name="Freeform 40"/>
            <p:cNvSpPr/>
            <p:nvPr/>
          </p:nvSpPr>
          <p:spPr>
            <a:xfrm>
              <a:off x="690984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67" name="Freeform 41"/>
            <p:cNvSpPr/>
            <p:nvPr/>
          </p:nvSpPr>
          <p:spPr>
            <a:xfrm>
              <a:off x="716436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68" name="Freeform 42"/>
            <p:cNvSpPr/>
            <p:nvPr/>
          </p:nvSpPr>
          <p:spPr>
            <a:xfrm>
              <a:off x="7418880" y="4080600"/>
              <a:ext cx="160920" cy="323280"/>
            </a:xfrm>
            <a:custGeom>
              <a:avLst/>
              <a:gdLst/>
              <a:ahLst/>
              <a:rect l="l" t="t" r="r" b="b"/>
              <a:pathLst>
                <a:path w="328" h="827">
                  <a:moveTo>
                    <a:pt x="327" y="826"/>
                  </a:moveTo>
                  <a:lnTo>
                    <a:pt x="0" y="826"/>
                  </a:lnTo>
                  <a:lnTo>
                    <a:pt x="0" y="0"/>
                  </a:lnTo>
                  <a:lnTo>
                    <a:pt x="327" y="0"/>
                  </a:lnTo>
                  <a:lnTo>
                    <a:pt x="327" y="826"/>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69" name="Freeform 43"/>
            <p:cNvSpPr/>
            <p:nvPr/>
          </p:nvSpPr>
          <p:spPr>
            <a:xfrm>
              <a:off x="767376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70" name="Freeform 44"/>
            <p:cNvSpPr/>
            <p:nvPr/>
          </p:nvSpPr>
          <p:spPr>
            <a:xfrm>
              <a:off x="792828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71" name="Freeform 45"/>
            <p:cNvSpPr/>
            <p:nvPr/>
          </p:nvSpPr>
          <p:spPr>
            <a:xfrm>
              <a:off x="818280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72" name="Freeform 46"/>
            <p:cNvSpPr/>
            <p:nvPr/>
          </p:nvSpPr>
          <p:spPr>
            <a:xfrm>
              <a:off x="8437680" y="4080600"/>
              <a:ext cx="160920" cy="323280"/>
            </a:xfrm>
            <a:custGeom>
              <a:avLst/>
              <a:gdLst/>
              <a:ahLst/>
              <a:rect l="l" t="t" r="r" b="b"/>
              <a:pathLst>
                <a:path w="328" h="827">
                  <a:moveTo>
                    <a:pt x="327" y="826"/>
                  </a:moveTo>
                  <a:lnTo>
                    <a:pt x="0" y="826"/>
                  </a:lnTo>
                  <a:lnTo>
                    <a:pt x="0" y="0"/>
                  </a:lnTo>
                  <a:lnTo>
                    <a:pt x="327" y="0"/>
                  </a:lnTo>
                  <a:lnTo>
                    <a:pt x="327" y="826"/>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73" name="Freeform 47"/>
            <p:cNvSpPr/>
            <p:nvPr/>
          </p:nvSpPr>
          <p:spPr>
            <a:xfrm>
              <a:off x="869220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74" name="Freeform 48"/>
            <p:cNvSpPr/>
            <p:nvPr/>
          </p:nvSpPr>
          <p:spPr>
            <a:xfrm>
              <a:off x="894672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75" name="Freeform 49"/>
            <p:cNvSpPr/>
            <p:nvPr/>
          </p:nvSpPr>
          <p:spPr>
            <a:xfrm>
              <a:off x="920376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76" name="Freeform 50"/>
            <p:cNvSpPr/>
            <p:nvPr/>
          </p:nvSpPr>
          <p:spPr>
            <a:xfrm>
              <a:off x="945828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77" name="Freeform 51"/>
            <p:cNvSpPr/>
            <p:nvPr/>
          </p:nvSpPr>
          <p:spPr>
            <a:xfrm>
              <a:off x="971280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78" name="Freeform 52"/>
            <p:cNvSpPr/>
            <p:nvPr/>
          </p:nvSpPr>
          <p:spPr>
            <a:xfrm>
              <a:off x="996768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79" name="Freeform 53"/>
            <p:cNvSpPr/>
            <p:nvPr/>
          </p:nvSpPr>
          <p:spPr>
            <a:xfrm>
              <a:off x="1022220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80" name="Freeform 54"/>
            <p:cNvSpPr/>
            <p:nvPr/>
          </p:nvSpPr>
          <p:spPr>
            <a:xfrm>
              <a:off x="1047672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81" name="Freeform 55"/>
            <p:cNvSpPr/>
            <p:nvPr/>
          </p:nvSpPr>
          <p:spPr>
            <a:xfrm>
              <a:off x="1073160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82" name="Freeform 56"/>
            <p:cNvSpPr/>
            <p:nvPr/>
          </p:nvSpPr>
          <p:spPr>
            <a:xfrm>
              <a:off x="1098612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83" name="Freeform 57"/>
            <p:cNvSpPr/>
            <p:nvPr/>
          </p:nvSpPr>
          <p:spPr>
            <a:xfrm>
              <a:off x="1124064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784" name="Freeform 8"/>
          <p:cNvSpPr/>
          <p:nvPr/>
        </p:nvSpPr>
        <p:spPr>
          <a:xfrm>
            <a:off x="8623440" y="4876920"/>
            <a:ext cx="895320" cy="895320"/>
          </a:xfrm>
          <a:custGeom>
            <a:avLst/>
            <a:gdLst/>
            <a:ahLst/>
            <a:rect l="l" t="t" r="r" b="b"/>
            <a:pathLst>
              <a:path w="2863" h="2862">
                <a:moveTo>
                  <a:pt x="1431" y="57"/>
                </a:moveTo>
                <a:lnTo>
                  <a:pt x="1431" y="57"/>
                </a:lnTo>
                <a:cubicBezTo>
                  <a:pt x="673" y="57"/>
                  <a:pt x="57" y="673"/>
                  <a:pt x="57" y="1431"/>
                </a:cubicBezTo>
                <a:lnTo>
                  <a:pt x="57" y="1431"/>
                </a:lnTo>
                <a:cubicBezTo>
                  <a:pt x="57" y="2189"/>
                  <a:pt x="673" y="2805"/>
                  <a:pt x="1431" y="2805"/>
                </a:cubicBezTo>
                <a:lnTo>
                  <a:pt x="1431" y="2805"/>
                </a:lnTo>
                <a:cubicBezTo>
                  <a:pt x="2189" y="2805"/>
                  <a:pt x="2806" y="2189"/>
                  <a:pt x="2806" y="1431"/>
                </a:cubicBezTo>
                <a:lnTo>
                  <a:pt x="2806" y="1431"/>
                </a:lnTo>
                <a:cubicBezTo>
                  <a:pt x="2806" y="673"/>
                  <a:pt x="2189" y="57"/>
                  <a:pt x="1431" y="57"/>
                </a:cubicBezTo>
                <a:close/>
                <a:moveTo>
                  <a:pt x="1431" y="2861"/>
                </a:moveTo>
                <a:lnTo>
                  <a:pt x="1431" y="2861"/>
                </a:lnTo>
                <a:cubicBezTo>
                  <a:pt x="642" y="2861"/>
                  <a:pt x="0" y="2220"/>
                  <a:pt x="0" y="1431"/>
                </a:cubicBezTo>
                <a:lnTo>
                  <a:pt x="0" y="1431"/>
                </a:lnTo>
                <a:cubicBezTo>
                  <a:pt x="0" y="642"/>
                  <a:pt x="642" y="0"/>
                  <a:pt x="1431" y="0"/>
                </a:cubicBezTo>
                <a:lnTo>
                  <a:pt x="1431" y="0"/>
                </a:lnTo>
                <a:cubicBezTo>
                  <a:pt x="2220" y="0"/>
                  <a:pt x="2862" y="642"/>
                  <a:pt x="2862" y="1431"/>
                </a:cubicBezTo>
                <a:lnTo>
                  <a:pt x="2862" y="1431"/>
                </a:lnTo>
                <a:cubicBezTo>
                  <a:pt x="2862" y="2220"/>
                  <a:pt x="2220" y="2861"/>
                  <a:pt x="1431" y="2861"/>
                </a:cubicBezTo>
                <a:close/>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85" name="Freeform 9"/>
          <p:cNvSpPr/>
          <p:nvPr/>
        </p:nvSpPr>
        <p:spPr>
          <a:xfrm>
            <a:off x="8937720" y="5172120"/>
            <a:ext cx="252360" cy="264960"/>
          </a:xfrm>
          <a:custGeom>
            <a:avLst/>
            <a:gdLst/>
            <a:ahLst/>
            <a:rect l="l" t="t" r="r" b="b"/>
            <a:pathLst>
              <a:path w="809" h="846">
                <a:moveTo>
                  <a:pt x="441" y="699"/>
                </a:moveTo>
                <a:lnTo>
                  <a:pt x="514" y="699"/>
                </a:lnTo>
                <a:lnTo>
                  <a:pt x="514" y="625"/>
                </a:lnTo>
                <a:lnTo>
                  <a:pt x="441" y="625"/>
                </a:lnTo>
                <a:lnTo>
                  <a:pt x="441" y="699"/>
                </a:lnTo>
                <a:close/>
                <a:moveTo>
                  <a:pt x="294" y="699"/>
                </a:moveTo>
                <a:lnTo>
                  <a:pt x="367" y="699"/>
                </a:lnTo>
                <a:lnTo>
                  <a:pt x="367" y="625"/>
                </a:lnTo>
                <a:lnTo>
                  <a:pt x="294" y="625"/>
                </a:lnTo>
                <a:lnTo>
                  <a:pt x="294" y="699"/>
                </a:lnTo>
                <a:close/>
                <a:moveTo>
                  <a:pt x="146" y="699"/>
                </a:moveTo>
                <a:lnTo>
                  <a:pt x="220" y="699"/>
                </a:lnTo>
                <a:lnTo>
                  <a:pt x="220" y="625"/>
                </a:lnTo>
                <a:lnTo>
                  <a:pt x="146" y="625"/>
                </a:lnTo>
                <a:lnTo>
                  <a:pt x="146" y="699"/>
                </a:lnTo>
                <a:close/>
                <a:moveTo>
                  <a:pt x="588" y="552"/>
                </a:moveTo>
                <a:lnTo>
                  <a:pt x="661" y="552"/>
                </a:lnTo>
                <a:lnTo>
                  <a:pt x="661" y="478"/>
                </a:lnTo>
                <a:lnTo>
                  <a:pt x="588" y="478"/>
                </a:lnTo>
                <a:lnTo>
                  <a:pt x="588" y="552"/>
                </a:lnTo>
                <a:close/>
                <a:moveTo>
                  <a:pt x="441" y="552"/>
                </a:moveTo>
                <a:lnTo>
                  <a:pt x="514" y="552"/>
                </a:lnTo>
                <a:lnTo>
                  <a:pt x="514" y="478"/>
                </a:lnTo>
                <a:lnTo>
                  <a:pt x="441" y="478"/>
                </a:lnTo>
                <a:lnTo>
                  <a:pt x="441" y="552"/>
                </a:lnTo>
                <a:close/>
                <a:moveTo>
                  <a:pt x="294" y="552"/>
                </a:moveTo>
                <a:lnTo>
                  <a:pt x="367" y="552"/>
                </a:lnTo>
                <a:lnTo>
                  <a:pt x="367" y="478"/>
                </a:lnTo>
                <a:lnTo>
                  <a:pt x="294" y="478"/>
                </a:lnTo>
                <a:lnTo>
                  <a:pt x="294" y="552"/>
                </a:lnTo>
                <a:close/>
                <a:moveTo>
                  <a:pt x="146" y="552"/>
                </a:moveTo>
                <a:lnTo>
                  <a:pt x="220" y="552"/>
                </a:lnTo>
                <a:lnTo>
                  <a:pt x="220" y="478"/>
                </a:lnTo>
                <a:lnTo>
                  <a:pt x="146" y="478"/>
                </a:lnTo>
                <a:lnTo>
                  <a:pt x="146" y="552"/>
                </a:lnTo>
                <a:close/>
                <a:moveTo>
                  <a:pt x="588" y="405"/>
                </a:moveTo>
                <a:lnTo>
                  <a:pt x="661" y="405"/>
                </a:lnTo>
                <a:lnTo>
                  <a:pt x="661" y="331"/>
                </a:lnTo>
                <a:lnTo>
                  <a:pt x="588" y="331"/>
                </a:lnTo>
                <a:lnTo>
                  <a:pt x="588" y="405"/>
                </a:lnTo>
                <a:close/>
                <a:moveTo>
                  <a:pt x="441" y="405"/>
                </a:moveTo>
                <a:lnTo>
                  <a:pt x="514" y="405"/>
                </a:lnTo>
                <a:lnTo>
                  <a:pt x="514" y="331"/>
                </a:lnTo>
                <a:lnTo>
                  <a:pt x="441" y="331"/>
                </a:lnTo>
                <a:lnTo>
                  <a:pt x="441" y="405"/>
                </a:lnTo>
                <a:close/>
                <a:moveTo>
                  <a:pt x="294" y="405"/>
                </a:moveTo>
                <a:lnTo>
                  <a:pt x="367" y="405"/>
                </a:lnTo>
                <a:lnTo>
                  <a:pt x="367" y="331"/>
                </a:lnTo>
                <a:lnTo>
                  <a:pt x="294" y="331"/>
                </a:lnTo>
                <a:lnTo>
                  <a:pt x="294" y="405"/>
                </a:lnTo>
                <a:close/>
                <a:moveTo>
                  <a:pt x="73" y="258"/>
                </a:moveTo>
                <a:lnTo>
                  <a:pt x="734" y="258"/>
                </a:lnTo>
                <a:lnTo>
                  <a:pt x="734" y="772"/>
                </a:lnTo>
                <a:lnTo>
                  <a:pt x="73" y="772"/>
                </a:lnTo>
                <a:lnTo>
                  <a:pt x="73" y="258"/>
                </a:lnTo>
                <a:close/>
                <a:moveTo>
                  <a:pt x="73" y="110"/>
                </a:moveTo>
                <a:lnTo>
                  <a:pt x="146" y="110"/>
                </a:lnTo>
                <a:lnTo>
                  <a:pt x="146" y="147"/>
                </a:lnTo>
                <a:lnTo>
                  <a:pt x="220" y="147"/>
                </a:lnTo>
                <a:lnTo>
                  <a:pt x="220" y="110"/>
                </a:lnTo>
                <a:lnTo>
                  <a:pt x="588" y="110"/>
                </a:lnTo>
                <a:lnTo>
                  <a:pt x="588" y="147"/>
                </a:lnTo>
                <a:lnTo>
                  <a:pt x="661" y="147"/>
                </a:lnTo>
                <a:lnTo>
                  <a:pt x="661" y="110"/>
                </a:lnTo>
                <a:lnTo>
                  <a:pt x="734" y="110"/>
                </a:lnTo>
                <a:lnTo>
                  <a:pt x="734" y="184"/>
                </a:lnTo>
                <a:lnTo>
                  <a:pt x="73" y="184"/>
                </a:lnTo>
                <a:lnTo>
                  <a:pt x="73" y="110"/>
                </a:lnTo>
                <a:close/>
                <a:moveTo>
                  <a:pt x="146" y="0"/>
                </a:moveTo>
                <a:lnTo>
                  <a:pt x="146" y="37"/>
                </a:lnTo>
                <a:lnTo>
                  <a:pt x="0" y="37"/>
                </a:lnTo>
                <a:lnTo>
                  <a:pt x="0" y="845"/>
                </a:lnTo>
                <a:lnTo>
                  <a:pt x="808" y="845"/>
                </a:lnTo>
                <a:lnTo>
                  <a:pt x="808" y="37"/>
                </a:lnTo>
                <a:lnTo>
                  <a:pt x="661" y="37"/>
                </a:lnTo>
                <a:lnTo>
                  <a:pt x="661" y="0"/>
                </a:lnTo>
                <a:lnTo>
                  <a:pt x="588" y="0"/>
                </a:lnTo>
                <a:lnTo>
                  <a:pt x="588" y="37"/>
                </a:lnTo>
                <a:lnTo>
                  <a:pt x="220" y="37"/>
                </a:lnTo>
                <a:lnTo>
                  <a:pt x="220" y="0"/>
                </a:lnTo>
                <a:lnTo>
                  <a:pt x="146" y="0"/>
                </a:lnTo>
                <a:close/>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86" name="Freeform 12"/>
          <p:cNvSpPr/>
          <p:nvPr/>
        </p:nvSpPr>
        <p:spPr>
          <a:xfrm>
            <a:off x="6551640" y="4876920"/>
            <a:ext cx="895320" cy="895320"/>
          </a:xfrm>
          <a:custGeom>
            <a:avLst/>
            <a:gdLst/>
            <a:ahLst/>
            <a:rect l="l" t="t" r="r" b="b"/>
            <a:pathLst>
              <a:path w="2863" h="2862">
                <a:moveTo>
                  <a:pt x="1431" y="57"/>
                </a:moveTo>
                <a:lnTo>
                  <a:pt x="1431" y="57"/>
                </a:lnTo>
                <a:cubicBezTo>
                  <a:pt x="673" y="57"/>
                  <a:pt x="56" y="673"/>
                  <a:pt x="56" y="1431"/>
                </a:cubicBezTo>
                <a:lnTo>
                  <a:pt x="56" y="1431"/>
                </a:lnTo>
                <a:cubicBezTo>
                  <a:pt x="56" y="2189"/>
                  <a:pt x="673" y="2805"/>
                  <a:pt x="1431" y="2805"/>
                </a:cubicBezTo>
                <a:lnTo>
                  <a:pt x="1431" y="2805"/>
                </a:lnTo>
                <a:cubicBezTo>
                  <a:pt x="2189" y="2805"/>
                  <a:pt x="2805" y="2189"/>
                  <a:pt x="2805" y="1431"/>
                </a:cubicBezTo>
                <a:lnTo>
                  <a:pt x="2805" y="1431"/>
                </a:lnTo>
                <a:cubicBezTo>
                  <a:pt x="2805" y="673"/>
                  <a:pt x="2189" y="57"/>
                  <a:pt x="1431" y="57"/>
                </a:cubicBezTo>
                <a:close/>
                <a:moveTo>
                  <a:pt x="1431" y="2861"/>
                </a:moveTo>
                <a:lnTo>
                  <a:pt x="1431" y="2861"/>
                </a:lnTo>
                <a:cubicBezTo>
                  <a:pt x="642" y="2861"/>
                  <a:pt x="0" y="2220"/>
                  <a:pt x="0" y="1431"/>
                </a:cubicBezTo>
                <a:lnTo>
                  <a:pt x="0" y="1431"/>
                </a:lnTo>
                <a:cubicBezTo>
                  <a:pt x="0" y="642"/>
                  <a:pt x="642" y="0"/>
                  <a:pt x="1431" y="0"/>
                </a:cubicBezTo>
                <a:lnTo>
                  <a:pt x="1431" y="0"/>
                </a:lnTo>
                <a:cubicBezTo>
                  <a:pt x="2220" y="0"/>
                  <a:pt x="2862" y="642"/>
                  <a:pt x="2862" y="1431"/>
                </a:cubicBezTo>
                <a:lnTo>
                  <a:pt x="2862" y="1431"/>
                </a:lnTo>
                <a:cubicBezTo>
                  <a:pt x="2862" y="2220"/>
                  <a:pt x="2220" y="2861"/>
                  <a:pt x="1431" y="2861"/>
                </a:cubicBezTo>
                <a:close/>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87" name="Freeform 13"/>
          <p:cNvSpPr/>
          <p:nvPr/>
        </p:nvSpPr>
        <p:spPr>
          <a:xfrm>
            <a:off x="6856560" y="5172120"/>
            <a:ext cx="279360" cy="299880"/>
          </a:xfrm>
          <a:custGeom>
            <a:avLst/>
            <a:gdLst/>
            <a:ahLst/>
            <a:rect l="l" t="t" r="r" b="b"/>
            <a:pathLst>
              <a:path w="895" h="957">
                <a:moveTo>
                  <a:pt x="193" y="636"/>
                </a:moveTo>
                <a:lnTo>
                  <a:pt x="193" y="636"/>
                </a:lnTo>
                <a:cubicBezTo>
                  <a:pt x="209" y="650"/>
                  <a:pt x="229" y="659"/>
                  <a:pt x="251" y="661"/>
                </a:cubicBezTo>
                <a:lnTo>
                  <a:pt x="252" y="661"/>
                </a:lnTo>
                <a:lnTo>
                  <a:pt x="322" y="671"/>
                </a:lnTo>
                <a:lnTo>
                  <a:pt x="338" y="683"/>
                </a:lnTo>
                <a:lnTo>
                  <a:pt x="259" y="802"/>
                </a:lnTo>
                <a:lnTo>
                  <a:pt x="235" y="744"/>
                </a:lnTo>
                <a:lnTo>
                  <a:pt x="226" y="720"/>
                </a:lnTo>
                <a:lnTo>
                  <a:pt x="137" y="720"/>
                </a:lnTo>
                <a:lnTo>
                  <a:pt x="193" y="636"/>
                </a:lnTo>
                <a:close/>
                <a:moveTo>
                  <a:pt x="701" y="634"/>
                </a:moveTo>
                <a:lnTo>
                  <a:pt x="757" y="720"/>
                </a:lnTo>
                <a:lnTo>
                  <a:pt x="669" y="720"/>
                </a:lnTo>
                <a:lnTo>
                  <a:pt x="660" y="744"/>
                </a:lnTo>
                <a:lnTo>
                  <a:pt x="634" y="802"/>
                </a:lnTo>
                <a:lnTo>
                  <a:pt x="556" y="683"/>
                </a:lnTo>
                <a:lnTo>
                  <a:pt x="574" y="670"/>
                </a:lnTo>
                <a:lnTo>
                  <a:pt x="645" y="658"/>
                </a:lnTo>
                <a:lnTo>
                  <a:pt x="645" y="658"/>
                </a:lnTo>
                <a:lnTo>
                  <a:pt x="645" y="658"/>
                </a:lnTo>
                <a:cubicBezTo>
                  <a:pt x="646" y="658"/>
                  <a:pt x="647" y="658"/>
                  <a:pt x="648" y="658"/>
                </a:cubicBezTo>
                <a:lnTo>
                  <a:pt x="648" y="658"/>
                </a:lnTo>
                <a:cubicBezTo>
                  <a:pt x="668" y="655"/>
                  <a:pt x="686" y="646"/>
                  <a:pt x="701" y="634"/>
                </a:cubicBezTo>
                <a:lnTo>
                  <a:pt x="447" y="75"/>
                </a:lnTo>
                <a:lnTo>
                  <a:pt x="447" y="75"/>
                </a:lnTo>
                <a:cubicBezTo>
                  <a:pt x="455" y="75"/>
                  <a:pt x="464" y="77"/>
                  <a:pt x="470" y="82"/>
                </a:cubicBezTo>
                <a:lnTo>
                  <a:pt x="536" y="129"/>
                </a:lnTo>
                <a:lnTo>
                  <a:pt x="543" y="135"/>
                </a:lnTo>
                <a:lnTo>
                  <a:pt x="553" y="135"/>
                </a:lnTo>
                <a:lnTo>
                  <a:pt x="633" y="147"/>
                </a:lnTo>
                <a:lnTo>
                  <a:pt x="634" y="147"/>
                </a:lnTo>
                <a:lnTo>
                  <a:pt x="634" y="147"/>
                </a:lnTo>
                <a:cubicBezTo>
                  <a:pt x="650" y="149"/>
                  <a:pt x="662" y="161"/>
                  <a:pt x="664" y="177"/>
                </a:cubicBezTo>
                <a:lnTo>
                  <a:pt x="664" y="179"/>
                </a:lnTo>
                <a:lnTo>
                  <a:pt x="679" y="261"/>
                </a:lnTo>
                <a:lnTo>
                  <a:pt x="680" y="269"/>
                </a:lnTo>
                <a:lnTo>
                  <a:pt x="686" y="276"/>
                </a:lnTo>
                <a:lnTo>
                  <a:pt x="733" y="341"/>
                </a:lnTo>
                <a:lnTo>
                  <a:pt x="733" y="341"/>
                </a:lnTo>
                <a:cubicBezTo>
                  <a:pt x="741" y="354"/>
                  <a:pt x="743" y="374"/>
                  <a:pt x="732" y="392"/>
                </a:cubicBezTo>
                <a:lnTo>
                  <a:pt x="680" y="464"/>
                </a:lnTo>
                <a:lnTo>
                  <a:pt x="679" y="474"/>
                </a:lnTo>
                <a:lnTo>
                  <a:pt x="667" y="554"/>
                </a:lnTo>
                <a:lnTo>
                  <a:pt x="667" y="555"/>
                </a:lnTo>
                <a:lnTo>
                  <a:pt x="667" y="555"/>
                </a:lnTo>
                <a:cubicBezTo>
                  <a:pt x="667" y="561"/>
                  <a:pt x="665" y="566"/>
                  <a:pt x="661" y="571"/>
                </a:cubicBezTo>
                <a:lnTo>
                  <a:pt x="660" y="572"/>
                </a:lnTo>
                <a:lnTo>
                  <a:pt x="660" y="573"/>
                </a:lnTo>
                <a:lnTo>
                  <a:pt x="660" y="573"/>
                </a:lnTo>
                <a:cubicBezTo>
                  <a:pt x="654" y="580"/>
                  <a:pt x="647" y="584"/>
                  <a:pt x="638" y="585"/>
                </a:cubicBezTo>
                <a:lnTo>
                  <a:pt x="635" y="585"/>
                </a:lnTo>
                <a:lnTo>
                  <a:pt x="552" y="600"/>
                </a:lnTo>
                <a:lnTo>
                  <a:pt x="542" y="601"/>
                </a:lnTo>
                <a:lnTo>
                  <a:pt x="536" y="607"/>
                </a:lnTo>
                <a:lnTo>
                  <a:pt x="470" y="654"/>
                </a:lnTo>
                <a:lnTo>
                  <a:pt x="470" y="654"/>
                </a:lnTo>
                <a:cubicBezTo>
                  <a:pt x="457" y="662"/>
                  <a:pt x="436" y="664"/>
                  <a:pt x="418" y="652"/>
                </a:cubicBezTo>
                <a:lnTo>
                  <a:pt x="359" y="607"/>
                </a:lnTo>
                <a:lnTo>
                  <a:pt x="352" y="601"/>
                </a:lnTo>
                <a:lnTo>
                  <a:pt x="341" y="600"/>
                </a:lnTo>
                <a:lnTo>
                  <a:pt x="261" y="588"/>
                </a:lnTo>
                <a:lnTo>
                  <a:pt x="259" y="588"/>
                </a:lnTo>
                <a:lnTo>
                  <a:pt x="259" y="588"/>
                </a:lnTo>
                <a:cubicBezTo>
                  <a:pt x="248" y="587"/>
                  <a:pt x="240" y="581"/>
                  <a:pt x="235" y="572"/>
                </a:cubicBezTo>
                <a:lnTo>
                  <a:pt x="235" y="572"/>
                </a:lnTo>
                <a:cubicBezTo>
                  <a:pt x="232" y="568"/>
                  <a:pt x="230" y="564"/>
                  <a:pt x="230" y="559"/>
                </a:cubicBezTo>
                <a:lnTo>
                  <a:pt x="230" y="556"/>
                </a:lnTo>
                <a:lnTo>
                  <a:pt x="215" y="472"/>
                </a:lnTo>
                <a:lnTo>
                  <a:pt x="214" y="464"/>
                </a:lnTo>
                <a:lnTo>
                  <a:pt x="208" y="456"/>
                </a:lnTo>
                <a:lnTo>
                  <a:pt x="161" y="391"/>
                </a:lnTo>
                <a:lnTo>
                  <a:pt x="161" y="391"/>
                </a:lnTo>
                <a:cubicBezTo>
                  <a:pt x="152" y="378"/>
                  <a:pt x="151" y="356"/>
                  <a:pt x="162" y="339"/>
                </a:cubicBezTo>
                <a:lnTo>
                  <a:pt x="208" y="280"/>
                </a:lnTo>
                <a:lnTo>
                  <a:pt x="214" y="272"/>
                </a:lnTo>
                <a:lnTo>
                  <a:pt x="215" y="262"/>
                </a:lnTo>
                <a:lnTo>
                  <a:pt x="226" y="185"/>
                </a:lnTo>
                <a:lnTo>
                  <a:pt x="226" y="185"/>
                </a:lnTo>
                <a:cubicBezTo>
                  <a:pt x="226" y="184"/>
                  <a:pt x="226" y="184"/>
                  <a:pt x="226" y="184"/>
                </a:cubicBezTo>
                <a:lnTo>
                  <a:pt x="226" y="184"/>
                </a:lnTo>
                <a:cubicBezTo>
                  <a:pt x="230" y="166"/>
                  <a:pt x="245" y="152"/>
                  <a:pt x="264" y="147"/>
                </a:cubicBezTo>
                <a:lnTo>
                  <a:pt x="264" y="147"/>
                </a:lnTo>
                <a:cubicBezTo>
                  <a:pt x="264" y="147"/>
                  <a:pt x="264" y="147"/>
                  <a:pt x="264" y="146"/>
                </a:cubicBezTo>
                <a:lnTo>
                  <a:pt x="341" y="135"/>
                </a:lnTo>
                <a:lnTo>
                  <a:pt x="350" y="135"/>
                </a:lnTo>
                <a:lnTo>
                  <a:pt x="359" y="129"/>
                </a:lnTo>
                <a:lnTo>
                  <a:pt x="424" y="82"/>
                </a:lnTo>
                <a:lnTo>
                  <a:pt x="424" y="82"/>
                </a:lnTo>
                <a:cubicBezTo>
                  <a:pt x="430" y="77"/>
                  <a:pt x="439" y="75"/>
                  <a:pt x="447" y="75"/>
                </a:cubicBezTo>
                <a:lnTo>
                  <a:pt x="701" y="634"/>
                </a:lnTo>
                <a:close/>
                <a:moveTo>
                  <a:pt x="447" y="0"/>
                </a:moveTo>
                <a:lnTo>
                  <a:pt x="447" y="0"/>
                </a:lnTo>
                <a:cubicBezTo>
                  <a:pt x="424" y="0"/>
                  <a:pt x="401" y="8"/>
                  <a:pt x="381" y="22"/>
                </a:cubicBezTo>
                <a:lnTo>
                  <a:pt x="321" y="65"/>
                </a:lnTo>
                <a:lnTo>
                  <a:pt x="251" y="74"/>
                </a:lnTo>
                <a:lnTo>
                  <a:pt x="249" y="74"/>
                </a:lnTo>
                <a:lnTo>
                  <a:pt x="248" y="75"/>
                </a:lnTo>
                <a:lnTo>
                  <a:pt x="248" y="75"/>
                </a:lnTo>
                <a:cubicBezTo>
                  <a:pt x="201" y="85"/>
                  <a:pt x="165" y="122"/>
                  <a:pt x="154" y="169"/>
                </a:cubicBezTo>
                <a:lnTo>
                  <a:pt x="153" y="170"/>
                </a:lnTo>
                <a:lnTo>
                  <a:pt x="153" y="171"/>
                </a:lnTo>
                <a:lnTo>
                  <a:pt x="144" y="243"/>
                </a:lnTo>
                <a:lnTo>
                  <a:pt x="101" y="298"/>
                </a:lnTo>
                <a:lnTo>
                  <a:pt x="100" y="299"/>
                </a:lnTo>
                <a:lnTo>
                  <a:pt x="100" y="300"/>
                </a:lnTo>
                <a:lnTo>
                  <a:pt x="100" y="300"/>
                </a:lnTo>
                <a:cubicBezTo>
                  <a:pt x="75" y="341"/>
                  <a:pt x="73" y="394"/>
                  <a:pt x="101" y="433"/>
                </a:cubicBezTo>
                <a:lnTo>
                  <a:pt x="144" y="494"/>
                </a:lnTo>
                <a:lnTo>
                  <a:pt x="156" y="557"/>
                </a:lnTo>
                <a:lnTo>
                  <a:pt x="38" y="738"/>
                </a:lnTo>
                <a:lnTo>
                  <a:pt x="0" y="794"/>
                </a:lnTo>
                <a:lnTo>
                  <a:pt x="176" y="794"/>
                </a:lnTo>
                <a:lnTo>
                  <a:pt x="218" y="892"/>
                </a:lnTo>
                <a:lnTo>
                  <a:pt x="245" y="956"/>
                </a:lnTo>
                <a:lnTo>
                  <a:pt x="283" y="898"/>
                </a:lnTo>
                <a:lnTo>
                  <a:pt x="399" y="724"/>
                </a:lnTo>
                <a:lnTo>
                  <a:pt x="399" y="724"/>
                </a:lnTo>
                <a:cubicBezTo>
                  <a:pt x="430" y="737"/>
                  <a:pt x="465" y="738"/>
                  <a:pt x="495" y="724"/>
                </a:cubicBezTo>
                <a:lnTo>
                  <a:pt x="611" y="898"/>
                </a:lnTo>
                <a:lnTo>
                  <a:pt x="649" y="956"/>
                </a:lnTo>
                <a:lnTo>
                  <a:pt x="676" y="892"/>
                </a:lnTo>
                <a:lnTo>
                  <a:pt x="718" y="794"/>
                </a:lnTo>
                <a:lnTo>
                  <a:pt x="894" y="794"/>
                </a:lnTo>
                <a:lnTo>
                  <a:pt x="856" y="738"/>
                </a:lnTo>
                <a:lnTo>
                  <a:pt x="741" y="563"/>
                </a:lnTo>
                <a:lnTo>
                  <a:pt x="750" y="494"/>
                </a:lnTo>
                <a:lnTo>
                  <a:pt x="793" y="433"/>
                </a:lnTo>
                <a:lnTo>
                  <a:pt x="794" y="432"/>
                </a:lnTo>
                <a:lnTo>
                  <a:pt x="794" y="431"/>
                </a:lnTo>
                <a:lnTo>
                  <a:pt x="794" y="431"/>
                </a:lnTo>
                <a:cubicBezTo>
                  <a:pt x="820" y="390"/>
                  <a:pt x="821" y="338"/>
                  <a:pt x="793" y="299"/>
                </a:cubicBezTo>
                <a:lnTo>
                  <a:pt x="750" y="237"/>
                </a:lnTo>
                <a:lnTo>
                  <a:pt x="736" y="169"/>
                </a:lnTo>
                <a:lnTo>
                  <a:pt x="737" y="169"/>
                </a:lnTo>
                <a:lnTo>
                  <a:pt x="737" y="169"/>
                </a:lnTo>
                <a:cubicBezTo>
                  <a:pt x="737" y="169"/>
                  <a:pt x="736" y="168"/>
                  <a:pt x="736" y="167"/>
                </a:cubicBezTo>
                <a:lnTo>
                  <a:pt x="736" y="167"/>
                </a:lnTo>
                <a:cubicBezTo>
                  <a:pt x="729" y="119"/>
                  <a:pt x="692" y="80"/>
                  <a:pt x="643" y="74"/>
                </a:cubicBezTo>
                <a:lnTo>
                  <a:pt x="642" y="74"/>
                </a:lnTo>
                <a:lnTo>
                  <a:pt x="574" y="65"/>
                </a:lnTo>
                <a:lnTo>
                  <a:pt x="512" y="22"/>
                </a:lnTo>
                <a:lnTo>
                  <a:pt x="512" y="22"/>
                </a:lnTo>
                <a:cubicBezTo>
                  <a:pt x="493" y="8"/>
                  <a:pt x="470" y="0"/>
                  <a:pt x="447" y="0"/>
                </a:cubicBezTo>
                <a:close/>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88" name="Freeform 16"/>
          <p:cNvSpPr/>
          <p:nvPr/>
        </p:nvSpPr>
        <p:spPr>
          <a:xfrm>
            <a:off x="7586640" y="4876920"/>
            <a:ext cx="895320" cy="895320"/>
          </a:xfrm>
          <a:custGeom>
            <a:avLst/>
            <a:gdLst/>
            <a:ahLst/>
            <a:rect l="l" t="t" r="r" b="b"/>
            <a:pathLst>
              <a:path w="2863" h="2862">
                <a:moveTo>
                  <a:pt x="1432" y="57"/>
                </a:moveTo>
                <a:lnTo>
                  <a:pt x="1432" y="57"/>
                </a:lnTo>
                <a:cubicBezTo>
                  <a:pt x="673" y="57"/>
                  <a:pt x="57" y="673"/>
                  <a:pt x="57" y="1431"/>
                </a:cubicBezTo>
                <a:lnTo>
                  <a:pt x="57" y="1431"/>
                </a:lnTo>
                <a:cubicBezTo>
                  <a:pt x="57" y="2189"/>
                  <a:pt x="673" y="2805"/>
                  <a:pt x="1432" y="2805"/>
                </a:cubicBezTo>
                <a:lnTo>
                  <a:pt x="1432" y="2805"/>
                </a:lnTo>
                <a:cubicBezTo>
                  <a:pt x="2189" y="2805"/>
                  <a:pt x="2805" y="2189"/>
                  <a:pt x="2805" y="1431"/>
                </a:cubicBezTo>
                <a:lnTo>
                  <a:pt x="2805" y="1431"/>
                </a:lnTo>
                <a:cubicBezTo>
                  <a:pt x="2805" y="673"/>
                  <a:pt x="2189" y="57"/>
                  <a:pt x="1432" y="57"/>
                </a:cubicBezTo>
                <a:close/>
                <a:moveTo>
                  <a:pt x="1432" y="2861"/>
                </a:moveTo>
                <a:lnTo>
                  <a:pt x="1432" y="2861"/>
                </a:lnTo>
                <a:cubicBezTo>
                  <a:pt x="643" y="2861"/>
                  <a:pt x="0" y="2220"/>
                  <a:pt x="0" y="1431"/>
                </a:cubicBezTo>
                <a:lnTo>
                  <a:pt x="0" y="1431"/>
                </a:lnTo>
                <a:cubicBezTo>
                  <a:pt x="0" y="642"/>
                  <a:pt x="643" y="0"/>
                  <a:pt x="1432" y="0"/>
                </a:cubicBezTo>
                <a:lnTo>
                  <a:pt x="1432" y="0"/>
                </a:lnTo>
                <a:cubicBezTo>
                  <a:pt x="2221" y="0"/>
                  <a:pt x="2862" y="642"/>
                  <a:pt x="2862" y="1431"/>
                </a:cubicBezTo>
                <a:lnTo>
                  <a:pt x="2862" y="1431"/>
                </a:lnTo>
                <a:cubicBezTo>
                  <a:pt x="2862" y="2220"/>
                  <a:pt x="2221" y="2861"/>
                  <a:pt x="1432" y="2861"/>
                </a:cubicBezTo>
                <a:close/>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89" name="Freeform 17"/>
          <p:cNvSpPr/>
          <p:nvPr/>
        </p:nvSpPr>
        <p:spPr>
          <a:xfrm>
            <a:off x="7883640" y="5172120"/>
            <a:ext cx="298440" cy="299880"/>
          </a:xfrm>
          <a:custGeom>
            <a:avLst/>
            <a:gdLst/>
            <a:ahLst/>
            <a:rect l="l" t="t" r="r" b="b"/>
            <a:pathLst>
              <a:path w="957" h="957">
                <a:moveTo>
                  <a:pt x="568" y="515"/>
                </a:moveTo>
                <a:lnTo>
                  <a:pt x="880" y="515"/>
                </a:lnTo>
                <a:lnTo>
                  <a:pt x="880" y="515"/>
                </a:lnTo>
                <a:cubicBezTo>
                  <a:pt x="872" y="599"/>
                  <a:pt x="840" y="677"/>
                  <a:pt x="790" y="738"/>
                </a:cubicBezTo>
                <a:lnTo>
                  <a:pt x="568" y="515"/>
                </a:lnTo>
                <a:close/>
                <a:moveTo>
                  <a:pt x="515" y="76"/>
                </a:moveTo>
                <a:lnTo>
                  <a:pt x="515" y="76"/>
                </a:lnTo>
                <a:cubicBezTo>
                  <a:pt x="709" y="94"/>
                  <a:pt x="862" y="247"/>
                  <a:pt x="880" y="442"/>
                </a:cubicBezTo>
                <a:lnTo>
                  <a:pt x="515" y="442"/>
                </a:lnTo>
                <a:lnTo>
                  <a:pt x="515" y="76"/>
                </a:lnTo>
                <a:close/>
                <a:moveTo>
                  <a:pt x="437" y="76"/>
                </a:moveTo>
                <a:lnTo>
                  <a:pt x="437" y="76"/>
                </a:lnTo>
                <a:cubicBezTo>
                  <a:pt x="438" y="76"/>
                  <a:pt x="440" y="76"/>
                  <a:pt x="442" y="76"/>
                </a:cubicBezTo>
                <a:lnTo>
                  <a:pt x="442" y="493"/>
                </a:lnTo>
                <a:lnTo>
                  <a:pt x="452" y="505"/>
                </a:lnTo>
                <a:lnTo>
                  <a:pt x="737" y="790"/>
                </a:lnTo>
                <a:lnTo>
                  <a:pt x="737" y="790"/>
                </a:lnTo>
                <a:cubicBezTo>
                  <a:pt x="668" y="848"/>
                  <a:pt x="576" y="882"/>
                  <a:pt x="478" y="882"/>
                </a:cubicBezTo>
                <a:lnTo>
                  <a:pt x="478" y="882"/>
                </a:lnTo>
                <a:cubicBezTo>
                  <a:pt x="255" y="882"/>
                  <a:pt x="74" y="702"/>
                  <a:pt x="74" y="478"/>
                </a:cubicBezTo>
                <a:lnTo>
                  <a:pt x="74" y="478"/>
                </a:lnTo>
                <a:cubicBezTo>
                  <a:pt x="74" y="268"/>
                  <a:pt x="233" y="97"/>
                  <a:pt x="437" y="76"/>
                </a:cubicBezTo>
                <a:close/>
                <a:moveTo>
                  <a:pt x="478" y="0"/>
                </a:moveTo>
                <a:lnTo>
                  <a:pt x="478" y="0"/>
                </a:lnTo>
                <a:cubicBezTo>
                  <a:pt x="215" y="0"/>
                  <a:pt x="0" y="215"/>
                  <a:pt x="0" y="478"/>
                </a:cubicBezTo>
                <a:lnTo>
                  <a:pt x="0" y="478"/>
                </a:lnTo>
                <a:cubicBezTo>
                  <a:pt x="0" y="742"/>
                  <a:pt x="215" y="956"/>
                  <a:pt x="478" y="956"/>
                </a:cubicBezTo>
                <a:lnTo>
                  <a:pt x="478" y="956"/>
                </a:lnTo>
                <a:cubicBezTo>
                  <a:pt x="742" y="956"/>
                  <a:pt x="956" y="742"/>
                  <a:pt x="956" y="478"/>
                </a:cubicBezTo>
                <a:lnTo>
                  <a:pt x="956" y="478"/>
                </a:lnTo>
                <a:cubicBezTo>
                  <a:pt x="956" y="215"/>
                  <a:pt x="742" y="0"/>
                  <a:pt x="478" y="0"/>
                </a:cubicBezTo>
                <a:close/>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90" name="TextBox 162"/>
          <p:cNvSpPr/>
          <p:nvPr/>
        </p:nvSpPr>
        <p:spPr>
          <a:xfrm>
            <a:off x="6600960" y="5888160"/>
            <a:ext cx="804600" cy="53820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30227"/>
                </a:solidFill>
                <a:latin typeface="Raleway"/>
              </a:rPr>
              <a:t>Goals</a:t>
            </a:r>
            <a:endParaRPr b="0" lang="en-US" sz="1100" spc="-1" strike="noStrike">
              <a:solidFill>
                <a:srgbClr val="000000"/>
              </a:solidFill>
              <a:latin typeface="Calibri"/>
            </a:endParaRPr>
          </a:p>
        </p:txBody>
      </p:sp>
      <p:sp>
        <p:nvSpPr>
          <p:cNvPr id="791" name="TextBox 163"/>
          <p:cNvSpPr/>
          <p:nvPr/>
        </p:nvSpPr>
        <p:spPr>
          <a:xfrm>
            <a:off x="7631280" y="5888160"/>
            <a:ext cx="806400" cy="98244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30227"/>
                </a:solidFill>
                <a:latin typeface="Raleway"/>
              </a:rPr>
              <a:t>Marketing</a:t>
            </a:r>
            <a:endParaRPr b="0" lang="en-US" sz="1100" spc="-1" strike="noStrike">
              <a:solidFill>
                <a:srgbClr val="000000"/>
              </a:solidFill>
              <a:latin typeface="Calibri"/>
            </a:endParaRPr>
          </a:p>
        </p:txBody>
      </p:sp>
      <p:sp>
        <p:nvSpPr>
          <p:cNvPr id="792" name="TextBox 164"/>
          <p:cNvSpPr/>
          <p:nvPr/>
        </p:nvSpPr>
        <p:spPr>
          <a:xfrm>
            <a:off x="8667720" y="5886360"/>
            <a:ext cx="806400" cy="53820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30227"/>
                </a:solidFill>
                <a:latin typeface="Raleway"/>
              </a:rPr>
              <a:t>Planning</a:t>
            </a:r>
            <a:endParaRPr b="0" lang="en-US" sz="1100" spc="-1" strike="noStrike">
              <a:solidFill>
                <a:srgbClr val="000000"/>
              </a:solidFill>
              <a:latin typeface="Calibri"/>
            </a:endParaRPr>
          </a:p>
        </p:txBody>
      </p:sp>
      <p:sp>
        <p:nvSpPr>
          <p:cNvPr id="793" name="Rectangle: Rounded Corners 165"/>
          <p:cNvSpPr/>
          <p:nvPr/>
        </p:nvSpPr>
        <p:spPr>
          <a:xfrm>
            <a:off x="7586640" y="1501920"/>
            <a:ext cx="3936960" cy="671400"/>
          </a:xfrm>
          <a:prstGeom prst="roundRect">
            <a:avLst>
              <a:gd name="adj" fmla="val 50000"/>
            </a:avLst>
          </a:prstGeom>
          <a:solidFill>
            <a:srgbClr val="06d6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94" name="Group 166"/>
          <p:cNvGrpSpPr/>
          <p:nvPr/>
        </p:nvGrpSpPr>
        <p:grpSpPr>
          <a:xfrm>
            <a:off x="8217000" y="1649520"/>
            <a:ext cx="2089080" cy="345960"/>
            <a:chOff x="8217000" y="1649520"/>
            <a:chExt cx="2089080" cy="345960"/>
          </a:xfrm>
        </p:grpSpPr>
        <p:sp>
          <p:nvSpPr>
            <p:cNvPr id="795" name="Freeform 96"/>
            <p:cNvSpPr/>
            <p:nvPr/>
          </p:nvSpPr>
          <p:spPr>
            <a:xfrm>
              <a:off x="8217000" y="1649520"/>
              <a:ext cx="363240" cy="345960"/>
            </a:xfrm>
            <a:custGeom>
              <a:avLst/>
              <a:gdLst/>
              <a:ahLst/>
              <a:rect l="l" t="t" r="r" b="b"/>
              <a:pathLst>
                <a:path w="973" h="930">
                  <a:moveTo>
                    <a:pt x="972" y="360"/>
                  </a:moveTo>
                  <a:lnTo>
                    <a:pt x="638" y="307"/>
                  </a:lnTo>
                  <a:lnTo>
                    <a:pt x="492" y="0"/>
                  </a:lnTo>
                  <a:lnTo>
                    <a:pt x="337" y="302"/>
                  </a:lnTo>
                  <a:lnTo>
                    <a:pt x="0" y="345"/>
                  </a:lnTo>
                  <a:lnTo>
                    <a:pt x="239" y="586"/>
                  </a:lnTo>
                  <a:lnTo>
                    <a:pt x="177" y="920"/>
                  </a:lnTo>
                  <a:lnTo>
                    <a:pt x="480" y="766"/>
                  </a:lnTo>
                  <a:lnTo>
                    <a:pt x="778" y="929"/>
                  </a:lnTo>
                  <a:lnTo>
                    <a:pt x="725" y="594"/>
                  </a:lnTo>
                  <a:lnTo>
                    <a:pt x="972" y="360"/>
                  </a:lnTo>
                </a:path>
              </a:pathLst>
            </a:custGeom>
            <a:solidFill>
              <a:srgbClr val="ffdf8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96" name="Freeform 97"/>
            <p:cNvSpPr/>
            <p:nvPr/>
          </p:nvSpPr>
          <p:spPr>
            <a:xfrm>
              <a:off x="8649000" y="1649520"/>
              <a:ext cx="363240" cy="345960"/>
            </a:xfrm>
            <a:custGeom>
              <a:avLst/>
              <a:gdLst/>
              <a:ahLst/>
              <a:rect l="l" t="t" r="r" b="b"/>
              <a:pathLst>
                <a:path w="974" h="930">
                  <a:moveTo>
                    <a:pt x="973" y="360"/>
                  </a:moveTo>
                  <a:lnTo>
                    <a:pt x="637" y="307"/>
                  </a:lnTo>
                  <a:lnTo>
                    <a:pt x="492" y="0"/>
                  </a:lnTo>
                  <a:lnTo>
                    <a:pt x="337" y="302"/>
                  </a:lnTo>
                  <a:lnTo>
                    <a:pt x="0" y="345"/>
                  </a:lnTo>
                  <a:lnTo>
                    <a:pt x="239" y="586"/>
                  </a:lnTo>
                  <a:lnTo>
                    <a:pt x="177" y="920"/>
                  </a:lnTo>
                  <a:lnTo>
                    <a:pt x="479" y="766"/>
                  </a:lnTo>
                  <a:lnTo>
                    <a:pt x="778" y="929"/>
                  </a:lnTo>
                  <a:lnTo>
                    <a:pt x="726" y="594"/>
                  </a:lnTo>
                  <a:lnTo>
                    <a:pt x="973" y="360"/>
                  </a:lnTo>
                </a:path>
              </a:pathLst>
            </a:custGeom>
            <a:solidFill>
              <a:srgbClr val="ffdf8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97" name="Freeform 98"/>
            <p:cNvSpPr/>
            <p:nvPr/>
          </p:nvSpPr>
          <p:spPr>
            <a:xfrm>
              <a:off x="9079920" y="1649520"/>
              <a:ext cx="363240" cy="345960"/>
            </a:xfrm>
            <a:custGeom>
              <a:avLst/>
              <a:gdLst/>
              <a:ahLst/>
              <a:rect l="l" t="t" r="r" b="b"/>
              <a:pathLst>
                <a:path w="974" h="930">
                  <a:moveTo>
                    <a:pt x="973" y="360"/>
                  </a:moveTo>
                  <a:lnTo>
                    <a:pt x="637" y="307"/>
                  </a:lnTo>
                  <a:lnTo>
                    <a:pt x="491" y="0"/>
                  </a:lnTo>
                  <a:lnTo>
                    <a:pt x="337" y="302"/>
                  </a:lnTo>
                  <a:lnTo>
                    <a:pt x="0" y="345"/>
                  </a:lnTo>
                  <a:lnTo>
                    <a:pt x="239" y="586"/>
                  </a:lnTo>
                  <a:lnTo>
                    <a:pt x="176" y="920"/>
                  </a:lnTo>
                  <a:lnTo>
                    <a:pt x="480" y="766"/>
                  </a:lnTo>
                  <a:lnTo>
                    <a:pt x="778" y="929"/>
                  </a:lnTo>
                  <a:lnTo>
                    <a:pt x="726" y="594"/>
                  </a:lnTo>
                  <a:lnTo>
                    <a:pt x="973" y="360"/>
                  </a:lnTo>
                </a:path>
              </a:pathLst>
            </a:custGeom>
            <a:solidFill>
              <a:srgbClr val="ffdf8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98" name="Freeform 99"/>
            <p:cNvSpPr/>
            <p:nvPr/>
          </p:nvSpPr>
          <p:spPr>
            <a:xfrm>
              <a:off x="9512280" y="1649520"/>
              <a:ext cx="363240" cy="345960"/>
            </a:xfrm>
            <a:custGeom>
              <a:avLst/>
              <a:gdLst/>
              <a:ahLst/>
              <a:rect l="l" t="t" r="r" b="b"/>
              <a:pathLst>
                <a:path w="975" h="930">
                  <a:moveTo>
                    <a:pt x="974" y="360"/>
                  </a:moveTo>
                  <a:lnTo>
                    <a:pt x="639" y="307"/>
                  </a:lnTo>
                  <a:lnTo>
                    <a:pt x="492" y="0"/>
                  </a:lnTo>
                  <a:lnTo>
                    <a:pt x="338" y="302"/>
                  </a:lnTo>
                  <a:lnTo>
                    <a:pt x="0" y="345"/>
                  </a:lnTo>
                  <a:lnTo>
                    <a:pt x="241" y="586"/>
                  </a:lnTo>
                  <a:lnTo>
                    <a:pt x="177" y="920"/>
                  </a:lnTo>
                  <a:lnTo>
                    <a:pt x="481" y="766"/>
                  </a:lnTo>
                  <a:lnTo>
                    <a:pt x="779" y="929"/>
                  </a:lnTo>
                  <a:lnTo>
                    <a:pt x="727" y="594"/>
                  </a:lnTo>
                  <a:lnTo>
                    <a:pt x="974" y="360"/>
                  </a:lnTo>
                </a:path>
              </a:pathLst>
            </a:custGeom>
            <a:solidFill>
              <a:srgbClr val="ffdf8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99" name="Freeform 100"/>
            <p:cNvSpPr/>
            <p:nvPr/>
          </p:nvSpPr>
          <p:spPr>
            <a:xfrm>
              <a:off x="9942840" y="1649520"/>
              <a:ext cx="363240" cy="345960"/>
            </a:xfrm>
            <a:custGeom>
              <a:avLst/>
              <a:gdLst/>
              <a:ahLst/>
              <a:rect l="l" t="t" r="r" b="b"/>
              <a:pathLst>
                <a:path w="975" h="930">
                  <a:moveTo>
                    <a:pt x="974" y="360"/>
                  </a:moveTo>
                  <a:lnTo>
                    <a:pt x="639" y="307"/>
                  </a:lnTo>
                  <a:lnTo>
                    <a:pt x="493" y="0"/>
                  </a:lnTo>
                  <a:lnTo>
                    <a:pt x="338" y="302"/>
                  </a:lnTo>
                  <a:lnTo>
                    <a:pt x="0" y="345"/>
                  </a:lnTo>
                  <a:lnTo>
                    <a:pt x="240" y="586"/>
                  </a:lnTo>
                  <a:lnTo>
                    <a:pt x="178" y="920"/>
                  </a:lnTo>
                  <a:lnTo>
                    <a:pt x="481" y="766"/>
                  </a:lnTo>
                  <a:lnTo>
                    <a:pt x="779" y="929"/>
                  </a:lnTo>
                  <a:lnTo>
                    <a:pt x="727" y="594"/>
                  </a:lnTo>
                  <a:lnTo>
                    <a:pt x="974" y="360"/>
                  </a:lnTo>
                </a:path>
              </a:pathLst>
            </a:custGeom>
            <a:solidFill>
              <a:srgbClr val="ffdf8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800" name="Oval 172"/>
          <p:cNvSpPr/>
          <p:nvPr/>
        </p:nvSpPr>
        <p:spPr>
          <a:xfrm>
            <a:off x="6581880" y="1428840"/>
            <a:ext cx="745920" cy="744480"/>
          </a:xfrm>
          <a:prstGeom prst="ellipse">
            <a:avLst/>
          </a:prstGeom>
          <a:solidFill>
            <a:srgbClr val="03022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1" name="TextBox 174"/>
          <p:cNvSpPr/>
          <p:nvPr/>
        </p:nvSpPr>
        <p:spPr>
          <a:xfrm>
            <a:off x="6600960" y="2422440"/>
            <a:ext cx="52513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a6a6a6"/>
                </a:solidFill>
                <a:latin typeface="Open Sans"/>
                <a:ea typeface="Open Sans"/>
              </a:rPr>
              <a:t>Lorem ipsum dolor sit amet, consectetur adipiscing elit, sed do eiusmod tempor incididunt ut labore et dolore magna aliqua. Ut enim ad minim veniam, dolore magna aliqua. Ut enim ad minim veniam,</a:t>
            </a:r>
            <a:endParaRPr b="0" lang="en-US" sz="1100" spc="-1" strike="noStrike">
              <a:solidFill>
                <a:srgbClr val="000000"/>
              </a:solidFill>
              <a:latin typeface="Calibri"/>
            </a:endParaRPr>
          </a:p>
        </p:txBody>
      </p:sp>
      <p:sp>
        <p:nvSpPr>
          <p:cNvPr id="802" name="Freeform 8"/>
          <p:cNvSpPr/>
          <p:nvPr/>
        </p:nvSpPr>
        <p:spPr>
          <a:xfrm>
            <a:off x="10715760" y="4876920"/>
            <a:ext cx="895320" cy="895320"/>
          </a:xfrm>
          <a:custGeom>
            <a:avLst/>
            <a:gdLst/>
            <a:ahLst/>
            <a:rect l="l" t="t" r="r" b="b"/>
            <a:pathLst>
              <a:path w="2863" h="2862">
                <a:moveTo>
                  <a:pt x="1431" y="57"/>
                </a:moveTo>
                <a:lnTo>
                  <a:pt x="1431" y="57"/>
                </a:lnTo>
                <a:cubicBezTo>
                  <a:pt x="673" y="57"/>
                  <a:pt x="57" y="673"/>
                  <a:pt x="57" y="1431"/>
                </a:cubicBezTo>
                <a:lnTo>
                  <a:pt x="57" y="1431"/>
                </a:lnTo>
                <a:cubicBezTo>
                  <a:pt x="57" y="2189"/>
                  <a:pt x="673" y="2805"/>
                  <a:pt x="1431" y="2805"/>
                </a:cubicBezTo>
                <a:lnTo>
                  <a:pt x="1431" y="2805"/>
                </a:lnTo>
                <a:cubicBezTo>
                  <a:pt x="2189" y="2805"/>
                  <a:pt x="2806" y="2189"/>
                  <a:pt x="2806" y="1431"/>
                </a:cubicBezTo>
                <a:lnTo>
                  <a:pt x="2806" y="1431"/>
                </a:lnTo>
                <a:cubicBezTo>
                  <a:pt x="2806" y="673"/>
                  <a:pt x="2189" y="57"/>
                  <a:pt x="1431" y="57"/>
                </a:cubicBezTo>
                <a:close/>
                <a:moveTo>
                  <a:pt x="1431" y="2861"/>
                </a:moveTo>
                <a:lnTo>
                  <a:pt x="1431" y="2861"/>
                </a:lnTo>
                <a:cubicBezTo>
                  <a:pt x="642" y="2861"/>
                  <a:pt x="0" y="2220"/>
                  <a:pt x="0" y="1431"/>
                </a:cubicBezTo>
                <a:lnTo>
                  <a:pt x="0" y="1431"/>
                </a:lnTo>
                <a:cubicBezTo>
                  <a:pt x="0" y="642"/>
                  <a:pt x="642" y="0"/>
                  <a:pt x="1431" y="0"/>
                </a:cubicBezTo>
                <a:lnTo>
                  <a:pt x="1431" y="0"/>
                </a:lnTo>
                <a:cubicBezTo>
                  <a:pt x="2220" y="0"/>
                  <a:pt x="2862" y="642"/>
                  <a:pt x="2862" y="1431"/>
                </a:cubicBezTo>
                <a:lnTo>
                  <a:pt x="2862" y="1431"/>
                </a:lnTo>
                <a:cubicBezTo>
                  <a:pt x="2862" y="2220"/>
                  <a:pt x="2220" y="2861"/>
                  <a:pt x="1431" y="2861"/>
                </a:cubicBezTo>
                <a:close/>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03" name="Freeform 16"/>
          <p:cNvSpPr/>
          <p:nvPr/>
        </p:nvSpPr>
        <p:spPr>
          <a:xfrm>
            <a:off x="9678960" y="4876920"/>
            <a:ext cx="895320" cy="895320"/>
          </a:xfrm>
          <a:custGeom>
            <a:avLst/>
            <a:gdLst/>
            <a:ahLst/>
            <a:rect l="l" t="t" r="r" b="b"/>
            <a:pathLst>
              <a:path w="2863" h="2862">
                <a:moveTo>
                  <a:pt x="1432" y="57"/>
                </a:moveTo>
                <a:lnTo>
                  <a:pt x="1432" y="57"/>
                </a:lnTo>
                <a:cubicBezTo>
                  <a:pt x="673" y="57"/>
                  <a:pt x="57" y="673"/>
                  <a:pt x="57" y="1431"/>
                </a:cubicBezTo>
                <a:lnTo>
                  <a:pt x="57" y="1431"/>
                </a:lnTo>
                <a:cubicBezTo>
                  <a:pt x="57" y="2189"/>
                  <a:pt x="673" y="2805"/>
                  <a:pt x="1432" y="2805"/>
                </a:cubicBezTo>
                <a:lnTo>
                  <a:pt x="1432" y="2805"/>
                </a:lnTo>
                <a:cubicBezTo>
                  <a:pt x="2189" y="2805"/>
                  <a:pt x="2805" y="2189"/>
                  <a:pt x="2805" y="1431"/>
                </a:cubicBezTo>
                <a:lnTo>
                  <a:pt x="2805" y="1431"/>
                </a:lnTo>
                <a:cubicBezTo>
                  <a:pt x="2805" y="673"/>
                  <a:pt x="2189" y="57"/>
                  <a:pt x="1432" y="57"/>
                </a:cubicBezTo>
                <a:close/>
                <a:moveTo>
                  <a:pt x="1432" y="2861"/>
                </a:moveTo>
                <a:lnTo>
                  <a:pt x="1432" y="2861"/>
                </a:lnTo>
                <a:cubicBezTo>
                  <a:pt x="643" y="2861"/>
                  <a:pt x="0" y="2220"/>
                  <a:pt x="0" y="1431"/>
                </a:cubicBezTo>
                <a:lnTo>
                  <a:pt x="0" y="1431"/>
                </a:lnTo>
                <a:cubicBezTo>
                  <a:pt x="0" y="642"/>
                  <a:pt x="643" y="0"/>
                  <a:pt x="1432" y="0"/>
                </a:cubicBezTo>
                <a:lnTo>
                  <a:pt x="1432" y="0"/>
                </a:lnTo>
                <a:cubicBezTo>
                  <a:pt x="2221" y="0"/>
                  <a:pt x="2862" y="642"/>
                  <a:pt x="2862" y="1431"/>
                </a:cubicBezTo>
                <a:lnTo>
                  <a:pt x="2862" y="1431"/>
                </a:lnTo>
                <a:cubicBezTo>
                  <a:pt x="2862" y="2220"/>
                  <a:pt x="2221" y="2861"/>
                  <a:pt x="1432" y="2861"/>
                </a:cubicBezTo>
                <a:close/>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04" name="TextBox 179"/>
          <p:cNvSpPr/>
          <p:nvPr/>
        </p:nvSpPr>
        <p:spPr>
          <a:xfrm>
            <a:off x="9725040" y="5888160"/>
            <a:ext cx="804960" cy="53820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30227"/>
                </a:solidFill>
                <a:latin typeface="Raleway"/>
              </a:rPr>
              <a:t>Music</a:t>
            </a:r>
            <a:endParaRPr b="0" lang="en-US" sz="1100" spc="-1" strike="noStrike">
              <a:solidFill>
                <a:srgbClr val="000000"/>
              </a:solidFill>
              <a:latin typeface="Calibri"/>
            </a:endParaRPr>
          </a:p>
        </p:txBody>
      </p:sp>
      <p:sp>
        <p:nvSpPr>
          <p:cNvPr id="805" name="TextBox 180"/>
          <p:cNvSpPr/>
          <p:nvPr/>
        </p:nvSpPr>
        <p:spPr>
          <a:xfrm>
            <a:off x="10760040" y="5886360"/>
            <a:ext cx="806400" cy="53820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30227"/>
                </a:solidFill>
                <a:latin typeface="Raleway"/>
              </a:rPr>
              <a:t>Time</a:t>
            </a:r>
            <a:endParaRPr b="0" lang="en-US" sz="1100" spc="-1" strike="noStrike">
              <a:solidFill>
                <a:srgbClr val="000000"/>
              </a:solidFill>
              <a:latin typeface="Calibri"/>
            </a:endParaRPr>
          </a:p>
        </p:txBody>
      </p:sp>
      <p:pic>
        <p:nvPicPr>
          <p:cNvPr id="806" name="Graphic 182" descr="Male"/>
          <p:cNvPicPr/>
          <p:nvPr/>
        </p:nvPicPr>
        <p:blipFill>
          <a:blip r:embed="rId2"/>
          <a:stretch/>
        </p:blipFill>
        <p:spPr>
          <a:xfrm>
            <a:off x="6686640" y="1501920"/>
            <a:ext cx="581040" cy="581040"/>
          </a:xfrm>
          <a:prstGeom prst="rect">
            <a:avLst/>
          </a:prstGeom>
          <a:ln w="0">
            <a:noFill/>
          </a:ln>
        </p:spPr>
      </p:pic>
      <p:sp>
        <p:nvSpPr>
          <p:cNvPr id="807" name="Rectangle 183"/>
          <p:cNvSpPr/>
          <p:nvPr/>
        </p:nvSpPr>
        <p:spPr>
          <a:xfrm>
            <a:off x="5456160" y="100080"/>
            <a:ext cx="1279440" cy="1287720"/>
          </a:xfrm>
          <a:prstGeom prst="rect">
            <a:avLst/>
          </a:prstGeom>
          <a:noFill/>
          <a:ln w="0">
            <a:noFill/>
          </a:ln>
        </p:spPr>
        <p:style>
          <a:lnRef idx="0"/>
          <a:fillRef idx="0"/>
          <a:effectRef idx="0"/>
          <a:fontRef idx="minor"/>
        </p:style>
        <p:txBody>
          <a:bodyPr wrap="none" lIns="90000" rIns="90000" tIns="46800" bIns="46800" anchor="t">
            <a:spAutoFit/>
          </a:bodyPr>
          <a:p>
            <a:pPr algn="ctr">
              <a:lnSpc>
                <a:spcPts val="9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30227"/>
                </a:solidFill>
                <a:latin typeface="Raleway"/>
              </a:rPr>
              <a:t>VS</a:t>
            </a:r>
            <a:endParaRPr b="0" lang="en-US" sz="7200" spc="-1" strike="noStrike">
              <a:solidFill>
                <a:srgbClr val="000000"/>
              </a:solidFill>
              <a:latin typeface="Calibri"/>
            </a:endParaRPr>
          </a:p>
        </p:txBody>
      </p:sp>
      <p:pic>
        <p:nvPicPr>
          <p:cNvPr id="808" name="Graphic 185" descr="Voice"/>
          <p:cNvPicPr/>
          <p:nvPr/>
        </p:nvPicPr>
        <p:blipFill>
          <a:blip r:embed="rId3"/>
          <a:stretch/>
        </p:blipFill>
        <p:spPr>
          <a:xfrm>
            <a:off x="9942480" y="5127480"/>
            <a:ext cx="388800" cy="389160"/>
          </a:xfrm>
          <a:prstGeom prst="rect">
            <a:avLst/>
          </a:prstGeom>
          <a:ln w="0">
            <a:noFill/>
          </a:ln>
        </p:spPr>
      </p:pic>
      <p:pic>
        <p:nvPicPr>
          <p:cNvPr id="809" name="Graphic 187" descr="Stopwatch"/>
          <p:cNvPicPr/>
          <p:nvPr/>
        </p:nvPicPr>
        <p:blipFill>
          <a:blip r:embed="rId4"/>
          <a:stretch/>
        </p:blipFill>
        <p:spPr>
          <a:xfrm>
            <a:off x="10949040" y="5100480"/>
            <a:ext cx="415800" cy="416160"/>
          </a:xfrm>
          <a:prstGeom prst="rect">
            <a:avLst/>
          </a:prstGeom>
          <a:ln w="0">
            <a:noFill/>
          </a:ln>
        </p:spPr>
      </p:pic>
      <p:pic>
        <p:nvPicPr>
          <p:cNvPr id="810" name="Graphic 188" descr="Voice"/>
          <p:cNvPicPr/>
          <p:nvPr/>
        </p:nvPicPr>
        <p:blipFill>
          <a:blip r:embed="rId5"/>
          <a:stretch/>
        </p:blipFill>
        <p:spPr>
          <a:xfrm>
            <a:off x="4064040" y="5127480"/>
            <a:ext cx="388800" cy="389160"/>
          </a:xfrm>
          <a:prstGeom prst="rect">
            <a:avLst/>
          </a:prstGeom>
          <a:ln w="0">
            <a:noFill/>
          </a:ln>
        </p:spPr>
      </p:pic>
      <p:pic>
        <p:nvPicPr>
          <p:cNvPr id="811" name="Graphic 189" descr="Stopwatch"/>
          <p:cNvPicPr/>
          <p:nvPr/>
        </p:nvPicPr>
        <p:blipFill>
          <a:blip r:embed="rId6"/>
          <a:stretch/>
        </p:blipFill>
        <p:spPr>
          <a:xfrm>
            <a:off x="5083200" y="5113440"/>
            <a:ext cx="417600" cy="415800"/>
          </a:xfrm>
          <a:prstGeom prst="rect">
            <a:avLst/>
          </a:prstGeom>
          <a:ln w="0">
            <a:noFill/>
          </a:ln>
        </p:spPr>
      </p:pic>
      <p:sp>
        <p:nvSpPr>
          <p:cNvPr id="812" name="Rectangle 190"/>
          <p:cNvSpPr/>
          <p:nvPr/>
        </p:nvSpPr>
        <p:spPr>
          <a:xfrm>
            <a:off x="4705920" y="965160"/>
            <a:ext cx="686520" cy="1287720"/>
          </a:xfrm>
          <a:prstGeom prst="rect">
            <a:avLst/>
          </a:prstGeom>
          <a:noFill/>
          <a:ln w="0">
            <a:noFill/>
          </a:ln>
        </p:spPr>
        <p:style>
          <a:lnRef idx="0"/>
          <a:fillRef idx="0"/>
          <a:effectRef idx="0"/>
          <a:fontRef idx="minor"/>
        </p:style>
        <p:txBody>
          <a:bodyPr wrap="none" lIns="90000" rIns="90000" tIns="46800" bIns="46800" anchor="t">
            <a:spAutoFit/>
          </a:bodyPr>
          <a:p>
            <a:pPr algn="ctr">
              <a:lnSpc>
                <a:spcPts val="9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f82"/>
                </a:solidFill>
                <a:latin typeface="Raleway"/>
              </a:rPr>
              <a:t>4.5</a:t>
            </a:r>
            <a:endParaRPr b="0" lang="en-US" sz="2800" spc="-1" strike="noStrike">
              <a:solidFill>
                <a:srgbClr val="000000"/>
              </a:solidFill>
              <a:latin typeface="Calibri"/>
            </a:endParaRPr>
          </a:p>
        </p:txBody>
      </p:sp>
      <p:sp>
        <p:nvSpPr>
          <p:cNvPr id="813" name="Rectangle 191"/>
          <p:cNvSpPr/>
          <p:nvPr/>
        </p:nvSpPr>
        <p:spPr>
          <a:xfrm>
            <a:off x="10577880" y="995400"/>
            <a:ext cx="686520" cy="1287720"/>
          </a:xfrm>
          <a:prstGeom prst="rect">
            <a:avLst/>
          </a:prstGeom>
          <a:noFill/>
          <a:ln w="0">
            <a:noFill/>
          </a:ln>
        </p:spPr>
        <p:style>
          <a:lnRef idx="0"/>
          <a:fillRef idx="0"/>
          <a:effectRef idx="0"/>
          <a:fontRef idx="minor"/>
        </p:style>
        <p:txBody>
          <a:bodyPr wrap="none" lIns="90000" rIns="90000" tIns="46800" bIns="46800" anchor="t">
            <a:spAutoFit/>
          </a:bodyPr>
          <a:p>
            <a:pPr algn="ctr">
              <a:lnSpc>
                <a:spcPts val="9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f82"/>
                </a:solidFill>
                <a:latin typeface="Raleway"/>
              </a:rPr>
              <a:t>5.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TextBox 1"/>
          <p:cNvSpPr/>
          <p:nvPr/>
        </p:nvSpPr>
        <p:spPr>
          <a:xfrm>
            <a:off x="3099600" y="399960"/>
            <a:ext cx="5993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d6ff"/>
                </a:solidFill>
                <a:latin typeface="Raleway SemiBold"/>
                <a:ea typeface="Open Sans"/>
              </a:rPr>
              <a:t>Comparison Infographic</a:t>
            </a:r>
            <a:endParaRPr b="0" lang="en-US" sz="4000" spc="-1" strike="noStrike">
              <a:solidFill>
                <a:srgbClr val="000000"/>
              </a:solidFill>
              <a:latin typeface="Calibri"/>
            </a:endParaRPr>
          </a:p>
        </p:txBody>
      </p:sp>
      <p:sp>
        <p:nvSpPr>
          <p:cNvPr id="815" name="TextBox 2"/>
          <p:cNvSpPr/>
          <p:nvPr/>
        </p:nvSpPr>
        <p:spPr>
          <a:xfrm>
            <a:off x="3000240" y="1225440"/>
            <a:ext cx="619128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44546a"/>
                </a:solidFill>
                <a:latin typeface="Open Sans"/>
                <a:ea typeface="Open Sans"/>
              </a:rPr>
              <a:t>Lorem ipsum dolor sit amet, consectetur adipiscing elit, sed do eiusmod tempor incididunt ut labore et dolore magna aliqua. Ut enim ad minim veniam,</a:t>
            </a:r>
            <a:endParaRPr b="0" lang="en-US" sz="1100" spc="-1" strike="noStrike">
              <a:solidFill>
                <a:srgbClr val="000000"/>
              </a:solidFill>
              <a:latin typeface="Calibri"/>
            </a:endParaRPr>
          </a:p>
        </p:txBody>
      </p:sp>
      <p:sp>
        <p:nvSpPr>
          <p:cNvPr id="816" name="Callout: Left Arrow 32"/>
          <p:cNvSpPr/>
          <p:nvPr/>
        </p:nvSpPr>
        <p:spPr>
          <a:xfrm>
            <a:off x="2703600" y="2417760"/>
            <a:ext cx="3257640" cy="3257640"/>
          </a:xfrm>
          <a:prstGeom prst="leftArrowCallout">
            <a:avLst>
              <a:gd name="adj1" fmla="val 25002"/>
              <a:gd name="adj2" fmla="val 23662"/>
              <a:gd name="adj3" fmla="val 25000"/>
              <a:gd name="adj4" fmla="val 64983"/>
            </a:avLst>
          </a:prstGeom>
          <a:noFill/>
          <a:ln w="19080">
            <a:solidFill>
              <a:srgbClr val="ff4e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7" name="Callout: Left Arrow 33"/>
          <p:cNvSpPr/>
          <p:nvPr/>
        </p:nvSpPr>
        <p:spPr>
          <a:xfrm flipH="1">
            <a:off x="6159600" y="2417760"/>
            <a:ext cx="3257280" cy="3257640"/>
          </a:xfrm>
          <a:prstGeom prst="leftArrowCallout">
            <a:avLst>
              <a:gd name="adj1" fmla="val 25005"/>
              <a:gd name="adj2" fmla="val 22331"/>
              <a:gd name="adj3" fmla="val 25000"/>
              <a:gd name="adj4" fmla="val 64983"/>
            </a:avLst>
          </a:prstGeom>
          <a:noFill/>
          <a:ln w="19080">
            <a:solidFill>
              <a:srgbClr val="06d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8" name="Rectangle 35"/>
          <p:cNvSpPr/>
          <p:nvPr/>
        </p:nvSpPr>
        <p:spPr>
          <a:xfrm>
            <a:off x="3959280" y="2583000"/>
            <a:ext cx="1887480" cy="2954160"/>
          </a:xfrm>
          <a:prstGeom prst="rect">
            <a:avLst/>
          </a:prstGeom>
          <a:solidFill>
            <a:srgbClr val="ff4e9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9" name="Rectangle 36"/>
          <p:cNvSpPr/>
          <p:nvPr/>
        </p:nvSpPr>
        <p:spPr>
          <a:xfrm>
            <a:off x="6283440" y="2583000"/>
            <a:ext cx="1887480" cy="2954160"/>
          </a:xfrm>
          <a:prstGeom prst="rect">
            <a:avLst/>
          </a:prstGeom>
          <a:solidFill>
            <a:srgbClr val="06d6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0" name="Freeform 4"/>
          <p:cNvSpPr/>
          <p:nvPr/>
        </p:nvSpPr>
        <p:spPr>
          <a:xfrm>
            <a:off x="4175280" y="2852640"/>
            <a:ext cx="1542960" cy="1541520"/>
          </a:xfrm>
          <a:custGeom>
            <a:avLst/>
            <a:gdLst/>
            <a:ahLst/>
            <a:rect l="l" t="t" r="r" b="b"/>
            <a:pathLst>
              <a:path w="1707" h="1706">
                <a:moveTo>
                  <a:pt x="853" y="31"/>
                </a:moveTo>
                <a:lnTo>
                  <a:pt x="853" y="31"/>
                </a:lnTo>
                <a:cubicBezTo>
                  <a:pt x="1306" y="31"/>
                  <a:pt x="1676" y="400"/>
                  <a:pt x="1676" y="853"/>
                </a:cubicBezTo>
                <a:lnTo>
                  <a:pt x="1676" y="853"/>
                </a:lnTo>
                <a:cubicBezTo>
                  <a:pt x="1676" y="1032"/>
                  <a:pt x="1617" y="1198"/>
                  <a:pt x="1519" y="1334"/>
                </a:cubicBezTo>
                <a:lnTo>
                  <a:pt x="1519" y="1334"/>
                </a:lnTo>
                <a:cubicBezTo>
                  <a:pt x="1510" y="1235"/>
                  <a:pt x="1429" y="1206"/>
                  <a:pt x="1429" y="1206"/>
                </a:cubicBezTo>
                <a:lnTo>
                  <a:pt x="1054" y="1097"/>
                </a:lnTo>
                <a:lnTo>
                  <a:pt x="1054" y="1097"/>
                </a:lnTo>
                <a:lnTo>
                  <a:pt x="1054" y="1097"/>
                </a:lnTo>
                <a:cubicBezTo>
                  <a:pt x="1054" y="1097"/>
                  <a:pt x="1054" y="1097"/>
                  <a:pt x="1053" y="1097"/>
                </a:cubicBezTo>
                <a:lnTo>
                  <a:pt x="1011" y="1084"/>
                </a:lnTo>
                <a:lnTo>
                  <a:pt x="1011" y="1084"/>
                </a:lnTo>
                <a:cubicBezTo>
                  <a:pt x="991" y="1074"/>
                  <a:pt x="977" y="1060"/>
                  <a:pt x="968" y="1044"/>
                </a:cubicBezTo>
                <a:lnTo>
                  <a:pt x="968" y="1044"/>
                </a:lnTo>
                <a:cubicBezTo>
                  <a:pt x="965" y="1031"/>
                  <a:pt x="963" y="1019"/>
                  <a:pt x="963" y="1006"/>
                </a:cubicBezTo>
                <a:lnTo>
                  <a:pt x="963" y="1006"/>
                </a:lnTo>
                <a:cubicBezTo>
                  <a:pt x="1034" y="1002"/>
                  <a:pt x="1088" y="997"/>
                  <a:pt x="1088" y="997"/>
                </a:cubicBezTo>
                <a:lnTo>
                  <a:pt x="1082" y="914"/>
                </a:lnTo>
                <a:lnTo>
                  <a:pt x="1114" y="984"/>
                </a:lnTo>
                <a:lnTo>
                  <a:pt x="1218" y="952"/>
                </a:lnTo>
                <a:lnTo>
                  <a:pt x="1218" y="952"/>
                </a:lnTo>
                <a:cubicBezTo>
                  <a:pt x="1106" y="807"/>
                  <a:pt x="1217" y="734"/>
                  <a:pt x="1108" y="438"/>
                </a:cubicBezTo>
                <a:lnTo>
                  <a:pt x="1108" y="438"/>
                </a:lnTo>
                <a:cubicBezTo>
                  <a:pt x="999" y="141"/>
                  <a:pt x="682" y="291"/>
                  <a:pt x="682" y="291"/>
                </a:cubicBezTo>
                <a:lnTo>
                  <a:pt x="682" y="291"/>
                </a:lnTo>
                <a:cubicBezTo>
                  <a:pt x="526" y="328"/>
                  <a:pt x="561" y="508"/>
                  <a:pt x="561" y="670"/>
                </a:cubicBezTo>
                <a:lnTo>
                  <a:pt x="561" y="670"/>
                </a:lnTo>
                <a:cubicBezTo>
                  <a:pt x="561" y="832"/>
                  <a:pt x="470" y="947"/>
                  <a:pt x="470" y="947"/>
                </a:cubicBezTo>
                <a:lnTo>
                  <a:pt x="602" y="986"/>
                </a:lnTo>
                <a:lnTo>
                  <a:pt x="638" y="905"/>
                </a:lnTo>
                <a:lnTo>
                  <a:pt x="638" y="997"/>
                </a:lnTo>
                <a:lnTo>
                  <a:pt x="638" y="997"/>
                </a:lnTo>
                <a:cubicBezTo>
                  <a:pt x="652" y="1007"/>
                  <a:pt x="692" y="1011"/>
                  <a:pt x="741" y="1012"/>
                </a:cubicBezTo>
                <a:lnTo>
                  <a:pt x="741" y="1012"/>
                </a:lnTo>
                <a:cubicBezTo>
                  <a:pt x="740" y="1023"/>
                  <a:pt x="740" y="1033"/>
                  <a:pt x="737" y="1044"/>
                </a:cubicBezTo>
                <a:lnTo>
                  <a:pt x="737" y="1044"/>
                </a:lnTo>
                <a:cubicBezTo>
                  <a:pt x="727" y="1060"/>
                  <a:pt x="714" y="1074"/>
                  <a:pt x="694" y="1084"/>
                </a:cubicBezTo>
                <a:lnTo>
                  <a:pt x="652" y="1097"/>
                </a:lnTo>
                <a:lnTo>
                  <a:pt x="652" y="1097"/>
                </a:lnTo>
                <a:lnTo>
                  <a:pt x="652" y="1097"/>
                </a:lnTo>
                <a:lnTo>
                  <a:pt x="652" y="1097"/>
                </a:lnTo>
                <a:lnTo>
                  <a:pt x="276" y="1206"/>
                </a:lnTo>
                <a:lnTo>
                  <a:pt x="276" y="1206"/>
                </a:lnTo>
                <a:cubicBezTo>
                  <a:pt x="276" y="1206"/>
                  <a:pt x="195" y="1235"/>
                  <a:pt x="185" y="1334"/>
                </a:cubicBezTo>
                <a:lnTo>
                  <a:pt x="185" y="1334"/>
                </a:lnTo>
                <a:cubicBezTo>
                  <a:pt x="87" y="1198"/>
                  <a:pt x="30" y="1032"/>
                  <a:pt x="30" y="853"/>
                </a:cubicBezTo>
                <a:lnTo>
                  <a:pt x="30" y="853"/>
                </a:lnTo>
                <a:cubicBezTo>
                  <a:pt x="30" y="400"/>
                  <a:pt x="399" y="31"/>
                  <a:pt x="853" y="31"/>
                </a:cubicBezTo>
                <a:close/>
                <a:moveTo>
                  <a:pt x="853" y="0"/>
                </a:moveTo>
                <a:lnTo>
                  <a:pt x="853" y="0"/>
                </a:lnTo>
                <a:cubicBezTo>
                  <a:pt x="382" y="0"/>
                  <a:pt x="0" y="383"/>
                  <a:pt x="0" y="853"/>
                </a:cubicBezTo>
                <a:lnTo>
                  <a:pt x="0" y="853"/>
                </a:lnTo>
                <a:cubicBezTo>
                  <a:pt x="0" y="1324"/>
                  <a:pt x="382" y="1705"/>
                  <a:pt x="853" y="1705"/>
                </a:cubicBezTo>
                <a:lnTo>
                  <a:pt x="853" y="1705"/>
                </a:lnTo>
                <a:cubicBezTo>
                  <a:pt x="1323" y="1705"/>
                  <a:pt x="1706" y="1324"/>
                  <a:pt x="1706" y="853"/>
                </a:cubicBezTo>
                <a:lnTo>
                  <a:pt x="1706" y="853"/>
                </a:lnTo>
                <a:cubicBezTo>
                  <a:pt x="1706" y="383"/>
                  <a:pt x="1323" y="0"/>
                  <a:pt x="853" y="0"/>
                </a:cubicBezTo>
                <a:close/>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21" name="Freeform 5"/>
          <p:cNvSpPr/>
          <p:nvPr/>
        </p:nvSpPr>
        <p:spPr>
          <a:xfrm>
            <a:off x="6462720" y="2852640"/>
            <a:ext cx="1542960" cy="1541520"/>
          </a:xfrm>
          <a:custGeom>
            <a:avLst/>
            <a:gdLst/>
            <a:ahLst/>
            <a:rect l="l" t="t" r="r" b="b"/>
            <a:pathLst>
              <a:path w="1706" h="1706">
                <a:moveTo>
                  <a:pt x="852" y="31"/>
                </a:moveTo>
                <a:lnTo>
                  <a:pt x="852" y="31"/>
                </a:lnTo>
                <a:cubicBezTo>
                  <a:pt x="1305" y="31"/>
                  <a:pt x="1674" y="400"/>
                  <a:pt x="1674" y="853"/>
                </a:cubicBezTo>
                <a:lnTo>
                  <a:pt x="1674" y="853"/>
                </a:lnTo>
                <a:cubicBezTo>
                  <a:pt x="1674" y="1033"/>
                  <a:pt x="1617" y="1199"/>
                  <a:pt x="1519" y="1334"/>
                </a:cubicBezTo>
                <a:lnTo>
                  <a:pt x="1519" y="1334"/>
                </a:lnTo>
                <a:cubicBezTo>
                  <a:pt x="1507" y="1238"/>
                  <a:pt x="1428" y="1211"/>
                  <a:pt x="1428" y="1211"/>
                </a:cubicBezTo>
                <a:lnTo>
                  <a:pt x="1052" y="1101"/>
                </a:lnTo>
                <a:lnTo>
                  <a:pt x="1053" y="1101"/>
                </a:lnTo>
                <a:lnTo>
                  <a:pt x="1053" y="1101"/>
                </a:lnTo>
                <a:cubicBezTo>
                  <a:pt x="1052" y="1101"/>
                  <a:pt x="1052" y="1101"/>
                  <a:pt x="1052" y="1101"/>
                </a:cubicBezTo>
                <a:lnTo>
                  <a:pt x="1010" y="1088"/>
                </a:lnTo>
                <a:lnTo>
                  <a:pt x="1010" y="1088"/>
                </a:lnTo>
                <a:cubicBezTo>
                  <a:pt x="991" y="1079"/>
                  <a:pt x="977" y="1065"/>
                  <a:pt x="968" y="1048"/>
                </a:cubicBezTo>
                <a:lnTo>
                  <a:pt x="968" y="1048"/>
                </a:lnTo>
                <a:cubicBezTo>
                  <a:pt x="960" y="1017"/>
                  <a:pt x="961" y="985"/>
                  <a:pt x="965" y="962"/>
                </a:cubicBezTo>
                <a:lnTo>
                  <a:pt x="965" y="962"/>
                </a:lnTo>
                <a:cubicBezTo>
                  <a:pt x="1040" y="928"/>
                  <a:pt x="1094" y="859"/>
                  <a:pt x="1105" y="776"/>
                </a:cubicBezTo>
                <a:lnTo>
                  <a:pt x="1105" y="776"/>
                </a:lnTo>
                <a:cubicBezTo>
                  <a:pt x="1110" y="774"/>
                  <a:pt x="1115" y="769"/>
                  <a:pt x="1115" y="763"/>
                </a:cubicBezTo>
                <a:lnTo>
                  <a:pt x="1128" y="593"/>
                </a:lnTo>
                <a:lnTo>
                  <a:pt x="1128" y="593"/>
                </a:lnTo>
                <a:cubicBezTo>
                  <a:pt x="1129" y="584"/>
                  <a:pt x="1123" y="578"/>
                  <a:pt x="1115" y="577"/>
                </a:cubicBezTo>
                <a:lnTo>
                  <a:pt x="1115" y="577"/>
                </a:lnTo>
                <a:cubicBezTo>
                  <a:pt x="1113" y="577"/>
                  <a:pt x="1112" y="577"/>
                  <a:pt x="1112" y="577"/>
                </a:cubicBezTo>
                <a:lnTo>
                  <a:pt x="1112" y="577"/>
                </a:lnTo>
                <a:cubicBezTo>
                  <a:pt x="1120" y="551"/>
                  <a:pt x="1115" y="518"/>
                  <a:pt x="1110" y="491"/>
                </a:cubicBezTo>
                <a:lnTo>
                  <a:pt x="1110" y="491"/>
                </a:lnTo>
                <a:cubicBezTo>
                  <a:pt x="1120" y="369"/>
                  <a:pt x="1047" y="322"/>
                  <a:pt x="1047" y="322"/>
                </a:cubicBezTo>
                <a:lnTo>
                  <a:pt x="1047" y="249"/>
                </a:lnTo>
                <a:lnTo>
                  <a:pt x="1047" y="249"/>
                </a:lnTo>
                <a:cubicBezTo>
                  <a:pt x="1047" y="249"/>
                  <a:pt x="1029" y="281"/>
                  <a:pt x="903" y="255"/>
                </a:cubicBezTo>
                <a:lnTo>
                  <a:pt x="903" y="255"/>
                </a:lnTo>
                <a:cubicBezTo>
                  <a:pt x="777" y="228"/>
                  <a:pt x="682" y="302"/>
                  <a:pt x="682" y="302"/>
                </a:cubicBezTo>
                <a:lnTo>
                  <a:pt x="629" y="349"/>
                </a:lnTo>
                <a:lnTo>
                  <a:pt x="629" y="349"/>
                </a:lnTo>
                <a:cubicBezTo>
                  <a:pt x="629" y="349"/>
                  <a:pt x="588" y="373"/>
                  <a:pt x="588" y="460"/>
                </a:cubicBezTo>
                <a:lnTo>
                  <a:pt x="588" y="460"/>
                </a:lnTo>
                <a:cubicBezTo>
                  <a:pt x="588" y="492"/>
                  <a:pt x="592" y="524"/>
                  <a:pt x="597" y="550"/>
                </a:cubicBezTo>
                <a:lnTo>
                  <a:pt x="597" y="567"/>
                </a:lnTo>
                <a:lnTo>
                  <a:pt x="597" y="567"/>
                </a:lnTo>
                <a:cubicBezTo>
                  <a:pt x="595" y="567"/>
                  <a:pt x="592" y="567"/>
                  <a:pt x="589" y="567"/>
                </a:cubicBezTo>
                <a:lnTo>
                  <a:pt x="589" y="567"/>
                </a:lnTo>
                <a:cubicBezTo>
                  <a:pt x="581" y="567"/>
                  <a:pt x="574" y="574"/>
                  <a:pt x="575" y="582"/>
                </a:cubicBezTo>
                <a:lnTo>
                  <a:pt x="589" y="753"/>
                </a:lnTo>
                <a:lnTo>
                  <a:pt x="589" y="753"/>
                </a:lnTo>
                <a:cubicBezTo>
                  <a:pt x="589" y="759"/>
                  <a:pt x="593" y="763"/>
                  <a:pt x="598" y="766"/>
                </a:cubicBezTo>
                <a:lnTo>
                  <a:pt x="598" y="766"/>
                </a:lnTo>
                <a:cubicBezTo>
                  <a:pt x="607" y="853"/>
                  <a:pt x="661" y="927"/>
                  <a:pt x="738" y="962"/>
                </a:cubicBezTo>
                <a:lnTo>
                  <a:pt x="738" y="962"/>
                </a:lnTo>
                <a:cubicBezTo>
                  <a:pt x="742" y="985"/>
                  <a:pt x="745" y="1017"/>
                  <a:pt x="736" y="1048"/>
                </a:cubicBezTo>
                <a:lnTo>
                  <a:pt x="736" y="1048"/>
                </a:lnTo>
                <a:cubicBezTo>
                  <a:pt x="727" y="1065"/>
                  <a:pt x="713" y="1079"/>
                  <a:pt x="693" y="1088"/>
                </a:cubicBezTo>
                <a:lnTo>
                  <a:pt x="652" y="1101"/>
                </a:lnTo>
                <a:lnTo>
                  <a:pt x="652" y="1101"/>
                </a:lnTo>
                <a:lnTo>
                  <a:pt x="651" y="1101"/>
                </a:lnTo>
                <a:lnTo>
                  <a:pt x="651" y="1101"/>
                </a:lnTo>
                <a:lnTo>
                  <a:pt x="276" y="1211"/>
                </a:lnTo>
                <a:lnTo>
                  <a:pt x="276" y="1211"/>
                </a:lnTo>
                <a:cubicBezTo>
                  <a:pt x="276" y="1211"/>
                  <a:pt x="217" y="1232"/>
                  <a:pt x="194" y="1297"/>
                </a:cubicBezTo>
                <a:lnTo>
                  <a:pt x="192" y="1297"/>
                </a:lnTo>
                <a:lnTo>
                  <a:pt x="190" y="1308"/>
                </a:lnTo>
                <a:lnTo>
                  <a:pt x="190" y="1308"/>
                </a:lnTo>
                <a:cubicBezTo>
                  <a:pt x="188" y="1317"/>
                  <a:pt x="186" y="1325"/>
                  <a:pt x="185" y="1334"/>
                </a:cubicBezTo>
                <a:lnTo>
                  <a:pt x="185" y="1334"/>
                </a:lnTo>
                <a:cubicBezTo>
                  <a:pt x="87" y="1199"/>
                  <a:pt x="30" y="1033"/>
                  <a:pt x="30" y="853"/>
                </a:cubicBezTo>
                <a:lnTo>
                  <a:pt x="30" y="853"/>
                </a:lnTo>
                <a:cubicBezTo>
                  <a:pt x="30" y="400"/>
                  <a:pt x="398" y="31"/>
                  <a:pt x="852" y="31"/>
                </a:cubicBezTo>
                <a:close/>
                <a:moveTo>
                  <a:pt x="852" y="0"/>
                </a:moveTo>
                <a:lnTo>
                  <a:pt x="852" y="0"/>
                </a:lnTo>
                <a:cubicBezTo>
                  <a:pt x="382" y="0"/>
                  <a:pt x="0" y="383"/>
                  <a:pt x="0" y="853"/>
                </a:cubicBezTo>
                <a:lnTo>
                  <a:pt x="0" y="853"/>
                </a:lnTo>
                <a:cubicBezTo>
                  <a:pt x="0" y="1324"/>
                  <a:pt x="382" y="1705"/>
                  <a:pt x="852" y="1705"/>
                </a:cubicBezTo>
                <a:lnTo>
                  <a:pt x="852" y="1705"/>
                </a:lnTo>
                <a:cubicBezTo>
                  <a:pt x="1322" y="1705"/>
                  <a:pt x="1705" y="1324"/>
                  <a:pt x="1705" y="853"/>
                </a:cubicBezTo>
                <a:lnTo>
                  <a:pt x="1705" y="853"/>
                </a:lnTo>
                <a:cubicBezTo>
                  <a:pt x="1705" y="383"/>
                  <a:pt x="1322" y="0"/>
                  <a:pt x="852" y="0"/>
                </a:cubicBezTo>
                <a:close/>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22" name="TextBox 51"/>
          <p:cNvSpPr/>
          <p:nvPr/>
        </p:nvSpPr>
        <p:spPr>
          <a:xfrm>
            <a:off x="4290840" y="4532400"/>
            <a:ext cx="126216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030227"/>
                </a:solidFill>
                <a:latin typeface="Open Sans"/>
                <a:ea typeface="Open Sans"/>
              </a:rPr>
              <a:t>Women</a:t>
            </a:r>
            <a:endParaRPr b="0" lang="en-US" sz="1400" spc="-1" strike="noStrike">
              <a:solidFill>
                <a:srgbClr val="000000"/>
              </a:solidFill>
              <a:latin typeface="Calibri"/>
            </a:endParaRPr>
          </a:p>
        </p:txBody>
      </p:sp>
      <p:grpSp>
        <p:nvGrpSpPr>
          <p:cNvPr id="823" name="Group 52"/>
          <p:cNvGrpSpPr/>
          <p:nvPr/>
        </p:nvGrpSpPr>
        <p:grpSpPr>
          <a:xfrm>
            <a:off x="4432320" y="5087880"/>
            <a:ext cx="919080" cy="152280"/>
            <a:chOff x="4432320" y="5087880"/>
            <a:chExt cx="919080" cy="152280"/>
          </a:xfrm>
        </p:grpSpPr>
        <p:sp>
          <p:nvSpPr>
            <p:cNvPr id="824" name="Freeform 96"/>
            <p:cNvSpPr/>
            <p:nvPr/>
          </p:nvSpPr>
          <p:spPr>
            <a:xfrm>
              <a:off x="4432320" y="5087880"/>
              <a:ext cx="159840" cy="152280"/>
            </a:xfrm>
            <a:custGeom>
              <a:avLst/>
              <a:gdLst/>
              <a:ahLst/>
              <a:rect l="l" t="t" r="r" b="b"/>
              <a:pathLst>
                <a:path w="973" h="930">
                  <a:moveTo>
                    <a:pt x="972" y="360"/>
                  </a:moveTo>
                  <a:lnTo>
                    <a:pt x="638" y="307"/>
                  </a:lnTo>
                  <a:lnTo>
                    <a:pt x="492" y="0"/>
                  </a:lnTo>
                  <a:lnTo>
                    <a:pt x="337" y="302"/>
                  </a:lnTo>
                  <a:lnTo>
                    <a:pt x="0" y="345"/>
                  </a:lnTo>
                  <a:lnTo>
                    <a:pt x="239" y="586"/>
                  </a:lnTo>
                  <a:lnTo>
                    <a:pt x="177" y="920"/>
                  </a:lnTo>
                  <a:lnTo>
                    <a:pt x="480" y="766"/>
                  </a:lnTo>
                  <a:lnTo>
                    <a:pt x="778" y="929"/>
                  </a:lnTo>
                  <a:lnTo>
                    <a:pt x="725" y="594"/>
                  </a:lnTo>
                  <a:lnTo>
                    <a:pt x="972" y="360"/>
                  </a:lnTo>
                </a:path>
              </a:pathLst>
            </a:custGeom>
            <a:solidFill>
              <a:srgbClr val="ffdf8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25" name="Freeform 97"/>
            <p:cNvSpPr/>
            <p:nvPr/>
          </p:nvSpPr>
          <p:spPr>
            <a:xfrm>
              <a:off x="4622400" y="5087880"/>
              <a:ext cx="159840" cy="152280"/>
            </a:xfrm>
            <a:custGeom>
              <a:avLst/>
              <a:gdLst/>
              <a:ahLst/>
              <a:rect l="l" t="t" r="r" b="b"/>
              <a:pathLst>
                <a:path w="974" h="930">
                  <a:moveTo>
                    <a:pt x="973" y="360"/>
                  </a:moveTo>
                  <a:lnTo>
                    <a:pt x="637" y="307"/>
                  </a:lnTo>
                  <a:lnTo>
                    <a:pt x="492" y="0"/>
                  </a:lnTo>
                  <a:lnTo>
                    <a:pt x="337" y="302"/>
                  </a:lnTo>
                  <a:lnTo>
                    <a:pt x="0" y="345"/>
                  </a:lnTo>
                  <a:lnTo>
                    <a:pt x="239" y="586"/>
                  </a:lnTo>
                  <a:lnTo>
                    <a:pt x="177" y="920"/>
                  </a:lnTo>
                  <a:lnTo>
                    <a:pt x="479" y="766"/>
                  </a:lnTo>
                  <a:lnTo>
                    <a:pt x="778" y="929"/>
                  </a:lnTo>
                  <a:lnTo>
                    <a:pt x="726" y="594"/>
                  </a:lnTo>
                  <a:lnTo>
                    <a:pt x="973" y="360"/>
                  </a:lnTo>
                </a:path>
              </a:pathLst>
            </a:custGeom>
            <a:solidFill>
              <a:srgbClr val="ffdf8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26" name="Freeform 98"/>
            <p:cNvSpPr/>
            <p:nvPr/>
          </p:nvSpPr>
          <p:spPr>
            <a:xfrm>
              <a:off x="4811760" y="5087880"/>
              <a:ext cx="159840" cy="152280"/>
            </a:xfrm>
            <a:custGeom>
              <a:avLst/>
              <a:gdLst/>
              <a:ahLst/>
              <a:rect l="l" t="t" r="r" b="b"/>
              <a:pathLst>
                <a:path w="974" h="930">
                  <a:moveTo>
                    <a:pt x="973" y="360"/>
                  </a:moveTo>
                  <a:lnTo>
                    <a:pt x="637" y="307"/>
                  </a:lnTo>
                  <a:lnTo>
                    <a:pt x="491" y="0"/>
                  </a:lnTo>
                  <a:lnTo>
                    <a:pt x="337" y="302"/>
                  </a:lnTo>
                  <a:lnTo>
                    <a:pt x="0" y="345"/>
                  </a:lnTo>
                  <a:lnTo>
                    <a:pt x="239" y="586"/>
                  </a:lnTo>
                  <a:lnTo>
                    <a:pt x="176" y="920"/>
                  </a:lnTo>
                  <a:lnTo>
                    <a:pt x="480" y="766"/>
                  </a:lnTo>
                  <a:lnTo>
                    <a:pt x="778" y="929"/>
                  </a:lnTo>
                  <a:lnTo>
                    <a:pt x="726" y="594"/>
                  </a:lnTo>
                  <a:lnTo>
                    <a:pt x="973" y="360"/>
                  </a:lnTo>
                </a:path>
              </a:pathLst>
            </a:custGeom>
            <a:solidFill>
              <a:srgbClr val="ffdf8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27" name="Freeform 99"/>
            <p:cNvSpPr/>
            <p:nvPr/>
          </p:nvSpPr>
          <p:spPr>
            <a:xfrm>
              <a:off x="5002200" y="5087880"/>
              <a:ext cx="159840" cy="152280"/>
            </a:xfrm>
            <a:custGeom>
              <a:avLst/>
              <a:gdLst/>
              <a:ahLst/>
              <a:rect l="l" t="t" r="r" b="b"/>
              <a:pathLst>
                <a:path w="975" h="930">
                  <a:moveTo>
                    <a:pt x="974" y="360"/>
                  </a:moveTo>
                  <a:lnTo>
                    <a:pt x="639" y="307"/>
                  </a:lnTo>
                  <a:lnTo>
                    <a:pt x="492" y="0"/>
                  </a:lnTo>
                  <a:lnTo>
                    <a:pt x="338" y="302"/>
                  </a:lnTo>
                  <a:lnTo>
                    <a:pt x="0" y="345"/>
                  </a:lnTo>
                  <a:lnTo>
                    <a:pt x="241" y="586"/>
                  </a:lnTo>
                  <a:lnTo>
                    <a:pt x="177" y="920"/>
                  </a:lnTo>
                  <a:lnTo>
                    <a:pt x="481" y="766"/>
                  </a:lnTo>
                  <a:lnTo>
                    <a:pt x="779" y="929"/>
                  </a:lnTo>
                  <a:lnTo>
                    <a:pt x="727" y="594"/>
                  </a:lnTo>
                  <a:lnTo>
                    <a:pt x="974" y="360"/>
                  </a:lnTo>
                </a:path>
              </a:pathLst>
            </a:custGeom>
            <a:solidFill>
              <a:srgbClr val="ffdf8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28" name="Freeform 100"/>
            <p:cNvSpPr/>
            <p:nvPr/>
          </p:nvSpPr>
          <p:spPr>
            <a:xfrm>
              <a:off x="5191560" y="5087880"/>
              <a:ext cx="159840" cy="152280"/>
            </a:xfrm>
            <a:custGeom>
              <a:avLst/>
              <a:gdLst/>
              <a:ahLst/>
              <a:rect l="l" t="t" r="r" b="b"/>
              <a:pathLst>
                <a:path w="975" h="930">
                  <a:moveTo>
                    <a:pt x="974" y="360"/>
                  </a:moveTo>
                  <a:lnTo>
                    <a:pt x="639" y="307"/>
                  </a:lnTo>
                  <a:lnTo>
                    <a:pt x="493" y="0"/>
                  </a:lnTo>
                  <a:lnTo>
                    <a:pt x="338" y="302"/>
                  </a:lnTo>
                  <a:lnTo>
                    <a:pt x="0" y="345"/>
                  </a:lnTo>
                  <a:lnTo>
                    <a:pt x="240" y="586"/>
                  </a:lnTo>
                  <a:lnTo>
                    <a:pt x="178" y="920"/>
                  </a:lnTo>
                  <a:lnTo>
                    <a:pt x="481" y="766"/>
                  </a:lnTo>
                  <a:lnTo>
                    <a:pt x="779" y="929"/>
                  </a:lnTo>
                  <a:lnTo>
                    <a:pt x="727" y="594"/>
                  </a:lnTo>
                  <a:lnTo>
                    <a:pt x="974" y="360"/>
                  </a:lnTo>
                </a:path>
              </a:pathLst>
            </a:custGeom>
            <a:solidFill>
              <a:srgbClr val="ffdf82">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829" name="Group 58"/>
          <p:cNvGrpSpPr/>
          <p:nvPr/>
        </p:nvGrpSpPr>
        <p:grpSpPr>
          <a:xfrm>
            <a:off x="6869160" y="5087880"/>
            <a:ext cx="919080" cy="152280"/>
            <a:chOff x="6869160" y="5087880"/>
            <a:chExt cx="919080" cy="152280"/>
          </a:xfrm>
        </p:grpSpPr>
        <p:sp>
          <p:nvSpPr>
            <p:cNvPr id="830" name="Freeform 96"/>
            <p:cNvSpPr/>
            <p:nvPr/>
          </p:nvSpPr>
          <p:spPr>
            <a:xfrm>
              <a:off x="6869160" y="5087880"/>
              <a:ext cx="159840" cy="152280"/>
            </a:xfrm>
            <a:custGeom>
              <a:avLst/>
              <a:gdLst/>
              <a:ahLst/>
              <a:rect l="l" t="t" r="r" b="b"/>
              <a:pathLst>
                <a:path w="973" h="930">
                  <a:moveTo>
                    <a:pt x="972" y="360"/>
                  </a:moveTo>
                  <a:lnTo>
                    <a:pt x="638" y="307"/>
                  </a:lnTo>
                  <a:lnTo>
                    <a:pt x="492" y="0"/>
                  </a:lnTo>
                  <a:lnTo>
                    <a:pt x="337" y="302"/>
                  </a:lnTo>
                  <a:lnTo>
                    <a:pt x="0" y="345"/>
                  </a:lnTo>
                  <a:lnTo>
                    <a:pt x="239" y="586"/>
                  </a:lnTo>
                  <a:lnTo>
                    <a:pt x="177" y="920"/>
                  </a:lnTo>
                  <a:lnTo>
                    <a:pt x="480" y="766"/>
                  </a:lnTo>
                  <a:lnTo>
                    <a:pt x="778" y="929"/>
                  </a:lnTo>
                  <a:lnTo>
                    <a:pt x="725" y="594"/>
                  </a:lnTo>
                  <a:lnTo>
                    <a:pt x="972" y="360"/>
                  </a:lnTo>
                </a:path>
              </a:pathLst>
            </a:custGeom>
            <a:solidFill>
              <a:srgbClr val="ffdf8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31" name="Freeform 97"/>
            <p:cNvSpPr/>
            <p:nvPr/>
          </p:nvSpPr>
          <p:spPr>
            <a:xfrm>
              <a:off x="7059240" y="5087880"/>
              <a:ext cx="159840" cy="152280"/>
            </a:xfrm>
            <a:custGeom>
              <a:avLst/>
              <a:gdLst/>
              <a:ahLst/>
              <a:rect l="l" t="t" r="r" b="b"/>
              <a:pathLst>
                <a:path w="974" h="930">
                  <a:moveTo>
                    <a:pt x="973" y="360"/>
                  </a:moveTo>
                  <a:lnTo>
                    <a:pt x="637" y="307"/>
                  </a:lnTo>
                  <a:lnTo>
                    <a:pt x="492" y="0"/>
                  </a:lnTo>
                  <a:lnTo>
                    <a:pt x="337" y="302"/>
                  </a:lnTo>
                  <a:lnTo>
                    <a:pt x="0" y="345"/>
                  </a:lnTo>
                  <a:lnTo>
                    <a:pt x="239" y="586"/>
                  </a:lnTo>
                  <a:lnTo>
                    <a:pt x="177" y="920"/>
                  </a:lnTo>
                  <a:lnTo>
                    <a:pt x="479" y="766"/>
                  </a:lnTo>
                  <a:lnTo>
                    <a:pt x="778" y="929"/>
                  </a:lnTo>
                  <a:lnTo>
                    <a:pt x="726" y="594"/>
                  </a:lnTo>
                  <a:lnTo>
                    <a:pt x="973" y="360"/>
                  </a:lnTo>
                </a:path>
              </a:pathLst>
            </a:custGeom>
            <a:solidFill>
              <a:srgbClr val="ffdf8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32" name="Freeform 98"/>
            <p:cNvSpPr/>
            <p:nvPr/>
          </p:nvSpPr>
          <p:spPr>
            <a:xfrm>
              <a:off x="7248600" y="5087880"/>
              <a:ext cx="159840" cy="152280"/>
            </a:xfrm>
            <a:custGeom>
              <a:avLst/>
              <a:gdLst/>
              <a:ahLst/>
              <a:rect l="l" t="t" r="r" b="b"/>
              <a:pathLst>
                <a:path w="974" h="930">
                  <a:moveTo>
                    <a:pt x="973" y="360"/>
                  </a:moveTo>
                  <a:lnTo>
                    <a:pt x="637" y="307"/>
                  </a:lnTo>
                  <a:lnTo>
                    <a:pt x="491" y="0"/>
                  </a:lnTo>
                  <a:lnTo>
                    <a:pt x="337" y="302"/>
                  </a:lnTo>
                  <a:lnTo>
                    <a:pt x="0" y="345"/>
                  </a:lnTo>
                  <a:lnTo>
                    <a:pt x="239" y="586"/>
                  </a:lnTo>
                  <a:lnTo>
                    <a:pt x="176" y="920"/>
                  </a:lnTo>
                  <a:lnTo>
                    <a:pt x="480" y="766"/>
                  </a:lnTo>
                  <a:lnTo>
                    <a:pt x="778" y="929"/>
                  </a:lnTo>
                  <a:lnTo>
                    <a:pt x="726" y="594"/>
                  </a:lnTo>
                  <a:lnTo>
                    <a:pt x="973" y="360"/>
                  </a:lnTo>
                </a:path>
              </a:pathLst>
            </a:custGeom>
            <a:solidFill>
              <a:srgbClr val="ffdf8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33" name="Freeform 99"/>
            <p:cNvSpPr/>
            <p:nvPr/>
          </p:nvSpPr>
          <p:spPr>
            <a:xfrm>
              <a:off x="7439040" y="5087880"/>
              <a:ext cx="159840" cy="152280"/>
            </a:xfrm>
            <a:custGeom>
              <a:avLst/>
              <a:gdLst/>
              <a:ahLst/>
              <a:rect l="l" t="t" r="r" b="b"/>
              <a:pathLst>
                <a:path w="975" h="930">
                  <a:moveTo>
                    <a:pt x="974" y="360"/>
                  </a:moveTo>
                  <a:lnTo>
                    <a:pt x="639" y="307"/>
                  </a:lnTo>
                  <a:lnTo>
                    <a:pt x="492" y="0"/>
                  </a:lnTo>
                  <a:lnTo>
                    <a:pt x="338" y="302"/>
                  </a:lnTo>
                  <a:lnTo>
                    <a:pt x="0" y="345"/>
                  </a:lnTo>
                  <a:lnTo>
                    <a:pt x="241" y="586"/>
                  </a:lnTo>
                  <a:lnTo>
                    <a:pt x="177" y="920"/>
                  </a:lnTo>
                  <a:lnTo>
                    <a:pt x="481" y="766"/>
                  </a:lnTo>
                  <a:lnTo>
                    <a:pt x="779" y="929"/>
                  </a:lnTo>
                  <a:lnTo>
                    <a:pt x="727" y="594"/>
                  </a:lnTo>
                  <a:lnTo>
                    <a:pt x="974" y="360"/>
                  </a:lnTo>
                </a:path>
              </a:pathLst>
            </a:custGeom>
            <a:solidFill>
              <a:srgbClr val="ffdf8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34" name="Freeform 100"/>
            <p:cNvSpPr/>
            <p:nvPr/>
          </p:nvSpPr>
          <p:spPr>
            <a:xfrm>
              <a:off x="7628400" y="5087880"/>
              <a:ext cx="159840" cy="152280"/>
            </a:xfrm>
            <a:custGeom>
              <a:avLst/>
              <a:gdLst/>
              <a:ahLst/>
              <a:rect l="l" t="t" r="r" b="b"/>
              <a:pathLst>
                <a:path w="975" h="930">
                  <a:moveTo>
                    <a:pt x="974" y="360"/>
                  </a:moveTo>
                  <a:lnTo>
                    <a:pt x="639" y="307"/>
                  </a:lnTo>
                  <a:lnTo>
                    <a:pt x="493" y="0"/>
                  </a:lnTo>
                  <a:lnTo>
                    <a:pt x="338" y="302"/>
                  </a:lnTo>
                  <a:lnTo>
                    <a:pt x="0" y="345"/>
                  </a:lnTo>
                  <a:lnTo>
                    <a:pt x="240" y="586"/>
                  </a:lnTo>
                  <a:lnTo>
                    <a:pt x="178" y="920"/>
                  </a:lnTo>
                  <a:lnTo>
                    <a:pt x="481" y="766"/>
                  </a:lnTo>
                  <a:lnTo>
                    <a:pt x="779" y="929"/>
                  </a:lnTo>
                  <a:lnTo>
                    <a:pt x="727" y="594"/>
                  </a:lnTo>
                  <a:lnTo>
                    <a:pt x="974" y="360"/>
                  </a:lnTo>
                </a:path>
              </a:pathLst>
            </a:custGeom>
            <a:solidFill>
              <a:srgbClr val="ffdf82">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835" name="TextBox 64"/>
          <p:cNvSpPr/>
          <p:nvPr/>
        </p:nvSpPr>
        <p:spPr>
          <a:xfrm>
            <a:off x="6697800" y="4532400"/>
            <a:ext cx="12618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030227"/>
                </a:solidFill>
                <a:latin typeface="Open Sans"/>
                <a:ea typeface="Open Sans"/>
              </a:rPr>
              <a:t>Man</a:t>
            </a:r>
            <a:endParaRPr b="0" lang="en-US" sz="1400" spc="-1" strike="noStrike">
              <a:solidFill>
                <a:srgbClr val="000000"/>
              </a:solidFill>
              <a:latin typeface="Calibri"/>
            </a:endParaRPr>
          </a:p>
        </p:txBody>
      </p:sp>
      <p:sp>
        <p:nvSpPr>
          <p:cNvPr id="836" name="TextBox 65"/>
          <p:cNvSpPr/>
          <p:nvPr/>
        </p:nvSpPr>
        <p:spPr>
          <a:xfrm>
            <a:off x="289080" y="2205000"/>
            <a:ext cx="2266920" cy="538200"/>
          </a:xfrm>
          <a:prstGeom prst="rect">
            <a:avLst/>
          </a:prstGeom>
          <a:noFill/>
          <a:ln w="0">
            <a:noFill/>
          </a:ln>
        </p:spPr>
        <p:style>
          <a:lnRef idx="0"/>
          <a:fillRef idx="0"/>
          <a:effectRef idx="0"/>
          <a:fontRef idx="minor"/>
        </p:style>
        <p:txBody>
          <a:bodyPr lIns="90000" rIns="90000" tIns="46800" bIns="46800" anchor="t">
            <a:spAutoFit/>
          </a:bodyPr>
          <a:p>
            <a:pPr algn="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Raleway"/>
              </a:rPr>
              <a:t>Goals</a:t>
            </a:r>
            <a:endParaRPr b="0" lang="en-US" sz="1600" spc="-1" strike="noStrike">
              <a:solidFill>
                <a:srgbClr val="000000"/>
              </a:solidFill>
              <a:latin typeface="Calibri"/>
            </a:endParaRPr>
          </a:p>
        </p:txBody>
      </p:sp>
      <p:sp>
        <p:nvSpPr>
          <p:cNvPr id="837" name="TextBox 66"/>
          <p:cNvSpPr/>
          <p:nvPr/>
        </p:nvSpPr>
        <p:spPr>
          <a:xfrm>
            <a:off x="563400" y="2635200"/>
            <a:ext cx="1990800" cy="5958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Raleway Light"/>
              </a:rPr>
              <a:t>Put your data, pick any infographic, customize it, </a:t>
            </a:r>
            <a:endParaRPr b="0" lang="en-US" sz="1100" spc="-1" strike="noStrike">
              <a:solidFill>
                <a:srgbClr val="000000"/>
              </a:solidFill>
              <a:latin typeface="Calibri"/>
            </a:endParaRPr>
          </a:p>
        </p:txBody>
      </p:sp>
      <p:sp>
        <p:nvSpPr>
          <p:cNvPr id="838" name="TextBox 67"/>
          <p:cNvSpPr/>
          <p:nvPr/>
        </p:nvSpPr>
        <p:spPr>
          <a:xfrm>
            <a:off x="692280" y="4965840"/>
            <a:ext cx="1887480" cy="538200"/>
          </a:xfrm>
          <a:prstGeom prst="rect">
            <a:avLst/>
          </a:prstGeom>
          <a:noFill/>
          <a:ln w="0">
            <a:noFill/>
          </a:ln>
        </p:spPr>
        <p:style>
          <a:lnRef idx="0"/>
          <a:fillRef idx="0"/>
          <a:effectRef idx="0"/>
          <a:fontRef idx="minor"/>
        </p:style>
        <p:txBody>
          <a:bodyPr lIns="90000" rIns="90000" tIns="46800" bIns="46800" anchor="t">
            <a:spAutoFit/>
          </a:bodyPr>
          <a:p>
            <a:pPr algn="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Raleway"/>
              </a:rPr>
              <a:t>International</a:t>
            </a:r>
            <a:endParaRPr b="0" lang="en-US" sz="1400" spc="-1" strike="noStrike">
              <a:solidFill>
                <a:srgbClr val="000000"/>
              </a:solidFill>
              <a:latin typeface="Calibri"/>
            </a:endParaRPr>
          </a:p>
        </p:txBody>
      </p:sp>
      <p:sp>
        <p:nvSpPr>
          <p:cNvPr id="839" name="TextBox 68"/>
          <p:cNvSpPr/>
          <p:nvPr/>
        </p:nvSpPr>
        <p:spPr>
          <a:xfrm>
            <a:off x="539640" y="5524560"/>
            <a:ext cx="1990800" cy="8467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Raleway Light"/>
              </a:rPr>
              <a:t>Put your data, pick any infographic, customize it, and. </a:t>
            </a:r>
            <a:endParaRPr b="0" lang="en-US" sz="1100" spc="-1" strike="noStrike">
              <a:solidFill>
                <a:srgbClr val="000000"/>
              </a:solidFill>
              <a:latin typeface="Calibri"/>
            </a:endParaRPr>
          </a:p>
        </p:txBody>
      </p:sp>
      <p:sp>
        <p:nvSpPr>
          <p:cNvPr id="840" name="TextBox 69"/>
          <p:cNvSpPr/>
          <p:nvPr/>
        </p:nvSpPr>
        <p:spPr>
          <a:xfrm>
            <a:off x="9488520" y="2244600"/>
            <a:ext cx="226692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Raleway"/>
              </a:rPr>
              <a:t>Goals</a:t>
            </a:r>
            <a:endParaRPr b="0" lang="en-US" sz="1400" spc="-1" strike="noStrike">
              <a:solidFill>
                <a:srgbClr val="000000"/>
              </a:solidFill>
              <a:latin typeface="Calibri"/>
            </a:endParaRPr>
          </a:p>
        </p:txBody>
      </p:sp>
      <p:sp>
        <p:nvSpPr>
          <p:cNvPr id="841" name="TextBox 70"/>
          <p:cNvSpPr/>
          <p:nvPr/>
        </p:nvSpPr>
        <p:spPr>
          <a:xfrm>
            <a:off x="9488520" y="2751120"/>
            <a:ext cx="213984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Raleway Light"/>
              </a:rPr>
              <a:t>Put your data, pick any infographic, customize it, and</a:t>
            </a:r>
            <a:endParaRPr b="0" lang="en-US" sz="1100" spc="-1" strike="noStrike">
              <a:solidFill>
                <a:srgbClr val="000000"/>
              </a:solidFill>
              <a:latin typeface="Calibri"/>
            </a:endParaRPr>
          </a:p>
        </p:txBody>
      </p:sp>
      <p:sp>
        <p:nvSpPr>
          <p:cNvPr id="842" name="TextBox 71"/>
          <p:cNvSpPr/>
          <p:nvPr/>
        </p:nvSpPr>
        <p:spPr>
          <a:xfrm>
            <a:off x="9488520" y="5019840"/>
            <a:ext cx="215748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Raleway"/>
              </a:rPr>
              <a:t>International</a:t>
            </a:r>
            <a:endParaRPr b="0" lang="en-US" sz="1400" spc="-1" strike="noStrike">
              <a:solidFill>
                <a:srgbClr val="000000"/>
              </a:solidFill>
              <a:latin typeface="Calibri"/>
            </a:endParaRPr>
          </a:p>
        </p:txBody>
      </p:sp>
      <p:sp>
        <p:nvSpPr>
          <p:cNvPr id="843" name="TextBox 72"/>
          <p:cNvSpPr/>
          <p:nvPr/>
        </p:nvSpPr>
        <p:spPr>
          <a:xfrm>
            <a:off x="9488520" y="5578560"/>
            <a:ext cx="23781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Raleway Light"/>
              </a:rPr>
              <a:t>Put your data, pick any infographic, customize it, and done. </a:t>
            </a:r>
            <a:endParaRPr b="0" lang="en-US" sz="1100" spc="-1" strike="noStrike">
              <a:solidFill>
                <a:srgbClr val="000000"/>
              </a:solidFill>
              <a:latin typeface="Calibri"/>
            </a:endParaRPr>
          </a:p>
        </p:txBody>
      </p:sp>
      <p:sp>
        <p:nvSpPr>
          <p:cNvPr id="844" name="Graphic 25"/>
          <p:cNvSpPr/>
          <p:nvPr/>
        </p:nvSpPr>
        <p:spPr>
          <a:xfrm>
            <a:off x="2766960" y="5187960"/>
            <a:ext cx="273240" cy="249120"/>
          </a:xfrm>
          <a:custGeom>
            <a:avLst/>
            <a:gdLst/>
            <a:ahLst/>
            <a:rect l="l" t="t" r="r" b="b"/>
            <a:pathLst>
              <a:path w="21512" h="21600">
                <a:moveTo>
                  <a:pt x="9865" y="0"/>
                </a:moveTo>
                <a:cubicBezTo>
                  <a:pt x="4423" y="0"/>
                  <a:pt x="0" y="4822"/>
                  <a:pt x="0" y="10787"/>
                </a:cubicBezTo>
                <a:cubicBezTo>
                  <a:pt x="0" y="16752"/>
                  <a:pt x="4423" y="21600"/>
                  <a:pt x="9865" y="21600"/>
                </a:cubicBezTo>
                <a:cubicBezTo>
                  <a:pt x="15307" y="21600"/>
                  <a:pt x="19706" y="16752"/>
                  <a:pt x="19706" y="10787"/>
                </a:cubicBezTo>
                <a:cubicBezTo>
                  <a:pt x="19706" y="9670"/>
                  <a:pt x="19559" y="8601"/>
                  <a:pt x="19272" y="7588"/>
                </a:cubicBezTo>
                <a:lnTo>
                  <a:pt x="12880" y="14594"/>
                </a:lnTo>
                <a:cubicBezTo>
                  <a:pt x="12373" y="15151"/>
                  <a:pt x="11692" y="15466"/>
                  <a:pt x="10975" y="15466"/>
                </a:cubicBezTo>
                <a:cubicBezTo>
                  <a:pt x="10257" y="15466"/>
                  <a:pt x="9576" y="15151"/>
                  <a:pt x="9069" y="14594"/>
                </a:cubicBezTo>
                <a:lnTo>
                  <a:pt x="5258" y="10417"/>
                </a:lnTo>
                <a:cubicBezTo>
                  <a:pt x="4750" y="9861"/>
                  <a:pt x="4486" y="9115"/>
                  <a:pt x="4486" y="8328"/>
                </a:cubicBezTo>
                <a:cubicBezTo>
                  <a:pt x="4486" y="7541"/>
                  <a:pt x="4750" y="6822"/>
                  <a:pt x="5258" y="6266"/>
                </a:cubicBezTo>
                <a:cubicBezTo>
                  <a:pt x="5765" y="5709"/>
                  <a:pt x="6446" y="5393"/>
                  <a:pt x="7164" y="5393"/>
                </a:cubicBezTo>
                <a:cubicBezTo>
                  <a:pt x="7881" y="5393"/>
                  <a:pt x="8562" y="5709"/>
                  <a:pt x="9069" y="6266"/>
                </a:cubicBezTo>
                <a:lnTo>
                  <a:pt x="10975" y="8354"/>
                </a:lnTo>
                <a:lnTo>
                  <a:pt x="16233" y="2565"/>
                </a:lnTo>
                <a:cubicBezTo>
                  <a:pt x="14513" y="957"/>
                  <a:pt x="12302" y="0"/>
                  <a:pt x="9865" y="0"/>
                </a:cubicBezTo>
                <a:close/>
                <a:moveTo>
                  <a:pt x="20599" y="978"/>
                </a:moveTo>
                <a:cubicBezTo>
                  <a:pt x="20370" y="978"/>
                  <a:pt x="20147" y="1077"/>
                  <a:pt x="19972" y="1269"/>
                </a:cubicBezTo>
                <a:lnTo>
                  <a:pt x="10975" y="11130"/>
                </a:lnTo>
                <a:lnTo>
                  <a:pt x="7791" y="7641"/>
                </a:lnTo>
                <a:cubicBezTo>
                  <a:pt x="7440" y="7257"/>
                  <a:pt x="6887" y="7257"/>
                  <a:pt x="6537" y="7641"/>
                </a:cubicBezTo>
                <a:cubicBezTo>
                  <a:pt x="6186" y="8024"/>
                  <a:pt x="6186" y="8658"/>
                  <a:pt x="6537" y="9042"/>
                </a:cubicBezTo>
                <a:lnTo>
                  <a:pt x="10348" y="13193"/>
                </a:lnTo>
                <a:cubicBezTo>
                  <a:pt x="10522" y="13384"/>
                  <a:pt x="10745" y="13483"/>
                  <a:pt x="10975" y="13483"/>
                </a:cubicBezTo>
                <a:cubicBezTo>
                  <a:pt x="11204" y="13483"/>
                  <a:pt x="11427" y="13384"/>
                  <a:pt x="11602" y="13193"/>
                </a:cubicBezTo>
                <a:lnTo>
                  <a:pt x="21250" y="2644"/>
                </a:lnTo>
                <a:cubicBezTo>
                  <a:pt x="21600" y="2260"/>
                  <a:pt x="21600" y="1653"/>
                  <a:pt x="21250" y="1269"/>
                </a:cubicBezTo>
                <a:cubicBezTo>
                  <a:pt x="21075" y="1077"/>
                  <a:pt x="20828" y="978"/>
                  <a:pt x="20599" y="978"/>
                </a:cubicBezTo>
                <a:close/>
              </a:path>
            </a:pathLst>
          </a:custGeom>
          <a:solidFill>
            <a:srgbClr val="06d6ff"/>
          </a:solidFill>
          <a:ln w="0">
            <a:noFill/>
          </a:ln>
        </p:spPr>
        <p:style>
          <a:lnRef idx="0"/>
          <a:fillRef idx="0"/>
          <a:effectRef idx="0"/>
          <a:fontRef idx="minor"/>
        </p:style>
        <p:txBody>
          <a:bodyPr lIns="45360" rIns="45360" tIns="46800" bIns="46800" anchor="ctr">
            <a:noAutofit/>
          </a:bodyPr>
          <a:p>
            <a:endParaRPr b="0" lang="en-US" sz="1800" spc="-1" strike="noStrike">
              <a:solidFill>
                <a:srgbClr val="000000"/>
              </a:solidFill>
              <a:latin typeface="Calibri"/>
            </a:endParaRPr>
          </a:p>
        </p:txBody>
      </p:sp>
      <p:sp>
        <p:nvSpPr>
          <p:cNvPr id="845" name="Graphic 25"/>
          <p:cNvSpPr/>
          <p:nvPr/>
        </p:nvSpPr>
        <p:spPr>
          <a:xfrm>
            <a:off x="2766960" y="2444760"/>
            <a:ext cx="273240" cy="250920"/>
          </a:xfrm>
          <a:custGeom>
            <a:avLst/>
            <a:gdLst/>
            <a:ahLst/>
            <a:rect l="l" t="t" r="r" b="b"/>
            <a:pathLst>
              <a:path w="21512" h="21600">
                <a:moveTo>
                  <a:pt x="9865" y="0"/>
                </a:moveTo>
                <a:cubicBezTo>
                  <a:pt x="4423" y="0"/>
                  <a:pt x="0" y="4822"/>
                  <a:pt x="0" y="10787"/>
                </a:cubicBezTo>
                <a:cubicBezTo>
                  <a:pt x="0" y="16752"/>
                  <a:pt x="4423" y="21600"/>
                  <a:pt x="9865" y="21600"/>
                </a:cubicBezTo>
                <a:cubicBezTo>
                  <a:pt x="15307" y="21600"/>
                  <a:pt x="19706" y="16752"/>
                  <a:pt x="19706" y="10787"/>
                </a:cubicBezTo>
                <a:cubicBezTo>
                  <a:pt x="19706" y="9670"/>
                  <a:pt x="19559" y="8601"/>
                  <a:pt x="19272" y="7588"/>
                </a:cubicBezTo>
                <a:lnTo>
                  <a:pt x="12880" y="14594"/>
                </a:lnTo>
                <a:cubicBezTo>
                  <a:pt x="12373" y="15151"/>
                  <a:pt x="11692" y="15466"/>
                  <a:pt x="10975" y="15466"/>
                </a:cubicBezTo>
                <a:cubicBezTo>
                  <a:pt x="10257" y="15466"/>
                  <a:pt x="9576" y="15151"/>
                  <a:pt x="9069" y="14594"/>
                </a:cubicBezTo>
                <a:lnTo>
                  <a:pt x="5258" y="10417"/>
                </a:lnTo>
                <a:cubicBezTo>
                  <a:pt x="4750" y="9861"/>
                  <a:pt x="4486" y="9115"/>
                  <a:pt x="4486" y="8328"/>
                </a:cubicBezTo>
                <a:cubicBezTo>
                  <a:pt x="4486" y="7541"/>
                  <a:pt x="4750" y="6822"/>
                  <a:pt x="5258" y="6266"/>
                </a:cubicBezTo>
                <a:cubicBezTo>
                  <a:pt x="5765" y="5709"/>
                  <a:pt x="6446" y="5393"/>
                  <a:pt x="7164" y="5393"/>
                </a:cubicBezTo>
                <a:cubicBezTo>
                  <a:pt x="7881" y="5393"/>
                  <a:pt x="8562" y="5709"/>
                  <a:pt x="9069" y="6266"/>
                </a:cubicBezTo>
                <a:lnTo>
                  <a:pt x="10975" y="8354"/>
                </a:lnTo>
                <a:lnTo>
                  <a:pt x="16233" y="2565"/>
                </a:lnTo>
                <a:cubicBezTo>
                  <a:pt x="14513" y="957"/>
                  <a:pt x="12302" y="0"/>
                  <a:pt x="9865" y="0"/>
                </a:cubicBezTo>
                <a:close/>
                <a:moveTo>
                  <a:pt x="20599" y="978"/>
                </a:moveTo>
                <a:cubicBezTo>
                  <a:pt x="20370" y="978"/>
                  <a:pt x="20147" y="1077"/>
                  <a:pt x="19972" y="1269"/>
                </a:cubicBezTo>
                <a:lnTo>
                  <a:pt x="10975" y="11130"/>
                </a:lnTo>
                <a:lnTo>
                  <a:pt x="7791" y="7641"/>
                </a:lnTo>
                <a:cubicBezTo>
                  <a:pt x="7440" y="7257"/>
                  <a:pt x="6887" y="7257"/>
                  <a:pt x="6537" y="7641"/>
                </a:cubicBezTo>
                <a:cubicBezTo>
                  <a:pt x="6186" y="8024"/>
                  <a:pt x="6186" y="8658"/>
                  <a:pt x="6537" y="9042"/>
                </a:cubicBezTo>
                <a:lnTo>
                  <a:pt x="10348" y="13193"/>
                </a:lnTo>
                <a:cubicBezTo>
                  <a:pt x="10522" y="13384"/>
                  <a:pt x="10745" y="13483"/>
                  <a:pt x="10975" y="13483"/>
                </a:cubicBezTo>
                <a:cubicBezTo>
                  <a:pt x="11204" y="13483"/>
                  <a:pt x="11427" y="13384"/>
                  <a:pt x="11602" y="13193"/>
                </a:cubicBezTo>
                <a:lnTo>
                  <a:pt x="21250" y="2644"/>
                </a:lnTo>
                <a:cubicBezTo>
                  <a:pt x="21600" y="2260"/>
                  <a:pt x="21600" y="1653"/>
                  <a:pt x="21250" y="1269"/>
                </a:cubicBezTo>
                <a:cubicBezTo>
                  <a:pt x="21075" y="1077"/>
                  <a:pt x="20828" y="978"/>
                  <a:pt x="20599" y="978"/>
                </a:cubicBezTo>
                <a:close/>
              </a:path>
            </a:pathLst>
          </a:custGeom>
          <a:solidFill>
            <a:srgbClr val="ff4e95"/>
          </a:solidFill>
          <a:ln w="0">
            <a:noFill/>
          </a:ln>
        </p:spPr>
        <p:style>
          <a:lnRef idx="0"/>
          <a:fillRef idx="0"/>
          <a:effectRef idx="0"/>
          <a:fontRef idx="minor"/>
        </p:style>
        <p:txBody>
          <a:bodyPr lIns="45360" rIns="45360" tIns="46800" bIns="46800" anchor="ctr">
            <a:noAutofit/>
          </a:bodyPr>
          <a:p>
            <a:endParaRPr b="0" lang="en-US" sz="1800" spc="-1" strike="noStrike">
              <a:solidFill>
                <a:srgbClr val="000000"/>
              </a:solidFill>
              <a:latin typeface="Calibri"/>
            </a:endParaRPr>
          </a:p>
        </p:txBody>
      </p:sp>
      <p:sp>
        <p:nvSpPr>
          <p:cNvPr id="846" name="Graphic 25"/>
          <p:cNvSpPr/>
          <p:nvPr/>
        </p:nvSpPr>
        <p:spPr>
          <a:xfrm>
            <a:off x="9136080" y="5187960"/>
            <a:ext cx="274680" cy="249120"/>
          </a:xfrm>
          <a:custGeom>
            <a:avLst/>
            <a:gdLst/>
            <a:ahLst/>
            <a:rect l="l" t="t" r="r" b="b"/>
            <a:pathLst>
              <a:path w="21512" h="21600">
                <a:moveTo>
                  <a:pt x="9865" y="0"/>
                </a:moveTo>
                <a:cubicBezTo>
                  <a:pt x="4423" y="0"/>
                  <a:pt x="0" y="4822"/>
                  <a:pt x="0" y="10787"/>
                </a:cubicBezTo>
                <a:cubicBezTo>
                  <a:pt x="0" y="16752"/>
                  <a:pt x="4423" y="21600"/>
                  <a:pt x="9865" y="21600"/>
                </a:cubicBezTo>
                <a:cubicBezTo>
                  <a:pt x="15307" y="21600"/>
                  <a:pt x="19706" y="16752"/>
                  <a:pt x="19706" y="10787"/>
                </a:cubicBezTo>
                <a:cubicBezTo>
                  <a:pt x="19706" y="9670"/>
                  <a:pt x="19559" y="8601"/>
                  <a:pt x="19272" y="7588"/>
                </a:cubicBezTo>
                <a:lnTo>
                  <a:pt x="12880" y="14594"/>
                </a:lnTo>
                <a:cubicBezTo>
                  <a:pt x="12373" y="15151"/>
                  <a:pt x="11692" y="15466"/>
                  <a:pt x="10975" y="15466"/>
                </a:cubicBezTo>
                <a:cubicBezTo>
                  <a:pt x="10257" y="15466"/>
                  <a:pt x="9576" y="15151"/>
                  <a:pt x="9069" y="14594"/>
                </a:cubicBezTo>
                <a:lnTo>
                  <a:pt x="5258" y="10417"/>
                </a:lnTo>
                <a:cubicBezTo>
                  <a:pt x="4750" y="9861"/>
                  <a:pt x="4486" y="9115"/>
                  <a:pt x="4486" y="8328"/>
                </a:cubicBezTo>
                <a:cubicBezTo>
                  <a:pt x="4486" y="7541"/>
                  <a:pt x="4750" y="6822"/>
                  <a:pt x="5258" y="6266"/>
                </a:cubicBezTo>
                <a:cubicBezTo>
                  <a:pt x="5765" y="5709"/>
                  <a:pt x="6446" y="5393"/>
                  <a:pt x="7164" y="5393"/>
                </a:cubicBezTo>
                <a:cubicBezTo>
                  <a:pt x="7881" y="5393"/>
                  <a:pt x="8562" y="5709"/>
                  <a:pt x="9069" y="6266"/>
                </a:cubicBezTo>
                <a:lnTo>
                  <a:pt x="10975" y="8354"/>
                </a:lnTo>
                <a:lnTo>
                  <a:pt x="16233" y="2565"/>
                </a:lnTo>
                <a:cubicBezTo>
                  <a:pt x="14513" y="957"/>
                  <a:pt x="12302" y="0"/>
                  <a:pt x="9865" y="0"/>
                </a:cubicBezTo>
                <a:close/>
                <a:moveTo>
                  <a:pt x="20599" y="978"/>
                </a:moveTo>
                <a:cubicBezTo>
                  <a:pt x="20370" y="978"/>
                  <a:pt x="20147" y="1077"/>
                  <a:pt x="19972" y="1269"/>
                </a:cubicBezTo>
                <a:lnTo>
                  <a:pt x="10975" y="11130"/>
                </a:lnTo>
                <a:lnTo>
                  <a:pt x="7791" y="7641"/>
                </a:lnTo>
                <a:cubicBezTo>
                  <a:pt x="7440" y="7257"/>
                  <a:pt x="6887" y="7257"/>
                  <a:pt x="6537" y="7641"/>
                </a:cubicBezTo>
                <a:cubicBezTo>
                  <a:pt x="6186" y="8024"/>
                  <a:pt x="6186" y="8658"/>
                  <a:pt x="6537" y="9042"/>
                </a:cubicBezTo>
                <a:lnTo>
                  <a:pt x="10348" y="13193"/>
                </a:lnTo>
                <a:cubicBezTo>
                  <a:pt x="10522" y="13384"/>
                  <a:pt x="10745" y="13483"/>
                  <a:pt x="10975" y="13483"/>
                </a:cubicBezTo>
                <a:cubicBezTo>
                  <a:pt x="11204" y="13483"/>
                  <a:pt x="11427" y="13384"/>
                  <a:pt x="11602" y="13193"/>
                </a:cubicBezTo>
                <a:lnTo>
                  <a:pt x="21250" y="2644"/>
                </a:lnTo>
                <a:cubicBezTo>
                  <a:pt x="21600" y="2260"/>
                  <a:pt x="21600" y="1653"/>
                  <a:pt x="21250" y="1269"/>
                </a:cubicBezTo>
                <a:cubicBezTo>
                  <a:pt x="21075" y="1077"/>
                  <a:pt x="20828" y="978"/>
                  <a:pt x="20599" y="978"/>
                </a:cubicBezTo>
                <a:close/>
              </a:path>
            </a:pathLst>
          </a:custGeom>
          <a:solidFill>
            <a:srgbClr val="06d6ff"/>
          </a:solidFill>
          <a:ln w="0">
            <a:noFill/>
          </a:ln>
        </p:spPr>
        <p:style>
          <a:lnRef idx="0"/>
          <a:fillRef idx="0"/>
          <a:effectRef idx="0"/>
          <a:fontRef idx="minor"/>
        </p:style>
        <p:txBody>
          <a:bodyPr lIns="45360" rIns="45360" tIns="46800" bIns="46800" anchor="ctr">
            <a:noAutofit/>
          </a:bodyPr>
          <a:p>
            <a:endParaRPr b="0" lang="en-US" sz="1800" spc="-1" strike="noStrike">
              <a:solidFill>
                <a:srgbClr val="000000"/>
              </a:solidFill>
              <a:latin typeface="Calibri"/>
            </a:endParaRPr>
          </a:p>
        </p:txBody>
      </p:sp>
      <p:sp>
        <p:nvSpPr>
          <p:cNvPr id="847" name="Graphic 25"/>
          <p:cNvSpPr/>
          <p:nvPr/>
        </p:nvSpPr>
        <p:spPr>
          <a:xfrm>
            <a:off x="9136080" y="2444760"/>
            <a:ext cx="274680" cy="250920"/>
          </a:xfrm>
          <a:custGeom>
            <a:avLst/>
            <a:gdLst/>
            <a:ahLst/>
            <a:rect l="l" t="t" r="r" b="b"/>
            <a:pathLst>
              <a:path w="21512" h="21600">
                <a:moveTo>
                  <a:pt x="9865" y="0"/>
                </a:moveTo>
                <a:cubicBezTo>
                  <a:pt x="4423" y="0"/>
                  <a:pt x="0" y="4822"/>
                  <a:pt x="0" y="10787"/>
                </a:cubicBezTo>
                <a:cubicBezTo>
                  <a:pt x="0" y="16752"/>
                  <a:pt x="4423" y="21600"/>
                  <a:pt x="9865" y="21600"/>
                </a:cubicBezTo>
                <a:cubicBezTo>
                  <a:pt x="15307" y="21600"/>
                  <a:pt x="19706" y="16752"/>
                  <a:pt x="19706" y="10787"/>
                </a:cubicBezTo>
                <a:cubicBezTo>
                  <a:pt x="19706" y="9670"/>
                  <a:pt x="19559" y="8601"/>
                  <a:pt x="19272" y="7588"/>
                </a:cubicBezTo>
                <a:lnTo>
                  <a:pt x="12880" y="14594"/>
                </a:lnTo>
                <a:cubicBezTo>
                  <a:pt x="12373" y="15151"/>
                  <a:pt x="11692" y="15466"/>
                  <a:pt x="10975" y="15466"/>
                </a:cubicBezTo>
                <a:cubicBezTo>
                  <a:pt x="10257" y="15466"/>
                  <a:pt x="9576" y="15151"/>
                  <a:pt x="9069" y="14594"/>
                </a:cubicBezTo>
                <a:lnTo>
                  <a:pt x="5258" y="10417"/>
                </a:lnTo>
                <a:cubicBezTo>
                  <a:pt x="4750" y="9861"/>
                  <a:pt x="4486" y="9115"/>
                  <a:pt x="4486" y="8328"/>
                </a:cubicBezTo>
                <a:cubicBezTo>
                  <a:pt x="4486" y="7541"/>
                  <a:pt x="4750" y="6822"/>
                  <a:pt x="5258" y="6266"/>
                </a:cubicBezTo>
                <a:cubicBezTo>
                  <a:pt x="5765" y="5709"/>
                  <a:pt x="6446" y="5393"/>
                  <a:pt x="7164" y="5393"/>
                </a:cubicBezTo>
                <a:cubicBezTo>
                  <a:pt x="7881" y="5393"/>
                  <a:pt x="8562" y="5709"/>
                  <a:pt x="9069" y="6266"/>
                </a:cubicBezTo>
                <a:lnTo>
                  <a:pt x="10975" y="8354"/>
                </a:lnTo>
                <a:lnTo>
                  <a:pt x="16233" y="2565"/>
                </a:lnTo>
                <a:cubicBezTo>
                  <a:pt x="14513" y="957"/>
                  <a:pt x="12302" y="0"/>
                  <a:pt x="9865" y="0"/>
                </a:cubicBezTo>
                <a:close/>
                <a:moveTo>
                  <a:pt x="20599" y="978"/>
                </a:moveTo>
                <a:cubicBezTo>
                  <a:pt x="20370" y="978"/>
                  <a:pt x="20147" y="1077"/>
                  <a:pt x="19972" y="1269"/>
                </a:cubicBezTo>
                <a:lnTo>
                  <a:pt x="10975" y="11130"/>
                </a:lnTo>
                <a:lnTo>
                  <a:pt x="7791" y="7641"/>
                </a:lnTo>
                <a:cubicBezTo>
                  <a:pt x="7440" y="7257"/>
                  <a:pt x="6887" y="7257"/>
                  <a:pt x="6537" y="7641"/>
                </a:cubicBezTo>
                <a:cubicBezTo>
                  <a:pt x="6186" y="8024"/>
                  <a:pt x="6186" y="8658"/>
                  <a:pt x="6537" y="9042"/>
                </a:cubicBezTo>
                <a:lnTo>
                  <a:pt x="10348" y="13193"/>
                </a:lnTo>
                <a:cubicBezTo>
                  <a:pt x="10522" y="13384"/>
                  <a:pt x="10745" y="13483"/>
                  <a:pt x="10975" y="13483"/>
                </a:cubicBezTo>
                <a:cubicBezTo>
                  <a:pt x="11204" y="13483"/>
                  <a:pt x="11427" y="13384"/>
                  <a:pt x="11602" y="13193"/>
                </a:cubicBezTo>
                <a:lnTo>
                  <a:pt x="21250" y="2644"/>
                </a:lnTo>
                <a:cubicBezTo>
                  <a:pt x="21600" y="2260"/>
                  <a:pt x="21600" y="1653"/>
                  <a:pt x="21250" y="1269"/>
                </a:cubicBezTo>
                <a:cubicBezTo>
                  <a:pt x="21075" y="1077"/>
                  <a:pt x="20828" y="978"/>
                  <a:pt x="20599" y="978"/>
                </a:cubicBezTo>
                <a:close/>
              </a:path>
            </a:pathLst>
          </a:custGeom>
          <a:solidFill>
            <a:srgbClr val="ff4e95"/>
          </a:solidFill>
          <a:ln w="0">
            <a:noFill/>
          </a:ln>
        </p:spPr>
        <p:style>
          <a:lnRef idx="0"/>
          <a:fillRef idx="0"/>
          <a:effectRef idx="0"/>
          <a:fontRef idx="minor"/>
        </p:style>
        <p:txBody>
          <a:bodyPr lIns="45360" rIns="45360" tIns="46800" bIns="46800" anchor="ctr">
            <a:noAutofit/>
          </a:bodyPr>
          <a:p>
            <a:endParaRPr b="0" lang="en-US" sz="1800" spc="-1" strike="noStrike">
              <a:solidFill>
                <a:srgbClr val="000000"/>
              </a:solidFill>
              <a:latin typeface="Calibri"/>
            </a:endParaRPr>
          </a:p>
        </p:txBody>
      </p:sp>
      <p:sp>
        <p:nvSpPr>
          <p:cNvPr id="848" name="Straight Connector 37"/>
          <p:cNvSpPr/>
          <p:nvPr/>
        </p:nvSpPr>
        <p:spPr>
          <a:xfrm flipH="1">
            <a:off x="905040" y="50760"/>
            <a:ext cx="320400" cy="331920"/>
          </a:xfrm>
          <a:prstGeom prst="line">
            <a:avLst/>
          </a:prstGeom>
          <a:ln w="6480">
            <a:solidFill>
              <a:srgbClr val="06d6ff">
                <a:alpha val="36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9" name="Straight Connector 38"/>
          <p:cNvSpPr/>
          <p:nvPr/>
        </p:nvSpPr>
        <p:spPr>
          <a:xfrm flipH="1">
            <a:off x="11866320" y="893880"/>
            <a:ext cx="322200" cy="331560"/>
          </a:xfrm>
          <a:prstGeom prst="line">
            <a:avLst/>
          </a:prstGeom>
          <a:ln w="6480">
            <a:solidFill>
              <a:srgbClr val="06d6ff">
                <a:alpha val="36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0" name="Group 4" descr=""/>
          <p:cNvPicPr/>
          <p:nvPr/>
        </p:nvPicPr>
        <p:blipFill>
          <a:blip r:embed="rId1"/>
          <a:stretch/>
        </p:blipFill>
        <p:spPr>
          <a:xfrm>
            <a:off x="5834160" y="2914560"/>
            <a:ext cx="3243240" cy="3462480"/>
          </a:xfrm>
          <a:prstGeom prst="rect">
            <a:avLst/>
          </a:prstGeom>
          <a:ln w="0">
            <a:noFill/>
          </a:ln>
        </p:spPr>
      </p:pic>
      <p:pic>
        <p:nvPicPr>
          <p:cNvPr id="851" name="Group 5" descr=""/>
          <p:cNvPicPr/>
          <p:nvPr/>
        </p:nvPicPr>
        <p:blipFill>
          <a:blip r:embed="rId2"/>
          <a:stretch/>
        </p:blipFill>
        <p:spPr>
          <a:xfrm>
            <a:off x="2882880" y="2395440"/>
            <a:ext cx="3219480" cy="3456000"/>
          </a:xfrm>
          <a:prstGeom prst="rect">
            <a:avLst/>
          </a:prstGeom>
          <a:ln w="0">
            <a:noFill/>
          </a:ln>
        </p:spPr>
      </p:pic>
      <p:sp>
        <p:nvSpPr>
          <p:cNvPr id="852" name="TextBox 10"/>
          <p:cNvSpPr/>
          <p:nvPr/>
        </p:nvSpPr>
        <p:spPr>
          <a:xfrm>
            <a:off x="3836880" y="1144440"/>
            <a:ext cx="451800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44546a"/>
                </a:solidFill>
                <a:latin typeface="Open Sans"/>
                <a:ea typeface="Open Sans"/>
              </a:rPr>
              <a:t>Lorem ipsum dolor sit amet, consectetur adipiscing elit, sed do eiusmod tempor incididunt ut labore et dolore magna aliqua</a:t>
            </a:r>
            <a:endParaRPr b="0" lang="en-US" sz="1100" spc="-1" strike="noStrike">
              <a:solidFill>
                <a:srgbClr val="000000"/>
              </a:solidFill>
              <a:latin typeface="Calibri"/>
            </a:endParaRPr>
          </a:p>
        </p:txBody>
      </p:sp>
      <p:grpSp>
        <p:nvGrpSpPr>
          <p:cNvPr id="853" name="Group 14"/>
          <p:cNvGrpSpPr/>
          <p:nvPr/>
        </p:nvGrpSpPr>
        <p:grpSpPr>
          <a:xfrm>
            <a:off x="2251080" y="2935440"/>
            <a:ext cx="635040" cy="1280880"/>
            <a:chOff x="2251080" y="2935440"/>
            <a:chExt cx="635040" cy="1280880"/>
          </a:xfrm>
        </p:grpSpPr>
        <p:sp>
          <p:nvSpPr>
            <p:cNvPr id="854" name="Freeform: Shape 12"/>
            <p:cNvSpPr/>
            <p:nvPr/>
          </p:nvSpPr>
          <p:spPr>
            <a:xfrm>
              <a:off x="2251080" y="2935440"/>
              <a:ext cx="635040" cy="1280880"/>
            </a:xfrm>
            <a:custGeom>
              <a:avLst/>
              <a:gdLst/>
              <a:ahLst/>
              <a:rect l="l" t="t" r="r" b="b"/>
              <a:pathLst>
                <a:path w="2776326" h="5601058">
                  <a:moveTo>
                    <a:pt x="2776326" y="0"/>
                  </a:moveTo>
                  <a:lnTo>
                    <a:pt x="2776326" y="5601058"/>
                  </a:lnTo>
                  <a:lnTo>
                    <a:pt x="2515347" y="5587880"/>
                  </a:lnTo>
                  <a:cubicBezTo>
                    <a:pt x="1102514" y="5444399"/>
                    <a:pt x="0" y="4251217"/>
                    <a:pt x="0" y="2800529"/>
                  </a:cubicBezTo>
                  <a:cubicBezTo>
                    <a:pt x="0" y="1349842"/>
                    <a:pt x="1102514" y="156660"/>
                    <a:pt x="2515347" y="13179"/>
                  </a:cubicBezTo>
                  <a:lnTo>
                    <a:pt x="2776326" y="0"/>
                  </a:lnTo>
                  <a:close/>
                </a:path>
              </a:pathLst>
            </a:custGeom>
            <a:solidFill>
              <a:srgbClr val="ff4e9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55" name="Freeform 4"/>
            <p:cNvSpPr/>
            <p:nvPr/>
          </p:nvSpPr>
          <p:spPr>
            <a:xfrm>
              <a:off x="2414520" y="3361320"/>
              <a:ext cx="385560" cy="385560"/>
            </a:xfrm>
            <a:custGeom>
              <a:avLst/>
              <a:gdLst/>
              <a:ahLst/>
              <a:rect l="l" t="t" r="r" b="b"/>
              <a:pathLst>
                <a:path w="1707" h="1706">
                  <a:moveTo>
                    <a:pt x="853" y="31"/>
                  </a:moveTo>
                  <a:lnTo>
                    <a:pt x="853" y="31"/>
                  </a:lnTo>
                  <a:cubicBezTo>
                    <a:pt x="1306" y="31"/>
                    <a:pt x="1676" y="400"/>
                    <a:pt x="1676" y="853"/>
                  </a:cubicBezTo>
                  <a:lnTo>
                    <a:pt x="1676" y="853"/>
                  </a:lnTo>
                  <a:cubicBezTo>
                    <a:pt x="1676" y="1032"/>
                    <a:pt x="1617" y="1198"/>
                    <a:pt x="1519" y="1334"/>
                  </a:cubicBezTo>
                  <a:lnTo>
                    <a:pt x="1519" y="1334"/>
                  </a:lnTo>
                  <a:cubicBezTo>
                    <a:pt x="1510" y="1235"/>
                    <a:pt x="1429" y="1206"/>
                    <a:pt x="1429" y="1206"/>
                  </a:cubicBezTo>
                  <a:lnTo>
                    <a:pt x="1054" y="1097"/>
                  </a:lnTo>
                  <a:lnTo>
                    <a:pt x="1054" y="1097"/>
                  </a:lnTo>
                  <a:lnTo>
                    <a:pt x="1054" y="1097"/>
                  </a:lnTo>
                  <a:cubicBezTo>
                    <a:pt x="1054" y="1097"/>
                    <a:pt x="1054" y="1097"/>
                    <a:pt x="1053" y="1097"/>
                  </a:cubicBezTo>
                  <a:lnTo>
                    <a:pt x="1011" y="1084"/>
                  </a:lnTo>
                  <a:lnTo>
                    <a:pt x="1011" y="1084"/>
                  </a:lnTo>
                  <a:cubicBezTo>
                    <a:pt x="991" y="1074"/>
                    <a:pt x="977" y="1060"/>
                    <a:pt x="968" y="1044"/>
                  </a:cubicBezTo>
                  <a:lnTo>
                    <a:pt x="968" y="1044"/>
                  </a:lnTo>
                  <a:cubicBezTo>
                    <a:pt x="965" y="1031"/>
                    <a:pt x="963" y="1019"/>
                    <a:pt x="963" y="1006"/>
                  </a:cubicBezTo>
                  <a:lnTo>
                    <a:pt x="963" y="1006"/>
                  </a:lnTo>
                  <a:cubicBezTo>
                    <a:pt x="1034" y="1002"/>
                    <a:pt x="1088" y="997"/>
                    <a:pt x="1088" y="997"/>
                  </a:cubicBezTo>
                  <a:lnTo>
                    <a:pt x="1082" y="914"/>
                  </a:lnTo>
                  <a:lnTo>
                    <a:pt x="1114" y="984"/>
                  </a:lnTo>
                  <a:lnTo>
                    <a:pt x="1218" y="952"/>
                  </a:lnTo>
                  <a:lnTo>
                    <a:pt x="1218" y="952"/>
                  </a:lnTo>
                  <a:cubicBezTo>
                    <a:pt x="1106" y="807"/>
                    <a:pt x="1217" y="734"/>
                    <a:pt x="1108" y="438"/>
                  </a:cubicBezTo>
                  <a:lnTo>
                    <a:pt x="1108" y="438"/>
                  </a:lnTo>
                  <a:cubicBezTo>
                    <a:pt x="999" y="141"/>
                    <a:pt x="682" y="291"/>
                    <a:pt x="682" y="291"/>
                  </a:cubicBezTo>
                  <a:lnTo>
                    <a:pt x="682" y="291"/>
                  </a:lnTo>
                  <a:cubicBezTo>
                    <a:pt x="526" y="328"/>
                    <a:pt x="561" y="508"/>
                    <a:pt x="561" y="670"/>
                  </a:cubicBezTo>
                  <a:lnTo>
                    <a:pt x="561" y="670"/>
                  </a:lnTo>
                  <a:cubicBezTo>
                    <a:pt x="561" y="832"/>
                    <a:pt x="470" y="947"/>
                    <a:pt x="470" y="947"/>
                  </a:cubicBezTo>
                  <a:lnTo>
                    <a:pt x="602" y="986"/>
                  </a:lnTo>
                  <a:lnTo>
                    <a:pt x="638" y="905"/>
                  </a:lnTo>
                  <a:lnTo>
                    <a:pt x="638" y="997"/>
                  </a:lnTo>
                  <a:lnTo>
                    <a:pt x="638" y="997"/>
                  </a:lnTo>
                  <a:cubicBezTo>
                    <a:pt x="652" y="1007"/>
                    <a:pt x="692" y="1011"/>
                    <a:pt x="741" y="1012"/>
                  </a:cubicBezTo>
                  <a:lnTo>
                    <a:pt x="741" y="1012"/>
                  </a:lnTo>
                  <a:cubicBezTo>
                    <a:pt x="740" y="1023"/>
                    <a:pt x="740" y="1033"/>
                    <a:pt x="737" y="1044"/>
                  </a:cubicBezTo>
                  <a:lnTo>
                    <a:pt x="737" y="1044"/>
                  </a:lnTo>
                  <a:cubicBezTo>
                    <a:pt x="727" y="1060"/>
                    <a:pt x="714" y="1074"/>
                    <a:pt x="694" y="1084"/>
                  </a:cubicBezTo>
                  <a:lnTo>
                    <a:pt x="652" y="1097"/>
                  </a:lnTo>
                  <a:lnTo>
                    <a:pt x="652" y="1097"/>
                  </a:lnTo>
                  <a:lnTo>
                    <a:pt x="652" y="1097"/>
                  </a:lnTo>
                  <a:lnTo>
                    <a:pt x="652" y="1097"/>
                  </a:lnTo>
                  <a:lnTo>
                    <a:pt x="276" y="1206"/>
                  </a:lnTo>
                  <a:lnTo>
                    <a:pt x="276" y="1206"/>
                  </a:lnTo>
                  <a:cubicBezTo>
                    <a:pt x="276" y="1206"/>
                    <a:pt x="195" y="1235"/>
                    <a:pt x="185" y="1334"/>
                  </a:cubicBezTo>
                  <a:lnTo>
                    <a:pt x="185" y="1334"/>
                  </a:lnTo>
                  <a:cubicBezTo>
                    <a:pt x="87" y="1198"/>
                    <a:pt x="30" y="1032"/>
                    <a:pt x="30" y="853"/>
                  </a:cubicBezTo>
                  <a:lnTo>
                    <a:pt x="30" y="853"/>
                  </a:lnTo>
                  <a:cubicBezTo>
                    <a:pt x="30" y="400"/>
                    <a:pt x="399" y="31"/>
                    <a:pt x="853" y="31"/>
                  </a:cubicBezTo>
                  <a:close/>
                  <a:moveTo>
                    <a:pt x="853" y="0"/>
                  </a:moveTo>
                  <a:lnTo>
                    <a:pt x="853" y="0"/>
                  </a:lnTo>
                  <a:cubicBezTo>
                    <a:pt x="382" y="0"/>
                    <a:pt x="0" y="383"/>
                    <a:pt x="0" y="853"/>
                  </a:cubicBezTo>
                  <a:lnTo>
                    <a:pt x="0" y="853"/>
                  </a:lnTo>
                  <a:cubicBezTo>
                    <a:pt x="0" y="1324"/>
                    <a:pt x="382" y="1705"/>
                    <a:pt x="853" y="1705"/>
                  </a:cubicBezTo>
                  <a:lnTo>
                    <a:pt x="853" y="1705"/>
                  </a:lnTo>
                  <a:cubicBezTo>
                    <a:pt x="1323" y="1705"/>
                    <a:pt x="1706" y="1324"/>
                    <a:pt x="1706" y="853"/>
                  </a:cubicBezTo>
                  <a:lnTo>
                    <a:pt x="1706" y="853"/>
                  </a:lnTo>
                  <a:cubicBezTo>
                    <a:pt x="1706" y="383"/>
                    <a:pt x="1323" y="0"/>
                    <a:pt x="853"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856" name="Group 17"/>
          <p:cNvGrpSpPr/>
          <p:nvPr/>
        </p:nvGrpSpPr>
        <p:grpSpPr>
          <a:xfrm>
            <a:off x="9073800" y="3255840"/>
            <a:ext cx="655560" cy="1322640"/>
            <a:chOff x="9073800" y="3255840"/>
            <a:chExt cx="655560" cy="1322640"/>
          </a:xfrm>
        </p:grpSpPr>
        <p:sp>
          <p:nvSpPr>
            <p:cNvPr id="857" name="Freeform: Shape 15"/>
            <p:cNvSpPr/>
            <p:nvPr/>
          </p:nvSpPr>
          <p:spPr>
            <a:xfrm flipH="1">
              <a:off x="9073440" y="3255840"/>
              <a:ext cx="655560" cy="1322640"/>
            </a:xfrm>
            <a:custGeom>
              <a:avLst/>
              <a:gdLst/>
              <a:ahLst/>
              <a:rect l="l" t="t" r="r" b="b"/>
              <a:pathLst>
                <a:path w="2776326" h="5601058">
                  <a:moveTo>
                    <a:pt x="2776326" y="0"/>
                  </a:moveTo>
                  <a:lnTo>
                    <a:pt x="2776326" y="5601058"/>
                  </a:lnTo>
                  <a:lnTo>
                    <a:pt x="2515347" y="5587880"/>
                  </a:lnTo>
                  <a:cubicBezTo>
                    <a:pt x="1102514" y="5444399"/>
                    <a:pt x="0" y="4251217"/>
                    <a:pt x="0" y="2800529"/>
                  </a:cubicBezTo>
                  <a:cubicBezTo>
                    <a:pt x="0" y="1349842"/>
                    <a:pt x="1102514" y="156660"/>
                    <a:pt x="2515347" y="13179"/>
                  </a:cubicBezTo>
                  <a:lnTo>
                    <a:pt x="2776326" y="0"/>
                  </a:lnTo>
                  <a:close/>
                </a:path>
              </a:pathLst>
            </a:custGeom>
            <a:solidFill>
              <a:srgbClr val="06d6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58" name="Freeform 5"/>
            <p:cNvSpPr/>
            <p:nvPr/>
          </p:nvSpPr>
          <p:spPr>
            <a:xfrm>
              <a:off x="9147240" y="3695400"/>
              <a:ext cx="398160" cy="398160"/>
            </a:xfrm>
            <a:custGeom>
              <a:avLst/>
              <a:gdLst/>
              <a:ahLst/>
              <a:rect l="l" t="t" r="r" b="b"/>
              <a:pathLst>
                <a:path w="1706" h="1706">
                  <a:moveTo>
                    <a:pt x="852" y="31"/>
                  </a:moveTo>
                  <a:lnTo>
                    <a:pt x="852" y="31"/>
                  </a:lnTo>
                  <a:cubicBezTo>
                    <a:pt x="1305" y="31"/>
                    <a:pt x="1674" y="400"/>
                    <a:pt x="1674" y="853"/>
                  </a:cubicBezTo>
                  <a:lnTo>
                    <a:pt x="1674" y="853"/>
                  </a:lnTo>
                  <a:cubicBezTo>
                    <a:pt x="1674" y="1033"/>
                    <a:pt x="1617" y="1199"/>
                    <a:pt x="1519" y="1334"/>
                  </a:cubicBezTo>
                  <a:lnTo>
                    <a:pt x="1519" y="1334"/>
                  </a:lnTo>
                  <a:cubicBezTo>
                    <a:pt x="1507" y="1238"/>
                    <a:pt x="1428" y="1211"/>
                    <a:pt x="1428" y="1211"/>
                  </a:cubicBezTo>
                  <a:lnTo>
                    <a:pt x="1052" y="1101"/>
                  </a:lnTo>
                  <a:lnTo>
                    <a:pt x="1053" y="1101"/>
                  </a:lnTo>
                  <a:lnTo>
                    <a:pt x="1053" y="1101"/>
                  </a:lnTo>
                  <a:cubicBezTo>
                    <a:pt x="1052" y="1101"/>
                    <a:pt x="1052" y="1101"/>
                    <a:pt x="1052" y="1101"/>
                  </a:cubicBezTo>
                  <a:lnTo>
                    <a:pt x="1010" y="1088"/>
                  </a:lnTo>
                  <a:lnTo>
                    <a:pt x="1010" y="1088"/>
                  </a:lnTo>
                  <a:cubicBezTo>
                    <a:pt x="991" y="1079"/>
                    <a:pt x="977" y="1065"/>
                    <a:pt x="968" y="1048"/>
                  </a:cubicBezTo>
                  <a:lnTo>
                    <a:pt x="968" y="1048"/>
                  </a:lnTo>
                  <a:cubicBezTo>
                    <a:pt x="960" y="1017"/>
                    <a:pt x="961" y="985"/>
                    <a:pt x="965" y="962"/>
                  </a:cubicBezTo>
                  <a:lnTo>
                    <a:pt x="965" y="962"/>
                  </a:lnTo>
                  <a:cubicBezTo>
                    <a:pt x="1040" y="928"/>
                    <a:pt x="1094" y="859"/>
                    <a:pt x="1105" y="776"/>
                  </a:cubicBezTo>
                  <a:lnTo>
                    <a:pt x="1105" y="776"/>
                  </a:lnTo>
                  <a:cubicBezTo>
                    <a:pt x="1110" y="774"/>
                    <a:pt x="1115" y="769"/>
                    <a:pt x="1115" y="763"/>
                  </a:cubicBezTo>
                  <a:lnTo>
                    <a:pt x="1128" y="593"/>
                  </a:lnTo>
                  <a:lnTo>
                    <a:pt x="1128" y="593"/>
                  </a:lnTo>
                  <a:cubicBezTo>
                    <a:pt x="1129" y="584"/>
                    <a:pt x="1123" y="578"/>
                    <a:pt x="1115" y="577"/>
                  </a:cubicBezTo>
                  <a:lnTo>
                    <a:pt x="1115" y="577"/>
                  </a:lnTo>
                  <a:cubicBezTo>
                    <a:pt x="1113" y="577"/>
                    <a:pt x="1112" y="577"/>
                    <a:pt x="1112" y="577"/>
                  </a:cubicBezTo>
                  <a:lnTo>
                    <a:pt x="1112" y="577"/>
                  </a:lnTo>
                  <a:cubicBezTo>
                    <a:pt x="1120" y="551"/>
                    <a:pt x="1115" y="518"/>
                    <a:pt x="1110" y="491"/>
                  </a:cubicBezTo>
                  <a:lnTo>
                    <a:pt x="1110" y="491"/>
                  </a:lnTo>
                  <a:cubicBezTo>
                    <a:pt x="1120" y="369"/>
                    <a:pt x="1047" y="322"/>
                    <a:pt x="1047" y="322"/>
                  </a:cubicBezTo>
                  <a:lnTo>
                    <a:pt x="1047" y="249"/>
                  </a:lnTo>
                  <a:lnTo>
                    <a:pt x="1047" y="249"/>
                  </a:lnTo>
                  <a:cubicBezTo>
                    <a:pt x="1047" y="249"/>
                    <a:pt x="1029" y="281"/>
                    <a:pt x="903" y="255"/>
                  </a:cubicBezTo>
                  <a:lnTo>
                    <a:pt x="903" y="255"/>
                  </a:lnTo>
                  <a:cubicBezTo>
                    <a:pt x="777" y="228"/>
                    <a:pt x="682" y="302"/>
                    <a:pt x="682" y="302"/>
                  </a:cubicBezTo>
                  <a:lnTo>
                    <a:pt x="629" y="349"/>
                  </a:lnTo>
                  <a:lnTo>
                    <a:pt x="629" y="349"/>
                  </a:lnTo>
                  <a:cubicBezTo>
                    <a:pt x="629" y="349"/>
                    <a:pt x="588" y="373"/>
                    <a:pt x="588" y="460"/>
                  </a:cubicBezTo>
                  <a:lnTo>
                    <a:pt x="588" y="460"/>
                  </a:lnTo>
                  <a:cubicBezTo>
                    <a:pt x="588" y="492"/>
                    <a:pt x="592" y="524"/>
                    <a:pt x="597" y="550"/>
                  </a:cubicBezTo>
                  <a:lnTo>
                    <a:pt x="597" y="567"/>
                  </a:lnTo>
                  <a:lnTo>
                    <a:pt x="597" y="567"/>
                  </a:lnTo>
                  <a:cubicBezTo>
                    <a:pt x="595" y="567"/>
                    <a:pt x="592" y="567"/>
                    <a:pt x="589" y="567"/>
                  </a:cubicBezTo>
                  <a:lnTo>
                    <a:pt x="589" y="567"/>
                  </a:lnTo>
                  <a:cubicBezTo>
                    <a:pt x="581" y="567"/>
                    <a:pt x="574" y="574"/>
                    <a:pt x="575" y="582"/>
                  </a:cubicBezTo>
                  <a:lnTo>
                    <a:pt x="589" y="753"/>
                  </a:lnTo>
                  <a:lnTo>
                    <a:pt x="589" y="753"/>
                  </a:lnTo>
                  <a:cubicBezTo>
                    <a:pt x="589" y="759"/>
                    <a:pt x="593" y="763"/>
                    <a:pt x="598" y="766"/>
                  </a:cubicBezTo>
                  <a:lnTo>
                    <a:pt x="598" y="766"/>
                  </a:lnTo>
                  <a:cubicBezTo>
                    <a:pt x="607" y="853"/>
                    <a:pt x="661" y="927"/>
                    <a:pt x="738" y="962"/>
                  </a:cubicBezTo>
                  <a:lnTo>
                    <a:pt x="738" y="962"/>
                  </a:lnTo>
                  <a:cubicBezTo>
                    <a:pt x="742" y="985"/>
                    <a:pt x="745" y="1017"/>
                    <a:pt x="736" y="1048"/>
                  </a:cubicBezTo>
                  <a:lnTo>
                    <a:pt x="736" y="1048"/>
                  </a:lnTo>
                  <a:cubicBezTo>
                    <a:pt x="727" y="1065"/>
                    <a:pt x="713" y="1079"/>
                    <a:pt x="693" y="1088"/>
                  </a:cubicBezTo>
                  <a:lnTo>
                    <a:pt x="652" y="1101"/>
                  </a:lnTo>
                  <a:lnTo>
                    <a:pt x="652" y="1101"/>
                  </a:lnTo>
                  <a:lnTo>
                    <a:pt x="651" y="1101"/>
                  </a:lnTo>
                  <a:lnTo>
                    <a:pt x="651" y="1101"/>
                  </a:lnTo>
                  <a:lnTo>
                    <a:pt x="276" y="1211"/>
                  </a:lnTo>
                  <a:lnTo>
                    <a:pt x="276" y="1211"/>
                  </a:lnTo>
                  <a:cubicBezTo>
                    <a:pt x="276" y="1211"/>
                    <a:pt x="217" y="1232"/>
                    <a:pt x="194" y="1297"/>
                  </a:cubicBezTo>
                  <a:lnTo>
                    <a:pt x="192" y="1297"/>
                  </a:lnTo>
                  <a:lnTo>
                    <a:pt x="190" y="1308"/>
                  </a:lnTo>
                  <a:lnTo>
                    <a:pt x="190" y="1308"/>
                  </a:lnTo>
                  <a:cubicBezTo>
                    <a:pt x="188" y="1317"/>
                    <a:pt x="186" y="1325"/>
                    <a:pt x="185" y="1334"/>
                  </a:cubicBezTo>
                  <a:lnTo>
                    <a:pt x="185" y="1334"/>
                  </a:lnTo>
                  <a:cubicBezTo>
                    <a:pt x="87" y="1199"/>
                    <a:pt x="30" y="1033"/>
                    <a:pt x="30" y="853"/>
                  </a:cubicBezTo>
                  <a:lnTo>
                    <a:pt x="30" y="853"/>
                  </a:lnTo>
                  <a:cubicBezTo>
                    <a:pt x="30" y="400"/>
                    <a:pt x="398" y="31"/>
                    <a:pt x="852" y="31"/>
                  </a:cubicBezTo>
                  <a:close/>
                  <a:moveTo>
                    <a:pt x="852" y="0"/>
                  </a:moveTo>
                  <a:lnTo>
                    <a:pt x="852" y="0"/>
                  </a:lnTo>
                  <a:cubicBezTo>
                    <a:pt x="382" y="0"/>
                    <a:pt x="0" y="383"/>
                    <a:pt x="0" y="853"/>
                  </a:cubicBezTo>
                  <a:lnTo>
                    <a:pt x="0" y="853"/>
                  </a:lnTo>
                  <a:cubicBezTo>
                    <a:pt x="0" y="1324"/>
                    <a:pt x="382" y="1705"/>
                    <a:pt x="852" y="1705"/>
                  </a:cubicBezTo>
                  <a:lnTo>
                    <a:pt x="852" y="1705"/>
                  </a:lnTo>
                  <a:cubicBezTo>
                    <a:pt x="1322" y="1705"/>
                    <a:pt x="1705" y="1324"/>
                    <a:pt x="1705" y="853"/>
                  </a:cubicBezTo>
                  <a:lnTo>
                    <a:pt x="1705" y="853"/>
                  </a:lnTo>
                  <a:cubicBezTo>
                    <a:pt x="1705" y="383"/>
                    <a:pt x="1322" y="0"/>
                    <a:pt x="852"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859" name="TextBox 18"/>
          <p:cNvSpPr/>
          <p:nvPr/>
        </p:nvSpPr>
        <p:spPr>
          <a:xfrm>
            <a:off x="3855960" y="2859120"/>
            <a:ext cx="1389240" cy="538200"/>
          </a:xfrm>
          <a:prstGeom prst="rect">
            <a:avLst/>
          </a:prstGeom>
          <a:noFill/>
          <a:ln w="0">
            <a:noFill/>
          </a:ln>
        </p:spPr>
        <p:style>
          <a:lnRef idx="0"/>
          <a:fillRef idx="0"/>
          <a:effectRef idx="0"/>
          <a:fontRef idx="minor"/>
        </p:style>
        <p:txBody>
          <a:bodyPr lIns="90000" rIns="90000" tIns="46800" bIns="46800" anchor="t">
            <a:spAutoFit/>
          </a:bodyPr>
          <a:p>
            <a:pPr algn="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4e95"/>
                </a:solidFill>
                <a:latin typeface="Raleway"/>
              </a:rPr>
              <a:t>Goals</a:t>
            </a:r>
            <a:endParaRPr b="0" lang="en-US" sz="2400" spc="-1" strike="noStrike">
              <a:solidFill>
                <a:srgbClr val="000000"/>
              </a:solidFill>
              <a:latin typeface="Calibri"/>
            </a:endParaRPr>
          </a:p>
        </p:txBody>
      </p:sp>
      <p:sp>
        <p:nvSpPr>
          <p:cNvPr id="860" name="TextBox 19"/>
          <p:cNvSpPr/>
          <p:nvPr/>
        </p:nvSpPr>
        <p:spPr>
          <a:xfrm>
            <a:off x="3097080" y="3382920"/>
            <a:ext cx="2210040" cy="1348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Open Sans"/>
                <a:ea typeface="Open Sans"/>
              </a:rPr>
              <a:t>Put your data, pick any infographic, customize it, Put your data, pick any infographic, customize it, and done. ., </a:t>
            </a:r>
            <a:endParaRPr b="0" lang="en-US" sz="1100" spc="-1" strike="noStrike">
              <a:solidFill>
                <a:srgbClr val="000000"/>
              </a:solidFill>
              <a:latin typeface="Calibri"/>
            </a:endParaRPr>
          </a:p>
        </p:txBody>
      </p:sp>
      <p:sp>
        <p:nvSpPr>
          <p:cNvPr id="861" name="TextBox 26"/>
          <p:cNvSpPr/>
          <p:nvPr/>
        </p:nvSpPr>
        <p:spPr>
          <a:xfrm>
            <a:off x="6692760" y="3540240"/>
            <a:ext cx="176076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d6ff"/>
                </a:solidFill>
                <a:latin typeface="Raleway"/>
              </a:rPr>
              <a:t>Goals</a:t>
            </a:r>
            <a:endParaRPr b="0" lang="en-US" sz="2400" spc="-1" strike="noStrike">
              <a:solidFill>
                <a:srgbClr val="000000"/>
              </a:solidFill>
              <a:latin typeface="Calibri"/>
            </a:endParaRPr>
          </a:p>
        </p:txBody>
      </p:sp>
      <p:sp>
        <p:nvSpPr>
          <p:cNvPr id="862" name="TextBox 27"/>
          <p:cNvSpPr/>
          <p:nvPr/>
        </p:nvSpPr>
        <p:spPr>
          <a:xfrm>
            <a:off x="6692760" y="4065480"/>
            <a:ext cx="219708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Open Sans"/>
                <a:ea typeface="Open Sans"/>
              </a:rPr>
              <a:t>Put your data, pick any infographic, customize it, Put your data, pick any infographic, customize it, and done. . </a:t>
            </a:r>
            <a:endParaRPr b="0" lang="en-US" sz="1100" spc="-1" strike="noStrike">
              <a:solidFill>
                <a:srgbClr val="000000"/>
              </a:solidFill>
              <a:latin typeface="Calibri"/>
            </a:endParaRPr>
          </a:p>
        </p:txBody>
      </p:sp>
      <p:sp>
        <p:nvSpPr>
          <p:cNvPr id="863" name="Straight Connector 22"/>
          <p:cNvSpPr/>
          <p:nvPr/>
        </p:nvSpPr>
        <p:spPr>
          <a:xfrm flipH="1">
            <a:off x="11210400" y="6526080"/>
            <a:ext cx="320760" cy="331920"/>
          </a:xfrm>
          <a:prstGeom prst="line">
            <a:avLst/>
          </a:prstGeom>
          <a:ln w="6480">
            <a:solidFill>
              <a:srgbClr val="37e08b">
                <a:alpha val="36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4" name="TextBox 23"/>
          <p:cNvSpPr/>
          <p:nvPr/>
        </p:nvSpPr>
        <p:spPr>
          <a:xfrm>
            <a:off x="3099600" y="399960"/>
            <a:ext cx="5993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d6ff"/>
                </a:solidFill>
                <a:latin typeface="Raleway SemiBold"/>
                <a:ea typeface="Open Sans"/>
              </a:rPr>
              <a:t>Comparison Infographic</a:t>
            </a:r>
            <a:endParaRPr b="0" lang="en-US" sz="4000" spc="-1" strike="noStrike">
              <a:solidFill>
                <a:srgbClr val="000000"/>
              </a:solidFill>
              <a:latin typeface="Calibri"/>
            </a:endParaRPr>
          </a:p>
        </p:txBody>
      </p:sp>
      <p:sp>
        <p:nvSpPr>
          <p:cNvPr id="865" name="Rectangle 20"/>
          <p:cNvSpPr/>
          <p:nvPr/>
        </p:nvSpPr>
        <p:spPr>
          <a:xfrm>
            <a:off x="5589720" y="2960640"/>
            <a:ext cx="915840" cy="1982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6" name="Rectangle 11"/>
          <p:cNvSpPr/>
          <p:nvPr/>
        </p:nvSpPr>
        <p:spPr>
          <a:xfrm>
            <a:off x="5498280" y="3313080"/>
            <a:ext cx="1005120" cy="1287720"/>
          </a:xfrm>
          <a:prstGeom prst="rect">
            <a:avLst/>
          </a:prstGeom>
          <a:noFill/>
          <a:ln w="0">
            <a:noFill/>
          </a:ln>
        </p:spPr>
        <p:style>
          <a:lnRef idx="0"/>
          <a:fillRef idx="0"/>
          <a:effectRef idx="0"/>
          <a:fontRef idx="minor"/>
        </p:style>
        <p:txBody>
          <a:bodyPr wrap="none" lIns="90000" rIns="90000" tIns="46800" bIns="46800" anchor="t">
            <a:spAutoFit/>
          </a:bodyPr>
          <a:p>
            <a:pPr algn="ctr">
              <a:lnSpc>
                <a:spcPts val="9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4546a"/>
                </a:solidFill>
                <a:latin typeface="Raleway"/>
              </a:rPr>
              <a:t>VS</a:t>
            </a:r>
            <a:endParaRPr b="0" lang="en-US" sz="5400" spc="-1" strike="noStrike">
              <a:solidFill>
                <a:srgbClr val="000000"/>
              </a:solidFill>
              <a:latin typeface="Calibri"/>
            </a:endParaRPr>
          </a:p>
        </p:txBody>
      </p:sp>
      <p:sp>
        <p:nvSpPr>
          <p:cNvPr id="867" name="Straight Connector 25"/>
          <p:cNvSpPr/>
          <p:nvPr/>
        </p:nvSpPr>
        <p:spPr>
          <a:xfrm flipH="1">
            <a:off x="-360" y="925560"/>
            <a:ext cx="322200" cy="331920"/>
          </a:xfrm>
          <a:prstGeom prst="line">
            <a:avLst/>
          </a:prstGeom>
          <a:ln w="6480">
            <a:solidFill>
              <a:srgbClr val="37e08b">
                <a:alpha val="36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15"/>
          <p:cNvSpPr/>
          <p:nvPr/>
        </p:nvSpPr>
        <p:spPr>
          <a:xfrm>
            <a:off x="865080" y="1973160"/>
            <a:ext cx="2713320" cy="2130480"/>
          </a:xfrm>
          <a:prstGeom prst="rect">
            <a:avLst/>
          </a:prstGeom>
          <a:solidFill>
            <a:srgbClr val="06d6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9" name="Rectangle 32"/>
          <p:cNvSpPr/>
          <p:nvPr/>
        </p:nvSpPr>
        <p:spPr>
          <a:xfrm>
            <a:off x="1216080" y="3884760"/>
            <a:ext cx="2162160" cy="10652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0" name="Freeform: Shape 31"/>
          <p:cNvSpPr/>
          <p:nvPr/>
        </p:nvSpPr>
        <p:spPr>
          <a:xfrm>
            <a:off x="593640" y="1666800"/>
            <a:ext cx="3040200" cy="3524400"/>
          </a:xfrm>
          <a:custGeom>
            <a:avLst/>
            <a:gdLst/>
            <a:ahLst/>
            <a:rect l="l" t="t" r="r" b="b"/>
            <a:pathLst>
              <a:path w="3428400" h="3943350">
                <a:moveTo>
                  <a:pt x="1650700" y="1097359"/>
                </a:moveTo>
                <a:cubicBezTo>
                  <a:pt x="1577648" y="1097359"/>
                  <a:pt x="1504597" y="1110641"/>
                  <a:pt x="1431545" y="1130564"/>
                </a:cubicBezTo>
                <a:cubicBezTo>
                  <a:pt x="1325289" y="1157128"/>
                  <a:pt x="1232314" y="1210257"/>
                  <a:pt x="1152621" y="1276667"/>
                </a:cubicBezTo>
                <a:cubicBezTo>
                  <a:pt x="1132698" y="1296590"/>
                  <a:pt x="1119416" y="1323154"/>
                  <a:pt x="1112775" y="1349719"/>
                </a:cubicBezTo>
                <a:lnTo>
                  <a:pt x="926826" y="2140003"/>
                </a:lnTo>
                <a:cubicBezTo>
                  <a:pt x="926826" y="2146644"/>
                  <a:pt x="920185" y="2159926"/>
                  <a:pt x="920185" y="2173208"/>
                </a:cubicBezTo>
                <a:cubicBezTo>
                  <a:pt x="920185" y="2246259"/>
                  <a:pt x="979954" y="2306029"/>
                  <a:pt x="1053006" y="2306029"/>
                </a:cubicBezTo>
                <a:cubicBezTo>
                  <a:pt x="1112775" y="2306029"/>
                  <a:pt x="1165904" y="2259541"/>
                  <a:pt x="1179186" y="2206413"/>
                </a:cubicBezTo>
                <a:lnTo>
                  <a:pt x="1318648" y="1628642"/>
                </a:lnTo>
                <a:lnTo>
                  <a:pt x="1318648" y="3488134"/>
                </a:lnTo>
                <a:lnTo>
                  <a:pt x="1584289" y="3488134"/>
                </a:lnTo>
                <a:lnTo>
                  <a:pt x="1584289" y="2292747"/>
                </a:lnTo>
                <a:lnTo>
                  <a:pt x="1717110" y="2292747"/>
                </a:lnTo>
                <a:lnTo>
                  <a:pt x="1717110" y="3488134"/>
                </a:lnTo>
                <a:lnTo>
                  <a:pt x="1982752" y="3488134"/>
                </a:lnTo>
                <a:lnTo>
                  <a:pt x="1982752" y="1622001"/>
                </a:lnTo>
                <a:lnTo>
                  <a:pt x="2122214" y="2199772"/>
                </a:lnTo>
                <a:cubicBezTo>
                  <a:pt x="2135496" y="2252900"/>
                  <a:pt x="2188624" y="2299388"/>
                  <a:pt x="2248393" y="2299388"/>
                </a:cubicBezTo>
                <a:cubicBezTo>
                  <a:pt x="2321445" y="2299388"/>
                  <a:pt x="2381214" y="2239618"/>
                  <a:pt x="2381214" y="2166567"/>
                </a:cubicBezTo>
                <a:cubicBezTo>
                  <a:pt x="2381214" y="2153285"/>
                  <a:pt x="2374573" y="2140003"/>
                  <a:pt x="2374573" y="2133362"/>
                </a:cubicBezTo>
                <a:lnTo>
                  <a:pt x="2188624" y="1343078"/>
                </a:lnTo>
                <a:cubicBezTo>
                  <a:pt x="2181983" y="1316513"/>
                  <a:pt x="2168701" y="1289949"/>
                  <a:pt x="2148778" y="1270026"/>
                </a:cubicBezTo>
                <a:cubicBezTo>
                  <a:pt x="2069085" y="1203616"/>
                  <a:pt x="1976111" y="1157128"/>
                  <a:pt x="1869854" y="1123923"/>
                </a:cubicBezTo>
                <a:cubicBezTo>
                  <a:pt x="1796803" y="1110641"/>
                  <a:pt x="1723751" y="1097359"/>
                  <a:pt x="1650700" y="1097359"/>
                </a:cubicBezTo>
                <a:close/>
                <a:moveTo>
                  <a:pt x="1650700" y="499666"/>
                </a:moveTo>
                <a:cubicBezTo>
                  <a:pt x="1503990" y="499666"/>
                  <a:pt x="1385058" y="618598"/>
                  <a:pt x="1385058" y="765308"/>
                </a:cubicBezTo>
                <a:cubicBezTo>
                  <a:pt x="1385058" y="912018"/>
                  <a:pt x="1503990" y="1030949"/>
                  <a:pt x="1650700" y="1030949"/>
                </a:cubicBezTo>
                <a:cubicBezTo>
                  <a:pt x="1797410" y="1030949"/>
                  <a:pt x="1916341" y="912018"/>
                  <a:pt x="1916341" y="765308"/>
                </a:cubicBezTo>
                <a:cubicBezTo>
                  <a:pt x="1916341" y="618598"/>
                  <a:pt x="1797410" y="499666"/>
                  <a:pt x="1650700" y="499666"/>
                </a:cubicBezTo>
                <a:close/>
                <a:moveTo>
                  <a:pt x="0" y="0"/>
                </a:moveTo>
                <a:lnTo>
                  <a:pt x="3428400" y="0"/>
                </a:lnTo>
                <a:lnTo>
                  <a:pt x="3428400" y="3943350"/>
                </a:lnTo>
                <a:lnTo>
                  <a:pt x="0" y="3943350"/>
                </a:lnTo>
                <a:lnTo>
                  <a:pt x="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aphicFrame>
        <p:nvGraphicFramePr>
          <p:cNvPr id="871" name="2D Pie Chart"/>
          <p:cNvGraphicFramePr/>
          <p:nvPr/>
        </p:nvGraphicFramePr>
        <p:xfrm>
          <a:off x="4492800" y="2482920"/>
          <a:ext cx="3206520" cy="3157560"/>
        </p:xfrm>
        <a:graphic>
          <a:graphicData uri="http://schemas.openxmlformats.org/presentationml/2006/ole">
            <p:oleObj progId="Excel.Sheet.12" r:id="rId1" spid="">
              <p:embed/>
              <p:pic>
                <p:nvPicPr>
                  <p:cNvPr id="872" name="2D Pie Chart" descr=""/>
                  <p:cNvPicPr/>
                  <p:nvPr/>
                </p:nvPicPr>
                <p:blipFill>
                  <a:blip r:embed="rId2"/>
                  <a:stretch/>
                </p:blipFill>
                <p:spPr>
                  <a:xfrm>
                    <a:off x="4492800" y="2482920"/>
                    <a:ext cx="3206520" cy="3157560"/>
                  </a:xfrm>
                  <a:prstGeom prst="rect">
                    <a:avLst/>
                  </a:prstGeom>
                  <a:ln w="0">
                    <a:noFill/>
                  </a:ln>
                </p:spPr>
              </p:pic>
            </p:oleObj>
          </a:graphicData>
        </a:graphic>
      </p:graphicFrame>
      <p:sp>
        <p:nvSpPr>
          <p:cNvPr id="873" name="Rectangle 20"/>
          <p:cNvSpPr/>
          <p:nvPr/>
        </p:nvSpPr>
        <p:spPr>
          <a:xfrm>
            <a:off x="9156600" y="2122560"/>
            <a:ext cx="1733760" cy="9716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4" name="Rectangle 19"/>
          <p:cNvSpPr/>
          <p:nvPr/>
        </p:nvSpPr>
        <p:spPr>
          <a:xfrm>
            <a:off x="9247320" y="3075120"/>
            <a:ext cx="1552320" cy="1646280"/>
          </a:xfrm>
          <a:prstGeom prst="rect">
            <a:avLst/>
          </a:prstGeom>
          <a:solidFill>
            <a:srgbClr val="ff4e9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5" name="Freeform: Shape 18"/>
          <p:cNvSpPr/>
          <p:nvPr/>
        </p:nvSpPr>
        <p:spPr>
          <a:xfrm>
            <a:off x="9121680" y="2076480"/>
            <a:ext cx="1859040" cy="2705040"/>
          </a:xfrm>
          <a:custGeom>
            <a:avLst/>
            <a:gdLst/>
            <a:ahLst/>
            <a:rect l="l" t="t" r="r" b="b"/>
            <a:pathLst>
              <a:path w="2017414" h="2934300">
                <a:moveTo>
                  <a:pt x="972818" y="651031"/>
                </a:moveTo>
                <a:cubicBezTo>
                  <a:pt x="923912" y="651031"/>
                  <a:pt x="881120" y="657144"/>
                  <a:pt x="832215" y="663257"/>
                </a:cubicBezTo>
                <a:cubicBezTo>
                  <a:pt x="734405" y="681597"/>
                  <a:pt x="648821" y="718275"/>
                  <a:pt x="575463" y="767180"/>
                </a:cubicBezTo>
                <a:cubicBezTo>
                  <a:pt x="551011" y="785520"/>
                  <a:pt x="532672" y="803859"/>
                  <a:pt x="526558" y="834425"/>
                </a:cubicBezTo>
                <a:lnTo>
                  <a:pt x="300373" y="1592452"/>
                </a:lnTo>
                <a:cubicBezTo>
                  <a:pt x="282033" y="1659697"/>
                  <a:pt x="318712" y="1726941"/>
                  <a:pt x="385957" y="1745280"/>
                </a:cubicBezTo>
                <a:cubicBezTo>
                  <a:pt x="398183" y="1751394"/>
                  <a:pt x="410409" y="1751394"/>
                  <a:pt x="422635" y="1751394"/>
                </a:cubicBezTo>
                <a:cubicBezTo>
                  <a:pt x="477653" y="1751394"/>
                  <a:pt x="526558" y="1714715"/>
                  <a:pt x="538785" y="1665810"/>
                </a:cubicBezTo>
                <a:lnTo>
                  <a:pt x="728292" y="1023932"/>
                </a:lnTo>
                <a:lnTo>
                  <a:pt x="728292" y="1237891"/>
                </a:lnTo>
                <a:lnTo>
                  <a:pt x="502106" y="1995919"/>
                </a:lnTo>
                <a:lnTo>
                  <a:pt x="667160" y="1995919"/>
                </a:lnTo>
                <a:lnTo>
                  <a:pt x="667160" y="2851756"/>
                </a:lnTo>
                <a:lnTo>
                  <a:pt x="911685" y="2851756"/>
                </a:lnTo>
                <a:lnTo>
                  <a:pt x="911685" y="1995919"/>
                </a:lnTo>
                <a:lnTo>
                  <a:pt x="1033949" y="1995919"/>
                </a:lnTo>
                <a:lnTo>
                  <a:pt x="1033949" y="2851756"/>
                </a:lnTo>
                <a:lnTo>
                  <a:pt x="1278474" y="2851756"/>
                </a:lnTo>
                <a:lnTo>
                  <a:pt x="1278474" y="1995919"/>
                </a:lnTo>
                <a:lnTo>
                  <a:pt x="1443528" y="1995919"/>
                </a:lnTo>
                <a:lnTo>
                  <a:pt x="1217343" y="1237891"/>
                </a:lnTo>
                <a:lnTo>
                  <a:pt x="1217343" y="1023932"/>
                </a:lnTo>
                <a:lnTo>
                  <a:pt x="1406850" y="1665810"/>
                </a:lnTo>
                <a:cubicBezTo>
                  <a:pt x="1425189" y="1720828"/>
                  <a:pt x="1474094" y="1751394"/>
                  <a:pt x="1522999" y="1751394"/>
                </a:cubicBezTo>
                <a:cubicBezTo>
                  <a:pt x="1535225" y="1751394"/>
                  <a:pt x="1547451" y="1751394"/>
                  <a:pt x="1559678" y="1745280"/>
                </a:cubicBezTo>
                <a:cubicBezTo>
                  <a:pt x="1620809" y="1726941"/>
                  <a:pt x="1657488" y="1659697"/>
                  <a:pt x="1639148" y="1592452"/>
                </a:cubicBezTo>
                <a:lnTo>
                  <a:pt x="1419076" y="834425"/>
                </a:lnTo>
                <a:cubicBezTo>
                  <a:pt x="1412963" y="803859"/>
                  <a:pt x="1394623" y="779407"/>
                  <a:pt x="1370171" y="767180"/>
                </a:cubicBezTo>
                <a:cubicBezTo>
                  <a:pt x="1296813" y="718275"/>
                  <a:pt x="1211230" y="687710"/>
                  <a:pt x="1113420" y="663257"/>
                </a:cubicBezTo>
                <a:cubicBezTo>
                  <a:pt x="1064514" y="657144"/>
                  <a:pt x="1021723" y="651031"/>
                  <a:pt x="972818" y="651031"/>
                </a:cubicBezTo>
                <a:close/>
                <a:moveTo>
                  <a:pt x="972817" y="100850"/>
                </a:moveTo>
                <a:cubicBezTo>
                  <a:pt x="837770" y="100850"/>
                  <a:pt x="728292" y="210328"/>
                  <a:pt x="728292" y="345375"/>
                </a:cubicBezTo>
                <a:cubicBezTo>
                  <a:pt x="728292" y="480422"/>
                  <a:pt x="837770" y="589900"/>
                  <a:pt x="972817" y="589900"/>
                </a:cubicBezTo>
                <a:cubicBezTo>
                  <a:pt x="1107864" y="589900"/>
                  <a:pt x="1217342" y="480422"/>
                  <a:pt x="1217342" y="345375"/>
                </a:cubicBezTo>
                <a:cubicBezTo>
                  <a:pt x="1217342" y="210328"/>
                  <a:pt x="1107864" y="100850"/>
                  <a:pt x="972817" y="100850"/>
                </a:cubicBezTo>
                <a:close/>
                <a:moveTo>
                  <a:pt x="0" y="0"/>
                </a:moveTo>
                <a:lnTo>
                  <a:pt x="2017414" y="0"/>
                </a:lnTo>
                <a:lnTo>
                  <a:pt x="2017414" y="2934300"/>
                </a:lnTo>
                <a:lnTo>
                  <a:pt x="0" y="2934300"/>
                </a:lnTo>
                <a:lnTo>
                  <a:pt x="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76" name="TextBox 16"/>
          <p:cNvSpPr/>
          <p:nvPr/>
        </p:nvSpPr>
        <p:spPr>
          <a:xfrm>
            <a:off x="3099600" y="449280"/>
            <a:ext cx="5993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d6ff"/>
                </a:solidFill>
                <a:latin typeface="Raleway SemiBold"/>
                <a:ea typeface="Open Sans"/>
              </a:rPr>
              <a:t>Comparison Infographic</a:t>
            </a:r>
            <a:endParaRPr b="0" lang="en-US" sz="4000" spc="-1" strike="noStrike">
              <a:solidFill>
                <a:srgbClr val="000000"/>
              </a:solidFill>
              <a:latin typeface="Calibri"/>
            </a:endParaRPr>
          </a:p>
        </p:txBody>
      </p:sp>
      <p:sp>
        <p:nvSpPr>
          <p:cNvPr id="877" name="TextBox 17"/>
          <p:cNvSpPr/>
          <p:nvPr/>
        </p:nvSpPr>
        <p:spPr>
          <a:xfrm>
            <a:off x="3567240" y="1184400"/>
            <a:ext cx="505764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bfbfbf"/>
                </a:solidFill>
                <a:latin typeface="Open Sans"/>
                <a:ea typeface="Open Sans"/>
              </a:rPr>
              <a:t>Lorem ipsum dolor sit amet, consectetur adipiscing elit, sed do eiusmod tempor incididunt ut labore et dolore magna aliqua</a:t>
            </a:r>
            <a:endParaRPr b="0" lang="en-US" sz="1100" spc="-1" strike="noStrike">
              <a:solidFill>
                <a:srgbClr val="000000"/>
              </a:solidFill>
              <a:latin typeface="Calibri"/>
            </a:endParaRPr>
          </a:p>
        </p:txBody>
      </p:sp>
      <p:sp>
        <p:nvSpPr>
          <p:cNvPr id="878" name="Oval 12"/>
          <p:cNvSpPr/>
          <p:nvPr/>
        </p:nvSpPr>
        <p:spPr>
          <a:xfrm>
            <a:off x="5248440" y="3213000"/>
            <a:ext cx="1695240" cy="1695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9" name="Rectangle 22"/>
          <p:cNvSpPr/>
          <p:nvPr/>
        </p:nvSpPr>
        <p:spPr>
          <a:xfrm>
            <a:off x="5731560" y="3273480"/>
            <a:ext cx="729360" cy="1287720"/>
          </a:xfrm>
          <a:prstGeom prst="rect">
            <a:avLst/>
          </a:prstGeom>
          <a:noFill/>
          <a:ln w="0">
            <a:noFill/>
          </a:ln>
        </p:spPr>
        <p:style>
          <a:lnRef idx="0"/>
          <a:fillRef idx="0"/>
          <a:effectRef idx="0"/>
          <a:fontRef idx="minor"/>
        </p:style>
        <p:txBody>
          <a:bodyPr wrap="none" lIns="90000" rIns="90000" tIns="46800" bIns="46800" anchor="t">
            <a:spAutoFit/>
          </a:bodyPr>
          <a:p>
            <a:pPr algn="ctr">
              <a:lnSpc>
                <a:spcPts val="9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0227"/>
                </a:solidFill>
                <a:latin typeface="Raleway"/>
              </a:rPr>
              <a:t>VS</a:t>
            </a:r>
            <a:endParaRPr b="0" lang="en-US" sz="3600" spc="-1" strike="noStrike">
              <a:solidFill>
                <a:srgbClr val="000000"/>
              </a:solidFill>
              <a:latin typeface="Calibri"/>
            </a:endParaRPr>
          </a:p>
        </p:txBody>
      </p:sp>
      <p:grpSp>
        <p:nvGrpSpPr>
          <p:cNvPr id="880" name="Group 13"/>
          <p:cNvGrpSpPr/>
          <p:nvPr/>
        </p:nvGrpSpPr>
        <p:grpSpPr>
          <a:xfrm>
            <a:off x="3830760" y="1795320"/>
            <a:ext cx="4530600" cy="4532400"/>
            <a:chOff x="3830760" y="1795320"/>
            <a:chExt cx="4530600" cy="4532400"/>
          </a:xfrm>
        </p:grpSpPr>
        <p:sp>
          <p:nvSpPr>
            <p:cNvPr id="881" name="Circle"/>
            <p:cNvSpPr/>
            <p:nvPr/>
          </p:nvSpPr>
          <p:spPr>
            <a:xfrm>
              <a:off x="3830760" y="1795320"/>
              <a:ext cx="4530600" cy="4532400"/>
            </a:xfrm>
            <a:prstGeom prst="ellipse">
              <a:avLst/>
            </a:prstGeom>
            <a:noFill/>
            <a:ln w="3240">
              <a:solidFill>
                <a:srgbClr val="06d6ff">
                  <a:alpha val="12000"/>
                </a:srgbClr>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882" name="Circle"/>
            <p:cNvSpPr/>
            <p:nvPr/>
          </p:nvSpPr>
          <p:spPr>
            <a:xfrm>
              <a:off x="4157640" y="2122200"/>
              <a:ext cx="3876840" cy="3878280"/>
            </a:xfrm>
            <a:prstGeom prst="ellipse">
              <a:avLst/>
            </a:prstGeom>
            <a:noFill/>
            <a:ln w="3240">
              <a:solidFill>
                <a:srgbClr val="06d6ff">
                  <a:alpha val="12000"/>
                </a:srgbClr>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883" name="Circle"/>
            <p:cNvSpPr/>
            <p:nvPr/>
          </p:nvSpPr>
          <p:spPr>
            <a:xfrm>
              <a:off x="4382280" y="2347200"/>
              <a:ext cx="3427200" cy="3428640"/>
            </a:xfrm>
            <a:prstGeom prst="ellipse">
              <a:avLst/>
            </a:prstGeom>
            <a:noFill/>
            <a:ln w="3240">
              <a:solidFill>
                <a:srgbClr val="06d6ff">
                  <a:alpha val="12000"/>
                </a:srgbClr>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grpSp>
      <p:sp>
        <p:nvSpPr>
          <p:cNvPr id="884" name="Rounded Rectangle"/>
          <p:cNvSpPr/>
          <p:nvPr/>
        </p:nvSpPr>
        <p:spPr>
          <a:xfrm>
            <a:off x="590400" y="5392800"/>
            <a:ext cx="4216680" cy="785880"/>
          </a:xfrm>
          <a:prstGeom prst="roundRect">
            <a:avLst>
              <a:gd name="adj" fmla="val 50000"/>
            </a:avLst>
          </a:prstGeom>
          <a:solidFill>
            <a:srgbClr val="06d6ff"/>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885" name="Circle"/>
          <p:cNvSpPr/>
          <p:nvPr/>
        </p:nvSpPr>
        <p:spPr>
          <a:xfrm>
            <a:off x="649440" y="5450040"/>
            <a:ext cx="671400" cy="671400"/>
          </a:xfrm>
          <a:prstGeom prst="roundRect">
            <a:avLst>
              <a:gd name="adj" fmla="val 50000"/>
            </a:avLst>
          </a:prstGeom>
          <a:solidFill>
            <a:srgbClr val="030227"/>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886"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1463760" y="5688000"/>
            <a:ext cx="3203640" cy="40644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4546a"/>
                </a:solidFill>
                <a:latin typeface="Barlow Medium"/>
                <a:ea typeface="Barlow Medium"/>
              </a:rPr>
              <a:t>Lorem Ipsum is simply dummy text of the printing and typesetting industry. </a:t>
            </a:r>
            <a:endParaRPr b="0" lang="en-US" sz="1000" spc="-1" strike="noStrike">
              <a:solidFill>
                <a:srgbClr val="000000"/>
              </a:solidFill>
              <a:latin typeface="Calibri"/>
            </a:endParaRPr>
          </a:p>
        </p:txBody>
      </p:sp>
      <p:sp>
        <p:nvSpPr>
          <p:cNvPr id="887"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1463760" y="5435640"/>
            <a:ext cx="914400" cy="31500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Raleway"/>
                <a:ea typeface="Barlow SemiBold"/>
              </a:rPr>
              <a:t>Man</a:t>
            </a:r>
            <a:endParaRPr b="0" lang="en-US" sz="1400" spc="-1" strike="noStrike">
              <a:solidFill>
                <a:srgbClr val="000000"/>
              </a:solidFill>
              <a:latin typeface="Calibri"/>
            </a:endParaRPr>
          </a:p>
        </p:txBody>
      </p:sp>
      <p:pic>
        <p:nvPicPr>
          <p:cNvPr id="888" name="Graphic 37" descr="Male"/>
          <p:cNvPicPr/>
          <p:nvPr/>
        </p:nvPicPr>
        <p:blipFill>
          <a:blip r:embed="rId3"/>
          <a:stretch/>
        </p:blipFill>
        <p:spPr>
          <a:xfrm>
            <a:off x="819000" y="5619600"/>
            <a:ext cx="331920" cy="331920"/>
          </a:xfrm>
          <a:prstGeom prst="rect">
            <a:avLst/>
          </a:prstGeom>
          <a:ln w="0">
            <a:noFill/>
          </a:ln>
        </p:spPr>
      </p:pic>
      <p:sp>
        <p:nvSpPr>
          <p:cNvPr id="889" name="Rounded Rectangle"/>
          <p:cNvSpPr/>
          <p:nvPr/>
        </p:nvSpPr>
        <p:spPr>
          <a:xfrm>
            <a:off x="7385040" y="5392800"/>
            <a:ext cx="4216320" cy="785880"/>
          </a:xfrm>
          <a:prstGeom prst="roundRect">
            <a:avLst>
              <a:gd name="adj" fmla="val 50000"/>
            </a:avLst>
          </a:prstGeom>
          <a:solidFill>
            <a:srgbClr val="ff4e95"/>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890" name="Circle"/>
          <p:cNvSpPr/>
          <p:nvPr/>
        </p:nvSpPr>
        <p:spPr>
          <a:xfrm>
            <a:off x="7443720" y="5450040"/>
            <a:ext cx="673200" cy="671400"/>
          </a:xfrm>
          <a:prstGeom prst="roundRect">
            <a:avLst>
              <a:gd name="adj" fmla="val 50000"/>
            </a:avLst>
          </a:prstGeom>
          <a:solidFill>
            <a:srgbClr val="030227"/>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891"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8258040" y="5688000"/>
            <a:ext cx="3205440" cy="40644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30227"/>
                </a:solidFill>
                <a:latin typeface="Barlow Medium"/>
                <a:ea typeface="Barlow Medium"/>
              </a:rPr>
              <a:t>Lorem Ipsum is simply dummy text of the printing and typesetting industry</a:t>
            </a:r>
            <a:r>
              <a:rPr b="0" lang="en-US" sz="1000" spc="-1" strike="noStrike">
                <a:solidFill>
                  <a:srgbClr val="44546a"/>
                </a:solidFill>
                <a:latin typeface="Barlow Medium"/>
                <a:ea typeface="Barlow Medium"/>
              </a:rPr>
              <a:t>. </a:t>
            </a:r>
            <a:endParaRPr b="0" lang="en-US" sz="1000" spc="-1" strike="noStrike">
              <a:solidFill>
                <a:srgbClr val="000000"/>
              </a:solidFill>
              <a:latin typeface="Calibri"/>
            </a:endParaRPr>
          </a:p>
        </p:txBody>
      </p:sp>
      <p:sp>
        <p:nvSpPr>
          <p:cNvPr id="892"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8258040" y="5435640"/>
            <a:ext cx="914400" cy="31500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Raleway"/>
                <a:ea typeface="Barlow SemiBold"/>
              </a:rPr>
              <a:t>Woman</a:t>
            </a:r>
            <a:endParaRPr b="0" lang="en-US" sz="1400" spc="-1" strike="noStrike">
              <a:solidFill>
                <a:srgbClr val="000000"/>
              </a:solidFill>
              <a:latin typeface="Calibri"/>
            </a:endParaRPr>
          </a:p>
        </p:txBody>
      </p:sp>
      <p:pic>
        <p:nvPicPr>
          <p:cNvPr id="893" name="Graphic 36" descr="Female"/>
          <p:cNvPicPr/>
          <p:nvPr/>
        </p:nvPicPr>
        <p:blipFill>
          <a:blip r:embed="rId4"/>
          <a:stretch/>
        </p:blipFill>
        <p:spPr>
          <a:xfrm>
            <a:off x="7604280" y="5610240"/>
            <a:ext cx="352440" cy="351000"/>
          </a:xfrm>
          <a:prstGeom prst="rect">
            <a:avLst/>
          </a:prstGeom>
          <a:ln w="0">
            <a:noFill/>
          </a:ln>
        </p:spPr>
      </p:pic>
      <p:sp>
        <p:nvSpPr>
          <p:cNvPr id="894" name="Line"/>
          <p:cNvSpPr/>
          <p:nvPr/>
        </p:nvSpPr>
        <p:spPr>
          <a:xfrm>
            <a:off x="7704000" y="3075120"/>
            <a:ext cx="2284560" cy="1028520"/>
          </a:xfrm>
          <a:custGeom>
            <a:avLst/>
            <a:gdLst/>
            <a:ahLst/>
            <a:rect l="l" t="t" r="r" b="b"/>
            <a:pathLst>
              <a:path w="21600" h="21600">
                <a:moveTo>
                  <a:pt x="0" y="21600"/>
                </a:moveTo>
                <a:lnTo>
                  <a:pt x="2691" y="21600"/>
                </a:lnTo>
                <a:lnTo>
                  <a:pt x="5572" y="0"/>
                </a:lnTo>
                <a:lnTo>
                  <a:pt x="21600" y="0"/>
                </a:lnTo>
              </a:path>
            </a:pathLst>
          </a:custGeom>
          <a:noFill/>
          <a:ln cap="rnd" w="12600">
            <a:solidFill>
              <a:srgbClr val="ff4e95"/>
            </a:solidFill>
            <a:miter/>
          </a:ln>
        </p:spPr>
        <p:style>
          <a:lnRef idx="0"/>
          <a:fillRef idx="0"/>
          <a:effectRef idx="0"/>
          <a:fontRef idx="minor"/>
        </p:style>
        <p:txBody>
          <a:bodyPr lIns="45360" rIns="45360" tIns="45360" bIns="45360" anchor="t">
            <a:noAutofit/>
          </a:bodyPr>
          <a:p>
            <a:endParaRPr b="0" lang="en-US" sz="1800" spc="-1" strike="noStrike">
              <a:solidFill>
                <a:srgbClr val="000000"/>
              </a:solidFill>
              <a:latin typeface="Calibri"/>
            </a:endParaRPr>
          </a:p>
        </p:txBody>
      </p:sp>
      <p:sp>
        <p:nvSpPr>
          <p:cNvPr id="895" name="Line"/>
          <p:cNvSpPr/>
          <p:nvPr/>
        </p:nvSpPr>
        <p:spPr>
          <a:xfrm>
            <a:off x="2398680" y="3546360"/>
            <a:ext cx="2284560" cy="708120"/>
          </a:xfrm>
          <a:custGeom>
            <a:avLst/>
            <a:gdLst/>
            <a:ahLst/>
            <a:rect l="l" t="t" r="r" b="b"/>
            <a:pathLst>
              <a:path w="21600" h="21600">
                <a:moveTo>
                  <a:pt x="0" y="21600"/>
                </a:moveTo>
                <a:lnTo>
                  <a:pt x="2691" y="21600"/>
                </a:lnTo>
                <a:lnTo>
                  <a:pt x="5572" y="0"/>
                </a:lnTo>
                <a:lnTo>
                  <a:pt x="21600" y="0"/>
                </a:lnTo>
              </a:path>
            </a:pathLst>
          </a:custGeom>
          <a:noFill/>
          <a:ln cap="rnd" w="12600">
            <a:solidFill>
              <a:srgbClr val="06d6ff"/>
            </a:solidFill>
            <a:miter/>
          </a:ln>
        </p:spPr>
        <p:style>
          <a:lnRef idx="0"/>
          <a:fillRef idx="0"/>
          <a:effectRef idx="0"/>
          <a:fontRef idx="minor"/>
        </p:style>
        <p:txBody>
          <a:bodyPr lIns="45360" rIns="45360" tIns="45360" bIns="45360" anchor="t">
            <a:noAutofit/>
          </a:bodyPr>
          <a:p>
            <a:endParaRPr b="0" lang="en-US" sz="1800" spc="-1" strike="noStrike">
              <a:solidFill>
                <a:srgbClr val="000000"/>
              </a:solidFill>
              <a:latin typeface="Calibri"/>
            </a:endParaRPr>
          </a:p>
        </p:txBody>
      </p:sp>
      <p:sp>
        <p:nvSpPr>
          <p:cNvPr id="896" name="Straight Connector 34"/>
          <p:cNvSpPr/>
          <p:nvPr/>
        </p:nvSpPr>
        <p:spPr>
          <a:xfrm flipH="1">
            <a:off x="428400" y="-9360"/>
            <a:ext cx="322200" cy="331560"/>
          </a:xfrm>
          <a:prstGeom prst="line">
            <a:avLst/>
          </a:prstGeom>
          <a:ln w="6480">
            <a:solidFill>
              <a:srgbClr val="06d6ff">
                <a:alpha val="36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7" name="Group 60"/>
          <p:cNvGrpSpPr/>
          <p:nvPr/>
        </p:nvGrpSpPr>
        <p:grpSpPr>
          <a:xfrm>
            <a:off x="1982880" y="2071800"/>
            <a:ext cx="8226360" cy="538200"/>
            <a:chOff x="1982880" y="2071800"/>
            <a:chExt cx="8226360" cy="538200"/>
          </a:xfrm>
        </p:grpSpPr>
        <p:sp>
          <p:nvSpPr>
            <p:cNvPr id="898" name="Freeform 50"/>
            <p:cNvSpPr/>
            <p:nvPr/>
          </p:nvSpPr>
          <p:spPr>
            <a:xfrm>
              <a:off x="1982880" y="2172960"/>
              <a:ext cx="8226360" cy="403560"/>
            </a:xfrm>
            <a:prstGeom prst="roundRect">
              <a:avLst>
                <a:gd name="adj" fmla="val 16667"/>
              </a:avLst>
            </a:prstGeom>
            <a:noFill/>
            <a:ln w="12600">
              <a:solidFill>
                <a:srgbClr val="44546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9" name="TextBox 58"/>
            <p:cNvSpPr/>
            <p:nvPr/>
          </p:nvSpPr>
          <p:spPr>
            <a:xfrm>
              <a:off x="2441880" y="2071800"/>
              <a:ext cx="1210320" cy="53820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4546a"/>
                  </a:solidFill>
                  <a:latin typeface="Raleway"/>
                </a:rPr>
                <a:t>Product 1</a:t>
              </a:r>
              <a:endParaRPr b="0" lang="en-US" sz="1400" spc="-1" strike="noStrike">
                <a:solidFill>
                  <a:srgbClr val="000000"/>
                </a:solidFill>
                <a:latin typeface="Calibri"/>
              </a:endParaRPr>
            </a:p>
          </p:txBody>
        </p:sp>
        <p:sp>
          <p:nvSpPr>
            <p:cNvPr id="900" name="TextBox 59"/>
            <p:cNvSpPr/>
            <p:nvPr/>
          </p:nvSpPr>
          <p:spPr>
            <a:xfrm>
              <a:off x="8521560" y="2071800"/>
              <a:ext cx="1210320" cy="53820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4546a"/>
                  </a:solidFill>
                  <a:latin typeface="Raleway"/>
                </a:rPr>
                <a:t>Product 2</a:t>
              </a:r>
              <a:endParaRPr b="0" lang="en-US" sz="1400" spc="-1" strike="noStrike">
                <a:solidFill>
                  <a:srgbClr val="000000"/>
                </a:solidFill>
                <a:latin typeface="Calibri"/>
              </a:endParaRPr>
            </a:p>
          </p:txBody>
        </p:sp>
      </p:grpSp>
      <p:sp>
        <p:nvSpPr>
          <p:cNvPr id="901" name="Oval 61"/>
          <p:cNvSpPr/>
          <p:nvPr/>
        </p:nvSpPr>
        <p:spPr>
          <a:xfrm>
            <a:off x="5800680" y="2071800"/>
            <a:ext cx="631800" cy="631800"/>
          </a:xfrm>
          <a:prstGeom prst="ellipse">
            <a:avLst/>
          </a:prstGeom>
          <a:solidFill>
            <a:srgbClr val="37e08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2" name="Rectangle 48"/>
          <p:cNvSpPr/>
          <p:nvPr/>
        </p:nvSpPr>
        <p:spPr>
          <a:xfrm>
            <a:off x="5823000" y="1542960"/>
            <a:ext cx="546480" cy="1287720"/>
          </a:xfrm>
          <a:prstGeom prst="rect">
            <a:avLst/>
          </a:prstGeom>
          <a:noFill/>
          <a:ln w="0">
            <a:noFill/>
          </a:ln>
        </p:spPr>
        <p:style>
          <a:lnRef idx="0"/>
          <a:fillRef idx="0"/>
          <a:effectRef idx="0"/>
          <a:fontRef idx="minor"/>
        </p:style>
        <p:txBody>
          <a:bodyPr wrap="none" lIns="90000" rIns="90000" tIns="46800" bIns="46800" anchor="t">
            <a:spAutoFit/>
          </a:bodyPr>
          <a:p>
            <a:pPr algn="ctr">
              <a:lnSpc>
                <a:spcPts val="9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0227"/>
                </a:solidFill>
                <a:latin typeface="Raleway"/>
              </a:rPr>
              <a:t>VS</a:t>
            </a:r>
            <a:endParaRPr b="0" lang="en-US" sz="2400" spc="-1" strike="noStrike">
              <a:solidFill>
                <a:srgbClr val="000000"/>
              </a:solidFill>
              <a:latin typeface="Calibri"/>
            </a:endParaRPr>
          </a:p>
        </p:txBody>
      </p:sp>
      <p:sp>
        <p:nvSpPr>
          <p:cNvPr id="903" name="TextBox 35"/>
          <p:cNvSpPr/>
          <p:nvPr/>
        </p:nvSpPr>
        <p:spPr>
          <a:xfrm>
            <a:off x="3099600" y="449280"/>
            <a:ext cx="5993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d6ff"/>
                </a:solidFill>
                <a:latin typeface="Raleway SemiBold"/>
                <a:ea typeface="Open Sans"/>
              </a:rPr>
              <a:t>Comparison Infographic</a:t>
            </a:r>
            <a:endParaRPr b="0" lang="en-US" sz="4000" spc="-1" strike="noStrike">
              <a:solidFill>
                <a:srgbClr val="000000"/>
              </a:solidFill>
              <a:latin typeface="Calibri"/>
            </a:endParaRPr>
          </a:p>
        </p:txBody>
      </p:sp>
      <p:sp>
        <p:nvSpPr>
          <p:cNvPr id="904" name="TextBox 36"/>
          <p:cNvSpPr/>
          <p:nvPr/>
        </p:nvSpPr>
        <p:spPr>
          <a:xfrm>
            <a:off x="3465360" y="1257480"/>
            <a:ext cx="526104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bfbfbf"/>
                </a:solidFill>
                <a:latin typeface="Open Sans"/>
                <a:ea typeface="Open Sans"/>
              </a:rPr>
              <a:t>Lorem ipsum dolor sit amet, consectetur adipiscing elit, sed do eiusmod tempor incididunt ut labore et dolore magna aliqua</a:t>
            </a:r>
            <a:endParaRPr b="0" lang="en-US" sz="1100" spc="-1" strike="noStrike">
              <a:solidFill>
                <a:srgbClr val="000000"/>
              </a:solidFill>
              <a:latin typeface="Calibri"/>
            </a:endParaRPr>
          </a:p>
        </p:txBody>
      </p:sp>
      <p:grpSp>
        <p:nvGrpSpPr>
          <p:cNvPr id="905" name="Group 62"/>
          <p:cNvGrpSpPr/>
          <p:nvPr/>
        </p:nvGrpSpPr>
        <p:grpSpPr>
          <a:xfrm>
            <a:off x="1922400" y="2975040"/>
            <a:ext cx="3517920" cy="2349360"/>
            <a:chOff x="1922400" y="2975040"/>
            <a:chExt cx="3517920" cy="2349360"/>
          </a:xfrm>
        </p:grpSpPr>
        <p:graphicFrame>
          <p:nvGraphicFramePr>
            <p:cNvPr id="906" name="Chart 38"/>
            <p:cNvGraphicFramePr/>
            <p:nvPr/>
          </p:nvGraphicFramePr>
          <p:xfrm>
            <a:off x="1922400" y="2975040"/>
            <a:ext cx="693000" cy="2349360"/>
          </p:xfrm>
          <a:graphic>
            <a:graphicData uri="http://schemas.openxmlformats.org/presentationml/2006/ole">
              <p:oleObj progId="Excel.Sheet.12" r:id="rId1" spid="">
                <p:embed/>
                <p:pic>
                  <p:nvPicPr>
                    <p:cNvPr id="907" name="Chart 38" descr=""/>
                    <p:cNvPicPr/>
                    <p:nvPr/>
                  </p:nvPicPr>
                  <p:blipFill>
                    <a:blip r:embed="rId2"/>
                    <a:stretch/>
                  </p:blipFill>
                  <p:spPr>
                    <a:xfrm>
                      <a:off x="1922400" y="2975040"/>
                      <a:ext cx="693000" cy="2349360"/>
                    </a:xfrm>
                    <a:prstGeom prst="rect">
                      <a:avLst/>
                    </a:prstGeom>
                    <a:ln w="0">
                      <a:noFill/>
                    </a:ln>
                  </p:spPr>
                </p:pic>
              </p:oleObj>
            </a:graphicData>
          </a:graphic>
        </p:graphicFrame>
        <p:graphicFrame>
          <p:nvGraphicFramePr>
            <p:cNvPr id="908" name="Chart 39"/>
            <p:cNvGraphicFramePr/>
            <p:nvPr/>
          </p:nvGraphicFramePr>
          <p:xfrm>
            <a:off x="2863080" y="2975040"/>
            <a:ext cx="693000" cy="2349360"/>
          </p:xfrm>
          <a:graphic>
            <a:graphicData uri="http://schemas.openxmlformats.org/presentationml/2006/ole">
              <p:oleObj progId="Excel.Sheet.12" r:id="rId3" spid="">
                <p:embed/>
                <p:pic>
                  <p:nvPicPr>
                    <p:cNvPr id="909" name="Chart 39" descr=""/>
                    <p:cNvPicPr/>
                    <p:nvPr/>
                  </p:nvPicPr>
                  <p:blipFill>
                    <a:blip r:embed="rId4"/>
                    <a:stretch/>
                  </p:blipFill>
                  <p:spPr>
                    <a:xfrm>
                      <a:off x="2863080" y="2975040"/>
                      <a:ext cx="693000" cy="2349360"/>
                    </a:xfrm>
                    <a:prstGeom prst="rect">
                      <a:avLst/>
                    </a:prstGeom>
                    <a:ln w="0">
                      <a:noFill/>
                    </a:ln>
                  </p:spPr>
                </p:pic>
              </p:oleObj>
            </a:graphicData>
          </a:graphic>
        </p:graphicFrame>
        <p:graphicFrame>
          <p:nvGraphicFramePr>
            <p:cNvPr id="910" name="Chart 40"/>
            <p:cNvGraphicFramePr/>
            <p:nvPr/>
          </p:nvGraphicFramePr>
          <p:xfrm>
            <a:off x="3806640" y="2975040"/>
            <a:ext cx="693000" cy="2349360"/>
          </p:xfrm>
          <a:graphic>
            <a:graphicData uri="http://schemas.openxmlformats.org/presentationml/2006/ole">
              <p:oleObj progId="Excel.Sheet.12" r:id="rId5" spid="">
                <p:embed/>
                <p:pic>
                  <p:nvPicPr>
                    <p:cNvPr id="911" name="Chart 40" descr=""/>
                    <p:cNvPicPr/>
                    <p:nvPr/>
                  </p:nvPicPr>
                  <p:blipFill>
                    <a:blip r:embed="rId6"/>
                    <a:stretch/>
                  </p:blipFill>
                  <p:spPr>
                    <a:xfrm>
                      <a:off x="3806640" y="2975040"/>
                      <a:ext cx="693000" cy="2349360"/>
                    </a:xfrm>
                    <a:prstGeom prst="rect">
                      <a:avLst/>
                    </a:prstGeom>
                    <a:ln w="0">
                      <a:noFill/>
                    </a:ln>
                  </p:spPr>
                </p:pic>
              </p:oleObj>
            </a:graphicData>
          </a:graphic>
        </p:graphicFrame>
        <p:graphicFrame>
          <p:nvGraphicFramePr>
            <p:cNvPr id="912" name="Chart 41"/>
            <p:cNvGraphicFramePr/>
            <p:nvPr/>
          </p:nvGraphicFramePr>
          <p:xfrm>
            <a:off x="4747320" y="2975040"/>
            <a:ext cx="693000" cy="2349360"/>
          </p:xfrm>
          <a:graphic>
            <a:graphicData uri="http://schemas.openxmlformats.org/presentationml/2006/ole">
              <p:oleObj progId="Excel.Sheet.12" r:id="rId7" spid="">
                <p:embed/>
                <p:pic>
                  <p:nvPicPr>
                    <p:cNvPr id="913" name="Chart 41" descr=""/>
                    <p:cNvPicPr/>
                    <p:nvPr/>
                  </p:nvPicPr>
                  <p:blipFill>
                    <a:blip r:embed="rId8"/>
                    <a:stretch/>
                  </p:blipFill>
                  <p:spPr>
                    <a:xfrm>
                      <a:off x="4747320" y="2975040"/>
                      <a:ext cx="693000" cy="2349360"/>
                    </a:xfrm>
                    <a:prstGeom prst="rect">
                      <a:avLst/>
                    </a:prstGeom>
                    <a:ln w="0">
                      <a:noFill/>
                    </a:ln>
                  </p:spPr>
                </p:pic>
              </p:oleObj>
            </a:graphicData>
          </a:graphic>
        </p:graphicFrame>
        <p:sp>
          <p:nvSpPr>
            <p:cNvPr id="914" name="Freeform 10"/>
            <p:cNvSpPr/>
            <p:nvPr/>
          </p:nvSpPr>
          <p:spPr>
            <a:xfrm>
              <a:off x="1934640" y="3630960"/>
              <a:ext cx="669240" cy="46440"/>
            </a:xfrm>
            <a:custGeom>
              <a:avLst/>
              <a:gdLst/>
              <a:ahLst/>
              <a:rect l="l" t="t" r="r" b="b"/>
              <a:pathLst>
                <a:path w="1372" h="108">
                  <a:moveTo>
                    <a:pt x="1371" y="0"/>
                  </a:moveTo>
                  <a:lnTo>
                    <a:pt x="0" y="0"/>
                  </a:lnTo>
                  <a:lnTo>
                    <a:pt x="0" y="107"/>
                  </a:lnTo>
                  <a:lnTo>
                    <a:pt x="1371" y="107"/>
                  </a:lnTo>
                  <a:lnTo>
                    <a:pt x="1371" y="0"/>
                  </a:lnTo>
                </a:path>
              </a:pathLst>
            </a:custGeom>
            <a:solidFill>
              <a:srgbClr val="0d0d0d"/>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Calibri"/>
              </a:endParaRPr>
            </a:p>
          </p:txBody>
        </p:sp>
        <p:sp>
          <p:nvSpPr>
            <p:cNvPr id="915" name="Freeform 10"/>
            <p:cNvSpPr/>
            <p:nvPr/>
          </p:nvSpPr>
          <p:spPr>
            <a:xfrm>
              <a:off x="2874960" y="4102920"/>
              <a:ext cx="669240" cy="46440"/>
            </a:xfrm>
            <a:custGeom>
              <a:avLst/>
              <a:gdLst/>
              <a:ahLst/>
              <a:rect l="l" t="t" r="r" b="b"/>
              <a:pathLst>
                <a:path w="1372" h="108">
                  <a:moveTo>
                    <a:pt x="1371" y="0"/>
                  </a:moveTo>
                  <a:lnTo>
                    <a:pt x="0" y="0"/>
                  </a:lnTo>
                  <a:lnTo>
                    <a:pt x="0" y="107"/>
                  </a:lnTo>
                  <a:lnTo>
                    <a:pt x="1371" y="107"/>
                  </a:lnTo>
                  <a:lnTo>
                    <a:pt x="1371" y="0"/>
                  </a:lnTo>
                </a:path>
              </a:pathLst>
            </a:custGeom>
            <a:solidFill>
              <a:srgbClr val="0d0d0d"/>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Calibri"/>
              </a:endParaRPr>
            </a:p>
          </p:txBody>
        </p:sp>
        <p:sp>
          <p:nvSpPr>
            <p:cNvPr id="916" name="Freeform 10"/>
            <p:cNvSpPr/>
            <p:nvPr/>
          </p:nvSpPr>
          <p:spPr>
            <a:xfrm>
              <a:off x="3814920" y="3677760"/>
              <a:ext cx="669240" cy="46440"/>
            </a:xfrm>
            <a:custGeom>
              <a:avLst/>
              <a:gdLst/>
              <a:ahLst/>
              <a:rect l="l" t="t" r="r" b="b"/>
              <a:pathLst>
                <a:path w="1372" h="108">
                  <a:moveTo>
                    <a:pt x="1371" y="0"/>
                  </a:moveTo>
                  <a:lnTo>
                    <a:pt x="0" y="0"/>
                  </a:lnTo>
                  <a:lnTo>
                    <a:pt x="0" y="107"/>
                  </a:lnTo>
                  <a:lnTo>
                    <a:pt x="1371" y="107"/>
                  </a:lnTo>
                  <a:lnTo>
                    <a:pt x="1371" y="0"/>
                  </a:lnTo>
                </a:path>
              </a:pathLst>
            </a:custGeom>
            <a:solidFill>
              <a:srgbClr val="0d0d0d"/>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Calibri"/>
              </a:endParaRPr>
            </a:p>
          </p:txBody>
        </p:sp>
        <p:sp>
          <p:nvSpPr>
            <p:cNvPr id="917" name="Freeform 10"/>
            <p:cNvSpPr/>
            <p:nvPr/>
          </p:nvSpPr>
          <p:spPr>
            <a:xfrm>
              <a:off x="4759200" y="3375360"/>
              <a:ext cx="669240" cy="46440"/>
            </a:xfrm>
            <a:custGeom>
              <a:avLst/>
              <a:gdLst/>
              <a:ahLst/>
              <a:rect l="l" t="t" r="r" b="b"/>
              <a:pathLst>
                <a:path w="1372" h="108">
                  <a:moveTo>
                    <a:pt x="1371" y="0"/>
                  </a:moveTo>
                  <a:lnTo>
                    <a:pt x="0" y="0"/>
                  </a:lnTo>
                  <a:lnTo>
                    <a:pt x="0" y="107"/>
                  </a:lnTo>
                  <a:lnTo>
                    <a:pt x="1371" y="107"/>
                  </a:lnTo>
                  <a:lnTo>
                    <a:pt x="1371" y="0"/>
                  </a:lnTo>
                </a:path>
              </a:pathLst>
            </a:custGeom>
            <a:solidFill>
              <a:srgbClr val="0d0d0d"/>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Calibri"/>
              </a:endParaRPr>
            </a:p>
          </p:txBody>
        </p:sp>
      </p:grpSp>
      <p:grpSp>
        <p:nvGrpSpPr>
          <p:cNvPr id="918" name="Group 63"/>
          <p:cNvGrpSpPr/>
          <p:nvPr/>
        </p:nvGrpSpPr>
        <p:grpSpPr>
          <a:xfrm>
            <a:off x="6553080" y="2975040"/>
            <a:ext cx="3651480" cy="2349360"/>
            <a:chOff x="6553080" y="2975040"/>
            <a:chExt cx="3651480" cy="2349360"/>
          </a:xfrm>
        </p:grpSpPr>
        <p:graphicFrame>
          <p:nvGraphicFramePr>
            <p:cNvPr id="919" name="Chart 42"/>
            <p:cNvGraphicFramePr/>
            <p:nvPr/>
          </p:nvGraphicFramePr>
          <p:xfrm>
            <a:off x="6553080" y="2975040"/>
            <a:ext cx="716040" cy="2349360"/>
          </p:xfrm>
          <a:graphic>
            <a:graphicData uri="http://schemas.openxmlformats.org/presentationml/2006/ole">
              <p:oleObj progId="Excel.Sheet.12" r:id="rId9" spid="">
                <p:embed/>
                <p:pic>
                  <p:nvPicPr>
                    <p:cNvPr id="920" name="Chart 42" descr=""/>
                    <p:cNvPicPr/>
                    <p:nvPr/>
                  </p:nvPicPr>
                  <p:blipFill>
                    <a:blip r:embed="rId10"/>
                    <a:stretch/>
                  </p:blipFill>
                  <p:spPr>
                    <a:xfrm>
                      <a:off x="6553080" y="2975040"/>
                      <a:ext cx="716040" cy="2349360"/>
                    </a:xfrm>
                    <a:prstGeom prst="rect">
                      <a:avLst/>
                    </a:prstGeom>
                    <a:ln w="0">
                      <a:noFill/>
                    </a:ln>
                  </p:spPr>
                </p:pic>
              </p:oleObj>
            </a:graphicData>
          </a:graphic>
        </p:graphicFrame>
        <p:graphicFrame>
          <p:nvGraphicFramePr>
            <p:cNvPr id="921" name="Chart 43"/>
            <p:cNvGraphicFramePr/>
            <p:nvPr/>
          </p:nvGraphicFramePr>
          <p:xfrm>
            <a:off x="7530480" y="2975040"/>
            <a:ext cx="716040" cy="2349360"/>
          </p:xfrm>
          <a:graphic>
            <a:graphicData uri="http://schemas.openxmlformats.org/presentationml/2006/ole">
              <p:oleObj progId="Excel.Sheet.12" r:id="rId11" spid="">
                <p:embed/>
                <p:pic>
                  <p:nvPicPr>
                    <p:cNvPr id="922" name="Chart 43" descr=""/>
                    <p:cNvPicPr/>
                    <p:nvPr/>
                  </p:nvPicPr>
                  <p:blipFill>
                    <a:blip r:embed="rId12"/>
                    <a:stretch/>
                  </p:blipFill>
                  <p:spPr>
                    <a:xfrm>
                      <a:off x="7530480" y="2975040"/>
                      <a:ext cx="716040" cy="2349360"/>
                    </a:xfrm>
                    <a:prstGeom prst="rect">
                      <a:avLst/>
                    </a:prstGeom>
                    <a:ln w="0">
                      <a:noFill/>
                    </a:ln>
                  </p:spPr>
                </p:pic>
              </p:oleObj>
            </a:graphicData>
          </a:graphic>
        </p:graphicFrame>
        <p:graphicFrame>
          <p:nvGraphicFramePr>
            <p:cNvPr id="923" name="Chart 44"/>
            <p:cNvGraphicFramePr/>
            <p:nvPr/>
          </p:nvGraphicFramePr>
          <p:xfrm>
            <a:off x="8510760" y="2975040"/>
            <a:ext cx="716040" cy="2349360"/>
          </p:xfrm>
          <a:graphic>
            <a:graphicData uri="http://schemas.openxmlformats.org/presentationml/2006/ole">
              <p:oleObj progId="Excel.Sheet.12" r:id="rId13" spid="">
                <p:embed/>
                <p:pic>
                  <p:nvPicPr>
                    <p:cNvPr id="924" name="Chart 44" descr=""/>
                    <p:cNvPicPr/>
                    <p:nvPr/>
                  </p:nvPicPr>
                  <p:blipFill>
                    <a:blip r:embed="rId14"/>
                    <a:stretch/>
                  </p:blipFill>
                  <p:spPr>
                    <a:xfrm>
                      <a:off x="8510760" y="2975040"/>
                      <a:ext cx="716040" cy="2349360"/>
                    </a:xfrm>
                    <a:prstGeom prst="rect">
                      <a:avLst/>
                    </a:prstGeom>
                    <a:ln w="0">
                      <a:noFill/>
                    </a:ln>
                  </p:spPr>
                </p:pic>
              </p:oleObj>
            </a:graphicData>
          </a:graphic>
        </p:graphicFrame>
        <p:graphicFrame>
          <p:nvGraphicFramePr>
            <p:cNvPr id="925" name="Chart 45"/>
            <p:cNvGraphicFramePr/>
            <p:nvPr/>
          </p:nvGraphicFramePr>
          <p:xfrm>
            <a:off x="9488520" y="2975040"/>
            <a:ext cx="716040" cy="2349360"/>
          </p:xfrm>
          <a:graphic>
            <a:graphicData uri="http://schemas.openxmlformats.org/presentationml/2006/ole">
              <p:oleObj progId="Excel.Sheet.12" r:id="rId15" spid="">
                <p:embed/>
                <p:pic>
                  <p:nvPicPr>
                    <p:cNvPr id="926" name="Chart 45" descr=""/>
                    <p:cNvPicPr/>
                    <p:nvPr/>
                  </p:nvPicPr>
                  <p:blipFill>
                    <a:blip r:embed="rId16"/>
                    <a:stretch/>
                  </p:blipFill>
                  <p:spPr>
                    <a:xfrm>
                      <a:off x="9488520" y="2975040"/>
                      <a:ext cx="716040" cy="2349360"/>
                    </a:xfrm>
                    <a:prstGeom prst="rect">
                      <a:avLst/>
                    </a:prstGeom>
                    <a:ln w="0">
                      <a:noFill/>
                    </a:ln>
                  </p:spPr>
                </p:pic>
              </p:oleObj>
            </a:graphicData>
          </a:graphic>
        </p:graphicFrame>
        <p:sp>
          <p:nvSpPr>
            <p:cNvPr id="927" name="Freeform 10"/>
            <p:cNvSpPr/>
            <p:nvPr/>
          </p:nvSpPr>
          <p:spPr>
            <a:xfrm>
              <a:off x="6573240" y="3630960"/>
              <a:ext cx="695520" cy="46440"/>
            </a:xfrm>
            <a:custGeom>
              <a:avLst/>
              <a:gdLst/>
              <a:ahLst/>
              <a:rect l="l" t="t" r="r" b="b"/>
              <a:pathLst>
                <a:path w="1372" h="108">
                  <a:moveTo>
                    <a:pt x="1371" y="0"/>
                  </a:moveTo>
                  <a:lnTo>
                    <a:pt x="0" y="0"/>
                  </a:lnTo>
                  <a:lnTo>
                    <a:pt x="0" y="107"/>
                  </a:lnTo>
                  <a:lnTo>
                    <a:pt x="1371" y="107"/>
                  </a:lnTo>
                  <a:lnTo>
                    <a:pt x="1371" y="0"/>
                  </a:lnTo>
                </a:path>
              </a:pathLst>
            </a:custGeom>
            <a:solidFill>
              <a:srgbClr val="0d0d0d"/>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Calibri"/>
              </a:endParaRPr>
            </a:p>
          </p:txBody>
        </p:sp>
        <p:sp>
          <p:nvSpPr>
            <p:cNvPr id="928" name="Freeform 10"/>
            <p:cNvSpPr/>
            <p:nvPr/>
          </p:nvSpPr>
          <p:spPr>
            <a:xfrm>
              <a:off x="7550280" y="4391280"/>
              <a:ext cx="695520" cy="46440"/>
            </a:xfrm>
            <a:custGeom>
              <a:avLst/>
              <a:gdLst/>
              <a:ahLst/>
              <a:rect l="l" t="t" r="r" b="b"/>
              <a:pathLst>
                <a:path w="1372" h="108">
                  <a:moveTo>
                    <a:pt x="1371" y="0"/>
                  </a:moveTo>
                  <a:lnTo>
                    <a:pt x="0" y="0"/>
                  </a:lnTo>
                  <a:lnTo>
                    <a:pt x="0" y="107"/>
                  </a:lnTo>
                  <a:lnTo>
                    <a:pt x="1371" y="107"/>
                  </a:lnTo>
                  <a:lnTo>
                    <a:pt x="1371" y="0"/>
                  </a:lnTo>
                </a:path>
              </a:pathLst>
            </a:custGeom>
            <a:solidFill>
              <a:srgbClr val="0d0d0d"/>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Calibri"/>
              </a:endParaRPr>
            </a:p>
          </p:txBody>
        </p:sp>
        <p:sp>
          <p:nvSpPr>
            <p:cNvPr id="929" name="Freeform 10"/>
            <p:cNvSpPr/>
            <p:nvPr/>
          </p:nvSpPr>
          <p:spPr>
            <a:xfrm>
              <a:off x="8527320" y="3561120"/>
              <a:ext cx="695520" cy="46440"/>
            </a:xfrm>
            <a:custGeom>
              <a:avLst/>
              <a:gdLst/>
              <a:ahLst/>
              <a:rect l="l" t="t" r="r" b="b"/>
              <a:pathLst>
                <a:path w="1372" h="108">
                  <a:moveTo>
                    <a:pt x="1371" y="0"/>
                  </a:moveTo>
                  <a:lnTo>
                    <a:pt x="0" y="0"/>
                  </a:lnTo>
                  <a:lnTo>
                    <a:pt x="0" y="107"/>
                  </a:lnTo>
                  <a:lnTo>
                    <a:pt x="1371" y="107"/>
                  </a:lnTo>
                  <a:lnTo>
                    <a:pt x="1371" y="0"/>
                  </a:lnTo>
                </a:path>
              </a:pathLst>
            </a:custGeom>
            <a:solidFill>
              <a:srgbClr val="0d0d0d"/>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Calibri"/>
              </a:endParaRPr>
            </a:p>
          </p:txBody>
        </p:sp>
        <p:sp>
          <p:nvSpPr>
            <p:cNvPr id="930" name="Freeform 10"/>
            <p:cNvSpPr/>
            <p:nvPr/>
          </p:nvSpPr>
          <p:spPr>
            <a:xfrm>
              <a:off x="9508320" y="4710600"/>
              <a:ext cx="695520" cy="46440"/>
            </a:xfrm>
            <a:custGeom>
              <a:avLst/>
              <a:gdLst/>
              <a:ahLst/>
              <a:rect l="l" t="t" r="r" b="b"/>
              <a:pathLst>
                <a:path w="1372" h="108">
                  <a:moveTo>
                    <a:pt x="1371" y="0"/>
                  </a:moveTo>
                  <a:lnTo>
                    <a:pt x="0" y="0"/>
                  </a:lnTo>
                  <a:lnTo>
                    <a:pt x="0" y="107"/>
                  </a:lnTo>
                  <a:lnTo>
                    <a:pt x="1371" y="107"/>
                  </a:lnTo>
                  <a:lnTo>
                    <a:pt x="1371" y="0"/>
                  </a:lnTo>
                </a:path>
              </a:pathLst>
            </a:custGeom>
            <a:solidFill>
              <a:srgbClr val="0d0d0d"/>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Calibri"/>
              </a:endParaRPr>
            </a:p>
          </p:txBody>
        </p:sp>
      </p:grpSp>
      <p:sp>
        <p:nvSpPr>
          <p:cNvPr id="931" name="TextBox 64"/>
          <p:cNvSpPr/>
          <p:nvPr/>
        </p:nvSpPr>
        <p:spPr>
          <a:xfrm>
            <a:off x="2081880" y="481320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227"/>
                </a:solidFill>
                <a:latin typeface="Raleway SemiBold"/>
                <a:ea typeface="Open Sans"/>
              </a:rPr>
              <a:t>S</a:t>
            </a:r>
            <a:endParaRPr b="0" lang="en-US" sz="2000" spc="-1" strike="noStrike">
              <a:solidFill>
                <a:srgbClr val="000000"/>
              </a:solidFill>
              <a:latin typeface="Calibri"/>
            </a:endParaRPr>
          </a:p>
        </p:txBody>
      </p:sp>
      <p:sp>
        <p:nvSpPr>
          <p:cNvPr id="932" name="TextBox 65"/>
          <p:cNvSpPr/>
          <p:nvPr/>
        </p:nvSpPr>
        <p:spPr>
          <a:xfrm>
            <a:off x="2960280" y="4813200"/>
            <a:ext cx="41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227"/>
                </a:solidFill>
                <a:latin typeface="Raleway SemiBold"/>
                <a:ea typeface="Open Sans"/>
              </a:rPr>
              <a:t>W</a:t>
            </a:r>
            <a:endParaRPr b="0" lang="en-US" sz="2000" spc="-1" strike="noStrike">
              <a:solidFill>
                <a:srgbClr val="000000"/>
              </a:solidFill>
              <a:latin typeface="Calibri"/>
            </a:endParaRPr>
          </a:p>
        </p:txBody>
      </p:sp>
      <p:sp>
        <p:nvSpPr>
          <p:cNvPr id="933" name="TextBox 66"/>
          <p:cNvSpPr/>
          <p:nvPr/>
        </p:nvSpPr>
        <p:spPr>
          <a:xfrm>
            <a:off x="3966840" y="481320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227"/>
                </a:solidFill>
                <a:latin typeface="Raleway SemiBold"/>
                <a:ea typeface="Open Sans"/>
              </a:rPr>
              <a:t>O</a:t>
            </a:r>
            <a:endParaRPr b="0" lang="en-US" sz="2000" spc="-1" strike="noStrike">
              <a:solidFill>
                <a:srgbClr val="000000"/>
              </a:solidFill>
              <a:latin typeface="Calibri"/>
            </a:endParaRPr>
          </a:p>
        </p:txBody>
      </p:sp>
      <p:sp>
        <p:nvSpPr>
          <p:cNvPr id="934" name="TextBox 67"/>
          <p:cNvSpPr/>
          <p:nvPr/>
        </p:nvSpPr>
        <p:spPr>
          <a:xfrm>
            <a:off x="4883760" y="48132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227"/>
                </a:solidFill>
                <a:latin typeface="Raleway SemiBold"/>
                <a:ea typeface="Open Sans"/>
              </a:rPr>
              <a:t>T</a:t>
            </a:r>
            <a:endParaRPr b="0" lang="en-US" sz="2000" spc="-1" strike="noStrike">
              <a:solidFill>
                <a:srgbClr val="000000"/>
              </a:solidFill>
              <a:latin typeface="Calibri"/>
            </a:endParaRPr>
          </a:p>
        </p:txBody>
      </p:sp>
      <p:sp>
        <p:nvSpPr>
          <p:cNvPr id="935" name="TextBox 68"/>
          <p:cNvSpPr/>
          <p:nvPr/>
        </p:nvSpPr>
        <p:spPr>
          <a:xfrm>
            <a:off x="6704640" y="484992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227"/>
                </a:solidFill>
                <a:latin typeface="Raleway SemiBold"/>
                <a:ea typeface="Open Sans"/>
              </a:rPr>
              <a:t>S</a:t>
            </a:r>
            <a:endParaRPr b="0" lang="en-US" sz="2000" spc="-1" strike="noStrike">
              <a:solidFill>
                <a:srgbClr val="000000"/>
              </a:solidFill>
              <a:latin typeface="Calibri"/>
            </a:endParaRPr>
          </a:p>
        </p:txBody>
      </p:sp>
      <p:sp>
        <p:nvSpPr>
          <p:cNvPr id="936" name="TextBox 69"/>
          <p:cNvSpPr/>
          <p:nvPr/>
        </p:nvSpPr>
        <p:spPr>
          <a:xfrm>
            <a:off x="7667280" y="4849920"/>
            <a:ext cx="41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227"/>
                </a:solidFill>
                <a:latin typeface="Raleway SemiBold"/>
                <a:ea typeface="Open Sans"/>
              </a:rPr>
              <a:t>W</a:t>
            </a:r>
            <a:endParaRPr b="0" lang="en-US" sz="2000" spc="-1" strike="noStrike">
              <a:solidFill>
                <a:srgbClr val="000000"/>
              </a:solidFill>
              <a:latin typeface="Calibri"/>
            </a:endParaRPr>
          </a:p>
        </p:txBody>
      </p:sp>
      <p:sp>
        <p:nvSpPr>
          <p:cNvPr id="937" name="TextBox 70"/>
          <p:cNvSpPr/>
          <p:nvPr/>
        </p:nvSpPr>
        <p:spPr>
          <a:xfrm>
            <a:off x="8647560" y="484992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227"/>
                </a:solidFill>
                <a:latin typeface="Raleway SemiBold"/>
                <a:ea typeface="Open Sans"/>
              </a:rPr>
              <a:t>O</a:t>
            </a:r>
            <a:endParaRPr b="0" lang="en-US" sz="2000" spc="-1" strike="noStrike">
              <a:solidFill>
                <a:srgbClr val="000000"/>
              </a:solidFill>
              <a:latin typeface="Calibri"/>
            </a:endParaRPr>
          </a:p>
        </p:txBody>
      </p:sp>
      <p:sp>
        <p:nvSpPr>
          <p:cNvPr id="938" name="TextBox 71"/>
          <p:cNvSpPr/>
          <p:nvPr/>
        </p:nvSpPr>
        <p:spPr>
          <a:xfrm>
            <a:off x="9684360" y="48499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227"/>
                </a:solidFill>
                <a:latin typeface="Raleway SemiBold"/>
                <a:ea typeface="Open Sans"/>
              </a:rPr>
              <a:t>T</a:t>
            </a:r>
            <a:endParaRPr b="0" lang="en-US" sz="2000" spc="-1" strike="noStrike">
              <a:solidFill>
                <a:srgbClr val="000000"/>
              </a:solidFill>
              <a:latin typeface="Calibri"/>
            </a:endParaRPr>
          </a:p>
        </p:txBody>
      </p:sp>
      <p:sp>
        <p:nvSpPr>
          <p:cNvPr id="939" name="Straight Connector 37"/>
          <p:cNvSpPr/>
          <p:nvPr/>
        </p:nvSpPr>
        <p:spPr>
          <a:xfrm flipH="1">
            <a:off x="11210400" y="6526080"/>
            <a:ext cx="320760" cy="331920"/>
          </a:xfrm>
          <a:prstGeom prst="line">
            <a:avLst/>
          </a:prstGeom>
          <a:ln w="6480">
            <a:solidFill>
              <a:srgbClr val="06d6ff">
                <a:alpha val="36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0" name="Straight Connector 46"/>
          <p:cNvSpPr/>
          <p:nvPr/>
        </p:nvSpPr>
        <p:spPr>
          <a:xfrm flipH="1">
            <a:off x="390240" y="0"/>
            <a:ext cx="320760" cy="331920"/>
          </a:xfrm>
          <a:prstGeom prst="line">
            <a:avLst/>
          </a:prstGeom>
          <a:ln w="6480">
            <a:solidFill>
              <a:srgbClr val="06d6ff">
                <a:alpha val="36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1" name="Group 8"/>
          <p:cNvGrpSpPr/>
          <p:nvPr/>
        </p:nvGrpSpPr>
        <p:grpSpPr>
          <a:xfrm>
            <a:off x="2222640" y="2766960"/>
            <a:ext cx="8105760" cy="274680"/>
            <a:chOff x="2222640" y="2766960"/>
            <a:chExt cx="8105760" cy="274680"/>
          </a:xfrm>
        </p:grpSpPr>
        <p:grpSp>
          <p:nvGrpSpPr>
            <p:cNvPr id="942" name="Rectangle: Rounded Corners 9"/>
            <p:cNvGrpSpPr/>
            <p:nvPr/>
          </p:nvGrpSpPr>
          <p:grpSpPr>
            <a:xfrm>
              <a:off x="2222640" y="2766960"/>
              <a:ext cx="8105760" cy="274680"/>
              <a:chOff x="2222640" y="2766960"/>
              <a:chExt cx="8105760" cy="274680"/>
            </a:xfrm>
          </p:grpSpPr>
          <p:pic>
            <p:nvPicPr>
              <p:cNvPr id="943" name="Rectangle: Rounded Corners 9" descr=""/>
              <p:cNvPicPr/>
              <p:nvPr/>
            </p:nvPicPr>
            <p:blipFill>
              <a:blip r:embed="rId1"/>
              <a:stretch/>
            </p:blipFill>
            <p:spPr>
              <a:xfrm>
                <a:off x="2222640" y="2766960"/>
                <a:ext cx="8105760" cy="274680"/>
              </a:xfrm>
              <a:prstGeom prst="rect">
                <a:avLst/>
              </a:prstGeom>
              <a:ln w="0">
                <a:noFill/>
              </a:ln>
            </p:spPr>
          </p:pic>
          <p:sp>
            <p:nvSpPr>
              <p:cNvPr id="944" name=""/>
              <p:cNvSpPr/>
              <p:nvPr/>
            </p:nvSpPr>
            <p:spPr>
              <a:xfrm rot="16200000">
                <a:off x="6176520" y="-1110960"/>
                <a:ext cx="189720" cy="802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45" name="Rectangle: Rounded Corners 10"/>
            <p:cNvSpPr/>
            <p:nvPr/>
          </p:nvSpPr>
          <p:spPr>
            <a:xfrm flipH="1" rot="16200000">
              <a:off x="6636960" y="-229320"/>
              <a:ext cx="268200" cy="6261480"/>
            </a:xfrm>
            <a:custGeom>
              <a:avLst/>
              <a:gdLst>
                <a:gd name="textAreaLeft" fmla="*/ 39240 w 268200"/>
                <a:gd name="textAreaRight" fmla="*/ 228960 w 268200"/>
                <a:gd name="textAreaTop" fmla="*/ 39240 h 6261480"/>
                <a:gd name="textAreaBottom" fmla="*/ 6222240 h 6261480"/>
              </a:gdLst>
              <a:ahLst/>
              <a:rect l="textAreaLeft" t="textAreaTop" r="textAreaRight" b="textAreaBottom"/>
              <a:pathLst>
                <a:path w="21600" h="503633">
                  <a:moveTo>
                    <a:pt x="10800" y="0"/>
                  </a:moveTo>
                  <a:arcTo wR="10800" hR="10800" stAng="16200000" swAng="-5400000"/>
                  <a:lnTo>
                    <a:pt x="0" y="492833"/>
                  </a:lnTo>
                  <a:arcTo wR="10800" hR="10800" stAng="10800000" swAng="-5400000"/>
                  <a:lnTo>
                    <a:pt x="10800" y="503633"/>
                  </a:lnTo>
                  <a:arcTo wR="10800" hR="10800" stAng="5400000" swAng="-5400000"/>
                  <a:lnTo>
                    <a:pt x="21600" y="10800"/>
                  </a:lnTo>
                  <a:arcTo wR="10800" hR="10800" stAng="0" swAng="-5400000"/>
                  <a:close/>
                </a:path>
              </a:pathLst>
            </a:custGeom>
            <a:solidFill>
              <a:srgbClr val="ff4e9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46" name="Oval 11"/>
          <p:cNvSpPr/>
          <p:nvPr/>
        </p:nvSpPr>
        <p:spPr>
          <a:xfrm>
            <a:off x="5946840" y="2575080"/>
            <a:ext cx="657000" cy="658800"/>
          </a:xfrm>
          <a:prstGeom prst="ellipse">
            <a:avLst/>
          </a:prstGeom>
          <a:solidFill>
            <a:srgbClr val="7f7f7f"/>
          </a:solidFill>
          <a:ln w="12600">
            <a:solidFill>
              <a:srgbClr val="03022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7" name="Oval 14"/>
          <p:cNvSpPr/>
          <p:nvPr/>
        </p:nvSpPr>
        <p:spPr>
          <a:xfrm>
            <a:off x="6016680" y="2651040"/>
            <a:ext cx="515880" cy="514440"/>
          </a:xfrm>
          <a:prstGeom prst="ellipse">
            <a:avLst/>
          </a:prstGeom>
          <a:solidFill>
            <a:srgbClr val="ffffff"/>
          </a:solidFill>
          <a:ln w="12600">
            <a:solidFill>
              <a:srgbClr val="03022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48" name="Group 3"/>
          <p:cNvGrpSpPr/>
          <p:nvPr/>
        </p:nvGrpSpPr>
        <p:grpSpPr>
          <a:xfrm>
            <a:off x="2222640" y="1927080"/>
            <a:ext cx="8105760" cy="273240"/>
            <a:chOff x="2222640" y="1927080"/>
            <a:chExt cx="8105760" cy="273240"/>
          </a:xfrm>
        </p:grpSpPr>
        <p:grpSp>
          <p:nvGrpSpPr>
            <p:cNvPr id="949" name="Rectangle: Rounded Corners 1"/>
            <p:cNvGrpSpPr/>
            <p:nvPr/>
          </p:nvGrpSpPr>
          <p:grpSpPr>
            <a:xfrm>
              <a:off x="2222640" y="1927080"/>
              <a:ext cx="8105760" cy="273240"/>
              <a:chOff x="2222640" y="1927080"/>
              <a:chExt cx="8105760" cy="273240"/>
            </a:xfrm>
          </p:grpSpPr>
          <p:pic>
            <p:nvPicPr>
              <p:cNvPr id="950" name="Rectangle: Rounded Corners 1" descr=""/>
              <p:cNvPicPr/>
              <p:nvPr/>
            </p:nvPicPr>
            <p:blipFill>
              <a:blip r:embed="rId2"/>
              <a:stretch/>
            </p:blipFill>
            <p:spPr>
              <a:xfrm>
                <a:off x="2222640" y="1927080"/>
                <a:ext cx="8105760" cy="273240"/>
              </a:xfrm>
              <a:prstGeom prst="rect">
                <a:avLst/>
              </a:prstGeom>
              <a:ln w="0">
                <a:noFill/>
              </a:ln>
            </p:spPr>
          </p:pic>
          <p:sp>
            <p:nvSpPr>
              <p:cNvPr id="951" name=""/>
              <p:cNvSpPr/>
              <p:nvPr/>
            </p:nvSpPr>
            <p:spPr>
              <a:xfrm rot="16200000">
                <a:off x="6176880" y="-1950840"/>
                <a:ext cx="188640" cy="802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52" name="Rectangle: Rounded Corners 2"/>
            <p:cNvSpPr/>
            <p:nvPr/>
          </p:nvSpPr>
          <p:spPr>
            <a:xfrm flipH="1" rot="16200000">
              <a:off x="5967000" y="-1425240"/>
              <a:ext cx="266760" cy="6973560"/>
            </a:xfrm>
            <a:custGeom>
              <a:avLst/>
              <a:gdLst>
                <a:gd name="textAreaLeft" fmla="*/ 38880 w 266760"/>
                <a:gd name="textAreaRight" fmla="*/ 227880 w 266760"/>
                <a:gd name="textAreaTop" fmla="*/ 38880 h 6973560"/>
                <a:gd name="textAreaBottom" fmla="*/ 6934680 h 6973560"/>
              </a:gdLst>
              <a:ahLst/>
              <a:rect l="textAreaLeft" t="textAreaTop" r="textAreaRight" b="textAreaBottom"/>
              <a:pathLst>
                <a:path w="21600" h="563929">
                  <a:moveTo>
                    <a:pt x="10800" y="0"/>
                  </a:moveTo>
                  <a:arcTo wR="10800" hR="10800" stAng="16200000" swAng="-5400000"/>
                  <a:lnTo>
                    <a:pt x="0" y="553129"/>
                  </a:lnTo>
                  <a:arcTo wR="10800" hR="10800" stAng="10800000" swAng="-5400000"/>
                  <a:lnTo>
                    <a:pt x="10800" y="563929"/>
                  </a:lnTo>
                  <a:arcTo wR="10800" hR="10800" stAng="5400000" swAng="-5400000"/>
                  <a:lnTo>
                    <a:pt x="21600" y="10800"/>
                  </a:lnTo>
                  <a:arcTo wR="10800" hR="10800" stAng="0" swAng="-5400000"/>
                  <a:close/>
                </a:path>
              </a:pathLst>
            </a:custGeom>
            <a:solidFill>
              <a:srgbClr val="06d6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53" name="TextBox 4"/>
          <p:cNvSpPr/>
          <p:nvPr/>
        </p:nvSpPr>
        <p:spPr>
          <a:xfrm>
            <a:off x="3099600" y="334800"/>
            <a:ext cx="5993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d6ff"/>
                </a:solidFill>
                <a:latin typeface="Raleway SemiBold"/>
                <a:ea typeface="Open Sans"/>
              </a:rPr>
              <a:t>Comparison Infographic</a:t>
            </a:r>
            <a:endParaRPr b="0" lang="en-US" sz="4000" spc="-1" strike="noStrike">
              <a:solidFill>
                <a:srgbClr val="000000"/>
              </a:solidFill>
              <a:latin typeface="Calibri"/>
            </a:endParaRPr>
          </a:p>
        </p:txBody>
      </p:sp>
      <p:sp>
        <p:nvSpPr>
          <p:cNvPr id="954" name="Oval 6"/>
          <p:cNvSpPr/>
          <p:nvPr/>
        </p:nvSpPr>
        <p:spPr>
          <a:xfrm>
            <a:off x="5946840" y="1735200"/>
            <a:ext cx="657000" cy="657000"/>
          </a:xfrm>
          <a:prstGeom prst="ellipse">
            <a:avLst/>
          </a:prstGeom>
          <a:solidFill>
            <a:srgbClr val="7f7f7f"/>
          </a:solidFill>
          <a:ln w="12600">
            <a:solidFill>
              <a:srgbClr val="03022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5" name="Oval 13"/>
          <p:cNvSpPr/>
          <p:nvPr/>
        </p:nvSpPr>
        <p:spPr>
          <a:xfrm>
            <a:off x="6016680" y="1801800"/>
            <a:ext cx="515880" cy="515880"/>
          </a:xfrm>
          <a:prstGeom prst="ellipse">
            <a:avLst/>
          </a:prstGeom>
          <a:solidFill>
            <a:srgbClr val="ffffff"/>
          </a:solidFill>
          <a:ln w="12600">
            <a:solidFill>
              <a:srgbClr val="03022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6" name="TextBox 7"/>
          <p:cNvSpPr/>
          <p:nvPr/>
        </p:nvSpPr>
        <p:spPr>
          <a:xfrm>
            <a:off x="6113880" y="184932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d6ff"/>
                </a:solidFill>
                <a:latin typeface="Raleway"/>
              </a:rPr>
              <a:t>S</a:t>
            </a:r>
            <a:endParaRPr b="0" lang="en-US" sz="2000" spc="-1" strike="noStrike">
              <a:solidFill>
                <a:srgbClr val="000000"/>
              </a:solidFill>
              <a:latin typeface="Calibri"/>
            </a:endParaRPr>
          </a:p>
        </p:txBody>
      </p:sp>
      <p:sp>
        <p:nvSpPr>
          <p:cNvPr id="957" name="TextBox 12"/>
          <p:cNvSpPr/>
          <p:nvPr/>
        </p:nvSpPr>
        <p:spPr>
          <a:xfrm>
            <a:off x="6062040" y="2714760"/>
            <a:ext cx="42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4e95"/>
                </a:solidFill>
                <a:latin typeface="Raleway"/>
              </a:rPr>
              <a:t>W</a:t>
            </a:r>
            <a:endParaRPr b="0" lang="en-US" sz="2000" spc="-1" strike="noStrike">
              <a:solidFill>
                <a:srgbClr val="000000"/>
              </a:solidFill>
              <a:latin typeface="Calibri"/>
            </a:endParaRPr>
          </a:p>
        </p:txBody>
      </p:sp>
      <p:grpSp>
        <p:nvGrpSpPr>
          <p:cNvPr id="958" name="Group 15"/>
          <p:cNvGrpSpPr/>
          <p:nvPr/>
        </p:nvGrpSpPr>
        <p:grpSpPr>
          <a:xfrm>
            <a:off x="2222640" y="4494240"/>
            <a:ext cx="8105760" cy="274680"/>
            <a:chOff x="2222640" y="4494240"/>
            <a:chExt cx="8105760" cy="274680"/>
          </a:xfrm>
        </p:grpSpPr>
        <p:grpSp>
          <p:nvGrpSpPr>
            <p:cNvPr id="959" name="Rectangle: Rounded Corners 16"/>
            <p:cNvGrpSpPr/>
            <p:nvPr/>
          </p:nvGrpSpPr>
          <p:grpSpPr>
            <a:xfrm>
              <a:off x="2222640" y="4494240"/>
              <a:ext cx="8105760" cy="274680"/>
              <a:chOff x="2222640" y="4494240"/>
              <a:chExt cx="8105760" cy="274680"/>
            </a:xfrm>
          </p:grpSpPr>
          <p:pic>
            <p:nvPicPr>
              <p:cNvPr id="960" name="Rectangle: Rounded Corners 16" descr=""/>
              <p:cNvPicPr/>
              <p:nvPr/>
            </p:nvPicPr>
            <p:blipFill>
              <a:blip r:embed="rId3"/>
              <a:stretch/>
            </p:blipFill>
            <p:spPr>
              <a:xfrm>
                <a:off x="2222640" y="4494240"/>
                <a:ext cx="8105760" cy="274680"/>
              </a:xfrm>
              <a:prstGeom prst="rect">
                <a:avLst/>
              </a:prstGeom>
              <a:ln w="0">
                <a:noFill/>
              </a:ln>
            </p:spPr>
          </p:pic>
          <p:sp>
            <p:nvSpPr>
              <p:cNvPr id="961" name=""/>
              <p:cNvSpPr/>
              <p:nvPr/>
            </p:nvSpPr>
            <p:spPr>
              <a:xfrm rot="16200000">
                <a:off x="6176520" y="617760"/>
                <a:ext cx="189720" cy="802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2" name="Rectangle: Rounded Corners 17"/>
            <p:cNvSpPr/>
            <p:nvPr/>
          </p:nvSpPr>
          <p:spPr>
            <a:xfrm flipH="1" rot="16200000">
              <a:off x="5613480" y="1636920"/>
              <a:ext cx="268200" cy="5986080"/>
            </a:xfrm>
            <a:custGeom>
              <a:avLst/>
              <a:gdLst>
                <a:gd name="textAreaLeft" fmla="*/ 39240 w 268200"/>
                <a:gd name="textAreaRight" fmla="*/ 228960 w 268200"/>
                <a:gd name="textAreaTop" fmla="*/ 39240 h 5986080"/>
                <a:gd name="textAreaBottom" fmla="*/ 5946840 h 5986080"/>
              </a:gdLst>
              <a:ahLst/>
              <a:rect l="textAreaLeft" t="textAreaTop" r="textAreaRight" b="textAreaBottom"/>
              <a:pathLst>
                <a:path w="21600" h="481483">
                  <a:moveTo>
                    <a:pt x="10800" y="0"/>
                  </a:moveTo>
                  <a:arcTo wR="10800" hR="10800" stAng="16200000" swAng="-5400000"/>
                  <a:lnTo>
                    <a:pt x="0" y="470683"/>
                  </a:lnTo>
                  <a:arcTo wR="10800" hR="10800" stAng="10800000" swAng="-5400000"/>
                  <a:lnTo>
                    <a:pt x="10800" y="481483"/>
                  </a:lnTo>
                  <a:arcTo wR="10800" hR="10800" stAng="5400000" swAng="-5400000"/>
                  <a:lnTo>
                    <a:pt x="21600" y="10800"/>
                  </a:lnTo>
                  <a:arcTo wR="10800" hR="10800" stAng="0" swAng="-5400000"/>
                  <a:close/>
                </a:path>
              </a:pathLst>
            </a:custGeom>
            <a:solidFill>
              <a:srgbClr val="37e08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3" name="Oval 18"/>
          <p:cNvSpPr/>
          <p:nvPr/>
        </p:nvSpPr>
        <p:spPr>
          <a:xfrm>
            <a:off x="5946840" y="4302000"/>
            <a:ext cx="657000" cy="658800"/>
          </a:xfrm>
          <a:prstGeom prst="ellipse">
            <a:avLst/>
          </a:prstGeom>
          <a:solidFill>
            <a:srgbClr val="7f7f7f"/>
          </a:solidFill>
          <a:ln w="12600">
            <a:solidFill>
              <a:srgbClr val="03022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4" name="Oval 19"/>
          <p:cNvSpPr/>
          <p:nvPr/>
        </p:nvSpPr>
        <p:spPr>
          <a:xfrm>
            <a:off x="6016680" y="4378320"/>
            <a:ext cx="515880" cy="514440"/>
          </a:xfrm>
          <a:prstGeom prst="ellipse">
            <a:avLst/>
          </a:prstGeom>
          <a:solidFill>
            <a:srgbClr val="ffffff"/>
          </a:solidFill>
          <a:ln w="12600">
            <a:solidFill>
              <a:srgbClr val="03022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5" name="Group 20"/>
          <p:cNvGrpSpPr/>
          <p:nvPr/>
        </p:nvGrpSpPr>
        <p:grpSpPr>
          <a:xfrm>
            <a:off x="2222640" y="3618000"/>
            <a:ext cx="8105760" cy="274680"/>
            <a:chOff x="2222640" y="3618000"/>
            <a:chExt cx="8105760" cy="274680"/>
          </a:xfrm>
        </p:grpSpPr>
        <p:grpSp>
          <p:nvGrpSpPr>
            <p:cNvPr id="966" name="Rectangle: Rounded Corners 21"/>
            <p:cNvGrpSpPr/>
            <p:nvPr/>
          </p:nvGrpSpPr>
          <p:grpSpPr>
            <a:xfrm>
              <a:off x="2222640" y="3620520"/>
              <a:ext cx="8105760" cy="272160"/>
              <a:chOff x="2222640" y="3620520"/>
              <a:chExt cx="8105760" cy="272160"/>
            </a:xfrm>
          </p:grpSpPr>
          <p:pic>
            <p:nvPicPr>
              <p:cNvPr id="967" name="Rectangle: Rounded Corners 21" descr=""/>
              <p:cNvPicPr/>
              <p:nvPr/>
            </p:nvPicPr>
            <p:blipFill>
              <a:blip r:embed="rId4"/>
              <a:stretch/>
            </p:blipFill>
            <p:spPr>
              <a:xfrm>
                <a:off x="2222640" y="3620520"/>
                <a:ext cx="8105760" cy="272160"/>
              </a:xfrm>
              <a:prstGeom prst="rect">
                <a:avLst/>
              </a:prstGeom>
              <a:ln w="0">
                <a:noFill/>
              </a:ln>
            </p:spPr>
          </p:pic>
          <p:sp>
            <p:nvSpPr>
              <p:cNvPr id="968" name=""/>
              <p:cNvSpPr/>
              <p:nvPr/>
            </p:nvSpPr>
            <p:spPr>
              <a:xfrm rot="16200000">
                <a:off x="6175440" y="-258480"/>
                <a:ext cx="191880" cy="802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9" name="Rectangle: Rounded Corners 22"/>
            <p:cNvSpPr/>
            <p:nvPr/>
          </p:nvSpPr>
          <p:spPr>
            <a:xfrm flipH="1" rot="16200000">
              <a:off x="5823000" y="930240"/>
              <a:ext cx="271440" cy="5646960"/>
            </a:xfrm>
            <a:custGeom>
              <a:avLst/>
              <a:gdLst>
                <a:gd name="textAreaLeft" fmla="*/ 39600 w 271440"/>
                <a:gd name="textAreaRight" fmla="*/ 231840 w 271440"/>
                <a:gd name="textAreaTop" fmla="*/ 39600 h 5646960"/>
                <a:gd name="textAreaBottom" fmla="*/ 5607360 h 5646960"/>
              </a:gdLst>
              <a:ahLst/>
              <a:rect l="textAreaLeft" t="textAreaTop" r="textAreaRight" b="textAreaBottom"/>
              <a:pathLst>
                <a:path w="21600" h="448794">
                  <a:moveTo>
                    <a:pt x="10800" y="0"/>
                  </a:moveTo>
                  <a:arcTo wR="10800" hR="10800" stAng="16200000" swAng="-5400000"/>
                  <a:lnTo>
                    <a:pt x="0" y="437994"/>
                  </a:lnTo>
                  <a:arcTo wR="10800" hR="10800" stAng="10800000" swAng="-5400000"/>
                  <a:lnTo>
                    <a:pt x="10800" y="448794"/>
                  </a:lnTo>
                  <a:arcTo wR="10800" hR="10800" stAng="5400000" swAng="-5400000"/>
                  <a:lnTo>
                    <a:pt x="21600" y="10800"/>
                  </a:lnTo>
                  <a:arcTo wR="10800" hR="10800" stAng="0" swAng="-5400000"/>
                  <a:close/>
                </a:path>
              </a:pathLst>
            </a:custGeom>
            <a:solidFill>
              <a:srgbClr val="a5a5a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70" name="Oval 23"/>
          <p:cNvSpPr/>
          <p:nvPr/>
        </p:nvSpPr>
        <p:spPr>
          <a:xfrm>
            <a:off x="5946840" y="3425760"/>
            <a:ext cx="657000" cy="658800"/>
          </a:xfrm>
          <a:prstGeom prst="ellipse">
            <a:avLst/>
          </a:prstGeom>
          <a:solidFill>
            <a:srgbClr val="7f7f7f"/>
          </a:solidFill>
          <a:ln w="12600">
            <a:solidFill>
              <a:srgbClr val="03022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1" name="Oval 24"/>
          <p:cNvSpPr/>
          <p:nvPr/>
        </p:nvSpPr>
        <p:spPr>
          <a:xfrm>
            <a:off x="6016680" y="3494160"/>
            <a:ext cx="515880" cy="514440"/>
          </a:xfrm>
          <a:prstGeom prst="ellipse">
            <a:avLst/>
          </a:prstGeom>
          <a:solidFill>
            <a:srgbClr val="ffffff"/>
          </a:solidFill>
          <a:ln w="12600">
            <a:solidFill>
              <a:srgbClr val="03022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2" name="TextBox 25"/>
          <p:cNvSpPr/>
          <p:nvPr/>
        </p:nvSpPr>
        <p:spPr>
          <a:xfrm>
            <a:off x="6082920" y="354168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a5a5"/>
                </a:solidFill>
                <a:latin typeface="Raleway"/>
              </a:rPr>
              <a:t>O</a:t>
            </a:r>
            <a:endParaRPr b="0" lang="en-US" sz="2000" spc="-1" strike="noStrike">
              <a:solidFill>
                <a:srgbClr val="000000"/>
              </a:solidFill>
              <a:latin typeface="Calibri"/>
            </a:endParaRPr>
          </a:p>
        </p:txBody>
      </p:sp>
      <p:sp>
        <p:nvSpPr>
          <p:cNvPr id="973" name="TextBox 26"/>
          <p:cNvSpPr/>
          <p:nvPr/>
        </p:nvSpPr>
        <p:spPr>
          <a:xfrm>
            <a:off x="6062040" y="4441680"/>
            <a:ext cx="42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e08b"/>
                </a:solidFill>
                <a:latin typeface="Raleway"/>
              </a:rPr>
              <a:t>W</a:t>
            </a:r>
            <a:endParaRPr b="0" lang="en-US" sz="2000" spc="-1" strike="noStrike">
              <a:solidFill>
                <a:srgbClr val="000000"/>
              </a:solidFill>
              <a:latin typeface="Calibri"/>
            </a:endParaRPr>
          </a:p>
        </p:txBody>
      </p:sp>
      <p:sp>
        <p:nvSpPr>
          <p:cNvPr id="974" name="TextBox 28"/>
          <p:cNvSpPr/>
          <p:nvPr/>
        </p:nvSpPr>
        <p:spPr>
          <a:xfrm>
            <a:off x="2697120" y="1925640"/>
            <a:ext cx="760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30227"/>
                </a:solidFill>
                <a:latin typeface="Raleway"/>
              </a:rPr>
              <a:t>90%</a:t>
            </a:r>
            <a:endParaRPr b="0" lang="en-US" sz="1200" spc="-1" strike="noStrike">
              <a:solidFill>
                <a:srgbClr val="000000"/>
              </a:solidFill>
              <a:latin typeface="Calibri"/>
            </a:endParaRPr>
          </a:p>
        </p:txBody>
      </p:sp>
      <p:sp>
        <p:nvSpPr>
          <p:cNvPr id="975" name="TextBox 29"/>
          <p:cNvSpPr/>
          <p:nvPr/>
        </p:nvSpPr>
        <p:spPr>
          <a:xfrm>
            <a:off x="8885160" y="1925640"/>
            <a:ext cx="760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30227"/>
                </a:solidFill>
                <a:latin typeface="Raleway"/>
              </a:rPr>
              <a:t>85%</a:t>
            </a:r>
            <a:endParaRPr b="0" lang="en-US" sz="1200" spc="-1" strike="noStrike">
              <a:solidFill>
                <a:srgbClr val="000000"/>
              </a:solidFill>
              <a:latin typeface="Calibri"/>
            </a:endParaRPr>
          </a:p>
        </p:txBody>
      </p:sp>
      <p:sp>
        <p:nvSpPr>
          <p:cNvPr id="976" name="TextBox 30"/>
          <p:cNvSpPr/>
          <p:nvPr/>
        </p:nvSpPr>
        <p:spPr>
          <a:xfrm>
            <a:off x="3645000" y="2762280"/>
            <a:ext cx="758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30227"/>
                </a:solidFill>
                <a:latin typeface="Raleway"/>
              </a:rPr>
              <a:t>60%</a:t>
            </a:r>
            <a:endParaRPr b="0" lang="en-US" sz="1200" spc="-1" strike="noStrike">
              <a:solidFill>
                <a:srgbClr val="000000"/>
              </a:solidFill>
              <a:latin typeface="Calibri"/>
            </a:endParaRPr>
          </a:p>
        </p:txBody>
      </p:sp>
      <p:sp>
        <p:nvSpPr>
          <p:cNvPr id="977" name="TextBox 31"/>
          <p:cNvSpPr/>
          <p:nvPr/>
        </p:nvSpPr>
        <p:spPr>
          <a:xfrm>
            <a:off x="9204480" y="2743200"/>
            <a:ext cx="760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30227"/>
                </a:solidFill>
                <a:latin typeface="Raleway"/>
              </a:rPr>
              <a:t>95%</a:t>
            </a:r>
            <a:endParaRPr b="0" lang="en-US" sz="1200" spc="-1" strike="noStrike">
              <a:solidFill>
                <a:srgbClr val="000000"/>
              </a:solidFill>
              <a:latin typeface="Calibri"/>
            </a:endParaRPr>
          </a:p>
        </p:txBody>
      </p:sp>
      <p:sp>
        <p:nvSpPr>
          <p:cNvPr id="978" name="TextBox 32"/>
          <p:cNvSpPr/>
          <p:nvPr/>
        </p:nvSpPr>
        <p:spPr>
          <a:xfrm>
            <a:off x="3076560" y="3605040"/>
            <a:ext cx="760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30227"/>
                </a:solidFill>
                <a:latin typeface="Raleway"/>
              </a:rPr>
              <a:t>80%</a:t>
            </a:r>
            <a:endParaRPr b="0" lang="en-US" sz="1200" spc="-1" strike="noStrike">
              <a:solidFill>
                <a:srgbClr val="000000"/>
              </a:solidFill>
              <a:latin typeface="Calibri"/>
            </a:endParaRPr>
          </a:p>
        </p:txBody>
      </p:sp>
      <p:sp>
        <p:nvSpPr>
          <p:cNvPr id="979" name="TextBox 33"/>
          <p:cNvSpPr/>
          <p:nvPr/>
        </p:nvSpPr>
        <p:spPr>
          <a:xfrm>
            <a:off x="8085240" y="3605040"/>
            <a:ext cx="760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30227"/>
                </a:solidFill>
                <a:latin typeface="Raleway"/>
              </a:rPr>
              <a:t>65%</a:t>
            </a:r>
            <a:endParaRPr b="0" lang="en-US" sz="1200" spc="-1" strike="noStrike">
              <a:solidFill>
                <a:srgbClr val="000000"/>
              </a:solidFill>
              <a:latin typeface="Calibri"/>
            </a:endParaRPr>
          </a:p>
        </p:txBody>
      </p:sp>
      <p:sp>
        <p:nvSpPr>
          <p:cNvPr id="980" name="TextBox 34"/>
          <p:cNvSpPr/>
          <p:nvPr/>
        </p:nvSpPr>
        <p:spPr>
          <a:xfrm>
            <a:off x="2760840" y="4459320"/>
            <a:ext cx="758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30227"/>
                </a:solidFill>
                <a:latin typeface="Raleway"/>
              </a:rPr>
              <a:t>90%</a:t>
            </a:r>
            <a:endParaRPr b="0" lang="en-US" sz="1200" spc="-1" strike="noStrike">
              <a:solidFill>
                <a:srgbClr val="000000"/>
              </a:solidFill>
              <a:latin typeface="Calibri"/>
            </a:endParaRPr>
          </a:p>
        </p:txBody>
      </p:sp>
      <p:sp>
        <p:nvSpPr>
          <p:cNvPr id="981" name="TextBox 35"/>
          <p:cNvSpPr/>
          <p:nvPr/>
        </p:nvSpPr>
        <p:spPr>
          <a:xfrm>
            <a:off x="8026560" y="4491000"/>
            <a:ext cx="760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30227"/>
                </a:solidFill>
                <a:latin typeface="Raleway"/>
              </a:rPr>
              <a:t>75%</a:t>
            </a:r>
            <a:endParaRPr b="0" lang="en-US" sz="1200" spc="-1" strike="noStrike">
              <a:solidFill>
                <a:srgbClr val="000000"/>
              </a:solidFill>
              <a:latin typeface="Calibri"/>
            </a:endParaRPr>
          </a:p>
        </p:txBody>
      </p:sp>
      <p:pic>
        <p:nvPicPr>
          <p:cNvPr id="982" name="Graphic 37" descr="Thumbs up sign"/>
          <p:cNvPicPr/>
          <p:nvPr/>
        </p:nvPicPr>
        <p:blipFill>
          <a:blip r:embed="rId5"/>
          <a:stretch/>
        </p:blipFill>
        <p:spPr>
          <a:xfrm>
            <a:off x="1504800" y="1765440"/>
            <a:ext cx="457200" cy="457200"/>
          </a:xfrm>
          <a:prstGeom prst="rect">
            <a:avLst/>
          </a:prstGeom>
          <a:ln w="0">
            <a:noFill/>
          </a:ln>
        </p:spPr>
      </p:pic>
      <p:pic>
        <p:nvPicPr>
          <p:cNvPr id="983" name="Graphic 38" descr="Thumbs up sign"/>
          <p:cNvPicPr/>
          <p:nvPr/>
        </p:nvPicPr>
        <p:blipFill>
          <a:blip r:embed="rId6"/>
          <a:stretch/>
        </p:blipFill>
        <p:spPr>
          <a:xfrm>
            <a:off x="10550520" y="2638440"/>
            <a:ext cx="457200" cy="457200"/>
          </a:xfrm>
          <a:prstGeom prst="rect">
            <a:avLst/>
          </a:prstGeom>
          <a:ln w="0">
            <a:noFill/>
          </a:ln>
        </p:spPr>
      </p:pic>
      <p:pic>
        <p:nvPicPr>
          <p:cNvPr id="984" name="Graphic 39" descr="Thumbs up sign"/>
          <p:cNvPicPr/>
          <p:nvPr/>
        </p:nvPicPr>
        <p:blipFill>
          <a:blip r:embed="rId7"/>
          <a:stretch/>
        </p:blipFill>
        <p:spPr>
          <a:xfrm>
            <a:off x="1535040" y="4368960"/>
            <a:ext cx="457200" cy="457200"/>
          </a:xfrm>
          <a:prstGeom prst="rect">
            <a:avLst/>
          </a:prstGeom>
          <a:ln w="0">
            <a:noFill/>
          </a:ln>
        </p:spPr>
      </p:pic>
      <p:sp>
        <p:nvSpPr>
          <p:cNvPr id="985" name="Rectangle 40"/>
          <p:cNvSpPr/>
          <p:nvPr/>
        </p:nvSpPr>
        <p:spPr>
          <a:xfrm>
            <a:off x="3306600" y="5359320"/>
            <a:ext cx="296892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fbfbf"/>
                </a:solidFill>
                <a:latin typeface="Open Sans"/>
                <a:ea typeface="Open Sans"/>
              </a:rPr>
              <a:t>Lorem ipsum dolor sit amet, consectetur adipiscing elit. Aenean sit amet ultrices sem. Donec non elit eu t</a:t>
            </a:r>
            <a:endParaRPr b="0" lang="en-US" sz="1000" spc="-1" strike="noStrike">
              <a:solidFill>
                <a:srgbClr val="000000"/>
              </a:solidFill>
              <a:latin typeface="Calibri"/>
            </a:endParaRPr>
          </a:p>
        </p:txBody>
      </p:sp>
      <p:sp>
        <p:nvSpPr>
          <p:cNvPr id="986" name="TextBox 41"/>
          <p:cNvSpPr/>
          <p:nvPr/>
        </p:nvSpPr>
        <p:spPr>
          <a:xfrm>
            <a:off x="1977480" y="5648400"/>
            <a:ext cx="113616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Raleway"/>
              </a:rPr>
              <a:t>12M</a:t>
            </a:r>
            <a:endParaRPr b="0" lang="en-US" sz="3600" spc="-1" strike="noStrike">
              <a:solidFill>
                <a:srgbClr val="000000"/>
              </a:solidFill>
              <a:latin typeface="Calibri"/>
            </a:endParaRPr>
          </a:p>
        </p:txBody>
      </p:sp>
      <p:sp>
        <p:nvSpPr>
          <p:cNvPr id="987" name="TextBox 42"/>
          <p:cNvSpPr/>
          <p:nvPr/>
        </p:nvSpPr>
        <p:spPr>
          <a:xfrm>
            <a:off x="1598760" y="5334120"/>
            <a:ext cx="1490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Description</a:t>
            </a:r>
            <a:endParaRPr b="0" lang="en-US" sz="1400" spc="-1" strike="noStrike">
              <a:solidFill>
                <a:srgbClr val="000000"/>
              </a:solidFill>
              <a:latin typeface="Calibri"/>
            </a:endParaRPr>
          </a:p>
        </p:txBody>
      </p:sp>
      <p:sp>
        <p:nvSpPr>
          <p:cNvPr id="988" name="Rectangle: Rounded Corners 43"/>
          <p:cNvSpPr/>
          <p:nvPr/>
        </p:nvSpPr>
        <p:spPr>
          <a:xfrm>
            <a:off x="7008840" y="5373720"/>
            <a:ext cx="420840" cy="231840"/>
          </a:xfrm>
          <a:prstGeom prst="roundRect">
            <a:avLst>
              <a:gd name="adj" fmla="val 50000"/>
            </a:avLst>
          </a:prstGeom>
          <a:solidFill>
            <a:srgbClr val="06d6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9" name="TextBox 44"/>
          <p:cNvSpPr/>
          <p:nvPr/>
        </p:nvSpPr>
        <p:spPr>
          <a:xfrm>
            <a:off x="7496280" y="5351400"/>
            <a:ext cx="149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6d6ff"/>
                </a:solidFill>
                <a:latin typeface="Open Sans"/>
                <a:ea typeface="Open Sans"/>
              </a:rPr>
              <a:t>Description</a:t>
            </a:r>
            <a:endParaRPr b="0" lang="en-US" sz="1100" spc="-1" strike="noStrike">
              <a:solidFill>
                <a:srgbClr val="000000"/>
              </a:solidFill>
              <a:latin typeface="Calibri"/>
            </a:endParaRPr>
          </a:p>
        </p:txBody>
      </p:sp>
      <p:sp>
        <p:nvSpPr>
          <p:cNvPr id="990" name="Straight Connector 51"/>
          <p:cNvSpPr/>
          <p:nvPr/>
        </p:nvSpPr>
        <p:spPr>
          <a:xfrm>
            <a:off x="6738840" y="5346720"/>
            <a:ext cx="0" cy="861840"/>
          </a:xfrm>
          <a:prstGeom prst="line">
            <a:avLst/>
          </a:prstGeom>
          <a:ln w="6480">
            <a:solidFill>
              <a:srgbClr val="afab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1" name="Rectangle: Rounded Corners 62"/>
          <p:cNvSpPr/>
          <p:nvPr/>
        </p:nvSpPr>
        <p:spPr>
          <a:xfrm>
            <a:off x="7008840" y="5907240"/>
            <a:ext cx="420840" cy="231480"/>
          </a:xfrm>
          <a:prstGeom prst="roundRect">
            <a:avLst>
              <a:gd name="adj" fmla="val 50000"/>
            </a:avLst>
          </a:prstGeom>
          <a:solidFill>
            <a:srgbClr val="ff4e9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2" name="TextBox 63"/>
          <p:cNvSpPr/>
          <p:nvPr/>
        </p:nvSpPr>
        <p:spPr>
          <a:xfrm>
            <a:off x="7496280" y="5884920"/>
            <a:ext cx="149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4e95"/>
                </a:solidFill>
                <a:latin typeface="Open Sans"/>
                <a:ea typeface="Open Sans"/>
              </a:rPr>
              <a:t>Description</a:t>
            </a:r>
            <a:endParaRPr b="0" lang="en-US" sz="1100" spc="-1" strike="noStrike">
              <a:solidFill>
                <a:srgbClr val="000000"/>
              </a:solidFill>
              <a:latin typeface="Calibri"/>
            </a:endParaRPr>
          </a:p>
        </p:txBody>
      </p:sp>
      <p:sp>
        <p:nvSpPr>
          <p:cNvPr id="993" name="Rectangle: Rounded Corners 69"/>
          <p:cNvSpPr/>
          <p:nvPr/>
        </p:nvSpPr>
        <p:spPr>
          <a:xfrm>
            <a:off x="8972640" y="5356080"/>
            <a:ext cx="419040" cy="231840"/>
          </a:xfrm>
          <a:prstGeom prst="roundRect">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4" name="TextBox 70"/>
          <p:cNvSpPr/>
          <p:nvPr/>
        </p:nvSpPr>
        <p:spPr>
          <a:xfrm>
            <a:off x="9460080" y="5334120"/>
            <a:ext cx="149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5a5a5"/>
                </a:solidFill>
                <a:latin typeface="Open Sans"/>
                <a:ea typeface="Open Sans"/>
              </a:rPr>
              <a:t>Description</a:t>
            </a:r>
            <a:endParaRPr b="0" lang="en-US" sz="1100" spc="-1" strike="noStrike">
              <a:solidFill>
                <a:srgbClr val="000000"/>
              </a:solidFill>
              <a:latin typeface="Calibri"/>
            </a:endParaRPr>
          </a:p>
        </p:txBody>
      </p:sp>
      <p:sp>
        <p:nvSpPr>
          <p:cNvPr id="995" name="Rectangle: Rounded Corners 71"/>
          <p:cNvSpPr/>
          <p:nvPr/>
        </p:nvSpPr>
        <p:spPr>
          <a:xfrm>
            <a:off x="8972640" y="5889600"/>
            <a:ext cx="419040" cy="231840"/>
          </a:xfrm>
          <a:prstGeom prst="roundRect">
            <a:avLst>
              <a:gd name="adj" fmla="val 50000"/>
            </a:avLst>
          </a:prstGeom>
          <a:solidFill>
            <a:srgbClr val="37e08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6" name="TextBox 72"/>
          <p:cNvSpPr/>
          <p:nvPr/>
        </p:nvSpPr>
        <p:spPr>
          <a:xfrm>
            <a:off x="9460080" y="5867280"/>
            <a:ext cx="149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7e08b"/>
                </a:solidFill>
                <a:latin typeface="Open Sans"/>
                <a:ea typeface="Open Sans"/>
              </a:rPr>
              <a:t>Description</a:t>
            </a:r>
            <a:endParaRPr b="0" lang="en-US" sz="1100" spc="-1" strike="noStrike">
              <a:solidFill>
                <a:srgbClr val="000000"/>
              </a:solidFill>
              <a:latin typeface="Calibri"/>
            </a:endParaRPr>
          </a:p>
        </p:txBody>
      </p:sp>
      <p:sp>
        <p:nvSpPr>
          <p:cNvPr id="997" name="Straight Connector 49"/>
          <p:cNvSpPr/>
          <p:nvPr/>
        </p:nvSpPr>
        <p:spPr>
          <a:xfrm flipH="1">
            <a:off x="11305800" y="6526080"/>
            <a:ext cx="320760" cy="331920"/>
          </a:xfrm>
          <a:prstGeom prst="line">
            <a:avLst/>
          </a:prstGeom>
          <a:ln w="6480">
            <a:solidFill>
              <a:srgbClr val="06d6ff">
                <a:alpha val="36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8" name="Straight Connector 50"/>
          <p:cNvSpPr/>
          <p:nvPr/>
        </p:nvSpPr>
        <p:spPr>
          <a:xfrm flipH="1">
            <a:off x="517680" y="0"/>
            <a:ext cx="320400" cy="331920"/>
          </a:xfrm>
          <a:prstGeom prst="line">
            <a:avLst/>
          </a:prstGeom>
          <a:ln w="6480">
            <a:solidFill>
              <a:srgbClr val="06d6ff">
                <a:alpha val="36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 name="Group 1"/>
          <p:cNvGrpSpPr/>
          <p:nvPr/>
        </p:nvGrpSpPr>
        <p:grpSpPr>
          <a:xfrm>
            <a:off x="1015920" y="2068560"/>
            <a:ext cx="4562640" cy="4368600"/>
            <a:chOff x="1015920" y="2068560"/>
            <a:chExt cx="4562640" cy="4368600"/>
          </a:xfrm>
        </p:grpSpPr>
        <p:graphicFrame>
          <p:nvGraphicFramePr>
            <p:cNvPr id="95" name="Chart 2"/>
            <p:cNvGraphicFramePr/>
            <p:nvPr/>
          </p:nvGraphicFramePr>
          <p:xfrm>
            <a:off x="1347120" y="2068560"/>
            <a:ext cx="4231440" cy="4368600"/>
          </p:xfrm>
          <a:graphic>
            <a:graphicData uri="http://schemas.openxmlformats.org/presentationml/2006/ole">
              <p:oleObj progId="Excel.Sheet.12" r:id="rId1" spid="">
                <p:embed/>
                <p:pic>
                  <p:nvPicPr>
                    <p:cNvPr id="96" name="Chart 2" descr=""/>
                    <p:cNvPicPr/>
                    <p:nvPr/>
                  </p:nvPicPr>
                  <p:blipFill>
                    <a:blip r:embed="rId2"/>
                    <a:stretch/>
                  </p:blipFill>
                  <p:spPr>
                    <a:xfrm>
                      <a:off x="1347120" y="2068560"/>
                      <a:ext cx="4231440" cy="4368600"/>
                    </a:xfrm>
                    <a:prstGeom prst="rect">
                      <a:avLst/>
                    </a:prstGeom>
                    <a:ln w="0">
                      <a:noFill/>
                    </a:ln>
                  </p:spPr>
                </p:pic>
              </p:oleObj>
            </a:graphicData>
          </a:graphic>
        </p:graphicFrame>
        <p:graphicFrame>
          <p:nvGraphicFramePr>
            <p:cNvPr id="97" name="Chart 3"/>
            <p:cNvGraphicFramePr/>
            <p:nvPr/>
          </p:nvGraphicFramePr>
          <p:xfrm>
            <a:off x="1015920" y="2224080"/>
            <a:ext cx="762120" cy="4074840"/>
          </p:xfrm>
          <a:graphic>
            <a:graphicData uri="http://schemas.openxmlformats.org/presentationml/2006/ole">
              <p:oleObj progId="Excel.Sheet.12" r:id="rId3" spid="">
                <p:embed/>
                <p:pic>
                  <p:nvPicPr>
                    <p:cNvPr id="98" name="Chart 3" descr=""/>
                    <p:cNvPicPr/>
                    <p:nvPr/>
                  </p:nvPicPr>
                  <p:blipFill>
                    <a:blip r:embed="rId4"/>
                    <a:stretch/>
                  </p:blipFill>
                  <p:spPr>
                    <a:xfrm>
                      <a:off x="1015920" y="2224080"/>
                      <a:ext cx="762120" cy="4074840"/>
                    </a:xfrm>
                    <a:prstGeom prst="rect">
                      <a:avLst/>
                    </a:prstGeom>
                    <a:ln w="0">
                      <a:noFill/>
                    </a:ln>
                  </p:spPr>
                </p:pic>
              </p:oleObj>
            </a:graphicData>
          </a:graphic>
        </p:graphicFrame>
      </p:grpSp>
      <p:sp>
        <p:nvSpPr>
          <p:cNvPr id="99" name="TextBox 4"/>
          <p:cNvSpPr/>
          <p:nvPr/>
        </p:nvSpPr>
        <p:spPr>
          <a:xfrm>
            <a:off x="3099600" y="406440"/>
            <a:ext cx="5993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d6ff"/>
                </a:solidFill>
                <a:latin typeface="Raleway SemiBold"/>
                <a:ea typeface="Open Sans"/>
              </a:rPr>
              <a:t>Comparison Infographic</a:t>
            </a:r>
            <a:endParaRPr b="0" lang="en-US" sz="4000" spc="-1" strike="noStrike">
              <a:solidFill>
                <a:srgbClr val="000000"/>
              </a:solidFill>
              <a:latin typeface="Calibri"/>
            </a:endParaRPr>
          </a:p>
        </p:txBody>
      </p:sp>
      <p:sp>
        <p:nvSpPr>
          <p:cNvPr id="100" name="TextBox 20"/>
          <p:cNvSpPr/>
          <p:nvPr/>
        </p:nvSpPr>
        <p:spPr>
          <a:xfrm>
            <a:off x="2703600" y="1190520"/>
            <a:ext cx="697680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44546a"/>
                </a:solidFill>
                <a:latin typeface="Open Sans"/>
                <a:ea typeface="Open Sans"/>
              </a:rPr>
              <a:t>Lorem ipsum dolor sit amet, consectetur adipiscing elit, sed do eiusmod tempor incididunt ut labore et dolore magna aliqua. Ut enim ad minim veniam,</a:t>
            </a:r>
            <a:endParaRPr b="0" lang="en-US" sz="1100" spc="-1" strike="noStrike">
              <a:solidFill>
                <a:srgbClr val="000000"/>
              </a:solidFill>
              <a:latin typeface="Calibri"/>
            </a:endParaRPr>
          </a:p>
        </p:txBody>
      </p:sp>
      <p:grpSp>
        <p:nvGrpSpPr>
          <p:cNvPr id="101" name="Group 5"/>
          <p:cNvGrpSpPr/>
          <p:nvPr/>
        </p:nvGrpSpPr>
        <p:grpSpPr>
          <a:xfrm>
            <a:off x="6620040" y="2413080"/>
            <a:ext cx="380880" cy="380880"/>
            <a:chOff x="6620040" y="2413080"/>
            <a:chExt cx="380880" cy="380880"/>
          </a:xfrm>
        </p:grpSpPr>
        <p:sp>
          <p:nvSpPr>
            <p:cNvPr id="102" name="Oval 12"/>
            <p:cNvSpPr/>
            <p:nvPr/>
          </p:nvSpPr>
          <p:spPr>
            <a:xfrm>
              <a:off x="6620040" y="2413080"/>
              <a:ext cx="380880" cy="380880"/>
            </a:xfrm>
            <a:prstGeom prst="ellipse">
              <a:avLst/>
            </a:prstGeom>
            <a:solidFill>
              <a:srgbClr val="ff4e95"/>
            </a:solidFill>
            <a:ln w="12600">
              <a:solidFill>
                <a:srgbClr val="0d0d0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Rectangle 21"/>
            <p:cNvSpPr/>
            <p:nvPr/>
          </p:nvSpPr>
          <p:spPr>
            <a:xfrm>
              <a:off x="6680160" y="2418840"/>
              <a:ext cx="260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1</a:t>
              </a:r>
              <a:endParaRPr b="0" lang="en-US" sz="1800" spc="-1" strike="noStrike">
                <a:solidFill>
                  <a:srgbClr val="000000"/>
                </a:solidFill>
                <a:latin typeface="Calibri"/>
              </a:endParaRPr>
            </a:p>
          </p:txBody>
        </p:sp>
      </p:grpSp>
      <p:grpSp>
        <p:nvGrpSpPr>
          <p:cNvPr id="104" name="Group 6"/>
          <p:cNvGrpSpPr/>
          <p:nvPr/>
        </p:nvGrpSpPr>
        <p:grpSpPr>
          <a:xfrm>
            <a:off x="6620040" y="3711600"/>
            <a:ext cx="380880" cy="380880"/>
            <a:chOff x="6620040" y="3711600"/>
            <a:chExt cx="380880" cy="380880"/>
          </a:xfrm>
        </p:grpSpPr>
        <p:sp>
          <p:nvSpPr>
            <p:cNvPr id="105" name="Oval 15"/>
            <p:cNvSpPr/>
            <p:nvPr/>
          </p:nvSpPr>
          <p:spPr>
            <a:xfrm>
              <a:off x="6620040" y="3711600"/>
              <a:ext cx="380880" cy="380880"/>
            </a:xfrm>
            <a:prstGeom prst="ellipse">
              <a:avLst/>
            </a:prstGeom>
            <a:solidFill>
              <a:srgbClr val="06d6ff"/>
            </a:solidFill>
            <a:ln w="1260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Rectangle 22"/>
            <p:cNvSpPr/>
            <p:nvPr/>
          </p:nvSpPr>
          <p:spPr>
            <a:xfrm>
              <a:off x="6680160" y="3717360"/>
              <a:ext cx="260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2</a:t>
              </a:r>
              <a:endParaRPr b="0" lang="en-US" sz="1800" spc="-1" strike="noStrike">
                <a:solidFill>
                  <a:srgbClr val="000000"/>
                </a:solidFill>
                <a:latin typeface="Calibri"/>
              </a:endParaRPr>
            </a:p>
          </p:txBody>
        </p:sp>
      </p:grpSp>
      <p:grpSp>
        <p:nvGrpSpPr>
          <p:cNvPr id="107" name="Group 7"/>
          <p:cNvGrpSpPr/>
          <p:nvPr/>
        </p:nvGrpSpPr>
        <p:grpSpPr>
          <a:xfrm>
            <a:off x="6620040" y="4987800"/>
            <a:ext cx="380880" cy="381240"/>
            <a:chOff x="6620040" y="4987800"/>
            <a:chExt cx="380880" cy="381240"/>
          </a:xfrm>
        </p:grpSpPr>
        <p:sp>
          <p:nvSpPr>
            <p:cNvPr id="108" name="Oval 18"/>
            <p:cNvSpPr/>
            <p:nvPr/>
          </p:nvSpPr>
          <p:spPr>
            <a:xfrm>
              <a:off x="6620040" y="4987800"/>
              <a:ext cx="380880" cy="381240"/>
            </a:xfrm>
            <a:prstGeom prst="ellipse">
              <a:avLst/>
            </a:prstGeom>
            <a:solidFill>
              <a:srgbClr val="37e08b"/>
            </a:solidFill>
            <a:ln w="1260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Rectangle 23"/>
            <p:cNvSpPr/>
            <p:nvPr/>
          </p:nvSpPr>
          <p:spPr>
            <a:xfrm>
              <a:off x="6680160" y="4993560"/>
              <a:ext cx="260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Raleway"/>
                </a:rPr>
                <a:t>3</a:t>
              </a:r>
              <a:endParaRPr b="0" lang="en-US" sz="1800" spc="-1" strike="noStrike">
                <a:solidFill>
                  <a:srgbClr val="000000"/>
                </a:solidFill>
                <a:latin typeface="Calibri"/>
              </a:endParaRPr>
            </a:p>
          </p:txBody>
        </p:sp>
      </p:grpSp>
      <p:sp>
        <p:nvSpPr>
          <p:cNvPr id="110" name="TextBox 24"/>
          <p:cNvSpPr/>
          <p:nvPr/>
        </p:nvSpPr>
        <p:spPr>
          <a:xfrm>
            <a:off x="7167600" y="2892600"/>
            <a:ext cx="422424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000" spc="-1" strike="noStrike">
                <a:solidFill>
                  <a:srgbClr val="bfbfbf"/>
                </a:solidFill>
                <a:latin typeface="Open Sans"/>
                <a:ea typeface="Open Sans"/>
              </a:rPr>
              <a:t>Lorem ipsum dolor sit amet, consectetur adipiscing elit,  eiusmod tempor incididunt ut labore et incididunt ut labore et</a:t>
            </a:r>
            <a:endParaRPr b="0" lang="en-US" sz="1000" spc="-1" strike="noStrike">
              <a:solidFill>
                <a:srgbClr val="000000"/>
              </a:solidFill>
              <a:latin typeface="Calibri"/>
            </a:endParaRPr>
          </a:p>
        </p:txBody>
      </p:sp>
      <p:sp>
        <p:nvSpPr>
          <p:cNvPr id="111" name="TextBox 25"/>
          <p:cNvSpPr/>
          <p:nvPr/>
        </p:nvSpPr>
        <p:spPr>
          <a:xfrm>
            <a:off x="7167600" y="4168800"/>
            <a:ext cx="422424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000" spc="-1" strike="noStrike">
                <a:solidFill>
                  <a:srgbClr val="bfbfbf"/>
                </a:solidFill>
                <a:latin typeface="Open Sans"/>
                <a:ea typeface="Open Sans"/>
              </a:rPr>
              <a:t>Lorem ipsum dolor sit amet, consectetur adipiscing elit, sed do eiusmod tempor incididunt ut labore et</a:t>
            </a:r>
            <a:endParaRPr b="0" lang="en-US" sz="1000" spc="-1" strike="noStrike">
              <a:solidFill>
                <a:srgbClr val="000000"/>
              </a:solidFill>
              <a:latin typeface="Calibri"/>
            </a:endParaRPr>
          </a:p>
        </p:txBody>
      </p:sp>
      <p:sp>
        <p:nvSpPr>
          <p:cNvPr id="112" name="TextBox 26"/>
          <p:cNvSpPr/>
          <p:nvPr/>
        </p:nvSpPr>
        <p:spPr>
          <a:xfrm>
            <a:off x="7167600" y="5462640"/>
            <a:ext cx="422424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000" spc="-1" strike="noStrike">
                <a:solidFill>
                  <a:srgbClr val="bfbfbf"/>
                </a:solidFill>
                <a:latin typeface="Open Sans"/>
                <a:ea typeface="Open Sans"/>
              </a:rPr>
              <a:t>Lorem ipsum dolor sit amet, consectetur adipiscing elit, sed do eiusmod tempor incididunt ut labore et incididunt</a:t>
            </a:r>
            <a:endParaRPr b="0" lang="en-US" sz="1000" spc="-1" strike="noStrike">
              <a:solidFill>
                <a:srgbClr val="000000"/>
              </a:solidFill>
              <a:latin typeface="Calibri"/>
            </a:endParaRPr>
          </a:p>
        </p:txBody>
      </p:sp>
      <p:grpSp>
        <p:nvGrpSpPr>
          <p:cNvPr id="113" name="Group 46"/>
          <p:cNvGrpSpPr/>
          <p:nvPr/>
        </p:nvGrpSpPr>
        <p:grpSpPr>
          <a:xfrm>
            <a:off x="7167600" y="4987800"/>
            <a:ext cx="3317760" cy="381240"/>
            <a:chOff x="7167600" y="4987800"/>
            <a:chExt cx="3317760" cy="381240"/>
          </a:xfrm>
        </p:grpSpPr>
        <p:grpSp>
          <p:nvGrpSpPr>
            <p:cNvPr id="114" name="Group 8"/>
            <p:cNvGrpSpPr/>
            <p:nvPr/>
          </p:nvGrpSpPr>
          <p:grpSpPr>
            <a:xfrm>
              <a:off x="7167600" y="4987800"/>
              <a:ext cx="3317760" cy="381240"/>
              <a:chOff x="7167600" y="4987800"/>
              <a:chExt cx="3317760" cy="381240"/>
            </a:xfrm>
          </p:grpSpPr>
          <p:sp>
            <p:nvSpPr>
              <p:cNvPr id="115" name="Rounded Rectangle 11"/>
              <p:cNvSpPr/>
              <p:nvPr/>
            </p:nvSpPr>
            <p:spPr>
              <a:xfrm>
                <a:off x="7167600" y="4987800"/>
                <a:ext cx="3317760" cy="381240"/>
              </a:xfrm>
              <a:prstGeom prst="roundRect">
                <a:avLst>
                  <a:gd name="adj" fmla="val 50000"/>
                </a:avLst>
              </a:prstGeom>
              <a:solidFill>
                <a:srgbClr val="37e08b">
                  <a:alpha val="33000"/>
                </a:srgbClr>
              </a:solidFill>
              <a:ln w="12600">
                <a:solidFill>
                  <a:srgbClr val="d0cece">
                    <a:alpha val="3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Rounded Rectangle 11"/>
              <p:cNvSpPr/>
              <p:nvPr/>
            </p:nvSpPr>
            <p:spPr>
              <a:xfrm>
                <a:off x="7167600" y="4987800"/>
                <a:ext cx="3101040" cy="381240"/>
              </a:xfrm>
              <a:prstGeom prst="roundRect">
                <a:avLst>
                  <a:gd name="adj" fmla="val 50000"/>
                </a:avLst>
              </a:prstGeom>
              <a:solidFill>
                <a:srgbClr val="37e08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7" name="TextBox 27"/>
            <p:cNvSpPr/>
            <p:nvPr/>
          </p:nvSpPr>
          <p:spPr>
            <a:xfrm>
              <a:off x="7274520" y="5039640"/>
              <a:ext cx="2270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Raleway"/>
                </a:rPr>
                <a:t>Direct Order</a:t>
              </a:r>
              <a:endParaRPr b="0" lang="en-US" sz="1200" spc="-1" strike="noStrike">
                <a:solidFill>
                  <a:srgbClr val="000000"/>
                </a:solidFill>
                <a:latin typeface="Calibri"/>
              </a:endParaRPr>
            </a:p>
          </p:txBody>
        </p:sp>
      </p:grpSp>
      <p:grpSp>
        <p:nvGrpSpPr>
          <p:cNvPr id="118" name="Group 44"/>
          <p:cNvGrpSpPr/>
          <p:nvPr/>
        </p:nvGrpSpPr>
        <p:grpSpPr>
          <a:xfrm>
            <a:off x="7167600" y="2413080"/>
            <a:ext cx="3317760" cy="380880"/>
            <a:chOff x="7167600" y="2413080"/>
            <a:chExt cx="3317760" cy="380880"/>
          </a:xfrm>
        </p:grpSpPr>
        <p:grpSp>
          <p:nvGrpSpPr>
            <p:cNvPr id="119" name="Group 10"/>
            <p:cNvGrpSpPr/>
            <p:nvPr/>
          </p:nvGrpSpPr>
          <p:grpSpPr>
            <a:xfrm>
              <a:off x="7167600" y="2413080"/>
              <a:ext cx="3317760" cy="380880"/>
              <a:chOff x="7167600" y="2413080"/>
              <a:chExt cx="3317760" cy="380880"/>
            </a:xfrm>
          </p:grpSpPr>
          <p:sp>
            <p:nvSpPr>
              <p:cNvPr id="120" name="Rounded Rectangle 11"/>
              <p:cNvSpPr/>
              <p:nvPr/>
            </p:nvSpPr>
            <p:spPr>
              <a:xfrm>
                <a:off x="7167600" y="2413080"/>
                <a:ext cx="3317760" cy="380880"/>
              </a:xfrm>
              <a:prstGeom prst="roundRect">
                <a:avLst>
                  <a:gd name="adj" fmla="val 50000"/>
                </a:avLst>
              </a:prstGeom>
              <a:solidFill>
                <a:srgbClr val="ff4e95">
                  <a:alpha val="33000"/>
                </a:srgbClr>
              </a:solidFill>
              <a:ln w="12600">
                <a:solidFill>
                  <a:srgbClr val="d0cece">
                    <a:alpha val="3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Rounded Rectangle 11"/>
              <p:cNvSpPr/>
              <p:nvPr/>
            </p:nvSpPr>
            <p:spPr>
              <a:xfrm>
                <a:off x="7167600" y="2413080"/>
                <a:ext cx="2741400" cy="380880"/>
              </a:xfrm>
              <a:prstGeom prst="roundRect">
                <a:avLst>
                  <a:gd name="adj" fmla="val 50000"/>
                </a:avLst>
              </a:prstGeom>
              <a:solidFill>
                <a:srgbClr val="ff4e9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2" name="TextBox 28"/>
            <p:cNvSpPr/>
            <p:nvPr/>
          </p:nvSpPr>
          <p:spPr>
            <a:xfrm>
              <a:off x="7274520" y="2464920"/>
              <a:ext cx="2270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Raleway"/>
                </a:rPr>
                <a:t>Affiliate selling</a:t>
              </a:r>
              <a:endParaRPr b="0" lang="en-US" sz="1200" spc="-1" strike="noStrike">
                <a:solidFill>
                  <a:srgbClr val="000000"/>
                </a:solidFill>
                <a:latin typeface="Calibri"/>
              </a:endParaRPr>
            </a:p>
          </p:txBody>
        </p:sp>
      </p:grpSp>
      <p:grpSp>
        <p:nvGrpSpPr>
          <p:cNvPr id="123" name="Group 45"/>
          <p:cNvGrpSpPr/>
          <p:nvPr/>
        </p:nvGrpSpPr>
        <p:grpSpPr>
          <a:xfrm>
            <a:off x="7167600" y="3711600"/>
            <a:ext cx="3317760" cy="380880"/>
            <a:chOff x="7167600" y="3711600"/>
            <a:chExt cx="3317760" cy="380880"/>
          </a:xfrm>
        </p:grpSpPr>
        <p:grpSp>
          <p:nvGrpSpPr>
            <p:cNvPr id="124" name="Group 9"/>
            <p:cNvGrpSpPr/>
            <p:nvPr/>
          </p:nvGrpSpPr>
          <p:grpSpPr>
            <a:xfrm>
              <a:off x="7167600" y="3711600"/>
              <a:ext cx="3317760" cy="380880"/>
              <a:chOff x="7167600" y="3711600"/>
              <a:chExt cx="3317760" cy="380880"/>
            </a:xfrm>
          </p:grpSpPr>
          <p:sp>
            <p:nvSpPr>
              <p:cNvPr id="125" name="Rounded Rectangle 11"/>
              <p:cNvSpPr/>
              <p:nvPr/>
            </p:nvSpPr>
            <p:spPr>
              <a:xfrm>
                <a:off x="7167600" y="3711600"/>
                <a:ext cx="3317760" cy="380880"/>
              </a:xfrm>
              <a:prstGeom prst="roundRect">
                <a:avLst>
                  <a:gd name="adj" fmla="val 50000"/>
                </a:avLst>
              </a:prstGeom>
              <a:solidFill>
                <a:srgbClr val="06d6ff">
                  <a:alpha val="33000"/>
                </a:srgbClr>
              </a:solidFill>
              <a:ln w="12600">
                <a:solidFill>
                  <a:srgbClr val="d0cece">
                    <a:alpha val="3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Rounded Rectangle 11"/>
              <p:cNvSpPr/>
              <p:nvPr/>
            </p:nvSpPr>
            <p:spPr>
              <a:xfrm>
                <a:off x="7167600" y="3711600"/>
                <a:ext cx="2392200" cy="380880"/>
              </a:xfrm>
              <a:prstGeom prst="roundRect">
                <a:avLst>
                  <a:gd name="adj" fmla="val 50000"/>
                </a:avLst>
              </a:prstGeom>
              <a:solidFill>
                <a:srgbClr val="06d6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7" name="TextBox 29"/>
            <p:cNvSpPr/>
            <p:nvPr/>
          </p:nvSpPr>
          <p:spPr>
            <a:xfrm>
              <a:off x="7289640" y="3763440"/>
              <a:ext cx="181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Raleway"/>
                </a:rPr>
                <a:t>Endorse Selling</a:t>
              </a:r>
              <a:endParaRPr b="0" lang="en-US" sz="1200" spc="-1" strike="noStrike">
                <a:solidFill>
                  <a:srgbClr val="000000"/>
                </a:solidFill>
                <a:latin typeface="Calibri"/>
              </a:endParaRPr>
            </a:p>
          </p:txBody>
        </p:sp>
      </p:grpSp>
      <p:sp>
        <p:nvSpPr>
          <p:cNvPr id="128" name="Straight Connector 47"/>
          <p:cNvSpPr/>
          <p:nvPr/>
        </p:nvSpPr>
        <p:spPr>
          <a:xfrm flipH="1">
            <a:off x="11447640" y="-19080"/>
            <a:ext cx="172800" cy="177840"/>
          </a:xfrm>
          <a:prstGeom prst="line">
            <a:avLst/>
          </a:prstGeom>
          <a:ln w="6480">
            <a:solidFill>
              <a:srgbClr val="06d6ff">
                <a:alpha val="36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Straight Connector 48"/>
          <p:cNvSpPr/>
          <p:nvPr/>
        </p:nvSpPr>
        <p:spPr>
          <a:xfrm flipH="1">
            <a:off x="-360" y="1601640"/>
            <a:ext cx="312840" cy="324000"/>
          </a:xfrm>
          <a:prstGeom prst="line">
            <a:avLst/>
          </a:prstGeom>
          <a:ln w="6480">
            <a:solidFill>
              <a:srgbClr val="06d6ff">
                <a:alpha val="36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TextBox 10"/>
          <p:cNvSpPr/>
          <p:nvPr/>
        </p:nvSpPr>
        <p:spPr>
          <a:xfrm>
            <a:off x="3080520" y="449280"/>
            <a:ext cx="5993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d6ff"/>
                </a:solidFill>
                <a:latin typeface="Raleway SemiBold"/>
                <a:ea typeface="Open Sans"/>
              </a:rPr>
              <a:t>Comparison Infographic</a:t>
            </a:r>
            <a:endParaRPr b="0" lang="en-US" sz="4000" spc="-1" strike="noStrike">
              <a:solidFill>
                <a:srgbClr val="000000"/>
              </a:solidFill>
              <a:latin typeface="Calibri"/>
            </a:endParaRPr>
          </a:p>
        </p:txBody>
      </p:sp>
      <p:sp>
        <p:nvSpPr>
          <p:cNvPr id="1000" name="TextBox 11"/>
          <p:cNvSpPr/>
          <p:nvPr/>
        </p:nvSpPr>
        <p:spPr>
          <a:xfrm>
            <a:off x="3446640" y="1257480"/>
            <a:ext cx="526068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a6a6a6"/>
                </a:solidFill>
                <a:latin typeface="Open Sans"/>
                <a:ea typeface="Open Sans"/>
              </a:rPr>
              <a:t>Lorem ipsum dolor sit amet, consectetur adipiscing elit, sed do eiusmod tempor incididunt ut labore et dolore magna aliqua</a:t>
            </a:r>
            <a:endParaRPr b="0" lang="en-US" sz="1100" spc="-1" strike="noStrike">
              <a:solidFill>
                <a:srgbClr val="000000"/>
              </a:solidFill>
              <a:latin typeface="Calibri"/>
            </a:endParaRPr>
          </a:p>
        </p:txBody>
      </p:sp>
      <p:sp>
        <p:nvSpPr>
          <p:cNvPr id="1001" name="Circle"/>
          <p:cNvSpPr/>
          <p:nvPr/>
        </p:nvSpPr>
        <p:spPr>
          <a:xfrm>
            <a:off x="1251000" y="2590920"/>
            <a:ext cx="1674720" cy="1676160"/>
          </a:xfrm>
          <a:prstGeom prst="ellipse">
            <a:avLst/>
          </a:prstGeom>
          <a:noFill/>
          <a:ln w="50760">
            <a:solidFill>
              <a:srgbClr val="06d6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002" name="Circle"/>
          <p:cNvSpPr/>
          <p:nvPr/>
        </p:nvSpPr>
        <p:spPr>
          <a:xfrm>
            <a:off x="1293840" y="2635200"/>
            <a:ext cx="1589040" cy="1587600"/>
          </a:xfrm>
          <a:prstGeom prst="ellipse">
            <a:avLst/>
          </a:prstGeom>
          <a:noFill/>
          <a:ln w="25560">
            <a:solidFill>
              <a:srgbClr val="06d6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graphicFrame>
        <p:nvGraphicFramePr>
          <p:cNvPr id="1003" name="2D Pie Chart"/>
          <p:cNvGraphicFramePr/>
          <p:nvPr/>
        </p:nvGraphicFramePr>
        <p:xfrm>
          <a:off x="1303200" y="2643120"/>
          <a:ext cx="1570320" cy="1569960"/>
        </p:xfrm>
        <a:graphic>
          <a:graphicData uri="http://schemas.openxmlformats.org/presentationml/2006/ole">
            <p:oleObj progId="Excel.Sheet.12" r:id="rId1" spid="">
              <p:embed/>
              <p:pic>
                <p:nvPicPr>
                  <p:cNvPr id="1004" name="2D Pie Chart" descr=""/>
                  <p:cNvPicPr/>
                  <p:nvPr/>
                </p:nvPicPr>
                <p:blipFill>
                  <a:blip r:embed="rId2"/>
                  <a:stretch/>
                </p:blipFill>
                <p:spPr>
                  <a:xfrm>
                    <a:off x="1303200" y="2643120"/>
                    <a:ext cx="1570320" cy="1569960"/>
                  </a:xfrm>
                  <a:prstGeom prst="rect">
                    <a:avLst/>
                  </a:prstGeom>
                  <a:ln w="0">
                    <a:noFill/>
                  </a:ln>
                </p:spPr>
              </p:pic>
            </p:oleObj>
          </a:graphicData>
        </a:graphic>
      </p:graphicFrame>
      <p:sp>
        <p:nvSpPr>
          <p:cNvPr id="1005" name="Circle"/>
          <p:cNvSpPr/>
          <p:nvPr/>
        </p:nvSpPr>
        <p:spPr>
          <a:xfrm>
            <a:off x="1611360" y="2951280"/>
            <a:ext cx="954000" cy="954000"/>
          </a:xfrm>
          <a:prstGeom prst="ellipse">
            <a:avLst/>
          </a:prstGeom>
          <a:solidFill>
            <a:srgbClr val="030227"/>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006" name="Circle"/>
          <p:cNvSpPr/>
          <p:nvPr/>
        </p:nvSpPr>
        <p:spPr>
          <a:xfrm>
            <a:off x="1673280" y="3014640"/>
            <a:ext cx="828720" cy="828720"/>
          </a:xfrm>
          <a:prstGeom prst="ellipse">
            <a:avLst/>
          </a:prstGeom>
          <a:solidFill>
            <a:srgbClr val="06d6ff">
              <a:alpha val="19000"/>
            </a:srgbClr>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007"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1855800" y="3255840"/>
            <a:ext cx="512640" cy="37620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aleway"/>
                <a:ea typeface="Barlow Medium"/>
              </a:rPr>
              <a:t>70</a:t>
            </a:r>
            <a:r>
              <a:rPr b="0" lang="en-US" sz="1000" spc="-1" strike="noStrike">
                <a:solidFill>
                  <a:srgbClr val="ffffff"/>
                </a:solidFill>
                <a:latin typeface="Raleway"/>
                <a:ea typeface="Barlow Medium"/>
              </a:rPr>
              <a:t>%</a:t>
            </a:r>
            <a:endParaRPr b="0" lang="en-US" sz="1000" spc="-1" strike="noStrike">
              <a:solidFill>
                <a:srgbClr val="000000"/>
              </a:solidFill>
              <a:latin typeface="Calibri"/>
            </a:endParaRPr>
          </a:p>
        </p:txBody>
      </p:sp>
      <p:sp>
        <p:nvSpPr>
          <p:cNvPr id="1008" name="Graphic 33"/>
          <p:cNvSpPr/>
          <p:nvPr/>
        </p:nvSpPr>
        <p:spPr>
          <a:xfrm rot="5400000">
            <a:off x="2003400" y="4444920"/>
            <a:ext cx="169920" cy="144720"/>
          </a:xfrm>
          <a:custGeom>
            <a:avLst/>
            <a:gdLst/>
            <a:ahLst/>
            <a:rect l="l" t="t" r="r" b="b"/>
            <a:pathLst>
              <a:path w="21600" h="21600">
                <a:moveTo>
                  <a:pt x="1093" y="0"/>
                </a:moveTo>
                <a:cubicBezTo>
                  <a:pt x="499" y="0"/>
                  <a:pt x="0" y="584"/>
                  <a:pt x="0" y="1283"/>
                </a:cubicBezTo>
                <a:cubicBezTo>
                  <a:pt x="0" y="1537"/>
                  <a:pt x="86" y="1788"/>
                  <a:pt x="205" y="1978"/>
                </a:cubicBezTo>
                <a:lnTo>
                  <a:pt x="5189" y="10800"/>
                </a:lnTo>
                <a:lnTo>
                  <a:pt x="205" y="19649"/>
                </a:lnTo>
                <a:cubicBezTo>
                  <a:pt x="86" y="19839"/>
                  <a:pt x="0" y="20089"/>
                  <a:pt x="0" y="20344"/>
                </a:cubicBezTo>
                <a:cubicBezTo>
                  <a:pt x="0" y="21042"/>
                  <a:pt x="499" y="21600"/>
                  <a:pt x="1093" y="21600"/>
                </a:cubicBezTo>
                <a:lnTo>
                  <a:pt x="4325" y="21600"/>
                </a:lnTo>
                <a:cubicBezTo>
                  <a:pt x="4702" y="21600"/>
                  <a:pt x="5041" y="21382"/>
                  <a:pt x="5235" y="21039"/>
                </a:cubicBezTo>
                <a:lnTo>
                  <a:pt x="10629" y="11495"/>
                </a:lnTo>
                <a:cubicBezTo>
                  <a:pt x="10748" y="11304"/>
                  <a:pt x="10811" y="11054"/>
                  <a:pt x="10811" y="10800"/>
                </a:cubicBezTo>
                <a:cubicBezTo>
                  <a:pt x="10811" y="10546"/>
                  <a:pt x="10748" y="10296"/>
                  <a:pt x="10629" y="10105"/>
                </a:cubicBezTo>
                <a:lnTo>
                  <a:pt x="5235" y="588"/>
                </a:lnTo>
                <a:cubicBezTo>
                  <a:pt x="5041" y="245"/>
                  <a:pt x="4702" y="0"/>
                  <a:pt x="4325" y="0"/>
                </a:cubicBezTo>
                <a:lnTo>
                  <a:pt x="1093" y="0"/>
                </a:lnTo>
                <a:close/>
                <a:moveTo>
                  <a:pt x="11881" y="0"/>
                </a:moveTo>
                <a:cubicBezTo>
                  <a:pt x="11287" y="0"/>
                  <a:pt x="10811" y="584"/>
                  <a:pt x="10811" y="1283"/>
                </a:cubicBezTo>
                <a:cubicBezTo>
                  <a:pt x="10811" y="1537"/>
                  <a:pt x="10875" y="1788"/>
                  <a:pt x="10993" y="1978"/>
                </a:cubicBezTo>
                <a:lnTo>
                  <a:pt x="15978" y="10800"/>
                </a:lnTo>
                <a:lnTo>
                  <a:pt x="10993" y="19649"/>
                </a:lnTo>
                <a:cubicBezTo>
                  <a:pt x="10875" y="19839"/>
                  <a:pt x="10811" y="20089"/>
                  <a:pt x="10811" y="20344"/>
                </a:cubicBezTo>
                <a:cubicBezTo>
                  <a:pt x="10811" y="21042"/>
                  <a:pt x="11287" y="21600"/>
                  <a:pt x="11881" y="21600"/>
                </a:cubicBezTo>
                <a:lnTo>
                  <a:pt x="15113" y="21600"/>
                </a:lnTo>
                <a:cubicBezTo>
                  <a:pt x="15491" y="21600"/>
                  <a:pt x="15829" y="21382"/>
                  <a:pt x="16024" y="21039"/>
                </a:cubicBezTo>
                <a:lnTo>
                  <a:pt x="21418" y="11495"/>
                </a:lnTo>
                <a:cubicBezTo>
                  <a:pt x="21537" y="11304"/>
                  <a:pt x="21600" y="11054"/>
                  <a:pt x="21600" y="10800"/>
                </a:cubicBezTo>
                <a:cubicBezTo>
                  <a:pt x="21600" y="10546"/>
                  <a:pt x="21537" y="10296"/>
                  <a:pt x="21418" y="10105"/>
                </a:cubicBezTo>
                <a:lnTo>
                  <a:pt x="16024" y="588"/>
                </a:lnTo>
                <a:cubicBezTo>
                  <a:pt x="15829" y="245"/>
                  <a:pt x="15491" y="0"/>
                  <a:pt x="15113" y="0"/>
                </a:cubicBezTo>
                <a:lnTo>
                  <a:pt x="11881" y="0"/>
                </a:lnTo>
                <a:close/>
              </a:path>
            </a:pathLst>
          </a:custGeom>
          <a:solidFill>
            <a:srgbClr val="06d6ff"/>
          </a:solidFill>
          <a:ln w="0">
            <a:noFill/>
          </a:ln>
        </p:spPr>
        <p:style>
          <a:lnRef idx="0"/>
          <a:fillRef idx="0"/>
          <a:effectRef idx="0"/>
          <a:fontRef idx="minor"/>
        </p:style>
        <p:txBody>
          <a:bodyPr lIns="45360" rIns="45360" tIns="46800" bIns="46800" anchor="ctr">
            <a:noAutofit/>
          </a:bodyPr>
          <a:p>
            <a:endParaRPr b="0" lang="en-US" sz="1800" spc="-1" strike="noStrike">
              <a:solidFill>
                <a:srgbClr val="000000"/>
              </a:solidFill>
              <a:latin typeface="Calibri"/>
            </a:endParaRPr>
          </a:p>
        </p:txBody>
      </p:sp>
      <p:sp>
        <p:nvSpPr>
          <p:cNvPr id="1009" name="Circle"/>
          <p:cNvSpPr/>
          <p:nvPr/>
        </p:nvSpPr>
        <p:spPr>
          <a:xfrm>
            <a:off x="3868560" y="2590920"/>
            <a:ext cx="1676520" cy="1676160"/>
          </a:xfrm>
          <a:prstGeom prst="ellipse">
            <a:avLst/>
          </a:prstGeom>
          <a:noFill/>
          <a:ln w="50760">
            <a:solidFill>
              <a:srgbClr val="a5a5a5"/>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010" name="Circle"/>
          <p:cNvSpPr/>
          <p:nvPr/>
        </p:nvSpPr>
        <p:spPr>
          <a:xfrm>
            <a:off x="3913200" y="2635200"/>
            <a:ext cx="1587600" cy="1587600"/>
          </a:xfrm>
          <a:prstGeom prst="ellipse">
            <a:avLst/>
          </a:prstGeom>
          <a:noFill/>
          <a:ln w="25560">
            <a:solidFill>
              <a:srgbClr val="a5a5a5"/>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graphicFrame>
        <p:nvGraphicFramePr>
          <p:cNvPr id="1011" name="2D Pie Chart"/>
          <p:cNvGraphicFramePr/>
          <p:nvPr/>
        </p:nvGraphicFramePr>
        <p:xfrm>
          <a:off x="3921120" y="2643120"/>
          <a:ext cx="1571760" cy="1571760"/>
        </p:xfrm>
        <a:graphic>
          <a:graphicData uri="http://schemas.openxmlformats.org/presentationml/2006/ole">
            <p:oleObj progId="Excel.Sheet.12" r:id="rId3" spid="">
              <p:embed/>
              <p:pic>
                <p:nvPicPr>
                  <p:cNvPr id="1012" name="2D Pie Chart" descr=""/>
                  <p:cNvPicPr/>
                  <p:nvPr/>
                </p:nvPicPr>
                <p:blipFill>
                  <a:blip r:embed="rId4"/>
                  <a:stretch/>
                </p:blipFill>
                <p:spPr>
                  <a:xfrm>
                    <a:off x="3921120" y="2643120"/>
                    <a:ext cx="1571760" cy="1571760"/>
                  </a:xfrm>
                  <a:prstGeom prst="rect">
                    <a:avLst/>
                  </a:prstGeom>
                  <a:ln w="0">
                    <a:noFill/>
                  </a:ln>
                </p:spPr>
              </p:pic>
            </p:oleObj>
          </a:graphicData>
        </a:graphic>
      </p:graphicFrame>
      <p:sp>
        <p:nvSpPr>
          <p:cNvPr id="1013" name="Circle"/>
          <p:cNvSpPr/>
          <p:nvPr/>
        </p:nvSpPr>
        <p:spPr>
          <a:xfrm>
            <a:off x="4229280" y="2951280"/>
            <a:ext cx="954000" cy="955440"/>
          </a:xfrm>
          <a:prstGeom prst="ellipse">
            <a:avLst/>
          </a:prstGeom>
          <a:solidFill>
            <a:srgbClr val="ffffff"/>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014" name="Circle"/>
          <p:cNvSpPr/>
          <p:nvPr/>
        </p:nvSpPr>
        <p:spPr>
          <a:xfrm>
            <a:off x="4292640" y="3014640"/>
            <a:ext cx="828720" cy="828720"/>
          </a:xfrm>
          <a:prstGeom prst="ellipse">
            <a:avLst/>
          </a:prstGeom>
          <a:solidFill>
            <a:srgbClr val="a5a5a5">
              <a:alpha val="60000"/>
            </a:srgbClr>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015" name="Graphic 33"/>
          <p:cNvSpPr/>
          <p:nvPr/>
        </p:nvSpPr>
        <p:spPr>
          <a:xfrm rot="5400000">
            <a:off x="4620600" y="4446360"/>
            <a:ext cx="169920" cy="144360"/>
          </a:xfrm>
          <a:custGeom>
            <a:avLst/>
            <a:gdLst/>
            <a:ahLst/>
            <a:rect l="l" t="t" r="r" b="b"/>
            <a:pathLst>
              <a:path w="21600" h="21600">
                <a:moveTo>
                  <a:pt x="1093" y="0"/>
                </a:moveTo>
                <a:cubicBezTo>
                  <a:pt x="499" y="0"/>
                  <a:pt x="0" y="584"/>
                  <a:pt x="0" y="1283"/>
                </a:cubicBezTo>
                <a:cubicBezTo>
                  <a:pt x="0" y="1537"/>
                  <a:pt x="86" y="1788"/>
                  <a:pt x="205" y="1978"/>
                </a:cubicBezTo>
                <a:lnTo>
                  <a:pt x="5189" y="10800"/>
                </a:lnTo>
                <a:lnTo>
                  <a:pt x="205" y="19649"/>
                </a:lnTo>
                <a:cubicBezTo>
                  <a:pt x="86" y="19839"/>
                  <a:pt x="0" y="20089"/>
                  <a:pt x="0" y="20344"/>
                </a:cubicBezTo>
                <a:cubicBezTo>
                  <a:pt x="0" y="21042"/>
                  <a:pt x="499" y="21600"/>
                  <a:pt x="1093" y="21600"/>
                </a:cubicBezTo>
                <a:lnTo>
                  <a:pt x="4325" y="21600"/>
                </a:lnTo>
                <a:cubicBezTo>
                  <a:pt x="4702" y="21600"/>
                  <a:pt x="5041" y="21382"/>
                  <a:pt x="5235" y="21039"/>
                </a:cubicBezTo>
                <a:lnTo>
                  <a:pt x="10629" y="11495"/>
                </a:lnTo>
                <a:cubicBezTo>
                  <a:pt x="10748" y="11304"/>
                  <a:pt x="10811" y="11054"/>
                  <a:pt x="10811" y="10800"/>
                </a:cubicBezTo>
                <a:cubicBezTo>
                  <a:pt x="10811" y="10546"/>
                  <a:pt x="10748" y="10296"/>
                  <a:pt x="10629" y="10105"/>
                </a:cubicBezTo>
                <a:lnTo>
                  <a:pt x="5235" y="588"/>
                </a:lnTo>
                <a:cubicBezTo>
                  <a:pt x="5041" y="245"/>
                  <a:pt x="4702" y="0"/>
                  <a:pt x="4325" y="0"/>
                </a:cubicBezTo>
                <a:lnTo>
                  <a:pt x="1093" y="0"/>
                </a:lnTo>
                <a:close/>
                <a:moveTo>
                  <a:pt x="11881" y="0"/>
                </a:moveTo>
                <a:cubicBezTo>
                  <a:pt x="11287" y="0"/>
                  <a:pt x="10811" y="584"/>
                  <a:pt x="10811" y="1283"/>
                </a:cubicBezTo>
                <a:cubicBezTo>
                  <a:pt x="10811" y="1537"/>
                  <a:pt x="10875" y="1788"/>
                  <a:pt x="10993" y="1978"/>
                </a:cubicBezTo>
                <a:lnTo>
                  <a:pt x="15978" y="10800"/>
                </a:lnTo>
                <a:lnTo>
                  <a:pt x="10993" y="19649"/>
                </a:lnTo>
                <a:cubicBezTo>
                  <a:pt x="10875" y="19839"/>
                  <a:pt x="10811" y="20089"/>
                  <a:pt x="10811" y="20344"/>
                </a:cubicBezTo>
                <a:cubicBezTo>
                  <a:pt x="10811" y="21042"/>
                  <a:pt x="11287" y="21600"/>
                  <a:pt x="11881" y="21600"/>
                </a:cubicBezTo>
                <a:lnTo>
                  <a:pt x="15113" y="21600"/>
                </a:lnTo>
                <a:cubicBezTo>
                  <a:pt x="15491" y="21600"/>
                  <a:pt x="15829" y="21382"/>
                  <a:pt x="16024" y="21039"/>
                </a:cubicBezTo>
                <a:lnTo>
                  <a:pt x="21418" y="11495"/>
                </a:lnTo>
                <a:cubicBezTo>
                  <a:pt x="21537" y="11304"/>
                  <a:pt x="21600" y="11054"/>
                  <a:pt x="21600" y="10800"/>
                </a:cubicBezTo>
                <a:cubicBezTo>
                  <a:pt x="21600" y="10546"/>
                  <a:pt x="21537" y="10296"/>
                  <a:pt x="21418" y="10105"/>
                </a:cubicBezTo>
                <a:lnTo>
                  <a:pt x="16024" y="588"/>
                </a:lnTo>
                <a:cubicBezTo>
                  <a:pt x="15829" y="245"/>
                  <a:pt x="15491" y="0"/>
                  <a:pt x="15113" y="0"/>
                </a:cubicBezTo>
                <a:lnTo>
                  <a:pt x="11881" y="0"/>
                </a:lnTo>
                <a:close/>
              </a:path>
            </a:pathLst>
          </a:custGeom>
          <a:solidFill>
            <a:srgbClr val="a5a5a5"/>
          </a:solidFill>
          <a:ln w="0">
            <a:noFill/>
          </a:ln>
        </p:spPr>
        <p:style>
          <a:lnRef idx="0"/>
          <a:fillRef idx="0"/>
          <a:effectRef idx="0"/>
          <a:fontRef idx="minor"/>
        </p:style>
        <p:txBody>
          <a:bodyPr lIns="45360" rIns="45360" tIns="46800" bIns="46800" anchor="ctr">
            <a:noAutofit/>
          </a:bodyPr>
          <a:p>
            <a:endParaRPr b="0" lang="en-US" sz="1800" spc="-1" strike="noStrike">
              <a:solidFill>
                <a:srgbClr val="000000"/>
              </a:solidFill>
              <a:latin typeface="Calibri"/>
            </a:endParaRPr>
          </a:p>
        </p:txBody>
      </p:sp>
      <p:sp>
        <p:nvSpPr>
          <p:cNvPr id="1016" name="Circle"/>
          <p:cNvSpPr/>
          <p:nvPr/>
        </p:nvSpPr>
        <p:spPr>
          <a:xfrm>
            <a:off x="6629400" y="2590920"/>
            <a:ext cx="1676520" cy="1676160"/>
          </a:xfrm>
          <a:prstGeom prst="ellipse">
            <a:avLst/>
          </a:prstGeom>
          <a:solidFill>
            <a:srgbClr val="030227"/>
          </a:solidFill>
          <a:ln w="50760">
            <a:solidFill>
              <a:srgbClr val="37e08b"/>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017" name="Circle"/>
          <p:cNvSpPr/>
          <p:nvPr/>
        </p:nvSpPr>
        <p:spPr>
          <a:xfrm>
            <a:off x="6673680" y="2635200"/>
            <a:ext cx="1587600" cy="1587600"/>
          </a:xfrm>
          <a:prstGeom prst="ellipse">
            <a:avLst/>
          </a:prstGeom>
          <a:solidFill>
            <a:srgbClr val="ffffff"/>
          </a:solidFill>
          <a:ln w="25560">
            <a:solidFill>
              <a:srgbClr val="37e08b"/>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graphicFrame>
        <p:nvGraphicFramePr>
          <p:cNvPr id="1018" name="2D Pie Chart"/>
          <p:cNvGraphicFramePr/>
          <p:nvPr/>
        </p:nvGraphicFramePr>
        <p:xfrm>
          <a:off x="6681960" y="2643120"/>
          <a:ext cx="1571400" cy="1571760"/>
        </p:xfrm>
        <a:graphic>
          <a:graphicData uri="http://schemas.openxmlformats.org/presentationml/2006/ole">
            <p:oleObj progId="Excel.Sheet.12" r:id="rId5" spid="">
              <p:embed/>
              <p:pic>
                <p:nvPicPr>
                  <p:cNvPr id="1019" name="2D Pie Chart" descr=""/>
                  <p:cNvPicPr/>
                  <p:nvPr/>
                </p:nvPicPr>
                <p:blipFill>
                  <a:blip r:embed="rId6"/>
                  <a:stretch/>
                </p:blipFill>
                <p:spPr>
                  <a:xfrm>
                    <a:off x="6681960" y="2643120"/>
                    <a:ext cx="1571400" cy="1571760"/>
                  </a:xfrm>
                  <a:prstGeom prst="rect">
                    <a:avLst/>
                  </a:prstGeom>
                  <a:ln w="0">
                    <a:noFill/>
                  </a:ln>
                </p:spPr>
              </p:pic>
            </p:oleObj>
          </a:graphicData>
        </a:graphic>
      </p:graphicFrame>
      <p:sp>
        <p:nvSpPr>
          <p:cNvPr id="1020" name="Circle"/>
          <p:cNvSpPr/>
          <p:nvPr/>
        </p:nvSpPr>
        <p:spPr>
          <a:xfrm>
            <a:off x="6989760" y="2951280"/>
            <a:ext cx="954000" cy="955440"/>
          </a:xfrm>
          <a:prstGeom prst="ellipse">
            <a:avLst/>
          </a:prstGeom>
          <a:solidFill>
            <a:srgbClr val="ffffff"/>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021" name="Circle"/>
          <p:cNvSpPr/>
          <p:nvPr/>
        </p:nvSpPr>
        <p:spPr>
          <a:xfrm>
            <a:off x="7053120" y="3014640"/>
            <a:ext cx="828720" cy="828720"/>
          </a:xfrm>
          <a:prstGeom prst="ellipse">
            <a:avLst/>
          </a:prstGeom>
          <a:solidFill>
            <a:srgbClr val="37e08b">
              <a:alpha val="60000"/>
            </a:srgbClr>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022" name="Graphic 33"/>
          <p:cNvSpPr/>
          <p:nvPr/>
        </p:nvSpPr>
        <p:spPr>
          <a:xfrm rot="5400000">
            <a:off x="7381800" y="4446360"/>
            <a:ext cx="169920" cy="144720"/>
          </a:xfrm>
          <a:custGeom>
            <a:avLst/>
            <a:gdLst/>
            <a:ahLst/>
            <a:rect l="l" t="t" r="r" b="b"/>
            <a:pathLst>
              <a:path w="21600" h="21600">
                <a:moveTo>
                  <a:pt x="1093" y="0"/>
                </a:moveTo>
                <a:cubicBezTo>
                  <a:pt x="499" y="0"/>
                  <a:pt x="0" y="584"/>
                  <a:pt x="0" y="1283"/>
                </a:cubicBezTo>
                <a:cubicBezTo>
                  <a:pt x="0" y="1537"/>
                  <a:pt x="86" y="1788"/>
                  <a:pt x="205" y="1978"/>
                </a:cubicBezTo>
                <a:lnTo>
                  <a:pt x="5189" y="10800"/>
                </a:lnTo>
                <a:lnTo>
                  <a:pt x="205" y="19649"/>
                </a:lnTo>
                <a:cubicBezTo>
                  <a:pt x="86" y="19839"/>
                  <a:pt x="0" y="20089"/>
                  <a:pt x="0" y="20344"/>
                </a:cubicBezTo>
                <a:cubicBezTo>
                  <a:pt x="0" y="21042"/>
                  <a:pt x="499" y="21600"/>
                  <a:pt x="1093" y="21600"/>
                </a:cubicBezTo>
                <a:lnTo>
                  <a:pt x="4325" y="21600"/>
                </a:lnTo>
                <a:cubicBezTo>
                  <a:pt x="4702" y="21600"/>
                  <a:pt x="5041" y="21382"/>
                  <a:pt x="5235" y="21039"/>
                </a:cubicBezTo>
                <a:lnTo>
                  <a:pt x="10629" y="11495"/>
                </a:lnTo>
                <a:cubicBezTo>
                  <a:pt x="10748" y="11304"/>
                  <a:pt x="10811" y="11054"/>
                  <a:pt x="10811" y="10800"/>
                </a:cubicBezTo>
                <a:cubicBezTo>
                  <a:pt x="10811" y="10546"/>
                  <a:pt x="10748" y="10296"/>
                  <a:pt x="10629" y="10105"/>
                </a:cubicBezTo>
                <a:lnTo>
                  <a:pt x="5235" y="588"/>
                </a:lnTo>
                <a:cubicBezTo>
                  <a:pt x="5041" y="245"/>
                  <a:pt x="4702" y="0"/>
                  <a:pt x="4325" y="0"/>
                </a:cubicBezTo>
                <a:lnTo>
                  <a:pt x="1093" y="0"/>
                </a:lnTo>
                <a:close/>
                <a:moveTo>
                  <a:pt x="11881" y="0"/>
                </a:moveTo>
                <a:cubicBezTo>
                  <a:pt x="11287" y="0"/>
                  <a:pt x="10811" y="584"/>
                  <a:pt x="10811" y="1283"/>
                </a:cubicBezTo>
                <a:cubicBezTo>
                  <a:pt x="10811" y="1537"/>
                  <a:pt x="10875" y="1788"/>
                  <a:pt x="10993" y="1978"/>
                </a:cubicBezTo>
                <a:lnTo>
                  <a:pt x="15978" y="10800"/>
                </a:lnTo>
                <a:lnTo>
                  <a:pt x="10993" y="19649"/>
                </a:lnTo>
                <a:cubicBezTo>
                  <a:pt x="10875" y="19839"/>
                  <a:pt x="10811" y="20089"/>
                  <a:pt x="10811" y="20344"/>
                </a:cubicBezTo>
                <a:cubicBezTo>
                  <a:pt x="10811" y="21042"/>
                  <a:pt x="11287" y="21600"/>
                  <a:pt x="11881" y="21600"/>
                </a:cubicBezTo>
                <a:lnTo>
                  <a:pt x="15113" y="21600"/>
                </a:lnTo>
                <a:cubicBezTo>
                  <a:pt x="15491" y="21600"/>
                  <a:pt x="15829" y="21382"/>
                  <a:pt x="16024" y="21039"/>
                </a:cubicBezTo>
                <a:lnTo>
                  <a:pt x="21418" y="11495"/>
                </a:lnTo>
                <a:cubicBezTo>
                  <a:pt x="21537" y="11304"/>
                  <a:pt x="21600" y="11054"/>
                  <a:pt x="21600" y="10800"/>
                </a:cubicBezTo>
                <a:cubicBezTo>
                  <a:pt x="21600" y="10546"/>
                  <a:pt x="21537" y="10296"/>
                  <a:pt x="21418" y="10105"/>
                </a:cubicBezTo>
                <a:lnTo>
                  <a:pt x="16024" y="588"/>
                </a:lnTo>
                <a:cubicBezTo>
                  <a:pt x="15829" y="245"/>
                  <a:pt x="15491" y="0"/>
                  <a:pt x="15113" y="0"/>
                </a:cubicBezTo>
                <a:lnTo>
                  <a:pt x="11881" y="0"/>
                </a:lnTo>
                <a:close/>
              </a:path>
            </a:pathLst>
          </a:custGeom>
          <a:solidFill>
            <a:srgbClr val="37e08b"/>
          </a:solidFill>
          <a:ln w="0">
            <a:noFill/>
          </a:ln>
        </p:spPr>
        <p:style>
          <a:lnRef idx="0"/>
          <a:fillRef idx="0"/>
          <a:effectRef idx="0"/>
          <a:fontRef idx="minor"/>
        </p:style>
        <p:txBody>
          <a:bodyPr lIns="45360" rIns="45360" tIns="46800" bIns="46800" anchor="ctr">
            <a:noAutofit/>
          </a:bodyPr>
          <a:p>
            <a:endParaRPr b="0" lang="en-US" sz="1800" spc="-1" strike="noStrike">
              <a:solidFill>
                <a:srgbClr val="000000"/>
              </a:solidFill>
              <a:latin typeface="Calibri"/>
            </a:endParaRPr>
          </a:p>
        </p:txBody>
      </p:sp>
      <p:sp>
        <p:nvSpPr>
          <p:cNvPr id="1023" name="Circle"/>
          <p:cNvSpPr/>
          <p:nvPr/>
        </p:nvSpPr>
        <p:spPr>
          <a:xfrm>
            <a:off x="9518760" y="2590920"/>
            <a:ext cx="1676160" cy="1676160"/>
          </a:xfrm>
          <a:prstGeom prst="ellipse">
            <a:avLst/>
          </a:prstGeom>
          <a:solidFill>
            <a:srgbClr val="030227"/>
          </a:solidFill>
          <a:ln w="50760">
            <a:solidFill>
              <a:srgbClr val="ff4e95"/>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024" name="Circle"/>
          <p:cNvSpPr/>
          <p:nvPr/>
        </p:nvSpPr>
        <p:spPr>
          <a:xfrm>
            <a:off x="9563040" y="2635200"/>
            <a:ext cx="1587600" cy="1587600"/>
          </a:xfrm>
          <a:prstGeom prst="ellipse">
            <a:avLst/>
          </a:prstGeom>
          <a:solidFill>
            <a:srgbClr val="ffffff"/>
          </a:solidFill>
          <a:ln w="255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graphicFrame>
        <p:nvGraphicFramePr>
          <p:cNvPr id="1025" name="2D Pie Chart"/>
          <p:cNvGraphicFramePr/>
          <p:nvPr/>
        </p:nvGraphicFramePr>
        <p:xfrm>
          <a:off x="9570960" y="2643120"/>
          <a:ext cx="1571760" cy="1571760"/>
        </p:xfrm>
        <a:graphic>
          <a:graphicData uri="http://schemas.openxmlformats.org/presentationml/2006/ole">
            <p:oleObj progId="Excel.Sheet.12" r:id="rId7" spid="">
              <p:embed/>
              <p:pic>
                <p:nvPicPr>
                  <p:cNvPr id="1026" name="2D Pie Chart" descr=""/>
                  <p:cNvPicPr/>
                  <p:nvPr/>
                </p:nvPicPr>
                <p:blipFill>
                  <a:blip r:embed="rId8"/>
                  <a:stretch/>
                </p:blipFill>
                <p:spPr>
                  <a:xfrm>
                    <a:off x="9570960" y="2643120"/>
                    <a:ext cx="1571760" cy="1571760"/>
                  </a:xfrm>
                  <a:prstGeom prst="rect">
                    <a:avLst/>
                  </a:prstGeom>
                  <a:ln w="0">
                    <a:noFill/>
                  </a:ln>
                </p:spPr>
              </p:pic>
            </p:oleObj>
          </a:graphicData>
        </a:graphic>
      </p:graphicFrame>
      <p:sp>
        <p:nvSpPr>
          <p:cNvPr id="1027" name="Circle"/>
          <p:cNvSpPr/>
          <p:nvPr/>
        </p:nvSpPr>
        <p:spPr>
          <a:xfrm>
            <a:off x="9879120" y="2951280"/>
            <a:ext cx="954000" cy="955440"/>
          </a:xfrm>
          <a:prstGeom prst="ellipse">
            <a:avLst/>
          </a:prstGeom>
          <a:solidFill>
            <a:srgbClr val="ffffff"/>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028" name="Circle"/>
          <p:cNvSpPr/>
          <p:nvPr/>
        </p:nvSpPr>
        <p:spPr>
          <a:xfrm>
            <a:off x="9942480" y="3014640"/>
            <a:ext cx="828720" cy="828720"/>
          </a:xfrm>
          <a:prstGeom prst="ellipse">
            <a:avLst/>
          </a:prstGeom>
          <a:solidFill>
            <a:srgbClr val="ff4e95">
              <a:alpha val="60000"/>
            </a:srgbClr>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029" name="Graphic 33"/>
          <p:cNvSpPr/>
          <p:nvPr/>
        </p:nvSpPr>
        <p:spPr>
          <a:xfrm rot="5400000">
            <a:off x="10270440" y="4446360"/>
            <a:ext cx="169920" cy="144360"/>
          </a:xfrm>
          <a:custGeom>
            <a:avLst/>
            <a:gdLst/>
            <a:ahLst/>
            <a:rect l="l" t="t" r="r" b="b"/>
            <a:pathLst>
              <a:path w="21600" h="21600">
                <a:moveTo>
                  <a:pt x="1093" y="0"/>
                </a:moveTo>
                <a:cubicBezTo>
                  <a:pt x="499" y="0"/>
                  <a:pt x="0" y="584"/>
                  <a:pt x="0" y="1283"/>
                </a:cubicBezTo>
                <a:cubicBezTo>
                  <a:pt x="0" y="1537"/>
                  <a:pt x="86" y="1788"/>
                  <a:pt x="205" y="1978"/>
                </a:cubicBezTo>
                <a:lnTo>
                  <a:pt x="5189" y="10800"/>
                </a:lnTo>
                <a:lnTo>
                  <a:pt x="205" y="19649"/>
                </a:lnTo>
                <a:cubicBezTo>
                  <a:pt x="86" y="19839"/>
                  <a:pt x="0" y="20089"/>
                  <a:pt x="0" y="20344"/>
                </a:cubicBezTo>
                <a:cubicBezTo>
                  <a:pt x="0" y="21042"/>
                  <a:pt x="499" y="21600"/>
                  <a:pt x="1093" y="21600"/>
                </a:cubicBezTo>
                <a:lnTo>
                  <a:pt x="4325" y="21600"/>
                </a:lnTo>
                <a:cubicBezTo>
                  <a:pt x="4702" y="21600"/>
                  <a:pt x="5041" y="21382"/>
                  <a:pt x="5235" y="21039"/>
                </a:cubicBezTo>
                <a:lnTo>
                  <a:pt x="10629" y="11495"/>
                </a:lnTo>
                <a:cubicBezTo>
                  <a:pt x="10748" y="11304"/>
                  <a:pt x="10811" y="11054"/>
                  <a:pt x="10811" y="10800"/>
                </a:cubicBezTo>
                <a:cubicBezTo>
                  <a:pt x="10811" y="10546"/>
                  <a:pt x="10748" y="10296"/>
                  <a:pt x="10629" y="10105"/>
                </a:cubicBezTo>
                <a:lnTo>
                  <a:pt x="5235" y="588"/>
                </a:lnTo>
                <a:cubicBezTo>
                  <a:pt x="5041" y="245"/>
                  <a:pt x="4702" y="0"/>
                  <a:pt x="4325" y="0"/>
                </a:cubicBezTo>
                <a:lnTo>
                  <a:pt x="1093" y="0"/>
                </a:lnTo>
                <a:close/>
                <a:moveTo>
                  <a:pt x="11881" y="0"/>
                </a:moveTo>
                <a:cubicBezTo>
                  <a:pt x="11287" y="0"/>
                  <a:pt x="10811" y="584"/>
                  <a:pt x="10811" y="1283"/>
                </a:cubicBezTo>
                <a:cubicBezTo>
                  <a:pt x="10811" y="1537"/>
                  <a:pt x="10875" y="1788"/>
                  <a:pt x="10993" y="1978"/>
                </a:cubicBezTo>
                <a:lnTo>
                  <a:pt x="15978" y="10800"/>
                </a:lnTo>
                <a:lnTo>
                  <a:pt x="10993" y="19649"/>
                </a:lnTo>
                <a:cubicBezTo>
                  <a:pt x="10875" y="19839"/>
                  <a:pt x="10811" y="20089"/>
                  <a:pt x="10811" y="20344"/>
                </a:cubicBezTo>
                <a:cubicBezTo>
                  <a:pt x="10811" y="21042"/>
                  <a:pt x="11287" y="21600"/>
                  <a:pt x="11881" y="21600"/>
                </a:cubicBezTo>
                <a:lnTo>
                  <a:pt x="15113" y="21600"/>
                </a:lnTo>
                <a:cubicBezTo>
                  <a:pt x="15491" y="21600"/>
                  <a:pt x="15829" y="21382"/>
                  <a:pt x="16024" y="21039"/>
                </a:cubicBezTo>
                <a:lnTo>
                  <a:pt x="21418" y="11495"/>
                </a:lnTo>
                <a:cubicBezTo>
                  <a:pt x="21537" y="11304"/>
                  <a:pt x="21600" y="11054"/>
                  <a:pt x="21600" y="10800"/>
                </a:cubicBezTo>
                <a:cubicBezTo>
                  <a:pt x="21600" y="10546"/>
                  <a:pt x="21537" y="10296"/>
                  <a:pt x="21418" y="10105"/>
                </a:cubicBezTo>
                <a:lnTo>
                  <a:pt x="16024" y="588"/>
                </a:lnTo>
                <a:cubicBezTo>
                  <a:pt x="15829" y="245"/>
                  <a:pt x="15491" y="0"/>
                  <a:pt x="15113" y="0"/>
                </a:cubicBezTo>
                <a:lnTo>
                  <a:pt x="11881" y="0"/>
                </a:lnTo>
                <a:close/>
              </a:path>
            </a:pathLst>
          </a:custGeom>
          <a:solidFill>
            <a:srgbClr val="ff4e95"/>
          </a:solidFill>
          <a:ln w="0">
            <a:noFill/>
          </a:ln>
        </p:spPr>
        <p:style>
          <a:lnRef idx="0"/>
          <a:fillRef idx="0"/>
          <a:effectRef idx="0"/>
          <a:fontRef idx="minor"/>
        </p:style>
        <p:txBody>
          <a:bodyPr lIns="45360" rIns="45360" tIns="46800" bIns="46800" anchor="ctr">
            <a:noAutofit/>
          </a:bodyPr>
          <a:p>
            <a:endParaRPr b="0" lang="en-US" sz="1800" spc="-1" strike="noStrike">
              <a:solidFill>
                <a:srgbClr val="000000"/>
              </a:solidFill>
              <a:latin typeface="Calibri"/>
            </a:endParaRPr>
          </a:p>
        </p:txBody>
      </p:sp>
      <p:sp>
        <p:nvSpPr>
          <p:cNvPr id="1030"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819000" y="5145120"/>
            <a:ext cx="2460600" cy="711000"/>
          </a:xfrm>
          <a:prstGeom prst="rect">
            <a:avLst/>
          </a:prstGeom>
          <a:noFill/>
          <a:ln w="0">
            <a:noFill/>
          </a:ln>
        </p:spPr>
        <p:style>
          <a:lnRef idx="0"/>
          <a:fillRef idx="0"/>
          <a:effectRef idx="0"/>
          <a:fontRef idx="minor"/>
        </p:style>
        <p:txBody>
          <a:bodyPr lIns="50760" rIns="50760" tIns="50760" bIns="507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fbfbf"/>
                </a:solidFill>
                <a:latin typeface="Barlow Medium"/>
                <a:ea typeface="Barlow Medium"/>
              </a:rPr>
              <a:t>Lorem Ipsum is simply dummy text of the printing an. Lorem Ipsum is simply dummy text of the printing an.</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031"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1320840" y="4827600"/>
            <a:ext cx="1457280" cy="315000"/>
          </a:xfrm>
          <a:prstGeom prst="rect">
            <a:avLst/>
          </a:prstGeom>
          <a:noFill/>
          <a:ln w="0">
            <a:noFill/>
          </a:ln>
        </p:spPr>
        <p:style>
          <a:lnRef idx="0"/>
          <a:fillRef idx="0"/>
          <a:effectRef idx="0"/>
          <a:fontRef idx="minor"/>
        </p:style>
        <p:txBody>
          <a:bodyPr lIns="50760" rIns="50760" tIns="50760" bIns="507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Raleway"/>
                <a:ea typeface="Barlow SemiBold"/>
              </a:rPr>
              <a:t>Strengths</a:t>
            </a:r>
            <a:endParaRPr b="0" lang="en-US" sz="1400" spc="-1" strike="noStrike">
              <a:solidFill>
                <a:srgbClr val="000000"/>
              </a:solidFill>
              <a:latin typeface="Calibri"/>
            </a:endParaRPr>
          </a:p>
        </p:txBody>
      </p:sp>
      <p:sp>
        <p:nvSpPr>
          <p:cNvPr id="1032"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3502080" y="5145120"/>
            <a:ext cx="2368440" cy="711000"/>
          </a:xfrm>
          <a:prstGeom prst="rect">
            <a:avLst/>
          </a:prstGeom>
          <a:noFill/>
          <a:ln w="0">
            <a:noFill/>
          </a:ln>
        </p:spPr>
        <p:style>
          <a:lnRef idx="0"/>
          <a:fillRef idx="0"/>
          <a:effectRef idx="0"/>
          <a:fontRef idx="minor"/>
        </p:style>
        <p:txBody>
          <a:bodyPr lIns="50760" rIns="50760" tIns="50760" bIns="507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fbfbf"/>
                </a:solidFill>
                <a:latin typeface="Barlow Medium"/>
                <a:ea typeface="Barlow Medium"/>
              </a:rPr>
              <a:t>Lorem Ipsum is simply dummy text of the printing an. Lorem Ipsum is simply dummy</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033"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4022640" y="4827600"/>
            <a:ext cx="1327320" cy="315000"/>
          </a:xfrm>
          <a:prstGeom prst="rect">
            <a:avLst/>
          </a:prstGeom>
          <a:noFill/>
          <a:ln w="0">
            <a:noFill/>
          </a:ln>
        </p:spPr>
        <p:style>
          <a:lnRef idx="0"/>
          <a:fillRef idx="0"/>
          <a:effectRef idx="0"/>
          <a:fontRef idx="minor"/>
        </p:style>
        <p:txBody>
          <a:bodyPr lIns="50760" rIns="50760" tIns="50760" bIns="507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Raleway"/>
                <a:ea typeface="Barlow SemiBold"/>
              </a:rPr>
              <a:t>Weaknesses</a:t>
            </a:r>
            <a:endParaRPr b="0" lang="en-US" sz="1400" spc="-1" strike="noStrike">
              <a:solidFill>
                <a:srgbClr val="000000"/>
              </a:solidFill>
              <a:latin typeface="Calibri"/>
            </a:endParaRPr>
          </a:p>
        </p:txBody>
      </p:sp>
      <p:sp>
        <p:nvSpPr>
          <p:cNvPr id="1034"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6188040" y="5145120"/>
            <a:ext cx="2459160" cy="711000"/>
          </a:xfrm>
          <a:prstGeom prst="rect">
            <a:avLst/>
          </a:prstGeom>
          <a:noFill/>
          <a:ln w="0">
            <a:noFill/>
          </a:ln>
        </p:spPr>
        <p:style>
          <a:lnRef idx="0"/>
          <a:fillRef idx="0"/>
          <a:effectRef idx="0"/>
          <a:fontRef idx="minor"/>
        </p:style>
        <p:txBody>
          <a:bodyPr lIns="50760" rIns="50760" tIns="50760" bIns="507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fbfbf"/>
                </a:solidFill>
                <a:latin typeface="Barlow Medium"/>
                <a:ea typeface="Barlow Medium"/>
              </a:rPr>
              <a:t>Lorem Ipsum is simply dummy text of the printing an. Lorem Ipsum is simply dummy text of the printing an.</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035"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6613560" y="4827600"/>
            <a:ext cx="1608120" cy="315000"/>
          </a:xfrm>
          <a:prstGeom prst="rect">
            <a:avLst/>
          </a:prstGeom>
          <a:noFill/>
          <a:ln w="0">
            <a:noFill/>
          </a:ln>
        </p:spPr>
        <p:style>
          <a:lnRef idx="0"/>
          <a:fillRef idx="0"/>
          <a:effectRef idx="0"/>
          <a:fontRef idx="minor"/>
        </p:style>
        <p:txBody>
          <a:bodyPr lIns="50760" rIns="50760" tIns="50760" bIns="507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Raleway"/>
                <a:ea typeface="Barlow SemiBold"/>
              </a:rPr>
              <a:t>Opportunities</a:t>
            </a:r>
            <a:endParaRPr b="0" lang="en-US" sz="1400" spc="-1" strike="noStrike">
              <a:solidFill>
                <a:srgbClr val="000000"/>
              </a:solidFill>
              <a:latin typeface="Calibri"/>
            </a:endParaRPr>
          </a:p>
        </p:txBody>
      </p:sp>
      <p:sp>
        <p:nvSpPr>
          <p:cNvPr id="1036"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9124920" y="5145120"/>
            <a:ext cx="2308320" cy="558720"/>
          </a:xfrm>
          <a:prstGeom prst="rect">
            <a:avLst/>
          </a:prstGeom>
          <a:noFill/>
          <a:ln w="0">
            <a:noFill/>
          </a:ln>
        </p:spPr>
        <p:style>
          <a:lnRef idx="0"/>
          <a:fillRef idx="0"/>
          <a:effectRef idx="0"/>
          <a:fontRef idx="minor"/>
        </p:style>
        <p:txBody>
          <a:bodyPr lIns="50760" rIns="50760" tIns="50760" bIns="507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fbfbf"/>
                </a:solidFill>
                <a:latin typeface="Barlow Medium"/>
                <a:ea typeface="Barlow Medium"/>
              </a:rPr>
              <a:t>Lorem Ipsum is simply dummy text of the printing an. Lorem Ipsum is simply dummy text of the</a:t>
            </a:r>
            <a:endParaRPr b="0" lang="en-US" sz="1000" spc="-1" strike="noStrike">
              <a:solidFill>
                <a:srgbClr val="000000"/>
              </a:solidFill>
              <a:latin typeface="Calibri"/>
            </a:endParaRPr>
          </a:p>
        </p:txBody>
      </p:sp>
      <p:sp>
        <p:nvSpPr>
          <p:cNvPr id="1037"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9821880" y="4827600"/>
            <a:ext cx="914400" cy="315000"/>
          </a:xfrm>
          <a:prstGeom prst="rect">
            <a:avLst/>
          </a:prstGeom>
          <a:noFill/>
          <a:ln w="0">
            <a:noFill/>
          </a:ln>
        </p:spPr>
        <p:style>
          <a:lnRef idx="0"/>
          <a:fillRef idx="0"/>
          <a:effectRef idx="0"/>
          <a:fontRef idx="minor"/>
        </p:style>
        <p:txBody>
          <a:bodyPr lIns="50760" rIns="50760" tIns="50760" bIns="507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Raleway"/>
                <a:ea typeface="Barlow SemiBold"/>
              </a:rPr>
              <a:t>Threats</a:t>
            </a:r>
            <a:endParaRPr b="0" lang="en-US" sz="1400" spc="-1" strike="noStrike">
              <a:solidFill>
                <a:srgbClr val="000000"/>
              </a:solidFill>
              <a:latin typeface="Calibri"/>
            </a:endParaRPr>
          </a:p>
        </p:txBody>
      </p:sp>
      <p:sp>
        <p:nvSpPr>
          <p:cNvPr id="1038"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4479840" y="3265560"/>
            <a:ext cx="513000" cy="37620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546a"/>
                </a:solidFill>
                <a:latin typeface="Raleway"/>
                <a:ea typeface="Barlow Medium"/>
              </a:rPr>
              <a:t>60</a:t>
            </a:r>
            <a:r>
              <a:rPr b="0" lang="en-US" sz="1000" spc="-1" strike="noStrike">
                <a:solidFill>
                  <a:srgbClr val="44546a"/>
                </a:solidFill>
                <a:latin typeface="Raleway"/>
                <a:ea typeface="Barlow Medium"/>
              </a:rPr>
              <a:t>%</a:t>
            </a:r>
            <a:endParaRPr b="0" lang="en-US" sz="1000" spc="-1" strike="noStrike">
              <a:solidFill>
                <a:srgbClr val="000000"/>
              </a:solidFill>
              <a:latin typeface="Calibri"/>
            </a:endParaRPr>
          </a:p>
        </p:txBody>
      </p:sp>
      <p:sp>
        <p:nvSpPr>
          <p:cNvPr id="1039"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7227720" y="3255840"/>
            <a:ext cx="513000" cy="37620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546a"/>
                </a:solidFill>
                <a:latin typeface="Raleway"/>
                <a:ea typeface="Barlow Medium"/>
              </a:rPr>
              <a:t>95</a:t>
            </a:r>
            <a:r>
              <a:rPr b="0" lang="en-US" sz="1000" spc="-1" strike="noStrike">
                <a:solidFill>
                  <a:srgbClr val="44546a"/>
                </a:solidFill>
                <a:latin typeface="Raleway"/>
                <a:ea typeface="Barlow Medium"/>
              </a:rPr>
              <a:t>%</a:t>
            </a:r>
            <a:endParaRPr b="0" lang="en-US" sz="1000" spc="-1" strike="noStrike">
              <a:solidFill>
                <a:srgbClr val="000000"/>
              </a:solidFill>
              <a:latin typeface="Calibri"/>
            </a:endParaRPr>
          </a:p>
        </p:txBody>
      </p:sp>
      <p:sp>
        <p:nvSpPr>
          <p:cNvPr id="1040"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10134720" y="3255840"/>
            <a:ext cx="512640" cy="37620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546a"/>
                </a:solidFill>
                <a:latin typeface="Raleway"/>
                <a:ea typeface="Barlow Medium"/>
              </a:rPr>
              <a:t>80</a:t>
            </a:r>
            <a:r>
              <a:rPr b="0" lang="en-US" sz="1000" spc="-1" strike="noStrike">
                <a:solidFill>
                  <a:srgbClr val="44546a"/>
                </a:solidFill>
                <a:latin typeface="Raleway"/>
                <a:ea typeface="Barlow Medium"/>
              </a:rPr>
              <a:t>%</a:t>
            </a:r>
            <a:endParaRPr b="0" lang="en-US" sz="1000" spc="-1" strike="noStrike">
              <a:solidFill>
                <a:srgbClr val="000000"/>
              </a:solidFill>
              <a:latin typeface="Calibri"/>
            </a:endParaRPr>
          </a:p>
        </p:txBody>
      </p:sp>
      <p:sp>
        <p:nvSpPr>
          <p:cNvPr id="1041" name="Straight Connector 61"/>
          <p:cNvSpPr/>
          <p:nvPr/>
        </p:nvSpPr>
        <p:spPr>
          <a:xfrm flipH="1">
            <a:off x="11210400" y="6526080"/>
            <a:ext cx="320760" cy="331920"/>
          </a:xfrm>
          <a:prstGeom prst="line">
            <a:avLst/>
          </a:prstGeom>
          <a:ln w="6480">
            <a:solidFill>
              <a:srgbClr val="37e08b">
                <a:alpha val="36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2" name="Straight Connector 62"/>
          <p:cNvSpPr/>
          <p:nvPr/>
        </p:nvSpPr>
        <p:spPr>
          <a:xfrm flipH="1">
            <a:off x="1133280" y="0"/>
            <a:ext cx="322200" cy="331920"/>
          </a:xfrm>
          <a:prstGeom prst="line">
            <a:avLst/>
          </a:prstGeom>
          <a:ln w="6480">
            <a:solidFill>
              <a:srgbClr val="06d6ff">
                <a:alpha val="36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Rounded Corners 4"/>
          <p:cNvSpPr/>
          <p:nvPr/>
        </p:nvSpPr>
        <p:spPr>
          <a:xfrm rot="2700000">
            <a:off x="964080" y="702360"/>
            <a:ext cx="144360" cy="142920"/>
          </a:xfrm>
          <a:prstGeom prst="roundRect">
            <a:avLst>
              <a:gd name="adj" fmla="val 16667"/>
            </a:avLst>
          </a:prstGeom>
          <a:solidFill>
            <a:srgbClr val="06d6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31" name="Chart 5"/>
          <p:cNvGraphicFramePr/>
          <p:nvPr/>
        </p:nvGraphicFramePr>
        <p:xfrm>
          <a:off x="1085760" y="1935000"/>
          <a:ext cx="10638000" cy="2416320"/>
        </p:xfrm>
        <a:graphic>
          <a:graphicData uri="http://schemas.openxmlformats.org/presentationml/2006/ole">
            <p:oleObj progId="Excel.Sheet.12" r:id="rId1" spid="">
              <p:embed/>
              <p:pic>
                <p:nvPicPr>
                  <p:cNvPr id="132" name="Chart 5" descr=""/>
                  <p:cNvPicPr/>
                  <p:nvPr/>
                </p:nvPicPr>
                <p:blipFill>
                  <a:blip r:embed="rId2"/>
                  <a:stretch/>
                </p:blipFill>
                <p:spPr>
                  <a:xfrm>
                    <a:off x="1085760" y="1935000"/>
                    <a:ext cx="10638000" cy="2416320"/>
                  </a:xfrm>
                  <a:prstGeom prst="rect">
                    <a:avLst/>
                  </a:prstGeom>
                  <a:ln w="0">
                    <a:noFill/>
                  </a:ln>
                </p:spPr>
              </p:pic>
            </p:oleObj>
          </a:graphicData>
        </a:graphic>
      </p:graphicFrame>
      <p:sp>
        <p:nvSpPr>
          <p:cNvPr id="133" name="TextBox 6"/>
          <p:cNvSpPr/>
          <p:nvPr/>
        </p:nvSpPr>
        <p:spPr>
          <a:xfrm>
            <a:off x="1557360" y="4849920"/>
            <a:ext cx="371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d6ff"/>
                </a:solidFill>
                <a:latin typeface="Raleway SemiBold"/>
                <a:ea typeface="Open Sans"/>
              </a:rPr>
              <a:t>Your Title Chart</a:t>
            </a:r>
            <a:endParaRPr b="0" lang="en-US" sz="2000" spc="-1" strike="noStrike">
              <a:solidFill>
                <a:srgbClr val="000000"/>
              </a:solidFill>
              <a:latin typeface="Calibri"/>
            </a:endParaRPr>
          </a:p>
        </p:txBody>
      </p:sp>
      <p:sp>
        <p:nvSpPr>
          <p:cNvPr id="134" name="TextBox 7"/>
          <p:cNvSpPr/>
          <p:nvPr/>
        </p:nvSpPr>
        <p:spPr>
          <a:xfrm>
            <a:off x="1557360" y="5313240"/>
            <a:ext cx="453852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bfbfbf"/>
                </a:solidFill>
                <a:latin typeface="Open Sans"/>
                <a:ea typeface="Open Sans"/>
              </a:rPr>
              <a:t>Lorem ipsum dolor sit amet, consectetur adipiscing elit, sed do eiusmod tempor incididunt ut labore et dolore magna aliqua. </a:t>
            </a:r>
            <a:endParaRPr b="0" lang="en-US" sz="1100" spc="-1" strike="noStrike">
              <a:solidFill>
                <a:srgbClr val="000000"/>
              </a:solidFill>
              <a:latin typeface="Calibri"/>
            </a:endParaRPr>
          </a:p>
        </p:txBody>
      </p:sp>
      <p:sp>
        <p:nvSpPr>
          <p:cNvPr id="135" name="TextBox 25"/>
          <p:cNvSpPr/>
          <p:nvPr/>
        </p:nvSpPr>
        <p:spPr>
          <a:xfrm>
            <a:off x="7034760" y="4849920"/>
            <a:ext cx="356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d6ff"/>
                </a:solidFill>
                <a:latin typeface="Raleway SemiBold"/>
                <a:ea typeface="Open Sans"/>
              </a:rPr>
              <a:t>Your Title Comparison Chart</a:t>
            </a:r>
            <a:endParaRPr b="0" lang="en-US" sz="2000" spc="-1" strike="noStrike">
              <a:solidFill>
                <a:srgbClr val="000000"/>
              </a:solidFill>
              <a:latin typeface="Calibri"/>
            </a:endParaRPr>
          </a:p>
        </p:txBody>
      </p:sp>
      <p:sp>
        <p:nvSpPr>
          <p:cNvPr id="136" name="TextBox 26"/>
          <p:cNvSpPr/>
          <p:nvPr/>
        </p:nvSpPr>
        <p:spPr>
          <a:xfrm>
            <a:off x="6956280" y="5313240"/>
            <a:ext cx="371808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bfbfbf"/>
                </a:solidFill>
                <a:latin typeface="Open Sans"/>
                <a:ea typeface="Open Sans"/>
              </a:rPr>
              <a:t>Lorem ipsum dolor sit amet, consectetur adipiscing elit, sed do eiusmod tempor incididunt ut labore et</a:t>
            </a:r>
            <a:endParaRPr b="0" lang="en-US" sz="1100" spc="-1" strike="noStrike">
              <a:solidFill>
                <a:srgbClr val="000000"/>
              </a:solidFill>
              <a:latin typeface="Calibri"/>
            </a:endParaRPr>
          </a:p>
        </p:txBody>
      </p:sp>
      <p:sp>
        <p:nvSpPr>
          <p:cNvPr id="137" name="TextBox 27"/>
          <p:cNvSpPr/>
          <p:nvPr/>
        </p:nvSpPr>
        <p:spPr>
          <a:xfrm>
            <a:off x="3099600" y="406440"/>
            <a:ext cx="5993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d6ff"/>
                </a:solidFill>
                <a:latin typeface="Raleway SemiBold"/>
                <a:ea typeface="Open Sans"/>
              </a:rPr>
              <a:t>Comparison Infographic</a:t>
            </a:r>
            <a:endParaRPr b="0" lang="en-US" sz="4000" spc="-1" strike="noStrike">
              <a:solidFill>
                <a:srgbClr val="000000"/>
              </a:solidFill>
              <a:latin typeface="Calibri"/>
            </a:endParaRPr>
          </a:p>
        </p:txBody>
      </p:sp>
      <p:sp>
        <p:nvSpPr>
          <p:cNvPr id="138" name="Straight Connector 29"/>
          <p:cNvSpPr/>
          <p:nvPr/>
        </p:nvSpPr>
        <p:spPr>
          <a:xfrm flipH="1">
            <a:off x="11447640" y="-19080"/>
            <a:ext cx="172800" cy="177840"/>
          </a:xfrm>
          <a:prstGeom prst="line">
            <a:avLst/>
          </a:prstGeom>
          <a:ln w="6480">
            <a:solidFill>
              <a:srgbClr val="06d6ff">
                <a:alpha val="36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 name="Straight Connector 30"/>
          <p:cNvSpPr/>
          <p:nvPr/>
        </p:nvSpPr>
        <p:spPr>
          <a:xfrm flipH="1">
            <a:off x="10845360" y="6678720"/>
            <a:ext cx="173160" cy="179280"/>
          </a:xfrm>
          <a:prstGeom prst="line">
            <a:avLst/>
          </a:prstGeom>
          <a:ln w="6480">
            <a:solidFill>
              <a:srgbClr val="06d6ff">
                <a:alpha val="36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0" name="Chart 7"/>
          <p:cNvGraphicFramePr/>
          <p:nvPr/>
        </p:nvGraphicFramePr>
        <p:xfrm>
          <a:off x="1123920" y="2039760"/>
          <a:ext cx="5950080" cy="4286520"/>
        </p:xfrm>
        <a:graphic>
          <a:graphicData uri="http://schemas.openxmlformats.org/presentationml/2006/ole">
            <p:oleObj progId="Excel.Sheet.12" r:id="rId1" spid="">
              <p:embed/>
              <p:pic>
                <p:nvPicPr>
                  <p:cNvPr id="141" name="Chart 7" descr=""/>
                  <p:cNvPicPr/>
                  <p:nvPr/>
                </p:nvPicPr>
                <p:blipFill>
                  <a:blip r:embed="rId2"/>
                  <a:stretch/>
                </p:blipFill>
                <p:spPr>
                  <a:xfrm>
                    <a:off x="1123920" y="2039760"/>
                    <a:ext cx="5950080" cy="4286520"/>
                  </a:xfrm>
                  <a:prstGeom prst="rect">
                    <a:avLst/>
                  </a:prstGeom>
                  <a:ln w="0">
                    <a:noFill/>
                  </a:ln>
                </p:spPr>
              </p:pic>
            </p:oleObj>
          </a:graphicData>
        </a:graphic>
      </p:graphicFrame>
      <p:sp>
        <p:nvSpPr>
          <p:cNvPr id="142" name="TextBox 10"/>
          <p:cNvSpPr/>
          <p:nvPr/>
        </p:nvSpPr>
        <p:spPr>
          <a:xfrm>
            <a:off x="8185680" y="4957920"/>
            <a:ext cx="112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e08b"/>
                </a:solidFill>
                <a:latin typeface="Raleway SemiBold"/>
              </a:rPr>
              <a:t>Sells 2023</a:t>
            </a:r>
            <a:endParaRPr b="0" lang="en-US" sz="1600" spc="-1" strike="noStrike">
              <a:solidFill>
                <a:srgbClr val="000000"/>
              </a:solidFill>
              <a:latin typeface="Calibri"/>
            </a:endParaRPr>
          </a:p>
        </p:txBody>
      </p:sp>
      <p:sp>
        <p:nvSpPr>
          <p:cNvPr id="143" name="TextBox 11"/>
          <p:cNvSpPr/>
          <p:nvPr/>
        </p:nvSpPr>
        <p:spPr>
          <a:xfrm>
            <a:off x="8161200" y="5308560"/>
            <a:ext cx="30052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bfbfbf"/>
                </a:solidFill>
                <a:latin typeface="Open Sans"/>
                <a:ea typeface="Open Sans"/>
              </a:rPr>
              <a:t>Lorem ipsum dolor sit amet, consectetur adipiscing elit, sed do eiusmod</a:t>
            </a:r>
            <a:endParaRPr b="0" lang="en-US" sz="1100" spc="-1" strike="noStrike">
              <a:solidFill>
                <a:srgbClr val="000000"/>
              </a:solidFill>
              <a:latin typeface="Calibri"/>
            </a:endParaRPr>
          </a:p>
        </p:txBody>
      </p:sp>
      <p:sp>
        <p:nvSpPr>
          <p:cNvPr id="144" name="TextBox 13"/>
          <p:cNvSpPr/>
          <p:nvPr/>
        </p:nvSpPr>
        <p:spPr>
          <a:xfrm>
            <a:off x="8175240" y="3708360"/>
            <a:ext cx="157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6d6ff"/>
                </a:solidFill>
                <a:latin typeface="Raleway SemiBold"/>
              </a:rPr>
              <a:t>Purchase 2023</a:t>
            </a:r>
            <a:endParaRPr b="0" lang="en-US" sz="1600" spc="-1" strike="noStrike">
              <a:solidFill>
                <a:srgbClr val="000000"/>
              </a:solidFill>
              <a:latin typeface="Calibri"/>
            </a:endParaRPr>
          </a:p>
        </p:txBody>
      </p:sp>
      <p:sp>
        <p:nvSpPr>
          <p:cNvPr id="145" name="TextBox 14"/>
          <p:cNvSpPr/>
          <p:nvPr/>
        </p:nvSpPr>
        <p:spPr>
          <a:xfrm>
            <a:off x="8161200" y="4059360"/>
            <a:ext cx="30211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bfbfbf"/>
                </a:solidFill>
                <a:latin typeface="Open Sans"/>
                <a:ea typeface="Open Sans"/>
              </a:rPr>
              <a:t>Lorem ipsum dolor sit amet, consectetur adipiscing elit, sed do eiusmod</a:t>
            </a:r>
            <a:endParaRPr b="0" lang="en-US" sz="1100" spc="-1" strike="noStrike">
              <a:solidFill>
                <a:srgbClr val="000000"/>
              </a:solidFill>
              <a:latin typeface="Calibri"/>
            </a:endParaRPr>
          </a:p>
        </p:txBody>
      </p:sp>
      <p:sp>
        <p:nvSpPr>
          <p:cNvPr id="146" name="TextBox 16"/>
          <p:cNvSpPr/>
          <p:nvPr/>
        </p:nvSpPr>
        <p:spPr>
          <a:xfrm>
            <a:off x="8141760" y="2454120"/>
            <a:ext cx="139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4e95"/>
                </a:solidFill>
                <a:latin typeface="Raleway SemiBold"/>
              </a:rPr>
              <a:t>Return 2023</a:t>
            </a:r>
            <a:endParaRPr b="0" lang="en-US" sz="1600" spc="-1" strike="noStrike">
              <a:solidFill>
                <a:srgbClr val="000000"/>
              </a:solidFill>
              <a:latin typeface="Calibri"/>
            </a:endParaRPr>
          </a:p>
        </p:txBody>
      </p:sp>
      <p:sp>
        <p:nvSpPr>
          <p:cNvPr id="147" name="TextBox 17"/>
          <p:cNvSpPr/>
          <p:nvPr/>
        </p:nvSpPr>
        <p:spPr>
          <a:xfrm>
            <a:off x="8161200" y="2803680"/>
            <a:ext cx="28814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bfbfbf"/>
                </a:solidFill>
                <a:latin typeface="Open Sans"/>
                <a:ea typeface="Open Sans"/>
              </a:rPr>
              <a:t>Lorem ipsum dolor sit amet, consectetur adipiscing elit, sed do eiusmod</a:t>
            </a:r>
            <a:endParaRPr b="0" lang="en-US" sz="1100" spc="-1" strike="noStrike">
              <a:solidFill>
                <a:srgbClr val="000000"/>
              </a:solidFill>
              <a:latin typeface="Calibri"/>
            </a:endParaRPr>
          </a:p>
        </p:txBody>
      </p:sp>
      <p:sp>
        <p:nvSpPr>
          <p:cNvPr id="148" name="Straight Connector 22"/>
          <p:cNvSpPr/>
          <p:nvPr/>
        </p:nvSpPr>
        <p:spPr>
          <a:xfrm flipH="1">
            <a:off x="11447640" y="-19080"/>
            <a:ext cx="172800" cy="177840"/>
          </a:xfrm>
          <a:prstGeom prst="line">
            <a:avLst/>
          </a:prstGeom>
          <a:ln w="6480">
            <a:solidFill>
              <a:srgbClr val="06d6ff">
                <a:alpha val="36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49" name="Graphic 24" descr="Back RTL"/>
          <p:cNvPicPr/>
          <p:nvPr/>
        </p:nvPicPr>
        <p:blipFill>
          <a:blip r:embed="rId3"/>
          <a:stretch/>
        </p:blipFill>
        <p:spPr>
          <a:xfrm>
            <a:off x="7478640" y="2428920"/>
            <a:ext cx="482760" cy="484200"/>
          </a:xfrm>
          <a:prstGeom prst="rect">
            <a:avLst/>
          </a:prstGeom>
          <a:ln w="0">
            <a:noFill/>
          </a:ln>
        </p:spPr>
      </p:pic>
      <p:pic>
        <p:nvPicPr>
          <p:cNvPr id="150" name="Graphic 26" descr="Credit card"/>
          <p:cNvPicPr/>
          <p:nvPr/>
        </p:nvPicPr>
        <p:blipFill>
          <a:blip r:embed="rId4"/>
          <a:stretch/>
        </p:blipFill>
        <p:spPr>
          <a:xfrm>
            <a:off x="7478640" y="3726000"/>
            <a:ext cx="482760" cy="484200"/>
          </a:xfrm>
          <a:prstGeom prst="rect">
            <a:avLst/>
          </a:prstGeom>
          <a:ln w="0">
            <a:noFill/>
          </a:ln>
        </p:spPr>
      </p:pic>
      <p:pic>
        <p:nvPicPr>
          <p:cNvPr id="151" name="Graphic 28" descr="Store"/>
          <p:cNvPicPr/>
          <p:nvPr/>
        </p:nvPicPr>
        <p:blipFill>
          <a:blip r:embed="rId5"/>
          <a:stretch/>
        </p:blipFill>
        <p:spPr>
          <a:xfrm>
            <a:off x="7461360" y="5057640"/>
            <a:ext cx="500040" cy="501840"/>
          </a:xfrm>
          <a:prstGeom prst="rect">
            <a:avLst/>
          </a:prstGeom>
          <a:ln w="0">
            <a:noFill/>
          </a:ln>
        </p:spPr>
      </p:pic>
      <p:sp>
        <p:nvSpPr>
          <p:cNvPr id="152" name="Rectangle: Rounded Corners 31"/>
          <p:cNvSpPr/>
          <p:nvPr/>
        </p:nvSpPr>
        <p:spPr>
          <a:xfrm rot="2700000">
            <a:off x="747360" y="939600"/>
            <a:ext cx="144360" cy="141480"/>
          </a:xfrm>
          <a:prstGeom prst="roundRect">
            <a:avLst>
              <a:gd name="adj" fmla="val 16667"/>
            </a:avLst>
          </a:prstGeom>
          <a:solidFill>
            <a:srgbClr val="06d6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TextBox 15"/>
          <p:cNvSpPr/>
          <p:nvPr/>
        </p:nvSpPr>
        <p:spPr>
          <a:xfrm>
            <a:off x="3099600" y="406440"/>
            <a:ext cx="5993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d6ff"/>
                </a:solidFill>
                <a:latin typeface="Raleway SemiBold"/>
                <a:ea typeface="Open Sans"/>
              </a:rPr>
              <a:t>Comparison Infographic</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Hexagon 1"/>
          <p:cNvSpPr/>
          <p:nvPr/>
        </p:nvSpPr>
        <p:spPr>
          <a:xfrm rot="16200000">
            <a:off x="7400880" y="2449440"/>
            <a:ext cx="2703600" cy="2332080"/>
          </a:xfrm>
          <a:prstGeom prst="hexagon">
            <a:avLst>
              <a:gd name="adj" fmla="val 22934"/>
              <a:gd name="vf" fmla="val 115470"/>
            </a:avLst>
          </a:prstGeom>
          <a:solidFill>
            <a:srgbClr val="7f7f7f">
              <a:alpha val="5000"/>
            </a:srgbClr>
          </a:solidFill>
          <a:ln w="19080">
            <a:solidFill>
              <a:srgbClr val="f2f2f2">
                <a:alpha val="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Hexagon 2"/>
          <p:cNvSpPr/>
          <p:nvPr/>
        </p:nvSpPr>
        <p:spPr>
          <a:xfrm rot="16200000">
            <a:off x="7705440" y="2701440"/>
            <a:ext cx="2119320" cy="1827360"/>
          </a:xfrm>
          <a:prstGeom prst="hexagon">
            <a:avLst>
              <a:gd name="adj" fmla="val 22943"/>
              <a:gd name="vf" fmla="val 115470"/>
            </a:avLst>
          </a:prstGeom>
          <a:solidFill>
            <a:srgbClr val="7f7f7f">
              <a:alpha val="5000"/>
            </a:srgbClr>
          </a:solidFill>
          <a:ln w="19080">
            <a:solidFill>
              <a:srgbClr val="f2f2f2">
                <a:alpha val="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TextBox 5"/>
          <p:cNvSpPr/>
          <p:nvPr/>
        </p:nvSpPr>
        <p:spPr>
          <a:xfrm>
            <a:off x="8777160" y="3651120"/>
            <a:ext cx="18432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
        <p:nvSpPr>
          <p:cNvPr id="157" name="TextBox 6"/>
          <p:cNvSpPr/>
          <p:nvPr/>
        </p:nvSpPr>
        <p:spPr>
          <a:xfrm>
            <a:off x="2898720" y="1276200"/>
            <a:ext cx="546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f7f7f"/>
                </a:solidFill>
                <a:latin typeface="Raleway"/>
                <a:ea typeface="Poppins"/>
              </a:rPr>
              <a:t>VS</a:t>
            </a:r>
            <a:endParaRPr b="0" lang="en-US" sz="1600" spc="-1" strike="noStrike">
              <a:solidFill>
                <a:srgbClr val="000000"/>
              </a:solidFill>
              <a:latin typeface="Calibri"/>
            </a:endParaRPr>
          </a:p>
        </p:txBody>
      </p:sp>
      <p:grpSp>
        <p:nvGrpSpPr>
          <p:cNvPr id="158" name="Group 9"/>
          <p:cNvGrpSpPr/>
          <p:nvPr/>
        </p:nvGrpSpPr>
        <p:grpSpPr>
          <a:xfrm>
            <a:off x="987480" y="1201680"/>
            <a:ext cx="1757160" cy="471600"/>
            <a:chOff x="987480" y="1201680"/>
            <a:chExt cx="1757160" cy="471600"/>
          </a:xfrm>
        </p:grpSpPr>
        <p:sp>
          <p:nvSpPr>
            <p:cNvPr id="159" name="Rectangle: Rounded Corners 74"/>
            <p:cNvSpPr/>
            <p:nvPr/>
          </p:nvSpPr>
          <p:spPr>
            <a:xfrm>
              <a:off x="987480" y="1201680"/>
              <a:ext cx="1757160" cy="471600"/>
            </a:xfrm>
            <a:prstGeom prst="roundRect">
              <a:avLst>
                <a:gd name="adj" fmla="val 50000"/>
              </a:avLst>
            </a:prstGeom>
            <a:solidFill>
              <a:srgbClr val="bfbfbf">
                <a:alpha val="4000"/>
              </a:srgbClr>
            </a:solidFill>
            <a:ln w="31680">
              <a:solidFill>
                <a:srgbClr val="a6a6a6">
                  <a:alpha val="2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TextBox 7"/>
            <p:cNvSpPr/>
            <p:nvPr/>
          </p:nvSpPr>
          <p:spPr>
            <a:xfrm>
              <a:off x="1420920" y="128340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Raleway SemiBold"/>
                  <a:ea typeface="Poppins"/>
                </a:rPr>
                <a:t>Player A</a:t>
              </a:r>
              <a:endParaRPr b="0" lang="en-US" sz="1400" spc="-1" strike="noStrike">
                <a:solidFill>
                  <a:srgbClr val="000000"/>
                </a:solidFill>
                <a:latin typeface="Calibri"/>
              </a:endParaRPr>
            </a:p>
          </p:txBody>
        </p:sp>
        <p:sp>
          <p:nvSpPr>
            <p:cNvPr id="161" name="Oval 8"/>
            <p:cNvSpPr/>
            <p:nvPr/>
          </p:nvSpPr>
          <p:spPr>
            <a:xfrm>
              <a:off x="1187280" y="1377000"/>
              <a:ext cx="120600" cy="120600"/>
            </a:xfrm>
            <a:prstGeom prst="ellipse">
              <a:avLst/>
            </a:prstGeom>
            <a:solidFill>
              <a:srgbClr val="22a2f2"/>
            </a:solidFill>
            <a:ln w="0">
              <a:noFill/>
            </a:ln>
          </p:spPr>
          <p:style>
            <a:lnRef idx="0"/>
            <a:fillRef idx="0"/>
            <a:effectRef idx="0"/>
            <a:fontRef idx="minor"/>
          </p:style>
          <p:txBody>
            <a:bodyPr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2" name="Isosceles Triangle 11"/>
          <p:cNvSpPr/>
          <p:nvPr/>
        </p:nvSpPr>
        <p:spPr>
          <a:xfrm>
            <a:off x="9617040" y="4638600"/>
            <a:ext cx="2575080" cy="2219400"/>
          </a:xfrm>
          <a:prstGeom prst="triangle">
            <a:avLst>
              <a:gd name="adj" fmla="val 100000"/>
            </a:avLst>
          </a:prstGeom>
          <a:solidFill>
            <a:srgbClr val="f2f2f2">
              <a:alpha val="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Isosceles Triangle 12"/>
          <p:cNvSpPr/>
          <p:nvPr/>
        </p:nvSpPr>
        <p:spPr>
          <a:xfrm>
            <a:off x="10553760" y="5432400"/>
            <a:ext cx="1790640" cy="1544760"/>
          </a:xfrm>
          <a:prstGeom prst="triangle">
            <a:avLst>
              <a:gd name="adj" fmla="val 100000"/>
            </a:avLst>
          </a:prstGeom>
          <a:solidFill>
            <a:srgbClr val="f2f2f2">
              <a:alpha val="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Hexagon 13"/>
          <p:cNvSpPr/>
          <p:nvPr/>
        </p:nvSpPr>
        <p:spPr>
          <a:xfrm rot="16200000">
            <a:off x="8034840" y="2995920"/>
            <a:ext cx="1436760" cy="1238400"/>
          </a:xfrm>
          <a:prstGeom prst="hexagon">
            <a:avLst>
              <a:gd name="adj" fmla="val 22951"/>
              <a:gd name="vf" fmla="val 115470"/>
            </a:avLst>
          </a:prstGeom>
          <a:solidFill>
            <a:srgbClr val="7f7f7f">
              <a:alpha val="5000"/>
            </a:srgbClr>
          </a:solidFill>
          <a:ln w="25560">
            <a:solidFill>
              <a:srgbClr val="f2f2f2">
                <a:alpha val="4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Hexagon 18"/>
          <p:cNvSpPr/>
          <p:nvPr/>
        </p:nvSpPr>
        <p:spPr>
          <a:xfrm rot="5400000">
            <a:off x="7006320" y="1643760"/>
            <a:ext cx="3460680" cy="3303360"/>
          </a:xfrm>
          <a:custGeom>
            <a:avLst/>
            <a:gdLst/>
            <a:ahLst/>
            <a:rect l="l" t="t" r="r" b="b"/>
            <a:pathLst>
              <a:path w="3461579" h="3304125">
                <a:moveTo>
                  <a:pt x="0" y="1567669"/>
                </a:moveTo>
                <a:lnTo>
                  <a:pt x="1228715" y="641026"/>
                </a:lnTo>
                <a:lnTo>
                  <a:pt x="3063121" y="0"/>
                </a:lnTo>
                <a:lnTo>
                  <a:pt x="3455216" y="1560175"/>
                </a:lnTo>
                <a:lnTo>
                  <a:pt x="3461579" y="3304125"/>
                </a:lnTo>
                <a:lnTo>
                  <a:pt x="1214381" y="2857683"/>
                </a:lnTo>
                <a:lnTo>
                  <a:pt x="0" y="1567669"/>
                </a:lnTo>
                <a:close/>
              </a:path>
            </a:pathLst>
          </a:custGeom>
          <a:noFill/>
          <a:ln cap="rnd" w="38160">
            <a:solidFill>
              <a:srgbClr val="32e28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6" name="Hexagon 18"/>
          <p:cNvSpPr/>
          <p:nvPr/>
        </p:nvSpPr>
        <p:spPr>
          <a:xfrm rot="1706400">
            <a:off x="7058160" y="1841400"/>
            <a:ext cx="3244680" cy="3233880"/>
          </a:xfrm>
          <a:custGeom>
            <a:avLst/>
            <a:gdLst/>
            <a:ahLst/>
            <a:rect l="l" t="t" r="r" b="b"/>
            <a:pathLst>
              <a:path w="3018557" h="3139003">
                <a:moveTo>
                  <a:pt x="0" y="1464102"/>
                </a:moveTo>
                <a:lnTo>
                  <a:pt x="876457" y="165800"/>
                </a:lnTo>
                <a:lnTo>
                  <a:pt x="2332151" y="0"/>
                </a:lnTo>
                <a:lnTo>
                  <a:pt x="3018557" y="1692649"/>
                </a:lnTo>
                <a:lnTo>
                  <a:pt x="2519347" y="3136060"/>
                </a:lnTo>
                <a:lnTo>
                  <a:pt x="1048168" y="3139003"/>
                </a:lnTo>
                <a:lnTo>
                  <a:pt x="0" y="1464102"/>
                </a:lnTo>
                <a:close/>
              </a:path>
            </a:pathLst>
          </a:custGeom>
          <a:noFill/>
          <a:ln cap="rnd" w="38160">
            <a:solidFill>
              <a:srgbClr val="22a2f2"/>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7" name="Hexagon 16"/>
          <p:cNvSpPr/>
          <p:nvPr/>
        </p:nvSpPr>
        <p:spPr>
          <a:xfrm rot="16200000">
            <a:off x="8349480" y="3253320"/>
            <a:ext cx="839880" cy="723960"/>
          </a:xfrm>
          <a:prstGeom prst="hexagon">
            <a:avLst>
              <a:gd name="adj" fmla="val 22950"/>
              <a:gd name="vf" fmla="val 115470"/>
            </a:avLst>
          </a:prstGeom>
          <a:solidFill>
            <a:srgbClr val="7f7f7f">
              <a:alpha val="5000"/>
            </a:srgbClr>
          </a:solidFill>
          <a:ln w="25560">
            <a:solidFill>
              <a:srgbClr val="f2f2f2">
                <a:alpha val="4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TextBox 17"/>
          <p:cNvSpPr/>
          <p:nvPr/>
        </p:nvSpPr>
        <p:spPr>
          <a:xfrm>
            <a:off x="10574640" y="198756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546a"/>
                </a:solidFill>
                <a:latin typeface="Raleway SemiBold"/>
                <a:ea typeface="Poppins"/>
              </a:rPr>
              <a:t>Pace</a:t>
            </a:r>
            <a:endParaRPr b="0" lang="en-US" sz="1800" spc="-1" strike="noStrike">
              <a:solidFill>
                <a:srgbClr val="000000"/>
              </a:solidFill>
              <a:latin typeface="Calibri"/>
            </a:endParaRPr>
          </a:p>
        </p:txBody>
      </p:sp>
      <p:sp>
        <p:nvSpPr>
          <p:cNvPr id="169" name="TextBox 23"/>
          <p:cNvSpPr/>
          <p:nvPr/>
        </p:nvSpPr>
        <p:spPr>
          <a:xfrm>
            <a:off x="10613880" y="2330280"/>
            <a:ext cx="5558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6d6ff"/>
                </a:solidFill>
                <a:latin typeface="Poppins"/>
                <a:ea typeface="Poppins"/>
              </a:rPr>
              <a:t>95</a:t>
            </a:r>
            <a:r>
              <a:rPr b="0" lang="en-US" sz="1100" spc="-1" strike="noStrike">
                <a:solidFill>
                  <a:srgbClr val="bfbfbf"/>
                </a:solidFill>
                <a:latin typeface="Poppins"/>
                <a:ea typeface="Poppins"/>
              </a:rPr>
              <a:t>/</a:t>
            </a:r>
            <a:r>
              <a:rPr b="0" lang="en-US" sz="1100" spc="-1" strike="noStrike">
                <a:solidFill>
                  <a:srgbClr val="32e289"/>
                </a:solidFill>
                <a:latin typeface="Poppins"/>
                <a:ea typeface="Poppins"/>
              </a:rPr>
              <a:t>80</a:t>
            </a:r>
            <a:endParaRPr b="0" lang="en-US" sz="1100" spc="-1" strike="noStrike">
              <a:solidFill>
                <a:srgbClr val="000000"/>
              </a:solidFill>
              <a:latin typeface="Calibri"/>
            </a:endParaRPr>
          </a:p>
        </p:txBody>
      </p:sp>
      <p:sp>
        <p:nvSpPr>
          <p:cNvPr id="170" name="TextBox 24"/>
          <p:cNvSpPr/>
          <p:nvPr/>
        </p:nvSpPr>
        <p:spPr>
          <a:xfrm>
            <a:off x="10781280" y="4281480"/>
            <a:ext cx="903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546a"/>
                </a:solidFill>
                <a:latin typeface="Raleway SemiBold"/>
                <a:ea typeface="Poppins"/>
              </a:rPr>
              <a:t>Pysical</a:t>
            </a:r>
            <a:endParaRPr b="0" lang="en-US" sz="1800" spc="-1" strike="noStrike">
              <a:solidFill>
                <a:srgbClr val="000000"/>
              </a:solidFill>
              <a:latin typeface="Calibri"/>
            </a:endParaRPr>
          </a:p>
        </p:txBody>
      </p:sp>
      <p:sp>
        <p:nvSpPr>
          <p:cNvPr id="171" name="TextBox 25"/>
          <p:cNvSpPr/>
          <p:nvPr/>
        </p:nvSpPr>
        <p:spPr>
          <a:xfrm>
            <a:off x="10953720" y="4643280"/>
            <a:ext cx="5558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6d6ff"/>
                </a:solidFill>
                <a:latin typeface="Poppins"/>
                <a:ea typeface="Poppins"/>
              </a:rPr>
              <a:t>95</a:t>
            </a:r>
            <a:r>
              <a:rPr b="0" lang="en-US" sz="1100" spc="-1" strike="noStrike">
                <a:solidFill>
                  <a:srgbClr val="bfbfbf"/>
                </a:solidFill>
                <a:latin typeface="Poppins"/>
                <a:ea typeface="Poppins"/>
              </a:rPr>
              <a:t>/</a:t>
            </a:r>
            <a:r>
              <a:rPr b="0" lang="en-US" sz="1100" spc="-1" strike="noStrike">
                <a:solidFill>
                  <a:srgbClr val="32e289"/>
                </a:solidFill>
                <a:latin typeface="Poppins"/>
                <a:ea typeface="Poppins"/>
              </a:rPr>
              <a:t>80</a:t>
            </a:r>
            <a:endParaRPr b="0" lang="en-US" sz="1100" spc="-1" strike="noStrike">
              <a:solidFill>
                <a:srgbClr val="000000"/>
              </a:solidFill>
              <a:latin typeface="Calibri"/>
            </a:endParaRPr>
          </a:p>
        </p:txBody>
      </p:sp>
      <p:sp>
        <p:nvSpPr>
          <p:cNvPr id="172" name="TextBox 34"/>
          <p:cNvSpPr/>
          <p:nvPr/>
        </p:nvSpPr>
        <p:spPr>
          <a:xfrm>
            <a:off x="8414280" y="5581800"/>
            <a:ext cx="1008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546a"/>
                </a:solidFill>
                <a:latin typeface="Raleway SemiBold"/>
                <a:ea typeface="Poppins"/>
              </a:rPr>
              <a:t>Passing</a:t>
            </a:r>
            <a:endParaRPr b="0" lang="en-US" sz="1800" spc="-1" strike="noStrike">
              <a:solidFill>
                <a:srgbClr val="000000"/>
              </a:solidFill>
              <a:latin typeface="Calibri"/>
            </a:endParaRPr>
          </a:p>
        </p:txBody>
      </p:sp>
      <p:sp>
        <p:nvSpPr>
          <p:cNvPr id="173" name="TextBox 35"/>
          <p:cNvSpPr/>
          <p:nvPr/>
        </p:nvSpPr>
        <p:spPr>
          <a:xfrm>
            <a:off x="8611200" y="5950080"/>
            <a:ext cx="5558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6d6ff"/>
                </a:solidFill>
                <a:latin typeface="Poppins"/>
                <a:ea typeface="Poppins"/>
              </a:rPr>
              <a:t>95</a:t>
            </a:r>
            <a:r>
              <a:rPr b="0" lang="en-US" sz="1100" spc="-1" strike="noStrike">
                <a:solidFill>
                  <a:srgbClr val="bfbfbf"/>
                </a:solidFill>
                <a:latin typeface="Poppins"/>
                <a:ea typeface="Poppins"/>
              </a:rPr>
              <a:t>/</a:t>
            </a:r>
            <a:r>
              <a:rPr b="0" lang="en-US" sz="1100" spc="-1" strike="noStrike">
                <a:solidFill>
                  <a:srgbClr val="32e289"/>
                </a:solidFill>
                <a:latin typeface="Poppins"/>
                <a:ea typeface="Poppins"/>
              </a:rPr>
              <a:t>80</a:t>
            </a:r>
            <a:endParaRPr b="0" lang="en-US" sz="1100" spc="-1" strike="noStrike">
              <a:solidFill>
                <a:srgbClr val="000000"/>
              </a:solidFill>
              <a:latin typeface="Calibri"/>
            </a:endParaRPr>
          </a:p>
        </p:txBody>
      </p:sp>
      <p:sp>
        <p:nvSpPr>
          <p:cNvPr id="174" name="TextBox 36"/>
          <p:cNvSpPr/>
          <p:nvPr/>
        </p:nvSpPr>
        <p:spPr>
          <a:xfrm>
            <a:off x="6032520" y="4890960"/>
            <a:ext cx="79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546a"/>
                </a:solidFill>
                <a:latin typeface="Raleway SemiBold"/>
                <a:ea typeface="Poppins"/>
              </a:rPr>
              <a:t>Assist</a:t>
            </a:r>
            <a:endParaRPr b="0" lang="en-US" sz="1800" spc="-1" strike="noStrike">
              <a:solidFill>
                <a:srgbClr val="000000"/>
              </a:solidFill>
              <a:latin typeface="Calibri"/>
            </a:endParaRPr>
          </a:p>
        </p:txBody>
      </p:sp>
      <p:sp>
        <p:nvSpPr>
          <p:cNvPr id="175" name="TextBox 37"/>
          <p:cNvSpPr/>
          <p:nvPr/>
        </p:nvSpPr>
        <p:spPr>
          <a:xfrm>
            <a:off x="6157800" y="5237280"/>
            <a:ext cx="5558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6d6ff"/>
                </a:solidFill>
                <a:latin typeface="Poppins"/>
                <a:ea typeface="Poppins"/>
              </a:rPr>
              <a:t>95</a:t>
            </a:r>
            <a:r>
              <a:rPr b="0" lang="en-US" sz="1100" spc="-1" strike="noStrike">
                <a:solidFill>
                  <a:srgbClr val="bfbfbf"/>
                </a:solidFill>
                <a:latin typeface="Poppins"/>
                <a:ea typeface="Poppins"/>
              </a:rPr>
              <a:t>/</a:t>
            </a:r>
            <a:r>
              <a:rPr b="0" lang="en-US" sz="1100" spc="-1" strike="noStrike">
                <a:solidFill>
                  <a:srgbClr val="32e289"/>
                </a:solidFill>
                <a:latin typeface="Poppins"/>
                <a:ea typeface="Poppins"/>
              </a:rPr>
              <a:t>80</a:t>
            </a:r>
            <a:endParaRPr b="0" lang="en-US" sz="1100" spc="-1" strike="noStrike">
              <a:solidFill>
                <a:srgbClr val="000000"/>
              </a:solidFill>
              <a:latin typeface="Calibri"/>
            </a:endParaRPr>
          </a:p>
        </p:txBody>
      </p:sp>
      <p:sp>
        <p:nvSpPr>
          <p:cNvPr id="176" name="TextBox 38"/>
          <p:cNvSpPr/>
          <p:nvPr/>
        </p:nvSpPr>
        <p:spPr>
          <a:xfrm>
            <a:off x="6125400" y="2257560"/>
            <a:ext cx="782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546a"/>
                </a:solidFill>
                <a:latin typeface="Raleway SemiBold"/>
                <a:ea typeface="Poppins"/>
              </a:rPr>
              <a:t>Goals</a:t>
            </a:r>
            <a:endParaRPr b="0" lang="en-US" sz="1800" spc="-1" strike="noStrike">
              <a:solidFill>
                <a:srgbClr val="000000"/>
              </a:solidFill>
              <a:latin typeface="Calibri"/>
            </a:endParaRPr>
          </a:p>
        </p:txBody>
      </p:sp>
      <p:sp>
        <p:nvSpPr>
          <p:cNvPr id="177" name="TextBox 39"/>
          <p:cNvSpPr/>
          <p:nvPr/>
        </p:nvSpPr>
        <p:spPr>
          <a:xfrm>
            <a:off x="6252840" y="2603520"/>
            <a:ext cx="5558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6d6ff"/>
                </a:solidFill>
                <a:latin typeface="Poppins"/>
                <a:ea typeface="Poppins"/>
              </a:rPr>
              <a:t>95</a:t>
            </a:r>
            <a:r>
              <a:rPr b="0" lang="en-US" sz="1100" spc="-1" strike="noStrike">
                <a:solidFill>
                  <a:srgbClr val="bfbfbf"/>
                </a:solidFill>
                <a:latin typeface="Poppins"/>
                <a:ea typeface="Poppins"/>
              </a:rPr>
              <a:t>/</a:t>
            </a:r>
            <a:r>
              <a:rPr b="0" lang="en-US" sz="1100" spc="-1" strike="noStrike">
                <a:solidFill>
                  <a:srgbClr val="32e289"/>
                </a:solidFill>
                <a:latin typeface="Poppins"/>
                <a:ea typeface="Poppins"/>
              </a:rPr>
              <a:t>80</a:t>
            </a:r>
            <a:endParaRPr b="0" lang="en-US" sz="1100" spc="-1" strike="noStrike">
              <a:solidFill>
                <a:srgbClr val="000000"/>
              </a:solidFill>
              <a:latin typeface="Calibri"/>
            </a:endParaRPr>
          </a:p>
        </p:txBody>
      </p:sp>
      <p:sp>
        <p:nvSpPr>
          <p:cNvPr id="178" name="TextBox 40"/>
          <p:cNvSpPr/>
          <p:nvPr/>
        </p:nvSpPr>
        <p:spPr>
          <a:xfrm>
            <a:off x="8150040" y="846000"/>
            <a:ext cx="131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546a"/>
                </a:solidFill>
                <a:latin typeface="Raleway SemiBold"/>
                <a:ea typeface="Poppins"/>
              </a:rPr>
              <a:t>Defending</a:t>
            </a:r>
            <a:endParaRPr b="0" lang="en-US" sz="1800" spc="-1" strike="noStrike">
              <a:solidFill>
                <a:srgbClr val="000000"/>
              </a:solidFill>
              <a:latin typeface="Calibri"/>
            </a:endParaRPr>
          </a:p>
        </p:txBody>
      </p:sp>
      <p:sp>
        <p:nvSpPr>
          <p:cNvPr id="179" name="TextBox 41"/>
          <p:cNvSpPr/>
          <p:nvPr/>
        </p:nvSpPr>
        <p:spPr>
          <a:xfrm>
            <a:off x="8524800" y="1192320"/>
            <a:ext cx="5558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6d6ff"/>
                </a:solidFill>
                <a:latin typeface="Poppins"/>
                <a:ea typeface="Poppins"/>
              </a:rPr>
              <a:t>95</a:t>
            </a:r>
            <a:r>
              <a:rPr b="0" lang="en-US" sz="1100" spc="-1" strike="noStrike">
                <a:solidFill>
                  <a:srgbClr val="bfbfbf"/>
                </a:solidFill>
                <a:latin typeface="Poppins"/>
                <a:ea typeface="Poppins"/>
              </a:rPr>
              <a:t>/</a:t>
            </a:r>
            <a:r>
              <a:rPr b="0" lang="en-US" sz="1100" spc="-1" strike="noStrike">
                <a:solidFill>
                  <a:srgbClr val="32e289"/>
                </a:solidFill>
                <a:latin typeface="Poppins"/>
                <a:ea typeface="Poppins"/>
              </a:rPr>
              <a:t>80</a:t>
            </a:r>
            <a:endParaRPr b="0" lang="en-US" sz="1100" spc="-1" strike="noStrike">
              <a:solidFill>
                <a:srgbClr val="000000"/>
              </a:solidFill>
              <a:latin typeface="Calibri"/>
            </a:endParaRPr>
          </a:p>
        </p:txBody>
      </p:sp>
      <p:sp>
        <p:nvSpPr>
          <p:cNvPr id="180" name="AutoShape 2"/>
          <p:cNvSpPr/>
          <p:nvPr/>
        </p:nvSpPr>
        <p:spPr>
          <a:xfrm>
            <a:off x="5943600" y="321804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 name="Rectangle: Rounded Corners 49"/>
          <p:cNvSpPr/>
          <p:nvPr/>
        </p:nvSpPr>
        <p:spPr>
          <a:xfrm>
            <a:off x="2465280" y="2927520"/>
            <a:ext cx="2732040" cy="83880"/>
          </a:xfrm>
          <a:prstGeom prst="roundRect">
            <a:avLst>
              <a:gd name="adj" fmla="val 16667"/>
            </a:avLst>
          </a:prstGeom>
          <a:solidFill>
            <a:srgbClr val="06d6ff"/>
          </a:solidFill>
          <a:ln w="0">
            <a:noFill/>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Rectangle: Rounded Corners 50"/>
          <p:cNvSpPr/>
          <p:nvPr/>
        </p:nvSpPr>
        <p:spPr>
          <a:xfrm>
            <a:off x="1228680" y="2927520"/>
            <a:ext cx="1081080" cy="83880"/>
          </a:xfrm>
          <a:prstGeom prst="roundRect">
            <a:avLst>
              <a:gd name="adj" fmla="val 16667"/>
            </a:avLst>
          </a:prstGeom>
          <a:solidFill>
            <a:srgbClr val="37e08b"/>
          </a:solidFill>
          <a:ln w="0">
            <a:noFill/>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83" name="Group 4"/>
          <p:cNvGrpSpPr/>
          <p:nvPr/>
        </p:nvGrpSpPr>
        <p:grpSpPr>
          <a:xfrm>
            <a:off x="3594240" y="1201680"/>
            <a:ext cx="1757160" cy="471600"/>
            <a:chOff x="3594240" y="1201680"/>
            <a:chExt cx="1757160" cy="471600"/>
          </a:xfrm>
        </p:grpSpPr>
        <p:sp>
          <p:nvSpPr>
            <p:cNvPr id="184" name="Rectangle: Rounded Corners 51"/>
            <p:cNvSpPr/>
            <p:nvPr/>
          </p:nvSpPr>
          <p:spPr>
            <a:xfrm>
              <a:off x="3594240" y="1201680"/>
              <a:ext cx="1757160" cy="471600"/>
            </a:xfrm>
            <a:prstGeom prst="roundRect">
              <a:avLst>
                <a:gd name="adj" fmla="val 50000"/>
              </a:avLst>
            </a:prstGeom>
            <a:solidFill>
              <a:srgbClr val="bfbfbf">
                <a:alpha val="4000"/>
              </a:srgbClr>
            </a:solidFill>
            <a:ln w="31680">
              <a:solidFill>
                <a:srgbClr val="a6a6a6">
                  <a:alpha val="2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TextBox 52"/>
            <p:cNvSpPr/>
            <p:nvPr/>
          </p:nvSpPr>
          <p:spPr>
            <a:xfrm>
              <a:off x="4083480" y="128340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Raleway SemiBold"/>
                  <a:ea typeface="Poppins"/>
                </a:rPr>
                <a:t>Player B</a:t>
              </a:r>
              <a:endParaRPr b="0" lang="en-US" sz="1400" spc="-1" strike="noStrike">
                <a:solidFill>
                  <a:srgbClr val="000000"/>
                </a:solidFill>
                <a:latin typeface="Calibri"/>
              </a:endParaRPr>
            </a:p>
          </p:txBody>
        </p:sp>
        <p:sp>
          <p:nvSpPr>
            <p:cNvPr id="186" name="Oval 53"/>
            <p:cNvSpPr/>
            <p:nvPr/>
          </p:nvSpPr>
          <p:spPr>
            <a:xfrm>
              <a:off x="3827880" y="1377000"/>
              <a:ext cx="120600" cy="120600"/>
            </a:xfrm>
            <a:prstGeom prst="ellipse">
              <a:avLst/>
            </a:prstGeom>
            <a:solidFill>
              <a:srgbClr val="37e08b"/>
            </a:solidFill>
            <a:ln w="0">
              <a:noFill/>
            </a:ln>
          </p:spPr>
          <p:style>
            <a:lnRef idx="0"/>
            <a:fillRef idx="0"/>
            <a:effectRef idx="0"/>
            <a:fontRef idx="minor"/>
          </p:style>
          <p:txBody>
            <a:bodyPr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7" name="TextBox 55"/>
          <p:cNvSpPr/>
          <p:nvPr/>
        </p:nvSpPr>
        <p:spPr>
          <a:xfrm>
            <a:off x="2967840" y="2441520"/>
            <a:ext cx="714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Raleway SemiBold"/>
                <a:ea typeface="Poppins"/>
              </a:rPr>
              <a:t>Goals</a:t>
            </a:r>
            <a:endParaRPr b="0" lang="en-US" sz="1600" spc="-1" strike="noStrike">
              <a:solidFill>
                <a:srgbClr val="000000"/>
              </a:solidFill>
              <a:latin typeface="Calibri"/>
            </a:endParaRPr>
          </a:p>
        </p:txBody>
      </p:sp>
      <p:sp>
        <p:nvSpPr>
          <p:cNvPr id="188" name="Rectangle: Rounded Corners 58"/>
          <p:cNvSpPr/>
          <p:nvPr/>
        </p:nvSpPr>
        <p:spPr>
          <a:xfrm>
            <a:off x="3586320" y="3740040"/>
            <a:ext cx="1573200" cy="84240"/>
          </a:xfrm>
          <a:prstGeom prst="roundRect">
            <a:avLst>
              <a:gd name="adj" fmla="val 16667"/>
            </a:avLst>
          </a:prstGeom>
          <a:solidFill>
            <a:srgbClr val="06d6ff"/>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Rectangle: Rounded Corners 59"/>
          <p:cNvSpPr/>
          <p:nvPr/>
        </p:nvSpPr>
        <p:spPr>
          <a:xfrm>
            <a:off x="1192320" y="3740040"/>
            <a:ext cx="2295360" cy="84240"/>
          </a:xfrm>
          <a:prstGeom prst="roundRect">
            <a:avLst>
              <a:gd name="adj" fmla="val 16667"/>
            </a:avLst>
          </a:prstGeom>
          <a:solidFill>
            <a:srgbClr val="37e08b"/>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TextBox 60"/>
          <p:cNvSpPr/>
          <p:nvPr/>
        </p:nvSpPr>
        <p:spPr>
          <a:xfrm>
            <a:off x="2750760" y="3268800"/>
            <a:ext cx="114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Raleway SemiBold"/>
                <a:ea typeface="Poppins"/>
              </a:rPr>
              <a:t>Drfending</a:t>
            </a:r>
            <a:endParaRPr b="0" lang="en-US" sz="1600" spc="-1" strike="noStrike">
              <a:solidFill>
                <a:srgbClr val="000000"/>
              </a:solidFill>
              <a:latin typeface="Calibri"/>
            </a:endParaRPr>
          </a:p>
        </p:txBody>
      </p:sp>
      <p:sp>
        <p:nvSpPr>
          <p:cNvPr id="191" name="Rectangle: Rounded Corners 67"/>
          <p:cNvSpPr/>
          <p:nvPr/>
        </p:nvSpPr>
        <p:spPr>
          <a:xfrm>
            <a:off x="3040200" y="4448160"/>
            <a:ext cx="2157120" cy="84240"/>
          </a:xfrm>
          <a:prstGeom prst="roundRect">
            <a:avLst>
              <a:gd name="adj" fmla="val 16667"/>
            </a:avLst>
          </a:prstGeom>
          <a:solidFill>
            <a:srgbClr val="06d6ff"/>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Rectangle: Rounded Corners 68"/>
          <p:cNvSpPr/>
          <p:nvPr/>
        </p:nvSpPr>
        <p:spPr>
          <a:xfrm>
            <a:off x="1228680" y="4448160"/>
            <a:ext cx="1698840" cy="84240"/>
          </a:xfrm>
          <a:prstGeom prst="roundRect">
            <a:avLst>
              <a:gd name="adj" fmla="val 16667"/>
            </a:avLst>
          </a:prstGeom>
          <a:solidFill>
            <a:srgbClr val="37e08b"/>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TextBox 69"/>
          <p:cNvSpPr/>
          <p:nvPr/>
        </p:nvSpPr>
        <p:spPr>
          <a:xfrm>
            <a:off x="3010320" y="3960720"/>
            <a:ext cx="628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Raleway SemiBold"/>
                <a:ea typeface="Poppins"/>
              </a:rPr>
              <a:t>Pace</a:t>
            </a:r>
            <a:endParaRPr b="0" lang="en-US" sz="1600" spc="-1" strike="noStrike">
              <a:solidFill>
                <a:srgbClr val="000000"/>
              </a:solidFill>
              <a:latin typeface="Calibri"/>
            </a:endParaRPr>
          </a:p>
        </p:txBody>
      </p:sp>
      <p:sp>
        <p:nvSpPr>
          <p:cNvPr id="194" name="Rectangle: Rounded Corners 70"/>
          <p:cNvSpPr/>
          <p:nvPr/>
        </p:nvSpPr>
        <p:spPr>
          <a:xfrm>
            <a:off x="3586320" y="5259240"/>
            <a:ext cx="1573200" cy="84240"/>
          </a:xfrm>
          <a:prstGeom prst="roundRect">
            <a:avLst>
              <a:gd name="adj" fmla="val 16667"/>
            </a:avLst>
          </a:prstGeom>
          <a:solidFill>
            <a:srgbClr val="06d6ff"/>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Rectangle: Rounded Corners 71"/>
          <p:cNvSpPr/>
          <p:nvPr/>
        </p:nvSpPr>
        <p:spPr>
          <a:xfrm>
            <a:off x="1192320" y="5259240"/>
            <a:ext cx="2295360" cy="84240"/>
          </a:xfrm>
          <a:prstGeom prst="roundRect">
            <a:avLst>
              <a:gd name="adj" fmla="val 16667"/>
            </a:avLst>
          </a:prstGeom>
          <a:solidFill>
            <a:srgbClr val="37e08b"/>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TextBox 72"/>
          <p:cNvSpPr/>
          <p:nvPr/>
        </p:nvSpPr>
        <p:spPr>
          <a:xfrm>
            <a:off x="2868120" y="4789440"/>
            <a:ext cx="913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Raleway SemiBold"/>
                <a:ea typeface="Poppins"/>
              </a:rPr>
              <a:t>Passing</a:t>
            </a:r>
            <a:endParaRPr b="0" lang="en-US" sz="1600" spc="-1" strike="noStrike">
              <a:solidFill>
                <a:srgbClr val="000000"/>
              </a:solidFill>
              <a:latin typeface="Calibri"/>
            </a:endParaRPr>
          </a:p>
        </p:txBody>
      </p:sp>
      <p:sp>
        <p:nvSpPr>
          <p:cNvPr id="197" name="Oval 3"/>
          <p:cNvSpPr/>
          <p:nvPr/>
        </p:nvSpPr>
        <p:spPr>
          <a:xfrm>
            <a:off x="2268360" y="2838600"/>
            <a:ext cx="258840" cy="258480"/>
          </a:xfrm>
          <a:prstGeom prst="ellipse">
            <a:avLst/>
          </a:prstGeom>
          <a:solidFill>
            <a:srgbClr val="030227"/>
          </a:solidFill>
          <a:ln w="12600">
            <a:solidFill>
              <a:srgbClr val="a5a5a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Oval 46"/>
          <p:cNvSpPr/>
          <p:nvPr/>
        </p:nvSpPr>
        <p:spPr>
          <a:xfrm>
            <a:off x="3384720" y="3651120"/>
            <a:ext cx="258480" cy="260640"/>
          </a:xfrm>
          <a:prstGeom prst="ellipse">
            <a:avLst/>
          </a:prstGeom>
          <a:solidFill>
            <a:srgbClr val="030227"/>
          </a:solidFill>
          <a:ln w="12600">
            <a:solidFill>
              <a:srgbClr val="a5a5a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9" name="Oval 47"/>
          <p:cNvSpPr/>
          <p:nvPr/>
        </p:nvSpPr>
        <p:spPr>
          <a:xfrm>
            <a:off x="2886120" y="4359240"/>
            <a:ext cx="258840" cy="258840"/>
          </a:xfrm>
          <a:prstGeom prst="ellipse">
            <a:avLst/>
          </a:prstGeom>
          <a:solidFill>
            <a:srgbClr val="030227"/>
          </a:solidFill>
          <a:ln w="12600">
            <a:solidFill>
              <a:srgbClr val="a5a5a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Oval 54"/>
          <p:cNvSpPr/>
          <p:nvPr/>
        </p:nvSpPr>
        <p:spPr>
          <a:xfrm>
            <a:off x="3365640" y="5172120"/>
            <a:ext cx="258480" cy="258840"/>
          </a:xfrm>
          <a:prstGeom prst="ellipse">
            <a:avLst/>
          </a:prstGeom>
          <a:solidFill>
            <a:srgbClr val="030227"/>
          </a:solidFill>
          <a:ln w="12600">
            <a:solidFill>
              <a:srgbClr val="a5a5a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Straight Connector 56"/>
          <p:cNvSpPr/>
          <p:nvPr/>
        </p:nvSpPr>
        <p:spPr>
          <a:xfrm flipH="1">
            <a:off x="3776760" y="0"/>
            <a:ext cx="172800" cy="179280"/>
          </a:xfrm>
          <a:prstGeom prst="line">
            <a:avLst/>
          </a:prstGeom>
          <a:ln w="6480">
            <a:solidFill>
              <a:srgbClr val="06d6ff">
                <a:alpha val="36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traight Connector 103"/>
          <p:cNvSpPr/>
          <p:nvPr/>
        </p:nvSpPr>
        <p:spPr>
          <a:xfrm flipH="1">
            <a:off x="11210400" y="6526080"/>
            <a:ext cx="320760" cy="331920"/>
          </a:xfrm>
          <a:prstGeom prst="line">
            <a:avLst/>
          </a:prstGeom>
          <a:ln w="6480">
            <a:solidFill>
              <a:srgbClr val="06d6ff">
                <a:alpha val="36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3" name="Rectangle: Rounded Corners 104"/>
          <p:cNvSpPr/>
          <p:nvPr/>
        </p:nvSpPr>
        <p:spPr>
          <a:xfrm rot="2700000">
            <a:off x="400680" y="5204520"/>
            <a:ext cx="144360" cy="142920"/>
          </a:xfrm>
          <a:prstGeom prst="roundRect">
            <a:avLst>
              <a:gd name="adj" fmla="val 16667"/>
            </a:avLst>
          </a:prstGeom>
          <a:solidFill>
            <a:srgbClr val="06d6ff">
              <a:alpha val="1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04" name="Group 76"/>
          <p:cNvGrpSpPr/>
          <p:nvPr/>
        </p:nvGrpSpPr>
        <p:grpSpPr>
          <a:xfrm>
            <a:off x="1587600" y="2216160"/>
            <a:ext cx="2133360" cy="2131920"/>
            <a:chOff x="1587600" y="2216160"/>
            <a:chExt cx="2133360" cy="2131920"/>
          </a:xfrm>
        </p:grpSpPr>
        <p:sp>
          <p:nvSpPr>
            <p:cNvPr id="205" name="Graphic 7"/>
            <p:cNvSpPr/>
            <p:nvPr/>
          </p:nvSpPr>
          <p:spPr>
            <a:xfrm>
              <a:off x="1587600" y="2216160"/>
              <a:ext cx="2133360" cy="2131920"/>
            </a:xfrm>
            <a:custGeom>
              <a:avLst/>
              <a:gdLst/>
              <a:ahLst/>
              <a:rect l="l" t="t" r="r" b="b"/>
              <a:pathLst>
                <a:path w="1518918" h="1518918">
                  <a:moveTo>
                    <a:pt x="759459" y="1027504"/>
                  </a:moveTo>
                  <a:cubicBezTo>
                    <a:pt x="612035" y="1027504"/>
                    <a:pt x="491415" y="906884"/>
                    <a:pt x="491415" y="759459"/>
                  </a:cubicBezTo>
                  <a:cubicBezTo>
                    <a:pt x="491415" y="612035"/>
                    <a:pt x="612035" y="491415"/>
                    <a:pt x="759459" y="491415"/>
                  </a:cubicBezTo>
                  <a:cubicBezTo>
                    <a:pt x="906884" y="491415"/>
                    <a:pt x="1027504" y="612035"/>
                    <a:pt x="1027504" y="759459"/>
                  </a:cubicBezTo>
                  <a:cubicBezTo>
                    <a:pt x="1027504" y="906884"/>
                    <a:pt x="906884" y="1027504"/>
                    <a:pt x="759459" y="1027504"/>
                  </a:cubicBezTo>
                  <a:close/>
                  <a:moveTo>
                    <a:pt x="1362560" y="591932"/>
                  </a:moveTo>
                  <a:cubicBezTo>
                    <a:pt x="1349157" y="542790"/>
                    <a:pt x="1329054" y="495882"/>
                    <a:pt x="1304483" y="453442"/>
                  </a:cubicBezTo>
                  <a:lnTo>
                    <a:pt x="1360326" y="285914"/>
                  </a:lnTo>
                  <a:lnTo>
                    <a:pt x="1233005" y="158593"/>
                  </a:lnTo>
                  <a:lnTo>
                    <a:pt x="1065477" y="214436"/>
                  </a:lnTo>
                  <a:cubicBezTo>
                    <a:pt x="1020803" y="189865"/>
                    <a:pt x="973895" y="169762"/>
                    <a:pt x="924754" y="156359"/>
                  </a:cubicBezTo>
                  <a:lnTo>
                    <a:pt x="848808" y="0"/>
                  </a:lnTo>
                  <a:lnTo>
                    <a:pt x="670111" y="0"/>
                  </a:lnTo>
                  <a:lnTo>
                    <a:pt x="591932" y="156359"/>
                  </a:lnTo>
                  <a:cubicBezTo>
                    <a:pt x="542790" y="169762"/>
                    <a:pt x="495882" y="189865"/>
                    <a:pt x="453442" y="214436"/>
                  </a:cubicBezTo>
                  <a:lnTo>
                    <a:pt x="285914" y="158593"/>
                  </a:lnTo>
                  <a:lnTo>
                    <a:pt x="158593" y="285914"/>
                  </a:lnTo>
                  <a:lnTo>
                    <a:pt x="214436" y="453442"/>
                  </a:lnTo>
                  <a:cubicBezTo>
                    <a:pt x="189865" y="498116"/>
                    <a:pt x="169762" y="545024"/>
                    <a:pt x="156359" y="594165"/>
                  </a:cubicBezTo>
                  <a:lnTo>
                    <a:pt x="0" y="670111"/>
                  </a:lnTo>
                  <a:lnTo>
                    <a:pt x="0" y="848808"/>
                  </a:lnTo>
                  <a:lnTo>
                    <a:pt x="156359" y="926987"/>
                  </a:lnTo>
                  <a:cubicBezTo>
                    <a:pt x="169762" y="976129"/>
                    <a:pt x="189865" y="1023037"/>
                    <a:pt x="214436" y="1065477"/>
                  </a:cubicBezTo>
                  <a:lnTo>
                    <a:pt x="158593" y="1233005"/>
                  </a:lnTo>
                  <a:lnTo>
                    <a:pt x="285914" y="1360326"/>
                  </a:lnTo>
                  <a:lnTo>
                    <a:pt x="453442" y="1304483"/>
                  </a:lnTo>
                  <a:cubicBezTo>
                    <a:pt x="498116" y="1329054"/>
                    <a:pt x="545024" y="1349157"/>
                    <a:pt x="594165" y="1362560"/>
                  </a:cubicBezTo>
                  <a:lnTo>
                    <a:pt x="672345" y="1518919"/>
                  </a:lnTo>
                  <a:lnTo>
                    <a:pt x="851041" y="1518919"/>
                  </a:lnTo>
                  <a:lnTo>
                    <a:pt x="929221" y="1362560"/>
                  </a:lnTo>
                  <a:cubicBezTo>
                    <a:pt x="978362" y="1349157"/>
                    <a:pt x="1025270" y="1329054"/>
                    <a:pt x="1067711" y="1304483"/>
                  </a:cubicBezTo>
                  <a:lnTo>
                    <a:pt x="1235239" y="1360326"/>
                  </a:lnTo>
                  <a:lnTo>
                    <a:pt x="1362560" y="1233005"/>
                  </a:lnTo>
                  <a:lnTo>
                    <a:pt x="1306717" y="1065477"/>
                  </a:lnTo>
                  <a:cubicBezTo>
                    <a:pt x="1331288" y="1020803"/>
                    <a:pt x="1351391" y="973895"/>
                    <a:pt x="1364793" y="924754"/>
                  </a:cubicBezTo>
                  <a:lnTo>
                    <a:pt x="1521153" y="846574"/>
                  </a:lnTo>
                  <a:lnTo>
                    <a:pt x="1521153" y="667878"/>
                  </a:lnTo>
                  <a:lnTo>
                    <a:pt x="1362560" y="591932"/>
                  </a:lnTo>
                  <a:close/>
                </a:path>
              </a:pathLst>
            </a:custGeom>
            <a:solidFill>
              <a:srgbClr val="06d6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6" name="Oval 9"/>
            <p:cNvSpPr/>
            <p:nvPr/>
          </p:nvSpPr>
          <p:spPr>
            <a:xfrm>
              <a:off x="2042640" y="2670840"/>
              <a:ext cx="1223280" cy="1222560"/>
            </a:xfrm>
            <a:prstGeom prst="ellipse">
              <a:avLst/>
            </a:prstGeom>
            <a:solidFill>
              <a:srgbClr val="1817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07" name="Oval 10"/>
            <p:cNvGrpSpPr/>
            <p:nvPr/>
          </p:nvGrpSpPr>
          <p:grpSpPr>
            <a:xfrm>
              <a:off x="2127600" y="2761560"/>
              <a:ext cx="1048680" cy="1047960"/>
              <a:chOff x="2127600" y="2761560"/>
              <a:chExt cx="1048680" cy="1047960"/>
            </a:xfrm>
          </p:grpSpPr>
          <p:pic>
            <p:nvPicPr>
              <p:cNvPr id="208" name="Oval 10" descr=""/>
              <p:cNvPicPr/>
              <p:nvPr/>
            </p:nvPicPr>
            <p:blipFill>
              <a:blip r:embed="rId1"/>
              <a:stretch/>
            </p:blipFill>
            <p:spPr>
              <a:xfrm>
                <a:off x="2127600" y="2761560"/>
                <a:ext cx="1048680" cy="1047960"/>
              </a:xfrm>
              <a:prstGeom prst="rect">
                <a:avLst/>
              </a:prstGeom>
              <a:ln w="0">
                <a:noFill/>
              </a:ln>
            </p:spPr>
          </p:pic>
          <p:sp>
            <p:nvSpPr>
              <p:cNvPr id="209" name=""/>
              <p:cNvSpPr/>
              <p:nvPr/>
            </p:nvSpPr>
            <p:spPr>
              <a:xfrm>
                <a:off x="2283840" y="2914560"/>
                <a:ext cx="740520" cy="740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0" name="Rectangle 7"/>
            <p:cNvSpPr/>
            <p:nvPr/>
          </p:nvSpPr>
          <p:spPr>
            <a:xfrm>
              <a:off x="2446920" y="3075120"/>
              <a:ext cx="414360" cy="4140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1" name="Group 74"/>
          <p:cNvGrpSpPr/>
          <p:nvPr/>
        </p:nvGrpSpPr>
        <p:grpSpPr>
          <a:xfrm>
            <a:off x="3116880" y="2676240"/>
            <a:ext cx="2813040" cy="2813400"/>
            <a:chOff x="3116880" y="2676240"/>
            <a:chExt cx="2813040" cy="2813400"/>
          </a:xfrm>
        </p:grpSpPr>
        <p:sp>
          <p:nvSpPr>
            <p:cNvPr id="212" name="Graphic 7"/>
            <p:cNvSpPr/>
            <p:nvPr/>
          </p:nvSpPr>
          <p:spPr>
            <a:xfrm rot="1430400">
              <a:off x="3457080" y="3016080"/>
              <a:ext cx="2132280" cy="2133720"/>
            </a:xfrm>
            <a:custGeom>
              <a:avLst/>
              <a:gdLst/>
              <a:ahLst/>
              <a:rect l="l" t="t" r="r" b="b"/>
              <a:pathLst>
                <a:path w="1518918" h="1518918">
                  <a:moveTo>
                    <a:pt x="759459" y="1027504"/>
                  </a:moveTo>
                  <a:cubicBezTo>
                    <a:pt x="612035" y="1027504"/>
                    <a:pt x="491415" y="906884"/>
                    <a:pt x="491415" y="759459"/>
                  </a:cubicBezTo>
                  <a:cubicBezTo>
                    <a:pt x="491415" y="612035"/>
                    <a:pt x="612035" y="491415"/>
                    <a:pt x="759459" y="491415"/>
                  </a:cubicBezTo>
                  <a:cubicBezTo>
                    <a:pt x="906884" y="491415"/>
                    <a:pt x="1027504" y="612035"/>
                    <a:pt x="1027504" y="759459"/>
                  </a:cubicBezTo>
                  <a:cubicBezTo>
                    <a:pt x="1027504" y="906884"/>
                    <a:pt x="906884" y="1027504"/>
                    <a:pt x="759459" y="1027504"/>
                  </a:cubicBezTo>
                  <a:close/>
                  <a:moveTo>
                    <a:pt x="1362560" y="591932"/>
                  </a:moveTo>
                  <a:cubicBezTo>
                    <a:pt x="1349157" y="542790"/>
                    <a:pt x="1329054" y="495882"/>
                    <a:pt x="1304483" y="453442"/>
                  </a:cubicBezTo>
                  <a:lnTo>
                    <a:pt x="1360326" y="285914"/>
                  </a:lnTo>
                  <a:lnTo>
                    <a:pt x="1233005" y="158593"/>
                  </a:lnTo>
                  <a:lnTo>
                    <a:pt x="1065477" y="214436"/>
                  </a:lnTo>
                  <a:cubicBezTo>
                    <a:pt x="1020803" y="189865"/>
                    <a:pt x="973895" y="169762"/>
                    <a:pt x="924754" y="156359"/>
                  </a:cubicBezTo>
                  <a:lnTo>
                    <a:pt x="848808" y="0"/>
                  </a:lnTo>
                  <a:lnTo>
                    <a:pt x="670111" y="0"/>
                  </a:lnTo>
                  <a:lnTo>
                    <a:pt x="591932" y="156359"/>
                  </a:lnTo>
                  <a:cubicBezTo>
                    <a:pt x="542790" y="169762"/>
                    <a:pt x="495882" y="189865"/>
                    <a:pt x="453442" y="214436"/>
                  </a:cubicBezTo>
                  <a:lnTo>
                    <a:pt x="285914" y="158593"/>
                  </a:lnTo>
                  <a:lnTo>
                    <a:pt x="158593" y="285914"/>
                  </a:lnTo>
                  <a:lnTo>
                    <a:pt x="214436" y="453442"/>
                  </a:lnTo>
                  <a:cubicBezTo>
                    <a:pt x="189865" y="498116"/>
                    <a:pt x="169762" y="545024"/>
                    <a:pt x="156359" y="594165"/>
                  </a:cubicBezTo>
                  <a:lnTo>
                    <a:pt x="0" y="670111"/>
                  </a:lnTo>
                  <a:lnTo>
                    <a:pt x="0" y="848808"/>
                  </a:lnTo>
                  <a:lnTo>
                    <a:pt x="156359" y="926987"/>
                  </a:lnTo>
                  <a:cubicBezTo>
                    <a:pt x="169762" y="976129"/>
                    <a:pt x="189865" y="1023037"/>
                    <a:pt x="214436" y="1065477"/>
                  </a:cubicBezTo>
                  <a:lnTo>
                    <a:pt x="158593" y="1233005"/>
                  </a:lnTo>
                  <a:lnTo>
                    <a:pt x="285914" y="1360326"/>
                  </a:lnTo>
                  <a:lnTo>
                    <a:pt x="453442" y="1304483"/>
                  </a:lnTo>
                  <a:cubicBezTo>
                    <a:pt x="498116" y="1329054"/>
                    <a:pt x="545024" y="1349157"/>
                    <a:pt x="594165" y="1362560"/>
                  </a:cubicBezTo>
                  <a:lnTo>
                    <a:pt x="672345" y="1518919"/>
                  </a:lnTo>
                  <a:lnTo>
                    <a:pt x="851041" y="1518919"/>
                  </a:lnTo>
                  <a:lnTo>
                    <a:pt x="929221" y="1362560"/>
                  </a:lnTo>
                  <a:cubicBezTo>
                    <a:pt x="978362" y="1349157"/>
                    <a:pt x="1025270" y="1329054"/>
                    <a:pt x="1067711" y="1304483"/>
                  </a:cubicBezTo>
                  <a:lnTo>
                    <a:pt x="1235239" y="1360326"/>
                  </a:lnTo>
                  <a:lnTo>
                    <a:pt x="1362560" y="1233005"/>
                  </a:lnTo>
                  <a:lnTo>
                    <a:pt x="1306717" y="1065477"/>
                  </a:lnTo>
                  <a:cubicBezTo>
                    <a:pt x="1331288" y="1020803"/>
                    <a:pt x="1351391" y="973895"/>
                    <a:pt x="1364793" y="924754"/>
                  </a:cubicBezTo>
                  <a:lnTo>
                    <a:pt x="1521153" y="846574"/>
                  </a:lnTo>
                  <a:lnTo>
                    <a:pt x="1521153" y="667878"/>
                  </a:lnTo>
                  <a:lnTo>
                    <a:pt x="1362560" y="591932"/>
                  </a:lnTo>
                  <a:close/>
                </a:path>
              </a:pathLst>
            </a:custGeom>
            <a:solidFill>
              <a:srgbClr val="37e08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3" name="Oval 14"/>
            <p:cNvSpPr/>
            <p:nvPr/>
          </p:nvSpPr>
          <p:spPr>
            <a:xfrm rot="1430400">
              <a:off x="3912120" y="3471120"/>
              <a:ext cx="1222560" cy="1223640"/>
            </a:xfrm>
            <a:prstGeom prst="ellipse">
              <a:avLst/>
            </a:prstGeom>
            <a:solidFill>
              <a:srgbClr val="1817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14" name="Oval 15"/>
            <p:cNvGrpSpPr/>
            <p:nvPr/>
          </p:nvGrpSpPr>
          <p:grpSpPr>
            <a:xfrm>
              <a:off x="3992760" y="3558960"/>
              <a:ext cx="1054440" cy="1055160"/>
              <a:chOff x="3992760" y="3558960"/>
              <a:chExt cx="1054440" cy="1055160"/>
            </a:xfrm>
          </p:grpSpPr>
          <p:pic>
            <p:nvPicPr>
              <p:cNvPr id="215" name="Oval 15" descr=""/>
              <p:cNvPicPr/>
              <p:nvPr/>
            </p:nvPicPr>
            <p:blipFill>
              <a:blip r:embed="rId3"/>
              <a:stretch/>
            </p:blipFill>
            <p:spPr>
              <a:xfrm rot="21599400">
                <a:off x="3992760" y="3558960"/>
                <a:ext cx="1054080" cy="1054800"/>
              </a:xfrm>
              <a:prstGeom prst="rect">
                <a:avLst/>
              </a:prstGeom>
              <a:ln w="0">
                <a:noFill/>
              </a:ln>
            </p:spPr>
          </p:pic>
          <p:sp>
            <p:nvSpPr>
              <p:cNvPr id="216" name=""/>
              <p:cNvSpPr/>
              <p:nvPr/>
            </p:nvSpPr>
            <p:spPr>
              <a:xfrm rot="1429800">
                <a:off x="4151520" y="3714480"/>
                <a:ext cx="740160" cy="740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17" name="Group 75"/>
          <p:cNvGrpSpPr/>
          <p:nvPr/>
        </p:nvGrpSpPr>
        <p:grpSpPr>
          <a:xfrm>
            <a:off x="4980600" y="2166120"/>
            <a:ext cx="1570320" cy="1569960"/>
            <a:chOff x="4980600" y="2166120"/>
            <a:chExt cx="1570320" cy="1569960"/>
          </a:xfrm>
        </p:grpSpPr>
        <p:sp>
          <p:nvSpPr>
            <p:cNvPr id="218" name="Graphic 7"/>
            <p:cNvSpPr/>
            <p:nvPr/>
          </p:nvSpPr>
          <p:spPr>
            <a:xfrm rot="350400">
              <a:off x="5049720" y="2235240"/>
              <a:ext cx="1432080" cy="1431720"/>
            </a:xfrm>
            <a:custGeom>
              <a:avLst/>
              <a:gdLst/>
              <a:ahLst/>
              <a:rect l="l" t="t" r="r" b="b"/>
              <a:pathLst>
                <a:path w="1518918" h="1518918">
                  <a:moveTo>
                    <a:pt x="759459" y="1027504"/>
                  </a:moveTo>
                  <a:cubicBezTo>
                    <a:pt x="612035" y="1027504"/>
                    <a:pt x="491415" y="906884"/>
                    <a:pt x="491415" y="759459"/>
                  </a:cubicBezTo>
                  <a:cubicBezTo>
                    <a:pt x="491415" y="612035"/>
                    <a:pt x="612035" y="491415"/>
                    <a:pt x="759459" y="491415"/>
                  </a:cubicBezTo>
                  <a:cubicBezTo>
                    <a:pt x="906884" y="491415"/>
                    <a:pt x="1027504" y="612035"/>
                    <a:pt x="1027504" y="759459"/>
                  </a:cubicBezTo>
                  <a:cubicBezTo>
                    <a:pt x="1027504" y="906884"/>
                    <a:pt x="906884" y="1027504"/>
                    <a:pt x="759459" y="1027504"/>
                  </a:cubicBezTo>
                  <a:close/>
                  <a:moveTo>
                    <a:pt x="1362560" y="591932"/>
                  </a:moveTo>
                  <a:cubicBezTo>
                    <a:pt x="1349157" y="542790"/>
                    <a:pt x="1329054" y="495882"/>
                    <a:pt x="1304483" y="453442"/>
                  </a:cubicBezTo>
                  <a:lnTo>
                    <a:pt x="1360326" y="285914"/>
                  </a:lnTo>
                  <a:lnTo>
                    <a:pt x="1233005" y="158593"/>
                  </a:lnTo>
                  <a:lnTo>
                    <a:pt x="1065477" y="214436"/>
                  </a:lnTo>
                  <a:cubicBezTo>
                    <a:pt x="1020803" y="189865"/>
                    <a:pt x="973895" y="169762"/>
                    <a:pt x="924754" y="156359"/>
                  </a:cubicBezTo>
                  <a:lnTo>
                    <a:pt x="848808" y="0"/>
                  </a:lnTo>
                  <a:lnTo>
                    <a:pt x="670111" y="0"/>
                  </a:lnTo>
                  <a:lnTo>
                    <a:pt x="591932" y="156359"/>
                  </a:lnTo>
                  <a:cubicBezTo>
                    <a:pt x="542790" y="169762"/>
                    <a:pt x="495882" y="189865"/>
                    <a:pt x="453442" y="214436"/>
                  </a:cubicBezTo>
                  <a:lnTo>
                    <a:pt x="285914" y="158593"/>
                  </a:lnTo>
                  <a:lnTo>
                    <a:pt x="158593" y="285914"/>
                  </a:lnTo>
                  <a:lnTo>
                    <a:pt x="214436" y="453442"/>
                  </a:lnTo>
                  <a:cubicBezTo>
                    <a:pt x="189865" y="498116"/>
                    <a:pt x="169762" y="545024"/>
                    <a:pt x="156359" y="594165"/>
                  </a:cubicBezTo>
                  <a:lnTo>
                    <a:pt x="0" y="670111"/>
                  </a:lnTo>
                  <a:lnTo>
                    <a:pt x="0" y="848808"/>
                  </a:lnTo>
                  <a:lnTo>
                    <a:pt x="156359" y="926987"/>
                  </a:lnTo>
                  <a:cubicBezTo>
                    <a:pt x="169762" y="976129"/>
                    <a:pt x="189865" y="1023037"/>
                    <a:pt x="214436" y="1065477"/>
                  </a:cubicBezTo>
                  <a:lnTo>
                    <a:pt x="158593" y="1233005"/>
                  </a:lnTo>
                  <a:lnTo>
                    <a:pt x="285914" y="1360326"/>
                  </a:lnTo>
                  <a:lnTo>
                    <a:pt x="453442" y="1304483"/>
                  </a:lnTo>
                  <a:cubicBezTo>
                    <a:pt x="498116" y="1329054"/>
                    <a:pt x="545024" y="1349157"/>
                    <a:pt x="594165" y="1362560"/>
                  </a:cubicBezTo>
                  <a:lnTo>
                    <a:pt x="672345" y="1518919"/>
                  </a:lnTo>
                  <a:lnTo>
                    <a:pt x="851041" y="1518919"/>
                  </a:lnTo>
                  <a:lnTo>
                    <a:pt x="929221" y="1362560"/>
                  </a:lnTo>
                  <a:cubicBezTo>
                    <a:pt x="978362" y="1349157"/>
                    <a:pt x="1025270" y="1329054"/>
                    <a:pt x="1067711" y="1304483"/>
                  </a:cubicBezTo>
                  <a:lnTo>
                    <a:pt x="1235239" y="1360326"/>
                  </a:lnTo>
                  <a:lnTo>
                    <a:pt x="1362560" y="1233005"/>
                  </a:lnTo>
                  <a:lnTo>
                    <a:pt x="1306717" y="1065477"/>
                  </a:lnTo>
                  <a:cubicBezTo>
                    <a:pt x="1331288" y="1020803"/>
                    <a:pt x="1351391" y="973895"/>
                    <a:pt x="1364793" y="924754"/>
                  </a:cubicBezTo>
                  <a:lnTo>
                    <a:pt x="1521153" y="846574"/>
                  </a:lnTo>
                  <a:lnTo>
                    <a:pt x="1521153" y="667878"/>
                  </a:lnTo>
                  <a:lnTo>
                    <a:pt x="1362560" y="591932"/>
                  </a:lnTo>
                  <a:close/>
                </a:path>
              </a:pathLst>
            </a:custGeom>
            <a:solidFill>
              <a:srgbClr val="ff4e9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9" name="Oval 20"/>
            <p:cNvSpPr/>
            <p:nvPr/>
          </p:nvSpPr>
          <p:spPr>
            <a:xfrm rot="350400">
              <a:off x="5355000" y="2540520"/>
              <a:ext cx="821160" cy="821160"/>
            </a:xfrm>
            <a:prstGeom prst="ellipse">
              <a:avLst/>
            </a:prstGeom>
            <a:solidFill>
              <a:srgbClr val="1817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20" name="Oval 21"/>
            <p:cNvGrpSpPr/>
            <p:nvPr/>
          </p:nvGrpSpPr>
          <p:grpSpPr>
            <a:xfrm>
              <a:off x="5412960" y="2597040"/>
              <a:ext cx="707040" cy="712800"/>
              <a:chOff x="5412960" y="2597040"/>
              <a:chExt cx="707040" cy="712800"/>
            </a:xfrm>
          </p:grpSpPr>
          <p:pic>
            <p:nvPicPr>
              <p:cNvPr id="221" name="Oval 21" descr=""/>
              <p:cNvPicPr/>
              <p:nvPr/>
            </p:nvPicPr>
            <p:blipFill>
              <a:blip r:embed="rId4"/>
              <a:stretch/>
            </p:blipFill>
            <p:spPr>
              <a:xfrm rot="21599400">
                <a:off x="5412960" y="2596680"/>
                <a:ext cx="707040" cy="712800"/>
              </a:xfrm>
              <a:prstGeom prst="rect">
                <a:avLst/>
              </a:prstGeom>
              <a:ln w="0">
                <a:noFill/>
              </a:ln>
            </p:spPr>
          </p:pic>
          <p:sp>
            <p:nvSpPr>
              <p:cNvPr id="222" name=""/>
              <p:cNvSpPr/>
              <p:nvPr/>
            </p:nvSpPr>
            <p:spPr>
              <a:xfrm rot="349800">
                <a:off x="5517000" y="2703600"/>
                <a:ext cx="497160" cy="49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23" name="Rectangle 59"/>
          <p:cNvSpPr/>
          <p:nvPr/>
        </p:nvSpPr>
        <p:spPr>
          <a:xfrm>
            <a:off x="1900080" y="1398600"/>
            <a:ext cx="2035440" cy="5288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Open Sans"/>
                <a:ea typeface="Open Sans"/>
              </a:rPr>
              <a:t>Far far away, behind the word mountains</a:t>
            </a:r>
            <a:endParaRPr b="0" lang="en-US" sz="1100" spc="-1" strike="noStrike">
              <a:solidFill>
                <a:srgbClr val="000000"/>
              </a:solidFill>
              <a:latin typeface="Calibri"/>
            </a:endParaRPr>
          </a:p>
        </p:txBody>
      </p:sp>
      <p:sp>
        <p:nvSpPr>
          <p:cNvPr id="224" name="TextBox 60"/>
          <p:cNvSpPr/>
          <p:nvPr/>
        </p:nvSpPr>
        <p:spPr>
          <a:xfrm>
            <a:off x="1900080" y="1090440"/>
            <a:ext cx="130356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d6ff"/>
                </a:solidFill>
                <a:latin typeface="Raleway SemiBold"/>
              </a:rPr>
              <a:t>Gear One</a:t>
            </a:r>
            <a:endParaRPr b="0" lang="en-US" sz="1600" spc="-1" strike="noStrike">
              <a:solidFill>
                <a:srgbClr val="000000"/>
              </a:solidFill>
              <a:latin typeface="Calibri"/>
            </a:endParaRPr>
          </a:p>
        </p:txBody>
      </p:sp>
      <p:grpSp>
        <p:nvGrpSpPr>
          <p:cNvPr id="225" name="Group 77"/>
          <p:cNvGrpSpPr/>
          <p:nvPr/>
        </p:nvGrpSpPr>
        <p:grpSpPr>
          <a:xfrm>
            <a:off x="6001920" y="2644560"/>
            <a:ext cx="2483640" cy="2483640"/>
            <a:chOff x="6001920" y="2644560"/>
            <a:chExt cx="2483640" cy="2483640"/>
          </a:xfrm>
        </p:grpSpPr>
        <p:sp>
          <p:nvSpPr>
            <p:cNvPr id="226" name="Graphic 7"/>
            <p:cNvSpPr/>
            <p:nvPr/>
          </p:nvSpPr>
          <p:spPr>
            <a:xfrm rot="20976000">
              <a:off x="6176880" y="2819520"/>
              <a:ext cx="2133720" cy="2133360"/>
            </a:xfrm>
            <a:custGeom>
              <a:avLst/>
              <a:gdLst/>
              <a:ahLst/>
              <a:rect l="l" t="t" r="r" b="b"/>
              <a:pathLst>
                <a:path w="1518918" h="1518918">
                  <a:moveTo>
                    <a:pt x="759459" y="1027504"/>
                  </a:moveTo>
                  <a:cubicBezTo>
                    <a:pt x="612035" y="1027504"/>
                    <a:pt x="491415" y="906884"/>
                    <a:pt x="491415" y="759459"/>
                  </a:cubicBezTo>
                  <a:cubicBezTo>
                    <a:pt x="491415" y="612035"/>
                    <a:pt x="612035" y="491415"/>
                    <a:pt x="759459" y="491415"/>
                  </a:cubicBezTo>
                  <a:cubicBezTo>
                    <a:pt x="906884" y="491415"/>
                    <a:pt x="1027504" y="612035"/>
                    <a:pt x="1027504" y="759459"/>
                  </a:cubicBezTo>
                  <a:cubicBezTo>
                    <a:pt x="1027504" y="906884"/>
                    <a:pt x="906884" y="1027504"/>
                    <a:pt x="759459" y="1027504"/>
                  </a:cubicBezTo>
                  <a:close/>
                  <a:moveTo>
                    <a:pt x="1362560" y="591932"/>
                  </a:moveTo>
                  <a:cubicBezTo>
                    <a:pt x="1349157" y="542790"/>
                    <a:pt x="1329054" y="495882"/>
                    <a:pt x="1304483" y="453442"/>
                  </a:cubicBezTo>
                  <a:lnTo>
                    <a:pt x="1360326" y="285914"/>
                  </a:lnTo>
                  <a:lnTo>
                    <a:pt x="1233005" y="158593"/>
                  </a:lnTo>
                  <a:lnTo>
                    <a:pt x="1065477" y="214436"/>
                  </a:lnTo>
                  <a:cubicBezTo>
                    <a:pt x="1020803" y="189865"/>
                    <a:pt x="973895" y="169762"/>
                    <a:pt x="924754" y="156359"/>
                  </a:cubicBezTo>
                  <a:lnTo>
                    <a:pt x="848808" y="0"/>
                  </a:lnTo>
                  <a:lnTo>
                    <a:pt x="670111" y="0"/>
                  </a:lnTo>
                  <a:lnTo>
                    <a:pt x="591932" y="156359"/>
                  </a:lnTo>
                  <a:cubicBezTo>
                    <a:pt x="542790" y="169762"/>
                    <a:pt x="495882" y="189865"/>
                    <a:pt x="453442" y="214436"/>
                  </a:cubicBezTo>
                  <a:lnTo>
                    <a:pt x="285914" y="158593"/>
                  </a:lnTo>
                  <a:lnTo>
                    <a:pt x="158593" y="285914"/>
                  </a:lnTo>
                  <a:lnTo>
                    <a:pt x="214436" y="453442"/>
                  </a:lnTo>
                  <a:cubicBezTo>
                    <a:pt x="189865" y="498116"/>
                    <a:pt x="169762" y="545024"/>
                    <a:pt x="156359" y="594165"/>
                  </a:cubicBezTo>
                  <a:lnTo>
                    <a:pt x="0" y="670111"/>
                  </a:lnTo>
                  <a:lnTo>
                    <a:pt x="0" y="848808"/>
                  </a:lnTo>
                  <a:lnTo>
                    <a:pt x="156359" y="926987"/>
                  </a:lnTo>
                  <a:cubicBezTo>
                    <a:pt x="169762" y="976129"/>
                    <a:pt x="189865" y="1023037"/>
                    <a:pt x="214436" y="1065477"/>
                  </a:cubicBezTo>
                  <a:lnTo>
                    <a:pt x="158593" y="1233005"/>
                  </a:lnTo>
                  <a:lnTo>
                    <a:pt x="285914" y="1360326"/>
                  </a:lnTo>
                  <a:lnTo>
                    <a:pt x="453442" y="1304483"/>
                  </a:lnTo>
                  <a:cubicBezTo>
                    <a:pt x="498116" y="1329054"/>
                    <a:pt x="545024" y="1349157"/>
                    <a:pt x="594165" y="1362560"/>
                  </a:cubicBezTo>
                  <a:lnTo>
                    <a:pt x="672345" y="1518919"/>
                  </a:lnTo>
                  <a:lnTo>
                    <a:pt x="851041" y="1518919"/>
                  </a:lnTo>
                  <a:lnTo>
                    <a:pt x="929221" y="1362560"/>
                  </a:lnTo>
                  <a:cubicBezTo>
                    <a:pt x="978362" y="1349157"/>
                    <a:pt x="1025270" y="1329054"/>
                    <a:pt x="1067711" y="1304483"/>
                  </a:cubicBezTo>
                  <a:lnTo>
                    <a:pt x="1235239" y="1360326"/>
                  </a:lnTo>
                  <a:lnTo>
                    <a:pt x="1362560" y="1233005"/>
                  </a:lnTo>
                  <a:lnTo>
                    <a:pt x="1306717" y="1065477"/>
                  </a:lnTo>
                  <a:cubicBezTo>
                    <a:pt x="1331288" y="1020803"/>
                    <a:pt x="1351391" y="973895"/>
                    <a:pt x="1364793" y="924754"/>
                  </a:cubicBezTo>
                  <a:lnTo>
                    <a:pt x="1521153" y="846574"/>
                  </a:lnTo>
                  <a:lnTo>
                    <a:pt x="1521153" y="667878"/>
                  </a:lnTo>
                  <a:lnTo>
                    <a:pt x="1362560" y="591932"/>
                  </a:lnTo>
                  <a:close/>
                </a:path>
              </a:pathLst>
            </a:custGeom>
            <a:solidFill>
              <a:srgbClr val="06d6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7" name="Oval 79"/>
            <p:cNvSpPr/>
            <p:nvPr/>
          </p:nvSpPr>
          <p:spPr>
            <a:xfrm rot="20976000">
              <a:off x="6631560" y="3274560"/>
              <a:ext cx="1223640" cy="1223280"/>
            </a:xfrm>
            <a:prstGeom prst="ellipse">
              <a:avLst/>
            </a:prstGeom>
            <a:solidFill>
              <a:srgbClr val="1817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28" name="Oval 80"/>
            <p:cNvGrpSpPr/>
            <p:nvPr/>
          </p:nvGrpSpPr>
          <p:grpSpPr>
            <a:xfrm>
              <a:off x="6717600" y="3359160"/>
              <a:ext cx="1055160" cy="1055160"/>
              <a:chOff x="6717600" y="3359160"/>
              <a:chExt cx="1055160" cy="1055160"/>
            </a:xfrm>
          </p:grpSpPr>
          <p:pic>
            <p:nvPicPr>
              <p:cNvPr id="229" name="Oval 80" descr=""/>
              <p:cNvPicPr/>
              <p:nvPr/>
            </p:nvPicPr>
            <p:blipFill>
              <a:blip r:embed="rId5"/>
              <a:stretch/>
            </p:blipFill>
            <p:spPr>
              <a:xfrm rot="21599400">
                <a:off x="6717600" y="3359160"/>
                <a:ext cx="1054800" cy="1054800"/>
              </a:xfrm>
              <a:prstGeom prst="rect">
                <a:avLst/>
              </a:prstGeom>
              <a:ln w="0">
                <a:noFill/>
              </a:ln>
            </p:spPr>
          </p:pic>
          <p:sp>
            <p:nvSpPr>
              <p:cNvPr id="230" name=""/>
              <p:cNvSpPr/>
              <p:nvPr/>
            </p:nvSpPr>
            <p:spPr>
              <a:xfrm rot="20976000">
                <a:off x="6873480" y="3518640"/>
                <a:ext cx="740520" cy="740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31" name="Group 82"/>
          <p:cNvGrpSpPr/>
          <p:nvPr/>
        </p:nvGrpSpPr>
        <p:grpSpPr>
          <a:xfrm>
            <a:off x="7388280" y="1359000"/>
            <a:ext cx="2722680" cy="2722680"/>
            <a:chOff x="7388280" y="1359000"/>
            <a:chExt cx="2722680" cy="2722680"/>
          </a:xfrm>
        </p:grpSpPr>
        <p:sp>
          <p:nvSpPr>
            <p:cNvPr id="232" name="Graphic 7"/>
            <p:cNvSpPr/>
            <p:nvPr/>
          </p:nvSpPr>
          <p:spPr>
            <a:xfrm rot="2628000">
              <a:off x="7786440" y="1757160"/>
              <a:ext cx="1925640" cy="1925640"/>
            </a:xfrm>
            <a:custGeom>
              <a:avLst/>
              <a:gdLst/>
              <a:ahLst/>
              <a:rect l="l" t="t" r="r" b="b"/>
              <a:pathLst>
                <a:path w="1518918" h="1518918">
                  <a:moveTo>
                    <a:pt x="759459" y="1027504"/>
                  </a:moveTo>
                  <a:cubicBezTo>
                    <a:pt x="612035" y="1027504"/>
                    <a:pt x="491415" y="906884"/>
                    <a:pt x="491415" y="759459"/>
                  </a:cubicBezTo>
                  <a:cubicBezTo>
                    <a:pt x="491415" y="612035"/>
                    <a:pt x="612035" y="491415"/>
                    <a:pt x="759459" y="491415"/>
                  </a:cubicBezTo>
                  <a:cubicBezTo>
                    <a:pt x="906884" y="491415"/>
                    <a:pt x="1027504" y="612035"/>
                    <a:pt x="1027504" y="759459"/>
                  </a:cubicBezTo>
                  <a:cubicBezTo>
                    <a:pt x="1027504" y="906884"/>
                    <a:pt x="906884" y="1027504"/>
                    <a:pt x="759459" y="1027504"/>
                  </a:cubicBezTo>
                  <a:close/>
                  <a:moveTo>
                    <a:pt x="1362560" y="591932"/>
                  </a:moveTo>
                  <a:cubicBezTo>
                    <a:pt x="1349157" y="542790"/>
                    <a:pt x="1329054" y="495882"/>
                    <a:pt x="1304483" y="453442"/>
                  </a:cubicBezTo>
                  <a:lnTo>
                    <a:pt x="1360326" y="285914"/>
                  </a:lnTo>
                  <a:lnTo>
                    <a:pt x="1233005" y="158593"/>
                  </a:lnTo>
                  <a:lnTo>
                    <a:pt x="1065477" y="214436"/>
                  </a:lnTo>
                  <a:cubicBezTo>
                    <a:pt x="1020803" y="189865"/>
                    <a:pt x="973895" y="169762"/>
                    <a:pt x="924754" y="156359"/>
                  </a:cubicBezTo>
                  <a:lnTo>
                    <a:pt x="848808" y="0"/>
                  </a:lnTo>
                  <a:lnTo>
                    <a:pt x="670111" y="0"/>
                  </a:lnTo>
                  <a:lnTo>
                    <a:pt x="591932" y="156359"/>
                  </a:lnTo>
                  <a:cubicBezTo>
                    <a:pt x="542790" y="169762"/>
                    <a:pt x="495882" y="189865"/>
                    <a:pt x="453442" y="214436"/>
                  </a:cubicBezTo>
                  <a:lnTo>
                    <a:pt x="285914" y="158593"/>
                  </a:lnTo>
                  <a:lnTo>
                    <a:pt x="158593" y="285914"/>
                  </a:lnTo>
                  <a:lnTo>
                    <a:pt x="214436" y="453442"/>
                  </a:lnTo>
                  <a:cubicBezTo>
                    <a:pt x="189865" y="498116"/>
                    <a:pt x="169762" y="545024"/>
                    <a:pt x="156359" y="594165"/>
                  </a:cubicBezTo>
                  <a:lnTo>
                    <a:pt x="0" y="670111"/>
                  </a:lnTo>
                  <a:lnTo>
                    <a:pt x="0" y="848808"/>
                  </a:lnTo>
                  <a:lnTo>
                    <a:pt x="156359" y="926987"/>
                  </a:lnTo>
                  <a:cubicBezTo>
                    <a:pt x="169762" y="976129"/>
                    <a:pt x="189865" y="1023037"/>
                    <a:pt x="214436" y="1065477"/>
                  </a:cubicBezTo>
                  <a:lnTo>
                    <a:pt x="158593" y="1233005"/>
                  </a:lnTo>
                  <a:lnTo>
                    <a:pt x="285914" y="1360326"/>
                  </a:lnTo>
                  <a:lnTo>
                    <a:pt x="453442" y="1304483"/>
                  </a:lnTo>
                  <a:cubicBezTo>
                    <a:pt x="498116" y="1329054"/>
                    <a:pt x="545024" y="1349157"/>
                    <a:pt x="594165" y="1362560"/>
                  </a:cubicBezTo>
                  <a:lnTo>
                    <a:pt x="672345" y="1518919"/>
                  </a:lnTo>
                  <a:lnTo>
                    <a:pt x="851041" y="1518919"/>
                  </a:lnTo>
                  <a:lnTo>
                    <a:pt x="929221" y="1362560"/>
                  </a:lnTo>
                  <a:cubicBezTo>
                    <a:pt x="978362" y="1349157"/>
                    <a:pt x="1025270" y="1329054"/>
                    <a:pt x="1067711" y="1304483"/>
                  </a:cubicBezTo>
                  <a:lnTo>
                    <a:pt x="1235239" y="1360326"/>
                  </a:lnTo>
                  <a:lnTo>
                    <a:pt x="1362560" y="1233005"/>
                  </a:lnTo>
                  <a:lnTo>
                    <a:pt x="1306717" y="1065477"/>
                  </a:lnTo>
                  <a:cubicBezTo>
                    <a:pt x="1331288" y="1020803"/>
                    <a:pt x="1351391" y="973895"/>
                    <a:pt x="1364793" y="924754"/>
                  </a:cubicBezTo>
                  <a:lnTo>
                    <a:pt x="1521153" y="846574"/>
                  </a:lnTo>
                  <a:lnTo>
                    <a:pt x="1521153" y="667878"/>
                  </a:lnTo>
                  <a:lnTo>
                    <a:pt x="1362560" y="591932"/>
                  </a:lnTo>
                  <a:close/>
                </a:path>
              </a:pathLst>
            </a:custGeom>
            <a:solidFill>
              <a:srgbClr val="37e08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3" name="Oval 84"/>
            <p:cNvSpPr/>
            <p:nvPr/>
          </p:nvSpPr>
          <p:spPr>
            <a:xfrm rot="2628000">
              <a:off x="8197200" y="2167920"/>
              <a:ext cx="1104120" cy="1104120"/>
            </a:xfrm>
            <a:prstGeom prst="ellipse">
              <a:avLst/>
            </a:prstGeom>
            <a:solidFill>
              <a:srgbClr val="1817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34" name="Oval 85"/>
            <p:cNvGrpSpPr/>
            <p:nvPr/>
          </p:nvGrpSpPr>
          <p:grpSpPr>
            <a:xfrm>
              <a:off x="8272440" y="2243880"/>
              <a:ext cx="950400" cy="956520"/>
              <a:chOff x="8272440" y="2243880"/>
              <a:chExt cx="950400" cy="956520"/>
            </a:xfrm>
          </p:grpSpPr>
          <p:pic>
            <p:nvPicPr>
              <p:cNvPr id="235" name="Oval 85" descr=""/>
              <p:cNvPicPr/>
              <p:nvPr/>
            </p:nvPicPr>
            <p:blipFill>
              <a:blip r:embed="rId6"/>
              <a:stretch/>
            </p:blipFill>
            <p:spPr>
              <a:xfrm rot="21599400">
                <a:off x="8272440" y="2243520"/>
                <a:ext cx="950400" cy="956520"/>
              </a:xfrm>
              <a:prstGeom prst="rect">
                <a:avLst/>
              </a:prstGeom>
              <a:ln w="0">
                <a:noFill/>
              </a:ln>
            </p:spPr>
          </p:pic>
          <p:sp>
            <p:nvSpPr>
              <p:cNvPr id="236" name=""/>
              <p:cNvSpPr/>
              <p:nvPr/>
            </p:nvSpPr>
            <p:spPr>
              <a:xfrm rot="2628000">
                <a:off x="8413200" y="2387520"/>
                <a:ext cx="668520" cy="668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37" name="Rectangle 88"/>
          <p:cNvSpPr/>
          <p:nvPr/>
        </p:nvSpPr>
        <p:spPr>
          <a:xfrm>
            <a:off x="3935520" y="5637240"/>
            <a:ext cx="2930400" cy="5288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Open Sans"/>
                <a:ea typeface="Open Sans"/>
              </a:rPr>
              <a:t>Far far away, behind the word mountains far away, behind the word</a:t>
            </a:r>
            <a:endParaRPr b="0" lang="en-US" sz="1100" spc="-1" strike="noStrike">
              <a:solidFill>
                <a:srgbClr val="000000"/>
              </a:solidFill>
              <a:latin typeface="Calibri"/>
            </a:endParaRPr>
          </a:p>
        </p:txBody>
      </p:sp>
      <p:sp>
        <p:nvSpPr>
          <p:cNvPr id="238" name="TextBox 89"/>
          <p:cNvSpPr/>
          <p:nvPr/>
        </p:nvSpPr>
        <p:spPr>
          <a:xfrm>
            <a:off x="3935520" y="5324400"/>
            <a:ext cx="13032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7e08b"/>
                </a:solidFill>
                <a:latin typeface="Raleway SemiBold"/>
              </a:rPr>
              <a:t>Gear Two</a:t>
            </a:r>
            <a:endParaRPr b="0" lang="en-US" sz="1600" spc="-1" strike="noStrike">
              <a:solidFill>
                <a:srgbClr val="000000"/>
              </a:solidFill>
              <a:latin typeface="Calibri"/>
            </a:endParaRPr>
          </a:p>
        </p:txBody>
      </p:sp>
      <p:sp>
        <p:nvSpPr>
          <p:cNvPr id="239" name="Rectangle 105"/>
          <p:cNvSpPr/>
          <p:nvPr/>
        </p:nvSpPr>
        <p:spPr>
          <a:xfrm>
            <a:off x="5060880" y="1517760"/>
            <a:ext cx="2482920" cy="5288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Open Sans"/>
                <a:ea typeface="Open Sans"/>
              </a:rPr>
              <a:t>Far far away, behind the word mountains</a:t>
            </a:r>
            <a:endParaRPr b="0" lang="en-US" sz="1100" spc="-1" strike="noStrike">
              <a:solidFill>
                <a:srgbClr val="000000"/>
              </a:solidFill>
              <a:latin typeface="Calibri"/>
            </a:endParaRPr>
          </a:p>
        </p:txBody>
      </p:sp>
      <p:sp>
        <p:nvSpPr>
          <p:cNvPr id="240" name="TextBox 106"/>
          <p:cNvSpPr/>
          <p:nvPr/>
        </p:nvSpPr>
        <p:spPr>
          <a:xfrm>
            <a:off x="5060880" y="1301760"/>
            <a:ext cx="130356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4e95"/>
                </a:solidFill>
                <a:latin typeface="Raleway SemiBold"/>
              </a:rPr>
              <a:t>Gear Tri</a:t>
            </a:r>
            <a:endParaRPr b="0" lang="en-US" sz="1600" spc="-1" strike="noStrike">
              <a:solidFill>
                <a:srgbClr val="000000"/>
              </a:solidFill>
              <a:latin typeface="Calibri"/>
            </a:endParaRPr>
          </a:p>
        </p:txBody>
      </p:sp>
      <p:sp>
        <p:nvSpPr>
          <p:cNvPr id="241" name="Rectangle 107"/>
          <p:cNvSpPr/>
          <p:nvPr/>
        </p:nvSpPr>
        <p:spPr>
          <a:xfrm>
            <a:off x="7621560" y="5253120"/>
            <a:ext cx="2482920" cy="5288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Open Sans"/>
                <a:ea typeface="Open Sans"/>
              </a:rPr>
              <a:t>Far far away, behind the word mountains</a:t>
            </a:r>
            <a:endParaRPr b="0" lang="en-US" sz="1100" spc="-1" strike="noStrike">
              <a:solidFill>
                <a:srgbClr val="000000"/>
              </a:solidFill>
              <a:latin typeface="Calibri"/>
            </a:endParaRPr>
          </a:p>
        </p:txBody>
      </p:sp>
      <p:sp>
        <p:nvSpPr>
          <p:cNvPr id="242" name="TextBox 108"/>
          <p:cNvSpPr/>
          <p:nvPr/>
        </p:nvSpPr>
        <p:spPr>
          <a:xfrm>
            <a:off x="7621560" y="5037120"/>
            <a:ext cx="13032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d6ff"/>
                </a:solidFill>
                <a:latin typeface="Raleway SemiBold"/>
              </a:rPr>
              <a:t>Gear Tri</a:t>
            </a:r>
            <a:endParaRPr b="0" lang="en-US" sz="1600" spc="-1" strike="noStrike">
              <a:solidFill>
                <a:srgbClr val="000000"/>
              </a:solidFill>
              <a:latin typeface="Calibri"/>
            </a:endParaRPr>
          </a:p>
        </p:txBody>
      </p:sp>
      <p:sp>
        <p:nvSpPr>
          <p:cNvPr id="243" name="Rectangle 109"/>
          <p:cNvSpPr/>
          <p:nvPr/>
        </p:nvSpPr>
        <p:spPr>
          <a:xfrm>
            <a:off x="8483760" y="923760"/>
            <a:ext cx="2482560" cy="5288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bfbfbf"/>
                </a:solidFill>
                <a:latin typeface="Open Sans"/>
                <a:ea typeface="Open Sans"/>
              </a:rPr>
              <a:t>Far far away, behind the word mountains</a:t>
            </a:r>
            <a:endParaRPr b="0" lang="en-US" sz="1100" spc="-1" strike="noStrike">
              <a:solidFill>
                <a:srgbClr val="000000"/>
              </a:solidFill>
              <a:latin typeface="Calibri"/>
            </a:endParaRPr>
          </a:p>
        </p:txBody>
      </p:sp>
      <p:sp>
        <p:nvSpPr>
          <p:cNvPr id="244" name="TextBox 110"/>
          <p:cNvSpPr/>
          <p:nvPr/>
        </p:nvSpPr>
        <p:spPr>
          <a:xfrm>
            <a:off x="8485200" y="673200"/>
            <a:ext cx="130176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7e08b"/>
                </a:solidFill>
                <a:latin typeface="Raleway SemiBold"/>
              </a:rPr>
              <a:t>Gear Tri</a:t>
            </a:r>
            <a:endParaRPr b="0" lang="en-US" sz="1600" spc="-1" strike="noStrike">
              <a:solidFill>
                <a:srgbClr val="000000"/>
              </a:solidFill>
              <a:latin typeface="Calibri"/>
            </a:endParaRPr>
          </a:p>
        </p:txBody>
      </p:sp>
      <p:pic>
        <p:nvPicPr>
          <p:cNvPr id="245" name="Graphic 113" descr="Bullseye"/>
          <p:cNvPicPr/>
          <p:nvPr/>
        </p:nvPicPr>
        <p:blipFill>
          <a:blip r:embed="rId7"/>
          <a:stretch/>
        </p:blipFill>
        <p:spPr>
          <a:xfrm>
            <a:off x="8379000" y="2347920"/>
            <a:ext cx="741240" cy="743040"/>
          </a:xfrm>
          <a:prstGeom prst="rect">
            <a:avLst/>
          </a:prstGeom>
          <a:ln w="0">
            <a:noFill/>
          </a:ln>
        </p:spPr>
      </p:pic>
      <p:pic>
        <p:nvPicPr>
          <p:cNvPr id="246" name="Graphic 115" descr="Lightbulb"/>
          <p:cNvPicPr/>
          <p:nvPr/>
        </p:nvPicPr>
        <p:blipFill>
          <a:blip r:embed="rId8"/>
          <a:stretch/>
        </p:blipFill>
        <p:spPr>
          <a:xfrm>
            <a:off x="6877080" y="3519360"/>
            <a:ext cx="731880" cy="731880"/>
          </a:xfrm>
          <a:prstGeom prst="rect">
            <a:avLst/>
          </a:prstGeom>
          <a:ln w="0">
            <a:noFill/>
          </a:ln>
        </p:spPr>
      </p:pic>
      <p:pic>
        <p:nvPicPr>
          <p:cNvPr id="247" name="Graphic 117" descr="Magnifying glass"/>
          <p:cNvPicPr/>
          <p:nvPr/>
        </p:nvPicPr>
        <p:blipFill>
          <a:blip r:embed="rId9"/>
          <a:stretch/>
        </p:blipFill>
        <p:spPr>
          <a:xfrm>
            <a:off x="5554800" y="2741760"/>
            <a:ext cx="465120" cy="466560"/>
          </a:xfrm>
          <a:prstGeom prst="rect">
            <a:avLst/>
          </a:prstGeom>
          <a:ln w="0">
            <a:noFill/>
          </a:ln>
        </p:spPr>
      </p:pic>
      <p:pic>
        <p:nvPicPr>
          <p:cNvPr id="248" name="Graphic 119" descr="Stopwatch"/>
          <p:cNvPicPr/>
          <p:nvPr/>
        </p:nvPicPr>
        <p:blipFill>
          <a:blip r:embed="rId10"/>
          <a:stretch/>
        </p:blipFill>
        <p:spPr>
          <a:xfrm>
            <a:off x="4178160" y="3736800"/>
            <a:ext cx="692280" cy="692280"/>
          </a:xfrm>
          <a:prstGeom prst="rect">
            <a:avLst/>
          </a:prstGeom>
          <a:ln w="0">
            <a:noFill/>
          </a:ln>
        </p:spPr>
      </p:pic>
      <p:sp>
        <p:nvSpPr>
          <p:cNvPr id="249" name="Straight Connector 40"/>
          <p:cNvSpPr/>
          <p:nvPr/>
        </p:nvSpPr>
        <p:spPr>
          <a:xfrm flipH="1">
            <a:off x="3852720" y="12600"/>
            <a:ext cx="322560" cy="331920"/>
          </a:xfrm>
          <a:prstGeom prst="line">
            <a:avLst/>
          </a:prstGeom>
          <a:ln w="6480">
            <a:solidFill>
              <a:srgbClr val="06d6ff">
                <a:alpha val="36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Rounded Corners 3"/>
          <p:cNvSpPr/>
          <p:nvPr/>
        </p:nvSpPr>
        <p:spPr>
          <a:xfrm>
            <a:off x="2705040" y="1743120"/>
            <a:ext cx="6782040" cy="444600"/>
          </a:xfrm>
          <a:prstGeom prst="roundRect">
            <a:avLst>
              <a:gd name="adj" fmla="val 50000"/>
            </a:avLst>
          </a:prstGeom>
          <a:noFill/>
          <a:ln w="19080">
            <a:solidFill>
              <a:srgbClr val="06d6ff">
                <a:alpha val="4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51" name="Group 7"/>
          <p:cNvGrpSpPr/>
          <p:nvPr/>
        </p:nvGrpSpPr>
        <p:grpSpPr>
          <a:xfrm>
            <a:off x="5676840" y="851400"/>
            <a:ext cx="797040" cy="1443960"/>
            <a:chOff x="5676840" y="851400"/>
            <a:chExt cx="797040" cy="1443960"/>
          </a:xfrm>
        </p:grpSpPr>
        <p:sp>
          <p:nvSpPr>
            <p:cNvPr id="252" name="Rectangle: Diagonal Corners Snipped 4"/>
            <p:cNvSpPr/>
            <p:nvPr/>
          </p:nvSpPr>
          <p:spPr>
            <a:xfrm>
              <a:off x="5756040" y="1616400"/>
              <a:ext cx="678960" cy="678960"/>
            </a:xfrm>
            <a:custGeom>
              <a:avLst/>
              <a:gdLst/>
              <a:ahLst/>
              <a:rect l="l" t="t" r="r" b="b"/>
              <a:pathLst>
                <a:path w="678712" h="678712">
                  <a:moveTo>
                    <a:pt x="0" y="0"/>
                  </a:moveTo>
                  <a:lnTo>
                    <a:pt x="565591" y="0"/>
                  </a:lnTo>
                  <a:lnTo>
                    <a:pt x="678712" y="113121"/>
                  </a:lnTo>
                  <a:lnTo>
                    <a:pt x="678712" y="678712"/>
                  </a:lnTo>
                  <a:lnTo>
                    <a:pt x="678712" y="678712"/>
                  </a:lnTo>
                  <a:lnTo>
                    <a:pt x="113121" y="678712"/>
                  </a:lnTo>
                  <a:lnTo>
                    <a:pt x="0" y="565591"/>
                  </a:lnTo>
                  <a:lnTo>
                    <a:pt x="0" y="0"/>
                  </a:lnTo>
                  <a:close/>
                </a:path>
              </a:pathLst>
            </a:custGeom>
            <a:solidFill>
              <a:srgbClr val="06d6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3" name="TextBox 5"/>
            <p:cNvSpPr/>
            <p:nvPr/>
          </p:nvSpPr>
          <p:spPr>
            <a:xfrm>
              <a:off x="5676840" y="851400"/>
              <a:ext cx="797040" cy="1287720"/>
            </a:xfrm>
            <a:prstGeom prst="rect">
              <a:avLst/>
            </a:prstGeom>
            <a:noFill/>
            <a:ln w="0">
              <a:noFill/>
            </a:ln>
          </p:spPr>
          <p:style>
            <a:lnRef idx="0"/>
            <a:fillRef idx="0"/>
            <a:effectRef idx="0"/>
            <a:fontRef idx="minor"/>
          </p:style>
          <p:txBody>
            <a:bodyPr lIns="90000" rIns="90000" tIns="46800" bIns="46800" anchor="b">
              <a:spAutoFit/>
            </a:bodyPr>
            <a:p>
              <a:pPr algn="ctr">
                <a:lnSpc>
                  <a:spcPts val="9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2f2f2"/>
                  </a:solidFill>
                  <a:latin typeface="Raleway"/>
                </a:rPr>
                <a:t>VS</a:t>
              </a:r>
              <a:endParaRPr b="0" lang="en-US" sz="2000" spc="-1" strike="noStrike">
                <a:solidFill>
                  <a:srgbClr val="000000"/>
                </a:solidFill>
                <a:latin typeface="Calibri"/>
              </a:endParaRPr>
            </a:p>
          </p:txBody>
        </p:sp>
      </p:grpSp>
      <p:sp>
        <p:nvSpPr>
          <p:cNvPr id="254" name="TextBox 8"/>
          <p:cNvSpPr/>
          <p:nvPr/>
        </p:nvSpPr>
        <p:spPr>
          <a:xfrm>
            <a:off x="2676600" y="1647720"/>
            <a:ext cx="2652480" cy="53820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fbfbf"/>
                </a:solidFill>
                <a:latin typeface="Raleway"/>
              </a:rPr>
              <a:t>Product 1</a:t>
            </a:r>
            <a:endParaRPr b="0" lang="en-US" sz="1600" spc="-1" strike="noStrike">
              <a:solidFill>
                <a:srgbClr val="000000"/>
              </a:solidFill>
              <a:latin typeface="Calibri"/>
            </a:endParaRPr>
          </a:p>
        </p:txBody>
      </p:sp>
      <p:sp>
        <p:nvSpPr>
          <p:cNvPr id="255" name="TextBox 9"/>
          <p:cNvSpPr/>
          <p:nvPr/>
        </p:nvSpPr>
        <p:spPr>
          <a:xfrm>
            <a:off x="6862680" y="1652760"/>
            <a:ext cx="2652840" cy="53820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fbfbf"/>
                </a:solidFill>
                <a:latin typeface="Raleway"/>
              </a:rPr>
              <a:t>Product 2</a:t>
            </a:r>
            <a:endParaRPr b="0" lang="en-US" sz="1600" spc="-1" strike="noStrike">
              <a:solidFill>
                <a:srgbClr val="000000"/>
              </a:solidFill>
              <a:latin typeface="Calibri"/>
            </a:endParaRPr>
          </a:p>
        </p:txBody>
      </p:sp>
      <p:sp>
        <p:nvSpPr>
          <p:cNvPr id="256" name="Rectangle: Rounded Corners 95"/>
          <p:cNvSpPr/>
          <p:nvPr/>
        </p:nvSpPr>
        <p:spPr>
          <a:xfrm>
            <a:off x="6829560" y="4095720"/>
            <a:ext cx="533160" cy="480960"/>
          </a:xfrm>
          <a:prstGeom prst="roundRect">
            <a:avLst>
              <a:gd name="adj" fmla="val 16667"/>
            </a:avLst>
          </a:prstGeom>
          <a:solidFill>
            <a:srgbClr val="a5a5a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Rectangle: Rounded Corners 96"/>
          <p:cNvSpPr/>
          <p:nvPr/>
        </p:nvSpPr>
        <p:spPr>
          <a:xfrm>
            <a:off x="7397640" y="4095720"/>
            <a:ext cx="493920" cy="480960"/>
          </a:xfrm>
          <a:prstGeom prst="roundRect">
            <a:avLst>
              <a:gd name="adj" fmla="val 16667"/>
            </a:avLst>
          </a:prstGeom>
          <a:solidFill>
            <a:srgbClr val="a5a5a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Rectangle: Rounded Corners 97"/>
          <p:cNvSpPr/>
          <p:nvPr/>
        </p:nvSpPr>
        <p:spPr>
          <a:xfrm>
            <a:off x="7929720" y="4095720"/>
            <a:ext cx="493560" cy="480960"/>
          </a:xfrm>
          <a:prstGeom prst="roundRect">
            <a:avLst>
              <a:gd name="adj" fmla="val 16667"/>
            </a:avLst>
          </a:prstGeom>
          <a:solidFill>
            <a:srgbClr val="a5a5a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Rectangle: Rounded Corners 98"/>
          <p:cNvSpPr/>
          <p:nvPr/>
        </p:nvSpPr>
        <p:spPr>
          <a:xfrm>
            <a:off x="8458200" y="4095720"/>
            <a:ext cx="493560" cy="480960"/>
          </a:xfrm>
          <a:prstGeom prst="roundRect">
            <a:avLst>
              <a:gd name="adj" fmla="val 16667"/>
            </a:avLst>
          </a:prstGeom>
          <a:solidFill>
            <a:srgbClr val="a5a5a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Rectangle: Rounded Corners 99"/>
          <p:cNvSpPr/>
          <p:nvPr/>
        </p:nvSpPr>
        <p:spPr>
          <a:xfrm>
            <a:off x="8989920" y="4095720"/>
            <a:ext cx="493920" cy="480960"/>
          </a:xfrm>
          <a:prstGeom prst="roundRect">
            <a:avLst>
              <a:gd name="adj" fmla="val 16667"/>
            </a:avLst>
          </a:prstGeom>
          <a:solidFill>
            <a:srgbClr val="a5a5a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Rectangle: Rounded Corners 100"/>
          <p:cNvSpPr/>
          <p:nvPr/>
        </p:nvSpPr>
        <p:spPr>
          <a:xfrm>
            <a:off x="9518760" y="4095720"/>
            <a:ext cx="493560" cy="480960"/>
          </a:xfrm>
          <a:prstGeom prst="roundRect">
            <a:avLst>
              <a:gd name="adj" fmla="val 16667"/>
            </a:avLst>
          </a:prstGeom>
          <a:solidFill>
            <a:srgbClr val="a5a5a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Rectangle: Rounded Corners 101"/>
          <p:cNvSpPr/>
          <p:nvPr/>
        </p:nvSpPr>
        <p:spPr>
          <a:xfrm>
            <a:off x="10049040" y="4095720"/>
            <a:ext cx="493560" cy="480960"/>
          </a:xfrm>
          <a:prstGeom prst="roundRect">
            <a:avLst>
              <a:gd name="adj" fmla="val 16667"/>
            </a:avLst>
          </a:prstGeom>
          <a:solidFill>
            <a:srgbClr val="a5a5a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Freeform: Shape 102"/>
          <p:cNvSpPr/>
          <p:nvPr/>
        </p:nvSpPr>
        <p:spPr>
          <a:xfrm>
            <a:off x="10578960" y="4095720"/>
            <a:ext cx="324000" cy="480960"/>
          </a:xfrm>
          <a:custGeom>
            <a:avLst/>
            <a:gdLst/>
            <a:ahLst/>
            <a:rect l="l" t="t" r="r" b="b"/>
            <a:pathLst>
              <a:path w="721232" h="1066987">
                <a:moveTo>
                  <a:pt x="0" y="0"/>
                </a:moveTo>
                <a:lnTo>
                  <a:pt x="187724" y="0"/>
                </a:lnTo>
                <a:cubicBezTo>
                  <a:pt x="481606" y="0"/>
                  <a:pt x="721232" y="240321"/>
                  <a:pt x="721232" y="533042"/>
                </a:cubicBezTo>
                <a:cubicBezTo>
                  <a:pt x="721232" y="826666"/>
                  <a:pt x="481606" y="1066987"/>
                  <a:pt x="187724" y="1066987"/>
                </a:cubicBezTo>
                <a:lnTo>
                  <a:pt x="0" y="1066987"/>
                </a:lnTo>
                <a:lnTo>
                  <a:pt x="0" y="0"/>
                </a:lnTo>
                <a:close/>
              </a:path>
            </a:pathLst>
          </a:custGeom>
          <a:solidFill>
            <a:srgbClr val="a5a5a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4" name="Rectangle: Rounded Corners 103"/>
          <p:cNvSpPr/>
          <p:nvPr/>
        </p:nvSpPr>
        <p:spPr>
          <a:xfrm>
            <a:off x="6829560" y="4707000"/>
            <a:ext cx="533160" cy="480960"/>
          </a:xfrm>
          <a:prstGeom prst="roundRect">
            <a:avLst>
              <a:gd name="adj" fmla="val 16667"/>
            </a:avLst>
          </a:prstGeom>
          <a:solidFill>
            <a:srgbClr val="ff4e9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Rectangle: Rounded Corners 104"/>
          <p:cNvSpPr/>
          <p:nvPr/>
        </p:nvSpPr>
        <p:spPr>
          <a:xfrm>
            <a:off x="7397640" y="4707000"/>
            <a:ext cx="493920" cy="480960"/>
          </a:xfrm>
          <a:prstGeom prst="roundRect">
            <a:avLst>
              <a:gd name="adj" fmla="val 16667"/>
            </a:avLst>
          </a:prstGeom>
          <a:solidFill>
            <a:srgbClr val="ff4e9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Rectangle: Rounded Corners 105"/>
          <p:cNvSpPr/>
          <p:nvPr/>
        </p:nvSpPr>
        <p:spPr>
          <a:xfrm>
            <a:off x="7929720" y="4707000"/>
            <a:ext cx="493560" cy="480960"/>
          </a:xfrm>
          <a:prstGeom prst="roundRect">
            <a:avLst>
              <a:gd name="adj" fmla="val 16667"/>
            </a:avLst>
          </a:prstGeom>
          <a:solidFill>
            <a:srgbClr val="ff4e9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Rectangle: Rounded Corners 106"/>
          <p:cNvSpPr/>
          <p:nvPr/>
        </p:nvSpPr>
        <p:spPr>
          <a:xfrm>
            <a:off x="8458200" y="4707000"/>
            <a:ext cx="493560" cy="480960"/>
          </a:xfrm>
          <a:prstGeom prst="roundRect">
            <a:avLst>
              <a:gd name="adj" fmla="val 16667"/>
            </a:avLst>
          </a:prstGeom>
          <a:solidFill>
            <a:srgbClr val="ff4e9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Rectangle: Rounded Corners 107"/>
          <p:cNvSpPr/>
          <p:nvPr/>
        </p:nvSpPr>
        <p:spPr>
          <a:xfrm>
            <a:off x="8989920" y="4707000"/>
            <a:ext cx="493920" cy="480960"/>
          </a:xfrm>
          <a:prstGeom prst="roundRect">
            <a:avLst>
              <a:gd name="adj" fmla="val 16667"/>
            </a:avLst>
          </a:prstGeom>
          <a:solidFill>
            <a:srgbClr val="ff4e9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9" name="Rectangle: Rounded Corners 108"/>
          <p:cNvSpPr/>
          <p:nvPr/>
        </p:nvSpPr>
        <p:spPr>
          <a:xfrm>
            <a:off x="9518760" y="4707000"/>
            <a:ext cx="493560" cy="480960"/>
          </a:xfrm>
          <a:prstGeom prst="roundRect">
            <a:avLst>
              <a:gd name="adj" fmla="val 16667"/>
            </a:avLst>
          </a:prstGeom>
          <a:solidFill>
            <a:srgbClr val="ff4e9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Rectangle: Rounded Corners 109"/>
          <p:cNvSpPr/>
          <p:nvPr/>
        </p:nvSpPr>
        <p:spPr>
          <a:xfrm>
            <a:off x="10049040" y="4707000"/>
            <a:ext cx="493560" cy="480960"/>
          </a:xfrm>
          <a:prstGeom prst="roundRect">
            <a:avLst>
              <a:gd name="adj" fmla="val 16667"/>
            </a:avLst>
          </a:prstGeom>
          <a:solidFill>
            <a:srgbClr val="ff4e9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Freeform: Shape 110"/>
          <p:cNvSpPr/>
          <p:nvPr/>
        </p:nvSpPr>
        <p:spPr>
          <a:xfrm>
            <a:off x="10578960" y="4707000"/>
            <a:ext cx="324000" cy="480960"/>
          </a:xfrm>
          <a:custGeom>
            <a:avLst/>
            <a:gdLst/>
            <a:ahLst/>
            <a:rect l="l" t="t" r="r" b="b"/>
            <a:pathLst>
              <a:path w="721232" h="1066985">
                <a:moveTo>
                  <a:pt x="0" y="0"/>
                </a:moveTo>
                <a:lnTo>
                  <a:pt x="187724" y="0"/>
                </a:lnTo>
                <a:cubicBezTo>
                  <a:pt x="481606" y="0"/>
                  <a:pt x="721232" y="239823"/>
                  <a:pt x="721232" y="533945"/>
                </a:cubicBezTo>
                <a:cubicBezTo>
                  <a:pt x="721232" y="827162"/>
                  <a:pt x="481606" y="1066985"/>
                  <a:pt x="187724" y="1066985"/>
                </a:cubicBezTo>
                <a:lnTo>
                  <a:pt x="0" y="1066985"/>
                </a:lnTo>
                <a:lnTo>
                  <a:pt x="0" y="0"/>
                </a:lnTo>
                <a:close/>
              </a:path>
            </a:pathLst>
          </a:custGeom>
          <a:solidFill>
            <a:srgbClr val="ff4e9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2" name="Rectangle: Rounded Corners 112"/>
          <p:cNvSpPr/>
          <p:nvPr/>
        </p:nvSpPr>
        <p:spPr>
          <a:xfrm>
            <a:off x="1652760" y="2873520"/>
            <a:ext cx="492120" cy="480960"/>
          </a:xfrm>
          <a:prstGeom prst="roundRect">
            <a:avLst>
              <a:gd name="adj" fmla="val 16667"/>
            </a:avLst>
          </a:prstGeom>
          <a:solidFill>
            <a:srgbClr val="06d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3" name="Rectangle: Rounded Corners 113"/>
          <p:cNvSpPr/>
          <p:nvPr/>
        </p:nvSpPr>
        <p:spPr>
          <a:xfrm>
            <a:off x="2184480" y="2873520"/>
            <a:ext cx="493560" cy="480960"/>
          </a:xfrm>
          <a:prstGeom prst="roundRect">
            <a:avLst>
              <a:gd name="adj" fmla="val 16667"/>
            </a:avLst>
          </a:prstGeom>
          <a:solidFill>
            <a:srgbClr val="06d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Rectangle: Rounded Corners 114"/>
          <p:cNvSpPr/>
          <p:nvPr/>
        </p:nvSpPr>
        <p:spPr>
          <a:xfrm>
            <a:off x="2712960" y="2873520"/>
            <a:ext cx="493920" cy="480960"/>
          </a:xfrm>
          <a:prstGeom prst="roundRect">
            <a:avLst>
              <a:gd name="adj" fmla="val 16667"/>
            </a:avLst>
          </a:prstGeom>
          <a:solidFill>
            <a:srgbClr val="06d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5" name="Rectangle: Rounded Corners 115"/>
          <p:cNvSpPr/>
          <p:nvPr/>
        </p:nvSpPr>
        <p:spPr>
          <a:xfrm>
            <a:off x="3243240" y="2873520"/>
            <a:ext cx="490680" cy="480960"/>
          </a:xfrm>
          <a:prstGeom prst="roundRect">
            <a:avLst>
              <a:gd name="adj" fmla="val 16667"/>
            </a:avLst>
          </a:prstGeom>
          <a:solidFill>
            <a:srgbClr val="06d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Rectangle: Rounded Corners 116"/>
          <p:cNvSpPr/>
          <p:nvPr/>
        </p:nvSpPr>
        <p:spPr>
          <a:xfrm>
            <a:off x="3773520" y="2873520"/>
            <a:ext cx="493560" cy="480960"/>
          </a:xfrm>
          <a:prstGeom prst="roundRect">
            <a:avLst>
              <a:gd name="adj" fmla="val 16667"/>
            </a:avLst>
          </a:prstGeom>
          <a:solidFill>
            <a:srgbClr val="06d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7" name="Rectangle: Rounded Corners 117"/>
          <p:cNvSpPr/>
          <p:nvPr/>
        </p:nvSpPr>
        <p:spPr>
          <a:xfrm>
            <a:off x="4303800" y="2873520"/>
            <a:ext cx="493560" cy="480960"/>
          </a:xfrm>
          <a:prstGeom prst="roundRect">
            <a:avLst>
              <a:gd name="adj" fmla="val 16667"/>
            </a:avLst>
          </a:prstGeom>
          <a:solidFill>
            <a:srgbClr val="06d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8" name="Rectangle: Rounded Corners 118"/>
          <p:cNvSpPr/>
          <p:nvPr/>
        </p:nvSpPr>
        <p:spPr>
          <a:xfrm>
            <a:off x="4834080" y="2873520"/>
            <a:ext cx="528480" cy="480960"/>
          </a:xfrm>
          <a:prstGeom prst="roundRect">
            <a:avLst>
              <a:gd name="adj" fmla="val 16667"/>
            </a:avLst>
          </a:prstGeom>
          <a:solidFill>
            <a:srgbClr val="06d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Freeform: Shape 119"/>
          <p:cNvSpPr/>
          <p:nvPr/>
        </p:nvSpPr>
        <p:spPr>
          <a:xfrm>
            <a:off x="1290600" y="3486240"/>
            <a:ext cx="327240" cy="479160"/>
          </a:xfrm>
          <a:custGeom>
            <a:avLst/>
            <a:gdLst/>
            <a:ahLst/>
            <a:rect l="l" t="t" r="r" b="b"/>
            <a:pathLst>
              <a:path w="724305" h="1066986">
                <a:moveTo>
                  <a:pt x="533508" y="0"/>
                </a:moveTo>
                <a:lnTo>
                  <a:pt x="724305" y="0"/>
                </a:lnTo>
                <a:lnTo>
                  <a:pt x="724305" y="1066986"/>
                </a:lnTo>
                <a:lnTo>
                  <a:pt x="533508" y="1066986"/>
                </a:lnTo>
                <a:cubicBezTo>
                  <a:pt x="239626" y="1066986"/>
                  <a:pt x="0" y="826462"/>
                  <a:pt x="0" y="532589"/>
                </a:cubicBezTo>
                <a:cubicBezTo>
                  <a:pt x="0" y="240524"/>
                  <a:pt x="239626" y="0"/>
                  <a:pt x="533508" y="0"/>
                </a:cubicBezTo>
                <a:close/>
              </a:path>
            </a:pathLst>
          </a:custGeom>
          <a:solidFill>
            <a:srgbClr val="37e08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0" name="Rectangle: Rounded Corners 120"/>
          <p:cNvSpPr/>
          <p:nvPr/>
        </p:nvSpPr>
        <p:spPr>
          <a:xfrm>
            <a:off x="1652760" y="3486240"/>
            <a:ext cx="492120" cy="479160"/>
          </a:xfrm>
          <a:prstGeom prst="roundRect">
            <a:avLst>
              <a:gd name="adj" fmla="val 16667"/>
            </a:avLst>
          </a:prstGeom>
          <a:solidFill>
            <a:srgbClr val="37e08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Rectangle: Rounded Corners 121"/>
          <p:cNvSpPr/>
          <p:nvPr/>
        </p:nvSpPr>
        <p:spPr>
          <a:xfrm>
            <a:off x="2184480" y="3486240"/>
            <a:ext cx="493560" cy="479160"/>
          </a:xfrm>
          <a:prstGeom prst="roundRect">
            <a:avLst>
              <a:gd name="adj" fmla="val 16667"/>
            </a:avLst>
          </a:prstGeom>
          <a:solidFill>
            <a:srgbClr val="37e08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Rectangle: Rounded Corners 122"/>
          <p:cNvSpPr/>
          <p:nvPr/>
        </p:nvSpPr>
        <p:spPr>
          <a:xfrm>
            <a:off x="2712960" y="3486240"/>
            <a:ext cx="493920" cy="479160"/>
          </a:xfrm>
          <a:prstGeom prst="roundRect">
            <a:avLst>
              <a:gd name="adj" fmla="val 16667"/>
            </a:avLst>
          </a:prstGeom>
          <a:solidFill>
            <a:srgbClr val="37e08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3" name="Rectangle: Rounded Corners 123"/>
          <p:cNvSpPr/>
          <p:nvPr/>
        </p:nvSpPr>
        <p:spPr>
          <a:xfrm>
            <a:off x="3243240" y="3486240"/>
            <a:ext cx="490680" cy="479160"/>
          </a:xfrm>
          <a:prstGeom prst="roundRect">
            <a:avLst>
              <a:gd name="adj" fmla="val 16667"/>
            </a:avLst>
          </a:prstGeom>
          <a:solidFill>
            <a:srgbClr val="37e08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Rectangle: Rounded Corners 124"/>
          <p:cNvSpPr/>
          <p:nvPr/>
        </p:nvSpPr>
        <p:spPr>
          <a:xfrm>
            <a:off x="3773520" y="3486240"/>
            <a:ext cx="493560" cy="479160"/>
          </a:xfrm>
          <a:prstGeom prst="roundRect">
            <a:avLst>
              <a:gd name="adj" fmla="val 16667"/>
            </a:avLst>
          </a:prstGeom>
          <a:solidFill>
            <a:srgbClr val="37e08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Rectangle: Rounded Corners 125"/>
          <p:cNvSpPr/>
          <p:nvPr/>
        </p:nvSpPr>
        <p:spPr>
          <a:xfrm>
            <a:off x="4303800" y="3486240"/>
            <a:ext cx="493560" cy="479160"/>
          </a:xfrm>
          <a:prstGeom prst="roundRect">
            <a:avLst>
              <a:gd name="adj" fmla="val 16667"/>
            </a:avLst>
          </a:prstGeom>
          <a:solidFill>
            <a:srgbClr val="37e08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Rectangle: Rounded Corners 126"/>
          <p:cNvSpPr/>
          <p:nvPr/>
        </p:nvSpPr>
        <p:spPr>
          <a:xfrm>
            <a:off x="4834080" y="3486240"/>
            <a:ext cx="528480" cy="479160"/>
          </a:xfrm>
          <a:prstGeom prst="roundRect">
            <a:avLst>
              <a:gd name="adj" fmla="val 16667"/>
            </a:avLst>
          </a:prstGeom>
          <a:solidFill>
            <a:srgbClr val="37e08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7" name="Freeform: Shape 127"/>
          <p:cNvSpPr/>
          <p:nvPr/>
        </p:nvSpPr>
        <p:spPr>
          <a:xfrm>
            <a:off x="1290600" y="4707000"/>
            <a:ext cx="327240" cy="480960"/>
          </a:xfrm>
          <a:custGeom>
            <a:avLst/>
            <a:gdLst/>
            <a:ahLst/>
            <a:rect l="l" t="t" r="r" b="b"/>
            <a:pathLst>
              <a:path w="724305" h="1066985">
                <a:moveTo>
                  <a:pt x="533508" y="0"/>
                </a:moveTo>
                <a:lnTo>
                  <a:pt x="724305" y="0"/>
                </a:lnTo>
                <a:lnTo>
                  <a:pt x="724305" y="1066985"/>
                </a:lnTo>
                <a:lnTo>
                  <a:pt x="533508" y="1066985"/>
                </a:lnTo>
                <a:cubicBezTo>
                  <a:pt x="239626" y="1066985"/>
                  <a:pt x="0" y="827162"/>
                  <a:pt x="0" y="533945"/>
                </a:cubicBezTo>
                <a:cubicBezTo>
                  <a:pt x="0" y="239823"/>
                  <a:pt x="239626" y="0"/>
                  <a:pt x="533508" y="0"/>
                </a:cubicBezTo>
                <a:close/>
              </a:path>
            </a:pathLst>
          </a:custGeom>
          <a:solidFill>
            <a:srgbClr val="ff4e9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8" name="Rectangle: Rounded Corners 128"/>
          <p:cNvSpPr/>
          <p:nvPr/>
        </p:nvSpPr>
        <p:spPr>
          <a:xfrm>
            <a:off x="1652760" y="4707000"/>
            <a:ext cx="492120" cy="480960"/>
          </a:xfrm>
          <a:prstGeom prst="roundRect">
            <a:avLst>
              <a:gd name="adj" fmla="val 16667"/>
            </a:avLst>
          </a:prstGeom>
          <a:solidFill>
            <a:srgbClr val="ff4e9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ectangle: Rounded Corners 129"/>
          <p:cNvSpPr/>
          <p:nvPr/>
        </p:nvSpPr>
        <p:spPr>
          <a:xfrm>
            <a:off x="2184480" y="4707000"/>
            <a:ext cx="493560" cy="480960"/>
          </a:xfrm>
          <a:prstGeom prst="roundRect">
            <a:avLst>
              <a:gd name="adj" fmla="val 16667"/>
            </a:avLst>
          </a:prstGeom>
          <a:solidFill>
            <a:srgbClr val="ff4e9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Rectangle: Rounded Corners 130"/>
          <p:cNvSpPr/>
          <p:nvPr/>
        </p:nvSpPr>
        <p:spPr>
          <a:xfrm>
            <a:off x="2712960" y="4707000"/>
            <a:ext cx="493920" cy="480960"/>
          </a:xfrm>
          <a:prstGeom prst="roundRect">
            <a:avLst>
              <a:gd name="adj" fmla="val 16667"/>
            </a:avLst>
          </a:prstGeom>
          <a:solidFill>
            <a:srgbClr val="ff4e9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Rectangle: Rounded Corners 131"/>
          <p:cNvSpPr/>
          <p:nvPr/>
        </p:nvSpPr>
        <p:spPr>
          <a:xfrm>
            <a:off x="3243240" y="4707000"/>
            <a:ext cx="490680" cy="480960"/>
          </a:xfrm>
          <a:prstGeom prst="roundRect">
            <a:avLst>
              <a:gd name="adj" fmla="val 16667"/>
            </a:avLst>
          </a:prstGeom>
          <a:solidFill>
            <a:srgbClr val="ff4e9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Rectangle: Rounded Corners 132"/>
          <p:cNvSpPr/>
          <p:nvPr/>
        </p:nvSpPr>
        <p:spPr>
          <a:xfrm>
            <a:off x="3773520" y="4707000"/>
            <a:ext cx="493560" cy="480960"/>
          </a:xfrm>
          <a:prstGeom prst="roundRect">
            <a:avLst>
              <a:gd name="adj" fmla="val 16667"/>
            </a:avLst>
          </a:prstGeom>
          <a:solidFill>
            <a:srgbClr val="ff4e9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Rectangle: Rounded Corners 133"/>
          <p:cNvSpPr/>
          <p:nvPr/>
        </p:nvSpPr>
        <p:spPr>
          <a:xfrm>
            <a:off x="4303800" y="4707000"/>
            <a:ext cx="493560" cy="480960"/>
          </a:xfrm>
          <a:prstGeom prst="roundRect">
            <a:avLst>
              <a:gd name="adj" fmla="val 16667"/>
            </a:avLst>
          </a:prstGeom>
          <a:solidFill>
            <a:srgbClr val="ff4e9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Rectangle: Rounded Corners 134"/>
          <p:cNvSpPr/>
          <p:nvPr/>
        </p:nvSpPr>
        <p:spPr>
          <a:xfrm>
            <a:off x="4834080" y="4707000"/>
            <a:ext cx="528480" cy="480960"/>
          </a:xfrm>
          <a:prstGeom prst="roundRect">
            <a:avLst>
              <a:gd name="adj" fmla="val 16667"/>
            </a:avLst>
          </a:prstGeom>
          <a:solidFill>
            <a:srgbClr val="ff4e9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Freeform 149"/>
          <p:cNvSpPr/>
          <p:nvPr/>
        </p:nvSpPr>
        <p:spPr>
          <a:xfrm>
            <a:off x="2860560" y="3016080"/>
            <a:ext cx="198720" cy="196920"/>
          </a:xfrm>
          <a:custGeom>
            <a:avLst/>
            <a:gdLst/>
            <a:ahLst/>
            <a:rect l="l" t="t" r="r" b="b"/>
            <a:pathLst>
              <a:path w="485" h="484">
                <a:moveTo>
                  <a:pt x="447" y="0"/>
                </a:moveTo>
                <a:lnTo>
                  <a:pt x="242" y="205"/>
                </a:lnTo>
                <a:lnTo>
                  <a:pt x="37" y="0"/>
                </a:lnTo>
                <a:lnTo>
                  <a:pt x="0" y="0"/>
                </a:lnTo>
                <a:lnTo>
                  <a:pt x="0" y="37"/>
                </a:lnTo>
                <a:lnTo>
                  <a:pt x="206" y="241"/>
                </a:lnTo>
                <a:lnTo>
                  <a:pt x="0" y="446"/>
                </a:lnTo>
                <a:lnTo>
                  <a:pt x="0" y="483"/>
                </a:lnTo>
                <a:lnTo>
                  <a:pt x="37" y="483"/>
                </a:lnTo>
                <a:lnTo>
                  <a:pt x="242" y="278"/>
                </a:lnTo>
                <a:lnTo>
                  <a:pt x="447" y="483"/>
                </a:lnTo>
                <a:lnTo>
                  <a:pt x="484" y="483"/>
                </a:lnTo>
                <a:lnTo>
                  <a:pt x="484" y="446"/>
                </a:lnTo>
                <a:lnTo>
                  <a:pt x="279" y="241"/>
                </a:lnTo>
                <a:lnTo>
                  <a:pt x="484" y="37"/>
                </a:lnTo>
                <a:lnTo>
                  <a:pt x="484"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96" name="Freeform 151"/>
          <p:cNvSpPr/>
          <p:nvPr/>
        </p:nvSpPr>
        <p:spPr>
          <a:xfrm>
            <a:off x="2860560" y="3627360"/>
            <a:ext cx="198720" cy="196920"/>
          </a:xfrm>
          <a:custGeom>
            <a:avLst/>
            <a:gdLst/>
            <a:ahLst/>
            <a:rect l="l" t="t" r="r" b="b"/>
            <a:pathLst>
              <a:path w="485" h="484">
                <a:moveTo>
                  <a:pt x="447" y="0"/>
                </a:moveTo>
                <a:lnTo>
                  <a:pt x="242" y="204"/>
                </a:lnTo>
                <a:lnTo>
                  <a:pt x="37" y="0"/>
                </a:lnTo>
                <a:lnTo>
                  <a:pt x="0" y="0"/>
                </a:lnTo>
                <a:lnTo>
                  <a:pt x="0" y="36"/>
                </a:lnTo>
                <a:lnTo>
                  <a:pt x="206" y="240"/>
                </a:lnTo>
                <a:lnTo>
                  <a:pt x="0" y="445"/>
                </a:lnTo>
                <a:lnTo>
                  <a:pt x="0" y="483"/>
                </a:lnTo>
                <a:lnTo>
                  <a:pt x="37" y="483"/>
                </a:lnTo>
                <a:lnTo>
                  <a:pt x="242" y="277"/>
                </a:lnTo>
                <a:lnTo>
                  <a:pt x="447" y="483"/>
                </a:lnTo>
                <a:lnTo>
                  <a:pt x="484" y="483"/>
                </a:lnTo>
                <a:lnTo>
                  <a:pt x="484" y="445"/>
                </a:lnTo>
                <a:lnTo>
                  <a:pt x="279" y="240"/>
                </a:lnTo>
                <a:lnTo>
                  <a:pt x="484" y="36"/>
                </a:lnTo>
                <a:lnTo>
                  <a:pt x="484"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97" name="Freeform 157"/>
          <p:cNvSpPr/>
          <p:nvPr/>
        </p:nvSpPr>
        <p:spPr>
          <a:xfrm>
            <a:off x="3387600" y="3016080"/>
            <a:ext cx="198720" cy="196920"/>
          </a:xfrm>
          <a:custGeom>
            <a:avLst/>
            <a:gdLst/>
            <a:ahLst/>
            <a:rect l="l" t="t" r="r" b="b"/>
            <a:pathLst>
              <a:path w="484" h="484">
                <a:moveTo>
                  <a:pt x="447" y="0"/>
                </a:moveTo>
                <a:lnTo>
                  <a:pt x="242" y="205"/>
                </a:lnTo>
                <a:lnTo>
                  <a:pt x="37" y="0"/>
                </a:lnTo>
                <a:lnTo>
                  <a:pt x="0" y="0"/>
                </a:lnTo>
                <a:lnTo>
                  <a:pt x="0" y="37"/>
                </a:lnTo>
                <a:lnTo>
                  <a:pt x="204" y="241"/>
                </a:lnTo>
                <a:lnTo>
                  <a:pt x="0" y="446"/>
                </a:lnTo>
                <a:lnTo>
                  <a:pt x="0" y="483"/>
                </a:lnTo>
                <a:lnTo>
                  <a:pt x="37" y="483"/>
                </a:lnTo>
                <a:lnTo>
                  <a:pt x="242" y="278"/>
                </a:lnTo>
                <a:lnTo>
                  <a:pt x="447" y="483"/>
                </a:lnTo>
                <a:lnTo>
                  <a:pt x="483" y="483"/>
                </a:lnTo>
                <a:lnTo>
                  <a:pt x="483" y="446"/>
                </a:lnTo>
                <a:lnTo>
                  <a:pt x="278" y="241"/>
                </a:lnTo>
                <a:lnTo>
                  <a:pt x="483" y="37"/>
                </a:lnTo>
                <a:lnTo>
                  <a:pt x="483"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98" name="Freeform 159"/>
          <p:cNvSpPr/>
          <p:nvPr/>
        </p:nvSpPr>
        <p:spPr>
          <a:xfrm>
            <a:off x="3387600" y="3627360"/>
            <a:ext cx="198720" cy="196920"/>
          </a:xfrm>
          <a:custGeom>
            <a:avLst/>
            <a:gdLst/>
            <a:ahLst/>
            <a:rect l="l" t="t" r="r" b="b"/>
            <a:pathLst>
              <a:path w="484" h="484">
                <a:moveTo>
                  <a:pt x="447" y="0"/>
                </a:moveTo>
                <a:lnTo>
                  <a:pt x="242" y="204"/>
                </a:lnTo>
                <a:lnTo>
                  <a:pt x="37" y="0"/>
                </a:lnTo>
                <a:lnTo>
                  <a:pt x="0" y="0"/>
                </a:lnTo>
                <a:lnTo>
                  <a:pt x="0" y="36"/>
                </a:lnTo>
                <a:lnTo>
                  <a:pt x="204" y="240"/>
                </a:lnTo>
                <a:lnTo>
                  <a:pt x="0" y="445"/>
                </a:lnTo>
                <a:lnTo>
                  <a:pt x="0" y="483"/>
                </a:lnTo>
                <a:lnTo>
                  <a:pt x="37" y="483"/>
                </a:lnTo>
                <a:lnTo>
                  <a:pt x="242" y="277"/>
                </a:lnTo>
                <a:lnTo>
                  <a:pt x="447" y="483"/>
                </a:lnTo>
                <a:lnTo>
                  <a:pt x="483" y="483"/>
                </a:lnTo>
                <a:lnTo>
                  <a:pt x="483" y="445"/>
                </a:lnTo>
                <a:lnTo>
                  <a:pt x="278" y="240"/>
                </a:lnTo>
                <a:lnTo>
                  <a:pt x="483" y="36"/>
                </a:lnTo>
                <a:lnTo>
                  <a:pt x="483"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99" name="Freeform 166"/>
          <p:cNvSpPr/>
          <p:nvPr/>
        </p:nvSpPr>
        <p:spPr>
          <a:xfrm>
            <a:off x="2333520" y="3016080"/>
            <a:ext cx="196920" cy="196920"/>
          </a:xfrm>
          <a:custGeom>
            <a:avLst/>
            <a:gdLst/>
            <a:ahLst/>
            <a:rect l="l" t="t" r="r" b="b"/>
            <a:pathLst>
              <a:path w="484" h="484">
                <a:moveTo>
                  <a:pt x="446" y="0"/>
                </a:moveTo>
                <a:lnTo>
                  <a:pt x="242" y="205"/>
                </a:lnTo>
                <a:lnTo>
                  <a:pt x="37" y="0"/>
                </a:lnTo>
                <a:lnTo>
                  <a:pt x="0" y="0"/>
                </a:lnTo>
                <a:lnTo>
                  <a:pt x="0" y="37"/>
                </a:lnTo>
                <a:lnTo>
                  <a:pt x="205" y="241"/>
                </a:lnTo>
                <a:lnTo>
                  <a:pt x="0" y="446"/>
                </a:lnTo>
                <a:lnTo>
                  <a:pt x="0" y="483"/>
                </a:lnTo>
                <a:lnTo>
                  <a:pt x="37" y="483"/>
                </a:lnTo>
                <a:lnTo>
                  <a:pt x="242" y="278"/>
                </a:lnTo>
                <a:lnTo>
                  <a:pt x="446" y="483"/>
                </a:lnTo>
                <a:lnTo>
                  <a:pt x="483" y="483"/>
                </a:lnTo>
                <a:lnTo>
                  <a:pt x="483" y="446"/>
                </a:lnTo>
                <a:lnTo>
                  <a:pt x="278" y="241"/>
                </a:lnTo>
                <a:lnTo>
                  <a:pt x="483" y="37"/>
                </a:lnTo>
                <a:lnTo>
                  <a:pt x="483" y="0"/>
                </a:lnTo>
                <a:lnTo>
                  <a:pt x="446"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00" name="Freeform 168"/>
          <p:cNvSpPr/>
          <p:nvPr/>
        </p:nvSpPr>
        <p:spPr>
          <a:xfrm>
            <a:off x="2333520" y="3627360"/>
            <a:ext cx="196920" cy="196920"/>
          </a:xfrm>
          <a:custGeom>
            <a:avLst/>
            <a:gdLst/>
            <a:ahLst/>
            <a:rect l="l" t="t" r="r" b="b"/>
            <a:pathLst>
              <a:path w="484" h="484">
                <a:moveTo>
                  <a:pt x="446" y="0"/>
                </a:moveTo>
                <a:lnTo>
                  <a:pt x="242" y="204"/>
                </a:lnTo>
                <a:lnTo>
                  <a:pt x="37" y="0"/>
                </a:lnTo>
                <a:lnTo>
                  <a:pt x="0" y="0"/>
                </a:lnTo>
                <a:lnTo>
                  <a:pt x="0" y="36"/>
                </a:lnTo>
                <a:lnTo>
                  <a:pt x="205" y="240"/>
                </a:lnTo>
                <a:lnTo>
                  <a:pt x="0" y="445"/>
                </a:lnTo>
                <a:lnTo>
                  <a:pt x="0" y="483"/>
                </a:lnTo>
                <a:lnTo>
                  <a:pt x="37" y="483"/>
                </a:lnTo>
                <a:lnTo>
                  <a:pt x="242" y="277"/>
                </a:lnTo>
                <a:lnTo>
                  <a:pt x="446" y="483"/>
                </a:lnTo>
                <a:lnTo>
                  <a:pt x="483" y="483"/>
                </a:lnTo>
                <a:lnTo>
                  <a:pt x="483" y="445"/>
                </a:lnTo>
                <a:lnTo>
                  <a:pt x="278" y="240"/>
                </a:lnTo>
                <a:lnTo>
                  <a:pt x="483" y="36"/>
                </a:lnTo>
                <a:lnTo>
                  <a:pt x="483" y="0"/>
                </a:lnTo>
                <a:lnTo>
                  <a:pt x="446"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01" name="Freeform 174"/>
          <p:cNvSpPr/>
          <p:nvPr/>
        </p:nvSpPr>
        <p:spPr>
          <a:xfrm>
            <a:off x="4998960" y="3016080"/>
            <a:ext cx="198360" cy="196920"/>
          </a:xfrm>
          <a:custGeom>
            <a:avLst/>
            <a:gdLst/>
            <a:ahLst/>
            <a:rect l="l" t="t" r="r" b="b"/>
            <a:pathLst>
              <a:path w="484" h="484">
                <a:moveTo>
                  <a:pt x="447" y="0"/>
                </a:moveTo>
                <a:lnTo>
                  <a:pt x="241" y="205"/>
                </a:lnTo>
                <a:lnTo>
                  <a:pt x="37" y="0"/>
                </a:lnTo>
                <a:lnTo>
                  <a:pt x="0" y="0"/>
                </a:lnTo>
                <a:lnTo>
                  <a:pt x="0" y="37"/>
                </a:lnTo>
                <a:lnTo>
                  <a:pt x="204" y="241"/>
                </a:lnTo>
                <a:lnTo>
                  <a:pt x="0" y="446"/>
                </a:lnTo>
                <a:lnTo>
                  <a:pt x="0" y="483"/>
                </a:lnTo>
                <a:lnTo>
                  <a:pt x="37" y="483"/>
                </a:lnTo>
                <a:lnTo>
                  <a:pt x="241" y="278"/>
                </a:lnTo>
                <a:lnTo>
                  <a:pt x="447" y="483"/>
                </a:lnTo>
                <a:lnTo>
                  <a:pt x="483" y="483"/>
                </a:lnTo>
                <a:lnTo>
                  <a:pt x="483" y="446"/>
                </a:lnTo>
                <a:lnTo>
                  <a:pt x="278" y="241"/>
                </a:lnTo>
                <a:lnTo>
                  <a:pt x="483" y="37"/>
                </a:lnTo>
                <a:lnTo>
                  <a:pt x="483"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02" name="Freeform 176"/>
          <p:cNvSpPr/>
          <p:nvPr/>
        </p:nvSpPr>
        <p:spPr>
          <a:xfrm>
            <a:off x="4998960" y="3627360"/>
            <a:ext cx="198360" cy="196920"/>
          </a:xfrm>
          <a:custGeom>
            <a:avLst/>
            <a:gdLst/>
            <a:ahLst/>
            <a:rect l="l" t="t" r="r" b="b"/>
            <a:pathLst>
              <a:path w="484" h="484">
                <a:moveTo>
                  <a:pt x="447" y="0"/>
                </a:moveTo>
                <a:lnTo>
                  <a:pt x="241" y="204"/>
                </a:lnTo>
                <a:lnTo>
                  <a:pt x="37" y="0"/>
                </a:lnTo>
                <a:lnTo>
                  <a:pt x="0" y="0"/>
                </a:lnTo>
                <a:lnTo>
                  <a:pt x="0" y="36"/>
                </a:lnTo>
                <a:lnTo>
                  <a:pt x="204" y="240"/>
                </a:lnTo>
                <a:lnTo>
                  <a:pt x="0" y="445"/>
                </a:lnTo>
                <a:lnTo>
                  <a:pt x="0" y="483"/>
                </a:lnTo>
                <a:lnTo>
                  <a:pt x="37" y="483"/>
                </a:lnTo>
                <a:lnTo>
                  <a:pt x="241" y="277"/>
                </a:lnTo>
                <a:lnTo>
                  <a:pt x="447" y="483"/>
                </a:lnTo>
                <a:lnTo>
                  <a:pt x="483" y="483"/>
                </a:lnTo>
                <a:lnTo>
                  <a:pt x="483" y="445"/>
                </a:lnTo>
                <a:lnTo>
                  <a:pt x="278" y="240"/>
                </a:lnTo>
                <a:lnTo>
                  <a:pt x="483" y="36"/>
                </a:lnTo>
                <a:lnTo>
                  <a:pt x="483"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03" name="Freeform: Shape 143"/>
          <p:cNvSpPr/>
          <p:nvPr/>
        </p:nvSpPr>
        <p:spPr>
          <a:xfrm>
            <a:off x="1290600" y="5318280"/>
            <a:ext cx="327240" cy="479160"/>
          </a:xfrm>
          <a:custGeom>
            <a:avLst/>
            <a:gdLst/>
            <a:ahLst/>
            <a:rect l="l" t="t" r="r" b="b"/>
            <a:pathLst>
              <a:path w="724305" h="1066986">
                <a:moveTo>
                  <a:pt x="533508" y="0"/>
                </a:moveTo>
                <a:lnTo>
                  <a:pt x="724305" y="0"/>
                </a:lnTo>
                <a:lnTo>
                  <a:pt x="724305" y="1066986"/>
                </a:lnTo>
                <a:lnTo>
                  <a:pt x="533508" y="1066986"/>
                </a:lnTo>
                <a:cubicBezTo>
                  <a:pt x="239626" y="1066986"/>
                  <a:pt x="0" y="826462"/>
                  <a:pt x="0" y="533493"/>
                </a:cubicBezTo>
                <a:cubicBezTo>
                  <a:pt x="0" y="239620"/>
                  <a:pt x="239626" y="0"/>
                  <a:pt x="533508" y="0"/>
                </a:cubicBezTo>
                <a:close/>
              </a:path>
            </a:pathLst>
          </a:custGeom>
          <a:solidFill>
            <a:srgbClr val="5b9b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4" name="Rectangle: Rounded Corners 144"/>
          <p:cNvSpPr/>
          <p:nvPr/>
        </p:nvSpPr>
        <p:spPr>
          <a:xfrm>
            <a:off x="1649520" y="5318280"/>
            <a:ext cx="495360" cy="479160"/>
          </a:xfrm>
          <a:prstGeom prst="roundRect">
            <a:avLst>
              <a:gd name="adj" fmla="val 16667"/>
            </a:avLst>
          </a:prstGeom>
          <a:solidFill>
            <a:srgbClr val="5b9b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Rectangle: Rounded Corners 145"/>
          <p:cNvSpPr/>
          <p:nvPr/>
        </p:nvSpPr>
        <p:spPr>
          <a:xfrm>
            <a:off x="2184480" y="5318280"/>
            <a:ext cx="495360" cy="479160"/>
          </a:xfrm>
          <a:prstGeom prst="roundRect">
            <a:avLst>
              <a:gd name="adj" fmla="val 16667"/>
            </a:avLst>
          </a:prstGeom>
          <a:solidFill>
            <a:srgbClr val="5b9b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Rectangle: Rounded Corners 146"/>
          <p:cNvSpPr/>
          <p:nvPr/>
        </p:nvSpPr>
        <p:spPr>
          <a:xfrm>
            <a:off x="2711520" y="5318280"/>
            <a:ext cx="495360" cy="479160"/>
          </a:xfrm>
          <a:prstGeom prst="roundRect">
            <a:avLst>
              <a:gd name="adj" fmla="val 16667"/>
            </a:avLst>
          </a:prstGeom>
          <a:solidFill>
            <a:srgbClr val="5b9b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7" name="Rectangle: Rounded Corners 147"/>
          <p:cNvSpPr/>
          <p:nvPr/>
        </p:nvSpPr>
        <p:spPr>
          <a:xfrm>
            <a:off x="3240000" y="5318280"/>
            <a:ext cx="493920" cy="479160"/>
          </a:xfrm>
          <a:prstGeom prst="roundRect">
            <a:avLst>
              <a:gd name="adj" fmla="val 16667"/>
            </a:avLst>
          </a:prstGeom>
          <a:solidFill>
            <a:srgbClr val="5b9b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Rectangle: Rounded Corners 148"/>
          <p:cNvSpPr/>
          <p:nvPr/>
        </p:nvSpPr>
        <p:spPr>
          <a:xfrm>
            <a:off x="3773520" y="5318280"/>
            <a:ext cx="495360" cy="479160"/>
          </a:xfrm>
          <a:prstGeom prst="roundRect">
            <a:avLst>
              <a:gd name="adj" fmla="val 16667"/>
            </a:avLst>
          </a:prstGeom>
          <a:solidFill>
            <a:srgbClr val="5b9b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9" name="Rectangle: Rounded Corners 149"/>
          <p:cNvSpPr/>
          <p:nvPr/>
        </p:nvSpPr>
        <p:spPr>
          <a:xfrm>
            <a:off x="4303800" y="5318280"/>
            <a:ext cx="493560" cy="479160"/>
          </a:xfrm>
          <a:prstGeom prst="roundRect">
            <a:avLst>
              <a:gd name="adj" fmla="val 16667"/>
            </a:avLst>
          </a:prstGeom>
          <a:solidFill>
            <a:srgbClr val="5b9b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0" name="Rectangle: Rounded Corners 150"/>
          <p:cNvSpPr/>
          <p:nvPr/>
        </p:nvSpPr>
        <p:spPr>
          <a:xfrm>
            <a:off x="4830840" y="5318280"/>
            <a:ext cx="531720" cy="479160"/>
          </a:xfrm>
          <a:prstGeom prst="roundRect">
            <a:avLst>
              <a:gd name="adj" fmla="val 16667"/>
            </a:avLst>
          </a:prstGeom>
          <a:solidFill>
            <a:srgbClr val="5b9b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1" name="Freeform 182"/>
          <p:cNvSpPr/>
          <p:nvPr/>
        </p:nvSpPr>
        <p:spPr>
          <a:xfrm>
            <a:off x="4998960" y="5459400"/>
            <a:ext cx="198360" cy="196920"/>
          </a:xfrm>
          <a:custGeom>
            <a:avLst/>
            <a:gdLst/>
            <a:ahLst/>
            <a:rect l="l" t="t" r="r" b="b"/>
            <a:pathLst>
              <a:path w="484" h="485">
                <a:moveTo>
                  <a:pt x="447" y="0"/>
                </a:moveTo>
                <a:lnTo>
                  <a:pt x="241" y="206"/>
                </a:lnTo>
                <a:lnTo>
                  <a:pt x="37" y="0"/>
                </a:lnTo>
                <a:lnTo>
                  <a:pt x="0" y="0"/>
                </a:lnTo>
                <a:lnTo>
                  <a:pt x="0" y="37"/>
                </a:lnTo>
                <a:lnTo>
                  <a:pt x="204" y="242"/>
                </a:lnTo>
                <a:lnTo>
                  <a:pt x="0" y="446"/>
                </a:lnTo>
                <a:lnTo>
                  <a:pt x="0" y="484"/>
                </a:lnTo>
                <a:lnTo>
                  <a:pt x="37" y="484"/>
                </a:lnTo>
                <a:lnTo>
                  <a:pt x="241" y="278"/>
                </a:lnTo>
                <a:lnTo>
                  <a:pt x="447" y="484"/>
                </a:lnTo>
                <a:lnTo>
                  <a:pt x="483" y="484"/>
                </a:lnTo>
                <a:lnTo>
                  <a:pt x="483" y="446"/>
                </a:lnTo>
                <a:lnTo>
                  <a:pt x="278" y="242"/>
                </a:lnTo>
                <a:lnTo>
                  <a:pt x="483" y="37"/>
                </a:lnTo>
                <a:lnTo>
                  <a:pt x="483"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12" name="Rectangle: Rounded Corners 152"/>
          <p:cNvSpPr/>
          <p:nvPr/>
        </p:nvSpPr>
        <p:spPr>
          <a:xfrm>
            <a:off x="6829560" y="2873520"/>
            <a:ext cx="533160" cy="480960"/>
          </a:xfrm>
          <a:prstGeom prst="roundRect">
            <a:avLst>
              <a:gd name="adj" fmla="val 16667"/>
            </a:avLst>
          </a:prstGeom>
          <a:solidFill>
            <a:srgbClr val="06d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Rectangle: Rounded Corners 153"/>
          <p:cNvSpPr/>
          <p:nvPr/>
        </p:nvSpPr>
        <p:spPr>
          <a:xfrm>
            <a:off x="7397640" y="2873520"/>
            <a:ext cx="493920" cy="480960"/>
          </a:xfrm>
          <a:prstGeom prst="roundRect">
            <a:avLst>
              <a:gd name="adj" fmla="val 16667"/>
            </a:avLst>
          </a:prstGeom>
          <a:solidFill>
            <a:srgbClr val="06d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Rectangle: Rounded Corners 154"/>
          <p:cNvSpPr/>
          <p:nvPr/>
        </p:nvSpPr>
        <p:spPr>
          <a:xfrm>
            <a:off x="7929720" y="2873520"/>
            <a:ext cx="493560" cy="480960"/>
          </a:xfrm>
          <a:prstGeom prst="roundRect">
            <a:avLst>
              <a:gd name="adj" fmla="val 16667"/>
            </a:avLst>
          </a:prstGeom>
          <a:solidFill>
            <a:srgbClr val="06d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5" name="Rectangle: Rounded Corners 155"/>
          <p:cNvSpPr/>
          <p:nvPr/>
        </p:nvSpPr>
        <p:spPr>
          <a:xfrm>
            <a:off x="8458200" y="2873520"/>
            <a:ext cx="493560" cy="480960"/>
          </a:xfrm>
          <a:prstGeom prst="roundRect">
            <a:avLst>
              <a:gd name="adj" fmla="val 16667"/>
            </a:avLst>
          </a:prstGeom>
          <a:solidFill>
            <a:srgbClr val="06d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Rectangle: Rounded Corners 156"/>
          <p:cNvSpPr/>
          <p:nvPr/>
        </p:nvSpPr>
        <p:spPr>
          <a:xfrm>
            <a:off x="8989920" y="2873520"/>
            <a:ext cx="493920" cy="480960"/>
          </a:xfrm>
          <a:prstGeom prst="roundRect">
            <a:avLst>
              <a:gd name="adj" fmla="val 16667"/>
            </a:avLst>
          </a:prstGeom>
          <a:solidFill>
            <a:srgbClr val="06d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Rectangle: Rounded Corners 157"/>
          <p:cNvSpPr/>
          <p:nvPr/>
        </p:nvSpPr>
        <p:spPr>
          <a:xfrm>
            <a:off x="9518760" y="2873520"/>
            <a:ext cx="493560" cy="480960"/>
          </a:xfrm>
          <a:prstGeom prst="roundRect">
            <a:avLst>
              <a:gd name="adj" fmla="val 16667"/>
            </a:avLst>
          </a:prstGeom>
          <a:solidFill>
            <a:srgbClr val="06d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Rectangle: Rounded Corners 158"/>
          <p:cNvSpPr/>
          <p:nvPr/>
        </p:nvSpPr>
        <p:spPr>
          <a:xfrm>
            <a:off x="10049040" y="2873520"/>
            <a:ext cx="493560" cy="480960"/>
          </a:xfrm>
          <a:prstGeom prst="roundRect">
            <a:avLst>
              <a:gd name="adj" fmla="val 16667"/>
            </a:avLst>
          </a:prstGeom>
          <a:solidFill>
            <a:srgbClr val="06d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Freeform 184"/>
          <p:cNvSpPr/>
          <p:nvPr/>
        </p:nvSpPr>
        <p:spPr>
          <a:xfrm>
            <a:off x="6997680" y="3016080"/>
            <a:ext cx="198360" cy="196920"/>
          </a:xfrm>
          <a:custGeom>
            <a:avLst/>
            <a:gdLst/>
            <a:ahLst/>
            <a:rect l="l" t="t" r="r" b="b"/>
            <a:pathLst>
              <a:path w="484" h="484">
                <a:moveTo>
                  <a:pt x="447" y="0"/>
                </a:moveTo>
                <a:lnTo>
                  <a:pt x="241" y="205"/>
                </a:lnTo>
                <a:lnTo>
                  <a:pt x="36" y="0"/>
                </a:lnTo>
                <a:lnTo>
                  <a:pt x="0" y="0"/>
                </a:lnTo>
                <a:lnTo>
                  <a:pt x="0" y="37"/>
                </a:lnTo>
                <a:lnTo>
                  <a:pt x="205" y="241"/>
                </a:lnTo>
                <a:lnTo>
                  <a:pt x="0" y="446"/>
                </a:lnTo>
                <a:lnTo>
                  <a:pt x="0" y="483"/>
                </a:lnTo>
                <a:lnTo>
                  <a:pt x="36" y="483"/>
                </a:lnTo>
                <a:lnTo>
                  <a:pt x="241" y="278"/>
                </a:lnTo>
                <a:lnTo>
                  <a:pt x="447" y="483"/>
                </a:lnTo>
                <a:lnTo>
                  <a:pt x="483" y="483"/>
                </a:lnTo>
                <a:lnTo>
                  <a:pt x="483" y="446"/>
                </a:lnTo>
                <a:lnTo>
                  <a:pt x="278" y="241"/>
                </a:lnTo>
                <a:lnTo>
                  <a:pt x="483" y="37"/>
                </a:lnTo>
                <a:lnTo>
                  <a:pt x="483"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20" name="Rectangle: Rounded Corners 161"/>
          <p:cNvSpPr/>
          <p:nvPr/>
        </p:nvSpPr>
        <p:spPr>
          <a:xfrm>
            <a:off x="6829560" y="3486240"/>
            <a:ext cx="533160" cy="479160"/>
          </a:xfrm>
          <a:prstGeom prst="roundRect">
            <a:avLst>
              <a:gd name="adj" fmla="val 16667"/>
            </a:avLst>
          </a:prstGeom>
          <a:solidFill>
            <a:srgbClr val="37e08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Rectangle: Rounded Corners 162"/>
          <p:cNvSpPr/>
          <p:nvPr/>
        </p:nvSpPr>
        <p:spPr>
          <a:xfrm>
            <a:off x="7397640" y="3486240"/>
            <a:ext cx="493920" cy="479160"/>
          </a:xfrm>
          <a:prstGeom prst="roundRect">
            <a:avLst>
              <a:gd name="adj" fmla="val 16667"/>
            </a:avLst>
          </a:prstGeom>
          <a:solidFill>
            <a:srgbClr val="37e08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2" name="Rectangle: Rounded Corners 163"/>
          <p:cNvSpPr/>
          <p:nvPr/>
        </p:nvSpPr>
        <p:spPr>
          <a:xfrm>
            <a:off x="7929720" y="3486240"/>
            <a:ext cx="493560" cy="479160"/>
          </a:xfrm>
          <a:prstGeom prst="roundRect">
            <a:avLst>
              <a:gd name="adj" fmla="val 16667"/>
            </a:avLst>
          </a:prstGeom>
          <a:solidFill>
            <a:srgbClr val="37e08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Rectangle: Rounded Corners 164"/>
          <p:cNvSpPr/>
          <p:nvPr/>
        </p:nvSpPr>
        <p:spPr>
          <a:xfrm>
            <a:off x="8458200" y="3486240"/>
            <a:ext cx="493560" cy="479160"/>
          </a:xfrm>
          <a:prstGeom prst="roundRect">
            <a:avLst>
              <a:gd name="adj" fmla="val 16667"/>
            </a:avLst>
          </a:prstGeom>
          <a:solidFill>
            <a:srgbClr val="37e08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Rectangle: Rounded Corners 165"/>
          <p:cNvSpPr/>
          <p:nvPr/>
        </p:nvSpPr>
        <p:spPr>
          <a:xfrm>
            <a:off x="8989920" y="3486240"/>
            <a:ext cx="493920" cy="479160"/>
          </a:xfrm>
          <a:prstGeom prst="roundRect">
            <a:avLst>
              <a:gd name="adj" fmla="val 16667"/>
            </a:avLst>
          </a:prstGeom>
          <a:solidFill>
            <a:srgbClr val="37e08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5" name="Rectangle: Rounded Corners 166"/>
          <p:cNvSpPr/>
          <p:nvPr/>
        </p:nvSpPr>
        <p:spPr>
          <a:xfrm>
            <a:off x="9518760" y="3486240"/>
            <a:ext cx="493560" cy="479160"/>
          </a:xfrm>
          <a:prstGeom prst="roundRect">
            <a:avLst>
              <a:gd name="adj" fmla="val 16667"/>
            </a:avLst>
          </a:prstGeom>
          <a:solidFill>
            <a:srgbClr val="37e08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6" name="Rectangle: Rounded Corners 167"/>
          <p:cNvSpPr/>
          <p:nvPr/>
        </p:nvSpPr>
        <p:spPr>
          <a:xfrm>
            <a:off x="10049040" y="3486240"/>
            <a:ext cx="493560" cy="479160"/>
          </a:xfrm>
          <a:prstGeom prst="roundRect">
            <a:avLst>
              <a:gd name="adj" fmla="val 16667"/>
            </a:avLst>
          </a:prstGeom>
          <a:solidFill>
            <a:srgbClr val="37e08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Freeform: Shape 168"/>
          <p:cNvSpPr/>
          <p:nvPr/>
        </p:nvSpPr>
        <p:spPr>
          <a:xfrm>
            <a:off x="10578960" y="3486240"/>
            <a:ext cx="324000" cy="479160"/>
          </a:xfrm>
          <a:custGeom>
            <a:avLst/>
            <a:gdLst/>
            <a:ahLst/>
            <a:rect l="l" t="t" r="r" b="b"/>
            <a:pathLst>
              <a:path w="721232" h="1066986">
                <a:moveTo>
                  <a:pt x="0" y="0"/>
                </a:moveTo>
                <a:lnTo>
                  <a:pt x="187724" y="0"/>
                </a:lnTo>
                <a:cubicBezTo>
                  <a:pt x="481606" y="0"/>
                  <a:pt x="721232" y="240524"/>
                  <a:pt x="721232" y="532589"/>
                </a:cubicBezTo>
                <a:cubicBezTo>
                  <a:pt x="721232" y="826462"/>
                  <a:pt x="481606" y="1066986"/>
                  <a:pt x="187724" y="1066986"/>
                </a:cubicBezTo>
                <a:lnTo>
                  <a:pt x="0" y="1066986"/>
                </a:lnTo>
                <a:lnTo>
                  <a:pt x="0" y="0"/>
                </a:lnTo>
                <a:close/>
              </a:path>
            </a:pathLst>
          </a:custGeom>
          <a:solidFill>
            <a:srgbClr val="37e08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8" name="Freeform 186"/>
          <p:cNvSpPr/>
          <p:nvPr/>
        </p:nvSpPr>
        <p:spPr>
          <a:xfrm>
            <a:off x="6997680" y="3627360"/>
            <a:ext cx="198360" cy="196920"/>
          </a:xfrm>
          <a:custGeom>
            <a:avLst/>
            <a:gdLst/>
            <a:ahLst/>
            <a:rect l="l" t="t" r="r" b="b"/>
            <a:pathLst>
              <a:path w="484" h="484">
                <a:moveTo>
                  <a:pt x="447" y="0"/>
                </a:moveTo>
                <a:lnTo>
                  <a:pt x="241" y="204"/>
                </a:lnTo>
                <a:lnTo>
                  <a:pt x="36" y="0"/>
                </a:lnTo>
                <a:lnTo>
                  <a:pt x="0" y="0"/>
                </a:lnTo>
                <a:lnTo>
                  <a:pt x="0" y="36"/>
                </a:lnTo>
                <a:lnTo>
                  <a:pt x="205" y="240"/>
                </a:lnTo>
                <a:lnTo>
                  <a:pt x="0" y="445"/>
                </a:lnTo>
                <a:lnTo>
                  <a:pt x="0" y="483"/>
                </a:lnTo>
                <a:lnTo>
                  <a:pt x="36" y="483"/>
                </a:lnTo>
                <a:lnTo>
                  <a:pt x="241" y="277"/>
                </a:lnTo>
                <a:lnTo>
                  <a:pt x="447" y="483"/>
                </a:lnTo>
                <a:lnTo>
                  <a:pt x="483" y="483"/>
                </a:lnTo>
                <a:lnTo>
                  <a:pt x="483" y="445"/>
                </a:lnTo>
                <a:lnTo>
                  <a:pt x="278" y="240"/>
                </a:lnTo>
                <a:lnTo>
                  <a:pt x="483" y="36"/>
                </a:lnTo>
                <a:lnTo>
                  <a:pt x="483"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29" name="Freeform 188"/>
          <p:cNvSpPr/>
          <p:nvPr/>
        </p:nvSpPr>
        <p:spPr>
          <a:xfrm>
            <a:off x="6997680" y="4237200"/>
            <a:ext cx="198360" cy="198360"/>
          </a:xfrm>
          <a:custGeom>
            <a:avLst/>
            <a:gdLst/>
            <a:ahLst/>
            <a:rect l="l" t="t" r="r" b="b"/>
            <a:pathLst>
              <a:path w="484" h="483">
                <a:moveTo>
                  <a:pt x="447" y="0"/>
                </a:moveTo>
                <a:lnTo>
                  <a:pt x="241" y="204"/>
                </a:lnTo>
                <a:lnTo>
                  <a:pt x="36" y="0"/>
                </a:lnTo>
                <a:lnTo>
                  <a:pt x="0" y="0"/>
                </a:lnTo>
                <a:lnTo>
                  <a:pt x="0" y="36"/>
                </a:lnTo>
                <a:lnTo>
                  <a:pt x="205" y="241"/>
                </a:lnTo>
                <a:lnTo>
                  <a:pt x="0" y="446"/>
                </a:lnTo>
                <a:lnTo>
                  <a:pt x="0" y="482"/>
                </a:lnTo>
                <a:lnTo>
                  <a:pt x="36" y="482"/>
                </a:lnTo>
                <a:lnTo>
                  <a:pt x="241" y="278"/>
                </a:lnTo>
                <a:lnTo>
                  <a:pt x="447" y="482"/>
                </a:lnTo>
                <a:lnTo>
                  <a:pt x="483" y="482"/>
                </a:lnTo>
                <a:lnTo>
                  <a:pt x="483" y="446"/>
                </a:lnTo>
                <a:lnTo>
                  <a:pt x="278" y="241"/>
                </a:lnTo>
                <a:lnTo>
                  <a:pt x="483" y="36"/>
                </a:lnTo>
                <a:lnTo>
                  <a:pt x="483"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30" name="Rectangle: Rounded Corners 171"/>
          <p:cNvSpPr/>
          <p:nvPr/>
        </p:nvSpPr>
        <p:spPr>
          <a:xfrm>
            <a:off x="6829560" y="5318280"/>
            <a:ext cx="534960" cy="479160"/>
          </a:xfrm>
          <a:prstGeom prst="roundRect">
            <a:avLst>
              <a:gd name="adj" fmla="val 16667"/>
            </a:avLst>
          </a:prstGeom>
          <a:solidFill>
            <a:srgbClr val="5b9b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Rectangle: Rounded Corners 172"/>
          <p:cNvSpPr/>
          <p:nvPr/>
        </p:nvSpPr>
        <p:spPr>
          <a:xfrm>
            <a:off x="7397640" y="5318280"/>
            <a:ext cx="495360" cy="479160"/>
          </a:xfrm>
          <a:prstGeom prst="roundRect">
            <a:avLst>
              <a:gd name="adj" fmla="val 16667"/>
            </a:avLst>
          </a:prstGeom>
          <a:solidFill>
            <a:srgbClr val="5b9b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Rectangle: Rounded Corners 173"/>
          <p:cNvSpPr/>
          <p:nvPr/>
        </p:nvSpPr>
        <p:spPr>
          <a:xfrm>
            <a:off x="7929720" y="5318280"/>
            <a:ext cx="495000" cy="479160"/>
          </a:xfrm>
          <a:prstGeom prst="roundRect">
            <a:avLst>
              <a:gd name="adj" fmla="val 16667"/>
            </a:avLst>
          </a:prstGeom>
          <a:solidFill>
            <a:srgbClr val="5b9b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ectangle: Rounded Corners 174"/>
          <p:cNvSpPr/>
          <p:nvPr/>
        </p:nvSpPr>
        <p:spPr>
          <a:xfrm>
            <a:off x="8456760" y="5318280"/>
            <a:ext cx="495000" cy="479160"/>
          </a:xfrm>
          <a:prstGeom prst="roundRect">
            <a:avLst>
              <a:gd name="adj" fmla="val 16667"/>
            </a:avLst>
          </a:prstGeom>
          <a:solidFill>
            <a:srgbClr val="5b9b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Rectangle: Rounded Corners 175"/>
          <p:cNvSpPr/>
          <p:nvPr/>
        </p:nvSpPr>
        <p:spPr>
          <a:xfrm>
            <a:off x="8989920" y="5318280"/>
            <a:ext cx="493920" cy="479160"/>
          </a:xfrm>
          <a:prstGeom prst="roundRect">
            <a:avLst>
              <a:gd name="adj" fmla="val 16667"/>
            </a:avLst>
          </a:prstGeom>
          <a:solidFill>
            <a:srgbClr val="5b9b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5" name="Rectangle: Rounded Corners 176"/>
          <p:cNvSpPr/>
          <p:nvPr/>
        </p:nvSpPr>
        <p:spPr>
          <a:xfrm>
            <a:off x="9516960" y="5318280"/>
            <a:ext cx="495360" cy="479160"/>
          </a:xfrm>
          <a:prstGeom prst="roundRect">
            <a:avLst>
              <a:gd name="adj" fmla="val 16667"/>
            </a:avLst>
          </a:prstGeom>
          <a:solidFill>
            <a:srgbClr val="5b9b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Rectangle: Rounded Corners 177"/>
          <p:cNvSpPr/>
          <p:nvPr/>
        </p:nvSpPr>
        <p:spPr>
          <a:xfrm>
            <a:off x="10049040" y="5318280"/>
            <a:ext cx="493560" cy="479160"/>
          </a:xfrm>
          <a:prstGeom prst="roundRect">
            <a:avLst>
              <a:gd name="adj" fmla="val 16667"/>
            </a:avLst>
          </a:prstGeom>
          <a:solidFill>
            <a:srgbClr val="5b9b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Freeform: Shape 178"/>
          <p:cNvSpPr/>
          <p:nvPr/>
        </p:nvSpPr>
        <p:spPr>
          <a:xfrm>
            <a:off x="10577520" y="5318280"/>
            <a:ext cx="325440" cy="479160"/>
          </a:xfrm>
          <a:custGeom>
            <a:avLst/>
            <a:gdLst/>
            <a:ahLst/>
            <a:rect l="l" t="t" r="r" b="b"/>
            <a:pathLst>
              <a:path w="724304" h="1066986">
                <a:moveTo>
                  <a:pt x="0" y="0"/>
                </a:moveTo>
                <a:lnTo>
                  <a:pt x="190796" y="0"/>
                </a:lnTo>
                <a:cubicBezTo>
                  <a:pt x="484678" y="0"/>
                  <a:pt x="724304" y="239620"/>
                  <a:pt x="724304" y="533493"/>
                </a:cubicBezTo>
                <a:cubicBezTo>
                  <a:pt x="724304" y="826462"/>
                  <a:pt x="484678" y="1066986"/>
                  <a:pt x="190796" y="1066986"/>
                </a:cubicBezTo>
                <a:lnTo>
                  <a:pt x="3072" y="1066986"/>
                </a:lnTo>
                <a:lnTo>
                  <a:pt x="3072" y="1"/>
                </a:lnTo>
                <a:lnTo>
                  <a:pt x="0" y="1"/>
                </a:lnTo>
                <a:lnTo>
                  <a:pt x="0" y="0"/>
                </a:lnTo>
                <a:close/>
              </a:path>
            </a:pathLst>
          </a:custGeom>
          <a:solidFill>
            <a:srgbClr val="5b9b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8" name="Freeform 192"/>
          <p:cNvSpPr/>
          <p:nvPr/>
        </p:nvSpPr>
        <p:spPr>
          <a:xfrm>
            <a:off x="6997680" y="5459400"/>
            <a:ext cx="198360" cy="196920"/>
          </a:xfrm>
          <a:custGeom>
            <a:avLst/>
            <a:gdLst/>
            <a:ahLst/>
            <a:rect l="l" t="t" r="r" b="b"/>
            <a:pathLst>
              <a:path w="484" h="485">
                <a:moveTo>
                  <a:pt x="447" y="0"/>
                </a:moveTo>
                <a:lnTo>
                  <a:pt x="241" y="206"/>
                </a:lnTo>
                <a:lnTo>
                  <a:pt x="36" y="0"/>
                </a:lnTo>
                <a:lnTo>
                  <a:pt x="0" y="0"/>
                </a:lnTo>
                <a:lnTo>
                  <a:pt x="0" y="37"/>
                </a:lnTo>
                <a:lnTo>
                  <a:pt x="205" y="242"/>
                </a:lnTo>
                <a:lnTo>
                  <a:pt x="0" y="446"/>
                </a:lnTo>
                <a:lnTo>
                  <a:pt x="0" y="484"/>
                </a:lnTo>
                <a:lnTo>
                  <a:pt x="36" y="484"/>
                </a:lnTo>
                <a:lnTo>
                  <a:pt x="241" y="278"/>
                </a:lnTo>
                <a:lnTo>
                  <a:pt x="447" y="484"/>
                </a:lnTo>
                <a:lnTo>
                  <a:pt x="483" y="484"/>
                </a:lnTo>
                <a:lnTo>
                  <a:pt x="483" y="446"/>
                </a:lnTo>
                <a:lnTo>
                  <a:pt x="278" y="242"/>
                </a:lnTo>
                <a:lnTo>
                  <a:pt x="483" y="37"/>
                </a:lnTo>
                <a:lnTo>
                  <a:pt x="483"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39" name="Freeform 194"/>
          <p:cNvSpPr/>
          <p:nvPr/>
        </p:nvSpPr>
        <p:spPr>
          <a:xfrm>
            <a:off x="7547040" y="3016080"/>
            <a:ext cx="196920" cy="196920"/>
          </a:xfrm>
          <a:custGeom>
            <a:avLst/>
            <a:gdLst/>
            <a:ahLst/>
            <a:rect l="l" t="t" r="r" b="b"/>
            <a:pathLst>
              <a:path w="484" h="484">
                <a:moveTo>
                  <a:pt x="447" y="0"/>
                </a:moveTo>
                <a:lnTo>
                  <a:pt x="241" y="205"/>
                </a:lnTo>
                <a:lnTo>
                  <a:pt x="36" y="0"/>
                </a:lnTo>
                <a:lnTo>
                  <a:pt x="0" y="0"/>
                </a:lnTo>
                <a:lnTo>
                  <a:pt x="0" y="37"/>
                </a:lnTo>
                <a:lnTo>
                  <a:pt x="205" y="241"/>
                </a:lnTo>
                <a:lnTo>
                  <a:pt x="0" y="446"/>
                </a:lnTo>
                <a:lnTo>
                  <a:pt x="0" y="483"/>
                </a:lnTo>
                <a:lnTo>
                  <a:pt x="36" y="483"/>
                </a:lnTo>
                <a:lnTo>
                  <a:pt x="241" y="278"/>
                </a:lnTo>
                <a:lnTo>
                  <a:pt x="447" y="483"/>
                </a:lnTo>
                <a:lnTo>
                  <a:pt x="483" y="483"/>
                </a:lnTo>
                <a:lnTo>
                  <a:pt x="483" y="446"/>
                </a:lnTo>
                <a:lnTo>
                  <a:pt x="278" y="241"/>
                </a:lnTo>
                <a:lnTo>
                  <a:pt x="483" y="37"/>
                </a:lnTo>
                <a:lnTo>
                  <a:pt x="483"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40" name="Freeform 196"/>
          <p:cNvSpPr/>
          <p:nvPr/>
        </p:nvSpPr>
        <p:spPr>
          <a:xfrm>
            <a:off x="7547040" y="3627360"/>
            <a:ext cx="196920" cy="196920"/>
          </a:xfrm>
          <a:custGeom>
            <a:avLst/>
            <a:gdLst/>
            <a:ahLst/>
            <a:rect l="l" t="t" r="r" b="b"/>
            <a:pathLst>
              <a:path w="484" h="484">
                <a:moveTo>
                  <a:pt x="447" y="0"/>
                </a:moveTo>
                <a:lnTo>
                  <a:pt x="241" y="204"/>
                </a:lnTo>
                <a:lnTo>
                  <a:pt x="36" y="0"/>
                </a:lnTo>
                <a:lnTo>
                  <a:pt x="0" y="0"/>
                </a:lnTo>
                <a:lnTo>
                  <a:pt x="0" y="36"/>
                </a:lnTo>
                <a:lnTo>
                  <a:pt x="205" y="240"/>
                </a:lnTo>
                <a:lnTo>
                  <a:pt x="0" y="445"/>
                </a:lnTo>
                <a:lnTo>
                  <a:pt x="0" y="483"/>
                </a:lnTo>
                <a:lnTo>
                  <a:pt x="36" y="483"/>
                </a:lnTo>
                <a:lnTo>
                  <a:pt x="241" y="277"/>
                </a:lnTo>
                <a:lnTo>
                  <a:pt x="447" y="483"/>
                </a:lnTo>
                <a:lnTo>
                  <a:pt x="483" y="483"/>
                </a:lnTo>
                <a:lnTo>
                  <a:pt x="483" y="445"/>
                </a:lnTo>
                <a:lnTo>
                  <a:pt x="278" y="240"/>
                </a:lnTo>
                <a:lnTo>
                  <a:pt x="483" y="36"/>
                </a:lnTo>
                <a:lnTo>
                  <a:pt x="483"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41" name="Freeform 198"/>
          <p:cNvSpPr/>
          <p:nvPr/>
        </p:nvSpPr>
        <p:spPr>
          <a:xfrm>
            <a:off x="7547040" y="4237200"/>
            <a:ext cx="196920" cy="198360"/>
          </a:xfrm>
          <a:custGeom>
            <a:avLst/>
            <a:gdLst/>
            <a:ahLst/>
            <a:rect l="l" t="t" r="r" b="b"/>
            <a:pathLst>
              <a:path w="484" h="483">
                <a:moveTo>
                  <a:pt x="447" y="0"/>
                </a:moveTo>
                <a:lnTo>
                  <a:pt x="241" y="204"/>
                </a:lnTo>
                <a:lnTo>
                  <a:pt x="36" y="0"/>
                </a:lnTo>
                <a:lnTo>
                  <a:pt x="0" y="0"/>
                </a:lnTo>
                <a:lnTo>
                  <a:pt x="0" y="36"/>
                </a:lnTo>
                <a:lnTo>
                  <a:pt x="205" y="241"/>
                </a:lnTo>
                <a:lnTo>
                  <a:pt x="0" y="446"/>
                </a:lnTo>
                <a:lnTo>
                  <a:pt x="0" y="482"/>
                </a:lnTo>
                <a:lnTo>
                  <a:pt x="36" y="482"/>
                </a:lnTo>
                <a:lnTo>
                  <a:pt x="241" y="278"/>
                </a:lnTo>
                <a:lnTo>
                  <a:pt x="447" y="482"/>
                </a:lnTo>
                <a:lnTo>
                  <a:pt x="483" y="482"/>
                </a:lnTo>
                <a:lnTo>
                  <a:pt x="483" y="446"/>
                </a:lnTo>
                <a:lnTo>
                  <a:pt x="278" y="241"/>
                </a:lnTo>
                <a:lnTo>
                  <a:pt x="483" y="36"/>
                </a:lnTo>
                <a:lnTo>
                  <a:pt x="483"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42" name="Freeform 202"/>
          <p:cNvSpPr/>
          <p:nvPr/>
        </p:nvSpPr>
        <p:spPr>
          <a:xfrm>
            <a:off x="7547040" y="5459400"/>
            <a:ext cx="196920" cy="196920"/>
          </a:xfrm>
          <a:custGeom>
            <a:avLst/>
            <a:gdLst/>
            <a:ahLst/>
            <a:rect l="l" t="t" r="r" b="b"/>
            <a:pathLst>
              <a:path w="484" h="485">
                <a:moveTo>
                  <a:pt x="447" y="0"/>
                </a:moveTo>
                <a:lnTo>
                  <a:pt x="241" y="206"/>
                </a:lnTo>
                <a:lnTo>
                  <a:pt x="36" y="0"/>
                </a:lnTo>
                <a:lnTo>
                  <a:pt x="0" y="0"/>
                </a:lnTo>
                <a:lnTo>
                  <a:pt x="0" y="37"/>
                </a:lnTo>
                <a:lnTo>
                  <a:pt x="205" y="242"/>
                </a:lnTo>
                <a:lnTo>
                  <a:pt x="0" y="446"/>
                </a:lnTo>
                <a:lnTo>
                  <a:pt x="0" y="484"/>
                </a:lnTo>
                <a:lnTo>
                  <a:pt x="36" y="484"/>
                </a:lnTo>
                <a:lnTo>
                  <a:pt x="241" y="278"/>
                </a:lnTo>
                <a:lnTo>
                  <a:pt x="447" y="484"/>
                </a:lnTo>
                <a:lnTo>
                  <a:pt x="483" y="484"/>
                </a:lnTo>
                <a:lnTo>
                  <a:pt x="483" y="446"/>
                </a:lnTo>
                <a:lnTo>
                  <a:pt x="278" y="242"/>
                </a:lnTo>
                <a:lnTo>
                  <a:pt x="483" y="37"/>
                </a:lnTo>
                <a:lnTo>
                  <a:pt x="483"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43" name="Freeform 204"/>
          <p:cNvSpPr/>
          <p:nvPr/>
        </p:nvSpPr>
        <p:spPr>
          <a:xfrm>
            <a:off x="8078760" y="3016080"/>
            <a:ext cx="196920" cy="196920"/>
          </a:xfrm>
          <a:custGeom>
            <a:avLst/>
            <a:gdLst/>
            <a:ahLst/>
            <a:rect l="l" t="t" r="r" b="b"/>
            <a:pathLst>
              <a:path w="484" h="484">
                <a:moveTo>
                  <a:pt x="447" y="0"/>
                </a:moveTo>
                <a:lnTo>
                  <a:pt x="242" y="205"/>
                </a:lnTo>
                <a:lnTo>
                  <a:pt x="36" y="0"/>
                </a:lnTo>
                <a:lnTo>
                  <a:pt x="0" y="0"/>
                </a:lnTo>
                <a:lnTo>
                  <a:pt x="0" y="37"/>
                </a:lnTo>
                <a:lnTo>
                  <a:pt x="205" y="241"/>
                </a:lnTo>
                <a:lnTo>
                  <a:pt x="0" y="446"/>
                </a:lnTo>
                <a:lnTo>
                  <a:pt x="0" y="483"/>
                </a:lnTo>
                <a:lnTo>
                  <a:pt x="36" y="483"/>
                </a:lnTo>
                <a:lnTo>
                  <a:pt x="242" y="278"/>
                </a:lnTo>
                <a:lnTo>
                  <a:pt x="447" y="483"/>
                </a:lnTo>
                <a:lnTo>
                  <a:pt x="483" y="483"/>
                </a:lnTo>
                <a:lnTo>
                  <a:pt x="483" y="446"/>
                </a:lnTo>
                <a:lnTo>
                  <a:pt x="278" y="241"/>
                </a:lnTo>
                <a:lnTo>
                  <a:pt x="483" y="37"/>
                </a:lnTo>
                <a:lnTo>
                  <a:pt x="483"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44" name="Freeform 206"/>
          <p:cNvSpPr/>
          <p:nvPr/>
        </p:nvSpPr>
        <p:spPr>
          <a:xfrm>
            <a:off x="8078760" y="3627360"/>
            <a:ext cx="196920" cy="196920"/>
          </a:xfrm>
          <a:custGeom>
            <a:avLst/>
            <a:gdLst/>
            <a:ahLst/>
            <a:rect l="l" t="t" r="r" b="b"/>
            <a:pathLst>
              <a:path w="484" h="484">
                <a:moveTo>
                  <a:pt x="447" y="0"/>
                </a:moveTo>
                <a:lnTo>
                  <a:pt x="242" y="204"/>
                </a:lnTo>
                <a:lnTo>
                  <a:pt x="36" y="0"/>
                </a:lnTo>
                <a:lnTo>
                  <a:pt x="0" y="0"/>
                </a:lnTo>
                <a:lnTo>
                  <a:pt x="0" y="36"/>
                </a:lnTo>
                <a:lnTo>
                  <a:pt x="205" y="240"/>
                </a:lnTo>
                <a:lnTo>
                  <a:pt x="0" y="445"/>
                </a:lnTo>
                <a:lnTo>
                  <a:pt x="0" y="483"/>
                </a:lnTo>
                <a:lnTo>
                  <a:pt x="36" y="483"/>
                </a:lnTo>
                <a:lnTo>
                  <a:pt x="242" y="277"/>
                </a:lnTo>
                <a:lnTo>
                  <a:pt x="447" y="483"/>
                </a:lnTo>
                <a:lnTo>
                  <a:pt x="483" y="483"/>
                </a:lnTo>
                <a:lnTo>
                  <a:pt x="483" y="445"/>
                </a:lnTo>
                <a:lnTo>
                  <a:pt x="278" y="240"/>
                </a:lnTo>
                <a:lnTo>
                  <a:pt x="483" y="36"/>
                </a:lnTo>
                <a:lnTo>
                  <a:pt x="483"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45" name="Freeform 208"/>
          <p:cNvSpPr/>
          <p:nvPr/>
        </p:nvSpPr>
        <p:spPr>
          <a:xfrm>
            <a:off x="8078760" y="4237200"/>
            <a:ext cx="196920" cy="198360"/>
          </a:xfrm>
          <a:custGeom>
            <a:avLst/>
            <a:gdLst/>
            <a:ahLst/>
            <a:rect l="l" t="t" r="r" b="b"/>
            <a:pathLst>
              <a:path w="484" h="483">
                <a:moveTo>
                  <a:pt x="447" y="0"/>
                </a:moveTo>
                <a:lnTo>
                  <a:pt x="242" y="204"/>
                </a:lnTo>
                <a:lnTo>
                  <a:pt x="36" y="0"/>
                </a:lnTo>
                <a:lnTo>
                  <a:pt x="0" y="0"/>
                </a:lnTo>
                <a:lnTo>
                  <a:pt x="0" y="36"/>
                </a:lnTo>
                <a:lnTo>
                  <a:pt x="205" y="241"/>
                </a:lnTo>
                <a:lnTo>
                  <a:pt x="0" y="446"/>
                </a:lnTo>
                <a:lnTo>
                  <a:pt x="0" y="482"/>
                </a:lnTo>
                <a:lnTo>
                  <a:pt x="36" y="482"/>
                </a:lnTo>
                <a:lnTo>
                  <a:pt x="242" y="278"/>
                </a:lnTo>
                <a:lnTo>
                  <a:pt x="447" y="482"/>
                </a:lnTo>
                <a:lnTo>
                  <a:pt x="483" y="482"/>
                </a:lnTo>
                <a:lnTo>
                  <a:pt x="483" y="446"/>
                </a:lnTo>
                <a:lnTo>
                  <a:pt x="278" y="241"/>
                </a:lnTo>
                <a:lnTo>
                  <a:pt x="483" y="36"/>
                </a:lnTo>
                <a:lnTo>
                  <a:pt x="483"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46" name="Freeform 212"/>
          <p:cNvSpPr/>
          <p:nvPr/>
        </p:nvSpPr>
        <p:spPr>
          <a:xfrm>
            <a:off x="8078760" y="5459400"/>
            <a:ext cx="196920" cy="196920"/>
          </a:xfrm>
          <a:custGeom>
            <a:avLst/>
            <a:gdLst/>
            <a:ahLst/>
            <a:rect l="l" t="t" r="r" b="b"/>
            <a:pathLst>
              <a:path w="484" h="485">
                <a:moveTo>
                  <a:pt x="447" y="0"/>
                </a:moveTo>
                <a:lnTo>
                  <a:pt x="242" y="206"/>
                </a:lnTo>
                <a:lnTo>
                  <a:pt x="36" y="0"/>
                </a:lnTo>
                <a:lnTo>
                  <a:pt x="0" y="0"/>
                </a:lnTo>
                <a:lnTo>
                  <a:pt x="0" y="37"/>
                </a:lnTo>
                <a:lnTo>
                  <a:pt x="205" y="242"/>
                </a:lnTo>
                <a:lnTo>
                  <a:pt x="0" y="446"/>
                </a:lnTo>
                <a:lnTo>
                  <a:pt x="0" y="484"/>
                </a:lnTo>
                <a:lnTo>
                  <a:pt x="36" y="484"/>
                </a:lnTo>
                <a:lnTo>
                  <a:pt x="242" y="278"/>
                </a:lnTo>
                <a:lnTo>
                  <a:pt x="447" y="484"/>
                </a:lnTo>
                <a:lnTo>
                  <a:pt x="483" y="484"/>
                </a:lnTo>
                <a:lnTo>
                  <a:pt x="483" y="446"/>
                </a:lnTo>
                <a:lnTo>
                  <a:pt x="278" y="242"/>
                </a:lnTo>
                <a:lnTo>
                  <a:pt x="483" y="37"/>
                </a:lnTo>
                <a:lnTo>
                  <a:pt x="483"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47" name="Freeform 214"/>
          <p:cNvSpPr/>
          <p:nvPr/>
        </p:nvSpPr>
        <p:spPr>
          <a:xfrm>
            <a:off x="8605800" y="3016080"/>
            <a:ext cx="196920" cy="196920"/>
          </a:xfrm>
          <a:custGeom>
            <a:avLst/>
            <a:gdLst/>
            <a:ahLst/>
            <a:rect l="l" t="t" r="r" b="b"/>
            <a:pathLst>
              <a:path w="485" h="484">
                <a:moveTo>
                  <a:pt x="447" y="0"/>
                </a:moveTo>
                <a:lnTo>
                  <a:pt x="242" y="205"/>
                </a:lnTo>
                <a:lnTo>
                  <a:pt x="37" y="0"/>
                </a:lnTo>
                <a:lnTo>
                  <a:pt x="0" y="0"/>
                </a:lnTo>
                <a:lnTo>
                  <a:pt x="0" y="37"/>
                </a:lnTo>
                <a:lnTo>
                  <a:pt x="206" y="241"/>
                </a:lnTo>
                <a:lnTo>
                  <a:pt x="0" y="446"/>
                </a:lnTo>
                <a:lnTo>
                  <a:pt x="0" y="483"/>
                </a:lnTo>
                <a:lnTo>
                  <a:pt x="37" y="483"/>
                </a:lnTo>
                <a:lnTo>
                  <a:pt x="242" y="278"/>
                </a:lnTo>
                <a:lnTo>
                  <a:pt x="447" y="483"/>
                </a:lnTo>
                <a:lnTo>
                  <a:pt x="484" y="483"/>
                </a:lnTo>
                <a:lnTo>
                  <a:pt x="484" y="446"/>
                </a:lnTo>
                <a:lnTo>
                  <a:pt x="278" y="241"/>
                </a:lnTo>
                <a:lnTo>
                  <a:pt x="484" y="37"/>
                </a:lnTo>
                <a:lnTo>
                  <a:pt x="484"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48" name="Freeform 216"/>
          <p:cNvSpPr/>
          <p:nvPr/>
        </p:nvSpPr>
        <p:spPr>
          <a:xfrm>
            <a:off x="8605800" y="3627360"/>
            <a:ext cx="196920" cy="196920"/>
          </a:xfrm>
          <a:custGeom>
            <a:avLst/>
            <a:gdLst/>
            <a:ahLst/>
            <a:rect l="l" t="t" r="r" b="b"/>
            <a:pathLst>
              <a:path w="485" h="484">
                <a:moveTo>
                  <a:pt x="447" y="0"/>
                </a:moveTo>
                <a:lnTo>
                  <a:pt x="242" y="204"/>
                </a:lnTo>
                <a:lnTo>
                  <a:pt x="37" y="0"/>
                </a:lnTo>
                <a:lnTo>
                  <a:pt x="0" y="0"/>
                </a:lnTo>
                <a:lnTo>
                  <a:pt x="0" y="36"/>
                </a:lnTo>
                <a:lnTo>
                  <a:pt x="206" y="240"/>
                </a:lnTo>
                <a:lnTo>
                  <a:pt x="0" y="445"/>
                </a:lnTo>
                <a:lnTo>
                  <a:pt x="0" y="483"/>
                </a:lnTo>
                <a:lnTo>
                  <a:pt x="37" y="483"/>
                </a:lnTo>
                <a:lnTo>
                  <a:pt x="242" y="277"/>
                </a:lnTo>
                <a:lnTo>
                  <a:pt x="447" y="483"/>
                </a:lnTo>
                <a:lnTo>
                  <a:pt x="484" y="483"/>
                </a:lnTo>
                <a:lnTo>
                  <a:pt x="484" y="445"/>
                </a:lnTo>
                <a:lnTo>
                  <a:pt x="278" y="240"/>
                </a:lnTo>
                <a:lnTo>
                  <a:pt x="484" y="36"/>
                </a:lnTo>
                <a:lnTo>
                  <a:pt x="484"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49" name="Freeform 218"/>
          <p:cNvSpPr/>
          <p:nvPr/>
        </p:nvSpPr>
        <p:spPr>
          <a:xfrm>
            <a:off x="8605800" y="4237200"/>
            <a:ext cx="196920" cy="198360"/>
          </a:xfrm>
          <a:custGeom>
            <a:avLst/>
            <a:gdLst/>
            <a:ahLst/>
            <a:rect l="l" t="t" r="r" b="b"/>
            <a:pathLst>
              <a:path w="485" h="483">
                <a:moveTo>
                  <a:pt x="447" y="0"/>
                </a:moveTo>
                <a:lnTo>
                  <a:pt x="242" y="204"/>
                </a:lnTo>
                <a:lnTo>
                  <a:pt x="37" y="0"/>
                </a:lnTo>
                <a:lnTo>
                  <a:pt x="0" y="0"/>
                </a:lnTo>
                <a:lnTo>
                  <a:pt x="0" y="36"/>
                </a:lnTo>
                <a:lnTo>
                  <a:pt x="206" y="241"/>
                </a:lnTo>
                <a:lnTo>
                  <a:pt x="0" y="446"/>
                </a:lnTo>
                <a:lnTo>
                  <a:pt x="0" y="482"/>
                </a:lnTo>
                <a:lnTo>
                  <a:pt x="37" y="482"/>
                </a:lnTo>
                <a:lnTo>
                  <a:pt x="242" y="278"/>
                </a:lnTo>
                <a:lnTo>
                  <a:pt x="447" y="482"/>
                </a:lnTo>
                <a:lnTo>
                  <a:pt x="484" y="482"/>
                </a:lnTo>
                <a:lnTo>
                  <a:pt x="484" y="446"/>
                </a:lnTo>
                <a:lnTo>
                  <a:pt x="278" y="241"/>
                </a:lnTo>
                <a:lnTo>
                  <a:pt x="484" y="36"/>
                </a:lnTo>
                <a:lnTo>
                  <a:pt x="484"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50" name="Freeform 222"/>
          <p:cNvSpPr/>
          <p:nvPr/>
        </p:nvSpPr>
        <p:spPr>
          <a:xfrm>
            <a:off x="8605800" y="5459400"/>
            <a:ext cx="196920" cy="196920"/>
          </a:xfrm>
          <a:custGeom>
            <a:avLst/>
            <a:gdLst/>
            <a:ahLst/>
            <a:rect l="l" t="t" r="r" b="b"/>
            <a:pathLst>
              <a:path w="485" h="485">
                <a:moveTo>
                  <a:pt x="447" y="0"/>
                </a:moveTo>
                <a:lnTo>
                  <a:pt x="242" y="206"/>
                </a:lnTo>
                <a:lnTo>
                  <a:pt x="37" y="0"/>
                </a:lnTo>
                <a:lnTo>
                  <a:pt x="0" y="0"/>
                </a:lnTo>
                <a:lnTo>
                  <a:pt x="0" y="37"/>
                </a:lnTo>
                <a:lnTo>
                  <a:pt x="206" y="242"/>
                </a:lnTo>
                <a:lnTo>
                  <a:pt x="0" y="446"/>
                </a:lnTo>
                <a:lnTo>
                  <a:pt x="0" y="484"/>
                </a:lnTo>
                <a:lnTo>
                  <a:pt x="37" y="484"/>
                </a:lnTo>
                <a:lnTo>
                  <a:pt x="242" y="278"/>
                </a:lnTo>
                <a:lnTo>
                  <a:pt x="447" y="484"/>
                </a:lnTo>
                <a:lnTo>
                  <a:pt x="484" y="484"/>
                </a:lnTo>
                <a:lnTo>
                  <a:pt x="484" y="446"/>
                </a:lnTo>
                <a:lnTo>
                  <a:pt x="278" y="242"/>
                </a:lnTo>
                <a:lnTo>
                  <a:pt x="484" y="37"/>
                </a:lnTo>
                <a:lnTo>
                  <a:pt x="484"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51" name="Freeform 225"/>
          <p:cNvSpPr/>
          <p:nvPr/>
        </p:nvSpPr>
        <p:spPr>
          <a:xfrm>
            <a:off x="9139320" y="3627360"/>
            <a:ext cx="196920" cy="196920"/>
          </a:xfrm>
          <a:custGeom>
            <a:avLst/>
            <a:gdLst/>
            <a:ahLst/>
            <a:rect l="l" t="t" r="r" b="b"/>
            <a:pathLst>
              <a:path w="485" h="484">
                <a:moveTo>
                  <a:pt x="447" y="0"/>
                </a:moveTo>
                <a:lnTo>
                  <a:pt x="241" y="204"/>
                </a:lnTo>
                <a:lnTo>
                  <a:pt x="37" y="0"/>
                </a:lnTo>
                <a:lnTo>
                  <a:pt x="0" y="0"/>
                </a:lnTo>
                <a:lnTo>
                  <a:pt x="0" y="36"/>
                </a:lnTo>
                <a:lnTo>
                  <a:pt x="205" y="240"/>
                </a:lnTo>
                <a:lnTo>
                  <a:pt x="0" y="445"/>
                </a:lnTo>
                <a:lnTo>
                  <a:pt x="0" y="483"/>
                </a:lnTo>
                <a:lnTo>
                  <a:pt x="37" y="483"/>
                </a:lnTo>
                <a:lnTo>
                  <a:pt x="241" y="277"/>
                </a:lnTo>
                <a:lnTo>
                  <a:pt x="447" y="483"/>
                </a:lnTo>
                <a:lnTo>
                  <a:pt x="484" y="483"/>
                </a:lnTo>
                <a:lnTo>
                  <a:pt x="484" y="445"/>
                </a:lnTo>
                <a:lnTo>
                  <a:pt x="278" y="240"/>
                </a:lnTo>
                <a:lnTo>
                  <a:pt x="484" y="36"/>
                </a:lnTo>
                <a:lnTo>
                  <a:pt x="484"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52" name="Freeform 230"/>
          <p:cNvSpPr/>
          <p:nvPr/>
        </p:nvSpPr>
        <p:spPr>
          <a:xfrm>
            <a:off x="9139320" y="5459400"/>
            <a:ext cx="196920" cy="196920"/>
          </a:xfrm>
          <a:custGeom>
            <a:avLst/>
            <a:gdLst/>
            <a:ahLst/>
            <a:rect l="l" t="t" r="r" b="b"/>
            <a:pathLst>
              <a:path w="485" h="485">
                <a:moveTo>
                  <a:pt x="447" y="0"/>
                </a:moveTo>
                <a:lnTo>
                  <a:pt x="241" y="206"/>
                </a:lnTo>
                <a:lnTo>
                  <a:pt x="37" y="0"/>
                </a:lnTo>
                <a:lnTo>
                  <a:pt x="0" y="0"/>
                </a:lnTo>
                <a:lnTo>
                  <a:pt x="0" y="37"/>
                </a:lnTo>
                <a:lnTo>
                  <a:pt x="205" y="242"/>
                </a:lnTo>
                <a:lnTo>
                  <a:pt x="0" y="446"/>
                </a:lnTo>
                <a:lnTo>
                  <a:pt x="0" y="484"/>
                </a:lnTo>
                <a:lnTo>
                  <a:pt x="37" y="484"/>
                </a:lnTo>
                <a:lnTo>
                  <a:pt x="241" y="278"/>
                </a:lnTo>
                <a:lnTo>
                  <a:pt x="447" y="484"/>
                </a:lnTo>
                <a:lnTo>
                  <a:pt x="484" y="484"/>
                </a:lnTo>
                <a:lnTo>
                  <a:pt x="484" y="446"/>
                </a:lnTo>
                <a:lnTo>
                  <a:pt x="278" y="242"/>
                </a:lnTo>
                <a:lnTo>
                  <a:pt x="484" y="37"/>
                </a:lnTo>
                <a:lnTo>
                  <a:pt x="484"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53" name="Freeform 233"/>
          <p:cNvSpPr/>
          <p:nvPr/>
        </p:nvSpPr>
        <p:spPr>
          <a:xfrm>
            <a:off x="9666360" y="3627360"/>
            <a:ext cx="196920" cy="196920"/>
          </a:xfrm>
          <a:custGeom>
            <a:avLst/>
            <a:gdLst/>
            <a:ahLst/>
            <a:rect l="l" t="t" r="r" b="b"/>
            <a:pathLst>
              <a:path w="484" h="484">
                <a:moveTo>
                  <a:pt x="447" y="0"/>
                </a:moveTo>
                <a:lnTo>
                  <a:pt x="241" y="204"/>
                </a:lnTo>
                <a:lnTo>
                  <a:pt x="37" y="0"/>
                </a:lnTo>
                <a:lnTo>
                  <a:pt x="0" y="0"/>
                </a:lnTo>
                <a:lnTo>
                  <a:pt x="0" y="36"/>
                </a:lnTo>
                <a:lnTo>
                  <a:pt x="205" y="240"/>
                </a:lnTo>
                <a:lnTo>
                  <a:pt x="0" y="445"/>
                </a:lnTo>
                <a:lnTo>
                  <a:pt x="0" y="483"/>
                </a:lnTo>
                <a:lnTo>
                  <a:pt x="37" y="483"/>
                </a:lnTo>
                <a:lnTo>
                  <a:pt x="241" y="277"/>
                </a:lnTo>
                <a:lnTo>
                  <a:pt x="447" y="483"/>
                </a:lnTo>
                <a:lnTo>
                  <a:pt x="483" y="483"/>
                </a:lnTo>
                <a:lnTo>
                  <a:pt x="483" y="445"/>
                </a:lnTo>
                <a:lnTo>
                  <a:pt x="279" y="240"/>
                </a:lnTo>
                <a:lnTo>
                  <a:pt x="483" y="36"/>
                </a:lnTo>
                <a:lnTo>
                  <a:pt x="483"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54" name="Freeform 238"/>
          <p:cNvSpPr/>
          <p:nvPr/>
        </p:nvSpPr>
        <p:spPr>
          <a:xfrm>
            <a:off x="9666360" y="5459400"/>
            <a:ext cx="196920" cy="196920"/>
          </a:xfrm>
          <a:custGeom>
            <a:avLst/>
            <a:gdLst/>
            <a:ahLst/>
            <a:rect l="l" t="t" r="r" b="b"/>
            <a:pathLst>
              <a:path w="484" h="485">
                <a:moveTo>
                  <a:pt x="447" y="0"/>
                </a:moveTo>
                <a:lnTo>
                  <a:pt x="241" y="206"/>
                </a:lnTo>
                <a:lnTo>
                  <a:pt x="37" y="0"/>
                </a:lnTo>
                <a:lnTo>
                  <a:pt x="0" y="0"/>
                </a:lnTo>
                <a:lnTo>
                  <a:pt x="0" y="37"/>
                </a:lnTo>
                <a:lnTo>
                  <a:pt x="205" y="242"/>
                </a:lnTo>
                <a:lnTo>
                  <a:pt x="0" y="446"/>
                </a:lnTo>
                <a:lnTo>
                  <a:pt x="0" y="484"/>
                </a:lnTo>
                <a:lnTo>
                  <a:pt x="37" y="484"/>
                </a:lnTo>
                <a:lnTo>
                  <a:pt x="241" y="278"/>
                </a:lnTo>
                <a:lnTo>
                  <a:pt x="447" y="484"/>
                </a:lnTo>
                <a:lnTo>
                  <a:pt x="483" y="484"/>
                </a:lnTo>
                <a:lnTo>
                  <a:pt x="483" y="446"/>
                </a:lnTo>
                <a:lnTo>
                  <a:pt x="279" y="242"/>
                </a:lnTo>
                <a:lnTo>
                  <a:pt x="483" y="37"/>
                </a:lnTo>
                <a:lnTo>
                  <a:pt x="483"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55" name="Freeform 240"/>
          <p:cNvSpPr/>
          <p:nvPr/>
        </p:nvSpPr>
        <p:spPr>
          <a:xfrm>
            <a:off x="4452840" y="3016080"/>
            <a:ext cx="196920" cy="196920"/>
          </a:xfrm>
          <a:custGeom>
            <a:avLst/>
            <a:gdLst/>
            <a:ahLst/>
            <a:rect l="l" t="t" r="r" b="b"/>
            <a:pathLst>
              <a:path w="485" h="484">
                <a:moveTo>
                  <a:pt x="447" y="0"/>
                </a:moveTo>
                <a:lnTo>
                  <a:pt x="242" y="205"/>
                </a:lnTo>
                <a:lnTo>
                  <a:pt x="37" y="0"/>
                </a:lnTo>
                <a:lnTo>
                  <a:pt x="0" y="0"/>
                </a:lnTo>
                <a:lnTo>
                  <a:pt x="0" y="37"/>
                </a:lnTo>
                <a:lnTo>
                  <a:pt x="206" y="241"/>
                </a:lnTo>
                <a:lnTo>
                  <a:pt x="0" y="446"/>
                </a:lnTo>
                <a:lnTo>
                  <a:pt x="0" y="483"/>
                </a:lnTo>
                <a:lnTo>
                  <a:pt x="37" y="483"/>
                </a:lnTo>
                <a:lnTo>
                  <a:pt x="242" y="278"/>
                </a:lnTo>
                <a:lnTo>
                  <a:pt x="447" y="483"/>
                </a:lnTo>
                <a:lnTo>
                  <a:pt x="484" y="483"/>
                </a:lnTo>
                <a:lnTo>
                  <a:pt x="484" y="446"/>
                </a:lnTo>
                <a:lnTo>
                  <a:pt x="278" y="241"/>
                </a:lnTo>
                <a:lnTo>
                  <a:pt x="484" y="37"/>
                </a:lnTo>
                <a:lnTo>
                  <a:pt x="484"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56" name="Freeform 242"/>
          <p:cNvSpPr/>
          <p:nvPr/>
        </p:nvSpPr>
        <p:spPr>
          <a:xfrm>
            <a:off x="4452840" y="3627360"/>
            <a:ext cx="196920" cy="196920"/>
          </a:xfrm>
          <a:custGeom>
            <a:avLst/>
            <a:gdLst/>
            <a:ahLst/>
            <a:rect l="l" t="t" r="r" b="b"/>
            <a:pathLst>
              <a:path w="485" h="484">
                <a:moveTo>
                  <a:pt x="447" y="0"/>
                </a:moveTo>
                <a:lnTo>
                  <a:pt x="242" y="204"/>
                </a:lnTo>
                <a:lnTo>
                  <a:pt x="37" y="0"/>
                </a:lnTo>
                <a:lnTo>
                  <a:pt x="0" y="0"/>
                </a:lnTo>
                <a:lnTo>
                  <a:pt x="0" y="36"/>
                </a:lnTo>
                <a:lnTo>
                  <a:pt x="206" y="240"/>
                </a:lnTo>
                <a:lnTo>
                  <a:pt x="0" y="445"/>
                </a:lnTo>
                <a:lnTo>
                  <a:pt x="0" y="483"/>
                </a:lnTo>
                <a:lnTo>
                  <a:pt x="37" y="483"/>
                </a:lnTo>
                <a:lnTo>
                  <a:pt x="242" y="277"/>
                </a:lnTo>
                <a:lnTo>
                  <a:pt x="447" y="483"/>
                </a:lnTo>
                <a:lnTo>
                  <a:pt x="484" y="483"/>
                </a:lnTo>
                <a:lnTo>
                  <a:pt x="484" y="445"/>
                </a:lnTo>
                <a:lnTo>
                  <a:pt x="278" y="240"/>
                </a:lnTo>
                <a:lnTo>
                  <a:pt x="484" y="36"/>
                </a:lnTo>
                <a:lnTo>
                  <a:pt x="484"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57" name="Freeform 248"/>
          <p:cNvSpPr/>
          <p:nvPr/>
        </p:nvSpPr>
        <p:spPr>
          <a:xfrm>
            <a:off x="4452840" y="5459400"/>
            <a:ext cx="196920" cy="196920"/>
          </a:xfrm>
          <a:custGeom>
            <a:avLst/>
            <a:gdLst/>
            <a:ahLst/>
            <a:rect l="l" t="t" r="r" b="b"/>
            <a:pathLst>
              <a:path w="485" h="485">
                <a:moveTo>
                  <a:pt x="447" y="0"/>
                </a:moveTo>
                <a:lnTo>
                  <a:pt x="242" y="206"/>
                </a:lnTo>
                <a:lnTo>
                  <a:pt x="37" y="0"/>
                </a:lnTo>
                <a:lnTo>
                  <a:pt x="0" y="0"/>
                </a:lnTo>
                <a:lnTo>
                  <a:pt x="0" y="37"/>
                </a:lnTo>
                <a:lnTo>
                  <a:pt x="206" y="242"/>
                </a:lnTo>
                <a:lnTo>
                  <a:pt x="0" y="446"/>
                </a:lnTo>
                <a:lnTo>
                  <a:pt x="0" y="484"/>
                </a:lnTo>
                <a:lnTo>
                  <a:pt x="37" y="484"/>
                </a:lnTo>
                <a:lnTo>
                  <a:pt x="242" y="278"/>
                </a:lnTo>
                <a:lnTo>
                  <a:pt x="447" y="484"/>
                </a:lnTo>
                <a:lnTo>
                  <a:pt x="484" y="484"/>
                </a:lnTo>
                <a:lnTo>
                  <a:pt x="484" y="446"/>
                </a:lnTo>
                <a:lnTo>
                  <a:pt x="278" y="242"/>
                </a:lnTo>
                <a:lnTo>
                  <a:pt x="484" y="37"/>
                </a:lnTo>
                <a:lnTo>
                  <a:pt x="484"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58" name="Freeform 250"/>
          <p:cNvSpPr/>
          <p:nvPr/>
        </p:nvSpPr>
        <p:spPr>
          <a:xfrm>
            <a:off x="3922560" y="3016080"/>
            <a:ext cx="198720" cy="196920"/>
          </a:xfrm>
          <a:custGeom>
            <a:avLst/>
            <a:gdLst/>
            <a:ahLst/>
            <a:rect l="l" t="t" r="r" b="b"/>
            <a:pathLst>
              <a:path w="484" h="484">
                <a:moveTo>
                  <a:pt x="447" y="0"/>
                </a:moveTo>
                <a:lnTo>
                  <a:pt x="242" y="205"/>
                </a:lnTo>
                <a:lnTo>
                  <a:pt x="36" y="0"/>
                </a:lnTo>
                <a:lnTo>
                  <a:pt x="0" y="0"/>
                </a:lnTo>
                <a:lnTo>
                  <a:pt x="0" y="37"/>
                </a:lnTo>
                <a:lnTo>
                  <a:pt x="205" y="241"/>
                </a:lnTo>
                <a:lnTo>
                  <a:pt x="0" y="446"/>
                </a:lnTo>
                <a:lnTo>
                  <a:pt x="0" y="483"/>
                </a:lnTo>
                <a:lnTo>
                  <a:pt x="36" y="483"/>
                </a:lnTo>
                <a:lnTo>
                  <a:pt x="242" y="278"/>
                </a:lnTo>
                <a:lnTo>
                  <a:pt x="447" y="483"/>
                </a:lnTo>
                <a:lnTo>
                  <a:pt x="483" y="483"/>
                </a:lnTo>
                <a:lnTo>
                  <a:pt x="483" y="446"/>
                </a:lnTo>
                <a:lnTo>
                  <a:pt x="278" y="241"/>
                </a:lnTo>
                <a:lnTo>
                  <a:pt x="483" y="37"/>
                </a:lnTo>
                <a:lnTo>
                  <a:pt x="483"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59" name="Freeform 252"/>
          <p:cNvSpPr/>
          <p:nvPr/>
        </p:nvSpPr>
        <p:spPr>
          <a:xfrm>
            <a:off x="3922560" y="3627360"/>
            <a:ext cx="198720" cy="196920"/>
          </a:xfrm>
          <a:custGeom>
            <a:avLst/>
            <a:gdLst/>
            <a:ahLst/>
            <a:rect l="l" t="t" r="r" b="b"/>
            <a:pathLst>
              <a:path w="484" h="484">
                <a:moveTo>
                  <a:pt x="447" y="0"/>
                </a:moveTo>
                <a:lnTo>
                  <a:pt x="242" y="204"/>
                </a:lnTo>
                <a:lnTo>
                  <a:pt x="36" y="0"/>
                </a:lnTo>
                <a:lnTo>
                  <a:pt x="0" y="0"/>
                </a:lnTo>
                <a:lnTo>
                  <a:pt x="0" y="36"/>
                </a:lnTo>
                <a:lnTo>
                  <a:pt x="205" y="240"/>
                </a:lnTo>
                <a:lnTo>
                  <a:pt x="0" y="445"/>
                </a:lnTo>
                <a:lnTo>
                  <a:pt x="0" y="483"/>
                </a:lnTo>
                <a:lnTo>
                  <a:pt x="36" y="483"/>
                </a:lnTo>
                <a:lnTo>
                  <a:pt x="242" y="277"/>
                </a:lnTo>
                <a:lnTo>
                  <a:pt x="447" y="483"/>
                </a:lnTo>
                <a:lnTo>
                  <a:pt x="483" y="483"/>
                </a:lnTo>
                <a:lnTo>
                  <a:pt x="483" y="445"/>
                </a:lnTo>
                <a:lnTo>
                  <a:pt x="278" y="240"/>
                </a:lnTo>
                <a:lnTo>
                  <a:pt x="483" y="36"/>
                </a:lnTo>
                <a:lnTo>
                  <a:pt x="483"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60" name="Freeform: Shape 201"/>
          <p:cNvSpPr/>
          <p:nvPr/>
        </p:nvSpPr>
        <p:spPr>
          <a:xfrm>
            <a:off x="1290600" y="4095720"/>
            <a:ext cx="327240" cy="480960"/>
          </a:xfrm>
          <a:custGeom>
            <a:avLst/>
            <a:gdLst/>
            <a:ahLst/>
            <a:rect l="l" t="t" r="r" b="b"/>
            <a:pathLst>
              <a:path w="724304" h="1066987">
                <a:moveTo>
                  <a:pt x="533508" y="0"/>
                </a:moveTo>
                <a:lnTo>
                  <a:pt x="724304" y="0"/>
                </a:lnTo>
                <a:lnTo>
                  <a:pt x="724304" y="1066987"/>
                </a:lnTo>
                <a:lnTo>
                  <a:pt x="533508" y="1066987"/>
                </a:lnTo>
                <a:cubicBezTo>
                  <a:pt x="239626" y="1066987"/>
                  <a:pt x="0" y="826666"/>
                  <a:pt x="0" y="533042"/>
                </a:cubicBezTo>
                <a:cubicBezTo>
                  <a:pt x="0" y="240321"/>
                  <a:pt x="239626" y="0"/>
                  <a:pt x="533508" y="0"/>
                </a:cubicBezTo>
                <a:close/>
              </a:path>
            </a:pathLst>
          </a:custGeom>
          <a:solidFill>
            <a:srgbClr val="a5a5a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1" name="Rectangle: Rounded Corners 202"/>
          <p:cNvSpPr/>
          <p:nvPr/>
        </p:nvSpPr>
        <p:spPr>
          <a:xfrm>
            <a:off x="1652760" y="4095720"/>
            <a:ext cx="492120" cy="480960"/>
          </a:xfrm>
          <a:prstGeom prst="roundRect">
            <a:avLst>
              <a:gd name="adj" fmla="val 16667"/>
            </a:avLst>
          </a:prstGeom>
          <a:solidFill>
            <a:srgbClr val="a5a5a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Rectangle: Rounded Corners 203"/>
          <p:cNvSpPr/>
          <p:nvPr/>
        </p:nvSpPr>
        <p:spPr>
          <a:xfrm>
            <a:off x="2184480" y="4095720"/>
            <a:ext cx="493560" cy="480960"/>
          </a:xfrm>
          <a:prstGeom prst="roundRect">
            <a:avLst>
              <a:gd name="adj" fmla="val 16667"/>
            </a:avLst>
          </a:prstGeom>
          <a:solidFill>
            <a:srgbClr val="a5a5a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3" name="Rectangle: Rounded Corners 204"/>
          <p:cNvSpPr/>
          <p:nvPr/>
        </p:nvSpPr>
        <p:spPr>
          <a:xfrm>
            <a:off x="2712960" y="4095720"/>
            <a:ext cx="493920" cy="480960"/>
          </a:xfrm>
          <a:prstGeom prst="roundRect">
            <a:avLst>
              <a:gd name="adj" fmla="val 16667"/>
            </a:avLst>
          </a:prstGeom>
          <a:solidFill>
            <a:srgbClr val="a5a5a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4" name="Rectangle: Rounded Corners 205"/>
          <p:cNvSpPr/>
          <p:nvPr/>
        </p:nvSpPr>
        <p:spPr>
          <a:xfrm>
            <a:off x="3243240" y="4095720"/>
            <a:ext cx="490680" cy="480960"/>
          </a:xfrm>
          <a:prstGeom prst="roundRect">
            <a:avLst>
              <a:gd name="adj" fmla="val 16667"/>
            </a:avLst>
          </a:prstGeom>
          <a:solidFill>
            <a:srgbClr val="a5a5a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Rectangle: Rounded Corners 206"/>
          <p:cNvSpPr/>
          <p:nvPr/>
        </p:nvSpPr>
        <p:spPr>
          <a:xfrm>
            <a:off x="3773520" y="4095720"/>
            <a:ext cx="493560" cy="480960"/>
          </a:xfrm>
          <a:prstGeom prst="roundRect">
            <a:avLst>
              <a:gd name="adj" fmla="val 16667"/>
            </a:avLst>
          </a:prstGeom>
          <a:solidFill>
            <a:srgbClr val="a5a5a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Rectangle: Rounded Corners 207"/>
          <p:cNvSpPr/>
          <p:nvPr/>
        </p:nvSpPr>
        <p:spPr>
          <a:xfrm>
            <a:off x="4303800" y="4095720"/>
            <a:ext cx="493560" cy="480960"/>
          </a:xfrm>
          <a:prstGeom prst="roundRect">
            <a:avLst>
              <a:gd name="adj" fmla="val 16667"/>
            </a:avLst>
          </a:prstGeom>
          <a:solidFill>
            <a:srgbClr val="a5a5a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7" name="Rectangle: Rounded Corners 208"/>
          <p:cNvSpPr/>
          <p:nvPr/>
        </p:nvSpPr>
        <p:spPr>
          <a:xfrm>
            <a:off x="4834080" y="4095720"/>
            <a:ext cx="528480" cy="480960"/>
          </a:xfrm>
          <a:prstGeom prst="roundRect">
            <a:avLst>
              <a:gd name="adj" fmla="val 16667"/>
            </a:avLst>
          </a:prstGeom>
          <a:solidFill>
            <a:srgbClr val="a5a5a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8" name="Freeform 254"/>
          <p:cNvSpPr/>
          <p:nvPr/>
        </p:nvSpPr>
        <p:spPr>
          <a:xfrm>
            <a:off x="3922560" y="4237200"/>
            <a:ext cx="198720" cy="198360"/>
          </a:xfrm>
          <a:custGeom>
            <a:avLst/>
            <a:gdLst/>
            <a:ahLst/>
            <a:rect l="l" t="t" r="r" b="b"/>
            <a:pathLst>
              <a:path w="484" h="483">
                <a:moveTo>
                  <a:pt x="447" y="0"/>
                </a:moveTo>
                <a:lnTo>
                  <a:pt x="242" y="204"/>
                </a:lnTo>
                <a:lnTo>
                  <a:pt x="36" y="0"/>
                </a:lnTo>
                <a:lnTo>
                  <a:pt x="0" y="0"/>
                </a:lnTo>
                <a:lnTo>
                  <a:pt x="0" y="36"/>
                </a:lnTo>
                <a:lnTo>
                  <a:pt x="205" y="241"/>
                </a:lnTo>
                <a:lnTo>
                  <a:pt x="0" y="446"/>
                </a:lnTo>
                <a:lnTo>
                  <a:pt x="0" y="482"/>
                </a:lnTo>
                <a:lnTo>
                  <a:pt x="36" y="482"/>
                </a:lnTo>
                <a:lnTo>
                  <a:pt x="242" y="278"/>
                </a:lnTo>
                <a:lnTo>
                  <a:pt x="447" y="482"/>
                </a:lnTo>
                <a:lnTo>
                  <a:pt x="483" y="482"/>
                </a:lnTo>
                <a:lnTo>
                  <a:pt x="483" y="446"/>
                </a:lnTo>
                <a:lnTo>
                  <a:pt x="278" y="241"/>
                </a:lnTo>
                <a:lnTo>
                  <a:pt x="483" y="36"/>
                </a:lnTo>
                <a:lnTo>
                  <a:pt x="483"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69" name="Freeform 258"/>
          <p:cNvSpPr/>
          <p:nvPr/>
        </p:nvSpPr>
        <p:spPr>
          <a:xfrm>
            <a:off x="3922560" y="5459400"/>
            <a:ext cx="198720" cy="196920"/>
          </a:xfrm>
          <a:custGeom>
            <a:avLst/>
            <a:gdLst/>
            <a:ahLst/>
            <a:rect l="l" t="t" r="r" b="b"/>
            <a:pathLst>
              <a:path w="484" h="485">
                <a:moveTo>
                  <a:pt x="447" y="0"/>
                </a:moveTo>
                <a:lnTo>
                  <a:pt x="242" y="206"/>
                </a:lnTo>
                <a:lnTo>
                  <a:pt x="36" y="0"/>
                </a:lnTo>
                <a:lnTo>
                  <a:pt x="0" y="0"/>
                </a:lnTo>
                <a:lnTo>
                  <a:pt x="0" y="37"/>
                </a:lnTo>
                <a:lnTo>
                  <a:pt x="205" y="242"/>
                </a:lnTo>
                <a:lnTo>
                  <a:pt x="0" y="446"/>
                </a:lnTo>
                <a:lnTo>
                  <a:pt x="0" y="484"/>
                </a:lnTo>
                <a:lnTo>
                  <a:pt x="36" y="484"/>
                </a:lnTo>
                <a:lnTo>
                  <a:pt x="242" y="278"/>
                </a:lnTo>
                <a:lnTo>
                  <a:pt x="447" y="484"/>
                </a:lnTo>
                <a:lnTo>
                  <a:pt x="483" y="484"/>
                </a:lnTo>
                <a:lnTo>
                  <a:pt x="483" y="446"/>
                </a:lnTo>
                <a:lnTo>
                  <a:pt x="278" y="242"/>
                </a:lnTo>
                <a:lnTo>
                  <a:pt x="483" y="37"/>
                </a:lnTo>
                <a:lnTo>
                  <a:pt x="483"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70" name="Freeform 267"/>
          <p:cNvSpPr/>
          <p:nvPr/>
        </p:nvSpPr>
        <p:spPr>
          <a:xfrm>
            <a:off x="6000840" y="2955960"/>
            <a:ext cx="207720" cy="217440"/>
          </a:xfrm>
          <a:custGeom>
            <a:avLst/>
            <a:gdLst/>
            <a:ahLst/>
            <a:rect l="l" t="t" r="r" b="b"/>
            <a:pathLst>
              <a:path w="511" h="535">
                <a:moveTo>
                  <a:pt x="277" y="441"/>
                </a:moveTo>
                <a:lnTo>
                  <a:pt x="324" y="441"/>
                </a:lnTo>
                <a:lnTo>
                  <a:pt x="324" y="395"/>
                </a:lnTo>
                <a:lnTo>
                  <a:pt x="277" y="395"/>
                </a:lnTo>
                <a:lnTo>
                  <a:pt x="277" y="441"/>
                </a:lnTo>
                <a:close/>
                <a:moveTo>
                  <a:pt x="185" y="441"/>
                </a:moveTo>
                <a:lnTo>
                  <a:pt x="232" y="441"/>
                </a:lnTo>
                <a:lnTo>
                  <a:pt x="232" y="395"/>
                </a:lnTo>
                <a:lnTo>
                  <a:pt x="185" y="395"/>
                </a:lnTo>
                <a:lnTo>
                  <a:pt x="185" y="441"/>
                </a:lnTo>
                <a:close/>
                <a:moveTo>
                  <a:pt x="93" y="441"/>
                </a:moveTo>
                <a:lnTo>
                  <a:pt x="139" y="441"/>
                </a:lnTo>
                <a:lnTo>
                  <a:pt x="139" y="395"/>
                </a:lnTo>
                <a:lnTo>
                  <a:pt x="93" y="395"/>
                </a:lnTo>
                <a:lnTo>
                  <a:pt x="93" y="441"/>
                </a:lnTo>
                <a:close/>
                <a:moveTo>
                  <a:pt x="371" y="348"/>
                </a:moveTo>
                <a:lnTo>
                  <a:pt x="417" y="348"/>
                </a:lnTo>
                <a:lnTo>
                  <a:pt x="417" y="302"/>
                </a:lnTo>
                <a:lnTo>
                  <a:pt x="371" y="302"/>
                </a:lnTo>
                <a:lnTo>
                  <a:pt x="371" y="348"/>
                </a:lnTo>
                <a:close/>
                <a:moveTo>
                  <a:pt x="277" y="348"/>
                </a:moveTo>
                <a:lnTo>
                  <a:pt x="324" y="348"/>
                </a:lnTo>
                <a:lnTo>
                  <a:pt x="324" y="302"/>
                </a:lnTo>
                <a:lnTo>
                  <a:pt x="277" y="302"/>
                </a:lnTo>
                <a:lnTo>
                  <a:pt x="277" y="348"/>
                </a:lnTo>
                <a:close/>
                <a:moveTo>
                  <a:pt x="185" y="348"/>
                </a:moveTo>
                <a:lnTo>
                  <a:pt x="232" y="348"/>
                </a:lnTo>
                <a:lnTo>
                  <a:pt x="232" y="302"/>
                </a:lnTo>
                <a:lnTo>
                  <a:pt x="185" y="302"/>
                </a:lnTo>
                <a:lnTo>
                  <a:pt x="185" y="348"/>
                </a:lnTo>
                <a:close/>
                <a:moveTo>
                  <a:pt x="93" y="348"/>
                </a:moveTo>
                <a:lnTo>
                  <a:pt x="139" y="348"/>
                </a:lnTo>
                <a:lnTo>
                  <a:pt x="139" y="302"/>
                </a:lnTo>
                <a:lnTo>
                  <a:pt x="93" y="302"/>
                </a:lnTo>
                <a:lnTo>
                  <a:pt x="93" y="348"/>
                </a:lnTo>
                <a:close/>
                <a:moveTo>
                  <a:pt x="371" y="256"/>
                </a:moveTo>
                <a:lnTo>
                  <a:pt x="417" y="256"/>
                </a:lnTo>
                <a:lnTo>
                  <a:pt x="417" y="209"/>
                </a:lnTo>
                <a:lnTo>
                  <a:pt x="371" y="209"/>
                </a:lnTo>
                <a:lnTo>
                  <a:pt x="371" y="256"/>
                </a:lnTo>
                <a:close/>
                <a:moveTo>
                  <a:pt x="277" y="256"/>
                </a:moveTo>
                <a:lnTo>
                  <a:pt x="324" y="256"/>
                </a:lnTo>
                <a:lnTo>
                  <a:pt x="324" y="209"/>
                </a:lnTo>
                <a:lnTo>
                  <a:pt x="277" y="209"/>
                </a:lnTo>
                <a:lnTo>
                  <a:pt x="277" y="256"/>
                </a:lnTo>
                <a:close/>
                <a:moveTo>
                  <a:pt x="185" y="256"/>
                </a:moveTo>
                <a:lnTo>
                  <a:pt x="232" y="256"/>
                </a:lnTo>
                <a:lnTo>
                  <a:pt x="232" y="209"/>
                </a:lnTo>
                <a:lnTo>
                  <a:pt x="185" y="209"/>
                </a:lnTo>
                <a:lnTo>
                  <a:pt x="185" y="256"/>
                </a:lnTo>
                <a:close/>
                <a:moveTo>
                  <a:pt x="46" y="163"/>
                </a:moveTo>
                <a:lnTo>
                  <a:pt x="464" y="163"/>
                </a:lnTo>
                <a:lnTo>
                  <a:pt x="464" y="487"/>
                </a:lnTo>
                <a:lnTo>
                  <a:pt x="46" y="487"/>
                </a:lnTo>
                <a:lnTo>
                  <a:pt x="46" y="163"/>
                </a:lnTo>
                <a:close/>
                <a:moveTo>
                  <a:pt x="46" y="70"/>
                </a:moveTo>
                <a:lnTo>
                  <a:pt x="93" y="70"/>
                </a:lnTo>
                <a:lnTo>
                  <a:pt x="93" y="93"/>
                </a:lnTo>
                <a:lnTo>
                  <a:pt x="139" y="93"/>
                </a:lnTo>
                <a:lnTo>
                  <a:pt x="139" y="70"/>
                </a:lnTo>
                <a:lnTo>
                  <a:pt x="371" y="70"/>
                </a:lnTo>
                <a:lnTo>
                  <a:pt x="371" y="93"/>
                </a:lnTo>
                <a:lnTo>
                  <a:pt x="417" y="93"/>
                </a:lnTo>
                <a:lnTo>
                  <a:pt x="417" y="70"/>
                </a:lnTo>
                <a:lnTo>
                  <a:pt x="464" y="70"/>
                </a:lnTo>
                <a:lnTo>
                  <a:pt x="464" y="116"/>
                </a:lnTo>
                <a:lnTo>
                  <a:pt x="46" y="116"/>
                </a:lnTo>
                <a:lnTo>
                  <a:pt x="46" y="70"/>
                </a:lnTo>
                <a:close/>
                <a:moveTo>
                  <a:pt x="93" y="0"/>
                </a:moveTo>
                <a:lnTo>
                  <a:pt x="93" y="23"/>
                </a:lnTo>
                <a:lnTo>
                  <a:pt x="0" y="23"/>
                </a:lnTo>
                <a:lnTo>
                  <a:pt x="0" y="534"/>
                </a:lnTo>
                <a:lnTo>
                  <a:pt x="510" y="534"/>
                </a:lnTo>
                <a:lnTo>
                  <a:pt x="510" y="23"/>
                </a:lnTo>
                <a:lnTo>
                  <a:pt x="417" y="23"/>
                </a:lnTo>
                <a:lnTo>
                  <a:pt x="417" y="0"/>
                </a:lnTo>
                <a:lnTo>
                  <a:pt x="371" y="0"/>
                </a:lnTo>
                <a:lnTo>
                  <a:pt x="371" y="23"/>
                </a:lnTo>
                <a:lnTo>
                  <a:pt x="139" y="23"/>
                </a:lnTo>
                <a:lnTo>
                  <a:pt x="139" y="0"/>
                </a:lnTo>
                <a:lnTo>
                  <a:pt x="93" y="0"/>
                </a:lnTo>
                <a:close/>
              </a:path>
            </a:pathLst>
          </a:custGeom>
          <a:solidFill>
            <a:srgbClr val="06d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71" name="Freeform 268"/>
          <p:cNvSpPr/>
          <p:nvPr/>
        </p:nvSpPr>
        <p:spPr>
          <a:xfrm>
            <a:off x="5951520" y="4782960"/>
            <a:ext cx="301680" cy="187560"/>
          </a:xfrm>
          <a:custGeom>
            <a:avLst/>
            <a:gdLst/>
            <a:ahLst/>
            <a:rect l="l" t="t" r="r" b="b"/>
            <a:pathLst>
              <a:path w="742" h="464">
                <a:moveTo>
                  <a:pt x="440" y="278"/>
                </a:moveTo>
                <a:lnTo>
                  <a:pt x="672" y="278"/>
                </a:lnTo>
                <a:lnTo>
                  <a:pt x="672" y="324"/>
                </a:lnTo>
                <a:lnTo>
                  <a:pt x="672" y="324"/>
                </a:lnTo>
                <a:cubicBezTo>
                  <a:pt x="672" y="376"/>
                  <a:pt x="630" y="417"/>
                  <a:pt x="580" y="417"/>
                </a:cubicBezTo>
                <a:lnTo>
                  <a:pt x="533" y="417"/>
                </a:lnTo>
                <a:lnTo>
                  <a:pt x="533" y="417"/>
                </a:lnTo>
                <a:cubicBezTo>
                  <a:pt x="482" y="417"/>
                  <a:pt x="440" y="376"/>
                  <a:pt x="440" y="324"/>
                </a:cubicBezTo>
                <a:lnTo>
                  <a:pt x="440" y="278"/>
                </a:lnTo>
                <a:close/>
                <a:moveTo>
                  <a:pt x="70" y="278"/>
                </a:moveTo>
                <a:lnTo>
                  <a:pt x="301" y="278"/>
                </a:lnTo>
                <a:lnTo>
                  <a:pt x="301" y="324"/>
                </a:lnTo>
                <a:lnTo>
                  <a:pt x="301" y="324"/>
                </a:lnTo>
                <a:cubicBezTo>
                  <a:pt x="301" y="376"/>
                  <a:pt x="260" y="417"/>
                  <a:pt x="209" y="417"/>
                </a:cubicBezTo>
                <a:lnTo>
                  <a:pt x="162" y="417"/>
                </a:lnTo>
                <a:lnTo>
                  <a:pt x="162" y="417"/>
                </a:lnTo>
                <a:cubicBezTo>
                  <a:pt x="112" y="417"/>
                  <a:pt x="70" y="376"/>
                  <a:pt x="70" y="324"/>
                </a:cubicBezTo>
                <a:lnTo>
                  <a:pt x="70" y="278"/>
                </a:lnTo>
                <a:close/>
                <a:moveTo>
                  <a:pt x="118" y="0"/>
                </a:moveTo>
                <a:lnTo>
                  <a:pt x="112" y="15"/>
                </a:lnTo>
                <a:lnTo>
                  <a:pt x="31" y="231"/>
                </a:lnTo>
                <a:lnTo>
                  <a:pt x="0" y="231"/>
                </a:lnTo>
                <a:lnTo>
                  <a:pt x="0" y="278"/>
                </a:lnTo>
                <a:lnTo>
                  <a:pt x="23" y="278"/>
                </a:lnTo>
                <a:lnTo>
                  <a:pt x="23" y="324"/>
                </a:lnTo>
                <a:lnTo>
                  <a:pt x="23" y="324"/>
                </a:lnTo>
                <a:cubicBezTo>
                  <a:pt x="23" y="401"/>
                  <a:pt x="86" y="463"/>
                  <a:pt x="162" y="463"/>
                </a:cubicBezTo>
                <a:lnTo>
                  <a:pt x="209" y="463"/>
                </a:lnTo>
                <a:lnTo>
                  <a:pt x="209" y="463"/>
                </a:lnTo>
                <a:cubicBezTo>
                  <a:pt x="285" y="463"/>
                  <a:pt x="348" y="401"/>
                  <a:pt x="348" y="324"/>
                </a:cubicBezTo>
                <a:lnTo>
                  <a:pt x="348" y="254"/>
                </a:lnTo>
                <a:lnTo>
                  <a:pt x="348" y="254"/>
                </a:lnTo>
                <a:cubicBezTo>
                  <a:pt x="348" y="242"/>
                  <a:pt x="358" y="231"/>
                  <a:pt x="371" y="231"/>
                </a:cubicBezTo>
                <a:lnTo>
                  <a:pt x="371" y="231"/>
                </a:lnTo>
                <a:cubicBezTo>
                  <a:pt x="385" y="231"/>
                  <a:pt x="394" y="242"/>
                  <a:pt x="394" y="254"/>
                </a:cubicBezTo>
                <a:lnTo>
                  <a:pt x="394" y="324"/>
                </a:lnTo>
                <a:lnTo>
                  <a:pt x="394" y="324"/>
                </a:lnTo>
                <a:cubicBezTo>
                  <a:pt x="394" y="401"/>
                  <a:pt x="456" y="463"/>
                  <a:pt x="533" y="463"/>
                </a:cubicBezTo>
                <a:lnTo>
                  <a:pt x="580" y="463"/>
                </a:lnTo>
                <a:lnTo>
                  <a:pt x="580" y="463"/>
                </a:lnTo>
                <a:cubicBezTo>
                  <a:pt x="655" y="463"/>
                  <a:pt x="719" y="401"/>
                  <a:pt x="719" y="324"/>
                </a:cubicBezTo>
                <a:lnTo>
                  <a:pt x="719" y="278"/>
                </a:lnTo>
                <a:lnTo>
                  <a:pt x="741" y="278"/>
                </a:lnTo>
                <a:lnTo>
                  <a:pt x="741" y="231"/>
                </a:lnTo>
                <a:lnTo>
                  <a:pt x="711" y="231"/>
                </a:lnTo>
                <a:lnTo>
                  <a:pt x="630" y="15"/>
                </a:lnTo>
                <a:lnTo>
                  <a:pt x="624" y="0"/>
                </a:lnTo>
                <a:lnTo>
                  <a:pt x="580" y="0"/>
                </a:lnTo>
                <a:lnTo>
                  <a:pt x="573" y="8"/>
                </a:lnTo>
                <a:lnTo>
                  <a:pt x="515" y="78"/>
                </a:lnTo>
                <a:lnTo>
                  <a:pt x="551" y="107"/>
                </a:lnTo>
                <a:lnTo>
                  <a:pt x="595" y="53"/>
                </a:lnTo>
                <a:lnTo>
                  <a:pt x="662" y="231"/>
                </a:lnTo>
                <a:lnTo>
                  <a:pt x="435" y="231"/>
                </a:lnTo>
                <a:lnTo>
                  <a:pt x="435" y="231"/>
                </a:lnTo>
                <a:cubicBezTo>
                  <a:pt x="426" y="204"/>
                  <a:pt x="401" y="185"/>
                  <a:pt x="371" y="185"/>
                </a:cubicBezTo>
                <a:lnTo>
                  <a:pt x="371" y="185"/>
                </a:lnTo>
                <a:cubicBezTo>
                  <a:pt x="341" y="185"/>
                  <a:pt x="316" y="204"/>
                  <a:pt x="307" y="231"/>
                </a:cubicBezTo>
                <a:lnTo>
                  <a:pt x="80" y="231"/>
                </a:lnTo>
                <a:lnTo>
                  <a:pt x="146" y="53"/>
                </a:lnTo>
                <a:lnTo>
                  <a:pt x="191" y="107"/>
                </a:lnTo>
                <a:lnTo>
                  <a:pt x="227" y="78"/>
                </a:lnTo>
                <a:lnTo>
                  <a:pt x="169" y="8"/>
                </a:lnTo>
                <a:lnTo>
                  <a:pt x="162" y="0"/>
                </a:lnTo>
                <a:lnTo>
                  <a:pt x="118" y="0"/>
                </a:lnTo>
                <a:close/>
              </a:path>
            </a:pathLst>
          </a:custGeom>
          <a:solidFill>
            <a:srgbClr val="ff4e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72" name="Freeform 269"/>
          <p:cNvSpPr/>
          <p:nvPr/>
        </p:nvSpPr>
        <p:spPr>
          <a:xfrm>
            <a:off x="5989680" y="5357880"/>
            <a:ext cx="226800" cy="225360"/>
          </a:xfrm>
          <a:custGeom>
            <a:avLst/>
            <a:gdLst/>
            <a:ahLst/>
            <a:rect l="l" t="t" r="r" b="b"/>
            <a:pathLst>
              <a:path w="556" h="557">
                <a:moveTo>
                  <a:pt x="48" y="296"/>
                </a:moveTo>
                <a:lnTo>
                  <a:pt x="70" y="322"/>
                </a:lnTo>
                <a:lnTo>
                  <a:pt x="70" y="370"/>
                </a:lnTo>
                <a:lnTo>
                  <a:pt x="114" y="418"/>
                </a:lnTo>
                <a:lnTo>
                  <a:pt x="141" y="418"/>
                </a:lnTo>
                <a:lnTo>
                  <a:pt x="207" y="499"/>
                </a:lnTo>
                <a:lnTo>
                  <a:pt x="207" y="499"/>
                </a:lnTo>
                <a:cubicBezTo>
                  <a:pt x="119" y="470"/>
                  <a:pt x="55" y="391"/>
                  <a:pt x="48" y="296"/>
                </a:cubicBezTo>
                <a:close/>
                <a:moveTo>
                  <a:pt x="252" y="47"/>
                </a:moveTo>
                <a:lnTo>
                  <a:pt x="216" y="62"/>
                </a:lnTo>
                <a:lnTo>
                  <a:pt x="198" y="60"/>
                </a:lnTo>
                <a:lnTo>
                  <a:pt x="198" y="60"/>
                </a:lnTo>
                <a:cubicBezTo>
                  <a:pt x="216" y="54"/>
                  <a:pt x="234" y="50"/>
                  <a:pt x="252" y="47"/>
                </a:cubicBezTo>
                <a:close/>
                <a:moveTo>
                  <a:pt x="278" y="46"/>
                </a:moveTo>
                <a:lnTo>
                  <a:pt x="278" y="46"/>
                </a:lnTo>
                <a:cubicBezTo>
                  <a:pt x="323" y="46"/>
                  <a:pt x="365" y="60"/>
                  <a:pt x="401" y="83"/>
                </a:cubicBezTo>
                <a:lnTo>
                  <a:pt x="383" y="84"/>
                </a:lnTo>
                <a:lnTo>
                  <a:pt x="387" y="130"/>
                </a:lnTo>
                <a:lnTo>
                  <a:pt x="363" y="120"/>
                </a:lnTo>
                <a:lnTo>
                  <a:pt x="342" y="137"/>
                </a:lnTo>
                <a:lnTo>
                  <a:pt x="346" y="185"/>
                </a:lnTo>
                <a:lnTo>
                  <a:pt x="395" y="169"/>
                </a:lnTo>
                <a:lnTo>
                  <a:pt x="458" y="189"/>
                </a:lnTo>
                <a:lnTo>
                  <a:pt x="442" y="218"/>
                </a:lnTo>
                <a:lnTo>
                  <a:pt x="404" y="195"/>
                </a:lnTo>
                <a:lnTo>
                  <a:pt x="363" y="201"/>
                </a:lnTo>
                <a:lnTo>
                  <a:pt x="324" y="231"/>
                </a:lnTo>
                <a:lnTo>
                  <a:pt x="301" y="301"/>
                </a:lnTo>
                <a:lnTo>
                  <a:pt x="346" y="337"/>
                </a:lnTo>
                <a:lnTo>
                  <a:pt x="346" y="337"/>
                </a:lnTo>
                <a:cubicBezTo>
                  <a:pt x="346" y="337"/>
                  <a:pt x="392" y="330"/>
                  <a:pt x="395" y="330"/>
                </a:cubicBezTo>
                <a:lnTo>
                  <a:pt x="395" y="330"/>
                </a:lnTo>
                <a:cubicBezTo>
                  <a:pt x="397" y="330"/>
                  <a:pt x="415" y="372"/>
                  <a:pt x="415" y="372"/>
                </a:cubicBezTo>
                <a:lnTo>
                  <a:pt x="378" y="487"/>
                </a:lnTo>
                <a:lnTo>
                  <a:pt x="378" y="487"/>
                </a:lnTo>
                <a:cubicBezTo>
                  <a:pt x="347" y="502"/>
                  <a:pt x="313" y="510"/>
                  <a:pt x="278" y="510"/>
                </a:cubicBezTo>
                <a:lnTo>
                  <a:pt x="278" y="510"/>
                </a:lnTo>
                <a:cubicBezTo>
                  <a:pt x="271" y="510"/>
                  <a:pt x="264" y="509"/>
                  <a:pt x="257" y="508"/>
                </a:cubicBezTo>
                <a:lnTo>
                  <a:pt x="231" y="464"/>
                </a:lnTo>
                <a:lnTo>
                  <a:pt x="256" y="372"/>
                </a:lnTo>
                <a:lnTo>
                  <a:pt x="162" y="301"/>
                </a:lnTo>
                <a:lnTo>
                  <a:pt x="76" y="301"/>
                </a:lnTo>
                <a:lnTo>
                  <a:pt x="53" y="255"/>
                </a:lnTo>
                <a:lnTo>
                  <a:pt x="116" y="206"/>
                </a:lnTo>
                <a:lnTo>
                  <a:pt x="208" y="162"/>
                </a:lnTo>
                <a:lnTo>
                  <a:pt x="195" y="100"/>
                </a:lnTo>
                <a:lnTo>
                  <a:pt x="235" y="92"/>
                </a:lnTo>
                <a:lnTo>
                  <a:pt x="254" y="118"/>
                </a:lnTo>
                <a:lnTo>
                  <a:pt x="322" y="105"/>
                </a:lnTo>
                <a:lnTo>
                  <a:pt x="310" y="51"/>
                </a:lnTo>
                <a:lnTo>
                  <a:pt x="260" y="47"/>
                </a:lnTo>
                <a:lnTo>
                  <a:pt x="260" y="47"/>
                </a:lnTo>
                <a:cubicBezTo>
                  <a:pt x="266" y="47"/>
                  <a:pt x="272" y="46"/>
                  <a:pt x="278" y="46"/>
                </a:cubicBezTo>
                <a:close/>
                <a:moveTo>
                  <a:pt x="278" y="0"/>
                </a:moveTo>
                <a:lnTo>
                  <a:pt x="278" y="0"/>
                </a:lnTo>
                <a:cubicBezTo>
                  <a:pt x="125" y="0"/>
                  <a:pt x="0" y="124"/>
                  <a:pt x="0" y="278"/>
                </a:cubicBezTo>
                <a:lnTo>
                  <a:pt x="0" y="278"/>
                </a:lnTo>
                <a:cubicBezTo>
                  <a:pt x="0" y="431"/>
                  <a:pt x="125" y="556"/>
                  <a:pt x="278" y="556"/>
                </a:cubicBezTo>
                <a:lnTo>
                  <a:pt x="278" y="556"/>
                </a:lnTo>
                <a:cubicBezTo>
                  <a:pt x="431" y="556"/>
                  <a:pt x="555" y="431"/>
                  <a:pt x="555" y="278"/>
                </a:cubicBezTo>
                <a:lnTo>
                  <a:pt x="555" y="278"/>
                </a:lnTo>
                <a:cubicBezTo>
                  <a:pt x="555" y="124"/>
                  <a:pt x="431" y="0"/>
                  <a:pt x="278" y="0"/>
                </a:cubicBezTo>
                <a:close/>
              </a:path>
            </a:pathLst>
          </a:custGeom>
          <a:solidFill>
            <a:srgbClr val="5b9bd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73" name="Freeform 270"/>
          <p:cNvSpPr/>
          <p:nvPr/>
        </p:nvSpPr>
        <p:spPr>
          <a:xfrm>
            <a:off x="5991120" y="3565440"/>
            <a:ext cx="222480" cy="187560"/>
          </a:xfrm>
          <a:custGeom>
            <a:avLst/>
            <a:gdLst/>
            <a:ahLst/>
            <a:rect l="l" t="t" r="r" b="b"/>
            <a:pathLst>
              <a:path w="549" h="458">
                <a:moveTo>
                  <a:pt x="225" y="457"/>
                </a:moveTo>
                <a:lnTo>
                  <a:pt x="548" y="457"/>
                </a:lnTo>
                <a:lnTo>
                  <a:pt x="548" y="411"/>
                </a:lnTo>
                <a:lnTo>
                  <a:pt x="225" y="411"/>
                </a:lnTo>
                <a:lnTo>
                  <a:pt x="225" y="457"/>
                </a:lnTo>
                <a:close/>
                <a:moveTo>
                  <a:pt x="225" y="272"/>
                </a:moveTo>
                <a:lnTo>
                  <a:pt x="548" y="272"/>
                </a:lnTo>
                <a:lnTo>
                  <a:pt x="548" y="225"/>
                </a:lnTo>
                <a:lnTo>
                  <a:pt x="225" y="225"/>
                </a:lnTo>
                <a:lnTo>
                  <a:pt x="225" y="272"/>
                </a:lnTo>
                <a:close/>
                <a:moveTo>
                  <a:pt x="225" y="86"/>
                </a:moveTo>
                <a:lnTo>
                  <a:pt x="548" y="86"/>
                </a:lnTo>
                <a:lnTo>
                  <a:pt x="548" y="40"/>
                </a:lnTo>
                <a:lnTo>
                  <a:pt x="225" y="40"/>
                </a:lnTo>
                <a:lnTo>
                  <a:pt x="225" y="86"/>
                </a:lnTo>
                <a:close/>
                <a:moveTo>
                  <a:pt x="139" y="0"/>
                </a:moveTo>
                <a:lnTo>
                  <a:pt x="62" y="76"/>
                </a:lnTo>
                <a:lnTo>
                  <a:pt x="32" y="46"/>
                </a:lnTo>
                <a:lnTo>
                  <a:pt x="0" y="79"/>
                </a:lnTo>
                <a:lnTo>
                  <a:pt x="62" y="142"/>
                </a:lnTo>
                <a:lnTo>
                  <a:pt x="172" y="33"/>
                </a:lnTo>
                <a:lnTo>
                  <a:pt x="139" y="0"/>
                </a:lnTo>
                <a:close/>
              </a:path>
            </a:pathLst>
          </a:custGeom>
          <a:solidFill>
            <a:srgbClr val="37e08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74" name="Freeform 271"/>
          <p:cNvSpPr/>
          <p:nvPr/>
        </p:nvSpPr>
        <p:spPr>
          <a:xfrm>
            <a:off x="5985000" y="4106880"/>
            <a:ext cx="239760" cy="239760"/>
          </a:xfrm>
          <a:custGeom>
            <a:avLst/>
            <a:gdLst/>
            <a:ahLst/>
            <a:rect l="l" t="t" r="r" b="b"/>
            <a:pathLst>
              <a:path w="591" h="591">
                <a:moveTo>
                  <a:pt x="389" y="71"/>
                </a:moveTo>
                <a:lnTo>
                  <a:pt x="519" y="201"/>
                </a:lnTo>
                <a:lnTo>
                  <a:pt x="375" y="306"/>
                </a:lnTo>
                <a:lnTo>
                  <a:pt x="361" y="316"/>
                </a:lnTo>
                <a:lnTo>
                  <a:pt x="365" y="331"/>
                </a:lnTo>
                <a:lnTo>
                  <a:pt x="365" y="331"/>
                </a:lnTo>
                <a:cubicBezTo>
                  <a:pt x="376" y="374"/>
                  <a:pt x="364" y="418"/>
                  <a:pt x="338" y="456"/>
                </a:cubicBezTo>
                <a:lnTo>
                  <a:pt x="135" y="252"/>
                </a:lnTo>
                <a:lnTo>
                  <a:pt x="135" y="252"/>
                </a:lnTo>
                <a:cubicBezTo>
                  <a:pt x="172" y="225"/>
                  <a:pt x="217" y="213"/>
                  <a:pt x="259" y="224"/>
                </a:cubicBezTo>
                <a:lnTo>
                  <a:pt x="274" y="228"/>
                </a:lnTo>
                <a:lnTo>
                  <a:pt x="284" y="215"/>
                </a:lnTo>
                <a:lnTo>
                  <a:pt x="389" y="71"/>
                </a:lnTo>
                <a:close/>
                <a:moveTo>
                  <a:pt x="383" y="0"/>
                </a:moveTo>
                <a:lnTo>
                  <a:pt x="367" y="22"/>
                </a:lnTo>
                <a:lnTo>
                  <a:pt x="254" y="176"/>
                </a:lnTo>
                <a:lnTo>
                  <a:pt x="254" y="176"/>
                </a:lnTo>
                <a:cubicBezTo>
                  <a:pt x="194" y="166"/>
                  <a:pt x="129" y="183"/>
                  <a:pt x="81" y="231"/>
                </a:cubicBezTo>
                <a:lnTo>
                  <a:pt x="65" y="246"/>
                </a:lnTo>
                <a:lnTo>
                  <a:pt x="188" y="370"/>
                </a:lnTo>
                <a:lnTo>
                  <a:pt x="0" y="557"/>
                </a:lnTo>
                <a:lnTo>
                  <a:pt x="0" y="590"/>
                </a:lnTo>
                <a:lnTo>
                  <a:pt x="33" y="590"/>
                </a:lnTo>
                <a:lnTo>
                  <a:pt x="220" y="403"/>
                </a:lnTo>
                <a:lnTo>
                  <a:pt x="343" y="526"/>
                </a:lnTo>
                <a:lnTo>
                  <a:pt x="359" y="509"/>
                </a:lnTo>
                <a:lnTo>
                  <a:pt x="359" y="509"/>
                </a:lnTo>
                <a:cubicBezTo>
                  <a:pt x="406" y="462"/>
                  <a:pt x="423" y="397"/>
                  <a:pt x="412" y="336"/>
                </a:cubicBezTo>
                <a:lnTo>
                  <a:pt x="568" y="222"/>
                </a:lnTo>
                <a:lnTo>
                  <a:pt x="590" y="207"/>
                </a:lnTo>
                <a:lnTo>
                  <a:pt x="383" y="0"/>
                </a:lnTo>
                <a:close/>
              </a:path>
            </a:pathLst>
          </a:custGeom>
          <a:solidFill>
            <a:srgbClr val="a5a5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75" name="Freeform 161"/>
          <p:cNvSpPr/>
          <p:nvPr/>
        </p:nvSpPr>
        <p:spPr>
          <a:xfrm>
            <a:off x="3387600" y="4237200"/>
            <a:ext cx="198720" cy="198360"/>
          </a:xfrm>
          <a:custGeom>
            <a:avLst/>
            <a:gdLst/>
            <a:ahLst/>
            <a:rect l="l" t="t" r="r" b="b"/>
            <a:pathLst>
              <a:path w="484" h="483">
                <a:moveTo>
                  <a:pt x="447" y="0"/>
                </a:moveTo>
                <a:lnTo>
                  <a:pt x="242" y="204"/>
                </a:lnTo>
                <a:lnTo>
                  <a:pt x="37" y="0"/>
                </a:lnTo>
                <a:lnTo>
                  <a:pt x="0" y="0"/>
                </a:lnTo>
                <a:lnTo>
                  <a:pt x="0" y="36"/>
                </a:lnTo>
                <a:lnTo>
                  <a:pt x="204" y="241"/>
                </a:lnTo>
                <a:lnTo>
                  <a:pt x="0" y="446"/>
                </a:lnTo>
                <a:lnTo>
                  <a:pt x="0" y="482"/>
                </a:lnTo>
                <a:lnTo>
                  <a:pt x="37" y="482"/>
                </a:lnTo>
                <a:lnTo>
                  <a:pt x="242" y="278"/>
                </a:lnTo>
                <a:lnTo>
                  <a:pt x="447" y="482"/>
                </a:lnTo>
                <a:lnTo>
                  <a:pt x="483" y="482"/>
                </a:lnTo>
                <a:lnTo>
                  <a:pt x="483" y="446"/>
                </a:lnTo>
                <a:lnTo>
                  <a:pt x="278" y="241"/>
                </a:lnTo>
                <a:lnTo>
                  <a:pt x="483" y="36"/>
                </a:lnTo>
                <a:lnTo>
                  <a:pt x="483"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76" name="Freeform 178"/>
          <p:cNvSpPr/>
          <p:nvPr/>
        </p:nvSpPr>
        <p:spPr>
          <a:xfrm>
            <a:off x="4998960" y="4237200"/>
            <a:ext cx="198360" cy="198360"/>
          </a:xfrm>
          <a:custGeom>
            <a:avLst/>
            <a:gdLst/>
            <a:ahLst/>
            <a:rect l="l" t="t" r="r" b="b"/>
            <a:pathLst>
              <a:path w="484" h="483">
                <a:moveTo>
                  <a:pt x="447" y="0"/>
                </a:moveTo>
                <a:lnTo>
                  <a:pt x="241" y="204"/>
                </a:lnTo>
                <a:lnTo>
                  <a:pt x="37" y="0"/>
                </a:lnTo>
                <a:lnTo>
                  <a:pt x="0" y="0"/>
                </a:lnTo>
                <a:lnTo>
                  <a:pt x="0" y="36"/>
                </a:lnTo>
                <a:lnTo>
                  <a:pt x="204" y="241"/>
                </a:lnTo>
                <a:lnTo>
                  <a:pt x="0" y="446"/>
                </a:lnTo>
                <a:lnTo>
                  <a:pt x="0" y="482"/>
                </a:lnTo>
                <a:lnTo>
                  <a:pt x="37" y="482"/>
                </a:lnTo>
                <a:lnTo>
                  <a:pt x="241" y="278"/>
                </a:lnTo>
                <a:lnTo>
                  <a:pt x="447" y="482"/>
                </a:lnTo>
                <a:lnTo>
                  <a:pt x="483" y="482"/>
                </a:lnTo>
                <a:lnTo>
                  <a:pt x="483" y="446"/>
                </a:lnTo>
                <a:lnTo>
                  <a:pt x="278" y="241"/>
                </a:lnTo>
                <a:lnTo>
                  <a:pt x="483" y="36"/>
                </a:lnTo>
                <a:lnTo>
                  <a:pt x="483"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77" name="Freeform 244"/>
          <p:cNvSpPr/>
          <p:nvPr/>
        </p:nvSpPr>
        <p:spPr>
          <a:xfrm>
            <a:off x="4452840" y="4237200"/>
            <a:ext cx="196920" cy="198360"/>
          </a:xfrm>
          <a:custGeom>
            <a:avLst/>
            <a:gdLst/>
            <a:ahLst/>
            <a:rect l="l" t="t" r="r" b="b"/>
            <a:pathLst>
              <a:path w="485" h="483">
                <a:moveTo>
                  <a:pt x="447" y="0"/>
                </a:moveTo>
                <a:lnTo>
                  <a:pt x="242" y="204"/>
                </a:lnTo>
                <a:lnTo>
                  <a:pt x="37" y="0"/>
                </a:lnTo>
                <a:lnTo>
                  <a:pt x="0" y="0"/>
                </a:lnTo>
                <a:lnTo>
                  <a:pt x="0" y="36"/>
                </a:lnTo>
                <a:lnTo>
                  <a:pt x="206" y="241"/>
                </a:lnTo>
                <a:lnTo>
                  <a:pt x="0" y="446"/>
                </a:lnTo>
                <a:lnTo>
                  <a:pt x="0" y="482"/>
                </a:lnTo>
                <a:lnTo>
                  <a:pt x="37" y="482"/>
                </a:lnTo>
                <a:lnTo>
                  <a:pt x="242" y="278"/>
                </a:lnTo>
                <a:lnTo>
                  <a:pt x="447" y="482"/>
                </a:lnTo>
                <a:lnTo>
                  <a:pt x="484" y="482"/>
                </a:lnTo>
                <a:lnTo>
                  <a:pt x="484" y="446"/>
                </a:lnTo>
                <a:lnTo>
                  <a:pt x="278" y="241"/>
                </a:lnTo>
                <a:lnTo>
                  <a:pt x="484" y="36"/>
                </a:lnTo>
                <a:lnTo>
                  <a:pt x="484"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78" name="Freeform 137"/>
          <p:cNvSpPr/>
          <p:nvPr/>
        </p:nvSpPr>
        <p:spPr>
          <a:xfrm>
            <a:off x="1798560" y="3016080"/>
            <a:ext cx="196920" cy="196920"/>
          </a:xfrm>
          <a:custGeom>
            <a:avLst/>
            <a:gdLst/>
            <a:ahLst/>
            <a:rect l="l" t="t" r="r" b="b"/>
            <a:pathLst>
              <a:path w="485" h="484">
                <a:moveTo>
                  <a:pt x="447" y="0"/>
                </a:moveTo>
                <a:lnTo>
                  <a:pt x="241" y="205"/>
                </a:lnTo>
                <a:lnTo>
                  <a:pt x="37" y="0"/>
                </a:lnTo>
                <a:lnTo>
                  <a:pt x="0" y="0"/>
                </a:lnTo>
                <a:lnTo>
                  <a:pt x="0" y="37"/>
                </a:lnTo>
                <a:lnTo>
                  <a:pt x="205" y="241"/>
                </a:lnTo>
                <a:lnTo>
                  <a:pt x="0" y="446"/>
                </a:lnTo>
                <a:lnTo>
                  <a:pt x="0" y="483"/>
                </a:lnTo>
                <a:lnTo>
                  <a:pt x="37" y="483"/>
                </a:lnTo>
                <a:lnTo>
                  <a:pt x="241" y="278"/>
                </a:lnTo>
                <a:lnTo>
                  <a:pt x="447" y="483"/>
                </a:lnTo>
                <a:lnTo>
                  <a:pt x="484" y="483"/>
                </a:lnTo>
                <a:lnTo>
                  <a:pt x="484" y="446"/>
                </a:lnTo>
                <a:lnTo>
                  <a:pt x="278" y="241"/>
                </a:lnTo>
                <a:lnTo>
                  <a:pt x="484" y="37"/>
                </a:lnTo>
                <a:lnTo>
                  <a:pt x="484"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79" name="Freeform 141"/>
          <p:cNvSpPr/>
          <p:nvPr/>
        </p:nvSpPr>
        <p:spPr>
          <a:xfrm>
            <a:off x="1798560" y="4848120"/>
            <a:ext cx="196920" cy="196920"/>
          </a:xfrm>
          <a:custGeom>
            <a:avLst/>
            <a:gdLst/>
            <a:ahLst/>
            <a:rect l="l" t="t" r="r" b="b"/>
            <a:pathLst>
              <a:path w="485" h="484">
                <a:moveTo>
                  <a:pt x="447" y="0"/>
                </a:moveTo>
                <a:lnTo>
                  <a:pt x="241" y="206"/>
                </a:lnTo>
                <a:lnTo>
                  <a:pt x="37" y="0"/>
                </a:lnTo>
                <a:lnTo>
                  <a:pt x="0" y="0"/>
                </a:lnTo>
                <a:lnTo>
                  <a:pt x="0" y="37"/>
                </a:lnTo>
                <a:lnTo>
                  <a:pt x="205" y="242"/>
                </a:lnTo>
                <a:lnTo>
                  <a:pt x="0" y="446"/>
                </a:lnTo>
                <a:lnTo>
                  <a:pt x="0" y="483"/>
                </a:lnTo>
                <a:lnTo>
                  <a:pt x="37" y="483"/>
                </a:lnTo>
                <a:lnTo>
                  <a:pt x="241" y="279"/>
                </a:lnTo>
                <a:lnTo>
                  <a:pt x="447" y="483"/>
                </a:lnTo>
                <a:lnTo>
                  <a:pt x="484" y="483"/>
                </a:lnTo>
                <a:lnTo>
                  <a:pt x="484" y="446"/>
                </a:lnTo>
                <a:lnTo>
                  <a:pt x="278" y="242"/>
                </a:lnTo>
                <a:lnTo>
                  <a:pt x="484" y="37"/>
                </a:lnTo>
                <a:lnTo>
                  <a:pt x="484"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80" name="Freeform 154"/>
          <p:cNvSpPr/>
          <p:nvPr/>
        </p:nvSpPr>
        <p:spPr>
          <a:xfrm>
            <a:off x="2860560" y="4848120"/>
            <a:ext cx="198720" cy="196920"/>
          </a:xfrm>
          <a:custGeom>
            <a:avLst/>
            <a:gdLst/>
            <a:ahLst/>
            <a:rect l="l" t="t" r="r" b="b"/>
            <a:pathLst>
              <a:path w="485" h="484">
                <a:moveTo>
                  <a:pt x="447" y="0"/>
                </a:moveTo>
                <a:lnTo>
                  <a:pt x="242" y="206"/>
                </a:lnTo>
                <a:lnTo>
                  <a:pt x="37" y="0"/>
                </a:lnTo>
                <a:lnTo>
                  <a:pt x="0" y="0"/>
                </a:lnTo>
                <a:lnTo>
                  <a:pt x="0" y="37"/>
                </a:lnTo>
                <a:lnTo>
                  <a:pt x="206" y="242"/>
                </a:lnTo>
                <a:lnTo>
                  <a:pt x="0" y="446"/>
                </a:lnTo>
                <a:lnTo>
                  <a:pt x="0" y="483"/>
                </a:lnTo>
                <a:lnTo>
                  <a:pt x="37" y="483"/>
                </a:lnTo>
                <a:lnTo>
                  <a:pt x="242" y="279"/>
                </a:lnTo>
                <a:lnTo>
                  <a:pt x="447" y="483"/>
                </a:lnTo>
                <a:lnTo>
                  <a:pt x="484" y="483"/>
                </a:lnTo>
                <a:lnTo>
                  <a:pt x="484" y="446"/>
                </a:lnTo>
                <a:lnTo>
                  <a:pt x="279" y="242"/>
                </a:lnTo>
                <a:lnTo>
                  <a:pt x="484" y="37"/>
                </a:lnTo>
                <a:lnTo>
                  <a:pt x="484"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81" name="Freeform 163"/>
          <p:cNvSpPr/>
          <p:nvPr/>
        </p:nvSpPr>
        <p:spPr>
          <a:xfrm>
            <a:off x="3387600" y="4848120"/>
            <a:ext cx="198720" cy="196920"/>
          </a:xfrm>
          <a:custGeom>
            <a:avLst/>
            <a:gdLst/>
            <a:ahLst/>
            <a:rect l="l" t="t" r="r" b="b"/>
            <a:pathLst>
              <a:path w="484" h="484">
                <a:moveTo>
                  <a:pt x="447" y="0"/>
                </a:moveTo>
                <a:lnTo>
                  <a:pt x="242" y="206"/>
                </a:lnTo>
                <a:lnTo>
                  <a:pt x="37" y="0"/>
                </a:lnTo>
                <a:lnTo>
                  <a:pt x="0" y="0"/>
                </a:lnTo>
                <a:lnTo>
                  <a:pt x="0" y="37"/>
                </a:lnTo>
                <a:lnTo>
                  <a:pt x="204" y="242"/>
                </a:lnTo>
                <a:lnTo>
                  <a:pt x="0" y="446"/>
                </a:lnTo>
                <a:lnTo>
                  <a:pt x="0" y="483"/>
                </a:lnTo>
                <a:lnTo>
                  <a:pt x="37" y="483"/>
                </a:lnTo>
                <a:lnTo>
                  <a:pt x="242" y="279"/>
                </a:lnTo>
                <a:lnTo>
                  <a:pt x="447" y="483"/>
                </a:lnTo>
                <a:lnTo>
                  <a:pt x="483" y="483"/>
                </a:lnTo>
                <a:lnTo>
                  <a:pt x="483" y="446"/>
                </a:lnTo>
                <a:lnTo>
                  <a:pt x="278" y="242"/>
                </a:lnTo>
                <a:lnTo>
                  <a:pt x="483" y="37"/>
                </a:lnTo>
                <a:lnTo>
                  <a:pt x="483"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82" name="Freeform 171"/>
          <p:cNvSpPr/>
          <p:nvPr/>
        </p:nvSpPr>
        <p:spPr>
          <a:xfrm>
            <a:off x="2333520" y="4848120"/>
            <a:ext cx="196920" cy="196920"/>
          </a:xfrm>
          <a:custGeom>
            <a:avLst/>
            <a:gdLst/>
            <a:ahLst/>
            <a:rect l="l" t="t" r="r" b="b"/>
            <a:pathLst>
              <a:path w="484" h="484">
                <a:moveTo>
                  <a:pt x="446" y="0"/>
                </a:moveTo>
                <a:lnTo>
                  <a:pt x="242" y="206"/>
                </a:lnTo>
                <a:lnTo>
                  <a:pt x="37" y="0"/>
                </a:lnTo>
                <a:lnTo>
                  <a:pt x="0" y="0"/>
                </a:lnTo>
                <a:lnTo>
                  <a:pt x="0" y="37"/>
                </a:lnTo>
                <a:lnTo>
                  <a:pt x="205" y="242"/>
                </a:lnTo>
                <a:lnTo>
                  <a:pt x="0" y="446"/>
                </a:lnTo>
                <a:lnTo>
                  <a:pt x="0" y="483"/>
                </a:lnTo>
                <a:lnTo>
                  <a:pt x="37" y="483"/>
                </a:lnTo>
                <a:lnTo>
                  <a:pt x="242" y="279"/>
                </a:lnTo>
                <a:lnTo>
                  <a:pt x="446" y="483"/>
                </a:lnTo>
                <a:lnTo>
                  <a:pt x="483" y="483"/>
                </a:lnTo>
                <a:lnTo>
                  <a:pt x="483" y="446"/>
                </a:lnTo>
                <a:lnTo>
                  <a:pt x="278" y="242"/>
                </a:lnTo>
                <a:lnTo>
                  <a:pt x="483" y="37"/>
                </a:lnTo>
                <a:lnTo>
                  <a:pt x="483" y="0"/>
                </a:lnTo>
                <a:lnTo>
                  <a:pt x="446"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83" name="Freeform 180"/>
          <p:cNvSpPr/>
          <p:nvPr/>
        </p:nvSpPr>
        <p:spPr>
          <a:xfrm>
            <a:off x="4998960" y="4848120"/>
            <a:ext cx="198360" cy="196920"/>
          </a:xfrm>
          <a:custGeom>
            <a:avLst/>
            <a:gdLst/>
            <a:ahLst/>
            <a:rect l="l" t="t" r="r" b="b"/>
            <a:pathLst>
              <a:path w="484" h="484">
                <a:moveTo>
                  <a:pt x="447" y="0"/>
                </a:moveTo>
                <a:lnTo>
                  <a:pt x="241" y="206"/>
                </a:lnTo>
                <a:lnTo>
                  <a:pt x="37" y="0"/>
                </a:lnTo>
                <a:lnTo>
                  <a:pt x="0" y="0"/>
                </a:lnTo>
                <a:lnTo>
                  <a:pt x="0" y="37"/>
                </a:lnTo>
                <a:lnTo>
                  <a:pt x="204" y="242"/>
                </a:lnTo>
                <a:lnTo>
                  <a:pt x="0" y="446"/>
                </a:lnTo>
                <a:lnTo>
                  <a:pt x="0" y="483"/>
                </a:lnTo>
                <a:lnTo>
                  <a:pt x="37" y="483"/>
                </a:lnTo>
                <a:lnTo>
                  <a:pt x="241" y="279"/>
                </a:lnTo>
                <a:lnTo>
                  <a:pt x="447" y="483"/>
                </a:lnTo>
                <a:lnTo>
                  <a:pt x="483" y="483"/>
                </a:lnTo>
                <a:lnTo>
                  <a:pt x="483" y="446"/>
                </a:lnTo>
                <a:lnTo>
                  <a:pt x="278" y="242"/>
                </a:lnTo>
                <a:lnTo>
                  <a:pt x="483" y="37"/>
                </a:lnTo>
                <a:lnTo>
                  <a:pt x="483"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84" name="Freeform 246"/>
          <p:cNvSpPr/>
          <p:nvPr/>
        </p:nvSpPr>
        <p:spPr>
          <a:xfrm>
            <a:off x="4452840" y="4848120"/>
            <a:ext cx="196920" cy="196920"/>
          </a:xfrm>
          <a:custGeom>
            <a:avLst/>
            <a:gdLst/>
            <a:ahLst/>
            <a:rect l="l" t="t" r="r" b="b"/>
            <a:pathLst>
              <a:path w="485" h="484">
                <a:moveTo>
                  <a:pt x="447" y="0"/>
                </a:moveTo>
                <a:lnTo>
                  <a:pt x="242" y="206"/>
                </a:lnTo>
                <a:lnTo>
                  <a:pt x="37" y="0"/>
                </a:lnTo>
                <a:lnTo>
                  <a:pt x="0" y="0"/>
                </a:lnTo>
                <a:lnTo>
                  <a:pt x="0" y="37"/>
                </a:lnTo>
                <a:lnTo>
                  <a:pt x="206" y="242"/>
                </a:lnTo>
                <a:lnTo>
                  <a:pt x="0" y="446"/>
                </a:lnTo>
                <a:lnTo>
                  <a:pt x="0" y="483"/>
                </a:lnTo>
                <a:lnTo>
                  <a:pt x="37" y="483"/>
                </a:lnTo>
                <a:lnTo>
                  <a:pt x="242" y="279"/>
                </a:lnTo>
                <a:lnTo>
                  <a:pt x="447" y="483"/>
                </a:lnTo>
                <a:lnTo>
                  <a:pt x="484" y="483"/>
                </a:lnTo>
                <a:lnTo>
                  <a:pt x="484" y="446"/>
                </a:lnTo>
                <a:lnTo>
                  <a:pt x="278" y="242"/>
                </a:lnTo>
                <a:lnTo>
                  <a:pt x="484" y="37"/>
                </a:lnTo>
                <a:lnTo>
                  <a:pt x="484"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85" name="Freeform 256"/>
          <p:cNvSpPr/>
          <p:nvPr/>
        </p:nvSpPr>
        <p:spPr>
          <a:xfrm>
            <a:off x="3922560" y="4848120"/>
            <a:ext cx="198720" cy="196920"/>
          </a:xfrm>
          <a:custGeom>
            <a:avLst/>
            <a:gdLst/>
            <a:ahLst/>
            <a:rect l="l" t="t" r="r" b="b"/>
            <a:pathLst>
              <a:path w="484" h="484">
                <a:moveTo>
                  <a:pt x="447" y="0"/>
                </a:moveTo>
                <a:lnTo>
                  <a:pt x="242" y="206"/>
                </a:lnTo>
                <a:lnTo>
                  <a:pt x="36" y="0"/>
                </a:lnTo>
                <a:lnTo>
                  <a:pt x="0" y="0"/>
                </a:lnTo>
                <a:lnTo>
                  <a:pt x="0" y="37"/>
                </a:lnTo>
                <a:lnTo>
                  <a:pt x="205" y="242"/>
                </a:lnTo>
                <a:lnTo>
                  <a:pt x="0" y="446"/>
                </a:lnTo>
                <a:lnTo>
                  <a:pt x="0" y="483"/>
                </a:lnTo>
                <a:lnTo>
                  <a:pt x="36" y="483"/>
                </a:lnTo>
                <a:lnTo>
                  <a:pt x="242" y="279"/>
                </a:lnTo>
                <a:lnTo>
                  <a:pt x="447" y="483"/>
                </a:lnTo>
                <a:lnTo>
                  <a:pt x="483" y="483"/>
                </a:lnTo>
                <a:lnTo>
                  <a:pt x="483" y="446"/>
                </a:lnTo>
                <a:lnTo>
                  <a:pt x="278" y="242"/>
                </a:lnTo>
                <a:lnTo>
                  <a:pt x="483" y="37"/>
                </a:lnTo>
                <a:lnTo>
                  <a:pt x="483"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86" name="Freeform 129"/>
          <p:cNvSpPr/>
          <p:nvPr/>
        </p:nvSpPr>
        <p:spPr>
          <a:xfrm>
            <a:off x="10196640" y="4848120"/>
            <a:ext cx="198360" cy="196920"/>
          </a:xfrm>
          <a:custGeom>
            <a:avLst/>
            <a:gdLst/>
            <a:ahLst/>
            <a:rect l="l" t="t" r="r" b="b"/>
            <a:pathLst>
              <a:path w="484" h="484">
                <a:moveTo>
                  <a:pt x="447" y="0"/>
                </a:moveTo>
                <a:lnTo>
                  <a:pt x="241" y="206"/>
                </a:lnTo>
                <a:lnTo>
                  <a:pt x="37" y="0"/>
                </a:lnTo>
                <a:lnTo>
                  <a:pt x="0" y="0"/>
                </a:lnTo>
                <a:lnTo>
                  <a:pt x="0" y="37"/>
                </a:lnTo>
                <a:lnTo>
                  <a:pt x="204" y="242"/>
                </a:lnTo>
                <a:lnTo>
                  <a:pt x="0" y="446"/>
                </a:lnTo>
                <a:lnTo>
                  <a:pt x="0" y="483"/>
                </a:lnTo>
                <a:lnTo>
                  <a:pt x="37" y="483"/>
                </a:lnTo>
                <a:lnTo>
                  <a:pt x="241" y="279"/>
                </a:lnTo>
                <a:lnTo>
                  <a:pt x="447" y="483"/>
                </a:lnTo>
                <a:lnTo>
                  <a:pt x="483" y="483"/>
                </a:lnTo>
                <a:lnTo>
                  <a:pt x="483" y="446"/>
                </a:lnTo>
                <a:lnTo>
                  <a:pt x="278" y="242"/>
                </a:lnTo>
                <a:lnTo>
                  <a:pt x="483" y="37"/>
                </a:lnTo>
                <a:lnTo>
                  <a:pt x="483"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87" name="Freeform 190"/>
          <p:cNvSpPr/>
          <p:nvPr/>
        </p:nvSpPr>
        <p:spPr>
          <a:xfrm>
            <a:off x="6997680" y="4848120"/>
            <a:ext cx="198360" cy="196920"/>
          </a:xfrm>
          <a:custGeom>
            <a:avLst/>
            <a:gdLst/>
            <a:ahLst/>
            <a:rect l="l" t="t" r="r" b="b"/>
            <a:pathLst>
              <a:path w="484" h="484">
                <a:moveTo>
                  <a:pt x="447" y="0"/>
                </a:moveTo>
                <a:lnTo>
                  <a:pt x="241" y="206"/>
                </a:lnTo>
                <a:lnTo>
                  <a:pt x="36" y="0"/>
                </a:lnTo>
                <a:lnTo>
                  <a:pt x="0" y="0"/>
                </a:lnTo>
                <a:lnTo>
                  <a:pt x="0" y="37"/>
                </a:lnTo>
                <a:lnTo>
                  <a:pt x="205" y="242"/>
                </a:lnTo>
                <a:lnTo>
                  <a:pt x="0" y="446"/>
                </a:lnTo>
                <a:lnTo>
                  <a:pt x="0" y="483"/>
                </a:lnTo>
                <a:lnTo>
                  <a:pt x="36" y="483"/>
                </a:lnTo>
                <a:lnTo>
                  <a:pt x="241" y="279"/>
                </a:lnTo>
                <a:lnTo>
                  <a:pt x="447" y="483"/>
                </a:lnTo>
                <a:lnTo>
                  <a:pt x="483" y="483"/>
                </a:lnTo>
                <a:lnTo>
                  <a:pt x="483" y="446"/>
                </a:lnTo>
                <a:lnTo>
                  <a:pt x="278" y="242"/>
                </a:lnTo>
                <a:lnTo>
                  <a:pt x="483" y="37"/>
                </a:lnTo>
                <a:lnTo>
                  <a:pt x="483"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88" name="Freeform 200"/>
          <p:cNvSpPr/>
          <p:nvPr/>
        </p:nvSpPr>
        <p:spPr>
          <a:xfrm>
            <a:off x="7547040" y="4848120"/>
            <a:ext cx="196920" cy="196920"/>
          </a:xfrm>
          <a:custGeom>
            <a:avLst/>
            <a:gdLst/>
            <a:ahLst/>
            <a:rect l="l" t="t" r="r" b="b"/>
            <a:pathLst>
              <a:path w="484" h="484">
                <a:moveTo>
                  <a:pt x="447" y="0"/>
                </a:moveTo>
                <a:lnTo>
                  <a:pt x="241" y="206"/>
                </a:lnTo>
                <a:lnTo>
                  <a:pt x="36" y="0"/>
                </a:lnTo>
                <a:lnTo>
                  <a:pt x="0" y="0"/>
                </a:lnTo>
                <a:lnTo>
                  <a:pt x="0" y="37"/>
                </a:lnTo>
                <a:lnTo>
                  <a:pt x="205" y="242"/>
                </a:lnTo>
                <a:lnTo>
                  <a:pt x="0" y="446"/>
                </a:lnTo>
                <a:lnTo>
                  <a:pt x="0" y="483"/>
                </a:lnTo>
                <a:lnTo>
                  <a:pt x="36" y="483"/>
                </a:lnTo>
                <a:lnTo>
                  <a:pt x="241" y="279"/>
                </a:lnTo>
                <a:lnTo>
                  <a:pt x="447" y="483"/>
                </a:lnTo>
                <a:lnTo>
                  <a:pt x="483" y="483"/>
                </a:lnTo>
                <a:lnTo>
                  <a:pt x="483" y="446"/>
                </a:lnTo>
                <a:lnTo>
                  <a:pt x="278" y="242"/>
                </a:lnTo>
                <a:lnTo>
                  <a:pt x="483" y="37"/>
                </a:lnTo>
                <a:lnTo>
                  <a:pt x="483"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89" name="Freeform 210"/>
          <p:cNvSpPr/>
          <p:nvPr/>
        </p:nvSpPr>
        <p:spPr>
          <a:xfrm>
            <a:off x="8078760" y="4848120"/>
            <a:ext cx="196920" cy="196920"/>
          </a:xfrm>
          <a:custGeom>
            <a:avLst/>
            <a:gdLst/>
            <a:ahLst/>
            <a:rect l="l" t="t" r="r" b="b"/>
            <a:pathLst>
              <a:path w="484" h="484">
                <a:moveTo>
                  <a:pt x="447" y="0"/>
                </a:moveTo>
                <a:lnTo>
                  <a:pt x="242" y="206"/>
                </a:lnTo>
                <a:lnTo>
                  <a:pt x="36" y="0"/>
                </a:lnTo>
                <a:lnTo>
                  <a:pt x="0" y="0"/>
                </a:lnTo>
                <a:lnTo>
                  <a:pt x="0" y="37"/>
                </a:lnTo>
                <a:lnTo>
                  <a:pt x="205" y="242"/>
                </a:lnTo>
                <a:lnTo>
                  <a:pt x="0" y="446"/>
                </a:lnTo>
                <a:lnTo>
                  <a:pt x="0" y="483"/>
                </a:lnTo>
                <a:lnTo>
                  <a:pt x="36" y="483"/>
                </a:lnTo>
                <a:lnTo>
                  <a:pt x="242" y="279"/>
                </a:lnTo>
                <a:lnTo>
                  <a:pt x="447" y="483"/>
                </a:lnTo>
                <a:lnTo>
                  <a:pt x="483" y="483"/>
                </a:lnTo>
                <a:lnTo>
                  <a:pt x="483" y="446"/>
                </a:lnTo>
                <a:lnTo>
                  <a:pt x="278" y="242"/>
                </a:lnTo>
                <a:lnTo>
                  <a:pt x="483" y="37"/>
                </a:lnTo>
                <a:lnTo>
                  <a:pt x="483"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90" name="Freeform 220"/>
          <p:cNvSpPr/>
          <p:nvPr/>
        </p:nvSpPr>
        <p:spPr>
          <a:xfrm>
            <a:off x="8605800" y="4848120"/>
            <a:ext cx="196920" cy="196920"/>
          </a:xfrm>
          <a:custGeom>
            <a:avLst/>
            <a:gdLst/>
            <a:ahLst/>
            <a:rect l="l" t="t" r="r" b="b"/>
            <a:pathLst>
              <a:path w="485" h="484">
                <a:moveTo>
                  <a:pt x="447" y="0"/>
                </a:moveTo>
                <a:lnTo>
                  <a:pt x="242" y="206"/>
                </a:lnTo>
                <a:lnTo>
                  <a:pt x="37" y="0"/>
                </a:lnTo>
                <a:lnTo>
                  <a:pt x="0" y="0"/>
                </a:lnTo>
                <a:lnTo>
                  <a:pt x="0" y="37"/>
                </a:lnTo>
                <a:lnTo>
                  <a:pt x="206" y="242"/>
                </a:lnTo>
                <a:lnTo>
                  <a:pt x="0" y="446"/>
                </a:lnTo>
                <a:lnTo>
                  <a:pt x="0" y="483"/>
                </a:lnTo>
                <a:lnTo>
                  <a:pt x="37" y="483"/>
                </a:lnTo>
                <a:lnTo>
                  <a:pt x="242" y="279"/>
                </a:lnTo>
                <a:lnTo>
                  <a:pt x="447" y="483"/>
                </a:lnTo>
                <a:lnTo>
                  <a:pt x="484" y="483"/>
                </a:lnTo>
                <a:lnTo>
                  <a:pt x="484" y="446"/>
                </a:lnTo>
                <a:lnTo>
                  <a:pt x="278" y="242"/>
                </a:lnTo>
                <a:lnTo>
                  <a:pt x="484" y="37"/>
                </a:lnTo>
                <a:lnTo>
                  <a:pt x="484"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91" name="Freeform 228"/>
          <p:cNvSpPr/>
          <p:nvPr/>
        </p:nvSpPr>
        <p:spPr>
          <a:xfrm>
            <a:off x="9139320" y="4848120"/>
            <a:ext cx="196920" cy="196920"/>
          </a:xfrm>
          <a:custGeom>
            <a:avLst/>
            <a:gdLst/>
            <a:ahLst/>
            <a:rect l="l" t="t" r="r" b="b"/>
            <a:pathLst>
              <a:path w="485" h="484">
                <a:moveTo>
                  <a:pt x="447" y="0"/>
                </a:moveTo>
                <a:lnTo>
                  <a:pt x="241" y="206"/>
                </a:lnTo>
                <a:lnTo>
                  <a:pt x="37" y="0"/>
                </a:lnTo>
                <a:lnTo>
                  <a:pt x="0" y="0"/>
                </a:lnTo>
                <a:lnTo>
                  <a:pt x="0" y="37"/>
                </a:lnTo>
                <a:lnTo>
                  <a:pt x="205" y="242"/>
                </a:lnTo>
                <a:lnTo>
                  <a:pt x="0" y="446"/>
                </a:lnTo>
                <a:lnTo>
                  <a:pt x="0" y="483"/>
                </a:lnTo>
                <a:lnTo>
                  <a:pt x="37" y="483"/>
                </a:lnTo>
                <a:lnTo>
                  <a:pt x="241" y="279"/>
                </a:lnTo>
                <a:lnTo>
                  <a:pt x="447" y="483"/>
                </a:lnTo>
                <a:lnTo>
                  <a:pt x="484" y="483"/>
                </a:lnTo>
                <a:lnTo>
                  <a:pt x="484" y="446"/>
                </a:lnTo>
                <a:lnTo>
                  <a:pt x="278" y="242"/>
                </a:lnTo>
                <a:lnTo>
                  <a:pt x="484" y="37"/>
                </a:lnTo>
                <a:lnTo>
                  <a:pt x="484"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92" name="Freeform 236"/>
          <p:cNvSpPr/>
          <p:nvPr/>
        </p:nvSpPr>
        <p:spPr>
          <a:xfrm>
            <a:off x="9666360" y="4848120"/>
            <a:ext cx="196920" cy="196920"/>
          </a:xfrm>
          <a:custGeom>
            <a:avLst/>
            <a:gdLst/>
            <a:ahLst/>
            <a:rect l="l" t="t" r="r" b="b"/>
            <a:pathLst>
              <a:path w="484" h="484">
                <a:moveTo>
                  <a:pt x="447" y="0"/>
                </a:moveTo>
                <a:lnTo>
                  <a:pt x="241" y="206"/>
                </a:lnTo>
                <a:lnTo>
                  <a:pt x="37" y="0"/>
                </a:lnTo>
                <a:lnTo>
                  <a:pt x="0" y="0"/>
                </a:lnTo>
                <a:lnTo>
                  <a:pt x="0" y="37"/>
                </a:lnTo>
                <a:lnTo>
                  <a:pt x="205" y="242"/>
                </a:lnTo>
                <a:lnTo>
                  <a:pt x="0" y="446"/>
                </a:lnTo>
                <a:lnTo>
                  <a:pt x="0" y="483"/>
                </a:lnTo>
                <a:lnTo>
                  <a:pt x="37" y="483"/>
                </a:lnTo>
                <a:lnTo>
                  <a:pt x="241" y="279"/>
                </a:lnTo>
                <a:lnTo>
                  <a:pt x="447" y="483"/>
                </a:lnTo>
                <a:lnTo>
                  <a:pt x="483" y="483"/>
                </a:lnTo>
                <a:lnTo>
                  <a:pt x="483" y="446"/>
                </a:lnTo>
                <a:lnTo>
                  <a:pt x="279" y="242"/>
                </a:lnTo>
                <a:lnTo>
                  <a:pt x="483" y="37"/>
                </a:lnTo>
                <a:lnTo>
                  <a:pt x="483" y="0"/>
                </a:lnTo>
                <a:lnTo>
                  <a:pt x="447" y="0"/>
                </a:ln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93" name="TextBox 234"/>
          <p:cNvSpPr/>
          <p:nvPr/>
        </p:nvSpPr>
        <p:spPr>
          <a:xfrm>
            <a:off x="5632560" y="3003480"/>
            <a:ext cx="941400" cy="53820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6d6ff"/>
                </a:solidFill>
                <a:latin typeface="Raleway"/>
              </a:rPr>
              <a:t>Feature 1</a:t>
            </a:r>
            <a:endParaRPr b="0" lang="en-US" sz="1100" spc="-1" strike="noStrike">
              <a:solidFill>
                <a:srgbClr val="000000"/>
              </a:solidFill>
              <a:latin typeface="Calibri"/>
            </a:endParaRPr>
          </a:p>
        </p:txBody>
      </p:sp>
      <p:sp>
        <p:nvSpPr>
          <p:cNvPr id="394" name="TextBox 235"/>
          <p:cNvSpPr/>
          <p:nvPr/>
        </p:nvSpPr>
        <p:spPr>
          <a:xfrm>
            <a:off x="5632560" y="3603600"/>
            <a:ext cx="941400" cy="53820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7e08b"/>
                </a:solidFill>
                <a:latin typeface="Raleway"/>
              </a:rPr>
              <a:t>Feature 2</a:t>
            </a:r>
            <a:endParaRPr b="0" lang="en-US" sz="1100" spc="-1" strike="noStrike">
              <a:solidFill>
                <a:srgbClr val="000000"/>
              </a:solidFill>
              <a:latin typeface="Calibri"/>
            </a:endParaRPr>
          </a:p>
        </p:txBody>
      </p:sp>
      <p:sp>
        <p:nvSpPr>
          <p:cNvPr id="395" name="TextBox 236"/>
          <p:cNvSpPr/>
          <p:nvPr/>
        </p:nvSpPr>
        <p:spPr>
          <a:xfrm>
            <a:off x="5632560" y="4162320"/>
            <a:ext cx="941400" cy="53820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6a6a6"/>
                </a:solidFill>
                <a:latin typeface="Raleway"/>
              </a:rPr>
              <a:t>Feature 3</a:t>
            </a:r>
            <a:endParaRPr b="0" lang="en-US" sz="1100" spc="-1" strike="noStrike">
              <a:solidFill>
                <a:srgbClr val="000000"/>
              </a:solidFill>
              <a:latin typeface="Calibri"/>
            </a:endParaRPr>
          </a:p>
        </p:txBody>
      </p:sp>
      <p:sp>
        <p:nvSpPr>
          <p:cNvPr id="396" name="TextBox 237"/>
          <p:cNvSpPr/>
          <p:nvPr/>
        </p:nvSpPr>
        <p:spPr>
          <a:xfrm>
            <a:off x="5632560" y="4753080"/>
            <a:ext cx="941400" cy="53820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4e95"/>
                </a:solidFill>
                <a:latin typeface="Raleway"/>
              </a:rPr>
              <a:t>Feature 4</a:t>
            </a:r>
            <a:endParaRPr b="0" lang="en-US" sz="1100" spc="-1" strike="noStrike">
              <a:solidFill>
                <a:srgbClr val="000000"/>
              </a:solidFill>
              <a:latin typeface="Calibri"/>
            </a:endParaRPr>
          </a:p>
        </p:txBody>
      </p:sp>
      <p:sp>
        <p:nvSpPr>
          <p:cNvPr id="397" name="TextBox 238"/>
          <p:cNvSpPr/>
          <p:nvPr/>
        </p:nvSpPr>
        <p:spPr>
          <a:xfrm>
            <a:off x="5632560" y="5370480"/>
            <a:ext cx="941400" cy="53820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e75b6"/>
                </a:solidFill>
                <a:latin typeface="Raleway"/>
              </a:rPr>
              <a:t>Feature 5</a:t>
            </a:r>
            <a:endParaRPr b="0" lang="en-US" sz="1100" spc="-1" strike="noStrike">
              <a:solidFill>
                <a:srgbClr val="000000"/>
              </a:solidFill>
              <a:latin typeface="Calibri"/>
            </a:endParaRPr>
          </a:p>
        </p:txBody>
      </p:sp>
      <p:sp>
        <p:nvSpPr>
          <p:cNvPr id="398" name="Freeform: Shape 240"/>
          <p:cNvSpPr/>
          <p:nvPr/>
        </p:nvSpPr>
        <p:spPr>
          <a:xfrm>
            <a:off x="1289160" y="2873520"/>
            <a:ext cx="325440" cy="480960"/>
          </a:xfrm>
          <a:custGeom>
            <a:avLst/>
            <a:gdLst/>
            <a:ahLst/>
            <a:rect l="l" t="t" r="r" b="b"/>
            <a:pathLst>
              <a:path w="724305" h="1066986">
                <a:moveTo>
                  <a:pt x="533508" y="0"/>
                </a:moveTo>
                <a:lnTo>
                  <a:pt x="724305" y="0"/>
                </a:lnTo>
                <a:lnTo>
                  <a:pt x="724305" y="1066986"/>
                </a:lnTo>
                <a:lnTo>
                  <a:pt x="533508" y="1066986"/>
                </a:lnTo>
                <a:cubicBezTo>
                  <a:pt x="239626" y="1066986"/>
                  <a:pt x="0" y="826462"/>
                  <a:pt x="0" y="532589"/>
                </a:cubicBezTo>
                <a:cubicBezTo>
                  <a:pt x="0" y="240524"/>
                  <a:pt x="239626" y="0"/>
                  <a:pt x="533508" y="0"/>
                </a:cubicBezTo>
                <a:close/>
              </a:path>
            </a:pathLst>
          </a:custGeom>
          <a:solidFill>
            <a:srgbClr val="06d6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99" name="Freeform: Shape 241"/>
          <p:cNvSpPr/>
          <p:nvPr/>
        </p:nvSpPr>
        <p:spPr>
          <a:xfrm>
            <a:off x="10578960" y="2868480"/>
            <a:ext cx="324000" cy="481320"/>
          </a:xfrm>
          <a:custGeom>
            <a:avLst/>
            <a:gdLst/>
            <a:ahLst/>
            <a:rect l="l" t="t" r="r" b="b"/>
            <a:pathLst>
              <a:path w="721232" h="1066986">
                <a:moveTo>
                  <a:pt x="0" y="0"/>
                </a:moveTo>
                <a:lnTo>
                  <a:pt x="187724" y="0"/>
                </a:lnTo>
                <a:cubicBezTo>
                  <a:pt x="481606" y="0"/>
                  <a:pt x="721232" y="240524"/>
                  <a:pt x="721232" y="532589"/>
                </a:cubicBezTo>
                <a:cubicBezTo>
                  <a:pt x="721232" y="826462"/>
                  <a:pt x="481606" y="1066986"/>
                  <a:pt x="187724" y="1066986"/>
                </a:cubicBezTo>
                <a:lnTo>
                  <a:pt x="0" y="1066986"/>
                </a:lnTo>
                <a:lnTo>
                  <a:pt x="0" y="0"/>
                </a:lnTo>
                <a:close/>
              </a:path>
            </a:pathLst>
          </a:custGeom>
          <a:solidFill>
            <a:srgbClr val="06d6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0" name="Rectangle: Rounded Corners 242"/>
          <p:cNvSpPr/>
          <p:nvPr/>
        </p:nvSpPr>
        <p:spPr>
          <a:xfrm rot="2700000">
            <a:off x="10848600" y="1111320"/>
            <a:ext cx="142920" cy="142920"/>
          </a:xfrm>
          <a:prstGeom prst="roundRect">
            <a:avLst>
              <a:gd name="adj" fmla="val 16667"/>
            </a:avLst>
          </a:prstGeom>
          <a:solidFill>
            <a:srgbClr val="06d6ff">
              <a:alpha val="3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01" name="Group 246"/>
          <p:cNvGrpSpPr/>
          <p:nvPr/>
        </p:nvGrpSpPr>
        <p:grpSpPr>
          <a:xfrm>
            <a:off x="-244440" y="-200520"/>
            <a:ext cx="1550880" cy="1328760"/>
            <a:chOff x="-244440" y="-200520"/>
            <a:chExt cx="1550880" cy="1328760"/>
          </a:xfrm>
        </p:grpSpPr>
        <p:sp>
          <p:nvSpPr>
            <p:cNvPr id="402" name="Isosceles Triangle 244"/>
            <p:cNvSpPr/>
            <p:nvPr/>
          </p:nvSpPr>
          <p:spPr>
            <a:xfrm rot="10800000">
              <a:off x="-158040" y="-133200"/>
              <a:ext cx="1464480" cy="1261440"/>
            </a:xfrm>
            <a:prstGeom prst="triangle">
              <a:avLst>
                <a:gd name="adj" fmla="val 100000"/>
              </a:avLst>
            </a:prstGeom>
            <a:solidFill>
              <a:srgbClr val="f2f2f2">
                <a:alpha val="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3" name="Isosceles Triangle 245"/>
            <p:cNvSpPr/>
            <p:nvPr/>
          </p:nvSpPr>
          <p:spPr>
            <a:xfrm rot="10800000">
              <a:off x="-244440" y="-200520"/>
              <a:ext cx="1018800" cy="877680"/>
            </a:xfrm>
            <a:prstGeom prst="triangle">
              <a:avLst>
                <a:gd name="adj" fmla="val 100000"/>
              </a:avLst>
            </a:prstGeom>
            <a:solidFill>
              <a:srgbClr val="f2f2f2">
                <a:alpha val="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04" name="Group 247"/>
          <p:cNvGrpSpPr/>
          <p:nvPr/>
        </p:nvGrpSpPr>
        <p:grpSpPr>
          <a:xfrm>
            <a:off x="9858240" y="5045040"/>
            <a:ext cx="2511720" cy="1887480"/>
            <a:chOff x="9858240" y="5045040"/>
            <a:chExt cx="2511720" cy="1887480"/>
          </a:xfrm>
        </p:grpSpPr>
        <p:sp>
          <p:nvSpPr>
            <p:cNvPr id="405" name="Isosceles Triangle 248"/>
            <p:cNvSpPr/>
            <p:nvPr/>
          </p:nvSpPr>
          <p:spPr>
            <a:xfrm>
              <a:off x="9858240" y="5045040"/>
              <a:ext cx="2371320" cy="1791720"/>
            </a:xfrm>
            <a:prstGeom prst="triangle">
              <a:avLst>
                <a:gd name="adj" fmla="val 100000"/>
              </a:avLst>
            </a:prstGeom>
            <a:solidFill>
              <a:srgbClr val="f2f2f2">
                <a:alpha val="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Isosceles Triangle 249"/>
            <p:cNvSpPr/>
            <p:nvPr/>
          </p:nvSpPr>
          <p:spPr>
            <a:xfrm>
              <a:off x="10720080" y="5685840"/>
              <a:ext cx="1649880" cy="1246680"/>
            </a:xfrm>
            <a:prstGeom prst="triangle">
              <a:avLst>
                <a:gd name="adj" fmla="val 100000"/>
              </a:avLst>
            </a:prstGeom>
            <a:solidFill>
              <a:srgbClr val="f2f2f2">
                <a:alpha val="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07" name="TextBox 251"/>
          <p:cNvSpPr/>
          <p:nvPr/>
        </p:nvSpPr>
        <p:spPr>
          <a:xfrm>
            <a:off x="3099600" y="406440"/>
            <a:ext cx="5993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d6ff"/>
                </a:solidFill>
                <a:latin typeface="Raleway SemiBold"/>
                <a:ea typeface="Open Sans"/>
              </a:rPr>
              <a:t>Comparison Infographic</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TextBox 6"/>
          <p:cNvSpPr/>
          <p:nvPr/>
        </p:nvSpPr>
        <p:spPr>
          <a:xfrm>
            <a:off x="2703600" y="1206360"/>
            <a:ext cx="697680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bfbfbf"/>
                </a:solidFill>
                <a:latin typeface="Open Sans"/>
                <a:ea typeface="Open Sans"/>
              </a:rPr>
              <a:t>Lorem ipsum dolor sit amet, consectetur adipiscing elit, sed do eiusmod tempor incididunt ut labore et dolore magna aliqua. Ut enim ad minim veniam,</a:t>
            </a:r>
            <a:endParaRPr b="0" lang="en-US" sz="1100" spc="-1" strike="noStrike">
              <a:solidFill>
                <a:srgbClr val="000000"/>
              </a:solidFill>
              <a:latin typeface="Calibri"/>
            </a:endParaRPr>
          </a:p>
        </p:txBody>
      </p:sp>
      <p:grpSp>
        <p:nvGrpSpPr>
          <p:cNvPr id="409" name="Group 15"/>
          <p:cNvGrpSpPr/>
          <p:nvPr/>
        </p:nvGrpSpPr>
        <p:grpSpPr>
          <a:xfrm>
            <a:off x="1639800" y="2843280"/>
            <a:ext cx="3808440" cy="2428920"/>
            <a:chOff x="1639800" y="2843280"/>
            <a:chExt cx="3808440" cy="2428920"/>
          </a:xfrm>
        </p:grpSpPr>
        <p:graphicFrame>
          <p:nvGraphicFramePr>
            <p:cNvPr id="410" name="Chart 10"/>
            <p:cNvGraphicFramePr/>
            <p:nvPr/>
          </p:nvGraphicFramePr>
          <p:xfrm>
            <a:off x="1639800" y="2843280"/>
            <a:ext cx="3808440" cy="319680"/>
          </p:xfrm>
          <a:graphic>
            <a:graphicData uri="http://schemas.openxmlformats.org/presentationml/2006/ole">
              <p:oleObj progId="Excel.Sheet.12" r:id="rId1" spid="">
                <p:embed/>
                <p:pic>
                  <p:nvPicPr>
                    <p:cNvPr id="411" name="Chart 10" descr=""/>
                    <p:cNvPicPr/>
                    <p:nvPr/>
                  </p:nvPicPr>
                  <p:blipFill>
                    <a:blip r:embed="rId2"/>
                    <a:stretch/>
                  </p:blipFill>
                  <p:spPr>
                    <a:xfrm>
                      <a:off x="1639800" y="2843280"/>
                      <a:ext cx="3808440" cy="319680"/>
                    </a:xfrm>
                    <a:prstGeom prst="rect">
                      <a:avLst/>
                    </a:prstGeom>
                    <a:ln w="0">
                      <a:noFill/>
                    </a:ln>
                  </p:spPr>
                </p:pic>
              </p:oleObj>
            </a:graphicData>
          </a:graphic>
        </p:graphicFrame>
        <p:graphicFrame>
          <p:nvGraphicFramePr>
            <p:cNvPr id="412" name="Chart 11"/>
            <p:cNvGraphicFramePr/>
            <p:nvPr/>
          </p:nvGraphicFramePr>
          <p:xfrm>
            <a:off x="1639800" y="3548880"/>
            <a:ext cx="3808440" cy="319680"/>
          </p:xfrm>
          <a:graphic>
            <a:graphicData uri="http://schemas.openxmlformats.org/presentationml/2006/ole">
              <p:oleObj progId="Excel.Sheet.12" r:id="rId3" spid="">
                <p:embed/>
                <p:pic>
                  <p:nvPicPr>
                    <p:cNvPr id="413" name="Chart 11" descr=""/>
                    <p:cNvPicPr/>
                    <p:nvPr/>
                  </p:nvPicPr>
                  <p:blipFill>
                    <a:blip r:embed="rId4"/>
                    <a:stretch/>
                  </p:blipFill>
                  <p:spPr>
                    <a:xfrm>
                      <a:off x="1639800" y="3548880"/>
                      <a:ext cx="3808440" cy="319680"/>
                    </a:xfrm>
                    <a:prstGeom prst="rect">
                      <a:avLst/>
                    </a:prstGeom>
                    <a:ln w="0">
                      <a:noFill/>
                    </a:ln>
                  </p:spPr>
                </p:pic>
              </p:oleObj>
            </a:graphicData>
          </a:graphic>
        </p:graphicFrame>
        <p:graphicFrame>
          <p:nvGraphicFramePr>
            <p:cNvPr id="414" name="Chart 12"/>
            <p:cNvGraphicFramePr/>
            <p:nvPr/>
          </p:nvGraphicFramePr>
          <p:xfrm>
            <a:off x="1639800" y="4250520"/>
            <a:ext cx="3808440" cy="319680"/>
          </p:xfrm>
          <a:graphic>
            <a:graphicData uri="http://schemas.openxmlformats.org/presentationml/2006/ole">
              <p:oleObj progId="Excel.Sheet.12" r:id="rId5" spid="">
                <p:embed/>
                <p:pic>
                  <p:nvPicPr>
                    <p:cNvPr id="415" name="Chart 12" descr=""/>
                    <p:cNvPicPr/>
                    <p:nvPr/>
                  </p:nvPicPr>
                  <p:blipFill>
                    <a:blip r:embed="rId6"/>
                    <a:stretch/>
                  </p:blipFill>
                  <p:spPr>
                    <a:xfrm>
                      <a:off x="1639800" y="4250520"/>
                      <a:ext cx="3808440" cy="319680"/>
                    </a:xfrm>
                    <a:prstGeom prst="rect">
                      <a:avLst/>
                    </a:prstGeom>
                    <a:ln w="0">
                      <a:noFill/>
                    </a:ln>
                  </p:spPr>
                </p:pic>
              </p:oleObj>
            </a:graphicData>
          </a:graphic>
        </p:graphicFrame>
        <p:graphicFrame>
          <p:nvGraphicFramePr>
            <p:cNvPr id="416" name="Chart 13"/>
            <p:cNvGraphicFramePr/>
            <p:nvPr/>
          </p:nvGraphicFramePr>
          <p:xfrm>
            <a:off x="1639800" y="4952520"/>
            <a:ext cx="3808440" cy="319680"/>
          </p:xfrm>
          <a:graphic>
            <a:graphicData uri="http://schemas.openxmlformats.org/presentationml/2006/ole">
              <p:oleObj progId="Excel.Sheet.12" r:id="rId7" spid="">
                <p:embed/>
                <p:pic>
                  <p:nvPicPr>
                    <p:cNvPr id="417" name="Chart 13" descr=""/>
                    <p:cNvPicPr/>
                    <p:nvPr/>
                  </p:nvPicPr>
                  <p:blipFill>
                    <a:blip r:embed="rId8"/>
                    <a:stretch/>
                  </p:blipFill>
                  <p:spPr>
                    <a:xfrm>
                      <a:off x="1639800" y="4952520"/>
                      <a:ext cx="3808440" cy="319680"/>
                    </a:xfrm>
                    <a:prstGeom prst="rect">
                      <a:avLst/>
                    </a:prstGeom>
                    <a:ln w="0">
                      <a:noFill/>
                    </a:ln>
                  </p:spPr>
                </p:pic>
              </p:oleObj>
            </a:graphicData>
          </a:graphic>
        </p:graphicFrame>
      </p:grpSp>
      <p:grpSp>
        <p:nvGrpSpPr>
          <p:cNvPr id="418" name="Group 21"/>
          <p:cNvGrpSpPr/>
          <p:nvPr/>
        </p:nvGrpSpPr>
        <p:grpSpPr>
          <a:xfrm>
            <a:off x="6780240" y="2843280"/>
            <a:ext cx="3808440" cy="2428920"/>
            <a:chOff x="6780240" y="2843280"/>
            <a:chExt cx="3808440" cy="2428920"/>
          </a:xfrm>
        </p:grpSpPr>
        <p:graphicFrame>
          <p:nvGraphicFramePr>
            <p:cNvPr id="419" name="Chart 16"/>
            <p:cNvGraphicFramePr/>
            <p:nvPr/>
          </p:nvGraphicFramePr>
          <p:xfrm>
            <a:off x="6780240" y="2843280"/>
            <a:ext cx="3808440" cy="319680"/>
          </p:xfrm>
          <a:graphic>
            <a:graphicData uri="http://schemas.openxmlformats.org/presentationml/2006/ole">
              <p:oleObj progId="Excel.Sheet.12" r:id="rId9" spid="">
                <p:embed/>
                <p:pic>
                  <p:nvPicPr>
                    <p:cNvPr id="420" name="Chart 16" descr=""/>
                    <p:cNvPicPr/>
                    <p:nvPr/>
                  </p:nvPicPr>
                  <p:blipFill>
                    <a:blip r:embed="rId10"/>
                    <a:stretch/>
                  </p:blipFill>
                  <p:spPr>
                    <a:xfrm>
                      <a:off x="6780240" y="2843280"/>
                      <a:ext cx="3808440" cy="319680"/>
                    </a:xfrm>
                    <a:prstGeom prst="rect">
                      <a:avLst/>
                    </a:prstGeom>
                    <a:ln w="0">
                      <a:noFill/>
                    </a:ln>
                  </p:spPr>
                </p:pic>
              </p:oleObj>
            </a:graphicData>
          </a:graphic>
        </p:graphicFrame>
        <p:graphicFrame>
          <p:nvGraphicFramePr>
            <p:cNvPr id="421" name="Chart 17"/>
            <p:cNvGraphicFramePr/>
            <p:nvPr/>
          </p:nvGraphicFramePr>
          <p:xfrm>
            <a:off x="6780240" y="4250520"/>
            <a:ext cx="3808440" cy="319680"/>
          </p:xfrm>
          <a:graphic>
            <a:graphicData uri="http://schemas.openxmlformats.org/presentationml/2006/ole">
              <p:oleObj progId="Excel.Sheet.12" r:id="rId11" spid="">
                <p:embed/>
                <p:pic>
                  <p:nvPicPr>
                    <p:cNvPr id="422" name="Chart 17" descr=""/>
                    <p:cNvPicPr/>
                    <p:nvPr/>
                  </p:nvPicPr>
                  <p:blipFill>
                    <a:blip r:embed="rId12"/>
                    <a:stretch/>
                  </p:blipFill>
                  <p:spPr>
                    <a:xfrm>
                      <a:off x="6780240" y="4250520"/>
                      <a:ext cx="3808440" cy="319680"/>
                    </a:xfrm>
                    <a:prstGeom prst="rect">
                      <a:avLst/>
                    </a:prstGeom>
                    <a:ln w="0">
                      <a:noFill/>
                    </a:ln>
                  </p:spPr>
                </p:pic>
              </p:oleObj>
            </a:graphicData>
          </a:graphic>
        </p:graphicFrame>
        <p:graphicFrame>
          <p:nvGraphicFramePr>
            <p:cNvPr id="423" name="Chart 18"/>
            <p:cNvGraphicFramePr/>
            <p:nvPr/>
          </p:nvGraphicFramePr>
          <p:xfrm>
            <a:off x="6780240" y="4952520"/>
            <a:ext cx="3808440" cy="319680"/>
          </p:xfrm>
          <a:graphic>
            <a:graphicData uri="http://schemas.openxmlformats.org/presentationml/2006/ole">
              <p:oleObj progId="Excel.Sheet.12" r:id="rId13" spid="">
                <p:embed/>
                <p:pic>
                  <p:nvPicPr>
                    <p:cNvPr id="424" name="Chart 18" descr=""/>
                    <p:cNvPicPr/>
                    <p:nvPr/>
                  </p:nvPicPr>
                  <p:blipFill>
                    <a:blip r:embed="rId14"/>
                    <a:stretch/>
                  </p:blipFill>
                  <p:spPr>
                    <a:xfrm>
                      <a:off x="6780240" y="4952520"/>
                      <a:ext cx="3808440" cy="319680"/>
                    </a:xfrm>
                    <a:prstGeom prst="rect">
                      <a:avLst/>
                    </a:prstGeom>
                    <a:ln w="0">
                      <a:noFill/>
                    </a:ln>
                  </p:spPr>
                </p:pic>
              </p:oleObj>
            </a:graphicData>
          </a:graphic>
        </p:graphicFrame>
        <p:graphicFrame>
          <p:nvGraphicFramePr>
            <p:cNvPr id="425" name="Chart 20"/>
            <p:cNvGraphicFramePr/>
            <p:nvPr/>
          </p:nvGraphicFramePr>
          <p:xfrm>
            <a:off x="6780240" y="3548880"/>
            <a:ext cx="3808440" cy="319680"/>
          </p:xfrm>
          <a:graphic>
            <a:graphicData uri="http://schemas.openxmlformats.org/presentationml/2006/ole">
              <p:oleObj progId="Excel.Sheet.12" r:id="rId15" spid="">
                <p:embed/>
                <p:pic>
                  <p:nvPicPr>
                    <p:cNvPr id="426" name="Chart 20" descr=""/>
                    <p:cNvPicPr/>
                    <p:nvPr/>
                  </p:nvPicPr>
                  <p:blipFill>
                    <a:blip r:embed="rId16"/>
                    <a:stretch/>
                  </p:blipFill>
                  <p:spPr>
                    <a:xfrm>
                      <a:off x="6780240" y="3548880"/>
                      <a:ext cx="3808440" cy="319680"/>
                    </a:xfrm>
                    <a:prstGeom prst="rect">
                      <a:avLst/>
                    </a:prstGeom>
                    <a:ln w="0">
                      <a:noFill/>
                    </a:ln>
                  </p:spPr>
                </p:pic>
              </p:oleObj>
            </a:graphicData>
          </a:graphic>
        </p:graphicFrame>
      </p:grpSp>
      <p:sp>
        <p:nvSpPr>
          <p:cNvPr id="427" name="Straight Connector 23"/>
          <p:cNvSpPr/>
          <p:nvPr/>
        </p:nvSpPr>
        <p:spPr>
          <a:xfrm>
            <a:off x="5446800" y="2389320"/>
            <a:ext cx="0" cy="3109680"/>
          </a:xfrm>
          <a:prstGeom prst="line">
            <a:avLst/>
          </a:prstGeom>
          <a:ln w="6480">
            <a:solidFill>
              <a:srgbClr val="7f7f7f">
                <a:alpha val="34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8" name="Straight Connector 24"/>
          <p:cNvSpPr/>
          <p:nvPr/>
        </p:nvSpPr>
        <p:spPr>
          <a:xfrm>
            <a:off x="6780240" y="2389320"/>
            <a:ext cx="0" cy="3109680"/>
          </a:xfrm>
          <a:prstGeom prst="line">
            <a:avLst/>
          </a:prstGeom>
          <a:ln w="6480">
            <a:solidFill>
              <a:srgbClr val="7f7f7f">
                <a:alpha val="34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9" name="Straight Connector 26"/>
          <p:cNvSpPr/>
          <p:nvPr/>
        </p:nvSpPr>
        <p:spPr>
          <a:xfrm>
            <a:off x="6095880" y="2389320"/>
            <a:ext cx="0" cy="310968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0" name="TextBox 27"/>
          <p:cNvSpPr/>
          <p:nvPr/>
        </p:nvSpPr>
        <p:spPr>
          <a:xfrm>
            <a:off x="5539320" y="2813040"/>
            <a:ext cx="4579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6a6a6"/>
                </a:solidFill>
                <a:latin typeface="Raleway Medium"/>
              </a:rPr>
              <a:t>90%</a:t>
            </a:r>
            <a:endParaRPr b="0" lang="en-US" sz="1100" spc="-1" strike="noStrike">
              <a:solidFill>
                <a:srgbClr val="000000"/>
              </a:solidFill>
              <a:latin typeface="Calibri"/>
            </a:endParaRPr>
          </a:p>
        </p:txBody>
      </p:sp>
      <p:sp>
        <p:nvSpPr>
          <p:cNvPr id="431" name="TextBox 28"/>
          <p:cNvSpPr/>
          <p:nvPr/>
        </p:nvSpPr>
        <p:spPr>
          <a:xfrm>
            <a:off x="6213960" y="2808360"/>
            <a:ext cx="4579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6a6a6"/>
                </a:solidFill>
                <a:latin typeface="Raleway Medium"/>
              </a:rPr>
              <a:t>90%</a:t>
            </a:r>
            <a:endParaRPr b="0" lang="en-US" sz="1100" spc="-1" strike="noStrike">
              <a:solidFill>
                <a:srgbClr val="000000"/>
              </a:solidFill>
              <a:latin typeface="Calibri"/>
            </a:endParaRPr>
          </a:p>
        </p:txBody>
      </p:sp>
      <p:sp>
        <p:nvSpPr>
          <p:cNvPr id="432" name="TextBox 29"/>
          <p:cNvSpPr/>
          <p:nvPr/>
        </p:nvSpPr>
        <p:spPr>
          <a:xfrm>
            <a:off x="5539320" y="3552840"/>
            <a:ext cx="4579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6a6a6"/>
                </a:solidFill>
                <a:latin typeface="Raleway Medium"/>
              </a:rPr>
              <a:t>80%</a:t>
            </a:r>
            <a:endParaRPr b="0" lang="en-US" sz="1100" spc="-1" strike="noStrike">
              <a:solidFill>
                <a:srgbClr val="000000"/>
              </a:solidFill>
              <a:latin typeface="Calibri"/>
            </a:endParaRPr>
          </a:p>
        </p:txBody>
      </p:sp>
      <p:sp>
        <p:nvSpPr>
          <p:cNvPr id="433" name="TextBox 30"/>
          <p:cNvSpPr/>
          <p:nvPr/>
        </p:nvSpPr>
        <p:spPr>
          <a:xfrm>
            <a:off x="6213960" y="3548160"/>
            <a:ext cx="4579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6a6a6"/>
                </a:solidFill>
                <a:latin typeface="Raleway Medium"/>
              </a:rPr>
              <a:t>60%</a:t>
            </a:r>
            <a:endParaRPr b="0" lang="en-US" sz="1100" spc="-1" strike="noStrike">
              <a:solidFill>
                <a:srgbClr val="000000"/>
              </a:solidFill>
              <a:latin typeface="Calibri"/>
            </a:endParaRPr>
          </a:p>
        </p:txBody>
      </p:sp>
      <p:sp>
        <p:nvSpPr>
          <p:cNvPr id="434" name="TextBox 31"/>
          <p:cNvSpPr/>
          <p:nvPr/>
        </p:nvSpPr>
        <p:spPr>
          <a:xfrm>
            <a:off x="5539320" y="4292640"/>
            <a:ext cx="4579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6a6a6"/>
                </a:solidFill>
                <a:latin typeface="Raleway Medium"/>
              </a:rPr>
              <a:t>80%</a:t>
            </a:r>
            <a:endParaRPr b="0" lang="en-US" sz="1100" spc="-1" strike="noStrike">
              <a:solidFill>
                <a:srgbClr val="000000"/>
              </a:solidFill>
              <a:latin typeface="Calibri"/>
            </a:endParaRPr>
          </a:p>
        </p:txBody>
      </p:sp>
      <p:sp>
        <p:nvSpPr>
          <p:cNvPr id="435" name="TextBox 32"/>
          <p:cNvSpPr/>
          <p:nvPr/>
        </p:nvSpPr>
        <p:spPr>
          <a:xfrm>
            <a:off x="6213960" y="4287960"/>
            <a:ext cx="4579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6a6a6"/>
                </a:solidFill>
                <a:latin typeface="Raleway Medium"/>
              </a:rPr>
              <a:t>60%</a:t>
            </a:r>
            <a:endParaRPr b="0" lang="en-US" sz="1100" spc="-1" strike="noStrike">
              <a:solidFill>
                <a:srgbClr val="000000"/>
              </a:solidFill>
              <a:latin typeface="Calibri"/>
            </a:endParaRPr>
          </a:p>
        </p:txBody>
      </p:sp>
      <p:sp>
        <p:nvSpPr>
          <p:cNvPr id="436" name="TextBox 33"/>
          <p:cNvSpPr/>
          <p:nvPr/>
        </p:nvSpPr>
        <p:spPr>
          <a:xfrm>
            <a:off x="5539320" y="5030640"/>
            <a:ext cx="4579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6a6a6"/>
                </a:solidFill>
                <a:latin typeface="Raleway Medium"/>
              </a:rPr>
              <a:t>70%</a:t>
            </a:r>
            <a:endParaRPr b="0" lang="en-US" sz="1100" spc="-1" strike="noStrike">
              <a:solidFill>
                <a:srgbClr val="000000"/>
              </a:solidFill>
              <a:latin typeface="Calibri"/>
            </a:endParaRPr>
          </a:p>
        </p:txBody>
      </p:sp>
      <p:sp>
        <p:nvSpPr>
          <p:cNvPr id="437" name="TextBox 34"/>
          <p:cNvSpPr/>
          <p:nvPr/>
        </p:nvSpPr>
        <p:spPr>
          <a:xfrm>
            <a:off x="6238440" y="5025960"/>
            <a:ext cx="4579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6a6a6"/>
                </a:solidFill>
                <a:latin typeface="Raleway Medium"/>
              </a:rPr>
              <a:t>80%</a:t>
            </a:r>
            <a:endParaRPr b="0" lang="en-US" sz="1100" spc="-1" strike="noStrike">
              <a:solidFill>
                <a:srgbClr val="000000"/>
              </a:solidFill>
              <a:latin typeface="Calibri"/>
            </a:endParaRPr>
          </a:p>
        </p:txBody>
      </p:sp>
      <p:sp>
        <p:nvSpPr>
          <p:cNvPr id="438" name="TextBox 37"/>
          <p:cNvSpPr/>
          <p:nvPr/>
        </p:nvSpPr>
        <p:spPr>
          <a:xfrm>
            <a:off x="5707080" y="1004760"/>
            <a:ext cx="797040" cy="1287720"/>
          </a:xfrm>
          <a:prstGeom prst="rect">
            <a:avLst/>
          </a:prstGeom>
          <a:noFill/>
          <a:ln w="0">
            <a:noFill/>
          </a:ln>
        </p:spPr>
        <p:style>
          <a:lnRef idx="0"/>
          <a:fillRef idx="0"/>
          <a:effectRef idx="0"/>
          <a:fontRef idx="minor"/>
        </p:style>
        <p:txBody>
          <a:bodyPr lIns="90000" rIns="90000" tIns="46800" bIns="46800" anchor="b">
            <a:spAutoFit/>
          </a:bodyPr>
          <a:p>
            <a:pPr algn="ctr">
              <a:lnSpc>
                <a:spcPts val="9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9d9d9"/>
                </a:solidFill>
                <a:latin typeface="Raleway"/>
              </a:rPr>
              <a:t>VS</a:t>
            </a:r>
            <a:endParaRPr b="0" lang="en-US" sz="2000" spc="-1" strike="noStrike">
              <a:solidFill>
                <a:srgbClr val="000000"/>
              </a:solidFill>
              <a:latin typeface="Calibri"/>
            </a:endParaRPr>
          </a:p>
        </p:txBody>
      </p:sp>
      <p:sp>
        <p:nvSpPr>
          <p:cNvPr id="439" name="Oval 39"/>
          <p:cNvSpPr/>
          <p:nvPr/>
        </p:nvSpPr>
        <p:spPr>
          <a:xfrm>
            <a:off x="1689120" y="5737320"/>
            <a:ext cx="231840" cy="231840"/>
          </a:xfrm>
          <a:prstGeom prst="ellipse">
            <a:avLst/>
          </a:prstGeom>
          <a:solidFill>
            <a:srgbClr val="ff4e9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0" name="TextBox 40"/>
          <p:cNvSpPr/>
          <p:nvPr/>
        </p:nvSpPr>
        <p:spPr>
          <a:xfrm>
            <a:off x="1990800" y="5683320"/>
            <a:ext cx="126216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bfbfbf"/>
                </a:solidFill>
                <a:latin typeface="Open Sans"/>
                <a:ea typeface="Open Sans"/>
              </a:rPr>
              <a:t>Feature 1</a:t>
            </a:r>
            <a:endParaRPr b="0" lang="en-US" sz="1200" spc="-1" strike="noStrike">
              <a:solidFill>
                <a:srgbClr val="000000"/>
              </a:solidFill>
              <a:latin typeface="Calibri"/>
            </a:endParaRPr>
          </a:p>
        </p:txBody>
      </p:sp>
      <p:sp>
        <p:nvSpPr>
          <p:cNvPr id="441" name="Oval 41"/>
          <p:cNvSpPr/>
          <p:nvPr/>
        </p:nvSpPr>
        <p:spPr>
          <a:xfrm>
            <a:off x="3683160" y="5737320"/>
            <a:ext cx="231480" cy="23184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2" name="TextBox 42"/>
          <p:cNvSpPr/>
          <p:nvPr/>
        </p:nvSpPr>
        <p:spPr>
          <a:xfrm>
            <a:off x="4010040" y="5683320"/>
            <a:ext cx="12636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bfbfbf"/>
                </a:solidFill>
                <a:latin typeface="Open Sans"/>
                <a:ea typeface="Open Sans"/>
              </a:rPr>
              <a:t>Feature 2</a:t>
            </a:r>
            <a:endParaRPr b="0" lang="en-US" sz="1200" spc="-1" strike="noStrike">
              <a:solidFill>
                <a:srgbClr val="000000"/>
              </a:solidFill>
              <a:latin typeface="Calibri"/>
            </a:endParaRPr>
          </a:p>
        </p:txBody>
      </p:sp>
      <p:sp>
        <p:nvSpPr>
          <p:cNvPr id="443" name="Oval 43"/>
          <p:cNvSpPr/>
          <p:nvPr/>
        </p:nvSpPr>
        <p:spPr>
          <a:xfrm>
            <a:off x="7061040" y="5737320"/>
            <a:ext cx="231840" cy="231840"/>
          </a:xfrm>
          <a:prstGeom prst="ellipse">
            <a:avLst/>
          </a:prstGeom>
          <a:solidFill>
            <a:srgbClr val="37e08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4" name="TextBox 44"/>
          <p:cNvSpPr/>
          <p:nvPr/>
        </p:nvSpPr>
        <p:spPr>
          <a:xfrm>
            <a:off x="7388280" y="5683320"/>
            <a:ext cx="126216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bfbfbf"/>
                </a:solidFill>
                <a:latin typeface="Open Sans"/>
                <a:ea typeface="Open Sans"/>
              </a:rPr>
              <a:t>Feature 3</a:t>
            </a:r>
            <a:endParaRPr b="0" lang="en-US" sz="1200" spc="-1" strike="noStrike">
              <a:solidFill>
                <a:srgbClr val="000000"/>
              </a:solidFill>
              <a:latin typeface="Calibri"/>
            </a:endParaRPr>
          </a:p>
        </p:txBody>
      </p:sp>
      <p:sp>
        <p:nvSpPr>
          <p:cNvPr id="445" name="Oval 45"/>
          <p:cNvSpPr/>
          <p:nvPr/>
        </p:nvSpPr>
        <p:spPr>
          <a:xfrm>
            <a:off x="9131400" y="5737320"/>
            <a:ext cx="230040" cy="231840"/>
          </a:xfrm>
          <a:prstGeom prst="ellipse">
            <a:avLst/>
          </a:prstGeom>
          <a:solidFill>
            <a:srgbClr val="06d6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6" name="TextBox 46"/>
          <p:cNvSpPr/>
          <p:nvPr/>
        </p:nvSpPr>
        <p:spPr>
          <a:xfrm>
            <a:off x="9458280" y="5683320"/>
            <a:ext cx="126216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bfbfbf"/>
                </a:solidFill>
                <a:latin typeface="Open Sans"/>
                <a:ea typeface="Open Sans"/>
              </a:rPr>
              <a:t>Feature 4</a:t>
            </a:r>
            <a:endParaRPr b="0" lang="en-US" sz="1200" spc="-1" strike="noStrike">
              <a:solidFill>
                <a:srgbClr val="000000"/>
              </a:solidFill>
              <a:latin typeface="Calibri"/>
            </a:endParaRPr>
          </a:p>
        </p:txBody>
      </p:sp>
      <p:grpSp>
        <p:nvGrpSpPr>
          <p:cNvPr id="447" name="Group 50"/>
          <p:cNvGrpSpPr/>
          <p:nvPr/>
        </p:nvGrpSpPr>
        <p:grpSpPr>
          <a:xfrm>
            <a:off x="9858240" y="-108360"/>
            <a:ext cx="2511720" cy="1887480"/>
            <a:chOff x="9858240" y="-108360"/>
            <a:chExt cx="2511720" cy="1887480"/>
          </a:xfrm>
        </p:grpSpPr>
        <p:sp>
          <p:nvSpPr>
            <p:cNvPr id="448" name="Isosceles Triangle 51"/>
            <p:cNvSpPr/>
            <p:nvPr/>
          </p:nvSpPr>
          <p:spPr>
            <a:xfrm flipV="1">
              <a:off x="9858240" y="-12960"/>
              <a:ext cx="2371320" cy="1791720"/>
            </a:xfrm>
            <a:prstGeom prst="triangle">
              <a:avLst>
                <a:gd name="adj" fmla="val 100000"/>
              </a:avLst>
            </a:prstGeom>
            <a:solidFill>
              <a:srgbClr val="f2f2f2">
                <a:alpha val="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Isosceles Triangle 52"/>
            <p:cNvSpPr/>
            <p:nvPr/>
          </p:nvSpPr>
          <p:spPr>
            <a:xfrm flipV="1">
              <a:off x="10720080" y="-108720"/>
              <a:ext cx="1649880" cy="1246680"/>
            </a:xfrm>
            <a:prstGeom prst="triangle">
              <a:avLst>
                <a:gd name="adj" fmla="val 100000"/>
              </a:avLst>
            </a:prstGeom>
            <a:solidFill>
              <a:srgbClr val="f2f2f2">
                <a:alpha val="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0" name="TextBox 38"/>
          <p:cNvSpPr/>
          <p:nvPr/>
        </p:nvSpPr>
        <p:spPr>
          <a:xfrm>
            <a:off x="3099600" y="406440"/>
            <a:ext cx="5993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d6ff"/>
                </a:solidFill>
                <a:latin typeface="Raleway SemiBold"/>
                <a:ea typeface="Open Sans"/>
              </a:rPr>
              <a:t>Comparison Infographic</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Rounded Corners 12"/>
          <p:cNvSpPr/>
          <p:nvPr/>
        </p:nvSpPr>
        <p:spPr>
          <a:xfrm rot="2700000">
            <a:off x="11108160" y="561240"/>
            <a:ext cx="144360" cy="142920"/>
          </a:xfrm>
          <a:prstGeom prst="roundRect">
            <a:avLst>
              <a:gd name="adj" fmla="val 16667"/>
            </a:avLst>
          </a:prstGeom>
          <a:solidFill>
            <a:srgbClr val="06d6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52" name="Group 13"/>
          <p:cNvGrpSpPr/>
          <p:nvPr/>
        </p:nvGrpSpPr>
        <p:grpSpPr>
          <a:xfrm>
            <a:off x="-244440" y="-200520"/>
            <a:ext cx="1550880" cy="1328760"/>
            <a:chOff x="-244440" y="-200520"/>
            <a:chExt cx="1550880" cy="1328760"/>
          </a:xfrm>
        </p:grpSpPr>
        <p:sp>
          <p:nvSpPr>
            <p:cNvPr id="453" name="Isosceles Triangle 14"/>
            <p:cNvSpPr/>
            <p:nvPr/>
          </p:nvSpPr>
          <p:spPr>
            <a:xfrm rot="10800000">
              <a:off x="-158040" y="-133200"/>
              <a:ext cx="1464480" cy="1261440"/>
            </a:xfrm>
            <a:prstGeom prst="triangle">
              <a:avLst>
                <a:gd name="adj" fmla="val 100000"/>
              </a:avLst>
            </a:prstGeom>
            <a:solidFill>
              <a:srgbClr val="f2f2f2">
                <a:alpha val="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Isosceles Triangle 15"/>
            <p:cNvSpPr/>
            <p:nvPr/>
          </p:nvSpPr>
          <p:spPr>
            <a:xfrm rot="10800000">
              <a:off x="-244440" y="-200520"/>
              <a:ext cx="1018800" cy="877680"/>
            </a:xfrm>
            <a:prstGeom prst="triangle">
              <a:avLst>
                <a:gd name="adj" fmla="val 100000"/>
              </a:avLst>
            </a:prstGeom>
            <a:solidFill>
              <a:srgbClr val="f2f2f2">
                <a:alpha val="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55" name="Group 132"/>
          <p:cNvGrpSpPr/>
          <p:nvPr/>
        </p:nvGrpSpPr>
        <p:grpSpPr>
          <a:xfrm>
            <a:off x="4802040" y="2441520"/>
            <a:ext cx="973440" cy="2971440"/>
            <a:chOff x="4802040" y="2441520"/>
            <a:chExt cx="973440" cy="2971440"/>
          </a:xfrm>
        </p:grpSpPr>
        <p:sp>
          <p:nvSpPr>
            <p:cNvPr id="456" name="Shape"/>
            <p:cNvSpPr/>
            <p:nvPr/>
          </p:nvSpPr>
          <p:spPr>
            <a:xfrm flipH="1">
              <a:off x="4802040" y="3204360"/>
              <a:ext cx="209520" cy="1400040"/>
            </a:xfrm>
            <a:custGeom>
              <a:avLst/>
              <a:gdLst/>
              <a:ahLst/>
              <a:rect l="l" t="t" r="r" b="b"/>
              <a:pathLst>
                <a:path w="21367" h="21496">
                  <a:moveTo>
                    <a:pt x="16259" y="164"/>
                  </a:moveTo>
                  <a:cubicBezTo>
                    <a:pt x="5303" y="3491"/>
                    <a:pt x="-116" y="7125"/>
                    <a:pt x="2" y="10755"/>
                  </a:cubicBezTo>
                  <a:cubicBezTo>
                    <a:pt x="119" y="14386"/>
                    <a:pt x="5774" y="18013"/>
                    <a:pt x="16965" y="21326"/>
                  </a:cubicBezTo>
                  <a:cubicBezTo>
                    <a:pt x="17892" y="21549"/>
                    <a:pt x="20041" y="21554"/>
                    <a:pt x="21011" y="21335"/>
                  </a:cubicBezTo>
                  <a:cubicBezTo>
                    <a:pt x="21438" y="21238"/>
                    <a:pt x="21484" y="21115"/>
                    <a:pt x="21132" y="21012"/>
                  </a:cubicBezTo>
                  <a:cubicBezTo>
                    <a:pt x="10270" y="17797"/>
                    <a:pt x="4784" y="14278"/>
                    <a:pt x="4670" y="10755"/>
                  </a:cubicBezTo>
                  <a:cubicBezTo>
                    <a:pt x="4556" y="7233"/>
                    <a:pt x="9814" y="3707"/>
                    <a:pt x="20440" y="479"/>
                  </a:cubicBezTo>
                  <a:cubicBezTo>
                    <a:pt x="20859" y="315"/>
                    <a:pt x="20412" y="130"/>
                    <a:pt x="19392" y="45"/>
                  </a:cubicBezTo>
                  <a:cubicBezTo>
                    <a:pt x="18302" y="-46"/>
                    <a:pt x="16930" y="6"/>
                    <a:pt x="16259" y="164"/>
                  </a:cubicBezTo>
                  <a:close/>
                </a:path>
              </a:pathLst>
            </a:custGeom>
            <a:solidFill>
              <a:srgbClr val="7f7f7f"/>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457" name="Line"/>
            <p:cNvSpPr/>
            <p:nvPr/>
          </p:nvSpPr>
          <p:spPr>
            <a:xfrm flipH="1">
              <a:off x="5015880" y="2441520"/>
              <a:ext cx="759240" cy="1533600"/>
            </a:xfrm>
            <a:custGeom>
              <a:avLst/>
              <a:gdLst/>
              <a:ahLst/>
              <a:rect l="l" t="t" r="r" b="b"/>
              <a:pathLst>
                <a:path w="21600" h="21583">
                  <a:moveTo>
                    <a:pt x="0" y="9"/>
                  </a:moveTo>
                  <a:lnTo>
                    <a:pt x="5204" y="9"/>
                  </a:lnTo>
                  <a:cubicBezTo>
                    <a:pt x="5626" y="-17"/>
                    <a:pt x="6052" y="16"/>
                    <a:pt x="6447" y="104"/>
                  </a:cubicBezTo>
                  <a:cubicBezTo>
                    <a:pt x="7176" y="266"/>
                    <a:pt x="7748" y="600"/>
                    <a:pt x="8020" y="1022"/>
                  </a:cubicBezTo>
                  <a:lnTo>
                    <a:pt x="21600" y="21583"/>
                  </a:lnTo>
                </a:path>
              </a:pathLst>
            </a:custGeom>
            <a:noFill/>
            <a:ln w="3240">
              <a:solidFill>
                <a:srgbClr val="404040"/>
              </a:solidFill>
              <a:miter/>
            </a:ln>
          </p:spPr>
          <p:style>
            <a:lnRef idx="0"/>
            <a:fillRef idx="0"/>
            <a:effectRef idx="0"/>
            <a:fontRef idx="minor"/>
          </p:style>
          <p:txBody>
            <a:bodyPr lIns="45360" rIns="45360" tIns="45360" bIns="45360" anchor="t">
              <a:noAutofit/>
            </a:bodyPr>
            <a:p>
              <a:endParaRPr b="0" lang="en-US" sz="1800" spc="-1" strike="noStrike">
                <a:solidFill>
                  <a:srgbClr val="000000"/>
                </a:solidFill>
                <a:latin typeface="Calibri"/>
              </a:endParaRPr>
            </a:p>
          </p:txBody>
        </p:sp>
        <p:sp>
          <p:nvSpPr>
            <p:cNvPr id="458" name="Line"/>
            <p:cNvSpPr/>
            <p:nvPr/>
          </p:nvSpPr>
          <p:spPr>
            <a:xfrm rot="10800000">
              <a:off x="5031000" y="3917880"/>
              <a:ext cx="744480" cy="1495080"/>
            </a:xfrm>
            <a:custGeom>
              <a:avLst/>
              <a:gdLst/>
              <a:ahLst/>
              <a:rect l="l" t="t" r="r" b="b"/>
              <a:pathLst>
                <a:path w="21600" h="21584">
                  <a:moveTo>
                    <a:pt x="0" y="8"/>
                  </a:moveTo>
                  <a:lnTo>
                    <a:pt x="5169" y="8"/>
                  </a:lnTo>
                  <a:cubicBezTo>
                    <a:pt x="5587" y="-16"/>
                    <a:pt x="6011" y="15"/>
                    <a:pt x="6404" y="98"/>
                  </a:cubicBezTo>
                  <a:cubicBezTo>
                    <a:pt x="7127" y="251"/>
                    <a:pt x="7696" y="568"/>
                    <a:pt x="7966" y="967"/>
                  </a:cubicBezTo>
                  <a:lnTo>
                    <a:pt x="21600" y="21584"/>
                  </a:lnTo>
                </a:path>
              </a:pathLst>
            </a:custGeom>
            <a:noFill/>
            <a:ln w="3240">
              <a:solidFill>
                <a:srgbClr val="404040"/>
              </a:solidFill>
              <a:miter/>
            </a:ln>
          </p:spPr>
          <p:style>
            <a:lnRef idx="0"/>
            <a:fillRef idx="0"/>
            <a:effectRef idx="0"/>
            <a:fontRef idx="minor"/>
          </p:style>
          <p:txBody>
            <a:bodyPr lIns="45360" rIns="45360" tIns="45360" bIns="45360" anchor="t">
              <a:noAutofit/>
            </a:bodyPr>
            <a:p>
              <a:endParaRPr b="0" lang="en-US" sz="1800" spc="-1" strike="noStrike">
                <a:solidFill>
                  <a:srgbClr val="000000"/>
                </a:solidFill>
                <a:latin typeface="Calibri"/>
              </a:endParaRPr>
            </a:p>
          </p:txBody>
        </p:sp>
        <p:sp>
          <p:nvSpPr>
            <p:cNvPr id="459" name="Line"/>
            <p:cNvSpPr/>
            <p:nvPr/>
          </p:nvSpPr>
          <p:spPr>
            <a:xfrm flipH="1">
              <a:off x="5025960" y="3433680"/>
              <a:ext cx="744480" cy="484200"/>
            </a:xfrm>
            <a:custGeom>
              <a:avLst/>
              <a:gdLst/>
              <a:ahLst/>
              <a:rect l="l" t="t" r="r" b="b"/>
              <a:pathLst>
                <a:path w="21600" h="21583">
                  <a:moveTo>
                    <a:pt x="0" y="9"/>
                  </a:moveTo>
                  <a:lnTo>
                    <a:pt x="5204" y="9"/>
                  </a:lnTo>
                  <a:cubicBezTo>
                    <a:pt x="5626" y="-17"/>
                    <a:pt x="6052" y="16"/>
                    <a:pt x="6447" y="104"/>
                  </a:cubicBezTo>
                  <a:cubicBezTo>
                    <a:pt x="7176" y="266"/>
                    <a:pt x="7748" y="600"/>
                    <a:pt x="8020" y="1022"/>
                  </a:cubicBezTo>
                  <a:lnTo>
                    <a:pt x="21600" y="21583"/>
                  </a:lnTo>
                </a:path>
              </a:pathLst>
            </a:custGeom>
            <a:noFill/>
            <a:ln w="3240">
              <a:solidFill>
                <a:srgbClr val="404040"/>
              </a:solidFill>
              <a:miter/>
            </a:ln>
          </p:spPr>
          <p:style>
            <a:lnRef idx="0"/>
            <a:fillRef idx="0"/>
            <a:effectRef idx="0"/>
            <a:fontRef idx="minor"/>
          </p:style>
          <p:txBody>
            <a:bodyPr lIns="45360" rIns="45360" tIns="45360" bIns="45360" anchor="t">
              <a:noAutofit/>
            </a:bodyPr>
            <a:p>
              <a:endParaRPr b="0" lang="en-US" sz="1800" spc="-1" strike="noStrike">
                <a:solidFill>
                  <a:srgbClr val="000000"/>
                </a:solidFill>
                <a:latin typeface="Calibri"/>
              </a:endParaRPr>
            </a:p>
          </p:txBody>
        </p:sp>
        <p:sp>
          <p:nvSpPr>
            <p:cNvPr id="460" name="Line"/>
            <p:cNvSpPr/>
            <p:nvPr/>
          </p:nvSpPr>
          <p:spPr>
            <a:xfrm rot="10800000">
              <a:off x="5009760" y="3893760"/>
              <a:ext cx="759240" cy="518400"/>
            </a:xfrm>
            <a:custGeom>
              <a:avLst/>
              <a:gdLst/>
              <a:ahLst/>
              <a:rect l="l" t="t" r="r" b="b"/>
              <a:pathLst>
                <a:path w="21600" h="21583">
                  <a:moveTo>
                    <a:pt x="0" y="9"/>
                  </a:moveTo>
                  <a:lnTo>
                    <a:pt x="5204" y="9"/>
                  </a:lnTo>
                  <a:cubicBezTo>
                    <a:pt x="5626" y="-17"/>
                    <a:pt x="6052" y="16"/>
                    <a:pt x="6447" y="104"/>
                  </a:cubicBezTo>
                  <a:cubicBezTo>
                    <a:pt x="7176" y="266"/>
                    <a:pt x="7748" y="600"/>
                    <a:pt x="8020" y="1022"/>
                  </a:cubicBezTo>
                  <a:lnTo>
                    <a:pt x="21600" y="21583"/>
                  </a:lnTo>
                </a:path>
              </a:pathLst>
            </a:custGeom>
            <a:noFill/>
            <a:ln w="3240">
              <a:solidFill>
                <a:srgbClr val="404040"/>
              </a:solidFill>
              <a:miter/>
            </a:ln>
          </p:spPr>
          <p:style>
            <a:lnRef idx="0"/>
            <a:fillRef idx="0"/>
            <a:effectRef idx="0"/>
            <a:fontRef idx="minor"/>
          </p:style>
          <p:txBody>
            <a:bodyPr lIns="45360" rIns="45360" tIns="45360" bIns="45360" anchor="t">
              <a:noAutofit/>
            </a:bodyPr>
            <a:p>
              <a:endParaRPr b="0" lang="en-US" sz="1800" spc="-1" strike="noStrike">
                <a:solidFill>
                  <a:srgbClr val="000000"/>
                </a:solidFill>
                <a:latin typeface="Calibri"/>
              </a:endParaRPr>
            </a:p>
          </p:txBody>
        </p:sp>
      </p:grpSp>
      <p:sp>
        <p:nvSpPr>
          <p:cNvPr id="461" name="Rectangle: Rounded Corners 84"/>
          <p:cNvSpPr/>
          <p:nvPr/>
        </p:nvSpPr>
        <p:spPr>
          <a:xfrm>
            <a:off x="5742000" y="2048040"/>
            <a:ext cx="4784760" cy="817560"/>
          </a:xfrm>
          <a:prstGeom prst="roundRect">
            <a:avLst>
              <a:gd name="adj" fmla="val 6287"/>
            </a:avLst>
          </a:prstGeom>
          <a:solidFill>
            <a:srgbClr val="ffffff"/>
          </a:solidFill>
          <a:ln w="12600">
            <a:solidFill>
              <a:srgbClr val="37e08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Rectangle: Rounded Corners 85"/>
          <p:cNvSpPr/>
          <p:nvPr/>
        </p:nvSpPr>
        <p:spPr>
          <a:xfrm>
            <a:off x="9321840" y="2048040"/>
            <a:ext cx="1217520" cy="817560"/>
          </a:xfrm>
          <a:prstGeom prst="roundRect">
            <a:avLst>
              <a:gd name="adj" fmla="val 6287"/>
            </a:avLst>
          </a:prstGeom>
          <a:solidFill>
            <a:srgbClr val="37e08b"/>
          </a:solidFill>
          <a:ln w="12600">
            <a:solidFill>
              <a:srgbClr val="37e08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63" name="Group 131"/>
          <p:cNvGrpSpPr/>
          <p:nvPr/>
        </p:nvGrpSpPr>
        <p:grpSpPr>
          <a:xfrm>
            <a:off x="619200" y="2068560"/>
            <a:ext cx="4784760" cy="3700440"/>
            <a:chOff x="619200" y="2068560"/>
            <a:chExt cx="4784760" cy="3700440"/>
          </a:xfrm>
        </p:grpSpPr>
        <p:graphicFrame>
          <p:nvGraphicFramePr>
            <p:cNvPr id="464" name="Chart 4"/>
            <p:cNvGraphicFramePr/>
            <p:nvPr/>
          </p:nvGraphicFramePr>
          <p:xfrm>
            <a:off x="619200" y="2068560"/>
            <a:ext cx="4784760" cy="3700440"/>
          </p:xfrm>
          <a:graphic>
            <a:graphicData uri="http://schemas.openxmlformats.org/presentationml/2006/ole">
              <p:oleObj progId="Excel.Sheet.12" r:id="rId1" spid="">
                <p:embed/>
                <p:pic>
                  <p:nvPicPr>
                    <p:cNvPr id="465" name="Chart 4" descr=""/>
                    <p:cNvPicPr/>
                    <p:nvPr/>
                  </p:nvPicPr>
                  <p:blipFill>
                    <a:blip r:embed="rId2"/>
                    <a:stretch/>
                  </p:blipFill>
                  <p:spPr>
                    <a:xfrm>
                      <a:off x="619200" y="2068560"/>
                      <a:ext cx="4784760" cy="3700440"/>
                    </a:xfrm>
                    <a:prstGeom prst="rect">
                      <a:avLst/>
                    </a:prstGeom>
                    <a:ln w="0">
                      <a:noFill/>
                    </a:ln>
                  </p:spPr>
                </p:pic>
              </p:oleObj>
            </a:graphicData>
          </a:graphic>
        </p:graphicFrame>
        <p:grpSp>
          <p:nvGrpSpPr>
            <p:cNvPr id="466" name="Group 18"/>
            <p:cNvGrpSpPr/>
            <p:nvPr/>
          </p:nvGrpSpPr>
          <p:grpSpPr>
            <a:xfrm>
              <a:off x="1794600" y="2709000"/>
              <a:ext cx="2433960" cy="2419560"/>
              <a:chOff x="1794600" y="2709000"/>
              <a:chExt cx="2433960" cy="2419560"/>
            </a:xfrm>
          </p:grpSpPr>
          <p:sp>
            <p:nvSpPr>
              <p:cNvPr id="467" name="Circle"/>
              <p:cNvSpPr/>
              <p:nvPr/>
            </p:nvSpPr>
            <p:spPr>
              <a:xfrm>
                <a:off x="1794600" y="2709000"/>
                <a:ext cx="2433960" cy="2419560"/>
              </a:xfrm>
              <a:prstGeom prst="ellipse">
                <a:avLst/>
              </a:prstGeom>
              <a:solidFill>
                <a:srgbClr val="030227"/>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468" name="Circle"/>
              <p:cNvSpPr/>
              <p:nvPr/>
            </p:nvSpPr>
            <p:spPr>
              <a:xfrm>
                <a:off x="1874880" y="2777400"/>
                <a:ext cx="2284560" cy="2271240"/>
              </a:xfrm>
              <a:prstGeom prst="ellipse">
                <a:avLst/>
              </a:prstGeom>
              <a:noFill/>
              <a:ln w="3240">
                <a:solidFill>
                  <a:srgbClr val="404040"/>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grpSp>
        <p:grpSp>
          <p:nvGrpSpPr>
            <p:cNvPr id="469" name="Group 21"/>
            <p:cNvGrpSpPr/>
            <p:nvPr/>
          </p:nvGrpSpPr>
          <p:grpSpPr>
            <a:xfrm>
              <a:off x="1675800" y="4131000"/>
              <a:ext cx="317880" cy="315720"/>
              <a:chOff x="1675800" y="4131000"/>
              <a:chExt cx="317880" cy="315720"/>
            </a:xfrm>
          </p:grpSpPr>
          <p:sp>
            <p:nvSpPr>
              <p:cNvPr id="470" name="Oval 19"/>
              <p:cNvSpPr/>
              <p:nvPr/>
            </p:nvSpPr>
            <p:spPr>
              <a:xfrm>
                <a:off x="1675800" y="4131000"/>
                <a:ext cx="317880" cy="315720"/>
              </a:xfrm>
              <a:prstGeom prst="ellipse">
                <a:avLst/>
              </a:prstGeom>
              <a:solidFill>
                <a:srgbClr val="1d2127"/>
              </a:solidFill>
              <a:ln w="28440">
                <a:solidFill>
                  <a:srgbClr val="37e08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1" name="TextBox 20"/>
              <p:cNvSpPr/>
              <p:nvPr/>
            </p:nvSpPr>
            <p:spPr>
              <a:xfrm>
                <a:off x="1698480" y="4142880"/>
                <a:ext cx="2613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2f2f2"/>
                    </a:solidFill>
                    <a:latin typeface="Raleway"/>
                  </a:rPr>
                  <a:t>1</a:t>
                </a:r>
                <a:endParaRPr b="0" lang="en-US" sz="1100" spc="-1" strike="noStrike">
                  <a:solidFill>
                    <a:srgbClr val="000000"/>
                  </a:solidFill>
                  <a:latin typeface="Calibri"/>
                </a:endParaRPr>
              </a:p>
            </p:txBody>
          </p:sp>
        </p:grpSp>
        <p:sp>
          <p:nvSpPr>
            <p:cNvPr id="472" name="Oval 23"/>
            <p:cNvSpPr/>
            <p:nvPr/>
          </p:nvSpPr>
          <p:spPr>
            <a:xfrm>
              <a:off x="4035240" y="3769200"/>
              <a:ext cx="317880" cy="315720"/>
            </a:xfrm>
            <a:prstGeom prst="ellipse">
              <a:avLst/>
            </a:prstGeom>
            <a:solidFill>
              <a:srgbClr val="1d2127"/>
            </a:solidFill>
            <a:ln w="28440">
              <a:solidFill>
                <a:srgbClr val="06d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3" name="TextBox 24"/>
            <p:cNvSpPr/>
            <p:nvPr/>
          </p:nvSpPr>
          <p:spPr>
            <a:xfrm>
              <a:off x="4054320" y="37785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Raleway"/>
                </a:rPr>
                <a:t>3</a:t>
              </a:r>
              <a:endParaRPr b="0" lang="en-US" sz="1200" spc="-1" strike="noStrike">
                <a:solidFill>
                  <a:srgbClr val="000000"/>
                </a:solidFill>
                <a:latin typeface="Calibri"/>
              </a:endParaRPr>
            </a:p>
          </p:txBody>
        </p:sp>
        <p:sp>
          <p:nvSpPr>
            <p:cNvPr id="474" name="Oval 26"/>
            <p:cNvSpPr/>
            <p:nvPr/>
          </p:nvSpPr>
          <p:spPr>
            <a:xfrm>
              <a:off x="2515320" y="2633400"/>
              <a:ext cx="317880" cy="315720"/>
            </a:xfrm>
            <a:prstGeom prst="ellipse">
              <a:avLst/>
            </a:prstGeom>
            <a:solidFill>
              <a:srgbClr val="1d2127"/>
            </a:solidFill>
            <a:ln w="28440">
              <a:solidFill>
                <a:srgbClr val="ff4e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5" name="TextBox 27"/>
            <p:cNvSpPr/>
            <p:nvPr/>
          </p:nvSpPr>
          <p:spPr>
            <a:xfrm>
              <a:off x="2530080" y="2645640"/>
              <a:ext cx="2613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2f2f2"/>
                  </a:solidFill>
                  <a:latin typeface="Raleway"/>
                </a:rPr>
                <a:t>2</a:t>
              </a:r>
              <a:endParaRPr b="0" lang="en-US" sz="1100" spc="-1" strike="noStrike">
                <a:solidFill>
                  <a:srgbClr val="000000"/>
                </a:solidFill>
                <a:latin typeface="Calibri"/>
              </a:endParaRPr>
            </a:p>
          </p:txBody>
        </p:sp>
        <p:sp>
          <p:nvSpPr>
            <p:cNvPr id="476" name="Oval 29"/>
            <p:cNvSpPr/>
            <p:nvPr/>
          </p:nvSpPr>
          <p:spPr>
            <a:xfrm>
              <a:off x="1981080" y="2977200"/>
              <a:ext cx="317880" cy="315720"/>
            </a:xfrm>
            <a:prstGeom prst="ellipse">
              <a:avLst/>
            </a:prstGeom>
            <a:solidFill>
              <a:srgbClr val="1d2127"/>
            </a:solidFill>
            <a:ln w="2844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TextBox 30"/>
            <p:cNvSpPr/>
            <p:nvPr/>
          </p:nvSpPr>
          <p:spPr>
            <a:xfrm>
              <a:off x="2009520" y="2989440"/>
              <a:ext cx="2613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2f2f2"/>
                  </a:solidFill>
                  <a:latin typeface="Raleway"/>
                </a:rPr>
                <a:t>4</a:t>
              </a:r>
              <a:endParaRPr b="0" lang="en-US" sz="1100" spc="-1" strike="noStrike">
                <a:solidFill>
                  <a:srgbClr val="000000"/>
                </a:solidFill>
                <a:latin typeface="Calibri"/>
              </a:endParaRPr>
            </a:p>
          </p:txBody>
        </p:sp>
        <p:sp>
          <p:nvSpPr>
            <p:cNvPr id="478" name="TextBox 9"/>
            <p:cNvSpPr/>
            <p:nvPr/>
          </p:nvSpPr>
          <p:spPr>
            <a:xfrm>
              <a:off x="2494440" y="3029400"/>
              <a:ext cx="1053360" cy="1287720"/>
            </a:xfrm>
            <a:prstGeom prst="rect">
              <a:avLst/>
            </a:prstGeom>
            <a:noFill/>
            <a:ln w="0">
              <a:noFill/>
            </a:ln>
          </p:spPr>
          <p:style>
            <a:lnRef idx="0"/>
            <a:fillRef idx="0"/>
            <a:effectRef idx="0"/>
            <a:fontRef idx="minor"/>
          </p:style>
          <p:txBody>
            <a:bodyPr lIns="90000" rIns="90000" tIns="46800" bIns="46800" anchor="b">
              <a:spAutoFit/>
            </a:bodyPr>
            <a:p>
              <a:pPr algn="ctr">
                <a:lnSpc>
                  <a:spcPts val="9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Raleway"/>
                </a:rPr>
                <a:t>VS</a:t>
              </a:r>
              <a:endParaRPr b="0" lang="en-US" sz="4000" spc="-1" strike="noStrike">
                <a:solidFill>
                  <a:srgbClr val="000000"/>
                </a:solidFill>
                <a:latin typeface="Calibri"/>
              </a:endParaRPr>
            </a:p>
          </p:txBody>
        </p:sp>
      </p:grpSp>
      <p:sp>
        <p:nvSpPr>
          <p:cNvPr id="479" name="Rectangle: Rounded Corners 133"/>
          <p:cNvSpPr/>
          <p:nvPr/>
        </p:nvSpPr>
        <p:spPr>
          <a:xfrm>
            <a:off x="5742000" y="3975120"/>
            <a:ext cx="4784760" cy="793800"/>
          </a:xfrm>
          <a:prstGeom prst="roundRect">
            <a:avLst>
              <a:gd name="adj" fmla="val 6287"/>
            </a:avLst>
          </a:prstGeom>
          <a:solidFill>
            <a:srgbClr val="ffffff"/>
          </a:solidFill>
          <a:ln w="12600">
            <a:solidFill>
              <a:srgbClr val="06d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0" name="Rectangle: Rounded Corners 134"/>
          <p:cNvSpPr/>
          <p:nvPr/>
        </p:nvSpPr>
        <p:spPr>
          <a:xfrm>
            <a:off x="9321840" y="3975120"/>
            <a:ext cx="1217520" cy="793800"/>
          </a:xfrm>
          <a:prstGeom prst="roundRect">
            <a:avLst>
              <a:gd name="adj" fmla="val 6287"/>
            </a:avLst>
          </a:prstGeom>
          <a:solidFill>
            <a:srgbClr val="06d6ff"/>
          </a:solidFill>
          <a:ln w="12600">
            <a:solidFill>
              <a:srgbClr val="06d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1" name="Rectangle: Rounded Corners 135"/>
          <p:cNvSpPr/>
          <p:nvPr/>
        </p:nvSpPr>
        <p:spPr>
          <a:xfrm>
            <a:off x="5742000" y="3024360"/>
            <a:ext cx="4784760" cy="792000"/>
          </a:xfrm>
          <a:prstGeom prst="roundRect">
            <a:avLst>
              <a:gd name="adj" fmla="val 6287"/>
            </a:avLst>
          </a:prstGeom>
          <a:solidFill>
            <a:srgbClr val="ffffff"/>
          </a:solidFill>
          <a:ln w="12600">
            <a:solidFill>
              <a:srgbClr val="ff4e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Rectangle: Rounded Corners 136"/>
          <p:cNvSpPr/>
          <p:nvPr/>
        </p:nvSpPr>
        <p:spPr>
          <a:xfrm>
            <a:off x="9321840" y="3024360"/>
            <a:ext cx="1217520" cy="792000"/>
          </a:xfrm>
          <a:prstGeom prst="roundRect">
            <a:avLst>
              <a:gd name="adj" fmla="val 6287"/>
            </a:avLst>
          </a:prstGeom>
          <a:solidFill>
            <a:srgbClr val="ff4e95"/>
          </a:solidFill>
          <a:ln w="12600">
            <a:solidFill>
              <a:srgbClr val="ff4e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3" name="Rectangle: Rounded Corners 137"/>
          <p:cNvSpPr/>
          <p:nvPr/>
        </p:nvSpPr>
        <p:spPr>
          <a:xfrm>
            <a:off x="5742000" y="4917960"/>
            <a:ext cx="4784760" cy="851040"/>
          </a:xfrm>
          <a:prstGeom prst="roundRect">
            <a:avLst>
              <a:gd name="adj" fmla="val 6287"/>
            </a:avLst>
          </a:prstGeom>
          <a:solidFill>
            <a:srgbClr val="ffffff"/>
          </a:solidFill>
          <a:ln w="1260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4" name="Rectangle: Rounded Corners 138"/>
          <p:cNvSpPr/>
          <p:nvPr/>
        </p:nvSpPr>
        <p:spPr>
          <a:xfrm>
            <a:off x="9321840" y="4917960"/>
            <a:ext cx="1217520" cy="851040"/>
          </a:xfrm>
          <a:prstGeom prst="roundRect">
            <a:avLst>
              <a:gd name="adj" fmla="val 6287"/>
            </a:avLst>
          </a:prstGeom>
          <a:solidFill>
            <a:srgbClr val="7f7f7f"/>
          </a:solid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5" name="TextBox 35"/>
          <p:cNvSpPr/>
          <p:nvPr/>
        </p:nvSpPr>
        <p:spPr>
          <a:xfrm>
            <a:off x="9553680" y="4124160"/>
            <a:ext cx="75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227"/>
                </a:solidFill>
                <a:latin typeface="Raleway Medium"/>
              </a:rPr>
              <a:t>8,2%</a:t>
            </a:r>
            <a:endParaRPr b="0" lang="en-US" sz="2000" spc="-1" strike="noStrike">
              <a:solidFill>
                <a:srgbClr val="000000"/>
              </a:solidFill>
              <a:latin typeface="Calibri"/>
            </a:endParaRPr>
          </a:p>
        </p:txBody>
      </p:sp>
      <p:sp>
        <p:nvSpPr>
          <p:cNvPr id="486" name="TextBox 36"/>
          <p:cNvSpPr/>
          <p:nvPr/>
        </p:nvSpPr>
        <p:spPr>
          <a:xfrm>
            <a:off x="9520920" y="3173400"/>
            <a:ext cx="819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227"/>
                </a:solidFill>
                <a:latin typeface="Raleway Medium"/>
              </a:rPr>
              <a:t>1.2 %</a:t>
            </a:r>
            <a:endParaRPr b="0" lang="en-US" sz="2000" spc="-1" strike="noStrike">
              <a:solidFill>
                <a:srgbClr val="000000"/>
              </a:solidFill>
              <a:latin typeface="Calibri"/>
            </a:endParaRPr>
          </a:p>
        </p:txBody>
      </p:sp>
      <p:sp>
        <p:nvSpPr>
          <p:cNvPr id="487" name="TextBox 38"/>
          <p:cNvSpPr/>
          <p:nvPr/>
        </p:nvSpPr>
        <p:spPr>
          <a:xfrm>
            <a:off x="5846760" y="4307040"/>
            <a:ext cx="34275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000" spc="-1" strike="noStrike">
                <a:solidFill>
                  <a:srgbClr val="bfbfbf"/>
                </a:solidFill>
                <a:latin typeface="Open Sans"/>
                <a:ea typeface="Open Sans"/>
              </a:rPr>
              <a:t>Lorem ipsum dolor sit amet, consectetur adipiscing elit, sed do eiusmod Lorem ipsum dolor sit amet, </a:t>
            </a:r>
            <a:endParaRPr b="0" lang="en-US" sz="1000" spc="-1" strike="noStrike">
              <a:solidFill>
                <a:srgbClr val="000000"/>
              </a:solidFill>
              <a:latin typeface="Calibri"/>
            </a:endParaRPr>
          </a:p>
        </p:txBody>
      </p:sp>
      <p:sp>
        <p:nvSpPr>
          <p:cNvPr id="488" name="TextBox 39"/>
          <p:cNvSpPr/>
          <p:nvPr/>
        </p:nvSpPr>
        <p:spPr>
          <a:xfrm>
            <a:off x="9520920" y="2247840"/>
            <a:ext cx="819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227"/>
                </a:solidFill>
                <a:latin typeface="Raleway Medium"/>
              </a:rPr>
              <a:t>3.2 %</a:t>
            </a:r>
            <a:endParaRPr b="0" lang="en-US" sz="2000" spc="-1" strike="noStrike">
              <a:solidFill>
                <a:srgbClr val="000000"/>
              </a:solidFill>
              <a:latin typeface="Calibri"/>
            </a:endParaRPr>
          </a:p>
        </p:txBody>
      </p:sp>
      <p:sp>
        <p:nvSpPr>
          <p:cNvPr id="489" name="TextBox 40"/>
          <p:cNvSpPr/>
          <p:nvPr/>
        </p:nvSpPr>
        <p:spPr>
          <a:xfrm>
            <a:off x="9553680" y="5078520"/>
            <a:ext cx="75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227"/>
                </a:solidFill>
                <a:latin typeface="Raleway Medium"/>
              </a:rPr>
              <a:t>1.4%</a:t>
            </a:r>
            <a:endParaRPr b="0" lang="en-US" sz="2000" spc="-1" strike="noStrike">
              <a:solidFill>
                <a:srgbClr val="000000"/>
              </a:solidFill>
              <a:latin typeface="Calibri"/>
            </a:endParaRPr>
          </a:p>
        </p:txBody>
      </p:sp>
      <p:sp>
        <p:nvSpPr>
          <p:cNvPr id="490" name="TextBox 41"/>
          <p:cNvSpPr/>
          <p:nvPr/>
        </p:nvSpPr>
        <p:spPr>
          <a:xfrm>
            <a:off x="5846760" y="5248440"/>
            <a:ext cx="3403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000" spc="-1" strike="noStrike">
                <a:solidFill>
                  <a:srgbClr val="bfbfbf"/>
                </a:solidFill>
                <a:latin typeface="Open Sans"/>
                <a:ea typeface="Open Sans"/>
              </a:rPr>
              <a:t>Lorem ipsum dolor sit amet, consectetur adipiscing elit, sed do eiusmod Lorem ipsum dolor sit amet, </a:t>
            </a:r>
            <a:endParaRPr b="0" lang="en-US" sz="1000" spc="-1" strike="noStrike">
              <a:solidFill>
                <a:srgbClr val="000000"/>
              </a:solidFill>
              <a:latin typeface="Calibri"/>
            </a:endParaRPr>
          </a:p>
        </p:txBody>
      </p:sp>
      <p:sp>
        <p:nvSpPr>
          <p:cNvPr id="491" name="TextBox 42"/>
          <p:cNvSpPr/>
          <p:nvPr/>
        </p:nvSpPr>
        <p:spPr>
          <a:xfrm>
            <a:off x="5846760" y="3352680"/>
            <a:ext cx="3403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000" spc="-1" strike="noStrike">
                <a:solidFill>
                  <a:srgbClr val="bfbfbf"/>
                </a:solidFill>
                <a:latin typeface="Open Sans"/>
                <a:ea typeface="Open Sans"/>
              </a:rPr>
              <a:t>Lorem ipsum dolor sit amet, consectetur adipiscing elit, sed do eiusmod Lorem ipsum dolor sit amet, </a:t>
            </a:r>
            <a:endParaRPr b="0" lang="en-US" sz="1000" spc="-1" strike="noStrike">
              <a:solidFill>
                <a:srgbClr val="000000"/>
              </a:solidFill>
              <a:latin typeface="Calibri"/>
            </a:endParaRPr>
          </a:p>
        </p:txBody>
      </p:sp>
      <p:sp>
        <p:nvSpPr>
          <p:cNvPr id="492" name="TextBox 43"/>
          <p:cNvSpPr/>
          <p:nvPr/>
        </p:nvSpPr>
        <p:spPr>
          <a:xfrm>
            <a:off x="5846760" y="2360520"/>
            <a:ext cx="34066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000" spc="-1" strike="noStrike">
                <a:solidFill>
                  <a:srgbClr val="bfbfbf"/>
                </a:solidFill>
                <a:latin typeface="Open Sans"/>
                <a:ea typeface="Open Sans"/>
              </a:rPr>
              <a:t>Lorem ipsum dolor sit amet, consectetur adipiscing elit, sed do eiusmod Lorem ipsum dolor sit amet, </a:t>
            </a:r>
            <a:endParaRPr b="0" lang="en-US" sz="1000" spc="-1" strike="noStrike">
              <a:solidFill>
                <a:srgbClr val="000000"/>
              </a:solidFill>
              <a:latin typeface="Calibri"/>
            </a:endParaRPr>
          </a:p>
        </p:txBody>
      </p:sp>
      <p:sp>
        <p:nvSpPr>
          <p:cNvPr id="493"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5846760" y="4960800"/>
            <a:ext cx="2168640" cy="28440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Medium"/>
                <a:ea typeface="Barlow SemiBold"/>
              </a:rPr>
              <a:t>First quarter tittle</a:t>
            </a:r>
            <a:endParaRPr b="0" lang="en-US" sz="1200" spc="-1" strike="noStrike">
              <a:solidFill>
                <a:srgbClr val="000000"/>
              </a:solidFill>
              <a:latin typeface="Calibri"/>
            </a:endParaRPr>
          </a:p>
        </p:txBody>
      </p:sp>
      <p:sp>
        <p:nvSpPr>
          <p:cNvPr id="494"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5846760" y="3998880"/>
            <a:ext cx="2168640" cy="28440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Medium"/>
                <a:ea typeface="Barlow SemiBold"/>
              </a:rPr>
              <a:t>First quarter tittle</a:t>
            </a:r>
            <a:endParaRPr b="0" lang="en-US" sz="1200" spc="-1" strike="noStrike">
              <a:solidFill>
                <a:srgbClr val="000000"/>
              </a:solidFill>
              <a:latin typeface="Calibri"/>
            </a:endParaRPr>
          </a:p>
        </p:txBody>
      </p:sp>
      <p:sp>
        <p:nvSpPr>
          <p:cNvPr id="495"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5846760" y="3095640"/>
            <a:ext cx="2168640" cy="28440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Medium"/>
                <a:ea typeface="Barlow SemiBold"/>
              </a:rPr>
              <a:t>First quarter tittle</a:t>
            </a:r>
            <a:endParaRPr b="0" lang="en-US" sz="1200" spc="-1" strike="noStrike">
              <a:solidFill>
                <a:srgbClr val="000000"/>
              </a:solidFill>
              <a:latin typeface="Calibri"/>
            </a:endParaRPr>
          </a:p>
        </p:txBody>
      </p:sp>
      <p:sp>
        <p:nvSpPr>
          <p:cNvPr id="496"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5846760" y="2093760"/>
            <a:ext cx="2168640" cy="28440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Raleway Medium"/>
                <a:ea typeface="Barlow SemiBold"/>
              </a:rPr>
              <a:t>First quarter tittle</a:t>
            </a:r>
            <a:endParaRPr b="0" lang="en-US" sz="1200" spc="-1" strike="noStrike">
              <a:solidFill>
                <a:srgbClr val="000000"/>
              </a:solidFill>
              <a:latin typeface="Calibri"/>
            </a:endParaRPr>
          </a:p>
        </p:txBody>
      </p:sp>
      <p:grpSp>
        <p:nvGrpSpPr>
          <p:cNvPr id="497" name="Group 54"/>
          <p:cNvGrpSpPr/>
          <p:nvPr/>
        </p:nvGrpSpPr>
        <p:grpSpPr>
          <a:xfrm>
            <a:off x="9858240" y="5045040"/>
            <a:ext cx="2511720" cy="1887480"/>
            <a:chOff x="9858240" y="5045040"/>
            <a:chExt cx="2511720" cy="1887480"/>
          </a:xfrm>
        </p:grpSpPr>
        <p:sp>
          <p:nvSpPr>
            <p:cNvPr id="498" name="Isosceles Triangle 55"/>
            <p:cNvSpPr/>
            <p:nvPr/>
          </p:nvSpPr>
          <p:spPr>
            <a:xfrm>
              <a:off x="9858240" y="5045040"/>
              <a:ext cx="2371320" cy="1791720"/>
            </a:xfrm>
            <a:prstGeom prst="triangle">
              <a:avLst>
                <a:gd name="adj" fmla="val 100000"/>
              </a:avLst>
            </a:prstGeom>
            <a:solidFill>
              <a:srgbClr val="f2f2f2">
                <a:alpha val="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9" name="Isosceles Triangle 56"/>
            <p:cNvSpPr/>
            <p:nvPr/>
          </p:nvSpPr>
          <p:spPr>
            <a:xfrm>
              <a:off x="10720080" y="5685840"/>
              <a:ext cx="1649880" cy="1246680"/>
            </a:xfrm>
            <a:prstGeom prst="triangle">
              <a:avLst>
                <a:gd name="adj" fmla="val 100000"/>
              </a:avLst>
            </a:prstGeom>
            <a:solidFill>
              <a:srgbClr val="f2f2f2">
                <a:alpha val="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0" name="TextBox 58"/>
          <p:cNvSpPr/>
          <p:nvPr/>
        </p:nvSpPr>
        <p:spPr>
          <a:xfrm>
            <a:off x="3099600" y="420840"/>
            <a:ext cx="5993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d6ff"/>
                </a:solidFill>
                <a:latin typeface="Raleway SemiBold"/>
                <a:ea typeface="Open Sans"/>
              </a:rPr>
              <a:t>Comparison Infographic</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3-06T12:55:22Z</dcterms:created>
  <dc:creator>pixslides</dc:creator>
  <dc:description/>
  <dc:language>en-US</dc:language>
  <cp:lastModifiedBy>salim</cp:lastModifiedBy>
  <dcterms:modified xsi:type="dcterms:W3CDTF">2023-03-19T00:54:43Z</dcterms:modified>
  <cp:revision>121</cp:revision>
  <dc:subject/>
  <dc:title>comparison chart</dc:title>
</cp:coreProperties>
</file>